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31AC-2F8F-4230-AF8F-366EF472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5732-3E01-40AB-916F-472AA433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E7E4-6AB6-4E30-873B-35DA15B5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CC37-65BB-4D93-8025-D45A4950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1B455-B6AC-4870-8A15-13A45A3A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CE48-D17F-4B95-BC39-FB03741D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9E87-6E22-4970-92E4-1A0B171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7AF3-4E32-44B6-84BA-EB5D963F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4E51-613D-40EB-9F93-2AB5F623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6434-A569-4610-A1F6-5AEA859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0AF0-5C05-472D-AAB4-CFADEF7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9FF2-B529-482E-90C9-1B32DF51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9548-D06A-4DA2-B611-FA2FCF475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04920" y="5853240"/>
            <a:ext cx="838080" cy="780840"/>
            <a:chOff x="304920" y="5853240"/>
            <a:chExt cx="838080" cy="780840"/>
          </a:xfrm>
        </p:grpSpPr>
        <p:graphicFrame>
          <p:nvGraphicFramePr>
            <p:cNvPr id="5" name=""/>
            <p:cNvGraphicFramePr/>
            <p:nvPr/>
          </p:nvGraphicFramePr>
          <p:xfrm>
            <a:off x="304920" y="5853240"/>
            <a:ext cx="838080" cy="780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5853240"/>
                      <a:ext cx="838080" cy="78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" name="PlaceHolder 5"/>
            <p:cNvSpPr>
              <a:spLocks noGrp="1"/>
            </p:cNvSpPr>
            <p:nvPr>
              <p:ph type="dt" idx="3"/>
            </p:nvPr>
          </p:nvSpPr>
          <p:spPr>
            <a:xfrm>
              <a:off x="304920" y="5853240"/>
              <a:ext cx="838080" cy="78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-Based Approaches vs. Comprehensive Policy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Fiedl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Resources Defense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vember 1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toomba Group, Loca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e Trying To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olicy that can realize the potenti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forestry to contribute to clim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arbon incentives to change land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te assessment of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fea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fea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Desig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-based off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project-bound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-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-in vs. Mand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rading polic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regulation/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es/subsi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Projects Achieve Potent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rry Picking:  only credits, no de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costs reduce economies of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limits for project participants, administrators, ver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project methodologies still apply once projects become widespread, large-sc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policies difficult to han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we find credible rules, methodolog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Comprehens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or eliminate cherry-pi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es of scale for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many transac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ifficult project method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administrativ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 for structur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multiple revenue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 policies to translate national target into incentive for landow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technical, cost li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ility in land use sector could cause problems for meeting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s. private land 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anence/Rever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of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and Polit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datory regulation of forest/ag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uitable for some countries,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ability of greater role for s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for lands with no C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setting and allo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glut of allow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both +ve, -ve C pro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y mechanics for de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t provide community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hensive accounting and project-based policies are fundamentally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omprehensive accounting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omprehensive policy is the end-goal, how much time and effort do we want to invest in project-based appro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e doing enough research on comprehensive acco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22:10:42Z</dcterms:created>
  <dc:creator>jfiedler</dc:creator>
  <dc:description/>
  <dc:language>en-US</dc:language>
  <cp:lastModifiedBy> </cp:lastModifiedBy>
  <dcterms:modified xsi:type="dcterms:W3CDTF">2007-07-25T18:13:55Z</dcterms:modified>
  <cp:revision>26</cp:revision>
  <dc:subject/>
  <dc:title>Voluntary Greenhouse Gas Reporting:  Forestry</dc:title>
</cp:coreProperties>
</file>