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3876840"/>
            <a:ext cx="908532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104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387684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1040" y="387684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7400" y="167616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9640" y="167616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387684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7400" y="387684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9640" y="387684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44334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1040" y="1676160"/>
            <a:ext cx="44334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15880" y="900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1040" y="1676160"/>
            <a:ext cx="44334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520" y="387684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44334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104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71040" y="387684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104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520" y="3876840"/>
            <a:ext cx="908532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520" y="3876840"/>
            <a:ext cx="908532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104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520" y="387684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71040" y="387684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7400" y="167616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59640" y="167616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520" y="387684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87400" y="387684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59640" y="3876840"/>
            <a:ext cx="292536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44334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1040" y="1676160"/>
            <a:ext cx="44334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900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1040" y="1676160"/>
            <a:ext cx="44334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387684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44334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104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1040" y="387684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1040" y="1676160"/>
            <a:ext cx="4433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3876840"/>
            <a:ext cx="908532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134316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6955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6955"/>
                </a:solidFill>
                <a:latin typeface="Congress Sans"/>
              </a:rPr>
              <a:t>Click to edit the outline text format</a:t>
            </a: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-365400">
              <a:spcAft>
                <a:spcPts val="1001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6955"/>
                </a:solidFill>
                <a:latin typeface="Congress Sans"/>
              </a:rPr>
              <a:t>Second Outline Level</a:t>
            </a: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  <a:p>
            <a:pPr lvl="2" marL="673200" indent="-304920">
              <a:spcAft>
                <a:spcPts val="1001"/>
              </a:spcAft>
              <a:buClr>
                <a:srgbClr val="d87a00"/>
              </a:buClr>
              <a:buSzPct val="80000"/>
              <a:buFont typeface="Congress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6955"/>
                </a:solidFill>
                <a:latin typeface="Congress Sans"/>
              </a:rPr>
              <a:t>Third Outline Level</a:t>
            </a: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  <a:p>
            <a:pPr lvl="3" marL="961920" indent="-236520">
              <a:spcAft>
                <a:spcPts val="1001"/>
              </a:spcAft>
              <a:buClr>
                <a:srgbClr val="d87a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6955"/>
                </a:solidFill>
                <a:latin typeface="Congress Sans"/>
              </a:rPr>
              <a:t>Fourth Outline Level</a:t>
            </a: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  <a:p>
            <a:pPr lvl="4" marL="1144440" indent="-180720">
              <a:spcAft>
                <a:spcPts val="1001"/>
              </a:spcAft>
              <a:buClr>
                <a:srgbClr val="d87a00"/>
              </a:buClr>
              <a:buSzPct val="80000"/>
              <a:buFont typeface="Congress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6955"/>
                </a:solidFill>
                <a:latin typeface="Congress Sans"/>
              </a:rPr>
              <a:t>Fifth Outline Level</a:t>
            </a: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  <a:p>
            <a:pPr lvl="5" marL="1144440" indent="-180720">
              <a:spcAft>
                <a:spcPts val="1001"/>
              </a:spcAft>
              <a:buClr>
                <a:srgbClr val="5a6955"/>
              </a:buClr>
              <a:buSzPct val="80000"/>
              <a:buFont typeface="Congress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6955"/>
                </a:solidFill>
                <a:latin typeface="Congress Sans"/>
              </a:rPr>
              <a:t>Sixth Outline Level</a:t>
            </a: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  <a:p>
            <a:pPr lvl="6" marL="1144440" indent="-180720">
              <a:spcAft>
                <a:spcPts val="1001"/>
              </a:spcAft>
              <a:buClr>
                <a:srgbClr val="5a6955"/>
              </a:buClr>
              <a:buSzPct val="80000"/>
              <a:buFont typeface="Congress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6955"/>
                </a:solidFill>
                <a:latin typeface="Congress Sans"/>
              </a:rPr>
              <a:t>Seventh Outline Level</a:t>
            </a: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gress San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3" name=""/>
          <p:cNvSpPr/>
          <p:nvPr/>
        </p:nvSpPr>
        <p:spPr>
          <a:xfrm>
            <a:off x="9073080" y="64184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5231-F905-4B0B-BBD6-566F0AD91D68}" type="slidenum">
              <a:rPr b="0" lang="en-GB" sz="1200" spc="-1" strike="noStrike">
                <a:solidFill>
                  <a:srgbClr val="5a6955"/>
                </a:solidFill>
                <a:latin typeface="Congress Sans"/>
              </a:rPr>
              <a:t>&lt;number&gt;</a:t>
            </a:fld>
            <a:endParaRPr b="0" lang="en-US" sz="1200" spc="-1" strike="noStrike">
              <a:solidFill>
                <a:srgbClr val="5a6955"/>
              </a:solidFill>
              <a:latin typeface="Arial"/>
            </a:endParaRPr>
          </a:p>
        </p:txBody>
      </p:sp>
      <p:pic>
        <p:nvPicPr>
          <p:cNvPr id="4" name="Insight_RGB_on-green" descr=""/>
          <p:cNvPicPr/>
          <p:nvPr/>
        </p:nvPicPr>
        <p:blipFill>
          <a:blip r:embed="rId2"/>
          <a:stretch/>
        </p:blipFill>
        <p:spPr>
          <a:xfrm>
            <a:off x="8604360" y="237960"/>
            <a:ext cx="990360" cy="97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b5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134316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a695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gress San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ngress Sans"/>
            </a:endParaRPr>
          </a:p>
        </p:txBody>
      </p:sp>
      <p:pic>
        <p:nvPicPr>
          <p:cNvPr id="43" name="Insight_RGB_on-green" descr=""/>
          <p:cNvPicPr/>
          <p:nvPr/>
        </p:nvPicPr>
        <p:blipFill>
          <a:blip r:embed="rId2"/>
          <a:stretch/>
        </p:blipFill>
        <p:spPr>
          <a:xfrm>
            <a:off x="8604360" y="237960"/>
            <a:ext cx="990360" cy="97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a6955"/>
                </a:solidFill>
                <a:latin typeface="Congress Sans"/>
              </a:rPr>
              <a:t>Click to edit the outline text format</a:t>
            </a:r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  <a:p>
            <a:pPr lvl="1" marL="1440" indent="0"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6955"/>
                </a:solidFill>
                <a:latin typeface="Congress Sans"/>
              </a:rPr>
              <a:t>Second Outline Level</a:t>
            </a: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  <a:p>
            <a:pPr lvl="2" marL="368280" algn="ctr">
              <a:spcBef>
                <a:spcPts val="400"/>
              </a:spcBef>
              <a:spcAft>
                <a:spcPts val="400"/>
              </a:spcAft>
              <a:buClr>
                <a:srgbClr val="d87a00"/>
              </a:buClr>
              <a:buSzPct val="80000"/>
              <a:buFont typeface="Congress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a6955"/>
                </a:solidFill>
                <a:latin typeface="Congress Sans"/>
              </a:rPr>
              <a:t>Third Outline Level</a:t>
            </a:r>
            <a:endParaRPr b="0" lang="en-US" sz="1600" spc="-1" strike="noStrike">
              <a:solidFill>
                <a:srgbClr val="5a6955"/>
              </a:solidFill>
              <a:latin typeface="Congress Sans"/>
            </a:endParaRPr>
          </a:p>
          <a:p>
            <a:pPr lvl="3" marL="725400" algn="ctr">
              <a:spcBef>
                <a:spcPts val="349"/>
              </a:spcBef>
              <a:spcAft>
                <a:spcPts val="349"/>
              </a:spcAft>
              <a:buClr>
                <a:srgbClr val="d87a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955"/>
                </a:solidFill>
                <a:latin typeface="Congress Sans"/>
              </a:rPr>
              <a:t>Fourth Outline Level</a:t>
            </a:r>
            <a:endParaRPr b="0" lang="en-US" sz="1400" spc="-1" strike="noStrike">
              <a:solidFill>
                <a:srgbClr val="5a6955"/>
              </a:solidFill>
              <a:latin typeface="Congress Sans"/>
            </a:endParaRPr>
          </a:p>
          <a:p>
            <a:pPr lvl="4" marL="963720" algn="ctr">
              <a:spcBef>
                <a:spcPts val="349"/>
              </a:spcBef>
              <a:spcAft>
                <a:spcPts val="349"/>
              </a:spcAft>
              <a:buClr>
                <a:srgbClr val="d87a00"/>
              </a:buClr>
              <a:buSzPct val="80000"/>
              <a:buFont typeface="Congress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955"/>
                </a:solidFill>
                <a:latin typeface="Congress Sans"/>
              </a:rPr>
              <a:t>Fifth Outline Level</a:t>
            </a:r>
            <a:endParaRPr b="0" lang="en-US" sz="1400" spc="-1" strike="noStrike">
              <a:solidFill>
                <a:srgbClr val="5a6955"/>
              </a:solidFill>
              <a:latin typeface="Congress Sans"/>
            </a:endParaRPr>
          </a:p>
          <a:p>
            <a:pPr lvl="5" marL="963720">
              <a:spcBef>
                <a:spcPts val="349"/>
              </a:spcBef>
              <a:buClr>
                <a:srgbClr val="5a6955"/>
              </a:buClr>
              <a:buSzPct val="80000"/>
              <a:buFont typeface="Congress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955"/>
                </a:solidFill>
                <a:latin typeface="Congress Sans"/>
              </a:rPr>
              <a:t>Sixth Outline Level</a:t>
            </a:r>
            <a:endParaRPr b="0" lang="en-US" sz="1400" spc="-1" strike="noStrike">
              <a:solidFill>
                <a:srgbClr val="5a6955"/>
              </a:solidFill>
              <a:latin typeface="Congress Sans"/>
            </a:endParaRPr>
          </a:p>
          <a:p>
            <a:pPr lvl="6" marL="963720">
              <a:spcBef>
                <a:spcPts val="349"/>
              </a:spcBef>
              <a:buClr>
                <a:srgbClr val="5a6955"/>
              </a:buClr>
              <a:buSzPct val="80000"/>
              <a:buFont typeface="Congress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955"/>
                </a:solidFill>
                <a:latin typeface="Congress Sans"/>
              </a:rPr>
              <a:t>Seventh Outline Level</a:t>
            </a:r>
            <a:endParaRPr b="0" lang="en-US" sz="14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b5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906120" cy="29718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a6955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858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gress Sans"/>
              </a:rPr>
              <a:t>Biodiversity offsets: mileage, methods and (maybe) markets</a:t>
            </a:r>
            <a:endParaRPr b="0" lang="en-US" sz="2600" spc="-1" strike="noStrike">
              <a:solidFill>
                <a:srgbClr val="5a6955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362320"/>
            <a:ext cx="7527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gress Sans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Congress Sans"/>
              </a:rPr>
              <a:t>Beyond carbon - emerging markets for ecosystem services”</a:t>
            </a:r>
            <a:endParaRPr b="0" lang="en-US" sz="1600" spc="-1" strike="noStrike">
              <a:solidFill>
                <a:srgbClr val="5a69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gress Sans"/>
              </a:rPr>
              <a:t>Katoomba VI </a:t>
            </a:r>
            <a:r>
              <a:rPr b="0" lang="en-GB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</a:t>
            </a:r>
            <a:r>
              <a:rPr b="0" lang="en-GB" sz="1600" spc="-1" strike="noStrike">
                <a:solidFill>
                  <a:srgbClr val="ffffff"/>
                </a:solidFill>
                <a:latin typeface="Congress Sans"/>
              </a:rPr>
              <a:t>  Locarno, Switzerland 1 November 2003</a:t>
            </a:r>
            <a:endParaRPr b="0" lang="en-US" sz="1600" spc="-1" strike="noStrike">
              <a:solidFill>
                <a:srgbClr val="5a6955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970360"/>
            <a:ext cx="99061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5a6955"/>
              </a:solidFill>
              <a:latin typeface="Arial"/>
            </a:endParaRPr>
          </a:p>
        </p:txBody>
      </p:sp>
      <p:pic>
        <p:nvPicPr>
          <p:cNvPr id="85" name="Insight_RGB_on-green" descr=""/>
          <p:cNvPicPr/>
          <p:nvPr/>
        </p:nvPicPr>
        <p:blipFill>
          <a:blip r:embed="rId1"/>
          <a:stretch/>
        </p:blipFill>
        <p:spPr>
          <a:xfrm>
            <a:off x="8604360" y="237960"/>
            <a:ext cx="990360" cy="974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2120" y="3429000"/>
            <a:ext cx="72388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gress Sans"/>
              </a:rPr>
              <a:t>Kerry ten Kate</a:t>
            </a:r>
            <a:endParaRPr b="1" lang="en-US" sz="18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gress Sans"/>
              </a:rPr>
              <a:t>THANK YOU</a:t>
            </a: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6955"/>
                </a:solidFill>
                <a:latin typeface="Congress Sans"/>
              </a:rPr>
              <a:t>And, most of all, thank you to my attractive assistant . </a:t>
            </a:r>
            <a:endParaRPr b="1" lang="en-US" sz="44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gress Sans"/>
              </a:rPr>
              <a:t>Biodiversity offsets:   lateral thinking</a:t>
            </a:r>
            <a:endParaRPr b="1" lang="en-US" sz="2400" spc="-1" strike="noStrike">
              <a:solidFill>
                <a:srgbClr val="ffffff"/>
              </a:solidFill>
              <a:latin typeface="Congress Sans"/>
            </a:endParaRPr>
          </a:p>
        </p:txBody>
      </p:sp>
      <p:pic>
        <p:nvPicPr>
          <p:cNvPr id="107" name="Think%20outside%20box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873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gress Sans"/>
              </a:rPr>
              <a:t>Can we make the offset idea work or is it mad?</a:t>
            </a: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6955"/>
                </a:solidFill>
                <a:latin typeface="Congress Sans"/>
              </a:rPr>
              <a:t>Where did the idea come from?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marL="266760" indent="-266760">
              <a:spcAft>
                <a:spcPts val="1250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6955"/>
                </a:solidFill>
                <a:latin typeface="Congress Sans"/>
              </a:rPr>
              <a:t>Benefit-sharing is required in CBD in the context of access to genetic resources.  (Global annual market between US$500-800bn.  But NO REAL MARKET DEMAND so few benefits shared.)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marL="266760" indent="-266760">
              <a:spcAft>
                <a:spcPts val="1250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6955"/>
                </a:solidFill>
                <a:latin typeface="Congress Sans"/>
              </a:rPr>
              <a:t>Nice if we could share the benefits (and costs) of ecosystem services.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marL="26676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6955"/>
                </a:solidFill>
                <a:latin typeface="Congress Sans"/>
              </a:rPr>
              <a:t>BUT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marL="266760" indent="-266760">
              <a:spcAft>
                <a:spcPts val="1250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6955"/>
                </a:solidFill>
                <a:latin typeface="Congress Sans"/>
              </a:rPr>
              <a:t>Ecosystem services are generally free goods.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marL="266760" indent="-266760">
              <a:spcAft>
                <a:spcPts val="1250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6955"/>
                </a:solidFill>
                <a:latin typeface="Congress Sans"/>
              </a:rPr>
              <a:t>There’s no mechanism/trigger  (unlike CBD Article 15 &amp; national access laws).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marL="26676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6955"/>
                </a:solidFill>
                <a:latin typeface="Congress Sans"/>
              </a:rPr>
              <a:t>SO . . .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gress Sans"/>
              </a:rPr>
              <a:t>Can we make the offset idea work or is it mad?</a:t>
            </a: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How about getting companies  make a direct impact on biodiversity (ie through physical operations, not their footprint) to commit to offset any unavoidable, direct harm they do?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The 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6955"/>
                </a:solidFill>
                <a:latin typeface="Congress Sans"/>
              </a:rPr>
              <a:t>“</a:t>
            </a:r>
            <a:r>
              <a:rPr b="1" lang="en-US" sz="3600" spc="-1" strike="noStrike">
                <a:solidFill>
                  <a:srgbClr val="5a6955"/>
                </a:solidFill>
                <a:latin typeface="Congress Sans"/>
              </a:rPr>
              <a:t>no net loss” </a:t>
            </a:r>
            <a:endParaRPr b="1" lang="en-US" sz="3600" spc="-1" strike="noStrike">
              <a:solidFill>
                <a:srgbClr val="5a6955"/>
              </a:solidFill>
              <a:latin typeface="Congress Sans"/>
            </a:endParaRPr>
          </a:p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commitment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gress Sans"/>
              </a:rPr>
              <a:t>Why voluntary?</a:t>
            </a: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Two reasons: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-304920">
              <a:lnSpc>
                <a:spcPct val="90000"/>
              </a:lnSpc>
              <a:spcAft>
                <a:spcPts val="1500"/>
              </a:spcAft>
              <a:buClr>
                <a:srgbClr val="d87a00"/>
              </a:buClr>
              <a:buSzPct val="80000"/>
              <a:buFont typeface="Congress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   </a:t>
            </a:r>
            <a:r>
              <a:rPr b="1" lang="en-US" sz="2400" spc="-1" strike="noStrike" u="sng">
                <a:solidFill>
                  <a:srgbClr val="5a6955"/>
                </a:solidFill>
                <a:uFillTx/>
                <a:latin typeface="Congress Sans"/>
              </a:rPr>
              <a:t>Policy takes ages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-304920">
              <a:lnSpc>
                <a:spcPct val="90000"/>
              </a:lnSpc>
              <a:spcAft>
                <a:spcPts val="1500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Biodiversity is going down the tubes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-304920">
              <a:lnSpc>
                <a:spcPct val="90000"/>
              </a:lnSpc>
              <a:spcAft>
                <a:spcPts val="1500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Kyoto won’t help in the first commitment period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-304920">
              <a:lnSpc>
                <a:spcPct val="90000"/>
              </a:lnSpc>
              <a:spcAft>
                <a:spcPts val="1500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There’s no clear plan to deliver the CBD/WSSD 2010 goal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(“substantial reduction in loss of biodiversity by 2010”)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-304920">
              <a:lnSpc>
                <a:spcPct val="90000"/>
              </a:lnSpc>
              <a:spcAft>
                <a:spcPts val="1500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MEAs  - lack of political will and the International Treaty on PGRFA just took us 7 years to negotiate!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gress Sans"/>
              </a:rPr>
              <a:t>Why voluntary?</a:t>
            </a: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Second reason: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-304920">
              <a:spcAft>
                <a:spcPts val="1749"/>
              </a:spcAft>
              <a:buClr>
                <a:srgbClr val="d87a00"/>
              </a:buClr>
              <a:buSzPct val="80000"/>
              <a:buFont typeface="Congress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   </a:t>
            </a: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Investors have a mandate with investee companies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-304920">
              <a:spcAft>
                <a:spcPts val="174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Insight and other investors, as shareholders, can encourage voluntary compliance by investee companies with best practice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-304920">
              <a:spcAft>
                <a:spcPts val="174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$US 1,000 bn of assets under management for SRI in the  UK alone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  <a:p>
            <a:pPr marL="304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gress Sans"/>
              </a:rPr>
              <a:t>Biodiversity offsets: mileage, methods and (maybe) markets</a:t>
            </a:r>
            <a:endParaRPr b="1" lang="en-US" sz="24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9085320" cy="42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   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>
              <a:spcAft>
                <a:spcPts val="1250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   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[[[Context &amp; key questions for a mainstream investor]]]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-365400">
              <a:lnSpc>
                <a:spcPct val="160000"/>
              </a:lnSpc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Current experience with biodiversity offsets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-365400">
              <a:lnSpc>
                <a:spcPct val="160000"/>
              </a:lnSpc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Basis and challenges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-365400">
              <a:lnSpc>
                <a:spcPct val="160000"/>
              </a:lnSpc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Conclusions and next steps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ngress Sans"/>
              </a:rPr>
              <a:t>Key questions for a mainstream investor</a:t>
            </a:r>
            <a:endParaRPr b="1" lang="en-US" sz="24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9085320" cy="42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348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[[[Context:  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48480" indent="-347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Insight is the asset manager for Halifax Bank Of Scotland (HBOS).  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48480" indent="-347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£67.7 bn under management. 300 pension funds and  &gt; 2m retail clients.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48480" indent="-347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Engagement across </a:t>
            </a:r>
            <a:r>
              <a:rPr b="1" lang="en-GB" sz="2000" spc="-1" strike="noStrike" u="sng">
                <a:solidFill>
                  <a:srgbClr val="5a6955"/>
                </a:solidFill>
                <a:uFillTx/>
                <a:latin typeface="Congress Sans"/>
              </a:rPr>
              <a:t>whole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 portfolio.  Working on integration.]]]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484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Key questions:  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48480" indent="-347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Could voluntary biodiversity offsets by companies work?  Or would a regulatory regime be needed?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48480" indent="-347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Could the political, scientific and logistical challenges with offset be overcome and companies motivated to participate?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48480" indent="-347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What role could investors play? 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48480" indent="0">
              <a:lnSpc>
                <a:spcPct val="16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491240" cy="76212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gress Sans"/>
              </a:rPr>
              <a:t>Experience with biodiversity offsets</a:t>
            </a:r>
            <a:endParaRPr b="1" lang="en-US" sz="24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9085320" cy="42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32256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a6955"/>
                </a:solidFill>
                <a:latin typeface="Congress Sans"/>
              </a:rPr>
              <a:t>Offsets required by legislation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lvl="1" marL="322560" indent="0">
              <a:spcAft>
                <a:spcPts val="74"/>
              </a:spcAft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5a6955"/>
              </a:solidFill>
              <a:latin typeface="Congress Sans"/>
            </a:endParaRPr>
          </a:p>
          <a:p>
            <a:pPr lvl="1" marL="322560" indent="-321480">
              <a:spcAft>
                <a:spcPts val="374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US Clean Water Act 1972 Section 404(b)(1) 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2560" indent="-321480">
              <a:spcAft>
                <a:spcPts val="374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UK Electricity Act 1989 Schedule 9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2560" indent="-321480">
              <a:spcAft>
                <a:spcPts val="374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UK Habitats Regulations 1994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2560" indent="0">
              <a:spcBef>
                <a:spcPts val="99"/>
              </a:spcBef>
              <a:spcAft>
                <a:spcPts val="99"/>
              </a:spcAft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5a6955"/>
              </a:solidFill>
              <a:latin typeface="Congress Sans"/>
            </a:endParaRPr>
          </a:p>
          <a:p>
            <a:pPr indent="0" algn="ctr"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a6955"/>
                </a:solidFill>
                <a:latin typeface="Congress Sans"/>
              </a:rPr>
              <a:t>‘</a:t>
            </a:r>
            <a:r>
              <a:rPr b="1" lang="en-GB" sz="2400" spc="-1" strike="noStrike">
                <a:solidFill>
                  <a:srgbClr val="5a6955"/>
                </a:solidFill>
                <a:latin typeface="Congress Sans"/>
              </a:rPr>
              <a:t>Enabling’ policy framework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5a6955"/>
              </a:solidFill>
              <a:latin typeface="Congress Sans"/>
            </a:endParaRPr>
          </a:p>
          <a:p>
            <a:pPr>
              <a:spcAft>
                <a:spcPts val="374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  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US Endangered Species Act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>
              <a:spcAft>
                <a:spcPts val="374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  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Tenure &amp; rights; conservation law;  concession contracts HGAs/PSAs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5a6955"/>
              </a:solidFill>
              <a:latin typeface="Congress San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a6955"/>
                </a:solidFill>
                <a:latin typeface="Congress Sans"/>
              </a:rPr>
              <a:t>Voluntary offsets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>
              <a:spcBef>
                <a:spcPts val="374"/>
              </a:spcBef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  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Individual companies:  Mining &amp; Minerals; Oil &amp; Gas; Utilities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>
              <a:spcBef>
                <a:spcPts val="374"/>
              </a:spcBef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  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Principles:  ‘no harm’; ‘minimise/mitigate’; ‘maintaining ecosystems’; ‘offset’;  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     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‘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positive contribution’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>
              <a:spcBef>
                <a:spcPts val="374"/>
              </a:spcBef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   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EBI;  ICMM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1250"/>
              </a:spcAft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91240" cy="69516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ngress Sans"/>
              </a:rPr>
              <a:t>The ‘no harm’ principle in action</a:t>
            </a:r>
            <a:endParaRPr b="1" lang="en-US" sz="2400" spc="-1" strike="noStrike">
              <a:solidFill>
                <a:srgbClr val="ffffff"/>
              </a:solidFill>
              <a:latin typeface="Congress San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880" y="2362320"/>
          <a:ext cx="9068040" cy="28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906804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20440" y="205704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6955"/>
                </a:solidFill>
                <a:latin typeface="Congress Sans"/>
              </a:rPr>
              <a:t>Good morning, Katoomba!</a:t>
            </a:r>
            <a:endParaRPr b="1" lang="en-US" sz="4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ngress Sans"/>
              </a:rPr>
              <a:t>Director, Investor Responsibility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0"/>
            <a:ext cx="7491240" cy="129528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69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91240" cy="69516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ngress Sans"/>
              </a:rPr>
              <a:t>Potential benefits of corporate biodiversity offset commitments</a:t>
            </a:r>
            <a:endParaRPr b="1" lang="en-US" sz="24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6840" indent="-365400"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Conservation:  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Positive contributions to conservation by companies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0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 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endParaRPr b="1" lang="en-US" sz="1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-365400"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Flexibility:  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Change location, scale of rehabilitation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0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Trade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0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Third party implementation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0">
              <a:buNone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-365400"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Efficiency: 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   Pick most cost-effective option - use flexibility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0">
              <a:buNone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-365400"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Effectiveness: 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Maximise biodiversity value - select area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0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Bang for buck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6840" indent="0" algn="ctr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91240" cy="69516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ngress Sans"/>
              </a:rPr>
              <a:t>Basis &amp; challenges</a:t>
            </a:r>
            <a:endParaRPr b="1" lang="en-US" sz="24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6775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326160" indent="-325080"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Basis:  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No net loss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0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 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Maintain functional ecosystems &amp; species representativeness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endParaRPr b="1" lang="en-US" sz="12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-325080"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Currency:  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‘Not all hectares are created equal’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0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Habitat function assessment methods - crude, multiplicity, no consensus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0" algn="ctr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Need reliable, inexpensive methods to measure ecosystem services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0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1200" spc="-1" strike="noStrike">
                <a:solidFill>
                  <a:srgbClr val="5a6955"/>
                </a:solidFill>
                <a:latin typeface="Congress Sans"/>
              </a:rPr>
              <a:t>	</a:t>
            </a:r>
            <a:endParaRPr b="1" lang="en-US" sz="12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-325080"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Where:      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As near original site as possible?  Similar ecosystem? 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0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Internationally tradeable?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  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endParaRPr b="1" lang="en-US" sz="12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-325080"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Motivation: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Business case for voluntary, ‘beyond compliance’ measures: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0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license to operate, reputation, competitive advantage, reduce liabilities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0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Is this sufficient to encourage voluntary offset commitments?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0"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endParaRPr b="1" lang="en-US" sz="12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-325080"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Mistrust: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  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Public/NGOs: Genuine contribution or license to trash?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	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26160" indent="0">
              <a:lnSpc>
                <a:spcPct val="100000"/>
              </a:lnSpc>
              <a:buNone/>
              <a:tabLst>
                <a:tab algn="l" pos="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  <a:tab algn="l" pos="4334040"/>
              </a:tabLst>
            </a:pPr>
            <a:r>
              <a:rPr b="1" lang="en-GB" sz="1400" spc="-1" strike="noStrike">
                <a:solidFill>
                  <a:srgbClr val="5a6955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5a6955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5a6955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5a6955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5a6955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5a6955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5a6955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5a6955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5a6955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Companies &amp; government: fear of criticism.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buNone/>
              <a:tabLst>
                <a:tab algn="l" pos="20628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</a:tabLst>
            </a:pPr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876"/>
              </a:spcAft>
              <a:buNone/>
              <a:tabLst>
                <a:tab algn="l" pos="206280"/>
                <a:tab algn="l" pos="412920"/>
                <a:tab algn="l" pos="619200"/>
                <a:tab algn="l" pos="825480"/>
                <a:tab algn="l" pos="1031760"/>
                <a:tab algn="l" pos="1238400"/>
                <a:tab algn="l" pos="1444680"/>
                <a:tab algn="l" pos="1650960"/>
                <a:tab algn="l" pos="1857240"/>
                <a:tab algn="l" pos="2063880"/>
                <a:tab algn="l" pos="2270160"/>
                <a:tab algn="l" pos="2476440"/>
                <a:tab algn="l" pos="2682720"/>
                <a:tab algn="l" pos="2889360"/>
                <a:tab algn="l" pos="3095640"/>
                <a:tab algn="l" pos="3301920"/>
                <a:tab algn="l" pos="3508200"/>
                <a:tab algn="l" pos="3714840"/>
                <a:tab algn="l" pos="3921120"/>
                <a:tab algn="l" pos="4127400"/>
              </a:tabLst>
            </a:pPr>
            <a:endParaRPr b="1" lang="en-US" sz="14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91240" cy="77148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ngress Sans"/>
              </a:rPr>
              <a:t>Conclusions and next steps</a:t>
            </a:r>
            <a:endParaRPr b="1" lang="en-US" sz="24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9085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5a6955"/>
                </a:solidFill>
                <a:uFillTx/>
                <a:latin typeface="Congress Sans"/>
              </a:rPr>
              <a:t>See: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ngress Sans"/>
              </a:rPr>
              <a:t>  </a:t>
            </a:r>
            <a:r>
              <a:rPr b="1" lang="en-GB" sz="1800" spc="-1" strike="noStrike" u="sng">
                <a:solidFill>
                  <a:srgbClr val="5a6955"/>
                </a:solidFill>
                <a:uFillTx/>
                <a:latin typeface="Congress Sans"/>
              </a:rPr>
              <a:t>www.insightinvestment.com/Corporate/responsibility/project/biodiversity.asp</a:t>
            </a:r>
            <a:endParaRPr b="1" lang="en-US" sz="1800" spc="-1" strike="noStrike">
              <a:solidFill>
                <a:srgbClr val="5a6955"/>
              </a:solidFill>
              <a:latin typeface="Congress Sans"/>
            </a:endParaRPr>
          </a:p>
          <a:p>
            <a:pPr lvl="1" marL="3628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a6955"/>
              </a:solidFill>
              <a:latin typeface="Congress Sans"/>
            </a:endParaRPr>
          </a:p>
          <a:p>
            <a:pPr lvl="1" marL="3628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a6955"/>
              </a:solidFill>
              <a:latin typeface="Congress Sans"/>
            </a:endParaRPr>
          </a:p>
          <a:p>
            <a:pPr lvl="1" marL="3628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a6955"/>
                </a:solidFill>
                <a:latin typeface="Congress Sans"/>
              </a:rPr>
              <a:t>Conclusions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lvl="1" marL="362880" indent="-361440"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Potential conservation and business benefits from offsets merit further consideration.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2880" indent="-361440"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Scientific, logistical and political hurdles to cross.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5a6955"/>
              </a:solidFill>
              <a:latin typeface="Congress Sans"/>
            </a:endParaRPr>
          </a:p>
          <a:p>
            <a:pPr lvl="1" marL="3628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a6955"/>
                </a:solidFill>
                <a:latin typeface="Congress Sans"/>
              </a:rPr>
              <a:t>Next steps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lvl="1" marL="362880" indent="-361440"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Get your feedback and suggestions:      kerry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.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tenkate@insightinvestment</a:t>
            </a:r>
            <a:r>
              <a:rPr b="1" lang="en-GB" sz="2000" spc="-1" strike="noStrike">
                <a:solidFill>
                  <a:srgbClr val="5a6955"/>
                </a:solidFill>
                <a:latin typeface="Congress Sans"/>
              </a:rPr>
              <a:t>.</a:t>
            </a: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com 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2880" indent="-361440">
              <a:spcBef>
                <a:spcPts val="499"/>
              </a:spcBef>
              <a:spcAft>
                <a:spcPts val="499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a6955"/>
                </a:solidFill>
                <a:latin typeface="Congress Sans"/>
              </a:rPr>
              <a:t>Research project.</a:t>
            </a:r>
            <a:endParaRPr b="1" lang="en-US" sz="2000" spc="-1" strike="noStrike">
              <a:solidFill>
                <a:srgbClr val="5a6955"/>
              </a:solidFill>
              <a:latin typeface="Congress Sans"/>
            </a:endParaRPr>
          </a:p>
          <a:p>
            <a:pPr lvl="1" marL="36288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  <a:p>
            <a:pPr lvl="1" marL="36288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131" name=""/>
          <p:cNvSpPr/>
          <p:nvPr/>
        </p:nvSpPr>
        <p:spPr>
          <a:xfrm>
            <a:off x="659160" y="6323760"/>
            <a:ext cx="804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gress Sans"/>
              </a:rPr>
              <a:t>Part of the HBOS Group.  Issued by Insight Investment Management Limited.   Registered Office 33 Old Broad Street, </a:t>
            </a:r>
            <a:endParaRPr b="0" lang="en-US" sz="1000" spc="-1" strike="noStrike">
              <a:solidFill>
                <a:srgbClr val="5a695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gress Sans"/>
              </a:rPr>
              <a:t>London EC2N 1HZ.   Registered No. 02111149.  Authorised and regulated by the Financial Services Authority</a:t>
            </a:r>
            <a:endParaRPr b="0" lang="en-US" sz="1000" spc="-1" strike="noStrike">
              <a:solidFill>
                <a:srgbClr val="5a69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So: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a6955"/>
              </a:solidFill>
              <a:latin typeface="Congress Sans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  </a:t>
            </a: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upset by the onset of offset?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d87a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  </a:t>
            </a: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offput by offset?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Or: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6955"/>
                </a:solidFill>
                <a:latin typeface="Congress Sans"/>
              </a:rPr>
              <a:t>The Katoomba “no net loss”  principle     ?</a:t>
            </a:r>
            <a:r>
              <a:rPr b="1" lang="en-US" sz="2400" spc="-1" strike="noStrike">
                <a:solidFill>
                  <a:srgbClr val="5a6955"/>
                </a:solidFill>
                <a:latin typeface="Congress Sans"/>
              </a:rPr>
              <a:t> </a:t>
            </a:r>
            <a:endParaRPr b="1" lang="en-US" sz="24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gress Sans"/>
              </a:rPr>
              <a:t>Great idea!</a:t>
            </a: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I’ve looked at something like this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Difficult showing causation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Difficult disaggregating biodiv from security, human rights etc.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But let’s look at it . . . .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2666520"/>
            <a:ext cx="7491240" cy="129564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gress Sans"/>
              </a:rPr>
              <a:t>THE  FIRST  KATOOMBA PRESENTATION  IN  MIME</a:t>
            </a:r>
            <a:endParaRPr b="1" lang="en-US" sz="36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0440" y="228564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6955"/>
                </a:solidFill>
                <a:latin typeface="Congress Sans"/>
              </a:rPr>
              <a:t>How about a new Katoomba Game?</a:t>
            </a:r>
            <a:endParaRPr b="1" lang="en-US" sz="4000" spc="-1" strike="noStrike">
              <a:solidFill>
                <a:srgbClr val="5a6955"/>
              </a:solidFill>
              <a:latin typeface="Congress Sans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0"/>
            <a:ext cx="7491240" cy="129528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gress Sans"/>
              </a:rPr>
              <a:t>Welcome to . . .</a:t>
            </a:r>
            <a:endParaRPr b="0" lang="en-US" sz="3600" spc="-1" strike="noStrike">
              <a:solidFill>
                <a:srgbClr val="5a69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91240" cy="129528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gress Sans"/>
              </a:rPr>
              <a:t>THE  FIRST  KATOOMBA PRESENTATION  IN  MIME</a:t>
            </a:r>
            <a:endParaRPr b="1" lang="en-US" sz="36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6955"/>
                </a:solidFill>
                <a:latin typeface="Congress Sans"/>
              </a:rPr>
              <a:t>. . . BIODIVERSITY CHARADES . . .</a:t>
            </a:r>
            <a:endParaRPr b="1" lang="en-US" sz="3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gress Sans"/>
              </a:rPr>
              <a:t>MIME</a:t>
            </a: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9085320" cy="42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Aft>
                <a:spcPts val="5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5a6955"/>
                </a:solidFill>
                <a:latin typeface="Webdings"/>
                <a:ea typeface="Webdings"/>
              </a:rPr>
              <a:t></a:t>
            </a:r>
            <a:endParaRPr b="1" lang="en-US" sz="92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Suggestions, please, for how to mime: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-- biodiversity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-- offset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6955"/>
                </a:solidFill>
                <a:latin typeface="Congress Sans"/>
              </a:rPr>
              <a:t>-- currency</a:t>
            </a:r>
            <a:endParaRPr b="1" lang="en-US" sz="28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lnSpc>
                <a:spcPct val="9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US" sz="32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US" sz="32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US" sz="32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US" sz="32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1" lang="en-US" sz="3200" spc="-1" strike="noStrike">
                <a:solidFill>
                  <a:srgbClr val="5a6955"/>
                </a:solidFill>
                <a:latin typeface="Congress Sans"/>
              </a:rPr>
              <a:t>	</a:t>
            </a:r>
            <a:r>
              <a:rPr b="1" lang="en-US" sz="3200" spc="-1" strike="noStrike">
                <a:solidFill>
                  <a:srgbClr val="5a6955"/>
                </a:solidFill>
                <a:latin typeface="Congress Sans"/>
              </a:rPr>
              <a:t>. . . . . .  well maybe not.</a:t>
            </a:r>
            <a:endParaRPr b="1" lang="en-US" sz="32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gress Sans"/>
              </a:rPr>
              <a:t>THANK YOU</a:t>
            </a: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1" lang="en-US" sz="3600" spc="-1" strike="noStrike">
                <a:solidFill>
                  <a:srgbClr val="5a6955"/>
                </a:solidFill>
                <a:latin typeface="Congress Sans"/>
              </a:rPr>
              <a:t>. . . for the throat lozenges . . . </a:t>
            </a:r>
            <a:endParaRPr b="1" lang="en-US" sz="3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gress Sans"/>
              </a:rPr>
              <a:t>THANK YOU</a:t>
            </a: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1" lang="en-US" sz="3600" spc="-1" strike="noStrike">
                <a:solidFill>
                  <a:srgbClr val="5a6955"/>
                </a:solidFill>
                <a:latin typeface="Congress Sans"/>
              </a:rPr>
              <a:t>. . . for the echinacea . . . </a:t>
            </a:r>
            <a:endParaRPr b="1" lang="en-US" sz="36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5880" y="9000"/>
            <a:ext cx="7491600" cy="1143000"/>
          </a:xfrm>
          <a:prstGeom prst="rect">
            <a:avLst/>
          </a:prstGeom>
          <a:solidFill>
            <a:srgbClr val="5a695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gress Sans"/>
              </a:rPr>
              <a:t>THANK YOU</a:t>
            </a:r>
            <a:endParaRPr b="1" lang="en-US" sz="3000" spc="-1" strike="noStrike">
              <a:solidFill>
                <a:srgbClr val="ffffff"/>
              </a:solidFill>
              <a:latin typeface="Congress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5520" y="1676160"/>
            <a:ext cx="908532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6955"/>
                </a:solidFill>
                <a:latin typeface="Congress Sans"/>
              </a:rPr>
              <a:t> </a:t>
            </a:r>
            <a:endParaRPr b="1" lang="en-US" sz="3600" spc="-1" strike="noStrike">
              <a:solidFill>
                <a:srgbClr val="5a6955"/>
              </a:solidFill>
              <a:latin typeface="Congress Sans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6955"/>
                </a:solidFill>
                <a:latin typeface="Congress Sans"/>
              </a:rPr>
              <a:t> </a:t>
            </a:r>
            <a:r>
              <a:rPr b="1" lang="en-US" sz="3600" spc="-1" strike="noStrike">
                <a:solidFill>
                  <a:srgbClr val="5a6955"/>
                </a:solidFill>
                <a:latin typeface="Congress Sans"/>
              </a:rPr>
              <a:t>. . . for your patience and good humour . . . </a:t>
            </a:r>
            <a:endParaRPr b="1" lang="en-US" sz="3600" spc="-1" strike="noStrike">
              <a:solidFill>
                <a:srgbClr val="5a6955"/>
              </a:solidFill>
              <a:latin typeface="Congress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11:57:15Z</dcterms:created>
  <dc:creator>Craig Mackenzie</dc:creator>
  <dc:description/>
  <dc:language>en-US</dc:language>
  <cp:lastModifiedBy>forest  trends</cp:lastModifiedBy>
  <cp:lastPrinted>2003-10-23T10:21:17Z</cp:lastPrinted>
  <dcterms:modified xsi:type="dcterms:W3CDTF">2003-11-10T22:07:09Z</dcterms:modified>
  <cp:revision>65</cp:revision>
  <dc:subject/>
  <dc:title>No Slide Title</dc:title>
</cp:coreProperties>
</file>