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DD9-CFFF-4D4D-820B-BF5A97E3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E2B-C970-44AD-9D37-7BF6878A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204-7F09-4274-ACAF-66B46534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DA0-CFA6-4299-BEC6-460E81BB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64D-7F99-4776-AE65-67CC276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1D2-A230-437C-BFD4-F898202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E76-3E1D-4765-B9A5-AA2446DE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0D3-B6EF-4415-A5C2-00ED521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66C-EF6C-4678-B940-9405F78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E84-5D5A-4729-917E-A04ED3F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94E-977A-401B-BFB1-24EA74F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BC5-E279-491E-83BD-B15167E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C49-621F-4E11-97D8-D484CF3DE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from the Government and I’m here to help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evels – National, State, District,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&amp; Legislation – Create Property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Tenure – Title, Occupation, Land-use (EI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ment &amp; Pen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&amp;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&amp;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Research &amp; Expert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– Transport, Communicaton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zation of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rse Called Self-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– Layers of Value for Tr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W-MILLERS – Future Sup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sion from Native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UR UNIONS – Jobs and 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STS NSW – Survi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vent Themselves as Service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DNEY FUTURES EXCHANGE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a/Pacific Green Exchange (The Gre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71680"/>
            <a:ext cx="28447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perty right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 Clear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Verif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Enforc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Transfe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Low scientific uncertainty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Low sovereign risk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80"/>
                <a:tab algn="r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 2    Desirable property right characteristics for creating market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71680"/>
            <a:ext cx="6400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ature and extent of the property right is unambig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se of the property right can be measured at reasonable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Ownership of the property right can be enforced at reasonable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here are parties who are willing to purchase the property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Ownership of the property right can be transferred to another party at reasonable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se of the property right has a clear relationship with ecosystem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Future government decisions are unlikely to significantly reduce the property right's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410080"/>
            <a:ext cx="74167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 Low in the sense that it does not prevent a market from forming. Moderate       levels  of risk and uncertainty are not necessarily insurmountable barriers to the operation of a mark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7:40:10Z</dcterms:created>
  <dc:creator>Kim</dc:creator>
  <dc:description/>
  <dc:language>en-US</dc:language>
  <cp:lastModifiedBy>minbar</cp:lastModifiedBy>
  <dcterms:modified xsi:type="dcterms:W3CDTF">2005-09-20T16:55:35Z</dcterms:modified>
  <cp:revision>4</cp:revision>
  <dc:subject/>
  <dc:title>MOBILIZATION The Horse Called Self-interest</dc:title>
</cp:coreProperties>
</file>