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2.png" ContentType="image/png"/>
  <Override PartName="/ppt/media/image1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E82-4149-41F5-B0CC-B7E3B3D9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F2-A066-44E3-A2D4-757DEB2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D6D-5A4C-4B39-99C9-06224FDC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878-D923-4DB3-853D-014268CF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2DF-FD69-4D9D-9BB3-1F68125A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6BE-92E9-49AD-98F0-E7FA788E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2E6-C968-47A1-898E-C8FF7CC3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ABC-40C5-493C-BAD8-1CF0878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787-1173-40D2-BE48-9E91251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6E3-BAF2-4542-9B64-3F7F6F6C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3C7-1DAC-4CC6-894F-EF76470B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9D7-6259-484A-A337-5E5A849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87E-1569-4017-ADD9-3692C1CB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86200" cy="655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609480"/>
            <a:ext cx="4595760" cy="62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Payments for Ecosystem Services to Achieve Conservation and Development Objec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Frutiger 55 Roman"/>
              </a:rPr>
              <a:t>Sara Sch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Frutiger 55 Roman"/>
              </a:rPr>
              <a:t>Forest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Frutiger 55 Roman"/>
              </a:rPr>
              <a:t>Ecoagriculture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Frutiger 55 Roman"/>
              </a:rPr>
              <a:t>September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792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Current Obstacles to Developing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190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3200400"/>
            <a:ext cx="83818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technical and marke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buyers not orga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costs fo find, negotiate, monitor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experience and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dequate legal and regulatory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conflict over righ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ust of markets for public goo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15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Potential Benefits &amp; Risks for   Community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4479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New, often more regular, flows of income (15-25% 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ortfolio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atalyst for adopting bet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pract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sset appreciation (pest &amp; disease control, high inven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ocally-valued ecosystem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cial investment, such as preserving 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oss of economic us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oss of land and forest ownership or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oss of local ecosystem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ntractual obligations if services no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152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Overcoming Obstacles for                Community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143000"/>
            <a:ext cx="8092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bout ecosystem servic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 broad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policy dialogue about the rules and shape of ecosystem service 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learning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new entrants to these markets; training programs and enterprise support; financial viable and appropriate business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rough institutional innovations like suitable intermediaries, ‘bundling’, large-area programs, integrate with econo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00200" y="152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The Katoomba Group–Linking Global Innovators, Providing Polic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162920" y="5638680"/>
            <a:ext cx="1654200" cy="6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1371600"/>
            <a:ext cx="7184880" cy="360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09680" y="23623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7339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0481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2767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0574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666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895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29718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895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4038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0481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0574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1337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6019200" y="58212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0"/>
            <a:ext cx="464796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PES relevant for East and Southern Af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ical need for new sources of confirmation 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one-off projects being developed or i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models that fit local social and institutional conditions      (“it’s all about design….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strategic about role of PES in national conservation and development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15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Investing in “Natural Infrastructur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0120" y="2133720"/>
            <a:ext cx="670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 Climat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Advice to National Policy Initi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diversity Off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373392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 sequestration and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il formation and 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6095880"/>
            <a:ext cx="11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mposition of wastes             Landscape  bea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0400" y="350532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ds species &amp; habitat prot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8240" y="3429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t poll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080" y="251460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shed protection and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quality                                     Pest &amp; diseas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152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a) Self-Organized Private Deals</a:t>
            </a: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787480" cy="4227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1295280"/>
            <a:ext cx="56340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vate entities pay for priva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Perrier-Vittel pays upstream landow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or improved agricultural practices and reforestation of sensitive infiltration zones (US$230/ha/y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 TNC, CI, WCS payments to farm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mmunities for conserv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 of service typically negotiated, based on willingness to buy and sell (valuation studies may be an input for nego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36162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1654200"/>
            <a:ext cx="457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blic agency pays f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ublic payments for watersh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otection in Mexico ($60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l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S pay landowners for wild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nservation (EQUIP, Sa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r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 of service either set by program (based on willingness to sell and valuation studies) or through a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b) Public Payments to Farmers,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11963520" cy="158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47920" y="-228600"/>
            <a:ext cx="7010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c) Open Trading of Ecosystem Credits</a:t>
            </a: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Under a Cap or Fl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295280"/>
            <a:ext cx="53341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ndowners either comply directly with regulations, or buy compliance cre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Wetland banking in US allow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velopers to offset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* The Kyoto-compliant carbon emission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offset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*  Freshwater nutrient-t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Price of service is based on suppl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mand for the service (with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d by reg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3429000" cy="35049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THE FOREST CLIMATE AL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 55 Roman"/>
              </a:rPr>
              <a:t>d) Eco-labeled farm, forest, natural                       products</a:t>
            </a: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5262" t="0" r="4207" b="0"/>
          <a:stretch/>
        </p:blipFill>
        <p:spPr>
          <a:xfrm>
            <a:off x="4952880" y="1828800"/>
            <a:ext cx="3475080" cy="4114800"/>
          </a:xfrm>
          <a:prstGeom prst="rect">
            <a:avLst/>
          </a:prstGeom>
          <a:ln w="28440">
            <a:solidFill>
              <a:srgbClr val="0f2202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28600" y="1523880"/>
            <a:ext cx="4419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umers prefer certified sustainable su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 “Shade-grown coffee”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esoamerica (US$5 bill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ale in USA a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Certified ti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Eco-landscape source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Price of service embedd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 of product price--usuall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rket (FSC), sometime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gotiation (Starbu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1676520"/>
          <a:ext cx="7010640" cy="4800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010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ding Blocks for Ecosystem Services Payments and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152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utiger 55 Roman"/>
              </a:rPr>
              <a:t>Potential Benefits for Sustainable Development 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371600"/>
            <a:ext cx="8093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w sources of finance for conservation, esp. outside Protec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es for rational decision-ma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bout resource use an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for rural communities with few other market opportunities (e.g., where no trans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wards rural communities for real benefi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provide to 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ng for transition to sustain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, forestry and fish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304920"/>
          <a:ext cx="6705720" cy="62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920"/>
                    <a:ext cx="67057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6:36:51Z</dcterms:created>
  <dc:creator>forest  trends</dc:creator>
  <dc:description/>
  <dc:language>en-US</dc:language>
  <cp:lastModifiedBy>Lipper, Leslie (ESAE)</cp:lastModifiedBy>
  <dcterms:modified xsi:type="dcterms:W3CDTF">2005-09-19T03:32:51Z</dcterms:modified>
  <cp:revision>118</cp:revision>
  <dc:subject/>
  <dc:title>PowerPoint Presentation</dc:title>
</cp:coreProperties>
</file>