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721-CE5A-4BDD-A41D-3D74445B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C9D-C3DA-40E8-8125-9F99341A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A84-9F58-4848-AF8C-9036939E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7C4-5AC1-45B3-A7F1-D62C72E5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234-ABE9-43B7-B1AE-58DC8C9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FD4-F9B9-45A8-B688-ED706BBC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CD3-6720-4F29-A866-3BDEEEF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3C5-8847-4B8F-88A1-EDC0EE12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382-F23F-427B-9936-209992B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292-A452-4153-879A-6EC23E2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204-C985-44CF-AF6E-BE701FA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332-00FC-4140-9A6D-C6826C4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904-9529-4C5F-886B-2D9D107DD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is bounded by 1% in 2008-2012 for seque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frica, there is significant degraded/deforested land prior to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% of Africa is on the grid, so there is need for small scale energy (pro po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payments go further in Africa to provide incen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frican communities and industries depend on wood for 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dustries depend on diesel so there is a potential for fuel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2012: 42 M tC across Africa for forest rest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2012: 168 M tC across Africa for avoided defor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: $25-50M tons delivered from LULUCF &amp; community-friendly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: 2B tCO2 under Kyoto, 15% is CDM, Africa obtains 5% of CDM = 15 M tCO2 @ $5 = $75-100M 2008-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ly some of the $100M will not be ‘pro poor’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ntary Market: Now: &lt; $1M per year, Future: $20-40M (2008-20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ntary market may hold more potential for Africa and ‘pro poor’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352680"/>
            <a:ext cx="6094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4114800"/>
            <a:ext cx="3812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352680"/>
            <a:ext cx="5486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676520" y="4876560"/>
            <a:ext cx="5486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7320" y="27432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ore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560" y="29718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chn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8920" y="32767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80160" y="3429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3480" y="358128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5240" y="4343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ea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00M Ky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0-40M Volu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 costs are quite high including bundling small scal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transaction costs in the voluntary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s must be large scale to recover transacti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transaction costs detracts from sustainable community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ing out competed by large scale projects outside of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information sharing and scientific data availability (for methodolog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s are taking a long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access to upfront capital both in regulatory and voluntary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dequate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rules (Methodologies, additionality start 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vernments find it difficult to demonstrate sustainable development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of institutions at many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mover penalties” – lots of visibility from many stakeholders delays projec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development is needed for the voluntar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Regul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DM rules are onerous and require significan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xity of PDDs requires hiring consultant, which increases the transaction costs, so there is a longer learning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CDM objectives for sustainable development benefits are not being achie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exists to improve small-scale rules and bundling in particular to help links to sustainabl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to reduce transaction costs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es in local legal titling laws and forestry laws (e.g. participatory forest management and forest reser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ce between property rights and carbon rights, so management agreements and concession fees must be consistent with carbon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/land/title rights are difficult to sor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s and time to get surveys affects ability to access land tit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t recognized title through de facto land management or conc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 there is limited access to ‘large’ conces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/community mgmt/ownership has new conflicts and opportunities &amp; changes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oluntary market may have less restrictions, but still has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s on local project sponsors are high for carbon emissions delivery caused by the private secto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must analyze which stakeholders need what typ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tory market needs more government involvement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development is more effective when coupled with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are needed between local actors/NGOs and market needs like ris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society needs more awareness to aid governments in passing sound laws and civil society can act as watch dogs for quality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building not properly tailored for specific ac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for legislators, decision makers and local government is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Breakout - Institu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partnering with experienced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 experiences from participatory forest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 and WWF can bring some on the ground experience t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develop a pooled ‘marketing’ of projects for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9:11:21Z</dcterms:created>
  <dc:creator>bvitale</dc:creator>
  <dc:description/>
  <dc:language>en-US</dc:language>
  <cp:lastModifiedBy>minbar</cp:lastModifiedBy>
  <dcterms:modified xsi:type="dcterms:W3CDTF">2005-09-18T18:21:43Z</dcterms:modified>
  <cp:revision>34</cp:revision>
  <dc:subject/>
  <dc:title>Carbon Breakout - Potential</dc:title>
</cp:coreProperties>
</file>