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7F2-1F28-476A-87AE-F7CED8AA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C33-A947-42EC-BD44-30F6016F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6A1-626A-4566-B728-C28CA44C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B52-7C93-424B-AD88-2F01E0D6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F477-31FD-414E-9665-E77B7B8B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4B1C-AEDB-4169-B69F-42C4D41A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FAA1-2B61-448A-B5FA-082471C7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2B30-78B4-41DC-B98C-0D26F09C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81A9-C7E2-494E-8EBA-547B56BD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8A51-4D1E-4044-921F-D0045F3C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45A2-DCAA-4CFD-9870-93B5F819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D29-4B23-4219-AAF7-AF7A294F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CC2F-F836-4897-B9D5-BDF0172F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2979-AA3B-4618-A8D0-A090862A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0363-18FD-428A-B8AE-88880B9E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773E-45BA-4619-8C01-F148DA70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5775-FED3-4E55-8B69-44953AFA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41E-5734-4FE8-A810-41C56A1B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A9F-163E-471E-B797-45B71B30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C31-2E2A-44EA-869A-A51439ED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F94-71A9-4B73-808B-B6A0A3FC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69F-8DB5-4713-A43A-A751D49F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018-1999-439F-8C4B-6DDCA812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81E6-05BC-4034-821F-A7394046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9F0D-31A0-4D62-AC96-8CE60EE20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CE4F-1C23-4FB3-8139-D09B262C1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Conceptual Framework for Building Institutions and Capacity for PE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ra J. Scher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 Trends-Ecoagriculture 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weya National Park, Ug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tember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83880" y="-360"/>
            <a:ext cx="69364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Blocks for Ecosystem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yment and Market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143000" y="1219320"/>
          <a:ext cx="6781680" cy="541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67816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66680" y="380880"/>
          <a:ext cx="6934320" cy="6248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0880"/>
                    <a:ext cx="693432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nstitutional and Capacity Needs Vary by Type of P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private deals (single-buyer, single-sell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x private deals (multi-buyer or multi-sell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payments (from general revenu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payments (from user fe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 &amp; trade (landscape, national, int’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nstitutional Development for PES in E. and S. Africa –Initial Idea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for PES in East and Southern Af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ings with thematic focus for capacity-buil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-enabled discussion groups and ex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-network of community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isory support for institutional innov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urce and capacity-build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“Best Policy/Practice Guidelines” for selected types of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cy and  Buyer Dialog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xisting Initiatives for PES Institutional Development in Afric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ld Bank West Afric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ld Bank Capacity-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oCarbon Fund support for carbon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E/IIED/WWF Watershed project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d Fdn initiative on equity issues in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P/FAO/ICRAF initiative on C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F/UNDP/Forest Trends/Katoomba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8:40:09Z</dcterms:created>
  <dc:creator>SScherr</dc:creator>
  <dc:description/>
  <dc:language>en-US</dc:language>
  <cp:lastModifiedBy>SScherr</cp:lastModifiedBy>
  <dcterms:modified xsi:type="dcterms:W3CDTF">2005-09-20T05:11:13Z</dcterms:modified>
  <cp:revision>9</cp:revision>
  <dc:subject/>
  <dc:title>Conceptual Framework for Building Institutions and Capacity for PES</dc:title>
</cp:coreProperties>
</file>