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855F-BC67-474C-AC60-9AE5D4E7CA0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33DC-A0D3-421A-B562-25338FB3945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CE20-2310-4044-8E6C-13F4BDFE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6DC2-B0A5-41F4-BD65-1E6F5D96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527C-A014-4904-BBCA-AA652678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33B9-564C-4A8C-8165-D545DE7D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6C69-7FA3-45AA-94B4-2AAC0949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9004-1E15-47A1-8630-CD6AA941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CA56-CB75-4192-BAEB-381D1206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2F4B-BDC1-4D78-8FED-19E7D377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2F1A-5677-4096-B419-1D1203F4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40A3-0FEC-4D31-9900-086BD9E2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C191-1186-4F2D-8682-F9FD7877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2D31-A34F-4048-935F-31F48434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0ABB-D001-4404-A081-B32DA694229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468360" y="6244920"/>
            <a:ext cx="820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70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cc"/>
                </a:solidFill>
                <a:latin typeface="Times New Roman"/>
              </a:rPr>
              <a:t>Avances en las Negociaciones sobre REDD - Per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642960" y="60721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Iquitos, 3 de octubre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000240" y="4500720"/>
            <a:ext cx="3071880" cy="28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4857840" y="492912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rge Alvarez L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285840" y="1304640"/>
            <a:ext cx="85010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hace un llamado hac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P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-13 Se deben adoptar decisiones incluyendo provisiones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r actividades que favorezcan el fortalecimiento de capacidades y acciones tempranas para R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aciones de políticas y propuestas de posibles incentivos de los países, incluyendo la presentada por el Banco Mundial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arlos en el contexto de la discusión para futuros cooperaciones internacionales en cambio climát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P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BSTA-28 Se debe preparar borradores definiendo políticas especificas e incentivos positivos para RED para ser considerados en la CoP-14, incluyendo la iniciación de acciones tempran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P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ar el proceso de negoci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914400" y="142920"/>
            <a:ext cx="82296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araguay, a nombre de diversos países de  Latinoamérica, incluido Perú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Agosto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532720" cy="1223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Times New Roman"/>
              </a:rPr>
              <a:t>MAPA DE DEFORESTACIÓN DE LA AMAZONÍA PERU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marL="838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ff9900"/>
                </a:solidFill>
                <a:latin typeface="Times New Roman"/>
              </a:rPr>
              <a:t>OBJETIV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eterminar el incremento de deforestación del periodo 1990-2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porcionar información para el inventario de GEI (conversión de bosques) por efecto del cambio del uso de la tier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"/>
          <p:cNvPicPr/>
          <p:nvPr/>
        </p:nvPicPr>
        <p:blipFill>
          <a:blip r:embed="rId2"/>
          <a:srcRect l="2659" t="5325" r="3227" b="6026"/>
          <a:stretch/>
        </p:blipFill>
        <p:spPr>
          <a:xfrm>
            <a:off x="2179800" y="347760"/>
            <a:ext cx="4539960" cy="57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9120" y="475920"/>
            <a:ext cx="8624880" cy="1297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9900"/>
                </a:solidFill>
                <a:latin typeface="Times New Roman"/>
              </a:rPr>
              <a:t>Superficie deforestada (ha) por clases de uso de la tier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23880" y="2076480"/>
          <a:ext cx="7835760" cy="4091040"/>
        </p:xfrm>
        <a:graphic>
          <a:graphicData uri="http://schemas.openxmlformats.org/drawingml/2006/table">
            <a:tbl>
              <a:tblPr/>
              <a:tblGrid>
                <a:gridCol w="3686040"/>
                <a:gridCol w="1933560"/>
                <a:gridCol w="2216160"/>
              </a:tblGrid>
              <a:tr h="131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lase 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o de la tier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xtensión (h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 del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 defores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sque Secundario/Agric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168727,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,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5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sque Secunda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067 765,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,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5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s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179 982,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,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ric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90 514,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5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Áreas sin Vege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 564,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172 553,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619280" y="333360"/>
          <a:ext cx="5977080" cy="5958000"/>
        </p:xfrm>
        <a:graphic>
          <a:graphicData uri="http://schemas.openxmlformats.org/drawingml/2006/table">
            <a:tbl>
              <a:tblPr/>
              <a:tblGrid>
                <a:gridCol w="1224000"/>
                <a:gridCol w="1081080"/>
                <a:gridCol w="1236600"/>
                <a:gridCol w="1282680"/>
                <a:gridCol w="115272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parta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uperficie  departa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h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uperficie bosque amazónico (h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uperficie deforestada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h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 deforestado  departamen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38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n Martí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125 3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533 596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327 668,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.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azon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924 9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659 357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001 467,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ní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440 9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739 497,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4 272,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anu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772 2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724 007,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 620,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jamar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402 2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7 133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0 030,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s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531 9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443 371,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2 007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s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189 1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101 449,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7 601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cay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241 0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483 011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7 064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yacuc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381 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3 208,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5 366,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r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 885 1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 354 262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5 590,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dre de D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 518 2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 215 301,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3 878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ancavel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213 1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 345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986,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201 2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443 575,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6 033,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589 2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 624,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734,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Libert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479 4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 521,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231,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9 247 26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172 553,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971640" y="476280"/>
          <a:ext cx="7416720" cy="5943600"/>
        </p:xfrm>
        <a:graphic>
          <a:graphicData uri="http://schemas.openxmlformats.org/drawingml/2006/table">
            <a:tbl>
              <a:tblPr/>
              <a:tblGrid>
                <a:gridCol w="1296720"/>
                <a:gridCol w="1452600"/>
                <a:gridCol w="1548000"/>
                <a:gridCol w="1523880"/>
                <a:gridCol w="223920"/>
                <a:gridCol w="220680"/>
                <a:gridCol w="220680"/>
                <a:gridCol w="930240"/>
              </a:tblGrid>
              <a:tr h="155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partame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*Mapa ajustado de Deforestación-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ase de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 RR.NN-INR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h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**Mapa de Deforestació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CLIM-INR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ño 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h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cre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 la Deforestación 1990-2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h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 del incre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 la Defores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90-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azon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5 581,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001 467,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5 885,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,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re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8 070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5 590,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7 519,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jamar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6 617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0 030,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3 412,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s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5 849,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7 601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1 751,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dre de D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 267,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3 878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4 610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ní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2 859,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4 272,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 413,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cay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7 749,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7 064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 314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anuc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2 457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 620,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 163,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 357,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6 033,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 675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ur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6,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 734,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 448,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ancavel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 560,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 986,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 426,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n Martí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300 013,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327 668,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 654,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s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7 352,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2 007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 655,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yacuc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 641,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5 366,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724,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Libert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569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231,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1,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 676 236,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 172 553,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496 317,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7"/>
          <p:cNvSpPr/>
          <p:nvPr/>
        </p:nvSpPr>
        <p:spPr>
          <a:xfrm>
            <a:off x="1143000" y="-71280"/>
            <a:ext cx="8001000" cy="121428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2124000" y="115920"/>
            <a:ext cx="70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Impact"/>
              </a:rPr>
              <a:t>D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finiciones de Bosque de Marrake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0" descr=""/>
          <p:cNvPicPr/>
          <p:nvPr/>
        </p:nvPicPr>
        <p:blipFill>
          <a:blip r:embed="rId2"/>
          <a:stretch/>
        </p:blipFill>
        <p:spPr>
          <a:xfrm>
            <a:off x="5219640" y="5013360"/>
            <a:ext cx="3611520" cy="1512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"/>
          <p:cNvPicPr/>
          <p:nvPr/>
        </p:nvPicPr>
        <p:blipFill>
          <a:blip r:embed="rId3"/>
          <a:stretch/>
        </p:blipFill>
        <p:spPr>
          <a:xfrm>
            <a:off x="108000" y="4856040"/>
            <a:ext cx="4968720" cy="17496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2"/>
          <p:cNvSpPr/>
          <p:nvPr/>
        </p:nvSpPr>
        <p:spPr>
          <a:xfrm>
            <a:off x="5501520" y="4653000"/>
            <a:ext cx="321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Cobertura de Copa Mín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13"/>
          <p:cNvGrpSpPr/>
          <p:nvPr/>
        </p:nvGrpSpPr>
        <p:grpSpPr>
          <a:xfrm>
            <a:off x="5076720" y="2354400"/>
            <a:ext cx="3887640" cy="1866240"/>
            <a:chOff x="5076720" y="2354400"/>
            <a:chExt cx="3887640" cy="1866240"/>
          </a:xfrm>
        </p:grpSpPr>
        <p:pic>
          <p:nvPicPr>
            <p:cNvPr id="127" name="Picture 14" descr=""/>
            <p:cNvPicPr/>
            <p:nvPr/>
          </p:nvPicPr>
          <p:blipFill>
            <a:blip r:embed="rId4"/>
            <a:stretch/>
          </p:blipFill>
          <p:spPr>
            <a:xfrm>
              <a:off x="5076720" y="2354400"/>
              <a:ext cx="3887640" cy="186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Rectangle 15"/>
            <p:cNvSpPr/>
            <p:nvPr/>
          </p:nvSpPr>
          <p:spPr>
            <a:xfrm>
              <a:off x="5076720" y="2405160"/>
              <a:ext cx="1511280" cy="38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16"/>
            <p:cNvSpPr/>
            <p:nvPr/>
          </p:nvSpPr>
          <p:spPr>
            <a:xfrm>
              <a:off x="6804000" y="3556440"/>
              <a:ext cx="574560" cy="38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Rectangle 17"/>
          <p:cNvSpPr/>
          <p:nvPr/>
        </p:nvSpPr>
        <p:spPr>
          <a:xfrm>
            <a:off x="5185440" y="2427120"/>
            <a:ext cx="18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ltura mín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0" y="5013360"/>
            <a:ext cx="205092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369000" y="4773600"/>
            <a:ext cx="161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Área mín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0"/>
          <p:cNvSpPr/>
          <p:nvPr/>
        </p:nvSpPr>
        <p:spPr>
          <a:xfrm>
            <a:off x="1981080" y="6165720"/>
            <a:ext cx="28728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1"/>
          <p:cNvSpPr/>
          <p:nvPr/>
        </p:nvSpPr>
        <p:spPr>
          <a:xfrm>
            <a:off x="6877080" y="5661000"/>
            <a:ext cx="287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8"/>
          <p:cNvSpPr/>
          <p:nvPr/>
        </p:nvSpPr>
        <p:spPr>
          <a:xfrm>
            <a:off x="0" y="1125360"/>
            <a:ext cx="9144000" cy="14472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9"/>
          <p:cNvSpPr/>
          <p:nvPr/>
        </p:nvSpPr>
        <p:spPr>
          <a:xfrm>
            <a:off x="0" y="2276640"/>
            <a:ext cx="4608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PE" sz="1800" spc="-1" strike="noStrike">
                <a:solidFill>
                  <a:srgbClr val="3333cc"/>
                </a:solidFill>
                <a:latin typeface="Trebuchet MS"/>
              </a:rPr>
              <a:t>Bosque:</a:t>
            </a:r>
            <a:r>
              <a:rPr b="0" lang="es-PE" sz="1800" spc="-1" strike="noStrike">
                <a:solidFill>
                  <a:srgbClr val="000000"/>
                </a:solidFill>
                <a:latin typeface="Trebuchet MS"/>
              </a:rPr>
              <a:t> superficie mínima de tierras de entre 0,05 y 1,0 hectáreas (ha) con una cubierta de copas (o una densidad de población equivalente) que excede del 10 al 30% y con árboles que pueden alcanzar una altura mínima de entre 2 y 5 metros (m) a su madurez in sit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108000" y="119556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rante la COP 7 (Marrakesh 2001) se adoptó la decisió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1/CP7: Reglas para la inclusión de actividades LULU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1" descr="002261"/>
          <p:cNvPicPr/>
          <p:nvPr/>
        </p:nvPicPr>
        <p:blipFill>
          <a:blip r:embed="rId2"/>
          <a:stretch/>
        </p:blipFill>
        <p:spPr>
          <a:xfrm rot="503400">
            <a:off x="5297040" y="1958760"/>
            <a:ext cx="3527640" cy="237168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pic>
        <p:nvPicPr>
          <p:cNvPr id="139" name="Picture 22" descr="001101"/>
          <p:cNvPicPr/>
          <p:nvPr/>
        </p:nvPicPr>
        <p:blipFill>
          <a:blip r:embed="rId3"/>
          <a:stretch/>
        </p:blipFill>
        <p:spPr>
          <a:xfrm rot="20949000">
            <a:off x="399600" y="1947600"/>
            <a:ext cx="3457800" cy="230508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pic>
        <p:nvPicPr>
          <p:cNvPr id="140" name="Picture 23" descr="porcon1"/>
          <p:cNvPicPr/>
          <p:nvPr/>
        </p:nvPicPr>
        <p:blipFill>
          <a:blip r:embed="rId4"/>
          <a:stretch/>
        </p:blipFill>
        <p:spPr>
          <a:xfrm>
            <a:off x="2857680" y="3500280"/>
            <a:ext cx="3600360" cy="214812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sp>
        <p:nvSpPr>
          <p:cNvPr id="141" name="Rectangle 25"/>
          <p:cNvSpPr/>
          <p:nvPr/>
        </p:nvSpPr>
        <p:spPr>
          <a:xfrm>
            <a:off x="571680" y="125244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Times New Roman"/>
              </a:rPr>
              <a:t>En el caso del Perú, la diversidad de los distintos tipos de bosque hace que sea difícil determinar una sola defini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8"/>
          <p:cNvSpPr/>
          <p:nvPr/>
        </p:nvSpPr>
        <p:spPr>
          <a:xfrm>
            <a:off x="1143000" y="0"/>
            <a:ext cx="8001000" cy="9810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9"/>
          <p:cNvSpPr/>
          <p:nvPr/>
        </p:nvSpPr>
        <p:spPr>
          <a:xfrm>
            <a:off x="0" y="981000"/>
            <a:ext cx="9144000" cy="14436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2"/>
          <p:cNvSpPr/>
          <p:nvPr/>
        </p:nvSpPr>
        <p:spPr>
          <a:xfrm>
            <a:off x="2124000" y="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Impact"/>
              </a:rPr>
              <a:t>D</a:t>
            </a:r>
            <a:r>
              <a:rPr b="0" lang="es-ES" sz="4200" spc="-1" strike="noStrike">
                <a:solidFill>
                  <a:srgbClr val="000000"/>
                </a:solidFill>
                <a:latin typeface="Times New Roman"/>
              </a:rPr>
              <a:t>efinición</a:t>
            </a:r>
            <a:r>
              <a:rPr b="0" lang="es-ES" sz="3600" spc="-1" strike="noStrike">
                <a:solidFill>
                  <a:srgbClr val="000000"/>
                </a:solidFill>
                <a:latin typeface="Impact"/>
              </a:rPr>
              <a:t> de B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osques</a:t>
            </a:r>
            <a:r>
              <a:rPr b="0" lang="es-ES" sz="3600" spc="-1" strike="noStrike">
                <a:solidFill>
                  <a:srgbClr val="000000"/>
                </a:solidFill>
                <a:latin typeface="Impact"/>
              </a:rPr>
              <a:t>  MD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228600" y="5681520"/>
            <a:ext cx="885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3333cc"/>
                </a:solidFill>
                <a:latin typeface="Trebuchet MS"/>
              </a:rPr>
              <a:t>“</a:t>
            </a:r>
            <a:r>
              <a:rPr b="1" i="1" lang="es-PE" sz="2000" spc="-1" strike="noStrike">
                <a:solidFill>
                  <a:srgbClr val="3333cc"/>
                </a:solidFill>
                <a:latin typeface="Trebuchet MS"/>
              </a:rPr>
              <a:t>Tierras con una cubierta de copa de más del </a:t>
            </a:r>
            <a:r>
              <a:rPr b="1" i="1" lang="es-PE" sz="2000" spc="-1" strike="noStrike">
                <a:solidFill>
                  <a:srgbClr val="ff0000"/>
                </a:solidFill>
                <a:latin typeface="Trebuchet MS"/>
              </a:rPr>
              <a:t>30</a:t>
            </a:r>
            <a:r>
              <a:rPr b="1" i="1" lang="es-PE" sz="2000" spc="-1" strike="noStrike">
                <a:solidFill>
                  <a:srgbClr val="3333cc"/>
                </a:solidFill>
                <a:latin typeface="Trebuchet MS"/>
              </a:rPr>
              <a:t> por ciento del área y una superficie superior a </a:t>
            </a:r>
            <a:r>
              <a:rPr b="1" i="1" lang="es-PE" sz="2000" spc="-1" strike="noStrike">
                <a:solidFill>
                  <a:srgbClr val="ff0000"/>
                </a:solidFill>
                <a:latin typeface="Trebuchet MS"/>
              </a:rPr>
              <a:t>0.5</a:t>
            </a:r>
            <a:r>
              <a:rPr b="1" i="1" lang="es-PE" sz="2000" spc="-1" strike="noStrike">
                <a:solidFill>
                  <a:srgbClr val="3333cc"/>
                </a:solidFill>
                <a:latin typeface="Trebuchet MS"/>
              </a:rPr>
              <a:t> hectárea (ha). Los árboles deberían poder alcanzar una altura mínima de </a:t>
            </a:r>
            <a:r>
              <a:rPr b="1" i="1" lang="es-PE" sz="2000" spc="-1" strike="noStrike">
                <a:solidFill>
                  <a:srgbClr val="ff0000"/>
                </a:solidFill>
                <a:latin typeface="Trebuchet MS"/>
              </a:rPr>
              <a:t>5</a:t>
            </a:r>
            <a:r>
              <a:rPr b="1" i="1" lang="es-PE" sz="2000" spc="-1" strike="noStrike">
                <a:solidFill>
                  <a:srgbClr val="3333cc"/>
                </a:solidFill>
                <a:latin typeface="Trebuchet MS"/>
              </a:rPr>
              <a:t> metros (m) a su madurez in situ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4 Rectángulo"/>
          <p:cNvSpPr/>
          <p:nvPr/>
        </p:nvSpPr>
        <p:spPr>
          <a:xfrm>
            <a:off x="571680" y="3357720"/>
            <a:ext cx="8215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¿Cuale son las posibles consecuencias de comprometerse con metas R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imes New Roman"/>
              </a:rPr>
              <a:t>¿Que áreas serán priorizad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¿Que tipos de políticas e incentivos económicos deben ser establecid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¿Como conciliar conservación ambiental con desarrollo económic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imes New Roman"/>
              </a:rPr>
              <a:t>¿Cómo combinar RED con otros sistemas de PS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¿Como organizar la oferta y la deman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¿Como administrar y controlar o flujo de los fondo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¿Como asegurar o acceso para productores familiares y pueblos indígen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¿Cual es el sistema de Monitoreo más eficient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36 Rectángulo"/>
          <p:cNvSpPr/>
          <p:nvPr/>
        </p:nvSpPr>
        <p:spPr>
          <a:xfrm>
            <a:off x="1785960" y="214200"/>
            <a:ext cx="672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Perú – Mirando hacia adel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6 Rectángulo"/>
          <p:cNvSpPr/>
          <p:nvPr/>
        </p:nvSpPr>
        <p:spPr>
          <a:xfrm>
            <a:off x="714240" y="1285920"/>
            <a:ext cx="664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000000"/>
                </a:solidFill>
                <a:latin typeface="Times New Roman"/>
              </a:rPr>
              <a:t>Los primeros se beneficiaran de los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000000"/>
                </a:solidFill>
                <a:latin typeface="Times New Roman"/>
              </a:rPr>
              <a:t>Adecuarse o Preparar una Propuesta Metodo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000000"/>
                </a:solidFill>
                <a:latin typeface="Times New Roman"/>
              </a:rPr>
              <a:t>Fortalecimiento de 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000000"/>
                </a:solidFill>
                <a:latin typeface="Times New Roman"/>
              </a:rPr>
              <a:t>Analizar Raíces Sociales de  Defores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000000"/>
                </a:solidFill>
                <a:latin typeface="Times New Roman"/>
              </a:rPr>
              <a:t>Conciliar Programas de Desarrollo con  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785880" y="242892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Expresión de los países latinoamericanos para R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Posición presentada por Costa 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Posición presentada por Paragu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Mapa de la deforestación de la Amazonia Peruana 1990-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Definición Peruana de Bosqu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3786120" y="128592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838080" y="4952880"/>
            <a:ext cx="7772400" cy="13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v. Guardia Civil 205 - L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http://www.conam.gob.p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jalvarez@conam.gob.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51-1) 225-5370    Fax (51-1) 225-53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2357280" y="42876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ma  Setiembre 200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357120" y="1285920"/>
            <a:ext cx="8358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región Latinoamericana contribuyo con la deforestación de sus bosques a emitir alrededor de 740 millones de toneladas de CO2/anuales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(8% proviene de Perú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umerosas caus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la deforestación siendo las principales: la expansión de la frontera agrícola y ganadera, la extracción ilegal de madera, fuegos ocasionados por causas naturales y antróp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a pobreza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 una de las principales causas indirectas de la defores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da factor (directo e indirecto) requiere de un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nfoque político y económic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142920" y="1375200"/>
            <a:ext cx="90010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desarrollar acciones que puedan reducir las emisiones de GEI las instituciones requerirán implementar medidas nuevas y existentes para controlar la deforestación, modificar la legislación existente a fin de remover incentivos perversos e invertir en programas de 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os por servicios ambientales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lacionados a la protección de los bosqu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Acciones para disminuir las emisiones de GEI deben implementarse a 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vel de proyecto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 cual puede ser desarrollado a  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ala regional o local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scenarios de referencia de la deforestación no deberían  poner en desventaja a países que han tomado 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iones tempranas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 frenar la deforesta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be 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ar las capacidades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los países en vías de desarrollo mientras discutimos los enfoques políticos y los mecanismos para crear incentivos financieros para disminuir la deforestación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3500280" y="35712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1"/>
          <p:cNvSpPr/>
          <p:nvPr/>
        </p:nvSpPr>
        <p:spPr>
          <a:xfrm>
            <a:off x="2357280" y="42876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ma  Setiembre 200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142920" y="1711440"/>
            <a:ext cx="87868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ir proyectos que reduzcan las emisiones de GEI por deforestación dentro del MDL en el segundo período de compromiso del Protocolo de Kioto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12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DL es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único medio 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nte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los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íses en desarrollo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icipen en el mercado de carbono, el cual está considerado como una de las principales fuentes de financiamiento para el desarrollo de las próximas décad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12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algunas modificaciones, el MDL podría cubrir un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or rango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acción, yendo de proyectos de pequeña a escala a programáticos y sectoriales, ofreciendo así opciones para países con diferentes circunstancias y niveles de capac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12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dades ya existentes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ás las que se crearán de aquí al 2012) ayudarían a reducir los costos de transacción y a facilitar la distribución equitativ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785880" y="142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A RICA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nombre de la República Dominicana, Guatemala, Honduras, México, Panamá, Paraguay y Perú (+Ecuador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San José, Costa Rica 22 Febrero, 200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85840" y="1285920"/>
            <a:ext cx="864396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ecimiento de un Fondo para Reducir Emisiones por Deforestació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Times New Roman"/>
              </a:rPr>
              <a:t>Considerando que los fondos basados en </a:t>
            </a:r>
            <a:r>
              <a:rPr b="1" lang="es-PE" sz="2200" spc="-1" strike="noStrike">
                <a:solidFill>
                  <a:srgbClr val="000000"/>
                </a:solidFill>
                <a:latin typeface="Times New Roman"/>
              </a:rPr>
              <a:t>contribuciones voluntarias</a:t>
            </a:r>
            <a:r>
              <a:rPr b="0" lang="es-PE" sz="2200" spc="-1" strike="noStrike">
                <a:solidFill>
                  <a:srgbClr val="000000"/>
                </a:solidFill>
                <a:latin typeface="Times New Roman"/>
              </a:rPr>
              <a:t> de Partes del Anexo I, este Fondo se alimentaría de un impuesto de X% sobre las Unidades de Reducción de Emisiones (JI) o sobre las Unidades de Cantidades Asignadas similar al que actualmente tiene el MDL, o sobre bienes y servicios de alta intensidad de carbon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Times New Roman"/>
              </a:rPr>
              <a:t>Este Fondo proveería </a:t>
            </a:r>
            <a:r>
              <a:rPr b="1" lang="es-PE" sz="2200" spc="-1" strike="noStrike">
                <a:solidFill>
                  <a:srgbClr val="000000"/>
                </a:solidFill>
                <a:latin typeface="Times New Roman"/>
              </a:rPr>
              <a:t>recursos para</a:t>
            </a:r>
            <a:r>
              <a:rPr b="0" lang="es-PE" sz="2200" spc="-1" strike="noStrike">
                <a:solidFill>
                  <a:srgbClr val="000000"/>
                </a:solidFill>
                <a:latin typeface="Times New Roman"/>
              </a:rPr>
              <a:t> la implementación de </a:t>
            </a:r>
            <a:r>
              <a:rPr b="1" lang="es-PE" sz="22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r>
              <a:rPr b="0" lang="es-PE" sz="2200" spc="-1" strike="noStrike">
                <a:solidFill>
                  <a:srgbClr val="000000"/>
                </a:solidFill>
                <a:latin typeface="Times New Roman"/>
              </a:rPr>
              <a:t> específicas que deberán reducir directamente emisiones por deforestación en países en desarroll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l Fondo actuaría como un “fondo común de carbono”, y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as emisiones evitada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r las actividades financiadas por el mismo podría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enerar crédito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los cuales serían propiedad exclusiva de los participantes del país en desarrollo (como en el caso del MDL unilateral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785880" y="142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A RICA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nombre de la República Dominicana, Guatemala, Honduras, México, Panamá, Paraguay y Perú (+Ecuador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San José, Costa Rica 22 Febrero, 200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914400" y="142920"/>
            <a:ext cx="82296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araguay, a nombre de diversos países de  Latinoamérica, incluido Perú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Agosto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571680" y="2000160"/>
            <a:ext cx="792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Las reducciones de emisiones en países en desarrollo deben ser </a:t>
            </a:r>
            <a:r>
              <a:rPr b="1" lang="es-PE" sz="2400" spc="-1" strike="noStrike">
                <a:solidFill>
                  <a:srgbClr val="000000"/>
                </a:solidFill>
                <a:latin typeface="Times New Roman"/>
              </a:rPr>
              <a:t>reales, transparentes, demostrables y verifi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Se vuelve sobre las dos llaves de la primera submis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571680" y="3786120"/>
            <a:ext cx="792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Se requiere  </a:t>
            </a:r>
            <a:r>
              <a:rPr b="1" lang="es-PE" sz="2400" spc="-1" strike="noStrike">
                <a:solidFill>
                  <a:srgbClr val="000000"/>
                </a:solidFill>
                <a:latin typeface="Times New Roman"/>
              </a:rPr>
              <a:t>fortalecer las capacidades </a:t>
            </a: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institucionales de muchos países en desarrollo a fin de asegurar una implementación satisfactoria de las actividades de R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Se requiere </a:t>
            </a:r>
            <a:r>
              <a:rPr b="1" lang="es-PE" sz="2400" spc="-1" strike="noStrike">
                <a:solidFill>
                  <a:srgbClr val="000000"/>
                </a:solidFill>
                <a:latin typeface="Times New Roman"/>
              </a:rPr>
              <a:t>suficientes financiamiento</a:t>
            </a: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 para los esfuerzos del R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2"/>
          <p:cNvSpPr/>
          <p:nvPr/>
        </p:nvSpPr>
        <p:spPr>
          <a:xfrm>
            <a:off x="214200" y="1500120"/>
            <a:ext cx="87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Llama a la posibilidad de que los países puedan escoger si desarrollar actividades de RED de manera </a:t>
            </a:r>
            <a:r>
              <a:rPr b="1" lang="es-PE" sz="2400" spc="-1" strike="noStrike">
                <a:solidFill>
                  <a:srgbClr val="000000"/>
                </a:solidFill>
                <a:latin typeface="Times New Roman"/>
              </a:rPr>
              <a:t>nacional o por proyectos</a:t>
            </a: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357120" y="2714760"/>
            <a:ext cx="84297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Times New Roman"/>
              </a:rPr>
              <a:t>Pasos identificad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Times New Roman"/>
              </a:rPr>
              <a:t>Identificar sus principales causas e deforestación, la legislación nacional y las capacidades institucionales para </a:t>
            </a:r>
            <a:r>
              <a:rPr b="1" lang="es-PE" sz="2200" spc="-1" strike="noStrike">
                <a:solidFill>
                  <a:srgbClr val="000000"/>
                </a:solidFill>
                <a:latin typeface="Times New Roman"/>
              </a:rPr>
              <a:t>crear un contexto favorable</a:t>
            </a:r>
            <a:r>
              <a:rPr b="0" lang="es-PE" sz="2200" spc="-1" strike="noStrike">
                <a:solidFill>
                  <a:srgbClr val="000000"/>
                </a:solidFill>
                <a:latin typeface="Times New Roman"/>
              </a:rPr>
              <a:t> para las actividades de RED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Times New Roman"/>
              </a:rPr>
              <a:t>Identificar </a:t>
            </a:r>
            <a:r>
              <a:rPr b="1" lang="es-PE" sz="2200" spc="-1" strike="noStrike">
                <a:solidFill>
                  <a:srgbClr val="000000"/>
                </a:solidFill>
                <a:latin typeface="Times New Roman"/>
              </a:rPr>
              <a:t>áreas y proyectos piloto</a:t>
            </a:r>
            <a:r>
              <a:rPr b="0" lang="es-PE" sz="2200" spc="-1" strike="noStrike">
                <a:solidFill>
                  <a:srgbClr val="000000"/>
                </a:solidFill>
                <a:latin typeface="Times New Roman"/>
              </a:rPr>
              <a:t>, (públicos/privados) y asegurar que las propuestas son consistentes con otros objetivos de desarrollo y conservación. Los proponentes de los proyectos deben identificar las causas de la deforestación y proponer estrategias para detener estas inclusive sus posibles fugas. Los países deben proveer proyectos e inventari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914400" y="142920"/>
            <a:ext cx="82296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araguay, a nombre de diversos países de  Latinoamérica, incluido Perú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Agosto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1071720" y="1535040"/>
            <a:ext cx="76435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Times New Roman"/>
              </a:rPr>
              <a:t>Los países también pueden </a:t>
            </a:r>
            <a:r>
              <a:rPr b="1" lang="es-PE" sz="2200" spc="-1" strike="noStrike">
                <a:solidFill>
                  <a:srgbClr val="000000"/>
                </a:solidFill>
                <a:latin typeface="Times New Roman"/>
              </a:rPr>
              <a:t>comprometer esfuerzos nacionales</a:t>
            </a:r>
            <a:r>
              <a:rPr b="0" lang="es-PE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Times New Roman"/>
              </a:rPr>
              <a:t>4.   Ambos pasos descritos en (2) y (3) deben generar créditos de carbono, y podrían se empleados para cumplir futuros compromis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714240" y="3571920"/>
            <a:ext cx="792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ug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ar fugas</a:t>
            </a:r>
            <a:r>
              <a:rPr b="0" lang="es-P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vitando proyectos donde los agentes de la deforestación no puedan ser monitoreados. Las fugas deben ser evaluadas, monitoreadas, cuantificadas y verificadas. Deben ser descontadas de las estimaciones de la reducción de emisiones verificadas creando así un incentivo a los DP para minimizar las fug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914400" y="142920"/>
            <a:ext cx="82296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araguay, a nombre de diversos países de  Latinoamérica, incluido Perú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Agosto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7:35:19Z</dcterms:created>
  <dc:creator>CONAM</dc:creator>
  <dc:description/>
  <dc:language>en-US</dc:language>
  <cp:lastModifiedBy>Lauren Delaloye</cp:lastModifiedBy>
  <dcterms:modified xsi:type="dcterms:W3CDTF">2007-10-26T18:12:14Z</dcterms:modified>
  <cp:revision>101</cp:revision>
  <dc:subject/>
  <dc:title>Presentación de PowerPoint</dc:title>
</cp:coreProperties>
</file>