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2.wmf" ContentType="image/x-wmf"/>
  <Override PartName="/ppt/media/image43.wmf" ContentType="image/x-wmf"/>
  <Override PartName="/ppt/media/image33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6E6-F396-480D-887A-460A024A8F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192D-E39E-4267-A590-33801890C2A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n los casos de bioprospección y de carbono que se citan, muchos de los estudios genéricos no son específicos a un país sino más bien estimaciones glob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o período de 1991 a 1999, os Estados Unidos já haviam convertido um total de US$875 milhões do valor de face da dívida de países da América Latina para fundos de auxílio ao meio ambi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D81-9221-46C3-B754-3A034B27B6F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gos período de cinco añ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mpromisso: Plantações florestais por períodos de 20 a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servação bosque 5 a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brigação: inscrição no registro público e aplica para futuros compradores da ter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O pagamento por compensação pelos quatro serviç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Sem distinção entre los ecossistemas o entre los servicios ambientales individua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ínimo de 1 ha plantação flores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 ha para a conservação do bosqu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áxima 300 ha, (reservas indígenas máximo de 600 h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rupos de proprietários: máximo de 50 ha por proprietá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os pagos necesitan ser continuos. No acumulativos. No realizado por adelantado. Problema atras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Los pagos necesitan ser por objetivo o m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os propietarios reciben un pago diferente si su objetivo 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nservar el bosque (~$40/ha/año) o por reforestación de parcelas (~$100/ha/año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798-9DF5-4102-99B4-1FBBA1EFECC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siderando 100 toneladas de carbono por hectare de floresta tropical, a um preço de US$2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B248-A70D-4EC8-AB4B-3E33DB659294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Projeto Seqüestro do Carbono na Ilha do Bananal (PSCIB),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componente florestal é dividido em três ativida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oteção de 200.000 ha de floresta madura no Parque Nacional do Araguaia, regeneração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60.000 ha de cerrado degradado no Parque Estadual do Cantão e implantação de 3.000 ha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istemas agroflorestais em pequenas propriedades, estimando uma fixação total de 25 milhõ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 t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ojeto introduziu o chamado “carbono social”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zona de transição ecológica, cobrindo três importantes bi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rasileiros: a floresta Amazônica, o cerrado e o pant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um caráter experimental e não pretende reivindicar 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réditos de carbono, o que conferiu grande margem de liberdade ao executor na definição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uas atividades. O projeto foi financiado, originalmente pela AES Barry Foundation, u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nstituição filantrópica ligada a uma empresa britânica de energia e implementado pelo Institu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cológica, uma ONG socioambiental local. Um dos objetivos centrais é a aprendizagem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rmatação de projetos florestais de carbono competitivos com cunho so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4E30-B196-4DE0-9EC0-5ABF6F72295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2AE-E9D9-46A9-90FB-FF29FCBB6F6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uses and pathways of tropical deforestation. Prof. Eric Lam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partement of Geography. University of Louvain. Belg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A89C-AC64-4ABB-8AAC-467F076DE0E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US$ 5/ton C (US$ 1.36 ton CO</a:t>
            </a:r>
            <a:r>
              <a:rPr b="0" lang="es-C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): Factor 0.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Considerando  145 ton Carbono de perdid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F5D2-0902-46F5-990D-EB3247D35799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existen impedimentos técnicos para avanzar en la implementación inmediata de un mecanismo político para la reducción de emisiones por deforest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itê Subsidiário de Conselho Técnico e Científico (SBTS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D985-0074-4A0D-B6BE-568422469CE9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verificación de la cobertura forestal y de las tasas de deforestación se basaría en una combinación de imágenes satélites respaldadas por la validación en el terreno (visitas al sit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“normas estrictas” que desalentarían la eliminación de bosques en tierras que hayan sido objeto de financiación por deforestación evitad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D50-2862-48F0-9F07-2B0DDCCB16D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D7D-A61F-42C5-A03B-4BB021386EF9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rcado de “permutas” (similar ao mercado, mas sem envolver transações financeiras, como: cancelamento de débitos, preferências de comércio, redução de impostos internacionais etc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agamento por Serviços Ambientais (não somente reduções de emissõ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leta de “cotas de carbono” de projetos do Comércio de Emissões (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Emissions Trading) Implementação Conjunta (Joint Implementa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Iniciativa de Kyoto2, propuesta por activistas ambientales en el Reino Unido, recomienda que los fondos para la deforestación evitada sean asegurados con un impuesto basado en el carbono, aplicado a las compañías extractivas en la instancia de producción (no a las emisio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bril de 2007, el gobierno de Ecuador declaró públicamente que estaría dispuesto a renunciar a la extracción de petróleo y gas en zonas de bosques tropicales protegidos a cambio de una compensación por la deforestación evi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233-4C8A-467E-8373-25AD599F4C9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5BA-6611-4529-9D4E-81DEC800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C84-A4BE-4B9A-B7FB-36AAD2AE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C9D-E4F8-40BE-909F-684A4E8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F49-1E0D-46BD-AD5A-2DB3F08F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C8C-579A-4C4A-B71B-667CF4EF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904E-7DF9-4E39-9D57-90B1D37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DC9-28D6-46F9-9816-46971C4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C92-9D62-4F16-8E94-CF1DC42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695-250B-45A7-9F3B-1C0C2A24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5B80-599B-4DD9-A4F3-9E78139F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05D9-5A6A-47A0-B66E-B3A33F3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515-9ED3-4AA3-9BA9-20BD4E4E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30BC-B79C-4C54-ACD8-D88AD8E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DD3-CF67-46A7-A133-21D1D08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99BD-2C56-4AC7-9CF0-3013497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DD2-25BA-4F89-8C9A-FF0C34A1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E919-BD23-4BE8-AB05-60C4F554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153F-9FD4-4938-B068-64A8EF19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225F-A008-479B-9F81-98914C3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43E5-54F6-4578-B959-8CE23B5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E05A-C34A-494E-A6FD-CFEB9CC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3A4F-97D3-467B-995A-8B9F8B51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E7A-8842-42BE-A494-E31972F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8EEB-498C-4E98-8581-DA79C22C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7F7F-30B8-4AEF-8639-B4C61AE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E22E-5101-4676-9256-4054086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EB6B-D25A-4B44-8712-A038F29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F3ED-680A-4E6F-86F0-C39CFFD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E83C-70BC-4548-8F52-D1B2245D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2BAC-9C81-4073-9D8F-2585B76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28F4-AB91-456E-9A65-E7BC7D2D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2F76-031E-40B0-9B81-F22FF32F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B923-8291-4FA6-9312-26D1C8B4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18D-063D-4457-8865-D4B5A6D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A1FC-BB09-40C4-8472-AFAB29C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538A-4ACA-48E2-9E24-CA653AF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54D2-BE09-4AB2-A93E-A6D81AED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236E-9AAA-4F79-B796-C14C1D9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A5FE-3FCF-493A-9DD6-9014EA69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ABF0-4CBE-4A18-811F-D2EC0D9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34AF-DCA1-4245-AAA4-A55BF8F2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0319-52F5-4C82-B37B-656CBFE4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3123-D76D-4FB6-AFCF-BC4F5B3B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FB87-74D4-4CD5-BC7B-6B15EFF2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28A-3D32-4568-8012-DD8D4B8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35E2-10FB-4CE0-B452-473536B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3698-EE98-4CE2-9422-AB216E3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3BB1-F44B-4CB2-85F2-A1AB48F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F986-32B3-4DC8-BF44-DF3CDC2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EC1F0-0B42-495B-A70E-2B29BC7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DEE0-69BD-4317-AA20-44BCFED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8375-CE5D-4183-A7C0-1ADA44D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A1FA-8597-487A-A16E-A5C3A6C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2373-FF12-4D8E-8AD1-7AF15B3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3BB6E-8528-4D80-B029-D39065F8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05B-4F90-40BB-86AE-35EFFB6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39B7-03F4-45A8-88D3-731C82D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DF7E-B02C-4F34-A0C4-790ED748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4BEF-FA7C-44F2-BA11-6227B2F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E802-EDF4-4FC8-B549-6FE02366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80E0-3437-4A39-8C50-6B78DF4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78FD-241C-404A-A5CE-106C7B84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7453-CBC9-4E1B-B18A-A82A62EE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D9BC-A5B4-4023-9AD5-B22E3039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6D77D-A09F-4A0F-B989-0356DCB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88354-604A-49BF-97CE-EEBD4E3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660-7E2D-4A58-BF7F-0C25F80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370E-5514-4B8F-824C-A1190AA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4587-2022-4B04-9AC1-18CE95DE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AA88-D1D9-4B26-AB22-89702277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E11-2D5D-49E3-BB31-3D0A055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E0E-06BE-404D-AC96-6C8E940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87B-E132-4AE4-9770-AD6C0C797FA8}" type="slidenum">
              <a:rPr b="0" lang="en-U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FAE-F57D-412C-869A-7562CF99A3C8}" type="slidenum">
              <a:rPr b="0" lang="en-U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661-C695-40EC-87A9-0E1D6934D4C8}" type="slidenum">
              <a:rPr b="0" lang="es-E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BBE-D5B6-4206-A778-9833E3FB00E6}" type="slidenum">
              <a:rPr b="0" lang="es-E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6F7-E442-4BC0-9595-0E6F895B6A07}" type="slidenum">
              <a:rPr b="0" lang="es-E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261-E843-484A-B688-3C81829E3002}" type="slidenum">
              <a:rPr b="0" lang="es-ES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7" descr="fuegoarboles"/>
          <p:cNvPicPr/>
          <p:nvPr/>
        </p:nvPicPr>
        <p:blipFill>
          <a:blip r:embed="rId1"/>
          <a:stretch/>
        </p:blipFill>
        <p:spPr>
          <a:xfrm>
            <a:off x="6983280" y="4214880"/>
            <a:ext cx="2160720" cy="16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2" name="Picture 27" descr="fl_02___brazil___charcoal_kiln"/>
          <p:cNvPicPr/>
          <p:nvPr/>
        </p:nvPicPr>
        <p:blipFill>
          <a:blip r:embed="rId2"/>
          <a:stretch/>
        </p:blipFill>
        <p:spPr>
          <a:xfrm>
            <a:off x="5376960" y="3071880"/>
            <a:ext cx="1981080" cy="16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54" descr="desforestacion"/>
          <p:cNvPicPr/>
          <p:nvPr/>
        </p:nvPicPr>
        <p:blipFill>
          <a:blip r:embed="rId3"/>
          <a:stretch/>
        </p:blipFill>
        <p:spPr>
          <a:xfrm>
            <a:off x="3571920" y="2000160"/>
            <a:ext cx="202716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37"/>
          <p:cNvSpPr/>
          <p:nvPr/>
        </p:nvSpPr>
        <p:spPr>
          <a:xfrm>
            <a:off x="0" y="614376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c5d1d7"/>
                </a:solidFill>
                <a:latin typeface="Arial"/>
              </a:rPr>
              <a:t>educción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c5d1d7"/>
                </a:solidFill>
                <a:latin typeface="Arial"/>
              </a:rPr>
              <a:t>misiones p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c5d1d7"/>
                </a:solidFill>
                <a:latin typeface="Arial"/>
              </a:rPr>
              <a:t>eforestación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c5d1d7"/>
                </a:solidFill>
                <a:latin typeface="Arial"/>
              </a:rPr>
              <a:t>egradac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9"/>
          <p:cNvSpPr/>
          <p:nvPr/>
        </p:nvSpPr>
        <p:spPr>
          <a:xfrm>
            <a:off x="6066000" y="205920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rcos Rugnitz Tito, M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1792440" y="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5d1d7"/>
                </a:solidFill>
                <a:latin typeface="Arial"/>
              </a:rPr>
              <a:t>Diseñando Esquemas de Pago y Compensación por Servicios Ambientales en la Amazonia Peru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6493680" y="107460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c5d1d7"/>
                </a:solidFill>
                <a:latin typeface="Arial"/>
              </a:rPr>
              <a:t>Iquitos, </a:t>
            </a:r>
            <a:r>
              <a:rPr b="1" lang="es-ES_tradnl" sz="1600" spc="-1" strike="noStrike">
                <a:solidFill>
                  <a:srgbClr val="c5d1d7"/>
                </a:solidFill>
                <a:latin typeface="Arial"/>
              </a:rPr>
              <a:t>3 de Octubre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7" descr="desmatamento"/>
          <p:cNvPicPr/>
          <p:nvPr/>
        </p:nvPicPr>
        <p:blipFill>
          <a:blip r:embed="rId4"/>
          <a:stretch/>
        </p:blipFill>
        <p:spPr>
          <a:xfrm>
            <a:off x="1978200" y="785880"/>
            <a:ext cx="216504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16" descr="desmatamento01"/>
          <p:cNvPicPr/>
          <p:nvPr/>
        </p:nvPicPr>
        <p:blipFill>
          <a:blip r:embed="rId5"/>
          <a:stretch/>
        </p:blipFill>
        <p:spPr>
          <a:xfrm>
            <a:off x="0" y="0"/>
            <a:ext cx="2143080" cy="16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0" name="Picture 25" descr="geog_paises_costamarfil5"/>
          <p:cNvPicPr/>
          <p:nvPr/>
        </p:nvPicPr>
        <p:blipFill>
          <a:blip r:embed="rId6"/>
          <a:stretch/>
        </p:blipFill>
        <p:spPr>
          <a:xfrm>
            <a:off x="2000160" y="3071880"/>
            <a:ext cx="2143080" cy="16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1" name="Picture 29" descr="fl_18___brazil___clearing_logs"/>
          <p:cNvPicPr/>
          <p:nvPr/>
        </p:nvPicPr>
        <p:blipFill>
          <a:blip r:embed="rId7"/>
          <a:stretch/>
        </p:blipFill>
        <p:spPr>
          <a:xfrm>
            <a:off x="0" y="2000160"/>
            <a:ext cx="21430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1"/>
          <p:cNvSpPr/>
          <p:nvPr/>
        </p:nvSpPr>
        <p:spPr>
          <a:xfrm>
            <a:off x="2292480" y="1500480"/>
            <a:ext cx="223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3 Rectángulo"/>
          <p:cNvSpPr/>
          <p:nvPr/>
        </p:nvSpPr>
        <p:spPr>
          <a:xfrm>
            <a:off x="7007400" y="646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5d1d7"/>
                </a:solidFill>
                <a:latin typeface="Arial"/>
              </a:rPr>
              <a:t>Sub-taller </a:t>
            </a:r>
            <a:r>
              <a:rPr b="1" lang="es-ES_tradnl" sz="1800" spc="-1" strike="noStrike">
                <a:solidFill>
                  <a:srgbClr val="c5d1d7"/>
                </a:solidFill>
                <a:latin typeface="Arial"/>
              </a:rPr>
              <a:t>: RE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4 Rectángulo"/>
          <p:cNvSpPr/>
          <p:nvPr/>
        </p:nvSpPr>
        <p:spPr>
          <a:xfrm>
            <a:off x="5915880" y="2344680"/>
            <a:ext cx="30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sorcio Iniciativa Amazô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CRA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5 Rectángulo"/>
          <p:cNvSpPr/>
          <p:nvPr/>
        </p:nvSpPr>
        <p:spPr>
          <a:xfrm>
            <a:off x="0" y="50720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5d1d7"/>
                </a:solidFill>
                <a:latin typeface="Arial"/>
              </a:rPr>
              <a:t>Conceptos generales, oportunidades para la Amazonía y beneficios para poblaciones loc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5c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 Rectángulo"/>
          <p:cNvSpPr/>
          <p:nvPr/>
        </p:nvSpPr>
        <p:spPr>
          <a:xfrm>
            <a:off x="3017160" y="586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ia de Costa 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2 Rectángulo"/>
          <p:cNvSpPr/>
          <p:nvPr/>
        </p:nvSpPr>
        <p:spPr>
          <a:xfrm>
            <a:off x="0" y="7142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3 –inicia iniciativa en Implementación Conjunta Estados Unidos (USIC), programa voluntario pilo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3 Rectángulo"/>
          <p:cNvSpPr/>
          <p:nvPr/>
        </p:nvSpPr>
        <p:spPr>
          <a:xfrm>
            <a:off x="0" y="344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 a 1999 - Costa Rica: siete proyectos USIC aprob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4 Rectángulo"/>
          <p:cNvSpPr/>
          <p:nvPr/>
        </p:nvSpPr>
        <p:spPr>
          <a:xfrm>
            <a:off x="642960" y="207180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sta Rica instrumento financiero innovador Certificado de Mitigación de Emisiones de Carbono (CT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5 Rectángulo"/>
          <p:cNvSpPr/>
          <p:nvPr/>
        </p:nvSpPr>
        <p:spPr>
          <a:xfrm>
            <a:off x="1143000" y="264312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onus de 20 a</a:t>
            </a: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ñ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s; transacciones entre gobiernos da Noruega e Costa 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6 Rectángulo"/>
          <p:cNvSpPr/>
          <p:nvPr/>
        </p:nvSpPr>
        <p:spPr>
          <a:xfrm>
            <a:off x="1143000" y="2928960"/>
            <a:ext cx="67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bstituidos por Certificados de Reducción de Emisiones (C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7 Rectángulo"/>
          <p:cNvSpPr/>
          <p:nvPr/>
        </p:nvSpPr>
        <p:spPr>
          <a:xfrm>
            <a:off x="0" y="1714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5 – Oficina Costarricense para Implementação Conjunta (OCIC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13 Rectángulo"/>
          <p:cNvSpPr/>
          <p:nvPr/>
        </p:nvSpPr>
        <p:spPr>
          <a:xfrm>
            <a:off x="0" y="1305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5 (1 CoP) – Nuevo concepto: Actividades de Implementación Conjunta (AI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14 Tabla" descr=""/>
          <p:cNvPicPr/>
          <p:nvPr/>
        </p:nvPicPr>
        <p:blipFill>
          <a:blip r:embed="rId1"/>
          <a:stretch/>
        </p:blipFill>
        <p:spPr>
          <a:xfrm>
            <a:off x="55440" y="3780000"/>
            <a:ext cx="8813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5c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 Rectángulo"/>
          <p:cNvSpPr/>
          <p:nvPr/>
        </p:nvSpPr>
        <p:spPr>
          <a:xfrm>
            <a:off x="642960" y="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 que esta pasando en Costa 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18 Rectángulo"/>
          <p:cNvSpPr/>
          <p:nvPr/>
        </p:nvSpPr>
        <p:spPr>
          <a:xfrm>
            <a:off x="0" y="59040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volución: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bsídio Forestal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6" name="19 Conector recto de flecha"/>
          <p:cNvCxnSpPr/>
          <p:nvPr/>
        </p:nvCxnSpPr>
        <p:spPr>
          <a:xfrm>
            <a:off x="3954600" y="804960"/>
            <a:ext cx="1046880" cy="2160"/>
          </a:xfrm>
          <a:prstGeom prst="straightConnector1">
            <a:avLst/>
          </a:prstGeom>
          <a:ln w="57240">
            <a:solidFill>
              <a:srgbClr val="ff0900"/>
            </a:solidFill>
            <a:miter/>
            <a:tailEnd len="med" type="arrow" w="med"/>
          </a:ln>
        </p:spPr>
      </p:cxnSp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71280" y="1028880"/>
            <a:ext cx="4500720" cy="3043080"/>
          </a:xfrm>
          <a:prstGeom prst="rect">
            <a:avLst/>
          </a:prstGeom>
          <a:ln w="0">
            <a:noFill/>
          </a:ln>
        </p:spPr>
      </p:pic>
      <p:sp>
        <p:nvSpPr>
          <p:cNvPr id="368" name="22 Rectángulo"/>
          <p:cNvSpPr/>
          <p:nvPr/>
        </p:nvSpPr>
        <p:spPr>
          <a:xfrm>
            <a:off x="0" y="408132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nte: Landell-Mills and Porras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23 Rectángulo"/>
          <p:cNvSpPr/>
          <p:nvPr/>
        </p:nvSpPr>
        <p:spPr>
          <a:xfrm>
            <a:off x="4572000" y="100008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odalidades de atividades elegíve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403880" cy="1928880"/>
          </a:xfrm>
          <a:prstGeom prst="rect">
            <a:avLst/>
          </a:prstGeom>
          <a:ln w="0">
            <a:noFill/>
          </a:ln>
        </p:spPr>
      </p:pic>
      <p:sp>
        <p:nvSpPr>
          <p:cNvPr id="371" name="25 Rectángulo"/>
          <p:cNvSpPr/>
          <p:nvPr/>
        </p:nvSpPr>
        <p:spPr>
          <a:xfrm>
            <a:off x="7072200" y="314316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nte: FONAFIFO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26 Tabla" descr=""/>
          <p:cNvPicPr/>
          <p:nvPr/>
        </p:nvPicPr>
        <p:blipFill>
          <a:blip r:embed="rId3"/>
          <a:stretch/>
        </p:blipFill>
        <p:spPr>
          <a:xfrm>
            <a:off x="3773520" y="4559400"/>
            <a:ext cx="5383080" cy="2377800"/>
          </a:xfrm>
          <a:prstGeom prst="rect">
            <a:avLst/>
          </a:prstGeom>
          <a:ln w="0">
            <a:noFill/>
          </a:ln>
        </p:spPr>
      </p:pic>
      <p:sp>
        <p:nvSpPr>
          <p:cNvPr id="373" name="27 Rectángulo"/>
          <p:cNvSpPr/>
          <p:nvPr/>
        </p:nvSpPr>
        <p:spPr>
          <a:xfrm>
            <a:off x="4071960" y="4357800"/>
            <a:ext cx="507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alores por hectare pelo programa de P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28 Rectángulo"/>
          <p:cNvSpPr/>
          <p:nvPr/>
        </p:nvSpPr>
        <p:spPr>
          <a:xfrm>
            <a:off x="2000160" y="621504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nte: FONAFIFO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29 Rectángulo"/>
          <p:cNvSpPr/>
          <p:nvPr/>
        </p:nvSpPr>
        <p:spPr>
          <a:xfrm>
            <a:off x="1071720" y="6396120"/>
            <a:ext cx="27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( * )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Valor pagar por arvore plan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(**) Atividades finalizadas 2002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7 Rectángulo"/>
          <p:cNvSpPr/>
          <p:nvPr/>
        </p:nvSpPr>
        <p:spPr>
          <a:xfrm>
            <a:off x="3857760" y="2571840"/>
            <a:ext cx="528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lorestas Amazónic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rasileira: 60% das florestas nativas do país; (85%) da produção florestal nativa de madeira do país.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42920" y="919080"/>
            <a:ext cx="3500280" cy="2890800"/>
          </a:xfrm>
          <a:prstGeom prst="rect">
            <a:avLst/>
          </a:prstGeom>
          <a:ln w="0">
            <a:noFill/>
          </a:ln>
        </p:spPr>
      </p:pic>
      <p:sp>
        <p:nvSpPr>
          <p:cNvPr id="378" name="10 Rectángulo"/>
          <p:cNvSpPr/>
          <p:nvPr/>
        </p:nvSpPr>
        <p:spPr>
          <a:xfrm>
            <a:off x="95400" y="642960"/>
            <a:ext cx="267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egetacion Amazônia Legal, 200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1 Rectángulo"/>
          <p:cNvSpPr/>
          <p:nvPr/>
        </p:nvSpPr>
        <p:spPr>
          <a:xfrm>
            <a:off x="142920" y="3776760"/>
            <a:ext cx="37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Fuente: Inpe (2005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7 Rectángulo"/>
          <p:cNvSpPr/>
          <p:nvPr/>
        </p:nvSpPr>
        <p:spPr>
          <a:xfrm>
            <a:off x="3857760" y="714240"/>
            <a:ext cx="528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sil - 70% das emisiones de GEI Cambio del uso da la  tier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4500720" y="4567320"/>
            <a:ext cx="4643280" cy="2290680"/>
          </a:xfrm>
          <a:prstGeom prst="rect">
            <a:avLst/>
          </a:prstGeom>
          <a:ln w="0">
            <a:noFill/>
          </a:ln>
        </p:spPr>
      </p:pic>
      <p:sp>
        <p:nvSpPr>
          <p:cNvPr id="382" name="20 CuadroTexto"/>
          <p:cNvSpPr/>
          <p:nvPr/>
        </p:nvSpPr>
        <p:spPr>
          <a:xfrm>
            <a:off x="0" y="450072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estion de bosques Publicos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Lei 11.284/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23 Rectángulo"/>
          <p:cNvSpPr/>
          <p:nvPr/>
        </p:nvSpPr>
        <p:spPr>
          <a:xfrm>
            <a:off x="71280" y="4956120"/>
            <a:ext cx="41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osques públicos (tierras devoluptas, Unidades de Conservación o Tierras Indígenas): 66% do territorio Amazón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25 Rectángulo"/>
          <p:cNvSpPr/>
          <p:nvPr/>
        </p:nvSpPr>
        <p:spPr>
          <a:xfrm>
            <a:off x="71280" y="5956200"/>
            <a:ext cx="45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Área total prevista para la concesión: 13 millones de hectáreas (3% do territorio da Amazonía Legal) para 10 anos iníciales da l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11 Rectángulo"/>
          <p:cNvSpPr/>
          <p:nvPr/>
        </p:nvSpPr>
        <p:spPr>
          <a:xfrm>
            <a:off x="3014280" y="586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ia de Bras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12 Rectángulo"/>
          <p:cNvSpPr/>
          <p:nvPr/>
        </p:nvSpPr>
        <p:spPr>
          <a:xfrm>
            <a:off x="3882240" y="178596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orestación: 13 - 14 mil k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añ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13 Rectángulo"/>
          <p:cNvSpPr/>
          <p:nvPr/>
        </p:nvSpPr>
        <p:spPr>
          <a:xfrm>
            <a:off x="3857760" y="2214720"/>
            <a:ext cx="52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otal: 620.000 km2 - 17% Amazônia Legal brasilei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14 Rectángulo"/>
          <p:cNvSpPr/>
          <p:nvPr/>
        </p:nvSpPr>
        <p:spPr>
          <a:xfrm>
            <a:off x="3880080" y="1357200"/>
            <a:ext cx="47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sminución Deforestación del 25% últimos 3 </a:t>
            </a: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ñ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15 Rectángulo"/>
          <p:cNvSpPr/>
          <p:nvPr/>
        </p:nvSpPr>
        <p:spPr>
          <a:xfrm>
            <a:off x="3857760" y="35593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imado: 150 millones de hectáreas de pasturas improductivas y tierra degradad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4619520" y="928800"/>
            <a:ext cx="3310200" cy="1928880"/>
          </a:xfrm>
          <a:prstGeom prst="rect">
            <a:avLst/>
          </a:prstGeom>
          <a:ln w="0">
            <a:noFill/>
          </a:ln>
        </p:spPr>
      </p:pic>
      <p:sp>
        <p:nvSpPr>
          <p:cNvPr id="391" name="7 Rectángulo"/>
          <p:cNvSpPr/>
          <p:nvPr/>
        </p:nvSpPr>
        <p:spPr>
          <a:xfrm>
            <a:off x="6715080" y="285768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nte: Shigeo Shi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85920" y="928800"/>
            <a:ext cx="3263760" cy="1904760"/>
          </a:xfrm>
          <a:prstGeom prst="rect">
            <a:avLst/>
          </a:prstGeom>
          <a:ln w="0">
            <a:noFill/>
          </a:ln>
        </p:spPr>
      </p:pic>
      <p:sp>
        <p:nvSpPr>
          <p:cNvPr id="393" name="12 Rectángulo"/>
          <p:cNvSpPr/>
          <p:nvPr/>
        </p:nvSpPr>
        <p:spPr>
          <a:xfrm>
            <a:off x="0" y="57168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ama de Servicios Ambientales PROAMBIEN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16 Rectángulo"/>
          <p:cNvSpPr/>
          <p:nvPr/>
        </p:nvSpPr>
        <p:spPr>
          <a:xfrm>
            <a:off x="642960" y="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 que esta pasando en 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2500200" y="2540160"/>
            <a:ext cx="4238640" cy="3895560"/>
          </a:xfrm>
          <a:prstGeom prst="rect">
            <a:avLst/>
          </a:prstGeom>
          <a:ln w="0">
            <a:noFill/>
          </a:ln>
        </p:spPr>
      </p:pic>
      <p:sp>
        <p:nvSpPr>
          <p:cNvPr id="396" name="3 Rectángulo"/>
          <p:cNvSpPr/>
          <p:nvPr/>
        </p:nvSpPr>
        <p:spPr>
          <a:xfrm>
            <a:off x="214200" y="4540320"/>
            <a:ext cx="3714840" cy="22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 Ação Contra Aquecimento Global em Guaraqueçaba, P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ip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florestamento, restauração 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teção florestal conservacionist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Área de Proteção Ambiental (APA) de Guaraqueça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anciado pela American Electric Power e executado pela ONG ambientalista local, SPVS, em parceria com a TNC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jetivo: fixar, um milhão t C em 40 an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4 Rectángulo"/>
          <p:cNvSpPr/>
          <p:nvPr/>
        </p:nvSpPr>
        <p:spPr>
          <a:xfrm>
            <a:off x="5572080" y="71280"/>
            <a:ext cx="3286080" cy="307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 Seqüestro do Carbono na Ilha do Bananal (PSCIB), 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teção de 200.000 ha de floresta (Parque Nacional do Araguai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generação de 60.000 ha de cerrado degradado (Parque Estadual do Cantã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lantação de 3.000 ha de SAF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áter experimental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anciado pela AES Barry Foun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lementado pelo Instituto Ecológ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jetivo central: formatação de projetos florestais de carbono competitivos com cunho soci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5 Rectángulo"/>
          <p:cNvSpPr/>
          <p:nvPr/>
        </p:nvSpPr>
        <p:spPr>
          <a:xfrm>
            <a:off x="4901040" y="646920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Fonte:Chang Man Y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8 Conector recto de flecha"/>
          <p:cNvCxnSpPr/>
          <p:nvPr/>
        </p:nvCxnSpPr>
        <p:spPr>
          <a:xfrm flipV="1">
            <a:off x="4999680" y="3182040"/>
            <a:ext cx="572040" cy="1072440"/>
          </a:xfrm>
          <a:prstGeom prst="straightConnector1">
            <a:avLst/>
          </a:prstGeom>
          <a:ln w="28440">
            <a:solidFill>
              <a:srgbClr val="ff0900"/>
            </a:solidFill>
            <a:miter/>
            <a:tailEnd len="med" type="triangle" w="med"/>
          </a:ln>
        </p:spPr>
      </p:cxnSp>
      <p:cxnSp>
        <p:nvCxnSpPr>
          <p:cNvPr id="400" name="10 Conector recto de flecha"/>
          <p:cNvCxnSpPr/>
          <p:nvPr/>
        </p:nvCxnSpPr>
        <p:spPr>
          <a:xfrm flipH="1" flipV="1">
            <a:off x="3928320" y="5540040"/>
            <a:ext cx="1143720" cy="2160"/>
          </a:xfrm>
          <a:prstGeom prst="straightConnector1">
            <a:avLst/>
          </a:prstGeom>
          <a:ln w="28440">
            <a:solidFill>
              <a:srgbClr val="ff0900"/>
            </a:solidFill>
            <a:miter/>
            <a:tailEnd len="med" type="triangle" w="med"/>
          </a:ln>
        </p:spPr>
      </p:cxnSp>
      <p:sp>
        <p:nvSpPr>
          <p:cNvPr id="401" name="9 Rectángulo"/>
          <p:cNvSpPr/>
          <p:nvPr/>
        </p:nvSpPr>
        <p:spPr>
          <a:xfrm>
            <a:off x="214200" y="78588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periências Sector Priv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34 Rectángulo"/>
          <p:cNvSpPr/>
          <p:nvPr/>
        </p:nvSpPr>
        <p:spPr>
          <a:xfrm>
            <a:off x="0" y="1071720"/>
            <a:ext cx="88581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rogramas impuestos desde arriba hacia 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yor control del Estado y de los “expertos” sobre los bos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delos de conservación del bosque antipopulares y excluyent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olación de derechos consuetudinarios sobre las tierras y los territo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justa identificación de pueblos como “agentes” de la defores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igualdad y Conflictos entre beneficiarios y no beneficia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rrupción y malversación de fondos inter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atos desiguales y abusivos con las comun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peculación de bienes raí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flictos por la tier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visión del bosque en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36 Rectángulo"/>
          <p:cNvSpPr/>
          <p:nvPr/>
        </p:nvSpPr>
        <p:spPr>
          <a:xfrm>
            <a:off x="0" y="6429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esgos -  ¿Que debemos espera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6 CuadroTexto"/>
          <p:cNvSpPr/>
          <p:nvPr/>
        </p:nvSpPr>
        <p:spPr>
          <a:xfrm>
            <a:off x="7128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ffffff"/>
                </a:solidFill>
                <a:latin typeface="Arial"/>
              </a:rPr>
              <a:t>Fuente: Griffiths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21 Rectángulo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ctos Sociales - RE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4" descr="00093_1"/>
          <p:cNvPicPr/>
          <p:nvPr/>
        </p:nvPicPr>
        <p:blipFill>
          <a:blip r:embed="rId1"/>
          <a:stretch/>
        </p:blipFill>
        <p:spPr>
          <a:xfrm>
            <a:off x="6696000" y="3000240"/>
            <a:ext cx="2448000" cy="1827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07" name="Picture 26" descr="desertificacion"/>
          <p:cNvPicPr/>
          <p:nvPr/>
        </p:nvPicPr>
        <p:blipFill>
          <a:blip r:embed="rId2"/>
          <a:stretch/>
        </p:blipFill>
        <p:spPr>
          <a:xfrm>
            <a:off x="4500720" y="4836960"/>
            <a:ext cx="2182680" cy="1990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08" name="Picture 29" descr="image005"/>
          <p:cNvPicPr/>
          <p:nvPr/>
        </p:nvPicPr>
        <p:blipFill>
          <a:blip r:embed="rId3"/>
          <a:stretch/>
        </p:blipFill>
        <p:spPr>
          <a:xfrm>
            <a:off x="6688080" y="4827600"/>
            <a:ext cx="2455920" cy="1990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6 Rectángulo"/>
          <p:cNvSpPr/>
          <p:nvPr/>
        </p:nvSpPr>
        <p:spPr>
          <a:xfrm>
            <a:off x="0" y="1000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rices para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blación de recursos esca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7 Rectángulo"/>
          <p:cNvSpPr/>
          <p:nvPr/>
        </p:nvSpPr>
        <p:spPr>
          <a:xfrm>
            <a:off x="383400" y="1500120"/>
            <a:ext cx="46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alizar los derechos de la propriedad de tier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8 Rectángulo"/>
          <p:cNvSpPr/>
          <p:nvPr/>
        </p:nvSpPr>
        <p:spPr>
          <a:xfrm>
            <a:off x="466560" y="1909800"/>
            <a:ext cx="50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finir biens y servicios de acuerdo con cada re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9 Rectángulo"/>
          <p:cNvSpPr/>
          <p:nvPr/>
        </p:nvSpPr>
        <p:spPr>
          <a:xfrm>
            <a:off x="377640" y="233856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blecer centro de apoyo al merc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10 Rectángulo"/>
          <p:cNvSpPr/>
          <p:nvPr/>
        </p:nvSpPr>
        <p:spPr>
          <a:xfrm>
            <a:off x="374400" y="276696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version en capacitación y educac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Rectángulo"/>
          <p:cNvSpPr/>
          <p:nvPr/>
        </p:nvSpPr>
        <p:spPr>
          <a:xfrm>
            <a:off x="357120" y="319572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talecimiento de las instituiciones cooper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Rectángulo"/>
          <p:cNvSpPr/>
          <p:nvPr/>
        </p:nvSpPr>
        <p:spPr>
          <a:xfrm>
            <a:off x="374040" y="362412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jorar el aceso al financiamien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13 Rectángulo"/>
          <p:cNvSpPr/>
          <p:nvPr/>
        </p:nvSpPr>
        <p:spPr>
          <a:xfrm>
            <a:off x="438480" y="3981600"/>
            <a:ext cx="41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mentar una maior representacion polít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14 Rectángulo"/>
          <p:cNvSpPr/>
          <p:nvPr/>
        </p:nvSpPr>
        <p:spPr>
          <a:xfrm>
            <a:off x="371880" y="441000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nimizar costos de transicc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9" descr="Zenia1x"/>
          <p:cNvPicPr/>
          <p:nvPr/>
        </p:nvPicPr>
        <p:blipFill>
          <a:blip r:embed="rId1"/>
          <a:stretch/>
        </p:blipFill>
        <p:spPr>
          <a:xfrm>
            <a:off x="6357960" y="571680"/>
            <a:ext cx="2152800" cy="1430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19" name="Picture 31" descr="fl_16___brazil___clearing_logs"/>
          <p:cNvPicPr/>
          <p:nvPr/>
        </p:nvPicPr>
        <p:blipFill>
          <a:blip r:embed="rId2"/>
          <a:stretch/>
        </p:blipFill>
        <p:spPr>
          <a:xfrm>
            <a:off x="6357960" y="1998720"/>
            <a:ext cx="2152800" cy="1430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20" name="Picture 33" descr="fl_24___brazil___freed_forced_labourers"/>
          <p:cNvPicPr/>
          <p:nvPr/>
        </p:nvPicPr>
        <p:blipFill>
          <a:blip r:embed="rId3"/>
          <a:stretch/>
        </p:blipFill>
        <p:spPr>
          <a:xfrm>
            <a:off x="6357960" y="3429000"/>
            <a:ext cx="2152800" cy="1544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21" name="Picture 35" descr="fl_20___brazil___labourer"/>
          <p:cNvPicPr/>
          <p:nvPr/>
        </p:nvPicPr>
        <p:blipFill>
          <a:blip r:embed="rId4"/>
          <a:stretch/>
        </p:blipFill>
        <p:spPr>
          <a:xfrm>
            <a:off x="6367320" y="4981680"/>
            <a:ext cx="2152800" cy="151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22" name="21 Rectángulo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ctos Sociales - RE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5" descr=""/>
          <p:cNvPicPr/>
          <p:nvPr/>
        </p:nvPicPr>
        <p:blipFill>
          <a:blip r:embed="rId1"/>
          <a:stretch/>
        </p:blipFill>
        <p:spPr>
          <a:xfrm>
            <a:off x="0" y="3691080"/>
            <a:ext cx="9144000" cy="3024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"/>
          <p:cNvPicPr/>
          <p:nvPr/>
        </p:nvPicPr>
        <p:blipFill>
          <a:blip r:embed="rId2"/>
          <a:stretch/>
        </p:blipFill>
        <p:spPr>
          <a:xfrm>
            <a:off x="6000840" y="193680"/>
            <a:ext cx="3114720" cy="2235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"/>
          <p:cNvPicPr/>
          <p:nvPr/>
        </p:nvPicPr>
        <p:blipFill>
          <a:blip r:embed="rId3"/>
          <a:stretch/>
        </p:blipFill>
        <p:spPr>
          <a:xfrm>
            <a:off x="3033720" y="192240"/>
            <a:ext cx="2967120" cy="22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8" descr=""/>
          <p:cNvPicPr/>
          <p:nvPr/>
        </p:nvPicPr>
        <p:blipFill>
          <a:blip r:embed="rId4"/>
          <a:stretch/>
        </p:blipFill>
        <p:spPr>
          <a:xfrm>
            <a:off x="0" y="192240"/>
            <a:ext cx="30718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s beneficios de la colaboración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029120" cy="3889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8"/>
          <p:cNvSpPr/>
          <p:nvPr/>
        </p:nvSpPr>
        <p:spPr>
          <a:xfrm>
            <a:off x="2666880" y="41148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642960" y="500076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Feliz tar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5 CuadroTexto"/>
          <p:cNvSpPr/>
          <p:nvPr/>
        </p:nvSpPr>
        <p:spPr>
          <a:xfrm>
            <a:off x="2357280" y="5429160"/>
            <a:ext cx="38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rcos Rugnitz T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tito@cgiar.org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6 CuadroTexto"/>
          <p:cNvSpPr/>
          <p:nvPr/>
        </p:nvSpPr>
        <p:spPr>
          <a:xfrm>
            <a:off x="0" y="61308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sorcio Iniciativa Amazô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http://www.iamazonica.org.br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7 CuadroTexto"/>
          <p:cNvSpPr/>
          <p:nvPr/>
        </p:nvSpPr>
        <p:spPr>
          <a:xfrm>
            <a:off x="4572000" y="613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CRA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http://www.icraf-peru.org/pages/index.ph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14200" y="2071800"/>
            <a:ext cx="5786640" cy="357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ios uso del suelo correspond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 a 25% das emisiones globales de G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3 Rectángulo"/>
          <p:cNvSpPr/>
          <p:nvPr/>
        </p:nvSpPr>
        <p:spPr>
          <a:xfrm>
            <a:off x="142920" y="4214880"/>
            <a:ext cx="65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FCCC y Kyoto no contemplan medidas concretas ni incentivos positivos para reducir la deforestación en los países no-Anexo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8 Rectángulo"/>
          <p:cNvSpPr/>
          <p:nvPr/>
        </p:nvSpPr>
        <p:spPr>
          <a:xfrm>
            <a:off x="214200" y="714240"/>
            <a:ext cx="66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sque representa inmenso estoque de carbono (80-350 ton/h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12 Rectángulo"/>
          <p:cNvSpPr/>
          <p:nvPr/>
        </p:nvSpPr>
        <p:spPr>
          <a:xfrm>
            <a:off x="142920" y="550080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DD: servicio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cossistêmico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3 Rectángulo"/>
          <p:cNvSpPr/>
          <p:nvPr/>
        </p:nvSpPr>
        <p:spPr>
          <a:xfrm>
            <a:off x="142920" y="61628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ribuye a la permanencia de com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 Título"/>
          <p:cNvSpPr/>
          <p:nvPr/>
        </p:nvSpPr>
        <p:spPr>
          <a:xfrm>
            <a:off x="0" y="0"/>
            <a:ext cx="914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¿Porque hablamos del Tema?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5" descr="image005"/>
          <p:cNvPicPr/>
          <p:nvPr/>
        </p:nvPicPr>
        <p:blipFill>
          <a:blip r:embed="rId1"/>
          <a:stretch/>
        </p:blipFill>
        <p:spPr>
          <a:xfrm>
            <a:off x="6786720" y="4964040"/>
            <a:ext cx="2160360" cy="17510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83" name="Picture 14" descr="Grenouille (Agalychnis callidryas), Red-eyed frog (Costa Rica)"/>
          <p:cNvPicPr/>
          <p:nvPr/>
        </p:nvPicPr>
        <p:blipFill>
          <a:blip r:embed="rId2"/>
          <a:stretch/>
        </p:blipFill>
        <p:spPr>
          <a:xfrm>
            <a:off x="6786720" y="3392640"/>
            <a:ext cx="2160360" cy="1574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84" name="Picture 9" descr="sahara%20dust%20cloud"/>
          <p:cNvPicPr/>
          <p:nvPr/>
        </p:nvPicPr>
        <p:blipFill>
          <a:blip r:embed="rId3"/>
          <a:stretch/>
        </p:blipFill>
        <p:spPr>
          <a:xfrm>
            <a:off x="6786720" y="749160"/>
            <a:ext cx="2160360" cy="2633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85" name="14 CuadroTexto"/>
          <p:cNvSpPr/>
          <p:nvPr/>
        </p:nvSpPr>
        <p:spPr>
          <a:xfrm>
            <a:off x="214200" y="3071880"/>
            <a:ext cx="60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inoamérica: 200 k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día de defores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2920" y="947520"/>
            <a:ext cx="31860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Franklin Gothic Book"/>
              </a:rPr>
              <a:t>Meta Análisis 152 Estudios de Caso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4 Rectángulo"/>
          <p:cNvSpPr/>
          <p:nvPr/>
        </p:nvSpPr>
        <p:spPr>
          <a:xfrm>
            <a:off x="1618920" y="123336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Geist and Lambin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8"/>
          <p:cNvGraphicFramePr/>
          <p:nvPr/>
        </p:nvGraphicFramePr>
        <p:xfrm>
          <a:off x="3890880" y="4071960"/>
          <a:ext cx="532440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4071960"/>
                    <a:ext cx="5324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0" y="1714680"/>
            <a:ext cx="3535200" cy="2357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4"/>
          <a:stretch/>
        </p:blipFill>
        <p:spPr>
          <a:xfrm>
            <a:off x="3571920" y="785880"/>
            <a:ext cx="5551560" cy="3286080"/>
          </a:xfrm>
          <a:prstGeom prst="rect">
            <a:avLst/>
          </a:prstGeom>
          <a:ln w="0">
            <a:noFill/>
          </a:ln>
        </p:spPr>
      </p:pic>
      <p:sp>
        <p:nvSpPr>
          <p:cNvPr id="292" name="1 Título"/>
          <p:cNvSpPr/>
          <p:nvPr/>
        </p:nvSpPr>
        <p:spPr>
          <a:xfrm>
            <a:off x="-142920" y="142920"/>
            <a:ext cx="93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Franklin Gothic Book"/>
              </a:rPr>
              <a:t>Comprender causas de la deforestación antes de establecer compromis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816680" y="641664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Cattle ranch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Road develop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5" descr="pr_IncendioForestal"/>
          <p:cNvPicPr/>
          <p:nvPr/>
        </p:nvPicPr>
        <p:blipFill>
          <a:blip r:embed="rId5"/>
          <a:stretch/>
        </p:blipFill>
        <p:spPr>
          <a:xfrm>
            <a:off x="0" y="4143240"/>
            <a:ext cx="3900600" cy="2714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1280" y="85680"/>
            <a:ext cx="4000680" cy="3557520"/>
          </a:xfrm>
          <a:prstGeom prst="rect">
            <a:avLst/>
          </a:prstGeom>
          <a:ln w="0">
            <a:noFill/>
          </a:ln>
        </p:spPr>
      </p:pic>
      <p:sp>
        <p:nvSpPr>
          <p:cNvPr id="296" name="12 CuadroTexto"/>
          <p:cNvSpPr/>
          <p:nvPr/>
        </p:nvSpPr>
        <p:spPr>
          <a:xfrm>
            <a:off x="0" y="3643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ffffff"/>
                </a:solidFill>
                <a:latin typeface="Arial"/>
              </a:rPr>
              <a:t>Thelma krug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15 Rectángulo"/>
          <p:cNvSpPr/>
          <p:nvPr/>
        </p:nvSpPr>
        <p:spPr>
          <a:xfrm>
            <a:off x="4143240" y="255276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VET SAFs Caucho: US$ 1090/h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16 Rectángulo"/>
          <p:cNvSpPr/>
          <p:nvPr/>
        </p:nvSpPr>
        <p:spPr>
          <a:xfrm>
            <a:off x="4143240" y="14292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Haciendo Números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17 Rectángulo"/>
          <p:cNvSpPr/>
          <p:nvPr/>
        </p:nvSpPr>
        <p:spPr>
          <a:xfrm>
            <a:off x="4143240" y="2838600"/>
            <a:ext cx="27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bajo: 150 días/ha/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18 Rectángulo"/>
          <p:cNvSpPr/>
          <p:nvPr/>
        </p:nvSpPr>
        <p:spPr>
          <a:xfrm>
            <a:off x="4143240" y="3124080"/>
            <a:ext cx="5000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Costo del Carbono Convertido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US$ 7.5 ton C (US$ 2 ton CO</a:t>
            </a:r>
            <a:r>
              <a:rPr b="0" lang="es-C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20 Rectángulo"/>
          <p:cNvSpPr/>
          <p:nvPr/>
        </p:nvSpPr>
        <p:spPr>
          <a:xfrm>
            <a:off x="4143240" y="968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Costos de establecimiento Pasturas LA: US$ 267/h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21 Rectángulo"/>
          <p:cNvSpPr/>
          <p:nvPr/>
        </p:nvSpPr>
        <p:spPr>
          <a:xfrm>
            <a:off x="4143240" y="1481040"/>
            <a:ext cx="27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bajo: 11 días/ha/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22 Rectángulo"/>
          <p:cNvSpPr/>
          <p:nvPr/>
        </p:nvSpPr>
        <p:spPr>
          <a:xfrm>
            <a:off x="4143240" y="1825560"/>
            <a:ext cx="464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Costo del Carbono Convertido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US$ 0.08 ton C (US$ 0.02 ton CO</a:t>
            </a:r>
            <a:r>
              <a:rPr b="0" lang="es-C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23 Rectángulo"/>
          <p:cNvSpPr/>
          <p:nvPr/>
        </p:nvSpPr>
        <p:spPr>
          <a:xfrm>
            <a:off x="0" y="420228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sque secundario 70% del carbono de los bosques primari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: por cada hectárea destruida se necesita cerca de 1.5 hectáreas de bosque secundar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24 Rectángulo"/>
          <p:cNvSpPr/>
          <p:nvPr/>
        </p:nvSpPr>
        <p:spPr>
          <a:xfrm>
            <a:off x="0" y="5702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¿Cuál es el costo de parar la deforestació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100 billones de Dólares/año (W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25 Rectángulo"/>
          <p:cNvSpPr/>
          <p:nvPr/>
        </p:nvSpPr>
        <p:spPr>
          <a:xfrm>
            <a:off x="4143240" y="6429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asturas LA: US$ 12 a 500/ha (US$ 300/h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27 Imagen" descr="Areas Protegidas na Amazonia Brasileira.tif"/>
          <p:cNvPicPr/>
          <p:nvPr/>
        </p:nvPicPr>
        <p:blipFill>
          <a:blip r:embed="rId2"/>
          <a:stretch/>
        </p:blipFill>
        <p:spPr>
          <a:xfrm>
            <a:off x="5200560" y="3786120"/>
            <a:ext cx="3586320" cy="2928960"/>
          </a:xfrm>
          <a:prstGeom prst="rect">
            <a:avLst/>
          </a:prstGeom>
          <a:ln w="0">
            <a:noFill/>
          </a:ln>
        </p:spPr>
      </p:pic>
      <p:sp>
        <p:nvSpPr>
          <p:cNvPr id="308" name="28 CuadroTexto"/>
          <p:cNvSpPr/>
          <p:nvPr/>
        </p:nvSpPr>
        <p:spPr>
          <a:xfrm>
            <a:off x="6572160" y="664380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ffffff"/>
                </a:solidFill>
                <a:latin typeface="Arial"/>
              </a:rPr>
              <a:t>WWF-Bras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e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Histórico</a:t>
            </a: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REDD en las negociaciones de la UNFCCC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3 Rectángulo"/>
          <p:cNvSpPr/>
          <p:nvPr/>
        </p:nvSpPr>
        <p:spPr>
          <a:xfrm>
            <a:off x="0" y="2786040"/>
            <a:ext cx="65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(COP 11, Montreal) – Regresa a  la pauta de las negociaciones: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puestas: Papúa Nueva Guinea y Costa R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5 Rectángulo"/>
          <p:cNvSpPr/>
          <p:nvPr/>
        </p:nvSpPr>
        <p:spPr>
          <a:xfrm>
            <a:off x="0" y="573120"/>
            <a:ext cx="75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El tema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forestación Evitad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e banido de la discus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6 Rectángulo"/>
          <p:cNvSpPr/>
          <p:nvPr/>
        </p:nvSpPr>
        <p:spPr>
          <a:xfrm>
            <a:off x="0" y="2286000"/>
            <a:ext cx="65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2 a 2004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Estudios y propuestas: campo parale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7 Rectángulo"/>
          <p:cNvSpPr/>
          <p:nvPr/>
        </p:nvSpPr>
        <p:spPr>
          <a:xfrm>
            <a:off x="0" y="342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2006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Roma) – 1° Workshop UNFCCC:</a:t>
            </a:r>
            <a:r>
              <a:rPr b="0" lang="es-E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reducción de emisiones por deforestación en países en desarrollo”: 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no existen impedimentos técn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8 Rectángulo"/>
          <p:cNvSpPr/>
          <p:nvPr/>
        </p:nvSpPr>
        <p:spPr>
          <a:xfrm>
            <a:off x="4786200" y="5572080"/>
            <a:ext cx="43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2007 maio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Bonn, Alemanha) - 26</a:t>
            </a:r>
            <a:r>
              <a:rPr b="0" lang="es-ES" sz="1600" spc="-1" strike="noStrike" baseline="30000">
                <a:solidFill>
                  <a:srgbClr val="ffffff"/>
                </a:solidFill>
                <a:latin typeface="Arial"/>
              </a:rPr>
              <a:t>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união SB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9 Rectángulo"/>
          <p:cNvSpPr/>
          <p:nvPr/>
        </p:nvSpPr>
        <p:spPr>
          <a:xfrm>
            <a:off x="0" y="4734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2007 marzo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Cairns, Australia) - Segundo workshop: discutir las diferentes posiciona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10 Rectángulo"/>
          <p:cNvSpPr/>
          <p:nvPr/>
        </p:nvSpPr>
        <p:spPr>
          <a:xfrm>
            <a:off x="642960" y="890640"/>
            <a:ext cx="59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ncipales Razo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ificultades Metodológica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ransferenci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de tecn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Mercad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beran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6" descr="un accord a Bonn"/>
          <p:cNvPicPr/>
          <p:nvPr/>
        </p:nvPicPr>
        <p:blipFill>
          <a:blip r:embed="rId1"/>
          <a:stretch/>
        </p:blipFill>
        <p:spPr>
          <a:xfrm>
            <a:off x="23760" y="5214960"/>
            <a:ext cx="4713480" cy="1627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8" name="Picture 14" descr="incendio portugal_espeña_2006"/>
          <p:cNvPicPr/>
          <p:nvPr/>
        </p:nvPicPr>
        <p:blipFill>
          <a:blip r:embed="rId2"/>
          <a:stretch/>
        </p:blipFill>
        <p:spPr>
          <a:xfrm>
            <a:off x="6926400" y="503280"/>
            <a:ext cx="1936440" cy="2854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19" name="13 Rectángulo"/>
          <p:cNvSpPr/>
          <p:nvPr/>
        </p:nvSpPr>
        <p:spPr>
          <a:xfrm>
            <a:off x="1071720" y="4019400"/>
            <a:ext cx="74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Reducción de Emisiones derivadas de la Deforestación y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Calibri"/>
              </a:rPr>
              <a:t>Degradación (REDD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e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7092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Franklin Gothic Book"/>
              </a:rPr>
              <a:t>¿RED o RED</a:t>
            </a:r>
            <a:r>
              <a:rPr b="1" lang="es-CR" sz="2000" spc="-1" strike="noStrike">
                <a:solidFill>
                  <a:srgbClr val="ff0000"/>
                </a:solidFill>
                <a:latin typeface="Franklin Gothic Book"/>
              </a:rPr>
              <a:t>D</a:t>
            </a:r>
            <a:r>
              <a:rPr b="1" lang="es-CR" sz="2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3 CuadroTexto"/>
          <p:cNvSpPr/>
          <p:nvPr/>
        </p:nvSpPr>
        <p:spPr>
          <a:xfrm>
            <a:off x="14400" y="257184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Quien se benef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1 Título"/>
          <p:cNvSpPr/>
          <p:nvPr/>
        </p:nvSpPr>
        <p:spPr>
          <a:xfrm>
            <a:off x="5000760" y="2714760"/>
            <a:ext cx="33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RED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1 Título"/>
          <p:cNvSpPr/>
          <p:nvPr/>
        </p:nvSpPr>
        <p:spPr>
          <a:xfrm>
            <a:off x="-71280" y="304956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1 Título"/>
          <p:cNvSpPr/>
          <p:nvPr/>
        </p:nvSpPr>
        <p:spPr>
          <a:xfrm>
            <a:off x="71280" y="3274920"/>
            <a:ext cx="435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aíses con elevadas tasas de Defores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Ej.: Bras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7 CuadroTexto"/>
          <p:cNvSpPr/>
          <p:nvPr/>
        </p:nvSpPr>
        <p:spPr>
          <a:xfrm>
            <a:off x="103680" y="747720"/>
            <a:ext cx="67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Abarcar Bosques </a:t>
            </a:r>
            <a:r>
              <a:rPr b="1" lang="es-CR" sz="1600" spc="-1" strike="noStrike">
                <a:solidFill>
                  <a:srgbClr val="ff0000"/>
                </a:solidFill>
                <a:latin typeface="Arial"/>
              </a:rPr>
              <a:t>Degradados: </a:t>
            </a: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Restauración y Rehabilitación Paisaj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1 Título"/>
          <p:cNvSpPr/>
          <p:nvPr/>
        </p:nvSpPr>
        <p:spPr>
          <a:xfrm>
            <a:off x="4643280" y="3071880"/>
            <a:ext cx="4572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aíses con poca tasa de defores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aíses con grande áreas de bosques degrad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Ej.: Coalición de Países con Bosques Tropi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Banco Mund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9 Rectángulo"/>
          <p:cNvSpPr/>
          <p:nvPr/>
        </p:nvSpPr>
        <p:spPr>
          <a:xfrm>
            <a:off x="71280" y="1104840"/>
            <a:ext cx="821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ifícil medir Degradación: Tecnología de Satélite no tiene Precisión Sufic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¨Castigo a quien viene haciendo lo correcto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roblemas con Adicionalidad y Fu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roblemas con Defin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Evitar Incentivo Perverso: mayor deforestación antes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8" descr="Deforestation"/>
          <p:cNvPicPr/>
          <p:nvPr/>
        </p:nvPicPr>
        <p:blipFill>
          <a:blip r:embed="rId1"/>
          <a:stretch/>
        </p:blipFill>
        <p:spPr>
          <a:xfrm>
            <a:off x="6286680" y="4729320"/>
            <a:ext cx="2857320" cy="2128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29" name="Picture 10" descr=""/>
          <p:cNvPicPr/>
          <p:nvPr/>
        </p:nvPicPr>
        <p:blipFill>
          <a:blip r:embed="rId2"/>
          <a:stretch/>
        </p:blipFill>
        <p:spPr>
          <a:xfrm>
            <a:off x="214200" y="3929040"/>
            <a:ext cx="3940200" cy="2500200"/>
          </a:xfrm>
          <a:prstGeom prst="rect">
            <a:avLst/>
          </a:prstGeom>
          <a:ln w="0">
            <a:noFill/>
          </a:ln>
        </p:spPr>
      </p:pic>
      <p:sp>
        <p:nvSpPr>
          <p:cNvPr id="330" name="12 CuadroTexto"/>
          <p:cNvSpPr/>
          <p:nvPr/>
        </p:nvSpPr>
        <p:spPr>
          <a:xfrm>
            <a:off x="216360" y="635796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ffffff"/>
                </a:solidFill>
                <a:latin typeface="Arial"/>
              </a:rPr>
              <a:t>Souza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e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1 Título"/>
          <p:cNvSpPr/>
          <p:nvPr/>
        </p:nvSpPr>
        <p:spPr>
          <a:xfrm>
            <a:off x="642960" y="13032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anklin Gothic Book"/>
              </a:rPr>
              <a:t>Principales Puntos de Discordância entre Propue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7 Rectángulo"/>
          <p:cNvSpPr/>
          <p:nvPr/>
        </p:nvSpPr>
        <p:spPr>
          <a:xfrm>
            <a:off x="142920" y="1571760"/>
            <a:ext cx="2786040" cy="307080"/>
          </a:xfrm>
          <a:prstGeom prst="rect">
            <a:avLst/>
          </a:prstGeom>
          <a:solidFill>
            <a:srgbClr val="648c6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ública Federativa do Bras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8 Rectángulo"/>
          <p:cNvSpPr/>
          <p:nvPr/>
        </p:nvSpPr>
        <p:spPr>
          <a:xfrm>
            <a:off x="12960" y="785880"/>
            <a:ext cx="35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puestas presentadas al SB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9 Rectángulo"/>
          <p:cNvSpPr/>
          <p:nvPr/>
        </p:nvSpPr>
        <p:spPr>
          <a:xfrm>
            <a:off x="0" y="4500720"/>
            <a:ext cx="49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educción de Emisiones por Degradación Forest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ificultad metodológ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11 Rectángulo"/>
          <p:cNvSpPr/>
          <p:nvPr/>
        </p:nvSpPr>
        <p:spPr>
          <a:xfrm>
            <a:off x="4214880" y="1285920"/>
            <a:ext cx="4786200" cy="733320"/>
          </a:xfrm>
          <a:prstGeom prst="rect">
            <a:avLst/>
          </a:prstGeom>
          <a:solidFill>
            <a:srgbClr val="648c6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olívia em nome da “Coallition for Rainforest Nation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a Rica + Bloco de países Latino-America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bão + Congo em nome da COMIC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12 CuadroTexto"/>
          <p:cNvSpPr/>
          <p:nvPr/>
        </p:nvSpPr>
        <p:spPr>
          <a:xfrm>
            <a:off x="3497040" y="114300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1618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13 Rectángulo"/>
          <p:cNvSpPr/>
          <p:nvPr/>
        </p:nvSpPr>
        <p:spPr>
          <a:xfrm>
            <a:off x="142920" y="2311560"/>
            <a:ext cx="3643200" cy="1073160"/>
          </a:xfrm>
          <a:prstGeom prst="rect">
            <a:avLst/>
          </a:prstGeom>
          <a:solidFill>
            <a:srgbClr val="648c6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Brasil: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ondo (Fiduciario)Voluntário Internacion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compensar países en desarrollo que obtengan éxito en las estrategias pa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14 Rectángulo"/>
          <p:cNvSpPr/>
          <p:nvPr/>
        </p:nvSpPr>
        <p:spPr>
          <a:xfrm>
            <a:off x="4214880" y="2286000"/>
            <a:ext cx="4786200" cy="2297160"/>
          </a:xfrm>
          <a:prstGeom prst="rect">
            <a:avLst/>
          </a:prstGeom>
          <a:solidFill>
            <a:srgbClr val="648c6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Outros Paises: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“Canasta de Instrumentos”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A - Mecanismo de REDD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mesmo escopo da proposta brasileira + inclusão de mercado e vínculo a Anexo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B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-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Fundo de Estabilizaçã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para financiar manutenção de estoques de carbono por conservação de florest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C - Fundo de Adequaçã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preparação e capacitação de países para inclusão nos mecanismos A e B anteriores através de Iniciativas e Projetos – Pilo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16 Rectángulo"/>
          <p:cNvSpPr/>
          <p:nvPr/>
        </p:nvSpPr>
        <p:spPr>
          <a:xfrm>
            <a:off x="0" y="5216400"/>
            <a:ext cx="3500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Permanênci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(Permanence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Fundos de garanti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Mecanismos banc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réditos tempor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19" descr=""/>
          <p:cNvPicPr/>
          <p:nvPr/>
        </p:nvPicPr>
        <p:blipFill>
          <a:blip r:embed="rId1"/>
          <a:stretch/>
        </p:blipFill>
        <p:spPr>
          <a:xfrm>
            <a:off x="4929120" y="4654440"/>
            <a:ext cx="4322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e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3 Tabla" descr=""/>
          <p:cNvPicPr/>
          <p:nvPr/>
        </p:nvPicPr>
        <p:blipFill>
          <a:blip r:embed="rId1"/>
          <a:stretch/>
        </p:blipFill>
        <p:spPr>
          <a:xfrm>
            <a:off x="128520" y="487440"/>
            <a:ext cx="9034560" cy="4468680"/>
          </a:xfrm>
          <a:prstGeom prst="rect">
            <a:avLst/>
          </a:prstGeom>
          <a:ln w="0">
            <a:noFill/>
          </a:ln>
        </p:spPr>
      </p:pic>
      <p:sp>
        <p:nvSpPr>
          <p:cNvPr id="342" name="8 CuadroTexto"/>
          <p:cNvSpPr/>
          <p:nvPr/>
        </p:nvSpPr>
        <p:spPr>
          <a:xfrm>
            <a:off x="146160" y="4857840"/>
            <a:ext cx="17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uente: Cenamo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1 Título"/>
          <p:cNvSpPr/>
          <p:nvPr/>
        </p:nvSpPr>
        <p:spPr>
          <a:xfrm>
            <a:off x="642960" y="13032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Discordancia entre aspectos metodoló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9" descr=""/>
          <p:cNvPicPr/>
          <p:nvPr/>
        </p:nvPicPr>
        <p:blipFill>
          <a:blip r:embed="rId2"/>
          <a:stretch/>
        </p:blipFill>
        <p:spPr>
          <a:xfrm>
            <a:off x="5554800" y="4572000"/>
            <a:ext cx="35892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562120" y="5032440"/>
            <a:ext cx="29386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e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6 Rectángulo"/>
          <p:cNvSpPr/>
          <p:nvPr/>
        </p:nvSpPr>
        <p:spPr>
          <a:xfrm>
            <a:off x="428760" y="1143000"/>
            <a:ext cx="871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rcado de créditos de carbono para RED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rcado de “permutas” sin transacciones financier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agos por Servicios Ambienta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tas de carbono” de proyectos de Comércio de Emisiones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missions Trading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Implementacion Conjunta (Joint Implementatio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7 Rectángulo"/>
          <p:cNvSpPr/>
          <p:nvPr/>
        </p:nvSpPr>
        <p:spPr>
          <a:xfrm>
            <a:off x="2163600" y="2844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postas de Fontes de Financi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8 Rectángulo"/>
          <p:cNvSpPr/>
          <p:nvPr/>
        </p:nvSpPr>
        <p:spPr>
          <a:xfrm>
            <a:off x="0" y="571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uentes de Financiamiento Identificados durante el segund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workshop UNFC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9 Rectángulo"/>
          <p:cNvSpPr/>
          <p:nvPr/>
        </p:nvSpPr>
        <p:spPr>
          <a:xfrm>
            <a:off x="357120" y="4581360"/>
            <a:ext cx="8858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operacion Intern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tribuiciones voluntárias de Gobiernos y ONG’s internaciona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ondos de financiamiento existentes em la UNFCCC (Special Climate Change Fund, Adaptation Fund, GEF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riacion de fondos adicionales en la UNFCC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riacion de tasas en commodities y servicios internacionales emisores de carbo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10 Rectángulo"/>
          <p:cNvSpPr/>
          <p:nvPr/>
        </p:nvSpPr>
        <p:spPr>
          <a:xfrm>
            <a:off x="71280" y="4295880"/>
            <a:ext cx="538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ecanismos no vinculados al Merc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11 Rectángulo"/>
          <p:cNvSpPr/>
          <p:nvPr/>
        </p:nvSpPr>
        <p:spPr>
          <a:xfrm>
            <a:off x="71280" y="857160"/>
            <a:ext cx="31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canismos de Merc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27" descr="niños"/>
          <p:cNvPicPr/>
          <p:nvPr/>
        </p:nvPicPr>
        <p:blipFill>
          <a:blip r:embed="rId1"/>
          <a:stretch/>
        </p:blipFill>
        <p:spPr>
          <a:xfrm>
            <a:off x="4643280" y="2500200"/>
            <a:ext cx="2571840" cy="1784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3" name="Picture 28" descr="aire acondicionado"/>
          <p:cNvPicPr/>
          <p:nvPr/>
        </p:nvPicPr>
        <p:blipFill>
          <a:blip r:embed="rId2"/>
          <a:stretch/>
        </p:blipFill>
        <p:spPr>
          <a:xfrm>
            <a:off x="1785960" y="2509920"/>
            <a:ext cx="2428920" cy="1743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54" name="12 Rectángulo"/>
          <p:cNvSpPr/>
          <p:nvPr/>
        </p:nvSpPr>
        <p:spPr>
          <a:xfrm>
            <a:off x="92160" y="621504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 de Kyoto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4:35:33Z</dcterms:created>
  <dc:creator>MRTito</dc:creator>
  <dc:description/>
  <dc:language>en-US</dc:language>
  <cp:lastModifiedBy>Lauren Delaloye</cp:lastModifiedBy>
  <dcterms:modified xsi:type="dcterms:W3CDTF">2007-10-26T18:12:48Z</dcterms:modified>
  <cp:revision>62</cp:revision>
  <dc:subject/>
  <dc:title>Problemática</dc:title>
</cp:coreProperties>
</file>