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01D-3C0B-4DC6-AB7D-E8F3FB6C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F09-06B5-4D46-AA9A-0937B046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F79-C6D3-4BEA-9376-8EB99888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BBA-57E8-4B51-92F8-ADD34920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44BA-3479-4D36-8B24-99661726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2FE6-F8DC-496C-8585-7B32D65B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E546-C6EE-45FA-80F3-36854538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82A0-20F1-4562-9217-B32ED6A3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42AB-3E1C-4315-93DF-09D8D1C9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8CC7-29DE-4EBD-AB6B-FA0F17C4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C238-0F4E-447A-A30B-143AB2DB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701-ED66-4BE5-BF8D-52EDAEE5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8CB0-720E-4D5F-A179-98D799D3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324B-276F-438C-A444-E733295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8496-034E-45B7-AFE5-B589C1EB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3AD2-3731-43E8-85B3-4F37C633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3D02-D827-4670-93A1-A804ECED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E0E-2DFF-46F6-A29A-5DE2B8A4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A94-2358-4979-BF53-91ACE9B4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9A8-00C9-45C1-8313-D9EAB633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3F5-D755-48EA-A017-EEE78160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EC9-7A23-4BAA-861B-96A3AE1A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C83-9D6E-4F65-96E4-0EEA4D9D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207-B1A5-4594-A901-24F2509F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2785-798A-4C69-B542-024096C285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8970-7C39-4487-BD18-1060ACD3A1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0464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Propuesta para tener un mecanismo de valoración de servicios ambientales fue utilizar el Concepto de Carbono Social, que permita evaluar los beneficios a los compradores y a la misma vez a los que cuidan el medioambiente (los ecosistemas) y deben percibir los beneficios de sus activida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9280" y="1125360"/>
            <a:ext cx="684216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Tahoma"/>
              </a:rPr>
              <a:t>Carbono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Tahoma"/>
              </a:rPr>
              <a:t>Es el carbono absorbido/reducido, considerando acciones que viabilicen y mejoren las condiciones de vida de las comunidades involucradas en proyectos de reducción de emisiones, siendo monitoreadas y evaluadas de forma transparente y participativa, sin degradar la base de recursos exist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00"/>
                </a:solidFill>
                <a:latin typeface="Tahoma"/>
              </a:rPr>
              <a:t>Instituto Ecológica de Palmas,                                    Palmas – Tocantins – Brasil,              www.ecologica.org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189000"/>
            <a:ext cx="8569080" cy="65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onitorea y evalúa los siguiente parámetros: Recursos para la sosten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cursos Naturales. </a:t>
            </a:r>
            <a:r>
              <a:rPr b="1" lang="es-PE" sz="1800" spc="-1" strike="noStrike">
                <a:solidFill>
                  <a:srgbClr val="ffffff"/>
                </a:solidFill>
                <a:latin typeface="Tahoma"/>
              </a:rPr>
              <a:t>Se conservan los procesos que aseguran la biodiversidad en bosques manejados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Recursos de la Biodiversidad. </a:t>
            </a:r>
            <a:r>
              <a:rPr b="1" lang="es-PE" sz="1800" spc="-1" strike="noStrike">
                <a:solidFill>
                  <a:srgbClr val="ffffff"/>
                </a:solidFill>
                <a:latin typeface="Tahoma"/>
              </a:rPr>
              <a:t>Se mantiene el funcionamiento de los ecosistemas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cursos Social. </a:t>
            </a:r>
            <a:r>
              <a:rPr b="1" lang="es-PE" sz="1800" spc="-1" strike="noStrike">
                <a:solidFill>
                  <a:srgbClr val="ffffff"/>
                </a:solidFill>
                <a:latin typeface="Tahoma"/>
              </a:rPr>
              <a:t>Existe participación de la comunidad en los procesos de decisión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cursos Humado. </a:t>
            </a:r>
            <a:r>
              <a:rPr b="1" lang="es-PE" sz="1800" spc="-1" strike="noStrike">
                <a:solidFill>
                  <a:srgbClr val="ffffff"/>
                </a:solidFill>
                <a:latin typeface="Tahoma"/>
              </a:rPr>
              <a:t>Las condiciones de salud, educación, asistencia técnica y ocio son importantes para la ejecución de las actividades de manejo forest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cursos Financiero. </a:t>
            </a:r>
            <a:r>
              <a:rPr b="1" lang="es-PE" sz="1800" spc="-1" strike="noStrike">
                <a:solidFill>
                  <a:srgbClr val="ffffff"/>
                </a:solidFill>
                <a:latin typeface="Tahoma"/>
              </a:rPr>
              <a:t>Existe acceso al crédito, diversidad de la producción y oferta de empleo satisfactorio.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curso Infraestructura.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Tahoma"/>
              </a:rPr>
              <a:t>La infraestructura comunal es adecuada para atender las necesidades de la comunidad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cursos de Carbono. </a:t>
            </a:r>
            <a:r>
              <a:rPr b="1" lang="es-PE" sz="1800" spc="-1" strike="noStrike">
                <a:solidFill>
                  <a:srgbClr val="ffffff"/>
                </a:solidFill>
                <a:latin typeface="Tahoma"/>
              </a:rPr>
              <a:t>El Pago por el servicio ambiental carbono es posible y los costos de transacción no es impedimento para el proyecto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211640" y="692280"/>
            <a:ext cx="0" cy="5329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5640" y="1484280"/>
            <a:ext cx="4608360" cy="439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187280" y="1484280"/>
            <a:ext cx="5689800" cy="410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3141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2701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40360" y="2341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19828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360" y="16225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1262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901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33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Biodi-Nu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72360" y="112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59421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inanc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6021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55832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Infra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bo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1844640"/>
            <a:ext cx="1368360" cy="576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788000" y="2421000"/>
            <a:ext cx="792000" cy="1584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211280" y="400536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842920" y="4365720"/>
            <a:ext cx="1368360" cy="2872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43280" y="2421000"/>
            <a:ext cx="288720" cy="1944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132000" y="184428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1628640"/>
            <a:ext cx="194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076360" y="1989000"/>
            <a:ext cx="1079640" cy="230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211280" y="4292640"/>
            <a:ext cx="86508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268360" y="4797360"/>
            <a:ext cx="1943280" cy="5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268360" y="2204640"/>
            <a:ext cx="71928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987640" y="162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00560" y="0"/>
            <a:ext cx="3943440" cy="5257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4211640" cy="2708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79280" y="587520"/>
            <a:ext cx="5402520" cy="68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A la fecha no se han recibido pagos por servicios ambientales, se están gestiona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Pero la comunidad esta gestionando y recibiendo compens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Difusión de nuevas técnicas de cosecha. Subi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Selección de variedades enanas y altamente produc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Favorecer el transporte y 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Botes para el transpo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Pulpe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Del producto natural al producto estrate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ffff00"/>
                </a:solidFill>
                <a:latin typeface="Tahoma"/>
              </a:rPr>
              <a:t>Aguaje como fruto,  Aceites bloquedores solares, Atioxidantes,  Provitam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580000" y="418464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4643640" cy="3483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796000" y="3987720"/>
            <a:ext cx="3348000" cy="2870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808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348000" y="2813040"/>
            <a:ext cx="5796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549360"/>
            <a:ext cx="820728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Carbono social: impactos sociales de los proyectos REDD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José Mario Barboza de Brito (UFPA),                                      Ricardo Felix Santana (UFPA)                                                        Ángel Alejandro Salazar Vega, Ph. D.                                Coordinador,                                                                              Proyecto Focal Bosques, II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84600" cy="3429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268360" y="2133720"/>
            <a:ext cx="4351680" cy="326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511960" y="4133880"/>
            <a:ext cx="3632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6760" cy="3584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037040" y="3589200"/>
            <a:ext cx="51069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2025720"/>
            <a:ext cx="8496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limate, Community and Biodiversity Standards- de la Alianza CC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1280" y="692280"/>
            <a:ext cx="799308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anismos de Valoración de los Servicios Ambien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eocupación era desarrollar o adoptar mecanismos de valoración de los Servicios Ambientales que permitieran a la misma vez valorar el soporte al desarrollo sostenible de las com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1268280"/>
            <a:ext cx="9143640" cy="5256000"/>
            <a:chOff x="0" y="1268280"/>
            <a:chExt cx="9143640" cy="5256000"/>
          </a:xfrm>
        </p:grpSpPr>
        <p:sp>
          <p:nvSpPr>
            <p:cNvPr id="156" name=""/>
            <p:cNvSpPr/>
            <p:nvPr/>
          </p:nvSpPr>
          <p:spPr>
            <a:xfrm>
              <a:off x="0" y="1268280"/>
              <a:ext cx="9143640" cy="5256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7600" y="1434960"/>
              <a:ext cx="3722040" cy="492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5259600" y="1601640"/>
              <a:ext cx="3398400" cy="45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42640" y="1518480"/>
              <a:ext cx="461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En Loreto se estima que los ecosistemas “aguajales” constituyen 5.64’ h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79280" y="40464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cen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924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osistemas que almacenan cerca de 600 t/ha de C. Principalmente en el suelo debido a la acumulación de MO no descomp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5084640"/>
            <a:ext cx="46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a comunidad de Parinari en la RNPS y sus vecinos están ubicados cerca de casi  1’ de aguaj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476280"/>
            <a:ext cx="460836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scenario (El Proble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a forma de cosecha tradi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Derribando la palmera, dio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Constituye un caso de deforest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Contribuye a una mayor incidencia de radiación solar en el suelo y promueve la emisión de CO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Hace que los individuos cosechables estén cada vez mas lejos de las com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Incrementando los esfuerzos para poder lograr una misma cantidad de cosecha, encareciendo el 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Esto, no tendría significado si no fuera por que!!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3949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0" t="-1532" r="-1501" b="0"/>
          <a:stretch/>
        </p:blipFill>
        <p:spPr>
          <a:xfrm>
            <a:off x="6012000" y="3141720"/>
            <a:ext cx="3132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1:47:54Z</dcterms:created>
  <dc:creator>ERASMO</dc:creator>
  <dc:description/>
  <dc:language>en-US</dc:language>
  <cp:lastModifiedBy>Lauren Delaloye</cp:lastModifiedBy>
  <dcterms:modified xsi:type="dcterms:W3CDTF">2007-10-26T18:14:06Z</dcterms:modified>
  <cp:revision>16</cp:revision>
  <dc:subject/>
  <dc:title>Diapositiva 1</dc:title>
</cp:coreProperties>
</file>