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679E3-3290-4F14-BA7C-B3D3F961E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3E749-EF09-4039-A4C1-4CB46734F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93D7D-CB76-4377-93F3-FE5C3DC0D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A9B10-71F3-4AC9-979A-6EB8CAB36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7123A-CE34-4C42-8C00-96F864B69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4A03F-865D-4665-9862-0F41CDE50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29566-BDD4-470D-90C4-D6E0688FA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85B3F-4E40-4C82-AB5E-743F2676A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83FBD-7F68-411C-8834-2F8EF3C8F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EE29A-60C1-4F6B-B2DE-E2BF46875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F388C-281A-496E-B92D-FE6436DF0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22DFE-195F-41E0-A8FA-F49CAC2B5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08117-A1B8-4B62-B297-376973AC93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Caslon Regular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Caslon Regular"/>
                <a:ea typeface="Times New Roman"/>
              </a:rPr>
              <a:t>Valor da redução compensada do desmatament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Caslon Bold"/>
              </a:rPr>
              <a:t>20.000 km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Caslon Bold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Caslon Bold"/>
              </a:rPr>
              <a:t> y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Caslon Bold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ACaslon Bold"/>
              </a:rPr>
              <a:t>  x 10% = 2.000 km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Caslon Bold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Caslon Bold"/>
              </a:rPr>
              <a:t> y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Caslon Bold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ACaslon Bold"/>
              </a:rPr>
              <a:t> x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Caslon Bold"/>
              </a:rPr>
              <a:t>120t/C/ha =  24.000.000 t/C/ y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Caslon Bold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ACaslon Bold"/>
              </a:rPr>
              <a:t>  x US$20,64 =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Caslon Bold"/>
              </a:rPr>
              <a:t>US$ 495.360.000/an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Caslon Bold"/>
              </a:rPr>
              <a:t>o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Caslon Bold"/>
              </a:rPr>
              <a:t>US$2,47 </a:t>
            </a:r>
            <a:r>
              <a:rPr b="0" lang="en-US" sz="2800" spc="-1" strike="noStrike">
                <a:solidFill>
                  <a:srgbClr val="000000"/>
                </a:solidFill>
                <a:latin typeface="ACaslon Bold"/>
                <a:ea typeface="Times New Roman"/>
              </a:rPr>
              <a:t>bilhões em 5 a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Caslon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Caslon Bold"/>
              </a:rPr>
              <a:t>estimativas da literatura t/C/ha entre 120 - &gt;3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Caslon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Caslon Regular"/>
                <a:ea typeface="Times New Roman"/>
              </a:rPr>
              <a:t>preço</a:t>
            </a:r>
            <a:r>
              <a:rPr b="1" lang="en-US" sz="1800" spc="-1" strike="noStrike">
                <a:solidFill>
                  <a:srgbClr val="000000"/>
                </a:solidFill>
                <a:latin typeface="ACaslon Regular"/>
              </a:rPr>
              <a:t> carbono</a:t>
            </a:r>
            <a:r>
              <a:rPr b="0" lang="en-US" sz="1800" spc="-1" strike="noStrike">
                <a:solidFill>
                  <a:srgbClr val="000000"/>
                </a:solidFill>
                <a:latin typeface="ACaslon Regular"/>
              </a:rPr>
              <a:t>: </a:t>
            </a:r>
            <a:r>
              <a:rPr b="0" lang="en-US" sz="1800" spc="-1" strike="noStrike">
                <a:solidFill>
                  <a:srgbClr val="000000"/>
                </a:solidFill>
                <a:latin typeface="ACaslon Regular"/>
                <a:ea typeface="Times New Roman"/>
              </a:rPr>
              <a:t>média pondera da CER, janeiro 2004 – abril 2005, EU Emissions Trading Scheme (ETS), UK Emissions Trading System US$5,63 t/C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Caslon Regular"/>
                <a:ea typeface="Times New Roman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Caslon Regular"/>
                <a:ea typeface="Times New Roman"/>
              </a:rPr>
              <a:t>* x 3.6666 = US$20,6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Caslon Regular"/>
                <a:ea typeface="Times New Roman"/>
              </a:rPr>
              <a:t>* International Emissions TradingAssociation, “State and Trends of the Carbon Market, 2005”, Washington DC, May 2005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5T21:09:57Z</dcterms:created>
  <dc:creator>Stephan Schwartzman</dc:creator>
  <dc:description/>
  <dc:language>en-US</dc:language>
  <cp:lastModifiedBy> </cp:lastModifiedBy>
  <dcterms:modified xsi:type="dcterms:W3CDTF">2007-11-19T20:40:55Z</dcterms:modified>
  <cp:revision>1</cp:revision>
  <dc:subject/>
  <dc:title> Valor da redução compensada do desmatamento </dc:title>
</cp:coreProperties>
</file>