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1017-44DD-4527-B377-E64266AA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7726-36CC-4FE6-A00A-2513D97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E7B8-62EE-4EC2-AA64-6C84B364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8AB1-F532-41EF-AE14-2917A5A0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2AC-ACC5-4017-84CB-E77C0F79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5CB8-A799-433D-8BDD-243E83C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85EC-060F-46D4-AA3F-66EF538C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097-6BDD-4C77-AF48-8E177E0F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E966-7186-49D6-BD51-D6008BA8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7DFB-7B3F-460F-9B20-19285BD5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9BDB-65D4-4B8F-8B47-2CB4BDC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5694-F2F3-491E-9EDF-76A2F43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DA7B-E389-4948-B064-917EA55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BBE-23A2-486E-A28E-38BE7235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92A8-BD5F-4B47-A679-9442E1F4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154-3E54-4FE4-BD8A-99326E23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EF41-CFB9-42FE-BE0C-2670A682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CFAF-0FCB-4801-B705-F6A796E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888C-96B6-4BC6-999B-F2BE9A0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F192-1644-4271-9288-EC0B54C8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4E8E-64FD-436B-AC61-91053F68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E08D-4C91-4504-B271-8441621F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0035-1FF0-4A33-80CB-A38C909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F999-138D-4C46-9378-4175F52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B26-DC4F-4E05-A26E-F5D64A4B81A5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271C-0C50-43B7-9525-D15B07E42904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El papel de las políticas p</a:t>
            </a:r>
            <a:r>
              <a:rPr b="1" lang="es-CO" sz="4000" spc="-1" strike="noStrike">
                <a:solidFill>
                  <a:srgbClr val="e5e5ff"/>
                </a:solidFill>
                <a:latin typeface="Garamond"/>
                <a:ea typeface="Times New Roman"/>
              </a:rPr>
              <a:t>ú</a:t>
            </a: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blicas en PSA</a:t>
            </a:r>
            <a:br>
              <a:rPr sz="4000"/>
            </a:br>
            <a:br>
              <a:rPr sz="4000"/>
            </a:br>
            <a:r>
              <a:rPr b="0" lang="es-CO" sz="2400" spc="-1" strike="noStrike">
                <a:solidFill>
                  <a:srgbClr val="e5e5ff"/>
                </a:solidFill>
                <a:latin typeface="Garamond"/>
              </a:rPr>
              <a:t>Manuel Rodríguez Becerr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e5e5ff"/>
                </a:solidFill>
                <a:latin typeface="Garamond"/>
              </a:rPr>
              <a:t>Valuing Environmental Service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e5e5ff"/>
                </a:solidFill>
                <a:latin typeface="Garamond"/>
              </a:rPr>
              <a:t>Securing the Natural Capital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e5e5ff"/>
                </a:solidFill>
                <a:latin typeface="Garamond"/>
              </a:rPr>
              <a:t>Present and Future Gen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5e5ff"/>
                </a:solidFill>
                <a:latin typeface="Garamond"/>
              </a:rPr>
              <a:t>The Katoomba Group, Fundação Getulio Var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5e5ff"/>
                </a:solidFill>
                <a:latin typeface="Garamond"/>
              </a:rPr>
              <a:t>Center for Sustainability Studies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5e5ff"/>
                </a:solidFill>
                <a:latin typeface="Garamond"/>
              </a:rPr>
              <a:t>October 3-4, São Paulo, Brazi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000" spc="-1" strike="noStrike">
                <a:solidFill>
                  <a:srgbClr val="e5e5ff"/>
                </a:solidFill>
                <a:latin typeface="Garamond"/>
              </a:rPr>
              <a:t>Política pública: una combinaci</a:t>
            </a: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ó</a:t>
            </a:r>
            <a:r>
              <a:rPr b="1" lang="pt-BR" sz="4000" spc="-1" strike="noStrike">
                <a:solidFill>
                  <a:srgbClr val="e5e5ff"/>
                </a:solidFill>
                <a:latin typeface="Garamond"/>
              </a:rPr>
              <a:t>n de instrumentos y actividades                                                            </a:t>
            </a:r>
            <a:r>
              <a:rPr b="1" lang="pt-BR" sz="3200" spc="-1" strike="noStrike">
                <a:solidFill>
                  <a:srgbClr val="e5e5ff"/>
                </a:solidFill>
                <a:latin typeface="Garamond"/>
              </a:rPr>
              <a:t>(aplicados en diversas dosis)</a:t>
            </a:r>
            <a:r>
              <a:rPr b="1" lang="pt-BR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Regulaci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n direct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dministrativ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con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mic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ducaci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n, investigación e informació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PSA como instrumento de política </a:t>
            </a: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p</a:t>
            </a:r>
            <a:r>
              <a:rPr b="1" lang="pt-BR" sz="4000" spc="-1" strike="noStrike">
                <a:solidFill>
                  <a:srgbClr val="e5e5ff"/>
                </a:solidFill>
                <a:latin typeface="Garamond"/>
              </a:rPr>
              <a:t>ú</a:t>
            </a: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blic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n instrumento </a:t>
            </a: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entre much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Su grado de éxito: debe ser juzgado en el contexto de la po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í</a:t>
            </a: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tica de la cual es uno de los componentes                                                                               –ej: los sistemas masivos de transporte tipo Curitib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A principios de los noventa: exagerado optimismo en torno a los instrumentos económ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Hoy: mayor realis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5e5ff"/>
                </a:solidFill>
                <a:latin typeface="Garamond"/>
              </a:rPr>
              <a:t>PSA: dificultades en su establecimiento e implementaci</a:t>
            </a:r>
            <a:r>
              <a:rPr b="1" lang="es-CO" sz="3600" spc="-1" strike="noStrike">
                <a:solidFill>
                  <a:srgbClr val="e5e5ff"/>
                </a:solidFill>
                <a:latin typeface="Garamond"/>
              </a:rPr>
              <a:t>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mpetencia con el sistema tribut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Imposici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n de m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ú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ltiples objetivos al confundir lo que puede hacer un instrumento y lo que puede hacer una pol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í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tica                                                           –el caso de los PSA y la erradicación de la pobrez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5e5ff"/>
                </a:solidFill>
                <a:latin typeface="Garamond"/>
              </a:rPr>
              <a:t>PSA: dificultades en su establecimiento e implementaci</a:t>
            </a:r>
            <a:r>
              <a:rPr b="1" lang="es-CO" sz="3600" spc="-1" strike="noStrike">
                <a:solidFill>
                  <a:srgbClr val="e5e5ff"/>
                </a:solidFill>
                <a:latin typeface="Garamond"/>
              </a:rPr>
              <a:t>ón al principio del milenio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La demostrada vulnerabilidad de las instituciones ambientales a lo políti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Reformismo y preciosismo leg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ncipiente conciencia ambi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Un entorno internacional desfavo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Vulnerabilidad de las instituciones ambientales a lo político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La capacidad demostrada por el poder ejecutivo para impulsar o hacer retroceder la política ambi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En los setentas y noventas:  el poder ejecutivo de muchos países de AL activo en pro de protección ambi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A principios del milenio: el poder ejecutivo de muchos países de AL no favorable a la protección ambi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La coyuntura internacional no favorece un gran impulso de la política ambiental en muchos países de la regió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Algunos casos de PSA exitosos en América Lat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Brasil: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CMS Ecológi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Costa Rica: pago por servicios ambient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lombia: transferencias del sector eléctrico (en parte dedicadas a la reforestación comunitari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Algunas claves del </a:t>
            </a:r>
            <a:r>
              <a:rPr b="1" lang="es-CO" sz="4000" spc="-1" strike="noStrike">
                <a:solidFill>
                  <a:srgbClr val="e5e5ff"/>
                </a:solidFill>
                <a:latin typeface="Garamond"/>
              </a:rPr>
              <a:t>é</a:t>
            </a: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xi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Instrumentos com alta jerarquía juríd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os de ellos iniciados a nivel sub-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Instrumentos focaliz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vance increm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Utilizaci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ó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n de las ventanas de oportunidad típicas de una institucionalidad vulnerable a lo polític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Claves para su consolidaci</a:t>
            </a: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ó</a:t>
            </a: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mo lograr reducir la distancia entre lo logrado en la implementaci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n y lo planteado en la formulaci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ó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n de la politica contentiva del PS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n b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ú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queda de la congruencia entre:                              Ley, Moral y Cul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14:21:12Z</dcterms:created>
  <dc:creator>Manuel C Rodriguez B</dc:creator>
  <dc:description/>
  <dc:language>en-US</dc:language>
  <cp:lastModifiedBy> </cp:lastModifiedBy>
  <dcterms:modified xsi:type="dcterms:W3CDTF">2007-11-19T19:48:25Z</dcterms:modified>
  <cp:revision>21</cp:revision>
  <dc:subject/>
  <dc:title>El papel de las políticas públicas en PES  Manuel Rodríguez Becerra</dc:title>
</cp:coreProperties>
</file>