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539-3081-49FE-883D-10072D46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C6B-C287-4170-BB2E-37ADF94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6D4-C556-4475-84B8-38D3B923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E89-5F6E-4AD8-BE1E-ED537E2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530-DE51-439B-8A07-EA05BDC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1AE-0F9C-4FC8-A0E2-51EB243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8A0-A441-463B-8049-3B844851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A2D-D144-4B12-AECC-7E71657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7D1-4AAF-41DF-9375-A7BF035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349-5798-42B7-ABA1-75E93F7E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500-25DE-4257-8BBC-9B305CA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3ED-3631-45E7-B416-ADAF5156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1B1-B01A-4B07-A8AC-194C5080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mentação da Lei de Gestão de Florest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i 11.284, 2 de març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335772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64000" y="6165720"/>
            <a:ext cx="971640" cy="40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60160" y="618804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inistério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io Amb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339920"/>
            <a:ext cx="177120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29240" y="1322280"/>
            <a:ext cx="3456000" cy="82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s as florestas em bens de dominialidade da União, estados e municíp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55800" y="1557360"/>
            <a:ext cx="3222360" cy="398880"/>
          </a:xfrm>
          <a:custGeom>
            <a:avLst/>
            <a:gdLst>
              <a:gd name="textAreaLeft" fmla="*/ 0 w 3222360"/>
              <a:gd name="textAreaRight" fmla="*/ 3222720 w 322236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29240" y="2505240"/>
            <a:ext cx="3494160" cy="3373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ural e P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55800" y="2421000"/>
            <a:ext cx="3282840" cy="368280"/>
          </a:xfrm>
          <a:custGeom>
            <a:avLst/>
            <a:gdLst>
              <a:gd name="textAreaLeft" fmla="*/ 0 w 3282840"/>
              <a:gd name="textAreaRight" fmla="*/ 3283200 w 3282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po de Flo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3222720"/>
            <a:ext cx="34941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ção Madeireira e não madeireira 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55800" y="3333600"/>
            <a:ext cx="3282840" cy="368280"/>
          </a:xfrm>
          <a:custGeom>
            <a:avLst/>
            <a:gdLst>
              <a:gd name="textAreaLeft" fmla="*/ 0 w 3282840"/>
              <a:gd name="textAreaRight" fmla="*/ 3283200 w 3282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vidade Econô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19520" y="4238640"/>
            <a:ext cx="3530880" cy="3373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das as regiões d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4221000"/>
            <a:ext cx="3243240" cy="3988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5480" y="5081760"/>
            <a:ext cx="356688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queno, médio e grand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5800" y="5092560"/>
            <a:ext cx="3305160" cy="368280"/>
          </a:xfrm>
          <a:custGeom>
            <a:avLst/>
            <a:gdLst>
              <a:gd name="textAreaLeft" fmla="*/ 0 w 3305160"/>
              <a:gd name="textAreaRight" fmla="*/ 3305520 w 33051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11600" y="5877000"/>
            <a:ext cx="3544920" cy="58068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presarial, comunitário e fami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61920" y="5987880"/>
            <a:ext cx="3305160" cy="368280"/>
          </a:xfrm>
          <a:custGeom>
            <a:avLst/>
            <a:gdLst>
              <a:gd name="textAreaLeft" fmla="*/ 0 w 3305160"/>
              <a:gd name="textAreaRight" fmla="*/ 3305520 w 33051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efici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26370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ção de Unidades de Conser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tinação às comunidades loc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ssão Flore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97040"/>
            <a:ext cx="8136000" cy="49719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7320" y="1347840"/>
            <a:ext cx="363492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alidades de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697040"/>
            <a:ext cx="8136000" cy="49719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4920" y="241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2560" y="21304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ação de Florestas Nacionais, Estaduais e Municipais, e sua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gestão di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78040" y="370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2400" y="3425760"/>
            <a:ext cx="68086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 e execução do manejo feito poder público envolvendo ou não prestação de serviço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riza contratação de serviços com contratos de até 10 a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20 meses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riza uso de critério tipo técnico na seleção da melhor of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67320" y="1347840"/>
            <a:ext cx="363492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alidades de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697040"/>
            <a:ext cx="8136000" cy="49719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67320" y="1347840"/>
            <a:ext cx="363492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alidades de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8560" y="21337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Destinação às comunidades lo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4920" y="2925720"/>
            <a:ext cx="630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inação não onerosa na forma de assentamentos florestais, PDS, Área Quilombola, Resex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clui possibilidade de comunidade também concorrer em concessões oner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inação realizad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ção d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697040"/>
            <a:ext cx="8136000" cy="49719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7320" y="1347840"/>
            <a:ext cx="363492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alidades de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7948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87480" y="2565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Concessão Flore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0680" y="3357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rizada pelo poder conce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ne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a em processo licit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63640" y="2894040"/>
            <a:ext cx="8496000" cy="790560"/>
            <a:chOff x="1763640" y="2894040"/>
            <a:chExt cx="8496000" cy="790560"/>
          </a:xfrm>
        </p:grpSpPr>
        <p:sp>
          <p:nvSpPr>
            <p:cNvPr id="176" name=""/>
            <p:cNvSpPr txBox="1"/>
            <p:nvPr/>
          </p:nvSpPr>
          <p:spPr>
            <a:xfrm>
              <a:off x="1763640" y="2894040"/>
              <a:ext cx="52920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9900"/>
                    </a:solidFill>
                    <a:miter/>
                  </a:ln>
                  <a:solidFill>
                    <a:srgbClr val="99cc00"/>
                  </a:solidFill>
                  <a:latin typeface="Showcard Gothic"/>
                </a:rPr>
                <a:t>3</a:t>
              </a:r>
              <a:endPara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  <a:ea typeface="Showcard Gothic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76400" y="3614760"/>
              <a:ext cx="828324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2400" y="2997360"/>
              <a:ext cx="47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A Lei 11.284 &amp; PS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7801 C 0.08507 -0.11782 0.20452 -0.15764 0.18663 -0.20741 C 0.16875 -0.25718 0.01372 -0.31667 -0.14114 -0.37593 E">
                                      <p:cBhvr>
                                        <p:cTn id="1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341360"/>
            <a:ext cx="8136000" cy="5327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7948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1700280"/>
            <a:ext cx="727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ssão só ocorre apó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tinação para Unidades de Conservação e Comunidad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e Áreas de Preservação Permanente devem s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ntidos intocados 5% da áre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bjeto da concessão fl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tos prevê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cuperação de áreas degra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rviç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aptura de carbo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objeto de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189000"/>
            <a:ext cx="5761080" cy="790560"/>
            <a:chOff x="250920" y="189000"/>
            <a:chExt cx="5761080" cy="790560"/>
          </a:xfrm>
        </p:grpSpPr>
        <p:sp>
          <p:nvSpPr>
            <p:cNvPr id="184" name=""/>
            <p:cNvSpPr txBox="1"/>
            <p:nvPr/>
          </p:nvSpPr>
          <p:spPr>
            <a:xfrm>
              <a:off x="250920" y="189000"/>
              <a:ext cx="35892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9900"/>
                    </a:solidFill>
                    <a:miter/>
                  </a:ln>
                  <a:solidFill>
                    <a:srgbClr val="99cc00"/>
                  </a:solidFill>
                  <a:latin typeface="Showcard Gothic"/>
                </a:rPr>
                <a:t>3</a:t>
              </a:r>
              <a:endPara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  <a:ea typeface="Showcard Gothic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" y="909720"/>
              <a:ext cx="561672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8400" y="292320"/>
              <a:ext cx="339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A Lei 11.284   &amp;   PS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7801 C 0.08507 -0.11782 0.20452 -0.15764 0.18663 -0.20741 C 0.16875 -0.25718 0.01372 -0.31667 -0.14114 -0.37593 E">
                                      <p:cBhvr>
                                        <p:cTn id="12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70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1916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or pre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os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or benefíci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mais eficiente do recurso fl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or agregação de valo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0920" y="189000"/>
            <a:ext cx="5761080" cy="790560"/>
            <a:chOff x="250920" y="189000"/>
            <a:chExt cx="5761080" cy="790560"/>
          </a:xfrm>
        </p:grpSpPr>
        <p:sp>
          <p:nvSpPr>
            <p:cNvPr id="191" name=""/>
            <p:cNvSpPr txBox="1"/>
            <p:nvPr/>
          </p:nvSpPr>
          <p:spPr>
            <a:xfrm>
              <a:off x="250920" y="189000"/>
              <a:ext cx="35892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9900"/>
                    </a:solidFill>
                    <a:miter/>
                  </a:ln>
                  <a:solidFill>
                    <a:srgbClr val="99cc00"/>
                  </a:solidFill>
                  <a:latin typeface="Showcard Gothic"/>
                </a:rPr>
                <a:t>3</a:t>
              </a:r>
              <a:endPara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  <a:ea typeface="Showcard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909720"/>
              <a:ext cx="561672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68400" y="292320"/>
              <a:ext cx="339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A Lei 11.284   &amp;   PS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08040" y="1341360"/>
            <a:ext cx="316116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érios 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1773360"/>
            <a:ext cx="0" cy="201744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4365720"/>
            <a:ext cx="322524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ço da Conc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489600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a preparação da conc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por produtos ou serviço 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mentos sociais e ambientais realizados na área de concessão e no se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653000"/>
            <a:ext cx="0" cy="201780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7801 C 0.08507 -0.11782 0.20452 -0.15764 0.18663 -0.20741 C 0.16875 -0.25718 0.01372 -0.31667 -0.14114 -0.37593 E">
                                      <p:cBhvr>
                                        <p:cTn id="13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8360" y="2060640"/>
            <a:ext cx="8136000" cy="3313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50920" y="189000"/>
            <a:ext cx="5761080" cy="790560"/>
            <a:chOff x="250920" y="189000"/>
            <a:chExt cx="5761080" cy="790560"/>
          </a:xfrm>
        </p:grpSpPr>
        <p:sp>
          <p:nvSpPr>
            <p:cNvPr id="202" name=""/>
            <p:cNvSpPr txBox="1"/>
            <p:nvPr/>
          </p:nvSpPr>
          <p:spPr>
            <a:xfrm>
              <a:off x="250920" y="189000"/>
              <a:ext cx="35892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9900"/>
                    </a:solidFill>
                    <a:miter/>
                  </a:ln>
                  <a:solidFill>
                    <a:srgbClr val="99cc00"/>
                  </a:solidFill>
                  <a:latin typeface="Showcard Gothic"/>
                </a:rPr>
                <a:t>3</a:t>
              </a:r>
              <a:endPara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  <a:ea typeface="Showcard Gothic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5280" y="909720"/>
              <a:ext cx="561672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68400" y="292320"/>
              <a:ext cx="339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A Lei 11.284   &amp;   PS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96840" y="39387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dades não pagam pelo uso do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781360"/>
            <a:ext cx="75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dades e serviços incluídos no contrato de concessão são compensadas no preço ofer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6840" y="1822320"/>
            <a:ext cx="4995000" cy="441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hecimento dos Serviços Ambi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7801 C 0.08507 -0.11782 0.20452 -0.15764 0.18663 -0.20741 C 0.16875 -0.25718 0.01372 -0.31667 -0.14114 -0.37593 E">
                                      <p:cBhvr>
                                        <p:cTn id="14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52360" y="2365200"/>
            <a:ext cx="134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*  * 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093080" y="189000"/>
            <a:ext cx="18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28000" y="6342120"/>
            <a:ext cx="97164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24160" y="636444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inistério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io Amb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74920" y="141300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1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79640" y="2709720"/>
            <a:ext cx="358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11280" y="4076640"/>
            <a:ext cx="358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3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51" name=""/>
          <p:cNvSpPr/>
          <p:nvPr/>
        </p:nvSpPr>
        <p:spPr>
          <a:xfrm>
            <a:off x="2090520" y="158904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As Florest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560" y="278604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A Lei de Florest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3000" y="42210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11.284  &amp;  P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2133720"/>
            <a:ext cx="3887640" cy="144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2720" y="3429000"/>
            <a:ext cx="4967280" cy="144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82920" y="4795920"/>
            <a:ext cx="3671640" cy="144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906560" y="2782800"/>
            <a:ext cx="5761080" cy="790560"/>
            <a:chOff x="1906560" y="2782800"/>
            <a:chExt cx="5761080" cy="790560"/>
          </a:xfrm>
        </p:grpSpPr>
        <p:sp>
          <p:nvSpPr>
            <p:cNvPr id="58" name=""/>
            <p:cNvSpPr txBox="1"/>
            <p:nvPr/>
          </p:nvSpPr>
          <p:spPr>
            <a:xfrm>
              <a:off x="1906560" y="2782800"/>
              <a:ext cx="35892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9900"/>
                    </a:solidFill>
                    <a:miter/>
                  </a:ln>
                  <a:solidFill>
                    <a:srgbClr val="99cc00"/>
                  </a:solidFill>
                  <a:latin typeface="Showcard Gothic"/>
                </a:rPr>
                <a:t>1</a:t>
              </a:r>
              <a:endPara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  <a:ea typeface="Showcard Gothic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52680" y="2957400"/>
              <a:ext cx="49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As Florestas Públicas no Bras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0920" y="3503520"/>
              <a:ext cx="561672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-0.02914 C 0.0717 -0.09413 0.16215 -0.15888 0.13507 -0.21254 C 0.10798 -0.26619 -0.1283 -0.3284 -0.18091 -0.3515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1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63" name=""/>
          <p:cNvSpPr/>
          <p:nvPr/>
        </p:nvSpPr>
        <p:spPr>
          <a:xfrm>
            <a:off x="939600" y="43488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As Florest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41440" y="1916280"/>
            <a:ext cx="49514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456000" y="2349360"/>
            <a:ext cx="5688000" cy="3584160"/>
            <a:chOff x="3456000" y="2349360"/>
            <a:chExt cx="5688000" cy="3584160"/>
          </a:xfrm>
        </p:grpSpPr>
        <p:sp>
          <p:nvSpPr>
            <p:cNvPr id="68" name=""/>
            <p:cNvSpPr/>
            <p:nvPr/>
          </p:nvSpPr>
          <p:spPr>
            <a:xfrm>
              <a:off x="3564000" y="2349360"/>
              <a:ext cx="5580000" cy="11912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 Brasil tem a segunda maior área florestal do mundo e mais de 60% está em terras públic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56000" y="3645000"/>
              <a:ext cx="5688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ras devolu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Áreas das Forças Arm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ras Indíge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idades de Conser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ras Arrecadadas da União, Est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Municípi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3573360"/>
            <a:ext cx="133200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3573360"/>
            <a:ext cx="60847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1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74" name=""/>
          <p:cNvSpPr/>
          <p:nvPr/>
        </p:nvSpPr>
        <p:spPr>
          <a:xfrm>
            <a:off x="939600" y="43488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As Florest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541440" y="1916280"/>
            <a:ext cx="4951440" cy="34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573360"/>
            <a:ext cx="133200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573360"/>
            <a:ext cx="60847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1160" y="1409760"/>
            <a:ext cx="9801000" cy="4635360"/>
            <a:chOff x="11160" y="1409760"/>
            <a:chExt cx="9801000" cy="4635360"/>
          </a:xfrm>
        </p:grpSpPr>
        <p:graphicFrame>
          <p:nvGraphicFramePr>
            <p:cNvPr id="82" name=""/>
            <p:cNvGraphicFramePr/>
            <p:nvPr/>
          </p:nvGraphicFramePr>
          <p:xfrm>
            <a:off x="2916360" y="1409760"/>
            <a:ext cx="6895800" cy="46353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16360" y="1409760"/>
                      <a:ext cx="6895800" cy="463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6303240" y="3789360"/>
              <a:ext cx="167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ras terr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34520" y="321300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r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48840" y="4653000"/>
              <a:ext cx="188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s Púb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eg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823400">
              <a:off x="237600" y="1971360"/>
              <a:ext cx="2521080" cy="15843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27280" y="1976400"/>
              <a:ext cx="1944720" cy="731880"/>
            </a:xfrm>
            <a:custGeom>
              <a:avLst/>
              <a:gdLst/>
              <a:ahLst/>
              <a:rect l="l" t="t" r="r" b="b"/>
              <a:pathLst>
                <a:path w="1225" h="461">
                  <a:moveTo>
                    <a:pt x="0" y="144"/>
                  </a:moveTo>
                  <a:cubicBezTo>
                    <a:pt x="238" y="72"/>
                    <a:pt x="477" y="0"/>
                    <a:pt x="681" y="53"/>
                  </a:cubicBezTo>
                  <a:cubicBezTo>
                    <a:pt x="885" y="106"/>
                    <a:pt x="1134" y="393"/>
                    <a:pt x="1225" y="461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645440" y="5803920"/>
            <a:ext cx="33231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5% Áre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763640" y="2894040"/>
            <a:ext cx="6284880" cy="790560"/>
            <a:chOff x="1763640" y="2894040"/>
            <a:chExt cx="6284880" cy="790560"/>
          </a:xfrm>
        </p:grpSpPr>
        <p:sp>
          <p:nvSpPr>
            <p:cNvPr id="91" name=""/>
            <p:cNvSpPr txBox="1"/>
            <p:nvPr/>
          </p:nvSpPr>
          <p:spPr>
            <a:xfrm>
              <a:off x="1763640" y="2894040"/>
              <a:ext cx="35892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9900"/>
                    </a:solidFill>
                    <a:miter/>
                  </a:ln>
                  <a:solidFill>
                    <a:srgbClr val="99cc00"/>
                  </a:solidFill>
                  <a:latin typeface="Showcard Gothic"/>
                </a:rPr>
                <a:t>2</a:t>
              </a:r>
              <a:endPara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  <a:ea typeface="Showcard Gothic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4400" y="3068640"/>
              <a:ext cx="596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 </a:t>
              </a:r>
              <a:r>
                <a:rPr b="1" lang="en-US" sz="2400" spc="-1" strike="noStrike">
                  <a:solidFill>
                    <a:srgbClr val="008000"/>
                  </a:solidFill>
                  <a:latin typeface="Palatino Linotype"/>
                </a:rPr>
                <a:t>A Lei de Gestão de Florestas Públ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8000" y="3614760"/>
              <a:ext cx="561672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7216 C 0.10174 -0.10477 0.22847 -0.13715 0.20694 -0.18987 C 0.18542 -0.2426 -0.09375 -0.35569 -0.15399 -0.38876 E">
                                      <p:cBhvr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697040"/>
            <a:ext cx="8136000" cy="4608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1113120" y="1413000"/>
            <a:ext cx="424296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s da Lei 11.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2000" y="2344680"/>
            <a:ext cx="739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ção para a gestão de florestas públ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o uso susten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ço Florestal Brasileiro (SF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o Nacional de Desenvolvimento Florestal (FN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entraliza a Gestão Fl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697040"/>
            <a:ext cx="8136000" cy="4608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1038600" y="1484280"/>
            <a:ext cx="170424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" y="2368440"/>
            <a:ext cx="80582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r 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lorestas (biodiversidade, solo e águ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Promover o estabelecimento de atividades florestais susten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ito ao direit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ar a agregação de valor – processament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over a pesquisa e difus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r condições estáveis e seguras que estimulem investimentos de longo prazo no manejo e conservação das flore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5440" y="2498760"/>
            <a:ext cx="304560" cy="2514600"/>
            <a:chOff x="595440" y="2498760"/>
            <a:chExt cx="304560" cy="2514600"/>
          </a:xfrm>
        </p:grpSpPr>
        <p:sp>
          <p:nvSpPr>
            <p:cNvPr id="109" name=""/>
            <p:cNvSpPr/>
            <p:nvPr/>
          </p:nvSpPr>
          <p:spPr>
            <a:xfrm>
              <a:off x="595440" y="2498760"/>
              <a:ext cx="30456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440" y="3565440"/>
              <a:ext cx="30456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5440" y="4708440"/>
              <a:ext cx="30456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697040"/>
            <a:ext cx="8136000" cy="49719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260280"/>
            <a:ext cx="358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2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981000"/>
            <a:ext cx="5616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948360" y="404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Serviço Florestal 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99cc00"/>
                </a:solidFill>
                <a:latin typeface="Showcard Gothic"/>
              </a:rPr>
              <a:t>Brasileiro</a:t>
            </a:r>
            <a:endParaRPr b="0" lang="en-US" sz="1800" spc="1" strike="noStrike">
              <a:ln w="9360">
                <a:solidFill>
                  <a:srgbClr val="669900"/>
                </a:solidFill>
                <a:miter/>
              </a:ln>
              <a:solidFill>
                <a:srgbClr val="99cc00"/>
              </a:solidFill>
              <a:latin typeface="Showcard Gothic"/>
              <a:ea typeface="Showcard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6009120" y="1341360"/>
            <a:ext cx="1771200" cy="509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989000"/>
            <a:ext cx="811188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st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Florestas públic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florestas, naturais ou plantadas, localizadas nos diversos biomas brasileiros, em bens sob o domínio da União, dos Estados, dos Municípios, do Distrito Federal ou das entidades da administração indire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ssões Flores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ncessão florest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delegação onerosa, feita pelo poder concedente, do direito de praticar manejo florestal sustentável para exploração de produtos e serviços numa unidade de manejo, mediante licitação, à pessoa jurídica, em consórcio ou não, que atenda às exigências do respectivo edital de licitação e demonstre capacidade para seu desempenho, por sua conta e risco e por prazo determin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06532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149720"/>
            <a:ext cx="30492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120" y="43488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Palatino Linotype"/>
              </a:rPr>
              <a:t>Lei de Florestas Públicas (Lei 11.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1:18:51Z</dcterms:created>
  <dc:creator>Tasso Rezende de Azevedo</dc:creator>
  <dc:description/>
  <cp:keywords/>
  <dc:language>en-US</dc:language>
  <cp:lastModifiedBy> </cp:lastModifiedBy>
  <dcterms:modified xsi:type="dcterms:W3CDTF">2007-11-19T19:53:07Z</dcterms:modified>
  <cp:revision>92</cp:revision>
  <dc:subject/>
  <dc:title>Título do Organogr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802070</vt:lpwstr>
  </property>
</Properties>
</file>