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A7F6-41FD-4488-8C26-5ADF0C3F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9259-4E5C-4B6F-9655-F5993463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84EC-FAAE-49CE-89DC-F21B304B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278B-E58A-4CDC-A03E-C8B925B1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47CA-B0D3-40CD-A3E1-96E4A27C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3F44-EE4D-4A10-8FEE-6A6B2E6B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46AE-8273-4A7D-A165-4F92A913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4679-19FE-48A7-ADA0-EFD2006C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DA27-E69A-4583-9E36-C9DE7972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9815-36B3-40EC-9F71-8C0A90D8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FD74-4290-4523-88F0-109434A1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226D-483F-4171-8C94-098D6398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4DBD-0767-4690-871D-D8719CB2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BAEA-3C00-43AE-9F20-6C708BC8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8331-B8AB-4077-AA90-DE1910C4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2581-7AC3-4863-A5E4-8E72E7C8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A0E0-6D06-44FE-BD3F-B7C57BA63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0D46-F4F1-49E6-85A8-D4665568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D25E-333A-4DD7-8B71-8D145155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1A57-8C08-4B03-AE92-45B75017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69A9-28D6-4672-9C77-4AEBAAF5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BF3E-8564-4629-9489-43C5E58D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6D12-B7DB-44D7-B12E-9903CCAF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4940-74B1-416C-80EF-65A2B1FD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9957-9A00-4AF6-88A2-CEE4837C7BFF}" type="slidenum">
              <a:rPr b="0" lang="es-EC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B4AF-E0E0-4526-A7DB-982F03293479}" type="slidenum">
              <a:rPr b="0" lang="es-EC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ervicios Ambientales del Agua:</a:t>
            </a:r>
            <a:br>
              <a:rPr sz="5400"/>
            </a:br>
            <a:r>
              <a:rPr b="0" i="1" lang="en-US" sz="5400" spc="-1" strike="noStrike">
                <a:solidFill>
                  <a:srgbClr val="ccecff"/>
                </a:solidFill>
                <a:latin typeface="Arial"/>
              </a:rPr>
              <a:t> Experiencias </a:t>
            </a:r>
            <a:br>
              <a:rPr sz="5400"/>
            </a:br>
            <a:r>
              <a:rPr b="0" i="1" lang="en-US" sz="5400" spc="-1" strike="noStrike">
                <a:solidFill>
                  <a:srgbClr val="ccecff"/>
                </a:solidFill>
                <a:latin typeface="Arial"/>
              </a:rPr>
              <a:t>más que un mercado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ffffff"/>
                </a:solidFill>
                <a:latin typeface="Arial"/>
              </a:rPr>
              <a:t>Marta Echavarrí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ffffff"/>
                </a:solidFill>
                <a:latin typeface="Arial"/>
              </a:rPr>
              <a:t>ECODECI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ffffff"/>
                </a:solidFill>
                <a:latin typeface="Arial"/>
              </a:rPr>
              <a:t>Sao Paulo, 3 de Octubre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179280" y="981000"/>
          <a:ext cx="6769080" cy="2154240"/>
        </p:xfrm>
        <a:graphic>
          <a:graphicData uri="http://schemas.openxmlformats.org/drawingml/2006/table">
            <a:tbl>
              <a:tblPr/>
              <a:tblGrid>
                <a:gridCol w="1128960"/>
                <a:gridCol w="1739880"/>
                <a:gridCol w="1258920"/>
                <a:gridCol w="1298520"/>
                <a:gridCol w="1342800"/>
              </a:tblGrid>
              <a:tr h="5439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OS PAGAN POR CONSERVACIÓN DEL AGUA (por m3 en US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3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umo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Huma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o comerci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ustrial (a. subterráne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o fine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turístic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o hidroeléctrico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gran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ctor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úblico y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ivado en gral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4572000" y="3284640"/>
          <a:ext cx="4355280" cy="3023280"/>
        </p:xfrm>
        <a:graphic>
          <a:graphicData uri="http://schemas.openxmlformats.org/drawingml/2006/table">
            <a:tbl>
              <a:tblPr/>
              <a:tblGrid>
                <a:gridCol w="1644480"/>
                <a:gridCol w="1488240"/>
                <a:gridCol w="1222560"/>
              </a:tblGrid>
              <a:tr h="8773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mbio en la Cobertura Forestal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de Guanacaste: 1986-2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bert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rea (h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 áre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osque 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7.2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osque 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8.1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osque 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15.3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403280" y="4149720"/>
            <a:ext cx="2808360" cy="12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ros 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bertura vegetal (P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 otros mecanismos)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08720" y="692280"/>
            <a:ext cx="1584360" cy="13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ánto 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g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 el agu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380360" y="1916280"/>
            <a:ext cx="574560" cy="863280"/>
          </a:xfrm>
          <a:custGeom>
            <a:avLst/>
            <a:gdLst>
              <a:gd name="textAreaLeft" fmla="*/ 76680 w 574560"/>
              <a:gd name="textAreaRight" fmla="*/ 497880 w 574560"/>
              <a:gd name="textAreaTop" fmla="*/ 150840 h 863280"/>
              <a:gd name="textAreaBottom" fmla="*/ 6260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87640" y="5300640"/>
            <a:ext cx="1079640" cy="93672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189000"/>
            <a:ext cx="604836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PSA COSTA 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ccecff"/>
                </a:solidFill>
                <a:latin typeface="Arial"/>
              </a:rPr>
              <a:t>PSA Hidrológicos en México (desde 2002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ago a los productores de ag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riterios de elegibilidad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centaje de cubierta forestal del terreno igual o mayor al 80% de la superfici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calización en zonas críticas para recarga de acuíferos, áreas “sobreexplotadas” o zonas de “escasez”, de baja calidad del agua o de desastres hidrológicos,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bicadas en montañas vinculadas con el abastecimiento de agua a centros poblacionales con más de 5,000 habitant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agos: Productores dentro del bosque mesófilo de montaña reciben 36 USD/ha, y otros tipos de bosque 27 USD/ha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ccecff"/>
                </a:solidFill>
                <a:latin typeface="Arial"/>
              </a:rPr>
              <a:t>El Salvador, Parque Nacional </a:t>
            </a:r>
            <a:br>
              <a:rPr sz="4000"/>
            </a:br>
            <a:r>
              <a:rPr b="0" lang="es-EC" sz="4000" spc="-1" strike="noStrike">
                <a:solidFill>
                  <a:srgbClr val="ccecff"/>
                </a:solidFill>
                <a:latin typeface="Arial"/>
              </a:rPr>
              <a:t>El Imposibl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ffffff"/>
                </a:solidFill>
                <a:latin typeface="Arial"/>
              </a:rPr>
              <a:t>Los usuarios del parque reconocen dos tipos de servicios: belleza escénica y suministro de agua para consu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ffffff"/>
                </a:solidFill>
                <a:latin typeface="Arial"/>
              </a:rPr>
              <a:t>Por belleza escénica los visitantes del parque donan US$2,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ffffff"/>
                </a:solidFill>
                <a:latin typeface="Arial"/>
              </a:rPr>
              <a:t>Por agua, se creó un nuevo sistema de agua potable para los cantones del municipio San Francisco Menéndez, los usuarios del sistema contribuyen US$6,20 por familia que financia: administración, operación, mantenimiento del sistema y 2 guardaparqu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ccecff"/>
                </a:solidFill>
                <a:latin typeface="Arial"/>
              </a:rPr>
              <a:t>Ecuad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560" y="9144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 u="sng">
                <a:solidFill>
                  <a:srgbClr val="ffffff"/>
                </a:solidFill>
                <a:uFillTx/>
                <a:latin typeface="Arial"/>
              </a:rPr>
              <a:t>Fondo Ambiental del agua en Quito-FONAG (2000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ffffff"/>
                </a:solidFill>
                <a:latin typeface="Arial"/>
              </a:rPr>
              <a:t>agua potable y alcantariallado (1% vent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ffffff"/>
                </a:solidFill>
                <a:latin typeface="Arial"/>
              </a:rPr>
              <a:t>usuarios de energía (US$45.000/añ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ffffff"/>
                </a:solidFill>
                <a:latin typeface="Arial"/>
              </a:rPr>
              <a:t>cervecería (US$6.000/añ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ffffff"/>
                </a:solidFill>
                <a:latin typeface="Arial"/>
              </a:rPr>
              <a:t>cooperación suiza (US$10.000/año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ffffff"/>
                </a:solidFill>
                <a:latin typeface="Arial"/>
              </a:rPr>
              <a:t>aportan para financiar proyectos de protección y mantenimiento de las cuencas hídricas de Qu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 u="sng">
                <a:solidFill>
                  <a:srgbClr val="ffffff"/>
                </a:solidFill>
                <a:uFillTx/>
                <a:latin typeface="Arial"/>
              </a:rPr>
              <a:t>Pimampiro (2002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ffffff"/>
                </a:solidFill>
                <a:latin typeface="Arial"/>
              </a:rPr>
              <a:t>20% de incremento en planillas de ag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ffffff"/>
                </a:solidFill>
                <a:latin typeface="Arial"/>
              </a:rPr>
              <a:t>Pagos de US$ 6 - 12 por ha/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ffffff"/>
                </a:solidFill>
                <a:latin typeface="Arial"/>
              </a:rPr>
              <a:t>19 familias dueñas de ha de bosque en zona de cap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 u="sng">
                <a:solidFill>
                  <a:srgbClr val="ffffff"/>
                </a:solidFill>
                <a:uFillTx/>
                <a:latin typeface="Arial"/>
              </a:rPr>
              <a:t>Celica (2006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ffffff"/>
                </a:solidFill>
                <a:latin typeface="Arial"/>
              </a:rPr>
              <a:t>US$ 0,03/m3 pagan los usuarios del ag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ffffff"/>
                </a:solidFill>
                <a:latin typeface="Arial"/>
              </a:rPr>
              <a:t>a propietarios de 38 ha de 547 ha para restau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ccecff"/>
                </a:solidFill>
                <a:latin typeface="Arial"/>
              </a:rPr>
              <a:t>PSA entre Comunidades Rurales Bolivia (2003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 u="sng">
                <a:solidFill>
                  <a:srgbClr val="ffffff"/>
                </a:solidFill>
                <a:uFillTx/>
                <a:latin typeface="Arial"/>
              </a:rPr>
              <a:t>Los Negros y Sta. Rosa:</a:t>
            </a:r>
            <a:r>
              <a:rPr b="0" lang="es-EC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ffffff"/>
                </a:solidFill>
                <a:latin typeface="Arial"/>
              </a:rPr>
              <a:t>Pago por cada 10 ha: Una colmena (US$35) y capacitación en apicultura básica (US$3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ffffff"/>
                </a:solidFill>
                <a:latin typeface="Arial"/>
              </a:rPr>
              <a:t>Una caja rinde 20 a 30 kg miel = US$38 -57 en kg miel ingreso anual de US$31-46/colmena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ffffff"/>
                </a:solidFill>
                <a:latin typeface="Arial"/>
              </a:rPr>
              <a:t>1.000 ha en el progr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 u="sng">
                <a:solidFill>
                  <a:srgbClr val="ffffff"/>
                </a:solidFill>
                <a:uFillTx/>
                <a:latin typeface="Arial"/>
              </a:rPr>
              <a:t>La Aguad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ffffff"/>
                </a:solidFill>
                <a:latin typeface="Arial"/>
              </a:rPr>
              <a:t>Decisión comunitaria de compensar a los propietarios de 67 ha en la captación de ag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ffffff"/>
                </a:solidFill>
                <a:latin typeface="Arial"/>
              </a:rPr>
              <a:t>Mantienen su propiedad pero “vendieron” el derecho a mantener el ganado en la zo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ccecff"/>
                </a:solidFill>
                <a:latin typeface="Arial"/>
              </a:rPr>
              <a:t>Lecci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ffffff"/>
                </a:solidFill>
                <a:latin typeface="Arial"/>
              </a:rPr>
              <a:t>Mecanismo de pago no puede operar en un vacío, se requiere inform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ffffff"/>
                </a:solidFill>
                <a:latin typeface="Arial"/>
              </a:rPr>
              <a:t>científica - vínculo hidrológ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ffffff"/>
                </a:solidFill>
                <a:latin typeface="Arial"/>
              </a:rPr>
              <a:t>análisis económico para tomar deci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ffffff"/>
                </a:solidFill>
                <a:latin typeface="Arial"/>
              </a:rPr>
              <a:t>fundamento le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ffffff"/>
                </a:solidFill>
                <a:latin typeface="Arial"/>
              </a:rPr>
              <a:t>aceptación social - política y de los involucr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ffffff"/>
                </a:solidFill>
                <a:latin typeface="Arial"/>
              </a:rPr>
              <a:t>Los costos de transacción pueden ser significa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ffffff"/>
                </a:solidFill>
                <a:latin typeface="Arial"/>
              </a:rPr>
              <a:t>Fuente interesante de ingresos para comunidades rurales, usualmente ignora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ccecff"/>
                </a:solidFill>
                <a:latin typeface="Arial"/>
              </a:rPr>
              <a:t>Lecci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ffffff"/>
                </a:solidFill>
                <a:latin typeface="Arial"/>
              </a:rPr>
              <a:t>El pago de los servicios ambientales del agua no puede operar en todos los casos depen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o de oportunidad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o de oportunidad de la mano de ob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acidad de p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553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cambio régimen de carbon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sitos básic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orte al desarrollo sosten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icion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ño del mecanism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n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65534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quisitos mínimos deseab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ffffff"/>
                </a:solidFill>
                <a:latin typeface="Arial"/>
              </a:rPr>
              <a:t>Tenencia de la tierra defin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ffffff"/>
                </a:solidFill>
                <a:latin typeface="Arial"/>
              </a:rPr>
              <a:t>Mantener directa la relación entre compradores y vendedor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ffffff"/>
                </a:solidFill>
                <a:latin typeface="Arial"/>
              </a:rPr>
              <a:t>Compromiso político de los tomadores de decisió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ffffff"/>
                </a:solidFill>
                <a:latin typeface="Arial"/>
              </a:rPr>
              <a:t>Capacidad institucional de gestión y control - además para poder aplicar san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ffffff"/>
                </a:solidFill>
                <a:latin typeface="Arial"/>
              </a:rPr>
              <a:t>Fuente de financiamiento a largo pl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ccecff"/>
                </a:solidFill>
                <a:latin typeface="Arial"/>
              </a:rPr>
              <a:t>El agua no es un mercado establecid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07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ientras que en los mercados existentes los “commodities” son fácilmente identificables, en este es una sumatoria de experi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l agua es un bien de dominio públ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provisión del servicio es monopó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s un bien de primera necesidad que lo convierte en un derecho hum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dimensión cultural del agua no puede ser ignor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ccecff"/>
                </a:solidFill>
                <a:latin typeface="Arial"/>
              </a:rPr>
              <a:t>Servicios hidrológicos, no el agu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839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ilidad del flujo del ag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mento del flujo del ag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ción de sedimentos/estabilidad de sue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mizar impactos de eventos (inundaciones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ormación imperfecta entre particip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y sobre lo que se vende y compr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&gt;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reencia </a:t>
            </a: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defacto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que + bosqu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+ ag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incipio de precau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ccecff"/>
                </a:solidFill>
                <a:latin typeface="Arial"/>
              </a:rPr>
              <a:t>Mitos de la relación bosque agua</a:t>
            </a:r>
            <a:br>
              <a:rPr sz="4000"/>
            </a:br>
            <a:r>
              <a:rPr b="0" lang="es-EC" sz="4000" spc="-1" strike="noStrike">
                <a:solidFill>
                  <a:srgbClr val="ccecff"/>
                </a:solidFill>
                <a:latin typeface="Arial"/>
              </a:rPr>
              <a:t>(Calder, 2000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ffffff"/>
                </a:solidFill>
                <a:latin typeface="Arial"/>
              </a:rPr>
              <a:t>Incrementan lluvias - no es significa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ffffff"/>
                </a:solidFill>
                <a:latin typeface="Arial"/>
              </a:rPr>
              <a:t>Incrementan escorrentias - se ha demostr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ffffff"/>
                </a:solidFill>
                <a:latin typeface="Arial"/>
              </a:rPr>
              <a:t>Regulan flujos - depende de condi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ffffff"/>
                </a:solidFill>
                <a:latin typeface="Arial"/>
              </a:rPr>
              <a:t>Reducen erosión - depende de condi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ffffff"/>
                </a:solidFill>
                <a:latin typeface="Arial"/>
              </a:rPr>
              <a:t>Reducen inundaciones – impactos dependiendo del uso del suelo y el tipo de bosque, no la  ocurr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ffffff"/>
                </a:solidFill>
                <a:latin typeface="Arial"/>
              </a:rPr>
              <a:t>Mejoran calidad - comparado con áreas degrad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Qué es un Pago por Servicios Ambientale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ffffff"/>
                </a:solidFill>
                <a:latin typeface="Arial"/>
              </a:rPr>
              <a:t>Según Wunder (2005)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3200" spc="-1" strike="noStrike">
                <a:solidFill>
                  <a:srgbClr val="ffffff"/>
                </a:solidFill>
                <a:latin typeface="Arial"/>
              </a:rPr>
              <a:t>Es una transacción volun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ffffff"/>
                </a:solidFill>
                <a:latin typeface="Arial"/>
              </a:rPr>
              <a:t>Donde existe un servicio ambiental bien definido (o un título de tierra que asegura el servici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ffffff"/>
                </a:solidFill>
                <a:latin typeface="Arial"/>
              </a:rPr>
              <a:t>Que tiene al menos un compra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ffffff"/>
                </a:solidFill>
                <a:latin typeface="Arial"/>
              </a:rPr>
              <a:t>Y al menos un provee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ffffff"/>
                </a:solidFill>
                <a:latin typeface="Arial"/>
              </a:rPr>
              <a:t>Solo se reconoce si el proveedor asegura la provisión del servicio (condicionalida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ccecff"/>
                </a:solidFill>
                <a:latin typeface="Arial"/>
              </a:rPr>
              <a:t>CATEGORÍAS DE EXPERIEN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ffffff"/>
                </a:solidFill>
                <a:latin typeface="Arial"/>
              </a:rPr>
              <a:t>PÚBL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ffffff"/>
                </a:solidFill>
                <a:latin typeface="Arial"/>
              </a:rPr>
              <a:t>Colom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ffffff"/>
                </a:solidFill>
                <a:latin typeface="Arial"/>
              </a:rPr>
              <a:t>Brasi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ffffff"/>
                </a:solidFill>
                <a:latin typeface="Arial"/>
              </a:rPr>
              <a:t>Costa 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ffffff"/>
                </a:solidFill>
                <a:latin typeface="Arial"/>
              </a:rPr>
              <a:t>Méx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ffffff"/>
                </a:solidFill>
                <a:latin typeface="Arial"/>
              </a:rPr>
              <a:t>El Salv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ffffff"/>
                </a:solidFill>
                <a:latin typeface="Arial"/>
              </a:rPr>
              <a:t>NEGOCIACION DE DERECHOS/SERVI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ffffff"/>
                </a:solidFill>
                <a:latin typeface="Arial"/>
              </a:rPr>
              <a:t>PRIV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ffffff"/>
                </a:solidFill>
                <a:latin typeface="Arial"/>
              </a:rPr>
              <a:t>Costa 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ffffff"/>
                </a:solidFill>
                <a:latin typeface="Arial"/>
              </a:rPr>
              <a:t>Colom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ffffff"/>
                </a:solidFill>
                <a:latin typeface="Arial"/>
              </a:rPr>
              <a:t>Ecu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ffffff"/>
                </a:solidFill>
                <a:latin typeface="Arial"/>
              </a:rPr>
              <a:t>Boliv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ccecff"/>
                </a:solidFill>
                <a:latin typeface="Arial"/>
              </a:rPr>
              <a:t>Inversión en Protección Cuencas en Colombia (1976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 u="sng">
                <a:solidFill>
                  <a:srgbClr val="ffffff"/>
                </a:solidFill>
                <a:uFillTx/>
                <a:latin typeface="Arial"/>
              </a:rPr>
              <a:t>Ley </a:t>
            </a:r>
            <a:r>
              <a:rPr b="0" lang="es-EC" sz="2400" spc="-1" strike="noStrike">
                <a:solidFill>
                  <a:srgbClr val="ffffff"/>
                </a:solidFill>
                <a:latin typeface="Arial"/>
              </a:rPr>
              <a:t>exige la inversión del 3% de las ventas de energía eléctrica en la protección cuen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 u="sng">
                <a:solidFill>
                  <a:srgbClr val="ffffff"/>
                </a:solidFill>
                <a:uFillTx/>
                <a:latin typeface="Arial"/>
              </a:rPr>
              <a:t>En 1993</a:t>
            </a:r>
            <a:r>
              <a:rPr b="0" lang="es-EC" sz="2400" spc="-1" strike="noStrike">
                <a:solidFill>
                  <a:srgbClr val="ffffff"/>
                </a:solidFill>
                <a:latin typeface="Arial"/>
              </a:rPr>
              <a:t>, el gobierno introduce el Sistema Nacional Ambiental que crean Corporaciones Regionales (CARs -autoridades ambientales) en todo el país, cuyos ingres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ffffff"/>
                </a:solidFill>
                <a:latin typeface="Arial"/>
              </a:rPr>
              <a:t>Plantas hidroeléctricas sobre 10.000KW deben pagar 3% de sus ingresos brutos a las CAR y 3% a municipios dentro de los cuales se capta el agu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ffffff"/>
                </a:solidFill>
                <a:latin typeface="Arial"/>
              </a:rPr>
              <a:t>El 1% de las inversiones en proyectos de agua son asignados para proyectos de protección de cuencas supervisados por C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ffffff"/>
                </a:solidFill>
                <a:latin typeface="Arial"/>
              </a:rPr>
              <a:t>El 1% de los presupuestos entre 93 y 00 de los municipios y provincias deben asignarse para la compra de tierras para la protección de cuencas que abastecen de agu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 u="sng">
                <a:solidFill>
                  <a:srgbClr val="ffffff"/>
                </a:solidFill>
                <a:uFillTx/>
                <a:latin typeface="Arial"/>
              </a:rPr>
              <a:t>Manizales</a:t>
            </a:r>
            <a:r>
              <a:rPr b="0" lang="es-EC" sz="2400" spc="-1" strike="noStrike">
                <a:solidFill>
                  <a:srgbClr val="ffffff"/>
                </a:solidFill>
                <a:latin typeface="Arial"/>
              </a:rPr>
              <a:t>: 10% de ventas a prote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ccecff"/>
                </a:solidFill>
                <a:latin typeface="Arial"/>
              </a:rPr>
              <a:t>Brasil: Impuesto sobre la Circulación de Mercaderías y Servicios (ICMS-E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ffffff"/>
                </a:solidFill>
                <a:latin typeface="Arial"/>
              </a:rPr>
              <a:t>Entre 1992-2000 en Paraná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ffffff"/>
                </a:solidFill>
                <a:latin typeface="Arial"/>
              </a:rPr>
              <a:t>Ingresos por US$ 22.5 millones anu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ffffff"/>
                </a:solidFill>
                <a:latin typeface="Arial"/>
              </a:rPr>
              <a:t>1 millón ha conservadas, 165% incremento en 9 añ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ffffff"/>
                </a:solidFill>
                <a:latin typeface="Arial"/>
              </a:rPr>
              <a:t>Participación 50% de municipi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ffffff"/>
                </a:solidFill>
                <a:latin typeface="Arial"/>
              </a:rPr>
              <a:t>Entre 1992-2000 en Minas Gera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ffffff"/>
                </a:solidFill>
                <a:latin typeface="Arial"/>
              </a:rPr>
              <a:t>Ingresos: US$ 6.7 millones anu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ffffff"/>
                </a:solidFill>
                <a:latin typeface="Arial"/>
              </a:rPr>
              <a:t>1 millón ha conservadas, 62% incremento en 5 añ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ffffff"/>
                </a:solidFill>
                <a:latin typeface="Arial"/>
              </a:rPr>
              <a:t>Participación 30% de municip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ccecff"/>
                </a:solidFill>
                <a:latin typeface="Arial"/>
              </a:rPr>
              <a:t>PSAH Costa Rica (desde1995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ffffff"/>
                </a:solidFill>
                <a:latin typeface="Arial"/>
              </a:rPr>
              <a:t>Pago por protección, reforestación y/o manejo de bosque a propietarios ubicados en parte-aguas de cuencas hidrográficas con presencia de presas hidroeléctr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ffffff"/>
                </a:solidFill>
                <a:latin typeface="Arial"/>
              </a:rPr>
              <a:t>Contratos entre el Estado y los productores con 5 años de du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ffffff"/>
                </a:solidFill>
                <a:latin typeface="Arial"/>
              </a:rPr>
              <a:t>Pagos: US$ 50/ha para un total de US $8-12 millones anu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ffffff"/>
                </a:solidFill>
                <a:latin typeface="Arial"/>
              </a:rPr>
              <a:t>Entre 97-00, 463.000 ha cubiertas por PSA. Se financia en 86% por el presupuesto, 7% por sector privado local y 8% otras fuen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ffffff"/>
                </a:solidFill>
                <a:latin typeface="Arial"/>
              </a:rPr>
              <a:t>2004: 9% de tierras privadas están protegidas por P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21:43:39Z</dcterms:created>
  <dc:creator> </dc:creator>
  <dc:description/>
  <dc:language>en-US</dc:language>
  <cp:lastModifiedBy> </cp:lastModifiedBy>
  <dcterms:modified xsi:type="dcterms:W3CDTF">2007-11-19T19:47:01Z</dcterms:modified>
  <cp:revision>27</cp:revision>
  <dc:subject/>
  <dc:title>Diapositiva 1</dc:title>
</cp:coreProperties>
</file>