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whoosh.wav" ContentType="audio/x-wav"/>
  <Override PartName="/ppt/media/image6.png" ContentType="image/png"/>
  <Override PartName="/ppt/media/image10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0800" y="746280"/>
            <a:ext cx="496116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4228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03240" y="471600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DCF62A9-856E-4A04-B45F-F7B9A666EE9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A8BDFB2-D862-4D6D-A6D8-60256D773E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890640" y="735120"/>
            <a:ext cx="5011560" cy="375912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07560" y="4731840"/>
            <a:ext cx="4962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F654CAF-F688-40F0-92D8-E3B65CEB3BC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887400" y="7333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07560" y="4731840"/>
            <a:ext cx="4962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E70F65D-FE09-41D4-977C-D7CBE956B2F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887400" y="7333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07560" y="4731840"/>
            <a:ext cx="4962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 txBox="1"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BF6949D-5678-44EA-91A0-1D505933770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887400" y="7333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07560" y="4731840"/>
            <a:ext cx="4962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 txBox="1"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19C1C27-F4FA-48F6-99B6-FAD2F656AF5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887400" y="7333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07560" y="4731840"/>
            <a:ext cx="4962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 txBox="1"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DB1E074-56C1-415B-9E46-D6BD1C1A7A0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887400" y="7333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07560" y="4731840"/>
            <a:ext cx="4962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782F92A-0DD7-47A4-9521-B2B0D183BB5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887400" y="7333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07560" y="4731840"/>
            <a:ext cx="4962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EE6FDEC-EABD-406E-B379-9F92D6BDE43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887400" y="7333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07560" y="4731840"/>
            <a:ext cx="4962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2BE5B57-A4BA-45D1-9B1A-E5C2A1D0463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890640" y="735120"/>
            <a:ext cx="5011560" cy="375912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07560" y="4731840"/>
            <a:ext cx="4962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 txBox="1"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A2F5808-76B2-4CE9-B675-AFB54CAE5B2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890640" y="735120"/>
            <a:ext cx="5011560" cy="37591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07560" y="4731840"/>
            <a:ext cx="4962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7CB4058-3DE8-4AA8-BF4D-CC3B9E9A3FF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890640" y="735120"/>
            <a:ext cx="5011560" cy="37591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07560" y="4731840"/>
            <a:ext cx="4962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 txBox="1"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3C91A6C-3124-4902-908D-0923417A0C0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890640" y="735120"/>
            <a:ext cx="5011560" cy="375912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07560" y="4731840"/>
            <a:ext cx="4962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658F-AF0E-42A4-BE33-D6424840E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6676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2800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000" y="3948120"/>
            <a:ext cx="892800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E284E-D83C-4D9F-B473-58FE8F1EB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6676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5672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2880" y="1052640"/>
            <a:ext cx="435672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000" y="3948120"/>
            <a:ext cx="435672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2880" y="3948120"/>
            <a:ext cx="435672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6A1E-7818-47CE-A667-4DEED91D2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6676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287460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6600" y="1052640"/>
            <a:ext cx="287460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5560" y="1052640"/>
            <a:ext cx="287460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000" y="3948120"/>
            <a:ext cx="287460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6600" y="3948120"/>
            <a:ext cx="287460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5560" y="3948120"/>
            <a:ext cx="287460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CA1E-167A-4C07-B410-25582C47E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6676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8000" y="1052640"/>
            <a:ext cx="8928000" cy="55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3403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6676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2800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6676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5672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052640"/>
            <a:ext cx="435672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6676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9422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667640" cy="28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3403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6676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5672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052640"/>
            <a:ext cx="435672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8000" y="3948120"/>
            <a:ext cx="435672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6676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000" y="1052640"/>
            <a:ext cx="8928000" cy="55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5F6F-DDE3-4855-880F-467C5FDAF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6676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5672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052640"/>
            <a:ext cx="435672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948120"/>
            <a:ext cx="435672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6676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5672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052640"/>
            <a:ext cx="435672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8000" y="3948120"/>
            <a:ext cx="892800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6676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2800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8000" y="3948120"/>
            <a:ext cx="892800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6676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5672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052640"/>
            <a:ext cx="435672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8000" y="3948120"/>
            <a:ext cx="435672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948120"/>
            <a:ext cx="435672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6676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287460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26600" y="1052640"/>
            <a:ext cx="287460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5560" y="1052640"/>
            <a:ext cx="287460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8000" y="3948120"/>
            <a:ext cx="287460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26600" y="3948120"/>
            <a:ext cx="287460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5560" y="3948120"/>
            <a:ext cx="287460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6676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2800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81D5-74D3-4B74-8ECA-A4FC9AB65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6676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5672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2880" y="1052640"/>
            <a:ext cx="435672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C92B-F21F-4DD1-9476-0EA2CAAF7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6676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AEE9-9E96-45C2-9CF0-58F89AD7A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667640" cy="28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FD67-B09B-4F87-B203-675A6FC50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6676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5672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2880" y="1052640"/>
            <a:ext cx="435672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000" y="3948120"/>
            <a:ext cx="435672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19BE-11A0-43D9-9E1B-766479DE3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6676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5672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2880" y="1052640"/>
            <a:ext cx="435672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2880" y="3948120"/>
            <a:ext cx="435672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CBF9-55C6-4DAA-A63F-6AA766A72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6676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5672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2880" y="1052640"/>
            <a:ext cx="435672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000" y="3948120"/>
            <a:ext cx="8928000" cy="26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EB2B-F19A-48F5-88FE-B6C84CEBC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previousslide"/>
          </p:cNvPr>
          <p:cNvSpPr/>
          <p:nvPr/>
        </p:nvSpPr>
        <p:spPr>
          <a:xfrm>
            <a:off x="826920" y="5996160"/>
            <a:ext cx="792360" cy="457200"/>
          </a:xfrm>
          <a:custGeom>
            <a:avLst/>
            <a:gdLst>
              <a:gd name="textAreaLeft" fmla="*/ 29520 w 792360"/>
              <a:gd name="textAreaRight" fmla="*/ 762840 w 792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7422" h="21600">
                <a:moveTo>
                  <a:pt x="0" y="0"/>
                </a:moveTo>
                <a:lnTo>
                  <a:pt x="37422" y="0"/>
                </a:lnTo>
                <a:lnTo>
                  <a:pt x="37422" y="21600"/>
                </a:lnTo>
                <a:lnTo>
                  <a:pt x="0" y="21600"/>
                </a:lnTo>
                <a:close/>
              </a:path>
              <a:path fill="lightenLess" w="37422" h="21600">
                <a:moveTo>
                  <a:pt x="0" y="0"/>
                </a:moveTo>
                <a:lnTo>
                  <a:pt x="37422" y="0"/>
                </a:lnTo>
                <a:lnTo>
                  <a:pt x="36022" y="1400"/>
                </a:lnTo>
                <a:lnTo>
                  <a:pt x="1400" y="1400"/>
                </a:lnTo>
                <a:close/>
              </a:path>
              <a:path fill="darken" w="37422" h="21600">
                <a:moveTo>
                  <a:pt x="37422" y="0"/>
                </a:moveTo>
                <a:lnTo>
                  <a:pt x="37422" y="21600"/>
                </a:lnTo>
                <a:lnTo>
                  <a:pt x="36022" y="20200"/>
                </a:lnTo>
                <a:lnTo>
                  <a:pt x="36022" y="1400"/>
                </a:lnTo>
                <a:close/>
              </a:path>
              <a:path fill="darkenLess" w="37422" h="21600">
                <a:moveTo>
                  <a:pt x="37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22" y="20200"/>
                </a:lnTo>
                <a:close/>
              </a:path>
              <a:path fill="lighten" w="37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22" h="21600">
                <a:moveTo>
                  <a:pt x="11704" y="10800"/>
                </a:moveTo>
                <a:lnTo>
                  <a:pt x="25717" y="3794"/>
                </a:lnTo>
                <a:lnTo>
                  <a:pt x="25717" y="17806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4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316160" cy="71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08000" y="1052640"/>
            <a:ext cx="892800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25"/>
              </a:spcAft>
              <a:buClr>
                <a:srgbClr val="434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03e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434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03e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  <a:p>
            <a:pPr lvl="2" marL="1143000" indent="-228600">
              <a:spcAft>
                <a:spcPts val="1125"/>
              </a:spcAft>
              <a:buClr>
                <a:srgbClr val="434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03e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  <a:p>
            <a:pPr lvl="3" marL="1600200" indent="-228600">
              <a:spcAft>
                <a:spcPts val="1125"/>
              </a:spcAft>
              <a:buClr>
                <a:srgbClr val="434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03e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  <a:p>
            <a:pPr lvl="4" marL="2057400" indent="-228600">
              <a:spcAft>
                <a:spcPts val="1125"/>
              </a:spcAft>
              <a:buClr>
                <a:srgbClr val="434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03e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  <a:p>
            <a:pPr lvl="5" marL="2057400" indent="-228600">
              <a:spcAft>
                <a:spcPts val="1125"/>
              </a:spcAft>
              <a:buClr>
                <a:srgbClr val="0040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03e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  <a:p>
            <a:pPr lvl="6" marL="2057400" indent="-228600">
              <a:spcAft>
                <a:spcPts val="1125"/>
              </a:spcAft>
              <a:buClr>
                <a:srgbClr val="0040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03e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667640" cy="60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07a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422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75280" y="6597360"/>
            <a:ext cx="468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407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5A78-A5CA-4607-93FB-F505D57B81A5}" type="slidenum">
              <a:rPr b="0" lang="pt-BR" sz="1200" spc="-1" strike="noStrike">
                <a:solidFill>
                  <a:srgbClr val="00407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3344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422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94228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54400" y="5145120"/>
            <a:ext cx="2514600" cy="1384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838080"/>
            <a:ext cx="9144000" cy="69840"/>
          </a:xfrm>
          <a:prstGeom prst="rect">
            <a:avLst/>
          </a:prstGeom>
          <a:solidFill>
            <a:srgbClr val="d01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3403e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3403e"/>
              </a:solidFill>
              <a:latin typeface="Arial"/>
            </a:endParaRPr>
          </a:p>
          <a:p>
            <a:pPr lvl="1" marL="457200" indent="0" algn="ctr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03e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  <a:p>
            <a:pPr lvl="2" marL="914400" algn="ctr">
              <a:spcAft>
                <a:spcPts val="1125"/>
              </a:spcAft>
              <a:buClr>
                <a:srgbClr val="43403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03e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  <a:p>
            <a:pPr lvl="3" marL="1371600" algn="ctr">
              <a:spcAft>
                <a:spcPts val="1125"/>
              </a:spcAft>
              <a:buClr>
                <a:srgbClr val="43403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03e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  <a:p>
            <a:pPr lvl="4" marL="1828800" algn="ctr">
              <a:spcAft>
                <a:spcPts val="1125"/>
              </a:spcAft>
              <a:buClr>
                <a:srgbClr val="43403e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03e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40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03e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40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03e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3403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90720" y="3860640"/>
            <a:ext cx="7200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Paulo Rabello de Castro</a:t>
            </a:r>
            <a:endParaRPr b="1" lang="en-US" sz="2400" spc="-1" strike="noStrike">
              <a:solidFill>
                <a:srgbClr val="43403e"/>
              </a:solidFill>
              <a:latin typeface="Arial"/>
            </a:endParaRPr>
          </a:p>
          <a:p>
            <a:pPr algn="ctr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3403e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outubro 2006</a:t>
            </a:r>
            <a:endParaRPr b="1" lang="en-US" sz="1600" spc="-1" strike="noStrike">
              <a:solidFill>
                <a:srgbClr val="43403e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1905120"/>
            <a:ext cx="89154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33cc"/>
                </a:solidFill>
                <a:latin typeface="Garamond"/>
              </a:rPr>
              <a:t>Lavoura   </a:t>
            </a:r>
            <a:r>
              <a:rPr b="1" i="1" lang="pt-BR" sz="4800" spc="-1" strike="noStrike">
                <a:solidFill>
                  <a:srgbClr val="0033cc"/>
                </a:solidFill>
                <a:latin typeface="Garamond"/>
              </a:rPr>
              <a:t>vs.</a:t>
            </a:r>
            <a:r>
              <a:rPr b="1" lang="pt-BR" sz="4800" spc="-1" strike="noStrike">
                <a:solidFill>
                  <a:srgbClr val="0033cc"/>
                </a:solidFill>
                <a:latin typeface="Garamond"/>
              </a:rPr>
              <a:t>   Floresta</a:t>
            </a:r>
            <a:endParaRPr b="0" lang="en-US" sz="48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Garamond"/>
              </a:rPr>
              <a:t>Projetando a Nova Economia da Conservação</a:t>
            </a:r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8928000" cy="440676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419280" y="193680"/>
            <a:ext cx="55227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Amazônia – área de grãos (2022)</a:t>
            </a:r>
            <a:endParaRPr b="1" lang="en-US" sz="28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838080"/>
            <a:ext cx="9144000" cy="69840"/>
          </a:xfrm>
          <a:prstGeom prst="rect">
            <a:avLst/>
          </a:prstGeom>
          <a:solidFill>
            <a:srgbClr val="d01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-1440" y="5805360"/>
            <a:ext cx="325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a0402"/>
                </a:solidFill>
                <a:latin typeface="Franklin Gothic Medium"/>
              </a:rPr>
              <a:t>*Abrange </a:t>
            </a:r>
            <a:r>
              <a:rPr b="0" lang="pl-PL" sz="1400" spc="-1" strike="noStrike">
                <a:solidFill>
                  <a:srgbClr val="0a0402"/>
                </a:solidFill>
                <a:latin typeface="Franklin Gothic Medium"/>
              </a:rPr>
              <a:t>MT, AM, MA, PA, RO, TO</a:t>
            </a:r>
            <a:endParaRPr b="0" lang="en-US" sz="1400" spc="-1" strike="noStrike">
              <a:solidFill>
                <a:srgbClr val="00407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a0402"/>
                </a:solidFill>
                <a:latin typeface="Franklin Gothic Medium"/>
              </a:rPr>
              <a:t>Fonte: IBGE</a:t>
            </a:r>
            <a:endParaRPr b="0" lang="en-US" sz="1400" spc="-1" strike="noStrike">
              <a:solidFill>
                <a:srgbClr val="00407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a0402"/>
                </a:solidFill>
                <a:latin typeface="Franklin Gothic Medium"/>
              </a:rPr>
              <a:t>Projeção RC Consultores (preliminar)</a:t>
            </a:r>
            <a:endParaRPr b="0" lang="en-US" sz="1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059280" y="1176480"/>
            <a:ext cx="2999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407a"/>
                </a:solidFill>
                <a:latin typeface="Arial"/>
                <a:ea typeface="Arial"/>
              </a:rPr>
              <a:t>Cenário “Status Quo”</a:t>
            </a:r>
            <a:endParaRPr b="0" lang="en-US" sz="25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24B2-276B-49D7-99B9-55A91B727C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0" name=""/>
          <p:cNvGraphicFramePr/>
          <p:nvPr/>
        </p:nvGraphicFramePr>
        <p:xfrm>
          <a:off x="76320" y="990720"/>
          <a:ext cx="4952880" cy="37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990720"/>
                    <a:ext cx="495288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029200" y="990720"/>
          <a:ext cx="3962520" cy="518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990720"/>
                    <a:ext cx="3962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"/>
          <p:cNvSpPr/>
          <p:nvPr/>
        </p:nvSpPr>
        <p:spPr>
          <a:xfrm>
            <a:off x="3750480" y="76320"/>
            <a:ext cx="523872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s Desafios em Infra-Estrutura</a:t>
            </a:r>
            <a:endParaRPr b="0" lang="en-US" sz="2800" spc="-1" strike="noStrike">
              <a:solidFill>
                <a:srgbClr val="00407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Escoamento da Produção</a:t>
            </a: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838080"/>
            <a:ext cx="9144000" cy="69840"/>
          </a:xfrm>
          <a:prstGeom prst="rect">
            <a:avLst/>
          </a:prstGeom>
          <a:solidFill>
            <a:srgbClr val="d01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-121680" y="5805360"/>
            <a:ext cx="373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a0402"/>
                </a:solidFill>
                <a:latin typeface="Franklin Gothic Medium"/>
              </a:rPr>
              <a:t>Fonte: Olivier Girard</a:t>
            </a:r>
            <a:endParaRPr b="0" lang="en-US" sz="1400" spc="-1" strike="noStrike">
              <a:solidFill>
                <a:srgbClr val="00407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a0402"/>
                </a:solidFill>
                <a:latin typeface="Franklin Gothic Medium"/>
              </a:rPr>
              <a:t>PPP, 2006</a:t>
            </a:r>
            <a:endParaRPr b="0" lang="en-US" sz="1400" spc="-1" strike="noStrike">
              <a:solidFill>
                <a:srgbClr val="00407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a0402"/>
                </a:solidFill>
                <a:latin typeface="Franklin Gothic Medium"/>
              </a:rPr>
              <a:t>Estudo especial de Trevisan Consultores</a:t>
            </a:r>
            <a:endParaRPr b="0" lang="en-US" sz="1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5781-F2EB-434F-89EC-710E4C3F73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79280" y="981000"/>
            <a:ext cx="8785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ção de lavouras</a:t>
            </a:r>
            <a:endParaRPr b="0" lang="en-US" sz="28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tores Inibidores da demanda por área</a:t>
            </a: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réscimo de produtividade</a:t>
            </a: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neamento inteligente (exclusão de criações extensivas)</a:t>
            </a: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ções / participação</a:t>
            </a: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erta de  transporte em trechos alternativos</a:t>
            </a: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838080"/>
            <a:ext cx="9144000" cy="69840"/>
          </a:xfrm>
          <a:prstGeom prst="rect">
            <a:avLst/>
          </a:prstGeom>
          <a:solidFill>
            <a:srgbClr val="d01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EA59-CDDB-4693-9AE9-03AA880AA81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79280" y="981000"/>
            <a:ext cx="8785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dicionantes da “Equação Ambiental”</a:t>
            </a:r>
            <a:endParaRPr b="0" lang="en-US" sz="28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emanda por novas áreas ( = fronteira desmatável) depende de:</a:t>
            </a:r>
            <a:endParaRPr b="0" lang="en-US" sz="22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 + ) Demandas projetadas de lavouras / pecuária</a:t>
            </a: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 + ) Demandas de produtos florestais</a:t>
            </a: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 - ) [ Percepção de Degradação Ambiental ( = “Utilidade” negativa da Degradação) ]</a:t>
            </a: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 - ) Oferta de áreas alternativas</a:t>
            </a: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 + / - ) Restrições regulatórias</a:t>
            </a: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838080"/>
            <a:ext cx="9144000" cy="69840"/>
          </a:xfrm>
          <a:prstGeom prst="rect">
            <a:avLst/>
          </a:prstGeom>
          <a:solidFill>
            <a:srgbClr val="d01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5C8E-BDDD-4718-86D9-C0620028896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79280" y="907920"/>
            <a:ext cx="8785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quações sociais possíveis</a:t>
            </a:r>
            <a:endParaRPr b="0" lang="en-US" sz="2800" spc="-1" strike="noStrike">
              <a:solidFill>
                <a:srgbClr val="00407a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407a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i="1" lang="pt-BR" sz="2500" spc="-1" strike="noStrike">
                <a:solidFill>
                  <a:srgbClr val="000000"/>
                </a:solidFill>
                <a:latin typeface="Arial"/>
              </a:rPr>
              <a:t>Vertente “Conservacionista”</a:t>
            </a:r>
            <a:endParaRPr b="0" lang="en-US" sz="2500" spc="-1" strike="noStrike">
              <a:solidFill>
                <a:srgbClr val="00407a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nimizar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gradação Ambiental (DA)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4000" spc="-1" strike="noStrike">
              <a:solidFill>
                <a:srgbClr val="00407a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dicionado ao Conforto Social (CS)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X</a:t>
            </a:r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pt-BR" sz="2500" spc="-1" strike="noStrike">
                <a:solidFill>
                  <a:srgbClr val="000000"/>
                </a:solidFill>
                <a:latin typeface="Arial"/>
              </a:rPr>
              <a:t>Vertente “Produtivista”</a:t>
            </a:r>
            <a:endParaRPr b="0" lang="en-US" sz="2500" spc="-1" strike="noStrike">
              <a:solidFill>
                <a:srgbClr val="00407a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ximizar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F (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; onde CS = renda do campo + IDH</a:t>
            </a:r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dicionado a DA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Y</a:t>
            </a:r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838080"/>
            <a:ext cx="9144000" cy="69840"/>
          </a:xfrm>
          <a:prstGeom prst="rect">
            <a:avLst/>
          </a:prstGeom>
          <a:solidFill>
            <a:srgbClr val="d01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2DD7-1DDD-4321-97F2-C1EB0AAC6C9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4211640" y="2637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40720" cy="90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07a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4228"/>
                </a:solidFill>
                <a:latin typeface="Arial"/>
                <a:ea typeface="Arial"/>
              </a:rPr>
              <a:t>Indicador de Degradação Ambiental</a:t>
            </a:r>
            <a:endParaRPr b="1" lang="en-US" sz="20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08000" y="1914480"/>
            <a:ext cx="8928000" cy="0"/>
          </a:xfrm>
          <a:prstGeom prst="line">
            <a:avLst/>
          </a:prstGeom>
          <a:ln w="2844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08000" y="1698480"/>
            <a:ext cx="0" cy="432000"/>
          </a:xfrm>
          <a:prstGeom prst="line">
            <a:avLst/>
          </a:prstGeom>
          <a:ln w="1908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50920" y="1698480"/>
            <a:ext cx="0" cy="432000"/>
          </a:xfrm>
          <a:prstGeom prst="line">
            <a:avLst/>
          </a:prstGeom>
          <a:ln w="1908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211640" y="1698480"/>
            <a:ext cx="0" cy="432000"/>
          </a:xfrm>
          <a:prstGeom prst="line">
            <a:avLst/>
          </a:prstGeom>
          <a:ln w="1908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516720" y="1698480"/>
            <a:ext cx="0" cy="432000"/>
          </a:xfrm>
          <a:prstGeom prst="line">
            <a:avLst/>
          </a:prstGeom>
          <a:ln w="1908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59640" y="1698480"/>
            <a:ext cx="0" cy="432000"/>
          </a:xfrm>
          <a:prstGeom prst="line">
            <a:avLst/>
          </a:prstGeom>
          <a:ln w="1908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920" y="14367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DA = 0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82560" y="104616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2006 Hoje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492360" y="2133720"/>
            <a:ext cx="1440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402"/>
                </a:solidFill>
                <a:latin typeface="Arial"/>
              </a:rPr>
              <a:t>DA </a:t>
            </a:r>
            <a:r>
              <a:rPr b="0" lang="en-US" sz="2000" spc="-1" strike="noStrike" baseline="-25000">
                <a:solidFill>
                  <a:srgbClr val="0a0402"/>
                </a:solidFill>
                <a:latin typeface="Arial"/>
              </a:rPr>
              <a:t>min</a:t>
            </a: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859280" y="907920"/>
            <a:ext cx="936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2022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08000" y="9460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402"/>
                </a:solidFill>
                <a:latin typeface="Bookman Old Style"/>
              </a:rPr>
              <a:t>I</a:t>
            </a: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08000" y="907920"/>
            <a:ext cx="576360" cy="505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84720" y="2203560"/>
            <a:ext cx="181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a0402"/>
                </a:solidFill>
                <a:latin typeface="Arial"/>
              </a:rPr>
              <a:t>DA </a:t>
            </a:r>
            <a:r>
              <a:rPr b="0" lang="pt-BR" sz="2000" spc="-1" strike="noStrike" baseline="-25000">
                <a:solidFill>
                  <a:srgbClr val="0a0402"/>
                </a:solidFill>
                <a:latin typeface="Arial"/>
              </a:rPr>
              <a:t>max</a:t>
            </a:r>
            <a:r>
              <a:rPr b="0" lang="pt-BR" sz="2000" spc="-1" strike="noStrike">
                <a:solidFill>
                  <a:srgbClr val="00407a"/>
                </a:solidFill>
                <a:latin typeface="Arial"/>
              </a:rPr>
              <a:t> = </a:t>
            </a:r>
            <a:r>
              <a:rPr b="0" lang="pt-BR" sz="1800" spc="-1" strike="noStrike">
                <a:solidFill>
                  <a:srgbClr val="0a0402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812000" y="923760"/>
            <a:ext cx="122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a0402"/>
                </a:solidFill>
                <a:latin typeface="Arial"/>
              </a:rPr>
              <a:t>Projeções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a0402"/>
                </a:solidFill>
                <a:latin typeface="Arial"/>
              </a:rPr>
              <a:t>Status Quo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4427280" y="1266840"/>
            <a:ext cx="936360" cy="503280"/>
          </a:xfrm>
          <a:prstGeom prst="line">
            <a:avLst/>
          </a:prstGeom>
          <a:ln w="9360">
            <a:solidFill>
              <a:srgbClr val="0a04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64000" y="1266840"/>
            <a:ext cx="935280" cy="503280"/>
          </a:xfrm>
          <a:prstGeom prst="line">
            <a:avLst/>
          </a:prstGeom>
          <a:ln w="9360">
            <a:solidFill>
              <a:srgbClr val="0a04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643280" y="1989000"/>
            <a:ext cx="17290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402"/>
                </a:solidFill>
                <a:latin typeface="Symbol"/>
                <a:ea typeface="Symbol"/>
              </a:rPr>
              <a:t></a:t>
            </a: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DA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~ </a:t>
            </a:r>
            <a:r>
              <a:rPr b="0" lang="en-US" sz="1600" spc="-1" strike="noStrike">
                <a:solidFill>
                  <a:srgbClr val="0a0402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0a0402"/>
                </a:solidFill>
                <a:latin typeface="Arial"/>
              </a:rPr>
              <a:t>DA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14920" y="2347920"/>
            <a:ext cx="1584360" cy="0"/>
          </a:xfrm>
          <a:prstGeom prst="line">
            <a:avLst/>
          </a:prstGeom>
          <a:ln w="936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cxnSp>
        <p:nvCxnSpPr>
          <p:cNvPr id="713" name=""/>
          <p:cNvCxnSpPr>
            <a:stCxn id="697" idx="0"/>
            <a:endCxn id="703" idx="2"/>
          </p:cNvCxnSpPr>
          <p:nvPr/>
        </p:nvCxnSpPr>
        <p:spPr>
          <a:xfrm flipH="1" rot="16200000">
            <a:off x="2936520" y="1253520"/>
            <a:ext cx="391320" cy="2162880"/>
          </a:xfrm>
          <a:prstGeom prst="curvedConnector5">
            <a:avLst>
              <a:gd name="adj1" fmla="val 158471"/>
              <a:gd name="adj2" fmla="val 49991"/>
              <a:gd name="adj3" fmla="val 158471"/>
            </a:avLst>
          </a:prstGeom>
          <a:ln w="9360">
            <a:solidFill>
              <a:srgbClr val="0a0402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7" idx="1"/>
            <a:endCxn id="707" idx="2"/>
          </p:cNvCxnSpPr>
          <p:nvPr/>
        </p:nvCxnSpPr>
        <p:spPr>
          <a:xfrm flipH="1" rot="16200000">
            <a:off x="4291560" y="-101160"/>
            <a:ext cx="461160" cy="4942440"/>
          </a:xfrm>
          <a:prstGeom prst="curvedConnector5">
            <a:avLst>
              <a:gd name="adj1" fmla="val 200312"/>
              <a:gd name="adj2" fmla="val 50000"/>
              <a:gd name="adj3" fmla="val 200312"/>
            </a:avLst>
          </a:prstGeom>
          <a:ln w="9360">
            <a:solidFill>
              <a:srgbClr val="0a0402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7" idx="1"/>
            <a:endCxn id="700" idx="0"/>
          </p:cNvCxnSpPr>
          <p:nvPr/>
        </p:nvCxnSpPr>
        <p:spPr>
          <a:xfrm flipH="1" rot="16200000">
            <a:off x="5254200" y="-1064160"/>
            <a:ext cx="2520" cy="6409440"/>
          </a:xfrm>
          <a:prstGeom prst="curvedConnector5">
            <a:avLst>
              <a:gd name="adj1" fmla="val 68300000"/>
              <a:gd name="adj2" fmla="val 49997"/>
              <a:gd name="adj3" fmla="val 68300000"/>
            </a:avLst>
          </a:prstGeom>
          <a:ln w="9360">
            <a:solidFill>
              <a:srgbClr val="0a0402"/>
            </a:solidFill>
            <a:miter/>
            <a:tailEnd len="med" type="triangle" w="med"/>
          </a:ln>
        </p:spPr>
      </p:cxnSp>
      <p:sp>
        <p:nvSpPr>
          <p:cNvPr id="716" name=""/>
          <p:cNvSpPr/>
          <p:nvPr/>
        </p:nvSpPr>
        <p:spPr>
          <a:xfrm>
            <a:off x="108000" y="4670280"/>
            <a:ext cx="8928000" cy="0"/>
          </a:xfrm>
          <a:prstGeom prst="line">
            <a:avLst/>
          </a:prstGeom>
          <a:ln w="2844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8000" y="4454640"/>
            <a:ext cx="0" cy="431640"/>
          </a:xfrm>
          <a:prstGeom prst="line">
            <a:avLst/>
          </a:prstGeom>
          <a:ln w="1908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50920" y="4454640"/>
            <a:ext cx="0" cy="431640"/>
          </a:xfrm>
          <a:prstGeom prst="line">
            <a:avLst/>
          </a:prstGeom>
          <a:ln w="1908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211640" y="4454640"/>
            <a:ext cx="0" cy="431640"/>
          </a:xfrm>
          <a:prstGeom prst="line">
            <a:avLst/>
          </a:prstGeom>
          <a:ln w="1908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516720" y="4454640"/>
            <a:ext cx="0" cy="431640"/>
          </a:xfrm>
          <a:prstGeom prst="line">
            <a:avLst/>
          </a:prstGeom>
          <a:ln w="1908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459640" y="4454640"/>
            <a:ext cx="0" cy="431640"/>
          </a:xfrm>
          <a:prstGeom prst="line">
            <a:avLst/>
          </a:prstGeom>
          <a:ln w="1908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771640" y="4906800"/>
            <a:ext cx="171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402"/>
                </a:solidFill>
                <a:latin typeface="Arial"/>
              </a:rPr>
              <a:t>CS </a:t>
            </a:r>
            <a:r>
              <a:rPr b="0" lang="en-US" sz="2000" spc="-1" strike="noStrike" baseline="-25000">
                <a:solidFill>
                  <a:srgbClr val="0a0402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a0402"/>
                </a:solidFill>
                <a:latin typeface="Arial"/>
              </a:rPr>
              <a:t> = X</a:t>
            </a: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213600" y="4906800"/>
            <a:ext cx="1166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a0402"/>
                </a:solidFill>
                <a:latin typeface="Arial"/>
              </a:rPr>
              <a:t>CS </a:t>
            </a:r>
            <a:r>
              <a:rPr b="0" lang="pt-BR" sz="2000" spc="-1" strike="noStrike" baseline="-25000">
                <a:solidFill>
                  <a:srgbClr val="0a0402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47640" y="380700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2006 Hoje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500720" y="5030640"/>
            <a:ext cx="1728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402"/>
                </a:solidFill>
                <a:latin typeface="Symbol"/>
                <a:ea typeface="Symbol"/>
              </a:rPr>
              <a:t></a:t>
            </a: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CS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~ </a:t>
            </a:r>
            <a:r>
              <a:rPr b="0" lang="en-US" sz="1600" spc="-1" strike="noStrike">
                <a:solidFill>
                  <a:srgbClr val="0a0402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U </a:t>
            </a:r>
            <a:r>
              <a:rPr b="0" lang="en-US" sz="1600" spc="-1" strike="noStrike" baseline="-25000">
                <a:solidFill>
                  <a:srgbClr val="0a0402"/>
                </a:solidFill>
                <a:latin typeface="Arial"/>
              </a:rPr>
              <a:t>CS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11640" y="5391000"/>
            <a:ext cx="2160720" cy="0"/>
          </a:xfrm>
          <a:prstGeom prst="line">
            <a:avLst/>
          </a:prstGeom>
          <a:ln w="9360">
            <a:solidFill>
              <a:srgbClr val="0a04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79280" y="5489640"/>
            <a:ext cx="4392720" cy="114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Equação política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a0402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U </a:t>
            </a:r>
            <a:r>
              <a:rPr b="0" lang="en-US" sz="1600" spc="-1" strike="noStrike" baseline="-25000">
                <a:solidFill>
                  <a:srgbClr val="0a0402"/>
                </a:solidFill>
                <a:latin typeface="Arial"/>
              </a:rPr>
              <a:t>CS</a:t>
            </a: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    P </a:t>
            </a:r>
            <a:r>
              <a:rPr b="0" lang="en-US" sz="1600" spc="-1" strike="noStrike" baseline="-25000">
                <a:solidFill>
                  <a:srgbClr val="0a0402"/>
                </a:solidFill>
                <a:latin typeface="Arial"/>
              </a:rPr>
              <a:t>CS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a0402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U </a:t>
            </a:r>
            <a:r>
              <a:rPr b="0" lang="en-US" sz="1600" spc="-1" strike="noStrike" baseline="-25000">
                <a:solidFill>
                  <a:srgbClr val="0a0402"/>
                </a:solidFill>
                <a:latin typeface="Arial"/>
              </a:rPr>
              <a:t>DA</a:t>
            </a: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    P </a:t>
            </a:r>
            <a:r>
              <a:rPr b="0" lang="en-US" sz="1600" spc="-1" strike="noStrike" baseline="-25000">
                <a:solidFill>
                  <a:srgbClr val="0a0402"/>
                </a:solidFill>
                <a:latin typeface="Arial"/>
              </a:rPr>
              <a:t>DA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32000" y="6216480"/>
            <a:ext cx="601920" cy="1800"/>
          </a:xfrm>
          <a:prstGeom prst="line">
            <a:avLst/>
          </a:prstGeom>
          <a:ln w="936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644920" y="601200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402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035080" y="6216480"/>
            <a:ext cx="601920" cy="1800"/>
          </a:xfrm>
          <a:prstGeom prst="line">
            <a:avLst/>
          </a:prstGeom>
          <a:ln w="936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01640" y="3357720"/>
            <a:ext cx="774072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4228"/>
                </a:solidFill>
                <a:latin typeface="Arial"/>
                <a:ea typeface="Arial"/>
              </a:rPr>
              <a:t>Indicador de “Conforto Social” (Y + IDH)</a:t>
            </a: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16720" y="2637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8000" y="3789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402"/>
                </a:solidFill>
                <a:latin typeface="Bookman Old Style"/>
              </a:rPr>
              <a:t>II</a:t>
            </a: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08000" y="3751200"/>
            <a:ext cx="57636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43280" y="5772240"/>
            <a:ext cx="439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a0402"/>
                </a:solidFill>
                <a:latin typeface="Arial"/>
              </a:rPr>
              <a:t>“</a:t>
            </a:r>
            <a:r>
              <a:rPr b="0" lang="pt-BR" sz="1600" spc="-1" strike="noStrike">
                <a:solidFill>
                  <a:srgbClr val="0a0402"/>
                </a:solidFill>
                <a:latin typeface="Arial"/>
              </a:rPr>
              <a:t>Utilidade” acrescida de Conforto Social </a:t>
            </a:r>
            <a:r>
              <a:rPr b="0" i="1" lang="pt-BR" sz="1600" spc="-1" strike="noStrike">
                <a:solidFill>
                  <a:srgbClr val="0a0402"/>
                </a:solidFill>
                <a:latin typeface="Arial"/>
              </a:rPr>
              <a:t>VS </a:t>
            </a:r>
            <a:r>
              <a:rPr b="0" lang="pt-BR" sz="1600" spc="-1" strike="noStrike">
                <a:solidFill>
                  <a:srgbClr val="0a0402"/>
                </a:solidFill>
                <a:latin typeface="Arial"/>
              </a:rPr>
              <a:t>“Desutilidade” acrescida de Degradação é equilibrada aos “preços” relativos de ambos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A25FA-6F95-4C24-9D17-61C1847299F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 flipV="1">
            <a:off x="2268360" y="907560"/>
            <a:ext cx="0" cy="4537080"/>
          </a:xfrm>
          <a:prstGeom prst="line">
            <a:avLst/>
          </a:prstGeom>
          <a:ln w="28440">
            <a:solidFill>
              <a:srgbClr val="0a04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68360" y="5445000"/>
            <a:ext cx="6264360" cy="0"/>
          </a:xfrm>
          <a:prstGeom prst="line">
            <a:avLst/>
          </a:prstGeom>
          <a:ln w="28440">
            <a:solidFill>
              <a:srgbClr val="0a04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08000" y="765000"/>
            <a:ext cx="216036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a0402"/>
                </a:solidFill>
                <a:latin typeface="Arial"/>
              </a:rPr>
              <a:t>Conforto Social = CS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a0402"/>
                </a:solidFill>
                <a:latin typeface="Arial"/>
              </a:rPr>
              <a:t>(retorno da atividade)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407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a0402"/>
                </a:solidFill>
                <a:latin typeface="Arial"/>
              </a:rPr>
              <a:t>CS</a:t>
            </a:r>
            <a:r>
              <a:rPr b="0" lang="pt-BR" sz="1600" spc="-1" strike="noStrike" baseline="30000">
                <a:solidFill>
                  <a:srgbClr val="0a0402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7800" y="4532400"/>
            <a:ext cx="187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CS </a:t>
            </a:r>
            <a:r>
              <a:rPr b="0" lang="en-US" sz="1600" spc="-1" strike="noStrike" baseline="-25000">
                <a:solidFill>
                  <a:srgbClr val="0a0402"/>
                </a:solidFill>
                <a:latin typeface="Arial"/>
              </a:rPr>
              <a:t>min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60720" y="4589640"/>
            <a:ext cx="215640" cy="215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268360" y="1628280"/>
            <a:ext cx="5543640" cy="3032280"/>
          </a:xfrm>
          <a:prstGeom prst="line">
            <a:avLst/>
          </a:prstGeom>
          <a:ln w="19080">
            <a:solidFill>
              <a:srgbClr val="0801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268360" y="907560"/>
            <a:ext cx="2303640" cy="3745080"/>
          </a:xfrm>
          <a:prstGeom prst="line">
            <a:avLst/>
          </a:prstGeom>
          <a:ln w="19080">
            <a:solidFill>
              <a:srgbClr val="0801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227640" y="5445000"/>
            <a:ext cx="2881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Degradação Ambiental = DA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(“custo”)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268360" y="1916280"/>
            <a:ext cx="1656000" cy="0"/>
          </a:xfrm>
          <a:prstGeom prst="line">
            <a:avLst/>
          </a:prstGeom>
          <a:ln w="9360">
            <a:solidFill>
              <a:srgbClr val="0a04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59280" y="1916280"/>
            <a:ext cx="0" cy="3528720"/>
          </a:xfrm>
          <a:prstGeom prst="line">
            <a:avLst/>
          </a:prstGeom>
          <a:ln w="9360">
            <a:solidFill>
              <a:srgbClr val="0a04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268360" y="3046320"/>
            <a:ext cx="2951280" cy="22320"/>
          </a:xfrm>
          <a:prstGeom prst="line">
            <a:avLst/>
          </a:prstGeom>
          <a:ln w="9360">
            <a:solidFill>
              <a:srgbClr val="0a04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219640" y="3068640"/>
            <a:ext cx="3240" cy="2376360"/>
          </a:xfrm>
          <a:prstGeom prst="line">
            <a:avLst/>
          </a:prstGeom>
          <a:ln w="9360">
            <a:solidFill>
              <a:srgbClr val="0a04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33440" y="2908440"/>
            <a:ext cx="71640" cy="71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2268360" y="907560"/>
            <a:ext cx="0" cy="4537080"/>
          </a:xfrm>
          <a:prstGeom prst="line">
            <a:avLst/>
          </a:prstGeom>
          <a:ln w="28440">
            <a:solidFill>
              <a:srgbClr val="0a04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32000" y="1862280"/>
            <a:ext cx="71640" cy="71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765440" y="2830680"/>
            <a:ext cx="433080" cy="0"/>
          </a:xfrm>
          <a:prstGeom prst="line">
            <a:avLst/>
          </a:prstGeom>
          <a:ln w="936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51280" y="566568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DA</a:t>
            </a:r>
            <a:r>
              <a:rPr b="0" lang="en-US" sz="1600" spc="-1" strike="noStrike" baseline="30000">
                <a:solidFill>
                  <a:srgbClr val="0a0402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219640" y="5676840"/>
            <a:ext cx="433440" cy="0"/>
          </a:xfrm>
          <a:prstGeom prst="line">
            <a:avLst/>
          </a:prstGeom>
          <a:ln w="936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5300640"/>
            <a:ext cx="0" cy="289080"/>
          </a:xfrm>
          <a:prstGeom prst="line">
            <a:avLst/>
          </a:prstGeom>
          <a:ln w="936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700360" y="5300640"/>
            <a:ext cx="0" cy="289080"/>
          </a:xfrm>
          <a:prstGeom prst="line">
            <a:avLst/>
          </a:prstGeom>
          <a:ln w="936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03640" y="5300640"/>
            <a:ext cx="0" cy="289080"/>
          </a:xfrm>
          <a:prstGeom prst="line">
            <a:avLst/>
          </a:prstGeom>
          <a:ln w="936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708360" y="5300640"/>
            <a:ext cx="0" cy="289080"/>
          </a:xfrm>
          <a:prstGeom prst="line">
            <a:avLst/>
          </a:prstGeom>
          <a:ln w="936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211640" y="5300640"/>
            <a:ext cx="0" cy="289080"/>
          </a:xfrm>
          <a:prstGeom prst="line">
            <a:avLst/>
          </a:prstGeom>
          <a:ln w="936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35640" y="5300640"/>
            <a:ext cx="0" cy="289080"/>
          </a:xfrm>
          <a:prstGeom prst="line">
            <a:avLst/>
          </a:prstGeom>
          <a:ln w="9360">
            <a:solidFill>
              <a:srgbClr val="0a0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rot="20086800">
            <a:off x="2623320" y="2657880"/>
            <a:ext cx="7781040" cy="408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8" y="4555"/>
                </a:moveTo>
                <a:arcTo wR="10800" hR="10800" stAng="-8680522" swAng="5368044"/>
                <a:lnTo>
                  <a:pt x="10800" y="10800"/>
                </a:lnTo>
                <a:close/>
              </a:path>
              <a:path fill="none" w="21600" h="21600">
                <a:moveTo>
                  <a:pt x="1988" y="4555"/>
                </a:moveTo>
                <a:arcTo wR="10800" hR="10800" stAng="-8680522" swAng="5368044"/>
              </a:path>
            </a:pathLst>
          </a:cu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024520" y="2924280"/>
            <a:ext cx="287280" cy="217440"/>
          </a:xfrm>
          <a:prstGeom prst="line">
            <a:avLst/>
          </a:prstGeom>
          <a:ln w="9360">
            <a:solidFill>
              <a:srgbClr val="004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rot="195600">
            <a:off x="3344760" y="4036320"/>
            <a:ext cx="1873080" cy="201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74" y="123"/>
                </a:moveTo>
                <a:arcTo wR="10800" hR="10800" stAng="-5919440" swAng="6487153"/>
                <a:lnTo>
                  <a:pt x="10800" y="10800"/>
                </a:lnTo>
                <a:close/>
              </a:path>
              <a:path fill="none" w="21600" h="21600">
                <a:moveTo>
                  <a:pt x="9174" y="123"/>
                </a:moveTo>
                <a:arcTo wR="10800" hR="10800" stAng="-5919440" swAng="6487153"/>
              </a:path>
            </a:pathLst>
          </a:custGeom>
          <a:noFill/>
          <a:ln w="9360">
            <a:solidFill>
              <a:srgbClr val="004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rot="604200">
            <a:off x="4204440" y="3276000"/>
            <a:ext cx="1873080" cy="201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74" y="123"/>
                </a:moveTo>
                <a:arcTo wR="10800" hR="10800" stAng="-5919440" swAng="6487153"/>
                <a:lnTo>
                  <a:pt x="10800" y="10800"/>
                </a:lnTo>
                <a:close/>
              </a:path>
              <a:path fill="none" w="21600" h="21600">
                <a:moveTo>
                  <a:pt x="9174" y="123"/>
                </a:moveTo>
                <a:arcTo wR="10800" hR="10800" stAng="-5919440" swAng="6487153"/>
              </a:path>
            </a:pathLst>
          </a:custGeom>
          <a:noFill/>
          <a:ln w="9360">
            <a:solidFill>
              <a:srgbClr val="004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 rot="1509000">
            <a:off x="5076360" y="2765880"/>
            <a:ext cx="1873080" cy="20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74" y="123"/>
                </a:moveTo>
                <a:arcTo wR="10800" hR="10800" stAng="-5919440" swAng="6487153"/>
                <a:lnTo>
                  <a:pt x="10800" y="10800"/>
                </a:lnTo>
                <a:close/>
              </a:path>
              <a:path fill="none" w="21600" h="21600">
                <a:moveTo>
                  <a:pt x="9174" y="123"/>
                </a:moveTo>
                <a:arcTo wR="10800" hR="10800" stAng="-5919440" swAng="6487153"/>
              </a:path>
            </a:pathLst>
          </a:custGeom>
          <a:noFill/>
          <a:ln w="9360">
            <a:solidFill>
              <a:srgbClr val="004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 rot="1890000">
            <a:off x="6167880" y="2367720"/>
            <a:ext cx="1873080" cy="201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74" y="123"/>
                </a:moveTo>
                <a:arcTo wR="10800" hR="10800" stAng="-5919440" swAng="6487153"/>
                <a:lnTo>
                  <a:pt x="10800" y="10800"/>
                </a:lnTo>
                <a:close/>
              </a:path>
              <a:path fill="none" w="21600" h="21600">
                <a:moveTo>
                  <a:pt x="9174" y="123"/>
                </a:moveTo>
                <a:arcTo wR="10800" hR="10800" stAng="-5919440" swAng="6487153"/>
              </a:path>
            </a:pathLst>
          </a:custGeom>
          <a:noFill/>
          <a:ln w="9360">
            <a:solidFill>
              <a:srgbClr val="004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2268360" y="907560"/>
            <a:ext cx="0" cy="4537080"/>
          </a:xfrm>
          <a:prstGeom prst="line">
            <a:avLst/>
          </a:prstGeom>
          <a:ln w="28440">
            <a:solidFill>
              <a:srgbClr val="0a04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2268360" y="907560"/>
            <a:ext cx="0" cy="4537080"/>
          </a:xfrm>
          <a:prstGeom prst="line">
            <a:avLst/>
          </a:prstGeom>
          <a:ln w="28440">
            <a:solidFill>
              <a:srgbClr val="0a04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176720" y="4149720"/>
            <a:ext cx="71280" cy="71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338720" y="3697200"/>
            <a:ext cx="71280" cy="71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292720" y="3267000"/>
            <a:ext cx="71280" cy="71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284720" y="1484280"/>
            <a:ext cx="1224000" cy="1152720"/>
          </a:xfrm>
          <a:prstGeom prst="ellipse">
            <a:avLst/>
          </a:prstGeom>
          <a:solidFill>
            <a:srgbClr val="dede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Ótimo </a:t>
            </a: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ocial</a:t>
            </a: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788000" y="2637000"/>
            <a:ext cx="43164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4643280" y="907920"/>
            <a:ext cx="2880000" cy="1368720"/>
          </a:xfrm>
          <a:prstGeom prst="line">
            <a:avLst/>
          </a:prstGeom>
          <a:ln w="12600">
            <a:solidFill>
              <a:srgbClr val="0a04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364000" y="853920"/>
            <a:ext cx="28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402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a0402"/>
                </a:solidFill>
                <a:latin typeface="Arial"/>
              </a:rPr>
              <a:t>Tecnologias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0880" y="2781360"/>
            <a:ext cx="1943280" cy="158436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d5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7d50"/>
                </a:solidFill>
                <a:latin typeface="Arial"/>
              </a:rPr>
              <a:t>Fronteira” de </a:t>
            </a: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d50"/>
                </a:solidFill>
                <a:latin typeface="Arial"/>
              </a:rPr>
              <a:t>trade-offs </a:t>
            </a: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d50"/>
                </a:solidFill>
                <a:latin typeface="Arial"/>
              </a:rPr>
              <a:t>entre CS e DA</a:t>
            </a: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7740360" y="2349360"/>
            <a:ext cx="431640" cy="432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427640" y="4149720"/>
            <a:ext cx="2881080" cy="9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8013d"/>
                </a:solidFill>
                <a:latin typeface="Arial"/>
              </a:rPr>
              <a:t>Distintos arranjos tecnológicos, </a:t>
            </a:r>
            <a:endParaRPr b="0" lang="en-US" sz="15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8013d"/>
                </a:solidFill>
                <a:latin typeface="Arial"/>
              </a:rPr>
              <a:t>“</a:t>
            </a:r>
            <a:r>
              <a:rPr b="0" lang="pt-BR" sz="1500" spc="-1" strike="noStrike">
                <a:solidFill>
                  <a:srgbClr val="08013d"/>
                </a:solidFill>
                <a:latin typeface="Arial"/>
              </a:rPr>
              <a:t>mix” de culturas e de meios de </a:t>
            </a:r>
            <a:endParaRPr b="0" lang="en-US" sz="15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8013d"/>
                </a:solidFill>
                <a:latin typeface="Arial"/>
              </a:rPr>
              <a:t>transporte</a:t>
            </a:r>
            <a:endParaRPr b="0" lang="en-US" sz="15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488360" cy="61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07a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4228"/>
                </a:solidFill>
                <a:latin typeface="Arial"/>
              </a:rPr>
              <a:t>Uma nova “Economia da Conservação”</a:t>
            </a:r>
            <a:endParaRPr b="1" lang="en-US" sz="24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924360" y="4149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7a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338720" y="368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7a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202360" y="3340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7a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F951-C550-45E5-BBD1-519B5915A5E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179280" y="2532240"/>
            <a:ext cx="878544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plicitar suas medidas de CS e DA</a:t>
            </a: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Aft>
                <a:spcPts val="938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407a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Aft>
                <a:spcPts val="938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407a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plicitar os “preços” que atribuem a CS e DA</a:t>
            </a: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Aft>
                <a:spcPts val="938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407a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Aft>
                <a:spcPts val="938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407a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udar e propor barganhas (“trade-offs”) possíveis</a:t>
            </a: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Ex: Reduzir a expansão de área em lavouras para 1% a.a.)</a:t>
            </a:r>
            <a:endParaRPr b="0" lang="en-US" sz="20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0" y="1166400"/>
            <a:ext cx="9144000" cy="6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07a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4228"/>
                </a:solidFill>
                <a:latin typeface="Arial"/>
              </a:rPr>
              <a:t>Tarefa dos movimentos ecológicos e das organizações profissionais</a:t>
            </a:r>
            <a:endParaRPr b="1" lang="en-US" sz="28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838080"/>
            <a:ext cx="9144000" cy="69840"/>
          </a:xfrm>
          <a:prstGeom prst="rect">
            <a:avLst/>
          </a:prstGeom>
          <a:solidFill>
            <a:srgbClr val="d01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1C56-3217-4B65-9AB0-AD4A0DEA895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324000" y="1125360"/>
            <a:ext cx="85690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05000"/>
              </a:lnSpc>
              <a:spcBef>
                <a:spcPts val="1239"/>
              </a:spcBef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79280" y="1125360"/>
            <a:ext cx="8785440" cy="56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43403e"/>
              </a:buClr>
              <a:buFont typeface="Arial"/>
              <a:buChar char="•"/>
              <a:tabLst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43403e"/>
              </a:buClr>
              <a:buFont typeface="Arial"/>
              <a:buChar char="•"/>
              <a:tabLst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3403e"/>
                </a:solidFill>
                <a:latin typeface="Arial"/>
              </a:rPr>
              <a:t>Escritórios:</a:t>
            </a:r>
            <a:r>
              <a:rPr b="0" lang="pt-BR" sz="1800" spc="-1" strike="noStrike">
                <a:solidFill>
                  <a:srgbClr val="43403e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3403e"/>
                </a:solidFill>
                <a:latin typeface="Arial"/>
              </a:rPr>
              <a:t>   São Paulo – SP</a:t>
            </a: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170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3403e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43403e"/>
                </a:solidFill>
                <a:latin typeface="Arial"/>
              </a:rPr>
              <a:t>Rio de Janeiro - RJ</a:t>
            </a: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43403e"/>
              </a:buClr>
              <a:buFont typeface="Arial"/>
              <a:buChar char="•"/>
              <a:tabLst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3403e"/>
                </a:solidFill>
                <a:latin typeface="Arial"/>
              </a:rPr>
              <a:t>Telefones:</a:t>
            </a:r>
            <a:r>
              <a:rPr b="0" lang="pt-BR" sz="1800" spc="-1" strike="noStrike">
                <a:solidFill>
                  <a:srgbClr val="43403e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3403e"/>
                </a:solidFill>
                <a:latin typeface="Arial"/>
              </a:rPr>
              <a:t> (011) 5505-3300 / 5506-5050</a:t>
            </a: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3403e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3403e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3403e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43403e"/>
                </a:solidFill>
                <a:latin typeface="Arial"/>
              </a:rPr>
              <a:t>(021) 2263-7456</a:t>
            </a: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43403e"/>
              </a:buClr>
              <a:buFont typeface="Arial"/>
              <a:buChar char="•"/>
              <a:tabLst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43403e"/>
              </a:buClr>
              <a:buFont typeface="Arial"/>
              <a:buChar char="•"/>
              <a:tabLst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43403e"/>
              </a:buClr>
              <a:buFont typeface="Arial"/>
              <a:buChar char="•"/>
              <a:tabLst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3403e"/>
                </a:solidFill>
                <a:latin typeface="Arial"/>
              </a:rPr>
              <a:t>Site:</a:t>
            </a:r>
            <a:r>
              <a:rPr b="0" lang="pt-BR" sz="1800" spc="-1" strike="noStrike">
                <a:solidFill>
                  <a:srgbClr val="43403e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3403e"/>
                </a:solidFill>
                <a:latin typeface="Arial"/>
              </a:rPr>
              <a:t>www.rcconsultores.com.br</a:t>
            </a: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50920" y="5373720"/>
            <a:ext cx="8642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RC Consultores elaborou este informativo com dados disponíveis até 03/10/2006. Apesar de cuidar da exatidão desses dados, a RC Consultores não se responsabiliza pela total precisão das informações que poderão, eventualmente, estar incompletas e / ou resumidas. A RC Consultores também não se responsabiliza por qualquer operação que venha a ser feita considerando os prognósticos sobre o comportamento dos ativos / indicadores aqui mencionado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838080"/>
            <a:ext cx="9144000" cy="69840"/>
          </a:xfrm>
          <a:prstGeom prst="rect">
            <a:avLst/>
          </a:prstGeom>
          <a:solidFill>
            <a:srgbClr val="d01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5309-A3CE-43BA-B2DD-09E3619F13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388800"/>
          <a:ext cx="9144000" cy="646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8800"/>
                    <a:ext cx="9144000" cy="646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" name=""/>
          <p:cNvGrpSpPr/>
          <p:nvPr/>
        </p:nvGrpSpPr>
        <p:grpSpPr>
          <a:xfrm>
            <a:off x="2401560" y="2040840"/>
            <a:ext cx="3524760" cy="1317960"/>
            <a:chOff x="2401560" y="2040840"/>
            <a:chExt cx="3524760" cy="1317960"/>
          </a:xfrm>
        </p:grpSpPr>
        <p:sp>
          <p:nvSpPr>
            <p:cNvPr id="93" name=""/>
            <p:cNvSpPr/>
            <p:nvPr/>
          </p:nvSpPr>
          <p:spPr>
            <a:xfrm rot="12694200">
              <a:off x="2666520" y="2400120"/>
              <a:ext cx="1524240" cy="533160"/>
            </a:xfrm>
            <a:custGeom>
              <a:avLst/>
              <a:gdLst>
                <a:gd name="textAreaLeft" fmla="*/ 266760 w 1524240"/>
                <a:gd name="textAreaRight" fmla="*/ 1105200 w 1524240"/>
                <a:gd name="textAreaTop" fmla="*/ 71280 h 533160"/>
                <a:gd name="textAreaBottom" fmla="*/ 4618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4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01560" y="263520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80</a:t>
              </a:r>
              <a:endParaRPr b="0" lang="en-US" sz="3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36560" y="248760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80</a:t>
              </a:r>
              <a:endParaRPr b="0" lang="en-US" sz="3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7949400">
              <a:off x="4168800" y="2536560"/>
              <a:ext cx="1241280" cy="434880"/>
            </a:xfrm>
            <a:custGeom>
              <a:avLst/>
              <a:gdLst>
                <a:gd name="textAreaLeft" fmla="*/ 217440 w 1241280"/>
                <a:gd name="textAreaRight" fmla="*/ 900360 w 1241280"/>
                <a:gd name="textAreaTop" fmla="*/ 57960 h 434880"/>
                <a:gd name="textAreaBottom" fmla="*/ 376920 h 43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4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344480" y="52578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9080"/>
            <a:ext cx="9144000" cy="438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4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7a"/>
                </a:solidFill>
                <a:latin typeface="Arial Black"/>
              </a:rPr>
              <a:t>Brasil: Caminhos do Crescimento</a:t>
            </a:r>
            <a:endParaRPr b="0" lang="en-US" sz="2800" spc="-1" strike="noStrike">
              <a:solidFill>
                <a:srgbClr val="00407a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18240" y="3210840"/>
            <a:ext cx="2856600" cy="1774440"/>
            <a:chOff x="3018240" y="3210840"/>
            <a:chExt cx="2856600" cy="1774440"/>
          </a:xfrm>
        </p:grpSpPr>
        <p:sp>
          <p:nvSpPr>
            <p:cNvPr id="100" name=""/>
            <p:cNvSpPr/>
            <p:nvPr/>
          </p:nvSpPr>
          <p:spPr>
            <a:xfrm flipH="1" rot="5241600">
              <a:off x="2742480" y="3530520"/>
              <a:ext cx="1295280" cy="685800"/>
            </a:xfrm>
            <a:custGeom>
              <a:avLst/>
              <a:gdLst>
                <a:gd name="textAreaLeft" fmla="*/ 226440 w 1295280"/>
                <a:gd name="textAreaRight" fmla="*/ 939240 w 1295280"/>
                <a:gd name="textAreaTop" fmla="*/ 91800 h 685800"/>
                <a:gd name="textAreaBottom" fmla="*/ 5940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99ff"/>
            </a:solidFill>
            <a:ln w="9360">
              <a:solidFill>
                <a:srgbClr val="004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57120" y="322740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ecff"/>
                  </a:solidFill>
                  <a:latin typeface="Arial"/>
                </a:rPr>
                <a:t>70</a:t>
              </a:r>
              <a:endParaRPr b="0" lang="en-US" sz="3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7337000">
              <a:off x="4578840" y="3770640"/>
              <a:ext cx="1320840" cy="890640"/>
            </a:xfrm>
            <a:custGeom>
              <a:avLst/>
              <a:gdLst>
                <a:gd name="textAreaLeft" fmla="*/ 231120 w 1320840"/>
                <a:gd name="textAreaRight" fmla="*/ 957600 w 1320840"/>
                <a:gd name="textAreaTop" fmla="*/ 119160 h 890640"/>
                <a:gd name="textAreaBottom" fmla="*/ 771480 h 89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99ff"/>
            </a:solidFill>
            <a:ln w="9360">
              <a:solidFill>
                <a:srgbClr val="004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810960" y="4092480"/>
            <a:ext cx="1543680" cy="1301400"/>
            <a:chOff x="3810960" y="4092480"/>
            <a:chExt cx="1543680" cy="1301400"/>
          </a:xfrm>
        </p:grpSpPr>
        <p:sp>
          <p:nvSpPr>
            <p:cNvPr id="104" name=""/>
            <p:cNvSpPr/>
            <p:nvPr/>
          </p:nvSpPr>
          <p:spPr>
            <a:xfrm rot="14012400">
              <a:off x="4155840" y="4499280"/>
              <a:ext cx="1257480" cy="487800"/>
            </a:xfrm>
            <a:custGeom>
              <a:avLst/>
              <a:gdLst>
                <a:gd name="textAreaLeft" fmla="*/ 219960 w 1257480"/>
                <a:gd name="textAreaRight" fmla="*/ 911880 w 1257480"/>
                <a:gd name="textAreaTop" fmla="*/ 65160 h 487800"/>
                <a:gd name="textAreaBottom" fmla="*/ 422640 h 48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4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10960" y="439740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ff00"/>
                  </a:solidFill>
                  <a:latin typeface="Arial"/>
                </a:rPr>
                <a:t>60</a:t>
              </a:r>
              <a:endParaRPr b="0" lang="en-US" sz="3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756720" y="1143000"/>
            <a:ext cx="4271040" cy="1829880"/>
            <a:chOff x="756720" y="1143000"/>
            <a:chExt cx="4271040" cy="1829880"/>
          </a:xfrm>
        </p:grpSpPr>
        <p:sp>
          <p:nvSpPr>
            <p:cNvPr id="107" name=""/>
            <p:cNvSpPr/>
            <p:nvPr/>
          </p:nvSpPr>
          <p:spPr>
            <a:xfrm rot="1461000">
              <a:off x="2507760" y="1523880"/>
              <a:ext cx="304920" cy="990720"/>
            </a:xfrm>
            <a:prstGeom prst="upArrow">
              <a:avLst>
                <a:gd name="adj1" fmla="val 50000"/>
                <a:gd name="adj2" fmla="val 81228"/>
              </a:avLst>
            </a:prstGeom>
            <a:solidFill>
              <a:srgbClr val="dedede"/>
            </a:solidFill>
            <a:ln w="9360">
              <a:solidFill>
                <a:srgbClr val="004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5972000">
              <a:off x="1773720" y="2324160"/>
              <a:ext cx="312840" cy="825480"/>
            </a:xfrm>
            <a:prstGeom prst="upArrow">
              <a:avLst>
                <a:gd name="adj1" fmla="val 50000"/>
                <a:gd name="adj2" fmla="val 65967"/>
              </a:avLst>
            </a:prstGeom>
            <a:solidFill>
              <a:srgbClr val="dedede"/>
            </a:solidFill>
            <a:ln w="9360">
              <a:solidFill>
                <a:srgbClr val="004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461000">
              <a:off x="4336920" y="1905120"/>
              <a:ext cx="304920" cy="990360"/>
            </a:xfrm>
            <a:prstGeom prst="upArrow">
              <a:avLst>
                <a:gd name="adj1" fmla="val 50000"/>
                <a:gd name="adj2" fmla="val 81198"/>
              </a:avLst>
            </a:prstGeom>
            <a:solidFill>
              <a:srgbClr val="dedede"/>
            </a:solidFill>
            <a:ln w="9360">
              <a:solidFill>
                <a:srgbClr val="004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6720" y="233028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ff99"/>
                  </a:solidFill>
                  <a:latin typeface="Arial"/>
                </a:rPr>
                <a:t>90</a:t>
              </a:r>
              <a:endParaRPr b="0" lang="en-US" sz="3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90440" y="114300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ff99"/>
                  </a:solidFill>
                  <a:latin typeface="Arial"/>
                </a:rPr>
                <a:t>90</a:t>
              </a:r>
              <a:endParaRPr b="0" lang="en-US" sz="3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38000" y="137484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ff99"/>
                  </a:solidFill>
                  <a:latin typeface="Arial"/>
                </a:rPr>
                <a:t>90</a:t>
              </a:r>
              <a:endParaRPr b="0" lang="en-US" sz="3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558400" y="1600200"/>
            <a:ext cx="2219040" cy="1117800"/>
            <a:chOff x="5558400" y="1600200"/>
            <a:chExt cx="2219040" cy="1117800"/>
          </a:xfrm>
        </p:grpSpPr>
        <p:sp>
          <p:nvSpPr>
            <p:cNvPr id="114" name=""/>
            <p:cNvSpPr/>
            <p:nvPr/>
          </p:nvSpPr>
          <p:spPr>
            <a:xfrm rot="2825400">
              <a:off x="5697000" y="2039040"/>
              <a:ext cx="268200" cy="495360"/>
            </a:xfrm>
            <a:prstGeom prst="upArrow">
              <a:avLst>
                <a:gd name="adj1" fmla="val 50000"/>
                <a:gd name="adj2" fmla="val 46174"/>
              </a:avLst>
            </a:prstGeom>
            <a:solidFill>
              <a:srgbClr val="ffff00"/>
            </a:solidFill>
            <a:ln w="9360">
              <a:solidFill>
                <a:srgbClr val="004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4180200">
              <a:off x="6293880" y="1742760"/>
              <a:ext cx="326880" cy="1219320"/>
            </a:xfrm>
            <a:prstGeom prst="upArrow">
              <a:avLst>
                <a:gd name="adj1" fmla="val 46722"/>
                <a:gd name="adj2" fmla="val 65520"/>
              </a:avLst>
            </a:prstGeom>
            <a:solidFill>
              <a:srgbClr val="ffff00"/>
            </a:solidFill>
            <a:ln w="9360">
              <a:solidFill>
                <a:srgbClr val="004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14520" y="160020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00</a:t>
              </a:r>
              <a:endParaRPr b="0" lang="en-US" sz="3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87680" y="167652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00</a:t>
              </a:r>
              <a:endParaRPr b="0" lang="en-US" sz="3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813960" y="532800"/>
            <a:ext cx="6957000" cy="5443920"/>
            <a:chOff x="813960" y="532800"/>
            <a:chExt cx="6957000" cy="5443920"/>
          </a:xfrm>
        </p:grpSpPr>
        <p:sp>
          <p:nvSpPr>
            <p:cNvPr id="119" name=""/>
            <p:cNvSpPr/>
            <p:nvPr/>
          </p:nvSpPr>
          <p:spPr>
            <a:xfrm>
              <a:off x="1829880" y="533412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ff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2910800">
              <a:off x="2590920" y="4419360"/>
              <a:ext cx="304560" cy="990360"/>
            </a:xfrm>
            <a:prstGeom prst="upArrow">
              <a:avLst>
                <a:gd name="adj1" fmla="val 50000"/>
                <a:gd name="adj2" fmla="val 81294"/>
              </a:avLst>
            </a:prstGeom>
            <a:solidFill>
              <a:srgbClr val="cc3399"/>
            </a:solidFill>
            <a:ln w="9360">
              <a:solidFill>
                <a:srgbClr val="004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5972000">
              <a:off x="1942920" y="3123720"/>
              <a:ext cx="304920" cy="990720"/>
            </a:xfrm>
            <a:prstGeom prst="upArrow">
              <a:avLst>
                <a:gd name="adj1" fmla="val 50000"/>
                <a:gd name="adj2" fmla="val 81228"/>
              </a:avLst>
            </a:prstGeom>
            <a:solidFill>
              <a:srgbClr val="cc3399"/>
            </a:solidFill>
            <a:ln w="9360">
              <a:solidFill>
                <a:srgbClr val="004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3960" y="327672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ff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47440" y="76212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ff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81200" y="281952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ff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400000">
              <a:off x="6622560" y="2971800"/>
              <a:ext cx="304920" cy="990720"/>
            </a:xfrm>
            <a:prstGeom prst="upArrow">
              <a:avLst>
                <a:gd name="adj1" fmla="val 50000"/>
                <a:gd name="adj2" fmla="val 81228"/>
              </a:avLst>
            </a:prstGeom>
            <a:solidFill>
              <a:srgbClr val="cc3399"/>
            </a:solidFill>
            <a:ln w="9360">
              <a:solidFill>
                <a:srgbClr val="004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4400">
              <a:off x="1523880" y="533160"/>
              <a:ext cx="304920" cy="990360"/>
            </a:xfrm>
            <a:prstGeom prst="upArrow">
              <a:avLst>
                <a:gd name="adj1" fmla="val 50000"/>
                <a:gd name="adj2" fmla="val 81198"/>
              </a:avLst>
            </a:prstGeom>
            <a:solidFill>
              <a:srgbClr val="cc3399"/>
            </a:solidFill>
            <a:ln w="9360">
              <a:solidFill>
                <a:srgbClr val="004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E2E4-4F6D-4ED4-B6C4-7995A46EA5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4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38280"/>
          </a:xfrm>
          <a:prstGeom prst="rect">
            <a:avLst/>
          </a:prstGeom>
          <a:noFill/>
          <a:ln w="0">
            <a:noFill/>
          </a:ln>
          <a:effectLst>
            <a:outerShdw dist="68321" dir="4081824" blurRad="0" rotWithShape="0">
              <a:srgbClr val="00407a"/>
            </a:outerShdw>
          </a:effectLst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pansão da Soja no Brasil</a:t>
            </a:r>
            <a:endParaRPr b="1" lang="en-US" sz="2400" spc="-1" strike="noStrike">
              <a:solidFill>
                <a:srgbClr val="b94228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88920" y="907920"/>
            <a:ext cx="9004320" cy="5702040"/>
            <a:chOff x="88920" y="907920"/>
            <a:chExt cx="9004320" cy="570204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4724280" y="1588680"/>
              <a:ext cx="4343400" cy="423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rcRect l="9376" t="3125" r="17970" b="1043"/>
            <a:stretch/>
          </p:blipFill>
          <p:spPr>
            <a:xfrm>
              <a:off x="92160" y="1553760"/>
              <a:ext cx="4340160" cy="429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066160" y="2328480"/>
              <a:ext cx="0" cy="619200"/>
            </a:xfrm>
            <a:prstGeom prst="line">
              <a:avLst/>
            </a:prstGeom>
            <a:ln w="57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49840" y="1550880"/>
              <a:ext cx="3314520" cy="2531880"/>
            </a:xfrm>
            <a:custGeom>
              <a:avLst/>
              <a:gdLst/>
              <a:ahLst/>
              <a:rect l="l" t="t" r="r" b="b"/>
              <a:pathLst>
                <a:path w="1801" h="1376">
                  <a:moveTo>
                    <a:pt x="1801" y="742"/>
                  </a:moveTo>
                  <a:cubicBezTo>
                    <a:pt x="1793" y="745"/>
                    <a:pt x="1785" y="746"/>
                    <a:pt x="1777" y="750"/>
                  </a:cubicBezTo>
                  <a:cubicBezTo>
                    <a:pt x="1768" y="754"/>
                    <a:pt x="1762" y="763"/>
                    <a:pt x="1753" y="766"/>
                  </a:cubicBezTo>
                  <a:cubicBezTo>
                    <a:pt x="1730" y="775"/>
                    <a:pt x="1706" y="776"/>
                    <a:pt x="1682" y="782"/>
                  </a:cubicBezTo>
                  <a:cubicBezTo>
                    <a:pt x="1669" y="791"/>
                    <a:pt x="1645" y="802"/>
                    <a:pt x="1643" y="821"/>
                  </a:cubicBezTo>
                  <a:cubicBezTo>
                    <a:pt x="1638" y="859"/>
                    <a:pt x="1654" y="860"/>
                    <a:pt x="1674" y="884"/>
                  </a:cubicBezTo>
                  <a:cubicBezTo>
                    <a:pt x="1692" y="906"/>
                    <a:pt x="1698" y="932"/>
                    <a:pt x="1714" y="955"/>
                  </a:cubicBezTo>
                  <a:cubicBezTo>
                    <a:pt x="1711" y="984"/>
                    <a:pt x="1718" y="1016"/>
                    <a:pt x="1706" y="1042"/>
                  </a:cubicBezTo>
                  <a:cubicBezTo>
                    <a:pt x="1686" y="1086"/>
                    <a:pt x="1600" y="1079"/>
                    <a:pt x="1572" y="1081"/>
                  </a:cubicBezTo>
                  <a:cubicBezTo>
                    <a:pt x="1524" y="1089"/>
                    <a:pt x="1485" y="1088"/>
                    <a:pt x="1438" y="1074"/>
                  </a:cubicBezTo>
                  <a:cubicBezTo>
                    <a:pt x="1430" y="1076"/>
                    <a:pt x="1419" y="1074"/>
                    <a:pt x="1414" y="1081"/>
                  </a:cubicBezTo>
                  <a:cubicBezTo>
                    <a:pt x="1399" y="1102"/>
                    <a:pt x="1397" y="1131"/>
                    <a:pt x="1382" y="1152"/>
                  </a:cubicBezTo>
                  <a:cubicBezTo>
                    <a:pt x="1381" y="1154"/>
                    <a:pt x="1369" y="1198"/>
                    <a:pt x="1367" y="1200"/>
                  </a:cubicBezTo>
                  <a:cubicBezTo>
                    <a:pt x="1361" y="1206"/>
                    <a:pt x="1351" y="1204"/>
                    <a:pt x="1343" y="1208"/>
                  </a:cubicBezTo>
                  <a:cubicBezTo>
                    <a:pt x="1334" y="1212"/>
                    <a:pt x="1327" y="1218"/>
                    <a:pt x="1319" y="1223"/>
                  </a:cubicBezTo>
                  <a:cubicBezTo>
                    <a:pt x="1269" y="1303"/>
                    <a:pt x="1226" y="1267"/>
                    <a:pt x="1162" y="1310"/>
                  </a:cubicBezTo>
                  <a:cubicBezTo>
                    <a:pt x="1115" y="1342"/>
                    <a:pt x="1073" y="1355"/>
                    <a:pt x="1020" y="1373"/>
                  </a:cubicBezTo>
                  <a:cubicBezTo>
                    <a:pt x="999" y="1370"/>
                    <a:pt x="975" y="1376"/>
                    <a:pt x="956" y="1365"/>
                  </a:cubicBezTo>
                  <a:cubicBezTo>
                    <a:pt x="884" y="1323"/>
                    <a:pt x="959" y="1322"/>
                    <a:pt x="901" y="1302"/>
                  </a:cubicBezTo>
                  <a:cubicBezTo>
                    <a:pt x="876" y="1293"/>
                    <a:pt x="848" y="1293"/>
                    <a:pt x="822" y="1287"/>
                  </a:cubicBezTo>
                  <a:cubicBezTo>
                    <a:pt x="810" y="1251"/>
                    <a:pt x="817" y="1163"/>
                    <a:pt x="791" y="1137"/>
                  </a:cubicBezTo>
                  <a:cubicBezTo>
                    <a:pt x="756" y="1103"/>
                    <a:pt x="711" y="1099"/>
                    <a:pt x="672" y="1074"/>
                  </a:cubicBezTo>
                  <a:cubicBezTo>
                    <a:pt x="667" y="1066"/>
                    <a:pt x="664" y="1056"/>
                    <a:pt x="657" y="1050"/>
                  </a:cubicBezTo>
                  <a:cubicBezTo>
                    <a:pt x="652" y="1046"/>
                    <a:pt x="603" y="1035"/>
                    <a:pt x="601" y="1034"/>
                  </a:cubicBezTo>
                  <a:cubicBezTo>
                    <a:pt x="551" y="1019"/>
                    <a:pt x="564" y="1024"/>
                    <a:pt x="530" y="1003"/>
                  </a:cubicBezTo>
                  <a:cubicBezTo>
                    <a:pt x="528" y="996"/>
                    <a:pt x="507" y="924"/>
                    <a:pt x="507" y="924"/>
                  </a:cubicBezTo>
                  <a:cubicBezTo>
                    <a:pt x="494" y="913"/>
                    <a:pt x="459" y="908"/>
                    <a:pt x="459" y="908"/>
                  </a:cubicBezTo>
                  <a:cubicBezTo>
                    <a:pt x="435" y="916"/>
                    <a:pt x="428" y="915"/>
                    <a:pt x="412" y="939"/>
                  </a:cubicBezTo>
                  <a:cubicBezTo>
                    <a:pt x="407" y="946"/>
                    <a:pt x="411" y="958"/>
                    <a:pt x="404" y="963"/>
                  </a:cubicBezTo>
                  <a:cubicBezTo>
                    <a:pt x="391" y="973"/>
                    <a:pt x="373" y="974"/>
                    <a:pt x="357" y="979"/>
                  </a:cubicBezTo>
                  <a:cubicBezTo>
                    <a:pt x="349" y="982"/>
                    <a:pt x="333" y="987"/>
                    <a:pt x="333" y="987"/>
                  </a:cubicBezTo>
                  <a:cubicBezTo>
                    <a:pt x="287" y="978"/>
                    <a:pt x="245" y="969"/>
                    <a:pt x="199" y="963"/>
                  </a:cubicBezTo>
                  <a:cubicBezTo>
                    <a:pt x="177" y="898"/>
                    <a:pt x="199" y="979"/>
                    <a:pt x="199" y="916"/>
                  </a:cubicBezTo>
                  <a:cubicBezTo>
                    <a:pt x="199" y="902"/>
                    <a:pt x="194" y="889"/>
                    <a:pt x="191" y="876"/>
                  </a:cubicBezTo>
                  <a:cubicBezTo>
                    <a:pt x="167" y="880"/>
                    <a:pt x="144" y="892"/>
                    <a:pt x="120" y="892"/>
                  </a:cubicBezTo>
                  <a:cubicBezTo>
                    <a:pt x="101" y="892"/>
                    <a:pt x="83" y="881"/>
                    <a:pt x="65" y="876"/>
                  </a:cubicBezTo>
                  <a:cubicBezTo>
                    <a:pt x="46" y="820"/>
                    <a:pt x="63" y="838"/>
                    <a:pt x="25" y="813"/>
                  </a:cubicBezTo>
                  <a:cubicBezTo>
                    <a:pt x="0" y="773"/>
                    <a:pt x="8" y="743"/>
                    <a:pt x="41" y="711"/>
                  </a:cubicBezTo>
                  <a:cubicBezTo>
                    <a:pt x="44" y="685"/>
                    <a:pt x="36" y="655"/>
                    <a:pt x="49" y="632"/>
                  </a:cubicBezTo>
                  <a:cubicBezTo>
                    <a:pt x="57" y="618"/>
                    <a:pt x="80" y="621"/>
                    <a:pt x="96" y="616"/>
                  </a:cubicBezTo>
                  <a:cubicBezTo>
                    <a:pt x="155" y="596"/>
                    <a:pt x="84" y="623"/>
                    <a:pt x="144" y="592"/>
                  </a:cubicBezTo>
                  <a:cubicBezTo>
                    <a:pt x="160" y="584"/>
                    <a:pt x="175" y="576"/>
                    <a:pt x="191" y="569"/>
                  </a:cubicBezTo>
                  <a:cubicBezTo>
                    <a:pt x="206" y="562"/>
                    <a:pt x="238" y="553"/>
                    <a:pt x="238" y="553"/>
                  </a:cubicBezTo>
                  <a:cubicBezTo>
                    <a:pt x="243" y="482"/>
                    <a:pt x="225" y="439"/>
                    <a:pt x="278" y="403"/>
                  </a:cubicBezTo>
                  <a:cubicBezTo>
                    <a:pt x="292" y="361"/>
                    <a:pt x="289" y="394"/>
                    <a:pt x="262" y="355"/>
                  </a:cubicBezTo>
                  <a:cubicBezTo>
                    <a:pt x="257" y="347"/>
                    <a:pt x="247" y="305"/>
                    <a:pt x="246" y="300"/>
                  </a:cubicBezTo>
                  <a:cubicBezTo>
                    <a:pt x="249" y="292"/>
                    <a:pt x="248" y="282"/>
                    <a:pt x="254" y="277"/>
                  </a:cubicBezTo>
                  <a:cubicBezTo>
                    <a:pt x="263" y="270"/>
                    <a:pt x="281" y="279"/>
                    <a:pt x="286" y="269"/>
                  </a:cubicBezTo>
                  <a:cubicBezTo>
                    <a:pt x="302" y="237"/>
                    <a:pt x="271" y="224"/>
                    <a:pt x="254" y="213"/>
                  </a:cubicBezTo>
                  <a:cubicBezTo>
                    <a:pt x="257" y="205"/>
                    <a:pt x="255" y="195"/>
                    <a:pt x="262" y="190"/>
                  </a:cubicBezTo>
                  <a:cubicBezTo>
                    <a:pt x="287" y="172"/>
                    <a:pt x="342" y="164"/>
                    <a:pt x="373" y="158"/>
                  </a:cubicBezTo>
                  <a:cubicBezTo>
                    <a:pt x="439" y="169"/>
                    <a:pt x="411" y="153"/>
                    <a:pt x="451" y="213"/>
                  </a:cubicBezTo>
                  <a:cubicBezTo>
                    <a:pt x="462" y="229"/>
                    <a:pt x="499" y="245"/>
                    <a:pt x="499" y="245"/>
                  </a:cubicBezTo>
                  <a:cubicBezTo>
                    <a:pt x="530" y="234"/>
                    <a:pt x="532" y="211"/>
                    <a:pt x="562" y="198"/>
                  </a:cubicBezTo>
                  <a:cubicBezTo>
                    <a:pt x="577" y="191"/>
                    <a:pt x="609" y="182"/>
                    <a:pt x="609" y="182"/>
                  </a:cubicBezTo>
                  <a:cubicBezTo>
                    <a:pt x="621" y="145"/>
                    <a:pt x="618" y="125"/>
                    <a:pt x="586" y="103"/>
                  </a:cubicBezTo>
                  <a:cubicBezTo>
                    <a:pt x="583" y="99"/>
                    <a:pt x="551" y="56"/>
                    <a:pt x="562" y="48"/>
                  </a:cubicBezTo>
                  <a:cubicBezTo>
                    <a:pt x="573" y="40"/>
                    <a:pt x="588" y="54"/>
                    <a:pt x="601" y="56"/>
                  </a:cubicBezTo>
                  <a:cubicBezTo>
                    <a:pt x="617" y="59"/>
                    <a:pt x="633" y="61"/>
                    <a:pt x="649" y="64"/>
                  </a:cubicBezTo>
                  <a:cubicBezTo>
                    <a:pt x="686" y="55"/>
                    <a:pt x="714" y="36"/>
                    <a:pt x="751" y="24"/>
                  </a:cubicBezTo>
                  <a:cubicBezTo>
                    <a:pt x="767" y="19"/>
                    <a:pt x="783" y="13"/>
                    <a:pt x="799" y="8"/>
                  </a:cubicBezTo>
                  <a:cubicBezTo>
                    <a:pt x="807" y="5"/>
                    <a:pt x="822" y="0"/>
                    <a:pt x="822" y="0"/>
                  </a:cubicBezTo>
                  <a:cubicBezTo>
                    <a:pt x="869" y="31"/>
                    <a:pt x="853" y="51"/>
                    <a:pt x="846" y="111"/>
                  </a:cubicBezTo>
                  <a:cubicBezTo>
                    <a:pt x="854" y="175"/>
                    <a:pt x="856" y="201"/>
                    <a:pt x="917" y="221"/>
                  </a:cubicBezTo>
                  <a:cubicBezTo>
                    <a:pt x="946" y="211"/>
                    <a:pt x="968" y="194"/>
                    <a:pt x="996" y="182"/>
                  </a:cubicBezTo>
                  <a:cubicBezTo>
                    <a:pt x="1011" y="176"/>
                    <a:pt x="1043" y="166"/>
                    <a:pt x="1043" y="166"/>
                  </a:cubicBezTo>
                  <a:cubicBezTo>
                    <a:pt x="1056" y="170"/>
                    <a:pt x="1086" y="185"/>
                    <a:pt x="1098" y="166"/>
                  </a:cubicBezTo>
                  <a:cubicBezTo>
                    <a:pt x="1104" y="157"/>
                    <a:pt x="1082" y="140"/>
                    <a:pt x="1091" y="135"/>
                  </a:cubicBezTo>
                  <a:cubicBezTo>
                    <a:pt x="1105" y="127"/>
                    <a:pt x="1122" y="140"/>
                    <a:pt x="1138" y="142"/>
                  </a:cubicBezTo>
                  <a:cubicBezTo>
                    <a:pt x="1197" y="162"/>
                    <a:pt x="1163" y="169"/>
                    <a:pt x="1240" y="158"/>
                  </a:cubicBezTo>
                  <a:cubicBezTo>
                    <a:pt x="1256" y="153"/>
                    <a:pt x="1272" y="147"/>
                    <a:pt x="1288" y="142"/>
                  </a:cubicBezTo>
                  <a:cubicBezTo>
                    <a:pt x="1297" y="139"/>
                    <a:pt x="1299" y="127"/>
                    <a:pt x="1304" y="119"/>
                  </a:cubicBezTo>
                  <a:cubicBezTo>
                    <a:pt x="1323" y="91"/>
                    <a:pt x="1326" y="72"/>
                    <a:pt x="1351" y="48"/>
                  </a:cubicBezTo>
                  <a:cubicBezTo>
                    <a:pt x="1369" y="101"/>
                    <a:pt x="1406" y="175"/>
                    <a:pt x="1446" y="213"/>
                  </a:cubicBezTo>
                  <a:cubicBezTo>
                    <a:pt x="1449" y="221"/>
                    <a:pt x="1455" y="229"/>
                    <a:pt x="1454" y="237"/>
                  </a:cubicBezTo>
                  <a:cubicBezTo>
                    <a:pt x="1452" y="253"/>
                    <a:pt x="1438" y="284"/>
                    <a:pt x="1438" y="284"/>
                  </a:cubicBezTo>
                  <a:cubicBezTo>
                    <a:pt x="1456" y="290"/>
                    <a:pt x="1475" y="292"/>
                    <a:pt x="1493" y="300"/>
                  </a:cubicBezTo>
                  <a:cubicBezTo>
                    <a:pt x="1502" y="304"/>
                    <a:pt x="1508" y="312"/>
                    <a:pt x="1517" y="316"/>
                  </a:cubicBezTo>
                  <a:cubicBezTo>
                    <a:pt x="1524" y="320"/>
                    <a:pt x="1532" y="321"/>
                    <a:pt x="1540" y="324"/>
                  </a:cubicBezTo>
                  <a:cubicBezTo>
                    <a:pt x="1575" y="377"/>
                    <a:pt x="1596" y="364"/>
                    <a:pt x="1667" y="371"/>
                  </a:cubicBezTo>
                  <a:cubicBezTo>
                    <a:pt x="1699" y="379"/>
                    <a:pt x="1716" y="390"/>
                    <a:pt x="1745" y="403"/>
                  </a:cubicBezTo>
                  <a:cubicBezTo>
                    <a:pt x="1760" y="410"/>
                    <a:pt x="1793" y="419"/>
                    <a:pt x="1793" y="419"/>
                  </a:cubicBezTo>
                  <a:cubicBezTo>
                    <a:pt x="1796" y="432"/>
                    <a:pt x="1801" y="458"/>
                    <a:pt x="1801" y="458"/>
                  </a:cubicBezTo>
                </a:path>
              </a:pathLst>
            </a:custGeom>
            <a:noFill/>
            <a:ln w="572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94440" y="2212560"/>
              <a:ext cx="1589040" cy="1370160"/>
            </a:xfrm>
            <a:custGeom>
              <a:avLst/>
              <a:gdLst/>
              <a:ahLst/>
              <a:rect l="l" t="t" r="r" b="b"/>
              <a:pathLst>
                <a:path w="864" h="744">
                  <a:moveTo>
                    <a:pt x="0" y="720"/>
                  </a:moveTo>
                  <a:cubicBezTo>
                    <a:pt x="168" y="732"/>
                    <a:pt x="336" y="744"/>
                    <a:pt x="480" y="624"/>
                  </a:cubicBezTo>
                  <a:cubicBezTo>
                    <a:pt x="624" y="504"/>
                    <a:pt x="744" y="252"/>
                    <a:pt x="864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36920" y="2338200"/>
              <a:ext cx="0" cy="623880"/>
            </a:xfrm>
            <a:prstGeom prst="line">
              <a:avLst/>
            </a:prstGeom>
            <a:ln w="57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920" y="1552320"/>
              <a:ext cx="3346560" cy="2557440"/>
            </a:xfrm>
            <a:custGeom>
              <a:avLst/>
              <a:gdLst/>
              <a:ahLst/>
              <a:rect l="l" t="t" r="r" b="b"/>
              <a:pathLst>
                <a:path w="1801" h="1376">
                  <a:moveTo>
                    <a:pt x="1801" y="742"/>
                  </a:moveTo>
                  <a:cubicBezTo>
                    <a:pt x="1793" y="745"/>
                    <a:pt x="1785" y="746"/>
                    <a:pt x="1777" y="750"/>
                  </a:cubicBezTo>
                  <a:cubicBezTo>
                    <a:pt x="1768" y="754"/>
                    <a:pt x="1762" y="763"/>
                    <a:pt x="1753" y="766"/>
                  </a:cubicBezTo>
                  <a:cubicBezTo>
                    <a:pt x="1730" y="775"/>
                    <a:pt x="1706" y="776"/>
                    <a:pt x="1682" y="782"/>
                  </a:cubicBezTo>
                  <a:cubicBezTo>
                    <a:pt x="1669" y="791"/>
                    <a:pt x="1645" y="802"/>
                    <a:pt x="1643" y="821"/>
                  </a:cubicBezTo>
                  <a:cubicBezTo>
                    <a:pt x="1638" y="859"/>
                    <a:pt x="1654" y="860"/>
                    <a:pt x="1674" y="884"/>
                  </a:cubicBezTo>
                  <a:cubicBezTo>
                    <a:pt x="1692" y="906"/>
                    <a:pt x="1698" y="932"/>
                    <a:pt x="1714" y="955"/>
                  </a:cubicBezTo>
                  <a:cubicBezTo>
                    <a:pt x="1711" y="984"/>
                    <a:pt x="1718" y="1016"/>
                    <a:pt x="1706" y="1042"/>
                  </a:cubicBezTo>
                  <a:cubicBezTo>
                    <a:pt x="1686" y="1086"/>
                    <a:pt x="1600" y="1079"/>
                    <a:pt x="1572" y="1081"/>
                  </a:cubicBezTo>
                  <a:cubicBezTo>
                    <a:pt x="1524" y="1089"/>
                    <a:pt x="1485" y="1088"/>
                    <a:pt x="1438" y="1074"/>
                  </a:cubicBezTo>
                  <a:cubicBezTo>
                    <a:pt x="1430" y="1076"/>
                    <a:pt x="1419" y="1074"/>
                    <a:pt x="1414" y="1081"/>
                  </a:cubicBezTo>
                  <a:cubicBezTo>
                    <a:pt x="1399" y="1102"/>
                    <a:pt x="1397" y="1131"/>
                    <a:pt x="1382" y="1152"/>
                  </a:cubicBezTo>
                  <a:cubicBezTo>
                    <a:pt x="1381" y="1154"/>
                    <a:pt x="1369" y="1198"/>
                    <a:pt x="1367" y="1200"/>
                  </a:cubicBezTo>
                  <a:cubicBezTo>
                    <a:pt x="1361" y="1206"/>
                    <a:pt x="1351" y="1204"/>
                    <a:pt x="1343" y="1208"/>
                  </a:cubicBezTo>
                  <a:cubicBezTo>
                    <a:pt x="1334" y="1212"/>
                    <a:pt x="1327" y="1218"/>
                    <a:pt x="1319" y="1223"/>
                  </a:cubicBezTo>
                  <a:cubicBezTo>
                    <a:pt x="1269" y="1303"/>
                    <a:pt x="1226" y="1267"/>
                    <a:pt x="1162" y="1310"/>
                  </a:cubicBezTo>
                  <a:cubicBezTo>
                    <a:pt x="1115" y="1342"/>
                    <a:pt x="1073" y="1355"/>
                    <a:pt x="1020" y="1373"/>
                  </a:cubicBezTo>
                  <a:cubicBezTo>
                    <a:pt x="999" y="1370"/>
                    <a:pt x="975" y="1376"/>
                    <a:pt x="956" y="1365"/>
                  </a:cubicBezTo>
                  <a:cubicBezTo>
                    <a:pt x="884" y="1323"/>
                    <a:pt x="959" y="1322"/>
                    <a:pt x="901" y="1302"/>
                  </a:cubicBezTo>
                  <a:cubicBezTo>
                    <a:pt x="876" y="1293"/>
                    <a:pt x="848" y="1293"/>
                    <a:pt x="822" y="1287"/>
                  </a:cubicBezTo>
                  <a:cubicBezTo>
                    <a:pt x="810" y="1251"/>
                    <a:pt x="817" y="1163"/>
                    <a:pt x="791" y="1137"/>
                  </a:cubicBezTo>
                  <a:cubicBezTo>
                    <a:pt x="756" y="1103"/>
                    <a:pt x="711" y="1099"/>
                    <a:pt x="672" y="1074"/>
                  </a:cubicBezTo>
                  <a:cubicBezTo>
                    <a:pt x="667" y="1066"/>
                    <a:pt x="664" y="1056"/>
                    <a:pt x="657" y="1050"/>
                  </a:cubicBezTo>
                  <a:cubicBezTo>
                    <a:pt x="652" y="1046"/>
                    <a:pt x="603" y="1035"/>
                    <a:pt x="601" y="1034"/>
                  </a:cubicBezTo>
                  <a:cubicBezTo>
                    <a:pt x="551" y="1019"/>
                    <a:pt x="564" y="1024"/>
                    <a:pt x="530" y="1003"/>
                  </a:cubicBezTo>
                  <a:cubicBezTo>
                    <a:pt x="528" y="996"/>
                    <a:pt x="507" y="924"/>
                    <a:pt x="507" y="924"/>
                  </a:cubicBezTo>
                  <a:cubicBezTo>
                    <a:pt x="494" y="913"/>
                    <a:pt x="459" y="908"/>
                    <a:pt x="459" y="908"/>
                  </a:cubicBezTo>
                  <a:cubicBezTo>
                    <a:pt x="435" y="916"/>
                    <a:pt x="428" y="915"/>
                    <a:pt x="412" y="939"/>
                  </a:cubicBezTo>
                  <a:cubicBezTo>
                    <a:pt x="407" y="946"/>
                    <a:pt x="411" y="958"/>
                    <a:pt x="404" y="963"/>
                  </a:cubicBezTo>
                  <a:cubicBezTo>
                    <a:pt x="391" y="973"/>
                    <a:pt x="373" y="974"/>
                    <a:pt x="357" y="979"/>
                  </a:cubicBezTo>
                  <a:cubicBezTo>
                    <a:pt x="349" y="982"/>
                    <a:pt x="333" y="987"/>
                    <a:pt x="333" y="987"/>
                  </a:cubicBezTo>
                  <a:cubicBezTo>
                    <a:pt x="287" y="978"/>
                    <a:pt x="245" y="969"/>
                    <a:pt x="199" y="963"/>
                  </a:cubicBezTo>
                  <a:cubicBezTo>
                    <a:pt x="177" y="898"/>
                    <a:pt x="199" y="979"/>
                    <a:pt x="199" y="916"/>
                  </a:cubicBezTo>
                  <a:cubicBezTo>
                    <a:pt x="199" y="902"/>
                    <a:pt x="194" y="889"/>
                    <a:pt x="191" y="876"/>
                  </a:cubicBezTo>
                  <a:cubicBezTo>
                    <a:pt x="167" y="880"/>
                    <a:pt x="144" y="892"/>
                    <a:pt x="120" y="892"/>
                  </a:cubicBezTo>
                  <a:cubicBezTo>
                    <a:pt x="101" y="892"/>
                    <a:pt x="83" y="881"/>
                    <a:pt x="65" y="876"/>
                  </a:cubicBezTo>
                  <a:cubicBezTo>
                    <a:pt x="46" y="820"/>
                    <a:pt x="63" y="838"/>
                    <a:pt x="25" y="813"/>
                  </a:cubicBezTo>
                  <a:cubicBezTo>
                    <a:pt x="0" y="773"/>
                    <a:pt x="8" y="743"/>
                    <a:pt x="41" y="711"/>
                  </a:cubicBezTo>
                  <a:cubicBezTo>
                    <a:pt x="44" y="685"/>
                    <a:pt x="36" y="655"/>
                    <a:pt x="49" y="632"/>
                  </a:cubicBezTo>
                  <a:cubicBezTo>
                    <a:pt x="57" y="618"/>
                    <a:pt x="80" y="621"/>
                    <a:pt x="96" y="616"/>
                  </a:cubicBezTo>
                  <a:cubicBezTo>
                    <a:pt x="155" y="596"/>
                    <a:pt x="84" y="623"/>
                    <a:pt x="144" y="592"/>
                  </a:cubicBezTo>
                  <a:cubicBezTo>
                    <a:pt x="160" y="584"/>
                    <a:pt x="175" y="576"/>
                    <a:pt x="191" y="569"/>
                  </a:cubicBezTo>
                  <a:cubicBezTo>
                    <a:pt x="206" y="562"/>
                    <a:pt x="238" y="553"/>
                    <a:pt x="238" y="553"/>
                  </a:cubicBezTo>
                  <a:cubicBezTo>
                    <a:pt x="243" y="482"/>
                    <a:pt x="225" y="439"/>
                    <a:pt x="278" y="403"/>
                  </a:cubicBezTo>
                  <a:cubicBezTo>
                    <a:pt x="292" y="361"/>
                    <a:pt x="289" y="394"/>
                    <a:pt x="262" y="355"/>
                  </a:cubicBezTo>
                  <a:cubicBezTo>
                    <a:pt x="257" y="347"/>
                    <a:pt x="247" y="305"/>
                    <a:pt x="246" y="300"/>
                  </a:cubicBezTo>
                  <a:cubicBezTo>
                    <a:pt x="249" y="292"/>
                    <a:pt x="248" y="282"/>
                    <a:pt x="254" y="277"/>
                  </a:cubicBezTo>
                  <a:cubicBezTo>
                    <a:pt x="263" y="270"/>
                    <a:pt x="281" y="279"/>
                    <a:pt x="286" y="269"/>
                  </a:cubicBezTo>
                  <a:cubicBezTo>
                    <a:pt x="302" y="237"/>
                    <a:pt x="271" y="224"/>
                    <a:pt x="254" y="213"/>
                  </a:cubicBezTo>
                  <a:cubicBezTo>
                    <a:pt x="257" y="205"/>
                    <a:pt x="255" y="195"/>
                    <a:pt x="262" y="190"/>
                  </a:cubicBezTo>
                  <a:cubicBezTo>
                    <a:pt x="287" y="172"/>
                    <a:pt x="342" y="164"/>
                    <a:pt x="373" y="158"/>
                  </a:cubicBezTo>
                  <a:cubicBezTo>
                    <a:pt x="439" y="169"/>
                    <a:pt x="411" y="153"/>
                    <a:pt x="451" y="213"/>
                  </a:cubicBezTo>
                  <a:cubicBezTo>
                    <a:pt x="462" y="229"/>
                    <a:pt x="499" y="245"/>
                    <a:pt x="499" y="245"/>
                  </a:cubicBezTo>
                  <a:cubicBezTo>
                    <a:pt x="530" y="234"/>
                    <a:pt x="532" y="211"/>
                    <a:pt x="562" y="198"/>
                  </a:cubicBezTo>
                  <a:cubicBezTo>
                    <a:pt x="577" y="191"/>
                    <a:pt x="609" y="182"/>
                    <a:pt x="609" y="182"/>
                  </a:cubicBezTo>
                  <a:cubicBezTo>
                    <a:pt x="621" y="145"/>
                    <a:pt x="618" y="125"/>
                    <a:pt x="586" y="103"/>
                  </a:cubicBezTo>
                  <a:cubicBezTo>
                    <a:pt x="583" y="99"/>
                    <a:pt x="551" y="56"/>
                    <a:pt x="562" y="48"/>
                  </a:cubicBezTo>
                  <a:cubicBezTo>
                    <a:pt x="573" y="40"/>
                    <a:pt x="588" y="54"/>
                    <a:pt x="601" y="56"/>
                  </a:cubicBezTo>
                  <a:cubicBezTo>
                    <a:pt x="617" y="59"/>
                    <a:pt x="633" y="61"/>
                    <a:pt x="649" y="64"/>
                  </a:cubicBezTo>
                  <a:cubicBezTo>
                    <a:pt x="686" y="55"/>
                    <a:pt x="714" y="36"/>
                    <a:pt x="751" y="24"/>
                  </a:cubicBezTo>
                  <a:cubicBezTo>
                    <a:pt x="767" y="19"/>
                    <a:pt x="783" y="13"/>
                    <a:pt x="799" y="8"/>
                  </a:cubicBezTo>
                  <a:cubicBezTo>
                    <a:pt x="807" y="5"/>
                    <a:pt x="822" y="0"/>
                    <a:pt x="822" y="0"/>
                  </a:cubicBezTo>
                  <a:cubicBezTo>
                    <a:pt x="869" y="31"/>
                    <a:pt x="853" y="51"/>
                    <a:pt x="846" y="111"/>
                  </a:cubicBezTo>
                  <a:cubicBezTo>
                    <a:pt x="854" y="175"/>
                    <a:pt x="856" y="201"/>
                    <a:pt x="917" y="221"/>
                  </a:cubicBezTo>
                  <a:cubicBezTo>
                    <a:pt x="946" y="211"/>
                    <a:pt x="968" y="194"/>
                    <a:pt x="996" y="182"/>
                  </a:cubicBezTo>
                  <a:cubicBezTo>
                    <a:pt x="1011" y="176"/>
                    <a:pt x="1043" y="166"/>
                    <a:pt x="1043" y="166"/>
                  </a:cubicBezTo>
                  <a:cubicBezTo>
                    <a:pt x="1056" y="170"/>
                    <a:pt x="1086" y="185"/>
                    <a:pt x="1098" y="166"/>
                  </a:cubicBezTo>
                  <a:cubicBezTo>
                    <a:pt x="1104" y="157"/>
                    <a:pt x="1082" y="140"/>
                    <a:pt x="1091" y="135"/>
                  </a:cubicBezTo>
                  <a:cubicBezTo>
                    <a:pt x="1105" y="127"/>
                    <a:pt x="1122" y="140"/>
                    <a:pt x="1138" y="142"/>
                  </a:cubicBezTo>
                  <a:cubicBezTo>
                    <a:pt x="1197" y="162"/>
                    <a:pt x="1163" y="169"/>
                    <a:pt x="1240" y="158"/>
                  </a:cubicBezTo>
                  <a:cubicBezTo>
                    <a:pt x="1256" y="153"/>
                    <a:pt x="1272" y="147"/>
                    <a:pt x="1288" y="142"/>
                  </a:cubicBezTo>
                  <a:cubicBezTo>
                    <a:pt x="1297" y="139"/>
                    <a:pt x="1299" y="127"/>
                    <a:pt x="1304" y="119"/>
                  </a:cubicBezTo>
                  <a:cubicBezTo>
                    <a:pt x="1323" y="91"/>
                    <a:pt x="1326" y="72"/>
                    <a:pt x="1351" y="48"/>
                  </a:cubicBezTo>
                  <a:cubicBezTo>
                    <a:pt x="1369" y="101"/>
                    <a:pt x="1406" y="175"/>
                    <a:pt x="1446" y="213"/>
                  </a:cubicBezTo>
                  <a:cubicBezTo>
                    <a:pt x="1449" y="221"/>
                    <a:pt x="1455" y="229"/>
                    <a:pt x="1454" y="237"/>
                  </a:cubicBezTo>
                  <a:cubicBezTo>
                    <a:pt x="1452" y="253"/>
                    <a:pt x="1438" y="284"/>
                    <a:pt x="1438" y="284"/>
                  </a:cubicBezTo>
                  <a:cubicBezTo>
                    <a:pt x="1456" y="290"/>
                    <a:pt x="1475" y="292"/>
                    <a:pt x="1493" y="300"/>
                  </a:cubicBezTo>
                  <a:cubicBezTo>
                    <a:pt x="1502" y="304"/>
                    <a:pt x="1508" y="312"/>
                    <a:pt x="1517" y="316"/>
                  </a:cubicBezTo>
                  <a:cubicBezTo>
                    <a:pt x="1524" y="320"/>
                    <a:pt x="1532" y="321"/>
                    <a:pt x="1540" y="324"/>
                  </a:cubicBezTo>
                  <a:cubicBezTo>
                    <a:pt x="1575" y="377"/>
                    <a:pt x="1596" y="364"/>
                    <a:pt x="1667" y="371"/>
                  </a:cubicBezTo>
                  <a:cubicBezTo>
                    <a:pt x="1699" y="379"/>
                    <a:pt x="1716" y="390"/>
                    <a:pt x="1745" y="403"/>
                  </a:cubicBezTo>
                  <a:cubicBezTo>
                    <a:pt x="1760" y="410"/>
                    <a:pt x="1793" y="419"/>
                    <a:pt x="1793" y="419"/>
                  </a:cubicBezTo>
                  <a:cubicBezTo>
                    <a:pt x="1796" y="432"/>
                    <a:pt x="1801" y="458"/>
                    <a:pt x="1801" y="458"/>
                  </a:cubicBezTo>
                </a:path>
              </a:pathLst>
            </a:custGeom>
            <a:noFill/>
            <a:ln w="572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44680" y="2204640"/>
              <a:ext cx="1604880" cy="1382760"/>
            </a:xfrm>
            <a:custGeom>
              <a:avLst/>
              <a:gdLst/>
              <a:ahLst/>
              <a:rect l="l" t="t" r="r" b="b"/>
              <a:pathLst>
                <a:path w="864" h="744">
                  <a:moveTo>
                    <a:pt x="0" y="720"/>
                  </a:moveTo>
                  <a:cubicBezTo>
                    <a:pt x="168" y="732"/>
                    <a:pt x="336" y="744"/>
                    <a:pt x="480" y="624"/>
                  </a:cubicBezTo>
                  <a:cubicBezTo>
                    <a:pt x="624" y="504"/>
                    <a:pt x="744" y="252"/>
                    <a:pt x="864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5920" y="4619520"/>
              <a:ext cx="1243080" cy="11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5240" y="5009760"/>
              <a:ext cx="102960" cy="103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2520" y="5313240"/>
              <a:ext cx="103320" cy="10476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1080" y="5605200"/>
              <a:ext cx="102960" cy="103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4935240"/>
              <a:ext cx="12636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2200" y="498780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1700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6120" y="4987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4240" y="498780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23000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6520" y="5238360"/>
              <a:ext cx="13366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2200" y="529092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8800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6120" y="5290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4960" y="529092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119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5080" y="5530680"/>
              <a:ext cx="13381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0760" y="558288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500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4680" y="5582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3160" y="558288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8562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5920" y="4643280"/>
              <a:ext cx="13129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1240" y="469548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Area 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5200" y="469548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 ha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80" y="4892400"/>
              <a:ext cx="121428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5920" y="4619520"/>
              <a:ext cx="1560600" cy="11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5240" y="5009760"/>
              <a:ext cx="102960" cy="103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2520" y="5313240"/>
              <a:ext cx="103320" cy="10476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1080" y="5605200"/>
              <a:ext cx="102960" cy="103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6520" y="4935240"/>
              <a:ext cx="12636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8240" y="4987800"/>
              <a:ext cx="119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1.700 – 523.000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6520" y="5238360"/>
              <a:ext cx="13366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8960" y="5290920"/>
              <a:ext cx="1110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8.800 – 40.119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5080" y="5530680"/>
              <a:ext cx="13381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7520" y="5582880"/>
              <a:ext cx="1110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.500 – 18.562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5920" y="4643280"/>
              <a:ext cx="13129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0880" y="4695480"/>
              <a:ext cx="96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Área  (em ha)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480" y="5960880"/>
              <a:ext cx="8978760" cy="649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5960" y="6098760"/>
              <a:ext cx="395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</a:rPr>
                <a:t>Linha divisória da Amazônia Legal</a:t>
              </a:r>
              <a:endParaRPr b="0" lang="en-US" sz="18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46640" y="6102000"/>
              <a:ext cx="34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inha divisória do Cerrado</a:t>
              </a:r>
              <a:endParaRPr b="0" lang="en-US" sz="18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24280" y="920520"/>
              <a:ext cx="4343400" cy="6426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003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– Regiões responsáveis por 84% do total da área plantada</a:t>
              </a:r>
              <a:endParaRPr b="0" lang="en-US" sz="18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8920" y="907920"/>
              <a:ext cx="4343400" cy="6426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99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– Regiões responsáveis por 81% do total da área plantada</a:t>
              </a:r>
              <a:endParaRPr b="0" lang="en-US" sz="18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46040" y="3103200"/>
              <a:ext cx="74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MT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17720" y="251892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PA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2120" y="244296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AM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44720" y="2518920"/>
              <a:ext cx="74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MA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77960" y="3159000"/>
              <a:ext cx="74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TO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27000" y="3234960"/>
              <a:ext cx="74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O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6760" y="310320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AC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81160" y="183312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R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84480" y="183312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AP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06960" y="3103200"/>
              <a:ext cx="74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MT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78640" y="251892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PA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23040" y="244296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AM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05640" y="2518920"/>
              <a:ext cx="74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MA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238880" y="3159000"/>
              <a:ext cx="74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TO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87920" y="3234960"/>
              <a:ext cx="74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O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7680" y="310320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AC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42080" y="183312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R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45400" y="183312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AP</a:t>
              </a:r>
              <a:endParaRPr b="0" lang="en-US" sz="12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7080" y="4908240"/>
              <a:ext cx="1523880" cy="0"/>
            </a:xfrm>
            <a:prstGeom prst="line">
              <a:avLst/>
            </a:prstGeom>
            <a:ln w="9360">
              <a:solidFill>
                <a:srgbClr val="004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8600" y="6279840"/>
              <a:ext cx="380880" cy="0"/>
            </a:xfrm>
            <a:prstGeom prst="line">
              <a:avLst/>
            </a:prstGeom>
            <a:ln w="57240">
              <a:solidFill>
                <a:srgbClr val="7b7a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76920" y="630540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7620120" y="56386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b7a79"/>
                </a:solidFill>
                <a:latin typeface="Arial"/>
              </a:rPr>
              <a:t>Fonte: IBGE.</a:t>
            </a:r>
            <a:endParaRPr b="0" lang="en-US" sz="12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53AE-211B-4A56-A133-709E7A3A8C46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9480" y="1706400"/>
            <a:ext cx="7848720" cy="32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Garamond"/>
              </a:rPr>
              <a:t>Desafio “BRASIL 2022”</a:t>
            </a:r>
            <a:endParaRPr b="0" lang="en-US" sz="4400" spc="-1" strike="noStrike">
              <a:solidFill>
                <a:srgbClr val="00407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Garamond"/>
              </a:rPr>
              <a:t>produção de </a:t>
            </a:r>
            <a:r>
              <a:rPr b="1" lang="en-US" sz="4800" spc="-1" strike="noStrike">
                <a:solidFill>
                  <a:srgbClr val="a50021"/>
                </a:solidFill>
                <a:latin typeface="Garamond"/>
              </a:rPr>
              <a:t>200 milhões t.</a:t>
            </a:r>
            <a:r>
              <a:rPr b="1" lang="en-US" sz="4000" spc="-1" strike="noStrike">
                <a:solidFill>
                  <a:srgbClr val="a50021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40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Garamond"/>
              </a:rPr>
              <a:t>de grãos no Brasil</a:t>
            </a:r>
            <a:endParaRPr b="0" lang="en-US" sz="40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838080"/>
            <a:ext cx="9144000" cy="69840"/>
          </a:xfrm>
          <a:prstGeom prst="rect">
            <a:avLst/>
          </a:prstGeom>
          <a:solidFill>
            <a:srgbClr val="d01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3DEB-E311-4FC7-9DC6-6FE8AD6EF5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899800" y="152280"/>
            <a:ext cx="6044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Área Plantada e Produção de Grãos</a:t>
            </a:r>
            <a:endParaRPr b="0" lang="en-US" sz="2800" spc="-1" strike="noStrike">
              <a:solidFill>
                <a:srgbClr val="00407a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07960" y="2987640"/>
            <a:ext cx="6574320" cy="2836440"/>
            <a:chOff x="507960" y="2987640"/>
            <a:chExt cx="6574320" cy="2836440"/>
          </a:xfrm>
        </p:grpSpPr>
        <p:sp>
          <p:nvSpPr>
            <p:cNvPr id="201" name=""/>
            <p:cNvSpPr/>
            <p:nvPr/>
          </p:nvSpPr>
          <p:spPr>
            <a:xfrm>
              <a:off x="5823720" y="4085280"/>
              <a:ext cx="25920" cy="4392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7"/>
                  </a:moveTo>
                  <a:lnTo>
                    <a:pt x="11" y="0"/>
                  </a:lnTo>
                  <a:lnTo>
                    <a:pt x="16" y="22"/>
                  </a:lnTo>
                  <a:lnTo>
                    <a:pt x="5" y="2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44760" y="4150800"/>
              <a:ext cx="27360" cy="4212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7"/>
                  </a:moveTo>
                  <a:lnTo>
                    <a:pt x="11" y="0"/>
                  </a:lnTo>
                  <a:lnTo>
                    <a:pt x="17" y="21"/>
                  </a:lnTo>
                  <a:lnTo>
                    <a:pt x="6" y="2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49600" y="4030200"/>
              <a:ext cx="35280" cy="334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15"/>
                  </a:moveTo>
                  <a:lnTo>
                    <a:pt x="5" y="0"/>
                  </a:lnTo>
                  <a:lnTo>
                    <a:pt x="22" y="8"/>
                  </a:lnTo>
                  <a:lnTo>
                    <a:pt x="16" y="2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62360" y="3606840"/>
              <a:ext cx="35280" cy="75960"/>
            </a:xfrm>
            <a:custGeom>
              <a:avLst/>
              <a:gdLst/>
              <a:ahLst/>
              <a:rect l="l" t="t" r="r" b="b"/>
              <a:pathLst>
                <a:path w="22" h="50">
                  <a:moveTo>
                    <a:pt x="0" y="43"/>
                  </a:moveTo>
                  <a:lnTo>
                    <a:pt x="5" y="0"/>
                  </a:lnTo>
                  <a:lnTo>
                    <a:pt x="22" y="7"/>
                  </a:lnTo>
                  <a:lnTo>
                    <a:pt x="16" y="5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34960" y="3150000"/>
              <a:ext cx="9720" cy="33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07960" y="2987640"/>
              <a:ext cx="6574320" cy="2836440"/>
              <a:chOff x="507960" y="2987640"/>
              <a:chExt cx="6574320" cy="2836440"/>
            </a:xfrm>
          </p:grpSpPr>
          <p:sp>
            <p:nvSpPr>
              <p:cNvPr id="207" name=""/>
              <p:cNvSpPr/>
              <p:nvPr/>
            </p:nvSpPr>
            <p:spPr>
              <a:xfrm>
                <a:off x="2504160" y="5390280"/>
                <a:ext cx="27360" cy="4248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7"/>
                    </a:moveTo>
                    <a:lnTo>
                      <a:pt x="11" y="0"/>
                    </a:lnTo>
                    <a:lnTo>
                      <a:pt x="17" y="21"/>
                    </a:lnTo>
                    <a:lnTo>
                      <a:pt x="6" y="2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407a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89840" y="5106960"/>
                <a:ext cx="60840" cy="5472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0" y="14"/>
                    </a:moveTo>
                    <a:lnTo>
                      <a:pt x="33" y="0"/>
                    </a:lnTo>
                    <a:lnTo>
                      <a:pt x="38" y="21"/>
                    </a:lnTo>
                    <a:lnTo>
                      <a:pt x="5" y="3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407a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20240" y="4954680"/>
                <a:ext cx="25920" cy="4392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0" y="7"/>
                    </a:moveTo>
                    <a:lnTo>
                      <a:pt x="11" y="0"/>
                    </a:lnTo>
                    <a:lnTo>
                      <a:pt x="16" y="21"/>
                    </a:lnTo>
                    <a:lnTo>
                      <a:pt x="5" y="2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407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89640" y="4759920"/>
                <a:ext cx="35280" cy="3168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14"/>
                    </a:moveTo>
                    <a:lnTo>
                      <a:pt x="6" y="0"/>
                    </a:lnTo>
                    <a:lnTo>
                      <a:pt x="22" y="7"/>
                    </a:lnTo>
                    <a:lnTo>
                      <a:pt x="17" y="2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407a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507960" y="2987640"/>
                <a:ext cx="6574320" cy="2836440"/>
                <a:chOff x="507960" y="2987640"/>
                <a:chExt cx="6574320" cy="28364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07960" y="5792040"/>
                  <a:ext cx="53280" cy="32040"/>
                </a:xfrm>
                <a:prstGeom prst="rect">
                  <a:avLst/>
                </a:prstGeom>
                <a:solidFill>
                  <a:srgbClr val="ffcc99"/>
                </a:solidFill>
                <a:ln w="6336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24240" y="5781600"/>
                  <a:ext cx="52920" cy="32040"/>
                </a:xfrm>
                <a:prstGeom prst="rect">
                  <a:avLst/>
                </a:prstGeom>
                <a:solidFill>
                  <a:srgbClr val="ffcc99"/>
                </a:solidFill>
                <a:ln w="6336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20720" y="5758560"/>
                  <a:ext cx="62640" cy="43920"/>
                </a:xfrm>
                <a:custGeom>
                  <a:avLst/>
                  <a:gdLst/>
                  <a:ahLst/>
                  <a:rect l="l" t="t" r="r" b="b"/>
                  <a:pathLst>
                    <a:path w="39" h="29">
                      <a:moveTo>
                        <a:pt x="0" y="7"/>
                      </a:moveTo>
                      <a:lnTo>
                        <a:pt x="33" y="0"/>
                      </a:lnTo>
                      <a:lnTo>
                        <a:pt x="39" y="22"/>
                      </a:lnTo>
                      <a:lnTo>
                        <a:pt x="6" y="2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44920" y="5748120"/>
                  <a:ext cx="52920" cy="33480"/>
                </a:xfrm>
                <a:prstGeom prst="rect">
                  <a:avLst/>
                </a:prstGeom>
                <a:solidFill>
                  <a:srgbClr val="ffcc99"/>
                </a:solidFill>
                <a:ln w="6336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951480" y="5748120"/>
                  <a:ext cx="52920" cy="33480"/>
                </a:xfrm>
                <a:prstGeom prst="rect">
                  <a:avLst/>
                </a:prstGeom>
                <a:solidFill>
                  <a:srgbClr val="ffcc99"/>
                </a:solidFill>
                <a:ln w="6336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067400" y="5737680"/>
                  <a:ext cx="53280" cy="31680"/>
                </a:xfrm>
                <a:prstGeom prst="rect">
                  <a:avLst/>
                </a:prstGeom>
                <a:solidFill>
                  <a:srgbClr val="ffcc99"/>
                </a:solidFill>
                <a:ln w="6336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164240" y="5726880"/>
                  <a:ext cx="62640" cy="42120"/>
                </a:xfrm>
                <a:custGeom>
                  <a:avLst/>
                  <a:gdLst/>
                  <a:ahLst/>
                  <a:rect l="l" t="t" r="r" b="b"/>
                  <a:pathLst>
                    <a:path w="39" h="28">
                      <a:moveTo>
                        <a:pt x="0" y="7"/>
                      </a:moveTo>
                      <a:lnTo>
                        <a:pt x="33" y="0"/>
                      </a:lnTo>
                      <a:lnTo>
                        <a:pt x="39" y="21"/>
                      </a:lnTo>
                      <a:lnTo>
                        <a:pt x="6" y="2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270800" y="5693400"/>
                  <a:ext cx="62640" cy="43920"/>
                </a:xfrm>
                <a:custGeom>
                  <a:avLst/>
                  <a:gdLst/>
                  <a:ahLst/>
                  <a:rect l="l" t="t" r="r" b="b"/>
                  <a:pathLst>
                    <a:path w="39" h="29">
                      <a:moveTo>
                        <a:pt x="0" y="8"/>
                      </a:moveTo>
                      <a:lnTo>
                        <a:pt x="33" y="0"/>
                      </a:lnTo>
                      <a:lnTo>
                        <a:pt x="39" y="22"/>
                      </a:lnTo>
                      <a:lnTo>
                        <a:pt x="6" y="2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394640" y="5682600"/>
                  <a:ext cx="53280" cy="33480"/>
                </a:xfrm>
                <a:prstGeom prst="rect">
                  <a:avLst/>
                </a:prstGeom>
                <a:solidFill>
                  <a:srgbClr val="ffcc99"/>
                </a:solidFill>
                <a:ln w="6336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492920" y="5682600"/>
                  <a:ext cx="61200" cy="43920"/>
                </a:xfrm>
                <a:custGeom>
                  <a:avLst/>
                  <a:gdLst/>
                  <a:ahLst/>
                  <a:rect l="l" t="t" r="r" b="b"/>
                  <a:pathLst>
                    <a:path w="38" h="29">
                      <a:moveTo>
                        <a:pt x="0" y="7"/>
                      </a:moveTo>
                      <a:lnTo>
                        <a:pt x="33" y="0"/>
                      </a:lnTo>
                      <a:lnTo>
                        <a:pt x="38" y="22"/>
                      </a:lnTo>
                      <a:lnTo>
                        <a:pt x="5" y="2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607400" y="5661360"/>
                  <a:ext cx="62640" cy="43920"/>
                </a:xfrm>
                <a:custGeom>
                  <a:avLst/>
                  <a:gdLst/>
                  <a:ahLst/>
                  <a:rect l="l" t="t" r="r" b="b"/>
                  <a:pathLst>
                    <a:path w="39" h="29">
                      <a:moveTo>
                        <a:pt x="0" y="21"/>
                      </a:moveTo>
                      <a:lnTo>
                        <a:pt x="33" y="29"/>
                      </a:lnTo>
                      <a:lnTo>
                        <a:pt x="39" y="7"/>
                      </a:lnTo>
                      <a:lnTo>
                        <a:pt x="6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714320" y="5672160"/>
                  <a:ext cx="62280" cy="43920"/>
                </a:xfrm>
                <a:custGeom>
                  <a:avLst/>
                  <a:gdLst/>
                  <a:ahLst/>
                  <a:rect l="l" t="t" r="r" b="b"/>
                  <a:pathLst>
                    <a:path w="39" h="29">
                      <a:moveTo>
                        <a:pt x="0" y="7"/>
                      </a:moveTo>
                      <a:lnTo>
                        <a:pt x="33" y="0"/>
                      </a:lnTo>
                      <a:lnTo>
                        <a:pt x="39" y="22"/>
                      </a:lnTo>
                      <a:lnTo>
                        <a:pt x="6" y="2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830240" y="5629320"/>
                  <a:ext cx="61200" cy="53280"/>
                </a:xfrm>
                <a:custGeom>
                  <a:avLst/>
                  <a:gdLst/>
                  <a:ahLst/>
                  <a:rect l="l" t="t" r="r" b="b"/>
                  <a:pathLst>
                    <a:path w="38" h="35">
                      <a:moveTo>
                        <a:pt x="0" y="14"/>
                      </a:moveTo>
                      <a:lnTo>
                        <a:pt x="33" y="0"/>
                      </a:lnTo>
                      <a:lnTo>
                        <a:pt x="38" y="21"/>
                      </a:lnTo>
                      <a:lnTo>
                        <a:pt x="5" y="35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936440" y="5574600"/>
                  <a:ext cx="61200" cy="42120"/>
                </a:xfrm>
                <a:custGeom>
                  <a:avLst/>
                  <a:gdLst/>
                  <a:ahLst/>
                  <a:rect l="l" t="t" r="r" b="b"/>
                  <a:pathLst>
                    <a:path w="38" h="28">
                      <a:moveTo>
                        <a:pt x="0" y="7"/>
                      </a:moveTo>
                      <a:lnTo>
                        <a:pt x="33" y="0"/>
                      </a:lnTo>
                      <a:lnTo>
                        <a:pt x="38" y="21"/>
                      </a:lnTo>
                      <a:lnTo>
                        <a:pt x="5" y="2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050920" y="5541120"/>
                  <a:ext cx="62640" cy="43920"/>
                </a:xfrm>
                <a:custGeom>
                  <a:avLst/>
                  <a:gdLst/>
                  <a:ahLst/>
                  <a:rect l="l" t="t" r="r" b="b"/>
                  <a:pathLst>
                    <a:path w="39" h="29">
                      <a:moveTo>
                        <a:pt x="0" y="8"/>
                      </a:moveTo>
                      <a:lnTo>
                        <a:pt x="34" y="0"/>
                      </a:lnTo>
                      <a:lnTo>
                        <a:pt x="39" y="22"/>
                      </a:lnTo>
                      <a:lnTo>
                        <a:pt x="6" y="2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159280" y="5509080"/>
                  <a:ext cx="60840" cy="43920"/>
                </a:xfrm>
                <a:custGeom>
                  <a:avLst/>
                  <a:gdLst/>
                  <a:ahLst/>
                  <a:rect l="l" t="t" r="r" b="b"/>
                  <a:pathLst>
                    <a:path w="38" h="29">
                      <a:moveTo>
                        <a:pt x="0" y="7"/>
                      </a:moveTo>
                      <a:lnTo>
                        <a:pt x="33" y="0"/>
                      </a:lnTo>
                      <a:lnTo>
                        <a:pt x="38" y="21"/>
                      </a:lnTo>
                      <a:lnTo>
                        <a:pt x="5" y="2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2273760" y="5498280"/>
                  <a:ext cx="62640" cy="42480"/>
                </a:xfrm>
                <a:custGeom>
                  <a:avLst/>
                  <a:gdLst/>
                  <a:ahLst/>
                  <a:rect l="l" t="t" r="r" b="b"/>
                  <a:pathLst>
                    <a:path w="39" h="28">
                      <a:moveTo>
                        <a:pt x="0" y="21"/>
                      </a:moveTo>
                      <a:lnTo>
                        <a:pt x="33" y="28"/>
                      </a:lnTo>
                      <a:lnTo>
                        <a:pt x="39" y="7"/>
                      </a:lnTo>
                      <a:lnTo>
                        <a:pt x="6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372040" y="5466600"/>
                  <a:ext cx="52920" cy="86400"/>
                </a:xfrm>
                <a:custGeom>
                  <a:avLst/>
                  <a:gdLst/>
                  <a:ahLst/>
                  <a:rect l="l" t="t" r="r" b="b"/>
                  <a:pathLst>
                    <a:path w="33" h="57">
                      <a:moveTo>
                        <a:pt x="0" y="28"/>
                      </a:moveTo>
                      <a:lnTo>
                        <a:pt x="27" y="0"/>
                      </a:lnTo>
                      <a:lnTo>
                        <a:pt x="33" y="28"/>
                      </a:lnTo>
                      <a:lnTo>
                        <a:pt x="5" y="57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496240" y="5390280"/>
                  <a:ext cx="61200" cy="52920"/>
                </a:xfrm>
                <a:custGeom>
                  <a:avLst/>
                  <a:gdLst/>
                  <a:ahLst/>
                  <a:rect l="l" t="t" r="r" b="b"/>
                  <a:pathLst>
                    <a:path w="38" h="35">
                      <a:moveTo>
                        <a:pt x="0" y="21"/>
                      </a:moveTo>
                      <a:lnTo>
                        <a:pt x="33" y="35"/>
                      </a:lnTo>
                      <a:lnTo>
                        <a:pt x="38" y="14"/>
                      </a:lnTo>
                      <a:lnTo>
                        <a:pt x="5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602440" y="5433120"/>
                  <a:ext cx="61200" cy="54360"/>
                </a:xfrm>
                <a:custGeom>
                  <a:avLst/>
                  <a:gdLst/>
                  <a:ahLst/>
                  <a:rect l="l" t="t" r="r" b="b"/>
                  <a:pathLst>
                    <a:path w="38" h="36">
                      <a:moveTo>
                        <a:pt x="0" y="14"/>
                      </a:moveTo>
                      <a:lnTo>
                        <a:pt x="33" y="0"/>
                      </a:lnTo>
                      <a:lnTo>
                        <a:pt x="38" y="22"/>
                      </a:lnTo>
                      <a:lnTo>
                        <a:pt x="5" y="36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716920" y="5390280"/>
                  <a:ext cx="62640" cy="42480"/>
                </a:xfrm>
                <a:custGeom>
                  <a:avLst/>
                  <a:gdLst/>
                  <a:ahLst/>
                  <a:rect l="l" t="t" r="r" b="b"/>
                  <a:pathLst>
                    <a:path w="39" h="28">
                      <a:moveTo>
                        <a:pt x="0" y="7"/>
                      </a:moveTo>
                      <a:lnTo>
                        <a:pt x="33" y="0"/>
                      </a:lnTo>
                      <a:lnTo>
                        <a:pt x="39" y="21"/>
                      </a:lnTo>
                      <a:lnTo>
                        <a:pt x="6" y="2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833200" y="5378040"/>
                  <a:ext cx="52920" cy="33480"/>
                </a:xfrm>
                <a:prstGeom prst="rect">
                  <a:avLst/>
                </a:prstGeom>
                <a:solidFill>
                  <a:srgbClr val="ffcc99"/>
                </a:solidFill>
                <a:ln w="6336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921760" y="5335200"/>
                  <a:ext cx="61200" cy="65520"/>
                </a:xfrm>
                <a:custGeom>
                  <a:avLst/>
                  <a:gdLst/>
                  <a:ahLst/>
                  <a:rect l="l" t="t" r="r" b="b"/>
                  <a:pathLst>
                    <a:path w="38" h="43">
                      <a:moveTo>
                        <a:pt x="0" y="21"/>
                      </a:moveTo>
                      <a:lnTo>
                        <a:pt x="33" y="0"/>
                      </a:lnTo>
                      <a:lnTo>
                        <a:pt x="38" y="21"/>
                      </a:lnTo>
                      <a:lnTo>
                        <a:pt x="5" y="43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046320" y="5270040"/>
                  <a:ext cx="61200" cy="43920"/>
                </a:xfrm>
                <a:custGeom>
                  <a:avLst/>
                  <a:gdLst/>
                  <a:ahLst/>
                  <a:rect l="l" t="t" r="r" b="b"/>
                  <a:pathLst>
                    <a:path w="38" h="29">
                      <a:moveTo>
                        <a:pt x="0" y="7"/>
                      </a:moveTo>
                      <a:lnTo>
                        <a:pt x="33" y="0"/>
                      </a:lnTo>
                      <a:lnTo>
                        <a:pt x="38" y="21"/>
                      </a:lnTo>
                      <a:lnTo>
                        <a:pt x="5" y="2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152520" y="5238000"/>
                  <a:ext cx="61200" cy="53280"/>
                </a:xfrm>
                <a:custGeom>
                  <a:avLst/>
                  <a:gdLst/>
                  <a:ahLst/>
                  <a:rect l="l" t="t" r="r" b="b"/>
                  <a:pathLst>
                    <a:path w="38" h="35">
                      <a:moveTo>
                        <a:pt x="0" y="14"/>
                      </a:moveTo>
                      <a:lnTo>
                        <a:pt x="33" y="0"/>
                      </a:lnTo>
                      <a:lnTo>
                        <a:pt x="38" y="21"/>
                      </a:lnTo>
                      <a:lnTo>
                        <a:pt x="5" y="35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267000" y="5204520"/>
                  <a:ext cx="62640" cy="54720"/>
                </a:xfrm>
                <a:custGeom>
                  <a:avLst/>
                  <a:gdLst/>
                  <a:ahLst/>
                  <a:rect l="l" t="t" r="r" b="b"/>
                  <a:pathLst>
                    <a:path w="39" h="36">
                      <a:moveTo>
                        <a:pt x="0" y="22"/>
                      </a:moveTo>
                      <a:lnTo>
                        <a:pt x="33" y="36"/>
                      </a:lnTo>
                      <a:lnTo>
                        <a:pt x="39" y="15"/>
                      </a:lnTo>
                      <a:lnTo>
                        <a:pt x="6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365280" y="5204520"/>
                  <a:ext cx="53280" cy="75960"/>
                </a:xfrm>
                <a:custGeom>
                  <a:avLst/>
                  <a:gdLst/>
                  <a:ahLst/>
                  <a:rect l="l" t="t" r="r" b="b"/>
                  <a:pathLst>
                    <a:path w="33" h="50">
                      <a:moveTo>
                        <a:pt x="0" y="22"/>
                      </a:moveTo>
                      <a:lnTo>
                        <a:pt x="27" y="0"/>
                      </a:lnTo>
                      <a:lnTo>
                        <a:pt x="33" y="29"/>
                      </a:lnTo>
                      <a:lnTo>
                        <a:pt x="5" y="5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497760" y="5128560"/>
                  <a:ext cx="27360" cy="43920"/>
                </a:xfrm>
                <a:custGeom>
                  <a:avLst/>
                  <a:gdLst/>
                  <a:ahLst/>
                  <a:rect l="l" t="t" r="r" b="b"/>
                  <a:pathLst>
                    <a:path w="17" h="29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22"/>
                      </a:lnTo>
                      <a:lnTo>
                        <a:pt x="6" y="2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586320" y="5030640"/>
                  <a:ext cx="53280" cy="86760"/>
                </a:xfrm>
                <a:custGeom>
                  <a:avLst/>
                  <a:gdLst/>
                  <a:ahLst/>
                  <a:rect l="l" t="t" r="r" b="b"/>
                  <a:pathLst>
                    <a:path w="33" h="57">
                      <a:moveTo>
                        <a:pt x="0" y="29"/>
                      </a:moveTo>
                      <a:lnTo>
                        <a:pt x="28" y="0"/>
                      </a:lnTo>
                      <a:lnTo>
                        <a:pt x="33" y="29"/>
                      </a:lnTo>
                      <a:lnTo>
                        <a:pt x="6" y="57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710520" y="4933440"/>
                  <a:ext cx="62640" cy="53280"/>
                </a:xfrm>
                <a:custGeom>
                  <a:avLst/>
                  <a:gdLst/>
                  <a:ahLst/>
                  <a:rect l="l" t="t" r="r" b="b"/>
                  <a:pathLst>
                    <a:path w="39" h="35">
                      <a:moveTo>
                        <a:pt x="0" y="14"/>
                      </a:moveTo>
                      <a:lnTo>
                        <a:pt x="33" y="0"/>
                      </a:lnTo>
                      <a:lnTo>
                        <a:pt x="39" y="21"/>
                      </a:lnTo>
                      <a:lnTo>
                        <a:pt x="6" y="35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826440" y="4889160"/>
                  <a:ext cx="53280" cy="75960"/>
                </a:xfrm>
                <a:custGeom>
                  <a:avLst/>
                  <a:gdLst/>
                  <a:ahLst/>
                  <a:rect l="l" t="t" r="r" b="b"/>
                  <a:pathLst>
                    <a:path w="33" h="50">
                      <a:moveTo>
                        <a:pt x="0" y="0"/>
                      </a:moveTo>
                      <a:lnTo>
                        <a:pt x="16" y="43"/>
                      </a:lnTo>
                      <a:lnTo>
                        <a:pt x="33" y="50"/>
                      </a:lnTo>
                      <a:lnTo>
                        <a:pt x="16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888000" y="5074920"/>
                  <a:ext cx="62640" cy="64080"/>
                </a:xfrm>
                <a:custGeom>
                  <a:avLst/>
                  <a:gdLst/>
                  <a:ahLst/>
                  <a:rect l="l" t="t" r="r" b="b"/>
                  <a:pathLst>
                    <a:path w="39" h="42">
                      <a:moveTo>
                        <a:pt x="0" y="0"/>
                      </a:moveTo>
                      <a:lnTo>
                        <a:pt x="17" y="35"/>
                      </a:lnTo>
                      <a:lnTo>
                        <a:pt x="39" y="42"/>
                      </a:lnTo>
                      <a:lnTo>
                        <a:pt x="22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923640" y="5117760"/>
                  <a:ext cx="52920" cy="75960"/>
                </a:xfrm>
                <a:custGeom>
                  <a:avLst/>
                  <a:gdLst/>
                  <a:ahLst/>
                  <a:rect l="l" t="t" r="r" b="b"/>
                  <a:pathLst>
                    <a:path w="33" h="50">
                      <a:moveTo>
                        <a:pt x="0" y="22"/>
                      </a:moveTo>
                      <a:lnTo>
                        <a:pt x="28" y="0"/>
                      </a:lnTo>
                      <a:lnTo>
                        <a:pt x="33" y="29"/>
                      </a:lnTo>
                      <a:lnTo>
                        <a:pt x="6" y="5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047480" y="5020200"/>
                  <a:ext cx="53280" cy="75960"/>
                </a:xfrm>
                <a:custGeom>
                  <a:avLst/>
                  <a:gdLst/>
                  <a:ahLst/>
                  <a:rect l="l" t="t" r="r" b="b"/>
                  <a:pathLst>
                    <a:path w="33" h="50">
                      <a:moveTo>
                        <a:pt x="0" y="43"/>
                      </a:moveTo>
                      <a:lnTo>
                        <a:pt x="17" y="0"/>
                      </a:lnTo>
                      <a:lnTo>
                        <a:pt x="33" y="7"/>
                      </a:lnTo>
                      <a:lnTo>
                        <a:pt x="17" y="5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118400" y="4846680"/>
                  <a:ext cx="45000" cy="65160"/>
                </a:xfrm>
                <a:custGeom>
                  <a:avLst/>
                  <a:gdLst/>
                  <a:ahLst/>
                  <a:rect l="l" t="t" r="r" b="b"/>
                  <a:pathLst>
                    <a:path w="28" h="43">
                      <a:moveTo>
                        <a:pt x="0" y="35"/>
                      </a:moveTo>
                      <a:lnTo>
                        <a:pt x="11" y="0"/>
                      </a:lnTo>
                      <a:lnTo>
                        <a:pt x="28" y="7"/>
                      </a:lnTo>
                      <a:lnTo>
                        <a:pt x="17" y="43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54040" y="4791600"/>
                  <a:ext cx="62640" cy="43920"/>
                </a:xfrm>
                <a:custGeom>
                  <a:avLst/>
                  <a:gdLst/>
                  <a:ahLst/>
                  <a:rect l="l" t="t" r="r" b="b"/>
                  <a:pathLst>
                    <a:path w="39" h="29">
                      <a:moveTo>
                        <a:pt x="0" y="21"/>
                      </a:moveTo>
                      <a:lnTo>
                        <a:pt x="33" y="29"/>
                      </a:lnTo>
                      <a:lnTo>
                        <a:pt x="39" y="7"/>
                      </a:lnTo>
                      <a:lnTo>
                        <a:pt x="6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270320" y="4824000"/>
                  <a:ext cx="52920" cy="33480"/>
                </a:xfrm>
                <a:prstGeom prst="rect">
                  <a:avLst/>
                </a:prstGeom>
                <a:solidFill>
                  <a:srgbClr val="ffcc99"/>
                </a:solidFill>
                <a:ln w="6336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368600" y="4802400"/>
                  <a:ext cx="52920" cy="75960"/>
                </a:xfrm>
                <a:custGeom>
                  <a:avLst/>
                  <a:gdLst/>
                  <a:ahLst/>
                  <a:rect l="l" t="t" r="r" b="b"/>
                  <a:pathLst>
                    <a:path w="33" h="50">
                      <a:moveTo>
                        <a:pt x="0" y="29"/>
                      </a:moveTo>
                      <a:lnTo>
                        <a:pt x="27" y="50"/>
                      </a:lnTo>
                      <a:lnTo>
                        <a:pt x="33" y="22"/>
                      </a:lnTo>
                      <a:lnTo>
                        <a:pt x="5" y="0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483080" y="4889160"/>
                  <a:ext cx="70920" cy="65520"/>
                </a:xfrm>
                <a:custGeom>
                  <a:avLst/>
                  <a:gdLst/>
                  <a:ahLst/>
                  <a:rect l="l" t="t" r="r" b="b"/>
                  <a:pathLst>
                    <a:path w="44" h="43">
                      <a:moveTo>
                        <a:pt x="0" y="36"/>
                      </a:moveTo>
                      <a:lnTo>
                        <a:pt x="22" y="0"/>
                      </a:lnTo>
                      <a:lnTo>
                        <a:pt x="44" y="7"/>
                      </a:lnTo>
                      <a:lnTo>
                        <a:pt x="22" y="4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589280" y="4747680"/>
                  <a:ext cx="62640" cy="65520"/>
                </a:xfrm>
                <a:custGeom>
                  <a:avLst/>
                  <a:gdLst/>
                  <a:ahLst/>
                  <a:rect l="l" t="t" r="r" b="b"/>
                  <a:pathLst>
                    <a:path w="39" h="43">
                      <a:moveTo>
                        <a:pt x="0" y="36"/>
                      </a:moveTo>
                      <a:lnTo>
                        <a:pt x="17" y="0"/>
                      </a:lnTo>
                      <a:lnTo>
                        <a:pt x="39" y="8"/>
                      </a:lnTo>
                      <a:lnTo>
                        <a:pt x="22" y="4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678200" y="4596840"/>
                  <a:ext cx="62640" cy="52920"/>
                </a:xfrm>
                <a:custGeom>
                  <a:avLst/>
                  <a:gdLst/>
                  <a:ahLst/>
                  <a:rect l="l" t="t" r="r" b="b"/>
                  <a:pathLst>
                    <a:path w="39" h="35">
                      <a:moveTo>
                        <a:pt x="0" y="28"/>
                      </a:moveTo>
                      <a:lnTo>
                        <a:pt x="17" y="0"/>
                      </a:lnTo>
                      <a:lnTo>
                        <a:pt x="39" y="7"/>
                      </a:lnTo>
                      <a:lnTo>
                        <a:pt x="22" y="35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695840" y="4607640"/>
                  <a:ext cx="53280" cy="75960"/>
                </a:xfrm>
                <a:custGeom>
                  <a:avLst/>
                  <a:gdLst/>
                  <a:ahLst/>
                  <a:rect l="l" t="t" r="r" b="b"/>
                  <a:pathLst>
                    <a:path w="33" h="50">
                      <a:moveTo>
                        <a:pt x="0" y="28"/>
                      </a:moveTo>
                      <a:lnTo>
                        <a:pt x="28" y="50"/>
                      </a:lnTo>
                      <a:lnTo>
                        <a:pt x="33" y="21"/>
                      </a:lnTo>
                      <a:lnTo>
                        <a:pt x="6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812120" y="4694400"/>
                  <a:ext cx="60840" cy="65520"/>
                </a:xfrm>
                <a:custGeom>
                  <a:avLst/>
                  <a:gdLst/>
                  <a:ahLst/>
                  <a:rect l="l" t="t" r="r" b="b"/>
                  <a:pathLst>
                    <a:path w="38" h="43">
                      <a:moveTo>
                        <a:pt x="0" y="35"/>
                      </a:moveTo>
                      <a:lnTo>
                        <a:pt x="16" y="0"/>
                      </a:lnTo>
                      <a:lnTo>
                        <a:pt x="38" y="7"/>
                      </a:lnTo>
                      <a:lnTo>
                        <a:pt x="22" y="43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883040" y="4520520"/>
                  <a:ext cx="60840" cy="63720"/>
                </a:xfrm>
                <a:custGeom>
                  <a:avLst/>
                  <a:gdLst/>
                  <a:ahLst/>
                  <a:rect l="l" t="t" r="r" b="b"/>
                  <a:pathLst>
                    <a:path w="38" h="42">
                      <a:moveTo>
                        <a:pt x="0" y="35"/>
                      </a:moveTo>
                      <a:lnTo>
                        <a:pt x="16" y="0"/>
                      </a:lnTo>
                      <a:lnTo>
                        <a:pt x="38" y="7"/>
                      </a:lnTo>
                      <a:lnTo>
                        <a:pt x="22" y="42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926600" y="4476600"/>
                  <a:ext cx="62640" cy="54720"/>
                </a:xfrm>
                <a:custGeom>
                  <a:avLst/>
                  <a:gdLst/>
                  <a:ahLst/>
                  <a:rect l="l" t="t" r="r" b="b"/>
                  <a:pathLst>
                    <a:path w="39" h="36">
                      <a:moveTo>
                        <a:pt x="0" y="14"/>
                      </a:moveTo>
                      <a:lnTo>
                        <a:pt x="33" y="0"/>
                      </a:lnTo>
                      <a:lnTo>
                        <a:pt x="39" y="21"/>
                      </a:lnTo>
                      <a:lnTo>
                        <a:pt x="6" y="36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033160" y="4421880"/>
                  <a:ext cx="70920" cy="65160"/>
                </a:xfrm>
                <a:custGeom>
                  <a:avLst/>
                  <a:gdLst/>
                  <a:ahLst/>
                  <a:rect l="l" t="t" r="r" b="b"/>
                  <a:pathLst>
                    <a:path w="44" h="43">
                      <a:moveTo>
                        <a:pt x="0" y="36"/>
                      </a:moveTo>
                      <a:lnTo>
                        <a:pt x="22" y="0"/>
                      </a:lnTo>
                      <a:lnTo>
                        <a:pt x="44" y="7"/>
                      </a:lnTo>
                      <a:lnTo>
                        <a:pt x="22" y="4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131440" y="4292280"/>
                  <a:ext cx="52920" cy="31680"/>
                </a:xfrm>
                <a:custGeom>
                  <a:avLst/>
                  <a:gdLst/>
                  <a:ahLst/>
                  <a:rect l="l" t="t" r="r" b="b"/>
                  <a:pathLst>
                    <a:path w="33" h="21">
                      <a:moveTo>
                        <a:pt x="0" y="14"/>
                      </a:moveTo>
                      <a:lnTo>
                        <a:pt x="11" y="0"/>
                      </a:lnTo>
                      <a:lnTo>
                        <a:pt x="33" y="7"/>
                      </a:lnTo>
                      <a:lnTo>
                        <a:pt x="22" y="2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157000" y="4292280"/>
                  <a:ext cx="45000" cy="75960"/>
                </a:xfrm>
                <a:custGeom>
                  <a:avLst/>
                  <a:gdLst/>
                  <a:ahLst/>
                  <a:rect l="l" t="t" r="r" b="b"/>
                  <a:pathLst>
                    <a:path w="28" h="50">
                      <a:moveTo>
                        <a:pt x="0" y="0"/>
                      </a:moveTo>
                      <a:lnTo>
                        <a:pt x="11" y="43"/>
                      </a:lnTo>
                      <a:lnTo>
                        <a:pt x="28" y="50"/>
                      </a:lnTo>
                      <a:lnTo>
                        <a:pt x="1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202360" y="4487040"/>
                  <a:ext cx="43200" cy="65520"/>
                </a:xfrm>
                <a:custGeom>
                  <a:avLst/>
                  <a:gdLst/>
                  <a:ahLst/>
                  <a:rect l="l" t="t" r="r" b="b"/>
                  <a:pathLst>
                    <a:path w="27" h="43">
                      <a:moveTo>
                        <a:pt x="0" y="0"/>
                      </a:moveTo>
                      <a:lnTo>
                        <a:pt x="11" y="36"/>
                      </a:lnTo>
                      <a:lnTo>
                        <a:pt x="27" y="43"/>
                      </a:lnTo>
                      <a:lnTo>
                        <a:pt x="16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255280" y="4672800"/>
                  <a:ext cx="35280" cy="63720"/>
                </a:xfrm>
                <a:custGeom>
                  <a:avLst/>
                  <a:gdLst/>
                  <a:ahLst/>
                  <a:rect l="l" t="t" r="r" b="b"/>
                  <a:pathLst>
                    <a:path w="22" h="42">
                      <a:moveTo>
                        <a:pt x="0" y="0"/>
                      </a:moveTo>
                      <a:lnTo>
                        <a:pt x="5" y="35"/>
                      </a:lnTo>
                      <a:lnTo>
                        <a:pt x="22" y="42"/>
                      </a:lnTo>
                      <a:lnTo>
                        <a:pt x="16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255280" y="4683600"/>
                  <a:ext cx="61200" cy="52920"/>
                </a:xfrm>
                <a:custGeom>
                  <a:avLst/>
                  <a:gdLst/>
                  <a:ahLst/>
                  <a:rect l="l" t="t" r="r" b="b"/>
                  <a:pathLst>
                    <a:path w="38" h="35">
                      <a:moveTo>
                        <a:pt x="0" y="14"/>
                      </a:moveTo>
                      <a:lnTo>
                        <a:pt x="33" y="0"/>
                      </a:lnTo>
                      <a:lnTo>
                        <a:pt x="38" y="21"/>
                      </a:lnTo>
                      <a:lnTo>
                        <a:pt x="5" y="35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379840" y="4607640"/>
                  <a:ext cx="43200" cy="75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43"/>
                      </a:moveTo>
                      <a:lnTo>
                        <a:pt x="11" y="0"/>
                      </a:lnTo>
                      <a:lnTo>
                        <a:pt x="27" y="7"/>
                      </a:lnTo>
                      <a:lnTo>
                        <a:pt x="16" y="5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432760" y="4432320"/>
                  <a:ext cx="61200" cy="65520"/>
                </a:xfrm>
                <a:custGeom>
                  <a:avLst/>
                  <a:gdLst/>
                  <a:ahLst/>
                  <a:rect l="l" t="t" r="r" b="b"/>
                  <a:pathLst>
                    <a:path w="38" h="43">
                      <a:moveTo>
                        <a:pt x="0" y="36"/>
                      </a:moveTo>
                      <a:lnTo>
                        <a:pt x="16" y="0"/>
                      </a:lnTo>
                      <a:lnTo>
                        <a:pt x="38" y="8"/>
                      </a:lnTo>
                      <a:lnTo>
                        <a:pt x="22" y="4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486040" y="4389840"/>
                  <a:ext cx="52920" cy="32040"/>
                </a:xfrm>
                <a:prstGeom prst="rect">
                  <a:avLst/>
                </a:prstGeom>
                <a:solidFill>
                  <a:srgbClr val="ffcc99"/>
                </a:solidFill>
                <a:ln w="6336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592600" y="4368240"/>
                  <a:ext cx="60840" cy="63720"/>
                </a:xfrm>
                <a:custGeom>
                  <a:avLst/>
                  <a:gdLst/>
                  <a:ahLst/>
                  <a:rect l="l" t="t" r="r" b="b"/>
                  <a:pathLst>
                    <a:path w="38" h="42">
                      <a:moveTo>
                        <a:pt x="0" y="35"/>
                      </a:moveTo>
                      <a:lnTo>
                        <a:pt x="16" y="0"/>
                      </a:lnTo>
                      <a:lnTo>
                        <a:pt x="38" y="7"/>
                      </a:lnTo>
                      <a:lnTo>
                        <a:pt x="22" y="42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671440" y="4193280"/>
                  <a:ext cx="62640" cy="65520"/>
                </a:xfrm>
                <a:custGeom>
                  <a:avLst/>
                  <a:gdLst/>
                  <a:ahLst/>
                  <a:rect l="l" t="t" r="r" b="b"/>
                  <a:pathLst>
                    <a:path w="39" h="43">
                      <a:moveTo>
                        <a:pt x="0" y="36"/>
                      </a:moveTo>
                      <a:lnTo>
                        <a:pt x="17" y="0"/>
                      </a:lnTo>
                      <a:lnTo>
                        <a:pt x="39" y="8"/>
                      </a:lnTo>
                      <a:lnTo>
                        <a:pt x="22" y="4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689080" y="4161600"/>
                  <a:ext cx="53280" cy="75960"/>
                </a:xfrm>
                <a:custGeom>
                  <a:avLst/>
                  <a:gdLst/>
                  <a:ahLst/>
                  <a:rect l="l" t="t" r="r" b="b"/>
                  <a:pathLst>
                    <a:path w="33" h="50">
                      <a:moveTo>
                        <a:pt x="0" y="21"/>
                      </a:moveTo>
                      <a:lnTo>
                        <a:pt x="28" y="0"/>
                      </a:lnTo>
                      <a:lnTo>
                        <a:pt x="33" y="29"/>
                      </a:lnTo>
                      <a:lnTo>
                        <a:pt x="6" y="5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813280" y="4063680"/>
                  <a:ext cx="62640" cy="65520"/>
                </a:xfrm>
                <a:custGeom>
                  <a:avLst/>
                  <a:gdLst/>
                  <a:ahLst/>
                  <a:rect l="l" t="t" r="r" b="b"/>
                  <a:pathLst>
                    <a:path w="39" h="43">
                      <a:moveTo>
                        <a:pt x="0" y="0"/>
                      </a:moveTo>
                      <a:lnTo>
                        <a:pt x="17" y="36"/>
                      </a:lnTo>
                      <a:lnTo>
                        <a:pt x="39" y="43"/>
                      </a:lnTo>
                      <a:lnTo>
                        <a:pt x="22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894280" y="4237560"/>
                  <a:ext cx="60840" cy="65520"/>
                </a:xfrm>
                <a:custGeom>
                  <a:avLst/>
                  <a:gdLst/>
                  <a:ahLst/>
                  <a:rect l="l" t="t" r="r" b="b"/>
                  <a:pathLst>
                    <a:path w="38" h="43">
                      <a:moveTo>
                        <a:pt x="0" y="0"/>
                      </a:moveTo>
                      <a:lnTo>
                        <a:pt x="16" y="36"/>
                      </a:lnTo>
                      <a:lnTo>
                        <a:pt x="38" y="43"/>
                      </a:lnTo>
                      <a:lnTo>
                        <a:pt x="22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911920" y="4226760"/>
                  <a:ext cx="53280" cy="75960"/>
                </a:xfrm>
                <a:custGeom>
                  <a:avLst/>
                  <a:gdLst/>
                  <a:ahLst/>
                  <a:rect l="l" t="t" r="r" b="b"/>
                  <a:pathLst>
                    <a:path w="33" h="50">
                      <a:moveTo>
                        <a:pt x="0" y="21"/>
                      </a:moveTo>
                      <a:lnTo>
                        <a:pt x="27" y="0"/>
                      </a:lnTo>
                      <a:lnTo>
                        <a:pt x="33" y="28"/>
                      </a:lnTo>
                      <a:lnTo>
                        <a:pt x="5" y="5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036120" y="4150800"/>
                  <a:ext cx="60840" cy="54360"/>
                </a:xfrm>
                <a:custGeom>
                  <a:avLst/>
                  <a:gdLst/>
                  <a:ahLst/>
                  <a:rect l="l" t="t" r="r" b="b"/>
                  <a:pathLst>
                    <a:path w="38" h="36">
                      <a:moveTo>
                        <a:pt x="0" y="21"/>
                      </a:moveTo>
                      <a:lnTo>
                        <a:pt x="33" y="36"/>
                      </a:lnTo>
                      <a:lnTo>
                        <a:pt x="38" y="14"/>
                      </a:lnTo>
                      <a:lnTo>
                        <a:pt x="5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142680" y="4161600"/>
                  <a:ext cx="70920" cy="65160"/>
                </a:xfrm>
                <a:custGeom>
                  <a:avLst/>
                  <a:gdLst/>
                  <a:ahLst/>
                  <a:rect l="l" t="t" r="r" b="b"/>
                  <a:pathLst>
                    <a:path w="44" h="43">
                      <a:moveTo>
                        <a:pt x="0" y="36"/>
                      </a:moveTo>
                      <a:lnTo>
                        <a:pt x="22" y="0"/>
                      </a:lnTo>
                      <a:lnTo>
                        <a:pt x="44" y="7"/>
                      </a:lnTo>
                      <a:lnTo>
                        <a:pt x="22" y="4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248880" y="4042800"/>
                  <a:ext cx="60840" cy="42120"/>
                </a:xfrm>
                <a:custGeom>
                  <a:avLst/>
                  <a:gdLst/>
                  <a:ahLst/>
                  <a:rect l="l" t="t" r="r" b="b"/>
                  <a:pathLst>
                    <a:path w="38" h="28">
                      <a:moveTo>
                        <a:pt x="0" y="7"/>
                      </a:moveTo>
                      <a:lnTo>
                        <a:pt x="33" y="0"/>
                      </a:lnTo>
                      <a:lnTo>
                        <a:pt x="38" y="21"/>
                      </a:lnTo>
                      <a:lnTo>
                        <a:pt x="5" y="2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373080" y="3987720"/>
                  <a:ext cx="43200" cy="75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43"/>
                      </a:moveTo>
                      <a:lnTo>
                        <a:pt x="11" y="0"/>
                      </a:lnTo>
                      <a:lnTo>
                        <a:pt x="27" y="7"/>
                      </a:lnTo>
                      <a:lnTo>
                        <a:pt x="16" y="5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416640" y="3803400"/>
                  <a:ext cx="45000" cy="63720"/>
                </a:xfrm>
                <a:custGeom>
                  <a:avLst/>
                  <a:gdLst/>
                  <a:ahLst/>
                  <a:rect l="l" t="t" r="r" b="b"/>
                  <a:pathLst>
                    <a:path w="28" h="42">
                      <a:moveTo>
                        <a:pt x="0" y="35"/>
                      </a:moveTo>
                      <a:lnTo>
                        <a:pt x="11" y="0"/>
                      </a:lnTo>
                      <a:lnTo>
                        <a:pt x="28" y="7"/>
                      </a:lnTo>
                      <a:lnTo>
                        <a:pt x="17" y="42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462000" y="3606840"/>
                  <a:ext cx="60840" cy="65520"/>
                </a:xfrm>
                <a:custGeom>
                  <a:avLst/>
                  <a:gdLst/>
                  <a:ahLst/>
                  <a:rect l="l" t="t" r="r" b="b"/>
                  <a:pathLst>
                    <a:path w="38" h="43">
                      <a:moveTo>
                        <a:pt x="0" y="21"/>
                      </a:moveTo>
                      <a:lnTo>
                        <a:pt x="33" y="43"/>
                      </a:lnTo>
                      <a:lnTo>
                        <a:pt x="38" y="21"/>
                      </a:lnTo>
                      <a:lnTo>
                        <a:pt x="5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595560" y="3651120"/>
                  <a:ext cx="35280" cy="75960"/>
                </a:xfrm>
                <a:custGeom>
                  <a:avLst/>
                  <a:gdLst/>
                  <a:ahLst/>
                  <a:rect l="l" t="t" r="r" b="b"/>
                  <a:pathLst>
                    <a:path w="22" h="50">
                      <a:moveTo>
                        <a:pt x="0" y="42"/>
                      </a:moveTo>
                      <a:lnTo>
                        <a:pt x="5" y="0"/>
                      </a:lnTo>
                      <a:lnTo>
                        <a:pt x="22" y="7"/>
                      </a:lnTo>
                      <a:lnTo>
                        <a:pt x="16" y="5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621120" y="3454560"/>
                  <a:ext cx="45000" cy="75960"/>
                </a:xfrm>
                <a:custGeom>
                  <a:avLst/>
                  <a:gdLst/>
                  <a:ahLst/>
                  <a:rect l="l" t="t" r="r" b="b"/>
                  <a:pathLst>
                    <a:path w="28" h="50">
                      <a:moveTo>
                        <a:pt x="0" y="43"/>
                      </a:moveTo>
                      <a:lnTo>
                        <a:pt x="11" y="0"/>
                      </a:lnTo>
                      <a:lnTo>
                        <a:pt x="28" y="7"/>
                      </a:lnTo>
                      <a:lnTo>
                        <a:pt x="17" y="5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656760" y="3270600"/>
                  <a:ext cx="35280" cy="75960"/>
                </a:xfrm>
                <a:custGeom>
                  <a:avLst/>
                  <a:gdLst/>
                  <a:ahLst/>
                  <a:rect l="l" t="t" r="r" b="b"/>
                  <a:pathLst>
                    <a:path w="22" h="50">
                      <a:moveTo>
                        <a:pt x="0" y="43"/>
                      </a:moveTo>
                      <a:lnTo>
                        <a:pt x="6" y="0"/>
                      </a:lnTo>
                      <a:lnTo>
                        <a:pt x="22" y="7"/>
                      </a:lnTo>
                      <a:lnTo>
                        <a:pt x="17" y="5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684120" y="3074040"/>
                  <a:ext cx="35280" cy="75960"/>
                </a:xfrm>
                <a:custGeom>
                  <a:avLst/>
                  <a:gdLst/>
                  <a:ahLst/>
                  <a:rect l="l" t="t" r="r" b="b"/>
                  <a:pathLst>
                    <a:path w="22" h="50">
                      <a:moveTo>
                        <a:pt x="0" y="43"/>
                      </a:moveTo>
                      <a:lnTo>
                        <a:pt x="5" y="0"/>
                      </a:lnTo>
                      <a:lnTo>
                        <a:pt x="22" y="7"/>
                      </a:lnTo>
                      <a:lnTo>
                        <a:pt x="16" y="5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4120" y="3042000"/>
                  <a:ext cx="53280" cy="75960"/>
                </a:xfrm>
                <a:custGeom>
                  <a:avLst/>
                  <a:gdLst/>
                  <a:ahLst/>
                  <a:rect l="l" t="t" r="r" b="b"/>
                  <a:pathLst>
                    <a:path w="33" h="50">
                      <a:moveTo>
                        <a:pt x="0" y="28"/>
                      </a:moveTo>
                      <a:lnTo>
                        <a:pt x="27" y="50"/>
                      </a:lnTo>
                      <a:lnTo>
                        <a:pt x="33" y="21"/>
                      </a:lnTo>
                      <a:lnTo>
                        <a:pt x="5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816600" y="3150000"/>
                  <a:ext cx="52920" cy="33480"/>
                </a:xfrm>
                <a:prstGeom prst="rect">
                  <a:avLst/>
                </a:prstGeom>
                <a:solidFill>
                  <a:srgbClr val="ffcc99"/>
                </a:solidFill>
                <a:ln w="6336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05160" y="3097080"/>
                  <a:ext cx="53280" cy="75960"/>
                </a:xfrm>
                <a:custGeom>
                  <a:avLst/>
                  <a:gdLst/>
                  <a:ahLst/>
                  <a:rect l="l" t="t" r="r" b="b"/>
                  <a:pathLst>
                    <a:path w="33" h="50">
                      <a:moveTo>
                        <a:pt x="0" y="21"/>
                      </a:moveTo>
                      <a:lnTo>
                        <a:pt x="28" y="0"/>
                      </a:lnTo>
                      <a:lnTo>
                        <a:pt x="33" y="28"/>
                      </a:lnTo>
                      <a:lnTo>
                        <a:pt x="6" y="5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039080" y="2987640"/>
                  <a:ext cx="43200" cy="75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43"/>
                      </a:moveTo>
                      <a:lnTo>
                        <a:pt x="11" y="0"/>
                      </a:lnTo>
                      <a:lnTo>
                        <a:pt x="27" y="7"/>
                      </a:lnTo>
                      <a:lnTo>
                        <a:pt x="16" y="5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633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407a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6" name=""/>
          <p:cNvGrpSpPr/>
          <p:nvPr/>
        </p:nvGrpSpPr>
        <p:grpSpPr>
          <a:xfrm>
            <a:off x="7040520" y="1754280"/>
            <a:ext cx="1364760" cy="1347480"/>
            <a:chOff x="7040520" y="1754280"/>
            <a:chExt cx="1364760" cy="1347480"/>
          </a:xfrm>
        </p:grpSpPr>
        <p:sp>
          <p:nvSpPr>
            <p:cNvPr id="287" name=""/>
            <p:cNvSpPr/>
            <p:nvPr/>
          </p:nvSpPr>
          <p:spPr>
            <a:xfrm>
              <a:off x="7101720" y="2863080"/>
              <a:ext cx="44640" cy="6552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0" y="36"/>
                  </a:moveTo>
                  <a:lnTo>
                    <a:pt x="11" y="0"/>
                  </a:lnTo>
                  <a:lnTo>
                    <a:pt x="28" y="7"/>
                  </a:lnTo>
                  <a:lnTo>
                    <a:pt x="17" y="4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00ff"/>
            </a:solidFill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37360" y="2776320"/>
              <a:ext cx="62640" cy="651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0" y="36"/>
                  </a:moveTo>
                  <a:lnTo>
                    <a:pt x="17" y="0"/>
                  </a:lnTo>
                  <a:lnTo>
                    <a:pt x="39" y="7"/>
                  </a:lnTo>
                  <a:lnTo>
                    <a:pt x="22" y="4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00ff"/>
            </a:solidFill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43560" y="2591640"/>
              <a:ext cx="53280" cy="7596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0" y="21"/>
                  </a:moveTo>
                  <a:lnTo>
                    <a:pt x="28" y="0"/>
                  </a:lnTo>
                  <a:lnTo>
                    <a:pt x="33" y="28"/>
                  </a:lnTo>
                  <a:lnTo>
                    <a:pt x="6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00ff"/>
            </a:solidFill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59840" y="2503440"/>
              <a:ext cx="60840" cy="6552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0" y="36"/>
                  </a:moveTo>
                  <a:lnTo>
                    <a:pt x="16" y="0"/>
                  </a:lnTo>
                  <a:lnTo>
                    <a:pt x="38" y="8"/>
                  </a:lnTo>
                  <a:lnTo>
                    <a:pt x="22" y="4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00ff"/>
            </a:solidFill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438680" y="2329560"/>
              <a:ext cx="62640" cy="6552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0" y="36"/>
                  </a:moveTo>
                  <a:lnTo>
                    <a:pt x="17" y="0"/>
                  </a:lnTo>
                  <a:lnTo>
                    <a:pt x="39" y="7"/>
                  </a:lnTo>
                  <a:lnTo>
                    <a:pt x="22" y="4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00ff"/>
            </a:solidFill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474320" y="2340360"/>
              <a:ext cx="62640" cy="4392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0" y="22"/>
                  </a:moveTo>
                  <a:lnTo>
                    <a:pt x="33" y="29"/>
                  </a:lnTo>
                  <a:lnTo>
                    <a:pt x="39" y="8"/>
                  </a:lnTo>
                  <a:lnTo>
                    <a:pt x="6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ff"/>
            </a:solidFill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72600" y="2319120"/>
              <a:ext cx="52920" cy="7596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0" y="22"/>
                  </a:moveTo>
                  <a:lnTo>
                    <a:pt x="27" y="0"/>
                  </a:lnTo>
                  <a:lnTo>
                    <a:pt x="33" y="29"/>
                  </a:lnTo>
                  <a:lnTo>
                    <a:pt x="5" y="5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ff"/>
            </a:solidFill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96440" y="2221560"/>
              <a:ext cx="61200" cy="5472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0" y="14"/>
                  </a:moveTo>
                  <a:lnTo>
                    <a:pt x="33" y="0"/>
                  </a:lnTo>
                  <a:lnTo>
                    <a:pt x="38" y="21"/>
                  </a:lnTo>
                  <a:lnTo>
                    <a:pt x="5" y="3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ff"/>
            </a:solidFill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02640" y="2156040"/>
              <a:ext cx="61200" cy="5472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0" y="14"/>
                  </a:moveTo>
                  <a:lnTo>
                    <a:pt x="33" y="0"/>
                  </a:lnTo>
                  <a:lnTo>
                    <a:pt x="38" y="22"/>
                  </a:lnTo>
                  <a:lnTo>
                    <a:pt x="5" y="3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ff"/>
            </a:solidFill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09200" y="2113200"/>
              <a:ext cx="61200" cy="424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7"/>
                  </a:moveTo>
                  <a:lnTo>
                    <a:pt x="33" y="0"/>
                  </a:lnTo>
                  <a:lnTo>
                    <a:pt x="38" y="21"/>
                  </a:lnTo>
                  <a:lnTo>
                    <a:pt x="5" y="2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ff"/>
            </a:solidFill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23680" y="2058840"/>
              <a:ext cx="62640" cy="651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0" y="36"/>
                  </a:moveTo>
                  <a:lnTo>
                    <a:pt x="17" y="0"/>
                  </a:lnTo>
                  <a:lnTo>
                    <a:pt x="39" y="7"/>
                  </a:lnTo>
                  <a:lnTo>
                    <a:pt x="22" y="4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00ff"/>
            </a:solidFill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21960" y="1906560"/>
              <a:ext cx="61200" cy="5436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0" y="14"/>
                  </a:moveTo>
                  <a:lnTo>
                    <a:pt x="33" y="0"/>
                  </a:lnTo>
                  <a:lnTo>
                    <a:pt x="38" y="21"/>
                  </a:lnTo>
                  <a:lnTo>
                    <a:pt x="5" y="3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ff"/>
            </a:solidFill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36080" y="1830240"/>
              <a:ext cx="62640" cy="5472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0" y="14"/>
                  </a:moveTo>
                  <a:lnTo>
                    <a:pt x="33" y="0"/>
                  </a:lnTo>
                  <a:lnTo>
                    <a:pt x="39" y="21"/>
                  </a:lnTo>
                  <a:lnTo>
                    <a:pt x="6" y="3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ff"/>
            </a:solidFill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42640" y="1754280"/>
              <a:ext cx="62640" cy="543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0" y="14"/>
                  </a:moveTo>
                  <a:lnTo>
                    <a:pt x="33" y="0"/>
                  </a:lnTo>
                  <a:lnTo>
                    <a:pt x="39" y="21"/>
                  </a:lnTo>
                  <a:lnTo>
                    <a:pt x="6" y="3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ff"/>
            </a:solidFill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40520" y="3080520"/>
              <a:ext cx="43200" cy="212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7"/>
                  </a:moveTo>
                  <a:lnTo>
                    <a:pt x="5" y="0"/>
                  </a:lnTo>
                  <a:lnTo>
                    <a:pt x="27" y="7"/>
                  </a:lnTo>
                  <a:lnTo>
                    <a:pt x="22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25920" y="2613240"/>
              <a:ext cx="62640" cy="543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0" y="28"/>
                  </a:moveTo>
                  <a:lnTo>
                    <a:pt x="17" y="0"/>
                  </a:lnTo>
                  <a:lnTo>
                    <a:pt x="39" y="7"/>
                  </a:lnTo>
                  <a:lnTo>
                    <a:pt x="22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704360" y="2242800"/>
              <a:ext cx="27360" cy="439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7"/>
                  </a:moveTo>
                  <a:lnTo>
                    <a:pt x="11" y="0"/>
                  </a:lnTo>
                  <a:lnTo>
                    <a:pt x="17" y="22"/>
                  </a:lnTo>
                  <a:lnTo>
                    <a:pt x="6" y="2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12240" y="1906560"/>
              <a:ext cx="52920" cy="424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21"/>
                  </a:moveTo>
                  <a:lnTo>
                    <a:pt x="11" y="0"/>
                  </a:lnTo>
                  <a:lnTo>
                    <a:pt x="33" y="7"/>
                  </a:lnTo>
                  <a:lnTo>
                    <a:pt x="22" y="2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9120" y="2316240"/>
            <a:ext cx="6528960" cy="3490560"/>
            <a:chOff x="519120" y="2316240"/>
            <a:chExt cx="6528960" cy="3490560"/>
          </a:xfrm>
        </p:grpSpPr>
        <p:sp>
          <p:nvSpPr>
            <p:cNvPr id="306" name=""/>
            <p:cNvSpPr/>
            <p:nvPr/>
          </p:nvSpPr>
          <p:spPr>
            <a:xfrm>
              <a:off x="519120" y="5805360"/>
              <a:ext cx="114480" cy="144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33600" y="5718600"/>
              <a:ext cx="106200" cy="8640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740160" y="5642280"/>
              <a:ext cx="115920" cy="7632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56080" y="5642280"/>
              <a:ext cx="106200" cy="3204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962640" y="5542920"/>
              <a:ext cx="114120" cy="13068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77120" y="5543280"/>
              <a:ext cx="106200" cy="2268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1183320" y="5466600"/>
              <a:ext cx="106200" cy="9900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1289880" y="5402880"/>
              <a:ext cx="116280" cy="6372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1406160" y="5380200"/>
              <a:ext cx="106200" cy="2268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1512360" y="5326920"/>
              <a:ext cx="114120" cy="5292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26840" y="5327280"/>
              <a:ext cx="106200" cy="2088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1733400" y="5282640"/>
              <a:ext cx="116280" cy="6516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1849680" y="5151600"/>
              <a:ext cx="106200" cy="13068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956240" y="5033160"/>
              <a:ext cx="114120" cy="11880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070720" y="4935240"/>
              <a:ext cx="107640" cy="9756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178360" y="4793760"/>
              <a:ext cx="114120" cy="14148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292840" y="4673520"/>
              <a:ext cx="106200" cy="11988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399400" y="4489200"/>
              <a:ext cx="116280" cy="18432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15680" y="4489200"/>
              <a:ext cx="106200" cy="6552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2621880" y="4444560"/>
              <a:ext cx="114120" cy="10980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36360" y="4347720"/>
              <a:ext cx="106200" cy="9720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42920" y="4205880"/>
              <a:ext cx="106200" cy="14148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2949120" y="4055400"/>
              <a:ext cx="115920" cy="15048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065040" y="3869640"/>
              <a:ext cx="106200" cy="18576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171600" y="3750840"/>
              <a:ext cx="114480" cy="11880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86440" y="3750840"/>
              <a:ext cx="106200" cy="49932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3393000" y="3989520"/>
              <a:ext cx="115920" cy="26028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508920" y="3816000"/>
              <a:ext cx="106200" cy="17352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615120" y="3587760"/>
              <a:ext cx="114120" cy="22824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3729600" y="3456720"/>
              <a:ext cx="106200" cy="13068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36160" y="3457080"/>
              <a:ext cx="116280" cy="6516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3952440" y="2847240"/>
              <a:ext cx="106200" cy="67428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58640" y="2847600"/>
              <a:ext cx="114120" cy="47772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73120" y="3325680"/>
              <a:ext cx="106200" cy="13104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279680" y="3206880"/>
              <a:ext cx="115920" cy="24984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95600" y="3206880"/>
              <a:ext cx="106560" cy="63036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502520" y="3435480"/>
              <a:ext cx="106200" cy="40176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4608720" y="3304080"/>
              <a:ext cx="115920" cy="13068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4724640" y="3162600"/>
              <a:ext cx="106200" cy="14184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31200" y="3162600"/>
              <a:ext cx="114120" cy="4392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4945680" y="2999880"/>
              <a:ext cx="106200" cy="20664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51880" y="2999880"/>
              <a:ext cx="116280" cy="4356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68160" y="3043800"/>
              <a:ext cx="106200" cy="47808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5274720" y="3359160"/>
              <a:ext cx="114120" cy="16272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5389200" y="3293640"/>
              <a:ext cx="106200" cy="6516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95400" y="3294000"/>
              <a:ext cx="115920" cy="28296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5611320" y="3238560"/>
              <a:ext cx="106200" cy="33804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17880" y="3238920"/>
              <a:ext cx="114480" cy="5472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32720" y="3294000"/>
              <a:ext cx="106200" cy="15228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39280" y="3446280"/>
              <a:ext cx="115920" cy="4248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55200" y="3488760"/>
              <a:ext cx="106200" cy="15228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161400" y="3456720"/>
              <a:ext cx="106200" cy="18396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67960" y="3358800"/>
              <a:ext cx="114120" cy="9756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82440" y="3359160"/>
              <a:ext cx="106200" cy="144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488640" y="3130920"/>
              <a:ext cx="116280" cy="22824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604920" y="2760480"/>
              <a:ext cx="106200" cy="37008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711480" y="2424240"/>
              <a:ext cx="115920" cy="33624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827400" y="2316240"/>
              <a:ext cx="106200" cy="10800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933960" y="2316240"/>
              <a:ext cx="114120" cy="9720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048440" y="1465200"/>
            <a:ext cx="1436400" cy="936360"/>
            <a:chOff x="7048440" y="1465200"/>
            <a:chExt cx="1436400" cy="936360"/>
          </a:xfrm>
        </p:grpSpPr>
        <p:sp>
          <p:nvSpPr>
            <p:cNvPr id="366" name=""/>
            <p:cNvSpPr/>
            <p:nvPr/>
          </p:nvSpPr>
          <p:spPr>
            <a:xfrm flipV="1">
              <a:off x="7048440" y="2205000"/>
              <a:ext cx="106560" cy="196560"/>
            </a:xfrm>
            <a:prstGeom prst="line">
              <a:avLst/>
            </a:prstGeom>
            <a:ln w="6336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7155000" y="2052000"/>
              <a:ext cx="115560" cy="152280"/>
            </a:xfrm>
            <a:prstGeom prst="line">
              <a:avLst/>
            </a:prstGeom>
            <a:ln w="6336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7270920" y="1856880"/>
              <a:ext cx="106200" cy="194760"/>
            </a:xfrm>
            <a:prstGeom prst="line">
              <a:avLst/>
            </a:prstGeom>
            <a:ln w="6336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77120" y="1758960"/>
              <a:ext cx="114120" cy="97560"/>
            </a:xfrm>
            <a:prstGeom prst="line">
              <a:avLst/>
            </a:prstGeom>
            <a:ln w="6336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91600" y="1759320"/>
              <a:ext cx="106200" cy="53280"/>
            </a:xfrm>
            <a:prstGeom prst="line">
              <a:avLst/>
            </a:prstGeom>
            <a:ln w="6336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598160" y="1759320"/>
              <a:ext cx="115920" cy="53280"/>
            </a:xfrm>
            <a:prstGeom prst="line">
              <a:avLst/>
            </a:prstGeom>
            <a:ln w="6336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714440" y="1660320"/>
              <a:ext cx="106200" cy="98640"/>
            </a:xfrm>
            <a:prstGeom prst="line">
              <a:avLst/>
            </a:prstGeom>
            <a:ln w="6336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820640" y="1617120"/>
              <a:ext cx="106200" cy="42840"/>
            </a:xfrm>
            <a:prstGeom prst="line">
              <a:avLst/>
            </a:prstGeom>
            <a:ln w="6336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927200" y="1617480"/>
              <a:ext cx="114120" cy="42840"/>
            </a:xfrm>
            <a:prstGeom prst="line">
              <a:avLst/>
            </a:prstGeom>
            <a:ln w="6336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8041680" y="1562760"/>
              <a:ext cx="106200" cy="97200"/>
            </a:xfrm>
            <a:prstGeom prst="line">
              <a:avLst/>
            </a:prstGeom>
            <a:ln w="6336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8147880" y="1519560"/>
              <a:ext cx="115560" cy="42840"/>
            </a:xfrm>
            <a:prstGeom prst="line">
              <a:avLst/>
            </a:prstGeom>
            <a:ln w="6336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8263800" y="1465200"/>
              <a:ext cx="106200" cy="54720"/>
            </a:xfrm>
            <a:prstGeom prst="line">
              <a:avLst/>
            </a:prstGeom>
            <a:ln w="6336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370360" y="1465200"/>
              <a:ext cx="114480" cy="97560"/>
            </a:xfrm>
            <a:prstGeom prst="line">
              <a:avLst/>
            </a:prstGeom>
            <a:ln w="6336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722160" y="1420920"/>
            <a:ext cx="7762680" cy="4346280"/>
            <a:chOff x="722160" y="1420920"/>
            <a:chExt cx="7762680" cy="4346280"/>
          </a:xfrm>
        </p:grpSpPr>
        <p:sp>
          <p:nvSpPr>
            <p:cNvPr id="380" name=""/>
            <p:cNvSpPr/>
            <p:nvPr/>
          </p:nvSpPr>
          <p:spPr>
            <a:xfrm>
              <a:off x="722160" y="5680800"/>
              <a:ext cx="116280" cy="651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4" y="2"/>
                  </a:lnTo>
                  <a:lnTo>
                    <a:pt x="9" y="4"/>
                  </a:lnTo>
                  <a:lnTo>
                    <a:pt x="13" y="6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38440" y="5745960"/>
              <a:ext cx="123840" cy="212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0" y="0"/>
                  </a:moveTo>
                  <a:lnTo>
                    <a:pt x="5" y="1"/>
                  </a:lnTo>
                  <a:lnTo>
                    <a:pt x="9" y="1"/>
                  </a:lnTo>
                  <a:lnTo>
                    <a:pt x="14" y="2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62280" y="5756760"/>
              <a:ext cx="78840" cy="10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1"/>
                  </a:moveTo>
                  <a:lnTo>
                    <a:pt x="4" y="1"/>
                  </a:lnTo>
                  <a:lnTo>
                    <a:pt x="9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41120" y="5725080"/>
              <a:ext cx="116280" cy="31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3"/>
                  </a:moveTo>
                  <a:lnTo>
                    <a:pt x="4" y="3"/>
                  </a:lnTo>
                  <a:lnTo>
                    <a:pt x="9" y="2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57400" y="5670000"/>
              <a:ext cx="123840" cy="54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5"/>
                  </a:moveTo>
                  <a:lnTo>
                    <a:pt x="5" y="4"/>
                  </a:lnTo>
                  <a:lnTo>
                    <a:pt x="9" y="2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81600" y="5593680"/>
              <a:ext cx="114120" cy="759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7"/>
                  </a:moveTo>
                  <a:lnTo>
                    <a:pt x="4" y="5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96080" y="5528520"/>
              <a:ext cx="80640" cy="65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5" y="3"/>
                  </a:lnTo>
                  <a:lnTo>
                    <a:pt x="9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76720" y="5430960"/>
              <a:ext cx="123840" cy="9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9"/>
                  </a:moveTo>
                  <a:lnTo>
                    <a:pt x="5" y="6"/>
                  </a:lnTo>
                  <a:lnTo>
                    <a:pt x="9" y="3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00560" y="5312520"/>
              <a:ext cx="124200" cy="1184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11"/>
                  </a:moveTo>
                  <a:lnTo>
                    <a:pt x="5" y="7"/>
                  </a:lnTo>
                  <a:lnTo>
                    <a:pt x="9" y="4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25120" y="5191920"/>
              <a:ext cx="114120" cy="1202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11"/>
                  </a:moveTo>
                  <a:lnTo>
                    <a:pt x="4" y="7"/>
                  </a:lnTo>
                  <a:lnTo>
                    <a:pt x="9" y="4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39600" y="5060880"/>
              <a:ext cx="124200" cy="1306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2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63800" y="4974480"/>
              <a:ext cx="80280" cy="864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4" y="4"/>
                  </a:lnTo>
                  <a:lnTo>
                    <a:pt x="9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44440" y="4844880"/>
              <a:ext cx="116280" cy="12924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4" y="8"/>
                  </a:lnTo>
                  <a:lnTo>
                    <a:pt x="9" y="4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60720" y="4714200"/>
              <a:ext cx="123840" cy="1306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2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84560" y="4582800"/>
              <a:ext cx="114120" cy="13104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4" y="8"/>
                  </a:lnTo>
                  <a:lnTo>
                    <a:pt x="9" y="4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99040" y="4496040"/>
              <a:ext cx="80640" cy="864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4"/>
                  </a:lnTo>
                  <a:lnTo>
                    <a:pt x="9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79680" y="4377600"/>
              <a:ext cx="123840" cy="1184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11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03880" y="4268160"/>
              <a:ext cx="114120" cy="1094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10"/>
                  </a:moveTo>
                  <a:lnTo>
                    <a:pt x="4" y="7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18360" y="4159800"/>
              <a:ext cx="124200" cy="10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5" y="6"/>
                  </a:lnTo>
                  <a:lnTo>
                    <a:pt x="9" y="3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842560" y="4062240"/>
              <a:ext cx="115920" cy="975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9"/>
                  </a:moveTo>
                  <a:lnTo>
                    <a:pt x="4" y="6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58480" y="3997080"/>
              <a:ext cx="78840" cy="65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5" y="3"/>
                  </a:lnTo>
                  <a:lnTo>
                    <a:pt x="9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37320" y="3909960"/>
              <a:ext cx="124200" cy="867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8"/>
                  </a:moveTo>
                  <a:lnTo>
                    <a:pt x="5" y="5"/>
                  </a:lnTo>
                  <a:lnTo>
                    <a:pt x="9" y="2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61880" y="3834000"/>
              <a:ext cx="116280" cy="756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7"/>
                  </a:moveTo>
                  <a:lnTo>
                    <a:pt x="4" y="4"/>
                  </a:lnTo>
                  <a:lnTo>
                    <a:pt x="9" y="2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78160" y="3757680"/>
              <a:ext cx="123840" cy="759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7"/>
                  </a:moveTo>
                  <a:lnTo>
                    <a:pt x="5" y="5"/>
                  </a:lnTo>
                  <a:lnTo>
                    <a:pt x="9" y="2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02000" y="3726000"/>
              <a:ext cx="78840" cy="31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4" y="1"/>
                  </a:lnTo>
                  <a:lnTo>
                    <a:pt x="9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81200" y="3660480"/>
              <a:ext cx="124200" cy="655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6"/>
                  </a:moveTo>
                  <a:lnTo>
                    <a:pt x="4" y="4"/>
                  </a:lnTo>
                  <a:lnTo>
                    <a:pt x="9" y="2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05400" y="3616200"/>
              <a:ext cx="115920" cy="4392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4"/>
                  </a:moveTo>
                  <a:lnTo>
                    <a:pt x="4" y="3"/>
                  </a:lnTo>
                  <a:lnTo>
                    <a:pt x="9" y="1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21320" y="3573720"/>
              <a:ext cx="124200" cy="42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4"/>
                  </a:moveTo>
                  <a:lnTo>
                    <a:pt x="5" y="3"/>
                  </a:lnTo>
                  <a:lnTo>
                    <a:pt x="9" y="1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45520" y="3540240"/>
              <a:ext cx="114120" cy="334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3"/>
                  </a:moveTo>
                  <a:lnTo>
                    <a:pt x="4" y="2"/>
                  </a:lnTo>
                  <a:lnTo>
                    <a:pt x="9" y="1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60000" y="3529440"/>
              <a:ext cx="80280" cy="10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1"/>
                  </a:move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40640" y="3497400"/>
              <a:ext cx="124200" cy="32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0" y="3"/>
                  </a:moveTo>
                  <a:lnTo>
                    <a:pt x="5" y="2"/>
                  </a:lnTo>
                  <a:lnTo>
                    <a:pt x="9" y="1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64840" y="3486600"/>
              <a:ext cx="114120" cy="10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1"/>
                  </a:moveTo>
                  <a:lnTo>
                    <a:pt x="4" y="1"/>
                  </a:lnTo>
                  <a:lnTo>
                    <a:pt x="9" y="0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79320" y="3463920"/>
              <a:ext cx="125640" cy="2268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0" y="2"/>
                  </a:moveTo>
                  <a:lnTo>
                    <a:pt x="5" y="1"/>
                  </a:lnTo>
                  <a:lnTo>
                    <a:pt x="9" y="1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04960" y="3463920"/>
              <a:ext cx="7884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84160" y="3453120"/>
              <a:ext cx="116280" cy="10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1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00440" y="3442680"/>
              <a:ext cx="123840" cy="1008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0" y="1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24280" y="3432240"/>
              <a:ext cx="114120" cy="10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1"/>
                  </a:moveTo>
                  <a:lnTo>
                    <a:pt x="4" y="1"/>
                  </a:lnTo>
                  <a:lnTo>
                    <a:pt x="9" y="0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38760" y="3421440"/>
              <a:ext cx="124200" cy="1044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0" y="1"/>
                  </a:moveTo>
                  <a:lnTo>
                    <a:pt x="5" y="1"/>
                  </a:lnTo>
                  <a:lnTo>
                    <a:pt x="9" y="1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63320" y="3421440"/>
              <a:ext cx="80280" cy="108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43600" y="3410640"/>
              <a:ext cx="114120" cy="10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1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58080" y="3387960"/>
              <a:ext cx="124200" cy="2268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0" y="2"/>
                  </a:moveTo>
                  <a:lnTo>
                    <a:pt x="5" y="1"/>
                  </a:lnTo>
                  <a:lnTo>
                    <a:pt x="9" y="1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82280" y="3377160"/>
              <a:ext cx="115920" cy="10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1"/>
                  </a:moveTo>
                  <a:lnTo>
                    <a:pt x="4" y="1"/>
                  </a:lnTo>
                  <a:lnTo>
                    <a:pt x="9" y="0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98200" y="3355920"/>
              <a:ext cx="88560" cy="2124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2"/>
                  </a:moveTo>
                  <a:lnTo>
                    <a:pt x="5" y="1"/>
                  </a:lnTo>
                  <a:lnTo>
                    <a:pt x="10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87120" y="3334320"/>
              <a:ext cx="114120" cy="2124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0" y="2"/>
                  </a:moveTo>
                  <a:lnTo>
                    <a:pt x="4" y="1"/>
                  </a:lnTo>
                  <a:lnTo>
                    <a:pt x="9" y="1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01600" y="3300840"/>
              <a:ext cx="123840" cy="3348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0" y="3"/>
                  </a:moveTo>
                  <a:lnTo>
                    <a:pt x="5" y="2"/>
                  </a:lnTo>
                  <a:lnTo>
                    <a:pt x="9" y="1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25440" y="3258360"/>
              <a:ext cx="116280" cy="4212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4"/>
                  </a:moveTo>
                  <a:lnTo>
                    <a:pt x="4" y="3"/>
                  </a:lnTo>
                  <a:lnTo>
                    <a:pt x="9" y="1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41720" y="3214440"/>
              <a:ext cx="124200" cy="43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4"/>
                  </a:moveTo>
                  <a:lnTo>
                    <a:pt x="5" y="3"/>
                  </a:lnTo>
                  <a:lnTo>
                    <a:pt x="9" y="1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66280" y="3182040"/>
              <a:ext cx="78840" cy="320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4" y="1"/>
                  </a:lnTo>
                  <a:lnTo>
                    <a:pt x="9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45120" y="3116880"/>
              <a:ext cx="115920" cy="651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6"/>
                  </a:moveTo>
                  <a:lnTo>
                    <a:pt x="4" y="4"/>
                  </a:lnTo>
                  <a:lnTo>
                    <a:pt x="9" y="2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61040" y="3051360"/>
              <a:ext cx="124200" cy="655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6"/>
                  </a:moveTo>
                  <a:lnTo>
                    <a:pt x="5" y="4"/>
                  </a:lnTo>
                  <a:lnTo>
                    <a:pt x="9" y="2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85600" y="2975400"/>
              <a:ext cx="114120" cy="756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7"/>
                  </a:moveTo>
                  <a:lnTo>
                    <a:pt x="4" y="5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080" y="2920320"/>
              <a:ext cx="80280" cy="547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5" y="3"/>
                  </a:lnTo>
                  <a:lnTo>
                    <a:pt x="9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80360" y="2833920"/>
              <a:ext cx="124200" cy="86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8"/>
                  </a:moveTo>
                  <a:lnTo>
                    <a:pt x="5" y="6"/>
                  </a:lnTo>
                  <a:lnTo>
                    <a:pt x="9" y="3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604560" y="2746800"/>
              <a:ext cx="115920" cy="8676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8"/>
                  </a:moveTo>
                  <a:lnTo>
                    <a:pt x="4" y="6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20480" y="2638800"/>
              <a:ext cx="124200" cy="10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5" y="7"/>
                  </a:lnTo>
                  <a:lnTo>
                    <a:pt x="9" y="4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845040" y="2541240"/>
              <a:ext cx="114120" cy="97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9"/>
                  </a:moveTo>
                  <a:lnTo>
                    <a:pt x="4" y="6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9520" y="2465280"/>
              <a:ext cx="80280" cy="759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7"/>
                  </a:moveTo>
                  <a:lnTo>
                    <a:pt x="5" y="3"/>
                  </a:lnTo>
                  <a:lnTo>
                    <a:pt x="9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39800" y="2345040"/>
              <a:ext cx="124200" cy="1198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11"/>
                  </a:moveTo>
                  <a:lnTo>
                    <a:pt x="5" y="7"/>
                  </a:lnTo>
                  <a:lnTo>
                    <a:pt x="9" y="4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64000" y="2226240"/>
              <a:ext cx="114120" cy="1184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11"/>
                  </a:moveTo>
                  <a:lnTo>
                    <a:pt x="4" y="8"/>
                  </a:lnTo>
                  <a:lnTo>
                    <a:pt x="9" y="4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78480" y="2116800"/>
              <a:ext cx="124200" cy="1094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5" y="7"/>
                  </a:lnTo>
                  <a:lnTo>
                    <a:pt x="9" y="3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403040" y="2029680"/>
              <a:ext cx="80280" cy="867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4"/>
                  </a:lnTo>
                  <a:lnTo>
                    <a:pt x="9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483320" y="1921680"/>
              <a:ext cx="124200" cy="10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5" y="7"/>
                  </a:lnTo>
                  <a:lnTo>
                    <a:pt x="9" y="3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07880" y="1812240"/>
              <a:ext cx="114120" cy="1094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10"/>
                  </a:moveTo>
                  <a:lnTo>
                    <a:pt x="4" y="7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22360" y="1704240"/>
              <a:ext cx="123840" cy="10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5" y="7"/>
                  </a:lnTo>
                  <a:lnTo>
                    <a:pt x="9" y="3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46200" y="1617120"/>
              <a:ext cx="116280" cy="8676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8"/>
                  </a:moveTo>
                  <a:lnTo>
                    <a:pt x="4" y="6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962480" y="1562760"/>
              <a:ext cx="78840" cy="543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5" y="2"/>
                  </a:lnTo>
                  <a:lnTo>
                    <a:pt x="9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41320" y="1496880"/>
              <a:ext cx="123840" cy="655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6"/>
                  </a:moveTo>
                  <a:lnTo>
                    <a:pt x="5" y="4"/>
                  </a:lnTo>
                  <a:lnTo>
                    <a:pt x="9" y="2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165520" y="1454400"/>
              <a:ext cx="116280" cy="424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4"/>
                  </a:moveTo>
                  <a:lnTo>
                    <a:pt x="4" y="2"/>
                  </a:lnTo>
                  <a:lnTo>
                    <a:pt x="9" y="1"/>
                  </a:lnTo>
                  <a:lnTo>
                    <a:pt x="13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281800" y="1433160"/>
              <a:ext cx="123840" cy="2088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0" y="2"/>
                  </a:moveTo>
                  <a:lnTo>
                    <a:pt x="5" y="1"/>
                  </a:lnTo>
                  <a:lnTo>
                    <a:pt x="9" y="0"/>
                  </a:lnTo>
                  <a:lnTo>
                    <a:pt x="14" y="0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405640" y="1420920"/>
              <a:ext cx="79200" cy="122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1"/>
                  </a:moveTo>
                  <a:lnTo>
                    <a:pt x="4" y="0"/>
                  </a:lnTo>
                  <a:lnTo>
                    <a:pt x="9" y="1"/>
                  </a:lnTo>
                </a:path>
              </a:pathLst>
            </a:custGeom>
            <a:noFill/>
            <a:ln w="44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96880" y="1673280"/>
            <a:ext cx="7887960" cy="4142880"/>
            <a:chOff x="596880" y="1673280"/>
            <a:chExt cx="7887960" cy="4142880"/>
          </a:xfrm>
        </p:grpSpPr>
        <p:sp>
          <p:nvSpPr>
            <p:cNvPr id="451" name=""/>
            <p:cNvSpPr/>
            <p:nvPr/>
          </p:nvSpPr>
          <p:spPr>
            <a:xfrm>
              <a:off x="596880" y="5726520"/>
              <a:ext cx="123840" cy="42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0"/>
                  </a:moveTo>
                  <a:lnTo>
                    <a:pt x="5" y="1"/>
                  </a:lnTo>
                  <a:lnTo>
                    <a:pt x="9" y="3"/>
                  </a:lnTo>
                  <a:lnTo>
                    <a:pt x="14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0720" y="5783040"/>
              <a:ext cx="116280" cy="226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0" y="0"/>
                  </a:moveTo>
                  <a:lnTo>
                    <a:pt x="4" y="1"/>
                  </a:lnTo>
                  <a:lnTo>
                    <a:pt x="9" y="2"/>
                  </a:lnTo>
                  <a:lnTo>
                    <a:pt x="13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37000" y="5784120"/>
              <a:ext cx="123840" cy="212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0" y="0"/>
                  </a:moveTo>
                  <a:lnTo>
                    <a:pt x="5" y="1"/>
                  </a:lnTo>
                  <a:lnTo>
                    <a:pt x="9" y="1"/>
                  </a:lnTo>
                  <a:lnTo>
                    <a:pt x="14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60840" y="5804280"/>
              <a:ext cx="78840" cy="108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40040" y="5794920"/>
              <a:ext cx="116280" cy="10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1"/>
                  </a:moveTo>
                  <a:lnTo>
                    <a:pt x="4" y="1"/>
                  </a:lnTo>
                  <a:lnTo>
                    <a:pt x="9" y="1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56320" y="5805720"/>
              <a:ext cx="123840" cy="1044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0" y="1"/>
                  </a:moveTo>
                  <a:lnTo>
                    <a:pt x="5" y="1"/>
                  </a:lnTo>
                  <a:lnTo>
                    <a:pt x="9" y="1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80160" y="5769000"/>
              <a:ext cx="114120" cy="226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0" y="2"/>
                  </a:moveTo>
                  <a:lnTo>
                    <a:pt x="4" y="2"/>
                  </a:lnTo>
                  <a:lnTo>
                    <a:pt x="9" y="1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94640" y="5747760"/>
              <a:ext cx="80640" cy="21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lnTo>
                    <a:pt x="5" y="1"/>
                  </a:lnTo>
                  <a:lnTo>
                    <a:pt x="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75640" y="5732280"/>
              <a:ext cx="123840" cy="212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0" y="2"/>
                  </a:moveTo>
                  <a:lnTo>
                    <a:pt x="5" y="2"/>
                  </a:lnTo>
                  <a:lnTo>
                    <a:pt x="9" y="1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99480" y="5688360"/>
              <a:ext cx="124200" cy="43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4"/>
                  </a:moveTo>
                  <a:lnTo>
                    <a:pt x="5" y="2"/>
                  </a:lnTo>
                  <a:lnTo>
                    <a:pt x="9" y="1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724040" y="5659560"/>
              <a:ext cx="114120" cy="31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3"/>
                  </a:moveTo>
                  <a:lnTo>
                    <a:pt x="4" y="2"/>
                  </a:lnTo>
                  <a:lnTo>
                    <a:pt x="9" y="1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838520" y="5615280"/>
              <a:ext cx="124200" cy="43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4"/>
                  </a:moveTo>
                  <a:lnTo>
                    <a:pt x="5" y="3"/>
                  </a:lnTo>
                  <a:lnTo>
                    <a:pt x="9" y="1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962720" y="5583240"/>
              <a:ext cx="80280" cy="320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4" y="2"/>
                  </a:lnTo>
                  <a:lnTo>
                    <a:pt x="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43360" y="5553000"/>
              <a:ext cx="116280" cy="334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3"/>
                  </a:moveTo>
                  <a:lnTo>
                    <a:pt x="4" y="2"/>
                  </a:lnTo>
                  <a:lnTo>
                    <a:pt x="9" y="1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59640" y="5513040"/>
              <a:ext cx="123840" cy="42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4"/>
                  </a:moveTo>
                  <a:lnTo>
                    <a:pt x="5" y="2"/>
                  </a:lnTo>
                  <a:lnTo>
                    <a:pt x="9" y="1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83480" y="5453640"/>
              <a:ext cx="114120" cy="4392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4"/>
                  </a:moveTo>
                  <a:lnTo>
                    <a:pt x="4" y="2"/>
                  </a:lnTo>
                  <a:lnTo>
                    <a:pt x="9" y="1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97960" y="5421960"/>
              <a:ext cx="80640" cy="31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5" y="2"/>
                  </a:lnTo>
                  <a:lnTo>
                    <a:pt x="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78960" y="5389920"/>
              <a:ext cx="123840" cy="32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0" y="3"/>
                  </a:moveTo>
                  <a:lnTo>
                    <a:pt x="5" y="2"/>
                  </a:lnTo>
                  <a:lnTo>
                    <a:pt x="9" y="1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02800" y="5345640"/>
              <a:ext cx="114120" cy="4392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4"/>
                  </a:moveTo>
                  <a:lnTo>
                    <a:pt x="4" y="2"/>
                  </a:lnTo>
                  <a:lnTo>
                    <a:pt x="9" y="1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17280" y="5313960"/>
              <a:ext cx="124200" cy="3168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0" y="3"/>
                  </a:moveTo>
                  <a:lnTo>
                    <a:pt x="5" y="2"/>
                  </a:lnTo>
                  <a:lnTo>
                    <a:pt x="9" y="1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841480" y="5269680"/>
              <a:ext cx="115920" cy="4392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4"/>
                  </a:moveTo>
                  <a:lnTo>
                    <a:pt x="4" y="3"/>
                  </a:lnTo>
                  <a:lnTo>
                    <a:pt x="9" y="1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957400" y="5248440"/>
              <a:ext cx="78840" cy="21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lnTo>
                    <a:pt x="5" y="1"/>
                  </a:lnTo>
                  <a:lnTo>
                    <a:pt x="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036600" y="5214960"/>
              <a:ext cx="124200" cy="3348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0" y="3"/>
                  </a:moveTo>
                  <a:lnTo>
                    <a:pt x="5" y="2"/>
                  </a:lnTo>
                  <a:lnTo>
                    <a:pt x="9" y="1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60800" y="5182560"/>
              <a:ext cx="116280" cy="32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3"/>
                  </a:moveTo>
                  <a:lnTo>
                    <a:pt x="4" y="2"/>
                  </a:lnTo>
                  <a:lnTo>
                    <a:pt x="9" y="1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77080" y="5150880"/>
              <a:ext cx="123840" cy="3168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0" y="3"/>
                  </a:moveTo>
                  <a:lnTo>
                    <a:pt x="5" y="2"/>
                  </a:lnTo>
                  <a:lnTo>
                    <a:pt x="9" y="1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401280" y="5139000"/>
              <a:ext cx="78840" cy="11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1"/>
                  </a:moveTo>
                  <a:lnTo>
                    <a:pt x="4" y="1"/>
                  </a:lnTo>
                  <a:lnTo>
                    <a:pt x="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80120" y="5106600"/>
              <a:ext cx="124200" cy="32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0" y="3"/>
                  </a:moveTo>
                  <a:lnTo>
                    <a:pt x="4" y="2"/>
                  </a:lnTo>
                  <a:lnTo>
                    <a:pt x="9" y="1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04680" y="5074560"/>
              <a:ext cx="115920" cy="32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3"/>
                  </a:moveTo>
                  <a:lnTo>
                    <a:pt x="4" y="2"/>
                  </a:lnTo>
                  <a:lnTo>
                    <a:pt x="9" y="1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20600" y="5051880"/>
              <a:ext cx="124200" cy="2268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0" y="2"/>
                  </a:moveTo>
                  <a:lnTo>
                    <a:pt x="5" y="1"/>
                  </a:lnTo>
                  <a:lnTo>
                    <a:pt x="9" y="0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844800" y="5020200"/>
              <a:ext cx="114120" cy="31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3"/>
                  </a:moveTo>
                  <a:lnTo>
                    <a:pt x="4" y="2"/>
                  </a:lnTo>
                  <a:lnTo>
                    <a:pt x="9" y="1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59280" y="4998600"/>
              <a:ext cx="80280" cy="21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lnTo>
                    <a:pt x="5" y="1"/>
                  </a:lnTo>
                  <a:lnTo>
                    <a:pt x="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039920" y="4965120"/>
              <a:ext cx="124200" cy="3348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0" y="3"/>
                  </a:moveTo>
                  <a:lnTo>
                    <a:pt x="5" y="2"/>
                  </a:lnTo>
                  <a:lnTo>
                    <a:pt x="9" y="1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64120" y="4933080"/>
              <a:ext cx="114120" cy="32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3"/>
                  </a:moveTo>
                  <a:lnTo>
                    <a:pt x="4" y="2"/>
                  </a:lnTo>
                  <a:lnTo>
                    <a:pt x="9" y="1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78600" y="4899600"/>
              <a:ext cx="125640" cy="3348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0" y="3"/>
                  </a:moveTo>
                  <a:lnTo>
                    <a:pt x="5" y="2"/>
                  </a:lnTo>
                  <a:lnTo>
                    <a:pt x="9" y="1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04600" y="4878000"/>
              <a:ext cx="78840" cy="21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lnTo>
                    <a:pt x="4" y="1"/>
                  </a:lnTo>
                  <a:lnTo>
                    <a:pt x="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83440" y="4835880"/>
              <a:ext cx="116280" cy="4212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4"/>
                  </a:moveTo>
                  <a:lnTo>
                    <a:pt x="4" y="3"/>
                  </a:lnTo>
                  <a:lnTo>
                    <a:pt x="9" y="2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99720" y="4802040"/>
              <a:ext cx="123840" cy="3348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0" y="3"/>
                  </a:moveTo>
                  <a:lnTo>
                    <a:pt x="5" y="2"/>
                  </a:lnTo>
                  <a:lnTo>
                    <a:pt x="9" y="1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23560" y="4759560"/>
              <a:ext cx="114120" cy="4212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4"/>
                  </a:moveTo>
                  <a:lnTo>
                    <a:pt x="4" y="2"/>
                  </a:lnTo>
                  <a:lnTo>
                    <a:pt x="9" y="1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38040" y="4704840"/>
              <a:ext cx="124200" cy="54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5"/>
                  </a:moveTo>
                  <a:lnTo>
                    <a:pt x="5" y="3"/>
                  </a:lnTo>
                  <a:lnTo>
                    <a:pt x="9" y="2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962600" y="4672800"/>
              <a:ext cx="80280" cy="320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4" y="1"/>
                  </a:lnTo>
                  <a:lnTo>
                    <a:pt x="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42880" y="4617720"/>
              <a:ext cx="114120" cy="547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5"/>
                  </a:moveTo>
                  <a:lnTo>
                    <a:pt x="4" y="3"/>
                  </a:lnTo>
                  <a:lnTo>
                    <a:pt x="9" y="1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57360" y="4552560"/>
              <a:ext cx="124200" cy="651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6"/>
                  </a:moveTo>
                  <a:lnTo>
                    <a:pt x="5" y="4"/>
                  </a:lnTo>
                  <a:lnTo>
                    <a:pt x="9" y="2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81920" y="4487040"/>
              <a:ext cx="115920" cy="655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6"/>
                  </a:moveTo>
                  <a:lnTo>
                    <a:pt x="4" y="4"/>
                  </a:lnTo>
                  <a:lnTo>
                    <a:pt x="9" y="2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97840" y="4431960"/>
              <a:ext cx="88560" cy="547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5"/>
                  </a:moveTo>
                  <a:lnTo>
                    <a:pt x="5" y="3"/>
                  </a:lnTo>
                  <a:lnTo>
                    <a:pt x="1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486760" y="4357440"/>
              <a:ext cx="114120" cy="745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7"/>
                  </a:moveTo>
                  <a:lnTo>
                    <a:pt x="4" y="5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01240" y="4281480"/>
              <a:ext cx="123840" cy="759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7"/>
                  </a:moveTo>
                  <a:lnTo>
                    <a:pt x="5" y="5"/>
                  </a:lnTo>
                  <a:lnTo>
                    <a:pt x="9" y="2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25080" y="4192920"/>
              <a:ext cx="116280" cy="882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8"/>
                  </a:moveTo>
                  <a:lnTo>
                    <a:pt x="4" y="5"/>
                  </a:lnTo>
                  <a:lnTo>
                    <a:pt x="9" y="2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841360" y="4095720"/>
              <a:ext cx="124200" cy="9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9"/>
                  </a:moveTo>
                  <a:lnTo>
                    <a:pt x="5" y="6"/>
                  </a:lnTo>
                  <a:lnTo>
                    <a:pt x="9" y="3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65920" y="4030200"/>
              <a:ext cx="78840" cy="65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4" y="3"/>
                  </a:lnTo>
                  <a:lnTo>
                    <a:pt x="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44760" y="3922200"/>
              <a:ext cx="115920" cy="10800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10"/>
                  </a:moveTo>
                  <a:lnTo>
                    <a:pt x="4" y="7"/>
                  </a:lnTo>
                  <a:lnTo>
                    <a:pt x="9" y="4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60680" y="3813840"/>
              <a:ext cx="124200" cy="10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5" y="7"/>
                  </a:lnTo>
                  <a:lnTo>
                    <a:pt x="9" y="4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285240" y="3693960"/>
              <a:ext cx="114120" cy="1198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11"/>
                  </a:moveTo>
                  <a:lnTo>
                    <a:pt x="4" y="8"/>
                  </a:lnTo>
                  <a:lnTo>
                    <a:pt x="9" y="4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399720" y="3617640"/>
              <a:ext cx="80280" cy="759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7"/>
                  </a:moveTo>
                  <a:lnTo>
                    <a:pt x="5" y="4"/>
                  </a:lnTo>
                  <a:lnTo>
                    <a:pt x="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80000" y="3498840"/>
              <a:ext cx="124200" cy="1184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11"/>
                  </a:moveTo>
                  <a:lnTo>
                    <a:pt x="5" y="7"/>
                  </a:lnTo>
                  <a:lnTo>
                    <a:pt x="9" y="3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604200" y="3367800"/>
              <a:ext cx="115920" cy="1306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4" y="8"/>
                  </a:lnTo>
                  <a:lnTo>
                    <a:pt x="9" y="4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20480" y="3237120"/>
              <a:ext cx="124200" cy="1306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2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44680" y="3096720"/>
              <a:ext cx="114120" cy="1400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4" y="8"/>
                  </a:lnTo>
                  <a:lnTo>
                    <a:pt x="9" y="4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59160" y="3008520"/>
              <a:ext cx="80280" cy="882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4"/>
                  </a:lnTo>
                  <a:lnTo>
                    <a:pt x="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039440" y="2868480"/>
              <a:ext cx="124200" cy="1396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164000" y="2727000"/>
              <a:ext cx="114120" cy="1414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278480" y="2595600"/>
              <a:ext cx="124200" cy="1310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2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02680" y="2498400"/>
              <a:ext cx="80280" cy="972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4"/>
                  </a:lnTo>
                  <a:lnTo>
                    <a:pt x="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83320" y="2367360"/>
              <a:ext cx="124200" cy="1306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2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07520" y="2238120"/>
              <a:ext cx="114120" cy="12924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4" y="8"/>
                  </a:lnTo>
                  <a:lnTo>
                    <a:pt x="9" y="4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722000" y="2117880"/>
              <a:ext cx="123840" cy="1198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11"/>
                  </a:moveTo>
                  <a:lnTo>
                    <a:pt x="5" y="7"/>
                  </a:lnTo>
                  <a:lnTo>
                    <a:pt x="9" y="4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846200" y="2009880"/>
              <a:ext cx="116280" cy="10800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10"/>
                  </a:moveTo>
                  <a:lnTo>
                    <a:pt x="4" y="6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62480" y="1933560"/>
              <a:ext cx="78840" cy="759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7"/>
                  </a:moveTo>
                  <a:lnTo>
                    <a:pt x="5" y="3"/>
                  </a:lnTo>
                  <a:lnTo>
                    <a:pt x="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41320" y="1846800"/>
              <a:ext cx="123840" cy="86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8"/>
                  </a:moveTo>
                  <a:lnTo>
                    <a:pt x="5" y="5"/>
                  </a:lnTo>
                  <a:lnTo>
                    <a:pt x="9" y="2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165520" y="1759680"/>
              <a:ext cx="116280" cy="8676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8"/>
                  </a:moveTo>
                  <a:lnTo>
                    <a:pt x="4" y="5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281800" y="1705320"/>
              <a:ext cx="123840" cy="5436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5"/>
                  </a:moveTo>
                  <a:lnTo>
                    <a:pt x="5" y="3"/>
                  </a:lnTo>
                  <a:lnTo>
                    <a:pt x="9" y="1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405640" y="1673280"/>
              <a:ext cx="79200" cy="320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4" y="1"/>
                  </a:lnTo>
                  <a:lnTo>
                    <a:pt x="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420840" y="2151000"/>
            <a:ext cx="44280" cy="324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0840" y="1662120"/>
            <a:ext cx="44280" cy="144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20840" y="1173240"/>
            <a:ext cx="4428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65120" y="1173240"/>
            <a:ext cx="1440" cy="4911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20840" y="6084720"/>
            <a:ext cx="442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0840" y="5595840"/>
            <a:ext cx="44280" cy="32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0840" y="5108400"/>
            <a:ext cx="44280" cy="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0840" y="4608360"/>
            <a:ext cx="44280" cy="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0840" y="4118040"/>
            <a:ext cx="442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0840" y="3627360"/>
            <a:ext cx="44280" cy="32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20840" y="3139920"/>
            <a:ext cx="442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20840" y="2651040"/>
            <a:ext cx="442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65120" y="6084360"/>
            <a:ext cx="1440" cy="55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303120" y="6084720"/>
            <a:ext cx="8418600" cy="415800"/>
            <a:chOff x="303120" y="6084720"/>
            <a:chExt cx="8418600" cy="415800"/>
          </a:xfrm>
        </p:grpSpPr>
        <p:sp>
          <p:nvSpPr>
            <p:cNvPr id="536" name=""/>
            <p:cNvSpPr/>
            <p:nvPr/>
          </p:nvSpPr>
          <p:spPr>
            <a:xfrm>
              <a:off x="464400" y="6084720"/>
              <a:ext cx="8073000" cy="1080"/>
            </a:xfrm>
            <a:prstGeom prst="line">
              <a:avLst/>
            </a:prstGeom>
            <a:ln w="42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57060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68508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9164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90792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101412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112860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23516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135108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45764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157212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167832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79460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190116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201564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212400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223020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34468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45124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56716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67372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278820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289440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301068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311724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323172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333792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345456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356076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67524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78180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388800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400392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411048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422496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433152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444780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455400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467028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77684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489132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499788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511380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22000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532656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544104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554724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66388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577008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588456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599112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10740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621360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632808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643464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655056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65712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77340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87960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98616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710064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20720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32348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42968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754416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5072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776664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787320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798768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8093880" y="6084720"/>
              <a:ext cx="180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821016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31672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8431200" y="608472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03120" y="6256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1946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967320" y="6256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1952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630800" y="6256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1958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299320" y="6256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1964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56680" y="6256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1970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20520" y="6256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1976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84000" y="6256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1982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52520" y="6256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1988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616000" y="6256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1994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274800" y="6256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2000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938280" y="6256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2006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08600" y="6256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2012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269920" y="6256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2018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8494560" y="1023840"/>
            <a:ext cx="430200" cy="5155920"/>
            <a:chOff x="8494560" y="1023840"/>
            <a:chExt cx="430200" cy="5155920"/>
          </a:xfrm>
        </p:grpSpPr>
        <p:sp>
          <p:nvSpPr>
            <p:cNvPr id="623" name=""/>
            <p:cNvSpPr/>
            <p:nvPr/>
          </p:nvSpPr>
          <p:spPr>
            <a:xfrm>
              <a:off x="8585640" y="1999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160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585640" y="15080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180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585640" y="10238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727480" y="5936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658360" y="5445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658360" y="4961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658360" y="4456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658360" y="3969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585640" y="3478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585640" y="2988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120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585640" y="24991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140</a:t>
              </a:r>
              <a:endParaRPr b="0" lang="en-US" sz="16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8537760" y="6084000"/>
              <a:ext cx="1440" cy="54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537760" y="1171440"/>
              <a:ext cx="1440" cy="4912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494560" y="6084000"/>
              <a:ext cx="8856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494560" y="5106240"/>
              <a:ext cx="8856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94560" y="4118040"/>
              <a:ext cx="8856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494560" y="3139200"/>
              <a:ext cx="8856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494560" y="2150640"/>
              <a:ext cx="8856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494560" y="1171440"/>
              <a:ext cx="8856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407a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51920" y="5937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51920" y="49608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1920" y="3970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1920" y="2990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1920" y="2003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1920" y="1023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5791320" y="2673000"/>
            <a:ext cx="1440" cy="2717640"/>
          </a:xfrm>
          <a:prstGeom prst="line">
            <a:avLst/>
          </a:prstGeom>
          <a:ln w="22320">
            <a:solidFill>
              <a:srgbClr val="004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065480" y="2401560"/>
            <a:ext cx="1800" cy="2933640"/>
          </a:xfrm>
          <a:prstGeom prst="line">
            <a:avLst/>
          </a:prstGeom>
          <a:ln w="22320">
            <a:solidFill>
              <a:srgbClr val="004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04320" y="451476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Área</a:t>
            </a:r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400560" y="5442120"/>
            <a:ext cx="1404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Produção</a:t>
            </a:r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857240" y="3541320"/>
            <a:ext cx="1800" cy="2435400"/>
          </a:xfrm>
          <a:prstGeom prst="line">
            <a:avLst/>
          </a:prstGeom>
          <a:ln w="22320">
            <a:solidFill>
              <a:srgbClr val="004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6400" y="98280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00"/>
                </a:solidFill>
                <a:latin typeface="Times New Roman"/>
              </a:rPr>
              <a:t>ha. </a:t>
            </a:r>
            <a:r>
              <a:rPr b="0" i="1" lang="en-US" sz="1800" spc="-1" strike="noStrike">
                <a:solidFill>
                  <a:srgbClr val="99cc00"/>
                </a:solidFill>
                <a:latin typeface="Times New Roman"/>
              </a:rPr>
              <a:t>(milhões)</a:t>
            </a: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727680" y="909720"/>
            <a:ext cx="17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5050"/>
                </a:solidFill>
                <a:latin typeface="Times New Roman"/>
              </a:rPr>
              <a:t>ton. </a:t>
            </a:r>
            <a:r>
              <a:rPr b="0" i="1" lang="pt-BR" sz="1800" spc="-1" strike="noStrike">
                <a:solidFill>
                  <a:srgbClr val="ff5050"/>
                </a:solidFill>
                <a:latin typeface="Times New Roman"/>
              </a:rPr>
              <a:t>(milhões) </a:t>
            </a:r>
            <a:endParaRPr b="0" lang="en-US" sz="18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6934320" y="1633320"/>
            <a:ext cx="1440" cy="2717640"/>
          </a:xfrm>
          <a:prstGeom prst="line">
            <a:avLst/>
          </a:prstGeom>
          <a:ln w="22320">
            <a:solidFill>
              <a:srgbClr val="004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532720" y="1185840"/>
            <a:ext cx="1800" cy="4911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838080"/>
            <a:ext cx="9144000" cy="69840"/>
          </a:xfrm>
          <a:prstGeom prst="rect">
            <a:avLst/>
          </a:prstGeom>
          <a:solidFill>
            <a:srgbClr val="d01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6EE1-8565-44F6-BDDD-6FE42C5807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500"/>
                            </p:stCondLst>
                            <p:childTnLst>
                              <p:par>
                                <p:cTn id="74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07640" y="189000"/>
            <a:ext cx="7140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Grãos – produção brasileira (milhões de t)</a:t>
            </a:r>
            <a:endParaRPr b="1" lang="en-US" sz="28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3560" y="6093000"/>
            <a:ext cx="222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a0402"/>
                </a:solidFill>
                <a:latin typeface="Franklin Gothic Medium"/>
              </a:rPr>
              <a:t>Fonte: IBGE</a:t>
            </a:r>
            <a:endParaRPr b="0" lang="en-US" sz="1400" spc="-1" strike="noStrike">
              <a:solidFill>
                <a:srgbClr val="00407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a0402"/>
                </a:solidFill>
                <a:latin typeface="Franklin Gothic Medium"/>
              </a:rPr>
              <a:t>Projeção RC Consultores</a:t>
            </a:r>
            <a:endParaRPr b="0" lang="en-US" sz="1400" spc="-1" strike="noStrike">
              <a:solidFill>
                <a:srgbClr val="00407a"/>
              </a:solidFill>
              <a:latin typeface="Times New Roman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0" y="1116000"/>
            <a:ext cx="9036000" cy="43704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0" y="838080"/>
            <a:ext cx="9144000" cy="69840"/>
          </a:xfrm>
          <a:prstGeom prst="rect">
            <a:avLst/>
          </a:prstGeom>
          <a:solidFill>
            <a:srgbClr val="d01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B8DC-6272-453B-967A-B2795EB75BC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140000" y="193680"/>
            <a:ext cx="47862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Grãos - área colhida (mil ha)</a:t>
            </a:r>
            <a:endParaRPr b="1" lang="en-US" sz="28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560" y="6093000"/>
            <a:ext cx="222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a0402"/>
                </a:solidFill>
                <a:latin typeface="Franklin Gothic Medium"/>
              </a:rPr>
              <a:t>Fonte: IBGE</a:t>
            </a:r>
            <a:endParaRPr b="0" lang="en-US" sz="1400" spc="-1" strike="noStrike">
              <a:solidFill>
                <a:srgbClr val="00407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a0402"/>
                </a:solidFill>
                <a:latin typeface="Franklin Gothic Medium"/>
              </a:rPr>
              <a:t>Projeção RC Consultores</a:t>
            </a:r>
            <a:endParaRPr b="0" lang="en-US" sz="1400" spc="-1" strike="noStrike">
              <a:solidFill>
                <a:srgbClr val="00407a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17640" y="1116000"/>
            <a:ext cx="9036000" cy="437040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0" y="838080"/>
            <a:ext cx="9144000" cy="69840"/>
          </a:xfrm>
          <a:prstGeom prst="rect">
            <a:avLst/>
          </a:prstGeom>
          <a:solidFill>
            <a:srgbClr val="d01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B883-C2F2-4EB5-8D54-107E85E843B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067280" y="193680"/>
            <a:ext cx="48657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Grãos - produtividade (t / ha)</a:t>
            </a:r>
            <a:endParaRPr b="1" lang="en-US" sz="28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3560" y="6093000"/>
            <a:ext cx="222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a0402"/>
                </a:solidFill>
                <a:latin typeface="Franklin Gothic Medium"/>
              </a:rPr>
              <a:t>Fonte: IBGE</a:t>
            </a:r>
            <a:endParaRPr b="0" lang="en-US" sz="1400" spc="-1" strike="noStrike">
              <a:solidFill>
                <a:srgbClr val="00407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a0402"/>
                </a:solidFill>
                <a:latin typeface="Franklin Gothic Medium"/>
              </a:rPr>
              <a:t>Projeção RC Consultores</a:t>
            </a:r>
            <a:endParaRPr b="0" lang="en-US" sz="1400" spc="-1" strike="noStrike">
              <a:solidFill>
                <a:srgbClr val="00407a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34920" y="1116000"/>
            <a:ext cx="9036000" cy="437040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0" y="838080"/>
            <a:ext cx="9144000" cy="69840"/>
          </a:xfrm>
          <a:prstGeom prst="rect">
            <a:avLst/>
          </a:prstGeom>
          <a:solidFill>
            <a:srgbClr val="d01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348A-58A8-46A7-A1FA-D401405BB66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419280" y="193680"/>
            <a:ext cx="55227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Amazônia – área de grãos (2006)</a:t>
            </a:r>
            <a:endParaRPr b="1" lang="en-US" sz="2800" spc="-1" strike="noStrike">
              <a:solidFill>
                <a:srgbClr val="b94228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440" y="5805360"/>
            <a:ext cx="325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a0402"/>
                </a:solidFill>
                <a:latin typeface="Franklin Gothic Medium"/>
              </a:rPr>
              <a:t>*Abrange </a:t>
            </a:r>
            <a:r>
              <a:rPr b="0" lang="pl-PL" sz="1400" spc="-1" strike="noStrike">
                <a:solidFill>
                  <a:srgbClr val="0a0402"/>
                </a:solidFill>
                <a:latin typeface="Franklin Gothic Medium"/>
              </a:rPr>
              <a:t>MT, AM, MA, PA, RO, TO</a:t>
            </a:r>
            <a:endParaRPr b="0" lang="en-US" sz="1400" spc="-1" strike="noStrike">
              <a:solidFill>
                <a:srgbClr val="00407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a0402"/>
                </a:solidFill>
                <a:latin typeface="Franklin Gothic Medium"/>
              </a:rPr>
              <a:t>Fonte: IBGE</a:t>
            </a:r>
            <a:endParaRPr b="0" lang="en-US" sz="1400" spc="-1" strike="noStrike">
              <a:solidFill>
                <a:srgbClr val="00407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a0402"/>
                </a:solidFill>
                <a:latin typeface="Franklin Gothic Medium"/>
              </a:rPr>
              <a:t>Projeção RC Consultores (preliminar)</a:t>
            </a:r>
            <a:endParaRPr b="0" lang="en-US" sz="1400" spc="-1" strike="noStrike">
              <a:solidFill>
                <a:srgbClr val="00407a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8928000" cy="440856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0" y="838080"/>
            <a:ext cx="9144000" cy="69840"/>
          </a:xfrm>
          <a:prstGeom prst="rect">
            <a:avLst/>
          </a:prstGeom>
          <a:solidFill>
            <a:srgbClr val="d01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059280" y="1176480"/>
            <a:ext cx="2999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407a"/>
                </a:solidFill>
                <a:latin typeface="Arial"/>
                <a:ea typeface="Arial"/>
              </a:rPr>
              <a:t>Cenário “Status Quo”</a:t>
            </a:r>
            <a:endParaRPr b="0" lang="en-US" sz="2500" spc="-1" strike="noStrike">
              <a:solidFill>
                <a:srgbClr val="0040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D5AF-EF8B-4E64-A0C4-8A92F68BDD4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5:26:24Z</dcterms:created>
  <dc:creator>RC CONSULTORES</dc:creator>
  <dc:description/>
  <dc:language>en-US</dc:language>
  <cp:lastModifiedBy> </cp:lastModifiedBy>
  <dcterms:modified xsi:type="dcterms:W3CDTF">2007-11-19T19:52:41Z</dcterms:modified>
  <cp:revision>437</cp:revision>
  <dc:subject/>
  <dc:title>Apresentação do PowerPoint</dc:title>
</cp:coreProperties>
</file>