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97D-D8E3-4902-AB79-8B8DCB25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BCA-3D7D-4712-A4AB-DE41791C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C85-88D9-4E20-85B6-42C434E6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B71-C1A1-43BA-9810-5939079A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09D-06A8-428A-83B5-5EAAF25F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F14-0D6A-41B4-86A4-30907A7E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006-D18C-4EB3-A4BB-88957E13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152-69AC-42C9-A430-70DD48E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66E-4CFD-4A71-BDF5-34B08CD9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E5F-0339-4D2E-8EA7-FCE2DF3F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F49-F389-4374-8F4E-52F336B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472-1C7D-488D-91AE-2E0E588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C30A-225F-4342-9C1F-CA97BB63B5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payment for ecosystem services in 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lly Eugene Muram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 Policy Planning a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countries closely linked to natural resour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wments of minerals, forests, wetlands, fertile soils, wildlife, biodiversity, lakes, rivers, climate and hydro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es are closely linked to 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ystems provide food, fibre, wood, medicines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cess and store carbon, and water and other nutrients; and assimilate wastes and purify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regulate water runoff, control floods, soil degra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 categor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ing- provide goods including food, fibre, medicines,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ng – regulate the human environment through air quality maintenance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– non material benefits that enrich the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– primary production, oxygen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 of the concept and scope for Uganda – what are PESs, how are they generated, managed, enhanced et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they broadly the benefits people obtain from 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that mean for poverty eradication….can we see money exchange hand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have examples in Uganda – se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functions include wildlife conservation partnerships around multiple zoning for food, medicines, firewood, handicraft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tory functions include prototype carbon fund operations (PCF) for projects on emission reductions, joint implementation and CDM and watershed management eg. Ecotrust, West Nile Power,UWA/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al and touristic including ecotou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ing services especially soil formation and nutrient recycling eg National Organic Agriculture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o few 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rather special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development and marketing just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site conditions for functional markets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finite property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market information to link demand to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transac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government support to remove structur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nabling environment for profit/private sector participation by reforming the policy, legal and institutional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valuation studies to tell us what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supply and demand-provide market information, reduce transa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potential to reduce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hance economic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nstrate a clear alliance between government and the private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le there is some work being done, information mostly restricted to GoU offices (NEMA, ECOTRUST, MET, U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more outreach, information suppor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0:40:50Z</dcterms:created>
  <dc:creator>goreti</dc:creator>
  <dc:description/>
  <dc:language>en-US</dc:language>
  <cp:lastModifiedBy>goreti</cp:lastModifiedBy>
  <dcterms:modified xsi:type="dcterms:W3CDTF">2005-09-20T07:09:30Z</dcterms:modified>
  <cp:revision>2</cp:revision>
  <dc:subject/>
  <dc:title>Overview of payment for ecosystem services in Uganda</dc:title>
</cp:coreProperties>
</file>