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F755-AE7F-4040-92AC-57BE7E1D3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C29C-21D9-4A09-AA5D-981C47600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8030-7F9E-4ACC-B37A-269498831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E904-909A-456C-BE37-E887AD1D0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978B5-F0F6-4A4D-9ADC-909E890F5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33741-819E-4C8C-B895-59BBBE50E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BA8F6-A6C7-45FC-B032-819C03C7A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19FAB-E976-46AF-8020-809680586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98C04-5CFA-489E-BEEA-C47F52194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CF699-D469-44E2-84CC-B98DD0FB8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8B2C2-8D6C-4A89-95E1-6CBC3488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123B-181A-461C-8D53-0AE2E7655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80459-0713-47EB-B32E-270B1525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048FE-BFE0-4330-89C0-AF4C1D770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63279-0D28-4528-BE32-1C58E9144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FF364-EBBA-4213-A8E1-222759FF1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F7962-F9F2-4A5E-806B-4108C2A22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9A72-9736-4493-99E3-520A56565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E8F9-D80F-43B9-A248-320E82022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280B-5B6E-4600-8EF1-2B6AED1DD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1C03-7F7A-4067-B771-5017AC114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F0B1-E9B9-40BA-A712-562CBD53E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3D93-8FAF-412D-9BF6-C429D494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9FB2-C6D7-45B3-8ACB-E575A8C0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5FEA5-1404-4588-8387-B0380FB005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3C599-6467-4B51-9639-712E3BD7B8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eec94"/>
                </a:solidFill>
                <a:latin typeface="Times New Roman"/>
              </a:rPr>
              <a:t>Overview of PES in Kenya</a:t>
            </a:r>
            <a:endParaRPr b="1" lang="en-US" sz="8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2952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m Mwangi &amp; Clive Mutung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Highlights in general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817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3 projects, 9 in planning pha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 projects paying directly to the community / individu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552840" y="1600200"/>
          <a:ext cx="5133600" cy="4530240"/>
        </p:xfrm>
        <a:graphic>
          <a:graphicData uri="http://schemas.openxmlformats.org/drawingml/2006/table">
            <a:tbl>
              <a:tblPr/>
              <a:tblGrid>
                <a:gridCol w="1608120"/>
                <a:gridCol w="1610280"/>
                <a:gridCol w="1915200"/>
              </a:tblGrid>
              <a:tr h="116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yp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lann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2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rb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2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2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ross Cutting Issu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nimal government participa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nimal capacity building inbuilt into projects – minimal transfers, no strategic planning &amp; institutional developmen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ture of deals unclea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ck of centralized information burea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market informa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ck of existing or past viable mod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vate buyers not identified, mobili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5f0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5f0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5f0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5f0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5f0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5f0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" dur="1" fill="hold"/>
                                  <p:tgtEl>
                                    <p:spTgt spid="12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5f0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General structures 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511280" y="1568160"/>
            <a:ext cx="6273720" cy="3341880"/>
            <a:chOff x="1511280" y="1568160"/>
            <a:chExt cx="6273720" cy="3341880"/>
          </a:xfrm>
        </p:grpSpPr>
        <p:sp>
          <p:nvSpPr>
            <p:cNvPr id="129" name="_s7178"/>
            <p:cNvSpPr/>
            <p:nvPr/>
          </p:nvSpPr>
          <p:spPr>
            <a:xfrm>
              <a:off x="3800520" y="2162160"/>
              <a:ext cx="1697040" cy="169704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46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_s7179"/>
            <p:cNvSpPr/>
            <p:nvPr/>
          </p:nvSpPr>
          <p:spPr>
            <a:xfrm>
              <a:off x="3800520" y="1568160"/>
              <a:ext cx="16970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munity/individua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_s7176"/>
            <p:cNvSpPr/>
            <p:nvPr/>
          </p:nvSpPr>
          <p:spPr>
            <a:xfrm>
              <a:off x="4359240" y="3130560"/>
              <a:ext cx="1697040" cy="1697040"/>
            </a:xfrm>
            <a:prstGeom prst="ellipse">
              <a:avLst/>
            </a:prstGeom>
            <a:solidFill>
              <a:srgbClr val="ffffcc">
                <a:alpha val="50000"/>
              </a:srgbClr>
            </a:solidFill>
            <a:ln w="46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_s7177"/>
            <p:cNvSpPr/>
            <p:nvPr/>
          </p:nvSpPr>
          <p:spPr>
            <a:xfrm>
              <a:off x="6087960" y="4485960"/>
              <a:ext cx="16970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O as broker and monito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_s7174"/>
            <p:cNvSpPr/>
            <p:nvPr/>
          </p:nvSpPr>
          <p:spPr>
            <a:xfrm>
              <a:off x="3241800" y="3130560"/>
              <a:ext cx="1697040" cy="1697040"/>
            </a:xfrm>
            <a:prstGeom prst="ellipse">
              <a:avLst/>
            </a:prstGeom>
            <a:solidFill>
              <a:srgbClr val="b76a03">
                <a:alpha val="50000"/>
              </a:srgbClr>
            </a:solidFill>
            <a:ln w="4680">
              <a:solidFill>
                <a:srgbClr val="b76a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_s7175"/>
            <p:cNvSpPr/>
            <p:nvPr/>
          </p:nvSpPr>
          <p:spPr>
            <a:xfrm>
              <a:off x="1511280" y="4485960"/>
              <a:ext cx="16970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servation finance institu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" dur="250" autoRev="1" fill="hold"/>
                                        <p:tgtEl>
                                          <p:spTgt spid="1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Emerging Issues for PES in Kenya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ak legal and regulatory framework to address PES specifical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ck of mechanism for demand- largely due to lack of aware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ck of specific clauses in environmental policy to ensure compli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or partnerships develop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5f0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5f0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5f0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0" dur="1" fill="hold"/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5f0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Emerging Issues for PES in Kenya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or dissemination of infor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ck of scientific information, technical backstopp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estions of land ownership, ten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titutional issues- capac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ck of methodologies and models that may offer contextually relevant lesson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5f0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5f0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5f0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5f0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9" dur="1" fill="hold"/>
                                  <p:tgtEl>
                                    <p:spTgt spid="13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5f0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9T20:15:01Z</dcterms:created>
  <dc:creator>Mutunga</dc:creator>
  <dc:description/>
  <dc:language>en-US</dc:language>
  <cp:lastModifiedBy>Mutunga</cp:lastModifiedBy>
  <dcterms:modified xsi:type="dcterms:W3CDTF">2005-09-20T04:55:38Z</dcterms:modified>
  <cp:revision>3</cp:revision>
  <dc:subject/>
  <dc:title>Overview of PES in Kenya</dc:title>
</cp:coreProperties>
</file>