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512-D45D-4C39-B066-0FEE851C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2EE-0F21-4B22-BB94-078FD099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256-FEAF-4927-BF5C-113CC920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2A9-925E-420A-9FEB-254F54B6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714-808B-4722-BB3D-9D6AA83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A41-7E49-47C1-99D6-31AF151F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8C6-7D82-4161-88B8-05F7069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3EC-7CBD-4CE1-9051-ECA95400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E9-2CA6-45A8-9D7A-B2A15624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65A-FCEB-42EF-92F6-6165A02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869-ADB4-427A-8971-5B3FA87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318-B0B6-4FDF-8AC3-A24D673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26A7-9056-4837-958A-7970B8B4B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vo.Mulder@wur.nl" TargetMode="External"/><Relationship Id="rId2" Type="http://schemas.openxmlformats.org/officeDocument/2006/relationships/hyperlink" Target="mailto:Ktenkate@forest-trends.org" TargetMode="External"/><Relationship Id="rId3" Type="http://schemas.openxmlformats.org/officeDocument/2006/relationships/hyperlink" Target="mailto:sscherr@forest-trends.or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s for Ecosystem Services:  Motivating Bu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4495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o Mulder, Kerry ten Kate, Sara Sch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o Mulde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vo.Mulder@wur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ry ten Kat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tenkate@forest-trend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 Scher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scherr@forest-trends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s it important to focus on bu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eneficiary/user doesn’t pa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incentive for damaging behaviour and incentive for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rket unless there’s demand as well a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cale of PE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government paymen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 not eng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cale of PE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huffling existing public money – no addi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may not be most efficient/effective way to protect ecosystem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inds of buy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to loc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– i.e.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-  i.e. consumers / private househol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“private P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24320" y="3325680"/>
            <a:ext cx="4701960" cy="3040920"/>
            <a:chOff x="724320" y="3325680"/>
            <a:chExt cx="4701960" cy="3040920"/>
          </a:xfrm>
        </p:grpSpPr>
        <p:sp>
          <p:nvSpPr>
            <p:cNvPr id="49" name="_s1028"/>
            <p:cNvSpPr/>
            <p:nvPr/>
          </p:nvSpPr>
          <p:spPr>
            <a:xfrm>
              <a:off x="1240560" y="3615120"/>
              <a:ext cx="2606760" cy="2389320"/>
            </a:xfrm>
            <a:prstGeom prst="donut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8"/>
            <p:cNvSpPr/>
            <p:nvPr/>
          </p:nvSpPr>
          <p:spPr>
            <a:xfrm>
              <a:off x="2254320" y="3615120"/>
              <a:ext cx="2606760" cy="2389320"/>
            </a:xfrm>
            <a:prstGeom prst="donut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>
              <a:off x="1819800" y="4122000"/>
              <a:ext cx="1496520" cy="137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0"/>
            <p:cNvSpPr/>
            <p:nvPr/>
          </p:nvSpPr>
          <p:spPr>
            <a:xfrm>
              <a:off x="2785320" y="4122000"/>
              <a:ext cx="1496520" cy="1375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85320" y="4122000"/>
              <a:ext cx="1496520" cy="137556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>
              <a:off x="4557240" y="3692160"/>
              <a:ext cx="687960" cy="287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Narrow” definition private sector pay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791640" y="3706920"/>
              <a:ext cx="868680" cy="22788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Narrow” definition ecosystem ser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724320" y="4093560"/>
              <a:ext cx="579240" cy="245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Broad” definition ecosystem ser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1"/>
            <p:cNvSpPr/>
            <p:nvPr/>
          </p:nvSpPr>
          <p:spPr>
            <a:xfrm>
              <a:off x="4847040" y="4122000"/>
              <a:ext cx="579240" cy="289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oad” definition private sector payme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31920" y="3325680"/>
              <a:ext cx="1303200" cy="2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Private Sector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y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28360" y="3325680"/>
              <a:ext cx="1303200" cy="2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8000" y="4122000"/>
              <a:ext cx="1496520" cy="137556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52520" y="3615120"/>
              <a:ext cx="2606760" cy="23893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8760" y="3615120"/>
              <a:ext cx="2606760" cy="23893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67760" y="4701240"/>
              <a:ext cx="2412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33240" y="4918320"/>
              <a:ext cx="2412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9960" y="4918320"/>
              <a:ext cx="2412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16000" y="5497560"/>
              <a:ext cx="2412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75240" y="6149520"/>
              <a:ext cx="42962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igure …: Schematic overview of differentiation in private payments for ecosystem servic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entity pays for clear ES for business mo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de on behalf of the consumers / households (eg higher water pr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200400"/>
            <a:ext cx="3504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for an ecosystem good (eg NTFP, genetic resources);offse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payments/ conservation (eg shade-grown coff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vate PES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: existing bu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scale and nature of private PES of four kinds:  carbon, water, biodiversity, landscape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ith private buyers their motivation, experience and appetite for 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: potential bu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potential scale and nature of private 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prerequisites for private PES to take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tions of bu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ulato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ies (Kyoto/CDM and carbon; CBD and genetic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-and-trad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efits related to core busines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opportun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new markets (carbon offsets) or marketing/“green” br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o raw mate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cure, sustain or reduce costs of key natural resource inputs (eg uncontaminated water for bottling,  “Charismatic” macrofauna for ecotour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se to oper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tter relations with regulators and local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nhance or maintain the financial value of land, forest or other assets belonging to th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taff pride and morale, recruitment and re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efits related to philanthropy/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relations, good P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budgets from core business, less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re buyers looking fo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ty on the servi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ty on the business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paying for and wh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property ri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support for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ey don’t get for free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transaction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and informed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you help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know examples of private 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opinions on the scope and definition of private 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views on the potential for private P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no market without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 research is dominated by supply-side analy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inadequate information on the existing and potential demand for PES, particularly from private bu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this area would help countries establish their strategy and expectations for P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7:02:29Z</dcterms:created>
  <dc:creator>Kerry</dc:creator>
  <dc:description/>
  <dc:language>en-US</dc:language>
  <cp:lastModifiedBy>minbar</cp:lastModifiedBy>
  <dcterms:modified xsi:type="dcterms:W3CDTF">2005-09-06T19:29:16Z</dcterms:modified>
  <cp:revision>14</cp:revision>
  <dc:subject/>
  <dc:title>Slide 1</dc:title>
</cp:coreProperties>
</file>