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3224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2BB233-40C5-4EDA-98BF-CC621A25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DF52E-7209-4B64-97A4-1217CCCF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77EEF8-2136-4D44-9D16-5C5EA208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Eco-Assets all at once, ReCreation Land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1C2A41-CBA3-47F1-BCBA-E6A0F9FF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27768F-F25E-49C8-9F08-80D297461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certainties:  1) Level of regulatory acceptance, and 2) market for credi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hio FWS Ecological Services Field Office in Ohio has a lack of understanding regarding species banking process, 2) Currently FWS does not enforce mitigation to summer habit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) Use as mitigation – winter habitat is highly regulated, while summer habita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) The reward of moving forward is developing relationships wit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E9D42B-A24D-4E03-A98D-5399725D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Eco-Assets all at once, ReCreation Land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A67BEE-9E12-459E-9AD4-B9796CBA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Eco-Assets all at once, ReCreation Land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8ABC01-9953-43F3-909E-9F03B335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Eco-Assets all at once, ReCreation Land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4CDBE9-5B4E-4C76-910B-841E18D0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59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Eco-Assets all at once, ReCreation Land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360" y="4168440"/>
            <a:ext cx="830268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84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1360" y="416844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840" y="416844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85220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6280" y="185220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1360" y="416844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416844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6280" y="4168440"/>
            <a:ext cx="267336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405144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840" y="1852200"/>
            <a:ext cx="405144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680" y="185400"/>
            <a:ext cx="863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840" y="1852200"/>
            <a:ext cx="405144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1360" y="416844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405144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84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840" y="416844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840" y="1852200"/>
            <a:ext cx="405144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360" y="4168440"/>
            <a:ext cx="8302680" cy="21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53960"/>
            <a:ext cx="9132840" cy="285840"/>
          </a:xfrm>
          <a:prstGeom prst="rect">
            <a:avLst/>
          </a:prstGeom>
          <a:gradFill rotWithShape="0">
            <a:gsLst>
              <a:gs pos="0">
                <a:srgbClr val="9898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32840" cy="1428840"/>
          </a:xfrm>
          <a:prstGeom prst="rect">
            <a:avLst/>
          </a:prstGeom>
          <a:gradFill rotWithShape="0">
            <a:gsLst>
              <a:gs pos="0">
                <a:srgbClr val="1f50e9"/>
              </a:gs>
              <a:gs pos="100000">
                <a:srgbClr val="063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81040" indent="-27936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86040" indent="-29052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86040" indent="-29052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86040" indent="-290520">
              <a:lnSpc>
                <a:spcPct val="87000"/>
              </a:lnSpc>
              <a:spcAft>
                <a:spcPts val="1063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00800" y="6350040"/>
            <a:ext cx="1540080" cy="380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3244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C854-97D9-4E5A-8AEE-381CDE7513D3}" type="slidenum">
              <a:rPr b="0" lang="en-US" sz="1600" spc="-1" strike="noStrike">
                <a:solidFill>
                  <a:srgbClr val="0b020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17920" y="317016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7920" y="317016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59000" y="0"/>
            <a:ext cx="127080" cy="6845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191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97080" cy="6845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03640" y="2236680"/>
            <a:ext cx="64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ctober 2003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he Katoomba Grou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Markets for Carbon and Ecosystem Services: The Business Case”</a:t>
            </a:r>
            <a:endParaRPr b="0" lang="en-US" sz="1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8006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201"/>
                </a:solidFill>
                <a:latin typeface="Arial"/>
              </a:rPr>
              <a:t>Conservation Banking as a Market-Based Incentive for Recovery of T&amp;E Spe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5254560"/>
            <a:ext cx="460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Adam Davis, Director, Environment Division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www.eprisolutions.com/environment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EAM Model Purpo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nalyze and compare on a </a:t>
            </a:r>
            <a:r>
              <a:rPr b="0" i="1" lang="en-US" sz="2600" spc="-1" strike="noStrike" u="sng">
                <a:solidFill>
                  <a:srgbClr val="0b0201"/>
                </a:solidFill>
                <a:uFillTx/>
                <a:latin typeface="Arial"/>
              </a:rPr>
              <a:t>financial </a:t>
            </a:r>
            <a:br>
              <a:rPr sz="2600"/>
            </a:br>
            <a:r>
              <a:rPr b="0" i="1" lang="en-US" sz="2600" spc="-1" strike="noStrike" u="sng">
                <a:solidFill>
                  <a:srgbClr val="0b0201"/>
                </a:solidFill>
                <a:uFillTx/>
                <a:latin typeface="Arial"/>
              </a:rPr>
              <a:t>ba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fferent land management options, including eco-assets developmen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AM 2.0 can analyze three type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eco-asset investment projects,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each to a “base c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Forest carbon sequestration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Wetland &amp; stream mitigation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Endangered species conservation “banking”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0"/>
            <a:ext cx="5486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EAM Model Purpo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AM 2.0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A computer simulation model that can be used </a:t>
            </a:r>
            <a:br>
              <a:rPr sz="2200"/>
            </a:b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to conduct </a:t>
            </a:r>
            <a:r>
              <a:rPr b="0" i="1" lang="en-US" sz="2200" spc="-1" strike="noStrike" u="sng">
                <a:solidFill>
                  <a:srgbClr val="00279f"/>
                </a:solidFill>
                <a:uFillTx/>
                <a:latin typeface="Arial"/>
              </a:rPr>
              <a:t>cash-flow</a:t>
            </a: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 and </a:t>
            </a:r>
            <a:r>
              <a:rPr b="0" i="1" lang="en-US" sz="2200" spc="-1" strike="noStrike" u="sng">
                <a:solidFill>
                  <a:srgbClr val="00279f"/>
                </a:solidFill>
                <a:uFillTx/>
                <a:latin typeface="Arial"/>
              </a:rPr>
              <a:t>financial risk analysis</a:t>
            </a:r>
            <a:r>
              <a:rPr b="0" i="1" lang="en-US" sz="22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of proposed eco-asset investment projects.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A sophisticated </a:t>
            </a:r>
            <a:r>
              <a:rPr b="0" i="1" lang="en-US" sz="2200" spc="-1" strike="noStrike" u="sng">
                <a:solidFill>
                  <a:srgbClr val="00279f"/>
                </a:solidFill>
                <a:uFillTx/>
                <a:latin typeface="Arial"/>
              </a:rPr>
              <a:t>land management planning tool</a:t>
            </a: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that can help electricity utilities and others to </a:t>
            </a:r>
            <a:br>
              <a:rPr sz="2200"/>
            </a:b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optimize land management activities.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marL="289080" indent="0">
              <a:lnSpc>
                <a:spcPct val="87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AM 2.0 is no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An eco-asset production model that can be used to estimate physical eco-asset production, such as the amount of carbon sequestered in a forest over time.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0"/>
            <a:ext cx="67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ssumptions &amp; Input Data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0"/>
            <a:ext cx="3505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2.0 Feature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Corporate Financial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Discount rate(s)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Effective corporate 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tax rates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Analytic Assumption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Sensitivity analysis parameter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Scenario definition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Optionality parameter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87560" indent="-29052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Market opening values 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&amp; parameter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190512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7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-level Input Data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Financial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Eco-asset “credit” prices and risk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Commodity prices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Annual capital &amp; O&amp;M costs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Optional” eco-asset management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Eco-asset &amp; related </a:t>
            </a:r>
            <a:br>
              <a:rPr sz="2200"/>
            </a:b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commodity production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Expected timing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087560" indent="-290520">
              <a:lnSpc>
                <a:spcPct val="77000"/>
              </a:lnSpc>
              <a:spcAft>
                <a:spcPts val="561"/>
              </a:spcAft>
              <a:buClr>
                <a:srgbClr val="00279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Expected production quantities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isk &amp; Uncertaint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ed </a:t>
            </a:r>
            <a:r>
              <a:rPr b="0" i="1" lang="en-US" sz="2600" spc="-1" strike="noStrike" u="sng">
                <a:solidFill>
                  <a:srgbClr val="0b0201"/>
                </a:solidFill>
                <a:uFillTx/>
                <a:latin typeface="Arial"/>
              </a:rPr>
              <a:t>sensitivity analy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critical variab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eal discount rate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nitial eco-asset price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Price uncertainty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Annual real appreciation rate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Expected eco-asset production levels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ed </a:t>
            </a:r>
            <a:r>
              <a:rPr b="0" i="1" lang="en-US" sz="2600" spc="-1" strike="noStrike" u="sng">
                <a:solidFill>
                  <a:srgbClr val="0b0201"/>
                </a:solidFill>
                <a:uFillTx/>
                <a:latin typeface="Arial"/>
              </a:rPr>
              <a:t>scenario analy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ares a “default”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enario with three user-defined alternati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b0201"/>
                </a:solidFill>
                <a:uFillTx/>
                <a:latin typeface="Arial"/>
              </a:rPr>
              <a:t>Monte-Carlo sim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certain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Key variables can be defined as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ather than single “best guess” estimate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esults are shown as ranges of forecast value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56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Simulations include 1,000’s of individual trial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0"/>
            <a:ext cx="3352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2.0 Feature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6280" y="1854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arbon Stocks and Flow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34080" cy="4610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6280" y="1854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ojected Cash Flow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506600"/>
            <a:ext cx="7696080" cy="4817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854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ummary Results - Carbon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33680"/>
          <a:ext cx="563868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33680"/>
                    <a:ext cx="563868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6280" y="1854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ummary Results - Carb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1585800"/>
            <a:ext cx="7696080" cy="466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280" y="185760"/>
            <a:ext cx="863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81200" y="1476360"/>
            <a:ext cx="7524720" cy="484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5600" y="53316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br>
              <a:rPr sz="2400"/>
            </a:b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854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cenario Analysi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 algn="ctr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model scenarios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6530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201"/>
                </a:solidFill>
                <a:latin typeface="Arial"/>
              </a:rPr>
              <a:t>Note: Values shown in </a:t>
            </a:r>
            <a:r>
              <a:rPr b="0" lang="en-US" sz="1800" spc="-1" strike="noStrike">
                <a:solidFill>
                  <a:srgbClr val="e64934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b0201"/>
                </a:solidFill>
                <a:latin typeface="Arial"/>
              </a:rPr>
              <a:t> represent changes from the “default” values.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2514600"/>
          <a:ext cx="75060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060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" y="15192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47640" indent="-64764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system Services theory, in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Supply and demand = financial value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However: ‘demand’ by private parties for ‘public goods’ is mediated primarily by law (to a lesser extent by strategy and ethics)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Therefore: Financial value depends on policy and enforcement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Wetlands and stream mitigation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Carbon sequestration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974880" indent="-57168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Conservation Banking for T&amp;E species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0"/>
            <a:ext cx="601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atoomba Grou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nte Carlo Simula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547640"/>
            <a:ext cx="7848360" cy="5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 algn="ctr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variables can be defined in probabilistic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95280" y="2122560"/>
            <a:ext cx="6324840" cy="4201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6040" y="1219320"/>
            <a:ext cx="12888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53640" cy="4159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1547640"/>
            <a:ext cx="78483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results are shown as a range of outcomes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5600" y="30456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nte Carlo Simulation (2 of 2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680" y="185760"/>
            <a:ext cx="8633160" cy="15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Endangered Species Project Descrip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tential habitat for Indiana Bat: Approximately 12,000 ac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vides summer habit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s development of Habitat Conservation Pl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s revisions to existing forest management regi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9520" y="0"/>
            <a:ext cx="741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oject Assumption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520" y="0"/>
            <a:ext cx="824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ject Duration = 70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mber of Credits = 1,2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dit Price = $50,000/cred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dit sales phased over life of project, based on tree develop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680" y="185760"/>
            <a:ext cx="8633160" cy="15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diana Bat Credit Estimation Methodolog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defined as one primary roost tree, supporting 30-400 female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of roost trees assumed to be 1 per 1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uitable habitat = 12,00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st trees assumed to be 70+ years old, credits awarded as forest m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520" y="0"/>
            <a:ext cx="794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680" y="185760"/>
            <a:ext cx="8633160" cy="15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oject Result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1360" y="1852200"/>
            <a:ext cx="830268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V Costs = $948,666 ($77/acr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V Revenues = $1,895,563 ($158/acr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7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V Net Income = $976,896 ($81/acr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0"/>
            <a:ext cx="3905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41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680" y="185760"/>
            <a:ext cx="8633160" cy="15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-Acre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mparison of Eco-Asset Project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292480"/>
          <a:ext cx="8381880" cy="3327120"/>
        </p:xfrm>
        <a:graphic>
          <a:graphicData uri="http://schemas.openxmlformats.org/drawingml/2006/table">
            <a:tbl>
              <a:tblPr/>
              <a:tblGrid>
                <a:gridCol w="2117880"/>
                <a:gridCol w="1204920"/>
                <a:gridCol w="1947600"/>
                <a:gridCol w="1185840"/>
                <a:gridCol w="1925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1368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ure</a:t>
                      </a:r>
                      <a:endParaRPr b="0" lang="en-US" sz="20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1368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Sequestration</a:t>
                      </a:r>
                      <a:endParaRPr b="0" lang="en-US" sz="20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1368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ek</a:t>
                      </a:r>
                      <a:endParaRPr b="0" lang="en-US" sz="20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1368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13680">
                      <a:solidFill>
                        <a:srgbClr val="00279f"/>
                      </a:solidFill>
                    </a:lnR>
                    <a:lnT w="1368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/acre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4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81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7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1368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/acre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4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028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8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1368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Income/ acre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1368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6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1368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-53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1368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6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13680">
                      <a:solidFill>
                        <a:srgbClr val="00279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1</a:t>
                      </a:r>
                      <a:endParaRPr b="0" lang="en-US" sz="2400" spc="-1" strike="noStrike">
                        <a:solidFill>
                          <a:srgbClr val="00279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1368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13680">
                      <a:solidFill>
                        <a:srgbClr val="00279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09520" y="0"/>
            <a:ext cx="779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Value to Private Landowner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permit/Cost to per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value of under-utilized commercial real estate as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approach to land disposition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interactions between land managers and corporate financial/strategic planning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s the financial impacts of investing i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-asset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0"/>
            <a:ext cx="640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Value to Societ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1720" y="1525320"/>
            <a:ext cx="790416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is established in advance of impacts to th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centive for conservation actions on private 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s profit making motivation with species conservation; turns species “liabilities” into “asset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exchange or conversion of many small pieces of habitat for large, contiguous tracts of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27040" y="4935600"/>
            <a:ext cx="748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00" y="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servation Banking Pitfall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1720" y="1601640"/>
            <a:ext cx="7904160" cy="46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nsure good science is applied to bank establishment – “Recovery plan should guide development for conservation ban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f credit vesting - Need to ensure that habitat is preserved and species occupy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ESA enforcement, there is no market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7040" y="4935600"/>
            <a:ext cx="748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00" y="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600" y="15192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For today…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47640" indent="-64764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bit on Conservation Ban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bit on the STREAM economic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 example of a real de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Aft>
                <a:spcPts val="1063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0"/>
            <a:ext cx="601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1360" y="1433160"/>
            <a:ext cx="8302680" cy="48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7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Banking is an imperfect example of ‘Applied Ecosystem Services Theo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, “The best is the enemy of the goo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conservation banking guidance will facilitate development of conservation banking, similar to wetland banking gui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iplined approach to investment is necessary: caveat em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lexible mechanisms like conservation banking are more than ‘compliance programs’; they set a precedent and establish a principle: “Conservation is valu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are Eco-Assets?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4830480" cy="237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77800" indent="-34776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Wetlands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577800" indent="-34776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Forests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577800" indent="-34776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Endangered species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577800" indent="-34776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Rivers &amp; watersheds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577800" indent="-347760">
              <a:lnSpc>
                <a:spcPct val="8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Riparian and upland habitat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880" y="1893960"/>
            <a:ext cx="667548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-assets” are environmental features that provide financial value to private landowners when they are maintained i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restored to, their natural state.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38920" y="2925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59080" y="43671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38920" y="2925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59080" y="43671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212920" y="16844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212920" y="3154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986520" y="3154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212920" y="46260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76" name="36019" descr=""/>
          <p:cNvPicPr/>
          <p:nvPr/>
        </p:nvPicPr>
        <p:blipFill>
          <a:blip r:embed="rId9"/>
          <a:stretch/>
        </p:blipFill>
        <p:spPr>
          <a:xfrm>
            <a:off x="5753160" y="3944880"/>
            <a:ext cx="3076560" cy="2025720"/>
          </a:xfrm>
          <a:prstGeom prst="rect">
            <a:avLst/>
          </a:prstGeom>
          <a:ln w="0">
            <a:noFill/>
          </a:ln>
        </p:spPr>
      </p:pic>
      <p:pic>
        <p:nvPicPr>
          <p:cNvPr id="77" name="1012" descr=""/>
          <p:cNvPicPr/>
          <p:nvPr/>
        </p:nvPicPr>
        <p:blipFill>
          <a:blip r:embed="rId10"/>
          <a:srcRect l="26663" t="26662" r="20030" b="20029"/>
          <a:stretch/>
        </p:blipFill>
        <p:spPr>
          <a:xfrm>
            <a:off x="7299360" y="1886040"/>
            <a:ext cx="1488960" cy="191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0"/>
            <a:ext cx="220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servation Bank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7040" indent="-257040">
              <a:lnSpc>
                <a:spcPct val="7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angered Species Ac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7320" indent="-248400">
              <a:lnSpc>
                <a:spcPct val="7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  <a:ea typeface="Times New Roman"/>
              </a:rPr>
              <a:t>1982 amendments to ESA provided for an “incidental take” of listed species, if “a landowner provides a long-term commitment to species conservation through the development of a Habitat Conservation Plan (HCP).”</a:t>
            </a: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607320" indent="-248400">
              <a:lnSpc>
                <a:spcPct val="7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Incidental take permits are applied for under </a:t>
            </a:r>
            <a:r>
              <a:rPr b="0" lang="en-US" sz="2600" spc="-1" strike="noStrike">
                <a:solidFill>
                  <a:srgbClr val="00279f"/>
                </a:solidFill>
                <a:latin typeface="Arial"/>
                <a:ea typeface="Times New Roman"/>
              </a:rPr>
              <a:t>Section 10(a)(1)(B) of the ESA</a:t>
            </a: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 .  (Section 7 applies to Federal lands.)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  <a:p>
            <a:pPr lvl="1" marL="607320" indent="-248400">
              <a:lnSpc>
                <a:spcPct val="77000"/>
              </a:lnSpc>
              <a:spcAft>
                <a:spcPts val="81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79f"/>
                </a:solidFill>
                <a:latin typeface="Arial"/>
              </a:rPr>
              <a:t>As of April 10, 2003, 541 HCP’s have been approved, covering approximately 38 million acres and protecting more than 525 endangered or threatened species.</a:t>
            </a:r>
            <a:endParaRPr b="0" lang="en-US" sz="2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0"/>
            <a:ext cx="6248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is Conservation Banking? (1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1720" y="1525320"/>
            <a:ext cx="790416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20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b0201"/>
                </a:solidFill>
                <a:latin typeface="Arial"/>
              </a:rPr>
              <a:t>Land containing natural resources, which is conserved and managed in perpetuity for specified listed species and used to offset impacts occurring elsewhere to the same natural resource values on non-bank land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201"/>
                </a:solidFill>
                <a:latin typeface="Arial"/>
                <a:ea typeface="Times New Roman"/>
              </a:rPr>
              <a:t>A private party requesting an incidental take permit from FWS can purchase “species credits” from pre-established conservation banks, to provide mitigation for the 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876920"/>
            <a:ext cx="748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20" y="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is Conservation Banking? (2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720" y="1525320"/>
            <a:ext cx="790416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WS issued conservation banking guidance on May 2, 2003, to help FWS personn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75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valuate the use of conservation banks to meet the conservation needs of listed species;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75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ulfill the purposes of the ESA; and 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751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vide consistency and predictability in the establishment, use and operation of conservation banks. 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were 10-15 banks in U.S. prior to guid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 issued banking guidance in 1995. There are approximately 50 conservation banks in C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27040" y="4935600"/>
            <a:ext cx="748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00" y="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servation Bank Component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1720" y="1563840"/>
            <a:ext cx="790416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201"/>
                </a:solidFill>
                <a:latin typeface="Arial"/>
              </a:rPr>
              <a:t>Credit unit: Individuals, breeding pairs (RCW), acres (vernal pools), nest site, family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201"/>
                </a:solidFill>
                <a:latin typeface="Arial"/>
              </a:rPr>
              <a:t>Service area: Area over which the credits can be bought or sold.  May be entire species range, a portion of the range or a water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7000"/>
              </a:lnSpc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201"/>
                </a:solidFill>
                <a:latin typeface="Arial"/>
              </a:rPr>
              <a:t>Long-term assura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2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stablish a conservation easement or transfer fee title so that land is put into conservation in perpetuity, even after credits are sold or species is delisted.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87000"/>
              </a:lnSpc>
              <a:spcAft>
                <a:spcPts val="624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ust have a long term management and monitoring plan, and funding assurances to ensure habitat is maintained for species use.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27040" y="4935600"/>
            <a:ext cx="748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00" y="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Ecosystem Serv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680" y="185400"/>
            <a:ext cx="863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FWS Requirements for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servation Bank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1720" y="1525320"/>
            <a:ext cx="790416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7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 issuance: “Must be expressed and measured in the same manner as the impacts of the development projects that will utilize the ban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Acres for acre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Breeding pairs for breeding pair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Intact populations for intact population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marL="289080" indent="-289080">
              <a:lnSpc>
                <a:spcPct val="77000"/>
              </a:lnSpc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territory: Area in which bank credits may be used to offset project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Based on conservation needs of species being conserved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Existing FWS ‘recovery areas’ from recovery plan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  <a:p>
            <a:pPr lvl="1" marL="682560" indent="-279360">
              <a:lnSpc>
                <a:spcPct val="77000"/>
              </a:lnSpc>
              <a:spcAft>
                <a:spcPts val="689"/>
              </a:spcAft>
              <a:buClr>
                <a:srgbClr val="00279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79f"/>
                </a:solidFill>
                <a:latin typeface="Arial"/>
              </a:rPr>
              <a:t>Credits may be sold to projects outside of recovery areas if they impact the same species</a:t>
            </a:r>
            <a:endParaRPr b="0" lang="en-US" sz="2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27040" y="4935600"/>
            <a:ext cx="748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22:29:14Z</dcterms:created>
  <dc:creator>PGHE001</dc:creator>
  <dc:description/>
  <dc:language>en-US</dc:language>
  <cp:lastModifiedBy>forest  trends</cp:lastModifiedBy>
  <dcterms:modified xsi:type="dcterms:W3CDTF">2003-11-11T15:18:00Z</dcterms:modified>
  <cp:revision>134</cp:revision>
  <dc:subject/>
  <dc:title>Strategic Ecological  Asset Manager (STREAM) Version 2.0</dc:title>
</cp:coreProperties>
</file>