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773-3827-4339-B17D-295A81FC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D28-DC1F-4A28-BEEA-AFBA841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15F-9DB9-48F2-A53C-FE279DB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981-DE84-4A47-8FD0-0B3BE159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565-EE92-4125-9C88-B57F0A68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181-8156-4BE8-9AC5-2966FA36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2F1-A38A-4B01-B9BA-877D6A8C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82E-EF5B-463B-8016-9A5D5C5A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31A-D97D-40C8-B031-8EF8BAEE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D24-ED36-47A3-AB02-B2ED5590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4B0-EFF2-49A2-BC92-A949FB0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ED8-6511-4B44-9DCE-D35C611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0E0-4421-4D4C-8B38-7B709A0B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bilizing bu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dentifying and targeting ecosystem service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pacity buil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wareness ra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haring – packaging and targ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olicy and legal frame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zing ecosystem sellers – ste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ing of deals – roles for different players &amp; sharing of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/defining the ecosystem product/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Issu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influence international debate in vie of forestry carb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 rights and land ten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egmentation – regulatory Vs Voluntary; local e.g. watershed Vs international mark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ing of 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S initiative design issues - development of “quality PES” pro-poor PES, poverty red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PES models with own rules and standards e.g. plan vivo, CC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 of civil society organizations to influence COP decisions in view of Pro-poor PES e.g. Carbon sequestration and small scale energy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network develop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s and the nature of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vs indirect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ost strategic things that Katoomba can do to MOBILISE BU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important thing that Katoomba can do to support policy and institutional development for scaling up 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9:40:39Z</dcterms:created>
  <dc:creator>minbar</dc:creator>
  <dc:description/>
  <dc:language>en-US</dc:language>
  <cp:lastModifiedBy> </cp:lastModifiedBy>
  <dcterms:modified xsi:type="dcterms:W3CDTF">2007-07-25T18:43:18Z</dcterms:modified>
  <cp:revision>3</cp:revision>
  <dc:subject/>
  <dc:title>Emerging issues</dc:title>
</cp:coreProperties>
</file>