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6BE-3430-4836-B236-F1CCC585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1B3-B1BF-4032-8A8F-4D2540B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08A-FD4A-43D1-8307-42232C60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175-4873-49FF-A833-6B0EEE2C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4F1B-E696-4B77-95A2-A06CEC8E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B01A-58C1-41DE-B9C1-A1BA91A8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6EE-5FDA-4CF3-950F-8CB99FDB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775E-8437-4477-AC2E-32CB4B9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491D-CB8A-4A3D-A129-FCC9DD9F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932E-D1B1-4225-86F0-09568838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9CCE-6FB4-4BF8-98AB-F7BE739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018-99EB-4A7B-A939-4EBBC470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BB53-EA5A-4E7E-939F-256E2918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0E5-A9FB-4656-9A11-8A945A5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1B4E-5982-45E5-B7F7-CAA8EBBA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0EFB-D954-4756-A4B6-76692C8A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5018-0494-499D-959B-18A0B4F6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CBA-1A00-485D-980F-92A43DF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C61-BF51-4F4D-9092-CAAC444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324-AA00-4B37-A49F-2F302552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89B-5E7A-45C7-8B1D-3B0555A4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FFC-F42B-4E70-8857-3B220C8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58D-B4D3-4364-958B-E601FEA9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026-DCD6-4A6D-AA9E-453CBB6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24AD-F0B7-4B5E-A00D-D1A9FCCD68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5FA-C6AA-491E-ADF6-DD858E01F4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atoomba Group Me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17-18,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inja Town, U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shop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214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are ideas on strategies for scaling up of Payments for Ecosystem Servi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obtain feedback on the direction of the Ecosystem Market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are information about Katoomba Group member initia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iscuss expanding Katoomba Group activities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68816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lanning Activities in 200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cal framework on institutional requirements for 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 assessment of barriers to scaling up PES (by market, by stakeholder, count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line of ongoing PES activities on institutional development/capac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strategy for institutional development/capacity for scaling up 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Barriers to Scaling up 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dequate marke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capacity for strategic planning and institution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buyers not mobilized to eng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viable models for BD pay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ak engagement of rural commun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ft Strategic Prior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 Ecosystem Marketplace for market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ze and organize private buyers for 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onal “Katoomba Groups” to support country and regional capacity- and institution-building for PES in Latin America, Africa, and As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practice guidelines for biodiversity 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odiversity off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to medium forest enterp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i-environmental payments for landscape imp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al and marine ecosystem 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urday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place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S in Af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izing Bu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frican Danc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nda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/IIED/WWF Watershed 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and Biodiversity Off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instorming on Market Info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Steps for LULUCF in Carbon Tra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6:19:37Z</dcterms:created>
  <dc:creator>SScherr</dc:creator>
  <dc:description/>
  <dc:language>en-US</dc:language>
  <cp:lastModifiedBy>minbar</cp:lastModifiedBy>
  <dcterms:modified xsi:type="dcterms:W3CDTF">2005-09-17T17:36:48Z</dcterms:modified>
  <cp:revision>12</cp:revision>
  <dc:subject/>
  <dc:title>Katoomba Group Meeting</dc:title>
</cp:coreProperties>
</file>