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605-02A9-4736-9661-7A451884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F2E-A3B0-4CFD-8316-A575D0EC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5F2-5058-4858-8C8C-FC748A0E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D13-370E-4A4B-9F22-3551D4A0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850-16BE-4394-AD42-7CF9D861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D15-9B53-4208-A40C-EE752AEE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B85-5F58-4E30-8FA5-2FE65DCB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5B2-2923-48D8-87B9-E9F1B07C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D8B-0915-4237-9633-91E42DFA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BD6-2F82-4717-8F05-CDD6D358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7DB-A5DF-4FDC-A03B-E5FF129D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B81-6ED5-4E46-B2DC-42601F1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7BDF-5264-4758-83AF-974B7B48E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981000"/>
            <a:ext cx="7200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rvicios Ambientales en el Trópico de América Latina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CUBADORA de Proyect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ropuesta en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Forest Trends y Eco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80360" y="6062760"/>
            <a:ext cx="1763640" cy="795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3640" y="5084640"/>
            <a:ext cx="6696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79280" y="274680"/>
            <a:ext cx="6707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asos Sigu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dentificación de proyectos en mar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lección de un portafolio ilustrativo de 10 a 20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sentar una propuesta a donantes potenciales para la incubadora y el desarroll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80360" y="6062760"/>
            <a:ext cx="1763640" cy="795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35280" y="1413000"/>
            <a:ext cx="66960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emi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19280" y="1557000"/>
            <a:ext cx="7067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Interés creciente en los servicio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Oferta de proyectos limitada, particularmente iniciativas de comunidades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La demanda, sobretodo del mercado de carbono, está creci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ocos promotores de proyectos (“brokers”) se focalizan en maximizar la conservación y los beneficios para la co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xiste un nicho para el desarrollo de proyectos “carismático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mérica Latina es el foco geográfic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6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80360" y="6062760"/>
            <a:ext cx="1763640" cy="795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8000" y="1341360"/>
            <a:ext cx="66963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urgimiento del mercado de servicios 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92360" y="1483920"/>
            <a:ext cx="6912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Mitigación de Cambio Climático - Glob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rcado de servicios ambientales fortalecido, en términos de volumen de comercio, demanda, y medidas estandarizadas por unidad de comercio (CERs o TCO2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otección de cuencas hidrográficas – grupo de servicios de ecosistemas – loc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ción voluntaria de los usuarios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rco legal nacional en algunos países (MX, Co, Br, 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s medidas aun están por definirse, existen datos limitados conf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onservación de Biodiversidad – Global/Loc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eocupación pública y privada por la pérdida de biodiver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ción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querimientos legales a pequeña escala para compensar los impactos en la biodiver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mas de medir las compensaciones y métodos en disc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6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80360" y="6062760"/>
            <a:ext cx="1763640" cy="795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8000" y="1268280"/>
            <a:ext cx="66963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atalizando el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l mercado de carbono puede apalancar otros mercados de ecosistemas aun incip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l financiamiento previo a la inversión es un “cuello de botel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80360" y="6062760"/>
            <a:ext cx="1763640" cy="795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35280" y="1197000"/>
            <a:ext cx="66960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280" y="43920"/>
            <a:ext cx="738036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ecesidades Típicas de los 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8920" y="1225440"/>
            <a:ext cx="70786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so al mercado y comprometer a potenciales compradores (benefici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eño participativo con la comunidad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dentificación de las mejores prácticas en la gestión para optimizar los servicios de eco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uantificación de servicios de forma aceptable y/o con métodos estanda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cialización de proyectos en la lo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an de negocios y proyeccione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istencia legal (tenencia de la tierra, derechos, estructura del fo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lidación, verificación y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6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380360" y="6062760"/>
            <a:ext cx="1763640" cy="795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35280" y="1125360"/>
            <a:ext cx="66960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6923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cubadora de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472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380360" y="6062760"/>
            <a:ext cx="1763640" cy="795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35280" y="1197000"/>
            <a:ext cx="66960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1413000"/>
            <a:ext cx="3744720" cy="57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Incubadora de proyectos de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2421000"/>
            <a:ext cx="100800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2421000"/>
            <a:ext cx="100800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9640" y="2421000"/>
            <a:ext cx="100800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88000" y="2421000"/>
            <a:ext cx="100836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372720" y="2780280"/>
            <a:ext cx="358560" cy="1081080"/>
          </a:xfrm>
          <a:custGeom>
            <a:avLst/>
            <a:gdLst>
              <a:gd name="textAreaLeft" fmla="*/ 0 w 358560"/>
              <a:gd name="textAreaRight" fmla="*/ 129600 w 3585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492720" y="2780280"/>
            <a:ext cx="358560" cy="1081080"/>
          </a:xfrm>
          <a:custGeom>
            <a:avLst/>
            <a:gdLst>
              <a:gd name="textAreaLeft" fmla="*/ 0 w 358560"/>
              <a:gd name="textAreaRight" fmla="*/ 129600 w 3585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3789360"/>
            <a:ext cx="2449440" cy="79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Adopción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(Financiamiento de L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3789360"/>
            <a:ext cx="1800360" cy="57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5157720"/>
            <a:ext cx="29527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Aumento de Benefici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Sociales y de Conser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914600">
            <a:off x="749160" y="3651120"/>
            <a:ext cx="2533680" cy="793800"/>
          </a:xfrm>
          <a:custGeom>
            <a:avLst/>
            <a:gdLst>
              <a:gd name="textAreaLeft" fmla="*/ 443160 w 2533680"/>
              <a:gd name="textAreaRight" fmla="*/ 1837080 w 2533680"/>
              <a:gd name="textAreaTop" fmla="*/ 106200 h 793800"/>
              <a:gd name="textAreaBottom" fmla="*/ 687600 h 793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7273080" y="3535920"/>
            <a:ext cx="2232000" cy="865080"/>
          </a:xfrm>
          <a:custGeom>
            <a:avLst/>
            <a:gdLst>
              <a:gd name="textAreaLeft" fmla="*/ 390600 w 2232000"/>
              <a:gd name="textAreaRight" fmla="*/ 1618200 w 2232000"/>
              <a:gd name="textAreaTop" fmla="*/ 115920 h 865080"/>
              <a:gd name="textAreaBottom" fmla="*/ 7491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56720" y="3860640"/>
            <a:ext cx="1008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orta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4005360"/>
            <a:ext cx="64764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>
            <a:off x="3132000" y="198900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1989000"/>
            <a:ext cx="144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27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443640" y="1988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racterísticas del Portafo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79280" y="1628280"/>
            <a:ext cx="6707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to potencial para el financiamiento de largo plazo: mercados o “adopc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Énfasis en carb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 cuenta con organizaciones comunitarias de alta cred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romiso con la conservación de la bio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pacidad institucional fuerte para entr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pacidad para agr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80360" y="6062760"/>
            <a:ext cx="1763640" cy="795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35280" y="1413000"/>
            <a:ext cx="66960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a Incubadora Prove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24000" y="1557000"/>
            <a:ext cx="6562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Identificación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elección de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Necesidades presupues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xperticia 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Métodos acep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urgimiento de estánd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xperticia en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orrientes de ingreso que asegura la soste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Capital semilla para el arran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80360" y="6062760"/>
            <a:ext cx="1763640" cy="795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35280" y="1413000"/>
            <a:ext cx="66960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68000" y="274680"/>
            <a:ext cx="64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ceso al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8000" y="1700280"/>
            <a:ext cx="6778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Identificar inversionistas potenci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Necesidades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stánd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Diseño de potenciales productos a la ven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Tipo “Ebay” para las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oductos modificados a requisitos parti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gregación de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6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380360" y="6062760"/>
            <a:ext cx="1763640" cy="795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35280" y="1268280"/>
            <a:ext cx="66960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24Z</dcterms:created>
  <dc:creator>Marta Echavarria</dc:creator>
  <dc:description/>
  <dc:language>en-US</dc:language>
  <cp:lastModifiedBy>TALLER</cp:lastModifiedBy>
  <dcterms:modified xsi:type="dcterms:W3CDTF">2007-10-03T15:37:05Z</dcterms:modified>
  <cp:revision>26</cp:revision>
  <dc:subject/>
  <dc:title>Diapositiva 1</dc:title>
</cp:coreProperties>
</file>