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png" ContentType="image/png"/>
  <Override PartName="/ppt/media/image15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83440"/>
            <a:ext cx="9144000" cy="574560"/>
          </a:xfrm>
          <a:prstGeom prst="rect">
            <a:avLst/>
          </a:prstGeom>
          <a:solidFill>
            <a:srgbClr val="004c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2240" y="6400800"/>
            <a:ext cx="471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Communities and PES-CES</a:t>
            </a:r>
            <a:r>
              <a:rPr b="1" lang="es-SV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493040" y="6337440"/>
          <a:ext cx="157788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3040" y="6337440"/>
                    <a:ext cx="1577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342120"/>
            <a:ext cx="5815080" cy="515880"/>
          </a:xfrm>
          <a:prstGeom prst="rect">
            <a:avLst/>
          </a:prstGeom>
          <a:solidFill>
            <a:srgbClr val="004c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31840"/>
          </a:xfrm>
          <a:prstGeom prst="rect">
            <a:avLst/>
          </a:prstGeom>
          <a:solidFill>
            <a:srgbClr val="8ba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1955520"/>
            <a:ext cx="847080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f5a00"/>
                </a:solidFill>
                <a:latin typeface="Book Antiqua"/>
              </a:rPr>
              <a:t>Compensating Poor Rural </a:t>
            </a:r>
            <a:br>
              <a:rPr sz="3400"/>
            </a:br>
            <a:r>
              <a:rPr b="1" lang="en-US" sz="3400" spc="-1" strike="noStrike">
                <a:solidFill>
                  <a:srgbClr val="bf5a00"/>
                </a:solidFill>
                <a:latin typeface="Book Antiqua"/>
              </a:rPr>
              <a:t>Communities for Ecosystem Services: </a:t>
            </a:r>
            <a:br>
              <a:rPr sz="3400"/>
            </a:br>
            <a:r>
              <a:rPr b="1" lang="en-US" sz="3400" spc="-1" strike="noStrike">
                <a:solidFill>
                  <a:srgbClr val="bf5a00"/>
                </a:solidFill>
                <a:latin typeface="Book Antiqua"/>
              </a:rPr>
              <a:t>Markets, Payments or Something Else? </a:t>
            </a:r>
            <a:br>
              <a:rPr sz="3400"/>
            </a:br>
            <a:br>
              <a:rPr sz="2400"/>
            </a:br>
            <a:r>
              <a:rPr b="1" lang="en-US" sz="2400" spc="-1" strike="noStrike">
                <a:solidFill>
                  <a:srgbClr val="bf5a00"/>
                </a:solidFill>
                <a:latin typeface="Book Antiqua"/>
              </a:rPr>
              <a:t>Herman Rosa, Director, PR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3440" y="333360"/>
          <a:ext cx="201456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33360"/>
                    <a:ext cx="20145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19400" y="480960"/>
            <a:ext cx="648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100" spc="-1" strike="noStrike">
                <a:solidFill>
                  <a:srgbClr val="004c6f"/>
                </a:solidFill>
                <a:latin typeface="Univers"/>
              </a:rPr>
              <a:t>PROGRAMA SALVADOREÑO DE INVESTIGACIÓN SOBRE DESARROLLO Y MEDIO AMBI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100" spc="-1" strike="noStrike">
                <a:solidFill>
                  <a:srgbClr val="004c6f"/>
                </a:solidFill>
                <a:latin typeface="Univers"/>
              </a:rPr>
              <a:t>SALVADORAN RESEARCH PROGRAM ON DEVELOPMENT AND ENVIRON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01280" y="231840"/>
            <a:ext cx="342720" cy="776160"/>
          </a:xfrm>
          <a:prstGeom prst="rect">
            <a:avLst/>
          </a:prstGeom>
          <a:solidFill>
            <a:srgbClr val="bf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08720"/>
            <a:ext cx="343080" cy="776160"/>
          </a:xfrm>
          <a:prstGeom prst="rect">
            <a:avLst/>
          </a:prstGeom>
          <a:solidFill>
            <a:srgbClr val="bf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5480" y="4157640"/>
            <a:ext cx="2291040" cy="186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95800" y="4170240"/>
            <a:ext cx="297828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539040" y="41720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824200" y="4162320"/>
            <a:ext cx="138276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840" y="95400"/>
            <a:ext cx="910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mmunities and Markets for Ecosystem Services: An Uneasy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520" y="1473120"/>
            <a:ext cx="89805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6f"/>
                </a:solidFill>
                <a:latin typeface="Arial"/>
                <a:ea typeface="Times New Roman"/>
              </a:rPr>
              <a:t>In May 2006 groups of indigenous, afroecuadoran and campesino origin demande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6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4c6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4c6f"/>
                </a:solidFill>
                <a:latin typeface="Arial"/>
                <a:ea typeface="Times New Roman"/>
              </a:rPr>
              <a:t>(...) the ANULMENT of all the contracts of environmental services sales affecting the territories of indigenous, afroecuadoran and campesino peoples, nations and communities in Ecuador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4c6f"/>
                </a:solidFill>
                <a:latin typeface="Arial"/>
                <a:ea typeface="Times New Roman"/>
              </a:rPr>
              <a:t>(Puyo Declaration: http://www.wrm.org.uy/paises/Ecuador/Puyo.htm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6f"/>
                </a:solidFill>
                <a:latin typeface="Arial"/>
                <a:ea typeface="Times New Roman"/>
              </a:rPr>
              <a:t>In Arenal (Costa Rica), some producers are unwilling to enter into the official PES scheme because they distrust the government and fear they will lose control over their lands</a:t>
            </a: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4c6f"/>
                </a:solidFill>
                <a:latin typeface="Arial"/>
                <a:ea typeface="Times New Roman"/>
              </a:rPr>
              <a:t>(Porras y Hope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36044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40" y="95400"/>
            <a:ext cx="910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hree contrasting perspectives 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ES-CES and Poor Rural Commun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1452600"/>
            <a:ext cx="885168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c6f"/>
                </a:solidFill>
                <a:latin typeface="Arial"/>
                <a:ea typeface="Times New Roman"/>
              </a:rPr>
              <a:t>PES is only a conservation tool. Adding explicitly the objective of community involvement for poverty reduction will impede efficient market functioning and reduce conservation benefits for all</a:t>
            </a:r>
            <a:r>
              <a:rPr b="0" lang="en-US" sz="2500" spc="-1" strike="noStrike">
                <a:solidFill>
                  <a:srgbClr val="004c6f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c6f"/>
                </a:solidFill>
                <a:latin typeface="Arial"/>
                <a:ea typeface="Times New Roman"/>
              </a:rPr>
              <a:t>PES is a tool for poverty reduction and sustainable natural resource management, but community involvement requires addressing the </a:t>
            </a:r>
            <a:r>
              <a:rPr b="0" lang="en-US" sz="2500" spc="-1" strike="noStrike">
                <a:solidFill>
                  <a:srgbClr val="004c6f"/>
                </a:solidFill>
                <a:latin typeface="Arial"/>
                <a:ea typeface="Arial"/>
              </a:rPr>
              <a:t>market constraints that they fac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c6f"/>
                </a:solidFill>
                <a:latin typeface="Arial"/>
                <a:ea typeface="Times New Roman"/>
              </a:rPr>
              <a:t>CES (Compensation for Ecosystem Services) is a tool to empower communities governance over territories they inhabit and control, while ensuring sustainable livelihoods and ecosystem services for themselves and for other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95400"/>
            <a:ext cx="910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hoices of communities and their supporters before the contrasting PES/CES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7080" y="1312920"/>
            <a:ext cx="885168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ADOPT existing and developing Payments/Markets for ecosystem services (PES/MES) schemes if they have secure rights to natural resources at a significant scale and quality, as well as the technical and entrepreneurial capacities to gain successful entry into these mark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ADAPT communities through capacity building so that they can enter into those schemes. Complementarily, seek to develop/shape/tailor PES/MES schemes so that they take into account communities conditions and concerns</a:t>
            </a: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EXPLORE alternative scenarios and complementary avenues until a CES strategy emerges that is contextually embedded and furthers community-defined goa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40" y="95400"/>
            <a:ext cx="910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nditions for successful adaptati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f communities to MES/PES schem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080" y="1312920"/>
            <a:ext cx="885168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Cultural values that do not resist commodification and market re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Secure control over natural resources so that MES</a:t>
            </a:r>
            <a:r>
              <a:rPr b="0" lang="es-E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PES initiatives are not perceived as undermining that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An identified demand, as well as a relatively clear picture of the link between land use and ES prov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Arial"/>
              </a:rPr>
              <a:t>Adequate stock of human and social capital to ensure effective collective action and reduced transaction co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4c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Supporting organizations and intermediaries that do not subordinate communities to their own goals or material ga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46200" y="3892680"/>
            <a:ext cx="4497480" cy="2401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36044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40" y="95400"/>
            <a:ext cx="91011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ploring complementary avenues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irst things must come fir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" y="1473120"/>
            <a:ext cx="69739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Poor rural communities depend heavily on the resource base and their management decisions seek FIRST to guarantee their self-provisioning of food, water, fuel and spiritual well be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Communities welcome support to strengthen rights, improve practices, and strengthen institutions to guarantee self-provision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042320" y="1498680"/>
            <a:ext cx="2025000" cy="1955880"/>
            <a:chOff x="7042320" y="1498680"/>
            <a:chExt cx="2025000" cy="1955880"/>
          </a:xfrm>
        </p:grpSpPr>
        <p:sp>
          <p:nvSpPr>
            <p:cNvPr id="71" name=""/>
            <p:cNvSpPr/>
            <p:nvPr/>
          </p:nvSpPr>
          <p:spPr>
            <a:xfrm>
              <a:off x="7115760" y="1715760"/>
              <a:ext cx="1951560" cy="14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640" bIns="53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003300"/>
                  </a:solidFill>
                  <a:latin typeface="Arial"/>
                </a:rPr>
                <a:t>Practices for </a:t>
              </a:r>
              <a:br>
                <a:rPr sz="1600"/>
              </a:br>
              <a:r>
                <a:rPr b="1" lang="es-SV" sz="1600" spc="-1" strike="noStrike">
                  <a:solidFill>
                    <a:srgbClr val="003300"/>
                  </a:solidFill>
                  <a:latin typeface="Arial"/>
                </a:rPr>
                <a:t>Self-Provisio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SV" sz="1400" spc="-1" strike="noStrike">
                  <a:solidFill>
                    <a:srgbClr val="003300"/>
                  </a:solidFill>
                  <a:latin typeface="Arial"/>
                </a:rPr>
                <a:t>(food, water, fuel, spiritual well-being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42320" y="1498680"/>
              <a:ext cx="1982520" cy="1955880"/>
            </a:xfrm>
            <a:prstGeom prst="ellipse">
              <a:avLst/>
            </a:prstGeom>
            <a:noFill/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3898800"/>
            <a:ext cx="2697120" cy="2392200"/>
            <a:chOff x="0" y="3898800"/>
            <a:chExt cx="2697120" cy="23922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3902760"/>
              <a:ext cx="1884600" cy="13971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0" y="5285520"/>
              <a:ext cx="1706040" cy="1005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1600920" y="4804200"/>
              <a:ext cx="1087200" cy="14868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1448640" y="3898800"/>
              <a:ext cx="1248480" cy="943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65920" y="3565440"/>
            <a:ext cx="227808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2076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40" y="-6480"/>
            <a:ext cx="91011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ploring complementary avenues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mproving income generating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60" y="1282680"/>
            <a:ext cx="8916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Communities will welcome support to improve their EXISTING practices so that they can gain better entry into markets thus increasing their incom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Technical assistance, marketing support, </a:t>
            </a:r>
            <a:br>
              <a:rPr sz="2400"/>
            </a:b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infrastructure </a:t>
            </a:r>
            <a:br>
              <a:rPr sz="2400"/>
            </a:b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improvement, </a:t>
            </a:r>
            <a:br>
              <a:rPr sz="2400"/>
            </a:br>
            <a:r>
              <a:rPr b="0" lang="en-US" sz="2400" spc="-1" strike="noStrike">
                <a:solidFill>
                  <a:srgbClr val="004c6f"/>
                </a:solidFill>
                <a:latin typeface="Arial"/>
                <a:ea typeface="Times New Roman"/>
              </a:rPr>
              <a:t>certif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30600" y="2828880"/>
            <a:ext cx="2678040" cy="3452400"/>
            <a:chOff x="2730600" y="2828880"/>
            <a:chExt cx="2678040" cy="3452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748960" y="2828880"/>
              <a:ext cx="156960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4264200" y="2835720"/>
              <a:ext cx="1144440" cy="1195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606840" y="5237280"/>
              <a:ext cx="1775160" cy="1038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2730600" y="3960000"/>
              <a:ext cx="2026440" cy="1276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aphicFrame>
          <p:nvGraphicFramePr>
            <p:cNvPr id="87" name=""/>
            <p:cNvGraphicFramePr/>
            <p:nvPr/>
          </p:nvGraphicFramePr>
          <p:xfrm>
            <a:off x="2730600" y="4963320"/>
            <a:ext cx="863640" cy="131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963320"/>
                      <a:ext cx="863640" cy="1317960"/>
                    </a:xfrm>
                    <a:prstGeom prst="rect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02320" y="3812760"/>
              <a:ext cx="699120" cy="14241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5591160" y="2446200"/>
            <a:ext cx="3438360" cy="3467160"/>
            <a:chOff x="5591160" y="2446200"/>
            <a:chExt cx="3438360" cy="3467160"/>
          </a:xfrm>
        </p:grpSpPr>
        <p:sp>
          <p:nvSpPr>
            <p:cNvPr id="91" name=""/>
            <p:cNvSpPr/>
            <p:nvPr/>
          </p:nvSpPr>
          <p:spPr>
            <a:xfrm>
              <a:off x="6286320" y="4151160"/>
              <a:ext cx="202572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640" bIns="53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bf5a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bf5a00"/>
                  </a:solidFill>
                  <a:latin typeface="Arial"/>
                </a:rPr>
                <a:t>Practices for </a:t>
              </a:r>
              <a:br>
                <a:rPr sz="1600"/>
              </a:br>
              <a:r>
                <a:rPr b="1" lang="es-SV" sz="1600" spc="-1" strike="noStrike">
                  <a:solidFill>
                    <a:srgbClr val="bf5a00"/>
                  </a:solidFill>
                  <a:latin typeface="Arial"/>
                </a:rPr>
                <a:t>Self-Provisio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SV" sz="1400" spc="-1" strike="noStrike">
                  <a:solidFill>
                    <a:srgbClr val="004c6f"/>
                  </a:solidFill>
                  <a:latin typeface="Arial"/>
                </a:rPr>
                <a:t>(food, water, fuel, spiritual well-being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10360" y="3970080"/>
              <a:ext cx="2133360" cy="194328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8440" y="2489040"/>
              <a:ext cx="292248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640" bIns="53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bf5a00"/>
                  </a:solidFill>
                  <a:latin typeface="Arial"/>
                </a:rPr>
                <a:t>2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600" spc="-1" strike="noStrike">
                  <a:solidFill>
                    <a:srgbClr val="bf5a00"/>
                  </a:solidFill>
                  <a:latin typeface="Arial"/>
                </a:rPr>
                <a:t>Practices for Income Gener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SV" sz="1400" spc="-1" strike="noStrike">
                  <a:solidFill>
                    <a:srgbClr val="004c6f"/>
                  </a:solidFill>
                  <a:latin typeface="Arial"/>
                </a:rPr>
                <a:t>(agriculture, agro-forestry, forestry, non-timber products, </a:t>
              </a:r>
              <a:br>
                <a:rPr sz="1400"/>
              </a:br>
              <a:r>
                <a:rPr b="0" lang="es-SV" sz="1400" spc="-1" strike="noStrike">
                  <a:solidFill>
                    <a:srgbClr val="004c6f"/>
                  </a:solidFill>
                  <a:latin typeface="Arial"/>
                </a:rPr>
                <a:t>rural tourism, handicraf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91160" y="2446200"/>
              <a:ext cx="3438360" cy="3465360"/>
            </a:xfrm>
            <a:prstGeom prst="ellipse">
              <a:avLst/>
            </a:prstGeom>
            <a:noFill/>
            <a:ln w="38160">
              <a:solidFill>
                <a:srgbClr val="8ba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4484520"/>
            <a:ext cx="2732040" cy="17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5370"/>
          <a:stretch/>
        </p:blipFill>
        <p:spPr>
          <a:xfrm>
            <a:off x="2085840" y="4660920"/>
            <a:ext cx="2678400" cy="1614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24632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40" y="31680"/>
            <a:ext cx="91011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btaining compensations for ecosystem services of regional and global inter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7000" y="1333440"/>
            <a:ext cx="5246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c6f"/>
                </a:solidFill>
                <a:latin typeface="Arial"/>
                <a:ea typeface="Times New Roman"/>
              </a:rPr>
              <a:t>Build on improved practices for self-provisioning and income generation, to explore territorial management schemes, specific practices and compensations for ecosystem services of regional/global </a:t>
            </a:r>
            <a:br>
              <a:rPr sz="2200"/>
            </a:br>
            <a:r>
              <a:rPr b="0" lang="en-US" sz="2200" spc="-1" strike="noStrike">
                <a:solidFill>
                  <a:srgbClr val="004c6f"/>
                </a:solidFill>
                <a:latin typeface="Arial"/>
                <a:ea typeface="Times New Roman"/>
              </a:rPr>
              <a:t>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3480" y="4494240"/>
            <a:ext cx="20257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for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Self-Provisio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food, water, fuel, spiritual well-be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37160" y="4440240"/>
            <a:ext cx="2133720" cy="18162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05240" y="2959200"/>
            <a:ext cx="2922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for Income Gen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agriculture, agro-forestry, forestry, non-timber products, </a:t>
            </a:r>
            <a:br>
              <a:rPr sz="1400"/>
            </a:b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rural tourism, handicraf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7960" y="2954160"/>
            <a:ext cx="3438720" cy="3300480"/>
          </a:xfrm>
          <a:prstGeom prst="ellipse">
            <a:avLst/>
          </a:prstGeom>
          <a:noFill/>
          <a:ln w="38160">
            <a:solidFill>
              <a:srgbClr val="8ba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1455840"/>
            <a:ext cx="32004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to Guarantee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Ecosystem Services of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Regional / Global 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water quality and water regulation, biodiversity, carbon sequestr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1468440"/>
            <a:ext cx="4710240" cy="479124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3443400"/>
            <a:ext cx="2111040" cy="2828520"/>
            <a:chOff x="-1440" y="3443400"/>
            <a:chExt cx="2111040" cy="2828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-1440" y="3443400"/>
              <a:ext cx="2096640" cy="1217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-1440" y="5407200"/>
              <a:ext cx="1151280" cy="864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-1440" y="4670640"/>
              <a:ext cx="972000" cy="730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943920" y="4667400"/>
              <a:ext cx="1165680" cy="1603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81280" y="4062240"/>
            <a:ext cx="2025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for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Self-Provisio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food, water, fuel, spiritual well-be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881520"/>
            <a:ext cx="2133360" cy="1942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73400" y="2400480"/>
            <a:ext cx="29224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for Income Gen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agriculture, agro-forestry, forestry, non-timber products, </a:t>
            </a:r>
            <a:br>
              <a:rPr sz="1400"/>
            </a:b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rural tourism, handicraf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6120" y="2357280"/>
            <a:ext cx="3438360" cy="3465720"/>
          </a:xfrm>
          <a:prstGeom prst="ellipse">
            <a:avLst/>
          </a:prstGeom>
          <a:noFill/>
          <a:ln w="38160">
            <a:solidFill>
              <a:srgbClr val="8ba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833400"/>
            <a:ext cx="32004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Practices to Guarantee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Ecosystem Services of </a:t>
            </a:r>
            <a:br>
              <a:rPr sz="1600"/>
            </a:br>
            <a:r>
              <a:rPr b="1" lang="es-SV" sz="1600" spc="-1" strike="noStrike">
                <a:solidFill>
                  <a:srgbClr val="bf5a00"/>
                </a:solidFill>
                <a:latin typeface="Arial"/>
              </a:rPr>
              <a:t>Regional / Global 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4c6f"/>
                </a:solidFill>
                <a:latin typeface="Arial"/>
              </a:rPr>
              <a:t>(water quality and water regulation, biodiversity, carbon seques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4080" y="833400"/>
            <a:ext cx="4710240" cy="499428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5813280"/>
            <a:ext cx="8383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4c6f"/>
                </a:solidFill>
                <a:latin typeface="Arial"/>
              </a:rPr>
              <a:t>Institutional Arrangements</a:t>
            </a:r>
            <a:br>
              <a:rPr sz="1400"/>
            </a:b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(community, local, micro-regional, regional, national, glob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19320"/>
            <a:ext cx="1824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4c6f"/>
                </a:solidFill>
                <a:latin typeface="Arial"/>
              </a:rPr>
              <a:t>Critical Issues for Equitable and Efficient Sche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ffffff"/>
                </a:solidFill>
                <a:latin typeface="Times New Roman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Defend, Expand and Innovate Rights</a:t>
            </a:r>
            <a:br>
              <a:rPr sz="1200"/>
            </a:br>
            <a:r>
              <a:rPr b="0" lang="es-SV" sz="1200" spc="-1" strike="noStrike">
                <a:solidFill>
                  <a:srgbClr val="004c6f"/>
                </a:solidFill>
                <a:latin typeface="Arial"/>
              </a:rPr>
              <a:t>(access, extraction, management, tenure, transf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Landscape Perspective that Values Human Action</a:t>
            </a:r>
            <a:br>
              <a:rPr sz="1200"/>
            </a:br>
            <a:r>
              <a:rPr b="0" lang="es-SV" sz="1200" spc="-1" strike="noStrike">
                <a:solidFill>
                  <a:srgbClr val="004c6f"/>
                </a:solidFill>
                <a:latin typeface="Arial"/>
              </a:rPr>
              <a:t>(anthropogenic components within landscape mosa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Strengthen </a:t>
            </a:r>
            <a:br>
              <a:rPr sz="1200"/>
            </a:b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Organizational Capacity</a:t>
            </a:r>
            <a:br>
              <a:rPr sz="1200"/>
            </a:br>
            <a:r>
              <a:rPr b="0" lang="es-SV" sz="1200" spc="-1" strike="noStrike">
                <a:solidFill>
                  <a:srgbClr val="004c6f"/>
                </a:solidFill>
                <a:latin typeface="Arial"/>
              </a:rPr>
              <a:t>(for collective action, conflict resolution, external linkag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0200" y="1371600"/>
            <a:ext cx="173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4c6f"/>
                </a:solidFill>
                <a:latin typeface="Arial"/>
              </a:rPr>
              <a:t>Compensation Supporting Improvements in the three-lev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Technical Ass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Infrastructure /  Investment Sup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Marketing Sup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Financial Compens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Tenure Security  Management Righ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4c6f"/>
                </a:solidFill>
                <a:latin typeface="Arial"/>
              </a:rPr>
              <a:t>Supporting Negotiating Platfor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11280"/>
          </a:xfrm>
          <a:prstGeom prst="rect">
            <a:avLst/>
          </a:prstGeom>
          <a:solidFill>
            <a:srgbClr val="003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0" y="31680"/>
            <a:ext cx="91011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mbedding CES: Putting it all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83440"/>
            <a:ext cx="9144000" cy="574560"/>
          </a:xfrm>
          <a:prstGeom prst="rect">
            <a:avLst/>
          </a:prstGeom>
          <a:solidFill>
            <a:srgbClr val="004c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2240" y="6311880"/>
            <a:ext cx="471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www.prisma.org.sv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r>
              <a:rPr b="1" lang="es-SV" sz="1600" spc="-1" strike="noStrike">
                <a:solidFill>
                  <a:srgbClr val="66ff33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93040" y="6337440"/>
          <a:ext cx="157788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3040" y="6337440"/>
                    <a:ext cx="1577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5:46:23Z</dcterms:created>
  <dc:creator>sandra</dc:creator>
  <dc:description/>
  <dc:language>en-US</dc:language>
  <cp:lastModifiedBy> </cp:lastModifiedBy>
  <dcterms:modified xsi:type="dcterms:W3CDTF">2007-11-19T19:55:34Z</dcterms:modified>
  <cp:revision>364</cp:revision>
  <dc:subject/>
  <dc:title>Servicios Ecosistémicos en la Evaluación Ecosistémica del Milenio</dc:title>
</cp:coreProperties>
</file>