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B928-E846-488D-A41B-5EAAB3F5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F66F-CA49-457B-A900-4CB0835B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953-0279-49A6-8EF4-FA355804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C1CD-E003-4BC0-A369-F3516EA8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43C0-E668-4B52-8794-D43C5CE1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7D2E-8786-4725-BE48-FED70B12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9800-F5D5-4788-A48D-399A381A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ACFD-7807-4129-B55C-FDD2FA2F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369F-7A9F-45D5-90B9-6B6CB03A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565-328A-4434-8A89-5C990BE8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53E3-C39A-446E-9A1B-CCB449E9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FCB-8328-45D9-B417-95EC6B72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6B92-8D28-4AC4-A19A-D4FE49808485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Compensações por Serviços Ambientais para Comunidades do Vale do Ribeira, São Paulo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Rubens Born &amp; Sergio Talocch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Vitae Civilis Instituto para o Desenvolvimento, Meio Ambiente e Pa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www.vitaecivilis.org.br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FB29-2D74-42AB-A772-FFA40099505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Perspectiva das Comunidades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6040" y="1844640"/>
            <a:ext cx="849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464040" indent="-230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Opções de alocação dos recursos e oportunidad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64040" indent="-230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lvl="1" marL="464040" indent="-23076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Capacitação técnica para manejo corret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64040" indent="-23076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Projetos de desenvolvimento e políticas públicas sustentávei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64040" indent="-23076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groecolog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64040" indent="-23076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Divulgação e educação ambienta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64040" indent="-23076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Pagamento direto ou crédito ao agriculto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64040" indent="-23076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Investimentos e infra-estrutur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64040" indent="-23076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Saúde e educação ambienta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64040" indent="-23076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Reduzir custos e impostos de produção e comercializaçã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64040" indent="-23076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Não deveria ocorrer ressarcimento para “não fazer nada com a área de floresta” principalmente em áreas grand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64040" indent="-23076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Diminuição da burocracia relacionada à conservaçã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64040" indent="-23076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Policiamento ambienta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64040" indent="-23076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Manutenção do emprego no camp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64040" indent="-23076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Despoluição de rios e saneamento básic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64040" indent="-23076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Estabelecer critérios de “pontuação” por serviços ambientais prestad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64040" indent="-23076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Incentivo a “novas” atividades e não apenas compensar quem já faz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48D5-6D90-426E-9A49-2A37EB3459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Perspectiva do Vitae Civilis e ONGs parceiras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0560" y="2131560"/>
            <a:ext cx="849924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3520" indent="-2653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Ações e medidas para melhorar a participação de comunidades rurais em mecanismos de CS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533520" indent="-2653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533520" indent="-26532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Conscientização e difusão de informação e conheciment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533520" indent="-26532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Geração de informações e bases de dados relevant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533520" indent="-26532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Criação e fortalecimento de diferentes formas de organização social e associativism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533520" indent="-26532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Formação e capacitação técnica de lideranças, principalmente quanto à gestão administrativa, negociação comercial e aspectos técnicos dos mecanism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533520" indent="-26532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primoramento da estrutura instituciona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533520" indent="-26532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Regularização fundiár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533520" indent="-26532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Construção de propostas de alterações no marco lega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533520" indent="-26532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Viabilização ampla de atividades positivas para serviços ambientai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533520" indent="-2653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F7D7-8BEE-4160-93AF-D5B88EE66C9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Questões e desafios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3120" y="1988640"/>
            <a:ext cx="849924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06520" indent="-2520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Multifuncionalidade </a:t>
            </a: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do território e valorização de atividades que conservam serviços ambientai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506520" indent="-252000">
              <a:lnSpc>
                <a:spcPct val="100000"/>
              </a:lnSpc>
              <a:spcBef>
                <a:spcPts val="20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lvl="1" marL="506520" indent="-2520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Questão de “timing”  </a:t>
            </a: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para sustentabilidade e “surgimento” de efeitos e de percepções positivas sobre efeitos do uso de instumentos de CSA</a:t>
            </a: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506520" indent="-252000">
              <a:lnSpc>
                <a:spcPct val="100000"/>
              </a:lnSpc>
              <a:spcBef>
                <a:spcPts val="20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lvl="1" marL="506520" indent="-2520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UCs: “ilhas de qualidade ambiental”. </a:t>
            </a: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Participação de comunidades limitada aos Conselhos. Desafio é fazer das UCs um instrumento de melhoria social e ambiental do entorn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506520" indent="-252000">
              <a:lnSpc>
                <a:spcPct val="100000"/>
              </a:lnSpc>
              <a:spcBef>
                <a:spcPts val="20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lvl="1" marL="506520" indent="-2520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Uso de remanescentes de Mata Atlântica: </a:t>
            </a: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manejo sustentável e extrativismo estão prejudicados pela característica dos fragmentos. Necessidade de “estancar” a degradação e pauperização dos fragmentos, mas também recuperar e “enriquecer”. Criação de RPPNs, corredores ecológicos, apoio a planos de manejo et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506520" indent="-252000">
              <a:lnSpc>
                <a:spcPct val="100000"/>
              </a:lnSpc>
              <a:spcBef>
                <a:spcPts val="20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lvl="1" marL="506520" indent="-2520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Intervenções potenciais e impactos na bacia do Ribeira de Iguap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401120" indent="-362160">
              <a:lnSpc>
                <a:spcPct val="10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Usina Hidrelétrica Tijuco Al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2" marL="1401120" indent="-362160">
              <a:lnSpc>
                <a:spcPct val="10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Transposição de águas dos Rios Juquiá e São Lourenç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2" marL="1401120" indent="-362160">
              <a:lnSpc>
                <a:spcPct val="10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Expansão urbana descontrolada da RMSP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2" marL="1401120" indent="-362160">
              <a:lnSpc>
                <a:spcPct val="10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Ecoturismo: potencial para geração de renda e conservaçã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2" marL="1401120" indent="-3621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com engajamento de população local e empreendedorism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4907-D383-420F-B4E7-E5BCEF2F8F2B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Vale do Ribeira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6032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Características e importância: 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15.600 km2; quase 20% do remanescente de Mata Atlântica nacional (aprox. 7,5%) – muitas UCs, comunidades quilombolas, rurais, tradicionais; etc. Região mais pobre de SP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Desafios para conservação e sustentabilidade loca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Ameaças: 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UHE – usinas hidrelétricas, degradação / exploração gradual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0D88-D838-47AC-A504-87F79934D61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Vale do Ribeira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6049800" cy="443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ACF6-C453-49B6-9300-41F1F0851D7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3792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Abordagem para Compensações por Serviços Ambientais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erspectivas dos atores sociais locais (especialmente comunidades rurais, extrativistas etc.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tegridade ambiental do territóri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studo e livro (2002): Proteção do Capital Social e Ecológico por Meio de Compensações por Serviços Ambientai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 casos, escalas territoriais diferentes, par avaliar complexidade de articulação do capital social e institucional para uso de instrumentos que promovam AS – serviços ambientai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4248000"/>
            <a:ext cx="1793880" cy="2421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11760" y="4221000"/>
            <a:ext cx="1812600" cy="24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0160-7268-4876-84C2-C33C6E3F0DE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Compensações por Serviços Ambientais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3573360"/>
            <a:ext cx="2160720" cy="7207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96240" y="3557520"/>
            <a:ext cx="1752480" cy="6634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573360"/>
            <a:ext cx="211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Territórios e Ecossiste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38000" y="36687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Socieda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1989000"/>
            <a:ext cx="326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Serviços ambienta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1" i="1" lang="en-US" sz="2000" spc="-1" strike="noStrike">
                <a:solidFill>
                  <a:srgbClr val="003366"/>
                </a:solidFill>
                <a:latin typeface="Verdana"/>
              </a:rPr>
              <a:t>valoração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29080" y="546408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Atividades antrópic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1" i="1" lang="en-US" sz="2000" spc="-1" strike="noStrike">
                <a:solidFill>
                  <a:srgbClr val="003366"/>
                </a:solidFill>
                <a:latin typeface="Verdana"/>
              </a:rPr>
              <a:t>valorização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5" idx="2"/>
            <a:endCxn id="54" idx="2"/>
          </p:cNvCxnSpPr>
          <p:nvPr/>
        </p:nvCxnSpPr>
        <p:spPr>
          <a:xfrm rot="5400000">
            <a:off x="4529160" y="951120"/>
            <a:ext cx="73800" cy="6612840"/>
          </a:xfrm>
          <a:prstGeom prst="curvedConnector5">
            <a:avLst>
              <a:gd name="adj1" fmla="val 1717156"/>
              <a:gd name="adj2" fmla="val 50000"/>
              <a:gd name="adj3" fmla="val 1717156"/>
            </a:avLst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0"/>
            <a:endCxn id="55" idx="0"/>
          </p:cNvCxnSpPr>
          <p:nvPr/>
        </p:nvCxnSpPr>
        <p:spPr>
          <a:xfrm flipH="1" flipV="1" rot="5400000">
            <a:off x="4557960" y="258840"/>
            <a:ext cx="16560" cy="6612840"/>
          </a:xfrm>
          <a:prstGeom prst="curvedConnector5">
            <a:avLst>
              <a:gd name="adj1" fmla="val 5528888"/>
              <a:gd name="adj2" fmla="val 50000"/>
              <a:gd name="adj3" fmla="val 5528888"/>
            </a:avLst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816-46F1-4673-B2FD-CF11886CA03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Compensações por Serviços Ambientais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Principio: protetor/recebedor -  diferente de usuário/pagador e poluidor/pagad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rês enfoques de gestão ambien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Liberal: foco no mercad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omando e controle: foco no Estad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Gestão participativa: foco na socieda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2BDB-B9DD-4A8F-96CF-5036793D530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Compensações por Serviços Ambientais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3480" y="1700280"/>
            <a:ext cx="828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Estudo considerou diferentes instrumentos econômicos existentes que mesmo não sendo principio protetor recebedor poderiam ser usados para alguma forma de compensação por  serviços ambienta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22440" indent="-266760">
              <a:lnSpc>
                <a:spcPct val="100000"/>
              </a:lnSpc>
              <a:spcBef>
                <a:spcPts val="20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lvl="1" marL="622440" indent="-2667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ICMS ecológico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 (foco: conservação de áreas protegidas – alguns tipos de UCs): recursos vão para cofres municipais, uso “livre”segundo orçamento municipal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22440" indent="-2667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Cobrança pelo uso de água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: recursos alocados em projetos, aprovados pelo Comitê de Bacia Hidrográfic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22440" indent="-2667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Fundos e programas especiais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: recursos para certos custos de projetos, apresentados por organizações habilitadas (FNMA, PRONAF, Fehidro etc.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22440" indent="-2667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Mercado de carbono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: Regime de Mudança de clima / Protocolo de Quioto não dispõem de instrumento para proteger florestas em pé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22440" indent="-2667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Proambiente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 (Amazônia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22440" indent="-2667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Lei Chico Mendes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 (AC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D0DE-117D-432A-973E-2D08AD6E2DB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Instrumentos não monetários para CSA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79280" y="1844640"/>
            <a:ext cx="849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511920" indent="-254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a) Empoderamento e formação (capacitação) técnica e organizaciona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415880" indent="-36576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3366"/>
                </a:solidFill>
                <a:latin typeface="Verdana"/>
              </a:rPr>
              <a:t>- assistência provida por ONGs, fundações, universidades etc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415880" indent="-36576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3366"/>
                </a:solidFill>
                <a:latin typeface="Verdana"/>
              </a:rPr>
              <a:t>- formaçã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415880" indent="-36576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3366"/>
                </a:solidFill>
                <a:latin typeface="Verdana"/>
              </a:rPr>
              <a:t>- Criação de cooperativas, associaçõ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415880" indent="-36576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3366"/>
                </a:solidFill>
                <a:latin typeface="Verdana"/>
              </a:rPr>
              <a:t>- desenvolvimento de novas atividad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415880" indent="-365760">
              <a:lnSpc>
                <a:spcPct val="100000"/>
              </a:lnSpc>
              <a:spcBef>
                <a:spcPts val="2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lvl="1" marL="511920" indent="-254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b) Agregação de valor e estratégias de inserção de produtos / serviços antrópic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415880" indent="-36576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3366"/>
                </a:solidFill>
                <a:latin typeface="Verdana"/>
              </a:rPr>
              <a:t>- aprimoramento de qualidad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415880" indent="-36576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3366"/>
                </a:solidFill>
                <a:latin typeface="Verdana"/>
              </a:rPr>
              <a:t>- planos de negóci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415880" indent="-36576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3366"/>
                </a:solidFill>
                <a:latin typeface="Verdana"/>
              </a:rPr>
              <a:t>- certificação, comércio justo, economia solidária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415880" indent="-365760">
              <a:lnSpc>
                <a:spcPct val="100000"/>
              </a:lnSpc>
              <a:spcBef>
                <a:spcPts val="2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lvl="1" marL="511920" indent="-254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c) Superação de ameaç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415880" indent="-36576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3366"/>
                </a:solidFill>
                <a:latin typeface="Verdana"/>
              </a:rPr>
              <a:t>- titulação de terras (resolução de pendências fundiárias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415880" indent="-36576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3366"/>
                </a:solidFill>
                <a:latin typeface="Verdana"/>
              </a:rPr>
              <a:t>- status especial: reservas extrativista, comunidade quilombolas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CD7E-FC71-4458-A7BD-1822FF9003A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Perspectivas de Comunidades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560" y="2276640"/>
            <a:ext cx="84992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66760" indent="1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Formas de contribuição para a produção ou preservação de serviços ambientai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266760" indent="1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Reflorestamento com espécies nativas, agricultura orgânica, educação ambiental, manejo adequado, recuperação de mata ciliar, proteção contra degradação, capacitação, resgate de conhecimentos tradicionais, cuidar de esgotos, evitar êxodo rura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266760" indent="1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266760" indent="1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Atores que deveriam receber os recursos ou compensações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266760" indent="1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Pequeno produtor que preserva, associações comunitárias e cooperativas, prefeituras, posseiros, ONGs, escola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266760" indent="144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266760" indent="1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Formas de participação na gestã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266760" indent="1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Gestão por processos participativos, administrado pelo terceiro setor (ONGs, associações, cooperativas), formação de conselhos locais para a gestão, diretrizes construídas nas bases, cobrar governos, participar em colegiados que tratem destes temas (comitês de bacias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F8A4-ACBC-4B71-A7FF-5E2131D97C1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21:10:32Z</dcterms:created>
  <dc:creator>user</dc:creator>
  <dc:description/>
  <dc:language>en-US</dc:language>
  <cp:lastModifiedBy> </cp:lastModifiedBy>
  <dcterms:modified xsi:type="dcterms:W3CDTF">2007-11-19T19:55:18Z</dcterms:modified>
  <cp:revision>103</cp:revision>
  <dc:subject/>
  <dc:title>Projeto Ecoturismo em São Lourenço da Serra</dc:title>
</cp:coreProperties>
</file>