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EC70-B680-45C5-9531-399CD7AA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9BE9-47DA-4719-8918-B6BB461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E69C-F1FD-4609-B43B-ACE2DD89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CB7D-C427-4B4C-B1D0-84DFD5C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C96-DFC6-41EB-95CA-302AAD78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969-134E-4047-A7A0-3DE9802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4996-1219-4877-91B9-FAD7EAED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6B5-2D61-4824-8B91-4B3397BC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4449-E089-4C1E-B985-AE53489E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545-0100-40BE-B6D0-225EC40E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0DA7-C357-4BC0-9AD0-7BD4D21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F583-9078-4367-9F8E-49852D22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BCE6-8948-4313-9272-FA28D00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25E-97B8-4005-B043-B98DF0A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38B4-0368-488D-A759-E16EA270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D742-7AAF-4809-A824-8A36C96A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132-615C-4636-A35F-3D280978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5667-4E53-475B-80A9-DB1C8DB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6FE0-A1BA-4EB2-B175-53BAB99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500E-8C36-4249-B44F-E2236AF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2369-D881-4D91-BBAB-C738DEB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BEEC-4934-4899-93B9-1DF968F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B156-4EAB-410F-AD58-F89F976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9AF3-3B2C-4EAB-B5E8-07A2CDB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BD90-41C5-4FC3-8A3B-40F41D803FD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D51-236F-48D8-B7E5-96102342F80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inforestcoalition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Reducing Emissions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rom Deforestation                in Developing Countries</a:t>
            </a:r>
            <a:br>
              <a:rPr sz="2800"/>
            </a:br>
            <a:br>
              <a:rPr sz="1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-11 Agenda Item #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katoomba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Paulo, Brazi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4, 200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www.RainforestCoalition.org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2361960" cy="15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P-11 Agenda #6: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77777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Black"/>
              </a:rPr>
              <a:t>Deforestation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hreat to Climate Stabilit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Emissions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ing Emissions are Significan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olicy &amp; Incentives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Seek flexible basket of ‘voluntary’ instruments to accommodate national situations.  Market forces drive most deforestation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Markets may hold key to solutio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ocess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es refer to SBSTA with goal to reach recommendations by 2007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486400" y="5105520"/>
            <a:ext cx="3247920" cy="1434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mate Change: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777777"/>
                </a:solidFill>
                <a:latin typeface="Arial Black"/>
              </a:rPr>
              <a:t>Multilateral Cooperation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Common but Differentiated Responsibiliti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dustrial to Developing: 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intain philosophy of mandatory reductions that finance voluntary instruments by developing nations. Support Sustainable Developmen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mongst Developing: 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mense difference between developing countries.  Need flexible ‘basket’ of voluntary emissions reduction instruments – in present form, CDM alone is not enough.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2476800" cy="1687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38080" y="533412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North to Sout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Flexible Basket of   Positive Incentiv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OP-11 Agenda #6: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777777"/>
                </a:solidFill>
                <a:latin typeface="Arial Black"/>
              </a:rPr>
              <a:t>Positive Incentive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lexible Basket of Voluntary Incen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(Diversity of National Circumstance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8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6858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fficial Development Assistance Approach (ODA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685800" indent="-4572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oluntary National Approach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(Voluntary ‘Annex C’?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6858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lexible Scale Approach – National Circumstan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6858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ggregate under UNFCCC: Bilateral and/or Multilateral Funds and Emissions Trading Agreement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6858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ptional Protocol within UNFCCC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8480" y="5068800"/>
            <a:ext cx="35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olunta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ulti-Stag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 Mutually Exclus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920960" cy="2209680"/>
          </a:xfrm>
          <a:prstGeom prst="rect">
            <a:avLst/>
          </a:prstGeom>
          <a:ln w="12600">
            <a:solidFill>
              <a:srgbClr val="003300"/>
            </a:solidFill>
            <a:miter/>
          </a:ln>
        </p:spPr>
      </p:pic>
    </p:spTree>
  </p:cSld>
  <p:transition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 Brazil Proposal:</a:t>
            </a:r>
            <a:br>
              <a:rPr sz="3600"/>
            </a:br>
            <a:r>
              <a:rPr b="0" lang="en-US" sz="4000" spc="-1" strike="noStrike">
                <a:solidFill>
                  <a:srgbClr val="777777"/>
                </a:solidFill>
                <a:latin typeface="Arial Black"/>
              </a:rPr>
              <a:t>General Observation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520" y="21333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Suppor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Voluntar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ational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ase Scenari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redit / Debit Syste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Pricing Logic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DA – cash flow stabilit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2060640" cy="37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P-11 Agenda #6: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777777"/>
                </a:solidFill>
                <a:latin typeface="Arial Black"/>
              </a:rPr>
              <a:t>Price vs. Objective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4038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16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685800" indent="-339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 Black"/>
              </a:rPr>
              <a:t>C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-51588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ed as ‘cheap’ mechanis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-51588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s ‘performance’ risk         – buyer must replace credi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-51588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‘atmospheric value’        – supplemental credi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1316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 Black"/>
              </a:rPr>
              <a:t>AAU/ERU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target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transactional risk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‘atmospheric value’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 Black"/>
              </a:rPr>
              <a:t>REDD </a:t>
            </a:r>
            <a:r>
              <a:rPr b="0" lang="en-US" sz="1600" spc="-1" strike="noStrike">
                <a:solidFill>
                  <a:srgbClr val="777777"/>
                </a:solidFill>
                <a:latin typeface="Arial Black"/>
              </a:rPr>
              <a:t>(Annex C?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ntary Reduction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Scal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Risk minimized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‘atmospheric value’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‘Social value’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Organic or Fair Trade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90720" y="6172200"/>
            <a:ext cx="7543800" cy="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90720" y="2057400"/>
            <a:ext cx="0" cy="41148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040" y="28954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 Black"/>
              </a:rPr>
              <a:t>Pric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0680" y="6324480"/>
            <a:ext cx="32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lack"/>
              </a:rPr>
              <a:t>Atmospheric &amp; Social Objectives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P-11 Agenda #6: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Value → </a:t>
            </a:r>
            <a:r>
              <a:rPr b="0" lang="en-US" sz="4000" spc="-1" strike="noStrike">
                <a:solidFill>
                  <a:srgbClr val="777777"/>
                </a:solidFill>
                <a:latin typeface="Arial Black"/>
              </a:rPr>
              <a:t>Social Benefi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14400" y="17524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gnificant source of carbon emissions currently outside framework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ncreases the flexibility of developing countries through a ‘national’ approach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gnificant new revenue streams to addresses poverty in rural areas with clear metrics to access effectivenes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nderpins MDG objectives related to environment, poverty, gender equality, health, etc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ajor biodiversity conservation benefit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upports efforts against desertification and soil eros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eads to watershed protection and potable water suppl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P-11 Agenda #6: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Additional: 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eeper Cu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62320" y="1981080"/>
            <a:ext cx="3276360" cy="1219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AU --- JI --- CDM </a:t>
            </a:r>
            <a:r>
              <a:rPr b="1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3886200"/>
            <a:ext cx="4572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AU --- JI --- CDM </a:t>
            </a:r>
            <a:r>
              <a:rPr b="1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8960" y="2286000"/>
            <a:ext cx="8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P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(- 6%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2640" y="4191120"/>
            <a:ext cx="187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P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(- 10%?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+ REDD - 5%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886200"/>
            <a:ext cx="1067040" cy="1219320"/>
          </a:xfrm>
          <a:prstGeom prst="rect">
            <a:avLst/>
          </a:prstGeom>
          <a:solidFill>
            <a:srgbClr val="ecb6b2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5400" y="4343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6160" y="27432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Addition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3640" y="541008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ew Total: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15%?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52200" y="6095880"/>
            <a:ext cx="3667680" cy="368280"/>
          </a:xfrm>
          <a:prstGeom prst="rect">
            <a:avLst/>
          </a:prstGeom>
          <a:noFill/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EW CREDITS = DEEPER CUT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Black"/>
              </a:rPr>
              <a:t>Drivers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drivers are identifiable. Must overcome perverse incentives and opportunity costs of alternative land uses -- both locally and internationally.  In most cases, higher carbon ‘incentives’ will drive greater emissions reductions from deforestatio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Black"/>
              </a:rPr>
              <a:t>Solution Possible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, methods and markets available now to accurately measure changes in carbon stocks and trade relevant credits at a National scale.  Challenge is implementation (standards, policy, etc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Key Message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Black"/>
              </a:rPr>
              <a:t>Policy &amp; Incentives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ty of ‘national circumstances’ justifies a flexible set of positive incentives -- ODA may be important to get started quickly, but markets are likely the best sustainable finance solutio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Black"/>
              </a:rPr>
              <a:t>Futu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orestation must feature prominently in future climate stability actions.  Continue cross-regional consensus --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olivia, Central African Republic, Congo, Costa Rica, Dominican Republic, DR Congo, Gabon, Ghana, Guatemala, Honduras, Indonesia, Kenya, Lesotho, Nicaragua, Panama, Peru, Papua New Guine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ternational funding needed immediately for analysis, capacity building,                                 &amp; pilot market activitie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Key Message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apua New Guinea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467480" cy="426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Climate Objectiv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1904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Carbon-Neutr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while fulfilling our social and economic prioriti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Land Use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Net rates of deforestation must be slowed, halted and reversed – Costa Rica, Chin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Transportation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Replace carbon intense fossil fuels with clean-burning technology and renewable bio-fuels –  Brazil, Holland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Energy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Sufficient hydro potential and natural gas to fuel our economic growth aspirations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360" y="6019920"/>
            <a:ext cx="890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vironmentally and Socially Sustainable Economic Growt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blem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1828800"/>
            <a:ext cx="762012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UNFCCC and KP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o Meaningful Solu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Deforestation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incentive to Reduce Emissions from deforest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Transportation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real incentive for National transition to clean and renewable fuels in transport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nergy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DM offers too much red-tape and low carbon prices to facilitate energy shifts at small sca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Emission Source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943600" cy="363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Obstacle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00800" cy="470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Deforestation Driver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29718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griculture: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a, Coffee, Cocoa, Sugar, etc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Logging: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w value exports, unsustainable practic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evelopment: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s,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-lines, social services, etc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opulation: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ization + growth drives above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Black"/>
              </a:rPr>
              <a:t>Perverse Incentives!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286000" cy="1009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2438280"/>
            <a:ext cx="4267080" cy="3353040"/>
          </a:xfrm>
          <a:prstGeom prst="rightArrowCallout">
            <a:avLst>
              <a:gd name="adj1" fmla="val 25002"/>
              <a:gd name="adj2" fmla="val 25000"/>
              <a:gd name="adj3" fmla="val 21210"/>
              <a:gd name="adj4" fmla="val 66667"/>
            </a:avLst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ainforest Coali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3200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frican Rep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can Republic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1828800" cy="509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172200" y="5029200"/>
            <a:ext cx="1647720" cy="49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ainforest Coali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1523880"/>
            <a:ext cx="1143000" cy="0"/>
          </a:xfrm>
          <a:prstGeom prst="line">
            <a:avLst/>
          </a:prstGeom>
          <a:ln w="1522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33520" y="1523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2880" y="5638680"/>
            <a:ext cx="70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terregional Policy Development &amp; Consensu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47920" cy="9316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306080" y="1846800"/>
            <a:ext cx="6302880" cy="3705120"/>
            <a:chOff x="1306080" y="1846800"/>
            <a:chExt cx="6302880" cy="3705120"/>
          </a:xfrm>
        </p:grpSpPr>
        <p:sp>
          <p:nvSpPr>
            <p:cNvPr id="159" name="_s116745"/>
            <p:cNvSpPr/>
            <p:nvPr/>
          </p:nvSpPr>
          <p:spPr>
            <a:xfrm>
              <a:off x="3641040" y="2416320"/>
              <a:ext cx="1632600" cy="1632600"/>
            </a:xfrm>
            <a:prstGeom prst="ellipse">
              <a:avLst/>
            </a:prstGeom>
            <a:solidFill>
              <a:srgbClr val="669900">
                <a:alpha val="50000"/>
              </a:srgbClr>
            </a:solidFill>
            <a:ln w="46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_s116746"/>
            <p:cNvSpPr/>
            <p:nvPr/>
          </p:nvSpPr>
          <p:spPr>
            <a:xfrm>
              <a:off x="3641040" y="1846800"/>
              <a:ext cx="1632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Latin America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_s116747"/>
            <p:cNvSpPr/>
            <p:nvPr/>
          </p:nvSpPr>
          <p:spPr>
            <a:xfrm>
              <a:off x="4230000" y="2845080"/>
              <a:ext cx="1632600" cy="1632600"/>
            </a:xfrm>
            <a:prstGeom prst="ellipse">
              <a:avLst/>
            </a:prstGeom>
            <a:solidFill>
              <a:srgbClr val="333300">
                <a:alpha val="50000"/>
              </a:srgbClr>
            </a:solidFill>
            <a:ln w="46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_s116748"/>
            <p:cNvSpPr/>
            <p:nvPr/>
          </p:nvSpPr>
          <p:spPr>
            <a:xfrm>
              <a:off x="5976360" y="2951280"/>
              <a:ext cx="1632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ribbea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3" name="_s116749"/>
            <p:cNvSpPr/>
            <p:nvPr/>
          </p:nvSpPr>
          <p:spPr>
            <a:xfrm>
              <a:off x="4004280" y="3536640"/>
              <a:ext cx="1632600" cy="16326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4" name="_s116750"/>
            <p:cNvSpPr/>
            <p:nvPr/>
          </p:nvSpPr>
          <p:spPr>
            <a:xfrm>
              <a:off x="5396400" y="5144760"/>
              <a:ext cx="1632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outh America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_s116751"/>
            <p:cNvSpPr/>
            <p:nvPr/>
          </p:nvSpPr>
          <p:spPr>
            <a:xfrm>
              <a:off x="3276720" y="3535200"/>
              <a:ext cx="1632600" cy="16326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_s116752"/>
            <p:cNvSpPr/>
            <p:nvPr/>
          </p:nvSpPr>
          <p:spPr>
            <a:xfrm>
              <a:off x="1886040" y="5144760"/>
              <a:ext cx="1632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Africa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_s116753"/>
            <p:cNvSpPr/>
            <p:nvPr/>
          </p:nvSpPr>
          <p:spPr>
            <a:xfrm>
              <a:off x="3054240" y="2842920"/>
              <a:ext cx="1632600" cy="1632600"/>
            </a:xfrm>
            <a:prstGeom prst="ellipse">
              <a:avLst/>
            </a:prstGeom>
            <a:solidFill>
              <a:srgbClr val="669900">
                <a:alpha val="50000"/>
              </a:srgbClr>
            </a:solidFill>
            <a:ln w="46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_s116754"/>
            <p:cNvSpPr/>
            <p:nvPr/>
          </p:nvSpPr>
          <p:spPr>
            <a:xfrm>
              <a:off x="1306080" y="2951280"/>
              <a:ext cx="1632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Asia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1120" y="3505320"/>
            <a:ext cx="609480" cy="609480"/>
          </a:xfrm>
          <a:prstGeom prst="ellipse">
            <a:avLst/>
          </a:prstGeom>
          <a:solidFill>
            <a:srgbClr val="3366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R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1:30Z</dcterms:created>
  <dc:creator>Kevin</dc:creator>
  <dc:description/>
  <dc:language>en-US</dc:language>
  <cp:lastModifiedBy> </cp:lastModifiedBy>
  <dcterms:modified xsi:type="dcterms:W3CDTF">2007-11-19T19:56:45Z</dcterms:modified>
  <cp:revision>120</cp:revision>
  <dc:subject/>
  <dc:title>The Global Challenge</dc:title>
</cp:coreProperties>
</file>