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3DF-7250-47A8-A545-1ABC267A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38C-6CBB-463E-9634-3B20F6BC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E3C-A860-4661-B887-67199934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458-04AB-4AF4-9B76-7DC05717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D45-D8C2-4187-BD3E-CE15BB0D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604-91AA-4265-8116-E8E0584F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1B6-2D85-4105-B9BF-55FC22A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B17-E3BE-4AD4-B39E-45F70552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083-356F-493C-9DAC-E43F941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363-EFA3-4BD4-A839-1D4C112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932-39D4-4AF0-9962-289429E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174-2608-4950-8F61-AE1B63E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4FD4-EDAA-46F4-8395-D9CF32800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eam.gob.pe/" TargetMode="External"/><Relationship Id="rId2" Type="http://schemas.openxmlformats.org/officeDocument/2006/relationships/hyperlink" Target="http://www.eps-moyobamba.com/" TargetMode="External"/><Relationship Id="rId3" Type="http://schemas.openxmlformats.org/officeDocument/2006/relationships/hyperlink" Target="http://www.eps-moyobamba.com/" TargetMode="External"/><Relationship Id="rId4" Type="http://schemas.openxmlformats.org/officeDocument/2006/relationships/hyperlink" Target="http://www.eps-moyobamba.com/" TargetMode="External"/><Relationship Id="rId5" Type="http://schemas.openxmlformats.org/officeDocument/2006/relationships/hyperlink" Target="http://www.inrena.gob.pe/psa/indez.htm" TargetMode="External"/><Relationship Id="rId6" Type="http://schemas.openxmlformats.org/officeDocument/2006/relationships/hyperlink" Target="http://www.gtz-rural.org.pe/" TargetMode="External"/><Relationship Id="rId7" Type="http://schemas.openxmlformats.org/officeDocument/2006/relationships/hyperlink" Target="http://www.gtz-rural.org.pe/" TargetMode="External"/><Relationship Id="rId8" Type="http://schemas.openxmlformats.org/officeDocument/2006/relationships/hyperlink" Target="http://www.gtz-rural.org.pe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ensación por Servicios Ecosistémicos en la Región San Mar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ves 4 de Octubr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685800"/>
            <a:ext cx="7666200" cy="411480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iseñando Esquemas de Pago y Compensación por Servicios Ambientales (PyCSA) y Deforestación Evitada (REDD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línica de Diseño de Proyectos PyC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Funcionamiento del Fo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80880"/>
            <a:ext cx="3024000" cy="7923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mité G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1533600"/>
            <a:ext cx="3024000" cy="194472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mité Técn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 Directiva CG (oferent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ma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 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 Municip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 Gobierno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1173240"/>
            <a:ext cx="6141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3080" y="22543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196524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nanci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ope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3549600"/>
            <a:ext cx="541080" cy="2087640"/>
          </a:xfrm>
          <a:prstGeom prst="downArrow">
            <a:avLst>
              <a:gd name="adj1" fmla="val 50000"/>
              <a:gd name="adj2" fmla="val 9645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5637240"/>
            <a:ext cx="2736720" cy="1009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ement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(actividad tercer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47832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Entidad Superviso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5925960"/>
            <a:ext cx="360360" cy="64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81600"/>
            <a:ext cx="2519280" cy="647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3549600"/>
            <a:ext cx="288720" cy="432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083120"/>
            <a:ext cx="2879640" cy="826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ondo Ecosist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828880"/>
            <a:ext cx="57636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117960"/>
            <a:ext cx="1660320" cy="336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sor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ocumentos de diseñ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laborados en base a los estud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Programas de capacitación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 a familias rurales y estudiantes en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Cambios hacia usos de la tierra sostenibles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(p.ej. parcelas demostrativas agroforester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5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trategia de comunicación y educación ambient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n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5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Institucionalidad fortalecida y reconocida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por la población: Comité G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5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onitore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l proyecto diseñ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8600"/>
            <a:ext cx="7589880" cy="121932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paración e inversión hecha hasta hoy en el proy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28600"/>
            <a:ext cx="7589880" cy="10666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óximos pa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81532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itucionalización del Comité Gestor y del 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de líneas de acción 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nuar proceso de comunicación hacia l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mpaquetar servicios (regulación hídrica y conservación de bio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703160"/>
            <a:ext cx="8229600" cy="54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proye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A” está de mod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 lo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ón de la normatividad ambiental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law enforcemen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28600"/>
            <a:ext cx="7589880" cy="137160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flex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stenibilidad del esquema,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centivos perve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- replicabilida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l y participación d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8600"/>
            <a:ext cx="7589880" cy="137160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guntas o expectativas para trabajar en la clí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Proyecto Especial Alto May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am.gob.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Entidad Prestadora de Servicios y Saneamiento Moyobamba: </a:t>
            </a:r>
            <a:br>
              <a:rPr sz="2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ps</a:t>
            </a: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oyobamb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GTI-PSA/INRENA:</a:t>
            </a:r>
            <a:r>
              <a:rPr b="0" lang="es-PE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nrena.gob.pe/psa/indez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Programa Desarrollo Rural Sostenible - GTZ</a:t>
            </a:r>
            <a:br>
              <a:rPr sz="2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gtz</a:t>
            </a: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</a:t>
            </a: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ral.org.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8153640" cy="10666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racterísticas del Proy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1019160"/>
            <a:ext cx="9144000" cy="5535720"/>
            <a:chOff x="0" y="1019160"/>
            <a:chExt cx="9144000" cy="55357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1785" t="7766" r="893" b="8844"/>
            <a:stretch/>
          </p:blipFill>
          <p:spPr>
            <a:xfrm>
              <a:off x="0" y="1019160"/>
              <a:ext cx="9144000" cy="55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00600" y="1219320"/>
              <a:ext cx="3886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0"/>
            <a:ext cx="8153640" cy="10666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incipales problemas en la reg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066680"/>
            <a:ext cx="8763120" cy="67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Reducción del área boscos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y avance de la frontera agrí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nflictos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por invasión de tier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rosión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érdida de capacidad de almacenamiento de 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isminución del potencial produc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lta rotación de áreas cultivadas por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falta de prácticas adecuadas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 manej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ntaminación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 ríos por ganadería y aguas ser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érdida de diversidad biológ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belleza escé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cimiento poblacio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l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0"/>
            <a:ext cx="8153640" cy="10666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371600"/>
            <a:ext cx="9067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ocup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oblación y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oluntad polític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s autoridades loc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rocesos de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gestión territorial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ZEE, OT, Planes Maestro de las áreas naturales prote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vocatoria amplia (inicio 2004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mayor información para entender las interrelaciones en las cue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compromisos inter-institu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de agua EPS-Moyobamba (junto con GORE, PEAM) se encarga de la protección de los fuentes de agua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reas de conservación municip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rea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ité Gest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la participación activa de más que 25 instituciones del Alto M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80880"/>
            <a:ext cx="8153280" cy="121932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artes involucrados y responsables del desarrollo del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omité Gestor (más de 25 instituciones y organiz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ferentes y demandantes del Servicio Eco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ponsables nivel regional y local: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obierno Regional de San Martín, Proyecto Especial Alto Mayo, Municipio Provincial de Moyobamba, EPS Moyoba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Entidades de apoy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Nacional de San Martín, Instituto Superior Tecnológico Público del Alto Mayo, CARITAS, ONG Paz y Esperanza, otr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ponsables nivel nacion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NASS, INRENA (GTI-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ooperación Internacional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TZ, Conservación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43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371600"/>
            <a:ext cx="828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Oferente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Aplicación de prácticas agroforestales y de conservación, participación en control y vigilancia del A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Proyecto Especial Alto Mayo (PEAM)-GORESAM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stencia técnica en agroforestería,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s de apoyo – SNIP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Entidad Prestadora de Servicios de Saneamiento Moyobamba (EPS)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Recaudación de la compensación (tarifa de agua), comité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Usuarios del agu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Compensación a los agricul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nicipalidad Provincial de Moyobamb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malización del Área de Conservación Municipal (ACM): Plan Maestro,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GTZ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Análisis de las microcuencas, análisis de la oferta de servicios, asistencia técnica, fortalecimi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7589880" cy="106704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oles de los principale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609480"/>
            <a:ext cx="4230720" cy="1044720"/>
          </a:xfrm>
          <a:prstGeom prst="roundRect">
            <a:avLst>
              <a:gd name="adj" fmla="val 16667"/>
            </a:avLst>
          </a:prstGeom>
          <a:solidFill>
            <a:srgbClr val="99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Familias en la parte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5715000"/>
            <a:ext cx="4230720" cy="893880"/>
          </a:xfrm>
          <a:prstGeom prst="roundRect">
            <a:avLst>
              <a:gd name="adj" fmla="val 16667"/>
            </a:avLst>
          </a:prstGeom>
          <a:solidFill>
            <a:srgbClr val="99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Demand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onsumidores de agua po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200400"/>
            <a:ext cx="3230280" cy="746280"/>
          </a:xfrm>
          <a:prstGeom prst="roundRect">
            <a:avLst>
              <a:gd name="adj" fmla="val 16667"/>
            </a:avLst>
          </a:prstGeom>
          <a:solidFill>
            <a:srgbClr val="ff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Comité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Fondo Ecosisté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 flipH="1" flipV="1">
            <a:off x="3809160" y="4647600"/>
            <a:ext cx="43560" cy="100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483160" y="333360"/>
            <a:ext cx="19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ahoma"/>
              </a:rPr>
              <a:t>Cuenca 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6558120"/>
            <a:ext cx="1990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ahoma"/>
              </a:rPr>
              <a:t>Cuenca 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91160" y="1801800"/>
            <a:ext cx="747720" cy="3976560"/>
          </a:xfrm>
          <a:custGeom>
            <a:avLst/>
            <a:gdLst/>
            <a:ahLst/>
            <a:rect l="l" t="t" r="r" b="b"/>
            <a:pathLst>
              <a:path w="420" h="4860">
                <a:moveTo>
                  <a:pt x="0" y="4860"/>
                </a:moveTo>
                <a:cubicBezTo>
                  <a:pt x="150" y="4485"/>
                  <a:pt x="300" y="4110"/>
                  <a:pt x="360" y="3420"/>
                </a:cubicBezTo>
                <a:cubicBezTo>
                  <a:pt x="420" y="2730"/>
                  <a:pt x="420" y="1290"/>
                  <a:pt x="360" y="720"/>
                </a:cubicBezTo>
                <a:cubicBezTo>
                  <a:pt x="300" y="150"/>
                  <a:pt x="60" y="120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04120" y="1143000"/>
            <a:ext cx="2487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990000"/>
                </a:solidFill>
                <a:latin typeface="Arial"/>
              </a:rPr>
              <a:t>Mantener el servicio ecosistémico de regulación hídric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y conservación de biodivers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9080" y="3844800"/>
            <a:ext cx="12855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2684520" y="3395520"/>
            <a:ext cx="21607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mp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2895480" y="2895480"/>
            <a:ext cx="6858000" cy="10666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squema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3733920" y="1599840"/>
            <a:ext cx="21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8600"/>
            <a:ext cx="8077320" cy="12952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lementos del manejo del ecosistema que proveen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051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onservación de ecosistemas: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Mantenimiento bosques, control y vigilancia comunal para A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ecuperación de ecosistemas: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Cambio del actual uso de la tierra (sistemas agroforestales y barreras vivas), reforestación (especies nativas, mezcladas con especies de crecimiento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Desarrollo económico/ agrícola local sostenible: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en base a la mejora de la calidad del cultivo de caf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Gestión ambiental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escolar y municipal y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omunicación ambiental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Desarrollo de capacidades: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como actividad transversal (fortalecimiento del Comité Gestor, extensión agraria, entre otros) para fortalecer capacidades a nivel local, así como estructuras de gobernan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Otros (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spondiendo a la problemática inicial y la demanda de los act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09480" y="4481640"/>
            <a:ext cx="777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8153280" cy="1066680"/>
          </a:xfrm>
          <a:prstGeom prst="foldedCorner">
            <a:avLst>
              <a:gd name="adj" fmla="val 12500"/>
            </a:avLst>
          </a:prstGeom>
          <a:solidFill>
            <a:srgbClr val="4c9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edidas de compens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795320"/>
            <a:ext cx="8077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istencia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Fortalecimiento de la organización de produ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Inventivos en materiales (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ozos de infiltración, pozos para residuos sólidos, composteras, entre otro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Incentivos en créditos (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yo con tasas diferenciad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8:55:31Z</dcterms:created>
  <dc:creator> </dc:creator>
  <dc:description/>
  <dc:language>en-US</dc:language>
  <cp:lastModifiedBy>Isabel Renner</cp:lastModifiedBy>
  <dcterms:modified xsi:type="dcterms:W3CDTF">2007-10-04T12:30:26Z</dcterms:modified>
  <cp:revision>66</cp:revision>
  <dc:subject/>
  <dc:title>Clinica de Diseño de Proyectos PyCSA</dc:title>
</cp:coreProperties>
</file>