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7EF-43D3-4B26-AC0E-7B1FBCD6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429-D014-404D-8B10-52A72996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559-0533-4916-9ECB-32A7B696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DB5-7741-4F61-B71C-B188CA42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7720-1855-41C1-8F47-F82D8522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D771-516B-4EF5-B3BC-0E82E5AB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407A-ED86-4DFC-B904-6918B31E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8D14-358A-41D3-A1C3-11923049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6E46-EB99-4C8A-BDA2-A7D80ED4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D285-7577-40EE-AC4A-FE24F65B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8E5C-80FC-460F-8F0C-1BA2DAB4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927-C6B0-4B79-8408-7B59E3DF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130B-11AC-4F2D-9477-BC63B440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76B9-3A2D-47E7-BC78-F0D8D6B4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5593-7C7C-4F34-9A2B-F792A518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F24D-617F-4B4B-9CF3-6796BEF7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D6A2-1D27-4516-BAA4-77EDCF39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B7A-CCB6-411C-AA2E-18917FE3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0D4-D819-4594-9604-61D87541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A57-966F-4B2E-9030-0A6ED3C4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8DE-BB4D-435D-98EE-2140B9BD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0ED-614C-4331-9B50-E094D819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22B-3A5B-4703-BA1F-C9F0919C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9B6-5E14-47A4-9831-0D9B263A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E97D-D9DD-4213-BCE0-6EEA774A5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44E7-BF8C-486D-BFE2-69E1F49BE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Arial"/>
              </a:rPr>
              <a:t>Building the Foundations for Pro-Poor Payments for Ecosystem Services in Agricultural and Forest Landscapes of Afric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weya National Park, Uga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19-22,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Objectives of Mweya Meet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nderstand what PES is, potential applications, and role in rural development and conservation in East and Southern Afric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hare experiences and lessons learned on PES from around the world and consider within an African settin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ssessments the status of PES and institutional capacity in selected countries of Afric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uild channels for communication between different sectoral actors whose input is required for P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lan a strategy for investment in pro-poor PES in 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Participants will be able to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nd distinguish different types of 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potential buyers and sel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e  different institutional models for organizing PES at the deal and system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key elements that need to be in place for structuring a PES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e the potential risks of 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how PES complements or competes with other conservation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equity challenges in the context of weak property rights and opportunities of P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basic mechanics of of 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tutional Foundations of P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ual framework, country cases for Uganda, Kenya, South Af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s &amp; Organization of P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ments for carbon, biodiversity, watershed cons. (plenary+ break-out grou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ing a Marke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bilizing buyers, policy framework, enabling community s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genda (cont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eld Trips (carbon and watershed projec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tion to the Ecosystem Market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ry Working Groups Meet and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onal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to Kamp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8:25:38Z</dcterms:created>
  <dc:creator>SScherr</dc:creator>
  <dc:description/>
  <dc:language>en-US</dc:language>
  <cp:lastModifiedBy>SScherr</cp:lastModifiedBy>
  <dcterms:modified xsi:type="dcterms:W3CDTF">2005-09-20T05:10:22Z</dcterms:modified>
  <cp:revision>7</cp:revision>
  <dc:subject/>
  <dc:title>Slide 1</dc:title>
</cp:coreProperties>
</file>