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19A1-BB2F-4640-AAB4-3582DBBC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82C-C309-429B-A0C8-C9F06EEE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548-A8D9-4D94-A22B-7DF323F7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AC3-5806-4A69-A5DC-8FB766BE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6D30-FBDA-49C0-9D42-FF08E864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3E79-EB3C-47CC-80B8-755BC210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3958-8C94-4169-B3F2-565ACE93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A37C-8BAB-441E-BF98-3872A41E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3A36-5603-4141-933C-A9621CAC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A8F9-AC6E-4766-8F38-5FDB2D12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2DDB-CFB8-420C-AEA2-803B119D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9D5-088D-4D1F-838F-F746187B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4D2D-7BBF-4242-841F-A28C0176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F99D-E7E8-4D79-8CDE-44ACB283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81FD-A0B5-4A06-9F1E-666DD2C1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60B5-CB85-48D4-B67D-B5BF3865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AD87-8472-4F46-8E80-7FA648C9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E62-9314-40BD-92DC-A3D1D265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A93-D7AF-4379-90C1-7F02B625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EB0-C712-414F-98D4-6DECDDE9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5C5-CD59-478E-B0EB-CB95F630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6A7-B02F-42E5-AE79-DC1EE4FE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045E-CB3E-41B3-8B00-2935E5E8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BA2-8454-47A9-9CA7-85CED516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263880" indent="-2638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263880" indent="-2638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263880" indent="-263880"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63880" indent="-263880"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5" marL="263880" indent="-2638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6" marL="263880" indent="-2638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4237-CDFB-4533-BD52-AB26480DF7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phicTIF1" descr=""/>
          <p:cNvPicPr/>
          <p:nvPr/>
        </p:nvPicPr>
        <p:blipFill>
          <a:blip r:embed="rId2"/>
          <a:stretch/>
        </p:blipFill>
        <p:spPr>
          <a:xfrm>
            <a:off x="8226360" y="6095880"/>
            <a:ext cx="92412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BD5A-F4F4-4DCC-8906-318174C7AD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raphicTIF1" descr=""/>
          <p:cNvPicPr/>
          <p:nvPr/>
        </p:nvPicPr>
        <p:blipFill>
          <a:blip r:embed="rId2"/>
          <a:stretch/>
        </p:blipFill>
        <p:spPr>
          <a:xfrm>
            <a:off x="8226360" y="6095880"/>
            <a:ext cx="92412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66840" y="855720"/>
            <a:ext cx="6962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Water Issues in the Asia-Pacific Reg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6080" y="2997360"/>
            <a:ext cx="375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Katoomba V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okyo, 5 November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466740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uter Lincklaen Arrië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d Water Resources Specia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ian Development 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7080" y="979560"/>
            <a:ext cx="55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93760" y="1104840"/>
            <a:ext cx="676908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entralization to river basi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ning and manageme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er righ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er quality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erve watersheds and eco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ulnerability to disa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waves1" descr=""/>
          <p:cNvPicPr/>
          <p:nvPr/>
        </p:nvPicPr>
        <p:blipFill>
          <a:blip r:embed="rId1"/>
          <a:stretch/>
        </p:blipFill>
        <p:spPr>
          <a:xfrm>
            <a:off x="1714680" y="1487520"/>
            <a:ext cx="5715000" cy="3806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22640" y="2290680"/>
            <a:ext cx="468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ater as a Servi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46000" y="865080"/>
            <a:ext cx="55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31920" y="1409760"/>
            <a:ext cx="7099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nomous and accountable service provid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unity and private sector particip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gulatory framework and cost recov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blic awaren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42920" y="1560600"/>
            <a:ext cx="506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 invest in better water management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54280" y="3693960"/>
            <a:ext cx="575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focus on people and governance fir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waves1" descr=""/>
          <p:cNvPicPr/>
          <p:nvPr/>
        </p:nvPicPr>
        <p:blipFill>
          <a:blip r:embed="rId1"/>
          <a:stretch/>
        </p:blipFill>
        <p:spPr>
          <a:xfrm>
            <a:off x="1714680" y="1487520"/>
            <a:ext cx="5715000" cy="3806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22640" y="2290680"/>
            <a:ext cx="468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ADB’s Policy ‘Water for All’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7440" y="1994040"/>
            <a:ext cx="7099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Socially vital economic goo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needs careful management to sustain equitable economic growth and reduce povert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2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spcAft>
                <a:spcPts val="7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Participatory approa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eeded to meet the challenges of water conservation and pro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800" y="909720"/>
            <a:ext cx="29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Princip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28880" y="887400"/>
            <a:ext cx="69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Foc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2909880"/>
            <a:ext cx="7099200" cy="21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rove water govern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age water resour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liver water servi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20000"/>
              </a:lnSpc>
              <a:spcBef>
                <a:spcPts val="22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28880" y="2106720"/>
            <a:ext cx="31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Investing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66760" y="735120"/>
            <a:ext cx="855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Sector Approa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1892160"/>
            <a:ext cx="70995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licy and institutional re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ver basin mana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roving water servi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talyzing invest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acity buil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gional coop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waves1" descr=""/>
          <p:cNvPicPr/>
          <p:nvPr/>
        </p:nvPicPr>
        <p:blipFill>
          <a:blip r:embed="rId1"/>
          <a:stretch/>
        </p:blipFill>
        <p:spPr>
          <a:xfrm>
            <a:off x="1714680" y="1487520"/>
            <a:ext cx="5715000" cy="3806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22640" y="2290680"/>
            <a:ext cx="4686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Ecosystems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Markets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Private Sect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6760" y="735120"/>
            <a:ext cx="855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Valuing Ecosyst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955880"/>
            <a:ext cx="7099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of river basin approach to water resource mana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ck of practical examp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thurajawela wetlands in Sri Lank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 river basin study in PR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42960" y="1449360"/>
            <a:ext cx="55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058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tark Realit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28880" y="2540160"/>
            <a:ext cx="7099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 in 3 Asians does not have access to safe drinking w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 in 2 Asians does not have adequate sanitation fac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55680" y="595440"/>
            <a:ext cx="855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atershed Manag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93760" y="1638360"/>
            <a:ext cx="7099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sting in watershed management: India, PRC, Sri Lanka, Laos, Viet N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m Ngum watershed in Laos: link to poverty re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sharing needed: by users downstream or from hydropower reven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6000" y="595440"/>
            <a:ext cx="855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atershed Marke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93760" y="1816200"/>
            <a:ext cx="7099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wnstream water users pay for watershed protection and land management upstre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IED study reviewed 61 efforts in 22 count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mediaries mostly NGOs and government, little PS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79360" y="849240"/>
            <a:ext cx="855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atershed Market Stu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070000"/>
            <a:ext cx="70995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900"/>
                </a:solidFill>
                <a:latin typeface="Arial"/>
              </a:rPr>
              <a:t>Watershed Markets – Linking Land Managers and Water Users to Raise Welfare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 presented by Natasha Landell-Mills of IIED at the International Water Conference 14-16 October 2002             Hanoi, Viet N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66760" y="671400"/>
            <a:ext cx="855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Private Sector Particip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03320" y="1892160"/>
            <a:ext cx="7099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ern: is water ‘privatized’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$ and higher efficienc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eds policy, regulation, cost recovery, and public awaren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les: WRM versus WS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er for All’ needs better water govern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36480" y="344160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www.adb.org/wat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00480" y="1530360"/>
            <a:ext cx="432108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2960" y="1386000"/>
            <a:ext cx="55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160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A Water Crisi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892160"/>
            <a:ext cx="6693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etition for scarce w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creasing water pol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floods and drough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graded watershe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pleted groundw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appearing eco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11400" y="1776240"/>
            <a:ext cx="373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ill our rivers..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42240" y="3770280"/>
            <a:ext cx="589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keep flowing into the se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waves1" descr=""/>
          <p:cNvPicPr/>
          <p:nvPr/>
        </p:nvPicPr>
        <p:blipFill>
          <a:blip r:embed="rId1"/>
          <a:stretch/>
        </p:blipFill>
        <p:spPr>
          <a:xfrm>
            <a:off x="1714680" y="1487520"/>
            <a:ext cx="5715000" cy="3806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22640" y="2290680"/>
            <a:ext cx="468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Presentation Outlin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117440" y="1307880"/>
            <a:ext cx="770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-411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cy and institutional 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er as a resou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er as a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B’s Water Policy ‘Water for All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uation of ecosystem services,  watershed markets, and private sector partici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iscu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waves1" descr=""/>
          <p:cNvPicPr/>
          <p:nvPr/>
        </p:nvPicPr>
        <p:blipFill>
          <a:blip r:embed="rId1"/>
          <a:stretch/>
        </p:blipFill>
        <p:spPr>
          <a:xfrm>
            <a:off x="1714680" y="1487520"/>
            <a:ext cx="5715000" cy="3806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22640" y="2290680"/>
            <a:ext cx="4686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Policy and Institutional Framewor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31920" y="1333440"/>
            <a:ext cx="7099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keholder particip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er sector coordin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ffective national water polic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dated water legisl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tional water action age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able institu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6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waves1" descr=""/>
          <p:cNvPicPr/>
          <p:nvPr/>
        </p:nvPicPr>
        <p:blipFill>
          <a:blip r:embed="rId1"/>
          <a:stretch/>
        </p:blipFill>
        <p:spPr>
          <a:xfrm>
            <a:off x="1714680" y="1487520"/>
            <a:ext cx="5715000" cy="3806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22640" y="2290680"/>
            <a:ext cx="468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ater as a Resourc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2T07:19:51Z</dcterms:created>
  <dc:creator>User Support Services, OIST</dc:creator>
  <dc:description/>
  <dc:language>en-US</dc:language>
  <cp:lastModifiedBy>User Support Services, OIST</cp:lastModifiedBy>
  <cp:lastPrinted>2001-12-13T03:26:56Z</cp:lastPrinted>
  <dcterms:modified xsi:type="dcterms:W3CDTF">2002-11-04T14:45:41Z</dcterms:modified>
  <cp:revision>128</cp:revision>
  <dc:subject/>
  <dc:title>Water and Poverty  A Theme of the Third World Water Forum</dc:title>
</cp:coreProperties>
</file>