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2825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03440"/>
            <a:ext cx="5014800" cy="347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188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00080" y="703440"/>
            <a:ext cx="5014800" cy="3473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188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market” activity includes 35 deals which are sales of allowances from the Gov. to the private sector (through auc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00080" y="703440"/>
            <a:ext cx="5014800" cy="3473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188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ewables sum up wind, hydro, solar, geothermal and 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00080" y="703440"/>
            <a:ext cx="5014800" cy="3473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188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’s large share in volume comes from one single transaction from Transalta in India involving a total of 54 MtCo2e over 4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 large volume comes all from one transaction, which needs to be further analy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00080" y="703440"/>
            <a:ext cx="5014800" cy="3473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188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rrently 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ets are shown on this graph.  Carbon markets currently being developed (e.g. Massachusetts), but where no transaction has been recorded, to our knowledge, as of July 1 2002, are excluded from this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s of the bubbles do not represent exact volumes transacted on each particular sub-market, but aim at conveying general order of magnitu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373-AC79-4754-8B7D-7FB7E6F5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C3B-BA94-461E-B57E-14664D95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34D-5052-4930-B9C9-EE10EB58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3F4-958A-4E94-AF29-79B46CAD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ED27-3973-4E0D-B42B-64818221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8A9D-3B9C-47CF-B81E-9C09987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A5B4-28E0-4D79-B492-CEA75938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FF6D-3F62-4BE4-B74A-356BA74A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E78F-AC5C-4285-9EB6-02BEA0D3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E759-98F9-41B0-A766-612642CA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0CEA-F956-4807-9E60-51E22D39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E36-85D3-4C1F-9EE3-24CE28A1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A438-2D82-412C-9027-DE551D6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D99-27FB-4F06-A8C9-C9690FB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0B8C-5BCC-48FD-AA8A-8D333D67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E8E9-E0D4-4CE0-8CB8-AA4BAB57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B9BF-DFA1-482A-8E57-D1716AB2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8BA-C0CF-4F73-ACBC-44D19202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0C0-01C7-4CBC-8E7B-EB3FDD40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206-4BFD-4E71-A5E9-117C14A6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547-54E0-4D42-ACF0-D3CEC82B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0E5-D2B4-4DF9-9F40-DF6C30FD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C50-0F3F-4861-A81E-D14546F7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DAB-4E50-4F66-90DF-D94996D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FF91-7530-4756-BA9B-48B898894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Potential for Carbon Finance in Agriculture and Forestry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038120"/>
            <a:ext cx="693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toomba V, Toky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est Tr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vember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200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Number of trades has increased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311400" y="6556320"/>
            <a:ext cx="761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: Authors’ own calculation, based on transaction database assembled with Natsource, Co2e.com and PointCarb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2320" y="606600"/>
            <a:ext cx="8642520" cy="59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39A-1A47-49D0-8E61-C9BD2F3898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ffcc00"/>
                </a:solidFill>
                <a:latin typeface="Garamond"/>
              </a:rPr>
              <a:t>Buyers are more diverse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311400" y="6556320"/>
            <a:ext cx="761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: Authors’ own calculation, based on transaction database assembled with Natsource, Co2e.com and PointCarb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080" y="1155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-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30280" y="1155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1-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7724" r="0" b="7724"/>
          <a:stretch/>
        </p:blipFill>
        <p:spPr>
          <a:xfrm>
            <a:off x="627120" y="925560"/>
            <a:ext cx="864216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0DC-C757-4AFF-BEDC-A4458FF864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9296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ffcc00"/>
                </a:solidFill>
                <a:latin typeface="Garamond"/>
              </a:rPr>
              <a:t>Balance in Asset Classes Emerging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311400" y="6556320"/>
            <a:ext cx="761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: Authors’ own calculation, based on transaction database assembled with Natsource, Co2e.com and PointCarb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4360" y="469800"/>
            <a:ext cx="9175680" cy="591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07D-69D6-46A3-BB80-584DEC17E2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27120" y="468360"/>
            <a:ext cx="8642160" cy="5919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902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ffcc00"/>
                </a:solidFill>
                <a:latin typeface="Garamond"/>
              </a:rPr>
              <a:t>Carbon Finance flows 2001-2002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11400" y="6556320"/>
            <a:ext cx="761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: Authors’ own calculation, based on transaction database assembled with Natsource, Co2e.com and PointCarb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39640" y="5267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16600" y="3106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81040" y="144144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55600" y="5365800"/>
            <a:ext cx="134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29680" y="3463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71360" y="3765600"/>
            <a:ext cx="759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63C-FE0E-4ED5-A5A3-4335DBB29D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902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ffcc00"/>
                </a:solidFill>
                <a:latin typeface="Garamond"/>
              </a:rPr>
              <a:t>Who’s buying where? (2001-2002)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11400" y="6556320"/>
            <a:ext cx="761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: Authors’ own calculation, based on transaction database assembled with Natsource, Co2e.com and PointCarb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9200" y="544680"/>
            <a:ext cx="8140680" cy="5573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6110280"/>
            <a:ext cx="9902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 2001-2002, private companies acting alone have purchased only 13% of their reductions in developing countri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850-D446-497D-9453-CE4470116D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BioCarbon Fund:</a:t>
            </a:r>
            <a:br>
              <a:rPr sz="4400"/>
            </a:b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Key Design Parameter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iz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$100m target; $40-50m to close mid-200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hare Pri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$2.5 million and 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arget Contract Price Rang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$2.5-$5/tCO2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er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17 years (3 yrs investment, 14 yrs maintena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tructur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wo Windows – Kyoto and Non-Kyo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Focus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ustainable Agriculture, Forestry and Land Management, Biodi Conservation, Poverty Re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eal Attribut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Certified ERs and Biodivers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arallel Grant Fu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for project preparation and capacity building. Implementation Partnershi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bio-ppt" descr=""/>
          <p:cNvPicPr/>
          <p:nvPr/>
        </p:nvPicPr>
        <p:blipFill>
          <a:blip r:embed="rId1"/>
          <a:stretch/>
        </p:blipFill>
        <p:spPr>
          <a:xfrm>
            <a:off x="7626240" y="0"/>
            <a:ext cx="2276640" cy="93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C8C-1697-4103-A84D-F953308071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3360" y="17892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Potential Early Deal Flow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554120"/>
            <a:ext cx="9902880" cy="5137200"/>
          </a:xfrm>
          <a:prstGeom prst="rect">
            <a:avLst/>
          </a:prstGeom>
          <a:ln w="0">
            <a:noFill/>
          </a:ln>
        </p:spPr>
      </p:pic>
      <p:pic>
        <p:nvPicPr>
          <p:cNvPr id="157" name="bio-ppt" descr=""/>
          <p:cNvPicPr/>
          <p:nvPr/>
        </p:nvPicPr>
        <p:blipFill>
          <a:blip r:embed="rId2"/>
          <a:stretch/>
        </p:blipFill>
        <p:spPr>
          <a:xfrm>
            <a:off x="7761240" y="0"/>
            <a:ext cx="2141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Bank’s Experience of Carbon Finance in Forestry 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CF Projects under implement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Brazil Plantar Fuelwood and Restoration Fores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Romania Danube Delt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Restoration Forestry and Conservation on degraded lands (7000h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CF Projects approved by Sharehol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Moldova Land and Forest Restor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14,300h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stics of LULUCF Deals to date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create Biodiversity Asse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support sustainable livelihoods and rural deve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Prices contracted in range of $3.25-3.50/tCO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5EE-A6EF-4111-9C0E-6A31B6BF9C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86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Early Insights on Opportunities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9880" y="127476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vate/Public CF for sinks can support conservation,  sustainable natural resource use and poverty reduction!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 for Carbon as it is sequestered provides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unique early cash flow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key 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Financial closure in private deals 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Leveraging State Forest Administration Budg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diversity Assets can be certified whic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crease carbon asset value: “green premium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Sheds light on how a global biodiversity market can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bon Stocks in “avoided deforestation” can leverage up-front payment enabling land purch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Non-kyoto and retail markets offer cash forward potential for high profile conservation ass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CF5-528D-47DE-9912-123B5574C7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Garamond"/>
              </a:rPr>
              <a:t>Brazil Biomass/Pig Iron Project</a:t>
            </a:r>
            <a:endParaRPr b="0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43040" y="1523880"/>
          <a:ext cx="89121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523880"/>
                    <a:ext cx="89121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200960" y="6186600"/>
            <a:ext cx="77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R payments are used to amortize commercial lo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E0A-423D-4974-B6EF-665B4AB296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47440" cy="68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7D1-E92E-4AC5-920C-F482D55B35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Early Insights on Managing “Permanence” Risk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nk/BioCF offers “mitigation equivalent” ass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ortfolio Leve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ermanence Risk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dging high permanence risk assets with low permanence risk asse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Mitigation Reductions to offset sequestration asset risk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thin the portfolio using Biofuel project mitigation component reductions 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uying options in Bank-managed mitigation reduction portfolios (e.g. CDCF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lending JI, AAU-backed assets with CDM ass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6FC-5681-4441-BBCC-A1A3BB2EFB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Early Insights on Managing “Permanence” Risk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oject Leve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ermanence Risk Mana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Encouraging “mosaics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low and high permanence risk assets within the project e.g. conservation and production landscap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sing Conservative estimat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ER potential to create within project hed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egotiating seller lia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lauses wherever fea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3F4-82CB-4E50-9A73-E1F2624CD6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Pre-requisites for Carbon Sink Asset Management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tual Fund type structures to manage ris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itutions capable of long term asset maintenance – 20+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bility to build public-private partnerships to mitigate risk, especially with global insurance and banking indus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066-B56F-4737-8DA9-A56DF2064C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Annexes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28400" y="41148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Potential Early Deal Flow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osals exist for both Wind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erage price = $3.88/tCO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al flow exists below $4/tCO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attractive projects (cobenefits, permanence) &gt; $4/tCO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ER volume = 117 MtCO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projects request upfront pay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 early project candidates (high rank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bio-ppt" descr=""/>
          <p:cNvPicPr/>
          <p:nvPr/>
        </p:nvPicPr>
        <p:blipFill>
          <a:blip r:embed="rId1"/>
          <a:stretch/>
        </p:blipFill>
        <p:spPr>
          <a:xfrm>
            <a:off x="7626240" y="0"/>
            <a:ext cx="2276640" cy="93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ACB-320F-4C23-85DA-5131C6B524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24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ad10"/>
                </a:solidFill>
                <a:latin typeface="Arial Black"/>
              </a:rPr>
              <a:t>26 transactions at advanced stage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994600" y="152280"/>
            <a:ext cx="719280" cy="824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143000"/>
            <a:ext cx="9902880" cy="0"/>
          </a:xfrm>
          <a:prstGeom prst="line">
            <a:avLst/>
          </a:prstGeom>
          <a:ln w="25560">
            <a:solidFill>
              <a:srgbClr val="ad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7680" y="1981080"/>
            <a:ext cx="8994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0120" y="1444680"/>
            <a:ext cx="940752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5A5-FC7E-40A4-844A-1D147E2B79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524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ad10"/>
                </a:solidFill>
                <a:latin typeface="Arial Black"/>
              </a:rPr>
              <a:t>Technology distribution of approved project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994600" y="152280"/>
            <a:ext cx="719280" cy="824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143000"/>
            <a:ext cx="9902880" cy="0"/>
          </a:xfrm>
          <a:prstGeom prst="line">
            <a:avLst/>
          </a:prstGeom>
          <a:ln w="25560">
            <a:solidFill>
              <a:srgbClr val="ad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7680" y="1981080"/>
            <a:ext cx="8994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11560" y="1447920"/>
            <a:ext cx="495756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8B4-BAF1-4498-A290-D98E4D74BA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Garamond"/>
              </a:rPr>
              <a:t>Sustainable Development</a:t>
            </a:r>
            <a:br>
              <a:rPr sz="4400"/>
            </a:br>
            <a:r>
              <a:rPr b="1" lang="en-US" sz="4400" spc="-1" strike="noStrike">
                <a:solidFill>
                  <a:srgbClr val="00cc00"/>
                </a:solidFill>
                <a:latin typeface="Garamond"/>
              </a:rPr>
              <a:t> Deep Green Carbon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1144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ertifying local environmental and community development benefits with emissions reductions:</a:t>
            </a:r>
            <a:r>
              <a:rPr b="1" lang="en-US" sz="2800" spc="-1" strike="noStrike">
                <a:solidFill>
                  <a:srgbClr val="ff99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Examples from PC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olombia Jepirachi Wind Power Plant (19M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provid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25560" indent="-185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otable water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25560" indent="-185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lectricity for schools/clinics 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25560" indent="-185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mall fishing port for local indigenous peopl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lantar Project in Brazil (23,400ha fuelwood plantation)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25560" indent="-185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orker health improv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25560" indent="-185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RINQ certification of no child labor or exploi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25560" indent="-185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iodiversity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25560" indent="-185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SC certification of improved forest 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623440" y="0"/>
            <a:ext cx="1279440" cy="12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38A-A339-4840-8252-FA64108CCA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Important Findings</a:t>
            </a:r>
            <a:endParaRPr b="0" lang="en-US" sz="48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912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479880" indent="-479880">
              <a:spcBef>
                <a:spcPts val="901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earning-by-doing 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901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DM/JI Carbon Asset Creation is complex with long ER delivery lead tim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901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Regulatory uncertainty remains post-Marrakesh, especially in Land Use, Land Use Change and Forest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901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Very small direct private CDM invest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901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mall projects/small countries lose o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C2F-E8D3-487F-AEB1-CD45C45311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The Carbon Market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228400" y="41148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ummary of carbon markets currently in operation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3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-based Emission Reduction purc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638680"/>
            <a:ext cx="152280" cy="152640"/>
          </a:xfrm>
          <a:prstGeom prst="ellipse">
            <a:avLst/>
          </a:prstGeom>
          <a:solidFill>
            <a:srgbClr val="8dc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3581280"/>
            <a:ext cx="228600" cy="228600"/>
          </a:xfrm>
          <a:prstGeom prst="ellipse">
            <a:avLst/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3962520"/>
            <a:ext cx="228600" cy="228600"/>
          </a:xfrm>
          <a:prstGeom prst="ellipse">
            <a:avLst/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1752480"/>
            <a:ext cx="220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ance 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67960" y="3016080"/>
            <a:ext cx="30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in National trading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27800" y="499752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a-Firm tra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6140520"/>
            <a:ext cx="228600" cy="2286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5683320"/>
            <a:ext cx="228600" cy="2286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480" y="518148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9800" y="3505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65840" y="3930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60642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5840" y="56070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819520"/>
            <a:ext cx="4038480" cy="3809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8880" y="243828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-Complianc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6120" y="32004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nt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3800" y="5867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Kyoto Pre-Compli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4B4-7E11-4F9F-9AE9-C4585F6C0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6880" y="22176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Major Market Findings</a:t>
            </a:r>
            <a:endParaRPr b="0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6200" y="1260000"/>
            <a:ext cx="8416800" cy="61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2002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i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st active year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ices ranged from $1 (project-based) to $17 (UK allowance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arket Activity since 199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tal Trades, all vintages = 200 MtCO2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57 MtCO2e 1996 to 200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pected 2002 contract volum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60-67 MtCo2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R over 5 times 2001 volume of 12 MtCo2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2 volumes would be ~1/3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ll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stimated market volume since 1996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ivate sector bought most of ERs traded within OECD countries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964-BF14-4A59-B2C6-8E99518415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22:19:09Z</dcterms:created>
  <dc:creator>Franck Lecocq - World Bank, DECRG-IE</dc:creator>
  <dc:description>Presentation for World Bank Climate Change day - June 14, 2001.</dc:description>
  <dc:language>en-US</dc:language>
  <cp:lastModifiedBy>Ken Newcombe</cp:lastModifiedBy>
  <cp:lastPrinted>2001-06-01T12:54:43Z</cp:lastPrinted>
  <dcterms:modified xsi:type="dcterms:W3CDTF">2002-11-04T21:46:54Z</dcterms:modified>
  <cp:revision>254</cp:revision>
  <dc:subject/>
  <dc:title>State and Trends of the carbon market</dc:title>
</cp:coreProperties>
</file>