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10561E-6D63-44D4-878B-55612904A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549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‚</a:t>
            </a:r>
            <a:r>
              <a:rPr b="1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O‚Q”N‚RŒŽŠú’†ŠÔŒˆŽZà–¾‰ïŽÐ’·ˆ¥Ž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ŽÐ’·‚Ì–î–ì‚Å‚²‚´‚¢‚Ü‚·B‚½‚¾‚¢‚ÜAŒo—•”’·‚ÌˆÉ“¡‚©‚ç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¡’†ŠÔŠúŒˆŽZ‚ÌŠT—v‚ðà–¾‚¢‚½‚µ‚Ü‚µ‚½‚ªAŽŸ‚ÉŽ„‚æ‚èA‚±‚ÌŒˆŽZ‚Ì‘O’ñ‚Æ‚È‚è‚Ü‚µ‚½ŽsêŠÂ‹«‚ÆA’ÊŠú‚Ì‹ÆÑ—\‘z‚É‚Â‚¢‚ÄAà–¾‚¢‚½‚µ‚Ü‚·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@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‚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PDŽsêŠÂ‹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‡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@ŒoÏ‘S”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@@Šù‚É‚²³’m‚Ì‚æ‚¤‚ÉA¢ŠE“I‚È•s‹µ‚Ì”g‚Ì’†A“–Šú‚Ì@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@@‚í‚ª‘ŒoÏ‚à’á–À‚ð‘±‚¯A—Ao‚Æ‘“à‚É‚¨‚¯‚é¶ŽY‚ªŒ¸­‚µ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@@Ý”õ“ŠŽ‘‚à’á’²‚É„ˆÚ‚µ‚Ä‚¨‚è‚Ü‚·B‚Ü‚½A‘“à¶ŽY‚ÌŒ¸­‚©‚ç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@ ŒÙ—p‚É‘Î‚·‚é•sˆÀ‚Í‘‚µ‚Ä‚¨‚è‚Ü‚·‚µA˜J“­ŽžŠÔ‚ª’Zk‚³‚ê–¼–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  ’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À‹à‚à’á‰ºŒXŒü‚É‚ ‚è‚Ü‚·B‚±‚Ì—l‚Èó‹µ‚Ì‰ºAŒÂlÁ”ï‚ÍãŒü‚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  ’›‚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µ‚ðŒ©‚¢‚¾‚¹‚¸A“Á‚É«—ˆ‚É‘Î‚·‚é•sˆÀ‚©‚ç‚Šz‚Ì”ƒ‚¢•¨‚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æ‘—‚è‚³‚ê‚éŒXŒü‚É‚ ‚è‚Ü‚·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Ž¯ŽÒ‚Ì’†‚É‚ÍA‚±‚Ìó‹µ‚ðAu‚±‚ê‚©‚ç¢ŠE“¯Žž•s‹µ‚ªis‚µ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íŒãÅˆ«‚ÌŒoÏó‹µ‚É‚È‚ë‚¤‚Æ‚µ‚Ä‚¢‚év‚ÆŒ©‚Ä‚¢‚é•û‚à‚¨‚èAŽ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  ‚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ÍAŒo‰cŽÒ‚Æ‚µ‚Ä‘Š“–‚ÌŠë‹@Š´‚ð‚à‚Á‚Ä‰ïŽÐŒo‰c‚É‚ ‚½‚ç‚È‚¯‚ê‚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  ‚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È‚ç‚È‚¢‚Æl‚¦‚Ä‚¨‚è‚Ü‚·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105520" y="5562720"/>
            <a:ext cx="380988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Z—F—Ñ‹ÆŠ”Ž®‰ïŽ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585720"/>
            <a:ext cx="8852040" cy="559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800600" y="533412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r.Noriyuki Kobay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Sumitomo Forestry Co,.Ltd,Tokyo,Jap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066680"/>
            <a:ext cx="86868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ests and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|Kyoto Protocol and Japanese Measure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553080" y="762120"/>
            <a:ext cx="2362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vember 5,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781680" y="1143000"/>
            <a:ext cx="23623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ITED NATIONS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0160" y="2676600"/>
            <a:ext cx="721512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Recent status of the Kyoto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Japan’s ratification and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Status of JI and CDM planning activities in the forestry and wood indus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Issues facing Japan on 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2280" y="609480"/>
            <a:ext cx="1981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ATOOMBA ‡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22860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24000" y="1905120"/>
            <a:ext cx="8820000" cy="47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7800" indent="-577800">
              <a:lnSpc>
                <a:spcPct val="12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e treatment of harvested timber by the Kyoto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2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rticle 3-3 and 4 : harvested timber be counted as emissions at the time of harv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2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e decision of COP7 : a final conclusion be reached in 2004 as to how to treat harvested 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2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Harvested timber should be counted NOT at the time of harvesting but at the time of scrapping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2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romotion of long-term use wood products (long life wooden house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523880"/>
            <a:ext cx="8001000" cy="0"/>
          </a:xfrm>
          <a:prstGeom prst="line">
            <a:avLst/>
          </a:prstGeom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668680" cy="27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558720" y="38088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4-(3).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06440" y="22860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280" y="1905120"/>
            <a:ext cx="8667720" cy="49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7800" indent="-577800">
              <a:lnSpc>
                <a:spcPct val="11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ontribution within Japan of forestry and wood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1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ontribution toward sustainabl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1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mplementation of economically feasible management of forests as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1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tudies on division of work between government and private forest owner for forests as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2560" indent="-260280">
              <a:lnSpc>
                <a:spcPct val="11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|Cost sharing, benefit sharing,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1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romotion and stabilization of wood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2560" indent="-260280">
              <a:lnSpc>
                <a:spcPct val="11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---long-term, sustainable utilization, further utilization of domestic l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523880"/>
            <a:ext cx="8001000" cy="0"/>
          </a:xfrm>
          <a:prstGeom prst="line">
            <a:avLst/>
          </a:prstGeom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668680" cy="279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558720" y="38088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5-(1).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06440" y="22860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905120"/>
            <a:ext cx="8820000" cy="44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7800" indent="-57780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ontribution through promotion of JI and CDM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stablishment of systems in hosting countries of JI and CDM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Operating rules for CDM forestation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2560" indent="-2602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@ |Establishment of feasibl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Utilization of experience and technology of forestry and wood industries in CDM forestation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romotion of CDM and JI through collaboration among government, industry, academia and NGO’s of Japan and hosting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523880"/>
            <a:ext cx="8001000" cy="0"/>
          </a:xfrm>
          <a:prstGeom prst="line">
            <a:avLst/>
          </a:prstGeom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668680" cy="279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58720" y="38088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5-(2).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06440" y="22860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2280" y="1905120"/>
            <a:ext cx="89917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7800" indent="-57780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xpected to take effect next year following Russia’s ra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2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Various measures are in progress toward the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2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arrakesh Accord included operational rules of the Kyoto Mechanism(ET,JI,CD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1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e registration of CDM projects is scheduled to begin by the end of this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1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e first OE is expected to be accredited at the COP8          in October this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523880"/>
            <a:ext cx="8001000" cy="0"/>
          </a:xfrm>
          <a:prstGeom prst="line">
            <a:avLst/>
          </a:prstGeom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668680" cy="279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558720" y="38088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. Recent status of the Kyoto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06440" y="22860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4000" y="1905120"/>
            <a:ext cx="8439120" cy="57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7800" indent="-577800">
              <a:lnSpc>
                <a:spcPct val="14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e emission of GHG increased 8%(1990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4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chievability of the 6% reduction goal is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2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ven more important the promotion of domestic sink projects as well as of the Kyoto Mechanism overs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2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e Government established a new “Outline for Promotion of Efforts to Prevent Global Warm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2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e Forestry Agency established a “Ten year plan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2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est Sinks for Global Warming Pre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2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4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(1). Japan’ ratification and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523880"/>
            <a:ext cx="8001000" cy="0"/>
          </a:xfrm>
          <a:prstGeom prst="line">
            <a:avLst/>
          </a:prstGeom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668680" cy="27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558720" y="38088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2-(1). Japan’ ratification and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06440" y="22860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1905120"/>
            <a:ext cx="8439120" cy="51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7800" indent="-577800">
              <a:lnSpc>
                <a:spcPct val="12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 secure 3.9% of the 6% reduction goal from forests as sinks, developed a policy to promote sound forest management and efficient utilization of timb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2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Of the 6% reduction goal, 1.6% is expected from the utilization of the Kyoto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2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e necessity of more aggressive utilization of the Kyoto Mechanism instead of supplementary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2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ecently many companies from various fields of industries started concrete studies of JI and C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001000" cy="0"/>
          </a:xfrm>
          <a:prstGeom prst="line">
            <a:avLst/>
          </a:prstGeom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668680" cy="279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558720" y="38088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2-(2).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06440" y="22860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600200"/>
            <a:ext cx="9144000" cy="562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7800" indent="-57780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oncept and outline of RETR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4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e forestry agency of the Government has been promoting international forestry coord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imultaneously research and development are carried out by the collaboration industries, universities, and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e RETROF was established and legalised by the Forestry Agency in October 1991 and continued to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en research member compani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umitomo Forestry, Oji Paper, Toyota, Nissho Iwai, Komatsu and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esearch &amp; Activitie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lvicultural technique for native species.  Social fore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523880"/>
            <a:ext cx="8001000" cy="0"/>
          </a:xfrm>
          <a:prstGeom prst="line">
            <a:avLst/>
          </a:prstGeom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668680" cy="279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558720" y="38088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-304920"/>
            <a:ext cx="93092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06440" y="22860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752480"/>
            <a:ext cx="93726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7800" indent="-57780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Japanese overseas industrial plant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(mainly Pulp and Pap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2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Operate 320Mha, 31projects, in 9 countri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(as of Dec. 2001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Target 460M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1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ain species for pulp and paper industry are Eucalyptus, Aca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2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creased involvement of the energy, automobile industries in pla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@Ë appreciation to the future of the forest in absorb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523880"/>
            <a:ext cx="8001000" cy="0"/>
          </a:xfrm>
          <a:prstGeom prst="line">
            <a:avLst/>
          </a:prstGeom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668680" cy="279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558720" y="38088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3.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06440" y="22860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600" y="1676520"/>
            <a:ext cx="8915400" cy="55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7800" indent="-57780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ven Major committees and projects on JI, CDM sink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2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xperimental Project of Independent Certification of Measure on Sink Project (Forestry Ag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2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tudy on Evaluation Method of a Reforestation Project in Indonesia (Ministry of Environment/Sumitomo Fore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4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orking Group on Promotion of CDM/JI Forestation Project (Forestry Ag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5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esearch Project on Technical Guidelines of JI and CDM for Industrial Plantation Projects (JO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523880"/>
            <a:ext cx="8001000" cy="0"/>
          </a:xfrm>
          <a:prstGeom prst="line">
            <a:avLst/>
          </a:prstGeom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668680" cy="279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558720" y="38088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3.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06440" y="22860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2057400"/>
            <a:ext cx="88200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7800" indent="-577800">
              <a:lnSpc>
                <a:spcPct val="15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omestic sink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5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est area : 25.1 million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5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ligible for sink purpose : 17.5 million ha(70% of the total for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5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rticle 3.4 of Kyoto Protocol “forest managem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523880"/>
            <a:ext cx="8001000" cy="0"/>
          </a:xfrm>
          <a:prstGeom prst="line">
            <a:avLst/>
          </a:prstGeom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668680" cy="279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58720" y="38088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4-(1). Issues Japan facing on s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06440" y="22860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1752480"/>
            <a:ext cx="8591400" cy="48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7800" indent="-577800">
              <a:lnSpc>
                <a:spcPct val="14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absorption by private &amp; public 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4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rivate forest : 14.6 million ha(58% of total for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4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rivate forest owner should be given certain incentives for the 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absorption by their fo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60280">
              <a:lnSpc>
                <a:spcPct val="14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wnship of Shimokawacho in Hokkaido began to study selling in the overseas emissions trading market the 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absorption by the forest owned by the tow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523880"/>
            <a:ext cx="8001000" cy="0"/>
          </a:xfrm>
          <a:prstGeom prst="line">
            <a:avLst/>
          </a:prstGeom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668680" cy="279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58720" y="38088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4-(2).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î•ñƒVƒXƒeƒ€•”</dc:creator>
  <dc:description/>
  <dc:language>en-US</dc:language>
  <cp:lastModifiedBy>î•ñƒVƒXƒeƒ€•”</cp:lastModifiedBy>
  <cp:revision>0</cp:revision>
  <dc:subject/>
  <dc:title> </dc:title>
</cp:coreProperties>
</file>