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323-C2F2-4530-A13D-9A32C133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067-502C-444F-ACB4-AF450CF0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7A2-4848-4C33-8E4D-F3B59373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9EC-504F-4FBC-B2BA-2C637EA5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7DF-40F9-47F8-A1BE-FBD505C0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B96-86E9-422B-840F-91E72005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73A-3078-4CAD-95CA-A8755DB1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967-A8FB-4CF5-8D3E-F36A2544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FC8-DEA0-4A98-A79E-E9FD9542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930-A089-43EE-8757-DBAB60F5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B20-14EB-4A35-95E6-94D18F29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C30-48A3-45B8-B364-A76B66AC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36B7-B72B-4CA8-A1BF-700C42BD0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480" y="51814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4267080"/>
            <a:ext cx="634032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257800"/>
            <a:ext cx="64926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477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ategic PES in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ice Ruhweza &amp; Sam Muhum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ivate Katoomba Meeting, Ji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G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7 Sept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480" y="5715000"/>
            <a:ext cx="739800" cy="958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58000" y="5562720"/>
            <a:ext cx="205740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600200" y="6019920"/>
            <a:ext cx="94284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ps continued 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ation issues – what to pay for, how much, whom to pay, for how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ment of baselines and assessment of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can we fill the gap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and scientific knowledge transfer an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design - Practical case study projects/implementable and coordinated project sites from which lessons can be lear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 building for implementers and suppor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ting PES onto the private sector agenda is a real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erm partnerships between the innovators and the hosts of successful PES projects – backst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advocacy –governments to support establishment of PES projects as an option for achieving conservation &amp; poverty reduc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304920"/>
            <a:ext cx="8381880" cy="10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s of the Mwey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uild an understanding of PES and how it works especially in the context of rural develoment and con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haring experiences and lessons from around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uild communication channels between partners and across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evelop ountry strategies for investing in pro poor 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s expected from Mwey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ps inhibiting PES identified and actions for addressing them iden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d understanding of PES for all stakeholders – govt, private sector, civil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d interest in PES as a viable option to achieve conservation and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s of expert knowledge and information on PES iden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y strategies and actions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77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3808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hy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8360" y="2921040"/>
            <a:ext cx="866340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rica’s rural populations depend upon ecosystem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their livelih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0" y="1625760"/>
            <a:ext cx="91022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S can have a major role in PRSP’s &amp; national plans/MDG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311560"/>
            <a:ext cx="45943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wing private sector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4140360"/>
            <a:ext cx="7848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role of PES to restore degraded eco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5130720"/>
            <a:ext cx="62431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erous activities emerging around 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7600" y="6045120"/>
            <a:ext cx="5967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ormous interest from African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876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24280" y="12193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at have we do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44200" y="2057400"/>
            <a:ext cx="499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 &amp; Southern Africa wkg g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ountry planning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 Inventories on 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ase Studies in Uganda/field trip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ic planning wks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ntry Inven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ganda, Kenya &amp; South Africa prepared country inventories which covered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isting PES initiatives on carbon, water and bio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legisl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agencies and servic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dings -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s on carbon &amp; biodiversity (no water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y has exchanged hands in some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ly funded by Government/development partners- Some self organized private de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supporting legislation – NEA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lluter pays, beneficiary pays)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oral policies provide for economic incentives/Strong supporting agencies – NFA, NEMA, UWA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981080"/>
          <a:ext cx="7772400" cy="45435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GA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Y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bon &amp; BD pay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diversity Pay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 pm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e Gover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e private self organized de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bling legislation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bling legi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bling legi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dings -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N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st projects still in planning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stly self-organized private de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arbon – no payments /Water – no pay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odiversity – some payments in cash/others in ki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rong supporting legislation – NEM Act, Forest Bill, Water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rong supporting agencies-NEMA, Kenya Wildlife Service, etc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dings -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ments for watershe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 and biodiversity projects in planning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 projects rely on Govt and international community funding (buyers); Water deals are more privately orientated except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orking for wa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grammes that are funded by the Department of Water Affairs and Fore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ing legislation for water/biodiv &amp; carbon being strengthe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are the main gap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what payments are and how they can add value/fulfill overall govt &amp; business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/identifying the relevant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design - How to identify activities or land use practices needed to promote th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Information- linking sellers to buy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or no involvement of private se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policies and structures for PES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6:48:46Z</dcterms:created>
  <dc:creator>forest  trends</dc:creator>
  <dc:description/>
  <dc:language>en-US</dc:language>
  <cp:lastModifiedBy> </cp:lastModifiedBy>
  <dcterms:modified xsi:type="dcterms:W3CDTF">2007-07-25T18:38:49Z</dcterms:modified>
  <cp:revision>77</cp:revision>
  <dc:subject/>
  <dc:title>PowerPoint Presentation</dc:title>
</cp:coreProperties>
</file>