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CF56-21CA-43C7-B6F6-56A0C3BEB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03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7238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676520" y="3904920"/>
            <a:ext cx="7238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329D-CD72-4628-9FB5-3CE0E24A1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03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85960" y="167616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676520" y="390492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85960" y="390492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AB49-1613-462E-A847-A7F95198F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03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124160" y="167616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71800" y="167616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676520" y="390492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124160" y="390492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71800" y="390492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7E24-87FC-4741-BC53-AF5CAC77A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6BB4E-CC01-40D1-BAFA-6BAA15AA9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03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676520" y="1676160"/>
            <a:ext cx="72388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F6051-5DA6-4073-ABDB-7E6427617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03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7238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EA627-F8F3-4C18-ACAB-67E460DCD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03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3532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85960" y="1676160"/>
            <a:ext cx="3532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6C575-02AC-4F78-B0AB-D62DB9A17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03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80CA9-AC4B-49B3-879B-18F98AAB1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523880" y="380520"/>
            <a:ext cx="73915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30F75-FF12-4507-A36B-7A4F75E90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03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85960" y="1676160"/>
            <a:ext cx="3532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676520" y="390492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C931D-E441-4FB8-9703-682A615C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03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676520" y="1676160"/>
            <a:ext cx="72388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005E-B62C-4980-A07A-65E5056E9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03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3532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85960" y="167616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85960" y="390492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4FD83-2BE8-41F6-9E3E-FB5FF793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03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85960" y="167616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676520" y="3904920"/>
            <a:ext cx="7238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4DB65-F540-48E5-B18F-BC66459F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03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7238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676520" y="3904920"/>
            <a:ext cx="7238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5213A-5B1F-4D97-891F-8FA791382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03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85960" y="167616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676520" y="390492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85960" y="390492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A214A-C985-495D-BC11-278DFA798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03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124160" y="167616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71800" y="167616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676520" y="390492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4124160" y="390492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71800" y="390492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41507-BA86-4DC8-8565-6E272FA7A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03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7238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11C5-FB08-49B4-8EDE-F1D1B94B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03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3532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85960" y="1676160"/>
            <a:ext cx="3532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BD7D-1EB4-4A97-8E34-ADDEE291D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03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254B-B839-4E48-A459-8A99D8004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3880" y="380520"/>
            <a:ext cx="73915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FA54-B2FE-4014-A82B-F9EE71FB8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03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85960" y="1676160"/>
            <a:ext cx="3532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676520" y="390492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D2AF-DEEF-4EAF-8364-673064E9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03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3532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5960" y="167616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85960" y="390492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0D5A-B638-44AD-A2B0-36C18A12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03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85960" y="167616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676520" y="3904920"/>
            <a:ext cx="7238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0336-236C-4ACE-BD17-AF0EF731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1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b03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b03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AF30E-1222-4D9F-B187-031D40B584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676520" y="1676160"/>
            <a:ext cx="7238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b03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7409" t="0" r="38525" b="0"/>
          <a:stretch/>
        </p:blipFill>
        <p:spPr>
          <a:xfrm>
            <a:off x="0" y="0"/>
            <a:ext cx="137160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 rot="16200000">
            <a:off x="-1998360" y="2969640"/>
            <a:ext cx="53308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37160" anchor="ctr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Greenhouse G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152280"/>
            <a:ext cx="137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MISSIONS BROKERAGE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998j(tif)" descr=""/>
          <p:cNvPicPr/>
          <p:nvPr/>
        </p:nvPicPr>
        <p:blipFill>
          <a:blip r:embed="rId3"/>
          <a:stretch/>
        </p:blipFill>
        <p:spPr>
          <a:xfrm>
            <a:off x="4114800" y="6019920"/>
            <a:ext cx="1447920" cy="63324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0" y="6172200"/>
            <a:ext cx="13716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RKET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1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3880" y="380880"/>
            <a:ext cx="73915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b03d"/>
                </a:solidFill>
                <a:latin typeface="Arial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DA3ED-5673-4011-927D-8DFF0A6A2D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1676520"/>
            <a:ext cx="72388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b03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rcRect l="7409" t="0" r="38525" b="0"/>
          <a:stretch/>
        </p:blipFill>
        <p:spPr>
          <a:xfrm>
            <a:off x="0" y="0"/>
            <a:ext cx="13716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rot="16200000">
            <a:off x="-1998360" y="2969640"/>
            <a:ext cx="53308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37160" anchor="ctr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Greenhouse G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52280"/>
            <a:ext cx="137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MISSIONS BROKERAGE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998j(tif)" descr=""/>
          <p:cNvPicPr/>
          <p:nvPr/>
        </p:nvPicPr>
        <p:blipFill>
          <a:blip r:embed="rId3"/>
          <a:stretch/>
        </p:blipFill>
        <p:spPr>
          <a:xfrm>
            <a:off x="4114800" y="6019920"/>
            <a:ext cx="1447920" cy="633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6172200"/>
            <a:ext cx="13716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RKET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www.arttoday.com/PD-0031886/Main/signup/index?PRODUCT=AT_3D_TRI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s://www.arttoday.com/PD-0031886/Main/signup/index?PRODUCT=AT_3D_TRI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1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11430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b03d"/>
                </a:solidFill>
                <a:latin typeface="Arial"/>
              </a:rPr>
              <a:t>Introduction to the Carbon Emissions Trading Market</a:t>
            </a:r>
            <a:endParaRPr b="0" lang="en-US" sz="4000" spc="-1" strike="noStrike">
              <a:solidFill>
                <a:srgbClr val="ffb03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014280"/>
            <a:ext cx="7772400" cy="23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Co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SOURCE L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ed at Katoomba 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kyo, Jap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vember 5,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1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b03d"/>
                </a:solidFill>
                <a:latin typeface="Arial"/>
              </a:rPr>
              <a:t>Options for Meeting the 55% Threshold</a:t>
            </a:r>
            <a:endParaRPr b="0" lang="en-US" sz="2800" spc="-1" strike="noStrike">
              <a:solidFill>
                <a:srgbClr val="ffb03d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943600" y="6583320"/>
            <a:ext cx="350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UNFCCC as of Sept. 27,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057400" y="1143000"/>
            <a:ext cx="685800" cy="50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49560" y="5818320"/>
            <a:ext cx="522360" cy="379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149560" y="3749760"/>
            <a:ext cx="522360" cy="20685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149560" y="3022560"/>
            <a:ext cx="522360" cy="72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49560" y="1527120"/>
            <a:ext cx="522360" cy="1495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149560" y="1270080"/>
            <a:ext cx="522360" cy="2570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40680" y="5943600"/>
            <a:ext cx="1567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ther Annex 1 = 4.4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1040" y="464832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U = 24.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740680" y="3276720"/>
            <a:ext cx="965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apan = 8.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743200" y="2133720"/>
            <a:ext cx="1523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ussian Federation? = 17.4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742480" y="1295280"/>
            <a:ext cx="112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land? = 3.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523160" y="1371600"/>
            <a:ext cx="564120" cy="4913640"/>
            <a:chOff x="1523160" y="1371600"/>
            <a:chExt cx="564120" cy="4913640"/>
          </a:xfrm>
        </p:grpSpPr>
        <p:sp>
          <p:nvSpPr>
            <p:cNvPr id="188" name=""/>
            <p:cNvSpPr/>
            <p:nvPr/>
          </p:nvSpPr>
          <p:spPr>
            <a:xfrm>
              <a:off x="1904760" y="6172200"/>
              <a:ext cx="182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904760" y="5791320"/>
              <a:ext cx="182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04760" y="5334120"/>
              <a:ext cx="182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904760" y="4953240"/>
              <a:ext cx="182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904760" y="4496040"/>
              <a:ext cx="182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904760" y="4038840"/>
              <a:ext cx="182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904760" y="3657600"/>
              <a:ext cx="182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04760" y="3200400"/>
              <a:ext cx="182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904760" y="2743200"/>
              <a:ext cx="182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904760" y="2362320"/>
              <a:ext cx="182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904760" y="1905120"/>
              <a:ext cx="182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904760" y="1447920"/>
              <a:ext cx="1825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81080" y="1447920"/>
              <a:ext cx="4680" cy="4748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616760" y="61326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616760" y="57024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551600" y="5272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551600" y="48513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51600" y="44211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551600" y="39909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551600" y="35607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551600" y="31305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5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51600" y="27003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523880" y="2286000"/>
              <a:ext cx="268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5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523160" y="18288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23880" y="1371600"/>
              <a:ext cx="271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5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1828800" y="30481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705720" y="1143000"/>
            <a:ext cx="685800" cy="50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97520" y="3749760"/>
            <a:ext cx="522360" cy="20685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797520" y="3022560"/>
            <a:ext cx="522360" cy="72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797520" y="1527120"/>
            <a:ext cx="522360" cy="1495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797520" y="1219320"/>
            <a:ext cx="517680" cy="3078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389000" y="5943600"/>
            <a:ext cx="1567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ther Annex 1 = 4.4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89000" y="464832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U = 24.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389000" y="3276720"/>
            <a:ext cx="965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apan = 8.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391520" y="2133720"/>
            <a:ext cx="1523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ussian Federation? = 17.4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465320" y="1295280"/>
            <a:ext cx="116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nada? = 3.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6171480" y="1371600"/>
            <a:ext cx="564120" cy="4913640"/>
            <a:chOff x="6171480" y="1371600"/>
            <a:chExt cx="564120" cy="4913640"/>
          </a:xfrm>
        </p:grpSpPr>
        <p:sp>
          <p:nvSpPr>
            <p:cNvPr id="225" name=""/>
            <p:cNvSpPr/>
            <p:nvPr/>
          </p:nvSpPr>
          <p:spPr>
            <a:xfrm>
              <a:off x="6553080" y="6172200"/>
              <a:ext cx="182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553080" y="5791320"/>
              <a:ext cx="182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553080" y="5334120"/>
              <a:ext cx="182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553080" y="4953240"/>
              <a:ext cx="182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553080" y="4496040"/>
              <a:ext cx="182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553080" y="4038840"/>
              <a:ext cx="182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53080" y="3657600"/>
              <a:ext cx="182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553080" y="3200400"/>
              <a:ext cx="182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553080" y="2743200"/>
              <a:ext cx="182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553080" y="2362320"/>
              <a:ext cx="182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553080" y="1905120"/>
              <a:ext cx="182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553080" y="1447920"/>
              <a:ext cx="1825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629400" y="1447920"/>
              <a:ext cx="4680" cy="4748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265080" y="61326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265080" y="57024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99920" y="5272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199920" y="48513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199920" y="44211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199920" y="39909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199920" y="35607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199920" y="31305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5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199920" y="27003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172200" y="2286000"/>
              <a:ext cx="268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5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171480" y="18288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172200" y="1371600"/>
              <a:ext cx="271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5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477120" y="30481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038480" y="2819520"/>
            <a:ext cx="175284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nada and Poland have both indicated their intent to ratif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057400" y="594360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797520" y="5818320"/>
            <a:ext cx="522360" cy="379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705720" y="5943600"/>
            <a:ext cx="76176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1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47560" y="4568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b03d"/>
                </a:solidFill>
                <a:latin typeface="Arial"/>
              </a:rPr>
              <a:t>Kyoto Compliance Drives Demand and System Development</a:t>
            </a:r>
            <a:endParaRPr b="0" lang="en-US" sz="3400" spc="-1" strike="noStrike">
              <a:solidFill>
                <a:srgbClr val="ffb03d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676520" y="1904760"/>
            <a:ext cx="7238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b03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tional and regional systems under develop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b03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icy makers do not have benefit of clear international ru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b03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current policy development increases difficulty of harmonizing system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1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94920" y="304920"/>
            <a:ext cx="76964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b03d"/>
                </a:solidFill>
                <a:latin typeface="Arial"/>
              </a:rPr>
              <a:t>Early Market:</a:t>
            </a:r>
            <a:br>
              <a:rPr sz="4200"/>
            </a:br>
            <a:r>
              <a:rPr b="0" lang="en-US" sz="4200" spc="-1" strike="noStrike">
                <a:solidFill>
                  <a:srgbClr val="ffb03d"/>
                </a:solidFill>
                <a:latin typeface="Arial"/>
              </a:rPr>
              <a:t>Defining the Terms of Trade</a:t>
            </a:r>
            <a:endParaRPr b="0" lang="en-US" sz="4200" spc="-1" strike="noStrike">
              <a:solidFill>
                <a:srgbClr val="ffb03d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47560" y="167616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b03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government rules still in formation, participants define temporary ru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ture of tradable commod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icing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ability for non-perform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finition of basel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nitoring &amp; verification pl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b03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 government rules are set, market will confo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1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b03d"/>
                </a:solidFill>
                <a:latin typeface="Arial"/>
              </a:rPr>
              <a:t>Key Issues for International GHG Market</a:t>
            </a:r>
            <a:endParaRPr b="0" lang="en-US" sz="4200" spc="-1" strike="noStrike">
              <a:solidFill>
                <a:srgbClr val="ffb03d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7238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03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mestic system compat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international policy framework led to development of incompatible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s of economic and environmental benefits from fragmented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03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y and non-Party trading link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1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42640" y="129492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Arial"/>
              </a:rPr>
              <a:t>The Market(s)</a:t>
            </a:r>
            <a:br>
              <a:rPr sz="4800"/>
            </a:br>
            <a:endParaRPr b="0" lang="en-US" sz="4800" spc="-1" strike="noStrike">
              <a:solidFill>
                <a:srgbClr val="ffb03d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447920" y="2362320"/>
            <a:ext cx="74674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1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b03d"/>
                </a:solidFill>
                <a:latin typeface="Arial"/>
              </a:rPr>
              <a:t>Early Market: Attributes of  Transactions</a:t>
            </a:r>
            <a:endParaRPr b="0" lang="en-US" sz="4400" spc="-1" strike="noStrike">
              <a:solidFill>
                <a:srgbClr val="ffb03d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7238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b03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y market began to emerge after 1997 agreement in Kyo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b03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actions involv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ly stage “emission reduction”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evolved into “verified emissions reductions” (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rty review, higher credibil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2001, “candidate” CERs, ERUs and AAUs emerged in market termi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2001, actual GHG compliance instruments began trading in UK &amp; Denm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b03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er quality commands higher p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1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b03d"/>
                </a:solidFill>
                <a:latin typeface="Arial"/>
              </a:rPr>
              <a:t>Recent Market Activity</a:t>
            </a:r>
            <a:endParaRPr b="0" lang="en-US" sz="4400" spc="-1" strike="noStrike">
              <a:solidFill>
                <a:srgbClr val="ffb03d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523880" y="1486080"/>
            <a:ext cx="70106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b03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97 to June 2002 Estimated 200 mmt GHG Tra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b03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st 12 months most active in GHG market (compliance tools, VERS); 30 to 50 mmt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traded in last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b03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GHG trading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Pont - Mieco executed first GHG transaction of government-sanctioned instr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ction held to provide companies with funds to reduce emissions below a baseline; $305 million allocated, 4 mmt of reductions commit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roximately 20 trades have occurred and 100,000 to 200,000 allowances tra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b03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sh power sector cap &amp; trad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l cap on C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23 million tons in 2000 is reduced 1 million tons per year through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roximately 10 trades have occurred and 300,000 to 500,000 allowances tra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b03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swap of UK and Danish allowances brokered in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b03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aps of Danish allowances for VERs have occur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1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b03d"/>
                </a:solidFill>
                <a:latin typeface="Arial"/>
              </a:rPr>
              <a:t>GHG Market Is Evolving</a:t>
            </a:r>
            <a:endParaRPr b="0" lang="en-US" sz="4400" spc="-1" strike="noStrike">
              <a:solidFill>
                <a:srgbClr val="ffb03d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1981080" y="1148760"/>
            <a:ext cx="5722920" cy="4757040"/>
            <a:chOff x="1981080" y="1148760"/>
            <a:chExt cx="5722920" cy="4757040"/>
          </a:xfrm>
        </p:grpSpPr>
        <p:sp>
          <p:nvSpPr>
            <p:cNvPr id="269" name=""/>
            <p:cNvSpPr/>
            <p:nvPr/>
          </p:nvSpPr>
          <p:spPr>
            <a:xfrm>
              <a:off x="2362320" y="1239840"/>
              <a:ext cx="1514520" cy="110052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ustralia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S$208 million in government tenders for GHG reduc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189320" y="1148760"/>
              <a:ext cx="1532160" cy="110052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b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Kyoto Protocol: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rives Demand and System Develop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172200" y="1392120"/>
              <a:ext cx="1531800" cy="110052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nited Kingdom: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egan April 2002; Tax discount in exchange for reduction targ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095880" y="2840040"/>
              <a:ext cx="1532160" cy="12830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nmark: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HG cap in power sector, 2001-2003; Danish and UK allowances swapp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095880" y="4592520"/>
              <a:ext cx="1530360" cy="100512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uropean Union: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atified Kyoto Protocol; GHG trading system operational 20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267080" y="4516200"/>
              <a:ext cx="1532160" cy="137016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therlands: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chased $31 million in GHG reductions; 2 more tenders issued for JI and CDM-like reduc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981080" y="2687400"/>
              <a:ext cx="1532160" cy="146556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ther EU Countrie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lanning to implement domestic trading programs in 2005 in line with EU pl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362320" y="4440240"/>
              <a:ext cx="1530360" cy="146556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apan: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atified Kyoto Protocol; GHG trading simulations in 2002; implementation of domestic measu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7" name="" descr=""/>
            <p:cNvPicPr/>
            <p:nvPr/>
          </p:nvPicPr>
          <p:blipFill>
            <a:blip r:embed="rId1"/>
            <a:stretch/>
          </p:blipFill>
          <p:spPr>
            <a:xfrm>
              <a:off x="3809880" y="2382840"/>
              <a:ext cx="1906560" cy="2014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1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447920" y="457200"/>
            <a:ext cx="73911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b03d"/>
                </a:solidFill>
                <a:latin typeface="Arial"/>
              </a:rPr>
              <a:t>Recent Market Pricing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HG Prices by Commodity and Vintage (US$ per ton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584400" y="5181480"/>
            <a:ext cx="2306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ource:  Natsource, September 2002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676520" y="5410080"/>
            <a:ext cx="701028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TE: Prices of GHG commodities are difficult to estimate.  Prices are particularly difficult to estimate beyond 2012  because the international community will likely negotiate a new target for the Kyoto Protocol 2</a:t>
            </a:r>
            <a:r>
              <a:rPr b="0" lang="en-US" sz="11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commitment period and because U.S. action is still uncertai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1600200" y="1828800"/>
          <a:ext cx="7257960" cy="311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828800"/>
                    <a:ext cx="7257960" cy="31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1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Natsource Views</a:t>
            </a:r>
            <a:br>
              <a:rPr sz="4400"/>
            </a:br>
            <a:endParaRPr b="0" lang="en-US" sz="4400" spc="-1" strike="noStrike">
              <a:solidFill>
                <a:srgbClr val="ffb03d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523880" y="2057400"/>
            <a:ext cx="746784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1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b03d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ffb03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99840" y="18288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b03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source 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03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s of Emissions Tr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03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P Update and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03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03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source’s 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03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1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b03d"/>
                </a:solidFill>
                <a:latin typeface="Arial"/>
              </a:rPr>
              <a:t>GHG Price Expectations</a:t>
            </a:r>
            <a:endParaRPr b="0" lang="en-US" sz="4400" spc="-1" strike="noStrike">
              <a:solidFill>
                <a:srgbClr val="ffb03d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371240" y="1523880"/>
            <a:ext cx="7543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b03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Kyoto (2005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companies expect GHG prices from $3-5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: $2-10; median $5; mean $5.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60% predict $5 or 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b03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-Kyoto (2010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expect prices to be around $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: $1.74 to $30; median $10; mean $10.9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0% expect $10 or l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b03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se prices, most firms presu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yoto has entered into force by end 200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.S. does not join Kyoto, but adopts separate policies that create modest market demand for international redu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62760" y="6019920"/>
            <a:ext cx="216684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*  US$ per tonne CO</a:t>
            </a:r>
            <a:r>
              <a:rPr b="0" i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1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b03d"/>
                </a:solidFill>
                <a:latin typeface="Arial"/>
              </a:rPr>
              <a:t>Future GHG Price Expectations</a:t>
            </a:r>
            <a:endParaRPr b="0" lang="en-US" sz="4000" spc="-1" strike="noStrike">
              <a:solidFill>
                <a:srgbClr val="ffb03d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rcRect l="0" t="9253" r="0" b="0"/>
          <a:stretch/>
        </p:blipFill>
        <p:spPr>
          <a:xfrm>
            <a:off x="1346040" y="1371600"/>
            <a:ext cx="7797960" cy="484020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2"/>
          <a:srcRect l="0" t="9253" r="0" b="0"/>
          <a:stretch/>
        </p:blipFill>
        <p:spPr>
          <a:xfrm>
            <a:off x="1346040" y="1371600"/>
            <a:ext cx="779796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1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b03d"/>
                </a:solidFill>
                <a:latin typeface="Arial"/>
              </a:rPr>
              <a:t>Private sector price expectations</a:t>
            </a:r>
            <a:endParaRPr b="0" lang="en-US" sz="4000" spc="-1" strike="noStrike">
              <a:solidFill>
                <a:srgbClr val="ffb03d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1295280" y="1066680"/>
          <a:ext cx="7696440" cy="484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066680"/>
                    <a:ext cx="7696440" cy="48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1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23520" y="380880"/>
            <a:ext cx="72392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b03d"/>
                </a:solidFill>
                <a:latin typeface="Arial"/>
              </a:rPr>
              <a:t>Natsource Views:</a:t>
            </a:r>
            <a:br>
              <a:rPr sz="4400"/>
            </a:br>
            <a:r>
              <a:rPr b="0" lang="en-US" sz="3600" spc="-1" strike="noStrike">
                <a:solidFill>
                  <a:srgbClr val="ffb03d"/>
                </a:solidFill>
                <a:latin typeface="Arial"/>
              </a:rPr>
              <a:t>Market Characteristics 2002-2007</a:t>
            </a:r>
            <a:endParaRPr b="0" lang="en-US" sz="3600" spc="-1" strike="noStrike">
              <a:solidFill>
                <a:srgbClr val="ffb03d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447560" y="1752480"/>
            <a:ext cx="7467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b03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-level and EU trading schemes will continue to eme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b03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untary corporate initiatives intensif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b03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 influenced by a few large buyers (e.g., Dutch CDM &amp; JI program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b03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ly to see continued interest within Canada, Japan, the U.S. for V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b03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ually demand for VERs will shift to permits, as superior risk-hedg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1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b03d"/>
                </a:solidFill>
                <a:latin typeface="Arial"/>
              </a:rPr>
              <a:t>Natsource Estimates:  </a:t>
            </a:r>
            <a:br>
              <a:rPr sz="3900"/>
            </a:br>
            <a:r>
              <a:rPr b="0" lang="en-US" sz="3900" spc="-1" strike="noStrike">
                <a:solidFill>
                  <a:srgbClr val="ffb03d"/>
                </a:solidFill>
                <a:latin typeface="Arial"/>
              </a:rPr>
              <a:t>2002-2007 Prices</a:t>
            </a:r>
            <a:endParaRPr b="0" lang="en-US" sz="3900" spc="-1" strike="noStrike">
              <a:solidFill>
                <a:srgbClr val="ffb03d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676520" y="1752120"/>
            <a:ext cx="7238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b03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gmentation of markets is expected, producing regional pr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b03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ingle global permit price is lik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858000" y="40384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590920" y="3352680"/>
            <a:ext cx="4647960" cy="6098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: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ow $5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057400" y="64008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590920" y="5257800"/>
            <a:ext cx="4647960" cy="533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 (05-07)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$2.50-9.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590920" y="4648320"/>
            <a:ext cx="4647960" cy="533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mark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$4.80 or 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590920" y="4038480"/>
            <a:ext cx="4647960" cy="533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K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$15.00 or le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62760" y="6019920"/>
            <a:ext cx="216684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*  US$ per tonne CO</a:t>
            </a:r>
            <a:r>
              <a:rPr b="0" i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1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b03d"/>
                </a:solidFill>
                <a:latin typeface="Arial"/>
              </a:rPr>
              <a:t>Natsource Views:</a:t>
            </a:r>
            <a:br>
              <a:rPr sz="3900"/>
            </a:br>
            <a:r>
              <a:rPr b="0" lang="en-US" sz="3900" spc="-1" strike="noStrike">
                <a:solidFill>
                  <a:srgbClr val="ffb03d"/>
                </a:solidFill>
                <a:latin typeface="Arial"/>
              </a:rPr>
              <a:t>Market Characteristics 2008-12</a:t>
            </a:r>
            <a:endParaRPr b="0" lang="en-US" sz="3900" spc="-1" strike="noStrike">
              <a:solidFill>
                <a:srgbClr val="ffb03d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371600" y="182844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b03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yoto rules should eliminate most regulatory discrepancies between syste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d opportunity to seek low-cost redu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ssian/FSU permits will keep prices 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ssia should meet most minimum GHG inventory cri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competition will limit Russia’s ability to employ strategic anti-competitive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d regulatory certainty and demand will stimulate increased supply, limiting price ri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b03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arate U.S. policy is likely to appear, creating some international d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1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71240" y="68544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b03d"/>
                </a:solidFill>
                <a:latin typeface="Arial"/>
              </a:rPr>
              <a:t>Natsource Estimates:</a:t>
            </a:r>
            <a:br>
              <a:rPr sz="4400"/>
            </a:br>
            <a:r>
              <a:rPr b="0" lang="en-US" sz="4400" spc="-1" strike="noStrike">
                <a:solidFill>
                  <a:srgbClr val="ffb03d"/>
                </a:solidFill>
                <a:latin typeface="Arial"/>
              </a:rPr>
              <a:t>2008-2012 Prices</a:t>
            </a:r>
            <a:endParaRPr b="0" lang="en-US" sz="4400" spc="-1" strike="noStrike">
              <a:solidFill>
                <a:srgbClr val="ffb03d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599840" y="2133360"/>
            <a:ext cx="7543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b03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prices will eme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b03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al differences will na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828800" y="4343400"/>
            <a:ext cx="5486400" cy="6094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AAU/CER price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$5 - $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1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Arial"/>
              </a:rPr>
              <a:t>Questions</a:t>
            </a:r>
            <a:endParaRPr b="0" lang="en-US" sz="4800" spc="-1" strike="noStrike">
              <a:solidFill>
                <a:srgbClr val="ffb03d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447920" y="2286000"/>
            <a:ext cx="74674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1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685800" y="4572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03d"/>
                </a:solidFill>
                <a:latin typeface="Arial"/>
              </a:rPr>
              <a:t>For More Informatio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447920" y="1752480"/>
            <a:ext cx="746748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tsource Japan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elepho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5200.17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x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5200.3369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General&gt; Mitsunobu Takano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takano@natsourcejapan.co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Emissio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ding : Itsuho Haruta (haruta@natsourcejapan.co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visory : Norio Suzuki (suzuki@natsourcejapan.co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Power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uichiro Yanagida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yyanagida@natsourcejapan.co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Weather derivatives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kiko Yogo (yogo@natsourcejapan.co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209680" y="121932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www.natsourcejapan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1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Arial"/>
              </a:rPr>
              <a:t>Natsource Introduction</a:t>
            </a:r>
            <a:endParaRPr b="0" lang="en-US" sz="4800" spc="-1" strike="noStrike">
              <a:solidFill>
                <a:srgbClr val="ffb03d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2286000"/>
            <a:ext cx="74674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1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523880" y="457200"/>
            <a:ext cx="69343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b03d"/>
                </a:solidFill>
                <a:latin typeface="Arial"/>
              </a:rPr>
              <a:t>Natsource: At a Gl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b03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-the-Counter commodities brokerage 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b03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Re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gary, London, New York, Tokyo , Toronto, Oslo, Ottawa, Sydney , Washington D.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b03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 Energy and Environmental Brok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ted Top GHG Broker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nvironmental Financ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gazine Survey, 2000 &amp; 20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Broker of S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N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of Highest Volume US Natural Gas Brok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jor US Electricity Bro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b03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enhouse Gas (GHG) Advisory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b03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 base of over 600 major fi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ties, Power marketers and Produc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indust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vern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1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03d"/>
                </a:solidFill>
                <a:latin typeface="Arial"/>
              </a:rPr>
              <a:t>Organization in Jap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762120"/>
            <a:ext cx="739152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tsource Japan was established in May 2001, as a unique firm to  help companies deal with and take advantage of drastic change in the energy and environmental fiel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554120" y="1447920"/>
            <a:ext cx="7437240" cy="5181120"/>
            <a:chOff x="1554120" y="1447920"/>
            <a:chExt cx="7437240" cy="5181120"/>
          </a:xfrm>
        </p:grpSpPr>
        <p:sp>
          <p:nvSpPr>
            <p:cNvPr id="103" name=""/>
            <p:cNvSpPr/>
            <p:nvPr/>
          </p:nvSpPr>
          <p:spPr>
            <a:xfrm>
              <a:off x="4121640" y="5181480"/>
              <a:ext cx="2171520" cy="838440"/>
            </a:xfrm>
            <a:prstGeom prst="rect">
              <a:avLst/>
            </a:prstGeom>
            <a:solidFill>
              <a:srgbClr val="99cc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atsource Jap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okyo: Energy Product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Brok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121640" y="4038480"/>
              <a:ext cx="2171520" cy="8384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atsource LL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ew York: Energy Product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Brok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121640" y="2819520"/>
              <a:ext cx="2171520" cy="838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ullett &amp; Tokyo Liber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ondon: Financial Product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Brok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121640" y="1676520"/>
              <a:ext cx="2171520" cy="838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he Tokyo Tanshi Co.,Ltd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okyo:Financial Product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Brok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622200" y="1447920"/>
              <a:ext cx="2369160" cy="495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apital Increa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ndertaking Compan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smo Oil Co.,Ltd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eoscience&amp;Petroleum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nsulting Corpor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Kansai Environment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ngineering Center Co.,Ltd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izuho Securities Co.,Ltd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ippon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etroleum Refining Co.,Ltd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saka Gas Co.,Ltd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umitomo Cor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okyo Gas Co.,Ltd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okyo Sangyo Co.,Ltd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oyota Tsusho Cor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ullett &amp; Tokyo Liber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752480" y="1676520"/>
              <a:ext cx="2171520" cy="8380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itsubishi Corpor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okyo: Trading Compan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752480" y="2819520"/>
              <a:ext cx="2171520" cy="8380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itsubishi Internatio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ew Yor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0" name=""/>
            <p:cNvCxnSpPr>
              <a:stCxn id="108" idx="2"/>
              <a:endCxn id="109" idx="0"/>
            </p:cNvCxnSpPr>
            <p:nvPr/>
          </p:nvCxnSpPr>
          <p:spPr>
            <a:xfrm>
              <a:off x="2837880" y="2514240"/>
              <a:ext cx="1080" cy="3056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11" name=""/>
            <p:cNvCxnSpPr>
              <a:stCxn id="106" idx="2"/>
              <a:endCxn id="105" idx="0"/>
            </p:cNvCxnSpPr>
            <p:nvPr/>
          </p:nvCxnSpPr>
          <p:spPr>
            <a:xfrm>
              <a:off x="5207400" y="2514240"/>
              <a:ext cx="1080" cy="3056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12" name=""/>
            <p:cNvCxnSpPr>
              <a:stCxn id="105" idx="2"/>
              <a:endCxn id="104" idx="0"/>
            </p:cNvCxnSpPr>
            <p:nvPr/>
          </p:nvCxnSpPr>
          <p:spPr>
            <a:xfrm>
              <a:off x="5207400" y="3657600"/>
              <a:ext cx="1080" cy="3816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13" name=""/>
            <p:cNvCxnSpPr>
              <a:stCxn id="104" idx="2"/>
              <a:endCxn id="103" idx="0"/>
            </p:cNvCxnSpPr>
            <p:nvPr/>
          </p:nvCxnSpPr>
          <p:spPr>
            <a:xfrm>
              <a:off x="5207400" y="4876560"/>
              <a:ext cx="1080" cy="27684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114" name=""/>
            <p:cNvCxnSpPr>
              <a:stCxn id="106" idx="3"/>
              <a:endCxn id="103" idx="3"/>
            </p:cNvCxnSpPr>
            <p:nvPr/>
          </p:nvCxnSpPr>
          <p:spPr>
            <a:xfrm>
              <a:off x="6293520" y="2095200"/>
              <a:ext cx="25200" cy="3506040"/>
            </a:xfrm>
            <a:prstGeom prst="bentConnector3">
              <a:avLst>
                <a:gd name="adj1" fmla="val 800000"/>
              </a:avLst>
            </a:prstGeom>
            <a:ln w="1908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115" name=""/>
            <p:cNvCxnSpPr>
              <a:stCxn id="107" idx="2"/>
              <a:endCxn id="103" idx="2"/>
            </p:cNvCxnSpPr>
            <p:nvPr/>
          </p:nvCxnSpPr>
          <p:spPr>
            <a:xfrm flipV="1" rot="16200000">
              <a:off x="6330600" y="4924080"/>
              <a:ext cx="353160" cy="2599920"/>
            </a:xfrm>
            <a:prstGeom prst="bentConnector3">
              <a:avLst>
                <a:gd name="adj1" fmla="val -64795"/>
              </a:avLst>
            </a:prstGeom>
            <a:ln w="19080">
              <a:solidFill>
                <a:srgbClr val="0035a0"/>
              </a:solidFill>
              <a:miter/>
              <a:tailEnd len="med" type="arrow" w="med"/>
            </a:ln>
          </p:spPr>
        </p:cxnSp>
        <p:cxnSp>
          <p:nvCxnSpPr>
            <p:cNvPr id="116" name=""/>
            <p:cNvCxnSpPr>
              <a:stCxn id="108" idx="1"/>
              <a:endCxn id="104" idx="1"/>
            </p:cNvCxnSpPr>
            <p:nvPr/>
          </p:nvCxnSpPr>
          <p:spPr>
            <a:xfrm flipH="1" flipV="1" rot="10800000">
              <a:off x="1751400" y="2095200"/>
              <a:ext cx="2369880" cy="2363040"/>
            </a:xfrm>
            <a:prstGeom prst="bentConnector3">
              <a:avLst>
                <a:gd name="adj1" fmla="val -8325"/>
              </a:avLst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17" name=""/>
            <p:cNvCxnSpPr>
              <a:stCxn id="109" idx="2"/>
              <a:endCxn id="104" idx="1"/>
            </p:cNvCxnSpPr>
            <p:nvPr/>
          </p:nvCxnSpPr>
          <p:spPr>
            <a:xfrm flipH="1" rot="16200000">
              <a:off x="3079440" y="3415680"/>
              <a:ext cx="801000" cy="128376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18" name=""/>
            <p:cNvCxnSpPr>
              <a:stCxn id="108" idx="1"/>
              <a:endCxn id="103" idx="1"/>
            </p:cNvCxnSpPr>
            <p:nvPr/>
          </p:nvCxnSpPr>
          <p:spPr>
            <a:xfrm flipH="1" flipV="1" rot="10800000">
              <a:off x="1751040" y="2094480"/>
              <a:ext cx="2345040" cy="3506040"/>
            </a:xfrm>
            <a:prstGeom prst="bentConnector3">
              <a:avLst>
                <a:gd name="adj1" fmla="val -8413"/>
              </a:avLst>
            </a:prstGeom>
            <a:ln w="19080">
              <a:solidFill>
                <a:srgbClr val="ff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1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Arial"/>
              </a:rPr>
              <a:t>Basics of Emissions Trading</a:t>
            </a:r>
            <a:br>
              <a:rPr sz="4800"/>
            </a:br>
            <a:endParaRPr b="0" lang="en-US" sz="4800" spc="-1" strike="noStrike">
              <a:solidFill>
                <a:srgbClr val="ffb03d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2286000"/>
            <a:ext cx="74674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1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739152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b03d"/>
                </a:solidFill>
                <a:latin typeface="Arial"/>
              </a:rPr>
              <a:t>What Is Emissions Trading?</a:t>
            </a:r>
            <a:br>
              <a:rPr sz="4400"/>
            </a:br>
            <a:endParaRPr b="0" lang="en-US" sz="4400" spc="-1" strike="noStrike">
              <a:solidFill>
                <a:srgbClr val="ffb03d"/>
              </a:solidFill>
              <a:latin typeface="Arial"/>
            </a:endParaRPr>
          </a:p>
        </p:txBody>
      </p:sp>
      <p:pic>
        <p:nvPicPr>
          <p:cNvPr id="122" name="194tz.thm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3124080"/>
            <a:ext cx="1676520" cy="271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371600" y="137160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options are most cost-effectiv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95280" y="1828800"/>
            <a:ext cx="27432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ny A can reduce 1000 tons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 at $2/ton = $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194tz.thm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238880" y="3124080"/>
            <a:ext cx="1676520" cy="271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526080" y="1828800"/>
            <a:ext cx="261792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ny B can reduce 1000 tons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 at $6/ton = $6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92400" y="586728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ny A - Se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904440" y="5867280"/>
            <a:ext cx="224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ny B - Bu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06920" y="4114800"/>
            <a:ext cx="28191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27f"/>
                </a:solidFill>
                <a:latin typeface="Times New Roman"/>
              </a:rPr>
              <a:t>1000 tons CO</a:t>
            </a:r>
            <a:r>
              <a:rPr b="0" lang="en-US" sz="2000" spc="-1" strike="noStrike" baseline="-25000">
                <a:solidFill>
                  <a:srgbClr val="00827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827f"/>
                </a:solidFill>
                <a:latin typeface="Times New Roman"/>
              </a:rPr>
              <a:t>E at $4/ton = $4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49720" y="33526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68880" y="33526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49720" y="54100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2000 Prof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83080" y="541008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2000 Sav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82880" y="3809880"/>
            <a:ext cx="457200" cy="304920"/>
          </a:xfrm>
          <a:prstGeom prst="line">
            <a:avLst/>
          </a:prstGeom>
          <a:ln w="38160">
            <a:solidFill>
              <a:srgbClr val="ffb03d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992920" y="3809880"/>
            <a:ext cx="457200" cy="304920"/>
          </a:xfrm>
          <a:prstGeom prst="line">
            <a:avLst/>
          </a:prstGeom>
          <a:ln w="38160">
            <a:solidFill>
              <a:srgbClr val="ffb03d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535720" y="4876920"/>
            <a:ext cx="609480" cy="457200"/>
          </a:xfrm>
          <a:prstGeom prst="line">
            <a:avLst/>
          </a:prstGeom>
          <a:ln w="38160">
            <a:solidFill>
              <a:srgbClr val="ffb03d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4011480" y="4876920"/>
            <a:ext cx="609840" cy="457200"/>
          </a:xfrm>
          <a:prstGeom prst="line">
            <a:avLst/>
          </a:prstGeom>
          <a:ln w="38160">
            <a:solidFill>
              <a:srgbClr val="ffb03d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1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1447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Arial"/>
              </a:rPr>
              <a:t>KP Update &amp; </a:t>
            </a:r>
            <a:br>
              <a:rPr sz="4800"/>
            </a:br>
            <a:r>
              <a:rPr b="0" lang="en-US" sz="4800" spc="-1" strike="noStrike">
                <a:solidFill>
                  <a:srgbClr val="ff9900"/>
                </a:solidFill>
                <a:latin typeface="Arial"/>
              </a:rPr>
              <a:t>Overview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ffb03d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447920" y="2286000"/>
            <a:ext cx="74674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1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b03d"/>
                </a:solidFill>
                <a:latin typeface="Arial"/>
              </a:rPr>
              <a:t>95 Countries Have Ratified</a:t>
            </a:r>
            <a:endParaRPr b="0" lang="en-US" sz="3600" spc="-1" strike="noStrike">
              <a:solidFill>
                <a:srgbClr val="ffb03d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90920" y="129528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437920" y="6324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95480" y="1523880"/>
            <a:ext cx="457200" cy="3657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4952880"/>
            <a:ext cx="457200" cy="1371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437920" y="57913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7920" y="52578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43792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437920" y="38098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2437920" y="32767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437920" y="12952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2437920" y="1752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2437920" y="2286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437920" y="28195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437920" y="47242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2437920" y="350532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352680" y="55627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nex 1 (2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4191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Annex 1 (7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81080" y="114300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057400" y="335268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57400" y="160020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57400" y="213372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057400" y="266688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057400" y="312408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365760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57400" y="411480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57400" y="457200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57400" y="510552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57400" y="563868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57400" y="617220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05320" y="327672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Total: 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95880" y="59436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: UNFCCC as of September 27,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553080" y="1752480"/>
            <a:ext cx="198144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5 Parties Needed to Ratif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5% of Annex 1 Party 1990 CO2 Emiss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9520" y="6172200"/>
            <a:ext cx="609480" cy="5335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ck D. Cogen</dc:creator>
  <dc:description>Katoomba V Presentation - Simple example of a trade, Kyoto update, market prices</dc:description>
  <cp:keywords>CO2 Emissions Trading Kyoto Protocol</cp:keywords>
  <dc:language>en-US</dc:language>
  <cp:lastModifiedBy>Jack Cogen</cp:lastModifiedBy>
  <cp:lastPrinted>2002-01-02T19:03:08Z</cp:lastPrinted>
  <dcterms:modified xsi:type="dcterms:W3CDTF">2002-11-04T21:35:12Z</dcterms:modified>
  <cp:revision>152</cp:revision>
  <dc:subject>CO2 Trading and Kyoto Protocol</dc:subject>
  <dc:title>Introduction to Carbon Emissions Trading</dc:title>
</cp:coreProperties>
</file>