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BCB4-E021-4C61-93BE-89318DF41F9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CCA0-9C92-4845-8198-28055730983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EC8-5CFF-4E5B-9DD2-76293C05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D570-DB47-4EEC-A90D-6227448B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86F-DEAB-40BC-9B98-4F70BB0E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CDC-D24B-4D8D-AA6E-1C30DFCD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FED-8B35-427B-B0E4-D30D88F9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6EC-0639-4696-A861-D7FE46D3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DBC-373B-4F3F-A46E-454B7601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F0A-805C-4CFD-940F-D60795B5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D15-AF4D-4B67-856E-594BC8B9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70C-CA7A-4FDA-9927-D8466FCD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6A3-C4B7-42B4-BF8E-6192A306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829-A259-4B2D-AAA2-CC2CB081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7B59-738D-4461-BE3F-509D21CFA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RI within a Japane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Instit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Tadashi Hay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sahi Life Asset Management Co., L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35812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KATOOMBA 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6th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Commi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anaging ASUNOHANE F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Supporting 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SRI Lounge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0360" y="3580200"/>
            <a:ext cx="29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Third Party Research Firm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Investment Process in Asunoh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09480" y="1371600"/>
            <a:ext cx="8305920" cy="5336640"/>
            <a:chOff x="609480" y="1371600"/>
            <a:chExt cx="8305920" cy="5336640"/>
          </a:xfrm>
        </p:grpSpPr>
        <p:sp>
          <p:nvSpPr>
            <p:cNvPr id="56" name=""/>
            <p:cNvSpPr/>
            <p:nvPr/>
          </p:nvSpPr>
          <p:spPr>
            <a:xfrm>
              <a:off x="609480" y="1371600"/>
              <a:ext cx="4648320" cy="914400"/>
            </a:xfrm>
            <a:prstGeom prst="horizontalScrol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Listed Companies on Japane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Stock Market (approx. 350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480" y="2590920"/>
              <a:ext cx="4572000" cy="914400"/>
            </a:xfrm>
            <a:prstGeom prst="horizontalScrol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p 700’s by Market Cap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9480" y="3886200"/>
              <a:ext cx="4572000" cy="914400"/>
            </a:xfrm>
            <a:prstGeom prst="horizontalScrol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vestment Universe 300 stoc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286000"/>
              <a:ext cx="4874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95480" y="3505320"/>
              <a:ext cx="4874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4800600"/>
              <a:ext cx="4874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10080" y="2133720"/>
              <a:ext cx="3505320" cy="1922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ree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mploy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umer Re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munity Involv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86400" y="4419720"/>
              <a:ext cx="3429000" cy="167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al Dec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aluate CSR &amp; Strate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arnings &amp; Cash Fl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l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581280" y="37339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581280" y="5029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58480" y="4799520"/>
              <a:ext cx="16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d Manager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80" y="5181480"/>
              <a:ext cx="4648320" cy="914400"/>
            </a:xfrm>
            <a:prstGeom prst="horizontalScrol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nal Portfolio 50-100 stoc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894760" y="6095880"/>
              <a:ext cx="838440" cy="457200"/>
            </a:xfrm>
            <a:custGeom>
              <a:avLst/>
              <a:gdLst>
                <a:gd name="textAreaLeft" fmla="*/ 279360 w 838440"/>
                <a:gd name="textAreaRight" fmla="*/ 718200 w 838440"/>
                <a:gd name="textAreaTop" fmla="*/ 263520 h 457200"/>
                <a:gd name="textAreaBottom" fmla="*/ 391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9880" y="62485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sk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457200"/>
            <a:ext cx="693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572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09480" y="1447920"/>
            <a:ext cx="8000640" cy="4952880"/>
            <a:chOff x="609480" y="1447920"/>
            <a:chExt cx="8000640" cy="4952880"/>
          </a:xfrm>
        </p:grpSpPr>
        <p:sp>
          <p:nvSpPr>
            <p:cNvPr id="73" name=""/>
            <p:cNvSpPr/>
            <p:nvPr/>
          </p:nvSpPr>
          <p:spPr>
            <a:xfrm>
              <a:off x="1981080" y="1447920"/>
              <a:ext cx="6019920" cy="4419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86200" y="3048120"/>
              <a:ext cx="2209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19520" y="4648320"/>
              <a:ext cx="4343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38480" y="20574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1120" y="24382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ssion &amp; V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95680" y="3200400"/>
              <a:ext cx="1676520" cy="76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ponsi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3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29000" y="3733920"/>
              <a:ext cx="1828800" cy="98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petitiv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14800" y="3352680"/>
              <a:ext cx="380880" cy="381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5257800" y="4037760"/>
              <a:ext cx="380880" cy="30492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3657600" y="5105520"/>
              <a:ext cx="2733840" cy="428400"/>
              <a:chOff x="3657600" y="5105520"/>
              <a:chExt cx="2733840" cy="428400"/>
            </a:xfrm>
          </p:grpSpPr>
          <p:sp>
            <p:nvSpPr>
              <p:cNvPr id="83" name=""/>
              <p:cNvSpPr/>
              <p:nvPr/>
            </p:nvSpPr>
            <p:spPr>
              <a:xfrm>
                <a:off x="3657600" y="5105520"/>
                <a:ext cx="600120" cy="4284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191120" y="5105520"/>
                <a:ext cx="601560" cy="428400"/>
              </a:xfrm>
              <a:custGeom>
                <a:avLst/>
                <a:gdLst>
                  <a:gd name="textAreaLeft" fmla="*/ 0 w 601560"/>
                  <a:gd name="textAreaRight" fmla="*/ 601920 w 60156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24640" y="5105520"/>
                <a:ext cx="600120" cy="4284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257800" y="5105520"/>
                <a:ext cx="600120" cy="4284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91320" y="5105520"/>
                <a:ext cx="600120" cy="4284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2362320" y="5105160"/>
              <a:ext cx="135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ue Ch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2480" y="4647240"/>
              <a:ext cx="16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38680" y="4647240"/>
              <a:ext cx="187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su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84600" y="548532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mploy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62720" y="5485320"/>
              <a:ext cx="232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53080" y="51051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f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480" y="3276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rategy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819160" y="3048120"/>
              <a:ext cx="1066680" cy="1600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95880" y="3048120"/>
              <a:ext cx="1067040" cy="1600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48520" y="2666880"/>
              <a:ext cx="1066680" cy="1219320"/>
            </a:xfrm>
            <a:custGeom>
              <a:avLst/>
              <a:gdLst>
                <a:gd name="textAreaLeft" fmla="*/ 142920 w 1066680"/>
                <a:gd name="textAreaRight" fmla="*/ 923760 w 1066680"/>
                <a:gd name="textAreaTop" fmla="*/ 213120 h 1219320"/>
                <a:gd name="textAreaBottom" fmla="*/ 8841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480" y="49528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peration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162200" y="4267080"/>
              <a:ext cx="1447560" cy="1219320"/>
            </a:xfrm>
            <a:custGeom>
              <a:avLst/>
              <a:gdLst>
                <a:gd name="textAreaLeft" fmla="*/ 193680 w 1447560"/>
                <a:gd name="textAreaRight" fmla="*/ 1253880 w 1447560"/>
                <a:gd name="textAreaTop" fmla="*/ 213120 h 1219320"/>
                <a:gd name="textAreaBottom" fmla="*/ 8841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05320" y="6019920"/>
              <a:ext cx="2971800" cy="380880"/>
            </a:xfrm>
            <a:prstGeom prst="leftRightArrow">
              <a:avLst>
                <a:gd name="adj1" fmla="val 50000"/>
                <a:gd name="adj2" fmla="val 1553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80" y="17524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cept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 and Philoso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-term Capital Growth Investing in Sustainable Compan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 Stakeholder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porate Social Leadersh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10:45:58Z</dcterms:created>
  <dc:creator>hym_nt</dc:creator>
  <dc:description/>
  <dc:language>en-US</dc:language>
  <cp:lastModifiedBy>hym_nt</cp:lastModifiedBy>
  <cp:lastPrinted>2002-10-28T09:10:37Z</cp:lastPrinted>
  <dcterms:modified xsi:type="dcterms:W3CDTF">2002-11-04T23:31:45Z</dcterms:modified>
  <cp:revision>17</cp:revision>
  <dc:subject/>
  <dc:title> 投資プロセスにおける                社会貢献度の役割</dc:title>
</cp:coreProperties>
</file>