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D7E-F8B8-4BF9-9D0C-B61669E5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1BE-C69A-49C3-BED1-283A2FF1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7AD-B243-4600-8F94-C9C2A1D1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150-7A7A-42AA-B750-2820650B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8EC1-E254-41CA-B709-81EF4978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E4D9-7CCC-405B-9FA9-1303E325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FFF5-A7E2-4F51-8702-E81A0A99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99F7-37CE-483D-B1CF-E6C64C8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7EE3-A201-4500-B145-B145CF7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A8FB-D4B6-44AD-862A-46B67BD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4AAF-E14C-4F29-9AEA-152B4CC5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61B-4198-4832-BD72-69D9EF96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A099-21BC-4ADE-921F-58818699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5D2C-19FD-4A9A-9E81-669F6A31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4F7D-FDBE-4DAF-9759-AC230FB9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4829-0566-4F33-A227-58E4D674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0B70-BAC0-4E9A-A342-8D15DEFA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FFF-E143-4EBB-B340-C35AEE0E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047-E55E-4468-AE57-F582DEF0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5D0-81E2-46C0-B09A-7B1F1331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A52-BBC7-4E43-9BDF-AFABA87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268-B931-4F35-9B03-BC57BBF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6E6-FEF9-4A54-9BC0-9AAF9715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5A1-0B95-48A9-9BBA-880896F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7621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7621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35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1844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1113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094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4446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48F5-3873-470C-A1CB-DDB774842998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64F5-C4A0-47BC-A104-187AAE0ADE9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ATOOMBA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The Future of SRI in Japa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NOVEMBER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iichiro Adach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enior Researche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he Japanese Research Institute, Lim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future of SRI in Japa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I in Japan will expand into the following categories soo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holder Eng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ors can use their status as shareholders to improve a company’s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Inves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ing a particular sustainable project or activity by financing it by investment or lo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838520" y="5794200"/>
            <a:ext cx="5933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ing on the attractive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0" y="5334120"/>
            <a:ext cx="533520" cy="380880"/>
          </a:xfrm>
          <a:prstGeom prst="downArrow">
            <a:avLst>
              <a:gd name="adj1" fmla="val 55361"/>
              <a:gd name="adj2" fmla="val 5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ome evidences related to this move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mmunity investment fund could establish a wind-power plant in Hokka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ome Japanese companies have already started to invest in the afforestation pro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he World Bank's Prototype Carbon Fund is supported by several Japanese compan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are the attractive projects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4095360" y="3200400"/>
            <a:ext cx="4807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environment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1905120"/>
            <a:ext cx="304920" cy="3809880"/>
          </a:xfrm>
          <a:custGeom>
            <a:avLst/>
            <a:gdLst>
              <a:gd name="textAreaLeft" fmla="*/ 0 w 304920"/>
              <a:gd name="textAreaRight" fmla="*/ 110160 w 30492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vestment in forests / Japanese perspecti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I in Japan is still in the gray of the daybreak and not headed for the investment in forests. However I believe the sustainable and responsible money in Japan will flow into this kind of investment in near fu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For more details and contac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el; +81(3)3288 46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-mail; adachi@ird.jri.co.j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pan has only a short history of SRI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contrast with US and Europe, Japanese religious groups and private schools have not been  really interested in stock investm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keholders such as consumer groups, trade unions and other activists have had less influence comparative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on August 20, 1999, the first Eco-fund was launched in Jap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did “Eco-fund” first start as a SRI product in Japan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o-fund” is a mutual fund which invests companies screened from environmental asp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it was a </a:t>
            </a:r>
            <a:r>
              <a:rPr b="0" lang="en-US" sz="2800" spc="-1" strike="noStrike">
                <a:solidFill>
                  <a:srgbClr val="333333"/>
                </a:solidFill>
                <a:latin typeface="Tahoma"/>
                <a:ea typeface="Arial"/>
              </a:rPr>
              <a:t>foreign-made concept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in Japan have been conscious about environmental issues, because of serious environmental pollution during the 1970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nies also came to understand that  good environmental performance can enhance their own credibility in the competitive mar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t is easy for Japanese to understand the concept “Eco-efficiency”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o-efficiency” means combining economical and environmental efficie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nvironmental efficiency pays on business in the following contex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ing materials and energy means saving c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consciousness can avoid the future c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n products contribute the growth of busin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wing number of companies now recognize that eco-efficient practices are very important as their corporate strateg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858960" y="1720800"/>
            <a:ext cx="7961760" cy="4224600"/>
            <a:chOff x="858960" y="1720800"/>
            <a:chExt cx="7961760" cy="4224600"/>
          </a:xfrm>
        </p:grpSpPr>
        <p:sp>
          <p:nvSpPr>
            <p:cNvPr id="108" name=""/>
            <p:cNvSpPr/>
            <p:nvPr/>
          </p:nvSpPr>
          <p:spPr>
            <a:xfrm>
              <a:off x="6800400" y="173664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t asse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72000" y="173664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t asse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05560" y="1882800"/>
              <a:ext cx="36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8240" y="1882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4280" y="1897200"/>
              <a:ext cx="53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cep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12920" y="1882800"/>
              <a:ext cx="60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cree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7120" y="188280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ce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7160" y="191304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ue (Y mil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8720" y="188280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ce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68760" y="191304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ue (Y mil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9040" y="23209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Nikk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2640" y="2243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Nikk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2280" y="239868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Ecofu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6280" y="224316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omes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7000" y="239868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29800" y="232092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20 Aug 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0840" y="232092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9520" y="23860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6,7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27560" y="23860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68,7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91120" y="23860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5,4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99160" y="23860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46,6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7240" y="2641680"/>
              <a:ext cx="75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Sompo Jap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51720" y="264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46280" y="256212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omes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47000" y="27176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9080" y="264168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30 Sep 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0840" y="264168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19520" y="2705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7,1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05320" y="2705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3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91120" y="2705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6,5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76920" y="2705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7,9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760" y="296064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IA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51720" y="2960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46280" y="287964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omes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7000" y="303696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0880" y="29606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29 Oct 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80840" y="296064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19520" y="30225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6,6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05320" y="30225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9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91120" y="30225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5,6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76920" y="30225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7,0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0480" y="3279600"/>
              <a:ext cx="27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B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51720" y="32796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46280" y="319896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omes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7000" y="335448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30880" y="327960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29 Oct 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0840" y="327960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19520" y="33415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6,9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05320" y="33415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5,3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91120" y="33415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5,9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6920" y="33415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4,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9760" y="35971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FJ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1720" y="3597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46280" y="351792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omes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47000" y="36734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3597120"/>
              <a:ext cx="5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28 Jan 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0840" y="359712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9520" y="36608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5,7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05320" y="36608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4,1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91120" y="36608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4,8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6920" y="36608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3,2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7240" y="390852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sahi Lif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1720" y="3908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6280" y="381780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omes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7000" y="397368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9080" y="390852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28 Sep 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78320" y="3855960"/>
              <a:ext cx="1261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nvironment, employment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77960" y="3984480"/>
              <a:ext cx="136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nsumer, social contribu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19520" y="39607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0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05320" y="39607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0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91120" y="39607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6,7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76920" y="39607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4,8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6160" y="4152960"/>
              <a:ext cx="89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itsui Sumitom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8680" y="4295880"/>
              <a:ext cx="73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surance 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51720" y="42163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46280" y="413532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omes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47000" y="429264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alanc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0880" y="42163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31 Oct 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38000" y="4140360"/>
              <a:ext cx="127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 </a:t>
              </a:r>
              <a:r>
                <a:rPr b="0" lang="zh-CN" sz="11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lob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8520" y="429588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arming</a:t>
              </a:r>
              <a:r>
                <a:rPr b="0" lang="zh-CN" sz="11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9520" y="427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7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05320" y="427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1,2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91120" y="427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8,3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76920" y="427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1,2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9040" y="45356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Nikk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62640" y="44546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Nikk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63000" y="4610160"/>
              <a:ext cx="47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lobe 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47720" y="44546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lob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7000" y="461016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28360" y="453564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17 Nov 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80120" y="4457880"/>
              <a:ext cx="973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conomy, social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0120" y="4613400"/>
              <a:ext cx="71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9520" y="45975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7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05320" y="45975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4,1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91120" y="45975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7,4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76920" y="45975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2,1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9040" y="4853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Nikk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62640" y="47736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Nikk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63000" y="4929120"/>
              <a:ext cx="47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lobe 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47720" y="47736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lob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7000" y="492912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28360" y="4853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17 Nov 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79760" y="4776840"/>
              <a:ext cx="104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conomy, society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0120" y="4932360"/>
              <a:ext cx="71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9520" y="49150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7,3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05320" y="49150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2,2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1120" y="49150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5,8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76920" y="49150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1,2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9760" y="5094360"/>
              <a:ext cx="57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aiwa S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5080" y="5251320"/>
              <a:ext cx="68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vest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68400" y="509112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Ｍｒ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54000" y="524844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Green </a:t>
              </a: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Ａ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47720" y="509112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lob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47000" y="52484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97040" y="517212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15 June 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80840" y="517212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9520" y="5234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5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05320" y="5234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1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91120" y="5234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6,9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76920" y="5234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3,1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760" y="5416560"/>
              <a:ext cx="57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aiwa S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5080" y="5572080"/>
              <a:ext cx="68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vest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68400" y="540396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Ｍｒ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57960" y="555948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Green </a:t>
              </a: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Ｂ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47720" y="540396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lob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47000" y="555948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qu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97040" y="549432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Times New Roman"/>
                </a:rPr>
                <a:t>15 June 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80840" y="549432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19520" y="55468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8,8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27560" y="55468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14,0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91120" y="55468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7,6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76920" y="55468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5,2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74440" y="57625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38640" y="576252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133,5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46040" y="57625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10240" y="576252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86,7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4120" y="203832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(31 Oct 0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85720" y="203832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(18 Oct 0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02360" y="2049480"/>
              <a:ext cx="1344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2360" y="2049480"/>
              <a:ext cx="13446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32040" y="1720800"/>
              <a:ext cx="1440" cy="48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32040" y="1720800"/>
              <a:ext cx="14400" cy="48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7840" y="1720800"/>
              <a:ext cx="1440" cy="48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7840" y="1720800"/>
              <a:ext cx="14400" cy="48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3480" y="1720800"/>
              <a:ext cx="1440" cy="48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73480" y="1720800"/>
              <a:ext cx="12600" cy="48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52760" y="1720800"/>
              <a:ext cx="1800" cy="48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52760" y="1720800"/>
              <a:ext cx="12960" cy="48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8960" y="2544840"/>
              <a:ext cx="521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8960" y="2544840"/>
              <a:ext cx="5216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5360" y="1720800"/>
              <a:ext cx="27000" cy="48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75560" y="1720800"/>
              <a:ext cx="1440" cy="33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75560" y="1720800"/>
              <a:ext cx="1440" cy="33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75560" y="2246400"/>
              <a:ext cx="1440" cy="29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75560" y="2246400"/>
              <a:ext cx="1440" cy="29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02360" y="2544840"/>
              <a:ext cx="1344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02360" y="2544840"/>
              <a:ext cx="1344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46960" y="1720800"/>
              <a:ext cx="27000" cy="48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47160" y="1720800"/>
              <a:ext cx="1440" cy="33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47160" y="1720800"/>
              <a:ext cx="1440" cy="33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47160" y="2246400"/>
              <a:ext cx="1440" cy="29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47160" y="2246400"/>
              <a:ext cx="1440" cy="29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8960" y="2863800"/>
              <a:ext cx="521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8960" y="2863800"/>
              <a:ext cx="52164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75560" y="255888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75560" y="2558880"/>
              <a:ext cx="144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02360" y="2863800"/>
              <a:ext cx="134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02360" y="2863800"/>
              <a:ext cx="1344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47160" y="255888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47160" y="2558880"/>
              <a:ext cx="144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8960" y="3182760"/>
              <a:ext cx="521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8960" y="3182760"/>
              <a:ext cx="5216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5560" y="2876400"/>
              <a:ext cx="1440" cy="30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5560" y="2876400"/>
              <a:ext cx="1440" cy="30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02360" y="3182760"/>
              <a:ext cx="134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02360" y="3182760"/>
              <a:ext cx="1344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47160" y="2876400"/>
              <a:ext cx="1440" cy="30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47160" y="2876400"/>
              <a:ext cx="1440" cy="30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8960" y="3500280"/>
              <a:ext cx="521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8960" y="3500280"/>
              <a:ext cx="5216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5560" y="3195720"/>
              <a:ext cx="1440" cy="30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5560" y="3195720"/>
              <a:ext cx="1440" cy="30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02360" y="3500280"/>
              <a:ext cx="134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02360" y="3500280"/>
              <a:ext cx="1344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47160" y="3195720"/>
              <a:ext cx="1440" cy="30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47160" y="3195720"/>
              <a:ext cx="1440" cy="30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58960" y="3819600"/>
              <a:ext cx="521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8960" y="3819600"/>
              <a:ext cx="52164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75560" y="351468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75560" y="3514680"/>
              <a:ext cx="144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2360" y="3819600"/>
              <a:ext cx="1344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02360" y="3819600"/>
              <a:ext cx="1344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47160" y="351468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47160" y="3514680"/>
              <a:ext cx="144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8960" y="4119480"/>
              <a:ext cx="521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8960" y="4119480"/>
              <a:ext cx="5216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75560" y="3832200"/>
              <a:ext cx="1440" cy="28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75560" y="3832200"/>
              <a:ext cx="144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02360" y="4119480"/>
              <a:ext cx="134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02360" y="4119480"/>
              <a:ext cx="1344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8147160" y="3832200"/>
            <a:ext cx="1440" cy="28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47160" y="3832200"/>
            <a:ext cx="14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8960" y="4438800"/>
            <a:ext cx="521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58960" y="4438800"/>
            <a:ext cx="52164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75560" y="4132440"/>
            <a:ext cx="1440" cy="30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75560" y="4132440"/>
            <a:ext cx="144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02360" y="443880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02360" y="4438800"/>
            <a:ext cx="1344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47160" y="4132440"/>
            <a:ext cx="1440" cy="30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147160" y="4132440"/>
            <a:ext cx="144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8960" y="4756320"/>
            <a:ext cx="521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58960" y="4756320"/>
            <a:ext cx="52164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75560" y="4451400"/>
            <a:ext cx="1440" cy="30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75560" y="4451400"/>
            <a:ext cx="144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02360" y="475632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02360" y="4756320"/>
            <a:ext cx="1344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147160" y="4451400"/>
            <a:ext cx="1440" cy="30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47160" y="4451400"/>
            <a:ext cx="144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8960" y="5075280"/>
            <a:ext cx="521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8960" y="5075280"/>
            <a:ext cx="52164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75560" y="4770360"/>
            <a:ext cx="1440" cy="30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75560" y="4770360"/>
            <a:ext cx="144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02360" y="507528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02360" y="5075280"/>
            <a:ext cx="1344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147160" y="4770360"/>
            <a:ext cx="1440" cy="30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47160" y="4770360"/>
            <a:ext cx="144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58960" y="5392800"/>
            <a:ext cx="521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8960" y="5392800"/>
            <a:ext cx="5216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75560" y="5087880"/>
            <a:ext cx="1440" cy="30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75560" y="5087880"/>
            <a:ext cx="144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02360" y="539280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02360" y="5392800"/>
            <a:ext cx="1344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147160" y="5087880"/>
            <a:ext cx="1440" cy="30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47160" y="5087880"/>
            <a:ext cx="144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75560" y="5407200"/>
            <a:ext cx="144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75560" y="5407200"/>
            <a:ext cx="144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47160" y="5407200"/>
            <a:ext cx="144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7160" y="5407200"/>
            <a:ext cx="144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960" y="1693800"/>
            <a:ext cx="27000" cy="404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32040" y="2246400"/>
            <a:ext cx="1440" cy="3465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32040" y="2246400"/>
            <a:ext cx="14400" cy="34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7840" y="2246400"/>
            <a:ext cx="1440" cy="3465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7840" y="2246400"/>
            <a:ext cx="14400" cy="34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73480" y="2246400"/>
            <a:ext cx="1440" cy="3465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3480" y="2246400"/>
            <a:ext cx="12600" cy="34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52760" y="2246400"/>
            <a:ext cx="1800" cy="3465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2760" y="2246400"/>
            <a:ext cx="12960" cy="34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75360" y="2246400"/>
            <a:ext cx="27000" cy="37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75560" y="5738760"/>
            <a:ext cx="144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75560" y="5738760"/>
            <a:ext cx="144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46960" y="2246400"/>
            <a:ext cx="27000" cy="37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47160" y="5738760"/>
            <a:ext cx="144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47160" y="5738760"/>
            <a:ext cx="144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818560" y="1720800"/>
            <a:ext cx="27000" cy="423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8960" y="1693800"/>
            <a:ext cx="79866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73960" y="204948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73960" y="2049480"/>
            <a:ext cx="13446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8960" y="2206800"/>
            <a:ext cx="7959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8960" y="2233440"/>
            <a:ext cx="79596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73960" y="254484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73960" y="2544840"/>
            <a:ext cx="1344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73960" y="2863800"/>
            <a:ext cx="1344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73960" y="2863800"/>
            <a:ext cx="1344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73960" y="3182760"/>
            <a:ext cx="1344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3182760"/>
            <a:ext cx="13446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73960" y="3500280"/>
            <a:ext cx="1344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3500280"/>
            <a:ext cx="1344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73960" y="381960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73960" y="3819600"/>
            <a:ext cx="1344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73960" y="4119480"/>
            <a:ext cx="1344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73960" y="4119480"/>
            <a:ext cx="13446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73960" y="443880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73960" y="4438800"/>
            <a:ext cx="1344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73960" y="475632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73960" y="4756320"/>
            <a:ext cx="1344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73960" y="507528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73960" y="5075280"/>
            <a:ext cx="1344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73960" y="5392800"/>
            <a:ext cx="13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73960" y="5392800"/>
            <a:ext cx="1344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8960" y="5711760"/>
            <a:ext cx="79866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02360" y="5927760"/>
            <a:ext cx="27432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42840" y="21708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of “Eco-fund” in Japa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ur types of “Eco-fund”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environmental criteria, investing dome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vironmental and other social criteria, investing dome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environmental criteria, investing glob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vironmental and other social criteria, investing glob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RI in Japan to the second stag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Full-fledged SRI products will be launched so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xpanding criteria into whole field of corporate social responsibility including employment, human right, relationship with stakeholders and so 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tegrex inc. (an independent advisor group) has already started a comprehensive survey on the compliance of Japanese compan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roviding the result to Japanese asset management fi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sitive impact to business lead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here actually exists some misunderstanding that SRI is an antibusiness activism within economic circ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owever, business leaders cannot ignore these movement any longer because US and European investors have a great influence on Japanese stock mar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pan Federation of Economic Organizations and Japan Association of Corporate Executives have already started their own study group responding to CSR and SRI matter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sitive impact to inves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everal pension funds and institutional investors are getting more interested in SR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upiter Asset Management in conjunction with Commerz International Capital Management (Japan) has launched a new SRI investment fund. Called the Jupiter World SRI Fund it is targeted at Japanese institutional investors and has already raised 3 billion Yen ($25.6m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12:44:39Z</dcterms:created>
  <dc:creator>足達 英一郎</dc:creator>
  <dc:description/>
  <dc:language>en-US</dc:language>
  <cp:lastModifiedBy>forest  trends</cp:lastModifiedBy>
  <cp:lastPrinted>2002-05-19T16:24:49Z</cp:lastPrinted>
  <dcterms:modified xsi:type="dcterms:W3CDTF">2002-10-28T17:13:39Z</dcterms:modified>
  <cp:revision>3</cp:revision>
  <dc:subject/>
  <dc:title>KATOOMBA　V   The Future of SRI in Japan</dc:title>
</cp:coreProperties>
</file>