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297-2B18-4AD8-9B0E-F6F08731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039-10B3-48E7-8B22-DA0A623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855-8BCB-461E-95AD-982EC55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396-F9F3-4A03-B1AD-BF9694DF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434-4442-4B79-B735-E5A1503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BA9-F50A-4C1A-A632-19D01A6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FCE-5A0D-4338-B282-EE38D9B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306-FB62-48E0-A0C5-B0787584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8CE-F250-4519-9AEE-F97F1530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E0F-EFF2-4045-8619-BEEB315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562-E96D-4F6F-BB2F-DBD9DF9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1A8-8539-47D7-BC08-179EE187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8B9-EB11-4A4D-99BB-4877185621A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051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sria logo 3 (2)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db.org/documents/books/aeo/2001/default.asp" TargetMode="External"/><Relationship Id="rId2" Type="http://schemas.openxmlformats.org/officeDocument/2006/relationships/hyperlink" Target="http://www.adb.org/documents/books/aeo/2001/default.asp" TargetMode="External"/><Relationship Id="rId3" Type="http://schemas.openxmlformats.org/officeDocument/2006/relationships/hyperlink" Target="http://www.adb.org/documents/books/aeo/2001/default.asp" TargetMode="External"/><Relationship Id="rId4" Type="http://schemas.openxmlformats.org/officeDocument/2006/relationships/hyperlink" Target="http://www.adb.org/documents/books/aeo/2001/default.asp" TargetMode="External"/><Relationship Id="rId5" Type="http://schemas.openxmlformats.org/officeDocument/2006/relationships/hyperlink" Target="http://www.adb.org/documents/books/aeo/2001/default.asp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86200"/>
            <a:ext cx="8610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cially Responsible Investment</a:t>
            </a:r>
            <a:r>
              <a:rPr b="1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entury investment for Asia and the world</a:t>
            </a:r>
            <a:r>
              <a:rPr b="1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sentation to Forest Trends Conference, 6th Nov 2002, Tok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ww.asria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447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51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sria logo 3 (2)" descr=""/>
          <p:cNvPicPr/>
          <p:nvPr/>
        </p:nvPicPr>
        <p:blipFill>
          <a:blip r:embed="rId1"/>
          <a:stretch/>
        </p:blipFill>
        <p:spPr>
          <a:xfrm>
            <a:off x="2790720" y="533520"/>
            <a:ext cx="3533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Research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institutional investors representing assets in excess of $4.5 trillion (specifically pension funds, fund managers, insurance compani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 on 31st May 2002, to the Chair of the Board of the 500 largest companies in the world as measured by market ca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ing them to identify the business implications of their exposure to climate-related risks, and what they are doing to address/embrace these ri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ine for responses by end of November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to be undertaken by Innovest, US and published February 2003          www.cdprojec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CARBON DISCLOSUR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of portfolio management to 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 loss of biodiversity is considered a key environmental problem it is managed based on theories and methods that have been considered outdated in the financial markets for more than 5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e-sided interest in the yield of crop plants has led to mis-balanced crop plant portfolios. Professional investment advisers would never advise their clients to invest in a stock portfolio that is as mis-balanc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rt sketches out the basics of a portfolio theory of bio-diversity and demonstrates the consequences of a portfolio view on biodiversity. It introduces 9 rules that are considered self-evident in the management of securitie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Figge    Center for Sustainability Management (CSM) e.V. with Gerling Sustainable Development Project Tel: +49-4131-78-2185  Fax: +49-4131-78-2186  E-Mail: Figge@sustainablevalue.com   www.bio-foli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rIA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200400"/>
            <a:ext cx="289548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-for-profit membership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2514600" cy="114300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full time staf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irecto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on-exec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895480"/>
            <a:ext cx="2819160" cy="304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742840" y="1752480"/>
            <a:ext cx="304920" cy="1447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4724280"/>
            <a:ext cx="2590560" cy="114300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glob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724280"/>
            <a:ext cx="2666880" cy="114300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and physical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295280"/>
            <a:ext cx="2590560" cy="152424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embership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investment funds, 6 research houses, 15 investment/ professional services, 4 corpora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6840" y="4343400"/>
            <a:ext cx="259092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4343040"/>
            <a:ext cx="152640" cy="1523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1676160"/>
            <a:ext cx="304920" cy="1523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943600" y="2819520"/>
            <a:ext cx="274320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343400"/>
            <a:ext cx="304920" cy="1523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343400"/>
            <a:ext cx="274320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295280"/>
            <a:ext cx="7772400" cy="13716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rIA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:  To develop awareness of SRI in Asia and ultimately to increase investor choice of SRI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743200"/>
            <a:ext cx="7772400" cy="34290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understanding of S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formation and market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continuous learning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opportunities for ASrI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down barriers to SRI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nd Chinese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 SRI Research Cove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 SRI Fu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rIA ev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po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1828800"/>
            <a:ext cx="3353040" cy="1981080"/>
          </a:xfrm>
          <a:prstGeom prst="irregularSeal1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4191120"/>
            <a:ext cx="3810240" cy="1295280"/>
          </a:xfrm>
          <a:prstGeom prst="irregularSeal2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+ hits per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,200 ebulletin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rIA Profile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formal presentations at conferences/ grou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:  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SRI: 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1x1 meeting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/Business group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/Charitable groups/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Media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 and Global financi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483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080" y="1143000"/>
            <a:ext cx="3775320" cy="533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54760" y="1143000"/>
            <a:ext cx="37843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– Opportunities &amp;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portunity for SRI in Greater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market analysis of HK SAR, Taiwan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M Foods:  Will their Fate be Decided in As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 of the agri-food industry in Asia to the continuing GM deb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RI and Pensions in A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ing the dual SRI and pension dynamic in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ur Standards in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lemmas involved with investing responsibly in China when considering labour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vironmental Legislation and Mgmt in Ch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legislation and what it means for implementing EMS.  Green Olympics cas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RI for Taiw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piece on SRI for Taiwan market with analysis of market opportunity for SRI in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29528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05740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81952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58128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34340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105520"/>
            <a:ext cx="106704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ublica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35440" cy="5397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8480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990720"/>
            <a:ext cx="883908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electric Power Generation, Dried Mackerel Plant, Compost Production Utilizing Household Refuse, Compost Center, Electric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kushima Island      Zero Emiss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r Clients interested in S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characteristics of SRI adopters similar the world over, th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in caring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NGOs and communit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ong to religiou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first time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ttractive to female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RI attracts a different type of investor to day trader/ga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rom Singapore and Jap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ko Asset Management, who launched one of the first Eco-Funds in Japan found their investor base to have a higher proportion of women and many first time inv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Fem-UOB Fund in Singapore found that 75% were first time investors, 75% were women and 75% were blue collar workers.  The latter finding suggests that SRI also appeals to lower income inv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ian Environment Outlook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egion’s environmental degradation is “pervasive, accelerating and unab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Scar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tes and Tox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Degradation/Depl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adb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.org/documents/books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aeo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/2001/default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AUSTRALIA MAP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715000" y="4267080"/>
            <a:ext cx="1882800" cy="1714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43600" y="3200400"/>
            <a:ext cx="2666880" cy="1295280"/>
          </a:xfrm>
          <a:prstGeom prst="wedgeRoundRectCallout">
            <a:avLst>
              <a:gd name="adj1" fmla="val -7203"/>
              <a:gd name="adj2" fmla="val 99018"/>
              <a:gd name="adj3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in As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133720" y="1066680"/>
            <a:ext cx="3674880" cy="3687480"/>
            <a:chOff x="2133720" y="1066680"/>
            <a:chExt cx="3674880" cy="3687480"/>
          </a:xfrm>
        </p:grpSpPr>
        <p:sp>
          <p:nvSpPr>
            <p:cNvPr id="159" name=""/>
            <p:cNvSpPr/>
            <p:nvPr/>
          </p:nvSpPr>
          <p:spPr>
            <a:xfrm>
              <a:off x="2966040" y="3660120"/>
              <a:ext cx="97560" cy="19980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3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6" y="61"/>
                  </a:lnTo>
                  <a:lnTo>
                    <a:pt x="97" y="88"/>
                  </a:lnTo>
                  <a:lnTo>
                    <a:pt x="111" y="117"/>
                  </a:lnTo>
                  <a:lnTo>
                    <a:pt x="109" y="148"/>
                  </a:lnTo>
                  <a:lnTo>
                    <a:pt x="97" y="166"/>
                  </a:lnTo>
                  <a:lnTo>
                    <a:pt x="80" y="177"/>
                  </a:lnTo>
                  <a:lnTo>
                    <a:pt x="58" y="182"/>
                  </a:lnTo>
                  <a:lnTo>
                    <a:pt x="57" y="186"/>
                  </a:lnTo>
                  <a:lnTo>
                    <a:pt x="53" y="188"/>
                  </a:lnTo>
                  <a:lnTo>
                    <a:pt x="51" y="192"/>
                  </a:lnTo>
                  <a:lnTo>
                    <a:pt x="41" y="191"/>
                  </a:lnTo>
                  <a:lnTo>
                    <a:pt x="33" y="188"/>
                  </a:lnTo>
                  <a:lnTo>
                    <a:pt x="26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7" y="116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10" y="54"/>
                  </a:lnTo>
                  <a:lnTo>
                    <a:pt x="8" y="22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67120" y="3660120"/>
              <a:ext cx="96480" cy="19980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2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5" y="61"/>
                  </a:lnTo>
                  <a:lnTo>
                    <a:pt x="96" y="88"/>
                  </a:lnTo>
                  <a:lnTo>
                    <a:pt x="110" y="117"/>
                  </a:lnTo>
                  <a:lnTo>
                    <a:pt x="108" y="148"/>
                  </a:lnTo>
                  <a:lnTo>
                    <a:pt x="97" y="166"/>
                  </a:lnTo>
                  <a:lnTo>
                    <a:pt x="79" y="177"/>
                  </a:lnTo>
                  <a:lnTo>
                    <a:pt x="57" y="182"/>
                  </a:lnTo>
                  <a:lnTo>
                    <a:pt x="57" y="186"/>
                  </a:lnTo>
                  <a:lnTo>
                    <a:pt x="52" y="189"/>
                  </a:lnTo>
                  <a:lnTo>
                    <a:pt x="50" y="192"/>
                  </a:lnTo>
                  <a:lnTo>
                    <a:pt x="41" y="191"/>
                  </a:lnTo>
                  <a:lnTo>
                    <a:pt x="32" y="189"/>
                  </a:lnTo>
                  <a:lnTo>
                    <a:pt x="25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7" y="137"/>
                  </a:lnTo>
                  <a:lnTo>
                    <a:pt x="7" y="117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9" y="54"/>
                  </a:lnTo>
                  <a:lnTo>
                    <a:pt x="8" y="22"/>
                  </a:lnTo>
                  <a:lnTo>
                    <a:pt x="26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5720" y="4245840"/>
              <a:ext cx="70200" cy="8532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2" y="13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6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9"/>
                  </a:lnTo>
                  <a:lnTo>
                    <a:pt x="79" y="27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2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95720" y="4245840"/>
              <a:ext cx="70200" cy="8532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3" y="13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7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8"/>
                  </a:lnTo>
                  <a:lnTo>
                    <a:pt x="79" y="26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3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0480" y="4310280"/>
              <a:ext cx="31320" cy="291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" y="13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1"/>
                  </a:lnTo>
                  <a:lnTo>
                    <a:pt x="32" y="5"/>
                  </a:lnTo>
                  <a:lnTo>
                    <a:pt x="36" y="12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19" y="26"/>
                  </a:lnTo>
                  <a:lnTo>
                    <a:pt x="13" y="28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3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0480" y="4311360"/>
              <a:ext cx="31320" cy="2808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" y="12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32" y="4"/>
                  </a:lnTo>
                  <a:lnTo>
                    <a:pt x="36" y="11"/>
                  </a:lnTo>
                  <a:lnTo>
                    <a:pt x="33" y="20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3" y="1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51800" y="4157280"/>
              <a:ext cx="28080" cy="4356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7" y="28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8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1800" y="4157280"/>
              <a:ext cx="28080" cy="4356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3"/>
                  </a:lnTo>
                  <a:lnTo>
                    <a:pt x="14" y="9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19"/>
                  </a:lnTo>
                  <a:lnTo>
                    <a:pt x="7" y="27"/>
                  </a:lnTo>
                  <a:lnTo>
                    <a:pt x="5" y="35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30" y="25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27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29400" y="4056120"/>
              <a:ext cx="15480" cy="198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4" y="3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18" y="9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0120" y="4056120"/>
              <a:ext cx="14760" cy="198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0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1800" y="4093560"/>
              <a:ext cx="17280" cy="16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1"/>
                  </a:moveTo>
                  <a:lnTo>
                    <a:pt x="15" y="8"/>
                  </a:lnTo>
                  <a:lnTo>
                    <a:pt x="10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9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4093560"/>
              <a:ext cx="16560" cy="16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4" y="8"/>
                  </a:lnTo>
                  <a:lnTo>
                    <a:pt x="9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3" y="9"/>
                  </a:lnTo>
                  <a:lnTo>
                    <a:pt x="9" y="13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480" y="4120560"/>
              <a:ext cx="26280" cy="1440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1"/>
                  </a:moveTo>
                  <a:lnTo>
                    <a:pt x="11" y="0"/>
                  </a:lnTo>
                  <a:lnTo>
                    <a:pt x="6" y="1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02480" y="4120560"/>
              <a:ext cx="26280" cy="1440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79440" y="4112640"/>
              <a:ext cx="20160" cy="16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10" y="5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79440" y="4112640"/>
              <a:ext cx="792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9440" y="4114440"/>
              <a:ext cx="2520" cy="10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81960" y="4124880"/>
              <a:ext cx="17280" cy="396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7" y="1"/>
                  </a:lnTo>
                  <a:lnTo>
                    <a:pt x="14" y="4"/>
                  </a:lnTo>
                  <a:lnTo>
                    <a:pt x="2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5200" y="4223880"/>
              <a:ext cx="26280" cy="34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6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13" y="25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29" y="28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5200" y="4224960"/>
              <a:ext cx="26280" cy="331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13" y="24"/>
                  </a:lnTo>
                  <a:lnTo>
                    <a:pt x="27" y="3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2280" y="4278960"/>
              <a:ext cx="17280" cy="17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0"/>
                  </a:moveTo>
                  <a:lnTo>
                    <a:pt x="10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43000" y="4278960"/>
              <a:ext cx="16560" cy="17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10"/>
                  </a:moveTo>
                  <a:lnTo>
                    <a:pt x="9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12" y="12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68560" y="4317480"/>
              <a:ext cx="26280" cy="27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8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68560" y="4317480"/>
              <a:ext cx="26280" cy="27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7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2120" y="4090320"/>
              <a:ext cx="42840" cy="50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6" y="43"/>
                  </a:moveTo>
                  <a:lnTo>
                    <a:pt x="41" y="28"/>
                  </a:lnTo>
                  <a:lnTo>
                    <a:pt x="33" y="1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9" y="4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3"/>
                  </a:lnTo>
                  <a:lnTo>
                    <a:pt x="13" y="18"/>
                  </a:lnTo>
                  <a:lnTo>
                    <a:pt x="27" y="32"/>
                  </a:lnTo>
                  <a:lnTo>
                    <a:pt x="40" y="48"/>
                  </a:lnTo>
                  <a:lnTo>
                    <a:pt x="43" y="49"/>
                  </a:lnTo>
                  <a:lnTo>
                    <a:pt x="47" y="47"/>
                  </a:lnTo>
                  <a:lnTo>
                    <a:pt x="49" y="43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46" y="4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4090320"/>
              <a:ext cx="43560" cy="50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47" y="43"/>
                  </a:moveTo>
                  <a:lnTo>
                    <a:pt x="42" y="28"/>
                  </a:lnTo>
                  <a:lnTo>
                    <a:pt x="34" y="1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41" y="49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0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9360" y="4166640"/>
              <a:ext cx="13320" cy="3312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89360" y="4166640"/>
              <a:ext cx="13320" cy="3312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71280" y="4017600"/>
              <a:ext cx="37440" cy="3024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71280" y="4017600"/>
              <a:ext cx="37440" cy="3024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4"/>
                  </a:lnTo>
                  <a:lnTo>
                    <a:pt x="15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57120" y="4413600"/>
              <a:ext cx="26280" cy="529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0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3"/>
                  </a:lnTo>
                  <a:lnTo>
                    <a:pt x="30" y="4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3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120" y="4413600"/>
              <a:ext cx="26280" cy="529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1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2"/>
                  </a:lnTo>
                  <a:lnTo>
                    <a:pt x="30" y="4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3" y="1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6960" y="4428360"/>
              <a:ext cx="20160" cy="403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6960" y="4428360"/>
              <a:ext cx="20160" cy="403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2560" y="4441680"/>
              <a:ext cx="10440" cy="219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2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2560" y="4441680"/>
              <a:ext cx="11520" cy="226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10" y="22"/>
                  </a:lnTo>
                  <a:lnTo>
                    <a:pt x="13" y="16"/>
                  </a:lnTo>
                  <a:lnTo>
                    <a:pt x="10" y="7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93120" y="4219920"/>
              <a:ext cx="23400" cy="16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" y="12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7" y="2"/>
                  </a:lnTo>
                  <a:lnTo>
                    <a:pt x="0" y="7"/>
                  </a:lnTo>
                  <a:lnTo>
                    <a:pt x="1" y="1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93120" y="4219920"/>
              <a:ext cx="23400" cy="16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3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4760" y="4244760"/>
              <a:ext cx="13680" cy="194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2"/>
                  </a:moveTo>
                  <a:lnTo>
                    <a:pt x="3" y="8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12" y="19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5480" y="4244760"/>
              <a:ext cx="12960" cy="205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3"/>
                  </a:move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12" y="19"/>
                  </a:lnTo>
                  <a:lnTo>
                    <a:pt x="15" y="1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97440" y="4248720"/>
              <a:ext cx="20160" cy="14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7440" y="4248720"/>
              <a:ext cx="20160" cy="14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4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000" y="4200840"/>
              <a:ext cx="23400" cy="136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8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42000" y="4200840"/>
              <a:ext cx="23400" cy="136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9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79320" y="4270680"/>
              <a:ext cx="27000" cy="16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1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79320" y="4270680"/>
              <a:ext cx="27000" cy="16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2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6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81400" y="4253040"/>
              <a:ext cx="30600" cy="16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35" y="12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81400" y="4254120"/>
              <a:ext cx="31680" cy="154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8"/>
                  </a:moveTo>
                  <a:lnTo>
                    <a:pt x="13" y="1"/>
                  </a:lnTo>
                  <a:lnTo>
                    <a:pt x="28" y="0"/>
                  </a:lnTo>
                  <a:lnTo>
                    <a:pt x="36" y="12"/>
                  </a:lnTo>
                  <a:lnTo>
                    <a:pt x="28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55120" y="4038480"/>
              <a:ext cx="74520" cy="185040"/>
            </a:xfrm>
            <a:custGeom>
              <a:avLst/>
              <a:gdLst/>
              <a:ahLst/>
              <a:rect l="l" t="t" r="r" b="b"/>
              <a:pathLst>
                <a:path w="85" h="178">
                  <a:moveTo>
                    <a:pt x="39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9" y="146"/>
                  </a:lnTo>
                  <a:lnTo>
                    <a:pt x="32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5"/>
                  </a:lnTo>
                  <a:lnTo>
                    <a:pt x="59" y="5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49" y="53"/>
                  </a:lnTo>
                  <a:lnTo>
                    <a:pt x="40" y="37"/>
                  </a:lnTo>
                  <a:lnTo>
                    <a:pt x="41" y="21"/>
                  </a:lnTo>
                  <a:lnTo>
                    <a:pt x="47" y="4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2" y="12"/>
                  </a:lnTo>
                  <a:lnTo>
                    <a:pt x="60" y="20"/>
                  </a:lnTo>
                  <a:lnTo>
                    <a:pt x="56" y="27"/>
                  </a:lnTo>
                  <a:lnTo>
                    <a:pt x="56" y="35"/>
                  </a:lnTo>
                  <a:lnTo>
                    <a:pt x="61" y="42"/>
                  </a:lnTo>
                  <a:lnTo>
                    <a:pt x="62" y="50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2" y="44"/>
                  </a:lnTo>
                  <a:lnTo>
                    <a:pt x="69" y="41"/>
                  </a:lnTo>
                  <a:lnTo>
                    <a:pt x="77" y="38"/>
                  </a:lnTo>
                  <a:lnTo>
                    <a:pt x="85" y="37"/>
                  </a:lnTo>
                  <a:lnTo>
                    <a:pt x="80" y="47"/>
                  </a:lnTo>
                  <a:lnTo>
                    <a:pt x="80" y="58"/>
                  </a:lnTo>
                  <a:lnTo>
                    <a:pt x="80" y="70"/>
                  </a:lnTo>
                  <a:lnTo>
                    <a:pt x="75" y="75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72" y="97"/>
                  </a:lnTo>
                  <a:lnTo>
                    <a:pt x="79" y="107"/>
                  </a:lnTo>
                  <a:lnTo>
                    <a:pt x="85" y="119"/>
                  </a:lnTo>
                  <a:lnTo>
                    <a:pt x="75" y="111"/>
                  </a:lnTo>
                  <a:lnTo>
                    <a:pt x="67" y="102"/>
                  </a:lnTo>
                  <a:lnTo>
                    <a:pt x="59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2" y="175"/>
                  </a:lnTo>
                  <a:lnTo>
                    <a:pt x="67" y="175"/>
                  </a:lnTo>
                  <a:lnTo>
                    <a:pt x="63" y="178"/>
                  </a:lnTo>
                  <a:lnTo>
                    <a:pt x="59" y="178"/>
                  </a:lnTo>
                  <a:lnTo>
                    <a:pt x="51" y="172"/>
                  </a:lnTo>
                  <a:lnTo>
                    <a:pt x="44" y="165"/>
                  </a:lnTo>
                  <a:lnTo>
                    <a:pt x="42" y="155"/>
                  </a:lnTo>
                  <a:lnTo>
                    <a:pt x="36" y="160"/>
                  </a:lnTo>
                  <a:lnTo>
                    <a:pt x="37" y="166"/>
                  </a:lnTo>
                  <a:lnTo>
                    <a:pt x="39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3" y="157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8" y="147"/>
                  </a:lnTo>
                  <a:lnTo>
                    <a:pt x="12" y="149"/>
                  </a:lnTo>
                  <a:lnTo>
                    <a:pt x="16" y="152"/>
                  </a:lnTo>
                  <a:lnTo>
                    <a:pt x="34" y="155"/>
                  </a:lnTo>
                  <a:lnTo>
                    <a:pt x="36" y="153"/>
                  </a:lnTo>
                  <a:lnTo>
                    <a:pt x="40" y="150"/>
                  </a:lnTo>
                  <a:lnTo>
                    <a:pt x="39" y="149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55840" y="4038480"/>
              <a:ext cx="73800" cy="185040"/>
            </a:xfrm>
            <a:custGeom>
              <a:avLst/>
              <a:gdLst/>
              <a:ahLst/>
              <a:rect l="l" t="t" r="r" b="b"/>
              <a:pathLst>
                <a:path w="84" h="178">
                  <a:moveTo>
                    <a:pt x="38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8" y="146"/>
                  </a:lnTo>
                  <a:lnTo>
                    <a:pt x="31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3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6" y="60"/>
                  </a:lnTo>
                  <a:lnTo>
                    <a:pt x="58" y="55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41" y="2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1" y="12"/>
                  </a:lnTo>
                  <a:lnTo>
                    <a:pt x="59" y="20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60" y="42"/>
                  </a:lnTo>
                  <a:lnTo>
                    <a:pt x="61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9" y="41"/>
                  </a:lnTo>
                  <a:lnTo>
                    <a:pt x="76" y="39"/>
                  </a:lnTo>
                  <a:lnTo>
                    <a:pt x="84" y="37"/>
                  </a:lnTo>
                  <a:lnTo>
                    <a:pt x="79" y="48"/>
                  </a:lnTo>
                  <a:lnTo>
                    <a:pt x="80" y="58"/>
                  </a:lnTo>
                  <a:lnTo>
                    <a:pt x="79" y="70"/>
                  </a:lnTo>
                  <a:lnTo>
                    <a:pt x="74" y="76"/>
                  </a:lnTo>
                  <a:lnTo>
                    <a:pt x="67" y="79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79" y="107"/>
                  </a:lnTo>
                  <a:lnTo>
                    <a:pt x="84" y="119"/>
                  </a:lnTo>
                  <a:lnTo>
                    <a:pt x="74" y="112"/>
                  </a:lnTo>
                  <a:lnTo>
                    <a:pt x="66" y="103"/>
                  </a:lnTo>
                  <a:lnTo>
                    <a:pt x="58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1" y="176"/>
                  </a:lnTo>
                  <a:lnTo>
                    <a:pt x="66" y="175"/>
                  </a:lnTo>
                  <a:lnTo>
                    <a:pt x="62" y="178"/>
                  </a:lnTo>
                  <a:lnTo>
                    <a:pt x="58" y="178"/>
                  </a:lnTo>
                  <a:lnTo>
                    <a:pt x="50" y="172"/>
                  </a:lnTo>
                  <a:lnTo>
                    <a:pt x="43" y="165"/>
                  </a:lnTo>
                  <a:lnTo>
                    <a:pt x="41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8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2" y="149"/>
                  </a:lnTo>
                  <a:lnTo>
                    <a:pt x="15" y="152"/>
                  </a:lnTo>
                  <a:lnTo>
                    <a:pt x="33" y="155"/>
                  </a:lnTo>
                  <a:lnTo>
                    <a:pt x="36" y="153"/>
                  </a:lnTo>
                  <a:lnTo>
                    <a:pt x="39" y="150"/>
                  </a:lnTo>
                  <a:lnTo>
                    <a:pt x="38" y="14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16680" y="4036320"/>
              <a:ext cx="22680" cy="280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10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16680" y="4036320"/>
              <a:ext cx="22680" cy="280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9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00200" y="4173840"/>
              <a:ext cx="26280" cy="266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9"/>
                  </a:moveTo>
                  <a:lnTo>
                    <a:pt x="7" y="3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0" y="9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0200" y="4174920"/>
              <a:ext cx="2628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8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14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0" y="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1000" y="4193640"/>
              <a:ext cx="321840" cy="208080"/>
            </a:xfrm>
            <a:custGeom>
              <a:avLst/>
              <a:gdLst/>
              <a:ahLst/>
              <a:rect l="l" t="t" r="r" b="b"/>
              <a:pathLst>
                <a:path w="366" h="200">
                  <a:moveTo>
                    <a:pt x="307" y="200"/>
                  </a:moveTo>
                  <a:lnTo>
                    <a:pt x="260" y="190"/>
                  </a:lnTo>
                  <a:lnTo>
                    <a:pt x="212" y="182"/>
                  </a:lnTo>
                  <a:lnTo>
                    <a:pt x="167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4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9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7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1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9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8"/>
                  </a:lnTo>
                  <a:lnTo>
                    <a:pt x="66" y="88"/>
                  </a:lnTo>
                  <a:lnTo>
                    <a:pt x="64" y="96"/>
                  </a:lnTo>
                  <a:lnTo>
                    <a:pt x="61" y="102"/>
                  </a:lnTo>
                  <a:lnTo>
                    <a:pt x="56" y="108"/>
                  </a:lnTo>
                  <a:lnTo>
                    <a:pt x="47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4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6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29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0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2"/>
                  </a:lnTo>
                  <a:lnTo>
                    <a:pt x="125" y="15"/>
                  </a:lnTo>
                  <a:lnTo>
                    <a:pt x="151" y="18"/>
                  </a:lnTo>
                  <a:lnTo>
                    <a:pt x="175" y="27"/>
                  </a:lnTo>
                  <a:lnTo>
                    <a:pt x="176" y="29"/>
                  </a:lnTo>
                  <a:lnTo>
                    <a:pt x="175" y="33"/>
                  </a:lnTo>
                  <a:lnTo>
                    <a:pt x="173" y="36"/>
                  </a:lnTo>
                  <a:lnTo>
                    <a:pt x="176" y="43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75" y="81"/>
                  </a:lnTo>
                  <a:lnTo>
                    <a:pt x="180" y="104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9" y="114"/>
                  </a:lnTo>
                  <a:lnTo>
                    <a:pt x="208" y="114"/>
                  </a:lnTo>
                  <a:lnTo>
                    <a:pt x="215" y="120"/>
                  </a:lnTo>
                  <a:lnTo>
                    <a:pt x="215" y="131"/>
                  </a:lnTo>
                  <a:lnTo>
                    <a:pt x="219" y="141"/>
                  </a:lnTo>
                  <a:lnTo>
                    <a:pt x="222" y="142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8" y="129"/>
                  </a:lnTo>
                  <a:lnTo>
                    <a:pt x="247" y="117"/>
                  </a:lnTo>
                  <a:lnTo>
                    <a:pt x="261" y="110"/>
                  </a:lnTo>
                  <a:lnTo>
                    <a:pt x="263" y="106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9" y="88"/>
                  </a:lnTo>
                  <a:lnTo>
                    <a:pt x="295" y="88"/>
                  </a:lnTo>
                  <a:lnTo>
                    <a:pt x="311" y="85"/>
                  </a:lnTo>
                  <a:lnTo>
                    <a:pt x="314" y="81"/>
                  </a:lnTo>
                  <a:lnTo>
                    <a:pt x="318" y="76"/>
                  </a:lnTo>
                  <a:lnTo>
                    <a:pt x="321" y="73"/>
                  </a:lnTo>
                  <a:lnTo>
                    <a:pt x="329" y="72"/>
                  </a:lnTo>
                  <a:lnTo>
                    <a:pt x="337" y="73"/>
                  </a:lnTo>
                  <a:lnTo>
                    <a:pt x="343" y="71"/>
                  </a:lnTo>
                  <a:lnTo>
                    <a:pt x="348" y="63"/>
                  </a:lnTo>
                  <a:lnTo>
                    <a:pt x="350" y="53"/>
                  </a:lnTo>
                  <a:lnTo>
                    <a:pt x="351" y="42"/>
                  </a:lnTo>
                  <a:lnTo>
                    <a:pt x="357" y="42"/>
                  </a:lnTo>
                  <a:lnTo>
                    <a:pt x="362" y="39"/>
                  </a:lnTo>
                  <a:lnTo>
                    <a:pt x="366" y="40"/>
                  </a:lnTo>
                  <a:lnTo>
                    <a:pt x="366" y="47"/>
                  </a:lnTo>
                  <a:lnTo>
                    <a:pt x="364" y="65"/>
                  </a:lnTo>
                  <a:lnTo>
                    <a:pt x="357" y="84"/>
                  </a:lnTo>
                  <a:lnTo>
                    <a:pt x="345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8" y="165"/>
                  </a:lnTo>
                  <a:lnTo>
                    <a:pt x="311" y="188"/>
                  </a:lnTo>
                  <a:lnTo>
                    <a:pt x="307" y="20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12080" y="4193640"/>
              <a:ext cx="321120" cy="20808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306" y="200"/>
                  </a:moveTo>
                  <a:lnTo>
                    <a:pt x="259" y="190"/>
                  </a:lnTo>
                  <a:lnTo>
                    <a:pt x="212" y="182"/>
                  </a:lnTo>
                  <a:lnTo>
                    <a:pt x="166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3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8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6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0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8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9"/>
                  </a:lnTo>
                  <a:lnTo>
                    <a:pt x="66" y="88"/>
                  </a:lnTo>
                  <a:lnTo>
                    <a:pt x="64" y="97"/>
                  </a:lnTo>
                  <a:lnTo>
                    <a:pt x="61" y="102"/>
                  </a:lnTo>
                  <a:lnTo>
                    <a:pt x="55" y="108"/>
                  </a:lnTo>
                  <a:lnTo>
                    <a:pt x="46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5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7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1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3"/>
                  </a:lnTo>
                  <a:lnTo>
                    <a:pt x="125" y="15"/>
                  </a:lnTo>
                  <a:lnTo>
                    <a:pt x="150" y="18"/>
                  </a:lnTo>
                  <a:lnTo>
                    <a:pt x="175" y="27"/>
                  </a:lnTo>
                  <a:lnTo>
                    <a:pt x="175" y="29"/>
                  </a:lnTo>
                  <a:lnTo>
                    <a:pt x="174" y="33"/>
                  </a:lnTo>
                  <a:lnTo>
                    <a:pt x="173" y="37"/>
                  </a:lnTo>
                  <a:lnTo>
                    <a:pt x="176" y="43"/>
                  </a:lnTo>
                  <a:lnTo>
                    <a:pt x="182" y="49"/>
                  </a:lnTo>
                  <a:lnTo>
                    <a:pt x="183" y="55"/>
                  </a:lnTo>
                  <a:lnTo>
                    <a:pt x="174" y="81"/>
                  </a:lnTo>
                  <a:lnTo>
                    <a:pt x="180" y="104"/>
                  </a:lnTo>
                  <a:lnTo>
                    <a:pt x="194" y="121"/>
                  </a:lnTo>
                  <a:lnTo>
                    <a:pt x="194" y="117"/>
                  </a:lnTo>
                  <a:lnTo>
                    <a:pt x="198" y="114"/>
                  </a:lnTo>
                  <a:lnTo>
                    <a:pt x="208" y="114"/>
                  </a:lnTo>
                  <a:lnTo>
                    <a:pt x="214" y="120"/>
                  </a:lnTo>
                  <a:lnTo>
                    <a:pt x="215" y="131"/>
                  </a:lnTo>
                  <a:lnTo>
                    <a:pt x="218" y="141"/>
                  </a:lnTo>
                  <a:lnTo>
                    <a:pt x="221" y="142"/>
                  </a:lnTo>
                  <a:lnTo>
                    <a:pt x="224" y="142"/>
                  </a:lnTo>
                  <a:lnTo>
                    <a:pt x="227" y="141"/>
                  </a:lnTo>
                  <a:lnTo>
                    <a:pt x="237" y="129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63" y="107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8" y="88"/>
                  </a:lnTo>
                  <a:lnTo>
                    <a:pt x="294" y="89"/>
                  </a:lnTo>
                  <a:lnTo>
                    <a:pt x="310" y="85"/>
                  </a:lnTo>
                  <a:lnTo>
                    <a:pt x="313" y="81"/>
                  </a:lnTo>
                  <a:lnTo>
                    <a:pt x="317" y="76"/>
                  </a:lnTo>
                  <a:lnTo>
                    <a:pt x="321" y="73"/>
                  </a:lnTo>
                  <a:lnTo>
                    <a:pt x="328" y="73"/>
                  </a:lnTo>
                  <a:lnTo>
                    <a:pt x="336" y="73"/>
                  </a:lnTo>
                  <a:lnTo>
                    <a:pt x="342" y="71"/>
                  </a:lnTo>
                  <a:lnTo>
                    <a:pt x="347" y="63"/>
                  </a:lnTo>
                  <a:lnTo>
                    <a:pt x="349" y="53"/>
                  </a:lnTo>
                  <a:lnTo>
                    <a:pt x="350" y="43"/>
                  </a:lnTo>
                  <a:lnTo>
                    <a:pt x="356" y="42"/>
                  </a:lnTo>
                  <a:lnTo>
                    <a:pt x="361" y="39"/>
                  </a:lnTo>
                  <a:lnTo>
                    <a:pt x="365" y="40"/>
                  </a:lnTo>
                  <a:lnTo>
                    <a:pt x="365" y="47"/>
                  </a:lnTo>
                  <a:lnTo>
                    <a:pt x="363" y="65"/>
                  </a:lnTo>
                  <a:lnTo>
                    <a:pt x="357" y="85"/>
                  </a:lnTo>
                  <a:lnTo>
                    <a:pt x="344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7" y="165"/>
                  </a:lnTo>
                  <a:lnTo>
                    <a:pt x="310" y="188"/>
                  </a:lnTo>
                  <a:lnTo>
                    <a:pt x="306" y="20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5800" y="4452120"/>
              <a:ext cx="32400" cy="540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5" y="35"/>
                  </a:lnTo>
                  <a:lnTo>
                    <a:pt x="0" y="36"/>
                  </a:lnTo>
                  <a:lnTo>
                    <a:pt x="8" y="47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9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5800" y="4452120"/>
              <a:ext cx="32400" cy="540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10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8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01720" y="4455360"/>
              <a:ext cx="14760" cy="259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1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01720" y="4455360"/>
              <a:ext cx="14760" cy="259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23760" y="4207320"/>
              <a:ext cx="34200" cy="2160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3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7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3760" y="4208040"/>
              <a:ext cx="34200" cy="2196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2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5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6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21240" y="4251960"/>
              <a:ext cx="48960" cy="1152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1"/>
                  </a:lnTo>
                  <a:lnTo>
                    <a:pt x="56" y="2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21240" y="4251960"/>
              <a:ext cx="48960" cy="1224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0" y="1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6" y="5"/>
                  </a:lnTo>
                  <a:lnTo>
                    <a:pt x="55" y="7"/>
                  </a:lnTo>
                  <a:lnTo>
                    <a:pt x="40" y="12"/>
                  </a:lnTo>
                  <a:lnTo>
                    <a:pt x="24" y="7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97480" y="4220640"/>
              <a:ext cx="12240" cy="16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7480" y="4222080"/>
              <a:ext cx="12240" cy="15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5440" y="4093560"/>
              <a:ext cx="52560" cy="1008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6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5440" y="4093560"/>
              <a:ext cx="52560" cy="1008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6560" y="3859200"/>
              <a:ext cx="20880" cy="100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"/>
                  </a:moveTo>
                  <a:lnTo>
                    <a:pt x="14" y="1"/>
                  </a:lnTo>
                  <a:lnTo>
                    <a:pt x="4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14" y="7"/>
                  </a:lnTo>
                  <a:lnTo>
                    <a:pt x="24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86560" y="3859920"/>
              <a:ext cx="20880" cy="93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lnTo>
                    <a:pt x="1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9"/>
                  </a:lnTo>
                  <a:lnTo>
                    <a:pt x="14" y="6"/>
                  </a:lnTo>
                  <a:lnTo>
                    <a:pt x="24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48040" y="3894480"/>
              <a:ext cx="6840" cy="205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8040" y="3894480"/>
              <a:ext cx="6840" cy="205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78440" y="3956040"/>
              <a:ext cx="6840" cy="10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3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9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8440" y="3956040"/>
              <a:ext cx="6840" cy="11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3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42600" y="3115800"/>
              <a:ext cx="109080" cy="9252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1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2600" y="3115800"/>
              <a:ext cx="109080" cy="9252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0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25000" y="2823120"/>
              <a:ext cx="113400" cy="20412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8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1" y="174"/>
                  </a:lnTo>
                  <a:lnTo>
                    <a:pt x="47" y="182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0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4" y="73"/>
                  </a:lnTo>
                  <a:lnTo>
                    <a:pt x="28" y="60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3" y="18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25000" y="2823120"/>
              <a:ext cx="113400" cy="20412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9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2" y="174"/>
                  </a:lnTo>
                  <a:lnTo>
                    <a:pt x="47" y="183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1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5" y="73"/>
                  </a:lnTo>
                  <a:lnTo>
                    <a:pt x="28" y="61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6"/>
                  </a:lnTo>
                  <a:lnTo>
                    <a:pt x="123" y="1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29800" y="3455640"/>
              <a:ext cx="29520" cy="13536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3" y="20"/>
                  </a:moveTo>
                  <a:lnTo>
                    <a:pt x="34" y="58"/>
                  </a:lnTo>
                  <a:lnTo>
                    <a:pt x="31" y="95"/>
                  </a:lnTo>
                  <a:lnTo>
                    <a:pt x="17" y="130"/>
                  </a:lnTo>
                  <a:lnTo>
                    <a:pt x="13" y="130"/>
                  </a:lnTo>
                  <a:lnTo>
                    <a:pt x="9" y="122"/>
                  </a:lnTo>
                  <a:lnTo>
                    <a:pt x="0" y="119"/>
                  </a:lnTo>
                  <a:lnTo>
                    <a:pt x="7" y="97"/>
                  </a:lnTo>
                  <a:lnTo>
                    <a:pt x="12" y="74"/>
                  </a:lnTo>
                  <a:lnTo>
                    <a:pt x="19" y="53"/>
                  </a:lnTo>
                  <a:lnTo>
                    <a:pt x="21" y="35"/>
                  </a:lnTo>
                  <a:lnTo>
                    <a:pt x="18" y="18"/>
                  </a:lnTo>
                  <a:lnTo>
                    <a:pt x="20" y="0"/>
                  </a:lnTo>
                  <a:lnTo>
                    <a:pt x="33" y="2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30520" y="3455640"/>
              <a:ext cx="28800" cy="13644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32" y="20"/>
                  </a:moveTo>
                  <a:lnTo>
                    <a:pt x="33" y="59"/>
                  </a:lnTo>
                  <a:lnTo>
                    <a:pt x="30" y="96"/>
                  </a:lnTo>
                  <a:lnTo>
                    <a:pt x="17" y="131"/>
                  </a:lnTo>
                  <a:lnTo>
                    <a:pt x="12" y="131"/>
                  </a:lnTo>
                  <a:lnTo>
                    <a:pt x="8" y="122"/>
                  </a:lnTo>
                  <a:lnTo>
                    <a:pt x="0" y="119"/>
                  </a:lnTo>
                  <a:lnTo>
                    <a:pt x="6" y="97"/>
                  </a:lnTo>
                  <a:lnTo>
                    <a:pt x="11" y="75"/>
                  </a:lnTo>
                  <a:lnTo>
                    <a:pt x="18" y="53"/>
                  </a:lnTo>
                  <a:lnTo>
                    <a:pt x="20" y="36"/>
                  </a:lnTo>
                  <a:lnTo>
                    <a:pt x="18" y="18"/>
                  </a:lnTo>
                  <a:lnTo>
                    <a:pt x="19" y="0"/>
                  </a:lnTo>
                  <a:lnTo>
                    <a:pt x="32" y="2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4400" y="3634200"/>
              <a:ext cx="17280" cy="20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4400" y="3634920"/>
              <a:ext cx="17280" cy="198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19"/>
                  </a:lnTo>
                  <a:lnTo>
                    <a:pt x="19" y="14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64720" y="3736080"/>
              <a:ext cx="16560" cy="16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64720" y="3736080"/>
              <a:ext cx="16560" cy="16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2360" y="3786120"/>
              <a:ext cx="17280" cy="331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0"/>
                  </a:moveTo>
                  <a:lnTo>
                    <a:pt x="6" y="11"/>
                  </a:lnTo>
                  <a:lnTo>
                    <a:pt x="7" y="25"/>
                  </a:lnTo>
                  <a:lnTo>
                    <a:pt x="20" y="32"/>
                  </a:lnTo>
                  <a:lnTo>
                    <a:pt x="12" y="22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2360" y="3786120"/>
              <a:ext cx="17280" cy="34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6" y="11"/>
                  </a:lnTo>
                  <a:lnTo>
                    <a:pt x="7" y="26"/>
                  </a:lnTo>
                  <a:lnTo>
                    <a:pt x="20" y="33"/>
                  </a:lnTo>
                  <a:lnTo>
                    <a:pt x="12" y="23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3120" y="2347560"/>
              <a:ext cx="47160" cy="280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40" y="6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9" y="26"/>
                  </a:lnTo>
                  <a:lnTo>
                    <a:pt x="37" y="27"/>
                  </a:lnTo>
                  <a:lnTo>
                    <a:pt x="52" y="18"/>
                  </a:lnTo>
                  <a:lnTo>
                    <a:pt x="54" y="13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83840" y="2347560"/>
              <a:ext cx="46440" cy="2808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0" y="7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36" y="27"/>
                  </a:lnTo>
                  <a:lnTo>
                    <a:pt x="51" y="18"/>
                  </a:lnTo>
                  <a:lnTo>
                    <a:pt x="53" y="13"/>
                  </a:lnTo>
                  <a:lnTo>
                    <a:pt x="53" y="7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6720" y="2120400"/>
              <a:ext cx="20160" cy="25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7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56720" y="2120400"/>
              <a:ext cx="20160" cy="25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8"/>
                  </a:lnTo>
                  <a:lnTo>
                    <a:pt x="0" y="11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0040" y="2334960"/>
              <a:ext cx="92160" cy="16560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40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2" y="9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0" y="8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1"/>
                  </a:lnTo>
                  <a:lnTo>
                    <a:pt x="41" y="44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4" y="81"/>
                  </a:lnTo>
                  <a:lnTo>
                    <a:pt x="31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2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29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6" y="133"/>
                  </a:lnTo>
                  <a:lnTo>
                    <a:pt x="86" y="111"/>
                  </a:lnTo>
                  <a:lnTo>
                    <a:pt x="90" y="86"/>
                  </a:lnTo>
                  <a:lnTo>
                    <a:pt x="92" y="82"/>
                  </a:lnTo>
                  <a:lnTo>
                    <a:pt x="96" y="79"/>
                  </a:lnTo>
                  <a:lnTo>
                    <a:pt x="95" y="7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0040" y="2334960"/>
              <a:ext cx="92160" cy="16560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39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0"/>
                  </a:lnTo>
                  <a:lnTo>
                    <a:pt x="41" y="43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3" y="81"/>
                  </a:lnTo>
                  <a:lnTo>
                    <a:pt x="30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1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30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5" y="133"/>
                  </a:lnTo>
                  <a:lnTo>
                    <a:pt x="86" y="111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6" y="79"/>
                  </a:lnTo>
                  <a:lnTo>
                    <a:pt x="95" y="7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59160" y="2370600"/>
              <a:ext cx="14760" cy="16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0"/>
                  </a:moveTo>
                  <a:lnTo>
                    <a:pt x="6" y="1"/>
                  </a:lnTo>
                  <a:lnTo>
                    <a:pt x="4" y="7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9160" y="2371680"/>
              <a:ext cx="1476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6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9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8200" y="2383200"/>
              <a:ext cx="25200" cy="24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9" y="4"/>
                  </a:moveTo>
                  <a:lnTo>
                    <a:pt x="10" y="11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28200" y="2383200"/>
              <a:ext cx="25200" cy="259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4"/>
                  </a:moveTo>
                  <a:lnTo>
                    <a:pt x="1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30440" y="2503800"/>
              <a:ext cx="10440" cy="352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0440" y="2503800"/>
              <a:ext cx="10440" cy="352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04880" y="2517480"/>
              <a:ext cx="12960" cy="248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4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04880" y="2517480"/>
              <a:ext cx="12960" cy="248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3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4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313000"/>
              <a:ext cx="105480" cy="9792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110" y="34"/>
                  </a:moveTo>
                  <a:lnTo>
                    <a:pt x="114" y="26"/>
                  </a:lnTo>
                  <a:lnTo>
                    <a:pt x="117" y="17"/>
                  </a:lnTo>
                  <a:lnTo>
                    <a:pt x="120" y="8"/>
                  </a:lnTo>
                  <a:lnTo>
                    <a:pt x="105" y="5"/>
                  </a:lnTo>
                  <a:lnTo>
                    <a:pt x="91" y="0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55" y="10"/>
                  </a:lnTo>
                  <a:lnTo>
                    <a:pt x="43" y="9"/>
                  </a:lnTo>
                  <a:lnTo>
                    <a:pt x="32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16" y="77"/>
                  </a:lnTo>
                  <a:lnTo>
                    <a:pt x="30" y="87"/>
                  </a:lnTo>
                  <a:lnTo>
                    <a:pt x="47" y="94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7"/>
                  </a:lnTo>
                  <a:lnTo>
                    <a:pt x="44" y="84"/>
                  </a:lnTo>
                  <a:lnTo>
                    <a:pt x="39" y="84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50" y="67"/>
                  </a:lnTo>
                  <a:lnTo>
                    <a:pt x="55" y="54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6" y="40"/>
                  </a:lnTo>
                  <a:lnTo>
                    <a:pt x="110" y="3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2314440"/>
              <a:ext cx="106560" cy="9684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111" y="34"/>
                  </a:moveTo>
                  <a:lnTo>
                    <a:pt x="115" y="25"/>
                  </a:lnTo>
                  <a:lnTo>
                    <a:pt x="118" y="17"/>
                  </a:lnTo>
                  <a:lnTo>
                    <a:pt x="121" y="8"/>
                  </a:lnTo>
                  <a:lnTo>
                    <a:pt x="106" y="4"/>
                  </a:lnTo>
                  <a:lnTo>
                    <a:pt x="92" y="0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56" y="10"/>
                  </a:lnTo>
                  <a:lnTo>
                    <a:pt x="43" y="9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3" y="64"/>
                  </a:lnTo>
                  <a:lnTo>
                    <a:pt x="16" y="76"/>
                  </a:lnTo>
                  <a:lnTo>
                    <a:pt x="31" y="87"/>
                  </a:lnTo>
                  <a:lnTo>
                    <a:pt x="47" y="93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47" y="87"/>
                  </a:lnTo>
                  <a:lnTo>
                    <a:pt x="44" y="83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43" y="80"/>
                  </a:lnTo>
                  <a:lnTo>
                    <a:pt x="47" y="80"/>
                  </a:lnTo>
                  <a:lnTo>
                    <a:pt x="51" y="66"/>
                  </a:lnTo>
                  <a:lnTo>
                    <a:pt x="55" y="54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1" y="41"/>
                  </a:lnTo>
                  <a:lnTo>
                    <a:pt x="95" y="47"/>
                  </a:lnTo>
                  <a:lnTo>
                    <a:pt x="98" y="50"/>
                  </a:lnTo>
                  <a:lnTo>
                    <a:pt x="101" y="47"/>
                  </a:lnTo>
                  <a:lnTo>
                    <a:pt x="107" y="39"/>
                  </a:lnTo>
                  <a:lnTo>
                    <a:pt x="111" y="3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42680" y="1943280"/>
              <a:ext cx="471600" cy="40644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19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1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3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7" y="349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6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4" y="363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60" y="376"/>
                  </a:lnTo>
                  <a:lnTo>
                    <a:pt x="61" y="379"/>
                  </a:lnTo>
                  <a:lnTo>
                    <a:pt x="59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6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7" y="325"/>
                  </a:lnTo>
                  <a:lnTo>
                    <a:pt x="58" y="323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8" y="282"/>
                  </a:lnTo>
                  <a:lnTo>
                    <a:pt x="145" y="287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4" y="239"/>
                  </a:lnTo>
                  <a:lnTo>
                    <a:pt x="284" y="227"/>
                  </a:lnTo>
                  <a:lnTo>
                    <a:pt x="284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4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2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1" y="224"/>
                  </a:lnTo>
                  <a:lnTo>
                    <a:pt x="312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7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2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3" y="22"/>
                  </a:lnTo>
                  <a:lnTo>
                    <a:pt x="508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6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8"/>
                  </a:lnTo>
                  <a:lnTo>
                    <a:pt x="514" y="112"/>
                  </a:lnTo>
                  <a:lnTo>
                    <a:pt x="501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7"/>
                  </a:lnTo>
                  <a:lnTo>
                    <a:pt x="499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4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0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1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19"/>
                  </a:lnTo>
                  <a:lnTo>
                    <a:pt x="359" y="314"/>
                  </a:lnTo>
                  <a:lnTo>
                    <a:pt x="355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7"/>
                  </a:lnTo>
                  <a:lnTo>
                    <a:pt x="259" y="362"/>
                  </a:lnTo>
                  <a:lnTo>
                    <a:pt x="250" y="376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19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7" y="366"/>
                  </a:lnTo>
                  <a:lnTo>
                    <a:pt x="191" y="359"/>
                  </a:lnTo>
                  <a:lnTo>
                    <a:pt x="193" y="349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89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0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42680" y="1943280"/>
              <a:ext cx="471600" cy="40644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20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2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4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8" y="350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7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5" y="363"/>
                  </a:lnTo>
                  <a:lnTo>
                    <a:pt x="48" y="370"/>
                  </a:lnTo>
                  <a:lnTo>
                    <a:pt x="53" y="376"/>
                  </a:lnTo>
                  <a:lnTo>
                    <a:pt x="61" y="376"/>
                  </a:lnTo>
                  <a:lnTo>
                    <a:pt x="61" y="379"/>
                  </a:lnTo>
                  <a:lnTo>
                    <a:pt x="60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7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8" y="325"/>
                  </a:lnTo>
                  <a:lnTo>
                    <a:pt x="58" y="324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9" y="283"/>
                  </a:lnTo>
                  <a:lnTo>
                    <a:pt x="145" y="288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5" y="239"/>
                  </a:lnTo>
                  <a:lnTo>
                    <a:pt x="284" y="227"/>
                  </a:lnTo>
                  <a:lnTo>
                    <a:pt x="285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5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3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2" y="224"/>
                  </a:lnTo>
                  <a:lnTo>
                    <a:pt x="313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8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3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4" y="23"/>
                  </a:lnTo>
                  <a:lnTo>
                    <a:pt x="509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7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5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9"/>
                  </a:lnTo>
                  <a:lnTo>
                    <a:pt x="514" y="112"/>
                  </a:lnTo>
                  <a:lnTo>
                    <a:pt x="502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8"/>
                  </a:lnTo>
                  <a:lnTo>
                    <a:pt x="500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5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1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2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20"/>
                  </a:lnTo>
                  <a:lnTo>
                    <a:pt x="359" y="314"/>
                  </a:lnTo>
                  <a:lnTo>
                    <a:pt x="356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8"/>
                  </a:lnTo>
                  <a:lnTo>
                    <a:pt x="259" y="363"/>
                  </a:lnTo>
                  <a:lnTo>
                    <a:pt x="250" y="377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20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8" y="366"/>
                  </a:lnTo>
                  <a:lnTo>
                    <a:pt x="191" y="359"/>
                  </a:lnTo>
                  <a:lnTo>
                    <a:pt x="193" y="350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90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1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43640" y="2078640"/>
              <a:ext cx="26280" cy="36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2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3640" y="2078640"/>
              <a:ext cx="26280" cy="36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3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" y="28"/>
                  </a:lnTo>
                  <a:lnTo>
                    <a:pt x="9" y="31"/>
                  </a:lnTo>
                  <a:lnTo>
                    <a:pt x="13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0040" y="1629720"/>
              <a:ext cx="178560" cy="32832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7" y="294"/>
                  </a:moveTo>
                  <a:lnTo>
                    <a:pt x="2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5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5" y="228"/>
                  </a:lnTo>
                  <a:lnTo>
                    <a:pt x="54" y="217"/>
                  </a:lnTo>
                  <a:lnTo>
                    <a:pt x="51" y="210"/>
                  </a:lnTo>
                  <a:lnTo>
                    <a:pt x="43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1"/>
                  </a:lnTo>
                  <a:lnTo>
                    <a:pt x="126" y="186"/>
                  </a:lnTo>
                  <a:lnTo>
                    <a:pt x="149" y="189"/>
                  </a:lnTo>
                  <a:lnTo>
                    <a:pt x="171" y="186"/>
                  </a:lnTo>
                  <a:lnTo>
                    <a:pt x="171" y="183"/>
                  </a:lnTo>
                  <a:lnTo>
                    <a:pt x="167" y="178"/>
                  </a:lnTo>
                  <a:lnTo>
                    <a:pt x="166" y="172"/>
                  </a:lnTo>
                  <a:lnTo>
                    <a:pt x="172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6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8"/>
                  </a:lnTo>
                  <a:lnTo>
                    <a:pt x="107" y="30"/>
                  </a:lnTo>
                  <a:lnTo>
                    <a:pt x="114" y="43"/>
                  </a:lnTo>
                  <a:lnTo>
                    <a:pt x="117" y="59"/>
                  </a:lnTo>
                  <a:lnTo>
                    <a:pt x="117" y="75"/>
                  </a:lnTo>
                  <a:lnTo>
                    <a:pt x="111" y="90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5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1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0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4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4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4"/>
                  </a:lnTo>
                  <a:lnTo>
                    <a:pt x="30" y="268"/>
                  </a:lnTo>
                  <a:lnTo>
                    <a:pt x="27" y="275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3" y="291"/>
                  </a:lnTo>
                  <a:lnTo>
                    <a:pt x="10" y="291"/>
                  </a:lnTo>
                  <a:lnTo>
                    <a:pt x="11" y="291"/>
                  </a:lnTo>
                  <a:lnTo>
                    <a:pt x="9" y="291"/>
                  </a:lnTo>
                  <a:lnTo>
                    <a:pt x="7" y="29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0040" y="1629720"/>
              <a:ext cx="178560" cy="32832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8" y="294"/>
                  </a:moveTo>
                  <a:lnTo>
                    <a:pt x="3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6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58" y="232"/>
                  </a:lnTo>
                  <a:lnTo>
                    <a:pt x="55" y="228"/>
                  </a:lnTo>
                  <a:lnTo>
                    <a:pt x="54" y="218"/>
                  </a:lnTo>
                  <a:lnTo>
                    <a:pt x="51" y="210"/>
                  </a:lnTo>
                  <a:lnTo>
                    <a:pt x="44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2"/>
                  </a:lnTo>
                  <a:lnTo>
                    <a:pt x="127" y="186"/>
                  </a:lnTo>
                  <a:lnTo>
                    <a:pt x="149" y="190"/>
                  </a:lnTo>
                  <a:lnTo>
                    <a:pt x="172" y="187"/>
                  </a:lnTo>
                  <a:lnTo>
                    <a:pt x="171" y="183"/>
                  </a:lnTo>
                  <a:lnTo>
                    <a:pt x="168" y="178"/>
                  </a:lnTo>
                  <a:lnTo>
                    <a:pt x="167" y="172"/>
                  </a:lnTo>
                  <a:lnTo>
                    <a:pt x="173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7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9"/>
                  </a:lnTo>
                  <a:lnTo>
                    <a:pt x="107" y="30"/>
                  </a:lnTo>
                  <a:lnTo>
                    <a:pt x="114" y="44"/>
                  </a:lnTo>
                  <a:lnTo>
                    <a:pt x="117" y="59"/>
                  </a:lnTo>
                  <a:lnTo>
                    <a:pt x="118" y="75"/>
                  </a:lnTo>
                  <a:lnTo>
                    <a:pt x="111" y="91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6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2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1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5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5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27" y="276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4" y="291"/>
                  </a:lnTo>
                  <a:lnTo>
                    <a:pt x="11" y="291"/>
                  </a:lnTo>
                  <a:lnTo>
                    <a:pt x="12" y="291"/>
                  </a:lnTo>
                  <a:lnTo>
                    <a:pt x="9" y="291"/>
                  </a:lnTo>
                  <a:lnTo>
                    <a:pt x="8" y="29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4200" y="2309040"/>
              <a:ext cx="16560" cy="352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7" y="0"/>
                  </a:moveTo>
                  <a:lnTo>
                    <a:pt x="1" y="7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19" y="24"/>
                  </a:lnTo>
                  <a:lnTo>
                    <a:pt x="11" y="15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64200" y="2309040"/>
              <a:ext cx="17640" cy="352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8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7" y="30"/>
                  </a:lnTo>
                  <a:lnTo>
                    <a:pt x="13" y="34"/>
                  </a:lnTo>
                  <a:lnTo>
                    <a:pt x="17" y="30"/>
                  </a:lnTo>
                  <a:lnTo>
                    <a:pt x="20" y="23"/>
                  </a:lnTo>
                  <a:lnTo>
                    <a:pt x="12" y="15"/>
                  </a:lnTo>
                  <a:lnTo>
                    <a:pt x="13" y="3"/>
                  </a:lnTo>
                  <a:lnTo>
                    <a:pt x="8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120" y="2574720"/>
              <a:ext cx="17280" cy="34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1120" y="2574720"/>
              <a:ext cx="17280" cy="34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1"/>
                  </a:lnTo>
                  <a:lnTo>
                    <a:pt x="0" y="2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4760" y="2649960"/>
              <a:ext cx="14040" cy="280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44760" y="2649960"/>
              <a:ext cx="14040" cy="280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13440" y="2698920"/>
              <a:ext cx="15480" cy="270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13440" y="2698920"/>
              <a:ext cx="15480" cy="270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49000" y="2746800"/>
              <a:ext cx="56160" cy="4140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9000" y="2746800"/>
              <a:ext cx="56160" cy="4140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14680" y="2189160"/>
              <a:ext cx="17640" cy="20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14680" y="2189160"/>
              <a:ext cx="17640" cy="20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3240" y="2741760"/>
              <a:ext cx="209520" cy="30924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8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7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5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10" y="151"/>
                  </a:lnTo>
                  <a:lnTo>
                    <a:pt x="208" y="152"/>
                  </a:lnTo>
                  <a:lnTo>
                    <a:pt x="203" y="151"/>
                  </a:lnTo>
                  <a:lnTo>
                    <a:pt x="199" y="149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6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5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1"/>
                  </a:lnTo>
                  <a:lnTo>
                    <a:pt x="170" y="140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3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7"/>
                  </a:lnTo>
                  <a:lnTo>
                    <a:pt x="230" y="97"/>
                  </a:lnTo>
                  <a:lnTo>
                    <a:pt x="232" y="96"/>
                  </a:lnTo>
                  <a:lnTo>
                    <a:pt x="233" y="93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7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0"/>
                  </a:lnTo>
                  <a:lnTo>
                    <a:pt x="94" y="51"/>
                  </a:lnTo>
                  <a:lnTo>
                    <a:pt x="95" y="42"/>
                  </a:lnTo>
                  <a:lnTo>
                    <a:pt x="97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1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2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8"/>
                  </a:lnTo>
                  <a:lnTo>
                    <a:pt x="9" y="110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0" y="163"/>
                  </a:lnTo>
                  <a:lnTo>
                    <a:pt x="39" y="163"/>
                  </a:lnTo>
                  <a:lnTo>
                    <a:pt x="38" y="163"/>
                  </a:lnTo>
                  <a:lnTo>
                    <a:pt x="36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39" y="174"/>
                  </a:lnTo>
                  <a:lnTo>
                    <a:pt x="43" y="174"/>
                  </a:lnTo>
                  <a:lnTo>
                    <a:pt x="42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0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7" y="266"/>
                  </a:lnTo>
                  <a:lnTo>
                    <a:pt x="78" y="257"/>
                  </a:lnTo>
                  <a:lnTo>
                    <a:pt x="79" y="249"/>
                  </a:lnTo>
                  <a:lnTo>
                    <a:pt x="78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0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0" y="254"/>
                  </a:lnTo>
                  <a:lnTo>
                    <a:pt x="80" y="260"/>
                  </a:lnTo>
                  <a:lnTo>
                    <a:pt x="79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2"/>
                  </a:lnTo>
                  <a:lnTo>
                    <a:pt x="104" y="241"/>
                  </a:lnTo>
                  <a:lnTo>
                    <a:pt x="104" y="247"/>
                  </a:lnTo>
                  <a:lnTo>
                    <a:pt x="107" y="252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4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7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5"/>
                  </a:lnTo>
                  <a:lnTo>
                    <a:pt x="127" y="202"/>
                  </a:lnTo>
                  <a:lnTo>
                    <a:pt x="129" y="198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1" y="228"/>
                  </a:lnTo>
                  <a:lnTo>
                    <a:pt x="148" y="221"/>
                  </a:lnTo>
                  <a:lnTo>
                    <a:pt x="142" y="212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2"/>
                  </a:lnTo>
                  <a:lnTo>
                    <a:pt x="138" y="194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8"/>
                  </a:lnTo>
                  <a:lnTo>
                    <a:pt x="159" y="241"/>
                  </a:lnTo>
                  <a:lnTo>
                    <a:pt x="162" y="233"/>
                  </a:lnTo>
                  <a:lnTo>
                    <a:pt x="162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8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7"/>
                  </a:lnTo>
                  <a:lnTo>
                    <a:pt x="195" y="245"/>
                  </a:lnTo>
                  <a:lnTo>
                    <a:pt x="197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3" y="290"/>
                  </a:lnTo>
                  <a:lnTo>
                    <a:pt x="205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1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7" y="243"/>
                  </a:lnTo>
                  <a:lnTo>
                    <a:pt x="238" y="24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3240" y="2741760"/>
              <a:ext cx="209520" cy="30924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9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6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09" y="152"/>
                  </a:lnTo>
                  <a:lnTo>
                    <a:pt x="208" y="152"/>
                  </a:lnTo>
                  <a:lnTo>
                    <a:pt x="203" y="152"/>
                  </a:lnTo>
                  <a:lnTo>
                    <a:pt x="198" y="150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7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4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2"/>
                  </a:lnTo>
                  <a:lnTo>
                    <a:pt x="170" y="141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2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8"/>
                  </a:lnTo>
                  <a:lnTo>
                    <a:pt x="230" y="98"/>
                  </a:lnTo>
                  <a:lnTo>
                    <a:pt x="232" y="96"/>
                  </a:lnTo>
                  <a:lnTo>
                    <a:pt x="233" y="94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6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1"/>
                  </a:lnTo>
                  <a:lnTo>
                    <a:pt x="94" y="52"/>
                  </a:lnTo>
                  <a:lnTo>
                    <a:pt x="95" y="42"/>
                  </a:lnTo>
                  <a:lnTo>
                    <a:pt x="98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2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9"/>
                  </a:lnTo>
                  <a:lnTo>
                    <a:pt x="9" y="111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1" y="163"/>
                  </a:lnTo>
                  <a:lnTo>
                    <a:pt x="39" y="163"/>
                  </a:lnTo>
                  <a:lnTo>
                    <a:pt x="39" y="163"/>
                  </a:lnTo>
                  <a:lnTo>
                    <a:pt x="37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3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1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8" y="266"/>
                  </a:lnTo>
                  <a:lnTo>
                    <a:pt x="79" y="257"/>
                  </a:lnTo>
                  <a:lnTo>
                    <a:pt x="79" y="249"/>
                  </a:lnTo>
                  <a:lnTo>
                    <a:pt x="79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1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1" y="254"/>
                  </a:lnTo>
                  <a:lnTo>
                    <a:pt x="80" y="260"/>
                  </a:lnTo>
                  <a:lnTo>
                    <a:pt x="80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3"/>
                  </a:lnTo>
                  <a:lnTo>
                    <a:pt x="104" y="242"/>
                  </a:lnTo>
                  <a:lnTo>
                    <a:pt x="104" y="247"/>
                  </a:lnTo>
                  <a:lnTo>
                    <a:pt x="107" y="253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5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6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6"/>
                  </a:lnTo>
                  <a:lnTo>
                    <a:pt x="127" y="202"/>
                  </a:lnTo>
                  <a:lnTo>
                    <a:pt x="129" y="199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0" y="228"/>
                  </a:lnTo>
                  <a:lnTo>
                    <a:pt x="148" y="221"/>
                  </a:lnTo>
                  <a:lnTo>
                    <a:pt x="142" y="213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3"/>
                  </a:lnTo>
                  <a:lnTo>
                    <a:pt x="138" y="195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9"/>
                  </a:lnTo>
                  <a:lnTo>
                    <a:pt x="158" y="242"/>
                  </a:lnTo>
                  <a:lnTo>
                    <a:pt x="161" y="233"/>
                  </a:lnTo>
                  <a:lnTo>
                    <a:pt x="161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7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8"/>
                  </a:lnTo>
                  <a:lnTo>
                    <a:pt x="195" y="245"/>
                  </a:lnTo>
                  <a:lnTo>
                    <a:pt x="196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2" y="291"/>
                  </a:lnTo>
                  <a:lnTo>
                    <a:pt x="204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0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6" y="243"/>
                  </a:lnTo>
                  <a:lnTo>
                    <a:pt x="238" y="24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58440" y="2230920"/>
              <a:ext cx="1291320" cy="151236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3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6"/>
                  </a:lnTo>
                  <a:lnTo>
                    <a:pt x="1068" y="485"/>
                  </a:lnTo>
                  <a:lnTo>
                    <a:pt x="1084" y="486"/>
                  </a:lnTo>
                  <a:lnTo>
                    <a:pt x="1099" y="488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7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5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0" y="438"/>
                  </a:lnTo>
                  <a:lnTo>
                    <a:pt x="1180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2" y="433"/>
                  </a:lnTo>
                  <a:lnTo>
                    <a:pt x="1183" y="433"/>
                  </a:lnTo>
                  <a:lnTo>
                    <a:pt x="1183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1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7" y="385"/>
                  </a:lnTo>
                  <a:lnTo>
                    <a:pt x="1262" y="379"/>
                  </a:lnTo>
                  <a:lnTo>
                    <a:pt x="1269" y="376"/>
                  </a:lnTo>
                  <a:lnTo>
                    <a:pt x="1279" y="374"/>
                  </a:lnTo>
                  <a:lnTo>
                    <a:pt x="1289" y="375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4" y="353"/>
                  </a:lnTo>
                  <a:lnTo>
                    <a:pt x="1364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1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1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3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0" y="390"/>
                  </a:lnTo>
                  <a:lnTo>
                    <a:pt x="1412" y="392"/>
                  </a:lnTo>
                  <a:lnTo>
                    <a:pt x="1414" y="394"/>
                  </a:lnTo>
                  <a:lnTo>
                    <a:pt x="1426" y="393"/>
                  </a:lnTo>
                  <a:lnTo>
                    <a:pt x="1436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3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8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3"/>
                  </a:lnTo>
                  <a:lnTo>
                    <a:pt x="1395" y="458"/>
                  </a:lnTo>
                  <a:lnTo>
                    <a:pt x="1390" y="464"/>
                  </a:lnTo>
                  <a:lnTo>
                    <a:pt x="1383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5" y="477"/>
                  </a:lnTo>
                  <a:lnTo>
                    <a:pt x="1358" y="484"/>
                  </a:lnTo>
                  <a:lnTo>
                    <a:pt x="1351" y="492"/>
                  </a:lnTo>
                  <a:lnTo>
                    <a:pt x="1350" y="499"/>
                  </a:lnTo>
                  <a:lnTo>
                    <a:pt x="1353" y="507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1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19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8" y="623"/>
                  </a:lnTo>
                  <a:lnTo>
                    <a:pt x="1308" y="628"/>
                  </a:lnTo>
                  <a:lnTo>
                    <a:pt x="1296" y="636"/>
                  </a:lnTo>
                  <a:lnTo>
                    <a:pt x="1281" y="632"/>
                  </a:lnTo>
                  <a:lnTo>
                    <a:pt x="1265" y="629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1" y="670"/>
                  </a:lnTo>
                  <a:lnTo>
                    <a:pt x="1261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3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3" y="709"/>
                  </a:lnTo>
                  <a:lnTo>
                    <a:pt x="1223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9"/>
                  </a:lnTo>
                  <a:lnTo>
                    <a:pt x="1190" y="660"/>
                  </a:lnTo>
                  <a:lnTo>
                    <a:pt x="1188" y="662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3" y="673"/>
                  </a:lnTo>
                  <a:lnTo>
                    <a:pt x="1182" y="676"/>
                  </a:lnTo>
                  <a:lnTo>
                    <a:pt x="1176" y="676"/>
                  </a:lnTo>
                  <a:lnTo>
                    <a:pt x="1172" y="670"/>
                  </a:lnTo>
                  <a:lnTo>
                    <a:pt x="1168" y="665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3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4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4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6" y="583"/>
                  </a:lnTo>
                  <a:lnTo>
                    <a:pt x="1224" y="581"/>
                  </a:lnTo>
                  <a:lnTo>
                    <a:pt x="1221" y="580"/>
                  </a:lnTo>
                  <a:lnTo>
                    <a:pt x="1218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6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8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1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8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90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1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3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4"/>
                  </a:lnTo>
                  <a:lnTo>
                    <a:pt x="1009" y="534"/>
                  </a:lnTo>
                  <a:lnTo>
                    <a:pt x="1011" y="534"/>
                  </a:lnTo>
                  <a:lnTo>
                    <a:pt x="1011" y="534"/>
                  </a:lnTo>
                  <a:lnTo>
                    <a:pt x="1015" y="539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1"/>
                  </a:lnTo>
                  <a:lnTo>
                    <a:pt x="1036" y="553"/>
                  </a:lnTo>
                  <a:lnTo>
                    <a:pt x="1043" y="552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3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8" y="586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6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3"/>
                  </a:lnTo>
                  <a:lnTo>
                    <a:pt x="1033" y="653"/>
                  </a:lnTo>
                  <a:lnTo>
                    <a:pt x="1032" y="653"/>
                  </a:lnTo>
                  <a:lnTo>
                    <a:pt x="1030" y="655"/>
                  </a:lnTo>
                  <a:lnTo>
                    <a:pt x="1029" y="657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3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5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0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5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8"/>
                  </a:lnTo>
                  <a:lnTo>
                    <a:pt x="1021" y="765"/>
                  </a:lnTo>
                  <a:lnTo>
                    <a:pt x="1012" y="769"/>
                  </a:lnTo>
                  <a:lnTo>
                    <a:pt x="1006" y="756"/>
                  </a:lnTo>
                  <a:lnTo>
                    <a:pt x="998" y="742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6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8"/>
                  </a:lnTo>
                  <a:lnTo>
                    <a:pt x="733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9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5"/>
                  </a:lnTo>
                  <a:lnTo>
                    <a:pt x="624" y="1052"/>
                  </a:lnTo>
                  <a:lnTo>
                    <a:pt x="615" y="1053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8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9"/>
                  </a:lnTo>
                  <a:lnTo>
                    <a:pt x="614" y="1199"/>
                  </a:lnTo>
                  <a:lnTo>
                    <a:pt x="611" y="1208"/>
                  </a:lnTo>
                  <a:lnTo>
                    <a:pt x="611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8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1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9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1"/>
                  </a:lnTo>
                  <a:lnTo>
                    <a:pt x="551" y="1374"/>
                  </a:lnTo>
                  <a:lnTo>
                    <a:pt x="546" y="1386"/>
                  </a:lnTo>
                  <a:lnTo>
                    <a:pt x="538" y="1397"/>
                  </a:lnTo>
                  <a:lnTo>
                    <a:pt x="528" y="1402"/>
                  </a:lnTo>
                  <a:lnTo>
                    <a:pt x="517" y="1406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5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5" y="1348"/>
                  </a:lnTo>
                  <a:lnTo>
                    <a:pt x="400" y="1326"/>
                  </a:lnTo>
                  <a:lnTo>
                    <a:pt x="376" y="1285"/>
                  </a:lnTo>
                  <a:lnTo>
                    <a:pt x="351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2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7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4"/>
                  </a:lnTo>
                  <a:lnTo>
                    <a:pt x="239" y="886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9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5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9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3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5" y="794"/>
                  </a:lnTo>
                  <a:lnTo>
                    <a:pt x="156" y="800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8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7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8"/>
                  </a:lnTo>
                  <a:lnTo>
                    <a:pt x="73" y="610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7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2" y="520"/>
                  </a:lnTo>
                  <a:lnTo>
                    <a:pt x="99" y="508"/>
                  </a:lnTo>
                  <a:lnTo>
                    <a:pt x="98" y="494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5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1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9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2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2" y="354"/>
                  </a:lnTo>
                  <a:lnTo>
                    <a:pt x="244" y="343"/>
                  </a:lnTo>
                  <a:lnTo>
                    <a:pt x="251" y="333"/>
                  </a:lnTo>
                  <a:lnTo>
                    <a:pt x="256" y="321"/>
                  </a:lnTo>
                  <a:lnTo>
                    <a:pt x="262" y="309"/>
                  </a:lnTo>
                  <a:lnTo>
                    <a:pt x="270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3" y="237"/>
                  </a:lnTo>
                  <a:lnTo>
                    <a:pt x="318" y="236"/>
                  </a:lnTo>
                  <a:lnTo>
                    <a:pt x="319" y="230"/>
                  </a:lnTo>
                  <a:lnTo>
                    <a:pt x="322" y="225"/>
                  </a:lnTo>
                  <a:lnTo>
                    <a:pt x="328" y="223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80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3" y="115"/>
                  </a:lnTo>
                  <a:lnTo>
                    <a:pt x="305" y="113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7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6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6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1" y="72"/>
                  </a:lnTo>
                  <a:lnTo>
                    <a:pt x="534" y="84"/>
                  </a:lnTo>
                  <a:lnTo>
                    <a:pt x="533" y="97"/>
                  </a:lnTo>
                  <a:lnTo>
                    <a:pt x="542" y="110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3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5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19" y="165"/>
                  </a:lnTo>
                  <a:lnTo>
                    <a:pt x="518" y="169"/>
                  </a:lnTo>
                  <a:lnTo>
                    <a:pt x="527" y="188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6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6" y="255"/>
                  </a:lnTo>
                  <a:lnTo>
                    <a:pt x="609" y="268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5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3" y="324"/>
                  </a:lnTo>
                  <a:lnTo>
                    <a:pt x="603" y="333"/>
                  </a:lnTo>
                  <a:lnTo>
                    <a:pt x="604" y="341"/>
                  </a:lnTo>
                  <a:lnTo>
                    <a:pt x="601" y="351"/>
                  </a:lnTo>
                  <a:lnTo>
                    <a:pt x="598" y="357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6"/>
                  </a:lnTo>
                  <a:lnTo>
                    <a:pt x="615" y="383"/>
                  </a:lnTo>
                  <a:lnTo>
                    <a:pt x="626" y="381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5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4" y="419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2" y="445"/>
                  </a:lnTo>
                  <a:lnTo>
                    <a:pt x="753" y="448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4"/>
                  </a:lnTo>
                  <a:lnTo>
                    <a:pt x="809" y="446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2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6"/>
                  </a:lnTo>
                  <a:lnTo>
                    <a:pt x="834" y="466"/>
                  </a:lnTo>
                  <a:lnTo>
                    <a:pt x="836" y="466"/>
                  </a:lnTo>
                  <a:lnTo>
                    <a:pt x="839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1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2"/>
                  </a:lnTo>
                  <a:lnTo>
                    <a:pt x="913" y="493"/>
                  </a:lnTo>
                  <a:lnTo>
                    <a:pt x="913" y="494"/>
                  </a:lnTo>
                  <a:lnTo>
                    <a:pt x="920" y="499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7"/>
                  </a:lnTo>
                  <a:lnTo>
                    <a:pt x="941" y="496"/>
                  </a:lnTo>
                  <a:lnTo>
                    <a:pt x="955" y="497"/>
                  </a:lnTo>
                  <a:lnTo>
                    <a:pt x="969" y="498"/>
                  </a:lnTo>
                  <a:lnTo>
                    <a:pt x="984" y="499"/>
                  </a:lnTo>
                  <a:lnTo>
                    <a:pt x="989" y="500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6"/>
                  </a:lnTo>
                  <a:lnTo>
                    <a:pt x="1006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2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3" y="437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0" y="429"/>
                  </a:lnTo>
                  <a:lnTo>
                    <a:pt x="1010" y="426"/>
                  </a:lnTo>
                  <a:lnTo>
                    <a:pt x="1010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1"/>
                  </a:lnTo>
                  <a:lnTo>
                    <a:pt x="1029" y="410"/>
                  </a:lnTo>
                  <a:lnTo>
                    <a:pt x="1034" y="410"/>
                  </a:lnTo>
                  <a:lnTo>
                    <a:pt x="1037" y="414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7"/>
                  </a:lnTo>
                  <a:lnTo>
                    <a:pt x="1042" y="44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8440" y="2230920"/>
              <a:ext cx="1291320" cy="151236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2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5"/>
                  </a:lnTo>
                  <a:lnTo>
                    <a:pt x="1068" y="485"/>
                  </a:lnTo>
                  <a:lnTo>
                    <a:pt x="1085" y="486"/>
                  </a:lnTo>
                  <a:lnTo>
                    <a:pt x="1100" y="487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6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4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1" y="438"/>
                  </a:lnTo>
                  <a:lnTo>
                    <a:pt x="1181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3" y="433"/>
                  </a:lnTo>
                  <a:lnTo>
                    <a:pt x="1184" y="433"/>
                  </a:lnTo>
                  <a:lnTo>
                    <a:pt x="1184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0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8" y="385"/>
                  </a:lnTo>
                  <a:lnTo>
                    <a:pt x="1263" y="379"/>
                  </a:lnTo>
                  <a:lnTo>
                    <a:pt x="1269" y="375"/>
                  </a:lnTo>
                  <a:lnTo>
                    <a:pt x="1279" y="374"/>
                  </a:lnTo>
                  <a:lnTo>
                    <a:pt x="1289" y="374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5" y="353"/>
                  </a:lnTo>
                  <a:lnTo>
                    <a:pt x="1365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2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0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4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1" y="390"/>
                  </a:lnTo>
                  <a:lnTo>
                    <a:pt x="1412" y="392"/>
                  </a:lnTo>
                  <a:lnTo>
                    <a:pt x="1414" y="393"/>
                  </a:lnTo>
                  <a:lnTo>
                    <a:pt x="1426" y="393"/>
                  </a:lnTo>
                  <a:lnTo>
                    <a:pt x="1437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4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7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2"/>
                  </a:lnTo>
                  <a:lnTo>
                    <a:pt x="1396" y="458"/>
                  </a:lnTo>
                  <a:lnTo>
                    <a:pt x="1390" y="464"/>
                  </a:lnTo>
                  <a:lnTo>
                    <a:pt x="1384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6" y="477"/>
                  </a:lnTo>
                  <a:lnTo>
                    <a:pt x="1358" y="484"/>
                  </a:lnTo>
                  <a:lnTo>
                    <a:pt x="1352" y="492"/>
                  </a:lnTo>
                  <a:lnTo>
                    <a:pt x="1350" y="499"/>
                  </a:lnTo>
                  <a:lnTo>
                    <a:pt x="1353" y="506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0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20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9" y="623"/>
                  </a:lnTo>
                  <a:lnTo>
                    <a:pt x="1308" y="628"/>
                  </a:lnTo>
                  <a:lnTo>
                    <a:pt x="1296" y="635"/>
                  </a:lnTo>
                  <a:lnTo>
                    <a:pt x="1281" y="631"/>
                  </a:lnTo>
                  <a:lnTo>
                    <a:pt x="1266" y="628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2" y="670"/>
                  </a:lnTo>
                  <a:lnTo>
                    <a:pt x="1262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4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4" y="709"/>
                  </a:lnTo>
                  <a:lnTo>
                    <a:pt x="1224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8"/>
                  </a:lnTo>
                  <a:lnTo>
                    <a:pt x="1190" y="660"/>
                  </a:lnTo>
                  <a:lnTo>
                    <a:pt x="1188" y="661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4" y="672"/>
                  </a:lnTo>
                  <a:lnTo>
                    <a:pt x="1182" y="676"/>
                  </a:lnTo>
                  <a:lnTo>
                    <a:pt x="1176" y="675"/>
                  </a:lnTo>
                  <a:lnTo>
                    <a:pt x="1173" y="670"/>
                  </a:lnTo>
                  <a:lnTo>
                    <a:pt x="1168" y="664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2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3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3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7" y="583"/>
                  </a:lnTo>
                  <a:lnTo>
                    <a:pt x="1224" y="581"/>
                  </a:lnTo>
                  <a:lnTo>
                    <a:pt x="1221" y="579"/>
                  </a:lnTo>
                  <a:lnTo>
                    <a:pt x="1219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5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9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0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9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89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2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2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3"/>
                  </a:lnTo>
                  <a:lnTo>
                    <a:pt x="1009" y="533"/>
                  </a:lnTo>
                  <a:lnTo>
                    <a:pt x="1011" y="534"/>
                  </a:lnTo>
                  <a:lnTo>
                    <a:pt x="1012" y="534"/>
                  </a:lnTo>
                  <a:lnTo>
                    <a:pt x="1015" y="538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0"/>
                  </a:lnTo>
                  <a:lnTo>
                    <a:pt x="1036" y="553"/>
                  </a:lnTo>
                  <a:lnTo>
                    <a:pt x="1044" y="551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2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9" y="585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7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2"/>
                  </a:lnTo>
                  <a:lnTo>
                    <a:pt x="1033" y="652"/>
                  </a:lnTo>
                  <a:lnTo>
                    <a:pt x="1032" y="653"/>
                  </a:lnTo>
                  <a:lnTo>
                    <a:pt x="1030" y="654"/>
                  </a:lnTo>
                  <a:lnTo>
                    <a:pt x="1029" y="656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2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6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1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4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7"/>
                  </a:lnTo>
                  <a:lnTo>
                    <a:pt x="1021" y="765"/>
                  </a:lnTo>
                  <a:lnTo>
                    <a:pt x="1013" y="768"/>
                  </a:lnTo>
                  <a:lnTo>
                    <a:pt x="1006" y="756"/>
                  </a:lnTo>
                  <a:lnTo>
                    <a:pt x="998" y="741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5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7"/>
                  </a:lnTo>
                  <a:lnTo>
                    <a:pt x="734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8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4"/>
                  </a:lnTo>
                  <a:lnTo>
                    <a:pt x="625" y="1052"/>
                  </a:lnTo>
                  <a:lnTo>
                    <a:pt x="615" y="1052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9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8"/>
                  </a:lnTo>
                  <a:lnTo>
                    <a:pt x="614" y="1199"/>
                  </a:lnTo>
                  <a:lnTo>
                    <a:pt x="611" y="1207"/>
                  </a:lnTo>
                  <a:lnTo>
                    <a:pt x="612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7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0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8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0"/>
                  </a:lnTo>
                  <a:lnTo>
                    <a:pt x="551" y="1373"/>
                  </a:lnTo>
                  <a:lnTo>
                    <a:pt x="546" y="1386"/>
                  </a:lnTo>
                  <a:lnTo>
                    <a:pt x="538" y="1396"/>
                  </a:lnTo>
                  <a:lnTo>
                    <a:pt x="528" y="1402"/>
                  </a:lnTo>
                  <a:lnTo>
                    <a:pt x="518" y="1405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4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6" y="1348"/>
                  </a:lnTo>
                  <a:lnTo>
                    <a:pt x="400" y="1325"/>
                  </a:lnTo>
                  <a:lnTo>
                    <a:pt x="376" y="1285"/>
                  </a:lnTo>
                  <a:lnTo>
                    <a:pt x="352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3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8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3"/>
                  </a:lnTo>
                  <a:lnTo>
                    <a:pt x="239" y="885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8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4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8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2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6" y="794"/>
                  </a:lnTo>
                  <a:lnTo>
                    <a:pt x="156" y="799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9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8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4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9"/>
                  </a:lnTo>
                  <a:lnTo>
                    <a:pt x="73" y="609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6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3" y="520"/>
                  </a:lnTo>
                  <a:lnTo>
                    <a:pt x="99" y="508"/>
                  </a:lnTo>
                  <a:lnTo>
                    <a:pt x="98" y="493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4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2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8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3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3" y="354"/>
                  </a:lnTo>
                  <a:lnTo>
                    <a:pt x="244" y="343"/>
                  </a:lnTo>
                  <a:lnTo>
                    <a:pt x="251" y="332"/>
                  </a:lnTo>
                  <a:lnTo>
                    <a:pt x="256" y="320"/>
                  </a:lnTo>
                  <a:lnTo>
                    <a:pt x="262" y="309"/>
                  </a:lnTo>
                  <a:lnTo>
                    <a:pt x="271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4" y="237"/>
                  </a:lnTo>
                  <a:lnTo>
                    <a:pt x="318" y="236"/>
                  </a:lnTo>
                  <a:lnTo>
                    <a:pt x="319" y="229"/>
                  </a:lnTo>
                  <a:lnTo>
                    <a:pt x="322" y="225"/>
                  </a:lnTo>
                  <a:lnTo>
                    <a:pt x="328" y="222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79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4" y="115"/>
                  </a:lnTo>
                  <a:lnTo>
                    <a:pt x="305" y="112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8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7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5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2" y="72"/>
                  </a:lnTo>
                  <a:lnTo>
                    <a:pt x="535" y="84"/>
                  </a:lnTo>
                  <a:lnTo>
                    <a:pt x="533" y="97"/>
                  </a:lnTo>
                  <a:lnTo>
                    <a:pt x="542" y="109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4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6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20" y="165"/>
                  </a:lnTo>
                  <a:lnTo>
                    <a:pt x="518" y="169"/>
                  </a:lnTo>
                  <a:lnTo>
                    <a:pt x="527" y="187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7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7" y="255"/>
                  </a:lnTo>
                  <a:lnTo>
                    <a:pt x="609" y="267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6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4" y="324"/>
                  </a:lnTo>
                  <a:lnTo>
                    <a:pt x="603" y="332"/>
                  </a:lnTo>
                  <a:lnTo>
                    <a:pt x="604" y="341"/>
                  </a:lnTo>
                  <a:lnTo>
                    <a:pt x="602" y="351"/>
                  </a:lnTo>
                  <a:lnTo>
                    <a:pt x="598" y="356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5"/>
                  </a:lnTo>
                  <a:lnTo>
                    <a:pt x="615" y="383"/>
                  </a:lnTo>
                  <a:lnTo>
                    <a:pt x="626" y="380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6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5" y="418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3" y="444"/>
                  </a:lnTo>
                  <a:lnTo>
                    <a:pt x="753" y="447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3"/>
                  </a:lnTo>
                  <a:lnTo>
                    <a:pt x="809" y="445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1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5"/>
                  </a:lnTo>
                  <a:lnTo>
                    <a:pt x="835" y="465"/>
                  </a:lnTo>
                  <a:lnTo>
                    <a:pt x="837" y="466"/>
                  </a:lnTo>
                  <a:lnTo>
                    <a:pt x="840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0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1"/>
                  </a:lnTo>
                  <a:lnTo>
                    <a:pt x="913" y="493"/>
                  </a:lnTo>
                  <a:lnTo>
                    <a:pt x="914" y="494"/>
                  </a:lnTo>
                  <a:lnTo>
                    <a:pt x="920" y="498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6"/>
                  </a:lnTo>
                  <a:lnTo>
                    <a:pt x="941" y="496"/>
                  </a:lnTo>
                  <a:lnTo>
                    <a:pt x="955" y="496"/>
                  </a:lnTo>
                  <a:lnTo>
                    <a:pt x="970" y="498"/>
                  </a:lnTo>
                  <a:lnTo>
                    <a:pt x="984" y="499"/>
                  </a:lnTo>
                  <a:lnTo>
                    <a:pt x="989" y="499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5"/>
                  </a:lnTo>
                  <a:lnTo>
                    <a:pt x="1007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3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4" y="436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1" y="429"/>
                  </a:lnTo>
                  <a:lnTo>
                    <a:pt x="1010" y="426"/>
                  </a:lnTo>
                  <a:lnTo>
                    <a:pt x="1011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0"/>
                  </a:lnTo>
                  <a:lnTo>
                    <a:pt x="1029" y="410"/>
                  </a:lnTo>
                  <a:lnTo>
                    <a:pt x="1034" y="409"/>
                  </a:lnTo>
                  <a:lnTo>
                    <a:pt x="1037" y="413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6"/>
                  </a:lnTo>
                  <a:lnTo>
                    <a:pt x="1042" y="44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3720" y="2133000"/>
              <a:ext cx="749880" cy="77508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5" y="138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0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199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0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1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2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2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2" y="331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49" y="394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8"/>
                  </a:lnTo>
                  <a:lnTo>
                    <a:pt x="601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9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1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8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2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1" y="615"/>
                  </a:lnTo>
                  <a:lnTo>
                    <a:pt x="480" y="626"/>
                  </a:lnTo>
                  <a:lnTo>
                    <a:pt x="484" y="628"/>
                  </a:lnTo>
                  <a:lnTo>
                    <a:pt x="490" y="628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5"/>
                  </a:lnTo>
                  <a:lnTo>
                    <a:pt x="499" y="707"/>
                  </a:lnTo>
                  <a:lnTo>
                    <a:pt x="489" y="707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7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3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1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9"/>
                  </a:lnTo>
                  <a:lnTo>
                    <a:pt x="41" y="657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5" y="624"/>
                  </a:lnTo>
                  <a:lnTo>
                    <a:pt x="46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4"/>
                  </a:lnTo>
                  <a:lnTo>
                    <a:pt x="79" y="591"/>
                  </a:lnTo>
                  <a:lnTo>
                    <a:pt x="80" y="586"/>
                  </a:lnTo>
                  <a:lnTo>
                    <a:pt x="83" y="582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8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5" y="489"/>
                  </a:lnTo>
                  <a:lnTo>
                    <a:pt x="79" y="492"/>
                  </a:lnTo>
                  <a:lnTo>
                    <a:pt x="73" y="491"/>
                  </a:lnTo>
                  <a:lnTo>
                    <a:pt x="72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8"/>
                  </a:lnTo>
                  <a:lnTo>
                    <a:pt x="29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9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4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5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0" y="378"/>
                  </a:lnTo>
                  <a:lnTo>
                    <a:pt x="282" y="373"/>
                  </a:lnTo>
                  <a:lnTo>
                    <a:pt x="282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6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2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6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6" y="175"/>
                  </a:lnTo>
                  <a:lnTo>
                    <a:pt x="478" y="173"/>
                  </a:lnTo>
                  <a:lnTo>
                    <a:pt x="492" y="175"/>
                  </a:lnTo>
                  <a:lnTo>
                    <a:pt x="500" y="179"/>
                  </a:lnTo>
                  <a:lnTo>
                    <a:pt x="510" y="181"/>
                  </a:lnTo>
                  <a:lnTo>
                    <a:pt x="517" y="179"/>
                  </a:lnTo>
                  <a:lnTo>
                    <a:pt x="521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7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5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5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1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2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4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2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0"/>
                  </a:lnTo>
                  <a:lnTo>
                    <a:pt x="811" y="77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3720" y="2133000"/>
              <a:ext cx="749880" cy="77508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6" y="139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1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200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1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2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3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3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3" y="332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50" y="393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7"/>
                  </a:lnTo>
                  <a:lnTo>
                    <a:pt x="602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8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0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7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3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2" y="615"/>
                  </a:lnTo>
                  <a:lnTo>
                    <a:pt x="480" y="626"/>
                  </a:lnTo>
                  <a:lnTo>
                    <a:pt x="484" y="627"/>
                  </a:lnTo>
                  <a:lnTo>
                    <a:pt x="490" y="627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4"/>
                  </a:lnTo>
                  <a:lnTo>
                    <a:pt x="499" y="706"/>
                  </a:lnTo>
                  <a:lnTo>
                    <a:pt x="489" y="706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8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4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0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8"/>
                  </a:lnTo>
                  <a:lnTo>
                    <a:pt x="41" y="656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6" y="624"/>
                  </a:lnTo>
                  <a:lnTo>
                    <a:pt x="47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3"/>
                  </a:lnTo>
                  <a:lnTo>
                    <a:pt x="79" y="590"/>
                  </a:lnTo>
                  <a:lnTo>
                    <a:pt x="80" y="585"/>
                  </a:lnTo>
                  <a:lnTo>
                    <a:pt x="83" y="581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9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6" y="489"/>
                  </a:lnTo>
                  <a:lnTo>
                    <a:pt x="79" y="492"/>
                  </a:lnTo>
                  <a:lnTo>
                    <a:pt x="74" y="491"/>
                  </a:lnTo>
                  <a:lnTo>
                    <a:pt x="73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7"/>
                  </a:lnTo>
                  <a:lnTo>
                    <a:pt x="30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8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5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4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1" y="378"/>
                  </a:lnTo>
                  <a:lnTo>
                    <a:pt x="282" y="373"/>
                  </a:lnTo>
                  <a:lnTo>
                    <a:pt x="283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7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3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7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7" y="175"/>
                  </a:lnTo>
                  <a:lnTo>
                    <a:pt x="479" y="173"/>
                  </a:lnTo>
                  <a:lnTo>
                    <a:pt x="492" y="176"/>
                  </a:lnTo>
                  <a:lnTo>
                    <a:pt x="500" y="180"/>
                  </a:lnTo>
                  <a:lnTo>
                    <a:pt x="510" y="182"/>
                  </a:lnTo>
                  <a:lnTo>
                    <a:pt x="517" y="179"/>
                  </a:lnTo>
                  <a:lnTo>
                    <a:pt x="522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8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6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6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2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3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5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3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1"/>
                  </a:lnTo>
                  <a:lnTo>
                    <a:pt x="811" y="78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86840" y="2200680"/>
              <a:ext cx="116280" cy="11052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8" y="23"/>
                  </a:moveTo>
                  <a:lnTo>
                    <a:pt x="32" y="6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8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7" y="106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6" y="97"/>
                  </a:lnTo>
                  <a:lnTo>
                    <a:pt x="53" y="92"/>
                  </a:lnTo>
                  <a:lnTo>
                    <a:pt x="43" y="82"/>
                  </a:lnTo>
                  <a:lnTo>
                    <a:pt x="26" y="64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86840" y="2200680"/>
              <a:ext cx="116280" cy="11124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8" y="23"/>
                  </a:moveTo>
                  <a:lnTo>
                    <a:pt x="32" y="7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9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6" y="107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6" y="98"/>
                  </a:lnTo>
                  <a:lnTo>
                    <a:pt x="53" y="92"/>
                  </a:lnTo>
                  <a:lnTo>
                    <a:pt x="43" y="83"/>
                  </a:lnTo>
                  <a:lnTo>
                    <a:pt x="26" y="65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82240" y="2525040"/>
              <a:ext cx="366840" cy="22680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9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7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39" y="97"/>
                  </a:lnTo>
                  <a:lnTo>
                    <a:pt x="247" y="96"/>
                  </a:lnTo>
                  <a:lnTo>
                    <a:pt x="254" y="96"/>
                  </a:lnTo>
                  <a:lnTo>
                    <a:pt x="258" y="99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3" y="112"/>
                  </a:lnTo>
                  <a:lnTo>
                    <a:pt x="281" y="114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7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8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5"/>
                  </a:lnTo>
                  <a:lnTo>
                    <a:pt x="406" y="184"/>
                  </a:lnTo>
                  <a:lnTo>
                    <a:pt x="407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1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4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7"/>
                  </a:lnTo>
                  <a:lnTo>
                    <a:pt x="325" y="217"/>
                  </a:lnTo>
                  <a:lnTo>
                    <a:pt x="318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309" y="208"/>
                  </a:lnTo>
                  <a:lnTo>
                    <a:pt x="300" y="208"/>
                  </a:lnTo>
                  <a:lnTo>
                    <a:pt x="291" y="209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0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4"/>
                  </a:lnTo>
                  <a:lnTo>
                    <a:pt x="239" y="184"/>
                  </a:lnTo>
                  <a:lnTo>
                    <a:pt x="236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0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8" y="165"/>
                  </a:lnTo>
                  <a:lnTo>
                    <a:pt x="213" y="164"/>
                  </a:lnTo>
                  <a:lnTo>
                    <a:pt x="199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59" y="167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2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9"/>
                  </a:lnTo>
                  <a:lnTo>
                    <a:pt x="52" y="111"/>
                  </a:lnTo>
                  <a:lnTo>
                    <a:pt x="47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3" y="99"/>
                  </a:lnTo>
                  <a:lnTo>
                    <a:pt x="32" y="98"/>
                  </a:lnTo>
                  <a:lnTo>
                    <a:pt x="30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2240" y="2525040"/>
              <a:ext cx="366840" cy="22680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8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8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40" y="97"/>
                  </a:lnTo>
                  <a:lnTo>
                    <a:pt x="247" y="96"/>
                  </a:lnTo>
                  <a:lnTo>
                    <a:pt x="255" y="96"/>
                  </a:lnTo>
                  <a:lnTo>
                    <a:pt x="258" y="100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4" y="112"/>
                  </a:lnTo>
                  <a:lnTo>
                    <a:pt x="281" y="113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6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9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6"/>
                  </a:lnTo>
                  <a:lnTo>
                    <a:pt x="406" y="184"/>
                  </a:lnTo>
                  <a:lnTo>
                    <a:pt x="408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2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5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8"/>
                  </a:lnTo>
                  <a:lnTo>
                    <a:pt x="325" y="217"/>
                  </a:lnTo>
                  <a:lnTo>
                    <a:pt x="319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09" y="208"/>
                  </a:lnTo>
                  <a:lnTo>
                    <a:pt x="300" y="209"/>
                  </a:lnTo>
                  <a:lnTo>
                    <a:pt x="291" y="210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1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5"/>
                  </a:lnTo>
                  <a:lnTo>
                    <a:pt x="239" y="184"/>
                  </a:lnTo>
                  <a:lnTo>
                    <a:pt x="237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1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9" y="165"/>
                  </a:lnTo>
                  <a:lnTo>
                    <a:pt x="214" y="164"/>
                  </a:lnTo>
                  <a:lnTo>
                    <a:pt x="200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3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8"/>
                  </a:lnTo>
                  <a:lnTo>
                    <a:pt x="52" y="111"/>
                  </a:lnTo>
                  <a:lnTo>
                    <a:pt x="48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4" y="99"/>
                  </a:lnTo>
                  <a:lnTo>
                    <a:pt x="32" y="99"/>
                  </a:lnTo>
                  <a:lnTo>
                    <a:pt x="31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3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0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5640" y="2640600"/>
              <a:ext cx="145080" cy="9900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3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6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69"/>
                  </a:lnTo>
                  <a:lnTo>
                    <a:pt x="165" y="83"/>
                  </a:lnTo>
                  <a:lnTo>
                    <a:pt x="161" y="88"/>
                  </a:lnTo>
                  <a:lnTo>
                    <a:pt x="153" y="92"/>
                  </a:lnTo>
                  <a:lnTo>
                    <a:pt x="145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5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65640" y="2640600"/>
              <a:ext cx="145080" cy="9900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2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7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70"/>
                  </a:lnTo>
                  <a:lnTo>
                    <a:pt x="165" y="83"/>
                  </a:lnTo>
                  <a:lnTo>
                    <a:pt x="160" y="88"/>
                  </a:lnTo>
                  <a:lnTo>
                    <a:pt x="153" y="92"/>
                  </a:lnTo>
                  <a:lnTo>
                    <a:pt x="144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4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18280" y="2630160"/>
              <a:ext cx="399600" cy="1011960"/>
            </a:xfrm>
            <a:custGeom>
              <a:avLst/>
              <a:gdLst/>
              <a:ahLst/>
              <a:rect l="l" t="t" r="r" b="b"/>
              <a:pathLst>
                <a:path w="454" h="971">
                  <a:moveTo>
                    <a:pt x="319" y="970"/>
                  </a:moveTo>
                  <a:lnTo>
                    <a:pt x="317" y="958"/>
                  </a:lnTo>
                  <a:lnTo>
                    <a:pt x="318" y="946"/>
                  </a:lnTo>
                  <a:lnTo>
                    <a:pt x="321" y="935"/>
                  </a:lnTo>
                  <a:lnTo>
                    <a:pt x="327" y="920"/>
                  </a:lnTo>
                  <a:lnTo>
                    <a:pt x="331" y="905"/>
                  </a:lnTo>
                  <a:lnTo>
                    <a:pt x="332" y="889"/>
                  </a:lnTo>
                  <a:lnTo>
                    <a:pt x="321" y="892"/>
                  </a:lnTo>
                  <a:lnTo>
                    <a:pt x="311" y="895"/>
                  </a:lnTo>
                  <a:lnTo>
                    <a:pt x="302" y="902"/>
                  </a:lnTo>
                  <a:lnTo>
                    <a:pt x="310" y="889"/>
                  </a:lnTo>
                  <a:lnTo>
                    <a:pt x="321" y="879"/>
                  </a:lnTo>
                  <a:lnTo>
                    <a:pt x="331" y="869"/>
                  </a:lnTo>
                  <a:lnTo>
                    <a:pt x="331" y="866"/>
                  </a:lnTo>
                  <a:lnTo>
                    <a:pt x="329" y="863"/>
                  </a:lnTo>
                  <a:lnTo>
                    <a:pt x="329" y="859"/>
                  </a:lnTo>
                  <a:lnTo>
                    <a:pt x="324" y="858"/>
                  </a:lnTo>
                  <a:lnTo>
                    <a:pt x="320" y="855"/>
                  </a:lnTo>
                  <a:lnTo>
                    <a:pt x="316" y="856"/>
                  </a:lnTo>
                  <a:lnTo>
                    <a:pt x="315" y="852"/>
                  </a:lnTo>
                  <a:lnTo>
                    <a:pt x="311" y="850"/>
                  </a:lnTo>
                  <a:lnTo>
                    <a:pt x="313" y="846"/>
                  </a:lnTo>
                  <a:lnTo>
                    <a:pt x="315" y="846"/>
                  </a:lnTo>
                  <a:lnTo>
                    <a:pt x="317" y="846"/>
                  </a:lnTo>
                  <a:lnTo>
                    <a:pt x="318" y="845"/>
                  </a:lnTo>
                  <a:lnTo>
                    <a:pt x="323" y="824"/>
                  </a:lnTo>
                  <a:lnTo>
                    <a:pt x="318" y="803"/>
                  </a:lnTo>
                  <a:lnTo>
                    <a:pt x="306" y="786"/>
                  </a:lnTo>
                  <a:lnTo>
                    <a:pt x="304" y="792"/>
                  </a:lnTo>
                  <a:lnTo>
                    <a:pt x="300" y="796"/>
                  </a:lnTo>
                  <a:lnTo>
                    <a:pt x="296" y="800"/>
                  </a:lnTo>
                  <a:lnTo>
                    <a:pt x="299" y="781"/>
                  </a:lnTo>
                  <a:lnTo>
                    <a:pt x="300" y="762"/>
                  </a:lnTo>
                  <a:lnTo>
                    <a:pt x="298" y="744"/>
                  </a:lnTo>
                  <a:lnTo>
                    <a:pt x="294" y="738"/>
                  </a:lnTo>
                  <a:lnTo>
                    <a:pt x="290" y="733"/>
                  </a:lnTo>
                  <a:lnTo>
                    <a:pt x="286" y="727"/>
                  </a:lnTo>
                  <a:lnTo>
                    <a:pt x="282" y="706"/>
                  </a:lnTo>
                  <a:lnTo>
                    <a:pt x="280" y="685"/>
                  </a:lnTo>
                  <a:lnTo>
                    <a:pt x="277" y="664"/>
                  </a:lnTo>
                  <a:lnTo>
                    <a:pt x="277" y="655"/>
                  </a:lnTo>
                  <a:lnTo>
                    <a:pt x="279" y="647"/>
                  </a:lnTo>
                  <a:lnTo>
                    <a:pt x="282" y="638"/>
                  </a:lnTo>
                  <a:lnTo>
                    <a:pt x="275" y="641"/>
                  </a:lnTo>
                  <a:lnTo>
                    <a:pt x="267" y="642"/>
                  </a:lnTo>
                  <a:lnTo>
                    <a:pt x="260" y="640"/>
                  </a:lnTo>
                  <a:lnTo>
                    <a:pt x="251" y="628"/>
                  </a:lnTo>
                  <a:lnTo>
                    <a:pt x="251" y="615"/>
                  </a:lnTo>
                  <a:lnTo>
                    <a:pt x="259" y="601"/>
                  </a:lnTo>
                  <a:lnTo>
                    <a:pt x="256" y="607"/>
                  </a:lnTo>
                  <a:lnTo>
                    <a:pt x="251" y="608"/>
                  </a:lnTo>
                  <a:lnTo>
                    <a:pt x="246" y="607"/>
                  </a:lnTo>
                  <a:lnTo>
                    <a:pt x="244" y="603"/>
                  </a:lnTo>
                  <a:lnTo>
                    <a:pt x="242" y="597"/>
                  </a:lnTo>
                  <a:lnTo>
                    <a:pt x="239" y="592"/>
                  </a:lnTo>
                  <a:lnTo>
                    <a:pt x="243" y="598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8"/>
                  </a:lnTo>
                  <a:lnTo>
                    <a:pt x="236" y="626"/>
                  </a:lnTo>
                  <a:lnTo>
                    <a:pt x="236" y="634"/>
                  </a:lnTo>
                  <a:lnTo>
                    <a:pt x="224" y="640"/>
                  </a:lnTo>
                  <a:lnTo>
                    <a:pt x="213" y="647"/>
                  </a:lnTo>
                  <a:lnTo>
                    <a:pt x="200" y="647"/>
                  </a:lnTo>
                  <a:lnTo>
                    <a:pt x="200" y="646"/>
                  </a:lnTo>
                  <a:lnTo>
                    <a:pt x="200" y="643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5"/>
                  </a:lnTo>
                  <a:lnTo>
                    <a:pt x="187" y="663"/>
                  </a:lnTo>
                  <a:lnTo>
                    <a:pt x="186" y="671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7"/>
                  </a:lnTo>
                  <a:lnTo>
                    <a:pt x="177" y="673"/>
                  </a:lnTo>
                  <a:lnTo>
                    <a:pt x="172" y="671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7"/>
                  </a:lnTo>
                  <a:lnTo>
                    <a:pt x="154" y="677"/>
                  </a:lnTo>
                  <a:lnTo>
                    <a:pt x="152" y="676"/>
                  </a:lnTo>
                  <a:lnTo>
                    <a:pt x="150" y="674"/>
                  </a:lnTo>
                  <a:lnTo>
                    <a:pt x="151" y="671"/>
                  </a:lnTo>
                  <a:lnTo>
                    <a:pt x="153" y="666"/>
                  </a:lnTo>
                  <a:lnTo>
                    <a:pt x="156" y="661"/>
                  </a:lnTo>
                  <a:lnTo>
                    <a:pt x="160" y="658"/>
                  </a:lnTo>
                  <a:lnTo>
                    <a:pt x="151" y="662"/>
                  </a:lnTo>
                  <a:lnTo>
                    <a:pt x="141" y="665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6"/>
                  </a:lnTo>
                  <a:lnTo>
                    <a:pt x="134" y="651"/>
                  </a:lnTo>
                  <a:lnTo>
                    <a:pt x="128" y="656"/>
                  </a:lnTo>
                  <a:lnTo>
                    <a:pt x="122" y="661"/>
                  </a:lnTo>
                  <a:lnTo>
                    <a:pt x="117" y="666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4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5"/>
                  </a:lnTo>
                  <a:lnTo>
                    <a:pt x="111" y="618"/>
                  </a:lnTo>
                  <a:lnTo>
                    <a:pt x="111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6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5"/>
                  </a:lnTo>
                  <a:lnTo>
                    <a:pt x="75" y="526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7"/>
                  </a:lnTo>
                  <a:lnTo>
                    <a:pt x="73" y="488"/>
                  </a:lnTo>
                  <a:lnTo>
                    <a:pt x="69" y="476"/>
                  </a:lnTo>
                  <a:lnTo>
                    <a:pt x="67" y="470"/>
                  </a:lnTo>
                  <a:lnTo>
                    <a:pt x="60" y="469"/>
                  </a:lnTo>
                  <a:lnTo>
                    <a:pt x="52" y="467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3"/>
                  </a:lnTo>
                  <a:lnTo>
                    <a:pt x="19" y="426"/>
                  </a:lnTo>
                  <a:lnTo>
                    <a:pt x="8" y="421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1"/>
                  </a:lnTo>
                  <a:lnTo>
                    <a:pt x="22" y="375"/>
                  </a:lnTo>
                  <a:lnTo>
                    <a:pt x="19" y="364"/>
                  </a:lnTo>
                  <a:lnTo>
                    <a:pt x="19" y="355"/>
                  </a:lnTo>
                  <a:lnTo>
                    <a:pt x="29" y="350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49" y="328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7" y="294"/>
                  </a:lnTo>
                  <a:lnTo>
                    <a:pt x="57" y="286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1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4"/>
                  </a:lnTo>
                  <a:lnTo>
                    <a:pt x="104" y="239"/>
                  </a:lnTo>
                  <a:lnTo>
                    <a:pt x="104" y="233"/>
                  </a:lnTo>
                  <a:lnTo>
                    <a:pt x="105" y="230"/>
                  </a:lnTo>
                  <a:lnTo>
                    <a:pt x="115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4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7" y="108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70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6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1" y="62"/>
                  </a:lnTo>
                  <a:lnTo>
                    <a:pt x="230" y="64"/>
                  </a:lnTo>
                  <a:lnTo>
                    <a:pt x="239" y="72"/>
                  </a:lnTo>
                  <a:lnTo>
                    <a:pt x="248" y="75"/>
                  </a:lnTo>
                  <a:lnTo>
                    <a:pt x="249" y="70"/>
                  </a:lnTo>
                  <a:lnTo>
                    <a:pt x="247" y="64"/>
                  </a:lnTo>
                  <a:lnTo>
                    <a:pt x="244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4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0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10" y="52"/>
                  </a:lnTo>
                  <a:lnTo>
                    <a:pt x="314" y="51"/>
                  </a:lnTo>
                  <a:lnTo>
                    <a:pt x="320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0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2" y="147"/>
                  </a:lnTo>
                  <a:lnTo>
                    <a:pt x="316" y="152"/>
                  </a:lnTo>
                  <a:lnTo>
                    <a:pt x="313" y="159"/>
                  </a:lnTo>
                  <a:lnTo>
                    <a:pt x="309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1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1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7"/>
                  </a:lnTo>
                  <a:lnTo>
                    <a:pt x="348" y="293"/>
                  </a:lnTo>
                  <a:lnTo>
                    <a:pt x="359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7"/>
                  </a:lnTo>
                  <a:lnTo>
                    <a:pt x="393" y="352"/>
                  </a:lnTo>
                  <a:lnTo>
                    <a:pt x="395" y="357"/>
                  </a:lnTo>
                  <a:lnTo>
                    <a:pt x="392" y="364"/>
                  </a:lnTo>
                  <a:lnTo>
                    <a:pt x="388" y="370"/>
                  </a:lnTo>
                  <a:lnTo>
                    <a:pt x="393" y="371"/>
                  </a:lnTo>
                  <a:lnTo>
                    <a:pt x="397" y="373"/>
                  </a:lnTo>
                  <a:lnTo>
                    <a:pt x="401" y="375"/>
                  </a:lnTo>
                  <a:lnTo>
                    <a:pt x="401" y="377"/>
                  </a:lnTo>
                  <a:lnTo>
                    <a:pt x="399" y="380"/>
                  </a:lnTo>
                  <a:lnTo>
                    <a:pt x="398" y="382"/>
                  </a:lnTo>
                  <a:lnTo>
                    <a:pt x="417" y="380"/>
                  </a:lnTo>
                  <a:lnTo>
                    <a:pt x="435" y="374"/>
                  </a:lnTo>
                  <a:lnTo>
                    <a:pt x="454" y="370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7" y="383"/>
                  </a:lnTo>
                  <a:lnTo>
                    <a:pt x="444" y="387"/>
                  </a:lnTo>
                  <a:lnTo>
                    <a:pt x="441" y="386"/>
                  </a:lnTo>
                  <a:lnTo>
                    <a:pt x="441" y="389"/>
                  </a:lnTo>
                  <a:lnTo>
                    <a:pt x="441" y="391"/>
                  </a:lnTo>
                  <a:lnTo>
                    <a:pt x="441" y="393"/>
                  </a:lnTo>
                  <a:lnTo>
                    <a:pt x="435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5"/>
                  </a:lnTo>
                  <a:lnTo>
                    <a:pt x="425" y="411"/>
                  </a:lnTo>
                  <a:lnTo>
                    <a:pt x="423" y="416"/>
                  </a:lnTo>
                  <a:lnTo>
                    <a:pt x="416" y="421"/>
                  </a:lnTo>
                  <a:lnTo>
                    <a:pt x="407" y="426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1"/>
                  </a:lnTo>
                  <a:lnTo>
                    <a:pt x="378" y="433"/>
                  </a:lnTo>
                  <a:lnTo>
                    <a:pt x="369" y="435"/>
                  </a:lnTo>
                  <a:lnTo>
                    <a:pt x="369" y="439"/>
                  </a:lnTo>
                  <a:lnTo>
                    <a:pt x="373" y="444"/>
                  </a:lnTo>
                  <a:lnTo>
                    <a:pt x="374" y="449"/>
                  </a:lnTo>
                  <a:lnTo>
                    <a:pt x="364" y="453"/>
                  </a:lnTo>
                  <a:lnTo>
                    <a:pt x="352" y="450"/>
                  </a:lnTo>
                  <a:lnTo>
                    <a:pt x="343" y="452"/>
                  </a:lnTo>
                  <a:lnTo>
                    <a:pt x="341" y="458"/>
                  </a:lnTo>
                  <a:lnTo>
                    <a:pt x="340" y="466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7"/>
                  </a:lnTo>
                  <a:lnTo>
                    <a:pt x="289" y="487"/>
                  </a:lnTo>
                  <a:lnTo>
                    <a:pt x="286" y="498"/>
                  </a:lnTo>
                  <a:lnTo>
                    <a:pt x="284" y="509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5" y="518"/>
                  </a:lnTo>
                  <a:lnTo>
                    <a:pt x="274" y="526"/>
                  </a:lnTo>
                  <a:lnTo>
                    <a:pt x="267" y="536"/>
                  </a:lnTo>
                  <a:lnTo>
                    <a:pt x="267" y="549"/>
                  </a:lnTo>
                  <a:lnTo>
                    <a:pt x="282" y="580"/>
                  </a:lnTo>
                  <a:lnTo>
                    <a:pt x="302" y="609"/>
                  </a:lnTo>
                  <a:lnTo>
                    <a:pt x="318" y="640"/>
                  </a:lnTo>
                  <a:lnTo>
                    <a:pt x="322" y="647"/>
                  </a:lnTo>
                  <a:lnTo>
                    <a:pt x="331" y="652"/>
                  </a:lnTo>
                  <a:lnTo>
                    <a:pt x="342" y="651"/>
                  </a:lnTo>
                  <a:lnTo>
                    <a:pt x="332" y="661"/>
                  </a:lnTo>
                  <a:lnTo>
                    <a:pt x="328" y="673"/>
                  </a:lnTo>
                  <a:lnTo>
                    <a:pt x="326" y="687"/>
                  </a:lnTo>
                  <a:lnTo>
                    <a:pt x="321" y="693"/>
                  </a:lnTo>
                  <a:lnTo>
                    <a:pt x="311" y="698"/>
                  </a:lnTo>
                  <a:lnTo>
                    <a:pt x="303" y="704"/>
                  </a:lnTo>
                  <a:lnTo>
                    <a:pt x="301" y="717"/>
                  </a:lnTo>
                  <a:lnTo>
                    <a:pt x="305" y="730"/>
                  </a:lnTo>
                  <a:lnTo>
                    <a:pt x="310" y="743"/>
                  </a:lnTo>
                  <a:lnTo>
                    <a:pt x="317" y="751"/>
                  </a:lnTo>
                  <a:lnTo>
                    <a:pt x="327" y="756"/>
                  </a:lnTo>
                  <a:lnTo>
                    <a:pt x="336" y="763"/>
                  </a:lnTo>
                  <a:lnTo>
                    <a:pt x="342" y="771"/>
                  </a:lnTo>
                  <a:lnTo>
                    <a:pt x="345" y="781"/>
                  </a:lnTo>
                  <a:lnTo>
                    <a:pt x="347" y="790"/>
                  </a:lnTo>
                  <a:lnTo>
                    <a:pt x="350" y="806"/>
                  </a:lnTo>
                  <a:lnTo>
                    <a:pt x="349" y="823"/>
                  </a:lnTo>
                  <a:lnTo>
                    <a:pt x="342" y="836"/>
                  </a:lnTo>
                  <a:lnTo>
                    <a:pt x="351" y="839"/>
                  </a:lnTo>
                  <a:lnTo>
                    <a:pt x="359" y="838"/>
                  </a:lnTo>
                  <a:lnTo>
                    <a:pt x="363" y="837"/>
                  </a:lnTo>
                  <a:lnTo>
                    <a:pt x="370" y="866"/>
                  </a:lnTo>
                  <a:lnTo>
                    <a:pt x="361" y="894"/>
                  </a:lnTo>
                  <a:lnTo>
                    <a:pt x="343" y="920"/>
                  </a:lnTo>
                  <a:lnTo>
                    <a:pt x="336" y="930"/>
                  </a:lnTo>
                  <a:lnTo>
                    <a:pt x="330" y="941"/>
                  </a:lnTo>
                  <a:lnTo>
                    <a:pt x="325" y="952"/>
                  </a:lnTo>
                  <a:lnTo>
                    <a:pt x="319" y="971"/>
                  </a:lnTo>
                  <a:lnTo>
                    <a:pt x="319" y="97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18280" y="2630160"/>
              <a:ext cx="399600" cy="1013040"/>
            </a:xfrm>
            <a:custGeom>
              <a:avLst/>
              <a:gdLst/>
              <a:ahLst/>
              <a:rect l="l" t="t" r="r" b="b"/>
              <a:pathLst>
                <a:path w="454" h="972">
                  <a:moveTo>
                    <a:pt x="318" y="970"/>
                  </a:moveTo>
                  <a:lnTo>
                    <a:pt x="317" y="959"/>
                  </a:lnTo>
                  <a:lnTo>
                    <a:pt x="318" y="947"/>
                  </a:lnTo>
                  <a:lnTo>
                    <a:pt x="321" y="936"/>
                  </a:lnTo>
                  <a:lnTo>
                    <a:pt x="327" y="921"/>
                  </a:lnTo>
                  <a:lnTo>
                    <a:pt x="331" y="906"/>
                  </a:lnTo>
                  <a:lnTo>
                    <a:pt x="332" y="889"/>
                  </a:lnTo>
                  <a:lnTo>
                    <a:pt x="321" y="893"/>
                  </a:lnTo>
                  <a:lnTo>
                    <a:pt x="311" y="895"/>
                  </a:lnTo>
                  <a:lnTo>
                    <a:pt x="302" y="903"/>
                  </a:lnTo>
                  <a:lnTo>
                    <a:pt x="310" y="890"/>
                  </a:lnTo>
                  <a:lnTo>
                    <a:pt x="321" y="880"/>
                  </a:lnTo>
                  <a:lnTo>
                    <a:pt x="331" y="869"/>
                  </a:lnTo>
                  <a:lnTo>
                    <a:pt x="331" y="867"/>
                  </a:lnTo>
                  <a:lnTo>
                    <a:pt x="329" y="864"/>
                  </a:lnTo>
                  <a:lnTo>
                    <a:pt x="329" y="860"/>
                  </a:lnTo>
                  <a:lnTo>
                    <a:pt x="324" y="859"/>
                  </a:lnTo>
                  <a:lnTo>
                    <a:pt x="320" y="856"/>
                  </a:lnTo>
                  <a:lnTo>
                    <a:pt x="315" y="856"/>
                  </a:lnTo>
                  <a:lnTo>
                    <a:pt x="315" y="853"/>
                  </a:lnTo>
                  <a:lnTo>
                    <a:pt x="311" y="851"/>
                  </a:lnTo>
                  <a:lnTo>
                    <a:pt x="312" y="847"/>
                  </a:lnTo>
                  <a:lnTo>
                    <a:pt x="314" y="846"/>
                  </a:lnTo>
                  <a:lnTo>
                    <a:pt x="317" y="846"/>
                  </a:lnTo>
                  <a:lnTo>
                    <a:pt x="318" y="846"/>
                  </a:lnTo>
                  <a:lnTo>
                    <a:pt x="322" y="825"/>
                  </a:lnTo>
                  <a:lnTo>
                    <a:pt x="317" y="804"/>
                  </a:lnTo>
                  <a:lnTo>
                    <a:pt x="306" y="787"/>
                  </a:lnTo>
                  <a:lnTo>
                    <a:pt x="304" y="793"/>
                  </a:lnTo>
                  <a:lnTo>
                    <a:pt x="300" y="797"/>
                  </a:lnTo>
                  <a:lnTo>
                    <a:pt x="296" y="800"/>
                  </a:lnTo>
                  <a:lnTo>
                    <a:pt x="299" y="782"/>
                  </a:lnTo>
                  <a:lnTo>
                    <a:pt x="300" y="763"/>
                  </a:lnTo>
                  <a:lnTo>
                    <a:pt x="298" y="745"/>
                  </a:lnTo>
                  <a:lnTo>
                    <a:pt x="295" y="739"/>
                  </a:lnTo>
                  <a:lnTo>
                    <a:pt x="290" y="734"/>
                  </a:lnTo>
                  <a:lnTo>
                    <a:pt x="287" y="728"/>
                  </a:lnTo>
                  <a:lnTo>
                    <a:pt x="283" y="707"/>
                  </a:lnTo>
                  <a:lnTo>
                    <a:pt x="280" y="686"/>
                  </a:lnTo>
                  <a:lnTo>
                    <a:pt x="277" y="665"/>
                  </a:lnTo>
                  <a:lnTo>
                    <a:pt x="277" y="656"/>
                  </a:lnTo>
                  <a:lnTo>
                    <a:pt x="279" y="647"/>
                  </a:lnTo>
                  <a:lnTo>
                    <a:pt x="283" y="638"/>
                  </a:lnTo>
                  <a:lnTo>
                    <a:pt x="275" y="641"/>
                  </a:lnTo>
                  <a:lnTo>
                    <a:pt x="267" y="643"/>
                  </a:lnTo>
                  <a:lnTo>
                    <a:pt x="260" y="641"/>
                  </a:lnTo>
                  <a:lnTo>
                    <a:pt x="251" y="629"/>
                  </a:lnTo>
                  <a:lnTo>
                    <a:pt x="251" y="615"/>
                  </a:lnTo>
                  <a:lnTo>
                    <a:pt x="259" y="602"/>
                  </a:lnTo>
                  <a:lnTo>
                    <a:pt x="256" y="607"/>
                  </a:lnTo>
                  <a:lnTo>
                    <a:pt x="252" y="609"/>
                  </a:lnTo>
                  <a:lnTo>
                    <a:pt x="247" y="608"/>
                  </a:lnTo>
                  <a:lnTo>
                    <a:pt x="244" y="603"/>
                  </a:lnTo>
                  <a:lnTo>
                    <a:pt x="243" y="597"/>
                  </a:lnTo>
                  <a:lnTo>
                    <a:pt x="240" y="592"/>
                  </a:lnTo>
                  <a:lnTo>
                    <a:pt x="243" y="599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9"/>
                  </a:lnTo>
                  <a:lnTo>
                    <a:pt x="237" y="626"/>
                  </a:lnTo>
                  <a:lnTo>
                    <a:pt x="236" y="635"/>
                  </a:lnTo>
                  <a:lnTo>
                    <a:pt x="224" y="640"/>
                  </a:lnTo>
                  <a:lnTo>
                    <a:pt x="213" y="648"/>
                  </a:lnTo>
                  <a:lnTo>
                    <a:pt x="200" y="648"/>
                  </a:lnTo>
                  <a:lnTo>
                    <a:pt x="200" y="646"/>
                  </a:lnTo>
                  <a:lnTo>
                    <a:pt x="200" y="644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6"/>
                  </a:lnTo>
                  <a:lnTo>
                    <a:pt x="187" y="664"/>
                  </a:lnTo>
                  <a:lnTo>
                    <a:pt x="186" y="672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8"/>
                  </a:lnTo>
                  <a:lnTo>
                    <a:pt x="176" y="674"/>
                  </a:lnTo>
                  <a:lnTo>
                    <a:pt x="172" y="672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8"/>
                  </a:lnTo>
                  <a:lnTo>
                    <a:pt x="154" y="678"/>
                  </a:lnTo>
                  <a:lnTo>
                    <a:pt x="152" y="676"/>
                  </a:lnTo>
                  <a:lnTo>
                    <a:pt x="151" y="674"/>
                  </a:lnTo>
                  <a:lnTo>
                    <a:pt x="151" y="672"/>
                  </a:lnTo>
                  <a:lnTo>
                    <a:pt x="153" y="667"/>
                  </a:lnTo>
                  <a:lnTo>
                    <a:pt x="156" y="662"/>
                  </a:lnTo>
                  <a:lnTo>
                    <a:pt x="160" y="658"/>
                  </a:lnTo>
                  <a:lnTo>
                    <a:pt x="151" y="663"/>
                  </a:lnTo>
                  <a:lnTo>
                    <a:pt x="141" y="666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7"/>
                  </a:lnTo>
                  <a:lnTo>
                    <a:pt x="135" y="652"/>
                  </a:lnTo>
                  <a:lnTo>
                    <a:pt x="128" y="656"/>
                  </a:lnTo>
                  <a:lnTo>
                    <a:pt x="122" y="662"/>
                  </a:lnTo>
                  <a:lnTo>
                    <a:pt x="117" y="667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5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6"/>
                  </a:lnTo>
                  <a:lnTo>
                    <a:pt x="111" y="619"/>
                  </a:lnTo>
                  <a:lnTo>
                    <a:pt x="112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7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6"/>
                  </a:lnTo>
                  <a:lnTo>
                    <a:pt x="75" y="527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8"/>
                  </a:lnTo>
                  <a:lnTo>
                    <a:pt x="73" y="488"/>
                  </a:lnTo>
                  <a:lnTo>
                    <a:pt x="69" y="477"/>
                  </a:lnTo>
                  <a:lnTo>
                    <a:pt x="67" y="471"/>
                  </a:lnTo>
                  <a:lnTo>
                    <a:pt x="61" y="469"/>
                  </a:lnTo>
                  <a:lnTo>
                    <a:pt x="52" y="468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4"/>
                  </a:lnTo>
                  <a:lnTo>
                    <a:pt x="19" y="426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2"/>
                  </a:lnTo>
                  <a:lnTo>
                    <a:pt x="22" y="375"/>
                  </a:lnTo>
                  <a:lnTo>
                    <a:pt x="20" y="365"/>
                  </a:lnTo>
                  <a:lnTo>
                    <a:pt x="20" y="355"/>
                  </a:lnTo>
                  <a:lnTo>
                    <a:pt x="29" y="351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50" y="329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8" y="294"/>
                  </a:lnTo>
                  <a:lnTo>
                    <a:pt x="58" y="287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2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5"/>
                  </a:lnTo>
                  <a:lnTo>
                    <a:pt x="105" y="239"/>
                  </a:lnTo>
                  <a:lnTo>
                    <a:pt x="104" y="234"/>
                  </a:lnTo>
                  <a:lnTo>
                    <a:pt x="105" y="230"/>
                  </a:lnTo>
                  <a:lnTo>
                    <a:pt x="116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5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8" y="109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69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5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0" y="62"/>
                  </a:lnTo>
                  <a:lnTo>
                    <a:pt x="231" y="64"/>
                  </a:lnTo>
                  <a:lnTo>
                    <a:pt x="240" y="73"/>
                  </a:lnTo>
                  <a:lnTo>
                    <a:pt x="249" y="75"/>
                  </a:lnTo>
                  <a:lnTo>
                    <a:pt x="249" y="71"/>
                  </a:lnTo>
                  <a:lnTo>
                    <a:pt x="247" y="64"/>
                  </a:lnTo>
                  <a:lnTo>
                    <a:pt x="245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5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1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09" y="52"/>
                  </a:lnTo>
                  <a:lnTo>
                    <a:pt x="314" y="51"/>
                  </a:lnTo>
                  <a:lnTo>
                    <a:pt x="319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1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1" y="147"/>
                  </a:lnTo>
                  <a:lnTo>
                    <a:pt x="316" y="153"/>
                  </a:lnTo>
                  <a:lnTo>
                    <a:pt x="313" y="159"/>
                  </a:lnTo>
                  <a:lnTo>
                    <a:pt x="308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2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2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8"/>
                  </a:lnTo>
                  <a:lnTo>
                    <a:pt x="347" y="293"/>
                  </a:lnTo>
                  <a:lnTo>
                    <a:pt x="358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8"/>
                  </a:lnTo>
                  <a:lnTo>
                    <a:pt x="393" y="352"/>
                  </a:lnTo>
                  <a:lnTo>
                    <a:pt x="394" y="358"/>
                  </a:lnTo>
                  <a:lnTo>
                    <a:pt x="392" y="364"/>
                  </a:lnTo>
                  <a:lnTo>
                    <a:pt x="388" y="371"/>
                  </a:lnTo>
                  <a:lnTo>
                    <a:pt x="393" y="372"/>
                  </a:lnTo>
                  <a:lnTo>
                    <a:pt x="397" y="374"/>
                  </a:lnTo>
                  <a:lnTo>
                    <a:pt x="401" y="375"/>
                  </a:lnTo>
                  <a:lnTo>
                    <a:pt x="401" y="378"/>
                  </a:lnTo>
                  <a:lnTo>
                    <a:pt x="398" y="381"/>
                  </a:lnTo>
                  <a:lnTo>
                    <a:pt x="398" y="383"/>
                  </a:lnTo>
                  <a:lnTo>
                    <a:pt x="417" y="381"/>
                  </a:lnTo>
                  <a:lnTo>
                    <a:pt x="435" y="374"/>
                  </a:lnTo>
                  <a:lnTo>
                    <a:pt x="454" y="371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6" y="384"/>
                  </a:lnTo>
                  <a:lnTo>
                    <a:pt x="444" y="388"/>
                  </a:lnTo>
                  <a:lnTo>
                    <a:pt x="441" y="387"/>
                  </a:lnTo>
                  <a:lnTo>
                    <a:pt x="441" y="389"/>
                  </a:lnTo>
                  <a:lnTo>
                    <a:pt x="441" y="392"/>
                  </a:lnTo>
                  <a:lnTo>
                    <a:pt x="441" y="394"/>
                  </a:lnTo>
                  <a:lnTo>
                    <a:pt x="434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6"/>
                  </a:lnTo>
                  <a:lnTo>
                    <a:pt x="425" y="412"/>
                  </a:lnTo>
                  <a:lnTo>
                    <a:pt x="423" y="416"/>
                  </a:lnTo>
                  <a:lnTo>
                    <a:pt x="416" y="422"/>
                  </a:lnTo>
                  <a:lnTo>
                    <a:pt x="407" y="427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2"/>
                  </a:lnTo>
                  <a:lnTo>
                    <a:pt x="378" y="433"/>
                  </a:lnTo>
                  <a:lnTo>
                    <a:pt x="369" y="436"/>
                  </a:lnTo>
                  <a:lnTo>
                    <a:pt x="369" y="439"/>
                  </a:lnTo>
                  <a:lnTo>
                    <a:pt x="373" y="445"/>
                  </a:lnTo>
                  <a:lnTo>
                    <a:pt x="374" y="449"/>
                  </a:lnTo>
                  <a:lnTo>
                    <a:pt x="364" y="454"/>
                  </a:lnTo>
                  <a:lnTo>
                    <a:pt x="352" y="451"/>
                  </a:lnTo>
                  <a:lnTo>
                    <a:pt x="343" y="452"/>
                  </a:lnTo>
                  <a:lnTo>
                    <a:pt x="341" y="459"/>
                  </a:lnTo>
                  <a:lnTo>
                    <a:pt x="340" y="467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8"/>
                  </a:lnTo>
                  <a:lnTo>
                    <a:pt x="289" y="488"/>
                  </a:lnTo>
                  <a:lnTo>
                    <a:pt x="286" y="498"/>
                  </a:lnTo>
                  <a:lnTo>
                    <a:pt x="284" y="510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6" y="519"/>
                  </a:lnTo>
                  <a:lnTo>
                    <a:pt x="274" y="527"/>
                  </a:lnTo>
                  <a:lnTo>
                    <a:pt x="267" y="537"/>
                  </a:lnTo>
                  <a:lnTo>
                    <a:pt x="267" y="549"/>
                  </a:lnTo>
                  <a:lnTo>
                    <a:pt x="283" y="580"/>
                  </a:lnTo>
                  <a:lnTo>
                    <a:pt x="302" y="609"/>
                  </a:lnTo>
                  <a:lnTo>
                    <a:pt x="318" y="641"/>
                  </a:lnTo>
                  <a:lnTo>
                    <a:pt x="322" y="648"/>
                  </a:lnTo>
                  <a:lnTo>
                    <a:pt x="331" y="652"/>
                  </a:lnTo>
                  <a:lnTo>
                    <a:pt x="342" y="652"/>
                  </a:lnTo>
                  <a:lnTo>
                    <a:pt x="332" y="662"/>
                  </a:lnTo>
                  <a:lnTo>
                    <a:pt x="328" y="674"/>
                  </a:lnTo>
                  <a:lnTo>
                    <a:pt x="326" y="688"/>
                  </a:lnTo>
                  <a:lnTo>
                    <a:pt x="321" y="694"/>
                  </a:lnTo>
                  <a:lnTo>
                    <a:pt x="311" y="698"/>
                  </a:lnTo>
                  <a:lnTo>
                    <a:pt x="303" y="705"/>
                  </a:lnTo>
                  <a:lnTo>
                    <a:pt x="301" y="718"/>
                  </a:lnTo>
                  <a:lnTo>
                    <a:pt x="305" y="731"/>
                  </a:lnTo>
                  <a:lnTo>
                    <a:pt x="310" y="744"/>
                  </a:lnTo>
                  <a:lnTo>
                    <a:pt x="317" y="751"/>
                  </a:lnTo>
                  <a:lnTo>
                    <a:pt x="327" y="757"/>
                  </a:lnTo>
                  <a:lnTo>
                    <a:pt x="336" y="764"/>
                  </a:lnTo>
                  <a:lnTo>
                    <a:pt x="342" y="772"/>
                  </a:lnTo>
                  <a:lnTo>
                    <a:pt x="345" y="781"/>
                  </a:lnTo>
                  <a:lnTo>
                    <a:pt x="347" y="791"/>
                  </a:lnTo>
                  <a:lnTo>
                    <a:pt x="349" y="807"/>
                  </a:lnTo>
                  <a:lnTo>
                    <a:pt x="349" y="823"/>
                  </a:lnTo>
                  <a:lnTo>
                    <a:pt x="342" y="837"/>
                  </a:lnTo>
                  <a:lnTo>
                    <a:pt x="350" y="840"/>
                  </a:lnTo>
                  <a:lnTo>
                    <a:pt x="358" y="838"/>
                  </a:lnTo>
                  <a:lnTo>
                    <a:pt x="363" y="838"/>
                  </a:lnTo>
                  <a:lnTo>
                    <a:pt x="370" y="866"/>
                  </a:lnTo>
                  <a:lnTo>
                    <a:pt x="361" y="895"/>
                  </a:lnTo>
                  <a:lnTo>
                    <a:pt x="343" y="920"/>
                  </a:lnTo>
                  <a:lnTo>
                    <a:pt x="336" y="931"/>
                  </a:lnTo>
                  <a:lnTo>
                    <a:pt x="330" y="941"/>
                  </a:lnTo>
                  <a:lnTo>
                    <a:pt x="325" y="953"/>
                  </a:lnTo>
                  <a:lnTo>
                    <a:pt x="319" y="972"/>
                  </a:lnTo>
                  <a:lnTo>
                    <a:pt x="318" y="97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3360" y="3079440"/>
              <a:ext cx="355320" cy="792720"/>
            </a:xfrm>
            <a:custGeom>
              <a:avLst/>
              <a:gdLst/>
              <a:ahLst/>
              <a:rect l="l" t="t" r="r" b="b"/>
              <a:pathLst>
                <a:path w="404" h="761">
                  <a:moveTo>
                    <a:pt x="130" y="728"/>
                  </a:moveTo>
                  <a:lnTo>
                    <a:pt x="126" y="730"/>
                  </a:lnTo>
                  <a:lnTo>
                    <a:pt x="118" y="733"/>
                  </a:lnTo>
                  <a:lnTo>
                    <a:pt x="109" y="731"/>
                  </a:lnTo>
                  <a:lnTo>
                    <a:pt x="104" y="720"/>
                  </a:lnTo>
                  <a:lnTo>
                    <a:pt x="106" y="706"/>
                  </a:lnTo>
                  <a:lnTo>
                    <a:pt x="111" y="693"/>
                  </a:lnTo>
                  <a:lnTo>
                    <a:pt x="105" y="691"/>
                  </a:lnTo>
                  <a:lnTo>
                    <a:pt x="105" y="684"/>
                  </a:lnTo>
                  <a:lnTo>
                    <a:pt x="102" y="680"/>
                  </a:lnTo>
                  <a:lnTo>
                    <a:pt x="93" y="677"/>
                  </a:lnTo>
                  <a:lnTo>
                    <a:pt x="85" y="675"/>
                  </a:lnTo>
                  <a:lnTo>
                    <a:pt x="80" y="669"/>
                  </a:lnTo>
                  <a:lnTo>
                    <a:pt x="77" y="661"/>
                  </a:lnTo>
                  <a:lnTo>
                    <a:pt x="75" y="652"/>
                  </a:lnTo>
                  <a:lnTo>
                    <a:pt x="74" y="643"/>
                  </a:lnTo>
                  <a:lnTo>
                    <a:pt x="72" y="639"/>
                  </a:lnTo>
                  <a:lnTo>
                    <a:pt x="67" y="637"/>
                  </a:lnTo>
                  <a:lnTo>
                    <a:pt x="63" y="637"/>
                  </a:lnTo>
                  <a:lnTo>
                    <a:pt x="54" y="647"/>
                  </a:lnTo>
                  <a:lnTo>
                    <a:pt x="49" y="656"/>
                  </a:lnTo>
                  <a:lnTo>
                    <a:pt x="40" y="652"/>
                  </a:lnTo>
                  <a:lnTo>
                    <a:pt x="39" y="643"/>
                  </a:lnTo>
                  <a:lnTo>
                    <a:pt x="42" y="633"/>
                  </a:lnTo>
                  <a:lnTo>
                    <a:pt x="41" y="625"/>
                  </a:lnTo>
                  <a:lnTo>
                    <a:pt x="36" y="610"/>
                  </a:lnTo>
                  <a:lnTo>
                    <a:pt x="38" y="597"/>
                  </a:lnTo>
                  <a:lnTo>
                    <a:pt x="41" y="585"/>
                  </a:lnTo>
                  <a:lnTo>
                    <a:pt x="50" y="551"/>
                  </a:lnTo>
                  <a:lnTo>
                    <a:pt x="60" y="519"/>
                  </a:lnTo>
                  <a:lnTo>
                    <a:pt x="77" y="489"/>
                  </a:lnTo>
                  <a:lnTo>
                    <a:pt x="94" y="463"/>
                  </a:lnTo>
                  <a:lnTo>
                    <a:pt x="103" y="435"/>
                  </a:lnTo>
                  <a:lnTo>
                    <a:pt x="96" y="407"/>
                  </a:lnTo>
                  <a:lnTo>
                    <a:pt x="92" y="407"/>
                  </a:lnTo>
                  <a:lnTo>
                    <a:pt x="84" y="409"/>
                  </a:lnTo>
                  <a:lnTo>
                    <a:pt x="75" y="405"/>
                  </a:lnTo>
                  <a:lnTo>
                    <a:pt x="83" y="392"/>
                  </a:lnTo>
                  <a:lnTo>
                    <a:pt x="83" y="375"/>
                  </a:lnTo>
                  <a:lnTo>
                    <a:pt x="80" y="359"/>
                  </a:lnTo>
                  <a:lnTo>
                    <a:pt x="79" y="350"/>
                  </a:lnTo>
                  <a:lnTo>
                    <a:pt x="75" y="341"/>
                  </a:lnTo>
                  <a:lnTo>
                    <a:pt x="69" y="332"/>
                  </a:lnTo>
                  <a:lnTo>
                    <a:pt x="60" y="326"/>
                  </a:lnTo>
                  <a:lnTo>
                    <a:pt x="50" y="320"/>
                  </a:lnTo>
                  <a:lnTo>
                    <a:pt x="43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4"/>
                  </a:lnTo>
                  <a:lnTo>
                    <a:pt x="44" y="267"/>
                  </a:lnTo>
                  <a:lnTo>
                    <a:pt x="54" y="263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1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8"/>
                  </a:lnTo>
                  <a:lnTo>
                    <a:pt x="16" y="149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7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7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40"/>
                  </a:lnTo>
                  <a:lnTo>
                    <a:pt x="51" y="40"/>
                  </a:lnTo>
                  <a:lnTo>
                    <a:pt x="68" y="40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1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8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1"/>
                  </a:lnTo>
                  <a:lnTo>
                    <a:pt x="156" y="33"/>
                  </a:lnTo>
                  <a:lnTo>
                    <a:pt x="162" y="40"/>
                  </a:lnTo>
                  <a:lnTo>
                    <a:pt x="172" y="41"/>
                  </a:lnTo>
                  <a:lnTo>
                    <a:pt x="183" y="41"/>
                  </a:lnTo>
                  <a:lnTo>
                    <a:pt x="194" y="42"/>
                  </a:lnTo>
                  <a:lnTo>
                    <a:pt x="195" y="46"/>
                  </a:lnTo>
                  <a:lnTo>
                    <a:pt x="197" y="49"/>
                  </a:lnTo>
                  <a:lnTo>
                    <a:pt x="196" y="51"/>
                  </a:lnTo>
                  <a:lnTo>
                    <a:pt x="192" y="58"/>
                  </a:lnTo>
                  <a:lnTo>
                    <a:pt x="193" y="66"/>
                  </a:lnTo>
                  <a:lnTo>
                    <a:pt x="200" y="72"/>
                  </a:lnTo>
                  <a:lnTo>
                    <a:pt x="201" y="75"/>
                  </a:lnTo>
                  <a:lnTo>
                    <a:pt x="201" y="78"/>
                  </a:lnTo>
                  <a:lnTo>
                    <a:pt x="200" y="81"/>
                  </a:lnTo>
                  <a:lnTo>
                    <a:pt x="196" y="84"/>
                  </a:lnTo>
                  <a:lnTo>
                    <a:pt x="192" y="87"/>
                  </a:lnTo>
                  <a:lnTo>
                    <a:pt x="187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10"/>
                  </a:lnTo>
                  <a:lnTo>
                    <a:pt x="178" y="115"/>
                  </a:lnTo>
                  <a:lnTo>
                    <a:pt x="184" y="120"/>
                  </a:lnTo>
                  <a:lnTo>
                    <a:pt x="188" y="124"/>
                  </a:lnTo>
                  <a:lnTo>
                    <a:pt x="183" y="137"/>
                  </a:lnTo>
                  <a:lnTo>
                    <a:pt x="176" y="147"/>
                  </a:lnTo>
                  <a:lnTo>
                    <a:pt x="185" y="156"/>
                  </a:lnTo>
                  <a:lnTo>
                    <a:pt x="203" y="152"/>
                  </a:lnTo>
                  <a:lnTo>
                    <a:pt x="217" y="137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4"/>
                  </a:lnTo>
                  <a:lnTo>
                    <a:pt x="267" y="138"/>
                  </a:lnTo>
                  <a:lnTo>
                    <a:pt x="277" y="133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5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2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7"/>
                  </a:lnTo>
                  <a:lnTo>
                    <a:pt x="388" y="231"/>
                  </a:lnTo>
                  <a:lnTo>
                    <a:pt x="404" y="267"/>
                  </a:lnTo>
                  <a:lnTo>
                    <a:pt x="402" y="306"/>
                  </a:lnTo>
                  <a:lnTo>
                    <a:pt x="384" y="323"/>
                  </a:lnTo>
                  <a:lnTo>
                    <a:pt x="381" y="319"/>
                  </a:lnTo>
                  <a:lnTo>
                    <a:pt x="378" y="316"/>
                  </a:lnTo>
                  <a:lnTo>
                    <a:pt x="375" y="314"/>
                  </a:lnTo>
                  <a:lnTo>
                    <a:pt x="366" y="313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2"/>
                  </a:lnTo>
                  <a:lnTo>
                    <a:pt x="330" y="320"/>
                  </a:lnTo>
                  <a:lnTo>
                    <a:pt x="319" y="319"/>
                  </a:lnTo>
                  <a:lnTo>
                    <a:pt x="314" y="318"/>
                  </a:lnTo>
                  <a:lnTo>
                    <a:pt x="308" y="316"/>
                  </a:lnTo>
                  <a:lnTo>
                    <a:pt x="303" y="317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7"/>
                  </a:lnTo>
                  <a:lnTo>
                    <a:pt x="277" y="333"/>
                  </a:lnTo>
                  <a:lnTo>
                    <a:pt x="275" y="338"/>
                  </a:lnTo>
                  <a:lnTo>
                    <a:pt x="264" y="350"/>
                  </a:lnTo>
                  <a:lnTo>
                    <a:pt x="251" y="360"/>
                  </a:lnTo>
                  <a:lnTo>
                    <a:pt x="242" y="373"/>
                  </a:lnTo>
                  <a:lnTo>
                    <a:pt x="243" y="375"/>
                  </a:lnTo>
                  <a:lnTo>
                    <a:pt x="247" y="376"/>
                  </a:lnTo>
                  <a:lnTo>
                    <a:pt x="250" y="379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2"/>
                  </a:lnTo>
                  <a:lnTo>
                    <a:pt x="260" y="421"/>
                  </a:lnTo>
                  <a:lnTo>
                    <a:pt x="264" y="440"/>
                  </a:lnTo>
                  <a:lnTo>
                    <a:pt x="264" y="458"/>
                  </a:lnTo>
                  <a:lnTo>
                    <a:pt x="261" y="458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6"/>
                  </a:lnTo>
                  <a:lnTo>
                    <a:pt x="242" y="440"/>
                  </a:lnTo>
                  <a:lnTo>
                    <a:pt x="235" y="429"/>
                  </a:lnTo>
                  <a:lnTo>
                    <a:pt x="230" y="417"/>
                  </a:lnTo>
                  <a:lnTo>
                    <a:pt x="224" y="405"/>
                  </a:lnTo>
                  <a:lnTo>
                    <a:pt x="215" y="409"/>
                  </a:lnTo>
                  <a:lnTo>
                    <a:pt x="208" y="404"/>
                  </a:lnTo>
                  <a:lnTo>
                    <a:pt x="201" y="399"/>
                  </a:lnTo>
                  <a:lnTo>
                    <a:pt x="201" y="402"/>
                  </a:lnTo>
                  <a:lnTo>
                    <a:pt x="200" y="404"/>
                  </a:lnTo>
                  <a:lnTo>
                    <a:pt x="197" y="405"/>
                  </a:lnTo>
                  <a:lnTo>
                    <a:pt x="191" y="405"/>
                  </a:lnTo>
                  <a:lnTo>
                    <a:pt x="185" y="408"/>
                  </a:lnTo>
                  <a:lnTo>
                    <a:pt x="180" y="411"/>
                  </a:lnTo>
                  <a:lnTo>
                    <a:pt x="172" y="412"/>
                  </a:lnTo>
                  <a:lnTo>
                    <a:pt x="165" y="408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2" y="382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8"/>
                  </a:lnTo>
                  <a:lnTo>
                    <a:pt x="132" y="360"/>
                  </a:lnTo>
                  <a:lnTo>
                    <a:pt x="128" y="363"/>
                  </a:lnTo>
                  <a:lnTo>
                    <a:pt x="128" y="369"/>
                  </a:lnTo>
                  <a:lnTo>
                    <a:pt x="128" y="376"/>
                  </a:lnTo>
                  <a:lnTo>
                    <a:pt x="131" y="375"/>
                  </a:lnTo>
                  <a:lnTo>
                    <a:pt x="133" y="377"/>
                  </a:lnTo>
                  <a:lnTo>
                    <a:pt x="135" y="379"/>
                  </a:lnTo>
                  <a:lnTo>
                    <a:pt x="135" y="382"/>
                  </a:lnTo>
                  <a:lnTo>
                    <a:pt x="135" y="385"/>
                  </a:lnTo>
                  <a:lnTo>
                    <a:pt x="135" y="389"/>
                  </a:lnTo>
                  <a:lnTo>
                    <a:pt x="132" y="389"/>
                  </a:lnTo>
                  <a:lnTo>
                    <a:pt x="131" y="392"/>
                  </a:lnTo>
                  <a:lnTo>
                    <a:pt x="128" y="392"/>
                  </a:lnTo>
                  <a:lnTo>
                    <a:pt x="130" y="402"/>
                  </a:lnTo>
                  <a:lnTo>
                    <a:pt x="132" y="412"/>
                  </a:lnTo>
                  <a:lnTo>
                    <a:pt x="131" y="422"/>
                  </a:lnTo>
                  <a:lnTo>
                    <a:pt x="122" y="450"/>
                  </a:lnTo>
                  <a:lnTo>
                    <a:pt x="113" y="478"/>
                  </a:lnTo>
                  <a:lnTo>
                    <a:pt x="100" y="506"/>
                  </a:lnTo>
                  <a:lnTo>
                    <a:pt x="92" y="520"/>
                  </a:lnTo>
                  <a:lnTo>
                    <a:pt x="88" y="535"/>
                  </a:lnTo>
                  <a:lnTo>
                    <a:pt x="90" y="550"/>
                  </a:lnTo>
                  <a:lnTo>
                    <a:pt x="91" y="556"/>
                  </a:lnTo>
                  <a:lnTo>
                    <a:pt x="90" y="562"/>
                  </a:lnTo>
                  <a:lnTo>
                    <a:pt x="92" y="567"/>
                  </a:lnTo>
                  <a:lnTo>
                    <a:pt x="104" y="577"/>
                  </a:lnTo>
                  <a:lnTo>
                    <a:pt x="115" y="588"/>
                  </a:lnTo>
                  <a:lnTo>
                    <a:pt x="127" y="598"/>
                  </a:lnTo>
                  <a:lnTo>
                    <a:pt x="128" y="600"/>
                  </a:lnTo>
                  <a:lnTo>
                    <a:pt x="127" y="604"/>
                  </a:lnTo>
                  <a:lnTo>
                    <a:pt x="126" y="607"/>
                  </a:lnTo>
                  <a:lnTo>
                    <a:pt x="129" y="618"/>
                  </a:lnTo>
                  <a:lnTo>
                    <a:pt x="137" y="627"/>
                  </a:lnTo>
                  <a:lnTo>
                    <a:pt x="144" y="637"/>
                  </a:lnTo>
                  <a:lnTo>
                    <a:pt x="144" y="646"/>
                  </a:lnTo>
                  <a:lnTo>
                    <a:pt x="143" y="655"/>
                  </a:lnTo>
                  <a:lnTo>
                    <a:pt x="143" y="662"/>
                  </a:lnTo>
                  <a:lnTo>
                    <a:pt x="152" y="680"/>
                  </a:lnTo>
                  <a:lnTo>
                    <a:pt x="165" y="694"/>
                  </a:lnTo>
                  <a:lnTo>
                    <a:pt x="181" y="705"/>
                  </a:lnTo>
                  <a:lnTo>
                    <a:pt x="189" y="705"/>
                  </a:lnTo>
                  <a:lnTo>
                    <a:pt x="196" y="702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4"/>
                  </a:lnTo>
                  <a:lnTo>
                    <a:pt x="214" y="723"/>
                  </a:lnTo>
                  <a:lnTo>
                    <a:pt x="222" y="723"/>
                  </a:lnTo>
                  <a:lnTo>
                    <a:pt x="227" y="726"/>
                  </a:lnTo>
                  <a:lnTo>
                    <a:pt x="230" y="732"/>
                  </a:lnTo>
                  <a:lnTo>
                    <a:pt x="229" y="736"/>
                  </a:lnTo>
                  <a:lnTo>
                    <a:pt x="227" y="736"/>
                  </a:lnTo>
                  <a:lnTo>
                    <a:pt x="225" y="736"/>
                  </a:lnTo>
                  <a:lnTo>
                    <a:pt x="224" y="736"/>
                  </a:lnTo>
                  <a:lnTo>
                    <a:pt x="222" y="745"/>
                  </a:lnTo>
                  <a:lnTo>
                    <a:pt x="216" y="750"/>
                  </a:lnTo>
                  <a:lnTo>
                    <a:pt x="207" y="752"/>
                  </a:lnTo>
                  <a:lnTo>
                    <a:pt x="207" y="749"/>
                  </a:lnTo>
                  <a:lnTo>
                    <a:pt x="206" y="747"/>
                  </a:lnTo>
                  <a:lnTo>
                    <a:pt x="204" y="746"/>
                  </a:lnTo>
                  <a:lnTo>
                    <a:pt x="196" y="749"/>
                  </a:lnTo>
                  <a:lnTo>
                    <a:pt x="194" y="758"/>
                  </a:lnTo>
                  <a:lnTo>
                    <a:pt x="188" y="761"/>
                  </a:lnTo>
                  <a:lnTo>
                    <a:pt x="183" y="759"/>
                  </a:lnTo>
                  <a:lnTo>
                    <a:pt x="179" y="755"/>
                  </a:lnTo>
                  <a:lnTo>
                    <a:pt x="174" y="752"/>
                  </a:lnTo>
                  <a:lnTo>
                    <a:pt x="178" y="731"/>
                  </a:lnTo>
                  <a:lnTo>
                    <a:pt x="165" y="718"/>
                  </a:lnTo>
                  <a:lnTo>
                    <a:pt x="144" y="710"/>
                  </a:lnTo>
                  <a:lnTo>
                    <a:pt x="141" y="710"/>
                  </a:lnTo>
                  <a:lnTo>
                    <a:pt x="138" y="711"/>
                  </a:lnTo>
                  <a:lnTo>
                    <a:pt x="136" y="714"/>
                  </a:lnTo>
                  <a:lnTo>
                    <a:pt x="130" y="728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3360" y="3080520"/>
              <a:ext cx="355320" cy="792000"/>
            </a:xfrm>
            <a:custGeom>
              <a:avLst/>
              <a:gdLst/>
              <a:ahLst/>
              <a:rect l="l" t="t" r="r" b="b"/>
              <a:pathLst>
                <a:path w="404" h="760">
                  <a:moveTo>
                    <a:pt x="130" y="727"/>
                  </a:moveTo>
                  <a:lnTo>
                    <a:pt x="126" y="729"/>
                  </a:lnTo>
                  <a:lnTo>
                    <a:pt x="118" y="732"/>
                  </a:lnTo>
                  <a:lnTo>
                    <a:pt x="109" y="730"/>
                  </a:lnTo>
                  <a:lnTo>
                    <a:pt x="104" y="719"/>
                  </a:lnTo>
                  <a:lnTo>
                    <a:pt x="107" y="705"/>
                  </a:lnTo>
                  <a:lnTo>
                    <a:pt x="111" y="692"/>
                  </a:lnTo>
                  <a:lnTo>
                    <a:pt x="105" y="690"/>
                  </a:lnTo>
                  <a:lnTo>
                    <a:pt x="105" y="683"/>
                  </a:lnTo>
                  <a:lnTo>
                    <a:pt x="102" y="679"/>
                  </a:lnTo>
                  <a:lnTo>
                    <a:pt x="93" y="676"/>
                  </a:lnTo>
                  <a:lnTo>
                    <a:pt x="85" y="674"/>
                  </a:lnTo>
                  <a:lnTo>
                    <a:pt x="80" y="668"/>
                  </a:lnTo>
                  <a:lnTo>
                    <a:pt x="77" y="660"/>
                  </a:lnTo>
                  <a:lnTo>
                    <a:pt x="75" y="651"/>
                  </a:lnTo>
                  <a:lnTo>
                    <a:pt x="74" y="642"/>
                  </a:lnTo>
                  <a:lnTo>
                    <a:pt x="72" y="638"/>
                  </a:lnTo>
                  <a:lnTo>
                    <a:pt x="67" y="636"/>
                  </a:lnTo>
                  <a:lnTo>
                    <a:pt x="63" y="636"/>
                  </a:lnTo>
                  <a:lnTo>
                    <a:pt x="55" y="646"/>
                  </a:lnTo>
                  <a:lnTo>
                    <a:pt x="49" y="655"/>
                  </a:lnTo>
                  <a:lnTo>
                    <a:pt x="40" y="651"/>
                  </a:lnTo>
                  <a:lnTo>
                    <a:pt x="39" y="642"/>
                  </a:lnTo>
                  <a:lnTo>
                    <a:pt x="42" y="632"/>
                  </a:lnTo>
                  <a:lnTo>
                    <a:pt x="41" y="624"/>
                  </a:lnTo>
                  <a:lnTo>
                    <a:pt x="36" y="610"/>
                  </a:lnTo>
                  <a:lnTo>
                    <a:pt x="38" y="596"/>
                  </a:lnTo>
                  <a:lnTo>
                    <a:pt x="42" y="584"/>
                  </a:lnTo>
                  <a:lnTo>
                    <a:pt x="50" y="550"/>
                  </a:lnTo>
                  <a:lnTo>
                    <a:pt x="60" y="518"/>
                  </a:lnTo>
                  <a:lnTo>
                    <a:pt x="77" y="488"/>
                  </a:lnTo>
                  <a:lnTo>
                    <a:pt x="95" y="463"/>
                  </a:lnTo>
                  <a:lnTo>
                    <a:pt x="103" y="434"/>
                  </a:lnTo>
                  <a:lnTo>
                    <a:pt x="96" y="406"/>
                  </a:lnTo>
                  <a:lnTo>
                    <a:pt x="92" y="406"/>
                  </a:lnTo>
                  <a:lnTo>
                    <a:pt x="84" y="408"/>
                  </a:lnTo>
                  <a:lnTo>
                    <a:pt x="75" y="405"/>
                  </a:lnTo>
                  <a:lnTo>
                    <a:pt x="83" y="391"/>
                  </a:lnTo>
                  <a:lnTo>
                    <a:pt x="83" y="375"/>
                  </a:lnTo>
                  <a:lnTo>
                    <a:pt x="81" y="359"/>
                  </a:lnTo>
                  <a:lnTo>
                    <a:pt x="79" y="349"/>
                  </a:lnTo>
                  <a:lnTo>
                    <a:pt x="75" y="340"/>
                  </a:lnTo>
                  <a:lnTo>
                    <a:pt x="69" y="332"/>
                  </a:lnTo>
                  <a:lnTo>
                    <a:pt x="60" y="325"/>
                  </a:lnTo>
                  <a:lnTo>
                    <a:pt x="50" y="319"/>
                  </a:lnTo>
                  <a:lnTo>
                    <a:pt x="44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3"/>
                  </a:lnTo>
                  <a:lnTo>
                    <a:pt x="45" y="266"/>
                  </a:lnTo>
                  <a:lnTo>
                    <a:pt x="55" y="262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0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7"/>
                  </a:lnTo>
                  <a:lnTo>
                    <a:pt x="16" y="148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6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39"/>
                  </a:lnTo>
                  <a:lnTo>
                    <a:pt x="52" y="40"/>
                  </a:lnTo>
                  <a:lnTo>
                    <a:pt x="68" y="39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0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7"/>
                  </a:lnTo>
                  <a:lnTo>
                    <a:pt x="106" y="13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0"/>
                  </a:lnTo>
                  <a:lnTo>
                    <a:pt x="156" y="32"/>
                  </a:lnTo>
                  <a:lnTo>
                    <a:pt x="162" y="39"/>
                  </a:lnTo>
                  <a:lnTo>
                    <a:pt x="172" y="40"/>
                  </a:lnTo>
                  <a:lnTo>
                    <a:pt x="183" y="40"/>
                  </a:lnTo>
                  <a:lnTo>
                    <a:pt x="194" y="42"/>
                  </a:lnTo>
                  <a:lnTo>
                    <a:pt x="195" y="45"/>
                  </a:lnTo>
                  <a:lnTo>
                    <a:pt x="197" y="48"/>
                  </a:lnTo>
                  <a:lnTo>
                    <a:pt x="197" y="51"/>
                  </a:lnTo>
                  <a:lnTo>
                    <a:pt x="192" y="58"/>
                  </a:lnTo>
                  <a:lnTo>
                    <a:pt x="194" y="66"/>
                  </a:lnTo>
                  <a:lnTo>
                    <a:pt x="200" y="72"/>
                  </a:lnTo>
                  <a:lnTo>
                    <a:pt x="201" y="74"/>
                  </a:lnTo>
                  <a:lnTo>
                    <a:pt x="201" y="78"/>
                  </a:lnTo>
                  <a:lnTo>
                    <a:pt x="200" y="80"/>
                  </a:lnTo>
                  <a:lnTo>
                    <a:pt x="196" y="84"/>
                  </a:lnTo>
                  <a:lnTo>
                    <a:pt x="192" y="86"/>
                  </a:lnTo>
                  <a:lnTo>
                    <a:pt x="188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09"/>
                  </a:lnTo>
                  <a:lnTo>
                    <a:pt x="178" y="114"/>
                  </a:lnTo>
                  <a:lnTo>
                    <a:pt x="184" y="119"/>
                  </a:lnTo>
                  <a:lnTo>
                    <a:pt x="188" y="124"/>
                  </a:lnTo>
                  <a:lnTo>
                    <a:pt x="183" y="136"/>
                  </a:lnTo>
                  <a:lnTo>
                    <a:pt x="176" y="147"/>
                  </a:lnTo>
                  <a:lnTo>
                    <a:pt x="185" y="155"/>
                  </a:lnTo>
                  <a:lnTo>
                    <a:pt x="203" y="152"/>
                  </a:lnTo>
                  <a:lnTo>
                    <a:pt x="218" y="136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3"/>
                  </a:lnTo>
                  <a:lnTo>
                    <a:pt x="267" y="138"/>
                  </a:lnTo>
                  <a:lnTo>
                    <a:pt x="277" y="132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4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3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7"/>
                  </a:lnTo>
                  <a:lnTo>
                    <a:pt x="372" y="173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6"/>
                  </a:lnTo>
                  <a:lnTo>
                    <a:pt x="388" y="231"/>
                  </a:lnTo>
                  <a:lnTo>
                    <a:pt x="404" y="266"/>
                  </a:lnTo>
                  <a:lnTo>
                    <a:pt x="402" y="306"/>
                  </a:lnTo>
                  <a:lnTo>
                    <a:pt x="384" y="322"/>
                  </a:lnTo>
                  <a:lnTo>
                    <a:pt x="381" y="319"/>
                  </a:lnTo>
                  <a:lnTo>
                    <a:pt x="378" y="315"/>
                  </a:lnTo>
                  <a:lnTo>
                    <a:pt x="375" y="313"/>
                  </a:lnTo>
                  <a:lnTo>
                    <a:pt x="366" y="312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1"/>
                  </a:lnTo>
                  <a:lnTo>
                    <a:pt x="330" y="320"/>
                  </a:lnTo>
                  <a:lnTo>
                    <a:pt x="320" y="319"/>
                  </a:lnTo>
                  <a:lnTo>
                    <a:pt x="314" y="317"/>
                  </a:lnTo>
                  <a:lnTo>
                    <a:pt x="309" y="315"/>
                  </a:lnTo>
                  <a:lnTo>
                    <a:pt x="303" y="316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6"/>
                  </a:lnTo>
                  <a:lnTo>
                    <a:pt x="277" y="332"/>
                  </a:lnTo>
                  <a:lnTo>
                    <a:pt x="275" y="338"/>
                  </a:lnTo>
                  <a:lnTo>
                    <a:pt x="264" y="349"/>
                  </a:lnTo>
                  <a:lnTo>
                    <a:pt x="251" y="360"/>
                  </a:lnTo>
                  <a:lnTo>
                    <a:pt x="242" y="372"/>
                  </a:lnTo>
                  <a:lnTo>
                    <a:pt x="243" y="374"/>
                  </a:lnTo>
                  <a:lnTo>
                    <a:pt x="247" y="375"/>
                  </a:lnTo>
                  <a:lnTo>
                    <a:pt x="250" y="378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1"/>
                  </a:lnTo>
                  <a:lnTo>
                    <a:pt x="260" y="420"/>
                  </a:lnTo>
                  <a:lnTo>
                    <a:pt x="264" y="439"/>
                  </a:lnTo>
                  <a:lnTo>
                    <a:pt x="264" y="457"/>
                  </a:lnTo>
                  <a:lnTo>
                    <a:pt x="262" y="457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5"/>
                  </a:lnTo>
                  <a:lnTo>
                    <a:pt x="242" y="439"/>
                  </a:lnTo>
                  <a:lnTo>
                    <a:pt x="235" y="428"/>
                  </a:lnTo>
                  <a:lnTo>
                    <a:pt x="230" y="416"/>
                  </a:lnTo>
                  <a:lnTo>
                    <a:pt x="224" y="405"/>
                  </a:lnTo>
                  <a:lnTo>
                    <a:pt x="215" y="408"/>
                  </a:lnTo>
                  <a:lnTo>
                    <a:pt x="208" y="404"/>
                  </a:lnTo>
                  <a:lnTo>
                    <a:pt x="201" y="398"/>
                  </a:lnTo>
                  <a:lnTo>
                    <a:pt x="201" y="401"/>
                  </a:lnTo>
                  <a:lnTo>
                    <a:pt x="200" y="403"/>
                  </a:lnTo>
                  <a:lnTo>
                    <a:pt x="197" y="404"/>
                  </a:lnTo>
                  <a:lnTo>
                    <a:pt x="191" y="405"/>
                  </a:lnTo>
                  <a:lnTo>
                    <a:pt x="186" y="407"/>
                  </a:lnTo>
                  <a:lnTo>
                    <a:pt x="181" y="410"/>
                  </a:lnTo>
                  <a:lnTo>
                    <a:pt x="172" y="412"/>
                  </a:lnTo>
                  <a:lnTo>
                    <a:pt x="165" y="407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3" y="381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7"/>
                  </a:lnTo>
                  <a:lnTo>
                    <a:pt x="132" y="359"/>
                  </a:lnTo>
                  <a:lnTo>
                    <a:pt x="129" y="363"/>
                  </a:lnTo>
                  <a:lnTo>
                    <a:pt x="128" y="369"/>
                  </a:lnTo>
                  <a:lnTo>
                    <a:pt x="128" y="375"/>
                  </a:lnTo>
                  <a:lnTo>
                    <a:pt x="131" y="375"/>
                  </a:lnTo>
                  <a:lnTo>
                    <a:pt x="133" y="376"/>
                  </a:lnTo>
                  <a:lnTo>
                    <a:pt x="135" y="378"/>
                  </a:lnTo>
                  <a:lnTo>
                    <a:pt x="135" y="381"/>
                  </a:lnTo>
                  <a:lnTo>
                    <a:pt x="135" y="385"/>
                  </a:lnTo>
                  <a:lnTo>
                    <a:pt x="135" y="388"/>
                  </a:lnTo>
                  <a:lnTo>
                    <a:pt x="132" y="388"/>
                  </a:lnTo>
                  <a:lnTo>
                    <a:pt x="131" y="391"/>
                  </a:lnTo>
                  <a:lnTo>
                    <a:pt x="128" y="391"/>
                  </a:lnTo>
                  <a:lnTo>
                    <a:pt x="130" y="401"/>
                  </a:lnTo>
                  <a:lnTo>
                    <a:pt x="132" y="411"/>
                  </a:lnTo>
                  <a:lnTo>
                    <a:pt x="131" y="421"/>
                  </a:lnTo>
                  <a:lnTo>
                    <a:pt x="122" y="449"/>
                  </a:lnTo>
                  <a:lnTo>
                    <a:pt x="113" y="477"/>
                  </a:lnTo>
                  <a:lnTo>
                    <a:pt x="100" y="505"/>
                  </a:lnTo>
                  <a:lnTo>
                    <a:pt x="93" y="519"/>
                  </a:lnTo>
                  <a:lnTo>
                    <a:pt x="88" y="534"/>
                  </a:lnTo>
                  <a:lnTo>
                    <a:pt x="90" y="549"/>
                  </a:lnTo>
                  <a:lnTo>
                    <a:pt x="91" y="555"/>
                  </a:lnTo>
                  <a:lnTo>
                    <a:pt x="91" y="561"/>
                  </a:lnTo>
                  <a:lnTo>
                    <a:pt x="92" y="566"/>
                  </a:lnTo>
                  <a:lnTo>
                    <a:pt x="104" y="577"/>
                  </a:lnTo>
                  <a:lnTo>
                    <a:pt x="115" y="587"/>
                  </a:lnTo>
                  <a:lnTo>
                    <a:pt x="127" y="597"/>
                  </a:lnTo>
                  <a:lnTo>
                    <a:pt x="128" y="599"/>
                  </a:lnTo>
                  <a:lnTo>
                    <a:pt x="127" y="603"/>
                  </a:lnTo>
                  <a:lnTo>
                    <a:pt x="126" y="606"/>
                  </a:lnTo>
                  <a:lnTo>
                    <a:pt x="129" y="617"/>
                  </a:lnTo>
                  <a:lnTo>
                    <a:pt x="137" y="626"/>
                  </a:lnTo>
                  <a:lnTo>
                    <a:pt x="144" y="636"/>
                  </a:lnTo>
                  <a:lnTo>
                    <a:pt x="145" y="645"/>
                  </a:lnTo>
                  <a:lnTo>
                    <a:pt x="143" y="654"/>
                  </a:lnTo>
                  <a:lnTo>
                    <a:pt x="143" y="661"/>
                  </a:lnTo>
                  <a:lnTo>
                    <a:pt x="152" y="679"/>
                  </a:lnTo>
                  <a:lnTo>
                    <a:pt x="165" y="693"/>
                  </a:lnTo>
                  <a:lnTo>
                    <a:pt x="182" y="704"/>
                  </a:lnTo>
                  <a:lnTo>
                    <a:pt x="189" y="704"/>
                  </a:lnTo>
                  <a:lnTo>
                    <a:pt x="196" y="701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3"/>
                  </a:lnTo>
                  <a:lnTo>
                    <a:pt x="214" y="722"/>
                  </a:lnTo>
                  <a:lnTo>
                    <a:pt x="222" y="722"/>
                  </a:lnTo>
                  <a:lnTo>
                    <a:pt x="227" y="725"/>
                  </a:lnTo>
                  <a:lnTo>
                    <a:pt x="230" y="732"/>
                  </a:lnTo>
                  <a:lnTo>
                    <a:pt x="229" y="735"/>
                  </a:lnTo>
                  <a:lnTo>
                    <a:pt x="227" y="735"/>
                  </a:lnTo>
                  <a:lnTo>
                    <a:pt x="226" y="735"/>
                  </a:lnTo>
                  <a:lnTo>
                    <a:pt x="224" y="735"/>
                  </a:lnTo>
                  <a:lnTo>
                    <a:pt x="222" y="744"/>
                  </a:lnTo>
                  <a:lnTo>
                    <a:pt x="216" y="749"/>
                  </a:lnTo>
                  <a:lnTo>
                    <a:pt x="207" y="751"/>
                  </a:lnTo>
                  <a:lnTo>
                    <a:pt x="207" y="748"/>
                  </a:lnTo>
                  <a:lnTo>
                    <a:pt x="206" y="746"/>
                  </a:lnTo>
                  <a:lnTo>
                    <a:pt x="204" y="745"/>
                  </a:lnTo>
                  <a:lnTo>
                    <a:pt x="196" y="749"/>
                  </a:lnTo>
                  <a:lnTo>
                    <a:pt x="194" y="757"/>
                  </a:lnTo>
                  <a:lnTo>
                    <a:pt x="188" y="760"/>
                  </a:lnTo>
                  <a:lnTo>
                    <a:pt x="183" y="758"/>
                  </a:lnTo>
                  <a:lnTo>
                    <a:pt x="179" y="754"/>
                  </a:lnTo>
                  <a:lnTo>
                    <a:pt x="175" y="751"/>
                  </a:lnTo>
                  <a:lnTo>
                    <a:pt x="179" y="731"/>
                  </a:lnTo>
                  <a:lnTo>
                    <a:pt x="165" y="717"/>
                  </a:lnTo>
                  <a:lnTo>
                    <a:pt x="145" y="709"/>
                  </a:lnTo>
                  <a:lnTo>
                    <a:pt x="141" y="709"/>
                  </a:lnTo>
                  <a:lnTo>
                    <a:pt x="138" y="710"/>
                  </a:lnTo>
                  <a:lnTo>
                    <a:pt x="136" y="713"/>
                  </a:lnTo>
                  <a:lnTo>
                    <a:pt x="130" y="72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65400" y="3394080"/>
              <a:ext cx="238320" cy="23868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18" y="119"/>
                  </a:lnTo>
                  <a:lnTo>
                    <a:pt x="23" y="140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8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7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4" y="226"/>
                  </a:lnTo>
                  <a:lnTo>
                    <a:pt x="94" y="224"/>
                  </a:lnTo>
                  <a:lnTo>
                    <a:pt x="95" y="223"/>
                  </a:lnTo>
                  <a:lnTo>
                    <a:pt x="102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7" y="203"/>
                  </a:lnTo>
                  <a:lnTo>
                    <a:pt x="137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4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2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3" y="146"/>
                  </a:lnTo>
                  <a:lnTo>
                    <a:pt x="214" y="144"/>
                  </a:lnTo>
                  <a:lnTo>
                    <a:pt x="221" y="139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59" y="119"/>
                  </a:lnTo>
                  <a:lnTo>
                    <a:pt x="271" y="97"/>
                  </a:lnTo>
                  <a:lnTo>
                    <a:pt x="268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7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5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5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7" y="43"/>
                  </a:lnTo>
                  <a:lnTo>
                    <a:pt x="171" y="36"/>
                  </a:lnTo>
                  <a:lnTo>
                    <a:pt x="166" y="28"/>
                  </a:lnTo>
                  <a:lnTo>
                    <a:pt x="158" y="29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4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8" y="20"/>
                  </a:lnTo>
                  <a:lnTo>
                    <a:pt x="88" y="18"/>
                  </a:lnTo>
                  <a:lnTo>
                    <a:pt x="78" y="18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65400" y="3394080"/>
              <a:ext cx="238320" cy="23868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0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18" y="119"/>
                  </a:lnTo>
                  <a:lnTo>
                    <a:pt x="23" y="141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9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8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5" y="227"/>
                  </a:lnTo>
                  <a:lnTo>
                    <a:pt x="95" y="224"/>
                  </a:lnTo>
                  <a:lnTo>
                    <a:pt x="95" y="223"/>
                  </a:lnTo>
                  <a:lnTo>
                    <a:pt x="103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8" y="203"/>
                  </a:lnTo>
                  <a:lnTo>
                    <a:pt x="138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5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3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4" y="146"/>
                  </a:lnTo>
                  <a:lnTo>
                    <a:pt x="214" y="144"/>
                  </a:lnTo>
                  <a:lnTo>
                    <a:pt x="221" y="140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60" y="119"/>
                  </a:lnTo>
                  <a:lnTo>
                    <a:pt x="271" y="97"/>
                  </a:lnTo>
                  <a:lnTo>
                    <a:pt x="269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6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6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4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8" y="43"/>
                  </a:lnTo>
                  <a:lnTo>
                    <a:pt x="172" y="36"/>
                  </a:lnTo>
                  <a:lnTo>
                    <a:pt x="166" y="28"/>
                  </a:lnTo>
                  <a:lnTo>
                    <a:pt x="158" y="28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18"/>
                  </a:lnTo>
                  <a:lnTo>
                    <a:pt x="78" y="1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76800" y="3804840"/>
              <a:ext cx="443520" cy="32004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7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7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6"/>
                  </a:lnTo>
                  <a:lnTo>
                    <a:pt x="80" y="270"/>
                  </a:lnTo>
                  <a:lnTo>
                    <a:pt x="84" y="264"/>
                  </a:lnTo>
                  <a:lnTo>
                    <a:pt x="84" y="254"/>
                  </a:lnTo>
                  <a:lnTo>
                    <a:pt x="88" y="254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6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8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7"/>
                  </a:lnTo>
                  <a:lnTo>
                    <a:pt x="308" y="100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0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6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7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2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1" y="21"/>
                  </a:lnTo>
                  <a:lnTo>
                    <a:pt x="405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3" y="33"/>
                  </a:lnTo>
                  <a:lnTo>
                    <a:pt x="421" y="42"/>
                  </a:lnTo>
                  <a:lnTo>
                    <a:pt x="414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2" y="54"/>
                  </a:lnTo>
                  <a:lnTo>
                    <a:pt x="415" y="53"/>
                  </a:lnTo>
                  <a:lnTo>
                    <a:pt x="420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6" y="71"/>
                  </a:lnTo>
                  <a:lnTo>
                    <a:pt x="485" y="82"/>
                  </a:lnTo>
                  <a:lnTo>
                    <a:pt x="490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99"/>
                  </a:lnTo>
                  <a:lnTo>
                    <a:pt x="473" y="104"/>
                  </a:lnTo>
                  <a:lnTo>
                    <a:pt x="466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6"/>
                  </a:lnTo>
                  <a:lnTo>
                    <a:pt x="443" y="137"/>
                  </a:lnTo>
                  <a:lnTo>
                    <a:pt x="421" y="136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6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1" y="129"/>
                  </a:lnTo>
                  <a:lnTo>
                    <a:pt x="325" y="133"/>
                  </a:lnTo>
                  <a:lnTo>
                    <a:pt x="319" y="135"/>
                  </a:lnTo>
                  <a:lnTo>
                    <a:pt x="319" y="143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6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1"/>
                  </a:lnTo>
                  <a:lnTo>
                    <a:pt x="269" y="267"/>
                  </a:lnTo>
                  <a:lnTo>
                    <a:pt x="250" y="271"/>
                  </a:lnTo>
                  <a:lnTo>
                    <a:pt x="231" y="271"/>
                  </a:lnTo>
                  <a:lnTo>
                    <a:pt x="213" y="277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79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1"/>
                  </a:lnTo>
                  <a:lnTo>
                    <a:pt x="143" y="274"/>
                  </a:lnTo>
                  <a:lnTo>
                    <a:pt x="138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4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76800" y="3804840"/>
              <a:ext cx="443520" cy="32004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8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8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7"/>
                  </a:lnTo>
                  <a:lnTo>
                    <a:pt x="80" y="271"/>
                  </a:lnTo>
                  <a:lnTo>
                    <a:pt x="85" y="264"/>
                  </a:lnTo>
                  <a:lnTo>
                    <a:pt x="84" y="254"/>
                  </a:lnTo>
                  <a:lnTo>
                    <a:pt x="88" y="255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7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9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8"/>
                  </a:lnTo>
                  <a:lnTo>
                    <a:pt x="308" y="101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1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7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8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3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2" y="21"/>
                  </a:lnTo>
                  <a:lnTo>
                    <a:pt x="406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4" y="33"/>
                  </a:lnTo>
                  <a:lnTo>
                    <a:pt x="421" y="42"/>
                  </a:lnTo>
                  <a:lnTo>
                    <a:pt x="415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3" y="54"/>
                  </a:lnTo>
                  <a:lnTo>
                    <a:pt x="415" y="53"/>
                  </a:lnTo>
                  <a:lnTo>
                    <a:pt x="421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7" y="71"/>
                  </a:lnTo>
                  <a:lnTo>
                    <a:pt x="485" y="82"/>
                  </a:lnTo>
                  <a:lnTo>
                    <a:pt x="491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100"/>
                  </a:lnTo>
                  <a:lnTo>
                    <a:pt x="473" y="105"/>
                  </a:lnTo>
                  <a:lnTo>
                    <a:pt x="467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7"/>
                  </a:lnTo>
                  <a:lnTo>
                    <a:pt x="443" y="137"/>
                  </a:lnTo>
                  <a:lnTo>
                    <a:pt x="421" y="137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7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2" y="129"/>
                  </a:lnTo>
                  <a:lnTo>
                    <a:pt x="326" y="134"/>
                  </a:lnTo>
                  <a:lnTo>
                    <a:pt x="319" y="136"/>
                  </a:lnTo>
                  <a:lnTo>
                    <a:pt x="319" y="144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7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2"/>
                  </a:lnTo>
                  <a:lnTo>
                    <a:pt x="269" y="267"/>
                  </a:lnTo>
                  <a:lnTo>
                    <a:pt x="251" y="271"/>
                  </a:lnTo>
                  <a:lnTo>
                    <a:pt x="231" y="271"/>
                  </a:lnTo>
                  <a:lnTo>
                    <a:pt x="213" y="278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80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2"/>
                  </a:lnTo>
                  <a:lnTo>
                    <a:pt x="144" y="274"/>
                  </a:lnTo>
                  <a:lnTo>
                    <a:pt x="139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5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36040" y="4490640"/>
              <a:ext cx="380880" cy="16164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0" y="62"/>
                  </a:moveTo>
                  <a:lnTo>
                    <a:pt x="337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3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4" y="94"/>
                  </a:lnTo>
                  <a:lnTo>
                    <a:pt x="420" y="98"/>
                  </a:lnTo>
                  <a:lnTo>
                    <a:pt x="419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8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4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4" y="127"/>
                  </a:lnTo>
                  <a:lnTo>
                    <a:pt x="303" y="123"/>
                  </a:lnTo>
                  <a:lnTo>
                    <a:pt x="284" y="117"/>
                  </a:lnTo>
                  <a:lnTo>
                    <a:pt x="255" y="117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2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1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43" y="67"/>
                  </a:lnTo>
                  <a:lnTo>
                    <a:pt x="21" y="66"/>
                  </a:lnTo>
                  <a:lnTo>
                    <a:pt x="0" y="55"/>
                  </a:lnTo>
                  <a:lnTo>
                    <a:pt x="6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5" y="32"/>
                  </a:lnTo>
                  <a:lnTo>
                    <a:pt x="232" y="23"/>
                  </a:lnTo>
                  <a:lnTo>
                    <a:pt x="235" y="22"/>
                  </a:lnTo>
                  <a:lnTo>
                    <a:pt x="240" y="22"/>
                  </a:lnTo>
                  <a:lnTo>
                    <a:pt x="244" y="26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4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7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91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7"/>
                  </a:lnTo>
                  <a:lnTo>
                    <a:pt x="337" y="61"/>
                  </a:lnTo>
                  <a:lnTo>
                    <a:pt x="334" y="65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0" y="6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36040" y="4490640"/>
              <a:ext cx="380880" cy="16164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1" y="62"/>
                  </a:moveTo>
                  <a:lnTo>
                    <a:pt x="338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4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5" y="94"/>
                  </a:lnTo>
                  <a:lnTo>
                    <a:pt x="420" y="98"/>
                  </a:lnTo>
                  <a:lnTo>
                    <a:pt x="420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9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5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3" y="127"/>
                  </a:lnTo>
                  <a:lnTo>
                    <a:pt x="303" y="122"/>
                  </a:lnTo>
                  <a:lnTo>
                    <a:pt x="284" y="117"/>
                  </a:lnTo>
                  <a:lnTo>
                    <a:pt x="255" y="116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1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0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43" y="67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6" y="32"/>
                  </a:lnTo>
                  <a:lnTo>
                    <a:pt x="232" y="23"/>
                  </a:lnTo>
                  <a:lnTo>
                    <a:pt x="236" y="22"/>
                  </a:lnTo>
                  <a:lnTo>
                    <a:pt x="240" y="22"/>
                  </a:lnTo>
                  <a:lnTo>
                    <a:pt x="244" y="25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5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83" y="38"/>
                  </a:lnTo>
                  <a:lnTo>
                    <a:pt x="290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6"/>
                  </a:lnTo>
                  <a:lnTo>
                    <a:pt x="337" y="61"/>
                  </a:lnTo>
                  <a:lnTo>
                    <a:pt x="334" y="64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1" y="6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35560" y="4543920"/>
              <a:ext cx="64080" cy="187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7" y="14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5560" y="4543920"/>
              <a:ext cx="64080" cy="187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4"/>
                  </a:lnTo>
                  <a:lnTo>
                    <a:pt x="47" y="15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0" y="4357440"/>
              <a:ext cx="20880" cy="403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15"/>
                  </a:moveTo>
                  <a:lnTo>
                    <a:pt x="1" y="27"/>
                  </a:lnTo>
                  <a:lnTo>
                    <a:pt x="5" y="36"/>
                  </a:lnTo>
                  <a:lnTo>
                    <a:pt x="14" y="39"/>
                  </a:lnTo>
                  <a:lnTo>
                    <a:pt x="24" y="31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4357440"/>
              <a:ext cx="20880" cy="403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15"/>
                  </a:moveTo>
                  <a:lnTo>
                    <a:pt x="2" y="28"/>
                  </a:lnTo>
                  <a:lnTo>
                    <a:pt x="5" y="36"/>
                  </a:lnTo>
                  <a:lnTo>
                    <a:pt x="13" y="39"/>
                  </a:lnTo>
                  <a:lnTo>
                    <a:pt x="24" y="31"/>
                  </a:lnTo>
                  <a:lnTo>
                    <a:pt x="20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5400" y="4059360"/>
              <a:ext cx="284760" cy="4154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9" y="60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1"/>
                  </a:lnTo>
                  <a:lnTo>
                    <a:pt x="318" y="0"/>
                  </a:lnTo>
                  <a:lnTo>
                    <a:pt x="323" y="5"/>
                  </a:lnTo>
                  <a:lnTo>
                    <a:pt x="324" y="13"/>
                  </a:lnTo>
                  <a:lnTo>
                    <a:pt x="321" y="19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5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3"/>
                  </a:lnTo>
                  <a:lnTo>
                    <a:pt x="301" y="74"/>
                  </a:lnTo>
                  <a:lnTo>
                    <a:pt x="296" y="85"/>
                  </a:lnTo>
                  <a:lnTo>
                    <a:pt x="293" y="88"/>
                  </a:lnTo>
                  <a:lnTo>
                    <a:pt x="289" y="90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8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2" y="94"/>
                  </a:lnTo>
                  <a:lnTo>
                    <a:pt x="146" y="89"/>
                  </a:lnTo>
                  <a:lnTo>
                    <a:pt x="121" y="86"/>
                  </a:lnTo>
                  <a:lnTo>
                    <a:pt x="97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3" y="185"/>
                  </a:lnTo>
                  <a:lnTo>
                    <a:pt x="116" y="186"/>
                  </a:lnTo>
                  <a:lnTo>
                    <a:pt x="119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1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5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6" y="212"/>
                  </a:lnTo>
                  <a:lnTo>
                    <a:pt x="155" y="227"/>
                  </a:lnTo>
                  <a:lnTo>
                    <a:pt x="175" y="240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8" y="296"/>
                  </a:lnTo>
                  <a:lnTo>
                    <a:pt x="196" y="310"/>
                  </a:lnTo>
                  <a:lnTo>
                    <a:pt x="204" y="323"/>
                  </a:lnTo>
                  <a:lnTo>
                    <a:pt x="200" y="334"/>
                  </a:lnTo>
                  <a:lnTo>
                    <a:pt x="188" y="336"/>
                  </a:lnTo>
                  <a:lnTo>
                    <a:pt x="173" y="335"/>
                  </a:lnTo>
                  <a:lnTo>
                    <a:pt x="160" y="338"/>
                  </a:lnTo>
                  <a:lnTo>
                    <a:pt x="156" y="345"/>
                  </a:lnTo>
                  <a:lnTo>
                    <a:pt x="153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4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6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1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1" y="373"/>
                  </a:lnTo>
                  <a:lnTo>
                    <a:pt x="91" y="378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8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6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4" y="228"/>
                  </a:lnTo>
                  <a:lnTo>
                    <a:pt x="24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5"/>
                  </a:lnTo>
                  <a:lnTo>
                    <a:pt x="43" y="147"/>
                  </a:lnTo>
                  <a:lnTo>
                    <a:pt x="51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60" y="100"/>
                  </a:lnTo>
                  <a:lnTo>
                    <a:pt x="60" y="95"/>
                  </a:lnTo>
                  <a:lnTo>
                    <a:pt x="56" y="9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5400" y="4059360"/>
              <a:ext cx="284760" cy="4154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8" y="61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1"/>
                  </a:lnTo>
                  <a:lnTo>
                    <a:pt x="118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2" y="5"/>
                  </a:lnTo>
                  <a:lnTo>
                    <a:pt x="324" y="13"/>
                  </a:lnTo>
                  <a:lnTo>
                    <a:pt x="320" y="20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6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4"/>
                  </a:lnTo>
                  <a:lnTo>
                    <a:pt x="301" y="74"/>
                  </a:lnTo>
                  <a:lnTo>
                    <a:pt x="296" y="86"/>
                  </a:lnTo>
                  <a:lnTo>
                    <a:pt x="293" y="88"/>
                  </a:lnTo>
                  <a:lnTo>
                    <a:pt x="288" y="91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7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1" y="94"/>
                  </a:lnTo>
                  <a:lnTo>
                    <a:pt x="146" y="90"/>
                  </a:lnTo>
                  <a:lnTo>
                    <a:pt x="121" y="86"/>
                  </a:lnTo>
                  <a:lnTo>
                    <a:pt x="96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2" y="185"/>
                  </a:lnTo>
                  <a:lnTo>
                    <a:pt x="116" y="186"/>
                  </a:lnTo>
                  <a:lnTo>
                    <a:pt x="118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2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5" y="212"/>
                  </a:lnTo>
                  <a:lnTo>
                    <a:pt x="155" y="227"/>
                  </a:lnTo>
                  <a:lnTo>
                    <a:pt x="175" y="241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7" y="297"/>
                  </a:lnTo>
                  <a:lnTo>
                    <a:pt x="196" y="310"/>
                  </a:lnTo>
                  <a:lnTo>
                    <a:pt x="204" y="324"/>
                  </a:lnTo>
                  <a:lnTo>
                    <a:pt x="200" y="334"/>
                  </a:lnTo>
                  <a:lnTo>
                    <a:pt x="187" y="336"/>
                  </a:lnTo>
                  <a:lnTo>
                    <a:pt x="173" y="335"/>
                  </a:lnTo>
                  <a:lnTo>
                    <a:pt x="160" y="339"/>
                  </a:lnTo>
                  <a:lnTo>
                    <a:pt x="156" y="345"/>
                  </a:lnTo>
                  <a:lnTo>
                    <a:pt x="152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5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7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2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0" y="374"/>
                  </a:lnTo>
                  <a:lnTo>
                    <a:pt x="91" y="379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7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7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3" y="228"/>
                  </a:lnTo>
                  <a:lnTo>
                    <a:pt x="23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6"/>
                  </a:lnTo>
                  <a:lnTo>
                    <a:pt x="43" y="148"/>
                  </a:lnTo>
                  <a:lnTo>
                    <a:pt x="50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59" y="100"/>
                  </a:lnTo>
                  <a:lnTo>
                    <a:pt x="60" y="95"/>
                  </a:lnTo>
                  <a:lnTo>
                    <a:pt x="56" y="9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2720" y="4262400"/>
              <a:ext cx="83520" cy="4140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9" y="3"/>
                  </a:moveTo>
                  <a:lnTo>
                    <a:pt x="34" y="1"/>
                  </a:lnTo>
                  <a:lnTo>
                    <a:pt x="18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26" y="10"/>
                  </a:lnTo>
                  <a:lnTo>
                    <a:pt x="49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6" y="29"/>
                  </a:lnTo>
                  <a:lnTo>
                    <a:pt x="92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8" y="20"/>
                  </a:lnTo>
                  <a:lnTo>
                    <a:pt x="91" y="14"/>
                  </a:lnTo>
                  <a:lnTo>
                    <a:pt x="93" y="9"/>
                  </a:lnTo>
                  <a:lnTo>
                    <a:pt x="95" y="3"/>
                  </a:lnTo>
                  <a:lnTo>
                    <a:pt x="80" y="3"/>
                  </a:lnTo>
                  <a:lnTo>
                    <a:pt x="65" y="4"/>
                  </a:lnTo>
                  <a:lnTo>
                    <a:pt x="49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720" y="4262400"/>
              <a:ext cx="84240" cy="4140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50" y="3"/>
                  </a:moveTo>
                  <a:lnTo>
                    <a:pt x="34" y="1"/>
                  </a:lnTo>
                  <a:lnTo>
                    <a:pt x="19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3"/>
                  </a:lnTo>
                  <a:lnTo>
                    <a:pt x="27" y="10"/>
                  </a:lnTo>
                  <a:lnTo>
                    <a:pt x="50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7" y="29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2" y="14"/>
                  </a:lnTo>
                  <a:lnTo>
                    <a:pt x="94" y="9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65" y="4"/>
                  </a:lnTo>
                  <a:lnTo>
                    <a:pt x="50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51520" y="4334400"/>
              <a:ext cx="50040" cy="280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4"/>
                  </a:moveTo>
                  <a:lnTo>
                    <a:pt x="23" y="8"/>
                  </a:lnTo>
                  <a:lnTo>
                    <a:pt x="14" y="5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4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51520" y="4334400"/>
              <a:ext cx="50040" cy="280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5"/>
                  </a:moveTo>
                  <a:lnTo>
                    <a:pt x="23" y="7"/>
                  </a:lnTo>
                  <a:lnTo>
                    <a:pt x="14" y="5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3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6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0840" y="4327200"/>
              <a:ext cx="107280" cy="8028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7" y="0"/>
                  </a:moveTo>
                  <a:lnTo>
                    <a:pt x="32" y="2"/>
                  </a:lnTo>
                  <a:lnTo>
                    <a:pt x="46" y="9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5"/>
                  </a:lnTo>
                  <a:lnTo>
                    <a:pt x="89" y="20"/>
                  </a:lnTo>
                  <a:lnTo>
                    <a:pt x="99" y="31"/>
                  </a:lnTo>
                  <a:lnTo>
                    <a:pt x="112" y="37"/>
                  </a:lnTo>
                  <a:lnTo>
                    <a:pt x="113" y="51"/>
                  </a:lnTo>
                  <a:lnTo>
                    <a:pt x="120" y="63"/>
                  </a:lnTo>
                  <a:lnTo>
                    <a:pt x="122" y="77"/>
                  </a:lnTo>
                  <a:lnTo>
                    <a:pt x="101" y="61"/>
                  </a:lnTo>
                  <a:lnTo>
                    <a:pt x="79" y="47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2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30" y="44"/>
                  </a:lnTo>
                  <a:lnTo>
                    <a:pt x="26" y="41"/>
                  </a:lnTo>
                  <a:lnTo>
                    <a:pt x="24" y="37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25" y="53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0" y="19"/>
                  </a:lnTo>
                  <a:lnTo>
                    <a:pt x="15" y="11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0840" y="4327920"/>
              <a:ext cx="108000" cy="792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17" y="0"/>
                  </a:moveTo>
                  <a:lnTo>
                    <a:pt x="32" y="2"/>
                  </a:lnTo>
                  <a:lnTo>
                    <a:pt x="47" y="8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70" y="17"/>
                  </a:lnTo>
                  <a:lnTo>
                    <a:pt x="77" y="14"/>
                  </a:lnTo>
                  <a:lnTo>
                    <a:pt x="89" y="20"/>
                  </a:lnTo>
                  <a:lnTo>
                    <a:pt x="100" y="30"/>
                  </a:lnTo>
                  <a:lnTo>
                    <a:pt x="113" y="36"/>
                  </a:lnTo>
                  <a:lnTo>
                    <a:pt x="114" y="50"/>
                  </a:lnTo>
                  <a:lnTo>
                    <a:pt x="120" y="63"/>
                  </a:lnTo>
                  <a:lnTo>
                    <a:pt x="123" y="76"/>
                  </a:lnTo>
                  <a:lnTo>
                    <a:pt x="101" y="60"/>
                  </a:lnTo>
                  <a:lnTo>
                    <a:pt x="79" y="46"/>
                  </a:lnTo>
                  <a:lnTo>
                    <a:pt x="53" y="38"/>
                  </a:lnTo>
                  <a:lnTo>
                    <a:pt x="50" y="36"/>
                  </a:lnTo>
                  <a:lnTo>
                    <a:pt x="46" y="32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3"/>
                  </a:lnTo>
                  <a:lnTo>
                    <a:pt x="26" y="41"/>
                  </a:lnTo>
                  <a:lnTo>
                    <a:pt x="24" y="36"/>
                  </a:lnTo>
                  <a:lnTo>
                    <a:pt x="20" y="33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7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3" y="26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1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9680" y="4579200"/>
              <a:ext cx="42840" cy="1548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17" y="1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99680" y="4579200"/>
              <a:ext cx="42840" cy="1548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5" y="13"/>
                  </a:lnTo>
                  <a:lnTo>
                    <a:pt x="17" y="15"/>
                  </a:lnTo>
                  <a:lnTo>
                    <a:pt x="0" y="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1160" y="4612680"/>
              <a:ext cx="198720" cy="136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0" y="3"/>
                  </a:lnTo>
                  <a:lnTo>
                    <a:pt x="153" y="8"/>
                  </a:lnTo>
                  <a:lnTo>
                    <a:pt x="146" y="15"/>
                  </a:lnTo>
                  <a:lnTo>
                    <a:pt x="139" y="23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6"/>
                  </a:lnTo>
                  <a:lnTo>
                    <a:pt x="58" y="59"/>
                  </a:lnTo>
                  <a:lnTo>
                    <a:pt x="51" y="65"/>
                  </a:lnTo>
                  <a:lnTo>
                    <a:pt x="40" y="86"/>
                  </a:lnTo>
                  <a:lnTo>
                    <a:pt x="23" y="102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8"/>
                  </a:lnTo>
                  <a:lnTo>
                    <a:pt x="189" y="26"/>
                  </a:lnTo>
                  <a:lnTo>
                    <a:pt x="207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1160" y="4612680"/>
              <a:ext cx="198720" cy="136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1" y="3"/>
                  </a:lnTo>
                  <a:lnTo>
                    <a:pt x="154" y="8"/>
                  </a:lnTo>
                  <a:lnTo>
                    <a:pt x="146" y="15"/>
                  </a:lnTo>
                  <a:lnTo>
                    <a:pt x="139" y="22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5"/>
                  </a:lnTo>
                  <a:lnTo>
                    <a:pt x="58" y="59"/>
                  </a:lnTo>
                  <a:lnTo>
                    <a:pt x="51" y="64"/>
                  </a:lnTo>
                  <a:lnTo>
                    <a:pt x="40" y="85"/>
                  </a:lnTo>
                  <a:lnTo>
                    <a:pt x="24" y="101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89" y="26"/>
                  </a:lnTo>
                  <a:lnTo>
                    <a:pt x="208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6800" y="4737600"/>
              <a:ext cx="34200" cy="16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3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8" y="11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16800" y="4737600"/>
              <a:ext cx="34200" cy="16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4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9" y="11"/>
                  </a:lnTo>
                  <a:lnTo>
                    <a:pt x="39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65920" y="4568760"/>
              <a:ext cx="15480" cy="100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65920" y="4568760"/>
              <a:ext cx="15480" cy="100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1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86800" y="4603320"/>
              <a:ext cx="20160" cy="16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86800" y="4603320"/>
              <a:ext cx="20160" cy="16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82920" y="4596120"/>
              <a:ext cx="1296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2920" y="4596120"/>
              <a:ext cx="1296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9000" y="4605480"/>
              <a:ext cx="12960" cy="82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5"/>
                  </a:moveTo>
                  <a:lnTo>
                    <a:pt x="7" y="5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39720" y="4605480"/>
              <a:ext cx="12240" cy="82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lnTo>
                    <a:pt x="6" y="5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29360" y="4558680"/>
              <a:ext cx="28800" cy="414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4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20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29360" y="4558680"/>
              <a:ext cx="28800" cy="414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3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19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37240" y="4600080"/>
              <a:ext cx="148680" cy="3744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37240" y="4600080"/>
              <a:ext cx="148680" cy="3744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24080" y="4596120"/>
              <a:ext cx="41040" cy="1836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4"/>
                  </a:moveTo>
                  <a:lnTo>
                    <a:pt x="12" y="9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2" y="17"/>
                  </a:lnTo>
                  <a:lnTo>
                    <a:pt x="16" y="18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24080" y="4596120"/>
              <a:ext cx="41040" cy="1836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3"/>
                  </a:moveTo>
                  <a:lnTo>
                    <a:pt x="11" y="8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1" y="17"/>
                  </a:lnTo>
                  <a:lnTo>
                    <a:pt x="15" y="18"/>
                  </a:lnTo>
                  <a:lnTo>
                    <a:pt x="0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96920" y="4654440"/>
              <a:ext cx="82440" cy="4968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7" y="20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3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96920" y="4654440"/>
              <a:ext cx="82440" cy="4968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6" y="21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2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7800" y="4708440"/>
              <a:ext cx="17640" cy="122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0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7800" y="4708440"/>
              <a:ext cx="17640" cy="122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21400" y="4617000"/>
              <a:ext cx="14040" cy="133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4" y="4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4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1400" y="4617000"/>
              <a:ext cx="14040" cy="144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4" y="5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4" y="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36080" y="4598280"/>
              <a:ext cx="72000" cy="4032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79" y="25"/>
                  </a:moveTo>
                  <a:lnTo>
                    <a:pt x="66" y="11"/>
                  </a:lnTo>
                  <a:lnTo>
                    <a:pt x="48" y="8"/>
                  </a:lnTo>
                  <a:lnTo>
                    <a:pt x="31" y="5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3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4" y="30"/>
                  </a:lnTo>
                  <a:lnTo>
                    <a:pt x="6" y="32"/>
                  </a:lnTo>
                  <a:lnTo>
                    <a:pt x="10" y="38"/>
                  </a:lnTo>
                  <a:lnTo>
                    <a:pt x="17" y="39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7" y="25"/>
                  </a:lnTo>
                  <a:lnTo>
                    <a:pt x="41" y="27"/>
                  </a:lnTo>
                  <a:lnTo>
                    <a:pt x="43" y="32"/>
                  </a:lnTo>
                  <a:lnTo>
                    <a:pt x="55" y="27"/>
                  </a:lnTo>
                  <a:lnTo>
                    <a:pt x="68" y="24"/>
                  </a:lnTo>
                  <a:lnTo>
                    <a:pt x="82" y="25"/>
                  </a:lnTo>
                  <a:lnTo>
                    <a:pt x="81" y="25"/>
                  </a:lnTo>
                  <a:lnTo>
                    <a:pt x="79" y="25"/>
                  </a:lnTo>
                  <a:lnTo>
                    <a:pt x="79" y="25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6080" y="4599000"/>
              <a:ext cx="72000" cy="3960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79" y="24"/>
                  </a:moveTo>
                  <a:lnTo>
                    <a:pt x="67" y="10"/>
                  </a:lnTo>
                  <a:lnTo>
                    <a:pt x="48" y="8"/>
                  </a:lnTo>
                  <a:lnTo>
                    <a:pt x="31" y="4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4" y="29"/>
                  </a:lnTo>
                  <a:lnTo>
                    <a:pt x="6" y="31"/>
                  </a:lnTo>
                  <a:lnTo>
                    <a:pt x="10" y="37"/>
                  </a:lnTo>
                  <a:lnTo>
                    <a:pt x="17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3" y="31"/>
                  </a:lnTo>
                  <a:lnTo>
                    <a:pt x="56" y="26"/>
                  </a:lnTo>
                  <a:lnTo>
                    <a:pt x="68" y="24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0" y="24"/>
                  </a:lnTo>
                  <a:lnTo>
                    <a:pt x="79" y="2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98280" y="4609440"/>
              <a:ext cx="46440" cy="44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7" y="7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40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98280" y="4609440"/>
              <a:ext cx="46440" cy="44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1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39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48960" y="4606560"/>
              <a:ext cx="42840" cy="3420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6" y="13"/>
                  </a:moveTo>
                  <a:lnTo>
                    <a:pt x="37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0" y="31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4" y="20"/>
                  </a:lnTo>
                  <a:lnTo>
                    <a:pt x="40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48960" y="4606560"/>
              <a:ext cx="43560" cy="342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47" y="13"/>
                  </a:moveTo>
                  <a:lnTo>
                    <a:pt x="38" y="3"/>
                  </a:lnTo>
                  <a:lnTo>
                    <a:pt x="26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1" y="29"/>
                  </a:lnTo>
                  <a:lnTo>
                    <a:pt x="35" y="20"/>
                  </a:lnTo>
                  <a:lnTo>
                    <a:pt x="41" y="14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11160" y="4617000"/>
              <a:ext cx="46440" cy="3420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3" y="10"/>
                  </a:moveTo>
                  <a:lnTo>
                    <a:pt x="37" y="3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7" y="11"/>
                  </a:lnTo>
                  <a:lnTo>
                    <a:pt x="10" y="17"/>
                  </a:lnTo>
                  <a:lnTo>
                    <a:pt x="0" y="23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19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34" y="23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53" y="11"/>
                  </a:lnTo>
                  <a:lnTo>
                    <a:pt x="48" y="7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3" y="7"/>
                  </a:lnTo>
                  <a:lnTo>
                    <a:pt x="43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3120" y="4617000"/>
              <a:ext cx="15480" cy="100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lnTo>
                    <a:pt x="12" y="3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11160" y="4617720"/>
              <a:ext cx="21960" cy="22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8" y="9"/>
                  </a:lnTo>
                  <a:lnTo>
                    <a:pt x="10" y="16"/>
                  </a:lnTo>
                  <a:lnTo>
                    <a:pt x="0" y="2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11160" y="4640760"/>
              <a:ext cx="14760" cy="100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4" y="5"/>
                  </a:lnTo>
                  <a:lnTo>
                    <a:pt x="10" y="9"/>
                  </a:lnTo>
                  <a:lnTo>
                    <a:pt x="17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25920" y="4641840"/>
              <a:ext cx="5040" cy="9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3" y="6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1320" y="4632480"/>
              <a:ext cx="25200" cy="936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9"/>
                  </a:moveTo>
                  <a:lnTo>
                    <a:pt x="11" y="9"/>
                  </a:lnTo>
                  <a:lnTo>
                    <a:pt x="20" y="5"/>
                  </a:lnTo>
                  <a:lnTo>
                    <a:pt x="29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8960" y="4619880"/>
              <a:ext cx="8640" cy="12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2"/>
                  </a:move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0320" y="4619880"/>
              <a:ext cx="8640" cy="39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2320" y="3939480"/>
              <a:ext cx="429480" cy="461520"/>
            </a:xfrm>
            <a:custGeom>
              <a:avLst/>
              <a:gdLst/>
              <a:ahLst/>
              <a:rect l="l" t="t" r="r" b="b"/>
              <a:pathLst>
                <a:path w="488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2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8" y="373"/>
                  </a:lnTo>
                  <a:lnTo>
                    <a:pt x="151" y="382"/>
                  </a:lnTo>
                  <a:lnTo>
                    <a:pt x="147" y="392"/>
                  </a:lnTo>
                  <a:lnTo>
                    <a:pt x="145" y="403"/>
                  </a:lnTo>
                  <a:lnTo>
                    <a:pt x="147" y="405"/>
                  </a:lnTo>
                  <a:lnTo>
                    <a:pt x="149" y="407"/>
                  </a:lnTo>
                  <a:lnTo>
                    <a:pt x="151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8" y="391"/>
                  </a:lnTo>
                  <a:lnTo>
                    <a:pt x="182" y="388"/>
                  </a:lnTo>
                  <a:lnTo>
                    <a:pt x="187" y="385"/>
                  </a:lnTo>
                  <a:lnTo>
                    <a:pt x="194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4" y="376"/>
                  </a:lnTo>
                  <a:lnTo>
                    <a:pt x="221" y="374"/>
                  </a:lnTo>
                  <a:lnTo>
                    <a:pt x="223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1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6" y="393"/>
                  </a:lnTo>
                  <a:lnTo>
                    <a:pt x="237" y="399"/>
                  </a:lnTo>
                  <a:lnTo>
                    <a:pt x="254" y="395"/>
                  </a:lnTo>
                  <a:lnTo>
                    <a:pt x="270" y="394"/>
                  </a:lnTo>
                  <a:lnTo>
                    <a:pt x="287" y="393"/>
                  </a:lnTo>
                  <a:lnTo>
                    <a:pt x="287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4" y="441"/>
                  </a:lnTo>
                  <a:lnTo>
                    <a:pt x="300" y="438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5" y="429"/>
                  </a:lnTo>
                  <a:lnTo>
                    <a:pt x="336" y="425"/>
                  </a:lnTo>
                  <a:lnTo>
                    <a:pt x="347" y="418"/>
                  </a:lnTo>
                  <a:lnTo>
                    <a:pt x="356" y="410"/>
                  </a:lnTo>
                  <a:lnTo>
                    <a:pt x="365" y="401"/>
                  </a:lnTo>
                  <a:lnTo>
                    <a:pt x="367" y="394"/>
                  </a:lnTo>
                  <a:lnTo>
                    <a:pt x="366" y="385"/>
                  </a:lnTo>
                  <a:lnTo>
                    <a:pt x="368" y="377"/>
                  </a:lnTo>
                  <a:lnTo>
                    <a:pt x="372" y="374"/>
                  </a:lnTo>
                  <a:lnTo>
                    <a:pt x="378" y="370"/>
                  </a:lnTo>
                  <a:lnTo>
                    <a:pt x="381" y="367"/>
                  </a:lnTo>
                  <a:lnTo>
                    <a:pt x="382" y="351"/>
                  </a:lnTo>
                  <a:lnTo>
                    <a:pt x="389" y="340"/>
                  </a:lnTo>
                  <a:lnTo>
                    <a:pt x="396" y="327"/>
                  </a:lnTo>
                  <a:lnTo>
                    <a:pt x="392" y="327"/>
                  </a:lnTo>
                  <a:lnTo>
                    <a:pt x="389" y="325"/>
                  </a:lnTo>
                  <a:lnTo>
                    <a:pt x="387" y="324"/>
                  </a:lnTo>
                  <a:lnTo>
                    <a:pt x="387" y="318"/>
                  </a:lnTo>
                  <a:lnTo>
                    <a:pt x="386" y="312"/>
                  </a:lnTo>
                  <a:lnTo>
                    <a:pt x="383" y="307"/>
                  </a:lnTo>
                  <a:lnTo>
                    <a:pt x="393" y="299"/>
                  </a:lnTo>
                  <a:lnTo>
                    <a:pt x="402" y="289"/>
                  </a:lnTo>
                  <a:lnTo>
                    <a:pt x="411" y="278"/>
                  </a:lnTo>
                  <a:lnTo>
                    <a:pt x="418" y="274"/>
                  </a:lnTo>
                  <a:lnTo>
                    <a:pt x="427" y="272"/>
                  </a:lnTo>
                  <a:lnTo>
                    <a:pt x="435" y="267"/>
                  </a:lnTo>
                  <a:lnTo>
                    <a:pt x="439" y="261"/>
                  </a:lnTo>
                  <a:lnTo>
                    <a:pt x="445" y="257"/>
                  </a:lnTo>
                  <a:lnTo>
                    <a:pt x="445" y="252"/>
                  </a:lnTo>
                  <a:lnTo>
                    <a:pt x="436" y="237"/>
                  </a:lnTo>
                  <a:lnTo>
                    <a:pt x="434" y="221"/>
                  </a:lnTo>
                  <a:lnTo>
                    <a:pt x="432" y="205"/>
                  </a:lnTo>
                  <a:lnTo>
                    <a:pt x="441" y="202"/>
                  </a:lnTo>
                  <a:lnTo>
                    <a:pt x="442" y="197"/>
                  </a:lnTo>
                  <a:lnTo>
                    <a:pt x="446" y="186"/>
                  </a:lnTo>
                  <a:lnTo>
                    <a:pt x="449" y="164"/>
                  </a:lnTo>
                  <a:lnTo>
                    <a:pt x="447" y="141"/>
                  </a:lnTo>
                  <a:lnTo>
                    <a:pt x="457" y="120"/>
                  </a:lnTo>
                  <a:lnTo>
                    <a:pt x="468" y="119"/>
                  </a:lnTo>
                  <a:lnTo>
                    <a:pt x="481" y="121"/>
                  </a:lnTo>
                  <a:lnTo>
                    <a:pt x="488" y="118"/>
                  </a:lnTo>
                  <a:lnTo>
                    <a:pt x="483" y="106"/>
                  </a:lnTo>
                  <a:lnTo>
                    <a:pt x="467" y="99"/>
                  </a:lnTo>
                  <a:lnTo>
                    <a:pt x="452" y="89"/>
                  </a:lnTo>
                  <a:lnTo>
                    <a:pt x="456" y="85"/>
                  </a:lnTo>
                  <a:lnTo>
                    <a:pt x="458" y="80"/>
                  </a:lnTo>
                  <a:lnTo>
                    <a:pt x="462" y="76"/>
                  </a:lnTo>
                  <a:lnTo>
                    <a:pt x="456" y="75"/>
                  </a:lnTo>
                  <a:lnTo>
                    <a:pt x="451" y="72"/>
                  </a:lnTo>
                  <a:lnTo>
                    <a:pt x="447" y="68"/>
                  </a:lnTo>
                  <a:lnTo>
                    <a:pt x="438" y="62"/>
                  </a:lnTo>
                  <a:lnTo>
                    <a:pt x="431" y="54"/>
                  </a:lnTo>
                  <a:lnTo>
                    <a:pt x="428" y="46"/>
                  </a:lnTo>
                  <a:lnTo>
                    <a:pt x="433" y="38"/>
                  </a:lnTo>
                  <a:lnTo>
                    <a:pt x="445" y="37"/>
                  </a:lnTo>
                  <a:lnTo>
                    <a:pt x="458" y="34"/>
                  </a:lnTo>
                  <a:lnTo>
                    <a:pt x="457" y="32"/>
                  </a:lnTo>
                  <a:lnTo>
                    <a:pt x="453" y="30"/>
                  </a:lnTo>
                  <a:lnTo>
                    <a:pt x="449" y="27"/>
                  </a:lnTo>
                  <a:lnTo>
                    <a:pt x="451" y="24"/>
                  </a:lnTo>
                  <a:lnTo>
                    <a:pt x="453" y="22"/>
                  </a:lnTo>
                  <a:lnTo>
                    <a:pt x="455" y="21"/>
                  </a:lnTo>
                  <a:lnTo>
                    <a:pt x="443" y="10"/>
                  </a:lnTo>
                  <a:lnTo>
                    <a:pt x="427" y="6"/>
                  </a:lnTo>
                  <a:lnTo>
                    <a:pt x="412" y="2"/>
                  </a:lnTo>
                  <a:lnTo>
                    <a:pt x="398" y="1"/>
                  </a:lnTo>
                  <a:lnTo>
                    <a:pt x="382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7" y="7"/>
                  </a:lnTo>
                  <a:lnTo>
                    <a:pt x="346" y="15"/>
                  </a:lnTo>
                  <a:lnTo>
                    <a:pt x="343" y="22"/>
                  </a:lnTo>
                  <a:lnTo>
                    <a:pt x="338" y="28"/>
                  </a:lnTo>
                  <a:lnTo>
                    <a:pt x="338" y="33"/>
                  </a:lnTo>
                  <a:lnTo>
                    <a:pt x="342" y="39"/>
                  </a:lnTo>
                  <a:lnTo>
                    <a:pt x="343" y="46"/>
                  </a:lnTo>
                  <a:lnTo>
                    <a:pt x="339" y="49"/>
                  </a:lnTo>
                  <a:lnTo>
                    <a:pt x="334" y="49"/>
                  </a:lnTo>
                  <a:lnTo>
                    <a:pt x="331" y="50"/>
                  </a:lnTo>
                  <a:lnTo>
                    <a:pt x="329" y="57"/>
                  </a:lnTo>
                  <a:lnTo>
                    <a:pt x="331" y="64"/>
                  </a:lnTo>
                  <a:lnTo>
                    <a:pt x="332" y="72"/>
                  </a:lnTo>
                  <a:lnTo>
                    <a:pt x="328" y="75"/>
                  </a:lnTo>
                  <a:lnTo>
                    <a:pt x="323" y="76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4" y="91"/>
                  </a:lnTo>
                  <a:lnTo>
                    <a:pt x="317" y="99"/>
                  </a:lnTo>
                  <a:lnTo>
                    <a:pt x="309" y="104"/>
                  </a:lnTo>
                  <a:lnTo>
                    <a:pt x="304" y="111"/>
                  </a:lnTo>
                  <a:lnTo>
                    <a:pt x="301" y="119"/>
                  </a:lnTo>
                  <a:lnTo>
                    <a:pt x="300" y="126"/>
                  </a:lnTo>
                  <a:lnTo>
                    <a:pt x="300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9" y="142"/>
                  </a:lnTo>
                  <a:lnTo>
                    <a:pt x="241" y="149"/>
                  </a:lnTo>
                  <a:lnTo>
                    <a:pt x="245" y="151"/>
                  </a:lnTo>
                  <a:lnTo>
                    <a:pt x="247" y="156"/>
                  </a:lnTo>
                  <a:lnTo>
                    <a:pt x="250" y="160"/>
                  </a:lnTo>
                  <a:lnTo>
                    <a:pt x="250" y="161"/>
                  </a:lnTo>
                  <a:lnTo>
                    <a:pt x="246" y="162"/>
                  </a:lnTo>
                  <a:lnTo>
                    <a:pt x="244" y="165"/>
                  </a:lnTo>
                  <a:lnTo>
                    <a:pt x="220" y="151"/>
                  </a:lnTo>
                  <a:lnTo>
                    <a:pt x="196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8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3"/>
                  </a:lnTo>
                  <a:lnTo>
                    <a:pt x="98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14" y="140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9" y="161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3" y="185"/>
                  </a:lnTo>
                  <a:lnTo>
                    <a:pt x="0" y="188"/>
                  </a:lnTo>
                  <a:lnTo>
                    <a:pt x="10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3"/>
                  </a:lnTo>
                  <a:lnTo>
                    <a:pt x="23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7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29"/>
                  </a:lnTo>
                  <a:lnTo>
                    <a:pt x="71" y="334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6" y="367"/>
                  </a:lnTo>
                  <a:lnTo>
                    <a:pt x="139" y="364"/>
                  </a:lnTo>
                  <a:lnTo>
                    <a:pt x="140" y="365"/>
                  </a:lnTo>
                  <a:lnTo>
                    <a:pt x="141" y="367"/>
                  </a:lnTo>
                  <a:lnTo>
                    <a:pt x="143" y="369"/>
                  </a:lnTo>
                  <a:lnTo>
                    <a:pt x="144" y="370"/>
                  </a:lnTo>
                  <a:lnTo>
                    <a:pt x="145" y="369"/>
                  </a:lnTo>
                  <a:lnTo>
                    <a:pt x="145" y="368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3040" y="3939480"/>
              <a:ext cx="428760" cy="461520"/>
            </a:xfrm>
            <a:custGeom>
              <a:avLst/>
              <a:gdLst/>
              <a:ahLst/>
              <a:rect l="l" t="t" r="r" b="b"/>
              <a:pathLst>
                <a:path w="487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1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7" y="373"/>
                  </a:lnTo>
                  <a:lnTo>
                    <a:pt x="151" y="383"/>
                  </a:lnTo>
                  <a:lnTo>
                    <a:pt x="147" y="393"/>
                  </a:lnTo>
                  <a:lnTo>
                    <a:pt x="145" y="403"/>
                  </a:lnTo>
                  <a:lnTo>
                    <a:pt x="146" y="405"/>
                  </a:lnTo>
                  <a:lnTo>
                    <a:pt x="149" y="407"/>
                  </a:lnTo>
                  <a:lnTo>
                    <a:pt x="150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82" y="388"/>
                  </a:lnTo>
                  <a:lnTo>
                    <a:pt x="186" y="385"/>
                  </a:lnTo>
                  <a:lnTo>
                    <a:pt x="193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3" y="376"/>
                  </a:lnTo>
                  <a:lnTo>
                    <a:pt x="221" y="374"/>
                  </a:lnTo>
                  <a:lnTo>
                    <a:pt x="222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0" y="380"/>
                  </a:lnTo>
                  <a:lnTo>
                    <a:pt x="234" y="380"/>
                  </a:lnTo>
                  <a:lnTo>
                    <a:pt x="233" y="387"/>
                  </a:lnTo>
                  <a:lnTo>
                    <a:pt x="236" y="393"/>
                  </a:lnTo>
                  <a:lnTo>
                    <a:pt x="237" y="400"/>
                  </a:lnTo>
                  <a:lnTo>
                    <a:pt x="253" y="396"/>
                  </a:lnTo>
                  <a:lnTo>
                    <a:pt x="270" y="394"/>
                  </a:lnTo>
                  <a:lnTo>
                    <a:pt x="286" y="393"/>
                  </a:lnTo>
                  <a:lnTo>
                    <a:pt x="286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3" y="442"/>
                  </a:lnTo>
                  <a:lnTo>
                    <a:pt x="299" y="439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4" y="429"/>
                  </a:lnTo>
                  <a:lnTo>
                    <a:pt x="336" y="425"/>
                  </a:lnTo>
                  <a:lnTo>
                    <a:pt x="346" y="418"/>
                  </a:lnTo>
                  <a:lnTo>
                    <a:pt x="356" y="410"/>
                  </a:lnTo>
                  <a:lnTo>
                    <a:pt x="364" y="402"/>
                  </a:lnTo>
                  <a:lnTo>
                    <a:pt x="366" y="395"/>
                  </a:lnTo>
                  <a:lnTo>
                    <a:pt x="365" y="385"/>
                  </a:lnTo>
                  <a:lnTo>
                    <a:pt x="367" y="377"/>
                  </a:lnTo>
                  <a:lnTo>
                    <a:pt x="372" y="374"/>
                  </a:lnTo>
                  <a:lnTo>
                    <a:pt x="377" y="370"/>
                  </a:lnTo>
                  <a:lnTo>
                    <a:pt x="380" y="367"/>
                  </a:lnTo>
                  <a:lnTo>
                    <a:pt x="382" y="352"/>
                  </a:lnTo>
                  <a:lnTo>
                    <a:pt x="388" y="340"/>
                  </a:lnTo>
                  <a:lnTo>
                    <a:pt x="395" y="327"/>
                  </a:lnTo>
                  <a:lnTo>
                    <a:pt x="391" y="327"/>
                  </a:lnTo>
                  <a:lnTo>
                    <a:pt x="388" y="325"/>
                  </a:lnTo>
                  <a:lnTo>
                    <a:pt x="386" y="324"/>
                  </a:lnTo>
                  <a:lnTo>
                    <a:pt x="386" y="318"/>
                  </a:lnTo>
                  <a:lnTo>
                    <a:pt x="385" y="312"/>
                  </a:lnTo>
                  <a:lnTo>
                    <a:pt x="382" y="308"/>
                  </a:lnTo>
                  <a:lnTo>
                    <a:pt x="392" y="299"/>
                  </a:lnTo>
                  <a:lnTo>
                    <a:pt x="402" y="290"/>
                  </a:lnTo>
                  <a:lnTo>
                    <a:pt x="410" y="278"/>
                  </a:lnTo>
                  <a:lnTo>
                    <a:pt x="417" y="274"/>
                  </a:lnTo>
                  <a:lnTo>
                    <a:pt x="426" y="272"/>
                  </a:lnTo>
                  <a:lnTo>
                    <a:pt x="434" y="267"/>
                  </a:lnTo>
                  <a:lnTo>
                    <a:pt x="438" y="262"/>
                  </a:lnTo>
                  <a:lnTo>
                    <a:pt x="444" y="257"/>
                  </a:lnTo>
                  <a:lnTo>
                    <a:pt x="444" y="252"/>
                  </a:lnTo>
                  <a:lnTo>
                    <a:pt x="435" y="237"/>
                  </a:lnTo>
                  <a:lnTo>
                    <a:pt x="433" y="221"/>
                  </a:lnTo>
                  <a:lnTo>
                    <a:pt x="431" y="205"/>
                  </a:lnTo>
                  <a:lnTo>
                    <a:pt x="440" y="202"/>
                  </a:lnTo>
                  <a:lnTo>
                    <a:pt x="442" y="196"/>
                  </a:lnTo>
                  <a:lnTo>
                    <a:pt x="445" y="187"/>
                  </a:lnTo>
                  <a:lnTo>
                    <a:pt x="448" y="164"/>
                  </a:lnTo>
                  <a:lnTo>
                    <a:pt x="447" y="141"/>
                  </a:lnTo>
                  <a:lnTo>
                    <a:pt x="456" y="120"/>
                  </a:lnTo>
                  <a:lnTo>
                    <a:pt x="467" y="118"/>
                  </a:lnTo>
                  <a:lnTo>
                    <a:pt x="480" y="121"/>
                  </a:lnTo>
                  <a:lnTo>
                    <a:pt x="487" y="118"/>
                  </a:lnTo>
                  <a:lnTo>
                    <a:pt x="482" y="106"/>
                  </a:lnTo>
                  <a:lnTo>
                    <a:pt x="466" y="99"/>
                  </a:lnTo>
                  <a:lnTo>
                    <a:pt x="451" y="89"/>
                  </a:lnTo>
                  <a:lnTo>
                    <a:pt x="455" y="85"/>
                  </a:lnTo>
                  <a:lnTo>
                    <a:pt x="458" y="80"/>
                  </a:lnTo>
                  <a:lnTo>
                    <a:pt x="461" y="76"/>
                  </a:lnTo>
                  <a:lnTo>
                    <a:pt x="455" y="75"/>
                  </a:lnTo>
                  <a:lnTo>
                    <a:pt x="450" y="71"/>
                  </a:lnTo>
                  <a:lnTo>
                    <a:pt x="446" y="68"/>
                  </a:lnTo>
                  <a:lnTo>
                    <a:pt x="437" y="61"/>
                  </a:lnTo>
                  <a:lnTo>
                    <a:pt x="430" y="54"/>
                  </a:lnTo>
                  <a:lnTo>
                    <a:pt x="427" y="46"/>
                  </a:lnTo>
                  <a:lnTo>
                    <a:pt x="432" y="38"/>
                  </a:lnTo>
                  <a:lnTo>
                    <a:pt x="445" y="37"/>
                  </a:lnTo>
                  <a:lnTo>
                    <a:pt x="457" y="34"/>
                  </a:lnTo>
                  <a:lnTo>
                    <a:pt x="457" y="32"/>
                  </a:lnTo>
                  <a:lnTo>
                    <a:pt x="452" y="30"/>
                  </a:lnTo>
                  <a:lnTo>
                    <a:pt x="449" y="26"/>
                  </a:lnTo>
                  <a:lnTo>
                    <a:pt x="450" y="24"/>
                  </a:lnTo>
                  <a:lnTo>
                    <a:pt x="453" y="22"/>
                  </a:lnTo>
                  <a:lnTo>
                    <a:pt x="454" y="20"/>
                  </a:lnTo>
                  <a:lnTo>
                    <a:pt x="442" y="10"/>
                  </a:lnTo>
                  <a:lnTo>
                    <a:pt x="426" y="6"/>
                  </a:lnTo>
                  <a:lnTo>
                    <a:pt x="411" y="2"/>
                  </a:lnTo>
                  <a:lnTo>
                    <a:pt x="397" y="1"/>
                  </a:lnTo>
                  <a:lnTo>
                    <a:pt x="381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6" y="7"/>
                  </a:lnTo>
                  <a:lnTo>
                    <a:pt x="346" y="15"/>
                  </a:lnTo>
                  <a:lnTo>
                    <a:pt x="342" y="21"/>
                  </a:lnTo>
                  <a:lnTo>
                    <a:pt x="337" y="28"/>
                  </a:lnTo>
                  <a:lnTo>
                    <a:pt x="337" y="32"/>
                  </a:lnTo>
                  <a:lnTo>
                    <a:pt x="342" y="39"/>
                  </a:lnTo>
                  <a:lnTo>
                    <a:pt x="342" y="46"/>
                  </a:lnTo>
                  <a:lnTo>
                    <a:pt x="338" y="49"/>
                  </a:lnTo>
                  <a:lnTo>
                    <a:pt x="334" y="49"/>
                  </a:lnTo>
                  <a:lnTo>
                    <a:pt x="330" y="50"/>
                  </a:lnTo>
                  <a:lnTo>
                    <a:pt x="328" y="57"/>
                  </a:lnTo>
                  <a:lnTo>
                    <a:pt x="330" y="64"/>
                  </a:lnTo>
                  <a:lnTo>
                    <a:pt x="331" y="72"/>
                  </a:lnTo>
                  <a:lnTo>
                    <a:pt x="328" y="75"/>
                  </a:lnTo>
                  <a:lnTo>
                    <a:pt x="322" y="75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3" y="91"/>
                  </a:lnTo>
                  <a:lnTo>
                    <a:pt x="316" y="99"/>
                  </a:lnTo>
                  <a:lnTo>
                    <a:pt x="308" y="104"/>
                  </a:lnTo>
                  <a:lnTo>
                    <a:pt x="304" y="111"/>
                  </a:lnTo>
                  <a:lnTo>
                    <a:pt x="300" y="119"/>
                  </a:lnTo>
                  <a:lnTo>
                    <a:pt x="300" y="126"/>
                  </a:lnTo>
                  <a:lnTo>
                    <a:pt x="299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8" y="142"/>
                  </a:lnTo>
                  <a:lnTo>
                    <a:pt x="241" y="149"/>
                  </a:lnTo>
                  <a:lnTo>
                    <a:pt x="244" y="151"/>
                  </a:lnTo>
                  <a:lnTo>
                    <a:pt x="246" y="155"/>
                  </a:lnTo>
                  <a:lnTo>
                    <a:pt x="249" y="159"/>
                  </a:lnTo>
                  <a:lnTo>
                    <a:pt x="249" y="161"/>
                  </a:lnTo>
                  <a:lnTo>
                    <a:pt x="245" y="162"/>
                  </a:lnTo>
                  <a:lnTo>
                    <a:pt x="243" y="165"/>
                  </a:lnTo>
                  <a:lnTo>
                    <a:pt x="220" y="151"/>
                  </a:lnTo>
                  <a:lnTo>
                    <a:pt x="195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7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2"/>
                  </a:lnTo>
                  <a:lnTo>
                    <a:pt x="97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8" y="137"/>
                  </a:lnTo>
                  <a:lnTo>
                    <a:pt x="13" y="140"/>
                  </a:lnTo>
                  <a:lnTo>
                    <a:pt x="12" y="142"/>
                  </a:lnTo>
                  <a:lnTo>
                    <a:pt x="12" y="147"/>
                  </a:lnTo>
                  <a:lnTo>
                    <a:pt x="16" y="152"/>
                  </a:lnTo>
                  <a:lnTo>
                    <a:pt x="8" y="160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2" y="185"/>
                  </a:lnTo>
                  <a:lnTo>
                    <a:pt x="0" y="188"/>
                  </a:lnTo>
                  <a:lnTo>
                    <a:pt x="9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4"/>
                  </a:lnTo>
                  <a:lnTo>
                    <a:pt x="22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30"/>
                  </a:lnTo>
                  <a:lnTo>
                    <a:pt x="71" y="335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5" y="367"/>
                  </a:lnTo>
                  <a:lnTo>
                    <a:pt x="139" y="364"/>
                  </a:lnTo>
                  <a:lnTo>
                    <a:pt x="139" y="365"/>
                  </a:lnTo>
                  <a:lnTo>
                    <a:pt x="141" y="367"/>
                  </a:lnTo>
                  <a:lnTo>
                    <a:pt x="142" y="369"/>
                  </a:lnTo>
                  <a:lnTo>
                    <a:pt x="143" y="370"/>
                  </a:lnTo>
                  <a:lnTo>
                    <a:pt x="145" y="369"/>
                  </a:lnTo>
                  <a:lnTo>
                    <a:pt x="145" y="36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46800" y="3876840"/>
              <a:ext cx="498240" cy="61272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6" y="25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99"/>
                  </a:lnTo>
                  <a:lnTo>
                    <a:pt x="114" y="134"/>
                  </a:lnTo>
                  <a:lnTo>
                    <a:pt x="136" y="172"/>
                  </a:lnTo>
                  <a:lnTo>
                    <a:pt x="172" y="190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60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7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3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5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2"/>
                  </a:lnTo>
                  <a:lnTo>
                    <a:pt x="537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5"/>
                  </a:lnTo>
                  <a:lnTo>
                    <a:pt x="545" y="487"/>
                  </a:lnTo>
                  <a:lnTo>
                    <a:pt x="545" y="480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60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6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4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4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0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6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1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6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0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4"/>
                  </a:lnTo>
                  <a:lnTo>
                    <a:pt x="295" y="192"/>
                  </a:lnTo>
                  <a:lnTo>
                    <a:pt x="270" y="177"/>
                  </a:lnTo>
                  <a:lnTo>
                    <a:pt x="251" y="155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3"/>
                  </a:lnTo>
                  <a:lnTo>
                    <a:pt x="231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5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1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6800" y="3876840"/>
              <a:ext cx="498240" cy="61272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100"/>
                  </a:lnTo>
                  <a:lnTo>
                    <a:pt x="114" y="134"/>
                  </a:lnTo>
                  <a:lnTo>
                    <a:pt x="137" y="172"/>
                  </a:lnTo>
                  <a:lnTo>
                    <a:pt x="172" y="191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59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6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4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4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1"/>
                  </a:lnTo>
                  <a:lnTo>
                    <a:pt x="538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4"/>
                  </a:lnTo>
                  <a:lnTo>
                    <a:pt x="545" y="487"/>
                  </a:lnTo>
                  <a:lnTo>
                    <a:pt x="545" y="479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59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5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3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5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1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7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2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7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1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5"/>
                  </a:lnTo>
                  <a:lnTo>
                    <a:pt x="295" y="192"/>
                  </a:lnTo>
                  <a:lnTo>
                    <a:pt x="271" y="177"/>
                  </a:lnTo>
                  <a:lnTo>
                    <a:pt x="251" y="156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6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2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8560" y="3819240"/>
              <a:ext cx="200520" cy="287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225" y="257"/>
                  </a:moveTo>
                  <a:lnTo>
                    <a:pt x="228" y="264"/>
                  </a:lnTo>
                  <a:lnTo>
                    <a:pt x="227" y="271"/>
                  </a:lnTo>
                  <a:lnTo>
                    <a:pt x="223" y="275"/>
                  </a:lnTo>
                  <a:lnTo>
                    <a:pt x="215" y="276"/>
                  </a:lnTo>
                  <a:lnTo>
                    <a:pt x="210" y="266"/>
                  </a:lnTo>
                  <a:lnTo>
                    <a:pt x="202" y="263"/>
                  </a:lnTo>
                  <a:lnTo>
                    <a:pt x="194" y="268"/>
                  </a:lnTo>
                  <a:lnTo>
                    <a:pt x="185" y="273"/>
                  </a:lnTo>
                  <a:lnTo>
                    <a:pt x="177" y="272"/>
                  </a:lnTo>
                  <a:lnTo>
                    <a:pt x="139" y="248"/>
                  </a:lnTo>
                  <a:lnTo>
                    <a:pt x="101" y="227"/>
                  </a:lnTo>
                  <a:lnTo>
                    <a:pt x="68" y="199"/>
                  </a:lnTo>
                  <a:lnTo>
                    <a:pt x="64" y="192"/>
                  </a:lnTo>
                  <a:lnTo>
                    <a:pt x="61" y="184"/>
                  </a:lnTo>
                  <a:lnTo>
                    <a:pt x="58" y="175"/>
                  </a:lnTo>
                  <a:lnTo>
                    <a:pt x="50" y="162"/>
                  </a:lnTo>
                  <a:lnTo>
                    <a:pt x="39" y="151"/>
                  </a:lnTo>
                  <a:lnTo>
                    <a:pt x="30" y="138"/>
                  </a:lnTo>
                  <a:lnTo>
                    <a:pt x="27" y="119"/>
                  </a:lnTo>
                  <a:lnTo>
                    <a:pt x="25" y="100"/>
                  </a:lnTo>
                  <a:lnTo>
                    <a:pt x="19" y="82"/>
                  </a:lnTo>
                  <a:lnTo>
                    <a:pt x="15" y="77"/>
                  </a:lnTo>
                  <a:lnTo>
                    <a:pt x="11" y="72"/>
                  </a:lnTo>
                  <a:lnTo>
                    <a:pt x="8" y="68"/>
                  </a:lnTo>
                  <a:lnTo>
                    <a:pt x="7" y="59"/>
                  </a:lnTo>
                  <a:lnTo>
                    <a:pt x="10" y="49"/>
                  </a:lnTo>
                  <a:lnTo>
                    <a:pt x="9" y="39"/>
                  </a:lnTo>
                  <a:lnTo>
                    <a:pt x="5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47" y="21"/>
                  </a:lnTo>
                  <a:lnTo>
                    <a:pt x="43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5" y="37"/>
                  </a:lnTo>
                  <a:lnTo>
                    <a:pt x="76" y="39"/>
                  </a:lnTo>
                  <a:lnTo>
                    <a:pt x="76" y="42"/>
                  </a:lnTo>
                  <a:lnTo>
                    <a:pt x="85" y="39"/>
                  </a:lnTo>
                  <a:lnTo>
                    <a:pt x="91" y="35"/>
                  </a:lnTo>
                  <a:lnTo>
                    <a:pt x="93" y="26"/>
                  </a:lnTo>
                  <a:lnTo>
                    <a:pt x="105" y="27"/>
                  </a:lnTo>
                  <a:lnTo>
                    <a:pt x="116" y="33"/>
                  </a:lnTo>
                  <a:lnTo>
                    <a:pt x="125" y="44"/>
                  </a:lnTo>
                  <a:lnTo>
                    <a:pt x="139" y="58"/>
                  </a:lnTo>
                  <a:lnTo>
                    <a:pt x="156" y="70"/>
                  </a:lnTo>
                  <a:lnTo>
                    <a:pt x="166" y="86"/>
                  </a:lnTo>
                  <a:lnTo>
                    <a:pt x="168" y="116"/>
                  </a:lnTo>
                  <a:lnTo>
                    <a:pt x="165" y="147"/>
                  </a:lnTo>
                  <a:lnTo>
                    <a:pt x="167" y="177"/>
                  </a:lnTo>
                  <a:lnTo>
                    <a:pt x="179" y="201"/>
                  </a:lnTo>
                  <a:lnTo>
                    <a:pt x="196" y="223"/>
                  </a:lnTo>
                  <a:lnTo>
                    <a:pt x="208" y="247"/>
                  </a:lnTo>
                  <a:lnTo>
                    <a:pt x="206" y="250"/>
                  </a:lnTo>
                  <a:lnTo>
                    <a:pt x="203" y="253"/>
                  </a:lnTo>
                  <a:lnTo>
                    <a:pt x="201" y="257"/>
                  </a:lnTo>
                  <a:lnTo>
                    <a:pt x="225" y="25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65840" y="4087440"/>
              <a:ext cx="3240" cy="183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1" y="0"/>
                  </a:moveTo>
                  <a:lnTo>
                    <a:pt x="4" y="7"/>
                  </a:lnTo>
                  <a:lnTo>
                    <a:pt x="3" y="13"/>
                  </a:lnTo>
                  <a:lnTo>
                    <a:pt x="0" y="1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47120" y="4092480"/>
              <a:ext cx="18360" cy="144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2" y="14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24440" y="4092480"/>
              <a:ext cx="22680" cy="100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17" y="5"/>
                  </a:lnTo>
                  <a:lnTo>
                    <a:pt x="8" y="10"/>
                  </a:lnTo>
                  <a:lnTo>
                    <a:pt x="0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29400" y="4026960"/>
              <a:ext cx="94680" cy="748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108" y="72"/>
                  </a:moveTo>
                  <a:lnTo>
                    <a:pt x="70" y="49"/>
                  </a:lnTo>
                  <a:lnTo>
                    <a:pt x="32" y="2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19680" y="4001760"/>
              <a:ext cx="9720" cy="248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4"/>
                  </a:moveTo>
                  <a:lnTo>
                    <a:pt x="7" y="17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4840" y="3963240"/>
              <a:ext cx="24480" cy="385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7"/>
                  </a:moveTo>
                  <a:lnTo>
                    <a:pt x="20" y="25"/>
                  </a:lnTo>
                  <a:lnTo>
                    <a:pt x="9" y="13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5120" y="3906000"/>
              <a:ext cx="9720" cy="5724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1" y="55"/>
                  </a:moveTo>
                  <a:lnTo>
                    <a:pt x="8" y="36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76480" y="3890160"/>
              <a:ext cx="8640" cy="154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7" y="10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4680" y="3859920"/>
              <a:ext cx="2520" cy="3024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1" y="29"/>
                  </a:moveTo>
                  <a:lnTo>
                    <a:pt x="0" y="20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68560" y="3832920"/>
              <a:ext cx="8640" cy="266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26"/>
                  </a:moveTo>
                  <a:lnTo>
                    <a:pt x="5" y="17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70360" y="3819240"/>
              <a:ext cx="9720" cy="13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2" y="6"/>
                  </a:lnTo>
                  <a:lnTo>
                    <a:pt x="5" y="1"/>
                  </a:lnTo>
                  <a:lnTo>
                    <a:pt x="11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0080" y="3819240"/>
              <a:ext cx="29880" cy="439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20" y="8"/>
                  </a:lnTo>
                  <a:lnTo>
                    <a:pt x="34" y="21"/>
                  </a:lnTo>
                  <a:lnTo>
                    <a:pt x="30" y="4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07080" y="3863160"/>
              <a:ext cx="11520" cy="90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4" y="3"/>
                  </a:lnTo>
                  <a:lnTo>
                    <a:pt x="8" y="7"/>
                  </a:lnTo>
                  <a:lnTo>
                    <a:pt x="13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18600" y="3857040"/>
              <a:ext cx="13680" cy="15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6" y="12"/>
                  </a:lnTo>
                  <a:lnTo>
                    <a:pt x="8" y="3"/>
                  </a:lnTo>
                  <a:lnTo>
                    <a:pt x="16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2640" y="3857040"/>
              <a:ext cx="252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5160" y="3846600"/>
              <a:ext cx="14760" cy="16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14"/>
                  </a:lnTo>
                  <a:lnTo>
                    <a:pt x="15" y="9"/>
                  </a:lnTo>
                  <a:lnTo>
                    <a:pt x="1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0280" y="3846600"/>
              <a:ext cx="28080" cy="183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13" y="1"/>
                  </a:lnTo>
                  <a:lnTo>
                    <a:pt x="23" y="8"/>
                  </a:lnTo>
                  <a:lnTo>
                    <a:pt x="32" y="1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78360" y="3865320"/>
              <a:ext cx="36000" cy="439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15" y="14"/>
                  </a:lnTo>
                  <a:lnTo>
                    <a:pt x="31" y="26"/>
                  </a:lnTo>
                  <a:lnTo>
                    <a:pt x="41" y="4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13640" y="3909240"/>
              <a:ext cx="2520" cy="94680"/>
            </a:xfrm>
            <a:custGeom>
              <a:avLst/>
              <a:gdLst/>
              <a:ahLst/>
              <a:rect l="l" t="t" r="r" b="b"/>
              <a:pathLst>
                <a:path w="3" h="91">
                  <a:moveTo>
                    <a:pt x="1" y="0"/>
                  </a:moveTo>
                  <a:lnTo>
                    <a:pt x="3" y="30"/>
                  </a:lnTo>
                  <a:lnTo>
                    <a:pt x="0" y="61"/>
                  </a:lnTo>
                  <a:lnTo>
                    <a:pt x="2" y="9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15440" y="4003920"/>
              <a:ext cx="36000" cy="7272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0" y="0"/>
                  </a:moveTo>
                  <a:lnTo>
                    <a:pt x="12" y="24"/>
                  </a:lnTo>
                  <a:lnTo>
                    <a:pt x="30" y="45"/>
                  </a:lnTo>
                  <a:lnTo>
                    <a:pt x="41" y="7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46400" y="4077000"/>
              <a:ext cx="5040" cy="100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65400" y="2918880"/>
              <a:ext cx="322920" cy="80352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6" y="94"/>
                  </a:lnTo>
                  <a:lnTo>
                    <a:pt x="41" y="104"/>
                  </a:lnTo>
                  <a:lnTo>
                    <a:pt x="39" y="114"/>
                  </a:lnTo>
                  <a:lnTo>
                    <a:pt x="43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4" y="147"/>
                  </a:lnTo>
                  <a:lnTo>
                    <a:pt x="118" y="156"/>
                  </a:lnTo>
                  <a:lnTo>
                    <a:pt x="126" y="160"/>
                  </a:lnTo>
                  <a:lnTo>
                    <a:pt x="134" y="165"/>
                  </a:lnTo>
                  <a:lnTo>
                    <a:pt x="140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1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3" y="223"/>
                  </a:lnTo>
                  <a:lnTo>
                    <a:pt x="122" y="236"/>
                  </a:lnTo>
                  <a:lnTo>
                    <a:pt x="144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3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400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4"/>
                  </a:lnTo>
                  <a:lnTo>
                    <a:pt x="273" y="447"/>
                  </a:lnTo>
                  <a:lnTo>
                    <a:pt x="272" y="450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80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1"/>
                  </a:lnTo>
                  <a:lnTo>
                    <a:pt x="257" y="493"/>
                  </a:lnTo>
                  <a:lnTo>
                    <a:pt x="261" y="497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1" y="588"/>
                  </a:lnTo>
                  <a:lnTo>
                    <a:pt x="237" y="591"/>
                  </a:lnTo>
                  <a:lnTo>
                    <a:pt x="228" y="593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4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7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8" y="659"/>
                  </a:lnTo>
                  <a:lnTo>
                    <a:pt x="134" y="661"/>
                  </a:lnTo>
                  <a:lnTo>
                    <a:pt x="128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9"/>
                  </a:lnTo>
                  <a:lnTo>
                    <a:pt x="120" y="680"/>
                  </a:lnTo>
                  <a:lnTo>
                    <a:pt x="125" y="682"/>
                  </a:lnTo>
                  <a:lnTo>
                    <a:pt x="130" y="684"/>
                  </a:lnTo>
                  <a:lnTo>
                    <a:pt x="135" y="687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4" y="712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3" y="771"/>
                  </a:lnTo>
                  <a:lnTo>
                    <a:pt x="138" y="771"/>
                  </a:lnTo>
                  <a:lnTo>
                    <a:pt x="144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9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9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4"/>
                  </a:lnTo>
                  <a:lnTo>
                    <a:pt x="206" y="718"/>
                  </a:lnTo>
                  <a:lnTo>
                    <a:pt x="211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09" y="691"/>
                  </a:lnTo>
                  <a:lnTo>
                    <a:pt x="217" y="699"/>
                  </a:lnTo>
                  <a:lnTo>
                    <a:pt x="226" y="703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9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5"/>
                  </a:lnTo>
                  <a:lnTo>
                    <a:pt x="282" y="664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8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7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1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09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6" y="275"/>
                  </a:lnTo>
                  <a:lnTo>
                    <a:pt x="191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4" y="234"/>
                  </a:lnTo>
                  <a:lnTo>
                    <a:pt x="185" y="230"/>
                  </a:lnTo>
                  <a:lnTo>
                    <a:pt x="181" y="216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5" y="185"/>
                  </a:lnTo>
                  <a:lnTo>
                    <a:pt x="211" y="179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8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5"/>
                  </a:lnTo>
                  <a:lnTo>
                    <a:pt x="278" y="143"/>
                  </a:lnTo>
                  <a:lnTo>
                    <a:pt x="279" y="141"/>
                  </a:lnTo>
                  <a:lnTo>
                    <a:pt x="279" y="138"/>
                  </a:lnTo>
                  <a:lnTo>
                    <a:pt x="279" y="134"/>
                  </a:lnTo>
                  <a:lnTo>
                    <a:pt x="273" y="132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4"/>
                  </a:lnTo>
                  <a:lnTo>
                    <a:pt x="278" y="106"/>
                  </a:lnTo>
                  <a:lnTo>
                    <a:pt x="285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1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1" y="34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3" y="34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9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65400" y="2918880"/>
              <a:ext cx="322920" cy="80352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5" y="94"/>
                  </a:lnTo>
                  <a:lnTo>
                    <a:pt x="41" y="104"/>
                  </a:lnTo>
                  <a:lnTo>
                    <a:pt x="39" y="115"/>
                  </a:lnTo>
                  <a:lnTo>
                    <a:pt x="42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3" y="147"/>
                  </a:lnTo>
                  <a:lnTo>
                    <a:pt x="118" y="156"/>
                  </a:lnTo>
                  <a:lnTo>
                    <a:pt x="126" y="161"/>
                  </a:lnTo>
                  <a:lnTo>
                    <a:pt x="133" y="165"/>
                  </a:lnTo>
                  <a:lnTo>
                    <a:pt x="139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2" y="223"/>
                  </a:lnTo>
                  <a:lnTo>
                    <a:pt x="122" y="236"/>
                  </a:lnTo>
                  <a:lnTo>
                    <a:pt x="143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4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399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3"/>
                  </a:lnTo>
                  <a:lnTo>
                    <a:pt x="273" y="447"/>
                  </a:lnTo>
                  <a:lnTo>
                    <a:pt x="272" y="449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79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0"/>
                  </a:lnTo>
                  <a:lnTo>
                    <a:pt x="257" y="493"/>
                  </a:lnTo>
                  <a:lnTo>
                    <a:pt x="261" y="496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2" y="588"/>
                  </a:lnTo>
                  <a:lnTo>
                    <a:pt x="237" y="591"/>
                  </a:lnTo>
                  <a:lnTo>
                    <a:pt x="228" y="592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3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6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7" y="659"/>
                  </a:lnTo>
                  <a:lnTo>
                    <a:pt x="134" y="661"/>
                  </a:lnTo>
                  <a:lnTo>
                    <a:pt x="127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8"/>
                  </a:lnTo>
                  <a:lnTo>
                    <a:pt x="120" y="679"/>
                  </a:lnTo>
                  <a:lnTo>
                    <a:pt x="125" y="681"/>
                  </a:lnTo>
                  <a:lnTo>
                    <a:pt x="130" y="683"/>
                  </a:lnTo>
                  <a:lnTo>
                    <a:pt x="135" y="686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3" y="711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2" y="771"/>
                  </a:lnTo>
                  <a:lnTo>
                    <a:pt x="138" y="771"/>
                  </a:lnTo>
                  <a:lnTo>
                    <a:pt x="143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8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8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3"/>
                  </a:lnTo>
                  <a:lnTo>
                    <a:pt x="206" y="718"/>
                  </a:lnTo>
                  <a:lnTo>
                    <a:pt x="212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10" y="691"/>
                  </a:lnTo>
                  <a:lnTo>
                    <a:pt x="217" y="699"/>
                  </a:lnTo>
                  <a:lnTo>
                    <a:pt x="226" y="702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8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4"/>
                  </a:lnTo>
                  <a:lnTo>
                    <a:pt x="282" y="663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9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6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0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10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7" y="275"/>
                  </a:lnTo>
                  <a:lnTo>
                    <a:pt x="192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3" y="234"/>
                  </a:lnTo>
                  <a:lnTo>
                    <a:pt x="185" y="230"/>
                  </a:lnTo>
                  <a:lnTo>
                    <a:pt x="181" y="215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6" y="185"/>
                  </a:lnTo>
                  <a:lnTo>
                    <a:pt x="211" y="180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9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6"/>
                  </a:lnTo>
                  <a:lnTo>
                    <a:pt x="278" y="144"/>
                  </a:lnTo>
                  <a:lnTo>
                    <a:pt x="279" y="141"/>
                  </a:lnTo>
                  <a:lnTo>
                    <a:pt x="280" y="138"/>
                  </a:lnTo>
                  <a:lnTo>
                    <a:pt x="279" y="134"/>
                  </a:lnTo>
                  <a:lnTo>
                    <a:pt x="273" y="133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5"/>
                  </a:lnTo>
                  <a:lnTo>
                    <a:pt x="278" y="106"/>
                  </a:lnTo>
                  <a:lnTo>
                    <a:pt x="286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2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5" y="38"/>
                  </a:lnTo>
                  <a:lnTo>
                    <a:pt x="88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70840" y="2964600"/>
              <a:ext cx="38520" cy="374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0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8" y="31"/>
                  </a:lnTo>
                  <a:lnTo>
                    <a:pt x="17" y="36"/>
                  </a:lnTo>
                  <a:lnTo>
                    <a:pt x="28" y="35"/>
                  </a:lnTo>
                  <a:lnTo>
                    <a:pt x="38" y="31"/>
                  </a:lnTo>
                  <a:lnTo>
                    <a:pt x="44" y="22"/>
                  </a:lnTo>
                  <a:lnTo>
                    <a:pt x="43" y="1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10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70840" y="2964600"/>
              <a:ext cx="38520" cy="385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1" y="22"/>
                  </a:lnTo>
                  <a:lnTo>
                    <a:pt x="7" y="32"/>
                  </a:lnTo>
                  <a:lnTo>
                    <a:pt x="17" y="37"/>
                  </a:lnTo>
                  <a:lnTo>
                    <a:pt x="28" y="36"/>
                  </a:lnTo>
                  <a:lnTo>
                    <a:pt x="38" y="32"/>
                  </a:lnTo>
                  <a:lnTo>
                    <a:pt x="44" y="23"/>
                  </a:lnTo>
                  <a:lnTo>
                    <a:pt x="42" y="11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9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14800" y="2057040"/>
              <a:ext cx="157320" cy="25092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0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9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8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7" y="141"/>
                  </a:lnTo>
                  <a:lnTo>
                    <a:pt x="33" y="144"/>
                  </a:lnTo>
                  <a:lnTo>
                    <a:pt x="30" y="144"/>
                  </a:lnTo>
                  <a:lnTo>
                    <a:pt x="29" y="137"/>
                  </a:lnTo>
                  <a:lnTo>
                    <a:pt x="28" y="129"/>
                  </a:lnTo>
                  <a:lnTo>
                    <a:pt x="32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8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14800" y="2057040"/>
              <a:ext cx="157320" cy="25092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1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8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9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8" y="141"/>
                  </a:lnTo>
                  <a:lnTo>
                    <a:pt x="33" y="144"/>
                  </a:lnTo>
                  <a:lnTo>
                    <a:pt x="31" y="144"/>
                  </a:lnTo>
                  <a:lnTo>
                    <a:pt x="29" y="137"/>
                  </a:lnTo>
                  <a:lnTo>
                    <a:pt x="29" y="129"/>
                  </a:lnTo>
                  <a:lnTo>
                    <a:pt x="33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9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38120" y="1779480"/>
              <a:ext cx="293760" cy="326880"/>
            </a:xfrm>
            <a:custGeom>
              <a:avLst/>
              <a:gdLst/>
              <a:ahLst/>
              <a:rect l="l" t="t" r="r" b="b"/>
              <a:pathLst>
                <a:path w="334" h="314">
                  <a:moveTo>
                    <a:pt x="334" y="36"/>
                  </a:moveTo>
                  <a:lnTo>
                    <a:pt x="331" y="31"/>
                  </a:lnTo>
                  <a:lnTo>
                    <a:pt x="327" y="26"/>
                  </a:lnTo>
                  <a:lnTo>
                    <a:pt x="323" y="22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1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6"/>
                  </a:lnTo>
                  <a:lnTo>
                    <a:pt x="274" y="13"/>
                  </a:lnTo>
                  <a:lnTo>
                    <a:pt x="273" y="23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4" y="39"/>
                  </a:lnTo>
                  <a:lnTo>
                    <a:pt x="235" y="46"/>
                  </a:lnTo>
                  <a:lnTo>
                    <a:pt x="227" y="52"/>
                  </a:lnTo>
                  <a:lnTo>
                    <a:pt x="213" y="55"/>
                  </a:lnTo>
                  <a:lnTo>
                    <a:pt x="198" y="54"/>
                  </a:lnTo>
                  <a:lnTo>
                    <a:pt x="189" y="59"/>
                  </a:lnTo>
                  <a:lnTo>
                    <a:pt x="189" y="72"/>
                  </a:lnTo>
                  <a:lnTo>
                    <a:pt x="190" y="85"/>
                  </a:lnTo>
                  <a:lnTo>
                    <a:pt x="179" y="92"/>
                  </a:lnTo>
                  <a:lnTo>
                    <a:pt x="162" y="91"/>
                  </a:lnTo>
                  <a:lnTo>
                    <a:pt x="147" y="84"/>
                  </a:lnTo>
                  <a:lnTo>
                    <a:pt x="137" y="68"/>
                  </a:lnTo>
                  <a:lnTo>
                    <a:pt x="134" y="68"/>
                  </a:lnTo>
                  <a:lnTo>
                    <a:pt x="127" y="70"/>
                  </a:lnTo>
                  <a:lnTo>
                    <a:pt x="120" y="72"/>
                  </a:lnTo>
                  <a:lnTo>
                    <a:pt x="115" y="76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2" y="158"/>
                  </a:lnTo>
                  <a:lnTo>
                    <a:pt x="0" y="169"/>
                  </a:lnTo>
                  <a:lnTo>
                    <a:pt x="5" y="181"/>
                  </a:lnTo>
                  <a:lnTo>
                    <a:pt x="14" y="188"/>
                  </a:lnTo>
                  <a:lnTo>
                    <a:pt x="28" y="190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53" y="213"/>
                  </a:lnTo>
                  <a:lnTo>
                    <a:pt x="48" y="226"/>
                  </a:lnTo>
                  <a:lnTo>
                    <a:pt x="43" y="239"/>
                  </a:lnTo>
                  <a:lnTo>
                    <a:pt x="47" y="240"/>
                  </a:lnTo>
                  <a:lnTo>
                    <a:pt x="48" y="244"/>
                  </a:lnTo>
                  <a:lnTo>
                    <a:pt x="51" y="246"/>
                  </a:lnTo>
                  <a:lnTo>
                    <a:pt x="45" y="258"/>
                  </a:lnTo>
                  <a:lnTo>
                    <a:pt x="36" y="269"/>
                  </a:lnTo>
                  <a:lnTo>
                    <a:pt x="35" y="282"/>
                  </a:lnTo>
                  <a:lnTo>
                    <a:pt x="40" y="293"/>
                  </a:lnTo>
                  <a:lnTo>
                    <a:pt x="46" y="302"/>
                  </a:lnTo>
                  <a:lnTo>
                    <a:pt x="55" y="310"/>
                  </a:lnTo>
                  <a:lnTo>
                    <a:pt x="64" y="313"/>
                  </a:lnTo>
                  <a:lnTo>
                    <a:pt x="73" y="308"/>
                  </a:lnTo>
                  <a:lnTo>
                    <a:pt x="83" y="302"/>
                  </a:lnTo>
                  <a:lnTo>
                    <a:pt x="83" y="304"/>
                  </a:lnTo>
                  <a:lnTo>
                    <a:pt x="83" y="306"/>
                  </a:lnTo>
                  <a:lnTo>
                    <a:pt x="83" y="308"/>
                  </a:lnTo>
                  <a:lnTo>
                    <a:pt x="88" y="305"/>
                  </a:lnTo>
                  <a:lnTo>
                    <a:pt x="95" y="305"/>
                  </a:lnTo>
                  <a:lnTo>
                    <a:pt x="100" y="302"/>
                  </a:lnTo>
                  <a:lnTo>
                    <a:pt x="99" y="305"/>
                  </a:lnTo>
                  <a:lnTo>
                    <a:pt x="99" y="308"/>
                  </a:lnTo>
                  <a:lnTo>
                    <a:pt x="103" y="308"/>
                  </a:lnTo>
                  <a:lnTo>
                    <a:pt x="116" y="308"/>
                  </a:lnTo>
                  <a:lnTo>
                    <a:pt x="127" y="310"/>
                  </a:lnTo>
                  <a:lnTo>
                    <a:pt x="140" y="313"/>
                  </a:lnTo>
                  <a:lnTo>
                    <a:pt x="165" y="314"/>
                  </a:lnTo>
                  <a:lnTo>
                    <a:pt x="187" y="305"/>
                  </a:lnTo>
                  <a:lnTo>
                    <a:pt x="201" y="285"/>
                  </a:lnTo>
                  <a:lnTo>
                    <a:pt x="202" y="261"/>
                  </a:lnTo>
                  <a:lnTo>
                    <a:pt x="190" y="243"/>
                  </a:lnTo>
                  <a:lnTo>
                    <a:pt x="170" y="227"/>
                  </a:lnTo>
                  <a:lnTo>
                    <a:pt x="162" y="221"/>
                  </a:lnTo>
                  <a:lnTo>
                    <a:pt x="156" y="211"/>
                  </a:lnTo>
                  <a:lnTo>
                    <a:pt x="160" y="200"/>
                  </a:lnTo>
                  <a:lnTo>
                    <a:pt x="165" y="193"/>
                  </a:lnTo>
                  <a:lnTo>
                    <a:pt x="169" y="186"/>
                  </a:lnTo>
                  <a:lnTo>
                    <a:pt x="173" y="183"/>
                  </a:lnTo>
                  <a:lnTo>
                    <a:pt x="194" y="174"/>
                  </a:lnTo>
                  <a:lnTo>
                    <a:pt x="227" y="159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30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6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38120" y="1780560"/>
              <a:ext cx="293760" cy="326160"/>
            </a:xfrm>
            <a:custGeom>
              <a:avLst/>
              <a:gdLst/>
              <a:ahLst/>
              <a:rect l="l" t="t" r="r" b="b"/>
              <a:pathLst>
                <a:path w="334" h="313">
                  <a:moveTo>
                    <a:pt x="334" y="35"/>
                  </a:moveTo>
                  <a:lnTo>
                    <a:pt x="330" y="31"/>
                  </a:lnTo>
                  <a:lnTo>
                    <a:pt x="327" y="26"/>
                  </a:lnTo>
                  <a:lnTo>
                    <a:pt x="323" y="21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0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5"/>
                  </a:lnTo>
                  <a:lnTo>
                    <a:pt x="274" y="13"/>
                  </a:lnTo>
                  <a:lnTo>
                    <a:pt x="273" y="22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0"/>
                  </a:lnTo>
                  <a:lnTo>
                    <a:pt x="252" y="32"/>
                  </a:lnTo>
                  <a:lnTo>
                    <a:pt x="244" y="38"/>
                  </a:lnTo>
                  <a:lnTo>
                    <a:pt x="235" y="45"/>
                  </a:lnTo>
                  <a:lnTo>
                    <a:pt x="227" y="52"/>
                  </a:lnTo>
                  <a:lnTo>
                    <a:pt x="214" y="54"/>
                  </a:lnTo>
                  <a:lnTo>
                    <a:pt x="198" y="54"/>
                  </a:lnTo>
                  <a:lnTo>
                    <a:pt x="189" y="58"/>
                  </a:lnTo>
                  <a:lnTo>
                    <a:pt x="189" y="72"/>
                  </a:lnTo>
                  <a:lnTo>
                    <a:pt x="190" y="84"/>
                  </a:lnTo>
                  <a:lnTo>
                    <a:pt x="179" y="91"/>
                  </a:lnTo>
                  <a:lnTo>
                    <a:pt x="162" y="91"/>
                  </a:lnTo>
                  <a:lnTo>
                    <a:pt x="147" y="83"/>
                  </a:lnTo>
                  <a:lnTo>
                    <a:pt x="137" y="67"/>
                  </a:lnTo>
                  <a:lnTo>
                    <a:pt x="134" y="67"/>
                  </a:lnTo>
                  <a:lnTo>
                    <a:pt x="127" y="69"/>
                  </a:lnTo>
                  <a:lnTo>
                    <a:pt x="120" y="72"/>
                  </a:lnTo>
                  <a:lnTo>
                    <a:pt x="115" y="75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3" y="158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14" y="187"/>
                  </a:lnTo>
                  <a:lnTo>
                    <a:pt x="28" y="189"/>
                  </a:lnTo>
                  <a:lnTo>
                    <a:pt x="42" y="191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48" y="225"/>
                  </a:lnTo>
                  <a:lnTo>
                    <a:pt x="44" y="238"/>
                  </a:lnTo>
                  <a:lnTo>
                    <a:pt x="47" y="239"/>
                  </a:lnTo>
                  <a:lnTo>
                    <a:pt x="48" y="243"/>
                  </a:lnTo>
                  <a:lnTo>
                    <a:pt x="51" y="245"/>
                  </a:lnTo>
                  <a:lnTo>
                    <a:pt x="45" y="257"/>
                  </a:lnTo>
                  <a:lnTo>
                    <a:pt x="37" y="268"/>
                  </a:lnTo>
                  <a:lnTo>
                    <a:pt x="35" y="281"/>
                  </a:lnTo>
                  <a:lnTo>
                    <a:pt x="40" y="292"/>
                  </a:lnTo>
                  <a:lnTo>
                    <a:pt x="47" y="301"/>
                  </a:lnTo>
                  <a:lnTo>
                    <a:pt x="55" y="309"/>
                  </a:lnTo>
                  <a:lnTo>
                    <a:pt x="64" y="312"/>
                  </a:lnTo>
                  <a:lnTo>
                    <a:pt x="74" y="307"/>
                  </a:lnTo>
                  <a:lnTo>
                    <a:pt x="84" y="301"/>
                  </a:lnTo>
                  <a:lnTo>
                    <a:pt x="84" y="303"/>
                  </a:lnTo>
                  <a:lnTo>
                    <a:pt x="84" y="305"/>
                  </a:lnTo>
                  <a:lnTo>
                    <a:pt x="84" y="308"/>
                  </a:lnTo>
                  <a:lnTo>
                    <a:pt x="88" y="304"/>
                  </a:lnTo>
                  <a:lnTo>
                    <a:pt x="95" y="304"/>
                  </a:lnTo>
                  <a:lnTo>
                    <a:pt x="100" y="301"/>
                  </a:lnTo>
                  <a:lnTo>
                    <a:pt x="99" y="304"/>
                  </a:lnTo>
                  <a:lnTo>
                    <a:pt x="99" y="307"/>
                  </a:lnTo>
                  <a:lnTo>
                    <a:pt x="103" y="308"/>
                  </a:lnTo>
                  <a:lnTo>
                    <a:pt x="116" y="307"/>
                  </a:lnTo>
                  <a:lnTo>
                    <a:pt x="127" y="309"/>
                  </a:lnTo>
                  <a:lnTo>
                    <a:pt x="140" y="312"/>
                  </a:lnTo>
                  <a:lnTo>
                    <a:pt x="165" y="313"/>
                  </a:lnTo>
                  <a:lnTo>
                    <a:pt x="187" y="304"/>
                  </a:lnTo>
                  <a:lnTo>
                    <a:pt x="201" y="284"/>
                  </a:lnTo>
                  <a:lnTo>
                    <a:pt x="202" y="261"/>
                  </a:lnTo>
                  <a:lnTo>
                    <a:pt x="190" y="242"/>
                  </a:lnTo>
                  <a:lnTo>
                    <a:pt x="170" y="226"/>
                  </a:lnTo>
                  <a:lnTo>
                    <a:pt x="161" y="220"/>
                  </a:lnTo>
                  <a:lnTo>
                    <a:pt x="156" y="210"/>
                  </a:lnTo>
                  <a:lnTo>
                    <a:pt x="160" y="199"/>
                  </a:lnTo>
                  <a:lnTo>
                    <a:pt x="165" y="192"/>
                  </a:lnTo>
                  <a:lnTo>
                    <a:pt x="169" y="185"/>
                  </a:lnTo>
                  <a:lnTo>
                    <a:pt x="173" y="182"/>
                  </a:lnTo>
                  <a:lnTo>
                    <a:pt x="194" y="173"/>
                  </a:lnTo>
                  <a:lnTo>
                    <a:pt x="227" y="158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5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5"/>
                  </a:lnTo>
                  <a:lnTo>
                    <a:pt x="334" y="3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32520" y="1157400"/>
              <a:ext cx="1413720" cy="70236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7"/>
                  </a:moveTo>
                  <a:lnTo>
                    <a:pt x="597" y="27"/>
                  </a:lnTo>
                  <a:lnTo>
                    <a:pt x="592" y="27"/>
                  </a:lnTo>
                  <a:lnTo>
                    <a:pt x="587" y="27"/>
                  </a:lnTo>
                  <a:lnTo>
                    <a:pt x="587" y="25"/>
                  </a:lnTo>
                  <a:lnTo>
                    <a:pt x="587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3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5" y="53"/>
                  </a:lnTo>
                  <a:lnTo>
                    <a:pt x="511" y="53"/>
                  </a:lnTo>
                  <a:lnTo>
                    <a:pt x="508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4" y="142"/>
                  </a:lnTo>
                  <a:lnTo>
                    <a:pt x="330" y="131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4" y="96"/>
                  </a:lnTo>
                  <a:lnTo>
                    <a:pt x="216" y="90"/>
                  </a:lnTo>
                  <a:lnTo>
                    <a:pt x="216" y="94"/>
                  </a:lnTo>
                  <a:lnTo>
                    <a:pt x="216" y="97"/>
                  </a:lnTo>
                  <a:lnTo>
                    <a:pt x="213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29"/>
                  </a:lnTo>
                  <a:lnTo>
                    <a:pt x="118" y="133"/>
                  </a:lnTo>
                  <a:lnTo>
                    <a:pt x="114" y="135"/>
                  </a:lnTo>
                  <a:lnTo>
                    <a:pt x="110" y="138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7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6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1" y="208"/>
                  </a:lnTo>
                  <a:lnTo>
                    <a:pt x="0" y="222"/>
                  </a:lnTo>
                  <a:lnTo>
                    <a:pt x="1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8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4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19" y="501"/>
                  </a:lnTo>
                  <a:lnTo>
                    <a:pt x="336" y="505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4" y="533"/>
                  </a:lnTo>
                  <a:lnTo>
                    <a:pt x="389" y="543"/>
                  </a:lnTo>
                  <a:lnTo>
                    <a:pt x="429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3"/>
                  </a:lnTo>
                  <a:lnTo>
                    <a:pt x="649" y="613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8" y="646"/>
                  </a:lnTo>
                  <a:lnTo>
                    <a:pt x="782" y="657"/>
                  </a:lnTo>
                  <a:lnTo>
                    <a:pt x="828" y="662"/>
                  </a:lnTo>
                  <a:lnTo>
                    <a:pt x="830" y="664"/>
                  </a:lnTo>
                  <a:lnTo>
                    <a:pt x="831" y="668"/>
                  </a:lnTo>
                  <a:lnTo>
                    <a:pt x="833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8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7"/>
                  </a:lnTo>
                  <a:lnTo>
                    <a:pt x="1181" y="498"/>
                  </a:lnTo>
                  <a:lnTo>
                    <a:pt x="1191" y="480"/>
                  </a:lnTo>
                  <a:lnTo>
                    <a:pt x="1208" y="468"/>
                  </a:lnTo>
                  <a:lnTo>
                    <a:pt x="1227" y="467"/>
                  </a:lnTo>
                  <a:lnTo>
                    <a:pt x="1247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399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6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7" y="363"/>
                  </a:lnTo>
                  <a:lnTo>
                    <a:pt x="1601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3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2" y="285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6"/>
                  </a:lnTo>
                  <a:lnTo>
                    <a:pt x="1466" y="294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0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5"/>
                  </a:lnTo>
                  <a:lnTo>
                    <a:pt x="1442" y="168"/>
                  </a:lnTo>
                  <a:lnTo>
                    <a:pt x="1443" y="159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6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29"/>
                  </a:lnTo>
                  <a:lnTo>
                    <a:pt x="1297" y="143"/>
                  </a:lnTo>
                  <a:lnTo>
                    <a:pt x="1273" y="157"/>
                  </a:lnTo>
                  <a:lnTo>
                    <a:pt x="1249" y="174"/>
                  </a:lnTo>
                  <a:lnTo>
                    <a:pt x="1241" y="177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5" y="186"/>
                  </a:lnTo>
                  <a:lnTo>
                    <a:pt x="1211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4"/>
                  </a:lnTo>
                  <a:lnTo>
                    <a:pt x="1146" y="199"/>
                  </a:lnTo>
                  <a:lnTo>
                    <a:pt x="1140" y="195"/>
                  </a:lnTo>
                  <a:lnTo>
                    <a:pt x="1134" y="194"/>
                  </a:lnTo>
                  <a:lnTo>
                    <a:pt x="1114" y="195"/>
                  </a:lnTo>
                  <a:lnTo>
                    <a:pt x="1094" y="197"/>
                  </a:lnTo>
                  <a:lnTo>
                    <a:pt x="1074" y="191"/>
                  </a:lnTo>
                  <a:lnTo>
                    <a:pt x="1049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1" y="155"/>
                  </a:lnTo>
                  <a:lnTo>
                    <a:pt x="1007" y="156"/>
                  </a:lnTo>
                  <a:lnTo>
                    <a:pt x="1002" y="156"/>
                  </a:lnTo>
                  <a:lnTo>
                    <a:pt x="1003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6"/>
                  </a:lnTo>
                  <a:lnTo>
                    <a:pt x="870" y="117"/>
                  </a:lnTo>
                  <a:lnTo>
                    <a:pt x="823" y="129"/>
                  </a:lnTo>
                  <a:lnTo>
                    <a:pt x="777" y="128"/>
                  </a:lnTo>
                  <a:lnTo>
                    <a:pt x="734" y="109"/>
                  </a:lnTo>
                  <a:lnTo>
                    <a:pt x="725" y="93"/>
                  </a:lnTo>
                  <a:lnTo>
                    <a:pt x="720" y="72"/>
                  </a:lnTo>
                  <a:lnTo>
                    <a:pt x="710" y="57"/>
                  </a:lnTo>
                  <a:lnTo>
                    <a:pt x="677" y="42"/>
                  </a:lnTo>
                  <a:lnTo>
                    <a:pt x="640" y="34"/>
                  </a:lnTo>
                  <a:lnTo>
                    <a:pt x="603" y="2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32520" y="1157400"/>
              <a:ext cx="1413720" cy="70236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8"/>
                  </a:moveTo>
                  <a:lnTo>
                    <a:pt x="597" y="27"/>
                  </a:lnTo>
                  <a:lnTo>
                    <a:pt x="592" y="28"/>
                  </a:lnTo>
                  <a:lnTo>
                    <a:pt x="586" y="27"/>
                  </a:lnTo>
                  <a:lnTo>
                    <a:pt x="586" y="25"/>
                  </a:lnTo>
                  <a:lnTo>
                    <a:pt x="586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4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6" y="53"/>
                  </a:lnTo>
                  <a:lnTo>
                    <a:pt x="511" y="53"/>
                  </a:lnTo>
                  <a:lnTo>
                    <a:pt x="509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5" y="142"/>
                  </a:lnTo>
                  <a:lnTo>
                    <a:pt x="330" y="132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5" y="96"/>
                  </a:lnTo>
                  <a:lnTo>
                    <a:pt x="216" y="90"/>
                  </a:lnTo>
                  <a:lnTo>
                    <a:pt x="217" y="94"/>
                  </a:lnTo>
                  <a:lnTo>
                    <a:pt x="216" y="97"/>
                  </a:lnTo>
                  <a:lnTo>
                    <a:pt x="214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30"/>
                  </a:lnTo>
                  <a:lnTo>
                    <a:pt x="118" y="134"/>
                  </a:lnTo>
                  <a:lnTo>
                    <a:pt x="114" y="135"/>
                  </a:lnTo>
                  <a:lnTo>
                    <a:pt x="110" y="139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8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7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2" y="20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9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5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20" y="501"/>
                  </a:lnTo>
                  <a:lnTo>
                    <a:pt x="336" y="506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5" y="533"/>
                  </a:lnTo>
                  <a:lnTo>
                    <a:pt x="390" y="543"/>
                  </a:lnTo>
                  <a:lnTo>
                    <a:pt x="430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4"/>
                  </a:lnTo>
                  <a:lnTo>
                    <a:pt x="649" y="614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7" y="646"/>
                  </a:lnTo>
                  <a:lnTo>
                    <a:pt x="782" y="658"/>
                  </a:lnTo>
                  <a:lnTo>
                    <a:pt x="828" y="662"/>
                  </a:lnTo>
                  <a:lnTo>
                    <a:pt x="831" y="664"/>
                  </a:lnTo>
                  <a:lnTo>
                    <a:pt x="831" y="668"/>
                  </a:lnTo>
                  <a:lnTo>
                    <a:pt x="834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7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8"/>
                  </a:lnTo>
                  <a:lnTo>
                    <a:pt x="1181" y="499"/>
                  </a:lnTo>
                  <a:lnTo>
                    <a:pt x="1191" y="480"/>
                  </a:lnTo>
                  <a:lnTo>
                    <a:pt x="1207" y="468"/>
                  </a:lnTo>
                  <a:lnTo>
                    <a:pt x="1227" y="468"/>
                  </a:lnTo>
                  <a:lnTo>
                    <a:pt x="1246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400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7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6" y="363"/>
                  </a:lnTo>
                  <a:lnTo>
                    <a:pt x="1600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2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1" y="286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7"/>
                  </a:lnTo>
                  <a:lnTo>
                    <a:pt x="1466" y="295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1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6"/>
                  </a:lnTo>
                  <a:lnTo>
                    <a:pt x="1442" y="168"/>
                  </a:lnTo>
                  <a:lnTo>
                    <a:pt x="1443" y="160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7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30"/>
                  </a:lnTo>
                  <a:lnTo>
                    <a:pt x="1297" y="143"/>
                  </a:lnTo>
                  <a:lnTo>
                    <a:pt x="1273" y="158"/>
                  </a:lnTo>
                  <a:lnTo>
                    <a:pt x="1249" y="175"/>
                  </a:lnTo>
                  <a:lnTo>
                    <a:pt x="1241" y="178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4" y="186"/>
                  </a:lnTo>
                  <a:lnTo>
                    <a:pt x="1210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5"/>
                  </a:lnTo>
                  <a:lnTo>
                    <a:pt x="1146" y="199"/>
                  </a:lnTo>
                  <a:lnTo>
                    <a:pt x="1140" y="196"/>
                  </a:lnTo>
                  <a:lnTo>
                    <a:pt x="1134" y="194"/>
                  </a:lnTo>
                  <a:lnTo>
                    <a:pt x="1114" y="196"/>
                  </a:lnTo>
                  <a:lnTo>
                    <a:pt x="1094" y="198"/>
                  </a:lnTo>
                  <a:lnTo>
                    <a:pt x="1074" y="191"/>
                  </a:lnTo>
                  <a:lnTo>
                    <a:pt x="1050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2" y="155"/>
                  </a:lnTo>
                  <a:lnTo>
                    <a:pt x="1007" y="156"/>
                  </a:lnTo>
                  <a:lnTo>
                    <a:pt x="1003" y="156"/>
                  </a:lnTo>
                  <a:lnTo>
                    <a:pt x="1004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7"/>
                  </a:lnTo>
                  <a:lnTo>
                    <a:pt x="871" y="117"/>
                  </a:lnTo>
                  <a:lnTo>
                    <a:pt x="823" y="129"/>
                  </a:lnTo>
                  <a:lnTo>
                    <a:pt x="776" y="128"/>
                  </a:lnTo>
                  <a:lnTo>
                    <a:pt x="734" y="110"/>
                  </a:lnTo>
                  <a:lnTo>
                    <a:pt x="725" y="93"/>
                  </a:lnTo>
                  <a:lnTo>
                    <a:pt x="719" y="73"/>
                  </a:lnTo>
                  <a:lnTo>
                    <a:pt x="709" y="57"/>
                  </a:lnTo>
                  <a:lnTo>
                    <a:pt x="676" y="43"/>
                  </a:lnTo>
                  <a:lnTo>
                    <a:pt x="640" y="34"/>
                  </a:lnTo>
                  <a:lnTo>
                    <a:pt x="603" y="28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88120" y="1066680"/>
              <a:ext cx="2710080" cy="2029320"/>
            </a:xfrm>
            <a:custGeom>
              <a:avLst/>
              <a:gdLst/>
              <a:ahLst/>
              <a:rect l="l" t="t" r="r" b="b"/>
              <a:pathLst>
                <a:path w="3079" h="1947">
                  <a:moveTo>
                    <a:pt x="734" y="292"/>
                  </a:moveTo>
                  <a:lnTo>
                    <a:pt x="722" y="289"/>
                  </a:lnTo>
                  <a:lnTo>
                    <a:pt x="712" y="294"/>
                  </a:lnTo>
                  <a:lnTo>
                    <a:pt x="701" y="295"/>
                  </a:lnTo>
                  <a:lnTo>
                    <a:pt x="695" y="292"/>
                  </a:lnTo>
                  <a:lnTo>
                    <a:pt x="689" y="293"/>
                  </a:lnTo>
                  <a:lnTo>
                    <a:pt x="683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7" y="299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09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8" y="332"/>
                  </a:lnTo>
                  <a:lnTo>
                    <a:pt x="628" y="334"/>
                  </a:lnTo>
                  <a:lnTo>
                    <a:pt x="623" y="335"/>
                  </a:lnTo>
                  <a:lnTo>
                    <a:pt x="617" y="338"/>
                  </a:lnTo>
                  <a:lnTo>
                    <a:pt x="615" y="342"/>
                  </a:lnTo>
                  <a:lnTo>
                    <a:pt x="614" y="355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2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4"/>
                  </a:lnTo>
                  <a:lnTo>
                    <a:pt x="556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3" y="417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7"/>
                  </a:lnTo>
                  <a:lnTo>
                    <a:pt x="463" y="520"/>
                  </a:lnTo>
                  <a:lnTo>
                    <a:pt x="467" y="525"/>
                  </a:lnTo>
                  <a:lnTo>
                    <a:pt x="471" y="532"/>
                  </a:lnTo>
                  <a:lnTo>
                    <a:pt x="473" y="535"/>
                  </a:lnTo>
                  <a:lnTo>
                    <a:pt x="472" y="540"/>
                  </a:lnTo>
                  <a:lnTo>
                    <a:pt x="469" y="542"/>
                  </a:lnTo>
                  <a:lnTo>
                    <a:pt x="451" y="542"/>
                  </a:lnTo>
                  <a:lnTo>
                    <a:pt x="434" y="538"/>
                  </a:lnTo>
                  <a:lnTo>
                    <a:pt x="418" y="530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3" y="538"/>
                  </a:lnTo>
                  <a:lnTo>
                    <a:pt x="354" y="540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1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1"/>
                  </a:lnTo>
                  <a:lnTo>
                    <a:pt x="360" y="627"/>
                  </a:lnTo>
                  <a:lnTo>
                    <a:pt x="360" y="632"/>
                  </a:lnTo>
                  <a:lnTo>
                    <a:pt x="369" y="642"/>
                  </a:lnTo>
                  <a:lnTo>
                    <a:pt x="377" y="651"/>
                  </a:lnTo>
                  <a:lnTo>
                    <a:pt x="378" y="662"/>
                  </a:lnTo>
                  <a:lnTo>
                    <a:pt x="368" y="672"/>
                  </a:lnTo>
                  <a:lnTo>
                    <a:pt x="355" y="678"/>
                  </a:lnTo>
                  <a:lnTo>
                    <a:pt x="348" y="689"/>
                  </a:lnTo>
                  <a:lnTo>
                    <a:pt x="351" y="698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5"/>
                  </a:lnTo>
                  <a:lnTo>
                    <a:pt x="348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3" y="772"/>
                  </a:lnTo>
                  <a:lnTo>
                    <a:pt x="230" y="781"/>
                  </a:lnTo>
                  <a:lnTo>
                    <a:pt x="206" y="784"/>
                  </a:lnTo>
                  <a:lnTo>
                    <a:pt x="183" y="787"/>
                  </a:lnTo>
                  <a:lnTo>
                    <a:pt x="168" y="798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8"/>
                  </a:lnTo>
                  <a:lnTo>
                    <a:pt x="127" y="829"/>
                  </a:lnTo>
                  <a:lnTo>
                    <a:pt x="119" y="831"/>
                  </a:lnTo>
                  <a:lnTo>
                    <a:pt x="118" y="828"/>
                  </a:lnTo>
                  <a:lnTo>
                    <a:pt x="115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2"/>
                  </a:lnTo>
                  <a:lnTo>
                    <a:pt x="76" y="825"/>
                  </a:lnTo>
                  <a:lnTo>
                    <a:pt x="69" y="827"/>
                  </a:lnTo>
                  <a:lnTo>
                    <a:pt x="64" y="832"/>
                  </a:lnTo>
                  <a:lnTo>
                    <a:pt x="60" y="838"/>
                  </a:lnTo>
                  <a:lnTo>
                    <a:pt x="53" y="841"/>
                  </a:lnTo>
                  <a:lnTo>
                    <a:pt x="48" y="839"/>
                  </a:lnTo>
                  <a:lnTo>
                    <a:pt x="44" y="839"/>
                  </a:lnTo>
                  <a:lnTo>
                    <a:pt x="35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3"/>
                  </a:lnTo>
                  <a:lnTo>
                    <a:pt x="14" y="913"/>
                  </a:lnTo>
                  <a:lnTo>
                    <a:pt x="22" y="933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0"/>
                  </a:lnTo>
                  <a:lnTo>
                    <a:pt x="71" y="947"/>
                  </a:lnTo>
                  <a:lnTo>
                    <a:pt x="73" y="951"/>
                  </a:lnTo>
                  <a:lnTo>
                    <a:pt x="73" y="955"/>
                  </a:lnTo>
                  <a:lnTo>
                    <a:pt x="71" y="960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2"/>
                  </a:lnTo>
                  <a:lnTo>
                    <a:pt x="80" y="996"/>
                  </a:lnTo>
                  <a:lnTo>
                    <a:pt x="80" y="1001"/>
                  </a:lnTo>
                  <a:lnTo>
                    <a:pt x="82" y="1006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8"/>
                  </a:lnTo>
                  <a:lnTo>
                    <a:pt x="0" y="1036"/>
                  </a:lnTo>
                  <a:lnTo>
                    <a:pt x="2" y="1038"/>
                  </a:lnTo>
                  <a:lnTo>
                    <a:pt x="8" y="1040"/>
                  </a:lnTo>
                  <a:lnTo>
                    <a:pt x="18" y="1036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3"/>
                  </a:lnTo>
                  <a:lnTo>
                    <a:pt x="68" y="1025"/>
                  </a:lnTo>
                  <a:lnTo>
                    <a:pt x="82" y="1027"/>
                  </a:lnTo>
                  <a:lnTo>
                    <a:pt x="91" y="1029"/>
                  </a:lnTo>
                  <a:lnTo>
                    <a:pt x="96" y="1028"/>
                  </a:lnTo>
                  <a:lnTo>
                    <a:pt x="104" y="1029"/>
                  </a:lnTo>
                  <a:lnTo>
                    <a:pt x="115" y="1034"/>
                  </a:lnTo>
                  <a:lnTo>
                    <a:pt x="124" y="1043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6"/>
                  </a:lnTo>
                  <a:lnTo>
                    <a:pt x="134" y="1072"/>
                  </a:lnTo>
                  <a:lnTo>
                    <a:pt x="132" y="1078"/>
                  </a:lnTo>
                  <a:lnTo>
                    <a:pt x="131" y="1083"/>
                  </a:lnTo>
                  <a:lnTo>
                    <a:pt x="135" y="1088"/>
                  </a:lnTo>
                  <a:lnTo>
                    <a:pt x="141" y="1092"/>
                  </a:lnTo>
                  <a:lnTo>
                    <a:pt x="146" y="1093"/>
                  </a:lnTo>
                  <a:lnTo>
                    <a:pt x="152" y="1093"/>
                  </a:lnTo>
                  <a:lnTo>
                    <a:pt x="158" y="1092"/>
                  </a:lnTo>
                  <a:lnTo>
                    <a:pt x="162" y="1093"/>
                  </a:lnTo>
                  <a:lnTo>
                    <a:pt x="168" y="1096"/>
                  </a:lnTo>
                  <a:lnTo>
                    <a:pt x="186" y="1103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0" y="1117"/>
                  </a:lnTo>
                  <a:lnTo>
                    <a:pt x="224" y="1117"/>
                  </a:lnTo>
                  <a:lnTo>
                    <a:pt x="228" y="1115"/>
                  </a:lnTo>
                  <a:lnTo>
                    <a:pt x="236" y="1107"/>
                  </a:lnTo>
                  <a:lnTo>
                    <a:pt x="257" y="1094"/>
                  </a:lnTo>
                  <a:lnTo>
                    <a:pt x="288" y="1088"/>
                  </a:lnTo>
                  <a:lnTo>
                    <a:pt x="292" y="1088"/>
                  </a:lnTo>
                  <a:lnTo>
                    <a:pt x="301" y="1089"/>
                  </a:lnTo>
                  <a:lnTo>
                    <a:pt x="310" y="1092"/>
                  </a:lnTo>
                  <a:lnTo>
                    <a:pt x="320" y="1097"/>
                  </a:lnTo>
                  <a:lnTo>
                    <a:pt x="341" y="1108"/>
                  </a:lnTo>
                  <a:lnTo>
                    <a:pt x="354" y="1115"/>
                  </a:lnTo>
                  <a:lnTo>
                    <a:pt x="357" y="1118"/>
                  </a:lnTo>
                  <a:lnTo>
                    <a:pt x="358" y="1122"/>
                  </a:lnTo>
                  <a:lnTo>
                    <a:pt x="357" y="1129"/>
                  </a:lnTo>
                  <a:lnTo>
                    <a:pt x="349" y="1143"/>
                  </a:lnTo>
                  <a:lnTo>
                    <a:pt x="338" y="1159"/>
                  </a:lnTo>
                  <a:lnTo>
                    <a:pt x="329" y="1171"/>
                  </a:lnTo>
                  <a:lnTo>
                    <a:pt x="326" y="1175"/>
                  </a:lnTo>
                  <a:lnTo>
                    <a:pt x="318" y="1184"/>
                  </a:lnTo>
                  <a:lnTo>
                    <a:pt x="302" y="1194"/>
                  </a:lnTo>
                  <a:lnTo>
                    <a:pt x="279" y="1192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3"/>
                  </a:lnTo>
                  <a:lnTo>
                    <a:pt x="280" y="1226"/>
                  </a:lnTo>
                  <a:lnTo>
                    <a:pt x="292" y="1237"/>
                  </a:lnTo>
                  <a:lnTo>
                    <a:pt x="306" y="1246"/>
                  </a:lnTo>
                  <a:lnTo>
                    <a:pt x="312" y="1258"/>
                  </a:lnTo>
                  <a:lnTo>
                    <a:pt x="304" y="1273"/>
                  </a:lnTo>
                  <a:lnTo>
                    <a:pt x="296" y="1289"/>
                  </a:lnTo>
                  <a:lnTo>
                    <a:pt x="294" y="1292"/>
                  </a:lnTo>
                  <a:lnTo>
                    <a:pt x="289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4"/>
                  </a:lnTo>
                  <a:lnTo>
                    <a:pt x="270" y="1280"/>
                  </a:lnTo>
                  <a:lnTo>
                    <a:pt x="264" y="1279"/>
                  </a:lnTo>
                  <a:lnTo>
                    <a:pt x="258" y="1282"/>
                  </a:lnTo>
                  <a:lnTo>
                    <a:pt x="256" y="1285"/>
                  </a:lnTo>
                  <a:lnTo>
                    <a:pt x="266" y="1304"/>
                  </a:lnTo>
                  <a:lnTo>
                    <a:pt x="270" y="1323"/>
                  </a:lnTo>
                  <a:lnTo>
                    <a:pt x="264" y="1343"/>
                  </a:lnTo>
                  <a:lnTo>
                    <a:pt x="271" y="1343"/>
                  </a:lnTo>
                  <a:lnTo>
                    <a:pt x="278" y="1345"/>
                  </a:lnTo>
                  <a:lnTo>
                    <a:pt x="285" y="1344"/>
                  </a:lnTo>
                  <a:lnTo>
                    <a:pt x="292" y="1345"/>
                  </a:lnTo>
                  <a:lnTo>
                    <a:pt x="297" y="1354"/>
                  </a:lnTo>
                  <a:lnTo>
                    <a:pt x="301" y="1360"/>
                  </a:lnTo>
                  <a:lnTo>
                    <a:pt x="325" y="1372"/>
                  </a:lnTo>
                  <a:lnTo>
                    <a:pt x="347" y="1384"/>
                  </a:lnTo>
                  <a:lnTo>
                    <a:pt x="367" y="1400"/>
                  </a:lnTo>
                  <a:lnTo>
                    <a:pt x="373" y="1404"/>
                  </a:lnTo>
                  <a:lnTo>
                    <a:pt x="377" y="1407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4"/>
                  </a:lnTo>
                  <a:lnTo>
                    <a:pt x="398" y="1411"/>
                  </a:lnTo>
                  <a:lnTo>
                    <a:pt x="400" y="1408"/>
                  </a:lnTo>
                  <a:lnTo>
                    <a:pt x="404" y="1406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399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8"/>
                  </a:lnTo>
                  <a:lnTo>
                    <a:pt x="467" y="1427"/>
                  </a:lnTo>
                  <a:lnTo>
                    <a:pt x="480" y="1433"/>
                  </a:lnTo>
                  <a:lnTo>
                    <a:pt x="491" y="1440"/>
                  </a:lnTo>
                  <a:lnTo>
                    <a:pt x="500" y="1450"/>
                  </a:lnTo>
                  <a:lnTo>
                    <a:pt x="506" y="1460"/>
                  </a:lnTo>
                  <a:lnTo>
                    <a:pt x="513" y="1470"/>
                  </a:lnTo>
                  <a:lnTo>
                    <a:pt x="521" y="1472"/>
                  </a:lnTo>
                  <a:lnTo>
                    <a:pt x="526" y="1465"/>
                  </a:lnTo>
                  <a:lnTo>
                    <a:pt x="530" y="1458"/>
                  </a:lnTo>
                  <a:lnTo>
                    <a:pt x="536" y="1460"/>
                  </a:lnTo>
                  <a:lnTo>
                    <a:pt x="540" y="1467"/>
                  </a:lnTo>
                  <a:lnTo>
                    <a:pt x="542" y="1476"/>
                  </a:lnTo>
                  <a:lnTo>
                    <a:pt x="545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4"/>
                  </a:lnTo>
                  <a:lnTo>
                    <a:pt x="573" y="1496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8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2"/>
                  </a:lnTo>
                  <a:lnTo>
                    <a:pt x="603" y="1512"/>
                  </a:lnTo>
                  <a:lnTo>
                    <a:pt x="607" y="1511"/>
                  </a:lnTo>
                  <a:lnTo>
                    <a:pt x="614" y="1512"/>
                  </a:lnTo>
                  <a:lnTo>
                    <a:pt x="621" y="1516"/>
                  </a:lnTo>
                  <a:lnTo>
                    <a:pt x="628" y="1516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6"/>
                  </a:lnTo>
                  <a:lnTo>
                    <a:pt x="644" y="1525"/>
                  </a:lnTo>
                  <a:lnTo>
                    <a:pt x="652" y="1528"/>
                  </a:lnTo>
                  <a:lnTo>
                    <a:pt x="659" y="1527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3"/>
                  </a:lnTo>
                  <a:lnTo>
                    <a:pt x="684" y="1528"/>
                  </a:lnTo>
                  <a:lnTo>
                    <a:pt x="694" y="1533"/>
                  </a:lnTo>
                  <a:lnTo>
                    <a:pt x="709" y="1538"/>
                  </a:lnTo>
                  <a:lnTo>
                    <a:pt x="723" y="1537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2"/>
                  </a:lnTo>
                  <a:lnTo>
                    <a:pt x="757" y="1531"/>
                  </a:lnTo>
                  <a:lnTo>
                    <a:pt x="763" y="1528"/>
                  </a:lnTo>
                  <a:lnTo>
                    <a:pt x="768" y="1527"/>
                  </a:lnTo>
                  <a:lnTo>
                    <a:pt x="773" y="1527"/>
                  </a:lnTo>
                  <a:lnTo>
                    <a:pt x="775" y="1530"/>
                  </a:lnTo>
                  <a:lnTo>
                    <a:pt x="775" y="1540"/>
                  </a:lnTo>
                  <a:lnTo>
                    <a:pt x="777" y="1548"/>
                  </a:lnTo>
                  <a:lnTo>
                    <a:pt x="781" y="1556"/>
                  </a:lnTo>
                  <a:lnTo>
                    <a:pt x="781" y="1558"/>
                  </a:lnTo>
                  <a:lnTo>
                    <a:pt x="786" y="1553"/>
                  </a:lnTo>
                  <a:lnTo>
                    <a:pt x="793" y="1547"/>
                  </a:lnTo>
                  <a:lnTo>
                    <a:pt x="793" y="1538"/>
                  </a:lnTo>
                  <a:lnTo>
                    <a:pt x="796" y="1538"/>
                  </a:lnTo>
                  <a:lnTo>
                    <a:pt x="798" y="1537"/>
                  </a:lnTo>
                  <a:lnTo>
                    <a:pt x="800" y="1536"/>
                  </a:lnTo>
                  <a:lnTo>
                    <a:pt x="804" y="1532"/>
                  </a:lnTo>
                  <a:lnTo>
                    <a:pt x="806" y="1527"/>
                  </a:lnTo>
                  <a:lnTo>
                    <a:pt x="810" y="1524"/>
                  </a:lnTo>
                  <a:lnTo>
                    <a:pt x="817" y="1518"/>
                  </a:lnTo>
                  <a:lnTo>
                    <a:pt x="825" y="1513"/>
                  </a:lnTo>
                  <a:lnTo>
                    <a:pt x="833" y="1510"/>
                  </a:lnTo>
                  <a:lnTo>
                    <a:pt x="835" y="1512"/>
                  </a:lnTo>
                  <a:lnTo>
                    <a:pt x="837" y="1512"/>
                  </a:lnTo>
                  <a:lnTo>
                    <a:pt x="838" y="1515"/>
                  </a:lnTo>
                  <a:lnTo>
                    <a:pt x="842" y="1515"/>
                  </a:lnTo>
                  <a:lnTo>
                    <a:pt x="846" y="1514"/>
                  </a:lnTo>
                  <a:lnTo>
                    <a:pt x="848" y="1514"/>
                  </a:lnTo>
                  <a:lnTo>
                    <a:pt x="852" y="1518"/>
                  </a:lnTo>
                  <a:lnTo>
                    <a:pt x="855" y="1521"/>
                  </a:lnTo>
                  <a:lnTo>
                    <a:pt x="859" y="1523"/>
                  </a:lnTo>
                  <a:lnTo>
                    <a:pt x="867" y="1524"/>
                  </a:lnTo>
                  <a:lnTo>
                    <a:pt x="875" y="1526"/>
                  </a:lnTo>
                  <a:lnTo>
                    <a:pt x="883" y="1527"/>
                  </a:lnTo>
                  <a:lnTo>
                    <a:pt x="890" y="1527"/>
                  </a:lnTo>
                  <a:lnTo>
                    <a:pt x="898" y="1525"/>
                  </a:lnTo>
                  <a:lnTo>
                    <a:pt x="903" y="1525"/>
                  </a:lnTo>
                  <a:lnTo>
                    <a:pt x="910" y="1532"/>
                  </a:lnTo>
                  <a:lnTo>
                    <a:pt x="916" y="1540"/>
                  </a:lnTo>
                  <a:lnTo>
                    <a:pt x="922" y="1550"/>
                  </a:lnTo>
                  <a:lnTo>
                    <a:pt x="933" y="1544"/>
                  </a:lnTo>
                  <a:lnTo>
                    <a:pt x="946" y="1542"/>
                  </a:lnTo>
                  <a:lnTo>
                    <a:pt x="957" y="1539"/>
                  </a:lnTo>
                  <a:lnTo>
                    <a:pt x="970" y="1537"/>
                  </a:lnTo>
                  <a:lnTo>
                    <a:pt x="971" y="1524"/>
                  </a:lnTo>
                  <a:lnTo>
                    <a:pt x="983" y="1519"/>
                  </a:lnTo>
                  <a:lnTo>
                    <a:pt x="992" y="1510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7" y="1492"/>
                  </a:lnTo>
                  <a:lnTo>
                    <a:pt x="1017" y="1491"/>
                  </a:lnTo>
                  <a:lnTo>
                    <a:pt x="1027" y="1491"/>
                  </a:lnTo>
                  <a:lnTo>
                    <a:pt x="1036" y="1490"/>
                  </a:lnTo>
                  <a:lnTo>
                    <a:pt x="1049" y="1478"/>
                  </a:lnTo>
                  <a:lnTo>
                    <a:pt x="1061" y="1465"/>
                  </a:lnTo>
                  <a:lnTo>
                    <a:pt x="1075" y="1461"/>
                  </a:lnTo>
                  <a:lnTo>
                    <a:pt x="1083" y="1464"/>
                  </a:lnTo>
                  <a:lnTo>
                    <a:pt x="1093" y="1469"/>
                  </a:lnTo>
                  <a:lnTo>
                    <a:pt x="1102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7"/>
                  </a:lnTo>
                  <a:lnTo>
                    <a:pt x="1119" y="1470"/>
                  </a:lnTo>
                  <a:lnTo>
                    <a:pt x="1131" y="1460"/>
                  </a:lnTo>
                  <a:lnTo>
                    <a:pt x="1145" y="1459"/>
                  </a:lnTo>
                  <a:lnTo>
                    <a:pt x="1150" y="1467"/>
                  </a:lnTo>
                  <a:lnTo>
                    <a:pt x="1149" y="1477"/>
                  </a:lnTo>
                  <a:lnTo>
                    <a:pt x="1145" y="1487"/>
                  </a:lnTo>
                  <a:lnTo>
                    <a:pt x="1152" y="1483"/>
                  </a:lnTo>
                  <a:lnTo>
                    <a:pt x="1158" y="1480"/>
                  </a:lnTo>
                  <a:lnTo>
                    <a:pt x="1165" y="1477"/>
                  </a:lnTo>
                  <a:lnTo>
                    <a:pt x="1168" y="1482"/>
                  </a:lnTo>
                  <a:lnTo>
                    <a:pt x="1172" y="1486"/>
                  </a:lnTo>
                  <a:lnTo>
                    <a:pt x="1171" y="1491"/>
                  </a:lnTo>
                  <a:lnTo>
                    <a:pt x="1165" y="1497"/>
                  </a:lnTo>
                  <a:lnTo>
                    <a:pt x="1157" y="1501"/>
                  </a:lnTo>
                  <a:lnTo>
                    <a:pt x="1149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2" y="1510"/>
                  </a:lnTo>
                  <a:lnTo>
                    <a:pt x="1164" y="1510"/>
                  </a:lnTo>
                  <a:lnTo>
                    <a:pt x="1175" y="1510"/>
                  </a:lnTo>
                  <a:lnTo>
                    <a:pt x="1185" y="1514"/>
                  </a:lnTo>
                  <a:lnTo>
                    <a:pt x="1187" y="1509"/>
                  </a:lnTo>
                  <a:lnTo>
                    <a:pt x="1191" y="1510"/>
                  </a:lnTo>
                  <a:lnTo>
                    <a:pt x="1195" y="1511"/>
                  </a:lnTo>
                  <a:lnTo>
                    <a:pt x="1201" y="1515"/>
                  </a:lnTo>
                  <a:lnTo>
                    <a:pt x="1205" y="1517"/>
                  </a:lnTo>
                  <a:lnTo>
                    <a:pt x="1211" y="1516"/>
                  </a:lnTo>
                  <a:lnTo>
                    <a:pt x="1212" y="1513"/>
                  </a:lnTo>
                  <a:lnTo>
                    <a:pt x="1211" y="1511"/>
                  </a:lnTo>
                  <a:lnTo>
                    <a:pt x="1209" y="1508"/>
                  </a:lnTo>
                  <a:lnTo>
                    <a:pt x="1208" y="1504"/>
                  </a:lnTo>
                  <a:lnTo>
                    <a:pt x="1208" y="1501"/>
                  </a:lnTo>
                  <a:lnTo>
                    <a:pt x="1212" y="1501"/>
                  </a:lnTo>
                  <a:lnTo>
                    <a:pt x="1216" y="1500"/>
                  </a:lnTo>
                  <a:lnTo>
                    <a:pt x="1219" y="1501"/>
                  </a:lnTo>
                  <a:lnTo>
                    <a:pt x="1231" y="1509"/>
                  </a:lnTo>
                  <a:lnTo>
                    <a:pt x="1241" y="1519"/>
                  </a:lnTo>
                  <a:lnTo>
                    <a:pt x="1247" y="1531"/>
                  </a:lnTo>
                  <a:lnTo>
                    <a:pt x="1247" y="1539"/>
                  </a:lnTo>
                  <a:lnTo>
                    <a:pt x="1248" y="1547"/>
                  </a:lnTo>
                  <a:lnTo>
                    <a:pt x="1252" y="1552"/>
                  </a:lnTo>
                  <a:lnTo>
                    <a:pt x="1256" y="1552"/>
                  </a:lnTo>
                  <a:lnTo>
                    <a:pt x="1262" y="1550"/>
                  </a:lnTo>
                  <a:lnTo>
                    <a:pt x="1268" y="1551"/>
                  </a:lnTo>
                  <a:lnTo>
                    <a:pt x="1273" y="1557"/>
                  </a:lnTo>
                  <a:lnTo>
                    <a:pt x="1275" y="1565"/>
                  </a:lnTo>
                  <a:lnTo>
                    <a:pt x="1273" y="1574"/>
                  </a:lnTo>
                  <a:lnTo>
                    <a:pt x="1273" y="1586"/>
                  </a:lnTo>
                  <a:lnTo>
                    <a:pt x="1280" y="1597"/>
                  </a:lnTo>
                  <a:lnTo>
                    <a:pt x="1280" y="1611"/>
                  </a:lnTo>
                  <a:lnTo>
                    <a:pt x="1274" y="1621"/>
                  </a:lnTo>
                  <a:lnTo>
                    <a:pt x="1268" y="1632"/>
                  </a:lnTo>
                  <a:lnTo>
                    <a:pt x="1272" y="1643"/>
                  </a:lnTo>
                  <a:lnTo>
                    <a:pt x="1264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1" y="1671"/>
                  </a:lnTo>
                  <a:lnTo>
                    <a:pt x="1241" y="1679"/>
                  </a:lnTo>
                  <a:lnTo>
                    <a:pt x="1230" y="1684"/>
                  </a:lnTo>
                  <a:lnTo>
                    <a:pt x="1223" y="1692"/>
                  </a:lnTo>
                  <a:lnTo>
                    <a:pt x="1220" y="1701"/>
                  </a:lnTo>
                  <a:lnTo>
                    <a:pt x="1212" y="1709"/>
                  </a:lnTo>
                  <a:lnTo>
                    <a:pt x="1221" y="1724"/>
                  </a:lnTo>
                  <a:lnTo>
                    <a:pt x="1224" y="1740"/>
                  </a:lnTo>
                  <a:lnTo>
                    <a:pt x="1216" y="1755"/>
                  </a:lnTo>
                  <a:lnTo>
                    <a:pt x="1227" y="1749"/>
                  </a:lnTo>
                  <a:lnTo>
                    <a:pt x="1238" y="1743"/>
                  </a:lnTo>
                  <a:lnTo>
                    <a:pt x="1249" y="1738"/>
                  </a:lnTo>
                  <a:lnTo>
                    <a:pt x="1260" y="1734"/>
                  </a:lnTo>
                  <a:lnTo>
                    <a:pt x="1273" y="1734"/>
                  </a:lnTo>
                  <a:lnTo>
                    <a:pt x="1285" y="1739"/>
                  </a:lnTo>
                  <a:lnTo>
                    <a:pt x="1278" y="1748"/>
                  </a:lnTo>
                  <a:lnTo>
                    <a:pt x="1279" y="1761"/>
                  </a:lnTo>
                  <a:lnTo>
                    <a:pt x="1284" y="1772"/>
                  </a:lnTo>
                  <a:lnTo>
                    <a:pt x="1285" y="1777"/>
                  </a:lnTo>
                  <a:lnTo>
                    <a:pt x="1283" y="1783"/>
                  </a:lnTo>
                  <a:lnTo>
                    <a:pt x="1282" y="1788"/>
                  </a:lnTo>
                  <a:lnTo>
                    <a:pt x="1290" y="1793"/>
                  </a:lnTo>
                  <a:lnTo>
                    <a:pt x="1301" y="1791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1" y="1826"/>
                  </a:lnTo>
                  <a:lnTo>
                    <a:pt x="1303" y="1843"/>
                  </a:lnTo>
                  <a:lnTo>
                    <a:pt x="1313" y="1848"/>
                  </a:lnTo>
                  <a:lnTo>
                    <a:pt x="1325" y="1847"/>
                  </a:lnTo>
                  <a:lnTo>
                    <a:pt x="1336" y="1852"/>
                  </a:lnTo>
                  <a:lnTo>
                    <a:pt x="1337" y="1858"/>
                  </a:lnTo>
                  <a:lnTo>
                    <a:pt x="1335" y="1864"/>
                  </a:lnTo>
                  <a:lnTo>
                    <a:pt x="1331" y="1870"/>
                  </a:lnTo>
                  <a:lnTo>
                    <a:pt x="1335" y="1871"/>
                  </a:lnTo>
                  <a:lnTo>
                    <a:pt x="1339" y="1873"/>
                  </a:lnTo>
                  <a:lnTo>
                    <a:pt x="1344" y="1875"/>
                  </a:lnTo>
                  <a:lnTo>
                    <a:pt x="1344" y="1878"/>
                  </a:lnTo>
                  <a:lnTo>
                    <a:pt x="1341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4"/>
                  </a:lnTo>
                  <a:lnTo>
                    <a:pt x="1397" y="1870"/>
                  </a:lnTo>
                  <a:lnTo>
                    <a:pt x="1396" y="1873"/>
                  </a:lnTo>
                  <a:lnTo>
                    <a:pt x="1395" y="1875"/>
                  </a:lnTo>
                  <a:lnTo>
                    <a:pt x="1394" y="1876"/>
                  </a:lnTo>
                  <a:lnTo>
                    <a:pt x="1393" y="1881"/>
                  </a:lnTo>
                  <a:lnTo>
                    <a:pt x="1397" y="1885"/>
                  </a:lnTo>
                  <a:lnTo>
                    <a:pt x="1406" y="1892"/>
                  </a:lnTo>
                  <a:lnTo>
                    <a:pt x="1413" y="1896"/>
                  </a:lnTo>
                  <a:lnTo>
                    <a:pt x="1417" y="1897"/>
                  </a:lnTo>
                  <a:lnTo>
                    <a:pt x="1422" y="1897"/>
                  </a:lnTo>
                  <a:lnTo>
                    <a:pt x="1429" y="1894"/>
                  </a:lnTo>
                  <a:lnTo>
                    <a:pt x="1431" y="1886"/>
                  </a:lnTo>
                  <a:lnTo>
                    <a:pt x="1430" y="1878"/>
                  </a:lnTo>
                  <a:lnTo>
                    <a:pt x="1429" y="1873"/>
                  </a:lnTo>
                  <a:lnTo>
                    <a:pt x="1426" y="1870"/>
                  </a:lnTo>
                  <a:lnTo>
                    <a:pt x="1421" y="1863"/>
                  </a:lnTo>
                  <a:lnTo>
                    <a:pt x="1417" y="1853"/>
                  </a:lnTo>
                  <a:lnTo>
                    <a:pt x="1416" y="1846"/>
                  </a:lnTo>
                  <a:lnTo>
                    <a:pt x="1416" y="1842"/>
                  </a:lnTo>
                  <a:lnTo>
                    <a:pt x="1414" y="1841"/>
                  </a:lnTo>
                  <a:lnTo>
                    <a:pt x="1412" y="1838"/>
                  </a:lnTo>
                  <a:lnTo>
                    <a:pt x="1410" y="1833"/>
                  </a:lnTo>
                  <a:lnTo>
                    <a:pt x="1413" y="1827"/>
                  </a:lnTo>
                  <a:lnTo>
                    <a:pt x="1418" y="1824"/>
                  </a:lnTo>
                  <a:lnTo>
                    <a:pt x="1425" y="1823"/>
                  </a:lnTo>
                  <a:lnTo>
                    <a:pt x="1431" y="1824"/>
                  </a:lnTo>
                  <a:lnTo>
                    <a:pt x="1437" y="1827"/>
                  </a:lnTo>
                  <a:lnTo>
                    <a:pt x="1445" y="1831"/>
                  </a:lnTo>
                  <a:lnTo>
                    <a:pt x="1451" y="1833"/>
                  </a:lnTo>
                  <a:lnTo>
                    <a:pt x="1452" y="1832"/>
                  </a:lnTo>
                  <a:lnTo>
                    <a:pt x="1453" y="1829"/>
                  </a:lnTo>
                  <a:lnTo>
                    <a:pt x="1453" y="1828"/>
                  </a:lnTo>
                  <a:lnTo>
                    <a:pt x="1455" y="1820"/>
                  </a:lnTo>
                  <a:lnTo>
                    <a:pt x="1456" y="1816"/>
                  </a:lnTo>
                  <a:lnTo>
                    <a:pt x="1459" y="1809"/>
                  </a:lnTo>
                  <a:lnTo>
                    <a:pt x="1462" y="1808"/>
                  </a:lnTo>
                  <a:lnTo>
                    <a:pt x="1465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3" y="1822"/>
                  </a:lnTo>
                  <a:lnTo>
                    <a:pt x="1491" y="1823"/>
                  </a:lnTo>
                  <a:lnTo>
                    <a:pt x="1496" y="1818"/>
                  </a:lnTo>
                  <a:lnTo>
                    <a:pt x="1500" y="1811"/>
                  </a:lnTo>
                  <a:lnTo>
                    <a:pt x="1505" y="1806"/>
                  </a:lnTo>
                  <a:lnTo>
                    <a:pt x="1517" y="1806"/>
                  </a:lnTo>
                  <a:lnTo>
                    <a:pt x="1526" y="1811"/>
                  </a:lnTo>
                  <a:lnTo>
                    <a:pt x="1531" y="1821"/>
                  </a:lnTo>
                  <a:lnTo>
                    <a:pt x="1539" y="1818"/>
                  </a:lnTo>
                  <a:lnTo>
                    <a:pt x="1546" y="1815"/>
                  </a:lnTo>
                  <a:lnTo>
                    <a:pt x="1551" y="1808"/>
                  </a:lnTo>
                  <a:lnTo>
                    <a:pt x="1553" y="1810"/>
                  </a:lnTo>
                  <a:lnTo>
                    <a:pt x="1554" y="1812"/>
                  </a:lnTo>
                  <a:lnTo>
                    <a:pt x="1554" y="1815"/>
                  </a:lnTo>
                  <a:lnTo>
                    <a:pt x="1557" y="1815"/>
                  </a:lnTo>
                  <a:lnTo>
                    <a:pt x="1559" y="1815"/>
                  </a:lnTo>
                  <a:lnTo>
                    <a:pt x="1561" y="1814"/>
                  </a:lnTo>
                  <a:lnTo>
                    <a:pt x="1561" y="1813"/>
                  </a:lnTo>
                  <a:lnTo>
                    <a:pt x="1561" y="1810"/>
                  </a:lnTo>
                  <a:lnTo>
                    <a:pt x="1562" y="1809"/>
                  </a:lnTo>
                  <a:lnTo>
                    <a:pt x="1568" y="1806"/>
                  </a:lnTo>
                  <a:lnTo>
                    <a:pt x="1574" y="1807"/>
                  </a:lnTo>
                  <a:lnTo>
                    <a:pt x="1581" y="1808"/>
                  </a:lnTo>
                  <a:lnTo>
                    <a:pt x="1579" y="1795"/>
                  </a:lnTo>
                  <a:lnTo>
                    <a:pt x="1582" y="1784"/>
                  </a:lnTo>
                  <a:lnTo>
                    <a:pt x="1592" y="1777"/>
                  </a:lnTo>
                  <a:lnTo>
                    <a:pt x="1603" y="1776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0" y="1798"/>
                  </a:lnTo>
                  <a:lnTo>
                    <a:pt x="1641" y="1798"/>
                  </a:lnTo>
                  <a:lnTo>
                    <a:pt x="1654" y="1801"/>
                  </a:lnTo>
                  <a:lnTo>
                    <a:pt x="1661" y="1801"/>
                  </a:lnTo>
                  <a:lnTo>
                    <a:pt x="1669" y="1798"/>
                  </a:lnTo>
                  <a:lnTo>
                    <a:pt x="1675" y="1799"/>
                  </a:lnTo>
                  <a:lnTo>
                    <a:pt x="1679" y="1801"/>
                  </a:lnTo>
                  <a:lnTo>
                    <a:pt x="1683" y="1803"/>
                  </a:lnTo>
                  <a:lnTo>
                    <a:pt x="1683" y="1808"/>
                  </a:lnTo>
                  <a:lnTo>
                    <a:pt x="1678" y="1819"/>
                  </a:lnTo>
                  <a:lnTo>
                    <a:pt x="1675" y="1831"/>
                  </a:lnTo>
                  <a:lnTo>
                    <a:pt x="1670" y="1841"/>
                  </a:lnTo>
                  <a:lnTo>
                    <a:pt x="1681" y="1845"/>
                  </a:lnTo>
                  <a:lnTo>
                    <a:pt x="1688" y="1853"/>
                  </a:lnTo>
                  <a:lnTo>
                    <a:pt x="1697" y="1860"/>
                  </a:lnTo>
                  <a:lnTo>
                    <a:pt x="1706" y="1863"/>
                  </a:lnTo>
                  <a:lnTo>
                    <a:pt x="1716" y="1864"/>
                  </a:lnTo>
                  <a:lnTo>
                    <a:pt x="1726" y="1865"/>
                  </a:lnTo>
                  <a:lnTo>
                    <a:pt x="1729" y="1866"/>
                  </a:lnTo>
                  <a:lnTo>
                    <a:pt x="1731" y="1868"/>
                  </a:lnTo>
                  <a:lnTo>
                    <a:pt x="1734" y="1870"/>
                  </a:lnTo>
                  <a:lnTo>
                    <a:pt x="1736" y="1874"/>
                  </a:lnTo>
                  <a:lnTo>
                    <a:pt x="1749" y="1876"/>
                  </a:lnTo>
                  <a:lnTo>
                    <a:pt x="1747" y="1879"/>
                  </a:lnTo>
                  <a:lnTo>
                    <a:pt x="1760" y="1881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0"/>
                  </a:lnTo>
                  <a:lnTo>
                    <a:pt x="1819" y="1910"/>
                  </a:lnTo>
                  <a:lnTo>
                    <a:pt x="1821" y="1920"/>
                  </a:lnTo>
                  <a:lnTo>
                    <a:pt x="1831" y="1938"/>
                  </a:lnTo>
                  <a:lnTo>
                    <a:pt x="1849" y="1947"/>
                  </a:lnTo>
                  <a:lnTo>
                    <a:pt x="1869" y="1945"/>
                  </a:lnTo>
                  <a:lnTo>
                    <a:pt x="1870" y="1943"/>
                  </a:lnTo>
                  <a:lnTo>
                    <a:pt x="1867" y="1940"/>
                  </a:lnTo>
                  <a:lnTo>
                    <a:pt x="1869" y="1934"/>
                  </a:lnTo>
                  <a:lnTo>
                    <a:pt x="1859" y="1930"/>
                  </a:lnTo>
                  <a:lnTo>
                    <a:pt x="1850" y="1928"/>
                  </a:lnTo>
                  <a:lnTo>
                    <a:pt x="1848" y="1921"/>
                  </a:lnTo>
                  <a:lnTo>
                    <a:pt x="1854" y="1900"/>
                  </a:lnTo>
                  <a:lnTo>
                    <a:pt x="1865" y="1882"/>
                  </a:lnTo>
                  <a:lnTo>
                    <a:pt x="1878" y="1868"/>
                  </a:lnTo>
                  <a:lnTo>
                    <a:pt x="1901" y="1863"/>
                  </a:lnTo>
                  <a:lnTo>
                    <a:pt x="1926" y="1867"/>
                  </a:lnTo>
                  <a:lnTo>
                    <a:pt x="1950" y="1862"/>
                  </a:lnTo>
                  <a:lnTo>
                    <a:pt x="1960" y="1856"/>
                  </a:lnTo>
                  <a:lnTo>
                    <a:pt x="1971" y="1853"/>
                  </a:lnTo>
                  <a:lnTo>
                    <a:pt x="1981" y="1849"/>
                  </a:lnTo>
                  <a:lnTo>
                    <a:pt x="1991" y="1839"/>
                  </a:lnTo>
                  <a:lnTo>
                    <a:pt x="2000" y="1828"/>
                  </a:lnTo>
                  <a:lnTo>
                    <a:pt x="2014" y="1826"/>
                  </a:lnTo>
                  <a:lnTo>
                    <a:pt x="2016" y="1828"/>
                  </a:lnTo>
                  <a:lnTo>
                    <a:pt x="2019" y="1831"/>
                  </a:lnTo>
                  <a:lnTo>
                    <a:pt x="2021" y="1833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1"/>
                  </a:lnTo>
                  <a:lnTo>
                    <a:pt x="2027" y="1826"/>
                  </a:lnTo>
                  <a:lnTo>
                    <a:pt x="2034" y="1821"/>
                  </a:lnTo>
                  <a:lnTo>
                    <a:pt x="2034" y="1823"/>
                  </a:lnTo>
                  <a:lnTo>
                    <a:pt x="2035" y="1825"/>
                  </a:lnTo>
                  <a:lnTo>
                    <a:pt x="2042" y="1825"/>
                  </a:lnTo>
                  <a:lnTo>
                    <a:pt x="2047" y="1823"/>
                  </a:lnTo>
                  <a:lnTo>
                    <a:pt x="2056" y="1821"/>
                  </a:lnTo>
                  <a:lnTo>
                    <a:pt x="2064" y="1824"/>
                  </a:lnTo>
                  <a:lnTo>
                    <a:pt x="2067" y="1831"/>
                  </a:lnTo>
                  <a:lnTo>
                    <a:pt x="2077" y="1824"/>
                  </a:lnTo>
                  <a:lnTo>
                    <a:pt x="2090" y="1818"/>
                  </a:lnTo>
                  <a:lnTo>
                    <a:pt x="2104" y="1816"/>
                  </a:lnTo>
                  <a:lnTo>
                    <a:pt x="2106" y="1815"/>
                  </a:lnTo>
                  <a:lnTo>
                    <a:pt x="2109" y="1813"/>
                  </a:lnTo>
                  <a:lnTo>
                    <a:pt x="2114" y="1811"/>
                  </a:lnTo>
                  <a:lnTo>
                    <a:pt x="2128" y="1810"/>
                  </a:lnTo>
                  <a:lnTo>
                    <a:pt x="2141" y="1811"/>
                  </a:lnTo>
                  <a:lnTo>
                    <a:pt x="2152" y="1810"/>
                  </a:lnTo>
                  <a:lnTo>
                    <a:pt x="2170" y="1797"/>
                  </a:lnTo>
                  <a:lnTo>
                    <a:pt x="2183" y="1780"/>
                  </a:lnTo>
                  <a:lnTo>
                    <a:pt x="2199" y="1771"/>
                  </a:lnTo>
                  <a:lnTo>
                    <a:pt x="2217" y="1765"/>
                  </a:lnTo>
                  <a:lnTo>
                    <a:pt x="2230" y="1753"/>
                  </a:lnTo>
                  <a:lnTo>
                    <a:pt x="2246" y="1742"/>
                  </a:lnTo>
                  <a:lnTo>
                    <a:pt x="2244" y="1739"/>
                  </a:lnTo>
                  <a:lnTo>
                    <a:pt x="2242" y="1735"/>
                  </a:lnTo>
                  <a:lnTo>
                    <a:pt x="2243" y="1732"/>
                  </a:lnTo>
                  <a:lnTo>
                    <a:pt x="2262" y="1711"/>
                  </a:lnTo>
                  <a:lnTo>
                    <a:pt x="2286" y="1697"/>
                  </a:lnTo>
                  <a:lnTo>
                    <a:pt x="2315" y="1691"/>
                  </a:lnTo>
                  <a:lnTo>
                    <a:pt x="2322" y="1689"/>
                  </a:lnTo>
                  <a:lnTo>
                    <a:pt x="2328" y="1684"/>
                  </a:lnTo>
                  <a:lnTo>
                    <a:pt x="2335" y="1679"/>
                  </a:lnTo>
                  <a:lnTo>
                    <a:pt x="2324" y="1677"/>
                  </a:lnTo>
                  <a:lnTo>
                    <a:pt x="2314" y="1682"/>
                  </a:lnTo>
                  <a:lnTo>
                    <a:pt x="2307" y="1681"/>
                  </a:lnTo>
                  <a:lnTo>
                    <a:pt x="2307" y="1672"/>
                  </a:lnTo>
                  <a:lnTo>
                    <a:pt x="2315" y="1664"/>
                  </a:lnTo>
                  <a:lnTo>
                    <a:pt x="2317" y="1653"/>
                  </a:lnTo>
                  <a:lnTo>
                    <a:pt x="2316" y="1649"/>
                  </a:lnTo>
                  <a:lnTo>
                    <a:pt x="2315" y="1646"/>
                  </a:lnTo>
                  <a:lnTo>
                    <a:pt x="2316" y="1643"/>
                  </a:lnTo>
                  <a:lnTo>
                    <a:pt x="2329" y="1625"/>
                  </a:lnTo>
                  <a:lnTo>
                    <a:pt x="2342" y="1609"/>
                  </a:lnTo>
                  <a:lnTo>
                    <a:pt x="2356" y="1591"/>
                  </a:lnTo>
                  <a:lnTo>
                    <a:pt x="2372" y="1568"/>
                  </a:lnTo>
                  <a:lnTo>
                    <a:pt x="2387" y="1545"/>
                  </a:lnTo>
                  <a:lnTo>
                    <a:pt x="2407" y="1525"/>
                  </a:lnTo>
                  <a:lnTo>
                    <a:pt x="2413" y="1516"/>
                  </a:lnTo>
                  <a:lnTo>
                    <a:pt x="2414" y="1506"/>
                  </a:lnTo>
                  <a:lnTo>
                    <a:pt x="2420" y="1497"/>
                  </a:lnTo>
                  <a:lnTo>
                    <a:pt x="2421" y="1494"/>
                  </a:lnTo>
                  <a:lnTo>
                    <a:pt x="2420" y="1491"/>
                  </a:lnTo>
                  <a:lnTo>
                    <a:pt x="2417" y="1487"/>
                  </a:lnTo>
                  <a:lnTo>
                    <a:pt x="2427" y="1469"/>
                  </a:lnTo>
                  <a:lnTo>
                    <a:pt x="2437" y="1451"/>
                  </a:lnTo>
                  <a:lnTo>
                    <a:pt x="2451" y="1436"/>
                  </a:lnTo>
                  <a:lnTo>
                    <a:pt x="2455" y="1435"/>
                  </a:lnTo>
                  <a:lnTo>
                    <a:pt x="2460" y="1433"/>
                  </a:lnTo>
                  <a:lnTo>
                    <a:pt x="2462" y="1431"/>
                  </a:lnTo>
                  <a:lnTo>
                    <a:pt x="2463" y="1419"/>
                  </a:lnTo>
                  <a:lnTo>
                    <a:pt x="2461" y="1405"/>
                  </a:lnTo>
                  <a:lnTo>
                    <a:pt x="2464" y="1392"/>
                  </a:lnTo>
                  <a:lnTo>
                    <a:pt x="2450" y="1386"/>
                  </a:lnTo>
                  <a:lnTo>
                    <a:pt x="2438" y="1382"/>
                  </a:lnTo>
                  <a:lnTo>
                    <a:pt x="2424" y="1378"/>
                  </a:lnTo>
                  <a:lnTo>
                    <a:pt x="2424" y="1372"/>
                  </a:lnTo>
                  <a:lnTo>
                    <a:pt x="2420" y="1368"/>
                  </a:lnTo>
                  <a:lnTo>
                    <a:pt x="2419" y="1362"/>
                  </a:lnTo>
                  <a:lnTo>
                    <a:pt x="2421" y="1350"/>
                  </a:lnTo>
                  <a:lnTo>
                    <a:pt x="2425" y="1338"/>
                  </a:lnTo>
                  <a:lnTo>
                    <a:pt x="2434" y="1329"/>
                  </a:lnTo>
                  <a:lnTo>
                    <a:pt x="2426" y="1328"/>
                  </a:lnTo>
                  <a:lnTo>
                    <a:pt x="2418" y="1328"/>
                  </a:lnTo>
                  <a:lnTo>
                    <a:pt x="2410" y="1328"/>
                  </a:lnTo>
                  <a:lnTo>
                    <a:pt x="2398" y="1329"/>
                  </a:lnTo>
                  <a:lnTo>
                    <a:pt x="2385" y="1332"/>
                  </a:lnTo>
                  <a:lnTo>
                    <a:pt x="2371" y="1332"/>
                  </a:lnTo>
                  <a:lnTo>
                    <a:pt x="2358" y="1324"/>
                  </a:lnTo>
                  <a:lnTo>
                    <a:pt x="2344" y="1316"/>
                  </a:lnTo>
                  <a:lnTo>
                    <a:pt x="2328" y="1313"/>
                  </a:lnTo>
                  <a:lnTo>
                    <a:pt x="2346" y="1313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8" y="1311"/>
                  </a:lnTo>
                  <a:lnTo>
                    <a:pt x="2395" y="1301"/>
                  </a:lnTo>
                  <a:lnTo>
                    <a:pt x="2405" y="1294"/>
                  </a:lnTo>
                  <a:lnTo>
                    <a:pt x="2412" y="1292"/>
                  </a:lnTo>
                  <a:lnTo>
                    <a:pt x="2417" y="1290"/>
                  </a:lnTo>
                  <a:lnTo>
                    <a:pt x="2424" y="1286"/>
                  </a:lnTo>
                  <a:lnTo>
                    <a:pt x="2413" y="1282"/>
                  </a:lnTo>
                  <a:lnTo>
                    <a:pt x="2404" y="1277"/>
                  </a:lnTo>
                  <a:lnTo>
                    <a:pt x="2396" y="1272"/>
                  </a:lnTo>
                  <a:lnTo>
                    <a:pt x="2385" y="1254"/>
                  </a:lnTo>
                  <a:lnTo>
                    <a:pt x="2375" y="1235"/>
                  </a:lnTo>
                  <a:lnTo>
                    <a:pt x="2369" y="1214"/>
                  </a:lnTo>
                  <a:lnTo>
                    <a:pt x="2359" y="1206"/>
                  </a:lnTo>
                  <a:lnTo>
                    <a:pt x="2344" y="1203"/>
                  </a:lnTo>
                  <a:lnTo>
                    <a:pt x="2332" y="1194"/>
                  </a:lnTo>
                  <a:lnTo>
                    <a:pt x="2329" y="1185"/>
                  </a:lnTo>
                  <a:lnTo>
                    <a:pt x="2327" y="1176"/>
                  </a:lnTo>
                  <a:lnTo>
                    <a:pt x="2324" y="1168"/>
                  </a:lnTo>
                  <a:lnTo>
                    <a:pt x="2319" y="1165"/>
                  </a:lnTo>
                  <a:lnTo>
                    <a:pt x="2312" y="1163"/>
                  </a:lnTo>
                  <a:lnTo>
                    <a:pt x="2305" y="1161"/>
                  </a:lnTo>
                  <a:lnTo>
                    <a:pt x="2311" y="1156"/>
                  </a:lnTo>
                  <a:lnTo>
                    <a:pt x="2312" y="1148"/>
                  </a:lnTo>
                  <a:lnTo>
                    <a:pt x="2315" y="1141"/>
                  </a:lnTo>
                  <a:lnTo>
                    <a:pt x="2324" y="1136"/>
                  </a:lnTo>
                  <a:lnTo>
                    <a:pt x="2333" y="1130"/>
                  </a:lnTo>
                  <a:lnTo>
                    <a:pt x="2341" y="1124"/>
                  </a:lnTo>
                  <a:lnTo>
                    <a:pt x="2348" y="1110"/>
                  </a:lnTo>
                  <a:lnTo>
                    <a:pt x="2351" y="1096"/>
                  </a:lnTo>
                  <a:lnTo>
                    <a:pt x="2348" y="1082"/>
                  </a:lnTo>
                  <a:lnTo>
                    <a:pt x="2362" y="1088"/>
                  </a:lnTo>
                  <a:lnTo>
                    <a:pt x="2375" y="1085"/>
                  </a:lnTo>
                  <a:lnTo>
                    <a:pt x="2386" y="1077"/>
                  </a:lnTo>
                  <a:lnTo>
                    <a:pt x="2417" y="1051"/>
                  </a:lnTo>
                  <a:lnTo>
                    <a:pt x="2455" y="1039"/>
                  </a:lnTo>
                  <a:lnTo>
                    <a:pt x="2497" y="1035"/>
                  </a:lnTo>
                  <a:lnTo>
                    <a:pt x="2498" y="1031"/>
                  </a:lnTo>
                  <a:lnTo>
                    <a:pt x="2500" y="1020"/>
                  </a:lnTo>
                  <a:lnTo>
                    <a:pt x="2505" y="1008"/>
                  </a:lnTo>
                  <a:lnTo>
                    <a:pt x="2508" y="1002"/>
                  </a:lnTo>
                  <a:lnTo>
                    <a:pt x="2508" y="995"/>
                  </a:lnTo>
                  <a:lnTo>
                    <a:pt x="2505" y="991"/>
                  </a:lnTo>
                  <a:lnTo>
                    <a:pt x="2482" y="981"/>
                  </a:lnTo>
                  <a:lnTo>
                    <a:pt x="2457" y="979"/>
                  </a:lnTo>
                  <a:lnTo>
                    <a:pt x="2437" y="992"/>
                  </a:lnTo>
                  <a:lnTo>
                    <a:pt x="2410" y="975"/>
                  </a:lnTo>
                  <a:lnTo>
                    <a:pt x="2378" y="970"/>
                  </a:lnTo>
                  <a:lnTo>
                    <a:pt x="2345" y="970"/>
                  </a:lnTo>
                  <a:lnTo>
                    <a:pt x="2345" y="977"/>
                  </a:lnTo>
                  <a:lnTo>
                    <a:pt x="2345" y="985"/>
                  </a:lnTo>
                  <a:lnTo>
                    <a:pt x="2344" y="992"/>
                  </a:lnTo>
                  <a:lnTo>
                    <a:pt x="2334" y="1010"/>
                  </a:lnTo>
                  <a:lnTo>
                    <a:pt x="2317" y="1020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5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8" y="963"/>
                  </a:lnTo>
                  <a:lnTo>
                    <a:pt x="2236" y="959"/>
                  </a:lnTo>
                  <a:lnTo>
                    <a:pt x="2226" y="949"/>
                  </a:lnTo>
                  <a:lnTo>
                    <a:pt x="2222" y="937"/>
                  </a:lnTo>
                  <a:lnTo>
                    <a:pt x="2227" y="924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2" y="910"/>
                  </a:lnTo>
                  <a:lnTo>
                    <a:pt x="2254" y="913"/>
                  </a:lnTo>
                  <a:lnTo>
                    <a:pt x="2258" y="914"/>
                  </a:lnTo>
                  <a:lnTo>
                    <a:pt x="2259" y="917"/>
                  </a:lnTo>
                  <a:lnTo>
                    <a:pt x="2272" y="915"/>
                  </a:lnTo>
                  <a:lnTo>
                    <a:pt x="2285" y="912"/>
                  </a:lnTo>
                  <a:lnTo>
                    <a:pt x="2299" y="910"/>
                  </a:lnTo>
                  <a:lnTo>
                    <a:pt x="2302" y="905"/>
                  </a:lnTo>
                  <a:lnTo>
                    <a:pt x="2307" y="903"/>
                  </a:lnTo>
                  <a:lnTo>
                    <a:pt x="2311" y="900"/>
                  </a:lnTo>
                  <a:lnTo>
                    <a:pt x="2311" y="890"/>
                  </a:lnTo>
                  <a:lnTo>
                    <a:pt x="2313" y="880"/>
                  </a:lnTo>
                  <a:lnTo>
                    <a:pt x="2316" y="872"/>
                  </a:lnTo>
                  <a:lnTo>
                    <a:pt x="2328" y="862"/>
                  </a:lnTo>
                  <a:lnTo>
                    <a:pt x="2343" y="857"/>
                  </a:lnTo>
                  <a:lnTo>
                    <a:pt x="2358" y="850"/>
                  </a:lnTo>
                  <a:lnTo>
                    <a:pt x="2370" y="841"/>
                  </a:lnTo>
                  <a:lnTo>
                    <a:pt x="2382" y="832"/>
                  </a:lnTo>
                  <a:lnTo>
                    <a:pt x="2395" y="826"/>
                  </a:lnTo>
                  <a:lnTo>
                    <a:pt x="2405" y="824"/>
                  </a:lnTo>
                  <a:lnTo>
                    <a:pt x="2416" y="824"/>
                  </a:lnTo>
                  <a:lnTo>
                    <a:pt x="2426" y="826"/>
                  </a:lnTo>
                  <a:lnTo>
                    <a:pt x="2429" y="832"/>
                  </a:lnTo>
                  <a:lnTo>
                    <a:pt x="2427" y="841"/>
                  </a:lnTo>
                  <a:lnTo>
                    <a:pt x="2426" y="851"/>
                  </a:lnTo>
                  <a:lnTo>
                    <a:pt x="2424" y="858"/>
                  </a:lnTo>
                  <a:lnTo>
                    <a:pt x="2419" y="865"/>
                  </a:lnTo>
                  <a:lnTo>
                    <a:pt x="2413" y="869"/>
                  </a:lnTo>
                  <a:lnTo>
                    <a:pt x="2405" y="873"/>
                  </a:lnTo>
                  <a:lnTo>
                    <a:pt x="2398" y="877"/>
                  </a:lnTo>
                  <a:lnTo>
                    <a:pt x="2396" y="883"/>
                  </a:lnTo>
                  <a:lnTo>
                    <a:pt x="2404" y="895"/>
                  </a:lnTo>
                  <a:lnTo>
                    <a:pt x="2419" y="896"/>
                  </a:lnTo>
                  <a:lnTo>
                    <a:pt x="2437" y="897"/>
                  </a:lnTo>
                  <a:lnTo>
                    <a:pt x="2428" y="914"/>
                  </a:lnTo>
                  <a:lnTo>
                    <a:pt x="2414" y="927"/>
                  </a:lnTo>
                  <a:lnTo>
                    <a:pt x="2398" y="937"/>
                  </a:lnTo>
                  <a:lnTo>
                    <a:pt x="2405" y="942"/>
                  </a:lnTo>
                  <a:lnTo>
                    <a:pt x="2414" y="944"/>
                  </a:lnTo>
                  <a:lnTo>
                    <a:pt x="2418" y="940"/>
                  </a:lnTo>
                  <a:lnTo>
                    <a:pt x="2432" y="915"/>
                  </a:lnTo>
                  <a:lnTo>
                    <a:pt x="2455" y="902"/>
                  </a:lnTo>
                  <a:lnTo>
                    <a:pt x="2479" y="892"/>
                  </a:lnTo>
                  <a:lnTo>
                    <a:pt x="2504" y="881"/>
                  </a:lnTo>
                  <a:lnTo>
                    <a:pt x="2530" y="872"/>
                  </a:lnTo>
                  <a:lnTo>
                    <a:pt x="2557" y="864"/>
                  </a:lnTo>
                  <a:lnTo>
                    <a:pt x="2557" y="860"/>
                  </a:lnTo>
                  <a:lnTo>
                    <a:pt x="2555" y="854"/>
                  </a:lnTo>
                  <a:lnTo>
                    <a:pt x="2555" y="848"/>
                  </a:lnTo>
                  <a:lnTo>
                    <a:pt x="2558" y="843"/>
                  </a:lnTo>
                  <a:lnTo>
                    <a:pt x="2592" y="818"/>
                  </a:lnTo>
                  <a:lnTo>
                    <a:pt x="2630" y="801"/>
                  </a:lnTo>
                  <a:lnTo>
                    <a:pt x="2664" y="775"/>
                  </a:lnTo>
                  <a:lnTo>
                    <a:pt x="2668" y="768"/>
                  </a:lnTo>
                  <a:lnTo>
                    <a:pt x="2670" y="760"/>
                  </a:lnTo>
                  <a:lnTo>
                    <a:pt x="2675" y="756"/>
                  </a:lnTo>
                  <a:lnTo>
                    <a:pt x="2683" y="754"/>
                  </a:lnTo>
                  <a:lnTo>
                    <a:pt x="2689" y="752"/>
                  </a:lnTo>
                  <a:lnTo>
                    <a:pt x="2693" y="752"/>
                  </a:lnTo>
                  <a:lnTo>
                    <a:pt x="2702" y="768"/>
                  </a:lnTo>
                  <a:lnTo>
                    <a:pt x="2717" y="776"/>
                  </a:lnTo>
                  <a:lnTo>
                    <a:pt x="2734" y="776"/>
                  </a:lnTo>
                  <a:lnTo>
                    <a:pt x="2746" y="769"/>
                  </a:lnTo>
                  <a:lnTo>
                    <a:pt x="2744" y="757"/>
                  </a:lnTo>
                  <a:lnTo>
                    <a:pt x="2744" y="743"/>
                  </a:lnTo>
                  <a:lnTo>
                    <a:pt x="2754" y="739"/>
                  </a:lnTo>
                  <a:lnTo>
                    <a:pt x="2769" y="739"/>
                  </a:lnTo>
                  <a:lnTo>
                    <a:pt x="2782" y="737"/>
                  </a:lnTo>
                  <a:lnTo>
                    <a:pt x="2791" y="730"/>
                  </a:lnTo>
                  <a:lnTo>
                    <a:pt x="2799" y="723"/>
                  </a:lnTo>
                  <a:lnTo>
                    <a:pt x="2808" y="716"/>
                  </a:lnTo>
                  <a:lnTo>
                    <a:pt x="2813" y="715"/>
                  </a:lnTo>
                  <a:lnTo>
                    <a:pt x="2821" y="716"/>
                  </a:lnTo>
                  <a:lnTo>
                    <a:pt x="2826" y="714"/>
                  </a:lnTo>
                  <a:lnTo>
                    <a:pt x="2829" y="707"/>
                  </a:lnTo>
                  <a:lnTo>
                    <a:pt x="2830" y="698"/>
                  </a:lnTo>
                  <a:lnTo>
                    <a:pt x="2832" y="690"/>
                  </a:lnTo>
                  <a:lnTo>
                    <a:pt x="2844" y="685"/>
                  </a:lnTo>
                  <a:lnTo>
                    <a:pt x="2857" y="695"/>
                  </a:lnTo>
                  <a:lnTo>
                    <a:pt x="2870" y="705"/>
                  </a:lnTo>
                  <a:lnTo>
                    <a:pt x="2876" y="701"/>
                  </a:lnTo>
                  <a:lnTo>
                    <a:pt x="2885" y="694"/>
                  </a:lnTo>
                  <a:lnTo>
                    <a:pt x="2893" y="686"/>
                  </a:lnTo>
                  <a:lnTo>
                    <a:pt x="2897" y="678"/>
                  </a:lnTo>
                  <a:lnTo>
                    <a:pt x="2902" y="669"/>
                  </a:lnTo>
                  <a:lnTo>
                    <a:pt x="2907" y="660"/>
                  </a:lnTo>
                  <a:lnTo>
                    <a:pt x="2909" y="649"/>
                  </a:lnTo>
                  <a:lnTo>
                    <a:pt x="2906" y="648"/>
                  </a:lnTo>
                  <a:lnTo>
                    <a:pt x="2906" y="645"/>
                  </a:lnTo>
                  <a:lnTo>
                    <a:pt x="2903" y="643"/>
                  </a:lnTo>
                  <a:lnTo>
                    <a:pt x="2906" y="617"/>
                  </a:lnTo>
                  <a:lnTo>
                    <a:pt x="2902" y="592"/>
                  </a:lnTo>
                  <a:lnTo>
                    <a:pt x="2890" y="570"/>
                  </a:lnTo>
                  <a:lnTo>
                    <a:pt x="2905" y="562"/>
                  </a:lnTo>
                  <a:lnTo>
                    <a:pt x="2918" y="550"/>
                  </a:lnTo>
                  <a:lnTo>
                    <a:pt x="2929" y="537"/>
                  </a:lnTo>
                  <a:lnTo>
                    <a:pt x="2939" y="545"/>
                  </a:lnTo>
                  <a:lnTo>
                    <a:pt x="2950" y="549"/>
                  </a:lnTo>
                  <a:lnTo>
                    <a:pt x="2962" y="547"/>
                  </a:lnTo>
                  <a:lnTo>
                    <a:pt x="2963" y="551"/>
                  </a:lnTo>
                  <a:lnTo>
                    <a:pt x="2966" y="553"/>
                  </a:lnTo>
                  <a:lnTo>
                    <a:pt x="2969" y="553"/>
                  </a:lnTo>
                  <a:lnTo>
                    <a:pt x="2978" y="554"/>
                  </a:lnTo>
                  <a:lnTo>
                    <a:pt x="2987" y="552"/>
                  </a:lnTo>
                  <a:lnTo>
                    <a:pt x="2995" y="550"/>
                  </a:lnTo>
                  <a:lnTo>
                    <a:pt x="2996" y="538"/>
                  </a:lnTo>
                  <a:lnTo>
                    <a:pt x="3001" y="528"/>
                  </a:lnTo>
                  <a:lnTo>
                    <a:pt x="3011" y="520"/>
                  </a:lnTo>
                  <a:lnTo>
                    <a:pt x="3012" y="517"/>
                  </a:lnTo>
                  <a:lnTo>
                    <a:pt x="3012" y="512"/>
                  </a:lnTo>
                  <a:lnTo>
                    <a:pt x="3012" y="508"/>
                  </a:lnTo>
                  <a:lnTo>
                    <a:pt x="3019" y="499"/>
                  </a:lnTo>
                  <a:lnTo>
                    <a:pt x="3026" y="491"/>
                  </a:lnTo>
                  <a:lnTo>
                    <a:pt x="3034" y="483"/>
                  </a:lnTo>
                  <a:lnTo>
                    <a:pt x="3036" y="478"/>
                  </a:lnTo>
                  <a:lnTo>
                    <a:pt x="3035" y="471"/>
                  </a:lnTo>
                  <a:lnTo>
                    <a:pt x="3032" y="464"/>
                  </a:lnTo>
                  <a:lnTo>
                    <a:pt x="3038" y="460"/>
                  </a:lnTo>
                  <a:lnTo>
                    <a:pt x="3043" y="454"/>
                  </a:lnTo>
                  <a:lnTo>
                    <a:pt x="3047" y="447"/>
                  </a:lnTo>
                  <a:lnTo>
                    <a:pt x="3049" y="441"/>
                  </a:lnTo>
                  <a:lnTo>
                    <a:pt x="3046" y="434"/>
                  </a:lnTo>
                  <a:lnTo>
                    <a:pt x="3046" y="430"/>
                  </a:lnTo>
                  <a:lnTo>
                    <a:pt x="3054" y="421"/>
                  </a:lnTo>
                  <a:lnTo>
                    <a:pt x="3055" y="412"/>
                  </a:lnTo>
                  <a:lnTo>
                    <a:pt x="3055" y="402"/>
                  </a:lnTo>
                  <a:lnTo>
                    <a:pt x="3067" y="401"/>
                  </a:lnTo>
                  <a:lnTo>
                    <a:pt x="3078" y="396"/>
                  </a:lnTo>
                  <a:lnTo>
                    <a:pt x="3079" y="386"/>
                  </a:lnTo>
                  <a:lnTo>
                    <a:pt x="3076" y="377"/>
                  </a:lnTo>
                  <a:lnTo>
                    <a:pt x="3073" y="368"/>
                  </a:lnTo>
                  <a:lnTo>
                    <a:pt x="3073" y="359"/>
                  </a:lnTo>
                  <a:lnTo>
                    <a:pt x="3074" y="355"/>
                  </a:lnTo>
                  <a:lnTo>
                    <a:pt x="3075" y="350"/>
                  </a:lnTo>
                  <a:lnTo>
                    <a:pt x="3078" y="346"/>
                  </a:lnTo>
                  <a:lnTo>
                    <a:pt x="3070" y="344"/>
                  </a:lnTo>
                  <a:lnTo>
                    <a:pt x="3064" y="341"/>
                  </a:lnTo>
                  <a:lnTo>
                    <a:pt x="3059" y="341"/>
                  </a:lnTo>
                  <a:lnTo>
                    <a:pt x="3037" y="348"/>
                  </a:lnTo>
                  <a:lnTo>
                    <a:pt x="3014" y="350"/>
                  </a:lnTo>
                  <a:lnTo>
                    <a:pt x="2993" y="354"/>
                  </a:lnTo>
                  <a:lnTo>
                    <a:pt x="2984" y="360"/>
                  </a:lnTo>
                  <a:lnTo>
                    <a:pt x="2976" y="367"/>
                  </a:lnTo>
                  <a:lnTo>
                    <a:pt x="2966" y="372"/>
                  </a:lnTo>
                  <a:lnTo>
                    <a:pt x="2968" y="374"/>
                  </a:lnTo>
                  <a:lnTo>
                    <a:pt x="2969" y="376"/>
                  </a:lnTo>
                  <a:lnTo>
                    <a:pt x="2969" y="378"/>
                  </a:lnTo>
                  <a:lnTo>
                    <a:pt x="2951" y="385"/>
                  </a:lnTo>
                  <a:lnTo>
                    <a:pt x="2933" y="385"/>
                  </a:lnTo>
                  <a:lnTo>
                    <a:pt x="2916" y="380"/>
                  </a:lnTo>
                  <a:lnTo>
                    <a:pt x="2909" y="378"/>
                  </a:lnTo>
                  <a:lnTo>
                    <a:pt x="2903" y="380"/>
                  </a:lnTo>
                  <a:lnTo>
                    <a:pt x="2895" y="385"/>
                  </a:lnTo>
                  <a:lnTo>
                    <a:pt x="2892" y="386"/>
                  </a:lnTo>
                  <a:lnTo>
                    <a:pt x="2889" y="385"/>
                  </a:lnTo>
                  <a:lnTo>
                    <a:pt x="2887" y="382"/>
                  </a:lnTo>
                  <a:lnTo>
                    <a:pt x="2885" y="378"/>
                  </a:lnTo>
                  <a:lnTo>
                    <a:pt x="2884" y="374"/>
                  </a:lnTo>
                  <a:lnTo>
                    <a:pt x="2890" y="372"/>
                  </a:lnTo>
                  <a:lnTo>
                    <a:pt x="2885" y="368"/>
                  </a:lnTo>
                  <a:lnTo>
                    <a:pt x="2880" y="366"/>
                  </a:lnTo>
                  <a:lnTo>
                    <a:pt x="2877" y="362"/>
                  </a:lnTo>
                  <a:lnTo>
                    <a:pt x="2877" y="348"/>
                  </a:lnTo>
                  <a:lnTo>
                    <a:pt x="2874" y="335"/>
                  </a:lnTo>
                  <a:lnTo>
                    <a:pt x="2866" y="322"/>
                  </a:lnTo>
                  <a:lnTo>
                    <a:pt x="2871" y="319"/>
                  </a:lnTo>
                  <a:lnTo>
                    <a:pt x="2872" y="313"/>
                  </a:lnTo>
                  <a:lnTo>
                    <a:pt x="2876" y="309"/>
                  </a:lnTo>
                  <a:lnTo>
                    <a:pt x="2864" y="310"/>
                  </a:lnTo>
                  <a:lnTo>
                    <a:pt x="2852" y="307"/>
                  </a:lnTo>
                  <a:lnTo>
                    <a:pt x="2840" y="302"/>
                  </a:lnTo>
                  <a:lnTo>
                    <a:pt x="2836" y="298"/>
                  </a:lnTo>
                  <a:lnTo>
                    <a:pt x="2834" y="292"/>
                  </a:lnTo>
                  <a:lnTo>
                    <a:pt x="2832" y="286"/>
                  </a:lnTo>
                  <a:lnTo>
                    <a:pt x="2822" y="278"/>
                  </a:lnTo>
                  <a:lnTo>
                    <a:pt x="2808" y="277"/>
                  </a:lnTo>
                  <a:lnTo>
                    <a:pt x="2795" y="274"/>
                  </a:lnTo>
                  <a:lnTo>
                    <a:pt x="2787" y="270"/>
                  </a:lnTo>
                  <a:lnTo>
                    <a:pt x="2779" y="267"/>
                  </a:lnTo>
                  <a:lnTo>
                    <a:pt x="2770" y="264"/>
                  </a:lnTo>
                  <a:lnTo>
                    <a:pt x="2759" y="262"/>
                  </a:lnTo>
                  <a:lnTo>
                    <a:pt x="2747" y="262"/>
                  </a:lnTo>
                  <a:lnTo>
                    <a:pt x="2734" y="263"/>
                  </a:lnTo>
                  <a:lnTo>
                    <a:pt x="2731" y="257"/>
                  </a:lnTo>
                  <a:lnTo>
                    <a:pt x="2725" y="255"/>
                  </a:lnTo>
                  <a:lnTo>
                    <a:pt x="2721" y="250"/>
                  </a:lnTo>
                  <a:lnTo>
                    <a:pt x="2722" y="242"/>
                  </a:lnTo>
                  <a:lnTo>
                    <a:pt x="2725" y="235"/>
                  </a:lnTo>
                  <a:lnTo>
                    <a:pt x="2724" y="227"/>
                  </a:lnTo>
                  <a:lnTo>
                    <a:pt x="2719" y="223"/>
                  </a:lnTo>
                  <a:lnTo>
                    <a:pt x="2715" y="219"/>
                  </a:lnTo>
                  <a:lnTo>
                    <a:pt x="2713" y="217"/>
                  </a:lnTo>
                  <a:lnTo>
                    <a:pt x="2708" y="191"/>
                  </a:lnTo>
                  <a:lnTo>
                    <a:pt x="2696" y="170"/>
                  </a:lnTo>
                  <a:lnTo>
                    <a:pt x="2679" y="150"/>
                  </a:lnTo>
                  <a:lnTo>
                    <a:pt x="2679" y="145"/>
                  </a:lnTo>
                  <a:lnTo>
                    <a:pt x="2684" y="140"/>
                  </a:lnTo>
                  <a:lnTo>
                    <a:pt x="2685" y="135"/>
                  </a:lnTo>
                  <a:lnTo>
                    <a:pt x="2673" y="113"/>
                  </a:lnTo>
                  <a:lnTo>
                    <a:pt x="2663" y="91"/>
                  </a:lnTo>
                  <a:lnTo>
                    <a:pt x="2653" y="70"/>
                  </a:lnTo>
                  <a:lnTo>
                    <a:pt x="2647" y="59"/>
                  </a:lnTo>
                  <a:lnTo>
                    <a:pt x="2640" y="49"/>
                  </a:lnTo>
                  <a:lnTo>
                    <a:pt x="2631" y="40"/>
                  </a:lnTo>
                  <a:lnTo>
                    <a:pt x="2626" y="37"/>
                  </a:lnTo>
                  <a:lnTo>
                    <a:pt x="2619" y="35"/>
                  </a:lnTo>
                  <a:lnTo>
                    <a:pt x="2612" y="33"/>
                  </a:lnTo>
                  <a:lnTo>
                    <a:pt x="2600" y="32"/>
                  </a:lnTo>
                  <a:lnTo>
                    <a:pt x="2588" y="32"/>
                  </a:lnTo>
                  <a:lnTo>
                    <a:pt x="2577" y="31"/>
                  </a:lnTo>
                  <a:lnTo>
                    <a:pt x="2566" y="25"/>
                  </a:lnTo>
                  <a:lnTo>
                    <a:pt x="2555" y="18"/>
                  </a:lnTo>
                  <a:lnTo>
                    <a:pt x="2544" y="11"/>
                  </a:lnTo>
                  <a:lnTo>
                    <a:pt x="2527" y="4"/>
                  </a:lnTo>
                  <a:lnTo>
                    <a:pt x="2507" y="0"/>
                  </a:lnTo>
                  <a:lnTo>
                    <a:pt x="2487" y="1"/>
                  </a:lnTo>
                  <a:lnTo>
                    <a:pt x="2484" y="1"/>
                  </a:lnTo>
                  <a:lnTo>
                    <a:pt x="2480" y="3"/>
                  </a:lnTo>
                  <a:lnTo>
                    <a:pt x="2476" y="5"/>
                  </a:lnTo>
                  <a:lnTo>
                    <a:pt x="2466" y="5"/>
                  </a:lnTo>
                  <a:lnTo>
                    <a:pt x="2456" y="0"/>
                  </a:lnTo>
                  <a:lnTo>
                    <a:pt x="2448" y="1"/>
                  </a:lnTo>
                  <a:lnTo>
                    <a:pt x="2428" y="9"/>
                  </a:lnTo>
                  <a:lnTo>
                    <a:pt x="2407" y="10"/>
                  </a:lnTo>
                  <a:lnTo>
                    <a:pt x="2389" y="15"/>
                  </a:lnTo>
                  <a:lnTo>
                    <a:pt x="2375" y="25"/>
                  </a:lnTo>
                  <a:lnTo>
                    <a:pt x="2361" y="36"/>
                  </a:lnTo>
                  <a:lnTo>
                    <a:pt x="2345" y="44"/>
                  </a:lnTo>
                  <a:lnTo>
                    <a:pt x="2342" y="49"/>
                  </a:lnTo>
                  <a:lnTo>
                    <a:pt x="2342" y="56"/>
                  </a:lnTo>
                  <a:lnTo>
                    <a:pt x="2345" y="59"/>
                  </a:lnTo>
                  <a:lnTo>
                    <a:pt x="2365" y="65"/>
                  </a:lnTo>
                  <a:lnTo>
                    <a:pt x="2375" y="81"/>
                  </a:lnTo>
                  <a:lnTo>
                    <a:pt x="2377" y="98"/>
                  </a:lnTo>
                  <a:lnTo>
                    <a:pt x="2369" y="113"/>
                  </a:lnTo>
                  <a:lnTo>
                    <a:pt x="2353" y="127"/>
                  </a:lnTo>
                  <a:lnTo>
                    <a:pt x="2338" y="144"/>
                  </a:lnTo>
                  <a:lnTo>
                    <a:pt x="2334" y="155"/>
                  </a:lnTo>
                  <a:lnTo>
                    <a:pt x="2331" y="166"/>
                  </a:lnTo>
                  <a:lnTo>
                    <a:pt x="2324" y="173"/>
                  </a:lnTo>
                  <a:lnTo>
                    <a:pt x="2320" y="176"/>
                  </a:lnTo>
                  <a:lnTo>
                    <a:pt x="2316" y="181"/>
                  </a:lnTo>
                  <a:lnTo>
                    <a:pt x="2313" y="185"/>
                  </a:lnTo>
                  <a:lnTo>
                    <a:pt x="2307" y="198"/>
                  </a:lnTo>
                  <a:lnTo>
                    <a:pt x="2310" y="214"/>
                  </a:lnTo>
                  <a:lnTo>
                    <a:pt x="2308" y="230"/>
                  </a:lnTo>
                  <a:lnTo>
                    <a:pt x="2310" y="230"/>
                  </a:lnTo>
                  <a:lnTo>
                    <a:pt x="2313" y="230"/>
                  </a:lnTo>
                  <a:lnTo>
                    <a:pt x="2315" y="230"/>
                  </a:lnTo>
                  <a:lnTo>
                    <a:pt x="2310" y="233"/>
                  </a:lnTo>
                  <a:lnTo>
                    <a:pt x="2306" y="237"/>
                  </a:lnTo>
                  <a:lnTo>
                    <a:pt x="2302" y="239"/>
                  </a:lnTo>
                  <a:lnTo>
                    <a:pt x="2280" y="242"/>
                  </a:lnTo>
                  <a:lnTo>
                    <a:pt x="2261" y="251"/>
                  </a:lnTo>
                  <a:lnTo>
                    <a:pt x="2241" y="261"/>
                  </a:lnTo>
                  <a:lnTo>
                    <a:pt x="2222" y="262"/>
                  </a:lnTo>
                  <a:lnTo>
                    <a:pt x="2203" y="254"/>
                  </a:lnTo>
                  <a:lnTo>
                    <a:pt x="2183" y="246"/>
                  </a:lnTo>
                  <a:lnTo>
                    <a:pt x="2172" y="241"/>
                  </a:lnTo>
                  <a:lnTo>
                    <a:pt x="2175" y="250"/>
                  </a:lnTo>
                  <a:lnTo>
                    <a:pt x="2174" y="257"/>
                  </a:lnTo>
                  <a:lnTo>
                    <a:pt x="2172" y="263"/>
                  </a:lnTo>
                  <a:lnTo>
                    <a:pt x="2161" y="283"/>
                  </a:lnTo>
                  <a:lnTo>
                    <a:pt x="2148" y="302"/>
                  </a:lnTo>
                  <a:lnTo>
                    <a:pt x="2137" y="322"/>
                  </a:lnTo>
                  <a:lnTo>
                    <a:pt x="2136" y="329"/>
                  </a:lnTo>
                  <a:lnTo>
                    <a:pt x="2138" y="336"/>
                  </a:lnTo>
                  <a:lnTo>
                    <a:pt x="2140" y="342"/>
                  </a:lnTo>
                  <a:lnTo>
                    <a:pt x="2130" y="344"/>
                  </a:lnTo>
                  <a:lnTo>
                    <a:pt x="2121" y="347"/>
                  </a:lnTo>
                  <a:lnTo>
                    <a:pt x="2116" y="351"/>
                  </a:lnTo>
                  <a:lnTo>
                    <a:pt x="2113" y="362"/>
                  </a:lnTo>
                  <a:lnTo>
                    <a:pt x="2118" y="374"/>
                  </a:lnTo>
                  <a:lnTo>
                    <a:pt x="2130" y="380"/>
                  </a:lnTo>
                  <a:lnTo>
                    <a:pt x="2136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4"/>
                  </a:lnTo>
                  <a:lnTo>
                    <a:pt x="2181" y="375"/>
                  </a:lnTo>
                  <a:lnTo>
                    <a:pt x="2195" y="380"/>
                  </a:lnTo>
                  <a:lnTo>
                    <a:pt x="2197" y="382"/>
                  </a:lnTo>
                  <a:lnTo>
                    <a:pt x="2200" y="384"/>
                  </a:lnTo>
                  <a:lnTo>
                    <a:pt x="2203" y="385"/>
                  </a:lnTo>
                  <a:lnTo>
                    <a:pt x="2214" y="384"/>
                  </a:lnTo>
                  <a:lnTo>
                    <a:pt x="2223" y="378"/>
                  </a:lnTo>
                  <a:lnTo>
                    <a:pt x="2233" y="373"/>
                  </a:lnTo>
                  <a:lnTo>
                    <a:pt x="2259" y="370"/>
                  </a:lnTo>
                  <a:lnTo>
                    <a:pt x="2283" y="380"/>
                  </a:lnTo>
                  <a:lnTo>
                    <a:pt x="2304" y="400"/>
                  </a:lnTo>
                  <a:lnTo>
                    <a:pt x="2309" y="405"/>
                  </a:lnTo>
                  <a:lnTo>
                    <a:pt x="2317" y="409"/>
                  </a:lnTo>
                  <a:lnTo>
                    <a:pt x="2324" y="413"/>
                  </a:lnTo>
                  <a:lnTo>
                    <a:pt x="2332" y="420"/>
                  </a:lnTo>
                  <a:lnTo>
                    <a:pt x="2338" y="430"/>
                  </a:lnTo>
                  <a:lnTo>
                    <a:pt x="2337" y="441"/>
                  </a:lnTo>
                  <a:lnTo>
                    <a:pt x="2335" y="445"/>
                  </a:lnTo>
                  <a:lnTo>
                    <a:pt x="2332" y="449"/>
                  </a:lnTo>
                  <a:lnTo>
                    <a:pt x="2328" y="451"/>
                  </a:lnTo>
                  <a:lnTo>
                    <a:pt x="2314" y="451"/>
                  </a:lnTo>
                  <a:lnTo>
                    <a:pt x="2301" y="450"/>
                  </a:lnTo>
                  <a:lnTo>
                    <a:pt x="2288" y="446"/>
                  </a:lnTo>
                  <a:lnTo>
                    <a:pt x="2265" y="444"/>
                  </a:lnTo>
                  <a:lnTo>
                    <a:pt x="2243" y="451"/>
                  </a:lnTo>
                  <a:lnTo>
                    <a:pt x="2219" y="456"/>
                  </a:lnTo>
                  <a:lnTo>
                    <a:pt x="2214" y="459"/>
                  </a:lnTo>
                  <a:lnTo>
                    <a:pt x="2208" y="465"/>
                  </a:lnTo>
                  <a:lnTo>
                    <a:pt x="2202" y="470"/>
                  </a:lnTo>
                  <a:lnTo>
                    <a:pt x="2196" y="471"/>
                  </a:lnTo>
                  <a:lnTo>
                    <a:pt x="2190" y="471"/>
                  </a:lnTo>
                  <a:lnTo>
                    <a:pt x="2183" y="471"/>
                  </a:lnTo>
                  <a:lnTo>
                    <a:pt x="2165" y="487"/>
                  </a:lnTo>
                  <a:lnTo>
                    <a:pt x="2153" y="507"/>
                  </a:lnTo>
                  <a:lnTo>
                    <a:pt x="2139" y="526"/>
                  </a:lnTo>
                  <a:lnTo>
                    <a:pt x="2120" y="532"/>
                  </a:lnTo>
                  <a:lnTo>
                    <a:pt x="2101" y="531"/>
                  </a:lnTo>
                  <a:lnTo>
                    <a:pt x="2081" y="532"/>
                  </a:lnTo>
                  <a:lnTo>
                    <a:pt x="2071" y="537"/>
                  </a:lnTo>
                  <a:lnTo>
                    <a:pt x="2063" y="545"/>
                  </a:lnTo>
                  <a:lnTo>
                    <a:pt x="2055" y="555"/>
                  </a:lnTo>
                  <a:lnTo>
                    <a:pt x="2040" y="567"/>
                  </a:lnTo>
                  <a:lnTo>
                    <a:pt x="2020" y="571"/>
                  </a:lnTo>
                  <a:lnTo>
                    <a:pt x="1998" y="569"/>
                  </a:lnTo>
                  <a:lnTo>
                    <a:pt x="1978" y="562"/>
                  </a:lnTo>
                  <a:lnTo>
                    <a:pt x="1958" y="555"/>
                  </a:lnTo>
                  <a:lnTo>
                    <a:pt x="1939" y="556"/>
                  </a:lnTo>
                  <a:lnTo>
                    <a:pt x="1922" y="567"/>
                  </a:lnTo>
                  <a:lnTo>
                    <a:pt x="1913" y="586"/>
                  </a:lnTo>
                  <a:lnTo>
                    <a:pt x="1917" y="605"/>
                  </a:lnTo>
                  <a:lnTo>
                    <a:pt x="1929" y="617"/>
                  </a:lnTo>
                  <a:lnTo>
                    <a:pt x="1940" y="629"/>
                  </a:lnTo>
                  <a:lnTo>
                    <a:pt x="1939" y="641"/>
                  </a:lnTo>
                  <a:lnTo>
                    <a:pt x="1924" y="650"/>
                  </a:lnTo>
                  <a:lnTo>
                    <a:pt x="1905" y="657"/>
                  </a:lnTo>
                  <a:lnTo>
                    <a:pt x="1887" y="665"/>
                  </a:lnTo>
                  <a:lnTo>
                    <a:pt x="1869" y="680"/>
                  </a:lnTo>
                  <a:lnTo>
                    <a:pt x="1852" y="697"/>
                  </a:lnTo>
                  <a:lnTo>
                    <a:pt x="1835" y="708"/>
                  </a:lnTo>
                  <a:lnTo>
                    <a:pt x="1776" y="719"/>
                  </a:lnTo>
                  <a:lnTo>
                    <a:pt x="1715" y="719"/>
                  </a:lnTo>
                  <a:lnTo>
                    <a:pt x="1656" y="728"/>
                  </a:lnTo>
                  <a:lnTo>
                    <a:pt x="1636" y="740"/>
                  </a:lnTo>
                  <a:lnTo>
                    <a:pt x="1618" y="755"/>
                  </a:lnTo>
                  <a:lnTo>
                    <a:pt x="1595" y="761"/>
                  </a:lnTo>
                  <a:lnTo>
                    <a:pt x="1585" y="758"/>
                  </a:lnTo>
                  <a:lnTo>
                    <a:pt x="1576" y="755"/>
                  </a:lnTo>
                  <a:lnTo>
                    <a:pt x="1565" y="757"/>
                  </a:lnTo>
                  <a:lnTo>
                    <a:pt x="1563" y="756"/>
                  </a:lnTo>
                  <a:lnTo>
                    <a:pt x="1562" y="751"/>
                  </a:lnTo>
                  <a:lnTo>
                    <a:pt x="1559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6" y="716"/>
                  </a:lnTo>
                  <a:lnTo>
                    <a:pt x="1404" y="706"/>
                  </a:lnTo>
                  <a:lnTo>
                    <a:pt x="1381" y="701"/>
                  </a:lnTo>
                  <a:lnTo>
                    <a:pt x="1357" y="701"/>
                  </a:lnTo>
                  <a:lnTo>
                    <a:pt x="1290" y="708"/>
                  </a:lnTo>
                  <a:lnTo>
                    <a:pt x="1221" y="707"/>
                  </a:lnTo>
                  <a:lnTo>
                    <a:pt x="1161" y="685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8" y="611"/>
                  </a:lnTo>
                  <a:lnTo>
                    <a:pt x="1099" y="604"/>
                  </a:lnTo>
                  <a:lnTo>
                    <a:pt x="1083" y="598"/>
                  </a:lnTo>
                  <a:lnTo>
                    <a:pt x="1067" y="593"/>
                  </a:lnTo>
                  <a:lnTo>
                    <a:pt x="1051" y="588"/>
                  </a:lnTo>
                  <a:lnTo>
                    <a:pt x="1036" y="580"/>
                  </a:lnTo>
                  <a:lnTo>
                    <a:pt x="1023" y="569"/>
                  </a:lnTo>
                  <a:lnTo>
                    <a:pt x="1007" y="561"/>
                  </a:lnTo>
                  <a:lnTo>
                    <a:pt x="966" y="556"/>
                  </a:lnTo>
                  <a:lnTo>
                    <a:pt x="925" y="554"/>
                  </a:lnTo>
                  <a:lnTo>
                    <a:pt x="886" y="546"/>
                  </a:lnTo>
                  <a:lnTo>
                    <a:pt x="877" y="540"/>
                  </a:lnTo>
                  <a:lnTo>
                    <a:pt x="872" y="531"/>
                  </a:lnTo>
                  <a:lnTo>
                    <a:pt x="869" y="520"/>
                  </a:lnTo>
                  <a:lnTo>
                    <a:pt x="873" y="505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4" y="453"/>
                  </a:lnTo>
                  <a:lnTo>
                    <a:pt x="892" y="444"/>
                  </a:lnTo>
                  <a:lnTo>
                    <a:pt x="879" y="426"/>
                  </a:lnTo>
                  <a:lnTo>
                    <a:pt x="869" y="405"/>
                  </a:lnTo>
                  <a:lnTo>
                    <a:pt x="858" y="386"/>
                  </a:lnTo>
                  <a:lnTo>
                    <a:pt x="838" y="372"/>
                  </a:lnTo>
                  <a:lnTo>
                    <a:pt x="814" y="369"/>
                  </a:lnTo>
                  <a:lnTo>
                    <a:pt x="790" y="364"/>
                  </a:lnTo>
                  <a:lnTo>
                    <a:pt x="770" y="352"/>
                  </a:lnTo>
                  <a:lnTo>
                    <a:pt x="752" y="337"/>
                  </a:lnTo>
                  <a:lnTo>
                    <a:pt x="733" y="322"/>
                  </a:lnTo>
                  <a:lnTo>
                    <a:pt x="737" y="321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1"/>
                  </a:lnTo>
                  <a:lnTo>
                    <a:pt x="731" y="309"/>
                  </a:lnTo>
                  <a:lnTo>
                    <a:pt x="734" y="292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88120" y="1066680"/>
              <a:ext cx="2711160" cy="2030400"/>
            </a:xfrm>
            <a:custGeom>
              <a:avLst/>
              <a:gdLst/>
              <a:ahLst/>
              <a:rect l="l" t="t" r="r" b="b"/>
              <a:pathLst>
                <a:path w="3080" h="1948">
                  <a:moveTo>
                    <a:pt x="734" y="292"/>
                  </a:moveTo>
                  <a:lnTo>
                    <a:pt x="723" y="289"/>
                  </a:lnTo>
                  <a:lnTo>
                    <a:pt x="712" y="295"/>
                  </a:lnTo>
                  <a:lnTo>
                    <a:pt x="701" y="295"/>
                  </a:lnTo>
                  <a:lnTo>
                    <a:pt x="695" y="293"/>
                  </a:lnTo>
                  <a:lnTo>
                    <a:pt x="689" y="293"/>
                  </a:lnTo>
                  <a:lnTo>
                    <a:pt x="684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8" y="300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10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9" y="332"/>
                  </a:lnTo>
                  <a:lnTo>
                    <a:pt x="628" y="334"/>
                  </a:lnTo>
                  <a:lnTo>
                    <a:pt x="623" y="336"/>
                  </a:lnTo>
                  <a:lnTo>
                    <a:pt x="617" y="338"/>
                  </a:lnTo>
                  <a:lnTo>
                    <a:pt x="615" y="343"/>
                  </a:lnTo>
                  <a:lnTo>
                    <a:pt x="614" y="356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3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5"/>
                  </a:lnTo>
                  <a:lnTo>
                    <a:pt x="557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4" y="418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8"/>
                  </a:lnTo>
                  <a:lnTo>
                    <a:pt x="463" y="520"/>
                  </a:lnTo>
                  <a:lnTo>
                    <a:pt x="467" y="526"/>
                  </a:lnTo>
                  <a:lnTo>
                    <a:pt x="472" y="532"/>
                  </a:lnTo>
                  <a:lnTo>
                    <a:pt x="473" y="536"/>
                  </a:lnTo>
                  <a:lnTo>
                    <a:pt x="473" y="540"/>
                  </a:lnTo>
                  <a:lnTo>
                    <a:pt x="469" y="543"/>
                  </a:lnTo>
                  <a:lnTo>
                    <a:pt x="451" y="542"/>
                  </a:lnTo>
                  <a:lnTo>
                    <a:pt x="435" y="538"/>
                  </a:lnTo>
                  <a:lnTo>
                    <a:pt x="418" y="531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4" y="539"/>
                  </a:lnTo>
                  <a:lnTo>
                    <a:pt x="354" y="541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2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2"/>
                  </a:lnTo>
                  <a:lnTo>
                    <a:pt x="360" y="627"/>
                  </a:lnTo>
                  <a:lnTo>
                    <a:pt x="360" y="633"/>
                  </a:lnTo>
                  <a:lnTo>
                    <a:pt x="369" y="642"/>
                  </a:lnTo>
                  <a:lnTo>
                    <a:pt x="377" y="652"/>
                  </a:lnTo>
                  <a:lnTo>
                    <a:pt x="378" y="663"/>
                  </a:lnTo>
                  <a:lnTo>
                    <a:pt x="369" y="673"/>
                  </a:lnTo>
                  <a:lnTo>
                    <a:pt x="355" y="678"/>
                  </a:lnTo>
                  <a:lnTo>
                    <a:pt x="349" y="689"/>
                  </a:lnTo>
                  <a:lnTo>
                    <a:pt x="351" y="699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6"/>
                  </a:lnTo>
                  <a:lnTo>
                    <a:pt x="349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4" y="772"/>
                  </a:lnTo>
                  <a:lnTo>
                    <a:pt x="230" y="782"/>
                  </a:lnTo>
                  <a:lnTo>
                    <a:pt x="206" y="784"/>
                  </a:lnTo>
                  <a:lnTo>
                    <a:pt x="183" y="788"/>
                  </a:lnTo>
                  <a:lnTo>
                    <a:pt x="168" y="799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9"/>
                  </a:lnTo>
                  <a:lnTo>
                    <a:pt x="127" y="829"/>
                  </a:lnTo>
                  <a:lnTo>
                    <a:pt x="119" y="832"/>
                  </a:lnTo>
                  <a:lnTo>
                    <a:pt x="118" y="828"/>
                  </a:lnTo>
                  <a:lnTo>
                    <a:pt x="116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3"/>
                  </a:lnTo>
                  <a:lnTo>
                    <a:pt x="76" y="825"/>
                  </a:lnTo>
                  <a:lnTo>
                    <a:pt x="70" y="828"/>
                  </a:lnTo>
                  <a:lnTo>
                    <a:pt x="65" y="832"/>
                  </a:lnTo>
                  <a:lnTo>
                    <a:pt x="60" y="838"/>
                  </a:lnTo>
                  <a:lnTo>
                    <a:pt x="53" y="842"/>
                  </a:lnTo>
                  <a:lnTo>
                    <a:pt x="48" y="840"/>
                  </a:lnTo>
                  <a:lnTo>
                    <a:pt x="44" y="839"/>
                  </a:lnTo>
                  <a:lnTo>
                    <a:pt x="36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4"/>
                  </a:lnTo>
                  <a:lnTo>
                    <a:pt x="14" y="914"/>
                  </a:lnTo>
                  <a:lnTo>
                    <a:pt x="22" y="934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1"/>
                  </a:lnTo>
                  <a:lnTo>
                    <a:pt x="72" y="947"/>
                  </a:lnTo>
                  <a:lnTo>
                    <a:pt x="73" y="951"/>
                  </a:lnTo>
                  <a:lnTo>
                    <a:pt x="73" y="956"/>
                  </a:lnTo>
                  <a:lnTo>
                    <a:pt x="71" y="961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3"/>
                  </a:lnTo>
                  <a:lnTo>
                    <a:pt x="80" y="997"/>
                  </a:lnTo>
                  <a:lnTo>
                    <a:pt x="80" y="1002"/>
                  </a:lnTo>
                  <a:lnTo>
                    <a:pt x="82" y="1007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9"/>
                  </a:lnTo>
                  <a:lnTo>
                    <a:pt x="0" y="1037"/>
                  </a:lnTo>
                  <a:lnTo>
                    <a:pt x="2" y="1039"/>
                  </a:lnTo>
                  <a:lnTo>
                    <a:pt x="8" y="1041"/>
                  </a:lnTo>
                  <a:lnTo>
                    <a:pt x="18" y="1037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4"/>
                  </a:lnTo>
                  <a:lnTo>
                    <a:pt x="69" y="1026"/>
                  </a:lnTo>
                  <a:lnTo>
                    <a:pt x="82" y="1028"/>
                  </a:lnTo>
                  <a:lnTo>
                    <a:pt x="91" y="1029"/>
                  </a:lnTo>
                  <a:lnTo>
                    <a:pt x="96" y="1029"/>
                  </a:lnTo>
                  <a:lnTo>
                    <a:pt x="104" y="1030"/>
                  </a:lnTo>
                  <a:lnTo>
                    <a:pt x="115" y="1035"/>
                  </a:lnTo>
                  <a:lnTo>
                    <a:pt x="125" y="1044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7"/>
                  </a:lnTo>
                  <a:lnTo>
                    <a:pt x="134" y="1073"/>
                  </a:lnTo>
                  <a:lnTo>
                    <a:pt x="132" y="1078"/>
                  </a:lnTo>
                  <a:lnTo>
                    <a:pt x="131" y="1084"/>
                  </a:lnTo>
                  <a:lnTo>
                    <a:pt x="135" y="1089"/>
                  </a:lnTo>
                  <a:lnTo>
                    <a:pt x="141" y="1093"/>
                  </a:lnTo>
                  <a:lnTo>
                    <a:pt x="146" y="1094"/>
                  </a:lnTo>
                  <a:lnTo>
                    <a:pt x="153" y="1093"/>
                  </a:lnTo>
                  <a:lnTo>
                    <a:pt x="158" y="1093"/>
                  </a:lnTo>
                  <a:lnTo>
                    <a:pt x="162" y="1094"/>
                  </a:lnTo>
                  <a:lnTo>
                    <a:pt x="169" y="1097"/>
                  </a:lnTo>
                  <a:lnTo>
                    <a:pt x="186" y="1104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1" y="1117"/>
                  </a:lnTo>
                  <a:lnTo>
                    <a:pt x="224" y="1118"/>
                  </a:lnTo>
                  <a:lnTo>
                    <a:pt x="228" y="1115"/>
                  </a:lnTo>
                  <a:lnTo>
                    <a:pt x="236" y="1108"/>
                  </a:lnTo>
                  <a:lnTo>
                    <a:pt x="257" y="1095"/>
                  </a:lnTo>
                  <a:lnTo>
                    <a:pt x="288" y="1088"/>
                  </a:lnTo>
                  <a:lnTo>
                    <a:pt x="292" y="1089"/>
                  </a:lnTo>
                  <a:lnTo>
                    <a:pt x="301" y="1090"/>
                  </a:lnTo>
                  <a:lnTo>
                    <a:pt x="310" y="1092"/>
                  </a:lnTo>
                  <a:lnTo>
                    <a:pt x="321" y="1098"/>
                  </a:lnTo>
                  <a:lnTo>
                    <a:pt x="341" y="1108"/>
                  </a:lnTo>
                  <a:lnTo>
                    <a:pt x="354" y="1116"/>
                  </a:lnTo>
                  <a:lnTo>
                    <a:pt x="357" y="1119"/>
                  </a:lnTo>
                  <a:lnTo>
                    <a:pt x="358" y="1123"/>
                  </a:lnTo>
                  <a:lnTo>
                    <a:pt x="357" y="1130"/>
                  </a:lnTo>
                  <a:lnTo>
                    <a:pt x="350" y="1143"/>
                  </a:lnTo>
                  <a:lnTo>
                    <a:pt x="338" y="1160"/>
                  </a:lnTo>
                  <a:lnTo>
                    <a:pt x="330" y="1172"/>
                  </a:lnTo>
                  <a:lnTo>
                    <a:pt x="327" y="1175"/>
                  </a:lnTo>
                  <a:lnTo>
                    <a:pt x="318" y="1184"/>
                  </a:lnTo>
                  <a:lnTo>
                    <a:pt x="302" y="1195"/>
                  </a:lnTo>
                  <a:lnTo>
                    <a:pt x="279" y="1193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4"/>
                  </a:lnTo>
                  <a:lnTo>
                    <a:pt x="280" y="1227"/>
                  </a:lnTo>
                  <a:lnTo>
                    <a:pt x="292" y="1238"/>
                  </a:lnTo>
                  <a:lnTo>
                    <a:pt x="306" y="1247"/>
                  </a:lnTo>
                  <a:lnTo>
                    <a:pt x="312" y="1259"/>
                  </a:lnTo>
                  <a:lnTo>
                    <a:pt x="305" y="1274"/>
                  </a:lnTo>
                  <a:lnTo>
                    <a:pt x="296" y="1290"/>
                  </a:lnTo>
                  <a:lnTo>
                    <a:pt x="294" y="1292"/>
                  </a:lnTo>
                  <a:lnTo>
                    <a:pt x="290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5"/>
                  </a:lnTo>
                  <a:lnTo>
                    <a:pt x="270" y="1281"/>
                  </a:lnTo>
                  <a:lnTo>
                    <a:pt x="264" y="1280"/>
                  </a:lnTo>
                  <a:lnTo>
                    <a:pt x="258" y="1282"/>
                  </a:lnTo>
                  <a:lnTo>
                    <a:pt x="257" y="1286"/>
                  </a:lnTo>
                  <a:lnTo>
                    <a:pt x="266" y="1305"/>
                  </a:lnTo>
                  <a:lnTo>
                    <a:pt x="270" y="1324"/>
                  </a:lnTo>
                  <a:lnTo>
                    <a:pt x="264" y="1343"/>
                  </a:lnTo>
                  <a:lnTo>
                    <a:pt x="271" y="1344"/>
                  </a:lnTo>
                  <a:lnTo>
                    <a:pt x="278" y="1346"/>
                  </a:lnTo>
                  <a:lnTo>
                    <a:pt x="285" y="1345"/>
                  </a:lnTo>
                  <a:lnTo>
                    <a:pt x="292" y="1346"/>
                  </a:lnTo>
                  <a:lnTo>
                    <a:pt x="297" y="1355"/>
                  </a:lnTo>
                  <a:lnTo>
                    <a:pt x="301" y="1361"/>
                  </a:lnTo>
                  <a:lnTo>
                    <a:pt x="325" y="1372"/>
                  </a:lnTo>
                  <a:lnTo>
                    <a:pt x="347" y="1385"/>
                  </a:lnTo>
                  <a:lnTo>
                    <a:pt x="368" y="1400"/>
                  </a:lnTo>
                  <a:lnTo>
                    <a:pt x="373" y="1404"/>
                  </a:lnTo>
                  <a:lnTo>
                    <a:pt x="377" y="1408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5"/>
                  </a:lnTo>
                  <a:lnTo>
                    <a:pt x="398" y="1412"/>
                  </a:lnTo>
                  <a:lnTo>
                    <a:pt x="400" y="1409"/>
                  </a:lnTo>
                  <a:lnTo>
                    <a:pt x="405" y="1407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400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9"/>
                  </a:lnTo>
                  <a:lnTo>
                    <a:pt x="467" y="1428"/>
                  </a:lnTo>
                  <a:lnTo>
                    <a:pt x="480" y="1434"/>
                  </a:lnTo>
                  <a:lnTo>
                    <a:pt x="492" y="1441"/>
                  </a:lnTo>
                  <a:lnTo>
                    <a:pt x="500" y="1450"/>
                  </a:lnTo>
                  <a:lnTo>
                    <a:pt x="506" y="1461"/>
                  </a:lnTo>
                  <a:lnTo>
                    <a:pt x="514" y="1471"/>
                  </a:lnTo>
                  <a:lnTo>
                    <a:pt x="521" y="1472"/>
                  </a:lnTo>
                  <a:lnTo>
                    <a:pt x="526" y="1466"/>
                  </a:lnTo>
                  <a:lnTo>
                    <a:pt x="530" y="1459"/>
                  </a:lnTo>
                  <a:lnTo>
                    <a:pt x="536" y="1461"/>
                  </a:lnTo>
                  <a:lnTo>
                    <a:pt x="540" y="1468"/>
                  </a:lnTo>
                  <a:lnTo>
                    <a:pt x="542" y="1477"/>
                  </a:lnTo>
                  <a:lnTo>
                    <a:pt x="546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5"/>
                  </a:lnTo>
                  <a:lnTo>
                    <a:pt x="573" y="1497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9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3"/>
                  </a:lnTo>
                  <a:lnTo>
                    <a:pt x="603" y="1513"/>
                  </a:lnTo>
                  <a:lnTo>
                    <a:pt x="607" y="1511"/>
                  </a:lnTo>
                  <a:lnTo>
                    <a:pt x="614" y="1513"/>
                  </a:lnTo>
                  <a:lnTo>
                    <a:pt x="621" y="1517"/>
                  </a:lnTo>
                  <a:lnTo>
                    <a:pt x="628" y="1517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7"/>
                  </a:lnTo>
                  <a:lnTo>
                    <a:pt x="644" y="1526"/>
                  </a:lnTo>
                  <a:lnTo>
                    <a:pt x="652" y="1529"/>
                  </a:lnTo>
                  <a:lnTo>
                    <a:pt x="659" y="1528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4"/>
                  </a:lnTo>
                  <a:lnTo>
                    <a:pt x="684" y="1528"/>
                  </a:lnTo>
                  <a:lnTo>
                    <a:pt x="694" y="1534"/>
                  </a:lnTo>
                  <a:lnTo>
                    <a:pt x="709" y="1538"/>
                  </a:lnTo>
                  <a:lnTo>
                    <a:pt x="723" y="1538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3"/>
                  </a:lnTo>
                  <a:lnTo>
                    <a:pt x="757" y="1532"/>
                  </a:lnTo>
                  <a:lnTo>
                    <a:pt x="763" y="1529"/>
                  </a:lnTo>
                  <a:lnTo>
                    <a:pt x="768" y="1527"/>
                  </a:lnTo>
                  <a:lnTo>
                    <a:pt x="773" y="1528"/>
                  </a:lnTo>
                  <a:lnTo>
                    <a:pt x="775" y="1531"/>
                  </a:lnTo>
                  <a:lnTo>
                    <a:pt x="776" y="1540"/>
                  </a:lnTo>
                  <a:lnTo>
                    <a:pt x="777" y="1549"/>
                  </a:lnTo>
                  <a:lnTo>
                    <a:pt x="781" y="1557"/>
                  </a:lnTo>
                  <a:lnTo>
                    <a:pt x="781" y="1559"/>
                  </a:lnTo>
                  <a:lnTo>
                    <a:pt x="786" y="1554"/>
                  </a:lnTo>
                  <a:lnTo>
                    <a:pt x="794" y="1548"/>
                  </a:lnTo>
                  <a:lnTo>
                    <a:pt x="794" y="1539"/>
                  </a:lnTo>
                  <a:lnTo>
                    <a:pt x="796" y="1539"/>
                  </a:lnTo>
                  <a:lnTo>
                    <a:pt x="798" y="1538"/>
                  </a:lnTo>
                  <a:lnTo>
                    <a:pt x="800" y="1536"/>
                  </a:lnTo>
                  <a:lnTo>
                    <a:pt x="804" y="1533"/>
                  </a:lnTo>
                  <a:lnTo>
                    <a:pt x="807" y="1528"/>
                  </a:lnTo>
                  <a:lnTo>
                    <a:pt x="811" y="1524"/>
                  </a:lnTo>
                  <a:lnTo>
                    <a:pt x="818" y="1519"/>
                  </a:lnTo>
                  <a:lnTo>
                    <a:pt x="825" y="1514"/>
                  </a:lnTo>
                  <a:lnTo>
                    <a:pt x="834" y="1511"/>
                  </a:lnTo>
                  <a:lnTo>
                    <a:pt x="835" y="1512"/>
                  </a:lnTo>
                  <a:lnTo>
                    <a:pt x="838" y="1513"/>
                  </a:lnTo>
                  <a:lnTo>
                    <a:pt x="839" y="1516"/>
                  </a:lnTo>
                  <a:lnTo>
                    <a:pt x="843" y="1515"/>
                  </a:lnTo>
                  <a:lnTo>
                    <a:pt x="846" y="1514"/>
                  </a:lnTo>
                  <a:lnTo>
                    <a:pt x="849" y="1515"/>
                  </a:lnTo>
                  <a:lnTo>
                    <a:pt x="852" y="1518"/>
                  </a:lnTo>
                  <a:lnTo>
                    <a:pt x="856" y="1522"/>
                  </a:lnTo>
                  <a:lnTo>
                    <a:pt x="860" y="1523"/>
                  </a:lnTo>
                  <a:lnTo>
                    <a:pt x="868" y="1525"/>
                  </a:lnTo>
                  <a:lnTo>
                    <a:pt x="875" y="1527"/>
                  </a:lnTo>
                  <a:lnTo>
                    <a:pt x="883" y="1528"/>
                  </a:lnTo>
                  <a:lnTo>
                    <a:pt x="891" y="1528"/>
                  </a:lnTo>
                  <a:lnTo>
                    <a:pt x="898" y="1526"/>
                  </a:lnTo>
                  <a:lnTo>
                    <a:pt x="904" y="1526"/>
                  </a:lnTo>
                  <a:lnTo>
                    <a:pt x="911" y="1532"/>
                  </a:lnTo>
                  <a:lnTo>
                    <a:pt x="917" y="1541"/>
                  </a:lnTo>
                  <a:lnTo>
                    <a:pt x="922" y="1550"/>
                  </a:lnTo>
                  <a:lnTo>
                    <a:pt x="933" y="1545"/>
                  </a:lnTo>
                  <a:lnTo>
                    <a:pt x="946" y="1542"/>
                  </a:lnTo>
                  <a:lnTo>
                    <a:pt x="957" y="1540"/>
                  </a:lnTo>
                  <a:lnTo>
                    <a:pt x="971" y="1538"/>
                  </a:lnTo>
                  <a:lnTo>
                    <a:pt x="971" y="1525"/>
                  </a:lnTo>
                  <a:lnTo>
                    <a:pt x="983" y="1519"/>
                  </a:lnTo>
                  <a:lnTo>
                    <a:pt x="992" y="1511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8" y="1493"/>
                  </a:lnTo>
                  <a:lnTo>
                    <a:pt x="1017" y="1491"/>
                  </a:lnTo>
                  <a:lnTo>
                    <a:pt x="1027" y="1492"/>
                  </a:lnTo>
                  <a:lnTo>
                    <a:pt x="1036" y="1490"/>
                  </a:lnTo>
                  <a:lnTo>
                    <a:pt x="1049" y="1479"/>
                  </a:lnTo>
                  <a:lnTo>
                    <a:pt x="1061" y="1465"/>
                  </a:lnTo>
                  <a:lnTo>
                    <a:pt x="1076" y="1461"/>
                  </a:lnTo>
                  <a:lnTo>
                    <a:pt x="1084" y="1465"/>
                  </a:lnTo>
                  <a:lnTo>
                    <a:pt x="1093" y="1470"/>
                  </a:lnTo>
                  <a:lnTo>
                    <a:pt x="1103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8"/>
                  </a:lnTo>
                  <a:lnTo>
                    <a:pt x="1120" y="1470"/>
                  </a:lnTo>
                  <a:lnTo>
                    <a:pt x="1132" y="1460"/>
                  </a:lnTo>
                  <a:lnTo>
                    <a:pt x="1145" y="1460"/>
                  </a:lnTo>
                  <a:lnTo>
                    <a:pt x="1151" y="1468"/>
                  </a:lnTo>
                  <a:lnTo>
                    <a:pt x="1150" y="1477"/>
                  </a:lnTo>
                  <a:lnTo>
                    <a:pt x="1146" y="1488"/>
                  </a:lnTo>
                  <a:lnTo>
                    <a:pt x="1152" y="1484"/>
                  </a:lnTo>
                  <a:lnTo>
                    <a:pt x="1158" y="1481"/>
                  </a:lnTo>
                  <a:lnTo>
                    <a:pt x="1165" y="1478"/>
                  </a:lnTo>
                  <a:lnTo>
                    <a:pt x="1168" y="1483"/>
                  </a:lnTo>
                  <a:lnTo>
                    <a:pt x="1173" y="1486"/>
                  </a:lnTo>
                  <a:lnTo>
                    <a:pt x="1172" y="1491"/>
                  </a:lnTo>
                  <a:lnTo>
                    <a:pt x="1165" y="1498"/>
                  </a:lnTo>
                  <a:lnTo>
                    <a:pt x="1158" y="1502"/>
                  </a:lnTo>
                  <a:lnTo>
                    <a:pt x="1150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3" y="1511"/>
                  </a:lnTo>
                  <a:lnTo>
                    <a:pt x="1164" y="1511"/>
                  </a:lnTo>
                  <a:lnTo>
                    <a:pt x="1175" y="1511"/>
                  </a:lnTo>
                  <a:lnTo>
                    <a:pt x="1186" y="1515"/>
                  </a:lnTo>
                  <a:lnTo>
                    <a:pt x="1187" y="1509"/>
                  </a:lnTo>
                  <a:lnTo>
                    <a:pt x="1191" y="1511"/>
                  </a:lnTo>
                  <a:lnTo>
                    <a:pt x="1196" y="1511"/>
                  </a:lnTo>
                  <a:lnTo>
                    <a:pt x="1202" y="1516"/>
                  </a:lnTo>
                  <a:lnTo>
                    <a:pt x="1206" y="1518"/>
                  </a:lnTo>
                  <a:lnTo>
                    <a:pt x="1211" y="1517"/>
                  </a:lnTo>
                  <a:lnTo>
                    <a:pt x="1212" y="1514"/>
                  </a:lnTo>
                  <a:lnTo>
                    <a:pt x="1212" y="1512"/>
                  </a:lnTo>
                  <a:lnTo>
                    <a:pt x="1210" y="1508"/>
                  </a:lnTo>
                  <a:lnTo>
                    <a:pt x="1209" y="1505"/>
                  </a:lnTo>
                  <a:lnTo>
                    <a:pt x="1209" y="1501"/>
                  </a:lnTo>
                  <a:lnTo>
                    <a:pt x="1212" y="1502"/>
                  </a:lnTo>
                  <a:lnTo>
                    <a:pt x="1216" y="1501"/>
                  </a:lnTo>
                  <a:lnTo>
                    <a:pt x="1219" y="1501"/>
                  </a:lnTo>
                  <a:lnTo>
                    <a:pt x="1231" y="1510"/>
                  </a:lnTo>
                  <a:lnTo>
                    <a:pt x="1241" y="1520"/>
                  </a:lnTo>
                  <a:lnTo>
                    <a:pt x="1247" y="1531"/>
                  </a:lnTo>
                  <a:lnTo>
                    <a:pt x="1248" y="1540"/>
                  </a:lnTo>
                  <a:lnTo>
                    <a:pt x="1248" y="1547"/>
                  </a:lnTo>
                  <a:lnTo>
                    <a:pt x="1253" y="1553"/>
                  </a:lnTo>
                  <a:lnTo>
                    <a:pt x="1257" y="1552"/>
                  </a:lnTo>
                  <a:lnTo>
                    <a:pt x="1263" y="1551"/>
                  </a:lnTo>
                  <a:lnTo>
                    <a:pt x="1268" y="1552"/>
                  </a:lnTo>
                  <a:lnTo>
                    <a:pt x="1273" y="1558"/>
                  </a:lnTo>
                  <a:lnTo>
                    <a:pt x="1275" y="1566"/>
                  </a:lnTo>
                  <a:lnTo>
                    <a:pt x="1273" y="1575"/>
                  </a:lnTo>
                  <a:lnTo>
                    <a:pt x="1273" y="1586"/>
                  </a:lnTo>
                  <a:lnTo>
                    <a:pt x="1280" y="1598"/>
                  </a:lnTo>
                  <a:lnTo>
                    <a:pt x="1280" y="1611"/>
                  </a:lnTo>
                  <a:lnTo>
                    <a:pt x="1274" y="1622"/>
                  </a:lnTo>
                  <a:lnTo>
                    <a:pt x="1269" y="1632"/>
                  </a:lnTo>
                  <a:lnTo>
                    <a:pt x="1272" y="1643"/>
                  </a:lnTo>
                  <a:lnTo>
                    <a:pt x="1265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2" y="1672"/>
                  </a:lnTo>
                  <a:lnTo>
                    <a:pt x="1241" y="1679"/>
                  </a:lnTo>
                  <a:lnTo>
                    <a:pt x="1230" y="1685"/>
                  </a:lnTo>
                  <a:lnTo>
                    <a:pt x="1224" y="1692"/>
                  </a:lnTo>
                  <a:lnTo>
                    <a:pt x="1220" y="1702"/>
                  </a:lnTo>
                  <a:lnTo>
                    <a:pt x="1212" y="1709"/>
                  </a:lnTo>
                  <a:lnTo>
                    <a:pt x="1221" y="1725"/>
                  </a:lnTo>
                  <a:lnTo>
                    <a:pt x="1225" y="1741"/>
                  </a:lnTo>
                  <a:lnTo>
                    <a:pt x="1216" y="1756"/>
                  </a:lnTo>
                  <a:lnTo>
                    <a:pt x="1227" y="1749"/>
                  </a:lnTo>
                  <a:lnTo>
                    <a:pt x="1238" y="1744"/>
                  </a:lnTo>
                  <a:lnTo>
                    <a:pt x="1250" y="1738"/>
                  </a:lnTo>
                  <a:lnTo>
                    <a:pt x="1261" y="1735"/>
                  </a:lnTo>
                  <a:lnTo>
                    <a:pt x="1273" y="1735"/>
                  </a:lnTo>
                  <a:lnTo>
                    <a:pt x="1285" y="1740"/>
                  </a:lnTo>
                  <a:lnTo>
                    <a:pt x="1278" y="1749"/>
                  </a:lnTo>
                  <a:lnTo>
                    <a:pt x="1279" y="1761"/>
                  </a:lnTo>
                  <a:lnTo>
                    <a:pt x="1284" y="1773"/>
                  </a:lnTo>
                  <a:lnTo>
                    <a:pt x="1285" y="1778"/>
                  </a:lnTo>
                  <a:lnTo>
                    <a:pt x="1283" y="1784"/>
                  </a:lnTo>
                  <a:lnTo>
                    <a:pt x="1283" y="1788"/>
                  </a:lnTo>
                  <a:lnTo>
                    <a:pt x="1291" y="1793"/>
                  </a:lnTo>
                  <a:lnTo>
                    <a:pt x="1302" y="1792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2" y="1827"/>
                  </a:lnTo>
                  <a:lnTo>
                    <a:pt x="1304" y="1844"/>
                  </a:lnTo>
                  <a:lnTo>
                    <a:pt x="1313" y="1848"/>
                  </a:lnTo>
                  <a:lnTo>
                    <a:pt x="1326" y="1848"/>
                  </a:lnTo>
                  <a:lnTo>
                    <a:pt x="1336" y="1852"/>
                  </a:lnTo>
                  <a:lnTo>
                    <a:pt x="1338" y="1858"/>
                  </a:lnTo>
                  <a:lnTo>
                    <a:pt x="1335" y="1865"/>
                  </a:lnTo>
                  <a:lnTo>
                    <a:pt x="1331" y="1871"/>
                  </a:lnTo>
                  <a:lnTo>
                    <a:pt x="1336" y="1872"/>
                  </a:lnTo>
                  <a:lnTo>
                    <a:pt x="1340" y="1874"/>
                  </a:lnTo>
                  <a:lnTo>
                    <a:pt x="1344" y="1876"/>
                  </a:lnTo>
                  <a:lnTo>
                    <a:pt x="1344" y="1878"/>
                  </a:lnTo>
                  <a:lnTo>
                    <a:pt x="1342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5"/>
                  </a:lnTo>
                  <a:lnTo>
                    <a:pt x="1397" y="1871"/>
                  </a:lnTo>
                  <a:lnTo>
                    <a:pt x="1396" y="1874"/>
                  </a:lnTo>
                  <a:lnTo>
                    <a:pt x="1395" y="1876"/>
                  </a:lnTo>
                  <a:lnTo>
                    <a:pt x="1395" y="1876"/>
                  </a:lnTo>
                  <a:lnTo>
                    <a:pt x="1393" y="1882"/>
                  </a:lnTo>
                  <a:lnTo>
                    <a:pt x="1398" y="1885"/>
                  </a:lnTo>
                  <a:lnTo>
                    <a:pt x="1406" y="1892"/>
                  </a:lnTo>
                  <a:lnTo>
                    <a:pt x="1413" y="1897"/>
                  </a:lnTo>
                  <a:lnTo>
                    <a:pt x="1418" y="1898"/>
                  </a:lnTo>
                  <a:lnTo>
                    <a:pt x="1423" y="1898"/>
                  </a:lnTo>
                  <a:lnTo>
                    <a:pt x="1429" y="1894"/>
                  </a:lnTo>
                  <a:lnTo>
                    <a:pt x="1432" y="1886"/>
                  </a:lnTo>
                  <a:lnTo>
                    <a:pt x="1430" y="1878"/>
                  </a:lnTo>
                  <a:lnTo>
                    <a:pt x="1429" y="1874"/>
                  </a:lnTo>
                  <a:lnTo>
                    <a:pt x="1426" y="1871"/>
                  </a:lnTo>
                  <a:lnTo>
                    <a:pt x="1421" y="1863"/>
                  </a:lnTo>
                  <a:lnTo>
                    <a:pt x="1418" y="1853"/>
                  </a:lnTo>
                  <a:lnTo>
                    <a:pt x="1417" y="1846"/>
                  </a:lnTo>
                  <a:lnTo>
                    <a:pt x="1416" y="1843"/>
                  </a:lnTo>
                  <a:lnTo>
                    <a:pt x="1414" y="1842"/>
                  </a:lnTo>
                  <a:lnTo>
                    <a:pt x="1412" y="1839"/>
                  </a:lnTo>
                  <a:lnTo>
                    <a:pt x="1411" y="1834"/>
                  </a:lnTo>
                  <a:lnTo>
                    <a:pt x="1413" y="1828"/>
                  </a:lnTo>
                  <a:lnTo>
                    <a:pt x="1419" y="1824"/>
                  </a:lnTo>
                  <a:lnTo>
                    <a:pt x="1425" y="1824"/>
                  </a:lnTo>
                  <a:lnTo>
                    <a:pt x="1431" y="1825"/>
                  </a:lnTo>
                  <a:lnTo>
                    <a:pt x="1437" y="1828"/>
                  </a:lnTo>
                  <a:lnTo>
                    <a:pt x="1445" y="1832"/>
                  </a:lnTo>
                  <a:lnTo>
                    <a:pt x="1451" y="1834"/>
                  </a:lnTo>
                  <a:lnTo>
                    <a:pt x="1452" y="1832"/>
                  </a:lnTo>
                  <a:lnTo>
                    <a:pt x="1453" y="1830"/>
                  </a:lnTo>
                  <a:lnTo>
                    <a:pt x="1453" y="1829"/>
                  </a:lnTo>
                  <a:lnTo>
                    <a:pt x="1455" y="1821"/>
                  </a:lnTo>
                  <a:lnTo>
                    <a:pt x="1457" y="1816"/>
                  </a:lnTo>
                  <a:lnTo>
                    <a:pt x="1460" y="1809"/>
                  </a:lnTo>
                  <a:lnTo>
                    <a:pt x="1462" y="1808"/>
                  </a:lnTo>
                  <a:lnTo>
                    <a:pt x="1466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4" y="1822"/>
                  </a:lnTo>
                  <a:lnTo>
                    <a:pt x="1492" y="1823"/>
                  </a:lnTo>
                  <a:lnTo>
                    <a:pt x="1496" y="1819"/>
                  </a:lnTo>
                  <a:lnTo>
                    <a:pt x="1500" y="1811"/>
                  </a:lnTo>
                  <a:lnTo>
                    <a:pt x="1506" y="1807"/>
                  </a:lnTo>
                  <a:lnTo>
                    <a:pt x="1517" y="1807"/>
                  </a:lnTo>
                  <a:lnTo>
                    <a:pt x="1526" y="1811"/>
                  </a:lnTo>
                  <a:lnTo>
                    <a:pt x="1532" y="1822"/>
                  </a:lnTo>
                  <a:lnTo>
                    <a:pt x="1539" y="1819"/>
                  </a:lnTo>
                  <a:lnTo>
                    <a:pt x="1547" y="1815"/>
                  </a:lnTo>
                  <a:lnTo>
                    <a:pt x="1552" y="1809"/>
                  </a:lnTo>
                  <a:lnTo>
                    <a:pt x="1554" y="1811"/>
                  </a:lnTo>
                  <a:lnTo>
                    <a:pt x="1555" y="1813"/>
                  </a:lnTo>
                  <a:lnTo>
                    <a:pt x="1555" y="1815"/>
                  </a:lnTo>
                  <a:lnTo>
                    <a:pt x="1558" y="1816"/>
                  </a:lnTo>
                  <a:lnTo>
                    <a:pt x="1560" y="1816"/>
                  </a:lnTo>
                  <a:lnTo>
                    <a:pt x="1561" y="1815"/>
                  </a:lnTo>
                  <a:lnTo>
                    <a:pt x="1562" y="1813"/>
                  </a:lnTo>
                  <a:lnTo>
                    <a:pt x="1562" y="1811"/>
                  </a:lnTo>
                  <a:lnTo>
                    <a:pt x="1562" y="1809"/>
                  </a:lnTo>
                  <a:lnTo>
                    <a:pt x="1568" y="1807"/>
                  </a:lnTo>
                  <a:lnTo>
                    <a:pt x="1574" y="1807"/>
                  </a:lnTo>
                  <a:lnTo>
                    <a:pt x="1581" y="1809"/>
                  </a:lnTo>
                  <a:lnTo>
                    <a:pt x="1579" y="1796"/>
                  </a:lnTo>
                  <a:lnTo>
                    <a:pt x="1583" y="1785"/>
                  </a:lnTo>
                  <a:lnTo>
                    <a:pt x="1592" y="1777"/>
                  </a:lnTo>
                  <a:lnTo>
                    <a:pt x="1603" y="1777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1" y="1799"/>
                  </a:lnTo>
                  <a:lnTo>
                    <a:pt x="1642" y="1799"/>
                  </a:lnTo>
                  <a:lnTo>
                    <a:pt x="1654" y="1802"/>
                  </a:lnTo>
                  <a:lnTo>
                    <a:pt x="1662" y="1802"/>
                  </a:lnTo>
                  <a:lnTo>
                    <a:pt x="1670" y="1799"/>
                  </a:lnTo>
                  <a:lnTo>
                    <a:pt x="1676" y="1800"/>
                  </a:lnTo>
                  <a:lnTo>
                    <a:pt x="1680" y="1802"/>
                  </a:lnTo>
                  <a:lnTo>
                    <a:pt x="1684" y="1804"/>
                  </a:lnTo>
                  <a:lnTo>
                    <a:pt x="1683" y="1808"/>
                  </a:lnTo>
                  <a:lnTo>
                    <a:pt x="1679" y="1820"/>
                  </a:lnTo>
                  <a:lnTo>
                    <a:pt x="1675" y="1831"/>
                  </a:lnTo>
                  <a:lnTo>
                    <a:pt x="1670" y="1842"/>
                  </a:lnTo>
                  <a:lnTo>
                    <a:pt x="1681" y="1845"/>
                  </a:lnTo>
                  <a:lnTo>
                    <a:pt x="1689" y="1853"/>
                  </a:lnTo>
                  <a:lnTo>
                    <a:pt x="1697" y="1861"/>
                  </a:lnTo>
                  <a:lnTo>
                    <a:pt x="1707" y="1864"/>
                  </a:lnTo>
                  <a:lnTo>
                    <a:pt x="1716" y="1865"/>
                  </a:lnTo>
                  <a:lnTo>
                    <a:pt x="1727" y="1866"/>
                  </a:lnTo>
                  <a:lnTo>
                    <a:pt x="1730" y="1867"/>
                  </a:lnTo>
                  <a:lnTo>
                    <a:pt x="1732" y="1869"/>
                  </a:lnTo>
                  <a:lnTo>
                    <a:pt x="1734" y="1871"/>
                  </a:lnTo>
                  <a:lnTo>
                    <a:pt x="1737" y="1875"/>
                  </a:lnTo>
                  <a:lnTo>
                    <a:pt x="1750" y="1877"/>
                  </a:lnTo>
                  <a:lnTo>
                    <a:pt x="1748" y="1880"/>
                  </a:lnTo>
                  <a:lnTo>
                    <a:pt x="1761" y="1882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1"/>
                  </a:lnTo>
                  <a:lnTo>
                    <a:pt x="1820" y="1911"/>
                  </a:lnTo>
                  <a:lnTo>
                    <a:pt x="1821" y="1921"/>
                  </a:lnTo>
                  <a:lnTo>
                    <a:pt x="1832" y="1939"/>
                  </a:lnTo>
                  <a:lnTo>
                    <a:pt x="1849" y="1948"/>
                  </a:lnTo>
                  <a:lnTo>
                    <a:pt x="1869" y="1946"/>
                  </a:lnTo>
                  <a:lnTo>
                    <a:pt x="1871" y="1943"/>
                  </a:lnTo>
                  <a:lnTo>
                    <a:pt x="1868" y="1940"/>
                  </a:lnTo>
                  <a:lnTo>
                    <a:pt x="1870" y="1934"/>
                  </a:lnTo>
                  <a:lnTo>
                    <a:pt x="1860" y="1931"/>
                  </a:lnTo>
                  <a:lnTo>
                    <a:pt x="1851" y="1929"/>
                  </a:lnTo>
                  <a:lnTo>
                    <a:pt x="1848" y="1922"/>
                  </a:lnTo>
                  <a:lnTo>
                    <a:pt x="1855" y="1901"/>
                  </a:lnTo>
                  <a:lnTo>
                    <a:pt x="1865" y="1882"/>
                  </a:lnTo>
                  <a:lnTo>
                    <a:pt x="1879" y="1868"/>
                  </a:lnTo>
                  <a:lnTo>
                    <a:pt x="1901" y="1864"/>
                  </a:lnTo>
                  <a:lnTo>
                    <a:pt x="1927" y="1868"/>
                  </a:lnTo>
                  <a:lnTo>
                    <a:pt x="1951" y="1862"/>
                  </a:lnTo>
                  <a:lnTo>
                    <a:pt x="1961" y="1857"/>
                  </a:lnTo>
                  <a:lnTo>
                    <a:pt x="1972" y="1853"/>
                  </a:lnTo>
                  <a:lnTo>
                    <a:pt x="1982" y="1850"/>
                  </a:lnTo>
                  <a:lnTo>
                    <a:pt x="1991" y="1840"/>
                  </a:lnTo>
                  <a:lnTo>
                    <a:pt x="2001" y="1828"/>
                  </a:lnTo>
                  <a:lnTo>
                    <a:pt x="2015" y="1826"/>
                  </a:lnTo>
                  <a:lnTo>
                    <a:pt x="2017" y="1829"/>
                  </a:lnTo>
                  <a:lnTo>
                    <a:pt x="2019" y="1832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4"/>
                  </a:lnTo>
                  <a:lnTo>
                    <a:pt x="2025" y="1832"/>
                  </a:lnTo>
                  <a:lnTo>
                    <a:pt x="2028" y="1827"/>
                  </a:lnTo>
                  <a:lnTo>
                    <a:pt x="2035" y="1822"/>
                  </a:lnTo>
                  <a:lnTo>
                    <a:pt x="2035" y="1823"/>
                  </a:lnTo>
                  <a:lnTo>
                    <a:pt x="2036" y="1825"/>
                  </a:lnTo>
                  <a:lnTo>
                    <a:pt x="2043" y="1825"/>
                  </a:lnTo>
                  <a:lnTo>
                    <a:pt x="2047" y="1824"/>
                  </a:lnTo>
                  <a:lnTo>
                    <a:pt x="2057" y="1821"/>
                  </a:lnTo>
                  <a:lnTo>
                    <a:pt x="2064" y="1825"/>
                  </a:lnTo>
                  <a:lnTo>
                    <a:pt x="2068" y="1832"/>
                  </a:lnTo>
                  <a:lnTo>
                    <a:pt x="2078" y="1824"/>
                  </a:lnTo>
                  <a:lnTo>
                    <a:pt x="2091" y="1819"/>
                  </a:lnTo>
                  <a:lnTo>
                    <a:pt x="2104" y="1817"/>
                  </a:lnTo>
                  <a:lnTo>
                    <a:pt x="2106" y="1816"/>
                  </a:lnTo>
                  <a:lnTo>
                    <a:pt x="2110" y="1814"/>
                  </a:lnTo>
                  <a:lnTo>
                    <a:pt x="2114" y="1812"/>
                  </a:lnTo>
                  <a:lnTo>
                    <a:pt x="2128" y="1811"/>
                  </a:lnTo>
                  <a:lnTo>
                    <a:pt x="2141" y="1811"/>
                  </a:lnTo>
                  <a:lnTo>
                    <a:pt x="2153" y="1810"/>
                  </a:lnTo>
                  <a:lnTo>
                    <a:pt x="2170" y="1798"/>
                  </a:lnTo>
                  <a:lnTo>
                    <a:pt x="2183" y="1781"/>
                  </a:lnTo>
                  <a:lnTo>
                    <a:pt x="2200" y="1772"/>
                  </a:lnTo>
                  <a:lnTo>
                    <a:pt x="2217" y="1766"/>
                  </a:lnTo>
                  <a:lnTo>
                    <a:pt x="2231" y="1753"/>
                  </a:lnTo>
                  <a:lnTo>
                    <a:pt x="2246" y="1743"/>
                  </a:lnTo>
                  <a:lnTo>
                    <a:pt x="2244" y="1740"/>
                  </a:lnTo>
                  <a:lnTo>
                    <a:pt x="2243" y="1736"/>
                  </a:lnTo>
                  <a:lnTo>
                    <a:pt x="2244" y="1733"/>
                  </a:lnTo>
                  <a:lnTo>
                    <a:pt x="2263" y="1711"/>
                  </a:lnTo>
                  <a:lnTo>
                    <a:pt x="2287" y="1697"/>
                  </a:lnTo>
                  <a:lnTo>
                    <a:pt x="2316" y="1692"/>
                  </a:lnTo>
                  <a:lnTo>
                    <a:pt x="2322" y="1689"/>
                  </a:lnTo>
                  <a:lnTo>
                    <a:pt x="2329" y="1684"/>
                  </a:lnTo>
                  <a:lnTo>
                    <a:pt x="2336" y="1680"/>
                  </a:lnTo>
                  <a:lnTo>
                    <a:pt x="2325" y="1678"/>
                  </a:lnTo>
                  <a:lnTo>
                    <a:pt x="2315" y="1682"/>
                  </a:lnTo>
                  <a:lnTo>
                    <a:pt x="2308" y="1682"/>
                  </a:lnTo>
                  <a:lnTo>
                    <a:pt x="2308" y="1673"/>
                  </a:lnTo>
                  <a:lnTo>
                    <a:pt x="2316" y="1664"/>
                  </a:lnTo>
                  <a:lnTo>
                    <a:pt x="2318" y="1654"/>
                  </a:lnTo>
                  <a:lnTo>
                    <a:pt x="2316" y="1650"/>
                  </a:lnTo>
                  <a:lnTo>
                    <a:pt x="2316" y="1647"/>
                  </a:lnTo>
                  <a:lnTo>
                    <a:pt x="2317" y="1644"/>
                  </a:lnTo>
                  <a:lnTo>
                    <a:pt x="2330" y="1626"/>
                  </a:lnTo>
                  <a:lnTo>
                    <a:pt x="2343" y="1609"/>
                  </a:lnTo>
                  <a:lnTo>
                    <a:pt x="2356" y="1592"/>
                  </a:lnTo>
                  <a:lnTo>
                    <a:pt x="2373" y="1569"/>
                  </a:lnTo>
                  <a:lnTo>
                    <a:pt x="2388" y="1546"/>
                  </a:lnTo>
                  <a:lnTo>
                    <a:pt x="2408" y="1525"/>
                  </a:lnTo>
                  <a:lnTo>
                    <a:pt x="2414" y="1516"/>
                  </a:lnTo>
                  <a:lnTo>
                    <a:pt x="2415" y="1506"/>
                  </a:lnTo>
                  <a:lnTo>
                    <a:pt x="2421" y="1497"/>
                  </a:lnTo>
                  <a:lnTo>
                    <a:pt x="2422" y="1495"/>
                  </a:lnTo>
                  <a:lnTo>
                    <a:pt x="2421" y="1491"/>
                  </a:lnTo>
                  <a:lnTo>
                    <a:pt x="2418" y="1488"/>
                  </a:lnTo>
                  <a:lnTo>
                    <a:pt x="2428" y="1470"/>
                  </a:lnTo>
                  <a:lnTo>
                    <a:pt x="2438" y="1452"/>
                  </a:lnTo>
                  <a:lnTo>
                    <a:pt x="2452" y="1437"/>
                  </a:lnTo>
                  <a:lnTo>
                    <a:pt x="2456" y="1436"/>
                  </a:lnTo>
                  <a:lnTo>
                    <a:pt x="2461" y="1434"/>
                  </a:lnTo>
                  <a:lnTo>
                    <a:pt x="2463" y="1432"/>
                  </a:lnTo>
                  <a:lnTo>
                    <a:pt x="2464" y="1419"/>
                  </a:lnTo>
                  <a:lnTo>
                    <a:pt x="2462" y="1406"/>
                  </a:lnTo>
                  <a:lnTo>
                    <a:pt x="2465" y="1393"/>
                  </a:lnTo>
                  <a:lnTo>
                    <a:pt x="2451" y="1387"/>
                  </a:lnTo>
                  <a:lnTo>
                    <a:pt x="2439" y="1383"/>
                  </a:lnTo>
                  <a:lnTo>
                    <a:pt x="2425" y="1379"/>
                  </a:lnTo>
                  <a:lnTo>
                    <a:pt x="2425" y="1373"/>
                  </a:lnTo>
                  <a:lnTo>
                    <a:pt x="2421" y="1368"/>
                  </a:lnTo>
                  <a:lnTo>
                    <a:pt x="2420" y="1363"/>
                  </a:lnTo>
                  <a:lnTo>
                    <a:pt x="2422" y="1351"/>
                  </a:lnTo>
                  <a:lnTo>
                    <a:pt x="2426" y="1339"/>
                  </a:lnTo>
                  <a:lnTo>
                    <a:pt x="2435" y="1330"/>
                  </a:lnTo>
                  <a:lnTo>
                    <a:pt x="2427" y="1329"/>
                  </a:lnTo>
                  <a:lnTo>
                    <a:pt x="2419" y="1329"/>
                  </a:lnTo>
                  <a:lnTo>
                    <a:pt x="2411" y="1328"/>
                  </a:lnTo>
                  <a:lnTo>
                    <a:pt x="2399" y="1330"/>
                  </a:lnTo>
                  <a:lnTo>
                    <a:pt x="2386" y="1333"/>
                  </a:lnTo>
                  <a:lnTo>
                    <a:pt x="2372" y="1332"/>
                  </a:lnTo>
                  <a:lnTo>
                    <a:pt x="2359" y="1325"/>
                  </a:lnTo>
                  <a:lnTo>
                    <a:pt x="2345" y="1317"/>
                  </a:lnTo>
                  <a:lnTo>
                    <a:pt x="2329" y="1313"/>
                  </a:lnTo>
                  <a:lnTo>
                    <a:pt x="2347" y="1314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9" y="1311"/>
                  </a:lnTo>
                  <a:lnTo>
                    <a:pt x="2396" y="1302"/>
                  </a:lnTo>
                  <a:lnTo>
                    <a:pt x="2405" y="1295"/>
                  </a:lnTo>
                  <a:lnTo>
                    <a:pt x="2413" y="1293"/>
                  </a:lnTo>
                  <a:lnTo>
                    <a:pt x="2418" y="1291"/>
                  </a:lnTo>
                  <a:lnTo>
                    <a:pt x="2425" y="1287"/>
                  </a:lnTo>
                  <a:lnTo>
                    <a:pt x="2414" y="1283"/>
                  </a:lnTo>
                  <a:lnTo>
                    <a:pt x="2404" y="1278"/>
                  </a:lnTo>
                  <a:lnTo>
                    <a:pt x="2397" y="1272"/>
                  </a:lnTo>
                  <a:lnTo>
                    <a:pt x="2385" y="1255"/>
                  </a:lnTo>
                  <a:lnTo>
                    <a:pt x="2376" y="1236"/>
                  </a:lnTo>
                  <a:lnTo>
                    <a:pt x="2370" y="1215"/>
                  </a:lnTo>
                  <a:lnTo>
                    <a:pt x="2360" y="1207"/>
                  </a:lnTo>
                  <a:lnTo>
                    <a:pt x="2345" y="1203"/>
                  </a:lnTo>
                  <a:lnTo>
                    <a:pt x="2333" y="1194"/>
                  </a:lnTo>
                  <a:lnTo>
                    <a:pt x="2330" y="1186"/>
                  </a:lnTo>
                  <a:lnTo>
                    <a:pt x="2328" y="1177"/>
                  </a:lnTo>
                  <a:lnTo>
                    <a:pt x="2324" y="1169"/>
                  </a:lnTo>
                  <a:lnTo>
                    <a:pt x="2319" y="1165"/>
                  </a:lnTo>
                  <a:lnTo>
                    <a:pt x="2313" y="1164"/>
                  </a:lnTo>
                  <a:lnTo>
                    <a:pt x="2306" y="1161"/>
                  </a:lnTo>
                  <a:lnTo>
                    <a:pt x="2312" y="1156"/>
                  </a:lnTo>
                  <a:lnTo>
                    <a:pt x="2313" y="1149"/>
                  </a:lnTo>
                  <a:lnTo>
                    <a:pt x="2316" y="1142"/>
                  </a:lnTo>
                  <a:lnTo>
                    <a:pt x="2325" y="1137"/>
                  </a:lnTo>
                  <a:lnTo>
                    <a:pt x="2334" y="1131"/>
                  </a:lnTo>
                  <a:lnTo>
                    <a:pt x="2341" y="1125"/>
                  </a:lnTo>
                  <a:lnTo>
                    <a:pt x="2348" y="1111"/>
                  </a:lnTo>
                  <a:lnTo>
                    <a:pt x="2352" y="1097"/>
                  </a:lnTo>
                  <a:lnTo>
                    <a:pt x="2349" y="1083"/>
                  </a:lnTo>
                  <a:lnTo>
                    <a:pt x="2363" y="1089"/>
                  </a:lnTo>
                  <a:lnTo>
                    <a:pt x="2376" y="1086"/>
                  </a:lnTo>
                  <a:lnTo>
                    <a:pt x="2387" y="1077"/>
                  </a:lnTo>
                  <a:lnTo>
                    <a:pt x="2418" y="1051"/>
                  </a:lnTo>
                  <a:lnTo>
                    <a:pt x="2456" y="1039"/>
                  </a:lnTo>
                  <a:lnTo>
                    <a:pt x="2498" y="1036"/>
                  </a:lnTo>
                  <a:lnTo>
                    <a:pt x="2499" y="1031"/>
                  </a:lnTo>
                  <a:lnTo>
                    <a:pt x="2501" y="1020"/>
                  </a:lnTo>
                  <a:lnTo>
                    <a:pt x="2506" y="1009"/>
                  </a:lnTo>
                  <a:lnTo>
                    <a:pt x="2509" y="1003"/>
                  </a:lnTo>
                  <a:lnTo>
                    <a:pt x="2509" y="996"/>
                  </a:lnTo>
                  <a:lnTo>
                    <a:pt x="2506" y="991"/>
                  </a:lnTo>
                  <a:lnTo>
                    <a:pt x="2483" y="981"/>
                  </a:lnTo>
                  <a:lnTo>
                    <a:pt x="2458" y="979"/>
                  </a:lnTo>
                  <a:lnTo>
                    <a:pt x="2438" y="993"/>
                  </a:lnTo>
                  <a:lnTo>
                    <a:pt x="2411" y="976"/>
                  </a:lnTo>
                  <a:lnTo>
                    <a:pt x="2379" y="970"/>
                  </a:lnTo>
                  <a:lnTo>
                    <a:pt x="2346" y="970"/>
                  </a:lnTo>
                  <a:lnTo>
                    <a:pt x="2346" y="978"/>
                  </a:lnTo>
                  <a:lnTo>
                    <a:pt x="2346" y="985"/>
                  </a:lnTo>
                  <a:lnTo>
                    <a:pt x="2345" y="993"/>
                  </a:lnTo>
                  <a:lnTo>
                    <a:pt x="2335" y="1010"/>
                  </a:lnTo>
                  <a:lnTo>
                    <a:pt x="2318" y="1021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6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9" y="963"/>
                  </a:lnTo>
                  <a:lnTo>
                    <a:pt x="2237" y="959"/>
                  </a:lnTo>
                  <a:lnTo>
                    <a:pt x="2226" y="950"/>
                  </a:lnTo>
                  <a:lnTo>
                    <a:pt x="2223" y="937"/>
                  </a:lnTo>
                  <a:lnTo>
                    <a:pt x="2228" y="925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3" y="911"/>
                  </a:lnTo>
                  <a:lnTo>
                    <a:pt x="2255" y="913"/>
                  </a:lnTo>
                  <a:lnTo>
                    <a:pt x="2258" y="914"/>
                  </a:lnTo>
                  <a:lnTo>
                    <a:pt x="2260" y="917"/>
                  </a:lnTo>
                  <a:lnTo>
                    <a:pt x="2273" y="916"/>
                  </a:lnTo>
                  <a:lnTo>
                    <a:pt x="2286" y="912"/>
                  </a:lnTo>
                  <a:lnTo>
                    <a:pt x="2299" y="911"/>
                  </a:lnTo>
                  <a:lnTo>
                    <a:pt x="2302" y="905"/>
                  </a:lnTo>
                  <a:lnTo>
                    <a:pt x="2308" y="904"/>
                  </a:lnTo>
                  <a:lnTo>
                    <a:pt x="2312" y="901"/>
                  </a:lnTo>
                  <a:lnTo>
                    <a:pt x="2312" y="890"/>
                  </a:lnTo>
                  <a:lnTo>
                    <a:pt x="2313" y="881"/>
                  </a:lnTo>
                  <a:lnTo>
                    <a:pt x="2317" y="872"/>
                  </a:lnTo>
                  <a:lnTo>
                    <a:pt x="2329" y="862"/>
                  </a:lnTo>
                  <a:lnTo>
                    <a:pt x="2344" y="857"/>
                  </a:lnTo>
                  <a:lnTo>
                    <a:pt x="2359" y="851"/>
                  </a:lnTo>
                  <a:lnTo>
                    <a:pt x="2371" y="841"/>
                  </a:lnTo>
                  <a:lnTo>
                    <a:pt x="2383" y="833"/>
                  </a:lnTo>
                  <a:lnTo>
                    <a:pt x="2395" y="827"/>
                  </a:lnTo>
                  <a:lnTo>
                    <a:pt x="2406" y="825"/>
                  </a:lnTo>
                  <a:lnTo>
                    <a:pt x="2417" y="825"/>
                  </a:lnTo>
                  <a:lnTo>
                    <a:pt x="2427" y="827"/>
                  </a:lnTo>
                  <a:lnTo>
                    <a:pt x="2430" y="832"/>
                  </a:lnTo>
                  <a:lnTo>
                    <a:pt x="2428" y="842"/>
                  </a:lnTo>
                  <a:lnTo>
                    <a:pt x="2427" y="851"/>
                  </a:lnTo>
                  <a:lnTo>
                    <a:pt x="2425" y="858"/>
                  </a:lnTo>
                  <a:lnTo>
                    <a:pt x="2420" y="865"/>
                  </a:lnTo>
                  <a:lnTo>
                    <a:pt x="2414" y="870"/>
                  </a:lnTo>
                  <a:lnTo>
                    <a:pt x="2406" y="873"/>
                  </a:lnTo>
                  <a:lnTo>
                    <a:pt x="2399" y="878"/>
                  </a:lnTo>
                  <a:lnTo>
                    <a:pt x="2397" y="884"/>
                  </a:lnTo>
                  <a:lnTo>
                    <a:pt x="2405" y="895"/>
                  </a:lnTo>
                  <a:lnTo>
                    <a:pt x="2420" y="896"/>
                  </a:lnTo>
                  <a:lnTo>
                    <a:pt x="2438" y="898"/>
                  </a:lnTo>
                  <a:lnTo>
                    <a:pt x="2428" y="914"/>
                  </a:lnTo>
                  <a:lnTo>
                    <a:pt x="2415" y="927"/>
                  </a:lnTo>
                  <a:lnTo>
                    <a:pt x="2398" y="937"/>
                  </a:lnTo>
                  <a:lnTo>
                    <a:pt x="2406" y="943"/>
                  </a:lnTo>
                  <a:lnTo>
                    <a:pt x="2415" y="945"/>
                  </a:lnTo>
                  <a:lnTo>
                    <a:pt x="2419" y="940"/>
                  </a:lnTo>
                  <a:lnTo>
                    <a:pt x="2433" y="916"/>
                  </a:lnTo>
                  <a:lnTo>
                    <a:pt x="2456" y="902"/>
                  </a:lnTo>
                  <a:lnTo>
                    <a:pt x="2480" y="892"/>
                  </a:lnTo>
                  <a:lnTo>
                    <a:pt x="2505" y="881"/>
                  </a:lnTo>
                  <a:lnTo>
                    <a:pt x="2531" y="872"/>
                  </a:lnTo>
                  <a:lnTo>
                    <a:pt x="2558" y="865"/>
                  </a:lnTo>
                  <a:lnTo>
                    <a:pt x="2558" y="861"/>
                  </a:lnTo>
                  <a:lnTo>
                    <a:pt x="2556" y="855"/>
                  </a:lnTo>
                  <a:lnTo>
                    <a:pt x="2556" y="848"/>
                  </a:lnTo>
                  <a:lnTo>
                    <a:pt x="2559" y="843"/>
                  </a:lnTo>
                  <a:lnTo>
                    <a:pt x="2593" y="818"/>
                  </a:lnTo>
                  <a:lnTo>
                    <a:pt x="2631" y="801"/>
                  </a:lnTo>
                  <a:lnTo>
                    <a:pt x="2665" y="775"/>
                  </a:lnTo>
                  <a:lnTo>
                    <a:pt x="2669" y="768"/>
                  </a:lnTo>
                  <a:lnTo>
                    <a:pt x="2671" y="761"/>
                  </a:lnTo>
                  <a:lnTo>
                    <a:pt x="2676" y="757"/>
                  </a:lnTo>
                  <a:lnTo>
                    <a:pt x="2684" y="755"/>
                  </a:lnTo>
                  <a:lnTo>
                    <a:pt x="2690" y="752"/>
                  </a:lnTo>
                  <a:lnTo>
                    <a:pt x="2693" y="753"/>
                  </a:lnTo>
                  <a:lnTo>
                    <a:pt x="2703" y="768"/>
                  </a:lnTo>
                  <a:lnTo>
                    <a:pt x="2718" y="776"/>
                  </a:lnTo>
                  <a:lnTo>
                    <a:pt x="2735" y="777"/>
                  </a:lnTo>
                  <a:lnTo>
                    <a:pt x="2746" y="770"/>
                  </a:lnTo>
                  <a:lnTo>
                    <a:pt x="2745" y="757"/>
                  </a:lnTo>
                  <a:lnTo>
                    <a:pt x="2745" y="744"/>
                  </a:lnTo>
                  <a:lnTo>
                    <a:pt x="2755" y="739"/>
                  </a:lnTo>
                  <a:lnTo>
                    <a:pt x="2770" y="740"/>
                  </a:lnTo>
                  <a:lnTo>
                    <a:pt x="2783" y="737"/>
                  </a:lnTo>
                  <a:lnTo>
                    <a:pt x="2792" y="730"/>
                  </a:lnTo>
                  <a:lnTo>
                    <a:pt x="2800" y="724"/>
                  </a:lnTo>
                  <a:lnTo>
                    <a:pt x="2809" y="717"/>
                  </a:lnTo>
                  <a:lnTo>
                    <a:pt x="2814" y="716"/>
                  </a:lnTo>
                  <a:lnTo>
                    <a:pt x="2821" y="716"/>
                  </a:lnTo>
                  <a:lnTo>
                    <a:pt x="2826" y="715"/>
                  </a:lnTo>
                  <a:lnTo>
                    <a:pt x="2830" y="707"/>
                  </a:lnTo>
                  <a:lnTo>
                    <a:pt x="2831" y="698"/>
                  </a:lnTo>
                  <a:lnTo>
                    <a:pt x="2833" y="690"/>
                  </a:lnTo>
                  <a:lnTo>
                    <a:pt x="2845" y="685"/>
                  </a:lnTo>
                  <a:lnTo>
                    <a:pt x="2858" y="695"/>
                  </a:lnTo>
                  <a:lnTo>
                    <a:pt x="2871" y="705"/>
                  </a:lnTo>
                  <a:lnTo>
                    <a:pt x="2877" y="702"/>
                  </a:lnTo>
                  <a:lnTo>
                    <a:pt x="2886" y="695"/>
                  </a:lnTo>
                  <a:lnTo>
                    <a:pt x="2894" y="686"/>
                  </a:lnTo>
                  <a:lnTo>
                    <a:pt x="2898" y="679"/>
                  </a:lnTo>
                  <a:lnTo>
                    <a:pt x="2903" y="669"/>
                  </a:lnTo>
                  <a:lnTo>
                    <a:pt x="2907" y="661"/>
                  </a:lnTo>
                  <a:lnTo>
                    <a:pt x="2910" y="650"/>
                  </a:lnTo>
                  <a:lnTo>
                    <a:pt x="2907" y="648"/>
                  </a:lnTo>
                  <a:lnTo>
                    <a:pt x="2907" y="645"/>
                  </a:lnTo>
                  <a:lnTo>
                    <a:pt x="2904" y="643"/>
                  </a:lnTo>
                  <a:lnTo>
                    <a:pt x="2907" y="618"/>
                  </a:lnTo>
                  <a:lnTo>
                    <a:pt x="2903" y="593"/>
                  </a:lnTo>
                  <a:lnTo>
                    <a:pt x="2891" y="570"/>
                  </a:lnTo>
                  <a:lnTo>
                    <a:pt x="2906" y="562"/>
                  </a:lnTo>
                  <a:lnTo>
                    <a:pt x="2919" y="551"/>
                  </a:lnTo>
                  <a:lnTo>
                    <a:pt x="2930" y="537"/>
                  </a:lnTo>
                  <a:lnTo>
                    <a:pt x="2940" y="545"/>
                  </a:lnTo>
                  <a:lnTo>
                    <a:pt x="2951" y="549"/>
                  </a:lnTo>
                  <a:lnTo>
                    <a:pt x="2963" y="547"/>
                  </a:lnTo>
                  <a:lnTo>
                    <a:pt x="2963" y="551"/>
                  </a:lnTo>
                  <a:lnTo>
                    <a:pt x="2967" y="553"/>
                  </a:lnTo>
                  <a:lnTo>
                    <a:pt x="2970" y="554"/>
                  </a:lnTo>
                  <a:lnTo>
                    <a:pt x="2979" y="554"/>
                  </a:lnTo>
                  <a:lnTo>
                    <a:pt x="2987" y="553"/>
                  </a:lnTo>
                  <a:lnTo>
                    <a:pt x="2996" y="550"/>
                  </a:lnTo>
                  <a:lnTo>
                    <a:pt x="2997" y="539"/>
                  </a:lnTo>
                  <a:lnTo>
                    <a:pt x="3002" y="529"/>
                  </a:lnTo>
                  <a:lnTo>
                    <a:pt x="3012" y="520"/>
                  </a:lnTo>
                  <a:lnTo>
                    <a:pt x="3013" y="517"/>
                  </a:lnTo>
                  <a:lnTo>
                    <a:pt x="3013" y="512"/>
                  </a:lnTo>
                  <a:lnTo>
                    <a:pt x="3013" y="508"/>
                  </a:lnTo>
                  <a:lnTo>
                    <a:pt x="3020" y="500"/>
                  </a:lnTo>
                  <a:lnTo>
                    <a:pt x="3027" y="492"/>
                  </a:lnTo>
                  <a:lnTo>
                    <a:pt x="3035" y="484"/>
                  </a:lnTo>
                  <a:lnTo>
                    <a:pt x="3037" y="478"/>
                  </a:lnTo>
                  <a:lnTo>
                    <a:pt x="3036" y="472"/>
                  </a:lnTo>
                  <a:lnTo>
                    <a:pt x="3033" y="465"/>
                  </a:lnTo>
                  <a:lnTo>
                    <a:pt x="3039" y="460"/>
                  </a:lnTo>
                  <a:lnTo>
                    <a:pt x="3044" y="454"/>
                  </a:lnTo>
                  <a:lnTo>
                    <a:pt x="3048" y="448"/>
                  </a:lnTo>
                  <a:lnTo>
                    <a:pt x="3049" y="441"/>
                  </a:lnTo>
                  <a:lnTo>
                    <a:pt x="3047" y="435"/>
                  </a:lnTo>
                  <a:lnTo>
                    <a:pt x="3047" y="430"/>
                  </a:lnTo>
                  <a:lnTo>
                    <a:pt x="3055" y="422"/>
                  </a:lnTo>
                  <a:lnTo>
                    <a:pt x="3056" y="413"/>
                  </a:lnTo>
                  <a:lnTo>
                    <a:pt x="3056" y="402"/>
                  </a:lnTo>
                  <a:lnTo>
                    <a:pt x="3068" y="402"/>
                  </a:lnTo>
                  <a:lnTo>
                    <a:pt x="3079" y="396"/>
                  </a:lnTo>
                  <a:lnTo>
                    <a:pt x="3080" y="387"/>
                  </a:lnTo>
                  <a:lnTo>
                    <a:pt x="3076" y="377"/>
                  </a:lnTo>
                  <a:lnTo>
                    <a:pt x="3074" y="368"/>
                  </a:lnTo>
                  <a:lnTo>
                    <a:pt x="3074" y="359"/>
                  </a:lnTo>
                  <a:lnTo>
                    <a:pt x="3074" y="355"/>
                  </a:lnTo>
                  <a:lnTo>
                    <a:pt x="3076" y="350"/>
                  </a:lnTo>
                  <a:lnTo>
                    <a:pt x="3079" y="346"/>
                  </a:lnTo>
                  <a:lnTo>
                    <a:pt x="3071" y="345"/>
                  </a:lnTo>
                  <a:lnTo>
                    <a:pt x="3065" y="341"/>
                  </a:lnTo>
                  <a:lnTo>
                    <a:pt x="3060" y="341"/>
                  </a:lnTo>
                  <a:lnTo>
                    <a:pt x="3038" y="348"/>
                  </a:lnTo>
                  <a:lnTo>
                    <a:pt x="3015" y="350"/>
                  </a:lnTo>
                  <a:lnTo>
                    <a:pt x="2994" y="355"/>
                  </a:lnTo>
                  <a:lnTo>
                    <a:pt x="2985" y="361"/>
                  </a:lnTo>
                  <a:lnTo>
                    <a:pt x="2977" y="367"/>
                  </a:lnTo>
                  <a:lnTo>
                    <a:pt x="2967" y="372"/>
                  </a:lnTo>
                  <a:lnTo>
                    <a:pt x="2969" y="374"/>
                  </a:lnTo>
                  <a:lnTo>
                    <a:pt x="2970" y="376"/>
                  </a:lnTo>
                  <a:lnTo>
                    <a:pt x="2970" y="378"/>
                  </a:lnTo>
                  <a:lnTo>
                    <a:pt x="2952" y="386"/>
                  </a:lnTo>
                  <a:lnTo>
                    <a:pt x="2934" y="386"/>
                  </a:lnTo>
                  <a:lnTo>
                    <a:pt x="2917" y="380"/>
                  </a:lnTo>
                  <a:lnTo>
                    <a:pt x="2910" y="379"/>
                  </a:lnTo>
                  <a:lnTo>
                    <a:pt x="2903" y="381"/>
                  </a:lnTo>
                  <a:lnTo>
                    <a:pt x="2896" y="385"/>
                  </a:lnTo>
                  <a:lnTo>
                    <a:pt x="2893" y="386"/>
                  </a:lnTo>
                  <a:lnTo>
                    <a:pt x="2890" y="386"/>
                  </a:lnTo>
                  <a:lnTo>
                    <a:pt x="2888" y="383"/>
                  </a:lnTo>
                  <a:lnTo>
                    <a:pt x="2886" y="378"/>
                  </a:lnTo>
                  <a:lnTo>
                    <a:pt x="2885" y="374"/>
                  </a:lnTo>
                  <a:lnTo>
                    <a:pt x="2891" y="372"/>
                  </a:lnTo>
                  <a:lnTo>
                    <a:pt x="2886" y="369"/>
                  </a:lnTo>
                  <a:lnTo>
                    <a:pt x="2881" y="366"/>
                  </a:lnTo>
                  <a:lnTo>
                    <a:pt x="2878" y="363"/>
                  </a:lnTo>
                  <a:lnTo>
                    <a:pt x="2878" y="348"/>
                  </a:lnTo>
                  <a:lnTo>
                    <a:pt x="2875" y="335"/>
                  </a:lnTo>
                  <a:lnTo>
                    <a:pt x="2867" y="323"/>
                  </a:lnTo>
                  <a:lnTo>
                    <a:pt x="2871" y="319"/>
                  </a:lnTo>
                  <a:lnTo>
                    <a:pt x="2873" y="313"/>
                  </a:lnTo>
                  <a:lnTo>
                    <a:pt x="2877" y="310"/>
                  </a:lnTo>
                  <a:lnTo>
                    <a:pt x="2865" y="310"/>
                  </a:lnTo>
                  <a:lnTo>
                    <a:pt x="2853" y="307"/>
                  </a:lnTo>
                  <a:lnTo>
                    <a:pt x="2841" y="303"/>
                  </a:lnTo>
                  <a:lnTo>
                    <a:pt x="2837" y="299"/>
                  </a:lnTo>
                  <a:lnTo>
                    <a:pt x="2835" y="293"/>
                  </a:lnTo>
                  <a:lnTo>
                    <a:pt x="2833" y="287"/>
                  </a:lnTo>
                  <a:lnTo>
                    <a:pt x="2823" y="278"/>
                  </a:lnTo>
                  <a:lnTo>
                    <a:pt x="2809" y="277"/>
                  </a:lnTo>
                  <a:lnTo>
                    <a:pt x="2796" y="275"/>
                  </a:lnTo>
                  <a:lnTo>
                    <a:pt x="2788" y="271"/>
                  </a:lnTo>
                  <a:lnTo>
                    <a:pt x="2779" y="268"/>
                  </a:lnTo>
                  <a:lnTo>
                    <a:pt x="2771" y="265"/>
                  </a:lnTo>
                  <a:lnTo>
                    <a:pt x="2760" y="263"/>
                  </a:lnTo>
                  <a:lnTo>
                    <a:pt x="2748" y="263"/>
                  </a:lnTo>
                  <a:lnTo>
                    <a:pt x="2735" y="263"/>
                  </a:lnTo>
                  <a:lnTo>
                    <a:pt x="2732" y="258"/>
                  </a:lnTo>
                  <a:lnTo>
                    <a:pt x="2726" y="255"/>
                  </a:lnTo>
                  <a:lnTo>
                    <a:pt x="2722" y="251"/>
                  </a:lnTo>
                  <a:lnTo>
                    <a:pt x="2723" y="243"/>
                  </a:lnTo>
                  <a:lnTo>
                    <a:pt x="2726" y="235"/>
                  </a:lnTo>
                  <a:lnTo>
                    <a:pt x="2725" y="227"/>
                  </a:lnTo>
                  <a:lnTo>
                    <a:pt x="2721" y="223"/>
                  </a:lnTo>
                  <a:lnTo>
                    <a:pt x="2716" y="220"/>
                  </a:lnTo>
                  <a:lnTo>
                    <a:pt x="2714" y="217"/>
                  </a:lnTo>
                  <a:lnTo>
                    <a:pt x="2709" y="192"/>
                  </a:lnTo>
                  <a:lnTo>
                    <a:pt x="2697" y="170"/>
                  </a:lnTo>
                  <a:lnTo>
                    <a:pt x="2680" y="150"/>
                  </a:lnTo>
                  <a:lnTo>
                    <a:pt x="2680" y="145"/>
                  </a:lnTo>
                  <a:lnTo>
                    <a:pt x="2685" y="141"/>
                  </a:lnTo>
                  <a:lnTo>
                    <a:pt x="2685" y="135"/>
                  </a:lnTo>
                  <a:lnTo>
                    <a:pt x="2674" y="113"/>
                  </a:lnTo>
                  <a:lnTo>
                    <a:pt x="2664" y="92"/>
                  </a:lnTo>
                  <a:lnTo>
                    <a:pt x="2653" y="70"/>
                  </a:lnTo>
                  <a:lnTo>
                    <a:pt x="2648" y="60"/>
                  </a:lnTo>
                  <a:lnTo>
                    <a:pt x="2641" y="49"/>
                  </a:lnTo>
                  <a:lnTo>
                    <a:pt x="2632" y="40"/>
                  </a:lnTo>
                  <a:lnTo>
                    <a:pt x="2627" y="37"/>
                  </a:lnTo>
                  <a:lnTo>
                    <a:pt x="2620" y="35"/>
                  </a:lnTo>
                  <a:lnTo>
                    <a:pt x="2613" y="33"/>
                  </a:lnTo>
                  <a:lnTo>
                    <a:pt x="2601" y="32"/>
                  </a:lnTo>
                  <a:lnTo>
                    <a:pt x="2589" y="33"/>
                  </a:lnTo>
                  <a:lnTo>
                    <a:pt x="2577" y="31"/>
                  </a:lnTo>
                  <a:lnTo>
                    <a:pt x="2567" y="25"/>
                  </a:lnTo>
                  <a:lnTo>
                    <a:pt x="2556" y="18"/>
                  </a:lnTo>
                  <a:lnTo>
                    <a:pt x="2545" y="12"/>
                  </a:lnTo>
                  <a:lnTo>
                    <a:pt x="2528" y="4"/>
                  </a:lnTo>
                  <a:lnTo>
                    <a:pt x="2508" y="0"/>
                  </a:lnTo>
                  <a:lnTo>
                    <a:pt x="2488" y="1"/>
                  </a:lnTo>
                  <a:lnTo>
                    <a:pt x="2485" y="2"/>
                  </a:lnTo>
                  <a:lnTo>
                    <a:pt x="2481" y="3"/>
                  </a:lnTo>
                  <a:lnTo>
                    <a:pt x="2477" y="5"/>
                  </a:lnTo>
                  <a:lnTo>
                    <a:pt x="2467" y="5"/>
                  </a:lnTo>
                  <a:lnTo>
                    <a:pt x="2457" y="1"/>
                  </a:lnTo>
                  <a:lnTo>
                    <a:pt x="2449" y="1"/>
                  </a:lnTo>
                  <a:lnTo>
                    <a:pt x="2429" y="9"/>
                  </a:lnTo>
                  <a:lnTo>
                    <a:pt x="2408" y="10"/>
                  </a:lnTo>
                  <a:lnTo>
                    <a:pt x="2390" y="15"/>
                  </a:lnTo>
                  <a:lnTo>
                    <a:pt x="2376" y="26"/>
                  </a:lnTo>
                  <a:lnTo>
                    <a:pt x="2362" y="36"/>
                  </a:lnTo>
                  <a:lnTo>
                    <a:pt x="2346" y="44"/>
                  </a:lnTo>
                  <a:lnTo>
                    <a:pt x="2343" y="49"/>
                  </a:lnTo>
                  <a:lnTo>
                    <a:pt x="2342" y="56"/>
                  </a:lnTo>
                  <a:lnTo>
                    <a:pt x="2346" y="60"/>
                  </a:lnTo>
                  <a:lnTo>
                    <a:pt x="2366" y="66"/>
                  </a:lnTo>
                  <a:lnTo>
                    <a:pt x="2376" y="81"/>
                  </a:lnTo>
                  <a:lnTo>
                    <a:pt x="2378" y="98"/>
                  </a:lnTo>
                  <a:lnTo>
                    <a:pt x="2370" y="113"/>
                  </a:lnTo>
                  <a:lnTo>
                    <a:pt x="2354" y="128"/>
                  </a:lnTo>
                  <a:lnTo>
                    <a:pt x="2339" y="144"/>
                  </a:lnTo>
                  <a:lnTo>
                    <a:pt x="2335" y="155"/>
                  </a:lnTo>
                  <a:lnTo>
                    <a:pt x="2332" y="166"/>
                  </a:lnTo>
                  <a:lnTo>
                    <a:pt x="2325" y="173"/>
                  </a:lnTo>
                  <a:lnTo>
                    <a:pt x="2320" y="177"/>
                  </a:lnTo>
                  <a:lnTo>
                    <a:pt x="2317" y="181"/>
                  </a:lnTo>
                  <a:lnTo>
                    <a:pt x="2314" y="185"/>
                  </a:lnTo>
                  <a:lnTo>
                    <a:pt x="2308" y="199"/>
                  </a:lnTo>
                  <a:lnTo>
                    <a:pt x="2311" y="215"/>
                  </a:lnTo>
                  <a:lnTo>
                    <a:pt x="2309" y="230"/>
                  </a:lnTo>
                  <a:lnTo>
                    <a:pt x="2311" y="230"/>
                  </a:lnTo>
                  <a:lnTo>
                    <a:pt x="2313" y="230"/>
                  </a:lnTo>
                  <a:lnTo>
                    <a:pt x="2316" y="230"/>
                  </a:lnTo>
                  <a:lnTo>
                    <a:pt x="2311" y="233"/>
                  </a:lnTo>
                  <a:lnTo>
                    <a:pt x="2306" y="237"/>
                  </a:lnTo>
                  <a:lnTo>
                    <a:pt x="2303" y="239"/>
                  </a:lnTo>
                  <a:lnTo>
                    <a:pt x="2280" y="242"/>
                  </a:lnTo>
                  <a:lnTo>
                    <a:pt x="2261" y="252"/>
                  </a:lnTo>
                  <a:lnTo>
                    <a:pt x="2242" y="261"/>
                  </a:lnTo>
                  <a:lnTo>
                    <a:pt x="2223" y="262"/>
                  </a:lnTo>
                  <a:lnTo>
                    <a:pt x="2204" y="254"/>
                  </a:lnTo>
                  <a:lnTo>
                    <a:pt x="2183" y="247"/>
                  </a:lnTo>
                  <a:lnTo>
                    <a:pt x="2172" y="242"/>
                  </a:lnTo>
                  <a:lnTo>
                    <a:pt x="2176" y="251"/>
                  </a:lnTo>
                  <a:lnTo>
                    <a:pt x="2175" y="257"/>
                  </a:lnTo>
                  <a:lnTo>
                    <a:pt x="2172" y="263"/>
                  </a:lnTo>
                  <a:lnTo>
                    <a:pt x="2162" y="283"/>
                  </a:lnTo>
                  <a:lnTo>
                    <a:pt x="2149" y="303"/>
                  </a:lnTo>
                  <a:lnTo>
                    <a:pt x="2137" y="323"/>
                  </a:lnTo>
                  <a:lnTo>
                    <a:pt x="2137" y="330"/>
                  </a:lnTo>
                  <a:lnTo>
                    <a:pt x="2139" y="336"/>
                  </a:lnTo>
                  <a:lnTo>
                    <a:pt x="2140" y="343"/>
                  </a:lnTo>
                  <a:lnTo>
                    <a:pt x="2131" y="344"/>
                  </a:lnTo>
                  <a:lnTo>
                    <a:pt x="2122" y="347"/>
                  </a:lnTo>
                  <a:lnTo>
                    <a:pt x="2116" y="351"/>
                  </a:lnTo>
                  <a:lnTo>
                    <a:pt x="2113" y="363"/>
                  </a:lnTo>
                  <a:lnTo>
                    <a:pt x="2119" y="375"/>
                  </a:lnTo>
                  <a:lnTo>
                    <a:pt x="2131" y="380"/>
                  </a:lnTo>
                  <a:lnTo>
                    <a:pt x="2137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5"/>
                  </a:lnTo>
                  <a:lnTo>
                    <a:pt x="2181" y="376"/>
                  </a:lnTo>
                  <a:lnTo>
                    <a:pt x="2195" y="381"/>
                  </a:lnTo>
                  <a:lnTo>
                    <a:pt x="2198" y="382"/>
                  </a:lnTo>
                  <a:lnTo>
                    <a:pt x="2201" y="384"/>
                  </a:lnTo>
                  <a:lnTo>
                    <a:pt x="2204" y="386"/>
                  </a:lnTo>
                  <a:lnTo>
                    <a:pt x="2214" y="384"/>
                  </a:lnTo>
                  <a:lnTo>
                    <a:pt x="2224" y="378"/>
                  </a:lnTo>
                  <a:lnTo>
                    <a:pt x="2234" y="373"/>
                  </a:lnTo>
                  <a:lnTo>
                    <a:pt x="2260" y="370"/>
                  </a:lnTo>
                  <a:lnTo>
                    <a:pt x="2284" y="380"/>
                  </a:lnTo>
                  <a:lnTo>
                    <a:pt x="2304" y="401"/>
                  </a:lnTo>
                  <a:lnTo>
                    <a:pt x="2310" y="406"/>
                  </a:lnTo>
                  <a:lnTo>
                    <a:pt x="2317" y="409"/>
                  </a:lnTo>
                  <a:lnTo>
                    <a:pt x="2325" y="414"/>
                  </a:lnTo>
                  <a:lnTo>
                    <a:pt x="2333" y="420"/>
                  </a:lnTo>
                  <a:lnTo>
                    <a:pt x="2339" y="431"/>
                  </a:lnTo>
                  <a:lnTo>
                    <a:pt x="2337" y="441"/>
                  </a:lnTo>
                  <a:lnTo>
                    <a:pt x="2336" y="445"/>
                  </a:lnTo>
                  <a:lnTo>
                    <a:pt x="2333" y="449"/>
                  </a:lnTo>
                  <a:lnTo>
                    <a:pt x="2329" y="451"/>
                  </a:lnTo>
                  <a:lnTo>
                    <a:pt x="2315" y="451"/>
                  </a:lnTo>
                  <a:lnTo>
                    <a:pt x="2301" y="450"/>
                  </a:lnTo>
                  <a:lnTo>
                    <a:pt x="2288" y="447"/>
                  </a:lnTo>
                  <a:lnTo>
                    <a:pt x="2266" y="445"/>
                  </a:lnTo>
                  <a:lnTo>
                    <a:pt x="2243" y="451"/>
                  </a:lnTo>
                  <a:lnTo>
                    <a:pt x="2220" y="456"/>
                  </a:lnTo>
                  <a:lnTo>
                    <a:pt x="2214" y="460"/>
                  </a:lnTo>
                  <a:lnTo>
                    <a:pt x="2209" y="465"/>
                  </a:lnTo>
                  <a:lnTo>
                    <a:pt x="2203" y="471"/>
                  </a:lnTo>
                  <a:lnTo>
                    <a:pt x="2197" y="472"/>
                  </a:lnTo>
                  <a:lnTo>
                    <a:pt x="2190" y="471"/>
                  </a:lnTo>
                  <a:lnTo>
                    <a:pt x="2184" y="472"/>
                  </a:lnTo>
                  <a:lnTo>
                    <a:pt x="2166" y="488"/>
                  </a:lnTo>
                  <a:lnTo>
                    <a:pt x="2154" y="508"/>
                  </a:lnTo>
                  <a:lnTo>
                    <a:pt x="2139" y="526"/>
                  </a:lnTo>
                  <a:lnTo>
                    <a:pt x="2121" y="532"/>
                  </a:lnTo>
                  <a:lnTo>
                    <a:pt x="2101" y="531"/>
                  </a:lnTo>
                  <a:lnTo>
                    <a:pt x="2082" y="532"/>
                  </a:lnTo>
                  <a:lnTo>
                    <a:pt x="2072" y="537"/>
                  </a:lnTo>
                  <a:lnTo>
                    <a:pt x="2063" y="546"/>
                  </a:lnTo>
                  <a:lnTo>
                    <a:pt x="2056" y="556"/>
                  </a:lnTo>
                  <a:lnTo>
                    <a:pt x="2040" y="568"/>
                  </a:lnTo>
                  <a:lnTo>
                    <a:pt x="2020" y="572"/>
                  </a:lnTo>
                  <a:lnTo>
                    <a:pt x="1999" y="570"/>
                  </a:lnTo>
                  <a:lnTo>
                    <a:pt x="1979" y="562"/>
                  </a:lnTo>
                  <a:lnTo>
                    <a:pt x="1959" y="555"/>
                  </a:lnTo>
                  <a:lnTo>
                    <a:pt x="1940" y="556"/>
                  </a:lnTo>
                  <a:lnTo>
                    <a:pt x="1923" y="568"/>
                  </a:lnTo>
                  <a:lnTo>
                    <a:pt x="1914" y="586"/>
                  </a:lnTo>
                  <a:lnTo>
                    <a:pt x="1918" y="605"/>
                  </a:lnTo>
                  <a:lnTo>
                    <a:pt x="1930" y="618"/>
                  </a:lnTo>
                  <a:lnTo>
                    <a:pt x="1940" y="629"/>
                  </a:lnTo>
                  <a:lnTo>
                    <a:pt x="1940" y="641"/>
                  </a:lnTo>
                  <a:lnTo>
                    <a:pt x="1925" y="651"/>
                  </a:lnTo>
                  <a:lnTo>
                    <a:pt x="1906" y="657"/>
                  </a:lnTo>
                  <a:lnTo>
                    <a:pt x="1888" y="665"/>
                  </a:lnTo>
                  <a:lnTo>
                    <a:pt x="1870" y="680"/>
                  </a:lnTo>
                  <a:lnTo>
                    <a:pt x="1853" y="697"/>
                  </a:lnTo>
                  <a:lnTo>
                    <a:pt x="1835" y="709"/>
                  </a:lnTo>
                  <a:lnTo>
                    <a:pt x="1777" y="719"/>
                  </a:lnTo>
                  <a:lnTo>
                    <a:pt x="1716" y="719"/>
                  </a:lnTo>
                  <a:lnTo>
                    <a:pt x="1656" y="728"/>
                  </a:lnTo>
                  <a:lnTo>
                    <a:pt x="1637" y="741"/>
                  </a:lnTo>
                  <a:lnTo>
                    <a:pt x="1618" y="756"/>
                  </a:lnTo>
                  <a:lnTo>
                    <a:pt x="1595" y="762"/>
                  </a:lnTo>
                  <a:lnTo>
                    <a:pt x="1586" y="759"/>
                  </a:lnTo>
                  <a:lnTo>
                    <a:pt x="1576" y="756"/>
                  </a:lnTo>
                  <a:lnTo>
                    <a:pt x="1566" y="758"/>
                  </a:lnTo>
                  <a:lnTo>
                    <a:pt x="1563" y="756"/>
                  </a:lnTo>
                  <a:lnTo>
                    <a:pt x="1563" y="752"/>
                  </a:lnTo>
                  <a:lnTo>
                    <a:pt x="1560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7" y="716"/>
                  </a:lnTo>
                  <a:lnTo>
                    <a:pt x="1404" y="707"/>
                  </a:lnTo>
                  <a:lnTo>
                    <a:pt x="1381" y="701"/>
                  </a:lnTo>
                  <a:lnTo>
                    <a:pt x="1358" y="701"/>
                  </a:lnTo>
                  <a:lnTo>
                    <a:pt x="1291" y="709"/>
                  </a:lnTo>
                  <a:lnTo>
                    <a:pt x="1221" y="708"/>
                  </a:lnTo>
                  <a:lnTo>
                    <a:pt x="1161" y="686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9" y="612"/>
                  </a:lnTo>
                  <a:lnTo>
                    <a:pt x="1099" y="605"/>
                  </a:lnTo>
                  <a:lnTo>
                    <a:pt x="1084" y="599"/>
                  </a:lnTo>
                  <a:lnTo>
                    <a:pt x="1068" y="593"/>
                  </a:lnTo>
                  <a:lnTo>
                    <a:pt x="1051" y="589"/>
                  </a:lnTo>
                  <a:lnTo>
                    <a:pt x="1037" y="580"/>
                  </a:lnTo>
                  <a:lnTo>
                    <a:pt x="1023" y="569"/>
                  </a:lnTo>
                  <a:lnTo>
                    <a:pt x="1008" y="561"/>
                  </a:lnTo>
                  <a:lnTo>
                    <a:pt x="966" y="556"/>
                  </a:lnTo>
                  <a:lnTo>
                    <a:pt x="926" y="555"/>
                  </a:lnTo>
                  <a:lnTo>
                    <a:pt x="886" y="547"/>
                  </a:lnTo>
                  <a:lnTo>
                    <a:pt x="878" y="540"/>
                  </a:lnTo>
                  <a:lnTo>
                    <a:pt x="873" y="531"/>
                  </a:lnTo>
                  <a:lnTo>
                    <a:pt x="870" y="521"/>
                  </a:lnTo>
                  <a:lnTo>
                    <a:pt x="873" y="506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5" y="453"/>
                  </a:lnTo>
                  <a:lnTo>
                    <a:pt x="893" y="444"/>
                  </a:lnTo>
                  <a:lnTo>
                    <a:pt x="880" y="426"/>
                  </a:lnTo>
                  <a:lnTo>
                    <a:pt x="869" y="406"/>
                  </a:lnTo>
                  <a:lnTo>
                    <a:pt x="858" y="387"/>
                  </a:lnTo>
                  <a:lnTo>
                    <a:pt x="838" y="372"/>
                  </a:lnTo>
                  <a:lnTo>
                    <a:pt x="814" y="370"/>
                  </a:lnTo>
                  <a:lnTo>
                    <a:pt x="790" y="365"/>
                  </a:lnTo>
                  <a:lnTo>
                    <a:pt x="770" y="353"/>
                  </a:lnTo>
                  <a:lnTo>
                    <a:pt x="752" y="338"/>
                  </a:lnTo>
                  <a:lnTo>
                    <a:pt x="733" y="323"/>
                  </a:lnTo>
                  <a:lnTo>
                    <a:pt x="737" y="322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2"/>
                  </a:lnTo>
                  <a:lnTo>
                    <a:pt x="731" y="310"/>
                  </a:lnTo>
                  <a:lnTo>
                    <a:pt x="734" y="292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1080" y="2966760"/>
              <a:ext cx="335880" cy="474120"/>
            </a:xfrm>
            <a:custGeom>
              <a:avLst/>
              <a:gdLst/>
              <a:ahLst/>
              <a:rect l="l" t="t" r="r" b="b"/>
              <a:pathLst>
                <a:path w="382" h="455">
                  <a:moveTo>
                    <a:pt x="250" y="431"/>
                  </a:moveTo>
                  <a:lnTo>
                    <a:pt x="255" y="425"/>
                  </a:lnTo>
                  <a:lnTo>
                    <a:pt x="262" y="421"/>
                  </a:lnTo>
                  <a:lnTo>
                    <a:pt x="268" y="414"/>
                  </a:lnTo>
                  <a:lnTo>
                    <a:pt x="270" y="375"/>
                  </a:lnTo>
                  <a:lnTo>
                    <a:pt x="254" y="339"/>
                  </a:lnTo>
                  <a:lnTo>
                    <a:pt x="232" y="305"/>
                  </a:lnTo>
                  <a:lnTo>
                    <a:pt x="231" y="297"/>
                  </a:lnTo>
                  <a:lnTo>
                    <a:pt x="233" y="289"/>
                  </a:lnTo>
                  <a:lnTo>
                    <a:pt x="237" y="282"/>
                  </a:lnTo>
                  <a:lnTo>
                    <a:pt x="238" y="276"/>
                  </a:lnTo>
                  <a:lnTo>
                    <a:pt x="235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7" y="239"/>
                  </a:lnTo>
                  <a:lnTo>
                    <a:pt x="198" y="222"/>
                  </a:lnTo>
                  <a:lnTo>
                    <a:pt x="189" y="224"/>
                  </a:lnTo>
                  <a:lnTo>
                    <a:pt x="178" y="223"/>
                  </a:lnTo>
                  <a:lnTo>
                    <a:pt x="166" y="222"/>
                  </a:lnTo>
                  <a:lnTo>
                    <a:pt x="152" y="229"/>
                  </a:lnTo>
                  <a:lnTo>
                    <a:pt x="143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9" y="245"/>
                  </a:lnTo>
                  <a:lnTo>
                    <a:pt x="54" y="233"/>
                  </a:lnTo>
                  <a:lnTo>
                    <a:pt x="50" y="228"/>
                  </a:lnTo>
                  <a:lnTo>
                    <a:pt x="44" y="223"/>
                  </a:lnTo>
                  <a:lnTo>
                    <a:pt x="45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6"/>
                  </a:lnTo>
                  <a:lnTo>
                    <a:pt x="58" y="195"/>
                  </a:lnTo>
                  <a:lnTo>
                    <a:pt x="62" y="192"/>
                  </a:lnTo>
                  <a:lnTo>
                    <a:pt x="66" y="189"/>
                  </a:lnTo>
                  <a:lnTo>
                    <a:pt x="67" y="186"/>
                  </a:lnTo>
                  <a:lnTo>
                    <a:pt x="67" y="183"/>
                  </a:lnTo>
                  <a:lnTo>
                    <a:pt x="66" y="180"/>
                  </a:lnTo>
                  <a:lnTo>
                    <a:pt x="59" y="175"/>
                  </a:lnTo>
                  <a:lnTo>
                    <a:pt x="58" y="167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0" y="154"/>
                  </a:lnTo>
                  <a:lnTo>
                    <a:pt x="60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2" y="141"/>
                  </a:lnTo>
                  <a:lnTo>
                    <a:pt x="21" y="129"/>
                  </a:lnTo>
                  <a:lnTo>
                    <a:pt x="18" y="119"/>
                  </a:lnTo>
                  <a:lnTo>
                    <a:pt x="13" y="113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5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1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7" y="15"/>
                  </a:lnTo>
                  <a:lnTo>
                    <a:pt x="70" y="3"/>
                  </a:lnTo>
                  <a:lnTo>
                    <a:pt x="80" y="0"/>
                  </a:lnTo>
                  <a:lnTo>
                    <a:pt x="93" y="5"/>
                  </a:lnTo>
                  <a:lnTo>
                    <a:pt x="106" y="10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7" y="42"/>
                  </a:lnTo>
                  <a:lnTo>
                    <a:pt x="148" y="41"/>
                  </a:lnTo>
                  <a:lnTo>
                    <a:pt x="152" y="47"/>
                  </a:lnTo>
                  <a:lnTo>
                    <a:pt x="148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70" y="82"/>
                  </a:lnTo>
                  <a:lnTo>
                    <a:pt x="192" y="81"/>
                  </a:lnTo>
                  <a:lnTo>
                    <a:pt x="214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40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3" y="134"/>
                  </a:lnTo>
                  <a:lnTo>
                    <a:pt x="241" y="141"/>
                  </a:lnTo>
                  <a:lnTo>
                    <a:pt x="238" y="149"/>
                  </a:lnTo>
                  <a:lnTo>
                    <a:pt x="229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6" y="155"/>
                  </a:lnTo>
                  <a:lnTo>
                    <a:pt x="214" y="154"/>
                  </a:lnTo>
                  <a:lnTo>
                    <a:pt x="208" y="154"/>
                  </a:lnTo>
                  <a:lnTo>
                    <a:pt x="202" y="155"/>
                  </a:lnTo>
                  <a:lnTo>
                    <a:pt x="199" y="157"/>
                  </a:lnTo>
                  <a:lnTo>
                    <a:pt x="209" y="177"/>
                  </a:lnTo>
                  <a:lnTo>
                    <a:pt x="228" y="190"/>
                  </a:lnTo>
                  <a:lnTo>
                    <a:pt x="250" y="196"/>
                  </a:lnTo>
                  <a:lnTo>
                    <a:pt x="251" y="202"/>
                  </a:lnTo>
                  <a:lnTo>
                    <a:pt x="253" y="207"/>
                  </a:lnTo>
                  <a:lnTo>
                    <a:pt x="255" y="213"/>
                  </a:lnTo>
                  <a:lnTo>
                    <a:pt x="261" y="220"/>
                  </a:lnTo>
                  <a:lnTo>
                    <a:pt x="269" y="227"/>
                  </a:lnTo>
                  <a:lnTo>
                    <a:pt x="275" y="234"/>
                  </a:lnTo>
                  <a:lnTo>
                    <a:pt x="288" y="250"/>
                  </a:lnTo>
                  <a:lnTo>
                    <a:pt x="301" y="264"/>
                  </a:lnTo>
                  <a:lnTo>
                    <a:pt x="313" y="279"/>
                  </a:lnTo>
                  <a:lnTo>
                    <a:pt x="310" y="280"/>
                  </a:lnTo>
                  <a:lnTo>
                    <a:pt x="310" y="283"/>
                  </a:lnTo>
                  <a:lnTo>
                    <a:pt x="310" y="286"/>
                  </a:lnTo>
                  <a:lnTo>
                    <a:pt x="315" y="288"/>
                  </a:lnTo>
                  <a:lnTo>
                    <a:pt x="319" y="289"/>
                  </a:lnTo>
                  <a:lnTo>
                    <a:pt x="323" y="293"/>
                  </a:lnTo>
                  <a:lnTo>
                    <a:pt x="318" y="293"/>
                  </a:lnTo>
                  <a:lnTo>
                    <a:pt x="314" y="293"/>
                  </a:lnTo>
                  <a:lnTo>
                    <a:pt x="310" y="293"/>
                  </a:lnTo>
                  <a:lnTo>
                    <a:pt x="327" y="305"/>
                  </a:lnTo>
                  <a:lnTo>
                    <a:pt x="344" y="318"/>
                  </a:lnTo>
                  <a:lnTo>
                    <a:pt x="363" y="329"/>
                  </a:lnTo>
                  <a:lnTo>
                    <a:pt x="366" y="334"/>
                  </a:lnTo>
                  <a:lnTo>
                    <a:pt x="369" y="340"/>
                  </a:lnTo>
                  <a:lnTo>
                    <a:pt x="373" y="345"/>
                  </a:lnTo>
                  <a:lnTo>
                    <a:pt x="369" y="343"/>
                  </a:lnTo>
                  <a:lnTo>
                    <a:pt x="366" y="341"/>
                  </a:lnTo>
                  <a:lnTo>
                    <a:pt x="363" y="342"/>
                  </a:lnTo>
                  <a:lnTo>
                    <a:pt x="360" y="348"/>
                  </a:lnTo>
                  <a:lnTo>
                    <a:pt x="361" y="353"/>
                  </a:lnTo>
                  <a:lnTo>
                    <a:pt x="364" y="357"/>
                  </a:lnTo>
                  <a:lnTo>
                    <a:pt x="376" y="368"/>
                  </a:lnTo>
                  <a:lnTo>
                    <a:pt x="382" y="382"/>
                  </a:lnTo>
                  <a:lnTo>
                    <a:pt x="381" y="397"/>
                  </a:lnTo>
                  <a:lnTo>
                    <a:pt x="379" y="403"/>
                  </a:lnTo>
                  <a:lnTo>
                    <a:pt x="375" y="408"/>
                  </a:lnTo>
                  <a:lnTo>
                    <a:pt x="371" y="412"/>
                  </a:lnTo>
                  <a:lnTo>
                    <a:pt x="370" y="411"/>
                  </a:lnTo>
                  <a:lnTo>
                    <a:pt x="366" y="410"/>
                  </a:lnTo>
                  <a:lnTo>
                    <a:pt x="356" y="413"/>
                  </a:lnTo>
                  <a:lnTo>
                    <a:pt x="346" y="420"/>
                  </a:lnTo>
                  <a:lnTo>
                    <a:pt x="340" y="425"/>
                  </a:lnTo>
                  <a:lnTo>
                    <a:pt x="337" y="427"/>
                  </a:lnTo>
                  <a:lnTo>
                    <a:pt x="335" y="425"/>
                  </a:lnTo>
                  <a:lnTo>
                    <a:pt x="326" y="420"/>
                  </a:lnTo>
                  <a:lnTo>
                    <a:pt x="311" y="420"/>
                  </a:lnTo>
                  <a:lnTo>
                    <a:pt x="305" y="421"/>
                  </a:lnTo>
                  <a:lnTo>
                    <a:pt x="295" y="424"/>
                  </a:lnTo>
                  <a:lnTo>
                    <a:pt x="291" y="431"/>
                  </a:lnTo>
                  <a:lnTo>
                    <a:pt x="293" y="433"/>
                  </a:lnTo>
                  <a:lnTo>
                    <a:pt x="297" y="439"/>
                  </a:lnTo>
                  <a:lnTo>
                    <a:pt x="300" y="444"/>
                  </a:lnTo>
                  <a:lnTo>
                    <a:pt x="301" y="449"/>
                  </a:lnTo>
                  <a:lnTo>
                    <a:pt x="299" y="452"/>
                  </a:lnTo>
                  <a:lnTo>
                    <a:pt x="293" y="455"/>
                  </a:lnTo>
                  <a:lnTo>
                    <a:pt x="286" y="454"/>
                  </a:lnTo>
                  <a:lnTo>
                    <a:pt x="282" y="450"/>
                  </a:lnTo>
                  <a:lnTo>
                    <a:pt x="280" y="448"/>
                  </a:lnTo>
                  <a:lnTo>
                    <a:pt x="279" y="445"/>
                  </a:lnTo>
                  <a:lnTo>
                    <a:pt x="276" y="439"/>
                  </a:lnTo>
                  <a:lnTo>
                    <a:pt x="269" y="438"/>
                  </a:lnTo>
                  <a:lnTo>
                    <a:pt x="269" y="438"/>
                  </a:lnTo>
                  <a:lnTo>
                    <a:pt x="267" y="439"/>
                  </a:lnTo>
                  <a:lnTo>
                    <a:pt x="265" y="442"/>
                  </a:lnTo>
                  <a:lnTo>
                    <a:pt x="264" y="443"/>
                  </a:lnTo>
                  <a:lnTo>
                    <a:pt x="262" y="443"/>
                  </a:lnTo>
                  <a:lnTo>
                    <a:pt x="260" y="442"/>
                  </a:lnTo>
                  <a:lnTo>
                    <a:pt x="256" y="438"/>
                  </a:lnTo>
                  <a:lnTo>
                    <a:pt x="252" y="433"/>
                  </a:lnTo>
                  <a:lnTo>
                    <a:pt x="250" y="43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2160" y="2966760"/>
              <a:ext cx="335160" cy="474120"/>
            </a:xfrm>
            <a:custGeom>
              <a:avLst/>
              <a:gdLst/>
              <a:ahLst/>
              <a:rect l="l" t="t" r="r" b="b"/>
              <a:pathLst>
                <a:path w="381" h="455">
                  <a:moveTo>
                    <a:pt x="249" y="431"/>
                  </a:moveTo>
                  <a:lnTo>
                    <a:pt x="254" y="425"/>
                  </a:lnTo>
                  <a:lnTo>
                    <a:pt x="261" y="421"/>
                  </a:lnTo>
                  <a:lnTo>
                    <a:pt x="267" y="414"/>
                  </a:lnTo>
                  <a:lnTo>
                    <a:pt x="269" y="375"/>
                  </a:lnTo>
                  <a:lnTo>
                    <a:pt x="253" y="339"/>
                  </a:lnTo>
                  <a:lnTo>
                    <a:pt x="232" y="305"/>
                  </a:lnTo>
                  <a:lnTo>
                    <a:pt x="230" y="297"/>
                  </a:lnTo>
                  <a:lnTo>
                    <a:pt x="233" y="290"/>
                  </a:lnTo>
                  <a:lnTo>
                    <a:pt x="237" y="282"/>
                  </a:lnTo>
                  <a:lnTo>
                    <a:pt x="237" y="276"/>
                  </a:lnTo>
                  <a:lnTo>
                    <a:pt x="234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6" y="239"/>
                  </a:lnTo>
                  <a:lnTo>
                    <a:pt x="198" y="223"/>
                  </a:lnTo>
                  <a:lnTo>
                    <a:pt x="188" y="224"/>
                  </a:lnTo>
                  <a:lnTo>
                    <a:pt x="177" y="223"/>
                  </a:lnTo>
                  <a:lnTo>
                    <a:pt x="165" y="223"/>
                  </a:lnTo>
                  <a:lnTo>
                    <a:pt x="152" y="229"/>
                  </a:lnTo>
                  <a:lnTo>
                    <a:pt x="142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8" y="245"/>
                  </a:lnTo>
                  <a:lnTo>
                    <a:pt x="53" y="233"/>
                  </a:lnTo>
                  <a:lnTo>
                    <a:pt x="49" y="228"/>
                  </a:lnTo>
                  <a:lnTo>
                    <a:pt x="43" y="223"/>
                  </a:lnTo>
                  <a:lnTo>
                    <a:pt x="44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7"/>
                  </a:lnTo>
                  <a:lnTo>
                    <a:pt x="57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6" y="186"/>
                  </a:lnTo>
                  <a:lnTo>
                    <a:pt x="66" y="183"/>
                  </a:lnTo>
                  <a:lnTo>
                    <a:pt x="65" y="181"/>
                  </a:lnTo>
                  <a:lnTo>
                    <a:pt x="59" y="175"/>
                  </a:lnTo>
                  <a:lnTo>
                    <a:pt x="57" y="167"/>
                  </a:lnTo>
                  <a:lnTo>
                    <a:pt x="62" y="160"/>
                  </a:lnTo>
                  <a:lnTo>
                    <a:pt x="62" y="157"/>
                  </a:lnTo>
                  <a:lnTo>
                    <a:pt x="60" y="154"/>
                  </a:lnTo>
                  <a:lnTo>
                    <a:pt x="59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1" y="141"/>
                  </a:lnTo>
                  <a:lnTo>
                    <a:pt x="20" y="129"/>
                  </a:lnTo>
                  <a:lnTo>
                    <a:pt x="17" y="119"/>
                  </a:lnTo>
                  <a:lnTo>
                    <a:pt x="12" y="114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4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3" y="72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0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1" y="22"/>
                  </a:lnTo>
                  <a:lnTo>
                    <a:pt x="70" y="19"/>
                  </a:lnTo>
                  <a:lnTo>
                    <a:pt x="68" y="17"/>
                  </a:lnTo>
                  <a:lnTo>
                    <a:pt x="66" y="15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5"/>
                  </a:lnTo>
                  <a:lnTo>
                    <a:pt x="106" y="10"/>
                  </a:lnTo>
                  <a:lnTo>
                    <a:pt x="114" y="18"/>
                  </a:lnTo>
                  <a:lnTo>
                    <a:pt x="122" y="27"/>
                  </a:lnTo>
                  <a:lnTo>
                    <a:pt x="128" y="38"/>
                  </a:lnTo>
                  <a:lnTo>
                    <a:pt x="137" y="42"/>
                  </a:lnTo>
                  <a:lnTo>
                    <a:pt x="147" y="42"/>
                  </a:lnTo>
                  <a:lnTo>
                    <a:pt x="151" y="47"/>
                  </a:lnTo>
                  <a:lnTo>
                    <a:pt x="147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69" y="82"/>
                  </a:lnTo>
                  <a:lnTo>
                    <a:pt x="191" y="81"/>
                  </a:lnTo>
                  <a:lnTo>
                    <a:pt x="213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39" y="119"/>
                  </a:lnTo>
                  <a:lnTo>
                    <a:pt x="245" y="125"/>
                  </a:lnTo>
                  <a:lnTo>
                    <a:pt x="245" y="129"/>
                  </a:lnTo>
                  <a:lnTo>
                    <a:pt x="242" y="134"/>
                  </a:lnTo>
                  <a:lnTo>
                    <a:pt x="241" y="141"/>
                  </a:lnTo>
                  <a:lnTo>
                    <a:pt x="237" y="149"/>
                  </a:lnTo>
                  <a:lnTo>
                    <a:pt x="228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5" y="155"/>
                  </a:lnTo>
                  <a:lnTo>
                    <a:pt x="213" y="154"/>
                  </a:lnTo>
                  <a:lnTo>
                    <a:pt x="207" y="154"/>
                  </a:lnTo>
                  <a:lnTo>
                    <a:pt x="201" y="155"/>
                  </a:lnTo>
                  <a:lnTo>
                    <a:pt x="199" y="157"/>
                  </a:lnTo>
                  <a:lnTo>
                    <a:pt x="208" y="177"/>
                  </a:lnTo>
                  <a:lnTo>
                    <a:pt x="228" y="190"/>
                  </a:lnTo>
                  <a:lnTo>
                    <a:pt x="250" y="197"/>
                  </a:lnTo>
                  <a:lnTo>
                    <a:pt x="250" y="202"/>
                  </a:lnTo>
                  <a:lnTo>
                    <a:pt x="252" y="208"/>
                  </a:lnTo>
                  <a:lnTo>
                    <a:pt x="254" y="213"/>
                  </a:lnTo>
                  <a:lnTo>
                    <a:pt x="260" y="220"/>
                  </a:lnTo>
                  <a:lnTo>
                    <a:pt x="268" y="227"/>
                  </a:lnTo>
                  <a:lnTo>
                    <a:pt x="275" y="234"/>
                  </a:lnTo>
                  <a:lnTo>
                    <a:pt x="287" y="250"/>
                  </a:lnTo>
                  <a:lnTo>
                    <a:pt x="300" y="264"/>
                  </a:lnTo>
                  <a:lnTo>
                    <a:pt x="312" y="280"/>
                  </a:lnTo>
                  <a:lnTo>
                    <a:pt x="309" y="280"/>
                  </a:lnTo>
                  <a:lnTo>
                    <a:pt x="309" y="283"/>
                  </a:lnTo>
                  <a:lnTo>
                    <a:pt x="309" y="286"/>
                  </a:lnTo>
                  <a:lnTo>
                    <a:pt x="314" y="288"/>
                  </a:lnTo>
                  <a:lnTo>
                    <a:pt x="318" y="289"/>
                  </a:lnTo>
                  <a:lnTo>
                    <a:pt x="322" y="293"/>
                  </a:lnTo>
                  <a:lnTo>
                    <a:pt x="318" y="293"/>
                  </a:lnTo>
                  <a:lnTo>
                    <a:pt x="313" y="293"/>
                  </a:lnTo>
                  <a:lnTo>
                    <a:pt x="309" y="293"/>
                  </a:lnTo>
                  <a:lnTo>
                    <a:pt x="326" y="305"/>
                  </a:lnTo>
                  <a:lnTo>
                    <a:pt x="343" y="318"/>
                  </a:lnTo>
                  <a:lnTo>
                    <a:pt x="362" y="330"/>
                  </a:lnTo>
                  <a:lnTo>
                    <a:pt x="365" y="334"/>
                  </a:lnTo>
                  <a:lnTo>
                    <a:pt x="368" y="340"/>
                  </a:lnTo>
                  <a:lnTo>
                    <a:pt x="372" y="345"/>
                  </a:lnTo>
                  <a:lnTo>
                    <a:pt x="368" y="344"/>
                  </a:lnTo>
                  <a:lnTo>
                    <a:pt x="365" y="341"/>
                  </a:lnTo>
                  <a:lnTo>
                    <a:pt x="362" y="342"/>
                  </a:lnTo>
                  <a:lnTo>
                    <a:pt x="359" y="348"/>
                  </a:lnTo>
                  <a:lnTo>
                    <a:pt x="360" y="353"/>
                  </a:lnTo>
                  <a:lnTo>
                    <a:pt x="363" y="357"/>
                  </a:lnTo>
                  <a:lnTo>
                    <a:pt x="375" y="368"/>
                  </a:lnTo>
                  <a:lnTo>
                    <a:pt x="381" y="382"/>
                  </a:lnTo>
                  <a:lnTo>
                    <a:pt x="380" y="397"/>
                  </a:lnTo>
                  <a:lnTo>
                    <a:pt x="378" y="403"/>
                  </a:lnTo>
                  <a:lnTo>
                    <a:pt x="374" y="408"/>
                  </a:lnTo>
                  <a:lnTo>
                    <a:pt x="370" y="412"/>
                  </a:lnTo>
                  <a:lnTo>
                    <a:pt x="369" y="411"/>
                  </a:lnTo>
                  <a:lnTo>
                    <a:pt x="365" y="410"/>
                  </a:lnTo>
                  <a:lnTo>
                    <a:pt x="356" y="413"/>
                  </a:lnTo>
                  <a:lnTo>
                    <a:pt x="345" y="420"/>
                  </a:lnTo>
                  <a:lnTo>
                    <a:pt x="339" y="425"/>
                  </a:lnTo>
                  <a:lnTo>
                    <a:pt x="336" y="428"/>
                  </a:lnTo>
                  <a:lnTo>
                    <a:pt x="334" y="425"/>
                  </a:lnTo>
                  <a:lnTo>
                    <a:pt x="325" y="420"/>
                  </a:lnTo>
                  <a:lnTo>
                    <a:pt x="310" y="420"/>
                  </a:lnTo>
                  <a:lnTo>
                    <a:pt x="305" y="421"/>
                  </a:lnTo>
                  <a:lnTo>
                    <a:pt x="294" y="424"/>
                  </a:lnTo>
                  <a:lnTo>
                    <a:pt x="290" y="431"/>
                  </a:lnTo>
                  <a:lnTo>
                    <a:pt x="292" y="434"/>
                  </a:lnTo>
                  <a:lnTo>
                    <a:pt x="296" y="439"/>
                  </a:lnTo>
                  <a:lnTo>
                    <a:pt x="300" y="444"/>
                  </a:lnTo>
                  <a:lnTo>
                    <a:pt x="300" y="449"/>
                  </a:lnTo>
                  <a:lnTo>
                    <a:pt x="298" y="453"/>
                  </a:lnTo>
                  <a:lnTo>
                    <a:pt x="292" y="455"/>
                  </a:lnTo>
                  <a:lnTo>
                    <a:pt x="285" y="454"/>
                  </a:lnTo>
                  <a:lnTo>
                    <a:pt x="281" y="450"/>
                  </a:lnTo>
                  <a:lnTo>
                    <a:pt x="279" y="448"/>
                  </a:lnTo>
                  <a:lnTo>
                    <a:pt x="278" y="445"/>
                  </a:lnTo>
                  <a:lnTo>
                    <a:pt x="275" y="439"/>
                  </a:lnTo>
                  <a:lnTo>
                    <a:pt x="268" y="438"/>
                  </a:lnTo>
                  <a:lnTo>
                    <a:pt x="268" y="438"/>
                  </a:lnTo>
                  <a:lnTo>
                    <a:pt x="266" y="439"/>
                  </a:lnTo>
                  <a:lnTo>
                    <a:pt x="264" y="442"/>
                  </a:lnTo>
                  <a:lnTo>
                    <a:pt x="263" y="443"/>
                  </a:lnTo>
                  <a:lnTo>
                    <a:pt x="261" y="443"/>
                  </a:lnTo>
                  <a:lnTo>
                    <a:pt x="259" y="442"/>
                  </a:lnTo>
                  <a:lnTo>
                    <a:pt x="255" y="438"/>
                  </a:lnTo>
                  <a:lnTo>
                    <a:pt x="251" y="433"/>
                  </a:lnTo>
                  <a:lnTo>
                    <a:pt x="249" y="43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9520" y="3578760"/>
              <a:ext cx="126720" cy="167760"/>
            </a:xfrm>
            <a:custGeom>
              <a:avLst/>
              <a:gdLst/>
              <a:ahLst/>
              <a:rect l="l" t="t" r="r" b="b"/>
              <a:pathLst>
                <a:path w="144" h="161">
                  <a:moveTo>
                    <a:pt x="124" y="10"/>
                  </a:moveTo>
                  <a:lnTo>
                    <a:pt x="123" y="11"/>
                  </a:lnTo>
                  <a:lnTo>
                    <a:pt x="121" y="14"/>
                  </a:lnTo>
                  <a:lnTo>
                    <a:pt x="118" y="16"/>
                  </a:lnTo>
                  <a:lnTo>
                    <a:pt x="122" y="26"/>
                  </a:lnTo>
                  <a:lnTo>
                    <a:pt x="129" y="35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5"/>
                  </a:lnTo>
                  <a:lnTo>
                    <a:pt x="135" y="4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6"/>
                  </a:lnTo>
                  <a:lnTo>
                    <a:pt x="68" y="105"/>
                  </a:lnTo>
                  <a:lnTo>
                    <a:pt x="52" y="119"/>
                  </a:lnTo>
                  <a:lnTo>
                    <a:pt x="38" y="126"/>
                  </a:lnTo>
                  <a:lnTo>
                    <a:pt x="24" y="133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8" y="159"/>
                  </a:lnTo>
                  <a:lnTo>
                    <a:pt x="0" y="161"/>
                  </a:lnTo>
                  <a:lnTo>
                    <a:pt x="6" y="150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6"/>
                  </a:lnTo>
                  <a:lnTo>
                    <a:pt x="43" y="96"/>
                  </a:lnTo>
                  <a:lnTo>
                    <a:pt x="55" y="89"/>
                  </a:lnTo>
                  <a:lnTo>
                    <a:pt x="66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9"/>
                  </a:lnTo>
                  <a:lnTo>
                    <a:pt x="107" y="30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4" y="1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9520" y="3579840"/>
              <a:ext cx="126720" cy="1666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24" y="9"/>
                  </a:moveTo>
                  <a:lnTo>
                    <a:pt x="124" y="11"/>
                  </a:lnTo>
                  <a:lnTo>
                    <a:pt x="121" y="13"/>
                  </a:lnTo>
                  <a:lnTo>
                    <a:pt x="118" y="15"/>
                  </a:lnTo>
                  <a:lnTo>
                    <a:pt x="122" y="25"/>
                  </a:lnTo>
                  <a:lnTo>
                    <a:pt x="129" y="34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4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18" y="49"/>
                  </a:lnTo>
                  <a:lnTo>
                    <a:pt x="116" y="51"/>
                  </a:lnTo>
                  <a:lnTo>
                    <a:pt x="113" y="54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5"/>
                  </a:lnTo>
                  <a:lnTo>
                    <a:pt x="68" y="104"/>
                  </a:lnTo>
                  <a:lnTo>
                    <a:pt x="52" y="118"/>
                  </a:lnTo>
                  <a:lnTo>
                    <a:pt x="38" y="125"/>
                  </a:lnTo>
                  <a:lnTo>
                    <a:pt x="24" y="132"/>
                  </a:lnTo>
                  <a:lnTo>
                    <a:pt x="14" y="144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60"/>
                  </a:lnTo>
                  <a:lnTo>
                    <a:pt x="6" y="149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5"/>
                  </a:lnTo>
                  <a:lnTo>
                    <a:pt x="43" y="95"/>
                  </a:lnTo>
                  <a:lnTo>
                    <a:pt x="55" y="88"/>
                  </a:lnTo>
                  <a:lnTo>
                    <a:pt x="67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8"/>
                  </a:lnTo>
                  <a:lnTo>
                    <a:pt x="107" y="29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1" y="4"/>
                  </a:lnTo>
                  <a:lnTo>
                    <a:pt x="124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40840" y="3533040"/>
              <a:ext cx="12960" cy="23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4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8" y="14"/>
                  </a:lnTo>
                  <a:lnTo>
                    <a:pt x="7" y="23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5" y="9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40840" y="3533040"/>
              <a:ext cx="12960" cy="23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3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70000" y="3467160"/>
              <a:ext cx="40320" cy="626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2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8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30"/>
                  </a:lnTo>
                  <a:lnTo>
                    <a:pt x="18" y="43"/>
                  </a:lnTo>
                  <a:lnTo>
                    <a:pt x="24" y="51"/>
                  </a:lnTo>
                  <a:lnTo>
                    <a:pt x="34" y="56"/>
                  </a:lnTo>
                  <a:lnTo>
                    <a:pt x="46" y="53"/>
                  </a:lnTo>
                  <a:lnTo>
                    <a:pt x="44" y="56"/>
                  </a:lnTo>
                  <a:lnTo>
                    <a:pt x="43" y="58"/>
                  </a:lnTo>
                  <a:lnTo>
                    <a:pt x="42" y="6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70000" y="3467160"/>
              <a:ext cx="40320" cy="626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3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7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29"/>
                  </a:lnTo>
                  <a:lnTo>
                    <a:pt x="18" y="42"/>
                  </a:lnTo>
                  <a:lnTo>
                    <a:pt x="24" y="51"/>
                  </a:lnTo>
                  <a:lnTo>
                    <a:pt x="34" y="55"/>
                  </a:lnTo>
                  <a:lnTo>
                    <a:pt x="46" y="53"/>
                  </a:lnTo>
                  <a:lnTo>
                    <a:pt x="45" y="56"/>
                  </a:lnTo>
                  <a:lnTo>
                    <a:pt x="44" y="58"/>
                  </a:lnTo>
                  <a:lnTo>
                    <a:pt x="43" y="6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37240" y="3202560"/>
              <a:ext cx="217080" cy="32508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3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44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6" y="252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19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60" y="188"/>
                  </a:lnTo>
                  <a:lnTo>
                    <a:pt x="57" y="190"/>
                  </a:lnTo>
                  <a:lnTo>
                    <a:pt x="53" y="192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2" y="125"/>
                  </a:lnTo>
                  <a:lnTo>
                    <a:pt x="0" y="118"/>
                  </a:lnTo>
                  <a:lnTo>
                    <a:pt x="1" y="111"/>
                  </a:lnTo>
                  <a:lnTo>
                    <a:pt x="5" y="107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4" y="7"/>
                  </a:lnTo>
                  <a:lnTo>
                    <a:pt x="131" y="8"/>
                  </a:lnTo>
                  <a:lnTo>
                    <a:pt x="131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40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2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5" y="145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6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3" y="228"/>
                  </a:lnTo>
                  <a:lnTo>
                    <a:pt x="158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6"/>
                  </a:lnTo>
                  <a:lnTo>
                    <a:pt x="204" y="259"/>
                  </a:lnTo>
                  <a:lnTo>
                    <a:pt x="209" y="261"/>
                  </a:lnTo>
                  <a:lnTo>
                    <a:pt x="216" y="260"/>
                  </a:lnTo>
                  <a:lnTo>
                    <a:pt x="212" y="251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7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4" y="276"/>
                  </a:lnTo>
                  <a:lnTo>
                    <a:pt x="223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7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37240" y="3202560"/>
              <a:ext cx="217080" cy="32508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4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43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5" y="252"/>
                  </a:lnTo>
                  <a:lnTo>
                    <a:pt x="108" y="251"/>
                  </a:lnTo>
                  <a:lnTo>
                    <a:pt x="100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20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7" y="190"/>
                  </a:lnTo>
                  <a:lnTo>
                    <a:pt x="53" y="191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3" y="12"/>
                  </a:lnTo>
                  <a:lnTo>
                    <a:pt x="113" y="11"/>
                  </a:lnTo>
                  <a:lnTo>
                    <a:pt x="123" y="7"/>
                  </a:lnTo>
                  <a:lnTo>
                    <a:pt x="131" y="8"/>
                  </a:lnTo>
                  <a:lnTo>
                    <a:pt x="130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39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1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4" y="146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7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2" y="228"/>
                  </a:lnTo>
                  <a:lnTo>
                    <a:pt x="157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7"/>
                  </a:lnTo>
                  <a:lnTo>
                    <a:pt x="204" y="260"/>
                  </a:lnTo>
                  <a:lnTo>
                    <a:pt x="209" y="261"/>
                  </a:lnTo>
                  <a:lnTo>
                    <a:pt x="215" y="261"/>
                  </a:lnTo>
                  <a:lnTo>
                    <a:pt x="212" y="252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8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3" y="276"/>
                  </a:lnTo>
                  <a:lnTo>
                    <a:pt x="222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8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50360" y="3521160"/>
              <a:ext cx="46440" cy="7704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49"/>
                  </a:lnTo>
                  <a:lnTo>
                    <a:pt x="53" y="64"/>
                  </a:lnTo>
                  <a:lnTo>
                    <a:pt x="48" y="74"/>
                  </a:lnTo>
                  <a:lnTo>
                    <a:pt x="39" y="71"/>
                  </a:lnTo>
                  <a:lnTo>
                    <a:pt x="33" y="57"/>
                  </a:lnTo>
                  <a:lnTo>
                    <a:pt x="24" y="43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29" y="30"/>
                  </a:lnTo>
                  <a:lnTo>
                    <a:pt x="19" y="36"/>
                  </a:lnTo>
                  <a:lnTo>
                    <a:pt x="9" y="29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0360" y="3521160"/>
              <a:ext cx="46440" cy="78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50"/>
                  </a:lnTo>
                  <a:lnTo>
                    <a:pt x="53" y="64"/>
                  </a:lnTo>
                  <a:lnTo>
                    <a:pt x="48" y="75"/>
                  </a:lnTo>
                  <a:lnTo>
                    <a:pt x="39" y="72"/>
                  </a:lnTo>
                  <a:lnTo>
                    <a:pt x="33" y="58"/>
                  </a:lnTo>
                  <a:lnTo>
                    <a:pt x="24" y="44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9" y="30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39200" y="3556800"/>
              <a:ext cx="47160" cy="8928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36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3"/>
                  </a:lnTo>
                  <a:lnTo>
                    <a:pt x="4" y="14"/>
                  </a:lnTo>
                  <a:lnTo>
                    <a:pt x="6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3" y="82"/>
                  </a:lnTo>
                  <a:lnTo>
                    <a:pt x="49" y="86"/>
                  </a:lnTo>
                  <a:lnTo>
                    <a:pt x="42" y="82"/>
                  </a:lnTo>
                  <a:lnTo>
                    <a:pt x="38" y="79"/>
                  </a:lnTo>
                  <a:lnTo>
                    <a:pt x="40" y="73"/>
                  </a:lnTo>
                  <a:lnTo>
                    <a:pt x="44" y="73"/>
                  </a:lnTo>
                  <a:lnTo>
                    <a:pt x="50" y="76"/>
                  </a:lnTo>
                  <a:lnTo>
                    <a:pt x="54" y="75"/>
                  </a:lnTo>
                  <a:lnTo>
                    <a:pt x="52" y="66"/>
                  </a:lnTo>
                  <a:lnTo>
                    <a:pt x="42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3" y="32"/>
                  </a:lnTo>
                  <a:lnTo>
                    <a:pt x="38" y="27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6" y="2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39920" y="3556800"/>
              <a:ext cx="46440" cy="8928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35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4" y="14"/>
                  </a:lnTo>
                  <a:lnTo>
                    <a:pt x="5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2" y="82"/>
                  </a:lnTo>
                  <a:lnTo>
                    <a:pt x="48" y="86"/>
                  </a:lnTo>
                  <a:lnTo>
                    <a:pt x="42" y="82"/>
                  </a:lnTo>
                  <a:lnTo>
                    <a:pt x="37" y="80"/>
                  </a:lnTo>
                  <a:lnTo>
                    <a:pt x="40" y="74"/>
                  </a:lnTo>
                  <a:lnTo>
                    <a:pt x="44" y="73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1" y="66"/>
                  </a:lnTo>
                  <a:lnTo>
                    <a:pt x="41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3" y="32"/>
                  </a:lnTo>
                  <a:lnTo>
                    <a:pt x="38" y="28"/>
                  </a:lnTo>
                  <a:lnTo>
                    <a:pt x="31" y="23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44880" y="3597480"/>
              <a:ext cx="54360" cy="10116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3" y="7"/>
                  </a:moveTo>
                  <a:lnTo>
                    <a:pt x="43" y="10"/>
                  </a:lnTo>
                  <a:lnTo>
                    <a:pt x="32" y="12"/>
                  </a:lnTo>
                  <a:lnTo>
                    <a:pt x="20" y="11"/>
                  </a:lnTo>
                  <a:lnTo>
                    <a:pt x="16" y="19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23" y="37"/>
                  </a:lnTo>
                  <a:lnTo>
                    <a:pt x="28" y="35"/>
                  </a:lnTo>
                  <a:lnTo>
                    <a:pt x="34" y="33"/>
                  </a:lnTo>
                  <a:lnTo>
                    <a:pt x="28" y="42"/>
                  </a:lnTo>
                  <a:lnTo>
                    <a:pt x="29" y="51"/>
                  </a:lnTo>
                  <a:lnTo>
                    <a:pt x="29" y="59"/>
                  </a:lnTo>
                  <a:lnTo>
                    <a:pt x="23" y="64"/>
                  </a:lnTo>
                  <a:lnTo>
                    <a:pt x="14" y="64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18" y="88"/>
                  </a:lnTo>
                  <a:lnTo>
                    <a:pt x="38" y="97"/>
                  </a:lnTo>
                  <a:lnTo>
                    <a:pt x="59" y="94"/>
                  </a:lnTo>
                  <a:lnTo>
                    <a:pt x="59" y="90"/>
                  </a:lnTo>
                  <a:lnTo>
                    <a:pt x="55" y="83"/>
                  </a:lnTo>
                  <a:lnTo>
                    <a:pt x="52" y="76"/>
                  </a:lnTo>
                  <a:lnTo>
                    <a:pt x="53" y="54"/>
                  </a:lnTo>
                  <a:lnTo>
                    <a:pt x="60" y="31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53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63240" y="3605760"/>
              <a:ext cx="28800" cy="5400"/>
            </a:xfrm>
            <a:custGeom>
              <a:avLst/>
              <a:gdLst/>
              <a:ahLst/>
              <a:rect l="l" t="t" r="r" b="b"/>
              <a:pathLst>
                <a:path w="33" h="5">
                  <a:moveTo>
                    <a:pt x="33" y="0"/>
                  </a:moveTo>
                  <a:lnTo>
                    <a:pt x="22" y="3"/>
                  </a:lnTo>
                  <a:lnTo>
                    <a:pt x="11" y="5"/>
                  </a:lnTo>
                  <a:lnTo>
                    <a:pt x="0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56040" y="3609000"/>
              <a:ext cx="6840" cy="266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5" y="2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59640" y="3632760"/>
              <a:ext cx="14760" cy="39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0440" y="3632760"/>
              <a:ext cx="4320" cy="2592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0" y="8"/>
                  </a:lnTo>
                  <a:lnTo>
                    <a:pt x="1" y="17"/>
                  </a:lnTo>
                  <a:lnTo>
                    <a:pt x="0" y="2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8120" y="3658680"/>
              <a:ext cx="21960" cy="50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0"/>
                  </a:moveTo>
                  <a:lnTo>
                    <a:pt x="19" y="4"/>
                  </a:lnTo>
                  <a:lnTo>
                    <a:pt x="10" y="5"/>
                  </a:lnTo>
                  <a:lnTo>
                    <a:pt x="0" y="5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4880" y="3664080"/>
              <a:ext cx="3240" cy="93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5600" y="3673440"/>
              <a:ext cx="50760" cy="2484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0" y="0"/>
                  </a:moveTo>
                  <a:lnTo>
                    <a:pt x="17" y="15"/>
                  </a:lnTo>
                  <a:lnTo>
                    <a:pt x="37" y="24"/>
                  </a:lnTo>
                  <a:lnTo>
                    <a:pt x="58" y="2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90600" y="3676680"/>
              <a:ext cx="6120" cy="187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18"/>
                  </a:move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0600" y="3605760"/>
              <a:ext cx="8640" cy="7056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8"/>
                  </a:moveTo>
                  <a:lnTo>
                    <a:pt x="1" y="46"/>
                  </a:lnTo>
                  <a:lnTo>
                    <a:pt x="8" y="23"/>
                  </a:lnTo>
                  <a:lnTo>
                    <a:pt x="1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3400" y="3598560"/>
              <a:ext cx="15480" cy="684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5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27960" y="3533760"/>
              <a:ext cx="60480" cy="9144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27960" y="3533760"/>
              <a:ext cx="60480" cy="9144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4"/>
                  </a:lnTo>
                  <a:lnTo>
                    <a:pt x="65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35880" y="3508920"/>
              <a:ext cx="12960" cy="17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6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35880" y="3508920"/>
              <a:ext cx="12960" cy="17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0720" y="3519000"/>
              <a:ext cx="11160" cy="27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0" y="26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0720" y="3519000"/>
              <a:ext cx="11160" cy="280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6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10" y="27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86280" y="3508920"/>
              <a:ext cx="46440" cy="44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86280" y="3508920"/>
              <a:ext cx="46440" cy="44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5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5"/>
                  </a:lnTo>
                  <a:lnTo>
                    <a:pt x="7" y="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7440" y="3580920"/>
              <a:ext cx="26280" cy="9360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86"/>
                  </a:moveTo>
                  <a:lnTo>
                    <a:pt x="3" y="73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60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97440" y="3581640"/>
              <a:ext cx="26280" cy="9288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86"/>
                  </a:moveTo>
                  <a:lnTo>
                    <a:pt x="3" y="73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59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23000" y="3644280"/>
              <a:ext cx="27000" cy="320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23000" y="3644280"/>
              <a:ext cx="27000" cy="320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27960" y="3656880"/>
              <a:ext cx="209160" cy="21672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3"/>
                  </a:lnTo>
                  <a:lnTo>
                    <a:pt x="35" y="105"/>
                  </a:lnTo>
                  <a:lnTo>
                    <a:pt x="18" y="117"/>
                  </a:lnTo>
                  <a:lnTo>
                    <a:pt x="14" y="120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7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5" y="128"/>
                  </a:lnTo>
                  <a:lnTo>
                    <a:pt x="67" y="128"/>
                  </a:lnTo>
                  <a:lnTo>
                    <a:pt x="79" y="125"/>
                  </a:lnTo>
                  <a:lnTo>
                    <a:pt x="77" y="122"/>
                  </a:lnTo>
                  <a:lnTo>
                    <a:pt x="73" y="117"/>
                  </a:lnTo>
                  <a:lnTo>
                    <a:pt x="77" y="114"/>
                  </a:lnTo>
                  <a:lnTo>
                    <a:pt x="85" y="115"/>
                  </a:lnTo>
                  <a:lnTo>
                    <a:pt x="93" y="118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1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6" y="188"/>
                  </a:lnTo>
                  <a:lnTo>
                    <a:pt x="155" y="187"/>
                  </a:lnTo>
                  <a:lnTo>
                    <a:pt x="163" y="185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70" y="198"/>
                  </a:lnTo>
                  <a:lnTo>
                    <a:pt x="170" y="204"/>
                  </a:lnTo>
                  <a:lnTo>
                    <a:pt x="178" y="208"/>
                  </a:lnTo>
                  <a:lnTo>
                    <a:pt x="188" y="207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2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5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4" y="5"/>
                  </a:lnTo>
                  <a:lnTo>
                    <a:pt x="181" y="0"/>
                  </a:lnTo>
                  <a:lnTo>
                    <a:pt x="170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3"/>
                  </a:lnTo>
                  <a:lnTo>
                    <a:pt x="168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6" y="103"/>
                  </a:lnTo>
                  <a:lnTo>
                    <a:pt x="105" y="96"/>
                  </a:lnTo>
                  <a:lnTo>
                    <a:pt x="103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7960" y="3656880"/>
              <a:ext cx="209160" cy="21672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2"/>
                  </a:lnTo>
                  <a:lnTo>
                    <a:pt x="34" y="105"/>
                  </a:lnTo>
                  <a:lnTo>
                    <a:pt x="18" y="117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7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6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5"/>
                  </a:lnTo>
                  <a:lnTo>
                    <a:pt x="41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4" y="127"/>
                  </a:lnTo>
                  <a:lnTo>
                    <a:pt x="67" y="128"/>
                  </a:lnTo>
                  <a:lnTo>
                    <a:pt x="78" y="125"/>
                  </a:lnTo>
                  <a:lnTo>
                    <a:pt x="77" y="121"/>
                  </a:lnTo>
                  <a:lnTo>
                    <a:pt x="73" y="117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3" y="117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0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5" y="187"/>
                  </a:lnTo>
                  <a:lnTo>
                    <a:pt x="154" y="187"/>
                  </a:lnTo>
                  <a:lnTo>
                    <a:pt x="163" y="184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78" y="208"/>
                  </a:lnTo>
                  <a:lnTo>
                    <a:pt x="187" y="206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1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4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3" y="4"/>
                  </a:lnTo>
                  <a:lnTo>
                    <a:pt x="181" y="0"/>
                  </a:lnTo>
                  <a:lnTo>
                    <a:pt x="169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2"/>
                  </a:lnTo>
                  <a:lnTo>
                    <a:pt x="167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5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97880" y="3636000"/>
              <a:ext cx="18360" cy="208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4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3" y="1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97880" y="3636000"/>
              <a:ext cx="18360" cy="208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2440" y="3691080"/>
              <a:ext cx="16560" cy="93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6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2440" y="3691080"/>
              <a:ext cx="16560" cy="93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7" y="3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03560" y="3704760"/>
              <a:ext cx="11160" cy="13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3" y="13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2" y="1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3560" y="3704760"/>
              <a:ext cx="11160" cy="144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4" y="14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30480" y="3835080"/>
              <a:ext cx="16560" cy="133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3" y="1"/>
                  </a:moveTo>
                  <a:lnTo>
                    <a:pt x="9" y="3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3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30480" y="3835080"/>
              <a:ext cx="16560" cy="133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4" y="1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3880" y="3939480"/>
              <a:ext cx="14760" cy="13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3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3880" y="3939480"/>
              <a:ext cx="14760" cy="13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3"/>
                  </a:move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5240" y="3897720"/>
              <a:ext cx="9360" cy="12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2" y="7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25960" y="3897720"/>
              <a:ext cx="8640" cy="12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1" y="7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79520" y="3911400"/>
              <a:ext cx="8640" cy="17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79520" y="3911400"/>
              <a:ext cx="8640" cy="17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960" y="3985200"/>
              <a:ext cx="9720" cy="16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8" y="7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89960" y="3985200"/>
              <a:ext cx="9720" cy="16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480" y="3374640"/>
              <a:ext cx="12960" cy="23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2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11" y="7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1560" y="3374640"/>
              <a:ext cx="11880" cy="24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" y="8"/>
                  </a:lnTo>
                  <a:lnTo>
                    <a:pt x="3" y="16"/>
                  </a:lnTo>
                  <a:lnTo>
                    <a:pt x="3" y="24"/>
                  </a:lnTo>
                  <a:lnTo>
                    <a:pt x="7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77280" y="3484080"/>
              <a:ext cx="6120" cy="17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4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7280" y="3484080"/>
              <a:ext cx="6120" cy="183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10320" y="3474360"/>
              <a:ext cx="12960" cy="14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4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10320" y="3474360"/>
              <a:ext cx="12960" cy="14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5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05080" y="3615120"/>
              <a:ext cx="6840" cy="11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5080" y="3615120"/>
              <a:ext cx="6840" cy="11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38120" y="3429720"/>
              <a:ext cx="12240" cy="187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39200" y="3429720"/>
              <a:ext cx="11880" cy="187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83160" y="4237560"/>
              <a:ext cx="185400" cy="425880"/>
            </a:xfrm>
            <a:custGeom>
              <a:avLst/>
              <a:gdLst/>
              <a:ahLst/>
              <a:rect l="l" t="t" r="r" b="b"/>
              <a:pathLst>
                <a:path w="211" h="409">
                  <a:moveTo>
                    <a:pt x="15" y="104"/>
                  </a:moveTo>
                  <a:lnTo>
                    <a:pt x="0" y="160"/>
                  </a:lnTo>
                  <a:lnTo>
                    <a:pt x="10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5" y="181"/>
                  </a:lnTo>
                  <a:lnTo>
                    <a:pt x="41" y="180"/>
                  </a:lnTo>
                  <a:lnTo>
                    <a:pt x="46" y="181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5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8" y="208"/>
                  </a:lnTo>
                  <a:lnTo>
                    <a:pt x="71" y="217"/>
                  </a:lnTo>
                  <a:lnTo>
                    <a:pt x="77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4"/>
                  </a:lnTo>
                  <a:lnTo>
                    <a:pt x="93" y="292"/>
                  </a:lnTo>
                  <a:lnTo>
                    <a:pt x="98" y="300"/>
                  </a:lnTo>
                  <a:lnTo>
                    <a:pt x="106" y="306"/>
                  </a:lnTo>
                  <a:lnTo>
                    <a:pt x="103" y="306"/>
                  </a:lnTo>
                  <a:lnTo>
                    <a:pt x="101" y="305"/>
                  </a:lnTo>
                  <a:lnTo>
                    <a:pt x="99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3" y="314"/>
                  </a:lnTo>
                  <a:lnTo>
                    <a:pt x="102" y="317"/>
                  </a:lnTo>
                  <a:lnTo>
                    <a:pt x="107" y="321"/>
                  </a:lnTo>
                  <a:lnTo>
                    <a:pt x="109" y="335"/>
                  </a:lnTo>
                  <a:lnTo>
                    <a:pt x="98" y="345"/>
                  </a:lnTo>
                  <a:lnTo>
                    <a:pt x="84" y="354"/>
                  </a:lnTo>
                  <a:lnTo>
                    <a:pt x="82" y="357"/>
                  </a:lnTo>
                  <a:lnTo>
                    <a:pt x="81" y="361"/>
                  </a:lnTo>
                  <a:lnTo>
                    <a:pt x="80" y="366"/>
                  </a:lnTo>
                  <a:lnTo>
                    <a:pt x="104" y="361"/>
                  </a:lnTo>
                  <a:lnTo>
                    <a:pt x="127" y="360"/>
                  </a:lnTo>
                  <a:lnTo>
                    <a:pt x="152" y="362"/>
                  </a:lnTo>
                  <a:lnTo>
                    <a:pt x="152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6" y="357"/>
                  </a:lnTo>
                  <a:lnTo>
                    <a:pt x="159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3" y="396"/>
                  </a:lnTo>
                  <a:lnTo>
                    <a:pt x="205" y="409"/>
                  </a:lnTo>
                  <a:lnTo>
                    <a:pt x="209" y="364"/>
                  </a:lnTo>
                  <a:lnTo>
                    <a:pt x="209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1" y="264"/>
                  </a:lnTo>
                  <a:lnTo>
                    <a:pt x="200" y="261"/>
                  </a:lnTo>
                  <a:lnTo>
                    <a:pt x="211" y="199"/>
                  </a:lnTo>
                  <a:lnTo>
                    <a:pt x="207" y="135"/>
                  </a:lnTo>
                  <a:lnTo>
                    <a:pt x="200" y="72"/>
                  </a:lnTo>
                  <a:lnTo>
                    <a:pt x="192" y="63"/>
                  </a:lnTo>
                  <a:lnTo>
                    <a:pt x="173" y="57"/>
                  </a:lnTo>
                  <a:lnTo>
                    <a:pt x="155" y="50"/>
                  </a:lnTo>
                  <a:lnTo>
                    <a:pt x="144" y="46"/>
                  </a:lnTo>
                  <a:lnTo>
                    <a:pt x="133" y="43"/>
                  </a:lnTo>
                  <a:lnTo>
                    <a:pt x="124" y="39"/>
                  </a:lnTo>
                  <a:lnTo>
                    <a:pt x="100" y="29"/>
                  </a:lnTo>
                  <a:lnTo>
                    <a:pt x="76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3" y="31"/>
                  </a:lnTo>
                  <a:lnTo>
                    <a:pt x="33" y="70"/>
                  </a:lnTo>
                  <a:lnTo>
                    <a:pt x="15" y="104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83160" y="4237560"/>
              <a:ext cx="186480" cy="425880"/>
            </a:xfrm>
            <a:custGeom>
              <a:avLst/>
              <a:gdLst/>
              <a:ahLst/>
              <a:rect l="l" t="t" r="r" b="b"/>
              <a:pathLst>
                <a:path w="212" h="409">
                  <a:moveTo>
                    <a:pt x="15" y="104"/>
                  </a:moveTo>
                  <a:lnTo>
                    <a:pt x="0" y="160"/>
                  </a:lnTo>
                  <a:lnTo>
                    <a:pt x="11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6" y="181"/>
                  </a:lnTo>
                  <a:lnTo>
                    <a:pt x="42" y="181"/>
                  </a:lnTo>
                  <a:lnTo>
                    <a:pt x="46" y="182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6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9" y="207"/>
                  </a:lnTo>
                  <a:lnTo>
                    <a:pt x="72" y="217"/>
                  </a:lnTo>
                  <a:lnTo>
                    <a:pt x="78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3"/>
                  </a:lnTo>
                  <a:lnTo>
                    <a:pt x="93" y="292"/>
                  </a:lnTo>
                  <a:lnTo>
                    <a:pt x="99" y="300"/>
                  </a:lnTo>
                  <a:lnTo>
                    <a:pt x="106" y="306"/>
                  </a:lnTo>
                  <a:lnTo>
                    <a:pt x="104" y="306"/>
                  </a:lnTo>
                  <a:lnTo>
                    <a:pt x="102" y="305"/>
                  </a:lnTo>
                  <a:lnTo>
                    <a:pt x="100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4" y="314"/>
                  </a:lnTo>
                  <a:lnTo>
                    <a:pt x="102" y="317"/>
                  </a:lnTo>
                  <a:lnTo>
                    <a:pt x="108" y="321"/>
                  </a:lnTo>
                  <a:lnTo>
                    <a:pt x="110" y="335"/>
                  </a:lnTo>
                  <a:lnTo>
                    <a:pt x="99" y="345"/>
                  </a:lnTo>
                  <a:lnTo>
                    <a:pt x="84" y="354"/>
                  </a:lnTo>
                  <a:lnTo>
                    <a:pt x="83" y="356"/>
                  </a:lnTo>
                  <a:lnTo>
                    <a:pt x="82" y="361"/>
                  </a:lnTo>
                  <a:lnTo>
                    <a:pt x="80" y="366"/>
                  </a:lnTo>
                  <a:lnTo>
                    <a:pt x="104" y="360"/>
                  </a:lnTo>
                  <a:lnTo>
                    <a:pt x="128" y="359"/>
                  </a:lnTo>
                  <a:lnTo>
                    <a:pt x="152" y="362"/>
                  </a:lnTo>
                  <a:lnTo>
                    <a:pt x="153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7" y="357"/>
                  </a:lnTo>
                  <a:lnTo>
                    <a:pt x="160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4" y="396"/>
                  </a:lnTo>
                  <a:lnTo>
                    <a:pt x="205" y="409"/>
                  </a:lnTo>
                  <a:lnTo>
                    <a:pt x="210" y="364"/>
                  </a:lnTo>
                  <a:lnTo>
                    <a:pt x="210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2" y="264"/>
                  </a:lnTo>
                  <a:lnTo>
                    <a:pt x="201" y="261"/>
                  </a:lnTo>
                  <a:lnTo>
                    <a:pt x="212" y="199"/>
                  </a:lnTo>
                  <a:lnTo>
                    <a:pt x="208" y="135"/>
                  </a:lnTo>
                  <a:lnTo>
                    <a:pt x="201" y="72"/>
                  </a:lnTo>
                  <a:lnTo>
                    <a:pt x="192" y="63"/>
                  </a:lnTo>
                  <a:lnTo>
                    <a:pt x="174" y="57"/>
                  </a:lnTo>
                  <a:lnTo>
                    <a:pt x="155" y="50"/>
                  </a:lnTo>
                  <a:lnTo>
                    <a:pt x="145" y="46"/>
                  </a:lnTo>
                  <a:lnTo>
                    <a:pt x="134" y="43"/>
                  </a:lnTo>
                  <a:lnTo>
                    <a:pt x="125" y="39"/>
                  </a:lnTo>
                  <a:lnTo>
                    <a:pt x="100" y="30"/>
                  </a:lnTo>
                  <a:lnTo>
                    <a:pt x="77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4" y="31"/>
                  </a:lnTo>
                  <a:lnTo>
                    <a:pt x="34" y="70"/>
                  </a:lnTo>
                  <a:lnTo>
                    <a:pt x="15" y="104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 flipH="1">
            <a:off x="608760" y="1066680"/>
            <a:ext cx="3505320" cy="1676520"/>
          </a:xfrm>
          <a:prstGeom prst="wedgeRoundRectCallout">
            <a:avLst>
              <a:gd name="adj1" fmla="val -92708"/>
              <a:gd name="adj2" fmla="val 12875"/>
              <a:gd name="adj3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219320"/>
            <a:ext cx="358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Nikko-Eco – one of SRI’s biggest success stories globally…..9 other SRI choices… proven market among one of the world’s largest elderly 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1143000"/>
            <a:ext cx="2590920" cy="1905120"/>
          </a:xfrm>
          <a:prstGeom prst="wedgeRoundRectCallout">
            <a:avLst>
              <a:gd name="adj1" fmla="val -113787"/>
              <a:gd name="adj2" fmla="val 48666"/>
              <a:gd name="adj3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1932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NG KO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ASrIA inaugural conference Nov 2001 …Kingsway Fund Mgmt, Henderson’s Global Sustainability Fund… Friends Ivory &amp; Sime about to launch SRI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4495680"/>
            <a:ext cx="2514600" cy="1219320"/>
          </a:xfrm>
          <a:prstGeom prst="wedgeRoundRectCallout">
            <a:avLst>
              <a:gd name="adj1" fmla="val 93875"/>
              <a:gd name="adj2" fmla="val -84375"/>
              <a:gd name="adj3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4572000"/>
            <a:ext cx="24382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APO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United Global Unifem UOB Fund…ASrIA Seminar April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3200400"/>
            <a:ext cx="1600200" cy="1066680"/>
          </a:xfrm>
          <a:prstGeom prst="wedgeRoundRectCallout">
            <a:avLst>
              <a:gd name="adj1" fmla="val 162597"/>
              <a:gd name="adj2" fmla="val 14287"/>
              <a:gd name="adj3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6761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LAYS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Some faith-based 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58672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to gain momentum, but a long way to go…an opportunity on which to capitali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3200400"/>
            <a:ext cx="27432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Developed SRI market… AU$10 billion under management… several SRI research 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914400" y="1393920"/>
            <a:ext cx="6316200" cy="5158800"/>
            <a:chOff x="914400" y="1393920"/>
            <a:chExt cx="6316200" cy="5158800"/>
          </a:xfrm>
        </p:grpSpPr>
        <p:sp>
          <p:nvSpPr>
            <p:cNvPr id="469" name=""/>
            <p:cNvSpPr/>
            <p:nvPr/>
          </p:nvSpPr>
          <p:spPr>
            <a:xfrm>
              <a:off x="2345400" y="5022000"/>
              <a:ext cx="168120" cy="27972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3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6" y="61"/>
                  </a:lnTo>
                  <a:lnTo>
                    <a:pt x="97" y="88"/>
                  </a:lnTo>
                  <a:lnTo>
                    <a:pt x="111" y="117"/>
                  </a:lnTo>
                  <a:lnTo>
                    <a:pt x="109" y="148"/>
                  </a:lnTo>
                  <a:lnTo>
                    <a:pt x="97" y="166"/>
                  </a:lnTo>
                  <a:lnTo>
                    <a:pt x="80" y="177"/>
                  </a:lnTo>
                  <a:lnTo>
                    <a:pt x="58" y="182"/>
                  </a:lnTo>
                  <a:lnTo>
                    <a:pt x="57" y="186"/>
                  </a:lnTo>
                  <a:lnTo>
                    <a:pt x="53" y="188"/>
                  </a:lnTo>
                  <a:lnTo>
                    <a:pt x="51" y="192"/>
                  </a:lnTo>
                  <a:lnTo>
                    <a:pt x="41" y="191"/>
                  </a:lnTo>
                  <a:lnTo>
                    <a:pt x="33" y="188"/>
                  </a:lnTo>
                  <a:lnTo>
                    <a:pt x="26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7" y="116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10" y="54"/>
                  </a:lnTo>
                  <a:lnTo>
                    <a:pt x="8" y="2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47200" y="5022000"/>
              <a:ext cx="166320" cy="27972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2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5" y="61"/>
                  </a:lnTo>
                  <a:lnTo>
                    <a:pt x="96" y="88"/>
                  </a:lnTo>
                  <a:lnTo>
                    <a:pt x="110" y="117"/>
                  </a:lnTo>
                  <a:lnTo>
                    <a:pt x="108" y="148"/>
                  </a:lnTo>
                  <a:lnTo>
                    <a:pt x="97" y="166"/>
                  </a:lnTo>
                  <a:lnTo>
                    <a:pt x="79" y="177"/>
                  </a:lnTo>
                  <a:lnTo>
                    <a:pt x="57" y="182"/>
                  </a:lnTo>
                  <a:lnTo>
                    <a:pt x="57" y="186"/>
                  </a:lnTo>
                  <a:lnTo>
                    <a:pt x="52" y="189"/>
                  </a:lnTo>
                  <a:lnTo>
                    <a:pt x="50" y="192"/>
                  </a:lnTo>
                  <a:lnTo>
                    <a:pt x="41" y="191"/>
                  </a:lnTo>
                  <a:lnTo>
                    <a:pt x="32" y="189"/>
                  </a:lnTo>
                  <a:lnTo>
                    <a:pt x="25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7" y="137"/>
                  </a:lnTo>
                  <a:lnTo>
                    <a:pt x="7" y="117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9" y="54"/>
                  </a:lnTo>
                  <a:lnTo>
                    <a:pt x="8" y="22"/>
                  </a:lnTo>
                  <a:lnTo>
                    <a:pt x="26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86520" y="5841360"/>
              <a:ext cx="120960" cy="11952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2" y="13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6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9"/>
                  </a:lnTo>
                  <a:lnTo>
                    <a:pt x="79" y="27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2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86520" y="5841360"/>
              <a:ext cx="120960" cy="11952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3" y="13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7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8"/>
                  </a:lnTo>
                  <a:lnTo>
                    <a:pt x="79" y="26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3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66880" y="5931720"/>
              <a:ext cx="54000" cy="406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" y="13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1"/>
                  </a:lnTo>
                  <a:lnTo>
                    <a:pt x="32" y="5"/>
                  </a:lnTo>
                  <a:lnTo>
                    <a:pt x="36" y="12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19" y="26"/>
                  </a:lnTo>
                  <a:lnTo>
                    <a:pt x="13" y="28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66880" y="5933160"/>
              <a:ext cx="54000" cy="392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" y="12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32" y="4"/>
                  </a:lnTo>
                  <a:lnTo>
                    <a:pt x="36" y="11"/>
                  </a:lnTo>
                  <a:lnTo>
                    <a:pt x="33" y="20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3" y="1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1280" y="5717160"/>
              <a:ext cx="48240" cy="60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7" y="28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8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11280" y="5717160"/>
              <a:ext cx="48240" cy="60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3"/>
                  </a:lnTo>
                  <a:lnTo>
                    <a:pt x="14" y="9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19"/>
                  </a:lnTo>
                  <a:lnTo>
                    <a:pt x="7" y="27"/>
                  </a:lnTo>
                  <a:lnTo>
                    <a:pt x="5" y="35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30" y="25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27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00680" y="5575680"/>
              <a:ext cx="27000" cy="277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4" y="3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18" y="9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02120" y="5575680"/>
              <a:ext cx="25560" cy="277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0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56840" y="56282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1"/>
                  </a:moveTo>
                  <a:lnTo>
                    <a:pt x="15" y="8"/>
                  </a:lnTo>
                  <a:lnTo>
                    <a:pt x="10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9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57920" y="5628240"/>
              <a:ext cx="28800" cy="23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4" y="8"/>
                  </a:lnTo>
                  <a:lnTo>
                    <a:pt x="9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3" y="9"/>
                  </a:lnTo>
                  <a:lnTo>
                    <a:pt x="9" y="13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26320" y="5666400"/>
              <a:ext cx="45000" cy="201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1"/>
                  </a:moveTo>
                  <a:lnTo>
                    <a:pt x="11" y="0"/>
                  </a:lnTo>
                  <a:lnTo>
                    <a:pt x="6" y="1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26320" y="5666400"/>
              <a:ext cx="45000" cy="201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87080" y="5654880"/>
              <a:ext cx="34560" cy="2304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10" y="5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87080" y="5654880"/>
              <a:ext cx="13680" cy="82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87080" y="5657400"/>
              <a:ext cx="4320" cy="147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91400" y="5672520"/>
              <a:ext cx="2988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7" y="1"/>
                  </a:lnTo>
                  <a:lnTo>
                    <a:pt x="14" y="4"/>
                  </a:lnTo>
                  <a:lnTo>
                    <a:pt x="2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87560" y="5810400"/>
              <a:ext cx="45000" cy="482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6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13" y="25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29" y="28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87560" y="5812200"/>
              <a:ext cx="45000" cy="464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13" y="24"/>
                  </a:lnTo>
                  <a:lnTo>
                    <a:pt x="27" y="3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50920" y="5887800"/>
              <a:ext cx="29880" cy="24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0"/>
                  </a:moveTo>
                  <a:lnTo>
                    <a:pt x="10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52360" y="5887800"/>
              <a:ext cx="28800" cy="24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10"/>
                  </a:moveTo>
                  <a:lnTo>
                    <a:pt x="9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12" y="12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96280" y="5941800"/>
              <a:ext cx="45360" cy="378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8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96280" y="5941800"/>
              <a:ext cx="45360" cy="378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7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5623920"/>
              <a:ext cx="73800" cy="712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6" y="43"/>
                  </a:moveTo>
                  <a:lnTo>
                    <a:pt x="41" y="28"/>
                  </a:lnTo>
                  <a:lnTo>
                    <a:pt x="33" y="1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9" y="4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3"/>
                  </a:lnTo>
                  <a:lnTo>
                    <a:pt x="13" y="18"/>
                  </a:lnTo>
                  <a:lnTo>
                    <a:pt x="27" y="32"/>
                  </a:lnTo>
                  <a:lnTo>
                    <a:pt x="40" y="48"/>
                  </a:lnTo>
                  <a:lnTo>
                    <a:pt x="43" y="49"/>
                  </a:lnTo>
                  <a:lnTo>
                    <a:pt x="47" y="47"/>
                  </a:lnTo>
                  <a:lnTo>
                    <a:pt x="49" y="43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61920" y="5623920"/>
              <a:ext cx="75240" cy="7128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47" y="43"/>
                  </a:moveTo>
                  <a:lnTo>
                    <a:pt x="42" y="28"/>
                  </a:lnTo>
                  <a:lnTo>
                    <a:pt x="34" y="1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41" y="49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0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9840" y="5730480"/>
              <a:ext cx="22680" cy="464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9840" y="5730480"/>
              <a:ext cx="22680" cy="464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57520" y="5522040"/>
              <a:ext cx="64800" cy="42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57520" y="5522040"/>
              <a:ext cx="64800" cy="42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4"/>
                  </a:lnTo>
                  <a:lnTo>
                    <a:pt x="15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95120" y="6076080"/>
              <a:ext cx="45360" cy="7416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0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3"/>
                  </a:lnTo>
                  <a:lnTo>
                    <a:pt x="30" y="4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95120" y="6076080"/>
              <a:ext cx="45360" cy="7416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1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2"/>
                  </a:lnTo>
                  <a:lnTo>
                    <a:pt x="30" y="4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3" y="1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0560" y="6096600"/>
              <a:ext cx="34560" cy="565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0560" y="6096600"/>
              <a:ext cx="34560" cy="565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36080" y="6115320"/>
              <a:ext cx="18000" cy="3060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2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36080" y="6115320"/>
              <a:ext cx="19800" cy="32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10" y="22"/>
                  </a:lnTo>
                  <a:lnTo>
                    <a:pt x="13" y="16"/>
                  </a:lnTo>
                  <a:lnTo>
                    <a:pt x="10" y="7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57400" y="5805000"/>
              <a:ext cx="40680" cy="230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" y="12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7" y="2"/>
                  </a:lnTo>
                  <a:lnTo>
                    <a:pt x="0" y="7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57400" y="5805000"/>
              <a:ext cx="40680" cy="230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3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25720" y="5839920"/>
              <a:ext cx="23760" cy="273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2"/>
                  </a:moveTo>
                  <a:lnTo>
                    <a:pt x="3" y="8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12" y="19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27160" y="5839920"/>
              <a:ext cx="22320" cy="288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3"/>
                  </a:move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12" y="19"/>
                  </a:lnTo>
                  <a:lnTo>
                    <a:pt x="15" y="1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64960" y="5845680"/>
              <a:ext cx="34920" cy="20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64960" y="5845680"/>
              <a:ext cx="34920" cy="20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4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69560" y="5778360"/>
              <a:ext cx="40680" cy="190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8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69560" y="5778360"/>
              <a:ext cx="40680" cy="190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9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49160" y="5876280"/>
              <a:ext cx="46800" cy="230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1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9160" y="5876280"/>
              <a:ext cx="46800" cy="230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2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6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81040" y="5851440"/>
              <a:ext cx="52560" cy="23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35" y="12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040" y="5852880"/>
              <a:ext cx="54360" cy="2160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8"/>
                  </a:moveTo>
                  <a:lnTo>
                    <a:pt x="13" y="1"/>
                  </a:lnTo>
                  <a:lnTo>
                    <a:pt x="28" y="0"/>
                  </a:lnTo>
                  <a:lnTo>
                    <a:pt x="36" y="12"/>
                  </a:lnTo>
                  <a:lnTo>
                    <a:pt x="28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36040" y="5551200"/>
              <a:ext cx="128160" cy="259200"/>
            </a:xfrm>
            <a:custGeom>
              <a:avLst/>
              <a:gdLst/>
              <a:ahLst/>
              <a:rect l="l" t="t" r="r" b="b"/>
              <a:pathLst>
                <a:path w="85" h="178">
                  <a:moveTo>
                    <a:pt x="39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9" y="146"/>
                  </a:lnTo>
                  <a:lnTo>
                    <a:pt x="32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5"/>
                  </a:lnTo>
                  <a:lnTo>
                    <a:pt x="59" y="5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49" y="53"/>
                  </a:lnTo>
                  <a:lnTo>
                    <a:pt x="40" y="37"/>
                  </a:lnTo>
                  <a:lnTo>
                    <a:pt x="41" y="21"/>
                  </a:lnTo>
                  <a:lnTo>
                    <a:pt x="47" y="4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2" y="12"/>
                  </a:lnTo>
                  <a:lnTo>
                    <a:pt x="60" y="20"/>
                  </a:lnTo>
                  <a:lnTo>
                    <a:pt x="56" y="27"/>
                  </a:lnTo>
                  <a:lnTo>
                    <a:pt x="56" y="35"/>
                  </a:lnTo>
                  <a:lnTo>
                    <a:pt x="61" y="42"/>
                  </a:lnTo>
                  <a:lnTo>
                    <a:pt x="62" y="50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2" y="44"/>
                  </a:lnTo>
                  <a:lnTo>
                    <a:pt x="69" y="41"/>
                  </a:lnTo>
                  <a:lnTo>
                    <a:pt x="77" y="38"/>
                  </a:lnTo>
                  <a:lnTo>
                    <a:pt x="85" y="37"/>
                  </a:lnTo>
                  <a:lnTo>
                    <a:pt x="80" y="47"/>
                  </a:lnTo>
                  <a:lnTo>
                    <a:pt x="80" y="58"/>
                  </a:lnTo>
                  <a:lnTo>
                    <a:pt x="80" y="70"/>
                  </a:lnTo>
                  <a:lnTo>
                    <a:pt x="75" y="75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72" y="97"/>
                  </a:lnTo>
                  <a:lnTo>
                    <a:pt x="79" y="107"/>
                  </a:lnTo>
                  <a:lnTo>
                    <a:pt x="85" y="119"/>
                  </a:lnTo>
                  <a:lnTo>
                    <a:pt x="75" y="111"/>
                  </a:lnTo>
                  <a:lnTo>
                    <a:pt x="67" y="102"/>
                  </a:lnTo>
                  <a:lnTo>
                    <a:pt x="59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2" y="175"/>
                  </a:lnTo>
                  <a:lnTo>
                    <a:pt x="67" y="175"/>
                  </a:lnTo>
                  <a:lnTo>
                    <a:pt x="63" y="178"/>
                  </a:lnTo>
                  <a:lnTo>
                    <a:pt x="59" y="178"/>
                  </a:lnTo>
                  <a:lnTo>
                    <a:pt x="51" y="172"/>
                  </a:lnTo>
                  <a:lnTo>
                    <a:pt x="44" y="165"/>
                  </a:lnTo>
                  <a:lnTo>
                    <a:pt x="42" y="155"/>
                  </a:lnTo>
                  <a:lnTo>
                    <a:pt x="36" y="160"/>
                  </a:lnTo>
                  <a:lnTo>
                    <a:pt x="37" y="166"/>
                  </a:lnTo>
                  <a:lnTo>
                    <a:pt x="39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3" y="157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8" y="147"/>
                  </a:lnTo>
                  <a:lnTo>
                    <a:pt x="12" y="149"/>
                  </a:lnTo>
                  <a:lnTo>
                    <a:pt x="16" y="152"/>
                  </a:lnTo>
                  <a:lnTo>
                    <a:pt x="34" y="155"/>
                  </a:lnTo>
                  <a:lnTo>
                    <a:pt x="36" y="153"/>
                  </a:lnTo>
                  <a:lnTo>
                    <a:pt x="40" y="150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37120" y="5551200"/>
              <a:ext cx="126720" cy="259200"/>
            </a:xfrm>
            <a:custGeom>
              <a:avLst/>
              <a:gdLst/>
              <a:ahLst/>
              <a:rect l="l" t="t" r="r" b="b"/>
              <a:pathLst>
                <a:path w="84" h="178">
                  <a:moveTo>
                    <a:pt x="38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8" y="146"/>
                  </a:lnTo>
                  <a:lnTo>
                    <a:pt x="31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3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6" y="60"/>
                  </a:lnTo>
                  <a:lnTo>
                    <a:pt x="58" y="55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41" y="2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1" y="12"/>
                  </a:lnTo>
                  <a:lnTo>
                    <a:pt x="59" y="20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60" y="42"/>
                  </a:lnTo>
                  <a:lnTo>
                    <a:pt x="61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9" y="41"/>
                  </a:lnTo>
                  <a:lnTo>
                    <a:pt x="76" y="39"/>
                  </a:lnTo>
                  <a:lnTo>
                    <a:pt x="84" y="37"/>
                  </a:lnTo>
                  <a:lnTo>
                    <a:pt x="79" y="48"/>
                  </a:lnTo>
                  <a:lnTo>
                    <a:pt x="80" y="58"/>
                  </a:lnTo>
                  <a:lnTo>
                    <a:pt x="79" y="70"/>
                  </a:lnTo>
                  <a:lnTo>
                    <a:pt x="74" y="76"/>
                  </a:lnTo>
                  <a:lnTo>
                    <a:pt x="67" y="79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79" y="107"/>
                  </a:lnTo>
                  <a:lnTo>
                    <a:pt x="84" y="119"/>
                  </a:lnTo>
                  <a:lnTo>
                    <a:pt x="74" y="112"/>
                  </a:lnTo>
                  <a:lnTo>
                    <a:pt x="66" y="103"/>
                  </a:lnTo>
                  <a:lnTo>
                    <a:pt x="58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1" y="176"/>
                  </a:lnTo>
                  <a:lnTo>
                    <a:pt x="66" y="175"/>
                  </a:lnTo>
                  <a:lnTo>
                    <a:pt x="62" y="178"/>
                  </a:lnTo>
                  <a:lnTo>
                    <a:pt x="58" y="178"/>
                  </a:lnTo>
                  <a:lnTo>
                    <a:pt x="50" y="172"/>
                  </a:lnTo>
                  <a:lnTo>
                    <a:pt x="43" y="165"/>
                  </a:lnTo>
                  <a:lnTo>
                    <a:pt x="41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8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2" y="149"/>
                  </a:lnTo>
                  <a:lnTo>
                    <a:pt x="15" y="152"/>
                  </a:lnTo>
                  <a:lnTo>
                    <a:pt x="33" y="155"/>
                  </a:lnTo>
                  <a:lnTo>
                    <a:pt x="36" y="153"/>
                  </a:lnTo>
                  <a:lnTo>
                    <a:pt x="39" y="150"/>
                  </a:lnTo>
                  <a:lnTo>
                    <a:pt x="38" y="14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41520" y="5548320"/>
              <a:ext cx="39240" cy="392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10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520" y="5548320"/>
              <a:ext cx="39240" cy="392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9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5520" y="5740920"/>
              <a:ext cx="45000" cy="374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9"/>
                  </a:moveTo>
                  <a:lnTo>
                    <a:pt x="7" y="3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0" y="9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85520" y="5742000"/>
              <a:ext cx="45000" cy="363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8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14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0" y="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3520" y="5768640"/>
              <a:ext cx="553680" cy="291240"/>
            </a:xfrm>
            <a:custGeom>
              <a:avLst/>
              <a:gdLst/>
              <a:ahLst/>
              <a:rect l="l" t="t" r="r" b="b"/>
              <a:pathLst>
                <a:path w="366" h="200">
                  <a:moveTo>
                    <a:pt x="307" y="200"/>
                  </a:moveTo>
                  <a:lnTo>
                    <a:pt x="260" y="190"/>
                  </a:lnTo>
                  <a:lnTo>
                    <a:pt x="212" y="182"/>
                  </a:lnTo>
                  <a:lnTo>
                    <a:pt x="167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4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9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7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1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9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8"/>
                  </a:lnTo>
                  <a:lnTo>
                    <a:pt x="66" y="88"/>
                  </a:lnTo>
                  <a:lnTo>
                    <a:pt x="64" y="96"/>
                  </a:lnTo>
                  <a:lnTo>
                    <a:pt x="61" y="102"/>
                  </a:lnTo>
                  <a:lnTo>
                    <a:pt x="56" y="108"/>
                  </a:lnTo>
                  <a:lnTo>
                    <a:pt x="47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4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6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29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0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2"/>
                  </a:lnTo>
                  <a:lnTo>
                    <a:pt x="125" y="15"/>
                  </a:lnTo>
                  <a:lnTo>
                    <a:pt x="151" y="18"/>
                  </a:lnTo>
                  <a:lnTo>
                    <a:pt x="175" y="27"/>
                  </a:lnTo>
                  <a:lnTo>
                    <a:pt x="176" y="29"/>
                  </a:lnTo>
                  <a:lnTo>
                    <a:pt x="175" y="33"/>
                  </a:lnTo>
                  <a:lnTo>
                    <a:pt x="173" y="36"/>
                  </a:lnTo>
                  <a:lnTo>
                    <a:pt x="176" y="43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75" y="81"/>
                  </a:lnTo>
                  <a:lnTo>
                    <a:pt x="180" y="104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9" y="114"/>
                  </a:lnTo>
                  <a:lnTo>
                    <a:pt x="208" y="114"/>
                  </a:lnTo>
                  <a:lnTo>
                    <a:pt x="215" y="120"/>
                  </a:lnTo>
                  <a:lnTo>
                    <a:pt x="215" y="131"/>
                  </a:lnTo>
                  <a:lnTo>
                    <a:pt x="219" y="141"/>
                  </a:lnTo>
                  <a:lnTo>
                    <a:pt x="222" y="142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8" y="129"/>
                  </a:lnTo>
                  <a:lnTo>
                    <a:pt x="247" y="117"/>
                  </a:lnTo>
                  <a:lnTo>
                    <a:pt x="261" y="110"/>
                  </a:lnTo>
                  <a:lnTo>
                    <a:pt x="263" y="106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9" y="88"/>
                  </a:lnTo>
                  <a:lnTo>
                    <a:pt x="295" y="88"/>
                  </a:lnTo>
                  <a:lnTo>
                    <a:pt x="311" y="85"/>
                  </a:lnTo>
                  <a:lnTo>
                    <a:pt x="314" y="81"/>
                  </a:lnTo>
                  <a:lnTo>
                    <a:pt x="318" y="76"/>
                  </a:lnTo>
                  <a:lnTo>
                    <a:pt x="321" y="73"/>
                  </a:lnTo>
                  <a:lnTo>
                    <a:pt x="329" y="72"/>
                  </a:lnTo>
                  <a:lnTo>
                    <a:pt x="337" y="73"/>
                  </a:lnTo>
                  <a:lnTo>
                    <a:pt x="343" y="71"/>
                  </a:lnTo>
                  <a:lnTo>
                    <a:pt x="348" y="63"/>
                  </a:lnTo>
                  <a:lnTo>
                    <a:pt x="350" y="53"/>
                  </a:lnTo>
                  <a:lnTo>
                    <a:pt x="351" y="42"/>
                  </a:lnTo>
                  <a:lnTo>
                    <a:pt x="357" y="42"/>
                  </a:lnTo>
                  <a:lnTo>
                    <a:pt x="362" y="39"/>
                  </a:lnTo>
                  <a:lnTo>
                    <a:pt x="366" y="40"/>
                  </a:lnTo>
                  <a:lnTo>
                    <a:pt x="366" y="47"/>
                  </a:lnTo>
                  <a:lnTo>
                    <a:pt x="364" y="65"/>
                  </a:lnTo>
                  <a:lnTo>
                    <a:pt x="357" y="84"/>
                  </a:lnTo>
                  <a:lnTo>
                    <a:pt x="345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8" y="165"/>
                  </a:lnTo>
                  <a:lnTo>
                    <a:pt x="311" y="188"/>
                  </a:lnTo>
                  <a:lnTo>
                    <a:pt x="307" y="20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05320" y="5768640"/>
              <a:ext cx="551880" cy="29124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306" y="200"/>
                  </a:moveTo>
                  <a:lnTo>
                    <a:pt x="259" y="190"/>
                  </a:lnTo>
                  <a:lnTo>
                    <a:pt x="212" y="182"/>
                  </a:lnTo>
                  <a:lnTo>
                    <a:pt x="166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3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8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6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0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8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9"/>
                  </a:lnTo>
                  <a:lnTo>
                    <a:pt x="66" y="88"/>
                  </a:lnTo>
                  <a:lnTo>
                    <a:pt x="64" y="97"/>
                  </a:lnTo>
                  <a:lnTo>
                    <a:pt x="61" y="102"/>
                  </a:lnTo>
                  <a:lnTo>
                    <a:pt x="55" y="108"/>
                  </a:lnTo>
                  <a:lnTo>
                    <a:pt x="46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5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7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1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3"/>
                  </a:lnTo>
                  <a:lnTo>
                    <a:pt x="125" y="15"/>
                  </a:lnTo>
                  <a:lnTo>
                    <a:pt x="150" y="18"/>
                  </a:lnTo>
                  <a:lnTo>
                    <a:pt x="175" y="27"/>
                  </a:lnTo>
                  <a:lnTo>
                    <a:pt x="175" y="29"/>
                  </a:lnTo>
                  <a:lnTo>
                    <a:pt x="174" y="33"/>
                  </a:lnTo>
                  <a:lnTo>
                    <a:pt x="173" y="37"/>
                  </a:lnTo>
                  <a:lnTo>
                    <a:pt x="176" y="43"/>
                  </a:lnTo>
                  <a:lnTo>
                    <a:pt x="182" y="49"/>
                  </a:lnTo>
                  <a:lnTo>
                    <a:pt x="183" y="55"/>
                  </a:lnTo>
                  <a:lnTo>
                    <a:pt x="174" y="81"/>
                  </a:lnTo>
                  <a:lnTo>
                    <a:pt x="180" y="104"/>
                  </a:lnTo>
                  <a:lnTo>
                    <a:pt x="194" y="121"/>
                  </a:lnTo>
                  <a:lnTo>
                    <a:pt x="194" y="117"/>
                  </a:lnTo>
                  <a:lnTo>
                    <a:pt x="198" y="114"/>
                  </a:lnTo>
                  <a:lnTo>
                    <a:pt x="208" y="114"/>
                  </a:lnTo>
                  <a:lnTo>
                    <a:pt x="214" y="120"/>
                  </a:lnTo>
                  <a:lnTo>
                    <a:pt x="215" y="131"/>
                  </a:lnTo>
                  <a:lnTo>
                    <a:pt x="218" y="141"/>
                  </a:lnTo>
                  <a:lnTo>
                    <a:pt x="221" y="142"/>
                  </a:lnTo>
                  <a:lnTo>
                    <a:pt x="224" y="142"/>
                  </a:lnTo>
                  <a:lnTo>
                    <a:pt x="227" y="141"/>
                  </a:lnTo>
                  <a:lnTo>
                    <a:pt x="237" y="129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63" y="107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8" y="88"/>
                  </a:lnTo>
                  <a:lnTo>
                    <a:pt x="294" y="89"/>
                  </a:lnTo>
                  <a:lnTo>
                    <a:pt x="310" y="85"/>
                  </a:lnTo>
                  <a:lnTo>
                    <a:pt x="313" y="81"/>
                  </a:lnTo>
                  <a:lnTo>
                    <a:pt x="317" y="76"/>
                  </a:lnTo>
                  <a:lnTo>
                    <a:pt x="321" y="73"/>
                  </a:lnTo>
                  <a:lnTo>
                    <a:pt x="328" y="73"/>
                  </a:lnTo>
                  <a:lnTo>
                    <a:pt x="336" y="73"/>
                  </a:lnTo>
                  <a:lnTo>
                    <a:pt x="342" y="71"/>
                  </a:lnTo>
                  <a:lnTo>
                    <a:pt x="347" y="63"/>
                  </a:lnTo>
                  <a:lnTo>
                    <a:pt x="349" y="53"/>
                  </a:lnTo>
                  <a:lnTo>
                    <a:pt x="350" y="43"/>
                  </a:lnTo>
                  <a:lnTo>
                    <a:pt x="356" y="42"/>
                  </a:lnTo>
                  <a:lnTo>
                    <a:pt x="361" y="39"/>
                  </a:lnTo>
                  <a:lnTo>
                    <a:pt x="365" y="40"/>
                  </a:lnTo>
                  <a:lnTo>
                    <a:pt x="365" y="47"/>
                  </a:lnTo>
                  <a:lnTo>
                    <a:pt x="363" y="65"/>
                  </a:lnTo>
                  <a:lnTo>
                    <a:pt x="357" y="85"/>
                  </a:lnTo>
                  <a:lnTo>
                    <a:pt x="344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7" y="165"/>
                  </a:lnTo>
                  <a:lnTo>
                    <a:pt x="310" y="188"/>
                  </a:lnTo>
                  <a:lnTo>
                    <a:pt x="306" y="20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69920" y="6130080"/>
              <a:ext cx="55800" cy="756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5" y="35"/>
                  </a:lnTo>
                  <a:lnTo>
                    <a:pt x="0" y="36"/>
                  </a:lnTo>
                  <a:lnTo>
                    <a:pt x="8" y="47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9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9920" y="6130080"/>
              <a:ext cx="55800" cy="756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10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8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59400" y="6134400"/>
              <a:ext cx="25560" cy="363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1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59400" y="6134400"/>
              <a:ext cx="25560" cy="363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69640" y="5787360"/>
              <a:ext cx="58680" cy="3024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3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7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9640" y="5788800"/>
              <a:ext cx="58680" cy="3060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2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5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6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65320" y="5850000"/>
              <a:ext cx="84600" cy="1620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1"/>
                  </a:lnTo>
                  <a:lnTo>
                    <a:pt x="56" y="2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65320" y="5850000"/>
              <a:ext cx="84600" cy="1728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0" y="1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6" y="5"/>
                  </a:lnTo>
                  <a:lnTo>
                    <a:pt x="55" y="7"/>
                  </a:lnTo>
                  <a:lnTo>
                    <a:pt x="40" y="12"/>
                  </a:lnTo>
                  <a:lnTo>
                    <a:pt x="24" y="7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24280" y="5806440"/>
              <a:ext cx="21240" cy="234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24280" y="5807880"/>
              <a:ext cx="21240" cy="21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9600" y="5628240"/>
              <a:ext cx="90720" cy="1440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6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59600" y="5628240"/>
              <a:ext cx="90720" cy="1440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74520" y="5300280"/>
              <a:ext cx="36000" cy="14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"/>
                  </a:moveTo>
                  <a:lnTo>
                    <a:pt x="14" y="1"/>
                  </a:lnTo>
                  <a:lnTo>
                    <a:pt x="4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14" y="7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74520" y="5301720"/>
              <a:ext cx="36000" cy="129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lnTo>
                    <a:pt x="1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9"/>
                  </a:lnTo>
                  <a:lnTo>
                    <a:pt x="14" y="6"/>
                  </a:lnTo>
                  <a:lnTo>
                    <a:pt x="24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07920" y="5349960"/>
              <a:ext cx="11880" cy="288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07920" y="5349960"/>
              <a:ext cx="11880" cy="288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4280" y="5436000"/>
              <a:ext cx="11880" cy="14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3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9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04280" y="5436000"/>
              <a:ext cx="11880" cy="162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3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39240" y="4260600"/>
              <a:ext cx="187560" cy="12960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1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9240" y="4260600"/>
              <a:ext cx="187560" cy="12960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0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8320" y="3850920"/>
              <a:ext cx="195120" cy="28548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8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1" y="174"/>
                  </a:lnTo>
                  <a:lnTo>
                    <a:pt x="47" y="182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0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4" y="73"/>
                  </a:lnTo>
                  <a:lnTo>
                    <a:pt x="28" y="60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68320" y="3850920"/>
              <a:ext cx="195120" cy="28548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9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2" y="174"/>
                  </a:lnTo>
                  <a:lnTo>
                    <a:pt x="47" y="183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1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5" y="73"/>
                  </a:lnTo>
                  <a:lnTo>
                    <a:pt x="28" y="61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6"/>
                  </a:lnTo>
                  <a:lnTo>
                    <a:pt x="123" y="1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13800" y="4735800"/>
              <a:ext cx="51120" cy="18972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3" y="20"/>
                  </a:moveTo>
                  <a:lnTo>
                    <a:pt x="34" y="58"/>
                  </a:lnTo>
                  <a:lnTo>
                    <a:pt x="31" y="95"/>
                  </a:lnTo>
                  <a:lnTo>
                    <a:pt x="17" y="130"/>
                  </a:lnTo>
                  <a:lnTo>
                    <a:pt x="13" y="130"/>
                  </a:lnTo>
                  <a:lnTo>
                    <a:pt x="9" y="122"/>
                  </a:lnTo>
                  <a:lnTo>
                    <a:pt x="0" y="119"/>
                  </a:lnTo>
                  <a:lnTo>
                    <a:pt x="7" y="97"/>
                  </a:lnTo>
                  <a:lnTo>
                    <a:pt x="12" y="74"/>
                  </a:lnTo>
                  <a:lnTo>
                    <a:pt x="19" y="53"/>
                  </a:lnTo>
                  <a:lnTo>
                    <a:pt x="21" y="35"/>
                  </a:lnTo>
                  <a:lnTo>
                    <a:pt x="18" y="18"/>
                  </a:lnTo>
                  <a:lnTo>
                    <a:pt x="20" y="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15240" y="4735800"/>
              <a:ext cx="49680" cy="19080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32" y="20"/>
                  </a:moveTo>
                  <a:lnTo>
                    <a:pt x="33" y="59"/>
                  </a:lnTo>
                  <a:lnTo>
                    <a:pt x="30" y="96"/>
                  </a:lnTo>
                  <a:lnTo>
                    <a:pt x="17" y="131"/>
                  </a:lnTo>
                  <a:lnTo>
                    <a:pt x="12" y="131"/>
                  </a:lnTo>
                  <a:lnTo>
                    <a:pt x="8" y="122"/>
                  </a:lnTo>
                  <a:lnTo>
                    <a:pt x="0" y="119"/>
                  </a:lnTo>
                  <a:lnTo>
                    <a:pt x="6" y="97"/>
                  </a:lnTo>
                  <a:lnTo>
                    <a:pt x="11" y="75"/>
                  </a:lnTo>
                  <a:lnTo>
                    <a:pt x="18" y="53"/>
                  </a:lnTo>
                  <a:lnTo>
                    <a:pt x="20" y="36"/>
                  </a:lnTo>
                  <a:lnTo>
                    <a:pt x="18" y="18"/>
                  </a:lnTo>
                  <a:lnTo>
                    <a:pt x="19" y="0"/>
                  </a:lnTo>
                  <a:lnTo>
                    <a:pt x="32" y="2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04800" y="4985640"/>
              <a:ext cx="29880" cy="288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04800" y="4986720"/>
              <a:ext cx="29880" cy="27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19"/>
                  </a:lnTo>
                  <a:lnTo>
                    <a:pt x="19" y="14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74280" y="5128560"/>
              <a:ext cx="28800" cy="2304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74280" y="5128560"/>
              <a:ext cx="28800" cy="2304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4520" y="5198040"/>
              <a:ext cx="29880" cy="464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0"/>
                  </a:moveTo>
                  <a:lnTo>
                    <a:pt x="6" y="11"/>
                  </a:lnTo>
                  <a:lnTo>
                    <a:pt x="7" y="25"/>
                  </a:lnTo>
                  <a:lnTo>
                    <a:pt x="20" y="32"/>
                  </a:lnTo>
                  <a:lnTo>
                    <a:pt x="12" y="22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4520" y="5198040"/>
              <a:ext cx="29880" cy="482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6" y="11"/>
                  </a:lnTo>
                  <a:lnTo>
                    <a:pt x="7" y="26"/>
                  </a:lnTo>
                  <a:lnTo>
                    <a:pt x="20" y="33"/>
                  </a:lnTo>
                  <a:lnTo>
                    <a:pt x="12" y="23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11840" y="3186000"/>
              <a:ext cx="81360" cy="392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40" y="6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9" y="26"/>
                  </a:lnTo>
                  <a:lnTo>
                    <a:pt x="37" y="27"/>
                  </a:lnTo>
                  <a:lnTo>
                    <a:pt x="52" y="18"/>
                  </a:lnTo>
                  <a:lnTo>
                    <a:pt x="54" y="13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12920" y="3186000"/>
              <a:ext cx="80280" cy="392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0" y="7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36" y="27"/>
                  </a:lnTo>
                  <a:lnTo>
                    <a:pt x="51" y="18"/>
                  </a:lnTo>
                  <a:lnTo>
                    <a:pt x="53" y="13"/>
                  </a:lnTo>
                  <a:lnTo>
                    <a:pt x="53" y="7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82000" y="2868120"/>
              <a:ext cx="34920" cy="363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7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82000" y="2868120"/>
              <a:ext cx="34920" cy="363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8"/>
                  </a:lnTo>
                  <a:lnTo>
                    <a:pt x="0" y="11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50600" y="3168360"/>
              <a:ext cx="158760" cy="23148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40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2" y="9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0" y="8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1"/>
                  </a:lnTo>
                  <a:lnTo>
                    <a:pt x="41" y="44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4" y="81"/>
                  </a:lnTo>
                  <a:lnTo>
                    <a:pt x="31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2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29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6" y="133"/>
                  </a:lnTo>
                  <a:lnTo>
                    <a:pt x="86" y="111"/>
                  </a:lnTo>
                  <a:lnTo>
                    <a:pt x="90" y="86"/>
                  </a:lnTo>
                  <a:lnTo>
                    <a:pt x="92" y="82"/>
                  </a:lnTo>
                  <a:lnTo>
                    <a:pt x="96" y="79"/>
                  </a:lnTo>
                  <a:lnTo>
                    <a:pt x="95" y="7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50600" y="3168360"/>
              <a:ext cx="158760" cy="23148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39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0"/>
                  </a:lnTo>
                  <a:lnTo>
                    <a:pt x="41" y="43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3" y="81"/>
                  </a:lnTo>
                  <a:lnTo>
                    <a:pt x="30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1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30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5" y="133"/>
                  </a:lnTo>
                  <a:lnTo>
                    <a:pt x="86" y="111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6" y="79"/>
                  </a:lnTo>
                  <a:lnTo>
                    <a:pt x="95" y="7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14240" y="32180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0"/>
                  </a:moveTo>
                  <a:lnTo>
                    <a:pt x="6" y="1"/>
                  </a:lnTo>
                  <a:lnTo>
                    <a:pt x="4" y="7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14240" y="3219480"/>
              <a:ext cx="25560" cy="219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6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9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61320" y="3235680"/>
              <a:ext cx="43560" cy="34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9" y="4"/>
                  </a:moveTo>
                  <a:lnTo>
                    <a:pt x="10" y="11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61320" y="3235680"/>
              <a:ext cx="43560" cy="363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4"/>
                  </a:moveTo>
                  <a:lnTo>
                    <a:pt x="1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36640" y="3404520"/>
              <a:ext cx="18000" cy="4932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36640" y="3404520"/>
              <a:ext cx="18000" cy="4932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93080" y="3423600"/>
              <a:ext cx="22320" cy="349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4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93080" y="3423600"/>
              <a:ext cx="22320" cy="349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3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4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44280" y="3137760"/>
              <a:ext cx="181440" cy="13716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110" y="34"/>
                  </a:moveTo>
                  <a:lnTo>
                    <a:pt x="114" y="26"/>
                  </a:lnTo>
                  <a:lnTo>
                    <a:pt x="117" y="17"/>
                  </a:lnTo>
                  <a:lnTo>
                    <a:pt x="120" y="8"/>
                  </a:lnTo>
                  <a:lnTo>
                    <a:pt x="105" y="5"/>
                  </a:lnTo>
                  <a:lnTo>
                    <a:pt x="91" y="0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55" y="10"/>
                  </a:lnTo>
                  <a:lnTo>
                    <a:pt x="43" y="9"/>
                  </a:lnTo>
                  <a:lnTo>
                    <a:pt x="32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16" y="77"/>
                  </a:lnTo>
                  <a:lnTo>
                    <a:pt x="30" y="87"/>
                  </a:lnTo>
                  <a:lnTo>
                    <a:pt x="47" y="94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7"/>
                  </a:lnTo>
                  <a:lnTo>
                    <a:pt x="44" y="84"/>
                  </a:lnTo>
                  <a:lnTo>
                    <a:pt x="39" y="84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50" y="67"/>
                  </a:lnTo>
                  <a:lnTo>
                    <a:pt x="55" y="54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6" y="40"/>
                  </a:lnTo>
                  <a:lnTo>
                    <a:pt x="110" y="3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44280" y="3139200"/>
              <a:ext cx="182880" cy="13536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111" y="34"/>
                  </a:moveTo>
                  <a:lnTo>
                    <a:pt x="115" y="25"/>
                  </a:lnTo>
                  <a:lnTo>
                    <a:pt x="118" y="17"/>
                  </a:lnTo>
                  <a:lnTo>
                    <a:pt x="121" y="8"/>
                  </a:lnTo>
                  <a:lnTo>
                    <a:pt x="106" y="4"/>
                  </a:lnTo>
                  <a:lnTo>
                    <a:pt x="92" y="0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56" y="10"/>
                  </a:lnTo>
                  <a:lnTo>
                    <a:pt x="43" y="9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3" y="64"/>
                  </a:lnTo>
                  <a:lnTo>
                    <a:pt x="16" y="76"/>
                  </a:lnTo>
                  <a:lnTo>
                    <a:pt x="31" y="87"/>
                  </a:lnTo>
                  <a:lnTo>
                    <a:pt x="47" y="93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47" y="87"/>
                  </a:lnTo>
                  <a:lnTo>
                    <a:pt x="44" y="83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43" y="80"/>
                  </a:lnTo>
                  <a:lnTo>
                    <a:pt x="47" y="80"/>
                  </a:lnTo>
                  <a:lnTo>
                    <a:pt x="51" y="66"/>
                  </a:lnTo>
                  <a:lnTo>
                    <a:pt x="55" y="54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1" y="41"/>
                  </a:lnTo>
                  <a:lnTo>
                    <a:pt x="95" y="47"/>
                  </a:lnTo>
                  <a:lnTo>
                    <a:pt x="98" y="50"/>
                  </a:lnTo>
                  <a:lnTo>
                    <a:pt x="101" y="47"/>
                  </a:lnTo>
                  <a:lnTo>
                    <a:pt x="107" y="39"/>
                  </a:lnTo>
                  <a:lnTo>
                    <a:pt x="111" y="3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58240" y="2620080"/>
              <a:ext cx="810720" cy="56844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19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1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3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7" y="349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6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4" y="363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60" y="376"/>
                  </a:lnTo>
                  <a:lnTo>
                    <a:pt x="61" y="379"/>
                  </a:lnTo>
                  <a:lnTo>
                    <a:pt x="59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6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7" y="325"/>
                  </a:lnTo>
                  <a:lnTo>
                    <a:pt x="58" y="323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8" y="282"/>
                  </a:lnTo>
                  <a:lnTo>
                    <a:pt x="145" y="287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4" y="239"/>
                  </a:lnTo>
                  <a:lnTo>
                    <a:pt x="284" y="227"/>
                  </a:lnTo>
                  <a:lnTo>
                    <a:pt x="284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4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2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1" y="224"/>
                  </a:lnTo>
                  <a:lnTo>
                    <a:pt x="312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7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2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3" y="22"/>
                  </a:lnTo>
                  <a:lnTo>
                    <a:pt x="508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6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8"/>
                  </a:lnTo>
                  <a:lnTo>
                    <a:pt x="514" y="112"/>
                  </a:lnTo>
                  <a:lnTo>
                    <a:pt x="501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7"/>
                  </a:lnTo>
                  <a:lnTo>
                    <a:pt x="499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4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0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1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19"/>
                  </a:lnTo>
                  <a:lnTo>
                    <a:pt x="359" y="314"/>
                  </a:lnTo>
                  <a:lnTo>
                    <a:pt x="355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7"/>
                  </a:lnTo>
                  <a:lnTo>
                    <a:pt x="259" y="362"/>
                  </a:lnTo>
                  <a:lnTo>
                    <a:pt x="250" y="376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19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7" y="366"/>
                  </a:lnTo>
                  <a:lnTo>
                    <a:pt x="191" y="359"/>
                  </a:lnTo>
                  <a:lnTo>
                    <a:pt x="193" y="349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89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0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58240" y="2620080"/>
              <a:ext cx="810720" cy="56844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20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2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4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8" y="350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7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5" y="363"/>
                  </a:lnTo>
                  <a:lnTo>
                    <a:pt x="48" y="370"/>
                  </a:lnTo>
                  <a:lnTo>
                    <a:pt x="53" y="376"/>
                  </a:lnTo>
                  <a:lnTo>
                    <a:pt x="61" y="376"/>
                  </a:lnTo>
                  <a:lnTo>
                    <a:pt x="61" y="379"/>
                  </a:lnTo>
                  <a:lnTo>
                    <a:pt x="60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7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8" y="325"/>
                  </a:lnTo>
                  <a:lnTo>
                    <a:pt x="58" y="324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9" y="283"/>
                  </a:lnTo>
                  <a:lnTo>
                    <a:pt x="145" y="288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5" y="239"/>
                  </a:lnTo>
                  <a:lnTo>
                    <a:pt x="284" y="227"/>
                  </a:lnTo>
                  <a:lnTo>
                    <a:pt x="285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5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3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2" y="224"/>
                  </a:lnTo>
                  <a:lnTo>
                    <a:pt x="313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8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3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4" y="23"/>
                  </a:lnTo>
                  <a:lnTo>
                    <a:pt x="509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7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5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9"/>
                  </a:lnTo>
                  <a:lnTo>
                    <a:pt x="514" y="112"/>
                  </a:lnTo>
                  <a:lnTo>
                    <a:pt x="502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8"/>
                  </a:lnTo>
                  <a:lnTo>
                    <a:pt x="500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5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1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2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20"/>
                  </a:lnTo>
                  <a:lnTo>
                    <a:pt x="359" y="314"/>
                  </a:lnTo>
                  <a:lnTo>
                    <a:pt x="356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8"/>
                  </a:lnTo>
                  <a:lnTo>
                    <a:pt x="259" y="363"/>
                  </a:lnTo>
                  <a:lnTo>
                    <a:pt x="250" y="377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20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8" y="366"/>
                  </a:lnTo>
                  <a:lnTo>
                    <a:pt x="191" y="359"/>
                  </a:lnTo>
                  <a:lnTo>
                    <a:pt x="193" y="350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90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1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75560" y="2809800"/>
              <a:ext cx="45000" cy="51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2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75560" y="2809800"/>
              <a:ext cx="45000" cy="51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3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" y="28"/>
                  </a:lnTo>
                  <a:lnTo>
                    <a:pt x="9" y="31"/>
                  </a:lnTo>
                  <a:lnTo>
                    <a:pt x="13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23880" y="2181240"/>
              <a:ext cx="306720" cy="45900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7" y="294"/>
                  </a:moveTo>
                  <a:lnTo>
                    <a:pt x="2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5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5" y="228"/>
                  </a:lnTo>
                  <a:lnTo>
                    <a:pt x="54" y="217"/>
                  </a:lnTo>
                  <a:lnTo>
                    <a:pt x="51" y="210"/>
                  </a:lnTo>
                  <a:lnTo>
                    <a:pt x="43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1"/>
                  </a:lnTo>
                  <a:lnTo>
                    <a:pt x="126" y="186"/>
                  </a:lnTo>
                  <a:lnTo>
                    <a:pt x="149" y="189"/>
                  </a:lnTo>
                  <a:lnTo>
                    <a:pt x="171" y="186"/>
                  </a:lnTo>
                  <a:lnTo>
                    <a:pt x="171" y="183"/>
                  </a:lnTo>
                  <a:lnTo>
                    <a:pt x="167" y="178"/>
                  </a:lnTo>
                  <a:lnTo>
                    <a:pt x="166" y="172"/>
                  </a:lnTo>
                  <a:lnTo>
                    <a:pt x="172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6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8"/>
                  </a:lnTo>
                  <a:lnTo>
                    <a:pt x="107" y="30"/>
                  </a:lnTo>
                  <a:lnTo>
                    <a:pt x="114" y="43"/>
                  </a:lnTo>
                  <a:lnTo>
                    <a:pt x="117" y="59"/>
                  </a:lnTo>
                  <a:lnTo>
                    <a:pt x="117" y="75"/>
                  </a:lnTo>
                  <a:lnTo>
                    <a:pt x="111" y="90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5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1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0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4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4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4"/>
                  </a:lnTo>
                  <a:lnTo>
                    <a:pt x="30" y="268"/>
                  </a:lnTo>
                  <a:lnTo>
                    <a:pt x="27" y="275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3" y="291"/>
                  </a:lnTo>
                  <a:lnTo>
                    <a:pt x="10" y="291"/>
                  </a:lnTo>
                  <a:lnTo>
                    <a:pt x="11" y="291"/>
                  </a:lnTo>
                  <a:lnTo>
                    <a:pt x="9" y="291"/>
                  </a:lnTo>
                  <a:lnTo>
                    <a:pt x="7" y="29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23880" y="2181240"/>
              <a:ext cx="306720" cy="45900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8" y="294"/>
                  </a:moveTo>
                  <a:lnTo>
                    <a:pt x="3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6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58" y="232"/>
                  </a:lnTo>
                  <a:lnTo>
                    <a:pt x="55" y="228"/>
                  </a:lnTo>
                  <a:lnTo>
                    <a:pt x="54" y="218"/>
                  </a:lnTo>
                  <a:lnTo>
                    <a:pt x="51" y="210"/>
                  </a:lnTo>
                  <a:lnTo>
                    <a:pt x="44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2"/>
                  </a:lnTo>
                  <a:lnTo>
                    <a:pt x="127" y="186"/>
                  </a:lnTo>
                  <a:lnTo>
                    <a:pt x="149" y="190"/>
                  </a:lnTo>
                  <a:lnTo>
                    <a:pt x="172" y="187"/>
                  </a:lnTo>
                  <a:lnTo>
                    <a:pt x="171" y="183"/>
                  </a:lnTo>
                  <a:lnTo>
                    <a:pt x="168" y="178"/>
                  </a:lnTo>
                  <a:lnTo>
                    <a:pt x="167" y="172"/>
                  </a:lnTo>
                  <a:lnTo>
                    <a:pt x="173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7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9"/>
                  </a:lnTo>
                  <a:lnTo>
                    <a:pt x="107" y="30"/>
                  </a:lnTo>
                  <a:lnTo>
                    <a:pt x="114" y="44"/>
                  </a:lnTo>
                  <a:lnTo>
                    <a:pt x="117" y="59"/>
                  </a:lnTo>
                  <a:lnTo>
                    <a:pt x="118" y="75"/>
                  </a:lnTo>
                  <a:lnTo>
                    <a:pt x="111" y="91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6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2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1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5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5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27" y="276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4" y="291"/>
                  </a:lnTo>
                  <a:lnTo>
                    <a:pt x="11" y="291"/>
                  </a:lnTo>
                  <a:lnTo>
                    <a:pt x="12" y="291"/>
                  </a:lnTo>
                  <a:lnTo>
                    <a:pt x="9" y="291"/>
                  </a:lnTo>
                  <a:lnTo>
                    <a:pt x="8" y="29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23240" y="3132000"/>
              <a:ext cx="28800" cy="49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7" y="0"/>
                  </a:moveTo>
                  <a:lnTo>
                    <a:pt x="1" y="7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19" y="24"/>
                  </a:lnTo>
                  <a:lnTo>
                    <a:pt x="11" y="15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23240" y="3132000"/>
              <a:ext cx="30240" cy="493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8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7" y="30"/>
                  </a:lnTo>
                  <a:lnTo>
                    <a:pt x="13" y="34"/>
                  </a:lnTo>
                  <a:lnTo>
                    <a:pt x="17" y="30"/>
                  </a:lnTo>
                  <a:lnTo>
                    <a:pt x="20" y="23"/>
                  </a:lnTo>
                  <a:lnTo>
                    <a:pt x="12" y="15"/>
                  </a:lnTo>
                  <a:lnTo>
                    <a:pt x="13" y="3"/>
                  </a:lnTo>
                  <a:lnTo>
                    <a:pt x="8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52040" y="3503880"/>
              <a:ext cx="29880" cy="482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52040" y="3503880"/>
              <a:ext cx="29880" cy="482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1"/>
                  </a:lnTo>
                  <a:lnTo>
                    <a:pt x="0" y="2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90120" y="3609000"/>
              <a:ext cx="24120" cy="392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0120" y="3609000"/>
              <a:ext cx="24120" cy="392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35760" y="3677400"/>
              <a:ext cx="27000" cy="378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35760" y="3677400"/>
              <a:ext cx="27000" cy="378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25240" y="3744360"/>
              <a:ext cx="96480" cy="579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25240" y="3744360"/>
              <a:ext cx="96480" cy="579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82080" y="2964600"/>
              <a:ext cx="30240" cy="288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82080" y="2964600"/>
              <a:ext cx="30240" cy="288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76120" y="3737160"/>
              <a:ext cx="360000" cy="43272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8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7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5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10" y="151"/>
                  </a:lnTo>
                  <a:lnTo>
                    <a:pt x="208" y="152"/>
                  </a:lnTo>
                  <a:lnTo>
                    <a:pt x="203" y="151"/>
                  </a:lnTo>
                  <a:lnTo>
                    <a:pt x="199" y="149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6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5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1"/>
                  </a:lnTo>
                  <a:lnTo>
                    <a:pt x="170" y="140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3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7"/>
                  </a:lnTo>
                  <a:lnTo>
                    <a:pt x="230" y="97"/>
                  </a:lnTo>
                  <a:lnTo>
                    <a:pt x="232" y="96"/>
                  </a:lnTo>
                  <a:lnTo>
                    <a:pt x="233" y="93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7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0"/>
                  </a:lnTo>
                  <a:lnTo>
                    <a:pt x="94" y="51"/>
                  </a:lnTo>
                  <a:lnTo>
                    <a:pt x="95" y="42"/>
                  </a:lnTo>
                  <a:lnTo>
                    <a:pt x="97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1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2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8"/>
                  </a:lnTo>
                  <a:lnTo>
                    <a:pt x="9" y="110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0" y="163"/>
                  </a:lnTo>
                  <a:lnTo>
                    <a:pt x="39" y="163"/>
                  </a:lnTo>
                  <a:lnTo>
                    <a:pt x="38" y="163"/>
                  </a:lnTo>
                  <a:lnTo>
                    <a:pt x="36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39" y="174"/>
                  </a:lnTo>
                  <a:lnTo>
                    <a:pt x="43" y="174"/>
                  </a:lnTo>
                  <a:lnTo>
                    <a:pt x="42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0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7" y="266"/>
                  </a:lnTo>
                  <a:lnTo>
                    <a:pt x="78" y="257"/>
                  </a:lnTo>
                  <a:lnTo>
                    <a:pt x="79" y="249"/>
                  </a:lnTo>
                  <a:lnTo>
                    <a:pt x="78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0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0" y="254"/>
                  </a:lnTo>
                  <a:lnTo>
                    <a:pt x="80" y="260"/>
                  </a:lnTo>
                  <a:lnTo>
                    <a:pt x="79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2"/>
                  </a:lnTo>
                  <a:lnTo>
                    <a:pt x="104" y="241"/>
                  </a:lnTo>
                  <a:lnTo>
                    <a:pt x="104" y="247"/>
                  </a:lnTo>
                  <a:lnTo>
                    <a:pt x="107" y="252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4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7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5"/>
                  </a:lnTo>
                  <a:lnTo>
                    <a:pt x="127" y="202"/>
                  </a:lnTo>
                  <a:lnTo>
                    <a:pt x="129" y="198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1" y="228"/>
                  </a:lnTo>
                  <a:lnTo>
                    <a:pt x="148" y="221"/>
                  </a:lnTo>
                  <a:lnTo>
                    <a:pt x="142" y="212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2"/>
                  </a:lnTo>
                  <a:lnTo>
                    <a:pt x="138" y="194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8"/>
                  </a:lnTo>
                  <a:lnTo>
                    <a:pt x="159" y="241"/>
                  </a:lnTo>
                  <a:lnTo>
                    <a:pt x="162" y="233"/>
                  </a:lnTo>
                  <a:lnTo>
                    <a:pt x="162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8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7"/>
                  </a:lnTo>
                  <a:lnTo>
                    <a:pt x="195" y="245"/>
                  </a:lnTo>
                  <a:lnTo>
                    <a:pt x="197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3" y="290"/>
                  </a:lnTo>
                  <a:lnTo>
                    <a:pt x="205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1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7" y="243"/>
                  </a:lnTo>
                  <a:lnTo>
                    <a:pt x="238" y="24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76120" y="3737160"/>
              <a:ext cx="360000" cy="43272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9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6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09" y="152"/>
                  </a:lnTo>
                  <a:lnTo>
                    <a:pt x="208" y="152"/>
                  </a:lnTo>
                  <a:lnTo>
                    <a:pt x="203" y="152"/>
                  </a:lnTo>
                  <a:lnTo>
                    <a:pt x="198" y="150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7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4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2"/>
                  </a:lnTo>
                  <a:lnTo>
                    <a:pt x="170" y="141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2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8"/>
                  </a:lnTo>
                  <a:lnTo>
                    <a:pt x="230" y="98"/>
                  </a:lnTo>
                  <a:lnTo>
                    <a:pt x="232" y="96"/>
                  </a:lnTo>
                  <a:lnTo>
                    <a:pt x="233" y="94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6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1"/>
                  </a:lnTo>
                  <a:lnTo>
                    <a:pt x="94" y="52"/>
                  </a:lnTo>
                  <a:lnTo>
                    <a:pt x="95" y="42"/>
                  </a:lnTo>
                  <a:lnTo>
                    <a:pt x="98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2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9"/>
                  </a:lnTo>
                  <a:lnTo>
                    <a:pt x="9" y="111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1" y="163"/>
                  </a:lnTo>
                  <a:lnTo>
                    <a:pt x="39" y="163"/>
                  </a:lnTo>
                  <a:lnTo>
                    <a:pt x="39" y="163"/>
                  </a:lnTo>
                  <a:lnTo>
                    <a:pt x="37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3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1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8" y="266"/>
                  </a:lnTo>
                  <a:lnTo>
                    <a:pt x="79" y="257"/>
                  </a:lnTo>
                  <a:lnTo>
                    <a:pt x="79" y="249"/>
                  </a:lnTo>
                  <a:lnTo>
                    <a:pt x="79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1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1" y="254"/>
                  </a:lnTo>
                  <a:lnTo>
                    <a:pt x="80" y="260"/>
                  </a:lnTo>
                  <a:lnTo>
                    <a:pt x="80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3"/>
                  </a:lnTo>
                  <a:lnTo>
                    <a:pt x="104" y="242"/>
                  </a:lnTo>
                  <a:lnTo>
                    <a:pt x="104" y="247"/>
                  </a:lnTo>
                  <a:lnTo>
                    <a:pt x="107" y="253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5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6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6"/>
                  </a:lnTo>
                  <a:lnTo>
                    <a:pt x="127" y="202"/>
                  </a:lnTo>
                  <a:lnTo>
                    <a:pt x="129" y="199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0" y="228"/>
                  </a:lnTo>
                  <a:lnTo>
                    <a:pt x="148" y="221"/>
                  </a:lnTo>
                  <a:lnTo>
                    <a:pt x="142" y="213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3"/>
                  </a:lnTo>
                  <a:lnTo>
                    <a:pt x="138" y="195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9"/>
                  </a:lnTo>
                  <a:lnTo>
                    <a:pt x="158" y="242"/>
                  </a:lnTo>
                  <a:lnTo>
                    <a:pt x="161" y="233"/>
                  </a:lnTo>
                  <a:lnTo>
                    <a:pt x="161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7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8"/>
                  </a:lnTo>
                  <a:lnTo>
                    <a:pt x="195" y="245"/>
                  </a:lnTo>
                  <a:lnTo>
                    <a:pt x="196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2" y="291"/>
                  </a:lnTo>
                  <a:lnTo>
                    <a:pt x="204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0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6" y="243"/>
                  </a:lnTo>
                  <a:lnTo>
                    <a:pt x="238" y="24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2400" y="3022560"/>
              <a:ext cx="2219400" cy="211572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3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6"/>
                  </a:lnTo>
                  <a:lnTo>
                    <a:pt x="1068" y="485"/>
                  </a:lnTo>
                  <a:lnTo>
                    <a:pt x="1084" y="486"/>
                  </a:lnTo>
                  <a:lnTo>
                    <a:pt x="1099" y="488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7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5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0" y="438"/>
                  </a:lnTo>
                  <a:lnTo>
                    <a:pt x="1180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2" y="433"/>
                  </a:lnTo>
                  <a:lnTo>
                    <a:pt x="1183" y="433"/>
                  </a:lnTo>
                  <a:lnTo>
                    <a:pt x="1183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1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7" y="385"/>
                  </a:lnTo>
                  <a:lnTo>
                    <a:pt x="1262" y="379"/>
                  </a:lnTo>
                  <a:lnTo>
                    <a:pt x="1269" y="376"/>
                  </a:lnTo>
                  <a:lnTo>
                    <a:pt x="1279" y="374"/>
                  </a:lnTo>
                  <a:lnTo>
                    <a:pt x="1289" y="375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4" y="353"/>
                  </a:lnTo>
                  <a:lnTo>
                    <a:pt x="1364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1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1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3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0" y="390"/>
                  </a:lnTo>
                  <a:lnTo>
                    <a:pt x="1412" y="392"/>
                  </a:lnTo>
                  <a:lnTo>
                    <a:pt x="1414" y="394"/>
                  </a:lnTo>
                  <a:lnTo>
                    <a:pt x="1426" y="393"/>
                  </a:lnTo>
                  <a:lnTo>
                    <a:pt x="1436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3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8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3"/>
                  </a:lnTo>
                  <a:lnTo>
                    <a:pt x="1395" y="458"/>
                  </a:lnTo>
                  <a:lnTo>
                    <a:pt x="1390" y="464"/>
                  </a:lnTo>
                  <a:lnTo>
                    <a:pt x="1383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5" y="477"/>
                  </a:lnTo>
                  <a:lnTo>
                    <a:pt x="1358" y="484"/>
                  </a:lnTo>
                  <a:lnTo>
                    <a:pt x="1351" y="492"/>
                  </a:lnTo>
                  <a:lnTo>
                    <a:pt x="1350" y="499"/>
                  </a:lnTo>
                  <a:lnTo>
                    <a:pt x="1353" y="507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1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19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8" y="623"/>
                  </a:lnTo>
                  <a:lnTo>
                    <a:pt x="1308" y="628"/>
                  </a:lnTo>
                  <a:lnTo>
                    <a:pt x="1296" y="636"/>
                  </a:lnTo>
                  <a:lnTo>
                    <a:pt x="1281" y="632"/>
                  </a:lnTo>
                  <a:lnTo>
                    <a:pt x="1265" y="629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1" y="670"/>
                  </a:lnTo>
                  <a:lnTo>
                    <a:pt x="1261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3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3" y="709"/>
                  </a:lnTo>
                  <a:lnTo>
                    <a:pt x="1223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9"/>
                  </a:lnTo>
                  <a:lnTo>
                    <a:pt x="1190" y="660"/>
                  </a:lnTo>
                  <a:lnTo>
                    <a:pt x="1188" y="662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3" y="673"/>
                  </a:lnTo>
                  <a:lnTo>
                    <a:pt x="1182" y="676"/>
                  </a:lnTo>
                  <a:lnTo>
                    <a:pt x="1176" y="676"/>
                  </a:lnTo>
                  <a:lnTo>
                    <a:pt x="1172" y="670"/>
                  </a:lnTo>
                  <a:lnTo>
                    <a:pt x="1168" y="665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3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4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4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6" y="583"/>
                  </a:lnTo>
                  <a:lnTo>
                    <a:pt x="1224" y="581"/>
                  </a:lnTo>
                  <a:lnTo>
                    <a:pt x="1221" y="580"/>
                  </a:lnTo>
                  <a:lnTo>
                    <a:pt x="1218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6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8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1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8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90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1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3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4"/>
                  </a:lnTo>
                  <a:lnTo>
                    <a:pt x="1009" y="534"/>
                  </a:lnTo>
                  <a:lnTo>
                    <a:pt x="1011" y="534"/>
                  </a:lnTo>
                  <a:lnTo>
                    <a:pt x="1011" y="534"/>
                  </a:lnTo>
                  <a:lnTo>
                    <a:pt x="1015" y="539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1"/>
                  </a:lnTo>
                  <a:lnTo>
                    <a:pt x="1036" y="553"/>
                  </a:lnTo>
                  <a:lnTo>
                    <a:pt x="1043" y="552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3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8" y="586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6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3"/>
                  </a:lnTo>
                  <a:lnTo>
                    <a:pt x="1033" y="653"/>
                  </a:lnTo>
                  <a:lnTo>
                    <a:pt x="1032" y="653"/>
                  </a:lnTo>
                  <a:lnTo>
                    <a:pt x="1030" y="655"/>
                  </a:lnTo>
                  <a:lnTo>
                    <a:pt x="1029" y="657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3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5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0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5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8"/>
                  </a:lnTo>
                  <a:lnTo>
                    <a:pt x="1021" y="765"/>
                  </a:lnTo>
                  <a:lnTo>
                    <a:pt x="1012" y="769"/>
                  </a:lnTo>
                  <a:lnTo>
                    <a:pt x="1006" y="756"/>
                  </a:lnTo>
                  <a:lnTo>
                    <a:pt x="998" y="742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6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8"/>
                  </a:lnTo>
                  <a:lnTo>
                    <a:pt x="733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9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5"/>
                  </a:lnTo>
                  <a:lnTo>
                    <a:pt x="624" y="1052"/>
                  </a:lnTo>
                  <a:lnTo>
                    <a:pt x="615" y="1053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8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9"/>
                  </a:lnTo>
                  <a:lnTo>
                    <a:pt x="614" y="1199"/>
                  </a:lnTo>
                  <a:lnTo>
                    <a:pt x="611" y="1208"/>
                  </a:lnTo>
                  <a:lnTo>
                    <a:pt x="611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8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1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9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1"/>
                  </a:lnTo>
                  <a:lnTo>
                    <a:pt x="551" y="1374"/>
                  </a:lnTo>
                  <a:lnTo>
                    <a:pt x="546" y="1386"/>
                  </a:lnTo>
                  <a:lnTo>
                    <a:pt x="538" y="1397"/>
                  </a:lnTo>
                  <a:lnTo>
                    <a:pt x="528" y="1402"/>
                  </a:lnTo>
                  <a:lnTo>
                    <a:pt x="517" y="1406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5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5" y="1348"/>
                  </a:lnTo>
                  <a:lnTo>
                    <a:pt x="400" y="1326"/>
                  </a:lnTo>
                  <a:lnTo>
                    <a:pt x="376" y="1285"/>
                  </a:lnTo>
                  <a:lnTo>
                    <a:pt x="351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2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7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4"/>
                  </a:lnTo>
                  <a:lnTo>
                    <a:pt x="239" y="886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9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5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9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3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5" y="794"/>
                  </a:lnTo>
                  <a:lnTo>
                    <a:pt x="156" y="800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8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7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8"/>
                  </a:lnTo>
                  <a:lnTo>
                    <a:pt x="73" y="610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7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2" y="520"/>
                  </a:lnTo>
                  <a:lnTo>
                    <a:pt x="99" y="508"/>
                  </a:lnTo>
                  <a:lnTo>
                    <a:pt x="98" y="494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5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1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9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2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2" y="354"/>
                  </a:lnTo>
                  <a:lnTo>
                    <a:pt x="244" y="343"/>
                  </a:lnTo>
                  <a:lnTo>
                    <a:pt x="251" y="333"/>
                  </a:lnTo>
                  <a:lnTo>
                    <a:pt x="256" y="321"/>
                  </a:lnTo>
                  <a:lnTo>
                    <a:pt x="262" y="309"/>
                  </a:lnTo>
                  <a:lnTo>
                    <a:pt x="270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3" y="237"/>
                  </a:lnTo>
                  <a:lnTo>
                    <a:pt x="318" y="236"/>
                  </a:lnTo>
                  <a:lnTo>
                    <a:pt x="319" y="230"/>
                  </a:lnTo>
                  <a:lnTo>
                    <a:pt x="322" y="225"/>
                  </a:lnTo>
                  <a:lnTo>
                    <a:pt x="328" y="223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80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3" y="115"/>
                  </a:lnTo>
                  <a:lnTo>
                    <a:pt x="305" y="113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7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6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6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1" y="72"/>
                  </a:lnTo>
                  <a:lnTo>
                    <a:pt x="534" y="84"/>
                  </a:lnTo>
                  <a:lnTo>
                    <a:pt x="533" y="97"/>
                  </a:lnTo>
                  <a:lnTo>
                    <a:pt x="542" y="110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3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5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19" y="165"/>
                  </a:lnTo>
                  <a:lnTo>
                    <a:pt x="518" y="169"/>
                  </a:lnTo>
                  <a:lnTo>
                    <a:pt x="527" y="188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6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6" y="255"/>
                  </a:lnTo>
                  <a:lnTo>
                    <a:pt x="609" y="268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5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3" y="324"/>
                  </a:lnTo>
                  <a:lnTo>
                    <a:pt x="603" y="333"/>
                  </a:lnTo>
                  <a:lnTo>
                    <a:pt x="604" y="341"/>
                  </a:lnTo>
                  <a:lnTo>
                    <a:pt x="601" y="351"/>
                  </a:lnTo>
                  <a:lnTo>
                    <a:pt x="598" y="357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6"/>
                  </a:lnTo>
                  <a:lnTo>
                    <a:pt x="615" y="383"/>
                  </a:lnTo>
                  <a:lnTo>
                    <a:pt x="626" y="381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5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4" y="419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2" y="445"/>
                  </a:lnTo>
                  <a:lnTo>
                    <a:pt x="753" y="448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4"/>
                  </a:lnTo>
                  <a:lnTo>
                    <a:pt x="809" y="446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2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6"/>
                  </a:lnTo>
                  <a:lnTo>
                    <a:pt x="834" y="466"/>
                  </a:lnTo>
                  <a:lnTo>
                    <a:pt x="836" y="466"/>
                  </a:lnTo>
                  <a:lnTo>
                    <a:pt x="839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1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2"/>
                  </a:lnTo>
                  <a:lnTo>
                    <a:pt x="913" y="493"/>
                  </a:lnTo>
                  <a:lnTo>
                    <a:pt x="913" y="494"/>
                  </a:lnTo>
                  <a:lnTo>
                    <a:pt x="920" y="499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7"/>
                  </a:lnTo>
                  <a:lnTo>
                    <a:pt x="941" y="496"/>
                  </a:lnTo>
                  <a:lnTo>
                    <a:pt x="955" y="497"/>
                  </a:lnTo>
                  <a:lnTo>
                    <a:pt x="969" y="498"/>
                  </a:lnTo>
                  <a:lnTo>
                    <a:pt x="984" y="499"/>
                  </a:lnTo>
                  <a:lnTo>
                    <a:pt x="989" y="500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6"/>
                  </a:lnTo>
                  <a:lnTo>
                    <a:pt x="1006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2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3" y="437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0" y="429"/>
                  </a:lnTo>
                  <a:lnTo>
                    <a:pt x="1010" y="426"/>
                  </a:lnTo>
                  <a:lnTo>
                    <a:pt x="1010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1"/>
                  </a:lnTo>
                  <a:lnTo>
                    <a:pt x="1029" y="410"/>
                  </a:lnTo>
                  <a:lnTo>
                    <a:pt x="1034" y="410"/>
                  </a:lnTo>
                  <a:lnTo>
                    <a:pt x="1037" y="414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7"/>
                  </a:lnTo>
                  <a:lnTo>
                    <a:pt x="1042" y="44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72400" y="3022560"/>
              <a:ext cx="2219400" cy="211572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2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5"/>
                  </a:lnTo>
                  <a:lnTo>
                    <a:pt x="1068" y="485"/>
                  </a:lnTo>
                  <a:lnTo>
                    <a:pt x="1085" y="486"/>
                  </a:lnTo>
                  <a:lnTo>
                    <a:pt x="1100" y="487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6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4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1" y="438"/>
                  </a:lnTo>
                  <a:lnTo>
                    <a:pt x="1181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3" y="433"/>
                  </a:lnTo>
                  <a:lnTo>
                    <a:pt x="1184" y="433"/>
                  </a:lnTo>
                  <a:lnTo>
                    <a:pt x="1184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0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8" y="385"/>
                  </a:lnTo>
                  <a:lnTo>
                    <a:pt x="1263" y="379"/>
                  </a:lnTo>
                  <a:lnTo>
                    <a:pt x="1269" y="375"/>
                  </a:lnTo>
                  <a:lnTo>
                    <a:pt x="1279" y="374"/>
                  </a:lnTo>
                  <a:lnTo>
                    <a:pt x="1289" y="374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5" y="353"/>
                  </a:lnTo>
                  <a:lnTo>
                    <a:pt x="1365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2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0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4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1" y="390"/>
                  </a:lnTo>
                  <a:lnTo>
                    <a:pt x="1412" y="392"/>
                  </a:lnTo>
                  <a:lnTo>
                    <a:pt x="1414" y="393"/>
                  </a:lnTo>
                  <a:lnTo>
                    <a:pt x="1426" y="393"/>
                  </a:lnTo>
                  <a:lnTo>
                    <a:pt x="1437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4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7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2"/>
                  </a:lnTo>
                  <a:lnTo>
                    <a:pt x="1396" y="458"/>
                  </a:lnTo>
                  <a:lnTo>
                    <a:pt x="1390" y="464"/>
                  </a:lnTo>
                  <a:lnTo>
                    <a:pt x="1384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6" y="477"/>
                  </a:lnTo>
                  <a:lnTo>
                    <a:pt x="1358" y="484"/>
                  </a:lnTo>
                  <a:lnTo>
                    <a:pt x="1352" y="492"/>
                  </a:lnTo>
                  <a:lnTo>
                    <a:pt x="1350" y="499"/>
                  </a:lnTo>
                  <a:lnTo>
                    <a:pt x="1353" y="506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0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20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9" y="623"/>
                  </a:lnTo>
                  <a:lnTo>
                    <a:pt x="1308" y="628"/>
                  </a:lnTo>
                  <a:lnTo>
                    <a:pt x="1296" y="635"/>
                  </a:lnTo>
                  <a:lnTo>
                    <a:pt x="1281" y="631"/>
                  </a:lnTo>
                  <a:lnTo>
                    <a:pt x="1266" y="628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2" y="670"/>
                  </a:lnTo>
                  <a:lnTo>
                    <a:pt x="1262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4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4" y="709"/>
                  </a:lnTo>
                  <a:lnTo>
                    <a:pt x="1224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8"/>
                  </a:lnTo>
                  <a:lnTo>
                    <a:pt x="1190" y="660"/>
                  </a:lnTo>
                  <a:lnTo>
                    <a:pt x="1188" y="661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4" y="672"/>
                  </a:lnTo>
                  <a:lnTo>
                    <a:pt x="1182" y="676"/>
                  </a:lnTo>
                  <a:lnTo>
                    <a:pt x="1176" y="675"/>
                  </a:lnTo>
                  <a:lnTo>
                    <a:pt x="1173" y="670"/>
                  </a:lnTo>
                  <a:lnTo>
                    <a:pt x="1168" y="664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2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3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3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7" y="583"/>
                  </a:lnTo>
                  <a:lnTo>
                    <a:pt x="1224" y="581"/>
                  </a:lnTo>
                  <a:lnTo>
                    <a:pt x="1221" y="579"/>
                  </a:lnTo>
                  <a:lnTo>
                    <a:pt x="1219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5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9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0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9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89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2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2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3"/>
                  </a:lnTo>
                  <a:lnTo>
                    <a:pt x="1009" y="533"/>
                  </a:lnTo>
                  <a:lnTo>
                    <a:pt x="1011" y="534"/>
                  </a:lnTo>
                  <a:lnTo>
                    <a:pt x="1012" y="534"/>
                  </a:lnTo>
                  <a:lnTo>
                    <a:pt x="1015" y="538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0"/>
                  </a:lnTo>
                  <a:lnTo>
                    <a:pt x="1036" y="553"/>
                  </a:lnTo>
                  <a:lnTo>
                    <a:pt x="1044" y="551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2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9" y="585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7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2"/>
                  </a:lnTo>
                  <a:lnTo>
                    <a:pt x="1033" y="652"/>
                  </a:lnTo>
                  <a:lnTo>
                    <a:pt x="1032" y="653"/>
                  </a:lnTo>
                  <a:lnTo>
                    <a:pt x="1030" y="654"/>
                  </a:lnTo>
                  <a:lnTo>
                    <a:pt x="1029" y="656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2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6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1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4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7"/>
                  </a:lnTo>
                  <a:lnTo>
                    <a:pt x="1021" y="765"/>
                  </a:lnTo>
                  <a:lnTo>
                    <a:pt x="1013" y="768"/>
                  </a:lnTo>
                  <a:lnTo>
                    <a:pt x="1006" y="756"/>
                  </a:lnTo>
                  <a:lnTo>
                    <a:pt x="998" y="741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5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7"/>
                  </a:lnTo>
                  <a:lnTo>
                    <a:pt x="734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8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4"/>
                  </a:lnTo>
                  <a:lnTo>
                    <a:pt x="625" y="1052"/>
                  </a:lnTo>
                  <a:lnTo>
                    <a:pt x="615" y="1052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9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8"/>
                  </a:lnTo>
                  <a:lnTo>
                    <a:pt x="614" y="1199"/>
                  </a:lnTo>
                  <a:lnTo>
                    <a:pt x="611" y="1207"/>
                  </a:lnTo>
                  <a:lnTo>
                    <a:pt x="612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7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0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8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0"/>
                  </a:lnTo>
                  <a:lnTo>
                    <a:pt x="551" y="1373"/>
                  </a:lnTo>
                  <a:lnTo>
                    <a:pt x="546" y="1386"/>
                  </a:lnTo>
                  <a:lnTo>
                    <a:pt x="538" y="1396"/>
                  </a:lnTo>
                  <a:lnTo>
                    <a:pt x="528" y="1402"/>
                  </a:lnTo>
                  <a:lnTo>
                    <a:pt x="518" y="1405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4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6" y="1348"/>
                  </a:lnTo>
                  <a:lnTo>
                    <a:pt x="400" y="1325"/>
                  </a:lnTo>
                  <a:lnTo>
                    <a:pt x="376" y="1285"/>
                  </a:lnTo>
                  <a:lnTo>
                    <a:pt x="352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3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8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3"/>
                  </a:lnTo>
                  <a:lnTo>
                    <a:pt x="239" y="885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8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4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8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2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6" y="794"/>
                  </a:lnTo>
                  <a:lnTo>
                    <a:pt x="156" y="799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9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8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4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9"/>
                  </a:lnTo>
                  <a:lnTo>
                    <a:pt x="73" y="609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6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3" y="520"/>
                  </a:lnTo>
                  <a:lnTo>
                    <a:pt x="99" y="508"/>
                  </a:lnTo>
                  <a:lnTo>
                    <a:pt x="98" y="493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4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2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8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3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3" y="354"/>
                  </a:lnTo>
                  <a:lnTo>
                    <a:pt x="244" y="343"/>
                  </a:lnTo>
                  <a:lnTo>
                    <a:pt x="251" y="332"/>
                  </a:lnTo>
                  <a:lnTo>
                    <a:pt x="256" y="320"/>
                  </a:lnTo>
                  <a:lnTo>
                    <a:pt x="262" y="309"/>
                  </a:lnTo>
                  <a:lnTo>
                    <a:pt x="271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4" y="237"/>
                  </a:lnTo>
                  <a:lnTo>
                    <a:pt x="318" y="236"/>
                  </a:lnTo>
                  <a:lnTo>
                    <a:pt x="319" y="229"/>
                  </a:lnTo>
                  <a:lnTo>
                    <a:pt x="322" y="225"/>
                  </a:lnTo>
                  <a:lnTo>
                    <a:pt x="328" y="222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79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4" y="115"/>
                  </a:lnTo>
                  <a:lnTo>
                    <a:pt x="305" y="112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8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7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5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2" y="72"/>
                  </a:lnTo>
                  <a:lnTo>
                    <a:pt x="535" y="84"/>
                  </a:lnTo>
                  <a:lnTo>
                    <a:pt x="533" y="97"/>
                  </a:lnTo>
                  <a:lnTo>
                    <a:pt x="542" y="109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4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6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20" y="165"/>
                  </a:lnTo>
                  <a:lnTo>
                    <a:pt x="518" y="169"/>
                  </a:lnTo>
                  <a:lnTo>
                    <a:pt x="527" y="187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7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7" y="255"/>
                  </a:lnTo>
                  <a:lnTo>
                    <a:pt x="609" y="267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6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4" y="324"/>
                  </a:lnTo>
                  <a:lnTo>
                    <a:pt x="603" y="332"/>
                  </a:lnTo>
                  <a:lnTo>
                    <a:pt x="604" y="341"/>
                  </a:lnTo>
                  <a:lnTo>
                    <a:pt x="602" y="351"/>
                  </a:lnTo>
                  <a:lnTo>
                    <a:pt x="598" y="356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5"/>
                  </a:lnTo>
                  <a:lnTo>
                    <a:pt x="615" y="383"/>
                  </a:lnTo>
                  <a:lnTo>
                    <a:pt x="626" y="380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6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5" y="418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3" y="444"/>
                  </a:lnTo>
                  <a:lnTo>
                    <a:pt x="753" y="447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3"/>
                  </a:lnTo>
                  <a:lnTo>
                    <a:pt x="809" y="445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1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5"/>
                  </a:lnTo>
                  <a:lnTo>
                    <a:pt x="835" y="465"/>
                  </a:lnTo>
                  <a:lnTo>
                    <a:pt x="837" y="466"/>
                  </a:lnTo>
                  <a:lnTo>
                    <a:pt x="840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0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1"/>
                  </a:lnTo>
                  <a:lnTo>
                    <a:pt x="913" y="493"/>
                  </a:lnTo>
                  <a:lnTo>
                    <a:pt x="914" y="494"/>
                  </a:lnTo>
                  <a:lnTo>
                    <a:pt x="920" y="498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6"/>
                  </a:lnTo>
                  <a:lnTo>
                    <a:pt x="941" y="496"/>
                  </a:lnTo>
                  <a:lnTo>
                    <a:pt x="955" y="496"/>
                  </a:lnTo>
                  <a:lnTo>
                    <a:pt x="970" y="498"/>
                  </a:lnTo>
                  <a:lnTo>
                    <a:pt x="984" y="499"/>
                  </a:lnTo>
                  <a:lnTo>
                    <a:pt x="989" y="499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5"/>
                  </a:lnTo>
                  <a:lnTo>
                    <a:pt x="1007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3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4" y="436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1" y="429"/>
                  </a:lnTo>
                  <a:lnTo>
                    <a:pt x="1010" y="426"/>
                  </a:lnTo>
                  <a:lnTo>
                    <a:pt x="1011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0"/>
                  </a:lnTo>
                  <a:lnTo>
                    <a:pt x="1029" y="410"/>
                  </a:lnTo>
                  <a:lnTo>
                    <a:pt x="1034" y="409"/>
                  </a:lnTo>
                  <a:lnTo>
                    <a:pt x="1037" y="413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6"/>
                  </a:lnTo>
                  <a:lnTo>
                    <a:pt x="1042" y="44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14400" y="2885760"/>
              <a:ext cx="1288800" cy="108432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5" y="138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0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199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0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1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2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2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2" y="331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49" y="394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8"/>
                  </a:lnTo>
                  <a:lnTo>
                    <a:pt x="601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9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1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8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2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1" y="615"/>
                  </a:lnTo>
                  <a:lnTo>
                    <a:pt x="480" y="626"/>
                  </a:lnTo>
                  <a:lnTo>
                    <a:pt x="484" y="628"/>
                  </a:lnTo>
                  <a:lnTo>
                    <a:pt x="490" y="628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5"/>
                  </a:lnTo>
                  <a:lnTo>
                    <a:pt x="499" y="707"/>
                  </a:lnTo>
                  <a:lnTo>
                    <a:pt x="489" y="707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7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3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1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9"/>
                  </a:lnTo>
                  <a:lnTo>
                    <a:pt x="41" y="657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5" y="624"/>
                  </a:lnTo>
                  <a:lnTo>
                    <a:pt x="46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4"/>
                  </a:lnTo>
                  <a:lnTo>
                    <a:pt x="79" y="591"/>
                  </a:lnTo>
                  <a:lnTo>
                    <a:pt x="80" y="586"/>
                  </a:lnTo>
                  <a:lnTo>
                    <a:pt x="83" y="582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8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5" y="489"/>
                  </a:lnTo>
                  <a:lnTo>
                    <a:pt x="79" y="492"/>
                  </a:lnTo>
                  <a:lnTo>
                    <a:pt x="73" y="491"/>
                  </a:lnTo>
                  <a:lnTo>
                    <a:pt x="72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8"/>
                  </a:lnTo>
                  <a:lnTo>
                    <a:pt x="29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9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4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5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0" y="378"/>
                  </a:lnTo>
                  <a:lnTo>
                    <a:pt x="282" y="373"/>
                  </a:lnTo>
                  <a:lnTo>
                    <a:pt x="282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6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2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6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6" y="175"/>
                  </a:lnTo>
                  <a:lnTo>
                    <a:pt x="478" y="173"/>
                  </a:lnTo>
                  <a:lnTo>
                    <a:pt x="492" y="175"/>
                  </a:lnTo>
                  <a:lnTo>
                    <a:pt x="500" y="179"/>
                  </a:lnTo>
                  <a:lnTo>
                    <a:pt x="510" y="181"/>
                  </a:lnTo>
                  <a:lnTo>
                    <a:pt x="517" y="179"/>
                  </a:lnTo>
                  <a:lnTo>
                    <a:pt x="521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7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5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5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1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2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4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2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0"/>
                  </a:lnTo>
                  <a:lnTo>
                    <a:pt x="811" y="77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4400" y="2885760"/>
              <a:ext cx="1288800" cy="108432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6" y="139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1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200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1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2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3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3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3" y="332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50" y="393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7"/>
                  </a:lnTo>
                  <a:lnTo>
                    <a:pt x="602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8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0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7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3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2" y="615"/>
                  </a:lnTo>
                  <a:lnTo>
                    <a:pt x="480" y="626"/>
                  </a:lnTo>
                  <a:lnTo>
                    <a:pt x="484" y="627"/>
                  </a:lnTo>
                  <a:lnTo>
                    <a:pt x="490" y="627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4"/>
                  </a:lnTo>
                  <a:lnTo>
                    <a:pt x="499" y="706"/>
                  </a:lnTo>
                  <a:lnTo>
                    <a:pt x="489" y="706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8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4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0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8"/>
                  </a:lnTo>
                  <a:lnTo>
                    <a:pt x="41" y="656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6" y="624"/>
                  </a:lnTo>
                  <a:lnTo>
                    <a:pt x="47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3"/>
                  </a:lnTo>
                  <a:lnTo>
                    <a:pt x="79" y="590"/>
                  </a:lnTo>
                  <a:lnTo>
                    <a:pt x="80" y="585"/>
                  </a:lnTo>
                  <a:lnTo>
                    <a:pt x="83" y="581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9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6" y="489"/>
                  </a:lnTo>
                  <a:lnTo>
                    <a:pt x="79" y="492"/>
                  </a:lnTo>
                  <a:lnTo>
                    <a:pt x="74" y="491"/>
                  </a:lnTo>
                  <a:lnTo>
                    <a:pt x="73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7"/>
                  </a:lnTo>
                  <a:lnTo>
                    <a:pt x="30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8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5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4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1" y="378"/>
                  </a:lnTo>
                  <a:lnTo>
                    <a:pt x="282" y="373"/>
                  </a:lnTo>
                  <a:lnTo>
                    <a:pt x="283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7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3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7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7" y="175"/>
                  </a:lnTo>
                  <a:lnTo>
                    <a:pt x="479" y="173"/>
                  </a:lnTo>
                  <a:lnTo>
                    <a:pt x="492" y="176"/>
                  </a:lnTo>
                  <a:lnTo>
                    <a:pt x="500" y="180"/>
                  </a:lnTo>
                  <a:lnTo>
                    <a:pt x="510" y="182"/>
                  </a:lnTo>
                  <a:lnTo>
                    <a:pt x="517" y="179"/>
                  </a:lnTo>
                  <a:lnTo>
                    <a:pt x="522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8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6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6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2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3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5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3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1"/>
                  </a:lnTo>
                  <a:lnTo>
                    <a:pt x="811" y="78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08960" y="2980440"/>
              <a:ext cx="199800" cy="15444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8" y="23"/>
                  </a:moveTo>
                  <a:lnTo>
                    <a:pt x="32" y="6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8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7" y="106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6" y="97"/>
                  </a:lnTo>
                  <a:lnTo>
                    <a:pt x="53" y="92"/>
                  </a:lnTo>
                  <a:lnTo>
                    <a:pt x="43" y="82"/>
                  </a:lnTo>
                  <a:lnTo>
                    <a:pt x="26" y="64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08960" y="2980440"/>
              <a:ext cx="199800" cy="15588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8" y="23"/>
                  </a:moveTo>
                  <a:lnTo>
                    <a:pt x="32" y="7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9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6" y="107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6" y="98"/>
                  </a:lnTo>
                  <a:lnTo>
                    <a:pt x="53" y="92"/>
                  </a:lnTo>
                  <a:lnTo>
                    <a:pt x="43" y="83"/>
                  </a:lnTo>
                  <a:lnTo>
                    <a:pt x="26" y="65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72760" y="3434040"/>
              <a:ext cx="630720" cy="31752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9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7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39" y="97"/>
                  </a:lnTo>
                  <a:lnTo>
                    <a:pt x="247" y="96"/>
                  </a:lnTo>
                  <a:lnTo>
                    <a:pt x="254" y="96"/>
                  </a:lnTo>
                  <a:lnTo>
                    <a:pt x="258" y="99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3" y="112"/>
                  </a:lnTo>
                  <a:lnTo>
                    <a:pt x="281" y="114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7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8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5"/>
                  </a:lnTo>
                  <a:lnTo>
                    <a:pt x="406" y="184"/>
                  </a:lnTo>
                  <a:lnTo>
                    <a:pt x="407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1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4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7"/>
                  </a:lnTo>
                  <a:lnTo>
                    <a:pt x="325" y="217"/>
                  </a:lnTo>
                  <a:lnTo>
                    <a:pt x="318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309" y="208"/>
                  </a:lnTo>
                  <a:lnTo>
                    <a:pt x="300" y="208"/>
                  </a:lnTo>
                  <a:lnTo>
                    <a:pt x="291" y="209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0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4"/>
                  </a:lnTo>
                  <a:lnTo>
                    <a:pt x="239" y="184"/>
                  </a:lnTo>
                  <a:lnTo>
                    <a:pt x="236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0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8" y="165"/>
                  </a:lnTo>
                  <a:lnTo>
                    <a:pt x="213" y="164"/>
                  </a:lnTo>
                  <a:lnTo>
                    <a:pt x="199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59" y="167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2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9"/>
                  </a:lnTo>
                  <a:lnTo>
                    <a:pt x="52" y="111"/>
                  </a:lnTo>
                  <a:lnTo>
                    <a:pt x="47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3" y="99"/>
                  </a:lnTo>
                  <a:lnTo>
                    <a:pt x="32" y="98"/>
                  </a:lnTo>
                  <a:lnTo>
                    <a:pt x="30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72760" y="3434040"/>
              <a:ext cx="630720" cy="31752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8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8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40" y="97"/>
                  </a:lnTo>
                  <a:lnTo>
                    <a:pt x="247" y="96"/>
                  </a:lnTo>
                  <a:lnTo>
                    <a:pt x="255" y="96"/>
                  </a:lnTo>
                  <a:lnTo>
                    <a:pt x="258" y="100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4" y="112"/>
                  </a:lnTo>
                  <a:lnTo>
                    <a:pt x="281" y="113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6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9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6"/>
                  </a:lnTo>
                  <a:lnTo>
                    <a:pt x="406" y="184"/>
                  </a:lnTo>
                  <a:lnTo>
                    <a:pt x="408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2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5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8"/>
                  </a:lnTo>
                  <a:lnTo>
                    <a:pt x="325" y="217"/>
                  </a:lnTo>
                  <a:lnTo>
                    <a:pt x="319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09" y="208"/>
                  </a:lnTo>
                  <a:lnTo>
                    <a:pt x="300" y="209"/>
                  </a:lnTo>
                  <a:lnTo>
                    <a:pt x="291" y="210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1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5"/>
                  </a:lnTo>
                  <a:lnTo>
                    <a:pt x="239" y="184"/>
                  </a:lnTo>
                  <a:lnTo>
                    <a:pt x="237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1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9" y="165"/>
                  </a:lnTo>
                  <a:lnTo>
                    <a:pt x="214" y="164"/>
                  </a:lnTo>
                  <a:lnTo>
                    <a:pt x="200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3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8"/>
                  </a:lnTo>
                  <a:lnTo>
                    <a:pt x="52" y="111"/>
                  </a:lnTo>
                  <a:lnTo>
                    <a:pt x="48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4" y="99"/>
                  </a:lnTo>
                  <a:lnTo>
                    <a:pt x="32" y="99"/>
                  </a:lnTo>
                  <a:lnTo>
                    <a:pt x="31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3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0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32280" y="3595680"/>
              <a:ext cx="249480" cy="1382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3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6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69"/>
                  </a:lnTo>
                  <a:lnTo>
                    <a:pt x="165" y="83"/>
                  </a:lnTo>
                  <a:lnTo>
                    <a:pt x="161" y="88"/>
                  </a:lnTo>
                  <a:lnTo>
                    <a:pt x="153" y="92"/>
                  </a:lnTo>
                  <a:lnTo>
                    <a:pt x="145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5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32280" y="3595680"/>
              <a:ext cx="249480" cy="1382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2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7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70"/>
                  </a:lnTo>
                  <a:lnTo>
                    <a:pt x="165" y="83"/>
                  </a:lnTo>
                  <a:lnTo>
                    <a:pt x="160" y="88"/>
                  </a:lnTo>
                  <a:lnTo>
                    <a:pt x="153" y="92"/>
                  </a:lnTo>
                  <a:lnTo>
                    <a:pt x="144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4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94000" y="3581280"/>
              <a:ext cx="686880" cy="1415880"/>
            </a:xfrm>
            <a:custGeom>
              <a:avLst/>
              <a:gdLst/>
              <a:ahLst/>
              <a:rect l="l" t="t" r="r" b="b"/>
              <a:pathLst>
                <a:path w="454" h="971">
                  <a:moveTo>
                    <a:pt x="319" y="970"/>
                  </a:moveTo>
                  <a:lnTo>
                    <a:pt x="317" y="958"/>
                  </a:lnTo>
                  <a:lnTo>
                    <a:pt x="318" y="946"/>
                  </a:lnTo>
                  <a:lnTo>
                    <a:pt x="321" y="935"/>
                  </a:lnTo>
                  <a:lnTo>
                    <a:pt x="327" y="920"/>
                  </a:lnTo>
                  <a:lnTo>
                    <a:pt x="331" y="905"/>
                  </a:lnTo>
                  <a:lnTo>
                    <a:pt x="332" y="889"/>
                  </a:lnTo>
                  <a:lnTo>
                    <a:pt x="321" y="892"/>
                  </a:lnTo>
                  <a:lnTo>
                    <a:pt x="311" y="895"/>
                  </a:lnTo>
                  <a:lnTo>
                    <a:pt x="302" y="902"/>
                  </a:lnTo>
                  <a:lnTo>
                    <a:pt x="310" y="889"/>
                  </a:lnTo>
                  <a:lnTo>
                    <a:pt x="321" y="879"/>
                  </a:lnTo>
                  <a:lnTo>
                    <a:pt x="331" y="869"/>
                  </a:lnTo>
                  <a:lnTo>
                    <a:pt x="331" y="866"/>
                  </a:lnTo>
                  <a:lnTo>
                    <a:pt x="329" y="863"/>
                  </a:lnTo>
                  <a:lnTo>
                    <a:pt x="329" y="859"/>
                  </a:lnTo>
                  <a:lnTo>
                    <a:pt x="324" y="858"/>
                  </a:lnTo>
                  <a:lnTo>
                    <a:pt x="320" y="855"/>
                  </a:lnTo>
                  <a:lnTo>
                    <a:pt x="316" y="856"/>
                  </a:lnTo>
                  <a:lnTo>
                    <a:pt x="315" y="852"/>
                  </a:lnTo>
                  <a:lnTo>
                    <a:pt x="311" y="850"/>
                  </a:lnTo>
                  <a:lnTo>
                    <a:pt x="313" y="846"/>
                  </a:lnTo>
                  <a:lnTo>
                    <a:pt x="315" y="846"/>
                  </a:lnTo>
                  <a:lnTo>
                    <a:pt x="317" y="846"/>
                  </a:lnTo>
                  <a:lnTo>
                    <a:pt x="318" y="845"/>
                  </a:lnTo>
                  <a:lnTo>
                    <a:pt x="323" y="824"/>
                  </a:lnTo>
                  <a:lnTo>
                    <a:pt x="318" y="803"/>
                  </a:lnTo>
                  <a:lnTo>
                    <a:pt x="306" y="786"/>
                  </a:lnTo>
                  <a:lnTo>
                    <a:pt x="304" y="792"/>
                  </a:lnTo>
                  <a:lnTo>
                    <a:pt x="300" y="796"/>
                  </a:lnTo>
                  <a:lnTo>
                    <a:pt x="296" y="800"/>
                  </a:lnTo>
                  <a:lnTo>
                    <a:pt x="299" y="781"/>
                  </a:lnTo>
                  <a:lnTo>
                    <a:pt x="300" y="762"/>
                  </a:lnTo>
                  <a:lnTo>
                    <a:pt x="298" y="744"/>
                  </a:lnTo>
                  <a:lnTo>
                    <a:pt x="294" y="738"/>
                  </a:lnTo>
                  <a:lnTo>
                    <a:pt x="290" y="733"/>
                  </a:lnTo>
                  <a:lnTo>
                    <a:pt x="286" y="727"/>
                  </a:lnTo>
                  <a:lnTo>
                    <a:pt x="282" y="706"/>
                  </a:lnTo>
                  <a:lnTo>
                    <a:pt x="280" y="685"/>
                  </a:lnTo>
                  <a:lnTo>
                    <a:pt x="277" y="664"/>
                  </a:lnTo>
                  <a:lnTo>
                    <a:pt x="277" y="655"/>
                  </a:lnTo>
                  <a:lnTo>
                    <a:pt x="279" y="647"/>
                  </a:lnTo>
                  <a:lnTo>
                    <a:pt x="282" y="638"/>
                  </a:lnTo>
                  <a:lnTo>
                    <a:pt x="275" y="641"/>
                  </a:lnTo>
                  <a:lnTo>
                    <a:pt x="267" y="642"/>
                  </a:lnTo>
                  <a:lnTo>
                    <a:pt x="260" y="640"/>
                  </a:lnTo>
                  <a:lnTo>
                    <a:pt x="251" y="628"/>
                  </a:lnTo>
                  <a:lnTo>
                    <a:pt x="251" y="615"/>
                  </a:lnTo>
                  <a:lnTo>
                    <a:pt x="259" y="601"/>
                  </a:lnTo>
                  <a:lnTo>
                    <a:pt x="256" y="607"/>
                  </a:lnTo>
                  <a:lnTo>
                    <a:pt x="251" y="608"/>
                  </a:lnTo>
                  <a:lnTo>
                    <a:pt x="246" y="607"/>
                  </a:lnTo>
                  <a:lnTo>
                    <a:pt x="244" y="603"/>
                  </a:lnTo>
                  <a:lnTo>
                    <a:pt x="242" y="597"/>
                  </a:lnTo>
                  <a:lnTo>
                    <a:pt x="239" y="592"/>
                  </a:lnTo>
                  <a:lnTo>
                    <a:pt x="243" y="598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8"/>
                  </a:lnTo>
                  <a:lnTo>
                    <a:pt x="236" y="626"/>
                  </a:lnTo>
                  <a:lnTo>
                    <a:pt x="236" y="634"/>
                  </a:lnTo>
                  <a:lnTo>
                    <a:pt x="224" y="640"/>
                  </a:lnTo>
                  <a:lnTo>
                    <a:pt x="213" y="647"/>
                  </a:lnTo>
                  <a:lnTo>
                    <a:pt x="200" y="647"/>
                  </a:lnTo>
                  <a:lnTo>
                    <a:pt x="200" y="646"/>
                  </a:lnTo>
                  <a:lnTo>
                    <a:pt x="200" y="643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5"/>
                  </a:lnTo>
                  <a:lnTo>
                    <a:pt x="187" y="663"/>
                  </a:lnTo>
                  <a:lnTo>
                    <a:pt x="186" y="671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7"/>
                  </a:lnTo>
                  <a:lnTo>
                    <a:pt x="177" y="673"/>
                  </a:lnTo>
                  <a:lnTo>
                    <a:pt x="172" y="671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7"/>
                  </a:lnTo>
                  <a:lnTo>
                    <a:pt x="154" y="677"/>
                  </a:lnTo>
                  <a:lnTo>
                    <a:pt x="152" y="676"/>
                  </a:lnTo>
                  <a:lnTo>
                    <a:pt x="150" y="674"/>
                  </a:lnTo>
                  <a:lnTo>
                    <a:pt x="151" y="671"/>
                  </a:lnTo>
                  <a:lnTo>
                    <a:pt x="153" y="666"/>
                  </a:lnTo>
                  <a:lnTo>
                    <a:pt x="156" y="661"/>
                  </a:lnTo>
                  <a:lnTo>
                    <a:pt x="160" y="658"/>
                  </a:lnTo>
                  <a:lnTo>
                    <a:pt x="151" y="662"/>
                  </a:lnTo>
                  <a:lnTo>
                    <a:pt x="141" y="665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6"/>
                  </a:lnTo>
                  <a:lnTo>
                    <a:pt x="134" y="651"/>
                  </a:lnTo>
                  <a:lnTo>
                    <a:pt x="128" y="656"/>
                  </a:lnTo>
                  <a:lnTo>
                    <a:pt x="122" y="661"/>
                  </a:lnTo>
                  <a:lnTo>
                    <a:pt x="117" y="666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4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5"/>
                  </a:lnTo>
                  <a:lnTo>
                    <a:pt x="111" y="618"/>
                  </a:lnTo>
                  <a:lnTo>
                    <a:pt x="111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6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5"/>
                  </a:lnTo>
                  <a:lnTo>
                    <a:pt x="75" y="526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7"/>
                  </a:lnTo>
                  <a:lnTo>
                    <a:pt x="73" y="488"/>
                  </a:lnTo>
                  <a:lnTo>
                    <a:pt x="69" y="476"/>
                  </a:lnTo>
                  <a:lnTo>
                    <a:pt x="67" y="470"/>
                  </a:lnTo>
                  <a:lnTo>
                    <a:pt x="60" y="469"/>
                  </a:lnTo>
                  <a:lnTo>
                    <a:pt x="52" y="467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3"/>
                  </a:lnTo>
                  <a:lnTo>
                    <a:pt x="19" y="426"/>
                  </a:lnTo>
                  <a:lnTo>
                    <a:pt x="8" y="421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1"/>
                  </a:lnTo>
                  <a:lnTo>
                    <a:pt x="22" y="375"/>
                  </a:lnTo>
                  <a:lnTo>
                    <a:pt x="19" y="364"/>
                  </a:lnTo>
                  <a:lnTo>
                    <a:pt x="19" y="355"/>
                  </a:lnTo>
                  <a:lnTo>
                    <a:pt x="29" y="350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49" y="328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7" y="294"/>
                  </a:lnTo>
                  <a:lnTo>
                    <a:pt x="57" y="286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1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4"/>
                  </a:lnTo>
                  <a:lnTo>
                    <a:pt x="104" y="239"/>
                  </a:lnTo>
                  <a:lnTo>
                    <a:pt x="104" y="233"/>
                  </a:lnTo>
                  <a:lnTo>
                    <a:pt x="105" y="230"/>
                  </a:lnTo>
                  <a:lnTo>
                    <a:pt x="115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4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7" y="108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70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6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1" y="62"/>
                  </a:lnTo>
                  <a:lnTo>
                    <a:pt x="230" y="64"/>
                  </a:lnTo>
                  <a:lnTo>
                    <a:pt x="239" y="72"/>
                  </a:lnTo>
                  <a:lnTo>
                    <a:pt x="248" y="75"/>
                  </a:lnTo>
                  <a:lnTo>
                    <a:pt x="249" y="70"/>
                  </a:lnTo>
                  <a:lnTo>
                    <a:pt x="247" y="64"/>
                  </a:lnTo>
                  <a:lnTo>
                    <a:pt x="244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4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0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10" y="52"/>
                  </a:lnTo>
                  <a:lnTo>
                    <a:pt x="314" y="51"/>
                  </a:lnTo>
                  <a:lnTo>
                    <a:pt x="320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0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2" y="147"/>
                  </a:lnTo>
                  <a:lnTo>
                    <a:pt x="316" y="152"/>
                  </a:lnTo>
                  <a:lnTo>
                    <a:pt x="313" y="159"/>
                  </a:lnTo>
                  <a:lnTo>
                    <a:pt x="309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1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1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7"/>
                  </a:lnTo>
                  <a:lnTo>
                    <a:pt x="348" y="293"/>
                  </a:lnTo>
                  <a:lnTo>
                    <a:pt x="359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7"/>
                  </a:lnTo>
                  <a:lnTo>
                    <a:pt x="393" y="352"/>
                  </a:lnTo>
                  <a:lnTo>
                    <a:pt x="395" y="357"/>
                  </a:lnTo>
                  <a:lnTo>
                    <a:pt x="392" y="364"/>
                  </a:lnTo>
                  <a:lnTo>
                    <a:pt x="388" y="370"/>
                  </a:lnTo>
                  <a:lnTo>
                    <a:pt x="393" y="371"/>
                  </a:lnTo>
                  <a:lnTo>
                    <a:pt x="397" y="373"/>
                  </a:lnTo>
                  <a:lnTo>
                    <a:pt x="401" y="375"/>
                  </a:lnTo>
                  <a:lnTo>
                    <a:pt x="401" y="377"/>
                  </a:lnTo>
                  <a:lnTo>
                    <a:pt x="399" y="380"/>
                  </a:lnTo>
                  <a:lnTo>
                    <a:pt x="398" y="382"/>
                  </a:lnTo>
                  <a:lnTo>
                    <a:pt x="417" y="380"/>
                  </a:lnTo>
                  <a:lnTo>
                    <a:pt x="435" y="374"/>
                  </a:lnTo>
                  <a:lnTo>
                    <a:pt x="454" y="370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7" y="383"/>
                  </a:lnTo>
                  <a:lnTo>
                    <a:pt x="444" y="387"/>
                  </a:lnTo>
                  <a:lnTo>
                    <a:pt x="441" y="386"/>
                  </a:lnTo>
                  <a:lnTo>
                    <a:pt x="441" y="389"/>
                  </a:lnTo>
                  <a:lnTo>
                    <a:pt x="441" y="391"/>
                  </a:lnTo>
                  <a:lnTo>
                    <a:pt x="441" y="393"/>
                  </a:lnTo>
                  <a:lnTo>
                    <a:pt x="435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5"/>
                  </a:lnTo>
                  <a:lnTo>
                    <a:pt x="425" y="411"/>
                  </a:lnTo>
                  <a:lnTo>
                    <a:pt x="423" y="416"/>
                  </a:lnTo>
                  <a:lnTo>
                    <a:pt x="416" y="421"/>
                  </a:lnTo>
                  <a:lnTo>
                    <a:pt x="407" y="426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1"/>
                  </a:lnTo>
                  <a:lnTo>
                    <a:pt x="378" y="433"/>
                  </a:lnTo>
                  <a:lnTo>
                    <a:pt x="369" y="435"/>
                  </a:lnTo>
                  <a:lnTo>
                    <a:pt x="369" y="439"/>
                  </a:lnTo>
                  <a:lnTo>
                    <a:pt x="373" y="444"/>
                  </a:lnTo>
                  <a:lnTo>
                    <a:pt x="374" y="449"/>
                  </a:lnTo>
                  <a:lnTo>
                    <a:pt x="364" y="453"/>
                  </a:lnTo>
                  <a:lnTo>
                    <a:pt x="352" y="450"/>
                  </a:lnTo>
                  <a:lnTo>
                    <a:pt x="343" y="452"/>
                  </a:lnTo>
                  <a:lnTo>
                    <a:pt x="341" y="458"/>
                  </a:lnTo>
                  <a:lnTo>
                    <a:pt x="340" y="466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7"/>
                  </a:lnTo>
                  <a:lnTo>
                    <a:pt x="289" y="487"/>
                  </a:lnTo>
                  <a:lnTo>
                    <a:pt x="286" y="498"/>
                  </a:lnTo>
                  <a:lnTo>
                    <a:pt x="284" y="509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5" y="518"/>
                  </a:lnTo>
                  <a:lnTo>
                    <a:pt x="274" y="526"/>
                  </a:lnTo>
                  <a:lnTo>
                    <a:pt x="267" y="536"/>
                  </a:lnTo>
                  <a:lnTo>
                    <a:pt x="267" y="549"/>
                  </a:lnTo>
                  <a:lnTo>
                    <a:pt x="282" y="580"/>
                  </a:lnTo>
                  <a:lnTo>
                    <a:pt x="302" y="609"/>
                  </a:lnTo>
                  <a:lnTo>
                    <a:pt x="318" y="640"/>
                  </a:lnTo>
                  <a:lnTo>
                    <a:pt x="322" y="647"/>
                  </a:lnTo>
                  <a:lnTo>
                    <a:pt x="331" y="652"/>
                  </a:lnTo>
                  <a:lnTo>
                    <a:pt x="342" y="651"/>
                  </a:lnTo>
                  <a:lnTo>
                    <a:pt x="332" y="661"/>
                  </a:lnTo>
                  <a:lnTo>
                    <a:pt x="328" y="673"/>
                  </a:lnTo>
                  <a:lnTo>
                    <a:pt x="326" y="687"/>
                  </a:lnTo>
                  <a:lnTo>
                    <a:pt x="321" y="693"/>
                  </a:lnTo>
                  <a:lnTo>
                    <a:pt x="311" y="698"/>
                  </a:lnTo>
                  <a:lnTo>
                    <a:pt x="303" y="704"/>
                  </a:lnTo>
                  <a:lnTo>
                    <a:pt x="301" y="717"/>
                  </a:lnTo>
                  <a:lnTo>
                    <a:pt x="305" y="730"/>
                  </a:lnTo>
                  <a:lnTo>
                    <a:pt x="310" y="743"/>
                  </a:lnTo>
                  <a:lnTo>
                    <a:pt x="317" y="751"/>
                  </a:lnTo>
                  <a:lnTo>
                    <a:pt x="327" y="756"/>
                  </a:lnTo>
                  <a:lnTo>
                    <a:pt x="336" y="763"/>
                  </a:lnTo>
                  <a:lnTo>
                    <a:pt x="342" y="771"/>
                  </a:lnTo>
                  <a:lnTo>
                    <a:pt x="345" y="781"/>
                  </a:lnTo>
                  <a:lnTo>
                    <a:pt x="347" y="790"/>
                  </a:lnTo>
                  <a:lnTo>
                    <a:pt x="350" y="806"/>
                  </a:lnTo>
                  <a:lnTo>
                    <a:pt x="349" y="823"/>
                  </a:lnTo>
                  <a:lnTo>
                    <a:pt x="342" y="836"/>
                  </a:lnTo>
                  <a:lnTo>
                    <a:pt x="351" y="839"/>
                  </a:lnTo>
                  <a:lnTo>
                    <a:pt x="359" y="838"/>
                  </a:lnTo>
                  <a:lnTo>
                    <a:pt x="363" y="837"/>
                  </a:lnTo>
                  <a:lnTo>
                    <a:pt x="370" y="866"/>
                  </a:lnTo>
                  <a:lnTo>
                    <a:pt x="361" y="894"/>
                  </a:lnTo>
                  <a:lnTo>
                    <a:pt x="343" y="920"/>
                  </a:lnTo>
                  <a:lnTo>
                    <a:pt x="336" y="930"/>
                  </a:lnTo>
                  <a:lnTo>
                    <a:pt x="330" y="941"/>
                  </a:lnTo>
                  <a:lnTo>
                    <a:pt x="325" y="952"/>
                  </a:lnTo>
                  <a:lnTo>
                    <a:pt x="319" y="971"/>
                  </a:lnTo>
                  <a:lnTo>
                    <a:pt x="319" y="97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94000" y="3581280"/>
              <a:ext cx="686880" cy="1416960"/>
            </a:xfrm>
            <a:custGeom>
              <a:avLst/>
              <a:gdLst/>
              <a:ahLst/>
              <a:rect l="l" t="t" r="r" b="b"/>
              <a:pathLst>
                <a:path w="454" h="972">
                  <a:moveTo>
                    <a:pt x="318" y="970"/>
                  </a:moveTo>
                  <a:lnTo>
                    <a:pt x="317" y="959"/>
                  </a:lnTo>
                  <a:lnTo>
                    <a:pt x="318" y="947"/>
                  </a:lnTo>
                  <a:lnTo>
                    <a:pt x="321" y="936"/>
                  </a:lnTo>
                  <a:lnTo>
                    <a:pt x="327" y="921"/>
                  </a:lnTo>
                  <a:lnTo>
                    <a:pt x="331" y="906"/>
                  </a:lnTo>
                  <a:lnTo>
                    <a:pt x="332" y="889"/>
                  </a:lnTo>
                  <a:lnTo>
                    <a:pt x="321" y="893"/>
                  </a:lnTo>
                  <a:lnTo>
                    <a:pt x="311" y="895"/>
                  </a:lnTo>
                  <a:lnTo>
                    <a:pt x="302" y="903"/>
                  </a:lnTo>
                  <a:lnTo>
                    <a:pt x="310" y="890"/>
                  </a:lnTo>
                  <a:lnTo>
                    <a:pt x="321" y="880"/>
                  </a:lnTo>
                  <a:lnTo>
                    <a:pt x="331" y="869"/>
                  </a:lnTo>
                  <a:lnTo>
                    <a:pt x="331" y="867"/>
                  </a:lnTo>
                  <a:lnTo>
                    <a:pt x="329" y="864"/>
                  </a:lnTo>
                  <a:lnTo>
                    <a:pt x="329" y="860"/>
                  </a:lnTo>
                  <a:lnTo>
                    <a:pt x="324" y="859"/>
                  </a:lnTo>
                  <a:lnTo>
                    <a:pt x="320" y="856"/>
                  </a:lnTo>
                  <a:lnTo>
                    <a:pt x="315" y="856"/>
                  </a:lnTo>
                  <a:lnTo>
                    <a:pt x="315" y="853"/>
                  </a:lnTo>
                  <a:lnTo>
                    <a:pt x="311" y="851"/>
                  </a:lnTo>
                  <a:lnTo>
                    <a:pt x="312" y="847"/>
                  </a:lnTo>
                  <a:lnTo>
                    <a:pt x="314" y="846"/>
                  </a:lnTo>
                  <a:lnTo>
                    <a:pt x="317" y="846"/>
                  </a:lnTo>
                  <a:lnTo>
                    <a:pt x="318" y="846"/>
                  </a:lnTo>
                  <a:lnTo>
                    <a:pt x="322" y="825"/>
                  </a:lnTo>
                  <a:lnTo>
                    <a:pt x="317" y="804"/>
                  </a:lnTo>
                  <a:lnTo>
                    <a:pt x="306" y="787"/>
                  </a:lnTo>
                  <a:lnTo>
                    <a:pt x="304" y="793"/>
                  </a:lnTo>
                  <a:lnTo>
                    <a:pt x="300" y="797"/>
                  </a:lnTo>
                  <a:lnTo>
                    <a:pt x="296" y="800"/>
                  </a:lnTo>
                  <a:lnTo>
                    <a:pt x="299" y="782"/>
                  </a:lnTo>
                  <a:lnTo>
                    <a:pt x="300" y="763"/>
                  </a:lnTo>
                  <a:lnTo>
                    <a:pt x="298" y="745"/>
                  </a:lnTo>
                  <a:lnTo>
                    <a:pt x="295" y="739"/>
                  </a:lnTo>
                  <a:lnTo>
                    <a:pt x="290" y="734"/>
                  </a:lnTo>
                  <a:lnTo>
                    <a:pt x="287" y="728"/>
                  </a:lnTo>
                  <a:lnTo>
                    <a:pt x="283" y="707"/>
                  </a:lnTo>
                  <a:lnTo>
                    <a:pt x="280" y="686"/>
                  </a:lnTo>
                  <a:lnTo>
                    <a:pt x="277" y="665"/>
                  </a:lnTo>
                  <a:lnTo>
                    <a:pt x="277" y="656"/>
                  </a:lnTo>
                  <a:lnTo>
                    <a:pt x="279" y="647"/>
                  </a:lnTo>
                  <a:lnTo>
                    <a:pt x="283" y="638"/>
                  </a:lnTo>
                  <a:lnTo>
                    <a:pt x="275" y="641"/>
                  </a:lnTo>
                  <a:lnTo>
                    <a:pt x="267" y="643"/>
                  </a:lnTo>
                  <a:lnTo>
                    <a:pt x="260" y="641"/>
                  </a:lnTo>
                  <a:lnTo>
                    <a:pt x="251" y="629"/>
                  </a:lnTo>
                  <a:lnTo>
                    <a:pt x="251" y="615"/>
                  </a:lnTo>
                  <a:lnTo>
                    <a:pt x="259" y="602"/>
                  </a:lnTo>
                  <a:lnTo>
                    <a:pt x="256" y="607"/>
                  </a:lnTo>
                  <a:lnTo>
                    <a:pt x="252" y="609"/>
                  </a:lnTo>
                  <a:lnTo>
                    <a:pt x="247" y="608"/>
                  </a:lnTo>
                  <a:lnTo>
                    <a:pt x="244" y="603"/>
                  </a:lnTo>
                  <a:lnTo>
                    <a:pt x="243" y="597"/>
                  </a:lnTo>
                  <a:lnTo>
                    <a:pt x="240" y="592"/>
                  </a:lnTo>
                  <a:lnTo>
                    <a:pt x="243" y="599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9"/>
                  </a:lnTo>
                  <a:lnTo>
                    <a:pt x="237" y="626"/>
                  </a:lnTo>
                  <a:lnTo>
                    <a:pt x="236" y="635"/>
                  </a:lnTo>
                  <a:lnTo>
                    <a:pt x="224" y="640"/>
                  </a:lnTo>
                  <a:lnTo>
                    <a:pt x="213" y="648"/>
                  </a:lnTo>
                  <a:lnTo>
                    <a:pt x="200" y="648"/>
                  </a:lnTo>
                  <a:lnTo>
                    <a:pt x="200" y="646"/>
                  </a:lnTo>
                  <a:lnTo>
                    <a:pt x="200" y="644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6"/>
                  </a:lnTo>
                  <a:lnTo>
                    <a:pt x="187" y="664"/>
                  </a:lnTo>
                  <a:lnTo>
                    <a:pt x="186" y="672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8"/>
                  </a:lnTo>
                  <a:lnTo>
                    <a:pt x="176" y="674"/>
                  </a:lnTo>
                  <a:lnTo>
                    <a:pt x="172" y="672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8"/>
                  </a:lnTo>
                  <a:lnTo>
                    <a:pt x="154" y="678"/>
                  </a:lnTo>
                  <a:lnTo>
                    <a:pt x="152" y="676"/>
                  </a:lnTo>
                  <a:lnTo>
                    <a:pt x="151" y="674"/>
                  </a:lnTo>
                  <a:lnTo>
                    <a:pt x="151" y="672"/>
                  </a:lnTo>
                  <a:lnTo>
                    <a:pt x="153" y="667"/>
                  </a:lnTo>
                  <a:lnTo>
                    <a:pt x="156" y="662"/>
                  </a:lnTo>
                  <a:lnTo>
                    <a:pt x="160" y="658"/>
                  </a:lnTo>
                  <a:lnTo>
                    <a:pt x="151" y="663"/>
                  </a:lnTo>
                  <a:lnTo>
                    <a:pt x="141" y="666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7"/>
                  </a:lnTo>
                  <a:lnTo>
                    <a:pt x="135" y="652"/>
                  </a:lnTo>
                  <a:lnTo>
                    <a:pt x="128" y="656"/>
                  </a:lnTo>
                  <a:lnTo>
                    <a:pt x="122" y="662"/>
                  </a:lnTo>
                  <a:lnTo>
                    <a:pt x="117" y="667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5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6"/>
                  </a:lnTo>
                  <a:lnTo>
                    <a:pt x="111" y="619"/>
                  </a:lnTo>
                  <a:lnTo>
                    <a:pt x="112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7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6"/>
                  </a:lnTo>
                  <a:lnTo>
                    <a:pt x="75" y="527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8"/>
                  </a:lnTo>
                  <a:lnTo>
                    <a:pt x="73" y="488"/>
                  </a:lnTo>
                  <a:lnTo>
                    <a:pt x="69" y="477"/>
                  </a:lnTo>
                  <a:lnTo>
                    <a:pt x="67" y="471"/>
                  </a:lnTo>
                  <a:lnTo>
                    <a:pt x="61" y="469"/>
                  </a:lnTo>
                  <a:lnTo>
                    <a:pt x="52" y="468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4"/>
                  </a:lnTo>
                  <a:lnTo>
                    <a:pt x="19" y="426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2"/>
                  </a:lnTo>
                  <a:lnTo>
                    <a:pt x="22" y="375"/>
                  </a:lnTo>
                  <a:lnTo>
                    <a:pt x="20" y="365"/>
                  </a:lnTo>
                  <a:lnTo>
                    <a:pt x="20" y="355"/>
                  </a:lnTo>
                  <a:lnTo>
                    <a:pt x="29" y="351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50" y="329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8" y="294"/>
                  </a:lnTo>
                  <a:lnTo>
                    <a:pt x="58" y="287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2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5"/>
                  </a:lnTo>
                  <a:lnTo>
                    <a:pt x="105" y="239"/>
                  </a:lnTo>
                  <a:lnTo>
                    <a:pt x="104" y="234"/>
                  </a:lnTo>
                  <a:lnTo>
                    <a:pt x="105" y="230"/>
                  </a:lnTo>
                  <a:lnTo>
                    <a:pt x="116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5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8" y="109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69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5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0" y="62"/>
                  </a:lnTo>
                  <a:lnTo>
                    <a:pt x="231" y="64"/>
                  </a:lnTo>
                  <a:lnTo>
                    <a:pt x="240" y="73"/>
                  </a:lnTo>
                  <a:lnTo>
                    <a:pt x="249" y="75"/>
                  </a:lnTo>
                  <a:lnTo>
                    <a:pt x="249" y="71"/>
                  </a:lnTo>
                  <a:lnTo>
                    <a:pt x="247" y="64"/>
                  </a:lnTo>
                  <a:lnTo>
                    <a:pt x="245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5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1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09" y="52"/>
                  </a:lnTo>
                  <a:lnTo>
                    <a:pt x="314" y="51"/>
                  </a:lnTo>
                  <a:lnTo>
                    <a:pt x="319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1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1" y="147"/>
                  </a:lnTo>
                  <a:lnTo>
                    <a:pt x="316" y="153"/>
                  </a:lnTo>
                  <a:lnTo>
                    <a:pt x="313" y="159"/>
                  </a:lnTo>
                  <a:lnTo>
                    <a:pt x="308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2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2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8"/>
                  </a:lnTo>
                  <a:lnTo>
                    <a:pt x="347" y="293"/>
                  </a:lnTo>
                  <a:lnTo>
                    <a:pt x="358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8"/>
                  </a:lnTo>
                  <a:lnTo>
                    <a:pt x="393" y="352"/>
                  </a:lnTo>
                  <a:lnTo>
                    <a:pt x="394" y="358"/>
                  </a:lnTo>
                  <a:lnTo>
                    <a:pt x="392" y="364"/>
                  </a:lnTo>
                  <a:lnTo>
                    <a:pt x="388" y="371"/>
                  </a:lnTo>
                  <a:lnTo>
                    <a:pt x="393" y="372"/>
                  </a:lnTo>
                  <a:lnTo>
                    <a:pt x="397" y="374"/>
                  </a:lnTo>
                  <a:lnTo>
                    <a:pt x="401" y="375"/>
                  </a:lnTo>
                  <a:lnTo>
                    <a:pt x="401" y="378"/>
                  </a:lnTo>
                  <a:lnTo>
                    <a:pt x="398" y="381"/>
                  </a:lnTo>
                  <a:lnTo>
                    <a:pt x="398" y="383"/>
                  </a:lnTo>
                  <a:lnTo>
                    <a:pt x="417" y="381"/>
                  </a:lnTo>
                  <a:lnTo>
                    <a:pt x="435" y="374"/>
                  </a:lnTo>
                  <a:lnTo>
                    <a:pt x="454" y="371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6" y="384"/>
                  </a:lnTo>
                  <a:lnTo>
                    <a:pt x="444" y="388"/>
                  </a:lnTo>
                  <a:lnTo>
                    <a:pt x="441" y="387"/>
                  </a:lnTo>
                  <a:lnTo>
                    <a:pt x="441" y="389"/>
                  </a:lnTo>
                  <a:lnTo>
                    <a:pt x="441" y="392"/>
                  </a:lnTo>
                  <a:lnTo>
                    <a:pt x="441" y="394"/>
                  </a:lnTo>
                  <a:lnTo>
                    <a:pt x="434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6"/>
                  </a:lnTo>
                  <a:lnTo>
                    <a:pt x="425" y="412"/>
                  </a:lnTo>
                  <a:lnTo>
                    <a:pt x="423" y="416"/>
                  </a:lnTo>
                  <a:lnTo>
                    <a:pt x="416" y="422"/>
                  </a:lnTo>
                  <a:lnTo>
                    <a:pt x="407" y="427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2"/>
                  </a:lnTo>
                  <a:lnTo>
                    <a:pt x="378" y="433"/>
                  </a:lnTo>
                  <a:lnTo>
                    <a:pt x="369" y="436"/>
                  </a:lnTo>
                  <a:lnTo>
                    <a:pt x="369" y="439"/>
                  </a:lnTo>
                  <a:lnTo>
                    <a:pt x="373" y="445"/>
                  </a:lnTo>
                  <a:lnTo>
                    <a:pt x="374" y="449"/>
                  </a:lnTo>
                  <a:lnTo>
                    <a:pt x="364" y="454"/>
                  </a:lnTo>
                  <a:lnTo>
                    <a:pt x="352" y="451"/>
                  </a:lnTo>
                  <a:lnTo>
                    <a:pt x="343" y="452"/>
                  </a:lnTo>
                  <a:lnTo>
                    <a:pt x="341" y="459"/>
                  </a:lnTo>
                  <a:lnTo>
                    <a:pt x="340" y="467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8"/>
                  </a:lnTo>
                  <a:lnTo>
                    <a:pt x="289" y="488"/>
                  </a:lnTo>
                  <a:lnTo>
                    <a:pt x="286" y="498"/>
                  </a:lnTo>
                  <a:lnTo>
                    <a:pt x="284" y="510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6" y="519"/>
                  </a:lnTo>
                  <a:lnTo>
                    <a:pt x="274" y="527"/>
                  </a:lnTo>
                  <a:lnTo>
                    <a:pt x="267" y="537"/>
                  </a:lnTo>
                  <a:lnTo>
                    <a:pt x="267" y="549"/>
                  </a:lnTo>
                  <a:lnTo>
                    <a:pt x="283" y="580"/>
                  </a:lnTo>
                  <a:lnTo>
                    <a:pt x="302" y="609"/>
                  </a:lnTo>
                  <a:lnTo>
                    <a:pt x="318" y="641"/>
                  </a:lnTo>
                  <a:lnTo>
                    <a:pt x="322" y="648"/>
                  </a:lnTo>
                  <a:lnTo>
                    <a:pt x="331" y="652"/>
                  </a:lnTo>
                  <a:lnTo>
                    <a:pt x="342" y="652"/>
                  </a:lnTo>
                  <a:lnTo>
                    <a:pt x="332" y="662"/>
                  </a:lnTo>
                  <a:lnTo>
                    <a:pt x="328" y="674"/>
                  </a:lnTo>
                  <a:lnTo>
                    <a:pt x="326" y="688"/>
                  </a:lnTo>
                  <a:lnTo>
                    <a:pt x="321" y="694"/>
                  </a:lnTo>
                  <a:lnTo>
                    <a:pt x="311" y="698"/>
                  </a:lnTo>
                  <a:lnTo>
                    <a:pt x="303" y="705"/>
                  </a:lnTo>
                  <a:lnTo>
                    <a:pt x="301" y="718"/>
                  </a:lnTo>
                  <a:lnTo>
                    <a:pt x="305" y="731"/>
                  </a:lnTo>
                  <a:lnTo>
                    <a:pt x="310" y="744"/>
                  </a:lnTo>
                  <a:lnTo>
                    <a:pt x="317" y="751"/>
                  </a:lnTo>
                  <a:lnTo>
                    <a:pt x="327" y="757"/>
                  </a:lnTo>
                  <a:lnTo>
                    <a:pt x="336" y="764"/>
                  </a:lnTo>
                  <a:lnTo>
                    <a:pt x="342" y="772"/>
                  </a:lnTo>
                  <a:lnTo>
                    <a:pt x="345" y="781"/>
                  </a:lnTo>
                  <a:lnTo>
                    <a:pt x="347" y="791"/>
                  </a:lnTo>
                  <a:lnTo>
                    <a:pt x="349" y="807"/>
                  </a:lnTo>
                  <a:lnTo>
                    <a:pt x="349" y="823"/>
                  </a:lnTo>
                  <a:lnTo>
                    <a:pt x="342" y="837"/>
                  </a:lnTo>
                  <a:lnTo>
                    <a:pt x="350" y="840"/>
                  </a:lnTo>
                  <a:lnTo>
                    <a:pt x="358" y="838"/>
                  </a:lnTo>
                  <a:lnTo>
                    <a:pt x="363" y="838"/>
                  </a:lnTo>
                  <a:lnTo>
                    <a:pt x="370" y="866"/>
                  </a:lnTo>
                  <a:lnTo>
                    <a:pt x="361" y="895"/>
                  </a:lnTo>
                  <a:lnTo>
                    <a:pt x="343" y="920"/>
                  </a:lnTo>
                  <a:lnTo>
                    <a:pt x="336" y="931"/>
                  </a:lnTo>
                  <a:lnTo>
                    <a:pt x="330" y="941"/>
                  </a:lnTo>
                  <a:lnTo>
                    <a:pt x="325" y="953"/>
                  </a:lnTo>
                  <a:lnTo>
                    <a:pt x="319" y="972"/>
                  </a:lnTo>
                  <a:lnTo>
                    <a:pt x="318" y="97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98280" y="4209840"/>
              <a:ext cx="610920" cy="1109160"/>
            </a:xfrm>
            <a:custGeom>
              <a:avLst/>
              <a:gdLst/>
              <a:ahLst/>
              <a:rect l="l" t="t" r="r" b="b"/>
              <a:pathLst>
                <a:path w="404" h="761">
                  <a:moveTo>
                    <a:pt x="130" y="728"/>
                  </a:moveTo>
                  <a:lnTo>
                    <a:pt x="126" y="730"/>
                  </a:lnTo>
                  <a:lnTo>
                    <a:pt x="118" y="733"/>
                  </a:lnTo>
                  <a:lnTo>
                    <a:pt x="109" y="731"/>
                  </a:lnTo>
                  <a:lnTo>
                    <a:pt x="104" y="720"/>
                  </a:lnTo>
                  <a:lnTo>
                    <a:pt x="106" y="706"/>
                  </a:lnTo>
                  <a:lnTo>
                    <a:pt x="111" y="693"/>
                  </a:lnTo>
                  <a:lnTo>
                    <a:pt x="105" y="691"/>
                  </a:lnTo>
                  <a:lnTo>
                    <a:pt x="105" y="684"/>
                  </a:lnTo>
                  <a:lnTo>
                    <a:pt x="102" y="680"/>
                  </a:lnTo>
                  <a:lnTo>
                    <a:pt x="93" y="677"/>
                  </a:lnTo>
                  <a:lnTo>
                    <a:pt x="85" y="675"/>
                  </a:lnTo>
                  <a:lnTo>
                    <a:pt x="80" y="669"/>
                  </a:lnTo>
                  <a:lnTo>
                    <a:pt x="77" y="661"/>
                  </a:lnTo>
                  <a:lnTo>
                    <a:pt x="75" y="652"/>
                  </a:lnTo>
                  <a:lnTo>
                    <a:pt x="74" y="643"/>
                  </a:lnTo>
                  <a:lnTo>
                    <a:pt x="72" y="639"/>
                  </a:lnTo>
                  <a:lnTo>
                    <a:pt x="67" y="637"/>
                  </a:lnTo>
                  <a:lnTo>
                    <a:pt x="63" y="637"/>
                  </a:lnTo>
                  <a:lnTo>
                    <a:pt x="54" y="647"/>
                  </a:lnTo>
                  <a:lnTo>
                    <a:pt x="49" y="656"/>
                  </a:lnTo>
                  <a:lnTo>
                    <a:pt x="40" y="652"/>
                  </a:lnTo>
                  <a:lnTo>
                    <a:pt x="39" y="643"/>
                  </a:lnTo>
                  <a:lnTo>
                    <a:pt x="42" y="633"/>
                  </a:lnTo>
                  <a:lnTo>
                    <a:pt x="41" y="625"/>
                  </a:lnTo>
                  <a:lnTo>
                    <a:pt x="36" y="610"/>
                  </a:lnTo>
                  <a:lnTo>
                    <a:pt x="38" y="597"/>
                  </a:lnTo>
                  <a:lnTo>
                    <a:pt x="41" y="585"/>
                  </a:lnTo>
                  <a:lnTo>
                    <a:pt x="50" y="551"/>
                  </a:lnTo>
                  <a:lnTo>
                    <a:pt x="60" y="519"/>
                  </a:lnTo>
                  <a:lnTo>
                    <a:pt x="77" y="489"/>
                  </a:lnTo>
                  <a:lnTo>
                    <a:pt x="94" y="463"/>
                  </a:lnTo>
                  <a:lnTo>
                    <a:pt x="103" y="435"/>
                  </a:lnTo>
                  <a:lnTo>
                    <a:pt x="96" y="407"/>
                  </a:lnTo>
                  <a:lnTo>
                    <a:pt x="92" y="407"/>
                  </a:lnTo>
                  <a:lnTo>
                    <a:pt x="84" y="409"/>
                  </a:lnTo>
                  <a:lnTo>
                    <a:pt x="75" y="405"/>
                  </a:lnTo>
                  <a:lnTo>
                    <a:pt x="83" y="392"/>
                  </a:lnTo>
                  <a:lnTo>
                    <a:pt x="83" y="375"/>
                  </a:lnTo>
                  <a:lnTo>
                    <a:pt x="80" y="359"/>
                  </a:lnTo>
                  <a:lnTo>
                    <a:pt x="79" y="350"/>
                  </a:lnTo>
                  <a:lnTo>
                    <a:pt x="75" y="341"/>
                  </a:lnTo>
                  <a:lnTo>
                    <a:pt x="69" y="332"/>
                  </a:lnTo>
                  <a:lnTo>
                    <a:pt x="60" y="326"/>
                  </a:lnTo>
                  <a:lnTo>
                    <a:pt x="50" y="320"/>
                  </a:lnTo>
                  <a:lnTo>
                    <a:pt x="43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4"/>
                  </a:lnTo>
                  <a:lnTo>
                    <a:pt x="44" y="267"/>
                  </a:lnTo>
                  <a:lnTo>
                    <a:pt x="54" y="263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1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8"/>
                  </a:lnTo>
                  <a:lnTo>
                    <a:pt x="16" y="149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7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7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40"/>
                  </a:lnTo>
                  <a:lnTo>
                    <a:pt x="51" y="40"/>
                  </a:lnTo>
                  <a:lnTo>
                    <a:pt x="68" y="40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1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8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1"/>
                  </a:lnTo>
                  <a:lnTo>
                    <a:pt x="156" y="33"/>
                  </a:lnTo>
                  <a:lnTo>
                    <a:pt x="162" y="40"/>
                  </a:lnTo>
                  <a:lnTo>
                    <a:pt x="172" y="41"/>
                  </a:lnTo>
                  <a:lnTo>
                    <a:pt x="183" y="41"/>
                  </a:lnTo>
                  <a:lnTo>
                    <a:pt x="194" y="42"/>
                  </a:lnTo>
                  <a:lnTo>
                    <a:pt x="195" y="46"/>
                  </a:lnTo>
                  <a:lnTo>
                    <a:pt x="197" y="49"/>
                  </a:lnTo>
                  <a:lnTo>
                    <a:pt x="196" y="51"/>
                  </a:lnTo>
                  <a:lnTo>
                    <a:pt x="192" y="58"/>
                  </a:lnTo>
                  <a:lnTo>
                    <a:pt x="193" y="66"/>
                  </a:lnTo>
                  <a:lnTo>
                    <a:pt x="200" y="72"/>
                  </a:lnTo>
                  <a:lnTo>
                    <a:pt x="201" y="75"/>
                  </a:lnTo>
                  <a:lnTo>
                    <a:pt x="201" y="78"/>
                  </a:lnTo>
                  <a:lnTo>
                    <a:pt x="200" y="81"/>
                  </a:lnTo>
                  <a:lnTo>
                    <a:pt x="196" y="84"/>
                  </a:lnTo>
                  <a:lnTo>
                    <a:pt x="192" y="87"/>
                  </a:lnTo>
                  <a:lnTo>
                    <a:pt x="187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10"/>
                  </a:lnTo>
                  <a:lnTo>
                    <a:pt x="178" y="115"/>
                  </a:lnTo>
                  <a:lnTo>
                    <a:pt x="184" y="120"/>
                  </a:lnTo>
                  <a:lnTo>
                    <a:pt x="188" y="124"/>
                  </a:lnTo>
                  <a:lnTo>
                    <a:pt x="183" y="137"/>
                  </a:lnTo>
                  <a:lnTo>
                    <a:pt x="176" y="147"/>
                  </a:lnTo>
                  <a:lnTo>
                    <a:pt x="185" y="156"/>
                  </a:lnTo>
                  <a:lnTo>
                    <a:pt x="203" y="152"/>
                  </a:lnTo>
                  <a:lnTo>
                    <a:pt x="217" y="137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4"/>
                  </a:lnTo>
                  <a:lnTo>
                    <a:pt x="267" y="138"/>
                  </a:lnTo>
                  <a:lnTo>
                    <a:pt x="277" y="133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5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2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7"/>
                  </a:lnTo>
                  <a:lnTo>
                    <a:pt x="388" y="231"/>
                  </a:lnTo>
                  <a:lnTo>
                    <a:pt x="404" y="267"/>
                  </a:lnTo>
                  <a:lnTo>
                    <a:pt x="402" y="306"/>
                  </a:lnTo>
                  <a:lnTo>
                    <a:pt x="384" y="323"/>
                  </a:lnTo>
                  <a:lnTo>
                    <a:pt x="381" y="319"/>
                  </a:lnTo>
                  <a:lnTo>
                    <a:pt x="378" y="316"/>
                  </a:lnTo>
                  <a:lnTo>
                    <a:pt x="375" y="314"/>
                  </a:lnTo>
                  <a:lnTo>
                    <a:pt x="366" y="313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2"/>
                  </a:lnTo>
                  <a:lnTo>
                    <a:pt x="330" y="320"/>
                  </a:lnTo>
                  <a:lnTo>
                    <a:pt x="319" y="319"/>
                  </a:lnTo>
                  <a:lnTo>
                    <a:pt x="314" y="318"/>
                  </a:lnTo>
                  <a:lnTo>
                    <a:pt x="308" y="316"/>
                  </a:lnTo>
                  <a:lnTo>
                    <a:pt x="303" y="317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7"/>
                  </a:lnTo>
                  <a:lnTo>
                    <a:pt x="277" y="333"/>
                  </a:lnTo>
                  <a:lnTo>
                    <a:pt x="275" y="338"/>
                  </a:lnTo>
                  <a:lnTo>
                    <a:pt x="264" y="350"/>
                  </a:lnTo>
                  <a:lnTo>
                    <a:pt x="251" y="360"/>
                  </a:lnTo>
                  <a:lnTo>
                    <a:pt x="242" y="373"/>
                  </a:lnTo>
                  <a:lnTo>
                    <a:pt x="243" y="375"/>
                  </a:lnTo>
                  <a:lnTo>
                    <a:pt x="247" y="376"/>
                  </a:lnTo>
                  <a:lnTo>
                    <a:pt x="250" y="379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2"/>
                  </a:lnTo>
                  <a:lnTo>
                    <a:pt x="260" y="421"/>
                  </a:lnTo>
                  <a:lnTo>
                    <a:pt x="264" y="440"/>
                  </a:lnTo>
                  <a:lnTo>
                    <a:pt x="264" y="458"/>
                  </a:lnTo>
                  <a:lnTo>
                    <a:pt x="261" y="458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6"/>
                  </a:lnTo>
                  <a:lnTo>
                    <a:pt x="242" y="440"/>
                  </a:lnTo>
                  <a:lnTo>
                    <a:pt x="235" y="429"/>
                  </a:lnTo>
                  <a:lnTo>
                    <a:pt x="230" y="417"/>
                  </a:lnTo>
                  <a:lnTo>
                    <a:pt x="224" y="405"/>
                  </a:lnTo>
                  <a:lnTo>
                    <a:pt x="215" y="409"/>
                  </a:lnTo>
                  <a:lnTo>
                    <a:pt x="208" y="404"/>
                  </a:lnTo>
                  <a:lnTo>
                    <a:pt x="201" y="399"/>
                  </a:lnTo>
                  <a:lnTo>
                    <a:pt x="201" y="402"/>
                  </a:lnTo>
                  <a:lnTo>
                    <a:pt x="200" y="404"/>
                  </a:lnTo>
                  <a:lnTo>
                    <a:pt x="197" y="405"/>
                  </a:lnTo>
                  <a:lnTo>
                    <a:pt x="191" y="405"/>
                  </a:lnTo>
                  <a:lnTo>
                    <a:pt x="185" y="408"/>
                  </a:lnTo>
                  <a:lnTo>
                    <a:pt x="180" y="411"/>
                  </a:lnTo>
                  <a:lnTo>
                    <a:pt x="172" y="412"/>
                  </a:lnTo>
                  <a:lnTo>
                    <a:pt x="165" y="408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2" y="382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8"/>
                  </a:lnTo>
                  <a:lnTo>
                    <a:pt x="132" y="360"/>
                  </a:lnTo>
                  <a:lnTo>
                    <a:pt x="128" y="363"/>
                  </a:lnTo>
                  <a:lnTo>
                    <a:pt x="128" y="369"/>
                  </a:lnTo>
                  <a:lnTo>
                    <a:pt x="128" y="376"/>
                  </a:lnTo>
                  <a:lnTo>
                    <a:pt x="131" y="375"/>
                  </a:lnTo>
                  <a:lnTo>
                    <a:pt x="133" y="377"/>
                  </a:lnTo>
                  <a:lnTo>
                    <a:pt x="135" y="379"/>
                  </a:lnTo>
                  <a:lnTo>
                    <a:pt x="135" y="382"/>
                  </a:lnTo>
                  <a:lnTo>
                    <a:pt x="135" y="385"/>
                  </a:lnTo>
                  <a:lnTo>
                    <a:pt x="135" y="389"/>
                  </a:lnTo>
                  <a:lnTo>
                    <a:pt x="132" y="389"/>
                  </a:lnTo>
                  <a:lnTo>
                    <a:pt x="131" y="392"/>
                  </a:lnTo>
                  <a:lnTo>
                    <a:pt x="128" y="392"/>
                  </a:lnTo>
                  <a:lnTo>
                    <a:pt x="130" y="402"/>
                  </a:lnTo>
                  <a:lnTo>
                    <a:pt x="132" y="412"/>
                  </a:lnTo>
                  <a:lnTo>
                    <a:pt x="131" y="422"/>
                  </a:lnTo>
                  <a:lnTo>
                    <a:pt x="122" y="450"/>
                  </a:lnTo>
                  <a:lnTo>
                    <a:pt x="113" y="478"/>
                  </a:lnTo>
                  <a:lnTo>
                    <a:pt x="100" y="506"/>
                  </a:lnTo>
                  <a:lnTo>
                    <a:pt x="92" y="520"/>
                  </a:lnTo>
                  <a:lnTo>
                    <a:pt x="88" y="535"/>
                  </a:lnTo>
                  <a:lnTo>
                    <a:pt x="90" y="550"/>
                  </a:lnTo>
                  <a:lnTo>
                    <a:pt x="91" y="556"/>
                  </a:lnTo>
                  <a:lnTo>
                    <a:pt x="90" y="562"/>
                  </a:lnTo>
                  <a:lnTo>
                    <a:pt x="92" y="567"/>
                  </a:lnTo>
                  <a:lnTo>
                    <a:pt x="104" y="577"/>
                  </a:lnTo>
                  <a:lnTo>
                    <a:pt x="115" y="588"/>
                  </a:lnTo>
                  <a:lnTo>
                    <a:pt x="127" y="598"/>
                  </a:lnTo>
                  <a:lnTo>
                    <a:pt x="128" y="600"/>
                  </a:lnTo>
                  <a:lnTo>
                    <a:pt x="127" y="604"/>
                  </a:lnTo>
                  <a:lnTo>
                    <a:pt x="126" y="607"/>
                  </a:lnTo>
                  <a:lnTo>
                    <a:pt x="129" y="618"/>
                  </a:lnTo>
                  <a:lnTo>
                    <a:pt x="137" y="627"/>
                  </a:lnTo>
                  <a:lnTo>
                    <a:pt x="144" y="637"/>
                  </a:lnTo>
                  <a:lnTo>
                    <a:pt x="144" y="646"/>
                  </a:lnTo>
                  <a:lnTo>
                    <a:pt x="143" y="655"/>
                  </a:lnTo>
                  <a:lnTo>
                    <a:pt x="143" y="662"/>
                  </a:lnTo>
                  <a:lnTo>
                    <a:pt x="152" y="680"/>
                  </a:lnTo>
                  <a:lnTo>
                    <a:pt x="165" y="694"/>
                  </a:lnTo>
                  <a:lnTo>
                    <a:pt x="181" y="705"/>
                  </a:lnTo>
                  <a:lnTo>
                    <a:pt x="189" y="705"/>
                  </a:lnTo>
                  <a:lnTo>
                    <a:pt x="196" y="702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4"/>
                  </a:lnTo>
                  <a:lnTo>
                    <a:pt x="214" y="723"/>
                  </a:lnTo>
                  <a:lnTo>
                    <a:pt x="222" y="723"/>
                  </a:lnTo>
                  <a:lnTo>
                    <a:pt x="227" y="726"/>
                  </a:lnTo>
                  <a:lnTo>
                    <a:pt x="230" y="732"/>
                  </a:lnTo>
                  <a:lnTo>
                    <a:pt x="229" y="736"/>
                  </a:lnTo>
                  <a:lnTo>
                    <a:pt x="227" y="736"/>
                  </a:lnTo>
                  <a:lnTo>
                    <a:pt x="225" y="736"/>
                  </a:lnTo>
                  <a:lnTo>
                    <a:pt x="224" y="736"/>
                  </a:lnTo>
                  <a:lnTo>
                    <a:pt x="222" y="745"/>
                  </a:lnTo>
                  <a:lnTo>
                    <a:pt x="216" y="750"/>
                  </a:lnTo>
                  <a:lnTo>
                    <a:pt x="207" y="752"/>
                  </a:lnTo>
                  <a:lnTo>
                    <a:pt x="207" y="749"/>
                  </a:lnTo>
                  <a:lnTo>
                    <a:pt x="206" y="747"/>
                  </a:lnTo>
                  <a:lnTo>
                    <a:pt x="204" y="746"/>
                  </a:lnTo>
                  <a:lnTo>
                    <a:pt x="196" y="749"/>
                  </a:lnTo>
                  <a:lnTo>
                    <a:pt x="194" y="758"/>
                  </a:lnTo>
                  <a:lnTo>
                    <a:pt x="188" y="761"/>
                  </a:lnTo>
                  <a:lnTo>
                    <a:pt x="183" y="759"/>
                  </a:lnTo>
                  <a:lnTo>
                    <a:pt x="179" y="755"/>
                  </a:lnTo>
                  <a:lnTo>
                    <a:pt x="174" y="752"/>
                  </a:lnTo>
                  <a:lnTo>
                    <a:pt x="178" y="731"/>
                  </a:lnTo>
                  <a:lnTo>
                    <a:pt x="165" y="718"/>
                  </a:lnTo>
                  <a:lnTo>
                    <a:pt x="144" y="710"/>
                  </a:lnTo>
                  <a:lnTo>
                    <a:pt x="141" y="710"/>
                  </a:lnTo>
                  <a:lnTo>
                    <a:pt x="138" y="711"/>
                  </a:lnTo>
                  <a:lnTo>
                    <a:pt x="136" y="714"/>
                  </a:lnTo>
                  <a:lnTo>
                    <a:pt x="130" y="72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98280" y="4210920"/>
              <a:ext cx="610920" cy="1108080"/>
            </a:xfrm>
            <a:custGeom>
              <a:avLst/>
              <a:gdLst/>
              <a:ahLst/>
              <a:rect l="l" t="t" r="r" b="b"/>
              <a:pathLst>
                <a:path w="404" h="760">
                  <a:moveTo>
                    <a:pt x="130" y="727"/>
                  </a:moveTo>
                  <a:lnTo>
                    <a:pt x="126" y="729"/>
                  </a:lnTo>
                  <a:lnTo>
                    <a:pt x="118" y="732"/>
                  </a:lnTo>
                  <a:lnTo>
                    <a:pt x="109" y="730"/>
                  </a:lnTo>
                  <a:lnTo>
                    <a:pt x="104" y="719"/>
                  </a:lnTo>
                  <a:lnTo>
                    <a:pt x="107" y="705"/>
                  </a:lnTo>
                  <a:lnTo>
                    <a:pt x="111" y="692"/>
                  </a:lnTo>
                  <a:lnTo>
                    <a:pt x="105" y="690"/>
                  </a:lnTo>
                  <a:lnTo>
                    <a:pt x="105" y="683"/>
                  </a:lnTo>
                  <a:lnTo>
                    <a:pt x="102" y="679"/>
                  </a:lnTo>
                  <a:lnTo>
                    <a:pt x="93" y="676"/>
                  </a:lnTo>
                  <a:lnTo>
                    <a:pt x="85" y="674"/>
                  </a:lnTo>
                  <a:lnTo>
                    <a:pt x="80" y="668"/>
                  </a:lnTo>
                  <a:lnTo>
                    <a:pt x="77" y="660"/>
                  </a:lnTo>
                  <a:lnTo>
                    <a:pt x="75" y="651"/>
                  </a:lnTo>
                  <a:lnTo>
                    <a:pt x="74" y="642"/>
                  </a:lnTo>
                  <a:lnTo>
                    <a:pt x="72" y="638"/>
                  </a:lnTo>
                  <a:lnTo>
                    <a:pt x="67" y="636"/>
                  </a:lnTo>
                  <a:lnTo>
                    <a:pt x="63" y="636"/>
                  </a:lnTo>
                  <a:lnTo>
                    <a:pt x="55" y="646"/>
                  </a:lnTo>
                  <a:lnTo>
                    <a:pt x="49" y="655"/>
                  </a:lnTo>
                  <a:lnTo>
                    <a:pt x="40" y="651"/>
                  </a:lnTo>
                  <a:lnTo>
                    <a:pt x="39" y="642"/>
                  </a:lnTo>
                  <a:lnTo>
                    <a:pt x="42" y="632"/>
                  </a:lnTo>
                  <a:lnTo>
                    <a:pt x="41" y="624"/>
                  </a:lnTo>
                  <a:lnTo>
                    <a:pt x="36" y="610"/>
                  </a:lnTo>
                  <a:lnTo>
                    <a:pt x="38" y="596"/>
                  </a:lnTo>
                  <a:lnTo>
                    <a:pt x="42" y="584"/>
                  </a:lnTo>
                  <a:lnTo>
                    <a:pt x="50" y="550"/>
                  </a:lnTo>
                  <a:lnTo>
                    <a:pt x="60" y="518"/>
                  </a:lnTo>
                  <a:lnTo>
                    <a:pt x="77" y="488"/>
                  </a:lnTo>
                  <a:lnTo>
                    <a:pt x="95" y="463"/>
                  </a:lnTo>
                  <a:lnTo>
                    <a:pt x="103" y="434"/>
                  </a:lnTo>
                  <a:lnTo>
                    <a:pt x="96" y="406"/>
                  </a:lnTo>
                  <a:lnTo>
                    <a:pt x="92" y="406"/>
                  </a:lnTo>
                  <a:lnTo>
                    <a:pt x="84" y="408"/>
                  </a:lnTo>
                  <a:lnTo>
                    <a:pt x="75" y="405"/>
                  </a:lnTo>
                  <a:lnTo>
                    <a:pt x="83" y="391"/>
                  </a:lnTo>
                  <a:lnTo>
                    <a:pt x="83" y="375"/>
                  </a:lnTo>
                  <a:lnTo>
                    <a:pt x="81" y="359"/>
                  </a:lnTo>
                  <a:lnTo>
                    <a:pt x="79" y="349"/>
                  </a:lnTo>
                  <a:lnTo>
                    <a:pt x="75" y="340"/>
                  </a:lnTo>
                  <a:lnTo>
                    <a:pt x="69" y="332"/>
                  </a:lnTo>
                  <a:lnTo>
                    <a:pt x="60" y="325"/>
                  </a:lnTo>
                  <a:lnTo>
                    <a:pt x="50" y="319"/>
                  </a:lnTo>
                  <a:lnTo>
                    <a:pt x="44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3"/>
                  </a:lnTo>
                  <a:lnTo>
                    <a:pt x="45" y="266"/>
                  </a:lnTo>
                  <a:lnTo>
                    <a:pt x="55" y="262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0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7"/>
                  </a:lnTo>
                  <a:lnTo>
                    <a:pt x="16" y="148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6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39"/>
                  </a:lnTo>
                  <a:lnTo>
                    <a:pt x="52" y="40"/>
                  </a:lnTo>
                  <a:lnTo>
                    <a:pt x="68" y="39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0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7"/>
                  </a:lnTo>
                  <a:lnTo>
                    <a:pt x="106" y="13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0"/>
                  </a:lnTo>
                  <a:lnTo>
                    <a:pt x="156" y="32"/>
                  </a:lnTo>
                  <a:lnTo>
                    <a:pt x="162" y="39"/>
                  </a:lnTo>
                  <a:lnTo>
                    <a:pt x="172" y="40"/>
                  </a:lnTo>
                  <a:lnTo>
                    <a:pt x="183" y="40"/>
                  </a:lnTo>
                  <a:lnTo>
                    <a:pt x="194" y="42"/>
                  </a:lnTo>
                  <a:lnTo>
                    <a:pt x="195" y="45"/>
                  </a:lnTo>
                  <a:lnTo>
                    <a:pt x="197" y="48"/>
                  </a:lnTo>
                  <a:lnTo>
                    <a:pt x="197" y="51"/>
                  </a:lnTo>
                  <a:lnTo>
                    <a:pt x="192" y="58"/>
                  </a:lnTo>
                  <a:lnTo>
                    <a:pt x="194" y="66"/>
                  </a:lnTo>
                  <a:lnTo>
                    <a:pt x="200" y="72"/>
                  </a:lnTo>
                  <a:lnTo>
                    <a:pt x="201" y="74"/>
                  </a:lnTo>
                  <a:lnTo>
                    <a:pt x="201" y="78"/>
                  </a:lnTo>
                  <a:lnTo>
                    <a:pt x="200" y="80"/>
                  </a:lnTo>
                  <a:lnTo>
                    <a:pt x="196" y="84"/>
                  </a:lnTo>
                  <a:lnTo>
                    <a:pt x="192" y="86"/>
                  </a:lnTo>
                  <a:lnTo>
                    <a:pt x="188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09"/>
                  </a:lnTo>
                  <a:lnTo>
                    <a:pt x="178" y="114"/>
                  </a:lnTo>
                  <a:lnTo>
                    <a:pt x="184" y="119"/>
                  </a:lnTo>
                  <a:lnTo>
                    <a:pt x="188" y="124"/>
                  </a:lnTo>
                  <a:lnTo>
                    <a:pt x="183" y="136"/>
                  </a:lnTo>
                  <a:lnTo>
                    <a:pt x="176" y="147"/>
                  </a:lnTo>
                  <a:lnTo>
                    <a:pt x="185" y="155"/>
                  </a:lnTo>
                  <a:lnTo>
                    <a:pt x="203" y="152"/>
                  </a:lnTo>
                  <a:lnTo>
                    <a:pt x="218" y="136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3"/>
                  </a:lnTo>
                  <a:lnTo>
                    <a:pt x="267" y="138"/>
                  </a:lnTo>
                  <a:lnTo>
                    <a:pt x="277" y="132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4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3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7"/>
                  </a:lnTo>
                  <a:lnTo>
                    <a:pt x="372" y="173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6"/>
                  </a:lnTo>
                  <a:lnTo>
                    <a:pt x="388" y="231"/>
                  </a:lnTo>
                  <a:lnTo>
                    <a:pt x="404" y="266"/>
                  </a:lnTo>
                  <a:lnTo>
                    <a:pt x="402" y="306"/>
                  </a:lnTo>
                  <a:lnTo>
                    <a:pt x="384" y="322"/>
                  </a:lnTo>
                  <a:lnTo>
                    <a:pt x="381" y="319"/>
                  </a:lnTo>
                  <a:lnTo>
                    <a:pt x="378" y="315"/>
                  </a:lnTo>
                  <a:lnTo>
                    <a:pt x="375" y="313"/>
                  </a:lnTo>
                  <a:lnTo>
                    <a:pt x="366" y="312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1"/>
                  </a:lnTo>
                  <a:lnTo>
                    <a:pt x="330" y="320"/>
                  </a:lnTo>
                  <a:lnTo>
                    <a:pt x="320" y="319"/>
                  </a:lnTo>
                  <a:lnTo>
                    <a:pt x="314" y="317"/>
                  </a:lnTo>
                  <a:lnTo>
                    <a:pt x="309" y="315"/>
                  </a:lnTo>
                  <a:lnTo>
                    <a:pt x="303" y="316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6"/>
                  </a:lnTo>
                  <a:lnTo>
                    <a:pt x="277" y="332"/>
                  </a:lnTo>
                  <a:lnTo>
                    <a:pt x="275" y="338"/>
                  </a:lnTo>
                  <a:lnTo>
                    <a:pt x="264" y="349"/>
                  </a:lnTo>
                  <a:lnTo>
                    <a:pt x="251" y="360"/>
                  </a:lnTo>
                  <a:lnTo>
                    <a:pt x="242" y="372"/>
                  </a:lnTo>
                  <a:lnTo>
                    <a:pt x="243" y="374"/>
                  </a:lnTo>
                  <a:lnTo>
                    <a:pt x="247" y="375"/>
                  </a:lnTo>
                  <a:lnTo>
                    <a:pt x="250" y="378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1"/>
                  </a:lnTo>
                  <a:lnTo>
                    <a:pt x="260" y="420"/>
                  </a:lnTo>
                  <a:lnTo>
                    <a:pt x="264" y="439"/>
                  </a:lnTo>
                  <a:lnTo>
                    <a:pt x="264" y="457"/>
                  </a:lnTo>
                  <a:lnTo>
                    <a:pt x="262" y="457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5"/>
                  </a:lnTo>
                  <a:lnTo>
                    <a:pt x="242" y="439"/>
                  </a:lnTo>
                  <a:lnTo>
                    <a:pt x="235" y="428"/>
                  </a:lnTo>
                  <a:lnTo>
                    <a:pt x="230" y="416"/>
                  </a:lnTo>
                  <a:lnTo>
                    <a:pt x="224" y="405"/>
                  </a:lnTo>
                  <a:lnTo>
                    <a:pt x="215" y="408"/>
                  </a:lnTo>
                  <a:lnTo>
                    <a:pt x="208" y="404"/>
                  </a:lnTo>
                  <a:lnTo>
                    <a:pt x="201" y="398"/>
                  </a:lnTo>
                  <a:lnTo>
                    <a:pt x="201" y="401"/>
                  </a:lnTo>
                  <a:lnTo>
                    <a:pt x="200" y="403"/>
                  </a:lnTo>
                  <a:lnTo>
                    <a:pt x="197" y="404"/>
                  </a:lnTo>
                  <a:lnTo>
                    <a:pt x="191" y="405"/>
                  </a:lnTo>
                  <a:lnTo>
                    <a:pt x="186" y="407"/>
                  </a:lnTo>
                  <a:lnTo>
                    <a:pt x="181" y="410"/>
                  </a:lnTo>
                  <a:lnTo>
                    <a:pt x="172" y="412"/>
                  </a:lnTo>
                  <a:lnTo>
                    <a:pt x="165" y="407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3" y="381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7"/>
                  </a:lnTo>
                  <a:lnTo>
                    <a:pt x="132" y="359"/>
                  </a:lnTo>
                  <a:lnTo>
                    <a:pt x="129" y="363"/>
                  </a:lnTo>
                  <a:lnTo>
                    <a:pt x="128" y="369"/>
                  </a:lnTo>
                  <a:lnTo>
                    <a:pt x="128" y="375"/>
                  </a:lnTo>
                  <a:lnTo>
                    <a:pt x="131" y="375"/>
                  </a:lnTo>
                  <a:lnTo>
                    <a:pt x="133" y="376"/>
                  </a:lnTo>
                  <a:lnTo>
                    <a:pt x="135" y="378"/>
                  </a:lnTo>
                  <a:lnTo>
                    <a:pt x="135" y="381"/>
                  </a:lnTo>
                  <a:lnTo>
                    <a:pt x="135" y="385"/>
                  </a:lnTo>
                  <a:lnTo>
                    <a:pt x="135" y="388"/>
                  </a:lnTo>
                  <a:lnTo>
                    <a:pt x="132" y="388"/>
                  </a:lnTo>
                  <a:lnTo>
                    <a:pt x="131" y="391"/>
                  </a:lnTo>
                  <a:lnTo>
                    <a:pt x="128" y="391"/>
                  </a:lnTo>
                  <a:lnTo>
                    <a:pt x="130" y="401"/>
                  </a:lnTo>
                  <a:lnTo>
                    <a:pt x="132" y="411"/>
                  </a:lnTo>
                  <a:lnTo>
                    <a:pt x="131" y="421"/>
                  </a:lnTo>
                  <a:lnTo>
                    <a:pt x="122" y="449"/>
                  </a:lnTo>
                  <a:lnTo>
                    <a:pt x="113" y="477"/>
                  </a:lnTo>
                  <a:lnTo>
                    <a:pt x="100" y="505"/>
                  </a:lnTo>
                  <a:lnTo>
                    <a:pt x="93" y="519"/>
                  </a:lnTo>
                  <a:lnTo>
                    <a:pt x="88" y="534"/>
                  </a:lnTo>
                  <a:lnTo>
                    <a:pt x="90" y="549"/>
                  </a:lnTo>
                  <a:lnTo>
                    <a:pt x="91" y="555"/>
                  </a:lnTo>
                  <a:lnTo>
                    <a:pt x="91" y="561"/>
                  </a:lnTo>
                  <a:lnTo>
                    <a:pt x="92" y="566"/>
                  </a:lnTo>
                  <a:lnTo>
                    <a:pt x="104" y="577"/>
                  </a:lnTo>
                  <a:lnTo>
                    <a:pt x="115" y="587"/>
                  </a:lnTo>
                  <a:lnTo>
                    <a:pt x="127" y="597"/>
                  </a:lnTo>
                  <a:lnTo>
                    <a:pt x="128" y="599"/>
                  </a:lnTo>
                  <a:lnTo>
                    <a:pt x="127" y="603"/>
                  </a:lnTo>
                  <a:lnTo>
                    <a:pt x="126" y="606"/>
                  </a:lnTo>
                  <a:lnTo>
                    <a:pt x="129" y="617"/>
                  </a:lnTo>
                  <a:lnTo>
                    <a:pt x="137" y="626"/>
                  </a:lnTo>
                  <a:lnTo>
                    <a:pt x="144" y="636"/>
                  </a:lnTo>
                  <a:lnTo>
                    <a:pt x="145" y="645"/>
                  </a:lnTo>
                  <a:lnTo>
                    <a:pt x="143" y="654"/>
                  </a:lnTo>
                  <a:lnTo>
                    <a:pt x="143" y="661"/>
                  </a:lnTo>
                  <a:lnTo>
                    <a:pt x="152" y="679"/>
                  </a:lnTo>
                  <a:lnTo>
                    <a:pt x="165" y="693"/>
                  </a:lnTo>
                  <a:lnTo>
                    <a:pt x="182" y="704"/>
                  </a:lnTo>
                  <a:lnTo>
                    <a:pt x="189" y="704"/>
                  </a:lnTo>
                  <a:lnTo>
                    <a:pt x="196" y="701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3"/>
                  </a:lnTo>
                  <a:lnTo>
                    <a:pt x="214" y="722"/>
                  </a:lnTo>
                  <a:lnTo>
                    <a:pt x="222" y="722"/>
                  </a:lnTo>
                  <a:lnTo>
                    <a:pt x="227" y="725"/>
                  </a:lnTo>
                  <a:lnTo>
                    <a:pt x="230" y="732"/>
                  </a:lnTo>
                  <a:lnTo>
                    <a:pt x="229" y="735"/>
                  </a:lnTo>
                  <a:lnTo>
                    <a:pt x="227" y="735"/>
                  </a:lnTo>
                  <a:lnTo>
                    <a:pt x="226" y="735"/>
                  </a:lnTo>
                  <a:lnTo>
                    <a:pt x="224" y="735"/>
                  </a:lnTo>
                  <a:lnTo>
                    <a:pt x="222" y="744"/>
                  </a:lnTo>
                  <a:lnTo>
                    <a:pt x="216" y="749"/>
                  </a:lnTo>
                  <a:lnTo>
                    <a:pt x="207" y="751"/>
                  </a:lnTo>
                  <a:lnTo>
                    <a:pt x="207" y="748"/>
                  </a:lnTo>
                  <a:lnTo>
                    <a:pt x="206" y="746"/>
                  </a:lnTo>
                  <a:lnTo>
                    <a:pt x="204" y="745"/>
                  </a:lnTo>
                  <a:lnTo>
                    <a:pt x="196" y="749"/>
                  </a:lnTo>
                  <a:lnTo>
                    <a:pt x="194" y="757"/>
                  </a:lnTo>
                  <a:lnTo>
                    <a:pt x="188" y="760"/>
                  </a:lnTo>
                  <a:lnTo>
                    <a:pt x="183" y="758"/>
                  </a:lnTo>
                  <a:lnTo>
                    <a:pt x="179" y="754"/>
                  </a:lnTo>
                  <a:lnTo>
                    <a:pt x="175" y="751"/>
                  </a:lnTo>
                  <a:lnTo>
                    <a:pt x="179" y="731"/>
                  </a:lnTo>
                  <a:lnTo>
                    <a:pt x="165" y="717"/>
                  </a:lnTo>
                  <a:lnTo>
                    <a:pt x="145" y="709"/>
                  </a:lnTo>
                  <a:lnTo>
                    <a:pt x="141" y="709"/>
                  </a:lnTo>
                  <a:lnTo>
                    <a:pt x="138" y="710"/>
                  </a:lnTo>
                  <a:lnTo>
                    <a:pt x="136" y="713"/>
                  </a:lnTo>
                  <a:lnTo>
                    <a:pt x="130" y="72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62600" y="4649760"/>
              <a:ext cx="409680" cy="33372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18" y="119"/>
                  </a:lnTo>
                  <a:lnTo>
                    <a:pt x="23" y="140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8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7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4" y="226"/>
                  </a:lnTo>
                  <a:lnTo>
                    <a:pt x="94" y="224"/>
                  </a:lnTo>
                  <a:lnTo>
                    <a:pt x="95" y="223"/>
                  </a:lnTo>
                  <a:lnTo>
                    <a:pt x="102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7" y="203"/>
                  </a:lnTo>
                  <a:lnTo>
                    <a:pt x="137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4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2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3" y="146"/>
                  </a:lnTo>
                  <a:lnTo>
                    <a:pt x="214" y="144"/>
                  </a:lnTo>
                  <a:lnTo>
                    <a:pt x="221" y="139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59" y="119"/>
                  </a:lnTo>
                  <a:lnTo>
                    <a:pt x="271" y="97"/>
                  </a:lnTo>
                  <a:lnTo>
                    <a:pt x="268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7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5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5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7" y="43"/>
                  </a:lnTo>
                  <a:lnTo>
                    <a:pt x="171" y="36"/>
                  </a:lnTo>
                  <a:lnTo>
                    <a:pt x="166" y="28"/>
                  </a:lnTo>
                  <a:lnTo>
                    <a:pt x="158" y="29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4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8" y="20"/>
                  </a:lnTo>
                  <a:lnTo>
                    <a:pt x="8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2600" y="4649760"/>
              <a:ext cx="409680" cy="33372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0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18" y="119"/>
                  </a:lnTo>
                  <a:lnTo>
                    <a:pt x="23" y="141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9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8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5" y="227"/>
                  </a:lnTo>
                  <a:lnTo>
                    <a:pt x="95" y="224"/>
                  </a:lnTo>
                  <a:lnTo>
                    <a:pt x="95" y="223"/>
                  </a:lnTo>
                  <a:lnTo>
                    <a:pt x="103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8" y="203"/>
                  </a:lnTo>
                  <a:lnTo>
                    <a:pt x="138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5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3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4" y="146"/>
                  </a:lnTo>
                  <a:lnTo>
                    <a:pt x="214" y="144"/>
                  </a:lnTo>
                  <a:lnTo>
                    <a:pt x="221" y="140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60" y="119"/>
                  </a:lnTo>
                  <a:lnTo>
                    <a:pt x="271" y="97"/>
                  </a:lnTo>
                  <a:lnTo>
                    <a:pt x="269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6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6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4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8" y="43"/>
                  </a:lnTo>
                  <a:lnTo>
                    <a:pt x="172" y="36"/>
                  </a:lnTo>
                  <a:lnTo>
                    <a:pt x="166" y="28"/>
                  </a:lnTo>
                  <a:lnTo>
                    <a:pt x="158" y="28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18"/>
                  </a:lnTo>
                  <a:lnTo>
                    <a:pt x="78" y="1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8280" y="5224680"/>
              <a:ext cx="762480" cy="44748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7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7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6"/>
                  </a:lnTo>
                  <a:lnTo>
                    <a:pt x="80" y="270"/>
                  </a:lnTo>
                  <a:lnTo>
                    <a:pt x="84" y="264"/>
                  </a:lnTo>
                  <a:lnTo>
                    <a:pt x="84" y="254"/>
                  </a:lnTo>
                  <a:lnTo>
                    <a:pt x="88" y="254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6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8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7"/>
                  </a:lnTo>
                  <a:lnTo>
                    <a:pt x="308" y="100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0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6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7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2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1" y="21"/>
                  </a:lnTo>
                  <a:lnTo>
                    <a:pt x="405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3" y="33"/>
                  </a:lnTo>
                  <a:lnTo>
                    <a:pt x="421" y="42"/>
                  </a:lnTo>
                  <a:lnTo>
                    <a:pt x="414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2" y="54"/>
                  </a:lnTo>
                  <a:lnTo>
                    <a:pt x="415" y="53"/>
                  </a:lnTo>
                  <a:lnTo>
                    <a:pt x="420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6" y="71"/>
                  </a:lnTo>
                  <a:lnTo>
                    <a:pt x="485" y="82"/>
                  </a:lnTo>
                  <a:lnTo>
                    <a:pt x="490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99"/>
                  </a:lnTo>
                  <a:lnTo>
                    <a:pt x="473" y="104"/>
                  </a:lnTo>
                  <a:lnTo>
                    <a:pt x="466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6"/>
                  </a:lnTo>
                  <a:lnTo>
                    <a:pt x="443" y="137"/>
                  </a:lnTo>
                  <a:lnTo>
                    <a:pt x="421" y="136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6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1" y="129"/>
                  </a:lnTo>
                  <a:lnTo>
                    <a:pt x="325" y="133"/>
                  </a:lnTo>
                  <a:lnTo>
                    <a:pt x="319" y="135"/>
                  </a:lnTo>
                  <a:lnTo>
                    <a:pt x="319" y="143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6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1"/>
                  </a:lnTo>
                  <a:lnTo>
                    <a:pt x="269" y="267"/>
                  </a:lnTo>
                  <a:lnTo>
                    <a:pt x="250" y="271"/>
                  </a:lnTo>
                  <a:lnTo>
                    <a:pt x="231" y="271"/>
                  </a:lnTo>
                  <a:lnTo>
                    <a:pt x="213" y="277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79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1"/>
                  </a:lnTo>
                  <a:lnTo>
                    <a:pt x="143" y="274"/>
                  </a:lnTo>
                  <a:lnTo>
                    <a:pt x="138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4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98280" y="5224680"/>
              <a:ext cx="762480" cy="44748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8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8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7"/>
                  </a:lnTo>
                  <a:lnTo>
                    <a:pt x="80" y="271"/>
                  </a:lnTo>
                  <a:lnTo>
                    <a:pt x="85" y="264"/>
                  </a:lnTo>
                  <a:lnTo>
                    <a:pt x="84" y="254"/>
                  </a:lnTo>
                  <a:lnTo>
                    <a:pt x="88" y="255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7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9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8"/>
                  </a:lnTo>
                  <a:lnTo>
                    <a:pt x="308" y="101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1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7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8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3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2" y="21"/>
                  </a:lnTo>
                  <a:lnTo>
                    <a:pt x="406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4" y="33"/>
                  </a:lnTo>
                  <a:lnTo>
                    <a:pt x="421" y="42"/>
                  </a:lnTo>
                  <a:lnTo>
                    <a:pt x="415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3" y="54"/>
                  </a:lnTo>
                  <a:lnTo>
                    <a:pt x="415" y="53"/>
                  </a:lnTo>
                  <a:lnTo>
                    <a:pt x="421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7" y="71"/>
                  </a:lnTo>
                  <a:lnTo>
                    <a:pt x="485" y="82"/>
                  </a:lnTo>
                  <a:lnTo>
                    <a:pt x="491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100"/>
                  </a:lnTo>
                  <a:lnTo>
                    <a:pt x="473" y="105"/>
                  </a:lnTo>
                  <a:lnTo>
                    <a:pt x="467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7"/>
                  </a:lnTo>
                  <a:lnTo>
                    <a:pt x="443" y="137"/>
                  </a:lnTo>
                  <a:lnTo>
                    <a:pt x="421" y="137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7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2" y="129"/>
                  </a:lnTo>
                  <a:lnTo>
                    <a:pt x="326" y="134"/>
                  </a:lnTo>
                  <a:lnTo>
                    <a:pt x="319" y="136"/>
                  </a:lnTo>
                  <a:lnTo>
                    <a:pt x="319" y="144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7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2"/>
                  </a:lnTo>
                  <a:lnTo>
                    <a:pt x="269" y="267"/>
                  </a:lnTo>
                  <a:lnTo>
                    <a:pt x="251" y="271"/>
                  </a:lnTo>
                  <a:lnTo>
                    <a:pt x="231" y="271"/>
                  </a:lnTo>
                  <a:lnTo>
                    <a:pt x="213" y="278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80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2"/>
                  </a:lnTo>
                  <a:lnTo>
                    <a:pt x="144" y="274"/>
                  </a:lnTo>
                  <a:lnTo>
                    <a:pt x="139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5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56360" y="6183720"/>
              <a:ext cx="654840" cy="2260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0" y="62"/>
                  </a:moveTo>
                  <a:lnTo>
                    <a:pt x="337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3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4" y="94"/>
                  </a:lnTo>
                  <a:lnTo>
                    <a:pt x="420" y="98"/>
                  </a:lnTo>
                  <a:lnTo>
                    <a:pt x="419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8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4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4" y="127"/>
                  </a:lnTo>
                  <a:lnTo>
                    <a:pt x="303" y="123"/>
                  </a:lnTo>
                  <a:lnTo>
                    <a:pt x="284" y="117"/>
                  </a:lnTo>
                  <a:lnTo>
                    <a:pt x="255" y="117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2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1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43" y="67"/>
                  </a:lnTo>
                  <a:lnTo>
                    <a:pt x="21" y="66"/>
                  </a:lnTo>
                  <a:lnTo>
                    <a:pt x="0" y="55"/>
                  </a:lnTo>
                  <a:lnTo>
                    <a:pt x="6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5" y="32"/>
                  </a:lnTo>
                  <a:lnTo>
                    <a:pt x="232" y="23"/>
                  </a:lnTo>
                  <a:lnTo>
                    <a:pt x="235" y="22"/>
                  </a:lnTo>
                  <a:lnTo>
                    <a:pt x="240" y="22"/>
                  </a:lnTo>
                  <a:lnTo>
                    <a:pt x="244" y="26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4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7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91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7"/>
                  </a:lnTo>
                  <a:lnTo>
                    <a:pt x="337" y="61"/>
                  </a:lnTo>
                  <a:lnTo>
                    <a:pt x="334" y="65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0" y="6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56360" y="6183720"/>
              <a:ext cx="654840" cy="2260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1" y="62"/>
                  </a:moveTo>
                  <a:lnTo>
                    <a:pt x="338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4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5" y="94"/>
                  </a:lnTo>
                  <a:lnTo>
                    <a:pt x="420" y="98"/>
                  </a:lnTo>
                  <a:lnTo>
                    <a:pt x="420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9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5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3" y="127"/>
                  </a:lnTo>
                  <a:lnTo>
                    <a:pt x="303" y="122"/>
                  </a:lnTo>
                  <a:lnTo>
                    <a:pt x="284" y="117"/>
                  </a:lnTo>
                  <a:lnTo>
                    <a:pt x="255" y="116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1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0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43" y="67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6" y="32"/>
                  </a:lnTo>
                  <a:lnTo>
                    <a:pt x="232" y="23"/>
                  </a:lnTo>
                  <a:lnTo>
                    <a:pt x="236" y="22"/>
                  </a:lnTo>
                  <a:lnTo>
                    <a:pt x="240" y="22"/>
                  </a:lnTo>
                  <a:lnTo>
                    <a:pt x="244" y="25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5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83" y="38"/>
                  </a:lnTo>
                  <a:lnTo>
                    <a:pt x="290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6"/>
                  </a:lnTo>
                  <a:lnTo>
                    <a:pt x="337" y="61"/>
                  </a:lnTo>
                  <a:lnTo>
                    <a:pt x="334" y="64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1" y="6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70440" y="6258240"/>
              <a:ext cx="110160" cy="2628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7" y="14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70440" y="6258240"/>
              <a:ext cx="110160" cy="2628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4"/>
                  </a:lnTo>
                  <a:lnTo>
                    <a:pt x="47" y="15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05160" y="5997240"/>
              <a:ext cx="36000" cy="565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15"/>
                  </a:moveTo>
                  <a:lnTo>
                    <a:pt x="1" y="27"/>
                  </a:lnTo>
                  <a:lnTo>
                    <a:pt x="5" y="36"/>
                  </a:lnTo>
                  <a:lnTo>
                    <a:pt x="14" y="39"/>
                  </a:lnTo>
                  <a:lnTo>
                    <a:pt x="24" y="31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05160" y="5997240"/>
              <a:ext cx="36000" cy="565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15"/>
                  </a:moveTo>
                  <a:lnTo>
                    <a:pt x="2" y="28"/>
                  </a:lnTo>
                  <a:lnTo>
                    <a:pt x="5" y="36"/>
                  </a:lnTo>
                  <a:lnTo>
                    <a:pt x="13" y="39"/>
                  </a:lnTo>
                  <a:lnTo>
                    <a:pt x="24" y="31"/>
                  </a:lnTo>
                  <a:lnTo>
                    <a:pt x="20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00640" y="5580360"/>
              <a:ext cx="489600" cy="58140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9" y="60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1"/>
                  </a:lnTo>
                  <a:lnTo>
                    <a:pt x="318" y="0"/>
                  </a:lnTo>
                  <a:lnTo>
                    <a:pt x="323" y="5"/>
                  </a:lnTo>
                  <a:lnTo>
                    <a:pt x="324" y="13"/>
                  </a:lnTo>
                  <a:lnTo>
                    <a:pt x="321" y="19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5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3"/>
                  </a:lnTo>
                  <a:lnTo>
                    <a:pt x="301" y="74"/>
                  </a:lnTo>
                  <a:lnTo>
                    <a:pt x="296" y="85"/>
                  </a:lnTo>
                  <a:lnTo>
                    <a:pt x="293" y="88"/>
                  </a:lnTo>
                  <a:lnTo>
                    <a:pt x="289" y="90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8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2" y="94"/>
                  </a:lnTo>
                  <a:lnTo>
                    <a:pt x="146" y="89"/>
                  </a:lnTo>
                  <a:lnTo>
                    <a:pt x="121" y="86"/>
                  </a:lnTo>
                  <a:lnTo>
                    <a:pt x="97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3" y="185"/>
                  </a:lnTo>
                  <a:lnTo>
                    <a:pt x="116" y="186"/>
                  </a:lnTo>
                  <a:lnTo>
                    <a:pt x="119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1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5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6" y="212"/>
                  </a:lnTo>
                  <a:lnTo>
                    <a:pt x="155" y="227"/>
                  </a:lnTo>
                  <a:lnTo>
                    <a:pt x="175" y="240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8" y="296"/>
                  </a:lnTo>
                  <a:lnTo>
                    <a:pt x="196" y="310"/>
                  </a:lnTo>
                  <a:lnTo>
                    <a:pt x="204" y="323"/>
                  </a:lnTo>
                  <a:lnTo>
                    <a:pt x="200" y="334"/>
                  </a:lnTo>
                  <a:lnTo>
                    <a:pt x="188" y="336"/>
                  </a:lnTo>
                  <a:lnTo>
                    <a:pt x="173" y="335"/>
                  </a:lnTo>
                  <a:lnTo>
                    <a:pt x="160" y="338"/>
                  </a:lnTo>
                  <a:lnTo>
                    <a:pt x="156" y="345"/>
                  </a:lnTo>
                  <a:lnTo>
                    <a:pt x="153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4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6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1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1" y="373"/>
                  </a:lnTo>
                  <a:lnTo>
                    <a:pt x="91" y="378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8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6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4" y="228"/>
                  </a:lnTo>
                  <a:lnTo>
                    <a:pt x="24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5"/>
                  </a:lnTo>
                  <a:lnTo>
                    <a:pt x="43" y="147"/>
                  </a:lnTo>
                  <a:lnTo>
                    <a:pt x="51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60" y="100"/>
                  </a:lnTo>
                  <a:lnTo>
                    <a:pt x="60" y="95"/>
                  </a:lnTo>
                  <a:lnTo>
                    <a:pt x="56" y="9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00640" y="5580360"/>
              <a:ext cx="489600" cy="58140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8" y="61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1"/>
                  </a:lnTo>
                  <a:lnTo>
                    <a:pt x="118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2" y="5"/>
                  </a:lnTo>
                  <a:lnTo>
                    <a:pt x="324" y="13"/>
                  </a:lnTo>
                  <a:lnTo>
                    <a:pt x="320" y="20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6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4"/>
                  </a:lnTo>
                  <a:lnTo>
                    <a:pt x="301" y="74"/>
                  </a:lnTo>
                  <a:lnTo>
                    <a:pt x="296" y="86"/>
                  </a:lnTo>
                  <a:lnTo>
                    <a:pt x="293" y="88"/>
                  </a:lnTo>
                  <a:lnTo>
                    <a:pt x="288" y="91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7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1" y="94"/>
                  </a:lnTo>
                  <a:lnTo>
                    <a:pt x="146" y="90"/>
                  </a:lnTo>
                  <a:lnTo>
                    <a:pt x="121" y="86"/>
                  </a:lnTo>
                  <a:lnTo>
                    <a:pt x="96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2" y="185"/>
                  </a:lnTo>
                  <a:lnTo>
                    <a:pt x="116" y="186"/>
                  </a:lnTo>
                  <a:lnTo>
                    <a:pt x="118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2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5" y="212"/>
                  </a:lnTo>
                  <a:lnTo>
                    <a:pt x="155" y="227"/>
                  </a:lnTo>
                  <a:lnTo>
                    <a:pt x="175" y="241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7" y="297"/>
                  </a:lnTo>
                  <a:lnTo>
                    <a:pt x="196" y="310"/>
                  </a:lnTo>
                  <a:lnTo>
                    <a:pt x="204" y="324"/>
                  </a:lnTo>
                  <a:lnTo>
                    <a:pt x="200" y="334"/>
                  </a:lnTo>
                  <a:lnTo>
                    <a:pt x="187" y="336"/>
                  </a:lnTo>
                  <a:lnTo>
                    <a:pt x="173" y="335"/>
                  </a:lnTo>
                  <a:lnTo>
                    <a:pt x="160" y="339"/>
                  </a:lnTo>
                  <a:lnTo>
                    <a:pt x="156" y="345"/>
                  </a:lnTo>
                  <a:lnTo>
                    <a:pt x="152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5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7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2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0" y="374"/>
                  </a:lnTo>
                  <a:lnTo>
                    <a:pt x="91" y="379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7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7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3" y="228"/>
                  </a:lnTo>
                  <a:lnTo>
                    <a:pt x="23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6"/>
                  </a:lnTo>
                  <a:lnTo>
                    <a:pt x="43" y="148"/>
                  </a:lnTo>
                  <a:lnTo>
                    <a:pt x="50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59" y="100"/>
                  </a:lnTo>
                  <a:lnTo>
                    <a:pt x="60" y="95"/>
                  </a:lnTo>
                  <a:lnTo>
                    <a:pt x="56" y="9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5440" y="5864760"/>
              <a:ext cx="143640" cy="5796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9" y="3"/>
                  </a:moveTo>
                  <a:lnTo>
                    <a:pt x="34" y="1"/>
                  </a:lnTo>
                  <a:lnTo>
                    <a:pt x="18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26" y="10"/>
                  </a:lnTo>
                  <a:lnTo>
                    <a:pt x="49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6" y="29"/>
                  </a:lnTo>
                  <a:lnTo>
                    <a:pt x="92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8" y="20"/>
                  </a:lnTo>
                  <a:lnTo>
                    <a:pt x="91" y="14"/>
                  </a:lnTo>
                  <a:lnTo>
                    <a:pt x="93" y="9"/>
                  </a:lnTo>
                  <a:lnTo>
                    <a:pt x="95" y="3"/>
                  </a:lnTo>
                  <a:lnTo>
                    <a:pt x="80" y="3"/>
                  </a:lnTo>
                  <a:lnTo>
                    <a:pt x="65" y="4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25440" y="5864760"/>
              <a:ext cx="145080" cy="5796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50" y="3"/>
                  </a:moveTo>
                  <a:lnTo>
                    <a:pt x="34" y="1"/>
                  </a:lnTo>
                  <a:lnTo>
                    <a:pt x="19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3"/>
                  </a:lnTo>
                  <a:lnTo>
                    <a:pt x="27" y="10"/>
                  </a:lnTo>
                  <a:lnTo>
                    <a:pt x="50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7" y="29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2" y="14"/>
                  </a:lnTo>
                  <a:lnTo>
                    <a:pt x="94" y="9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65" y="4"/>
                  </a:lnTo>
                  <a:lnTo>
                    <a:pt x="50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29560" y="5965200"/>
              <a:ext cx="86040" cy="392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4"/>
                  </a:moveTo>
                  <a:lnTo>
                    <a:pt x="23" y="8"/>
                  </a:lnTo>
                  <a:lnTo>
                    <a:pt x="14" y="5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4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9560" y="5965200"/>
              <a:ext cx="86040" cy="392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5"/>
                  </a:moveTo>
                  <a:lnTo>
                    <a:pt x="23" y="7"/>
                  </a:lnTo>
                  <a:lnTo>
                    <a:pt x="14" y="5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3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6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14520" y="5955120"/>
              <a:ext cx="184320" cy="11232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7" y="0"/>
                  </a:moveTo>
                  <a:lnTo>
                    <a:pt x="32" y="2"/>
                  </a:lnTo>
                  <a:lnTo>
                    <a:pt x="46" y="9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5"/>
                  </a:lnTo>
                  <a:lnTo>
                    <a:pt x="89" y="20"/>
                  </a:lnTo>
                  <a:lnTo>
                    <a:pt x="99" y="31"/>
                  </a:lnTo>
                  <a:lnTo>
                    <a:pt x="112" y="37"/>
                  </a:lnTo>
                  <a:lnTo>
                    <a:pt x="113" y="51"/>
                  </a:lnTo>
                  <a:lnTo>
                    <a:pt x="120" y="63"/>
                  </a:lnTo>
                  <a:lnTo>
                    <a:pt x="122" y="77"/>
                  </a:lnTo>
                  <a:lnTo>
                    <a:pt x="101" y="61"/>
                  </a:lnTo>
                  <a:lnTo>
                    <a:pt x="79" y="47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2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30" y="44"/>
                  </a:lnTo>
                  <a:lnTo>
                    <a:pt x="26" y="41"/>
                  </a:lnTo>
                  <a:lnTo>
                    <a:pt x="24" y="37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25" y="53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0" y="19"/>
                  </a:lnTo>
                  <a:lnTo>
                    <a:pt x="15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14520" y="5956560"/>
              <a:ext cx="185760" cy="11088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17" y="0"/>
                  </a:moveTo>
                  <a:lnTo>
                    <a:pt x="32" y="2"/>
                  </a:lnTo>
                  <a:lnTo>
                    <a:pt x="47" y="8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70" y="17"/>
                  </a:lnTo>
                  <a:lnTo>
                    <a:pt x="77" y="14"/>
                  </a:lnTo>
                  <a:lnTo>
                    <a:pt x="89" y="20"/>
                  </a:lnTo>
                  <a:lnTo>
                    <a:pt x="100" y="30"/>
                  </a:lnTo>
                  <a:lnTo>
                    <a:pt x="113" y="36"/>
                  </a:lnTo>
                  <a:lnTo>
                    <a:pt x="114" y="50"/>
                  </a:lnTo>
                  <a:lnTo>
                    <a:pt x="120" y="63"/>
                  </a:lnTo>
                  <a:lnTo>
                    <a:pt x="123" y="76"/>
                  </a:lnTo>
                  <a:lnTo>
                    <a:pt x="101" y="60"/>
                  </a:lnTo>
                  <a:lnTo>
                    <a:pt x="79" y="46"/>
                  </a:lnTo>
                  <a:lnTo>
                    <a:pt x="53" y="38"/>
                  </a:lnTo>
                  <a:lnTo>
                    <a:pt x="50" y="36"/>
                  </a:lnTo>
                  <a:lnTo>
                    <a:pt x="46" y="32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3"/>
                  </a:lnTo>
                  <a:lnTo>
                    <a:pt x="26" y="41"/>
                  </a:lnTo>
                  <a:lnTo>
                    <a:pt x="24" y="36"/>
                  </a:lnTo>
                  <a:lnTo>
                    <a:pt x="20" y="33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7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3" y="26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17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40640" y="6307920"/>
              <a:ext cx="73800" cy="216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17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40640" y="6307920"/>
              <a:ext cx="73800" cy="216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5" y="13"/>
                  </a:lnTo>
                  <a:lnTo>
                    <a:pt x="17" y="15"/>
                  </a:lnTo>
                  <a:lnTo>
                    <a:pt x="0" y="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19600" y="6354360"/>
              <a:ext cx="342000" cy="19080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0" y="3"/>
                  </a:lnTo>
                  <a:lnTo>
                    <a:pt x="153" y="8"/>
                  </a:lnTo>
                  <a:lnTo>
                    <a:pt x="146" y="15"/>
                  </a:lnTo>
                  <a:lnTo>
                    <a:pt x="139" y="23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6"/>
                  </a:lnTo>
                  <a:lnTo>
                    <a:pt x="58" y="59"/>
                  </a:lnTo>
                  <a:lnTo>
                    <a:pt x="51" y="65"/>
                  </a:lnTo>
                  <a:lnTo>
                    <a:pt x="40" y="86"/>
                  </a:lnTo>
                  <a:lnTo>
                    <a:pt x="23" y="102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8"/>
                  </a:lnTo>
                  <a:lnTo>
                    <a:pt x="189" y="26"/>
                  </a:lnTo>
                  <a:lnTo>
                    <a:pt x="207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19600" y="6354360"/>
              <a:ext cx="342000" cy="19080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1" y="3"/>
                  </a:lnTo>
                  <a:lnTo>
                    <a:pt x="154" y="8"/>
                  </a:lnTo>
                  <a:lnTo>
                    <a:pt x="146" y="15"/>
                  </a:lnTo>
                  <a:lnTo>
                    <a:pt x="139" y="22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5"/>
                  </a:lnTo>
                  <a:lnTo>
                    <a:pt x="58" y="59"/>
                  </a:lnTo>
                  <a:lnTo>
                    <a:pt x="51" y="64"/>
                  </a:lnTo>
                  <a:lnTo>
                    <a:pt x="40" y="85"/>
                  </a:lnTo>
                  <a:lnTo>
                    <a:pt x="24" y="101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89" y="26"/>
                  </a:lnTo>
                  <a:lnTo>
                    <a:pt x="208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6000" y="6529320"/>
              <a:ext cx="58680" cy="234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3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8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26000" y="6529320"/>
              <a:ext cx="58680" cy="234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4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9" y="11"/>
                  </a:lnTo>
                  <a:lnTo>
                    <a:pt x="39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54040" y="6293520"/>
              <a:ext cx="27000" cy="14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54040" y="6293520"/>
              <a:ext cx="27000" cy="14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1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90040" y="6341760"/>
              <a:ext cx="34920" cy="2304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90040" y="6341760"/>
              <a:ext cx="34920" cy="2304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55280" y="6331320"/>
              <a:ext cx="22320" cy="100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55280" y="6331320"/>
              <a:ext cx="22320" cy="100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79680" y="6344280"/>
              <a:ext cx="22320" cy="118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5"/>
                  </a:moveTo>
                  <a:lnTo>
                    <a:pt x="7" y="5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81120" y="6344280"/>
              <a:ext cx="21240" cy="11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lnTo>
                    <a:pt x="6" y="5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35560" y="6278760"/>
              <a:ext cx="49680" cy="579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4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20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35560" y="6278760"/>
              <a:ext cx="49680" cy="579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3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19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89560" y="6337080"/>
              <a:ext cx="255600" cy="5256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89560" y="6337080"/>
              <a:ext cx="255600" cy="5256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10320" y="6331320"/>
              <a:ext cx="70920" cy="259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4"/>
                  </a:moveTo>
                  <a:lnTo>
                    <a:pt x="12" y="9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2" y="17"/>
                  </a:lnTo>
                  <a:lnTo>
                    <a:pt x="1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10320" y="6331320"/>
              <a:ext cx="70920" cy="259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3"/>
                  </a:moveTo>
                  <a:lnTo>
                    <a:pt x="11" y="8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1" y="17"/>
                  </a:lnTo>
                  <a:lnTo>
                    <a:pt x="15" y="18"/>
                  </a:lnTo>
                  <a:lnTo>
                    <a:pt x="0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20080" y="6413040"/>
              <a:ext cx="141840" cy="6948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7" y="20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3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0080" y="6413040"/>
              <a:ext cx="141840" cy="6948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6" y="21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2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10520" y="6488640"/>
              <a:ext cx="30240" cy="172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0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10520" y="6488640"/>
              <a:ext cx="30240" cy="172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2200" y="6360480"/>
              <a:ext cx="24120" cy="187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4" y="4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62200" y="6360480"/>
              <a:ext cx="24120" cy="20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4" y="5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4" y="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5680" y="6334200"/>
              <a:ext cx="123840" cy="5652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79" y="25"/>
                  </a:moveTo>
                  <a:lnTo>
                    <a:pt x="66" y="11"/>
                  </a:lnTo>
                  <a:lnTo>
                    <a:pt x="48" y="8"/>
                  </a:lnTo>
                  <a:lnTo>
                    <a:pt x="31" y="5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3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4" y="30"/>
                  </a:lnTo>
                  <a:lnTo>
                    <a:pt x="6" y="32"/>
                  </a:lnTo>
                  <a:lnTo>
                    <a:pt x="10" y="38"/>
                  </a:lnTo>
                  <a:lnTo>
                    <a:pt x="17" y="39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7" y="25"/>
                  </a:lnTo>
                  <a:lnTo>
                    <a:pt x="41" y="27"/>
                  </a:lnTo>
                  <a:lnTo>
                    <a:pt x="43" y="32"/>
                  </a:lnTo>
                  <a:lnTo>
                    <a:pt x="55" y="27"/>
                  </a:lnTo>
                  <a:lnTo>
                    <a:pt x="68" y="24"/>
                  </a:lnTo>
                  <a:lnTo>
                    <a:pt x="82" y="25"/>
                  </a:lnTo>
                  <a:lnTo>
                    <a:pt x="81" y="25"/>
                  </a:lnTo>
                  <a:lnTo>
                    <a:pt x="79" y="25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15680" y="6335640"/>
              <a:ext cx="123840" cy="5544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79" y="24"/>
                  </a:moveTo>
                  <a:lnTo>
                    <a:pt x="67" y="10"/>
                  </a:lnTo>
                  <a:lnTo>
                    <a:pt x="48" y="8"/>
                  </a:lnTo>
                  <a:lnTo>
                    <a:pt x="31" y="4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4" y="29"/>
                  </a:lnTo>
                  <a:lnTo>
                    <a:pt x="6" y="31"/>
                  </a:lnTo>
                  <a:lnTo>
                    <a:pt x="10" y="37"/>
                  </a:lnTo>
                  <a:lnTo>
                    <a:pt x="17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3" y="31"/>
                  </a:lnTo>
                  <a:lnTo>
                    <a:pt x="56" y="26"/>
                  </a:lnTo>
                  <a:lnTo>
                    <a:pt x="68" y="24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0" y="24"/>
                  </a:lnTo>
                  <a:lnTo>
                    <a:pt x="79" y="2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0520" y="6350400"/>
              <a:ext cx="80280" cy="62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7" y="7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40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50520" y="6350400"/>
              <a:ext cx="80280" cy="62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1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39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65920" y="6346080"/>
              <a:ext cx="73800" cy="478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6" y="13"/>
                  </a:moveTo>
                  <a:lnTo>
                    <a:pt x="37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0" y="31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4" y="20"/>
                  </a:lnTo>
                  <a:lnTo>
                    <a:pt x="40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5920" y="6346080"/>
              <a:ext cx="75240" cy="4788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47" y="13"/>
                  </a:moveTo>
                  <a:lnTo>
                    <a:pt x="38" y="3"/>
                  </a:lnTo>
                  <a:lnTo>
                    <a:pt x="26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1" y="29"/>
                  </a:lnTo>
                  <a:lnTo>
                    <a:pt x="35" y="20"/>
                  </a:lnTo>
                  <a:lnTo>
                    <a:pt x="41" y="14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00760" y="6360480"/>
              <a:ext cx="80280" cy="47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3" y="10"/>
                  </a:moveTo>
                  <a:lnTo>
                    <a:pt x="37" y="3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7" y="11"/>
                  </a:lnTo>
                  <a:lnTo>
                    <a:pt x="10" y="17"/>
                  </a:lnTo>
                  <a:lnTo>
                    <a:pt x="0" y="23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19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34" y="23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53" y="11"/>
                  </a:lnTo>
                  <a:lnTo>
                    <a:pt x="48" y="7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3" y="7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8560" y="6360480"/>
              <a:ext cx="27000" cy="14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lnTo>
                    <a:pt x="12" y="3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00760" y="6361920"/>
              <a:ext cx="37800" cy="320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8" y="9"/>
                  </a:lnTo>
                  <a:lnTo>
                    <a:pt x="10" y="16"/>
                  </a:lnTo>
                  <a:lnTo>
                    <a:pt x="0" y="2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0760" y="6393960"/>
              <a:ext cx="25560" cy="14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4" y="5"/>
                  </a:lnTo>
                  <a:lnTo>
                    <a:pt x="10" y="9"/>
                  </a:lnTo>
                  <a:lnTo>
                    <a:pt x="17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26320" y="6395400"/>
              <a:ext cx="900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3" y="6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35680" y="6382440"/>
              <a:ext cx="43560" cy="1296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9"/>
                  </a:moveTo>
                  <a:lnTo>
                    <a:pt x="11" y="9"/>
                  </a:lnTo>
                  <a:lnTo>
                    <a:pt x="20" y="5"/>
                  </a:lnTo>
                  <a:lnTo>
                    <a:pt x="29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65920" y="6364800"/>
              <a:ext cx="14760" cy="17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2"/>
                  </a:move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50800" y="6364800"/>
              <a:ext cx="1476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55800" y="5412600"/>
              <a:ext cx="738360" cy="645480"/>
            </a:xfrm>
            <a:custGeom>
              <a:avLst/>
              <a:gdLst/>
              <a:ahLst/>
              <a:rect l="l" t="t" r="r" b="b"/>
              <a:pathLst>
                <a:path w="488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2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8" y="373"/>
                  </a:lnTo>
                  <a:lnTo>
                    <a:pt x="151" y="382"/>
                  </a:lnTo>
                  <a:lnTo>
                    <a:pt x="147" y="392"/>
                  </a:lnTo>
                  <a:lnTo>
                    <a:pt x="145" y="403"/>
                  </a:lnTo>
                  <a:lnTo>
                    <a:pt x="147" y="405"/>
                  </a:lnTo>
                  <a:lnTo>
                    <a:pt x="149" y="407"/>
                  </a:lnTo>
                  <a:lnTo>
                    <a:pt x="151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8" y="391"/>
                  </a:lnTo>
                  <a:lnTo>
                    <a:pt x="182" y="388"/>
                  </a:lnTo>
                  <a:lnTo>
                    <a:pt x="187" y="385"/>
                  </a:lnTo>
                  <a:lnTo>
                    <a:pt x="194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4" y="376"/>
                  </a:lnTo>
                  <a:lnTo>
                    <a:pt x="221" y="374"/>
                  </a:lnTo>
                  <a:lnTo>
                    <a:pt x="223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1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6" y="393"/>
                  </a:lnTo>
                  <a:lnTo>
                    <a:pt x="237" y="399"/>
                  </a:lnTo>
                  <a:lnTo>
                    <a:pt x="254" y="395"/>
                  </a:lnTo>
                  <a:lnTo>
                    <a:pt x="270" y="394"/>
                  </a:lnTo>
                  <a:lnTo>
                    <a:pt x="287" y="393"/>
                  </a:lnTo>
                  <a:lnTo>
                    <a:pt x="287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4" y="441"/>
                  </a:lnTo>
                  <a:lnTo>
                    <a:pt x="300" y="438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5" y="429"/>
                  </a:lnTo>
                  <a:lnTo>
                    <a:pt x="336" y="425"/>
                  </a:lnTo>
                  <a:lnTo>
                    <a:pt x="347" y="418"/>
                  </a:lnTo>
                  <a:lnTo>
                    <a:pt x="356" y="410"/>
                  </a:lnTo>
                  <a:lnTo>
                    <a:pt x="365" y="401"/>
                  </a:lnTo>
                  <a:lnTo>
                    <a:pt x="367" y="394"/>
                  </a:lnTo>
                  <a:lnTo>
                    <a:pt x="366" y="385"/>
                  </a:lnTo>
                  <a:lnTo>
                    <a:pt x="368" y="377"/>
                  </a:lnTo>
                  <a:lnTo>
                    <a:pt x="372" y="374"/>
                  </a:lnTo>
                  <a:lnTo>
                    <a:pt x="378" y="370"/>
                  </a:lnTo>
                  <a:lnTo>
                    <a:pt x="381" y="367"/>
                  </a:lnTo>
                  <a:lnTo>
                    <a:pt x="382" y="351"/>
                  </a:lnTo>
                  <a:lnTo>
                    <a:pt x="389" y="340"/>
                  </a:lnTo>
                  <a:lnTo>
                    <a:pt x="396" y="327"/>
                  </a:lnTo>
                  <a:lnTo>
                    <a:pt x="392" y="327"/>
                  </a:lnTo>
                  <a:lnTo>
                    <a:pt x="389" y="325"/>
                  </a:lnTo>
                  <a:lnTo>
                    <a:pt x="387" y="324"/>
                  </a:lnTo>
                  <a:lnTo>
                    <a:pt x="387" y="318"/>
                  </a:lnTo>
                  <a:lnTo>
                    <a:pt x="386" y="312"/>
                  </a:lnTo>
                  <a:lnTo>
                    <a:pt x="383" y="307"/>
                  </a:lnTo>
                  <a:lnTo>
                    <a:pt x="393" y="299"/>
                  </a:lnTo>
                  <a:lnTo>
                    <a:pt x="402" y="289"/>
                  </a:lnTo>
                  <a:lnTo>
                    <a:pt x="411" y="278"/>
                  </a:lnTo>
                  <a:lnTo>
                    <a:pt x="418" y="274"/>
                  </a:lnTo>
                  <a:lnTo>
                    <a:pt x="427" y="272"/>
                  </a:lnTo>
                  <a:lnTo>
                    <a:pt x="435" y="267"/>
                  </a:lnTo>
                  <a:lnTo>
                    <a:pt x="439" y="261"/>
                  </a:lnTo>
                  <a:lnTo>
                    <a:pt x="445" y="257"/>
                  </a:lnTo>
                  <a:lnTo>
                    <a:pt x="445" y="252"/>
                  </a:lnTo>
                  <a:lnTo>
                    <a:pt x="436" y="237"/>
                  </a:lnTo>
                  <a:lnTo>
                    <a:pt x="434" y="221"/>
                  </a:lnTo>
                  <a:lnTo>
                    <a:pt x="432" y="205"/>
                  </a:lnTo>
                  <a:lnTo>
                    <a:pt x="441" y="202"/>
                  </a:lnTo>
                  <a:lnTo>
                    <a:pt x="442" y="197"/>
                  </a:lnTo>
                  <a:lnTo>
                    <a:pt x="446" y="186"/>
                  </a:lnTo>
                  <a:lnTo>
                    <a:pt x="449" y="164"/>
                  </a:lnTo>
                  <a:lnTo>
                    <a:pt x="447" y="141"/>
                  </a:lnTo>
                  <a:lnTo>
                    <a:pt x="457" y="120"/>
                  </a:lnTo>
                  <a:lnTo>
                    <a:pt x="468" y="119"/>
                  </a:lnTo>
                  <a:lnTo>
                    <a:pt x="481" y="121"/>
                  </a:lnTo>
                  <a:lnTo>
                    <a:pt x="488" y="118"/>
                  </a:lnTo>
                  <a:lnTo>
                    <a:pt x="483" y="106"/>
                  </a:lnTo>
                  <a:lnTo>
                    <a:pt x="467" y="99"/>
                  </a:lnTo>
                  <a:lnTo>
                    <a:pt x="452" y="89"/>
                  </a:lnTo>
                  <a:lnTo>
                    <a:pt x="456" y="85"/>
                  </a:lnTo>
                  <a:lnTo>
                    <a:pt x="458" y="80"/>
                  </a:lnTo>
                  <a:lnTo>
                    <a:pt x="462" y="76"/>
                  </a:lnTo>
                  <a:lnTo>
                    <a:pt x="456" y="75"/>
                  </a:lnTo>
                  <a:lnTo>
                    <a:pt x="451" y="72"/>
                  </a:lnTo>
                  <a:lnTo>
                    <a:pt x="447" y="68"/>
                  </a:lnTo>
                  <a:lnTo>
                    <a:pt x="438" y="62"/>
                  </a:lnTo>
                  <a:lnTo>
                    <a:pt x="431" y="54"/>
                  </a:lnTo>
                  <a:lnTo>
                    <a:pt x="428" y="46"/>
                  </a:lnTo>
                  <a:lnTo>
                    <a:pt x="433" y="38"/>
                  </a:lnTo>
                  <a:lnTo>
                    <a:pt x="445" y="37"/>
                  </a:lnTo>
                  <a:lnTo>
                    <a:pt x="458" y="34"/>
                  </a:lnTo>
                  <a:lnTo>
                    <a:pt x="457" y="32"/>
                  </a:lnTo>
                  <a:lnTo>
                    <a:pt x="453" y="30"/>
                  </a:lnTo>
                  <a:lnTo>
                    <a:pt x="449" y="27"/>
                  </a:lnTo>
                  <a:lnTo>
                    <a:pt x="451" y="24"/>
                  </a:lnTo>
                  <a:lnTo>
                    <a:pt x="453" y="22"/>
                  </a:lnTo>
                  <a:lnTo>
                    <a:pt x="455" y="21"/>
                  </a:lnTo>
                  <a:lnTo>
                    <a:pt x="443" y="10"/>
                  </a:lnTo>
                  <a:lnTo>
                    <a:pt x="427" y="6"/>
                  </a:lnTo>
                  <a:lnTo>
                    <a:pt x="412" y="2"/>
                  </a:lnTo>
                  <a:lnTo>
                    <a:pt x="398" y="1"/>
                  </a:lnTo>
                  <a:lnTo>
                    <a:pt x="382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7" y="7"/>
                  </a:lnTo>
                  <a:lnTo>
                    <a:pt x="346" y="15"/>
                  </a:lnTo>
                  <a:lnTo>
                    <a:pt x="343" y="22"/>
                  </a:lnTo>
                  <a:lnTo>
                    <a:pt x="338" y="28"/>
                  </a:lnTo>
                  <a:lnTo>
                    <a:pt x="338" y="33"/>
                  </a:lnTo>
                  <a:lnTo>
                    <a:pt x="342" y="39"/>
                  </a:lnTo>
                  <a:lnTo>
                    <a:pt x="343" y="46"/>
                  </a:lnTo>
                  <a:lnTo>
                    <a:pt x="339" y="49"/>
                  </a:lnTo>
                  <a:lnTo>
                    <a:pt x="334" y="49"/>
                  </a:lnTo>
                  <a:lnTo>
                    <a:pt x="331" y="50"/>
                  </a:lnTo>
                  <a:lnTo>
                    <a:pt x="329" y="57"/>
                  </a:lnTo>
                  <a:lnTo>
                    <a:pt x="331" y="64"/>
                  </a:lnTo>
                  <a:lnTo>
                    <a:pt x="332" y="72"/>
                  </a:lnTo>
                  <a:lnTo>
                    <a:pt x="328" y="75"/>
                  </a:lnTo>
                  <a:lnTo>
                    <a:pt x="323" y="76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4" y="91"/>
                  </a:lnTo>
                  <a:lnTo>
                    <a:pt x="317" y="99"/>
                  </a:lnTo>
                  <a:lnTo>
                    <a:pt x="309" y="104"/>
                  </a:lnTo>
                  <a:lnTo>
                    <a:pt x="304" y="111"/>
                  </a:lnTo>
                  <a:lnTo>
                    <a:pt x="301" y="119"/>
                  </a:lnTo>
                  <a:lnTo>
                    <a:pt x="300" y="126"/>
                  </a:lnTo>
                  <a:lnTo>
                    <a:pt x="300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9" y="142"/>
                  </a:lnTo>
                  <a:lnTo>
                    <a:pt x="241" y="149"/>
                  </a:lnTo>
                  <a:lnTo>
                    <a:pt x="245" y="151"/>
                  </a:lnTo>
                  <a:lnTo>
                    <a:pt x="247" y="156"/>
                  </a:lnTo>
                  <a:lnTo>
                    <a:pt x="250" y="160"/>
                  </a:lnTo>
                  <a:lnTo>
                    <a:pt x="250" y="161"/>
                  </a:lnTo>
                  <a:lnTo>
                    <a:pt x="246" y="162"/>
                  </a:lnTo>
                  <a:lnTo>
                    <a:pt x="244" y="165"/>
                  </a:lnTo>
                  <a:lnTo>
                    <a:pt x="220" y="151"/>
                  </a:lnTo>
                  <a:lnTo>
                    <a:pt x="196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8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3"/>
                  </a:lnTo>
                  <a:lnTo>
                    <a:pt x="98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14" y="140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9" y="161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3" y="185"/>
                  </a:lnTo>
                  <a:lnTo>
                    <a:pt x="0" y="188"/>
                  </a:lnTo>
                  <a:lnTo>
                    <a:pt x="10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3"/>
                  </a:lnTo>
                  <a:lnTo>
                    <a:pt x="23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7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29"/>
                  </a:lnTo>
                  <a:lnTo>
                    <a:pt x="71" y="334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6" y="367"/>
                  </a:lnTo>
                  <a:lnTo>
                    <a:pt x="139" y="364"/>
                  </a:lnTo>
                  <a:lnTo>
                    <a:pt x="140" y="365"/>
                  </a:lnTo>
                  <a:lnTo>
                    <a:pt x="141" y="367"/>
                  </a:lnTo>
                  <a:lnTo>
                    <a:pt x="143" y="369"/>
                  </a:lnTo>
                  <a:lnTo>
                    <a:pt x="144" y="370"/>
                  </a:lnTo>
                  <a:lnTo>
                    <a:pt x="145" y="369"/>
                  </a:lnTo>
                  <a:lnTo>
                    <a:pt x="145" y="36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57240" y="5412600"/>
              <a:ext cx="736920" cy="645480"/>
            </a:xfrm>
            <a:custGeom>
              <a:avLst/>
              <a:gdLst/>
              <a:ahLst/>
              <a:rect l="l" t="t" r="r" b="b"/>
              <a:pathLst>
                <a:path w="487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1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7" y="373"/>
                  </a:lnTo>
                  <a:lnTo>
                    <a:pt x="151" y="383"/>
                  </a:lnTo>
                  <a:lnTo>
                    <a:pt x="147" y="393"/>
                  </a:lnTo>
                  <a:lnTo>
                    <a:pt x="145" y="403"/>
                  </a:lnTo>
                  <a:lnTo>
                    <a:pt x="146" y="405"/>
                  </a:lnTo>
                  <a:lnTo>
                    <a:pt x="149" y="407"/>
                  </a:lnTo>
                  <a:lnTo>
                    <a:pt x="150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82" y="388"/>
                  </a:lnTo>
                  <a:lnTo>
                    <a:pt x="186" y="385"/>
                  </a:lnTo>
                  <a:lnTo>
                    <a:pt x="193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3" y="376"/>
                  </a:lnTo>
                  <a:lnTo>
                    <a:pt x="221" y="374"/>
                  </a:lnTo>
                  <a:lnTo>
                    <a:pt x="222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0" y="380"/>
                  </a:lnTo>
                  <a:lnTo>
                    <a:pt x="234" y="380"/>
                  </a:lnTo>
                  <a:lnTo>
                    <a:pt x="233" y="387"/>
                  </a:lnTo>
                  <a:lnTo>
                    <a:pt x="236" y="393"/>
                  </a:lnTo>
                  <a:lnTo>
                    <a:pt x="237" y="400"/>
                  </a:lnTo>
                  <a:lnTo>
                    <a:pt x="253" y="396"/>
                  </a:lnTo>
                  <a:lnTo>
                    <a:pt x="270" y="394"/>
                  </a:lnTo>
                  <a:lnTo>
                    <a:pt x="286" y="393"/>
                  </a:lnTo>
                  <a:lnTo>
                    <a:pt x="286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3" y="442"/>
                  </a:lnTo>
                  <a:lnTo>
                    <a:pt x="299" y="439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4" y="429"/>
                  </a:lnTo>
                  <a:lnTo>
                    <a:pt x="336" y="425"/>
                  </a:lnTo>
                  <a:lnTo>
                    <a:pt x="346" y="418"/>
                  </a:lnTo>
                  <a:lnTo>
                    <a:pt x="356" y="410"/>
                  </a:lnTo>
                  <a:lnTo>
                    <a:pt x="364" y="402"/>
                  </a:lnTo>
                  <a:lnTo>
                    <a:pt x="366" y="395"/>
                  </a:lnTo>
                  <a:lnTo>
                    <a:pt x="365" y="385"/>
                  </a:lnTo>
                  <a:lnTo>
                    <a:pt x="367" y="377"/>
                  </a:lnTo>
                  <a:lnTo>
                    <a:pt x="372" y="374"/>
                  </a:lnTo>
                  <a:lnTo>
                    <a:pt x="377" y="370"/>
                  </a:lnTo>
                  <a:lnTo>
                    <a:pt x="380" y="367"/>
                  </a:lnTo>
                  <a:lnTo>
                    <a:pt x="382" y="352"/>
                  </a:lnTo>
                  <a:lnTo>
                    <a:pt x="388" y="340"/>
                  </a:lnTo>
                  <a:lnTo>
                    <a:pt x="395" y="327"/>
                  </a:lnTo>
                  <a:lnTo>
                    <a:pt x="391" y="327"/>
                  </a:lnTo>
                  <a:lnTo>
                    <a:pt x="388" y="325"/>
                  </a:lnTo>
                  <a:lnTo>
                    <a:pt x="386" y="324"/>
                  </a:lnTo>
                  <a:lnTo>
                    <a:pt x="386" y="318"/>
                  </a:lnTo>
                  <a:lnTo>
                    <a:pt x="385" y="312"/>
                  </a:lnTo>
                  <a:lnTo>
                    <a:pt x="382" y="308"/>
                  </a:lnTo>
                  <a:lnTo>
                    <a:pt x="392" y="299"/>
                  </a:lnTo>
                  <a:lnTo>
                    <a:pt x="402" y="290"/>
                  </a:lnTo>
                  <a:lnTo>
                    <a:pt x="410" y="278"/>
                  </a:lnTo>
                  <a:lnTo>
                    <a:pt x="417" y="274"/>
                  </a:lnTo>
                  <a:lnTo>
                    <a:pt x="426" y="272"/>
                  </a:lnTo>
                  <a:lnTo>
                    <a:pt x="434" y="267"/>
                  </a:lnTo>
                  <a:lnTo>
                    <a:pt x="438" y="262"/>
                  </a:lnTo>
                  <a:lnTo>
                    <a:pt x="444" y="257"/>
                  </a:lnTo>
                  <a:lnTo>
                    <a:pt x="444" y="252"/>
                  </a:lnTo>
                  <a:lnTo>
                    <a:pt x="435" y="237"/>
                  </a:lnTo>
                  <a:lnTo>
                    <a:pt x="433" y="221"/>
                  </a:lnTo>
                  <a:lnTo>
                    <a:pt x="431" y="205"/>
                  </a:lnTo>
                  <a:lnTo>
                    <a:pt x="440" y="202"/>
                  </a:lnTo>
                  <a:lnTo>
                    <a:pt x="442" y="196"/>
                  </a:lnTo>
                  <a:lnTo>
                    <a:pt x="445" y="187"/>
                  </a:lnTo>
                  <a:lnTo>
                    <a:pt x="448" y="164"/>
                  </a:lnTo>
                  <a:lnTo>
                    <a:pt x="447" y="141"/>
                  </a:lnTo>
                  <a:lnTo>
                    <a:pt x="456" y="120"/>
                  </a:lnTo>
                  <a:lnTo>
                    <a:pt x="467" y="118"/>
                  </a:lnTo>
                  <a:lnTo>
                    <a:pt x="480" y="121"/>
                  </a:lnTo>
                  <a:lnTo>
                    <a:pt x="487" y="118"/>
                  </a:lnTo>
                  <a:lnTo>
                    <a:pt x="482" y="106"/>
                  </a:lnTo>
                  <a:lnTo>
                    <a:pt x="466" y="99"/>
                  </a:lnTo>
                  <a:lnTo>
                    <a:pt x="451" y="89"/>
                  </a:lnTo>
                  <a:lnTo>
                    <a:pt x="455" y="85"/>
                  </a:lnTo>
                  <a:lnTo>
                    <a:pt x="458" y="80"/>
                  </a:lnTo>
                  <a:lnTo>
                    <a:pt x="461" y="76"/>
                  </a:lnTo>
                  <a:lnTo>
                    <a:pt x="455" y="75"/>
                  </a:lnTo>
                  <a:lnTo>
                    <a:pt x="450" y="71"/>
                  </a:lnTo>
                  <a:lnTo>
                    <a:pt x="446" y="68"/>
                  </a:lnTo>
                  <a:lnTo>
                    <a:pt x="437" y="61"/>
                  </a:lnTo>
                  <a:lnTo>
                    <a:pt x="430" y="54"/>
                  </a:lnTo>
                  <a:lnTo>
                    <a:pt x="427" y="46"/>
                  </a:lnTo>
                  <a:lnTo>
                    <a:pt x="432" y="38"/>
                  </a:lnTo>
                  <a:lnTo>
                    <a:pt x="445" y="37"/>
                  </a:lnTo>
                  <a:lnTo>
                    <a:pt x="457" y="34"/>
                  </a:lnTo>
                  <a:lnTo>
                    <a:pt x="457" y="32"/>
                  </a:lnTo>
                  <a:lnTo>
                    <a:pt x="452" y="30"/>
                  </a:lnTo>
                  <a:lnTo>
                    <a:pt x="449" y="26"/>
                  </a:lnTo>
                  <a:lnTo>
                    <a:pt x="450" y="24"/>
                  </a:lnTo>
                  <a:lnTo>
                    <a:pt x="453" y="22"/>
                  </a:lnTo>
                  <a:lnTo>
                    <a:pt x="454" y="20"/>
                  </a:lnTo>
                  <a:lnTo>
                    <a:pt x="442" y="10"/>
                  </a:lnTo>
                  <a:lnTo>
                    <a:pt x="426" y="6"/>
                  </a:lnTo>
                  <a:lnTo>
                    <a:pt x="411" y="2"/>
                  </a:lnTo>
                  <a:lnTo>
                    <a:pt x="397" y="1"/>
                  </a:lnTo>
                  <a:lnTo>
                    <a:pt x="381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6" y="7"/>
                  </a:lnTo>
                  <a:lnTo>
                    <a:pt x="346" y="15"/>
                  </a:lnTo>
                  <a:lnTo>
                    <a:pt x="342" y="21"/>
                  </a:lnTo>
                  <a:lnTo>
                    <a:pt x="337" y="28"/>
                  </a:lnTo>
                  <a:lnTo>
                    <a:pt x="337" y="32"/>
                  </a:lnTo>
                  <a:lnTo>
                    <a:pt x="342" y="39"/>
                  </a:lnTo>
                  <a:lnTo>
                    <a:pt x="342" y="46"/>
                  </a:lnTo>
                  <a:lnTo>
                    <a:pt x="338" y="49"/>
                  </a:lnTo>
                  <a:lnTo>
                    <a:pt x="334" y="49"/>
                  </a:lnTo>
                  <a:lnTo>
                    <a:pt x="330" y="50"/>
                  </a:lnTo>
                  <a:lnTo>
                    <a:pt x="328" y="57"/>
                  </a:lnTo>
                  <a:lnTo>
                    <a:pt x="330" y="64"/>
                  </a:lnTo>
                  <a:lnTo>
                    <a:pt x="331" y="72"/>
                  </a:lnTo>
                  <a:lnTo>
                    <a:pt x="328" y="75"/>
                  </a:lnTo>
                  <a:lnTo>
                    <a:pt x="322" y="75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3" y="91"/>
                  </a:lnTo>
                  <a:lnTo>
                    <a:pt x="316" y="99"/>
                  </a:lnTo>
                  <a:lnTo>
                    <a:pt x="308" y="104"/>
                  </a:lnTo>
                  <a:lnTo>
                    <a:pt x="304" y="111"/>
                  </a:lnTo>
                  <a:lnTo>
                    <a:pt x="300" y="119"/>
                  </a:lnTo>
                  <a:lnTo>
                    <a:pt x="300" y="126"/>
                  </a:lnTo>
                  <a:lnTo>
                    <a:pt x="299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8" y="142"/>
                  </a:lnTo>
                  <a:lnTo>
                    <a:pt x="241" y="149"/>
                  </a:lnTo>
                  <a:lnTo>
                    <a:pt x="244" y="151"/>
                  </a:lnTo>
                  <a:lnTo>
                    <a:pt x="246" y="155"/>
                  </a:lnTo>
                  <a:lnTo>
                    <a:pt x="249" y="159"/>
                  </a:lnTo>
                  <a:lnTo>
                    <a:pt x="249" y="161"/>
                  </a:lnTo>
                  <a:lnTo>
                    <a:pt x="245" y="162"/>
                  </a:lnTo>
                  <a:lnTo>
                    <a:pt x="243" y="165"/>
                  </a:lnTo>
                  <a:lnTo>
                    <a:pt x="220" y="151"/>
                  </a:lnTo>
                  <a:lnTo>
                    <a:pt x="195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7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2"/>
                  </a:lnTo>
                  <a:lnTo>
                    <a:pt x="97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8" y="137"/>
                  </a:lnTo>
                  <a:lnTo>
                    <a:pt x="13" y="140"/>
                  </a:lnTo>
                  <a:lnTo>
                    <a:pt x="12" y="142"/>
                  </a:lnTo>
                  <a:lnTo>
                    <a:pt x="12" y="147"/>
                  </a:lnTo>
                  <a:lnTo>
                    <a:pt x="16" y="152"/>
                  </a:lnTo>
                  <a:lnTo>
                    <a:pt x="8" y="160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2" y="185"/>
                  </a:lnTo>
                  <a:lnTo>
                    <a:pt x="0" y="188"/>
                  </a:lnTo>
                  <a:lnTo>
                    <a:pt x="9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4"/>
                  </a:lnTo>
                  <a:lnTo>
                    <a:pt x="22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30"/>
                  </a:lnTo>
                  <a:lnTo>
                    <a:pt x="71" y="335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5" y="367"/>
                  </a:lnTo>
                  <a:lnTo>
                    <a:pt x="139" y="364"/>
                  </a:lnTo>
                  <a:lnTo>
                    <a:pt x="139" y="365"/>
                  </a:lnTo>
                  <a:lnTo>
                    <a:pt x="141" y="367"/>
                  </a:lnTo>
                  <a:lnTo>
                    <a:pt x="142" y="369"/>
                  </a:lnTo>
                  <a:lnTo>
                    <a:pt x="143" y="370"/>
                  </a:lnTo>
                  <a:lnTo>
                    <a:pt x="145" y="369"/>
                  </a:lnTo>
                  <a:lnTo>
                    <a:pt x="145" y="36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15040" y="5325120"/>
              <a:ext cx="856080" cy="85716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6" y="25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99"/>
                  </a:lnTo>
                  <a:lnTo>
                    <a:pt x="114" y="134"/>
                  </a:lnTo>
                  <a:lnTo>
                    <a:pt x="136" y="172"/>
                  </a:lnTo>
                  <a:lnTo>
                    <a:pt x="172" y="190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60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7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3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5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2"/>
                  </a:lnTo>
                  <a:lnTo>
                    <a:pt x="537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5"/>
                  </a:lnTo>
                  <a:lnTo>
                    <a:pt x="545" y="487"/>
                  </a:lnTo>
                  <a:lnTo>
                    <a:pt x="545" y="480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60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6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4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4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0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6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1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6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0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4"/>
                  </a:lnTo>
                  <a:lnTo>
                    <a:pt x="295" y="192"/>
                  </a:lnTo>
                  <a:lnTo>
                    <a:pt x="270" y="177"/>
                  </a:lnTo>
                  <a:lnTo>
                    <a:pt x="251" y="155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3"/>
                  </a:lnTo>
                  <a:lnTo>
                    <a:pt x="231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5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1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15040" y="5325120"/>
              <a:ext cx="856080" cy="85716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100"/>
                  </a:lnTo>
                  <a:lnTo>
                    <a:pt x="114" y="134"/>
                  </a:lnTo>
                  <a:lnTo>
                    <a:pt x="137" y="172"/>
                  </a:lnTo>
                  <a:lnTo>
                    <a:pt x="172" y="191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59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6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4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4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1"/>
                  </a:lnTo>
                  <a:lnTo>
                    <a:pt x="538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4"/>
                  </a:lnTo>
                  <a:lnTo>
                    <a:pt x="545" y="487"/>
                  </a:lnTo>
                  <a:lnTo>
                    <a:pt x="545" y="479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59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5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3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5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1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7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2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7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1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5"/>
                  </a:lnTo>
                  <a:lnTo>
                    <a:pt x="295" y="192"/>
                  </a:lnTo>
                  <a:lnTo>
                    <a:pt x="271" y="177"/>
                  </a:lnTo>
                  <a:lnTo>
                    <a:pt x="251" y="156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6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2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96280" y="5244840"/>
              <a:ext cx="344880" cy="40248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225" y="257"/>
                  </a:moveTo>
                  <a:lnTo>
                    <a:pt x="228" y="264"/>
                  </a:lnTo>
                  <a:lnTo>
                    <a:pt x="227" y="271"/>
                  </a:lnTo>
                  <a:lnTo>
                    <a:pt x="223" y="275"/>
                  </a:lnTo>
                  <a:lnTo>
                    <a:pt x="215" y="276"/>
                  </a:lnTo>
                  <a:lnTo>
                    <a:pt x="210" y="266"/>
                  </a:lnTo>
                  <a:lnTo>
                    <a:pt x="202" y="263"/>
                  </a:lnTo>
                  <a:lnTo>
                    <a:pt x="194" y="268"/>
                  </a:lnTo>
                  <a:lnTo>
                    <a:pt x="185" y="273"/>
                  </a:lnTo>
                  <a:lnTo>
                    <a:pt x="177" y="272"/>
                  </a:lnTo>
                  <a:lnTo>
                    <a:pt x="139" y="248"/>
                  </a:lnTo>
                  <a:lnTo>
                    <a:pt x="101" y="227"/>
                  </a:lnTo>
                  <a:lnTo>
                    <a:pt x="68" y="199"/>
                  </a:lnTo>
                  <a:lnTo>
                    <a:pt x="64" y="192"/>
                  </a:lnTo>
                  <a:lnTo>
                    <a:pt x="61" y="184"/>
                  </a:lnTo>
                  <a:lnTo>
                    <a:pt x="58" y="175"/>
                  </a:lnTo>
                  <a:lnTo>
                    <a:pt x="50" y="162"/>
                  </a:lnTo>
                  <a:lnTo>
                    <a:pt x="39" y="151"/>
                  </a:lnTo>
                  <a:lnTo>
                    <a:pt x="30" y="138"/>
                  </a:lnTo>
                  <a:lnTo>
                    <a:pt x="27" y="119"/>
                  </a:lnTo>
                  <a:lnTo>
                    <a:pt x="25" y="100"/>
                  </a:lnTo>
                  <a:lnTo>
                    <a:pt x="19" y="82"/>
                  </a:lnTo>
                  <a:lnTo>
                    <a:pt x="15" y="77"/>
                  </a:lnTo>
                  <a:lnTo>
                    <a:pt x="11" y="72"/>
                  </a:lnTo>
                  <a:lnTo>
                    <a:pt x="8" y="68"/>
                  </a:lnTo>
                  <a:lnTo>
                    <a:pt x="7" y="59"/>
                  </a:lnTo>
                  <a:lnTo>
                    <a:pt x="10" y="49"/>
                  </a:lnTo>
                  <a:lnTo>
                    <a:pt x="9" y="39"/>
                  </a:lnTo>
                  <a:lnTo>
                    <a:pt x="5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47" y="21"/>
                  </a:lnTo>
                  <a:lnTo>
                    <a:pt x="43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5" y="37"/>
                  </a:lnTo>
                  <a:lnTo>
                    <a:pt x="76" y="39"/>
                  </a:lnTo>
                  <a:lnTo>
                    <a:pt x="76" y="42"/>
                  </a:lnTo>
                  <a:lnTo>
                    <a:pt x="85" y="39"/>
                  </a:lnTo>
                  <a:lnTo>
                    <a:pt x="91" y="35"/>
                  </a:lnTo>
                  <a:lnTo>
                    <a:pt x="93" y="26"/>
                  </a:lnTo>
                  <a:lnTo>
                    <a:pt x="105" y="27"/>
                  </a:lnTo>
                  <a:lnTo>
                    <a:pt x="116" y="33"/>
                  </a:lnTo>
                  <a:lnTo>
                    <a:pt x="125" y="44"/>
                  </a:lnTo>
                  <a:lnTo>
                    <a:pt x="139" y="58"/>
                  </a:lnTo>
                  <a:lnTo>
                    <a:pt x="156" y="70"/>
                  </a:lnTo>
                  <a:lnTo>
                    <a:pt x="166" y="86"/>
                  </a:lnTo>
                  <a:lnTo>
                    <a:pt x="168" y="116"/>
                  </a:lnTo>
                  <a:lnTo>
                    <a:pt x="165" y="147"/>
                  </a:lnTo>
                  <a:lnTo>
                    <a:pt x="167" y="177"/>
                  </a:lnTo>
                  <a:lnTo>
                    <a:pt x="179" y="201"/>
                  </a:lnTo>
                  <a:lnTo>
                    <a:pt x="196" y="223"/>
                  </a:lnTo>
                  <a:lnTo>
                    <a:pt x="208" y="247"/>
                  </a:lnTo>
                  <a:lnTo>
                    <a:pt x="206" y="250"/>
                  </a:lnTo>
                  <a:lnTo>
                    <a:pt x="203" y="253"/>
                  </a:lnTo>
                  <a:lnTo>
                    <a:pt x="201" y="257"/>
                  </a:lnTo>
                  <a:lnTo>
                    <a:pt x="225" y="25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35040" y="5619600"/>
              <a:ext cx="6120" cy="259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1" y="0"/>
                  </a:moveTo>
                  <a:lnTo>
                    <a:pt x="4" y="7"/>
                  </a:lnTo>
                  <a:lnTo>
                    <a:pt x="3" y="13"/>
                  </a:lnTo>
                  <a:lnTo>
                    <a:pt x="0" y="1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03360" y="5627160"/>
              <a:ext cx="31680" cy="201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2" y="14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64120" y="5627160"/>
              <a:ext cx="38880" cy="144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17" y="5"/>
                  </a:lnTo>
                  <a:lnTo>
                    <a:pt x="8" y="10"/>
                  </a:lnTo>
                  <a:lnTo>
                    <a:pt x="0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00680" y="5535000"/>
              <a:ext cx="163080" cy="10476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108" y="72"/>
                  </a:moveTo>
                  <a:lnTo>
                    <a:pt x="70" y="49"/>
                  </a:lnTo>
                  <a:lnTo>
                    <a:pt x="32" y="28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84120" y="5500080"/>
              <a:ext cx="16560" cy="3492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4"/>
                  </a:moveTo>
                  <a:lnTo>
                    <a:pt x="7" y="17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41640" y="5446080"/>
              <a:ext cx="42120" cy="536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7"/>
                  </a:moveTo>
                  <a:lnTo>
                    <a:pt x="20" y="25"/>
                  </a:lnTo>
                  <a:lnTo>
                    <a:pt x="9" y="13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25080" y="5365800"/>
              <a:ext cx="16560" cy="802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1" y="55"/>
                  </a:moveTo>
                  <a:lnTo>
                    <a:pt x="8" y="36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09960" y="5343840"/>
              <a:ext cx="14760" cy="216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7" y="10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6720" y="5301720"/>
              <a:ext cx="4320" cy="421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1" y="29"/>
                  </a:moveTo>
                  <a:lnTo>
                    <a:pt x="0" y="20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6280" y="5263920"/>
              <a:ext cx="14760" cy="374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26"/>
                  </a:moveTo>
                  <a:lnTo>
                    <a:pt x="5" y="17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99160" y="5244840"/>
              <a:ext cx="16560" cy="19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2" y="6"/>
                  </a:lnTo>
                  <a:lnTo>
                    <a:pt x="5" y="1"/>
                  </a:lnTo>
                  <a:lnTo>
                    <a:pt x="11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6080" y="5244840"/>
              <a:ext cx="51120" cy="612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20" y="8"/>
                  </a:lnTo>
                  <a:lnTo>
                    <a:pt x="34" y="21"/>
                  </a:lnTo>
                  <a:lnTo>
                    <a:pt x="30" y="4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880" y="5306400"/>
              <a:ext cx="19800" cy="126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4" y="3"/>
                  </a:lnTo>
                  <a:lnTo>
                    <a:pt x="8" y="7"/>
                  </a:lnTo>
                  <a:lnTo>
                    <a:pt x="13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82680" y="5297400"/>
              <a:ext cx="23760" cy="21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6" y="12"/>
                  </a:lnTo>
                  <a:lnTo>
                    <a:pt x="8" y="3"/>
                  </a:lnTo>
                  <a:lnTo>
                    <a:pt x="16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06800" y="5297400"/>
              <a:ext cx="4320" cy="86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11120" y="52826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14"/>
                  </a:lnTo>
                  <a:lnTo>
                    <a:pt x="15" y="9"/>
                  </a:lnTo>
                  <a:lnTo>
                    <a:pt x="17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036680" y="5282640"/>
              <a:ext cx="48240" cy="259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13" y="1"/>
                  </a:lnTo>
                  <a:lnTo>
                    <a:pt x="23" y="8"/>
                  </a:lnTo>
                  <a:lnTo>
                    <a:pt x="32" y="1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5280" y="5308920"/>
              <a:ext cx="61920" cy="612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15" y="14"/>
                  </a:lnTo>
                  <a:lnTo>
                    <a:pt x="31" y="26"/>
                  </a:lnTo>
                  <a:lnTo>
                    <a:pt x="41" y="4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5760" y="5370480"/>
              <a:ext cx="4320" cy="132480"/>
            </a:xfrm>
            <a:custGeom>
              <a:avLst/>
              <a:gdLst/>
              <a:ahLst/>
              <a:rect l="l" t="t" r="r" b="b"/>
              <a:pathLst>
                <a:path w="3" h="91">
                  <a:moveTo>
                    <a:pt x="1" y="0"/>
                  </a:moveTo>
                  <a:lnTo>
                    <a:pt x="3" y="30"/>
                  </a:lnTo>
                  <a:lnTo>
                    <a:pt x="0" y="61"/>
                  </a:lnTo>
                  <a:lnTo>
                    <a:pt x="2" y="9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49000" y="5502960"/>
              <a:ext cx="61920" cy="10188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0" y="0"/>
                  </a:moveTo>
                  <a:lnTo>
                    <a:pt x="12" y="24"/>
                  </a:lnTo>
                  <a:lnTo>
                    <a:pt x="30" y="45"/>
                  </a:lnTo>
                  <a:lnTo>
                    <a:pt x="41" y="7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01920" y="5605200"/>
              <a:ext cx="9000" cy="14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62600" y="3984840"/>
              <a:ext cx="555480" cy="112428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6" y="94"/>
                  </a:lnTo>
                  <a:lnTo>
                    <a:pt x="41" y="104"/>
                  </a:lnTo>
                  <a:lnTo>
                    <a:pt x="39" y="114"/>
                  </a:lnTo>
                  <a:lnTo>
                    <a:pt x="43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4" y="147"/>
                  </a:lnTo>
                  <a:lnTo>
                    <a:pt x="118" y="156"/>
                  </a:lnTo>
                  <a:lnTo>
                    <a:pt x="126" y="160"/>
                  </a:lnTo>
                  <a:lnTo>
                    <a:pt x="134" y="165"/>
                  </a:lnTo>
                  <a:lnTo>
                    <a:pt x="140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1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3" y="223"/>
                  </a:lnTo>
                  <a:lnTo>
                    <a:pt x="122" y="236"/>
                  </a:lnTo>
                  <a:lnTo>
                    <a:pt x="144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3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400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4"/>
                  </a:lnTo>
                  <a:lnTo>
                    <a:pt x="273" y="447"/>
                  </a:lnTo>
                  <a:lnTo>
                    <a:pt x="272" y="450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80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1"/>
                  </a:lnTo>
                  <a:lnTo>
                    <a:pt x="257" y="493"/>
                  </a:lnTo>
                  <a:lnTo>
                    <a:pt x="261" y="497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1" y="588"/>
                  </a:lnTo>
                  <a:lnTo>
                    <a:pt x="237" y="591"/>
                  </a:lnTo>
                  <a:lnTo>
                    <a:pt x="228" y="593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4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7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8" y="659"/>
                  </a:lnTo>
                  <a:lnTo>
                    <a:pt x="134" y="661"/>
                  </a:lnTo>
                  <a:lnTo>
                    <a:pt x="128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9"/>
                  </a:lnTo>
                  <a:lnTo>
                    <a:pt x="120" y="680"/>
                  </a:lnTo>
                  <a:lnTo>
                    <a:pt x="125" y="682"/>
                  </a:lnTo>
                  <a:lnTo>
                    <a:pt x="130" y="684"/>
                  </a:lnTo>
                  <a:lnTo>
                    <a:pt x="135" y="687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4" y="712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3" y="771"/>
                  </a:lnTo>
                  <a:lnTo>
                    <a:pt x="138" y="771"/>
                  </a:lnTo>
                  <a:lnTo>
                    <a:pt x="144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9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9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4"/>
                  </a:lnTo>
                  <a:lnTo>
                    <a:pt x="206" y="718"/>
                  </a:lnTo>
                  <a:lnTo>
                    <a:pt x="211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09" y="691"/>
                  </a:lnTo>
                  <a:lnTo>
                    <a:pt x="217" y="699"/>
                  </a:lnTo>
                  <a:lnTo>
                    <a:pt x="226" y="703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9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5"/>
                  </a:lnTo>
                  <a:lnTo>
                    <a:pt x="282" y="664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8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7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1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09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6" y="275"/>
                  </a:lnTo>
                  <a:lnTo>
                    <a:pt x="191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4" y="234"/>
                  </a:lnTo>
                  <a:lnTo>
                    <a:pt x="185" y="230"/>
                  </a:lnTo>
                  <a:lnTo>
                    <a:pt x="181" y="216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5" y="185"/>
                  </a:lnTo>
                  <a:lnTo>
                    <a:pt x="211" y="179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8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5"/>
                  </a:lnTo>
                  <a:lnTo>
                    <a:pt x="278" y="143"/>
                  </a:lnTo>
                  <a:lnTo>
                    <a:pt x="279" y="141"/>
                  </a:lnTo>
                  <a:lnTo>
                    <a:pt x="279" y="138"/>
                  </a:lnTo>
                  <a:lnTo>
                    <a:pt x="279" y="134"/>
                  </a:lnTo>
                  <a:lnTo>
                    <a:pt x="273" y="132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4"/>
                  </a:lnTo>
                  <a:lnTo>
                    <a:pt x="278" y="106"/>
                  </a:lnTo>
                  <a:lnTo>
                    <a:pt x="285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1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1" y="34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3" y="34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9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2600" y="3984840"/>
              <a:ext cx="555480" cy="112428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5" y="94"/>
                  </a:lnTo>
                  <a:lnTo>
                    <a:pt x="41" y="104"/>
                  </a:lnTo>
                  <a:lnTo>
                    <a:pt x="39" y="115"/>
                  </a:lnTo>
                  <a:lnTo>
                    <a:pt x="42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3" y="147"/>
                  </a:lnTo>
                  <a:lnTo>
                    <a:pt x="118" y="156"/>
                  </a:lnTo>
                  <a:lnTo>
                    <a:pt x="126" y="161"/>
                  </a:lnTo>
                  <a:lnTo>
                    <a:pt x="133" y="165"/>
                  </a:lnTo>
                  <a:lnTo>
                    <a:pt x="139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2" y="223"/>
                  </a:lnTo>
                  <a:lnTo>
                    <a:pt x="122" y="236"/>
                  </a:lnTo>
                  <a:lnTo>
                    <a:pt x="143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4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399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3"/>
                  </a:lnTo>
                  <a:lnTo>
                    <a:pt x="273" y="447"/>
                  </a:lnTo>
                  <a:lnTo>
                    <a:pt x="272" y="449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79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0"/>
                  </a:lnTo>
                  <a:lnTo>
                    <a:pt x="257" y="493"/>
                  </a:lnTo>
                  <a:lnTo>
                    <a:pt x="261" y="496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2" y="588"/>
                  </a:lnTo>
                  <a:lnTo>
                    <a:pt x="237" y="591"/>
                  </a:lnTo>
                  <a:lnTo>
                    <a:pt x="228" y="592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3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6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7" y="659"/>
                  </a:lnTo>
                  <a:lnTo>
                    <a:pt x="134" y="661"/>
                  </a:lnTo>
                  <a:lnTo>
                    <a:pt x="127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8"/>
                  </a:lnTo>
                  <a:lnTo>
                    <a:pt x="120" y="679"/>
                  </a:lnTo>
                  <a:lnTo>
                    <a:pt x="125" y="681"/>
                  </a:lnTo>
                  <a:lnTo>
                    <a:pt x="130" y="683"/>
                  </a:lnTo>
                  <a:lnTo>
                    <a:pt x="135" y="686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3" y="711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2" y="771"/>
                  </a:lnTo>
                  <a:lnTo>
                    <a:pt x="138" y="771"/>
                  </a:lnTo>
                  <a:lnTo>
                    <a:pt x="143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8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8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3"/>
                  </a:lnTo>
                  <a:lnTo>
                    <a:pt x="206" y="718"/>
                  </a:lnTo>
                  <a:lnTo>
                    <a:pt x="212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10" y="691"/>
                  </a:lnTo>
                  <a:lnTo>
                    <a:pt x="217" y="699"/>
                  </a:lnTo>
                  <a:lnTo>
                    <a:pt x="226" y="702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8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4"/>
                  </a:lnTo>
                  <a:lnTo>
                    <a:pt x="282" y="663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9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6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0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10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7" y="275"/>
                  </a:lnTo>
                  <a:lnTo>
                    <a:pt x="192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3" y="234"/>
                  </a:lnTo>
                  <a:lnTo>
                    <a:pt x="185" y="230"/>
                  </a:lnTo>
                  <a:lnTo>
                    <a:pt x="181" y="215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6" y="185"/>
                  </a:lnTo>
                  <a:lnTo>
                    <a:pt x="211" y="180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9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6"/>
                  </a:lnTo>
                  <a:lnTo>
                    <a:pt x="278" y="144"/>
                  </a:lnTo>
                  <a:lnTo>
                    <a:pt x="279" y="141"/>
                  </a:lnTo>
                  <a:lnTo>
                    <a:pt x="280" y="138"/>
                  </a:lnTo>
                  <a:lnTo>
                    <a:pt x="279" y="134"/>
                  </a:lnTo>
                  <a:lnTo>
                    <a:pt x="273" y="133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5"/>
                  </a:lnTo>
                  <a:lnTo>
                    <a:pt x="278" y="106"/>
                  </a:lnTo>
                  <a:lnTo>
                    <a:pt x="286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2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5" y="38"/>
                  </a:lnTo>
                  <a:lnTo>
                    <a:pt x="88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31280" y="4048920"/>
              <a:ext cx="66240" cy="525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0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8" y="31"/>
                  </a:lnTo>
                  <a:lnTo>
                    <a:pt x="17" y="36"/>
                  </a:lnTo>
                  <a:lnTo>
                    <a:pt x="28" y="35"/>
                  </a:lnTo>
                  <a:lnTo>
                    <a:pt x="38" y="31"/>
                  </a:lnTo>
                  <a:lnTo>
                    <a:pt x="44" y="22"/>
                  </a:lnTo>
                  <a:lnTo>
                    <a:pt x="43" y="1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31280" y="4048920"/>
              <a:ext cx="66240" cy="5400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1" y="22"/>
                  </a:lnTo>
                  <a:lnTo>
                    <a:pt x="7" y="32"/>
                  </a:lnTo>
                  <a:lnTo>
                    <a:pt x="17" y="37"/>
                  </a:lnTo>
                  <a:lnTo>
                    <a:pt x="28" y="36"/>
                  </a:lnTo>
                  <a:lnTo>
                    <a:pt x="38" y="32"/>
                  </a:lnTo>
                  <a:lnTo>
                    <a:pt x="44" y="23"/>
                  </a:lnTo>
                  <a:lnTo>
                    <a:pt x="42" y="11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9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66200" y="2779200"/>
              <a:ext cx="270360" cy="3510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0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9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8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7" y="141"/>
                  </a:lnTo>
                  <a:lnTo>
                    <a:pt x="33" y="144"/>
                  </a:lnTo>
                  <a:lnTo>
                    <a:pt x="30" y="144"/>
                  </a:lnTo>
                  <a:lnTo>
                    <a:pt x="29" y="137"/>
                  </a:lnTo>
                  <a:lnTo>
                    <a:pt x="28" y="129"/>
                  </a:lnTo>
                  <a:lnTo>
                    <a:pt x="32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8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66200" y="2779200"/>
              <a:ext cx="270360" cy="3510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1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8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9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8" y="141"/>
                  </a:lnTo>
                  <a:lnTo>
                    <a:pt x="33" y="144"/>
                  </a:lnTo>
                  <a:lnTo>
                    <a:pt x="31" y="144"/>
                  </a:lnTo>
                  <a:lnTo>
                    <a:pt x="29" y="137"/>
                  </a:lnTo>
                  <a:lnTo>
                    <a:pt x="29" y="129"/>
                  </a:lnTo>
                  <a:lnTo>
                    <a:pt x="33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9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34440" y="2391480"/>
              <a:ext cx="505080" cy="457560"/>
            </a:xfrm>
            <a:custGeom>
              <a:avLst/>
              <a:gdLst/>
              <a:ahLst/>
              <a:rect l="l" t="t" r="r" b="b"/>
              <a:pathLst>
                <a:path w="334" h="314">
                  <a:moveTo>
                    <a:pt x="334" y="36"/>
                  </a:moveTo>
                  <a:lnTo>
                    <a:pt x="331" y="31"/>
                  </a:lnTo>
                  <a:lnTo>
                    <a:pt x="327" y="26"/>
                  </a:lnTo>
                  <a:lnTo>
                    <a:pt x="323" y="22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1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6"/>
                  </a:lnTo>
                  <a:lnTo>
                    <a:pt x="274" y="13"/>
                  </a:lnTo>
                  <a:lnTo>
                    <a:pt x="273" y="23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4" y="39"/>
                  </a:lnTo>
                  <a:lnTo>
                    <a:pt x="235" y="46"/>
                  </a:lnTo>
                  <a:lnTo>
                    <a:pt x="227" y="52"/>
                  </a:lnTo>
                  <a:lnTo>
                    <a:pt x="213" y="55"/>
                  </a:lnTo>
                  <a:lnTo>
                    <a:pt x="198" y="54"/>
                  </a:lnTo>
                  <a:lnTo>
                    <a:pt x="189" y="59"/>
                  </a:lnTo>
                  <a:lnTo>
                    <a:pt x="189" y="72"/>
                  </a:lnTo>
                  <a:lnTo>
                    <a:pt x="190" y="85"/>
                  </a:lnTo>
                  <a:lnTo>
                    <a:pt x="179" y="92"/>
                  </a:lnTo>
                  <a:lnTo>
                    <a:pt x="162" y="91"/>
                  </a:lnTo>
                  <a:lnTo>
                    <a:pt x="147" y="84"/>
                  </a:lnTo>
                  <a:lnTo>
                    <a:pt x="137" y="68"/>
                  </a:lnTo>
                  <a:lnTo>
                    <a:pt x="134" y="68"/>
                  </a:lnTo>
                  <a:lnTo>
                    <a:pt x="127" y="70"/>
                  </a:lnTo>
                  <a:lnTo>
                    <a:pt x="120" y="72"/>
                  </a:lnTo>
                  <a:lnTo>
                    <a:pt x="115" y="76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2" y="158"/>
                  </a:lnTo>
                  <a:lnTo>
                    <a:pt x="0" y="169"/>
                  </a:lnTo>
                  <a:lnTo>
                    <a:pt x="5" y="181"/>
                  </a:lnTo>
                  <a:lnTo>
                    <a:pt x="14" y="188"/>
                  </a:lnTo>
                  <a:lnTo>
                    <a:pt x="28" y="190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53" y="213"/>
                  </a:lnTo>
                  <a:lnTo>
                    <a:pt x="48" y="226"/>
                  </a:lnTo>
                  <a:lnTo>
                    <a:pt x="43" y="239"/>
                  </a:lnTo>
                  <a:lnTo>
                    <a:pt x="47" y="240"/>
                  </a:lnTo>
                  <a:lnTo>
                    <a:pt x="48" y="244"/>
                  </a:lnTo>
                  <a:lnTo>
                    <a:pt x="51" y="246"/>
                  </a:lnTo>
                  <a:lnTo>
                    <a:pt x="45" y="258"/>
                  </a:lnTo>
                  <a:lnTo>
                    <a:pt x="36" y="269"/>
                  </a:lnTo>
                  <a:lnTo>
                    <a:pt x="35" y="282"/>
                  </a:lnTo>
                  <a:lnTo>
                    <a:pt x="40" y="293"/>
                  </a:lnTo>
                  <a:lnTo>
                    <a:pt x="46" y="302"/>
                  </a:lnTo>
                  <a:lnTo>
                    <a:pt x="55" y="310"/>
                  </a:lnTo>
                  <a:lnTo>
                    <a:pt x="64" y="313"/>
                  </a:lnTo>
                  <a:lnTo>
                    <a:pt x="73" y="308"/>
                  </a:lnTo>
                  <a:lnTo>
                    <a:pt x="83" y="302"/>
                  </a:lnTo>
                  <a:lnTo>
                    <a:pt x="83" y="304"/>
                  </a:lnTo>
                  <a:lnTo>
                    <a:pt x="83" y="306"/>
                  </a:lnTo>
                  <a:lnTo>
                    <a:pt x="83" y="308"/>
                  </a:lnTo>
                  <a:lnTo>
                    <a:pt x="88" y="305"/>
                  </a:lnTo>
                  <a:lnTo>
                    <a:pt x="95" y="305"/>
                  </a:lnTo>
                  <a:lnTo>
                    <a:pt x="100" y="302"/>
                  </a:lnTo>
                  <a:lnTo>
                    <a:pt x="99" y="305"/>
                  </a:lnTo>
                  <a:lnTo>
                    <a:pt x="99" y="308"/>
                  </a:lnTo>
                  <a:lnTo>
                    <a:pt x="103" y="308"/>
                  </a:lnTo>
                  <a:lnTo>
                    <a:pt x="116" y="308"/>
                  </a:lnTo>
                  <a:lnTo>
                    <a:pt x="127" y="310"/>
                  </a:lnTo>
                  <a:lnTo>
                    <a:pt x="140" y="313"/>
                  </a:lnTo>
                  <a:lnTo>
                    <a:pt x="165" y="314"/>
                  </a:lnTo>
                  <a:lnTo>
                    <a:pt x="187" y="305"/>
                  </a:lnTo>
                  <a:lnTo>
                    <a:pt x="201" y="285"/>
                  </a:lnTo>
                  <a:lnTo>
                    <a:pt x="202" y="261"/>
                  </a:lnTo>
                  <a:lnTo>
                    <a:pt x="190" y="243"/>
                  </a:lnTo>
                  <a:lnTo>
                    <a:pt x="170" y="227"/>
                  </a:lnTo>
                  <a:lnTo>
                    <a:pt x="162" y="221"/>
                  </a:lnTo>
                  <a:lnTo>
                    <a:pt x="156" y="211"/>
                  </a:lnTo>
                  <a:lnTo>
                    <a:pt x="160" y="200"/>
                  </a:lnTo>
                  <a:lnTo>
                    <a:pt x="165" y="193"/>
                  </a:lnTo>
                  <a:lnTo>
                    <a:pt x="169" y="186"/>
                  </a:lnTo>
                  <a:lnTo>
                    <a:pt x="173" y="183"/>
                  </a:lnTo>
                  <a:lnTo>
                    <a:pt x="194" y="174"/>
                  </a:lnTo>
                  <a:lnTo>
                    <a:pt x="227" y="159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30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6"/>
                  </a:lnTo>
                  <a:lnTo>
                    <a:pt x="334" y="3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34440" y="2392560"/>
              <a:ext cx="505080" cy="456120"/>
            </a:xfrm>
            <a:custGeom>
              <a:avLst/>
              <a:gdLst/>
              <a:ahLst/>
              <a:rect l="l" t="t" r="r" b="b"/>
              <a:pathLst>
                <a:path w="334" h="313">
                  <a:moveTo>
                    <a:pt x="334" y="35"/>
                  </a:moveTo>
                  <a:lnTo>
                    <a:pt x="330" y="31"/>
                  </a:lnTo>
                  <a:lnTo>
                    <a:pt x="327" y="26"/>
                  </a:lnTo>
                  <a:lnTo>
                    <a:pt x="323" y="21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0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5"/>
                  </a:lnTo>
                  <a:lnTo>
                    <a:pt x="274" y="13"/>
                  </a:lnTo>
                  <a:lnTo>
                    <a:pt x="273" y="22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0"/>
                  </a:lnTo>
                  <a:lnTo>
                    <a:pt x="252" y="32"/>
                  </a:lnTo>
                  <a:lnTo>
                    <a:pt x="244" y="38"/>
                  </a:lnTo>
                  <a:lnTo>
                    <a:pt x="235" y="45"/>
                  </a:lnTo>
                  <a:lnTo>
                    <a:pt x="227" y="52"/>
                  </a:lnTo>
                  <a:lnTo>
                    <a:pt x="214" y="54"/>
                  </a:lnTo>
                  <a:lnTo>
                    <a:pt x="198" y="54"/>
                  </a:lnTo>
                  <a:lnTo>
                    <a:pt x="189" y="58"/>
                  </a:lnTo>
                  <a:lnTo>
                    <a:pt x="189" y="72"/>
                  </a:lnTo>
                  <a:lnTo>
                    <a:pt x="190" y="84"/>
                  </a:lnTo>
                  <a:lnTo>
                    <a:pt x="179" y="91"/>
                  </a:lnTo>
                  <a:lnTo>
                    <a:pt x="162" y="91"/>
                  </a:lnTo>
                  <a:lnTo>
                    <a:pt x="147" y="83"/>
                  </a:lnTo>
                  <a:lnTo>
                    <a:pt x="137" y="67"/>
                  </a:lnTo>
                  <a:lnTo>
                    <a:pt x="134" y="67"/>
                  </a:lnTo>
                  <a:lnTo>
                    <a:pt x="127" y="69"/>
                  </a:lnTo>
                  <a:lnTo>
                    <a:pt x="120" y="72"/>
                  </a:lnTo>
                  <a:lnTo>
                    <a:pt x="115" y="75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3" y="158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14" y="187"/>
                  </a:lnTo>
                  <a:lnTo>
                    <a:pt x="28" y="189"/>
                  </a:lnTo>
                  <a:lnTo>
                    <a:pt x="42" y="191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48" y="225"/>
                  </a:lnTo>
                  <a:lnTo>
                    <a:pt x="44" y="238"/>
                  </a:lnTo>
                  <a:lnTo>
                    <a:pt x="47" y="239"/>
                  </a:lnTo>
                  <a:lnTo>
                    <a:pt x="48" y="243"/>
                  </a:lnTo>
                  <a:lnTo>
                    <a:pt x="51" y="245"/>
                  </a:lnTo>
                  <a:lnTo>
                    <a:pt x="45" y="257"/>
                  </a:lnTo>
                  <a:lnTo>
                    <a:pt x="37" y="268"/>
                  </a:lnTo>
                  <a:lnTo>
                    <a:pt x="35" y="281"/>
                  </a:lnTo>
                  <a:lnTo>
                    <a:pt x="40" y="292"/>
                  </a:lnTo>
                  <a:lnTo>
                    <a:pt x="47" y="301"/>
                  </a:lnTo>
                  <a:lnTo>
                    <a:pt x="55" y="309"/>
                  </a:lnTo>
                  <a:lnTo>
                    <a:pt x="64" y="312"/>
                  </a:lnTo>
                  <a:lnTo>
                    <a:pt x="74" y="307"/>
                  </a:lnTo>
                  <a:lnTo>
                    <a:pt x="84" y="301"/>
                  </a:lnTo>
                  <a:lnTo>
                    <a:pt x="84" y="303"/>
                  </a:lnTo>
                  <a:lnTo>
                    <a:pt x="84" y="305"/>
                  </a:lnTo>
                  <a:lnTo>
                    <a:pt x="84" y="308"/>
                  </a:lnTo>
                  <a:lnTo>
                    <a:pt x="88" y="304"/>
                  </a:lnTo>
                  <a:lnTo>
                    <a:pt x="95" y="304"/>
                  </a:lnTo>
                  <a:lnTo>
                    <a:pt x="100" y="301"/>
                  </a:lnTo>
                  <a:lnTo>
                    <a:pt x="99" y="304"/>
                  </a:lnTo>
                  <a:lnTo>
                    <a:pt x="99" y="307"/>
                  </a:lnTo>
                  <a:lnTo>
                    <a:pt x="103" y="308"/>
                  </a:lnTo>
                  <a:lnTo>
                    <a:pt x="116" y="307"/>
                  </a:lnTo>
                  <a:lnTo>
                    <a:pt x="127" y="309"/>
                  </a:lnTo>
                  <a:lnTo>
                    <a:pt x="140" y="312"/>
                  </a:lnTo>
                  <a:lnTo>
                    <a:pt x="165" y="313"/>
                  </a:lnTo>
                  <a:lnTo>
                    <a:pt x="187" y="304"/>
                  </a:lnTo>
                  <a:lnTo>
                    <a:pt x="201" y="284"/>
                  </a:lnTo>
                  <a:lnTo>
                    <a:pt x="202" y="261"/>
                  </a:lnTo>
                  <a:lnTo>
                    <a:pt x="190" y="242"/>
                  </a:lnTo>
                  <a:lnTo>
                    <a:pt x="170" y="226"/>
                  </a:lnTo>
                  <a:lnTo>
                    <a:pt x="161" y="220"/>
                  </a:lnTo>
                  <a:lnTo>
                    <a:pt x="156" y="210"/>
                  </a:lnTo>
                  <a:lnTo>
                    <a:pt x="160" y="199"/>
                  </a:lnTo>
                  <a:lnTo>
                    <a:pt x="165" y="192"/>
                  </a:lnTo>
                  <a:lnTo>
                    <a:pt x="169" y="185"/>
                  </a:lnTo>
                  <a:lnTo>
                    <a:pt x="173" y="182"/>
                  </a:lnTo>
                  <a:lnTo>
                    <a:pt x="194" y="173"/>
                  </a:lnTo>
                  <a:lnTo>
                    <a:pt x="227" y="158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5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5"/>
                  </a:lnTo>
                  <a:lnTo>
                    <a:pt x="334" y="3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75040" y="1520640"/>
              <a:ext cx="2429640" cy="98244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7"/>
                  </a:moveTo>
                  <a:lnTo>
                    <a:pt x="597" y="27"/>
                  </a:lnTo>
                  <a:lnTo>
                    <a:pt x="592" y="27"/>
                  </a:lnTo>
                  <a:lnTo>
                    <a:pt x="587" y="27"/>
                  </a:lnTo>
                  <a:lnTo>
                    <a:pt x="587" y="25"/>
                  </a:lnTo>
                  <a:lnTo>
                    <a:pt x="587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3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5" y="53"/>
                  </a:lnTo>
                  <a:lnTo>
                    <a:pt x="511" y="53"/>
                  </a:lnTo>
                  <a:lnTo>
                    <a:pt x="508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4" y="142"/>
                  </a:lnTo>
                  <a:lnTo>
                    <a:pt x="330" y="131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4" y="96"/>
                  </a:lnTo>
                  <a:lnTo>
                    <a:pt x="216" y="90"/>
                  </a:lnTo>
                  <a:lnTo>
                    <a:pt x="216" y="94"/>
                  </a:lnTo>
                  <a:lnTo>
                    <a:pt x="216" y="97"/>
                  </a:lnTo>
                  <a:lnTo>
                    <a:pt x="213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29"/>
                  </a:lnTo>
                  <a:lnTo>
                    <a:pt x="118" y="133"/>
                  </a:lnTo>
                  <a:lnTo>
                    <a:pt x="114" y="135"/>
                  </a:lnTo>
                  <a:lnTo>
                    <a:pt x="110" y="138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7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6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1" y="208"/>
                  </a:lnTo>
                  <a:lnTo>
                    <a:pt x="0" y="222"/>
                  </a:lnTo>
                  <a:lnTo>
                    <a:pt x="1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8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4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19" y="501"/>
                  </a:lnTo>
                  <a:lnTo>
                    <a:pt x="336" y="505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4" y="533"/>
                  </a:lnTo>
                  <a:lnTo>
                    <a:pt x="389" y="543"/>
                  </a:lnTo>
                  <a:lnTo>
                    <a:pt x="429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3"/>
                  </a:lnTo>
                  <a:lnTo>
                    <a:pt x="649" y="613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8" y="646"/>
                  </a:lnTo>
                  <a:lnTo>
                    <a:pt x="782" y="657"/>
                  </a:lnTo>
                  <a:lnTo>
                    <a:pt x="828" y="662"/>
                  </a:lnTo>
                  <a:lnTo>
                    <a:pt x="830" y="664"/>
                  </a:lnTo>
                  <a:lnTo>
                    <a:pt x="831" y="668"/>
                  </a:lnTo>
                  <a:lnTo>
                    <a:pt x="833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8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7"/>
                  </a:lnTo>
                  <a:lnTo>
                    <a:pt x="1181" y="498"/>
                  </a:lnTo>
                  <a:lnTo>
                    <a:pt x="1191" y="480"/>
                  </a:lnTo>
                  <a:lnTo>
                    <a:pt x="1208" y="468"/>
                  </a:lnTo>
                  <a:lnTo>
                    <a:pt x="1227" y="467"/>
                  </a:lnTo>
                  <a:lnTo>
                    <a:pt x="1247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399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6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7" y="363"/>
                  </a:lnTo>
                  <a:lnTo>
                    <a:pt x="1601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3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2" y="285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6"/>
                  </a:lnTo>
                  <a:lnTo>
                    <a:pt x="1466" y="294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0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5"/>
                  </a:lnTo>
                  <a:lnTo>
                    <a:pt x="1442" y="168"/>
                  </a:lnTo>
                  <a:lnTo>
                    <a:pt x="1443" y="159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6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29"/>
                  </a:lnTo>
                  <a:lnTo>
                    <a:pt x="1297" y="143"/>
                  </a:lnTo>
                  <a:lnTo>
                    <a:pt x="1273" y="157"/>
                  </a:lnTo>
                  <a:lnTo>
                    <a:pt x="1249" y="174"/>
                  </a:lnTo>
                  <a:lnTo>
                    <a:pt x="1241" y="177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5" y="186"/>
                  </a:lnTo>
                  <a:lnTo>
                    <a:pt x="1211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4"/>
                  </a:lnTo>
                  <a:lnTo>
                    <a:pt x="1146" y="199"/>
                  </a:lnTo>
                  <a:lnTo>
                    <a:pt x="1140" y="195"/>
                  </a:lnTo>
                  <a:lnTo>
                    <a:pt x="1134" y="194"/>
                  </a:lnTo>
                  <a:lnTo>
                    <a:pt x="1114" y="195"/>
                  </a:lnTo>
                  <a:lnTo>
                    <a:pt x="1094" y="197"/>
                  </a:lnTo>
                  <a:lnTo>
                    <a:pt x="1074" y="191"/>
                  </a:lnTo>
                  <a:lnTo>
                    <a:pt x="1049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1" y="155"/>
                  </a:lnTo>
                  <a:lnTo>
                    <a:pt x="1007" y="156"/>
                  </a:lnTo>
                  <a:lnTo>
                    <a:pt x="1002" y="156"/>
                  </a:lnTo>
                  <a:lnTo>
                    <a:pt x="1003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6"/>
                  </a:lnTo>
                  <a:lnTo>
                    <a:pt x="870" y="117"/>
                  </a:lnTo>
                  <a:lnTo>
                    <a:pt x="823" y="129"/>
                  </a:lnTo>
                  <a:lnTo>
                    <a:pt x="777" y="128"/>
                  </a:lnTo>
                  <a:lnTo>
                    <a:pt x="734" y="109"/>
                  </a:lnTo>
                  <a:lnTo>
                    <a:pt x="725" y="93"/>
                  </a:lnTo>
                  <a:lnTo>
                    <a:pt x="720" y="72"/>
                  </a:lnTo>
                  <a:lnTo>
                    <a:pt x="710" y="57"/>
                  </a:lnTo>
                  <a:lnTo>
                    <a:pt x="677" y="42"/>
                  </a:lnTo>
                  <a:lnTo>
                    <a:pt x="640" y="34"/>
                  </a:lnTo>
                  <a:lnTo>
                    <a:pt x="603" y="2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5040" y="1520640"/>
              <a:ext cx="2429640" cy="98244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8"/>
                  </a:moveTo>
                  <a:lnTo>
                    <a:pt x="597" y="27"/>
                  </a:lnTo>
                  <a:lnTo>
                    <a:pt x="592" y="28"/>
                  </a:lnTo>
                  <a:lnTo>
                    <a:pt x="586" y="27"/>
                  </a:lnTo>
                  <a:lnTo>
                    <a:pt x="586" y="25"/>
                  </a:lnTo>
                  <a:lnTo>
                    <a:pt x="586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4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6" y="53"/>
                  </a:lnTo>
                  <a:lnTo>
                    <a:pt x="511" y="53"/>
                  </a:lnTo>
                  <a:lnTo>
                    <a:pt x="509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5" y="142"/>
                  </a:lnTo>
                  <a:lnTo>
                    <a:pt x="330" y="132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5" y="96"/>
                  </a:lnTo>
                  <a:lnTo>
                    <a:pt x="216" y="90"/>
                  </a:lnTo>
                  <a:lnTo>
                    <a:pt x="217" y="94"/>
                  </a:lnTo>
                  <a:lnTo>
                    <a:pt x="216" y="97"/>
                  </a:lnTo>
                  <a:lnTo>
                    <a:pt x="214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30"/>
                  </a:lnTo>
                  <a:lnTo>
                    <a:pt x="118" y="134"/>
                  </a:lnTo>
                  <a:lnTo>
                    <a:pt x="114" y="135"/>
                  </a:lnTo>
                  <a:lnTo>
                    <a:pt x="110" y="139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8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7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2" y="20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9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5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20" y="501"/>
                  </a:lnTo>
                  <a:lnTo>
                    <a:pt x="336" y="506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5" y="533"/>
                  </a:lnTo>
                  <a:lnTo>
                    <a:pt x="390" y="543"/>
                  </a:lnTo>
                  <a:lnTo>
                    <a:pt x="430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4"/>
                  </a:lnTo>
                  <a:lnTo>
                    <a:pt x="649" y="614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7" y="646"/>
                  </a:lnTo>
                  <a:lnTo>
                    <a:pt x="782" y="658"/>
                  </a:lnTo>
                  <a:lnTo>
                    <a:pt x="828" y="662"/>
                  </a:lnTo>
                  <a:lnTo>
                    <a:pt x="831" y="664"/>
                  </a:lnTo>
                  <a:lnTo>
                    <a:pt x="831" y="668"/>
                  </a:lnTo>
                  <a:lnTo>
                    <a:pt x="834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7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8"/>
                  </a:lnTo>
                  <a:lnTo>
                    <a:pt x="1181" y="499"/>
                  </a:lnTo>
                  <a:lnTo>
                    <a:pt x="1191" y="480"/>
                  </a:lnTo>
                  <a:lnTo>
                    <a:pt x="1207" y="468"/>
                  </a:lnTo>
                  <a:lnTo>
                    <a:pt x="1227" y="468"/>
                  </a:lnTo>
                  <a:lnTo>
                    <a:pt x="1246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400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7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6" y="363"/>
                  </a:lnTo>
                  <a:lnTo>
                    <a:pt x="1600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2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1" y="286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7"/>
                  </a:lnTo>
                  <a:lnTo>
                    <a:pt x="1466" y="295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1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6"/>
                  </a:lnTo>
                  <a:lnTo>
                    <a:pt x="1442" y="168"/>
                  </a:lnTo>
                  <a:lnTo>
                    <a:pt x="1443" y="160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7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30"/>
                  </a:lnTo>
                  <a:lnTo>
                    <a:pt x="1297" y="143"/>
                  </a:lnTo>
                  <a:lnTo>
                    <a:pt x="1273" y="158"/>
                  </a:lnTo>
                  <a:lnTo>
                    <a:pt x="1249" y="175"/>
                  </a:lnTo>
                  <a:lnTo>
                    <a:pt x="1241" y="178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4" y="186"/>
                  </a:lnTo>
                  <a:lnTo>
                    <a:pt x="1210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5"/>
                  </a:lnTo>
                  <a:lnTo>
                    <a:pt x="1146" y="199"/>
                  </a:lnTo>
                  <a:lnTo>
                    <a:pt x="1140" y="196"/>
                  </a:lnTo>
                  <a:lnTo>
                    <a:pt x="1134" y="194"/>
                  </a:lnTo>
                  <a:lnTo>
                    <a:pt x="1114" y="196"/>
                  </a:lnTo>
                  <a:lnTo>
                    <a:pt x="1094" y="198"/>
                  </a:lnTo>
                  <a:lnTo>
                    <a:pt x="1074" y="191"/>
                  </a:lnTo>
                  <a:lnTo>
                    <a:pt x="1050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2" y="155"/>
                  </a:lnTo>
                  <a:lnTo>
                    <a:pt x="1007" y="156"/>
                  </a:lnTo>
                  <a:lnTo>
                    <a:pt x="1003" y="156"/>
                  </a:lnTo>
                  <a:lnTo>
                    <a:pt x="1004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7"/>
                  </a:lnTo>
                  <a:lnTo>
                    <a:pt x="871" y="117"/>
                  </a:lnTo>
                  <a:lnTo>
                    <a:pt x="823" y="129"/>
                  </a:lnTo>
                  <a:lnTo>
                    <a:pt x="776" y="128"/>
                  </a:lnTo>
                  <a:lnTo>
                    <a:pt x="734" y="110"/>
                  </a:lnTo>
                  <a:lnTo>
                    <a:pt x="725" y="93"/>
                  </a:lnTo>
                  <a:lnTo>
                    <a:pt x="719" y="73"/>
                  </a:lnTo>
                  <a:lnTo>
                    <a:pt x="709" y="57"/>
                  </a:lnTo>
                  <a:lnTo>
                    <a:pt x="676" y="43"/>
                  </a:lnTo>
                  <a:lnTo>
                    <a:pt x="640" y="34"/>
                  </a:lnTo>
                  <a:lnTo>
                    <a:pt x="603" y="28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67320" y="1393920"/>
              <a:ext cx="4658040" cy="2838960"/>
            </a:xfrm>
            <a:custGeom>
              <a:avLst/>
              <a:gdLst/>
              <a:ahLst/>
              <a:rect l="l" t="t" r="r" b="b"/>
              <a:pathLst>
                <a:path w="3079" h="1947">
                  <a:moveTo>
                    <a:pt x="734" y="292"/>
                  </a:moveTo>
                  <a:lnTo>
                    <a:pt x="722" y="289"/>
                  </a:lnTo>
                  <a:lnTo>
                    <a:pt x="712" y="294"/>
                  </a:lnTo>
                  <a:lnTo>
                    <a:pt x="701" y="295"/>
                  </a:lnTo>
                  <a:lnTo>
                    <a:pt x="695" y="292"/>
                  </a:lnTo>
                  <a:lnTo>
                    <a:pt x="689" y="293"/>
                  </a:lnTo>
                  <a:lnTo>
                    <a:pt x="683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7" y="299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09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8" y="332"/>
                  </a:lnTo>
                  <a:lnTo>
                    <a:pt x="628" y="334"/>
                  </a:lnTo>
                  <a:lnTo>
                    <a:pt x="623" y="335"/>
                  </a:lnTo>
                  <a:lnTo>
                    <a:pt x="617" y="338"/>
                  </a:lnTo>
                  <a:lnTo>
                    <a:pt x="615" y="342"/>
                  </a:lnTo>
                  <a:lnTo>
                    <a:pt x="614" y="355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2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4"/>
                  </a:lnTo>
                  <a:lnTo>
                    <a:pt x="556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3" y="417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7"/>
                  </a:lnTo>
                  <a:lnTo>
                    <a:pt x="463" y="520"/>
                  </a:lnTo>
                  <a:lnTo>
                    <a:pt x="467" y="525"/>
                  </a:lnTo>
                  <a:lnTo>
                    <a:pt x="471" y="532"/>
                  </a:lnTo>
                  <a:lnTo>
                    <a:pt x="473" y="535"/>
                  </a:lnTo>
                  <a:lnTo>
                    <a:pt x="472" y="540"/>
                  </a:lnTo>
                  <a:lnTo>
                    <a:pt x="469" y="542"/>
                  </a:lnTo>
                  <a:lnTo>
                    <a:pt x="451" y="542"/>
                  </a:lnTo>
                  <a:lnTo>
                    <a:pt x="434" y="538"/>
                  </a:lnTo>
                  <a:lnTo>
                    <a:pt x="418" y="530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3" y="538"/>
                  </a:lnTo>
                  <a:lnTo>
                    <a:pt x="354" y="540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1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1"/>
                  </a:lnTo>
                  <a:lnTo>
                    <a:pt x="360" y="627"/>
                  </a:lnTo>
                  <a:lnTo>
                    <a:pt x="360" y="632"/>
                  </a:lnTo>
                  <a:lnTo>
                    <a:pt x="369" y="642"/>
                  </a:lnTo>
                  <a:lnTo>
                    <a:pt x="377" y="651"/>
                  </a:lnTo>
                  <a:lnTo>
                    <a:pt x="378" y="662"/>
                  </a:lnTo>
                  <a:lnTo>
                    <a:pt x="368" y="672"/>
                  </a:lnTo>
                  <a:lnTo>
                    <a:pt x="355" y="678"/>
                  </a:lnTo>
                  <a:lnTo>
                    <a:pt x="348" y="689"/>
                  </a:lnTo>
                  <a:lnTo>
                    <a:pt x="351" y="698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5"/>
                  </a:lnTo>
                  <a:lnTo>
                    <a:pt x="348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3" y="772"/>
                  </a:lnTo>
                  <a:lnTo>
                    <a:pt x="230" y="781"/>
                  </a:lnTo>
                  <a:lnTo>
                    <a:pt x="206" y="784"/>
                  </a:lnTo>
                  <a:lnTo>
                    <a:pt x="183" y="787"/>
                  </a:lnTo>
                  <a:lnTo>
                    <a:pt x="168" y="798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8"/>
                  </a:lnTo>
                  <a:lnTo>
                    <a:pt x="127" y="829"/>
                  </a:lnTo>
                  <a:lnTo>
                    <a:pt x="119" y="831"/>
                  </a:lnTo>
                  <a:lnTo>
                    <a:pt x="118" y="828"/>
                  </a:lnTo>
                  <a:lnTo>
                    <a:pt x="115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2"/>
                  </a:lnTo>
                  <a:lnTo>
                    <a:pt x="76" y="825"/>
                  </a:lnTo>
                  <a:lnTo>
                    <a:pt x="69" y="827"/>
                  </a:lnTo>
                  <a:lnTo>
                    <a:pt x="64" y="832"/>
                  </a:lnTo>
                  <a:lnTo>
                    <a:pt x="60" y="838"/>
                  </a:lnTo>
                  <a:lnTo>
                    <a:pt x="53" y="841"/>
                  </a:lnTo>
                  <a:lnTo>
                    <a:pt x="48" y="839"/>
                  </a:lnTo>
                  <a:lnTo>
                    <a:pt x="44" y="839"/>
                  </a:lnTo>
                  <a:lnTo>
                    <a:pt x="35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3"/>
                  </a:lnTo>
                  <a:lnTo>
                    <a:pt x="14" y="913"/>
                  </a:lnTo>
                  <a:lnTo>
                    <a:pt x="22" y="933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0"/>
                  </a:lnTo>
                  <a:lnTo>
                    <a:pt x="71" y="947"/>
                  </a:lnTo>
                  <a:lnTo>
                    <a:pt x="73" y="951"/>
                  </a:lnTo>
                  <a:lnTo>
                    <a:pt x="73" y="955"/>
                  </a:lnTo>
                  <a:lnTo>
                    <a:pt x="71" y="960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2"/>
                  </a:lnTo>
                  <a:lnTo>
                    <a:pt x="80" y="996"/>
                  </a:lnTo>
                  <a:lnTo>
                    <a:pt x="80" y="1001"/>
                  </a:lnTo>
                  <a:lnTo>
                    <a:pt x="82" y="1006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8"/>
                  </a:lnTo>
                  <a:lnTo>
                    <a:pt x="0" y="1036"/>
                  </a:lnTo>
                  <a:lnTo>
                    <a:pt x="2" y="1038"/>
                  </a:lnTo>
                  <a:lnTo>
                    <a:pt x="8" y="1040"/>
                  </a:lnTo>
                  <a:lnTo>
                    <a:pt x="18" y="1036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3"/>
                  </a:lnTo>
                  <a:lnTo>
                    <a:pt x="68" y="1025"/>
                  </a:lnTo>
                  <a:lnTo>
                    <a:pt x="82" y="1027"/>
                  </a:lnTo>
                  <a:lnTo>
                    <a:pt x="91" y="1029"/>
                  </a:lnTo>
                  <a:lnTo>
                    <a:pt x="96" y="1028"/>
                  </a:lnTo>
                  <a:lnTo>
                    <a:pt x="104" y="1029"/>
                  </a:lnTo>
                  <a:lnTo>
                    <a:pt x="115" y="1034"/>
                  </a:lnTo>
                  <a:lnTo>
                    <a:pt x="124" y="1043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6"/>
                  </a:lnTo>
                  <a:lnTo>
                    <a:pt x="134" y="1072"/>
                  </a:lnTo>
                  <a:lnTo>
                    <a:pt x="132" y="1078"/>
                  </a:lnTo>
                  <a:lnTo>
                    <a:pt x="131" y="1083"/>
                  </a:lnTo>
                  <a:lnTo>
                    <a:pt x="135" y="1088"/>
                  </a:lnTo>
                  <a:lnTo>
                    <a:pt x="141" y="1092"/>
                  </a:lnTo>
                  <a:lnTo>
                    <a:pt x="146" y="1093"/>
                  </a:lnTo>
                  <a:lnTo>
                    <a:pt x="152" y="1093"/>
                  </a:lnTo>
                  <a:lnTo>
                    <a:pt x="158" y="1092"/>
                  </a:lnTo>
                  <a:lnTo>
                    <a:pt x="162" y="1093"/>
                  </a:lnTo>
                  <a:lnTo>
                    <a:pt x="168" y="1096"/>
                  </a:lnTo>
                  <a:lnTo>
                    <a:pt x="186" y="1103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0" y="1117"/>
                  </a:lnTo>
                  <a:lnTo>
                    <a:pt x="224" y="1117"/>
                  </a:lnTo>
                  <a:lnTo>
                    <a:pt x="228" y="1115"/>
                  </a:lnTo>
                  <a:lnTo>
                    <a:pt x="236" y="1107"/>
                  </a:lnTo>
                  <a:lnTo>
                    <a:pt x="257" y="1094"/>
                  </a:lnTo>
                  <a:lnTo>
                    <a:pt x="288" y="1088"/>
                  </a:lnTo>
                  <a:lnTo>
                    <a:pt x="292" y="1088"/>
                  </a:lnTo>
                  <a:lnTo>
                    <a:pt x="301" y="1089"/>
                  </a:lnTo>
                  <a:lnTo>
                    <a:pt x="310" y="1092"/>
                  </a:lnTo>
                  <a:lnTo>
                    <a:pt x="320" y="1097"/>
                  </a:lnTo>
                  <a:lnTo>
                    <a:pt x="341" y="1108"/>
                  </a:lnTo>
                  <a:lnTo>
                    <a:pt x="354" y="1115"/>
                  </a:lnTo>
                  <a:lnTo>
                    <a:pt x="357" y="1118"/>
                  </a:lnTo>
                  <a:lnTo>
                    <a:pt x="358" y="1122"/>
                  </a:lnTo>
                  <a:lnTo>
                    <a:pt x="357" y="1129"/>
                  </a:lnTo>
                  <a:lnTo>
                    <a:pt x="349" y="1143"/>
                  </a:lnTo>
                  <a:lnTo>
                    <a:pt x="338" y="1159"/>
                  </a:lnTo>
                  <a:lnTo>
                    <a:pt x="329" y="1171"/>
                  </a:lnTo>
                  <a:lnTo>
                    <a:pt x="326" y="1175"/>
                  </a:lnTo>
                  <a:lnTo>
                    <a:pt x="318" y="1184"/>
                  </a:lnTo>
                  <a:lnTo>
                    <a:pt x="302" y="1194"/>
                  </a:lnTo>
                  <a:lnTo>
                    <a:pt x="279" y="1192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3"/>
                  </a:lnTo>
                  <a:lnTo>
                    <a:pt x="280" y="1226"/>
                  </a:lnTo>
                  <a:lnTo>
                    <a:pt x="292" y="1237"/>
                  </a:lnTo>
                  <a:lnTo>
                    <a:pt x="306" y="1246"/>
                  </a:lnTo>
                  <a:lnTo>
                    <a:pt x="312" y="1258"/>
                  </a:lnTo>
                  <a:lnTo>
                    <a:pt x="304" y="1273"/>
                  </a:lnTo>
                  <a:lnTo>
                    <a:pt x="296" y="1289"/>
                  </a:lnTo>
                  <a:lnTo>
                    <a:pt x="294" y="1292"/>
                  </a:lnTo>
                  <a:lnTo>
                    <a:pt x="289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4"/>
                  </a:lnTo>
                  <a:lnTo>
                    <a:pt x="270" y="1280"/>
                  </a:lnTo>
                  <a:lnTo>
                    <a:pt x="264" y="1279"/>
                  </a:lnTo>
                  <a:lnTo>
                    <a:pt x="258" y="1282"/>
                  </a:lnTo>
                  <a:lnTo>
                    <a:pt x="256" y="1285"/>
                  </a:lnTo>
                  <a:lnTo>
                    <a:pt x="266" y="1304"/>
                  </a:lnTo>
                  <a:lnTo>
                    <a:pt x="270" y="1323"/>
                  </a:lnTo>
                  <a:lnTo>
                    <a:pt x="264" y="1343"/>
                  </a:lnTo>
                  <a:lnTo>
                    <a:pt x="271" y="1343"/>
                  </a:lnTo>
                  <a:lnTo>
                    <a:pt x="278" y="1345"/>
                  </a:lnTo>
                  <a:lnTo>
                    <a:pt x="285" y="1344"/>
                  </a:lnTo>
                  <a:lnTo>
                    <a:pt x="292" y="1345"/>
                  </a:lnTo>
                  <a:lnTo>
                    <a:pt x="297" y="1354"/>
                  </a:lnTo>
                  <a:lnTo>
                    <a:pt x="301" y="1360"/>
                  </a:lnTo>
                  <a:lnTo>
                    <a:pt x="325" y="1372"/>
                  </a:lnTo>
                  <a:lnTo>
                    <a:pt x="347" y="1384"/>
                  </a:lnTo>
                  <a:lnTo>
                    <a:pt x="367" y="1400"/>
                  </a:lnTo>
                  <a:lnTo>
                    <a:pt x="373" y="1404"/>
                  </a:lnTo>
                  <a:lnTo>
                    <a:pt x="377" y="1407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4"/>
                  </a:lnTo>
                  <a:lnTo>
                    <a:pt x="398" y="1411"/>
                  </a:lnTo>
                  <a:lnTo>
                    <a:pt x="400" y="1408"/>
                  </a:lnTo>
                  <a:lnTo>
                    <a:pt x="404" y="1406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399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8"/>
                  </a:lnTo>
                  <a:lnTo>
                    <a:pt x="467" y="1427"/>
                  </a:lnTo>
                  <a:lnTo>
                    <a:pt x="480" y="1433"/>
                  </a:lnTo>
                  <a:lnTo>
                    <a:pt x="491" y="1440"/>
                  </a:lnTo>
                  <a:lnTo>
                    <a:pt x="500" y="1450"/>
                  </a:lnTo>
                  <a:lnTo>
                    <a:pt x="506" y="1460"/>
                  </a:lnTo>
                  <a:lnTo>
                    <a:pt x="513" y="1470"/>
                  </a:lnTo>
                  <a:lnTo>
                    <a:pt x="521" y="1472"/>
                  </a:lnTo>
                  <a:lnTo>
                    <a:pt x="526" y="1465"/>
                  </a:lnTo>
                  <a:lnTo>
                    <a:pt x="530" y="1458"/>
                  </a:lnTo>
                  <a:lnTo>
                    <a:pt x="536" y="1460"/>
                  </a:lnTo>
                  <a:lnTo>
                    <a:pt x="540" y="1467"/>
                  </a:lnTo>
                  <a:lnTo>
                    <a:pt x="542" y="1476"/>
                  </a:lnTo>
                  <a:lnTo>
                    <a:pt x="545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4"/>
                  </a:lnTo>
                  <a:lnTo>
                    <a:pt x="573" y="1496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8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2"/>
                  </a:lnTo>
                  <a:lnTo>
                    <a:pt x="603" y="1512"/>
                  </a:lnTo>
                  <a:lnTo>
                    <a:pt x="607" y="1511"/>
                  </a:lnTo>
                  <a:lnTo>
                    <a:pt x="614" y="1512"/>
                  </a:lnTo>
                  <a:lnTo>
                    <a:pt x="621" y="1516"/>
                  </a:lnTo>
                  <a:lnTo>
                    <a:pt x="628" y="1516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6"/>
                  </a:lnTo>
                  <a:lnTo>
                    <a:pt x="644" y="1525"/>
                  </a:lnTo>
                  <a:lnTo>
                    <a:pt x="652" y="1528"/>
                  </a:lnTo>
                  <a:lnTo>
                    <a:pt x="659" y="1527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3"/>
                  </a:lnTo>
                  <a:lnTo>
                    <a:pt x="684" y="1528"/>
                  </a:lnTo>
                  <a:lnTo>
                    <a:pt x="694" y="1533"/>
                  </a:lnTo>
                  <a:lnTo>
                    <a:pt x="709" y="1538"/>
                  </a:lnTo>
                  <a:lnTo>
                    <a:pt x="723" y="1537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2"/>
                  </a:lnTo>
                  <a:lnTo>
                    <a:pt x="757" y="1531"/>
                  </a:lnTo>
                  <a:lnTo>
                    <a:pt x="763" y="1528"/>
                  </a:lnTo>
                  <a:lnTo>
                    <a:pt x="768" y="1527"/>
                  </a:lnTo>
                  <a:lnTo>
                    <a:pt x="773" y="1527"/>
                  </a:lnTo>
                  <a:lnTo>
                    <a:pt x="775" y="1530"/>
                  </a:lnTo>
                  <a:lnTo>
                    <a:pt x="775" y="1540"/>
                  </a:lnTo>
                  <a:lnTo>
                    <a:pt x="777" y="1548"/>
                  </a:lnTo>
                  <a:lnTo>
                    <a:pt x="781" y="1556"/>
                  </a:lnTo>
                  <a:lnTo>
                    <a:pt x="781" y="1558"/>
                  </a:lnTo>
                  <a:lnTo>
                    <a:pt x="786" y="1553"/>
                  </a:lnTo>
                  <a:lnTo>
                    <a:pt x="793" y="1547"/>
                  </a:lnTo>
                  <a:lnTo>
                    <a:pt x="793" y="1538"/>
                  </a:lnTo>
                  <a:lnTo>
                    <a:pt x="796" y="1538"/>
                  </a:lnTo>
                  <a:lnTo>
                    <a:pt x="798" y="1537"/>
                  </a:lnTo>
                  <a:lnTo>
                    <a:pt x="800" y="1536"/>
                  </a:lnTo>
                  <a:lnTo>
                    <a:pt x="804" y="1532"/>
                  </a:lnTo>
                  <a:lnTo>
                    <a:pt x="806" y="1527"/>
                  </a:lnTo>
                  <a:lnTo>
                    <a:pt x="810" y="1524"/>
                  </a:lnTo>
                  <a:lnTo>
                    <a:pt x="817" y="1518"/>
                  </a:lnTo>
                  <a:lnTo>
                    <a:pt x="825" y="1513"/>
                  </a:lnTo>
                  <a:lnTo>
                    <a:pt x="833" y="1510"/>
                  </a:lnTo>
                  <a:lnTo>
                    <a:pt x="835" y="1512"/>
                  </a:lnTo>
                  <a:lnTo>
                    <a:pt x="837" y="1512"/>
                  </a:lnTo>
                  <a:lnTo>
                    <a:pt x="838" y="1515"/>
                  </a:lnTo>
                  <a:lnTo>
                    <a:pt x="842" y="1515"/>
                  </a:lnTo>
                  <a:lnTo>
                    <a:pt x="846" y="1514"/>
                  </a:lnTo>
                  <a:lnTo>
                    <a:pt x="848" y="1514"/>
                  </a:lnTo>
                  <a:lnTo>
                    <a:pt x="852" y="1518"/>
                  </a:lnTo>
                  <a:lnTo>
                    <a:pt x="855" y="1521"/>
                  </a:lnTo>
                  <a:lnTo>
                    <a:pt x="859" y="1523"/>
                  </a:lnTo>
                  <a:lnTo>
                    <a:pt x="867" y="1524"/>
                  </a:lnTo>
                  <a:lnTo>
                    <a:pt x="875" y="1526"/>
                  </a:lnTo>
                  <a:lnTo>
                    <a:pt x="883" y="1527"/>
                  </a:lnTo>
                  <a:lnTo>
                    <a:pt x="890" y="1527"/>
                  </a:lnTo>
                  <a:lnTo>
                    <a:pt x="898" y="1525"/>
                  </a:lnTo>
                  <a:lnTo>
                    <a:pt x="903" y="1525"/>
                  </a:lnTo>
                  <a:lnTo>
                    <a:pt x="910" y="1532"/>
                  </a:lnTo>
                  <a:lnTo>
                    <a:pt x="916" y="1540"/>
                  </a:lnTo>
                  <a:lnTo>
                    <a:pt x="922" y="1550"/>
                  </a:lnTo>
                  <a:lnTo>
                    <a:pt x="933" y="1544"/>
                  </a:lnTo>
                  <a:lnTo>
                    <a:pt x="946" y="1542"/>
                  </a:lnTo>
                  <a:lnTo>
                    <a:pt x="957" y="1539"/>
                  </a:lnTo>
                  <a:lnTo>
                    <a:pt x="970" y="1537"/>
                  </a:lnTo>
                  <a:lnTo>
                    <a:pt x="971" y="1524"/>
                  </a:lnTo>
                  <a:lnTo>
                    <a:pt x="983" y="1519"/>
                  </a:lnTo>
                  <a:lnTo>
                    <a:pt x="992" y="1510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7" y="1492"/>
                  </a:lnTo>
                  <a:lnTo>
                    <a:pt x="1017" y="1491"/>
                  </a:lnTo>
                  <a:lnTo>
                    <a:pt x="1027" y="1491"/>
                  </a:lnTo>
                  <a:lnTo>
                    <a:pt x="1036" y="1490"/>
                  </a:lnTo>
                  <a:lnTo>
                    <a:pt x="1049" y="1478"/>
                  </a:lnTo>
                  <a:lnTo>
                    <a:pt x="1061" y="1465"/>
                  </a:lnTo>
                  <a:lnTo>
                    <a:pt x="1075" y="1461"/>
                  </a:lnTo>
                  <a:lnTo>
                    <a:pt x="1083" y="1464"/>
                  </a:lnTo>
                  <a:lnTo>
                    <a:pt x="1093" y="1469"/>
                  </a:lnTo>
                  <a:lnTo>
                    <a:pt x="1102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7"/>
                  </a:lnTo>
                  <a:lnTo>
                    <a:pt x="1119" y="1470"/>
                  </a:lnTo>
                  <a:lnTo>
                    <a:pt x="1131" y="1460"/>
                  </a:lnTo>
                  <a:lnTo>
                    <a:pt x="1145" y="1459"/>
                  </a:lnTo>
                  <a:lnTo>
                    <a:pt x="1150" y="1467"/>
                  </a:lnTo>
                  <a:lnTo>
                    <a:pt x="1149" y="1477"/>
                  </a:lnTo>
                  <a:lnTo>
                    <a:pt x="1145" y="1487"/>
                  </a:lnTo>
                  <a:lnTo>
                    <a:pt x="1152" y="1483"/>
                  </a:lnTo>
                  <a:lnTo>
                    <a:pt x="1158" y="1480"/>
                  </a:lnTo>
                  <a:lnTo>
                    <a:pt x="1165" y="1477"/>
                  </a:lnTo>
                  <a:lnTo>
                    <a:pt x="1168" y="1482"/>
                  </a:lnTo>
                  <a:lnTo>
                    <a:pt x="1172" y="1486"/>
                  </a:lnTo>
                  <a:lnTo>
                    <a:pt x="1171" y="1491"/>
                  </a:lnTo>
                  <a:lnTo>
                    <a:pt x="1165" y="1497"/>
                  </a:lnTo>
                  <a:lnTo>
                    <a:pt x="1157" y="1501"/>
                  </a:lnTo>
                  <a:lnTo>
                    <a:pt x="1149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2" y="1510"/>
                  </a:lnTo>
                  <a:lnTo>
                    <a:pt x="1164" y="1510"/>
                  </a:lnTo>
                  <a:lnTo>
                    <a:pt x="1175" y="1510"/>
                  </a:lnTo>
                  <a:lnTo>
                    <a:pt x="1185" y="1514"/>
                  </a:lnTo>
                  <a:lnTo>
                    <a:pt x="1187" y="1509"/>
                  </a:lnTo>
                  <a:lnTo>
                    <a:pt x="1191" y="1510"/>
                  </a:lnTo>
                  <a:lnTo>
                    <a:pt x="1195" y="1511"/>
                  </a:lnTo>
                  <a:lnTo>
                    <a:pt x="1201" y="1515"/>
                  </a:lnTo>
                  <a:lnTo>
                    <a:pt x="1205" y="1517"/>
                  </a:lnTo>
                  <a:lnTo>
                    <a:pt x="1211" y="1516"/>
                  </a:lnTo>
                  <a:lnTo>
                    <a:pt x="1212" y="1513"/>
                  </a:lnTo>
                  <a:lnTo>
                    <a:pt x="1211" y="1511"/>
                  </a:lnTo>
                  <a:lnTo>
                    <a:pt x="1209" y="1508"/>
                  </a:lnTo>
                  <a:lnTo>
                    <a:pt x="1208" y="1504"/>
                  </a:lnTo>
                  <a:lnTo>
                    <a:pt x="1208" y="1501"/>
                  </a:lnTo>
                  <a:lnTo>
                    <a:pt x="1212" y="1501"/>
                  </a:lnTo>
                  <a:lnTo>
                    <a:pt x="1216" y="1500"/>
                  </a:lnTo>
                  <a:lnTo>
                    <a:pt x="1219" y="1501"/>
                  </a:lnTo>
                  <a:lnTo>
                    <a:pt x="1231" y="1509"/>
                  </a:lnTo>
                  <a:lnTo>
                    <a:pt x="1241" y="1519"/>
                  </a:lnTo>
                  <a:lnTo>
                    <a:pt x="1247" y="1531"/>
                  </a:lnTo>
                  <a:lnTo>
                    <a:pt x="1247" y="1539"/>
                  </a:lnTo>
                  <a:lnTo>
                    <a:pt x="1248" y="1547"/>
                  </a:lnTo>
                  <a:lnTo>
                    <a:pt x="1252" y="1552"/>
                  </a:lnTo>
                  <a:lnTo>
                    <a:pt x="1256" y="1552"/>
                  </a:lnTo>
                  <a:lnTo>
                    <a:pt x="1262" y="1550"/>
                  </a:lnTo>
                  <a:lnTo>
                    <a:pt x="1268" y="1551"/>
                  </a:lnTo>
                  <a:lnTo>
                    <a:pt x="1273" y="1557"/>
                  </a:lnTo>
                  <a:lnTo>
                    <a:pt x="1275" y="1565"/>
                  </a:lnTo>
                  <a:lnTo>
                    <a:pt x="1273" y="1574"/>
                  </a:lnTo>
                  <a:lnTo>
                    <a:pt x="1273" y="1586"/>
                  </a:lnTo>
                  <a:lnTo>
                    <a:pt x="1280" y="1597"/>
                  </a:lnTo>
                  <a:lnTo>
                    <a:pt x="1280" y="1611"/>
                  </a:lnTo>
                  <a:lnTo>
                    <a:pt x="1274" y="1621"/>
                  </a:lnTo>
                  <a:lnTo>
                    <a:pt x="1268" y="1632"/>
                  </a:lnTo>
                  <a:lnTo>
                    <a:pt x="1272" y="1643"/>
                  </a:lnTo>
                  <a:lnTo>
                    <a:pt x="1264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1" y="1671"/>
                  </a:lnTo>
                  <a:lnTo>
                    <a:pt x="1241" y="1679"/>
                  </a:lnTo>
                  <a:lnTo>
                    <a:pt x="1230" y="1684"/>
                  </a:lnTo>
                  <a:lnTo>
                    <a:pt x="1223" y="1692"/>
                  </a:lnTo>
                  <a:lnTo>
                    <a:pt x="1220" y="1701"/>
                  </a:lnTo>
                  <a:lnTo>
                    <a:pt x="1212" y="1709"/>
                  </a:lnTo>
                  <a:lnTo>
                    <a:pt x="1221" y="1724"/>
                  </a:lnTo>
                  <a:lnTo>
                    <a:pt x="1224" y="1740"/>
                  </a:lnTo>
                  <a:lnTo>
                    <a:pt x="1216" y="1755"/>
                  </a:lnTo>
                  <a:lnTo>
                    <a:pt x="1227" y="1749"/>
                  </a:lnTo>
                  <a:lnTo>
                    <a:pt x="1238" y="1743"/>
                  </a:lnTo>
                  <a:lnTo>
                    <a:pt x="1249" y="1738"/>
                  </a:lnTo>
                  <a:lnTo>
                    <a:pt x="1260" y="1734"/>
                  </a:lnTo>
                  <a:lnTo>
                    <a:pt x="1273" y="1734"/>
                  </a:lnTo>
                  <a:lnTo>
                    <a:pt x="1285" y="1739"/>
                  </a:lnTo>
                  <a:lnTo>
                    <a:pt x="1278" y="1748"/>
                  </a:lnTo>
                  <a:lnTo>
                    <a:pt x="1279" y="1761"/>
                  </a:lnTo>
                  <a:lnTo>
                    <a:pt x="1284" y="1772"/>
                  </a:lnTo>
                  <a:lnTo>
                    <a:pt x="1285" y="1777"/>
                  </a:lnTo>
                  <a:lnTo>
                    <a:pt x="1283" y="1783"/>
                  </a:lnTo>
                  <a:lnTo>
                    <a:pt x="1282" y="1788"/>
                  </a:lnTo>
                  <a:lnTo>
                    <a:pt x="1290" y="1793"/>
                  </a:lnTo>
                  <a:lnTo>
                    <a:pt x="1301" y="1791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1" y="1826"/>
                  </a:lnTo>
                  <a:lnTo>
                    <a:pt x="1303" y="1843"/>
                  </a:lnTo>
                  <a:lnTo>
                    <a:pt x="1313" y="1848"/>
                  </a:lnTo>
                  <a:lnTo>
                    <a:pt x="1325" y="1847"/>
                  </a:lnTo>
                  <a:lnTo>
                    <a:pt x="1336" y="1852"/>
                  </a:lnTo>
                  <a:lnTo>
                    <a:pt x="1337" y="1858"/>
                  </a:lnTo>
                  <a:lnTo>
                    <a:pt x="1335" y="1864"/>
                  </a:lnTo>
                  <a:lnTo>
                    <a:pt x="1331" y="1870"/>
                  </a:lnTo>
                  <a:lnTo>
                    <a:pt x="1335" y="1871"/>
                  </a:lnTo>
                  <a:lnTo>
                    <a:pt x="1339" y="1873"/>
                  </a:lnTo>
                  <a:lnTo>
                    <a:pt x="1344" y="1875"/>
                  </a:lnTo>
                  <a:lnTo>
                    <a:pt x="1344" y="1878"/>
                  </a:lnTo>
                  <a:lnTo>
                    <a:pt x="1341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4"/>
                  </a:lnTo>
                  <a:lnTo>
                    <a:pt x="1397" y="1870"/>
                  </a:lnTo>
                  <a:lnTo>
                    <a:pt x="1396" y="1873"/>
                  </a:lnTo>
                  <a:lnTo>
                    <a:pt x="1395" y="1875"/>
                  </a:lnTo>
                  <a:lnTo>
                    <a:pt x="1394" y="1876"/>
                  </a:lnTo>
                  <a:lnTo>
                    <a:pt x="1393" y="1881"/>
                  </a:lnTo>
                  <a:lnTo>
                    <a:pt x="1397" y="1885"/>
                  </a:lnTo>
                  <a:lnTo>
                    <a:pt x="1406" y="1892"/>
                  </a:lnTo>
                  <a:lnTo>
                    <a:pt x="1413" y="1896"/>
                  </a:lnTo>
                  <a:lnTo>
                    <a:pt x="1417" y="1897"/>
                  </a:lnTo>
                  <a:lnTo>
                    <a:pt x="1422" y="1897"/>
                  </a:lnTo>
                  <a:lnTo>
                    <a:pt x="1429" y="1894"/>
                  </a:lnTo>
                  <a:lnTo>
                    <a:pt x="1431" y="1886"/>
                  </a:lnTo>
                  <a:lnTo>
                    <a:pt x="1430" y="1878"/>
                  </a:lnTo>
                  <a:lnTo>
                    <a:pt x="1429" y="1873"/>
                  </a:lnTo>
                  <a:lnTo>
                    <a:pt x="1426" y="1870"/>
                  </a:lnTo>
                  <a:lnTo>
                    <a:pt x="1421" y="1863"/>
                  </a:lnTo>
                  <a:lnTo>
                    <a:pt x="1417" y="1853"/>
                  </a:lnTo>
                  <a:lnTo>
                    <a:pt x="1416" y="1846"/>
                  </a:lnTo>
                  <a:lnTo>
                    <a:pt x="1416" y="1842"/>
                  </a:lnTo>
                  <a:lnTo>
                    <a:pt x="1414" y="1841"/>
                  </a:lnTo>
                  <a:lnTo>
                    <a:pt x="1412" y="1838"/>
                  </a:lnTo>
                  <a:lnTo>
                    <a:pt x="1410" y="1833"/>
                  </a:lnTo>
                  <a:lnTo>
                    <a:pt x="1413" y="1827"/>
                  </a:lnTo>
                  <a:lnTo>
                    <a:pt x="1418" y="1824"/>
                  </a:lnTo>
                  <a:lnTo>
                    <a:pt x="1425" y="1823"/>
                  </a:lnTo>
                  <a:lnTo>
                    <a:pt x="1431" y="1824"/>
                  </a:lnTo>
                  <a:lnTo>
                    <a:pt x="1437" y="1827"/>
                  </a:lnTo>
                  <a:lnTo>
                    <a:pt x="1445" y="1831"/>
                  </a:lnTo>
                  <a:lnTo>
                    <a:pt x="1451" y="1833"/>
                  </a:lnTo>
                  <a:lnTo>
                    <a:pt x="1452" y="1832"/>
                  </a:lnTo>
                  <a:lnTo>
                    <a:pt x="1453" y="1829"/>
                  </a:lnTo>
                  <a:lnTo>
                    <a:pt x="1453" y="1828"/>
                  </a:lnTo>
                  <a:lnTo>
                    <a:pt x="1455" y="1820"/>
                  </a:lnTo>
                  <a:lnTo>
                    <a:pt x="1456" y="1816"/>
                  </a:lnTo>
                  <a:lnTo>
                    <a:pt x="1459" y="1809"/>
                  </a:lnTo>
                  <a:lnTo>
                    <a:pt x="1462" y="1808"/>
                  </a:lnTo>
                  <a:lnTo>
                    <a:pt x="1465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3" y="1822"/>
                  </a:lnTo>
                  <a:lnTo>
                    <a:pt x="1491" y="1823"/>
                  </a:lnTo>
                  <a:lnTo>
                    <a:pt x="1496" y="1818"/>
                  </a:lnTo>
                  <a:lnTo>
                    <a:pt x="1500" y="1811"/>
                  </a:lnTo>
                  <a:lnTo>
                    <a:pt x="1505" y="1806"/>
                  </a:lnTo>
                  <a:lnTo>
                    <a:pt x="1517" y="1806"/>
                  </a:lnTo>
                  <a:lnTo>
                    <a:pt x="1526" y="1811"/>
                  </a:lnTo>
                  <a:lnTo>
                    <a:pt x="1531" y="1821"/>
                  </a:lnTo>
                  <a:lnTo>
                    <a:pt x="1539" y="1818"/>
                  </a:lnTo>
                  <a:lnTo>
                    <a:pt x="1546" y="1815"/>
                  </a:lnTo>
                  <a:lnTo>
                    <a:pt x="1551" y="1808"/>
                  </a:lnTo>
                  <a:lnTo>
                    <a:pt x="1553" y="1810"/>
                  </a:lnTo>
                  <a:lnTo>
                    <a:pt x="1554" y="1812"/>
                  </a:lnTo>
                  <a:lnTo>
                    <a:pt x="1554" y="1815"/>
                  </a:lnTo>
                  <a:lnTo>
                    <a:pt x="1557" y="1815"/>
                  </a:lnTo>
                  <a:lnTo>
                    <a:pt x="1559" y="1815"/>
                  </a:lnTo>
                  <a:lnTo>
                    <a:pt x="1561" y="1814"/>
                  </a:lnTo>
                  <a:lnTo>
                    <a:pt x="1561" y="1813"/>
                  </a:lnTo>
                  <a:lnTo>
                    <a:pt x="1561" y="1810"/>
                  </a:lnTo>
                  <a:lnTo>
                    <a:pt x="1562" y="1809"/>
                  </a:lnTo>
                  <a:lnTo>
                    <a:pt x="1568" y="1806"/>
                  </a:lnTo>
                  <a:lnTo>
                    <a:pt x="1574" y="1807"/>
                  </a:lnTo>
                  <a:lnTo>
                    <a:pt x="1581" y="1808"/>
                  </a:lnTo>
                  <a:lnTo>
                    <a:pt x="1579" y="1795"/>
                  </a:lnTo>
                  <a:lnTo>
                    <a:pt x="1582" y="1784"/>
                  </a:lnTo>
                  <a:lnTo>
                    <a:pt x="1592" y="1777"/>
                  </a:lnTo>
                  <a:lnTo>
                    <a:pt x="1603" y="1776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0" y="1798"/>
                  </a:lnTo>
                  <a:lnTo>
                    <a:pt x="1641" y="1798"/>
                  </a:lnTo>
                  <a:lnTo>
                    <a:pt x="1654" y="1801"/>
                  </a:lnTo>
                  <a:lnTo>
                    <a:pt x="1661" y="1801"/>
                  </a:lnTo>
                  <a:lnTo>
                    <a:pt x="1669" y="1798"/>
                  </a:lnTo>
                  <a:lnTo>
                    <a:pt x="1675" y="1799"/>
                  </a:lnTo>
                  <a:lnTo>
                    <a:pt x="1679" y="1801"/>
                  </a:lnTo>
                  <a:lnTo>
                    <a:pt x="1683" y="1803"/>
                  </a:lnTo>
                  <a:lnTo>
                    <a:pt x="1683" y="1808"/>
                  </a:lnTo>
                  <a:lnTo>
                    <a:pt x="1678" y="1819"/>
                  </a:lnTo>
                  <a:lnTo>
                    <a:pt x="1675" y="1831"/>
                  </a:lnTo>
                  <a:lnTo>
                    <a:pt x="1670" y="1841"/>
                  </a:lnTo>
                  <a:lnTo>
                    <a:pt x="1681" y="1845"/>
                  </a:lnTo>
                  <a:lnTo>
                    <a:pt x="1688" y="1853"/>
                  </a:lnTo>
                  <a:lnTo>
                    <a:pt x="1697" y="1860"/>
                  </a:lnTo>
                  <a:lnTo>
                    <a:pt x="1706" y="1863"/>
                  </a:lnTo>
                  <a:lnTo>
                    <a:pt x="1716" y="1864"/>
                  </a:lnTo>
                  <a:lnTo>
                    <a:pt x="1726" y="1865"/>
                  </a:lnTo>
                  <a:lnTo>
                    <a:pt x="1729" y="1866"/>
                  </a:lnTo>
                  <a:lnTo>
                    <a:pt x="1731" y="1868"/>
                  </a:lnTo>
                  <a:lnTo>
                    <a:pt x="1734" y="1870"/>
                  </a:lnTo>
                  <a:lnTo>
                    <a:pt x="1736" y="1874"/>
                  </a:lnTo>
                  <a:lnTo>
                    <a:pt x="1749" y="1876"/>
                  </a:lnTo>
                  <a:lnTo>
                    <a:pt x="1747" y="1879"/>
                  </a:lnTo>
                  <a:lnTo>
                    <a:pt x="1760" y="1881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0"/>
                  </a:lnTo>
                  <a:lnTo>
                    <a:pt x="1819" y="1910"/>
                  </a:lnTo>
                  <a:lnTo>
                    <a:pt x="1821" y="1920"/>
                  </a:lnTo>
                  <a:lnTo>
                    <a:pt x="1831" y="1938"/>
                  </a:lnTo>
                  <a:lnTo>
                    <a:pt x="1849" y="1947"/>
                  </a:lnTo>
                  <a:lnTo>
                    <a:pt x="1869" y="1945"/>
                  </a:lnTo>
                  <a:lnTo>
                    <a:pt x="1870" y="1943"/>
                  </a:lnTo>
                  <a:lnTo>
                    <a:pt x="1867" y="1940"/>
                  </a:lnTo>
                  <a:lnTo>
                    <a:pt x="1869" y="1934"/>
                  </a:lnTo>
                  <a:lnTo>
                    <a:pt x="1859" y="1930"/>
                  </a:lnTo>
                  <a:lnTo>
                    <a:pt x="1850" y="1928"/>
                  </a:lnTo>
                  <a:lnTo>
                    <a:pt x="1848" y="1921"/>
                  </a:lnTo>
                  <a:lnTo>
                    <a:pt x="1854" y="1900"/>
                  </a:lnTo>
                  <a:lnTo>
                    <a:pt x="1865" y="1882"/>
                  </a:lnTo>
                  <a:lnTo>
                    <a:pt x="1878" y="1868"/>
                  </a:lnTo>
                  <a:lnTo>
                    <a:pt x="1901" y="1863"/>
                  </a:lnTo>
                  <a:lnTo>
                    <a:pt x="1926" y="1867"/>
                  </a:lnTo>
                  <a:lnTo>
                    <a:pt x="1950" y="1862"/>
                  </a:lnTo>
                  <a:lnTo>
                    <a:pt x="1960" y="1856"/>
                  </a:lnTo>
                  <a:lnTo>
                    <a:pt x="1971" y="1853"/>
                  </a:lnTo>
                  <a:lnTo>
                    <a:pt x="1981" y="1849"/>
                  </a:lnTo>
                  <a:lnTo>
                    <a:pt x="1991" y="1839"/>
                  </a:lnTo>
                  <a:lnTo>
                    <a:pt x="2000" y="1828"/>
                  </a:lnTo>
                  <a:lnTo>
                    <a:pt x="2014" y="1826"/>
                  </a:lnTo>
                  <a:lnTo>
                    <a:pt x="2016" y="1828"/>
                  </a:lnTo>
                  <a:lnTo>
                    <a:pt x="2019" y="1831"/>
                  </a:lnTo>
                  <a:lnTo>
                    <a:pt x="2021" y="1833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1"/>
                  </a:lnTo>
                  <a:lnTo>
                    <a:pt x="2027" y="1826"/>
                  </a:lnTo>
                  <a:lnTo>
                    <a:pt x="2034" y="1821"/>
                  </a:lnTo>
                  <a:lnTo>
                    <a:pt x="2034" y="1823"/>
                  </a:lnTo>
                  <a:lnTo>
                    <a:pt x="2035" y="1825"/>
                  </a:lnTo>
                  <a:lnTo>
                    <a:pt x="2042" y="1825"/>
                  </a:lnTo>
                  <a:lnTo>
                    <a:pt x="2047" y="1823"/>
                  </a:lnTo>
                  <a:lnTo>
                    <a:pt x="2056" y="1821"/>
                  </a:lnTo>
                  <a:lnTo>
                    <a:pt x="2064" y="1824"/>
                  </a:lnTo>
                  <a:lnTo>
                    <a:pt x="2067" y="1831"/>
                  </a:lnTo>
                  <a:lnTo>
                    <a:pt x="2077" y="1824"/>
                  </a:lnTo>
                  <a:lnTo>
                    <a:pt x="2090" y="1818"/>
                  </a:lnTo>
                  <a:lnTo>
                    <a:pt x="2104" y="1816"/>
                  </a:lnTo>
                  <a:lnTo>
                    <a:pt x="2106" y="1815"/>
                  </a:lnTo>
                  <a:lnTo>
                    <a:pt x="2109" y="1813"/>
                  </a:lnTo>
                  <a:lnTo>
                    <a:pt x="2114" y="1811"/>
                  </a:lnTo>
                  <a:lnTo>
                    <a:pt x="2128" y="1810"/>
                  </a:lnTo>
                  <a:lnTo>
                    <a:pt x="2141" y="1811"/>
                  </a:lnTo>
                  <a:lnTo>
                    <a:pt x="2152" y="1810"/>
                  </a:lnTo>
                  <a:lnTo>
                    <a:pt x="2170" y="1797"/>
                  </a:lnTo>
                  <a:lnTo>
                    <a:pt x="2183" y="1780"/>
                  </a:lnTo>
                  <a:lnTo>
                    <a:pt x="2199" y="1771"/>
                  </a:lnTo>
                  <a:lnTo>
                    <a:pt x="2217" y="1765"/>
                  </a:lnTo>
                  <a:lnTo>
                    <a:pt x="2230" y="1753"/>
                  </a:lnTo>
                  <a:lnTo>
                    <a:pt x="2246" y="1742"/>
                  </a:lnTo>
                  <a:lnTo>
                    <a:pt x="2244" y="1739"/>
                  </a:lnTo>
                  <a:lnTo>
                    <a:pt x="2242" y="1735"/>
                  </a:lnTo>
                  <a:lnTo>
                    <a:pt x="2243" y="1732"/>
                  </a:lnTo>
                  <a:lnTo>
                    <a:pt x="2262" y="1711"/>
                  </a:lnTo>
                  <a:lnTo>
                    <a:pt x="2286" y="1697"/>
                  </a:lnTo>
                  <a:lnTo>
                    <a:pt x="2315" y="1691"/>
                  </a:lnTo>
                  <a:lnTo>
                    <a:pt x="2322" y="1689"/>
                  </a:lnTo>
                  <a:lnTo>
                    <a:pt x="2328" y="1684"/>
                  </a:lnTo>
                  <a:lnTo>
                    <a:pt x="2335" y="1679"/>
                  </a:lnTo>
                  <a:lnTo>
                    <a:pt x="2324" y="1677"/>
                  </a:lnTo>
                  <a:lnTo>
                    <a:pt x="2314" y="1682"/>
                  </a:lnTo>
                  <a:lnTo>
                    <a:pt x="2307" y="1681"/>
                  </a:lnTo>
                  <a:lnTo>
                    <a:pt x="2307" y="1672"/>
                  </a:lnTo>
                  <a:lnTo>
                    <a:pt x="2315" y="1664"/>
                  </a:lnTo>
                  <a:lnTo>
                    <a:pt x="2317" y="1653"/>
                  </a:lnTo>
                  <a:lnTo>
                    <a:pt x="2316" y="1649"/>
                  </a:lnTo>
                  <a:lnTo>
                    <a:pt x="2315" y="1646"/>
                  </a:lnTo>
                  <a:lnTo>
                    <a:pt x="2316" y="1643"/>
                  </a:lnTo>
                  <a:lnTo>
                    <a:pt x="2329" y="1625"/>
                  </a:lnTo>
                  <a:lnTo>
                    <a:pt x="2342" y="1609"/>
                  </a:lnTo>
                  <a:lnTo>
                    <a:pt x="2356" y="1591"/>
                  </a:lnTo>
                  <a:lnTo>
                    <a:pt x="2372" y="1568"/>
                  </a:lnTo>
                  <a:lnTo>
                    <a:pt x="2387" y="1545"/>
                  </a:lnTo>
                  <a:lnTo>
                    <a:pt x="2407" y="1525"/>
                  </a:lnTo>
                  <a:lnTo>
                    <a:pt x="2413" y="1516"/>
                  </a:lnTo>
                  <a:lnTo>
                    <a:pt x="2414" y="1506"/>
                  </a:lnTo>
                  <a:lnTo>
                    <a:pt x="2420" y="1497"/>
                  </a:lnTo>
                  <a:lnTo>
                    <a:pt x="2421" y="1494"/>
                  </a:lnTo>
                  <a:lnTo>
                    <a:pt x="2420" y="1491"/>
                  </a:lnTo>
                  <a:lnTo>
                    <a:pt x="2417" y="1487"/>
                  </a:lnTo>
                  <a:lnTo>
                    <a:pt x="2427" y="1469"/>
                  </a:lnTo>
                  <a:lnTo>
                    <a:pt x="2437" y="1451"/>
                  </a:lnTo>
                  <a:lnTo>
                    <a:pt x="2451" y="1436"/>
                  </a:lnTo>
                  <a:lnTo>
                    <a:pt x="2455" y="1435"/>
                  </a:lnTo>
                  <a:lnTo>
                    <a:pt x="2460" y="1433"/>
                  </a:lnTo>
                  <a:lnTo>
                    <a:pt x="2462" y="1431"/>
                  </a:lnTo>
                  <a:lnTo>
                    <a:pt x="2463" y="1419"/>
                  </a:lnTo>
                  <a:lnTo>
                    <a:pt x="2461" y="1405"/>
                  </a:lnTo>
                  <a:lnTo>
                    <a:pt x="2464" y="1392"/>
                  </a:lnTo>
                  <a:lnTo>
                    <a:pt x="2450" y="1386"/>
                  </a:lnTo>
                  <a:lnTo>
                    <a:pt x="2438" y="1382"/>
                  </a:lnTo>
                  <a:lnTo>
                    <a:pt x="2424" y="1378"/>
                  </a:lnTo>
                  <a:lnTo>
                    <a:pt x="2424" y="1372"/>
                  </a:lnTo>
                  <a:lnTo>
                    <a:pt x="2420" y="1368"/>
                  </a:lnTo>
                  <a:lnTo>
                    <a:pt x="2419" y="1362"/>
                  </a:lnTo>
                  <a:lnTo>
                    <a:pt x="2421" y="1350"/>
                  </a:lnTo>
                  <a:lnTo>
                    <a:pt x="2425" y="1338"/>
                  </a:lnTo>
                  <a:lnTo>
                    <a:pt x="2434" y="1329"/>
                  </a:lnTo>
                  <a:lnTo>
                    <a:pt x="2426" y="1328"/>
                  </a:lnTo>
                  <a:lnTo>
                    <a:pt x="2418" y="1328"/>
                  </a:lnTo>
                  <a:lnTo>
                    <a:pt x="2410" y="1328"/>
                  </a:lnTo>
                  <a:lnTo>
                    <a:pt x="2398" y="1329"/>
                  </a:lnTo>
                  <a:lnTo>
                    <a:pt x="2385" y="1332"/>
                  </a:lnTo>
                  <a:lnTo>
                    <a:pt x="2371" y="1332"/>
                  </a:lnTo>
                  <a:lnTo>
                    <a:pt x="2358" y="1324"/>
                  </a:lnTo>
                  <a:lnTo>
                    <a:pt x="2344" y="1316"/>
                  </a:lnTo>
                  <a:lnTo>
                    <a:pt x="2328" y="1313"/>
                  </a:lnTo>
                  <a:lnTo>
                    <a:pt x="2346" y="1313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8" y="1311"/>
                  </a:lnTo>
                  <a:lnTo>
                    <a:pt x="2395" y="1301"/>
                  </a:lnTo>
                  <a:lnTo>
                    <a:pt x="2405" y="1294"/>
                  </a:lnTo>
                  <a:lnTo>
                    <a:pt x="2412" y="1292"/>
                  </a:lnTo>
                  <a:lnTo>
                    <a:pt x="2417" y="1290"/>
                  </a:lnTo>
                  <a:lnTo>
                    <a:pt x="2424" y="1286"/>
                  </a:lnTo>
                  <a:lnTo>
                    <a:pt x="2413" y="1282"/>
                  </a:lnTo>
                  <a:lnTo>
                    <a:pt x="2404" y="1277"/>
                  </a:lnTo>
                  <a:lnTo>
                    <a:pt x="2396" y="1272"/>
                  </a:lnTo>
                  <a:lnTo>
                    <a:pt x="2385" y="1254"/>
                  </a:lnTo>
                  <a:lnTo>
                    <a:pt x="2375" y="1235"/>
                  </a:lnTo>
                  <a:lnTo>
                    <a:pt x="2369" y="1214"/>
                  </a:lnTo>
                  <a:lnTo>
                    <a:pt x="2359" y="1206"/>
                  </a:lnTo>
                  <a:lnTo>
                    <a:pt x="2344" y="1203"/>
                  </a:lnTo>
                  <a:lnTo>
                    <a:pt x="2332" y="1194"/>
                  </a:lnTo>
                  <a:lnTo>
                    <a:pt x="2329" y="1185"/>
                  </a:lnTo>
                  <a:lnTo>
                    <a:pt x="2327" y="1176"/>
                  </a:lnTo>
                  <a:lnTo>
                    <a:pt x="2324" y="1168"/>
                  </a:lnTo>
                  <a:lnTo>
                    <a:pt x="2319" y="1165"/>
                  </a:lnTo>
                  <a:lnTo>
                    <a:pt x="2312" y="1163"/>
                  </a:lnTo>
                  <a:lnTo>
                    <a:pt x="2305" y="1161"/>
                  </a:lnTo>
                  <a:lnTo>
                    <a:pt x="2311" y="1156"/>
                  </a:lnTo>
                  <a:lnTo>
                    <a:pt x="2312" y="1148"/>
                  </a:lnTo>
                  <a:lnTo>
                    <a:pt x="2315" y="1141"/>
                  </a:lnTo>
                  <a:lnTo>
                    <a:pt x="2324" y="1136"/>
                  </a:lnTo>
                  <a:lnTo>
                    <a:pt x="2333" y="1130"/>
                  </a:lnTo>
                  <a:lnTo>
                    <a:pt x="2341" y="1124"/>
                  </a:lnTo>
                  <a:lnTo>
                    <a:pt x="2348" y="1110"/>
                  </a:lnTo>
                  <a:lnTo>
                    <a:pt x="2351" y="1096"/>
                  </a:lnTo>
                  <a:lnTo>
                    <a:pt x="2348" y="1082"/>
                  </a:lnTo>
                  <a:lnTo>
                    <a:pt x="2362" y="1088"/>
                  </a:lnTo>
                  <a:lnTo>
                    <a:pt x="2375" y="1085"/>
                  </a:lnTo>
                  <a:lnTo>
                    <a:pt x="2386" y="1077"/>
                  </a:lnTo>
                  <a:lnTo>
                    <a:pt x="2417" y="1051"/>
                  </a:lnTo>
                  <a:lnTo>
                    <a:pt x="2455" y="1039"/>
                  </a:lnTo>
                  <a:lnTo>
                    <a:pt x="2497" y="1035"/>
                  </a:lnTo>
                  <a:lnTo>
                    <a:pt x="2498" y="1031"/>
                  </a:lnTo>
                  <a:lnTo>
                    <a:pt x="2500" y="1020"/>
                  </a:lnTo>
                  <a:lnTo>
                    <a:pt x="2505" y="1008"/>
                  </a:lnTo>
                  <a:lnTo>
                    <a:pt x="2508" y="1002"/>
                  </a:lnTo>
                  <a:lnTo>
                    <a:pt x="2508" y="995"/>
                  </a:lnTo>
                  <a:lnTo>
                    <a:pt x="2505" y="991"/>
                  </a:lnTo>
                  <a:lnTo>
                    <a:pt x="2482" y="981"/>
                  </a:lnTo>
                  <a:lnTo>
                    <a:pt x="2457" y="979"/>
                  </a:lnTo>
                  <a:lnTo>
                    <a:pt x="2437" y="992"/>
                  </a:lnTo>
                  <a:lnTo>
                    <a:pt x="2410" y="975"/>
                  </a:lnTo>
                  <a:lnTo>
                    <a:pt x="2378" y="970"/>
                  </a:lnTo>
                  <a:lnTo>
                    <a:pt x="2345" y="970"/>
                  </a:lnTo>
                  <a:lnTo>
                    <a:pt x="2345" y="977"/>
                  </a:lnTo>
                  <a:lnTo>
                    <a:pt x="2345" y="985"/>
                  </a:lnTo>
                  <a:lnTo>
                    <a:pt x="2344" y="992"/>
                  </a:lnTo>
                  <a:lnTo>
                    <a:pt x="2334" y="1010"/>
                  </a:lnTo>
                  <a:lnTo>
                    <a:pt x="2317" y="1020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5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8" y="963"/>
                  </a:lnTo>
                  <a:lnTo>
                    <a:pt x="2236" y="959"/>
                  </a:lnTo>
                  <a:lnTo>
                    <a:pt x="2226" y="949"/>
                  </a:lnTo>
                  <a:lnTo>
                    <a:pt x="2222" y="937"/>
                  </a:lnTo>
                  <a:lnTo>
                    <a:pt x="2227" y="924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2" y="910"/>
                  </a:lnTo>
                  <a:lnTo>
                    <a:pt x="2254" y="913"/>
                  </a:lnTo>
                  <a:lnTo>
                    <a:pt x="2258" y="914"/>
                  </a:lnTo>
                  <a:lnTo>
                    <a:pt x="2259" y="917"/>
                  </a:lnTo>
                  <a:lnTo>
                    <a:pt x="2272" y="915"/>
                  </a:lnTo>
                  <a:lnTo>
                    <a:pt x="2285" y="912"/>
                  </a:lnTo>
                  <a:lnTo>
                    <a:pt x="2299" y="910"/>
                  </a:lnTo>
                  <a:lnTo>
                    <a:pt x="2302" y="905"/>
                  </a:lnTo>
                  <a:lnTo>
                    <a:pt x="2307" y="903"/>
                  </a:lnTo>
                  <a:lnTo>
                    <a:pt x="2311" y="900"/>
                  </a:lnTo>
                  <a:lnTo>
                    <a:pt x="2311" y="890"/>
                  </a:lnTo>
                  <a:lnTo>
                    <a:pt x="2313" y="880"/>
                  </a:lnTo>
                  <a:lnTo>
                    <a:pt x="2316" y="872"/>
                  </a:lnTo>
                  <a:lnTo>
                    <a:pt x="2328" y="862"/>
                  </a:lnTo>
                  <a:lnTo>
                    <a:pt x="2343" y="857"/>
                  </a:lnTo>
                  <a:lnTo>
                    <a:pt x="2358" y="850"/>
                  </a:lnTo>
                  <a:lnTo>
                    <a:pt x="2370" y="841"/>
                  </a:lnTo>
                  <a:lnTo>
                    <a:pt x="2382" y="832"/>
                  </a:lnTo>
                  <a:lnTo>
                    <a:pt x="2395" y="826"/>
                  </a:lnTo>
                  <a:lnTo>
                    <a:pt x="2405" y="824"/>
                  </a:lnTo>
                  <a:lnTo>
                    <a:pt x="2416" y="824"/>
                  </a:lnTo>
                  <a:lnTo>
                    <a:pt x="2426" y="826"/>
                  </a:lnTo>
                  <a:lnTo>
                    <a:pt x="2429" y="832"/>
                  </a:lnTo>
                  <a:lnTo>
                    <a:pt x="2427" y="841"/>
                  </a:lnTo>
                  <a:lnTo>
                    <a:pt x="2426" y="851"/>
                  </a:lnTo>
                  <a:lnTo>
                    <a:pt x="2424" y="858"/>
                  </a:lnTo>
                  <a:lnTo>
                    <a:pt x="2419" y="865"/>
                  </a:lnTo>
                  <a:lnTo>
                    <a:pt x="2413" y="869"/>
                  </a:lnTo>
                  <a:lnTo>
                    <a:pt x="2405" y="873"/>
                  </a:lnTo>
                  <a:lnTo>
                    <a:pt x="2398" y="877"/>
                  </a:lnTo>
                  <a:lnTo>
                    <a:pt x="2396" y="883"/>
                  </a:lnTo>
                  <a:lnTo>
                    <a:pt x="2404" y="895"/>
                  </a:lnTo>
                  <a:lnTo>
                    <a:pt x="2419" y="896"/>
                  </a:lnTo>
                  <a:lnTo>
                    <a:pt x="2437" y="897"/>
                  </a:lnTo>
                  <a:lnTo>
                    <a:pt x="2428" y="914"/>
                  </a:lnTo>
                  <a:lnTo>
                    <a:pt x="2414" y="927"/>
                  </a:lnTo>
                  <a:lnTo>
                    <a:pt x="2398" y="937"/>
                  </a:lnTo>
                  <a:lnTo>
                    <a:pt x="2405" y="942"/>
                  </a:lnTo>
                  <a:lnTo>
                    <a:pt x="2414" y="944"/>
                  </a:lnTo>
                  <a:lnTo>
                    <a:pt x="2418" y="940"/>
                  </a:lnTo>
                  <a:lnTo>
                    <a:pt x="2432" y="915"/>
                  </a:lnTo>
                  <a:lnTo>
                    <a:pt x="2455" y="902"/>
                  </a:lnTo>
                  <a:lnTo>
                    <a:pt x="2479" y="892"/>
                  </a:lnTo>
                  <a:lnTo>
                    <a:pt x="2504" y="881"/>
                  </a:lnTo>
                  <a:lnTo>
                    <a:pt x="2530" y="872"/>
                  </a:lnTo>
                  <a:lnTo>
                    <a:pt x="2557" y="864"/>
                  </a:lnTo>
                  <a:lnTo>
                    <a:pt x="2557" y="860"/>
                  </a:lnTo>
                  <a:lnTo>
                    <a:pt x="2555" y="854"/>
                  </a:lnTo>
                  <a:lnTo>
                    <a:pt x="2555" y="848"/>
                  </a:lnTo>
                  <a:lnTo>
                    <a:pt x="2558" y="843"/>
                  </a:lnTo>
                  <a:lnTo>
                    <a:pt x="2592" y="818"/>
                  </a:lnTo>
                  <a:lnTo>
                    <a:pt x="2630" y="801"/>
                  </a:lnTo>
                  <a:lnTo>
                    <a:pt x="2664" y="775"/>
                  </a:lnTo>
                  <a:lnTo>
                    <a:pt x="2668" y="768"/>
                  </a:lnTo>
                  <a:lnTo>
                    <a:pt x="2670" y="760"/>
                  </a:lnTo>
                  <a:lnTo>
                    <a:pt x="2675" y="756"/>
                  </a:lnTo>
                  <a:lnTo>
                    <a:pt x="2683" y="754"/>
                  </a:lnTo>
                  <a:lnTo>
                    <a:pt x="2689" y="752"/>
                  </a:lnTo>
                  <a:lnTo>
                    <a:pt x="2693" y="752"/>
                  </a:lnTo>
                  <a:lnTo>
                    <a:pt x="2702" y="768"/>
                  </a:lnTo>
                  <a:lnTo>
                    <a:pt x="2717" y="776"/>
                  </a:lnTo>
                  <a:lnTo>
                    <a:pt x="2734" y="776"/>
                  </a:lnTo>
                  <a:lnTo>
                    <a:pt x="2746" y="769"/>
                  </a:lnTo>
                  <a:lnTo>
                    <a:pt x="2744" y="757"/>
                  </a:lnTo>
                  <a:lnTo>
                    <a:pt x="2744" y="743"/>
                  </a:lnTo>
                  <a:lnTo>
                    <a:pt x="2754" y="739"/>
                  </a:lnTo>
                  <a:lnTo>
                    <a:pt x="2769" y="739"/>
                  </a:lnTo>
                  <a:lnTo>
                    <a:pt x="2782" y="737"/>
                  </a:lnTo>
                  <a:lnTo>
                    <a:pt x="2791" y="730"/>
                  </a:lnTo>
                  <a:lnTo>
                    <a:pt x="2799" y="723"/>
                  </a:lnTo>
                  <a:lnTo>
                    <a:pt x="2808" y="716"/>
                  </a:lnTo>
                  <a:lnTo>
                    <a:pt x="2813" y="715"/>
                  </a:lnTo>
                  <a:lnTo>
                    <a:pt x="2821" y="716"/>
                  </a:lnTo>
                  <a:lnTo>
                    <a:pt x="2826" y="714"/>
                  </a:lnTo>
                  <a:lnTo>
                    <a:pt x="2829" y="707"/>
                  </a:lnTo>
                  <a:lnTo>
                    <a:pt x="2830" y="698"/>
                  </a:lnTo>
                  <a:lnTo>
                    <a:pt x="2832" y="690"/>
                  </a:lnTo>
                  <a:lnTo>
                    <a:pt x="2844" y="685"/>
                  </a:lnTo>
                  <a:lnTo>
                    <a:pt x="2857" y="695"/>
                  </a:lnTo>
                  <a:lnTo>
                    <a:pt x="2870" y="705"/>
                  </a:lnTo>
                  <a:lnTo>
                    <a:pt x="2876" y="701"/>
                  </a:lnTo>
                  <a:lnTo>
                    <a:pt x="2885" y="694"/>
                  </a:lnTo>
                  <a:lnTo>
                    <a:pt x="2893" y="686"/>
                  </a:lnTo>
                  <a:lnTo>
                    <a:pt x="2897" y="678"/>
                  </a:lnTo>
                  <a:lnTo>
                    <a:pt x="2902" y="669"/>
                  </a:lnTo>
                  <a:lnTo>
                    <a:pt x="2907" y="660"/>
                  </a:lnTo>
                  <a:lnTo>
                    <a:pt x="2909" y="649"/>
                  </a:lnTo>
                  <a:lnTo>
                    <a:pt x="2906" y="648"/>
                  </a:lnTo>
                  <a:lnTo>
                    <a:pt x="2906" y="645"/>
                  </a:lnTo>
                  <a:lnTo>
                    <a:pt x="2903" y="643"/>
                  </a:lnTo>
                  <a:lnTo>
                    <a:pt x="2906" y="617"/>
                  </a:lnTo>
                  <a:lnTo>
                    <a:pt x="2902" y="592"/>
                  </a:lnTo>
                  <a:lnTo>
                    <a:pt x="2890" y="570"/>
                  </a:lnTo>
                  <a:lnTo>
                    <a:pt x="2905" y="562"/>
                  </a:lnTo>
                  <a:lnTo>
                    <a:pt x="2918" y="550"/>
                  </a:lnTo>
                  <a:lnTo>
                    <a:pt x="2929" y="537"/>
                  </a:lnTo>
                  <a:lnTo>
                    <a:pt x="2939" y="545"/>
                  </a:lnTo>
                  <a:lnTo>
                    <a:pt x="2950" y="549"/>
                  </a:lnTo>
                  <a:lnTo>
                    <a:pt x="2962" y="547"/>
                  </a:lnTo>
                  <a:lnTo>
                    <a:pt x="2963" y="551"/>
                  </a:lnTo>
                  <a:lnTo>
                    <a:pt x="2966" y="553"/>
                  </a:lnTo>
                  <a:lnTo>
                    <a:pt x="2969" y="553"/>
                  </a:lnTo>
                  <a:lnTo>
                    <a:pt x="2978" y="554"/>
                  </a:lnTo>
                  <a:lnTo>
                    <a:pt x="2987" y="552"/>
                  </a:lnTo>
                  <a:lnTo>
                    <a:pt x="2995" y="550"/>
                  </a:lnTo>
                  <a:lnTo>
                    <a:pt x="2996" y="538"/>
                  </a:lnTo>
                  <a:lnTo>
                    <a:pt x="3001" y="528"/>
                  </a:lnTo>
                  <a:lnTo>
                    <a:pt x="3011" y="520"/>
                  </a:lnTo>
                  <a:lnTo>
                    <a:pt x="3012" y="517"/>
                  </a:lnTo>
                  <a:lnTo>
                    <a:pt x="3012" y="512"/>
                  </a:lnTo>
                  <a:lnTo>
                    <a:pt x="3012" y="508"/>
                  </a:lnTo>
                  <a:lnTo>
                    <a:pt x="3019" y="499"/>
                  </a:lnTo>
                  <a:lnTo>
                    <a:pt x="3026" y="491"/>
                  </a:lnTo>
                  <a:lnTo>
                    <a:pt x="3034" y="483"/>
                  </a:lnTo>
                  <a:lnTo>
                    <a:pt x="3036" y="478"/>
                  </a:lnTo>
                  <a:lnTo>
                    <a:pt x="3035" y="471"/>
                  </a:lnTo>
                  <a:lnTo>
                    <a:pt x="3032" y="464"/>
                  </a:lnTo>
                  <a:lnTo>
                    <a:pt x="3038" y="460"/>
                  </a:lnTo>
                  <a:lnTo>
                    <a:pt x="3043" y="454"/>
                  </a:lnTo>
                  <a:lnTo>
                    <a:pt x="3047" y="447"/>
                  </a:lnTo>
                  <a:lnTo>
                    <a:pt x="3049" y="441"/>
                  </a:lnTo>
                  <a:lnTo>
                    <a:pt x="3046" y="434"/>
                  </a:lnTo>
                  <a:lnTo>
                    <a:pt x="3046" y="430"/>
                  </a:lnTo>
                  <a:lnTo>
                    <a:pt x="3054" y="421"/>
                  </a:lnTo>
                  <a:lnTo>
                    <a:pt x="3055" y="412"/>
                  </a:lnTo>
                  <a:lnTo>
                    <a:pt x="3055" y="402"/>
                  </a:lnTo>
                  <a:lnTo>
                    <a:pt x="3067" y="401"/>
                  </a:lnTo>
                  <a:lnTo>
                    <a:pt x="3078" y="396"/>
                  </a:lnTo>
                  <a:lnTo>
                    <a:pt x="3079" y="386"/>
                  </a:lnTo>
                  <a:lnTo>
                    <a:pt x="3076" y="377"/>
                  </a:lnTo>
                  <a:lnTo>
                    <a:pt x="3073" y="368"/>
                  </a:lnTo>
                  <a:lnTo>
                    <a:pt x="3073" y="359"/>
                  </a:lnTo>
                  <a:lnTo>
                    <a:pt x="3074" y="355"/>
                  </a:lnTo>
                  <a:lnTo>
                    <a:pt x="3075" y="350"/>
                  </a:lnTo>
                  <a:lnTo>
                    <a:pt x="3078" y="346"/>
                  </a:lnTo>
                  <a:lnTo>
                    <a:pt x="3070" y="344"/>
                  </a:lnTo>
                  <a:lnTo>
                    <a:pt x="3064" y="341"/>
                  </a:lnTo>
                  <a:lnTo>
                    <a:pt x="3059" y="341"/>
                  </a:lnTo>
                  <a:lnTo>
                    <a:pt x="3037" y="348"/>
                  </a:lnTo>
                  <a:lnTo>
                    <a:pt x="3014" y="350"/>
                  </a:lnTo>
                  <a:lnTo>
                    <a:pt x="2993" y="354"/>
                  </a:lnTo>
                  <a:lnTo>
                    <a:pt x="2984" y="360"/>
                  </a:lnTo>
                  <a:lnTo>
                    <a:pt x="2976" y="367"/>
                  </a:lnTo>
                  <a:lnTo>
                    <a:pt x="2966" y="372"/>
                  </a:lnTo>
                  <a:lnTo>
                    <a:pt x="2968" y="374"/>
                  </a:lnTo>
                  <a:lnTo>
                    <a:pt x="2969" y="376"/>
                  </a:lnTo>
                  <a:lnTo>
                    <a:pt x="2969" y="378"/>
                  </a:lnTo>
                  <a:lnTo>
                    <a:pt x="2951" y="385"/>
                  </a:lnTo>
                  <a:lnTo>
                    <a:pt x="2933" y="385"/>
                  </a:lnTo>
                  <a:lnTo>
                    <a:pt x="2916" y="380"/>
                  </a:lnTo>
                  <a:lnTo>
                    <a:pt x="2909" y="378"/>
                  </a:lnTo>
                  <a:lnTo>
                    <a:pt x="2903" y="380"/>
                  </a:lnTo>
                  <a:lnTo>
                    <a:pt x="2895" y="385"/>
                  </a:lnTo>
                  <a:lnTo>
                    <a:pt x="2892" y="386"/>
                  </a:lnTo>
                  <a:lnTo>
                    <a:pt x="2889" y="385"/>
                  </a:lnTo>
                  <a:lnTo>
                    <a:pt x="2887" y="382"/>
                  </a:lnTo>
                  <a:lnTo>
                    <a:pt x="2885" y="378"/>
                  </a:lnTo>
                  <a:lnTo>
                    <a:pt x="2884" y="374"/>
                  </a:lnTo>
                  <a:lnTo>
                    <a:pt x="2890" y="372"/>
                  </a:lnTo>
                  <a:lnTo>
                    <a:pt x="2885" y="368"/>
                  </a:lnTo>
                  <a:lnTo>
                    <a:pt x="2880" y="366"/>
                  </a:lnTo>
                  <a:lnTo>
                    <a:pt x="2877" y="362"/>
                  </a:lnTo>
                  <a:lnTo>
                    <a:pt x="2877" y="348"/>
                  </a:lnTo>
                  <a:lnTo>
                    <a:pt x="2874" y="335"/>
                  </a:lnTo>
                  <a:lnTo>
                    <a:pt x="2866" y="322"/>
                  </a:lnTo>
                  <a:lnTo>
                    <a:pt x="2871" y="319"/>
                  </a:lnTo>
                  <a:lnTo>
                    <a:pt x="2872" y="313"/>
                  </a:lnTo>
                  <a:lnTo>
                    <a:pt x="2876" y="309"/>
                  </a:lnTo>
                  <a:lnTo>
                    <a:pt x="2864" y="310"/>
                  </a:lnTo>
                  <a:lnTo>
                    <a:pt x="2852" y="307"/>
                  </a:lnTo>
                  <a:lnTo>
                    <a:pt x="2840" y="302"/>
                  </a:lnTo>
                  <a:lnTo>
                    <a:pt x="2836" y="298"/>
                  </a:lnTo>
                  <a:lnTo>
                    <a:pt x="2834" y="292"/>
                  </a:lnTo>
                  <a:lnTo>
                    <a:pt x="2832" y="286"/>
                  </a:lnTo>
                  <a:lnTo>
                    <a:pt x="2822" y="278"/>
                  </a:lnTo>
                  <a:lnTo>
                    <a:pt x="2808" y="277"/>
                  </a:lnTo>
                  <a:lnTo>
                    <a:pt x="2795" y="274"/>
                  </a:lnTo>
                  <a:lnTo>
                    <a:pt x="2787" y="270"/>
                  </a:lnTo>
                  <a:lnTo>
                    <a:pt x="2779" y="267"/>
                  </a:lnTo>
                  <a:lnTo>
                    <a:pt x="2770" y="264"/>
                  </a:lnTo>
                  <a:lnTo>
                    <a:pt x="2759" y="262"/>
                  </a:lnTo>
                  <a:lnTo>
                    <a:pt x="2747" y="262"/>
                  </a:lnTo>
                  <a:lnTo>
                    <a:pt x="2734" y="263"/>
                  </a:lnTo>
                  <a:lnTo>
                    <a:pt x="2731" y="257"/>
                  </a:lnTo>
                  <a:lnTo>
                    <a:pt x="2725" y="255"/>
                  </a:lnTo>
                  <a:lnTo>
                    <a:pt x="2721" y="250"/>
                  </a:lnTo>
                  <a:lnTo>
                    <a:pt x="2722" y="242"/>
                  </a:lnTo>
                  <a:lnTo>
                    <a:pt x="2725" y="235"/>
                  </a:lnTo>
                  <a:lnTo>
                    <a:pt x="2724" y="227"/>
                  </a:lnTo>
                  <a:lnTo>
                    <a:pt x="2719" y="223"/>
                  </a:lnTo>
                  <a:lnTo>
                    <a:pt x="2715" y="219"/>
                  </a:lnTo>
                  <a:lnTo>
                    <a:pt x="2713" y="217"/>
                  </a:lnTo>
                  <a:lnTo>
                    <a:pt x="2708" y="191"/>
                  </a:lnTo>
                  <a:lnTo>
                    <a:pt x="2696" y="170"/>
                  </a:lnTo>
                  <a:lnTo>
                    <a:pt x="2679" y="150"/>
                  </a:lnTo>
                  <a:lnTo>
                    <a:pt x="2679" y="145"/>
                  </a:lnTo>
                  <a:lnTo>
                    <a:pt x="2684" y="140"/>
                  </a:lnTo>
                  <a:lnTo>
                    <a:pt x="2685" y="135"/>
                  </a:lnTo>
                  <a:lnTo>
                    <a:pt x="2673" y="113"/>
                  </a:lnTo>
                  <a:lnTo>
                    <a:pt x="2663" y="91"/>
                  </a:lnTo>
                  <a:lnTo>
                    <a:pt x="2653" y="70"/>
                  </a:lnTo>
                  <a:lnTo>
                    <a:pt x="2647" y="59"/>
                  </a:lnTo>
                  <a:lnTo>
                    <a:pt x="2640" y="49"/>
                  </a:lnTo>
                  <a:lnTo>
                    <a:pt x="2631" y="40"/>
                  </a:lnTo>
                  <a:lnTo>
                    <a:pt x="2626" y="37"/>
                  </a:lnTo>
                  <a:lnTo>
                    <a:pt x="2619" y="35"/>
                  </a:lnTo>
                  <a:lnTo>
                    <a:pt x="2612" y="33"/>
                  </a:lnTo>
                  <a:lnTo>
                    <a:pt x="2600" y="32"/>
                  </a:lnTo>
                  <a:lnTo>
                    <a:pt x="2588" y="32"/>
                  </a:lnTo>
                  <a:lnTo>
                    <a:pt x="2577" y="31"/>
                  </a:lnTo>
                  <a:lnTo>
                    <a:pt x="2566" y="25"/>
                  </a:lnTo>
                  <a:lnTo>
                    <a:pt x="2555" y="18"/>
                  </a:lnTo>
                  <a:lnTo>
                    <a:pt x="2544" y="11"/>
                  </a:lnTo>
                  <a:lnTo>
                    <a:pt x="2527" y="4"/>
                  </a:lnTo>
                  <a:lnTo>
                    <a:pt x="2507" y="0"/>
                  </a:lnTo>
                  <a:lnTo>
                    <a:pt x="2487" y="1"/>
                  </a:lnTo>
                  <a:lnTo>
                    <a:pt x="2484" y="1"/>
                  </a:lnTo>
                  <a:lnTo>
                    <a:pt x="2480" y="3"/>
                  </a:lnTo>
                  <a:lnTo>
                    <a:pt x="2476" y="5"/>
                  </a:lnTo>
                  <a:lnTo>
                    <a:pt x="2466" y="5"/>
                  </a:lnTo>
                  <a:lnTo>
                    <a:pt x="2456" y="0"/>
                  </a:lnTo>
                  <a:lnTo>
                    <a:pt x="2448" y="1"/>
                  </a:lnTo>
                  <a:lnTo>
                    <a:pt x="2428" y="9"/>
                  </a:lnTo>
                  <a:lnTo>
                    <a:pt x="2407" y="10"/>
                  </a:lnTo>
                  <a:lnTo>
                    <a:pt x="2389" y="15"/>
                  </a:lnTo>
                  <a:lnTo>
                    <a:pt x="2375" y="25"/>
                  </a:lnTo>
                  <a:lnTo>
                    <a:pt x="2361" y="36"/>
                  </a:lnTo>
                  <a:lnTo>
                    <a:pt x="2345" y="44"/>
                  </a:lnTo>
                  <a:lnTo>
                    <a:pt x="2342" y="49"/>
                  </a:lnTo>
                  <a:lnTo>
                    <a:pt x="2342" y="56"/>
                  </a:lnTo>
                  <a:lnTo>
                    <a:pt x="2345" y="59"/>
                  </a:lnTo>
                  <a:lnTo>
                    <a:pt x="2365" y="65"/>
                  </a:lnTo>
                  <a:lnTo>
                    <a:pt x="2375" y="81"/>
                  </a:lnTo>
                  <a:lnTo>
                    <a:pt x="2377" y="98"/>
                  </a:lnTo>
                  <a:lnTo>
                    <a:pt x="2369" y="113"/>
                  </a:lnTo>
                  <a:lnTo>
                    <a:pt x="2353" y="127"/>
                  </a:lnTo>
                  <a:lnTo>
                    <a:pt x="2338" y="144"/>
                  </a:lnTo>
                  <a:lnTo>
                    <a:pt x="2334" y="155"/>
                  </a:lnTo>
                  <a:lnTo>
                    <a:pt x="2331" y="166"/>
                  </a:lnTo>
                  <a:lnTo>
                    <a:pt x="2324" y="173"/>
                  </a:lnTo>
                  <a:lnTo>
                    <a:pt x="2320" y="176"/>
                  </a:lnTo>
                  <a:lnTo>
                    <a:pt x="2316" y="181"/>
                  </a:lnTo>
                  <a:lnTo>
                    <a:pt x="2313" y="185"/>
                  </a:lnTo>
                  <a:lnTo>
                    <a:pt x="2307" y="198"/>
                  </a:lnTo>
                  <a:lnTo>
                    <a:pt x="2310" y="214"/>
                  </a:lnTo>
                  <a:lnTo>
                    <a:pt x="2308" y="230"/>
                  </a:lnTo>
                  <a:lnTo>
                    <a:pt x="2310" y="230"/>
                  </a:lnTo>
                  <a:lnTo>
                    <a:pt x="2313" y="230"/>
                  </a:lnTo>
                  <a:lnTo>
                    <a:pt x="2315" y="230"/>
                  </a:lnTo>
                  <a:lnTo>
                    <a:pt x="2310" y="233"/>
                  </a:lnTo>
                  <a:lnTo>
                    <a:pt x="2306" y="237"/>
                  </a:lnTo>
                  <a:lnTo>
                    <a:pt x="2302" y="239"/>
                  </a:lnTo>
                  <a:lnTo>
                    <a:pt x="2280" y="242"/>
                  </a:lnTo>
                  <a:lnTo>
                    <a:pt x="2261" y="251"/>
                  </a:lnTo>
                  <a:lnTo>
                    <a:pt x="2241" y="261"/>
                  </a:lnTo>
                  <a:lnTo>
                    <a:pt x="2222" y="262"/>
                  </a:lnTo>
                  <a:lnTo>
                    <a:pt x="2203" y="254"/>
                  </a:lnTo>
                  <a:lnTo>
                    <a:pt x="2183" y="246"/>
                  </a:lnTo>
                  <a:lnTo>
                    <a:pt x="2172" y="241"/>
                  </a:lnTo>
                  <a:lnTo>
                    <a:pt x="2175" y="250"/>
                  </a:lnTo>
                  <a:lnTo>
                    <a:pt x="2174" y="257"/>
                  </a:lnTo>
                  <a:lnTo>
                    <a:pt x="2172" y="263"/>
                  </a:lnTo>
                  <a:lnTo>
                    <a:pt x="2161" y="283"/>
                  </a:lnTo>
                  <a:lnTo>
                    <a:pt x="2148" y="302"/>
                  </a:lnTo>
                  <a:lnTo>
                    <a:pt x="2137" y="322"/>
                  </a:lnTo>
                  <a:lnTo>
                    <a:pt x="2136" y="329"/>
                  </a:lnTo>
                  <a:lnTo>
                    <a:pt x="2138" y="336"/>
                  </a:lnTo>
                  <a:lnTo>
                    <a:pt x="2140" y="342"/>
                  </a:lnTo>
                  <a:lnTo>
                    <a:pt x="2130" y="344"/>
                  </a:lnTo>
                  <a:lnTo>
                    <a:pt x="2121" y="347"/>
                  </a:lnTo>
                  <a:lnTo>
                    <a:pt x="2116" y="351"/>
                  </a:lnTo>
                  <a:lnTo>
                    <a:pt x="2113" y="362"/>
                  </a:lnTo>
                  <a:lnTo>
                    <a:pt x="2118" y="374"/>
                  </a:lnTo>
                  <a:lnTo>
                    <a:pt x="2130" y="380"/>
                  </a:lnTo>
                  <a:lnTo>
                    <a:pt x="2136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4"/>
                  </a:lnTo>
                  <a:lnTo>
                    <a:pt x="2181" y="375"/>
                  </a:lnTo>
                  <a:lnTo>
                    <a:pt x="2195" y="380"/>
                  </a:lnTo>
                  <a:lnTo>
                    <a:pt x="2197" y="382"/>
                  </a:lnTo>
                  <a:lnTo>
                    <a:pt x="2200" y="384"/>
                  </a:lnTo>
                  <a:lnTo>
                    <a:pt x="2203" y="385"/>
                  </a:lnTo>
                  <a:lnTo>
                    <a:pt x="2214" y="384"/>
                  </a:lnTo>
                  <a:lnTo>
                    <a:pt x="2223" y="378"/>
                  </a:lnTo>
                  <a:lnTo>
                    <a:pt x="2233" y="373"/>
                  </a:lnTo>
                  <a:lnTo>
                    <a:pt x="2259" y="370"/>
                  </a:lnTo>
                  <a:lnTo>
                    <a:pt x="2283" y="380"/>
                  </a:lnTo>
                  <a:lnTo>
                    <a:pt x="2304" y="400"/>
                  </a:lnTo>
                  <a:lnTo>
                    <a:pt x="2309" y="405"/>
                  </a:lnTo>
                  <a:lnTo>
                    <a:pt x="2317" y="409"/>
                  </a:lnTo>
                  <a:lnTo>
                    <a:pt x="2324" y="413"/>
                  </a:lnTo>
                  <a:lnTo>
                    <a:pt x="2332" y="420"/>
                  </a:lnTo>
                  <a:lnTo>
                    <a:pt x="2338" y="430"/>
                  </a:lnTo>
                  <a:lnTo>
                    <a:pt x="2337" y="441"/>
                  </a:lnTo>
                  <a:lnTo>
                    <a:pt x="2335" y="445"/>
                  </a:lnTo>
                  <a:lnTo>
                    <a:pt x="2332" y="449"/>
                  </a:lnTo>
                  <a:lnTo>
                    <a:pt x="2328" y="451"/>
                  </a:lnTo>
                  <a:lnTo>
                    <a:pt x="2314" y="451"/>
                  </a:lnTo>
                  <a:lnTo>
                    <a:pt x="2301" y="450"/>
                  </a:lnTo>
                  <a:lnTo>
                    <a:pt x="2288" y="446"/>
                  </a:lnTo>
                  <a:lnTo>
                    <a:pt x="2265" y="444"/>
                  </a:lnTo>
                  <a:lnTo>
                    <a:pt x="2243" y="451"/>
                  </a:lnTo>
                  <a:lnTo>
                    <a:pt x="2219" y="456"/>
                  </a:lnTo>
                  <a:lnTo>
                    <a:pt x="2214" y="459"/>
                  </a:lnTo>
                  <a:lnTo>
                    <a:pt x="2208" y="465"/>
                  </a:lnTo>
                  <a:lnTo>
                    <a:pt x="2202" y="470"/>
                  </a:lnTo>
                  <a:lnTo>
                    <a:pt x="2196" y="471"/>
                  </a:lnTo>
                  <a:lnTo>
                    <a:pt x="2190" y="471"/>
                  </a:lnTo>
                  <a:lnTo>
                    <a:pt x="2183" y="471"/>
                  </a:lnTo>
                  <a:lnTo>
                    <a:pt x="2165" y="487"/>
                  </a:lnTo>
                  <a:lnTo>
                    <a:pt x="2153" y="507"/>
                  </a:lnTo>
                  <a:lnTo>
                    <a:pt x="2139" y="526"/>
                  </a:lnTo>
                  <a:lnTo>
                    <a:pt x="2120" y="532"/>
                  </a:lnTo>
                  <a:lnTo>
                    <a:pt x="2101" y="531"/>
                  </a:lnTo>
                  <a:lnTo>
                    <a:pt x="2081" y="532"/>
                  </a:lnTo>
                  <a:lnTo>
                    <a:pt x="2071" y="537"/>
                  </a:lnTo>
                  <a:lnTo>
                    <a:pt x="2063" y="545"/>
                  </a:lnTo>
                  <a:lnTo>
                    <a:pt x="2055" y="555"/>
                  </a:lnTo>
                  <a:lnTo>
                    <a:pt x="2040" y="567"/>
                  </a:lnTo>
                  <a:lnTo>
                    <a:pt x="2020" y="571"/>
                  </a:lnTo>
                  <a:lnTo>
                    <a:pt x="1998" y="569"/>
                  </a:lnTo>
                  <a:lnTo>
                    <a:pt x="1978" y="562"/>
                  </a:lnTo>
                  <a:lnTo>
                    <a:pt x="1958" y="555"/>
                  </a:lnTo>
                  <a:lnTo>
                    <a:pt x="1939" y="556"/>
                  </a:lnTo>
                  <a:lnTo>
                    <a:pt x="1922" y="567"/>
                  </a:lnTo>
                  <a:lnTo>
                    <a:pt x="1913" y="586"/>
                  </a:lnTo>
                  <a:lnTo>
                    <a:pt x="1917" y="605"/>
                  </a:lnTo>
                  <a:lnTo>
                    <a:pt x="1929" y="617"/>
                  </a:lnTo>
                  <a:lnTo>
                    <a:pt x="1940" y="629"/>
                  </a:lnTo>
                  <a:lnTo>
                    <a:pt x="1939" y="641"/>
                  </a:lnTo>
                  <a:lnTo>
                    <a:pt x="1924" y="650"/>
                  </a:lnTo>
                  <a:lnTo>
                    <a:pt x="1905" y="657"/>
                  </a:lnTo>
                  <a:lnTo>
                    <a:pt x="1887" y="665"/>
                  </a:lnTo>
                  <a:lnTo>
                    <a:pt x="1869" y="680"/>
                  </a:lnTo>
                  <a:lnTo>
                    <a:pt x="1852" y="697"/>
                  </a:lnTo>
                  <a:lnTo>
                    <a:pt x="1835" y="708"/>
                  </a:lnTo>
                  <a:lnTo>
                    <a:pt x="1776" y="719"/>
                  </a:lnTo>
                  <a:lnTo>
                    <a:pt x="1715" y="719"/>
                  </a:lnTo>
                  <a:lnTo>
                    <a:pt x="1656" y="728"/>
                  </a:lnTo>
                  <a:lnTo>
                    <a:pt x="1636" y="740"/>
                  </a:lnTo>
                  <a:lnTo>
                    <a:pt x="1618" y="755"/>
                  </a:lnTo>
                  <a:lnTo>
                    <a:pt x="1595" y="761"/>
                  </a:lnTo>
                  <a:lnTo>
                    <a:pt x="1585" y="758"/>
                  </a:lnTo>
                  <a:lnTo>
                    <a:pt x="1576" y="755"/>
                  </a:lnTo>
                  <a:lnTo>
                    <a:pt x="1565" y="757"/>
                  </a:lnTo>
                  <a:lnTo>
                    <a:pt x="1563" y="756"/>
                  </a:lnTo>
                  <a:lnTo>
                    <a:pt x="1562" y="751"/>
                  </a:lnTo>
                  <a:lnTo>
                    <a:pt x="1559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6" y="716"/>
                  </a:lnTo>
                  <a:lnTo>
                    <a:pt x="1404" y="706"/>
                  </a:lnTo>
                  <a:lnTo>
                    <a:pt x="1381" y="701"/>
                  </a:lnTo>
                  <a:lnTo>
                    <a:pt x="1357" y="701"/>
                  </a:lnTo>
                  <a:lnTo>
                    <a:pt x="1290" y="708"/>
                  </a:lnTo>
                  <a:lnTo>
                    <a:pt x="1221" y="707"/>
                  </a:lnTo>
                  <a:lnTo>
                    <a:pt x="1161" y="685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8" y="611"/>
                  </a:lnTo>
                  <a:lnTo>
                    <a:pt x="1099" y="604"/>
                  </a:lnTo>
                  <a:lnTo>
                    <a:pt x="1083" y="598"/>
                  </a:lnTo>
                  <a:lnTo>
                    <a:pt x="1067" y="593"/>
                  </a:lnTo>
                  <a:lnTo>
                    <a:pt x="1051" y="588"/>
                  </a:lnTo>
                  <a:lnTo>
                    <a:pt x="1036" y="580"/>
                  </a:lnTo>
                  <a:lnTo>
                    <a:pt x="1023" y="569"/>
                  </a:lnTo>
                  <a:lnTo>
                    <a:pt x="1007" y="561"/>
                  </a:lnTo>
                  <a:lnTo>
                    <a:pt x="966" y="556"/>
                  </a:lnTo>
                  <a:lnTo>
                    <a:pt x="925" y="554"/>
                  </a:lnTo>
                  <a:lnTo>
                    <a:pt x="886" y="546"/>
                  </a:lnTo>
                  <a:lnTo>
                    <a:pt x="877" y="540"/>
                  </a:lnTo>
                  <a:lnTo>
                    <a:pt x="872" y="531"/>
                  </a:lnTo>
                  <a:lnTo>
                    <a:pt x="869" y="520"/>
                  </a:lnTo>
                  <a:lnTo>
                    <a:pt x="873" y="505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4" y="453"/>
                  </a:lnTo>
                  <a:lnTo>
                    <a:pt x="892" y="444"/>
                  </a:lnTo>
                  <a:lnTo>
                    <a:pt x="879" y="426"/>
                  </a:lnTo>
                  <a:lnTo>
                    <a:pt x="869" y="405"/>
                  </a:lnTo>
                  <a:lnTo>
                    <a:pt x="858" y="386"/>
                  </a:lnTo>
                  <a:lnTo>
                    <a:pt x="838" y="372"/>
                  </a:lnTo>
                  <a:lnTo>
                    <a:pt x="814" y="369"/>
                  </a:lnTo>
                  <a:lnTo>
                    <a:pt x="790" y="364"/>
                  </a:lnTo>
                  <a:lnTo>
                    <a:pt x="770" y="352"/>
                  </a:lnTo>
                  <a:lnTo>
                    <a:pt x="752" y="337"/>
                  </a:lnTo>
                  <a:lnTo>
                    <a:pt x="733" y="322"/>
                  </a:lnTo>
                  <a:lnTo>
                    <a:pt x="737" y="321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1"/>
                  </a:lnTo>
                  <a:lnTo>
                    <a:pt x="731" y="309"/>
                  </a:lnTo>
                  <a:lnTo>
                    <a:pt x="734" y="29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67320" y="1393920"/>
              <a:ext cx="4659840" cy="2840760"/>
            </a:xfrm>
            <a:custGeom>
              <a:avLst/>
              <a:gdLst/>
              <a:ahLst/>
              <a:rect l="l" t="t" r="r" b="b"/>
              <a:pathLst>
                <a:path w="3080" h="1948">
                  <a:moveTo>
                    <a:pt x="734" y="292"/>
                  </a:moveTo>
                  <a:lnTo>
                    <a:pt x="723" y="289"/>
                  </a:lnTo>
                  <a:lnTo>
                    <a:pt x="712" y="295"/>
                  </a:lnTo>
                  <a:lnTo>
                    <a:pt x="701" y="295"/>
                  </a:lnTo>
                  <a:lnTo>
                    <a:pt x="695" y="293"/>
                  </a:lnTo>
                  <a:lnTo>
                    <a:pt x="689" y="293"/>
                  </a:lnTo>
                  <a:lnTo>
                    <a:pt x="684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8" y="300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10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9" y="332"/>
                  </a:lnTo>
                  <a:lnTo>
                    <a:pt x="628" y="334"/>
                  </a:lnTo>
                  <a:lnTo>
                    <a:pt x="623" y="336"/>
                  </a:lnTo>
                  <a:lnTo>
                    <a:pt x="617" y="338"/>
                  </a:lnTo>
                  <a:lnTo>
                    <a:pt x="615" y="343"/>
                  </a:lnTo>
                  <a:lnTo>
                    <a:pt x="614" y="356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3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5"/>
                  </a:lnTo>
                  <a:lnTo>
                    <a:pt x="557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4" y="418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8"/>
                  </a:lnTo>
                  <a:lnTo>
                    <a:pt x="463" y="520"/>
                  </a:lnTo>
                  <a:lnTo>
                    <a:pt x="467" y="526"/>
                  </a:lnTo>
                  <a:lnTo>
                    <a:pt x="472" y="532"/>
                  </a:lnTo>
                  <a:lnTo>
                    <a:pt x="473" y="536"/>
                  </a:lnTo>
                  <a:lnTo>
                    <a:pt x="473" y="540"/>
                  </a:lnTo>
                  <a:lnTo>
                    <a:pt x="469" y="543"/>
                  </a:lnTo>
                  <a:lnTo>
                    <a:pt x="451" y="542"/>
                  </a:lnTo>
                  <a:lnTo>
                    <a:pt x="435" y="538"/>
                  </a:lnTo>
                  <a:lnTo>
                    <a:pt x="418" y="531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4" y="539"/>
                  </a:lnTo>
                  <a:lnTo>
                    <a:pt x="354" y="541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2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2"/>
                  </a:lnTo>
                  <a:lnTo>
                    <a:pt x="360" y="627"/>
                  </a:lnTo>
                  <a:lnTo>
                    <a:pt x="360" y="633"/>
                  </a:lnTo>
                  <a:lnTo>
                    <a:pt x="369" y="642"/>
                  </a:lnTo>
                  <a:lnTo>
                    <a:pt x="377" y="652"/>
                  </a:lnTo>
                  <a:lnTo>
                    <a:pt x="378" y="663"/>
                  </a:lnTo>
                  <a:lnTo>
                    <a:pt x="369" y="673"/>
                  </a:lnTo>
                  <a:lnTo>
                    <a:pt x="355" y="678"/>
                  </a:lnTo>
                  <a:lnTo>
                    <a:pt x="349" y="689"/>
                  </a:lnTo>
                  <a:lnTo>
                    <a:pt x="351" y="699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6"/>
                  </a:lnTo>
                  <a:lnTo>
                    <a:pt x="349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4" y="772"/>
                  </a:lnTo>
                  <a:lnTo>
                    <a:pt x="230" y="782"/>
                  </a:lnTo>
                  <a:lnTo>
                    <a:pt x="206" y="784"/>
                  </a:lnTo>
                  <a:lnTo>
                    <a:pt x="183" y="788"/>
                  </a:lnTo>
                  <a:lnTo>
                    <a:pt x="168" y="799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9"/>
                  </a:lnTo>
                  <a:lnTo>
                    <a:pt x="127" y="829"/>
                  </a:lnTo>
                  <a:lnTo>
                    <a:pt x="119" y="832"/>
                  </a:lnTo>
                  <a:lnTo>
                    <a:pt x="118" y="828"/>
                  </a:lnTo>
                  <a:lnTo>
                    <a:pt x="116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3"/>
                  </a:lnTo>
                  <a:lnTo>
                    <a:pt x="76" y="825"/>
                  </a:lnTo>
                  <a:lnTo>
                    <a:pt x="70" y="828"/>
                  </a:lnTo>
                  <a:lnTo>
                    <a:pt x="65" y="832"/>
                  </a:lnTo>
                  <a:lnTo>
                    <a:pt x="60" y="838"/>
                  </a:lnTo>
                  <a:lnTo>
                    <a:pt x="53" y="842"/>
                  </a:lnTo>
                  <a:lnTo>
                    <a:pt x="48" y="840"/>
                  </a:lnTo>
                  <a:lnTo>
                    <a:pt x="44" y="839"/>
                  </a:lnTo>
                  <a:lnTo>
                    <a:pt x="36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4"/>
                  </a:lnTo>
                  <a:lnTo>
                    <a:pt x="14" y="914"/>
                  </a:lnTo>
                  <a:lnTo>
                    <a:pt x="22" y="934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1"/>
                  </a:lnTo>
                  <a:lnTo>
                    <a:pt x="72" y="947"/>
                  </a:lnTo>
                  <a:lnTo>
                    <a:pt x="73" y="951"/>
                  </a:lnTo>
                  <a:lnTo>
                    <a:pt x="73" y="956"/>
                  </a:lnTo>
                  <a:lnTo>
                    <a:pt x="71" y="961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3"/>
                  </a:lnTo>
                  <a:lnTo>
                    <a:pt x="80" y="997"/>
                  </a:lnTo>
                  <a:lnTo>
                    <a:pt x="80" y="1002"/>
                  </a:lnTo>
                  <a:lnTo>
                    <a:pt x="82" y="1007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9"/>
                  </a:lnTo>
                  <a:lnTo>
                    <a:pt x="0" y="1037"/>
                  </a:lnTo>
                  <a:lnTo>
                    <a:pt x="2" y="1039"/>
                  </a:lnTo>
                  <a:lnTo>
                    <a:pt x="8" y="1041"/>
                  </a:lnTo>
                  <a:lnTo>
                    <a:pt x="18" y="1037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4"/>
                  </a:lnTo>
                  <a:lnTo>
                    <a:pt x="69" y="1026"/>
                  </a:lnTo>
                  <a:lnTo>
                    <a:pt x="82" y="1028"/>
                  </a:lnTo>
                  <a:lnTo>
                    <a:pt x="91" y="1029"/>
                  </a:lnTo>
                  <a:lnTo>
                    <a:pt x="96" y="1029"/>
                  </a:lnTo>
                  <a:lnTo>
                    <a:pt x="104" y="1030"/>
                  </a:lnTo>
                  <a:lnTo>
                    <a:pt x="115" y="1035"/>
                  </a:lnTo>
                  <a:lnTo>
                    <a:pt x="125" y="1044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7"/>
                  </a:lnTo>
                  <a:lnTo>
                    <a:pt x="134" y="1073"/>
                  </a:lnTo>
                  <a:lnTo>
                    <a:pt x="132" y="1078"/>
                  </a:lnTo>
                  <a:lnTo>
                    <a:pt x="131" y="1084"/>
                  </a:lnTo>
                  <a:lnTo>
                    <a:pt x="135" y="1089"/>
                  </a:lnTo>
                  <a:lnTo>
                    <a:pt x="141" y="1093"/>
                  </a:lnTo>
                  <a:lnTo>
                    <a:pt x="146" y="1094"/>
                  </a:lnTo>
                  <a:lnTo>
                    <a:pt x="153" y="1093"/>
                  </a:lnTo>
                  <a:lnTo>
                    <a:pt x="158" y="1093"/>
                  </a:lnTo>
                  <a:lnTo>
                    <a:pt x="162" y="1094"/>
                  </a:lnTo>
                  <a:lnTo>
                    <a:pt x="169" y="1097"/>
                  </a:lnTo>
                  <a:lnTo>
                    <a:pt x="186" y="1104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1" y="1117"/>
                  </a:lnTo>
                  <a:lnTo>
                    <a:pt x="224" y="1118"/>
                  </a:lnTo>
                  <a:lnTo>
                    <a:pt x="228" y="1115"/>
                  </a:lnTo>
                  <a:lnTo>
                    <a:pt x="236" y="1108"/>
                  </a:lnTo>
                  <a:lnTo>
                    <a:pt x="257" y="1095"/>
                  </a:lnTo>
                  <a:lnTo>
                    <a:pt x="288" y="1088"/>
                  </a:lnTo>
                  <a:lnTo>
                    <a:pt x="292" y="1089"/>
                  </a:lnTo>
                  <a:lnTo>
                    <a:pt x="301" y="1090"/>
                  </a:lnTo>
                  <a:lnTo>
                    <a:pt x="310" y="1092"/>
                  </a:lnTo>
                  <a:lnTo>
                    <a:pt x="321" y="1098"/>
                  </a:lnTo>
                  <a:lnTo>
                    <a:pt x="341" y="1108"/>
                  </a:lnTo>
                  <a:lnTo>
                    <a:pt x="354" y="1116"/>
                  </a:lnTo>
                  <a:lnTo>
                    <a:pt x="357" y="1119"/>
                  </a:lnTo>
                  <a:lnTo>
                    <a:pt x="358" y="1123"/>
                  </a:lnTo>
                  <a:lnTo>
                    <a:pt x="357" y="1130"/>
                  </a:lnTo>
                  <a:lnTo>
                    <a:pt x="350" y="1143"/>
                  </a:lnTo>
                  <a:lnTo>
                    <a:pt x="338" y="1160"/>
                  </a:lnTo>
                  <a:lnTo>
                    <a:pt x="330" y="1172"/>
                  </a:lnTo>
                  <a:lnTo>
                    <a:pt x="327" y="1175"/>
                  </a:lnTo>
                  <a:lnTo>
                    <a:pt x="318" y="1184"/>
                  </a:lnTo>
                  <a:lnTo>
                    <a:pt x="302" y="1195"/>
                  </a:lnTo>
                  <a:lnTo>
                    <a:pt x="279" y="1193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4"/>
                  </a:lnTo>
                  <a:lnTo>
                    <a:pt x="280" y="1227"/>
                  </a:lnTo>
                  <a:lnTo>
                    <a:pt x="292" y="1238"/>
                  </a:lnTo>
                  <a:lnTo>
                    <a:pt x="306" y="1247"/>
                  </a:lnTo>
                  <a:lnTo>
                    <a:pt x="312" y="1259"/>
                  </a:lnTo>
                  <a:lnTo>
                    <a:pt x="305" y="1274"/>
                  </a:lnTo>
                  <a:lnTo>
                    <a:pt x="296" y="1290"/>
                  </a:lnTo>
                  <a:lnTo>
                    <a:pt x="294" y="1292"/>
                  </a:lnTo>
                  <a:lnTo>
                    <a:pt x="290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5"/>
                  </a:lnTo>
                  <a:lnTo>
                    <a:pt x="270" y="1281"/>
                  </a:lnTo>
                  <a:lnTo>
                    <a:pt x="264" y="1280"/>
                  </a:lnTo>
                  <a:lnTo>
                    <a:pt x="258" y="1282"/>
                  </a:lnTo>
                  <a:lnTo>
                    <a:pt x="257" y="1286"/>
                  </a:lnTo>
                  <a:lnTo>
                    <a:pt x="266" y="1305"/>
                  </a:lnTo>
                  <a:lnTo>
                    <a:pt x="270" y="1324"/>
                  </a:lnTo>
                  <a:lnTo>
                    <a:pt x="264" y="1343"/>
                  </a:lnTo>
                  <a:lnTo>
                    <a:pt x="271" y="1344"/>
                  </a:lnTo>
                  <a:lnTo>
                    <a:pt x="278" y="1346"/>
                  </a:lnTo>
                  <a:lnTo>
                    <a:pt x="285" y="1345"/>
                  </a:lnTo>
                  <a:lnTo>
                    <a:pt x="292" y="1346"/>
                  </a:lnTo>
                  <a:lnTo>
                    <a:pt x="297" y="1355"/>
                  </a:lnTo>
                  <a:lnTo>
                    <a:pt x="301" y="1361"/>
                  </a:lnTo>
                  <a:lnTo>
                    <a:pt x="325" y="1372"/>
                  </a:lnTo>
                  <a:lnTo>
                    <a:pt x="347" y="1385"/>
                  </a:lnTo>
                  <a:lnTo>
                    <a:pt x="368" y="1400"/>
                  </a:lnTo>
                  <a:lnTo>
                    <a:pt x="373" y="1404"/>
                  </a:lnTo>
                  <a:lnTo>
                    <a:pt x="377" y="1408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5"/>
                  </a:lnTo>
                  <a:lnTo>
                    <a:pt x="398" y="1412"/>
                  </a:lnTo>
                  <a:lnTo>
                    <a:pt x="400" y="1409"/>
                  </a:lnTo>
                  <a:lnTo>
                    <a:pt x="405" y="1407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400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9"/>
                  </a:lnTo>
                  <a:lnTo>
                    <a:pt x="467" y="1428"/>
                  </a:lnTo>
                  <a:lnTo>
                    <a:pt x="480" y="1434"/>
                  </a:lnTo>
                  <a:lnTo>
                    <a:pt x="492" y="1441"/>
                  </a:lnTo>
                  <a:lnTo>
                    <a:pt x="500" y="1450"/>
                  </a:lnTo>
                  <a:lnTo>
                    <a:pt x="506" y="1461"/>
                  </a:lnTo>
                  <a:lnTo>
                    <a:pt x="514" y="1471"/>
                  </a:lnTo>
                  <a:lnTo>
                    <a:pt x="521" y="1472"/>
                  </a:lnTo>
                  <a:lnTo>
                    <a:pt x="526" y="1466"/>
                  </a:lnTo>
                  <a:lnTo>
                    <a:pt x="530" y="1459"/>
                  </a:lnTo>
                  <a:lnTo>
                    <a:pt x="536" y="1461"/>
                  </a:lnTo>
                  <a:lnTo>
                    <a:pt x="540" y="1468"/>
                  </a:lnTo>
                  <a:lnTo>
                    <a:pt x="542" y="1477"/>
                  </a:lnTo>
                  <a:lnTo>
                    <a:pt x="546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5"/>
                  </a:lnTo>
                  <a:lnTo>
                    <a:pt x="573" y="1497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9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3"/>
                  </a:lnTo>
                  <a:lnTo>
                    <a:pt x="603" y="1513"/>
                  </a:lnTo>
                  <a:lnTo>
                    <a:pt x="607" y="1511"/>
                  </a:lnTo>
                  <a:lnTo>
                    <a:pt x="614" y="1513"/>
                  </a:lnTo>
                  <a:lnTo>
                    <a:pt x="621" y="1517"/>
                  </a:lnTo>
                  <a:lnTo>
                    <a:pt x="628" y="1517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7"/>
                  </a:lnTo>
                  <a:lnTo>
                    <a:pt x="644" y="1526"/>
                  </a:lnTo>
                  <a:lnTo>
                    <a:pt x="652" y="1529"/>
                  </a:lnTo>
                  <a:lnTo>
                    <a:pt x="659" y="1528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4"/>
                  </a:lnTo>
                  <a:lnTo>
                    <a:pt x="684" y="1528"/>
                  </a:lnTo>
                  <a:lnTo>
                    <a:pt x="694" y="1534"/>
                  </a:lnTo>
                  <a:lnTo>
                    <a:pt x="709" y="1538"/>
                  </a:lnTo>
                  <a:lnTo>
                    <a:pt x="723" y="1538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3"/>
                  </a:lnTo>
                  <a:lnTo>
                    <a:pt x="757" y="1532"/>
                  </a:lnTo>
                  <a:lnTo>
                    <a:pt x="763" y="1529"/>
                  </a:lnTo>
                  <a:lnTo>
                    <a:pt x="768" y="1527"/>
                  </a:lnTo>
                  <a:lnTo>
                    <a:pt x="773" y="1528"/>
                  </a:lnTo>
                  <a:lnTo>
                    <a:pt x="775" y="1531"/>
                  </a:lnTo>
                  <a:lnTo>
                    <a:pt x="776" y="1540"/>
                  </a:lnTo>
                  <a:lnTo>
                    <a:pt x="777" y="1549"/>
                  </a:lnTo>
                  <a:lnTo>
                    <a:pt x="781" y="1557"/>
                  </a:lnTo>
                  <a:lnTo>
                    <a:pt x="781" y="1559"/>
                  </a:lnTo>
                  <a:lnTo>
                    <a:pt x="786" y="1554"/>
                  </a:lnTo>
                  <a:lnTo>
                    <a:pt x="794" y="1548"/>
                  </a:lnTo>
                  <a:lnTo>
                    <a:pt x="794" y="1539"/>
                  </a:lnTo>
                  <a:lnTo>
                    <a:pt x="796" y="1539"/>
                  </a:lnTo>
                  <a:lnTo>
                    <a:pt x="798" y="1538"/>
                  </a:lnTo>
                  <a:lnTo>
                    <a:pt x="800" y="1536"/>
                  </a:lnTo>
                  <a:lnTo>
                    <a:pt x="804" y="1533"/>
                  </a:lnTo>
                  <a:lnTo>
                    <a:pt x="807" y="1528"/>
                  </a:lnTo>
                  <a:lnTo>
                    <a:pt x="811" y="1524"/>
                  </a:lnTo>
                  <a:lnTo>
                    <a:pt x="818" y="1519"/>
                  </a:lnTo>
                  <a:lnTo>
                    <a:pt x="825" y="1514"/>
                  </a:lnTo>
                  <a:lnTo>
                    <a:pt x="834" y="1511"/>
                  </a:lnTo>
                  <a:lnTo>
                    <a:pt x="835" y="1512"/>
                  </a:lnTo>
                  <a:lnTo>
                    <a:pt x="838" y="1513"/>
                  </a:lnTo>
                  <a:lnTo>
                    <a:pt x="839" y="1516"/>
                  </a:lnTo>
                  <a:lnTo>
                    <a:pt x="843" y="1515"/>
                  </a:lnTo>
                  <a:lnTo>
                    <a:pt x="846" y="1514"/>
                  </a:lnTo>
                  <a:lnTo>
                    <a:pt x="849" y="1515"/>
                  </a:lnTo>
                  <a:lnTo>
                    <a:pt x="852" y="1518"/>
                  </a:lnTo>
                  <a:lnTo>
                    <a:pt x="856" y="1522"/>
                  </a:lnTo>
                  <a:lnTo>
                    <a:pt x="860" y="1523"/>
                  </a:lnTo>
                  <a:lnTo>
                    <a:pt x="868" y="1525"/>
                  </a:lnTo>
                  <a:lnTo>
                    <a:pt x="875" y="1527"/>
                  </a:lnTo>
                  <a:lnTo>
                    <a:pt x="883" y="1528"/>
                  </a:lnTo>
                  <a:lnTo>
                    <a:pt x="891" y="1528"/>
                  </a:lnTo>
                  <a:lnTo>
                    <a:pt x="898" y="1526"/>
                  </a:lnTo>
                  <a:lnTo>
                    <a:pt x="904" y="1526"/>
                  </a:lnTo>
                  <a:lnTo>
                    <a:pt x="911" y="1532"/>
                  </a:lnTo>
                  <a:lnTo>
                    <a:pt x="917" y="1541"/>
                  </a:lnTo>
                  <a:lnTo>
                    <a:pt x="922" y="1550"/>
                  </a:lnTo>
                  <a:lnTo>
                    <a:pt x="933" y="1545"/>
                  </a:lnTo>
                  <a:lnTo>
                    <a:pt x="946" y="1542"/>
                  </a:lnTo>
                  <a:lnTo>
                    <a:pt x="957" y="1540"/>
                  </a:lnTo>
                  <a:lnTo>
                    <a:pt x="971" y="1538"/>
                  </a:lnTo>
                  <a:lnTo>
                    <a:pt x="971" y="1525"/>
                  </a:lnTo>
                  <a:lnTo>
                    <a:pt x="983" y="1519"/>
                  </a:lnTo>
                  <a:lnTo>
                    <a:pt x="992" y="1511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8" y="1493"/>
                  </a:lnTo>
                  <a:lnTo>
                    <a:pt x="1017" y="1491"/>
                  </a:lnTo>
                  <a:lnTo>
                    <a:pt x="1027" y="1492"/>
                  </a:lnTo>
                  <a:lnTo>
                    <a:pt x="1036" y="1490"/>
                  </a:lnTo>
                  <a:lnTo>
                    <a:pt x="1049" y="1479"/>
                  </a:lnTo>
                  <a:lnTo>
                    <a:pt x="1061" y="1465"/>
                  </a:lnTo>
                  <a:lnTo>
                    <a:pt x="1076" y="1461"/>
                  </a:lnTo>
                  <a:lnTo>
                    <a:pt x="1084" y="1465"/>
                  </a:lnTo>
                  <a:lnTo>
                    <a:pt x="1093" y="1470"/>
                  </a:lnTo>
                  <a:lnTo>
                    <a:pt x="1103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8"/>
                  </a:lnTo>
                  <a:lnTo>
                    <a:pt x="1120" y="1470"/>
                  </a:lnTo>
                  <a:lnTo>
                    <a:pt x="1132" y="1460"/>
                  </a:lnTo>
                  <a:lnTo>
                    <a:pt x="1145" y="1460"/>
                  </a:lnTo>
                  <a:lnTo>
                    <a:pt x="1151" y="1468"/>
                  </a:lnTo>
                  <a:lnTo>
                    <a:pt x="1150" y="1477"/>
                  </a:lnTo>
                  <a:lnTo>
                    <a:pt x="1146" y="1488"/>
                  </a:lnTo>
                  <a:lnTo>
                    <a:pt x="1152" y="1484"/>
                  </a:lnTo>
                  <a:lnTo>
                    <a:pt x="1158" y="1481"/>
                  </a:lnTo>
                  <a:lnTo>
                    <a:pt x="1165" y="1478"/>
                  </a:lnTo>
                  <a:lnTo>
                    <a:pt x="1168" y="1483"/>
                  </a:lnTo>
                  <a:lnTo>
                    <a:pt x="1173" y="1486"/>
                  </a:lnTo>
                  <a:lnTo>
                    <a:pt x="1172" y="1491"/>
                  </a:lnTo>
                  <a:lnTo>
                    <a:pt x="1165" y="1498"/>
                  </a:lnTo>
                  <a:lnTo>
                    <a:pt x="1158" y="1502"/>
                  </a:lnTo>
                  <a:lnTo>
                    <a:pt x="1150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3" y="1511"/>
                  </a:lnTo>
                  <a:lnTo>
                    <a:pt x="1164" y="1511"/>
                  </a:lnTo>
                  <a:lnTo>
                    <a:pt x="1175" y="1511"/>
                  </a:lnTo>
                  <a:lnTo>
                    <a:pt x="1186" y="1515"/>
                  </a:lnTo>
                  <a:lnTo>
                    <a:pt x="1187" y="1509"/>
                  </a:lnTo>
                  <a:lnTo>
                    <a:pt x="1191" y="1511"/>
                  </a:lnTo>
                  <a:lnTo>
                    <a:pt x="1196" y="1511"/>
                  </a:lnTo>
                  <a:lnTo>
                    <a:pt x="1202" y="1516"/>
                  </a:lnTo>
                  <a:lnTo>
                    <a:pt x="1206" y="1518"/>
                  </a:lnTo>
                  <a:lnTo>
                    <a:pt x="1211" y="1517"/>
                  </a:lnTo>
                  <a:lnTo>
                    <a:pt x="1212" y="1514"/>
                  </a:lnTo>
                  <a:lnTo>
                    <a:pt x="1212" y="1512"/>
                  </a:lnTo>
                  <a:lnTo>
                    <a:pt x="1210" y="1508"/>
                  </a:lnTo>
                  <a:lnTo>
                    <a:pt x="1209" y="1505"/>
                  </a:lnTo>
                  <a:lnTo>
                    <a:pt x="1209" y="1501"/>
                  </a:lnTo>
                  <a:lnTo>
                    <a:pt x="1212" y="1502"/>
                  </a:lnTo>
                  <a:lnTo>
                    <a:pt x="1216" y="1501"/>
                  </a:lnTo>
                  <a:lnTo>
                    <a:pt x="1219" y="1501"/>
                  </a:lnTo>
                  <a:lnTo>
                    <a:pt x="1231" y="1510"/>
                  </a:lnTo>
                  <a:lnTo>
                    <a:pt x="1241" y="1520"/>
                  </a:lnTo>
                  <a:lnTo>
                    <a:pt x="1247" y="1531"/>
                  </a:lnTo>
                  <a:lnTo>
                    <a:pt x="1248" y="1540"/>
                  </a:lnTo>
                  <a:lnTo>
                    <a:pt x="1248" y="1547"/>
                  </a:lnTo>
                  <a:lnTo>
                    <a:pt x="1253" y="1553"/>
                  </a:lnTo>
                  <a:lnTo>
                    <a:pt x="1257" y="1552"/>
                  </a:lnTo>
                  <a:lnTo>
                    <a:pt x="1263" y="1551"/>
                  </a:lnTo>
                  <a:lnTo>
                    <a:pt x="1268" y="1552"/>
                  </a:lnTo>
                  <a:lnTo>
                    <a:pt x="1273" y="1558"/>
                  </a:lnTo>
                  <a:lnTo>
                    <a:pt x="1275" y="1566"/>
                  </a:lnTo>
                  <a:lnTo>
                    <a:pt x="1273" y="1575"/>
                  </a:lnTo>
                  <a:lnTo>
                    <a:pt x="1273" y="1586"/>
                  </a:lnTo>
                  <a:lnTo>
                    <a:pt x="1280" y="1598"/>
                  </a:lnTo>
                  <a:lnTo>
                    <a:pt x="1280" y="1611"/>
                  </a:lnTo>
                  <a:lnTo>
                    <a:pt x="1274" y="1622"/>
                  </a:lnTo>
                  <a:lnTo>
                    <a:pt x="1269" y="1632"/>
                  </a:lnTo>
                  <a:lnTo>
                    <a:pt x="1272" y="1643"/>
                  </a:lnTo>
                  <a:lnTo>
                    <a:pt x="1265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2" y="1672"/>
                  </a:lnTo>
                  <a:lnTo>
                    <a:pt x="1241" y="1679"/>
                  </a:lnTo>
                  <a:lnTo>
                    <a:pt x="1230" y="1685"/>
                  </a:lnTo>
                  <a:lnTo>
                    <a:pt x="1224" y="1692"/>
                  </a:lnTo>
                  <a:lnTo>
                    <a:pt x="1220" y="1702"/>
                  </a:lnTo>
                  <a:lnTo>
                    <a:pt x="1212" y="1709"/>
                  </a:lnTo>
                  <a:lnTo>
                    <a:pt x="1221" y="1725"/>
                  </a:lnTo>
                  <a:lnTo>
                    <a:pt x="1225" y="1741"/>
                  </a:lnTo>
                  <a:lnTo>
                    <a:pt x="1216" y="1756"/>
                  </a:lnTo>
                  <a:lnTo>
                    <a:pt x="1227" y="1749"/>
                  </a:lnTo>
                  <a:lnTo>
                    <a:pt x="1238" y="1744"/>
                  </a:lnTo>
                  <a:lnTo>
                    <a:pt x="1250" y="1738"/>
                  </a:lnTo>
                  <a:lnTo>
                    <a:pt x="1261" y="1735"/>
                  </a:lnTo>
                  <a:lnTo>
                    <a:pt x="1273" y="1735"/>
                  </a:lnTo>
                  <a:lnTo>
                    <a:pt x="1285" y="1740"/>
                  </a:lnTo>
                  <a:lnTo>
                    <a:pt x="1278" y="1749"/>
                  </a:lnTo>
                  <a:lnTo>
                    <a:pt x="1279" y="1761"/>
                  </a:lnTo>
                  <a:lnTo>
                    <a:pt x="1284" y="1773"/>
                  </a:lnTo>
                  <a:lnTo>
                    <a:pt x="1285" y="1778"/>
                  </a:lnTo>
                  <a:lnTo>
                    <a:pt x="1283" y="1784"/>
                  </a:lnTo>
                  <a:lnTo>
                    <a:pt x="1283" y="1788"/>
                  </a:lnTo>
                  <a:lnTo>
                    <a:pt x="1291" y="1793"/>
                  </a:lnTo>
                  <a:lnTo>
                    <a:pt x="1302" y="1792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2" y="1827"/>
                  </a:lnTo>
                  <a:lnTo>
                    <a:pt x="1304" y="1844"/>
                  </a:lnTo>
                  <a:lnTo>
                    <a:pt x="1313" y="1848"/>
                  </a:lnTo>
                  <a:lnTo>
                    <a:pt x="1326" y="1848"/>
                  </a:lnTo>
                  <a:lnTo>
                    <a:pt x="1336" y="1852"/>
                  </a:lnTo>
                  <a:lnTo>
                    <a:pt x="1338" y="1858"/>
                  </a:lnTo>
                  <a:lnTo>
                    <a:pt x="1335" y="1865"/>
                  </a:lnTo>
                  <a:lnTo>
                    <a:pt x="1331" y="1871"/>
                  </a:lnTo>
                  <a:lnTo>
                    <a:pt x="1336" y="1872"/>
                  </a:lnTo>
                  <a:lnTo>
                    <a:pt x="1340" y="1874"/>
                  </a:lnTo>
                  <a:lnTo>
                    <a:pt x="1344" y="1876"/>
                  </a:lnTo>
                  <a:lnTo>
                    <a:pt x="1344" y="1878"/>
                  </a:lnTo>
                  <a:lnTo>
                    <a:pt x="1342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5"/>
                  </a:lnTo>
                  <a:lnTo>
                    <a:pt x="1397" y="1871"/>
                  </a:lnTo>
                  <a:lnTo>
                    <a:pt x="1396" y="1874"/>
                  </a:lnTo>
                  <a:lnTo>
                    <a:pt x="1395" y="1876"/>
                  </a:lnTo>
                  <a:lnTo>
                    <a:pt x="1395" y="1876"/>
                  </a:lnTo>
                  <a:lnTo>
                    <a:pt x="1393" y="1882"/>
                  </a:lnTo>
                  <a:lnTo>
                    <a:pt x="1398" y="1885"/>
                  </a:lnTo>
                  <a:lnTo>
                    <a:pt x="1406" y="1892"/>
                  </a:lnTo>
                  <a:lnTo>
                    <a:pt x="1413" y="1897"/>
                  </a:lnTo>
                  <a:lnTo>
                    <a:pt x="1418" y="1898"/>
                  </a:lnTo>
                  <a:lnTo>
                    <a:pt x="1423" y="1898"/>
                  </a:lnTo>
                  <a:lnTo>
                    <a:pt x="1429" y="1894"/>
                  </a:lnTo>
                  <a:lnTo>
                    <a:pt x="1432" y="1886"/>
                  </a:lnTo>
                  <a:lnTo>
                    <a:pt x="1430" y="1878"/>
                  </a:lnTo>
                  <a:lnTo>
                    <a:pt x="1429" y="1874"/>
                  </a:lnTo>
                  <a:lnTo>
                    <a:pt x="1426" y="1871"/>
                  </a:lnTo>
                  <a:lnTo>
                    <a:pt x="1421" y="1863"/>
                  </a:lnTo>
                  <a:lnTo>
                    <a:pt x="1418" y="1853"/>
                  </a:lnTo>
                  <a:lnTo>
                    <a:pt x="1417" y="1846"/>
                  </a:lnTo>
                  <a:lnTo>
                    <a:pt x="1416" y="1843"/>
                  </a:lnTo>
                  <a:lnTo>
                    <a:pt x="1414" y="1842"/>
                  </a:lnTo>
                  <a:lnTo>
                    <a:pt x="1412" y="1839"/>
                  </a:lnTo>
                  <a:lnTo>
                    <a:pt x="1411" y="1834"/>
                  </a:lnTo>
                  <a:lnTo>
                    <a:pt x="1413" y="1828"/>
                  </a:lnTo>
                  <a:lnTo>
                    <a:pt x="1419" y="1824"/>
                  </a:lnTo>
                  <a:lnTo>
                    <a:pt x="1425" y="1824"/>
                  </a:lnTo>
                  <a:lnTo>
                    <a:pt x="1431" y="1825"/>
                  </a:lnTo>
                  <a:lnTo>
                    <a:pt x="1437" y="1828"/>
                  </a:lnTo>
                  <a:lnTo>
                    <a:pt x="1445" y="1832"/>
                  </a:lnTo>
                  <a:lnTo>
                    <a:pt x="1451" y="1834"/>
                  </a:lnTo>
                  <a:lnTo>
                    <a:pt x="1452" y="1832"/>
                  </a:lnTo>
                  <a:lnTo>
                    <a:pt x="1453" y="1830"/>
                  </a:lnTo>
                  <a:lnTo>
                    <a:pt x="1453" y="1829"/>
                  </a:lnTo>
                  <a:lnTo>
                    <a:pt x="1455" y="1821"/>
                  </a:lnTo>
                  <a:lnTo>
                    <a:pt x="1457" y="1816"/>
                  </a:lnTo>
                  <a:lnTo>
                    <a:pt x="1460" y="1809"/>
                  </a:lnTo>
                  <a:lnTo>
                    <a:pt x="1462" y="1808"/>
                  </a:lnTo>
                  <a:lnTo>
                    <a:pt x="1466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4" y="1822"/>
                  </a:lnTo>
                  <a:lnTo>
                    <a:pt x="1492" y="1823"/>
                  </a:lnTo>
                  <a:lnTo>
                    <a:pt x="1496" y="1819"/>
                  </a:lnTo>
                  <a:lnTo>
                    <a:pt x="1500" y="1811"/>
                  </a:lnTo>
                  <a:lnTo>
                    <a:pt x="1506" y="1807"/>
                  </a:lnTo>
                  <a:lnTo>
                    <a:pt x="1517" y="1807"/>
                  </a:lnTo>
                  <a:lnTo>
                    <a:pt x="1526" y="1811"/>
                  </a:lnTo>
                  <a:lnTo>
                    <a:pt x="1532" y="1822"/>
                  </a:lnTo>
                  <a:lnTo>
                    <a:pt x="1539" y="1819"/>
                  </a:lnTo>
                  <a:lnTo>
                    <a:pt x="1547" y="1815"/>
                  </a:lnTo>
                  <a:lnTo>
                    <a:pt x="1552" y="1809"/>
                  </a:lnTo>
                  <a:lnTo>
                    <a:pt x="1554" y="1811"/>
                  </a:lnTo>
                  <a:lnTo>
                    <a:pt x="1555" y="1813"/>
                  </a:lnTo>
                  <a:lnTo>
                    <a:pt x="1555" y="1815"/>
                  </a:lnTo>
                  <a:lnTo>
                    <a:pt x="1558" y="1816"/>
                  </a:lnTo>
                  <a:lnTo>
                    <a:pt x="1560" y="1816"/>
                  </a:lnTo>
                  <a:lnTo>
                    <a:pt x="1561" y="1815"/>
                  </a:lnTo>
                  <a:lnTo>
                    <a:pt x="1562" y="1813"/>
                  </a:lnTo>
                  <a:lnTo>
                    <a:pt x="1562" y="1811"/>
                  </a:lnTo>
                  <a:lnTo>
                    <a:pt x="1562" y="1809"/>
                  </a:lnTo>
                  <a:lnTo>
                    <a:pt x="1568" y="1807"/>
                  </a:lnTo>
                  <a:lnTo>
                    <a:pt x="1574" y="1807"/>
                  </a:lnTo>
                  <a:lnTo>
                    <a:pt x="1581" y="1809"/>
                  </a:lnTo>
                  <a:lnTo>
                    <a:pt x="1579" y="1796"/>
                  </a:lnTo>
                  <a:lnTo>
                    <a:pt x="1583" y="1785"/>
                  </a:lnTo>
                  <a:lnTo>
                    <a:pt x="1592" y="1777"/>
                  </a:lnTo>
                  <a:lnTo>
                    <a:pt x="1603" y="1777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1" y="1799"/>
                  </a:lnTo>
                  <a:lnTo>
                    <a:pt x="1642" y="1799"/>
                  </a:lnTo>
                  <a:lnTo>
                    <a:pt x="1654" y="1802"/>
                  </a:lnTo>
                  <a:lnTo>
                    <a:pt x="1662" y="1802"/>
                  </a:lnTo>
                  <a:lnTo>
                    <a:pt x="1670" y="1799"/>
                  </a:lnTo>
                  <a:lnTo>
                    <a:pt x="1676" y="1800"/>
                  </a:lnTo>
                  <a:lnTo>
                    <a:pt x="1680" y="1802"/>
                  </a:lnTo>
                  <a:lnTo>
                    <a:pt x="1684" y="1804"/>
                  </a:lnTo>
                  <a:lnTo>
                    <a:pt x="1683" y="1808"/>
                  </a:lnTo>
                  <a:lnTo>
                    <a:pt x="1679" y="1820"/>
                  </a:lnTo>
                  <a:lnTo>
                    <a:pt x="1675" y="1831"/>
                  </a:lnTo>
                  <a:lnTo>
                    <a:pt x="1670" y="1842"/>
                  </a:lnTo>
                  <a:lnTo>
                    <a:pt x="1681" y="1845"/>
                  </a:lnTo>
                  <a:lnTo>
                    <a:pt x="1689" y="1853"/>
                  </a:lnTo>
                  <a:lnTo>
                    <a:pt x="1697" y="1861"/>
                  </a:lnTo>
                  <a:lnTo>
                    <a:pt x="1707" y="1864"/>
                  </a:lnTo>
                  <a:lnTo>
                    <a:pt x="1716" y="1865"/>
                  </a:lnTo>
                  <a:lnTo>
                    <a:pt x="1727" y="1866"/>
                  </a:lnTo>
                  <a:lnTo>
                    <a:pt x="1730" y="1867"/>
                  </a:lnTo>
                  <a:lnTo>
                    <a:pt x="1732" y="1869"/>
                  </a:lnTo>
                  <a:lnTo>
                    <a:pt x="1734" y="1871"/>
                  </a:lnTo>
                  <a:lnTo>
                    <a:pt x="1737" y="1875"/>
                  </a:lnTo>
                  <a:lnTo>
                    <a:pt x="1750" y="1877"/>
                  </a:lnTo>
                  <a:lnTo>
                    <a:pt x="1748" y="1880"/>
                  </a:lnTo>
                  <a:lnTo>
                    <a:pt x="1761" y="1882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1"/>
                  </a:lnTo>
                  <a:lnTo>
                    <a:pt x="1820" y="1911"/>
                  </a:lnTo>
                  <a:lnTo>
                    <a:pt x="1821" y="1921"/>
                  </a:lnTo>
                  <a:lnTo>
                    <a:pt x="1832" y="1939"/>
                  </a:lnTo>
                  <a:lnTo>
                    <a:pt x="1849" y="1948"/>
                  </a:lnTo>
                  <a:lnTo>
                    <a:pt x="1869" y="1946"/>
                  </a:lnTo>
                  <a:lnTo>
                    <a:pt x="1871" y="1943"/>
                  </a:lnTo>
                  <a:lnTo>
                    <a:pt x="1868" y="1940"/>
                  </a:lnTo>
                  <a:lnTo>
                    <a:pt x="1870" y="1934"/>
                  </a:lnTo>
                  <a:lnTo>
                    <a:pt x="1860" y="1931"/>
                  </a:lnTo>
                  <a:lnTo>
                    <a:pt x="1851" y="1929"/>
                  </a:lnTo>
                  <a:lnTo>
                    <a:pt x="1848" y="1922"/>
                  </a:lnTo>
                  <a:lnTo>
                    <a:pt x="1855" y="1901"/>
                  </a:lnTo>
                  <a:lnTo>
                    <a:pt x="1865" y="1882"/>
                  </a:lnTo>
                  <a:lnTo>
                    <a:pt x="1879" y="1868"/>
                  </a:lnTo>
                  <a:lnTo>
                    <a:pt x="1901" y="1864"/>
                  </a:lnTo>
                  <a:lnTo>
                    <a:pt x="1927" y="1868"/>
                  </a:lnTo>
                  <a:lnTo>
                    <a:pt x="1951" y="1862"/>
                  </a:lnTo>
                  <a:lnTo>
                    <a:pt x="1961" y="1857"/>
                  </a:lnTo>
                  <a:lnTo>
                    <a:pt x="1972" y="1853"/>
                  </a:lnTo>
                  <a:lnTo>
                    <a:pt x="1982" y="1850"/>
                  </a:lnTo>
                  <a:lnTo>
                    <a:pt x="1991" y="1840"/>
                  </a:lnTo>
                  <a:lnTo>
                    <a:pt x="2001" y="1828"/>
                  </a:lnTo>
                  <a:lnTo>
                    <a:pt x="2015" y="1826"/>
                  </a:lnTo>
                  <a:lnTo>
                    <a:pt x="2017" y="1829"/>
                  </a:lnTo>
                  <a:lnTo>
                    <a:pt x="2019" y="1832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4"/>
                  </a:lnTo>
                  <a:lnTo>
                    <a:pt x="2025" y="1832"/>
                  </a:lnTo>
                  <a:lnTo>
                    <a:pt x="2028" y="1827"/>
                  </a:lnTo>
                  <a:lnTo>
                    <a:pt x="2035" y="1822"/>
                  </a:lnTo>
                  <a:lnTo>
                    <a:pt x="2035" y="1823"/>
                  </a:lnTo>
                  <a:lnTo>
                    <a:pt x="2036" y="1825"/>
                  </a:lnTo>
                  <a:lnTo>
                    <a:pt x="2043" y="1825"/>
                  </a:lnTo>
                  <a:lnTo>
                    <a:pt x="2047" y="1824"/>
                  </a:lnTo>
                  <a:lnTo>
                    <a:pt x="2057" y="1821"/>
                  </a:lnTo>
                  <a:lnTo>
                    <a:pt x="2064" y="1825"/>
                  </a:lnTo>
                  <a:lnTo>
                    <a:pt x="2068" y="1832"/>
                  </a:lnTo>
                  <a:lnTo>
                    <a:pt x="2078" y="1824"/>
                  </a:lnTo>
                  <a:lnTo>
                    <a:pt x="2091" y="1819"/>
                  </a:lnTo>
                  <a:lnTo>
                    <a:pt x="2104" y="1817"/>
                  </a:lnTo>
                  <a:lnTo>
                    <a:pt x="2106" y="1816"/>
                  </a:lnTo>
                  <a:lnTo>
                    <a:pt x="2110" y="1814"/>
                  </a:lnTo>
                  <a:lnTo>
                    <a:pt x="2114" y="1812"/>
                  </a:lnTo>
                  <a:lnTo>
                    <a:pt x="2128" y="1811"/>
                  </a:lnTo>
                  <a:lnTo>
                    <a:pt x="2141" y="1811"/>
                  </a:lnTo>
                  <a:lnTo>
                    <a:pt x="2153" y="1810"/>
                  </a:lnTo>
                  <a:lnTo>
                    <a:pt x="2170" y="1798"/>
                  </a:lnTo>
                  <a:lnTo>
                    <a:pt x="2183" y="1781"/>
                  </a:lnTo>
                  <a:lnTo>
                    <a:pt x="2200" y="1772"/>
                  </a:lnTo>
                  <a:lnTo>
                    <a:pt x="2217" y="1766"/>
                  </a:lnTo>
                  <a:lnTo>
                    <a:pt x="2231" y="1753"/>
                  </a:lnTo>
                  <a:lnTo>
                    <a:pt x="2246" y="1743"/>
                  </a:lnTo>
                  <a:lnTo>
                    <a:pt x="2244" y="1740"/>
                  </a:lnTo>
                  <a:lnTo>
                    <a:pt x="2243" y="1736"/>
                  </a:lnTo>
                  <a:lnTo>
                    <a:pt x="2244" y="1733"/>
                  </a:lnTo>
                  <a:lnTo>
                    <a:pt x="2263" y="1711"/>
                  </a:lnTo>
                  <a:lnTo>
                    <a:pt x="2287" y="1697"/>
                  </a:lnTo>
                  <a:lnTo>
                    <a:pt x="2316" y="1692"/>
                  </a:lnTo>
                  <a:lnTo>
                    <a:pt x="2322" y="1689"/>
                  </a:lnTo>
                  <a:lnTo>
                    <a:pt x="2329" y="1684"/>
                  </a:lnTo>
                  <a:lnTo>
                    <a:pt x="2336" y="1680"/>
                  </a:lnTo>
                  <a:lnTo>
                    <a:pt x="2325" y="1678"/>
                  </a:lnTo>
                  <a:lnTo>
                    <a:pt x="2315" y="1682"/>
                  </a:lnTo>
                  <a:lnTo>
                    <a:pt x="2308" y="1682"/>
                  </a:lnTo>
                  <a:lnTo>
                    <a:pt x="2308" y="1673"/>
                  </a:lnTo>
                  <a:lnTo>
                    <a:pt x="2316" y="1664"/>
                  </a:lnTo>
                  <a:lnTo>
                    <a:pt x="2318" y="1654"/>
                  </a:lnTo>
                  <a:lnTo>
                    <a:pt x="2316" y="1650"/>
                  </a:lnTo>
                  <a:lnTo>
                    <a:pt x="2316" y="1647"/>
                  </a:lnTo>
                  <a:lnTo>
                    <a:pt x="2317" y="1644"/>
                  </a:lnTo>
                  <a:lnTo>
                    <a:pt x="2330" y="1626"/>
                  </a:lnTo>
                  <a:lnTo>
                    <a:pt x="2343" y="1609"/>
                  </a:lnTo>
                  <a:lnTo>
                    <a:pt x="2356" y="1592"/>
                  </a:lnTo>
                  <a:lnTo>
                    <a:pt x="2373" y="1569"/>
                  </a:lnTo>
                  <a:lnTo>
                    <a:pt x="2388" y="1546"/>
                  </a:lnTo>
                  <a:lnTo>
                    <a:pt x="2408" y="1525"/>
                  </a:lnTo>
                  <a:lnTo>
                    <a:pt x="2414" y="1516"/>
                  </a:lnTo>
                  <a:lnTo>
                    <a:pt x="2415" y="1506"/>
                  </a:lnTo>
                  <a:lnTo>
                    <a:pt x="2421" y="1497"/>
                  </a:lnTo>
                  <a:lnTo>
                    <a:pt x="2422" y="1495"/>
                  </a:lnTo>
                  <a:lnTo>
                    <a:pt x="2421" y="1491"/>
                  </a:lnTo>
                  <a:lnTo>
                    <a:pt x="2418" y="1488"/>
                  </a:lnTo>
                  <a:lnTo>
                    <a:pt x="2428" y="1470"/>
                  </a:lnTo>
                  <a:lnTo>
                    <a:pt x="2438" y="1452"/>
                  </a:lnTo>
                  <a:lnTo>
                    <a:pt x="2452" y="1437"/>
                  </a:lnTo>
                  <a:lnTo>
                    <a:pt x="2456" y="1436"/>
                  </a:lnTo>
                  <a:lnTo>
                    <a:pt x="2461" y="1434"/>
                  </a:lnTo>
                  <a:lnTo>
                    <a:pt x="2463" y="1432"/>
                  </a:lnTo>
                  <a:lnTo>
                    <a:pt x="2464" y="1419"/>
                  </a:lnTo>
                  <a:lnTo>
                    <a:pt x="2462" y="1406"/>
                  </a:lnTo>
                  <a:lnTo>
                    <a:pt x="2465" y="1393"/>
                  </a:lnTo>
                  <a:lnTo>
                    <a:pt x="2451" y="1387"/>
                  </a:lnTo>
                  <a:lnTo>
                    <a:pt x="2439" y="1383"/>
                  </a:lnTo>
                  <a:lnTo>
                    <a:pt x="2425" y="1379"/>
                  </a:lnTo>
                  <a:lnTo>
                    <a:pt x="2425" y="1373"/>
                  </a:lnTo>
                  <a:lnTo>
                    <a:pt x="2421" y="1368"/>
                  </a:lnTo>
                  <a:lnTo>
                    <a:pt x="2420" y="1363"/>
                  </a:lnTo>
                  <a:lnTo>
                    <a:pt x="2422" y="1351"/>
                  </a:lnTo>
                  <a:lnTo>
                    <a:pt x="2426" y="1339"/>
                  </a:lnTo>
                  <a:lnTo>
                    <a:pt x="2435" y="1330"/>
                  </a:lnTo>
                  <a:lnTo>
                    <a:pt x="2427" y="1329"/>
                  </a:lnTo>
                  <a:lnTo>
                    <a:pt x="2419" y="1329"/>
                  </a:lnTo>
                  <a:lnTo>
                    <a:pt x="2411" y="1328"/>
                  </a:lnTo>
                  <a:lnTo>
                    <a:pt x="2399" y="1330"/>
                  </a:lnTo>
                  <a:lnTo>
                    <a:pt x="2386" y="1333"/>
                  </a:lnTo>
                  <a:lnTo>
                    <a:pt x="2372" y="1332"/>
                  </a:lnTo>
                  <a:lnTo>
                    <a:pt x="2359" y="1325"/>
                  </a:lnTo>
                  <a:lnTo>
                    <a:pt x="2345" y="1317"/>
                  </a:lnTo>
                  <a:lnTo>
                    <a:pt x="2329" y="1313"/>
                  </a:lnTo>
                  <a:lnTo>
                    <a:pt x="2347" y="1314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9" y="1311"/>
                  </a:lnTo>
                  <a:lnTo>
                    <a:pt x="2396" y="1302"/>
                  </a:lnTo>
                  <a:lnTo>
                    <a:pt x="2405" y="1295"/>
                  </a:lnTo>
                  <a:lnTo>
                    <a:pt x="2413" y="1293"/>
                  </a:lnTo>
                  <a:lnTo>
                    <a:pt x="2418" y="1291"/>
                  </a:lnTo>
                  <a:lnTo>
                    <a:pt x="2425" y="1287"/>
                  </a:lnTo>
                  <a:lnTo>
                    <a:pt x="2414" y="1283"/>
                  </a:lnTo>
                  <a:lnTo>
                    <a:pt x="2404" y="1278"/>
                  </a:lnTo>
                  <a:lnTo>
                    <a:pt x="2397" y="1272"/>
                  </a:lnTo>
                  <a:lnTo>
                    <a:pt x="2385" y="1255"/>
                  </a:lnTo>
                  <a:lnTo>
                    <a:pt x="2376" y="1236"/>
                  </a:lnTo>
                  <a:lnTo>
                    <a:pt x="2370" y="1215"/>
                  </a:lnTo>
                  <a:lnTo>
                    <a:pt x="2360" y="1207"/>
                  </a:lnTo>
                  <a:lnTo>
                    <a:pt x="2345" y="1203"/>
                  </a:lnTo>
                  <a:lnTo>
                    <a:pt x="2333" y="1194"/>
                  </a:lnTo>
                  <a:lnTo>
                    <a:pt x="2330" y="1186"/>
                  </a:lnTo>
                  <a:lnTo>
                    <a:pt x="2328" y="1177"/>
                  </a:lnTo>
                  <a:lnTo>
                    <a:pt x="2324" y="1169"/>
                  </a:lnTo>
                  <a:lnTo>
                    <a:pt x="2319" y="1165"/>
                  </a:lnTo>
                  <a:lnTo>
                    <a:pt x="2313" y="1164"/>
                  </a:lnTo>
                  <a:lnTo>
                    <a:pt x="2306" y="1161"/>
                  </a:lnTo>
                  <a:lnTo>
                    <a:pt x="2312" y="1156"/>
                  </a:lnTo>
                  <a:lnTo>
                    <a:pt x="2313" y="1149"/>
                  </a:lnTo>
                  <a:lnTo>
                    <a:pt x="2316" y="1142"/>
                  </a:lnTo>
                  <a:lnTo>
                    <a:pt x="2325" y="1137"/>
                  </a:lnTo>
                  <a:lnTo>
                    <a:pt x="2334" y="1131"/>
                  </a:lnTo>
                  <a:lnTo>
                    <a:pt x="2341" y="1125"/>
                  </a:lnTo>
                  <a:lnTo>
                    <a:pt x="2348" y="1111"/>
                  </a:lnTo>
                  <a:lnTo>
                    <a:pt x="2352" y="1097"/>
                  </a:lnTo>
                  <a:lnTo>
                    <a:pt x="2349" y="1083"/>
                  </a:lnTo>
                  <a:lnTo>
                    <a:pt x="2363" y="1089"/>
                  </a:lnTo>
                  <a:lnTo>
                    <a:pt x="2376" y="1086"/>
                  </a:lnTo>
                  <a:lnTo>
                    <a:pt x="2387" y="1077"/>
                  </a:lnTo>
                  <a:lnTo>
                    <a:pt x="2418" y="1051"/>
                  </a:lnTo>
                  <a:lnTo>
                    <a:pt x="2456" y="1039"/>
                  </a:lnTo>
                  <a:lnTo>
                    <a:pt x="2498" y="1036"/>
                  </a:lnTo>
                  <a:lnTo>
                    <a:pt x="2499" y="1031"/>
                  </a:lnTo>
                  <a:lnTo>
                    <a:pt x="2501" y="1020"/>
                  </a:lnTo>
                  <a:lnTo>
                    <a:pt x="2506" y="1009"/>
                  </a:lnTo>
                  <a:lnTo>
                    <a:pt x="2509" y="1003"/>
                  </a:lnTo>
                  <a:lnTo>
                    <a:pt x="2509" y="996"/>
                  </a:lnTo>
                  <a:lnTo>
                    <a:pt x="2506" y="991"/>
                  </a:lnTo>
                  <a:lnTo>
                    <a:pt x="2483" y="981"/>
                  </a:lnTo>
                  <a:lnTo>
                    <a:pt x="2458" y="979"/>
                  </a:lnTo>
                  <a:lnTo>
                    <a:pt x="2438" y="993"/>
                  </a:lnTo>
                  <a:lnTo>
                    <a:pt x="2411" y="976"/>
                  </a:lnTo>
                  <a:lnTo>
                    <a:pt x="2379" y="970"/>
                  </a:lnTo>
                  <a:lnTo>
                    <a:pt x="2346" y="970"/>
                  </a:lnTo>
                  <a:lnTo>
                    <a:pt x="2346" y="978"/>
                  </a:lnTo>
                  <a:lnTo>
                    <a:pt x="2346" y="985"/>
                  </a:lnTo>
                  <a:lnTo>
                    <a:pt x="2345" y="993"/>
                  </a:lnTo>
                  <a:lnTo>
                    <a:pt x="2335" y="1010"/>
                  </a:lnTo>
                  <a:lnTo>
                    <a:pt x="2318" y="1021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6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9" y="963"/>
                  </a:lnTo>
                  <a:lnTo>
                    <a:pt x="2237" y="959"/>
                  </a:lnTo>
                  <a:lnTo>
                    <a:pt x="2226" y="950"/>
                  </a:lnTo>
                  <a:lnTo>
                    <a:pt x="2223" y="937"/>
                  </a:lnTo>
                  <a:lnTo>
                    <a:pt x="2228" y="925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3" y="911"/>
                  </a:lnTo>
                  <a:lnTo>
                    <a:pt x="2255" y="913"/>
                  </a:lnTo>
                  <a:lnTo>
                    <a:pt x="2258" y="914"/>
                  </a:lnTo>
                  <a:lnTo>
                    <a:pt x="2260" y="917"/>
                  </a:lnTo>
                  <a:lnTo>
                    <a:pt x="2273" y="916"/>
                  </a:lnTo>
                  <a:lnTo>
                    <a:pt x="2286" y="912"/>
                  </a:lnTo>
                  <a:lnTo>
                    <a:pt x="2299" y="911"/>
                  </a:lnTo>
                  <a:lnTo>
                    <a:pt x="2302" y="905"/>
                  </a:lnTo>
                  <a:lnTo>
                    <a:pt x="2308" y="904"/>
                  </a:lnTo>
                  <a:lnTo>
                    <a:pt x="2312" y="901"/>
                  </a:lnTo>
                  <a:lnTo>
                    <a:pt x="2312" y="890"/>
                  </a:lnTo>
                  <a:lnTo>
                    <a:pt x="2313" y="881"/>
                  </a:lnTo>
                  <a:lnTo>
                    <a:pt x="2317" y="872"/>
                  </a:lnTo>
                  <a:lnTo>
                    <a:pt x="2329" y="862"/>
                  </a:lnTo>
                  <a:lnTo>
                    <a:pt x="2344" y="857"/>
                  </a:lnTo>
                  <a:lnTo>
                    <a:pt x="2359" y="851"/>
                  </a:lnTo>
                  <a:lnTo>
                    <a:pt x="2371" y="841"/>
                  </a:lnTo>
                  <a:lnTo>
                    <a:pt x="2383" y="833"/>
                  </a:lnTo>
                  <a:lnTo>
                    <a:pt x="2395" y="827"/>
                  </a:lnTo>
                  <a:lnTo>
                    <a:pt x="2406" y="825"/>
                  </a:lnTo>
                  <a:lnTo>
                    <a:pt x="2417" y="825"/>
                  </a:lnTo>
                  <a:lnTo>
                    <a:pt x="2427" y="827"/>
                  </a:lnTo>
                  <a:lnTo>
                    <a:pt x="2430" y="832"/>
                  </a:lnTo>
                  <a:lnTo>
                    <a:pt x="2428" y="842"/>
                  </a:lnTo>
                  <a:lnTo>
                    <a:pt x="2427" y="851"/>
                  </a:lnTo>
                  <a:lnTo>
                    <a:pt x="2425" y="858"/>
                  </a:lnTo>
                  <a:lnTo>
                    <a:pt x="2420" y="865"/>
                  </a:lnTo>
                  <a:lnTo>
                    <a:pt x="2414" y="870"/>
                  </a:lnTo>
                  <a:lnTo>
                    <a:pt x="2406" y="873"/>
                  </a:lnTo>
                  <a:lnTo>
                    <a:pt x="2399" y="878"/>
                  </a:lnTo>
                  <a:lnTo>
                    <a:pt x="2397" y="884"/>
                  </a:lnTo>
                  <a:lnTo>
                    <a:pt x="2405" y="895"/>
                  </a:lnTo>
                  <a:lnTo>
                    <a:pt x="2420" y="896"/>
                  </a:lnTo>
                  <a:lnTo>
                    <a:pt x="2438" y="898"/>
                  </a:lnTo>
                  <a:lnTo>
                    <a:pt x="2428" y="914"/>
                  </a:lnTo>
                  <a:lnTo>
                    <a:pt x="2415" y="927"/>
                  </a:lnTo>
                  <a:lnTo>
                    <a:pt x="2398" y="937"/>
                  </a:lnTo>
                  <a:lnTo>
                    <a:pt x="2406" y="943"/>
                  </a:lnTo>
                  <a:lnTo>
                    <a:pt x="2415" y="945"/>
                  </a:lnTo>
                  <a:lnTo>
                    <a:pt x="2419" y="940"/>
                  </a:lnTo>
                  <a:lnTo>
                    <a:pt x="2433" y="916"/>
                  </a:lnTo>
                  <a:lnTo>
                    <a:pt x="2456" y="902"/>
                  </a:lnTo>
                  <a:lnTo>
                    <a:pt x="2480" y="892"/>
                  </a:lnTo>
                  <a:lnTo>
                    <a:pt x="2505" y="881"/>
                  </a:lnTo>
                  <a:lnTo>
                    <a:pt x="2531" y="872"/>
                  </a:lnTo>
                  <a:lnTo>
                    <a:pt x="2558" y="865"/>
                  </a:lnTo>
                  <a:lnTo>
                    <a:pt x="2558" y="861"/>
                  </a:lnTo>
                  <a:lnTo>
                    <a:pt x="2556" y="855"/>
                  </a:lnTo>
                  <a:lnTo>
                    <a:pt x="2556" y="848"/>
                  </a:lnTo>
                  <a:lnTo>
                    <a:pt x="2559" y="843"/>
                  </a:lnTo>
                  <a:lnTo>
                    <a:pt x="2593" y="818"/>
                  </a:lnTo>
                  <a:lnTo>
                    <a:pt x="2631" y="801"/>
                  </a:lnTo>
                  <a:lnTo>
                    <a:pt x="2665" y="775"/>
                  </a:lnTo>
                  <a:lnTo>
                    <a:pt x="2669" y="768"/>
                  </a:lnTo>
                  <a:lnTo>
                    <a:pt x="2671" y="761"/>
                  </a:lnTo>
                  <a:lnTo>
                    <a:pt x="2676" y="757"/>
                  </a:lnTo>
                  <a:lnTo>
                    <a:pt x="2684" y="755"/>
                  </a:lnTo>
                  <a:lnTo>
                    <a:pt x="2690" y="752"/>
                  </a:lnTo>
                  <a:lnTo>
                    <a:pt x="2693" y="753"/>
                  </a:lnTo>
                  <a:lnTo>
                    <a:pt x="2703" y="768"/>
                  </a:lnTo>
                  <a:lnTo>
                    <a:pt x="2718" y="776"/>
                  </a:lnTo>
                  <a:lnTo>
                    <a:pt x="2735" y="777"/>
                  </a:lnTo>
                  <a:lnTo>
                    <a:pt x="2746" y="770"/>
                  </a:lnTo>
                  <a:lnTo>
                    <a:pt x="2745" y="757"/>
                  </a:lnTo>
                  <a:lnTo>
                    <a:pt x="2745" y="744"/>
                  </a:lnTo>
                  <a:lnTo>
                    <a:pt x="2755" y="739"/>
                  </a:lnTo>
                  <a:lnTo>
                    <a:pt x="2770" y="740"/>
                  </a:lnTo>
                  <a:lnTo>
                    <a:pt x="2783" y="737"/>
                  </a:lnTo>
                  <a:lnTo>
                    <a:pt x="2792" y="730"/>
                  </a:lnTo>
                  <a:lnTo>
                    <a:pt x="2800" y="724"/>
                  </a:lnTo>
                  <a:lnTo>
                    <a:pt x="2809" y="717"/>
                  </a:lnTo>
                  <a:lnTo>
                    <a:pt x="2814" y="716"/>
                  </a:lnTo>
                  <a:lnTo>
                    <a:pt x="2821" y="716"/>
                  </a:lnTo>
                  <a:lnTo>
                    <a:pt x="2826" y="715"/>
                  </a:lnTo>
                  <a:lnTo>
                    <a:pt x="2830" y="707"/>
                  </a:lnTo>
                  <a:lnTo>
                    <a:pt x="2831" y="698"/>
                  </a:lnTo>
                  <a:lnTo>
                    <a:pt x="2833" y="690"/>
                  </a:lnTo>
                  <a:lnTo>
                    <a:pt x="2845" y="685"/>
                  </a:lnTo>
                  <a:lnTo>
                    <a:pt x="2858" y="695"/>
                  </a:lnTo>
                  <a:lnTo>
                    <a:pt x="2871" y="705"/>
                  </a:lnTo>
                  <a:lnTo>
                    <a:pt x="2877" y="702"/>
                  </a:lnTo>
                  <a:lnTo>
                    <a:pt x="2886" y="695"/>
                  </a:lnTo>
                  <a:lnTo>
                    <a:pt x="2894" y="686"/>
                  </a:lnTo>
                  <a:lnTo>
                    <a:pt x="2898" y="679"/>
                  </a:lnTo>
                  <a:lnTo>
                    <a:pt x="2903" y="669"/>
                  </a:lnTo>
                  <a:lnTo>
                    <a:pt x="2907" y="661"/>
                  </a:lnTo>
                  <a:lnTo>
                    <a:pt x="2910" y="650"/>
                  </a:lnTo>
                  <a:lnTo>
                    <a:pt x="2907" y="648"/>
                  </a:lnTo>
                  <a:lnTo>
                    <a:pt x="2907" y="645"/>
                  </a:lnTo>
                  <a:lnTo>
                    <a:pt x="2904" y="643"/>
                  </a:lnTo>
                  <a:lnTo>
                    <a:pt x="2907" y="618"/>
                  </a:lnTo>
                  <a:lnTo>
                    <a:pt x="2903" y="593"/>
                  </a:lnTo>
                  <a:lnTo>
                    <a:pt x="2891" y="570"/>
                  </a:lnTo>
                  <a:lnTo>
                    <a:pt x="2906" y="562"/>
                  </a:lnTo>
                  <a:lnTo>
                    <a:pt x="2919" y="551"/>
                  </a:lnTo>
                  <a:lnTo>
                    <a:pt x="2930" y="537"/>
                  </a:lnTo>
                  <a:lnTo>
                    <a:pt x="2940" y="545"/>
                  </a:lnTo>
                  <a:lnTo>
                    <a:pt x="2951" y="549"/>
                  </a:lnTo>
                  <a:lnTo>
                    <a:pt x="2963" y="547"/>
                  </a:lnTo>
                  <a:lnTo>
                    <a:pt x="2963" y="551"/>
                  </a:lnTo>
                  <a:lnTo>
                    <a:pt x="2967" y="553"/>
                  </a:lnTo>
                  <a:lnTo>
                    <a:pt x="2970" y="554"/>
                  </a:lnTo>
                  <a:lnTo>
                    <a:pt x="2979" y="554"/>
                  </a:lnTo>
                  <a:lnTo>
                    <a:pt x="2987" y="553"/>
                  </a:lnTo>
                  <a:lnTo>
                    <a:pt x="2996" y="550"/>
                  </a:lnTo>
                  <a:lnTo>
                    <a:pt x="2997" y="539"/>
                  </a:lnTo>
                  <a:lnTo>
                    <a:pt x="3002" y="529"/>
                  </a:lnTo>
                  <a:lnTo>
                    <a:pt x="3012" y="520"/>
                  </a:lnTo>
                  <a:lnTo>
                    <a:pt x="3013" y="517"/>
                  </a:lnTo>
                  <a:lnTo>
                    <a:pt x="3013" y="512"/>
                  </a:lnTo>
                  <a:lnTo>
                    <a:pt x="3013" y="508"/>
                  </a:lnTo>
                  <a:lnTo>
                    <a:pt x="3020" y="500"/>
                  </a:lnTo>
                  <a:lnTo>
                    <a:pt x="3027" y="492"/>
                  </a:lnTo>
                  <a:lnTo>
                    <a:pt x="3035" y="484"/>
                  </a:lnTo>
                  <a:lnTo>
                    <a:pt x="3037" y="478"/>
                  </a:lnTo>
                  <a:lnTo>
                    <a:pt x="3036" y="472"/>
                  </a:lnTo>
                  <a:lnTo>
                    <a:pt x="3033" y="465"/>
                  </a:lnTo>
                  <a:lnTo>
                    <a:pt x="3039" y="460"/>
                  </a:lnTo>
                  <a:lnTo>
                    <a:pt x="3044" y="454"/>
                  </a:lnTo>
                  <a:lnTo>
                    <a:pt x="3048" y="448"/>
                  </a:lnTo>
                  <a:lnTo>
                    <a:pt x="3049" y="441"/>
                  </a:lnTo>
                  <a:lnTo>
                    <a:pt x="3047" y="435"/>
                  </a:lnTo>
                  <a:lnTo>
                    <a:pt x="3047" y="430"/>
                  </a:lnTo>
                  <a:lnTo>
                    <a:pt x="3055" y="422"/>
                  </a:lnTo>
                  <a:lnTo>
                    <a:pt x="3056" y="413"/>
                  </a:lnTo>
                  <a:lnTo>
                    <a:pt x="3056" y="402"/>
                  </a:lnTo>
                  <a:lnTo>
                    <a:pt x="3068" y="402"/>
                  </a:lnTo>
                  <a:lnTo>
                    <a:pt x="3079" y="396"/>
                  </a:lnTo>
                  <a:lnTo>
                    <a:pt x="3080" y="387"/>
                  </a:lnTo>
                  <a:lnTo>
                    <a:pt x="3076" y="377"/>
                  </a:lnTo>
                  <a:lnTo>
                    <a:pt x="3074" y="368"/>
                  </a:lnTo>
                  <a:lnTo>
                    <a:pt x="3074" y="359"/>
                  </a:lnTo>
                  <a:lnTo>
                    <a:pt x="3074" y="355"/>
                  </a:lnTo>
                  <a:lnTo>
                    <a:pt x="3076" y="350"/>
                  </a:lnTo>
                  <a:lnTo>
                    <a:pt x="3079" y="346"/>
                  </a:lnTo>
                  <a:lnTo>
                    <a:pt x="3071" y="345"/>
                  </a:lnTo>
                  <a:lnTo>
                    <a:pt x="3065" y="341"/>
                  </a:lnTo>
                  <a:lnTo>
                    <a:pt x="3060" y="341"/>
                  </a:lnTo>
                  <a:lnTo>
                    <a:pt x="3038" y="348"/>
                  </a:lnTo>
                  <a:lnTo>
                    <a:pt x="3015" y="350"/>
                  </a:lnTo>
                  <a:lnTo>
                    <a:pt x="2994" y="355"/>
                  </a:lnTo>
                  <a:lnTo>
                    <a:pt x="2985" y="361"/>
                  </a:lnTo>
                  <a:lnTo>
                    <a:pt x="2977" y="367"/>
                  </a:lnTo>
                  <a:lnTo>
                    <a:pt x="2967" y="372"/>
                  </a:lnTo>
                  <a:lnTo>
                    <a:pt x="2969" y="374"/>
                  </a:lnTo>
                  <a:lnTo>
                    <a:pt x="2970" y="376"/>
                  </a:lnTo>
                  <a:lnTo>
                    <a:pt x="2970" y="378"/>
                  </a:lnTo>
                  <a:lnTo>
                    <a:pt x="2952" y="386"/>
                  </a:lnTo>
                  <a:lnTo>
                    <a:pt x="2934" y="386"/>
                  </a:lnTo>
                  <a:lnTo>
                    <a:pt x="2917" y="380"/>
                  </a:lnTo>
                  <a:lnTo>
                    <a:pt x="2910" y="379"/>
                  </a:lnTo>
                  <a:lnTo>
                    <a:pt x="2903" y="381"/>
                  </a:lnTo>
                  <a:lnTo>
                    <a:pt x="2896" y="385"/>
                  </a:lnTo>
                  <a:lnTo>
                    <a:pt x="2893" y="386"/>
                  </a:lnTo>
                  <a:lnTo>
                    <a:pt x="2890" y="386"/>
                  </a:lnTo>
                  <a:lnTo>
                    <a:pt x="2888" y="383"/>
                  </a:lnTo>
                  <a:lnTo>
                    <a:pt x="2886" y="378"/>
                  </a:lnTo>
                  <a:lnTo>
                    <a:pt x="2885" y="374"/>
                  </a:lnTo>
                  <a:lnTo>
                    <a:pt x="2891" y="372"/>
                  </a:lnTo>
                  <a:lnTo>
                    <a:pt x="2886" y="369"/>
                  </a:lnTo>
                  <a:lnTo>
                    <a:pt x="2881" y="366"/>
                  </a:lnTo>
                  <a:lnTo>
                    <a:pt x="2878" y="363"/>
                  </a:lnTo>
                  <a:lnTo>
                    <a:pt x="2878" y="348"/>
                  </a:lnTo>
                  <a:lnTo>
                    <a:pt x="2875" y="335"/>
                  </a:lnTo>
                  <a:lnTo>
                    <a:pt x="2867" y="323"/>
                  </a:lnTo>
                  <a:lnTo>
                    <a:pt x="2871" y="319"/>
                  </a:lnTo>
                  <a:lnTo>
                    <a:pt x="2873" y="313"/>
                  </a:lnTo>
                  <a:lnTo>
                    <a:pt x="2877" y="310"/>
                  </a:lnTo>
                  <a:lnTo>
                    <a:pt x="2865" y="310"/>
                  </a:lnTo>
                  <a:lnTo>
                    <a:pt x="2853" y="307"/>
                  </a:lnTo>
                  <a:lnTo>
                    <a:pt x="2841" y="303"/>
                  </a:lnTo>
                  <a:lnTo>
                    <a:pt x="2837" y="299"/>
                  </a:lnTo>
                  <a:lnTo>
                    <a:pt x="2835" y="293"/>
                  </a:lnTo>
                  <a:lnTo>
                    <a:pt x="2833" y="287"/>
                  </a:lnTo>
                  <a:lnTo>
                    <a:pt x="2823" y="278"/>
                  </a:lnTo>
                  <a:lnTo>
                    <a:pt x="2809" y="277"/>
                  </a:lnTo>
                  <a:lnTo>
                    <a:pt x="2796" y="275"/>
                  </a:lnTo>
                  <a:lnTo>
                    <a:pt x="2788" y="271"/>
                  </a:lnTo>
                  <a:lnTo>
                    <a:pt x="2779" y="268"/>
                  </a:lnTo>
                  <a:lnTo>
                    <a:pt x="2771" y="265"/>
                  </a:lnTo>
                  <a:lnTo>
                    <a:pt x="2760" y="263"/>
                  </a:lnTo>
                  <a:lnTo>
                    <a:pt x="2748" y="263"/>
                  </a:lnTo>
                  <a:lnTo>
                    <a:pt x="2735" y="263"/>
                  </a:lnTo>
                  <a:lnTo>
                    <a:pt x="2732" y="258"/>
                  </a:lnTo>
                  <a:lnTo>
                    <a:pt x="2726" y="255"/>
                  </a:lnTo>
                  <a:lnTo>
                    <a:pt x="2722" y="251"/>
                  </a:lnTo>
                  <a:lnTo>
                    <a:pt x="2723" y="243"/>
                  </a:lnTo>
                  <a:lnTo>
                    <a:pt x="2726" y="235"/>
                  </a:lnTo>
                  <a:lnTo>
                    <a:pt x="2725" y="227"/>
                  </a:lnTo>
                  <a:lnTo>
                    <a:pt x="2721" y="223"/>
                  </a:lnTo>
                  <a:lnTo>
                    <a:pt x="2716" y="220"/>
                  </a:lnTo>
                  <a:lnTo>
                    <a:pt x="2714" y="217"/>
                  </a:lnTo>
                  <a:lnTo>
                    <a:pt x="2709" y="192"/>
                  </a:lnTo>
                  <a:lnTo>
                    <a:pt x="2697" y="170"/>
                  </a:lnTo>
                  <a:lnTo>
                    <a:pt x="2680" y="150"/>
                  </a:lnTo>
                  <a:lnTo>
                    <a:pt x="2680" y="145"/>
                  </a:lnTo>
                  <a:lnTo>
                    <a:pt x="2685" y="141"/>
                  </a:lnTo>
                  <a:lnTo>
                    <a:pt x="2685" y="135"/>
                  </a:lnTo>
                  <a:lnTo>
                    <a:pt x="2674" y="113"/>
                  </a:lnTo>
                  <a:lnTo>
                    <a:pt x="2664" y="92"/>
                  </a:lnTo>
                  <a:lnTo>
                    <a:pt x="2653" y="70"/>
                  </a:lnTo>
                  <a:lnTo>
                    <a:pt x="2648" y="60"/>
                  </a:lnTo>
                  <a:lnTo>
                    <a:pt x="2641" y="49"/>
                  </a:lnTo>
                  <a:lnTo>
                    <a:pt x="2632" y="40"/>
                  </a:lnTo>
                  <a:lnTo>
                    <a:pt x="2627" y="37"/>
                  </a:lnTo>
                  <a:lnTo>
                    <a:pt x="2620" y="35"/>
                  </a:lnTo>
                  <a:lnTo>
                    <a:pt x="2613" y="33"/>
                  </a:lnTo>
                  <a:lnTo>
                    <a:pt x="2601" y="32"/>
                  </a:lnTo>
                  <a:lnTo>
                    <a:pt x="2589" y="33"/>
                  </a:lnTo>
                  <a:lnTo>
                    <a:pt x="2577" y="31"/>
                  </a:lnTo>
                  <a:lnTo>
                    <a:pt x="2567" y="25"/>
                  </a:lnTo>
                  <a:lnTo>
                    <a:pt x="2556" y="18"/>
                  </a:lnTo>
                  <a:lnTo>
                    <a:pt x="2545" y="12"/>
                  </a:lnTo>
                  <a:lnTo>
                    <a:pt x="2528" y="4"/>
                  </a:lnTo>
                  <a:lnTo>
                    <a:pt x="2508" y="0"/>
                  </a:lnTo>
                  <a:lnTo>
                    <a:pt x="2488" y="1"/>
                  </a:lnTo>
                  <a:lnTo>
                    <a:pt x="2485" y="2"/>
                  </a:lnTo>
                  <a:lnTo>
                    <a:pt x="2481" y="3"/>
                  </a:lnTo>
                  <a:lnTo>
                    <a:pt x="2477" y="5"/>
                  </a:lnTo>
                  <a:lnTo>
                    <a:pt x="2467" y="5"/>
                  </a:lnTo>
                  <a:lnTo>
                    <a:pt x="2457" y="1"/>
                  </a:lnTo>
                  <a:lnTo>
                    <a:pt x="2449" y="1"/>
                  </a:lnTo>
                  <a:lnTo>
                    <a:pt x="2429" y="9"/>
                  </a:lnTo>
                  <a:lnTo>
                    <a:pt x="2408" y="10"/>
                  </a:lnTo>
                  <a:lnTo>
                    <a:pt x="2390" y="15"/>
                  </a:lnTo>
                  <a:lnTo>
                    <a:pt x="2376" y="26"/>
                  </a:lnTo>
                  <a:lnTo>
                    <a:pt x="2362" y="36"/>
                  </a:lnTo>
                  <a:lnTo>
                    <a:pt x="2346" y="44"/>
                  </a:lnTo>
                  <a:lnTo>
                    <a:pt x="2343" y="49"/>
                  </a:lnTo>
                  <a:lnTo>
                    <a:pt x="2342" y="56"/>
                  </a:lnTo>
                  <a:lnTo>
                    <a:pt x="2346" y="60"/>
                  </a:lnTo>
                  <a:lnTo>
                    <a:pt x="2366" y="66"/>
                  </a:lnTo>
                  <a:lnTo>
                    <a:pt x="2376" y="81"/>
                  </a:lnTo>
                  <a:lnTo>
                    <a:pt x="2378" y="98"/>
                  </a:lnTo>
                  <a:lnTo>
                    <a:pt x="2370" y="113"/>
                  </a:lnTo>
                  <a:lnTo>
                    <a:pt x="2354" y="128"/>
                  </a:lnTo>
                  <a:lnTo>
                    <a:pt x="2339" y="144"/>
                  </a:lnTo>
                  <a:lnTo>
                    <a:pt x="2335" y="155"/>
                  </a:lnTo>
                  <a:lnTo>
                    <a:pt x="2332" y="166"/>
                  </a:lnTo>
                  <a:lnTo>
                    <a:pt x="2325" y="173"/>
                  </a:lnTo>
                  <a:lnTo>
                    <a:pt x="2320" y="177"/>
                  </a:lnTo>
                  <a:lnTo>
                    <a:pt x="2317" y="181"/>
                  </a:lnTo>
                  <a:lnTo>
                    <a:pt x="2314" y="185"/>
                  </a:lnTo>
                  <a:lnTo>
                    <a:pt x="2308" y="199"/>
                  </a:lnTo>
                  <a:lnTo>
                    <a:pt x="2311" y="215"/>
                  </a:lnTo>
                  <a:lnTo>
                    <a:pt x="2309" y="230"/>
                  </a:lnTo>
                  <a:lnTo>
                    <a:pt x="2311" y="230"/>
                  </a:lnTo>
                  <a:lnTo>
                    <a:pt x="2313" y="230"/>
                  </a:lnTo>
                  <a:lnTo>
                    <a:pt x="2316" y="230"/>
                  </a:lnTo>
                  <a:lnTo>
                    <a:pt x="2311" y="233"/>
                  </a:lnTo>
                  <a:lnTo>
                    <a:pt x="2306" y="237"/>
                  </a:lnTo>
                  <a:lnTo>
                    <a:pt x="2303" y="239"/>
                  </a:lnTo>
                  <a:lnTo>
                    <a:pt x="2280" y="242"/>
                  </a:lnTo>
                  <a:lnTo>
                    <a:pt x="2261" y="252"/>
                  </a:lnTo>
                  <a:lnTo>
                    <a:pt x="2242" y="261"/>
                  </a:lnTo>
                  <a:lnTo>
                    <a:pt x="2223" y="262"/>
                  </a:lnTo>
                  <a:lnTo>
                    <a:pt x="2204" y="254"/>
                  </a:lnTo>
                  <a:lnTo>
                    <a:pt x="2183" y="247"/>
                  </a:lnTo>
                  <a:lnTo>
                    <a:pt x="2172" y="242"/>
                  </a:lnTo>
                  <a:lnTo>
                    <a:pt x="2176" y="251"/>
                  </a:lnTo>
                  <a:lnTo>
                    <a:pt x="2175" y="257"/>
                  </a:lnTo>
                  <a:lnTo>
                    <a:pt x="2172" y="263"/>
                  </a:lnTo>
                  <a:lnTo>
                    <a:pt x="2162" y="283"/>
                  </a:lnTo>
                  <a:lnTo>
                    <a:pt x="2149" y="303"/>
                  </a:lnTo>
                  <a:lnTo>
                    <a:pt x="2137" y="323"/>
                  </a:lnTo>
                  <a:lnTo>
                    <a:pt x="2137" y="330"/>
                  </a:lnTo>
                  <a:lnTo>
                    <a:pt x="2139" y="336"/>
                  </a:lnTo>
                  <a:lnTo>
                    <a:pt x="2140" y="343"/>
                  </a:lnTo>
                  <a:lnTo>
                    <a:pt x="2131" y="344"/>
                  </a:lnTo>
                  <a:lnTo>
                    <a:pt x="2122" y="347"/>
                  </a:lnTo>
                  <a:lnTo>
                    <a:pt x="2116" y="351"/>
                  </a:lnTo>
                  <a:lnTo>
                    <a:pt x="2113" y="363"/>
                  </a:lnTo>
                  <a:lnTo>
                    <a:pt x="2119" y="375"/>
                  </a:lnTo>
                  <a:lnTo>
                    <a:pt x="2131" y="380"/>
                  </a:lnTo>
                  <a:lnTo>
                    <a:pt x="2137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5"/>
                  </a:lnTo>
                  <a:lnTo>
                    <a:pt x="2181" y="376"/>
                  </a:lnTo>
                  <a:lnTo>
                    <a:pt x="2195" y="381"/>
                  </a:lnTo>
                  <a:lnTo>
                    <a:pt x="2198" y="382"/>
                  </a:lnTo>
                  <a:lnTo>
                    <a:pt x="2201" y="384"/>
                  </a:lnTo>
                  <a:lnTo>
                    <a:pt x="2204" y="386"/>
                  </a:lnTo>
                  <a:lnTo>
                    <a:pt x="2214" y="384"/>
                  </a:lnTo>
                  <a:lnTo>
                    <a:pt x="2224" y="378"/>
                  </a:lnTo>
                  <a:lnTo>
                    <a:pt x="2234" y="373"/>
                  </a:lnTo>
                  <a:lnTo>
                    <a:pt x="2260" y="370"/>
                  </a:lnTo>
                  <a:lnTo>
                    <a:pt x="2284" y="380"/>
                  </a:lnTo>
                  <a:lnTo>
                    <a:pt x="2304" y="401"/>
                  </a:lnTo>
                  <a:lnTo>
                    <a:pt x="2310" y="406"/>
                  </a:lnTo>
                  <a:lnTo>
                    <a:pt x="2317" y="409"/>
                  </a:lnTo>
                  <a:lnTo>
                    <a:pt x="2325" y="414"/>
                  </a:lnTo>
                  <a:lnTo>
                    <a:pt x="2333" y="420"/>
                  </a:lnTo>
                  <a:lnTo>
                    <a:pt x="2339" y="431"/>
                  </a:lnTo>
                  <a:lnTo>
                    <a:pt x="2337" y="441"/>
                  </a:lnTo>
                  <a:lnTo>
                    <a:pt x="2336" y="445"/>
                  </a:lnTo>
                  <a:lnTo>
                    <a:pt x="2333" y="449"/>
                  </a:lnTo>
                  <a:lnTo>
                    <a:pt x="2329" y="451"/>
                  </a:lnTo>
                  <a:lnTo>
                    <a:pt x="2315" y="451"/>
                  </a:lnTo>
                  <a:lnTo>
                    <a:pt x="2301" y="450"/>
                  </a:lnTo>
                  <a:lnTo>
                    <a:pt x="2288" y="447"/>
                  </a:lnTo>
                  <a:lnTo>
                    <a:pt x="2266" y="445"/>
                  </a:lnTo>
                  <a:lnTo>
                    <a:pt x="2243" y="451"/>
                  </a:lnTo>
                  <a:lnTo>
                    <a:pt x="2220" y="456"/>
                  </a:lnTo>
                  <a:lnTo>
                    <a:pt x="2214" y="460"/>
                  </a:lnTo>
                  <a:lnTo>
                    <a:pt x="2209" y="465"/>
                  </a:lnTo>
                  <a:lnTo>
                    <a:pt x="2203" y="471"/>
                  </a:lnTo>
                  <a:lnTo>
                    <a:pt x="2197" y="472"/>
                  </a:lnTo>
                  <a:lnTo>
                    <a:pt x="2190" y="471"/>
                  </a:lnTo>
                  <a:lnTo>
                    <a:pt x="2184" y="472"/>
                  </a:lnTo>
                  <a:lnTo>
                    <a:pt x="2166" y="488"/>
                  </a:lnTo>
                  <a:lnTo>
                    <a:pt x="2154" y="508"/>
                  </a:lnTo>
                  <a:lnTo>
                    <a:pt x="2139" y="526"/>
                  </a:lnTo>
                  <a:lnTo>
                    <a:pt x="2121" y="532"/>
                  </a:lnTo>
                  <a:lnTo>
                    <a:pt x="2101" y="531"/>
                  </a:lnTo>
                  <a:lnTo>
                    <a:pt x="2082" y="532"/>
                  </a:lnTo>
                  <a:lnTo>
                    <a:pt x="2072" y="537"/>
                  </a:lnTo>
                  <a:lnTo>
                    <a:pt x="2063" y="546"/>
                  </a:lnTo>
                  <a:lnTo>
                    <a:pt x="2056" y="556"/>
                  </a:lnTo>
                  <a:lnTo>
                    <a:pt x="2040" y="568"/>
                  </a:lnTo>
                  <a:lnTo>
                    <a:pt x="2020" y="572"/>
                  </a:lnTo>
                  <a:lnTo>
                    <a:pt x="1999" y="570"/>
                  </a:lnTo>
                  <a:lnTo>
                    <a:pt x="1979" y="562"/>
                  </a:lnTo>
                  <a:lnTo>
                    <a:pt x="1959" y="555"/>
                  </a:lnTo>
                  <a:lnTo>
                    <a:pt x="1940" y="556"/>
                  </a:lnTo>
                  <a:lnTo>
                    <a:pt x="1923" y="568"/>
                  </a:lnTo>
                  <a:lnTo>
                    <a:pt x="1914" y="586"/>
                  </a:lnTo>
                  <a:lnTo>
                    <a:pt x="1918" y="605"/>
                  </a:lnTo>
                  <a:lnTo>
                    <a:pt x="1930" y="618"/>
                  </a:lnTo>
                  <a:lnTo>
                    <a:pt x="1940" y="629"/>
                  </a:lnTo>
                  <a:lnTo>
                    <a:pt x="1940" y="641"/>
                  </a:lnTo>
                  <a:lnTo>
                    <a:pt x="1925" y="651"/>
                  </a:lnTo>
                  <a:lnTo>
                    <a:pt x="1906" y="657"/>
                  </a:lnTo>
                  <a:lnTo>
                    <a:pt x="1888" y="665"/>
                  </a:lnTo>
                  <a:lnTo>
                    <a:pt x="1870" y="680"/>
                  </a:lnTo>
                  <a:lnTo>
                    <a:pt x="1853" y="697"/>
                  </a:lnTo>
                  <a:lnTo>
                    <a:pt x="1835" y="709"/>
                  </a:lnTo>
                  <a:lnTo>
                    <a:pt x="1777" y="719"/>
                  </a:lnTo>
                  <a:lnTo>
                    <a:pt x="1716" y="719"/>
                  </a:lnTo>
                  <a:lnTo>
                    <a:pt x="1656" y="728"/>
                  </a:lnTo>
                  <a:lnTo>
                    <a:pt x="1637" y="741"/>
                  </a:lnTo>
                  <a:lnTo>
                    <a:pt x="1618" y="756"/>
                  </a:lnTo>
                  <a:lnTo>
                    <a:pt x="1595" y="762"/>
                  </a:lnTo>
                  <a:lnTo>
                    <a:pt x="1586" y="759"/>
                  </a:lnTo>
                  <a:lnTo>
                    <a:pt x="1576" y="756"/>
                  </a:lnTo>
                  <a:lnTo>
                    <a:pt x="1566" y="758"/>
                  </a:lnTo>
                  <a:lnTo>
                    <a:pt x="1563" y="756"/>
                  </a:lnTo>
                  <a:lnTo>
                    <a:pt x="1563" y="752"/>
                  </a:lnTo>
                  <a:lnTo>
                    <a:pt x="1560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7" y="716"/>
                  </a:lnTo>
                  <a:lnTo>
                    <a:pt x="1404" y="707"/>
                  </a:lnTo>
                  <a:lnTo>
                    <a:pt x="1381" y="701"/>
                  </a:lnTo>
                  <a:lnTo>
                    <a:pt x="1358" y="701"/>
                  </a:lnTo>
                  <a:lnTo>
                    <a:pt x="1291" y="709"/>
                  </a:lnTo>
                  <a:lnTo>
                    <a:pt x="1221" y="708"/>
                  </a:lnTo>
                  <a:lnTo>
                    <a:pt x="1161" y="686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9" y="612"/>
                  </a:lnTo>
                  <a:lnTo>
                    <a:pt x="1099" y="605"/>
                  </a:lnTo>
                  <a:lnTo>
                    <a:pt x="1084" y="599"/>
                  </a:lnTo>
                  <a:lnTo>
                    <a:pt x="1068" y="593"/>
                  </a:lnTo>
                  <a:lnTo>
                    <a:pt x="1051" y="589"/>
                  </a:lnTo>
                  <a:lnTo>
                    <a:pt x="1037" y="580"/>
                  </a:lnTo>
                  <a:lnTo>
                    <a:pt x="1023" y="569"/>
                  </a:lnTo>
                  <a:lnTo>
                    <a:pt x="1008" y="561"/>
                  </a:lnTo>
                  <a:lnTo>
                    <a:pt x="966" y="556"/>
                  </a:lnTo>
                  <a:lnTo>
                    <a:pt x="926" y="555"/>
                  </a:lnTo>
                  <a:lnTo>
                    <a:pt x="886" y="547"/>
                  </a:lnTo>
                  <a:lnTo>
                    <a:pt x="878" y="540"/>
                  </a:lnTo>
                  <a:lnTo>
                    <a:pt x="873" y="531"/>
                  </a:lnTo>
                  <a:lnTo>
                    <a:pt x="870" y="521"/>
                  </a:lnTo>
                  <a:lnTo>
                    <a:pt x="873" y="506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5" y="453"/>
                  </a:lnTo>
                  <a:lnTo>
                    <a:pt x="893" y="444"/>
                  </a:lnTo>
                  <a:lnTo>
                    <a:pt x="880" y="426"/>
                  </a:lnTo>
                  <a:lnTo>
                    <a:pt x="869" y="406"/>
                  </a:lnTo>
                  <a:lnTo>
                    <a:pt x="858" y="387"/>
                  </a:lnTo>
                  <a:lnTo>
                    <a:pt x="838" y="372"/>
                  </a:lnTo>
                  <a:lnTo>
                    <a:pt x="814" y="370"/>
                  </a:lnTo>
                  <a:lnTo>
                    <a:pt x="790" y="365"/>
                  </a:lnTo>
                  <a:lnTo>
                    <a:pt x="770" y="353"/>
                  </a:lnTo>
                  <a:lnTo>
                    <a:pt x="752" y="338"/>
                  </a:lnTo>
                  <a:lnTo>
                    <a:pt x="733" y="323"/>
                  </a:lnTo>
                  <a:lnTo>
                    <a:pt x="737" y="322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2"/>
                  </a:lnTo>
                  <a:lnTo>
                    <a:pt x="731" y="310"/>
                  </a:lnTo>
                  <a:lnTo>
                    <a:pt x="734" y="292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00960" y="4052160"/>
              <a:ext cx="577440" cy="663480"/>
            </a:xfrm>
            <a:custGeom>
              <a:avLst/>
              <a:gdLst/>
              <a:ahLst/>
              <a:rect l="l" t="t" r="r" b="b"/>
              <a:pathLst>
                <a:path w="382" h="455">
                  <a:moveTo>
                    <a:pt x="250" y="431"/>
                  </a:moveTo>
                  <a:lnTo>
                    <a:pt x="255" y="425"/>
                  </a:lnTo>
                  <a:lnTo>
                    <a:pt x="262" y="421"/>
                  </a:lnTo>
                  <a:lnTo>
                    <a:pt x="268" y="414"/>
                  </a:lnTo>
                  <a:lnTo>
                    <a:pt x="270" y="375"/>
                  </a:lnTo>
                  <a:lnTo>
                    <a:pt x="254" y="339"/>
                  </a:lnTo>
                  <a:lnTo>
                    <a:pt x="232" y="305"/>
                  </a:lnTo>
                  <a:lnTo>
                    <a:pt x="231" y="297"/>
                  </a:lnTo>
                  <a:lnTo>
                    <a:pt x="233" y="289"/>
                  </a:lnTo>
                  <a:lnTo>
                    <a:pt x="237" y="282"/>
                  </a:lnTo>
                  <a:lnTo>
                    <a:pt x="238" y="276"/>
                  </a:lnTo>
                  <a:lnTo>
                    <a:pt x="235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7" y="239"/>
                  </a:lnTo>
                  <a:lnTo>
                    <a:pt x="198" y="222"/>
                  </a:lnTo>
                  <a:lnTo>
                    <a:pt x="189" y="224"/>
                  </a:lnTo>
                  <a:lnTo>
                    <a:pt x="178" y="223"/>
                  </a:lnTo>
                  <a:lnTo>
                    <a:pt x="166" y="222"/>
                  </a:lnTo>
                  <a:lnTo>
                    <a:pt x="152" y="229"/>
                  </a:lnTo>
                  <a:lnTo>
                    <a:pt x="143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9" y="245"/>
                  </a:lnTo>
                  <a:lnTo>
                    <a:pt x="54" y="233"/>
                  </a:lnTo>
                  <a:lnTo>
                    <a:pt x="50" y="228"/>
                  </a:lnTo>
                  <a:lnTo>
                    <a:pt x="44" y="223"/>
                  </a:lnTo>
                  <a:lnTo>
                    <a:pt x="45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6"/>
                  </a:lnTo>
                  <a:lnTo>
                    <a:pt x="58" y="195"/>
                  </a:lnTo>
                  <a:lnTo>
                    <a:pt x="62" y="192"/>
                  </a:lnTo>
                  <a:lnTo>
                    <a:pt x="66" y="189"/>
                  </a:lnTo>
                  <a:lnTo>
                    <a:pt x="67" y="186"/>
                  </a:lnTo>
                  <a:lnTo>
                    <a:pt x="67" y="183"/>
                  </a:lnTo>
                  <a:lnTo>
                    <a:pt x="66" y="180"/>
                  </a:lnTo>
                  <a:lnTo>
                    <a:pt x="59" y="175"/>
                  </a:lnTo>
                  <a:lnTo>
                    <a:pt x="58" y="167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0" y="154"/>
                  </a:lnTo>
                  <a:lnTo>
                    <a:pt x="60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2" y="141"/>
                  </a:lnTo>
                  <a:lnTo>
                    <a:pt x="21" y="129"/>
                  </a:lnTo>
                  <a:lnTo>
                    <a:pt x="18" y="119"/>
                  </a:lnTo>
                  <a:lnTo>
                    <a:pt x="13" y="113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5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1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7" y="15"/>
                  </a:lnTo>
                  <a:lnTo>
                    <a:pt x="70" y="3"/>
                  </a:lnTo>
                  <a:lnTo>
                    <a:pt x="80" y="0"/>
                  </a:lnTo>
                  <a:lnTo>
                    <a:pt x="93" y="5"/>
                  </a:lnTo>
                  <a:lnTo>
                    <a:pt x="106" y="10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7" y="42"/>
                  </a:lnTo>
                  <a:lnTo>
                    <a:pt x="148" y="41"/>
                  </a:lnTo>
                  <a:lnTo>
                    <a:pt x="152" y="47"/>
                  </a:lnTo>
                  <a:lnTo>
                    <a:pt x="148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70" y="82"/>
                  </a:lnTo>
                  <a:lnTo>
                    <a:pt x="192" y="81"/>
                  </a:lnTo>
                  <a:lnTo>
                    <a:pt x="214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40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3" y="134"/>
                  </a:lnTo>
                  <a:lnTo>
                    <a:pt x="241" y="141"/>
                  </a:lnTo>
                  <a:lnTo>
                    <a:pt x="238" y="149"/>
                  </a:lnTo>
                  <a:lnTo>
                    <a:pt x="229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6" y="155"/>
                  </a:lnTo>
                  <a:lnTo>
                    <a:pt x="214" y="154"/>
                  </a:lnTo>
                  <a:lnTo>
                    <a:pt x="208" y="154"/>
                  </a:lnTo>
                  <a:lnTo>
                    <a:pt x="202" y="155"/>
                  </a:lnTo>
                  <a:lnTo>
                    <a:pt x="199" y="157"/>
                  </a:lnTo>
                  <a:lnTo>
                    <a:pt x="209" y="177"/>
                  </a:lnTo>
                  <a:lnTo>
                    <a:pt x="228" y="190"/>
                  </a:lnTo>
                  <a:lnTo>
                    <a:pt x="250" y="196"/>
                  </a:lnTo>
                  <a:lnTo>
                    <a:pt x="251" y="202"/>
                  </a:lnTo>
                  <a:lnTo>
                    <a:pt x="253" y="207"/>
                  </a:lnTo>
                  <a:lnTo>
                    <a:pt x="255" y="213"/>
                  </a:lnTo>
                  <a:lnTo>
                    <a:pt x="261" y="220"/>
                  </a:lnTo>
                  <a:lnTo>
                    <a:pt x="269" y="227"/>
                  </a:lnTo>
                  <a:lnTo>
                    <a:pt x="275" y="234"/>
                  </a:lnTo>
                  <a:lnTo>
                    <a:pt x="288" y="250"/>
                  </a:lnTo>
                  <a:lnTo>
                    <a:pt x="301" y="264"/>
                  </a:lnTo>
                  <a:lnTo>
                    <a:pt x="313" y="279"/>
                  </a:lnTo>
                  <a:lnTo>
                    <a:pt x="310" y="280"/>
                  </a:lnTo>
                  <a:lnTo>
                    <a:pt x="310" y="283"/>
                  </a:lnTo>
                  <a:lnTo>
                    <a:pt x="310" y="286"/>
                  </a:lnTo>
                  <a:lnTo>
                    <a:pt x="315" y="288"/>
                  </a:lnTo>
                  <a:lnTo>
                    <a:pt x="319" y="289"/>
                  </a:lnTo>
                  <a:lnTo>
                    <a:pt x="323" y="293"/>
                  </a:lnTo>
                  <a:lnTo>
                    <a:pt x="318" y="293"/>
                  </a:lnTo>
                  <a:lnTo>
                    <a:pt x="314" y="293"/>
                  </a:lnTo>
                  <a:lnTo>
                    <a:pt x="310" y="293"/>
                  </a:lnTo>
                  <a:lnTo>
                    <a:pt x="327" y="305"/>
                  </a:lnTo>
                  <a:lnTo>
                    <a:pt x="344" y="318"/>
                  </a:lnTo>
                  <a:lnTo>
                    <a:pt x="363" y="329"/>
                  </a:lnTo>
                  <a:lnTo>
                    <a:pt x="366" y="334"/>
                  </a:lnTo>
                  <a:lnTo>
                    <a:pt x="369" y="340"/>
                  </a:lnTo>
                  <a:lnTo>
                    <a:pt x="373" y="345"/>
                  </a:lnTo>
                  <a:lnTo>
                    <a:pt x="369" y="343"/>
                  </a:lnTo>
                  <a:lnTo>
                    <a:pt x="366" y="341"/>
                  </a:lnTo>
                  <a:lnTo>
                    <a:pt x="363" y="342"/>
                  </a:lnTo>
                  <a:lnTo>
                    <a:pt x="360" y="348"/>
                  </a:lnTo>
                  <a:lnTo>
                    <a:pt x="361" y="353"/>
                  </a:lnTo>
                  <a:lnTo>
                    <a:pt x="364" y="357"/>
                  </a:lnTo>
                  <a:lnTo>
                    <a:pt x="376" y="368"/>
                  </a:lnTo>
                  <a:lnTo>
                    <a:pt x="382" y="382"/>
                  </a:lnTo>
                  <a:lnTo>
                    <a:pt x="381" y="397"/>
                  </a:lnTo>
                  <a:lnTo>
                    <a:pt x="379" y="403"/>
                  </a:lnTo>
                  <a:lnTo>
                    <a:pt x="375" y="408"/>
                  </a:lnTo>
                  <a:lnTo>
                    <a:pt x="371" y="412"/>
                  </a:lnTo>
                  <a:lnTo>
                    <a:pt x="370" y="411"/>
                  </a:lnTo>
                  <a:lnTo>
                    <a:pt x="366" y="410"/>
                  </a:lnTo>
                  <a:lnTo>
                    <a:pt x="356" y="413"/>
                  </a:lnTo>
                  <a:lnTo>
                    <a:pt x="346" y="420"/>
                  </a:lnTo>
                  <a:lnTo>
                    <a:pt x="340" y="425"/>
                  </a:lnTo>
                  <a:lnTo>
                    <a:pt x="337" y="427"/>
                  </a:lnTo>
                  <a:lnTo>
                    <a:pt x="335" y="425"/>
                  </a:lnTo>
                  <a:lnTo>
                    <a:pt x="326" y="420"/>
                  </a:lnTo>
                  <a:lnTo>
                    <a:pt x="311" y="420"/>
                  </a:lnTo>
                  <a:lnTo>
                    <a:pt x="305" y="421"/>
                  </a:lnTo>
                  <a:lnTo>
                    <a:pt x="295" y="424"/>
                  </a:lnTo>
                  <a:lnTo>
                    <a:pt x="291" y="431"/>
                  </a:lnTo>
                  <a:lnTo>
                    <a:pt x="293" y="433"/>
                  </a:lnTo>
                  <a:lnTo>
                    <a:pt x="297" y="439"/>
                  </a:lnTo>
                  <a:lnTo>
                    <a:pt x="300" y="444"/>
                  </a:lnTo>
                  <a:lnTo>
                    <a:pt x="301" y="449"/>
                  </a:lnTo>
                  <a:lnTo>
                    <a:pt x="299" y="452"/>
                  </a:lnTo>
                  <a:lnTo>
                    <a:pt x="293" y="455"/>
                  </a:lnTo>
                  <a:lnTo>
                    <a:pt x="286" y="454"/>
                  </a:lnTo>
                  <a:lnTo>
                    <a:pt x="282" y="450"/>
                  </a:lnTo>
                  <a:lnTo>
                    <a:pt x="280" y="448"/>
                  </a:lnTo>
                  <a:lnTo>
                    <a:pt x="279" y="445"/>
                  </a:lnTo>
                  <a:lnTo>
                    <a:pt x="276" y="439"/>
                  </a:lnTo>
                  <a:lnTo>
                    <a:pt x="269" y="438"/>
                  </a:lnTo>
                  <a:lnTo>
                    <a:pt x="269" y="438"/>
                  </a:lnTo>
                  <a:lnTo>
                    <a:pt x="267" y="439"/>
                  </a:lnTo>
                  <a:lnTo>
                    <a:pt x="265" y="442"/>
                  </a:lnTo>
                  <a:lnTo>
                    <a:pt x="264" y="443"/>
                  </a:lnTo>
                  <a:lnTo>
                    <a:pt x="262" y="443"/>
                  </a:lnTo>
                  <a:lnTo>
                    <a:pt x="260" y="442"/>
                  </a:lnTo>
                  <a:lnTo>
                    <a:pt x="256" y="438"/>
                  </a:lnTo>
                  <a:lnTo>
                    <a:pt x="252" y="433"/>
                  </a:lnTo>
                  <a:lnTo>
                    <a:pt x="250" y="43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2400" y="4052160"/>
              <a:ext cx="576360" cy="663480"/>
            </a:xfrm>
            <a:custGeom>
              <a:avLst/>
              <a:gdLst/>
              <a:ahLst/>
              <a:rect l="l" t="t" r="r" b="b"/>
              <a:pathLst>
                <a:path w="381" h="455">
                  <a:moveTo>
                    <a:pt x="249" y="431"/>
                  </a:moveTo>
                  <a:lnTo>
                    <a:pt x="254" y="425"/>
                  </a:lnTo>
                  <a:lnTo>
                    <a:pt x="261" y="421"/>
                  </a:lnTo>
                  <a:lnTo>
                    <a:pt x="267" y="414"/>
                  </a:lnTo>
                  <a:lnTo>
                    <a:pt x="269" y="375"/>
                  </a:lnTo>
                  <a:lnTo>
                    <a:pt x="253" y="339"/>
                  </a:lnTo>
                  <a:lnTo>
                    <a:pt x="232" y="305"/>
                  </a:lnTo>
                  <a:lnTo>
                    <a:pt x="230" y="297"/>
                  </a:lnTo>
                  <a:lnTo>
                    <a:pt x="233" y="290"/>
                  </a:lnTo>
                  <a:lnTo>
                    <a:pt x="237" y="282"/>
                  </a:lnTo>
                  <a:lnTo>
                    <a:pt x="237" y="276"/>
                  </a:lnTo>
                  <a:lnTo>
                    <a:pt x="234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6" y="239"/>
                  </a:lnTo>
                  <a:lnTo>
                    <a:pt x="198" y="223"/>
                  </a:lnTo>
                  <a:lnTo>
                    <a:pt x="188" y="224"/>
                  </a:lnTo>
                  <a:lnTo>
                    <a:pt x="177" y="223"/>
                  </a:lnTo>
                  <a:lnTo>
                    <a:pt x="165" y="223"/>
                  </a:lnTo>
                  <a:lnTo>
                    <a:pt x="152" y="229"/>
                  </a:lnTo>
                  <a:lnTo>
                    <a:pt x="142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8" y="245"/>
                  </a:lnTo>
                  <a:lnTo>
                    <a:pt x="53" y="233"/>
                  </a:lnTo>
                  <a:lnTo>
                    <a:pt x="49" y="228"/>
                  </a:lnTo>
                  <a:lnTo>
                    <a:pt x="43" y="223"/>
                  </a:lnTo>
                  <a:lnTo>
                    <a:pt x="44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7"/>
                  </a:lnTo>
                  <a:lnTo>
                    <a:pt x="57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6" y="186"/>
                  </a:lnTo>
                  <a:lnTo>
                    <a:pt x="66" y="183"/>
                  </a:lnTo>
                  <a:lnTo>
                    <a:pt x="65" y="181"/>
                  </a:lnTo>
                  <a:lnTo>
                    <a:pt x="59" y="175"/>
                  </a:lnTo>
                  <a:lnTo>
                    <a:pt x="57" y="167"/>
                  </a:lnTo>
                  <a:lnTo>
                    <a:pt x="62" y="160"/>
                  </a:lnTo>
                  <a:lnTo>
                    <a:pt x="62" y="157"/>
                  </a:lnTo>
                  <a:lnTo>
                    <a:pt x="60" y="154"/>
                  </a:lnTo>
                  <a:lnTo>
                    <a:pt x="59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1" y="141"/>
                  </a:lnTo>
                  <a:lnTo>
                    <a:pt x="20" y="129"/>
                  </a:lnTo>
                  <a:lnTo>
                    <a:pt x="17" y="119"/>
                  </a:lnTo>
                  <a:lnTo>
                    <a:pt x="12" y="114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4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3" y="72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0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1" y="22"/>
                  </a:lnTo>
                  <a:lnTo>
                    <a:pt x="70" y="19"/>
                  </a:lnTo>
                  <a:lnTo>
                    <a:pt x="68" y="17"/>
                  </a:lnTo>
                  <a:lnTo>
                    <a:pt x="66" y="15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5"/>
                  </a:lnTo>
                  <a:lnTo>
                    <a:pt x="106" y="10"/>
                  </a:lnTo>
                  <a:lnTo>
                    <a:pt x="114" y="18"/>
                  </a:lnTo>
                  <a:lnTo>
                    <a:pt x="122" y="27"/>
                  </a:lnTo>
                  <a:lnTo>
                    <a:pt x="128" y="38"/>
                  </a:lnTo>
                  <a:lnTo>
                    <a:pt x="137" y="42"/>
                  </a:lnTo>
                  <a:lnTo>
                    <a:pt x="147" y="42"/>
                  </a:lnTo>
                  <a:lnTo>
                    <a:pt x="151" y="47"/>
                  </a:lnTo>
                  <a:lnTo>
                    <a:pt x="147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69" y="82"/>
                  </a:lnTo>
                  <a:lnTo>
                    <a:pt x="191" y="81"/>
                  </a:lnTo>
                  <a:lnTo>
                    <a:pt x="213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39" y="119"/>
                  </a:lnTo>
                  <a:lnTo>
                    <a:pt x="245" y="125"/>
                  </a:lnTo>
                  <a:lnTo>
                    <a:pt x="245" y="129"/>
                  </a:lnTo>
                  <a:lnTo>
                    <a:pt x="242" y="134"/>
                  </a:lnTo>
                  <a:lnTo>
                    <a:pt x="241" y="141"/>
                  </a:lnTo>
                  <a:lnTo>
                    <a:pt x="237" y="149"/>
                  </a:lnTo>
                  <a:lnTo>
                    <a:pt x="228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5" y="155"/>
                  </a:lnTo>
                  <a:lnTo>
                    <a:pt x="213" y="154"/>
                  </a:lnTo>
                  <a:lnTo>
                    <a:pt x="207" y="154"/>
                  </a:lnTo>
                  <a:lnTo>
                    <a:pt x="201" y="155"/>
                  </a:lnTo>
                  <a:lnTo>
                    <a:pt x="199" y="157"/>
                  </a:lnTo>
                  <a:lnTo>
                    <a:pt x="208" y="177"/>
                  </a:lnTo>
                  <a:lnTo>
                    <a:pt x="228" y="190"/>
                  </a:lnTo>
                  <a:lnTo>
                    <a:pt x="250" y="197"/>
                  </a:lnTo>
                  <a:lnTo>
                    <a:pt x="250" y="202"/>
                  </a:lnTo>
                  <a:lnTo>
                    <a:pt x="252" y="208"/>
                  </a:lnTo>
                  <a:lnTo>
                    <a:pt x="254" y="213"/>
                  </a:lnTo>
                  <a:lnTo>
                    <a:pt x="260" y="220"/>
                  </a:lnTo>
                  <a:lnTo>
                    <a:pt x="268" y="227"/>
                  </a:lnTo>
                  <a:lnTo>
                    <a:pt x="275" y="234"/>
                  </a:lnTo>
                  <a:lnTo>
                    <a:pt x="287" y="250"/>
                  </a:lnTo>
                  <a:lnTo>
                    <a:pt x="300" y="264"/>
                  </a:lnTo>
                  <a:lnTo>
                    <a:pt x="312" y="280"/>
                  </a:lnTo>
                  <a:lnTo>
                    <a:pt x="309" y="280"/>
                  </a:lnTo>
                  <a:lnTo>
                    <a:pt x="309" y="283"/>
                  </a:lnTo>
                  <a:lnTo>
                    <a:pt x="309" y="286"/>
                  </a:lnTo>
                  <a:lnTo>
                    <a:pt x="314" y="288"/>
                  </a:lnTo>
                  <a:lnTo>
                    <a:pt x="318" y="289"/>
                  </a:lnTo>
                  <a:lnTo>
                    <a:pt x="322" y="293"/>
                  </a:lnTo>
                  <a:lnTo>
                    <a:pt x="318" y="293"/>
                  </a:lnTo>
                  <a:lnTo>
                    <a:pt x="313" y="293"/>
                  </a:lnTo>
                  <a:lnTo>
                    <a:pt x="309" y="293"/>
                  </a:lnTo>
                  <a:lnTo>
                    <a:pt x="326" y="305"/>
                  </a:lnTo>
                  <a:lnTo>
                    <a:pt x="343" y="318"/>
                  </a:lnTo>
                  <a:lnTo>
                    <a:pt x="362" y="330"/>
                  </a:lnTo>
                  <a:lnTo>
                    <a:pt x="365" y="334"/>
                  </a:lnTo>
                  <a:lnTo>
                    <a:pt x="368" y="340"/>
                  </a:lnTo>
                  <a:lnTo>
                    <a:pt x="372" y="345"/>
                  </a:lnTo>
                  <a:lnTo>
                    <a:pt x="368" y="344"/>
                  </a:lnTo>
                  <a:lnTo>
                    <a:pt x="365" y="341"/>
                  </a:lnTo>
                  <a:lnTo>
                    <a:pt x="362" y="342"/>
                  </a:lnTo>
                  <a:lnTo>
                    <a:pt x="359" y="348"/>
                  </a:lnTo>
                  <a:lnTo>
                    <a:pt x="360" y="353"/>
                  </a:lnTo>
                  <a:lnTo>
                    <a:pt x="363" y="357"/>
                  </a:lnTo>
                  <a:lnTo>
                    <a:pt x="375" y="368"/>
                  </a:lnTo>
                  <a:lnTo>
                    <a:pt x="381" y="382"/>
                  </a:lnTo>
                  <a:lnTo>
                    <a:pt x="380" y="397"/>
                  </a:lnTo>
                  <a:lnTo>
                    <a:pt x="378" y="403"/>
                  </a:lnTo>
                  <a:lnTo>
                    <a:pt x="374" y="408"/>
                  </a:lnTo>
                  <a:lnTo>
                    <a:pt x="370" y="412"/>
                  </a:lnTo>
                  <a:lnTo>
                    <a:pt x="369" y="411"/>
                  </a:lnTo>
                  <a:lnTo>
                    <a:pt x="365" y="410"/>
                  </a:lnTo>
                  <a:lnTo>
                    <a:pt x="356" y="413"/>
                  </a:lnTo>
                  <a:lnTo>
                    <a:pt x="345" y="420"/>
                  </a:lnTo>
                  <a:lnTo>
                    <a:pt x="339" y="425"/>
                  </a:lnTo>
                  <a:lnTo>
                    <a:pt x="336" y="428"/>
                  </a:lnTo>
                  <a:lnTo>
                    <a:pt x="334" y="425"/>
                  </a:lnTo>
                  <a:lnTo>
                    <a:pt x="325" y="420"/>
                  </a:lnTo>
                  <a:lnTo>
                    <a:pt x="310" y="420"/>
                  </a:lnTo>
                  <a:lnTo>
                    <a:pt x="305" y="421"/>
                  </a:lnTo>
                  <a:lnTo>
                    <a:pt x="294" y="424"/>
                  </a:lnTo>
                  <a:lnTo>
                    <a:pt x="290" y="431"/>
                  </a:lnTo>
                  <a:lnTo>
                    <a:pt x="292" y="434"/>
                  </a:lnTo>
                  <a:lnTo>
                    <a:pt x="296" y="439"/>
                  </a:lnTo>
                  <a:lnTo>
                    <a:pt x="300" y="444"/>
                  </a:lnTo>
                  <a:lnTo>
                    <a:pt x="300" y="449"/>
                  </a:lnTo>
                  <a:lnTo>
                    <a:pt x="298" y="453"/>
                  </a:lnTo>
                  <a:lnTo>
                    <a:pt x="292" y="455"/>
                  </a:lnTo>
                  <a:lnTo>
                    <a:pt x="285" y="454"/>
                  </a:lnTo>
                  <a:lnTo>
                    <a:pt x="281" y="450"/>
                  </a:lnTo>
                  <a:lnTo>
                    <a:pt x="279" y="448"/>
                  </a:lnTo>
                  <a:lnTo>
                    <a:pt x="278" y="445"/>
                  </a:lnTo>
                  <a:lnTo>
                    <a:pt x="275" y="439"/>
                  </a:lnTo>
                  <a:lnTo>
                    <a:pt x="268" y="438"/>
                  </a:lnTo>
                  <a:lnTo>
                    <a:pt x="268" y="438"/>
                  </a:lnTo>
                  <a:lnTo>
                    <a:pt x="266" y="439"/>
                  </a:lnTo>
                  <a:lnTo>
                    <a:pt x="264" y="442"/>
                  </a:lnTo>
                  <a:lnTo>
                    <a:pt x="263" y="443"/>
                  </a:lnTo>
                  <a:lnTo>
                    <a:pt x="261" y="443"/>
                  </a:lnTo>
                  <a:lnTo>
                    <a:pt x="259" y="442"/>
                  </a:lnTo>
                  <a:lnTo>
                    <a:pt x="255" y="438"/>
                  </a:lnTo>
                  <a:lnTo>
                    <a:pt x="251" y="433"/>
                  </a:lnTo>
                  <a:lnTo>
                    <a:pt x="249" y="43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86880" y="4908240"/>
              <a:ext cx="217800" cy="234720"/>
            </a:xfrm>
            <a:custGeom>
              <a:avLst/>
              <a:gdLst/>
              <a:ahLst/>
              <a:rect l="l" t="t" r="r" b="b"/>
              <a:pathLst>
                <a:path w="144" h="161">
                  <a:moveTo>
                    <a:pt x="124" y="10"/>
                  </a:moveTo>
                  <a:lnTo>
                    <a:pt x="123" y="11"/>
                  </a:lnTo>
                  <a:lnTo>
                    <a:pt x="121" y="14"/>
                  </a:lnTo>
                  <a:lnTo>
                    <a:pt x="118" y="16"/>
                  </a:lnTo>
                  <a:lnTo>
                    <a:pt x="122" y="26"/>
                  </a:lnTo>
                  <a:lnTo>
                    <a:pt x="129" y="35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5"/>
                  </a:lnTo>
                  <a:lnTo>
                    <a:pt x="135" y="4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6"/>
                  </a:lnTo>
                  <a:lnTo>
                    <a:pt x="68" y="105"/>
                  </a:lnTo>
                  <a:lnTo>
                    <a:pt x="52" y="119"/>
                  </a:lnTo>
                  <a:lnTo>
                    <a:pt x="38" y="126"/>
                  </a:lnTo>
                  <a:lnTo>
                    <a:pt x="24" y="133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8" y="159"/>
                  </a:lnTo>
                  <a:lnTo>
                    <a:pt x="0" y="161"/>
                  </a:lnTo>
                  <a:lnTo>
                    <a:pt x="6" y="150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6"/>
                  </a:lnTo>
                  <a:lnTo>
                    <a:pt x="43" y="96"/>
                  </a:lnTo>
                  <a:lnTo>
                    <a:pt x="55" y="89"/>
                  </a:lnTo>
                  <a:lnTo>
                    <a:pt x="66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9"/>
                  </a:lnTo>
                  <a:lnTo>
                    <a:pt x="107" y="30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6880" y="4909320"/>
              <a:ext cx="217800" cy="2332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24" y="9"/>
                  </a:moveTo>
                  <a:lnTo>
                    <a:pt x="124" y="11"/>
                  </a:lnTo>
                  <a:lnTo>
                    <a:pt x="121" y="13"/>
                  </a:lnTo>
                  <a:lnTo>
                    <a:pt x="118" y="15"/>
                  </a:lnTo>
                  <a:lnTo>
                    <a:pt x="122" y="25"/>
                  </a:lnTo>
                  <a:lnTo>
                    <a:pt x="129" y="34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4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18" y="49"/>
                  </a:lnTo>
                  <a:lnTo>
                    <a:pt x="116" y="51"/>
                  </a:lnTo>
                  <a:lnTo>
                    <a:pt x="113" y="54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5"/>
                  </a:lnTo>
                  <a:lnTo>
                    <a:pt x="68" y="104"/>
                  </a:lnTo>
                  <a:lnTo>
                    <a:pt x="52" y="118"/>
                  </a:lnTo>
                  <a:lnTo>
                    <a:pt x="38" y="125"/>
                  </a:lnTo>
                  <a:lnTo>
                    <a:pt x="24" y="132"/>
                  </a:lnTo>
                  <a:lnTo>
                    <a:pt x="14" y="144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60"/>
                  </a:lnTo>
                  <a:lnTo>
                    <a:pt x="6" y="149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5"/>
                  </a:lnTo>
                  <a:lnTo>
                    <a:pt x="43" y="95"/>
                  </a:lnTo>
                  <a:lnTo>
                    <a:pt x="55" y="88"/>
                  </a:lnTo>
                  <a:lnTo>
                    <a:pt x="67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8"/>
                  </a:lnTo>
                  <a:lnTo>
                    <a:pt x="107" y="29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1" y="4"/>
                  </a:lnTo>
                  <a:lnTo>
                    <a:pt x="124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95680" y="4844160"/>
              <a:ext cx="22320" cy="331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4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8" y="14"/>
                  </a:lnTo>
                  <a:lnTo>
                    <a:pt x="7" y="23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95680" y="4844160"/>
              <a:ext cx="22320" cy="331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3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45720" y="4752000"/>
              <a:ext cx="69480" cy="874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2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8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30"/>
                  </a:lnTo>
                  <a:lnTo>
                    <a:pt x="18" y="43"/>
                  </a:lnTo>
                  <a:lnTo>
                    <a:pt x="24" y="51"/>
                  </a:lnTo>
                  <a:lnTo>
                    <a:pt x="34" y="56"/>
                  </a:lnTo>
                  <a:lnTo>
                    <a:pt x="46" y="53"/>
                  </a:lnTo>
                  <a:lnTo>
                    <a:pt x="44" y="56"/>
                  </a:lnTo>
                  <a:lnTo>
                    <a:pt x="43" y="58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45720" y="4752000"/>
              <a:ext cx="69480" cy="874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3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7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29"/>
                  </a:lnTo>
                  <a:lnTo>
                    <a:pt x="18" y="42"/>
                  </a:lnTo>
                  <a:lnTo>
                    <a:pt x="24" y="51"/>
                  </a:lnTo>
                  <a:lnTo>
                    <a:pt x="34" y="55"/>
                  </a:lnTo>
                  <a:lnTo>
                    <a:pt x="46" y="53"/>
                  </a:lnTo>
                  <a:lnTo>
                    <a:pt x="45" y="56"/>
                  </a:lnTo>
                  <a:lnTo>
                    <a:pt x="44" y="58"/>
                  </a:lnTo>
                  <a:lnTo>
                    <a:pt x="43" y="6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89560" y="4381560"/>
              <a:ext cx="373320" cy="45468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3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44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6" y="252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19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60" y="188"/>
                  </a:lnTo>
                  <a:lnTo>
                    <a:pt x="57" y="190"/>
                  </a:lnTo>
                  <a:lnTo>
                    <a:pt x="53" y="192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2" y="125"/>
                  </a:lnTo>
                  <a:lnTo>
                    <a:pt x="0" y="118"/>
                  </a:lnTo>
                  <a:lnTo>
                    <a:pt x="1" y="111"/>
                  </a:lnTo>
                  <a:lnTo>
                    <a:pt x="5" y="107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4" y="7"/>
                  </a:lnTo>
                  <a:lnTo>
                    <a:pt x="131" y="8"/>
                  </a:lnTo>
                  <a:lnTo>
                    <a:pt x="131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40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2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5" y="145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6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3" y="228"/>
                  </a:lnTo>
                  <a:lnTo>
                    <a:pt x="158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6"/>
                  </a:lnTo>
                  <a:lnTo>
                    <a:pt x="204" y="259"/>
                  </a:lnTo>
                  <a:lnTo>
                    <a:pt x="209" y="261"/>
                  </a:lnTo>
                  <a:lnTo>
                    <a:pt x="216" y="260"/>
                  </a:lnTo>
                  <a:lnTo>
                    <a:pt x="212" y="251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7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4" y="276"/>
                  </a:lnTo>
                  <a:lnTo>
                    <a:pt x="223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7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89560" y="4381560"/>
              <a:ext cx="373320" cy="45468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4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43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5" y="252"/>
                  </a:lnTo>
                  <a:lnTo>
                    <a:pt x="108" y="251"/>
                  </a:lnTo>
                  <a:lnTo>
                    <a:pt x="100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20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7" y="190"/>
                  </a:lnTo>
                  <a:lnTo>
                    <a:pt x="53" y="191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3" y="12"/>
                  </a:lnTo>
                  <a:lnTo>
                    <a:pt x="113" y="11"/>
                  </a:lnTo>
                  <a:lnTo>
                    <a:pt x="123" y="7"/>
                  </a:lnTo>
                  <a:lnTo>
                    <a:pt x="131" y="8"/>
                  </a:lnTo>
                  <a:lnTo>
                    <a:pt x="130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39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1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4" y="146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7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2" y="228"/>
                  </a:lnTo>
                  <a:lnTo>
                    <a:pt x="157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7"/>
                  </a:lnTo>
                  <a:lnTo>
                    <a:pt x="204" y="260"/>
                  </a:lnTo>
                  <a:lnTo>
                    <a:pt x="209" y="261"/>
                  </a:lnTo>
                  <a:lnTo>
                    <a:pt x="215" y="261"/>
                  </a:lnTo>
                  <a:lnTo>
                    <a:pt x="212" y="252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8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3" y="276"/>
                  </a:lnTo>
                  <a:lnTo>
                    <a:pt x="222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8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55680" y="4827960"/>
              <a:ext cx="80280" cy="10800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49"/>
                  </a:lnTo>
                  <a:lnTo>
                    <a:pt x="53" y="64"/>
                  </a:lnTo>
                  <a:lnTo>
                    <a:pt x="48" y="74"/>
                  </a:lnTo>
                  <a:lnTo>
                    <a:pt x="39" y="71"/>
                  </a:lnTo>
                  <a:lnTo>
                    <a:pt x="33" y="57"/>
                  </a:lnTo>
                  <a:lnTo>
                    <a:pt x="24" y="43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29" y="30"/>
                  </a:lnTo>
                  <a:lnTo>
                    <a:pt x="19" y="36"/>
                  </a:lnTo>
                  <a:lnTo>
                    <a:pt x="9" y="29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55680" y="4827960"/>
              <a:ext cx="80280" cy="1094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50"/>
                  </a:lnTo>
                  <a:lnTo>
                    <a:pt x="53" y="64"/>
                  </a:lnTo>
                  <a:lnTo>
                    <a:pt x="48" y="75"/>
                  </a:lnTo>
                  <a:lnTo>
                    <a:pt x="39" y="72"/>
                  </a:lnTo>
                  <a:lnTo>
                    <a:pt x="33" y="58"/>
                  </a:lnTo>
                  <a:lnTo>
                    <a:pt x="24" y="44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9" y="30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36240" y="4877280"/>
              <a:ext cx="81360" cy="12528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36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3"/>
                  </a:lnTo>
                  <a:lnTo>
                    <a:pt x="4" y="14"/>
                  </a:lnTo>
                  <a:lnTo>
                    <a:pt x="6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3" y="82"/>
                  </a:lnTo>
                  <a:lnTo>
                    <a:pt x="49" y="86"/>
                  </a:lnTo>
                  <a:lnTo>
                    <a:pt x="42" y="82"/>
                  </a:lnTo>
                  <a:lnTo>
                    <a:pt x="38" y="79"/>
                  </a:lnTo>
                  <a:lnTo>
                    <a:pt x="40" y="73"/>
                  </a:lnTo>
                  <a:lnTo>
                    <a:pt x="44" y="73"/>
                  </a:lnTo>
                  <a:lnTo>
                    <a:pt x="50" y="76"/>
                  </a:lnTo>
                  <a:lnTo>
                    <a:pt x="54" y="75"/>
                  </a:lnTo>
                  <a:lnTo>
                    <a:pt x="52" y="66"/>
                  </a:lnTo>
                  <a:lnTo>
                    <a:pt x="42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3" y="32"/>
                  </a:lnTo>
                  <a:lnTo>
                    <a:pt x="38" y="27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37680" y="4877280"/>
              <a:ext cx="80280" cy="12528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35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4" y="14"/>
                  </a:lnTo>
                  <a:lnTo>
                    <a:pt x="5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2" y="82"/>
                  </a:lnTo>
                  <a:lnTo>
                    <a:pt x="48" y="86"/>
                  </a:lnTo>
                  <a:lnTo>
                    <a:pt x="42" y="82"/>
                  </a:lnTo>
                  <a:lnTo>
                    <a:pt x="37" y="80"/>
                  </a:lnTo>
                  <a:lnTo>
                    <a:pt x="40" y="74"/>
                  </a:lnTo>
                  <a:lnTo>
                    <a:pt x="44" y="73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1" y="66"/>
                  </a:lnTo>
                  <a:lnTo>
                    <a:pt x="41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3" y="32"/>
                  </a:lnTo>
                  <a:lnTo>
                    <a:pt x="38" y="28"/>
                  </a:lnTo>
                  <a:lnTo>
                    <a:pt x="31" y="23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74240" y="4934160"/>
              <a:ext cx="93600" cy="14148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3" y="7"/>
                  </a:moveTo>
                  <a:lnTo>
                    <a:pt x="43" y="10"/>
                  </a:lnTo>
                  <a:lnTo>
                    <a:pt x="32" y="12"/>
                  </a:lnTo>
                  <a:lnTo>
                    <a:pt x="20" y="11"/>
                  </a:lnTo>
                  <a:lnTo>
                    <a:pt x="16" y="19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23" y="37"/>
                  </a:lnTo>
                  <a:lnTo>
                    <a:pt x="28" y="35"/>
                  </a:lnTo>
                  <a:lnTo>
                    <a:pt x="34" y="33"/>
                  </a:lnTo>
                  <a:lnTo>
                    <a:pt x="28" y="42"/>
                  </a:lnTo>
                  <a:lnTo>
                    <a:pt x="29" y="51"/>
                  </a:lnTo>
                  <a:lnTo>
                    <a:pt x="29" y="59"/>
                  </a:lnTo>
                  <a:lnTo>
                    <a:pt x="23" y="64"/>
                  </a:lnTo>
                  <a:lnTo>
                    <a:pt x="14" y="64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18" y="88"/>
                  </a:lnTo>
                  <a:lnTo>
                    <a:pt x="38" y="97"/>
                  </a:lnTo>
                  <a:lnTo>
                    <a:pt x="59" y="94"/>
                  </a:lnTo>
                  <a:lnTo>
                    <a:pt x="59" y="90"/>
                  </a:lnTo>
                  <a:lnTo>
                    <a:pt x="55" y="83"/>
                  </a:lnTo>
                  <a:lnTo>
                    <a:pt x="52" y="76"/>
                  </a:lnTo>
                  <a:lnTo>
                    <a:pt x="53" y="54"/>
                  </a:lnTo>
                  <a:lnTo>
                    <a:pt x="60" y="31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05920" y="4945680"/>
              <a:ext cx="50040" cy="7560"/>
            </a:xfrm>
            <a:custGeom>
              <a:avLst/>
              <a:gdLst/>
              <a:ahLst/>
              <a:rect l="l" t="t" r="r" b="b"/>
              <a:pathLst>
                <a:path w="33" h="5">
                  <a:moveTo>
                    <a:pt x="33" y="0"/>
                  </a:moveTo>
                  <a:lnTo>
                    <a:pt x="22" y="3"/>
                  </a:lnTo>
                  <a:lnTo>
                    <a:pt x="11" y="5"/>
                  </a:lnTo>
                  <a:lnTo>
                    <a:pt x="0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93680" y="4950360"/>
              <a:ext cx="11880" cy="374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5" y="2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00160" y="4983840"/>
              <a:ext cx="2556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7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18160" y="4983840"/>
              <a:ext cx="7200" cy="363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0" y="8"/>
                  </a:lnTo>
                  <a:lnTo>
                    <a:pt x="1" y="17"/>
                  </a:lnTo>
                  <a:lnTo>
                    <a:pt x="0" y="2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80000" y="5020200"/>
              <a:ext cx="37800" cy="720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0"/>
                  </a:moveTo>
                  <a:lnTo>
                    <a:pt x="19" y="4"/>
                  </a:lnTo>
                  <a:lnTo>
                    <a:pt x="10" y="5"/>
                  </a:lnTo>
                  <a:lnTo>
                    <a:pt x="0" y="5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74240" y="502740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75680" y="5040720"/>
              <a:ext cx="87480" cy="34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0" y="0"/>
                  </a:moveTo>
                  <a:lnTo>
                    <a:pt x="17" y="15"/>
                  </a:lnTo>
                  <a:lnTo>
                    <a:pt x="37" y="24"/>
                  </a:lnTo>
                  <a:lnTo>
                    <a:pt x="58" y="2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52720" y="5045040"/>
              <a:ext cx="10440" cy="262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18"/>
                  </a:move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52720" y="4945680"/>
              <a:ext cx="14760" cy="9900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8"/>
                  </a:moveTo>
                  <a:lnTo>
                    <a:pt x="1" y="46"/>
                  </a:lnTo>
                  <a:lnTo>
                    <a:pt x="8" y="23"/>
                  </a:lnTo>
                  <a:lnTo>
                    <a:pt x="1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40840" y="4935960"/>
              <a:ext cx="27000" cy="97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5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5440" y="4845240"/>
              <a:ext cx="104040" cy="12816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5440" y="4845240"/>
              <a:ext cx="104040" cy="12816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4"/>
                  </a:lnTo>
                  <a:lnTo>
                    <a:pt x="65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59120" y="4810320"/>
              <a:ext cx="22320" cy="244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6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59120" y="4810320"/>
              <a:ext cx="22320" cy="244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01240" y="4824720"/>
              <a:ext cx="19440" cy="378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0" y="26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01240" y="4824720"/>
              <a:ext cx="19440" cy="39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6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10" y="27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45160" y="4810320"/>
              <a:ext cx="80280" cy="62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45160" y="4810320"/>
              <a:ext cx="80280" cy="62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5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5"/>
                  </a:lnTo>
                  <a:lnTo>
                    <a:pt x="7" y="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64960" y="4911120"/>
              <a:ext cx="45360" cy="13104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86"/>
                  </a:moveTo>
                  <a:lnTo>
                    <a:pt x="3" y="73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60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64960" y="4912560"/>
              <a:ext cx="45360" cy="12960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86"/>
                  </a:moveTo>
                  <a:lnTo>
                    <a:pt x="3" y="73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59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08880" y="5000040"/>
              <a:ext cx="46800" cy="446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5000040"/>
              <a:ext cx="46800" cy="446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45440" y="5017680"/>
              <a:ext cx="359640" cy="30312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3"/>
                  </a:lnTo>
                  <a:lnTo>
                    <a:pt x="35" y="105"/>
                  </a:lnTo>
                  <a:lnTo>
                    <a:pt x="18" y="117"/>
                  </a:lnTo>
                  <a:lnTo>
                    <a:pt x="14" y="120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7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5" y="128"/>
                  </a:lnTo>
                  <a:lnTo>
                    <a:pt x="67" y="128"/>
                  </a:lnTo>
                  <a:lnTo>
                    <a:pt x="79" y="125"/>
                  </a:lnTo>
                  <a:lnTo>
                    <a:pt x="77" y="122"/>
                  </a:lnTo>
                  <a:lnTo>
                    <a:pt x="73" y="117"/>
                  </a:lnTo>
                  <a:lnTo>
                    <a:pt x="77" y="114"/>
                  </a:lnTo>
                  <a:lnTo>
                    <a:pt x="85" y="115"/>
                  </a:lnTo>
                  <a:lnTo>
                    <a:pt x="93" y="118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1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6" y="188"/>
                  </a:lnTo>
                  <a:lnTo>
                    <a:pt x="155" y="187"/>
                  </a:lnTo>
                  <a:lnTo>
                    <a:pt x="163" y="185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70" y="198"/>
                  </a:lnTo>
                  <a:lnTo>
                    <a:pt x="170" y="204"/>
                  </a:lnTo>
                  <a:lnTo>
                    <a:pt x="178" y="208"/>
                  </a:lnTo>
                  <a:lnTo>
                    <a:pt x="188" y="207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2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5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4" y="5"/>
                  </a:lnTo>
                  <a:lnTo>
                    <a:pt x="181" y="0"/>
                  </a:lnTo>
                  <a:lnTo>
                    <a:pt x="170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3"/>
                  </a:lnTo>
                  <a:lnTo>
                    <a:pt x="168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6" y="103"/>
                  </a:lnTo>
                  <a:lnTo>
                    <a:pt x="105" y="96"/>
                  </a:lnTo>
                  <a:lnTo>
                    <a:pt x="103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440" y="5017680"/>
              <a:ext cx="359640" cy="30312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2"/>
                  </a:lnTo>
                  <a:lnTo>
                    <a:pt x="34" y="105"/>
                  </a:lnTo>
                  <a:lnTo>
                    <a:pt x="18" y="117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7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6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5"/>
                  </a:lnTo>
                  <a:lnTo>
                    <a:pt x="41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4" y="127"/>
                  </a:lnTo>
                  <a:lnTo>
                    <a:pt x="67" y="128"/>
                  </a:lnTo>
                  <a:lnTo>
                    <a:pt x="78" y="125"/>
                  </a:lnTo>
                  <a:lnTo>
                    <a:pt x="77" y="121"/>
                  </a:lnTo>
                  <a:lnTo>
                    <a:pt x="73" y="117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3" y="117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0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5" y="187"/>
                  </a:lnTo>
                  <a:lnTo>
                    <a:pt x="154" y="187"/>
                  </a:lnTo>
                  <a:lnTo>
                    <a:pt x="163" y="184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78" y="208"/>
                  </a:lnTo>
                  <a:lnTo>
                    <a:pt x="187" y="206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1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4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3" y="4"/>
                  </a:lnTo>
                  <a:lnTo>
                    <a:pt x="181" y="0"/>
                  </a:lnTo>
                  <a:lnTo>
                    <a:pt x="169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2"/>
                  </a:lnTo>
                  <a:lnTo>
                    <a:pt x="167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5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37400" y="4988160"/>
              <a:ext cx="31680" cy="291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4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988160"/>
              <a:ext cx="31680" cy="291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42000" y="5065560"/>
              <a:ext cx="28800" cy="129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6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42000" y="5065560"/>
              <a:ext cx="28800" cy="129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7" y="3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75400" y="5084280"/>
              <a:ext cx="19440" cy="19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3" y="13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2" y="1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75400" y="5084280"/>
              <a:ext cx="19440" cy="20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4" y="14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49760" y="5266800"/>
              <a:ext cx="28800" cy="187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3" y="1"/>
                  </a:moveTo>
                  <a:lnTo>
                    <a:pt x="9" y="3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49760" y="5266800"/>
              <a:ext cx="28800" cy="187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4" y="1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99680" y="5412600"/>
              <a:ext cx="25560" cy="187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3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99680" y="5412600"/>
              <a:ext cx="25560" cy="187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3"/>
                  </a:move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84560" y="5354280"/>
              <a:ext cx="16200" cy="172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2" y="7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86000" y="5354280"/>
              <a:ext cx="14760" cy="17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1" y="7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05360" y="5373360"/>
              <a:ext cx="14760" cy="24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05360" y="5373360"/>
              <a:ext cx="14760" cy="24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3720" y="5477040"/>
              <a:ext cx="16560" cy="230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8" y="7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23720" y="5477040"/>
              <a:ext cx="16560" cy="230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49760" y="4622400"/>
              <a:ext cx="22320" cy="331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2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11" y="7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51560" y="4622400"/>
              <a:ext cx="20880" cy="345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" y="8"/>
                  </a:lnTo>
                  <a:lnTo>
                    <a:pt x="3" y="16"/>
                  </a:lnTo>
                  <a:lnTo>
                    <a:pt x="3" y="24"/>
                  </a:lnTo>
                  <a:lnTo>
                    <a:pt x="7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0040" y="4775400"/>
              <a:ext cx="10440" cy="2412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4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0040" y="4775400"/>
              <a:ext cx="10440" cy="25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15200" y="4762440"/>
              <a:ext cx="22320" cy="20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4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15200" y="4762440"/>
              <a:ext cx="22320" cy="20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5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49280" y="495900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49280" y="495900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34440" y="4699440"/>
              <a:ext cx="21240" cy="262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36240" y="4699440"/>
              <a:ext cx="20880" cy="262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1160" y="5829840"/>
              <a:ext cx="318960" cy="596160"/>
            </a:xfrm>
            <a:custGeom>
              <a:avLst/>
              <a:gdLst/>
              <a:ahLst/>
              <a:rect l="l" t="t" r="r" b="b"/>
              <a:pathLst>
                <a:path w="211" h="409">
                  <a:moveTo>
                    <a:pt x="15" y="104"/>
                  </a:moveTo>
                  <a:lnTo>
                    <a:pt x="0" y="160"/>
                  </a:lnTo>
                  <a:lnTo>
                    <a:pt x="10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5" y="181"/>
                  </a:lnTo>
                  <a:lnTo>
                    <a:pt x="41" y="180"/>
                  </a:lnTo>
                  <a:lnTo>
                    <a:pt x="46" y="181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5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8" y="208"/>
                  </a:lnTo>
                  <a:lnTo>
                    <a:pt x="71" y="217"/>
                  </a:lnTo>
                  <a:lnTo>
                    <a:pt x="77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4"/>
                  </a:lnTo>
                  <a:lnTo>
                    <a:pt x="93" y="292"/>
                  </a:lnTo>
                  <a:lnTo>
                    <a:pt x="98" y="300"/>
                  </a:lnTo>
                  <a:lnTo>
                    <a:pt x="106" y="306"/>
                  </a:lnTo>
                  <a:lnTo>
                    <a:pt x="103" y="306"/>
                  </a:lnTo>
                  <a:lnTo>
                    <a:pt x="101" y="305"/>
                  </a:lnTo>
                  <a:lnTo>
                    <a:pt x="99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3" y="314"/>
                  </a:lnTo>
                  <a:lnTo>
                    <a:pt x="102" y="317"/>
                  </a:lnTo>
                  <a:lnTo>
                    <a:pt x="107" y="321"/>
                  </a:lnTo>
                  <a:lnTo>
                    <a:pt x="109" y="335"/>
                  </a:lnTo>
                  <a:lnTo>
                    <a:pt x="98" y="345"/>
                  </a:lnTo>
                  <a:lnTo>
                    <a:pt x="84" y="354"/>
                  </a:lnTo>
                  <a:lnTo>
                    <a:pt x="82" y="357"/>
                  </a:lnTo>
                  <a:lnTo>
                    <a:pt x="81" y="361"/>
                  </a:lnTo>
                  <a:lnTo>
                    <a:pt x="80" y="366"/>
                  </a:lnTo>
                  <a:lnTo>
                    <a:pt x="104" y="361"/>
                  </a:lnTo>
                  <a:lnTo>
                    <a:pt x="127" y="360"/>
                  </a:lnTo>
                  <a:lnTo>
                    <a:pt x="152" y="362"/>
                  </a:lnTo>
                  <a:lnTo>
                    <a:pt x="152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6" y="357"/>
                  </a:lnTo>
                  <a:lnTo>
                    <a:pt x="159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3" y="396"/>
                  </a:lnTo>
                  <a:lnTo>
                    <a:pt x="205" y="409"/>
                  </a:lnTo>
                  <a:lnTo>
                    <a:pt x="209" y="364"/>
                  </a:lnTo>
                  <a:lnTo>
                    <a:pt x="209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1" y="264"/>
                  </a:lnTo>
                  <a:lnTo>
                    <a:pt x="200" y="261"/>
                  </a:lnTo>
                  <a:lnTo>
                    <a:pt x="211" y="199"/>
                  </a:lnTo>
                  <a:lnTo>
                    <a:pt x="207" y="135"/>
                  </a:lnTo>
                  <a:lnTo>
                    <a:pt x="200" y="72"/>
                  </a:lnTo>
                  <a:lnTo>
                    <a:pt x="192" y="63"/>
                  </a:lnTo>
                  <a:lnTo>
                    <a:pt x="173" y="57"/>
                  </a:lnTo>
                  <a:lnTo>
                    <a:pt x="155" y="50"/>
                  </a:lnTo>
                  <a:lnTo>
                    <a:pt x="144" y="46"/>
                  </a:lnTo>
                  <a:lnTo>
                    <a:pt x="133" y="43"/>
                  </a:lnTo>
                  <a:lnTo>
                    <a:pt x="124" y="39"/>
                  </a:lnTo>
                  <a:lnTo>
                    <a:pt x="100" y="29"/>
                  </a:lnTo>
                  <a:lnTo>
                    <a:pt x="76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3" y="31"/>
                  </a:lnTo>
                  <a:lnTo>
                    <a:pt x="33" y="70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71160" y="5829840"/>
              <a:ext cx="320760" cy="596160"/>
            </a:xfrm>
            <a:custGeom>
              <a:avLst/>
              <a:gdLst/>
              <a:ahLst/>
              <a:rect l="l" t="t" r="r" b="b"/>
              <a:pathLst>
                <a:path w="212" h="409">
                  <a:moveTo>
                    <a:pt x="15" y="104"/>
                  </a:moveTo>
                  <a:lnTo>
                    <a:pt x="0" y="160"/>
                  </a:lnTo>
                  <a:lnTo>
                    <a:pt x="11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6" y="181"/>
                  </a:lnTo>
                  <a:lnTo>
                    <a:pt x="42" y="181"/>
                  </a:lnTo>
                  <a:lnTo>
                    <a:pt x="46" y="182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6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9" y="207"/>
                  </a:lnTo>
                  <a:lnTo>
                    <a:pt x="72" y="217"/>
                  </a:lnTo>
                  <a:lnTo>
                    <a:pt x="78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3"/>
                  </a:lnTo>
                  <a:lnTo>
                    <a:pt x="93" y="292"/>
                  </a:lnTo>
                  <a:lnTo>
                    <a:pt x="99" y="300"/>
                  </a:lnTo>
                  <a:lnTo>
                    <a:pt x="106" y="306"/>
                  </a:lnTo>
                  <a:lnTo>
                    <a:pt x="104" y="306"/>
                  </a:lnTo>
                  <a:lnTo>
                    <a:pt x="102" y="305"/>
                  </a:lnTo>
                  <a:lnTo>
                    <a:pt x="100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4" y="314"/>
                  </a:lnTo>
                  <a:lnTo>
                    <a:pt x="102" y="317"/>
                  </a:lnTo>
                  <a:lnTo>
                    <a:pt x="108" y="321"/>
                  </a:lnTo>
                  <a:lnTo>
                    <a:pt x="110" y="335"/>
                  </a:lnTo>
                  <a:lnTo>
                    <a:pt x="99" y="345"/>
                  </a:lnTo>
                  <a:lnTo>
                    <a:pt x="84" y="354"/>
                  </a:lnTo>
                  <a:lnTo>
                    <a:pt x="83" y="356"/>
                  </a:lnTo>
                  <a:lnTo>
                    <a:pt x="82" y="361"/>
                  </a:lnTo>
                  <a:lnTo>
                    <a:pt x="80" y="366"/>
                  </a:lnTo>
                  <a:lnTo>
                    <a:pt x="104" y="360"/>
                  </a:lnTo>
                  <a:lnTo>
                    <a:pt x="128" y="359"/>
                  </a:lnTo>
                  <a:lnTo>
                    <a:pt x="152" y="362"/>
                  </a:lnTo>
                  <a:lnTo>
                    <a:pt x="153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7" y="357"/>
                  </a:lnTo>
                  <a:lnTo>
                    <a:pt x="160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4" y="396"/>
                  </a:lnTo>
                  <a:lnTo>
                    <a:pt x="205" y="409"/>
                  </a:lnTo>
                  <a:lnTo>
                    <a:pt x="210" y="364"/>
                  </a:lnTo>
                  <a:lnTo>
                    <a:pt x="210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2" y="264"/>
                  </a:lnTo>
                  <a:lnTo>
                    <a:pt x="201" y="261"/>
                  </a:lnTo>
                  <a:lnTo>
                    <a:pt x="212" y="199"/>
                  </a:lnTo>
                  <a:lnTo>
                    <a:pt x="208" y="135"/>
                  </a:lnTo>
                  <a:lnTo>
                    <a:pt x="201" y="72"/>
                  </a:lnTo>
                  <a:lnTo>
                    <a:pt x="192" y="63"/>
                  </a:lnTo>
                  <a:lnTo>
                    <a:pt x="174" y="57"/>
                  </a:lnTo>
                  <a:lnTo>
                    <a:pt x="155" y="50"/>
                  </a:lnTo>
                  <a:lnTo>
                    <a:pt x="145" y="46"/>
                  </a:lnTo>
                  <a:lnTo>
                    <a:pt x="134" y="43"/>
                  </a:lnTo>
                  <a:lnTo>
                    <a:pt x="125" y="39"/>
                  </a:lnTo>
                  <a:lnTo>
                    <a:pt x="100" y="30"/>
                  </a:lnTo>
                  <a:lnTo>
                    <a:pt x="77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4" y="31"/>
                  </a:lnTo>
                  <a:lnTo>
                    <a:pt x="34" y="70"/>
                  </a:lnTo>
                  <a:lnTo>
                    <a:pt x="15" y="104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Developments in Asia i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rIA has 75 memb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SR/sustainability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media coverage of th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sung Eco Fund launched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-Frontier research initiative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sway Sustainable Fund launched in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eds established in Tha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Provident, Henderson, Jupiter, Morley, Generali global funds registered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prospects in Asia:  Focus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362320" y="1752480"/>
            <a:ext cx="4403160" cy="4419360"/>
            <a:chOff x="2362320" y="1752480"/>
            <a:chExt cx="4403160" cy="4419360"/>
          </a:xfrm>
        </p:grpSpPr>
        <p:sp>
          <p:nvSpPr>
            <p:cNvPr id="772" name=""/>
            <p:cNvSpPr/>
            <p:nvPr/>
          </p:nvSpPr>
          <p:spPr>
            <a:xfrm>
              <a:off x="3359880" y="4860360"/>
              <a:ext cx="117000" cy="23940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3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6" y="61"/>
                  </a:lnTo>
                  <a:lnTo>
                    <a:pt x="97" y="88"/>
                  </a:lnTo>
                  <a:lnTo>
                    <a:pt x="111" y="117"/>
                  </a:lnTo>
                  <a:lnTo>
                    <a:pt x="109" y="148"/>
                  </a:lnTo>
                  <a:lnTo>
                    <a:pt x="97" y="166"/>
                  </a:lnTo>
                  <a:lnTo>
                    <a:pt x="80" y="177"/>
                  </a:lnTo>
                  <a:lnTo>
                    <a:pt x="58" y="182"/>
                  </a:lnTo>
                  <a:lnTo>
                    <a:pt x="57" y="186"/>
                  </a:lnTo>
                  <a:lnTo>
                    <a:pt x="53" y="188"/>
                  </a:lnTo>
                  <a:lnTo>
                    <a:pt x="51" y="192"/>
                  </a:lnTo>
                  <a:lnTo>
                    <a:pt x="41" y="191"/>
                  </a:lnTo>
                  <a:lnTo>
                    <a:pt x="33" y="188"/>
                  </a:lnTo>
                  <a:lnTo>
                    <a:pt x="26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7" y="116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10" y="54"/>
                  </a:lnTo>
                  <a:lnTo>
                    <a:pt x="8" y="2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60960" y="4860360"/>
              <a:ext cx="115920" cy="23940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2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5" y="61"/>
                  </a:lnTo>
                  <a:lnTo>
                    <a:pt x="96" y="88"/>
                  </a:lnTo>
                  <a:lnTo>
                    <a:pt x="110" y="117"/>
                  </a:lnTo>
                  <a:lnTo>
                    <a:pt x="108" y="148"/>
                  </a:lnTo>
                  <a:lnTo>
                    <a:pt x="97" y="166"/>
                  </a:lnTo>
                  <a:lnTo>
                    <a:pt x="79" y="177"/>
                  </a:lnTo>
                  <a:lnTo>
                    <a:pt x="57" y="182"/>
                  </a:lnTo>
                  <a:lnTo>
                    <a:pt x="57" y="186"/>
                  </a:lnTo>
                  <a:lnTo>
                    <a:pt x="52" y="189"/>
                  </a:lnTo>
                  <a:lnTo>
                    <a:pt x="50" y="192"/>
                  </a:lnTo>
                  <a:lnTo>
                    <a:pt x="41" y="191"/>
                  </a:lnTo>
                  <a:lnTo>
                    <a:pt x="32" y="189"/>
                  </a:lnTo>
                  <a:lnTo>
                    <a:pt x="25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7" y="137"/>
                  </a:lnTo>
                  <a:lnTo>
                    <a:pt x="7" y="117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9" y="54"/>
                  </a:lnTo>
                  <a:lnTo>
                    <a:pt x="8" y="22"/>
                  </a:lnTo>
                  <a:lnTo>
                    <a:pt x="2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13120" y="5562360"/>
              <a:ext cx="84240" cy="102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2" y="13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6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9"/>
                  </a:lnTo>
                  <a:lnTo>
                    <a:pt x="79" y="27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2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13120" y="5562360"/>
              <a:ext cx="84240" cy="102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3" y="13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7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8"/>
                  </a:lnTo>
                  <a:lnTo>
                    <a:pt x="79" y="26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3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38760" y="5639760"/>
              <a:ext cx="37440" cy="349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" y="13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1"/>
                  </a:lnTo>
                  <a:lnTo>
                    <a:pt x="32" y="5"/>
                  </a:lnTo>
                  <a:lnTo>
                    <a:pt x="36" y="12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19" y="26"/>
                  </a:lnTo>
                  <a:lnTo>
                    <a:pt x="13" y="28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38760" y="5641200"/>
              <a:ext cx="37440" cy="3348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" y="12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32" y="4"/>
                  </a:lnTo>
                  <a:lnTo>
                    <a:pt x="36" y="11"/>
                  </a:lnTo>
                  <a:lnTo>
                    <a:pt x="33" y="20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3" y="1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60560" y="5456160"/>
              <a:ext cx="33480" cy="522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7" y="28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8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60560" y="5456160"/>
              <a:ext cx="33480" cy="522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3"/>
                  </a:lnTo>
                  <a:lnTo>
                    <a:pt x="14" y="9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19"/>
                  </a:lnTo>
                  <a:lnTo>
                    <a:pt x="7" y="27"/>
                  </a:lnTo>
                  <a:lnTo>
                    <a:pt x="5" y="35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30" y="25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27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14040" y="5334840"/>
              <a:ext cx="18720" cy="237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4" y="3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18" y="9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14760" y="5334840"/>
              <a:ext cx="17640" cy="23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0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52920" y="5380200"/>
              <a:ext cx="20880" cy="198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1"/>
                  </a:moveTo>
                  <a:lnTo>
                    <a:pt x="15" y="8"/>
                  </a:lnTo>
                  <a:lnTo>
                    <a:pt x="10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9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54000" y="53802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4" y="8"/>
                  </a:lnTo>
                  <a:lnTo>
                    <a:pt x="9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3" y="9"/>
                  </a:lnTo>
                  <a:lnTo>
                    <a:pt x="9" y="13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01520" y="5412600"/>
              <a:ext cx="31320" cy="172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1"/>
                  </a:moveTo>
                  <a:lnTo>
                    <a:pt x="11" y="0"/>
                  </a:lnTo>
                  <a:lnTo>
                    <a:pt x="6" y="1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01520" y="5412600"/>
              <a:ext cx="31320" cy="172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74160" y="54025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10" y="5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74160" y="5402520"/>
              <a:ext cx="9360" cy="72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4160" y="5405040"/>
              <a:ext cx="2880" cy="126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77040" y="5417640"/>
              <a:ext cx="2088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7" y="1"/>
                  </a:lnTo>
                  <a:lnTo>
                    <a:pt x="14" y="4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65360" y="5536080"/>
              <a:ext cx="31320" cy="410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6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13" y="25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29" y="28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65360" y="5537520"/>
              <a:ext cx="31320" cy="396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13" y="24"/>
                  </a:lnTo>
                  <a:lnTo>
                    <a:pt x="27" y="3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09280" y="5602320"/>
              <a:ext cx="2088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0"/>
                  </a:moveTo>
                  <a:lnTo>
                    <a:pt x="10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10360" y="5602320"/>
              <a:ext cx="1980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10"/>
                  </a:moveTo>
                  <a:lnTo>
                    <a:pt x="9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12" y="12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40960" y="5648760"/>
              <a:ext cx="31680" cy="32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8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40960" y="5648760"/>
              <a:ext cx="31680" cy="32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7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77520" y="5376240"/>
              <a:ext cx="51480" cy="608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6" y="43"/>
                  </a:moveTo>
                  <a:lnTo>
                    <a:pt x="41" y="28"/>
                  </a:lnTo>
                  <a:lnTo>
                    <a:pt x="33" y="1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9" y="4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3"/>
                  </a:lnTo>
                  <a:lnTo>
                    <a:pt x="13" y="18"/>
                  </a:lnTo>
                  <a:lnTo>
                    <a:pt x="27" y="32"/>
                  </a:lnTo>
                  <a:lnTo>
                    <a:pt x="40" y="48"/>
                  </a:lnTo>
                  <a:lnTo>
                    <a:pt x="43" y="49"/>
                  </a:lnTo>
                  <a:lnTo>
                    <a:pt x="47" y="47"/>
                  </a:lnTo>
                  <a:lnTo>
                    <a:pt x="49" y="43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77520" y="5376240"/>
              <a:ext cx="52560" cy="608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47" y="43"/>
                  </a:moveTo>
                  <a:lnTo>
                    <a:pt x="42" y="28"/>
                  </a:lnTo>
                  <a:lnTo>
                    <a:pt x="34" y="1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41" y="49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0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45920" y="5467680"/>
              <a:ext cx="15840" cy="396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45920" y="5467680"/>
              <a:ext cx="15840" cy="396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04800" y="5288760"/>
              <a:ext cx="45000" cy="36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04800" y="5288760"/>
              <a:ext cx="45000" cy="36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4"/>
                  </a:lnTo>
                  <a:lnTo>
                    <a:pt x="15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25360" y="5763600"/>
              <a:ext cx="31680" cy="637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0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3"/>
                  </a:lnTo>
                  <a:lnTo>
                    <a:pt x="30" y="4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25360" y="5763600"/>
              <a:ext cx="31680" cy="637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1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2"/>
                  </a:lnTo>
                  <a:lnTo>
                    <a:pt x="30" y="4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3" y="1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1240" y="5781240"/>
              <a:ext cx="24120" cy="4860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01240" y="5781240"/>
              <a:ext cx="24120" cy="4860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84320" y="5797440"/>
              <a:ext cx="12600" cy="262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2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84320" y="5797440"/>
              <a:ext cx="13680" cy="273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10" y="22"/>
                  </a:lnTo>
                  <a:lnTo>
                    <a:pt x="13" y="16"/>
                  </a:lnTo>
                  <a:lnTo>
                    <a:pt x="10" y="7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68920" y="5531400"/>
              <a:ext cx="28440" cy="198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" y="12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7" y="2"/>
                  </a:lnTo>
                  <a:lnTo>
                    <a:pt x="0" y="7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68920" y="5531400"/>
              <a:ext cx="28440" cy="198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3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46960" y="5561280"/>
              <a:ext cx="16560" cy="234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2"/>
                  </a:moveTo>
                  <a:lnTo>
                    <a:pt x="3" y="8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12" y="19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47680" y="5561280"/>
              <a:ext cx="15480" cy="24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3"/>
                  </a:move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12" y="19"/>
                  </a:lnTo>
                  <a:lnTo>
                    <a:pt x="15" y="1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73960" y="5566320"/>
              <a:ext cx="2412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73960" y="5566320"/>
              <a:ext cx="2412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4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07720" y="5508720"/>
              <a:ext cx="28440" cy="16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8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07720" y="5508720"/>
              <a:ext cx="28440" cy="16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9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11640" y="5592600"/>
              <a:ext cx="32760" cy="198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1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11640" y="5592600"/>
              <a:ext cx="32760" cy="198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2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6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94640" y="5571360"/>
              <a:ext cx="36720" cy="198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35" y="12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94640" y="5572440"/>
              <a:ext cx="3780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8"/>
                  </a:moveTo>
                  <a:lnTo>
                    <a:pt x="13" y="1"/>
                  </a:lnTo>
                  <a:lnTo>
                    <a:pt x="28" y="0"/>
                  </a:lnTo>
                  <a:lnTo>
                    <a:pt x="36" y="12"/>
                  </a:lnTo>
                  <a:lnTo>
                    <a:pt x="28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62960" y="5313960"/>
              <a:ext cx="89280" cy="221760"/>
            </a:xfrm>
            <a:custGeom>
              <a:avLst/>
              <a:gdLst/>
              <a:ahLst/>
              <a:rect l="l" t="t" r="r" b="b"/>
              <a:pathLst>
                <a:path w="85" h="178">
                  <a:moveTo>
                    <a:pt x="39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9" y="146"/>
                  </a:lnTo>
                  <a:lnTo>
                    <a:pt x="32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5"/>
                  </a:lnTo>
                  <a:lnTo>
                    <a:pt x="59" y="5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49" y="53"/>
                  </a:lnTo>
                  <a:lnTo>
                    <a:pt x="40" y="37"/>
                  </a:lnTo>
                  <a:lnTo>
                    <a:pt x="41" y="21"/>
                  </a:lnTo>
                  <a:lnTo>
                    <a:pt x="47" y="4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2" y="12"/>
                  </a:lnTo>
                  <a:lnTo>
                    <a:pt x="60" y="20"/>
                  </a:lnTo>
                  <a:lnTo>
                    <a:pt x="56" y="27"/>
                  </a:lnTo>
                  <a:lnTo>
                    <a:pt x="56" y="35"/>
                  </a:lnTo>
                  <a:lnTo>
                    <a:pt x="61" y="42"/>
                  </a:lnTo>
                  <a:lnTo>
                    <a:pt x="62" y="50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2" y="44"/>
                  </a:lnTo>
                  <a:lnTo>
                    <a:pt x="69" y="41"/>
                  </a:lnTo>
                  <a:lnTo>
                    <a:pt x="77" y="38"/>
                  </a:lnTo>
                  <a:lnTo>
                    <a:pt x="85" y="37"/>
                  </a:lnTo>
                  <a:lnTo>
                    <a:pt x="80" y="47"/>
                  </a:lnTo>
                  <a:lnTo>
                    <a:pt x="80" y="58"/>
                  </a:lnTo>
                  <a:lnTo>
                    <a:pt x="80" y="70"/>
                  </a:lnTo>
                  <a:lnTo>
                    <a:pt x="75" y="75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72" y="97"/>
                  </a:lnTo>
                  <a:lnTo>
                    <a:pt x="79" y="107"/>
                  </a:lnTo>
                  <a:lnTo>
                    <a:pt x="85" y="119"/>
                  </a:lnTo>
                  <a:lnTo>
                    <a:pt x="75" y="111"/>
                  </a:lnTo>
                  <a:lnTo>
                    <a:pt x="67" y="102"/>
                  </a:lnTo>
                  <a:lnTo>
                    <a:pt x="59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2" y="175"/>
                  </a:lnTo>
                  <a:lnTo>
                    <a:pt x="67" y="175"/>
                  </a:lnTo>
                  <a:lnTo>
                    <a:pt x="63" y="178"/>
                  </a:lnTo>
                  <a:lnTo>
                    <a:pt x="59" y="178"/>
                  </a:lnTo>
                  <a:lnTo>
                    <a:pt x="51" y="172"/>
                  </a:lnTo>
                  <a:lnTo>
                    <a:pt x="44" y="165"/>
                  </a:lnTo>
                  <a:lnTo>
                    <a:pt x="42" y="155"/>
                  </a:lnTo>
                  <a:lnTo>
                    <a:pt x="36" y="160"/>
                  </a:lnTo>
                  <a:lnTo>
                    <a:pt x="37" y="166"/>
                  </a:lnTo>
                  <a:lnTo>
                    <a:pt x="39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3" y="157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8" y="147"/>
                  </a:lnTo>
                  <a:lnTo>
                    <a:pt x="12" y="149"/>
                  </a:lnTo>
                  <a:lnTo>
                    <a:pt x="16" y="152"/>
                  </a:lnTo>
                  <a:lnTo>
                    <a:pt x="34" y="155"/>
                  </a:lnTo>
                  <a:lnTo>
                    <a:pt x="36" y="153"/>
                  </a:lnTo>
                  <a:lnTo>
                    <a:pt x="40" y="150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64040" y="5313960"/>
              <a:ext cx="88200" cy="221760"/>
            </a:xfrm>
            <a:custGeom>
              <a:avLst/>
              <a:gdLst/>
              <a:ahLst/>
              <a:rect l="l" t="t" r="r" b="b"/>
              <a:pathLst>
                <a:path w="84" h="178">
                  <a:moveTo>
                    <a:pt x="38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8" y="146"/>
                  </a:lnTo>
                  <a:lnTo>
                    <a:pt x="31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3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6" y="60"/>
                  </a:lnTo>
                  <a:lnTo>
                    <a:pt x="58" y="55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41" y="2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1" y="12"/>
                  </a:lnTo>
                  <a:lnTo>
                    <a:pt x="59" y="20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60" y="42"/>
                  </a:lnTo>
                  <a:lnTo>
                    <a:pt x="61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9" y="41"/>
                  </a:lnTo>
                  <a:lnTo>
                    <a:pt x="76" y="39"/>
                  </a:lnTo>
                  <a:lnTo>
                    <a:pt x="84" y="37"/>
                  </a:lnTo>
                  <a:lnTo>
                    <a:pt x="79" y="48"/>
                  </a:lnTo>
                  <a:lnTo>
                    <a:pt x="80" y="58"/>
                  </a:lnTo>
                  <a:lnTo>
                    <a:pt x="79" y="70"/>
                  </a:lnTo>
                  <a:lnTo>
                    <a:pt x="74" y="76"/>
                  </a:lnTo>
                  <a:lnTo>
                    <a:pt x="67" y="79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79" y="107"/>
                  </a:lnTo>
                  <a:lnTo>
                    <a:pt x="84" y="119"/>
                  </a:lnTo>
                  <a:lnTo>
                    <a:pt x="74" y="112"/>
                  </a:lnTo>
                  <a:lnTo>
                    <a:pt x="66" y="103"/>
                  </a:lnTo>
                  <a:lnTo>
                    <a:pt x="58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1" y="176"/>
                  </a:lnTo>
                  <a:lnTo>
                    <a:pt x="66" y="175"/>
                  </a:lnTo>
                  <a:lnTo>
                    <a:pt x="62" y="178"/>
                  </a:lnTo>
                  <a:lnTo>
                    <a:pt x="58" y="178"/>
                  </a:lnTo>
                  <a:lnTo>
                    <a:pt x="50" y="172"/>
                  </a:lnTo>
                  <a:lnTo>
                    <a:pt x="43" y="165"/>
                  </a:lnTo>
                  <a:lnTo>
                    <a:pt x="41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8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2" y="149"/>
                  </a:lnTo>
                  <a:lnTo>
                    <a:pt x="15" y="152"/>
                  </a:lnTo>
                  <a:lnTo>
                    <a:pt x="33" y="155"/>
                  </a:lnTo>
                  <a:lnTo>
                    <a:pt x="36" y="153"/>
                  </a:lnTo>
                  <a:lnTo>
                    <a:pt x="39" y="150"/>
                  </a:lnTo>
                  <a:lnTo>
                    <a:pt x="38" y="14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36760" y="5311440"/>
              <a:ext cx="27360" cy="334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10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36760" y="5311440"/>
              <a:ext cx="27360" cy="334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9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6840" y="5476320"/>
              <a:ext cx="31320" cy="32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9"/>
                  </a:moveTo>
                  <a:lnTo>
                    <a:pt x="7" y="3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0" y="9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36840" y="5477400"/>
              <a:ext cx="31320" cy="30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8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14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0" y="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49800" y="5500080"/>
              <a:ext cx="385920" cy="249480"/>
            </a:xfrm>
            <a:custGeom>
              <a:avLst/>
              <a:gdLst/>
              <a:ahLst/>
              <a:rect l="l" t="t" r="r" b="b"/>
              <a:pathLst>
                <a:path w="366" h="200">
                  <a:moveTo>
                    <a:pt x="307" y="200"/>
                  </a:moveTo>
                  <a:lnTo>
                    <a:pt x="260" y="190"/>
                  </a:lnTo>
                  <a:lnTo>
                    <a:pt x="212" y="182"/>
                  </a:lnTo>
                  <a:lnTo>
                    <a:pt x="167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4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9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7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1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9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8"/>
                  </a:lnTo>
                  <a:lnTo>
                    <a:pt x="66" y="88"/>
                  </a:lnTo>
                  <a:lnTo>
                    <a:pt x="64" y="96"/>
                  </a:lnTo>
                  <a:lnTo>
                    <a:pt x="61" y="102"/>
                  </a:lnTo>
                  <a:lnTo>
                    <a:pt x="56" y="108"/>
                  </a:lnTo>
                  <a:lnTo>
                    <a:pt x="47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4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6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29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0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2"/>
                  </a:lnTo>
                  <a:lnTo>
                    <a:pt x="125" y="15"/>
                  </a:lnTo>
                  <a:lnTo>
                    <a:pt x="151" y="18"/>
                  </a:lnTo>
                  <a:lnTo>
                    <a:pt x="175" y="27"/>
                  </a:lnTo>
                  <a:lnTo>
                    <a:pt x="176" y="29"/>
                  </a:lnTo>
                  <a:lnTo>
                    <a:pt x="175" y="33"/>
                  </a:lnTo>
                  <a:lnTo>
                    <a:pt x="173" y="36"/>
                  </a:lnTo>
                  <a:lnTo>
                    <a:pt x="176" y="43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75" y="81"/>
                  </a:lnTo>
                  <a:lnTo>
                    <a:pt x="180" y="104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9" y="114"/>
                  </a:lnTo>
                  <a:lnTo>
                    <a:pt x="208" y="114"/>
                  </a:lnTo>
                  <a:lnTo>
                    <a:pt x="215" y="120"/>
                  </a:lnTo>
                  <a:lnTo>
                    <a:pt x="215" y="131"/>
                  </a:lnTo>
                  <a:lnTo>
                    <a:pt x="219" y="141"/>
                  </a:lnTo>
                  <a:lnTo>
                    <a:pt x="222" y="142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8" y="129"/>
                  </a:lnTo>
                  <a:lnTo>
                    <a:pt x="247" y="117"/>
                  </a:lnTo>
                  <a:lnTo>
                    <a:pt x="261" y="110"/>
                  </a:lnTo>
                  <a:lnTo>
                    <a:pt x="263" y="106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9" y="88"/>
                  </a:lnTo>
                  <a:lnTo>
                    <a:pt x="295" y="88"/>
                  </a:lnTo>
                  <a:lnTo>
                    <a:pt x="311" y="85"/>
                  </a:lnTo>
                  <a:lnTo>
                    <a:pt x="314" y="81"/>
                  </a:lnTo>
                  <a:lnTo>
                    <a:pt x="318" y="76"/>
                  </a:lnTo>
                  <a:lnTo>
                    <a:pt x="321" y="73"/>
                  </a:lnTo>
                  <a:lnTo>
                    <a:pt x="329" y="72"/>
                  </a:lnTo>
                  <a:lnTo>
                    <a:pt x="337" y="73"/>
                  </a:lnTo>
                  <a:lnTo>
                    <a:pt x="343" y="71"/>
                  </a:lnTo>
                  <a:lnTo>
                    <a:pt x="348" y="63"/>
                  </a:lnTo>
                  <a:lnTo>
                    <a:pt x="350" y="53"/>
                  </a:lnTo>
                  <a:lnTo>
                    <a:pt x="351" y="42"/>
                  </a:lnTo>
                  <a:lnTo>
                    <a:pt x="357" y="42"/>
                  </a:lnTo>
                  <a:lnTo>
                    <a:pt x="362" y="39"/>
                  </a:lnTo>
                  <a:lnTo>
                    <a:pt x="366" y="40"/>
                  </a:lnTo>
                  <a:lnTo>
                    <a:pt x="366" y="47"/>
                  </a:lnTo>
                  <a:lnTo>
                    <a:pt x="364" y="65"/>
                  </a:lnTo>
                  <a:lnTo>
                    <a:pt x="357" y="84"/>
                  </a:lnTo>
                  <a:lnTo>
                    <a:pt x="345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8" y="165"/>
                  </a:lnTo>
                  <a:lnTo>
                    <a:pt x="311" y="188"/>
                  </a:lnTo>
                  <a:lnTo>
                    <a:pt x="307" y="2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50880" y="5500080"/>
              <a:ext cx="384840" cy="24948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306" y="200"/>
                  </a:moveTo>
                  <a:lnTo>
                    <a:pt x="259" y="190"/>
                  </a:lnTo>
                  <a:lnTo>
                    <a:pt x="212" y="182"/>
                  </a:lnTo>
                  <a:lnTo>
                    <a:pt x="166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3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8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6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0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8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9"/>
                  </a:lnTo>
                  <a:lnTo>
                    <a:pt x="66" y="88"/>
                  </a:lnTo>
                  <a:lnTo>
                    <a:pt x="64" y="97"/>
                  </a:lnTo>
                  <a:lnTo>
                    <a:pt x="61" y="102"/>
                  </a:lnTo>
                  <a:lnTo>
                    <a:pt x="55" y="108"/>
                  </a:lnTo>
                  <a:lnTo>
                    <a:pt x="46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5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7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1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3"/>
                  </a:lnTo>
                  <a:lnTo>
                    <a:pt x="125" y="15"/>
                  </a:lnTo>
                  <a:lnTo>
                    <a:pt x="150" y="18"/>
                  </a:lnTo>
                  <a:lnTo>
                    <a:pt x="175" y="27"/>
                  </a:lnTo>
                  <a:lnTo>
                    <a:pt x="175" y="29"/>
                  </a:lnTo>
                  <a:lnTo>
                    <a:pt x="174" y="33"/>
                  </a:lnTo>
                  <a:lnTo>
                    <a:pt x="173" y="37"/>
                  </a:lnTo>
                  <a:lnTo>
                    <a:pt x="176" y="43"/>
                  </a:lnTo>
                  <a:lnTo>
                    <a:pt x="182" y="49"/>
                  </a:lnTo>
                  <a:lnTo>
                    <a:pt x="183" y="55"/>
                  </a:lnTo>
                  <a:lnTo>
                    <a:pt x="174" y="81"/>
                  </a:lnTo>
                  <a:lnTo>
                    <a:pt x="180" y="104"/>
                  </a:lnTo>
                  <a:lnTo>
                    <a:pt x="194" y="121"/>
                  </a:lnTo>
                  <a:lnTo>
                    <a:pt x="194" y="117"/>
                  </a:lnTo>
                  <a:lnTo>
                    <a:pt x="198" y="114"/>
                  </a:lnTo>
                  <a:lnTo>
                    <a:pt x="208" y="114"/>
                  </a:lnTo>
                  <a:lnTo>
                    <a:pt x="214" y="120"/>
                  </a:lnTo>
                  <a:lnTo>
                    <a:pt x="215" y="131"/>
                  </a:lnTo>
                  <a:lnTo>
                    <a:pt x="218" y="141"/>
                  </a:lnTo>
                  <a:lnTo>
                    <a:pt x="221" y="142"/>
                  </a:lnTo>
                  <a:lnTo>
                    <a:pt x="224" y="142"/>
                  </a:lnTo>
                  <a:lnTo>
                    <a:pt x="227" y="141"/>
                  </a:lnTo>
                  <a:lnTo>
                    <a:pt x="237" y="129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63" y="107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8" y="88"/>
                  </a:lnTo>
                  <a:lnTo>
                    <a:pt x="294" y="89"/>
                  </a:lnTo>
                  <a:lnTo>
                    <a:pt x="310" y="85"/>
                  </a:lnTo>
                  <a:lnTo>
                    <a:pt x="313" y="81"/>
                  </a:lnTo>
                  <a:lnTo>
                    <a:pt x="317" y="76"/>
                  </a:lnTo>
                  <a:lnTo>
                    <a:pt x="321" y="73"/>
                  </a:lnTo>
                  <a:lnTo>
                    <a:pt x="328" y="73"/>
                  </a:lnTo>
                  <a:lnTo>
                    <a:pt x="336" y="73"/>
                  </a:lnTo>
                  <a:lnTo>
                    <a:pt x="342" y="71"/>
                  </a:lnTo>
                  <a:lnTo>
                    <a:pt x="347" y="63"/>
                  </a:lnTo>
                  <a:lnTo>
                    <a:pt x="349" y="53"/>
                  </a:lnTo>
                  <a:lnTo>
                    <a:pt x="350" y="43"/>
                  </a:lnTo>
                  <a:lnTo>
                    <a:pt x="356" y="42"/>
                  </a:lnTo>
                  <a:lnTo>
                    <a:pt x="361" y="39"/>
                  </a:lnTo>
                  <a:lnTo>
                    <a:pt x="365" y="40"/>
                  </a:lnTo>
                  <a:lnTo>
                    <a:pt x="365" y="47"/>
                  </a:lnTo>
                  <a:lnTo>
                    <a:pt x="363" y="65"/>
                  </a:lnTo>
                  <a:lnTo>
                    <a:pt x="357" y="85"/>
                  </a:lnTo>
                  <a:lnTo>
                    <a:pt x="344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7" y="165"/>
                  </a:lnTo>
                  <a:lnTo>
                    <a:pt x="310" y="188"/>
                  </a:lnTo>
                  <a:lnTo>
                    <a:pt x="306" y="20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35200" y="5809680"/>
              <a:ext cx="38880" cy="648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5" y="35"/>
                  </a:lnTo>
                  <a:lnTo>
                    <a:pt x="0" y="36"/>
                  </a:lnTo>
                  <a:lnTo>
                    <a:pt x="8" y="47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9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235200" y="5809680"/>
              <a:ext cx="38880" cy="648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10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8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58160" y="5813280"/>
              <a:ext cx="17640" cy="31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1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58160" y="5813280"/>
              <a:ext cx="17640" cy="31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304680" y="5516280"/>
              <a:ext cx="41040" cy="2592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3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7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04680" y="5517360"/>
              <a:ext cx="41040" cy="2628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2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5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6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01800" y="5569920"/>
              <a:ext cx="59040" cy="136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1"/>
                  </a:lnTo>
                  <a:lnTo>
                    <a:pt x="56" y="2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01800" y="5569920"/>
              <a:ext cx="59040" cy="1476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0" y="1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6" y="5"/>
                  </a:lnTo>
                  <a:lnTo>
                    <a:pt x="55" y="7"/>
                  </a:lnTo>
                  <a:lnTo>
                    <a:pt x="40" y="12"/>
                  </a:lnTo>
                  <a:lnTo>
                    <a:pt x="24" y="7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73360" y="5532480"/>
              <a:ext cx="14760" cy="198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73360" y="5533920"/>
              <a:ext cx="14760" cy="183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018840" y="5380200"/>
              <a:ext cx="63360" cy="122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6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8840" y="5380200"/>
              <a:ext cx="63360" cy="122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41480" y="5099040"/>
              <a:ext cx="24840" cy="122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"/>
                  </a:moveTo>
                  <a:lnTo>
                    <a:pt x="14" y="1"/>
                  </a:lnTo>
                  <a:lnTo>
                    <a:pt x="4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14" y="7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41480" y="5100120"/>
              <a:ext cx="24840" cy="111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lnTo>
                    <a:pt x="1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9"/>
                  </a:lnTo>
                  <a:lnTo>
                    <a:pt x="14" y="6"/>
                  </a:lnTo>
                  <a:lnTo>
                    <a:pt x="2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95040" y="5141520"/>
              <a:ext cx="8280" cy="24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95040" y="5141520"/>
              <a:ext cx="8280" cy="24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71160" y="5215320"/>
              <a:ext cx="8280" cy="12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3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9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71160" y="52153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3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89160" y="4208400"/>
              <a:ext cx="130680" cy="11088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1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89160" y="4208400"/>
              <a:ext cx="130680" cy="11088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0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67320" y="3857400"/>
              <a:ext cx="136080" cy="2444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8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1" y="174"/>
                  </a:lnTo>
                  <a:lnTo>
                    <a:pt x="47" y="182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0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4" y="73"/>
                  </a:lnTo>
                  <a:lnTo>
                    <a:pt x="28" y="60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67320" y="3857400"/>
              <a:ext cx="136080" cy="2444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9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2" y="174"/>
                  </a:lnTo>
                  <a:lnTo>
                    <a:pt x="47" y="183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1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5" y="73"/>
                  </a:lnTo>
                  <a:lnTo>
                    <a:pt x="28" y="61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6"/>
                  </a:lnTo>
                  <a:lnTo>
                    <a:pt x="123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35240" y="4615560"/>
              <a:ext cx="35640" cy="16236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3" y="20"/>
                  </a:moveTo>
                  <a:lnTo>
                    <a:pt x="34" y="58"/>
                  </a:lnTo>
                  <a:lnTo>
                    <a:pt x="31" y="95"/>
                  </a:lnTo>
                  <a:lnTo>
                    <a:pt x="17" y="130"/>
                  </a:lnTo>
                  <a:lnTo>
                    <a:pt x="13" y="130"/>
                  </a:lnTo>
                  <a:lnTo>
                    <a:pt x="9" y="122"/>
                  </a:lnTo>
                  <a:lnTo>
                    <a:pt x="0" y="119"/>
                  </a:lnTo>
                  <a:lnTo>
                    <a:pt x="7" y="97"/>
                  </a:lnTo>
                  <a:lnTo>
                    <a:pt x="12" y="74"/>
                  </a:lnTo>
                  <a:lnTo>
                    <a:pt x="19" y="53"/>
                  </a:lnTo>
                  <a:lnTo>
                    <a:pt x="21" y="35"/>
                  </a:lnTo>
                  <a:lnTo>
                    <a:pt x="18" y="18"/>
                  </a:lnTo>
                  <a:lnTo>
                    <a:pt x="20" y="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35960" y="4615560"/>
              <a:ext cx="34560" cy="16344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32" y="20"/>
                  </a:moveTo>
                  <a:lnTo>
                    <a:pt x="33" y="59"/>
                  </a:lnTo>
                  <a:lnTo>
                    <a:pt x="30" y="96"/>
                  </a:lnTo>
                  <a:lnTo>
                    <a:pt x="17" y="131"/>
                  </a:lnTo>
                  <a:lnTo>
                    <a:pt x="12" y="131"/>
                  </a:lnTo>
                  <a:lnTo>
                    <a:pt x="8" y="122"/>
                  </a:lnTo>
                  <a:lnTo>
                    <a:pt x="0" y="119"/>
                  </a:lnTo>
                  <a:lnTo>
                    <a:pt x="6" y="97"/>
                  </a:lnTo>
                  <a:lnTo>
                    <a:pt x="11" y="75"/>
                  </a:lnTo>
                  <a:lnTo>
                    <a:pt x="18" y="53"/>
                  </a:lnTo>
                  <a:lnTo>
                    <a:pt x="20" y="36"/>
                  </a:lnTo>
                  <a:lnTo>
                    <a:pt x="18" y="18"/>
                  </a:lnTo>
                  <a:lnTo>
                    <a:pt x="19" y="0"/>
                  </a:lnTo>
                  <a:lnTo>
                    <a:pt x="32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8760" y="4829400"/>
              <a:ext cx="2088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28760" y="4830480"/>
              <a:ext cx="20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19"/>
                  </a:lnTo>
                  <a:lnTo>
                    <a:pt x="19" y="14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77360" y="49518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77360" y="49518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098240" y="5011560"/>
              <a:ext cx="20880" cy="3960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0"/>
                  </a:moveTo>
                  <a:lnTo>
                    <a:pt x="6" y="11"/>
                  </a:lnTo>
                  <a:lnTo>
                    <a:pt x="7" y="25"/>
                  </a:lnTo>
                  <a:lnTo>
                    <a:pt x="20" y="32"/>
                  </a:lnTo>
                  <a:lnTo>
                    <a:pt x="12" y="22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98240" y="501156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6" y="11"/>
                  </a:lnTo>
                  <a:lnTo>
                    <a:pt x="7" y="26"/>
                  </a:lnTo>
                  <a:lnTo>
                    <a:pt x="20" y="33"/>
                  </a:lnTo>
                  <a:lnTo>
                    <a:pt x="12" y="23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76560" y="3287520"/>
              <a:ext cx="56880" cy="334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40" y="6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9" y="26"/>
                  </a:lnTo>
                  <a:lnTo>
                    <a:pt x="37" y="27"/>
                  </a:lnTo>
                  <a:lnTo>
                    <a:pt x="52" y="18"/>
                  </a:lnTo>
                  <a:lnTo>
                    <a:pt x="54" y="13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77280" y="3287520"/>
              <a:ext cx="55800" cy="3348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0" y="7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36" y="27"/>
                  </a:lnTo>
                  <a:lnTo>
                    <a:pt x="51" y="18"/>
                  </a:lnTo>
                  <a:lnTo>
                    <a:pt x="53" y="13"/>
                  </a:lnTo>
                  <a:lnTo>
                    <a:pt x="53" y="7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04520" y="3015360"/>
              <a:ext cx="24120" cy="30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7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04520" y="3015360"/>
              <a:ext cx="24120" cy="30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8"/>
                  </a:lnTo>
                  <a:lnTo>
                    <a:pt x="0" y="11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012720" y="3272760"/>
              <a:ext cx="110520" cy="198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40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2" y="9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0" y="8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1"/>
                  </a:lnTo>
                  <a:lnTo>
                    <a:pt x="41" y="44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4" y="81"/>
                  </a:lnTo>
                  <a:lnTo>
                    <a:pt x="31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2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29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6" y="133"/>
                  </a:lnTo>
                  <a:lnTo>
                    <a:pt x="86" y="111"/>
                  </a:lnTo>
                  <a:lnTo>
                    <a:pt x="90" y="86"/>
                  </a:lnTo>
                  <a:lnTo>
                    <a:pt x="92" y="82"/>
                  </a:lnTo>
                  <a:lnTo>
                    <a:pt x="96" y="79"/>
                  </a:lnTo>
                  <a:lnTo>
                    <a:pt x="95" y="7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12720" y="3272760"/>
              <a:ext cx="110520" cy="198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39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0"/>
                  </a:lnTo>
                  <a:lnTo>
                    <a:pt x="41" y="43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3" y="81"/>
                  </a:lnTo>
                  <a:lnTo>
                    <a:pt x="30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1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30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5" y="133"/>
                  </a:lnTo>
                  <a:lnTo>
                    <a:pt x="86" y="111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6" y="79"/>
                  </a:lnTo>
                  <a:lnTo>
                    <a:pt x="95" y="7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87520" y="3315240"/>
              <a:ext cx="17640" cy="19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0"/>
                  </a:moveTo>
                  <a:lnTo>
                    <a:pt x="6" y="1"/>
                  </a:lnTo>
                  <a:lnTo>
                    <a:pt x="4" y="7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987520" y="3316320"/>
              <a:ext cx="17640" cy="18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6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50440" y="3330360"/>
              <a:ext cx="30240" cy="29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9" y="4"/>
                  </a:moveTo>
                  <a:lnTo>
                    <a:pt x="10" y="11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50440" y="3330360"/>
              <a:ext cx="30240" cy="30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4"/>
                  </a:moveTo>
                  <a:lnTo>
                    <a:pt x="1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72840" y="3475080"/>
              <a:ext cx="12600" cy="424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72840" y="3475080"/>
              <a:ext cx="12600" cy="424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42240" y="3491280"/>
              <a:ext cx="15480" cy="29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4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42240" y="3491280"/>
              <a:ext cx="15480" cy="29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3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47720" y="3246480"/>
              <a:ext cx="126360" cy="11736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110" y="34"/>
                  </a:moveTo>
                  <a:lnTo>
                    <a:pt x="114" y="26"/>
                  </a:lnTo>
                  <a:lnTo>
                    <a:pt x="117" y="17"/>
                  </a:lnTo>
                  <a:lnTo>
                    <a:pt x="120" y="8"/>
                  </a:lnTo>
                  <a:lnTo>
                    <a:pt x="105" y="5"/>
                  </a:lnTo>
                  <a:lnTo>
                    <a:pt x="91" y="0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55" y="10"/>
                  </a:lnTo>
                  <a:lnTo>
                    <a:pt x="43" y="9"/>
                  </a:lnTo>
                  <a:lnTo>
                    <a:pt x="32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16" y="77"/>
                  </a:lnTo>
                  <a:lnTo>
                    <a:pt x="30" y="87"/>
                  </a:lnTo>
                  <a:lnTo>
                    <a:pt x="47" y="94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7"/>
                  </a:lnTo>
                  <a:lnTo>
                    <a:pt x="44" y="84"/>
                  </a:lnTo>
                  <a:lnTo>
                    <a:pt x="39" y="84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50" y="67"/>
                  </a:lnTo>
                  <a:lnTo>
                    <a:pt x="55" y="54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6" y="40"/>
                  </a:lnTo>
                  <a:lnTo>
                    <a:pt x="110" y="3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47720" y="3247920"/>
              <a:ext cx="127440" cy="11592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111" y="34"/>
                  </a:moveTo>
                  <a:lnTo>
                    <a:pt x="115" y="25"/>
                  </a:lnTo>
                  <a:lnTo>
                    <a:pt x="118" y="17"/>
                  </a:lnTo>
                  <a:lnTo>
                    <a:pt x="121" y="8"/>
                  </a:lnTo>
                  <a:lnTo>
                    <a:pt x="106" y="4"/>
                  </a:lnTo>
                  <a:lnTo>
                    <a:pt x="92" y="0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56" y="10"/>
                  </a:lnTo>
                  <a:lnTo>
                    <a:pt x="43" y="9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3" y="64"/>
                  </a:lnTo>
                  <a:lnTo>
                    <a:pt x="16" y="76"/>
                  </a:lnTo>
                  <a:lnTo>
                    <a:pt x="31" y="87"/>
                  </a:lnTo>
                  <a:lnTo>
                    <a:pt x="47" y="93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47" y="87"/>
                  </a:lnTo>
                  <a:lnTo>
                    <a:pt x="44" y="83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43" y="80"/>
                  </a:lnTo>
                  <a:lnTo>
                    <a:pt x="47" y="80"/>
                  </a:lnTo>
                  <a:lnTo>
                    <a:pt x="51" y="66"/>
                  </a:lnTo>
                  <a:lnTo>
                    <a:pt x="55" y="54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1" y="41"/>
                  </a:lnTo>
                  <a:lnTo>
                    <a:pt x="95" y="47"/>
                  </a:lnTo>
                  <a:lnTo>
                    <a:pt x="98" y="50"/>
                  </a:lnTo>
                  <a:lnTo>
                    <a:pt x="101" y="47"/>
                  </a:lnTo>
                  <a:lnTo>
                    <a:pt x="107" y="39"/>
                  </a:lnTo>
                  <a:lnTo>
                    <a:pt x="111" y="3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087600" y="2802960"/>
              <a:ext cx="565200" cy="48708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19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1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3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7" y="349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6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4" y="363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60" y="376"/>
                  </a:lnTo>
                  <a:lnTo>
                    <a:pt x="61" y="379"/>
                  </a:lnTo>
                  <a:lnTo>
                    <a:pt x="59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6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7" y="325"/>
                  </a:lnTo>
                  <a:lnTo>
                    <a:pt x="58" y="323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8" y="282"/>
                  </a:lnTo>
                  <a:lnTo>
                    <a:pt x="145" y="287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4" y="239"/>
                  </a:lnTo>
                  <a:lnTo>
                    <a:pt x="284" y="227"/>
                  </a:lnTo>
                  <a:lnTo>
                    <a:pt x="284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4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2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1" y="224"/>
                  </a:lnTo>
                  <a:lnTo>
                    <a:pt x="312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7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2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3" y="22"/>
                  </a:lnTo>
                  <a:lnTo>
                    <a:pt x="508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6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8"/>
                  </a:lnTo>
                  <a:lnTo>
                    <a:pt x="514" y="112"/>
                  </a:lnTo>
                  <a:lnTo>
                    <a:pt x="501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7"/>
                  </a:lnTo>
                  <a:lnTo>
                    <a:pt x="499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4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0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1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19"/>
                  </a:lnTo>
                  <a:lnTo>
                    <a:pt x="359" y="314"/>
                  </a:lnTo>
                  <a:lnTo>
                    <a:pt x="355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7"/>
                  </a:lnTo>
                  <a:lnTo>
                    <a:pt x="259" y="362"/>
                  </a:lnTo>
                  <a:lnTo>
                    <a:pt x="250" y="376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19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7" y="366"/>
                  </a:lnTo>
                  <a:lnTo>
                    <a:pt x="191" y="359"/>
                  </a:lnTo>
                  <a:lnTo>
                    <a:pt x="193" y="349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89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0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87600" y="2802960"/>
              <a:ext cx="565200" cy="48708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20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2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4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8" y="350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7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5" y="363"/>
                  </a:lnTo>
                  <a:lnTo>
                    <a:pt x="48" y="370"/>
                  </a:lnTo>
                  <a:lnTo>
                    <a:pt x="53" y="376"/>
                  </a:lnTo>
                  <a:lnTo>
                    <a:pt x="61" y="376"/>
                  </a:lnTo>
                  <a:lnTo>
                    <a:pt x="61" y="379"/>
                  </a:lnTo>
                  <a:lnTo>
                    <a:pt x="60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7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8" y="325"/>
                  </a:lnTo>
                  <a:lnTo>
                    <a:pt x="58" y="324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9" y="283"/>
                  </a:lnTo>
                  <a:lnTo>
                    <a:pt x="145" y="288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5" y="239"/>
                  </a:lnTo>
                  <a:lnTo>
                    <a:pt x="284" y="227"/>
                  </a:lnTo>
                  <a:lnTo>
                    <a:pt x="285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5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3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2" y="224"/>
                  </a:lnTo>
                  <a:lnTo>
                    <a:pt x="313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8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3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4" y="23"/>
                  </a:lnTo>
                  <a:lnTo>
                    <a:pt x="509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7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5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9"/>
                  </a:lnTo>
                  <a:lnTo>
                    <a:pt x="514" y="112"/>
                  </a:lnTo>
                  <a:lnTo>
                    <a:pt x="502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8"/>
                  </a:lnTo>
                  <a:lnTo>
                    <a:pt x="500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5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1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2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20"/>
                  </a:lnTo>
                  <a:lnTo>
                    <a:pt x="359" y="314"/>
                  </a:lnTo>
                  <a:lnTo>
                    <a:pt x="356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8"/>
                  </a:lnTo>
                  <a:lnTo>
                    <a:pt x="259" y="363"/>
                  </a:lnTo>
                  <a:lnTo>
                    <a:pt x="250" y="377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20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8" y="366"/>
                  </a:lnTo>
                  <a:lnTo>
                    <a:pt x="191" y="359"/>
                  </a:lnTo>
                  <a:lnTo>
                    <a:pt x="193" y="350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90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1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48320" y="2965320"/>
              <a:ext cx="31320" cy="435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2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48320" y="2965320"/>
              <a:ext cx="31320" cy="435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3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" y="28"/>
                  </a:lnTo>
                  <a:lnTo>
                    <a:pt x="9" y="31"/>
                  </a:lnTo>
                  <a:lnTo>
                    <a:pt x="13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51640" y="2427120"/>
              <a:ext cx="213840" cy="39348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7" y="294"/>
                  </a:moveTo>
                  <a:lnTo>
                    <a:pt x="2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5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5" y="228"/>
                  </a:lnTo>
                  <a:lnTo>
                    <a:pt x="54" y="217"/>
                  </a:lnTo>
                  <a:lnTo>
                    <a:pt x="51" y="210"/>
                  </a:lnTo>
                  <a:lnTo>
                    <a:pt x="43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1"/>
                  </a:lnTo>
                  <a:lnTo>
                    <a:pt x="126" y="186"/>
                  </a:lnTo>
                  <a:lnTo>
                    <a:pt x="149" y="189"/>
                  </a:lnTo>
                  <a:lnTo>
                    <a:pt x="171" y="186"/>
                  </a:lnTo>
                  <a:lnTo>
                    <a:pt x="171" y="183"/>
                  </a:lnTo>
                  <a:lnTo>
                    <a:pt x="167" y="178"/>
                  </a:lnTo>
                  <a:lnTo>
                    <a:pt x="166" y="172"/>
                  </a:lnTo>
                  <a:lnTo>
                    <a:pt x="172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6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8"/>
                  </a:lnTo>
                  <a:lnTo>
                    <a:pt x="107" y="30"/>
                  </a:lnTo>
                  <a:lnTo>
                    <a:pt x="114" y="43"/>
                  </a:lnTo>
                  <a:lnTo>
                    <a:pt x="117" y="59"/>
                  </a:lnTo>
                  <a:lnTo>
                    <a:pt x="117" y="75"/>
                  </a:lnTo>
                  <a:lnTo>
                    <a:pt x="111" y="90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5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1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0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4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4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4"/>
                  </a:lnTo>
                  <a:lnTo>
                    <a:pt x="30" y="268"/>
                  </a:lnTo>
                  <a:lnTo>
                    <a:pt x="27" y="275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3" y="291"/>
                  </a:lnTo>
                  <a:lnTo>
                    <a:pt x="10" y="291"/>
                  </a:lnTo>
                  <a:lnTo>
                    <a:pt x="11" y="291"/>
                  </a:lnTo>
                  <a:lnTo>
                    <a:pt x="9" y="291"/>
                  </a:lnTo>
                  <a:lnTo>
                    <a:pt x="7" y="29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51640" y="2427120"/>
              <a:ext cx="213840" cy="39348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8" y="294"/>
                  </a:moveTo>
                  <a:lnTo>
                    <a:pt x="3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6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58" y="232"/>
                  </a:lnTo>
                  <a:lnTo>
                    <a:pt x="55" y="228"/>
                  </a:lnTo>
                  <a:lnTo>
                    <a:pt x="54" y="218"/>
                  </a:lnTo>
                  <a:lnTo>
                    <a:pt x="51" y="210"/>
                  </a:lnTo>
                  <a:lnTo>
                    <a:pt x="44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2"/>
                  </a:lnTo>
                  <a:lnTo>
                    <a:pt x="127" y="186"/>
                  </a:lnTo>
                  <a:lnTo>
                    <a:pt x="149" y="190"/>
                  </a:lnTo>
                  <a:lnTo>
                    <a:pt x="172" y="187"/>
                  </a:lnTo>
                  <a:lnTo>
                    <a:pt x="171" y="183"/>
                  </a:lnTo>
                  <a:lnTo>
                    <a:pt x="168" y="178"/>
                  </a:lnTo>
                  <a:lnTo>
                    <a:pt x="167" y="172"/>
                  </a:lnTo>
                  <a:lnTo>
                    <a:pt x="173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7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9"/>
                  </a:lnTo>
                  <a:lnTo>
                    <a:pt x="107" y="30"/>
                  </a:lnTo>
                  <a:lnTo>
                    <a:pt x="114" y="44"/>
                  </a:lnTo>
                  <a:lnTo>
                    <a:pt x="117" y="59"/>
                  </a:lnTo>
                  <a:lnTo>
                    <a:pt x="118" y="75"/>
                  </a:lnTo>
                  <a:lnTo>
                    <a:pt x="111" y="91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6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2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1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5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5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27" y="276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4" y="291"/>
                  </a:lnTo>
                  <a:lnTo>
                    <a:pt x="11" y="291"/>
                  </a:lnTo>
                  <a:lnTo>
                    <a:pt x="12" y="291"/>
                  </a:lnTo>
                  <a:lnTo>
                    <a:pt x="9" y="291"/>
                  </a:lnTo>
                  <a:lnTo>
                    <a:pt x="8" y="29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993640" y="3241440"/>
              <a:ext cx="19800" cy="424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7" y="0"/>
                  </a:moveTo>
                  <a:lnTo>
                    <a:pt x="1" y="7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19" y="24"/>
                  </a:lnTo>
                  <a:lnTo>
                    <a:pt x="11" y="15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93640" y="3241440"/>
              <a:ext cx="21240" cy="42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8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7" y="30"/>
                  </a:lnTo>
                  <a:lnTo>
                    <a:pt x="13" y="34"/>
                  </a:lnTo>
                  <a:lnTo>
                    <a:pt x="17" y="30"/>
                  </a:lnTo>
                  <a:lnTo>
                    <a:pt x="20" y="23"/>
                  </a:lnTo>
                  <a:lnTo>
                    <a:pt x="12" y="15"/>
                  </a:lnTo>
                  <a:lnTo>
                    <a:pt x="13" y="3"/>
                  </a:lnTo>
                  <a:lnTo>
                    <a:pt x="8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13800" y="356004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13800" y="356004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1"/>
                  </a:lnTo>
                  <a:lnTo>
                    <a:pt x="0" y="2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70600" y="3650040"/>
              <a:ext cx="16920" cy="334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70600" y="3650040"/>
              <a:ext cx="16920" cy="334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2800" y="3708720"/>
              <a:ext cx="18720" cy="32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32800" y="3708720"/>
              <a:ext cx="18720" cy="32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55760" y="3766320"/>
              <a:ext cx="67320" cy="496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55760" y="3766320"/>
              <a:ext cx="67320" cy="496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174000" y="3097800"/>
              <a:ext cx="2124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4000" y="3097800"/>
              <a:ext cx="2124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99800" y="3759840"/>
              <a:ext cx="250920" cy="37080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8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7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5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10" y="151"/>
                  </a:lnTo>
                  <a:lnTo>
                    <a:pt x="208" y="152"/>
                  </a:lnTo>
                  <a:lnTo>
                    <a:pt x="203" y="151"/>
                  </a:lnTo>
                  <a:lnTo>
                    <a:pt x="199" y="149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6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5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1"/>
                  </a:lnTo>
                  <a:lnTo>
                    <a:pt x="170" y="140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3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7"/>
                  </a:lnTo>
                  <a:lnTo>
                    <a:pt x="230" y="97"/>
                  </a:lnTo>
                  <a:lnTo>
                    <a:pt x="232" y="96"/>
                  </a:lnTo>
                  <a:lnTo>
                    <a:pt x="233" y="93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7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0"/>
                  </a:lnTo>
                  <a:lnTo>
                    <a:pt x="94" y="51"/>
                  </a:lnTo>
                  <a:lnTo>
                    <a:pt x="95" y="42"/>
                  </a:lnTo>
                  <a:lnTo>
                    <a:pt x="97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1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2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8"/>
                  </a:lnTo>
                  <a:lnTo>
                    <a:pt x="9" y="110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0" y="163"/>
                  </a:lnTo>
                  <a:lnTo>
                    <a:pt x="39" y="163"/>
                  </a:lnTo>
                  <a:lnTo>
                    <a:pt x="38" y="163"/>
                  </a:lnTo>
                  <a:lnTo>
                    <a:pt x="36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39" y="174"/>
                  </a:lnTo>
                  <a:lnTo>
                    <a:pt x="43" y="174"/>
                  </a:lnTo>
                  <a:lnTo>
                    <a:pt x="42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0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7" y="266"/>
                  </a:lnTo>
                  <a:lnTo>
                    <a:pt x="78" y="257"/>
                  </a:lnTo>
                  <a:lnTo>
                    <a:pt x="79" y="249"/>
                  </a:lnTo>
                  <a:lnTo>
                    <a:pt x="78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0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0" y="254"/>
                  </a:lnTo>
                  <a:lnTo>
                    <a:pt x="80" y="260"/>
                  </a:lnTo>
                  <a:lnTo>
                    <a:pt x="79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2"/>
                  </a:lnTo>
                  <a:lnTo>
                    <a:pt x="104" y="241"/>
                  </a:lnTo>
                  <a:lnTo>
                    <a:pt x="104" y="247"/>
                  </a:lnTo>
                  <a:lnTo>
                    <a:pt x="107" y="252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4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7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5"/>
                  </a:lnTo>
                  <a:lnTo>
                    <a:pt x="127" y="202"/>
                  </a:lnTo>
                  <a:lnTo>
                    <a:pt x="129" y="198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1" y="228"/>
                  </a:lnTo>
                  <a:lnTo>
                    <a:pt x="148" y="221"/>
                  </a:lnTo>
                  <a:lnTo>
                    <a:pt x="142" y="212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2"/>
                  </a:lnTo>
                  <a:lnTo>
                    <a:pt x="138" y="194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8"/>
                  </a:lnTo>
                  <a:lnTo>
                    <a:pt x="159" y="241"/>
                  </a:lnTo>
                  <a:lnTo>
                    <a:pt x="162" y="233"/>
                  </a:lnTo>
                  <a:lnTo>
                    <a:pt x="162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8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7"/>
                  </a:lnTo>
                  <a:lnTo>
                    <a:pt x="195" y="245"/>
                  </a:lnTo>
                  <a:lnTo>
                    <a:pt x="197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3" y="290"/>
                  </a:lnTo>
                  <a:lnTo>
                    <a:pt x="205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1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7" y="243"/>
                  </a:lnTo>
                  <a:lnTo>
                    <a:pt x="238" y="24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99800" y="3759840"/>
              <a:ext cx="250920" cy="37080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9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6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09" y="152"/>
                  </a:lnTo>
                  <a:lnTo>
                    <a:pt x="208" y="152"/>
                  </a:lnTo>
                  <a:lnTo>
                    <a:pt x="203" y="152"/>
                  </a:lnTo>
                  <a:lnTo>
                    <a:pt x="198" y="150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7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4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2"/>
                  </a:lnTo>
                  <a:lnTo>
                    <a:pt x="170" y="141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2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8"/>
                  </a:lnTo>
                  <a:lnTo>
                    <a:pt x="230" y="98"/>
                  </a:lnTo>
                  <a:lnTo>
                    <a:pt x="232" y="96"/>
                  </a:lnTo>
                  <a:lnTo>
                    <a:pt x="233" y="94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6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1"/>
                  </a:lnTo>
                  <a:lnTo>
                    <a:pt x="94" y="52"/>
                  </a:lnTo>
                  <a:lnTo>
                    <a:pt x="95" y="42"/>
                  </a:lnTo>
                  <a:lnTo>
                    <a:pt x="98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2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9"/>
                  </a:lnTo>
                  <a:lnTo>
                    <a:pt x="9" y="111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1" y="163"/>
                  </a:lnTo>
                  <a:lnTo>
                    <a:pt x="39" y="163"/>
                  </a:lnTo>
                  <a:lnTo>
                    <a:pt x="39" y="163"/>
                  </a:lnTo>
                  <a:lnTo>
                    <a:pt x="37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3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1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8" y="266"/>
                  </a:lnTo>
                  <a:lnTo>
                    <a:pt x="79" y="257"/>
                  </a:lnTo>
                  <a:lnTo>
                    <a:pt x="79" y="249"/>
                  </a:lnTo>
                  <a:lnTo>
                    <a:pt x="79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1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1" y="254"/>
                  </a:lnTo>
                  <a:lnTo>
                    <a:pt x="80" y="260"/>
                  </a:lnTo>
                  <a:lnTo>
                    <a:pt x="80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3"/>
                  </a:lnTo>
                  <a:lnTo>
                    <a:pt x="104" y="242"/>
                  </a:lnTo>
                  <a:lnTo>
                    <a:pt x="104" y="247"/>
                  </a:lnTo>
                  <a:lnTo>
                    <a:pt x="107" y="253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5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6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6"/>
                  </a:lnTo>
                  <a:lnTo>
                    <a:pt x="127" y="202"/>
                  </a:lnTo>
                  <a:lnTo>
                    <a:pt x="129" y="199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0" y="228"/>
                  </a:lnTo>
                  <a:lnTo>
                    <a:pt x="148" y="221"/>
                  </a:lnTo>
                  <a:lnTo>
                    <a:pt x="142" y="213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3"/>
                  </a:lnTo>
                  <a:lnTo>
                    <a:pt x="138" y="195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9"/>
                  </a:lnTo>
                  <a:lnTo>
                    <a:pt x="158" y="242"/>
                  </a:lnTo>
                  <a:lnTo>
                    <a:pt x="161" y="233"/>
                  </a:lnTo>
                  <a:lnTo>
                    <a:pt x="161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7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8"/>
                  </a:lnTo>
                  <a:lnTo>
                    <a:pt x="195" y="245"/>
                  </a:lnTo>
                  <a:lnTo>
                    <a:pt x="196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2" y="291"/>
                  </a:lnTo>
                  <a:lnTo>
                    <a:pt x="204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0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6" y="243"/>
                  </a:lnTo>
                  <a:lnTo>
                    <a:pt x="238" y="24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51480" y="3147840"/>
              <a:ext cx="1547280" cy="181260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3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6"/>
                  </a:lnTo>
                  <a:lnTo>
                    <a:pt x="1068" y="485"/>
                  </a:lnTo>
                  <a:lnTo>
                    <a:pt x="1084" y="486"/>
                  </a:lnTo>
                  <a:lnTo>
                    <a:pt x="1099" y="488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7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5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0" y="438"/>
                  </a:lnTo>
                  <a:lnTo>
                    <a:pt x="1180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2" y="433"/>
                  </a:lnTo>
                  <a:lnTo>
                    <a:pt x="1183" y="433"/>
                  </a:lnTo>
                  <a:lnTo>
                    <a:pt x="1183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1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7" y="385"/>
                  </a:lnTo>
                  <a:lnTo>
                    <a:pt x="1262" y="379"/>
                  </a:lnTo>
                  <a:lnTo>
                    <a:pt x="1269" y="376"/>
                  </a:lnTo>
                  <a:lnTo>
                    <a:pt x="1279" y="374"/>
                  </a:lnTo>
                  <a:lnTo>
                    <a:pt x="1289" y="375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4" y="353"/>
                  </a:lnTo>
                  <a:lnTo>
                    <a:pt x="1364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1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1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3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0" y="390"/>
                  </a:lnTo>
                  <a:lnTo>
                    <a:pt x="1412" y="392"/>
                  </a:lnTo>
                  <a:lnTo>
                    <a:pt x="1414" y="394"/>
                  </a:lnTo>
                  <a:lnTo>
                    <a:pt x="1426" y="393"/>
                  </a:lnTo>
                  <a:lnTo>
                    <a:pt x="1436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3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8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3"/>
                  </a:lnTo>
                  <a:lnTo>
                    <a:pt x="1395" y="458"/>
                  </a:lnTo>
                  <a:lnTo>
                    <a:pt x="1390" y="464"/>
                  </a:lnTo>
                  <a:lnTo>
                    <a:pt x="1383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5" y="477"/>
                  </a:lnTo>
                  <a:lnTo>
                    <a:pt x="1358" y="484"/>
                  </a:lnTo>
                  <a:lnTo>
                    <a:pt x="1351" y="492"/>
                  </a:lnTo>
                  <a:lnTo>
                    <a:pt x="1350" y="499"/>
                  </a:lnTo>
                  <a:lnTo>
                    <a:pt x="1353" y="507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1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19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8" y="623"/>
                  </a:lnTo>
                  <a:lnTo>
                    <a:pt x="1308" y="628"/>
                  </a:lnTo>
                  <a:lnTo>
                    <a:pt x="1296" y="636"/>
                  </a:lnTo>
                  <a:lnTo>
                    <a:pt x="1281" y="632"/>
                  </a:lnTo>
                  <a:lnTo>
                    <a:pt x="1265" y="629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1" y="670"/>
                  </a:lnTo>
                  <a:lnTo>
                    <a:pt x="1261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3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3" y="709"/>
                  </a:lnTo>
                  <a:lnTo>
                    <a:pt x="1223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9"/>
                  </a:lnTo>
                  <a:lnTo>
                    <a:pt x="1190" y="660"/>
                  </a:lnTo>
                  <a:lnTo>
                    <a:pt x="1188" y="662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3" y="673"/>
                  </a:lnTo>
                  <a:lnTo>
                    <a:pt x="1182" y="676"/>
                  </a:lnTo>
                  <a:lnTo>
                    <a:pt x="1176" y="676"/>
                  </a:lnTo>
                  <a:lnTo>
                    <a:pt x="1172" y="670"/>
                  </a:lnTo>
                  <a:lnTo>
                    <a:pt x="1168" y="665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3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4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4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6" y="583"/>
                  </a:lnTo>
                  <a:lnTo>
                    <a:pt x="1224" y="581"/>
                  </a:lnTo>
                  <a:lnTo>
                    <a:pt x="1221" y="580"/>
                  </a:lnTo>
                  <a:lnTo>
                    <a:pt x="1218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6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8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1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8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90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1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3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4"/>
                  </a:lnTo>
                  <a:lnTo>
                    <a:pt x="1009" y="534"/>
                  </a:lnTo>
                  <a:lnTo>
                    <a:pt x="1011" y="534"/>
                  </a:lnTo>
                  <a:lnTo>
                    <a:pt x="1011" y="534"/>
                  </a:lnTo>
                  <a:lnTo>
                    <a:pt x="1015" y="539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1"/>
                  </a:lnTo>
                  <a:lnTo>
                    <a:pt x="1036" y="553"/>
                  </a:lnTo>
                  <a:lnTo>
                    <a:pt x="1043" y="552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3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8" y="586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6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3"/>
                  </a:lnTo>
                  <a:lnTo>
                    <a:pt x="1033" y="653"/>
                  </a:lnTo>
                  <a:lnTo>
                    <a:pt x="1032" y="653"/>
                  </a:lnTo>
                  <a:lnTo>
                    <a:pt x="1030" y="655"/>
                  </a:lnTo>
                  <a:lnTo>
                    <a:pt x="1029" y="657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3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5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0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5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8"/>
                  </a:lnTo>
                  <a:lnTo>
                    <a:pt x="1021" y="765"/>
                  </a:lnTo>
                  <a:lnTo>
                    <a:pt x="1012" y="769"/>
                  </a:lnTo>
                  <a:lnTo>
                    <a:pt x="1006" y="756"/>
                  </a:lnTo>
                  <a:lnTo>
                    <a:pt x="998" y="742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6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8"/>
                  </a:lnTo>
                  <a:lnTo>
                    <a:pt x="733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9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5"/>
                  </a:lnTo>
                  <a:lnTo>
                    <a:pt x="624" y="1052"/>
                  </a:lnTo>
                  <a:lnTo>
                    <a:pt x="615" y="1053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8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9"/>
                  </a:lnTo>
                  <a:lnTo>
                    <a:pt x="614" y="1199"/>
                  </a:lnTo>
                  <a:lnTo>
                    <a:pt x="611" y="1208"/>
                  </a:lnTo>
                  <a:lnTo>
                    <a:pt x="611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8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1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9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1"/>
                  </a:lnTo>
                  <a:lnTo>
                    <a:pt x="551" y="1374"/>
                  </a:lnTo>
                  <a:lnTo>
                    <a:pt x="546" y="1386"/>
                  </a:lnTo>
                  <a:lnTo>
                    <a:pt x="538" y="1397"/>
                  </a:lnTo>
                  <a:lnTo>
                    <a:pt x="528" y="1402"/>
                  </a:lnTo>
                  <a:lnTo>
                    <a:pt x="517" y="1406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5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5" y="1348"/>
                  </a:lnTo>
                  <a:lnTo>
                    <a:pt x="400" y="1326"/>
                  </a:lnTo>
                  <a:lnTo>
                    <a:pt x="376" y="1285"/>
                  </a:lnTo>
                  <a:lnTo>
                    <a:pt x="351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2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7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4"/>
                  </a:lnTo>
                  <a:lnTo>
                    <a:pt x="239" y="886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9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5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9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3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5" y="794"/>
                  </a:lnTo>
                  <a:lnTo>
                    <a:pt x="156" y="800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8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7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8"/>
                  </a:lnTo>
                  <a:lnTo>
                    <a:pt x="73" y="610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7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2" y="520"/>
                  </a:lnTo>
                  <a:lnTo>
                    <a:pt x="99" y="508"/>
                  </a:lnTo>
                  <a:lnTo>
                    <a:pt x="98" y="494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5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1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9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2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2" y="354"/>
                  </a:lnTo>
                  <a:lnTo>
                    <a:pt x="244" y="343"/>
                  </a:lnTo>
                  <a:lnTo>
                    <a:pt x="251" y="333"/>
                  </a:lnTo>
                  <a:lnTo>
                    <a:pt x="256" y="321"/>
                  </a:lnTo>
                  <a:lnTo>
                    <a:pt x="262" y="309"/>
                  </a:lnTo>
                  <a:lnTo>
                    <a:pt x="270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3" y="237"/>
                  </a:lnTo>
                  <a:lnTo>
                    <a:pt x="318" y="236"/>
                  </a:lnTo>
                  <a:lnTo>
                    <a:pt x="319" y="230"/>
                  </a:lnTo>
                  <a:lnTo>
                    <a:pt x="322" y="225"/>
                  </a:lnTo>
                  <a:lnTo>
                    <a:pt x="328" y="223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80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3" y="115"/>
                  </a:lnTo>
                  <a:lnTo>
                    <a:pt x="305" y="113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7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6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6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1" y="72"/>
                  </a:lnTo>
                  <a:lnTo>
                    <a:pt x="534" y="84"/>
                  </a:lnTo>
                  <a:lnTo>
                    <a:pt x="533" y="97"/>
                  </a:lnTo>
                  <a:lnTo>
                    <a:pt x="542" y="110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3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5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19" y="165"/>
                  </a:lnTo>
                  <a:lnTo>
                    <a:pt x="518" y="169"/>
                  </a:lnTo>
                  <a:lnTo>
                    <a:pt x="527" y="188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6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6" y="255"/>
                  </a:lnTo>
                  <a:lnTo>
                    <a:pt x="609" y="268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5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3" y="324"/>
                  </a:lnTo>
                  <a:lnTo>
                    <a:pt x="603" y="333"/>
                  </a:lnTo>
                  <a:lnTo>
                    <a:pt x="604" y="341"/>
                  </a:lnTo>
                  <a:lnTo>
                    <a:pt x="601" y="351"/>
                  </a:lnTo>
                  <a:lnTo>
                    <a:pt x="598" y="357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6"/>
                  </a:lnTo>
                  <a:lnTo>
                    <a:pt x="615" y="383"/>
                  </a:lnTo>
                  <a:lnTo>
                    <a:pt x="626" y="381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5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4" y="419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2" y="445"/>
                  </a:lnTo>
                  <a:lnTo>
                    <a:pt x="753" y="448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4"/>
                  </a:lnTo>
                  <a:lnTo>
                    <a:pt x="809" y="446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2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6"/>
                  </a:lnTo>
                  <a:lnTo>
                    <a:pt x="834" y="466"/>
                  </a:lnTo>
                  <a:lnTo>
                    <a:pt x="836" y="466"/>
                  </a:lnTo>
                  <a:lnTo>
                    <a:pt x="839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1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2"/>
                  </a:lnTo>
                  <a:lnTo>
                    <a:pt x="913" y="493"/>
                  </a:lnTo>
                  <a:lnTo>
                    <a:pt x="913" y="494"/>
                  </a:lnTo>
                  <a:lnTo>
                    <a:pt x="920" y="499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7"/>
                  </a:lnTo>
                  <a:lnTo>
                    <a:pt x="941" y="496"/>
                  </a:lnTo>
                  <a:lnTo>
                    <a:pt x="955" y="497"/>
                  </a:lnTo>
                  <a:lnTo>
                    <a:pt x="969" y="498"/>
                  </a:lnTo>
                  <a:lnTo>
                    <a:pt x="984" y="499"/>
                  </a:lnTo>
                  <a:lnTo>
                    <a:pt x="989" y="500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6"/>
                  </a:lnTo>
                  <a:lnTo>
                    <a:pt x="1006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2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3" y="437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0" y="429"/>
                  </a:lnTo>
                  <a:lnTo>
                    <a:pt x="1010" y="426"/>
                  </a:lnTo>
                  <a:lnTo>
                    <a:pt x="1010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1"/>
                  </a:lnTo>
                  <a:lnTo>
                    <a:pt x="1029" y="410"/>
                  </a:lnTo>
                  <a:lnTo>
                    <a:pt x="1034" y="410"/>
                  </a:lnTo>
                  <a:lnTo>
                    <a:pt x="1037" y="414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7"/>
                  </a:lnTo>
                  <a:lnTo>
                    <a:pt x="1042" y="44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51480" y="3147840"/>
              <a:ext cx="1547280" cy="181260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2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5"/>
                  </a:lnTo>
                  <a:lnTo>
                    <a:pt x="1068" y="485"/>
                  </a:lnTo>
                  <a:lnTo>
                    <a:pt x="1085" y="486"/>
                  </a:lnTo>
                  <a:lnTo>
                    <a:pt x="1100" y="487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6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4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1" y="438"/>
                  </a:lnTo>
                  <a:lnTo>
                    <a:pt x="1181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3" y="433"/>
                  </a:lnTo>
                  <a:lnTo>
                    <a:pt x="1184" y="433"/>
                  </a:lnTo>
                  <a:lnTo>
                    <a:pt x="1184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0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8" y="385"/>
                  </a:lnTo>
                  <a:lnTo>
                    <a:pt x="1263" y="379"/>
                  </a:lnTo>
                  <a:lnTo>
                    <a:pt x="1269" y="375"/>
                  </a:lnTo>
                  <a:lnTo>
                    <a:pt x="1279" y="374"/>
                  </a:lnTo>
                  <a:lnTo>
                    <a:pt x="1289" y="374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5" y="353"/>
                  </a:lnTo>
                  <a:lnTo>
                    <a:pt x="1365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2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0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4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1" y="390"/>
                  </a:lnTo>
                  <a:lnTo>
                    <a:pt x="1412" y="392"/>
                  </a:lnTo>
                  <a:lnTo>
                    <a:pt x="1414" y="393"/>
                  </a:lnTo>
                  <a:lnTo>
                    <a:pt x="1426" y="393"/>
                  </a:lnTo>
                  <a:lnTo>
                    <a:pt x="1437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4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7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2"/>
                  </a:lnTo>
                  <a:lnTo>
                    <a:pt x="1396" y="458"/>
                  </a:lnTo>
                  <a:lnTo>
                    <a:pt x="1390" y="464"/>
                  </a:lnTo>
                  <a:lnTo>
                    <a:pt x="1384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6" y="477"/>
                  </a:lnTo>
                  <a:lnTo>
                    <a:pt x="1358" y="484"/>
                  </a:lnTo>
                  <a:lnTo>
                    <a:pt x="1352" y="492"/>
                  </a:lnTo>
                  <a:lnTo>
                    <a:pt x="1350" y="499"/>
                  </a:lnTo>
                  <a:lnTo>
                    <a:pt x="1353" y="506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0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20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9" y="623"/>
                  </a:lnTo>
                  <a:lnTo>
                    <a:pt x="1308" y="628"/>
                  </a:lnTo>
                  <a:lnTo>
                    <a:pt x="1296" y="635"/>
                  </a:lnTo>
                  <a:lnTo>
                    <a:pt x="1281" y="631"/>
                  </a:lnTo>
                  <a:lnTo>
                    <a:pt x="1266" y="628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2" y="670"/>
                  </a:lnTo>
                  <a:lnTo>
                    <a:pt x="1262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4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4" y="709"/>
                  </a:lnTo>
                  <a:lnTo>
                    <a:pt x="1224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8"/>
                  </a:lnTo>
                  <a:lnTo>
                    <a:pt x="1190" y="660"/>
                  </a:lnTo>
                  <a:lnTo>
                    <a:pt x="1188" y="661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4" y="672"/>
                  </a:lnTo>
                  <a:lnTo>
                    <a:pt x="1182" y="676"/>
                  </a:lnTo>
                  <a:lnTo>
                    <a:pt x="1176" y="675"/>
                  </a:lnTo>
                  <a:lnTo>
                    <a:pt x="1173" y="670"/>
                  </a:lnTo>
                  <a:lnTo>
                    <a:pt x="1168" y="664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2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3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3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7" y="583"/>
                  </a:lnTo>
                  <a:lnTo>
                    <a:pt x="1224" y="581"/>
                  </a:lnTo>
                  <a:lnTo>
                    <a:pt x="1221" y="579"/>
                  </a:lnTo>
                  <a:lnTo>
                    <a:pt x="1219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5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9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0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9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89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2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2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3"/>
                  </a:lnTo>
                  <a:lnTo>
                    <a:pt x="1009" y="533"/>
                  </a:lnTo>
                  <a:lnTo>
                    <a:pt x="1011" y="534"/>
                  </a:lnTo>
                  <a:lnTo>
                    <a:pt x="1012" y="534"/>
                  </a:lnTo>
                  <a:lnTo>
                    <a:pt x="1015" y="538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0"/>
                  </a:lnTo>
                  <a:lnTo>
                    <a:pt x="1036" y="553"/>
                  </a:lnTo>
                  <a:lnTo>
                    <a:pt x="1044" y="551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2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9" y="585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7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2"/>
                  </a:lnTo>
                  <a:lnTo>
                    <a:pt x="1033" y="652"/>
                  </a:lnTo>
                  <a:lnTo>
                    <a:pt x="1032" y="653"/>
                  </a:lnTo>
                  <a:lnTo>
                    <a:pt x="1030" y="654"/>
                  </a:lnTo>
                  <a:lnTo>
                    <a:pt x="1029" y="656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2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6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1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4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7"/>
                  </a:lnTo>
                  <a:lnTo>
                    <a:pt x="1021" y="765"/>
                  </a:lnTo>
                  <a:lnTo>
                    <a:pt x="1013" y="768"/>
                  </a:lnTo>
                  <a:lnTo>
                    <a:pt x="1006" y="756"/>
                  </a:lnTo>
                  <a:lnTo>
                    <a:pt x="998" y="741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5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7"/>
                  </a:lnTo>
                  <a:lnTo>
                    <a:pt x="734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8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4"/>
                  </a:lnTo>
                  <a:lnTo>
                    <a:pt x="625" y="1052"/>
                  </a:lnTo>
                  <a:lnTo>
                    <a:pt x="615" y="1052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9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8"/>
                  </a:lnTo>
                  <a:lnTo>
                    <a:pt x="614" y="1199"/>
                  </a:lnTo>
                  <a:lnTo>
                    <a:pt x="611" y="1207"/>
                  </a:lnTo>
                  <a:lnTo>
                    <a:pt x="612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7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0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8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0"/>
                  </a:lnTo>
                  <a:lnTo>
                    <a:pt x="551" y="1373"/>
                  </a:lnTo>
                  <a:lnTo>
                    <a:pt x="546" y="1386"/>
                  </a:lnTo>
                  <a:lnTo>
                    <a:pt x="538" y="1396"/>
                  </a:lnTo>
                  <a:lnTo>
                    <a:pt x="528" y="1402"/>
                  </a:lnTo>
                  <a:lnTo>
                    <a:pt x="518" y="1405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4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6" y="1348"/>
                  </a:lnTo>
                  <a:lnTo>
                    <a:pt x="400" y="1325"/>
                  </a:lnTo>
                  <a:lnTo>
                    <a:pt x="376" y="1285"/>
                  </a:lnTo>
                  <a:lnTo>
                    <a:pt x="352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3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8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3"/>
                  </a:lnTo>
                  <a:lnTo>
                    <a:pt x="239" y="885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8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4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8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2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6" y="794"/>
                  </a:lnTo>
                  <a:lnTo>
                    <a:pt x="156" y="799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9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8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4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9"/>
                  </a:lnTo>
                  <a:lnTo>
                    <a:pt x="73" y="609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6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3" y="520"/>
                  </a:lnTo>
                  <a:lnTo>
                    <a:pt x="99" y="508"/>
                  </a:lnTo>
                  <a:lnTo>
                    <a:pt x="98" y="493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4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2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8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3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3" y="354"/>
                  </a:lnTo>
                  <a:lnTo>
                    <a:pt x="244" y="343"/>
                  </a:lnTo>
                  <a:lnTo>
                    <a:pt x="251" y="332"/>
                  </a:lnTo>
                  <a:lnTo>
                    <a:pt x="256" y="320"/>
                  </a:lnTo>
                  <a:lnTo>
                    <a:pt x="262" y="309"/>
                  </a:lnTo>
                  <a:lnTo>
                    <a:pt x="271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4" y="237"/>
                  </a:lnTo>
                  <a:lnTo>
                    <a:pt x="318" y="236"/>
                  </a:lnTo>
                  <a:lnTo>
                    <a:pt x="319" y="229"/>
                  </a:lnTo>
                  <a:lnTo>
                    <a:pt x="322" y="225"/>
                  </a:lnTo>
                  <a:lnTo>
                    <a:pt x="328" y="222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79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4" y="115"/>
                  </a:lnTo>
                  <a:lnTo>
                    <a:pt x="305" y="112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8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7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5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2" y="72"/>
                  </a:lnTo>
                  <a:lnTo>
                    <a:pt x="535" y="84"/>
                  </a:lnTo>
                  <a:lnTo>
                    <a:pt x="533" y="97"/>
                  </a:lnTo>
                  <a:lnTo>
                    <a:pt x="542" y="109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4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6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20" y="165"/>
                  </a:lnTo>
                  <a:lnTo>
                    <a:pt x="518" y="169"/>
                  </a:lnTo>
                  <a:lnTo>
                    <a:pt x="527" y="187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7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7" y="255"/>
                  </a:lnTo>
                  <a:lnTo>
                    <a:pt x="609" y="267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6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4" y="324"/>
                  </a:lnTo>
                  <a:lnTo>
                    <a:pt x="603" y="332"/>
                  </a:lnTo>
                  <a:lnTo>
                    <a:pt x="604" y="341"/>
                  </a:lnTo>
                  <a:lnTo>
                    <a:pt x="602" y="351"/>
                  </a:lnTo>
                  <a:lnTo>
                    <a:pt x="598" y="356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5"/>
                  </a:lnTo>
                  <a:lnTo>
                    <a:pt x="615" y="383"/>
                  </a:lnTo>
                  <a:lnTo>
                    <a:pt x="626" y="380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6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5" y="418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3" y="444"/>
                  </a:lnTo>
                  <a:lnTo>
                    <a:pt x="753" y="447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3"/>
                  </a:lnTo>
                  <a:lnTo>
                    <a:pt x="809" y="445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1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5"/>
                  </a:lnTo>
                  <a:lnTo>
                    <a:pt x="835" y="465"/>
                  </a:lnTo>
                  <a:lnTo>
                    <a:pt x="837" y="466"/>
                  </a:lnTo>
                  <a:lnTo>
                    <a:pt x="840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0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1"/>
                  </a:lnTo>
                  <a:lnTo>
                    <a:pt x="913" y="493"/>
                  </a:lnTo>
                  <a:lnTo>
                    <a:pt x="914" y="494"/>
                  </a:lnTo>
                  <a:lnTo>
                    <a:pt x="920" y="498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6"/>
                  </a:lnTo>
                  <a:lnTo>
                    <a:pt x="941" y="496"/>
                  </a:lnTo>
                  <a:lnTo>
                    <a:pt x="955" y="496"/>
                  </a:lnTo>
                  <a:lnTo>
                    <a:pt x="970" y="498"/>
                  </a:lnTo>
                  <a:lnTo>
                    <a:pt x="984" y="499"/>
                  </a:lnTo>
                  <a:lnTo>
                    <a:pt x="989" y="499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5"/>
                  </a:lnTo>
                  <a:lnTo>
                    <a:pt x="1007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3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4" y="436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1" y="429"/>
                  </a:lnTo>
                  <a:lnTo>
                    <a:pt x="1010" y="426"/>
                  </a:lnTo>
                  <a:lnTo>
                    <a:pt x="1011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0"/>
                  </a:lnTo>
                  <a:lnTo>
                    <a:pt x="1029" y="410"/>
                  </a:lnTo>
                  <a:lnTo>
                    <a:pt x="1034" y="409"/>
                  </a:lnTo>
                  <a:lnTo>
                    <a:pt x="1037" y="413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6"/>
                  </a:lnTo>
                  <a:lnTo>
                    <a:pt x="1042" y="4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62320" y="3030480"/>
              <a:ext cx="898560" cy="92916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5" y="138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0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199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0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1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2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2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2" y="331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49" y="394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8"/>
                  </a:lnTo>
                  <a:lnTo>
                    <a:pt x="601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9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1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8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2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1" y="615"/>
                  </a:lnTo>
                  <a:lnTo>
                    <a:pt x="480" y="626"/>
                  </a:lnTo>
                  <a:lnTo>
                    <a:pt x="484" y="628"/>
                  </a:lnTo>
                  <a:lnTo>
                    <a:pt x="490" y="628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5"/>
                  </a:lnTo>
                  <a:lnTo>
                    <a:pt x="499" y="707"/>
                  </a:lnTo>
                  <a:lnTo>
                    <a:pt x="489" y="707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7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3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1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9"/>
                  </a:lnTo>
                  <a:lnTo>
                    <a:pt x="41" y="657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5" y="624"/>
                  </a:lnTo>
                  <a:lnTo>
                    <a:pt x="46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4"/>
                  </a:lnTo>
                  <a:lnTo>
                    <a:pt x="79" y="591"/>
                  </a:lnTo>
                  <a:lnTo>
                    <a:pt x="80" y="586"/>
                  </a:lnTo>
                  <a:lnTo>
                    <a:pt x="83" y="582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8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5" y="489"/>
                  </a:lnTo>
                  <a:lnTo>
                    <a:pt x="79" y="492"/>
                  </a:lnTo>
                  <a:lnTo>
                    <a:pt x="73" y="491"/>
                  </a:lnTo>
                  <a:lnTo>
                    <a:pt x="72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8"/>
                  </a:lnTo>
                  <a:lnTo>
                    <a:pt x="29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9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4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5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0" y="378"/>
                  </a:lnTo>
                  <a:lnTo>
                    <a:pt x="282" y="373"/>
                  </a:lnTo>
                  <a:lnTo>
                    <a:pt x="282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6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2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6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6" y="175"/>
                  </a:lnTo>
                  <a:lnTo>
                    <a:pt x="478" y="173"/>
                  </a:lnTo>
                  <a:lnTo>
                    <a:pt x="492" y="175"/>
                  </a:lnTo>
                  <a:lnTo>
                    <a:pt x="500" y="179"/>
                  </a:lnTo>
                  <a:lnTo>
                    <a:pt x="510" y="181"/>
                  </a:lnTo>
                  <a:lnTo>
                    <a:pt x="517" y="179"/>
                  </a:lnTo>
                  <a:lnTo>
                    <a:pt x="521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7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5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5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1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2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4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2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0"/>
                  </a:lnTo>
                  <a:lnTo>
                    <a:pt x="811" y="77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62320" y="3030480"/>
              <a:ext cx="898560" cy="92916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6" y="139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1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200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1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2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3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3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3" y="332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50" y="393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7"/>
                  </a:lnTo>
                  <a:lnTo>
                    <a:pt x="602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8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0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7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3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2" y="615"/>
                  </a:lnTo>
                  <a:lnTo>
                    <a:pt x="480" y="626"/>
                  </a:lnTo>
                  <a:lnTo>
                    <a:pt x="484" y="627"/>
                  </a:lnTo>
                  <a:lnTo>
                    <a:pt x="490" y="627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4"/>
                  </a:lnTo>
                  <a:lnTo>
                    <a:pt x="499" y="706"/>
                  </a:lnTo>
                  <a:lnTo>
                    <a:pt x="489" y="706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8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4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0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8"/>
                  </a:lnTo>
                  <a:lnTo>
                    <a:pt x="41" y="656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6" y="624"/>
                  </a:lnTo>
                  <a:lnTo>
                    <a:pt x="47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3"/>
                  </a:lnTo>
                  <a:lnTo>
                    <a:pt x="79" y="590"/>
                  </a:lnTo>
                  <a:lnTo>
                    <a:pt x="80" y="585"/>
                  </a:lnTo>
                  <a:lnTo>
                    <a:pt x="83" y="581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9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6" y="489"/>
                  </a:lnTo>
                  <a:lnTo>
                    <a:pt x="79" y="492"/>
                  </a:lnTo>
                  <a:lnTo>
                    <a:pt x="74" y="491"/>
                  </a:lnTo>
                  <a:lnTo>
                    <a:pt x="73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7"/>
                  </a:lnTo>
                  <a:lnTo>
                    <a:pt x="30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8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5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4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1" y="378"/>
                  </a:lnTo>
                  <a:lnTo>
                    <a:pt x="282" y="373"/>
                  </a:lnTo>
                  <a:lnTo>
                    <a:pt x="283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7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3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7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7" y="175"/>
                  </a:lnTo>
                  <a:lnTo>
                    <a:pt x="479" y="173"/>
                  </a:lnTo>
                  <a:lnTo>
                    <a:pt x="492" y="176"/>
                  </a:lnTo>
                  <a:lnTo>
                    <a:pt x="500" y="180"/>
                  </a:lnTo>
                  <a:lnTo>
                    <a:pt x="510" y="182"/>
                  </a:lnTo>
                  <a:lnTo>
                    <a:pt x="517" y="179"/>
                  </a:lnTo>
                  <a:lnTo>
                    <a:pt x="522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8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6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6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2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3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5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3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1"/>
                  </a:lnTo>
                  <a:lnTo>
                    <a:pt x="811" y="78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64840" y="3111480"/>
              <a:ext cx="139320" cy="13248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8" y="23"/>
                  </a:moveTo>
                  <a:lnTo>
                    <a:pt x="32" y="6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8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7" y="106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6" y="97"/>
                  </a:lnTo>
                  <a:lnTo>
                    <a:pt x="53" y="92"/>
                  </a:lnTo>
                  <a:lnTo>
                    <a:pt x="43" y="82"/>
                  </a:lnTo>
                  <a:lnTo>
                    <a:pt x="26" y="64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64840" y="3111480"/>
              <a:ext cx="139320" cy="13356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8" y="23"/>
                  </a:moveTo>
                  <a:lnTo>
                    <a:pt x="32" y="7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9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6" y="107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6" y="98"/>
                  </a:lnTo>
                  <a:lnTo>
                    <a:pt x="53" y="92"/>
                  </a:lnTo>
                  <a:lnTo>
                    <a:pt x="43" y="83"/>
                  </a:lnTo>
                  <a:lnTo>
                    <a:pt x="26" y="65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78960" y="3500280"/>
              <a:ext cx="439560" cy="27216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9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7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39" y="97"/>
                  </a:lnTo>
                  <a:lnTo>
                    <a:pt x="247" y="96"/>
                  </a:lnTo>
                  <a:lnTo>
                    <a:pt x="254" y="96"/>
                  </a:lnTo>
                  <a:lnTo>
                    <a:pt x="258" y="99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3" y="112"/>
                  </a:lnTo>
                  <a:lnTo>
                    <a:pt x="281" y="114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7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8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5"/>
                  </a:lnTo>
                  <a:lnTo>
                    <a:pt x="406" y="184"/>
                  </a:lnTo>
                  <a:lnTo>
                    <a:pt x="407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1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4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7"/>
                  </a:lnTo>
                  <a:lnTo>
                    <a:pt x="325" y="217"/>
                  </a:lnTo>
                  <a:lnTo>
                    <a:pt x="318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309" y="208"/>
                  </a:lnTo>
                  <a:lnTo>
                    <a:pt x="300" y="208"/>
                  </a:lnTo>
                  <a:lnTo>
                    <a:pt x="291" y="209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0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4"/>
                  </a:lnTo>
                  <a:lnTo>
                    <a:pt x="239" y="184"/>
                  </a:lnTo>
                  <a:lnTo>
                    <a:pt x="236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0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8" y="165"/>
                  </a:lnTo>
                  <a:lnTo>
                    <a:pt x="213" y="164"/>
                  </a:lnTo>
                  <a:lnTo>
                    <a:pt x="199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59" y="167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2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9"/>
                  </a:lnTo>
                  <a:lnTo>
                    <a:pt x="52" y="111"/>
                  </a:lnTo>
                  <a:lnTo>
                    <a:pt x="47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3" y="99"/>
                  </a:lnTo>
                  <a:lnTo>
                    <a:pt x="32" y="98"/>
                  </a:lnTo>
                  <a:lnTo>
                    <a:pt x="30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78960" y="3500280"/>
              <a:ext cx="439560" cy="27216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8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8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40" y="97"/>
                  </a:lnTo>
                  <a:lnTo>
                    <a:pt x="247" y="96"/>
                  </a:lnTo>
                  <a:lnTo>
                    <a:pt x="255" y="96"/>
                  </a:lnTo>
                  <a:lnTo>
                    <a:pt x="258" y="100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4" y="112"/>
                  </a:lnTo>
                  <a:lnTo>
                    <a:pt x="281" y="113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6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9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6"/>
                  </a:lnTo>
                  <a:lnTo>
                    <a:pt x="406" y="184"/>
                  </a:lnTo>
                  <a:lnTo>
                    <a:pt x="408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2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5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8"/>
                  </a:lnTo>
                  <a:lnTo>
                    <a:pt x="325" y="217"/>
                  </a:lnTo>
                  <a:lnTo>
                    <a:pt x="319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09" y="208"/>
                  </a:lnTo>
                  <a:lnTo>
                    <a:pt x="300" y="209"/>
                  </a:lnTo>
                  <a:lnTo>
                    <a:pt x="291" y="210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1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5"/>
                  </a:lnTo>
                  <a:lnTo>
                    <a:pt x="239" y="184"/>
                  </a:lnTo>
                  <a:lnTo>
                    <a:pt x="237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1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9" y="165"/>
                  </a:lnTo>
                  <a:lnTo>
                    <a:pt x="214" y="164"/>
                  </a:lnTo>
                  <a:lnTo>
                    <a:pt x="200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3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8"/>
                  </a:lnTo>
                  <a:lnTo>
                    <a:pt x="52" y="111"/>
                  </a:lnTo>
                  <a:lnTo>
                    <a:pt x="48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4" y="99"/>
                  </a:lnTo>
                  <a:lnTo>
                    <a:pt x="32" y="99"/>
                  </a:lnTo>
                  <a:lnTo>
                    <a:pt x="31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3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0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38680" y="3638520"/>
              <a:ext cx="173880" cy="1184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3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6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69"/>
                  </a:lnTo>
                  <a:lnTo>
                    <a:pt x="165" y="83"/>
                  </a:lnTo>
                  <a:lnTo>
                    <a:pt x="161" y="88"/>
                  </a:lnTo>
                  <a:lnTo>
                    <a:pt x="153" y="92"/>
                  </a:lnTo>
                  <a:lnTo>
                    <a:pt x="145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5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38680" y="3638520"/>
              <a:ext cx="173880" cy="1184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2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7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70"/>
                  </a:lnTo>
                  <a:lnTo>
                    <a:pt x="165" y="83"/>
                  </a:lnTo>
                  <a:lnTo>
                    <a:pt x="160" y="88"/>
                  </a:lnTo>
                  <a:lnTo>
                    <a:pt x="153" y="92"/>
                  </a:lnTo>
                  <a:lnTo>
                    <a:pt x="144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4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21200" y="3626280"/>
              <a:ext cx="478800" cy="1212840"/>
            </a:xfrm>
            <a:custGeom>
              <a:avLst/>
              <a:gdLst/>
              <a:ahLst/>
              <a:rect l="l" t="t" r="r" b="b"/>
              <a:pathLst>
                <a:path w="454" h="971">
                  <a:moveTo>
                    <a:pt x="319" y="970"/>
                  </a:moveTo>
                  <a:lnTo>
                    <a:pt x="317" y="958"/>
                  </a:lnTo>
                  <a:lnTo>
                    <a:pt x="318" y="946"/>
                  </a:lnTo>
                  <a:lnTo>
                    <a:pt x="321" y="935"/>
                  </a:lnTo>
                  <a:lnTo>
                    <a:pt x="327" y="920"/>
                  </a:lnTo>
                  <a:lnTo>
                    <a:pt x="331" y="905"/>
                  </a:lnTo>
                  <a:lnTo>
                    <a:pt x="332" y="889"/>
                  </a:lnTo>
                  <a:lnTo>
                    <a:pt x="321" y="892"/>
                  </a:lnTo>
                  <a:lnTo>
                    <a:pt x="311" y="895"/>
                  </a:lnTo>
                  <a:lnTo>
                    <a:pt x="302" y="902"/>
                  </a:lnTo>
                  <a:lnTo>
                    <a:pt x="310" y="889"/>
                  </a:lnTo>
                  <a:lnTo>
                    <a:pt x="321" y="879"/>
                  </a:lnTo>
                  <a:lnTo>
                    <a:pt x="331" y="869"/>
                  </a:lnTo>
                  <a:lnTo>
                    <a:pt x="331" y="866"/>
                  </a:lnTo>
                  <a:lnTo>
                    <a:pt x="329" y="863"/>
                  </a:lnTo>
                  <a:lnTo>
                    <a:pt x="329" y="859"/>
                  </a:lnTo>
                  <a:lnTo>
                    <a:pt x="324" y="858"/>
                  </a:lnTo>
                  <a:lnTo>
                    <a:pt x="320" y="855"/>
                  </a:lnTo>
                  <a:lnTo>
                    <a:pt x="316" y="856"/>
                  </a:lnTo>
                  <a:lnTo>
                    <a:pt x="315" y="852"/>
                  </a:lnTo>
                  <a:lnTo>
                    <a:pt x="311" y="850"/>
                  </a:lnTo>
                  <a:lnTo>
                    <a:pt x="313" y="846"/>
                  </a:lnTo>
                  <a:lnTo>
                    <a:pt x="315" y="846"/>
                  </a:lnTo>
                  <a:lnTo>
                    <a:pt x="317" y="846"/>
                  </a:lnTo>
                  <a:lnTo>
                    <a:pt x="318" y="845"/>
                  </a:lnTo>
                  <a:lnTo>
                    <a:pt x="323" y="824"/>
                  </a:lnTo>
                  <a:lnTo>
                    <a:pt x="318" y="803"/>
                  </a:lnTo>
                  <a:lnTo>
                    <a:pt x="306" y="786"/>
                  </a:lnTo>
                  <a:lnTo>
                    <a:pt x="304" y="792"/>
                  </a:lnTo>
                  <a:lnTo>
                    <a:pt x="300" y="796"/>
                  </a:lnTo>
                  <a:lnTo>
                    <a:pt x="296" y="800"/>
                  </a:lnTo>
                  <a:lnTo>
                    <a:pt x="299" y="781"/>
                  </a:lnTo>
                  <a:lnTo>
                    <a:pt x="300" y="762"/>
                  </a:lnTo>
                  <a:lnTo>
                    <a:pt x="298" y="744"/>
                  </a:lnTo>
                  <a:lnTo>
                    <a:pt x="294" y="738"/>
                  </a:lnTo>
                  <a:lnTo>
                    <a:pt x="290" y="733"/>
                  </a:lnTo>
                  <a:lnTo>
                    <a:pt x="286" y="727"/>
                  </a:lnTo>
                  <a:lnTo>
                    <a:pt x="282" y="706"/>
                  </a:lnTo>
                  <a:lnTo>
                    <a:pt x="280" y="685"/>
                  </a:lnTo>
                  <a:lnTo>
                    <a:pt x="277" y="664"/>
                  </a:lnTo>
                  <a:lnTo>
                    <a:pt x="277" y="655"/>
                  </a:lnTo>
                  <a:lnTo>
                    <a:pt x="279" y="647"/>
                  </a:lnTo>
                  <a:lnTo>
                    <a:pt x="282" y="638"/>
                  </a:lnTo>
                  <a:lnTo>
                    <a:pt x="275" y="641"/>
                  </a:lnTo>
                  <a:lnTo>
                    <a:pt x="267" y="642"/>
                  </a:lnTo>
                  <a:lnTo>
                    <a:pt x="260" y="640"/>
                  </a:lnTo>
                  <a:lnTo>
                    <a:pt x="251" y="628"/>
                  </a:lnTo>
                  <a:lnTo>
                    <a:pt x="251" y="615"/>
                  </a:lnTo>
                  <a:lnTo>
                    <a:pt x="259" y="601"/>
                  </a:lnTo>
                  <a:lnTo>
                    <a:pt x="256" y="607"/>
                  </a:lnTo>
                  <a:lnTo>
                    <a:pt x="251" y="608"/>
                  </a:lnTo>
                  <a:lnTo>
                    <a:pt x="246" y="607"/>
                  </a:lnTo>
                  <a:lnTo>
                    <a:pt x="244" y="603"/>
                  </a:lnTo>
                  <a:lnTo>
                    <a:pt x="242" y="597"/>
                  </a:lnTo>
                  <a:lnTo>
                    <a:pt x="239" y="592"/>
                  </a:lnTo>
                  <a:lnTo>
                    <a:pt x="243" y="598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8"/>
                  </a:lnTo>
                  <a:lnTo>
                    <a:pt x="236" y="626"/>
                  </a:lnTo>
                  <a:lnTo>
                    <a:pt x="236" y="634"/>
                  </a:lnTo>
                  <a:lnTo>
                    <a:pt x="224" y="640"/>
                  </a:lnTo>
                  <a:lnTo>
                    <a:pt x="213" y="647"/>
                  </a:lnTo>
                  <a:lnTo>
                    <a:pt x="200" y="647"/>
                  </a:lnTo>
                  <a:lnTo>
                    <a:pt x="200" y="646"/>
                  </a:lnTo>
                  <a:lnTo>
                    <a:pt x="200" y="643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5"/>
                  </a:lnTo>
                  <a:lnTo>
                    <a:pt x="187" y="663"/>
                  </a:lnTo>
                  <a:lnTo>
                    <a:pt x="186" y="671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7"/>
                  </a:lnTo>
                  <a:lnTo>
                    <a:pt x="177" y="673"/>
                  </a:lnTo>
                  <a:lnTo>
                    <a:pt x="172" y="671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7"/>
                  </a:lnTo>
                  <a:lnTo>
                    <a:pt x="154" y="677"/>
                  </a:lnTo>
                  <a:lnTo>
                    <a:pt x="152" y="676"/>
                  </a:lnTo>
                  <a:lnTo>
                    <a:pt x="150" y="674"/>
                  </a:lnTo>
                  <a:lnTo>
                    <a:pt x="151" y="671"/>
                  </a:lnTo>
                  <a:lnTo>
                    <a:pt x="153" y="666"/>
                  </a:lnTo>
                  <a:lnTo>
                    <a:pt x="156" y="661"/>
                  </a:lnTo>
                  <a:lnTo>
                    <a:pt x="160" y="658"/>
                  </a:lnTo>
                  <a:lnTo>
                    <a:pt x="151" y="662"/>
                  </a:lnTo>
                  <a:lnTo>
                    <a:pt x="141" y="665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6"/>
                  </a:lnTo>
                  <a:lnTo>
                    <a:pt x="134" y="651"/>
                  </a:lnTo>
                  <a:lnTo>
                    <a:pt x="128" y="656"/>
                  </a:lnTo>
                  <a:lnTo>
                    <a:pt x="122" y="661"/>
                  </a:lnTo>
                  <a:lnTo>
                    <a:pt x="117" y="666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4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5"/>
                  </a:lnTo>
                  <a:lnTo>
                    <a:pt x="111" y="618"/>
                  </a:lnTo>
                  <a:lnTo>
                    <a:pt x="111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6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5"/>
                  </a:lnTo>
                  <a:lnTo>
                    <a:pt x="75" y="526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7"/>
                  </a:lnTo>
                  <a:lnTo>
                    <a:pt x="73" y="488"/>
                  </a:lnTo>
                  <a:lnTo>
                    <a:pt x="69" y="476"/>
                  </a:lnTo>
                  <a:lnTo>
                    <a:pt x="67" y="470"/>
                  </a:lnTo>
                  <a:lnTo>
                    <a:pt x="60" y="469"/>
                  </a:lnTo>
                  <a:lnTo>
                    <a:pt x="52" y="467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3"/>
                  </a:lnTo>
                  <a:lnTo>
                    <a:pt x="19" y="426"/>
                  </a:lnTo>
                  <a:lnTo>
                    <a:pt x="8" y="421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1"/>
                  </a:lnTo>
                  <a:lnTo>
                    <a:pt x="22" y="375"/>
                  </a:lnTo>
                  <a:lnTo>
                    <a:pt x="19" y="364"/>
                  </a:lnTo>
                  <a:lnTo>
                    <a:pt x="19" y="355"/>
                  </a:lnTo>
                  <a:lnTo>
                    <a:pt x="29" y="350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49" y="328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7" y="294"/>
                  </a:lnTo>
                  <a:lnTo>
                    <a:pt x="57" y="286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1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4"/>
                  </a:lnTo>
                  <a:lnTo>
                    <a:pt x="104" y="239"/>
                  </a:lnTo>
                  <a:lnTo>
                    <a:pt x="104" y="233"/>
                  </a:lnTo>
                  <a:lnTo>
                    <a:pt x="105" y="230"/>
                  </a:lnTo>
                  <a:lnTo>
                    <a:pt x="115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4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7" y="108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70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6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1" y="62"/>
                  </a:lnTo>
                  <a:lnTo>
                    <a:pt x="230" y="64"/>
                  </a:lnTo>
                  <a:lnTo>
                    <a:pt x="239" y="72"/>
                  </a:lnTo>
                  <a:lnTo>
                    <a:pt x="248" y="75"/>
                  </a:lnTo>
                  <a:lnTo>
                    <a:pt x="249" y="70"/>
                  </a:lnTo>
                  <a:lnTo>
                    <a:pt x="247" y="64"/>
                  </a:lnTo>
                  <a:lnTo>
                    <a:pt x="244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4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0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10" y="52"/>
                  </a:lnTo>
                  <a:lnTo>
                    <a:pt x="314" y="51"/>
                  </a:lnTo>
                  <a:lnTo>
                    <a:pt x="320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0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2" y="147"/>
                  </a:lnTo>
                  <a:lnTo>
                    <a:pt x="316" y="152"/>
                  </a:lnTo>
                  <a:lnTo>
                    <a:pt x="313" y="159"/>
                  </a:lnTo>
                  <a:lnTo>
                    <a:pt x="309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1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1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7"/>
                  </a:lnTo>
                  <a:lnTo>
                    <a:pt x="348" y="293"/>
                  </a:lnTo>
                  <a:lnTo>
                    <a:pt x="359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7"/>
                  </a:lnTo>
                  <a:lnTo>
                    <a:pt x="393" y="352"/>
                  </a:lnTo>
                  <a:lnTo>
                    <a:pt x="395" y="357"/>
                  </a:lnTo>
                  <a:lnTo>
                    <a:pt x="392" y="364"/>
                  </a:lnTo>
                  <a:lnTo>
                    <a:pt x="388" y="370"/>
                  </a:lnTo>
                  <a:lnTo>
                    <a:pt x="393" y="371"/>
                  </a:lnTo>
                  <a:lnTo>
                    <a:pt x="397" y="373"/>
                  </a:lnTo>
                  <a:lnTo>
                    <a:pt x="401" y="375"/>
                  </a:lnTo>
                  <a:lnTo>
                    <a:pt x="401" y="377"/>
                  </a:lnTo>
                  <a:lnTo>
                    <a:pt x="399" y="380"/>
                  </a:lnTo>
                  <a:lnTo>
                    <a:pt x="398" y="382"/>
                  </a:lnTo>
                  <a:lnTo>
                    <a:pt x="417" y="380"/>
                  </a:lnTo>
                  <a:lnTo>
                    <a:pt x="435" y="374"/>
                  </a:lnTo>
                  <a:lnTo>
                    <a:pt x="454" y="370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7" y="383"/>
                  </a:lnTo>
                  <a:lnTo>
                    <a:pt x="444" y="387"/>
                  </a:lnTo>
                  <a:lnTo>
                    <a:pt x="441" y="386"/>
                  </a:lnTo>
                  <a:lnTo>
                    <a:pt x="441" y="389"/>
                  </a:lnTo>
                  <a:lnTo>
                    <a:pt x="441" y="391"/>
                  </a:lnTo>
                  <a:lnTo>
                    <a:pt x="441" y="393"/>
                  </a:lnTo>
                  <a:lnTo>
                    <a:pt x="435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5"/>
                  </a:lnTo>
                  <a:lnTo>
                    <a:pt x="425" y="411"/>
                  </a:lnTo>
                  <a:lnTo>
                    <a:pt x="423" y="416"/>
                  </a:lnTo>
                  <a:lnTo>
                    <a:pt x="416" y="421"/>
                  </a:lnTo>
                  <a:lnTo>
                    <a:pt x="407" y="426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1"/>
                  </a:lnTo>
                  <a:lnTo>
                    <a:pt x="378" y="433"/>
                  </a:lnTo>
                  <a:lnTo>
                    <a:pt x="369" y="435"/>
                  </a:lnTo>
                  <a:lnTo>
                    <a:pt x="369" y="439"/>
                  </a:lnTo>
                  <a:lnTo>
                    <a:pt x="373" y="444"/>
                  </a:lnTo>
                  <a:lnTo>
                    <a:pt x="374" y="449"/>
                  </a:lnTo>
                  <a:lnTo>
                    <a:pt x="364" y="453"/>
                  </a:lnTo>
                  <a:lnTo>
                    <a:pt x="352" y="450"/>
                  </a:lnTo>
                  <a:lnTo>
                    <a:pt x="343" y="452"/>
                  </a:lnTo>
                  <a:lnTo>
                    <a:pt x="341" y="458"/>
                  </a:lnTo>
                  <a:lnTo>
                    <a:pt x="340" y="466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7"/>
                  </a:lnTo>
                  <a:lnTo>
                    <a:pt x="289" y="487"/>
                  </a:lnTo>
                  <a:lnTo>
                    <a:pt x="286" y="498"/>
                  </a:lnTo>
                  <a:lnTo>
                    <a:pt x="284" y="509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5" y="518"/>
                  </a:lnTo>
                  <a:lnTo>
                    <a:pt x="274" y="526"/>
                  </a:lnTo>
                  <a:lnTo>
                    <a:pt x="267" y="536"/>
                  </a:lnTo>
                  <a:lnTo>
                    <a:pt x="267" y="549"/>
                  </a:lnTo>
                  <a:lnTo>
                    <a:pt x="282" y="580"/>
                  </a:lnTo>
                  <a:lnTo>
                    <a:pt x="302" y="609"/>
                  </a:lnTo>
                  <a:lnTo>
                    <a:pt x="318" y="640"/>
                  </a:lnTo>
                  <a:lnTo>
                    <a:pt x="322" y="647"/>
                  </a:lnTo>
                  <a:lnTo>
                    <a:pt x="331" y="652"/>
                  </a:lnTo>
                  <a:lnTo>
                    <a:pt x="342" y="651"/>
                  </a:lnTo>
                  <a:lnTo>
                    <a:pt x="332" y="661"/>
                  </a:lnTo>
                  <a:lnTo>
                    <a:pt x="328" y="673"/>
                  </a:lnTo>
                  <a:lnTo>
                    <a:pt x="326" y="687"/>
                  </a:lnTo>
                  <a:lnTo>
                    <a:pt x="321" y="693"/>
                  </a:lnTo>
                  <a:lnTo>
                    <a:pt x="311" y="698"/>
                  </a:lnTo>
                  <a:lnTo>
                    <a:pt x="303" y="704"/>
                  </a:lnTo>
                  <a:lnTo>
                    <a:pt x="301" y="717"/>
                  </a:lnTo>
                  <a:lnTo>
                    <a:pt x="305" y="730"/>
                  </a:lnTo>
                  <a:lnTo>
                    <a:pt x="310" y="743"/>
                  </a:lnTo>
                  <a:lnTo>
                    <a:pt x="317" y="751"/>
                  </a:lnTo>
                  <a:lnTo>
                    <a:pt x="327" y="756"/>
                  </a:lnTo>
                  <a:lnTo>
                    <a:pt x="336" y="763"/>
                  </a:lnTo>
                  <a:lnTo>
                    <a:pt x="342" y="771"/>
                  </a:lnTo>
                  <a:lnTo>
                    <a:pt x="345" y="781"/>
                  </a:lnTo>
                  <a:lnTo>
                    <a:pt x="347" y="790"/>
                  </a:lnTo>
                  <a:lnTo>
                    <a:pt x="350" y="806"/>
                  </a:lnTo>
                  <a:lnTo>
                    <a:pt x="349" y="823"/>
                  </a:lnTo>
                  <a:lnTo>
                    <a:pt x="342" y="836"/>
                  </a:lnTo>
                  <a:lnTo>
                    <a:pt x="351" y="839"/>
                  </a:lnTo>
                  <a:lnTo>
                    <a:pt x="359" y="838"/>
                  </a:lnTo>
                  <a:lnTo>
                    <a:pt x="363" y="837"/>
                  </a:lnTo>
                  <a:lnTo>
                    <a:pt x="370" y="866"/>
                  </a:lnTo>
                  <a:lnTo>
                    <a:pt x="361" y="894"/>
                  </a:lnTo>
                  <a:lnTo>
                    <a:pt x="343" y="920"/>
                  </a:lnTo>
                  <a:lnTo>
                    <a:pt x="336" y="930"/>
                  </a:lnTo>
                  <a:lnTo>
                    <a:pt x="330" y="941"/>
                  </a:lnTo>
                  <a:lnTo>
                    <a:pt x="325" y="952"/>
                  </a:lnTo>
                  <a:lnTo>
                    <a:pt x="319" y="971"/>
                  </a:lnTo>
                  <a:lnTo>
                    <a:pt x="319" y="97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21200" y="3626280"/>
              <a:ext cx="478800" cy="1213920"/>
            </a:xfrm>
            <a:custGeom>
              <a:avLst/>
              <a:gdLst/>
              <a:ahLst/>
              <a:rect l="l" t="t" r="r" b="b"/>
              <a:pathLst>
                <a:path w="454" h="972">
                  <a:moveTo>
                    <a:pt x="318" y="970"/>
                  </a:moveTo>
                  <a:lnTo>
                    <a:pt x="317" y="959"/>
                  </a:lnTo>
                  <a:lnTo>
                    <a:pt x="318" y="947"/>
                  </a:lnTo>
                  <a:lnTo>
                    <a:pt x="321" y="936"/>
                  </a:lnTo>
                  <a:lnTo>
                    <a:pt x="327" y="921"/>
                  </a:lnTo>
                  <a:lnTo>
                    <a:pt x="331" y="906"/>
                  </a:lnTo>
                  <a:lnTo>
                    <a:pt x="332" y="889"/>
                  </a:lnTo>
                  <a:lnTo>
                    <a:pt x="321" y="893"/>
                  </a:lnTo>
                  <a:lnTo>
                    <a:pt x="311" y="895"/>
                  </a:lnTo>
                  <a:lnTo>
                    <a:pt x="302" y="903"/>
                  </a:lnTo>
                  <a:lnTo>
                    <a:pt x="310" y="890"/>
                  </a:lnTo>
                  <a:lnTo>
                    <a:pt x="321" y="880"/>
                  </a:lnTo>
                  <a:lnTo>
                    <a:pt x="331" y="869"/>
                  </a:lnTo>
                  <a:lnTo>
                    <a:pt x="331" y="867"/>
                  </a:lnTo>
                  <a:lnTo>
                    <a:pt x="329" y="864"/>
                  </a:lnTo>
                  <a:lnTo>
                    <a:pt x="329" y="860"/>
                  </a:lnTo>
                  <a:lnTo>
                    <a:pt x="324" y="859"/>
                  </a:lnTo>
                  <a:lnTo>
                    <a:pt x="320" y="856"/>
                  </a:lnTo>
                  <a:lnTo>
                    <a:pt x="315" y="856"/>
                  </a:lnTo>
                  <a:lnTo>
                    <a:pt x="315" y="853"/>
                  </a:lnTo>
                  <a:lnTo>
                    <a:pt x="311" y="851"/>
                  </a:lnTo>
                  <a:lnTo>
                    <a:pt x="312" y="847"/>
                  </a:lnTo>
                  <a:lnTo>
                    <a:pt x="314" y="846"/>
                  </a:lnTo>
                  <a:lnTo>
                    <a:pt x="317" y="846"/>
                  </a:lnTo>
                  <a:lnTo>
                    <a:pt x="318" y="846"/>
                  </a:lnTo>
                  <a:lnTo>
                    <a:pt x="322" y="825"/>
                  </a:lnTo>
                  <a:lnTo>
                    <a:pt x="317" y="804"/>
                  </a:lnTo>
                  <a:lnTo>
                    <a:pt x="306" y="787"/>
                  </a:lnTo>
                  <a:lnTo>
                    <a:pt x="304" y="793"/>
                  </a:lnTo>
                  <a:lnTo>
                    <a:pt x="300" y="797"/>
                  </a:lnTo>
                  <a:lnTo>
                    <a:pt x="296" y="800"/>
                  </a:lnTo>
                  <a:lnTo>
                    <a:pt x="299" y="782"/>
                  </a:lnTo>
                  <a:lnTo>
                    <a:pt x="300" y="763"/>
                  </a:lnTo>
                  <a:lnTo>
                    <a:pt x="298" y="745"/>
                  </a:lnTo>
                  <a:lnTo>
                    <a:pt x="295" y="739"/>
                  </a:lnTo>
                  <a:lnTo>
                    <a:pt x="290" y="734"/>
                  </a:lnTo>
                  <a:lnTo>
                    <a:pt x="287" y="728"/>
                  </a:lnTo>
                  <a:lnTo>
                    <a:pt x="283" y="707"/>
                  </a:lnTo>
                  <a:lnTo>
                    <a:pt x="280" y="686"/>
                  </a:lnTo>
                  <a:lnTo>
                    <a:pt x="277" y="665"/>
                  </a:lnTo>
                  <a:lnTo>
                    <a:pt x="277" y="656"/>
                  </a:lnTo>
                  <a:lnTo>
                    <a:pt x="279" y="647"/>
                  </a:lnTo>
                  <a:lnTo>
                    <a:pt x="283" y="638"/>
                  </a:lnTo>
                  <a:lnTo>
                    <a:pt x="275" y="641"/>
                  </a:lnTo>
                  <a:lnTo>
                    <a:pt x="267" y="643"/>
                  </a:lnTo>
                  <a:lnTo>
                    <a:pt x="260" y="641"/>
                  </a:lnTo>
                  <a:lnTo>
                    <a:pt x="251" y="629"/>
                  </a:lnTo>
                  <a:lnTo>
                    <a:pt x="251" y="615"/>
                  </a:lnTo>
                  <a:lnTo>
                    <a:pt x="259" y="602"/>
                  </a:lnTo>
                  <a:lnTo>
                    <a:pt x="256" y="607"/>
                  </a:lnTo>
                  <a:lnTo>
                    <a:pt x="252" y="609"/>
                  </a:lnTo>
                  <a:lnTo>
                    <a:pt x="247" y="608"/>
                  </a:lnTo>
                  <a:lnTo>
                    <a:pt x="244" y="603"/>
                  </a:lnTo>
                  <a:lnTo>
                    <a:pt x="243" y="597"/>
                  </a:lnTo>
                  <a:lnTo>
                    <a:pt x="240" y="592"/>
                  </a:lnTo>
                  <a:lnTo>
                    <a:pt x="243" y="599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9"/>
                  </a:lnTo>
                  <a:lnTo>
                    <a:pt x="237" y="626"/>
                  </a:lnTo>
                  <a:lnTo>
                    <a:pt x="236" y="635"/>
                  </a:lnTo>
                  <a:lnTo>
                    <a:pt x="224" y="640"/>
                  </a:lnTo>
                  <a:lnTo>
                    <a:pt x="213" y="648"/>
                  </a:lnTo>
                  <a:lnTo>
                    <a:pt x="200" y="648"/>
                  </a:lnTo>
                  <a:lnTo>
                    <a:pt x="200" y="646"/>
                  </a:lnTo>
                  <a:lnTo>
                    <a:pt x="200" y="644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6"/>
                  </a:lnTo>
                  <a:lnTo>
                    <a:pt x="187" y="664"/>
                  </a:lnTo>
                  <a:lnTo>
                    <a:pt x="186" y="672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8"/>
                  </a:lnTo>
                  <a:lnTo>
                    <a:pt x="176" y="674"/>
                  </a:lnTo>
                  <a:lnTo>
                    <a:pt x="172" y="672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8"/>
                  </a:lnTo>
                  <a:lnTo>
                    <a:pt x="154" y="678"/>
                  </a:lnTo>
                  <a:lnTo>
                    <a:pt x="152" y="676"/>
                  </a:lnTo>
                  <a:lnTo>
                    <a:pt x="151" y="674"/>
                  </a:lnTo>
                  <a:lnTo>
                    <a:pt x="151" y="672"/>
                  </a:lnTo>
                  <a:lnTo>
                    <a:pt x="153" y="667"/>
                  </a:lnTo>
                  <a:lnTo>
                    <a:pt x="156" y="662"/>
                  </a:lnTo>
                  <a:lnTo>
                    <a:pt x="160" y="658"/>
                  </a:lnTo>
                  <a:lnTo>
                    <a:pt x="151" y="663"/>
                  </a:lnTo>
                  <a:lnTo>
                    <a:pt x="141" y="666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7"/>
                  </a:lnTo>
                  <a:lnTo>
                    <a:pt x="135" y="652"/>
                  </a:lnTo>
                  <a:lnTo>
                    <a:pt x="128" y="656"/>
                  </a:lnTo>
                  <a:lnTo>
                    <a:pt x="122" y="662"/>
                  </a:lnTo>
                  <a:lnTo>
                    <a:pt x="117" y="667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5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6"/>
                  </a:lnTo>
                  <a:lnTo>
                    <a:pt x="111" y="619"/>
                  </a:lnTo>
                  <a:lnTo>
                    <a:pt x="112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7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6"/>
                  </a:lnTo>
                  <a:lnTo>
                    <a:pt x="75" y="527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8"/>
                  </a:lnTo>
                  <a:lnTo>
                    <a:pt x="73" y="488"/>
                  </a:lnTo>
                  <a:lnTo>
                    <a:pt x="69" y="477"/>
                  </a:lnTo>
                  <a:lnTo>
                    <a:pt x="67" y="471"/>
                  </a:lnTo>
                  <a:lnTo>
                    <a:pt x="61" y="469"/>
                  </a:lnTo>
                  <a:lnTo>
                    <a:pt x="52" y="468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4"/>
                  </a:lnTo>
                  <a:lnTo>
                    <a:pt x="19" y="426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2"/>
                  </a:lnTo>
                  <a:lnTo>
                    <a:pt x="22" y="375"/>
                  </a:lnTo>
                  <a:lnTo>
                    <a:pt x="20" y="365"/>
                  </a:lnTo>
                  <a:lnTo>
                    <a:pt x="20" y="355"/>
                  </a:lnTo>
                  <a:lnTo>
                    <a:pt x="29" y="351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50" y="329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8" y="294"/>
                  </a:lnTo>
                  <a:lnTo>
                    <a:pt x="58" y="287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2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5"/>
                  </a:lnTo>
                  <a:lnTo>
                    <a:pt x="105" y="239"/>
                  </a:lnTo>
                  <a:lnTo>
                    <a:pt x="104" y="234"/>
                  </a:lnTo>
                  <a:lnTo>
                    <a:pt x="105" y="230"/>
                  </a:lnTo>
                  <a:lnTo>
                    <a:pt x="116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5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8" y="109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69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5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0" y="62"/>
                  </a:lnTo>
                  <a:lnTo>
                    <a:pt x="231" y="64"/>
                  </a:lnTo>
                  <a:lnTo>
                    <a:pt x="240" y="73"/>
                  </a:lnTo>
                  <a:lnTo>
                    <a:pt x="249" y="75"/>
                  </a:lnTo>
                  <a:lnTo>
                    <a:pt x="249" y="71"/>
                  </a:lnTo>
                  <a:lnTo>
                    <a:pt x="247" y="64"/>
                  </a:lnTo>
                  <a:lnTo>
                    <a:pt x="245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5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1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09" y="52"/>
                  </a:lnTo>
                  <a:lnTo>
                    <a:pt x="314" y="51"/>
                  </a:lnTo>
                  <a:lnTo>
                    <a:pt x="319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1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1" y="147"/>
                  </a:lnTo>
                  <a:lnTo>
                    <a:pt x="316" y="153"/>
                  </a:lnTo>
                  <a:lnTo>
                    <a:pt x="313" y="159"/>
                  </a:lnTo>
                  <a:lnTo>
                    <a:pt x="308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2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2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8"/>
                  </a:lnTo>
                  <a:lnTo>
                    <a:pt x="347" y="293"/>
                  </a:lnTo>
                  <a:lnTo>
                    <a:pt x="358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8"/>
                  </a:lnTo>
                  <a:lnTo>
                    <a:pt x="393" y="352"/>
                  </a:lnTo>
                  <a:lnTo>
                    <a:pt x="394" y="358"/>
                  </a:lnTo>
                  <a:lnTo>
                    <a:pt x="392" y="364"/>
                  </a:lnTo>
                  <a:lnTo>
                    <a:pt x="388" y="371"/>
                  </a:lnTo>
                  <a:lnTo>
                    <a:pt x="393" y="372"/>
                  </a:lnTo>
                  <a:lnTo>
                    <a:pt x="397" y="374"/>
                  </a:lnTo>
                  <a:lnTo>
                    <a:pt x="401" y="375"/>
                  </a:lnTo>
                  <a:lnTo>
                    <a:pt x="401" y="378"/>
                  </a:lnTo>
                  <a:lnTo>
                    <a:pt x="398" y="381"/>
                  </a:lnTo>
                  <a:lnTo>
                    <a:pt x="398" y="383"/>
                  </a:lnTo>
                  <a:lnTo>
                    <a:pt x="417" y="381"/>
                  </a:lnTo>
                  <a:lnTo>
                    <a:pt x="435" y="374"/>
                  </a:lnTo>
                  <a:lnTo>
                    <a:pt x="454" y="371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6" y="384"/>
                  </a:lnTo>
                  <a:lnTo>
                    <a:pt x="444" y="388"/>
                  </a:lnTo>
                  <a:lnTo>
                    <a:pt x="441" y="387"/>
                  </a:lnTo>
                  <a:lnTo>
                    <a:pt x="441" y="389"/>
                  </a:lnTo>
                  <a:lnTo>
                    <a:pt x="441" y="392"/>
                  </a:lnTo>
                  <a:lnTo>
                    <a:pt x="441" y="394"/>
                  </a:lnTo>
                  <a:lnTo>
                    <a:pt x="434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6"/>
                  </a:lnTo>
                  <a:lnTo>
                    <a:pt x="425" y="412"/>
                  </a:lnTo>
                  <a:lnTo>
                    <a:pt x="423" y="416"/>
                  </a:lnTo>
                  <a:lnTo>
                    <a:pt x="416" y="422"/>
                  </a:lnTo>
                  <a:lnTo>
                    <a:pt x="407" y="427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2"/>
                  </a:lnTo>
                  <a:lnTo>
                    <a:pt x="378" y="433"/>
                  </a:lnTo>
                  <a:lnTo>
                    <a:pt x="369" y="436"/>
                  </a:lnTo>
                  <a:lnTo>
                    <a:pt x="369" y="439"/>
                  </a:lnTo>
                  <a:lnTo>
                    <a:pt x="373" y="445"/>
                  </a:lnTo>
                  <a:lnTo>
                    <a:pt x="374" y="449"/>
                  </a:lnTo>
                  <a:lnTo>
                    <a:pt x="364" y="454"/>
                  </a:lnTo>
                  <a:lnTo>
                    <a:pt x="352" y="451"/>
                  </a:lnTo>
                  <a:lnTo>
                    <a:pt x="343" y="452"/>
                  </a:lnTo>
                  <a:lnTo>
                    <a:pt x="341" y="459"/>
                  </a:lnTo>
                  <a:lnTo>
                    <a:pt x="340" y="467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8"/>
                  </a:lnTo>
                  <a:lnTo>
                    <a:pt x="289" y="488"/>
                  </a:lnTo>
                  <a:lnTo>
                    <a:pt x="286" y="498"/>
                  </a:lnTo>
                  <a:lnTo>
                    <a:pt x="284" y="510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6" y="519"/>
                  </a:lnTo>
                  <a:lnTo>
                    <a:pt x="274" y="527"/>
                  </a:lnTo>
                  <a:lnTo>
                    <a:pt x="267" y="537"/>
                  </a:lnTo>
                  <a:lnTo>
                    <a:pt x="267" y="549"/>
                  </a:lnTo>
                  <a:lnTo>
                    <a:pt x="283" y="580"/>
                  </a:lnTo>
                  <a:lnTo>
                    <a:pt x="302" y="609"/>
                  </a:lnTo>
                  <a:lnTo>
                    <a:pt x="318" y="641"/>
                  </a:lnTo>
                  <a:lnTo>
                    <a:pt x="322" y="648"/>
                  </a:lnTo>
                  <a:lnTo>
                    <a:pt x="331" y="652"/>
                  </a:lnTo>
                  <a:lnTo>
                    <a:pt x="342" y="652"/>
                  </a:lnTo>
                  <a:lnTo>
                    <a:pt x="332" y="662"/>
                  </a:lnTo>
                  <a:lnTo>
                    <a:pt x="328" y="674"/>
                  </a:lnTo>
                  <a:lnTo>
                    <a:pt x="326" y="688"/>
                  </a:lnTo>
                  <a:lnTo>
                    <a:pt x="321" y="694"/>
                  </a:lnTo>
                  <a:lnTo>
                    <a:pt x="311" y="698"/>
                  </a:lnTo>
                  <a:lnTo>
                    <a:pt x="303" y="705"/>
                  </a:lnTo>
                  <a:lnTo>
                    <a:pt x="301" y="718"/>
                  </a:lnTo>
                  <a:lnTo>
                    <a:pt x="305" y="731"/>
                  </a:lnTo>
                  <a:lnTo>
                    <a:pt x="310" y="744"/>
                  </a:lnTo>
                  <a:lnTo>
                    <a:pt x="317" y="751"/>
                  </a:lnTo>
                  <a:lnTo>
                    <a:pt x="327" y="757"/>
                  </a:lnTo>
                  <a:lnTo>
                    <a:pt x="336" y="764"/>
                  </a:lnTo>
                  <a:lnTo>
                    <a:pt x="342" y="772"/>
                  </a:lnTo>
                  <a:lnTo>
                    <a:pt x="345" y="781"/>
                  </a:lnTo>
                  <a:lnTo>
                    <a:pt x="347" y="791"/>
                  </a:lnTo>
                  <a:lnTo>
                    <a:pt x="349" y="807"/>
                  </a:lnTo>
                  <a:lnTo>
                    <a:pt x="349" y="823"/>
                  </a:lnTo>
                  <a:lnTo>
                    <a:pt x="342" y="837"/>
                  </a:lnTo>
                  <a:lnTo>
                    <a:pt x="350" y="840"/>
                  </a:lnTo>
                  <a:lnTo>
                    <a:pt x="358" y="838"/>
                  </a:lnTo>
                  <a:lnTo>
                    <a:pt x="363" y="838"/>
                  </a:lnTo>
                  <a:lnTo>
                    <a:pt x="370" y="866"/>
                  </a:lnTo>
                  <a:lnTo>
                    <a:pt x="361" y="895"/>
                  </a:lnTo>
                  <a:lnTo>
                    <a:pt x="343" y="920"/>
                  </a:lnTo>
                  <a:lnTo>
                    <a:pt x="336" y="931"/>
                  </a:lnTo>
                  <a:lnTo>
                    <a:pt x="330" y="941"/>
                  </a:lnTo>
                  <a:lnTo>
                    <a:pt x="325" y="953"/>
                  </a:lnTo>
                  <a:lnTo>
                    <a:pt x="319" y="972"/>
                  </a:lnTo>
                  <a:lnTo>
                    <a:pt x="318" y="97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03080" y="4164840"/>
              <a:ext cx="425880" cy="950400"/>
            </a:xfrm>
            <a:custGeom>
              <a:avLst/>
              <a:gdLst/>
              <a:ahLst/>
              <a:rect l="l" t="t" r="r" b="b"/>
              <a:pathLst>
                <a:path w="404" h="761">
                  <a:moveTo>
                    <a:pt x="130" y="728"/>
                  </a:moveTo>
                  <a:lnTo>
                    <a:pt x="126" y="730"/>
                  </a:lnTo>
                  <a:lnTo>
                    <a:pt x="118" y="733"/>
                  </a:lnTo>
                  <a:lnTo>
                    <a:pt x="109" y="731"/>
                  </a:lnTo>
                  <a:lnTo>
                    <a:pt x="104" y="720"/>
                  </a:lnTo>
                  <a:lnTo>
                    <a:pt x="106" y="706"/>
                  </a:lnTo>
                  <a:lnTo>
                    <a:pt x="111" y="693"/>
                  </a:lnTo>
                  <a:lnTo>
                    <a:pt x="105" y="691"/>
                  </a:lnTo>
                  <a:lnTo>
                    <a:pt x="105" y="684"/>
                  </a:lnTo>
                  <a:lnTo>
                    <a:pt x="102" y="680"/>
                  </a:lnTo>
                  <a:lnTo>
                    <a:pt x="93" y="677"/>
                  </a:lnTo>
                  <a:lnTo>
                    <a:pt x="85" y="675"/>
                  </a:lnTo>
                  <a:lnTo>
                    <a:pt x="80" y="669"/>
                  </a:lnTo>
                  <a:lnTo>
                    <a:pt x="77" y="661"/>
                  </a:lnTo>
                  <a:lnTo>
                    <a:pt x="75" y="652"/>
                  </a:lnTo>
                  <a:lnTo>
                    <a:pt x="74" y="643"/>
                  </a:lnTo>
                  <a:lnTo>
                    <a:pt x="72" y="639"/>
                  </a:lnTo>
                  <a:lnTo>
                    <a:pt x="67" y="637"/>
                  </a:lnTo>
                  <a:lnTo>
                    <a:pt x="63" y="637"/>
                  </a:lnTo>
                  <a:lnTo>
                    <a:pt x="54" y="647"/>
                  </a:lnTo>
                  <a:lnTo>
                    <a:pt x="49" y="656"/>
                  </a:lnTo>
                  <a:lnTo>
                    <a:pt x="40" y="652"/>
                  </a:lnTo>
                  <a:lnTo>
                    <a:pt x="39" y="643"/>
                  </a:lnTo>
                  <a:lnTo>
                    <a:pt x="42" y="633"/>
                  </a:lnTo>
                  <a:lnTo>
                    <a:pt x="41" y="625"/>
                  </a:lnTo>
                  <a:lnTo>
                    <a:pt x="36" y="610"/>
                  </a:lnTo>
                  <a:lnTo>
                    <a:pt x="38" y="597"/>
                  </a:lnTo>
                  <a:lnTo>
                    <a:pt x="41" y="585"/>
                  </a:lnTo>
                  <a:lnTo>
                    <a:pt x="50" y="551"/>
                  </a:lnTo>
                  <a:lnTo>
                    <a:pt x="60" y="519"/>
                  </a:lnTo>
                  <a:lnTo>
                    <a:pt x="77" y="489"/>
                  </a:lnTo>
                  <a:lnTo>
                    <a:pt x="94" y="463"/>
                  </a:lnTo>
                  <a:lnTo>
                    <a:pt x="103" y="435"/>
                  </a:lnTo>
                  <a:lnTo>
                    <a:pt x="96" y="407"/>
                  </a:lnTo>
                  <a:lnTo>
                    <a:pt x="92" y="407"/>
                  </a:lnTo>
                  <a:lnTo>
                    <a:pt x="84" y="409"/>
                  </a:lnTo>
                  <a:lnTo>
                    <a:pt x="75" y="405"/>
                  </a:lnTo>
                  <a:lnTo>
                    <a:pt x="83" y="392"/>
                  </a:lnTo>
                  <a:lnTo>
                    <a:pt x="83" y="375"/>
                  </a:lnTo>
                  <a:lnTo>
                    <a:pt x="80" y="359"/>
                  </a:lnTo>
                  <a:lnTo>
                    <a:pt x="79" y="350"/>
                  </a:lnTo>
                  <a:lnTo>
                    <a:pt x="75" y="341"/>
                  </a:lnTo>
                  <a:lnTo>
                    <a:pt x="69" y="332"/>
                  </a:lnTo>
                  <a:lnTo>
                    <a:pt x="60" y="326"/>
                  </a:lnTo>
                  <a:lnTo>
                    <a:pt x="50" y="320"/>
                  </a:lnTo>
                  <a:lnTo>
                    <a:pt x="43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4"/>
                  </a:lnTo>
                  <a:lnTo>
                    <a:pt x="44" y="267"/>
                  </a:lnTo>
                  <a:lnTo>
                    <a:pt x="54" y="263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1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8"/>
                  </a:lnTo>
                  <a:lnTo>
                    <a:pt x="16" y="149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7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7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40"/>
                  </a:lnTo>
                  <a:lnTo>
                    <a:pt x="51" y="40"/>
                  </a:lnTo>
                  <a:lnTo>
                    <a:pt x="68" y="40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1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8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1"/>
                  </a:lnTo>
                  <a:lnTo>
                    <a:pt x="156" y="33"/>
                  </a:lnTo>
                  <a:lnTo>
                    <a:pt x="162" y="40"/>
                  </a:lnTo>
                  <a:lnTo>
                    <a:pt x="172" y="41"/>
                  </a:lnTo>
                  <a:lnTo>
                    <a:pt x="183" y="41"/>
                  </a:lnTo>
                  <a:lnTo>
                    <a:pt x="194" y="42"/>
                  </a:lnTo>
                  <a:lnTo>
                    <a:pt x="195" y="46"/>
                  </a:lnTo>
                  <a:lnTo>
                    <a:pt x="197" y="49"/>
                  </a:lnTo>
                  <a:lnTo>
                    <a:pt x="196" y="51"/>
                  </a:lnTo>
                  <a:lnTo>
                    <a:pt x="192" y="58"/>
                  </a:lnTo>
                  <a:lnTo>
                    <a:pt x="193" y="66"/>
                  </a:lnTo>
                  <a:lnTo>
                    <a:pt x="200" y="72"/>
                  </a:lnTo>
                  <a:lnTo>
                    <a:pt x="201" y="75"/>
                  </a:lnTo>
                  <a:lnTo>
                    <a:pt x="201" y="78"/>
                  </a:lnTo>
                  <a:lnTo>
                    <a:pt x="200" y="81"/>
                  </a:lnTo>
                  <a:lnTo>
                    <a:pt x="196" y="84"/>
                  </a:lnTo>
                  <a:lnTo>
                    <a:pt x="192" y="87"/>
                  </a:lnTo>
                  <a:lnTo>
                    <a:pt x="187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10"/>
                  </a:lnTo>
                  <a:lnTo>
                    <a:pt x="178" y="115"/>
                  </a:lnTo>
                  <a:lnTo>
                    <a:pt x="184" y="120"/>
                  </a:lnTo>
                  <a:lnTo>
                    <a:pt x="188" y="124"/>
                  </a:lnTo>
                  <a:lnTo>
                    <a:pt x="183" y="137"/>
                  </a:lnTo>
                  <a:lnTo>
                    <a:pt x="176" y="147"/>
                  </a:lnTo>
                  <a:lnTo>
                    <a:pt x="185" y="156"/>
                  </a:lnTo>
                  <a:lnTo>
                    <a:pt x="203" y="152"/>
                  </a:lnTo>
                  <a:lnTo>
                    <a:pt x="217" y="137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4"/>
                  </a:lnTo>
                  <a:lnTo>
                    <a:pt x="267" y="138"/>
                  </a:lnTo>
                  <a:lnTo>
                    <a:pt x="277" y="133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5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2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7"/>
                  </a:lnTo>
                  <a:lnTo>
                    <a:pt x="388" y="231"/>
                  </a:lnTo>
                  <a:lnTo>
                    <a:pt x="404" y="267"/>
                  </a:lnTo>
                  <a:lnTo>
                    <a:pt x="402" y="306"/>
                  </a:lnTo>
                  <a:lnTo>
                    <a:pt x="384" y="323"/>
                  </a:lnTo>
                  <a:lnTo>
                    <a:pt x="381" y="319"/>
                  </a:lnTo>
                  <a:lnTo>
                    <a:pt x="378" y="316"/>
                  </a:lnTo>
                  <a:lnTo>
                    <a:pt x="375" y="314"/>
                  </a:lnTo>
                  <a:lnTo>
                    <a:pt x="366" y="313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2"/>
                  </a:lnTo>
                  <a:lnTo>
                    <a:pt x="330" y="320"/>
                  </a:lnTo>
                  <a:lnTo>
                    <a:pt x="319" y="319"/>
                  </a:lnTo>
                  <a:lnTo>
                    <a:pt x="314" y="318"/>
                  </a:lnTo>
                  <a:lnTo>
                    <a:pt x="308" y="316"/>
                  </a:lnTo>
                  <a:lnTo>
                    <a:pt x="303" y="317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7"/>
                  </a:lnTo>
                  <a:lnTo>
                    <a:pt x="277" y="333"/>
                  </a:lnTo>
                  <a:lnTo>
                    <a:pt x="275" y="338"/>
                  </a:lnTo>
                  <a:lnTo>
                    <a:pt x="264" y="350"/>
                  </a:lnTo>
                  <a:lnTo>
                    <a:pt x="251" y="360"/>
                  </a:lnTo>
                  <a:lnTo>
                    <a:pt x="242" y="373"/>
                  </a:lnTo>
                  <a:lnTo>
                    <a:pt x="243" y="375"/>
                  </a:lnTo>
                  <a:lnTo>
                    <a:pt x="247" y="376"/>
                  </a:lnTo>
                  <a:lnTo>
                    <a:pt x="250" y="379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2"/>
                  </a:lnTo>
                  <a:lnTo>
                    <a:pt x="260" y="421"/>
                  </a:lnTo>
                  <a:lnTo>
                    <a:pt x="264" y="440"/>
                  </a:lnTo>
                  <a:lnTo>
                    <a:pt x="264" y="458"/>
                  </a:lnTo>
                  <a:lnTo>
                    <a:pt x="261" y="458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6"/>
                  </a:lnTo>
                  <a:lnTo>
                    <a:pt x="242" y="440"/>
                  </a:lnTo>
                  <a:lnTo>
                    <a:pt x="235" y="429"/>
                  </a:lnTo>
                  <a:lnTo>
                    <a:pt x="230" y="417"/>
                  </a:lnTo>
                  <a:lnTo>
                    <a:pt x="224" y="405"/>
                  </a:lnTo>
                  <a:lnTo>
                    <a:pt x="215" y="409"/>
                  </a:lnTo>
                  <a:lnTo>
                    <a:pt x="208" y="404"/>
                  </a:lnTo>
                  <a:lnTo>
                    <a:pt x="201" y="399"/>
                  </a:lnTo>
                  <a:lnTo>
                    <a:pt x="201" y="402"/>
                  </a:lnTo>
                  <a:lnTo>
                    <a:pt x="200" y="404"/>
                  </a:lnTo>
                  <a:lnTo>
                    <a:pt x="197" y="405"/>
                  </a:lnTo>
                  <a:lnTo>
                    <a:pt x="191" y="405"/>
                  </a:lnTo>
                  <a:lnTo>
                    <a:pt x="185" y="408"/>
                  </a:lnTo>
                  <a:lnTo>
                    <a:pt x="180" y="411"/>
                  </a:lnTo>
                  <a:lnTo>
                    <a:pt x="172" y="412"/>
                  </a:lnTo>
                  <a:lnTo>
                    <a:pt x="165" y="408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2" y="382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8"/>
                  </a:lnTo>
                  <a:lnTo>
                    <a:pt x="132" y="360"/>
                  </a:lnTo>
                  <a:lnTo>
                    <a:pt x="128" y="363"/>
                  </a:lnTo>
                  <a:lnTo>
                    <a:pt x="128" y="369"/>
                  </a:lnTo>
                  <a:lnTo>
                    <a:pt x="128" y="376"/>
                  </a:lnTo>
                  <a:lnTo>
                    <a:pt x="131" y="375"/>
                  </a:lnTo>
                  <a:lnTo>
                    <a:pt x="133" y="377"/>
                  </a:lnTo>
                  <a:lnTo>
                    <a:pt x="135" y="379"/>
                  </a:lnTo>
                  <a:lnTo>
                    <a:pt x="135" y="382"/>
                  </a:lnTo>
                  <a:lnTo>
                    <a:pt x="135" y="385"/>
                  </a:lnTo>
                  <a:lnTo>
                    <a:pt x="135" y="389"/>
                  </a:lnTo>
                  <a:lnTo>
                    <a:pt x="132" y="389"/>
                  </a:lnTo>
                  <a:lnTo>
                    <a:pt x="131" y="392"/>
                  </a:lnTo>
                  <a:lnTo>
                    <a:pt x="128" y="392"/>
                  </a:lnTo>
                  <a:lnTo>
                    <a:pt x="130" y="402"/>
                  </a:lnTo>
                  <a:lnTo>
                    <a:pt x="132" y="412"/>
                  </a:lnTo>
                  <a:lnTo>
                    <a:pt x="131" y="422"/>
                  </a:lnTo>
                  <a:lnTo>
                    <a:pt x="122" y="450"/>
                  </a:lnTo>
                  <a:lnTo>
                    <a:pt x="113" y="478"/>
                  </a:lnTo>
                  <a:lnTo>
                    <a:pt x="100" y="506"/>
                  </a:lnTo>
                  <a:lnTo>
                    <a:pt x="92" y="520"/>
                  </a:lnTo>
                  <a:lnTo>
                    <a:pt x="88" y="535"/>
                  </a:lnTo>
                  <a:lnTo>
                    <a:pt x="90" y="550"/>
                  </a:lnTo>
                  <a:lnTo>
                    <a:pt x="91" y="556"/>
                  </a:lnTo>
                  <a:lnTo>
                    <a:pt x="90" y="562"/>
                  </a:lnTo>
                  <a:lnTo>
                    <a:pt x="92" y="567"/>
                  </a:lnTo>
                  <a:lnTo>
                    <a:pt x="104" y="577"/>
                  </a:lnTo>
                  <a:lnTo>
                    <a:pt x="115" y="588"/>
                  </a:lnTo>
                  <a:lnTo>
                    <a:pt x="127" y="598"/>
                  </a:lnTo>
                  <a:lnTo>
                    <a:pt x="128" y="600"/>
                  </a:lnTo>
                  <a:lnTo>
                    <a:pt x="127" y="604"/>
                  </a:lnTo>
                  <a:lnTo>
                    <a:pt x="126" y="607"/>
                  </a:lnTo>
                  <a:lnTo>
                    <a:pt x="129" y="618"/>
                  </a:lnTo>
                  <a:lnTo>
                    <a:pt x="137" y="627"/>
                  </a:lnTo>
                  <a:lnTo>
                    <a:pt x="144" y="637"/>
                  </a:lnTo>
                  <a:lnTo>
                    <a:pt x="144" y="646"/>
                  </a:lnTo>
                  <a:lnTo>
                    <a:pt x="143" y="655"/>
                  </a:lnTo>
                  <a:lnTo>
                    <a:pt x="143" y="662"/>
                  </a:lnTo>
                  <a:lnTo>
                    <a:pt x="152" y="680"/>
                  </a:lnTo>
                  <a:lnTo>
                    <a:pt x="165" y="694"/>
                  </a:lnTo>
                  <a:lnTo>
                    <a:pt x="181" y="705"/>
                  </a:lnTo>
                  <a:lnTo>
                    <a:pt x="189" y="705"/>
                  </a:lnTo>
                  <a:lnTo>
                    <a:pt x="196" y="702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4"/>
                  </a:lnTo>
                  <a:lnTo>
                    <a:pt x="214" y="723"/>
                  </a:lnTo>
                  <a:lnTo>
                    <a:pt x="222" y="723"/>
                  </a:lnTo>
                  <a:lnTo>
                    <a:pt x="227" y="726"/>
                  </a:lnTo>
                  <a:lnTo>
                    <a:pt x="230" y="732"/>
                  </a:lnTo>
                  <a:lnTo>
                    <a:pt x="229" y="736"/>
                  </a:lnTo>
                  <a:lnTo>
                    <a:pt x="227" y="736"/>
                  </a:lnTo>
                  <a:lnTo>
                    <a:pt x="225" y="736"/>
                  </a:lnTo>
                  <a:lnTo>
                    <a:pt x="224" y="736"/>
                  </a:lnTo>
                  <a:lnTo>
                    <a:pt x="222" y="745"/>
                  </a:lnTo>
                  <a:lnTo>
                    <a:pt x="216" y="750"/>
                  </a:lnTo>
                  <a:lnTo>
                    <a:pt x="207" y="752"/>
                  </a:lnTo>
                  <a:lnTo>
                    <a:pt x="207" y="749"/>
                  </a:lnTo>
                  <a:lnTo>
                    <a:pt x="206" y="747"/>
                  </a:lnTo>
                  <a:lnTo>
                    <a:pt x="204" y="746"/>
                  </a:lnTo>
                  <a:lnTo>
                    <a:pt x="196" y="749"/>
                  </a:lnTo>
                  <a:lnTo>
                    <a:pt x="194" y="758"/>
                  </a:lnTo>
                  <a:lnTo>
                    <a:pt x="188" y="761"/>
                  </a:lnTo>
                  <a:lnTo>
                    <a:pt x="183" y="759"/>
                  </a:lnTo>
                  <a:lnTo>
                    <a:pt x="179" y="755"/>
                  </a:lnTo>
                  <a:lnTo>
                    <a:pt x="174" y="752"/>
                  </a:lnTo>
                  <a:lnTo>
                    <a:pt x="178" y="731"/>
                  </a:lnTo>
                  <a:lnTo>
                    <a:pt x="165" y="718"/>
                  </a:lnTo>
                  <a:lnTo>
                    <a:pt x="144" y="710"/>
                  </a:lnTo>
                  <a:lnTo>
                    <a:pt x="141" y="710"/>
                  </a:lnTo>
                  <a:lnTo>
                    <a:pt x="138" y="711"/>
                  </a:lnTo>
                  <a:lnTo>
                    <a:pt x="136" y="714"/>
                  </a:lnTo>
                  <a:lnTo>
                    <a:pt x="130" y="72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03080" y="4165920"/>
              <a:ext cx="425880" cy="948960"/>
            </a:xfrm>
            <a:custGeom>
              <a:avLst/>
              <a:gdLst/>
              <a:ahLst/>
              <a:rect l="l" t="t" r="r" b="b"/>
              <a:pathLst>
                <a:path w="404" h="760">
                  <a:moveTo>
                    <a:pt x="130" y="727"/>
                  </a:moveTo>
                  <a:lnTo>
                    <a:pt x="126" y="729"/>
                  </a:lnTo>
                  <a:lnTo>
                    <a:pt x="118" y="732"/>
                  </a:lnTo>
                  <a:lnTo>
                    <a:pt x="109" y="730"/>
                  </a:lnTo>
                  <a:lnTo>
                    <a:pt x="104" y="719"/>
                  </a:lnTo>
                  <a:lnTo>
                    <a:pt x="107" y="705"/>
                  </a:lnTo>
                  <a:lnTo>
                    <a:pt x="111" y="692"/>
                  </a:lnTo>
                  <a:lnTo>
                    <a:pt x="105" y="690"/>
                  </a:lnTo>
                  <a:lnTo>
                    <a:pt x="105" y="683"/>
                  </a:lnTo>
                  <a:lnTo>
                    <a:pt x="102" y="679"/>
                  </a:lnTo>
                  <a:lnTo>
                    <a:pt x="93" y="676"/>
                  </a:lnTo>
                  <a:lnTo>
                    <a:pt x="85" y="674"/>
                  </a:lnTo>
                  <a:lnTo>
                    <a:pt x="80" y="668"/>
                  </a:lnTo>
                  <a:lnTo>
                    <a:pt x="77" y="660"/>
                  </a:lnTo>
                  <a:lnTo>
                    <a:pt x="75" y="651"/>
                  </a:lnTo>
                  <a:lnTo>
                    <a:pt x="74" y="642"/>
                  </a:lnTo>
                  <a:lnTo>
                    <a:pt x="72" y="638"/>
                  </a:lnTo>
                  <a:lnTo>
                    <a:pt x="67" y="636"/>
                  </a:lnTo>
                  <a:lnTo>
                    <a:pt x="63" y="636"/>
                  </a:lnTo>
                  <a:lnTo>
                    <a:pt x="55" y="646"/>
                  </a:lnTo>
                  <a:lnTo>
                    <a:pt x="49" y="655"/>
                  </a:lnTo>
                  <a:lnTo>
                    <a:pt x="40" y="651"/>
                  </a:lnTo>
                  <a:lnTo>
                    <a:pt x="39" y="642"/>
                  </a:lnTo>
                  <a:lnTo>
                    <a:pt x="42" y="632"/>
                  </a:lnTo>
                  <a:lnTo>
                    <a:pt x="41" y="624"/>
                  </a:lnTo>
                  <a:lnTo>
                    <a:pt x="36" y="610"/>
                  </a:lnTo>
                  <a:lnTo>
                    <a:pt x="38" y="596"/>
                  </a:lnTo>
                  <a:lnTo>
                    <a:pt x="42" y="584"/>
                  </a:lnTo>
                  <a:lnTo>
                    <a:pt x="50" y="550"/>
                  </a:lnTo>
                  <a:lnTo>
                    <a:pt x="60" y="518"/>
                  </a:lnTo>
                  <a:lnTo>
                    <a:pt x="77" y="488"/>
                  </a:lnTo>
                  <a:lnTo>
                    <a:pt x="95" y="463"/>
                  </a:lnTo>
                  <a:lnTo>
                    <a:pt x="103" y="434"/>
                  </a:lnTo>
                  <a:lnTo>
                    <a:pt x="96" y="406"/>
                  </a:lnTo>
                  <a:lnTo>
                    <a:pt x="92" y="406"/>
                  </a:lnTo>
                  <a:lnTo>
                    <a:pt x="84" y="408"/>
                  </a:lnTo>
                  <a:lnTo>
                    <a:pt x="75" y="405"/>
                  </a:lnTo>
                  <a:lnTo>
                    <a:pt x="83" y="391"/>
                  </a:lnTo>
                  <a:lnTo>
                    <a:pt x="83" y="375"/>
                  </a:lnTo>
                  <a:lnTo>
                    <a:pt x="81" y="359"/>
                  </a:lnTo>
                  <a:lnTo>
                    <a:pt x="79" y="349"/>
                  </a:lnTo>
                  <a:lnTo>
                    <a:pt x="75" y="340"/>
                  </a:lnTo>
                  <a:lnTo>
                    <a:pt x="69" y="332"/>
                  </a:lnTo>
                  <a:lnTo>
                    <a:pt x="60" y="325"/>
                  </a:lnTo>
                  <a:lnTo>
                    <a:pt x="50" y="319"/>
                  </a:lnTo>
                  <a:lnTo>
                    <a:pt x="44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3"/>
                  </a:lnTo>
                  <a:lnTo>
                    <a:pt x="45" y="266"/>
                  </a:lnTo>
                  <a:lnTo>
                    <a:pt x="55" y="262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0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7"/>
                  </a:lnTo>
                  <a:lnTo>
                    <a:pt x="16" y="148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6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39"/>
                  </a:lnTo>
                  <a:lnTo>
                    <a:pt x="52" y="40"/>
                  </a:lnTo>
                  <a:lnTo>
                    <a:pt x="68" y="39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0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7"/>
                  </a:lnTo>
                  <a:lnTo>
                    <a:pt x="106" y="13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0"/>
                  </a:lnTo>
                  <a:lnTo>
                    <a:pt x="156" y="32"/>
                  </a:lnTo>
                  <a:lnTo>
                    <a:pt x="162" y="39"/>
                  </a:lnTo>
                  <a:lnTo>
                    <a:pt x="172" y="40"/>
                  </a:lnTo>
                  <a:lnTo>
                    <a:pt x="183" y="40"/>
                  </a:lnTo>
                  <a:lnTo>
                    <a:pt x="194" y="42"/>
                  </a:lnTo>
                  <a:lnTo>
                    <a:pt x="195" y="45"/>
                  </a:lnTo>
                  <a:lnTo>
                    <a:pt x="197" y="48"/>
                  </a:lnTo>
                  <a:lnTo>
                    <a:pt x="197" y="51"/>
                  </a:lnTo>
                  <a:lnTo>
                    <a:pt x="192" y="58"/>
                  </a:lnTo>
                  <a:lnTo>
                    <a:pt x="194" y="66"/>
                  </a:lnTo>
                  <a:lnTo>
                    <a:pt x="200" y="72"/>
                  </a:lnTo>
                  <a:lnTo>
                    <a:pt x="201" y="74"/>
                  </a:lnTo>
                  <a:lnTo>
                    <a:pt x="201" y="78"/>
                  </a:lnTo>
                  <a:lnTo>
                    <a:pt x="200" y="80"/>
                  </a:lnTo>
                  <a:lnTo>
                    <a:pt x="196" y="84"/>
                  </a:lnTo>
                  <a:lnTo>
                    <a:pt x="192" y="86"/>
                  </a:lnTo>
                  <a:lnTo>
                    <a:pt x="188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09"/>
                  </a:lnTo>
                  <a:lnTo>
                    <a:pt x="178" y="114"/>
                  </a:lnTo>
                  <a:lnTo>
                    <a:pt x="184" y="119"/>
                  </a:lnTo>
                  <a:lnTo>
                    <a:pt x="188" y="124"/>
                  </a:lnTo>
                  <a:lnTo>
                    <a:pt x="183" y="136"/>
                  </a:lnTo>
                  <a:lnTo>
                    <a:pt x="176" y="147"/>
                  </a:lnTo>
                  <a:lnTo>
                    <a:pt x="185" y="155"/>
                  </a:lnTo>
                  <a:lnTo>
                    <a:pt x="203" y="152"/>
                  </a:lnTo>
                  <a:lnTo>
                    <a:pt x="218" y="136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3"/>
                  </a:lnTo>
                  <a:lnTo>
                    <a:pt x="267" y="138"/>
                  </a:lnTo>
                  <a:lnTo>
                    <a:pt x="277" y="132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4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3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7"/>
                  </a:lnTo>
                  <a:lnTo>
                    <a:pt x="372" y="173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6"/>
                  </a:lnTo>
                  <a:lnTo>
                    <a:pt x="388" y="231"/>
                  </a:lnTo>
                  <a:lnTo>
                    <a:pt x="404" y="266"/>
                  </a:lnTo>
                  <a:lnTo>
                    <a:pt x="402" y="306"/>
                  </a:lnTo>
                  <a:lnTo>
                    <a:pt x="384" y="322"/>
                  </a:lnTo>
                  <a:lnTo>
                    <a:pt x="381" y="319"/>
                  </a:lnTo>
                  <a:lnTo>
                    <a:pt x="378" y="315"/>
                  </a:lnTo>
                  <a:lnTo>
                    <a:pt x="375" y="313"/>
                  </a:lnTo>
                  <a:lnTo>
                    <a:pt x="366" y="312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1"/>
                  </a:lnTo>
                  <a:lnTo>
                    <a:pt x="330" y="320"/>
                  </a:lnTo>
                  <a:lnTo>
                    <a:pt x="320" y="319"/>
                  </a:lnTo>
                  <a:lnTo>
                    <a:pt x="314" y="317"/>
                  </a:lnTo>
                  <a:lnTo>
                    <a:pt x="309" y="315"/>
                  </a:lnTo>
                  <a:lnTo>
                    <a:pt x="303" y="316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6"/>
                  </a:lnTo>
                  <a:lnTo>
                    <a:pt x="277" y="332"/>
                  </a:lnTo>
                  <a:lnTo>
                    <a:pt x="275" y="338"/>
                  </a:lnTo>
                  <a:lnTo>
                    <a:pt x="264" y="349"/>
                  </a:lnTo>
                  <a:lnTo>
                    <a:pt x="251" y="360"/>
                  </a:lnTo>
                  <a:lnTo>
                    <a:pt x="242" y="372"/>
                  </a:lnTo>
                  <a:lnTo>
                    <a:pt x="243" y="374"/>
                  </a:lnTo>
                  <a:lnTo>
                    <a:pt x="247" y="375"/>
                  </a:lnTo>
                  <a:lnTo>
                    <a:pt x="250" y="378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1"/>
                  </a:lnTo>
                  <a:lnTo>
                    <a:pt x="260" y="420"/>
                  </a:lnTo>
                  <a:lnTo>
                    <a:pt x="264" y="439"/>
                  </a:lnTo>
                  <a:lnTo>
                    <a:pt x="264" y="457"/>
                  </a:lnTo>
                  <a:lnTo>
                    <a:pt x="262" y="457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5"/>
                  </a:lnTo>
                  <a:lnTo>
                    <a:pt x="242" y="439"/>
                  </a:lnTo>
                  <a:lnTo>
                    <a:pt x="235" y="428"/>
                  </a:lnTo>
                  <a:lnTo>
                    <a:pt x="230" y="416"/>
                  </a:lnTo>
                  <a:lnTo>
                    <a:pt x="224" y="405"/>
                  </a:lnTo>
                  <a:lnTo>
                    <a:pt x="215" y="408"/>
                  </a:lnTo>
                  <a:lnTo>
                    <a:pt x="208" y="404"/>
                  </a:lnTo>
                  <a:lnTo>
                    <a:pt x="201" y="398"/>
                  </a:lnTo>
                  <a:lnTo>
                    <a:pt x="201" y="401"/>
                  </a:lnTo>
                  <a:lnTo>
                    <a:pt x="200" y="403"/>
                  </a:lnTo>
                  <a:lnTo>
                    <a:pt x="197" y="404"/>
                  </a:lnTo>
                  <a:lnTo>
                    <a:pt x="191" y="405"/>
                  </a:lnTo>
                  <a:lnTo>
                    <a:pt x="186" y="407"/>
                  </a:lnTo>
                  <a:lnTo>
                    <a:pt x="181" y="410"/>
                  </a:lnTo>
                  <a:lnTo>
                    <a:pt x="172" y="412"/>
                  </a:lnTo>
                  <a:lnTo>
                    <a:pt x="165" y="407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3" y="381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7"/>
                  </a:lnTo>
                  <a:lnTo>
                    <a:pt x="132" y="359"/>
                  </a:lnTo>
                  <a:lnTo>
                    <a:pt x="129" y="363"/>
                  </a:lnTo>
                  <a:lnTo>
                    <a:pt x="128" y="369"/>
                  </a:lnTo>
                  <a:lnTo>
                    <a:pt x="128" y="375"/>
                  </a:lnTo>
                  <a:lnTo>
                    <a:pt x="131" y="375"/>
                  </a:lnTo>
                  <a:lnTo>
                    <a:pt x="133" y="376"/>
                  </a:lnTo>
                  <a:lnTo>
                    <a:pt x="135" y="378"/>
                  </a:lnTo>
                  <a:lnTo>
                    <a:pt x="135" y="381"/>
                  </a:lnTo>
                  <a:lnTo>
                    <a:pt x="135" y="385"/>
                  </a:lnTo>
                  <a:lnTo>
                    <a:pt x="135" y="388"/>
                  </a:lnTo>
                  <a:lnTo>
                    <a:pt x="132" y="388"/>
                  </a:lnTo>
                  <a:lnTo>
                    <a:pt x="131" y="391"/>
                  </a:lnTo>
                  <a:lnTo>
                    <a:pt x="128" y="391"/>
                  </a:lnTo>
                  <a:lnTo>
                    <a:pt x="130" y="401"/>
                  </a:lnTo>
                  <a:lnTo>
                    <a:pt x="132" y="411"/>
                  </a:lnTo>
                  <a:lnTo>
                    <a:pt x="131" y="421"/>
                  </a:lnTo>
                  <a:lnTo>
                    <a:pt x="122" y="449"/>
                  </a:lnTo>
                  <a:lnTo>
                    <a:pt x="113" y="477"/>
                  </a:lnTo>
                  <a:lnTo>
                    <a:pt x="100" y="505"/>
                  </a:lnTo>
                  <a:lnTo>
                    <a:pt x="93" y="519"/>
                  </a:lnTo>
                  <a:lnTo>
                    <a:pt x="88" y="534"/>
                  </a:lnTo>
                  <a:lnTo>
                    <a:pt x="90" y="549"/>
                  </a:lnTo>
                  <a:lnTo>
                    <a:pt x="91" y="555"/>
                  </a:lnTo>
                  <a:lnTo>
                    <a:pt x="91" y="561"/>
                  </a:lnTo>
                  <a:lnTo>
                    <a:pt x="92" y="566"/>
                  </a:lnTo>
                  <a:lnTo>
                    <a:pt x="104" y="577"/>
                  </a:lnTo>
                  <a:lnTo>
                    <a:pt x="115" y="587"/>
                  </a:lnTo>
                  <a:lnTo>
                    <a:pt x="127" y="597"/>
                  </a:lnTo>
                  <a:lnTo>
                    <a:pt x="128" y="599"/>
                  </a:lnTo>
                  <a:lnTo>
                    <a:pt x="127" y="603"/>
                  </a:lnTo>
                  <a:lnTo>
                    <a:pt x="126" y="606"/>
                  </a:lnTo>
                  <a:lnTo>
                    <a:pt x="129" y="617"/>
                  </a:lnTo>
                  <a:lnTo>
                    <a:pt x="137" y="626"/>
                  </a:lnTo>
                  <a:lnTo>
                    <a:pt x="144" y="636"/>
                  </a:lnTo>
                  <a:lnTo>
                    <a:pt x="145" y="645"/>
                  </a:lnTo>
                  <a:lnTo>
                    <a:pt x="143" y="654"/>
                  </a:lnTo>
                  <a:lnTo>
                    <a:pt x="143" y="661"/>
                  </a:lnTo>
                  <a:lnTo>
                    <a:pt x="152" y="679"/>
                  </a:lnTo>
                  <a:lnTo>
                    <a:pt x="165" y="693"/>
                  </a:lnTo>
                  <a:lnTo>
                    <a:pt x="182" y="704"/>
                  </a:lnTo>
                  <a:lnTo>
                    <a:pt x="189" y="704"/>
                  </a:lnTo>
                  <a:lnTo>
                    <a:pt x="196" y="701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3"/>
                  </a:lnTo>
                  <a:lnTo>
                    <a:pt x="214" y="722"/>
                  </a:lnTo>
                  <a:lnTo>
                    <a:pt x="222" y="722"/>
                  </a:lnTo>
                  <a:lnTo>
                    <a:pt x="227" y="725"/>
                  </a:lnTo>
                  <a:lnTo>
                    <a:pt x="230" y="732"/>
                  </a:lnTo>
                  <a:lnTo>
                    <a:pt x="229" y="735"/>
                  </a:lnTo>
                  <a:lnTo>
                    <a:pt x="227" y="735"/>
                  </a:lnTo>
                  <a:lnTo>
                    <a:pt x="226" y="735"/>
                  </a:lnTo>
                  <a:lnTo>
                    <a:pt x="224" y="735"/>
                  </a:lnTo>
                  <a:lnTo>
                    <a:pt x="222" y="744"/>
                  </a:lnTo>
                  <a:lnTo>
                    <a:pt x="216" y="749"/>
                  </a:lnTo>
                  <a:lnTo>
                    <a:pt x="207" y="751"/>
                  </a:lnTo>
                  <a:lnTo>
                    <a:pt x="207" y="748"/>
                  </a:lnTo>
                  <a:lnTo>
                    <a:pt x="206" y="746"/>
                  </a:lnTo>
                  <a:lnTo>
                    <a:pt x="204" y="745"/>
                  </a:lnTo>
                  <a:lnTo>
                    <a:pt x="196" y="749"/>
                  </a:lnTo>
                  <a:lnTo>
                    <a:pt x="194" y="757"/>
                  </a:lnTo>
                  <a:lnTo>
                    <a:pt x="188" y="760"/>
                  </a:lnTo>
                  <a:lnTo>
                    <a:pt x="183" y="758"/>
                  </a:lnTo>
                  <a:lnTo>
                    <a:pt x="179" y="754"/>
                  </a:lnTo>
                  <a:lnTo>
                    <a:pt x="175" y="751"/>
                  </a:lnTo>
                  <a:lnTo>
                    <a:pt x="179" y="731"/>
                  </a:lnTo>
                  <a:lnTo>
                    <a:pt x="165" y="717"/>
                  </a:lnTo>
                  <a:lnTo>
                    <a:pt x="145" y="709"/>
                  </a:lnTo>
                  <a:lnTo>
                    <a:pt x="141" y="709"/>
                  </a:lnTo>
                  <a:lnTo>
                    <a:pt x="138" y="710"/>
                  </a:lnTo>
                  <a:lnTo>
                    <a:pt x="136" y="713"/>
                  </a:lnTo>
                  <a:lnTo>
                    <a:pt x="130" y="7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56880" y="4541760"/>
              <a:ext cx="285840" cy="28584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18" y="119"/>
                  </a:lnTo>
                  <a:lnTo>
                    <a:pt x="23" y="140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8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7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4" y="226"/>
                  </a:lnTo>
                  <a:lnTo>
                    <a:pt x="94" y="224"/>
                  </a:lnTo>
                  <a:lnTo>
                    <a:pt x="95" y="223"/>
                  </a:lnTo>
                  <a:lnTo>
                    <a:pt x="102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7" y="203"/>
                  </a:lnTo>
                  <a:lnTo>
                    <a:pt x="137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4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2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3" y="146"/>
                  </a:lnTo>
                  <a:lnTo>
                    <a:pt x="214" y="144"/>
                  </a:lnTo>
                  <a:lnTo>
                    <a:pt x="221" y="139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59" y="119"/>
                  </a:lnTo>
                  <a:lnTo>
                    <a:pt x="271" y="97"/>
                  </a:lnTo>
                  <a:lnTo>
                    <a:pt x="268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7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5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5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7" y="43"/>
                  </a:lnTo>
                  <a:lnTo>
                    <a:pt x="171" y="36"/>
                  </a:lnTo>
                  <a:lnTo>
                    <a:pt x="166" y="28"/>
                  </a:lnTo>
                  <a:lnTo>
                    <a:pt x="158" y="29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4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8" y="20"/>
                  </a:lnTo>
                  <a:lnTo>
                    <a:pt x="8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56880" y="4541760"/>
              <a:ext cx="285840" cy="28584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0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18" y="119"/>
                  </a:lnTo>
                  <a:lnTo>
                    <a:pt x="23" y="141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9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8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5" y="227"/>
                  </a:lnTo>
                  <a:lnTo>
                    <a:pt x="95" y="224"/>
                  </a:lnTo>
                  <a:lnTo>
                    <a:pt x="95" y="223"/>
                  </a:lnTo>
                  <a:lnTo>
                    <a:pt x="103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8" y="203"/>
                  </a:lnTo>
                  <a:lnTo>
                    <a:pt x="138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5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3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4" y="146"/>
                  </a:lnTo>
                  <a:lnTo>
                    <a:pt x="214" y="144"/>
                  </a:lnTo>
                  <a:lnTo>
                    <a:pt x="221" y="140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60" y="119"/>
                  </a:lnTo>
                  <a:lnTo>
                    <a:pt x="271" y="97"/>
                  </a:lnTo>
                  <a:lnTo>
                    <a:pt x="269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6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6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4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8" y="43"/>
                  </a:lnTo>
                  <a:lnTo>
                    <a:pt x="172" y="36"/>
                  </a:lnTo>
                  <a:lnTo>
                    <a:pt x="166" y="28"/>
                  </a:lnTo>
                  <a:lnTo>
                    <a:pt x="158" y="28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18"/>
                  </a:lnTo>
                  <a:lnTo>
                    <a:pt x="78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30560" y="5034240"/>
              <a:ext cx="531720" cy="38340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7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7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6"/>
                  </a:lnTo>
                  <a:lnTo>
                    <a:pt x="80" y="270"/>
                  </a:lnTo>
                  <a:lnTo>
                    <a:pt x="84" y="264"/>
                  </a:lnTo>
                  <a:lnTo>
                    <a:pt x="84" y="254"/>
                  </a:lnTo>
                  <a:lnTo>
                    <a:pt x="88" y="254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6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8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7"/>
                  </a:lnTo>
                  <a:lnTo>
                    <a:pt x="308" y="100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0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6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7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2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1" y="21"/>
                  </a:lnTo>
                  <a:lnTo>
                    <a:pt x="405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3" y="33"/>
                  </a:lnTo>
                  <a:lnTo>
                    <a:pt x="421" y="42"/>
                  </a:lnTo>
                  <a:lnTo>
                    <a:pt x="414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2" y="54"/>
                  </a:lnTo>
                  <a:lnTo>
                    <a:pt x="415" y="53"/>
                  </a:lnTo>
                  <a:lnTo>
                    <a:pt x="420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6" y="71"/>
                  </a:lnTo>
                  <a:lnTo>
                    <a:pt x="485" y="82"/>
                  </a:lnTo>
                  <a:lnTo>
                    <a:pt x="490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99"/>
                  </a:lnTo>
                  <a:lnTo>
                    <a:pt x="473" y="104"/>
                  </a:lnTo>
                  <a:lnTo>
                    <a:pt x="466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6"/>
                  </a:lnTo>
                  <a:lnTo>
                    <a:pt x="443" y="137"/>
                  </a:lnTo>
                  <a:lnTo>
                    <a:pt x="421" y="136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6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1" y="129"/>
                  </a:lnTo>
                  <a:lnTo>
                    <a:pt x="325" y="133"/>
                  </a:lnTo>
                  <a:lnTo>
                    <a:pt x="319" y="135"/>
                  </a:lnTo>
                  <a:lnTo>
                    <a:pt x="319" y="143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6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1"/>
                  </a:lnTo>
                  <a:lnTo>
                    <a:pt x="269" y="267"/>
                  </a:lnTo>
                  <a:lnTo>
                    <a:pt x="250" y="271"/>
                  </a:lnTo>
                  <a:lnTo>
                    <a:pt x="231" y="271"/>
                  </a:lnTo>
                  <a:lnTo>
                    <a:pt x="213" y="277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79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1"/>
                  </a:lnTo>
                  <a:lnTo>
                    <a:pt x="143" y="274"/>
                  </a:lnTo>
                  <a:lnTo>
                    <a:pt x="138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4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30560" y="5034240"/>
              <a:ext cx="531720" cy="38340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8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8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7"/>
                  </a:lnTo>
                  <a:lnTo>
                    <a:pt x="80" y="271"/>
                  </a:lnTo>
                  <a:lnTo>
                    <a:pt x="85" y="264"/>
                  </a:lnTo>
                  <a:lnTo>
                    <a:pt x="84" y="254"/>
                  </a:lnTo>
                  <a:lnTo>
                    <a:pt x="88" y="255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7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9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8"/>
                  </a:lnTo>
                  <a:lnTo>
                    <a:pt x="308" y="101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1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7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8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3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2" y="21"/>
                  </a:lnTo>
                  <a:lnTo>
                    <a:pt x="406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4" y="33"/>
                  </a:lnTo>
                  <a:lnTo>
                    <a:pt x="421" y="42"/>
                  </a:lnTo>
                  <a:lnTo>
                    <a:pt x="415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3" y="54"/>
                  </a:lnTo>
                  <a:lnTo>
                    <a:pt x="415" y="53"/>
                  </a:lnTo>
                  <a:lnTo>
                    <a:pt x="421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7" y="71"/>
                  </a:lnTo>
                  <a:lnTo>
                    <a:pt x="485" y="82"/>
                  </a:lnTo>
                  <a:lnTo>
                    <a:pt x="491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100"/>
                  </a:lnTo>
                  <a:lnTo>
                    <a:pt x="473" y="105"/>
                  </a:lnTo>
                  <a:lnTo>
                    <a:pt x="467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7"/>
                  </a:lnTo>
                  <a:lnTo>
                    <a:pt x="443" y="137"/>
                  </a:lnTo>
                  <a:lnTo>
                    <a:pt x="421" y="137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7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2" y="129"/>
                  </a:lnTo>
                  <a:lnTo>
                    <a:pt x="326" y="134"/>
                  </a:lnTo>
                  <a:lnTo>
                    <a:pt x="319" y="136"/>
                  </a:lnTo>
                  <a:lnTo>
                    <a:pt x="319" y="144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7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2"/>
                  </a:lnTo>
                  <a:lnTo>
                    <a:pt x="269" y="267"/>
                  </a:lnTo>
                  <a:lnTo>
                    <a:pt x="251" y="271"/>
                  </a:lnTo>
                  <a:lnTo>
                    <a:pt x="231" y="271"/>
                  </a:lnTo>
                  <a:lnTo>
                    <a:pt x="213" y="278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80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2"/>
                  </a:lnTo>
                  <a:lnTo>
                    <a:pt x="144" y="274"/>
                  </a:lnTo>
                  <a:lnTo>
                    <a:pt x="139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5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761720" y="5856120"/>
              <a:ext cx="456480" cy="1936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0" y="62"/>
                  </a:moveTo>
                  <a:lnTo>
                    <a:pt x="337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3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4" y="94"/>
                  </a:lnTo>
                  <a:lnTo>
                    <a:pt x="420" y="98"/>
                  </a:lnTo>
                  <a:lnTo>
                    <a:pt x="419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8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4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4" y="127"/>
                  </a:lnTo>
                  <a:lnTo>
                    <a:pt x="303" y="123"/>
                  </a:lnTo>
                  <a:lnTo>
                    <a:pt x="284" y="117"/>
                  </a:lnTo>
                  <a:lnTo>
                    <a:pt x="255" y="117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2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1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43" y="67"/>
                  </a:lnTo>
                  <a:lnTo>
                    <a:pt x="21" y="66"/>
                  </a:lnTo>
                  <a:lnTo>
                    <a:pt x="0" y="55"/>
                  </a:lnTo>
                  <a:lnTo>
                    <a:pt x="6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5" y="32"/>
                  </a:lnTo>
                  <a:lnTo>
                    <a:pt x="232" y="23"/>
                  </a:lnTo>
                  <a:lnTo>
                    <a:pt x="235" y="22"/>
                  </a:lnTo>
                  <a:lnTo>
                    <a:pt x="240" y="22"/>
                  </a:lnTo>
                  <a:lnTo>
                    <a:pt x="244" y="26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4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7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91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7"/>
                  </a:lnTo>
                  <a:lnTo>
                    <a:pt x="337" y="61"/>
                  </a:lnTo>
                  <a:lnTo>
                    <a:pt x="334" y="65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0" y="6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61720" y="5856120"/>
              <a:ext cx="456480" cy="1936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1" y="62"/>
                  </a:moveTo>
                  <a:lnTo>
                    <a:pt x="338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4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5" y="94"/>
                  </a:lnTo>
                  <a:lnTo>
                    <a:pt x="420" y="98"/>
                  </a:lnTo>
                  <a:lnTo>
                    <a:pt x="420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9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5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3" y="127"/>
                  </a:lnTo>
                  <a:lnTo>
                    <a:pt x="303" y="122"/>
                  </a:lnTo>
                  <a:lnTo>
                    <a:pt x="284" y="117"/>
                  </a:lnTo>
                  <a:lnTo>
                    <a:pt x="255" y="116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1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0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43" y="67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6" y="32"/>
                  </a:lnTo>
                  <a:lnTo>
                    <a:pt x="232" y="23"/>
                  </a:lnTo>
                  <a:lnTo>
                    <a:pt x="236" y="22"/>
                  </a:lnTo>
                  <a:lnTo>
                    <a:pt x="240" y="22"/>
                  </a:lnTo>
                  <a:lnTo>
                    <a:pt x="244" y="25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5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83" y="38"/>
                  </a:lnTo>
                  <a:lnTo>
                    <a:pt x="290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6"/>
                  </a:lnTo>
                  <a:lnTo>
                    <a:pt x="337" y="61"/>
                  </a:lnTo>
                  <a:lnTo>
                    <a:pt x="334" y="64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1" y="6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0280" y="5919840"/>
              <a:ext cx="76680" cy="223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7" y="14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20280" y="5919840"/>
              <a:ext cx="76680" cy="223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4"/>
                  </a:lnTo>
                  <a:lnTo>
                    <a:pt x="47" y="15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84080" y="5696280"/>
              <a:ext cx="24840" cy="486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15"/>
                  </a:moveTo>
                  <a:lnTo>
                    <a:pt x="1" y="27"/>
                  </a:lnTo>
                  <a:lnTo>
                    <a:pt x="5" y="36"/>
                  </a:lnTo>
                  <a:lnTo>
                    <a:pt x="14" y="39"/>
                  </a:lnTo>
                  <a:lnTo>
                    <a:pt x="24" y="31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84080" y="5696280"/>
              <a:ext cx="24840" cy="486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15"/>
                  </a:moveTo>
                  <a:lnTo>
                    <a:pt x="2" y="28"/>
                  </a:lnTo>
                  <a:lnTo>
                    <a:pt x="5" y="36"/>
                  </a:lnTo>
                  <a:lnTo>
                    <a:pt x="13" y="39"/>
                  </a:lnTo>
                  <a:lnTo>
                    <a:pt x="24" y="31"/>
                  </a:lnTo>
                  <a:lnTo>
                    <a:pt x="20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20160" y="5338800"/>
              <a:ext cx="341280" cy="4982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9" y="60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1"/>
                  </a:lnTo>
                  <a:lnTo>
                    <a:pt x="318" y="0"/>
                  </a:lnTo>
                  <a:lnTo>
                    <a:pt x="323" y="5"/>
                  </a:lnTo>
                  <a:lnTo>
                    <a:pt x="324" y="13"/>
                  </a:lnTo>
                  <a:lnTo>
                    <a:pt x="321" y="19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5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3"/>
                  </a:lnTo>
                  <a:lnTo>
                    <a:pt x="301" y="74"/>
                  </a:lnTo>
                  <a:lnTo>
                    <a:pt x="296" y="85"/>
                  </a:lnTo>
                  <a:lnTo>
                    <a:pt x="293" y="88"/>
                  </a:lnTo>
                  <a:lnTo>
                    <a:pt x="289" y="90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8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2" y="94"/>
                  </a:lnTo>
                  <a:lnTo>
                    <a:pt x="146" y="89"/>
                  </a:lnTo>
                  <a:lnTo>
                    <a:pt x="121" y="86"/>
                  </a:lnTo>
                  <a:lnTo>
                    <a:pt x="97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3" y="185"/>
                  </a:lnTo>
                  <a:lnTo>
                    <a:pt x="116" y="186"/>
                  </a:lnTo>
                  <a:lnTo>
                    <a:pt x="119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1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5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6" y="212"/>
                  </a:lnTo>
                  <a:lnTo>
                    <a:pt x="155" y="227"/>
                  </a:lnTo>
                  <a:lnTo>
                    <a:pt x="175" y="240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8" y="296"/>
                  </a:lnTo>
                  <a:lnTo>
                    <a:pt x="196" y="310"/>
                  </a:lnTo>
                  <a:lnTo>
                    <a:pt x="204" y="323"/>
                  </a:lnTo>
                  <a:lnTo>
                    <a:pt x="200" y="334"/>
                  </a:lnTo>
                  <a:lnTo>
                    <a:pt x="188" y="336"/>
                  </a:lnTo>
                  <a:lnTo>
                    <a:pt x="173" y="335"/>
                  </a:lnTo>
                  <a:lnTo>
                    <a:pt x="160" y="338"/>
                  </a:lnTo>
                  <a:lnTo>
                    <a:pt x="156" y="345"/>
                  </a:lnTo>
                  <a:lnTo>
                    <a:pt x="153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4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6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1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1" y="373"/>
                  </a:lnTo>
                  <a:lnTo>
                    <a:pt x="91" y="378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8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6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4" y="228"/>
                  </a:lnTo>
                  <a:lnTo>
                    <a:pt x="24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5"/>
                  </a:lnTo>
                  <a:lnTo>
                    <a:pt x="43" y="147"/>
                  </a:lnTo>
                  <a:lnTo>
                    <a:pt x="51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60" y="100"/>
                  </a:lnTo>
                  <a:lnTo>
                    <a:pt x="60" y="95"/>
                  </a:lnTo>
                  <a:lnTo>
                    <a:pt x="56" y="9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20160" y="5338800"/>
              <a:ext cx="341280" cy="4982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8" y="61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1"/>
                  </a:lnTo>
                  <a:lnTo>
                    <a:pt x="118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2" y="5"/>
                  </a:lnTo>
                  <a:lnTo>
                    <a:pt x="324" y="13"/>
                  </a:lnTo>
                  <a:lnTo>
                    <a:pt x="320" y="20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6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4"/>
                  </a:lnTo>
                  <a:lnTo>
                    <a:pt x="301" y="74"/>
                  </a:lnTo>
                  <a:lnTo>
                    <a:pt x="296" y="86"/>
                  </a:lnTo>
                  <a:lnTo>
                    <a:pt x="293" y="88"/>
                  </a:lnTo>
                  <a:lnTo>
                    <a:pt x="288" y="91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7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1" y="94"/>
                  </a:lnTo>
                  <a:lnTo>
                    <a:pt x="146" y="90"/>
                  </a:lnTo>
                  <a:lnTo>
                    <a:pt x="121" y="86"/>
                  </a:lnTo>
                  <a:lnTo>
                    <a:pt x="96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2" y="185"/>
                  </a:lnTo>
                  <a:lnTo>
                    <a:pt x="116" y="186"/>
                  </a:lnTo>
                  <a:lnTo>
                    <a:pt x="118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2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5" y="212"/>
                  </a:lnTo>
                  <a:lnTo>
                    <a:pt x="155" y="227"/>
                  </a:lnTo>
                  <a:lnTo>
                    <a:pt x="175" y="241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7" y="297"/>
                  </a:lnTo>
                  <a:lnTo>
                    <a:pt x="196" y="310"/>
                  </a:lnTo>
                  <a:lnTo>
                    <a:pt x="204" y="324"/>
                  </a:lnTo>
                  <a:lnTo>
                    <a:pt x="200" y="334"/>
                  </a:lnTo>
                  <a:lnTo>
                    <a:pt x="187" y="336"/>
                  </a:lnTo>
                  <a:lnTo>
                    <a:pt x="173" y="335"/>
                  </a:lnTo>
                  <a:lnTo>
                    <a:pt x="160" y="339"/>
                  </a:lnTo>
                  <a:lnTo>
                    <a:pt x="156" y="345"/>
                  </a:lnTo>
                  <a:lnTo>
                    <a:pt x="152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5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7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2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0" y="374"/>
                  </a:lnTo>
                  <a:lnTo>
                    <a:pt x="91" y="379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7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7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3" y="228"/>
                  </a:lnTo>
                  <a:lnTo>
                    <a:pt x="23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6"/>
                  </a:lnTo>
                  <a:lnTo>
                    <a:pt x="43" y="148"/>
                  </a:lnTo>
                  <a:lnTo>
                    <a:pt x="50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59" y="100"/>
                  </a:lnTo>
                  <a:lnTo>
                    <a:pt x="60" y="95"/>
                  </a:lnTo>
                  <a:lnTo>
                    <a:pt x="56" y="9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16440" y="5582520"/>
              <a:ext cx="100080" cy="496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9" y="3"/>
                  </a:moveTo>
                  <a:lnTo>
                    <a:pt x="34" y="1"/>
                  </a:lnTo>
                  <a:lnTo>
                    <a:pt x="18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26" y="10"/>
                  </a:lnTo>
                  <a:lnTo>
                    <a:pt x="49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6" y="29"/>
                  </a:lnTo>
                  <a:lnTo>
                    <a:pt x="92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8" y="20"/>
                  </a:lnTo>
                  <a:lnTo>
                    <a:pt x="91" y="14"/>
                  </a:lnTo>
                  <a:lnTo>
                    <a:pt x="93" y="9"/>
                  </a:lnTo>
                  <a:lnTo>
                    <a:pt x="95" y="3"/>
                  </a:lnTo>
                  <a:lnTo>
                    <a:pt x="80" y="3"/>
                  </a:lnTo>
                  <a:lnTo>
                    <a:pt x="65" y="4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16440" y="5582520"/>
              <a:ext cx="101160" cy="496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50" y="3"/>
                  </a:moveTo>
                  <a:lnTo>
                    <a:pt x="34" y="1"/>
                  </a:lnTo>
                  <a:lnTo>
                    <a:pt x="19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3"/>
                  </a:lnTo>
                  <a:lnTo>
                    <a:pt x="27" y="10"/>
                  </a:lnTo>
                  <a:lnTo>
                    <a:pt x="50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7" y="29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2" y="14"/>
                  </a:lnTo>
                  <a:lnTo>
                    <a:pt x="94" y="9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65" y="4"/>
                  </a:lnTo>
                  <a:lnTo>
                    <a:pt x="5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58640" y="5668560"/>
              <a:ext cx="59760" cy="334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4"/>
                  </a:moveTo>
                  <a:lnTo>
                    <a:pt x="23" y="8"/>
                  </a:lnTo>
                  <a:lnTo>
                    <a:pt x="14" y="5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4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58640" y="5668560"/>
              <a:ext cx="59760" cy="334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5"/>
                  </a:moveTo>
                  <a:lnTo>
                    <a:pt x="23" y="7"/>
                  </a:lnTo>
                  <a:lnTo>
                    <a:pt x="14" y="5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3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6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17680" y="5659920"/>
              <a:ext cx="128520" cy="9612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7" y="0"/>
                  </a:moveTo>
                  <a:lnTo>
                    <a:pt x="32" y="2"/>
                  </a:lnTo>
                  <a:lnTo>
                    <a:pt x="46" y="9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5"/>
                  </a:lnTo>
                  <a:lnTo>
                    <a:pt x="89" y="20"/>
                  </a:lnTo>
                  <a:lnTo>
                    <a:pt x="99" y="31"/>
                  </a:lnTo>
                  <a:lnTo>
                    <a:pt x="112" y="37"/>
                  </a:lnTo>
                  <a:lnTo>
                    <a:pt x="113" y="51"/>
                  </a:lnTo>
                  <a:lnTo>
                    <a:pt x="120" y="63"/>
                  </a:lnTo>
                  <a:lnTo>
                    <a:pt x="122" y="77"/>
                  </a:lnTo>
                  <a:lnTo>
                    <a:pt x="101" y="61"/>
                  </a:lnTo>
                  <a:lnTo>
                    <a:pt x="79" y="47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2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30" y="44"/>
                  </a:lnTo>
                  <a:lnTo>
                    <a:pt x="26" y="41"/>
                  </a:lnTo>
                  <a:lnTo>
                    <a:pt x="24" y="37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25" y="53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0" y="19"/>
                  </a:lnTo>
                  <a:lnTo>
                    <a:pt x="15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17680" y="5661000"/>
              <a:ext cx="129600" cy="950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17" y="0"/>
                  </a:moveTo>
                  <a:lnTo>
                    <a:pt x="32" y="2"/>
                  </a:lnTo>
                  <a:lnTo>
                    <a:pt x="47" y="8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70" y="17"/>
                  </a:lnTo>
                  <a:lnTo>
                    <a:pt x="77" y="14"/>
                  </a:lnTo>
                  <a:lnTo>
                    <a:pt x="89" y="20"/>
                  </a:lnTo>
                  <a:lnTo>
                    <a:pt x="100" y="30"/>
                  </a:lnTo>
                  <a:lnTo>
                    <a:pt x="113" y="36"/>
                  </a:lnTo>
                  <a:lnTo>
                    <a:pt x="114" y="50"/>
                  </a:lnTo>
                  <a:lnTo>
                    <a:pt x="120" y="63"/>
                  </a:lnTo>
                  <a:lnTo>
                    <a:pt x="123" y="76"/>
                  </a:lnTo>
                  <a:lnTo>
                    <a:pt x="101" y="60"/>
                  </a:lnTo>
                  <a:lnTo>
                    <a:pt x="79" y="46"/>
                  </a:lnTo>
                  <a:lnTo>
                    <a:pt x="53" y="38"/>
                  </a:lnTo>
                  <a:lnTo>
                    <a:pt x="50" y="36"/>
                  </a:lnTo>
                  <a:lnTo>
                    <a:pt x="46" y="32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3"/>
                  </a:lnTo>
                  <a:lnTo>
                    <a:pt x="26" y="41"/>
                  </a:lnTo>
                  <a:lnTo>
                    <a:pt x="24" y="36"/>
                  </a:lnTo>
                  <a:lnTo>
                    <a:pt x="20" y="33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7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3" y="26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96720" y="5962320"/>
              <a:ext cx="51480" cy="183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17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796720" y="5962320"/>
              <a:ext cx="51480" cy="183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5" y="13"/>
                  </a:lnTo>
                  <a:lnTo>
                    <a:pt x="17" y="15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42640" y="6002280"/>
              <a:ext cx="238320" cy="163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0" y="3"/>
                  </a:lnTo>
                  <a:lnTo>
                    <a:pt x="153" y="8"/>
                  </a:lnTo>
                  <a:lnTo>
                    <a:pt x="146" y="15"/>
                  </a:lnTo>
                  <a:lnTo>
                    <a:pt x="139" y="23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6"/>
                  </a:lnTo>
                  <a:lnTo>
                    <a:pt x="58" y="59"/>
                  </a:lnTo>
                  <a:lnTo>
                    <a:pt x="51" y="65"/>
                  </a:lnTo>
                  <a:lnTo>
                    <a:pt x="40" y="86"/>
                  </a:lnTo>
                  <a:lnTo>
                    <a:pt x="23" y="102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8"/>
                  </a:lnTo>
                  <a:lnTo>
                    <a:pt x="189" y="26"/>
                  </a:lnTo>
                  <a:lnTo>
                    <a:pt x="207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42640" y="6002280"/>
              <a:ext cx="238320" cy="163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1" y="3"/>
                  </a:lnTo>
                  <a:lnTo>
                    <a:pt x="154" y="8"/>
                  </a:lnTo>
                  <a:lnTo>
                    <a:pt x="146" y="15"/>
                  </a:lnTo>
                  <a:lnTo>
                    <a:pt x="139" y="22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5"/>
                  </a:lnTo>
                  <a:lnTo>
                    <a:pt x="58" y="59"/>
                  </a:lnTo>
                  <a:lnTo>
                    <a:pt x="51" y="64"/>
                  </a:lnTo>
                  <a:lnTo>
                    <a:pt x="40" y="85"/>
                  </a:lnTo>
                  <a:lnTo>
                    <a:pt x="24" y="101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89" y="26"/>
                  </a:lnTo>
                  <a:lnTo>
                    <a:pt x="208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7120" y="6152040"/>
              <a:ext cx="41040" cy="198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3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8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577120" y="6152040"/>
              <a:ext cx="41040" cy="198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4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9" y="11"/>
                  </a:lnTo>
                  <a:lnTo>
                    <a:pt x="3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75560" y="59497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75560" y="59497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1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0760" y="59911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00760" y="59911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5960" y="5982120"/>
              <a:ext cx="15480" cy="8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015960" y="5982120"/>
              <a:ext cx="15480" cy="8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63400" y="5993280"/>
              <a:ext cx="15480" cy="100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5"/>
                  </a:moveTo>
                  <a:lnTo>
                    <a:pt x="7" y="5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64120" y="5993280"/>
              <a:ext cx="14760" cy="100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lnTo>
                    <a:pt x="6" y="5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71760" y="5937120"/>
              <a:ext cx="34560" cy="496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4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20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71760" y="5937120"/>
              <a:ext cx="34560" cy="496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3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19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482080" y="5987160"/>
              <a:ext cx="178200" cy="4500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482080" y="5987160"/>
              <a:ext cx="178200" cy="4500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06000" y="5982120"/>
              <a:ext cx="49320" cy="223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4"/>
                  </a:moveTo>
                  <a:lnTo>
                    <a:pt x="12" y="9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2" y="17"/>
                  </a:lnTo>
                  <a:lnTo>
                    <a:pt x="1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06000" y="5982120"/>
              <a:ext cx="49320" cy="223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3"/>
                  </a:moveTo>
                  <a:lnTo>
                    <a:pt x="11" y="8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1" y="17"/>
                  </a:lnTo>
                  <a:lnTo>
                    <a:pt x="15" y="18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433840" y="6052320"/>
              <a:ext cx="99000" cy="597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7" y="20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3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33840" y="6052320"/>
              <a:ext cx="99000" cy="597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6" y="21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2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66320" y="6117120"/>
              <a:ext cx="21240" cy="147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0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566320" y="6117120"/>
              <a:ext cx="21240" cy="147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63000" y="6007320"/>
              <a:ext cx="16920" cy="158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4" y="4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463000" y="6007320"/>
              <a:ext cx="16920" cy="172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4" y="5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4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1120" y="5985000"/>
              <a:ext cx="86040" cy="4860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79" y="25"/>
                  </a:moveTo>
                  <a:lnTo>
                    <a:pt x="66" y="11"/>
                  </a:lnTo>
                  <a:lnTo>
                    <a:pt x="48" y="8"/>
                  </a:lnTo>
                  <a:lnTo>
                    <a:pt x="31" y="5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3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4" y="30"/>
                  </a:lnTo>
                  <a:lnTo>
                    <a:pt x="6" y="32"/>
                  </a:lnTo>
                  <a:lnTo>
                    <a:pt x="10" y="38"/>
                  </a:lnTo>
                  <a:lnTo>
                    <a:pt x="17" y="39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7" y="25"/>
                  </a:lnTo>
                  <a:lnTo>
                    <a:pt x="41" y="27"/>
                  </a:lnTo>
                  <a:lnTo>
                    <a:pt x="43" y="32"/>
                  </a:lnTo>
                  <a:lnTo>
                    <a:pt x="55" y="27"/>
                  </a:lnTo>
                  <a:lnTo>
                    <a:pt x="68" y="24"/>
                  </a:lnTo>
                  <a:lnTo>
                    <a:pt x="82" y="25"/>
                  </a:lnTo>
                  <a:lnTo>
                    <a:pt x="81" y="25"/>
                  </a:lnTo>
                  <a:lnTo>
                    <a:pt x="79" y="25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1120" y="5986080"/>
              <a:ext cx="86040" cy="4752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79" y="24"/>
                  </a:moveTo>
                  <a:lnTo>
                    <a:pt x="67" y="10"/>
                  </a:lnTo>
                  <a:lnTo>
                    <a:pt x="48" y="8"/>
                  </a:lnTo>
                  <a:lnTo>
                    <a:pt x="31" y="4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4" y="29"/>
                  </a:lnTo>
                  <a:lnTo>
                    <a:pt x="6" y="31"/>
                  </a:lnTo>
                  <a:lnTo>
                    <a:pt x="10" y="37"/>
                  </a:lnTo>
                  <a:lnTo>
                    <a:pt x="17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3" y="31"/>
                  </a:lnTo>
                  <a:lnTo>
                    <a:pt x="56" y="26"/>
                  </a:lnTo>
                  <a:lnTo>
                    <a:pt x="68" y="24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0" y="24"/>
                  </a:lnTo>
                  <a:lnTo>
                    <a:pt x="79" y="2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15400" y="599832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7" y="7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40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15400" y="599832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1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39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256360" y="5994720"/>
              <a:ext cx="51480" cy="410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6" y="13"/>
                  </a:moveTo>
                  <a:lnTo>
                    <a:pt x="37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0" y="31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4" y="20"/>
                  </a:lnTo>
                  <a:lnTo>
                    <a:pt x="40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6360" y="5994720"/>
              <a:ext cx="52560" cy="4104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47" y="13"/>
                  </a:moveTo>
                  <a:lnTo>
                    <a:pt x="38" y="3"/>
                  </a:lnTo>
                  <a:lnTo>
                    <a:pt x="26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1" y="29"/>
                  </a:lnTo>
                  <a:lnTo>
                    <a:pt x="35" y="20"/>
                  </a:lnTo>
                  <a:lnTo>
                    <a:pt x="41" y="14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11000" y="6007320"/>
              <a:ext cx="55800" cy="410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3" y="10"/>
                  </a:moveTo>
                  <a:lnTo>
                    <a:pt x="37" y="3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7" y="11"/>
                  </a:lnTo>
                  <a:lnTo>
                    <a:pt x="10" y="17"/>
                  </a:lnTo>
                  <a:lnTo>
                    <a:pt x="0" y="23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19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34" y="23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53" y="11"/>
                  </a:lnTo>
                  <a:lnTo>
                    <a:pt x="48" y="7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3" y="7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37640" y="60073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lnTo>
                    <a:pt x="12" y="3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11000" y="6008400"/>
              <a:ext cx="26280" cy="273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8" y="9"/>
                  </a:lnTo>
                  <a:lnTo>
                    <a:pt x="10" y="16"/>
                  </a:lnTo>
                  <a:lnTo>
                    <a:pt x="0" y="2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11000" y="6035760"/>
              <a:ext cx="17640" cy="122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4" y="5"/>
                  </a:lnTo>
                  <a:lnTo>
                    <a:pt x="10" y="9"/>
                  </a:lnTo>
                  <a:lnTo>
                    <a:pt x="17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229000" y="6037200"/>
              <a:ext cx="6120" cy="10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3" y="6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35480" y="6026040"/>
              <a:ext cx="30600" cy="1116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9"/>
                  </a:moveTo>
                  <a:lnTo>
                    <a:pt x="11" y="9"/>
                  </a:lnTo>
                  <a:lnTo>
                    <a:pt x="20" y="5"/>
                  </a:lnTo>
                  <a:lnTo>
                    <a:pt x="2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56360" y="6010920"/>
              <a:ext cx="10440" cy="14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2"/>
                  </a:move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245920" y="6010920"/>
              <a:ext cx="10440" cy="50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01040" y="5195160"/>
              <a:ext cx="514440" cy="552960"/>
            </a:xfrm>
            <a:custGeom>
              <a:avLst/>
              <a:gdLst/>
              <a:ahLst/>
              <a:rect l="l" t="t" r="r" b="b"/>
              <a:pathLst>
                <a:path w="488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2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8" y="373"/>
                  </a:lnTo>
                  <a:lnTo>
                    <a:pt x="151" y="382"/>
                  </a:lnTo>
                  <a:lnTo>
                    <a:pt x="147" y="392"/>
                  </a:lnTo>
                  <a:lnTo>
                    <a:pt x="145" y="403"/>
                  </a:lnTo>
                  <a:lnTo>
                    <a:pt x="147" y="405"/>
                  </a:lnTo>
                  <a:lnTo>
                    <a:pt x="149" y="407"/>
                  </a:lnTo>
                  <a:lnTo>
                    <a:pt x="151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8" y="391"/>
                  </a:lnTo>
                  <a:lnTo>
                    <a:pt x="182" y="388"/>
                  </a:lnTo>
                  <a:lnTo>
                    <a:pt x="187" y="385"/>
                  </a:lnTo>
                  <a:lnTo>
                    <a:pt x="194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4" y="376"/>
                  </a:lnTo>
                  <a:lnTo>
                    <a:pt x="221" y="374"/>
                  </a:lnTo>
                  <a:lnTo>
                    <a:pt x="223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1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6" y="393"/>
                  </a:lnTo>
                  <a:lnTo>
                    <a:pt x="237" y="399"/>
                  </a:lnTo>
                  <a:lnTo>
                    <a:pt x="254" y="395"/>
                  </a:lnTo>
                  <a:lnTo>
                    <a:pt x="270" y="394"/>
                  </a:lnTo>
                  <a:lnTo>
                    <a:pt x="287" y="393"/>
                  </a:lnTo>
                  <a:lnTo>
                    <a:pt x="287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4" y="441"/>
                  </a:lnTo>
                  <a:lnTo>
                    <a:pt x="300" y="438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5" y="429"/>
                  </a:lnTo>
                  <a:lnTo>
                    <a:pt x="336" y="425"/>
                  </a:lnTo>
                  <a:lnTo>
                    <a:pt x="347" y="418"/>
                  </a:lnTo>
                  <a:lnTo>
                    <a:pt x="356" y="410"/>
                  </a:lnTo>
                  <a:lnTo>
                    <a:pt x="365" y="401"/>
                  </a:lnTo>
                  <a:lnTo>
                    <a:pt x="367" y="394"/>
                  </a:lnTo>
                  <a:lnTo>
                    <a:pt x="366" y="385"/>
                  </a:lnTo>
                  <a:lnTo>
                    <a:pt x="368" y="377"/>
                  </a:lnTo>
                  <a:lnTo>
                    <a:pt x="372" y="374"/>
                  </a:lnTo>
                  <a:lnTo>
                    <a:pt x="378" y="370"/>
                  </a:lnTo>
                  <a:lnTo>
                    <a:pt x="381" y="367"/>
                  </a:lnTo>
                  <a:lnTo>
                    <a:pt x="382" y="351"/>
                  </a:lnTo>
                  <a:lnTo>
                    <a:pt x="389" y="340"/>
                  </a:lnTo>
                  <a:lnTo>
                    <a:pt x="396" y="327"/>
                  </a:lnTo>
                  <a:lnTo>
                    <a:pt x="392" y="327"/>
                  </a:lnTo>
                  <a:lnTo>
                    <a:pt x="389" y="325"/>
                  </a:lnTo>
                  <a:lnTo>
                    <a:pt x="387" y="324"/>
                  </a:lnTo>
                  <a:lnTo>
                    <a:pt x="387" y="318"/>
                  </a:lnTo>
                  <a:lnTo>
                    <a:pt x="386" y="312"/>
                  </a:lnTo>
                  <a:lnTo>
                    <a:pt x="383" y="307"/>
                  </a:lnTo>
                  <a:lnTo>
                    <a:pt x="393" y="299"/>
                  </a:lnTo>
                  <a:lnTo>
                    <a:pt x="402" y="289"/>
                  </a:lnTo>
                  <a:lnTo>
                    <a:pt x="411" y="278"/>
                  </a:lnTo>
                  <a:lnTo>
                    <a:pt x="418" y="274"/>
                  </a:lnTo>
                  <a:lnTo>
                    <a:pt x="427" y="272"/>
                  </a:lnTo>
                  <a:lnTo>
                    <a:pt x="435" y="267"/>
                  </a:lnTo>
                  <a:lnTo>
                    <a:pt x="439" y="261"/>
                  </a:lnTo>
                  <a:lnTo>
                    <a:pt x="445" y="257"/>
                  </a:lnTo>
                  <a:lnTo>
                    <a:pt x="445" y="252"/>
                  </a:lnTo>
                  <a:lnTo>
                    <a:pt x="436" y="237"/>
                  </a:lnTo>
                  <a:lnTo>
                    <a:pt x="434" y="221"/>
                  </a:lnTo>
                  <a:lnTo>
                    <a:pt x="432" y="205"/>
                  </a:lnTo>
                  <a:lnTo>
                    <a:pt x="441" y="202"/>
                  </a:lnTo>
                  <a:lnTo>
                    <a:pt x="442" y="197"/>
                  </a:lnTo>
                  <a:lnTo>
                    <a:pt x="446" y="186"/>
                  </a:lnTo>
                  <a:lnTo>
                    <a:pt x="449" y="164"/>
                  </a:lnTo>
                  <a:lnTo>
                    <a:pt x="447" y="141"/>
                  </a:lnTo>
                  <a:lnTo>
                    <a:pt x="457" y="120"/>
                  </a:lnTo>
                  <a:lnTo>
                    <a:pt x="468" y="119"/>
                  </a:lnTo>
                  <a:lnTo>
                    <a:pt x="481" y="121"/>
                  </a:lnTo>
                  <a:lnTo>
                    <a:pt x="488" y="118"/>
                  </a:lnTo>
                  <a:lnTo>
                    <a:pt x="483" y="106"/>
                  </a:lnTo>
                  <a:lnTo>
                    <a:pt x="467" y="99"/>
                  </a:lnTo>
                  <a:lnTo>
                    <a:pt x="452" y="89"/>
                  </a:lnTo>
                  <a:lnTo>
                    <a:pt x="456" y="85"/>
                  </a:lnTo>
                  <a:lnTo>
                    <a:pt x="458" y="80"/>
                  </a:lnTo>
                  <a:lnTo>
                    <a:pt x="462" y="76"/>
                  </a:lnTo>
                  <a:lnTo>
                    <a:pt x="456" y="75"/>
                  </a:lnTo>
                  <a:lnTo>
                    <a:pt x="451" y="72"/>
                  </a:lnTo>
                  <a:lnTo>
                    <a:pt x="447" y="68"/>
                  </a:lnTo>
                  <a:lnTo>
                    <a:pt x="438" y="62"/>
                  </a:lnTo>
                  <a:lnTo>
                    <a:pt x="431" y="54"/>
                  </a:lnTo>
                  <a:lnTo>
                    <a:pt x="428" y="46"/>
                  </a:lnTo>
                  <a:lnTo>
                    <a:pt x="433" y="38"/>
                  </a:lnTo>
                  <a:lnTo>
                    <a:pt x="445" y="37"/>
                  </a:lnTo>
                  <a:lnTo>
                    <a:pt x="458" y="34"/>
                  </a:lnTo>
                  <a:lnTo>
                    <a:pt x="457" y="32"/>
                  </a:lnTo>
                  <a:lnTo>
                    <a:pt x="453" y="30"/>
                  </a:lnTo>
                  <a:lnTo>
                    <a:pt x="449" y="27"/>
                  </a:lnTo>
                  <a:lnTo>
                    <a:pt x="451" y="24"/>
                  </a:lnTo>
                  <a:lnTo>
                    <a:pt x="453" y="22"/>
                  </a:lnTo>
                  <a:lnTo>
                    <a:pt x="455" y="21"/>
                  </a:lnTo>
                  <a:lnTo>
                    <a:pt x="443" y="10"/>
                  </a:lnTo>
                  <a:lnTo>
                    <a:pt x="427" y="6"/>
                  </a:lnTo>
                  <a:lnTo>
                    <a:pt x="412" y="2"/>
                  </a:lnTo>
                  <a:lnTo>
                    <a:pt x="398" y="1"/>
                  </a:lnTo>
                  <a:lnTo>
                    <a:pt x="382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7" y="7"/>
                  </a:lnTo>
                  <a:lnTo>
                    <a:pt x="346" y="15"/>
                  </a:lnTo>
                  <a:lnTo>
                    <a:pt x="343" y="22"/>
                  </a:lnTo>
                  <a:lnTo>
                    <a:pt x="338" y="28"/>
                  </a:lnTo>
                  <a:lnTo>
                    <a:pt x="338" y="33"/>
                  </a:lnTo>
                  <a:lnTo>
                    <a:pt x="342" y="39"/>
                  </a:lnTo>
                  <a:lnTo>
                    <a:pt x="343" y="46"/>
                  </a:lnTo>
                  <a:lnTo>
                    <a:pt x="339" y="49"/>
                  </a:lnTo>
                  <a:lnTo>
                    <a:pt x="334" y="49"/>
                  </a:lnTo>
                  <a:lnTo>
                    <a:pt x="331" y="50"/>
                  </a:lnTo>
                  <a:lnTo>
                    <a:pt x="329" y="57"/>
                  </a:lnTo>
                  <a:lnTo>
                    <a:pt x="331" y="64"/>
                  </a:lnTo>
                  <a:lnTo>
                    <a:pt x="332" y="72"/>
                  </a:lnTo>
                  <a:lnTo>
                    <a:pt x="328" y="75"/>
                  </a:lnTo>
                  <a:lnTo>
                    <a:pt x="323" y="76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4" y="91"/>
                  </a:lnTo>
                  <a:lnTo>
                    <a:pt x="317" y="99"/>
                  </a:lnTo>
                  <a:lnTo>
                    <a:pt x="309" y="104"/>
                  </a:lnTo>
                  <a:lnTo>
                    <a:pt x="304" y="111"/>
                  </a:lnTo>
                  <a:lnTo>
                    <a:pt x="301" y="119"/>
                  </a:lnTo>
                  <a:lnTo>
                    <a:pt x="300" y="126"/>
                  </a:lnTo>
                  <a:lnTo>
                    <a:pt x="300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9" y="142"/>
                  </a:lnTo>
                  <a:lnTo>
                    <a:pt x="241" y="149"/>
                  </a:lnTo>
                  <a:lnTo>
                    <a:pt x="245" y="151"/>
                  </a:lnTo>
                  <a:lnTo>
                    <a:pt x="247" y="156"/>
                  </a:lnTo>
                  <a:lnTo>
                    <a:pt x="250" y="160"/>
                  </a:lnTo>
                  <a:lnTo>
                    <a:pt x="250" y="161"/>
                  </a:lnTo>
                  <a:lnTo>
                    <a:pt x="246" y="162"/>
                  </a:lnTo>
                  <a:lnTo>
                    <a:pt x="244" y="165"/>
                  </a:lnTo>
                  <a:lnTo>
                    <a:pt x="220" y="151"/>
                  </a:lnTo>
                  <a:lnTo>
                    <a:pt x="196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8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3"/>
                  </a:lnTo>
                  <a:lnTo>
                    <a:pt x="98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14" y="140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9" y="161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3" y="185"/>
                  </a:lnTo>
                  <a:lnTo>
                    <a:pt x="0" y="188"/>
                  </a:lnTo>
                  <a:lnTo>
                    <a:pt x="10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3"/>
                  </a:lnTo>
                  <a:lnTo>
                    <a:pt x="23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7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29"/>
                  </a:lnTo>
                  <a:lnTo>
                    <a:pt x="71" y="334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6" y="367"/>
                  </a:lnTo>
                  <a:lnTo>
                    <a:pt x="139" y="364"/>
                  </a:lnTo>
                  <a:lnTo>
                    <a:pt x="140" y="365"/>
                  </a:lnTo>
                  <a:lnTo>
                    <a:pt x="141" y="367"/>
                  </a:lnTo>
                  <a:lnTo>
                    <a:pt x="143" y="369"/>
                  </a:lnTo>
                  <a:lnTo>
                    <a:pt x="144" y="370"/>
                  </a:lnTo>
                  <a:lnTo>
                    <a:pt x="145" y="369"/>
                  </a:lnTo>
                  <a:lnTo>
                    <a:pt x="145" y="36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02120" y="5195160"/>
              <a:ext cx="513720" cy="552960"/>
            </a:xfrm>
            <a:custGeom>
              <a:avLst/>
              <a:gdLst/>
              <a:ahLst/>
              <a:rect l="l" t="t" r="r" b="b"/>
              <a:pathLst>
                <a:path w="487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1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7" y="373"/>
                  </a:lnTo>
                  <a:lnTo>
                    <a:pt x="151" y="383"/>
                  </a:lnTo>
                  <a:lnTo>
                    <a:pt x="147" y="393"/>
                  </a:lnTo>
                  <a:lnTo>
                    <a:pt x="145" y="403"/>
                  </a:lnTo>
                  <a:lnTo>
                    <a:pt x="146" y="405"/>
                  </a:lnTo>
                  <a:lnTo>
                    <a:pt x="149" y="407"/>
                  </a:lnTo>
                  <a:lnTo>
                    <a:pt x="150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82" y="388"/>
                  </a:lnTo>
                  <a:lnTo>
                    <a:pt x="186" y="385"/>
                  </a:lnTo>
                  <a:lnTo>
                    <a:pt x="193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3" y="376"/>
                  </a:lnTo>
                  <a:lnTo>
                    <a:pt x="221" y="374"/>
                  </a:lnTo>
                  <a:lnTo>
                    <a:pt x="222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0" y="380"/>
                  </a:lnTo>
                  <a:lnTo>
                    <a:pt x="234" y="380"/>
                  </a:lnTo>
                  <a:lnTo>
                    <a:pt x="233" y="387"/>
                  </a:lnTo>
                  <a:lnTo>
                    <a:pt x="236" y="393"/>
                  </a:lnTo>
                  <a:lnTo>
                    <a:pt x="237" y="400"/>
                  </a:lnTo>
                  <a:lnTo>
                    <a:pt x="253" y="396"/>
                  </a:lnTo>
                  <a:lnTo>
                    <a:pt x="270" y="394"/>
                  </a:lnTo>
                  <a:lnTo>
                    <a:pt x="286" y="393"/>
                  </a:lnTo>
                  <a:lnTo>
                    <a:pt x="286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3" y="442"/>
                  </a:lnTo>
                  <a:lnTo>
                    <a:pt x="299" y="439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4" y="429"/>
                  </a:lnTo>
                  <a:lnTo>
                    <a:pt x="336" y="425"/>
                  </a:lnTo>
                  <a:lnTo>
                    <a:pt x="346" y="418"/>
                  </a:lnTo>
                  <a:lnTo>
                    <a:pt x="356" y="410"/>
                  </a:lnTo>
                  <a:lnTo>
                    <a:pt x="364" y="402"/>
                  </a:lnTo>
                  <a:lnTo>
                    <a:pt x="366" y="395"/>
                  </a:lnTo>
                  <a:lnTo>
                    <a:pt x="365" y="385"/>
                  </a:lnTo>
                  <a:lnTo>
                    <a:pt x="367" y="377"/>
                  </a:lnTo>
                  <a:lnTo>
                    <a:pt x="372" y="374"/>
                  </a:lnTo>
                  <a:lnTo>
                    <a:pt x="377" y="370"/>
                  </a:lnTo>
                  <a:lnTo>
                    <a:pt x="380" y="367"/>
                  </a:lnTo>
                  <a:lnTo>
                    <a:pt x="382" y="352"/>
                  </a:lnTo>
                  <a:lnTo>
                    <a:pt x="388" y="340"/>
                  </a:lnTo>
                  <a:lnTo>
                    <a:pt x="395" y="327"/>
                  </a:lnTo>
                  <a:lnTo>
                    <a:pt x="391" y="327"/>
                  </a:lnTo>
                  <a:lnTo>
                    <a:pt x="388" y="325"/>
                  </a:lnTo>
                  <a:lnTo>
                    <a:pt x="386" y="324"/>
                  </a:lnTo>
                  <a:lnTo>
                    <a:pt x="386" y="318"/>
                  </a:lnTo>
                  <a:lnTo>
                    <a:pt x="385" y="312"/>
                  </a:lnTo>
                  <a:lnTo>
                    <a:pt x="382" y="308"/>
                  </a:lnTo>
                  <a:lnTo>
                    <a:pt x="392" y="299"/>
                  </a:lnTo>
                  <a:lnTo>
                    <a:pt x="402" y="290"/>
                  </a:lnTo>
                  <a:lnTo>
                    <a:pt x="410" y="278"/>
                  </a:lnTo>
                  <a:lnTo>
                    <a:pt x="417" y="274"/>
                  </a:lnTo>
                  <a:lnTo>
                    <a:pt x="426" y="272"/>
                  </a:lnTo>
                  <a:lnTo>
                    <a:pt x="434" y="267"/>
                  </a:lnTo>
                  <a:lnTo>
                    <a:pt x="438" y="262"/>
                  </a:lnTo>
                  <a:lnTo>
                    <a:pt x="444" y="257"/>
                  </a:lnTo>
                  <a:lnTo>
                    <a:pt x="444" y="252"/>
                  </a:lnTo>
                  <a:lnTo>
                    <a:pt x="435" y="237"/>
                  </a:lnTo>
                  <a:lnTo>
                    <a:pt x="433" y="221"/>
                  </a:lnTo>
                  <a:lnTo>
                    <a:pt x="431" y="205"/>
                  </a:lnTo>
                  <a:lnTo>
                    <a:pt x="440" y="202"/>
                  </a:lnTo>
                  <a:lnTo>
                    <a:pt x="442" y="196"/>
                  </a:lnTo>
                  <a:lnTo>
                    <a:pt x="445" y="187"/>
                  </a:lnTo>
                  <a:lnTo>
                    <a:pt x="448" y="164"/>
                  </a:lnTo>
                  <a:lnTo>
                    <a:pt x="447" y="141"/>
                  </a:lnTo>
                  <a:lnTo>
                    <a:pt x="456" y="120"/>
                  </a:lnTo>
                  <a:lnTo>
                    <a:pt x="467" y="118"/>
                  </a:lnTo>
                  <a:lnTo>
                    <a:pt x="480" y="121"/>
                  </a:lnTo>
                  <a:lnTo>
                    <a:pt x="487" y="118"/>
                  </a:lnTo>
                  <a:lnTo>
                    <a:pt x="482" y="106"/>
                  </a:lnTo>
                  <a:lnTo>
                    <a:pt x="466" y="99"/>
                  </a:lnTo>
                  <a:lnTo>
                    <a:pt x="451" y="89"/>
                  </a:lnTo>
                  <a:lnTo>
                    <a:pt x="455" y="85"/>
                  </a:lnTo>
                  <a:lnTo>
                    <a:pt x="458" y="80"/>
                  </a:lnTo>
                  <a:lnTo>
                    <a:pt x="461" y="76"/>
                  </a:lnTo>
                  <a:lnTo>
                    <a:pt x="455" y="75"/>
                  </a:lnTo>
                  <a:lnTo>
                    <a:pt x="450" y="71"/>
                  </a:lnTo>
                  <a:lnTo>
                    <a:pt x="446" y="68"/>
                  </a:lnTo>
                  <a:lnTo>
                    <a:pt x="437" y="61"/>
                  </a:lnTo>
                  <a:lnTo>
                    <a:pt x="430" y="54"/>
                  </a:lnTo>
                  <a:lnTo>
                    <a:pt x="427" y="46"/>
                  </a:lnTo>
                  <a:lnTo>
                    <a:pt x="432" y="38"/>
                  </a:lnTo>
                  <a:lnTo>
                    <a:pt x="445" y="37"/>
                  </a:lnTo>
                  <a:lnTo>
                    <a:pt x="457" y="34"/>
                  </a:lnTo>
                  <a:lnTo>
                    <a:pt x="457" y="32"/>
                  </a:lnTo>
                  <a:lnTo>
                    <a:pt x="452" y="30"/>
                  </a:lnTo>
                  <a:lnTo>
                    <a:pt x="449" y="26"/>
                  </a:lnTo>
                  <a:lnTo>
                    <a:pt x="450" y="24"/>
                  </a:lnTo>
                  <a:lnTo>
                    <a:pt x="453" y="22"/>
                  </a:lnTo>
                  <a:lnTo>
                    <a:pt x="454" y="20"/>
                  </a:lnTo>
                  <a:lnTo>
                    <a:pt x="442" y="10"/>
                  </a:lnTo>
                  <a:lnTo>
                    <a:pt x="426" y="6"/>
                  </a:lnTo>
                  <a:lnTo>
                    <a:pt x="411" y="2"/>
                  </a:lnTo>
                  <a:lnTo>
                    <a:pt x="397" y="1"/>
                  </a:lnTo>
                  <a:lnTo>
                    <a:pt x="381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6" y="7"/>
                  </a:lnTo>
                  <a:lnTo>
                    <a:pt x="346" y="15"/>
                  </a:lnTo>
                  <a:lnTo>
                    <a:pt x="342" y="21"/>
                  </a:lnTo>
                  <a:lnTo>
                    <a:pt x="337" y="28"/>
                  </a:lnTo>
                  <a:lnTo>
                    <a:pt x="337" y="32"/>
                  </a:lnTo>
                  <a:lnTo>
                    <a:pt x="342" y="39"/>
                  </a:lnTo>
                  <a:lnTo>
                    <a:pt x="342" y="46"/>
                  </a:lnTo>
                  <a:lnTo>
                    <a:pt x="338" y="49"/>
                  </a:lnTo>
                  <a:lnTo>
                    <a:pt x="334" y="49"/>
                  </a:lnTo>
                  <a:lnTo>
                    <a:pt x="330" y="50"/>
                  </a:lnTo>
                  <a:lnTo>
                    <a:pt x="328" y="57"/>
                  </a:lnTo>
                  <a:lnTo>
                    <a:pt x="330" y="64"/>
                  </a:lnTo>
                  <a:lnTo>
                    <a:pt x="331" y="72"/>
                  </a:lnTo>
                  <a:lnTo>
                    <a:pt x="328" y="75"/>
                  </a:lnTo>
                  <a:lnTo>
                    <a:pt x="322" y="75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3" y="91"/>
                  </a:lnTo>
                  <a:lnTo>
                    <a:pt x="316" y="99"/>
                  </a:lnTo>
                  <a:lnTo>
                    <a:pt x="308" y="104"/>
                  </a:lnTo>
                  <a:lnTo>
                    <a:pt x="304" y="111"/>
                  </a:lnTo>
                  <a:lnTo>
                    <a:pt x="300" y="119"/>
                  </a:lnTo>
                  <a:lnTo>
                    <a:pt x="300" y="126"/>
                  </a:lnTo>
                  <a:lnTo>
                    <a:pt x="299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8" y="142"/>
                  </a:lnTo>
                  <a:lnTo>
                    <a:pt x="241" y="149"/>
                  </a:lnTo>
                  <a:lnTo>
                    <a:pt x="244" y="151"/>
                  </a:lnTo>
                  <a:lnTo>
                    <a:pt x="246" y="155"/>
                  </a:lnTo>
                  <a:lnTo>
                    <a:pt x="249" y="159"/>
                  </a:lnTo>
                  <a:lnTo>
                    <a:pt x="249" y="161"/>
                  </a:lnTo>
                  <a:lnTo>
                    <a:pt x="245" y="162"/>
                  </a:lnTo>
                  <a:lnTo>
                    <a:pt x="243" y="165"/>
                  </a:lnTo>
                  <a:lnTo>
                    <a:pt x="220" y="151"/>
                  </a:lnTo>
                  <a:lnTo>
                    <a:pt x="195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7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2"/>
                  </a:lnTo>
                  <a:lnTo>
                    <a:pt x="97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8" y="137"/>
                  </a:lnTo>
                  <a:lnTo>
                    <a:pt x="13" y="140"/>
                  </a:lnTo>
                  <a:lnTo>
                    <a:pt x="12" y="142"/>
                  </a:lnTo>
                  <a:lnTo>
                    <a:pt x="12" y="147"/>
                  </a:lnTo>
                  <a:lnTo>
                    <a:pt x="16" y="152"/>
                  </a:lnTo>
                  <a:lnTo>
                    <a:pt x="8" y="160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2" y="185"/>
                  </a:lnTo>
                  <a:lnTo>
                    <a:pt x="0" y="188"/>
                  </a:lnTo>
                  <a:lnTo>
                    <a:pt x="9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4"/>
                  </a:lnTo>
                  <a:lnTo>
                    <a:pt x="22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30"/>
                  </a:lnTo>
                  <a:lnTo>
                    <a:pt x="71" y="335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5" y="367"/>
                  </a:lnTo>
                  <a:lnTo>
                    <a:pt x="139" y="364"/>
                  </a:lnTo>
                  <a:lnTo>
                    <a:pt x="139" y="365"/>
                  </a:lnTo>
                  <a:lnTo>
                    <a:pt x="141" y="367"/>
                  </a:lnTo>
                  <a:lnTo>
                    <a:pt x="142" y="369"/>
                  </a:lnTo>
                  <a:lnTo>
                    <a:pt x="143" y="370"/>
                  </a:lnTo>
                  <a:lnTo>
                    <a:pt x="145" y="369"/>
                  </a:lnTo>
                  <a:lnTo>
                    <a:pt x="145" y="36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75280" y="5120280"/>
              <a:ext cx="596880" cy="73440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6" y="25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99"/>
                  </a:lnTo>
                  <a:lnTo>
                    <a:pt x="114" y="134"/>
                  </a:lnTo>
                  <a:lnTo>
                    <a:pt x="136" y="172"/>
                  </a:lnTo>
                  <a:lnTo>
                    <a:pt x="172" y="190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60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7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3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5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2"/>
                  </a:lnTo>
                  <a:lnTo>
                    <a:pt x="537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5"/>
                  </a:lnTo>
                  <a:lnTo>
                    <a:pt x="545" y="487"/>
                  </a:lnTo>
                  <a:lnTo>
                    <a:pt x="545" y="480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60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6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4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4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0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6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1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6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0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4"/>
                  </a:lnTo>
                  <a:lnTo>
                    <a:pt x="295" y="192"/>
                  </a:lnTo>
                  <a:lnTo>
                    <a:pt x="270" y="177"/>
                  </a:lnTo>
                  <a:lnTo>
                    <a:pt x="251" y="155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3"/>
                  </a:lnTo>
                  <a:lnTo>
                    <a:pt x="231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5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1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175280" y="5120280"/>
              <a:ext cx="596880" cy="73440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100"/>
                  </a:lnTo>
                  <a:lnTo>
                    <a:pt x="114" y="134"/>
                  </a:lnTo>
                  <a:lnTo>
                    <a:pt x="137" y="172"/>
                  </a:lnTo>
                  <a:lnTo>
                    <a:pt x="172" y="191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59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6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4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4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1"/>
                  </a:lnTo>
                  <a:lnTo>
                    <a:pt x="538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4"/>
                  </a:lnTo>
                  <a:lnTo>
                    <a:pt x="545" y="487"/>
                  </a:lnTo>
                  <a:lnTo>
                    <a:pt x="545" y="479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59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5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3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5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1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7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2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7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1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5"/>
                  </a:lnTo>
                  <a:lnTo>
                    <a:pt x="295" y="192"/>
                  </a:lnTo>
                  <a:lnTo>
                    <a:pt x="271" y="177"/>
                  </a:lnTo>
                  <a:lnTo>
                    <a:pt x="251" y="156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6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2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40960" y="5051520"/>
              <a:ext cx="240480" cy="34488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225" y="257"/>
                  </a:moveTo>
                  <a:lnTo>
                    <a:pt x="228" y="264"/>
                  </a:lnTo>
                  <a:lnTo>
                    <a:pt x="227" y="271"/>
                  </a:lnTo>
                  <a:lnTo>
                    <a:pt x="223" y="275"/>
                  </a:lnTo>
                  <a:lnTo>
                    <a:pt x="215" y="276"/>
                  </a:lnTo>
                  <a:lnTo>
                    <a:pt x="210" y="266"/>
                  </a:lnTo>
                  <a:lnTo>
                    <a:pt x="202" y="263"/>
                  </a:lnTo>
                  <a:lnTo>
                    <a:pt x="194" y="268"/>
                  </a:lnTo>
                  <a:lnTo>
                    <a:pt x="185" y="273"/>
                  </a:lnTo>
                  <a:lnTo>
                    <a:pt x="177" y="272"/>
                  </a:lnTo>
                  <a:lnTo>
                    <a:pt x="139" y="248"/>
                  </a:lnTo>
                  <a:lnTo>
                    <a:pt x="101" y="227"/>
                  </a:lnTo>
                  <a:lnTo>
                    <a:pt x="68" y="199"/>
                  </a:lnTo>
                  <a:lnTo>
                    <a:pt x="64" y="192"/>
                  </a:lnTo>
                  <a:lnTo>
                    <a:pt x="61" y="184"/>
                  </a:lnTo>
                  <a:lnTo>
                    <a:pt x="58" y="175"/>
                  </a:lnTo>
                  <a:lnTo>
                    <a:pt x="50" y="162"/>
                  </a:lnTo>
                  <a:lnTo>
                    <a:pt x="39" y="151"/>
                  </a:lnTo>
                  <a:lnTo>
                    <a:pt x="30" y="138"/>
                  </a:lnTo>
                  <a:lnTo>
                    <a:pt x="27" y="119"/>
                  </a:lnTo>
                  <a:lnTo>
                    <a:pt x="25" y="100"/>
                  </a:lnTo>
                  <a:lnTo>
                    <a:pt x="19" y="82"/>
                  </a:lnTo>
                  <a:lnTo>
                    <a:pt x="15" y="77"/>
                  </a:lnTo>
                  <a:lnTo>
                    <a:pt x="11" y="72"/>
                  </a:lnTo>
                  <a:lnTo>
                    <a:pt x="8" y="68"/>
                  </a:lnTo>
                  <a:lnTo>
                    <a:pt x="7" y="59"/>
                  </a:lnTo>
                  <a:lnTo>
                    <a:pt x="10" y="49"/>
                  </a:lnTo>
                  <a:lnTo>
                    <a:pt x="9" y="39"/>
                  </a:lnTo>
                  <a:lnTo>
                    <a:pt x="5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47" y="21"/>
                  </a:lnTo>
                  <a:lnTo>
                    <a:pt x="43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5" y="37"/>
                  </a:lnTo>
                  <a:lnTo>
                    <a:pt x="76" y="39"/>
                  </a:lnTo>
                  <a:lnTo>
                    <a:pt x="76" y="42"/>
                  </a:lnTo>
                  <a:lnTo>
                    <a:pt x="85" y="39"/>
                  </a:lnTo>
                  <a:lnTo>
                    <a:pt x="91" y="35"/>
                  </a:lnTo>
                  <a:lnTo>
                    <a:pt x="93" y="26"/>
                  </a:lnTo>
                  <a:lnTo>
                    <a:pt x="105" y="27"/>
                  </a:lnTo>
                  <a:lnTo>
                    <a:pt x="116" y="33"/>
                  </a:lnTo>
                  <a:lnTo>
                    <a:pt x="125" y="44"/>
                  </a:lnTo>
                  <a:lnTo>
                    <a:pt x="139" y="58"/>
                  </a:lnTo>
                  <a:lnTo>
                    <a:pt x="156" y="70"/>
                  </a:lnTo>
                  <a:lnTo>
                    <a:pt x="166" y="86"/>
                  </a:lnTo>
                  <a:lnTo>
                    <a:pt x="168" y="116"/>
                  </a:lnTo>
                  <a:lnTo>
                    <a:pt x="165" y="147"/>
                  </a:lnTo>
                  <a:lnTo>
                    <a:pt x="167" y="177"/>
                  </a:lnTo>
                  <a:lnTo>
                    <a:pt x="179" y="201"/>
                  </a:lnTo>
                  <a:lnTo>
                    <a:pt x="196" y="223"/>
                  </a:lnTo>
                  <a:lnTo>
                    <a:pt x="208" y="247"/>
                  </a:lnTo>
                  <a:lnTo>
                    <a:pt x="206" y="250"/>
                  </a:lnTo>
                  <a:lnTo>
                    <a:pt x="203" y="253"/>
                  </a:lnTo>
                  <a:lnTo>
                    <a:pt x="201" y="257"/>
                  </a:lnTo>
                  <a:lnTo>
                    <a:pt x="225" y="25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77480" y="5372640"/>
              <a:ext cx="3960" cy="223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1" y="0"/>
                  </a:moveTo>
                  <a:lnTo>
                    <a:pt x="4" y="7"/>
                  </a:lnTo>
                  <a:lnTo>
                    <a:pt x="3" y="13"/>
                  </a:lnTo>
                  <a:lnTo>
                    <a:pt x="0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55160" y="5378760"/>
              <a:ext cx="21960" cy="172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2" y="14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27800" y="5378760"/>
              <a:ext cx="27000" cy="122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17" y="5"/>
                  </a:lnTo>
                  <a:lnTo>
                    <a:pt x="8" y="10"/>
                  </a:lnTo>
                  <a:lnTo>
                    <a:pt x="0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14040" y="5300280"/>
              <a:ext cx="113760" cy="8964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108" y="72"/>
                  </a:moveTo>
                  <a:lnTo>
                    <a:pt x="70" y="49"/>
                  </a:lnTo>
                  <a:lnTo>
                    <a:pt x="32" y="28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02160" y="5270040"/>
              <a:ext cx="11520" cy="2988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4"/>
                  </a:moveTo>
                  <a:lnTo>
                    <a:pt x="7" y="17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73000" y="5223960"/>
              <a:ext cx="29160" cy="460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7"/>
                  </a:moveTo>
                  <a:lnTo>
                    <a:pt x="20" y="25"/>
                  </a:lnTo>
                  <a:lnTo>
                    <a:pt x="9" y="1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461120" y="5155200"/>
              <a:ext cx="11520" cy="6876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1" y="55"/>
                  </a:moveTo>
                  <a:lnTo>
                    <a:pt x="8" y="36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50680" y="5136480"/>
              <a:ext cx="10440" cy="18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7" y="10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48520" y="5100120"/>
              <a:ext cx="2880" cy="3600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1" y="29"/>
                  </a:moveTo>
                  <a:lnTo>
                    <a:pt x="0" y="20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40960" y="5067720"/>
              <a:ext cx="10440" cy="32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26"/>
                  </a:moveTo>
                  <a:lnTo>
                    <a:pt x="5" y="17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43120" y="5051520"/>
              <a:ext cx="11520" cy="16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2" y="6"/>
                  </a:lnTo>
                  <a:lnTo>
                    <a:pt x="5" y="1"/>
                  </a:lnTo>
                  <a:lnTo>
                    <a:pt x="11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55000" y="5051520"/>
              <a:ext cx="35640" cy="52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20" y="8"/>
                  </a:lnTo>
                  <a:lnTo>
                    <a:pt x="34" y="21"/>
                  </a:lnTo>
                  <a:lnTo>
                    <a:pt x="30" y="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87400" y="5104080"/>
              <a:ext cx="13680" cy="10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4" y="3"/>
                  </a:lnTo>
                  <a:lnTo>
                    <a:pt x="8" y="7"/>
                  </a:lnTo>
                  <a:lnTo>
                    <a:pt x="13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01440" y="5096520"/>
              <a:ext cx="16560" cy="18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6" y="12"/>
                  </a:lnTo>
                  <a:lnTo>
                    <a:pt x="8" y="3"/>
                  </a:lnTo>
                  <a:lnTo>
                    <a:pt x="1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18000" y="5096520"/>
              <a:ext cx="2880" cy="7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1240" y="5083920"/>
              <a:ext cx="17640" cy="19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14"/>
                  </a:lnTo>
                  <a:lnTo>
                    <a:pt x="15" y="9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39240" y="5083920"/>
              <a:ext cx="33480" cy="223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13" y="1"/>
                  </a:lnTo>
                  <a:lnTo>
                    <a:pt x="23" y="8"/>
                  </a:lnTo>
                  <a:lnTo>
                    <a:pt x="32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72720" y="5106240"/>
              <a:ext cx="43200" cy="525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15" y="14"/>
                  </a:lnTo>
                  <a:lnTo>
                    <a:pt x="31" y="26"/>
                  </a:lnTo>
                  <a:lnTo>
                    <a:pt x="41" y="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15200" y="5159160"/>
              <a:ext cx="2880" cy="113400"/>
            </a:xfrm>
            <a:custGeom>
              <a:avLst/>
              <a:gdLst/>
              <a:ahLst/>
              <a:rect l="l" t="t" r="r" b="b"/>
              <a:pathLst>
                <a:path w="3" h="91">
                  <a:moveTo>
                    <a:pt x="1" y="0"/>
                  </a:moveTo>
                  <a:lnTo>
                    <a:pt x="3" y="30"/>
                  </a:lnTo>
                  <a:lnTo>
                    <a:pt x="0" y="61"/>
                  </a:lnTo>
                  <a:lnTo>
                    <a:pt x="2" y="9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17360" y="5272560"/>
              <a:ext cx="43200" cy="8748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0" y="0"/>
                  </a:moveTo>
                  <a:lnTo>
                    <a:pt x="12" y="24"/>
                  </a:lnTo>
                  <a:lnTo>
                    <a:pt x="30" y="45"/>
                  </a:lnTo>
                  <a:lnTo>
                    <a:pt x="41" y="7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54080" y="5360040"/>
              <a:ext cx="6120" cy="122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56880" y="3972240"/>
              <a:ext cx="387000" cy="96300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6" y="94"/>
                  </a:lnTo>
                  <a:lnTo>
                    <a:pt x="41" y="104"/>
                  </a:lnTo>
                  <a:lnTo>
                    <a:pt x="39" y="114"/>
                  </a:lnTo>
                  <a:lnTo>
                    <a:pt x="43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4" y="147"/>
                  </a:lnTo>
                  <a:lnTo>
                    <a:pt x="118" y="156"/>
                  </a:lnTo>
                  <a:lnTo>
                    <a:pt x="126" y="160"/>
                  </a:lnTo>
                  <a:lnTo>
                    <a:pt x="134" y="165"/>
                  </a:lnTo>
                  <a:lnTo>
                    <a:pt x="140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1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3" y="223"/>
                  </a:lnTo>
                  <a:lnTo>
                    <a:pt x="122" y="236"/>
                  </a:lnTo>
                  <a:lnTo>
                    <a:pt x="144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3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400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4"/>
                  </a:lnTo>
                  <a:lnTo>
                    <a:pt x="273" y="447"/>
                  </a:lnTo>
                  <a:lnTo>
                    <a:pt x="272" y="450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80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1"/>
                  </a:lnTo>
                  <a:lnTo>
                    <a:pt x="257" y="493"/>
                  </a:lnTo>
                  <a:lnTo>
                    <a:pt x="261" y="497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1" y="588"/>
                  </a:lnTo>
                  <a:lnTo>
                    <a:pt x="237" y="591"/>
                  </a:lnTo>
                  <a:lnTo>
                    <a:pt x="228" y="593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4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7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8" y="659"/>
                  </a:lnTo>
                  <a:lnTo>
                    <a:pt x="134" y="661"/>
                  </a:lnTo>
                  <a:lnTo>
                    <a:pt x="128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9"/>
                  </a:lnTo>
                  <a:lnTo>
                    <a:pt x="120" y="680"/>
                  </a:lnTo>
                  <a:lnTo>
                    <a:pt x="125" y="682"/>
                  </a:lnTo>
                  <a:lnTo>
                    <a:pt x="130" y="684"/>
                  </a:lnTo>
                  <a:lnTo>
                    <a:pt x="135" y="687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4" y="712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3" y="771"/>
                  </a:lnTo>
                  <a:lnTo>
                    <a:pt x="138" y="771"/>
                  </a:lnTo>
                  <a:lnTo>
                    <a:pt x="144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9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9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4"/>
                  </a:lnTo>
                  <a:lnTo>
                    <a:pt x="206" y="718"/>
                  </a:lnTo>
                  <a:lnTo>
                    <a:pt x="211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09" y="691"/>
                  </a:lnTo>
                  <a:lnTo>
                    <a:pt x="217" y="699"/>
                  </a:lnTo>
                  <a:lnTo>
                    <a:pt x="226" y="703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9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5"/>
                  </a:lnTo>
                  <a:lnTo>
                    <a:pt x="282" y="664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8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7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1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09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6" y="275"/>
                  </a:lnTo>
                  <a:lnTo>
                    <a:pt x="191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4" y="234"/>
                  </a:lnTo>
                  <a:lnTo>
                    <a:pt x="185" y="230"/>
                  </a:lnTo>
                  <a:lnTo>
                    <a:pt x="181" y="216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5" y="185"/>
                  </a:lnTo>
                  <a:lnTo>
                    <a:pt x="211" y="179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8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5"/>
                  </a:lnTo>
                  <a:lnTo>
                    <a:pt x="278" y="143"/>
                  </a:lnTo>
                  <a:lnTo>
                    <a:pt x="279" y="141"/>
                  </a:lnTo>
                  <a:lnTo>
                    <a:pt x="279" y="138"/>
                  </a:lnTo>
                  <a:lnTo>
                    <a:pt x="279" y="134"/>
                  </a:lnTo>
                  <a:lnTo>
                    <a:pt x="273" y="132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4"/>
                  </a:lnTo>
                  <a:lnTo>
                    <a:pt x="278" y="106"/>
                  </a:lnTo>
                  <a:lnTo>
                    <a:pt x="285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1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1" y="34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3" y="34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9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556880" y="3972240"/>
              <a:ext cx="387000" cy="96300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5" y="94"/>
                  </a:lnTo>
                  <a:lnTo>
                    <a:pt x="41" y="104"/>
                  </a:lnTo>
                  <a:lnTo>
                    <a:pt x="39" y="115"/>
                  </a:lnTo>
                  <a:lnTo>
                    <a:pt x="42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3" y="147"/>
                  </a:lnTo>
                  <a:lnTo>
                    <a:pt x="118" y="156"/>
                  </a:lnTo>
                  <a:lnTo>
                    <a:pt x="126" y="161"/>
                  </a:lnTo>
                  <a:lnTo>
                    <a:pt x="133" y="165"/>
                  </a:lnTo>
                  <a:lnTo>
                    <a:pt x="139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2" y="223"/>
                  </a:lnTo>
                  <a:lnTo>
                    <a:pt x="122" y="236"/>
                  </a:lnTo>
                  <a:lnTo>
                    <a:pt x="143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4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399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3"/>
                  </a:lnTo>
                  <a:lnTo>
                    <a:pt x="273" y="447"/>
                  </a:lnTo>
                  <a:lnTo>
                    <a:pt x="272" y="449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79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0"/>
                  </a:lnTo>
                  <a:lnTo>
                    <a:pt x="257" y="493"/>
                  </a:lnTo>
                  <a:lnTo>
                    <a:pt x="261" y="496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2" y="588"/>
                  </a:lnTo>
                  <a:lnTo>
                    <a:pt x="237" y="591"/>
                  </a:lnTo>
                  <a:lnTo>
                    <a:pt x="228" y="592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3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6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7" y="659"/>
                  </a:lnTo>
                  <a:lnTo>
                    <a:pt x="134" y="661"/>
                  </a:lnTo>
                  <a:lnTo>
                    <a:pt x="127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8"/>
                  </a:lnTo>
                  <a:lnTo>
                    <a:pt x="120" y="679"/>
                  </a:lnTo>
                  <a:lnTo>
                    <a:pt x="125" y="681"/>
                  </a:lnTo>
                  <a:lnTo>
                    <a:pt x="130" y="683"/>
                  </a:lnTo>
                  <a:lnTo>
                    <a:pt x="135" y="686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3" y="711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2" y="771"/>
                  </a:lnTo>
                  <a:lnTo>
                    <a:pt x="138" y="771"/>
                  </a:lnTo>
                  <a:lnTo>
                    <a:pt x="143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8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8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3"/>
                  </a:lnTo>
                  <a:lnTo>
                    <a:pt x="206" y="718"/>
                  </a:lnTo>
                  <a:lnTo>
                    <a:pt x="212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10" y="691"/>
                  </a:lnTo>
                  <a:lnTo>
                    <a:pt x="217" y="699"/>
                  </a:lnTo>
                  <a:lnTo>
                    <a:pt x="226" y="702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8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4"/>
                  </a:lnTo>
                  <a:lnTo>
                    <a:pt x="282" y="663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9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6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0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10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7" y="275"/>
                  </a:lnTo>
                  <a:lnTo>
                    <a:pt x="192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3" y="234"/>
                  </a:lnTo>
                  <a:lnTo>
                    <a:pt x="185" y="230"/>
                  </a:lnTo>
                  <a:lnTo>
                    <a:pt x="181" y="215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6" y="185"/>
                  </a:lnTo>
                  <a:lnTo>
                    <a:pt x="211" y="180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9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6"/>
                  </a:lnTo>
                  <a:lnTo>
                    <a:pt x="278" y="144"/>
                  </a:lnTo>
                  <a:lnTo>
                    <a:pt x="279" y="141"/>
                  </a:lnTo>
                  <a:lnTo>
                    <a:pt x="280" y="138"/>
                  </a:lnTo>
                  <a:lnTo>
                    <a:pt x="279" y="134"/>
                  </a:lnTo>
                  <a:lnTo>
                    <a:pt x="273" y="133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5"/>
                  </a:lnTo>
                  <a:lnTo>
                    <a:pt x="278" y="106"/>
                  </a:lnTo>
                  <a:lnTo>
                    <a:pt x="286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2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5" y="38"/>
                  </a:lnTo>
                  <a:lnTo>
                    <a:pt x="88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62760" y="4026960"/>
              <a:ext cx="46080" cy="450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0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8" y="31"/>
                  </a:lnTo>
                  <a:lnTo>
                    <a:pt x="17" y="36"/>
                  </a:lnTo>
                  <a:lnTo>
                    <a:pt x="28" y="35"/>
                  </a:lnTo>
                  <a:lnTo>
                    <a:pt x="38" y="31"/>
                  </a:lnTo>
                  <a:lnTo>
                    <a:pt x="44" y="22"/>
                  </a:lnTo>
                  <a:lnTo>
                    <a:pt x="43" y="1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62760" y="4026960"/>
              <a:ext cx="46080" cy="46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1" y="22"/>
                  </a:lnTo>
                  <a:lnTo>
                    <a:pt x="7" y="32"/>
                  </a:lnTo>
                  <a:lnTo>
                    <a:pt x="17" y="37"/>
                  </a:lnTo>
                  <a:lnTo>
                    <a:pt x="28" y="36"/>
                  </a:lnTo>
                  <a:lnTo>
                    <a:pt x="38" y="32"/>
                  </a:lnTo>
                  <a:lnTo>
                    <a:pt x="44" y="23"/>
                  </a:lnTo>
                  <a:lnTo>
                    <a:pt x="42" y="11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9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14360" y="2939400"/>
              <a:ext cx="188640" cy="3006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0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9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8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7" y="141"/>
                  </a:lnTo>
                  <a:lnTo>
                    <a:pt x="33" y="144"/>
                  </a:lnTo>
                  <a:lnTo>
                    <a:pt x="30" y="144"/>
                  </a:lnTo>
                  <a:lnTo>
                    <a:pt x="29" y="137"/>
                  </a:lnTo>
                  <a:lnTo>
                    <a:pt x="28" y="129"/>
                  </a:lnTo>
                  <a:lnTo>
                    <a:pt x="32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8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14360" y="2939400"/>
              <a:ext cx="188640" cy="3006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1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8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9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8" y="141"/>
                  </a:lnTo>
                  <a:lnTo>
                    <a:pt x="33" y="144"/>
                  </a:lnTo>
                  <a:lnTo>
                    <a:pt x="31" y="144"/>
                  </a:lnTo>
                  <a:lnTo>
                    <a:pt x="29" y="137"/>
                  </a:lnTo>
                  <a:lnTo>
                    <a:pt x="29" y="129"/>
                  </a:lnTo>
                  <a:lnTo>
                    <a:pt x="33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9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22560" y="2607120"/>
              <a:ext cx="352080" cy="392040"/>
            </a:xfrm>
            <a:custGeom>
              <a:avLst/>
              <a:gdLst/>
              <a:ahLst/>
              <a:rect l="l" t="t" r="r" b="b"/>
              <a:pathLst>
                <a:path w="334" h="314">
                  <a:moveTo>
                    <a:pt x="334" y="36"/>
                  </a:moveTo>
                  <a:lnTo>
                    <a:pt x="331" y="31"/>
                  </a:lnTo>
                  <a:lnTo>
                    <a:pt x="327" y="26"/>
                  </a:lnTo>
                  <a:lnTo>
                    <a:pt x="323" y="22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1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6"/>
                  </a:lnTo>
                  <a:lnTo>
                    <a:pt x="274" y="13"/>
                  </a:lnTo>
                  <a:lnTo>
                    <a:pt x="273" y="23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4" y="39"/>
                  </a:lnTo>
                  <a:lnTo>
                    <a:pt x="235" y="46"/>
                  </a:lnTo>
                  <a:lnTo>
                    <a:pt x="227" y="52"/>
                  </a:lnTo>
                  <a:lnTo>
                    <a:pt x="213" y="55"/>
                  </a:lnTo>
                  <a:lnTo>
                    <a:pt x="198" y="54"/>
                  </a:lnTo>
                  <a:lnTo>
                    <a:pt x="189" y="59"/>
                  </a:lnTo>
                  <a:lnTo>
                    <a:pt x="189" y="72"/>
                  </a:lnTo>
                  <a:lnTo>
                    <a:pt x="190" y="85"/>
                  </a:lnTo>
                  <a:lnTo>
                    <a:pt x="179" y="92"/>
                  </a:lnTo>
                  <a:lnTo>
                    <a:pt x="162" y="91"/>
                  </a:lnTo>
                  <a:lnTo>
                    <a:pt x="147" y="84"/>
                  </a:lnTo>
                  <a:lnTo>
                    <a:pt x="137" y="68"/>
                  </a:lnTo>
                  <a:lnTo>
                    <a:pt x="134" y="68"/>
                  </a:lnTo>
                  <a:lnTo>
                    <a:pt x="127" y="70"/>
                  </a:lnTo>
                  <a:lnTo>
                    <a:pt x="120" y="72"/>
                  </a:lnTo>
                  <a:lnTo>
                    <a:pt x="115" y="76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2" y="158"/>
                  </a:lnTo>
                  <a:lnTo>
                    <a:pt x="0" y="169"/>
                  </a:lnTo>
                  <a:lnTo>
                    <a:pt x="5" y="181"/>
                  </a:lnTo>
                  <a:lnTo>
                    <a:pt x="14" y="188"/>
                  </a:lnTo>
                  <a:lnTo>
                    <a:pt x="28" y="190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53" y="213"/>
                  </a:lnTo>
                  <a:lnTo>
                    <a:pt x="48" y="226"/>
                  </a:lnTo>
                  <a:lnTo>
                    <a:pt x="43" y="239"/>
                  </a:lnTo>
                  <a:lnTo>
                    <a:pt x="47" y="240"/>
                  </a:lnTo>
                  <a:lnTo>
                    <a:pt x="48" y="244"/>
                  </a:lnTo>
                  <a:lnTo>
                    <a:pt x="51" y="246"/>
                  </a:lnTo>
                  <a:lnTo>
                    <a:pt x="45" y="258"/>
                  </a:lnTo>
                  <a:lnTo>
                    <a:pt x="36" y="269"/>
                  </a:lnTo>
                  <a:lnTo>
                    <a:pt x="35" y="282"/>
                  </a:lnTo>
                  <a:lnTo>
                    <a:pt x="40" y="293"/>
                  </a:lnTo>
                  <a:lnTo>
                    <a:pt x="46" y="302"/>
                  </a:lnTo>
                  <a:lnTo>
                    <a:pt x="55" y="310"/>
                  </a:lnTo>
                  <a:lnTo>
                    <a:pt x="64" y="313"/>
                  </a:lnTo>
                  <a:lnTo>
                    <a:pt x="73" y="308"/>
                  </a:lnTo>
                  <a:lnTo>
                    <a:pt x="83" y="302"/>
                  </a:lnTo>
                  <a:lnTo>
                    <a:pt x="83" y="304"/>
                  </a:lnTo>
                  <a:lnTo>
                    <a:pt x="83" y="306"/>
                  </a:lnTo>
                  <a:lnTo>
                    <a:pt x="83" y="308"/>
                  </a:lnTo>
                  <a:lnTo>
                    <a:pt x="88" y="305"/>
                  </a:lnTo>
                  <a:lnTo>
                    <a:pt x="95" y="305"/>
                  </a:lnTo>
                  <a:lnTo>
                    <a:pt x="100" y="302"/>
                  </a:lnTo>
                  <a:lnTo>
                    <a:pt x="99" y="305"/>
                  </a:lnTo>
                  <a:lnTo>
                    <a:pt x="99" y="308"/>
                  </a:lnTo>
                  <a:lnTo>
                    <a:pt x="103" y="308"/>
                  </a:lnTo>
                  <a:lnTo>
                    <a:pt x="116" y="308"/>
                  </a:lnTo>
                  <a:lnTo>
                    <a:pt x="127" y="310"/>
                  </a:lnTo>
                  <a:lnTo>
                    <a:pt x="140" y="313"/>
                  </a:lnTo>
                  <a:lnTo>
                    <a:pt x="165" y="314"/>
                  </a:lnTo>
                  <a:lnTo>
                    <a:pt x="187" y="305"/>
                  </a:lnTo>
                  <a:lnTo>
                    <a:pt x="201" y="285"/>
                  </a:lnTo>
                  <a:lnTo>
                    <a:pt x="202" y="261"/>
                  </a:lnTo>
                  <a:lnTo>
                    <a:pt x="190" y="243"/>
                  </a:lnTo>
                  <a:lnTo>
                    <a:pt x="170" y="227"/>
                  </a:lnTo>
                  <a:lnTo>
                    <a:pt x="162" y="221"/>
                  </a:lnTo>
                  <a:lnTo>
                    <a:pt x="156" y="211"/>
                  </a:lnTo>
                  <a:lnTo>
                    <a:pt x="160" y="200"/>
                  </a:lnTo>
                  <a:lnTo>
                    <a:pt x="165" y="193"/>
                  </a:lnTo>
                  <a:lnTo>
                    <a:pt x="169" y="186"/>
                  </a:lnTo>
                  <a:lnTo>
                    <a:pt x="173" y="183"/>
                  </a:lnTo>
                  <a:lnTo>
                    <a:pt x="194" y="174"/>
                  </a:lnTo>
                  <a:lnTo>
                    <a:pt x="227" y="159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30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6"/>
                  </a:lnTo>
                  <a:lnTo>
                    <a:pt x="334" y="3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22560" y="2608200"/>
              <a:ext cx="352080" cy="390600"/>
            </a:xfrm>
            <a:custGeom>
              <a:avLst/>
              <a:gdLst/>
              <a:ahLst/>
              <a:rect l="l" t="t" r="r" b="b"/>
              <a:pathLst>
                <a:path w="334" h="313">
                  <a:moveTo>
                    <a:pt x="334" y="35"/>
                  </a:moveTo>
                  <a:lnTo>
                    <a:pt x="330" y="31"/>
                  </a:lnTo>
                  <a:lnTo>
                    <a:pt x="327" y="26"/>
                  </a:lnTo>
                  <a:lnTo>
                    <a:pt x="323" y="21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0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5"/>
                  </a:lnTo>
                  <a:lnTo>
                    <a:pt x="274" y="13"/>
                  </a:lnTo>
                  <a:lnTo>
                    <a:pt x="273" y="22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0"/>
                  </a:lnTo>
                  <a:lnTo>
                    <a:pt x="252" y="32"/>
                  </a:lnTo>
                  <a:lnTo>
                    <a:pt x="244" y="38"/>
                  </a:lnTo>
                  <a:lnTo>
                    <a:pt x="235" y="45"/>
                  </a:lnTo>
                  <a:lnTo>
                    <a:pt x="227" y="52"/>
                  </a:lnTo>
                  <a:lnTo>
                    <a:pt x="214" y="54"/>
                  </a:lnTo>
                  <a:lnTo>
                    <a:pt x="198" y="54"/>
                  </a:lnTo>
                  <a:lnTo>
                    <a:pt x="189" y="58"/>
                  </a:lnTo>
                  <a:lnTo>
                    <a:pt x="189" y="72"/>
                  </a:lnTo>
                  <a:lnTo>
                    <a:pt x="190" y="84"/>
                  </a:lnTo>
                  <a:lnTo>
                    <a:pt x="179" y="91"/>
                  </a:lnTo>
                  <a:lnTo>
                    <a:pt x="162" y="91"/>
                  </a:lnTo>
                  <a:lnTo>
                    <a:pt x="147" y="83"/>
                  </a:lnTo>
                  <a:lnTo>
                    <a:pt x="137" y="67"/>
                  </a:lnTo>
                  <a:lnTo>
                    <a:pt x="134" y="67"/>
                  </a:lnTo>
                  <a:lnTo>
                    <a:pt x="127" y="69"/>
                  </a:lnTo>
                  <a:lnTo>
                    <a:pt x="120" y="72"/>
                  </a:lnTo>
                  <a:lnTo>
                    <a:pt x="115" y="75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3" y="158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14" y="187"/>
                  </a:lnTo>
                  <a:lnTo>
                    <a:pt x="28" y="189"/>
                  </a:lnTo>
                  <a:lnTo>
                    <a:pt x="42" y="191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48" y="225"/>
                  </a:lnTo>
                  <a:lnTo>
                    <a:pt x="44" y="238"/>
                  </a:lnTo>
                  <a:lnTo>
                    <a:pt x="47" y="239"/>
                  </a:lnTo>
                  <a:lnTo>
                    <a:pt x="48" y="243"/>
                  </a:lnTo>
                  <a:lnTo>
                    <a:pt x="51" y="245"/>
                  </a:lnTo>
                  <a:lnTo>
                    <a:pt x="45" y="257"/>
                  </a:lnTo>
                  <a:lnTo>
                    <a:pt x="37" y="268"/>
                  </a:lnTo>
                  <a:lnTo>
                    <a:pt x="35" y="281"/>
                  </a:lnTo>
                  <a:lnTo>
                    <a:pt x="40" y="292"/>
                  </a:lnTo>
                  <a:lnTo>
                    <a:pt x="47" y="301"/>
                  </a:lnTo>
                  <a:lnTo>
                    <a:pt x="55" y="309"/>
                  </a:lnTo>
                  <a:lnTo>
                    <a:pt x="64" y="312"/>
                  </a:lnTo>
                  <a:lnTo>
                    <a:pt x="74" y="307"/>
                  </a:lnTo>
                  <a:lnTo>
                    <a:pt x="84" y="301"/>
                  </a:lnTo>
                  <a:lnTo>
                    <a:pt x="84" y="303"/>
                  </a:lnTo>
                  <a:lnTo>
                    <a:pt x="84" y="305"/>
                  </a:lnTo>
                  <a:lnTo>
                    <a:pt x="84" y="308"/>
                  </a:lnTo>
                  <a:lnTo>
                    <a:pt x="88" y="304"/>
                  </a:lnTo>
                  <a:lnTo>
                    <a:pt x="95" y="304"/>
                  </a:lnTo>
                  <a:lnTo>
                    <a:pt x="100" y="301"/>
                  </a:lnTo>
                  <a:lnTo>
                    <a:pt x="99" y="304"/>
                  </a:lnTo>
                  <a:lnTo>
                    <a:pt x="99" y="307"/>
                  </a:lnTo>
                  <a:lnTo>
                    <a:pt x="103" y="308"/>
                  </a:lnTo>
                  <a:lnTo>
                    <a:pt x="116" y="307"/>
                  </a:lnTo>
                  <a:lnTo>
                    <a:pt x="127" y="309"/>
                  </a:lnTo>
                  <a:lnTo>
                    <a:pt x="140" y="312"/>
                  </a:lnTo>
                  <a:lnTo>
                    <a:pt x="165" y="313"/>
                  </a:lnTo>
                  <a:lnTo>
                    <a:pt x="187" y="304"/>
                  </a:lnTo>
                  <a:lnTo>
                    <a:pt x="201" y="284"/>
                  </a:lnTo>
                  <a:lnTo>
                    <a:pt x="202" y="261"/>
                  </a:lnTo>
                  <a:lnTo>
                    <a:pt x="190" y="242"/>
                  </a:lnTo>
                  <a:lnTo>
                    <a:pt x="170" y="226"/>
                  </a:lnTo>
                  <a:lnTo>
                    <a:pt x="161" y="220"/>
                  </a:lnTo>
                  <a:lnTo>
                    <a:pt x="156" y="210"/>
                  </a:lnTo>
                  <a:lnTo>
                    <a:pt x="160" y="199"/>
                  </a:lnTo>
                  <a:lnTo>
                    <a:pt x="165" y="192"/>
                  </a:lnTo>
                  <a:lnTo>
                    <a:pt x="169" y="185"/>
                  </a:lnTo>
                  <a:lnTo>
                    <a:pt x="173" y="182"/>
                  </a:lnTo>
                  <a:lnTo>
                    <a:pt x="194" y="173"/>
                  </a:lnTo>
                  <a:lnTo>
                    <a:pt x="227" y="158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5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5"/>
                  </a:lnTo>
                  <a:lnTo>
                    <a:pt x="334" y="3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98720" y="1861200"/>
              <a:ext cx="1693800" cy="84168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7"/>
                  </a:moveTo>
                  <a:lnTo>
                    <a:pt x="597" y="27"/>
                  </a:lnTo>
                  <a:lnTo>
                    <a:pt x="592" y="27"/>
                  </a:lnTo>
                  <a:lnTo>
                    <a:pt x="587" y="27"/>
                  </a:lnTo>
                  <a:lnTo>
                    <a:pt x="587" y="25"/>
                  </a:lnTo>
                  <a:lnTo>
                    <a:pt x="587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3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5" y="53"/>
                  </a:lnTo>
                  <a:lnTo>
                    <a:pt x="511" y="53"/>
                  </a:lnTo>
                  <a:lnTo>
                    <a:pt x="508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4" y="142"/>
                  </a:lnTo>
                  <a:lnTo>
                    <a:pt x="330" y="131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4" y="96"/>
                  </a:lnTo>
                  <a:lnTo>
                    <a:pt x="216" y="90"/>
                  </a:lnTo>
                  <a:lnTo>
                    <a:pt x="216" y="94"/>
                  </a:lnTo>
                  <a:lnTo>
                    <a:pt x="216" y="97"/>
                  </a:lnTo>
                  <a:lnTo>
                    <a:pt x="213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29"/>
                  </a:lnTo>
                  <a:lnTo>
                    <a:pt x="118" y="133"/>
                  </a:lnTo>
                  <a:lnTo>
                    <a:pt x="114" y="135"/>
                  </a:lnTo>
                  <a:lnTo>
                    <a:pt x="110" y="138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7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6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1" y="208"/>
                  </a:lnTo>
                  <a:lnTo>
                    <a:pt x="0" y="222"/>
                  </a:lnTo>
                  <a:lnTo>
                    <a:pt x="1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8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4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19" y="501"/>
                  </a:lnTo>
                  <a:lnTo>
                    <a:pt x="336" y="505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4" y="533"/>
                  </a:lnTo>
                  <a:lnTo>
                    <a:pt x="389" y="543"/>
                  </a:lnTo>
                  <a:lnTo>
                    <a:pt x="429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3"/>
                  </a:lnTo>
                  <a:lnTo>
                    <a:pt x="649" y="613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8" y="646"/>
                  </a:lnTo>
                  <a:lnTo>
                    <a:pt x="782" y="657"/>
                  </a:lnTo>
                  <a:lnTo>
                    <a:pt x="828" y="662"/>
                  </a:lnTo>
                  <a:lnTo>
                    <a:pt x="830" y="664"/>
                  </a:lnTo>
                  <a:lnTo>
                    <a:pt x="831" y="668"/>
                  </a:lnTo>
                  <a:lnTo>
                    <a:pt x="833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8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7"/>
                  </a:lnTo>
                  <a:lnTo>
                    <a:pt x="1181" y="498"/>
                  </a:lnTo>
                  <a:lnTo>
                    <a:pt x="1191" y="480"/>
                  </a:lnTo>
                  <a:lnTo>
                    <a:pt x="1208" y="468"/>
                  </a:lnTo>
                  <a:lnTo>
                    <a:pt x="1227" y="467"/>
                  </a:lnTo>
                  <a:lnTo>
                    <a:pt x="1247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399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6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7" y="363"/>
                  </a:lnTo>
                  <a:lnTo>
                    <a:pt x="1601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3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2" y="285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6"/>
                  </a:lnTo>
                  <a:lnTo>
                    <a:pt x="1466" y="294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0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5"/>
                  </a:lnTo>
                  <a:lnTo>
                    <a:pt x="1442" y="168"/>
                  </a:lnTo>
                  <a:lnTo>
                    <a:pt x="1443" y="159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6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29"/>
                  </a:lnTo>
                  <a:lnTo>
                    <a:pt x="1297" y="143"/>
                  </a:lnTo>
                  <a:lnTo>
                    <a:pt x="1273" y="157"/>
                  </a:lnTo>
                  <a:lnTo>
                    <a:pt x="1249" y="174"/>
                  </a:lnTo>
                  <a:lnTo>
                    <a:pt x="1241" y="177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5" y="186"/>
                  </a:lnTo>
                  <a:lnTo>
                    <a:pt x="1211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4"/>
                  </a:lnTo>
                  <a:lnTo>
                    <a:pt x="1146" y="199"/>
                  </a:lnTo>
                  <a:lnTo>
                    <a:pt x="1140" y="195"/>
                  </a:lnTo>
                  <a:lnTo>
                    <a:pt x="1134" y="194"/>
                  </a:lnTo>
                  <a:lnTo>
                    <a:pt x="1114" y="195"/>
                  </a:lnTo>
                  <a:lnTo>
                    <a:pt x="1094" y="197"/>
                  </a:lnTo>
                  <a:lnTo>
                    <a:pt x="1074" y="191"/>
                  </a:lnTo>
                  <a:lnTo>
                    <a:pt x="1049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1" y="155"/>
                  </a:lnTo>
                  <a:lnTo>
                    <a:pt x="1007" y="156"/>
                  </a:lnTo>
                  <a:lnTo>
                    <a:pt x="1002" y="156"/>
                  </a:lnTo>
                  <a:lnTo>
                    <a:pt x="1003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6"/>
                  </a:lnTo>
                  <a:lnTo>
                    <a:pt x="870" y="117"/>
                  </a:lnTo>
                  <a:lnTo>
                    <a:pt x="823" y="129"/>
                  </a:lnTo>
                  <a:lnTo>
                    <a:pt x="777" y="128"/>
                  </a:lnTo>
                  <a:lnTo>
                    <a:pt x="734" y="109"/>
                  </a:lnTo>
                  <a:lnTo>
                    <a:pt x="725" y="93"/>
                  </a:lnTo>
                  <a:lnTo>
                    <a:pt x="720" y="72"/>
                  </a:lnTo>
                  <a:lnTo>
                    <a:pt x="710" y="57"/>
                  </a:lnTo>
                  <a:lnTo>
                    <a:pt x="677" y="42"/>
                  </a:lnTo>
                  <a:lnTo>
                    <a:pt x="640" y="34"/>
                  </a:lnTo>
                  <a:lnTo>
                    <a:pt x="603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98720" y="1861200"/>
              <a:ext cx="1693800" cy="84168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8"/>
                  </a:moveTo>
                  <a:lnTo>
                    <a:pt x="597" y="27"/>
                  </a:lnTo>
                  <a:lnTo>
                    <a:pt x="592" y="28"/>
                  </a:lnTo>
                  <a:lnTo>
                    <a:pt x="586" y="27"/>
                  </a:lnTo>
                  <a:lnTo>
                    <a:pt x="586" y="25"/>
                  </a:lnTo>
                  <a:lnTo>
                    <a:pt x="586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4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6" y="53"/>
                  </a:lnTo>
                  <a:lnTo>
                    <a:pt x="511" y="53"/>
                  </a:lnTo>
                  <a:lnTo>
                    <a:pt x="509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5" y="142"/>
                  </a:lnTo>
                  <a:lnTo>
                    <a:pt x="330" y="132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5" y="96"/>
                  </a:lnTo>
                  <a:lnTo>
                    <a:pt x="216" y="90"/>
                  </a:lnTo>
                  <a:lnTo>
                    <a:pt x="217" y="94"/>
                  </a:lnTo>
                  <a:lnTo>
                    <a:pt x="216" y="97"/>
                  </a:lnTo>
                  <a:lnTo>
                    <a:pt x="214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30"/>
                  </a:lnTo>
                  <a:lnTo>
                    <a:pt x="118" y="134"/>
                  </a:lnTo>
                  <a:lnTo>
                    <a:pt x="114" y="135"/>
                  </a:lnTo>
                  <a:lnTo>
                    <a:pt x="110" y="139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8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7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2" y="20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9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5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20" y="501"/>
                  </a:lnTo>
                  <a:lnTo>
                    <a:pt x="336" y="506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5" y="533"/>
                  </a:lnTo>
                  <a:lnTo>
                    <a:pt x="390" y="543"/>
                  </a:lnTo>
                  <a:lnTo>
                    <a:pt x="430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4"/>
                  </a:lnTo>
                  <a:lnTo>
                    <a:pt x="649" y="614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7" y="646"/>
                  </a:lnTo>
                  <a:lnTo>
                    <a:pt x="782" y="658"/>
                  </a:lnTo>
                  <a:lnTo>
                    <a:pt x="828" y="662"/>
                  </a:lnTo>
                  <a:lnTo>
                    <a:pt x="831" y="664"/>
                  </a:lnTo>
                  <a:lnTo>
                    <a:pt x="831" y="668"/>
                  </a:lnTo>
                  <a:lnTo>
                    <a:pt x="834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7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8"/>
                  </a:lnTo>
                  <a:lnTo>
                    <a:pt x="1181" y="499"/>
                  </a:lnTo>
                  <a:lnTo>
                    <a:pt x="1191" y="480"/>
                  </a:lnTo>
                  <a:lnTo>
                    <a:pt x="1207" y="468"/>
                  </a:lnTo>
                  <a:lnTo>
                    <a:pt x="1227" y="468"/>
                  </a:lnTo>
                  <a:lnTo>
                    <a:pt x="1246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400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7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6" y="363"/>
                  </a:lnTo>
                  <a:lnTo>
                    <a:pt x="1600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2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1" y="286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7"/>
                  </a:lnTo>
                  <a:lnTo>
                    <a:pt x="1466" y="295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1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6"/>
                  </a:lnTo>
                  <a:lnTo>
                    <a:pt x="1442" y="168"/>
                  </a:lnTo>
                  <a:lnTo>
                    <a:pt x="1443" y="160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7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30"/>
                  </a:lnTo>
                  <a:lnTo>
                    <a:pt x="1297" y="143"/>
                  </a:lnTo>
                  <a:lnTo>
                    <a:pt x="1273" y="158"/>
                  </a:lnTo>
                  <a:lnTo>
                    <a:pt x="1249" y="175"/>
                  </a:lnTo>
                  <a:lnTo>
                    <a:pt x="1241" y="178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4" y="186"/>
                  </a:lnTo>
                  <a:lnTo>
                    <a:pt x="1210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5"/>
                  </a:lnTo>
                  <a:lnTo>
                    <a:pt x="1146" y="199"/>
                  </a:lnTo>
                  <a:lnTo>
                    <a:pt x="1140" y="196"/>
                  </a:lnTo>
                  <a:lnTo>
                    <a:pt x="1134" y="194"/>
                  </a:lnTo>
                  <a:lnTo>
                    <a:pt x="1114" y="196"/>
                  </a:lnTo>
                  <a:lnTo>
                    <a:pt x="1094" y="198"/>
                  </a:lnTo>
                  <a:lnTo>
                    <a:pt x="1074" y="191"/>
                  </a:lnTo>
                  <a:lnTo>
                    <a:pt x="1050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2" y="155"/>
                  </a:lnTo>
                  <a:lnTo>
                    <a:pt x="1007" y="156"/>
                  </a:lnTo>
                  <a:lnTo>
                    <a:pt x="1003" y="156"/>
                  </a:lnTo>
                  <a:lnTo>
                    <a:pt x="1004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7"/>
                  </a:lnTo>
                  <a:lnTo>
                    <a:pt x="871" y="117"/>
                  </a:lnTo>
                  <a:lnTo>
                    <a:pt x="823" y="129"/>
                  </a:lnTo>
                  <a:lnTo>
                    <a:pt x="776" y="128"/>
                  </a:lnTo>
                  <a:lnTo>
                    <a:pt x="734" y="110"/>
                  </a:lnTo>
                  <a:lnTo>
                    <a:pt x="725" y="93"/>
                  </a:lnTo>
                  <a:lnTo>
                    <a:pt x="719" y="73"/>
                  </a:lnTo>
                  <a:lnTo>
                    <a:pt x="709" y="57"/>
                  </a:lnTo>
                  <a:lnTo>
                    <a:pt x="676" y="43"/>
                  </a:lnTo>
                  <a:lnTo>
                    <a:pt x="640" y="34"/>
                  </a:lnTo>
                  <a:lnTo>
                    <a:pt x="603" y="2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26520" y="1752480"/>
              <a:ext cx="3247560" cy="2432160"/>
            </a:xfrm>
            <a:custGeom>
              <a:avLst/>
              <a:gdLst/>
              <a:ahLst/>
              <a:rect l="l" t="t" r="r" b="b"/>
              <a:pathLst>
                <a:path w="3079" h="1947">
                  <a:moveTo>
                    <a:pt x="734" y="292"/>
                  </a:moveTo>
                  <a:lnTo>
                    <a:pt x="722" y="289"/>
                  </a:lnTo>
                  <a:lnTo>
                    <a:pt x="712" y="294"/>
                  </a:lnTo>
                  <a:lnTo>
                    <a:pt x="701" y="295"/>
                  </a:lnTo>
                  <a:lnTo>
                    <a:pt x="695" y="292"/>
                  </a:lnTo>
                  <a:lnTo>
                    <a:pt x="689" y="293"/>
                  </a:lnTo>
                  <a:lnTo>
                    <a:pt x="683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7" y="299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09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8" y="332"/>
                  </a:lnTo>
                  <a:lnTo>
                    <a:pt x="628" y="334"/>
                  </a:lnTo>
                  <a:lnTo>
                    <a:pt x="623" y="335"/>
                  </a:lnTo>
                  <a:lnTo>
                    <a:pt x="617" y="338"/>
                  </a:lnTo>
                  <a:lnTo>
                    <a:pt x="615" y="342"/>
                  </a:lnTo>
                  <a:lnTo>
                    <a:pt x="614" y="355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2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4"/>
                  </a:lnTo>
                  <a:lnTo>
                    <a:pt x="556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3" y="417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7"/>
                  </a:lnTo>
                  <a:lnTo>
                    <a:pt x="463" y="520"/>
                  </a:lnTo>
                  <a:lnTo>
                    <a:pt x="467" y="525"/>
                  </a:lnTo>
                  <a:lnTo>
                    <a:pt x="471" y="532"/>
                  </a:lnTo>
                  <a:lnTo>
                    <a:pt x="473" y="535"/>
                  </a:lnTo>
                  <a:lnTo>
                    <a:pt x="472" y="540"/>
                  </a:lnTo>
                  <a:lnTo>
                    <a:pt x="469" y="542"/>
                  </a:lnTo>
                  <a:lnTo>
                    <a:pt x="451" y="542"/>
                  </a:lnTo>
                  <a:lnTo>
                    <a:pt x="434" y="538"/>
                  </a:lnTo>
                  <a:lnTo>
                    <a:pt x="418" y="530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3" y="538"/>
                  </a:lnTo>
                  <a:lnTo>
                    <a:pt x="354" y="540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1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1"/>
                  </a:lnTo>
                  <a:lnTo>
                    <a:pt x="360" y="627"/>
                  </a:lnTo>
                  <a:lnTo>
                    <a:pt x="360" y="632"/>
                  </a:lnTo>
                  <a:lnTo>
                    <a:pt x="369" y="642"/>
                  </a:lnTo>
                  <a:lnTo>
                    <a:pt x="377" y="651"/>
                  </a:lnTo>
                  <a:lnTo>
                    <a:pt x="378" y="662"/>
                  </a:lnTo>
                  <a:lnTo>
                    <a:pt x="368" y="672"/>
                  </a:lnTo>
                  <a:lnTo>
                    <a:pt x="355" y="678"/>
                  </a:lnTo>
                  <a:lnTo>
                    <a:pt x="348" y="689"/>
                  </a:lnTo>
                  <a:lnTo>
                    <a:pt x="351" y="698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5"/>
                  </a:lnTo>
                  <a:lnTo>
                    <a:pt x="348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3" y="772"/>
                  </a:lnTo>
                  <a:lnTo>
                    <a:pt x="230" y="781"/>
                  </a:lnTo>
                  <a:lnTo>
                    <a:pt x="206" y="784"/>
                  </a:lnTo>
                  <a:lnTo>
                    <a:pt x="183" y="787"/>
                  </a:lnTo>
                  <a:lnTo>
                    <a:pt x="168" y="798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8"/>
                  </a:lnTo>
                  <a:lnTo>
                    <a:pt x="127" y="829"/>
                  </a:lnTo>
                  <a:lnTo>
                    <a:pt x="119" y="831"/>
                  </a:lnTo>
                  <a:lnTo>
                    <a:pt x="118" y="828"/>
                  </a:lnTo>
                  <a:lnTo>
                    <a:pt x="115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2"/>
                  </a:lnTo>
                  <a:lnTo>
                    <a:pt x="76" y="825"/>
                  </a:lnTo>
                  <a:lnTo>
                    <a:pt x="69" y="827"/>
                  </a:lnTo>
                  <a:lnTo>
                    <a:pt x="64" y="832"/>
                  </a:lnTo>
                  <a:lnTo>
                    <a:pt x="60" y="838"/>
                  </a:lnTo>
                  <a:lnTo>
                    <a:pt x="53" y="841"/>
                  </a:lnTo>
                  <a:lnTo>
                    <a:pt x="48" y="839"/>
                  </a:lnTo>
                  <a:lnTo>
                    <a:pt x="44" y="839"/>
                  </a:lnTo>
                  <a:lnTo>
                    <a:pt x="35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3"/>
                  </a:lnTo>
                  <a:lnTo>
                    <a:pt x="14" y="913"/>
                  </a:lnTo>
                  <a:lnTo>
                    <a:pt x="22" y="933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0"/>
                  </a:lnTo>
                  <a:lnTo>
                    <a:pt x="71" y="947"/>
                  </a:lnTo>
                  <a:lnTo>
                    <a:pt x="73" y="951"/>
                  </a:lnTo>
                  <a:lnTo>
                    <a:pt x="73" y="955"/>
                  </a:lnTo>
                  <a:lnTo>
                    <a:pt x="71" y="960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2"/>
                  </a:lnTo>
                  <a:lnTo>
                    <a:pt x="80" y="996"/>
                  </a:lnTo>
                  <a:lnTo>
                    <a:pt x="80" y="1001"/>
                  </a:lnTo>
                  <a:lnTo>
                    <a:pt x="82" y="1006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8"/>
                  </a:lnTo>
                  <a:lnTo>
                    <a:pt x="0" y="1036"/>
                  </a:lnTo>
                  <a:lnTo>
                    <a:pt x="2" y="1038"/>
                  </a:lnTo>
                  <a:lnTo>
                    <a:pt x="8" y="1040"/>
                  </a:lnTo>
                  <a:lnTo>
                    <a:pt x="18" y="1036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3"/>
                  </a:lnTo>
                  <a:lnTo>
                    <a:pt x="68" y="1025"/>
                  </a:lnTo>
                  <a:lnTo>
                    <a:pt x="82" y="1027"/>
                  </a:lnTo>
                  <a:lnTo>
                    <a:pt x="91" y="1029"/>
                  </a:lnTo>
                  <a:lnTo>
                    <a:pt x="96" y="1028"/>
                  </a:lnTo>
                  <a:lnTo>
                    <a:pt x="104" y="1029"/>
                  </a:lnTo>
                  <a:lnTo>
                    <a:pt x="115" y="1034"/>
                  </a:lnTo>
                  <a:lnTo>
                    <a:pt x="124" y="1043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6"/>
                  </a:lnTo>
                  <a:lnTo>
                    <a:pt x="134" y="1072"/>
                  </a:lnTo>
                  <a:lnTo>
                    <a:pt x="132" y="1078"/>
                  </a:lnTo>
                  <a:lnTo>
                    <a:pt x="131" y="1083"/>
                  </a:lnTo>
                  <a:lnTo>
                    <a:pt x="135" y="1088"/>
                  </a:lnTo>
                  <a:lnTo>
                    <a:pt x="141" y="1092"/>
                  </a:lnTo>
                  <a:lnTo>
                    <a:pt x="146" y="1093"/>
                  </a:lnTo>
                  <a:lnTo>
                    <a:pt x="152" y="1093"/>
                  </a:lnTo>
                  <a:lnTo>
                    <a:pt x="158" y="1092"/>
                  </a:lnTo>
                  <a:lnTo>
                    <a:pt x="162" y="1093"/>
                  </a:lnTo>
                  <a:lnTo>
                    <a:pt x="168" y="1096"/>
                  </a:lnTo>
                  <a:lnTo>
                    <a:pt x="186" y="1103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0" y="1117"/>
                  </a:lnTo>
                  <a:lnTo>
                    <a:pt x="224" y="1117"/>
                  </a:lnTo>
                  <a:lnTo>
                    <a:pt x="228" y="1115"/>
                  </a:lnTo>
                  <a:lnTo>
                    <a:pt x="236" y="1107"/>
                  </a:lnTo>
                  <a:lnTo>
                    <a:pt x="257" y="1094"/>
                  </a:lnTo>
                  <a:lnTo>
                    <a:pt x="288" y="1088"/>
                  </a:lnTo>
                  <a:lnTo>
                    <a:pt x="292" y="1088"/>
                  </a:lnTo>
                  <a:lnTo>
                    <a:pt x="301" y="1089"/>
                  </a:lnTo>
                  <a:lnTo>
                    <a:pt x="310" y="1092"/>
                  </a:lnTo>
                  <a:lnTo>
                    <a:pt x="320" y="1097"/>
                  </a:lnTo>
                  <a:lnTo>
                    <a:pt x="341" y="1108"/>
                  </a:lnTo>
                  <a:lnTo>
                    <a:pt x="354" y="1115"/>
                  </a:lnTo>
                  <a:lnTo>
                    <a:pt x="357" y="1118"/>
                  </a:lnTo>
                  <a:lnTo>
                    <a:pt x="358" y="1122"/>
                  </a:lnTo>
                  <a:lnTo>
                    <a:pt x="357" y="1129"/>
                  </a:lnTo>
                  <a:lnTo>
                    <a:pt x="349" y="1143"/>
                  </a:lnTo>
                  <a:lnTo>
                    <a:pt x="338" y="1159"/>
                  </a:lnTo>
                  <a:lnTo>
                    <a:pt x="329" y="1171"/>
                  </a:lnTo>
                  <a:lnTo>
                    <a:pt x="326" y="1175"/>
                  </a:lnTo>
                  <a:lnTo>
                    <a:pt x="318" y="1184"/>
                  </a:lnTo>
                  <a:lnTo>
                    <a:pt x="302" y="1194"/>
                  </a:lnTo>
                  <a:lnTo>
                    <a:pt x="279" y="1192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3"/>
                  </a:lnTo>
                  <a:lnTo>
                    <a:pt x="280" y="1226"/>
                  </a:lnTo>
                  <a:lnTo>
                    <a:pt x="292" y="1237"/>
                  </a:lnTo>
                  <a:lnTo>
                    <a:pt x="306" y="1246"/>
                  </a:lnTo>
                  <a:lnTo>
                    <a:pt x="312" y="1258"/>
                  </a:lnTo>
                  <a:lnTo>
                    <a:pt x="304" y="1273"/>
                  </a:lnTo>
                  <a:lnTo>
                    <a:pt x="296" y="1289"/>
                  </a:lnTo>
                  <a:lnTo>
                    <a:pt x="294" y="1292"/>
                  </a:lnTo>
                  <a:lnTo>
                    <a:pt x="289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4"/>
                  </a:lnTo>
                  <a:lnTo>
                    <a:pt x="270" y="1280"/>
                  </a:lnTo>
                  <a:lnTo>
                    <a:pt x="264" y="1279"/>
                  </a:lnTo>
                  <a:lnTo>
                    <a:pt x="258" y="1282"/>
                  </a:lnTo>
                  <a:lnTo>
                    <a:pt x="256" y="1285"/>
                  </a:lnTo>
                  <a:lnTo>
                    <a:pt x="266" y="1304"/>
                  </a:lnTo>
                  <a:lnTo>
                    <a:pt x="270" y="1323"/>
                  </a:lnTo>
                  <a:lnTo>
                    <a:pt x="264" y="1343"/>
                  </a:lnTo>
                  <a:lnTo>
                    <a:pt x="271" y="1343"/>
                  </a:lnTo>
                  <a:lnTo>
                    <a:pt x="278" y="1345"/>
                  </a:lnTo>
                  <a:lnTo>
                    <a:pt x="285" y="1344"/>
                  </a:lnTo>
                  <a:lnTo>
                    <a:pt x="292" y="1345"/>
                  </a:lnTo>
                  <a:lnTo>
                    <a:pt x="297" y="1354"/>
                  </a:lnTo>
                  <a:lnTo>
                    <a:pt x="301" y="1360"/>
                  </a:lnTo>
                  <a:lnTo>
                    <a:pt x="325" y="1372"/>
                  </a:lnTo>
                  <a:lnTo>
                    <a:pt x="347" y="1384"/>
                  </a:lnTo>
                  <a:lnTo>
                    <a:pt x="367" y="1400"/>
                  </a:lnTo>
                  <a:lnTo>
                    <a:pt x="373" y="1404"/>
                  </a:lnTo>
                  <a:lnTo>
                    <a:pt x="377" y="1407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4"/>
                  </a:lnTo>
                  <a:lnTo>
                    <a:pt x="398" y="1411"/>
                  </a:lnTo>
                  <a:lnTo>
                    <a:pt x="400" y="1408"/>
                  </a:lnTo>
                  <a:lnTo>
                    <a:pt x="404" y="1406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399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8"/>
                  </a:lnTo>
                  <a:lnTo>
                    <a:pt x="467" y="1427"/>
                  </a:lnTo>
                  <a:lnTo>
                    <a:pt x="480" y="1433"/>
                  </a:lnTo>
                  <a:lnTo>
                    <a:pt x="491" y="1440"/>
                  </a:lnTo>
                  <a:lnTo>
                    <a:pt x="500" y="1450"/>
                  </a:lnTo>
                  <a:lnTo>
                    <a:pt x="506" y="1460"/>
                  </a:lnTo>
                  <a:lnTo>
                    <a:pt x="513" y="1470"/>
                  </a:lnTo>
                  <a:lnTo>
                    <a:pt x="521" y="1472"/>
                  </a:lnTo>
                  <a:lnTo>
                    <a:pt x="526" y="1465"/>
                  </a:lnTo>
                  <a:lnTo>
                    <a:pt x="530" y="1458"/>
                  </a:lnTo>
                  <a:lnTo>
                    <a:pt x="536" y="1460"/>
                  </a:lnTo>
                  <a:lnTo>
                    <a:pt x="540" y="1467"/>
                  </a:lnTo>
                  <a:lnTo>
                    <a:pt x="542" y="1476"/>
                  </a:lnTo>
                  <a:lnTo>
                    <a:pt x="545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4"/>
                  </a:lnTo>
                  <a:lnTo>
                    <a:pt x="573" y="1496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8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2"/>
                  </a:lnTo>
                  <a:lnTo>
                    <a:pt x="603" y="1512"/>
                  </a:lnTo>
                  <a:lnTo>
                    <a:pt x="607" y="1511"/>
                  </a:lnTo>
                  <a:lnTo>
                    <a:pt x="614" y="1512"/>
                  </a:lnTo>
                  <a:lnTo>
                    <a:pt x="621" y="1516"/>
                  </a:lnTo>
                  <a:lnTo>
                    <a:pt x="628" y="1516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6"/>
                  </a:lnTo>
                  <a:lnTo>
                    <a:pt x="644" y="1525"/>
                  </a:lnTo>
                  <a:lnTo>
                    <a:pt x="652" y="1528"/>
                  </a:lnTo>
                  <a:lnTo>
                    <a:pt x="659" y="1527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3"/>
                  </a:lnTo>
                  <a:lnTo>
                    <a:pt x="684" y="1528"/>
                  </a:lnTo>
                  <a:lnTo>
                    <a:pt x="694" y="1533"/>
                  </a:lnTo>
                  <a:lnTo>
                    <a:pt x="709" y="1538"/>
                  </a:lnTo>
                  <a:lnTo>
                    <a:pt x="723" y="1537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2"/>
                  </a:lnTo>
                  <a:lnTo>
                    <a:pt x="757" y="1531"/>
                  </a:lnTo>
                  <a:lnTo>
                    <a:pt x="763" y="1528"/>
                  </a:lnTo>
                  <a:lnTo>
                    <a:pt x="768" y="1527"/>
                  </a:lnTo>
                  <a:lnTo>
                    <a:pt x="773" y="1527"/>
                  </a:lnTo>
                  <a:lnTo>
                    <a:pt x="775" y="1530"/>
                  </a:lnTo>
                  <a:lnTo>
                    <a:pt x="775" y="1540"/>
                  </a:lnTo>
                  <a:lnTo>
                    <a:pt x="777" y="1548"/>
                  </a:lnTo>
                  <a:lnTo>
                    <a:pt x="781" y="1556"/>
                  </a:lnTo>
                  <a:lnTo>
                    <a:pt x="781" y="1558"/>
                  </a:lnTo>
                  <a:lnTo>
                    <a:pt x="786" y="1553"/>
                  </a:lnTo>
                  <a:lnTo>
                    <a:pt x="793" y="1547"/>
                  </a:lnTo>
                  <a:lnTo>
                    <a:pt x="793" y="1538"/>
                  </a:lnTo>
                  <a:lnTo>
                    <a:pt x="796" y="1538"/>
                  </a:lnTo>
                  <a:lnTo>
                    <a:pt x="798" y="1537"/>
                  </a:lnTo>
                  <a:lnTo>
                    <a:pt x="800" y="1536"/>
                  </a:lnTo>
                  <a:lnTo>
                    <a:pt x="804" y="1532"/>
                  </a:lnTo>
                  <a:lnTo>
                    <a:pt x="806" y="1527"/>
                  </a:lnTo>
                  <a:lnTo>
                    <a:pt x="810" y="1524"/>
                  </a:lnTo>
                  <a:lnTo>
                    <a:pt x="817" y="1518"/>
                  </a:lnTo>
                  <a:lnTo>
                    <a:pt x="825" y="1513"/>
                  </a:lnTo>
                  <a:lnTo>
                    <a:pt x="833" y="1510"/>
                  </a:lnTo>
                  <a:lnTo>
                    <a:pt x="835" y="1512"/>
                  </a:lnTo>
                  <a:lnTo>
                    <a:pt x="837" y="1512"/>
                  </a:lnTo>
                  <a:lnTo>
                    <a:pt x="838" y="1515"/>
                  </a:lnTo>
                  <a:lnTo>
                    <a:pt x="842" y="1515"/>
                  </a:lnTo>
                  <a:lnTo>
                    <a:pt x="846" y="1514"/>
                  </a:lnTo>
                  <a:lnTo>
                    <a:pt x="848" y="1514"/>
                  </a:lnTo>
                  <a:lnTo>
                    <a:pt x="852" y="1518"/>
                  </a:lnTo>
                  <a:lnTo>
                    <a:pt x="855" y="1521"/>
                  </a:lnTo>
                  <a:lnTo>
                    <a:pt x="859" y="1523"/>
                  </a:lnTo>
                  <a:lnTo>
                    <a:pt x="867" y="1524"/>
                  </a:lnTo>
                  <a:lnTo>
                    <a:pt x="875" y="1526"/>
                  </a:lnTo>
                  <a:lnTo>
                    <a:pt x="883" y="1527"/>
                  </a:lnTo>
                  <a:lnTo>
                    <a:pt x="890" y="1527"/>
                  </a:lnTo>
                  <a:lnTo>
                    <a:pt x="898" y="1525"/>
                  </a:lnTo>
                  <a:lnTo>
                    <a:pt x="903" y="1525"/>
                  </a:lnTo>
                  <a:lnTo>
                    <a:pt x="910" y="1532"/>
                  </a:lnTo>
                  <a:lnTo>
                    <a:pt x="916" y="1540"/>
                  </a:lnTo>
                  <a:lnTo>
                    <a:pt x="922" y="1550"/>
                  </a:lnTo>
                  <a:lnTo>
                    <a:pt x="933" y="1544"/>
                  </a:lnTo>
                  <a:lnTo>
                    <a:pt x="946" y="1542"/>
                  </a:lnTo>
                  <a:lnTo>
                    <a:pt x="957" y="1539"/>
                  </a:lnTo>
                  <a:lnTo>
                    <a:pt x="970" y="1537"/>
                  </a:lnTo>
                  <a:lnTo>
                    <a:pt x="971" y="1524"/>
                  </a:lnTo>
                  <a:lnTo>
                    <a:pt x="983" y="1519"/>
                  </a:lnTo>
                  <a:lnTo>
                    <a:pt x="992" y="1510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7" y="1492"/>
                  </a:lnTo>
                  <a:lnTo>
                    <a:pt x="1017" y="1491"/>
                  </a:lnTo>
                  <a:lnTo>
                    <a:pt x="1027" y="1491"/>
                  </a:lnTo>
                  <a:lnTo>
                    <a:pt x="1036" y="1490"/>
                  </a:lnTo>
                  <a:lnTo>
                    <a:pt x="1049" y="1478"/>
                  </a:lnTo>
                  <a:lnTo>
                    <a:pt x="1061" y="1465"/>
                  </a:lnTo>
                  <a:lnTo>
                    <a:pt x="1075" y="1461"/>
                  </a:lnTo>
                  <a:lnTo>
                    <a:pt x="1083" y="1464"/>
                  </a:lnTo>
                  <a:lnTo>
                    <a:pt x="1093" y="1469"/>
                  </a:lnTo>
                  <a:lnTo>
                    <a:pt x="1102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7"/>
                  </a:lnTo>
                  <a:lnTo>
                    <a:pt x="1119" y="1470"/>
                  </a:lnTo>
                  <a:lnTo>
                    <a:pt x="1131" y="1460"/>
                  </a:lnTo>
                  <a:lnTo>
                    <a:pt x="1145" y="1459"/>
                  </a:lnTo>
                  <a:lnTo>
                    <a:pt x="1150" y="1467"/>
                  </a:lnTo>
                  <a:lnTo>
                    <a:pt x="1149" y="1477"/>
                  </a:lnTo>
                  <a:lnTo>
                    <a:pt x="1145" y="1487"/>
                  </a:lnTo>
                  <a:lnTo>
                    <a:pt x="1152" y="1483"/>
                  </a:lnTo>
                  <a:lnTo>
                    <a:pt x="1158" y="1480"/>
                  </a:lnTo>
                  <a:lnTo>
                    <a:pt x="1165" y="1477"/>
                  </a:lnTo>
                  <a:lnTo>
                    <a:pt x="1168" y="1482"/>
                  </a:lnTo>
                  <a:lnTo>
                    <a:pt x="1172" y="1486"/>
                  </a:lnTo>
                  <a:lnTo>
                    <a:pt x="1171" y="1491"/>
                  </a:lnTo>
                  <a:lnTo>
                    <a:pt x="1165" y="1497"/>
                  </a:lnTo>
                  <a:lnTo>
                    <a:pt x="1157" y="1501"/>
                  </a:lnTo>
                  <a:lnTo>
                    <a:pt x="1149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2" y="1510"/>
                  </a:lnTo>
                  <a:lnTo>
                    <a:pt x="1164" y="1510"/>
                  </a:lnTo>
                  <a:lnTo>
                    <a:pt x="1175" y="1510"/>
                  </a:lnTo>
                  <a:lnTo>
                    <a:pt x="1185" y="1514"/>
                  </a:lnTo>
                  <a:lnTo>
                    <a:pt x="1187" y="1509"/>
                  </a:lnTo>
                  <a:lnTo>
                    <a:pt x="1191" y="1510"/>
                  </a:lnTo>
                  <a:lnTo>
                    <a:pt x="1195" y="1511"/>
                  </a:lnTo>
                  <a:lnTo>
                    <a:pt x="1201" y="1515"/>
                  </a:lnTo>
                  <a:lnTo>
                    <a:pt x="1205" y="1517"/>
                  </a:lnTo>
                  <a:lnTo>
                    <a:pt x="1211" y="1516"/>
                  </a:lnTo>
                  <a:lnTo>
                    <a:pt x="1212" y="1513"/>
                  </a:lnTo>
                  <a:lnTo>
                    <a:pt x="1211" y="1511"/>
                  </a:lnTo>
                  <a:lnTo>
                    <a:pt x="1209" y="1508"/>
                  </a:lnTo>
                  <a:lnTo>
                    <a:pt x="1208" y="1504"/>
                  </a:lnTo>
                  <a:lnTo>
                    <a:pt x="1208" y="1501"/>
                  </a:lnTo>
                  <a:lnTo>
                    <a:pt x="1212" y="1501"/>
                  </a:lnTo>
                  <a:lnTo>
                    <a:pt x="1216" y="1500"/>
                  </a:lnTo>
                  <a:lnTo>
                    <a:pt x="1219" y="1501"/>
                  </a:lnTo>
                  <a:lnTo>
                    <a:pt x="1231" y="1509"/>
                  </a:lnTo>
                  <a:lnTo>
                    <a:pt x="1241" y="1519"/>
                  </a:lnTo>
                  <a:lnTo>
                    <a:pt x="1247" y="1531"/>
                  </a:lnTo>
                  <a:lnTo>
                    <a:pt x="1247" y="1539"/>
                  </a:lnTo>
                  <a:lnTo>
                    <a:pt x="1248" y="1547"/>
                  </a:lnTo>
                  <a:lnTo>
                    <a:pt x="1252" y="1552"/>
                  </a:lnTo>
                  <a:lnTo>
                    <a:pt x="1256" y="1552"/>
                  </a:lnTo>
                  <a:lnTo>
                    <a:pt x="1262" y="1550"/>
                  </a:lnTo>
                  <a:lnTo>
                    <a:pt x="1268" y="1551"/>
                  </a:lnTo>
                  <a:lnTo>
                    <a:pt x="1273" y="1557"/>
                  </a:lnTo>
                  <a:lnTo>
                    <a:pt x="1275" y="1565"/>
                  </a:lnTo>
                  <a:lnTo>
                    <a:pt x="1273" y="1574"/>
                  </a:lnTo>
                  <a:lnTo>
                    <a:pt x="1273" y="1586"/>
                  </a:lnTo>
                  <a:lnTo>
                    <a:pt x="1280" y="1597"/>
                  </a:lnTo>
                  <a:lnTo>
                    <a:pt x="1280" y="1611"/>
                  </a:lnTo>
                  <a:lnTo>
                    <a:pt x="1274" y="1621"/>
                  </a:lnTo>
                  <a:lnTo>
                    <a:pt x="1268" y="1632"/>
                  </a:lnTo>
                  <a:lnTo>
                    <a:pt x="1272" y="1643"/>
                  </a:lnTo>
                  <a:lnTo>
                    <a:pt x="1264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1" y="1671"/>
                  </a:lnTo>
                  <a:lnTo>
                    <a:pt x="1241" y="1679"/>
                  </a:lnTo>
                  <a:lnTo>
                    <a:pt x="1230" y="1684"/>
                  </a:lnTo>
                  <a:lnTo>
                    <a:pt x="1223" y="1692"/>
                  </a:lnTo>
                  <a:lnTo>
                    <a:pt x="1220" y="1701"/>
                  </a:lnTo>
                  <a:lnTo>
                    <a:pt x="1212" y="1709"/>
                  </a:lnTo>
                  <a:lnTo>
                    <a:pt x="1221" y="1724"/>
                  </a:lnTo>
                  <a:lnTo>
                    <a:pt x="1224" y="1740"/>
                  </a:lnTo>
                  <a:lnTo>
                    <a:pt x="1216" y="1755"/>
                  </a:lnTo>
                  <a:lnTo>
                    <a:pt x="1227" y="1749"/>
                  </a:lnTo>
                  <a:lnTo>
                    <a:pt x="1238" y="1743"/>
                  </a:lnTo>
                  <a:lnTo>
                    <a:pt x="1249" y="1738"/>
                  </a:lnTo>
                  <a:lnTo>
                    <a:pt x="1260" y="1734"/>
                  </a:lnTo>
                  <a:lnTo>
                    <a:pt x="1273" y="1734"/>
                  </a:lnTo>
                  <a:lnTo>
                    <a:pt x="1285" y="1739"/>
                  </a:lnTo>
                  <a:lnTo>
                    <a:pt x="1278" y="1748"/>
                  </a:lnTo>
                  <a:lnTo>
                    <a:pt x="1279" y="1761"/>
                  </a:lnTo>
                  <a:lnTo>
                    <a:pt x="1284" y="1772"/>
                  </a:lnTo>
                  <a:lnTo>
                    <a:pt x="1285" y="1777"/>
                  </a:lnTo>
                  <a:lnTo>
                    <a:pt x="1283" y="1783"/>
                  </a:lnTo>
                  <a:lnTo>
                    <a:pt x="1282" y="1788"/>
                  </a:lnTo>
                  <a:lnTo>
                    <a:pt x="1290" y="1793"/>
                  </a:lnTo>
                  <a:lnTo>
                    <a:pt x="1301" y="1791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1" y="1826"/>
                  </a:lnTo>
                  <a:lnTo>
                    <a:pt x="1303" y="1843"/>
                  </a:lnTo>
                  <a:lnTo>
                    <a:pt x="1313" y="1848"/>
                  </a:lnTo>
                  <a:lnTo>
                    <a:pt x="1325" y="1847"/>
                  </a:lnTo>
                  <a:lnTo>
                    <a:pt x="1336" y="1852"/>
                  </a:lnTo>
                  <a:lnTo>
                    <a:pt x="1337" y="1858"/>
                  </a:lnTo>
                  <a:lnTo>
                    <a:pt x="1335" y="1864"/>
                  </a:lnTo>
                  <a:lnTo>
                    <a:pt x="1331" y="1870"/>
                  </a:lnTo>
                  <a:lnTo>
                    <a:pt x="1335" y="1871"/>
                  </a:lnTo>
                  <a:lnTo>
                    <a:pt x="1339" y="1873"/>
                  </a:lnTo>
                  <a:lnTo>
                    <a:pt x="1344" y="1875"/>
                  </a:lnTo>
                  <a:lnTo>
                    <a:pt x="1344" y="1878"/>
                  </a:lnTo>
                  <a:lnTo>
                    <a:pt x="1341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4"/>
                  </a:lnTo>
                  <a:lnTo>
                    <a:pt x="1397" y="1870"/>
                  </a:lnTo>
                  <a:lnTo>
                    <a:pt x="1396" y="1873"/>
                  </a:lnTo>
                  <a:lnTo>
                    <a:pt x="1395" y="1875"/>
                  </a:lnTo>
                  <a:lnTo>
                    <a:pt x="1394" y="1876"/>
                  </a:lnTo>
                  <a:lnTo>
                    <a:pt x="1393" y="1881"/>
                  </a:lnTo>
                  <a:lnTo>
                    <a:pt x="1397" y="1885"/>
                  </a:lnTo>
                  <a:lnTo>
                    <a:pt x="1406" y="1892"/>
                  </a:lnTo>
                  <a:lnTo>
                    <a:pt x="1413" y="1896"/>
                  </a:lnTo>
                  <a:lnTo>
                    <a:pt x="1417" y="1897"/>
                  </a:lnTo>
                  <a:lnTo>
                    <a:pt x="1422" y="1897"/>
                  </a:lnTo>
                  <a:lnTo>
                    <a:pt x="1429" y="1894"/>
                  </a:lnTo>
                  <a:lnTo>
                    <a:pt x="1431" y="1886"/>
                  </a:lnTo>
                  <a:lnTo>
                    <a:pt x="1430" y="1878"/>
                  </a:lnTo>
                  <a:lnTo>
                    <a:pt x="1429" y="1873"/>
                  </a:lnTo>
                  <a:lnTo>
                    <a:pt x="1426" y="1870"/>
                  </a:lnTo>
                  <a:lnTo>
                    <a:pt x="1421" y="1863"/>
                  </a:lnTo>
                  <a:lnTo>
                    <a:pt x="1417" y="1853"/>
                  </a:lnTo>
                  <a:lnTo>
                    <a:pt x="1416" y="1846"/>
                  </a:lnTo>
                  <a:lnTo>
                    <a:pt x="1416" y="1842"/>
                  </a:lnTo>
                  <a:lnTo>
                    <a:pt x="1414" y="1841"/>
                  </a:lnTo>
                  <a:lnTo>
                    <a:pt x="1412" y="1838"/>
                  </a:lnTo>
                  <a:lnTo>
                    <a:pt x="1410" y="1833"/>
                  </a:lnTo>
                  <a:lnTo>
                    <a:pt x="1413" y="1827"/>
                  </a:lnTo>
                  <a:lnTo>
                    <a:pt x="1418" y="1824"/>
                  </a:lnTo>
                  <a:lnTo>
                    <a:pt x="1425" y="1823"/>
                  </a:lnTo>
                  <a:lnTo>
                    <a:pt x="1431" y="1824"/>
                  </a:lnTo>
                  <a:lnTo>
                    <a:pt x="1437" y="1827"/>
                  </a:lnTo>
                  <a:lnTo>
                    <a:pt x="1445" y="1831"/>
                  </a:lnTo>
                  <a:lnTo>
                    <a:pt x="1451" y="1833"/>
                  </a:lnTo>
                  <a:lnTo>
                    <a:pt x="1452" y="1832"/>
                  </a:lnTo>
                  <a:lnTo>
                    <a:pt x="1453" y="1829"/>
                  </a:lnTo>
                  <a:lnTo>
                    <a:pt x="1453" y="1828"/>
                  </a:lnTo>
                  <a:lnTo>
                    <a:pt x="1455" y="1820"/>
                  </a:lnTo>
                  <a:lnTo>
                    <a:pt x="1456" y="1816"/>
                  </a:lnTo>
                  <a:lnTo>
                    <a:pt x="1459" y="1809"/>
                  </a:lnTo>
                  <a:lnTo>
                    <a:pt x="1462" y="1808"/>
                  </a:lnTo>
                  <a:lnTo>
                    <a:pt x="1465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3" y="1822"/>
                  </a:lnTo>
                  <a:lnTo>
                    <a:pt x="1491" y="1823"/>
                  </a:lnTo>
                  <a:lnTo>
                    <a:pt x="1496" y="1818"/>
                  </a:lnTo>
                  <a:lnTo>
                    <a:pt x="1500" y="1811"/>
                  </a:lnTo>
                  <a:lnTo>
                    <a:pt x="1505" y="1806"/>
                  </a:lnTo>
                  <a:lnTo>
                    <a:pt x="1517" y="1806"/>
                  </a:lnTo>
                  <a:lnTo>
                    <a:pt x="1526" y="1811"/>
                  </a:lnTo>
                  <a:lnTo>
                    <a:pt x="1531" y="1821"/>
                  </a:lnTo>
                  <a:lnTo>
                    <a:pt x="1539" y="1818"/>
                  </a:lnTo>
                  <a:lnTo>
                    <a:pt x="1546" y="1815"/>
                  </a:lnTo>
                  <a:lnTo>
                    <a:pt x="1551" y="1808"/>
                  </a:lnTo>
                  <a:lnTo>
                    <a:pt x="1553" y="1810"/>
                  </a:lnTo>
                  <a:lnTo>
                    <a:pt x="1554" y="1812"/>
                  </a:lnTo>
                  <a:lnTo>
                    <a:pt x="1554" y="1815"/>
                  </a:lnTo>
                  <a:lnTo>
                    <a:pt x="1557" y="1815"/>
                  </a:lnTo>
                  <a:lnTo>
                    <a:pt x="1559" y="1815"/>
                  </a:lnTo>
                  <a:lnTo>
                    <a:pt x="1561" y="1814"/>
                  </a:lnTo>
                  <a:lnTo>
                    <a:pt x="1561" y="1813"/>
                  </a:lnTo>
                  <a:lnTo>
                    <a:pt x="1561" y="1810"/>
                  </a:lnTo>
                  <a:lnTo>
                    <a:pt x="1562" y="1809"/>
                  </a:lnTo>
                  <a:lnTo>
                    <a:pt x="1568" y="1806"/>
                  </a:lnTo>
                  <a:lnTo>
                    <a:pt x="1574" y="1807"/>
                  </a:lnTo>
                  <a:lnTo>
                    <a:pt x="1581" y="1808"/>
                  </a:lnTo>
                  <a:lnTo>
                    <a:pt x="1579" y="1795"/>
                  </a:lnTo>
                  <a:lnTo>
                    <a:pt x="1582" y="1784"/>
                  </a:lnTo>
                  <a:lnTo>
                    <a:pt x="1592" y="1777"/>
                  </a:lnTo>
                  <a:lnTo>
                    <a:pt x="1603" y="1776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0" y="1798"/>
                  </a:lnTo>
                  <a:lnTo>
                    <a:pt x="1641" y="1798"/>
                  </a:lnTo>
                  <a:lnTo>
                    <a:pt x="1654" y="1801"/>
                  </a:lnTo>
                  <a:lnTo>
                    <a:pt x="1661" y="1801"/>
                  </a:lnTo>
                  <a:lnTo>
                    <a:pt x="1669" y="1798"/>
                  </a:lnTo>
                  <a:lnTo>
                    <a:pt x="1675" y="1799"/>
                  </a:lnTo>
                  <a:lnTo>
                    <a:pt x="1679" y="1801"/>
                  </a:lnTo>
                  <a:lnTo>
                    <a:pt x="1683" y="1803"/>
                  </a:lnTo>
                  <a:lnTo>
                    <a:pt x="1683" y="1808"/>
                  </a:lnTo>
                  <a:lnTo>
                    <a:pt x="1678" y="1819"/>
                  </a:lnTo>
                  <a:lnTo>
                    <a:pt x="1675" y="1831"/>
                  </a:lnTo>
                  <a:lnTo>
                    <a:pt x="1670" y="1841"/>
                  </a:lnTo>
                  <a:lnTo>
                    <a:pt x="1681" y="1845"/>
                  </a:lnTo>
                  <a:lnTo>
                    <a:pt x="1688" y="1853"/>
                  </a:lnTo>
                  <a:lnTo>
                    <a:pt x="1697" y="1860"/>
                  </a:lnTo>
                  <a:lnTo>
                    <a:pt x="1706" y="1863"/>
                  </a:lnTo>
                  <a:lnTo>
                    <a:pt x="1716" y="1864"/>
                  </a:lnTo>
                  <a:lnTo>
                    <a:pt x="1726" y="1865"/>
                  </a:lnTo>
                  <a:lnTo>
                    <a:pt x="1729" y="1866"/>
                  </a:lnTo>
                  <a:lnTo>
                    <a:pt x="1731" y="1868"/>
                  </a:lnTo>
                  <a:lnTo>
                    <a:pt x="1734" y="1870"/>
                  </a:lnTo>
                  <a:lnTo>
                    <a:pt x="1736" y="1874"/>
                  </a:lnTo>
                  <a:lnTo>
                    <a:pt x="1749" y="1876"/>
                  </a:lnTo>
                  <a:lnTo>
                    <a:pt x="1747" y="1879"/>
                  </a:lnTo>
                  <a:lnTo>
                    <a:pt x="1760" y="1881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0"/>
                  </a:lnTo>
                  <a:lnTo>
                    <a:pt x="1819" y="1910"/>
                  </a:lnTo>
                  <a:lnTo>
                    <a:pt x="1821" y="1920"/>
                  </a:lnTo>
                  <a:lnTo>
                    <a:pt x="1831" y="1938"/>
                  </a:lnTo>
                  <a:lnTo>
                    <a:pt x="1849" y="1947"/>
                  </a:lnTo>
                  <a:lnTo>
                    <a:pt x="1869" y="1945"/>
                  </a:lnTo>
                  <a:lnTo>
                    <a:pt x="1870" y="1943"/>
                  </a:lnTo>
                  <a:lnTo>
                    <a:pt x="1867" y="1940"/>
                  </a:lnTo>
                  <a:lnTo>
                    <a:pt x="1869" y="1934"/>
                  </a:lnTo>
                  <a:lnTo>
                    <a:pt x="1859" y="1930"/>
                  </a:lnTo>
                  <a:lnTo>
                    <a:pt x="1850" y="1928"/>
                  </a:lnTo>
                  <a:lnTo>
                    <a:pt x="1848" y="1921"/>
                  </a:lnTo>
                  <a:lnTo>
                    <a:pt x="1854" y="1900"/>
                  </a:lnTo>
                  <a:lnTo>
                    <a:pt x="1865" y="1882"/>
                  </a:lnTo>
                  <a:lnTo>
                    <a:pt x="1878" y="1868"/>
                  </a:lnTo>
                  <a:lnTo>
                    <a:pt x="1901" y="1863"/>
                  </a:lnTo>
                  <a:lnTo>
                    <a:pt x="1926" y="1867"/>
                  </a:lnTo>
                  <a:lnTo>
                    <a:pt x="1950" y="1862"/>
                  </a:lnTo>
                  <a:lnTo>
                    <a:pt x="1960" y="1856"/>
                  </a:lnTo>
                  <a:lnTo>
                    <a:pt x="1971" y="1853"/>
                  </a:lnTo>
                  <a:lnTo>
                    <a:pt x="1981" y="1849"/>
                  </a:lnTo>
                  <a:lnTo>
                    <a:pt x="1991" y="1839"/>
                  </a:lnTo>
                  <a:lnTo>
                    <a:pt x="2000" y="1828"/>
                  </a:lnTo>
                  <a:lnTo>
                    <a:pt x="2014" y="1826"/>
                  </a:lnTo>
                  <a:lnTo>
                    <a:pt x="2016" y="1828"/>
                  </a:lnTo>
                  <a:lnTo>
                    <a:pt x="2019" y="1831"/>
                  </a:lnTo>
                  <a:lnTo>
                    <a:pt x="2021" y="1833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1"/>
                  </a:lnTo>
                  <a:lnTo>
                    <a:pt x="2027" y="1826"/>
                  </a:lnTo>
                  <a:lnTo>
                    <a:pt x="2034" y="1821"/>
                  </a:lnTo>
                  <a:lnTo>
                    <a:pt x="2034" y="1823"/>
                  </a:lnTo>
                  <a:lnTo>
                    <a:pt x="2035" y="1825"/>
                  </a:lnTo>
                  <a:lnTo>
                    <a:pt x="2042" y="1825"/>
                  </a:lnTo>
                  <a:lnTo>
                    <a:pt x="2047" y="1823"/>
                  </a:lnTo>
                  <a:lnTo>
                    <a:pt x="2056" y="1821"/>
                  </a:lnTo>
                  <a:lnTo>
                    <a:pt x="2064" y="1824"/>
                  </a:lnTo>
                  <a:lnTo>
                    <a:pt x="2067" y="1831"/>
                  </a:lnTo>
                  <a:lnTo>
                    <a:pt x="2077" y="1824"/>
                  </a:lnTo>
                  <a:lnTo>
                    <a:pt x="2090" y="1818"/>
                  </a:lnTo>
                  <a:lnTo>
                    <a:pt x="2104" y="1816"/>
                  </a:lnTo>
                  <a:lnTo>
                    <a:pt x="2106" y="1815"/>
                  </a:lnTo>
                  <a:lnTo>
                    <a:pt x="2109" y="1813"/>
                  </a:lnTo>
                  <a:lnTo>
                    <a:pt x="2114" y="1811"/>
                  </a:lnTo>
                  <a:lnTo>
                    <a:pt x="2128" y="1810"/>
                  </a:lnTo>
                  <a:lnTo>
                    <a:pt x="2141" y="1811"/>
                  </a:lnTo>
                  <a:lnTo>
                    <a:pt x="2152" y="1810"/>
                  </a:lnTo>
                  <a:lnTo>
                    <a:pt x="2170" y="1797"/>
                  </a:lnTo>
                  <a:lnTo>
                    <a:pt x="2183" y="1780"/>
                  </a:lnTo>
                  <a:lnTo>
                    <a:pt x="2199" y="1771"/>
                  </a:lnTo>
                  <a:lnTo>
                    <a:pt x="2217" y="1765"/>
                  </a:lnTo>
                  <a:lnTo>
                    <a:pt x="2230" y="1753"/>
                  </a:lnTo>
                  <a:lnTo>
                    <a:pt x="2246" y="1742"/>
                  </a:lnTo>
                  <a:lnTo>
                    <a:pt x="2244" y="1739"/>
                  </a:lnTo>
                  <a:lnTo>
                    <a:pt x="2242" y="1735"/>
                  </a:lnTo>
                  <a:lnTo>
                    <a:pt x="2243" y="1732"/>
                  </a:lnTo>
                  <a:lnTo>
                    <a:pt x="2262" y="1711"/>
                  </a:lnTo>
                  <a:lnTo>
                    <a:pt x="2286" y="1697"/>
                  </a:lnTo>
                  <a:lnTo>
                    <a:pt x="2315" y="1691"/>
                  </a:lnTo>
                  <a:lnTo>
                    <a:pt x="2322" y="1689"/>
                  </a:lnTo>
                  <a:lnTo>
                    <a:pt x="2328" y="1684"/>
                  </a:lnTo>
                  <a:lnTo>
                    <a:pt x="2335" y="1679"/>
                  </a:lnTo>
                  <a:lnTo>
                    <a:pt x="2324" y="1677"/>
                  </a:lnTo>
                  <a:lnTo>
                    <a:pt x="2314" y="1682"/>
                  </a:lnTo>
                  <a:lnTo>
                    <a:pt x="2307" y="1681"/>
                  </a:lnTo>
                  <a:lnTo>
                    <a:pt x="2307" y="1672"/>
                  </a:lnTo>
                  <a:lnTo>
                    <a:pt x="2315" y="1664"/>
                  </a:lnTo>
                  <a:lnTo>
                    <a:pt x="2317" y="1653"/>
                  </a:lnTo>
                  <a:lnTo>
                    <a:pt x="2316" y="1649"/>
                  </a:lnTo>
                  <a:lnTo>
                    <a:pt x="2315" y="1646"/>
                  </a:lnTo>
                  <a:lnTo>
                    <a:pt x="2316" y="1643"/>
                  </a:lnTo>
                  <a:lnTo>
                    <a:pt x="2329" y="1625"/>
                  </a:lnTo>
                  <a:lnTo>
                    <a:pt x="2342" y="1609"/>
                  </a:lnTo>
                  <a:lnTo>
                    <a:pt x="2356" y="1591"/>
                  </a:lnTo>
                  <a:lnTo>
                    <a:pt x="2372" y="1568"/>
                  </a:lnTo>
                  <a:lnTo>
                    <a:pt x="2387" y="1545"/>
                  </a:lnTo>
                  <a:lnTo>
                    <a:pt x="2407" y="1525"/>
                  </a:lnTo>
                  <a:lnTo>
                    <a:pt x="2413" y="1516"/>
                  </a:lnTo>
                  <a:lnTo>
                    <a:pt x="2414" y="1506"/>
                  </a:lnTo>
                  <a:lnTo>
                    <a:pt x="2420" y="1497"/>
                  </a:lnTo>
                  <a:lnTo>
                    <a:pt x="2421" y="1494"/>
                  </a:lnTo>
                  <a:lnTo>
                    <a:pt x="2420" y="1491"/>
                  </a:lnTo>
                  <a:lnTo>
                    <a:pt x="2417" y="1487"/>
                  </a:lnTo>
                  <a:lnTo>
                    <a:pt x="2427" y="1469"/>
                  </a:lnTo>
                  <a:lnTo>
                    <a:pt x="2437" y="1451"/>
                  </a:lnTo>
                  <a:lnTo>
                    <a:pt x="2451" y="1436"/>
                  </a:lnTo>
                  <a:lnTo>
                    <a:pt x="2455" y="1435"/>
                  </a:lnTo>
                  <a:lnTo>
                    <a:pt x="2460" y="1433"/>
                  </a:lnTo>
                  <a:lnTo>
                    <a:pt x="2462" y="1431"/>
                  </a:lnTo>
                  <a:lnTo>
                    <a:pt x="2463" y="1419"/>
                  </a:lnTo>
                  <a:lnTo>
                    <a:pt x="2461" y="1405"/>
                  </a:lnTo>
                  <a:lnTo>
                    <a:pt x="2464" y="1392"/>
                  </a:lnTo>
                  <a:lnTo>
                    <a:pt x="2450" y="1386"/>
                  </a:lnTo>
                  <a:lnTo>
                    <a:pt x="2438" y="1382"/>
                  </a:lnTo>
                  <a:lnTo>
                    <a:pt x="2424" y="1378"/>
                  </a:lnTo>
                  <a:lnTo>
                    <a:pt x="2424" y="1372"/>
                  </a:lnTo>
                  <a:lnTo>
                    <a:pt x="2420" y="1368"/>
                  </a:lnTo>
                  <a:lnTo>
                    <a:pt x="2419" y="1362"/>
                  </a:lnTo>
                  <a:lnTo>
                    <a:pt x="2421" y="1350"/>
                  </a:lnTo>
                  <a:lnTo>
                    <a:pt x="2425" y="1338"/>
                  </a:lnTo>
                  <a:lnTo>
                    <a:pt x="2434" y="1329"/>
                  </a:lnTo>
                  <a:lnTo>
                    <a:pt x="2426" y="1328"/>
                  </a:lnTo>
                  <a:lnTo>
                    <a:pt x="2418" y="1328"/>
                  </a:lnTo>
                  <a:lnTo>
                    <a:pt x="2410" y="1328"/>
                  </a:lnTo>
                  <a:lnTo>
                    <a:pt x="2398" y="1329"/>
                  </a:lnTo>
                  <a:lnTo>
                    <a:pt x="2385" y="1332"/>
                  </a:lnTo>
                  <a:lnTo>
                    <a:pt x="2371" y="1332"/>
                  </a:lnTo>
                  <a:lnTo>
                    <a:pt x="2358" y="1324"/>
                  </a:lnTo>
                  <a:lnTo>
                    <a:pt x="2344" y="1316"/>
                  </a:lnTo>
                  <a:lnTo>
                    <a:pt x="2328" y="1313"/>
                  </a:lnTo>
                  <a:lnTo>
                    <a:pt x="2346" y="1313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8" y="1311"/>
                  </a:lnTo>
                  <a:lnTo>
                    <a:pt x="2395" y="1301"/>
                  </a:lnTo>
                  <a:lnTo>
                    <a:pt x="2405" y="1294"/>
                  </a:lnTo>
                  <a:lnTo>
                    <a:pt x="2412" y="1292"/>
                  </a:lnTo>
                  <a:lnTo>
                    <a:pt x="2417" y="1290"/>
                  </a:lnTo>
                  <a:lnTo>
                    <a:pt x="2424" y="1286"/>
                  </a:lnTo>
                  <a:lnTo>
                    <a:pt x="2413" y="1282"/>
                  </a:lnTo>
                  <a:lnTo>
                    <a:pt x="2404" y="1277"/>
                  </a:lnTo>
                  <a:lnTo>
                    <a:pt x="2396" y="1272"/>
                  </a:lnTo>
                  <a:lnTo>
                    <a:pt x="2385" y="1254"/>
                  </a:lnTo>
                  <a:lnTo>
                    <a:pt x="2375" y="1235"/>
                  </a:lnTo>
                  <a:lnTo>
                    <a:pt x="2369" y="1214"/>
                  </a:lnTo>
                  <a:lnTo>
                    <a:pt x="2359" y="1206"/>
                  </a:lnTo>
                  <a:lnTo>
                    <a:pt x="2344" y="1203"/>
                  </a:lnTo>
                  <a:lnTo>
                    <a:pt x="2332" y="1194"/>
                  </a:lnTo>
                  <a:lnTo>
                    <a:pt x="2329" y="1185"/>
                  </a:lnTo>
                  <a:lnTo>
                    <a:pt x="2327" y="1176"/>
                  </a:lnTo>
                  <a:lnTo>
                    <a:pt x="2324" y="1168"/>
                  </a:lnTo>
                  <a:lnTo>
                    <a:pt x="2319" y="1165"/>
                  </a:lnTo>
                  <a:lnTo>
                    <a:pt x="2312" y="1163"/>
                  </a:lnTo>
                  <a:lnTo>
                    <a:pt x="2305" y="1161"/>
                  </a:lnTo>
                  <a:lnTo>
                    <a:pt x="2311" y="1156"/>
                  </a:lnTo>
                  <a:lnTo>
                    <a:pt x="2312" y="1148"/>
                  </a:lnTo>
                  <a:lnTo>
                    <a:pt x="2315" y="1141"/>
                  </a:lnTo>
                  <a:lnTo>
                    <a:pt x="2324" y="1136"/>
                  </a:lnTo>
                  <a:lnTo>
                    <a:pt x="2333" y="1130"/>
                  </a:lnTo>
                  <a:lnTo>
                    <a:pt x="2341" y="1124"/>
                  </a:lnTo>
                  <a:lnTo>
                    <a:pt x="2348" y="1110"/>
                  </a:lnTo>
                  <a:lnTo>
                    <a:pt x="2351" y="1096"/>
                  </a:lnTo>
                  <a:lnTo>
                    <a:pt x="2348" y="1082"/>
                  </a:lnTo>
                  <a:lnTo>
                    <a:pt x="2362" y="1088"/>
                  </a:lnTo>
                  <a:lnTo>
                    <a:pt x="2375" y="1085"/>
                  </a:lnTo>
                  <a:lnTo>
                    <a:pt x="2386" y="1077"/>
                  </a:lnTo>
                  <a:lnTo>
                    <a:pt x="2417" y="1051"/>
                  </a:lnTo>
                  <a:lnTo>
                    <a:pt x="2455" y="1039"/>
                  </a:lnTo>
                  <a:lnTo>
                    <a:pt x="2497" y="1035"/>
                  </a:lnTo>
                  <a:lnTo>
                    <a:pt x="2498" y="1031"/>
                  </a:lnTo>
                  <a:lnTo>
                    <a:pt x="2500" y="1020"/>
                  </a:lnTo>
                  <a:lnTo>
                    <a:pt x="2505" y="1008"/>
                  </a:lnTo>
                  <a:lnTo>
                    <a:pt x="2508" y="1002"/>
                  </a:lnTo>
                  <a:lnTo>
                    <a:pt x="2508" y="995"/>
                  </a:lnTo>
                  <a:lnTo>
                    <a:pt x="2505" y="991"/>
                  </a:lnTo>
                  <a:lnTo>
                    <a:pt x="2482" y="981"/>
                  </a:lnTo>
                  <a:lnTo>
                    <a:pt x="2457" y="979"/>
                  </a:lnTo>
                  <a:lnTo>
                    <a:pt x="2437" y="992"/>
                  </a:lnTo>
                  <a:lnTo>
                    <a:pt x="2410" y="975"/>
                  </a:lnTo>
                  <a:lnTo>
                    <a:pt x="2378" y="970"/>
                  </a:lnTo>
                  <a:lnTo>
                    <a:pt x="2345" y="970"/>
                  </a:lnTo>
                  <a:lnTo>
                    <a:pt x="2345" y="977"/>
                  </a:lnTo>
                  <a:lnTo>
                    <a:pt x="2345" y="985"/>
                  </a:lnTo>
                  <a:lnTo>
                    <a:pt x="2344" y="992"/>
                  </a:lnTo>
                  <a:lnTo>
                    <a:pt x="2334" y="1010"/>
                  </a:lnTo>
                  <a:lnTo>
                    <a:pt x="2317" y="1020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5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8" y="963"/>
                  </a:lnTo>
                  <a:lnTo>
                    <a:pt x="2236" y="959"/>
                  </a:lnTo>
                  <a:lnTo>
                    <a:pt x="2226" y="949"/>
                  </a:lnTo>
                  <a:lnTo>
                    <a:pt x="2222" y="937"/>
                  </a:lnTo>
                  <a:lnTo>
                    <a:pt x="2227" y="924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2" y="910"/>
                  </a:lnTo>
                  <a:lnTo>
                    <a:pt x="2254" y="913"/>
                  </a:lnTo>
                  <a:lnTo>
                    <a:pt x="2258" y="914"/>
                  </a:lnTo>
                  <a:lnTo>
                    <a:pt x="2259" y="917"/>
                  </a:lnTo>
                  <a:lnTo>
                    <a:pt x="2272" y="915"/>
                  </a:lnTo>
                  <a:lnTo>
                    <a:pt x="2285" y="912"/>
                  </a:lnTo>
                  <a:lnTo>
                    <a:pt x="2299" y="910"/>
                  </a:lnTo>
                  <a:lnTo>
                    <a:pt x="2302" y="905"/>
                  </a:lnTo>
                  <a:lnTo>
                    <a:pt x="2307" y="903"/>
                  </a:lnTo>
                  <a:lnTo>
                    <a:pt x="2311" y="900"/>
                  </a:lnTo>
                  <a:lnTo>
                    <a:pt x="2311" y="890"/>
                  </a:lnTo>
                  <a:lnTo>
                    <a:pt x="2313" y="880"/>
                  </a:lnTo>
                  <a:lnTo>
                    <a:pt x="2316" y="872"/>
                  </a:lnTo>
                  <a:lnTo>
                    <a:pt x="2328" y="862"/>
                  </a:lnTo>
                  <a:lnTo>
                    <a:pt x="2343" y="857"/>
                  </a:lnTo>
                  <a:lnTo>
                    <a:pt x="2358" y="850"/>
                  </a:lnTo>
                  <a:lnTo>
                    <a:pt x="2370" y="841"/>
                  </a:lnTo>
                  <a:lnTo>
                    <a:pt x="2382" y="832"/>
                  </a:lnTo>
                  <a:lnTo>
                    <a:pt x="2395" y="826"/>
                  </a:lnTo>
                  <a:lnTo>
                    <a:pt x="2405" y="824"/>
                  </a:lnTo>
                  <a:lnTo>
                    <a:pt x="2416" y="824"/>
                  </a:lnTo>
                  <a:lnTo>
                    <a:pt x="2426" y="826"/>
                  </a:lnTo>
                  <a:lnTo>
                    <a:pt x="2429" y="832"/>
                  </a:lnTo>
                  <a:lnTo>
                    <a:pt x="2427" y="841"/>
                  </a:lnTo>
                  <a:lnTo>
                    <a:pt x="2426" y="851"/>
                  </a:lnTo>
                  <a:lnTo>
                    <a:pt x="2424" y="858"/>
                  </a:lnTo>
                  <a:lnTo>
                    <a:pt x="2419" y="865"/>
                  </a:lnTo>
                  <a:lnTo>
                    <a:pt x="2413" y="869"/>
                  </a:lnTo>
                  <a:lnTo>
                    <a:pt x="2405" y="873"/>
                  </a:lnTo>
                  <a:lnTo>
                    <a:pt x="2398" y="877"/>
                  </a:lnTo>
                  <a:lnTo>
                    <a:pt x="2396" y="883"/>
                  </a:lnTo>
                  <a:lnTo>
                    <a:pt x="2404" y="895"/>
                  </a:lnTo>
                  <a:lnTo>
                    <a:pt x="2419" y="896"/>
                  </a:lnTo>
                  <a:lnTo>
                    <a:pt x="2437" y="897"/>
                  </a:lnTo>
                  <a:lnTo>
                    <a:pt x="2428" y="914"/>
                  </a:lnTo>
                  <a:lnTo>
                    <a:pt x="2414" y="927"/>
                  </a:lnTo>
                  <a:lnTo>
                    <a:pt x="2398" y="937"/>
                  </a:lnTo>
                  <a:lnTo>
                    <a:pt x="2405" y="942"/>
                  </a:lnTo>
                  <a:lnTo>
                    <a:pt x="2414" y="944"/>
                  </a:lnTo>
                  <a:lnTo>
                    <a:pt x="2418" y="940"/>
                  </a:lnTo>
                  <a:lnTo>
                    <a:pt x="2432" y="915"/>
                  </a:lnTo>
                  <a:lnTo>
                    <a:pt x="2455" y="902"/>
                  </a:lnTo>
                  <a:lnTo>
                    <a:pt x="2479" y="892"/>
                  </a:lnTo>
                  <a:lnTo>
                    <a:pt x="2504" y="881"/>
                  </a:lnTo>
                  <a:lnTo>
                    <a:pt x="2530" y="872"/>
                  </a:lnTo>
                  <a:lnTo>
                    <a:pt x="2557" y="864"/>
                  </a:lnTo>
                  <a:lnTo>
                    <a:pt x="2557" y="860"/>
                  </a:lnTo>
                  <a:lnTo>
                    <a:pt x="2555" y="854"/>
                  </a:lnTo>
                  <a:lnTo>
                    <a:pt x="2555" y="848"/>
                  </a:lnTo>
                  <a:lnTo>
                    <a:pt x="2558" y="843"/>
                  </a:lnTo>
                  <a:lnTo>
                    <a:pt x="2592" y="818"/>
                  </a:lnTo>
                  <a:lnTo>
                    <a:pt x="2630" y="801"/>
                  </a:lnTo>
                  <a:lnTo>
                    <a:pt x="2664" y="775"/>
                  </a:lnTo>
                  <a:lnTo>
                    <a:pt x="2668" y="768"/>
                  </a:lnTo>
                  <a:lnTo>
                    <a:pt x="2670" y="760"/>
                  </a:lnTo>
                  <a:lnTo>
                    <a:pt x="2675" y="756"/>
                  </a:lnTo>
                  <a:lnTo>
                    <a:pt x="2683" y="754"/>
                  </a:lnTo>
                  <a:lnTo>
                    <a:pt x="2689" y="752"/>
                  </a:lnTo>
                  <a:lnTo>
                    <a:pt x="2693" y="752"/>
                  </a:lnTo>
                  <a:lnTo>
                    <a:pt x="2702" y="768"/>
                  </a:lnTo>
                  <a:lnTo>
                    <a:pt x="2717" y="776"/>
                  </a:lnTo>
                  <a:lnTo>
                    <a:pt x="2734" y="776"/>
                  </a:lnTo>
                  <a:lnTo>
                    <a:pt x="2746" y="769"/>
                  </a:lnTo>
                  <a:lnTo>
                    <a:pt x="2744" y="757"/>
                  </a:lnTo>
                  <a:lnTo>
                    <a:pt x="2744" y="743"/>
                  </a:lnTo>
                  <a:lnTo>
                    <a:pt x="2754" y="739"/>
                  </a:lnTo>
                  <a:lnTo>
                    <a:pt x="2769" y="739"/>
                  </a:lnTo>
                  <a:lnTo>
                    <a:pt x="2782" y="737"/>
                  </a:lnTo>
                  <a:lnTo>
                    <a:pt x="2791" y="730"/>
                  </a:lnTo>
                  <a:lnTo>
                    <a:pt x="2799" y="723"/>
                  </a:lnTo>
                  <a:lnTo>
                    <a:pt x="2808" y="716"/>
                  </a:lnTo>
                  <a:lnTo>
                    <a:pt x="2813" y="715"/>
                  </a:lnTo>
                  <a:lnTo>
                    <a:pt x="2821" y="716"/>
                  </a:lnTo>
                  <a:lnTo>
                    <a:pt x="2826" y="714"/>
                  </a:lnTo>
                  <a:lnTo>
                    <a:pt x="2829" y="707"/>
                  </a:lnTo>
                  <a:lnTo>
                    <a:pt x="2830" y="698"/>
                  </a:lnTo>
                  <a:lnTo>
                    <a:pt x="2832" y="690"/>
                  </a:lnTo>
                  <a:lnTo>
                    <a:pt x="2844" y="685"/>
                  </a:lnTo>
                  <a:lnTo>
                    <a:pt x="2857" y="695"/>
                  </a:lnTo>
                  <a:lnTo>
                    <a:pt x="2870" y="705"/>
                  </a:lnTo>
                  <a:lnTo>
                    <a:pt x="2876" y="701"/>
                  </a:lnTo>
                  <a:lnTo>
                    <a:pt x="2885" y="694"/>
                  </a:lnTo>
                  <a:lnTo>
                    <a:pt x="2893" y="686"/>
                  </a:lnTo>
                  <a:lnTo>
                    <a:pt x="2897" y="678"/>
                  </a:lnTo>
                  <a:lnTo>
                    <a:pt x="2902" y="669"/>
                  </a:lnTo>
                  <a:lnTo>
                    <a:pt x="2907" y="660"/>
                  </a:lnTo>
                  <a:lnTo>
                    <a:pt x="2909" y="649"/>
                  </a:lnTo>
                  <a:lnTo>
                    <a:pt x="2906" y="648"/>
                  </a:lnTo>
                  <a:lnTo>
                    <a:pt x="2906" y="645"/>
                  </a:lnTo>
                  <a:lnTo>
                    <a:pt x="2903" y="643"/>
                  </a:lnTo>
                  <a:lnTo>
                    <a:pt x="2906" y="617"/>
                  </a:lnTo>
                  <a:lnTo>
                    <a:pt x="2902" y="592"/>
                  </a:lnTo>
                  <a:lnTo>
                    <a:pt x="2890" y="570"/>
                  </a:lnTo>
                  <a:lnTo>
                    <a:pt x="2905" y="562"/>
                  </a:lnTo>
                  <a:lnTo>
                    <a:pt x="2918" y="550"/>
                  </a:lnTo>
                  <a:lnTo>
                    <a:pt x="2929" y="537"/>
                  </a:lnTo>
                  <a:lnTo>
                    <a:pt x="2939" y="545"/>
                  </a:lnTo>
                  <a:lnTo>
                    <a:pt x="2950" y="549"/>
                  </a:lnTo>
                  <a:lnTo>
                    <a:pt x="2962" y="547"/>
                  </a:lnTo>
                  <a:lnTo>
                    <a:pt x="2963" y="551"/>
                  </a:lnTo>
                  <a:lnTo>
                    <a:pt x="2966" y="553"/>
                  </a:lnTo>
                  <a:lnTo>
                    <a:pt x="2969" y="553"/>
                  </a:lnTo>
                  <a:lnTo>
                    <a:pt x="2978" y="554"/>
                  </a:lnTo>
                  <a:lnTo>
                    <a:pt x="2987" y="552"/>
                  </a:lnTo>
                  <a:lnTo>
                    <a:pt x="2995" y="550"/>
                  </a:lnTo>
                  <a:lnTo>
                    <a:pt x="2996" y="538"/>
                  </a:lnTo>
                  <a:lnTo>
                    <a:pt x="3001" y="528"/>
                  </a:lnTo>
                  <a:lnTo>
                    <a:pt x="3011" y="520"/>
                  </a:lnTo>
                  <a:lnTo>
                    <a:pt x="3012" y="517"/>
                  </a:lnTo>
                  <a:lnTo>
                    <a:pt x="3012" y="512"/>
                  </a:lnTo>
                  <a:lnTo>
                    <a:pt x="3012" y="508"/>
                  </a:lnTo>
                  <a:lnTo>
                    <a:pt x="3019" y="499"/>
                  </a:lnTo>
                  <a:lnTo>
                    <a:pt x="3026" y="491"/>
                  </a:lnTo>
                  <a:lnTo>
                    <a:pt x="3034" y="483"/>
                  </a:lnTo>
                  <a:lnTo>
                    <a:pt x="3036" y="478"/>
                  </a:lnTo>
                  <a:lnTo>
                    <a:pt x="3035" y="471"/>
                  </a:lnTo>
                  <a:lnTo>
                    <a:pt x="3032" y="464"/>
                  </a:lnTo>
                  <a:lnTo>
                    <a:pt x="3038" y="460"/>
                  </a:lnTo>
                  <a:lnTo>
                    <a:pt x="3043" y="454"/>
                  </a:lnTo>
                  <a:lnTo>
                    <a:pt x="3047" y="447"/>
                  </a:lnTo>
                  <a:lnTo>
                    <a:pt x="3049" y="441"/>
                  </a:lnTo>
                  <a:lnTo>
                    <a:pt x="3046" y="434"/>
                  </a:lnTo>
                  <a:lnTo>
                    <a:pt x="3046" y="430"/>
                  </a:lnTo>
                  <a:lnTo>
                    <a:pt x="3054" y="421"/>
                  </a:lnTo>
                  <a:lnTo>
                    <a:pt x="3055" y="412"/>
                  </a:lnTo>
                  <a:lnTo>
                    <a:pt x="3055" y="402"/>
                  </a:lnTo>
                  <a:lnTo>
                    <a:pt x="3067" y="401"/>
                  </a:lnTo>
                  <a:lnTo>
                    <a:pt x="3078" y="396"/>
                  </a:lnTo>
                  <a:lnTo>
                    <a:pt x="3079" y="386"/>
                  </a:lnTo>
                  <a:lnTo>
                    <a:pt x="3076" y="377"/>
                  </a:lnTo>
                  <a:lnTo>
                    <a:pt x="3073" y="368"/>
                  </a:lnTo>
                  <a:lnTo>
                    <a:pt x="3073" y="359"/>
                  </a:lnTo>
                  <a:lnTo>
                    <a:pt x="3074" y="355"/>
                  </a:lnTo>
                  <a:lnTo>
                    <a:pt x="3075" y="350"/>
                  </a:lnTo>
                  <a:lnTo>
                    <a:pt x="3078" y="346"/>
                  </a:lnTo>
                  <a:lnTo>
                    <a:pt x="3070" y="344"/>
                  </a:lnTo>
                  <a:lnTo>
                    <a:pt x="3064" y="341"/>
                  </a:lnTo>
                  <a:lnTo>
                    <a:pt x="3059" y="341"/>
                  </a:lnTo>
                  <a:lnTo>
                    <a:pt x="3037" y="348"/>
                  </a:lnTo>
                  <a:lnTo>
                    <a:pt x="3014" y="350"/>
                  </a:lnTo>
                  <a:lnTo>
                    <a:pt x="2993" y="354"/>
                  </a:lnTo>
                  <a:lnTo>
                    <a:pt x="2984" y="360"/>
                  </a:lnTo>
                  <a:lnTo>
                    <a:pt x="2976" y="367"/>
                  </a:lnTo>
                  <a:lnTo>
                    <a:pt x="2966" y="372"/>
                  </a:lnTo>
                  <a:lnTo>
                    <a:pt x="2968" y="374"/>
                  </a:lnTo>
                  <a:lnTo>
                    <a:pt x="2969" y="376"/>
                  </a:lnTo>
                  <a:lnTo>
                    <a:pt x="2969" y="378"/>
                  </a:lnTo>
                  <a:lnTo>
                    <a:pt x="2951" y="385"/>
                  </a:lnTo>
                  <a:lnTo>
                    <a:pt x="2933" y="385"/>
                  </a:lnTo>
                  <a:lnTo>
                    <a:pt x="2916" y="380"/>
                  </a:lnTo>
                  <a:lnTo>
                    <a:pt x="2909" y="378"/>
                  </a:lnTo>
                  <a:lnTo>
                    <a:pt x="2903" y="380"/>
                  </a:lnTo>
                  <a:lnTo>
                    <a:pt x="2895" y="385"/>
                  </a:lnTo>
                  <a:lnTo>
                    <a:pt x="2892" y="386"/>
                  </a:lnTo>
                  <a:lnTo>
                    <a:pt x="2889" y="385"/>
                  </a:lnTo>
                  <a:lnTo>
                    <a:pt x="2887" y="382"/>
                  </a:lnTo>
                  <a:lnTo>
                    <a:pt x="2885" y="378"/>
                  </a:lnTo>
                  <a:lnTo>
                    <a:pt x="2884" y="374"/>
                  </a:lnTo>
                  <a:lnTo>
                    <a:pt x="2890" y="372"/>
                  </a:lnTo>
                  <a:lnTo>
                    <a:pt x="2885" y="368"/>
                  </a:lnTo>
                  <a:lnTo>
                    <a:pt x="2880" y="366"/>
                  </a:lnTo>
                  <a:lnTo>
                    <a:pt x="2877" y="362"/>
                  </a:lnTo>
                  <a:lnTo>
                    <a:pt x="2877" y="348"/>
                  </a:lnTo>
                  <a:lnTo>
                    <a:pt x="2874" y="335"/>
                  </a:lnTo>
                  <a:lnTo>
                    <a:pt x="2866" y="322"/>
                  </a:lnTo>
                  <a:lnTo>
                    <a:pt x="2871" y="319"/>
                  </a:lnTo>
                  <a:lnTo>
                    <a:pt x="2872" y="313"/>
                  </a:lnTo>
                  <a:lnTo>
                    <a:pt x="2876" y="309"/>
                  </a:lnTo>
                  <a:lnTo>
                    <a:pt x="2864" y="310"/>
                  </a:lnTo>
                  <a:lnTo>
                    <a:pt x="2852" y="307"/>
                  </a:lnTo>
                  <a:lnTo>
                    <a:pt x="2840" y="302"/>
                  </a:lnTo>
                  <a:lnTo>
                    <a:pt x="2836" y="298"/>
                  </a:lnTo>
                  <a:lnTo>
                    <a:pt x="2834" y="292"/>
                  </a:lnTo>
                  <a:lnTo>
                    <a:pt x="2832" y="286"/>
                  </a:lnTo>
                  <a:lnTo>
                    <a:pt x="2822" y="278"/>
                  </a:lnTo>
                  <a:lnTo>
                    <a:pt x="2808" y="277"/>
                  </a:lnTo>
                  <a:lnTo>
                    <a:pt x="2795" y="274"/>
                  </a:lnTo>
                  <a:lnTo>
                    <a:pt x="2787" y="270"/>
                  </a:lnTo>
                  <a:lnTo>
                    <a:pt x="2779" y="267"/>
                  </a:lnTo>
                  <a:lnTo>
                    <a:pt x="2770" y="264"/>
                  </a:lnTo>
                  <a:lnTo>
                    <a:pt x="2759" y="262"/>
                  </a:lnTo>
                  <a:lnTo>
                    <a:pt x="2747" y="262"/>
                  </a:lnTo>
                  <a:lnTo>
                    <a:pt x="2734" y="263"/>
                  </a:lnTo>
                  <a:lnTo>
                    <a:pt x="2731" y="257"/>
                  </a:lnTo>
                  <a:lnTo>
                    <a:pt x="2725" y="255"/>
                  </a:lnTo>
                  <a:lnTo>
                    <a:pt x="2721" y="250"/>
                  </a:lnTo>
                  <a:lnTo>
                    <a:pt x="2722" y="242"/>
                  </a:lnTo>
                  <a:lnTo>
                    <a:pt x="2725" y="235"/>
                  </a:lnTo>
                  <a:lnTo>
                    <a:pt x="2724" y="227"/>
                  </a:lnTo>
                  <a:lnTo>
                    <a:pt x="2719" y="223"/>
                  </a:lnTo>
                  <a:lnTo>
                    <a:pt x="2715" y="219"/>
                  </a:lnTo>
                  <a:lnTo>
                    <a:pt x="2713" y="217"/>
                  </a:lnTo>
                  <a:lnTo>
                    <a:pt x="2708" y="191"/>
                  </a:lnTo>
                  <a:lnTo>
                    <a:pt x="2696" y="170"/>
                  </a:lnTo>
                  <a:lnTo>
                    <a:pt x="2679" y="150"/>
                  </a:lnTo>
                  <a:lnTo>
                    <a:pt x="2679" y="145"/>
                  </a:lnTo>
                  <a:lnTo>
                    <a:pt x="2684" y="140"/>
                  </a:lnTo>
                  <a:lnTo>
                    <a:pt x="2685" y="135"/>
                  </a:lnTo>
                  <a:lnTo>
                    <a:pt x="2673" y="113"/>
                  </a:lnTo>
                  <a:lnTo>
                    <a:pt x="2663" y="91"/>
                  </a:lnTo>
                  <a:lnTo>
                    <a:pt x="2653" y="70"/>
                  </a:lnTo>
                  <a:lnTo>
                    <a:pt x="2647" y="59"/>
                  </a:lnTo>
                  <a:lnTo>
                    <a:pt x="2640" y="49"/>
                  </a:lnTo>
                  <a:lnTo>
                    <a:pt x="2631" y="40"/>
                  </a:lnTo>
                  <a:lnTo>
                    <a:pt x="2626" y="37"/>
                  </a:lnTo>
                  <a:lnTo>
                    <a:pt x="2619" y="35"/>
                  </a:lnTo>
                  <a:lnTo>
                    <a:pt x="2612" y="33"/>
                  </a:lnTo>
                  <a:lnTo>
                    <a:pt x="2600" y="32"/>
                  </a:lnTo>
                  <a:lnTo>
                    <a:pt x="2588" y="32"/>
                  </a:lnTo>
                  <a:lnTo>
                    <a:pt x="2577" y="31"/>
                  </a:lnTo>
                  <a:lnTo>
                    <a:pt x="2566" y="25"/>
                  </a:lnTo>
                  <a:lnTo>
                    <a:pt x="2555" y="18"/>
                  </a:lnTo>
                  <a:lnTo>
                    <a:pt x="2544" y="11"/>
                  </a:lnTo>
                  <a:lnTo>
                    <a:pt x="2527" y="4"/>
                  </a:lnTo>
                  <a:lnTo>
                    <a:pt x="2507" y="0"/>
                  </a:lnTo>
                  <a:lnTo>
                    <a:pt x="2487" y="1"/>
                  </a:lnTo>
                  <a:lnTo>
                    <a:pt x="2484" y="1"/>
                  </a:lnTo>
                  <a:lnTo>
                    <a:pt x="2480" y="3"/>
                  </a:lnTo>
                  <a:lnTo>
                    <a:pt x="2476" y="5"/>
                  </a:lnTo>
                  <a:lnTo>
                    <a:pt x="2466" y="5"/>
                  </a:lnTo>
                  <a:lnTo>
                    <a:pt x="2456" y="0"/>
                  </a:lnTo>
                  <a:lnTo>
                    <a:pt x="2448" y="1"/>
                  </a:lnTo>
                  <a:lnTo>
                    <a:pt x="2428" y="9"/>
                  </a:lnTo>
                  <a:lnTo>
                    <a:pt x="2407" y="10"/>
                  </a:lnTo>
                  <a:lnTo>
                    <a:pt x="2389" y="15"/>
                  </a:lnTo>
                  <a:lnTo>
                    <a:pt x="2375" y="25"/>
                  </a:lnTo>
                  <a:lnTo>
                    <a:pt x="2361" y="36"/>
                  </a:lnTo>
                  <a:lnTo>
                    <a:pt x="2345" y="44"/>
                  </a:lnTo>
                  <a:lnTo>
                    <a:pt x="2342" y="49"/>
                  </a:lnTo>
                  <a:lnTo>
                    <a:pt x="2342" y="56"/>
                  </a:lnTo>
                  <a:lnTo>
                    <a:pt x="2345" y="59"/>
                  </a:lnTo>
                  <a:lnTo>
                    <a:pt x="2365" y="65"/>
                  </a:lnTo>
                  <a:lnTo>
                    <a:pt x="2375" y="81"/>
                  </a:lnTo>
                  <a:lnTo>
                    <a:pt x="2377" y="98"/>
                  </a:lnTo>
                  <a:lnTo>
                    <a:pt x="2369" y="113"/>
                  </a:lnTo>
                  <a:lnTo>
                    <a:pt x="2353" y="127"/>
                  </a:lnTo>
                  <a:lnTo>
                    <a:pt x="2338" y="144"/>
                  </a:lnTo>
                  <a:lnTo>
                    <a:pt x="2334" y="155"/>
                  </a:lnTo>
                  <a:lnTo>
                    <a:pt x="2331" y="166"/>
                  </a:lnTo>
                  <a:lnTo>
                    <a:pt x="2324" y="173"/>
                  </a:lnTo>
                  <a:lnTo>
                    <a:pt x="2320" y="176"/>
                  </a:lnTo>
                  <a:lnTo>
                    <a:pt x="2316" y="181"/>
                  </a:lnTo>
                  <a:lnTo>
                    <a:pt x="2313" y="185"/>
                  </a:lnTo>
                  <a:lnTo>
                    <a:pt x="2307" y="198"/>
                  </a:lnTo>
                  <a:lnTo>
                    <a:pt x="2310" y="214"/>
                  </a:lnTo>
                  <a:lnTo>
                    <a:pt x="2308" y="230"/>
                  </a:lnTo>
                  <a:lnTo>
                    <a:pt x="2310" y="230"/>
                  </a:lnTo>
                  <a:lnTo>
                    <a:pt x="2313" y="230"/>
                  </a:lnTo>
                  <a:lnTo>
                    <a:pt x="2315" y="230"/>
                  </a:lnTo>
                  <a:lnTo>
                    <a:pt x="2310" y="233"/>
                  </a:lnTo>
                  <a:lnTo>
                    <a:pt x="2306" y="237"/>
                  </a:lnTo>
                  <a:lnTo>
                    <a:pt x="2302" y="239"/>
                  </a:lnTo>
                  <a:lnTo>
                    <a:pt x="2280" y="242"/>
                  </a:lnTo>
                  <a:lnTo>
                    <a:pt x="2261" y="251"/>
                  </a:lnTo>
                  <a:lnTo>
                    <a:pt x="2241" y="261"/>
                  </a:lnTo>
                  <a:lnTo>
                    <a:pt x="2222" y="262"/>
                  </a:lnTo>
                  <a:lnTo>
                    <a:pt x="2203" y="254"/>
                  </a:lnTo>
                  <a:lnTo>
                    <a:pt x="2183" y="246"/>
                  </a:lnTo>
                  <a:lnTo>
                    <a:pt x="2172" y="241"/>
                  </a:lnTo>
                  <a:lnTo>
                    <a:pt x="2175" y="250"/>
                  </a:lnTo>
                  <a:lnTo>
                    <a:pt x="2174" y="257"/>
                  </a:lnTo>
                  <a:lnTo>
                    <a:pt x="2172" y="263"/>
                  </a:lnTo>
                  <a:lnTo>
                    <a:pt x="2161" y="283"/>
                  </a:lnTo>
                  <a:lnTo>
                    <a:pt x="2148" y="302"/>
                  </a:lnTo>
                  <a:lnTo>
                    <a:pt x="2137" y="322"/>
                  </a:lnTo>
                  <a:lnTo>
                    <a:pt x="2136" y="329"/>
                  </a:lnTo>
                  <a:lnTo>
                    <a:pt x="2138" y="336"/>
                  </a:lnTo>
                  <a:lnTo>
                    <a:pt x="2140" y="342"/>
                  </a:lnTo>
                  <a:lnTo>
                    <a:pt x="2130" y="344"/>
                  </a:lnTo>
                  <a:lnTo>
                    <a:pt x="2121" y="347"/>
                  </a:lnTo>
                  <a:lnTo>
                    <a:pt x="2116" y="351"/>
                  </a:lnTo>
                  <a:lnTo>
                    <a:pt x="2113" y="362"/>
                  </a:lnTo>
                  <a:lnTo>
                    <a:pt x="2118" y="374"/>
                  </a:lnTo>
                  <a:lnTo>
                    <a:pt x="2130" y="380"/>
                  </a:lnTo>
                  <a:lnTo>
                    <a:pt x="2136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4"/>
                  </a:lnTo>
                  <a:lnTo>
                    <a:pt x="2181" y="375"/>
                  </a:lnTo>
                  <a:lnTo>
                    <a:pt x="2195" y="380"/>
                  </a:lnTo>
                  <a:lnTo>
                    <a:pt x="2197" y="382"/>
                  </a:lnTo>
                  <a:lnTo>
                    <a:pt x="2200" y="384"/>
                  </a:lnTo>
                  <a:lnTo>
                    <a:pt x="2203" y="385"/>
                  </a:lnTo>
                  <a:lnTo>
                    <a:pt x="2214" y="384"/>
                  </a:lnTo>
                  <a:lnTo>
                    <a:pt x="2223" y="378"/>
                  </a:lnTo>
                  <a:lnTo>
                    <a:pt x="2233" y="373"/>
                  </a:lnTo>
                  <a:lnTo>
                    <a:pt x="2259" y="370"/>
                  </a:lnTo>
                  <a:lnTo>
                    <a:pt x="2283" y="380"/>
                  </a:lnTo>
                  <a:lnTo>
                    <a:pt x="2304" y="400"/>
                  </a:lnTo>
                  <a:lnTo>
                    <a:pt x="2309" y="405"/>
                  </a:lnTo>
                  <a:lnTo>
                    <a:pt x="2317" y="409"/>
                  </a:lnTo>
                  <a:lnTo>
                    <a:pt x="2324" y="413"/>
                  </a:lnTo>
                  <a:lnTo>
                    <a:pt x="2332" y="420"/>
                  </a:lnTo>
                  <a:lnTo>
                    <a:pt x="2338" y="430"/>
                  </a:lnTo>
                  <a:lnTo>
                    <a:pt x="2337" y="441"/>
                  </a:lnTo>
                  <a:lnTo>
                    <a:pt x="2335" y="445"/>
                  </a:lnTo>
                  <a:lnTo>
                    <a:pt x="2332" y="449"/>
                  </a:lnTo>
                  <a:lnTo>
                    <a:pt x="2328" y="451"/>
                  </a:lnTo>
                  <a:lnTo>
                    <a:pt x="2314" y="451"/>
                  </a:lnTo>
                  <a:lnTo>
                    <a:pt x="2301" y="450"/>
                  </a:lnTo>
                  <a:lnTo>
                    <a:pt x="2288" y="446"/>
                  </a:lnTo>
                  <a:lnTo>
                    <a:pt x="2265" y="444"/>
                  </a:lnTo>
                  <a:lnTo>
                    <a:pt x="2243" y="451"/>
                  </a:lnTo>
                  <a:lnTo>
                    <a:pt x="2219" y="456"/>
                  </a:lnTo>
                  <a:lnTo>
                    <a:pt x="2214" y="459"/>
                  </a:lnTo>
                  <a:lnTo>
                    <a:pt x="2208" y="465"/>
                  </a:lnTo>
                  <a:lnTo>
                    <a:pt x="2202" y="470"/>
                  </a:lnTo>
                  <a:lnTo>
                    <a:pt x="2196" y="471"/>
                  </a:lnTo>
                  <a:lnTo>
                    <a:pt x="2190" y="471"/>
                  </a:lnTo>
                  <a:lnTo>
                    <a:pt x="2183" y="471"/>
                  </a:lnTo>
                  <a:lnTo>
                    <a:pt x="2165" y="487"/>
                  </a:lnTo>
                  <a:lnTo>
                    <a:pt x="2153" y="507"/>
                  </a:lnTo>
                  <a:lnTo>
                    <a:pt x="2139" y="526"/>
                  </a:lnTo>
                  <a:lnTo>
                    <a:pt x="2120" y="532"/>
                  </a:lnTo>
                  <a:lnTo>
                    <a:pt x="2101" y="531"/>
                  </a:lnTo>
                  <a:lnTo>
                    <a:pt x="2081" y="532"/>
                  </a:lnTo>
                  <a:lnTo>
                    <a:pt x="2071" y="537"/>
                  </a:lnTo>
                  <a:lnTo>
                    <a:pt x="2063" y="545"/>
                  </a:lnTo>
                  <a:lnTo>
                    <a:pt x="2055" y="555"/>
                  </a:lnTo>
                  <a:lnTo>
                    <a:pt x="2040" y="567"/>
                  </a:lnTo>
                  <a:lnTo>
                    <a:pt x="2020" y="571"/>
                  </a:lnTo>
                  <a:lnTo>
                    <a:pt x="1998" y="569"/>
                  </a:lnTo>
                  <a:lnTo>
                    <a:pt x="1978" y="562"/>
                  </a:lnTo>
                  <a:lnTo>
                    <a:pt x="1958" y="555"/>
                  </a:lnTo>
                  <a:lnTo>
                    <a:pt x="1939" y="556"/>
                  </a:lnTo>
                  <a:lnTo>
                    <a:pt x="1922" y="567"/>
                  </a:lnTo>
                  <a:lnTo>
                    <a:pt x="1913" y="586"/>
                  </a:lnTo>
                  <a:lnTo>
                    <a:pt x="1917" y="605"/>
                  </a:lnTo>
                  <a:lnTo>
                    <a:pt x="1929" y="617"/>
                  </a:lnTo>
                  <a:lnTo>
                    <a:pt x="1940" y="629"/>
                  </a:lnTo>
                  <a:lnTo>
                    <a:pt x="1939" y="641"/>
                  </a:lnTo>
                  <a:lnTo>
                    <a:pt x="1924" y="650"/>
                  </a:lnTo>
                  <a:lnTo>
                    <a:pt x="1905" y="657"/>
                  </a:lnTo>
                  <a:lnTo>
                    <a:pt x="1887" y="665"/>
                  </a:lnTo>
                  <a:lnTo>
                    <a:pt x="1869" y="680"/>
                  </a:lnTo>
                  <a:lnTo>
                    <a:pt x="1852" y="697"/>
                  </a:lnTo>
                  <a:lnTo>
                    <a:pt x="1835" y="708"/>
                  </a:lnTo>
                  <a:lnTo>
                    <a:pt x="1776" y="719"/>
                  </a:lnTo>
                  <a:lnTo>
                    <a:pt x="1715" y="719"/>
                  </a:lnTo>
                  <a:lnTo>
                    <a:pt x="1656" y="728"/>
                  </a:lnTo>
                  <a:lnTo>
                    <a:pt x="1636" y="740"/>
                  </a:lnTo>
                  <a:lnTo>
                    <a:pt x="1618" y="755"/>
                  </a:lnTo>
                  <a:lnTo>
                    <a:pt x="1595" y="761"/>
                  </a:lnTo>
                  <a:lnTo>
                    <a:pt x="1585" y="758"/>
                  </a:lnTo>
                  <a:lnTo>
                    <a:pt x="1576" y="755"/>
                  </a:lnTo>
                  <a:lnTo>
                    <a:pt x="1565" y="757"/>
                  </a:lnTo>
                  <a:lnTo>
                    <a:pt x="1563" y="756"/>
                  </a:lnTo>
                  <a:lnTo>
                    <a:pt x="1562" y="751"/>
                  </a:lnTo>
                  <a:lnTo>
                    <a:pt x="1559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6" y="716"/>
                  </a:lnTo>
                  <a:lnTo>
                    <a:pt x="1404" y="706"/>
                  </a:lnTo>
                  <a:lnTo>
                    <a:pt x="1381" y="701"/>
                  </a:lnTo>
                  <a:lnTo>
                    <a:pt x="1357" y="701"/>
                  </a:lnTo>
                  <a:lnTo>
                    <a:pt x="1290" y="708"/>
                  </a:lnTo>
                  <a:lnTo>
                    <a:pt x="1221" y="707"/>
                  </a:lnTo>
                  <a:lnTo>
                    <a:pt x="1161" y="685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8" y="611"/>
                  </a:lnTo>
                  <a:lnTo>
                    <a:pt x="1099" y="604"/>
                  </a:lnTo>
                  <a:lnTo>
                    <a:pt x="1083" y="598"/>
                  </a:lnTo>
                  <a:lnTo>
                    <a:pt x="1067" y="593"/>
                  </a:lnTo>
                  <a:lnTo>
                    <a:pt x="1051" y="588"/>
                  </a:lnTo>
                  <a:lnTo>
                    <a:pt x="1036" y="580"/>
                  </a:lnTo>
                  <a:lnTo>
                    <a:pt x="1023" y="569"/>
                  </a:lnTo>
                  <a:lnTo>
                    <a:pt x="1007" y="561"/>
                  </a:lnTo>
                  <a:lnTo>
                    <a:pt x="966" y="556"/>
                  </a:lnTo>
                  <a:lnTo>
                    <a:pt x="925" y="554"/>
                  </a:lnTo>
                  <a:lnTo>
                    <a:pt x="886" y="546"/>
                  </a:lnTo>
                  <a:lnTo>
                    <a:pt x="877" y="540"/>
                  </a:lnTo>
                  <a:lnTo>
                    <a:pt x="872" y="531"/>
                  </a:lnTo>
                  <a:lnTo>
                    <a:pt x="869" y="520"/>
                  </a:lnTo>
                  <a:lnTo>
                    <a:pt x="873" y="505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4" y="453"/>
                  </a:lnTo>
                  <a:lnTo>
                    <a:pt x="892" y="444"/>
                  </a:lnTo>
                  <a:lnTo>
                    <a:pt x="879" y="426"/>
                  </a:lnTo>
                  <a:lnTo>
                    <a:pt x="869" y="405"/>
                  </a:lnTo>
                  <a:lnTo>
                    <a:pt x="858" y="386"/>
                  </a:lnTo>
                  <a:lnTo>
                    <a:pt x="838" y="372"/>
                  </a:lnTo>
                  <a:lnTo>
                    <a:pt x="814" y="369"/>
                  </a:lnTo>
                  <a:lnTo>
                    <a:pt x="790" y="364"/>
                  </a:lnTo>
                  <a:lnTo>
                    <a:pt x="770" y="352"/>
                  </a:lnTo>
                  <a:lnTo>
                    <a:pt x="752" y="337"/>
                  </a:lnTo>
                  <a:lnTo>
                    <a:pt x="733" y="322"/>
                  </a:lnTo>
                  <a:lnTo>
                    <a:pt x="737" y="321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1"/>
                  </a:lnTo>
                  <a:lnTo>
                    <a:pt x="731" y="309"/>
                  </a:lnTo>
                  <a:lnTo>
                    <a:pt x="734" y="29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26520" y="1752480"/>
              <a:ext cx="3248640" cy="2433600"/>
            </a:xfrm>
            <a:custGeom>
              <a:avLst/>
              <a:gdLst/>
              <a:ahLst/>
              <a:rect l="l" t="t" r="r" b="b"/>
              <a:pathLst>
                <a:path w="3080" h="1948">
                  <a:moveTo>
                    <a:pt x="734" y="292"/>
                  </a:moveTo>
                  <a:lnTo>
                    <a:pt x="723" y="289"/>
                  </a:lnTo>
                  <a:lnTo>
                    <a:pt x="712" y="295"/>
                  </a:lnTo>
                  <a:lnTo>
                    <a:pt x="701" y="295"/>
                  </a:lnTo>
                  <a:lnTo>
                    <a:pt x="695" y="293"/>
                  </a:lnTo>
                  <a:lnTo>
                    <a:pt x="689" y="293"/>
                  </a:lnTo>
                  <a:lnTo>
                    <a:pt x="684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8" y="300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10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9" y="332"/>
                  </a:lnTo>
                  <a:lnTo>
                    <a:pt x="628" y="334"/>
                  </a:lnTo>
                  <a:lnTo>
                    <a:pt x="623" y="336"/>
                  </a:lnTo>
                  <a:lnTo>
                    <a:pt x="617" y="338"/>
                  </a:lnTo>
                  <a:lnTo>
                    <a:pt x="615" y="343"/>
                  </a:lnTo>
                  <a:lnTo>
                    <a:pt x="614" y="356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3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5"/>
                  </a:lnTo>
                  <a:lnTo>
                    <a:pt x="557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4" y="418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8"/>
                  </a:lnTo>
                  <a:lnTo>
                    <a:pt x="463" y="520"/>
                  </a:lnTo>
                  <a:lnTo>
                    <a:pt x="467" y="526"/>
                  </a:lnTo>
                  <a:lnTo>
                    <a:pt x="472" y="532"/>
                  </a:lnTo>
                  <a:lnTo>
                    <a:pt x="473" y="536"/>
                  </a:lnTo>
                  <a:lnTo>
                    <a:pt x="473" y="540"/>
                  </a:lnTo>
                  <a:lnTo>
                    <a:pt x="469" y="543"/>
                  </a:lnTo>
                  <a:lnTo>
                    <a:pt x="451" y="542"/>
                  </a:lnTo>
                  <a:lnTo>
                    <a:pt x="435" y="538"/>
                  </a:lnTo>
                  <a:lnTo>
                    <a:pt x="418" y="531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4" y="539"/>
                  </a:lnTo>
                  <a:lnTo>
                    <a:pt x="354" y="541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2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2"/>
                  </a:lnTo>
                  <a:lnTo>
                    <a:pt x="360" y="627"/>
                  </a:lnTo>
                  <a:lnTo>
                    <a:pt x="360" y="633"/>
                  </a:lnTo>
                  <a:lnTo>
                    <a:pt x="369" y="642"/>
                  </a:lnTo>
                  <a:lnTo>
                    <a:pt x="377" y="652"/>
                  </a:lnTo>
                  <a:lnTo>
                    <a:pt x="378" y="663"/>
                  </a:lnTo>
                  <a:lnTo>
                    <a:pt x="369" y="673"/>
                  </a:lnTo>
                  <a:lnTo>
                    <a:pt x="355" y="678"/>
                  </a:lnTo>
                  <a:lnTo>
                    <a:pt x="349" y="689"/>
                  </a:lnTo>
                  <a:lnTo>
                    <a:pt x="351" y="699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6"/>
                  </a:lnTo>
                  <a:lnTo>
                    <a:pt x="349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4" y="772"/>
                  </a:lnTo>
                  <a:lnTo>
                    <a:pt x="230" y="782"/>
                  </a:lnTo>
                  <a:lnTo>
                    <a:pt x="206" y="784"/>
                  </a:lnTo>
                  <a:lnTo>
                    <a:pt x="183" y="788"/>
                  </a:lnTo>
                  <a:lnTo>
                    <a:pt x="168" y="799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9"/>
                  </a:lnTo>
                  <a:lnTo>
                    <a:pt x="127" y="829"/>
                  </a:lnTo>
                  <a:lnTo>
                    <a:pt x="119" y="832"/>
                  </a:lnTo>
                  <a:lnTo>
                    <a:pt x="118" y="828"/>
                  </a:lnTo>
                  <a:lnTo>
                    <a:pt x="116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3"/>
                  </a:lnTo>
                  <a:lnTo>
                    <a:pt x="76" y="825"/>
                  </a:lnTo>
                  <a:lnTo>
                    <a:pt x="70" y="828"/>
                  </a:lnTo>
                  <a:lnTo>
                    <a:pt x="65" y="832"/>
                  </a:lnTo>
                  <a:lnTo>
                    <a:pt x="60" y="838"/>
                  </a:lnTo>
                  <a:lnTo>
                    <a:pt x="53" y="842"/>
                  </a:lnTo>
                  <a:lnTo>
                    <a:pt x="48" y="840"/>
                  </a:lnTo>
                  <a:lnTo>
                    <a:pt x="44" y="839"/>
                  </a:lnTo>
                  <a:lnTo>
                    <a:pt x="36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4"/>
                  </a:lnTo>
                  <a:lnTo>
                    <a:pt x="14" y="914"/>
                  </a:lnTo>
                  <a:lnTo>
                    <a:pt x="22" y="934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1"/>
                  </a:lnTo>
                  <a:lnTo>
                    <a:pt x="72" y="947"/>
                  </a:lnTo>
                  <a:lnTo>
                    <a:pt x="73" y="951"/>
                  </a:lnTo>
                  <a:lnTo>
                    <a:pt x="73" y="956"/>
                  </a:lnTo>
                  <a:lnTo>
                    <a:pt x="71" y="961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3"/>
                  </a:lnTo>
                  <a:lnTo>
                    <a:pt x="80" y="997"/>
                  </a:lnTo>
                  <a:lnTo>
                    <a:pt x="80" y="1002"/>
                  </a:lnTo>
                  <a:lnTo>
                    <a:pt x="82" y="1007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9"/>
                  </a:lnTo>
                  <a:lnTo>
                    <a:pt x="0" y="1037"/>
                  </a:lnTo>
                  <a:lnTo>
                    <a:pt x="2" y="1039"/>
                  </a:lnTo>
                  <a:lnTo>
                    <a:pt x="8" y="1041"/>
                  </a:lnTo>
                  <a:lnTo>
                    <a:pt x="18" y="1037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4"/>
                  </a:lnTo>
                  <a:lnTo>
                    <a:pt x="69" y="1026"/>
                  </a:lnTo>
                  <a:lnTo>
                    <a:pt x="82" y="1028"/>
                  </a:lnTo>
                  <a:lnTo>
                    <a:pt x="91" y="1029"/>
                  </a:lnTo>
                  <a:lnTo>
                    <a:pt x="96" y="1029"/>
                  </a:lnTo>
                  <a:lnTo>
                    <a:pt x="104" y="1030"/>
                  </a:lnTo>
                  <a:lnTo>
                    <a:pt x="115" y="1035"/>
                  </a:lnTo>
                  <a:lnTo>
                    <a:pt x="125" y="1044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7"/>
                  </a:lnTo>
                  <a:lnTo>
                    <a:pt x="134" y="1073"/>
                  </a:lnTo>
                  <a:lnTo>
                    <a:pt x="132" y="1078"/>
                  </a:lnTo>
                  <a:lnTo>
                    <a:pt x="131" y="1084"/>
                  </a:lnTo>
                  <a:lnTo>
                    <a:pt x="135" y="1089"/>
                  </a:lnTo>
                  <a:lnTo>
                    <a:pt x="141" y="1093"/>
                  </a:lnTo>
                  <a:lnTo>
                    <a:pt x="146" y="1094"/>
                  </a:lnTo>
                  <a:lnTo>
                    <a:pt x="153" y="1093"/>
                  </a:lnTo>
                  <a:lnTo>
                    <a:pt x="158" y="1093"/>
                  </a:lnTo>
                  <a:lnTo>
                    <a:pt x="162" y="1094"/>
                  </a:lnTo>
                  <a:lnTo>
                    <a:pt x="169" y="1097"/>
                  </a:lnTo>
                  <a:lnTo>
                    <a:pt x="186" y="1104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1" y="1117"/>
                  </a:lnTo>
                  <a:lnTo>
                    <a:pt x="224" y="1118"/>
                  </a:lnTo>
                  <a:lnTo>
                    <a:pt x="228" y="1115"/>
                  </a:lnTo>
                  <a:lnTo>
                    <a:pt x="236" y="1108"/>
                  </a:lnTo>
                  <a:lnTo>
                    <a:pt x="257" y="1095"/>
                  </a:lnTo>
                  <a:lnTo>
                    <a:pt x="288" y="1088"/>
                  </a:lnTo>
                  <a:lnTo>
                    <a:pt x="292" y="1089"/>
                  </a:lnTo>
                  <a:lnTo>
                    <a:pt x="301" y="1090"/>
                  </a:lnTo>
                  <a:lnTo>
                    <a:pt x="310" y="1092"/>
                  </a:lnTo>
                  <a:lnTo>
                    <a:pt x="321" y="1098"/>
                  </a:lnTo>
                  <a:lnTo>
                    <a:pt x="341" y="1108"/>
                  </a:lnTo>
                  <a:lnTo>
                    <a:pt x="354" y="1116"/>
                  </a:lnTo>
                  <a:lnTo>
                    <a:pt x="357" y="1119"/>
                  </a:lnTo>
                  <a:lnTo>
                    <a:pt x="358" y="1123"/>
                  </a:lnTo>
                  <a:lnTo>
                    <a:pt x="357" y="1130"/>
                  </a:lnTo>
                  <a:lnTo>
                    <a:pt x="350" y="1143"/>
                  </a:lnTo>
                  <a:lnTo>
                    <a:pt x="338" y="1160"/>
                  </a:lnTo>
                  <a:lnTo>
                    <a:pt x="330" y="1172"/>
                  </a:lnTo>
                  <a:lnTo>
                    <a:pt x="327" y="1175"/>
                  </a:lnTo>
                  <a:lnTo>
                    <a:pt x="318" y="1184"/>
                  </a:lnTo>
                  <a:lnTo>
                    <a:pt x="302" y="1195"/>
                  </a:lnTo>
                  <a:lnTo>
                    <a:pt x="279" y="1193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4"/>
                  </a:lnTo>
                  <a:lnTo>
                    <a:pt x="280" y="1227"/>
                  </a:lnTo>
                  <a:lnTo>
                    <a:pt x="292" y="1238"/>
                  </a:lnTo>
                  <a:lnTo>
                    <a:pt x="306" y="1247"/>
                  </a:lnTo>
                  <a:lnTo>
                    <a:pt x="312" y="1259"/>
                  </a:lnTo>
                  <a:lnTo>
                    <a:pt x="305" y="1274"/>
                  </a:lnTo>
                  <a:lnTo>
                    <a:pt x="296" y="1290"/>
                  </a:lnTo>
                  <a:lnTo>
                    <a:pt x="294" y="1292"/>
                  </a:lnTo>
                  <a:lnTo>
                    <a:pt x="290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5"/>
                  </a:lnTo>
                  <a:lnTo>
                    <a:pt x="270" y="1281"/>
                  </a:lnTo>
                  <a:lnTo>
                    <a:pt x="264" y="1280"/>
                  </a:lnTo>
                  <a:lnTo>
                    <a:pt x="258" y="1282"/>
                  </a:lnTo>
                  <a:lnTo>
                    <a:pt x="257" y="1286"/>
                  </a:lnTo>
                  <a:lnTo>
                    <a:pt x="266" y="1305"/>
                  </a:lnTo>
                  <a:lnTo>
                    <a:pt x="270" y="1324"/>
                  </a:lnTo>
                  <a:lnTo>
                    <a:pt x="264" y="1343"/>
                  </a:lnTo>
                  <a:lnTo>
                    <a:pt x="271" y="1344"/>
                  </a:lnTo>
                  <a:lnTo>
                    <a:pt x="278" y="1346"/>
                  </a:lnTo>
                  <a:lnTo>
                    <a:pt x="285" y="1345"/>
                  </a:lnTo>
                  <a:lnTo>
                    <a:pt x="292" y="1346"/>
                  </a:lnTo>
                  <a:lnTo>
                    <a:pt x="297" y="1355"/>
                  </a:lnTo>
                  <a:lnTo>
                    <a:pt x="301" y="1361"/>
                  </a:lnTo>
                  <a:lnTo>
                    <a:pt x="325" y="1372"/>
                  </a:lnTo>
                  <a:lnTo>
                    <a:pt x="347" y="1385"/>
                  </a:lnTo>
                  <a:lnTo>
                    <a:pt x="368" y="1400"/>
                  </a:lnTo>
                  <a:lnTo>
                    <a:pt x="373" y="1404"/>
                  </a:lnTo>
                  <a:lnTo>
                    <a:pt x="377" y="1408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5"/>
                  </a:lnTo>
                  <a:lnTo>
                    <a:pt x="398" y="1412"/>
                  </a:lnTo>
                  <a:lnTo>
                    <a:pt x="400" y="1409"/>
                  </a:lnTo>
                  <a:lnTo>
                    <a:pt x="405" y="1407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400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9"/>
                  </a:lnTo>
                  <a:lnTo>
                    <a:pt x="467" y="1428"/>
                  </a:lnTo>
                  <a:lnTo>
                    <a:pt x="480" y="1434"/>
                  </a:lnTo>
                  <a:lnTo>
                    <a:pt x="492" y="1441"/>
                  </a:lnTo>
                  <a:lnTo>
                    <a:pt x="500" y="1450"/>
                  </a:lnTo>
                  <a:lnTo>
                    <a:pt x="506" y="1461"/>
                  </a:lnTo>
                  <a:lnTo>
                    <a:pt x="514" y="1471"/>
                  </a:lnTo>
                  <a:lnTo>
                    <a:pt x="521" y="1472"/>
                  </a:lnTo>
                  <a:lnTo>
                    <a:pt x="526" y="1466"/>
                  </a:lnTo>
                  <a:lnTo>
                    <a:pt x="530" y="1459"/>
                  </a:lnTo>
                  <a:lnTo>
                    <a:pt x="536" y="1461"/>
                  </a:lnTo>
                  <a:lnTo>
                    <a:pt x="540" y="1468"/>
                  </a:lnTo>
                  <a:lnTo>
                    <a:pt x="542" y="1477"/>
                  </a:lnTo>
                  <a:lnTo>
                    <a:pt x="546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5"/>
                  </a:lnTo>
                  <a:lnTo>
                    <a:pt x="573" y="1497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9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3"/>
                  </a:lnTo>
                  <a:lnTo>
                    <a:pt x="603" y="1513"/>
                  </a:lnTo>
                  <a:lnTo>
                    <a:pt x="607" y="1511"/>
                  </a:lnTo>
                  <a:lnTo>
                    <a:pt x="614" y="1513"/>
                  </a:lnTo>
                  <a:lnTo>
                    <a:pt x="621" y="1517"/>
                  </a:lnTo>
                  <a:lnTo>
                    <a:pt x="628" y="1517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7"/>
                  </a:lnTo>
                  <a:lnTo>
                    <a:pt x="644" y="1526"/>
                  </a:lnTo>
                  <a:lnTo>
                    <a:pt x="652" y="1529"/>
                  </a:lnTo>
                  <a:lnTo>
                    <a:pt x="659" y="1528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4"/>
                  </a:lnTo>
                  <a:lnTo>
                    <a:pt x="684" y="1528"/>
                  </a:lnTo>
                  <a:lnTo>
                    <a:pt x="694" y="1534"/>
                  </a:lnTo>
                  <a:lnTo>
                    <a:pt x="709" y="1538"/>
                  </a:lnTo>
                  <a:lnTo>
                    <a:pt x="723" y="1538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3"/>
                  </a:lnTo>
                  <a:lnTo>
                    <a:pt x="757" y="1532"/>
                  </a:lnTo>
                  <a:lnTo>
                    <a:pt x="763" y="1529"/>
                  </a:lnTo>
                  <a:lnTo>
                    <a:pt x="768" y="1527"/>
                  </a:lnTo>
                  <a:lnTo>
                    <a:pt x="773" y="1528"/>
                  </a:lnTo>
                  <a:lnTo>
                    <a:pt x="775" y="1531"/>
                  </a:lnTo>
                  <a:lnTo>
                    <a:pt x="776" y="1540"/>
                  </a:lnTo>
                  <a:lnTo>
                    <a:pt x="777" y="1549"/>
                  </a:lnTo>
                  <a:lnTo>
                    <a:pt x="781" y="1557"/>
                  </a:lnTo>
                  <a:lnTo>
                    <a:pt x="781" y="1559"/>
                  </a:lnTo>
                  <a:lnTo>
                    <a:pt x="786" y="1554"/>
                  </a:lnTo>
                  <a:lnTo>
                    <a:pt x="794" y="1548"/>
                  </a:lnTo>
                  <a:lnTo>
                    <a:pt x="794" y="1539"/>
                  </a:lnTo>
                  <a:lnTo>
                    <a:pt x="796" y="1539"/>
                  </a:lnTo>
                  <a:lnTo>
                    <a:pt x="798" y="1538"/>
                  </a:lnTo>
                  <a:lnTo>
                    <a:pt x="800" y="1536"/>
                  </a:lnTo>
                  <a:lnTo>
                    <a:pt x="804" y="1533"/>
                  </a:lnTo>
                  <a:lnTo>
                    <a:pt x="807" y="1528"/>
                  </a:lnTo>
                  <a:lnTo>
                    <a:pt x="811" y="1524"/>
                  </a:lnTo>
                  <a:lnTo>
                    <a:pt x="818" y="1519"/>
                  </a:lnTo>
                  <a:lnTo>
                    <a:pt x="825" y="1514"/>
                  </a:lnTo>
                  <a:lnTo>
                    <a:pt x="834" y="1511"/>
                  </a:lnTo>
                  <a:lnTo>
                    <a:pt x="835" y="1512"/>
                  </a:lnTo>
                  <a:lnTo>
                    <a:pt x="838" y="1513"/>
                  </a:lnTo>
                  <a:lnTo>
                    <a:pt x="839" y="1516"/>
                  </a:lnTo>
                  <a:lnTo>
                    <a:pt x="843" y="1515"/>
                  </a:lnTo>
                  <a:lnTo>
                    <a:pt x="846" y="1514"/>
                  </a:lnTo>
                  <a:lnTo>
                    <a:pt x="849" y="1515"/>
                  </a:lnTo>
                  <a:lnTo>
                    <a:pt x="852" y="1518"/>
                  </a:lnTo>
                  <a:lnTo>
                    <a:pt x="856" y="1522"/>
                  </a:lnTo>
                  <a:lnTo>
                    <a:pt x="860" y="1523"/>
                  </a:lnTo>
                  <a:lnTo>
                    <a:pt x="868" y="1525"/>
                  </a:lnTo>
                  <a:lnTo>
                    <a:pt x="875" y="1527"/>
                  </a:lnTo>
                  <a:lnTo>
                    <a:pt x="883" y="1528"/>
                  </a:lnTo>
                  <a:lnTo>
                    <a:pt x="891" y="1528"/>
                  </a:lnTo>
                  <a:lnTo>
                    <a:pt x="898" y="1526"/>
                  </a:lnTo>
                  <a:lnTo>
                    <a:pt x="904" y="1526"/>
                  </a:lnTo>
                  <a:lnTo>
                    <a:pt x="911" y="1532"/>
                  </a:lnTo>
                  <a:lnTo>
                    <a:pt x="917" y="1541"/>
                  </a:lnTo>
                  <a:lnTo>
                    <a:pt x="922" y="1550"/>
                  </a:lnTo>
                  <a:lnTo>
                    <a:pt x="933" y="1545"/>
                  </a:lnTo>
                  <a:lnTo>
                    <a:pt x="946" y="1542"/>
                  </a:lnTo>
                  <a:lnTo>
                    <a:pt x="957" y="1540"/>
                  </a:lnTo>
                  <a:lnTo>
                    <a:pt x="971" y="1538"/>
                  </a:lnTo>
                  <a:lnTo>
                    <a:pt x="971" y="1525"/>
                  </a:lnTo>
                  <a:lnTo>
                    <a:pt x="983" y="1519"/>
                  </a:lnTo>
                  <a:lnTo>
                    <a:pt x="992" y="1511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8" y="1493"/>
                  </a:lnTo>
                  <a:lnTo>
                    <a:pt x="1017" y="1491"/>
                  </a:lnTo>
                  <a:lnTo>
                    <a:pt x="1027" y="1492"/>
                  </a:lnTo>
                  <a:lnTo>
                    <a:pt x="1036" y="1490"/>
                  </a:lnTo>
                  <a:lnTo>
                    <a:pt x="1049" y="1479"/>
                  </a:lnTo>
                  <a:lnTo>
                    <a:pt x="1061" y="1465"/>
                  </a:lnTo>
                  <a:lnTo>
                    <a:pt x="1076" y="1461"/>
                  </a:lnTo>
                  <a:lnTo>
                    <a:pt x="1084" y="1465"/>
                  </a:lnTo>
                  <a:lnTo>
                    <a:pt x="1093" y="1470"/>
                  </a:lnTo>
                  <a:lnTo>
                    <a:pt x="1103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8"/>
                  </a:lnTo>
                  <a:lnTo>
                    <a:pt x="1120" y="1470"/>
                  </a:lnTo>
                  <a:lnTo>
                    <a:pt x="1132" y="1460"/>
                  </a:lnTo>
                  <a:lnTo>
                    <a:pt x="1145" y="1460"/>
                  </a:lnTo>
                  <a:lnTo>
                    <a:pt x="1151" y="1468"/>
                  </a:lnTo>
                  <a:lnTo>
                    <a:pt x="1150" y="1477"/>
                  </a:lnTo>
                  <a:lnTo>
                    <a:pt x="1146" y="1488"/>
                  </a:lnTo>
                  <a:lnTo>
                    <a:pt x="1152" y="1484"/>
                  </a:lnTo>
                  <a:lnTo>
                    <a:pt x="1158" y="1481"/>
                  </a:lnTo>
                  <a:lnTo>
                    <a:pt x="1165" y="1478"/>
                  </a:lnTo>
                  <a:lnTo>
                    <a:pt x="1168" y="1483"/>
                  </a:lnTo>
                  <a:lnTo>
                    <a:pt x="1173" y="1486"/>
                  </a:lnTo>
                  <a:lnTo>
                    <a:pt x="1172" y="1491"/>
                  </a:lnTo>
                  <a:lnTo>
                    <a:pt x="1165" y="1498"/>
                  </a:lnTo>
                  <a:lnTo>
                    <a:pt x="1158" y="1502"/>
                  </a:lnTo>
                  <a:lnTo>
                    <a:pt x="1150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3" y="1511"/>
                  </a:lnTo>
                  <a:lnTo>
                    <a:pt x="1164" y="1511"/>
                  </a:lnTo>
                  <a:lnTo>
                    <a:pt x="1175" y="1511"/>
                  </a:lnTo>
                  <a:lnTo>
                    <a:pt x="1186" y="1515"/>
                  </a:lnTo>
                  <a:lnTo>
                    <a:pt x="1187" y="1509"/>
                  </a:lnTo>
                  <a:lnTo>
                    <a:pt x="1191" y="1511"/>
                  </a:lnTo>
                  <a:lnTo>
                    <a:pt x="1196" y="1511"/>
                  </a:lnTo>
                  <a:lnTo>
                    <a:pt x="1202" y="1516"/>
                  </a:lnTo>
                  <a:lnTo>
                    <a:pt x="1206" y="1518"/>
                  </a:lnTo>
                  <a:lnTo>
                    <a:pt x="1211" y="1517"/>
                  </a:lnTo>
                  <a:lnTo>
                    <a:pt x="1212" y="1514"/>
                  </a:lnTo>
                  <a:lnTo>
                    <a:pt x="1212" y="1512"/>
                  </a:lnTo>
                  <a:lnTo>
                    <a:pt x="1210" y="1508"/>
                  </a:lnTo>
                  <a:lnTo>
                    <a:pt x="1209" y="1505"/>
                  </a:lnTo>
                  <a:lnTo>
                    <a:pt x="1209" y="1501"/>
                  </a:lnTo>
                  <a:lnTo>
                    <a:pt x="1212" y="1502"/>
                  </a:lnTo>
                  <a:lnTo>
                    <a:pt x="1216" y="1501"/>
                  </a:lnTo>
                  <a:lnTo>
                    <a:pt x="1219" y="1501"/>
                  </a:lnTo>
                  <a:lnTo>
                    <a:pt x="1231" y="1510"/>
                  </a:lnTo>
                  <a:lnTo>
                    <a:pt x="1241" y="1520"/>
                  </a:lnTo>
                  <a:lnTo>
                    <a:pt x="1247" y="1531"/>
                  </a:lnTo>
                  <a:lnTo>
                    <a:pt x="1248" y="1540"/>
                  </a:lnTo>
                  <a:lnTo>
                    <a:pt x="1248" y="1547"/>
                  </a:lnTo>
                  <a:lnTo>
                    <a:pt x="1253" y="1553"/>
                  </a:lnTo>
                  <a:lnTo>
                    <a:pt x="1257" y="1552"/>
                  </a:lnTo>
                  <a:lnTo>
                    <a:pt x="1263" y="1551"/>
                  </a:lnTo>
                  <a:lnTo>
                    <a:pt x="1268" y="1552"/>
                  </a:lnTo>
                  <a:lnTo>
                    <a:pt x="1273" y="1558"/>
                  </a:lnTo>
                  <a:lnTo>
                    <a:pt x="1275" y="1566"/>
                  </a:lnTo>
                  <a:lnTo>
                    <a:pt x="1273" y="1575"/>
                  </a:lnTo>
                  <a:lnTo>
                    <a:pt x="1273" y="1586"/>
                  </a:lnTo>
                  <a:lnTo>
                    <a:pt x="1280" y="1598"/>
                  </a:lnTo>
                  <a:lnTo>
                    <a:pt x="1280" y="1611"/>
                  </a:lnTo>
                  <a:lnTo>
                    <a:pt x="1274" y="1622"/>
                  </a:lnTo>
                  <a:lnTo>
                    <a:pt x="1269" y="1632"/>
                  </a:lnTo>
                  <a:lnTo>
                    <a:pt x="1272" y="1643"/>
                  </a:lnTo>
                  <a:lnTo>
                    <a:pt x="1265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2" y="1672"/>
                  </a:lnTo>
                  <a:lnTo>
                    <a:pt x="1241" y="1679"/>
                  </a:lnTo>
                  <a:lnTo>
                    <a:pt x="1230" y="1685"/>
                  </a:lnTo>
                  <a:lnTo>
                    <a:pt x="1224" y="1692"/>
                  </a:lnTo>
                  <a:lnTo>
                    <a:pt x="1220" y="1702"/>
                  </a:lnTo>
                  <a:lnTo>
                    <a:pt x="1212" y="1709"/>
                  </a:lnTo>
                  <a:lnTo>
                    <a:pt x="1221" y="1725"/>
                  </a:lnTo>
                  <a:lnTo>
                    <a:pt x="1225" y="1741"/>
                  </a:lnTo>
                  <a:lnTo>
                    <a:pt x="1216" y="1756"/>
                  </a:lnTo>
                  <a:lnTo>
                    <a:pt x="1227" y="1749"/>
                  </a:lnTo>
                  <a:lnTo>
                    <a:pt x="1238" y="1744"/>
                  </a:lnTo>
                  <a:lnTo>
                    <a:pt x="1250" y="1738"/>
                  </a:lnTo>
                  <a:lnTo>
                    <a:pt x="1261" y="1735"/>
                  </a:lnTo>
                  <a:lnTo>
                    <a:pt x="1273" y="1735"/>
                  </a:lnTo>
                  <a:lnTo>
                    <a:pt x="1285" y="1740"/>
                  </a:lnTo>
                  <a:lnTo>
                    <a:pt x="1278" y="1749"/>
                  </a:lnTo>
                  <a:lnTo>
                    <a:pt x="1279" y="1761"/>
                  </a:lnTo>
                  <a:lnTo>
                    <a:pt x="1284" y="1773"/>
                  </a:lnTo>
                  <a:lnTo>
                    <a:pt x="1285" y="1778"/>
                  </a:lnTo>
                  <a:lnTo>
                    <a:pt x="1283" y="1784"/>
                  </a:lnTo>
                  <a:lnTo>
                    <a:pt x="1283" y="1788"/>
                  </a:lnTo>
                  <a:lnTo>
                    <a:pt x="1291" y="1793"/>
                  </a:lnTo>
                  <a:lnTo>
                    <a:pt x="1302" y="1792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2" y="1827"/>
                  </a:lnTo>
                  <a:lnTo>
                    <a:pt x="1304" y="1844"/>
                  </a:lnTo>
                  <a:lnTo>
                    <a:pt x="1313" y="1848"/>
                  </a:lnTo>
                  <a:lnTo>
                    <a:pt x="1326" y="1848"/>
                  </a:lnTo>
                  <a:lnTo>
                    <a:pt x="1336" y="1852"/>
                  </a:lnTo>
                  <a:lnTo>
                    <a:pt x="1338" y="1858"/>
                  </a:lnTo>
                  <a:lnTo>
                    <a:pt x="1335" y="1865"/>
                  </a:lnTo>
                  <a:lnTo>
                    <a:pt x="1331" y="1871"/>
                  </a:lnTo>
                  <a:lnTo>
                    <a:pt x="1336" y="1872"/>
                  </a:lnTo>
                  <a:lnTo>
                    <a:pt x="1340" y="1874"/>
                  </a:lnTo>
                  <a:lnTo>
                    <a:pt x="1344" y="1876"/>
                  </a:lnTo>
                  <a:lnTo>
                    <a:pt x="1344" y="1878"/>
                  </a:lnTo>
                  <a:lnTo>
                    <a:pt x="1342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5"/>
                  </a:lnTo>
                  <a:lnTo>
                    <a:pt x="1397" y="1871"/>
                  </a:lnTo>
                  <a:lnTo>
                    <a:pt x="1396" y="1874"/>
                  </a:lnTo>
                  <a:lnTo>
                    <a:pt x="1395" y="1876"/>
                  </a:lnTo>
                  <a:lnTo>
                    <a:pt x="1395" y="1876"/>
                  </a:lnTo>
                  <a:lnTo>
                    <a:pt x="1393" y="1882"/>
                  </a:lnTo>
                  <a:lnTo>
                    <a:pt x="1398" y="1885"/>
                  </a:lnTo>
                  <a:lnTo>
                    <a:pt x="1406" y="1892"/>
                  </a:lnTo>
                  <a:lnTo>
                    <a:pt x="1413" y="1897"/>
                  </a:lnTo>
                  <a:lnTo>
                    <a:pt x="1418" y="1898"/>
                  </a:lnTo>
                  <a:lnTo>
                    <a:pt x="1423" y="1898"/>
                  </a:lnTo>
                  <a:lnTo>
                    <a:pt x="1429" y="1894"/>
                  </a:lnTo>
                  <a:lnTo>
                    <a:pt x="1432" y="1886"/>
                  </a:lnTo>
                  <a:lnTo>
                    <a:pt x="1430" y="1878"/>
                  </a:lnTo>
                  <a:lnTo>
                    <a:pt x="1429" y="1874"/>
                  </a:lnTo>
                  <a:lnTo>
                    <a:pt x="1426" y="1871"/>
                  </a:lnTo>
                  <a:lnTo>
                    <a:pt x="1421" y="1863"/>
                  </a:lnTo>
                  <a:lnTo>
                    <a:pt x="1418" y="1853"/>
                  </a:lnTo>
                  <a:lnTo>
                    <a:pt x="1417" y="1846"/>
                  </a:lnTo>
                  <a:lnTo>
                    <a:pt x="1416" y="1843"/>
                  </a:lnTo>
                  <a:lnTo>
                    <a:pt x="1414" y="1842"/>
                  </a:lnTo>
                  <a:lnTo>
                    <a:pt x="1412" y="1839"/>
                  </a:lnTo>
                  <a:lnTo>
                    <a:pt x="1411" y="1834"/>
                  </a:lnTo>
                  <a:lnTo>
                    <a:pt x="1413" y="1828"/>
                  </a:lnTo>
                  <a:lnTo>
                    <a:pt x="1419" y="1824"/>
                  </a:lnTo>
                  <a:lnTo>
                    <a:pt x="1425" y="1824"/>
                  </a:lnTo>
                  <a:lnTo>
                    <a:pt x="1431" y="1825"/>
                  </a:lnTo>
                  <a:lnTo>
                    <a:pt x="1437" y="1828"/>
                  </a:lnTo>
                  <a:lnTo>
                    <a:pt x="1445" y="1832"/>
                  </a:lnTo>
                  <a:lnTo>
                    <a:pt x="1451" y="1834"/>
                  </a:lnTo>
                  <a:lnTo>
                    <a:pt x="1452" y="1832"/>
                  </a:lnTo>
                  <a:lnTo>
                    <a:pt x="1453" y="1830"/>
                  </a:lnTo>
                  <a:lnTo>
                    <a:pt x="1453" y="1829"/>
                  </a:lnTo>
                  <a:lnTo>
                    <a:pt x="1455" y="1821"/>
                  </a:lnTo>
                  <a:lnTo>
                    <a:pt x="1457" y="1816"/>
                  </a:lnTo>
                  <a:lnTo>
                    <a:pt x="1460" y="1809"/>
                  </a:lnTo>
                  <a:lnTo>
                    <a:pt x="1462" y="1808"/>
                  </a:lnTo>
                  <a:lnTo>
                    <a:pt x="1466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4" y="1822"/>
                  </a:lnTo>
                  <a:lnTo>
                    <a:pt x="1492" y="1823"/>
                  </a:lnTo>
                  <a:lnTo>
                    <a:pt x="1496" y="1819"/>
                  </a:lnTo>
                  <a:lnTo>
                    <a:pt x="1500" y="1811"/>
                  </a:lnTo>
                  <a:lnTo>
                    <a:pt x="1506" y="1807"/>
                  </a:lnTo>
                  <a:lnTo>
                    <a:pt x="1517" y="1807"/>
                  </a:lnTo>
                  <a:lnTo>
                    <a:pt x="1526" y="1811"/>
                  </a:lnTo>
                  <a:lnTo>
                    <a:pt x="1532" y="1822"/>
                  </a:lnTo>
                  <a:lnTo>
                    <a:pt x="1539" y="1819"/>
                  </a:lnTo>
                  <a:lnTo>
                    <a:pt x="1547" y="1815"/>
                  </a:lnTo>
                  <a:lnTo>
                    <a:pt x="1552" y="1809"/>
                  </a:lnTo>
                  <a:lnTo>
                    <a:pt x="1554" y="1811"/>
                  </a:lnTo>
                  <a:lnTo>
                    <a:pt x="1555" y="1813"/>
                  </a:lnTo>
                  <a:lnTo>
                    <a:pt x="1555" y="1815"/>
                  </a:lnTo>
                  <a:lnTo>
                    <a:pt x="1558" y="1816"/>
                  </a:lnTo>
                  <a:lnTo>
                    <a:pt x="1560" y="1816"/>
                  </a:lnTo>
                  <a:lnTo>
                    <a:pt x="1561" y="1815"/>
                  </a:lnTo>
                  <a:lnTo>
                    <a:pt x="1562" y="1813"/>
                  </a:lnTo>
                  <a:lnTo>
                    <a:pt x="1562" y="1811"/>
                  </a:lnTo>
                  <a:lnTo>
                    <a:pt x="1562" y="1809"/>
                  </a:lnTo>
                  <a:lnTo>
                    <a:pt x="1568" y="1807"/>
                  </a:lnTo>
                  <a:lnTo>
                    <a:pt x="1574" y="1807"/>
                  </a:lnTo>
                  <a:lnTo>
                    <a:pt x="1581" y="1809"/>
                  </a:lnTo>
                  <a:lnTo>
                    <a:pt x="1579" y="1796"/>
                  </a:lnTo>
                  <a:lnTo>
                    <a:pt x="1583" y="1785"/>
                  </a:lnTo>
                  <a:lnTo>
                    <a:pt x="1592" y="1777"/>
                  </a:lnTo>
                  <a:lnTo>
                    <a:pt x="1603" y="1777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1" y="1799"/>
                  </a:lnTo>
                  <a:lnTo>
                    <a:pt x="1642" y="1799"/>
                  </a:lnTo>
                  <a:lnTo>
                    <a:pt x="1654" y="1802"/>
                  </a:lnTo>
                  <a:lnTo>
                    <a:pt x="1662" y="1802"/>
                  </a:lnTo>
                  <a:lnTo>
                    <a:pt x="1670" y="1799"/>
                  </a:lnTo>
                  <a:lnTo>
                    <a:pt x="1676" y="1800"/>
                  </a:lnTo>
                  <a:lnTo>
                    <a:pt x="1680" y="1802"/>
                  </a:lnTo>
                  <a:lnTo>
                    <a:pt x="1684" y="1804"/>
                  </a:lnTo>
                  <a:lnTo>
                    <a:pt x="1683" y="1808"/>
                  </a:lnTo>
                  <a:lnTo>
                    <a:pt x="1679" y="1820"/>
                  </a:lnTo>
                  <a:lnTo>
                    <a:pt x="1675" y="1831"/>
                  </a:lnTo>
                  <a:lnTo>
                    <a:pt x="1670" y="1842"/>
                  </a:lnTo>
                  <a:lnTo>
                    <a:pt x="1681" y="1845"/>
                  </a:lnTo>
                  <a:lnTo>
                    <a:pt x="1689" y="1853"/>
                  </a:lnTo>
                  <a:lnTo>
                    <a:pt x="1697" y="1861"/>
                  </a:lnTo>
                  <a:lnTo>
                    <a:pt x="1707" y="1864"/>
                  </a:lnTo>
                  <a:lnTo>
                    <a:pt x="1716" y="1865"/>
                  </a:lnTo>
                  <a:lnTo>
                    <a:pt x="1727" y="1866"/>
                  </a:lnTo>
                  <a:lnTo>
                    <a:pt x="1730" y="1867"/>
                  </a:lnTo>
                  <a:lnTo>
                    <a:pt x="1732" y="1869"/>
                  </a:lnTo>
                  <a:lnTo>
                    <a:pt x="1734" y="1871"/>
                  </a:lnTo>
                  <a:lnTo>
                    <a:pt x="1737" y="1875"/>
                  </a:lnTo>
                  <a:lnTo>
                    <a:pt x="1750" y="1877"/>
                  </a:lnTo>
                  <a:lnTo>
                    <a:pt x="1748" y="1880"/>
                  </a:lnTo>
                  <a:lnTo>
                    <a:pt x="1761" y="1882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1"/>
                  </a:lnTo>
                  <a:lnTo>
                    <a:pt x="1820" y="1911"/>
                  </a:lnTo>
                  <a:lnTo>
                    <a:pt x="1821" y="1921"/>
                  </a:lnTo>
                  <a:lnTo>
                    <a:pt x="1832" y="1939"/>
                  </a:lnTo>
                  <a:lnTo>
                    <a:pt x="1849" y="1948"/>
                  </a:lnTo>
                  <a:lnTo>
                    <a:pt x="1869" y="1946"/>
                  </a:lnTo>
                  <a:lnTo>
                    <a:pt x="1871" y="1943"/>
                  </a:lnTo>
                  <a:lnTo>
                    <a:pt x="1868" y="1940"/>
                  </a:lnTo>
                  <a:lnTo>
                    <a:pt x="1870" y="1934"/>
                  </a:lnTo>
                  <a:lnTo>
                    <a:pt x="1860" y="1931"/>
                  </a:lnTo>
                  <a:lnTo>
                    <a:pt x="1851" y="1929"/>
                  </a:lnTo>
                  <a:lnTo>
                    <a:pt x="1848" y="1922"/>
                  </a:lnTo>
                  <a:lnTo>
                    <a:pt x="1855" y="1901"/>
                  </a:lnTo>
                  <a:lnTo>
                    <a:pt x="1865" y="1882"/>
                  </a:lnTo>
                  <a:lnTo>
                    <a:pt x="1879" y="1868"/>
                  </a:lnTo>
                  <a:lnTo>
                    <a:pt x="1901" y="1864"/>
                  </a:lnTo>
                  <a:lnTo>
                    <a:pt x="1927" y="1868"/>
                  </a:lnTo>
                  <a:lnTo>
                    <a:pt x="1951" y="1862"/>
                  </a:lnTo>
                  <a:lnTo>
                    <a:pt x="1961" y="1857"/>
                  </a:lnTo>
                  <a:lnTo>
                    <a:pt x="1972" y="1853"/>
                  </a:lnTo>
                  <a:lnTo>
                    <a:pt x="1982" y="1850"/>
                  </a:lnTo>
                  <a:lnTo>
                    <a:pt x="1991" y="1840"/>
                  </a:lnTo>
                  <a:lnTo>
                    <a:pt x="2001" y="1828"/>
                  </a:lnTo>
                  <a:lnTo>
                    <a:pt x="2015" y="1826"/>
                  </a:lnTo>
                  <a:lnTo>
                    <a:pt x="2017" y="1829"/>
                  </a:lnTo>
                  <a:lnTo>
                    <a:pt x="2019" y="1832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4"/>
                  </a:lnTo>
                  <a:lnTo>
                    <a:pt x="2025" y="1832"/>
                  </a:lnTo>
                  <a:lnTo>
                    <a:pt x="2028" y="1827"/>
                  </a:lnTo>
                  <a:lnTo>
                    <a:pt x="2035" y="1822"/>
                  </a:lnTo>
                  <a:lnTo>
                    <a:pt x="2035" y="1823"/>
                  </a:lnTo>
                  <a:lnTo>
                    <a:pt x="2036" y="1825"/>
                  </a:lnTo>
                  <a:lnTo>
                    <a:pt x="2043" y="1825"/>
                  </a:lnTo>
                  <a:lnTo>
                    <a:pt x="2047" y="1824"/>
                  </a:lnTo>
                  <a:lnTo>
                    <a:pt x="2057" y="1821"/>
                  </a:lnTo>
                  <a:lnTo>
                    <a:pt x="2064" y="1825"/>
                  </a:lnTo>
                  <a:lnTo>
                    <a:pt x="2068" y="1832"/>
                  </a:lnTo>
                  <a:lnTo>
                    <a:pt x="2078" y="1824"/>
                  </a:lnTo>
                  <a:lnTo>
                    <a:pt x="2091" y="1819"/>
                  </a:lnTo>
                  <a:lnTo>
                    <a:pt x="2104" y="1817"/>
                  </a:lnTo>
                  <a:lnTo>
                    <a:pt x="2106" y="1816"/>
                  </a:lnTo>
                  <a:lnTo>
                    <a:pt x="2110" y="1814"/>
                  </a:lnTo>
                  <a:lnTo>
                    <a:pt x="2114" y="1812"/>
                  </a:lnTo>
                  <a:lnTo>
                    <a:pt x="2128" y="1811"/>
                  </a:lnTo>
                  <a:lnTo>
                    <a:pt x="2141" y="1811"/>
                  </a:lnTo>
                  <a:lnTo>
                    <a:pt x="2153" y="1810"/>
                  </a:lnTo>
                  <a:lnTo>
                    <a:pt x="2170" y="1798"/>
                  </a:lnTo>
                  <a:lnTo>
                    <a:pt x="2183" y="1781"/>
                  </a:lnTo>
                  <a:lnTo>
                    <a:pt x="2200" y="1772"/>
                  </a:lnTo>
                  <a:lnTo>
                    <a:pt x="2217" y="1766"/>
                  </a:lnTo>
                  <a:lnTo>
                    <a:pt x="2231" y="1753"/>
                  </a:lnTo>
                  <a:lnTo>
                    <a:pt x="2246" y="1743"/>
                  </a:lnTo>
                  <a:lnTo>
                    <a:pt x="2244" y="1740"/>
                  </a:lnTo>
                  <a:lnTo>
                    <a:pt x="2243" y="1736"/>
                  </a:lnTo>
                  <a:lnTo>
                    <a:pt x="2244" y="1733"/>
                  </a:lnTo>
                  <a:lnTo>
                    <a:pt x="2263" y="1711"/>
                  </a:lnTo>
                  <a:lnTo>
                    <a:pt x="2287" y="1697"/>
                  </a:lnTo>
                  <a:lnTo>
                    <a:pt x="2316" y="1692"/>
                  </a:lnTo>
                  <a:lnTo>
                    <a:pt x="2322" y="1689"/>
                  </a:lnTo>
                  <a:lnTo>
                    <a:pt x="2329" y="1684"/>
                  </a:lnTo>
                  <a:lnTo>
                    <a:pt x="2336" y="1680"/>
                  </a:lnTo>
                  <a:lnTo>
                    <a:pt x="2325" y="1678"/>
                  </a:lnTo>
                  <a:lnTo>
                    <a:pt x="2315" y="1682"/>
                  </a:lnTo>
                  <a:lnTo>
                    <a:pt x="2308" y="1682"/>
                  </a:lnTo>
                  <a:lnTo>
                    <a:pt x="2308" y="1673"/>
                  </a:lnTo>
                  <a:lnTo>
                    <a:pt x="2316" y="1664"/>
                  </a:lnTo>
                  <a:lnTo>
                    <a:pt x="2318" y="1654"/>
                  </a:lnTo>
                  <a:lnTo>
                    <a:pt x="2316" y="1650"/>
                  </a:lnTo>
                  <a:lnTo>
                    <a:pt x="2316" y="1647"/>
                  </a:lnTo>
                  <a:lnTo>
                    <a:pt x="2317" y="1644"/>
                  </a:lnTo>
                  <a:lnTo>
                    <a:pt x="2330" y="1626"/>
                  </a:lnTo>
                  <a:lnTo>
                    <a:pt x="2343" y="1609"/>
                  </a:lnTo>
                  <a:lnTo>
                    <a:pt x="2356" y="1592"/>
                  </a:lnTo>
                  <a:lnTo>
                    <a:pt x="2373" y="1569"/>
                  </a:lnTo>
                  <a:lnTo>
                    <a:pt x="2388" y="1546"/>
                  </a:lnTo>
                  <a:lnTo>
                    <a:pt x="2408" y="1525"/>
                  </a:lnTo>
                  <a:lnTo>
                    <a:pt x="2414" y="1516"/>
                  </a:lnTo>
                  <a:lnTo>
                    <a:pt x="2415" y="1506"/>
                  </a:lnTo>
                  <a:lnTo>
                    <a:pt x="2421" y="1497"/>
                  </a:lnTo>
                  <a:lnTo>
                    <a:pt x="2422" y="1495"/>
                  </a:lnTo>
                  <a:lnTo>
                    <a:pt x="2421" y="1491"/>
                  </a:lnTo>
                  <a:lnTo>
                    <a:pt x="2418" y="1488"/>
                  </a:lnTo>
                  <a:lnTo>
                    <a:pt x="2428" y="1470"/>
                  </a:lnTo>
                  <a:lnTo>
                    <a:pt x="2438" y="1452"/>
                  </a:lnTo>
                  <a:lnTo>
                    <a:pt x="2452" y="1437"/>
                  </a:lnTo>
                  <a:lnTo>
                    <a:pt x="2456" y="1436"/>
                  </a:lnTo>
                  <a:lnTo>
                    <a:pt x="2461" y="1434"/>
                  </a:lnTo>
                  <a:lnTo>
                    <a:pt x="2463" y="1432"/>
                  </a:lnTo>
                  <a:lnTo>
                    <a:pt x="2464" y="1419"/>
                  </a:lnTo>
                  <a:lnTo>
                    <a:pt x="2462" y="1406"/>
                  </a:lnTo>
                  <a:lnTo>
                    <a:pt x="2465" y="1393"/>
                  </a:lnTo>
                  <a:lnTo>
                    <a:pt x="2451" y="1387"/>
                  </a:lnTo>
                  <a:lnTo>
                    <a:pt x="2439" y="1383"/>
                  </a:lnTo>
                  <a:lnTo>
                    <a:pt x="2425" y="1379"/>
                  </a:lnTo>
                  <a:lnTo>
                    <a:pt x="2425" y="1373"/>
                  </a:lnTo>
                  <a:lnTo>
                    <a:pt x="2421" y="1368"/>
                  </a:lnTo>
                  <a:lnTo>
                    <a:pt x="2420" y="1363"/>
                  </a:lnTo>
                  <a:lnTo>
                    <a:pt x="2422" y="1351"/>
                  </a:lnTo>
                  <a:lnTo>
                    <a:pt x="2426" y="1339"/>
                  </a:lnTo>
                  <a:lnTo>
                    <a:pt x="2435" y="1330"/>
                  </a:lnTo>
                  <a:lnTo>
                    <a:pt x="2427" y="1329"/>
                  </a:lnTo>
                  <a:lnTo>
                    <a:pt x="2419" y="1329"/>
                  </a:lnTo>
                  <a:lnTo>
                    <a:pt x="2411" y="1328"/>
                  </a:lnTo>
                  <a:lnTo>
                    <a:pt x="2399" y="1330"/>
                  </a:lnTo>
                  <a:lnTo>
                    <a:pt x="2386" y="1333"/>
                  </a:lnTo>
                  <a:lnTo>
                    <a:pt x="2372" y="1332"/>
                  </a:lnTo>
                  <a:lnTo>
                    <a:pt x="2359" y="1325"/>
                  </a:lnTo>
                  <a:lnTo>
                    <a:pt x="2345" y="1317"/>
                  </a:lnTo>
                  <a:lnTo>
                    <a:pt x="2329" y="1313"/>
                  </a:lnTo>
                  <a:lnTo>
                    <a:pt x="2347" y="1314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9" y="1311"/>
                  </a:lnTo>
                  <a:lnTo>
                    <a:pt x="2396" y="1302"/>
                  </a:lnTo>
                  <a:lnTo>
                    <a:pt x="2405" y="1295"/>
                  </a:lnTo>
                  <a:lnTo>
                    <a:pt x="2413" y="1293"/>
                  </a:lnTo>
                  <a:lnTo>
                    <a:pt x="2418" y="1291"/>
                  </a:lnTo>
                  <a:lnTo>
                    <a:pt x="2425" y="1287"/>
                  </a:lnTo>
                  <a:lnTo>
                    <a:pt x="2414" y="1283"/>
                  </a:lnTo>
                  <a:lnTo>
                    <a:pt x="2404" y="1278"/>
                  </a:lnTo>
                  <a:lnTo>
                    <a:pt x="2397" y="1272"/>
                  </a:lnTo>
                  <a:lnTo>
                    <a:pt x="2385" y="1255"/>
                  </a:lnTo>
                  <a:lnTo>
                    <a:pt x="2376" y="1236"/>
                  </a:lnTo>
                  <a:lnTo>
                    <a:pt x="2370" y="1215"/>
                  </a:lnTo>
                  <a:lnTo>
                    <a:pt x="2360" y="1207"/>
                  </a:lnTo>
                  <a:lnTo>
                    <a:pt x="2345" y="1203"/>
                  </a:lnTo>
                  <a:lnTo>
                    <a:pt x="2333" y="1194"/>
                  </a:lnTo>
                  <a:lnTo>
                    <a:pt x="2330" y="1186"/>
                  </a:lnTo>
                  <a:lnTo>
                    <a:pt x="2328" y="1177"/>
                  </a:lnTo>
                  <a:lnTo>
                    <a:pt x="2324" y="1169"/>
                  </a:lnTo>
                  <a:lnTo>
                    <a:pt x="2319" y="1165"/>
                  </a:lnTo>
                  <a:lnTo>
                    <a:pt x="2313" y="1164"/>
                  </a:lnTo>
                  <a:lnTo>
                    <a:pt x="2306" y="1161"/>
                  </a:lnTo>
                  <a:lnTo>
                    <a:pt x="2312" y="1156"/>
                  </a:lnTo>
                  <a:lnTo>
                    <a:pt x="2313" y="1149"/>
                  </a:lnTo>
                  <a:lnTo>
                    <a:pt x="2316" y="1142"/>
                  </a:lnTo>
                  <a:lnTo>
                    <a:pt x="2325" y="1137"/>
                  </a:lnTo>
                  <a:lnTo>
                    <a:pt x="2334" y="1131"/>
                  </a:lnTo>
                  <a:lnTo>
                    <a:pt x="2341" y="1125"/>
                  </a:lnTo>
                  <a:lnTo>
                    <a:pt x="2348" y="1111"/>
                  </a:lnTo>
                  <a:lnTo>
                    <a:pt x="2352" y="1097"/>
                  </a:lnTo>
                  <a:lnTo>
                    <a:pt x="2349" y="1083"/>
                  </a:lnTo>
                  <a:lnTo>
                    <a:pt x="2363" y="1089"/>
                  </a:lnTo>
                  <a:lnTo>
                    <a:pt x="2376" y="1086"/>
                  </a:lnTo>
                  <a:lnTo>
                    <a:pt x="2387" y="1077"/>
                  </a:lnTo>
                  <a:lnTo>
                    <a:pt x="2418" y="1051"/>
                  </a:lnTo>
                  <a:lnTo>
                    <a:pt x="2456" y="1039"/>
                  </a:lnTo>
                  <a:lnTo>
                    <a:pt x="2498" y="1036"/>
                  </a:lnTo>
                  <a:lnTo>
                    <a:pt x="2499" y="1031"/>
                  </a:lnTo>
                  <a:lnTo>
                    <a:pt x="2501" y="1020"/>
                  </a:lnTo>
                  <a:lnTo>
                    <a:pt x="2506" y="1009"/>
                  </a:lnTo>
                  <a:lnTo>
                    <a:pt x="2509" y="1003"/>
                  </a:lnTo>
                  <a:lnTo>
                    <a:pt x="2509" y="996"/>
                  </a:lnTo>
                  <a:lnTo>
                    <a:pt x="2506" y="991"/>
                  </a:lnTo>
                  <a:lnTo>
                    <a:pt x="2483" y="981"/>
                  </a:lnTo>
                  <a:lnTo>
                    <a:pt x="2458" y="979"/>
                  </a:lnTo>
                  <a:lnTo>
                    <a:pt x="2438" y="993"/>
                  </a:lnTo>
                  <a:lnTo>
                    <a:pt x="2411" y="976"/>
                  </a:lnTo>
                  <a:lnTo>
                    <a:pt x="2379" y="970"/>
                  </a:lnTo>
                  <a:lnTo>
                    <a:pt x="2346" y="970"/>
                  </a:lnTo>
                  <a:lnTo>
                    <a:pt x="2346" y="978"/>
                  </a:lnTo>
                  <a:lnTo>
                    <a:pt x="2346" y="985"/>
                  </a:lnTo>
                  <a:lnTo>
                    <a:pt x="2345" y="993"/>
                  </a:lnTo>
                  <a:lnTo>
                    <a:pt x="2335" y="1010"/>
                  </a:lnTo>
                  <a:lnTo>
                    <a:pt x="2318" y="1021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6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9" y="963"/>
                  </a:lnTo>
                  <a:lnTo>
                    <a:pt x="2237" y="959"/>
                  </a:lnTo>
                  <a:lnTo>
                    <a:pt x="2226" y="950"/>
                  </a:lnTo>
                  <a:lnTo>
                    <a:pt x="2223" y="937"/>
                  </a:lnTo>
                  <a:lnTo>
                    <a:pt x="2228" y="925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3" y="911"/>
                  </a:lnTo>
                  <a:lnTo>
                    <a:pt x="2255" y="913"/>
                  </a:lnTo>
                  <a:lnTo>
                    <a:pt x="2258" y="914"/>
                  </a:lnTo>
                  <a:lnTo>
                    <a:pt x="2260" y="917"/>
                  </a:lnTo>
                  <a:lnTo>
                    <a:pt x="2273" y="916"/>
                  </a:lnTo>
                  <a:lnTo>
                    <a:pt x="2286" y="912"/>
                  </a:lnTo>
                  <a:lnTo>
                    <a:pt x="2299" y="911"/>
                  </a:lnTo>
                  <a:lnTo>
                    <a:pt x="2302" y="905"/>
                  </a:lnTo>
                  <a:lnTo>
                    <a:pt x="2308" y="904"/>
                  </a:lnTo>
                  <a:lnTo>
                    <a:pt x="2312" y="901"/>
                  </a:lnTo>
                  <a:lnTo>
                    <a:pt x="2312" y="890"/>
                  </a:lnTo>
                  <a:lnTo>
                    <a:pt x="2313" y="881"/>
                  </a:lnTo>
                  <a:lnTo>
                    <a:pt x="2317" y="872"/>
                  </a:lnTo>
                  <a:lnTo>
                    <a:pt x="2329" y="862"/>
                  </a:lnTo>
                  <a:lnTo>
                    <a:pt x="2344" y="857"/>
                  </a:lnTo>
                  <a:lnTo>
                    <a:pt x="2359" y="851"/>
                  </a:lnTo>
                  <a:lnTo>
                    <a:pt x="2371" y="841"/>
                  </a:lnTo>
                  <a:lnTo>
                    <a:pt x="2383" y="833"/>
                  </a:lnTo>
                  <a:lnTo>
                    <a:pt x="2395" y="827"/>
                  </a:lnTo>
                  <a:lnTo>
                    <a:pt x="2406" y="825"/>
                  </a:lnTo>
                  <a:lnTo>
                    <a:pt x="2417" y="825"/>
                  </a:lnTo>
                  <a:lnTo>
                    <a:pt x="2427" y="827"/>
                  </a:lnTo>
                  <a:lnTo>
                    <a:pt x="2430" y="832"/>
                  </a:lnTo>
                  <a:lnTo>
                    <a:pt x="2428" y="842"/>
                  </a:lnTo>
                  <a:lnTo>
                    <a:pt x="2427" y="851"/>
                  </a:lnTo>
                  <a:lnTo>
                    <a:pt x="2425" y="858"/>
                  </a:lnTo>
                  <a:lnTo>
                    <a:pt x="2420" y="865"/>
                  </a:lnTo>
                  <a:lnTo>
                    <a:pt x="2414" y="870"/>
                  </a:lnTo>
                  <a:lnTo>
                    <a:pt x="2406" y="873"/>
                  </a:lnTo>
                  <a:lnTo>
                    <a:pt x="2399" y="878"/>
                  </a:lnTo>
                  <a:lnTo>
                    <a:pt x="2397" y="884"/>
                  </a:lnTo>
                  <a:lnTo>
                    <a:pt x="2405" y="895"/>
                  </a:lnTo>
                  <a:lnTo>
                    <a:pt x="2420" y="896"/>
                  </a:lnTo>
                  <a:lnTo>
                    <a:pt x="2438" y="898"/>
                  </a:lnTo>
                  <a:lnTo>
                    <a:pt x="2428" y="914"/>
                  </a:lnTo>
                  <a:lnTo>
                    <a:pt x="2415" y="927"/>
                  </a:lnTo>
                  <a:lnTo>
                    <a:pt x="2398" y="937"/>
                  </a:lnTo>
                  <a:lnTo>
                    <a:pt x="2406" y="943"/>
                  </a:lnTo>
                  <a:lnTo>
                    <a:pt x="2415" y="945"/>
                  </a:lnTo>
                  <a:lnTo>
                    <a:pt x="2419" y="940"/>
                  </a:lnTo>
                  <a:lnTo>
                    <a:pt x="2433" y="916"/>
                  </a:lnTo>
                  <a:lnTo>
                    <a:pt x="2456" y="902"/>
                  </a:lnTo>
                  <a:lnTo>
                    <a:pt x="2480" y="892"/>
                  </a:lnTo>
                  <a:lnTo>
                    <a:pt x="2505" y="881"/>
                  </a:lnTo>
                  <a:lnTo>
                    <a:pt x="2531" y="872"/>
                  </a:lnTo>
                  <a:lnTo>
                    <a:pt x="2558" y="865"/>
                  </a:lnTo>
                  <a:lnTo>
                    <a:pt x="2558" y="861"/>
                  </a:lnTo>
                  <a:lnTo>
                    <a:pt x="2556" y="855"/>
                  </a:lnTo>
                  <a:lnTo>
                    <a:pt x="2556" y="848"/>
                  </a:lnTo>
                  <a:lnTo>
                    <a:pt x="2559" y="843"/>
                  </a:lnTo>
                  <a:lnTo>
                    <a:pt x="2593" y="818"/>
                  </a:lnTo>
                  <a:lnTo>
                    <a:pt x="2631" y="801"/>
                  </a:lnTo>
                  <a:lnTo>
                    <a:pt x="2665" y="775"/>
                  </a:lnTo>
                  <a:lnTo>
                    <a:pt x="2669" y="768"/>
                  </a:lnTo>
                  <a:lnTo>
                    <a:pt x="2671" y="761"/>
                  </a:lnTo>
                  <a:lnTo>
                    <a:pt x="2676" y="757"/>
                  </a:lnTo>
                  <a:lnTo>
                    <a:pt x="2684" y="755"/>
                  </a:lnTo>
                  <a:lnTo>
                    <a:pt x="2690" y="752"/>
                  </a:lnTo>
                  <a:lnTo>
                    <a:pt x="2693" y="753"/>
                  </a:lnTo>
                  <a:lnTo>
                    <a:pt x="2703" y="768"/>
                  </a:lnTo>
                  <a:lnTo>
                    <a:pt x="2718" y="776"/>
                  </a:lnTo>
                  <a:lnTo>
                    <a:pt x="2735" y="777"/>
                  </a:lnTo>
                  <a:lnTo>
                    <a:pt x="2746" y="770"/>
                  </a:lnTo>
                  <a:lnTo>
                    <a:pt x="2745" y="757"/>
                  </a:lnTo>
                  <a:lnTo>
                    <a:pt x="2745" y="744"/>
                  </a:lnTo>
                  <a:lnTo>
                    <a:pt x="2755" y="739"/>
                  </a:lnTo>
                  <a:lnTo>
                    <a:pt x="2770" y="740"/>
                  </a:lnTo>
                  <a:lnTo>
                    <a:pt x="2783" y="737"/>
                  </a:lnTo>
                  <a:lnTo>
                    <a:pt x="2792" y="730"/>
                  </a:lnTo>
                  <a:lnTo>
                    <a:pt x="2800" y="724"/>
                  </a:lnTo>
                  <a:lnTo>
                    <a:pt x="2809" y="717"/>
                  </a:lnTo>
                  <a:lnTo>
                    <a:pt x="2814" y="716"/>
                  </a:lnTo>
                  <a:lnTo>
                    <a:pt x="2821" y="716"/>
                  </a:lnTo>
                  <a:lnTo>
                    <a:pt x="2826" y="715"/>
                  </a:lnTo>
                  <a:lnTo>
                    <a:pt x="2830" y="707"/>
                  </a:lnTo>
                  <a:lnTo>
                    <a:pt x="2831" y="698"/>
                  </a:lnTo>
                  <a:lnTo>
                    <a:pt x="2833" y="690"/>
                  </a:lnTo>
                  <a:lnTo>
                    <a:pt x="2845" y="685"/>
                  </a:lnTo>
                  <a:lnTo>
                    <a:pt x="2858" y="695"/>
                  </a:lnTo>
                  <a:lnTo>
                    <a:pt x="2871" y="705"/>
                  </a:lnTo>
                  <a:lnTo>
                    <a:pt x="2877" y="702"/>
                  </a:lnTo>
                  <a:lnTo>
                    <a:pt x="2886" y="695"/>
                  </a:lnTo>
                  <a:lnTo>
                    <a:pt x="2894" y="686"/>
                  </a:lnTo>
                  <a:lnTo>
                    <a:pt x="2898" y="679"/>
                  </a:lnTo>
                  <a:lnTo>
                    <a:pt x="2903" y="669"/>
                  </a:lnTo>
                  <a:lnTo>
                    <a:pt x="2907" y="661"/>
                  </a:lnTo>
                  <a:lnTo>
                    <a:pt x="2910" y="650"/>
                  </a:lnTo>
                  <a:lnTo>
                    <a:pt x="2907" y="648"/>
                  </a:lnTo>
                  <a:lnTo>
                    <a:pt x="2907" y="645"/>
                  </a:lnTo>
                  <a:lnTo>
                    <a:pt x="2904" y="643"/>
                  </a:lnTo>
                  <a:lnTo>
                    <a:pt x="2907" y="618"/>
                  </a:lnTo>
                  <a:lnTo>
                    <a:pt x="2903" y="593"/>
                  </a:lnTo>
                  <a:lnTo>
                    <a:pt x="2891" y="570"/>
                  </a:lnTo>
                  <a:lnTo>
                    <a:pt x="2906" y="562"/>
                  </a:lnTo>
                  <a:lnTo>
                    <a:pt x="2919" y="551"/>
                  </a:lnTo>
                  <a:lnTo>
                    <a:pt x="2930" y="537"/>
                  </a:lnTo>
                  <a:lnTo>
                    <a:pt x="2940" y="545"/>
                  </a:lnTo>
                  <a:lnTo>
                    <a:pt x="2951" y="549"/>
                  </a:lnTo>
                  <a:lnTo>
                    <a:pt x="2963" y="547"/>
                  </a:lnTo>
                  <a:lnTo>
                    <a:pt x="2963" y="551"/>
                  </a:lnTo>
                  <a:lnTo>
                    <a:pt x="2967" y="553"/>
                  </a:lnTo>
                  <a:lnTo>
                    <a:pt x="2970" y="554"/>
                  </a:lnTo>
                  <a:lnTo>
                    <a:pt x="2979" y="554"/>
                  </a:lnTo>
                  <a:lnTo>
                    <a:pt x="2987" y="553"/>
                  </a:lnTo>
                  <a:lnTo>
                    <a:pt x="2996" y="550"/>
                  </a:lnTo>
                  <a:lnTo>
                    <a:pt x="2997" y="539"/>
                  </a:lnTo>
                  <a:lnTo>
                    <a:pt x="3002" y="529"/>
                  </a:lnTo>
                  <a:lnTo>
                    <a:pt x="3012" y="520"/>
                  </a:lnTo>
                  <a:lnTo>
                    <a:pt x="3013" y="517"/>
                  </a:lnTo>
                  <a:lnTo>
                    <a:pt x="3013" y="512"/>
                  </a:lnTo>
                  <a:lnTo>
                    <a:pt x="3013" y="508"/>
                  </a:lnTo>
                  <a:lnTo>
                    <a:pt x="3020" y="500"/>
                  </a:lnTo>
                  <a:lnTo>
                    <a:pt x="3027" y="492"/>
                  </a:lnTo>
                  <a:lnTo>
                    <a:pt x="3035" y="484"/>
                  </a:lnTo>
                  <a:lnTo>
                    <a:pt x="3037" y="478"/>
                  </a:lnTo>
                  <a:lnTo>
                    <a:pt x="3036" y="472"/>
                  </a:lnTo>
                  <a:lnTo>
                    <a:pt x="3033" y="465"/>
                  </a:lnTo>
                  <a:lnTo>
                    <a:pt x="3039" y="460"/>
                  </a:lnTo>
                  <a:lnTo>
                    <a:pt x="3044" y="454"/>
                  </a:lnTo>
                  <a:lnTo>
                    <a:pt x="3048" y="448"/>
                  </a:lnTo>
                  <a:lnTo>
                    <a:pt x="3049" y="441"/>
                  </a:lnTo>
                  <a:lnTo>
                    <a:pt x="3047" y="435"/>
                  </a:lnTo>
                  <a:lnTo>
                    <a:pt x="3047" y="430"/>
                  </a:lnTo>
                  <a:lnTo>
                    <a:pt x="3055" y="422"/>
                  </a:lnTo>
                  <a:lnTo>
                    <a:pt x="3056" y="413"/>
                  </a:lnTo>
                  <a:lnTo>
                    <a:pt x="3056" y="402"/>
                  </a:lnTo>
                  <a:lnTo>
                    <a:pt x="3068" y="402"/>
                  </a:lnTo>
                  <a:lnTo>
                    <a:pt x="3079" y="396"/>
                  </a:lnTo>
                  <a:lnTo>
                    <a:pt x="3080" y="387"/>
                  </a:lnTo>
                  <a:lnTo>
                    <a:pt x="3076" y="377"/>
                  </a:lnTo>
                  <a:lnTo>
                    <a:pt x="3074" y="368"/>
                  </a:lnTo>
                  <a:lnTo>
                    <a:pt x="3074" y="359"/>
                  </a:lnTo>
                  <a:lnTo>
                    <a:pt x="3074" y="355"/>
                  </a:lnTo>
                  <a:lnTo>
                    <a:pt x="3076" y="350"/>
                  </a:lnTo>
                  <a:lnTo>
                    <a:pt x="3079" y="346"/>
                  </a:lnTo>
                  <a:lnTo>
                    <a:pt x="3071" y="345"/>
                  </a:lnTo>
                  <a:lnTo>
                    <a:pt x="3065" y="341"/>
                  </a:lnTo>
                  <a:lnTo>
                    <a:pt x="3060" y="341"/>
                  </a:lnTo>
                  <a:lnTo>
                    <a:pt x="3038" y="348"/>
                  </a:lnTo>
                  <a:lnTo>
                    <a:pt x="3015" y="350"/>
                  </a:lnTo>
                  <a:lnTo>
                    <a:pt x="2994" y="355"/>
                  </a:lnTo>
                  <a:lnTo>
                    <a:pt x="2985" y="361"/>
                  </a:lnTo>
                  <a:lnTo>
                    <a:pt x="2977" y="367"/>
                  </a:lnTo>
                  <a:lnTo>
                    <a:pt x="2967" y="372"/>
                  </a:lnTo>
                  <a:lnTo>
                    <a:pt x="2969" y="374"/>
                  </a:lnTo>
                  <a:lnTo>
                    <a:pt x="2970" y="376"/>
                  </a:lnTo>
                  <a:lnTo>
                    <a:pt x="2970" y="378"/>
                  </a:lnTo>
                  <a:lnTo>
                    <a:pt x="2952" y="386"/>
                  </a:lnTo>
                  <a:lnTo>
                    <a:pt x="2934" y="386"/>
                  </a:lnTo>
                  <a:lnTo>
                    <a:pt x="2917" y="380"/>
                  </a:lnTo>
                  <a:lnTo>
                    <a:pt x="2910" y="379"/>
                  </a:lnTo>
                  <a:lnTo>
                    <a:pt x="2903" y="381"/>
                  </a:lnTo>
                  <a:lnTo>
                    <a:pt x="2896" y="385"/>
                  </a:lnTo>
                  <a:lnTo>
                    <a:pt x="2893" y="386"/>
                  </a:lnTo>
                  <a:lnTo>
                    <a:pt x="2890" y="386"/>
                  </a:lnTo>
                  <a:lnTo>
                    <a:pt x="2888" y="383"/>
                  </a:lnTo>
                  <a:lnTo>
                    <a:pt x="2886" y="378"/>
                  </a:lnTo>
                  <a:lnTo>
                    <a:pt x="2885" y="374"/>
                  </a:lnTo>
                  <a:lnTo>
                    <a:pt x="2891" y="372"/>
                  </a:lnTo>
                  <a:lnTo>
                    <a:pt x="2886" y="369"/>
                  </a:lnTo>
                  <a:lnTo>
                    <a:pt x="2881" y="366"/>
                  </a:lnTo>
                  <a:lnTo>
                    <a:pt x="2878" y="363"/>
                  </a:lnTo>
                  <a:lnTo>
                    <a:pt x="2878" y="348"/>
                  </a:lnTo>
                  <a:lnTo>
                    <a:pt x="2875" y="335"/>
                  </a:lnTo>
                  <a:lnTo>
                    <a:pt x="2867" y="323"/>
                  </a:lnTo>
                  <a:lnTo>
                    <a:pt x="2871" y="319"/>
                  </a:lnTo>
                  <a:lnTo>
                    <a:pt x="2873" y="313"/>
                  </a:lnTo>
                  <a:lnTo>
                    <a:pt x="2877" y="310"/>
                  </a:lnTo>
                  <a:lnTo>
                    <a:pt x="2865" y="310"/>
                  </a:lnTo>
                  <a:lnTo>
                    <a:pt x="2853" y="307"/>
                  </a:lnTo>
                  <a:lnTo>
                    <a:pt x="2841" y="303"/>
                  </a:lnTo>
                  <a:lnTo>
                    <a:pt x="2837" y="299"/>
                  </a:lnTo>
                  <a:lnTo>
                    <a:pt x="2835" y="293"/>
                  </a:lnTo>
                  <a:lnTo>
                    <a:pt x="2833" y="287"/>
                  </a:lnTo>
                  <a:lnTo>
                    <a:pt x="2823" y="278"/>
                  </a:lnTo>
                  <a:lnTo>
                    <a:pt x="2809" y="277"/>
                  </a:lnTo>
                  <a:lnTo>
                    <a:pt x="2796" y="275"/>
                  </a:lnTo>
                  <a:lnTo>
                    <a:pt x="2788" y="271"/>
                  </a:lnTo>
                  <a:lnTo>
                    <a:pt x="2779" y="268"/>
                  </a:lnTo>
                  <a:lnTo>
                    <a:pt x="2771" y="265"/>
                  </a:lnTo>
                  <a:lnTo>
                    <a:pt x="2760" y="263"/>
                  </a:lnTo>
                  <a:lnTo>
                    <a:pt x="2748" y="263"/>
                  </a:lnTo>
                  <a:lnTo>
                    <a:pt x="2735" y="263"/>
                  </a:lnTo>
                  <a:lnTo>
                    <a:pt x="2732" y="258"/>
                  </a:lnTo>
                  <a:lnTo>
                    <a:pt x="2726" y="255"/>
                  </a:lnTo>
                  <a:lnTo>
                    <a:pt x="2722" y="251"/>
                  </a:lnTo>
                  <a:lnTo>
                    <a:pt x="2723" y="243"/>
                  </a:lnTo>
                  <a:lnTo>
                    <a:pt x="2726" y="235"/>
                  </a:lnTo>
                  <a:lnTo>
                    <a:pt x="2725" y="227"/>
                  </a:lnTo>
                  <a:lnTo>
                    <a:pt x="2721" y="223"/>
                  </a:lnTo>
                  <a:lnTo>
                    <a:pt x="2716" y="220"/>
                  </a:lnTo>
                  <a:lnTo>
                    <a:pt x="2714" y="217"/>
                  </a:lnTo>
                  <a:lnTo>
                    <a:pt x="2709" y="192"/>
                  </a:lnTo>
                  <a:lnTo>
                    <a:pt x="2697" y="170"/>
                  </a:lnTo>
                  <a:lnTo>
                    <a:pt x="2680" y="150"/>
                  </a:lnTo>
                  <a:lnTo>
                    <a:pt x="2680" y="145"/>
                  </a:lnTo>
                  <a:lnTo>
                    <a:pt x="2685" y="141"/>
                  </a:lnTo>
                  <a:lnTo>
                    <a:pt x="2685" y="135"/>
                  </a:lnTo>
                  <a:lnTo>
                    <a:pt x="2674" y="113"/>
                  </a:lnTo>
                  <a:lnTo>
                    <a:pt x="2664" y="92"/>
                  </a:lnTo>
                  <a:lnTo>
                    <a:pt x="2653" y="70"/>
                  </a:lnTo>
                  <a:lnTo>
                    <a:pt x="2648" y="60"/>
                  </a:lnTo>
                  <a:lnTo>
                    <a:pt x="2641" y="49"/>
                  </a:lnTo>
                  <a:lnTo>
                    <a:pt x="2632" y="40"/>
                  </a:lnTo>
                  <a:lnTo>
                    <a:pt x="2627" y="37"/>
                  </a:lnTo>
                  <a:lnTo>
                    <a:pt x="2620" y="35"/>
                  </a:lnTo>
                  <a:lnTo>
                    <a:pt x="2613" y="33"/>
                  </a:lnTo>
                  <a:lnTo>
                    <a:pt x="2601" y="32"/>
                  </a:lnTo>
                  <a:lnTo>
                    <a:pt x="2589" y="33"/>
                  </a:lnTo>
                  <a:lnTo>
                    <a:pt x="2577" y="31"/>
                  </a:lnTo>
                  <a:lnTo>
                    <a:pt x="2567" y="25"/>
                  </a:lnTo>
                  <a:lnTo>
                    <a:pt x="2556" y="18"/>
                  </a:lnTo>
                  <a:lnTo>
                    <a:pt x="2545" y="12"/>
                  </a:lnTo>
                  <a:lnTo>
                    <a:pt x="2528" y="4"/>
                  </a:lnTo>
                  <a:lnTo>
                    <a:pt x="2508" y="0"/>
                  </a:lnTo>
                  <a:lnTo>
                    <a:pt x="2488" y="1"/>
                  </a:lnTo>
                  <a:lnTo>
                    <a:pt x="2485" y="2"/>
                  </a:lnTo>
                  <a:lnTo>
                    <a:pt x="2481" y="3"/>
                  </a:lnTo>
                  <a:lnTo>
                    <a:pt x="2477" y="5"/>
                  </a:lnTo>
                  <a:lnTo>
                    <a:pt x="2467" y="5"/>
                  </a:lnTo>
                  <a:lnTo>
                    <a:pt x="2457" y="1"/>
                  </a:lnTo>
                  <a:lnTo>
                    <a:pt x="2449" y="1"/>
                  </a:lnTo>
                  <a:lnTo>
                    <a:pt x="2429" y="9"/>
                  </a:lnTo>
                  <a:lnTo>
                    <a:pt x="2408" y="10"/>
                  </a:lnTo>
                  <a:lnTo>
                    <a:pt x="2390" y="15"/>
                  </a:lnTo>
                  <a:lnTo>
                    <a:pt x="2376" y="26"/>
                  </a:lnTo>
                  <a:lnTo>
                    <a:pt x="2362" y="36"/>
                  </a:lnTo>
                  <a:lnTo>
                    <a:pt x="2346" y="44"/>
                  </a:lnTo>
                  <a:lnTo>
                    <a:pt x="2343" y="49"/>
                  </a:lnTo>
                  <a:lnTo>
                    <a:pt x="2342" y="56"/>
                  </a:lnTo>
                  <a:lnTo>
                    <a:pt x="2346" y="60"/>
                  </a:lnTo>
                  <a:lnTo>
                    <a:pt x="2366" y="66"/>
                  </a:lnTo>
                  <a:lnTo>
                    <a:pt x="2376" y="81"/>
                  </a:lnTo>
                  <a:lnTo>
                    <a:pt x="2378" y="98"/>
                  </a:lnTo>
                  <a:lnTo>
                    <a:pt x="2370" y="113"/>
                  </a:lnTo>
                  <a:lnTo>
                    <a:pt x="2354" y="128"/>
                  </a:lnTo>
                  <a:lnTo>
                    <a:pt x="2339" y="144"/>
                  </a:lnTo>
                  <a:lnTo>
                    <a:pt x="2335" y="155"/>
                  </a:lnTo>
                  <a:lnTo>
                    <a:pt x="2332" y="166"/>
                  </a:lnTo>
                  <a:lnTo>
                    <a:pt x="2325" y="173"/>
                  </a:lnTo>
                  <a:lnTo>
                    <a:pt x="2320" y="177"/>
                  </a:lnTo>
                  <a:lnTo>
                    <a:pt x="2317" y="181"/>
                  </a:lnTo>
                  <a:lnTo>
                    <a:pt x="2314" y="185"/>
                  </a:lnTo>
                  <a:lnTo>
                    <a:pt x="2308" y="199"/>
                  </a:lnTo>
                  <a:lnTo>
                    <a:pt x="2311" y="215"/>
                  </a:lnTo>
                  <a:lnTo>
                    <a:pt x="2309" y="230"/>
                  </a:lnTo>
                  <a:lnTo>
                    <a:pt x="2311" y="230"/>
                  </a:lnTo>
                  <a:lnTo>
                    <a:pt x="2313" y="230"/>
                  </a:lnTo>
                  <a:lnTo>
                    <a:pt x="2316" y="230"/>
                  </a:lnTo>
                  <a:lnTo>
                    <a:pt x="2311" y="233"/>
                  </a:lnTo>
                  <a:lnTo>
                    <a:pt x="2306" y="237"/>
                  </a:lnTo>
                  <a:lnTo>
                    <a:pt x="2303" y="239"/>
                  </a:lnTo>
                  <a:lnTo>
                    <a:pt x="2280" y="242"/>
                  </a:lnTo>
                  <a:lnTo>
                    <a:pt x="2261" y="252"/>
                  </a:lnTo>
                  <a:lnTo>
                    <a:pt x="2242" y="261"/>
                  </a:lnTo>
                  <a:lnTo>
                    <a:pt x="2223" y="262"/>
                  </a:lnTo>
                  <a:lnTo>
                    <a:pt x="2204" y="254"/>
                  </a:lnTo>
                  <a:lnTo>
                    <a:pt x="2183" y="247"/>
                  </a:lnTo>
                  <a:lnTo>
                    <a:pt x="2172" y="242"/>
                  </a:lnTo>
                  <a:lnTo>
                    <a:pt x="2176" y="251"/>
                  </a:lnTo>
                  <a:lnTo>
                    <a:pt x="2175" y="257"/>
                  </a:lnTo>
                  <a:lnTo>
                    <a:pt x="2172" y="263"/>
                  </a:lnTo>
                  <a:lnTo>
                    <a:pt x="2162" y="283"/>
                  </a:lnTo>
                  <a:lnTo>
                    <a:pt x="2149" y="303"/>
                  </a:lnTo>
                  <a:lnTo>
                    <a:pt x="2137" y="323"/>
                  </a:lnTo>
                  <a:lnTo>
                    <a:pt x="2137" y="330"/>
                  </a:lnTo>
                  <a:lnTo>
                    <a:pt x="2139" y="336"/>
                  </a:lnTo>
                  <a:lnTo>
                    <a:pt x="2140" y="343"/>
                  </a:lnTo>
                  <a:lnTo>
                    <a:pt x="2131" y="344"/>
                  </a:lnTo>
                  <a:lnTo>
                    <a:pt x="2122" y="347"/>
                  </a:lnTo>
                  <a:lnTo>
                    <a:pt x="2116" y="351"/>
                  </a:lnTo>
                  <a:lnTo>
                    <a:pt x="2113" y="363"/>
                  </a:lnTo>
                  <a:lnTo>
                    <a:pt x="2119" y="375"/>
                  </a:lnTo>
                  <a:lnTo>
                    <a:pt x="2131" y="380"/>
                  </a:lnTo>
                  <a:lnTo>
                    <a:pt x="2137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5"/>
                  </a:lnTo>
                  <a:lnTo>
                    <a:pt x="2181" y="376"/>
                  </a:lnTo>
                  <a:lnTo>
                    <a:pt x="2195" y="381"/>
                  </a:lnTo>
                  <a:lnTo>
                    <a:pt x="2198" y="382"/>
                  </a:lnTo>
                  <a:lnTo>
                    <a:pt x="2201" y="384"/>
                  </a:lnTo>
                  <a:lnTo>
                    <a:pt x="2204" y="386"/>
                  </a:lnTo>
                  <a:lnTo>
                    <a:pt x="2214" y="384"/>
                  </a:lnTo>
                  <a:lnTo>
                    <a:pt x="2224" y="378"/>
                  </a:lnTo>
                  <a:lnTo>
                    <a:pt x="2234" y="373"/>
                  </a:lnTo>
                  <a:lnTo>
                    <a:pt x="2260" y="370"/>
                  </a:lnTo>
                  <a:lnTo>
                    <a:pt x="2284" y="380"/>
                  </a:lnTo>
                  <a:lnTo>
                    <a:pt x="2304" y="401"/>
                  </a:lnTo>
                  <a:lnTo>
                    <a:pt x="2310" y="406"/>
                  </a:lnTo>
                  <a:lnTo>
                    <a:pt x="2317" y="409"/>
                  </a:lnTo>
                  <a:lnTo>
                    <a:pt x="2325" y="414"/>
                  </a:lnTo>
                  <a:lnTo>
                    <a:pt x="2333" y="420"/>
                  </a:lnTo>
                  <a:lnTo>
                    <a:pt x="2339" y="431"/>
                  </a:lnTo>
                  <a:lnTo>
                    <a:pt x="2337" y="441"/>
                  </a:lnTo>
                  <a:lnTo>
                    <a:pt x="2336" y="445"/>
                  </a:lnTo>
                  <a:lnTo>
                    <a:pt x="2333" y="449"/>
                  </a:lnTo>
                  <a:lnTo>
                    <a:pt x="2329" y="451"/>
                  </a:lnTo>
                  <a:lnTo>
                    <a:pt x="2315" y="451"/>
                  </a:lnTo>
                  <a:lnTo>
                    <a:pt x="2301" y="450"/>
                  </a:lnTo>
                  <a:lnTo>
                    <a:pt x="2288" y="447"/>
                  </a:lnTo>
                  <a:lnTo>
                    <a:pt x="2266" y="445"/>
                  </a:lnTo>
                  <a:lnTo>
                    <a:pt x="2243" y="451"/>
                  </a:lnTo>
                  <a:lnTo>
                    <a:pt x="2220" y="456"/>
                  </a:lnTo>
                  <a:lnTo>
                    <a:pt x="2214" y="460"/>
                  </a:lnTo>
                  <a:lnTo>
                    <a:pt x="2209" y="465"/>
                  </a:lnTo>
                  <a:lnTo>
                    <a:pt x="2203" y="471"/>
                  </a:lnTo>
                  <a:lnTo>
                    <a:pt x="2197" y="472"/>
                  </a:lnTo>
                  <a:lnTo>
                    <a:pt x="2190" y="471"/>
                  </a:lnTo>
                  <a:lnTo>
                    <a:pt x="2184" y="472"/>
                  </a:lnTo>
                  <a:lnTo>
                    <a:pt x="2166" y="488"/>
                  </a:lnTo>
                  <a:lnTo>
                    <a:pt x="2154" y="508"/>
                  </a:lnTo>
                  <a:lnTo>
                    <a:pt x="2139" y="526"/>
                  </a:lnTo>
                  <a:lnTo>
                    <a:pt x="2121" y="532"/>
                  </a:lnTo>
                  <a:lnTo>
                    <a:pt x="2101" y="531"/>
                  </a:lnTo>
                  <a:lnTo>
                    <a:pt x="2082" y="532"/>
                  </a:lnTo>
                  <a:lnTo>
                    <a:pt x="2072" y="537"/>
                  </a:lnTo>
                  <a:lnTo>
                    <a:pt x="2063" y="546"/>
                  </a:lnTo>
                  <a:lnTo>
                    <a:pt x="2056" y="556"/>
                  </a:lnTo>
                  <a:lnTo>
                    <a:pt x="2040" y="568"/>
                  </a:lnTo>
                  <a:lnTo>
                    <a:pt x="2020" y="572"/>
                  </a:lnTo>
                  <a:lnTo>
                    <a:pt x="1999" y="570"/>
                  </a:lnTo>
                  <a:lnTo>
                    <a:pt x="1979" y="562"/>
                  </a:lnTo>
                  <a:lnTo>
                    <a:pt x="1959" y="555"/>
                  </a:lnTo>
                  <a:lnTo>
                    <a:pt x="1940" y="556"/>
                  </a:lnTo>
                  <a:lnTo>
                    <a:pt x="1923" y="568"/>
                  </a:lnTo>
                  <a:lnTo>
                    <a:pt x="1914" y="586"/>
                  </a:lnTo>
                  <a:lnTo>
                    <a:pt x="1918" y="605"/>
                  </a:lnTo>
                  <a:lnTo>
                    <a:pt x="1930" y="618"/>
                  </a:lnTo>
                  <a:lnTo>
                    <a:pt x="1940" y="629"/>
                  </a:lnTo>
                  <a:lnTo>
                    <a:pt x="1940" y="641"/>
                  </a:lnTo>
                  <a:lnTo>
                    <a:pt x="1925" y="651"/>
                  </a:lnTo>
                  <a:lnTo>
                    <a:pt x="1906" y="657"/>
                  </a:lnTo>
                  <a:lnTo>
                    <a:pt x="1888" y="665"/>
                  </a:lnTo>
                  <a:lnTo>
                    <a:pt x="1870" y="680"/>
                  </a:lnTo>
                  <a:lnTo>
                    <a:pt x="1853" y="697"/>
                  </a:lnTo>
                  <a:lnTo>
                    <a:pt x="1835" y="709"/>
                  </a:lnTo>
                  <a:lnTo>
                    <a:pt x="1777" y="719"/>
                  </a:lnTo>
                  <a:lnTo>
                    <a:pt x="1716" y="719"/>
                  </a:lnTo>
                  <a:lnTo>
                    <a:pt x="1656" y="728"/>
                  </a:lnTo>
                  <a:lnTo>
                    <a:pt x="1637" y="741"/>
                  </a:lnTo>
                  <a:lnTo>
                    <a:pt x="1618" y="756"/>
                  </a:lnTo>
                  <a:lnTo>
                    <a:pt x="1595" y="762"/>
                  </a:lnTo>
                  <a:lnTo>
                    <a:pt x="1586" y="759"/>
                  </a:lnTo>
                  <a:lnTo>
                    <a:pt x="1576" y="756"/>
                  </a:lnTo>
                  <a:lnTo>
                    <a:pt x="1566" y="758"/>
                  </a:lnTo>
                  <a:lnTo>
                    <a:pt x="1563" y="756"/>
                  </a:lnTo>
                  <a:lnTo>
                    <a:pt x="1563" y="752"/>
                  </a:lnTo>
                  <a:lnTo>
                    <a:pt x="1560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7" y="716"/>
                  </a:lnTo>
                  <a:lnTo>
                    <a:pt x="1404" y="707"/>
                  </a:lnTo>
                  <a:lnTo>
                    <a:pt x="1381" y="701"/>
                  </a:lnTo>
                  <a:lnTo>
                    <a:pt x="1358" y="701"/>
                  </a:lnTo>
                  <a:lnTo>
                    <a:pt x="1291" y="709"/>
                  </a:lnTo>
                  <a:lnTo>
                    <a:pt x="1221" y="708"/>
                  </a:lnTo>
                  <a:lnTo>
                    <a:pt x="1161" y="686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9" y="612"/>
                  </a:lnTo>
                  <a:lnTo>
                    <a:pt x="1099" y="605"/>
                  </a:lnTo>
                  <a:lnTo>
                    <a:pt x="1084" y="599"/>
                  </a:lnTo>
                  <a:lnTo>
                    <a:pt x="1068" y="593"/>
                  </a:lnTo>
                  <a:lnTo>
                    <a:pt x="1051" y="589"/>
                  </a:lnTo>
                  <a:lnTo>
                    <a:pt x="1037" y="580"/>
                  </a:lnTo>
                  <a:lnTo>
                    <a:pt x="1023" y="569"/>
                  </a:lnTo>
                  <a:lnTo>
                    <a:pt x="1008" y="561"/>
                  </a:lnTo>
                  <a:lnTo>
                    <a:pt x="966" y="556"/>
                  </a:lnTo>
                  <a:lnTo>
                    <a:pt x="926" y="555"/>
                  </a:lnTo>
                  <a:lnTo>
                    <a:pt x="886" y="547"/>
                  </a:lnTo>
                  <a:lnTo>
                    <a:pt x="878" y="540"/>
                  </a:lnTo>
                  <a:lnTo>
                    <a:pt x="873" y="531"/>
                  </a:lnTo>
                  <a:lnTo>
                    <a:pt x="870" y="521"/>
                  </a:lnTo>
                  <a:lnTo>
                    <a:pt x="873" y="506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5" y="453"/>
                  </a:lnTo>
                  <a:lnTo>
                    <a:pt x="893" y="444"/>
                  </a:lnTo>
                  <a:lnTo>
                    <a:pt x="880" y="426"/>
                  </a:lnTo>
                  <a:lnTo>
                    <a:pt x="869" y="406"/>
                  </a:lnTo>
                  <a:lnTo>
                    <a:pt x="858" y="387"/>
                  </a:lnTo>
                  <a:lnTo>
                    <a:pt x="838" y="372"/>
                  </a:lnTo>
                  <a:lnTo>
                    <a:pt x="814" y="370"/>
                  </a:lnTo>
                  <a:lnTo>
                    <a:pt x="790" y="365"/>
                  </a:lnTo>
                  <a:lnTo>
                    <a:pt x="770" y="353"/>
                  </a:lnTo>
                  <a:lnTo>
                    <a:pt x="752" y="338"/>
                  </a:lnTo>
                  <a:lnTo>
                    <a:pt x="733" y="323"/>
                  </a:lnTo>
                  <a:lnTo>
                    <a:pt x="737" y="322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2"/>
                  </a:lnTo>
                  <a:lnTo>
                    <a:pt x="731" y="310"/>
                  </a:lnTo>
                  <a:lnTo>
                    <a:pt x="734" y="29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44200" y="4029480"/>
              <a:ext cx="402480" cy="568440"/>
            </a:xfrm>
            <a:custGeom>
              <a:avLst/>
              <a:gdLst/>
              <a:ahLst/>
              <a:rect l="l" t="t" r="r" b="b"/>
              <a:pathLst>
                <a:path w="382" h="455">
                  <a:moveTo>
                    <a:pt x="250" y="431"/>
                  </a:moveTo>
                  <a:lnTo>
                    <a:pt x="255" y="425"/>
                  </a:lnTo>
                  <a:lnTo>
                    <a:pt x="262" y="421"/>
                  </a:lnTo>
                  <a:lnTo>
                    <a:pt x="268" y="414"/>
                  </a:lnTo>
                  <a:lnTo>
                    <a:pt x="270" y="375"/>
                  </a:lnTo>
                  <a:lnTo>
                    <a:pt x="254" y="339"/>
                  </a:lnTo>
                  <a:lnTo>
                    <a:pt x="232" y="305"/>
                  </a:lnTo>
                  <a:lnTo>
                    <a:pt x="231" y="297"/>
                  </a:lnTo>
                  <a:lnTo>
                    <a:pt x="233" y="289"/>
                  </a:lnTo>
                  <a:lnTo>
                    <a:pt x="237" y="282"/>
                  </a:lnTo>
                  <a:lnTo>
                    <a:pt x="238" y="276"/>
                  </a:lnTo>
                  <a:lnTo>
                    <a:pt x="235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7" y="239"/>
                  </a:lnTo>
                  <a:lnTo>
                    <a:pt x="198" y="222"/>
                  </a:lnTo>
                  <a:lnTo>
                    <a:pt x="189" y="224"/>
                  </a:lnTo>
                  <a:lnTo>
                    <a:pt x="178" y="223"/>
                  </a:lnTo>
                  <a:lnTo>
                    <a:pt x="166" y="222"/>
                  </a:lnTo>
                  <a:lnTo>
                    <a:pt x="152" y="229"/>
                  </a:lnTo>
                  <a:lnTo>
                    <a:pt x="143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9" y="245"/>
                  </a:lnTo>
                  <a:lnTo>
                    <a:pt x="54" y="233"/>
                  </a:lnTo>
                  <a:lnTo>
                    <a:pt x="50" y="228"/>
                  </a:lnTo>
                  <a:lnTo>
                    <a:pt x="44" y="223"/>
                  </a:lnTo>
                  <a:lnTo>
                    <a:pt x="45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6"/>
                  </a:lnTo>
                  <a:lnTo>
                    <a:pt x="58" y="195"/>
                  </a:lnTo>
                  <a:lnTo>
                    <a:pt x="62" y="192"/>
                  </a:lnTo>
                  <a:lnTo>
                    <a:pt x="66" y="189"/>
                  </a:lnTo>
                  <a:lnTo>
                    <a:pt x="67" y="186"/>
                  </a:lnTo>
                  <a:lnTo>
                    <a:pt x="67" y="183"/>
                  </a:lnTo>
                  <a:lnTo>
                    <a:pt x="66" y="180"/>
                  </a:lnTo>
                  <a:lnTo>
                    <a:pt x="59" y="175"/>
                  </a:lnTo>
                  <a:lnTo>
                    <a:pt x="58" y="167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0" y="154"/>
                  </a:lnTo>
                  <a:lnTo>
                    <a:pt x="60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2" y="141"/>
                  </a:lnTo>
                  <a:lnTo>
                    <a:pt x="21" y="129"/>
                  </a:lnTo>
                  <a:lnTo>
                    <a:pt x="18" y="119"/>
                  </a:lnTo>
                  <a:lnTo>
                    <a:pt x="13" y="113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5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1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7" y="15"/>
                  </a:lnTo>
                  <a:lnTo>
                    <a:pt x="70" y="3"/>
                  </a:lnTo>
                  <a:lnTo>
                    <a:pt x="80" y="0"/>
                  </a:lnTo>
                  <a:lnTo>
                    <a:pt x="93" y="5"/>
                  </a:lnTo>
                  <a:lnTo>
                    <a:pt x="106" y="10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7" y="42"/>
                  </a:lnTo>
                  <a:lnTo>
                    <a:pt x="148" y="41"/>
                  </a:lnTo>
                  <a:lnTo>
                    <a:pt x="152" y="47"/>
                  </a:lnTo>
                  <a:lnTo>
                    <a:pt x="148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70" y="82"/>
                  </a:lnTo>
                  <a:lnTo>
                    <a:pt x="192" y="81"/>
                  </a:lnTo>
                  <a:lnTo>
                    <a:pt x="214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40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3" y="134"/>
                  </a:lnTo>
                  <a:lnTo>
                    <a:pt x="241" y="141"/>
                  </a:lnTo>
                  <a:lnTo>
                    <a:pt x="238" y="149"/>
                  </a:lnTo>
                  <a:lnTo>
                    <a:pt x="229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6" y="155"/>
                  </a:lnTo>
                  <a:lnTo>
                    <a:pt x="214" y="154"/>
                  </a:lnTo>
                  <a:lnTo>
                    <a:pt x="208" y="154"/>
                  </a:lnTo>
                  <a:lnTo>
                    <a:pt x="202" y="155"/>
                  </a:lnTo>
                  <a:lnTo>
                    <a:pt x="199" y="157"/>
                  </a:lnTo>
                  <a:lnTo>
                    <a:pt x="209" y="177"/>
                  </a:lnTo>
                  <a:lnTo>
                    <a:pt x="228" y="190"/>
                  </a:lnTo>
                  <a:lnTo>
                    <a:pt x="250" y="196"/>
                  </a:lnTo>
                  <a:lnTo>
                    <a:pt x="251" y="202"/>
                  </a:lnTo>
                  <a:lnTo>
                    <a:pt x="253" y="207"/>
                  </a:lnTo>
                  <a:lnTo>
                    <a:pt x="255" y="213"/>
                  </a:lnTo>
                  <a:lnTo>
                    <a:pt x="261" y="220"/>
                  </a:lnTo>
                  <a:lnTo>
                    <a:pt x="269" y="227"/>
                  </a:lnTo>
                  <a:lnTo>
                    <a:pt x="275" y="234"/>
                  </a:lnTo>
                  <a:lnTo>
                    <a:pt x="288" y="250"/>
                  </a:lnTo>
                  <a:lnTo>
                    <a:pt x="301" y="264"/>
                  </a:lnTo>
                  <a:lnTo>
                    <a:pt x="313" y="279"/>
                  </a:lnTo>
                  <a:lnTo>
                    <a:pt x="310" y="280"/>
                  </a:lnTo>
                  <a:lnTo>
                    <a:pt x="310" y="283"/>
                  </a:lnTo>
                  <a:lnTo>
                    <a:pt x="310" y="286"/>
                  </a:lnTo>
                  <a:lnTo>
                    <a:pt x="315" y="288"/>
                  </a:lnTo>
                  <a:lnTo>
                    <a:pt x="319" y="289"/>
                  </a:lnTo>
                  <a:lnTo>
                    <a:pt x="323" y="293"/>
                  </a:lnTo>
                  <a:lnTo>
                    <a:pt x="318" y="293"/>
                  </a:lnTo>
                  <a:lnTo>
                    <a:pt x="314" y="293"/>
                  </a:lnTo>
                  <a:lnTo>
                    <a:pt x="310" y="293"/>
                  </a:lnTo>
                  <a:lnTo>
                    <a:pt x="327" y="305"/>
                  </a:lnTo>
                  <a:lnTo>
                    <a:pt x="344" y="318"/>
                  </a:lnTo>
                  <a:lnTo>
                    <a:pt x="363" y="329"/>
                  </a:lnTo>
                  <a:lnTo>
                    <a:pt x="366" y="334"/>
                  </a:lnTo>
                  <a:lnTo>
                    <a:pt x="369" y="340"/>
                  </a:lnTo>
                  <a:lnTo>
                    <a:pt x="373" y="345"/>
                  </a:lnTo>
                  <a:lnTo>
                    <a:pt x="369" y="343"/>
                  </a:lnTo>
                  <a:lnTo>
                    <a:pt x="366" y="341"/>
                  </a:lnTo>
                  <a:lnTo>
                    <a:pt x="363" y="342"/>
                  </a:lnTo>
                  <a:lnTo>
                    <a:pt x="360" y="348"/>
                  </a:lnTo>
                  <a:lnTo>
                    <a:pt x="361" y="353"/>
                  </a:lnTo>
                  <a:lnTo>
                    <a:pt x="364" y="357"/>
                  </a:lnTo>
                  <a:lnTo>
                    <a:pt x="376" y="368"/>
                  </a:lnTo>
                  <a:lnTo>
                    <a:pt x="382" y="382"/>
                  </a:lnTo>
                  <a:lnTo>
                    <a:pt x="381" y="397"/>
                  </a:lnTo>
                  <a:lnTo>
                    <a:pt x="379" y="403"/>
                  </a:lnTo>
                  <a:lnTo>
                    <a:pt x="375" y="408"/>
                  </a:lnTo>
                  <a:lnTo>
                    <a:pt x="371" y="412"/>
                  </a:lnTo>
                  <a:lnTo>
                    <a:pt x="370" y="411"/>
                  </a:lnTo>
                  <a:lnTo>
                    <a:pt x="366" y="410"/>
                  </a:lnTo>
                  <a:lnTo>
                    <a:pt x="356" y="413"/>
                  </a:lnTo>
                  <a:lnTo>
                    <a:pt x="346" y="420"/>
                  </a:lnTo>
                  <a:lnTo>
                    <a:pt x="340" y="425"/>
                  </a:lnTo>
                  <a:lnTo>
                    <a:pt x="337" y="427"/>
                  </a:lnTo>
                  <a:lnTo>
                    <a:pt x="335" y="425"/>
                  </a:lnTo>
                  <a:lnTo>
                    <a:pt x="326" y="420"/>
                  </a:lnTo>
                  <a:lnTo>
                    <a:pt x="311" y="420"/>
                  </a:lnTo>
                  <a:lnTo>
                    <a:pt x="305" y="421"/>
                  </a:lnTo>
                  <a:lnTo>
                    <a:pt x="295" y="424"/>
                  </a:lnTo>
                  <a:lnTo>
                    <a:pt x="291" y="431"/>
                  </a:lnTo>
                  <a:lnTo>
                    <a:pt x="293" y="433"/>
                  </a:lnTo>
                  <a:lnTo>
                    <a:pt x="297" y="439"/>
                  </a:lnTo>
                  <a:lnTo>
                    <a:pt x="300" y="444"/>
                  </a:lnTo>
                  <a:lnTo>
                    <a:pt x="301" y="449"/>
                  </a:lnTo>
                  <a:lnTo>
                    <a:pt x="299" y="452"/>
                  </a:lnTo>
                  <a:lnTo>
                    <a:pt x="293" y="455"/>
                  </a:lnTo>
                  <a:lnTo>
                    <a:pt x="286" y="454"/>
                  </a:lnTo>
                  <a:lnTo>
                    <a:pt x="282" y="450"/>
                  </a:lnTo>
                  <a:lnTo>
                    <a:pt x="280" y="448"/>
                  </a:lnTo>
                  <a:lnTo>
                    <a:pt x="279" y="445"/>
                  </a:lnTo>
                  <a:lnTo>
                    <a:pt x="276" y="439"/>
                  </a:lnTo>
                  <a:lnTo>
                    <a:pt x="269" y="438"/>
                  </a:lnTo>
                  <a:lnTo>
                    <a:pt x="269" y="438"/>
                  </a:lnTo>
                  <a:lnTo>
                    <a:pt x="267" y="439"/>
                  </a:lnTo>
                  <a:lnTo>
                    <a:pt x="265" y="442"/>
                  </a:lnTo>
                  <a:lnTo>
                    <a:pt x="264" y="443"/>
                  </a:lnTo>
                  <a:lnTo>
                    <a:pt x="262" y="443"/>
                  </a:lnTo>
                  <a:lnTo>
                    <a:pt x="260" y="442"/>
                  </a:lnTo>
                  <a:lnTo>
                    <a:pt x="256" y="438"/>
                  </a:lnTo>
                  <a:lnTo>
                    <a:pt x="252" y="433"/>
                  </a:lnTo>
                  <a:lnTo>
                    <a:pt x="250" y="43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45280" y="4029480"/>
              <a:ext cx="401760" cy="568440"/>
            </a:xfrm>
            <a:custGeom>
              <a:avLst/>
              <a:gdLst/>
              <a:ahLst/>
              <a:rect l="l" t="t" r="r" b="b"/>
              <a:pathLst>
                <a:path w="381" h="455">
                  <a:moveTo>
                    <a:pt x="249" y="431"/>
                  </a:moveTo>
                  <a:lnTo>
                    <a:pt x="254" y="425"/>
                  </a:lnTo>
                  <a:lnTo>
                    <a:pt x="261" y="421"/>
                  </a:lnTo>
                  <a:lnTo>
                    <a:pt x="267" y="414"/>
                  </a:lnTo>
                  <a:lnTo>
                    <a:pt x="269" y="375"/>
                  </a:lnTo>
                  <a:lnTo>
                    <a:pt x="253" y="339"/>
                  </a:lnTo>
                  <a:lnTo>
                    <a:pt x="232" y="305"/>
                  </a:lnTo>
                  <a:lnTo>
                    <a:pt x="230" y="297"/>
                  </a:lnTo>
                  <a:lnTo>
                    <a:pt x="233" y="290"/>
                  </a:lnTo>
                  <a:lnTo>
                    <a:pt x="237" y="282"/>
                  </a:lnTo>
                  <a:lnTo>
                    <a:pt x="237" y="276"/>
                  </a:lnTo>
                  <a:lnTo>
                    <a:pt x="234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6" y="239"/>
                  </a:lnTo>
                  <a:lnTo>
                    <a:pt x="198" y="223"/>
                  </a:lnTo>
                  <a:lnTo>
                    <a:pt x="188" y="224"/>
                  </a:lnTo>
                  <a:lnTo>
                    <a:pt x="177" y="223"/>
                  </a:lnTo>
                  <a:lnTo>
                    <a:pt x="165" y="223"/>
                  </a:lnTo>
                  <a:lnTo>
                    <a:pt x="152" y="229"/>
                  </a:lnTo>
                  <a:lnTo>
                    <a:pt x="142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8" y="245"/>
                  </a:lnTo>
                  <a:lnTo>
                    <a:pt x="53" y="233"/>
                  </a:lnTo>
                  <a:lnTo>
                    <a:pt x="49" y="228"/>
                  </a:lnTo>
                  <a:lnTo>
                    <a:pt x="43" y="223"/>
                  </a:lnTo>
                  <a:lnTo>
                    <a:pt x="44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7"/>
                  </a:lnTo>
                  <a:lnTo>
                    <a:pt x="57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6" y="186"/>
                  </a:lnTo>
                  <a:lnTo>
                    <a:pt x="66" y="183"/>
                  </a:lnTo>
                  <a:lnTo>
                    <a:pt x="65" y="181"/>
                  </a:lnTo>
                  <a:lnTo>
                    <a:pt x="59" y="175"/>
                  </a:lnTo>
                  <a:lnTo>
                    <a:pt x="57" y="167"/>
                  </a:lnTo>
                  <a:lnTo>
                    <a:pt x="62" y="160"/>
                  </a:lnTo>
                  <a:lnTo>
                    <a:pt x="62" y="157"/>
                  </a:lnTo>
                  <a:lnTo>
                    <a:pt x="60" y="154"/>
                  </a:lnTo>
                  <a:lnTo>
                    <a:pt x="59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1" y="141"/>
                  </a:lnTo>
                  <a:lnTo>
                    <a:pt x="20" y="129"/>
                  </a:lnTo>
                  <a:lnTo>
                    <a:pt x="17" y="119"/>
                  </a:lnTo>
                  <a:lnTo>
                    <a:pt x="12" y="114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4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3" y="72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0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1" y="22"/>
                  </a:lnTo>
                  <a:lnTo>
                    <a:pt x="70" y="19"/>
                  </a:lnTo>
                  <a:lnTo>
                    <a:pt x="68" y="17"/>
                  </a:lnTo>
                  <a:lnTo>
                    <a:pt x="66" y="15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5"/>
                  </a:lnTo>
                  <a:lnTo>
                    <a:pt x="106" y="10"/>
                  </a:lnTo>
                  <a:lnTo>
                    <a:pt x="114" y="18"/>
                  </a:lnTo>
                  <a:lnTo>
                    <a:pt x="122" y="27"/>
                  </a:lnTo>
                  <a:lnTo>
                    <a:pt x="128" y="38"/>
                  </a:lnTo>
                  <a:lnTo>
                    <a:pt x="137" y="42"/>
                  </a:lnTo>
                  <a:lnTo>
                    <a:pt x="147" y="42"/>
                  </a:lnTo>
                  <a:lnTo>
                    <a:pt x="151" y="47"/>
                  </a:lnTo>
                  <a:lnTo>
                    <a:pt x="147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69" y="82"/>
                  </a:lnTo>
                  <a:lnTo>
                    <a:pt x="191" y="81"/>
                  </a:lnTo>
                  <a:lnTo>
                    <a:pt x="213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39" y="119"/>
                  </a:lnTo>
                  <a:lnTo>
                    <a:pt x="245" y="125"/>
                  </a:lnTo>
                  <a:lnTo>
                    <a:pt x="245" y="129"/>
                  </a:lnTo>
                  <a:lnTo>
                    <a:pt x="242" y="134"/>
                  </a:lnTo>
                  <a:lnTo>
                    <a:pt x="241" y="141"/>
                  </a:lnTo>
                  <a:lnTo>
                    <a:pt x="237" y="149"/>
                  </a:lnTo>
                  <a:lnTo>
                    <a:pt x="228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5" y="155"/>
                  </a:lnTo>
                  <a:lnTo>
                    <a:pt x="213" y="154"/>
                  </a:lnTo>
                  <a:lnTo>
                    <a:pt x="207" y="154"/>
                  </a:lnTo>
                  <a:lnTo>
                    <a:pt x="201" y="155"/>
                  </a:lnTo>
                  <a:lnTo>
                    <a:pt x="199" y="157"/>
                  </a:lnTo>
                  <a:lnTo>
                    <a:pt x="208" y="177"/>
                  </a:lnTo>
                  <a:lnTo>
                    <a:pt x="228" y="190"/>
                  </a:lnTo>
                  <a:lnTo>
                    <a:pt x="250" y="197"/>
                  </a:lnTo>
                  <a:lnTo>
                    <a:pt x="250" y="202"/>
                  </a:lnTo>
                  <a:lnTo>
                    <a:pt x="252" y="208"/>
                  </a:lnTo>
                  <a:lnTo>
                    <a:pt x="254" y="213"/>
                  </a:lnTo>
                  <a:lnTo>
                    <a:pt x="260" y="220"/>
                  </a:lnTo>
                  <a:lnTo>
                    <a:pt x="268" y="227"/>
                  </a:lnTo>
                  <a:lnTo>
                    <a:pt x="275" y="234"/>
                  </a:lnTo>
                  <a:lnTo>
                    <a:pt x="287" y="250"/>
                  </a:lnTo>
                  <a:lnTo>
                    <a:pt x="300" y="264"/>
                  </a:lnTo>
                  <a:lnTo>
                    <a:pt x="312" y="280"/>
                  </a:lnTo>
                  <a:lnTo>
                    <a:pt x="309" y="280"/>
                  </a:lnTo>
                  <a:lnTo>
                    <a:pt x="309" y="283"/>
                  </a:lnTo>
                  <a:lnTo>
                    <a:pt x="309" y="286"/>
                  </a:lnTo>
                  <a:lnTo>
                    <a:pt x="314" y="288"/>
                  </a:lnTo>
                  <a:lnTo>
                    <a:pt x="318" y="289"/>
                  </a:lnTo>
                  <a:lnTo>
                    <a:pt x="322" y="293"/>
                  </a:lnTo>
                  <a:lnTo>
                    <a:pt x="318" y="293"/>
                  </a:lnTo>
                  <a:lnTo>
                    <a:pt x="313" y="293"/>
                  </a:lnTo>
                  <a:lnTo>
                    <a:pt x="309" y="293"/>
                  </a:lnTo>
                  <a:lnTo>
                    <a:pt x="326" y="305"/>
                  </a:lnTo>
                  <a:lnTo>
                    <a:pt x="343" y="318"/>
                  </a:lnTo>
                  <a:lnTo>
                    <a:pt x="362" y="330"/>
                  </a:lnTo>
                  <a:lnTo>
                    <a:pt x="365" y="334"/>
                  </a:lnTo>
                  <a:lnTo>
                    <a:pt x="368" y="340"/>
                  </a:lnTo>
                  <a:lnTo>
                    <a:pt x="372" y="345"/>
                  </a:lnTo>
                  <a:lnTo>
                    <a:pt x="368" y="344"/>
                  </a:lnTo>
                  <a:lnTo>
                    <a:pt x="365" y="341"/>
                  </a:lnTo>
                  <a:lnTo>
                    <a:pt x="362" y="342"/>
                  </a:lnTo>
                  <a:lnTo>
                    <a:pt x="359" y="348"/>
                  </a:lnTo>
                  <a:lnTo>
                    <a:pt x="360" y="353"/>
                  </a:lnTo>
                  <a:lnTo>
                    <a:pt x="363" y="357"/>
                  </a:lnTo>
                  <a:lnTo>
                    <a:pt x="375" y="368"/>
                  </a:lnTo>
                  <a:lnTo>
                    <a:pt x="381" y="382"/>
                  </a:lnTo>
                  <a:lnTo>
                    <a:pt x="380" y="397"/>
                  </a:lnTo>
                  <a:lnTo>
                    <a:pt x="378" y="403"/>
                  </a:lnTo>
                  <a:lnTo>
                    <a:pt x="374" y="408"/>
                  </a:lnTo>
                  <a:lnTo>
                    <a:pt x="370" y="412"/>
                  </a:lnTo>
                  <a:lnTo>
                    <a:pt x="369" y="411"/>
                  </a:lnTo>
                  <a:lnTo>
                    <a:pt x="365" y="410"/>
                  </a:lnTo>
                  <a:lnTo>
                    <a:pt x="356" y="413"/>
                  </a:lnTo>
                  <a:lnTo>
                    <a:pt x="345" y="420"/>
                  </a:lnTo>
                  <a:lnTo>
                    <a:pt x="339" y="425"/>
                  </a:lnTo>
                  <a:lnTo>
                    <a:pt x="336" y="428"/>
                  </a:lnTo>
                  <a:lnTo>
                    <a:pt x="334" y="425"/>
                  </a:lnTo>
                  <a:lnTo>
                    <a:pt x="325" y="420"/>
                  </a:lnTo>
                  <a:lnTo>
                    <a:pt x="310" y="420"/>
                  </a:lnTo>
                  <a:lnTo>
                    <a:pt x="305" y="421"/>
                  </a:lnTo>
                  <a:lnTo>
                    <a:pt x="294" y="424"/>
                  </a:lnTo>
                  <a:lnTo>
                    <a:pt x="290" y="431"/>
                  </a:lnTo>
                  <a:lnTo>
                    <a:pt x="292" y="434"/>
                  </a:lnTo>
                  <a:lnTo>
                    <a:pt x="296" y="439"/>
                  </a:lnTo>
                  <a:lnTo>
                    <a:pt x="300" y="444"/>
                  </a:lnTo>
                  <a:lnTo>
                    <a:pt x="300" y="449"/>
                  </a:lnTo>
                  <a:lnTo>
                    <a:pt x="298" y="453"/>
                  </a:lnTo>
                  <a:lnTo>
                    <a:pt x="292" y="455"/>
                  </a:lnTo>
                  <a:lnTo>
                    <a:pt x="285" y="454"/>
                  </a:lnTo>
                  <a:lnTo>
                    <a:pt x="281" y="450"/>
                  </a:lnTo>
                  <a:lnTo>
                    <a:pt x="279" y="448"/>
                  </a:lnTo>
                  <a:lnTo>
                    <a:pt x="278" y="445"/>
                  </a:lnTo>
                  <a:lnTo>
                    <a:pt x="275" y="439"/>
                  </a:lnTo>
                  <a:lnTo>
                    <a:pt x="268" y="438"/>
                  </a:lnTo>
                  <a:lnTo>
                    <a:pt x="268" y="438"/>
                  </a:lnTo>
                  <a:lnTo>
                    <a:pt x="266" y="439"/>
                  </a:lnTo>
                  <a:lnTo>
                    <a:pt x="264" y="442"/>
                  </a:lnTo>
                  <a:lnTo>
                    <a:pt x="263" y="443"/>
                  </a:lnTo>
                  <a:lnTo>
                    <a:pt x="261" y="443"/>
                  </a:lnTo>
                  <a:lnTo>
                    <a:pt x="259" y="442"/>
                  </a:lnTo>
                  <a:lnTo>
                    <a:pt x="255" y="438"/>
                  </a:lnTo>
                  <a:lnTo>
                    <a:pt x="251" y="433"/>
                  </a:lnTo>
                  <a:lnTo>
                    <a:pt x="249" y="43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0960" y="4763160"/>
              <a:ext cx="151560" cy="200880"/>
            </a:xfrm>
            <a:custGeom>
              <a:avLst/>
              <a:gdLst/>
              <a:ahLst/>
              <a:rect l="l" t="t" r="r" b="b"/>
              <a:pathLst>
                <a:path w="144" h="161">
                  <a:moveTo>
                    <a:pt x="124" y="10"/>
                  </a:moveTo>
                  <a:lnTo>
                    <a:pt x="123" y="11"/>
                  </a:lnTo>
                  <a:lnTo>
                    <a:pt x="121" y="14"/>
                  </a:lnTo>
                  <a:lnTo>
                    <a:pt x="118" y="16"/>
                  </a:lnTo>
                  <a:lnTo>
                    <a:pt x="122" y="26"/>
                  </a:lnTo>
                  <a:lnTo>
                    <a:pt x="129" y="35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5"/>
                  </a:lnTo>
                  <a:lnTo>
                    <a:pt x="135" y="4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6"/>
                  </a:lnTo>
                  <a:lnTo>
                    <a:pt x="68" y="105"/>
                  </a:lnTo>
                  <a:lnTo>
                    <a:pt x="52" y="119"/>
                  </a:lnTo>
                  <a:lnTo>
                    <a:pt x="38" y="126"/>
                  </a:lnTo>
                  <a:lnTo>
                    <a:pt x="24" y="133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8" y="159"/>
                  </a:lnTo>
                  <a:lnTo>
                    <a:pt x="0" y="161"/>
                  </a:lnTo>
                  <a:lnTo>
                    <a:pt x="6" y="150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6"/>
                  </a:lnTo>
                  <a:lnTo>
                    <a:pt x="43" y="96"/>
                  </a:lnTo>
                  <a:lnTo>
                    <a:pt x="55" y="89"/>
                  </a:lnTo>
                  <a:lnTo>
                    <a:pt x="66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9"/>
                  </a:lnTo>
                  <a:lnTo>
                    <a:pt x="107" y="30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40960" y="4764240"/>
              <a:ext cx="151560" cy="19980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24" y="9"/>
                  </a:moveTo>
                  <a:lnTo>
                    <a:pt x="124" y="11"/>
                  </a:lnTo>
                  <a:lnTo>
                    <a:pt x="121" y="13"/>
                  </a:lnTo>
                  <a:lnTo>
                    <a:pt x="118" y="15"/>
                  </a:lnTo>
                  <a:lnTo>
                    <a:pt x="122" y="25"/>
                  </a:lnTo>
                  <a:lnTo>
                    <a:pt x="129" y="34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4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18" y="49"/>
                  </a:lnTo>
                  <a:lnTo>
                    <a:pt x="116" y="51"/>
                  </a:lnTo>
                  <a:lnTo>
                    <a:pt x="113" y="54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5"/>
                  </a:lnTo>
                  <a:lnTo>
                    <a:pt x="68" y="104"/>
                  </a:lnTo>
                  <a:lnTo>
                    <a:pt x="52" y="118"/>
                  </a:lnTo>
                  <a:lnTo>
                    <a:pt x="38" y="125"/>
                  </a:lnTo>
                  <a:lnTo>
                    <a:pt x="24" y="132"/>
                  </a:lnTo>
                  <a:lnTo>
                    <a:pt x="14" y="144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60"/>
                  </a:lnTo>
                  <a:lnTo>
                    <a:pt x="6" y="149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5"/>
                  </a:lnTo>
                  <a:lnTo>
                    <a:pt x="43" y="95"/>
                  </a:lnTo>
                  <a:lnTo>
                    <a:pt x="55" y="88"/>
                  </a:lnTo>
                  <a:lnTo>
                    <a:pt x="67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8"/>
                  </a:lnTo>
                  <a:lnTo>
                    <a:pt x="107" y="29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1" y="4"/>
                  </a:lnTo>
                  <a:lnTo>
                    <a:pt x="124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6400" y="470808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4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8" y="14"/>
                  </a:lnTo>
                  <a:lnTo>
                    <a:pt x="7" y="23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6400" y="470808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3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21320" y="4629240"/>
              <a:ext cx="48240" cy="748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2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8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30"/>
                  </a:lnTo>
                  <a:lnTo>
                    <a:pt x="18" y="43"/>
                  </a:lnTo>
                  <a:lnTo>
                    <a:pt x="24" y="51"/>
                  </a:lnTo>
                  <a:lnTo>
                    <a:pt x="34" y="56"/>
                  </a:lnTo>
                  <a:lnTo>
                    <a:pt x="46" y="53"/>
                  </a:lnTo>
                  <a:lnTo>
                    <a:pt x="44" y="56"/>
                  </a:lnTo>
                  <a:lnTo>
                    <a:pt x="43" y="58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21320" y="4629240"/>
              <a:ext cx="48240" cy="748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3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7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29"/>
                  </a:lnTo>
                  <a:lnTo>
                    <a:pt x="18" y="42"/>
                  </a:lnTo>
                  <a:lnTo>
                    <a:pt x="24" y="51"/>
                  </a:lnTo>
                  <a:lnTo>
                    <a:pt x="34" y="55"/>
                  </a:lnTo>
                  <a:lnTo>
                    <a:pt x="46" y="53"/>
                  </a:lnTo>
                  <a:lnTo>
                    <a:pt x="45" y="56"/>
                  </a:lnTo>
                  <a:lnTo>
                    <a:pt x="44" y="58"/>
                  </a:lnTo>
                  <a:lnTo>
                    <a:pt x="43" y="6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2080" y="4312080"/>
              <a:ext cx="260280" cy="38952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3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44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6" y="252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19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60" y="188"/>
                  </a:lnTo>
                  <a:lnTo>
                    <a:pt x="57" y="190"/>
                  </a:lnTo>
                  <a:lnTo>
                    <a:pt x="53" y="192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2" y="125"/>
                  </a:lnTo>
                  <a:lnTo>
                    <a:pt x="0" y="118"/>
                  </a:lnTo>
                  <a:lnTo>
                    <a:pt x="1" y="111"/>
                  </a:lnTo>
                  <a:lnTo>
                    <a:pt x="5" y="107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4" y="7"/>
                  </a:lnTo>
                  <a:lnTo>
                    <a:pt x="131" y="8"/>
                  </a:lnTo>
                  <a:lnTo>
                    <a:pt x="131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40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2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5" y="145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6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3" y="228"/>
                  </a:lnTo>
                  <a:lnTo>
                    <a:pt x="158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6"/>
                  </a:lnTo>
                  <a:lnTo>
                    <a:pt x="204" y="259"/>
                  </a:lnTo>
                  <a:lnTo>
                    <a:pt x="209" y="261"/>
                  </a:lnTo>
                  <a:lnTo>
                    <a:pt x="216" y="260"/>
                  </a:lnTo>
                  <a:lnTo>
                    <a:pt x="212" y="251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7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4" y="276"/>
                  </a:lnTo>
                  <a:lnTo>
                    <a:pt x="223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7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2080" y="4312080"/>
              <a:ext cx="260280" cy="38952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4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43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5" y="252"/>
                  </a:lnTo>
                  <a:lnTo>
                    <a:pt x="108" y="251"/>
                  </a:lnTo>
                  <a:lnTo>
                    <a:pt x="100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20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7" y="190"/>
                  </a:lnTo>
                  <a:lnTo>
                    <a:pt x="53" y="191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3" y="12"/>
                  </a:lnTo>
                  <a:lnTo>
                    <a:pt x="113" y="11"/>
                  </a:lnTo>
                  <a:lnTo>
                    <a:pt x="123" y="7"/>
                  </a:lnTo>
                  <a:lnTo>
                    <a:pt x="131" y="8"/>
                  </a:lnTo>
                  <a:lnTo>
                    <a:pt x="130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39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1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4" y="146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7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2" y="228"/>
                  </a:lnTo>
                  <a:lnTo>
                    <a:pt x="157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7"/>
                  </a:lnTo>
                  <a:lnTo>
                    <a:pt x="204" y="260"/>
                  </a:lnTo>
                  <a:lnTo>
                    <a:pt x="209" y="261"/>
                  </a:lnTo>
                  <a:lnTo>
                    <a:pt x="215" y="261"/>
                  </a:lnTo>
                  <a:lnTo>
                    <a:pt x="212" y="252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8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3" y="276"/>
                  </a:lnTo>
                  <a:lnTo>
                    <a:pt x="222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8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37320" y="4694040"/>
              <a:ext cx="55800" cy="92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49"/>
                  </a:lnTo>
                  <a:lnTo>
                    <a:pt x="53" y="64"/>
                  </a:lnTo>
                  <a:lnTo>
                    <a:pt x="48" y="74"/>
                  </a:lnTo>
                  <a:lnTo>
                    <a:pt x="39" y="71"/>
                  </a:lnTo>
                  <a:lnTo>
                    <a:pt x="33" y="57"/>
                  </a:lnTo>
                  <a:lnTo>
                    <a:pt x="24" y="43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29" y="30"/>
                  </a:lnTo>
                  <a:lnTo>
                    <a:pt x="19" y="36"/>
                  </a:lnTo>
                  <a:lnTo>
                    <a:pt x="9" y="29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37320" y="4694040"/>
              <a:ext cx="55800" cy="9360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50"/>
                  </a:lnTo>
                  <a:lnTo>
                    <a:pt x="53" y="64"/>
                  </a:lnTo>
                  <a:lnTo>
                    <a:pt x="48" y="75"/>
                  </a:lnTo>
                  <a:lnTo>
                    <a:pt x="39" y="72"/>
                  </a:lnTo>
                  <a:lnTo>
                    <a:pt x="33" y="58"/>
                  </a:lnTo>
                  <a:lnTo>
                    <a:pt x="24" y="44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9" y="30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4000" y="4736520"/>
              <a:ext cx="56880" cy="10728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36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3"/>
                  </a:lnTo>
                  <a:lnTo>
                    <a:pt x="4" y="14"/>
                  </a:lnTo>
                  <a:lnTo>
                    <a:pt x="6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3" y="82"/>
                  </a:lnTo>
                  <a:lnTo>
                    <a:pt x="49" y="86"/>
                  </a:lnTo>
                  <a:lnTo>
                    <a:pt x="42" y="82"/>
                  </a:lnTo>
                  <a:lnTo>
                    <a:pt x="38" y="79"/>
                  </a:lnTo>
                  <a:lnTo>
                    <a:pt x="40" y="73"/>
                  </a:lnTo>
                  <a:lnTo>
                    <a:pt x="44" y="73"/>
                  </a:lnTo>
                  <a:lnTo>
                    <a:pt x="50" y="76"/>
                  </a:lnTo>
                  <a:lnTo>
                    <a:pt x="54" y="75"/>
                  </a:lnTo>
                  <a:lnTo>
                    <a:pt x="52" y="66"/>
                  </a:lnTo>
                  <a:lnTo>
                    <a:pt x="42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3" y="32"/>
                  </a:lnTo>
                  <a:lnTo>
                    <a:pt x="38" y="27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24720" y="4736520"/>
              <a:ext cx="55800" cy="10728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35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4" y="14"/>
                  </a:lnTo>
                  <a:lnTo>
                    <a:pt x="5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2" y="82"/>
                  </a:lnTo>
                  <a:lnTo>
                    <a:pt x="48" y="86"/>
                  </a:lnTo>
                  <a:lnTo>
                    <a:pt x="42" y="82"/>
                  </a:lnTo>
                  <a:lnTo>
                    <a:pt x="37" y="80"/>
                  </a:lnTo>
                  <a:lnTo>
                    <a:pt x="40" y="74"/>
                  </a:lnTo>
                  <a:lnTo>
                    <a:pt x="44" y="73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1" y="66"/>
                  </a:lnTo>
                  <a:lnTo>
                    <a:pt x="41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3" y="32"/>
                  </a:lnTo>
                  <a:lnTo>
                    <a:pt x="38" y="28"/>
                  </a:lnTo>
                  <a:lnTo>
                    <a:pt x="31" y="23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0960" y="4785480"/>
              <a:ext cx="65160" cy="12096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3" y="7"/>
                  </a:moveTo>
                  <a:lnTo>
                    <a:pt x="43" y="10"/>
                  </a:lnTo>
                  <a:lnTo>
                    <a:pt x="32" y="12"/>
                  </a:lnTo>
                  <a:lnTo>
                    <a:pt x="20" y="11"/>
                  </a:lnTo>
                  <a:lnTo>
                    <a:pt x="16" y="19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23" y="37"/>
                  </a:lnTo>
                  <a:lnTo>
                    <a:pt x="28" y="35"/>
                  </a:lnTo>
                  <a:lnTo>
                    <a:pt x="34" y="33"/>
                  </a:lnTo>
                  <a:lnTo>
                    <a:pt x="28" y="42"/>
                  </a:lnTo>
                  <a:lnTo>
                    <a:pt x="29" y="51"/>
                  </a:lnTo>
                  <a:lnTo>
                    <a:pt x="29" y="59"/>
                  </a:lnTo>
                  <a:lnTo>
                    <a:pt x="23" y="64"/>
                  </a:lnTo>
                  <a:lnTo>
                    <a:pt x="14" y="64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18" y="88"/>
                  </a:lnTo>
                  <a:lnTo>
                    <a:pt x="38" y="97"/>
                  </a:lnTo>
                  <a:lnTo>
                    <a:pt x="59" y="94"/>
                  </a:lnTo>
                  <a:lnTo>
                    <a:pt x="59" y="90"/>
                  </a:lnTo>
                  <a:lnTo>
                    <a:pt x="55" y="83"/>
                  </a:lnTo>
                  <a:lnTo>
                    <a:pt x="52" y="76"/>
                  </a:lnTo>
                  <a:lnTo>
                    <a:pt x="53" y="54"/>
                  </a:lnTo>
                  <a:lnTo>
                    <a:pt x="60" y="31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2920" y="4795200"/>
              <a:ext cx="34920" cy="6480"/>
            </a:xfrm>
            <a:custGeom>
              <a:avLst/>
              <a:gdLst/>
              <a:ahLst/>
              <a:rect l="l" t="t" r="r" b="b"/>
              <a:pathLst>
                <a:path w="33" h="5">
                  <a:moveTo>
                    <a:pt x="33" y="0"/>
                  </a:moveTo>
                  <a:lnTo>
                    <a:pt x="22" y="3"/>
                  </a:lnTo>
                  <a:lnTo>
                    <a:pt x="11" y="5"/>
                  </a:lnTo>
                  <a:lnTo>
                    <a:pt x="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4640" y="4799160"/>
              <a:ext cx="8280" cy="320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5" y="2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8960" y="4827960"/>
              <a:ext cx="17640" cy="50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41560" y="4827960"/>
              <a:ext cx="5040" cy="30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0" y="8"/>
                  </a:lnTo>
                  <a:lnTo>
                    <a:pt x="1" y="17"/>
                  </a:lnTo>
                  <a:lnTo>
                    <a:pt x="0" y="2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14920" y="4858920"/>
              <a:ext cx="26280" cy="61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0"/>
                  </a:moveTo>
                  <a:lnTo>
                    <a:pt x="19" y="4"/>
                  </a:lnTo>
                  <a:lnTo>
                    <a:pt x="10" y="5"/>
                  </a:lnTo>
                  <a:lnTo>
                    <a:pt x="0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10960" y="4865400"/>
              <a:ext cx="396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12040" y="4876560"/>
              <a:ext cx="61200" cy="2988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0" y="0"/>
                  </a:moveTo>
                  <a:lnTo>
                    <a:pt x="17" y="15"/>
                  </a:lnTo>
                  <a:lnTo>
                    <a:pt x="37" y="24"/>
                  </a:lnTo>
                  <a:lnTo>
                    <a:pt x="58" y="2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65680" y="4880160"/>
              <a:ext cx="7200" cy="223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18"/>
                  </a:move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65680" y="4795200"/>
              <a:ext cx="10440" cy="8496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8"/>
                  </a:moveTo>
                  <a:lnTo>
                    <a:pt x="1" y="46"/>
                  </a:lnTo>
                  <a:lnTo>
                    <a:pt x="8" y="23"/>
                  </a:lnTo>
                  <a:lnTo>
                    <a:pt x="1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57400" y="4786920"/>
              <a:ext cx="18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5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90800" y="4709160"/>
              <a:ext cx="72360" cy="1098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90800" y="4709160"/>
              <a:ext cx="72360" cy="1098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4"/>
                  </a:lnTo>
                  <a:lnTo>
                    <a:pt x="65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00520" y="4679280"/>
              <a:ext cx="15480" cy="212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6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00520" y="4679280"/>
              <a:ext cx="15480" cy="212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9680" y="4691520"/>
              <a:ext cx="13320" cy="32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0" y="26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9680" y="4691520"/>
              <a:ext cx="13320" cy="33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6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10" y="27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60280" y="467928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60280" y="467928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5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5"/>
                  </a:lnTo>
                  <a:lnTo>
                    <a:pt x="7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73960" y="4765680"/>
              <a:ext cx="31680" cy="11232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86"/>
                  </a:moveTo>
                  <a:lnTo>
                    <a:pt x="3" y="73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60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73960" y="4766760"/>
              <a:ext cx="31680" cy="11124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86"/>
                  </a:moveTo>
                  <a:lnTo>
                    <a:pt x="3" y="73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59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04560" y="4841640"/>
              <a:ext cx="32760" cy="38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04560" y="4841640"/>
              <a:ext cx="32760" cy="38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90800" y="4856760"/>
              <a:ext cx="250560" cy="25956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3"/>
                  </a:lnTo>
                  <a:lnTo>
                    <a:pt x="35" y="105"/>
                  </a:lnTo>
                  <a:lnTo>
                    <a:pt x="18" y="117"/>
                  </a:lnTo>
                  <a:lnTo>
                    <a:pt x="14" y="120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7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5" y="128"/>
                  </a:lnTo>
                  <a:lnTo>
                    <a:pt x="67" y="128"/>
                  </a:lnTo>
                  <a:lnTo>
                    <a:pt x="79" y="125"/>
                  </a:lnTo>
                  <a:lnTo>
                    <a:pt x="77" y="122"/>
                  </a:lnTo>
                  <a:lnTo>
                    <a:pt x="73" y="117"/>
                  </a:lnTo>
                  <a:lnTo>
                    <a:pt x="77" y="114"/>
                  </a:lnTo>
                  <a:lnTo>
                    <a:pt x="85" y="115"/>
                  </a:lnTo>
                  <a:lnTo>
                    <a:pt x="93" y="118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1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6" y="188"/>
                  </a:lnTo>
                  <a:lnTo>
                    <a:pt x="155" y="187"/>
                  </a:lnTo>
                  <a:lnTo>
                    <a:pt x="163" y="185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70" y="198"/>
                  </a:lnTo>
                  <a:lnTo>
                    <a:pt x="170" y="204"/>
                  </a:lnTo>
                  <a:lnTo>
                    <a:pt x="178" y="208"/>
                  </a:lnTo>
                  <a:lnTo>
                    <a:pt x="188" y="207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2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5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4" y="5"/>
                  </a:lnTo>
                  <a:lnTo>
                    <a:pt x="181" y="0"/>
                  </a:lnTo>
                  <a:lnTo>
                    <a:pt x="170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3"/>
                  </a:lnTo>
                  <a:lnTo>
                    <a:pt x="168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6" y="103"/>
                  </a:lnTo>
                  <a:lnTo>
                    <a:pt x="105" y="96"/>
                  </a:lnTo>
                  <a:lnTo>
                    <a:pt x="103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90800" y="4856760"/>
              <a:ext cx="250560" cy="25956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2"/>
                  </a:lnTo>
                  <a:lnTo>
                    <a:pt x="34" y="105"/>
                  </a:lnTo>
                  <a:lnTo>
                    <a:pt x="18" y="117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7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6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5"/>
                  </a:lnTo>
                  <a:lnTo>
                    <a:pt x="41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4" y="127"/>
                  </a:lnTo>
                  <a:lnTo>
                    <a:pt x="67" y="128"/>
                  </a:lnTo>
                  <a:lnTo>
                    <a:pt x="78" y="125"/>
                  </a:lnTo>
                  <a:lnTo>
                    <a:pt x="77" y="121"/>
                  </a:lnTo>
                  <a:lnTo>
                    <a:pt x="73" y="117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3" y="117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0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5" y="187"/>
                  </a:lnTo>
                  <a:lnTo>
                    <a:pt x="154" y="187"/>
                  </a:lnTo>
                  <a:lnTo>
                    <a:pt x="163" y="184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78" y="208"/>
                  </a:lnTo>
                  <a:lnTo>
                    <a:pt x="187" y="206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1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4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3" y="4"/>
                  </a:lnTo>
                  <a:lnTo>
                    <a:pt x="181" y="0"/>
                  </a:lnTo>
                  <a:lnTo>
                    <a:pt x="169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2"/>
                  </a:lnTo>
                  <a:lnTo>
                    <a:pt x="167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5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4560" y="4831560"/>
              <a:ext cx="21960" cy="25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4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94560" y="4831560"/>
              <a:ext cx="21960" cy="25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27960" y="4897800"/>
              <a:ext cx="19800" cy="111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6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27960" y="4897800"/>
              <a:ext cx="19800" cy="111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7" y="3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81520" y="4914000"/>
              <a:ext cx="13320" cy="16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3" y="13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2" y="1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81520" y="4914000"/>
              <a:ext cx="1332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4" y="14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94040" y="5070240"/>
              <a:ext cx="19800" cy="15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3" y="1"/>
                  </a:moveTo>
                  <a:lnTo>
                    <a:pt x="9" y="3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94040" y="5070240"/>
              <a:ext cx="19800" cy="15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4" y="1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37760" y="5195160"/>
              <a:ext cx="17640" cy="158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3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37760" y="5195160"/>
              <a:ext cx="17640" cy="158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3"/>
                  </a:move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27320" y="5145120"/>
              <a:ext cx="11160" cy="14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2" y="7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28040" y="5145120"/>
              <a:ext cx="10440" cy="14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1" y="7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72240" y="5161680"/>
              <a:ext cx="10440" cy="20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2240" y="5161680"/>
              <a:ext cx="10440" cy="20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4840" y="5250240"/>
              <a:ext cx="11520" cy="198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8" y="7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84840" y="5250240"/>
              <a:ext cx="11520" cy="198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94040" y="451836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2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11" y="7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595120" y="4518360"/>
              <a:ext cx="14400" cy="29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" y="8"/>
                  </a:lnTo>
                  <a:lnTo>
                    <a:pt x="3" y="16"/>
                  </a:lnTo>
                  <a:lnTo>
                    <a:pt x="3" y="24"/>
                  </a:lnTo>
                  <a:lnTo>
                    <a:pt x="7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49840" y="4649400"/>
              <a:ext cx="7200" cy="208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4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649840" y="4649400"/>
              <a:ext cx="7200" cy="223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69920" y="4638240"/>
              <a:ext cx="15480" cy="17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4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69920" y="4638240"/>
              <a:ext cx="15480" cy="17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5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02840" y="48067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02840" y="48067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22560" y="4584240"/>
              <a:ext cx="1476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24000" y="4584240"/>
              <a:ext cx="1440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75600" y="5552640"/>
              <a:ext cx="222120" cy="510480"/>
            </a:xfrm>
            <a:custGeom>
              <a:avLst/>
              <a:gdLst/>
              <a:ahLst/>
              <a:rect l="l" t="t" r="r" b="b"/>
              <a:pathLst>
                <a:path w="211" h="409">
                  <a:moveTo>
                    <a:pt x="15" y="104"/>
                  </a:moveTo>
                  <a:lnTo>
                    <a:pt x="0" y="160"/>
                  </a:lnTo>
                  <a:lnTo>
                    <a:pt x="10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5" y="181"/>
                  </a:lnTo>
                  <a:lnTo>
                    <a:pt x="41" y="180"/>
                  </a:lnTo>
                  <a:lnTo>
                    <a:pt x="46" y="181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5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8" y="208"/>
                  </a:lnTo>
                  <a:lnTo>
                    <a:pt x="71" y="217"/>
                  </a:lnTo>
                  <a:lnTo>
                    <a:pt x="77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4"/>
                  </a:lnTo>
                  <a:lnTo>
                    <a:pt x="93" y="292"/>
                  </a:lnTo>
                  <a:lnTo>
                    <a:pt x="98" y="300"/>
                  </a:lnTo>
                  <a:lnTo>
                    <a:pt x="106" y="306"/>
                  </a:lnTo>
                  <a:lnTo>
                    <a:pt x="103" y="306"/>
                  </a:lnTo>
                  <a:lnTo>
                    <a:pt x="101" y="305"/>
                  </a:lnTo>
                  <a:lnTo>
                    <a:pt x="99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3" y="314"/>
                  </a:lnTo>
                  <a:lnTo>
                    <a:pt x="102" y="317"/>
                  </a:lnTo>
                  <a:lnTo>
                    <a:pt x="107" y="321"/>
                  </a:lnTo>
                  <a:lnTo>
                    <a:pt x="109" y="335"/>
                  </a:lnTo>
                  <a:lnTo>
                    <a:pt x="98" y="345"/>
                  </a:lnTo>
                  <a:lnTo>
                    <a:pt x="84" y="354"/>
                  </a:lnTo>
                  <a:lnTo>
                    <a:pt x="82" y="357"/>
                  </a:lnTo>
                  <a:lnTo>
                    <a:pt x="81" y="361"/>
                  </a:lnTo>
                  <a:lnTo>
                    <a:pt x="80" y="366"/>
                  </a:lnTo>
                  <a:lnTo>
                    <a:pt x="104" y="361"/>
                  </a:lnTo>
                  <a:lnTo>
                    <a:pt x="127" y="360"/>
                  </a:lnTo>
                  <a:lnTo>
                    <a:pt x="152" y="362"/>
                  </a:lnTo>
                  <a:lnTo>
                    <a:pt x="152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6" y="357"/>
                  </a:lnTo>
                  <a:lnTo>
                    <a:pt x="159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3" y="396"/>
                  </a:lnTo>
                  <a:lnTo>
                    <a:pt x="205" y="409"/>
                  </a:lnTo>
                  <a:lnTo>
                    <a:pt x="209" y="364"/>
                  </a:lnTo>
                  <a:lnTo>
                    <a:pt x="209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1" y="264"/>
                  </a:lnTo>
                  <a:lnTo>
                    <a:pt x="200" y="261"/>
                  </a:lnTo>
                  <a:lnTo>
                    <a:pt x="211" y="199"/>
                  </a:lnTo>
                  <a:lnTo>
                    <a:pt x="207" y="135"/>
                  </a:lnTo>
                  <a:lnTo>
                    <a:pt x="200" y="72"/>
                  </a:lnTo>
                  <a:lnTo>
                    <a:pt x="192" y="63"/>
                  </a:lnTo>
                  <a:lnTo>
                    <a:pt x="173" y="57"/>
                  </a:lnTo>
                  <a:lnTo>
                    <a:pt x="155" y="50"/>
                  </a:lnTo>
                  <a:lnTo>
                    <a:pt x="144" y="46"/>
                  </a:lnTo>
                  <a:lnTo>
                    <a:pt x="133" y="43"/>
                  </a:lnTo>
                  <a:lnTo>
                    <a:pt x="124" y="39"/>
                  </a:lnTo>
                  <a:lnTo>
                    <a:pt x="100" y="29"/>
                  </a:lnTo>
                  <a:lnTo>
                    <a:pt x="76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3" y="31"/>
                  </a:lnTo>
                  <a:lnTo>
                    <a:pt x="33" y="70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75600" y="5552640"/>
              <a:ext cx="223560" cy="510480"/>
            </a:xfrm>
            <a:custGeom>
              <a:avLst/>
              <a:gdLst/>
              <a:ahLst/>
              <a:rect l="l" t="t" r="r" b="b"/>
              <a:pathLst>
                <a:path w="212" h="409">
                  <a:moveTo>
                    <a:pt x="15" y="104"/>
                  </a:moveTo>
                  <a:lnTo>
                    <a:pt x="0" y="160"/>
                  </a:lnTo>
                  <a:lnTo>
                    <a:pt x="11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6" y="181"/>
                  </a:lnTo>
                  <a:lnTo>
                    <a:pt x="42" y="181"/>
                  </a:lnTo>
                  <a:lnTo>
                    <a:pt x="46" y="182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6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9" y="207"/>
                  </a:lnTo>
                  <a:lnTo>
                    <a:pt x="72" y="217"/>
                  </a:lnTo>
                  <a:lnTo>
                    <a:pt x="78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3"/>
                  </a:lnTo>
                  <a:lnTo>
                    <a:pt x="93" y="292"/>
                  </a:lnTo>
                  <a:lnTo>
                    <a:pt x="99" y="300"/>
                  </a:lnTo>
                  <a:lnTo>
                    <a:pt x="106" y="306"/>
                  </a:lnTo>
                  <a:lnTo>
                    <a:pt x="104" y="306"/>
                  </a:lnTo>
                  <a:lnTo>
                    <a:pt x="102" y="305"/>
                  </a:lnTo>
                  <a:lnTo>
                    <a:pt x="100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4" y="314"/>
                  </a:lnTo>
                  <a:lnTo>
                    <a:pt x="102" y="317"/>
                  </a:lnTo>
                  <a:lnTo>
                    <a:pt x="108" y="321"/>
                  </a:lnTo>
                  <a:lnTo>
                    <a:pt x="110" y="335"/>
                  </a:lnTo>
                  <a:lnTo>
                    <a:pt x="99" y="345"/>
                  </a:lnTo>
                  <a:lnTo>
                    <a:pt x="84" y="354"/>
                  </a:lnTo>
                  <a:lnTo>
                    <a:pt x="83" y="356"/>
                  </a:lnTo>
                  <a:lnTo>
                    <a:pt x="82" y="361"/>
                  </a:lnTo>
                  <a:lnTo>
                    <a:pt x="80" y="366"/>
                  </a:lnTo>
                  <a:lnTo>
                    <a:pt x="104" y="360"/>
                  </a:lnTo>
                  <a:lnTo>
                    <a:pt x="128" y="359"/>
                  </a:lnTo>
                  <a:lnTo>
                    <a:pt x="152" y="362"/>
                  </a:lnTo>
                  <a:lnTo>
                    <a:pt x="153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7" y="357"/>
                  </a:lnTo>
                  <a:lnTo>
                    <a:pt x="160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4" y="396"/>
                  </a:lnTo>
                  <a:lnTo>
                    <a:pt x="205" y="409"/>
                  </a:lnTo>
                  <a:lnTo>
                    <a:pt x="210" y="364"/>
                  </a:lnTo>
                  <a:lnTo>
                    <a:pt x="210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2" y="264"/>
                  </a:lnTo>
                  <a:lnTo>
                    <a:pt x="201" y="261"/>
                  </a:lnTo>
                  <a:lnTo>
                    <a:pt x="212" y="199"/>
                  </a:lnTo>
                  <a:lnTo>
                    <a:pt x="208" y="135"/>
                  </a:lnTo>
                  <a:lnTo>
                    <a:pt x="201" y="72"/>
                  </a:lnTo>
                  <a:lnTo>
                    <a:pt x="192" y="63"/>
                  </a:lnTo>
                  <a:lnTo>
                    <a:pt x="174" y="57"/>
                  </a:lnTo>
                  <a:lnTo>
                    <a:pt x="155" y="50"/>
                  </a:lnTo>
                  <a:lnTo>
                    <a:pt x="145" y="46"/>
                  </a:lnTo>
                  <a:lnTo>
                    <a:pt x="134" y="43"/>
                  </a:lnTo>
                  <a:lnTo>
                    <a:pt x="125" y="39"/>
                  </a:lnTo>
                  <a:lnTo>
                    <a:pt x="100" y="30"/>
                  </a:lnTo>
                  <a:lnTo>
                    <a:pt x="77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4" y="31"/>
                  </a:lnTo>
                  <a:lnTo>
                    <a:pt x="34" y="70"/>
                  </a:lnTo>
                  <a:lnTo>
                    <a:pt x="15" y="10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6705720" y="1600200"/>
            <a:ext cx="2286000" cy="2133720"/>
          </a:xfrm>
          <a:prstGeom prst="wedgeRoundRectCallout">
            <a:avLst>
              <a:gd name="adj1" fmla="val -97847"/>
              <a:gd name="adj2" fmla="val 59523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81680" y="1752480"/>
            <a:ext cx="236232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Mutual fund industry 40% CAGR last 17 years,  only 16% penetration! ... active religious groups…. environmentally a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 a core target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791320" y="4191120"/>
            <a:ext cx="3200400" cy="1828800"/>
          </a:xfrm>
          <a:prstGeom prst="wedgeRoundRectCallout">
            <a:avLst>
              <a:gd name="adj1" fmla="val -67509"/>
              <a:gd name="adj2" fmla="val -55555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791320" y="4343400"/>
            <a:ext cx="31240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NG KO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Government  increasingly focused on the environment and public aware…  ..new scope with MPF… big charitable institutions (eg Jockey Club, Kadoorie Found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09680" y="1219320"/>
            <a:ext cx="2667240" cy="1371600"/>
          </a:xfrm>
          <a:prstGeom prst="wedgeRoundRectCallout">
            <a:avLst>
              <a:gd name="adj1" fmla="val 89462"/>
              <a:gd name="adj2" fmla="val 87037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rporate governance a big theme….retail equity investment boom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28600" y="2620800"/>
            <a:ext cx="2438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52280" y="3962520"/>
            <a:ext cx="2514600" cy="1981080"/>
          </a:xfrm>
          <a:prstGeom prst="wedgeRoundRectCallout">
            <a:avLst>
              <a:gd name="adj1" fmla="val 128217"/>
              <a:gd name="adj2" fmla="val 20513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4038480"/>
            <a:ext cx="243828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APO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Developed and sophisticated retail investment market… significant state participation in equity invest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09480" y="60958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populations…high growth mutual fund industries…differentiation opport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prospects in Asia:  Focus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362320" y="1752480"/>
            <a:ext cx="4403160" cy="4419360"/>
            <a:chOff x="2362320" y="1752480"/>
            <a:chExt cx="4403160" cy="4419360"/>
          </a:xfrm>
        </p:grpSpPr>
        <p:sp>
          <p:nvSpPr>
            <p:cNvPr id="1082" name=""/>
            <p:cNvSpPr/>
            <p:nvPr/>
          </p:nvSpPr>
          <p:spPr>
            <a:xfrm>
              <a:off x="3359880" y="4860360"/>
              <a:ext cx="117000" cy="23940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3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6" y="61"/>
                  </a:lnTo>
                  <a:lnTo>
                    <a:pt x="97" y="88"/>
                  </a:lnTo>
                  <a:lnTo>
                    <a:pt x="111" y="117"/>
                  </a:lnTo>
                  <a:lnTo>
                    <a:pt x="109" y="148"/>
                  </a:lnTo>
                  <a:lnTo>
                    <a:pt x="97" y="166"/>
                  </a:lnTo>
                  <a:lnTo>
                    <a:pt x="80" y="177"/>
                  </a:lnTo>
                  <a:lnTo>
                    <a:pt x="58" y="182"/>
                  </a:lnTo>
                  <a:lnTo>
                    <a:pt x="57" y="186"/>
                  </a:lnTo>
                  <a:lnTo>
                    <a:pt x="53" y="188"/>
                  </a:lnTo>
                  <a:lnTo>
                    <a:pt x="51" y="192"/>
                  </a:lnTo>
                  <a:lnTo>
                    <a:pt x="41" y="191"/>
                  </a:lnTo>
                  <a:lnTo>
                    <a:pt x="33" y="188"/>
                  </a:lnTo>
                  <a:lnTo>
                    <a:pt x="26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7" y="116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10" y="54"/>
                  </a:lnTo>
                  <a:lnTo>
                    <a:pt x="8" y="2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0960" y="4860360"/>
              <a:ext cx="115920" cy="23940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26" y="0"/>
                  </a:moveTo>
                  <a:lnTo>
                    <a:pt x="33" y="3"/>
                  </a:lnTo>
                  <a:lnTo>
                    <a:pt x="42" y="12"/>
                  </a:lnTo>
                  <a:lnTo>
                    <a:pt x="52" y="20"/>
                  </a:lnTo>
                  <a:lnTo>
                    <a:pt x="62" y="30"/>
                  </a:lnTo>
                  <a:lnTo>
                    <a:pt x="68" y="46"/>
                  </a:lnTo>
                  <a:lnTo>
                    <a:pt x="75" y="61"/>
                  </a:lnTo>
                  <a:lnTo>
                    <a:pt x="96" y="88"/>
                  </a:lnTo>
                  <a:lnTo>
                    <a:pt x="110" y="117"/>
                  </a:lnTo>
                  <a:lnTo>
                    <a:pt x="108" y="148"/>
                  </a:lnTo>
                  <a:lnTo>
                    <a:pt x="97" y="166"/>
                  </a:lnTo>
                  <a:lnTo>
                    <a:pt x="79" y="177"/>
                  </a:lnTo>
                  <a:lnTo>
                    <a:pt x="57" y="182"/>
                  </a:lnTo>
                  <a:lnTo>
                    <a:pt x="57" y="186"/>
                  </a:lnTo>
                  <a:lnTo>
                    <a:pt x="52" y="189"/>
                  </a:lnTo>
                  <a:lnTo>
                    <a:pt x="50" y="192"/>
                  </a:lnTo>
                  <a:lnTo>
                    <a:pt x="41" y="191"/>
                  </a:lnTo>
                  <a:lnTo>
                    <a:pt x="32" y="189"/>
                  </a:lnTo>
                  <a:lnTo>
                    <a:pt x="25" y="184"/>
                  </a:lnTo>
                  <a:lnTo>
                    <a:pt x="14" y="169"/>
                  </a:lnTo>
                  <a:lnTo>
                    <a:pt x="7" y="152"/>
                  </a:lnTo>
                  <a:lnTo>
                    <a:pt x="7" y="137"/>
                  </a:lnTo>
                  <a:lnTo>
                    <a:pt x="7" y="117"/>
                  </a:lnTo>
                  <a:lnTo>
                    <a:pt x="0" y="99"/>
                  </a:lnTo>
                  <a:lnTo>
                    <a:pt x="1" y="85"/>
                  </a:lnTo>
                  <a:lnTo>
                    <a:pt x="9" y="54"/>
                  </a:lnTo>
                  <a:lnTo>
                    <a:pt x="8" y="22"/>
                  </a:lnTo>
                  <a:lnTo>
                    <a:pt x="2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13120" y="5562360"/>
              <a:ext cx="84240" cy="102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2" y="13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6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9"/>
                  </a:lnTo>
                  <a:lnTo>
                    <a:pt x="79" y="27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2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13120" y="5562360"/>
              <a:ext cx="84240" cy="102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20"/>
                  </a:moveTo>
                  <a:lnTo>
                    <a:pt x="3" y="13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7" y="16"/>
                  </a:lnTo>
                  <a:lnTo>
                    <a:pt x="47" y="19"/>
                  </a:lnTo>
                  <a:lnTo>
                    <a:pt x="58" y="18"/>
                  </a:lnTo>
                  <a:lnTo>
                    <a:pt x="68" y="18"/>
                  </a:lnTo>
                  <a:lnTo>
                    <a:pt x="80" y="28"/>
                  </a:lnTo>
                  <a:lnTo>
                    <a:pt x="79" y="26"/>
                  </a:lnTo>
                  <a:lnTo>
                    <a:pt x="80" y="28"/>
                  </a:lnTo>
                  <a:lnTo>
                    <a:pt x="80" y="30"/>
                  </a:lnTo>
                  <a:lnTo>
                    <a:pt x="73" y="38"/>
                  </a:lnTo>
                  <a:lnTo>
                    <a:pt x="65" y="41"/>
                  </a:lnTo>
                  <a:lnTo>
                    <a:pt x="56" y="36"/>
                  </a:lnTo>
                  <a:lnTo>
                    <a:pt x="69" y="49"/>
                  </a:lnTo>
                  <a:lnTo>
                    <a:pt x="79" y="64"/>
                  </a:lnTo>
                  <a:lnTo>
                    <a:pt x="76" y="82"/>
                  </a:lnTo>
                  <a:lnTo>
                    <a:pt x="57" y="57"/>
                  </a:lnTo>
                  <a:lnTo>
                    <a:pt x="31" y="4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838760" y="5639760"/>
              <a:ext cx="37440" cy="349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" y="13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1"/>
                  </a:lnTo>
                  <a:lnTo>
                    <a:pt x="32" y="5"/>
                  </a:lnTo>
                  <a:lnTo>
                    <a:pt x="36" y="12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19" y="26"/>
                  </a:lnTo>
                  <a:lnTo>
                    <a:pt x="13" y="28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38760" y="5641200"/>
              <a:ext cx="37440" cy="3348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" y="12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32" y="4"/>
                  </a:lnTo>
                  <a:lnTo>
                    <a:pt x="36" y="11"/>
                  </a:lnTo>
                  <a:lnTo>
                    <a:pt x="33" y="20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3" y="1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60560" y="5456160"/>
              <a:ext cx="33480" cy="522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7" y="28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8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60560" y="5456160"/>
              <a:ext cx="33480" cy="522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3" y="12"/>
                  </a:moveTo>
                  <a:lnTo>
                    <a:pt x="23" y="6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3"/>
                  </a:lnTo>
                  <a:lnTo>
                    <a:pt x="14" y="9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19"/>
                  </a:lnTo>
                  <a:lnTo>
                    <a:pt x="7" y="27"/>
                  </a:lnTo>
                  <a:lnTo>
                    <a:pt x="5" y="35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15" y="36"/>
                  </a:lnTo>
                  <a:lnTo>
                    <a:pt x="23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30" y="25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27" y="12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514040" y="5334840"/>
              <a:ext cx="18720" cy="237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4" y="3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18" y="9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514760" y="5334840"/>
              <a:ext cx="17640" cy="23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0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1" y="19"/>
                  </a:lnTo>
                  <a:lnTo>
                    <a:pt x="6" y="14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552920" y="5380200"/>
              <a:ext cx="20880" cy="198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1"/>
                  </a:moveTo>
                  <a:lnTo>
                    <a:pt x="15" y="8"/>
                  </a:lnTo>
                  <a:lnTo>
                    <a:pt x="10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9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554000" y="53802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4" y="8"/>
                  </a:lnTo>
                  <a:lnTo>
                    <a:pt x="9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3" y="9"/>
                  </a:lnTo>
                  <a:lnTo>
                    <a:pt x="9" y="13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01520" y="5412600"/>
              <a:ext cx="31320" cy="172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1"/>
                  </a:moveTo>
                  <a:lnTo>
                    <a:pt x="11" y="0"/>
                  </a:lnTo>
                  <a:lnTo>
                    <a:pt x="6" y="1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01520" y="5412600"/>
              <a:ext cx="31320" cy="172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6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8" y="9"/>
                  </a:lnTo>
                  <a:lnTo>
                    <a:pt x="19" y="11"/>
                  </a:lnTo>
                  <a:lnTo>
                    <a:pt x="30" y="14"/>
                  </a:lnTo>
                  <a:lnTo>
                    <a:pt x="25" y="10"/>
                  </a:lnTo>
                  <a:lnTo>
                    <a:pt x="20" y="6"/>
                  </a:lnTo>
                  <a:lnTo>
                    <a:pt x="16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74160" y="54025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10" y="5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10" y="13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74160" y="5402520"/>
              <a:ext cx="9360" cy="72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74160" y="5405040"/>
              <a:ext cx="2880" cy="126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77040" y="5417640"/>
              <a:ext cx="2088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7" y="1"/>
                  </a:lnTo>
                  <a:lnTo>
                    <a:pt x="14" y="4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365360" y="5536080"/>
              <a:ext cx="31320" cy="410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6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13" y="25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29" y="28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365360" y="5537520"/>
              <a:ext cx="31320" cy="396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13" y="24"/>
                  </a:lnTo>
                  <a:lnTo>
                    <a:pt x="27" y="3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2" y="18"/>
                  </a:lnTo>
                  <a:lnTo>
                    <a:pt x="14" y="9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09280" y="5602320"/>
              <a:ext cx="2088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0"/>
                  </a:moveTo>
                  <a:lnTo>
                    <a:pt x="10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10360" y="5602320"/>
              <a:ext cx="1980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10"/>
                  </a:moveTo>
                  <a:lnTo>
                    <a:pt x="9" y="7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12" y="12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4"/>
                  </a:lnTo>
                  <a:lnTo>
                    <a:pt x="1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40960" y="5648760"/>
              <a:ext cx="31680" cy="32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8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40960" y="5648760"/>
              <a:ext cx="31680" cy="32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7" y="13"/>
                  </a:moveTo>
                  <a:lnTo>
                    <a:pt x="14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30" y="26"/>
                  </a:lnTo>
                  <a:lnTo>
                    <a:pt x="27" y="20"/>
                  </a:lnTo>
                  <a:lnTo>
                    <a:pt x="23" y="15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77520" y="5376240"/>
              <a:ext cx="51480" cy="608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6" y="43"/>
                  </a:moveTo>
                  <a:lnTo>
                    <a:pt x="41" y="28"/>
                  </a:lnTo>
                  <a:lnTo>
                    <a:pt x="33" y="1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9" y="4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3"/>
                  </a:lnTo>
                  <a:lnTo>
                    <a:pt x="13" y="18"/>
                  </a:lnTo>
                  <a:lnTo>
                    <a:pt x="27" y="32"/>
                  </a:lnTo>
                  <a:lnTo>
                    <a:pt x="40" y="48"/>
                  </a:lnTo>
                  <a:lnTo>
                    <a:pt x="43" y="49"/>
                  </a:lnTo>
                  <a:lnTo>
                    <a:pt x="47" y="47"/>
                  </a:lnTo>
                  <a:lnTo>
                    <a:pt x="49" y="43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77520" y="5376240"/>
              <a:ext cx="52560" cy="608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47" y="43"/>
                  </a:moveTo>
                  <a:lnTo>
                    <a:pt x="42" y="28"/>
                  </a:lnTo>
                  <a:lnTo>
                    <a:pt x="34" y="1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41" y="49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0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45920" y="5467680"/>
              <a:ext cx="15840" cy="396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45920" y="5467680"/>
              <a:ext cx="15840" cy="396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1" y="9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5" y="16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204800" y="5288760"/>
              <a:ext cx="45000" cy="36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04800" y="5288760"/>
              <a:ext cx="45000" cy="36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24"/>
                  </a:moveTo>
                  <a:lnTo>
                    <a:pt x="32" y="9"/>
                  </a:lnTo>
                  <a:lnTo>
                    <a:pt x="18" y="0"/>
                  </a:lnTo>
                  <a:lnTo>
                    <a:pt x="0" y="4"/>
                  </a:lnTo>
                  <a:lnTo>
                    <a:pt x="15" y="11"/>
                  </a:lnTo>
                  <a:lnTo>
                    <a:pt x="27" y="2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39" y="25"/>
                  </a:lnTo>
                  <a:lnTo>
                    <a:pt x="43" y="2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25360" y="5763600"/>
              <a:ext cx="31680" cy="637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0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3"/>
                  </a:lnTo>
                  <a:lnTo>
                    <a:pt x="30" y="4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25360" y="5763600"/>
              <a:ext cx="31680" cy="637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" y="17"/>
                  </a:moveTo>
                  <a:lnTo>
                    <a:pt x="0" y="32"/>
                  </a:lnTo>
                  <a:lnTo>
                    <a:pt x="4" y="47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5" y="39"/>
                  </a:lnTo>
                  <a:lnTo>
                    <a:pt x="25" y="31"/>
                  </a:lnTo>
                  <a:lnTo>
                    <a:pt x="22" y="29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22" y="12"/>
                  </a:lnTo>
                  <a:lnTo>
                    <a:pt x="30" y="4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3" y="1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01240" y="5781240"/>
              <a:ext cx="24120" cy="4860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240" y="5781240"/>
              <a:ext cx="24120" cy="4860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0" y="16"/>
                  </a:lnTo>
                  <a:lnTo>
                    <a:pt x="8" y="28"/>
                  </a:lnTo>
                  <a:lnTo>
                    <a:pt x="19" y="39"/>
                  </a:lnTo>
                  <a:lnTo>
                    <a:pt x="22" y="29"/>
                  </a:lnTo>
                  <a:lnTo>
                    <a:pt x="23" y="20"/>
                  </a:lnTo>
                  <a:lnTo>
                    <a:pt x="22" y="10"/>
                  </a:lnTo>
                  <a:lnTo>
                    <a:pt x="17" y="4"/>
                  </a:lnTo>
                  <a:lnTo>
                    <a:pt x="9" y="3"/>
                  </a:lnTo>
                  <a:lnTo>
                    <a:pt x="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584320" y="5797440"/>
              <a:ext cx="12600" cy="262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2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320" y="5797440"/>
              <a:ext cx="13680" cy="273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0"/>
                  </a:moveTo>
                  <a:lnTo>
                    <a:pt x="0" y="17"/>
                  </a:lnTo>
                  <a:lnTo>
                    <a:pt x="4" y="21"/>
                  </a:lnTo>
                  <a:lnTo>
                    <a:pt x="10" y="22"/>
                  </a:lnTo>
                  <a:lnTo>
                    <a:pt x="13" y="16"/>
                  </a:lnTo>
                  <a:lnTo>
                    <a:pt x="10" y="7"/>
                  </a:lnTo>
                  <a:lnTo>
                    <a:pt x="3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8920" y="5531400"/>
              <a:ext cx="28440" cy="198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" y="12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7" y="2"/>
                  </a:lnTo>
                  <a:lnTo>
                    <a:pt x="0" y="7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668920" y="5531400"/>
              <a:ext cx="28440" cy="198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3"/>
                  </a:moveTo>
                  <a:lnTo>
                    <a:pt x="8" y="16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960" y="5561280"/>
              <a:ext cx="16560" cy="234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2"/>
                  </a:moveTo>
                  <a:lnTo>
                    <a:pt x="3" y="8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12" y="19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7680" y="5561280"/>
              <a:ext cx="15480" cy="24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3"/>
                  </a:move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12" y="19"/>
                  </a:lnTo>
                  <a:lnTo>
                    <a:pt x="15" y="1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73960" y="5566320"/>
              <a:ext cx="2412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73960" y="5566320"/>
              <a:ext cx="2412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0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4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07720" y="5508720"/>
              <a:ext cx="28440" cy="16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8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607720" y="5508720"/>
              <a:ext cx="28440" cy="16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9" y="6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5" y="6"/>
                  </a:lnTo>
                  <a:lnTo>
                    <a:pt x="7" y="8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1640" y="5592600"/>
              <a:ext cx="32760" cy="198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1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11640" y="5592600"/>
              <a:ext cx="32760" cy="198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" y="5"/>
                  </a:moveTo>
                  <a:lnTo>
                    <a:pt x="11" y="0"/>
                  </a:lnTo>
                  <a:lnTo>
                    <a:pt x="22" y="1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7" y="16"/>
                  </a:lnTo>
                  <a:lnTo>
                    <a:pt x="16" y="16"/>
                  </a:lnTo>
                  <a:lnTo>
                    <a:pt x="6" y="1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94640" y="5571360"/>
              <a:ext cx="36720" cy="198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35" y="12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94640" y="5572440"/>
              <a:ext cx="3780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8"/>
                  </a:moveTo>
                  <a:lnTo>
                    <a:pt x="13" y="1"/>
                  </a:lnTo>
                  <a:lnTo>
                    <a:pt x="28" y="0"/>
                  </a:lnTo>
                  <a:lnTo>
                    <a:pt x="36" y="12"/>
                  </a:lnTo>
                  <a:lnTo>
                    <a:pt x="28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62960" y="5313960"/>
              <a:ext cx="89280" cy="221760"/>
            </a:xfrm>
            <a:custGeom>
              <a:avLst/>
              <a:gdLst/>
              <a:ahLst/>
              <a:rect l="l" t="t" r="r" b="b"/>
              <a:pathLst>
                <a:path w="85" h="178">
                  <a:moveTo>
                    <a:pt x="39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9" y="146"/>
                  </a:lnTo>
                  <a:lnTo>
                    <a:pt x="32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5"/>
                  </a:lnTo>
                  <a:lnTo>
                    <a:pt x="59" y="5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49" y="53"/>
                  </a:lnTo>
                  <a:lnTo>
                    <a:pt x="40" y="37"/>
                  </a:lnTo>
                  <a:lnTo>
                    <a:pt x="41" y="21"/>
                  </a:lnTo>
                  <a:lnTo>
                    <a:pt x="47" y="4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2" y="12"/>
                  </a:lnTo>
                  <a:lnTo>
                    <a:pt x="60" y="20"/>
                  </a:lnTo>
                  <a:lnTo>
                    <a:pt x="56" y="27"/>
                  </a:lnTo>
                  <a:lnTo>
                    <a:pt x="56" y="35"/>
                  </a:lnTo>
                  <a:lnTo>
                    <a:pt x="61" y="42"/>
                  </a:lnTo>
                  <a:lnTo>
                    <a:pt x="62" y="50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2" y="44"/>
                  </a:lnTo>
                  <a:lnTo>
                    <a:pt x="69" y="41"/>
                  </a:lnTo>
                  <a:lnTo>
                    <a:pt x="77" y="38"/>
                  </a:lnTo>
                  <a:lnTo>
                    <a:pt x="85" y="37"/>
                  </a:lnTo>
                  <a:lnTo>
                    <a:pt x="80" y="47"/>
                  </a:lnTo>
                  <a:lnTo>
                    <a:pt x="80" y="58"/>
                  </a:lnTo>
                  <a:lnTo>
                    <a:pt x="80" y="70"/>
                  </a:lnTo>
                  <a:lnTo>
                    <a:pt x="75" y="75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72" y="97"/>
                  </a:lnTo>
                  <a:lnTo>
                    <a:pt x="79" y="107"/>
                  </a:lnTo>
                  <a:lnTo>
                    <a:pt x="85" y="119"/>
                  </a:lnTo>
                  <a:lnTo>
                    <a:pt x="75" y="111"/>
                  </a:lnTo>
                  <a:lnTo>
                    <a:pt x="67" y="102"/>
                  </a:lnTo>
                  <a:lnTo>
                    <a:pt x="59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2" y="175"/>
                  </a:lnTo>
                  <a:lnTo>
                    <a:pt x="67" y="175"/>
                  </a:lnTo>
                  <a:lnTo>
                    <a:pt x="63" y="178"/>
                  </a:lnTo>
                  <a:lnTo>
                    <a:pt x="59" y="178"/>
                  </a:lnTo>
                  <a:lnTo>
                    <a:pt x="51" y="172"/>
                  </a:lnTo>
                  <a:lnTo>
                    <a:pt x="44" y="165"/>
                  </a:lnTo>
                  <a:lnTo>
                    <a:pt x="42" y="155"/>
                  </a:lnTo>
                  <a:lnTo>
                    <a:pt x="36" y="160"/>
                  </a:lnTo>
                  <a:lnTo>
                    <a:pt x="37" y="166"/>
                  </a:lnTo>
                  <a:lnTo>
                    <a:pt x="39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3" y="157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8" y="147"/>
                  </a:lnTo>
                  <a:lnTo>
                    <a:pt x="12" y="149"/>
                  </a:lnTo>
                  <a:lnTo>
                    <a:pt x="16" y="152"/>
                  </a:lnTo>
                  <a:lnTo>
                    <a:pt x="34" y="155"/>
                  </a:lnTo>
                  <a:lnTo>
                    <a:pt x="36" y="153"/>
                  </a:lnTo>
                  <a:lnTo>
                    <a:pt x="40" y="150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64040" y="5313960"/>
              <a:ext cx="88200" cy="221760"/>
            </a:xfrm>
            <a:custGeom>
              <a:avLst/>
              <a:gdLst/>
              <a:ahLst/>
              <a:rect l="l" t="t" r="r" b="b"/>
              <a:pathLst>
                <a:path w="84" h="178">
                  <a:moveTo>
                    <a:pt x="38" y="149"/>
                  </a:moveTo>
                  <a:lnTo>
                    <a:pt x="31" y="149"/>
                  </a:lnTo>
                  <a:lnTo>
                    <a:pt x="30" y="146"/>
                  </a:lnTo>
                  <a:lnTo>
                    <a:pt x="28" y="146"/>
                  </a:lnTo>
                  <a:lnTo>
                    <a:pt x="31" y="123"/>
                  </a:lnTo>
                  <a:lnTo>
                    <a:pt x="30" y="101"/>
                  </a:lnTo>
                  <a:lnTo>
                    <a:pt x="22" y="80"/>
                  </a:lnTo>
                  <a:lnTo>
                    <a:pt x="33" y="76"/>
                  </a:lnTo>
                  <a:lnTo>
                    <a:pt x="44" y="69"/>
                  </a:lnTo>
                  <a:lnTo>
                    <a:pt x="54" y="62"/>
                  </a:lnTo>
                  <a:lnTo>
                    <a:pt x="56" y="60"/>
                  </a:lnTo>
                  <a:lnTo>
                    <a:pt x="58" y="55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41" y="2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1" y="12"/>
                  </a:lnTo>
                  <a:lnTo>
                    <a:pt x="59" y="20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60" y="42"/>
                  </a:lnTo>
                  <a:lnTo>
                    <a:pt x="61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9" y="41"/>
                  </a:lnTo>
                  <a:lnTo>
                    <a:pt x="76" y="39"/>
                  </a:lnTo>
                  <a:lnTo>
                    <a:pt x="84" y="37"/>
                  </a:lnTo>
                  <a:lnTo>
                    <a:pt x="79" y="48"/>
                  </a:lnTo>
                  <a:lnTo>
                    <a:pt x="80" y="58"/>
                  </a:lnTo>
                  <a:lnTo>
                    <a:pt x="79" y="70"/>
                  </a:lnTo>
                  <a:lnTo>
                    <a:pt x="74" y="76"/>
                  </a:lnTo>
                  <a:lnTo>
                    <a:pt x="67" y="79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79" y="107"/>
                  </a:lnTo>
                  <a:lnTo>
                    <a:pt x="84" y="119"/>
                  </a:lnTo>
                  <a:lnTo>
                    <a:pt x="74" y="112"/>
                  </a:lnTo>
                  <a:lnTo>
                    <a:pt x="66" y="103"/>
                  </a:lnTo>
                  <a:lnTo>
                    <a:pt x="58" y="93"/>
                  </a:lnTo>
                  <a:lnTo>
                    <a:pt x="45" y="120"/>
                  </a:lnTo>
                  <a:lnTo>
                    <a:pt x="52" y="151"/>
                  </a:lnTo>
                  <a:lnTo>
                    <a:pt x="71" y="176"/>
                  </a:lnTo>
                  <a:lnTo>
                    <a:pt x="66" y="175"/>
                  </a:lnTo>
                  <a:lnTo>
                    <a:pt x="62" y="178"/>
                  </a:lnTo>
                  <a:lnTo>
                    <a:pt x="58" y="178"/>
                  </a:lnTo>
                  <a:lnTo>
                    <a:pt x="50" y="172"/>
                  </a:lnTo>
                  <a:lnTo>
                    <a:pt x="43" y="165"/>
                  </a:lnTo>
                  <a:lnTo>
                    <a:pt x="41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8" y="172"/>
                  </a:lnTo>
                  <a:lnTo>
                    <a:pt x="31" y="170"/>
                  </a:lnTo>
                  <a:lnTo>
                    <a:pt x="27" y="164"/>
                  </a:lnTo>
                  <a:lnTo>
                    <a:pt x="22" y="159"/>
                  </a:lnTo>
                  <a:lnTo>
                    <a:pt x="16" y="159"/>
                  </a:lnTo>
                  <a:lnTo>
                    <a:pt x="11" y="162"/>
                  </a:lnTo>
                  <a:lnTo>
                    <a:pt x="6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2" y="149"/>
                  </a:lnTo>
                  <a:lnTo>
                    <a:pt x="15" y="152"/>
                  </a:lnTo>
                  <a:lnTo>
                    <a:pt x="33" y="155"/>
                  </a:lnTo>
                  <a:lnTo>
                    <a:pt x="36" y="153"/>
                  </a:lnTo>
                  <a:lnTo>
                    <a:pt x="39" y="150"/>
                  </a:lnTo>
                  <a:lnTo>
                    <a:pt x="38" y="14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6760" y="5311440"/>
              <a:ext cx="27360" cy="334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10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36760" y="5311440"/>
              <a:ext cx="27360" cy="334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" y="16"/>
                  </a:moveTo>
                  <a:lnTo>
                    <a:pt x="8" y="9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17" y="13"/>
                  </a:lnTo>
                  <a:lnTo>
                    <a:pt x="11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36840" y="5476320"/>
              <a:ext cx="31320" cy="32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9"/>
                  </a:moveTo>
                  <a:lnTo>
                    <a:pt x="7" y="3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0" y="9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36840" y="5477400"/>
              <a:ext cx="31320" cy="30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8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14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0" y="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49800" y="5500080"/>
              <a:ext cx="385920" cy="249480"/>
            </a:xfrm>
            <a:custGeom>
              <a:avLst/>
              <a:gdLst/>
              <a:ahLst/>
              <a:rect l="l" t="t" r="r" b="b"/>
              <a:pathLst>
                <a:path w="366" h="200">
                  <a:moveTo>
                    <a:pt x="307" y="200"/>
                  </a:moveTo>
                  <a:lnTo>
                    <a:pt x="260" y="190"/>
                  </a:lnTo>
                  <a:lnTo>
                    <a:pt x="212" y="182"/>
                  </a:lnTo>
                  <a:lnTo>
                    <a:pt x="167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4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9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7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1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9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8"/>
                  </a:lnTo>
                  <a:lnTo>
                    <a:pt x="66" y="88"/>
                  </a:lnTo>
                  <a:lnTo>
                    <a:pt x="64" y="96"/>
                  </a:lnTo>
                  <a:lnTo>
                    <a:pt x="61" y="102"/>
                  </a:lnTo>
                  <a:lnTo>
                    <a:pt x="56" y="108"/>
                  </a:lnTo>
                  <a:lnTo>
                    <a:pt x="47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4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6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29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0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2"/>
                  </a:lnTo>
                  <a:lnTo>
                    <a:pt x="125" y="15"/>
                  </a:lnTo>
                  <a:lnTo>
                    <a:pt x="151" y="18"/>
                  </a:lnTo>
                  <a:lnTo>
                    <a:pt x="175" y="27"/>
                  </a:lnTo>
                  <a:lnTo>
                    <a:pt x="176" y="29"/>
                  </a:lnTo>
                  <a:lnTo>
                    <a:pt x="175" y="33"/>
                  </a:lnTo>
                  <a:lnTo>
                    <a:pt x="173" y="36"/>
                  </a:lnTo>
                  <a:lnTo>
                    <a:pt x="176" y="43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75" y="81"/>
                  </a:lnTo>
                  <a:lnTo>
                    <a:pt x="180" y="104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9" y="114"/>
                  </a:lnTo>
                  <a:lnTo>
                    <a:pt x="208" y="114"/>
                  </a:lnTo>
                  <a:lnTo>
                    <a:pt x="215" y="120"/>
                  </a:lnTo>
                  <a:lnTo>
                    <a:pt x="215" y="131"/>
                  </a:lnTo>
                  <a:lnTo>
                    <a:pt x="219" y="141"/>
                  </a:lnTo>
                  <a:lnTo>
                    <a:pt x="222" y="142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8" y="129"/>
                  </a:lnTo>
                  <a:lnTo>
                    <a:pt x="247" y="117"/>
                  </a:lnTo>
                  <a:lnTo>
                    <a:pt x="261" y="110"/>
                  </a:lnTo>
                  <a:lnTo>
                    <a:pt x="263" y="106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9" y="88"/>
                  </a:lnTo>
                  <a:lnTo>
                    <a:pt x="295" y="88"/>
                  </a:lnTo>
                  <a:lnTo>
                    <a:pt x="311" y="85"/>
                  </a:lnTo>
                  <a:lnTo>
                    <a:pt x="314" y="81"/>
                  </a:lnTo>
                  <a:lnTo>
                    <a:pt x="318" y="76"/>
                  </a:lnTo>
                  <a:lnTo>
                    <a:pt x="321" y="73"/>
                  </a:lnTo>
                  <a:lnTo>
                    <a:pt x="329" y="72"/>
                  </a:lnTo>
                  <a:lnTo>
                    <a:pt x="337" y="73"/>
                  </a:lnTo>
                  <a:lnTo>
                    <a:pt x="343" y="71"/>
                  </a:lnTo>
                  <a:lnTo>
                    <a:pt x="348" y="63"/>
                  </a:lnTo>
                  <a:lnTo>
                    <a:pt x="350" y="53"/>
                  </a:lnTo>
                  <a:lnTo>
                    <a:pt x="351" y="42"/>
                  </a:lnTo>
                  <a:lnTo>
                    <a:pt x="357" y="42"/>
                  </a:lnTo>
                  <a:lnTo>
                    <a:pt x="362" y="39"/>
                  </a:lnTo>
                  <a:lnTo>
                    <a:pt x="366" y="40"/>
                  </a:lnTo>
                  <a:lnTo>
                    <a:pt x="366" y="47"/>
                  </a:lnTo>
                  <a:lnTo>
                    <a:pt x="364" y="65"/>
                  </a:lnTo>
                  <a:lnTo>
                    <a:pt x="357" y="84"/>
                  </a:lnTo>
                  <a:lnTo>
                    <a:pt x="345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8" y="165"/>
                  </a:lnTo>
                  <a:lnTo>
                    <a:pt x="311" y="188"/>
                  </a:lnTo>
                  <a:lnTo>
                    <a:pt x="307" y="2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50880" y="5500080"/>
              <a:ext cx="384840" cy="24948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306" y="200"/>
                  </a:moveTo>
                  <a:lnTo>
                    <a:pt x="259" y="190"/>
                  </a:lnTo>
                  <a:lnTo>
                    <a:pt x="212" y="182"/>
                  </a:lnTo>
                  <a:lnTo>
                    <a:pt x="166" y="166"/>
                  </a:lnTo>
                  <a:lnTo>
                    <a:pt x="162" y="162"/>
                  </a:lnTo>
                  <a:lnTo>
                    <a:pt x="159" y="155"/>
                  </a:lnTo>
                  <a:lnTo>
                    <a:pt x="155" y="150"/>
                  </a:lnTo>
                  <a:lnTo>
                    <a:pt x="149" y="148"/>
                  </a:lnTo>
                  <a:lnTo>
                    <a:pt x="143" y="150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4"/>
                  </a:lnTo>
                  <a:lnTo>
                    <a:pt x="138" y="167"/>
                  </a:lnTo>
                  <a:lnTo>
                    <a:pt x="132" y="175"/>
                  </a:lnTo>
                  <a:lnTo>
                    <a:pt x="125" y="183"/>
                  </a:lnTo>
                  <a:lnTo>
                    <a:pt x="117" y="184"/>
                  </a:lnTo>
                  <a:lnTo>
                    <a:pt x="106" y="176"/>
                  </a:lnTo>
                  <a:lnTo>
                    <a:pt x="99" y="165"/>
                  </a:lnTo>
                  <a:lnTo>
                    <a:pt x="91" y="154"/>
                  </a:lnTo>
                  <a:lnTo>
                    <a:pt x="90" y="147"/>
                  </a:lnTo>
                  <a:lnTo>
                    <a:pt x="95" y="140"/>
                  </a:lnTo>
                  <a:lnTo>
                    <a:pt x="95" y="132"/>
                  </a:lnTo>
                  <a:lnTo>
                    <a:pt x="88" y="126"/>
                  </a:lnTo>
                  <a:lnTo>
                    <a:pt x="81" y="120"/>
                  </a:lnTo>
                  <a:lnTo>
                    <a:pt x="75" y="115"/>
                  </a:lnTo>
                  <a:lnTo>
                    <a:pt x="70" y="106"/>
                  </a:lnTo>
                  <a:lnTo>
                    <a:pt x="66" y="99"/>
                  </a:lnTo>
                  <a:lnTo>
                    <a:pt x="66" y="88"/>
                  </a:lnTo>
                  <a:lnTo>
                    <a:pt x="64" y="97"/>
                  </a:lnTo>
                  <a:lnTo>
                    <a:pt x="61" y="102"/>
                  </a:lnTo>
                  <a:lnTo>
                    <a:pt x="55" y="108"/>
                  </a:lnTo>
                  <a:lnTo>
                    <a:pt x="46" y="116"/>
                  </a:lnTo>
                  <a:lnTo>
                    <a:pt x="36" y="119"/>
                  </a:lnTo>
                  <a:lnTo>
                    <a:pt x="24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4" y="109"/>
                  </a:lnTo>
                  <a:lnTo>
                    <a:pt x="34" y="106"/>
                  </a:lnTo>
                  <a:lnTo>
                    <a:pt x="42" y="103"/>
                  </a:lnTo>
                  <a:lnTo>
                    <a:pt x="45" y="96"/>
                  </a:lnTo>
                  <a:lnTo>
                    <a:pt x="39" y="87"/>
                  </a:lnTo>
                  <a:lnTo>
                    <a:pt x="27" y="83"/>
                  </a:lnTo>
                  <a:lnTo>
                    <a:pt x="14" y="79"/>
                  </a:lnTo>
                  <a:lnTo>
                    <a:pt x="37" y="75"/>
                  </a:lnTo>
                  <a:lnTo>
                    <a:pt x="60" y="82"/>
                  </a:lnTo>
                  <a:lnTo>
                    <a:pt x="83" y="87"/>
                  </a:lnTo>
                  <a:lnTo>
                    <a:pt x="85" y="84"/>
                  </a:lnTo>
                  <a:lnTo>
                    <a:pt x="87" y="78"/>
                  </a:lnTo>
                  <a:lnTo>
                    <a:pt x="86" y="74"/>
                  </a:lnTo>
                  <a:lnTo>
                    <a:pt x="65" y="63"/>
                  </a:lnTo>
                  <a:lnTo>
                    <a:pt x="44" y="55"/>
                  </a:lnTo>
                  <a:lnTo>
                    <a:pt x="21" y="49"/>
                  </a:lnTo>
                  <a:lnTo>
                    <a:pt x="12" y="47"/>
                  </a:lnTo>
                  <a:lnTo>
                    <a:pt x="3" y="4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35" y="41"/>
                  </a:lnTo>
                  <a:lnTo>
                    <a:pt x="41" y="34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5" y="26"/>
                  </a:lnTo>
                  <a:lnTo>
                    <a:pt x="59" y="25"/>
                  </a:lnTo>
                  <a:lnTo>
                    <a:pt x="73" y="11"/>
                  </a:lnTo>
                  <a:lnTo>
                    <a:pt x="87" y="0"/>
                  </a:lnTo>
                  <a:lnTo>
                    <a:pt x="100" y="3"/>
                  </a:lnTo>
                  <a:lnTo>
                    <a:pt x="125" y="15"/>
                  </a:lnTo>
                  <a:lnTo>
                    <a:pt x="150" y="18"/>
                  </a:lnTo>
                  <a:lnTo>
                    <a:pt x="175" y="27"/>
                  </a:lnTo>
                  <a:lnTo>
                    <a:pt x="175" y="29"/>
                  </a:lnTo>
                  <a:lnTo>
                    <a:pt x="174" y="33"/>
                  </a:lnTo>
                  <a:lnTo>
                    <a:pt x="173" y="37"/>
                  </a:lnTo>
                  <a:lnTo>
                    <a:pt x="176" y="43"/>
                  </a:lnTo>
                  <a:lnTo>
                    <a:pt x="182" y="49"/>
                  </a:lnTo>
                  <a:lnTo>
                    <a:pt x="183" y="55"/>
                  </a:lnTo>
                  <a:lnTo>
                    <a:pt x="174" y="81"/>
                  </a:lnTo>
                  <a:lnTo>
                    <a:pt x="180" y="104"/>
                  </a:lnTo>
                  <a:lnTo>
                    <a:pt x="194" y="121"/>
                  </a:lnTo>
                  <a:lnTo>
                    <a:pt x="194" y="117"/>
                  </a:lnTo>
                  <a:lnTo>
                    <a:pt x="198" y="114"/>
                  </a:lnTo>
                  <a:lnTo>
                    <a:pt x="208" y="114"/>
                  </a:lnTo>
                  <a:lnTo>
                    <a:pt x="214" y="120"/>
                  </a:lnTo>
                  <a:lnTo>
                    <a:pt x="215" y="131"/>
                  </a:lnTo>
                  <a:lnTo>
                    <a:pt x="218" y="141"/>
                  </a:lnTo>
                  <a:lnTo>
                    <a:pt x="221" y="142"/>
                  </a:lnTo>
                  <a:lnTo>
                    <a:pt x="224" y="142"/>
                  </a:lnTo>
                  <a:lnTo>
                    <a:pt x="227" y="141"/>
                  </a:lnTo>
                  <a:lnTo>
                    <a:pt x="237" y="129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63" y="107"/>
                  </a:lnTo>
                  <a:lnTo>
                    <a:pt x="264" y="99"/>
                  </a:lnTo>
                  <a:lnTo>
                    <a:pt x="266" y="93"/>
                  </a:lnTo>
                  <a:lnTo>
                    <a:pt x="278" y="88"/>
                  </a:lnTo>
                  <a:lnTo>
                    <a:pt x="294" y="89"/>
                  </a:lnTo>
                  <a:lnTo>
                    <a:pt x="310" y="85"/>
                  </a:lnTo>
                  <a:lnTo>
                    <a:pt x="313" y="81"/>
                  </a:lnTo>
                  <a:lnTo>
                    <a:pt x="317" y="76"/>
                  </a:lnTo>
                  <a:lnTo>
                    <a:pt x="321" y="73"/>
                  </a:lnTo>
                  <a:lnTo>
                    <a:pt x="328" y="73"/>
                  </a:lnTo>
                  <a:lnTo>
                    <a:pt x="336" y="73"/>
                  </a:lnTo>
                  <a:lnTo>
                    <a:pt x="342" y="71"/>
                  </a:lnTo>
                  <a:lnTo>
                    <a:pt x="347" y="63"/>
                  </a:lnTo>
                  <a:lnTo>
                    <a:pt x="349" y="53"/>
                  </a:lnTo>
                  <a:lnTo>
                    <a:pt x="350" y="43"/>
                  </a:lnTo>
                  <a:lnTo>
                    <a:pt x="356" y="42"/>
                  </a:lnTo>
                  <a:lnTo>
                    <a:pt x="361" y="39"/>
                  </a:lnTo>
                  <a:lnTo>
                    <a:pt x="365" y="40"/>
                  </a:lnTo>
                  <a:lnTo>
                    <a:pt x="365" y="47"/>
                  </a:lnTo>
                  <a:lnTo>
                    <a:pt x="363" y="65"/>
                  </a:lnTo>
                  <a:lnTo>
                    <a:pt x="357" y="85"/>
                  </a:lnTo>
                  <a:lnTo>
                    <a:pt x="344" y="107"/>
                  </a:lnTo>
                  <a:lnTo>
                    <a:pt x="330" y="130"/>
                  </a:lnTo>
                  <a:lnTo>
                    <a:pt x="323" y="146"/>
                  </a:lnTo>
                  <a:lnTo>
                    <a:pt x="317" y="165"/>
                  </a:lnTo>
                  <a:lnTo>
                    <a:pt x="310" y="188"/>
                  </a:lnTo>
                  <a:lnTo>
                    <a:pt x="306" y="20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35200" y="5809680"/>
              <a:ext cx="38880" cy="648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5" y="35"/>
                  </a:lnTo>
                  <a:lnTo>
                    <a:pt x="0" y="36"/>
                  </a:lnTo>
                  <a:lnTo>
                    <a:pt x="8" y="47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9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235200" y="5809680"/>
              <a:ext cx="38880" cy="648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8" y="3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18" y="52"/>
                  </a:lnTo>
                  <a:lnTo>
                    <a:pt x="28" y="45"/>
                  </a:lnTo>
                  <a:lnTo>
                    <a:pt x="29" y="38"/>
                  </a:lnTo>
                  <a:lnTo>
                    <a:pt x="26" y="32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5" y="25"/>
                  </a:lnTo>
                  <a:lnTo>
                    <a:pt x="37" y="16"/>
                  </a:lnTo>
                  <a:lnTo>
                    <a:pt x="31" y="10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8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158160" y="5813280"/>
              <a:ext cx="17640" cy="31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1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158160" y="5813280"/>
              <a:ext cx="17640" cy="31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6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5" y="14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04680" y="5516280"/>
              <a:ext cx="41040" cy="2592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3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7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04680" y="5517360"/>
              <a:ext cx="41040" cy="2628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6"/>
                  </a:moveTo>
                  <a:lnTo>
                    <a:pt x="12" y="12"/>
                  </a:lnTo>
                  <a:lnTo>
                    <a:pt x="24" y="20"/>
                  </a:lnTo>
                  <a:lnTo>
                    <a:pt x="35" y="21"/>
                  </a:lnTo>
                  <a:lnTo>
                    <a:pt x="39" y="15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3" y="16"/>
                  </a:lnTo>
                  <a:lnTo>
                    <a:pt x="18" y="11"/>
                  </a:lnTo>
                  <a:lnTo>
                    <a:pt x="12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01800" y="5569920"/>
              <a:ext cx="59040" cy="136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1"/>
                  </a:lnTo>
                  <a:lnTo>
                    <a:pt x="56" y="2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01800" y="5569920"/>
              <a:ext cx="59040" cy="1476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0" y="1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6" y="5"/>
                  </a:lnTo>
                  <a:lnTo>
                    <a:pt x="55" y="7"/>
                  </a:lnTo>
                  <a:lnTo>
                    <a:pt x="40" y="12"/>
                  </a:lnTo>
                  <a:lnTo>
                    <a:pt x="24" y="7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273360" y="5532480"/>
              <a:ext cx="14760" cy="198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73360" y="5533920"/>
              <a:ext cx="14760" cy="183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2" y="1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7" y="0"/>
                  </a:lnTo>
                  <a:lnTo>
                    <a:pt x="2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8840" y="5380200"/>
              <a:ext cx="63360" cy="122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6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18840" y="5380200"/>
              <a:ext cx="63360" cy="122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39" y="1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541480" y="5099040"/>
              <a:ext cx="24840" cy="122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"/>
                  </a:moveTo>
                  <a:lnTo>
                    <a:pt x="14" y="1"/>
                  </a:lnTo>
                  <a:lnTo>
                    <a:pt x="4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14" y="7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41480" y="5100120"/>
              <a:ext cx="24840" cy="111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lnTo>
                    <a:pt x="1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9"/>
                  </a:lnTo>
                  <a:lnTo>
                    <a:pt x="14" y="6"/>
                  </a:lnTo>
                  <a:lnTo>
                    <a:pt x="2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95040" y="5141520"/>
              <a:ext cx="8280" cy="24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95040" y="5141520"/>
              <a:ext cx="8280" cy="24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5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20"/>
                  </a:lnTo>
                  <a:lnTo>
                    <a:pt x="5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71160" y="5215320"/>
              <a:ext cx="8280" cy="12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3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9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71160" y="52153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3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89160" y="4208400"/>
              <a:ext cx="130680" cy="11088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1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89160" y="4208400"/>
              <a:ext cx="130680" cy="110880"/>
            </a:xfrm>
            <a:custGeom>
              <a:avLst/>
              <a:gdLst/>
              <a:ahLst/>
              <a:rect l="l" t="t" r="r" b="b"/>
              <a:pathLst>
                <a:path w="124" h="89">
                  <a:moveTo>
                    <a:pt x="34" y="17"/>
                  </a:moveTo>
                  <a:lnTo>
                    <a:pt x="44" y="14"/>
                  </a:lnTo>
                  <a:lnTo>
                    <a:pt x="51" y="8"/>
                  </a:lnTo>
                  <a:lnTo>
                    <a:pt x="60" y="3"/>
                  </a:lnTo>
                  <a:lnTo>
                    <a:pt x="82" y="0"/>
                  </a:lnTo>
                  <a:lnTo>
                    <a:pt x="103" y="3"/>
                  </a:lnTo>
                  <a:lnTo>
                    <a:pt x="123" y="8"/>
                  </a:lnTo>
                  <a:lnTo>
                    <a:pt x="124" y="10"/>
                  </a:lnTo>
                  <a:lnTo>
                    <a:pt x="124" y="14"/>
                  </a:lnTo>
                  <a:lnTo>
                    <a:pt x="123" y="17"/>
                  </a:lnTo>
                  <a:lnTo>
                    <a:pt x="110" y="31"/>
                  </a:lnTo>
                  <a:lnTo>
                    <a:pt x="100" y="46"/>
                  </a:lnTo>
                  <a:lnTo>
                    <a:pt x="92" y="63"/>
                  </a:lnTo>
                  <a:lnTo>
                    <a:pt x="83" y="77"/>
                  </a:lnTo>
                  <a:lnTo>
                    <a:pt x="70" y="87"/>
                  </a:lnTo>
                  <a:lnTo>
                    <a:pt x="54" y="89"/>
                  </a:lnTo>
                  <a:lnTo>
                    <a:pt x="40" y="84"/>
                  </a:lnTo>
                  <a:lnTo>
                    <a:pt x="26" y="79"/>
                  </a:lnTo>
                  <a:lnTo>
                    <a:pt x="11" y="75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467320" y="3857400"/>
              <a:ext cx="136080" cy="2444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8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1" y="174"/>
                  </a:lnTo>
                  <a:lnTo>
                    <a:pt x="47" y="182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0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4" y="73"/>
                  </a:lnTo>
                  <a:lnTo>
                    <a:pt x="28" y="60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467320" y="3857400"/>
              <a:ext cx="136080" cy="2444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23" y="18"/>
                  </a:moveTo>
                  <a:lnTo>
                    <a:pt x="124" y="25"/>
                  </a:lnTo>
                  <a:lnTo>
                    <a:pt x="126" y="30"/>
                  </a:lnTo>
                  <a:lnTo>
                    <a:pt x="126" y="37"/>
                  </a:lnTo>
                  <a:lnTo>
                    <a:pt x="120" y="47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9" y="95"/>
                  </a:lnTo>
                  <a:lnTo>
                    <a:pt x="87" y="122"/>
                  </a:lnTo>
                  <a:lnTo>
                    <a:pt x="76" y="149"/>
                  </a:lnTo>
                  <a:lnTo>
                    <a:pt x="70" y="158"/>
                  </a:lnTo>
                  <a:lnTo>
                    <a:pt x="61" y="166"/>
                  </a:lnTo>
                  <a:lnTo>
                    <a:pt x="52" y="174"/>
                  </a:lnTo>
                  <a:lnTo>
                    <a:pt x="47" y="183"/>
                  </a:lnTo>
                  <a:lnTo>
                    <a:pt x="44" y="192"/>
                  </a:lnTo>
                  <a:lnTo>
                    <a:pt x="38" y="196"/>
                  </a:lnTo>
                  <a:lnTo>
                    <a:pt x="30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24" y="148"/>
                  </a:lnTo>
                  <a:lnTo>
                    <a:pt x="11" y="126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15" y="73"/>
                  </a:lnTo>
                  <a:lnTo>
                    <a:pt x="28" y="61"/>
                  </a:lnTo>
                  <a:lnTo>
                    <a:pt x="55" y="39"/>
                  </a:lnTo>
                  <a:lnTo>
                    <a:pt x="82" y="20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3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26" y="16"/>
                  </a:lnTo>
                  <a:lnTo>
                    <a:pt x="123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35240" y="4615560"/>
              <a:ext cx="35640" cy="16236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3" y="20"/>
                  </a:moveTo>
                  <a:lnTo>
                    <a:pt x="34" y="58"/>
                  </a:lnTo>
                  <a:lnTo>
                    <a:pt x="31" y="95"/>
                  </a:lnTo>
                  <a:lnTo>
                    <a:pt x="17" y="130"/>
                  </a:lnTo>
                  <a:lnTo>
                    <a:pt x="13" y="130"/>
                  </a:lnTo>
                  <a:lnTo>
                    <a:pt x="9" y="122"/>
                  </a:lnTo>
                  <a:lnTo>
                    <a:pt x="0" y="119"/>
                  </a:lnTo>
                  <a:lnTo>
                    <a:pt x="7" y="97"/>
                  </a:lnTo>
                  <a:lnTo>
                    <a:pt x="12" y="74"/>
                  </a:lnTo>
                  <a:lnTo>
                    <a:pt x="19" y="53"/>
                  </a:lnTo>
                  <a:lnTo>
                    <a:pt x="21" y="35"/>
                  </a:lnTo>
                  <a:lnTo>
                    <a:pt x="18" y="18"/>
                  </a:lnTo>
                  <a:lnTo>
                    <a:pt x="20" y="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35960" y="4615560"/>
              <a:ext cx="34560" cy="16344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32" y="20"/>
                  </a:moveTo>
                  <a:lnTo>
                    <a:pt x="33" y="59"/>
                  </a:lnTo>
                  <a:lnTo>
                    <a:pt x="30" y="96"/>
                  </a:lnTo>
                  <a:lnTo>
                    <a:pt x="17" y="131"/>
                  </a:lnTo>
                  <a:lnTo>
                    <a:pt x="12" y="131"/>
                  </a:lnTo>
                  <a:lnTo>
                    <a:pt x="8" y="122"/>
                  </a:lnTo>
                  <a:lnTo>
                    <a:pt x="0" y="119"/>
                  </a:lnTo>
                  <a:lnTo>
                    <a:pt x="6" y="97"/>
                  </a:lnTo>
                  <a:lnTo>
                    <a:pt x="11" y="75"/>
                  </a:lnTo>
                  <a:lnTo>
                    <a:pt x="18" y="53"/>
                  </a:lnTo>
                  <a:lnTo>
                    <a:pt x="20" y="36"/>
                  </a:lnTo>
                  <a:lnTo>
                    <a:pt x="18" y="18"/>
                  </a:lnTo>
                  <a:lnTo>
                    <a:pt x="19" y="0"/>
                  </a:lnTo>
                  <a:lnTo>
                    <a:pt x="32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28760" y="4829400"/>
              <a:ext cx="2088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8760" y="4830480"/>
              <a:ext cx="20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13" y="19"/>
                  </a:lnTo>
                  <a:lnTo>
                    <a:pt x="19" y="14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77360" y="49518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77360" y="4951800"/>
              <a:ext cx="19800" cy="19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2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98240" y="5011560"/>
              <a:ext cx="20880" cy="3960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0"/>
                  </a:moveTo>
                  <a:lnTo>
                    <a:pt x="6" y="11"/>
                  </a:lnTo>
                  <a:lnTo>
                    <a:pt x="7" y="25"/>
                  </a:lnTo>
                  <a:lnTo>
                    <a:pt x="20" y="32"/>
                  </a:lnTo>
                  <a:lnTo>
                    <a:pt x="12" y="22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98240" y="501156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6" y="11"/>
                  </a:lnTo>
                  <a:lnTo>
                    <a:pt x="7" y="26"/>
                  </a:lnTo>
                  <a:lnTo>
                    <a:pt x="20" y="33"/>
                  </a:lnTo>
                  <a:lnTo>
                    <a:pt x="12" y="23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76560" y="3287520"/>
              <a:ext cx="56880" cy="334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40" y="6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9" y="26"/>
                  </a:lnTo>
                  <a:lnTo>
                    <a:pt x="37" y="27"/>
                  </a:lnTo>
                  <a:lnTo>
                    <a:pt x="52" y="18"/>
                  </a:lnTo>
                  <a:lnTo>
                    <a:pt x="54" y="13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77280" y="3287520"/>
              <a:ext cx="55800" cy="3348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0" y="7"/>
                  </a:moveTo>
                  <a:lnTo>
                    <a:pt x="25" y="10"/>
                  </a:lnTo>
                  <a:lnTo>
                    <a:pt x="10" y="13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36" y="27"/>
                  </a:lnTo>
                  <a:lnTo>
                    <a:pt x="51" y="18"/>
                  </a:lnTo>
                  <a:lnTo>
                    <a:pt x="53" y="13"/>
                  </a:lnTo>
                  <a:lnTo>
                    <a:pt x="53" y="7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4520" y="3015360"/>
              <a:ext cx="24120" cy="30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7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04520" y="3015360"/>
              <a:ext cx="24120" cy="30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4" y="0"/>
                  </a:moveTo>
                  <a:lnTo>
                    <a:pt x="9" y="8"/>
                  </a:lnTo>
                  <a:lnTo>
                    <a:pt x="0" y="11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5"/>
                  </a:lnTo>
                  <a:lnTo>
                    <a:pt x="23" y="23"/>
                  </a:lnTo>
                  <a:lnTo>
                    <a:pt x="20" y="12"/>
                  </a:lnTo>
                  <a:lnTo>
                    <a:pt x="1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12720" y="3272760"/>
              <a:ext cx="110520" cy="198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40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2" y="9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0" y="8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1"/>
                  </a:lnTo>
                  <a:lnTo>
                    <a:pt x="41" y="44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4" y="81"/>
                  </a:lnTo>
                  <a:lnTo>
                    <a:pt x="31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2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29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6" y="133"/>
                  </a:lnTo>
                  <a:lnTo>
                    <a:pt x="86" y="111"/>
                  </a:lnTo>
                  <a:lnTo>
                    <a:pt x="90" y="86"/>
                  </a:lnTo>
                  <a:lnTo>
                    <a:pt x="92" y="82"/>
                  </a:lnTo>
                  <a:lnTo>
                    <a:pt x="96" y="79"/>
                  </a:lnTo>
                  <a:lnTo>
                    <a:pt x="95" y="7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012720" y="3272760"/>
              <a:ext cx="110520" cy="198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95" y="73"/>
                  </a:moveTo>
                  <a:lnTo>
                    <a:pt x="100" y="72"/>
                  </a:lnTo>
                  <a:lnTo>
                    <a:pt x="103" y="69"/>
                  </a:lnTo>
                  <a:lnTo>
                    <a:pt x="104" y="66"/>
                  </a:lnTo>
                  <a:lnTo>
                    <a:pt x="105" y="57"/>
                  </a:lnTo>
                  <a:lnTo>
                    <a:pt x="101" y="48"/>
                  </a:lnTo>
                  <a:lnTo>
                    <a:pt x="96" y="39"/>
                  </a:lnTo>
                  <a:lnTo>
                    <a:pt x="95" y="34"/>
                  </a:lnTo>
                  <a:lnTo>
                    <a:pt x="98" y="28"/>
                  </a:lnTo>
                  <a:lnTo>
                    <a:pt x="101" y="23"/>
                  </a:lnTo>
                  <a:lnTo>
                    <a:pt x="98" y="23"/>
                  </a:lnTo>
                  <a:lnTo>
                    <a:pt x="94" y="23"/>
                  </a:lnTo>
                  <a:lnTo>
                    <a:pt x="92" y="27"/>
                  </a:lnTo>
                  <a:lnTo>
                    <a:pt x="89" y="20"/>
                  </a:lnTo>
                  <a:lnTo>
                    <a:pt x="89" y="13"/>
                  </a:lnTo>
                  <a:lnTo>
                    <a:pt x="87" y="8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1" y="13"/>
                  </a:lnTo>
                  <a:lnTo>
                    <a:pt x="15" y="21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7" y="36"/>
                  </a:lnTo>
                  <a:lnTo>
                    <a:pt x="9" y="43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6" y="53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22" y="81"/>
                  </a:lnTo>
                  <a:lnTo>
                    <a:pt x="30" y="64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9" y="40"/>
                  </a:lnTo>
                  <a:lnTo>
                    <a:pt x="41" y="43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41" y="62"/>
                  </a:lnTo>
                  <a:lnTo>
                    <a:pt x="33" y="81"/>
                  </a:lnTo>
                  <a:lnTo>
                    <a:pt x="30" y="100"/>
                  </a:lnTo>
                  <a:lnTo>
                    <a:pt x="31" y="119"/>
                  </a:lnTo>
                  <a:lnTo>
                    <a:pt x="28" y="123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30" y="133"/>
                  </a:lnTo>
                  <a:lnTo>
                    <a:pt x="37" y="130"/>
                  </a:lnTo>
                  <a:lnTo>
                    <a:pt x="42" y="122"/>
                  </a:lnTo>
                  <a:lnTo>
                    <a:pt x="41" y="125"/>
                  </a:lnTo>
                  <a:lnTo>
                    <a:pt x="41" y="131"/>
                  </a:lnTo>
                  <a:lnTo>
                    <a:pt x="42" y="134"/>
                  </a:lnTo>
                  <a:lnTo>
                    <a:pt x="46" y="130"/>
                  </a:lnTo>
                  <a:lnTo>
                    <a:pt x="51" y="123"/>
                  </a:lnTo>
                  <a:lnTo>
                    <a:pt x="55" y="116"/>
                  </a:lnTo>
                  <a:lnTo>
                    <a:pt x="49" y="130"/>
                  </a:lnTo>
                  <a:lnTo>
                    <a:pt x="47" y="145"/>
                  </a:lnTo>
                  <a:lnTo>
                    <a:pt x="39" y="159"/>
                  </a:lnTo>
                  <a:lnTo>
                    <a:pt x="49" y="159"/>
                  </a:lnTo>
                  <a:lnTo>
                    <a:pt x="58" y="157"/>
                  </a:lnTo>
                  <a:lnTo>
                    <a:pt x="63" y="154"/>
                  </a:lnTo>
                  <a:lnTo>
                    <a:pt x="75" y="133"/>
                  </a:lnTo>
                  <a:lnTo>
                    <a:pt x="86" y="111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6" y="79"/>
                  </a:lnTo>
                  <a:lnTo>
                    <a:pt x="95" y="7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87520" y="3315240"/>
              <a:ext cx="17640" cy="19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0"/>
                  </a:moveTo>
                  <a:lnTo>
                    <a:pt x="6" y="1"/>
                  </a:lnTo>
                  <a:lnTo>
                    <a:pt x="4" y="7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87520" y="3316320"/>
              <a:ext cx="17640" cy="18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6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50440" y="3330360"/>
              <a:ext cx="30240" cy="29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9" y="4"/>
                  </a:moveTo>
                  <a:lnTo>
                    <a:pt x="10" y="11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50440" y="3330360"/>
              <a:ext cx="30240" cy="30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4"/>
                  </a:moveTo>
                  <a:lnTo>
                    <a:pt x="1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10" y="24"/>
                  </a:lnTo>
                  <a:lnTo>
                    <a:pt x="17" y="1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72840" y="3475080"/>
              <a:ext cx="12600" cy="424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72840" y="3475080"/>
              <a:ext cx="12600" cy="4248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10" y="14"/>
                  </a:lnTo>
                  <a:lnTo>
                    <a:pt x="12" y="28"/>
                  </a:lnTo>
                  <a:lnTo>
                    <a:pt x="5" y="34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42240" y="3491280"/>
              <a:ext cx="15480" cy="29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4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42240" y="3491280"/>
              <a:ext cx="15480" cy="29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3"/>
                  </a:moveTo>
                  <a:lnTo>
                    <a:pt x="8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9" y="22"/>
                  </a:lnTo>
                  <a:lnTo>
                    <a:pt x="14" y="16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47720" y="3246480"/>
              <a:ext cx="126360" cy="11736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110" y="34"/>
                  </a:moveTo>
                  <a:lnTo>
                    <a:pt x="114" y="26"/>
                  </a:lnTo>
                  <a:lnTo>
                    <a:pt x="117" y="17"/>
                  </a:lnTo>
                  <a:lnTo>
                    <a:pt x="120" y="8"/>
                  </a:lnTo>
                  <a:lnTo>
                    <a:pt x="105" y="5"/>
                  </a:lnTo>
                  <a:lnTo>
                    <a:pt x="91" y="0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55" y="10"/>
                  </a:lnTo>
                  <a:lnTo>
                    <a:pt x="43" y="9"/>
                  </a:lnTo>
                  <a:lnTo>
                    <a:pt x="32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16" y="77"/>
                  </a:lnTo>
                  <a:lnTo>
                    <a:pt x="30" y="87"/>
                  </a:lnTo>
                  <a:lnTo>
                    <a:pt x="47" y="94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7"/>
                  </a:lnTo>
                  <a:lnTo>
                    <a:pt x="44" y="84"/>
                  </a:lnTo>
                  <a:lnTo>
                    <a:pt x="39" y="84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50" y="67"/>
                  </a:lnTo>
                  <a:lnTo>
                    <a:pt x="55" y="54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6" y="40"/>
                  </a:lnTo>
                  <a:lnTo>
                    <a:pt x="110" y="3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47720" y="3247920"/>
              <a:ext cx="127440" cy="11592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111" y="34"/>
                  </a:moveTo>
                  <a:lnTo>
                    <a:pt x="115" y="25"/>
                  </a:lnTo>
                  <a:lnTo>
                    <a:pt x="118" y="17"/>
                  </a:lnTo>
                  <a:lnTo>
                    <a:pt x="121" y="8"/>
                  </a:lnTo>
                  <a:lnTo>
                    <a:pt x="106" y="4"/>
                  </a:lnTo>
                  <a:lnTo>
                    <a:pt x="92" y="0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56" y="10"/>
                  </a:lnTo>
                  <a:lnTo>
                    <a:pt x="43" y="9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3" y="64"/>
                  </a:lnTo>
                  <a:lnTo>
                    <a:pt x="16" y="76"/>
                  </a:lnTo>
                  <a:lnTo>
                    <a:pt x="31" y="87"/>
                  </a:lnTo>
                  <a:lnTo>
                    <a:pt x="47" y="93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47" y="87"/>
                  </a:lnTo>
                  <a:lnTo>
                    <a:pt x="44" y="83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43" y="80"/>
                  </a:lnTo>
                  <a:lnTo>
                    <a:pt x="47" y="80"/>
                  </a:lnTo>
                  <a:lnTo>
                    <a:pt x="51" y="66"/>
                  </a:lnTo>
                  <a:lnTo>
                    <a:pt x="55" y="54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1" y="41"/>
                  </a:lnTo>
                  <a:lnTo>
                    <a:pt x="95" y="47"/>
                  </a:lnTo>
                  <a:lnTo>
                    <a:pt x="98" y="50"/>
                  </a:lnTo>
                  <a:lnTo>
                    <a:pt x="101" y="47"/>
                  </a:lnTo>
                  <a:lnTo>
                    <a:pt x="107" y="39"/>
                  </a:lnTo>
                  <a:lnTo>
                    <a:pt x="111" y="3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7600" y="2802960"/>
              <a:ext cx="565200" cy="48708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19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1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3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7" y="349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6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4" y="363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60" y="376"/>
                  </a:lnTo>
                  <a:lnTo>
                    <a:pt x="61" y="379"/>
                  </a:lnTo>
                  <a:lnTo>
                    <a:pt x="59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6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7" y="325"/>
                  </a:lnTo>
                  <a:lnTo>
                    <a:pt x="58" y="323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8" y="282"/>
                  </a:lnTo>
                  <a:lnTo>
                    <a:pt x="145" y="287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4" y="239"/>
                  </a:lnTo>
                  <a:lnTo>
                    <a:pt x="284" y="227"/>
                  </a:lnTo>
                  <a:lnTo>
                    <a:pt x="284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4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2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1" y="224"/>
                  </a:lnTo>
                  <a:lnTo>
                    <a:pt x="312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7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2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3" y="22"/>
                  </a:lnTo>
                  <a:lnTo>
                    <a:pt x="508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6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8"/>
                  </a:lnTo>
                  <a:lnTo>
                    <a:pt x="514" y="112"/>
                  </a:lnTo>
                  <a:lnTo>
                    <a:pt x="501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7"/>
                  </a:lnTo>
                  <a:lnTo>
                    <a:pt x="499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4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0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1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19"/>
                  </a:lnTo>
                  <a:lnTo>
                    <a:pt x="359" y="314"/>
                  </a:lnTo>
                  <a:lnTo>
                    <a:pt x="355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7"/>
                  </a:lnTo>
                  <a:lnTo>
                    <a:pt x="259" y="362"/>
                  </a:lnTo>
                  <a:lnTo>
                    <a:pt x="250" y="376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19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7" y="366"/>
                  </a:lnTo>
                  <a:lnTo>
                    <a:pt x="191" y="359"/>
                  </a:lnTo>
                  <a:lnTo>
                    <a:pt x="193" y="349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89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0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87600" y="2802960"/>
              <a:ext cx="565200" cy="487080"/>
            </a:xfrm>
            <a:custGeom>
              <a:avLst/>
              <a:gdLst/>
              <a:ahLst/>
              <a:rect l="l" t="t" r="r" b="b"/>
              <a:pathLst>
                <a:path w="536" h="390">
                  <a:moveTo>
                    <a:pt x="185" y="326"/>
                  </a:moveTo>
                  <a:lnTo>
                    <a:pt x="173" y="320"/>
                  </a:lnTo>
                  <a:lnTo>
                    <a:pt x="160" y="321"/>
                  </a:lnTo>
                  <a:lnTo>
                    <a:pt x="147" y="325"/>
                  </a:lnTo>
                  <a:lnTo>
                    <a:pt x="142" y="331"/>
                  </a:lnTo>
                  <a:lnTo>
                    <a:pt x="134" y="339"/>
                  </a:lnTo>
                  <a:lnTo>
                    <a:pt x="123" y="343"/>
                  </a:lnTo>
                  <a:lnTo>
                    <a:pt x="124" y="345"/>
                  </a:lnTo>
                  <a:lnTo>
                    <a:pt x="124" y="348"/>
                  </a:lnTo>
                  <a:lnTo>
                    <a:pt x="123" y="349"/>
                  </a:lnTo>
                  <a:lnTo>
                    <a:pt x="118" y="350"/>
                  </a:lnTo>
                  <a:lnTo>
                    <a:pt x="112" y="347"/>
                  </a:lnTo>
                  <a:lnTo>
                    <a:pt x="107" y="344"/>
                  </a:lnTo>
                  <a:lnTo>
                    <a:pt x="89" y="347"/>
                  </a:lnTo>
                  <a:lnTo>
                    <a:pt x="72" y="349"/>
                  </a:lnTo>
                  <a:lnTo>
                    <a:pt x="54" y="348"/>
                  </a:lnTo>
                  <a:lnTo>
                    <a:pt x="51" y="351"/>
                  </a:lnTo>
                  <a:lnTo>
                    <a:pt x="51" y="359"/>
                  </a:lnTo>
                  <a:lnTo>
                    <a:pt x="45" y="363"/>
                  </a:lnTo>
                  <a:lnTo>
                    <a:pt x="48" y="370"/>
                  </a:lnTo>
                  <a:lnTo>
                    <a:pt x="53" y="376"/>
                  </a:lnTo>
                  <a:lnTo>
                    <a:pt x="61" y="376"/>
                  </a:lnTo>
                  <a:lnTo>
                    <a:pt x="61" y="379"/>
                  </a:lnTo>
                  <a:lnTo>
                    <a:pt x="60" y="381"/>
                  </a:lnTo>
                  <a:lnTo>
                    <a:pt x="57" y="382"/>
                  </a:lnTo>
                  <a:lnTo>
                    <a:pt x="54" y="383"/>
                  </a:lnTo>
                  <a:lnTo>
                    <a:pt x="50" y="383"/>
                  </a:lnTo>
                  <a:lnTo>
                    <a:pt x="48" y="382"/>
                  </a:lnTo>
                  <a:lnTo>
                    <a:pt x="35" y="371"/>
                  </a:lnTo>
                  <a:lnTo>
                    <a:pt x="16" y="371"/>
                  </a:lnTo>
                  <a:lnTo>
                    <a:pt x="1" y="367"/>
                  </a:lnTo>
                  <a:lnTo>
                    <a:pt x="0" y="357"/>
                  </a:lnTo>
                  <a:lnTo>
                    <a:pt x="10" y="348"/>
                  </a:lnTo>
                  <a:lnTo>
                    <a:pt x="25" y="350"/>
                  </a:lnTo>
                  <a:lnTo>
                    <a:pt x="33" y="348"/>
                  </a:lnTo>
                  <a:lnTo>
                    <a:pt x="45" y="339"/>
                  </a:lnTo>
                  <a:lnTo>
                    <a:pt x="57" y="329"/>
                  </a:lnTo>
                  <a:lnTo>
                    <a:pt x="58" y="328"/>
                  </a:lnTo>
                  <a:lnTo>
                    <a:pt x="58" y="325"/>
                  </a:lnTo>
                  <a:lnTo>
                    <a:pt x="58" y="324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79" y="319"/>
                  </a:lnTo>
                  <a:lnTo>
                    <a:pt x="92" y="302"/>
                  </a:lnTo>
                  <a:lnTo>
                    <a:pt x="111" y="292"/>
                  </a:lnTo>
                  <a:lnTo>
                    <a:pt x="132" y="282"/>
                  </a:lnTo>
                  <a:lnTo>
                    <a:pt x="139" y="283"/>
                  </a:lnTo>
                  <a:lnTo>
                    <a:pt x="145" y="288"/>
                  </a:lnTo>
                  <a:lnTo>
                    <a:pt x="146" y="297"/>
                  </a:lnTo>
                  <a:lnTo>
                    <a:pt x="169" y="292"/>
                  </a:lnTo>
                  <a:lnTo>
                    <a:pt x="189" y="279"/>
                  </a:lnTo>
                  <a:lnTo>
                    <a:pt x="209" y="267"/>
                  </a:lnTo>
                  <a:lnTo>
                    <a:pt x="208" y="273"/>
                  </a:lnTo>
                  <a:lnTo>
                    <a:pt x="206" y="279"/>
                  </a:lnTo>
                  <a:lnTo>
                    <a:pt x="206" y="282"/>
                  </a:lnTo>
                  <a:lnTo>
                    <a:pt x="219" y="283"/>
                  </a:lnTo>
                  <a:lnTo>
                    <a:pt x="232" y="280"/>
                  </a:lnTo>
                  <a:lnTo>
                    <a:pt x="245" y="276"/>
                  </a:lnTo>
                  <a:lnTo>
                    <a:pt x="248" y="271"/>
                  </a:lnTo>
                  <a:lnTo>
                    <a:pt x="249" y="264"/>
                  </a:lnTo>
                  <a:lnTo>
                    <a:pt x="250" y="258"/>
                  </a:lnTo>
                  <a:lnTo>
                    <a:pt x="262" y="247"/>
                  </a:lnTo>
                  <a:lnTo>
                    <a:pt x="275" y="239"/>
                  </a:lnTo>
                  <a:lnTo>
                    <a:pt x="284" y="227"/>
                  </a:lnTo>
                  <a:lnTo>
                    <a:pt x="285" y="216"/>
                  </a:lnTo>
                  <a:lnTo>
                    <a:pt x="282" y="205"/>
                  </a:lnTo>
                  <a:lnTo>
                    <a:pt x="281" y="195"/>
                  </a:lnTo>
                  <a:lnTo>
                    <a:pt x="285" y="187"/>
                  </a:lnTo>
                  <a:lnTo>
                    <a:pt x="291" y="179"/>
                  </a:lnTo>
                  <a:lnTo>
                    <a:pt x="298" y="171"/>
                  </a:lnTo>
                  <a:lnTo>
                    <a:pt x="297" y="183"/>
                  </a:lnTo>
                  <a:lnTo>
                    <a:pt x="295" y="193"/>
                  </a:lnTo>
                  <a:lnTo>
                    <a:pt x="295" y="204"/>
                  </a:lnTo>
                  <a:lnTo>
                    <a:pt x="299" y="205"/>
                  </a:lnTo>
                  <a:lnTo>
                    <a:pt x="301" y="207"/>
                  </a:lnTo>
                  <a:lnTo>
                    <a:pt x="305" y="208"/>
                  </a:lnTo>
                  <a:lnTo>
                    <a:pt x="305" y="213"/>
                  </a:lnTo>
                  <a:lnTo>
                    <a:pt x="304" y="219"/>
                  </a:lnTo>
                  <a:lnTo>
                    <a:pt x="305" y="224"/>
                  </a:lnTo>
                  <a:lnTo>
                    <a:pt x="307" y="224"/>
                  </a:lnTo>
                  <a:lnTo>
                    <a:pt x="309" y="224"/>
                  </a:lnTo>
                  <a:lnTo>
                    <a:pt x="312" y="224"/>
                  </a:lnTo>
                  <a:lnTo>
                    <a:pt x="313" y="215"/>
                  </a:lnTo>
                  <a:lnTo>
                    <a:pt x="317" y="207"/>
                  </a:lnTo>
                  <a:lnTo>
                    <a:pt x="322" y="203"/>
                  </a:lnTo>
                  <a:lnTo>
                    <a:pt x="350" y="188"/>
                  </a:lnTo>
                  <a:lnTo>
                    <a:pt x="376" y="171"/>
                  </a:lnTo>
                  <a:lnTo>
                    <a:pt x="401" y="153"/>
                  </a:lnTo>
                  <a:lnTo>
                    <a:pt x="409" y="148"/>
                  </a:lnTo>
                  <a:lnTo>
                    <a:pt x="418" y="145"/>
                  </a:lnTo>
                  <a:lnTo>
                    <a:pt x="427" y="145"/>
                  </a:lnTo>
                  <a:lnTo>
                    <a:pt x="430" y="136"/>
                  </a:lnTo>
                  <a:lnTo>
                    <a:pt x="437" y="129"/>
                  </a:lnTo>
                  <a:lnTo>
                    <a:pt x="439" y="122"/>
                  </a:lnTo>
                  <a:lnTo>
                    <a:pt x="434" y="115"/>
                  </a:lnTo>
                  <a:lnTo>
                    <a:pt x="426" y="110"/>
                  </a:lnTo>
                  <a:lnTo>
                    <a:pt x="417" y="109"/>
                  </a:lnTo>
                  <a:lnTo>
                    <a:pt x="435" y="93"/>
                  </a:lnTo>
                  <a:lnTo>
                    <a:pt x="445" y="72"/>
                  </a:lnTo>
                  <a:lnTo>
                    <a:pt x="446" y="46"/>
                  </a:lnTo>
                  <a:lnTo>
                    <a:pt x="452" y="32"/>
                  </a:lnTo>
                  <a:lnTo>
                    <a:pt x="468" y="21"/>
                  </a:lnTo>
                  <a:lnTo>
                    <a:pt x="483" y="10"/>
                  </a:lnTo>
                  <a:lnTo>
                    <a:pt x="494" y="23"/>
                  </a:lnTo>
                  <a:lnTo>
                    <a:pt x="509" y="28"/>
                  </a:lnTo>
                  <a:lnTo>
                    <a:pt x="526" y="22"/>
                  </a:lnTo>
                  <a:lnTo>
                    <a:pt x="526" y="20"/>
                  </a:lnTo>
                  <a:lnTo>
                    <a:pt x="526" y="17"/>
                  </a:lnTo>
                  <a:lnTo>
                    <a:pt x="526" y="13"/>
                  </a:lnTo>
                  <a:lnTo>
                    <a:pt x="520" y="13"/>
                  </a:lnTo>
                  <a:lnTo>
                    <a:pt x="515" y="11"/>
                  </a:lnTo>
                  <a:lnTo>
                    <a:pt x="509" y="10"/>
                  </a:lnTo>
                  <a:lnTo>
                    <a:pt x="517" y="5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3" y="25"/>
                  </a:lnTo>
                  <a:lnTo>
                    <a:pt x="530" y="50"/>
                  </a:lnTo>
                  <a:lnTo>
                    <a:pt x="528" y="76"/>
                  </a:lnTo>
                  <a:lnTo>
                    <a:pt x="527" y="83"/>
                  </a:lnTo>
                  <a:lnTo>
                    <a:pt x="525" y="91"/>
                  </a:lnTo>
                  <a:lnTo>
                    <a:pt x="522" y="99"/>
                  </a:lnTo>
                  <a:lnTo>
                    <a:pt x="514" y="112"/>
                  </a:lnTo>
                  <a:lnTo>
                    <a:pt x="502" y="121"/>
                  </a:lnTo>
                  <a:lnTo>
                    <a:pt x="489" y="132"/>
                  </a:lnTo>
                  <a:lnTo>
                    <a:pt x="493" y="134"/>
                  </a:lnTo>
                  <a:lnTo>
                    <a:pt x="495" y="138"/>
                  </a:lnTo>
                  <a:lnTo>
                    <a:pt x="500" y="138"/>
                  </a:lnTo>
                  <a:lnTo>
                    <a:pt x="497" y="138"/>
                  </a:lnTo>
                  <a:lnTo>
                    <a:pt x="495" y="138"/>
                  </a:lnTo>
                  <a:lnTo>
                    <a:pt x="493" y="139"/>
                  </a:lnTo>
                  <a:lnTo>
                    <a:pt x="483" y="159"/>
                  </a:lnTo>
                  <a:lnTo>
                    <a:pt x="484" y="182"/>
                  </a:lnTo>
                  <a:lnTo>
                    <a:pt x="479" y="204"/>
                  </a:lnTo>
                  <a:lnTo>
                    <a:pt x="472" y="215"/>
                  </a:lnTo>
                  <a:lnTo>
                    <a:pt x="465" y="226"/>
                  </a:lnTo>
                  <a:lnTo>
                    <a:pt x="462" y="237"/>
                  </a:lnTo>
                  <a:lnTo>
                    <a:pt x="463" y="247"/>
                  </a:lnTo>
                  <a:lnTo>
                    <a:pt x="467" y="257"/>
                  </a:lnTo>
                  <a:lnTo>
                    <a:pt x="476" y="264"/>
                  </a:lnTo>
                  <a:lnTo>
                    <a:pt x="470" y="264"/>
                  </a:lnTo>
                  <a:lnTo>
                    <a:pt x="465" y="267"/>
                  </a:lnTo>
                  <a:lnTo>
                    <a:pt x="461" y="271"/>
                  </a:lnTo>
                  <a:lnTo>
                    <a:pt x="457" y="282"/>
                  </a:lnTo>
                  <a:lnTo>
                    <a:pt x="454" y="293"/>
                  </a:lnTo>
                  <a:lnTo>
                    <a:pt x="449" y="302"/>
                  </a:lnTo>
                  <a:lnTo>
                    <a:pt x="437" y="311"/>
                  </a:lnTo>
                  <a:lnTo>
                    <a:pt x="424" y="315"/>
                  </a:lnTo>
                  <a:lnTo>
                    <a:pt x="412" y="314"/>
                  </a:lnTo>
                  <a:lnTo>
                    <a:pt x="411" y="308"/>
                  </a:lnTo>
                  <a:lnTo>
                    <a:pt x="415" y="298"/>
                  </a:lnTo>
                  <a:lnTo>
                    <a:pt x="416" y="288"/>
                  </a:lnTo>
                  <a:lnTo>
                    <a:pt x="412" y="286"/>
                  </a:lnTo>
                  <a:lnTo>
                    <a:pt x="406" y="289"/>
                  </a:lnTo>
                  <a:lnTo>
                    <a:pt x="401" y="292"/>
                  </a:lnTo>
                  <a:lnTo>
                    <a:pt x="395" y="302"/>
                  </a:lnTo>
                  <a:lnTo>
                    <a:pt x="393" y="315"/>
                  </a:lnTo>
                  <a:lnTo>
                    <a:pt x="387" y="325"/>
                  </a:lnTo>
                  <a:lnTo>
                    <a:pt x="377" y="325"/>
                  </a:lnTo>
                  <a:lnTo>
                    <a:pt x="368" y="320"/>
                  </a:lnTo>
                  <a:lnTo>
                    <a:pt x="359" y="314"/>
                  </a:lnTo>
                  <a:lnTo>
                    <a:pt x="356" y="307"/>
                  </a:lnTo>
                  <a:lnTo>
                    <a:pt x="359" y="296"/>
                  </a:lnTo>
                  <a:lnTo>
                    <a:pt x="364" y="284"/>
                  </a:lnTo>
                  <a:lnTo>
                    <a:pt x="357" y="285"/>
                  </a:lnTo>
                  <a:lnTo>
                    <a:pt x="352" y="289"/>
                  </a:lnTo>
                  <a:lnTo>
                    <a:pt x="349" y="294"/>
                  </a:lnTo>
                  <a:lnTo>
                    <a:pt x="345" y="300"/>
                  </a:lnTo>
                  <a:lnTo>
                    <a:pt x="341" y="306"/>
                  </a:lnTo>
                  <a:lnTo>
                    <a:pt x="342" y="313"/>
                  </a:lnTo>
                  <a:lnTo>
                    <a:pt x="323" y="315"/>
                  </a:lnTo>
                  <a:lnTo>
                    <a:pt x="305" y="317"/>
                  </a:lnTo>
                  <a:lnTo>
                    <a:pt x="288" y="310"/>
                  </a:lnTo>
                  <a:lnTo>
                    <a:pt x="288" y="316"/>
                  </a:lnTo>
                  <a:lnTo>
                    <a:pt x="285" y="321"/>
                  </a:lnTo>
                  <a:lnTo>
                    <a:pt x="286" y="326"/>
                  </a:lnTo>
                  <a:lnTo>
                    <a:pt x="290" y="327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4" y="340"/>
                  </a:lnTo>
                  <a:lnTo>
                    <a:pt x="277" y="342"/>
                  </a:lnTo>
                  <a:lnTo>
                    <a:pt x="265" y="348"/>
                  </a:lnTo>
                  <a:lnTo>
                    <a:pt x="259" y="363"/>
                  </a:lnTo>
                  <a:lnTo>
                    <a:pt x="250" y="377"/>
                  </a:lnTo>
                  <a:lnTo>
                    <a:pt x="238" y="388"/>
                  </a:lnTo>
                  <a:lnTo>
                    <a:pt x="229" y="390"/>
                  </a:lnTo>
                  <a:lnTo>
                    <a:pt x="220" y="386"/>
                  </a:lnTo>
                  <a:lnTo>
                    <a:pt x="209" y="383"/>
                  </a:lnTo>
                  <a:lnTo>
                    <a:pt x="206" y="372"/>
                  </a:lnTo>
                  <a:lnTo>
                    <a:pt x="198" y="366"/>
                  </a:lnTo>
                  <a:lnTo>
                    <a:pt x="191" y="359"/>
                  </a:lnTo>
                  <a:lnTo>
                    <a:pt x="193" y="350"/>
                  </a:lnTo>
                  <a:lnTo>
                    <a:pt x="203" y="343"/>
                  </a:lnTo>
                  <a:lnTo>
                    <a:pt x="212" y="337"/>
                  </a:lnTo>
                  <a:lnTo>
                    <a:pt x="203" y="339"/>
                  </a:lnTo>
                  <a:lnTo>
                    <a:pt x="190" y="344"/>
                  </a:lnTo>
                  <a:lnTo>
                    <a:pt x="183" y="353"/>
                  </a:lnTo>
                  <a:lnTo>
                    <a:pt x="179" y="347"/>
                  </a:lnTo>
                  <a:lnTo>
                    <a:pt x="181" y="342"/>
                  </a:lnTo>
                  <a:lnTo>
                    <a:pt x="184" y="338"/>
                  </a:lnTo>
                  <a:lnTo>
                    <a:pt x="187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85" y="32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448320" y="2965320"/>
              <a:ext cx="31320" cy="435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2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48320" y="2965320"/>
              <a:ext cx="31320" cy="435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3" y="0"/>
                  </a:moveTo>
                  <a:lnTo>
                    <a:pt x="4" y="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" y="28"/>
                  </a:lnTo>
                  <a:lnTo>
                    <a:pt x="9" y="31"/>
                  </a:lnTo>
                  <a:lnTo>
                    <a:pt x="13" y="35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51640" y="2427120"/>
              <a:ext cx="213840" cy="39348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7" y="294"/>
                  </a:moveTo>
                  <a:lnTo>
                    <a:pt x="2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5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5" y="228"/>
                  </a:lnTo>
                  <a:lnTo>
                    <a:pt x="54" y="217"/>
                  </a:lnTo>
                  <a:lnTo>
                    <a:pt x="51" y="210"/>
                  </a:lnTo>
                  <a:lnTo>
                    <a:pt x="43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1"/>
                  </a:lnTo>
                  <a:lnTo>
                    <a:pt x="126" y="186"/>
                  </a:lnTo>
                  <a:lnTo>
                    <a:pt x="149" y="189"/>
                  </a:lnTo>
                  <a:lnTo>
                    <a:pt x="171" y="186"/>
                  </a:lnTo>
                  <a:lnTo>
                    <a:pt x="171" y="183"/>
                  </a:lnTo>
                  <a:lnTo>
                    <a:pt x="167" y="178"/>
                  </a:lnTo>
                  <a:lnTo>
                    <a:pt x="166" y="172"/>
                  </a:lnTo>
                  <a:lnTo>
                    <a:pt x="172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6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8"/>
                  </a:lnTo>
                  <a:lnTo>
                    <a:pt x="107" y="30"/>
                  </a:lnTo>
                  <a:lnTo>
                    <a:pt x="114" y="43"/>
                  </a:lnTo>
                  <a:lnTo>
                    <a:pt x="117" y="59"/>
                  </a:lnTo>
                  <a:lnTo>
                    <a:pt x="117" y="75"/>
                  </a:lnTo>
                  <a:lnTo>
                    <a:pt x="111" y="90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5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1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0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4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4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4"/>
                  </a:lnTo>
                  <a:lnTo>
                    <a:pt x="30" y="268"/>
                  </a:lnTo>
                  <a:lnTo>
                    <a:pt x="27" y="275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3" y="291"/>
                  </a:lnTo>
                  <a:lnTo>
                    <a:pt x="10" y="291"/>
                  </a:lnTo>
                  <a:lnTo>
                    <a:pt x="11" y="291"/>
                  </a:lnTo>
                  <a:lnTo>
                    <a:pt x="9" y="291"/>
                  </a:lnTo>
                  <a:lnTo>
                    <a:pt x="7" y="29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1640" y="2427120"/>
              <a:ext cx="213840" cy="39348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8" y="294"/>
                  </a:moveTo>
                  <a:lnTo>
                    <a:pt x="3" y="299"/>
                  </a:lnTo>
                  <a:lnTo>
                    <a:pt x="0" y="305"/>
                  </a:lnTo>
                  <a:lnTo>
                    <a:pt x="1" y="310"/>
                  </a:lnTo>
                  <a:lnTo>
                    <a:pt x="6" y="313"/>
                  </a:lnTo>
                  <a:lnTo>
                    <a:pt x="11" y="315"/>
                  </a:lnTo>
                  <a:lnTo>
                    <a:pt x="16" y="313"/>
                  </a:lnTo>
                  <a:lnTo>
                    <a:pt x="33" y="297"/>
                  </a:lnTo>
                  <a:lnTo>
                    <a:pt x="54" y="292"/>
                  </a:lnTo>
                  <a:lnTo>
                    <a:pt x="76" y="293"/>
                  </a:lnTo>
                  <a:lnTo>
                    <a:pt x="80" y="290"/>
                  </a:lnTo>
                  <a:lnTo>
                    <a:pt x="83" y="286"/>
                  </a:lnTo>
                  <a:lnTo>
                    <a:pt x="82" y="282"/>
                  </a:lnTo>
                  <a:lnTo>
                    <a:pt x="73" y="268"/>
                  </a:lnTo>
                  <a:lnTo>
                    <a:pt x="71" y="253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58" y="232"/>
                  </a:lnTo>
                  <a:lnTo>
                    <a:pt x="55" y="228"/>
                  </a:lnTo>
                  <a:lnTo>
                    <a:pt x="54" y="218"/>
                  </a:lnTo>
                  <a:lnTo>
                    <a:pt x="51" y="210"/>
                  </a:lnTo>
                  <a:lnTo>
                    <a:pt x="44" y="201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6" y="196"/>
                  </a:lnTo>
                  <a:lnTo>
                    <a:pt x="43" y="191"/>
                  </a:lnTo>
                  <a:lnTo>
                    <a:pt x="38" y="189"/>
                  </a:lnTo>
                  <a:lnTo>
                    <a:pt x="34" y="185"/>
                  </a:lnTo>
                  <a:lnTo>
                    <a:pt x="36" y="182"/>
                  </a:lnTo>
                  <a:lnTo>
                    <a:pt x="37" y="179"/>
                  </a:lnTo>
                  <a:lnTo>
                    <a:pt x="36" y="175"/>
                  </a:lnTo>
                  <a:lnTo>
                    <a:pt x="56" y="183"/>
                  </a:lnTo>
                  <a:lnTo>
                    <a:pt x="75" y="192"/>
                  </a:lnTo>
                  <a:lnTo>
                    <a:pt x="96" y="195"/>
                  </a:lnTo>
                  <a:lnTo>
                    <a:pt x="97" y="190"/>
                  </a:lnTo>
                  <a:lnTo>
                    <a:pt x="101" y="186"/>
                  </a:lnTo>
                  <a:lnTo>
                    <a:pt x="103" y="182"/>
                  </a:lnTo>
                  <a:lnTo>
                    <a:pt x="127" y="186"/>
                  </a:lnTo>
                  <a:lnTo>
                    <a:pt x="149" y="190"/>
                  </a:lnTo>
                  <a:lnTo>
                    <a:pt x="172" y="187"/>
                  </a:lnTo>
                  <a:lnTo>
                    <a:pt x="171" y="183"/>
                  </a:lnTo>
                  <a:lnTo>
                    <a:pt x="168" y="178"/>
                  </a:lnTo>
                  <a:lnTo>
                    <a:pt x="167" y="172"/>
                  </a:lnTo>
                  <a:lnTo>
                    <a:pt x="173" y="159"/>
                  </a:lnTo>
                  <a:lnTo>
                    <a:pt x="180" y="147"/>
                  </a:lnTo>
                  <a:lnTo>
                    <a:pt x="188" y="135"/>
                  </a:lnTo>
                  <a:lnTo>
                    <a:pt x="199" y="116"/>
                  </a:lnTo>
                  <a:lnTo>
                    <a:pt x="203" y="97"/>
                  </a:lnTo>
                  <a:lnTo>
                    <a:pt x="196" y="78"/>
                  </a:lnTo>
                  <a:lnTo>
                    <a:pt x="191" y="76"/>
                  </a:lnTo>
                  <a:lnTo>
                    <a:pt x="183" y="75"/>
                  </a:lnTo>
                  <a:lnTo>
                    <a:pt x="177" y="72"/>
                  </a:lnTo>
                  <a:lnTo>
                    <a:pt x="155" y="45"/>
                  </a:lnTo>
                  <a:lnTo>
                    <a:pt x="132" y="22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95" y="19"/>
                  </a:lnTo>
                  <a:lnTo>
                    <a:pt x="107" y="30"/>
                  </a:lnTo>
                  <a:lnTo>
                    <a:pt x="114" y="44"/>
                  </a:lnTo>
                  <a:lnTo>
                    <a:pt x="117" y="59"/>
                  </a:lnTo>
                  <a:lnTo>
                    <a:pt x="118" y="75"/>
                  </a:lnTo>
                  <a:lnTo>
                    <a:pt x="111" y="91"/>
                  </a:lnTo>
                  <a:lnTo>
                    <a:pt x="111" y="95"/>
                  </a:lnTo>
                  <a:lnTo>
                    <a:pt x="114" y="101"/>
                  </a:lnTo>
                  <a:lnTo>
                    <a:pt x="120" y="106"/>
                  </a:lnTo>
                  <a:lnTo>
                    <a:pt x="111" y="116"/>
                  </a:lnTo>
                  <a:lnTo>
                    <a:pt x="104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0" y="138"/>
                  </a:lnTo>
                  <a:lnTo>
                    <a:pt x="74" y="137"/>
                  </a:lnTo>
                  <a:lnTo>
                    <a:pt x="60" y="132"/>
                  </a:lnTo>
                  <a:lnTo>
                    <a:pt x="46" y="125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7" y="117"/>
                  </a:lnTo>
                  <a:lnTo>
                    <a:pt x="11" y="122"/>
                  </a:lnTo>
                  <a:lnTo>
                    <a:pt x="20" y="128"/>
                  </a:lnTo>
                  <a:lnTo>
                    <a:pt x="28" y="135"/>
                  </a:lnTo>
                  <a:lnTo>
                    <a:pt x="31" y="142"/>
                  </a:lnTo>
                  <a:lnTo>
                    <a:pt x="25" y="152"/>
                  </a:lnTo>
                  <a:lnTo>
                    <a:pt x="13" y="161"/>
                  </a:lnTo>
                  <a:lnTo>
                    <a:pt x="5" y="172"/>
                  </a:lnTo>
                  <a:lnTo>
                    <a:pt x="6" y="184"/>
                  </a:lnTo>
                  <a:lnTo>
                    <a:pt x="14" y="193"/>
                  </a:lnTo>
                  <a:lnTo>
                    <a:pt x="22" y="202"/>
                  </a:lnTo>
                  <a:lnTo>
                    <a:pt x="22" y="211"/>
                  </a:lnTo>
                  <a:lnTo>
                    <a:pt x="15" y="220"/>
                  </a:lnTo>
                  <a:lnTo>
                    <a:pt x="7" y="228"/>
                  </a:lnTo>
                  <a:lnTo>
                    <a:pt x="19" y="235"/>
                  </a:lnTo>
                  <a:lnTo>
                    <a:pt x="20" y="245"/>
                  </a:lnTo>
                  <a:lnTo>
                    <a:pt x="13" y="258"/>
                  </a:lnTo>
                  <a:lnTo>
                    <a:pt x="19" y="261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27" y="276"/>
                  </a:lnTo>
                  <a:lnTo>
                    <a:pt x="25" y="284"/>
                  </a:lnTo>
                  <a:lnTo>
                    <a:pt x="20" y="290"/>
                  </a:lnTo>
                  <a:lnTo>
                    <a:pt x="17" y="291"/>
                  </a:lnTo>
                  <a:lnTo>
                    <a:pt x="14" y="291"/>
                  </a:lnTo>
                  <a:lnTo>
                    <a:pt x="11" y="291"/>
                  </a:lnTo>
                  <a:lnTo>
                    <a:pt x="12" y="291"/>
                  </a:lnTo>
                  <a:lnTo>
                    <a:pt x="9" y="291"/>
                  </a:lnTo>
                  <a:lnTo>
                    <a:pt x="8" y="29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3241440"/>
              <a:ext cx="19800" cy="424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7" y="0"/>
                  </a:moveTo>
                  <a:lnTo>
                    <a:pt x="1" y="7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19" y="24"/>
                  </a:lnTo>
                  <a:lnTo>
                    <a:pt x="11" y="15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3241440"/>
              <a:ext cx="21240" cy="42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8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7" y="30"/>
                  </a:lnTo>
                  <a:lnTo>
                    <a:pt x="13" y="34"/>
                  </a:lnTo>
                  <a:lnTo>
                    <a:pt x="17" y="30"/>
                  </a:lnTo>
                  <a:lnTo>
                    <a:pt x="20" y="23"/>
                  </a:lnTo>
                  <a:lnTo>
                    <a:pt x="12" y="15"/>
                  </a:lnTo>
                  <a:lnTo>
                    <a:pt x="13" y="3"/>
                  </a:lnTo>
                  <a:lnTo>
                    <a:pt x="8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13800" y="356004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13800" y="3560040"/>
              <a:ext cx="20880" cy="410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3" y="0"/>
                  </a:moveTo>
                  <a:lnTo>
                    <a:pt x="9" y="11"/>
                  </a:lnTo>
                  <a:lnTo>
                    <a:pt x="0" y="2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0" y="21"/>
                  </a:lnTo>
                  <a:lnTo>
                    <a:pt x="14" y="11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970600" y="3650040"/>
              <a:ext cx="16920" cy="334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970600" y="3650040"/>
              <a:ext cx="16920" cy="334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3" y="1"/>
                  </a:moveTo>
                  <a:lnTo>
                    <a:pt x="10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5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3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932800" y="3708720"/>
              <a:ext cx="18720" cy="32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32800" y="3708720"/>
              <a:ext cx="18720" cy="32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6"/>
                  </a:moveTo>
                  <a:lnTo>
                    <a:pt x="9" y="7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55760" y="3766320"/>
              <a:ext cx="67320" cy="496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55760" y="3766320"/>
              <a:ext cx="67320" cy="496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36" y="7"/>
                  </a:lnTo>
                  <a:lnTo>
                    <a:pt x="9" y="15"/>
                  </a:lnTo>
                  <a:lnTo>
                    <a:pt x="0" y="39"/>
                  </a:lnTo>
                  <a:lnTo>
                    <a:pt x="4" y="40"/>
                  </a:lnTo>
                  <a:lnTo>
                    <a:pt x="11" y="40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37" y="26"/>
                  </a:lnTo>
                  <a:lnTo>
                    <a:pt x="49" y="14"/>
                  </a:lnTo>
                  <a:lnTo>
                    <a:pt x="64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74000" y="3097800"/>
              <a:ext cx="2124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74000" y="3097800"/>
              <a:ext cx="2124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2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99800" y="3759840"/>
              <a:ext cx="250920" cy="37080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8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7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5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10" y="151"/>
                  </a:lnTo>
                  <a:lnTo>
                    <a:pt x="208" y="152"/>
                  </a:lnTo>
                  <a:lnTo>
                    <a:pt x="203" y="151"/>
                  </a:lnTo>
                  <a:lnTo>
                    <a:pt x="199" y="149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6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5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1"/>
                  </a:lnTo>
                  <a:lnTo>
                    <a:pt x="170" y="140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3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7"/>
                  </a:lnTo>
                  <a:lnTo>
                    <a:pt x="230" y="97"/>
                  </a:lnTo>
                  <a:lnTo>
                    <a:pt x="232" y="96"/>
                  </a:lnTo>
                  <a:lnTo>
                    <a:pt x="233" y="93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7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0"/>
                  </a:lnTo>
                  <a:lnTo>
                    <a:pt x="94" y="51"/>
                  </a:lnTo>
                  <a:lnTo>
                    <a:pt x="95" y="42"/>
                  </a:lnTo>
                  <a:lnTo>
                    <a:pt x="97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1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2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8"/>
                  </a:lnTo>
                  <a:lnTo>
                    <a:pt x="9" y="110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0" y="163"/>
                  </a:lnTo>
                  <a:lnTo>
                    <a:pt x="39" y="163"/>
                  </a:lnTo>
                  <a:lnTo>
                    <a:pt x="38" y="163"/>
                  </a:lnTo>
                  <a:lnTo>
                    <a:pt x="36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39" y="174"/>
                  </a:lnTo>
                  <a:lnTo>
                    <a:pt x="43" y="174"/>
                  </a:lnTo>
                  <a:lnTo>
                    <a:pt x="42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0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7" y="266"/>
                  </a:lnTo>
                  <a:lnTo>
                    <a:pt x="78" y="257"/>
                  </a:lnTo>
                  <a:lnTo>
                    <a:pt x="79" y="249"/>
                  </a:lnTo>
                  <a:lnTo>
                    <a:pt x="78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0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0" y="254"/>
                  </a:lnTo>
                  <a:lnTo>
                    <a:pt x="80" y="260"/>
                  </a:lnTo>
                  <a:lnTo>
                    <a:pt x="79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2"/>
                  </a:lnTo>
                  <a:lnTo>
                    <a:pt x="104" y="241"/>
                  </a:lnTo>
                  <a:lnTo>
                    <a:pt x="104" y="247"/>
                  </a:lnTo>
                  <a:lnTo>
                    <a:pt x="107" y="252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4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7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5"/>
                  </a:lnTo>
                  <a:lnTo>
                    <a:pt x="127" y="202"/>
                  </a:lnTo>
                  <a:lnTo>
                    <a:pt x="129" y="198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1" y="228"/>
                  </a:lnTo>
                  <a:lnTo>
                    <a:pt x="148" y="221"/>
                  </a:lnTo>
                  <a:lnTo>
                    <a:pt x="142" y="212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2"/>
                  </a:lnTo>
                  <a:lnTo>
                    <a:pt x="138" y="194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8"/>
                  </a:lnTo>
                  <a:lnTo>
                    <a:pt x="159" y="241"/>
                  </a:lnTo>
                  <a:lnTo>
                    <a:pt x="162" y="233"/>
                  </a:lnTo>
                  <a:lnTo>
                    <a:pt x="162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8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7"/>
                  </a:lnTo>
                  <a:lnTo>
                    <a:pt x="195" y="245"/>
                  </a:lnTo>
                  <a:lnTo>
                    <a:pt x="197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3" y="290"/>
                  </a:lnTo>
                  <a:lnTo>
                    <a:pt x="205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1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7" y="243"/>
                  </a:lnTo>
                  <a:lnTo>
                    <a:pt x="238" y="24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9800" y="3759840"/>
              <a:ext cx="250920" cy="37080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238" y="243"/>
                  </a:moveTo>
                  <a:lnTo>
                    <a:pt x="236" y="239"/>
                  </a:lnTo>
                  <a:lnTo>
                    <a:pt x="234" y="234"/>
                  </a:lnTo>
                  <a:lnTo>
                    <a:pt x="232" y="230"/>
                  </a:lnTo>
                  <a:lnTo>
                    <a:pt x="230" y="219"/>
                  </a:lnTo>
                  <a:lnTo>
                    <a:pt x="230" y="207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3" y="195"/>
                  </a:lnTo>
                  <a:lnTo>
                    <a:pt x="219" y="183"/>
                  </a:lnTo>
                  <a:lnTo>
                    <a:pt x="220" y="170"/>
                  </a:lnTo>
                  <a:lnTo>
                    <a:pt x="219" y="158"/>
                  </a:lnTo>
                  <a:lnTo>
                    <a:pt x="217" y="156"/>
                  </a:lnTo>
                  <a:lnTo>
                    <a:pt x="214" y="154"/>
                  </a:lnTo>
                  <a:lnTo>
                    <a:pt x="213" y="151"/>
                  </a:lnTo>
                  <a:lnTo>
                    <a:pt x="211" y="151"/>
                  </a:lnTo>
                  <a:lnTo>
                    <a:pt x="209" y="152"/>
                  </a:lnTo>
                  <a:lnTo>
                    <a:pt x="208" y="152"/>
                  </a:lnTo>
                  <a:lnTo>
                    <a:pt x="203" y="152"/>
                  </a:lnTo>
                  <a:lnTo>
                    <a:pt x="198" y="150"/>
                  </a:lnTo>
                  <a:lnTo>
                    <a:pt x="196" y="151"/>
                  </a:lnTo>
                  <a:lnTo>
                    <a:pt x="197" y="157"/>
                  </a:lnTo>
                  <a:lnTo>
                    <a:pt x="199" y="163"/>
                  </a:lnTo>
                  <a:lnTo>
                    <a:pt x="198" y="169"/>
                  </a:lnTo>
                  <a:lnTo>
                    <a:pt x="196" y="170"/>
                  </a:lnTo>
                  <a:lnTo>
                    <a:pt x="194" y="172"/>
                  </a:lnTo>
                  <a:lnTo>
                    <a:pt x="192" y="173"/>
                  </a:lnTo>
                  <a:lnTo>
                    <a:pt x="190" y="177"/>
                  </a:lnTo>
                  <a:lnTo>
                    <a:pt x="190" y="183"/>
                  </a:lnTo>
                  <a:lnTo>
                    <a:pt x="188" y="187"/>
                  </a:lnTo>
                  <a:lnTo>
                    <a:pt x="182" y="186"/>
                  </a:lnTo>
                  <a:lnTo>
                    <a:pt x="179" y="180"/>
                  </a:lnTo>
                  <a:lnTo>
                    <a:pt x="174" y="175"/>
                  </a:lnTo>
                  <a:lnTo>
                    <a:pt x="167" y="168"/>
                  </a:lnTo>
                  <a:lnTo>
                    <a:pt x="164" y="159"/>
                  </a:lnTo>
                  <a:lnTo>
                    <a:pt x="164" y="149"/>
                  </a:lnTo>
                  <a:lnTo>
                    <a:pt x="166" y="147"/>
                  </a:lnTo>
                  <a:lnTo>
                    <a:pt x="168" y="144"/>
                  </a:lnTo>
                  <a:lnTo>
                    <a:pt x="172" y="143"/>
                  </a:lnTo>
                  <a:lnTo>
                    <a:pt x="171" y="142"/>
                  </a:lnTo>
                  <a:lnTo>
                    <a:pt x="170" y="141"/>
                  </a:lnTo>
                  <a:lnTo>
                    <a:pt x="170" y="139"/>
                  </a:lnTo>
                  <a:lnTo>
                    <a:pt x="177" y="135"/>
                  </a:lnTo>
                  <a:lnTo>
                    <a:pt x="185" y="134"/>
                  </a:lnTo>
                  <a:lnTo>
                    <a:pt x="192" y="128"/>
                  </a:lnTo>
                  <a:lnTo>
                    <a:pt x="193" y="129"/>
                  </a:lnTo>
                  <a:lnTo>
                    <a:pt x="195" y="131"/>
                  </a:lnTo>
                  <a:lnTo>
                    <a:pt x="197" y="132"/>
                  </a:lnTo>
                  <a:lnTo>
                    <a:pt x="202" y="127"/>
                  </a:lnTo>
                  <a:lnTo>
                    <a:pt x="206" y="120"/>
                  </a:lnTo>
                  <a:lnTo>
                    <a:pt x="213" y="118"/>
                  </a:lnTo>
                  <a:lnTo>
                    <a:pt x="212" y="113"/>
                  </a:lnTo>
                  <a:lnTo>
                    <a:pt x="213" y="108"/>
                  </a:lnTo>
                  <a:lnTo>
                    <a:pt x="214" y="104"/>
                  </a:lnTo>
                  <a:lnTo>
                    <a:pt x="217" y="100"/>
                  </a:lnTo>
                  <a:lnTo>
                    <a:pt x="222" y="99"/>
                  </a:lnTo>
                  <a:lnTo>
                    <a:pt x="228" y="98"/>
                  </a:lnTo>
                  <a:lnTo>
                    <a:pt x="230" y="98"/>
                  </a:lnTo>
                  <a:lnTo>
                    <a:pt x="232" y="96"/>
                  </a:lnTo>
                  <a:lnTo>
                    <a:pt x="233" y="94"/>
                  </a:lnTo>
                  <a:lnTo>
                    <a:pt x="230" y="91"/>
                  </a:lnTo>
                  <a:lnTo>
                    <a:pt x="227" y="90"/>
                  </a:lnTo>
                  <a:lnTo>
                    <a:pt x="225" y="87"/>
                  </a:lnTo>
                  <a:lnTo>
                    <a:pt x="226" y="86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193" y="77"/>
                  </a:lnTo>
                  <a:lnTo>
                    <a:pt x="159" y="78"/>
                  </a:lnTo>
                  <a:lnTo>
                    <a:pt x="124" y="76"/>
                  </a:lnTo>
                  <a:lnTo>
                    <a:pt x="120" y="74"/>
                  </a:lnTo>
                  <a:lnTo>
                    <a:pt x="116" y="73"/>
                  </a:lnTo>
                  <a:lnTo>
                    <a:pt x="112" y="71"/>
                  </a:lnTo>
                  <a:lnTo>
                    <a:pt x="104" y="70"/>
                  </a:lnTo>
                  <a:lnTo>
                    <a:pt x="98" y="67"/>
                  </a:lnTo>
                  <a:lnTo>
                    <a:pt x="95" y="61"/>
                  </a:lnTo>
                  <a:lnTo>
                    <a:pt x="94" y="52"/>
                  </a:lnTo>
                  <a:lnTo>
                    <a:pt x="95" y="42"/>
                  </a:lnTo>
                  <a:lnTo>
                    <a:pt x="98" y="34"/>
                  </a:lnTo>
                  <a:lnTo>
                    <a:pt x="94" y="29"/>
                  </a:lnTo>
                  <a:lnTo>
                    <a:pt x="93" y="23"/>
                  </a:lnTo>
                  <a:lnTo>
                    <a:pt x="88" y="21"/>
                  </a:lnTo>
                  <a:lnTo>
                    <a:pt x="88" y="22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0"/>
                  </a:lnTo>
                  <a:lnTo>
                    <a:pt x="67" y="25"/>
                  </a:lnTo>
                  <a:lnTo>
                    <a:pt x="62" y="18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37" y="9"/>
                  </a:lnTo>
                  <a:lnTo>
                    <a:pt x="29" y="3"/>
                  </a:lnTo>
                  <a:lnTo>
                    <a:pt x="20" y="0"/>
                  </a:lnTo>
                  <a:lnTo>
                    <a:pt x="19" y="3"/>
                  </a:lnTo>
                  <a:lnTo>
                    <a:pt x="20" y="10"/>
                  </a:lnTo>
                  <a:lnTo>
                    <a:pt x="18" y="17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3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4" y="75"/>
                  </a:lnTo>
                  <a:lnTo>
                    <a:pt x="25" y="75"/>
                  </a:lnTo>
                  <a:lnTo>
                    <a:pt x="23" y="83"/>
                  </a:lnTo>
                  <a:lnTo>
                    <a:pt x="15" y="85"/>
                  </a:lnTo>
                  <a:lnTo>
                    <a:pt x="7" y="87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0" y="99"/>
                  </a:lnTo>
                  <a:lnTo>
                    <a:pt x="9" y="111"/>
                  </a:lnTo>
                  <a:lnTo>
                    <a:pt x="23" y="119"/>
                  </a:lnTo>
                  <a:lnTo>
                    <a:pt x="35" y="129"/>
                  </a:lnTo>
                  <a:lnTo>
                    <a:pt x="40" y="139"/>
                  </a:lnTo>
                  <a:lnTo>
                    <a:pt x="43" y="150"/>
                  </a:lnTo>
                  <a:lnTo>
                    <a:pt x="41" y="162"/>
                  </a:lnTo>
                  <a:lnTo>
                    <a:pt x="41" y="163"/>
                  </a:lnTo>
                  <a:lnTo>
                    <a:pt x="39" y="163"/>
                  </a:lnTo>
                  <a:lnTo>
                    <a:pt x="39" y="163"/>
                  </a:lnTo>
                  <a:lnTo>
                    <a:pt x="37" y="165"/>
                  </a:lnTo>
                  <a:lnTo>
                    <a:pt x="35" y="167"/>
                  </a:lnTo>
                  <a:lnTo>
                    <a:pt x="35" y="169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3" y="178"/>
                  </a:lnTo>
                  <a:lnTo>
                    <a:pt x="41" y="183"/>
                  </a:lnTo>
                  <a:lnTo>
                    <a:pt x="42" y="187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7" y="193"/>
                  </a:lnTo>
                  <a:lnTo>
                    <a:pt x="50" y="199"/>
                  </a:lnTo>
                  <a:lnTo>
                    <a:pt x="47" y="207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1" y="223"/>
                  </a:lnTo>
                  <a:lnTo>
                    <a:pt x="52" y="227"/>
                  </a:lnTo>
                  <a:lnTo>
                    <a:pt x="51" y="241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58" y="268"/>
                  </a:lnTo>
                  <a:lnTo>
                    <a:pt x="60" y="262"/>
                  </a:lnTo>
                  <a:lnTo>
                    <a:pt x="63" y="257"/>
                  </a:lnTo>
                  <a:lnTo>
                    <a:pt x="68" y="258"/>
                  </a:lnTo>
                  <a:lnTo>
                    <a:pt x="71" y="263"/>
                  </a:lnTo>
                  <a:lnTo>
                    <a:pt x="74" y="268"/>
                  </a:lnTo>
                  <a:lnTo>
                    <a:pt x="76" y="268"/>
                  </a:lnTo>
                  <a:lnTo>
                    <a:pt x="77" y="267"/>
                  </a:lnTo>
                  <a:lnTo>
                    <a:pt x="78" y="266"/>
                  </a:lnTo>
                  <a:lnTo>
                    <a:pt x="79" y="257"/>
                  </a:lnTo>
                  <a:lnTo>
                    <a:pt x="79" y="249"/>
                  </a:lnTo>
                  <a:lnTo>
                    <a:pt x="79" y="240"/>
                  </a:lnTo>
                  <a:lnTo>
                    <a:pt x="79" y="238"/>
                  </a:lnTo>
                  <a:lnTo>
                    <a:pt x="81" y="236"/>
                  </a:lnTo>
                  <a:lnTo>
                    <a:pt x="82" y="237"/>
                  </a:lnTo>
                  <a:lnTo>
                    <a:pt x="83" y="241"/>
                  </a:lnTo>
                  <a:lnTo>
                    <a:pt x="83" y="244"/>
                  </a:lnTo>
                  <a:lnTo>
                    <a:pt x="82" y="248"/>
                  </a:lnTo>
                  <a:lnTo>
                    <a:pt x="81" y="254"/>
                  </a:lnTo>
                  <a:lnTo>
                    <a:pt x="80" y="260"/>
                  </a:lnTo>
                  <a:lnTo>
                    <a:pt x="80" y="266"/>
                  </a:lnTo>
                  <a:lnTo>
                    <a:pt x="84" y="262"/>
                  </a:lnTo>
                  <a:lnTo>
                    <a:pt x="89" y="260"/>
                  </a:lnTo>
                  <a:lnTo>
                    <a:pt x="93" y="257"/>
                  </a:lnTo>
                  <a:lnTo>
                    <a:pt x="97" y="249"/>
                  </a:lnTo>
                  <a:lnTo>
                    <a:pt x="96" y="239"/>
                  </a:lnTo>
                  <a:lnTo>
                    <a:pt x="95" y="229"/>
                  </a:lnTo>
                  <a:lnTo>
                    <a:pt x="97" y="224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03" y="226"/>
                  </a:lnTo>
                  <a:lnTo>
                    <a:pt x="101" y="235"/>
                  </a:lnTo>
                  <a:lnTo>
                    <a:pt x="101" y="245"/>
                  </a:lnTo>
                  <a:lnTo>
                    <a:pt x="102" y="244"/>
                  </a:lnTo>
                  <a:lnTo>
                    <a:pt x="103" y="243"/>
                  </a:lnTo>
                  <a:lnTo>
                    <a:pt x="104" y="242"/>
                  </a:lnTo>
                  <a:lnTo>
                    <a:pt x="104" y="247"/>
                  </a:lnTo>
                  <a:lnTo>
                    <a:pt x="107" y="253"/>
                  </a:lnTo>
                  <a:lnTo>
                    <a:pt x="109" y="258"/>
                  </a:lnTo>
                  <a:lnTo>
                    <a:pt x="117" y="252"/>
                  </a:lnTo>
                  <a:lnTo>
                    <a:pt x="123" y="245"/>
                  </a:lnTo>
                  <a:lnTo>
                    <a:pt x="122" y="235"/>
                  </a:lnTo>
                  <a:lnTo>
                    <a:pt x="124" y="234"/>
                  </a:lnTo>
                  <a:lnTo>
                    <a:pt x="126" y="233"/>
                  </a:lnTo>
                  <a:lnTo>
                    <a:pt x="126" y="232"/>
                  </a:lnTo>
                  <a:lnTo>
                    <a:pt x="127" y="223"/>
                  </a:lnTo>
                  <a:lnTo>
                    <a:pt x="128" y="216"/>
                  </a:lnTo>
                  <a:lnTo>
                    <a:pt x="126" y="208"/>
                  </a:lnTo>
                  <a:lnTo>
                    <a:pt x="126" y="206"/>
                  </a:lnTo>
                  <a:lnTo>
                    <a:pt x="127" y="202"/>
                  </a:lnTo>
                  <a:lnTo>
                    <a:pt x="129" y="199"/>
                  </a:lnTo>
                  <a:lnTo>
                    <a:pt x="132" y="209"/>
                  </a:lnTo>
                  <a:lnTo>
                    <a:pt x="131" y="220"/>
                  </a:lnTo>
                  <a:lnTo>
                    <a:pt x="131" y="232"/>
                  </a:lnTo>
                  <a:lnTo>
                    <a:pt x="133" y="241"/>
                  </a:lnTo>
                  <a:lnTo>
                    <a:pt x="138" y="246"/>
                  </a:lnTo>
                  <a:lnTo>
                    <a:pt x="144" y="242"/>
                  </a:lnTo>
                  <a:lnTo>
                    <a:pt x="148" y="235"/>
                  </a:lnTo>
                  <a:lnTo>
                    <a:pt x="150" y="228"/>
                  </a:lnTo>
                  <a:lnTo>
                    <a:pt x="148" y="221"/>
                  </a:lnTo>
                  <a:lnTo>
                    <a:pt x="142" y="213"/>
                  </a:lnTo>
                  <a:lnTo>
                    <a:pt x="137" y="204"/>
                  </a:lnTo>
                  <a:lnTo>
                    <a:pt x="133" y="195"/>
                  </a:lnTo>
                  <a:lnTo>
                    <a:pt x="132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7" y="193"/>
                  </a:lnTo>
                  <a:lnTo>
                    <a:pt x="138" y="195"/>
                  </a:lnTo>
                  <a:lnTo>
                    <a:pt x="140" y="195"/>
                  </a:lnTo>
                  <a:lnTo>
                    <a:pt x="140" y="198"/>
                  </a:lnTo>
                  <a:lnTo>
                    <a:pt x="142" y="201"/>
                  </a:lnTo>
                  <a:lnTo>
                    <a:pt x="143" y="203"/>
                  </a:lnTo>
                  <a:lnTo>
                    <a:pt x="146" y="208"/>
                  </a:lnTo>
                  <a:lnTo>
                    <a:pt x="151" y="213"/>
                  </a:lnTo>
                  <a:lnTo>
                    <a:pt x="155" y="219"/>
                  </a:lnTo>
                  <a:lnTo>
                    <a:pt x="155" y="223"/>
                  </a:lnTo>
                  <a:lnTo>
                    <a:pt x="155" y="228"/>
                  </a:lnTo>
                  <a:lnTo>
                    <a:pt x="156" y="233"/>
                  </a:lnTo>
                  <a:lnTo>
                    <a:pt x="157" y="236"/>
                  </a:lnTo>
                  <a:lnTo>
                    <a:pt x="158" y="239"/>
                  </a:lnTo>
                  <a:lnTo>
                    <a:pt x="158" y="242"/>
                  </a:lnTo>
                  <a:lnTo>
                    <a:pt x="161" y="233"/>
                  </a:lnTo>
                  <a:lnTo>
                    <a:pt x="161" y="224"/>
                  </a:lnTo>
                  <a:lnTo>
                    <a:pt x="164" y="218"/>
                  </a:lnTo>
                  <a:lnTo>
                    <a:pt x="167" y="212"/>
                  </a:lnTo>
                  <a:lnTo>
                    <a:pt x="170" y="206"/>
                  </a:lnTo>
                  <a:lnTo>
                    <a:pt x="177" y="202"/>
                  </a:lnTo>
                  <a:lnTo>
                    <a:pt x="175" y="209"/>
                  </a:lnTo>
                  <a:lnTo>
                    <a:pt x="174" y="216"/>
                  </a:lnTo>
                  <a:lnTo>
                    <a:pt x="177" y="223"/>
                  </a:lnTo>
                  <a:lnTo>
                    <a:pt x="178" y="221"/>
                  </a:lnTo>
                  <a:lnTo>
                    <a:pt x="180" y="219"/>
                  </a:lnTo>
                  <a:lnTo>
                    <a:pt x="182" y="218"/>
                  </a:lnTo>
                  <a:lnTo>
                    <a:pt x="186" y="217"/>
                  </a:lnTo>
                  <a:lnTo>
                    <a:pt x="187" y="220"/>
                  </a:lnTo>
                  <a:lnTo>
                    <a:pt x="189" y="224"/>
                  </a:lnTo>
                  <a:lnTo>
                    <a:pt x="192" y="231"/>
                  </a:lnTo>
                  <a:lnTo>
                    <a:pt x="195" y="238"/>
                  </a:lnTo>
                  <a:lnTo>
                    <a:pt x="195" y="245"/>
                  </a:lnTo>
                  <a:lnTo>
                    <a:pt x="196" y="245"/>
                  </a:lnTo>
                  <a:lnTo>
                    <a:pt x="197" y="248"/>
                  </a:lnTo>
                  <a:lnTo>
                    <a:pt x="198" y="248"/>
                  </a:lnTo>
                  <a:lnTo>
                    <a:pt x="197" y="251"/>
                  </a:lnTo>
                  <a:lnTo>
                    <a:pt x="195" y="253"/>
                  </a:lnTo>
                  <a:lnTo>
                    <a:pt x="194" y="255"/>
                  </a:lnTo>
                  <a:lnTo>
                    <a:pt x="195" y="260"/>
                  </a:lnTo>
                  <a:lnTo>
                    <a:pt x="199" y="265"/>
                  </a:lnTo>
                  <a:lnTo>
                    <a:pt x="202" y="270"/>
                  </a:lnTo>
                  <a:lnTo>
                    <a:pt x="203" y="277"/>
                  </a:lnTo>
                  <a:lnTo>
                    <a:pt x="202" y="284"/>
                  </a:lnTo>
                  <a:lnTo>
                    <a:pt x="202" y="291"/>
                  </a:lnTo>
                  <a:lnTo>
                    <a:pt x="204" y="294"/>
                  </a:lnTo>
                  <a:lnTo>
                    <a:pt x="207" y="296"/>
                  </a:lnTo>
                  <a:lnTo>
                    <a:pt x="209" y="297"/>
                  </a:lnTo>
                  <a:lnTo>
                    <a:pt x="210" y="293"/>
                  </a:lnTo>
                  <a:lnTo>
                    <a:pt x="213" y="285"/>
                  </a:lnTo>
                  <a:lnTo>
                    <a:pt x="222" y="278"/>
                  </a:lnTo>
                  <a:lnTo>
                    <a:pt x="225" y="277"/>
                  </a:lnTo>
                  <a:lnTo>
                    <a:pt x="230" y="274"/>
                  </a:lnTo>
                  <a:lnTo>
                    <a:pt x="232" y="268"/>
                  </a:lnTo>
                  <a:lnTo>
                    <a:pt x="230" y="262"/>
                  </a:lnTo>
                  <a:lnTo>
                    <a:pt x="229" y="254"/>
                  </a:lnTo>
                  <a:lnTo>
                    <a:pt x="230" y="248"/>
                  </a:lnTo>
                  <a:lnTo>
                    <a:pt x="233" y="244"/>
                  </a:lnTo>
                  <a:lnTo>
                    <a:pt x="236" y="243"/>
                  </a:lnTo>
                  <a:lnTo>
                    <a:pt x="238" y="24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51480" y="3147840"/>
              <a:ext cx="1547280" cy="181260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3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6"/>
                  </a:lnTo>
                  <a:lnTo>
                    <a:pt x="1068" y="485"/>
                  </a:lnTo>
                  <a:lnTo>
                    <a:pt x="1084" y="486"/>
                  </a:lnTo>
                  <a:lnTo>
                    <a:pt x="1099" y="488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7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5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0" y="438"/>
                  </a:lnTo>
                  <a:lnTo>
                    <a:pt x="1180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2" y="433"/>
                  </a:lnTo>
                  <a:lnTo>
                    <a:pt x="1183" y="433"/>
                  </a:lnTo>
                  <a:lnTo>
                    <a:pt x="1183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1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7" y="385"/>
                  </a:lnTo>
                  <a:lnTo>
                    <a:pt x="1262" y="379"/>
                  </a:lnTo>
                  <a:lnTo>
                    <a:pt x="1269" y="376"/>
                  </a:lnTo>
                  <a:lnTo>
                    <a:pt x="1279" y="374"/>
                  </a:lnTo>
                  <a:lnTo>
                    <a:pt x="1289" y="375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4" y="353"/>
                  </a:lnTo>
                  <a:lnTo>
                    <a:pt x="1364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1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1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3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0" y="390"/>
                  </a:lnTo>
                  <a:lnTo>
                    <a:pt x="1412" y="392"/>
                  </a:lnTo>
                  <a:lnTo>
                    <a:pt x="1414" y="394"/>
                  </a:lnTo>
                  <a:lnTo>
                    <a:pt x="1426" y="393"/>
                  </a:lnTo>
                  <a:lnTo>
                    <a:pt x="1436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3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8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3"/>
                  </a:lnTo>
                  <a:lnTo>
                    <a:pt x="1395" y="458"/>
                  </a:lnTo>
                  <a:lnTo>
                    <a:pt x="1390" y="464"/>
                  </a:lnTo>
                  <a:lnTo>
                    <a:pt x="1383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5" y="477"/>
                  </a:lnTo>
                  <a:lnTo>
                    <a:pt x="1358" y="484"/>
                  </a:lnTo>
                  <a:lnTo>
                    <a:pt x="1351" y="492"/>
                  </a:lnTo>
                  <a:lnTo>
                    <a:pt x="1350" y="499"/>
                  </a:lnTo>
                  <a:lnTo>
                    <a:pt x="1353" y="507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1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19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8" y="623"/>
                  </a:lnTo>
                  <a:lnTo>
                    <a:pt x="1308" y="628"/>
                  </a:lnTo>
                  <a:lnTo>
                    <a:pt x="1296" y="636"/>
                  </a:lnTo>
                  <a:lnTo>
                    <a:pt x="1281" y="632"/>
                  </a:lnTo>
                  <a:lnTo>
                    <a:pt x="1265" y="629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1" y="670"/>
                  </a:lnTo>
                  <a:lnTo>
                    <a:pt x="1261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3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3" y="709"/>
                  </a:lnTo>
                  <a:lnTo>
                    <a:pt x="1223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9"/>
                  </a:lnTo>
                  <a:lnTo>
                    <a:pt x="1190" y="660"/>
                  </a:lnTo>
                  <a:lnTo>
                    <a:pt x="1188" y="662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3" y="673"/>
                  </a:lnTo>
                  <a:lnTo>
                    <a:pt x="1182" y="676"/>
                  </a:lnTo>
                  <a:lnTo>
                    <a:pt x="1176" y="676"/>
                  </a:lnTo>
                  <a:lnTo>
                    <a:pt x="1172" y="670"/>
                  </a:lnTo>
                  <a:lnTo>
                    <a:pt x="1168" y="665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3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4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4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6" y="583"/>
                  </a:lnTo>
                  <a:lnTo>
                    <a:pt x="1224" y="581"/>
                  </a:lnTo>
                  <a:lnTo>
                    <a:pt x="1221" y="580"/>
                  </a:lnTo>
                  <a:lnTo>
                    <a:pt x="1218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6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8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1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8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90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1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3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4"/>
                  </a:lnTo>
                  <a:lnTo>
                    <a:pt x="1009" y="534"/>
                  </a:lnTo>
                  <a:lnTo>
                    <a:pt x="1011" y="534"/>
                  </a:lnTo>
                  <a:lnTo>
                    <a:pt x="1011" y="534"/>
                  </a:lnTo>
                  <a:lnTo>
                    <a:pt x="1015" y="539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1"/>
                  </a:lnTo>
                  <a:lnTo>
                    <a:pt x="1036" y="553"/>
                  </a:lnTo>
                  <a:lnTo>
                    <a:pt x="1043" y="552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3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8" y="586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6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3"/>
                  </a:lnTo>
                  <a:lnTo>
                    <a:pt x="1033" y="653"/>
                  </a:lnTo>
                  <a:lnTo>
                    <a:pt x="1032" y="653"/>
                  </a:lnTo>
                  <a:lnTo>
                    <a:pt x="1030" y="655"/>
                  </a:lnTo>
                  <a:lnTo>
                    <a:pt x="1029" y="657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3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5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0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5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8"/>
                  </a:lnTo>
                  <a:lnTo>
                    <a:pt x="1021" y="765"/>
                  </a:lnTo>
                  <a:lnTo>
                    <a:pt x="1012" y="769"/>
                  </a:lnTo>
                  <a:lnTo>
                    <a:pt x="1006" y="756"/>
                  </a:lnTo>
                  <a:lnTo>
                    <a:pt x="998" y="742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6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8"/>
                  </a:lnTo>
                  <a:lnTo>
                    <a:pt x="733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9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5"/>
                  </a:lnTo>
                  <a:lnTo>
                    <a:pt x="624" y="1052"/>
                  </a:lnTo>
                  <a:lnTo>
                    <a:pt x="615" y="1053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8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9"/>
                  </a:lnTo>
                  <a:lnTo>
                    <a:pt x="614" y="1199"/>
                  </a:lnTo>
                  <a:lnTo>
                    <a:pt x="611" y="1208"/>
                  </a:lnTo>
                  <a:lnTo>
                    <a:pt x="611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8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1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9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1"/>
                  </a:lnTo>
                  <a:lnTo>
                    <a:pt x="551" y="1374"/>
                  </a:lnTo>
                  <a:lnTo>
                    <a:pt x="546" y="1386"/>
                  </a:lnTo>
                  <a:lnTo>
                    <a:pt x="538" y="1397"/>
                  </a:lnTo>
                  <a:lnTo>
                    <a:pt x="528" y="1402"/>
                  </a:lnTo>
                  <a:lnTo>
                    <a:pt x="517" y="1406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5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5" y="1348"/>
                  </a:lnTo>
                  <a:lnTo>
                    <a:pt x="400" y="1326"/>
                  </a:lnTo>
                  <a:lnTo>
                    <a:pt x="376" y="1285"/>
                  </a:lnTo>
                  <a:lnTo>
                    <a:pt x="351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2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7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4"/>
                  </a:lnTo>
                  <a:lnTo>
                    <a:pt x="239" y="886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9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5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9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3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5" y="794"/>
                  </a:lnTo>
                  <a:lnTo>
                    <a:pt x="156" y="800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8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7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8"/>
                  </a:lnTo>
                  <a:lnTo>
                    <a:pt x="73" y="610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7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2" y="520"/>
                  </a:lnTo>
                  <a:lnTo>
                    <a:pt x="99" y="508"/>
                  </a:lnTo>
                  <a:lnTo>
                    <a:pt x="98" y="494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5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1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9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2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2" y="354"/>
                  </a:lnTo>
                  <a:lnTo>
                    <a:pt x="244" y="343"/>
                  </a:lnTo>
                  <a:lnTo>
                    <a:pt x="251" y="333"/>
                  </a:lnTo>
                  <a:lnTo>
                    <a:pt x="256" y="321"/>
                  </a:lnTo>
                  <a:lnTo>
                    <a:pt x="262" y="309"/>
                  </a:lnTo>
                  <a:lnTo>
                    <a:pt x="270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3" y="237"/>
                  </a:lnTo>
                  <a:lnTo>
                    <a:pt x="318" y="236"/>
                  </a:lnTo>
                  <a:lnTo>
                    <a:pt x="319" y="230"/>
                  </a:lnTo>
                  <a:lnTo>
                    <a:pt x="322" y="225"/>
                  </a:lnTo>
                  <a:lnTo>
                    <a:pt x="328" y="223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80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3" y="115"/>
                  </a:lnTo>
                  <a:lnTo>
                    <a:pt x="305" y="113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7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6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6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1" y="72"/>
                  </a:lnTo>
                  <a:lnTo>
                    <a:pt x="534" y="84"/>
                  </a:lnTo>
                  <a:lnTo>
                    <a:pt x="533" y="97"/>
                  </a:lnTo>
                  <a:lnTo>
                    <a:pt x="542" y="110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3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5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19" y="165"/>
                  </a:lnTo>
                  <a:lnTo>
                    <a:pt x="518" y="169"/>
                  </a:lnTo>
                  <a:lnTo>
                    <a:pt x="527" y="188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6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6" y="255"/>
                  </a:lnTo>
                  <a:lnTo>
                    <a:pt x="609" y="268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5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3" y="324"/>
                  </a:lnTo>
                  <a:lnTo>
                    <a:pt x="603" y="333"/>
                  </a:lnTo>
                  <a:lnTo>
                    <a:pt x="604" y="341"/>
                  </a:lnTo>
                  <a:lnTo>
                    <a:pt x="601" y="351"/>
                  </a:lnTo>
                  <a:lnTo>
                    <a:pt x="598" y="357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6"/>
                  </a:lnTo>
                  <a:lnTo>
                    <a:pt x="615" y="383"/>
                  </a:lnTo>
                  <a:lnTo>
                    <a:pt x="626" y="381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5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4" y="419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2" y="445"/>
                  </a:lnTo>
                  <a:lnTo>
                    <a:pt x="753" y="448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4"/>
                  </a:lnTo>
                  <a:lnTo>
                    <a:pt x="809" y="446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2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6"/>
                  </a:lnTo>
                  <a:lnTo>
                    <a:pt x="834" y="466"/>
                  </a:lnTo>
                  <a:lnTo>
                    <a:pt x="836" y="466"/>
                  </a:lnTo>
                  <a:lnTo>
                    <a:pt x="839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1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2"/>
                  </a:lnTo>
                  <a:lnTo>
                    <a:pt x="913" y="493"/>
                  </a:lnTo>
                  <a:lnTo>
                    <a:pt x="913" y="494"/>
                  </a:lnTo>
                  <a:lnTo>
                    <a:pt x="920" y="499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7"/>
                  </a:lnTo>
                  <a:lnTo>
                    <a:pt x="941" y="496"/>
                  </a:lnTo>
                  <a:lnTo>
                    <a:pt x="955" y="497"/>
                  </a:lnTo>
                  <a:lnTo>
                    <a:pt x="969" y="498"/>
                  </a:lnTo>
                  <a:lnTo>
                    <a:pt x="984" y="499"/>
                  </a:lnTo>
                  <a:lnTo>
                    <a:pt x="989" y="500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6"/>
                  </a:lnTo>
                  <a:lnTo>
                    <a:pt x="1006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2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3" y="437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0" y="429"/>
                  </a:lnTo>
                  <a:lnTo>
                    <a:pt x="1010" y="426"/>
                  </a:lnTo>
                  <a:lnTo>
                    <a:pt x="1010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1"/>
                  </a:lnTo>
                  <a:lnTo>
                    <a:pt x="1029" y="410"/>
                  </a:lnTo>
                  <a:lnTo>
                    <a:pt x="1034" y="410"/>
                  </a:lnTo>
                  <a:lnTo>
                    <a:pt x="1037" y="414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7"/>
                  </a:lnTo>
                  <a:lnTo>
                    <a:pt x="1042" y="44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51480" y="3147840"/>
              <a:ext cx="1547280" cy="1812600"/>
            </a:xfrm>
            <a:custGeom>
              <a:avLst/>
              <a:gdLst/>
              <a:ahLst/>
              <a:rect l="l" t="t" r="r" b="b"/>
              <a:pathLst>
                <a:path w="1467" h="1451">
                  <a:moveTo>
                    <a:pt x="1042" y="442"/>
                  </a:moveTo>
                  <a:lnTo>
                    <a:pt x="1038" y="448"/>
                  </a:lnTo>
                  <a:lnTo>
                    <a:pt x="1034" y="452"/>
                  </a:lnTo>
                  <a:lnTo>
                    <a:pt x="1031" y="457"/>
                  </a:lnTo>
                  <a:lnTo>
                    <a:pt x="1032" y="462"/>
                  </a:lnTo>
                  <a:lnTo>
                    <a:pt x="1034" y="467"/>
                  </a:lnTo>
                  <a:lnTo>
                    <a:pt x="1035" y="472"/>
                  </a:lnTo>
                  <a:lnTo>
                    <a:pt x="1044" y="474"/>
                  </a:lnTo>
                  <a:lnTo>
                    <a:pt x="1051" y="481"/>
                  </a:lnTo>
                  <a:lnTo>
                    <a:pt x="1058" y="485"/>
                  </a:lnTo>
                  <a:lnTo>
                    <a:pt x="1062" y="486"/>
                  </a:lnTo>
                  <a:lnTo>
                    <a:pt x="1065" y="485"/>
                  </a:lnTo>
                  <a:lnTo>
                    <a:pt x="1068" y="485"/>
                  </a:lnTo>
                  <a:lnTo>
                    <a:pt x="1085" y="486"/>
                  </a:lnTo>
                  <a:lnTo>
                    <a:pt x="1100" y="487"/>
                  </a:lnTo>
                  <a:lnTo>
                    <a:pt x="1112" y="479"/>
                  </a:lnTo>
                  <a:lnTo>
                    <a:pt x="1128" y="484"/>
                  </a:lnTo>
                  <a:lnTo>
                    <a:pt x="1143" y="487"/>
                  </a:lnTo>
                  <a:lnTo>
                    <a:pt x="1159" y="486"/>
                  </a:lnTo>
                  <a:lnTo>
                    <a:pt x="1161" y="486"/>
                  </a:lnTo>
                  <a:lnTo>
                    <a:pt x="1163" y="484"/>
                  </a:lnTo>
                  <a:lnTo>
                    <a:pt x="1166" y="483"/>
                  </a:lnTo>
                  <a:lnTo>
                    <a:pt x="1169" y="483"/>
                  </a:lnTo>
                  <a:lnTo>
                    <a:pt x="1172" y="484"/>
                  </a:lnTo>
                  <a:lnTo>
                    <a:pt x="1176" y="485"/>
                  </a:lnTo>
                  <a:lnTo>
                    <a:pt x="1184" y="484"/>
                  </a:lnTo>
                  <a:lnTo>
                    <a:pt x="1192" y="481"/>
                  </a:lnTo>
                  <a:lnTo>
                    <a:pt x="1196" y="475"/>
                  </a:lnTo>
                  <a:lnTo>
                    <a:pt x="1196" y="462"/>
                  </a:lnTo>
                  <a:lnTo>
                    <a:pt x="1190" y="450"/>
                  </a:lnTo>
                  <a:lnTo>
                    <a:pt x="1181" y="439"/>
                  </a:lnTo>
                  <a:lnTo>
                    <a:pt x="1181" y="438"/>
                  </a:lnTo>
                  <a:lnTo>
                    <a:pt x="1181" y="436"/>
                  </a:lnTo>
                  <a:lnTo>
                    <a:pt x="1181" y="434"/>
                  </a:lnTo>
                  <a:lnTo>
                    <a:pt x="1182" y="434"/>
                  </a:lnTo>
                  <a:lnTo>
                    <a:pt x="1183" y="433"/>
                  </a:lnTo>
                  <a:lnTo>
                    <a:pt x="1184" y="433"/>
                  </a:lnTo>
                  <a:lnTo>
                    <a:pt x="1184" y="430"/>
                  </a:lnTo>
                  <a:lnTo>
                    <a:pt x="1200" y="427"/>
                  </a:lnTo>
                  <a:lnTo>
                    <a:pt x="1216" y="423"/>
                  </a:lnTo>
                  <a:lnTo>
                    <a:pt x="1233" y="420"/>
                  </a:lnTo>
                  <a:lnTo>
                    <a:pt x="1233" y="408"/>
                  </a:lnTo>
                  <a:lnTo>
                    <a:pt x="1245" y="402"/>
                  </a:lnTo>
                  <a:lnTo>
                    <a:pt x="1254" y="394"/>
                  </a:lnTo>
                  <a:lnTo>
                    <a:pt x="1258" y="385"/>
                  </a:lnTo>
                  <a:lnTo>
                    <a:pt x="1263" y="379"/>
                  </a:lnTo>
                  <a:lnTo>
                    <a:pt x="1269" y="375"/>
                  </a:lnTo>
                  <a:lnTo>
                    <a:pt x="1279" y="374"/>
                  </a:lnTo>
                  <a:lnTo>
                    <a:pt x="1289" y="374"/>
                  </a:lnTo>
                  <a:lnTo>
                    <a:pt x="1298" y="373"/>
                  </a:lnTo>
                  <a:lnTo>
                    <a:pt x="1311" y="361"/>
                  </a:lnTo>
                  <a:lnTo>
                    <a:pt x="1323" y="348"/>
                  </a:lnTo>
                  <a:lnTo>
                    <a:pt x="1337" y="344"/>
                  </a:lnTo>
                  <a:lnTo>
                    <a:pt x="1345" y="348"/>
                  </a:lnTo>
                  <a:lnTo>
                    <a:pt x="1355" y="353"/>
                  </a:lnTo>
                  <a:lnTo>
                    <a:pt x="1365" y="355"/>
                  </a:lnTo>
                  <a:lnTo>
                    <a:pt x="1367" y="356"/>
                  </a:lnTo>
                  <a:lnTo>
                    <a:pt x="1368" y="358"/>
                  </a:lnTo>
                  <a:lnTo>
                    <a:pt x="1368" y="361"/>
                  </a:lnTo>
                  <a:lnTo>
                    <a:pt x="1382" y="353"/>
                  </a:lnTo>
                  <a:lnTo>
                    <a:pt x="1393" y="343"/>
                  </a:lnTo>
                  <a:lnTo>
                    <a:pt x="1406" y="343"/>
                  </a:lnTo>
                  <a:lnTo>
                    <a:pt x="1413" y="350"/>
                  </a:lnTo>
                  <a:lnTo>
                    <a:pt x="1411" y="360"/>
                  </a:lnTo>
                  <a:lnTo>
                    <a:pt x="1407" y="370"/>
                  </a:lnTo>
                  <a:lnTo>
                    <a:pt x="1414" y="367"/>
                  </a:lnTo>
                  <a:lnTo>
                    <a:pt x="1420" y="363"/>
                  </a:lnTo>
                  <a:lnTo>
                    <a:pt x="1427" y="361"/>
                  </a:lnTo>
                  <a:lnTo>
                    <a:pt x="1430" y="365"/>
                  </a:lnTo>
                  <a:lnTo>
                    <a:pt x="1434" y="369"/>
                  </a:lnTo>
                  <a:lnTo>
                    <a:pt x="1434" y="374"/>
                  </a:lnTo>
                  <a:lnTo>
                    <a:pt x="1427" y="380"/>
                  </a:lnTo>
                  <a:lnTo>
                    <a:pt x="1419" y="385"/>
                  </a:lnTo>
                  <a:lnTo>
                    <a:pt x="1411" y="388"/>
                  </a:lnTo>
                  <a:lnTo>
                    <a:pt x="1411" y="390"/>
                  </a:lnTo>
                  <a:lnTo>
                    <a:pt x="1412" y="392"/>
                  </a:lnTo>
                  <a:lnTo>
                    <a:pt x="1414" y="393"/>
                  </a:lnTo>
                  <a:lnTo>
                    <a:pt x="1426" y="393"/>
                  </a:lnTo>
                  <a:lnTo>
                    <a:pt x="1437" y="394"/>
                  </a:lnTo>
                  <a:lnTo>
                    <a:pt x="1447" y="397"/>
                  </a:lnTo>
                  <a:lnTo>
                    <a:pt x="1449" y="392"/>
                  </a:lnTo>
                  <a:lnTo>
                    <a:pt x="1453" y="394"/>
                  </a:lnTo>
                  <a:lnTo>
                    <a:pt x="1457" y="394"/>
                  </a:lnTo>
                  <a:lnTo>
                    <a:pt x="1467" y="401"/>
                  </a:lnTo>
                  <a:lnTo>
                    <a:pt x="1465" y="416"/>
                  </a:lnTo>
                  <a:lnTo>
                    <a:pt x="1454" y="427"/>
                  </a:lnTo>
                  <a:lnTo>
                    <a:pt x="1449" y="440"/>
                  </a:lnTo>
                  <a:lnTo>
                    <a:pt x="1451" y="447"/>
                  </a:lnTo>
                  <a:lnTo>
                    <a:pt x="1454" y="454"/>
                  </a:lnTo>
                  <a:lnTo>
                    <a:pt x="1453" y="458"/>
                  </a:lnTo>
                  <a:lnTo>
                    <a:pt x="1444" y="456"/>
                  </a:lnTo>
                  <a:lnTo>
                    <a:pt x="1435" y="447"/>
                  </a:lnTo>
                  <a:lnTo>
                    <a:pt x="1425" y="445"/>
                  </a:lnTo>
                  <a:lnTo>
                    <a:pt x="1414" y="449"/>
                  </a:lnTo>
                  <a:lnTo>
                    <a:pt x="1404" y="452"/>
                  </a:lnTo>
                  <a:lnTo>
                    <a:pt x="1396" y="458"/>
                  </a:lnTo>
                  <a:lnTo>
                    <a:pt x="1390" y="464"/>
                  </a:lnTo>
                  <a:lnTo>
                    <a:pt x="1384" y="470"/>
                  </a:lnTo>
                  <a:lnTo>
                    <a:pt x="1377" y="476"/>
                  </a:lnTo>
                  <a:lnTo>
                    <a:pt x="1374" y="477"/>
                  </a:lnTo>
                  <a:lnTo>
                    <a:pt x="1369" y="476"/>
                  </a:lnTo>
                  <a:lnTo>
                    <a:pt x="1366" y="477"/>
                  </a:lnTo>
                  <a:lnTo>
                    <a:pt x="1358" y="484"/>
                  </a:lnTo>
                  <a:lnTo>
                    <a:pt x="1352" y="492"/>
                  </a:lnTo>
                  <a:lnTo>
                    <a:pt x="1350" y="499"/>
                  </a:lnTo>
                  <a:lnTo>
                    <a:pt x="1353" y="506"/>
                  </a:lnTo>
                  <a:lnTo>
                    <a:pt x="1354" y="515"/>
                  </a:lnTo>
                  <a:lnTo>
                    <a:pt x="1351" y="523"/>
                  </a:lnTo>
                  <a:lnTo>
                    <a:pt x="1344" y="530"/>
                  </a:lnTo>
                  <a:lnTo>
                    <a:pt x="1337" y="538"/>
                  </a:lnTo>
                  <a:lnTo>
                    <a:pt x="1332" y="546"/>
                  </a:lnTo>
                  <a:lnTo>
                    <a:pt x="1332" y="556"/>
                  </a:lnTo>
                  <a:lnTo>
                    <a:pt x="1334" y="566"/>
                  </a:lnTo>
                  <a:lnTo>
                    <a:pt x="1333" y="575"/>
                  </a:lnTo>
                  <a:lnTo>
                    <a:pt x="1326" y="588"/>
                  </a:lnTo>
                  <a:lnTo>
                    <a:pt x="1320" y="601"/>
                  </a:lnTo>
                  <a:lnTo>
                    <a:pt x="1309" y="613"/>
                  </a:lnTo>
                  <a:lnTo>
                    <a:pt x="1308" y="617"/>
                  </a:lnTo>
                  <a:lnTo>
                    <a:pt x="1309" y="623"/>
                  </a:lnTo>
                  <a:lnTo>
                    <a:pt x="1308" y="628"/>
                  </a:lnTo>
                  <a:lnTo>
                    <a:pt x="1296" y="635"/>
                  </a:lnTo>
                  <a:lnTo>
                    <a:pt x="1281" y="631"/>
                  </a:lnTo>
                  <a:lnTo>
                    <a:pt x="1266" y="628"/>
                  </a:lnTo>
                  <a:lnTo>
                    <a:pt x="1269" y="638"/>
                  </a:lnTo>
                  <a:lnTo>
                    <a:pt x="1270" y="648"/>
                  </a:lnTo>
                  <a:lnTo>
                    <a:pt x="1267" y="657"/>
                  </a:lnTo>
                  <a:lnTo>
                    <a:pt x="1263" y="664"/>
                  </a:lnTo>
                  <a:lnTo>
                    <a:pt x="1262" y="670"/>
                  </a:lnTo>
                  <a:lnTo>
                    <a:pt x="1262" y="678"/>
                  </a:lnTo>
                  <a:lnTo>
                    <a:pt x="1260" y="681"/>
                  </a:lnTo>
                  <a:lnTo>
                    <a:pt x="1256" y="681"/>
                  </a:lnTo>
                  <a:lnTo>
                    <a:pt x="1252" y="681"/>
                  </a:lnTo>
                  <a:lnTo>
                    <a:pt x="1254" y="697"/>
                  </a:lnTo>
                  <a:lnTo>
                    <a:pt x="1254" y="712"/>
                  </a:lnTo>
                  <a:lnTo>
                    <a:pt x="1251" y="727"/>
                  </a:lnTo>
                  <a:lnTo>
                    <a:pt x="1247" y="733"/>
                  </a:lnTo>
                  <a:lnTo>
                    <a:pt x="1240" y="734"/>
                  </a:lnTo>
                  <a:lnTo>
                    <a:pt x="1233" y="735"/>
                  </a:lnTo>
                  <a:lnTo>
                    <a:pt x="1226" y="720"/>
                  </a:lnTo>
                  <a:lnTo>
                    <a:pt x="1224" y="709"/>
                  </a:lnTo>
                  <a:lnTo>
                    <a:pt x="1224" y="697"/>
                  </a:lnTo>
                  <a:lnTo>
                    <a:pt x="1222" y="686"/>
                  </a:lnTo>
                  <a:lnTo>
                    <a:pt x="1220" y="686"/>
                  </a:lnTo>
                  <a:lnTo>
                    <a:pt x="1218" y="686"/>
                  </a:lnTo>
                  <a:lnTo>
                    <a:pt x="1217" y="685"/>
                  </a:lnTo>
                  <a:lnTo>
                    <a:pt x="1213" y="673"/>
                  </a:lnTo>
                  <a:lnTo>
                    <a:pt x="1214" y="660"/>
                  </a:lnTo>
                  <a:lnTo>
                    <a:pt x="1213" y="648"/>
                  </a:lnTo>
                  <a:lnTo>
                    <a:pt x="1211" y="645"/>
                  </a:lnTo>
                  <a:lnTo>
                    <a:pt x="1208" y="644"/>
                  </a:lnTo>
                  <a:lnTo>
                    <a:pt x="1207" y="641"/>
                  </a:lnTo>
                  <a:lnTo>
                    <a:pt x="1205" y="641"/>
                  </a:lnTo>
                  <a:lnTo>
                    <a:pt x="1203" y="641"/>
                  </a:lnTo>
                  <a:lnTo>
                    <a:pt x="1202" y="642"/>
                  </a:lnTo>
                  <a:lnTo>
                    <a:pt x="1197" y="641"/>
                  </a:lnTo>
                  <a:lnTo>
                    <a:pt x="1192" y="639"/>
                  </a:lnTo>
                  <a:lnTo>
                    <a:pt x="1190" y="641"/>
                  </a:lnTo>
                  <a:lnTo>
                    <a:pt x="1191" y="647"/>
                  </a:lnTo>
                  <a:lnTo>
                    <a:pt x="1193" y="653"/>
                  </a:lnTo>
                  <a:lnTo>
                    <a:pt x="1192" y="658"/>
                  </a:lnTo>
                  <a:lnTo>
                    <a:pt x="1190" y="660"/>
                  </a:lnTo>
                  <a:lnTo>
                    <a:pt x="1188" y="661"/>
                  </a:lnTo>
                  <a:lnTo>
                    <a:pt x="1186" y="663"/>
                  </a:lnTo>
                  <a:lnTo>
                    <a:pt x="1184" y="667"/>
                  </a:lnTo>
                  <a:lnTo>
                    <a:pt x="1184" y="672"/>
                  </a:lnTo>
                  <a:lnTo>
                    <a:pt x="1182" y="676"/>
                  </a:lnTo>
                  <a:lnTo>
                    <a:pt x="1176" y="675"/>
                  </a:lnTo>
                  <a:lnTo>
                    <a:pt x="1173" y="670"/>
                  </a:lnTo>
                  <a:lnTo>
                    <a:pt x="1168" y="664"/>
                  </a:lnTo>
                  <a:lnTo>
                    <a:pt x="1161" y="658"/>
                  </a:lnTo>
                  <a:lnTo>
                    <a:pt x="1158" y="649"/>
                  </a:lnTo>
                  <a:lnTo>
                    <a:pt x="1158" y="639"/>
                  </a:lnTo>
                  <a:lnTo>
                    <a:pt x="1160" y="637"/>
                  </a:lnTo>
                  <a:lnTo>
                    <a:pt x="1162" y="634"/>
                  </a:lnTo>
                  <a:lnTo>
                    <a:pt x="1166" y="632"/>
                  </a:lnTo>
                  <a:lnTo>
                    <a:pt x="1165" y="631"/>
                  </a:lnTo>
                  <a:lnTo>
                    <a:pt x="1164" y="630"/>
                  </a:lnTo>
                  <a:lnTo>
                    <a:pt x="1164" y="629"/>
                  </a:lnTo>
                  <a:lnTo>
                    <a:pt x="1171" y="625"/>
                  </a:lnTo>
                  <a:lnTo>
                    <a:pt x="1179" y="623"/>
                  </a:lnTo>
                  <a:lnTo>
                    <a:pt x="1186" y="618"/>
                  </a:lnTo>
                  <a:lnTo>
                    <a:pt x="1187" y="619"/>
                  </a:lnTo>
                  <a:lnTo>
                    <a:pt x="1189" y="621"/>
                  </a:lnTo>
                  <a:lnTo>
                    <a:pt x="1191" y="622"/>
                  </a:lnTo>
                  <a:lnTo>
                    <a:pt x="1196" y="617"/>
                  </a:lnTo>
                  <a:lnTo>
                    <a:pt x="1200" y="610"/>
                  </a:lnTo>
                  <a:lnTo>
                    <a:pt x="1207" y="608"/>
                  </a:lnTo>
                  <a:lnTo>
                    <a:pt x="1206" y="603"/>
                  </a:lnTo>
                  <a:lnTo>
                    <a:pt x="1207" y="598"/>
                  </a:lnTo>
                  <a:lnTo>
                    <a:pt x="1208" y="593"/>
                  </a:lnTo>
                  <a:lnTo>
                    <a:pt x="1211" y="590"/>
                  </a:lnTo>
                  <a:lnTo>
                    <a:pt x="1216" y="588"/>
                  </a:lnTo>
                  <a:lnTo>
                    <a:pt x="1222" y="587"/>
                  </a:lnTo>
                  <a:lnTo>
                    <a:pt x="1224" y="587"/>
                  </a:lnTo>
                  <a:lnTo>
                    <a:pt x="1226" y="586"/>
                  </a:lnTo>
                  <a:lnTo>
                    <a:pt x="1227" y="583"/>
                  </a:lnTo>
                  <a:lnTo>
                    <a:pt x="1224" y="581"/>
                  </a:lnTo>
                  <a:lnTo>
                    <a:pt x="1221" y="579"/>
                  </a:lnTo>
                  <a:lnTo>
                    <a:pt x="1219" y="576"/>
                  </a:lnTo>
                  <a:lnTo>
                    <a:pt x="1220" y="576"/>
                  </a:lnTo>
                  <a:lnTo>
                    <a:pt x="1220" y="574"/>
                  </a:lnTo>
                  <a:lnTo>
                    <a:pt x="1220" y="573"/>
                  </a:lnTo>
                  <a:lnTo>
                    <a:pt x="1187" y="567"/>
                  </a:lnTo>
                  <a:lnTo>
                    <a:pt x="1153" y="567"/>
                  </a:lnTo>
                  <a:lnTo>
                    <a:pt x="1118" y="565"/>
                  </a:lnTo>
                  <a:lnTo>
                    <a:pt x="1114" y="564"/>
                  </a:lnTo>
                  <a:lnTo>
                    <a:pt x="1110" y="562"/>
                  </a:lnTo>
                  <a:lnTo>
                    <a:pt x="1106" y="561"/>
                  </a:lnTo>
                  <a:lnTo>
                    <a:pt x="1098" y="560"/>
                  </a:lnTo>
                  <a:lnTo>
                    <a:pt x="1092" y="556"/>
                  </a:lnTo>
                  <a:lnTo>
                    <a:pt x="1089" y="550"/>
                  </a:lnTo>
                  <a:lnTo>
                    <a:pt x="1088" y="541"/>
                  </a:lnTo>
                  <a:lnTo>
                    <a:pt x="1089" y="532"/>
                  </a:lnTo>
                  <a:lnTo>
                    <a:pt x="1091" y="524"/>
                  </a:lnTo>
                  <a:lnTo>
                    <a:pt x="1088" y="518"/>
                  </a:lnTo>
                  <a:lnTo>
                    <a:pt x="1087" y="513"/>
                  </a:lnTo>
                  <a:lnTo>
                    <a:pt x="1082" y="510"/>
                  </a:lnTo>
                  <a:lnTo>
                    <a:pt x="1082" y="511"/>
                  </a:lnTo>
                  <a:lnTo>
                    <a:pt x="1082" y="513"/>
                  </a:lnTo>
                  <a:lnTo>
                    <a:pt x="1082" y="514"/>
                  </a:lnTo>
                  <a:lnTo>
                    <a:pt x="1078" y="514"/>
                  </a:lnTo>
                  <a:lnTo>
                    <a:pt x="1076" y="515"/>
                  </a:lnTo>
                  <a:lnTo>
                    <a:pt x="1074" y="516"/>
                  </a:lnTo>
                  <a:lnTo>
                    <a:pt x="1072" y="518"/>
                  </a:lnTo>
                  <a:lnTo>
                    <a:pt x="1070" y="520"/>
                  </a:lnTo>
                  <a:lnTo>
                    <a:pt x="1067" y="520"/>
                  </a:lnTo>
                  <a:lnTo>
                    <a:pt x="1061" y="515"/>
                  </a:lnTo>
                  <a:lnTo>
                    <a:pt x="1056" y="508"/>
                  </a:lnTo>
                  <a:lnTo>
                    <a:pt x="1051" y="501"/>
                  </a:lnTo>
                  <a:lnTo>
                    <a:pt x="1049" y="500"/>
                  </a:lnTo>
                  <a:lnTo>
                    <a:pt x="1045" y="500"/>
                  </a:lnTo>
                  <a:lnTo>
                    <a:pt x="1042" y="501"/>
                  </a:lnTo>
                  <a:lnTo>
                    <a:pt x="1041" y="501"/>
                  </a:lnTo>
                  <a:lnTo>
                    <a:pt x="1040" y="502"/>
                  </a:lnTo>
                  <a:lnTo>
                    <a:pt x="1040" y="504"/>
                  </a:lnTo>
                  <a:lnTo>
                    <a:pt x="1031" y="498"/>
                  </a:lnTo>
                  <a:lnTo>
                    <a:pt x="1022" y="492"/>
                  </a:lnTo>
                  <a:lnTo>
                    <a:pt x="1014" y="489"/>
                  </a:lnTo>
                  <a:lnTo>
                    <a:pt x="1013" y="493"/>
                  </a:lnTo>
                  <a:lnTo>
                    <a:pt x="1014" y="500"/>
                  </a:lnTo>
                  <a:lnTo>
                    <a:pt x="1012" y="507"/>
                  </a:lnTo>
                  <a:lnTo>
                    <a:pt x="1006" y="513"/>
                  </a:lnTo>
                  <a:lnTo>
                    <a:pt x="1002" y="520"/>
                  </a:lnTo>
                  <a:lnTo>
                    <a:pt x="998" y="527"/>
                  </a:lnTo>
                  <a:lnTo>
                    <a:pt x="997" y="530"/>
                  </a:lnTo>
                  <a:lnTo>
                    <a:pt x="998" y="532"/>
                  </a:lnTo>
                  <a:lnTo>
                    <a:pt x="999" y="535"/>
                  </a:lnTo>
                  <a:lnTo>
                    <a:pt x="1002" y="537"/>
                  </a:lnTo>
                  <a:lnTo>
                    <a:pt x="1004" y="535"/>
                  </a:lnTo>
                  <a:lnTo>
                    <a:pt x="1007" y="533"/>
                  </a:lnTo>
                  <a:lnTo>
                    <a:pt x="1009" y="533"/>
                  </a:lnTo>
                  <a:lnTo>
                    <a:pt x="1011" y="534"/>
                  </a:lnTo>
                  <a:lnTo>
                    <a:pt x="1012" y="534"/>
                  </a:lnTo>
                  <a:lnTo>
                    <a:pt x="1015" y="538"/>
                  </a:lnTo>
                  <a:lnTo>
                    <a:pt x="1021" y="541"/>
                  </a:lnTo>
                  <a:lnTo>
                    <a:pt x="1025" y="545"/>
                  </a:lnTo>
                  <a:lnTo>
                    <a:pt x="1030" y="550"/>
                  </a:lnTo>
                  <a:lnTo>
                    <a:pt x="1036" y="553"/>
                  </a:lnTo>
                  <a:lnTo>
                    <a:pt x="1044" y="551"/>
                  </a:lnTo>
                  <a:lnTo>
                    <a:pt x="1044" y="554"/>
                  </a:lnTo>
                  <a:lnTo>
                    <a:pt x="1044" y="557"/>
                  </a:lnTo>
                  <a:lnTo>
                    <a:pt x="1043" y="558"/>
                  </a:lnTo>
                  <a:lnTo>
                    <a:pt x="1036" y="563"/>
                  </a:lnTo>
                  <a:lnTo>
                    <a:pt x="1027" y="564"/>
                  </a:lnTo>
                  <a:lnTo>
                    <a:pt x="1019" y="565"/>
                  </a:lnTo>
                  <a:lnTo>
                    <a:pt x="1016" y="572"/>
                  </a:lnTo>
                  <a:lnTo>
                    <a:pt x="1009" y="575"/>
                  </a:lnTo>
                  <a:lnTo>
                    <a:pt x="1001" y="576"/>
                  </a:lnTo>
                  <a:lnTo>
                    <a:pt x="1001" y="581"/>
                  </a:lnTo>
                  <a:lnTo>
                    <a:pt x="999" y="585"/>
                  </a:lnTo>
                  <a:lnTo>
                    <a:pt x="994" y="588"/>
                  </a:lnTo>
                  <a:lnTo>
                    <a:pt x="1003" y="600"/>
                  </a:lnTo>
                  <a:lnTo>
                    <a:pt x="1017" y="609"/>
                  </a:lnTo>
                  <a:lnTo>
                    <a:pt x="1028" y="619"/>
                  </a:lnTo>
                  <a:lnTo>
                    <a:pt x="1034" y="629"/>
                  </a:lnTo>
                  <a:lnTo>
                    <a:pt x="1036" y="640"/>
                  </a:lnTo>
                  <a:lnTo>
                    <a:pt x="1035" y="652"/>
                  </a:lnTo>
                  <a:lnTo>
                    <a:pt x="1034" y="652"/>
                  </a:lnTo>
                  <a:lnTo>
                    <a:pt x="1033" y="652"/>
                  </a:lnTo>
                  <a:lnTo>
                    <a:pt x="1032" y="653"/>
                  </a:lnTo>
                  <a:lnTo>
                    <a:pt x="1030" y="654"/>
                  </a:lnTo>
                  <a:lnTo>
                    <a:pt x="1029" y="656"/>
                  </a:lnTo>
                  <a:lnTo>
                    <a:pt x="1029" y="659"/>
                  </a:lnTo>
                  <a:lnTo>
                    <a:pt x="1031" y="662"/>
                  </a:lnTo>
                  <a:lnTo>
                    <a:pt x="1033" y="664"/>
                  </a:lnTo>
                  <a:lnTo>
                    <a:pt x="1037" y="664"/>
                  </a:lnTo>
                  <a:lnTo>
                    <a:pt x="1036" y="668"/>
                  </a:lnTo>
                  <a:lnTo>
                    <a:pt x="1035" y="672"/>
                  </a:lnTo>
                  <a:lnTo>
                    <a:pt x="1036" y="677"/>
                  </a:lnTo>
                  <a:lnTo>
                    <a:pt x="1037" y="679"/>
                  </a:lnTo>
                  <a:lnTo>
                    <a:pt x="1039" y="681"/>
                  </a:lnTo>
                  <a:lnTo>
                    <a:pt x="1041" y="683"/>
                  </a:lnTo>
                  <a:lnTo>
                    <a:pt x="1044" y="689"/>
                  </a:lnTo>
                  <a:lnTo>
                    <a:pt x="1041" y="697"/>
                  </a:lnTo>
                  <a:lnTo>
                    <a:pt x="1041" y="705"/>
                  </a:lnTo>
                  <a:lnTo>
                    <a:pt x="1043" y="709"/>
                  </a:lnTo>
                  <a:lnTo>
                    <a:pt x="1045" y="713"/>
                  </a:lnTo>
                  <a:lnTo>
                    <a:pt x="1046" y="717"/>
                  </a:lnTo>
                  <a:lnTo>
                    <a:pt x="1045" y="731"/>
                  </a:lnTo>
                  <a:lnTo>
                    <a:pt x="1044" y="744"/>
                  </a:lnTo>
                  <a:lnTo>
                    <a:pt x="1042" y="758"/>
                  </a:lnTo>
                  <a:lnTo>
                    <a:pt x="1041" y="758"/>
                  </a:lnTo>
                  <a:lnTo>
                    <a:pt x="1039" y="759"/>
                  </a:lnTo>
                  <a:lnTo>
                    <a:pt x="1038" y="759"/>
                  </a:lnTo>
                  <a:lnTo>
                    <a:pt x="1032" y="754"/>
                  </a:lnTo>
                  <a:lnTo>
                    <a:pt x="1031" y="747"/>
                  </a:lnTo>
                  <a:lnTo>
                    <a:pt x="1031" y="737"/>
                  </a:lnTo>
                  <a:lnTo>
                    <a:pt x="1027" y="748"/>
                  </a:lnTo>
                  <a:lnTo>
                    <a:pt x="1025" y="757"/>
                  </a:lnTo>
                  <a:lnTo>
                    <a:pt x="1021" y="765"/>
                  </a:lnTo>
                  <a:lnTo>
                    <a:pt x="1013" y="768"/>
                  </a:lnTo>
                  <a:lnTo>
                    <a:pt x="1006" y="756"/>
                  </a:lnTo>
                  <a:lnTo>
                    <a:pt x="998" y="741"/>
                  </a:lnTo>
                  <a:lnTo>
                    <a:pt x="994" y="741"/>
                  </a:lnTo>
                  <a:lnTo>
                    <a:pt x="991" y="742"/>
                  </a:lnTo>
                  <a:lnTo>
                    <a:pt x="989" y="744"/>
                  </a:lnTo>
                  <a:lnTo>
                    <a:pt x="988" y="750"/>
                  </a:lnTo>
                  <a:lnTo>
                    <a:pt x="987" y="756"/>
                  </a:lnTo>
                  <a:lnTo>
                    <a:pt x="984" y="759"/>
                  </a:lnTo>
                  <a:lnTo>
                    <a:pt x="965" y="766"/>
                  </a:lnTo>
                  <a:lnTo>
                    <a:pt x="947" y="774"/>
                  </a:lnTo>
                  <a:lnTo>
                    <a:pt x="938" y="787"/>
                  </a:lnTo>
                  <a:lnTo>
                    <a:pt x="939" y="797"/>
                  </a:lnTo>
                  <a:lnTo>
                    <a:pt x="940" y="807"/>
                  </a:lnTo>
                  <a:lnTo>
                    <a:pt x="937" y="815"/>
                  </a:lnTo>
                  <a:lnTo>
                    <a:pt x="917" y="835"/>
                  </a:lnTo>
                  <a:lnTo>
                    <a:pt x="896" y="853"/>
                  </a:lnTo>
                  <a:lnTo>
                    <a:pt x="869" y="863"/>
                  </a:lnTo>
                  <a:lnTo>
                    <a:pt x="867" y="865"/>
                  </a:lnTo>
                  <a:lnTo>
                    <a:pt x="839" y="900"/>
                  </a:lnTo>
                  <a:lnTo>
                    <a:pt x="803" y="927"/>
                  </a:lnTo>
                  <a:lnTo>
                    <a:pt x="767" y="956"/>
                  </a:lnTo>
                  <a:lnTo>
                    <a:pt x="752" y="967"/>
                  </a:lnTo>
                  <a:lnTo>
                    <a:pt x="734" y="977"/>
                  </a:lnTo>
                  <a:lnTo>
                    <a:pt x="714" y="986"/>
                  </a:lnTo>
                  <a:lnTo>
                    <a:pt x="712" y="988"/>
                  </a:lnTo>
                  <a:lnTo>
                    <a:pt x="711" y="992"/>
                  </a:lnTo>
                  <a:lnTo>
                    <a:pt x="711" y="994"/>
                  </a:lnTo>
                  <a:lnTo>
                    <a:pt x="716" y="997"/>
                  </a:lnTo>
                  <a:lnTo>
                    <a:pt x="717" y="1000"/>
                  </a:lnTo>
                  <a:lnTo>
                    <a:pt x="717" y="1004"/>
                  </a:lnTo>
                  <a:lnTo>
                    <a:pt x="717" y="1005"/>
                  </a:lnTo>
                  <a:lnTo>
                    <a:pt x="720" y="1007"/>
                  </a:lnTo>
                  <a:lnTo>
                    <a:pt x="723" y="1008"/>
                  </a:lnTo>
                  <a:lnTo>
                    <a:pt x="726" y="1010"/>
                  </a:lnTo>
                  <a:lnTo>
                    <a:pt x="727" y="1015"/>
                  </a:lnTo>
                  <a:lnTo>
                    <a:pt x="721" y="1021"/>
                  </a:lnTo>
                  <a:lnTo>
                    <a:pt x="696" y="1030"/>
                  </a:lnTo>
                  <a:lnTo>
                    <a:pt x="668" y="1035"/>
                  </a:lnTo>
                  <a:lnTo>
                    <a:pt x="647" y="1054"/>
                  </a:lnTo>
                  <a:lnTo>
                    <a:pt x="643" y="1057"/>
                  </a:lnTo>
                  <a:lnTo>
                    <a:pt x="637" y="1058"/>
                  </a:lnTo>
                  <a:lnTo>
                    <a:pt x="631" y="1060"/>
                  </a:lnTo>
                  <a:lnTo>
                    <a:pt x="629" y="1058"/>
                  </a:lnTo>
                  <a:lnTo>
                    <a:pt x="627" y="1054"/>
                  </a:lnTo>
                  <a:lnTo>
                    <a:pt x="625" y="1052"/>
                  </a:lnTo>
                  <a:lnTo>
                    <a:pt x="615" y="1052"/>
                  </a:lnTo>
                  <a:lnTo>
                    <a:pt x="607" y="1059"/>
                  </a:lnTo>
                  <a:lnTo>
                    <a:pt x="603" y="1068"/>
                  </a:lnTo>
                  <a:lnTo>
                    <a:pt x="602" y="1089"/>
                  </a:lnTo>
                  <a:lnTo>
                    <a:pt x="605" y="1111"/>
                  </a:lnTo>
                  <a:lnTo>
                    <a:pt x="603" y="1134"/>
                  </a:lnTo>
                  <a:lnTo>
                    <a:pt x="602" y="1141"/>
                  </a:lnTo>
                  <a:lnTo>
                    <a:pt x="604" y="1149"/>
                  </a:lnTo>
                  <a:lnTo>
                    <a:pt x="607" y="1157"/>
                  </a:lnTo>
                  <a:lnTo>
                    <a:pt x="609" y="1167"/>
                  </a:lnTo>
                  <a:lnTo>
                    <a:pt x="604" y="1177"/>
                  </a:lnTo>
                  <a:lnTo>
                    <a:pt x="595" y="1183"/>
                  </a:lnTo>
                  <a:lnTo>
                    <a:pt x="607" y="1183"/>
                  </a:lnTo>
                  <a:lnTo>
                    <a:pt x="615" y="1188"/>
                  </a:lnTo>
                  <a:lnTo>
                    <a:pt x="614" y="1199"/>
                  </a:lnTo>
                  <a:lnTo>
                    <a:pt x="611" y="1207"/>
                  </a:lnTo>
                  <a:lnTo>
                    <a:pt x="612" y="1216"/>
                  </a:lnTo>
                  <a:lnTo>
                    <a:pt x="610" y="1221"/>
                  </a:lnTo>
                  <a:lnTo>
                    <a:pt x="604" y="1229"/>
                  </a:lnTo>
                  <a:lnTo>
                    <a:pt x="598" y="1237"/>
                  </a:lnTo>
                  <a:lnTo>
                    <a:pt x="592" y="1246"/>
                  </a:lnTo>
                  <a:lnTo>
                    <a:pt x="582" y="1262"/>
                  </a:lnTo>
                  <a:lnTo>
                    <a:pt x="576" y="1280"/>
                  </a:lnTo>
                  <a:lnTo>
                    <a:pt x="575" y="1299"/>
                  </a:lnTo>
                  <a:lnTo>
                    <a:pt x="583" y="1294"/>
                  </a:lnTo>
                  <a:lnTo>
                    <a:pt x="589" y="1291"/>
                  </a:lnTo>
                  <a:lnTo>
                    <a:pt x="593" y="1293"/>
                  </a:lnTo>
                  <a:lnTo>
                    <a:pt x="596" y="1305"/>
                  </a:lnTo>
                  <a:lnTo>
                    <a:pt x="596" y="1318"/>
                  </a:lnTo>
                  <a:lnTo>
                    <a:pt x="593" y="1331"/>
                  </a:lnTo>
                  <a:lnTo>
                    <a:pt x="579" y="1341"/>
                  </a:lnTo>
                  <a:lnTo>
                    <a:pt x="562" y="1345"/>
                  </a:lnTo>
                  <a:lnTo>
                    <a:pt x="549" y="1358"/>
                  </a:lnTo>
                  <a:lnTo>
                    <a:pt x="553" y="1358"/>
                  </a:lnTo>
                  <a:lnTo>
                    <a:pt x="557" y="1359"/>
                  </a:lnTo>
                  <a:lnTo>
                    <a:pt x="557" y="1360"/>
                  </a:lnTo>
                  <a:lnTo>
                    <a:pt x="551" y="1373"/>
                  </a:lnTo>
                  <a:lnTo>
                    <a:pt x="546" y="1386"/>
                  </a:lnTo>
                  <a:lnTo>
                    <a:pt x="538" y="1396"/>
                  </a:lnTo>
                  <a:lnTo>
                    <a:pt x="528" y="1402"/>
                  </a:lnTo>
                  <a:lnTo>
                    <a:pt x="518" y="1405"/>
                  </a:lnTo>
                  <a:lnTo>
                    <a:pt x="507" y="1409"/>
                  </a:lnTo>
                  <a:lnTo>
                    <a:pt x="501" y="1416"/>
                  </a:lnTo>
                  <a:lnTo>
                    <a:pt x="500" y="1426"/>
                  </a:lnTo>
                  <a:lnTo>
                    <a:pt x="498" y="1437"/>
                  </a:lnTo>
                  <a:lnTo>
                    <a:pt x="490" y="1446"/>
                  </a:lnTo>
                  <a:lnTo>
                    <a:pt x="479" y="1451"/>
                  </a:lnTo>
                  <a:lnTo>
                    <a:pt x="467" y="1449"/>
                  </a:lnTo>
                  <a:lnTo>
                    <a:pt x="447" y="1434"/>
                  </a:lnTo>
                  <a:lnTo>
                    <a:pt x="430" y="1414"/>
                  </a:lnTo>
                  <a:lnTo>
                    <a:pt x="415" y="1393"/>
                  </a:lnTo>
                  <a:lnTo>
                    <a:pt x="407" y="1372"/>
                  </a:lnTo>
                  <a:lnTo>
                    <a:pt x="406" y="1348"/>
                  </a:lnTo>
                  <a:lnTo>
                    <a:pt x="400" y="1325"/>
                  </a:lnTo>
                  <a:lnTo>
                    <a:pt x="376" y="1285"/>
                  </a:lnTo>
                  <a:lnTo>
                    <a:pt x="352" y="1246"/>
                  </a:lnTo>
                  <a:lnTo>
                    <a:pt x="329" y="1206"/>
                  </a:lnTo>
                  <a:lnTo>
                    <a:pt x="327" y="1194"/>
                  </a:lnTo>
                  <a:lnTo>
                    <a:pt x="330" y="1182"/>
                  </a:lnTo>
                  <a:lnTo>
                    <a:pt x="330" y="1171"/>
                  </a:lnTo>
                  <a:lnTo>
                    <a:pt x="316" y="1136"/>
                  </a:lnTo>
                  <a:lnTo>
                    <a:pt x="301" y="1101"/>
                  </a:lnTo>
                  <a:lnTo>
                    <a:pt x="281" y="1068"/>
                  </a:lnTo>
                  <a:lnTo>
                    <a:pt x="272" y="1055"/>
                  </a:lnTo>
                  <a:lnTo>
                    <a:pt x="263" y="1042"/>
                  </a:lnTo>
                  <a:lnTo>
                    <a:pt x="256" y="1028"/>
                  </a:lnTo>
                  <a:lnTo>
                    <a:pt x="255" y="1020"/>
                  </a:lnTo>
                  <a:lnTo>
                    <a:pt x="255" y="1013"/>
                  </a:lnTo>
                  <a:lnTo>
                    <a:pt x="257" y="1004"/>
                  </a:lnTo>
                  <a:lnTo>
                    <a:pt x="258" y="990"/>
                  </a:lnTo>
                  <a:lnTo>
                    <a:pt x="257" y="976"/>
                  </a:lnTo>
                  <a:lnTo>
                    <a:pt x="251" y="962"/>
                  </a:lnTo>
                  <a:lnTo>
                    <a:pt x="247" y="949"/>
                  </a:lnTo>
                  <a:lnTo>
                    <a:pt x="244" y="935"/>
                  </a:lnTo>
                  <a:lnTo>
                    <a:pt x="240" y="922"/>
                  </a:lnTo>
                  <a:lnTo>
                    <a:pt x="238" y="915"/>
                  </a:lnTo>
                  <a:lnTo>
                    <a:pt x="239" y="908"/>
                  </a:lnTo>
                  <a:lnTo>
                    <a:pt x="245" y="903"/>
                  </a:lnTo>
                  <a:lnTo>
                    <a:pt x="243" y="903"/>
                  </a:lnTo>
                  <a:lnTo>
                    <a:pt x="241" y="903"/>
                  </a:lnTo>
                  <a:lnTo>
                    <a:pt x="239" y="902"/>
                  </a:lnTo>
                  <a:lnTo>
                    <a:pt x="235" y="893"/>
                  </a:lnTo>
                  <a:lnTo>
                    <a:pt x="239" y="885"/>
                  </a:lnTo>
                  <a:lnTo>
                    <a:pt x="242" y="876"/>
                  </a:lnTo>
                  <a:lnTo>
                    <a:pt x="238" y="876"/>
                  </a:lnTo>
                  <a:lnTo>
                    <a:pt x="235" y="874"/>
                  </a:lnTo>
                  <a:lnTo>
                    <a:pt x="232" y="873"/>
                  </a:lnTo>
                  <a:lnTo>
                    <a:pt x="232" y="855"/>
                  </a:lnTo>
                  <a:lnTo>
                    <a:pt x="233" y="838"/>
                  </a:lnTo>
                  <a:lnTo>
                    <a:pt x="237" y="822"/>
                  </a:lnTo>
                  <a:lnTo>
                    <a:pt x="239" y="807"/>
                  </a:lnTo>
                  <a:lnTo>
                    <a:pt x="236" y="789"/>
                  </a:lnTo>
                  <a:lnTo>
                    <a:pt x="226" y="773"/>
                  </a:lnTo>
                  <a:lnTo>
                    <a:pt x="227" y="770"/>
                  </a:lnTo>
                  <a:lnTo>
                    <a:pt x="231" y="768"/>
                  </a:lnTo>
                  <a:lnTo>
                    <a:pt x="231" y="764"/>
                  </a:lnTo>
                  <a:lnTo>
                    <a:pt x="228" y="761"/>
                  </a:lnTo>
                  <a:lnTo>
                    <a:pt x="225" y="757"/>
                  </a:lnTo>
                  <a:lnTo>
                    <a:pt x="223" y="753"/>
                  </a:lnTo>
                  <a:lnTo>
                    <a:pt x="223" y="743"/>
                  </a:lnTo>
                  <a:lnTo>
                    <a:pt x="228" y="732"/>
                  </a:lnTo>
                  <a:lnTo>
                    <a:pt x="232" y="721"/>
                  </a:lnTo>
                  <a:lnTo>
                    <a:pt x="225" y="721"/>
                  </a:lnTo>
                  <a:lnTo>
                    <a:pt x="219" y="721"/>
                  </a:lnTo>
                  <a:lnTo>
                    <a:pt x="212" y="721"/>
                  </a:lnTo>
                  <a:lnTo>
                    <a:pt x="214" y="728"/>
                  </a:lnTo>
                  <a:lnTo>
                    <a:pt x="211" y="733"/>
                  </a:lnTo>
                  <a:lnTo>
                    <a:pt x="207" y="738"/>
                  </a:lnTo>
                  <a:lnTo>
                    <a:pt x="206" y="747"/>
                  </a:lnTo>
                  <a:lnTo>
                    <a:pt x="209" y="756"/>
                  </a:lnTo>
                  <a:lnTo>
                    <a:pt x="209" y="762"/>
                  </a:lnTo>
                  <a:lnTo>
                    <a:pt x="201" y="776"/>
                  </a:lnTo>
                  <a:lnTo>
                    <a:pt x="189" y="788"/>
                  </a:lnTo>
                  <a:lnTo>
                    <a:pt x="176" y="794"/>
                  </a:lnTo>
                  <a:lnTo>
                    <a:pt x="156" y="799"/>
                  </a:lnTo>
                  <a:lnTo>
                    <a:pt x="136" y="804"/>
                  </a:lnTo>
                  <a:lnTo>
                    <a:pt x="116" y="803"/>
                  </a:lnTo>
                  <a:lnTo>
                    <a:pt x="114" y="802"/>
                  </a:lnTo>
                  <a:lnTo>
                    <a:pt x="113" y="800"/>
                  </a:lnTo>
                  <a:lnTo>
                    <a:pt x="113" y="797"/>
                  </a:lnTo>
                  <a:lnTo>
                    <a:pt x="109" y="803"/>
                  </a:lnTo>
                  <a:lnTo>
                    <a:pt x="104" y="800"/>
                  </a:lnTo>
                  <a:lnTo>
                    <a:pt x="101" y="796"/>
                  </a:lnTo>
                  <a:lnTo>
                    <a:pt x="98" y="787"/>
                  </a:lnTo>
                  <a:lnTo>
                    <a:pt x="96" y="778"/>
                  </a:lnTo>
                  <a:lnTo>
                    <a:pt x="90" y="771"/>
                  </a:lnTo>
                  <a:lnTo>
                    <a:pt x="70" y="757"/>
                  </a:lnTo>
                  <a:lnTo>
                    <a:pt x="54" y="742"/>
                  </a:lnTo>
                  <a:lnTo>
                    <a:pt x="45" y="721"/>
                  </a:lnTo>
                  <a:lnTo>
                    <a:pt x="45" y="719"/>
                  </a:lnTo>
                  <a:lnTo>
                    <a:pt x="48" y="717"/>
                  </a:lnTo>
                  <a:lnTo>
                    <a:pt x="50" y="714"/>
                  </a:lnTo>
                  <a:lnTo>
                    <a:pt x="54" y="717"/>
                  </a:lnTo>
                  <a:lnTo>
                    <a:pt x="59" y="719"/>
                  </a:lnTo>
                  <a:lnTo>
                    <a:pt x="60" y="724"/>
                  </a:lnTo>
                  <a:lnTo>
                    <a:pt x="81" y="715"/>
                  </a:lnTo>
                  <a:lnTo>
                    <a:pt x="99" y="702"/>
                  </a:lnTo>
                  <a:lnTo>
                    <a:pt x="116" y="688"/>
                  </a:lnTo>
                  <a:lnTo>
                    <a:pt x="112" y="686"/>
                  </a:lnTo>
                  <a:lnTo>
                    <a:pt x="108" y="684"/>
                  </a:lnTo>
                  <a:lnTo>
                    <a:pt x="104" y="685"/>
                  </a:lnTo>
                  <a:lnTo>
                    <a:pt x="88" y="690"/>
                  </a:lnTo>
                  <a:lnTo>
                    <a:pt x="72" y="686"/>
                  </a:lnTo>
                  <a:lnTo>
                    <a:pt x="58" y="686"/>
                  </a:lnTo>
                  <a:lnTo>
                    <a:pt x="53" y="688"/>
                  </a:lnTo>
                  <a:lnTo>
                    <a:pt x="48" y="689"/>
                  </a:lnTo>
                  <a:lnTo>
                    <a:pt x="44" y="688"/>
                  </a:lnTo>
                  <a:lnTo>
                    <a:pt x="31" y="674"/>
                  </a:lnTo>
                  <a:lnTo>
                    <a:pt x="17" y="662"/>
                  </a:lnTo>
                  <a:lnTo>
                    <a:pt x="2" y="650"/>
                  </a:lnTo>
                  <a:lnTo>
                    <a:pt x="0" y="644"/>
                  </a:lnTo>
                  <a:lnTo>
                    <a:pt x="0" y="634"/>
                  </a:lnTo>
                  <a:lnTo>
                    <a:pt x="1" y="625"/>
                  </a:lnTo>
                  <a:lnTo>
                    <a:pt x="10" y="629"/>
                  </a:lnTo>
                  <a:lnTo>
                    <a:pt x="18" y="628"/>
                  </a:lnTo>
                  <a:lnTo>
                    <a:pt x="27" y="625"/>
                  </a:lnTo>
                  <a:lnTo>
                    <a:pt x="27" y="619"/>
                  </a:lnTo>
                  <a:lnTo>
                    <a:pt x="33" y="615"/>
                  </a:lnTo>
                  <a:lnTo>
                    <a:pt x="34" y="609"/>
                  </a:lnTo>
                  <a:lnTo>
                    <a:pt x="43" y="608"/>
                  </a:lnTo>
                  <a:lnTo>
                    <a:pt x="53" y="611"/>
                  </a:lnTo>
                  <a:lnTo>
                    <a:pt x="64" y="610"/>
                  </a:lnTo>
                  <a:lnTo>
                    <a:pt x="68" y="609"/>
                  </a:lnTo>
                  <a:lnTo>
                    <a:pt x="73" y="609"/>
                  </a:lnTo>
                  <a:lnTo>
                    <a:pt x="78" y="614"/>
                  </a:lnTo>
                  <a:lnTo>
                    <a:pt x="87" y="616"/>
                  </a:lnTo>
                  <a:lnTo>
                    <a:pt x="98" y="611"/>
                  </a:lnTo>
                  <a:lnTo>
                    <a:pt x="109" y="610"/>
                  </a:lnTo>
                  <a:lnTo>
                    <a:pt x="120" y="612"/>
                  </a:lnTo>
                  <a:lnTo>
                    <a:pt x="130" y="612"/>
                  </a:lnTo>
                  <a:lnTo>
                    <a:pt x="139" y="610"/>
                  </a:lnTo>
                  <a:lnTo>
                    <a:pt x="146" y="605"/>
                  </a:lnTo>
                  <a:lnTo>
                    <a:pt x="149" y="595"/>
                  </a:lnTo>
                  <a:lnTo>
                    <a:pt x="148" y="586"/>
                  </a:lnTo>
                  <a:lnTo>
                    <a:pt x="138" y="570"/>
                  </a:lnTo>
                  <a:lnTo>
                    <a:pt x="129" y="552"/>
                  </a:lnTo>
                  <a:lnTo>
                    <a:pt x="126" y="533"/>
                  </a:lnTo>
                  <a:lnTo>
                    <a:pt x="120" y="533"/>
                  </a:lnTo>
                  <a:lnTo>
                    <a:pt x="115" y="533"/>
                  </a:lnTo>
                  <a:lnTo>
                    <a:pt x="111" y="532"/>
                  </a:lnTo>
                  <a:lnTo>
                    <a:pt x="103" y="520"/>
                  </a:lnTo>
                  <a:lnTo>
                    <a:pt x="99" y="508"/>
                  </a:lnTo>
                  <a:lnTo>
                    <a:pt x="98" y="493"/>
                  </a:lnTo>
                  <a:lnTo>
                    <a:pt x="98" y="490"/>
                  </a:lnTo>
                  <a:lnTo>
                    <a:pt x="97" y="486"/>
                  </a:lnTo>
                  <a:lnTo>
                    <a:pt x="93" y="484"/>
                  </a:lnTo>
                  <a:lnTo>
                    <a:pt x="84" y="483"/>
                  </a:lnTo>
                  <a:lnTo>
                    <a:pt x="76" y="480"/>
                  </a:lnTo>
                  <a:lnTo>
                    <a:pt x="71" y="473"/>
                  </a:lnTo>
                  <a:lnTo>
                    <a:pt x="70" y="468"/>
                  </a:lnTo>
                  <a:lnTo>
                    <a:pt x="70" y="462"/>
                  </a:lnTo>
                  <a:lnTo>
                    <a:pt x="71" y="457"/>
                  </a:lnTo>
                  <a:lnTo>
                    <a:pt x="72" y="457"/>
                  </a:lnTo>
                  <a:lnTo>
                    <a:pt x="74" y="457"/>
                  </a:lnTo>
                  <a:lnTo>
                    <a:pt x="76" y="456"/>
                  </a:lnTo>
                  <a:lnTo>
                    <a:pt x="77" y="451"/>
                  </a:lnTo>
                  <a:lnTo>
                    <a:pt x="77" y="444"/>
                  </a:lnTo>
                  <a:lnTo>
                    <a:pt x="80" y="442"/>
                  </a:lnTo>
                  <a:lnTo>
                    <a:pt x="95" y="434"/>
                  </a:lnTo>
                  <a:lnTo>
                    <a:pt x="102" y="419"/>
                  </a:lnTo>
                  <a:lnTo>
                    <a:pt x="108" y="407"/>
                  </a:lnTo>
                  <a:lnTo>
                    <a:pt x="119" y="408"/>
                  </a:lnTo>
                  <a:lnTo>
                    <a:pt x="131" y="417"/>
                  </a:lnTo>
                  <a:lnTo>
                    <a:pt x="146" y="419"/>
                  </a:lnTo>
                  <a:lnTo>
                    <a:pt x="155" y="418"/>
                  </a:lnTo>
                  <a:lnTo>
                    <a:pt x="164" y="418"/>
                  </a:lnTo>
                  <a:lnTo>
                    <a:pt x="171" y="416"/>
                  </a:lnTo>
                  <a:lnTo>
                    <a:pt x="182" y="401"/>
                  </a:lnTo>
                  <a:lnTo>
                    <a:pt x="193" y="385"/>
                  </a:lnTo>
                  <a:lnTo>
                    <a:pt x="206" y="372"/>
                  </a:lnTo>
                  <a:lnTo>
                    <a:pt x="220" y="363"/>
                  </a:lnTo>
                  <a:lnTo>
                    <a:pt x="233" y="354"/>
                  </a:lnTo>
                  <a:lnTo>
                    <a:pt x="244" y="343"/>
                  </a:lnTo>
                  <a:lnTo>
                    <a:pt x="251" y="332"/>
                  </a:lnTo>
                  <a:lnTo>
                    <a:pt x="256" y="320"/>
                  </a:lnTo>
                  <a:lnTo>
                    <a:pt x="262" y="309"/>
                  </a:lnTo>
                  <a:lnTo>
                    <a:pt x="271" y="302"/>
                  </a:lnTo>
                  <a:lnTo>
                    <a:pt x="280" y="299"/>
                  </a:lnTo>
                  <a:lnTo>
                    <a:pt x="291" y="297"/>
                  </a:lnTo>
                  <a:lnTo>
                    <a:pt x="294" y="293"/>
                  </a:lnTo>
                  <a:lnTo>
                    <a:pt x="292" y="288"/>
                  </a:lnTo>
                  <a:lnTo>
                    <a:pt x="292" y="282"/>
                  </a:lnTo>
                  <a:lnTo>
                    <a:pt x="305" y="267"/>
                  </a:lnTo>
                  <a:lnTo>
                    <a:pt x="320" y="255"/>
                  </a:lnTo>
                  <a:lnTo>
                    <a:pt x="334" y="242"/>
                  </a:lnTo>
                  <a:lnTo>
                    <a:pt x="328" y="241"/>
                  </a:lnTo>
                  <a:lnTo>
                    <a:pt x="324" y="237"/>
                  </a:lnTo>
                  <a:lnTo>
                    <a:pt x="318" y="236"/>
                  </a:lnTo>
                  <a:lnTo>
                    <a:pt x="319" y="229"/>
                  </a:lnTo>
                  <a:lnTo>
                    <a:pt x="322" y="225"/>
                  </a:lnTo>
                  <a:lnTo>
                    <a:pt x="328" y="222"/>
                  </a:lnTo>
                  <a:lnTo>
                    <a:pt x="319" y="217"/>
                  </a:lnTo>
                  <a:lnTo>
                    <a:pt x="319" y="208"/>
                  </a:lnTo>
                  <a:lnTo>
                    <a:pt x="323" y="200"/>
                  </a:lnTo>
                  <a:lnTo>
                    <a:pt x="334" y="189"/>
                  </a:lnTo>
                  <a:lnTo>
                    <a:pt x="348" y="181"/>
                  </a:lnTo>
                  <a:lnTo>
                    <a:pt x="364" y="179"/>
                  </a:lnTo>
                  <a:lnTo>
                    <a:pt x="356" y="168"/>
                  </a:lnTo>
                  <a:lnTo>
                    <a:pt x="341" y="167"/>
                  </a:lnTo>
                  <a:lnTo>
                    <a:pt x="329" y="162"/>
                  </a:lnTo>
                  <a:lnTo>
                    <a:pt x="330" y="157"/>
                  </a:lnTo>
                  <a:lnTo>
                    <a:pt x="337" y="153"/>
                  </a:lnTo>
                  <a:lnTo>
                    <a:pt x="337" y="148"/>
                  </a:lnTo>
                  <a:lnTo>
                    <a:pt x="328" y="148"/>
                  </a:lnTo>
                  <a:lnTo>
                    <a:pt x="318" y="152"/>
                  </a:lnTo>
                  <a:lnTo>
                    <a:pt x="309" y="149"/>
                  </a:lnTo>
                  <a:lnTo>
                    <a:pt x="303" y="139"/>
                  </a:lnTo>
                  <a:lnTo>
                    <a:pt x="298" y="127"/>
                  </a:lnTo>
                  <a:lnTo>
                    <a:pt x="291" y="117"/>
                  </a:lnTo>
                  <a:lnTo>
                    <a:pt x="295" y="117"/>
                  </a:lnTo>
                  <a:lnTo>
                    <a:pt x="298" y="117"/>
                  </a:lnTo>
                  <a:lnTo>
                    <a:pt x="301" y="116"/>
                  </a:lnTo>
                  <a:lnTo>
                    <a:pt x="304" y="115"/>
                  </a:lnTo>
                  <a:lnTo>
                    <a:pt x="305" y="112"/>
                  </a:lnTo>
                  <a:lnTo>
                    <a:pt x="304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1" y="94"/>
                  </a:lnTo>
                  <a:lnTo>
                    <a:pt x="297" y="94"/>
                  </a:lnTo>
                  <a:lnTo>
                    <a:pt x="303" y="94"/>
                  </a:lnTo>
                  <a:lnTo>
                    <a:pt x="308" y="93"/>
                  </a:lnTo>
                  <a:lnTo>
                    <a:pt x="310" y="90"/>
                  </a:lnTo>
                  <a:lnTo>
                    <a:pt x="311" y="87"/>
                  </a:lnTo>
                  <a:lnTo>
                    <a:pt x="311" y="85"/>
                  </a:lnTo>
                  <a:lnTo>
                    <a:pt x="298" y="74"/>
                  </a:lnTo>
                  <a:lnTo>
                    <a:pt x="295" y="59"/>
                  </a:lnTo>
                  <a:lnTo>
                    <a:pt x="299" y="45"/>
                  </a:lnTo>
                  <a:lnTo>
                    <a:pt x="320" y="37"/>
                  </a:lnTo>
                  <a:lnTo>
                    <a:pt x="344" y="43"/>
                  </a:lnTo>
                  <a:lnTo>
                    <a:pt x="368" y="52"/>
                  </a:lnTo>
                  <a:lnTo>
                    <a:pt x="387" y="52"/>
                  </a:lnTo>
                  <a:lnTo>
                    <a:pt x="407" y="44"/>
                  </a:lnTo>
                  <a:lnTo>
                    <a:pt x="426" y="37"/>
                  </a:lnTo>
                  <a:lnTo>
                    <a:pt x="441" y="31"/>
                  </a:lnTo>
                  <a:lnTo>
                    <a:pt x="457" y="20"/>
                  </a:lnTo>
                  <a:lnTo>
                    <a:pt x="471" y="5"/>
                  </a:lnTo>
                  <a:lnTo>
                    <a:pt x="482" y="0"/>
                  </a:lnTo>
                  <a:lnTo>
                    <a:pt x="493" y="2"/>
                  </a:lnTo>
                  <a:lnTo>
                    <a:pt x="500" y="9"/>
                  </a:lnTo>
                  <a:lnTo>
                    <a:pt x="510" y="30"/>
                  </a:lnTo>
                  <a:lnTo>
                    <a:pt x="524" y="47"/>
                  </a:lnTo>
                  <a:lnTo>
                    <a:pt x="541" y="63"/>
                  </a:lnTo>
                  <a:lnTo>
                    <a:pt x="542" y="72"/>
                  </a:lnTo>
                  <a:lnTo>
                    <a:pt x="535" y="84"/>
                  </a:lnTo>
                  <a:lnTo>
                    <a:pt x="533" y="97"/>
                  </a:lnTo>
                  <a:lnTo>
                    <a:pt x="542" y="109"/>
                  </a:lnTo>
                  <a:lnTo>
                    <a:pt x="554" y="120"/>
                  </a:lnTo>
                  <a:lnTo>
                    <a:pt x="567" y="129"/>
                  </a:lnTo>
                  <a:lnTo>
                    <a:pt x="574" y="141"/>
                  </a:lnTo>
                  <a:lnTo>
                    <a:pt x="566" y="157"/>
                  </a:lnTo>
                  <a:lnTo>
                    <a:pt x="557" y="173"/>
                  </a:lnTo>
                  <a:lnTo>
                    <a:pt x="555" y="175"/>
                  </a:lnTo>
                  <a:lnTo>
                    <a:pt x="551" y="177"/>
                  </a:lnTo>
                  <a:lnTo>
                    <a:pt x="546" y="176"/>
                  </a:lnTo>
                  <a:lnTo>
                    <a:pt x="541" y="172"/>
                  </a:lnTo>
                  <a:lnTo>
                    <a:pt x="536" y="168"/>
                  </a:lnTo>
                  <a:lnTo>
                    <a:pt x="532" y="164"/>
                  </a:lnTo>
                  <a:lnTo>
                    <a:pt x="525" y="163"/>
                  </a:lnTo>
                  <a:lnTo>
                    <a:pt x="520" y="165"/>
                  </a:lnTo>
                  <a:lnTo>
                    <a:pt x="518" y="169"/>
                  </a:lnTo>
                  <a:lnTo>
                    <a:pt x="527" y="187"/>
                  </a:lnTo>
                  <a:lnTo>
                    <a:pt x="531" y="206"/>
                  </a:lnTo>
                  <a:lnTo>
                    <a:pt x="526" y="226"/>
                  </a:lnTo>
                  <a:lnTo>
                    <a:pt x="533" y="226"/>
                  </a:lnTo>
                  <a:lnTo>
                    <a:pt x="539" y="228"/>
                  </a:lnTo>
                  <a:lnTo>
                    <a:pt x="547" y="227"/>
                  </a:lnTo>
                  <a:lnTo>
                    <a:pt x="554" y="229"/>
                  </a:lnTo>
                  <a:lnTo>
                    <a:pt x="558" y="237"/>
                  </a:lnTo>
                  <a:lnTo>
                    <a:pt x="563" y="244"/>
                  </a:lnTo>
                  <a:lnTo>
                    <a:pt x="587" y="255"/>
                  </a:lnTo>
                  <a:lnTo>
                    <a:pt x="609" y="267"/>
                  </a:lnTo>
                  <a:lnTo>
                    <a:pt x="629" y="283"/>
                  </a:lnTo>
                  <a:lnTo>
                    <a:pt x="639" y="290"/>
                  </a:lnTo>
                  <a:lnTo>
                    <a:pt x="635" y="296"/>
                  </a:lnTo>
                  <a:lnTo>
                    <a:pt x="631" y="302"/>
                  </a:lnTo>
                  <a:lnTo>
                    <a:pt x="626" y="307"/>
                  </a:lnTo>
                  <a:lnTo>
                    <a:pt x="616" y="312"/>
                  </a:lnTo>
                  <a:lnTo>
                    <a:pt x="608" y="316"/>
                  </a:lnTo>
                  <a:lnTo>
                    <a:pt x="604" y="324"/>
                  </a:lnTo>
                  <a:lnTo>
                    <a:pt x="603" y="332"/>
                  </a:lnTo>
                  <a:lnTo>
                    <a:pt x="604" y="341"/>
                  </a:lnTo>
                  <a:lnTo>
                    <a:pt x="602" y="351"/>
                  </a:lnTo>
                  <a:lnTo>
                    <a:pt x="598" y="356"/>
                  </a:lnTo>
                  <a:lnTo>
                    <a:pt x="596" y="363"/>
                  </a:lnTo>
                  <a:lnTo>
                    <a:pt x="597" y="367"/>
                  </a:lnTo>
                  <a:lnTo>
                    <a:pt x="606" y="375"/>
                  </a:lnTo>
                  <a:lnTo>
                    <a:pt x="615" y="383"/>
                  </a:lnTo>
                  <a:lnTo>
                    <a:pt x="626" y="380"/>
                  </a:lnTo>
                  <a:lnTo>
                    <a:pt x="627" y="380"/>
                  </a:lnTo>
                  <a:lnTo>
                    <a:pt x="629" y="381"/>
                  </a:lnTo>
                  <a:lnTo>
                    <a:pt x="630" y="382"/>
                  </a:lnTo>
                  <a:lnTo>
                    <a:pt x="632" y="385"/>
                  </a:lnTo>
                  <a:lnTo>
                    <a:pt x="634" y="388"/>
                  </a:lnTo>
                  <a:lnTo>
                    <a:pt x="636" y="391"/>
                  </a:lnTo>
                  <a:lnTo>
                    <a:pt x="639" y="392"/>
                  </a:lnTo>
                  <a:lnTo>
                    <a:pt x="643" y="392"/>
                  </a:lnTo>
                  <a:lnTo>
                    <a:pt x="647" y="393"/>
                  </a:lnTo>
                  <a:lnTo>
                    <a:pt x="657" y="400"/>
                  </a:lnTo>
                  <a:lnTo>
                    <a:pt x="666" y="408"/>
                  </a:lnTo>
                  <a:lnTo>
                    <a:pt x="675" y="415"/>
                  </a:lnTo>
                  <a:lnTo>
                    <a:pt x="682" y="416"/>
                  </a:lnTo>
                  <a:lnTo>
                    <a:pt x="689" y="417"/>
                  </a:lnTo>
                  <a:lnTo>
                    <a:pt x="695" y="418"/>
                  </a:lnTo>
                  <a:lnTo>
                    <a:pt x="698" y="421"/>
                  </a:lnTo>
                  <a:lnTo>
                    <a:pt x="702" y="423"/>
                  </a:lnTo>
                  <a:lnTo>
                    <a:pt x="705" y="426"/>
                  </a:lnTo>
                  <a:lnTo>
                    <a:pt x="709" y="426"/>
                  </a:lnTo>
                  <a:lnTo>
                    <a:pt x="714" y="426"/>
                  </a:lnTo>
                  <a:lnTo>
                    <a:pt x="718" y="427"/>
                  </a:lnTo>
                  <a:lnTo>
                    <a:pt x="729" y="433"/>
                  </a:lnTo>
                  <a:lnTo>
                    <a:pt x="739" y="440"/>
                  </a:lnTo>
                  <a:lnTo>
                    <a:pt x="751" y="443"/>
                  </a:lnTo>
                  <a:lnTo>
                    <a:pt x="753" y="444"/>
                  </a:lnTo>
                  <a:lnTo>
                    <a:pt x="753" y="447"/>
                  </a:lnTo>
                  <a:lnTo>
                    <a:pt x="755" y="449"/>
                  </a:lnTo>
                  <a:lnTo>
                    <a:pt x="760" y="450"/>
                  </a:lnTo>
                  <a:lnTo>
                    <a:pt x="765" y="448"/>
                  </a:lnTo>
                  <a:lnTo>
                    <a:pt x="766" y="443"/>
                  </a:lnTo>
                  <a:lnTo>
                    <a:pt x="780" y="443"/>
                  </a:lnTo>
                  <a:lnTo>
                    <a:pt x="795" y="443"/>
                  </a:lnTo>
                  <a:lnTo>
                    <a:pt x="809" y="445"/>
                  </a:lnTo>
                  <a:lnTo>
                    <a:pt x="814" y="447"/>
                  </a:lnTo>
                  <a:lnTo>
                    <a:pt x="819" y="449"/>
                  </a:lnTo>
                  <a:lnTo>
                    <a:pt x="824" y="451"/>
                  </a:lnTo>
                  <a:lnTo>
                    <a:pt x="826" y="456"/>
                  </a:lnTo>
                  <a:lnTo>
                    <a:pt x="826" y="461"/>
                  </a:lnTo>
                  <a:lnTo>
                    <a:pt x="829" y="465"/>
                  </a:lnTo>
                  <a:lnTo>
                    <a:pt x="832" y="465"/>
                  </a:lnTo>
                  <a:lnTo>
                    <a:pt x="835" y="465"/>
                  </a:lnTo>
                  <a:lnTo>
                    <a:pt x="837" y="466"/>
                  </a:lnTo>
                  <a:lnTo>
                    <a:pt x="840" y="469"/>
                  </a:lnTo>
                  <a:lnTo>
                    <a:pt x="843" y="472"/>
                  </a:lnTo>
                  <a:lnTo>
                    <a:pt x="846" y="476"/>
                  </a:lnTo>
                  <a:lnTo>
                    <a:pt x="848" y="478"/>
                  </a:lnTo>
                  <a:lnTo>
                    <a:pt x="852" y="480"/>
                  </a:lnTo>
                  <a:lnTo>
                    <a:pt x="855" y="482"/>
                  </a:lnTo>
                  <a:lnTo>
                    <a:pt x="862" y="482"/>
                  </a:lnTo>
                  <a:lnTo>
                    <a:pt x="869" y="479"/>
                  </a:lnTo>
                  <a:lnTo>
                    <a:pt x="874" y="480"/>
                  </a:lnTo>
                  <a:lnTo>
                    <a:pt x="878" y="485"/>
                  </a:lnTo>
                  <a:lnTo>
                    <a:pt x="882" y="489"/>
                  </a:lnTo>
                  <a:lnTo>
                    <a:pt x="886" y="491"/>
                  </a:lnTo>
                  <a:lnTo>
                    <a:pt x="895" y="490"/>
                  </a:lnTo>
                  <a:lnTo>
                    <a:pt x="904" y="489"/>
                  </a:lnTo>
                  <a:lnTo>
                    <a:pt x="913" y="491"/>
                  </a:lnTo>
                  <a:lnTo>
                    <a:pt x="913" y="491"/>
                  </a:lnTo>
                  <a:lnTo>
                    <a:pt x="913" y="493"/>
                  </a:lnTo>
                  <a:lnTo>
                    <a:pt x="914" y="494"/>
                  </a:lnTo>
                  <a:lnTo>
                    <a:pt x="920" y="498"/>
                  </a:lnTo>
                  <a:lnTo>
                    <a:pt x="928" y="499"/>
                  </a:lnTo>
                  <a:lnTo>
                    <a:pt x="936" y="499"/>
                  </a:lnTo>
                  <a:lnTo>
                    <a:pt x="938" y="498"/>
                  </a:lnTo>
                  <a:lnTo>
                    <a:pt x="940" y="496"/>
                  </a:lnTo>
                  <a:lnTo>
                    <a:pt x="941" y="496"/>
                  </a:lnTo>
                  <a:lnTo>
                    <a:pt x="955" y="496"/>
                  </a:lnTo>
                  <a:lnTo>
                    <a:pt x="970" y="498"/>
                  </a:lnTo>
                  <a:lnTo>
                    <a:pt x="984" y="499"/>
                  </a:lnTo>
                  <a:lnTo>
                    <a:pt x="989" y="499"/>
                  </a:lnTo>
                  <a:lnTo>
                    <a:pt x="996" y="499"/>
                  </a:lnTo>
                  <a:lnTo>
                    <a:pt x="1002" y="498"/>
                  </a:lnTo>
                  <a:lnTo>
                    <a:pt x="1005" y="495"/>
                  </a:lnTo>
                  <a:lnTo>
                    <a:pt x="1007" y="491"/>
                  </a:lnTo>
                  <a:lnTo>
                    <a:pt x="1008" y="487"/>
                  </a:lnTo>
                  <a:lnTo>
                    <a:pt x="1006" y="480"/>
                  </a:lnTo>
                  <a:lnTo>
                    <a:pt x="1003" y="473"/>
                  </a:lnTo>
                  <a:lnTo>
                    <a:pt x="1001" y="466"/>
                  </a:lnTo>
                  <a:lnTo>
                    <a:pt x="1000" y="457"/>
                  </a:lnTo>
                  <a:lnTo>
                    <a:pt x="1000" y="449"/>
                  </a:lnTo>
                  <a:lnTo>
                    <a:pt x="1001" y="440"/>
                  </a:lnTo>
                  <a:lnTo>
                    <a:pt x="1004" y="436"/>
                  </a:lnTo>
                  <a:lnTo>
                    <a:pt x="1008" y="434"/>
                  </a:lnTo>
                  <a:lnTo>
                    <a:pt x="1012" y="433"/>
                  </a:lnTo>
                  <a:lnTo>
                    <a:pt x="1011" y="429"/>
                  </a:lnTo>
                  <a:lnTo>
                    <a:pt x="1010" y="426"/>
                  </a:lnTo>
                  <a:lnTo>
                    <a:pt x="1011" y="422"/>
                  </a:lnTo>
                  <a:lnTo>
                    <a:pt x="1012" y="420"/>
                  </a:lnTo>
                  <a:lnTo>
                    <a:pt x="1018" y="415"/>
                  </a:lnTo>
                  <a:lnTo>
                    <a:pt x="1027" y="410"/>
                  </a:lnTo>
                  <a:lnTo>
                    <a:pt x="1029" y="410"/>
                  </a:lnTo>
                  <a:lnTo>
                    <a:pt x="1034" y="409"/>
                  </a:lnTo>
                  <a:lnTo>
                    <a:pt x="1037" y="413"/>
                  </a:lnTo>
                  <a:lnTo>
                    <a:pt x="1037" y="422"/>
                  </a:lnTo>
                  <a:lnTo>
                    <a:pt x="1039" y="430"/>
                  </a:lnTo>
                  <a:lnTo>
                    <a:pt x="1041" y="436"/>
                  </a:lnTo>
                  <a:lnTo>
                    <a:pt x="1042" y="4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62320" y="3030480"/>
              <a:ext cx="898560" cy="92916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5" y="138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0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199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0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1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2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2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2" y="331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49" y="394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8"/>
                  </a:lnTo>
                  <a:lnTo>
                    <a:pt x="601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9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1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8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2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1" y="615"/>
                  </a:lnTo>
                  <a:lnTo>
                    <a:pt x="480" y="626"/>
                  </a:lnTo>
                  <a:lnTo>
                    <a:pt x="484" y="628"/>
                  </a:lnTo>
                  <a:lnTo>
                    <a:pt x="490" y="628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5"/>
                  </a:lnTo>
                  <a:lnTo>
                    <a:pt x="499" y="707"/>
                  </a:lnTo>
                  <a:lnTo>
                    <a:pt x="489" y="707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7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3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1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9"/>
                  </a:lnTo>
                  <a:lnTo>
                    <a:pt x="41" y="657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5" y="624"/>
                  </a:lnTo>
                  <a:lnTo>
                    <a:pt x="46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4"/>
                  </a:lnTo>
                  <a:lnTo>
                    <a:pt x="79" y="591"/>
                  </a:lnTo>
                  <a:lnTo>
                    <a:pt x="80" y="586"/>
                  </a:lnTo>
                  <a:lnTo>
                    <a:pt x="83" y="582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8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5" y="489"/>
                  </a:lnTo>
                  <a:lnTo>
                    <a:pt x="79" y="492"/>
                  </a:lnTo>
                  <a:lnTo>
                    <a:pt x="73" y="491"/>
                  </a:lnTo>
                  <a:lnTo>
                    <a:pt x="72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8"/>
                  </a:lnTo>
                  <a:lnTo>
                    <a:pt x="29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9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4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5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0" y="378"/>
                  </a:lnTo>
                  <a:lnTo>
                    <a:pt x="282" y="373"/>
                  </a:lnTo>
                  <a:lnTo>
                    <a:pt x="282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6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2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6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6" y="175"/>
                  </a:lnTo>
                  <a:lnTo>
                    <a:pt x="478" y="173"/>
                  </a:lnTo>
                  <a:lnTo>
                    <a:pt x="492" y="175"/>
                  </a:lnTo>
                  <a:lnTo>
                    <a:pt x="500" y="179"/>
                  </a:lnTo>
                  <a:lnTo>
                    <a:pt x="510" y="181"/>
                  </a:lnTo>
                  <a:lnTo>
                    <a:pt x="517" y="179"/>
                  </a:lnTo>
                  <a:lnTo>
                    <a:pt x="521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7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5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5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1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2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4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2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0"/>
                  </a:lnTo>
                  <a:lnTo>
                    <a:pt x="811" y="77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62320" y="3030480"/>
              <a:ext cx="898560" cy="929160"/>
            </a:xfrm>
            <a:custGeom>
              <a:avLst/>
              <a:gdLst/>
              <a:ahLst/>
              <a:rect l="l" t="t" r="r" b="b"/>
              <a:pathLst>
                <a:path w="852" h="744">
                  <a:moveTo>
                    <a:pt x="840" y="100"/>
                  </a:moveTo>
                  <a:lnTo>
                    <a:pt x="826" y="114"/>
                  </a:lnTo>
                  <a:lnTo>
                    <a:pt x="810" y="125"/>
                  </a:lnTo>
                  <a:lnTo>
                    <a:pt x="795" y="131"/>
                  </a:lnTo>
                  <a:lnTo>
                    <a:pt x="776" y="139"/>
                  </a:lnTo>
                  <a:lnTo>
                    <a:pt x="756" y="146"/>
                  </a:lnTo>
                  <a:lnTo>
                    <a:pt x="737" y="146"/>
                  </a:lnTo>
                  <a:lnTo>
                    <a:pt x="713" y="137"/>
                  </a:lnTo>
                  <a:lnTo>
                    <a:pt x="689" y="131"/>
                  </a:lnTo>
                  <a:lnTo>
                    <a:pt x="669" y="139"/>
                  </a:lnTo>
                  <a:lnTo>
                    <a:pt x="664" y="153"/>
                  </a:lnTo>
                  <a:lnTo>
                    <a:pt x="667" y="168"/>
                  </a:lnTo>
                  <a:lnTo>
                    <a:pt x="680" y="179"/>
                  </a:lnTo>
                  <a:lnTo>
                    <a:pt x="681" y="181"/>
                  </a:lnTo>
                  <a:lnTo>
                    <a:pt x="679" y="184"/>
                  </a:lnTo>
                  <a:lnTo>
                    <a:pt x="677" y="187"/>
                  </a:lnTo>
                  <a:lnTo>
                    <a:pt x="672" y="188"/>
                  </a:lnTo>
                  <a:lnTo>
                    <a:pt x="666" y="188"/>
                  </a:lnTo>
                  <a:lnTo>
                    <a:pt x="661" y="188"/>
                  </a:lnTo>
                  <a:lnTo>
                    <a:pt x="666" y="192"/>
                  </a:lnTo>
                  <a:lnTo>
                    <a:pt x="668" y="200"/>
                  </a:lnTo>
                  <a:lnTo>
                    <a:pt x="674" y="205"/>
                  </a:lnTo>
                  <a:lnTo>
                    <a:pt x="674" y="207"/>
                  </a:lnTo>
                  <a:lnTo>
                    <a:pt x="673" y="209"/>
                  </a:lnTo>
                  <a:lnTo>
                    <a:pt x="670" y="211"/>
                  </a:lnTo>
                  <a:lnTo>
                    <a:pt x="667" y="211"/>
                  </a:lnTo>
                  <a:lnTo>
                    <a:pt x="664" y="211"/>
                  </a:lnTo>
                  <a:lnTo>
                    <a:pt x="661" y="211"/>
                  </a:lnTo>
                  <a:lnTo>
                    <a:pt x="667" y="222"/>
                  </a:lnTo>
                  <a:lnTo>
                    <a:pt x="672" y="233"/>
                  </a:lnTo>
                  <a:lnTo>
                    <a:pt x="678" y="243"/>
                  </a:lnTo>
                  <a:lnTo>
                    <a:pt x="687" y="246"/>
                  </a:lnTo>
                  <a:lnTo>
                    <a:pt x="697" y="243"/>
                  </a:lnTo>
                  <a:lnTo>
                    <a:pt x="706" y="242"/>
                  </a:lnTo>
                  <a:lnTo>
                    <a:pt x="706" y="247"/>
                  </a:lnTo>
                  <a:lnTo>
                    <a:pt x="700" y="251"/>
                  </a:lnTo>
                  <a:lnTo>
                    <a:pt x="698" y="256"/>
                  </a:lnTo>
                  <a:lnTo>
                    <a:pt x="710" y="261"/>
                  </a:lnTo>
                  <a:lnTo>
                    <a:pt x="725" y="263"/>
                  </a:lnTo>
                  <a:lnTo>
                    <a:pt x="733" y="274"/>
                  </a:lnTo>
                  <a:lnTo>
                    <a:pt x="717" y="275"/>
                  </a:lnTo>
                  <a:lnTo>
                    <a:pt x="703" y="283"/>
                  </a:lnTo>
                  <a:lnTo>
                    <a:pt x="692" y="294"/>
                  </a:lnTo>
                  <a:lnTo>
                    <a:pt x="688" y="302"/>
                  </a:lnTo>
                  <a:lnTo>
                    <a:pt x="688" y="311"/>
                  </a:lnTo>
                  <a:lnTo>
                    <a:pt x="697" y="317"/>
                  </a:lnTo>
                  <a:lnTo>
                    <a:pt x="691" y="319"/>
                  </a:lnTo>
                  <a:lnTo>
                    <a:pt x="688" y="324"/>
                  </a:lnTo>
                  <a:lnTo>
                    <a:pt x="687" y="330"/>
                  </a:lnTo>
                  <a:lnTo>
                    <a:pt x="693" y="332"/>
                  </a:lnTo>
                  <a:lnTo>
                    <a:pt x="698" y="335"/>
                  </a:lnTo>
                  <a:lnTo>
                    <a:pt x="704" y="336"/>
                  </a:lnTo>
                  <a:lnTo>
                    <a:pt x="689" y="349"/>
                  </a:lnTo>
                  <a:lnTo>
                    <a:pt x="674" y="361"/>
                  </a:lnTo>
                  <a:lnTo>
                    <a:pt x="661" y="376"/>
                  </a:lnTo>
                  <a:lnTo>
                    <a:pt x="661" y="382"/>
                  </a:lnTo>
                  <a:lnTo>
                    <a:pt x="663" y="388"/>
                  </a:lnTo>
                  <a:lnTo>
                    <a:pt x="660" y="392"/>
                  </a:lnTo>
                  <a:lnTo>
                    <a:pt x="650" y="393"/>
                  </a:lnTo>
                  <a:lnTo>
                    <a:pt x="640" y="396"/>
                  </a:lnTo>
                  <a:lnTo>
                    <a:pt x="632" y="403"/>
                  </a:lnTo>
                  <a:lnTo>
                    <a:pt x="625" y="415"/>
                  </a:lnTo>
                  <a:lnTo>
                    <a:pt x="620" y="427"/>
                  </a:lnTo>
                  <a:lnTo>
                    <a:pt x="613" y="437"/>
                  </a:lnTo>
                  <a:lnTo>
                    <a:pt x="602" y="448"/>
                  </a:lnTo>
                  <a:lnTo>
                    <a:pt x="589" y="457"/>
                  </a:lnTo>
                  <a:lnTo>
                    <a:pt x="575" y="466"/>
                  </a:lnTo>
                  <a:lnTo>
                    <a:pt x="562" y="480"/>
                  </a:lnTo>
                  <a:lnTo>
                    <a:pt x="551" y="495"/>
                  </a:lnTo>
                  <a:lnTo>
                    <a:pt x="540" y="510"/>
                  </a:lnTo>
                  <a:lnTo>
                    <a:pt x="533" y="513"/>
                  </a:lnTo>
                  <a:lnTo>
                    <a:pt x="524" y="512"/>
                  </a:lnTo>
                  <a:lnTo>
                    <a:pt x="515" y="513"/>
                  </a:lnTo>
                  <a:lnTo>
                    <a:pt x="501" y="511"/>
                  </a:lnTo>
                  <a:lnTo>
                    <a:pt x="488" y="502"/>
                  </a:lnTo>
                  <a:lnTo>
                    <a:pt x="478" y="501"/>
                  </a:lnTo>
                  <a:lnTo>
                    <a:pt x="471" y="514"/>
                  </a:lnTo>
                  <a:lnTo>
                    <a:pt x="464" y="528"/>
                  </a:lnTo>
                  <a:lnTo>
                    <a:pt x="449" y="536"/>
                  </a:lnTo>
                  <a:lnTo>
                    <a:pt x="446" y="539"/>
                  </a:lnTo>
                  <a:lnTo>
                    <a:pt x="446" y="545"/>
                  </a:lnTo>
                  <a:lnTo>
                    <a:pt x="445" y="550"/>
                  </a:lnTo>
                  <a:lnTo>
                    <a:pt x="444" y="551"/>
                  </a:lnTo>
                  <a:lnTo>
                    <a:pt x="441" y="551"/>
                  </a:lnTo>
                  <a:lnTo>
                    <a:pt x="440" y="551"/>
                  </a:lnTo>
                  <a:lnTo>
                    <a:pt x="439" y="557"/>
                  </a:lnTo>
                  <a:lnTo>
                    <a:pt x="439" y="562"/>
                  </a:lnTo>
                  <a:lnTo>
                    <a:pt x="440" y="567"/>
                  </a:lnTo>
                  <a:lnTo>
                    <a:pt x="445" y="574"/>
                  </a:lnTo>
                  <a:lnTo>
                    <a:pt x="453" y="577"/>
                  </a:lnTo>
                  <a:lnTo>
                    <a:pt x="463" y="578"/>
                  </a:lnTo>
                  <a:lnTo>
                    <a:pt x="466" y="580"/>
                  </a:lnTo>
                  <a:lnTo>
                    <a:pt x="467" y="584"/>
                  </a:lnTo>
                  <a:lnTo>
                    <a:pt x="467" y="588"/>
                  </a:lnTo>
                  <a:lnTo>
                    <a:pt x="468" y="602"/>
                  </a:lnTo>
                  <a:lnTo>
                    <a:pt x="472" y="615"/>
                  </a:lnTo>
                  <a:lnTo>
                    <a:pt x="480" y="626"/>
                  </a:lnTo>
                  <a:lnTo>
                    <a:pt x="484" y="627"/>
                  </a:lnTo>
                  <a:lnTo>
                    <a:pt x="490" y="627"/>
                  </a:lnTo>
                  <a:lnTo>
                    <a:pt x="495" y="627"/>
                  </a:lnTo>
                  <a:lnTo>
                    <a:pt x="498" y="647"/>
                  </a:lnTo>
                  <a:lnTo>
                    <a:pt x="507" y="664"/>
                  </a:lnTo>
                  <a:lnTo>
                    <a:pt x="517" y="681"/>
                  </a:lnTo>
                  <a:lnTo>
                    <a:pt x="518" y="689"/>
                  </a:lnTo>
                  <a:lnTo>
                    <a:pt x="515" y="699"/>
                  </a:lnTo>
                  <a:lnTo>
                    <a:pt x="508" y="704"/>
                  </a:lnTo>
                  <a:lnTo>
                    <a:pt x="499" y="706"/>
                  </a:lnTo>
                  <a:lnTo>
                    <a:pt x="489" y="706"/>
                  </a:lnTo>
                  <a:lnTo>
                    <a:pt x="478" y="704"/>
                  </a:lnTo>
                  <a:lnTo>
                    <a:pt x="467" y="705"/>
                  </a:lnTo>
                  <a:lnTo>
                    <a:pt x="456" y="710"/>
                  </a:lnTo>
                  <a:lnTo>
                    <a:pt x="448" y="708"/>
                  </a:lnTo>
                  <a:lnTo>
                    <a:pt x="442" y="704"/>
                  </a:lnTo>
                  <a:lnTo>
                    <a:pt x="437" y="703"/>
                  </a:lnTo>
                  <a:lnTo>
                    <a:pt x="433" y="704"/>
                  </a:lnTo>
                  <a:lnTo>
                    <a:pt x="422" y="705"/>
                  </a:lnTo>
                  <a:lnTo>
                    <a:pt x="412" y="702"/>
                  </a:lnTo>
                  <a:lnTo>
                    <a:pt x="403" y="703"/>
                  </a:lnTo>
                  <a:lnTo>
                    <a:pt x="402" y="709"/>
                  </a:lnTo>
                  <a:lnTo>
                    <a:pt x="396" y="713"/>
                  </a:lnTo>
                  <a:lnTo>
                    <a:pt x="397" y="719"/>
                  </a:lnTo>
                  <a:lnTo>
                    <a:pt x="388" y="722"/>
                  </a:lnTo>
                  <a:lnTo>
                    <a:pt x="379" y="723"/>
                  </a:lnTo>
                  <a:lnTo>
                    <a:pt x="370" y="719"/>
                  </a:lnTo>
                  <a:lnTo>
                    <a:pt x="369" y="729"/>
                  </a:lnTo>
                  <a:lnTo>
                    <a:pt x="369" y="738"/>
                  </a:lnTo>
                  <a:lnTo>
                    <a:pt x="371" y="744"/>
                  </a:lnTo>
                  <a:lnTo>
                    <a:pt x="331" y="730"/>
                  </a:lnTo>
                  <a:lnTo>
                    <a:pt x="323" y="722"/>
                  </a:lnTo>
                  <a:lnTo>
                    <a:pt x="321" y="708"/>
                  </a:lnTo>
                  <a:lnTo>
                    <a:pt x="319" y="693"/>
                  </a:lnTo>
                  <a:lnTo>
                    <a:pt x="313" y="687"/>
                  </a:lnTo>
                  <a:lnTo>
                    <a:pt x="305" y="683"/>
                  </a:lnTo>
                  <a:lnTo>
                    <a:pt x="302" y="676"/>
                  </a:lnTo>
                  <a:lnTo>
                    <a:pt x="300" y="661"/>
                  </a:lnTo>
                  <a:lnTo>
                    <a:pt x="293" y="649"/>
                  </a:lnTo>
                  <a:lnTo>
                    <a:pt x="280" y="642"/>
                  </a:lnTo>
                  <a:lnTo>
                    <a:pt x="269" y="643"/>
                  </a:lnTo>
                  <a:lnTo>
                    <a:pt x="258" y="647"/>
                  </a:lnTo>
                  <a:lnTo>
                    <a:pt x="247" y="652"/>
                  </a:lnTo>
                  <a:lnTo>
                    <a:pt x="214" y="655"/>
                  </a:lnTo>
                  <a:lnTo>
                    <a:pt x="179" y="654"/>
                  </a:lnTo>
                  <a:lnTo>
                    <a:pt x="145" y="659"/>
                  </a:lnTo>
                  <a:lnTo>
                    <a:pt x="127" y="661"/>
                  </a:lnTo>
                  <a:lnTo>
                    <a:pt x="109" y="657"/>
                  </a:lnTo>
                  <a:lnTo>
                    <a:pt x="92" y="650"/>
                  </a:lnTo>
                  <a:lnTo>
                    <a:pt x="90" y="655"/>
                  </a:lnTo>
                  <a:lnTo>
                    <a:pt x="86" y="658"/>
                  </a:lnTo>
                  <a:lnTo>
                    <a:pt x="82" y="659"/>
                  </a:lnTo>
                  <a:lnTo>
                    <a:pt x="71" y="663"/>
                  </a:lnTo>
                  <a:lnTo>
                    <a:pt x="61" y="669"/>
                  </a:lnTo>
                  <a:lnTo>
                    <a:pt x="50" y="668"/>
                  </a:lnTo>
                  <a:lnTo>
                    <a:pt x="41" y="656"/>
                  </a:lnTo>
                  <a:lnTo>
                    <a:pt x="39" y="641"/>
                  </a:lnTo>
                  <a:lnTo>
                    <a:pt x="43" y="624"/>
                  </a:lnTo>
                  <a:lnTo>
                    <a:pt x="46" y="624"/>
                  </a:lnTo>
                  <a:lnTo>
                    <a:pt x="47" y="620"/>
                  </a:lnTo>
                  <a:lnTo>
                    <a:pt x="49" y="620"/>
                  </a:lnTo>
                  <a:lnTo>
                    <a:pt x="48" y="603"/>
                  </a:lnTo>
                  <a:lnTo>
                    <a:pt x="60" y="593"/>
                  </a:lnTo>
                  <a:lnTo>
                    <a:pt x="79" y="590"/>
                  </a:lnTo>
                  <a:lnTo>
                    <a:pt x="80" y="585"/>
                  </a:lnTo>
                  <a:lnTo>
                    <a:pt x="83" y="581"/>
                  </a:lnTo>
                  <a:lnTo>
                    <a:pt x="86" y="577"/>
                  </a:lnTo>
                  <a:lnTo>
                    <a:pt x="98" y="580"/>
                  </a:lnTo>
                  <a:lnTo>
                    <a:pt x="109" y="579"/>
                  </a:lnTo>
                  <a:lnTo>
                    <a:pt x="118" y="573"/>
                  </a:lnTo>
                  <a:lnTo>
                    <a:pt x="122" y="565"/>
                  </a:lnTo>
                  <a:lnTo>
                    <a:pt x="123" y="555"/>
                  </a:lnTo>
                  <a:lnTo>
                    <a:pt x="122" y="544"/>
                  </a:lnTo>
                  <a:lnTo>
                    <a:pt x="115" y="547"/>
                  </a:lnTo>
                  <a:lnTo>
                    <a:pt x="108" y="548"/>
                  </a:lnTo>
                  <a:lnTo>
                    <a:pt x="103" y="547"/>
                  </a:lnTo>
                  <a:lnTo>
                    <a:pt x="100" y="536"/>
                  </a:lnTo>
                  <a:lnTo>
                    <a:pt x="102" y="524"/>
                  </a:lnTo>
                  <a:lnTo>
                    <a:pt x="102" y="512"/>
                  </a:lnTo>
                  <a:lnTo>
                    <a:pt x="99" y="503"/>
                  </a:lnTo>
                  <a:lnTo>
                    <a:pt x="97" y="495"/>
                  </a:lnTo>
                  <a:lnTo>
                    <a:pt x="92" y="489"/>
                  </a:lnTo>
                  <a:lnTo>
                    <a:pt x="86" y="489"/>
                  </a:lnTo>
                  <a:lnTo>
                    <a:pt x="79" y="492"/>
                  </a:lnTo>
                  <a:lnTo>
                    <a:pt x="74" y="491"/>
                  </a:lnTo>
                  <a:lnTo>
                    <a:pt x="73" y="488"/>
                  </a:lnTo>
                  <a:lnTo>
                    <a:pt x="72" y="484"/>
                  </a:lnTo>
                  <a:lnTo>
                    <a:pt x="69" y="482"/>
                  </a:lnTo>
                  <a:lnTo>
                    <a:pt x="62" y="482"/>
                  </a:lnTo>
                  <a:lnTo>
                    <a:pt x="56" y="480"/>
                  </a:lnTo>
                  <a:lnTo>
                    <a:pt x="50" y="477"/>
                  </a:lnTo>
                  <a:lnTo>
                    <a:pt x="30" y="456"/>
                  </a:lnTo>
                  <a:lnTo>
                    <a:pt x="15" y="430"/>
                  </a:lnTo>
                  <a:lnTo>
                    <a:pt x="0" y="406"/>
                  </a:lnTo>
                  <a:lnTo>
                    <a:pt x="12" y="404"/>
                  </a:lnTo>
                  <a:lnTo>
                    <a:pt x="24" y="408"/>
                  </a:lnTo>
                  <a:lnTo>
                    <a:pt x="34" y="413"/>
                  </a:lnTo>
                  <a:lnTo>
                    <a:pt x="50" y="420"/>
                  </a:lnTo>
                  <a:lnTo>
                    <a:pt x="66" y="427"/>
                  </a:lnTo>
                  <a:lnTo>
                    <a:pt x="81" y="426"/>
                  </a:lnTo>
                  <a:lnTo>
                    <a:pt x="91" y="424"/>
                  </a:lnTo>
                  <a:lnTo>
                    <a:pt x="102" y="426"/>
                  </a:lnTo>
                  <a:lnTo>
                    <a:pt x="112" y="429"/>
                  </a:lnTo>
                  <a:lnTo>
                    <a:pt x="111" y="428"/>
                  </a:lnTo>
                  <a:lnTo>
                    <a:pt x="110" y="427"/>
                  </a:lnTo>
                  <a:lnTo>
                    <a:pt x="109" y="426"/>
                  </a:lnTo>
                  <a:lnTo>
                    <a:pt x="115" y="424"/>
                  </a:lnTo>
                  <a:lnTo>
                    <a:pt x="120" y="422"/>
                  </a:lnTo>
                  <a:lnTo>
                    <a:pt x="126" y="420"/>
                  </a:lnTo>
                  <a:lnTo>
                    <a:pt x="145" y="420"/>
                  </a:lnTo>
                  <a:lnTo>
                    <a:pt x="164" y="427"/>
                  </a:lnTo>
                  <a:lnTo>
                    <a:pt x="182" y="420"/>
                  </a:lnTo>
                  <a:lnTo>
                    <a:pt x="183" y="420"/>
                  </a:lnTo>
                  <a:lnTo>
                    <a:pt x="185" y="422"/>
                  </a:lnTo>
                  <a:lnTo>
                    <a:pt x="185" y="426"/>
                  </a:lnTo>
                  <a:lnTo>
                    <a:pt x="200" y="421"/>
                  </a:lnTo>
                  <a:lnTo>
                    <a:pt x="215" y="419"/>
                  </a:lnTo>
                  <a:lnTo>
                    <a:pt x="231" y="418"/>
                  </a:lnTo>
                  <a:lnTo>
                    <a:pt x="247" y="414"/>
                  </a:lnTo>
                  <a:lnTo>
                    <a:pt x="261" y="404"/>
                  </a:lnTo>
                  <a:lnTo>
                    <a:pt x="273" y="392"/>
                  </a:lnTo>
                  <a:lnTo>
                    <a:pt x="277" y="385"/>
                  </a:lnTo>
                  <a:lnTo>
                    <a:pt x="281" y="378"/>
                  </a:lnTo>
                  <a:lnTo>
                    <a:pt x="282" y="373"/>
                  </a:lnTo>
                  <a:lnTo>
                    <a:pt x="283" y="351"/>
                  </a:lnTo>
                  <a:lnTo>
                    <a:pt x="293" y="333"/>
                  </a:lnTo>
                  <a:lnTo>
                    <a:pt x="310" y="323"/>
                  </a:lnTo>
                  <a:lnTo>
                    <a:pt x="320" y="335"/>
                  </a:lnTo>
                  <a:lnTo>
                    <a:pt x="335" y="334"/>
                  </a:lnTo>
                  <a:lnTo>
                    <a:pt x="343" y="327"/>
                  </a:lnTo>
                  <a:lnTo>
                    <a:pt x="347" y="315"/>
                  </a:lnTo>
                  <a:lnTo>
                    <a:pt x="355" y="309"/>
                  </a:lnTo>
                  <a:lnTo>
                    <a:pt x="363" y="300"/>
                  </a:lnTo>
                  <a:lnTo>
                    <a:pt x="376" y="301"/>
                  </a:lnTo>
                  <a:lnTo>
                    <a:pt x="386" y="297"/>
                  </a:lnTo>
                  <a:lnTo>
                    <a:pt x="395" y="296"/>
                  </a:lnTo>
                  <a:lnTo>
                    <a:pt x="405" y="302"/>
                  </a:lnTo>
                  <a:lnTo>
                    <a:pt x="416" y="305"/>
                  </a:lnTo>
                  <a:lnTo>
                    <a:pt x="425" y="299"/>
                  </a:lnTo>
                  <a:lnTo>
                    <a:pt x="429" y="285"/>
                  </a:lnTo>
                  <a:lnTo>
                    <a:pt x="427" y="269"/>
                  </a:lnTo>
                  <a:lnTo>
                    <a:pt x="429" y="254"/>
                  </a:lnTo>
                  <a:lnTo>
                    <a:pt x="434" y="254"/>
                  </a:lnTo>
                  <a:lnTo>
                    <a:pt x="438" y="249"/>
                  </a:lnTo>
                  <a:lnTo>
                    <a:pt x="442" y="247"/>
                  </a:lnTo>
                  <a:lnTo>
                    <a:pt x="442" y="243"/>
                  </a:lnTo>
                  <a:lnTo>
                    <a:pt x="442" y="238"/>
                  </a:lnTo>
                  <a:lnTo>
                    <a:pt x="443" y="235"/>
                  </a:lnTo>
                  <a:lnTo>
                    <a:pt x="450" y="230"/>
                  </a:lnTo>
                  <a:lnTo>
                    <a:pt x="457" y="228"/>
                  </a:lnTo>
                  <a:lnTo>
                    <a:pt x="465" y="226"/>
                  </a:lnTo>
                  <a:lnTo>
                    <a:pt x="473" y="220"/>
                  </a:lnTo>
                  <a:lnTo>
                    <a:pt x="477" y="211"/>
                  </a:lnTo>
                  <a:lnTo>
                    <a:pt x="474" y="203"/>
                  </a:lnTo>
                  <a:lnTo>
                    <a:pt x="466" y="197"/>
                  </a:lnTo>
                  <a:lnTo>
                    <a:pt x="458" y="190"/>
                  </a:lnTo>
                  <a:lnTo>
                    <a:pt x="457" y="182"/>
                  </a:lnTo>
                  <a:lnTo>
                    <a:pt x="467" y="175"/>
                  </a:lnTo>
                  <a:lnTo>
                    <a:pt x="479" y="173"/>
                  </a:lnTo>
                  <a:lnTo>
                    <a:pt x="492" y="176"/>
                  </a:lnTo>
                  <a:lnTo>
                    <a:pt x="500" y="180"/>
                  </a:lnTo>
                  <a:lnTo>
                    <a:pt x="510" y="182"/>
                  </a:lnTo>
                  <a:lnTo>
                    <a:pt x="517" y="179"/>
                  </a:lnTo>
                  <a:lnTo>
                    <a:pt x="522" y="172"/>
                  </a:lnTo>
                  <a:lnTo>
                    <a:pt x="523" y="162"/>
                  </a:lnTo>
                  <a:lnTo>
                    <a:pt x="521" y="152"/>
                  </a:lnTo>
                  <a:lnTo>
                    <a:pt x="520" y="151"/>
                  </a:lnTo>
                  <a:lnTo>
                    <a:pt x="518" y="151"/>
                  </a:lnTo>
                  <a:lnTo>
                    <a:pt x="515" y="151"/>
                  </a:lnTo>
                  <a:lnTo>
                    <a:pt x="524" y="137"/>
                  </a:lnTo>
                  <a:lnTo>
                    <a:pt x="535" y="126"/>
                  </a:lnTo>
                  <a:lnTo>
                    <a:pt x="545" y="112"/>
                  </a:lnTo>
                  <a:lnTo>
                    <a:pt x="546" y="91"/>
                  </a:lnTo>
                  <a:lnTo>
                    <a:pt x="537" y="73"/>
                  </a:lnTo>
                  <a:lnTo>
                    <a:pt x="531" y="56"/>
                  </a:lnTo>
                  <a:lnTo>
                    <a:pt x="536" y="47"/>
                  </a:lnTo>
                  <a:lnTo>
                    <a:pt x="547" y="40"/>
                  </a:lnTo>
                  <a:lnTo>
                    <a:pt x="561" y="35"/>
                  </a:lnTo>
                  <a:lnTo>
                    <a:pt x="561" y="33"/>
                  </a:lnTo>
                  <a:lnTo>
                    <a:pt x="561" y="29"/>
                  </a:lnTo>
                  <a:lnTo>
                    <a:pt x="562" y="27"/>
                  </a:lnTo>
                  <a:lnTo>
                    <a:pt x="575" y="21"/>
                  </a:lnTo>
                  <a:lnTo>
                    <a:pt x="589" y="17"/>
                  </a:lnTo>
                  <a:lnTo>
                    <a:pt x="603" y="12"/>
                  </a:lnTo>
                  <a:lnTo>
                    <a:pt x="617" y="12"/>
                  </a:lnTo>
                  <a:lnTo>
                    <a:pt x="634" y="16"/>
                  </a:lnTo>
                  <a:lnTo>
                    <a:pt x="649" y="14"/>
                  </a:lnTo>
                  <a:lnTo>
                    <a:pt x="665" y="4"/>
                  </a:lnTo>
                  <a:lnTo>
                    <a:pt x="683" y="0"/>
                  </a:lnTo>
                  <a:lnTo>
                    <a:pt x="700" y="4"/>
                  </a:lnTo>
                  <a:lnTo>
                    <a:pt x="705" y="4"/>
                  </a:lnTo>
                  <a:lnTo>
                    <a:pt x="713" y="5"/>
                  </a:lnTo>
                  <a:lnTo>
                    <a:pt x="718" y="6"/>
                  </a:lnTo>
                  <a:lnTo>
                    <a:pt x="738" y="7"/>
                  </a:lnTo>
                  <a:lnTo>
                    <a:pt x="754" y="18"/>
                  </a:lnTo>
                  <a:lnTo>
                    <a:pt x="766" y="34"/>
                  </a:lnTo>
                  <a:lnTo>
                    <a:pt x="766" y="45"/>
                  </a:lnTo>
                  <a:lnTo>
                    <a:pt x="763" y="57"/>
                  </a:lnTo>
                  <a:lnTo>
                    <a:pt x="767" y="68"/>
                  </a:lnTo>
                  <a:lnTo>
                    <a:pt x="776" y="71"/>
                  </a:lnTo>
                  <a:lnTo>
                    <a:pt x="783" y="70"/>
                  </a:lnTo>
                  <a:lnTo>
                    <a:pt x="792" y="71"/>
                  </a:lnTo>
                  <a:lnTo>
                    <a:pt x="811" y="78"/>
                  </a:lnTo>
                  <a:lnTo>
                    <a:pt x="833" y="86"/>
                  </a:lnTo>
                  <a:lnTo>
                    <a:pt x="852" y="94"/>
                  </a:lnTo>
                  <a:lnTo>
                    <a:pt x="850" y="94"/>
                  </a:lnTo>
                  <a:lnTo>
                    <a:pt x="846" y="95"/>
                  </a:lnTo>
                  <a:lnTo>
                    <a:pt x="840" y="10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264840" y="3111480"/>
              <a:ext cx="139320" cy="13248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8" y="23"/>
                  </a:moveTo>
                  <a:lnTo>
                    <a:pt x="32" y="6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8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7" y="106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6" y="97"/>
                  </a:lnTo>
                  <a:lnTo>
                    <a:pt x="53" y="92"/>
                  </a:lnTo>
                  <a:lnTo>
                    <a:pt x="43" y="82"/>
                  </a:lnTo>
                  <a:lnTo>
                    <a:pt x="26" y="64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64840" y="3111480"/>
              <a:ext cx="139320" cy="13356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8" y="23"/>
                  </a:moveTo>
                  <a:lnTo>
                    <a:pt x="32" y="7"/>
                  </a:lnTo>
                  <a:lnTo>
                    <a:pt x="61" y="0"/>
                  </a:lnTo>
                  <a:lnTo>
                    <a:pt x="90" y="7"/>
                  </a:lnTo>
                  <a:lnTo>
                    <a:pt x="103" y="14"/>
                  </a:lnTo>
                  <a:lnTo>
                    <a:pt x="117" y="21"/>
                  </a:lnTo>
                  <a:lnTo>
                    <a:pt x="129" y="29"/>
                  </a:lnTo>
                  <a:lnTo>
                    <a:pt x="132" y="38"/>
                  </a:lnTo>
                  <a:lnTo>
                    <a:pt x="127" y="49"/>
                  </a:lnTo>
                  <a:lnTo>
                    <a:pt x="121" y="59"/>
                  </a:lnTo>
                  <a:lnTo>
                    <a:pt x="109" y="77"/>
                  </a:lnTo>
                  <a:lnTo>
                    <a:pt x="94" y="94"/>
                  </a:lnTo>
                  <a:lnTo>
                    <a:pt x="76" y="107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6" y="98"/>
                  </a:lnTo>
                  <a:lnTo>
                    <a:pt x="53" y="92"/>
                  </a:lnTo>
                  <a:lnTo>
                    <a:pt x="43" y="83"/>
                  </a:lnTo>
                  <a:lnTo>
                    <a:pt x="26" y="65"/>
                  </a:lnTo>
                  <a:lnTo>
                    <a:pt x="12" y="38"/>
                  </a:lnTo>
                  <a:lnTo>
                    <a:pt x="8" y="33"/>
                  </a:lnTo>
                  <a:lnTo>
                    <a:pt x="3" y="30"/>
                  </a:lnTo>
                  <a:lnTo>
                    <a:pt x="0" y="29"/>
                  </a:lnTo>
                  <a:lnTo>
                    <a:pt x="8" y="2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378960" y="3500280"/>
              <a:ext cx="439560" cy="27216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9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7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39" y="97"/>
                  </a:lnTo>
                  <a:lnTo>
                    <a:pt x="247" y="96"/>
                  </a:lnTo>
                  <a:lnTo>
                    <a:pt x="254" y="96"/>
                  </a:lnTo>
                  <a:lnTo>
                    <a:pt x="258" y="99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3" y="112"/>
                  </a:lnTo>
                  <a:lnTo>
                    <a:pt x="281" y="114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7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8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5"/>
                  </a:lnTo>
                  <a:lnTo>
                    <a:pt x="406" y="184"/>
                  </a:lnTo>
                  <a:lnTo>
                    <a:pt x="407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1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4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7"/>
                  </a:lnTo>
                  <a:lnTo>
                    <a:pt x="325" y="217"/>
                  </a:lnTo>
                  <a:lnTo>
                    <a:pt x="318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309" y="208"/>
                  </a:lnTo>
                  <a:lnTo>
                    <a:pt x="300" y="208"/>
                  </a:lnTo>
                  <a:lnTo>
                    <a:pt x="291" y="209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0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4"/>
                  </a:lnTo>
                  <a:lnTo>
                    <a:pt x="239" y="184"/>
                  </a:lnTo>
                  <a:lnTo>
                    <a:pt x="236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0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8" y="165"/>
                  </a:lnTo>
                  <a:lnTo>
                    <a:pt x="213" y="164"/>
                  </a:lnTo>
                  <a:lnTo>
                    <a:pt x="199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59" y="167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2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9"/>
                  </a:lnTo>
                  <a:lnTo>
                    <a:pt x="52" y="111"/>
                  </a:lnTo>
                  <a:lnTo>
                    <a:pt x="47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3" y="99"/>
                  </a:lnTo>
                  <a:lnTo>
                    <a:pt x="32" y="98"/>
                  </a:lnTo>
                  <a:lnTo>
                    <a:pt x="30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78960" y="3500280"/>
              <a:ext cx="439560" cy="272160"/>
            </a:xfrm>
            <a:custGeom>
              <a:avLst/>
              <a:gdLst/>
              <a:ahLst/>
              <a:rect l="l" t="t" r="r" b="b"/>
              <a:pathLst>
                <a:path w="417" h="218">
                  <a:moveTo>
                    <a:pt x="30" y="25"/>
                  </a:moveTo>
                  <a:lnTo>
                    <a:pt x="35" y="20"/>
                  </a:lnTo>
                  <a:lnTo>
                    <a:pt x="39" y="14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6" y="15"/>
                  </a:lnTo>
                  <a:lnTo>
                    <a:pt x="63" y="22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4" y="12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4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103" y="10"/>
                  </a:lnTo>
                  <a:lnTo>
                    <a:pt x="118" y="19"/>
                  </a:lnTo>
                  <a:lnTo>
                    <a:pt x="133" y="28"/>
                  </a:lnTo>
                  <a:lnTo>
                    <a:pt x="146" y="34"/>
                  </a:lnTo>
                  <a:lnTo>
                    <a:pt x="158" y="41"/>
                  </a:lnTo>
                  <a:lnTo>
                    <a:pt x="166" y="51"/>
                  </a:lnTo>
                  <a:lnTo>
                    <a:pt x="172" y="61"/>
                  </a:lnTo>
                  <a:lnTo>
                    <a:pt x="180" y="71"/>
                  </a:lnTo>
                  <a:lnTo>
                    <a:pt x="188" y="73"/>
                  </a:lnTo>
                  <a:lnTo>
                    <a:pt x="192" y="66"/>
                  </a:lnTo>
                  <a:lnTo>
                    <a:pt x="196" y="59"/>
                  </a:lnTo>
                  <a:lnTo>
                    <a:pt x="202" y="61"/>
                  </a:lnTo>
                  <a:lnTo>
                    <a:pt x="206" y="68"/>
                  </a:lnTo>
                  <a:lnTo>
                    <a:pt x="208" y="77"/>
                  </a:lnTo>
                  <a:lnTo>
                    <a:pt x="212" y="86"/>
                  </a:lnTo>
                  <a:lnTo>
                    <a:pt x="218" y="90"/>
                  </a:lnTo>
                  <a:lnTo>
                    <a:pt x="225" y="92"/>
                  </a:lnTo>
                  <a:lnTo>
                    <a:pt x="233" y="96"/>
                  </a:lnTo>
                  <a:lnTo>
                    <a:pt x="240" y="97"/>
                  </a:lnTo>
                  <a:lnTo>
                    <a:pt x="247" y="96"/>
                  </a:lnTo>
                  <a:lnTo>
                    <a:pt x="255" y="96"/>
                  </a:lnTo>
                  <a:lnTo>
                    <a:pt x="258" y="100"/>
                  </a:lnTo>
                  <a:lnTo>
                    <a:pt x="261" y="105"/>
                  </a:lnTo>
                  <a:lnTo>
                    <a:pt x="264" y="111"/>
                  </a:lnTo>
                  <a:lnTo>
                    <a:pt x="266" y="114"/>
                  </a:lnTo>
                  <a:lnTo>
                    <a:pt x="269" y="114"/>
                  </a:lnTo>
                  <a:lnTo>
                    <a:pt x="274" y="112"/>
                  </a:lnTo>
                  <a:lnTo>
                    <a:pt x="281" y="113"/>
                  </a:lnTo>
                  <a:lnTo>
                    <a:pt x="288" y="118"/>
                  </a:lnTo>
                  <a:lnTo>
                    <a:pt x="295" y="118"/>
                  </a:lnTo>
                  <a:lnTo>
                    <a:pt x="296" y="123"/>
                  </a:lnTo>
                  <a:lnTo>
                    <a:pt x="299" y="127"/>
                  </a:lnTo>
                  <a:lnTo>
                    <a:pt x="303" y="127"/>
                  </a:lnTo>
                  <a:lnTo>
                    <a:pt x="311" y="126"/>
                  </a:lnTo>
                  <a:lnTo>
                    <a:pt x="318" y="129"/>
                  </a:lnTo>
                  <a:lnTo>
                    <a:pt x="326" y="129"/>
                  </a:lnTo>
                  <a:lnTo>
                    <a:pt x="326" y="128"/>
                  </a:lnTo>
                  <a:lnTo>
                    <a:pt x="327" y="126"/>
                  </a:lnTo>
                  <a:lnTo>
                    <a:pt x="328" y="125"/>
                  </a:lnTo>
                  <a:lnTo>
                    <a:pt x="340" y="124"/>
                  </a:lnTo>
                  <a:lnTo>
                    <a:pt x="350" y="129"/>
                  </a:lnTo>
                  <a:lnTo>
                    <a:pt x="360" y="135"/>
                  </a:lnTo>
                  <a:lnTo>
                    <a:pt x="378" y="139"/>
                  </a:lnTo>
                  <a:lnTo>
                    <a:pt x="397" y="138"/>
                  </a:lnTo>
                  <a:lnTo>
                    <a:pt x="417" y="136"/>
                  </a:lnTo>
                  <a:lnTo>
                    <a:pt x="415" y="141"/>
                  </a:lnTo>
                  <a:lnTo>
                    <a:pt x="415" y="146"/>
                  </a:lnTo>
                  <a:lnTo>
                    <a:pt x="417" y="151"/>
                  </a:lnTo>
                  <a:lnTo>
                    <a:pt x="413" y="153"/>
                  </a:lnTo>
                  <a:lnTo>
                    <a:pt x="409" y="155"/>
                  </a:lnTo>
                  <a:lnTo>
                    <a:pt x="406" y="158"/>
                  </a:lnTo>
                  <a:lnTo>
                    <a:pt x="405" y="167"/>
                  </a:lnTo>
                  <a:lnTo>
                    <a:pt x="405" y="176"/>
                  </a:lnTo>
                  <a:lnTo>
                    <a:pt x="406" y="184"/>
                  </a:lnTo>
                  <a:lnTo>
                    <a:pt x="408" y="191"/>
                  </a:lnTo>
                  <a:lnTo>
                    <a:pt x="411" y="198"/>
                  </a:lnTo>
                  <a:lnTo>
                    <a:pt x="413" y="205"/>
                  </a:lnTo>
                  <a:lnTo>
                    <a:pt x="412" y="210"/>
                  </a:lnTo>
                  <a:lnTo>
                    <a:pt x="410" y="214"/>
                  </a:lnTo>
                  <a:lnTo>
                    <a:pt x="407" y="216"/>
                  </a:lnTo>
                  <a:lnTo>
                    <a:pt x="401" y="217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75" y="216"/>
                  </a:lnTo>
                  <a:lnTo>
                    <a:pt x="360" y="215"/>
                  </a:lnTo>
                  <a:lnTo>
                    <a:pt x="346" y="214"/>
                  </a:lnTo>
                  <a:lnTo>
                    <a:pt x="345" y="215"/>
                  </a:lnTo>
                  <a:lnTo>
                    <a:pt x="343" y="216"/>
                  </a:lnTo>
                  <a:lnTo>
                    <a:pt x="341" y="217"/>
                  </a:lnTo>
                  <a:lnTo>
                    <a:pt x="333" y="218"/>
                  </a:lnTo>
                  <a:lnTo>
                    <a:pt x="325" y="217"/>
                  </a:lnTo>
                  <a:lnTo>
                    <a:pt x="319" y="212"/>
                  </a:lnTo>
                  <a:lnTo>
                    <a:pt x="318" y="211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09" y="208"/>
                  </a:lnTo>
                  <a:lnTo>
                    <a:pt x="300" y="209"/>
                  </a:lnTo>
                  <a:lnTo>
                    <a:pt x="291" y="210"/>
                  </a:lnTo>
                  <a:lnTo>
                    <a:pt x="287" y="208"/>
                  </a:lnTo>
                  <a:lnTo>
                    <a:pt x="283" y="203"/>
                  </a:lnTo>
                  <a:lnTo>
                    <a:pt x="279" y="199"/>
                  </a:lnTo>
                  <a:lnTo>
                    <a:pt x="274" y="197"/>
                  </a:lnTo>
                  <a:lnTo>
                    <a:pt x="267" y="200"/>
                  </a:lnTo>
                  <a:lnTo>
                    <a:pt x="260" y="200"/>
                  </a:lnTo>
                  <a:lnTo>
                    <a:pt x="256" y="199"/>
                  </a:lnTo>
                  <a:lnTo>
                    <a:pt x="253" y="197"/>
                  </a:lnTo>
                  <a:lnTo>
                    <a:pt x="251" y="194"/>
                  </a:lnTo>
                  <a:lnTo>
                    <a:pt x="248" y="190"/>
                  </a:lnTo>
                  <a:lnTo>
                    <a:pt x="244" y="188"/>
                  </a:lnTo>
                  <a:lnTo>
                    <a:pt x="241" y="185"/>
                  </a:lnTo>
                  <a:lnTo>
                    <a:pt x="239" y="184"/>
                  </a:lnTo>
                  <a:lnTo>
                    <a:pt x="237" y="184"/>
                  </a:lnTo>
                  <a:lnTo>
                    <a:pt x="234" y="184"/>
                  </a:lnTo>
                  <a:lnTo>
                    <a:pt x="231" y="180"/>
                  </a:lnTo>
                  <a:lnTo>
                    <a:pt x="231" y="174"/>
                  </a:lnTo>
                  <a:lnTo>
                    <a:pt x="228" y="170"/>
                  </a:lnTo>
                  <a:lnTo>
                    <a:pt x="224" y="167"/>
                  </a:lnTo>
                  <a:lnTo>
                    <a:pt x="219" y="165"/>
                  </a:lnTo>
                  <a:lnTo>
                    <a:pt x="214" y="164"/>
                  </a:lnTo>
                  <a:lnTo>
                    <a:pt x="200" y="162"/>
                  </a:lnTo>
                  <a:lnTo>
                    <a:pt x="185" y="161"/>
                  </a:lnTo>
                  <a:lnTo>
                    <a:pt x="171" y="161"/>
                  </a:lnTo>
                  <a:lnTo>
                    <a:pt x="170" y="167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8" y="166"/>
                  </a:lnTo>
                  <a:lnTo>
                    <a:pt x="157" y="163"/>
                  </a:lnTo>
                  <a:lnTo>
                    <a:pt x="156" y="161"/>
                  </a:lnTo>
                  <a:lnTo>
                    <a:pt x="143" y="158"/>
                  </a:lnTo>
                  <a:lnTo>
                    <a:pt x="133" y="151"/>
                  </a:lnTo>
                  <a:lnTo>
                    <a:pt x="123" y="145"/>
                  </a:lnTo>
                  <a:lnTo>
                    <a:pt x="118" y="145"/>
                  </a:lnTo>
                  <a:lnTo>
                    <a:pt x="114" y="145"/>
                  </a:lnTo>
                  <a:lnTo>
                    <a:pt x="110" y="144"/>
                  </a:lnTo>
                  <a:lnTo>
                    <a:pt x="106" y="141"/>
                  </a:lnTo>
                  <a:lnTo>
                    <a:pt x="103" y="139"/>
                  </a:lnTo>
                  <a:lnTo>
                    <a:pt x="99" y="137"/>
                  </a:lnTo>
                  <a:lnTo>
                    <a:pt x="93" y="135"/>
                  </a:lnTo>
                  <a:lnTo>
                    <a:pt x="86" y="135"/>
                  </a:lnTo>
                  <a:lnTo>
                    <a:pt x="80" y="133"/>
                  </a:lnTo>
                  <a:lnTo>
                    <a:pt x="70" y="126"/>
                  </a:lnTo>
                  <a:lnTo>
                    <a:pt x="61" y="118"/>
                  </a:lnTo>
                  <a:lnTo>
                    <a:pt x="52" y="111"/>
                  </a:lnTo>
                  <a:lnTo>
                    <a:pt x="48" y="110"/>
                  </a:lnTo>
                  <a:lnTo>
                    <a:pt x="44" y="110"/>
                  </a:lnTo>
                  <a:lnTo>
                    <a:pt x="41" y="109"/>
                  </a:lnTo>
                  <a:lnTo>
                    <a:pt x="39" y="106"/>
                  </a:lnTo>
                  <a:lnTo>
                    <a:pt x="37" y="103"/>
                  </a:lnTo>
                  <a:lnTo>
                    <a:pt x="35" y="100"/>
                  </a:lnTo>
                  <a:lnTo>
                    <a:pt x="34" y="99"/>
                  </a:lnTo>
                  <a:lnTo>
                    <a:pt x="32" y="99"/>
                  </a:lnTo>
                  <a:lnTo>
                    <a:pt x="31" y="99"/>
                  </a:lnTo>
                  <a:lnTo>
                    <a:pt x="20" y="101"/>
                  </a:lnTo>
                  <a:lnTo>
                    <a:pt x="10" y="94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3" y="75"/>
                  </a:lnTo>
                  <a:lnTo>
                    <a:pt x="6" y="69"/>
                  </a:lnTo>
                  <a:lnTo>
                    <a:pt x="8" y="59"/>
                  </a:lnTo>
                  <a:lnTo>
                    <a:pt x="8" y="50"/>
                  </a:lnTo>
                  <a:lnTo>
                    <a:pt x="8" y="42"/>
                  </a:lnTo>
                  <a:lnTo>
                    <a:pt x="12" y="34"/>
                  </a:lnTo>
                  <a:lnTo>
                    <a:pt x="21" y="30"/>
                  </a:lnTo>
                  <a:lnTo>
                    <a:pt x="30" y="2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38680" y="3638520"/>
              <a:ext cx="173880" cy="1184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3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6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69"/>
                  </a:lnTo>
                  <a:lnTo>
                    <a:pt x="165" y="83"/>
                  </a:lnTo>
                  <a:lnTo>
                    <a:pt x="161" y="88"/>
                  </a:lnTo>
                  <a:lnTo>
                    <a:pt x="153" y="92"/>
                  </a:lnTo>
                  <a:lnTo>
                    <a:pt x="145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5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38680" y="3638520"/>
              <a:ext cx="173880" cy="1184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0" y="64"/>
                  </a:moveTo>
                  <a:lnTo>
                    <a:pt x="2" y="59"/>
                  </a:lnTo>
                  <a:lnTo>
                    <a:pt x="7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37" y="17"/>
                  </a:lnTo>
                  <a:lnTo>
                    <a:pt x="41" y="13"/>
                  </a:lnTo>
                  <a:lnTo>
                    <a:pt x="48" y="8"/>
                  </a:lnTo>
                  <a:lnTo>
                    <a:pt x="55" y="3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8" y="14"/>
                  </a:lnTo>
                  <a:lnTo>
                    <a:pt x="105" y="16"/>
                  </a:lnTo>
                  <a:lnTo>
                    <a:pt x="113" y="17"/>
                  </a:lnTo>
                  <a:lnTo>
                    <a:pt x="121" y="17"/>
                  </a:lnTo>
                  <a:lnTo>
                    <a:pt x="128" y="15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47" y="30"/>
                  </a:lnTo>
                  <a:lnTo>
                    <a:pt x="152" y="40"/>
                  </a:lnTo>
                  <a:lnTo>
                    <a:pt x="151" y="40"/>
                  </a:lnTo>
                  <a:lnTo>
                    <a:pt x="151" y="41"/>
                  </a:lnTo>
                  <a:lnTo>
                    <a:pt x="150" y="41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50" y="46"/>
                  </a:lnTo>
                  <a:lnTo>
                    <a:pt x="159" y="57"/>
                  </a:lnTo>
                  <a:lnTo>
                    <a:pt x="165" y="70"/>
                  </a:lnTo>
                  <a:lnTo>
                    <a:pt x="165" y="83"/>
                  </a:lnTo>
                  <a:lnTo>
                    <a:pt x="160" y="88"/>
                  </a:lnTo>
                  <a:lnTo>
                    <a:pt x="153" y="92"/>
                  </a:lnTo>
                  <a:lnTo>
                    <a:pt x="144" y="92"/>
                  </a:lnTo>
                  <a:lnTo>
                    <a:pt x="141" y="91"/>
                  </a:lnTo>
                  <a:lnTo>
                    <a:pt x="138" y="90"/>
                  </a:lnTo>
                  <a:lnTo>
                    <a:pt x="134" y="90"/>
                  </a:lnTo>
                  <a:lnTo>
                    <a:pt x="132" y="92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12" y="94"/>
                  </a:lnTo>
                  <a:lnTo>
                    <a:pt x="97" y="91"/>
                  </a:lnTo>
                  <a:lnTo>
                    <a:pt x="81" y="86"/>
                  </a:lnTo>
                  <a:lnTo>
                    <a:pt x="68" y="95"/>
                  </a:lnTo>
                  <a:lnTo>
                    <a:pt x="53" y="94"/>
                  </a:lnTo>
                  <a:lnTo>
                    <a:pt x="37" y="92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4" y="80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21200" y="3626280"/>
              <a:ext cx="478800" cy="1212840"/>
            </a:xfrm>
            <a:custGeom>
              <a:avLst/>
              <a:gdLst/>
              <a:ahLst/>
              <a:rect l="l" t="t" r="r" b="b"/>
              <a:pathLst>
                <a:path w="454" h="971">
                  <a:moveTo>
                    <a:pt x="319" y="970"/>
                  </a:moveTo>
                  <a:lnTo>
                    <a:pt x="317" y="958"/>
                  </a:lnTo>
                  <a:lnTo>
                    <a:pt x="318" y="946"/>
                  </a:lnTo>
                  <a:lnTo>
                    <a:pt x="321" y="935"/>
                  </a:lnTo>
                  <a:lnTo>
                    <a:pt x="327" y="920"/>
                  </a:lnTo>
                  <a:lnTo>
                    <a:pt x="331" y="905"/>
                  </a:lnTo>
                  <a:lnTo>
                    <a:pt x="332" y="889"/>
                  </a:lnTo>
                  <a:lnTo>
                    <a:pt x="321" y="892"/>
                  </a:lnTo>
                  <a:lnTo>
                    <a:pt x="311" y="895"/>
                  </a:lnTo>
                  <a:lnTo>
                    <a:pt x="302" y="902"/>
                  </a:lnTo>
                  <a:lnTo>
                    <a:pt x="310" y="889"/>
                  </a:lnTo>
                  <a:lnTo>
                    <a:pt x="321" y="879"/>
                  </a:lnTo>
                  <a:lnTo>
                    <a:pt x="331" y="869"/>
                  </a:lnTo>
                  <a:lnTo>
                    <a:pt x="331" y="866"/>
                  </a:lnTo>
                  <a:lnTo>
                    <a:pt x="329" y="863"/>
                  </a:lnTo>
                  <a:lnTo>
                    <a:pt x="329" y="859"/>
                  </a:lnTo>
                  <a:lnTo>
                    <a:pt x="324" y="858"/>
                  </a:lnTo>
                  <a:lnTo>
                    <a:pt x="320" y="855"/>
                  </a:lnTo>
                  <a:lnTo>
                    <a:pt x="316" y="856"/>
                  </a:lnTo>
                  <a:lnTo>
                    <a:pt x="315" y="852"/>
                  </a:lnTo>
                  <a:lnTo>
                    <a:pt x="311" y="850"/>
                  </a:lnTo>
                  <a:lnTo>
                    <a:pt x="313" y="846"/>
                  </a:lnTo>
                  <a:lnTo>
                    <a:pt x="315" y="846"/>
                  </a:lnTo>
                  <a:lnTo>
                    <a:pt x="317" y="846"/>
                  </a:lnTo>
                  <a:lnTo>
                    <a:pt x="318" y="845"/>
                  </a:lnTo>
                  <a:lnTo>
                    <a:pt x="323" y="824"/>
                  </a:lnTo>
                  <a:lnTo>
                    <a:pt x="318" y="803"/>
                  </a:lnTo>
                  <a:lnTo>
                    <a:pt x="306" y="786"/>
                  </a:lnTo>
                  <a:lnTo>
                    <a:pt x="304" y="792"/>
                  </a:lnTo>
                  <a:lnTo>
                    <a:pt x="300" y="796"/>
                  </a:lnTo>
                  <a:lnTo>
                    <a:pt x="296" y="800"/>
                  </a:lnTo>
                  <a:lnTo>
                    <a:pt x="299" y="781"/>
                  </a:lnTo>
                  <a:lnTo>
                    <a:pt x="300" y="762"/>
                  </a:lnTo>
                  <a:lnTo>
                    <a:pt x="298" y="744"/>
                  </a:lnTo>
                  <a:lnTo>
                    <a:pt x="294" y="738"/>
                  </a:lnTo>
                  <a:lnTo>
                    <a:pt x="290" y="733"/>
                  </a:lnTo>
                  <a:lnTo>
                    <a:pt x="286" y="727"/>
                  </a:lnTo>
                  <a:lnTo>
                    <a:pt x="282" y="706"/>
                  </a:lnTo>
                  <a:lnTo>
                    <a:pt x="280" y="685"/>
                  </a:lnTo>
                  <a:lnTo>
                    <a:pt x="277" y="664"/>
                  </a:lnTo>
                  <a:lnTo>
                    <a:pt x="277" y="655"/>
                  </a:lnTo>
                  <a:lnTo>
                    <a:pt x="279" y="647"/>
                  </a:lnTo>
                  <a:lnTo>
                    <a:pt x="282" y="638"/>
                  </a:lnTo>
                  <a:lnTo>
                    <a:pt x="275" y="641"/>
                  </a:lnTo>
                  <a:lnTo>
                    <a:pt x="267" y="642"/>
                  </a:lnTo>
                  <a:lnTo>
                    <a:pt x="260" y="640"/>
                  </a:lnTo>
                  <a:lnTo>
                    <a:pt x="251" y="628"/>
                  </a:lnTo>
                  <a:lnTo>
                    <a:pt x="251" y="615"/>
                  </a:lnTo>
                  <a:lnTo>
                    <a:pt x="259" y="601"/>
                  </a:lnTo>
                  <a:lnTo>
                    <a:pt x="256" y="607"/>
                  </a:lnTo>
                  <a:lnTo>
                    <a:pt x="251" y="608"/>
                  </a:lnTo>
                  <a:lnTo>
                    <a:pt x="246" y="607"/>
                  </a:lnTo>
                  <a:lnTo>
                    <a:pt x="244" y="603"/>
                  </a:lnTo>
                  <a:lnTo>
                    <a:pt x="242" y="597"/>
                  </a:lnTo>
                  <a:lnTo>
                    <a:pt x="239" y="592"/>
                  </a:lnTo>
                  <a:lnTo>
                    <a:pt x="243" y="598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8"/>
                  </a:lnTo>
                  <a:lnTo>
                    <a:pt x="236" y="626"/>
                  </a:lnTo>
                  <a:lnTo>
                    <a:pt x="236" y="634"/>
                  </a:lnTo>
                  <a:lnTo>
                    <a:pt x="224" y="640"/>
                  </a:lnTo>
                  <a:lnTo>
                    <a:pt x="213" y="647"/>
                  </a:lnTo>
                  <a:lnTo>
                    <a:pt x="200" y="647"/>
                  </a:lnTo>
                  <a:lnTo>
                    <a:pt x="200" y="646"/>
                  </a:lnTo>
                  <a:lnTo>
                    <a:pt x="200" y="643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5"/>
                  </a:lnTo>
                  <a:lnTo>
                    <a:pt x="187" y="663"/>
                  </a:lnTo>
                  <a:lnTo>
                    <a:pt x="186" y="671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7"/>
                  </a:lnTo>
                  <a:lnTo>
                    <a:pt x="177" y="673"/>
                  </a:lnTo>
                  <a:lnTo>
                    <a:pt x="172" y="671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7"/>
                  </a:lnTo>
                  <a:lnTo>
                    <a:pt x="154" y="677"/>
                  </a:lnTo>
                  <a:lnTo>
                    <a:pt x="152" y="676"/>
                  </a:lnTo>
                  <a:lnTo>
                    <a:pt x="150" y="674"/>
                  </a:lnTo>
                  <a:lnTo>
                    <a:pt x="151" y="671"/>
                  </a:lnTo>
                  <a:lnTo>
                    <a:pt x="153" y="666"/>
                  </a:lnTo>
                  <a:lnTo>
                    <a:pt x="156" y="661"/>
                  </a:lnTo>
                  <a:lnTo>
                    <a:pt x="160" y="658"/>
                  </a:lnTo>
                  <a:lnTo>
                    <a:pt x="151" y="662"/>
                  </a:lnTo>
                  <a:lnTo>
                    <a:pt x="141" y="665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6"/>
                  </a:lnTo>
                  <a:lnTo>
                    <a:pt x="134" y="651"/>
                  </a:lnTo>
                  <a:lnTo>
                    <a:pt x="128" y="656"/>
                  </a:lnTo>
                  <a:lnTo>
                    <a:pt x="122" y="661"/>
                  </a:lnTo>
                  <a:lnTo>
                    <a:pt x="117" y="666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4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5"/>
                  </a:lnTo>
                  <a:lnTo>
                    <a:pt x="111" y="618"/>
                  </a:lnTo>
                  <a:lnTo>
                    <a:pt x="111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6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5"/>
                  </a:lnTo>
                  <a:lnTo>
                    <a:pt x="75" y="526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7"/>
                  </a:lnTo>
                  <a:lnTo>
                    <a:pt x="73" y="488"/>
                  </a:lnTo>
                  <a:lnTo>
                    <a:pt x="69" y="476"/>
                  </a:lnTo>
                  <a:lnTo>
                    <a:pt x="67" y="470"/>
                  </a:lnTo>
                  <a:lnTo>
                    <a:pt x="60" y="469"/>
                  </a:lnTo>
                  <a:lnTo>
                    <a:pt x="52" y="467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3"/>
                  </a:lnTo>
                  <a:lnTo>
                    <a:pt x="19" y="426"/>
                  </a:lnTo>
                  <a:lnTo>
                    <a:pt x="8" y="421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1"/>
                  </a:lnTo>
                  <a:lnTo>
                    <a:pt x="22" y="375"/>
                  </a:lnTo>
                  <a:lnTo>
                    <a:pt x="19" y="364"/>
                  </a:lnTo>
                  <a:lnTo>
                    <a:pt x="19" y="355"/>
                  </a:lnTo>
                  <a:lnTo>
                    <a:pt x="29" y="350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49" y="328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7" y="294"/>
                  </a:lnTo>
                  <a:lnTo>
                    <a:pt x="57" y="286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1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4"/>
                  </a:lnTo>
                  <a:lnTo>
                    <a:pt x="104" y="239"/>
                  </a:lnTo>
                  <a:lnTo>
                    <a:pt x="104" y="233"/>
                  </a:lnTo>
                  <a:lnTo>
                    <a:pt x="105" y="230"/>
                  </a:lnTo>
                  <a:lnTo>
                    <a:pt x="115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4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7" y="108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70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6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1" y="62"/>
                  </a:lnTo>
                  <a:lnTo>
                    <a:pt x="230" y="64"/>
                  </a:lnTo>
                  <a:lnTo>
                    <a:pt x="239" y="72"/>
                  </a:lnTo>
                  <a:lnTo>
                    <a:pt x="248" y="75"/>
                  </a:lnTo>
                  <a:lnTo>
                    <a:pt x="249" y="70"/>
                  </a:lnTo>
                  <a:lnTo>
                    <a:pt x="247" y="64"/>
                  </a:lnTo>
                  <a:lnTo>
                    <a:pt x="244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4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0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10" y="52"/>
                  </a:lnTo>
                  <a:lnTo>
                    <a:pt x="314" y="51"/>
                  </a:lnTo>
                  <a:lnTo>
                    <a:pt x="320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0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2" y="147"/>
                  </a:lnTo>
                  <a:lnTo>
                    <a:pt x="316" y="152"/>
                  </a:lnTo>
                  <a:lnTo>
                    <a:pt x="313" y="159"/>
                  </a:lnTo>
                  <a:lnTo>
                    <a:pt x="309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1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1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7"/>
                  </a:lnTo>
                  <a:lnTo>
                    <a:pt x="348" y="293"/>
                  </a:lnTo>
                  <a:lnTo>
                    <a:pt x="359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7"/>
                  </a:lnTo>
                  <a:lnTo>
                    <a:pt x="393" y="352"/>
                  </a:lnTo>
                  <a:lnTo>
                    <a:pt x="395" y="357"/>
                  </a:lnTo>
                  <a:lnTo>
                    <a:pt x="392" y="364"/>
                  </a:lnTo>
                  <a:lnTo>
                    <a:pt x="388" y="370"/>
                  </a:lnTo>
                  <a:lnTo>
                    <a:pt x="393" y="371"/>
                  </a:lnTo>
                  <a:lnTo>
                    <a:pt x="397" y="373"/>
                  </a:lnTo>
                  <a:lnTo>
                    <a:pt x="401" y="375"/>
                  </a:lnTo>
                  <a:lnTo>
                    <a:pt x="401" y="377"/>
                  </a:lnTo>
                  <a:lnTo>
                    <a:pt x="399" y="380"/>
                  </a:lnTo>
                  <a:lnTo>
                    <a:pt x="398" y="382"/>
                  </a:lnTo>
                  <a:lnTo>
                    <a:pt x="417" y="380"/>
                  </a:lnTo>
                  <a:lnTo>
                    <a:pt x="435" y="374"/>
                  </a:lnTo>
                  <a:lnTo>
                    <a:pt x="454" y="370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7" y="383"/>
                  </a:lnTo>
                  <a:lnTo>
                    <a:pt x="444" y="387"/>
                  </a:lnTo>
                  <a:lnTo>
                    <a:pt x="441" y="386"/>
                  </a:lnTo>
                  <a:lnTo>
                    <a:pt x="441" y="389"/>
                  </a:lnTo>
                  <a:lnTo>
                    <a:pt x="441" y="391"/>
                  </a:lnTo>
                  <a:lnTo>
                    <a:pt x="441" y="393"/>
                  </a:lnTo>
                  <a:lnTo>
                    <a:pt x="435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5"/>
                  </a:lnTo>
                  <a:lnTo>
                    <a:pt x="425" y="411"/>
                  </a:lnTo>
                  <a:lnTo>
                    <a:pt x="423" y="416"/>
                  </a:lnTo>
                  <a:lnTo>
                    <a:pt x="416" y="421"/>
                  </a:lnTo>
                  <a:lnTo>
                    <a:pt x="407" y="426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1"/>
                  </a:lnTo>
                  <a:lnTo>
                    <a:pt x="378" y="433"/>
                  </a:lnTo>
                  <a:lnTo>
                    <a:pt x="369" y="435"/>
                  </a:lnTo>
                  <a:lnTo>
                    <a:pt x="369" y="439"/>
                  </a:lnTo>
                  <a:lnTo>
                    <a:pt x="373" y="444"/>
                  </a:lnTo>
                  <a:lnTo>
                    <a:pt x="374" y="449"/>
                  </a:lnTo>
                  <a:lnTo>
                    <a:pt x="364" y="453"/>
                  </a:lnTo>
                  <a:lnTo>
                    <a:pt x="352" y="450"/>
                  </a:lnTo>
                  <a:lnTo>
                    <a:pt x="343" y="452"/>
                  </a:lnTo>
                  <a:lnTo>
                    <a:pt x="341" y="458"/>
                  </a:lnTo>
                  <a:lnTo>
                    <a:pt x="340" y="466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7"/>
                  </a:lnTo>
                  <a:lnTo>
                    <a:pt x="289" y="487"/>
                  </a:lnTo>
                  <a:lnTo>
                    <a:pt x="286" y="498"/>
                  </a:lnTo>
                  <a:lnTo>
                    <a:pt x="284" y="509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5" y="518"/>
                  </a:lnTo>
                  <a:lnTo>
                    <a:pt x="274" y="526"/>
                  </a:lnTo>
                  <a:lnTo>
                    <a:pt x="267" y="536"/>
                  </a:lnTo>
                  <a:lnTo>
                    <a:pt x="267" y="549"/>
                  </a:lnTo>
                  <a:lnTo>
                    <a:pt x="282" y="580"/>
                  </a:lnTo>
                  <a:lnTo>
                    <a:pt x="302" y="609"/>
                  </a:lnTo>
                  <a:lnTo>
                    <a:pt x="318" y="640"/>
                  </a:lnTo>
                  <a:lnTo>
                    <a:pt x="322" y="647"/>
                  </a:lnTo>
                  <a:lnTo>
                    <a:pt x="331" y="652"/>
                  </a:lnTo>
                  <a:lnTo>
                    <a:pt x="342" y="651"/>
                  </a:lnTo>
                  <a:lnTo>
                    <a:pt x="332" y="661"/>
                  </a:lnTo>
                  <a:lnTo>
                    <a:pt x="328" y="673"/>
                  </a:lnTo>
                  <a:lnTo>
                    <a:pt x="326" y="687"/>
                  </a:lnTo>
                  <a:lnTo>
                    <a:pt x="321" y="693"/>
                  </a:lnTo>
                  <a:lnTo>
                    <a:pt x="311" y="698"/>
                  </a:lnTo>
                  <a:lnTo>
                    <a:pt x="303" y="704"/>
                  </a:lnTo>
                  <a:lnTo>
                    <a:pt x="301" y="717"/>
                  </a:lnTo>
                  <a:lnTo>
                    <a:pt x="305" y="730"/>
                  </a:lnTo>
                  <a:lnTo>
                    <a:pt x="310" y="743"/>
                  </a:lnTo>
                  <a:lnTo>
                    <a:pt x="317" y="751"/>
                  </a:lnTo>
                  <a:lnTo>
                    <a:pt x="327" y="756"/>
                  </a:lnTo>
                  <a:lnTo>
                    <a:pt x="336" y="763"/>
                  </a:lnTo>
                  <a:lnTo>
                    <a:pt x="342" y="771"/>
                  </a:lnTo>
                  <a:lnTo>
                    <a:pt x="345" y="781"/>
                  </a:lnTo>
                  <a:lnTo>
                    <a:pt x="347" y="790"/>
                  </a:lnTo>
                  <a:lnTo>
                    <a:pt x="350" y="806"/>
                  </a:lnTo>
                  <a:lnTo>
                    <a:pt x="349" y="823"/>
                  </a:lnTo>
                  <a:lnTo>
                    <a:pt x="342" y="836"/>
                  </a:lnTo>
                  <a:lnTo>
                    <a:pt x="351" y="839"/>
                  </a:lnTo>
                  <a:lnTo>
                    <a:pt x="359" y="838"/>
                  </a:lnTo>
                  <a:lnTo>
                    <a:pt x="363" y="837"/>
                  </a:lnTo>
                  <a:lnTo>
                    <a:pt x="370" y="866"/>
                  </a:lnTo>
                  <a:lnTo>
                    <a:pt x="361" y="894"/>
                  </a:lnTo>
                  <a:lnTo>
                    <a:pt x="343" y="920"/>
                  </a:lnTo>
                  <a:lnTo>
                    <a:pt x="336" y="930"/>
                  </a:lnTo>
                  <a:lnTo>
                    <a:pt x="330" y="941"/>
                  </a:lnTo>
                  <a:lnTo>
                    <a:pt x="325" y="952"/>
                  </a:lnTo>
                  <a:lnTo>
                    <a:pt x="319" y="971"/>
                  </a:lnTo>
                  <a:lnTo>
                    <a:pt x="319" y="97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21200" y="3626280"/>
              <a:ext cx="478800" cy="1213920"/>
            </a:xfrm>
            <a:custGeom>
              <a:avLst/>
              <a:gdLst/>
              <a:ahLst/>
              <a:rect l="l" t="t" r="r" b="b"/>
              <a:pathLst>
                <a:path w="454" h="972">
                  <a:moveTo>
                    <a:pt x="318" y="970"/>
                  </a:moveTo>
                  <a:lnTo>
                    <a:pt x="317" y="959"/>
                  </a:lnTo>
                  <a:lnTo>
                    <a:pt x="318" y="947"/>
                  </a:lnTo>
                  <a:lnTo>
                    <a:pt x="321" y="936"/>
                  </a:lnTo>
                  <a:lnTo>
                    <a:pt x="327" y="921"/>
                  </a:lnTo>
                  <a:lnTo>
                    <a:pt x="331" y="906"/>
                  </a:lnTo>
                  <a:lnTo>
                    <a:pt x="332" y="889"/>
                  </a:lnTo>
                  <a:lnTo>
                    <a:pt x="321" y="893"/>
                  </a:lnTo>
                  <a:lnTo>
                    <a:pt x="311" y="895"/>
                  </a:lnTo>
                  <a:lnTo>
                    <a:pt x="302" y="903"/>
                  </a:lnTo>
                  <a:lnTo>
                    <a:pt x="310" y="890"/>
                  </a:lnTo>
                  <a:lnTo>
                    <a:pt x="321" y="880"/>
                  </a:lnTo>
                  <a:lnTo>
                    <a:pt x="331" y="869"/>
                  </a:lnTo>
                  <a:lnTo>
                    <a:pt x="331" y="867"/>
                  </a:lnTo>
                  <a:lnTo>
                    <a:pt x="329" y="864"/>
                  </a:lnTo>
                  <a:lnTo>
                    <a:pt x="329" y="860"/>
                  </a:lnTo>
                  <a:lnTo>
                    <a:pt x="324" y="859"/>
                  </a:lnTo>
                  <a:lnTo>
                    <a:pt x="320" y="856"/>
                  </a:lnTo>
                  <a:lnTo>
                    <a:pt x="315" y="856"/>
                  </a:lnTo>
                  <a:lnTo>
                    <a:pt x="315" y="853"/>
                  </a:lnTo>
                  <a:lnTo>
                    <a:pt x="311" y="851"/>
                  </a:lnTo>
                  <a:lnTo>
                    <a:pt x="312" y="847"/>
                  </a:lnTo>
                  <a:lnTo>
                    <a:pt x="314" y="846"/>
                  </a:lnTo>
                  <a:lnTo>
                    <a:pt x="317" y="846"/>
                  </a:lnTo>
                  <a:lnTo>
                    <a:pt x="318" y="846"/>
                  </a:lnTo>
                  <a:lnTo>
                    <a:pt x="322" y="825"/>
                  </a:lnTo>
                  <a:lnTo>
                    <a:pt x="317" y="804"/>
                  </a:lnTo>
                  <a:lnTo>
                    <a:pt x="306" y="787"/>
                  </a:lnTo>
                  <a:lnTo>
                    <a:pt x="304" y="793"/>
                  </a:lnTo>
                  <a:lnTo>
                    <a:pt x="300" y="797"/>
                  </a:lnTo>
                  <a:lnTo>
                    <a:pt x="296" y="800"/>
                  </a:lnTo>
                  <a:lnTo>
                    <a:pt x="299" y="782"/>
                  </a:lnTo>
                  <a:lnTo>
                    <a:pt x="300" y="763"/>
                  </a:lnTo>
                  <a:lnTo>
                    <a:pt x="298" y="745"/>
                  </a:lnTo>
                  <a:lnTo>
                    <a:pt x="295" y="739"/>
                  </a:lnTo>
                  <a:lnTo>
                    <a:pt x="290" y="734"/>
                  </a:lnTo>
                  <a:lnTo>
                    <a:pt x="287" y="728"/>
                  </a:lnTo>
                  <a:lnTo>
                    <a:pt x="283" y="707"/>
                  </a:lnTo>
                  <a:lnTo>
                    <a:pt x="280" y="686"/>
                  </a:lnTo>
                  <a:lnTo>
                    <a:pt x="277" y="665"/>
                  </a:lnTo>
                  <a:lnTo>
                    <a:pt x="277" y="656"/>
                  </a:lnTo>
                  <a:lnTo>
                    <a:pt x="279" y="647"/>
                  </a:lnTo>
                  <a:lnTo>
                    <a:pt x="283" y="638"/>
                  </a:lnTo>
                  <a:lnTo>
                    <a:pt x="275" y="641"/>
                  </a:lnTo>
                  <a:lnTo>
                    <a:pt x="267" y="643"/>
                  </a:lnTo>
                  <a:lnTo>
                    <a:pt x="260" y="641"/>
                  </a:lnTo>
                  <a:lnTo>
                    <a:pt x="251" y="629"/>
                  </a:lnTo>
                  <a:lnTo>
                    <a:pt x="251" y="615"/>
                  </a:lnTo>
                  <a:lnTo>
                    <a:pt x="259" y="602"/>
                  </a:lnTo>
                  <a:lnTo>
                    <a:pt x="256" y="607"/>
                  </a:lnTo>
                  <a:lnTo>
                    <a:pt x="252" y="609"/>
                  </a:lnTo>
                  <a:lnTo>
                    <a:pt x="247" y="608"/>
                  </a:lnTo>
                  <a:lnTo>
                    <a:pt x="244" y="603"/>
                  </a:lnTo>
                  <a:lnTo>
                    <a:pt x="243" y="597"/>
                  </a:lnTo>
                  <a:lnTo>
                    <a:pt x="240" y="592"/>
                  </a:lnTo>
                  <a:lnTo>
                    <a:pt x="243" y="599"/>
                  </a:lnTo>
                  <a:lnTo>
                    <a:pt x="246" y="605"/>
                  </a:lnTo>
                  <a:lnTo>
                    <a:pt x="245" y="611"/>
                  </a:lnTo>
                  <a:lnTo>
                    <a:pt x="240" y="619"/>
                  </a:lnTo>
                  <a:lnTo>
                    <a:pt x="237" y="626"/>
                  </a:lnTo>
                  <a:lnTo>
                    <a:pt x="236" y="635"/>
                  </a:lnTo>
                  <a:lnTo>
                    <a:pt x="224" y="640"/>
                  </a:lnTo>
                  <a:lnTo>
                    <a:pt x="213" y="648"/>
                  </a:lnTo>
                  <a:lnTo>
                    <a:pt x="200" y="648"/>
                  </a:lnTo>
                  <a:lnTo>
                    <a:pt x="200" y="646"/>
                  </a:lnTo>
                  <a:lnTo>
                    <a:pt x="200" y="644"/>
                  </a:lnTo>
                  <a:lnTo>
                    <a:pt x="200" y="642"/>
                  </a:lnTo>
                  <a:lnTo>
                    <a:pt x="197" y="643"/>
                  </a:lnTo>
                  <a:lnTo>
                    <a:pt x="195" y="647"/>
                  </a:lnTo>
                  <a:lnTo>
                    <a:pt x="190" y="648"/>
                  </a:lnTo>
                  <a:lnTo>
                    <a:pt x="188" y="656"/>
                  </a:lnTo>
                  <a:lnTo>
                    <a:pt x="187" y="664"/>
                  </a:lnTo>
                  <a:lnTo>
                    <a:pt x="186" y="672"/>
                  </a:lnTo>
                  <a:lnTo>
                    <a:pt x="184" y="674"/>
                  </a:lnTo>
                  <a:lnTo>
                    <a:pt x="180" y="675"/>
                  </a:lnTo>
                  <a:lnTo>
                    <a:pt x="177" y="678"/>
                  </a:lnTo>
                  <a:lnTo>
                    <a:pt x="176" y="674"/>
                  </a:lnTo>
                  <a:lnTo>
                    <a:pt x="172" y="672"/>
                  </a:lnTo>
                  <a:lnTo>
                    <a:pt x="170" y="668"/>
                  </a:lnTo>
                  <a:lnTo>
                    <a:pt x="165" y="672"/>
                  </a:lnTo>
                  <a:lnTo>
                    <a:pt x="161" y="678"/>
                  </a:lnTo>
                  <a:lnTo>
                    <a:pt x="154" y="678"/>
                  </a:lnTo>
                  <a:lnTo>
                    <a:pt x="152" y="676"/>
                  </a:lnTo>
                  <a:lnTo>
                    <a:pt x="151" y="674"/>
                  </a:lnTo>
                  <a:lnTo>
                    <a:pt x="151" y="672"/>
                  </a:lnTo>
                  <a:lnTo>
                    <a:pt x="153" y="667"/>
                  </a:lnTo>
                  <a:lnTo>
                    <a:pt x="156" y="662"/>
                  </a:lnTo>
                  <a:lnTo>
                    <a:pt x="160" y="658"/>
                  </a:lnTo>
                  <a:lnTo>
                    <a:pt x="151" y="663"/>
                  </a:lnTo>
                  <a:lnTo>
                    <a:pt x="141" y="666"/>
                  </a:lnTo>
                  <a:lnTo>
                    <a:pt x="131" y="668"/>
                  </a:lnTo>
                  <a:lnTo>
                    <a:pt x="131" y="662"/>
                  </a:lnTo>
                  <a:lnTo>
                    <a:pt x="131" y="657"/>
                  </a:lnTo>
                  <a:lnTo>
                    <a:pt x="135" y="652"/>
                  </a:lnTo>
                  <a:lnTo>
                    <a:pt x="128" y="656"/>
                  </a:lnTo>
                  <a:lnTo>
                    <a:pt x="122" y="662"/>
                  </a:lnTo>
                  <a:lnTo>
                    <a:pt x="117" y="667"/>
                  </a:lnTo>
                  <a:lnTo>
                    <a:pt x="108" y="668"/>
                  </a:lnTo>
                  <a:lnTo>
                    <a:pt x="104" y="661"/>
                  </a:lnTo>
                  <a:lnTo>
                    <a:pt x="105" y="652"/>
                  </a:lnTo>
                  <a:lnTo>
                    <a:pt x="108" y="645"/>
                  </a:lnTo>
                  <a:lnTo>
                    <a:pt x="111" y="638"/>
                  </a:lnTo>
                  <a:lnTo>
                    <a:pt x="113" y="631"/>
                  </a:lnTo>
                  <a:lnTo>
                    <a:pt x="113" y="626"/>
                  </a:lnTo>
                  <a:lnTo>
                    <a:pt x="111" y="619"/>
                  </a:lnTo>
                  <a:lnTo>
                    <a:pt x="112" y="612"/>
                  </a:lnTo>
                  <a:lnTo>
                    <a:pt x="120" y="586"/>
                  </a:lnTo>
                  <a:lnTo>
                    <a:pt x="117" y="561"/>
                  </a:lnTo>
                  <a:lnTo>
                    <a:pt x="109" y="537"/>
                  </a:lnTo>
                  <a:lnTo>
                    <a:pt x="106" y="529"/>
                  </a:lnTo>
                  <a:lnTo>
                    <a:pt x="102" y="521"/>
                  </a:lnTo>
                  <a:lnTo>
                    <a:pt x="98" y="512"/>
                  </a:lnTo>
                  <a:lnTo>
                    <a:pt x="90" y="520"/>
                  </a:lnTo>
                  <a:lnTo>
                    <a:pt x="83" y="529"/>
                  </a:lnTo>
                  <a:lnTo>
                    <a:pt x="75" y="536"/>
                  </a:lnTo>
                  <a:lnTo>
                    <a:pt x="75" y="527"/>
                  </a:lnTo>
                  <a:lnTo>
                    <a:pt x="78" y="518"/>
                  </a:lnTo>
                  <a:lnTo>
                    <a:pt x="80" y="509"/>
                  </a:lnTo>
                  <a:lnTo>
                    <a:pt x="79" y="498"/>
                  </a:lnTo>
                  <a:lnTo>
                    <a:pt x="73" y="488"/>
                  </a:lnTo>
                  <a:lnTo>
                    <a:pt x="69" y="477"/>
                  </a:lnTo>
                  <a:lnTo>
                    <a:pt x="67" y="471"/>
                  </a:lnTo>
                  <a:lnTo>
                    <a:pt x="61" y="469"/>
                  </a:lnTo>
                  <a:lnTo>
                    <a:pt x="52" y="468"/>
                  </a:lnTo>
                  <a:lnTo>
                    <a:pt x="44" y="462"/>
                  </a:lnTo>
                  <a:lnTo>
                    <a:pt x="34" y="450"/>
                  </a:lnTo>
                  <a:lnTo>
                    <a:pt x="27" y="434"/>
                  </a:lnTo>
                  <a:lnTo>
                    <a:pt x="19" y="426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0" y="400"/>
                  </a:lnTo>
                  <a:lnTo>
                    <a:pt x="5" y="389"/>
                  </a:lnTo>
                  <a:lnTo>
                    <a:pt x="18" y="382"/>
                  </a:lnTo>
                  <a:lnTo>
                    <a:pt x="22" y="375"/>
                  </a:lnTo>
                  <a:lnTo>
                    <a:pt x="20" y="365"/>
                  </a:lnTo>
                  <a:lnTo>
                    <a:pt x="20" y="355"/>
                  </a:lnTo>
                  <a:lnTo>
                    <a:pt x="29" y="351"/>
                  </a:lnTo>
                  <a:lnTo>
                    <a:pt x="40" y="350"/>
                  </a:lnTo>
                  <a:lnTo>
                    <a:pt x="47" y="344"/>
                  </a:lnTo>
                  <a:lnTo>
                    <a:pt x="50" y="329"/>
                  </a:lnTo>
                  <a:lnTo>
                    <a:pt x="50" y="313"/>
                  </a:lnTo>
                  <a:lnTo>
                    <a:pt x="48" y="298"/>
                  </a:lnTo>
                  <a:lnTo>
                    <a:pt x="52" y="298"/>
                  </a:lnTo>
                  <a:lnTo>
                    <a:pt x="56" y="297"/>
                  </a:lnTo>
                  <a:lnTo>
                    <a:pt x="58" y="294"/>
                  </a:lnTo>
                  <a:lnTo>
                    <a:pt x="58" y="287"/>
                  </a:lnTo>
                  <a:lnTo>
                    <a:pt x="59" y="281"/>
                  </a:lnTo>
                  <a:lnTo>
                    <a:pt x="63" y="274"/>
                  </a:lnTo>
                  <a:lnTo>
                    <a:pt x="66" y="265"/>
                  </a:lnTo>
                  <a:lnTo>
                    <a:pt x="65" y="255"/>
                  </a:lnTo>
                  <a:lnTo>
                    <a:pt x="62" y="245"/>
                  </a:lnTo>
                  <a:lnTo>
                    <a:pt x="77" y="248"/>
                  </a:lnTo>
                  <a:lnTo>
                    <a:pt x="92" y="252"/>
                  </a:lnTo>
                  <a:lnTo>
                    <a:pt x="104" y="245"/>
                  </a:lnTo>
                  <a:lnTo>
                    <a:pt x="105" y="239"/>
                  </a:lnTo>
                  <a:lnTo>
                    <a:pt x="104" y="234"/>
                  </a:lnTo>
                  <a:lnTo>
                    <a:pt x="105" y="230"/>
                  </a:lnTo>
                  <a:lnTo>
                    <a:pt x="116" y="218"/>
                  </a:lnTo>
                  <a:lnTo>
                    <a:pt x="122" y="205"/>
                  </a:lnTo>
                  <a:lnTo>
                    <a:pt x="129" y="191"/>
                  </a:lnTo>
                  <a:lnTo>
                    <a:pt x="130" y="183"/>
                  </a:lnTo>
                  <a:lnTo>
                    <a:pt x="128" y="173"/>
                  </a:lnTo>
                  <a:lnTo>
                    <a:pt x="128" y="163"/>
                  </a:lnTo>
                  <a:lnTo>
                    <a:pt x="133" y="155"/>
                  </a:lnTo>
                  <a:lnTo>
                    <a:pt x="140" y="147"/>
                  </a:lnTo>
                  <a:lnTo>
                    <a:pt x="147" y="139"/>
                  </a:lnTo>
                  <a:lnTo>
                    <a:pt x="150" y="131"/>
                  </a:lnTo>
                  <a:lnTo>
                    <a:pt x="149" y="123"/>
                  </a:lnTo>
                  <a:lnTo>
                    <a:pt x="146" y="115"/>
                  </a:lnTo>
                  <a:lnTo>
                    <a:pt x="148" y="109"/>
                  </a:lnTo>
                  <a:lnTo>
                    <a:pt x="154" y="101"/>
                  </a:lnTo>
                  <a:lnTo>
                    <a:pt x="161" y="94"/>
                  </a:lnTo>
                  <a:lnTo>
                    <a:pt x="165" y="93"/>
                  </a:lnTo>
                  <a:lnTo>
                    <a:pt x="169" y="93"/>
                  </a:lnTo>
                  <a:lnTo>
                    <a:pt x="173" y="92"/>
                  </a:lnTo>
                  <a:lnTo>
                    <a:pt x="179" y="87"/>
                  </a:lnTo>
                  <a:lnTo>
                    <a:pt x="185" y="81"/>
                  </a:lnTo>
                  <a:lnTo>
                    <a:pt x="191" y="75"/>
                  </a:lnTo>
                  <a:lnTo>
                    <a:pt x="200" y="69"/>
                  </a:lnTo>
                  <a:lnTo>
                    <a:pt x="210" y="66"/>
                  </a:lnTo>
                  <a:lnTo>
                    <a:pt x="220" y="62"/>
                  </a:lnTo>
                  <a:lnTo>
                    <a:pt x="231" y="64"/>
                  </a:lnTo>
                  <a:lnTo>
                    <a:pt x="240" y="73"/>
                  </a:lnTo>
                  <a:lnTo>
                    <a:pt x="249" y="75"/>
                  </a:lnTo>
                  <a:lnTo>
                    <a:pt x="249" y="71"/>
                  </a:lnTo>
                  <a:lnTo>
                    <a:pt x="247" y="64"/>
                  </a:lnTo>
                  <a:lnTo>
                    <a:pt x="245" y="57"/>
                  </a:lnTo>
                  <a:lnTo>
                    <a:pt x="250" y="43"/>
                  </a:lnTo>
                  <a:lnTo>
                    <a:pt x="261" y="33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69" y="15"/>
                  </a:lnTo>
                  <a:lnTo>
                    <a:pt x="269" y="11"/>
                  </a:lnTo>
                  <a:lnTo>
                    <a:pt x="267" y="8"/>
                  </a:lnTo>
                  <a:lnTo>
                    <a:pt x="266" y="4"/>
                  </a:lnTo>
                  <a:lnTo>
                    <a:pt x="266" y="1"/>
                  </a:lnTo>
                  <a:lnTo>
                    <a:pt x="269" y="1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88" y="9"/>
                  </a:lnTo>
                  <a:lnTo>
                    <a:pt x="298" y="19"/>
                  </a:lnTo>
                  <a:lnTo>
                    <a:pt x="304" y="31"/>
                  </a:lnTo>
                  <a:lnTo>
                    <a:pt x="305" y="39"/>
                  </a:lnTo>
                  <a:lnTo>
                    <a:pt x="305" y="47"/>
                  </a:lnTo>
                  <a:lnTo>
                    <a:pt x="309" y="52"/>
                  </a:lnTo>
                  <a:lnTo>
                    <a:pt x="314" y="51"/>
                  </a:lnTo>
                  <a:lnTo>
                    <a:pt x="319" y="50"/>
                  </a:lnTo>
                  <a:lnTo>
                    <a:pt x="325" y="51"/>
                  </a:lnTo>
                  <a:lnTo>
                    <a:pt x="330" y="57"/>
                  </a:lnTo>
                  <a:lnTo>
                    <a:pt x="332" y="65"/>
                  </a:lnTo>
                  <a:lnTo>
                    <a:pt x="330" y="74"/>
                  </a:lnTo>
                  <a:lnTo>
                    <a:pt x="330" y="86"/>
                  </a:lnTo>
                  <a:lnTo>
                    <a:pt x="337" y="97"/>
                  </a:lnTo>
                  <a:lnTo>
                    <a:pt x="337" y="111"/>
                  </a:lnTo>
                  <a:lnTo>
                    <a:pt x="331" y="121"/>
                  </a:lnTo>
                  <a:lnTo>
                    <a:pt x="325" y="131"/>
                  </a:lnTo>
                  <a:lnTo>
                    <a:pt x="329" y="143"/>
                  </a:lnTo>
                  <a:lnTo>
                    <a:pt x="321" y="147"/>
                  </a:lnTo>
                  <a:lnTo>
                    <a:pt x="316" y="153"/>
                  </a:lnTo>
                  <a:lnTo>
                    <a:pt x="313" y="159"/>
                  </a:lnTo>
                  <a:lnTo>
                    <a:pt x="308" y="171"/>
                  </a:lnTo>
                  <a:lnTo>
                    <a:pt x="298" y="178"/>
                  </a:lnTo>
                  <a:lnTo>
                    <a:pt x="287" y="184"/>
                  </a:lnTo>
                  <a:lnTo>
                    <a:pt x="281" y="192"/>
                  </a:lnTo>
                  <a:lnTo>
                    <a:pt x="277" y="201"/>
                  </a:lnTo>
                  <a:lnTo>
                    <a:pt x="269" y="209"/>
                  </a:lnTo>
                  <a:lnTo>
                    <a:pt x="278" y="224"/>
                  </a:lnTo>
                  <a:lnTo>
                    <a:pt x="282" y="240"/>
                  </a:lnTo>
                  <a:lnTo>
                    <a:pt x="273" y="255"/>
                  </a:lnTo>
                  <a:lnTo>
                    <a:pt x="284" y="249"/>
                  </a:lnTo>
                  <a:lnTo>
                    <a:pt x="295" y="243"/>
                  </a:lnTo>
                  <a:lnTo>
                    <a:pt x="307" y="237"/>
                  </a:lnTo>
                  <a:lnTo>
                    <a:pt x="317" y="234"/>
                  </a:lnTo>
                  <a:lnTo>
                    <a:pt x="330" y="234"/>
                  </a:lnTo>
                  <a:lnTo>
                    <a:pt x="342" y="239"/>
                  </a:lnTo>
                  <a:lnTo>
                    <a:pt x="335" y="248"/>
                  </a:lnTo>
                  <a:lnTo>
                    <a:pt x="336" y="261"/>
                  </a:lnTo>
                  <a:lnTo>
                    <a:pt x="341" y="272"/>
                  </a:lnTo>
                  <a:lnTo>
                    <a:pt x="342" y="277"/>
                  </a:lnTo>
                  <a:lnTo>
                    <a:pt x="340" y="283"/>
                  </a:lnTo>
                  <a:lnTo>
                    <a:pt x="340" y="288"/>
                  </a:lnTo>
                  <a:lnTo>
                    <a:pt x="347" y="293"/>
                  </a:lnTo>
                  <a:lnTo>
                    <a:pt x="358" y="291"/>
                  </a:lnTo>
                  <a:lnTo>
                    <a:pt x="365" y="293"/>
                  </a:lnTo>
                  <a:lnTo>
                    <a:pt x="364" y="308"/>
                  </a:lnTo>
                  <a:lnTo>
                    <a:pt x="358" y="326"/>
                  </a:lnTo>
                  <a:lnTo>
                    <a:pt x="360" y="343"/>
                  </a:lnTo>
                  <a:lnTo>
                    <a:pt x="370" y="348"/>
                  </a:lnTo>
                  <a:lnTo>
                    <a:pt x="383" y="348"/>
                  </a:lnTo>
                  <a:lnTo>
                    <a:pt x="393" y="352"/>
                  </a:lnTo>
                  <a:lnTo>
                    <a:pt x="394" y="358"/>
                  </a:lnTo>
                  <a:lnTo>
                    <a:pt x="392" y="364"/>
                  </a:lnTo>
                  <a:lnTo>
                    <a:pt x="388" y="371"/>
                  </a:lnTo>
                  <a:lnTo>
                    <a:pt x="393" y="372"/>
                  </a:lnTo>
                  <a:lnTo>
                    <a:pt x="397" y="374"/>
                  </a:lnTo>
                  <a:lnTo>
                    <a:pt x="401" y="375"/>
                  </a:lnTo>
                  <a:lnTo>
                    <a:pt x="401" y="378"/>
                  </a:lnTo>
                  <a:lnTo>
                    <a:pt x="398" y="381"/>
                  </a:lnTo>
                  <a:lnTo>
                    <a:pt x="398" y="383"/>
                  </a:lnTo>
                  <a:lnTo>
                    <a:pt x="417" y="381"/>
                  </a:lnTo>
                  <a:lnTo>
                    <a:pt x="435" y="374"/>
                  </a:lnTo>
                  <a:lnTo>
                    <a:pt x="454" y="371"/>
                  </a:lnTo>
                  <a:lnTo>
                    <a:pt x="452" y="375"/>
                  </a:lnTo>
                  <a:lnTo>
                    <a:pt x="451" y="377"/>
                  </a:lnTo>
                  <a:lnTo>
                    <a:pt x="450" y="381"/>
                  </a:lnTo>
                  <a:lnTo>
                    <a:pt x="446" y="384"/>
                  </a:lnTo>
                  <a:lnTo>
                    <a:pt x="444" y="388"/>
                  </a:lnTo>
                  <a:lnTo>
                    <a:pt x="441" y="387"/>
                  </a:lnTo>
                  <a:lnTo>
                    <a:pt x="441" y="389"/>
                  </a:lnTo>
                  <a:lnTo>
                    <a:pt x="441" y="392"/>
                  </a:lnTo>
                  <a:lnTo>
                    <a:pt x="441" y="394"/>
                  </a:lnTo>
                  <a:lnTo>
                    <a:pt x="434" y="394"/>
                  </a:lnTo>
                  <a:lnTo>
                    <a:pt x="429" y="397"/>
                  </a:lnTo>
                  <a:lnTo>
                    <a:pt x="425" y="401"/>
                  </a:lnTo>
                  <a:lnTo>
                    <a:pt x="424" y="406"/>
                  </a:lnTo>
                  <a:lnTo>
                    <a:pt x="425" y="412"/>
                  </a:lnTo>
                  <a:lnTo>
                    <a:pt x="423" y="416"/>
                  </a:lnTo>
                  <a:lnTo>
                    <a:pt x="416" y="422"/>
                  </a:lnTo>
                  <a:lnTo>
                    <a:pt x="407" y="427"/>
                  </a:lnTo>
                  <a:lnTo>
                    <a:pt x="401" y="431"/>
                  </a:lnTo>
                  <a:lnTo>
                    <a:pt x="397" y="431"/>
                  </a:lnTo>
                  <a:lnTo>
                    <a:pt x="387" y="432"/>
                  </a:lnTo>
                  <a:lnTo>
                    <a:pt x="378" y="433"/>
                  </a:lnTo>
                  <a:lnTo>
                    <a:pt x="369" y="436"/>
                  </a:lnTo>
                  <a:lnTo>
                    <a:pt x="369" y="439"/>
                  </a:lnTo>
                  <a:lnTo>
                    <a:pt x="373" y="445"/>
                  </a:lnTo>
                  <a:lnTo>
                    <a:pt x="374" y="449"/>
                  </a:lnTo>
                  <a:lnTo>
                    <a:pt x="364" y="454"/>
                  </a:lnTo>
                  <a:lnTo>
                    <a:pt x="352" y="451"/>
                  </a:lnTo>
                  <a:lnTo>
                    <a:pt x="343" y="452"/>
                  </a:lnTo>
                  <a:lnTo>
                    <a:pt x="341" y="459"/>
                  </a:lnTo>
                  <a:lnTo>
                    <a:pt x="340" y="467"/>
                  </a:lnTo>
                  <a:lnTo>
                    <a:pt x="335" y="471"/>
                  </a:lnTo>
                  <a:lnTo>
                    <a:pt x="318" y="471"/>
                  </a:lnTo>
                  <a:lnTo>
                    <a:pt x="302" y="471"/>
                  </a:lnTo>
                  <a:lnTo>
                    <a:pt x="293" y="478"/>
                  </a:lnTo>
                  <a:lnTo>
                    <a:pt x="289" y="488"/>
                  </a:lnTo>
                  <a:lnTo>
                    <a:pt x="286" y="498"/>
                  </a:lnTo>
                  <a:lnTo>
                    <a:pt x="284" y="510"/>
                  </a:lnTo>
                  <a:lnTo>
                    <a:pt x="285" y="512"/>
                  </a:lnTo>
                  <a:lnTo>
                    <a:pt x="286" y="516"/>
                  </a:lnTo>
                  <a:lnTo>
                    <a:pt x="286" y="519"/>
                  </a:lnTo>
                  <a:lnTo>
                    <a:pt x="274" y="527"/>
                  </a:lnTo>
                  <a:lnTo>
                    <a:pt x="267" y="537"/>
                  </a:lnTo>
                  <a:lnTo>
                    <a:pt x="267" y="549"/>
                  </a:lnTo>
                  <a:lnTo>
                    <a:pt x="283" y="580"/>
                  </a:lnTo>
                  <a:lnTo>
                    <a:pt x="302" y="609"/>
                  </a:lnTo>
                  <a:lnTo>
                    <a:pt x="318" y="641"/>
                  </a:lnTo>
                  <a:lnTo>
                    <a:pt x="322" y="648"/>
                  </a:lnTo>
                  <a:lnTo>
                    <a:pt x="331" y="652"/>
                  </a:lnTo>
                  <a:lnTo>
                    <a:pt x="342" y="652"/>
                  </a:lnTo>
                  <a:lnTo>
                    <a:pt x="332" y="662"/>
                  </a:lnTo>
                  <a:lnTo>
                    <a:pt x="328" y="674"/>
                  </a:lnTo>
                  <a:lnTo>
                    <a:pt x="326" y="688"/>
                  </a:lnTo>
                  <a:lnTo>
                    <a:pt x="321" y="694"/>
                  </a:lnTo>
                  <a:lnTo>
                    <a:pt x="311" y="698"/>
                  </a:lnTo>
                  <a:lnTo>
                    <a:pt x="303" y="705"/>
                  </a:lnTo>
                  <a:lnTo>
                    <a:pt x="301" y="718"/>
                  </a:lnTo>
                  <a:lnTo>
                    <a:pt x="305" y="731"/>
                  </a:lnTo>
                  <a:lnTo>
                    <a:pt x="310" y="744"/>
                  </a:lnTo>
                  <a:lnTo>
                    <a:pt x="317" y="751"/>
                  </a:lnTo>
                  <a:lnTo>
                    <a:pt x="327" y="757"/>
                  </a:lnTo>
                  <a:lnTo>
                    <a:pt x="336" y="764"/>
                  </a:lnTo>
                  <a:lnTo>
                    <a:pt x="342" y="772"/>
                  </a:lnTo>
                  <a:lnTo>
                    <a:pt x="345" y="781"/>
                  </a:lnTo>
                  <a:lnTo>
                    <a:pt x="347" y="791"/>
                  </a:lnTo>
                  <a:lnTo>
                    <a:pt x="349" y="807"/>
                  </a:lnTo>
                  <a:lnTo>
                    <a:pt x="349" y="823"/>
                  </a:lnTo>
                  <a:lnTo>
                    <a:pt x="342" y="837"/>
                  </a:lnTo>
                  <a:lnTo>
                    <a:pt x="350" y="840"/>
                  </a:lnTo>
                  <a:lnTo>
                    <a:pt x="358" y="838"/>
                  </a:lnTo>
                  <a:lnTo>
                    <a:pt x="363" y="838"/>
                  </a:lnTo>
                  <a:lnTo>
                    <a:pt x="370" y="866"/>
                  </a:lnTo>
                  <a:lnTo>
                    <a:pt x="361" y="895"/>
                  </a:lnTo>
                  <a:lnTo>
                    <a:pt x="343" y="920"/>
                  </a:lnTo>
                  <a:lnTo>
                    <a:pt x="336" y="931"/>
                  </a:lnTo>
                  <a:lnTo>
                    <a:pt x="330" y="941"/>
                  </a:lnTo>
                  <a:lnTo>
                    <a:pt x="325" y="953"/>
                  </a:lnTo>
                  <a:lnTo>
                    <a:pt x="319" y="972"/>
                  </a:lnTo>
                  <a:lnTo>
                    <a:pt x="318" y="97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03080" y="4164840"/>
              <a:ext cx="425880" cy="950400"/>
            </a:xfrm>
            <a:custGeom>
              <a:avLst/>
              <a:gdLst/>
              <a:ahLst/>
              <a:rect l="l" t="t" r="r" b="b"/>
              <a:pathLst>
                <a:path w="404" h="761">
                  <a:moveTo>
                    <a:pt x="130" y="728"/>
                  </a:moveTo>
                  <a:lnTo>
                    <a:pt x="126" y="730"/>
                  </a:lnTo>
                  <a:lnTo>
                    <a:pt x="118" y="733"/>
                  </a:lnTo>
                  <a:lnTo>
                    <a:pt x="109" y="731"/>
                  </a:lnTo>
                  <a:lnTo>
                    <a:pt x="104" y="720"/>
                  </a:lnTo>
                  <a:lnTo>
                    <a:pt x="106" y="706"/>
                  </a:lnTo>
                  <a:lnTo>
                    <a:pt x="111" y="693"/>
                  </a:lnTo>
                  <a:lnTo>
                    <a:pt x="105" y="691"/>
                  </a:lnTo>
                  <a:lnTo>
                    <a:pt x="105" y="684"/>
                  </a:lnTo>
                  <a:lnTo>
                    <a:pt x="102" y="680"/>
                  </a:lnTo>
                  <a:lnTo>
                    <a:pt x="93" y="677"/>
                  </a:lnTo>
                  <a:lnTo>
                    <a:pt x="85" y="675"/>
                  </a:lnTo>
                  <a:lnTo>
                    <a:pt x="80" y="669"/>
                  </a:lnTo>
                  <a:lnTo>
                    <a:pt x="77" y="661"/>
                  </a:lnTo>
                  <a:lnTo>
                    <a:pt x="75" y="652"/>
                  </a:lnTo>
                  <a:lnTo>
                    <a:pt x="74" y="643"/>
                  </a:lnTo>
                  <a:lnTo>
                    <a:pt x="72" y="639"/>
                  </a:lnTo>
                  <a:lnTo>
                    <a:pt x="67" y="637"/>
                  </a:lnTo>
                  <a:lnTo>
                    <a:pt x="63" y="637"/>
                  </a:lnTo>
                  <a:lnTo>
                    <a:pt x="54" y="647"/>
                  </a:lnTo>
                  <a:lnTo>
                    <a:pt x="49" y="656"/>
                  </a:lnTo>
                  <a:lnTo>
                    <a:pt x="40" y="652"/>
                  </a:lnTo>
                  <a:lnTo>
                    <a:pt x="39" y="643"/>
                  </a:lnTo>
                  <a:lnTo>
                    <a:pt x="42" y="633"/>
                  </a:lnTo>
                  <a:lnTo>
                    <a:pt x="41" y="625"/>
                  </a:lnTo>
                  <a:lnTo>
                    <a:pt x="36" y="610"/>
                  </a:lnTo>
                  <a:lnTo>
                    <a:pt x="38" y="597"/>
                  </a:lnTo>
                  <a:lnTo>
                    <a:pt x="41" y="585"/>
                  </a:lnTo>
                  <a:lnTo>
                    <a:pt x="50" y="551"/>
                  </a:lnTo>
                  <a:lnTo>
                    <a:pt x="60" y="519"/>
                  </a:lnTo>
                  <a:lnTo>
                    <a:pt x="77" y="489"/>
                  </a:lnTo>
                  <a:lnTo>
                    <a:pt x="94" y="463"/>
                  </a:lnTo>
                  <a:lnTo>
                    <a:pt x="103" y="435"/>
                  </a:lnTo>
                  <a:lnTo>
                    <a:pt x="96" y="407"/>
                  </a:lnTo>
                  <a:lnTo>
                    <a:pt x="92" y="407"/>
                  </a:lnTo>
                  <a:lnTo>
                    <a:pt x="84" y="409"/>
                  </a:lnTo>
                  <a:lnTo>
                    <a:pt x="75" y="405"/>
                  </a:lnTo>
                  <a:lnTo>
                    <a:pt x="83" y="392"/>
                  </a:lnTo>
                  <a:lnTo>
                    <a:pt x="83" y="375"/>
                  </a:lnTo>
                  <a:lnTo>
                    <a:pt x="80" y="359"/>
                  </a:lnTo>
                  <a:lnTo>
                    <a:pt x="79" y="350"/>
                  </a:lnTo>
                  <a:lnTo>
                    <a:pt x="75" y="341"/>
                  </a:lnTo>
                  <a:lnTo>
                    <a:pt x="69" y="332"/>
                  </a:lnTo>
                  <a:lnTo>
                    <a:pt x="60" y="326"/>
                  </a:lnTo>
                  <a:lnTo>
                    <a:pt x="50" y="320"/>
                  </a:lnTo>
                  <a:lnTo>
                    <a:pt x="43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4"/>
                  </a:lnTo>
                  <a:lnTo>
                    <a:pt x="44" y="267"/>
                  </a:lnTo>
                  <a:lnTo>
                    <a:pt x="54" y="263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1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8"/>
                  </a:lnTo>
                  <a:lnTo>
                    <a:pt x="16" y="149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7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7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40"/>
                  </a:lnTo>
                  <a:lnTo>
                    <a:pt x="51" y="40"/>
                  </a:lnTo>
                  <a:lnTo>
                    <a:pt x="68" y="40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1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8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1"/>
                  </a:lnTo>
                  <a:lnTo>
                    <a:pt x="156" y="33"/>
                  </a:lnTo>
                  <a:lnTo>
                    <a:pt x="162" y="40"/>
                  </a:lnTo>
                  <a:lnTo>
                    <a:pt x="172" y="41"/>
                  </a:lnTo>
                  <a:lnTo>
                    <a:pt x="183" y="41"/>
                  </a:lnTo>
                  <a:lnTo>
                    <a:pt x="194" y="42"/>
                  </a:lnTo>
                  <a:lnTo>
                    <a:pt x="195" y="46"/>
                  </a:lnTo>
                  <a:lnTo>
                    <a:pt x="197" y="49"/>
                  </a:lnTo>
                  <a:lnTo>
                    <a:pt x="196" y="51"/>
                  </a:lnTo>
                  <a:lnTo>
                    <a:pt x="192" y="58"/>
                  </a:lnTo>
                  <a:lnTo>
                    <a:pt x="193" y="66"/>
                  </a:lnTo>
                  <a:lnTo>
                    <a:pt x="200" y="72"/>
                  </a:lnTo>
                  <a:lnTo>
                    <a:pt x="201" y="75"/>
                  </a:lnTo>
                  <a:lnTo>
                    <a:pt x="201" y="78"/>
                  </a:lnTo>
                  <a:lnTo>
                    <a:pt x="200" y="81"/>
                  </a:lnTo>
                  <a:lnTo>
                    <a:pt x="196" y="84"/>
                  </a:lnTo>
                  <a:lnTo>
                    <a:pt x="192" y="87"/>
                  </a:lnTo>
                  <a:lnTo>
                    <a:pt x="187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10"/>
                  </a:lnTo>
                  <a:lnTo>
                    <a:pt x="178" y="115"/>
                  </a:lnTo>
                  <a:lnTo>
                    <a:pt x="184" y="120"/>
                  </a:lnTo>
                  <a:lnTo>
                    <a:pt x="188" y="124"/>
                  </a:lnTo>
                  <a:lnTo>
                    <a:pt x="183" y="137"/>
                  </a:lnTo>
                  <a:lnTo>
                    <a:pt x="176" y="147"/>
                  </a:lnTo>
                  <a:lnTo>
                    <a:pt x="185" y="156"/>
                  </a:lnTo>
                  <a:lnTo>
                    <a:pt x="203" y="152"/>
                  </a:lnTo>
                  <a:lnTo>
                    <a:pt x="217" y="137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4"/>
                  </a:lnTo>
                  <a:lnTo>
                    <a:pt x="267" y="138"/>
                  </a:lnTo>
                  <a:lnTo>
                    <a:pt x="277" y="133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5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2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7"/>
                  </a:lnTo>
                  <a:lnTo>
                    <a:pt x="388" y="231"/>
                  </a:lnTo>
                  <a:lnTo>
                    <a:pt x="404" y="267"/>
                  </a:lnTo>
                  <a:lnTo>
                    <a:pt x="402" y="306"/>
                  </a:lnTo>
                  <a:lnTo>
                    <a:pt x="384" y="323"/>
                  </a:lnTo>
                  <a:lnTo>
                    <a:pt x="381" y="319"/>
                  </a:lnTo>
                  <a:lnTo>
                    <a:pt x="378" y="316"/>
                  </a:lnTo>
                  <a:lnTo>
                    <a:pt x="375" y="314"/>
                  </a:lnTo>
                  <a:lnTo>
                    <a:pt x="366" y="313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2"/>
                  </a:lnTo>
                  <a:lnTo>
                    <a:pt x="330" y="320"/>
                  </a:lnTo>
                  <a:lnTo>
                    <a:pt x="319" y="319"/>
                  </a:lnTo>
                  <a:lnTo>
                    <a:pt x="314" y="318"/>
                  </a:lnTo>
                  <a:lnTo>
                    <a:pt x="308" y="316"/>
                  </a:lnTo>
                  <a:lnTo>
                    <a:pt x="303" y="317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7"/>
                  </a:lnTo>
                  <a:lnTo>
                    <a:pt x="277" y="333"/>
                  </a:lnTo>
                  <a:lnTo>
                    <a:pt x="275" y="338"/>
                  </a:lnTo>
                  <a:lnTo>
                    <a:pt x="264" y="350"/>
                  </a:lnTo>
                  <a:lnTo>
                    <a:pt x="251" y="360"/>
                  </a:lnTo>
                  <a:lnTo>
                    <a:pt x="242" y="373"/>
                  </a:lnTo>
                  <a:lnTo>
                    <a:pt x="243" y="375"/>
                  </a:lnTo>
                  <a:lnTo>
                    <a:pt x="247" y="376"/>
                  </a:lnTo>
                  <a:lnTo>
                    <a:pt x="250" y="379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2"/>
                  </a:lnTo>
                  <a:lnTo>
                    <a:pt x="260" y="421"/>
                  </a:lnTo>
                  <a:lnTo>
                    <a:pt x="264" y="440"/>
                  </a:lnTo>
                  <a:lnTo>
                    <a:pt x="264" y="458"/>
                  </a:lnTo>
                  <a:lnTo>
                    <a:pt x="261" y="458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6"/>
                  </a:lnTo>
                  <a:lnTo>
                    <a:pt x="242" y="440"/>
                  </a:lnTo>
                  <a:lnTo>
                    <a:pt x="235" y="429"/>
                  </a:lnTo>
                  <a:lnTo>
                    <a:pt x="230" y="417"/>
                  </a:lnTo>
                  <a:lnTo>
                    <a:pt x="224" y="405"/>
                  </a:lnTo>
                  <a:lnTo>
                    <a:pt x="215" y="409"/>
                  </a:lnTo>
                  <a:lnTo>
                    <a:pt x="208" y="404"/>
                  </a:lnTo>
                  <a:lnTo>
                    <a:pt x="201" y="399"/>
                  </a:lnTo>
                  <a:lnTo>
                    <a:pt x="201" y="402"/>
                  </a:lnTo>
                  <a:lnTo>
                    <a:pt x="200" y="404"/>
                  </a:lnTo>
                  <a:lnTo>
                    <a:pt x="197" y="405"/>
                  </a:lnTo>
                  <a:lnTo>
                    <a:pt x="191" y="405"/>
                  </a:lnTo>
                  <a:lnTo>
                    <a:pt x="185" y="408"/>
                  </a:lnTo>
                  <a:lnTo>
                    <a:pt x="180" y="411"/>
                  </a:lnTo>
                  <a:lnTo>
                    <a:pt x="172" y="412"/>
                  </a:lnTo>
                  <a:lnTo>
                    <a:pt x="165" y="408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2" y="382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8"/>
                  </a:lnTo>
                  <a:lnTo>
                    <a:pt x="132" y="360"/>
                  </a:lnTo>
                  <a:lnTo>
                    <a:pt x="128" y="363"/>
                  </a:lnTo>
                  <a:lnTo>
                    <a:pt x="128" y="369"/>
                  </a:lnTo>
                  <a:lnTo>
                    <a:pt x="128" y="376"/>
                  </a:lnTo>
                  <a:lnTo>
                    <a:pt x="131" y="375"/>
                  </a:lnTo>
                  <a:lnTo>
                    <a:pt x="133" y="377"/>
                  </a:lnTo>
                  <a:lnTo>
                    <a:pt x="135" y="379"/>
                  </a:lnTo>
                  <a:lnTo>
                    <a:pt x="135" y="382"/>
                  </a:lnTo>
                  <a:lnTo>
                    <a:pt x="135" y="385"/>
                  </a:lnTo>
                  <a:lnTo>
                    <a:pt x="135" y="389"/>
                  </a:lnTo>
                  <a:lnTo>
                    <a:pt x="132" y="389"/>
                  </a:lnTo>
                  <a:lnTo>
                    <a:pt x="131" y="392"/>
                  </a:lnTo>
                  <a:lnTo>
                    <a:pt x="128" y="392"/>
                  </a:lnTo>
                  <a:lnTo>
                    <a:pt x="130" y="402"/>
                  </a:lnTo>
                  <a:lnTo>
                    <a:pt x="132" y="412"/>
                  </a:lnTo>
                  <a:lnTo>
                    <a:pt x="131" y="422"/>
                  </a:lnTo>
                  <a:lnTo>
                    <a:pt x="122" y="450"/>
                  </a:lnTo>
                  <a:lnTo>
                    <a:pt x="113" y="478"/>
                  </a:lnTo>
                  <a:lnTo>
                    <a:pt x="100" y="506"/>
                  </a:lnTo>
                  <a:lnTo>
                    <a:pt x="92" y="520"/>
                  </a:lnTo>
                  <a:lnTo>
                    <a:pt x="88" y="535"/>
                  </a:lnTo>
                  <a:lnTo>
                    <a:pt x="90" y="550"/>
                  </a:lnTo>
                  <a:lnTo>
                    <a:pt x="91" y="556"/>
                  </a:lnTo>
                  <a:lnTo>
                    <a:pt x="90" y="562"/>
                  </a:lnTo>
                  <a:lnTo>
                    <a:pt x="92" y="567"/>
                  </a:lnTo>
                  <a:lnTo>
                    <a:pt x="104" y="577"/>
                  </a:lnTo>
                  <a:lnTo>
                    <a:pt x="115" y="588"/>
                  </a:lnTo>
                  <a:lnTo>
                    <a:pt x="127" y="598"/>
                  </a:lnTo>
                  <a:lnTo>
                    <a:pt x="128" y="600"/>
                  </a:lnTo>
                  <a:lnTo>
                    <a:pt x="127" y="604"/>
                  </a:lnTo>
                  <a:lnTo>
                    <a:pt x="126" y="607"/>
                  </a:lnTo>
                  <a:lnTo>
                    <a:pt x="129" y="618"/>
                  </a:lnTo>
                  <a:lnTo>
                    <a:pt x="137" y="627"/>
                  </a:lnTo>
                  <a:lnTo>
                    <a:pt x="144" y="637"/>
                  </a:lnTo>
                  <a:lnTo>
                    <a:pt x="144" y="646"/>
                  </a:lnTo>
                  <a:lnTo>
                    <a:pt x="143" y="655"/>
                  </a:lnTo>
                  <a:lnTo>
                    <a:pt x="143" y="662"/>
                  </a:lnTo>
                  <a:lnTo>
                    <a:pt x="152" y="680"/>
                  </a:lnTo>
                  <a:lnTo>
                    <a:pt x="165" y="694"/>
                  </a:lnTo>
                  <a:lnTo>
                    <a:pt x="181" y="705"/>
                  </a:lnTo>
                  <a:lnTo>
                    <a:pt x="189" y="705"/>
                  </a:lnTo>
                  <a:lnTo>
                    <a:pt x="196" y="702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4"/>
                  </a:lnTo>
                  <a:lnTo>
                    <a:pt x="214" y="723"/>
                  </a:lnTo>
                  <a:lnTo>
                    <a:pt x="222" y="723"/>
                  </a:lnTo>
                  <a:lnTo>
                    <a:pt x="227" y="726"/>
                  </a:lnTo>
                  <a:lnTo>
                    <a:pt x="230" y="732"/>
                  </a:lnTo>
                  <a:lnTo>
                    <a:pt x="229" y="736"/>
                  </a:lnTo>
                  <a:lnTo>
                    <a:pt x="227" y="736"/>
                  </a:lnTo>
                  <a:lnTo>
                    <a:pt x="225" y="736"/>
                  </a:lnTo>
                  <a:lnTo>
                    <a:pt x="224" y="736"/>
                  </a:lnTo>
                  <a:lnTo>
                    <a:pt x="222" y="745"/>
                  </a:lnTo>
                  <a:lnTo>
                    <a:pt x="216" y="750"/>
                  </a:lnTo>
                  <a:lnTo>
                    <a:pt x="207" y="752"/>
                  </a:lnTo>
                  <a:lnTo>
                    <a:pt x="207" y="749"/>
                  </a:lnTo>
                  <a:lnTo>
                    <a:pt x="206" y="747"/>
                  </a:lnTo>
                  <a:lnTo>
                    <a:pt x="204" y="746"/>
                  </a:lnTo>
                  <a:lnTo>
                    <a:pt x="196" y="749"/>
                  </a:lnTo>
                  <a:lnTo>
                    <a:pt x="194" y="758"/>
                  </a:lnTo>
                  <a:lnTo>
                    <a:pt x="188" y="761"/>
                  </a:lnTo>
                  <a:lnTo>
                    <a:pt x="183" y="759"/>
                  </a:lnTo>
                  <a:lnTo>
                    <a:pt x="179" y="755"/>
                  </a:lnTo>
                  <a:lnTo>
                    <a:pt x="174" y="752"/>
                  </a:lnTo>
                  <a:lnTo>
                    <a:pt x="178" y="731"/>
                  </a:lnTo>
                  <a:lnTo>
                    <a:pt x="165" y="718"/>
                  </a:lnTo>
                  <a:lnTo>
                    <a:pt x="144" y="710"/>
                  </a:lnTo>
                  <a:lnTo>
                    <a:pt x="141" y="710"/>
                  </a:lnTo>
                  <a:lnTo>
                    <a:pt x="138" y="711"/>
                  </a:lnTo>
                  <a:lnTo>
                    <a:pt x="136" y="714"/>
                  </a:lnTo>
                  <a:lnTo>
                    <a:pt x="130" y="72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303080" y="4165920"/>
              <a:ext cx="425880" cy="948960"/>
            </a:xfrm>
            <a:custGeom>
              <a:avLst/>
              <a:gdLst/>
              <a:ahLst/>
              <a:rect l="l" t="t" r="r" b="b"/>
              <a:pathLst>
                <a:path w="404" h="760">
                  <a:moveTo>
                    <a:pt x="130" y="727"/>
                  </a:moveTo>
                  <a:lnTo>
                    <a:pt x="126" y="729"/>
                  </a:lnTo>
                  <a:lnTo>
                    <a:pt x="118" y="732"/>
                  </a:lnTo>
                  <a:lnTo>
                    <a:pt x="109" y="730"/>
                  </a:lnTo>
                  <a:lnTo>
                    <a:pt x="104" y="719"/>
                  </a:lnTo>
                  <a:lnTo>
                    <a:pt x="107" y="705"/>
                  </a:lnTo>
                  <a:lnTo>
                    <a:pt x="111" y="692"/>
                  </a:lnTo>
                  <a:lnTo>
                    <a:pt x="105" y="690"/>
                  </a:lnTo>
                  <a:lnTo>
                    <a:pt x="105" y="683"/>
                  </a:lnTo>
                  <a:lnTo>
                    <a:pt x="102" y="679"/>
                  </a:lnTo>
                  <a:lnTo>
                    <a:pt x="93" y="676"/>
                  </a:lnTo>
                  <a:lnTo>
                    <a:pt x="85" y="674"/>
                  </a:lnTo>
                  <a:lnTo>
                    <a:pt x="80" y="668"/>
                  </a:lnTo>
                  <a:lnTo>
                    <a:pt x="77" y="660"/>
                  </a:lnTo>
                  <a:lnTo>
                    <a:pt x="75" y="651"/>
                  </a:lnTo>
                  <a:lnTo>
                    <a:pt x="74" y="642"/>
                  </a:lnTo>
                  <a:lnTo>
                    <a:pt x="72" y="638"/>
                  </a:lnTo>
                  <a:lnTo>
                    <a:pt x="67" y="636"/>
                  </a:lnTo>
                  <a:lnTo>
                    <a:pt x="63" y="636"/>
                  </a:lnTo>
                  <a:lnTo>
                    <a:pt x="55" y="646"/>
                  </a:lnTo>
                  <a:lnTo>
                    <a:pt x="49" y="655"/>
                  </a:lnTo>
                  <a:lnTo>
                    <a:pt x="40" y="651"/>
                  </a:lnTo>
                  <a:lnTo>
                    <a:pt x="39" y="642"/>
                  </a:lnTo>
                  <a:lnTo>
                    <a:pt x="42" y="632"/>
                  </a:lnTo>
                  <a:lnTo>
                    <a:pt x="41" y="624"/>
                  </a:lnTo>
                  <a:lnTo>
                    <a:pt x="36" y="610"/>
                  </a:lnTo>
                  <a:lnTo>
                    <a:pt x="38" y="596"/>
                  </a:lnTo>
                  <a:lnTo>
                    <a:pt x="42" y="584"/>
                  </a:lnTo>
                  <a:lnTo>
                    <a:pt x="50" y="550"/>
                  </a:lnTo>
                  <a:lnTo>
                    <a:pt x="60" y="518"/>
                  </a:lnTo>
                  <a:lnTo>
                    <a:pt x="77" y="488"/>
                  </a:lnTo>
                  <a:lnTo>
                    <a:pt x="95" y="463"/>
                  </a:lnTo>
                  <a:lnTo>
                    <a:pt x="103" y="434"/>
                  </a:lnTo>
                  <a:lnTo>
                    <a:pt x="96" y="406"/>
                  </a:lnTo>
                  <a:lnTo>
                    <a:pt x="92" y="406"/>
                  </a:lnTo>
                  <a:lnTo>
                    <a:pt x="84" y="408"/>
                  </a:lnTo>
                  <a:lnTo>
                    <a:pt x="75" y="405"/>
                  </a:lnTo>
                  <a:lnTo>
                    <a:pt x="83" y="391"/>
                  </a:lnTo>
                  <a:lnTo>
                    <a:pt x="83" y="375"/>
                  </a:lnTo>
                  <a:lnTo>
                    <a:pt x="81" y="359"/>
                  </a:lnTo>
                  <a:lnTo>
                    <a:pt x="79" y="349"/>
                  </a:lnTo>
                  <a:lnTo>
                    <a:pt x="75" y="340"/>
                  </a:lnTo>
                  <a:lnTo>
                    <a:pt x="69" y="332"/>
                  </a:lnTo>
                  <a:lnTo>
                    <a:pt x="60" y="325"/>
                  </a:lnTo>
                  <a:lnTo>
                    <a:pt x="50" y="319"/>
                  </a:lnTo>
                  <a:lnTo>
                    <a:pt x="44" y="312"/>
                  </a:lnTo>
                  <a:lnTo>
                    <a:pt x="38" y="299"/>
                  </a:lnTo>
                  <a:lnTo>
                    <a:pt x="34" y="286"/>
                  </a:lnTo>
                  <a:lnTo>
                    <a:pt x="36" y="273"/>
                  </a:lnTo>
                  <a:lnTo>
                    <a:pt x="45" y="266"/>
                  </a:lnTo>
                  <a:lnTo>
                    <a:pt x="55" y="262"/>
                  </a:lnTo>
                  <a:lnTo>
                    <a:pt x="60" y="256"/>
                  </a:lnTo>
                  <a:lnTo>
                    <a:pt x="61" y="242"/>
                  </a:lnTo>
                  <a:lnTo>
                    <a:pt x="65" y="230"/>
                  </a:lnTo>
                  <a:lnTo>
                    <a:pt x="75" y="220"/>
                  </a:lnTo>
                  <a:lnTo>
                    <a:pt x="64" y="220"/>
                  </a:lnTo>
                  <a:lnTo>
                    <a:pt x="56" y="216"/>
                  </a:lnTo>
                  <a:lnTo>
                    <a:pt x="51" y="209"/>
                  </a:lnTo>
                  <a:lnTo>
                    <a:pt x="35" y="177"/>
                  </a:lnTo>
                  <a:lnTo>
                    <a:pt x="16" y="148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8" y="81"/>
                  </a:lnTo>
                  <a:lnTo>
                    <a:pt x="17" y="78"/>
                  </a:lnTo>
                  <a:lnTo>
                    <a:pt x="19" y="66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35" y="39"/>
                  </a:lnTo>
                  <a:lnTo>
                    <a:pt x="52" y="40"/>
                  </a:lnTo>
                  <a:lnTo>
                    <a:pt x="68" y="39"/>
                  </a:lnTo>
                  <a:lnTo>
                    <a:pt x="73" y="35"/>
                  </a:lnTo>
                  <a:lnTo>
                    <a:pt x="75" y="27"/>
                  </a:lnTo>
                  <a:lnTo>
                    <a:pt x="77" y="20"/>
                  </a:lnTo>
                  <a:lnTo>
                    <a:pt x="86" y="19"/>
                  </a:lnTo>
                  <a:lnTo>
                    <a:pt x="97" y="22"/>
                  </a:lnTo>
                  <a:lnTo>
                    <a:pt x="107" y="17"/>
                  </a:lnTo>
                  <a:lnTo>
                    <a:pt x="106" y="13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20" y="0"/>
                  </a:lnTo>
                  <a:lnTo>
                    <a:pt x="138" y="1"/>
                  </a:lnTo>
                  <a:lnTo>
                    <a:pt x="152" y="10"/>
                  </a:lnTo>
                  <a:lnTo>
                    <a:pt x="155" y="20"/>
                  </a:lnTo>
                  <a:lnTo>
                    <a:pt x="156" y="32"/>
                  </a:lnTo>
                  <a:lnTo>
                    <a:pt x="162" y="39"/>
                  </a:lnTo>
                  <a:lnTo>
                    <a:pt x="172" y="40"/>
                  </a:lnTo>
                  <a:lnTo>
                    <a:pt x="183" y="40"/>
                  </a:lnTo>
                  <a:lnTo>
                    <a:pt x="194" y="42"/>
                  </a:lnTo>
                  <a:lnTo>
                    <a:pt x="195" y="45"/>
                  </a:lnTo>
                  <a:lnTo>
                    <a:pt x="197" y="48"/>
                  </a:lnTo>
                  <a:lnTo>
                    <a:pt x="197" y="51"/>
                  </a:lnTo>
                  <a:lnTo>
                    <a:pt x="192" y="58"/>
                  </a:lnTo>
                  <a:lnTo>
                    <a:pt x="194" y="66"/>
                  </a:lnTo>
                  <a:lnTo>
                    <a:pt x="200" y="72"/>
                  </a:lnTo>
                  <a:lnTo>
                    <a:pt x="201" y="74"/>
                  </a:lnTo>
                  <a:lnTo>
                    <a:pt x="201" y="78"/>
                  </a:lnTo>
                  <a:lnTo>
                    <a:pt x="200" y="80"/>
                  </a:lnTo>
                  <a:lnTo>
                    <a:pt x="196" y="84"/>
                  </a:lnTo>
                  <a:lnTo>
                    <a:pt x="192" y="86"/>
                  </a:lnTo>
                  <a:lnTo>
                    <a:pt x="188" y="88"/>
                  </a:lnTo>
                  <a:lnTo>
                    <a:pt x="189" y="97"/>
                  </a:lnTo>
                  <a:lnTo>
                    <a:pt x="186" y="103"/>
                  </a:lnTo>
                  <a:lnTo>
                    <a:pt x="179" y="109"/>
                  </a:lnTo>
                  <a:lnTo>
                    <a:pt x="178" y="114"/>
                  </a:lnTo>
                  <a:lnTo>
                    <a:pt x="184" y="119"/>
                  </a:lnTo>
                  <a:lnTo>
                    <a:pt x="188" y="124"/>
                  </a:lnTo>
                  <a:lnTo>
                    <a:pt x="183" y="136"/>
                  </a:lnTo>
                  <a:lnTo>
                    <a:pt x="176" y="147"/>
                  </a:lnTo>
                  <a:lnTo>
                    <a:pt x="185" y="155"/>
                  </a:lnTo>
                  <a:lnTo>
                    <a:pt x="203" y="152"/>
                  </a:lnTo>
                  <a:lnTo>
                    <a:pt x="218" y="136"/>
                  </a:lnTo>
                  <a:lnTo>
                    <a:pt x="232" y="123"/>
                  </a:lnTo>
                  <a:lnTo>
                    <a:pt x="243" y="125"/>
                  </a:lnTo>
                  <a:lnTo>
                    <a:pt x="255" y="133"/>
                  </a:lnTo>
                  <a:lnTo>
                    <a:pt x="267" y="138"/>
                  </a:lnTo>
                  <a:lnTo>
                    <a:pt x="277" y="132"/>
                  </a:lnTo>
                  <a:lnTo>
                    <a:pt x="287" y="121"/>
                  </a:lnTo>
                  <a:lnTo>
                    <a:pt x="300" y="114"/>
                  </a:lnTo>
                  <a:lnTo>
                    <a:pt x="312" y="114"/>
                  </a:lnTo>
                  <a:lnTo>
                    <a:pt x="323" y="116"/>
                  </a:lnTo>
                  <a:lnTo>
                    <a:pt x="333" y="114"/>
                  </a:lnTo>
                  <a:lnTo>
                    <a:pt x="341" y="130"/>
                  </a:lnTo>
                  <a:lnTo>
                    <a:pt x="353" y="144"/>
                  </a:lnTo>
                  <a:lnTo>
                    <a:pt x="365" y="158"/>
                  </a:lnTo>
                  <a:lnTo>
                    <a:pt x="369" y="162"/>
                  </a:lnTo>
                  <a:lnTo>
                    <a:pt x="372" y="167"/>
                  </a:lnTo>
                  <a:lnTo>
                    <a:pt x="372" y="173"/>
                  </a:lnTo>
                  <a:lnTo>
                    <a:pt x="368" y="181"/>
                  </a:lnTo>
                  <a:lnTo>
                    <a:pt x="365" y="189"/>
                  </a:lnTo>
                  <a:lnTo>
                    <a:pt x="367" y="196"/>
                  </a:lnTo>
                  <a:lnTo>
                    <a:pt x="388" y="231"/>
                  </a:lnTo>
                  <a:lnTo>
                    <a:pt x="404" y="266"/>
                  </a:lnTo>
                  <a:lnTo>
                    <a:pt x="402" y="306"/>
                  </a:lnTo>
                  <a:lnTo>
                    <a:pt x="384" y="322"/>
                  </a:lnTo>
                  <a:lnTo>
                    <a:pt x="381" y="319"/>
                  </a:lnTo>
                  <a:lnTo>
                    <a:pt x="378" y="315"/>
                  </a:lnTo>
                  <a:lnTo>
                    <a:pt x="375" y="313"/>
                  </a:lnTo>
                  <a:lnTo>
                    <a:pt x="366" y="312"/>
                  </a:lnTo>
                  <a:lnTo>
                    <a:pt x="357" y="316"/>
                  </a:lnTo>
                  <a:lnTo>
                    <a:pt x="349" y="320"/>
                  </a:lnTo>
                  <a:lnTo>
                    <a:pt x="340" y="321"/>
                  </a:lnTo>
                  <a:lnTo>
                    <a:pt x="330" y="320"/>
                  </a:lnTo>
                  <a:lnTo>
                    <a:pt x="320" y="319"/>
                  </a:lnTo>
                  <a:lnTo>
                    <a:pt x="314" y="317"/>
                  </a:lnTo>
                  <a:lnTo>
                    <a:pt x="309" y="315"/>
                  </a:lnTo>
                  <a:lnTo>
                    <a:pt x="303" y="316"/>
                  </a:lnTo>
                  <a:lnTo>
                    <a:pt x="297" y="320"/>
                  </a:lnTo>
                  <a:lnTo>
                    <a:pt x="291" y="322"/>
                  </a:lnTo>
                  <a:lnTo>
                    <a:pt x="284" y="323"/>
                  </a:lnTo>
                  <a:lnTo>
                    <a:pt x="279" y="326"/>
                  </a:lnTo>
                  <a:lnTo>
                    <a:pt x="277" y="332"/>
                  </a:lnTo>
                  <a:lnTo>
                    <a:pt x="275" y="338"/>
                  </a:lnTo>
                  <a:lnTo>
                    <a:pt x="264" y="349"/>
                  </a:lnTo>
                  <a:lnTo>
                    <a:pt x="251" y="360"/>
                  </a:lnTo>
                  <a:lnTo>
                    <a:pt x="242" y="372"/>
                  </a:lnTo>
                  <a:lnTo>
                    <a:pt x="243" y="374"/>
                  </a:lnTo>
                  <a:lnTo>
                    <a:pt x="247" y="375"/>
                  </a:lnTo>
                  <a:lnTo>
                    <a:pt x="250" y="378"/>
                  </a:lnTo>
                  <a:lnTo>
                    <a:pt x="250" y="383"/>
                  </a:lnTo>
                  <a:lnTo>
                    <a:pt x="250" y="388"/>
                  </a:lnTo>
                  <a:lnTo>
                    <a:pt x="247" y="391"/>
                  </a:lnTo>
                  <a:lnTo>
                    <a:pt x="260" y="420"/>
                  </a:lnTo>
                  <a:lnTo>
                    <a:pt x="264" y="439"/>
                  </a:lnTo>
                  <a:lnTo>
                    <a:pt x="264" y="457"/>
                  </a:lnTo>
                  <a:lnTo>
                    <a:pt x="262" y="457"/>
                  </a:lnTo>
                  <a:lnTo>
                    <a:pt x="255" y="458"/>
                  </a:lnTo>
                  <a:lnTo>
                    <a:pt x="250" y="459"/>
                  </a:lnTo>
                  <a:lnTo>
                    <a:pt x="247" y="461"/>
                  </a:lnTo>
                  <a:lnTo>
                    <a:pt x="247" y="453"/>
                  </a:lnTo>
                  <a:lnTo>
                    <a:pt x="245" y="445"/>
                  </a:lnTo>
                  <a:lnTo>
                    <a:pt x="242" y="439"/>
                  </a:lnTo>
                  <a:lnTo>
                    <a:pt x="235" y="428"/>
                  </a:lnTo>
                  <a:lnTo>
                    <a:pt x="230" y="416"/>
                  </a:lnTo>
                  <a:lnTo>
                    <a:pt x="224" y="405"/>
                  </a:lnTo>
                  <a:lnTo>
                    <a:pt x="215" y="408"/>
                  </a:lnTo>
                  <a:lnTo>
                    <a:pt x="208" y="404"/>
                  </a:lnTo>
                  <a:lnTo>
                    <a:pt x="201" y="398"/>
                  </a:lnTo>
                  <a:lnTo>
                    <a:pt x="201" y="401"/>
                  </a:lnTo>
                  <a:lnTo>
                    <a:pt x="200" y="403"/>
                  </a:lnTo>
                  <a:lnTo>
                    <a:pt x="197" y="404"/>
                  </a:lnTo>
                  <a:lnTo>
                    <a:pt x="191" y="405"/>
                  </a:lnTo>
                  <a:lnTo>
                    <a:pt x="186" y="407"/>
                  </a:lnTo>
                  <a:lnTo>
                    <a:pt x="181" y="410"/>
                  </a:lnTo>
                  <a:lnTo>
                    <a:pt x="172" y="412"/>
                  </a:lnTo>
                  <a:lnTo>
                    <a:pt x="165" y="407"/>
                  </a:lnTo>
                  <a:lnTo>
                    <a:pt x="165" y="399"/>
                  </a:lnTo>
                  <a:lnTo>
                    <a:pt x="170" y="391"/>
                  </a:lnTo>
                  <a:lnTo>
                    <a:pt x="173" y="381"/>
                  </a:lnTo>
                  <a:lnTo>
                    <a:pt x="171" y="372"/>
                  </a:lnTo>
                  <a:lnTo>
                    <a:pt x="160" y="361"/>
                  </a:lnTo>
                  <a:lnTo>
                    <a:pt x="146" y="357"/>
                  </a:lnTo>
                  <a:lnTo>
                    <a:pt x="132" y="359"/>
                  </a:lnTo>
                  <a:lnTo>
                    <a:pt x="129" y="363"/>
                  </a:lnTo>
                  <a:lnTo>
                    <a:pt x="128" y="369"/>
                  </a:lnTo>
                  <a:lnTo>
                    <a:pt x="128" y="375"/>
                  </a:lnTo>
                  <a:lnTo>
                    <a:pt x="131" y="375"/>
                  </a:lnTo>
                  <a:lnTo>
                    <a:pt x="133" y="376"/>
                  </a:lnTo>
                  <a:lnTo>
                    <a:pt x="135" y="378"/>
                  </a:lnTo>
                  <a:lnTo>
                    <a:pt x="135" y="381"/>
                  </a:lnTo>
                  <a:lnTo>
                    <a:pt x="135" y="385"/>
                  </a:lnTo>
                  <a:lnTo>
                    <a:pt x="135" y="388"/>
                  </a:lnTo>
                  <a:lnTo>
                    <a:pt x="132" y="388"/>
                  </a:lnTo>
                  <a:lnTo>
                    <a:pt x="131" y="391"/>
                  </a:lnTo>
                  <a:lnTo>
                    <a:pt x="128" y="391"/>
                  </a:lnTo>
                  <a:lnTo>
                    <a:pt x="130" y="401"/>
                  </a:lnTo>
                  <a:lnTo>
                    <a:pt x="132" y="411"/>
                  </a:lnTo>
                  <a:lnTo>
                    <a:pt x="131" y="421"/>
                  </a:lnTo>
                  <a:lnTo>
                    <a:pt x="122" y="449"/>
                  </a:lnTo>
                  <a:lnTo>
                    <a:pt x="113" y="477"/>
                  </a:lnTo>
                  <a:lnTo>
                    <a:pt x="100" y="505"/>
                  </a:lnTo>
                  <a:lnTo>
                    <a:pt x="93" y="519"/>
                  </a:lnTo>
                  <a:lnTo>
                    <a:pt x="88" y="534"/>
                  </a:lnTo>
                  <a:lnTo>
                    <a:pt x="90" y="549"/>
                  </a:lnTo>
                  <a:lnTo>
                    <a:pt x="91" y="555"/>
                  </a:lnTo>
                  <a:lnTo>
                    <a:pt x="91" y="561"/>
                  </a:lnTo>
                  <a:lnTo>
                    <a:pt x="92" y="566"/>
                  </a:lnTo>
                  <a:lnTo>
                    <a:pt x="104" y="577"/>
                  </a:lnTo>
                  <a:lnTo>
                    <a:pt x="115" y="587"/>
                  </a:lnTo>
                  <a:lnTo>
                    <a:pt x="127" y="597"/>
                  </a:lnTo>
                  <a:lnTo>
                    <a:pt x="128" y="599"/>
                  </a:lnTo>
                  <a:lnTo>
                    <a:pt x="127" y="603"/>
                  </a:lnTo>
                  <a:lnTo>
                    <a:pt x="126" y="606"/>
                  </a:lnTo>
                  <a:lnTo>
                    <a:pt x="129" y="617"/>
                  </a:lnTo>
                  <a:lnTo>
                    <a:pt x="137" y="626"/>
                  </a:lnTo>
                  <a:lnTo>
                    <a:pt x="144" y="636"/>
                  </a:lnTo>
                  <a:lnTo>
                    <a:pt x="145" y="645"/>
                  </a:lnTo>
                  <a:lnTo>
                    <a:pt x="143" y="654"/>
                  </a:lnTo>
                  <a:lnTo>
                    <a:pt x="143" y="661"/>
                  </a:lnTo>
                  <a:lnTo>
                    <a:pt x="152" y="679"/>
                  </a:lnTo>
                  <a:lnTo>
                    <a:pt x="165" y="693"/>
                  </a:lnTo>
                  <a:lnTo>
                    <a:pt x="182" y="704"/>
                  </a:lnTo>
                  <a:lnTo>
                    <a:pt x="189" y="704"/>
                  </a:lnTo>
                  <a:lnTo>
                    <a:pt x="196" y="701"/>
                  </a:lnTo>
                  <a:lnTo>
                    <a:pt x="204" y="699"/>
                  </a:lnTo>
                  <a:lnTo>
                    <a:pt x="206" y="707"/>
                  </a:lnTo>
                  <a:lnTo>
                    <a:pt x="212" y="713"/>
                  </a:lnTo>
                  <a:lnTo>
                    <a:pt x="214" y="722"/>
                  </a:lnTo>
                  <a:lnTo>
                    <a:pt x="222" y="722"/>
                  </a:lnTo>
                  <a:lnTo>
                    <a:pt x="227" y="725"/>
                  </a:lnTo>
                  <a:lnTo>
                    <a:pt x="230" y="732"/>
                  </a:lnTo>
                  <a:lnTo>
                    <a:pt x="229" y="735"/>
                  </a:lnTo>
                  <a:lnTo>
                    <a:pt x="227" y="735"/>
                  </a:lnTo>
                  <a:lnTo>
                    <a:pt x="226" y="735"/>
                  </a:lnTo>
                  <a:lnTo>
                    <a:pt x="224" y="735"/>
                  </a:lnTo>
                  <a:lnTo>
                    <a:pt x="222" y="744"/>
                  </a:lnTo>
                  <a:lnTo>
                    <a:pt x="216" y="749"/>
                  </a:lnTo>
                  <a:lnTo>
                    <a:pt x="207" y="751"/>
                  </a:lnTo>
                  <a:lnTo>
                    <a:pt x="207" y="748"/>
                  </a:lnTo>
                  <a:lnTo>
                    <a:pt x="206" y="746"/>
                  </a:lnTo>
                  <a:lnTo>
                    <a:pt x="204" y="745"/>
                  </a:lnTo>
                  <a:lnTo>
                    <a:pt x="196" y="749"/>
                  </a:lnTo>
                  <a:lnTo>
                    <a:pt x="194" y="757"/>
                  </a:lnTo>
                  <a:lnTo>
                    <a:pt x="188" y="760"/>
                  </a:lnTo>
                  <a:lnTo>
                    <a:pt x="183" y="758"/>
                  </a:lnTo>
                  <a:lnTo>
                    <a:pt x="179" y="754"/>
                  </a:lnTo>
                  <a:lnTo>
                    <a:pt x="175" y="751"/>
                  </a:lnTo>
                  <a:lnTo>
                    <a:pt x="179" y="731"/>
                  </a:lnTo>
                  <a:lnTo>
                    <a:pt x="165" y="717"/>
                  </a:lnTo>
                  <a:lnTo>
                    <a:pt x="145" y="709"/>
                  </a:lnTo>
                  <a:lnTo>
                    <a:pt x="141" y="709"/>
                  </a:lnTo>
                  <a:lnTo>
                    <a:pt x="138" y="710"/>
                  </a:lnTo>
                  <a:lnTo>
                    <a:pt x="136" y="713"/>
                  </a:lnTo>
                  <a:lnTo>
                    <a:pt x="130" y="7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56880" y="4541760"/>
              <a:ext cx="285840" cy="28584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18" y="119"/>
                  </a:lnTo>
                  <a:lnTo>
                    <a:pt x="23" y="140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8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7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4" y="226"/>
                  </a:lnTo>
                  <a:lnTo>
                    <a:pt x="94" y="224"/>
                  </a:lnTo>
                  <a:lnTo>
                    <a:pt x="95" y="223"/>
                  </a:lnTo>
                  <a:lnTo>
                    <a:pt x="102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7" y="203"/>
                  </a:lnTo>
                  <a:lnTo>
                    <a:pt x="137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4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2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3" y="146"/>
                  </a:lnTo>
                  <a:lnTo>
                    <a:pt x="214" y="144"/>
                  </a:lnTo>
                  <a:lnTo>
                    <a:pt x="221" y="139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59" y="119"/>
                  </a:lnTo>
                  <a:lnTo>
                    <a:pt x="271" y="97"/>
                  </a:lnTo>
                  <a:lnTo>
                    <a:pt x="268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7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5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5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7" y="43"/>
                  </a:lnTo>
                  <a:lnTo>
                    <a:pt x="171" y="36"/>
                  </a:lnTo>
                  <a:lnTo>
                    <a:pt x="166" y="28"/>
                  </a:lnTo>
                  <a:lnTo>
                    <a:pt x="158" y="29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4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8" y="20"/>
                  </a:lnTo>
                  <a:lnTo>
                    <a:pt x="8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56880" y="4541760"/>
              <a:ext cx="285840" cy="28584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78" y="18"/>
                  </a:moveTo>
                  <a:lnTo>
                    <a:pt x="72" y="16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0"/>
                  </a:lnTo>
                  <a:lnTo>
                    <a:pt x="42" y="22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22" y="48"/>
                  </a:lnTo>
                  <a:lnTo>
                    <a:pt x="10" y="5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6" y="74"/>
                  </a:lnTo>
                  <a:lnTo>
                    <a:pt x="8" y="77"/>
                  </a:lnTo>
                  <a:lnTo>
                    <a:pt x="9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18" y="119"/>
                  </a:lnTo>
                  <a:lnTo>
                    <a:pt x="23" y="141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9" y="189"/>
                  </a:lnTo>
                  <a:lnTo>
                    <a:pt x="34" y="198"/>
                  </a:lnTo>
                  <a:lnTo>
                    <a:pt x="43" y="197"/>
                  </a:lnTo>
                  <a:lnTo>
                    <a:pt x="52" y="189"/>
                  </a:lnTo>
                  <a:lnTo>
                    <a:pt x="60" y="188"/>
                  </a:lnTo>
                  <a:lnTo>
                    <a:pt x="66" y="197"/>
                  </a:lnTo>
                  <a:lnTo>
                    <a:pt x="64" y="205"/>
                  </a:lnTo>
                  <a:lnTo>
                    <a:pt x="67" y="218"/>
                  </a:lnTo>
                  <a:lnTo>
                    <a:pt x="74" y="222"/>
                  </a:lnTo>
                  <a:lnTo>
                    <a:pt x="86" y="227"/>
                  </a:lnTo>
                  <a:lnTo>
                    <a:pt x="95" y="229"/>
                  </a:lnTo>
                  <a:lnTo>
                    <a:pt x="95" y="227"/>
                  </a:lnTo>
                  <a:lnTo>
                    <a:pt x="95" y="224"/>
                  </a:lnTo>
                  <a:lnTo>
                    <a:pt x="95" y="223"/>
                  </a:lnTo>
                  <a:lnTo>
                    <a:pt x="103" y="222"/>
                  </a:lnTo>
                  <a:lnTo>
                    <a:pt x="111" y="223"/>
                  </a:lnTo>
                  <a:lnTo>
                    <a:pt x="117" y="221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4" y="206"/>
                  </a:lnTo>
                  <a:lnTo>
                    <a:pt x="138" y="203"/>
                  </a:lnTo>
                  <a:lnTo>
                    <a:pt x="138" y="199"/>
                  </a:lnTo>
                  <a:lnTo>
                    <a:pt x="134" y="196"/>
                  </a:lnTo>
                  <a:lnTo>
                    <a:pt x="144" y="192"/>
                  </a:lnTo>
                  <a:lnTo>
                    <a:pt x="154" y="195"/>
                  </a:lnTo>
                  <a:lnTo>
                    <a:pt x="164" y="195"/>
                  </a:lnTo>
                  <a:lnTo>
                    <a:pt x="169" y="193"/>
                  </a:lnTo>
                  <a:lnTo>
                    <a:pt x="175" y="191"/>
                  </a:lnTo>
                  <a:lnTo>
                    <a:pt x="181" y="189"/>
                  </a:lnTo>
                  <a:lnTo>
                    <a:pt x="181" y="192"/>
                  </a:lnTo>
                  <a:lnTo>
                    <a:pt x="184" y="193"/>
                  </a:lnTo>
                  <a:lnTo>
                    <a:pt x="184" y="196"/>
                  </a:lnTo>
                  <a:lnTo>
                    <a:pt x="192" y="196"/>
                  </a:lnTo>
                  <a:lnTo>
                    <a:pt x="199" y="196"/>
                  </a:lnTo>
                  <a:lnTo>
                    <a:pt x="207" y="196"/>
                  </a:lnTo>
                  <a:lnTo>
                    <a:pt x="200" y="186"/>
                  </a:lnTo>
                  <a:lnTo>
                    <a:pt x="190" y="179"/>
                  </a:lnTo>
                  <a:lnTo>
                    <a:pt x="183" y="172"/>
                  </a:lnTo>
                  <a:lnTo>
                    <a:pt x="183" y="158"/>
                  </a:lnTo>
                  <a:lnTo>
                    <a:pt x="196" y="156"/>
                  </a:lnTo>
                  <a:lnTo>
                    <a:pt x="213" y="152"/>
                  </a:lnTo>
                  <a:lnTo>
                    <a:pt x="214" y="150"/>
                  </a:lnTo>
                  <a:lnTo>
                    <a:pt x="214" y="146"/>
                  </a:lnTo>
                  <a:lnTo>
                    <a:pt x="214" y="144"/>
                  </a:lnTo>
                  <a:lnTo>
                    <a:pt x="221" y="140"/>
                  </a:lnTo>
                  <a:lnTo>
                    <a:pt x="228" y="137"/>
                  </a:lnTo>
                  <a:lnTo>
                    <a:pt x="236" y="136"/>
                  </a:lnTo>
                  <a:lnTo>
                    <a:pt x="241" y="132"/>
                  </a:lnTo>
                  <a:lnTo>
                    <a:pt x="245" y="125"/>
                  </a:lnTo>
                  <a:lnTo>
                    <a:pt x="250" y="120"/>
                  </a:lnTo>
                  <a:lnTo>
                    <a:pt x="253" y="120"/>
                  </a:lnTo>
                  <a:lnTo>
                    <a:pt x="257" y="120"/>
                  </a:lnTo>
                  <a:lnTo>
                    <a:pt x="260" y="119"/>
                  </a:lnTo>
                  <a:lnTo>
                    <a:pt x="271" y="97"/>
                  </a:lnTo>
                  <a:lnTo>
                    <a:pt x="269" y="72"/>
                  </a:lnTo>
                  <a:lnTo>
                    <a:pt x="265" y="47"/>
                  </a:lnTo>
                  <a:lnTo>
                    <a:pt x="264" y="45"/>
                  </a:lnTo>
                  <a:lnTo>
                    <a:pt x="261" y="40"/>
                  </a:lnTo>
                  <a:lnTo>
                    <a:pt x="257" y="36"/>
                  </a:lnTo>
                  <a:lnTo>
                    <a:pt x="256" y="34"/>
                  </a:lnTo>
                  <a:lnTo>
                    <a:pt x="256" y="31"/>
                  </a:lnTo>
                  <a:lnTo>
                    <a:pt x="257" y="28"/>
                  </a:lnTo>
                  <a:lnTo>
                    <a:pt x="260" y="26"/>
                  </a:lnTo>
                  <a:lnTo>
                    <a:pt x="263" y="23"/>
                  </a:lnTo>
                  <a:lnTo>
                    <a:pt x="266" y="21"/>
                  </a:lnTo>
                  <a:lnTo>
                    <a:pt x="267" y="11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7" y="3"/>
                  </a:lnTo>
                  <a:lnTo>
                    <a:pt x="238" y="10"/>
                  </a:lnTo>
                  <a:lnTo>
                    <a:pt x="230" y="18"/>
                  </a:lnTo>
                  <a:lnTo>
                    <a:pt x="216" y="10"/>
                  </a:lnTo>
                  <a:lnTo>
                    <a:pt x="200" y="10"/>
                  </a:lnTo>
                  <a:lnTo>
                    <a:pt x="185" y="16"/>
                  </a:lnTo>
                  <a:lnTo>
                    <a:pt x="184" y="21"/>
                  </a:lnTo>
                  <a:lnTo>
                    <a:pt x="188" y="27"/>
                  </a:lnTo>
                  <a:lnTo>
                    <a:pt x="193" y="34"/>
                  </a:lnTo>
                  <a:lnTo>
                    <a:pt x="192" y="42"/>
                  </a:lnTo>
                  <a:lnTo>
                    <a:pt x="185" y="45"/>
                  </a:lnTo>
                  <a:lnTo>
                    <a:pt x="178" y="43"/>
                  </a:lnTo>
                  <a:lnTo>
                    <a:pt x="172" y="36"/>
                  </a:lnTo>
                  <a:lnTo>
                    <a:pt x="166" y="28"/>
                  </a:lnTo>
                  <a:lnTo>
                    <a:pt x="158" y="28"/>
                  </a:lnTo>
                  <a:lnTo>
                    <a:pt x="157" y="30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47" y="27"/>
                  </a:lnTo>
                  <a:lnTo>
                    <a:pt x="141" y="18"/>
                  </a:lnTo>
                  <a:lnTo>
                    <a:pt x="134" y="12"/>
                  </a:lnTo>
                  <a:lnTo>
                    <a:pt x="124" y="11"/>
                  </a:lnTo>
                  <a:lnTo>
                    <a:pt x="116" y="14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18"/>
                  </a:lnTo>
                  <a:lnTo>
                    <a:pt x="78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0560" y="5034240"/>
              <a:ext cx="531720" cy="38340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7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7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6"/>
                  </a:lnTo>
                  <a:lnTo>
                    <a:pt x="80" y="270"/>
                  </a:lnTo>
                  <a:lnTo>
                    <a:pt x="84" y="264"/>
                  </a:lnTo>
                  <a:lnTo>
                    <a:pt x="84" y="254"/>
                  </a:lnTo>
                  <a:lnTo>
                    <a:pt x="88" y="254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6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8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7"/>
                  </a:lnTo>
                  <a:lnTo>
                    <a:pt x="308" y="100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0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6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7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2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1" y="21"/>
                  </a:lnTo>
                  <a:lnTo>
                    <a:pt x="405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3" y="33"/>
                  </a:lnTo>
                  <a:lnTo>
                    <a:pt x="421" y="42"/>
                  </a:lnTo>
                  <a:lnTo>
                    <a:pt x="414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2" y="54"/>
                  </a:lnTo>
                  <a:lnTo>
                    <a:pt x="415" y="53"/>
                  </a:lnTo>
                  <a:lnTo>
                    <a:pt x="420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6" y="71"/>
                  </a:lnTo>
                  <a:lnTo>
                    <a:pt x="485" y="82"/>
                  </a:lnTo>
                  <a:lnTo>
                    <a:pt x="490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99"/>
                  </a:lnTo>
                  <a:lnTo>
                    <a:pt x="473" y="104"/>
                  </a:lnTo>
                  <a:lnTo>
                    <a:pt x="466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6"/>
                  </a:lnTo>
                  <a:lnTo>
                    <a:pt x="443" y="137"/>
                  </a:lnTo>
                  <a:lnTo>
                    <a:pt x="421" y="136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6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1" y="129"/>
                  </a:lnTo>
                  <a:lnTo>
                    <a:pt x="325" y="133"/>
                  </a:lnTo>
                  <a:lnTo>
                    <a:pt x="319" y="135"/>
                  </a:lnTo>
                  <a:lnTo>
                    <a:pt x="319" y="143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6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1"/>
                  </a:lnTo>
                  <a:lnTo>
                    <a:pt x="269" y="267"/>
                  </a:lnTo>
                  <a:lnTo>
                    <a:pt x="250" y="271"/>
                  </a:lnTo>
                  <a:lnTo>
                    <a:pt x="231" y="271"/>
                  </a:lnTo>
                  <a:lnTo>
                    <a:pt x="213" y="277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79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1"/>
                  </a:lnTo>
                  <a:lnTo>
                    <a:pt x="143" y="274"/>
                  </a:lnTo>
                  <a:lnTo>
                    <a:pt x="138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4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30560" y="5034240"/>
              <a:ext cx="531720" cy="383400"/>
            </a:xfrm>
            <a:custGeom>
              <a:avLst/>
              <a:gdLst/>
              <a:ahLst/>
              <a:rect l="l" t="t" r="r" b="b"/>
              <a:pathLst>
                <a:path w="504" h="307">
                  <a:moveTo>
                    <a:pt x="0" y="263"/>
                  </a:moveTo>
                  <a:lnTo>
                    <a:pt x="6" y="258"/>
                  </a:lnTo>
                  <a:lnTo>
                    <a:pt x="10" y="250"/>
                  </a:lnTo>
                  <a:lnTo>
                    <a:pt x="18" y="248"/>
                  </a:lnTo>
                  <a:lnTo>
                    <a:pt x="21" y="250"/>
                  </a:lnTo>
                  <a:lnTo>
                    <a:pt x="21" y="254"/>
                  </a:lnTo>
                  <a:lnTo>
                    <a:pt x="22" y="257"/>
                  </a:lnTo>
                  <a:lnTo>
                    <a:pt x="31" y="266"/>
                  </a:lnTo>
                  <a:lnTo>
                    <a:pt x="42" y="268"/>
                  </a:lnTo>
                  <a:lnTo>
                    <a:pt x="54" y="268"/>
                  </a:lnTo>
                  <a:lnTo>
                    <a:pt x="55" y="272"/>
                  </a:lnTo>
                  <a:lnTo>
                    <a:pt x="59" y="274"/>
                  </a:lnTo>
                  <a:lnTo>
                    <a:pt x="61" y="278"/>
                  </a:lnTo>
                  <a:lnTo>
                    <a:pt x="65" y="278"/>
                  </a:lnTo>
                  <a:lnTo>
                    <a:pt x="70" y="278"/>
                  </a:lnTo>
                  <a:lnTo>
                    <a:pt x="74" y="277"/>
                  </a:lnTo>
                  <a:lnTo>
                    <a:pt x="80" y="271"/>
                  </a:lnTo>
                  <a:lnTo>
                    <a:pt x="85" y="264"/>
                  </a:lnTo>
                  <a:lnTo>
                    <a:pt x="84" y="254"/>
                  </a:lnTo>
                  <a:lnTo>
                    <a:pt x="88" y="255"/>
                  </a:lnTo>
                  <a:lnTo>
                    <a:pt x="91" y="255"/>
                  </a:lnTo>
                  <a:lnTo>
                    <a:pt x="93" y="254"/>
                  </a:lnTo>
                  <a:lnTo>
                    <a:pt x="94" y="249"/>
                  </a:lnTo>
                  <a:lnTo>
                    <a:pt x="94" y="243"/>
                  </a:lnTo>
                  <a:lnTo>
                    <a:pt x="95" y="238"/>
                  </a:lnTo>
                  <a:lnTo>
                    <a:pt x="103" y="227"/>
                  </a:lnTo>
                  <a:lnTo>
                    <a:pt x="115" y="220"/>
                  </a:lnTo>
                  <a:lnTo>
                    <a:pt x="127" y="216"/>
                  </a:lnTo>
                  <a:lnTo>
                    <a:pt x="143" y="215"/>
                  </a:lnTo>
                  <a:lnTo>
                    <a:pt x="160" y="217"/>
                  </a:lnTo>
                  <a:lnTo>
                    <a:pt x="177" y="214"/>
                  </a:lnTo>
                  <a:lnTo>
                    <a:pt x="184" y="211"/>
                  </a:lnTo>
                  <a:lnTo>
                    <a:pt x="192" y="209"/>
                  </a:lnTo>
                  <a:lnTo>
                    <a:pt x="200" y="204"/>
                  </a:lnTo>
                  <a:lnTo>
                    <a:pt x="206" y="199"/>
                  </a:lnTo>
                  <a:lnTo>
                    <a:pt x="211" y="191"/>
                  </a:lnTo>
                  <a:lnTo>
                    <a:pt x="214" y="184"/>
                  </a:lnTo>
                  <a:lnTo>
                    <a:pt x="225" y="160"/>
                  </a:lnTo>
                  <a:lnTo>
                    <a:pt x="235" y="136"/>
                  </a:lnTo>
                  <a:lnTo>
                    <a:pt x="251" y="118"/>
                  </a:lnTo>
                  <a:lnTo>
                    <a:pt x="269" y="112"/>
                  </a:lnTo>
                  <a:lnTo>
                    <a:pt x="289" y="108"/>
                  </a:lnTo>
                  <a:lnTo>
                    <a:pt x="308" y="101"/>
                  </a:lnTo>
                  <a:lnTo>
                    <a:pt x="308" y="95"/>
                  </a:lnTo>
                  <a:lnTo>
                    <a:pt x="302" y="87"/>
                  </a:lnTo>
                  <a:lnTo>
                    <a:pt x="301" y="80"/>
                  </a:lnTo>
                  <a:lnTo>
                    <a:pt x="307" y="73"/>
                  </a:lnTo>
                  <a:lnTo>
                    <a:pt x="318" y="74"/>
                  </a:lnTo>
                  <a:lnTo>
                    <a:pt x="329" y="76"/>
                  </a:lnTo>
                  <a:lnTo>
                    <a:pt x="328" y="75"/>
                  </a:lnTo>
                  <a:lnTo>
                    <a:pt x="327" y="74"/>
                  </a:lnTo>
                  <a:lnTo>
                    <a:pt x="325" y="73"/>
                  </a:lnTo>
                  <a:lnTo>
                    <a:pt x="352" y="59"/>
                  </a:lnTo>
                  <a:lnTo>
                    <a:pt x="363" y="29"/>
                  </a:lnTo>
                  <a:lnTo>
                    <a:pt x="375" y="0"/>
                  </a:lnTo>
                  <a:lnTo>
                    <a:pt x="378" y="8"/>
                  </a:lnTo>
                  <a:lnTo>
                    <a:pt x="381" y="15"/>
                  </a:lnTo>
                  <a:lnTo>
                    <a:pt x="388" y="15"/>
                  </a:lnTo>
                  <a:lnTo>
                    <a:pt x="393" y="13"/>
                  </a:lnTo>
                  <a:lnTo>
                    <a:pt x="397" y="10"/>
                  </a:lnTo>
                  <a:lnTo>
                    <a:pt x="401" y="7"/>
                  </a:lnTo>
                  <a:lnTo>
                    <a:pt x="401" y="14"/>
                  </a:lnTo>
                  <a:lnTo>
                    <a:pt x="402" y="21"/>
                  </a:lnTo>
                  <a:lnTo>
                    <a:pt x="406" y="26"/>
                  </a:lnTo>
                  <a:lnTo>
                    <a:pt x="413" y="27"/>
                  </a:lnTo>
                  <a:lnTo>
                    <a:pt x="420" y="28"/>
                  </a:lnTo>
                  <a:lnTo>
                    <a:pt x="424" y="33"/>
                  </a:lnTo>
                  <a:lnTo>
                    <a:pt x="421" y="42"/>
                  </a:lnTo>
                  <a:lnTo>
                    <a:pt x="415" y="50"/>
                  </a:lnTo>
                  <a:lnTo>
                    <a:pt x="411" y="60"/>
                  </a:lnTo>
                  <a:lnTo>
                    <a:pt x="411" y="56"/>
                  </a:lnTo>
                  <a:lnTo>
                    <a:pt x="413" y="54"/>
                  </a:lnTo>
                  <a:lnTo>
                    <a:pt x="415" y="53"/>
                  </a:lnTo>
                  <a:lnTo>
                    <a:pt x="421" y="52"/>
                  </a:lnTo>
                  <a:lnTo>
                    <a:pt x="426" y="52"/>
                  </a:lnTo>
                  <a:lnTo>
                    <a:pt x="430" y="54"/>
                  </a:lnTo>
                  <a:lnTo>
                    <a:pt x="431" y="58"/>
                  </a:lnTo>
                  <a:lnTo>
                    <a:pt x="428" y="64"/>
                  </a:lnTo>
                  <a:lnTo>
                    <a:pt x="428" y="70"/>
                  </a:lnTo>
                  <a:lnTo>
                    <a:pt x="448" y="65"/>
                  </a:lnTo>
                  <a:lnTo>
                    <a:pt x="467" y="71"/>
                  </a:lnTo>
                  <a:lnTo>
                    <a:pt x="485" y="82"/>
                  </a:lnTo>
                  <a:lnTo>
                    <a:pt x="491" y="83"/>
                  </a:lnTo>
                  <a:lnTo>
                    <a:pt x="497" y="83"/>
                  </a:lnTo>
                  <a:lnTo>
                    <a:pt x="504" y="83"/>
                  </a:lnTo>
                  <a:lnTo>
                    <a:pt x="497" y="94"/>
                  </a:lnTo>
                  <a:lnTo>
                    <a:pt x="485" y="100"/>
                  </a:lnTo>
                  <a:lnTo>
                    <a:pt x="473" y="105"/>
                  </a:lnTo>
                  <a:lnTo>
                    <a:pt x="467" y="106"/>
                  </a:lnTo>
                  <a:lnTo>
                    <a:pt x="459" y="106"/>
                  </a:lnTo>
                  <a:lnTo>
                    <a:pt x="451" y="106"/>
                  </a:lnTo>
                  <a:lnTo>
                    <a:pt x="460" y="116"/>
                  </a:lnTo>
                  <a:lnTo>
                    <a:pt x="471" y="124"/>
                  </a:lnTo>
                  <a:lnTo>
                    <a:pt x="484" y="129"/>
                  </a:lnTo>
                  <a:lnTo>
                    <a:pt x="464" y="137"/>
                  </a:lnTo>
                  <a:lnTo>
                    <a:pt x="443" y="137"/>
                  </a:lnTo>
                  <a:lnTo>
                    <a:pt x="421" y="137"/>
                  </a:lnTo>
                  <a:lnTo>
                    <a:pt x="418" y="141"/>
                  </a:lnTo>
                  <a:lnTo>
                    <a:pt x="408" y="135"/>
                  </a:lnTo>
                  <a:lnTo>
                    <a:pt x="397" y="134"/>
                  </a:lnTo>
                  <a:lnTo>
                    <a:pt x="384" y="131"/>
                  </a:lnTo>
                  <a:lnTo>
                    <a:pt x="370" y="130"/>
                  </a:lnTo>
                  <a:lnTo>
                    <a:pt x="355" y="132"/>
                  </a:lnTo>
                  <a:lnTo>
                    <a:pt x="339" y="129"/>
                  </a:lnTo>
                  <a:lnTo>
                    <a:pt x="332" y="129"/>
                  </a:lnTo>
                  <a:lnTo>
                    <a:pt x="326" y="134"/>
                  </a:lnTo>
                  <a:lnTo>
                    <a:pt x="319" y="136"/>
                  </a:lnTo>
                  <a:lnTo>
                    <a:pt x="319" y="144"/>
                  </a:lnTo>
                  <a:lnTo>
                    <a:pt x="315" y="150"/>
                  </a:lnTo>
                  <a:lnTo>
                    <a:pt x="310" y="157"/>
                  </a:lnTo>
                  <a:lnTo>
                    <a:pt x="310" y="161"/>
                  </a:lnTo>
                  <a:lnTo>
                    <a:pt x="315" y="168"/>
                  </a:lnTo>
                  <a:lnTo>
                    <a:pt x="315" y="175"/>
                  </a:lnTo>
                  <a:lnTo>
                    <a:pt x="311" y="178"/>
                  </a:lnTo>
                  <a:lnTo>
                    <a:pt x="307" y="178"/>
                  </a:lnTo>
                  <a:lnTo>
                    <a:pt x="303" y="179"/>
                  </a:lnTo>
                  <a:lnTo>
                    <a:pt x="301" y="186"/>
                  </a:lnTo>
                  <a:lnTo>
                    <a:pt x="303" y="193"/>
                  </a:lnTo>
                  <a:lnTo>
                    <a:pt x="304" y="201"/>
                  </a:lnTo>
                  <a:lnTo>
                    <a:pt x="301" y="204"/>
                  </a:lnTo>
                  <a:lnTo>
                    <a:pt x="295" y="204"/>
                  </a:lnTo>
                  <a:lnTo>
                    <a:pt x="290" y="206"/>
                  </a:lnTo>
                  <a:lnTo>
                    <a:pt x="286" y="212"/>
                  </a:lnTo>
                  <a:lnTo>
                    <a:pt x="286" y="220"/>
                  </a:lnTo>
                  <a:lnTo>
                    <a:pt x="289" y="228"/>
                  </a:lnTo>
                  <a:lnTo>
                    <a:pt x="281" y="233"/>
                  </a:lnTo>
                  <a:lnTo>
                    <a:pt x="277" y="240"/>
                  </a:lnTo>
                  <a:lnTo>
                    <a:pt x="273" y="248"/>
                  </a:lnTo>
                  <a:lnTo>
                    <a:pt x="273" y="255"/>
                  </a:lnTo>
                  <a:lnTo>
                    <a:pt x="272" y="262"/>
                  </a:lnTo>
                  <a:lnTo>
                    <a:pt x="269" y="267"/>
                  </a:lnTo>
                  <a:lnTo>
                    <a:pt x="251" y="271"/>
                  </a:lnTo>
                  <a:lnTo>
                    <a:pt x="231" y="271"/>
                  </a:lnTo>
                  <a:lnTo>
                    <a:pt x="213" y="278"/>
                  </a:lnTo>
                  <a:lnTo>
                    <a:pt x="217" y="280"/>
                  </a:lnTo>
                  <a:lnTo>
                    <a:pt x="219" y="284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218" y="291"/>
                  </a:lnTo>
                  <a:lnTo>
                    <a:pt x="216" y="294"/>
                  </a:lnTo>
                  <a:lnTo>
                    <a:pt x="193" y="280"/>
                  </a:lnTo>
                  <a:lnTo>
                    <a:pt x="168" y="267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0" y="272"/>
                  </a:lnTo>
                  <a:lnTo>
                    <a:pt x="144" y="274"/>
                  </a:lnTo>
                  <a:lnTo>
                    <a:pt x="139" y="281"/>
                  </a:lnTo>
                  <a:lnTo>
                    <a:pt x="131" y="285"/>
                  </a:lnTo>
                  <a:lnTo>
                    <a:pt x="123" y="287"/>
                  </a:lnTo>
                  <a:lnTo>
                    <a:pt x="96" y="291"/>
                  </a:lnTo>
                  <a:lnTo>
                    <a:pt x="70" y="296"/>
                  </a:lnTo>
                  <a:lnTo>
                    <a:pt x="45" y="307"/>
                  </a:lnTo>
                  <a:lnTo>
                    <a:pt x="35" y="289"/>
                  </a:lnTo>
                  <a:lnTo>
                    <a:pt x="21" y="273"/>
                  </a:lnTo>
                  <a:lnTo>
                    <a:pt x="2" y="263"/>
                  </a:lnTo>
                  <a:lnTo>
                    <a:pt x="0" y="26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761720" y="5856120"/>
              <a:ext cx="456480" cy="1936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0" y="62"/>
                  </a:moveTo>
                  <a:lnTo>
                    <a:pt x="337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3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4" y="94"/>
                  </a:lnTo>
                  <a:lnTo>
                    <a:pt x="420" y="98"/>
                  </a:lnTo>
                  <a:lnTo>
                    <a:pt x="419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8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4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4" y="127"/>
                  </a:lnTo>
                  <a:lnTo>
                    <a:pt x="303" y="123"/>
                  </a:lnTo>
                  <a:lnTo>
                    <a:pt x="284" y="117"/>
                  </a:lnTo>
                  <a:lnTo>
                    <a:pt x="255" y="117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2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1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43" y="67"/>
                  </a:lnTo>
                  <a:lnTo>
                    <a:pt x="21" y="66"/>
                  </a:lnTo>
                  <a:lnTo>
                    <a:pt x="0" y="55"/>
                  </a:lnTo>
                  <a:lnTo>
                    <a:pt x="6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5" y="32"/>
                  </a:lnTo>
                  <a:lnTo>
                    <a:pt x="232" y="23"/>
                  </a:lnTo>
                  <a:lnTo>
                    <a:pt x="235" y="22"/>
                  </a:lnTo>
                  <a:lnTo>
                    <a:pt x="240" y="22"/>
                  </a:lnTo>
                  <a:lnTo>
                    <a:pt x="244" y="26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4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7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91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7"/>
                  </a:lnTo>
                  <a:lnTo>
                    <a:pt x="337" y="61"/>
                  </a:lnTo>
                  <a:lnTo>
                    <a:pt x="334" y="65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0" y="6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761720" y="5856120"/>
              <a:ext cx="456480" cy="193680"/>
            </a:xfrm>
            <a:custGeom>
              <a:avLst/>
              <a:gdLst/>
              <a:ahLst/>
              <a:rect l="l" t="t" r="r" b="b"/>
              <a:pathLst>
                <a:path w="433" h="155">
                  <a:moveTo>
                    <a:pt x="331" y="62"/>
                  </a:moveTo>
                  <a:lnTo>
                    <a:pt x="338" y="70"/>
                  </a:lnTo>
                  <a:lnTo>
                    <a:pt x="341" y="80"/>
                  </a:lnTo>
                  <a:lnTo>
                    <a:pt x="347" y="88"/>
                  </a:lnTo>
                  <a:lnTo>
                    <a:pt x="366" y="90"/>
                  </a:lnTo>
                  <a:lnTo>
                    <a:pt x="384" y="87"/>
                  </a:lnTo>
                  <a:lnTo>
                    <a:pt x="398" y="91"/>
                  </a:lnTo>
                  <a:lnTo>
                    <a:pt x="406" y="94"/>
                  </a:lnTo>
                  <a:lnTo>
                    <a:pt x="415" y="94"/>
                  </a:lnTo>
                  <a:lnTo>
                    <a:pt x="420" y="98"/>
                  </a:lnTo>
                  <a:lnTo>
                    <a:pt x="420" y="106"/>
                  </a:lnTo>
                  <a:lnTo>
                    <a:pt x="416" y="112"/>
                  </a:lnTo>
                  <a:lnTo>
                    <a:pt x="410" y="118"/>
                  </a:lnTo>
                  <a:lnTo>
                    <a:pt x="419" y="126"/>
                  </a:lnTo>
                  <a:lnTo>
                    <a:pt x="423" y="136"/>
                  </a:lnTo>
                  <a:lnTo>
                    <a:pt x="423" y="148"/>
                  </a:lnTo>
                  <a:lnTo>
                    <a:pt x="426" y="149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15" y="155"/>
                  </a:lnTo>
                  <a:lnTo>
                    <a:pt x="395" y="152"/>
                  </a:lnTo>
                  <a:lnTo>
                    <a:pt x="377" y="146"/>
                  </a:lnTo>
                  <a:lnTo>
                    <a:pt x="364" y="137"/>
                  </a:lnTo>
                  <a:lnTo>
                    <a:pt x="352" y="124"/>
                  </a:lnTo>
                  <a:lnTo>
                    <a:pt x="337" y="115"/>
                  </a:lnTo>
                  <a:lnTo>
                    <a:pt x="323" y="127"/>
                  </a:lnTo>
                  <a:lnTo>
                    <a:pt x="303" y="122"/>
                  </a:lnTo>
                  <a:lnTo>
                    <a:pt x="284" y="117"/>
                  </a:lnTo>
                  <a:lnTo>
                    <a:pt x="255" y="116"/>
                  </a:lnTo>
                  <a:lnTo>
                    <a:pt x="226" y="116"/>
                  </a:lnTo>
                  <a:lnTo>
                    <a:pt x="199" y="109"/>
                  </a:lnTo>
                  <a:lnTo>
                    <a:pt x="176" y="101"/>
                  </a:lnTo>
                  <a:lnTo>
                    <a:pt x="153" y="99"/>
                  </a:lnTo>
                  <a:lnTo>
                    <a:pt x="130" y="95"/>
                  </a:lnTo>
                  <a:lnTo>
                    <a:pt x="108" y="89"/>
                  </a:lnTo>
                  <a:lnTo>
                    <a:pt x="85" y="83"/>
                  </a:lnTo>
                  <a:lnTo>
                    <a:pt x="63" y="82"/>
                  </a:lnTo>
                  <a:lnTo>
                    <a:pt x="65" y="82"/>
                  </a:lnTo>
                  <a:lnTo>
                    <a:pt x="67" y="80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43" y="67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17" y="38"/>
                  </a:lnTo>
                  <a:lnTo>
                    <a:pt x="26" y="28"/>
                  </a:lnTo>
                  <a:lnTo>
                    <a:pt x="33" y="16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7" y="3"/>
                  </a:lnTo>
                  <a:lnTo>
                    <a:pt x="92" y="3"/>
                  </a:lnTo>
                  <a:lnTo>
                    <a:pt x="111" y="11"/>
                  </a:lnTo>
                  <a:lnTo>
                    <a:pt x="128" y="23"/>
                  </a:lnTo>
                  <a:lnTo>
                    <a:pt x="149" y="29"/>
                  </a:lnTo>
                  <a:lnTo>
                    <a:pt x="147" y="33"/>
                  </a:lnTo>
                  <a:lnTo>
                    <a:pt x="145" y="38"/>
                  </a:lnTo>
                  <a:lnTo>
                    <a:pt x="146" y="41"/>
                  </a:lnTo>
                  <a:lnTo>
                    <a:pt x="168" y="48"/>
                  </a:lnTo>
                  <a:lnTo>
                    <a:pt x="192" y="47"/>
                  </a:lnTo>
                  <a:lnTo>
                    <a:pt x="215" y="46"/>
                  </a:lnTo>
                  <a:lnTo>
                    <a:pt x="220" y="41"/>
                  </a:lnTo>
                  <a:lnTo>
                    <a:pt x="226" y="32"/>
                  </a:lnTo>
                  <a:lnTo>
                    <a:pt x="232" y="23"/>
                  </a:lnTo>
                  <a:lnTo>
                    <a:pt x="236" y="22"/>
                  </a:lnTo>
                  <a:lnTo>
                    <a:pt x="240" y="22"/>
                  </a:lnTo>
                  <a:lnTo>
                    <a:pt x="244" y="25"/>
                  </a:lnTo>
                  <a:lnTo>
                    <a:pt x="245" y="28"/>
                  </a:lnTo>
                  <a:lnTo>
                    <a:pt x="245" y="30"/>
                  </a:lnTo>
                  <a:lnTo>
                    <a:pt x="245" y="31"/>
                  </a:lnTo>
                  <a:lnTo>
                    <a:pt x="255" y="32"/>
                  </a:lnTo>
                  <a:lnTo>
                    <a:pt x="264" y="32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83" y="38"/>
                  </a:lnTo>
                  <a:lnTo>
                    <a:pt x="290" y="38"/>
                  </a:lnTo>
                  <a:lnTo>
                    <a:pt x="296" y="40"/>
                  </a:lnTo>
                  <a:lnTo>
                    <a:pt x="307" y="48"/>
                  </a:lnTo>
                  <a:lnTo>
                    <a:pt x="321" y="49"/>
                  </a:lnTo>
                  <a:lnTo>
                    <a:pt x="334" y="52"/>
                  </a:lnTo>
                  <a:lnTo>
                    <a:pt x="334" y="56"/>
                  </a:lnTo>
                  <a:lnTo>
                    <a:pt x="337" y="61"/>
                  </a:lnTo>
                  <a:lnTo>
                    <a:pt x="334" y="64"/>
                  </a:lnTo>
                  <a:lnTo>
                    <a:pt x="333" y="64"/>
                  </a:lnTo>
                  <a:lnTo>
                    <a:pt x="332" y="63"/>
                  </a:lnTo>
                  <a:lnTo>
                    <a:pt x="331" y="6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20280" y="5919840"/>
              <a:ext cx="76680" cy="223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7" y="14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0280" y="5919840"/>
              <a:ext cx="76680" cy="2232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13" y="4"/>
                  </a:moveTo>
                  <a:lnTo>
                    <a:pt x="32" y="0"/>
                  </a:lnTo>
                  <a:lnTo>
                    <a:pt x="53" y="3"/>
                  </a:lnTo>
                  <a:lnTo>
                    <a:pt x="73" y="8"/>
                  </a:lnTo>
                  <a:lnTo>
                    <a:pt x="60" y="14"/>
                  </a:lnTo>
                  <a:lnTo>
                    <a:pt x="47" y="15"/>
                  </a:lnTo>
                  <a:lnTo>
                    <a:pt x="33" y="16"/>
                  </a:lnTo>
                  <a:lnTo>
                    <a:pt x="21" y="18"/>
                  </a:lnTo>
                  <a:lnTo>
                    <a:pt x="9" y="16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84080" y="5696280"/>
              <a:ext cx="24840" cy="486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15"/>
                  </a:moveTo>
                  <a:lnTo>
                    <a:pt x="1" y="27"/>
                  </a:lnTo>
                  <a:lnTo>
                    <a:pt x="5" y="36"/>
                  </a:lnTo>
                  <a:lnTo>
                    <a:pt x="14" y="39"/>
                  </a:lnTo>
                  <a:lnTo>
                    <a:pt x="24" y="31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84080" y="5696280"/>
              <a:ext cx="24840" cy="486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15"/>
                  </a:moveTo>
                  <a:lnTo>
                    <a:pt x="2" y="28"/>
                  </a:lnTo>
                  <a:lnTo>
                    <a:pt x="5" y="36"/>
                  </a:lnTo>
                  <a:lnTo>
                    <a:pt x="13" y="39"/>
                  </a:lnTo>
                  <a:lnTo>
                    <a:pt x="24" y="31"/>
                  </a:lnTo>
                  <a:lnTo>
                    <a:pt x="20" y="1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20160" y="5338800"/>
              <a:ext cx="341280" cy="4982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9" y="60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1"/>
                  </a:lnTo>
                  <a:lnTo>
                    <a:pt x="318" y="0"/>
                  </a:lnTo>
                  <a:lnTo>
                    <a:pt x="323" y="5"/>
                  </a:lnTo>
                  <a:lnTo>
                    <a:pt x="324" y="13"/>
                  </a:lnTo>
                  <a:lnTo>
                    <a:pt x="321" y="19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5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3"/>
                  </a:lnTo>
                  <a:lnTo>
                    <a:pt x="301" y="74"/>
                  </a:lnTo>
                  <a:lnTo>
                    <a:pt x="296" y="85"/>
                  </a:lnTo>
                  <a:lnTo>
                    <a:pt x="293" y="88"/>
                  </a:lnTo>
                  <a:lnTo>
                    <a:pt x="289" y="90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8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2" y="94"/>
                  </a:lnTo>
                  <a:lnTo>
                    <a:pt x="146" y="89"/>
                  </a:lnTo>
                  <a:lnTo>
                    <a:pt x="121" y="86"/>
                  </a:lnTo>
                  <a:lnTo>
                    <a:pt x="97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3" y="185"/>
                  </a:lnTo>
                  <a:lnTo>
                    <a:pt x="116" y="186"/>
                  </a:lnTo>
                  <a:lnTo>
                    <a:pt x="119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1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5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6" y="212"/>
                  </a:lnTo>
                  <a:lnTo>
                    <a:pt x="155" y="227"/>
                  </a:lnTo>
                  <a:lnTo>
                    <a:pt x="175" y="240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8" y="296"/>
                  </a:lnTo>
                  <a:lnTo>
                    <a:pt x="196" y="310"/>
                  </a:lnTo>
                  <a:lnTo>
                    <a:pt x="204" y="323"/>
                  </a:lnTo>
                  <a:lnTo>
                    <a:pt x="200" y="334"/>
                  </a:lnTo>
                  <a:lnTo>
                    <a:pt x="188" y="336"/>
                  </a:lnTo>
                  <a:lnTo>
                    <a:pt x="173" y="335"/>
                  </a:lnTo>
                  <a:lnTo>
                    <a:pt x="160" y="338"/>
                  </a:lnTo>
                  <a:lnTo>
                    <a:pt x="156" y="345"/>
                  </a:lnTo>
                  <a:lnTo>
                    <a:pt x="153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4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6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1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1" y="373"/>
                  </a:lnTo>
                  <a:lnTo>
                    <a:pt x="91" y="378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8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6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4" y="228"/>
                  </a:lnTo>
                  <a:lnTo>
                    <a:pt x="24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5"/>
                  </a:lnTo>
                  <a:lnTo>
                    <a:pt x="43" y="147"/>
                  </a:lnTo>
                  <a:lnTo>
                    <a:pt x="51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60" y="100"/>
                  </a:lnTo>
                  <a:lnTo>
                    <a:pt x="60" y="95"/>
                  </a:lnTo>
                  <a:lnTo>
                    <a:pt x="56" y="9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20160" y="5338800"/>
              <a:ext cx="341280" cy="498240"/>
            </a:xfrm>
            <a:custGeom>
              <a:avLst/>
              <a:gdLst/>
              <a:ahLst/>
              <a:rect l="l" t="t" r="r" b="b"/>
              <a:pathLst>
                <a:path w="324" h="399">
                  <a:moveTo>
                    <a:pt x="56" y="93"/>
                  </a:moveTo>
                  <a:lnTo>
                    <a:pt x="62" y="80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88" y="61"/>
                  </a:lnTo>
                  <a:lnTo>
                    <a:pt x="100" y="47"/>
                  </a:lnTo>
                  <a:lnTo>
                    <a:pt x="113" y="38"/>
                  </a:lnTo>
                  <a:lnTo>
                    <a:pt x="116" y="41"/>
                  </a:lnTo>
                  <a:lnTo>
                    <a:pt x="118" y="45"/>
                  </a:lnTo>
                  <a:lnTo>
                    <a:pt x="123" y="49"/>
                  </a:lnTo>
                  <a:lnTo>
                    <a:pt x="148" y="55"/>
                  </a:lnTo>
                  <a:lnTo>
                    <a:pt x="173" y="58"/>
                  </a:lnTo>
                  <a:lnTo>
                    <a:pt x="199" y="64"/>
                  </a:lnTo>
                  <a:lnTo>
                    <a:pt x="221" y="67"/>
                  </a:lnTo>
                  <a:lnTo>
                    <a:pt x="243" y="65"/>
                  </a:lnTo>
                  <a:lnTo>
                    <a:pt x="262" y="57"/>
                  </a:lnTo>
                  <a:lnTo>
                    <a:pt x="281" y="41"/>
                  </a:lnTo>
                  <a:lnTo>
                    <a:pt x="296" y="2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2" y="5"/>
                  </a:lnTo>
                  <a:lnTo>
                    <a:pt x="324" y="13"/>
                  </a:lnTo>
                  <a:lnTo>
                    <a:pt x="320" y="20"/>
                  </a:lnTo>
                  <a:lnTo>
                    <a:pt x="315" y="23"/>
                  </a:lnTo>
                  <a:lnTo>
                    <a:pt x="311" y="27"/>
                  </a:lnTo>
                  <a:lnTo>
                    <a:pt x="310" y="36"/>
                  </a:lnTo>
                  <a:lnTo>
                    <a:pt x="313" y="44"/>
                  </a:lnTo>
                  <a:lnTo>
                    <a:pt x="312" y="52"/>
                  </a:lnTo>
                  <a:lnTo>
                    <a:pt x="307" y="64"/>
                  </a:lnTo>
                  <a:lnTo>
                    <a:pt x="301" y="74"/>
                  </a:lnTo>
                  <a:lnTo>
                    <a:pt x="296" y="86"/>
                  </a:lnTo>
                  <a:lnTo>
                    <a:pt x="293" y="88"/>
                  </a:lnTo>
                  <a:lnTo>
                    <a:pt x="288" y="91"/>
                  </a:lnTo>
                  <a:lnTo>
                    <a:pt x="284" y="92"/>
                  </a:lnTo>
                  <a:lnTo>
                    <a:pt x="272" y="92"/>
                  </a:lnTo>
                  <a:lnTo>
                    <a:pt x="260" y="90"/>
                  </a:lnTo>
                  <a:lnTo>
                    <a:pt x="247" y="87"/>
                  </a:lnTo>
                  <a:lnTo>
                    <a:pt x="222" y="86"/>
                  </a:lnTo>
                  <a:lnTo>
                    <a:pt x="197" y="92"/>
                  </a:lnTo>
                  <a:lnTo>
                    <a:pt x="171" y="94"/>
                  </a:lnTo>
                  <a:lnTo>
                    <a:pt x="146" y="90"/>
                  </a:lnTo>
                  <a:lnTo>
                    <a:pt x="121" y="86"/>
                  </a:lnTo>
                  <a:lnTo>
                    <a:pt x="96" y="88"/>
                  </a:lnTo>
                  <a:lnTo>
                    <a:pt x="82" y="101"/>
                  </a:lnTo>
                  <a:lnTo>
                    <a:pt x="77" y="123"/>
                  </a:lnTo>
                  <a:lnTo>
                    <a:pt x="80" y="145"/>
                  </a:lnTo>
                  <a:lnTo>
                    <a:pt x="81" y="146"/>
                  </a:lnTo>
                  <a:lnTo>
                    <a:pt x="84" y="146"/>
                  </a:lnTo>
                  <a:lnTo>
                    <a:pt x="86" y="145"/>
                  </a:lnTo>
                  <a:lnTo>
                    <a:pt x="90" y="157"/>
                  </a:lnTo>
                  <a:lnTo>
                    <a:pt x="99" y="165"/>
                  </a:lnTo>
                  <a:lnTo>
                    <a:pt x="108" y="173"/>
                  </a:lnTo>
                  <a:lnTo>
                    <a:pt x="110" y="176"/>
                  </a:lnTo>
                  <a:lnTo>
                    <a:pt x="110" y="180"/>
                  </a:lnTo>
                  <a:lnTo>
                    <a:pt x="109" y="185"/>
                  </a:lnTo>
                  <a:lnTo>
                    <a:pt x="112" y="185"/>
                  </a:lnTo>
                  <a:lnTo>
                    <a:pt x="116" y="186"/>
                  </a:lnTo>
                  <a:lnTo>
                    <a:pt x="118" y="185"/>
                  </a:lnTo>
                  <a:lnTo>
                    <a:pt x="125" y="175"/>
                  </a:lnTo>
                  <a:lnTo>
                    <a:pt x="130" y="166"/>
                  </a:lnTo>
                  <a:lnTo>
                    <a:pt x="136" y="162"/>
                  </a:lnTo>
                  <a:lnTo>
                    <a:pt x="159" y="161"/>
                  </a:lnTo>
                  <a:lnTo>
                    <a:pt x="182" y="160"/>
                  </a:lnTo>
                  <a:lnTo>
                    <a:pt x="204" y="156"/>
                  </a:lnTo>
                  <a:lnTo>
                    <a:pt x="214" y="152"/>
                  </a:lnTo>
                  <a:lnTo>
                    <a:pt x="225" y="147"/>
                  </a:lnTo>
                  <a:lnTo>
                    <a:pt x="238" y="145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4" y="158"/>
                  </a:lnTo>
                  <a:lnTo>
                    <a:pt x="217" y="163"/>
                  </a:lnTo>
                  <a:lnTo>
                    <a:pt x="201" y="175"/>
                  </a:lnTo>
                  <a:lnTo>
                    <a:pt x="190" y="191"/>
                  </a:lnTo>
                  <a:lnTo>
                    <a:pt x="181" y="202"/>
                  </a:lnTo>
                  <a:lnTo>
                    <a:pt x="169" y="207"/>
                  </a:lnTo>
                  <a:lnTo>
                    <a:pt x="156" y="207"/>
                  </a:lnTo>
                  <a:lnTo>
                    <a:pt x="150" y="205"/>
                  </a:lnTo>
                  <a:lnTo>
                    <a:pt x="145" y="202"/>
                  </a:lnTo>
                  <a:lnTo>
                    <a:pt x="139" y="202"/>
                  </a:lnTo>
                  <a:lnTo>
                    <a:pt x="142" y="202"/>
                  </a:lnTo>
                  <a:lnTo>
                    <a:pt x="144" y="203"/>
                  </a:lnTo>
                  <a:lnTo>
                    <a:pt x="145" y="205"/>
                  </a:lnTo>
                  <a:lnTo>
                    <a:pt x="144" y="209"/>
                  </a:lnTo>
                  <a:lnTo>
                    <a:pt x="140" y="211"/>
                  </a:lnTo>
                  <a:lnTo>
                    <a:pt x="135" y="212"/>
                  </a:lnTo>
                  <a:lnTo>
                    <a:pt x="155" y="227"/>
                  </a:lnTo>
                  <a:lnTo>
                    <a:pt x="175" y="241"/>
                  </a:lnTo>
                  <a:lnTo>
                    <a:pt x="190" y="259"/>
                  </a:lnTo>
                  <a:lnTo>
                    <a:pt x="192" y="272"/>
                  </a:lnTo>
                  <a:lnTo>
                    <a:pt x="188" y="284"/>
                  </a:lnTo>
                  <a:lnTo>
                    <a:pt x="187" y="297"/>
                  </a:lnTo>
                  <a:lnTo>
                    <a:pt x="196" y="310"/>
                  </a:lnTo>
                  <a:lnTo>
                    <a:pt x="204" y="324"/>
                  </a:lnTo>
                  <a:lnTo>
                    <a:pt x="200" y="334"/>
                  </a:lnTo>
                  <a:lnTo>
                    <a:pt x="187" y="336"/>
                  </a:lnTo>
                  <a:lnTo>
                    <a:pt x="173" y="335"/>
                  </a:lnTo>
                  <a:lnTo>
                    <a:pt x="160" y="339"/>
                  </a:lnTo>
                  <a:lnTo>
                    <a:pt x="156" y="345"/>
                  </a:lnTo>
                  <a:lnTo>
                    <a:pt x="152" y="351"/>
                  </a:lnTo>
                  <a:lnTo>
                    <a:pt x="145" y="353"/>
                  </a:lnTo>
                  <a:lnTo>
                    <a:pt x="142" y="351"/>
                  </a:lnTo>
                  <a:lnTo>
                    <a:pt x="141" y="347"/>
                  </a:lnTo>
                  <a:lnTo>
                    <a:pt x="140" y="343"/>
                  </a:lnTo>
                  <a:lnTo>
                    <a:pt x="140" y="334"/>
                  </a:lnTo>
                  <a:lnTo>
                    <a:pt x="145" y="325"/>
                  </a:lnTo>
                  <a:lnTo>
                    <a:pt x="145" y="314"/>
                  </a:lnTo>
                  <a:lnTo>
                    <a:pt x="136" y="303"/>
                  </a:lnTo>
                  <a:lnTo>
                    <a:pt x="124" y="293"/>
                  </a:lnTo>
                  <a:lnTo>
                    <a:pt x="117" y="281"/>
                  </a:lnTo>
                  <a:lnTo>
                    <a:pt x="121" y="273"/>
                  </a:lnTo>
                  <a:lnTo>
                    <a:pt x="127" y="267"/>
                  </a:lnTo>
                  <a:lnTo>
                    <a:pt x="128" y="258"/>
                  </a:lnTo>
                  <a:lnTo>
                    <a:pt x="123" y="249"/>
                  </a:lnTo>
                  <a:lnTo>
                    <a:pt x="113" y="244"/>
                  </a:lnTo>
                  <a:lnTo>
                    <a:pt x="104" y="247"/>
                  </a:lnTo>
                  <a:lnTo>
                    <a:pt x="95" y="252"/>
                  </a:lnTo>
                  <a:lnTo>
                    <a:pt x="86" y="254"/>
                  </a:lnTo>
                  <a:lnTo>
                    <a:pt x="76" y="255"/>
                  </a:lnTo>
                  <a:lnTo>
                    <a:pt x="80" y="266"/>
                  </a:lnTo>
                  <a:lnTo>
                    <a:pt x="86" y="275"/>
                  </a:lnTo>
                  <a:lnTo>
                    <a:pt x="92" y="285"/>
                  </a:lnTo>
                  <a:lnTo>
                    <a:pt x="91" y="293"/>
                  </a:lnTo>
                  <a:lnTo>
                    <a:pt x="87" y="302"/>
                  </a:lnTo>
                  <a:lnTo>
                    <a:pt x="87" y="311"/>
                  </a:lnTo>
                  <a:lnTo>
                    <a:pt x="88" y="311"/>
                  </a:lnTo>
                  <a:lnTo>
                    <a:pt x="90" y="311"/>
                  </a:lnTo>
                  <a:lnTo>
                    <a:pt x="93" y="311"/>
                  </a:lnTo>
                  <a:lnTo>
                    <a:pt x="93" y="332"/>
                  </a:lnTo>
                  <a:lnTo>
                    <a:pt x="93" y="352"/>
                  </a:lnTo>
                  <a:lnTo>
                    <a:pt x="86" y="370"/>
                  </a:lnTo>
                  <a:lnTo>
                    <a:pt x="90" y="374"/>
                  </a:lnTo>
                  <a:lnTo>
                    <a:pt x="91" y="379"/>
                  </a:lnTo>
                  <a:lnTo>
                    <a:pt x="93" y="383"/>
                  </a:lnTo>
                  <a:lnTo>
                    <a:pt x="98" y="385"/>
                  </a:lnTo>
                  <a:lnTo>
                    <a:pt x="104" y="386"/>
                  </a:lnTo>
                  <a:lnTo>
                    <a:pt x="109" y="387"/>
                  </a:lnTo>
                  <a:lnTo>
                    <a:pt x="104" y="392"/>
                  </a:lnTo>
                  <a:lnTo>
                    <a:pt x="99" y="397"/>
                  </a:lnTo>
                  <a:lnTo>
                    <a:pt x="93" y="399"/>
                  </a:lnTo>
                  <a:lnTo>
                    <a:pt x="69" y="396"/>
                  </a:lnTo>
                  <a:lnTo>
                    <a:pt x="47" y="389"/>
                  </a:lnTo>
                  <a:lnTo>
                    <a:pt x="38" y="370"/>
                  </a:lnTo>
                  <a:lnTo>
                    <a:pt x="42" y="353"/>
                  </a:lnTo>
                  <a:lnTo>
                    <a:pt x="47" y="335"/>
                  </a:lnTo>
                  <a:lnTo>
                    <a:pt x="51" y="317"/>
                  </a:lnTo>
                  <a:lnTo>
                    <a:pt x="47" y="300"/>
                  </a:lnTo>
                  <a:lnTo>
                    <a:pt x="35" y="285"/>
                  </a:lnTo>
                  <a:lnTo>
                    <a:pt x="15" y="277"/>
                  </a:lnTo>
                  <a:lnTo>
                    <a:pt x="5" y="267"/>
                  </a:lnTo>
                  <a:lnTo>
                    <a:pt x="0" y="248"/>
                  </a:lnTo>
                  <a:lnTo>
                    <a:pt x="3" y="228"/>
                  </a:lnTo>
                  <a:lnTo>
                    <a:pt x="23" y="230"/>
                  </a:lnTo>
                  <a:lnTo>
                    <a:pt x="32" y="214"/>
                  </a:lnTo>
                  <a:lnTo>
                    <a:pt x="33" y="192"/>
                  </a:lnTo>
                  <a:lnTo>
                    <a:pt x="38" y="192"/>
                  </a:lnTo>
                  <a:lnTo>
                    <a:pt x="42" y="192"/>
                  </a:lnTo>
                  <a:lnTo>
                    <a:pt x="46" y="192"/>
                  </a:lnTo>
                  <a:lnTo>
                    <a:pt x="41" y="180"/>
                  </a:lnTo>
                  <a:lnTo>
                    <a:pt x="36" y="168"/>
                  </a:lnTo>
                  <a:lnTo>
                    <a:pt x="37" y="156"/>
                  </a:lnTo>
                  <a:lnTo>
                    <a:pt x="43" y="148"/>
                  </a:lnTo>
                  <a:lnTo>
                    <a:pt x="50" y="141"/>
                  </a:lnTo>
                  <a:lnTo>
                    <a:pt x="59" y="134"/>
                  </a:lnTo>
                  <a:lnTo>
                    <a:pt x="62" y="125"/>
                  </a:lnTo>
                  <a:lnTo>
                    <a:pt x="61" y="114"/>
                  </a:lnTo>
                  <a:lnTo>
                    <a:pt x="63" y="103"/>
                  </a:lnTo>
                  <a:lnTo>
                    <a:pt x="59" y="100"/>
                  </a:lnTo>
                  <a:lnTo>
                    <a:pt x="60" y="95"/>
                  </a:lnTo>
                  <a:lnTo>
                    <a:pt x="56" y="9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716440" y="5582520"/>
              <a:ext cx="100080" cy="496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9" y="3"/>
                  </a:moveTo>
                  <a:lnTo>
                    <a:pt x="34" y="1"/>
                  </a:lnTo>
                  <a:lnTo>
                    <a:pt x="18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26" y="10"/>
                  </a:lnTo>
                  <a:lnTo>
                    <a:pt x="49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6" y="29"/>
                  </a:lnTo>
                  <a:lnTo>
                    <a:pt x="92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8" y="20"/>
                  </a:lnTo>
                  <a:lnTo>
                    <a:pt x="91" y="14"/>
                  </a:lnTo>
                  <a:lnTo>
                    <a:pt x="93" y="9"/>
                  </a:lnTo>
                  <a:lnTo>
                    <a:pt x="95" y="3"/>
                  </a:lnTo>
                  <a:lnTo>
                    <a:pt x="80" y="3"/>
                  </a:lnTo>
                  <a:lnTo>
                    <a:pt x="65" y="4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16440" y="5582520"/>
              <a:ext cx="101160" cy="496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50" y="3"/>
                  </a:moveTo>
                  <a:lnTo>
                    <a:pt x="34" y="1"/>
                  </a:lnTo>
                  <a:lnTo>
                    <a:pt x="19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3"/>
                  </a:lnTo>
                  <a:lnTo>
                    <a:pt x="27" y="10"/>
                  </a:lnTo>
                  <a:lnTo>
                    <a:pt x="50" y="9"/>
                  </a:lnTo>
                  <a:lnTo>
                    <a:pt x="72" y="11"/>
                  </a:lnTo>
                  <a:lnTo>
                    <a:pt x="81" y="18"/>
                  </a:lnTo>
                  <a:lnTo>
                    <a:pt x="87" y="29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2" y="14"/>
                  </a:lnTo>
                  <a:lnTo>
                    <a:pt x="94" y="9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65" y="4"/>
                  </a:lnTo>
                  <a:lnTo>
                    <a:pt x="5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858640" y="5668560"/>
              <a:ext cx="59760" cy="334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4"/>
                  </a:moveTo>
                  <a:lnTo>
                    <a:pt x="23" y="8"/>
                  </a:lnTo>
                  <a:lnTo>
                    <a:pt x="14" y="5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4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58640" y="5668560"/>
              <a:ext cx="59760" cy="334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34" y="5"/>
                  </a:moveTo>
                  <a:lnTo>
                    <a:pt x="23" y="7"/>
                  </a:lnTo>
                  <a:lnTo>
                    <a:pt x="14" y="5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2" y="23"/>
                  </a:lnTo>
                  <a:lnTo>
                    <a:pt x="24" y="27"/>
                  </a:lnTo>
                  <a:lnTo>
                    <a:pt x="37" y="20"/>
                  </a:lnTo>
                  <a:lnTo>
                    <a:pt x="42" y="24"/>
                  </a:lnTo>
                  <a:lnTo>
                    <a:pt x="48" y="22"/>
                  </a:lnTo>
                  <a:lnTo>
                    <a:pt x="52" y="19"/>
                  </a:lnTo>
                  <a:lnTo>
                    <a:pt x="55" y="15"/>
                  </a:lnTo>
                  <a:lnTo>
                    <a:pt x="57" y="9"/>
                  </a:lnTo>
                  <a:lnTo>
                    <a:pt x="56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17680" y="5659920"/>
              <a:ext cx="128520" cy="9612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7" y="0"/>
                  </a:moveTo>
                  <a:lnTo>
                    <a:pt x="32" y="2"/>
                  </a:lnTo>
                  <a:lnTo>
                    <a:pt x="46" y="9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5"/>
                  </a:lnTo>
                  <a:lnTo>
                    <a:pt x="89" y="20"/>
                  </a:lnTo>
                  <a:lnTo>
                    <a:pt x="99" y="31"/>
                  </a:lnTo>
                  <a:lnTo>
                    <a:pt x="112" y="37"/>
                  </a:lnTo>
                  <a:lnTo>
                    <a:pt x="113" y="51"/>
                  </a:lnTo>
                  <a:lnTo>
                    <a:pt x="120" y="63"/>
                  </a:lnTo>
                  <a:lnTo>
                    <a:pt x="122" y="77"/>
                  </a:lnTo>
                  <a:lnTo>
                    <a:pt x="101" y="61"/>
                  </a:lnTo>
                  <a:lnTo>
                    <a:pt x="79" y="47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2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30" y="44"/>
                  </a:lnTo>
                  <a:lnTo>
                    <a:pt x="26" y="41"/>
                  </a:lnTo>
                  <a:lnTo>
                    <a:pt x="24" y="37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25" y="53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0" y="19"/>
                  </a:lnTo>
                  <a:lnTo>
                    <a:pt x="15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917680" y="5661000"/>
              <a:ext cx="129600" cy="950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17" y="0"/>
                  </a:moveTo>
                  <a:lnTo>
                    <a:pt x="32" y="2"/>
                  </a:lnTo>
                  <a:lnTo>
                    <a:pt x="47" y="8"/>
                  </a:lnTo>
                  <a:lnTo>
                    <a:pt x="58" y="19"/>
                  </a:lnTo>
                  <a:lnTo>
                    <a:pt x="63" y="20"/>
                  </a:lnTo>
                  <a:lnTo>
                    <a:pt x="70" y="17"/>
                  </a:lnTo>
                  <a:lnTo>
                    <a:pt x="77" y="14"/>
                  </a:lnTo>
                  <a:lnTo>
                    <a:pt x="89" y="20"/>
                  </a:lnTo>
                  <a:lnTo>
                    <a:pt x="100" y="30"/>
                  </a:lnTo>
                  <a:lnTo>
                    <a:pt x="113" y="36"/>
                  </a:lnTo>
                  <a:lnTo>
                    <a:pt x="114" y="50"/>
                  </a:lnTo>
                  <a:lnTo>
                    <a:pt x="120" y="63"/>
                  </a:lnTo>
                  <a:lnTo>
                    <a:pt x="123" y="76"/>
                  </a:lnTo>
                  <a:lnTo>
                    <a:pt x="101" y="60"/>
                  </a:lnTo>
                  <a:lnTo>
                    <a:pt x="79" y="46"/>
                  </a:lnTo>
                  <a:lnTo>
                    <a:pt x="53" y="38"/>
                  </a:lnTo>
                  <a:lnTo>
                    <a:pt x="50" y="36"/>
                  </a:lnTo>
                  <a:lnTo>
                    <a:pt x="46" y="32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3"/>
                  </a:lnTo>
                  <a:lnTo>
                    <a:pt x="26" y="41"/>
                  </a:lnTo>
                  <a:lnTo>
                    <a:pt x="24" y="36"/>
                  </a:lnTo>
                  <a:lnTo>
                    <a:pt x="20" y="33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17" y="56"/>
                  </a:lnTo>
                  <a:lnTo>
                    <a:pt x="6" y="51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7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3" y="26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6720" y="5962320"/>
              <a:ext cx="51480" cy="183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17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6720" y="5962320"/>
              <a:ext cx="51480" cy="183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0" y="7"/>
                  </a:moveTo>
                  <a:lnTo>
                    <a:pt x="15" y="1"/>
                  </a:lnTo>
                  <a:lnTo>
                    <a:pt x="32" y="3"/>
                  </a:lnTo>
                  <a:lnTo>
                    <a:pt x="49" y="0"/>
                  </a:lnTo>
                  <a:lnTo>
                    <a:pt x="35" y="13"/>
                  </a:lnTo>
                  <a:lnTo>
                    <a:pt x="17" y="15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42640" y="6002280"/>
              <a:ext cx="238320" cy="163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0" y="3"/>
                  </a:lnTo>
                  <a:lnTo>
                    <a:pt x="153" y="8"/>
                  </a:lnTo>
                  <a:lnTo>
                    <a:pt x="146" y="15"/>
                  </a:lnTo>
                  <a:lnTo>
                    <a:pt x="139" y="23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6"/>
                  </a:lnTo>
                  <a:lnTo>
                    <a:pt x="58" y="59"/>
                  </a:lnTo>
                  <a:lnTo>
                    <a:pt x="51" y="65"/>
                  </a:lnTo>
                  <a:lnTo>
                    <a:pt x="40" y="86"/>
                  </a:lnTo>
                  <a:lnTo>
                    <a:pt x="23" y="102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8"/>
                  </a:lnTo>
                  <a:lnTo>
                    <a:pt x="189" y="26"/>
                  </a:lnTo>
                  <a:lnTo>
                    <a:pt x="207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42640" y="6002280"/>
              <a:ext cx="238320" cy="16344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206" y="2"/>
                  </a:moveTo>
                  <a:lnTo>
                    <a:pt x="190" y="0"/>
                  </a:lnTo>
                  <a:lnTo>
                    <a:pt x="174" y="0"/>
                  </a:lnTo>
                  <a:lnTo>
                    <a:pt x="161" y="3"/>
                  </a:lnTo>
                  <a:lnTo>
                    <a:pt x="154" y="8"/>
                  </a:lnTo>
                  <a:lnTo>
                    <a:pt x="146" y="15"/>
                  </a:lnTo>
                  <a:lnTo>
                    <a:pt x="139" y="22"/>
                  </a:lnTo>
                  <a:lnTo>
                    <a:pt x="121" y="34"/>
                  </a:lnTo>
                  <a:lnTo>
                    <a:pt x="102" y="42"/>
                  </a:lnTo>
                  <a:lnTo>
                    <a:pt x="82" y="51"/>
                  </a:lnTo>
                  <a:lnTo>
                    <a:pt x="70" y="55"/>
                  </a:lnTo>
                  <a:lnTo>
                    <a:pt x="58" y="59"/>
                  </a:lnTo>
                  <a:lnTo>
                    <a:pt x="51" y="64"/>
                  </a:lnTo>
                  <a:lnTo>
                    <a:pt x="40" y="85"/>
                  </a:lnTo>
                  <a:lnTo>
                    <a:pt x="24" y="101"/>
                  </a:lnTo>
                  <a:lnTo>
                    <a:pt x="4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13" y="131"/>
                  </a:lnTo>
                  <a:lnTo>
                    <a:pt x="27" y="131"/>
                  </a:lnTo>
                  <a:lnTo>
                    <a:pt x="40" y="128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2" y="101"/>
                  </a:lnTo>
                  <a:lnTo>
                    <a:pt x="80" y="87"/>
                  </a:lnTo>
                  <a:lnTo>
                    <a:pt x="101" y="76"/>
                  </a:lnTo>
                  <a:lnTo>
                    <a:pt x="122" y="65"/>
                  </a:lnTo>
                  <a:lnTo>
                    <a:pt x="127" y="61"/>
                  </a:lnTo>
                  <a:lnTo>
                    <a:pt x="132" y="56"/>
                  </a:lnTo>
                  <a:lnTo>
                    <a:pt x="137" y="52"/>
                  </a:lnTo>
                  <a:lnTo>
                    <a:pt x="148" y="47"/>
                  </a:lnTo>
                  <a:lnTo>
                    <a:pt x="160" y="46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89" y="26"/>
                  </a:lnTo>
                  <a:lnTo>
                    <a:pt x="208" y="19"/>
                  </a:lnTo>
                  <a:lnTo>
                    <a:pt x="225" y="10"/>
                  </a:lnTo>
                  <a:lnTo>
                    <a:pt x="226" y="7"/>
                  </a:lnTo>
                  <a:lnTo>
                    <a:pt x="225" y="4"/>
                  </a:lnTo>
                  <a:lnTo>
                    <a:pt x="222" y="1"/>
                  </a:lnTo>
                  <a:lnTo>
                    <a:pt x="216" y="1"/>
                  </a:lnTo>
                  <a:lnTo>
                    <a:pt x="211" y="2"/>
                  </a:lnTo>
                  <a:lnTo>
                    <a:pt x="206" y="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577120" y="6152040"/>
              <a:ext cx="41040" cy="198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3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8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577120" y="6152040"/>
              <a:ext cx="41040" cy="198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0"/>
                  </a:moveTo>
                  <a:lnTo>
                    <a:pt x="26" y="4"/>
                  </a:lnTo>
                  <a:lnTo>
                    <a:pt x="14" y="8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29" y="11"/>
                  </a:lnTo>
                  <a:lnTo>
                    <a:pt x="3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75560" y="59497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75560" y="59497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1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00760" y="59911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00760" y="5991120"/>
              <a:ext cx="24120" cy="198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3" y="16"/>
                  </a:lnTo>
                  <a:lnTo>
                    <a:pt x="7" y="12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015960" y="5982120"/>
              <a:ext cx="15480" cy="8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15960" y="5982120"/>
              <a:ext cx="15480" cy="8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4" y="6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63400" y="5993280"/>
              <a:ext cx="15480" cy="100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5"/>
                  </a:moveTo>
                  <a:lnTo>
                    <a:pt x="7" y="5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64120" y="5993280"/>
              <a:ext cx="14760" cy="100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lnTo>
                    <a:pt x="6" y="5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71760" y="5937120"/>
              <a:ext cx="34560" cy="496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4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20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71760" y="5937120"/>
              <a:ext cx="34560" cy="496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0" y="3"/>
                  </a:moveTo>
                  <a:lnTo>
                    <a:pt x="30" y="6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22" y="19"/>
                  </a:lnTo>
                  <a:lnTo>
                    <a:pt x="12" y="31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482080" y="5987160"/>
              <a:ext cx="178200" cy="4500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82080" y="5987160"/>
              <a:ext cx="178200" cy="45000"/>
            </a:xfrm>
            <a:custGeom>
              <a:avLst/>
              <a:gdLst/>
              <a:ahLst/>
              <a:rect l="l" t="t" r="r" b="b"/>
              <a:pathLst>
                <a:path w="169" h="36">
                  <a:moveTo>
                    <a:pt x="165" y="13"/>
                  </a:moveTo>
                  <a:lnTo>
                    <a:pt x="148" y="8"/>
                  </a:lnTo>
                  <a:lnTo>
                    <a:pt x="133" y="14"/>
                  </a:lnTo>
                  <a:lnTo>
                    <a:pt x="117" y="14"/>
                  </a:lnTo>
                  <a:lnTo>
                    <a:pt x="92" y="11"/>
                  </a:lnTo>
                  <a:lnTo>
                    <a:pt x="68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21" y="27"/>
                  </a:lnTo>
                  <a:lnTo>
                    <a:pt x="41" y="25"/>
                  </a:lnTo>
                  <a:lnTo>
                    <a:pt x="60" y="36"/>
                  </a:lnTo>
                  <a:lnTo>
                    <a:pt x="96" y="28"/>
                  </a:lnTo>
                  <a:lnTo>
                    <a:pt x="133" y="2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6" y="13"/>
                  </a:lnTo>
                  <a:lnTo>
                    <a:pt x="165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6000" y="5982120"/>
              <a:ext cx="49320" cy="223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4"/>
                  </a:moveTo>
                  <a:lnTo>
                    <a:pt x="12" y="9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2" y="17"/>
                  </a:lnTo>
                  <a:lnTo>
                    <a:pt x="1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06000" y="5982120"/>
              <a:ext cx="49320" cy="2232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3"/>
                  </a:moveTo>
                  <a:lnTo>
                    <a:pt x="11" y="8"/>
                  </a:lnTo>
                  <a:lnTo>
                    <a:pt x="24" y="7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6" y="10"/>
                  </a:lnTo>
                  <a:lnTo>
                    <a:pt x="31" y="17"/>
                  </a:lnTo>
                  <a:lnTo>
                    <a:pt x="15" y="18"/>
                  </a:lnTo>
                  <a:lnTo>
                    <a:pt x="0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33840" y="6052320"/>
              <a:ext cx="99000" cy="597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7" y="20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3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33840" y="6052320"/>
              <a:ext cx="99000" cy="597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4"/>
                  </a:moveTo>
                  <a:lnTo>
                    <a:pt x="88" y="30"/>
                  </a:lnTo>
                  <a:lnTo>
                    <a:pt x="73" y="22"/>
                  </a:lnTo>
                  <a:lnTo>
                    <a:pt x="56" y="21"/>
                  </a:lnTo>
                  <a:lnTo>
                    <a:pt x="55" y="12"/>
                  </a:lnTo>
                  <a:lnTo>
                    <a:pt x="52" y="5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33" y="27"/>
                  </a:lnTo>
                  <a:lnTo>
                    <a:pt x="52" y="36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0" y="48"/>
                  </a:lnTo>
                  <a:lnTo>
                    <a:pt x="94" y="4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66320" y="6117120"/>
              <a:ext cx="21240" cy="147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0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566320" y="6117120"/>
              <a:ext cx="21240" cy="147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4"/>
                  </a:move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5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463000" y="6007320"/>
              <a:ext cx="16920" cy="158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4" y="4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63000" y="6007320"/>
              <a:ext cx="16920" cy="172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4" y="5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4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61120" y="5985000"/>
              <a:ext cx="86040" cy="4860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79" y="25"/>
                  </a:moveTo>
                  <a:lnTo>
                    <a:pt x="66" y="11"/>
                  </a:lnTo>
                  <a:lnTo>
                    <a:pt x="48" y="8"/>
                  </a:lnTo>
                  <a:lnTo>
                    <a:pt x="31" y="5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3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4" y="30"/>
                  </a:lnTo>
                  <a:lnTo>
                    <a:pt x="6" y="32"/>
                  </a:lnTo>
                  <a:lnTo>
                    <a:pt x="10" y="38"/>
                  </a:lnTo>
                  <a:lnTo>
                    <a:pt x="17" y="39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7" y="25"/>
                  </a:lnTo>
                  <a:lnTo>
                    <a:pt x="41" y="27"/>
                  </a:lnTo>
                  <a:lnTo>
                    <a:pt x="43" y="32"/>
                  </a:lnTo>
                  <a:lnTo>
                    <a:pt x="55" y="27"/>
                  </a:lnTo>
                  <a:lnTo>
                    <a:pt x="68" y="24"/>
                  </a:lnTo>
                  <a:lnTo>
                    <a:pt x="82" y="25"/>
                  </a:lnTo>
                  <a:lnTo>
                    <a:pt x="81" y="25"/>
                  </a:lnTo>
                  <a:lnTo>
                    <a:pt x="79" y="25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61120" y="5986080"/>
              <a:ext cx="86040" cy="4752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79" y="24"/>
                  </a:moveTo>
                  <a:lnTo>
                    <a:pt x="67" y="10"/>
                  </a:lnTo>
                  <a:lnTo>
                    <a:pt x="48" y="8"/>
                  </a:lnTo>
                  <a:lnTo>
                    <a:pt x="31" y="4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9" y="7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4" y="29"/>
                  </a:lnTo>
                  <a:lnTo>
                    <a:pt x="6" y="31"/>
                  </a:lnTo>
                  <a:lnTo>
                    <a:pt x="10" y="37"/>
                  </a:lnTo>
                  <a:lnTo>
                    <a:pt x="17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3" y="31"/>
                  </a:lnTo>
                  <a:lnTo>
                    <a:pt x="56" y="26"/>
                  </a:lnTo>
                  <a:lnTo>
                    <a:pt x="68" y="24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0" y="24"/>
                  </a:lnTo>
                  <a:lnTo>
                    <a:pt x="79" y="2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315400" y="599832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7" y="7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40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15400" y="599832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36" y="14"/>
                  </a:moveTo>
                  <a:lnTo>
                    <a:pt x="36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1" y="33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7" y="39"/>
                  </a:lnTo>
                  <a:lnTo>
                    <a:pt x="24" y="25"/>
                  </a:lnTo>
                  <a:lnTo>
                    <a:pt x="35" y="20"/>
                  </a:lnTo>
                  <a:lnTo>
                    <a:pt x="49" y="20"/>
                  </a:lnTo>
                  <a:lnTo>
                    <a:pt x="52" y="19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6360" y="5994720"/>
              <a:ext cx="51480" cy="410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6" y="13"/>
                  </a:moveTo>
                  <a:lnTo>
                    <a:pt x="37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0" y="31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4" y="20"/>
                  </a:lnTo>
                  <a:lnTo>
                    <a:pt x="40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56360" y="5994720"/>
              <a:ext cx="52560" cy="4104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47" y="13"/>
                  </a:moveTo>
                  <a:lnTo>
                    <a:pt x="38" y="3"/>
                  </a:lnTo>
                  <a:lnTo>
                    <a:pt x="26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9" y="13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1" y="29"/>
                  </a:lnTo>
                  <a:lnTo>
                    <a:pt x="35" y="20"/>
                  </a:lnTo>
                  <a:lnTo>
                    <a:pt x="41" y="14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11000" y="6007320"/>
              <a:ext cx="55800" cy="410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3" y="10"/>
                  </a:moveTo>
                  <a:lnTo>
                    <a:pt x="37" y="3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7" y="11"/>
                  </a:lnTo>
                  <a:lnTo>
                    <a:pt x="10" y="17"/>
                  </a:lnTo>
                  <a:lnTo>
                    <a:pt x="0" y="23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19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34" y="23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53" y="11"/>
                  </a:lnTo>
                  <a:lnTo>
                    <a:pt x="48" y="7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3" y="7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7640" y="6007320"/>
              <a:ext cx="18720" cy="12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lnTo>
                    <a:pt x="12" y="3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11000" y="6008400"/>
              <a:ext cx="26280" cy="273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8" y="9"/>
                  </a:lnTo>
                  <a:lnTo>
                    <a:pt x="10" y="16"/>
                  </a:lnTo>
                  <a:lnTo>
                    <a:pt x="0" y="2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11000" y="6035760"/>
              <a:ext cx="17640" cy="122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4" y="5"/>
                  </a:lnTo>
                  <a:lnTo>
                    <a:pt x="10" y="9"/>
                  </a:lnTo>
                  <a:lnTo>
                    <a:pt x="17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229000" y="6037200"/>
              <a:ext cx="6120" cy="10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3" y="6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35480" y="6026040"/>
              <a:ext cx="30600" cy="1116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9"/>
                  </a:moveTo>
                  <a:lnTo>
                    <a:pt x="11" y="9"/>
                  </a:lnTo>
                  <a:lnTo>
                    <a:pt x="20" y="5"/>
                  </a:lnTo>
                  <a:lnTo>
                    <a:pt x="29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56360" y="6010920"/>
              <a:ext cx="10440" cy="14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2"/>
                  </a:move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45920" y="6010920"/>
              <a:ext cx="10440" cy="50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01040" y="5195160"/>
              <a:ext cx="514440" cy="552960"/>
            </a:xfrm>
            <a:custGeom>
              <a:avLst/>
              <a:gdLst/>
              <a:ahLst/>
              <a:rect l="l" t="t" r="r" b="b"/>
              <a:pathLst>
                <a:path w="488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2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8" y="373"/>
                  </a:lnTo>
                  <a:lnTo>
                    <a:pt x="151" y="382"/>
                  </a:lnTo>
                  <a:lnTo>
                    <a:pt x="147" y="392"/>
                  </a:lnTo>
                  <a:lnTo>
                    <a:pt x="145" y="403"/>
                  </a:lnTo>
                  <a:lnTo>
                    <a:pt x="147" y="405"/>
                  </a:lnTo>
                  <a:lnTo>
                    <a:pt x="149" y="407"/>
                  </a:lnTo>
                  <a:lnTo>
                    <a:pt x="151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8" y="391"/>
                  </a:lnTo>
                  <a:lnTo>
                    <a:pt x="182" y="388"/>
                  </a:lnTo>
                  <a:lnTo>
                    <a:pt x="187" y="385"/>
                  </a:lnTo>
                  <a:lnTo>
                    <a:pt x="194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4" y="376"/>
                  </a:lnTo>
                  <a:lnTo>
                    <a:pt x="221" y="374"/>
                  </a:lnTo>
                  <a:lnTo>
                    <a:pt x="223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1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6" y="393"/>
                  </a:lnTo>
                  <a:lnTo>
                    <a:pt x="237" y="399"/>
                  </a:lnTo>
                  <a:lnTo>
                    <a:pt x="254" y="395"/>
                  </a:lnTo>
                  <a:lnTo>
                    <a:pt x="270" y="394"/>
                  </a:lnTo>
                  <a:lnTo>
                    <a:pt x="287" y="393"/>
                  </a:lnTo>
                  <a:lnTo>
                    <a:pt x="287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4" y="441"/>
                  </a:lnTo>
                  <a:lnTo>
                    <a:pt x="300" y="438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5" y="429"/>
                  </a:lnTo>
                  <a:lnTo>
                    <a:pt x="336" y="425"/>
                  </a:lnTo>
                  <a:lnTo>
                    <a:pt x="347" y="418"/>
                  </a:lnTo>
                  <a:lnTo>
                    <a:pt x="356" y="410"/>
                  </a:lnTo>
                  <a:lnTo>
                    <a:pt x="365" y="401"/>
                  </a:lnTo>
                  <a:lnTo>
                    <a:pt x="367" y="394"/>
                  </a:lnTo>
                  <a:lnTo>
                    <a:pt x="366" y="385"/>
                  </a:lnTo>
                  <a:lnTo>
                    <a:pt x="368" y="377"/>
                  </a:lnTo>
                  <a:lnTo>
                    <a:pt x="372" y="374"/>
                  </a:lnTo>
                  <a:lnTo>
                    <a:pt x="378" y="370"/>
                  </a:lnTo>
                  <a:lnTo>
                    <a:pt x="381" y="367"/>
                  </a:lnTo>
                  <a:lnTo>
                    <a:pt x="382" y="351"/>
                  </a:lnTo>
                  <a:lnTo>
                    <a:pt x="389" y="340"/>
                  </a:lnTo>
                  <a:lnTo>
                    <a:pt x="396" y="327"/>
                  </a:lnTo>
                  <a:lnTo>
                    <a:pt x="392" y="327"/>
                  </a:lnTo>
                  <a:lnTo>
                    <a:pt x="389" y="325"/>
                  </a:lnTo>
                  <a:lnTo>
                    <a:pt x="387" y="324"/>
                  </a:lnTo>
                  <a:lnTo>
                    <a:pt x="387" y="318"/>
                  </a:lnTo>
                  <a:lnTo>
                    <a:pt x="386" y="312"/>
                  </a:lnTo>
                  <a:lnTo>
                    <a:pt x="383" y="307"/>
                  </a:lnTo>
                  <a:lnTo>
                    <a:pt x="393" y="299"/>
                  </a:lnTo>
                  <a:lnTo>
                    <a:pt x="402" y="289"/>
                  </a:lnTo>
                  <a:lnTo>
                    <a:pt x="411" y="278"/>
                  </a:lnTo>
                  <a:lnTo>
                    <a:pt x="418" y="274"/>
                  </a:lnTo>
                  <a:lnTo>
                    <a:pt x="427" y="272"/>
                  </a:lnTo>
                  <a:lnTo>
                    <a:pt x="435" y="267"/>
                  </a:lnTo>
                  <a:lnTo>
                    <a:pt x="439" y="261"/>
                  </a:lnTo>
                  <a:lnTo>
                    <a:pt x="445" y="257"/>
                  </a:lnTo>
                  <a:lnTo>
                    <a:pt x="445" y="252"/>
                  </a:lnTo>
                  <a:lnTo>
                    <a:pt x="436" y="237"/>
                  </a:lnTo>
                  <a:lnTo>
                    <a:pt x="434" y="221"/>
                  </a:lnTo>
                  <a:lnTo>
                    <a:pt x="432" y="205"/>
                  </a:lnTo>
                  <a:lnTo>
                    <a:pt x="441" y="202"/>
                  </a:lnTo>
                  <a:lnTo>
                    <a:pt x="442" y="197"/>
                  </a:lnTo>
                  <a:lnTo>
                    <a:pt x="446" y="186"/>
                  </a:lnTo>
                  <a:lnTo>
                    <a:pt x="449" y="164"/>
                  </a:lnTo>
                  <a:lnTo>
                    <a:pt x="447" y="141"/>
                  </a:lnTo>
                  <a:lnTo>
                    <a:pt x="457" y="120"/>
                  </a:lnTo>
                  <a:lnTo>
                    <a:pt x="468" y="119"/>
                  </a:lnTo>
                  <a:lnTo>
                    <a:pt x="481" y="121"/>
                  </a:lnTo>
                  <a:lnTo>
                    <a:pt x="488" y="118"/>
                  </a:lnTo>
                  <a:lnTo>
                    <a:pt x="483" y="106"/>
                  </a:lnTo>
                  <a:lnTo>
                    <a:pt x="467" y="99"/>
                  </a:lnTo>
                  <a:lnTo>
                    <a:pt x="452" y="89"/>
                  </a:lnTo>
                  <a:lnTo>
                    <a:pt x="456" y="85"/>
                  </a:lnTo>
                  <a:lnTo>
                    <a:pt x="458" y="80"/>
                  </a:lnTo>
                  <a:lnTo>
                    <a:pt x="462" y="76"/>
                  </a:lnTo>
                  <a:lnTo>
                    <a:pt x="456" y="75"/>
                  </a:lnTo>
                  <a:lnTo>
                    <a:pt x="451" y="72"/>
                  </a:lnTo>
                  <a:lnTo>
                    <a:pt x="447" y="68"/>
                  </a:lnTo>
                  <a:lnTo>
                    <a:pt x="438" y="62"/>
                  </a:lnTo>
                  <a:lnTo>
                    <a:pt x="431" y="54"/>
                  </a:lnTo>
                  <a:lnTo>
                    <a:pt x="428" y="46"/>
                  </a:lnTo>
                  <a:lnTo>
                    <a:pt x="433" y="38"/>
                  </a:lnTo>
                  <a:lnTo>
                    <a:pt x="445" y="37"/>
                  </a:lnTo>
                  <a:lnTo>
                    <a:pt x="458" y="34"/>
                  </a:lnTo>
                  <a:lnTo>
                    <a:pt x="457" y="32"/>
                  </a:lnTo>
                  <a:lnTo>
                    <a:pt x="453" y="30"/>
                  </a:lnTo>
                  <a:lnTo>
                    <a:pt x="449" y="27"/>
                  </a:lnTo>
                  <a:lnTo>
                    <a:pt x="451" y="24"/>
                  </a:lnTo>
                  <a:lnTo>
                    <a:pt x="453" y="22"/>
                  </a:lnTo>
                  <a:lnTo>
                    <a:pt x="455" y="21"/>
                  </a:lnTo>
                  <a:lnTo>
                    <a:pt x="443" y="10"/>
                  </a:lnTo>
                  <a:lnTo>
                    <a:pt x="427" y="6"/>
                  </a:lnTo>
                  <a:lnTo>
                    <a:pt x="412" y="2"/>
                  </a:lnTo>
                  <a:lnTo>
                    <a:pt x="398" y="1"/>
                  </a:lnTo>
                  <a:lnTo>
                    <a:pt x="382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7" y="7"/>
                  </a:lnTo>
                  <a:lnTo>
                    <a:pt x="346" y="15"/>
                  </a:lnTo>
                  <a:lnTo>
                    <a:pt x="343" y="22"/>
                  </a:lnTo>
                  <a:lnTo>
                    <a:pt x="338" y="28"/>
                  </a:lnTo>
                  <a:lnTo>
                    <a:pt x="338" y="33"/>
                  </a:lnTo>
                  <a:lnTo>
                    <a:pt x="342" y="39"/>
                  </a:lnTo>
                  <a:lnTo>
                    <a:pt x="343" y="46"/>
                  </a:lnTo>
                  <a:lnTo>
                    <a:pt x="339" y="49"/>
                  </a:lnTo>
                  <a:lnTo>
                    <a:pt x="334" y="49"/>
                  </a:lnTo>
                  <a:lnTo>
                    <a:pt x="331" y="50"/>
                  </a:lnTo>
                  <a:lnTo>
                    <a:pt x="329" y="57"/>
                  </a:lnTo>
                  <a:lnTo>
                    <a:pt x="331" y="64"/>
                  </a:lnTo>
                  <a:lnTo>
                    <a:pt x="332" y="72"/>
                  </a:lnTo>
                  <a:lnTo>
                    <a:pt x="328" y="75"/>
                  </a:lnTo>
                  <a:lnTo>
                    <a:pt x="323" y="76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4" y="91"/>
                  </a:lnTo>
                  <a:lnTo>
                    <a:pt x="317" y="99"/>
                  </a:lnTo>
                  <a:lnTo>
                    <a:pt x="309" y="104"/>
                  </a:lnTo>
                  <a:lnTo>
                    <a:pt x="304" y="111"/>
                  </a:lnTo>
                  <a:lnTo>
                    <a:pt x="301" y="119"/>
                  </a:lnTo>
                  <a:lnTo>
                    <a:pt x="300" y="126"/>
                  </a:lnTo>
                  <a:lnTo>
                    <a:pt x="300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9" y="142"/>
                  </a:lnTo>
                  <a:lnTo>
                    <a:pt x="241" y="149"/>
                  </a:lnTo>
                  <a:lnTo>
                    <a:pt x="245" y="151"/>
                  </a:lnTo>
                  <a:lnTo>
                    <a:pt x="247" y="156"/>
                  </a:lnTo>
                  <a:lnTo>
                    <a:pt x="250" y="160"/>
                  </a:lnTo>
                  <a:lnTo>
                    <a:pt x="250" y="161"/>
                  </a:lnTo>
                  <a:lnTo>
                    <a:pt x="246" y="162"/>
                  </a:lnTo>
                  <a:lnTo>
                    <a:pt x="244" y="165"/>
                  </a:lnTo>
                  <a:lnTo>
                    <a:pt x="220" y="151"/>
                  </a:lnTo>
                  <a:lnTo>
                    <a:pt x="196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8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3"/>
                  </a:lnTo>
                  <a:lnTo>
                    <a:pt x="98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14" y="140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9" y="161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3" y="185"/>
                  </a:lnTo>
                  <a:lnTo>
                    <a:pt x="0" y="188"/>
                  </a:lnTo>
                  <a:lnTo>
                    <a:pt x="10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3"/>
                  </a:lnTo>
                  <a:lnTo>
                    <a:pt x="23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7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29"/>
                  </a:lnTo>
                  <a:lnTo>
                    <a:pt x="71" y="334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6" y="367"/>
                  </a:lnTo>
                  <a:lnTo>
                    <a:pt x="139" y="364"/>
                  </a:lnTo>
                  <a:lnTo>
                    <a:pt x="140" y="365"/>
                  </a:lnTo>
                  <a:lnTo>
                    <a:pt x="141" y="367"/>
                  </a:lnTo>
                  <a:lnTo>
                    <a:pt x="143" y="369"/>
                  </a:lnTo>
                  <a:lnTo>
                    <a:pt x="144" y="370"/>
                  </a:lnTo>
                  <a:lnTo>
                    <a:pt x="145" y="369"/>
                  </a:lnTo>
                  <a:lnTo>
                    <a:pt x="145" y="368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02120" y="5195160"/>
              <a:ext cx="513720" cy="552960"/>
            </a:xfrm>
            <a:custGeom>
              <a:avLst/>
              <a:gdLst/>
              <a:ahLst/>
              <a:rect l="l" t="t" r="r" b="b"/>
              <a:pathLst>
                <a:path w="487" h="443">
                  <a:moveTo>
                    <a:pt x="145" y="368"/>
                  </a:moveTo>
                  <a:lnTo>
                    <a:pt x="141" y="367"/>
                  </a:lnTo>
                  <a:lnTo>
                    <a:pt x="141" y="370"/>
                  </a:lnTo>
                  <a:lnTo>
                    <a:pt x="141" y="373"/>
                  </a:lnTo>
                  <a:lnTo>
                    <a:pt x="144" y="373"/>
                  </a:lnTo>
                  <a:lnTo>
                    <a:pt x="146" y="373"/>
                  </a:lnTo>
                  <a:lnTo>
                    <a:pt x="147" y="373"/>
                  </a:lnTo>
                  <a:lnTo>
                    <a:pt x="151" y="383"/>
                  </a:lnTo>
                  <a:lnTo>
                    <a:pt x="147" y="393"/>
                  </a:lnTo>
                  <a:lnTo>
                    <a:pt x="145" y="403"/>
                  </a:lnTo>
                  <a:lnTo>
                    <a:pt x="146" y="405"/>
                  </a:lnTo>
                  <a:lnTo>
                    <a:pt x="149" y="407"/>
                  </a:lnTo>
                  <a:lnTo>
                    <a:pt x="150" y="406"/>
                  </a:lnTo>
                  <a:lnTo>
                    <a:pt x="157" y="399"/>
                  </a:lnTo>
                  <a:lnTo>
                    <a:pt x="166" y="397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82" y="388"/>
                  </a:lnTo>
                  <a:lnTo>
                    <a:pt x="186" y="385"/>
                  </a:lnTo>
                  <a:lnTo>
                    <a:pt x="193" y="380"/>
                  </a:lnTo>
                  <a:lnTo>
                    <a:pt x="200" y="375"/>
                  </a:lnTo>
                  <a:lnTo>
                    <a:pt x="204" y="367"/>
                  </a:lnTo>
                  <a:lnTo>
                    <a:pt x="208" y="373"/>
                  </a:lnTo>
                  <a:lnTo>
                    <a:pt x="213" y="376"/>
                  </a:lnTo>
                  <a:lnTo>
                    <a:pt x="221" y="374"/>
                  </a:lnTo>
                  <a:lnTo>
                    <a:pt x="222" y="374"/>
                  </a:lnTo>
                  <a:lnTo>
                    <a:pt x="224" y="377"/>
                  </a:lnTo>
                  <a:lnTo>
                    <a:pt x="224" y="380"/>
                  </a:lnTo>
                  <a:lnTo>
                    <a:pt x="227" y="380"/>
                  </a:lnTo>
                  <a:lnTo>
                    <a:pt x="230" y="380"/>
                  </a:lnTo>
                  <a:lnTo>
                    <a:pt x="234" y="380"/>
                  </a:lnTo>
                  <a:lnTo>
                    <a:pt x="233" y="387"/>
                  </a:lnTo>
                  <a:lnTo>
                    <a:pt x="236" y="393"/>
                  </a:lnTo>
                  <a:lnTo>
                    <a:pt x="237" y="400"/>
                  </a:lnTo>
                  <a:lnTo>
                    <a:pt x="253" y="396"/>
                  </a:lnTo>
                  <a:lnTo>
                    <a:pt x="270" y="394"/>
                  </a:lnTo>
                  <a:lnTo>
                    <a:pt x="286" y="393"/>
                  </a:lnTo>
                  <a:lnTo>
                    <a:pt x="286" y="410"/>
                  </a:lnTo>
                  <a:lnTo>
                    <a:pt x="286" y="427"/>
                  </a:lnTo>
                  <a:lnTo>
                    <a:pt x="280" y="442"/>
                  </a:lnTo>
                  <a:lnTo>
                    <a:pt x="287" y="443"/>
                  </a:lnTo>
                  <a:lnTo>
                    <a:pt x="293" y="442"/>
                  </a:lnTo>
                  <a:lnTo>
                    <a:pt x="299" y="439"/>
                  </a:lnTo>
                  <a:lnTo>
                    <a:pt x="300" y="437"/>
                  </a:lnTo>
                  <a:lnTo>
                    <a:pt x="300" y="435"/>
                  </a:lnTo>
                  <a:lnTo>
                    <a:pt x="300" y="433"/>
                  </a:lnTo>
                  <a:lnTo>
                    <a:pt x="312" y="430"/>
                  </a:lnTo>
                  <a:lnTo>
                    <a:pt x="324" y="429"/>
                  </a:lnTo>
                  <a:lnTo>
                    <a:pt x="336" y="425"/>
                  </a:lnTo>
                  <a:lnTo>
                    <a:pt x="346" y="418"/>
                  </a:lnTo>
                  <a:lnTo>
                    <a:pt x="356" y="410"/>
                  </a:lnTo>
                  <a:lnTo>
                    <a:pt x="364" y="402"/>
                  </a:lnTo>
                  <a:lnTo>
                    <a:pt x="366" y="395"/>
                  </a:lnTo>
                  <a:lnTo>
                    <a:pt x="365" y="385"/>
                  </a:lnTo>
                  <a:lnTo>
                    <a:pt x="367" y="377"/>
                  </a:lnTo>
                  <a:lnTo>
                    <a:pt x="372" y="374"/>
                  </a:lnTo>
                  <a:lnTo>
                    <a:pt x="377" y="370"/>
                  </a:lnTo>
                  <a:lnTo>
                    <a:pt x="380" y="367"/>
                  </a:lnTo>
                  <a:lnTo>
                    <a:pt x="382" y="352"/>
                  </a:lnTo>
                  <a:lnTo>
                    <a:pt x="388" y="340"/>
                  </a:lnTo>
                  <a:lnTo>
                    <a:pt x="395" y="327"/>
                  </a:lnTo>
                  <a:lnTo>
                    <a:pt x="391" y="327"/>
                  </a:lnTo>
                  <a:lnTo>
                    <a:pt x="388" y="325"/>
                  </a:lnTo>
                  <a:lnTo>
                    <a:pt x="386" y="324"/>
                  </a:lnTo>
                  <a:lnTo>
                    <a:pt x="386" y="318"/>
                  </a:lnTo>
                  <a:lnTo>
                    <a:pt x="385" y="312"/>
                  </a:lnTo>
                  <a:lnTo>
                    <a:pt x="382" y="308"/>
                  </a:lnTo>
                  <a:lnTo>
                    <a:pt x="392" y="299"/>
                  </a:lnTo>
                  <a:lnTo>
                    <a:pt x="402" y="290"/>
                  </a:lnTo>
                  <a:lnTo>
                    <a:pt x="410" y="278"/>
                  </a:lnTo>
                  <a:lnTo>
                    <a:pt x="417" y="274"/>
                  </a:lnTo>
                  <a:lnTo>
                    <a:pt x="426" y="272"/>
                  </a:lnTo>
                  <a:lnTo>
                    <a:pt x="434" y="267"/>
                  </a:lnTo>
                  <a:lnTo>
                    <a:pt x="438" y="262"/>
                  </a:lnTo>
                  <a:lnTo>
                    <a:pt x="444" y="257"/>
                  </a:lnTo>
                  <a:lnTo>
                    <a:pt x="444" y="252"/>
                  </a:lnTo>
                  <a:lnTo>
                    <a:pt x="435" y="237"/>
                  </a:lnTo>
                  <a:lnTo>
                    <a:pt x="433" y="221"/>
                  </a:lnTo>
                  <a:lnTo>
                    <a:pt x="431" y="205"/>
                  </a:lnTo>
                  <a:lnTo>
                    <a:pt x="440" y="202"/>
                  </a:lnTo>
                  <a:lnTo>
                    <a:pt x="442" y="196"/>
                  </a:lnTo>
                  <a:lnTo>
                    <a:pt x="445" y="187"/>
                  </a:lnTo>
                  <a:lnTo>
                    <a:pt x="448" y="164"/>
                  </a:lnTo>
                  <a:lnTo>
                    <a:pt x="447" y="141"/>
                  </a:lnTo>
                  <a:lnTo>
                    <a:pt x="456" y="120"/>
                  </a:lnTo>
                  <a:lnTo>
                    <a:pt x="467" y="118"/>
                  </a:lnTo>
                  <a:lnTo>
                    <a:pt x="480" y="121"/>
                  </a:lnTo>
                  <a:lnTo>
                    <a:pt x="487" y="118"/>
                  </a:lnTo>
                  <a:lnTo>
                    <a:pt x="482" y="106"/>
                  </a:lnTo>
                  <a:lnTo>
                    <a:pt x="466" y="99"/>
                  </a:lnTo>
                  <a:lnTo>
                    <a:pt x="451" y="89"/>
                  </a:lnTo>
                  <a:lnTo>
                    <a:pt x="455" y="85"/>
                  </a:lnTo>
                  <a:lnTo>
                    <a:pt x="458" y="80"/>
                  </a:lnTo>
                  <a:lnTo>
                    <a:pt x="461" y="76"/>
                  </a:lnTo>
                  <a:lnTo>
                    <a:pt x="455" y="75"/>
                  </a:lnTo>
                  <a:lnTo>
                    <a:pt x="450" y="71"/>
                  </a:lnTo>
                  <a:lnTo>
                    <a:pt x="446" y="68"/>
                  </a:lnTo>
                  <a:lnTo>
                    <a:pt x="437" y="61"/>
                  </a:lnTo>
                  <a:lnTo>
                    <a:pt x="430" y="54"/>
                  </a:lnTo>
                  <a:lnTo>
                    <a:pt x="427" y="46"/>
                  </a:lnTo>
                  <a:lnTo>
                    <a:pt x="432" y="38"/>
                  </a:lnTo>
                  <a:lnTo>
                    <a:pt x="445" y="37"/>
                  </a:lnTo>
                  <a:lnTo>
                    <a:pt x="457" y="34"/>
                  </a:lnTo>
                  <a:lnTo>
                    <a:pt x="457" y="32"/>
                  </a:lnTo>
                  <a:lnTo>
                    <a:pt x="452" y="30"/>
                  </a:lnTo>
                  <a:lnTo>
                    <a:pt x="449" y="26"/>
                  </a:lnTo>
                  <a:lnTo>
                    <a:pt x="450" y="24"/>
                  </a:lnTo>
                  <a:lnTo>
                    <a:pt x="453" y="22"/>
                  </a:lnTo>
                  <a:lnTo>
                    <a:pt x="454" y="20"/>
                  </a:lnTo>
                  <a:lnTo>
                    <a:pt x="442" y="10"/>
                  </a:lnTo>
                  <a:lnTo>
                    <a:pt x="426" y="6"/>
                  </a:lnTo>
                  <a:lnTo>
                    <a:pt x="411" y="2"/>
                  </a:lnTo>
                  <a:lnTo>
                    <a:pt x="397" y="1"/>
                  </a:lnTo>
                  <a:lnTo>
                    <a:pt x="381" y="3"/>
                  </a:lnTo>
                  <a:lnTo>
                    <a:pt x="366" y="0"/>
                  </a:lnTo>
                  <a:lnTo>
                    <a:pt x="359" y="0"/>
                  </a:lnTo>
                  <a:lnTo>
                    <a:pt x="353" y="5"/>
                  </a:lnTo>
                  <a:lnTo>
                    <a:pt x="346" y="7"/>
                  </a:lnTo>
                  <a:lnTo>
                    <a:pt x="346" y="15"/>
                  </a:lnTo>
                  <a:lnTo>
                    <a:pt x="342" y="21"/>
                  </a:lnTo>
                  <a:lnTo>
                    <a:pt x="337" y="28"/>
                  </a:lnTo>
                  <a:lnTo>
                    <a:pt x="337" y="32"/>
                  </a:lnTo>
                  <a:lnTo>
                    <a:pt x="342" y="39"/>
                  </a:lnTo>
                  <a:lnTo>
                    <a:pt x="342" y="46"/>
                  </a:lnTo>
                  <a:lnTo>
                    <a:pt x="338" y="49"/>
                  </a:lnTo>
                  <a:lnTo>
                    <a:pt x="334" y="49"/>
                  </a:lnTo>
                  <a:lnTo>
                    <a:pt x="330" y="50"/>
                  </a:lnTo>
                  <a:lnTo>
                    <a:pt x="328" y="57"/>
                  </a:lnTo>
                  <a:lnTo>
                    <a:pt x="330" y="64"/>
                  </a:lnTo>
                  <a:lnTo>
                    <a:pt x="331" y="72"/>
                  </a:lnTo>
                  <a:lnTo>
                    <a:pt x="328" y="75"/>
                  </a:lnTo>
                  <a:lnTo>
                    <a:pt x="322" y="75"/>
                  </a:lnTo>
                  <a:lnTo>
                    <a:pt x="317" y="77"/>
                  </a:lnTo>
                  <a:lnTo>
                    <a:pt x="313" y="83"/>
                  </a:lnTo>
                  <a:lnTo>
                    <a:pt x="313" y="91"/>
                  </a:lnTo>
                  <a:lnTo>
                    <a:pt x="316" y="99"/>
                  </a:lnTo>
                  <a:lnTo>
                    <a:pt x="308" y="104"/>
                  </a:lnTo>
                  <a:lnTo>
                    <a:pt x="304" y="111"/>
                  </a:lnTo>
                  <a:lnTo>
                    <a:pt x="300" y="119"/>
                  </a:lnTo>
                  <a:lnTo>
                    <a:pt x="300" y="126"/>
                  </a:lnTo>
                  <a:lnTo>
                    <a:pt x="299" y="133"/>
                  </a:lnTo>
                  <a:lnTo>
                    <a:pt x="296" y="138"/>
                  </a:lnTo>
                  <a:lnTo>
                    <a:pt x="278" y="142"/>
                  </a:lnTo>
                  <a:lnTo>
                    <a:pt x="258" y="142"/>
                  </a:lnTo>
                  <a:lnTo>
                    <a:pt x="241" y="149"/>
                  </a:lnTo>
                  <a:lnTo>
                    <a:pt x="244" y="151"/>
                  </a:lnTo>
                  <a:lnTo>
                    <a:pt x="246" y="155"/>
                  </a:lnTo>
                  <a:lnTo>
                    <a:pt x="249" y="159"/>
                  </a:lnTo>
                  <a:lnTo>
                    <a:pt x="249" y="161"/>
                  </a:lnTo>
                  <a:lnTo>
                    <a:pt x="245" y="162"/>
                  </a:lnTo>
                  <a:lnTo>
                    <a:pt x="243" y="165"/>
                  </a:lnTo>
                  <a:lnTo>
                    <a:pt x="220" y="151"/>
                  </a:lnTo>
                  <a:lnTo>
                    <a:pt x="195" y="138"/>
                  </a:lnTo>
                  <a:lnTo>
                    <a:pt x="168" y="135"/>
                  </a:lnTo>
                  <a:lnTo>
                    <a:pt x="168" y="139"/>
                  </a:lnTo>
                  <a:lnTo>
                    <a:pt x="167" y="143"/>
                  </a:lnTo>
                  <a:lnTo>
                    <a:pt x="171" y="145"/>
                  </a:lnTo>
                  <a:lnTo>
                    <a:pt x="166" y="152"/>
                  </a:lnTo>
                  <a:lnTo>
                    <a:pt x="159" y="156"/>
                  </a:lnTo>
                  <a:lnTo>
                    <a:pt x="151" y="158"/>
                  </a:lnTo>
                  <a:lnTo>
                    <a:pt x="124" y="162"/>
                  </a:lnTo>
                  <a:lnTo>
                    <a:pt x="97" y="167"/>
                  </a:lnTo>
                  <a:lnTo>
                    <a:pt x="72" y="178"/>
                  </a:lnTo>
                  <a:lnTo>
                    <a:pt x="59" y="155"/>
                  </a:lnTo>
                  <a:lnTo>
                    <a:pt x="38" y="137"/>
                  </a:lnTo>
                  <a:lnTo>
                    <a:pt x="13" y="140"/>
                  </a:lnTo>
                  <a:lnTo>
                    <a:pt x="12" y="142"/>
                  </a:lnTo>
                  <a:lnTo>
                    <a:pt x="12" y="147"/>
                  </a:lnTo>
                  <a:lnTo>
                    <a:pt x="16" y="152"/>
                  </a:lnTo>
                  <a:lnTo>
                    <a:pt x="8" y="160"/>
                  </a:lnTo>
                  <a:lnTo>
                    <a:pt x="8" y="171"/>
                  </a:lnTo>
                  <a:lnTo>
                    <a:pt x="10" y="182"/>
                  </a:lnTo>
                  <a:lnTo>
                    <a:pt x="5" y="182"/>
                  </a:lnTo>
                  <a:lnTo>
                    <a:pt x="2" y="185"/>
                  </a:lnTo>
                  <a:lnTo>
                    <a:pt x="0" y="188"/>
                  </a:lnTo>
                  <a:lnTo>
                    <a:pt x="9" y="204"/>
                  </a:lnTo>
                  <a:lnTo>
                    <a:pt x="16" y="220"/>
                  </a:lnTo>
                  <a:lnTo>
                    <a:pt x="11" y="239"/>
                  </a:lnTo>
                  <a:lnTo>
                    <a:pt x="13" y="240"/>
                  </a:lnTo>
                  <a:lnTo>
                    <a:pt x="18" y="244"/>
                  </a:lnTo>
                  <a:lnTo>
                    <a:pt x="22" y="248"/>
                  </a:lnTo>
                  <a:lnTo>
                    <a:pt x="26" y="263"/>
                  </a:lnTo>
                  <a:lnTo>
                    <a:pt x="28" y="278"/>
                  </a:lnTo>
                  <a:lnTo>
                    <a:pt x="36" y="291"/>
                  </a:lnTo>
                  <a:lnTo>
                    <a:pt x="36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41" y="278"/>
                  </a:lnTo>
                  <a:lnTo>
                    <a:pt x="47" y="277"/>
                  </a:lnTo>
                  <a:lnTo>
                    <a:pt x="52" y="278"/>
                  </a:lnTo>
                  <a:lnTo>
                    <a:pt x="62" y="290"/>
                  </a:lnTo>
                  <a:lnTo>
                    <a:pt x="62" y="305"/>
                  </a:lnTo>
                  <a:lnTo>
                    <a:pt x="61" y="320"/>
                  </a:lnTo>
                  <a:lnTo>
                    <a:pt x="63" y="324"/>
                  </a:lnTo>
                  <a:lnTo>
                    <a:pt x="67" y="330"/>
                  </a:lnTo>
                  <a:lnTo>
                    <a:pt x="71" y="335"/>
                  </a:lnTo>
                  <a:lnTo>
                    <a:pt x="73" y="339"/>
                  </a:lnTo>
                  <a:lnTo>
                    <a:pt x="75" y="344"/>
                  </a:lnTo>
                  <a:lnTo>
                    <a:pt x="75" y="350"/>
                  </a:lnTo>
                  <a:lnTo>
                    <a:pt x="72" y="355"/>
                  </a:lnTo>
                  <a:lnTo>
                    <a:pt x="69" y="360"/>
                  </a:lnTo>
                  <a:lnTo>
                    <a:pt x="72" y="367"/>
                  </a:lnTo>
                  <a:lnTo>
                    <a:pt x="72" y="364"/>
                  </a:lnTo>
                  <a:lnTo>
                    <a:pt x="72" y="362"/>
                  </a:lnTo>
                  <a:lnTo>
                    <a:pt x="72" y="361"/>
                  </a:lnTo>
                  <a:lnTo>
                    <a:pt x="84" y="361"/>
                  </a:lnTo>
                  <a:lnTo>
                    <a:pt x="96" y="364"/>
                  </a:lnTo>
                  <a:lnTo>
                    <a:pt x="108" y="359"/>
                  </a:lnTo>
                  <a:lnTo>
                    <a:pt x="116" y="360"/>
                  </a:lnTo>
                  <a:lnTo>
                    <a:pt x="125" y="367"/>
                  </a:lnTo>
                  <a:lnTo>
                    <a:pt x="139" y="364"/>
                  </a:lnTo>
                  <a:lnTo>
                    <a:pt x="139" y="365"/>
                  </a:lnTo>
                  <a:lnTo>
                    <a:pt x="141" y="367"/>
                  </a:lnTo>
                  <a:lnTo>
                    <a:pt x="142" y="369"/>
                  </a:lnTo>
                  <a:lnTo>
                    <a:pt x="143" y="370"/>
                  </a:lnTo>
                  <a:lnTo>
                    <a:pt x="145" y="369"/>
                  </a:lnTo>
                  <a:lnTo>
                    <a:pt x="145" y="36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5120280"/>
              <a:ext cx="596880" cy="73440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6" y="25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99"/>
                  </a:lnTo>
                  <a:lnTo>
                    <a:pt x="114" y="134"/>
                  </a:lnTo>
                  <a:lnTo>
                    <a:pt x="136" y="172"/>
                  </a:lnTo>
                  <a:lnTo>
                    <a:pt x="172" y="190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60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7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3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5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2"/>
                  </a:lnTo>
                  <a:lnTo>
                    <a:pt x="537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5"/>
                  </a:lnTo>
                  <a:lnTo>
                    <a:pt x="545" y="487"/>
                  </a:lnTo>
                  <a:lnTo>
                    <a:pt x="545" y="480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60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6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4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4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0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6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1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6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0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4"/>
                  </a:lnTo>
                  <a:lnTo>
                    <a:pt x="295" y="192"/>
                  </a:lnTo>
                  <a:lnTo>
                    <a:pt x="270" y="177"/>
                  </a:lnTo>
                  <a:lnTo>
                    <a:pt x="251" y="155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3"/>
                  </a:lnTo>
                  <a:lnTo>
                    <a:pt x="231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5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1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75280" y="5120280"/>
              <a:ext cx="596880" cy="734400"/>
            </a:xfrm>
            <a:custGeom>
              <a:avLst/>
              <a:gdLst/>
              <a:ahLst/>
              <a:rect l="l" t="t" r="r" b="b"/>
              <a:pathLst>
                <a:path w="566" h="588">
                  <a:moveTo>
                    <a:pt x="61" y="20"/>
                  </a:moveTo>
                  <a:lnTo>
                    <a:pt x="42" y="7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20" y="41"/>
                  </a:lnTo>
                  <a:lnTo>
                    <a:pt x="33" y="58"/>
                  </a:lnTo>
                  <a:lnTo>
                    <a:pt x="48" y="71"/>
                  </a:lnTo>
                  <a:lnTo>
                    <a:pt x="85" y="100"/>
                  </a:lnTo>
                  <a:lnTo>
                    <a:pt x="114" y="134"/>
                  </a:lnTo>
                  <a:lnTo>
                    <a:pt x="137" y="172"/>
                  </a:lnTo>
                  <a:lnTo>
                    <a:pt x="172" y="191"/>
                  </a:lnTo>
                  <a:lnTo>
                    <a:pt x="192" y="224"/>
                  </a:lnTo>
                  <a:lnTo>
                    <a:pt x="201" y="264"/>
                  </a:lnTo>
                  <a:lnTo>
                    <a:pt x="203" y="267"/>
                  </a:lnTo>
                  <a:lnTo>
                    <a:pt x="206" y="271"/>
                  </a:lnTo>
                  <a:lnTo>
                    <a:pt x="209" y="273"/>
                  </a:lnTo>
                  <a:lnTo>
                    <a:pt x="236" y="284"/>
                  </a:lnTo>
                  <a:lnTo>
                    <a:pt x="256" y="306"/>
                  </a:lnTo>
                  <a:lnTo>
                    <a:pt x="270" y="331"/>
                  </a:lnTo>
                  <a:lnTo>
                    <a:pt x="276" y="346"/>
                  </a:lnTo>
                  <a:lnTo>
                    <a:pt x="283" y="359"/>
                  </a:lnTo>
                  <a:lnTo>
                    <a:pt x="291" y="374"/>
                  </a:lnTo>
                  <a:lnTo>
                    <a:pt x="292" y="380"/>
                  </a:lnTo>
                  <a:lnTo>
                    <a:pt x="292" y="386"/>
                  </a:lnTo>
                  <a:lnTo>
                    <a:pt x="292" y="393"/>
                  </a:lnTo>
                  <a:lnTo>
                    <a:pt x="299" y="404"/>
                  </a:lnTo>
                  <a:lnTo>
                    <a:pt x="308" y="412"/>
                  </a:lnTo>
                  <a:lnTo>
                    <a:pt x="317" y="420"/>
                  </a:lnTo>
                  <a:lnTo>
                    <a:pt x="318" y="424"/>
                  </a:lnTo>
                  <a:lnTo>
                    <a:pt x="318" y="428"/>
                  </a:lnTo>
                  <a:lnTo>
                    <a:pt x="319" y="433"/>
                  </a:lnTo>
                  <a:lnTo>
                    <a:pt x="338" y="456"/>
                  </a:lnTo>
                  <a:lnTo>
                    <a:pt x="360" y="474"/>
                  </a:lnTo>
                  <a:lnTo>
                    <a:pt x="383" y="493"/>
                  </a:lnTo>
                  <a:lnTo>
                    <a:pt x="389" y="500"/>
                  </a:lnTo>
                  <a:lnTo>
                    <a:pt x="395" y="508"/>
                  </a:lnTo>
                  <a:lnTo>
                    <a:pt x="401" y="514"/>
                  </a:lnTo>
                  <a:lnTo>
                    <a:pt x="408" y="519"/>
                  </a:lnTo>
                  <a:lnTo>
                    <a:pt x="416" y="523"/>
                  </a:lnTo>
                  <a:lnTo>
                    <a:pt x="423" y="526"/>
                  </a:lnTo>
                  <a:lnTo>
                    <a:pt x="441" y="541"/>
                  </a:lnTo>
                  <a:lnTo>
                    <a:pt x="454" y="561"/>
                  </a:lnTo>
                  <a:lnTo>
                    <a:pt x="470" y="578"/>
                  </a:lnTo>
                  <a:lnTo>
                    <a:pt x="470" y="571"/>
                  </a:lnTo>
                  <a:lnTo>
                    <a:pt x="472" y="565"/>
                  </a:lnTo>
                  <a:lnTo>
                    <a:pt x="477" y="558"/>
                  </a:lnTo>
                  <a:lnTo>
                    <a:pt x="489" y="564"/>
                  </a:lnTo>
                  <a:lnTo>
                    <a:pt x="498" y="563"/>
                  </a:lnTo>
                  <a:lnTo>
                    <a:pt x="506" y="552"/>
                  </a:lnTo>
                  <a:lnTo>
                    <a:pt x="517" y="562"/>
                  </a:lnTo>
                  <a:lnTo>
                    <a:pt x="524" y="574"/>
                  </a:lnTo>
                  <a:lnTo>
                    <a:pt x="530" y="587"/>
                  </a:lnTo>
                  <a:lnTo>
                    <a:pt x="532" y="588"/>
                  </a:lnTo>
                  <a:lnTo>
                    <a:pt x="536" y="588"/>
                  </a:lnTo>
                  <a:lnTo>
                    <a:pt x="539" y="588"/>
                  </a:lnTo>
                  <a:lnTo>
                    <a:pt x="537" y="571"/>
                  </a:lnTo>
                  <a:lnTo>
                    <a:pt x="538" y="555"/>
                  </a:lnTo>
                  <a:lnTo>
                    <a:pt x="541" y="538"/>
                  </a:lnTo>
                  <a:lnTo>
                    <a:pt x="541" y="527"/>
                  </a:lnTo>
                  <a:lnTo>
                    <a:pt x="537" y="515"/>
                  </a:lnTo>
                  <a:lnTo>
                    <a:pt x="536" y="502"/>
                  </a:lnTo>
                  <a:lnTo>
                    <a:pt x="540" y="494"/>
                  </a:lnTo>
                  <a:lnTo>
                    <a:pt x="545" y="487"/>
                  </a:lnTo>
                  <a:lnTo>
                    <a:pt x="545" y="479"/>
                  </a:lnTo>
                  <a:lnTo>
                    <a:pt x="541" y="473"/>
                  </a:lnTo>
                  <a:lnTo>
                    <a:pt x="537" y="467"/>
                  </a:lnTo>
                  <a:lnTo>
                    <a:pt x="537" y="459"/>
                  </a:lnTo>
                  <a:lnTo>
                    <a:pt x="538" y="456"/>
                  </a:lnTo>
                  <a:lnTo>
                    <a:pt x="541" y="453"/>
                  </a:lnTo>
                  <a:lnTo>
                    <a:pt x="546" y="453"/>
                  </a:lnTo>
                  <a:lnTo>
                    <a:pt x="546" y="444"/>
                  </a:lnTo>
                  <a:lnTo>
                    <a:pt x="545" y="436"/>
                  </a:lnTo>
                  <a:lnTo>
                    <a:pt x="547" y="431"/>
                  </a:lnTo>
                  <a:lnTo>
                    <a:pt x="555" y="426"/>
                  </a:lnTo>
                  <a:lnTo>
                    <a:pt x="559" y="420"/>
                  </a:lnTo>
                  <a:lnTo>
                    <a:pt x="566" y="413"/>
                  </a:lnTo>
                  <a:lnTo>
                    <a:pt x="561" y="413"/>
                  </a:lnTo>
                  <a:lnTo>
                    <a:pt x="557" y="413"/>
                  </a:lnTo>
                  <a:lnTo>
                    <a:pt x="553" y="412"/>
                  </a:lnTo>
                  <a:lnTo>
                    <a:pt x="539" y="404"/>
                  </a:lnTo>
                  <a:lnTo>
                    <a:pt x="526" y="395"/>
                  </a:lnTo>
                  <a:lnTo>
                    <a:pt x="512" y="388"/>
                  </a:lnTo>
                  <a:lnTo>
                    <a:pt x="501" y="388"/>
                  </a:lnTo>
                  <a:lnTo>
                    <a:pt x="488" y="393"/>
                  </a:lnTo>
                  <a:lnTo>
                    <a:pt x="480" y="403"/>
                  </a:lnTo>
                  <a:lnTo>
                    <a:pt x="476" y="389"/>
                  </a:lnTo>
                  <a:lnTo>
                    <a:pt x="475" y="375"/>
                  </a:lnTo>
                  <a:lnTo>
                    <a:pt x="463" y="370"/>
                  </a:lnTo>
                  <a:lnTo>
                    <a:pt x="466" y="355"/>
                  </a:lnTo>
                  <a:lnTo>
                    <a:pt x="464" y="339"/>
                  </a:lnTo>
                  <a:lnTo>
                    <a:pt x="463" y="324"/>
                  </a:lnTo>
                  <a:lnTo>
                    <a:pt x="450" y="328"/>
                  </a:lnTo>
                  <a:lnTo>
                    <a:pt x="436" y="326"/>
                  </a:lnTo>
                  <a:lnTo>
                    <a:pt x="424" y="320"/>
                  </a:lnTo>
                  <a:lnTo>
                    <a:pt x="421" y="311"/>
                  </a:lnTo>
                  <a:lnTo>
                    <a:pt x="427" y="303"/>
                  </a:lnTo>
                  <a:lnTo>
                    <a:pt x="434" y="294"/>
                  </a:lnTo>
                  <a:lnTo>
                    <a:pt x="428" y="294"/>
                  </a:lnTo>
                  <a:lnTo>
                    <a:pt x="423" y="294"/>
                  </a:lnTo>
                  <a:lnTo>
                    <a:pt x="417" y="294"/>
                  </a:lnTo>
                  <a:lnTo>
                    <a:pt x="423" y="288"/>
                  </a:lnTo>
                  <a:lnTo>
                    <a:pt x="429" y="282"/>
                  </a:lnTo>
                  <a:lnTo>
                    <a:pt x="434" y="275"/>
                  </a:lnTo>
                  <a:lnTo>
                    <a:pt x="424" y="270"/>
                  </a:lnTo>
                  <a:lnTo>
                    <a:pt x="416" y="264"/>
                  </a:lnTo>
                  <a:lnTo>
                    <a:pt x="411" y="255"/>
                  </a:lnTo>
                  <a:lnTo>
                    <a:pt x="405" y="256"/>
                  </a:lnTo>
                  <a:lnTo>
                    <a:pt x="404" y="256"/>
                  </a:lnTo>
                  <a:lnTo>
                    <a:pt x="399" y="259"/>
                  </a:lnTo>
                  <a:lnTo>
                    <a:pt x="402" y="259"/>
                  </a:lnTo>
                  <a:lnTo>
                    <a:pt x="400" y="260"/>
                  </a:lnTo>
                  <a:lnTo>
                    <a:pt x="397" y="255"/>
                  </a:lnTo>
                  <a:lnTo>
                    <a:pt x="388" y="244"/>
                  </a:lnTo>
                  <a:lnTo>
                    <a:pt x="375" y="240"/>
                  </a:lnTo>
                  <a:lnTo>
                    <a:pt x="361" y="242"/>
                  </a:lnTo>
                  <a:lnTo>
                    <a:pt x="360" y="236"/>
                  </a:lnTo>
                  <a:lnTo>
                    <a:pt x="358" y="231"/>
                  </a:lnTo>
                  <a:lnTo>
                    <a:pt x="357" y="225"/>
                  </a:lnTo>
                  <a:lnTo>
                    <a:pt x="349" y="211"/>
                  </a:lnTo>
                  <a:lnTo>
                    <a:pt x="338" y="201"/>
                  </a:lnTo>
                  <a:lnTo>
                    <a:pt x="326" y="191"/>
                  </a:lnTo>
                  <a:lnTo>
                    <a:pt x="314" y="178"/>
                  </a:lnTo>
                  <a:lnTo>
                    <a:pt x="301" y="169"/>
                  </a:lnTo>
                  <a:lnTo>
                    <a:pt x="287" y="174"/>
                  </a:lnTo>
                  <a:lnTo>
                    <a:pt x="288" y="178"/>
                  </a:lnTo>
                  <a:lnTo>
                    <a:pt x="292" y="185"/>
                  </a:lnTo>
                  <a:lnTo>
                    <a:pt x="295" y="192"/>
                  </a:lnTo>
                  <a:lnTo>
                    <a:pt x="271" y="177"/>
                  </a:lnTo>
                  <a:lnTo>
                    <a:pt x="251" y="156"/>
                  </a:lnTo>
                  <a:lnTo>
                    <a:pt x="233" y="132"/>
                  </a:lnTo>
                  <a:lnTo>
                    <a:pt x="232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12" y="104"/>
                  </a:lnTo>
                  <a:lnTo>
                    <a:pt x="189" y="93"/>
                  </a:lnTo>
                  <a:lnTo>
                    <a:pt x="173" y="78"/>
                  </a:lnTo>
                  <a:lnTo>
                    <a:pt x="168" y="66"/>
                  </a:lnTo>
                  <a:lnTo>
                    <a:pt x="163" y="52"/>
                  </a:lnTo>
                  <a:lnTo>
                    <a:pt x="154" y="39"/>
                  </a:lnTo>
                  <a:lnTo>
                    <a:pt x="153" y="37"/>
                  </a:lnTo>
                  <a:lnTo>
                    <a:pt x="153" y="33"/>
                  </a:lnTo>
                  <a:lnTo>
                    <a:pt x="152" y="30"/>
                  </a:lnTo>
                  <a:lnTo>
                    <a:pt x="136" y="22"/>
                  </a:lnTo>
                  <a:lnTo>
                    <a:pt x="118" y="20"/>
                  </a:lnTo>
                  <a:lnTo>
                    <a:pt x="100" y="20"/>
                  </a:lnTo>
                  <a:lnTo>
                    <a:pt x="87" y="21"/>
                  </a:lnTo>
                  <a:lnTo>
                    <a:pt x="74" y="23"/>
                  </a:lnTo>
                  <a:lnTo>
                    <a:pt x="61" y="2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40960" y="5051520"/>
              <a:ext cx="240480" cy="34488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225" y="257"/>
                  </a:moveTo>
                  <a:lnTo>
                    <a:pt x="228" y="264"/>
                  </a:lnTo>
                  <a:lnTo>
                    <a:pt x="227" y="271"/>
                  </a:lnTo>
                  <a:lnTo>
                    <a:pt x="223" y="275"/>
                  </a:lnTo>
                  <a:lnTo>
                    <a:pt x="215" y="276"/>
                  </a:lnTo>
                  <a:lnTo>
                    <a:pt x="210" y="266"/>
                  </a:lnTo>
                  <a:lnTo>
                    <a:pt x="202" y="263"/>
                  </a:lnTo>
                  <a:lnTo>
                    <a:pt x="194" y="268"/>
                  </a:lnTo>
                  <a:lnTo>
                    <a:pt x="185" y="273"/>
                  </a:lnTo>
                  <a:lnTo>
                    <a:pt x="177" y="272"/>
                  </a:lnTo>
                  <a:lnTo>
                    <a:pt x="139" y="248"/>
                  </a:lnTo>
                  <a:lnTo>
                    <a:pt x="101" y="227"/>
                  </a:lnTo>
                  <a:lnTo>
                    <a:pt x="68" y="199"/>
                  </a:lnTo>
                  <a:lnTo>
                    <a:pt x="64" y="192"/>
                  </a:lnTo>
                  <a:lnTo>
                    <a:pt x="61" y="184"/>
                  </a:lnTo>
                  <a:lnTo>
                    <a:pt x="58" y="175"/>
                  </a:lnTo>
                  <a:lnTo>
                    <a:pt x="50" y="162"/>
                  </a:lnTo>
                  <a:lnTo>
                    <a:pt x="39" y="151"/>
                  </a:lnTo>
                  <a:lnTo>
                    <a:pt x="30" y="138"/>
                  </a:lnTo>
                  <a:lnTo>
                    <a:pt x="27" y="119"/>
                  </a:lnTo>
                  <a:lnTo>
                    <a:pt x="25" y="100"/>
                  </a:lnTo>
                  <a:lnTo>
                    <a:pt x="19" y="82"/>
                  </a:lnTo>
                  <a:lnTo>
                    <a:pt x="15" y="77"/>
                  </a:lnTo>
                  <a:lnTo>
                    <a:pt x="11" y="72"/>
                  </a:lnTo>
                  <a:lnTo>
                    <a:pt x="8" y="68"/>
                  </a:lnTo>
                  <a:lnTo>
                    <a:pt x="7" y="59"/>
                  </a:lnTo>
                  <a:lnTo>
                    <a:pt x="10" y="49"/>
                  </a:lnTo>
                  <a:lnTo>
                    <a:pt x="9" y="39"/>
                  </a:lnTo>
                  <a:lnTo>
                    <a:pt x="5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47" y="21"/>
                  </a:lnTo>
                  <a:lnTo>
                    <a:pt x="43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5" y="37"/>
                  </a:lnTo>
                  <a:lnTo>
                    <a:pt x="76" y="39"/>
                  </a:lnTo>
                  <a:lnTo>
                    <a:pt x="76" y="42"/>
                  </a:lnTo>
                  <a:lnTo>
                    <a:pt x="85" y="39"/>
                  </a:lnTo>
                  <a:lnTo>
                    <a:pt x="91" y="35"/>
                  </a:lnTo>
                  <a:lnTo>
                    <a:pt x="93" y="26"/>
                  </a:lnTo>
                  <a:lnTo>
                    <a:pt x="105" y="27"/>
                  </a:lnTo>
                  <a:lnTo>
                    <a:pt x="116" y="33"/>
                  </a:lnTo>
                  <a:lnTo>
                    <a:pt x="125" y="44"/>
                  </a:lnTo>
                  <a:lnTo>
                    <a:pt x="139" y="58"/>
                  </a:lnTo>
                  <a:lnTo>
                    <a:pt x="156" y="70"/>
                  </a:lnTo>
                  <a:lnTo>
                    <a:pt x="166" y="86"/>
                  </a:lnTo>
                  <a:lnTo>
                    <a:pt x="168" y="116"/>
                  </a:lnTo>
                  <a:lnTo>
                    <a:pt x="165" y="147"/>
                  </a:lnTo>
                  <a:lnTo>
                    <a:pt x="167" y="177"/>
                  </a:lnTo>
                  <a:lnTo>
                    <a:pt x="179" y="201"/>
                  </a:lnTo>
                  <a:lnTo>
                    <a:pt x="196" y="223"/>
                  </a:lnTo>
                  <a:lnTo>
                    <a:pt x="208" y="247"/>
                  </a:lnTo>
                  <a:lnTo>
                    <a:pt x="206" y="250"/>
                  </a:lnTo>
                  <a:lnTo>
                    <a:pt x="203" y="253"/>
                  </a:lnTo>
                  <a:lnTo>
                    <a:pt x="201" y="257"/>
                  </a:lnTo>
                  <a:lnTo>
                    <a:pt x="225" y="25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7480" y="5372640"/>
              <a:ext cx="3960" cy="223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1" y="0"/>
                  </a:moveTo>
                  <a:lnTo>
                    <a:pt x="4" y="7"/>
                  </a:lnTo>
                  <a:lnTo>
                    <a:pt x="3" y="13"/>
                  </a:lnTo>
                  <a:lnTo>
                    <a:pt x="0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55160" y="5378760"/>
              <a:ext cx="21960" cy="172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2" y="14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27800" y="5378760"/>
              <a:ext cx="27000" cy="122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17" y="5"/>
                  </a:lnTo>
                  <a:lnTo>
                    <a:pt x="8" y="10"/>
                  </a:lnTo>
                  <a:lnTo>
                    <a:pt x="0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514040" y="5300280"/>
              <a:ext cx="113760" cy="8964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108" y="72"/>
                  </a:moveTo>
                  <a:lnTo>
                    <a:pt x="70" y="49"/>
                  </a:lnTo>
                  <a:lnTo>
                    <a:pt x="32" y="28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02160" y="5270040"/>
              <a:ext cx="11520" cy="2988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4"/>
                  </a:moveTo>
                  <a:lnTo>
                    <a:pt x="7" y="17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473000" y="5223960"/>
              <a:ext cx="29160" cy="460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7"/>
                  </a:moveTo>
                  <a:lnTo>
                    <a:pt x="20" y="25"/>
                  </a:lnTo>
                  <a:lnTo>
                    <a:pt x="9" y="1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461120" y="5155200"/>
              <a:ext cx="11520" cy="6876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1" y="55"/>
                  </a:moveTo>
                  <a:lnTo>
                    <a:pt x="8" y="36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50680" y="5136480"/>
              <a:ext cx="10440" cy="18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7" y="10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48520" y="5100120"/>
              <a:ext cx="2880" cy="3600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1" y="29"/>
                  </a:moveTo>
                  <a:lnTo>
                    <a:pt x="0" y="20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0960" y="5067720"/>
              <a:ext cx="10440" cy="32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26"/>
                  </a:moveTo>
                  <a:lnTo>
                    <a:pt x="5" y="17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43120" y="5051520"/>
              <a:ext cx="11520" cy="16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2" y="6"/>
                  </a:lnTo>
                  <a:lnTo>
                    <a:pt x="5" y="1"/>
                  </a:lnTo>
                  <a:lnTo>
                    <a:pt x="11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455000" y="5051520"/>
              <a:ext cx="35640" cy="52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20" y="8"/>
                  </a:lnTo>
                  <a:lnTo>
                    <a:pt x="34" y="21"/>
                  </a:lnTo>
                  <a:lnTo>
                    <a:pt x="30" y="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87400" y="5104080"/>
              <a:ext cx="13680" cy="10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4" y="3"/>
                  </a:lnTo>
                  <a:lnTo>
                    <a:pt x="8" y="7"/>
                  </a:lnTo>
                  <a:lnTo>
                    <a:pt x="13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501440" y="5096520"/>
              <a:ext cx="16560" cy="18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6" y="12"/>
                  </a:lnTo>
                  <a:lnTo>
                    <a:pt x="8" y="3"/>
                  </a:lnTo>
                  <a:lnTo>
                    <a:pt x="1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18000" y="5096520"/>
              <a:ext cx="2880" cy="7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21240" y="5083920"/>
              <a:ext cx="17640" cy="19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14"/>
                  </a:lnTo>
                  <a:lnTo>
                    <a:pt x="15" y="9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39240" y="5083920"/>
              <a:ext cx="33480" cy="223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13" y="1"/>
                  </a:lnTo>
                  <a:lnTo>
                    <a:pt x="23" y="8"/>
                  </a:lnTo>
                  <a:lnTo>
                    <a:pt x="32" y="1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72720" y="5106240"/>
              <a:ext cx="43200" cy="525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15" y="14"/>
                  </a:lnTo>
                  <a:lnTo>
                    <a:pt x="31" y="26"/>
                  </a:lnTo>
                  <a:lnTo>
                    <a:pt x="41" y="4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615200" y="5159160"/>
              <a:ext cx="2880" cy="113400"/>
            </a:xfrm>
            <a:custGeom>
              <a:avLst/>
              <a:gdLst/>
              <a:ahLst/>
              <a:rect l="l" t="t" r="r" b="b"/>
              <a:pathLst>
                <a:path w="3" h="91">
                  <a:moveTo>
                    <a:pt x="1" y="0"/>
                  </a:moveTo>
                  <a:lnTo>
                    <a:pt x="3" y="30"/>
                  </a:lnTo>
                  <a:lnTo>
                    <a:pt x="0" y="61"/>
                  </a:lnTo>
                  <a:lnTo>
                    <a:pt x="2" y="9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617360" y="5272560"/>
              <a:ext cx="43200" cy="8748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0" y="0"/>
                  </a:moveTo>
                  <a:lnTo>
                    <a:pt x="12" y="24"/>
                  </a:lnTo>
                  <a:lnTo>
                    <a:pt x="30" y="45"/>
                  </a:lnTo>
                  <a:lnTo>
                    <a:pt x="41" y="7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654080" y="5360040"/>
              <a:ext cx="6120" cy="122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556880" y="3972240"/>
              <a:ext cx="387000" cy="96300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6" y="94"/>
                  </a:lnTo>
                  <a:lnTo>
                    <a:pt x="41" y="104"/>
                  </a:lnTo>
                  <a:lnTo>
                    <a:pt x="39" y="114"/>
                  </a:lnTo>
                  <a:lnTo>
                    <a:pt x="43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4" y="147"/>
                  </a:lnTo>
                  <a:lnTo>
                    <a:pt x="118" y="156"/>
                  </a:lnTo>
                  <a:lnTo>
                    <a:pt x="126" y="160"/>
                  </a:lnTo>
                  <a:lnTo>
                    <a:pt x="134" y="165"/>
                  </a:lnTo>
                  <a:lnTo>
                    <a:pt x="140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1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3" y="223"/>
                  </a:lnTo>
                  <a:lnTo>
                    <a:pt x="122" y="236"/>
                  </a:lnTo>
                  <a:lnTo>
                    <a:pt x="144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3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400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4"/>
                  </a:lnTo>
                  <a:lnTo>
                    <a:pt x="273" y="447"/>
                  </a:lnTo>
                  <a:lnTo>
                    <a:pt x="272" y="450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80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1"/>
                  </a:lnTo>
                  <a:lnTo>
                    <a:pt x="257" y="493"/>
                  </a:lnTo>
                  <a:lnTo>
                    <a:pt x="261" y="497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1" y="588"/>
                  </a:lnTo>
                  <a:lnTo>
                    <a:pt x="237" y="591"/>
                  </a:lnTo>
                  <a:lnTo>
                    <a:pt x="228" y="593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4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7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8" y="659"/>
                  </a:lnTo>
                  <a:lnTo>
                    <a:pt x="134" y="661"/>
                  </a:lnTo>
                  <a:lnTo>
                    <a:pt x="128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9"/>
                  </a:lnTo>
                  <a:lnTo>
                    <a:pt x="120" y="680"/>
                  </a:lnTo>
                  <a:lnTo>
                    <a:pt x="125" y="682"/>
                  </a:lnTo>
                  <a:lnTo>
                    <a:pt x="130" y="684"/>
                  </a:lnTo>
                  <a:lnTo>
                    <a:pt x="135" y="687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4" y="712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3" y="771"/>
                  </a:lnTo>
                  <a:lnTo>
                    <a:pt x="138" y="771"/>
                  </a:lnTo>
                  <a:lnTo>
                    <a:pt x="144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9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9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4"/>
                  </a:lnTo>
                  <a:lnTo>
                    <a:pt x="206" y="718"/>
                  </a:lnTo>
                  <a:lnTo>
                    <a:pt x="211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09" y="691"/>
                  </a:lnTo>
                  <a:lnTo>
                    <a:pt x="217" y="699"/>
                  </a:lnTo>
                  <a:lnTo>
                    <a:pt x="226" y="703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9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5"/>
                  </a:lnTo>
                  <a:lnTo>
                    <a:pt x="282" y="664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8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7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1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09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6" y="275"/>
                  </a:lnTo>
                  <a:lnTo>
                    <a:pt x="191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4" y="234"/>
                  </a:lnTo>
                  <a:lnTo>
                    <a:pt x="185" y="230"/>
                  </a:lnTo>
                  <a:lnTo>
                    <a:pt x="181" y="216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5" y="185"/>
                  </a:lnTo>
                  <a:lnTo>
                    <a:pt x="211" y="179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8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5"/>
                  </a:lnTo>
                  <a:lnTo>
                    <a:pt x="278" y="143"/>
                  </a:lnTo>
                  <a:lnTo>
                    <a:pt x="279" y="141"/>
                  </a:lnTo>
                  <a:lnTo>
                    <a:pt x="279" y="138"/>
                  </a:lnTo>
                  <a:lnTo>
                    <a:pt x="279" y="134"/>
                  </a:lnTo>
                  <a:lnTo>
                    <a:pt x="273" y="132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4"/>
                  </a:lnTo>
                  <a:lnTo>
                    <a:pt x="278" y="106"/>
                  </a:lnTo>
                  <a:lnTo>
                    <a:pt x="285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1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1" y="34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3" y="34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9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56880" y="3972240"/>
              <a:ext cx="387000" cy="963000"/>
            </a:xfrm>
            <a:custGeom>
              <a:avLst/>
              <a:gdLst/>
              <a:ahLst/>
              <a:rect l="l" t="t" r="r" b="b"/>
              <a:pathLst>
                <a:path w="367" h="771">
                  <a:moveTo>
                    <a:pt x="0" y="56"/>
                  </a:moveTo>
                  <a:lnTo>
                    <a:pt x="8" y="64"/>
                  </a:lnTo>
                  <a:lnTo>
                    <a:pt x="16" y="73"/>
                  </a:lnTo>
                  <a:lnTo>
                    <a:pt x="22" y="84"/>
                  </a:lnTo>
                  <a:lnTo>
                    <a:pt x="31" y="88"/>
                  </a:lnTo>
                  <a:lnTo>
                    <a:pt x="41" y="88"/>
                  </a:lnTo>
                  <a:lnTo>
                    <a:pt x="45" y="94"/>
                  </a:lnTo>
                  <a:lnTo>
                    <a:pt x="41" y="104"/>
                  </a:lnTo>
                  <a:lnTo>
                    <a:pt x="39" y="115"/>
                  </a:lnTo>
                  <a:lnTo>
                    <a:pt x="42" y="122"/>
                  </a:lnTo>
                  <a:lnTo>
                    <a:pt x="63" y="128"/>
                  </a:lnTo>
                  <a:lnTo>
                    <a:pt x="85" y="127"/>
                  </a:lnTo>
                  <a:lnTo>
                    <a:pt x="107" y="129"/>
                  </a:lnTo>
                  <a:lnTo>
                    <a:pt x="113" y="136"/>
                  </a:lnTo>
                  <a:lnTo>
                    <a:pt x="113" y="147"/>
                  </a:lnTo>
                  <a:lnTo>
                    <a:pt x="118" y="156"/>
                  </a:lnTo>
                  <a:lnTo>
                    <a:pt x="126" y="161"/>
                  </a:lnTo>
                  <a:lnTo>
                    <a:pt x="133" y="165"/>
                  </a:lnTo>
                  <a:lnTo>
                    <a:pt x="139" y="171"/>
                  </a:lnTo>
                  <a:lnTo>
                    <a:pt x="139" y="175"/>
                  </a:lnTo>
                  <a:lnTo>
                    <a:pt x="136" y="180"/>
                  </a:lnTo>
                  <a:lnTo>
                    <a:pt x="135" y="187"/>
                  </a:lnTo>
                  <a:lnTo>
                    <a:pt x="131" y="196"/>
                  </a:lnTo>
                  <a:lnTo>
                    <a:pt x="122" y="202"/>
                  </a:lnTo>
                  <a:lnTo>
                    <a:pt x="110" y="206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1" y="200"/>
                  </a:lnTo>
                  <a:lnTo>
                    <a:pt x="95" y="201"/>
                  </a:lnTo>
                  <a:lnTo>
                    <a:pt x="93" y="203"/>
                  </a:lnTo>
                  <a:lnTo>
                    <a:pt x="102" y="223"/>
                  </a:lnTo>
                  <a:lnTo>
                    <a:pt x="122" y="236"/>
                  </a:lnTo>
                  <a:lnTo>
                    <a:pt x="143" y="243"/>
                  </a:lnTo>
                  <a:lnTo>
                    <a:pt x="144" y="248"/>
                  </a:lnTo>
                  <a:lnTo>
                    <a:pt x="146" y="254"/>
                  </a:lnTo>
                  <a:lnTo>
                    <a:pt x="149" y="258"/>
                  </a:lnTo>
                  <a:lnTo>
                    <a:pt x="154" y="266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81" y="296"/>
                  </a:lnTo>
                  <a:lnTo>
                    <a:pt x="194" y="310"/>
                  </a:lnTo>
                  <a:lnTo>
                    <a:pt x="207" y="325"/>
                  </a:lnTo>
                  <a:lnTo>
                    <a:pt x="203" y="326"/>
                  </a:lnTo>
                  <a:lnTo>
                    <a:pt x="204" y="329"/>
                  </a:lnTo>
                  <a:lnTo>
                    <a:pt x="203" y="332"/>
                  </a:lnTo>
                  <a:lnTo>
                    <a:pt x="208" y="334"/>
                  </a:lnTo>
                  <a:lnTo>
                    <a:pt x="212" y="335"/>
                  </a:lnTo>
                  <a:lnTo>
                    <a:pt x="217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3" y="338"/>
                  </a:lnTo>
                  <a:lnTo>
                    <a:pt x="220" y="351"/>
                  </a:lnTo>
                  <a:lnTo>
                    <a:pt x="237" y="364"/>
                  </a:lnTo>
                  <a:lnTo>
                    <a:pt x="256" y="376"/>
                  </a:lnTo>
                  <a:lnTo>
                    <a:pt x="259" y="380"/>
                  </a:lnTo>
                  <a:lnTo>
                    <a:pt x="262" y="386"/>
                  </a:lnTo>
                  <a:lnTo>
                    <a:pt x="266" y="391"/>
                  </a:lnTo>
                  <a:lnTo>
                    <a:pt x="263" y="389"/>
                  </a:lnTo>
                  <a:lnTo>
                    <a:pt x="260" y="387"/>
                  </a:lnTo>
                  <a:lnTo>
                    <a:pt x="257" y="388"/>
                  </a:lnTo>
                  <a:lnTo>
                    <a:pt x="254" y="394"/>
                  </a:lnTo>
                  <a:lnTo>
                    <a:pt x="254" y="399"/>
                  </a:lnTo>
                  <a:lnTo>
                    <a:pt x="257" y="403"/>
                  </a:lnTo>
                  <a:lnTo>
                    <a:pt x="270" y="414"/>
                  </a:lnTo>
                  <a:lnTo>
                    <a:pt x="275" y="428"/>
                  </a:lnTo>
                  <a:lnTo>
                    <a:pt x="274" y="443"/>
                  </a:lnTo>
                  <a:lnTo>
                    <a:pt x="273" y="447"/>
                  </a:lnTo>
                  <a:lnTo>
                    <a:pt x="272" y="449"/>
                  </a:lnTo>
                  <a:lnTo>
                    <a:pt x="270" y="452"/>
                  </a:lnTo>
                  <a:lnTo>
                    <a:pt x="264" y="458"/>
                  </a:lnTo>
                  <a:lnTo>
                    <a:pt x="268" y="462"/>
                  </a:lnTo>
                  <a:lnTo>
                    <a:pt x="268" y="469"/>
                  </a:lnTo>
                  <a:lnTo>
                    <a:pt x="266" y="477"/>
                  </a:lnTo>
                  <a:lnTo>
                    <a:pt x="263" y="479"/>
                  </a:lnTo>
                  <a:lnTo>
                    <a:pt x="260" y="482"/>
                  </a:lnTo>
                  <a:lnTo>
                    <a:pt x="257" y="484"/>
                  </a:lnTo>
                  <a:lnTo>
                    <a:pt x="256" y="487"/>
                  </a:lnTo>
                  <a:lnTo>
                    <a:pt x="256" y="490"/>
                  </a:lnTo>
                  <a:lnTo>
                    <a:pt x="257" y="493"/>
                  </a:lnTo>
                  <a:lnTo>
                    <a:pt x="261" y="496"/>
                  </a:lnTo>
                  <a:lnTo>
                    <a:pt x="264" y="501"/>
                  </a:lnTo>
                  <a:lnTo>
                    <a:pt x="265" y="503"/>
                  </a:lnTo>
                  <a:lnTo>
                    <a:pt x="269" y="528"/>
                  </a:lnTo>
                  <a:lnTo>
                    <a:pt x="271" y="553"/>
                  </a:lnTo>
                  <a:lnTo>
                    <a:pt x="259" y="576"/>
                  </a:lnTo>
                  <a:lnTo>
                    <a:pt x="257" y="576"/>
                  </a:lnTo>
                  <a:lnTo>
                    <a:pt x="253" y="576"/>
                  </a:lnTo>
                  <a:lnTo>
                    <a:pt x="250" y="577"/>
                  </a:lnTo>
                  <a:lnTo>
                    <a:pt x="245" y="581"/>
                  </a:lnTo>
                  <a:lnTo>
                    <a:pt x="242" y="588"/>
                  </a:lnTo>
                  <a:lnTo>
                    <a:pt x="237" y="591"/>
                  </a:lnTo>
                  <a:lnTo>
                    <a:pt x="228" y="592"/>
                  </a:lnTo>
                  <a:lnTo>
                    <a:pt x="221" y="595"/>
                  </a:lnTo>
                  <a:lnTo>
                    <a:pt x="214" y="600"/>
                  </a:lnTo>
                  <a:lnTo>
                    <a:pt x="214" y="602"/>
                  </a:lnTo>
                  <a:lnTo>
                    <a:pt x="214" y="606"/>
                  </a:lnTo>
                  <a:lnTo>
                    <a:pt x="213" y="608"/>
                  </a:lnTo>
                  <a:lnTo>
                    <a:pt x="196" y="612"/>
                  </a:lnTo>
                  <a:lnTo>
                    <a:pt x="183" y="614"/>
                  </a:lnTo>
                  <a:lnTo>
                    <a:pt x="183" y="628"/>
                  </a:lnTo>
                  <a:lnTo>
                    <a:pt x="190" y="635"/>
                  </a:lnTo>
                  <a:lnTo>
                    <a:pt x="200" y="642"/>
                  </a:lnTo>
                  <a:lnTo>
                    <a:pt x="207" y="652"/>
                  </a:lnTo>
                  <a:lnTo>
                    <a:pt x="199" y="652"/>
                  </a:lnTo>
                  <a:lnTo>
                    <a:pt x="192" y="652"/>
                  </a:lnTo>
                  <a:lnTo>
                    <a:pt x="184" y="652"/>
                  </a:lnTo>
                  <a:lnTo>
                    <a:pt x="184" y="649"/>
                  </a:lnTo>
                  <a:lnTo>
                    <a:pt x="180" y="648"/>
                  </a:lnTo>
                  <a:lnTo>
                    <a:pt x="180" y="645"/>
                  </a:lnTo>
                  <a:lnTo>
                    <a:pt x="175" y="646"/>
                  </a:lnTo>
                  <a:lnTo>
                    <a:pt x="169" y="649"/>
                  </a:lnTo>
                  <a:lnTo>
                    <a:pt x="164" y="651"/>
                  </a:lnTo>
                  <a:lnTo>
                    <a:pt x="154" y="650"/>
                  </a:lnTo>
                  <a:lnTo>
                    <a:pt x="144" y="648"/>
                  </a:lnTo>
                  <a:lnTo>
                    <a:pt x="134" y="652"/>
                  </a:lnTo>
                  <a:lnTo>
                    <a:pt x="137" y="655"/>
                  </a:lnTo>
                  <a:lnTo>
                    <a:pt x="137" y="659"/>
                  </a:lnTo>
                  <a:lnTo>
                    <a:pt x="134" y="661"/>
                  </a:lnTo>
                  <a:lnTo>
                    <a:pt x="127" y="666"/>
                  </a:lnTo>
                  <a:lnTo>
                    <a:pt x="122" y="672"/>
                  </a:lnTo>
                  <a:lnTo>
                    <a:pt x="117" y="677"/>
                  </a:lnTo>
                  <a:lnTo>
                    <a:pt x="115" y="678"/>
                  </a:lnTo>
                  <a:lnTo>
                    <a:pt x="120" y="679"/>
                  </a:lnTo>
                  <a:lnTo>
                    <a:pt x="125" y="681"/>
                  </a:lnTo>
                  <a:lnTo>
                    <a:pt x="130" y="683"/>
                  </a:lnTo>
                  <a:lnTo>
                    <a:pt x="135" y="686"/>
                  </a:lnTo>
                  <a:lnTo>
                    <a:pt x="140" y="690"/>
                  </a:lnTo>
                  <a:lnTo>
                    <a:pt x="145" y="694"/>
                  </a:lnTo>
                  <a:lnTo>
                    <a:pt x="146" y="698"/>
                  </a:lnTo>
                  <a:lnTo>
                    <a:pt x="139" y="704"/>
                  </a:lnTo>
                  <a:lnTo>
                    <a:pt x="133" y="711"/>
                  </a:lnTo>
                  <a:lnTo>
                    <a:pt x="131" y="731"/>
                  </a:lnTo>
                  <a:lnTo>
                    <a:pt x="130" y="751"/>
                  </a:lnTo>
                  <a:lnTo>
                    <a:pt x="127" y="771"/>
                  </a:lnTo>
                  <a:lnTo>
                    <a:pt x="132" y="771"/>
                  </a:lnTo>
                  <a:lnTo>
                    <a:pt x="138" y="771"/>
                  </a:lnTo>
                  <a:lnTo>
                    <a:pt x="143" y="770"/>
                  </a:lnTo>
                  <a:lnTo>
                    <a:pt x="147" y="767"/>
                  </a:lnTo>
                  <a:lnTo>
                    <a:pt x="149" y="763"/>
                  </a:lnTo>
                  <a:lnTo>
                    <a:pt x="151" y="758"/>
                  </a:lnTo>
                  <a:lnTo>
                    <a:pt x="167" y="746"/>
                  </a:lnTo>
                  <a:lnTo>
                    <a:pt x="187" y="739"/>
                  </a:lnTo>
                  <a:lnTo>
                    <a:pt x="201" y="727"/>
                  </a:lnTo>
                  <a:lnTo>
                    <a:pt x="201" y="718"/>
                  </a:lnTo>
                  <a:lnTo>
                    <a:pt x="196" y="708"/>
                  </a:lnTo>
                  <a:lnTo>
                    <a:pt x="186" y="701"/>
                  </a:lnTo>
                  <a:lnTo>
                    <a:pt x="195" y="705"/>
                  </a:lnTo>
                  <a:lnTo>
                    <a:pt x="199" y="713"/>
                  </a:lnTo>
                  <a:lnTo>
                    <a:pt x="206" y="718"/>
                  </a:lnTo>
                  <a:lnTo>
                    <a:pt x="212" y="718"/>
                  </a:lnTo>
                  <a:lnTo>
                    <a:pt x="217" y="718"/>
                  </a:lnTo>
                  <a:lnTo>
                    <a:pt x="223" y="718"/>
                  </a:lnTo>
                  <a:lnTo>
                    <a:pt x="219" y="709"/>
                  </a:lnTo>
                  <a:lnTo>
                    <a:pt x="213" y="701"/>
                  </a:lnTo>
                  <a:lnTo>
                    <a:pt x="210" y="691"/>
                  </a:lnTo>
                  <a:lnTo>
                    <a:pt x="217" y="699"/>
                  </a:lnTo>
                  <a:lnTo>
                    <a:pt x="226" y="702"/>
                  </a:lnTo>
                  <a:lnTo>
                    <a:pt x="236" y="705"/>
                  </a:lnTo>
                  <a:lnTo>
                    <a:pt x="231" y="692"/>
                  </a:lnTo>
                  <a:lnTo>
                    <a:pt x="224" y="681"/>
                  </a:lnTo>
                  <a:lnTo>
                    <a:pt x="227" y="669"/>
                  </a:lnTo>
                  <a:lnTo>
                    <a:pt x="230" y="668"/>
                  </a:lnTo>
                  <a:lnTo>
                    <a:pt x="235" y="671"/>
                  </a:lnTo>
                  <a:lnTo>
                    <a:pt x="239" y="672"/>
                  </a:lnTo>
                  <a:lnTo>
                    <a:pt x="241" y="670"/>
                  </a:lnTo>
                  <a:lnTo>
                    <a:pt x="243" y="668"/>
                  </a:lnTo>
                  <a:lnTo>
                    <a:pt x="243" y="665"/>
                  </a:lnTo>
                  <a:lnTo>
                    <a:pt x="262" y="674"/>
                  </a:lnTo>
                  <a:lnTo>
                    <a:pt x="282" y="663"/>
                  </a:lnTo>
                  <a:lnTo>
                    <a:pt x="299" y="650"/>
                  </a:lnTo>
                  <a:lnTo>
                    <a:pt x="304" y="647"/>
                  </a:lnTo>
                  <a:lnTo>
                    <a:pt x="309" y="645"/>
                  </a:lnTo>
                  <a:lnTo>
                    <a:pt x="315" y="645"/>
                  </a:lnTo>
                  <a:lnTo>
                    <a:pt x="317" y="642"/>
                  </a:lnTo>
                  <a:lnTo>
                    <a:pt x="321" y="640"/>
                  </a:lnTo>
                  <a:lnTo>
                    <a:pt x="322" y="635"/>
                  </a:lnTo>
                  <a:lnTo>
                    <a:pt x="329" y="634"/>
                  </a:lnTo>
                  <a:lnTo>
                    <a:pt x="335" y="633"/>
                  </a:lnTo>
                  <a:lnTo>
                    <a:pt x="341" y="631"/>
                  </a:lnTo>
                  <a:lnTo>
                    <a:pt x="344" y="627"/>
                  </a:lnTo>
                  <a:lnTo>
                    <a:pt x="343" y="621"/>
                  </a:lnTo>
                  <a:lnTo>
                    <a:pt x="343" y="616"/>
                  </a:lnTo>
                  <a:lnTo>
                    <a:pt x="347" y="613"/>
                  </a:lnTo>
                  <a:lnTo>
                    <a:pt x="353" y="611"/>
                  </a:lnTo>
                  <a:lnTo>
                    <a:pt x="357" y="609"/>
                  </a:lnTo>
                  <a:lnTo>
                    <a:pt x="357" y="590"/>
                  </a:lnTo>
                  <a:lnTo>
                    <a:pt x="352" y="572"/>
                  </a:lnTo>
                  <a:lnTo>
                    <a:pt x="355" y="553"/>
                  </a:lnTo>
                  <a:lnTo>
                    <a:pt x="357" y="555"/>
                  </a:lnTo>
                  <a:lnTo>
                    <a:pt x="358" y="557"/>
                  </a:lnTo>
                  <a:lnTo>
                    <a:pt x="358" y="559"/>
                  </a:lnTo>
                  <a:lnTo>
                    <a:pt x="360" y="559"/>
                  </a:lnTo>
                  <a:lnTo>
                    <a:pt x="363" y="559"/>
                  </a:lnTo>
                  <a:lnTo>
                    <a:pt x="365" y="559"/>
                  </a:lnTo>
                  <a:lnTo>
                    <a:pt x="362" y="554"/>
                  </a:lnTo>
                  <a:lnTo>
                    <a:pt x="365" y="550"/>
                  </a:lnTo>
                  <a:lnTo>
                    <a:pt x="367" y="547"/>
                  </a:lnTo>
                  <a:lnTo>
                    <a:pt x="351" y="486"/>
                  </a:lnTo>
                  <a:lnTo>
                    <a:pt x="335" y="428"/>
                  </a:lnTo>
                  <a:lnTo>
                    <a:pt x="302" y="378"/>
                  </a:lnTo>
                  <a:lnTo>
                    <a:pt x="285" y="365"/>
                  </a:lnTo>
                  <a:lnTo>
                    <a:pt x="265" y="352"/>
                  </a:lnTo>
                  <a:lnTo>
                    <a:pt x="244" y="340"/>
                  </a:lnTo>
                  <a:lnTo>
                    <a:pt x="231" y="329"/>
                  </a:lnTo>
                  <a:lnTo>
                    <a:pt x="220" y="316"/>
                  </a:lnTo>
                  <a:lnTo>
                    <a:pt x="210" y="302"/>
                  </a:lnTo>
                  <a:lnTo>
                    <a:pt x="216" y="301"/>
                  </a:lnTo>
                  <a:lnTo>
                    <a:pt x="219" y="297"/>
                  </a:lnTo>
                  <a:lnTo>
                    <a:pt x="223" y="292"/>
                  </a:lnTo>
                  <a:lnTo>
                    <a:pt x="207" y="275"/>
                  </a:lnTo>
                  <a:lnTo>
                    <a:pt x="192" y="256"/>
                  </a:lnTo>
                  <a:lnTo>
                    <a:pt x="173" y="240"/>
                  </a:lnTo>
                  <a:lnTo>
                    <a:pt x="178" y="237"/>
                  </a:lnTo>
                  <a:lnTo>
                    <a:pt x="183" y="234"/>
                  </a:lnTo>
                  <a:lnTo>
                    <a:pt x="185" y="230"/>
                  </a:lnTo>
                  <a:lnTo>
                    <a:pt x="181" y="215"/>
                  </a:lnTo>
                  <a:lnTo>
                    <a:pt x="178" y="203"/>
                  </a:lnTo>
                  <a:lnTo>
                    <a:pt x="184" y="191"/>
                  </a:lnTo>
                  <a:lnTo>
                    <a:pt x="189" y="190"/>
                  </a:lnTo>
                  <a:lnTo>
                    <a:pt x="194" y="190"/>
                  </a:lnTo>
                  <a:lnTo>
                    <a:pt x="199" y="189"/>
                  </a:lnTo>
                  <a:lnTo>
                    <a:pt x="206" y="185"/>
                  </a:lnTo>
                  <a:lnTo>
                    <a:pt x="211" y="180"/>
                  </a:lnTo>
                  <a:lnTo>
                    <a:pt x="215" y="173"/>
                  </a:lnTo>
                  <a:lnTo>
                    <a:pt x="217" y="165"/>
                  </a:lnTo>
                  <a:lnTo>
                    <a:pt x="219" y="155"/>
                  </a:lnTo>
                  <a:lnTo>
                    <a:pt x="225" y="146"/>
                  </a:lnTo>
                  <a:lnTo>
                    <a:pt x="227" y="143"/>
                  </a:lnTo>
                  <a:lnTo>
                    <a:pt x="226" y="139"/>
                  </a:lnTo>
                  <a:lnTo>
                    <a:pt x="223" y="134"/>
                  </a:lnTo>
                  <a:lnTo>
                    <a:pt x="236" y="137"/>
                  </a:lnTo>
                  <a:lnTo>
                    <a:pt x="247" y="145"/>
                  </a:lnTo>
                  <a:lnTo>
                    <a:pt x="259" y="146"/>
                  </a:lnTo>
                  <a:lnTo>
                    <a:pt x="266" y="145"/>
                  </a:lnTo>
                  <a:lnTo>
                    <a:pt x="273" y="146"/>
                  </a:lnTo>
                  <a:lnTo>
                    <a:pt x="278" y="144"/>
                  </a:lnTo>
                  <a:lnTo>
                    <a:pt x="279" y="141"/>
                  </a:lnTo>
                  <a:lnTo>
                    <a:pt x="280" y="138"/>
                  </a:lnTo>
                  <a:lnTo>
                    <a:pt x="279" y="134"/>
                  </a:lnTo>
                  <a:lnTo>
                    <a:pt x="273" y="133"/>
                  </a:lnTo>
                  <a:lnTo>
                    <a:pt x="270" y="127"/>
                  </a:lnTo>
                  <a:lnTo>
                    <a:pt x="266" y="124"/>
                  </a:lnTo>
                  <a:lnTo>
                    <a:pt x="271" y="115"/>
                  </a:lnTo>
                  <a:lnTo>
                    <a:pt x="278" y="106"/>
                  </a:lnTo>
                  <a:lnTo>
                    <a:pt x="286" y="98"/>
                  </a:lnTo>
                  <a:lnTo>
                    <a:pt x="282" y="94"/>
                  </a:lnTo>
                  <a:lnTo>
                    <a:pt x="279" y="91"/>
                  </a:lnTo>
                  <a:lnTo>
                    <a:pt x="276" y="89"/>
                  </a:lnTo>
                  <a:lnTo>
                    <a:pt x="265" y="88"/>
                  </a:lnTo>
                  <a:lnTo>
                    <a:pt x="256" y="87"/>
                  </a:lnTo>
                  <a:lnTo>
                    <a:pt x="246" y="84"/>
                  </a:lnTo>
                  <a:lnTo>
                    <a:pt x="238" y="76"/>
                  </a:lnTo>
                  <a:lnTo>
                    <a:pt x="230" y="68"/>
                  </a:lnTo>
                  <a:lnTo>
                    <a:pt x="219" y="65"/>
                  </a:lnTo>
                  <a:lnTo>
                    <a:pt x="224" y="54"/>
                  </a:lnTo>
                  <a:lnTo>
                    <a:pt x="228" y="43"/>
                  </a:lnTo>
                  <a:lnTo>
                    <a:pt x="232" y="31"/>
                  </a:lnTo>
                  <a:lnTo>
                    <a:pt x="233" y="27"/>
                  </a:lnTo>
                  <a:lnTo>
                    <a:pt x="229" y="25"/>
                  </a:lnTo>
                  <a:lnTo>
                    <a:pt x="225" y="23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203" y="25"/>
                  </a:lnTo>
                  <a:lnTo>
                    <a:pt x="191" y="22"/>
                  </a:lnTo>
                  <a:lnTo>
                    <a:pt x="180" y="22"/>
                  </a:lnTo>
                  <a:lnTo>
                    <a:pt x="172" y="17"/>
                  </a:lnTo>
                  <a:lnTo>
                    <a:pt x="163" y="6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28" y="19"/>
                  </a:lnTo>
                  <a:lnTo>
                    <a:pt x="130" y="32"/>
                  </a:lnTo>
                  <a:lnTo>
                    <a:pt x="123" y="30"/>
                  </a:lnTo>
                  <a:lnTo>
                    <a:pt x="117" y="30"/>
                  </a:lnTo>
                  <a:lnTo>
                    <a:pt x="111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6" y="39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5" y="38"/>
                  </a:lnTo>
                  <a:lnTo>
                    <a:pt x="88" y="42"/>
                  </a:lnTo>
                  <a:lnTo>
                    <a:pt x="81" y="45"/>
                  </a:lnTo>
                  <a:lnTo>
                    <a:pt x="75" y="34"/>
                  </a:lnTo>
                  <a:lnTo>
                    <a:pt x="66" y="30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42"/>
                  </a:lnTo>
                  <a:lnTo>
                    <a:pt x="41" y="46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5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162760" y="4026960"/>
              <a:ext cx="46080" cy="450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0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8" y="31"/>
                  </a:lnTo>
                  <a:lnTo>
                    <a:pt x="17" y="36"/>
                  </a:lnTo>
                  <a:lnTo>
                    <a:pt x="28" y="35"/>
                  </a:lnTo>
                  <a:lnTo>
                    <a:pt x="38" y="31"/>
                  </a:lnTo>
                  <a:lnTo>
                    <a:pt x="44" y="22"/>
                  </a:lnTo>
                  <a:lnTo>
                    <a:pt x="43" y="1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162760" y="4026960"/>
              <a:ext cx="46080" cy="46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1" y="22"/>
                  </a:lnTo>
                  <a:lnTo>
                    <a:pt x="7" y="32"/>
                  </a:lnTo>
                  <a:lnTo>
                    <a:pt x="17" y="37"/>
                  </a:lnTo>
                  <a:lnTo>
                    <a:pt x="28" y="36"/>
                  </a:lnTo>
                  <a:lnTo>
                    <a:pt x="38" y="32"/>
                  </a:lnTo>
                  <a:lnTo>
                    <a:pt x="44" y="23"/>
                  </a:lnTo>
                  <a:lnTo>
                    <a:pt x="42" y="11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9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14360" y="2939400"/>
              <a:ext cx="188640" cy="3006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0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9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8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7" y="141"/>
                  </a:lnTo>
                  <a:lnTo>
                    <a:pt x="33" y="144"/>
                  </a:lnTo>
                  <a:lnTo>
                    <a:pt x="30" y="144"/>
                  </a:lnTo>
                  <a:lnTo>
                    <a:pt x="29" y="137"/>
                  </a:lnTo>
                  <a:lnTo>
                    <a:pt x="28" y="129"/>
                  </a:lnTo>
                  <a:lnTo>
                    <a:pt x="32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8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14360" y="2939400"/>
              <a:ext cx="188640" cy="300600"/>
            </a:xfrm>
            <a:custGeom>
              <a:avLst/>
              <a:gdLst/>
              <a:ahLst/>
              <a:rect l="l" t="t" r="r" b="b"/>
              <a:pathLst>
                <a:path w="179" h="241">
                  <a:moveTo>
                    <a:pt x="117" y="0"/>
                  </a:moveTo>
                  <a:lnTo>
                    <a:pt x="119" y="1"/>
                  </a:lnTo>
                  <a:lnTo>
                    <a:pt x="123" y="5"/>
                  </a:lnTo>
                  <a:lnTo>
                    <a:pt x="127" y="11"/>
                  </a:lnTo>
                  <a:lnTo>
                    <a:pt x="130" y="20"/>
                  </a:lnTo>
                  <a:lnTo>
                    <a:pt x="132" y="32"/>
                  </a:lnTo>
                  <a:lnTo>
                    <a:pt x="136" y="41"/>
                  </a:lnTo>
                  <a:lnTo>
                    <a:pt x="168" y="87"/>
                  </a:lnTo>
                  <a:lnTo>
                    <a:pt x="179" y="140"/>
                  </a:lnTo>
                  <a:lnTo>
                    <a:pt x="171" y="193"/>
                  </a:lnTo>
                  <a:lnTo>
                    <a:pt x="159" y="208"/>
                  </a:lnTo>
                  <a:lnTo>
                    <a:pt x="138" y="215"/>
                  </a:lnTo>
                  <a:lnTo>
                    <a:pt x="115" y="211"/>
                  </a:lnTo>
                  <a:lnTo>
                    <a:pt x="110" y="218"/>
                  </a:lnTo>
                  <a:lnTo>
                    <a:pt x="101" y="221"/>
                  </a:lnTo>
                  <a:lnTo>
                    <a:pt x="92" y="224"/>
                  </a:lnTo>
                  <a:lnTo>
                    <a:pt x="89" y="221"/>
                  </a:lnTo>
                  <a:lnTo>
                    <a:pt x="86" y="219"/>
                  </a:lnTo>
                  <a:lnTo>
                    <a:pt x="86" y="214"/>
                  </a:lnTo>
                  <a:lnTo>
                    <a:pt x="74" y="223"/>
                  </a:lnTo>
                  <a:lnTo>
                    <a:pt x="62" y="231"/>
                  </a:lnTo>
                  <a:lnTo>
                    <a:pt x="53" y="241"/>
                  </a:lnTo>
                  <a:lnTo>
                    <a:pt x="44" y="228"/>
                  </a:lnTo>
                  <a:lnTo>
                    <a:pt x="28" y="228"/>
                  </a:lnTo>
                  <a:lnTo>
                    <a:pt x="13" y="234"/>
                  </a:lnTo>
                  <a:lnTo>
                    <a:pt x="23" y="213"/>
                  </a:lnTo>
                  <a:lnTo>
                    <a:pt x="32" y="193"/>
                  </a:lnTo>
                  <a:lnTo>
                    <a:pt x="26" y="171"/>
                  </a:lnTo>
                  <a:lnTo>
                    <a:pt x="34" y="163"/>
                  </a:lnTo>
                  <a:lnTo>
                    <a:pt x="37" y="152"/>
                  </a:lnTo>
                  <a:lnTo>
                    <a:pt x="43" y="142"/>
                  </a:lnTo>
                  <a:lnTo>
                    <a:pt x="38" y="141"/>
                  </a:lnTo>
                  <a:lnTo>
                    <a:pt x="33" y="144"/>
                  </a:lnTo>
                  <a:lnTo>
                    <a:pt x="31" y="144"/>
                  </a:lnTo>
                  <a:lnTo>
                    <a:pt x="29" y="137"/>
                  </a:lnTo>
                  <a:lnTo>
                    <a:pt x="29" y="129"/>
                  </a:lnTo>
                  <a:lnTo>
                    <a:pt x="33" y="122"/>
                  </a:lnTo>
                  <a:lnTo>
                    <a:pt x="22" y="119"/>
                  </a:lnTo>
                  <a:lnTo>
                    <a:pt x="16" y="116"/>
                  </a:lnTo>
                  <a:lnTo>
                    <a:pt x="16" y="105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11" y="98"/>
                  </a:lnTo>
                  <a:lnTo>
                    <a:pt x="26" y="91"/>
                  </a:lnTo>
                  <a:lnTo>
                    <a:pt x="43" y="89"/>
                  </a:lnTo>
                  <a:lnTo>
                    <a:pt x="39" y="78"/>
                  </a:lnTo>
                  <a:lnTo>
                    <a:pt x="31" y="69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18" y="42"/>
                  </a:lnTo>
                  <a:lnTo>
                    <a:pt x="24" y="41"/>
                  </a:lnTo>
                  <a:lnTo>
                    <a:pt x="32" y="43"/>
                  </a:lnTo>
                  <a:lnTo>
                    <a:pt x="49" y="47"/>
                  </a:lnTo>
                  <a:lnTo>
                    <a:pt x="78" y="48"/>
                  </a:lnTo>
                  <a:lnTo>
                    <a:pt x="105" y="36"/>
                  </a:lnTo>
                  <a:lnTo>
                    <a:pt x="108" y="32"/>
                  </a:lnTo>
                  <a:lnTo>
                    <a:pt x="114" y="20"/>
                  </a:lnTo>
                  <a:lnTo>
                    <a:pt x="1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22560" y="2607120"/>
              <a:ext cx="352080" cy="392040"/>
            </a:xfrm>
            <a:custGeom>
              <a:avLst/>
              <a:gdLst/>
              <a:ahLst/>
              <a:rect l="l" t="t" r="r" b="b"/>
              <a:pathLst>
                <a:path w="334" h="314">
                  <a:moveTo>
                    <a:pt x="334" y="36"/>
                  </a:moveTo>
                  <a:lnTo>
                    <a:pt x="331" y="31"/>
                  </a:lnTo>
                  <a:lnTo>
                    <a:pt x="327" y="26"/>
                  </a:lnTo>
                  <a:lnTo>
                    <a:pt x="323" y="22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1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6"/>
                  </a:lnTo>
                  <a:lnTo>
                    <a:pt x="274" y="13"/>
                  </a:lnTo>
                  <a:lnTo>
                    <a:pt x="273" y="23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4" y="39"/>
                  </a:lnTo>
                  <a:lnTo>
                    <a:pt x="235" y="46"/>
                  </a:lnTo>
                  <a:lnTo>
                    <a:pt x="227" y="52"/>
                  </a:lnTo>
                  <a:lnTo>
                    <a:pt x="213" y="55"/>
                  </a:lnTo>
                  <a:lnTo>
                    <a:pt x="198" y="54"/>
                  </a:lnTo>
                  <a:lnTo>
                    <a:pt x="189" y="59"/>
                  </a:lnTo>
                  <a:lnTo>
                    <a:pt x="189" y="72"/>
                  </a:lnTo>
                  <a:lnTo>
                    <a:pt x="190" y="85"/>
                  </a:lnTo>
                  <a:lnTo>
                    <a:pt x="179" y="92"/>
                  </a:lnTo>
                  <a:lnTo>
                    <a:pt x="162" y="91"/>
                  </a:lnTo>
                  <a:lnTo>
                    <a:pt x="147" y="84"/>
                  </a:lnTo>
                  <a:lnTo>
                    <a:pt x="137" y="68"/>
                  </a:lnTo>
                  <a:lnTo>
                    <a:pt x="134" y="68"/>
                  </a:lnTo>
                  <a:lnTo>
                    <a:pt x="127" y="70"/>
                  </a:lnTo>
                  <a:lnTo>
                    <a:pt x="120" y="72"/>
                  </a:lnTo>
                  <a:lnTo>
                    <a:pt x="115" y="76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2" y="158"/>
                  </a:lnTo>
                  <a:lnTo>
                    <a:pt x="0" y="169"/>
                  </a:lnTo>
                  <a:lnTo>
                    <a:pt x="5" y="181"/>
                  </a:lnTo>
                  <a:lnTo>
                    <a:pt x="14" y="188"/>
                  </a:lnTo>
                  <a:lnTo>
                    <a:pt x="28" y="190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53" y="213"/>
                  </a:lnTo>
                  <a:lnTo>
                    <a:pt x="48" y="226"/>
                  </a:lnTo>
                  <a:lnTo>
                    <a:pt x="43" y="239"/>
                  </a:lnTo>
                  <a:lnTo>
                    <a:pt x="47" y="240"/>
                  </a:lnTo>
                  <a:lnTo>
                    <a:pt x="48" y="244"/>
                  </a:lnTo>
                  <a:lnTo>
                    <a:pt x="51" y="246"/>
                  </a:lnTo>
                  <a:lnTo>
                    <a:pt x="45" y="258"/>
                  </a:lnTo>
                  <a:lnTo>
                    <a:pt x="36" y="269"/>
                  </a:lnTo>
                  <a:lnTo>
                    <a:pt x="35" y="282"/>
                  </a:lnTo>
                  <a:lnTo>
                    <a:pt x="40" y="293"/>
                  </a:lnTo>
                  <a:lnTo>
                    <a:pt x="46" y="302"/>
                  </a:lnTo>
                  <a:lnTo>
                    <a:pt x="55" y="310"/>
                  </a:lnTo>
                  <a:lnTo>
                    <a:pt x="64" y="313"/>
                  </a:lnTo>
                  <a:lnTo>
                    <a:pt x="73" y="308"/>
                  </a:lnTo>
                  <a:lnTo>
                    <a:pt x="83" y="302"/>
                  </a:lnTo>
                  <a:lnTo>
                    <a:pt x="83" y="304"/>
                  </a:lnTo>
                  <a:lnTo>
                    <a:pt x="83" y="306"/>
                  </a:lnTo>
                  <a:lnTo>
                    <a:pt x="83" y="308"/>
                  </a:lnTo>
                  <a:lnTo>
                    <a:pt x="88" y="305"/>
                  </a:lnTo>
                  <a:lnTo>
                    <a:pt x="95" y="305"/>
                  </a:lnTo>
                  <a:lnTo>
                    <a:pt x="100" y="302"/>
                  </a:lnTo>
                  <a:lnTo>
                    <a:pt x="99" y="305"/>
                  </a:lnTo>
                  <a:lnTo>
                    <a:pt x="99" y="308"/>
                  </a:lnTo>
                  <a:lnTo>
                    <a:pt x="103" y="308"/>
                  </a:lnTo>
                  <a:lnTo>
                    <a:pt x="116" y="308"/>
                  </a:lnTo>
                  <a:lnTo>
                    <a:pt x="127" y="310"/>
                  </a:lnTo>
                  <a:lnTo>
                    <a:pt x="140" y="313"/>
                  </a:lnTo>
                  <a:lnTo>
                    <a:pt x="165" y="314"/>
                  </a:lnTo>
                  <a:lnTo>
                    <a:pt x="187" y="305"/>
                  </a:lnTo>
                  <a:lnTo>
                    <a:pt x="201" y="285"/>
                  </a:lnTo>
                  <a:lnTo>
                    <a:pt x="202" y="261"/>
                  </a:lnTo>
                  <a:lnTo>
                    <a:pt x="190" y="243"/>
                  </a:lnTo>
                  <a:lnTo>
                    <a:pt x="170" y="227"/>
                  </a:lnTo>
                  <a:lnTo>
                    <a:pt x="162" y="221"/>
                  </a:lnTo>
                  <a:lnTo>
                    <a:pt x="156" y="211"/>
                  </a:lnTo>
                  <a:lnTo>
                    <a:pt x="160" y="200"/>
                  </a:lnTo>
                  <a:lnTo>
                    <a:pt x="165" y="193"/>
                  </a:lnTo>
                  <a:lnTo>
                    <a:pt x="169" y="186"/>
                  </a:lnTo>
                  <a:lnTo>
                    <a:pt x="173" y="183"/>
                  </a:lnTo>
                  <a:lnTo>
                    <a:pt x="194" y="174"/>
                  </a:lnTo>
                  <a:lnTo>
                    <a:pt x="227" y="159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30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6"/>
                  </a:lnTo>
                  <a:lnTo>
                    <a:pt x="334" y="3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22560" y="2608200"/>
              <a:ext cx="352080" cy="390600"/>
            </a:xfrm>
            <a:custGeom>
              <a:avLst/>
              <a:gdLst/>
              <a:ahLst/>
              <a:rect l="l" t="t" r="r" b="b"/>
              <a:pathLst>
                <a:path w="334" h="313">
                  <a:moveTo>
                    <a:pt x="334" y="35"/>
                  </a:moveTo>
                  <a:lnTo>
                    <a:pt x="330" y="31"/>
                  </a:lnTo>
                  <a:lnTo>
                    <a:pt x="327" y="26"/>
                  </a:lnTo>
                  <a:lnTo>
                    <a:pt x="323" y="21"/>
                  </a:lnTo>
                  <a:lnTo>
                    <a:pt x="321" y="21"/>
                  </a:lnTo>
                  <a:lnTo>
                    <a:pt x="318" y="21"/>
                  </a:lnTo>
                  <a:lnTo>
                    <a:pt x="314" y="20"/>
                  </a:lnTo>
                  <a:lnTo>
                    <a:pt x="301" y="10"/>
                  </a:lnTo>
                  <a:lnTo>
                    <a:pt x="289" y="0"/>
                  </a:lnTo>
                  <a:lnTo>
                    <a:pt x="276" y="5"/>
                  </a:lnTo>
                  <a:lnTo>
                    <a:pt x="274" y="13"/>
                  </a:lnTo>
                  <a:lnTo>
                    <a:pt x="273" y="22"/>
                  </a:lnTo>
                  <a:lnTo>
                    <a:pt x="270" y="30"/>
                  </a:lnTo>
                  <a:lnTo>
                    <a:pt x="265" y="31"/>
                  </a:lnTo>
                  <a:lnTo>
                    <a:pt x="258" y="30"/>
                  </a:lnTo>
                  <a:lnTo>
                    <a:pt x="252" y="32"/>
                  </a:lnTo>
                  <a:lnTo>
                    <a:pt x="244" y="38"/>
                  </a:lnTo>
                  <a:lnTo>
                    <a:pt x="235" y="45"/>
                  </a:lnTo>
                  <a:lnTo>
                    <a:pt x="227" y="52"/>
                  </a:lnTo>
                  <a:lnTo>
                    <a:pt x="214" y="54"/>
                  </a:lnTo>
                  <a:lnTo>
                    <a:pt x="198" y="54"/>
                  </a:lnTo>
                  <a:lnTo>
                    <a:pt x="189" y="58"/>
                  </a:lnTo>
                  <a:lnTo>
                    <a:pt x="189" y="72"/>
                  </a:lnTo>
                  <a:lnTo>
                    <a:pt x="190" y="84"/>
                  </a:lnTo>
                  <a:lnTo>
                    <a:pt x="179" y="91"/>
                  </a:lnTo>
                  <a:lnTo>
                    <a:pt x="162" y="91"/>
                  </a:lnTo>
                  <a:lnTo>
                    <a:pt x="147" y="83"/>
                  </a:lnTo>
                  <a:lnTo>
                    <a:pt x="137" y="67"/>
                  </a:lnTo>
                  <a:lnTo>
                    <a:pt x="134" y="67"/>
                  </a:lnTo>
                  <a:lnTo>
                    <a:pt x="127" y="69"/>
                  </a:lnTo>
                  <a:lnTo>
                    <a:pt x="120" y="72"/>
                  </a:lnTo>
                  <a:lnTo>
                    <a:pt x="115" y="75"/>
                  </a:lnTo>
                  <a:lnTo>
                    <a:pt x="112" y="83"/>
                  </a:lnTo>
                  <a:lnTo>
                    <a:pt x="109" y="90"/>
                  </a:lnTo>
                  <a:lnTo>
                    <a:pt x="75" y="116"/>
                  </a:lnTo>
                  <a:lnTo>
                    <a:pt x="37" y="133"/>
                  </a:lnTo>
                  <a:lnTo>
                    <a:pt x="3" y="158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14" y="187"/>
                  </a:lnTo>
                  <a:lnTo>
                    <a:pt x="28" y="189"/>
                  </a:lnTo>
                  <a:lnTo>
                    <a:pt x="42" y="191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48" y="225"/>
                  </a:lnTo>
                  <a:lnTo>
                    <a:pt x="44" y="238"/>
                  </a:lnTo>
                  <a:lnTo>
                    <a:pt x="47" y="239"/>
                  </a:lnTo>
                  <a:lnTo>
                    <a:pt x="48" y="243"/>
                  </a:lnTo>
                  <a:lnTo>
                    <a:pt x="51" y="245"/>
                  </a:lnTo>
                  <a:lnTo>
                    <a:pt x="45" y="257"/>
                  </a:lnTo>
                  <a:lnTo>
                    <a:pt x="37" y="268"/>
                  </a:lnTo>
                  <a:lnTo>
                    <a:pt x="35" y="281"/>
                  </a:lnTo>
                  <a:lnTo>
                    <a:pt x="40" y="292"/>
                  </a:lnTo>
                  <a:lnTo>
                    <a:pt x="47" y="301"/>
                  </a:lnTo>
                  <a:lnTo>
                    <a:pt x="55" y="309"/>
                  </a:lnTo>
                  <a:lnTo>
                    <a:pt x="64" y="312"/>
                  </a:lnTo>
                  <a:lnTo>
                    <a:pt x="74" y="307"/>
                  </a:lnTo>
                  <a:lnTo>
                    <a:pt x="84" y="301"/>
                  </a:lnTo>
                  <a:lnTo>
                    <a:pt x="84" y="303"/>
                  </a:lnTo>
                  <a:lnTo>
                    <a:pt x="84" y="305"/>
                  </a:lnTo>
                  <a:lnTo>
                    <a:pt x="84" y="308"/>
                  </a:lnTo>
                  <a:lnTo>
                    <a:pt x="88" y="304"/>
                  </a:lnTo>
                  <a:lnTo>
                    <a:pt x="95" y="304"/>
                  </a:lnTo>
                  <a:lnTo>
                    <a:pt x="100" y="301"/>
                  </a:lnTo>
                  <a:lnTo>
                    <a:pt x="99" y="304"/>
                  </a:lnTo>
                  <a:lnTo>
                    <a:pt x="99" y="307"/>
                  </a:lnTo>
                  <a:lnTo>
                    <a:pt x="103" y="308"/>
                  </a:lnTo>
                  <a:lnTo>
                    <a:pt x="116" y="307"/>
                  </a:lnTo>
                  <a:lnTo>
                    <a:pt x="127" y="309"/>
                  </a:lnTo>
                  <a:lnTo>
                    <a:pt x="140" y="312"/>
                  </a:lnTo>
                  <a:lnTo>
                    <a:pt x="165" y="313"/>
                  </a:lnTo>
                  <a:lnTo>
                    <a:pt x="187" y="304"/>
                  </a:lnTo>
                  <a:lnTo>
                    <a:pt x="201" y="284"/>
                  </a:lnTo>
                  <a:lnTo>
                    <a:pt x="202" y="261"/>
                  </a:lnTo>
                  <a:lnTo>
                    <a:pt x="190" y="242"/>
                  </a:lnTo>
                  <a:lnTo>
                    <a:pt x="170" y="226"/>
                  </a:lnTo>
                  <a:lnTo>
                    <a:pt x="161" y="220"/>
                  </a:lnTo>
                  <a:lnTo>
                    <a:pt x="156" y="210"/>
                  </a:lnTo>
                  <a:lnTo>
                    <a:pt x="160" y="199"/>
                  </a:lnTo>
                  <a:lnTo>
                    <a:pt x="165" y="192"/>
                  </a:lnTo>
                  <a:lnTo>
                    <a:pt x="169" y="185"/>
                  </a:lnTo>
                  <a:lnTo>
                    <a:pt x="173" y="182"/>
                  </a:lnTo>
                  <a:lnTo>
                    <a:pt x="194" y="173"/>
                  </a:lnTo>
                  <a:lnTo>
                    <a:pt x="227" y="158"/>
                  </a:lnTo>
                  <a:lnTo>
                    <a:pt x="251" y="145"/>
                  </a:lnTo>
                  <a:lnTo>
                    <a:pt x="255" y="141"/>
                  </a:lnTo>
                  <a:lnTo>
                    <a:pt x="258" y="135"/>
                  </a:lnTo>
                  <a:lnTo>
                    <a:pt x="262" y="130"/>
                  </a:lnTo>
                  <a:lnTo>
                    <a:pt x="265" y="130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29"/>
                  </a:lnTo>
                  <a:lnTo>
                    <a:pt x="276" y="124"/>
                  </a:lnTo>
                  <a:lnTo>
                    <a:pt x="277" y="120"/>
                  </a:lnTo>
                  <a:lnTo>
                    <a:pt x="278" y="110"/>
                  </a:lnTo>
                  <a:lnTo>
                    <a:pt x="275" y="100"/>
                  </a:lnTo>
                  <a:lnTo>
                    <a:pt x="275" y="90"/>
                  </a:lnTo>
                  <a:lnTo>
                    <a:pt x="289" y="65"/>
                  </a:lnTo>
                  <a:lnTo>
                    <a:pt x="308" y="45"/>
                  </a:lnTo>
                  <a:lnTo>
                    <a:pt x="334" y="3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798720" y="1861200"/>
              <a:ext cx="1693800" cy="84168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7"/>
                  </a:moveTo>
                  <a:lnTo>
                    <a:pt x="597" y="27"/>
                  </a:lnTo>
                  <a:lnTo>
                    <a:pt x="592" y="27"/>
                  </a:lnTo>
                  <a:lnTo>
                    <a:pt x="587" y="27"/>
                  </a:lnTo>
                  <a:lnTo>
                    <a:pt x="587" y="25"/>
                  </a:lnTo>
                  <a:lnTo>
                    <a:pt x="587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3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5" y="53"/>
                  </a:lnTo>
                  <a:lnTo>
                    <a:pt x="511" y="53"/>
                  </a:lnTo>
                  <a:lnTo>
                    <a:pt x="508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4" y="142"/>
                  </a:lnTo>
                  <a:lnTo>
                    <a:pt x="330" y="131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4" y="96"/>
                  </a:lnTo>
                  <a:lnTo>
                    <a:pt x="216" y="90"/>
                  </a:lnTo>
                  <a:lnTo>
                    <a:pt x="216" y="94"/>
                  </a:lnTo>
                  <a:lnTo>
                    <a:pt x="216" y="97"/>
                  </a:lnTo>
                  <a:lnTo>
                    <a:pt x="213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29"/>
                  </a:lnTo>
                  <a:lnTo>
                    <a:pt x="118" y="133"/>
                  </a:lnTo>
                  <a:lnTo>
                    <a:pt x="114" y="135"/>
                  </a:lnTo>
                  <a:lnTo>
                    <a:pt x="110" y="138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7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6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1" y="208"/>
                  </a:lnTo>
                  <a:lnTo>
                    <a:pt x="0" y="222"/>
                  </a:lnTo>
                  <a:lnTo>
                    <a:pt x="1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8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4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19" y="501"/>
                  </a:lnTo>
                  <a:lnTo>
                    <a:pt x="336" y="505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4" y="533"/>
                  </a:lnTo>
                  <a:lnTo>
                    <a:pt x="389" y="543"/>
                  </a:lnTo>
                  <a:lnTo>
                    <a:pt x="429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3"/>
                  </a:lnTo>
                  <a:lnTo>
                    <a:pt x="649" y="613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8" y="646"/>
                  </a:lnTo>
                  <a:lnTo>
                    <a:pt x="782" y="657"/>
                  </a:lnTo>
                  <a:lnTo>
                    <a:pt x="828" y="662"/>
                  </a:lnTo>
                  <a:lnTo>
                    <a:pt x="830" y="664"/>
                  </a:lnTo>
                  <a:lnTo>
                    <a:pt x="831" y="668"/>
                  </a:lnTo>
                  <a:lnTo>
                    <a:pt x="833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8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7"/>
                  </a:lnTo>
                  <a:lnTo>
                    <a:pt x="1181" y="498"/>
                  </a:lnTo>
                  <a:lnTo>
                    <a:pt x="1191" y="480"/>
                  </a:lnTo>
                  <a:lnTo>
                    <a:pt x="1208" y="468"/>
                  </a:lnTo>
                  <a:lnTo>
                    <a:pt x="1227" y="467"/>
                  </a:lnTo>
                  <a:lnTo>
                    <a:pt x="1247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399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6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7" y="363"/>
                  </a:lnTo>
                  <a:lnTo>
                    <a:pt x="1601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3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2" y="285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6"/>
                  </a:lnTo>
                  <a:lnTo>
                    <a:pt x="1466" y="294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0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5"/>
                  </a:lnTo>
                  <a:lnTo>
                    <a:pt x="1442" y="168"/>
                  </a:lnTo>
                  <a:lnTo>
                    <a:pt x="1443" y="159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6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29"/>
                  </a:lnTo>
                  <a:lnTo>
                    <a:pt x="1297" y="143"/>
                  </a:lnTo>
                  <a:lnTo>
                    <a:pt x="1273" y="157"/>
                  </a:lnTo>
                  <a:lnTo>
                    <a:pt x="1249" y="174"/>
                  </a:lnTo>
                  <a:lnTo>
                    <a:pt x="1241" y="177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5" y="186"/>
                  </a:lnTo>
                  <a:lnTo>
                    <a:pt x="1211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4"/>
                  </a:lnTo>
                  <a:lnTo>
                    <a:pt x="1146" y="199"/>
                  </a:lnTo>
                  <a:lnTo>
                    <a:pt x="1140" y="195"/>
                  </a:lnTo>
                  <a:lnTo>
                    <a:pt x="1134" y="194"/>
                  </a:lnTo>
                  <a:lnTo>
                    <a:pt x="1114" y="195"/>
                  </a:lnTo>
                  <a:lnTo>
                    <a:pt x="1094" y="197"/>
                  </a:lnTo>
                  <a:lnTo>
                    <a:pt x="1074" y="191"/>
                  </a:lnTo>
                  <a:lnTo>
                    <a:pt x="1049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1" y="155"/>
                  </a:lnTo>
                  <a:lnTo>
                    <a:pt x="1007" y="156"/>
                  </a:lnTo>
                  <a:lnTo>
                    <a:pt x="1002" y="156"/>
                  </a:lnTo>
                  <a:lnTo>
                    <a:pt x="1003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6"/>
                  </a:lnTo>
                  <a:lnTo>
                    <a:pt x="870" y="117"/>
                  </a:lnTo>
                  <a:lnTo>
                    <a:pt x="823" y="129"/>
                  </a:lnTo>
                  <a:lnTo>
                    <a:pt x="777" y="128"/>
                  </a:lnTo>
                  <a:lnTo>
                    <a:pt x="734" y="109"/>
                  </a:lnTo>
                  <a:lnTo>
                    <a:pt x="725" y="93"/>
                  </a:lnTo>
                  <a:lnTo>
                    <a:pt x="720" y="72"/>
                  </a:lnTo>
                  <a:lnTo>
                    <a:pt x="710" y="57"/>
                  </a:lnTo>
                  <a:lnTo>
                    <a:pt x="677" y="42"/>
                  </a:lnTo>
                  <a:lnTo>
                    <a:pt x="640" y="34"/>
                  </a:lnTo>
                  <a:lnTo>
                    <a:pt x="603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8720" y="1861200"/>
              <a:ext cx="1693800" cy="841680"/>
            </a:xfrm>
            <a:custGeom>
              <a:avLst/>
              <a:gdLst/>
              <a:ahLst/>
              <a:rect l="l" t="t" r="r" b="b"/>
              <a:pathLst>
                <a:path w="1606" h="674">
                  <a:moveTo>
                    <a:pt x="603" y="28"/>
                  </a:moveTo>
                  <a:lnTo>
                    <a:pt x="597" y="27"/>
                  </a:lnTo>
                  <a:lnTo>
                    <a:pt x="592" y="28"/>
                  </a:lnTo>
                  <a:lnTo>
                    <a:pt x="586" y="27"/>
                  </a:lnTo>
                  <a:lnTo>
                    <a:pt x="586" y="25"/>
                  </a:lnTo>
                  <a:lnTo>
                    <a:pt x="586" y="23"/>
                  </a:lnTo>
                  <a:lnTo>
                    <a:pt x="586" y="21"/>
                  </a:lnTo>
                  <a:lnTo>
                    <a:pt x="577" y="14"/>
                  </a:lnTo>
                  <a:lnTo>
                    <a:pt x="567" y="10"/>
                  </a:lnTo>
                  <a:lnTo>
                    <a:pt x="559" y="2"/>
                  </a:lnTo>
                  <a:lnTo>
                    <a:pt x="555" y="0"/>
                  </a:lnTo>
                  <a:lnTo>
                    <a:pt x="551" y="0"/>
                  </a:lnTo>
                  <a:lnTo>
                    <a:pt x="548" y="4"/>
                  </a:lnTo>
                  <a:lnTo>
                    <a:pt x="546" y="11"/>
                  </a:lnTo>
                  <a:lnTo>
                    <a:pt x="544" y="17"/>
                  </a:lnTo>
                  <a:lnTo>
                    <a:pt x="542" y="23"/>
                  </a:lnTo>
                  <a:lnTo>
                    <a:pt x="537" y="29"/>
                  </a:lnTo>
                  <a:lnTo>
                    <a:pt x="530" y="34"/>
                  </a:lnTo>
                  <a:lnTo>
                    <a:pt x="524" y="40"/>
                  </a:lnTo>
                  <a:lnTo>
                    <a:pt x="524" y="45"/>
                  </a:lnTo>
                  <a:lnTo>
                    <a:pt x="523" y="50"/>
                  </a:lnTo>
                  <a:lnTo>
                    <a:pt x="520" y="53"/>
                  </a:lnTo>
                  <a:lnTo>
                    <a:pt x="516" y="53"/>
                  </a:lnTo>
                  <a:lnTo>
                    <a:pt x="511" y="53"/>
                  </a:lnTo>
                  <a:lnTo>
                    <a:pt x="509" y="54"/>
                  </a:lnTo>
                  <a:lnTo>
                    <a:pt x="503" y="76"/>
                  </a:lnTo>
                  <a:lnTo>
                    <a:pt x="510" y="100"/>
                  </a:lnTo>
                  <a:lnTo>
                    <a:pt x="520" y="121"/>
                  </a:lnTo>
                  <a:lnTo>
                    <a:pt x="517" y="140"/>
                  </a:lnTo>
                  <a:lnTo>
                    <a:pt x="501" y="155"/>
                  </a:lnTo>
                  <a:lnTo>
                    <a:pt x="480" y="162"/>
                  </a:lnTo>
                  <a:lnTo>
                    <a:pt x="461" y="161"/>
                  </a:lnTo>
                  <a:lnTo>
                    <a:pt x="442" y="155"/>
                  </a:lnTo>
                  <a:lnTo>
                    <a:pt x="422" y="151"/>
                  </a:lnTo>
                  <a:lnTo>
                    <a:pt x="417" y="149"/>
                  </a:lnTo>
                  <a:lnTo>
                    <a:pt x="412" y="146"/>
                  </a:lnTo>
                  <a:lnTo>
                    <a:pt x="408" y="144"/>
                  </a:lnTo>
                  <a:lnTo>
                    <a:pt x="381" y="144"/>
                  </a:lnTo>
                  <a:lnTo>
                    <a:pt x="355" y="142"/>
                  </a:lnTo>
                  <a:lnTo>
                    <a:pt x="330" y="132"/>
                  </a:lnTo>
                  <a:lnTo>
                    <a:pt x="329" y="127"/>
                  </a:lnTo>
                  <a:lnTo>
                    <a:pt x="329" y="122"/>
                  </a:lnTo>
                  <a:lnTo>
                    <a:pt x="328" y="118"/>
                  </a:lnTo>
                  <a:lnTo>
                    <a:pt x="292" y="103"/>
                  </a:lnTo>
                  <a:lnTo>
                    <a:pt x="255" y="96"/>
                  </a:lnTo>
                  <a:lnTo>
                    <a:pt x="216" y="90"/>
                  </a:lnTo>
                  <a:lnTo>
                    <a:pt x="217" y="94"/>
                  </a:lnTo>
                  <a:lnTo>
                    <a:pt x="216" y="97"/>
                  </a:lnTo>
                  <a:lnTo>
                    <a:pt x="214" y="100"/>
                  </a:lnTo>
                  <a:lnTo>
                    <a:pt x="207" y="99"/>
                  </a:lnTo>
                  <a:lnTo>
                    <a:pt x="202" y="97"/>
                  </a:lnTo>
                  <a:lnTo>
                    <a:pt x="198" y="97"/>
                  </a:lnTo>
                  <a:lnTo>
                    <a:pt x="186" y="107"/>
                  </a:lnTo>
                  <a:lnTo>
                    <a:pt x="172" y="111"/>
                  </a:lnTo>
                  <a:lnTo>
                    <a:pt x="159" y="115"/>
                  </a:lnTo>
                  <a:lnTo>
                    <a:pt x="146" y="123"/>
                  </a:lnTo>
                  <a:lnTo>
                    <a:pt x="132" y="130"/>
                  </a:lnTo>
                  <a:lnTo>
                    <a:pt x="118" y="134"/>
                  </a:lnTo>
                  <a:lnTo>
                    <a:pt x="114" y="135"/>
                  </a:lnTo>
                  <a:lnTo>
                    <a:pt x="110" y="139"/>
                  </a:lnTo>
                  <a:lnTo>
                    <a:pt x="107" y="141"/>
                  </a:lnTo>
                  <a:lnTo>
                    <a:pt x="94" y="147"/>
                  </a:lnTo>
                  <a:lnTo>
                    <a:pt x="84" y="156"/>
                  </a:lnTo>
                  <a:lnTo>
                    <a:pt x="75" y="168"/>
                  </a:lnTo>
                  <a:lnTo>
                    <a:pt x="68" y="174"/>
                  </a:lnTo>
                  <a:lnTo>
                    <a:pt x="57" y="177"/>
                  </a:lnTo>
                  <a:lnTo>
                    <a:pt x="47" y="184"/>
                  </a:lnTo>
                  <a:lnTo>
                    <a:pt x="38" y="186"/>
                  </a:lnTo>
                  <a:lnTo>
                    <a:pt x="26" y="185"/>
                  </a:lnTo>
                  <a:lnTo>
                    <a:pt x="16" y="187"/>
                  </a:lnTo>
                  <a:lnTo>
                    <a:pt x="7" y="196"/>
                  </a:lnTo>
                  <a:lnTo>
                    <a:pt x="2" y="20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5" y="226"/>
                  </a:lnTo>
                  <a:lnTo>
                    <a:pt x="8" y="229"/>
                  </a:lnTo>
                  <a:lnTo>
                    <a:pt x="9" y="232"/>
                  </a:lnTo>
                  <a:lnTo>
                    <a:pt x="6" y="234"/>
                  </a:lnTo>
                  <a:lnTo>
                    <a:pt x="2" y="235"/>
                  </a:lnTo>
                  <a:lnTo>
                    <a:pt x="20" y="250"/>
                  </a:lnTo>
                  <a:lnTo>
                    <a:pt x="39" y="265"/>
                  </a:lnTo>
                  <a:lnTo>
                    <a:pt x="59" y="277"/>
                  </a:lnTo>
                  <a:lnTo>
                    <a:pt x="83" y="282"/>
                  </a:lnTo>
                  <a:lnTo>
                    <a:pt x="106" y="285"/>
                  </a:lnTo>
                  <a:lnTo>
                    <a:pt x="127" y="299"/>
                  </a:lnTo>
                  <a:lnTo>
                    <a:pt x="138" y="318"/>
                  </a:lnTo>
                  <a:lnTo>
                    <a:pt x="148" y="338"/>
                  </a:lnTo>
                  <a:lnTo>
                    <a:pt x="161" y="356"/>
                  </a:lnTo>
                  <a:lnTo>
                    <a:pt x="163" y="366"/>
                  </a:lnTo>
                  <a:lnTo>
                    <a:pt x="161" y="379"/>
                  </a:lnTo>
                  <a:lnTo>
                    <a:pt x="161" y="394"/>
                  </a:lnTo>
                  <a:lnTo>
                    <a:pt x="155" y="406"/>
                  </a:lnTo>
                  <a:lnTo>
                    <a:pt x="142" y="418"/>
                  </a:lnTo>
                  <a:lnTo>
                    <a:pt x="138" y="433"/>
                  </a:lnTo>
                  <a:lnTo>
                    <a:pt x="141" y="443"/>
                  </a:lnTo>
                  <a:lnTo>
                    <a:pt x="146" y="452"/>
                  </a:lnTo>
                  <a:lnTo>
                    <a:pt x="154" y="459"/>
                  </a:lnTo>
                  <a:lnTo>
                    <a:pt x="194" y="467"/>
                  </a:lnTo>
                  <a:lnTo>
                    <a:pt x="235" y="468"/>
                  </a:lnTo>
                  <a:lnTo>
                    <a:pt x="276" y="473"/>
                  </a:lnTo>
                  <a:lnTo>
                    <a:pt x="291" y="481"/>
                  </a:lnTo>
                  <a:lnTo>
                    <a:pt x="305" y="493"/>
                  </a:lnTo>
                  <a:lnTo>
                    <a:pt x="320" y="501"/>
                  </a:lnTo>
                  <a:lnTo>
                    <a:pt x="336" y="506"/>
                  </a:lnTo>
                  <a:lnTo>
                    <a:pt x="352" y="511"/>
                  </a:lnTo>
                  <a:lnTo>
                    <a:pt x="368" y="517"/>
                  </a:lnTo>
                  <a:lnTo>
                    <a:pt x="377" y="524"/>
                  </a:lnTo>
                  <a:lnTo>
                    <a:pt x="385" y="533"/>
                  </a:lnTo>
                  <a:lnTo>
                    <a:pt x="390" y="543"/>
                  </a:lnTo>
                  <a:lnTo>
                    <a:pt x="430" y="598"/>
                  </a:lnTo>
                  <a:lnTo>
                    <a:pt x="490" y="620"/>
                  </a:lnTo>
                  <a:lnTo>
                    <a:pt x="559" y="621"/>
                  </a:lnTo>
                  <a:lnTo>
                    <a:pt x="626" y="614"/>
                  </a:lnTo>
                  <a:lnTo>
                    <a:pt x="649" y="614"/>
                  </a:lnTo>
                  <a:lnTo>
                    <a:pt x="673" y="619"/>
                  </a:lnTo>
                  <a:lnTo>
                    <a:pt x="695" y="628"/>
                  </a:lnTo>
                  <a:lnTo>
                    <a:pt x="737" y="646"/>
                  </a:lnTo>
                  <a:lnTo>
                    <a:pt x="782" y="658"/>
                  </a:lnTo>
                  <a:lnTo>
                    <a:pt x="828" y="662"/>
                  </a:lnTo>
                  <a:lnTo>
                    <a:pt x="831" y="664"/>
                  </a:lnTo>
                  <a:lnTo>
                    <a:pt x="831" y="668"/>
                  </a:lnTo>
                  <a:lnTo>
                    <a:pt x="834" y="670"/>
                  </a:lnTo>
                  <a:lnTo>
                    <a:pt x="844" y="668"/>
                  </a:lnTo>
                  <a:lnTo>
                    <a:pt x="854" y="671"/>
                  </a:lnTo>
                  <a:lnTo>
                    <a:pt x="863" y="674"/>
                  </a:lnTo>
                  <a:lnTo>
                    <a:pt x="886" y="668"/>
                  </a:lnTo>
                  <a:lnTo>
                    <a:pt x="905" y="653"/>
                  </a:lnTo>
                  <a:lnTo>
                    <a:pt x="924" y="641"/>
                  </a:lnTo>
                  <a:lnTo>
                    <a:pt x="984" y="631"/>
                  </a:lnTo>
                  <a:lnTo>
                    <a:pt x="1045" y="631"/>
                  </a:lnTo>
                  <a:lnTo>
                    <a:pt x="1103" y="621"/>
                  </a:lnTo>
                  <a:lnTo>
                    <a:pt x="1121" y="609"/>
                  </a:lnTo>
                  <a:lnTo>
                    <a:pt x="1138" y="593"/>
                  </a:lnTo>
                  <a:lnTo>
                    <a:pt x="1156" y="577"/>
                  </a:lnTo>
                  <a:lnTo>
                    <a:pt x="1174" y="569"/>
                  </a:lnTo>
                  <a:lnTo>
                    <a:pt x="1193" y="563"/>
                  </a:lnTo>
                  <a:lnTo>
                    <a:pt x="1207" y="553"/>
                  </a:lnTo>
                  <a:lnTo>
                    <a:pt x="1208" y="541"/>
                  </a:lnTo>
                  <a:lnTo>
                    <a:pt x="1198" y="530"/>
                  </a:lnTo>
                  <a:lnTo>
                    <a:pt x="1186" y="518"/>
                  </a:lnTo>
                  <a:lnTo>
                    <a:pt x="1181" y="499"/>
                  </a:lnTo>
                  <a:lnTo>
                    <a:pt x="1191" y="480"/>
                  </a:lnTo>
                  <a:lnTo>
                    <a:pt x="1207" y="468"/>
                  </a:lnTo>
                  <a:lnTo>
                    <a:pt x="1227" y="468"/>
                  </a:lnTo>
                  <a:lnTo>
                    <a:pt x="1246" y="474"/>
                  </a:lnTo>
                  <a:lnTo>
                    <a:pt x="1267" y="482"/>
                  </a:lnTo>
                  <a:lnTo>
                    <a:pt x="1288" y="484"/>
                  </a:lnTo>
                  <a:lnTo>
                    <a:pt x="1308" y="480"/>
                  </a:lnTo>
                  <a:lnTo>
                    <a:pt x="1323" y="468"/>
                  </a:lnTo>
                  <a:lnTo>
                    <a:pt x="1331" y="458"/>
                  </a:lnTo>
                  <a:lnTo>
                    <a:pt x="1339" y="450"/>
                  </a:lnTo>
                  <a:lnTo>
                    <a:pt x="1350" y="444"/>
                  </a:lnTo>
                  <a:lnTo>
                    <a:pt x="1369" y="443"/>
                  </a:lnTo>
                  <a:lnTo>
                    <a:pt x="1389" y="444"/>
                  </a:lnTo>
                  <a:lnTo>
                    <a:pt x="1407" y="438"/>
                  </a:lnTo>
                  <a:lnTo>
                    <a:pt x="1422" y="420"/>
                  </a:lnTo>
                  <a:lnTo>
                    <a:pt x="1434" y="400"/>
                  </a:lnTo>
                  <a:lnTo>
                    <a:pt x="1452" y="384"/>
                  </a:lnTo>
                  <a:lnTo>
                    <a:pt x="1458" y="383"/>
                  </a:lnTo>
                  <a:lnTo>
                    <a:pt x="1465" y="384"/>
                  </a:lnTo>
                  <a:lnTo>
                    <a:pt x="1471" y="383"/>
                  </a:lnTo>
                  <a:lnTo>
                    <a:pt x="1477" y="378"/>
                  </a:lnTo>
                  <a:lnTo>
                    <a:pt x="1482" y="372"/>
                  </a:lnTo>
                  <a:lnTo>
                    <a:pt x="1488" y="369"/>
                  </a:lnTo>
                  <a:lnTo>
                    <a:pt x="1511" y="363"/>
                  </a:lnTo>
                  <a:lnTo>
                    <a:pt x="1534" y="357"/>
                  </a:lnTo>
                  <a:lnTo>
                    <a:pt x="1556" y="359"/>
                  </a:lnTo>
                  <a:lnTo>
                    <a:pt x="1569" y="363"/>
                  </a:lnTo>
                  <a:lnTo>
                    <a:pt x="1583" y="364"/>
                  </a:lnTo>
                  <a:lnTo>
                    <a:pt x="1596" y="363"/>
                  </a:lnTo>
                  <a:lnTo>
                    <a:pt x="1600" y="361"/>
                  </a:lnTo>
                  <a:lnTo>
                    <a:pt x="1603" y="357"/>
                  </a:lnTo>
                  <a:lnTo>
                    <a:pt x="1605" y="353"/>
                  </a:lnTo>
                  <a:lnTo>
                    <a:pt x="1606" y="343"/>
                  </a:lnTo>
                  <a:lnTo>
                    <a:pt x="1601" y="333"/>
                  </a:lnTo>
                  <a:lnTo>
                    <a:pt x="1592" y="326"/>
                  </a:lnTo>
                  <a:lnTo>
                    <a:pt x="1585" y="322"/>
                  </a:lnTo>
                  <a:lnTo>
                    <a:pt x="1577" y="318"/>
                  </a:lnTo>
                  <a:lnTo>
                    <a:pt x="1572" y="313"/>
                  </a:lnTo>
                  <a:lnTo>
                    <a:pt x="1552" y="292"/>
                  </a:lnTo>
                  <a:lnTo>
                    <a:pt x="1528" y="282"/>
                  </a:lnTo>
                  <a:lnTo>
                    <a:pt x="1501" y="286"/>
                  </a:lnTo>
                  <a:lnTo>
                    <a:pt x="1492" y="291"/>
                  </a:lnTo>
                  <a:lnTo>
                    <a:pt x="1482" y="296"/>
                  </a:lnTo>
                  <a:lnTo>
                    <a:pt x="1471" y="298"/>
                  </a:lnTo>
                  <a:lnTo>
                    <a:pt x="1468" y="297"/>
                  </a:lnTo>
                  <a:lnTo>
                    <a:pt x="1466" y="295"/>
                  </a:lnTo>
                  <a:lnTo>
                    <a:pt x="1463" y="293"/>
                  </a:lnTo>
                  <a:lnTo>
                    <a:pt x="1449" y="288"/>
                  </a:lnTo>
                  <a:lnTo>
                    <a:pt x="1434" y="287"/>
                  </a:lnTo>
                  <a:lnTo>
                    <a:pt x="1418" y="286"/>
                  </a:lnTo>
                  <a:lnTo>
                    <a:pt x="1412" y="288"/>
                  </a:lnTo>
                  <a:lnTo>
                    <a:pt x="1405" y="291"/>
                  </a:lnTo>
                  <a:lnTo>
                    <a:pt x="1398" y="292"/>
                  </a:lnTo>
                  <a:lnTo>
                    <a:pt x="1387" y="287"/>
                  </a:lnTo>
                  <a:lnTo>
                    <a:pt x="1381" y="275"/>
                  </a:lnTo>
                  <a:lnTo>
                    <a:pt x="1384" y="263"/>
                  </a:lnTo>
                  <a:lnTo>
                    <a:pt x="1390" y="259"/>
                  </a:lnTo>
                  <a:lnTo>
                    <a:pt x="1399" y="256"/>
                  </a:lnTo>
                  <a:lnTo>
                    <a:pt x="1408" y="255"/>
                  </a:lnTo>
                  <a:lnTo>
                    <a:pt x="1407" y="248"/>
                  </a:lnTo>
                  <a:lnTo>
                    <a:pt x="1405" y="242"/>
                  </a:lnTo>
                  <a:lnTo>
                    <a:pt x="1405" y="235"/>
                  </a:lnTo>
                  <a:lnTo>
                    <a:pt x="1417" y="215"/>
                  </a:lnTo>
                  <a:lnTo>
                    <a:pt x="1429" y="196"/>
                  </a:lnTo>
                  <a:lnTo>
                    <a:pt x="1440" y="176"/>
                  </a:lnTo>
                  <a:lnTo>
                    <a:pt x="1442" y="168"/>
                  </a:lnTo>
                  <a:lnTo>
                    <a:pt x="1443" y="160"/>
                  </a:lnTo>
                  <a:lnTo>
                    <a:pt x="1440" y="154"/>
                  </a:lnTo>
                  <a:lnTo>
                    <a:pt x="1419" y="147"/>
                  </a:lnTo>
                  <a:lnTo>
                    <a:pt x="1396" y="151"/>
                  </a:lnTo>
                  <a:lnTo>
                    <a:pt x="1373" y="151"/>
                  </a:lnTo>
                  <a:lnTo>
                    <a:pt x="1363" y="145"/>
                  </a:lnTo>
                  <a:lnTo>
                    <a:pt x="1355" y="137"/>
                  </a:lnTo>
                  <a:lnTo>
                    <a:pt x="1345" y="131"/>
                  </a:lnTo>
                  <a:lnTo>
                    <a:pt x="1338" y="132"/>
                  </a:lnTo>
                  <a:lnTo>
                    <a:pt x="1329" y="134"/>
                  </a:lnTo>
                  <a:lnTo>
                    <a:pt x="1322" y="130"/>
                  </a:lnTo>
                  <a:lnTo>
                    <a:pt x="1297" y="143"/>
                  </a:lnTo>
                  <a:lnTo>
                    <a:pt x="1273" y="158"/>
                  </a:lnTo>
                  <a:lnTo>
                    <a:pt x="1249" y="175"/>
                  </a:lnTo>
                  <a:lnTo>
                    <a:pt x="1241" y="178"/>
                  </a:lnTo>
                  <a:lnTo>
                    <a:pt x="1232" y="179"/>
                  </a:lnTo>
                  <a:lnTo>
                    <a:pt x="1224" y="181"/>
                  </a:lnTo>
                  <a:lnTo>
                    <a:pt x="1220" y="183"/>
                  </a:lnTo>
                  <a:lnTo>
                    <a:pt x="1214" y="186"/>
                  </a:lnTo>
                  <a:lnTo>
                    <a:pt x="1210" y="187"/>
                  </a:lnTo>
                  <a:lnTo>
                    <a:pt x="1194" y="187"/>
                  </a:lnTo>
                  <a:lnTo>
                    <a:pt x="1180" y="191"/>
                  </a:lnTo>
                  <a:lnTo>
                    <a:pt x="1166" y="201"/>
                  </a:lnTo>
                  <a:lnTo>
                    <a:pt x="1162" y="204"/>
                  </a:lnTo>
                  <a:lnTo>
                    <a:pt x="1157" y="206"/>
                  </a:lnTo>
                  <a:lnTo>
                    <a:pt x="1152" y="205"/>
                  </a:lnTo>
                  <a:lnTo>
                    <a:pt x="1146" y="199"/>
                  </a:lnTo>
                  <a:lnTo>
                    <a:pt x="1140" y="196"/>
                  </a:lnTo>
                  <a:lnTo>
                    <a:pt x="1134" y="194"/>
                  </a:lnTo>
                  <a:lnTo>
                    <a:pt x="1114" y="196"/>
                  </a:lnTo>
                  <a:lnTo>
                    <a:pt x="1094" y="198"/>
                  </a:lnTo>
                  <a:lnTo>
                    <a:pt x="1074" y="191"/>
                  </a:lnTo>
                  <a:lnTo>
                    <a:pt x="1050" y="186"/>
                  </a:lnTo>
                  <a:lnTo>
                    <a:pt x="1024" y="185"/>
                  </a:lnTo>
                  <a:lnTo>
                    <a:pt x="1011" y="169"/>
                  </a:lnTo>
                  <a:lnTo>
                    <a:pt x="1012" y="164"/>
                  </a:lnTo>
                  <a:lnTo>
                    <a:pt x="1015" y="159"/>
                  </a:lnTo>
                  <a:lnTo>
                    <a:pt x="1015" y="153"/>
                  </a:lnTo>
                  <a:lnTo>
                    <a:pt x="1012" y="155"/>
                  </a:lnTo>
                  <a:lnTo>
                    <a:pt x="1007" y="156"/>
                  </a:lnTo>
                  <a:lnTo>
                    <a:pt x="1003" y="156"/>
                  </a:lnTo>
                  <a:lnTo>
                    <a:pt x="1004" y="150"/>
                  </a:lnTo>
                  <a:lnTo>
                    <a:pt x="1001" y="146"/>
                  </a:lnTo>
                  <a:lnTo>
                    <a:pt x="998" y="144"/>
                  </a:lnTo>
                  <a:lnTo>
                    <a:pt x="985" y="140"/>
                  </a:lnTo>
                  <a:lnTo>
                    <a:pt x="970" y="141"/>
                  </a:lnTo>
                  <a:lnTo>
                    <a:pt x="957" y="140"/>
                  </a:lnTo>
                  <a:lnTo>
                    <a:pt x="947" y="132"/>
                  </a:lnTo>
                  <a:lnTo>
                    <a:pt x="937" y="122"/>
                  </a:lnTo>
                  <a:lnTo>
                    <a:pt x="924" y="121"/>
                  </a:lnTo>
                  <a:lnTo>
                    <a:pt x="920" y="122"/>
                  </a:lnTo>
                  <a:lnTo>
                    <a:pt x="916" y="124"/>
                  </a:lnTo>
                  <a:lnTo>
                    <a:pt x="913" y="125"/>
                  </a:lnTo>
                  <a:lnTo>
                    <a:pt x="899" y="122"/>
                  </a:lnTo>
                  <a:lnTo>
                    <a:pt x="885" y="117"/>
                  </a:lnTo>
                  <a:lnTo>
                    <a:pt x="871" y="117"/>
                  </a:lnTo>
                  <a:lnTo>
                    <a:pt x="823" y="129"/>
                  </a:lnTo>
                  <a:lnTo>
                    <a:pt x="776" y="128"/>
                  </a:lnTo>
                  <a:lnTo>
                    <a:pt x="734" y="110"/>
                  </a:lnTo>
                  <a:lnTo>
                    <a:pt x="725" y="93"/>
                  </a:lnTo>
                  <a:lnTo>
                    <a:pt x="719" y="73"/>
                  </a:lnTo>
                  <a:lnTo>
                    <a:pt x="709" y="57"/>
                  </a:lnTo>
                  <a:lnTo>
                    <a:pt x="676" y="43"/>
                  </a:lnTo>
                  <a:lnTo>
                    <a:pt x="640" y="34"/>
                  </a:lnTo>
                  <a:lnTo>
                    <a:pt x="603" y="28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026520" y="1752480"/>
              <a:ext cx="3247560" cy="2432160"/>
            </a:xfrm>
            <a:custGeom>
              <a:avLst/>
              <a:gdLst/>
              <a:ahLst/>
              <a:rect l="l" t="t" r="r" b="b"/>
              <a:pathLst>
                <a:path w="3079" h="1947">
                  <a:moveTo>
                    <a:pt x="734" y="292"/>
                  </a:moveTo>
                  <a:lnTo>
                    <a:pt x="722" y="289"/>
                  </a:lnTo>
                  <a:lnTo>
                    <a:pt x="712" y="294"/>
                  </a:lnTo>
                  <a:lnTo>
                    <a:pt x="701" y="295"/>
                  </a:lnTo>
                  <a:lnTo>
                    <a:pt x="695" y="292"/>
                  </a:lnTo>
                  <a:lnTo>
                    <a:pt x="689" y="293"/>
                  </a:lnTo>
                  <a:lnTo>
                    <a:pt x="683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7" y="299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09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8" y="332"/>
                  </a:lnTo>
                  <a:lnTo>
                    <a:pt x="628" y="334"/>
                  </a:lnTo>
                  <a:lnTo>
                    <a:pt x="623" y="335"/>
                  </a:lnTo>
                  <a:lnTo>
                    <a:pt x="617" y="338"/>
                  </a:lnTo>
                  <a:lnTo>
                    <a:pt x="615" y="342"/>
                  </a:lnTo>
                  <a:lnTo>
                    <a:pt x="614" y="355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2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4"/>
                  </a:lnTo>
                  <a:lnTo>
                    <a:pt x="556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3" y="417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7"/>
                  </a:lnTo>
                  <a:lnTo>
                    <a:pt x="463" y="520"/>
                  </a:lnTo>
                  <a:lnTo>
                    <a:pt x="467" y="525"/>
                  </a:lnTo>
                  <a:lnTo>
                    <a:pt x="471" y="532"/>
                  </a:lnTo>
                  <a:lnTo>
                    <a:pt x="473" y="535"/>
                  </a:lnTo>
                  <a:lnTo>
                    <a:pt x="472" y="540"/>
                  </a:lnTo>
                  <a:lnTo>
                    <a:pt x="469" y="542"/>
                  </a:lnTo>
                  <a:lnTo>
                    <a:pt x="451" y="542"/>
                  </a:lnTo>
                  <a:lnTo>
                    <a:pt x="434" y="538"/>
                  </a:lnTo>
                  <a:lnTo>
                    <a:pt x="418" y="530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3" y="538"/>
                  </a:lnTo>
                  <a:lnTo>
                    <a:pt x="354" y="540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1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1"/>
                  </a:lnTo>
                  <a:lnTo>
                    <a:pt x="360" y="627"/>
                  </a:lnTo>
                  <a:lnTo>
                    <a:pt x="360" y="632"/>
                  </a:lnTo>
                  <a:lnTo>
                    <a:pt x="369" y="642"/>
                  </a:lnTo>
                  <a:lnTo>
                    <a:pt x="377" y="651"/>
                  </a:lnTo>
                  <a:lnTo>
                    <a:pt x="378" y="662"/>
                  </a:lnTo>
                  <a:lnTo>
                    <a:pt x="368" y="672"/>
                  </a:lnTo>
                  <a:lnTo>
                    <a:pt x="355" y="678"/>
                  </a:lnTo>
                  <a:lnTo>
                    <a:pt x="348" y="689"/>
                  </a:lnTo>
                  <a:lnTo>
                    <a:pt x="351" y="698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5"/>
                  </a:lnTo>
                  <a:lnTo>
                    <a:pt x="348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3" y="772"/>
                  </a:lnTo>
                  <a:lnTo>
                    <a:pt x="230" y="781"/>
                  </a:lnTo>
                  <a:lnTo>
                    <a:pt x="206" y="784"/>
                  </a:lnTo>
                  <a:lnTo>
                    <a:pt x="183" y="787"/>
                  </a:lnTo>
                  <a:lnTo>
                    <a:pt x="168" y="798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8"/>
                  </a:lnTo>
                  <a:lnTo>
                    <a:pt x="127" y="829"/>
                  </a:lnTo>
                  <a:lnTo>
                    <a:pt x="119" y="831"/>
                  </a:lnTo>
                  <a:lnTo>
                    <a:pt x="118" y="828"/>
                  </a:lnTo>
                  <a:lnTo>
                    <a:pt x="115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2"/>
                  </a:lnTo>
                  <a:lnTo>
                    <a:pt x="76" y="825"/>
                  </a:lnTo>
                  <a:lnTo>
                    <a:pt x="69" y="827"/>
                  </a:lnTo>
                  <a:lnTo>
                    <a:pt x="64" y="832"/>
                  </a:lnTo>
                  <a:lnTo>
                    <a:pt x="60" y="838"/>
                  </a:lnTo>
                  <a:lnTo>
                    <a:pt x="53" y="841"/>
                  </a:lnTo>
                  <a:lnTo>
                    <a:pt x="48" y="839"/>
                  </a:lnTo>
                  <a:lnTo>
                    <a:pt x="44" y="839"/>
                  </a:lnTo>
                  <a:lnTo>
                    <a:pt x="35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3"/>
                  </a:lnTo>
                  <a:lnTo>
                    <a:pt x="14" y="913"/>
                  </a:lnTo>
                  <a:lnTo>
                    <a:pt x="22" y="933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0"/>
                  </a:lnTo>
                  <a:lnTo>
                    <a:pt x="71" y="947"/>
                  </a:lnTo>
                  <a:lnTo>
                    <a:pt x="73" y="951"/>
                  </a:lnTo>
                  <a:lnTo>
                    <a:pt x="73" y="955"/>
                  </a:lnTo>
                  <a:lnTo>
                    <a:pt x="71" y="960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2"/>
                  </a:lnTo>
                  <a:lnTo>
                    <a:pt x="80" y="996"/>
                  </a:lnTo>
                  <a:lnTo>
                    <a:pt x="80" y="1001"/>
                  </a:lnTo>
                  <a:lnTo>
                    <a:pt x="82" y="1006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8"/>
                  </a:lnTo>
                  <a:lnTo>
                    <a:pt x="0" y="1036"/>
                  </a:lnTo>
                  <a:lnTo>
                    <a:pt x="2" y="1038"/>
                  </a:lnTo>
                  <a:lnTo>
                    <a:pt x="8" y="1040"/>
                  </a:lnTo>
                  <a:lnTo>
                    <a:pt x="18" y="1036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3"/>
                  </a:lnTo>
                  <a:lnTo>
                    <a:pt x="68" y="1025"/>
                  </a:lnTo>
                  <a:lnTo>
                    <a:pt x="82" y="1027"/>
                  </a:lnTo>
                  <a:lnTo>
                    <a:pt x="91" y="1029"/>
                  </a:lnTo>
                  <a:lnTo>
                    <a:pt x="96" y="1028"/>
                  </a:lnTo>
                  <a:lnTo>
                    <a:pt x="104" y="1029"/>
                  </a:lnTo>
                  <a:lnTo>
                    <a:pt x="115" y="1034"/>
                  </a:lnTo>
                  <a:lnTo>
                    <a:pt x="124" y="1043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6"/>
                  </a:lnTo>
                  <a:lnTo>
                    <a:pt x="134" y="1072"/>
                  </a:lnTo>
                  <a:lnTo>
                    <a:pt x="132" y="1078"/>
                  </a:lnTo>
                  <a:lnTo>
                    <a:pt x="131" y="1083"/>
                  </a:lnTo>
                  <a:lnTo>
                    <a:pt x="135" y="1088"/>
                  </a:lnTo>
                  <a:lnTo>
                    <a:pt x="141" y="1092"/>
                  </a:lnTo>
                  <a:lnTo>
                    <a:pt x="146" y="1093"/>
                  </a:lnTo>
                  <a:lnTo>
                    <a:pt x="152" y="1093"/>
                  </a:lnTo>
                  <a:lnTo>
                    <a:pt x="158" y="1092"/>
                  </a:lnTo>
                  <a:lnTo>
                    <a:pt x="162" y="1093"/>
                  </a:lnTo>
                  <a:lnTo>
                    <a:pt x="168" y="1096"/>
                  </a:lnTo>
                  <a:lnTo>
                    <a:pt x="186" y="1103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0" y="1117"/>
                  </a:lnTo>
                  <a:lnTo>
                    <a:pt x="224" y="1117"/>
                  </a:lnTo>
                  <a:lnTo>
                    <a:pt x="228" y="1115"/>
                  </a:lnTo>
                  <a:lnTo>
                    <a:pt x="236" y="1107"/>
                  </a:lnTo>
                  <a:lnTo>
                    <a:pt x="257" y="1094"/>
                  </a:lnTo>
                  <a:lnTo>
                    <a:pt x="288" y="1088"/>
                  </a:lnTo>
                  <a:lnTo>
                    <a:pt x="292" y="1088"/>
                  </a:lnTo>
                  <a:lnTo>
                    <a:pt x="301" y="1089"/>
                  </a:lnTo>
                  <a:lnTo>
                    <a:pt x="310" y="1092"/>
                  </a:lnTo>
                  <a:lnTo>
                    <a:pt x="320" y="1097"/>
                  </a:lnTo>
                  <a:lnTo>
                    <a:pt x="341" y="1108"/>
                  </a:lnTo>
                  <a:lnTo>
                    <a:pt x="354" y="1115"/>
                  </a:lnTo>
                  <a:lnTo>
                    <a:pt x="357" y="1118"/>
                  </a:lnTo>
                  <a:lnTo>
                    <a:pt x="358" y="1122"/>
                  </a:lnTo>
                  <a:lnTo>
                    <a:pt x="357" y="1129"/>
                  </a:lnTo>
                  <a:lnTo>
                    <a:pt x="349" y="1143"/>
                  </a:lnTo>
                  <a:lnTo>
                    <a:pt x="338" y="1159"/>
                  </a:lnTo>
                  <a:lnTo>
                    <a:pt x="329" y="1171"/>
                  </a:lnTo>
                  <a:lnTo>
                    <a:pt x="326" y="1175"/>
                  </a:lnTo>
                  <a:lnTo>
                    <a:pt x="318" y="1184"/>
                  </a:lnTo>
                  <a:lnTo>
                    <a:pt x="302" y="1194"/>
                  </a:lnTo>
                  <a:lnTo>
                    <a:pt x="279" y="1192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3"/>
                  </a:lnTo>
                  <a:lnTo>
                    <a:pt x="280" y="1226"/>
                  </a:lnTo>
                  <a:lnTo>
                    <a:pt x="292" y="1237"/>
                  </a:lnTo>
                  <a:lnTo>
                    <a:pt x="306" y="1246"/>
                  </a:lnTo>
                  <a:lnTo>
                    <a:pt x="312" y="1258"/>
                  </a:lnTo>
                  <a:lnTo>
                    <a:pt x="304" y="1273"/>
                  </a:lnTo>
                  <a:lnTo>
                    <a:pt x="296" y="1289"/>
                  </a:lnTo>
                  <a:lnTo>
                    <a:pt x="294" y="1292"/>
                  </a:lnTo>
                  <a:lnTo>
                    <a:pt x="289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4"/>
                  </a:lnTo>
                  <a:lnTo>
                    <a:pt x="270" y="1280"/>
                  </a:lnTo>
                  <a:lnTo>
                    <a:pt x="264" y="1279"/>
                  </a:lnTo>
                  <a:lnTo>
                    <a:pt x="258" y="1282"/>
                  </a:lnTo>
                  <a:lnTo>
                    <a:pt x="256" y="1285"/>
                  </a:lnTo>
                  <a:lnTo>
                    <a:pt x="266" y="1304"/>
                  </a:lnTo>
                  <a:lnTo>
                    <a:pt x="270" y="1323"/>
                  </a:lnTo>
                  <a:lnTo>
                    <a:pt x="264" y="1343"/>
                  </a:lnTo>
                  <a:lnTo>
                    <a:pt x="271" y="1343"/>
                  </a:lnTo>
                  <a:lnTo>
                    <a:pt x="278" y="1345"/>
                  </a:lnTo>
                  <a:lnTo>
                    <a:pt x="285" y="1344"/>
                  </a:lnTo>
                  <a:lnTo>
                    <a:pt x="292" y="1345"/>
                  </a:lnTo>
                  <a:lnTo>
                    <a:pt x="297" y="1354"/>
                  </a:lnTo>
                  <a:lnTo>
                    <a:pt x="301" y="1360"/>
                  </a:lnTo>
                  <a:lnTo>
                    <a:pt x="325" y="1372"/>
                  </a:lnTo>
                  <a:lnTo>
                    <a:pt x="347" y="1384"/>
                  </a:lnTo>
                  <a:lnTo>
                    <a:pt x="367" y="1400"/>
                  </a:lnTo>
                  <a:lnTo>
                    <a:pt x="373" y="1404"/>
                  </a:lnTo>
                  <a:lnTo>
                    <a:pt x="377" y="1407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4"/>
                  </a:lnTo>
                  <a:lnTo>
                    <a:pt x="398" y="1411"/>
                  </a:lnTo>
                  <a:lnTo>
                    <a:pt x="400" y="1408"/>
                  </a:lnTo>
                  <a:lnTo>
                    <a:pt x="404" y="1406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399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8"/>
                  </a:lnTo>
                  <a:lnTo>
                    <a:pt x="467" y="1427"/>
                  </a:lnTo>
                  <a:lnTo>
                    <a:pt x="480" y="1433"/>
                  </a:lnTo>
                  <a:lnTo>
                    <a:pt x="491" y="1440"/>
                  </a:lnTo>
                  <a:lnTo>
                    <a:pt x="500" y="1450"/>
                  </a:lnTo>
                  <a:lnTo>
                    <a:pt x="506" y="1460"/>
                  </a:lnTo>
                  <a:lnTo>
                    <a:pt x="513" y="1470"/>
                  </a:lnTo>
                  <a:lnTo>
                    <a:pt x="521" y="1472"/>
                  </a:lnTo>
                  <a:lnTo>
                    <a:pt x="526" y="1465"/>
                  </a:lnTo>
                  <a:lnTo>
                    <a:pt x="530" y="1458"/>
                  </a:lnTo>
                  <a:lnTo>
                    <a:pt x="536" y="1460"/>
                  </a:lnTo>
                  <a:lnTo>
                    <a:pt x="540" y="1467"/>
                  </a:lnTo>
                  <a:lnTo>
                    <a:pt x="542" y="1476"/>
                  </a:lnTo>
                  <a:lnTo>
                    <a:pt x="545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4"/>
                  </a:lnTo>
                  <a:lnTo>
                    <a:pt x="573" y="1496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8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2"/>
                  </a:lnTo>
                  <a:lnTo>
                    <a:pt x="603" y="1512"/>
                  </a:lnTo>
                  <a:lnTo>
                    <a:pt x="607" y="1511"/>
                  </a:lnTo>
                  <a:lnTo>
                    <a:pt x="614" y="1512"/>
                  </a:lnTo>
                  <a:lnTo>
                    <a:pt x="621" y="1516"/>
                  </a:lnTo>
                  <a:lnTo>
                    <a:pt x="628" y="1516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6"/>
                  </a:lnTo>
                  <a:lnTo>
                    <a:pt x="644" y="1525"/>
                  </a:lnTo>
                  <a:lnTo>
                    <a:pt x="652" y="1528"/>
                  </a:lnTo>
                  <a:lnTo>
                    <a:pt x="659" y="1527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3"/>
                  </a:lnTo>
                  <a:lnTo>
                    <a:pt x="684" y="1528"/>
                  </a:lnTo>
                  <a:lnTo>
                    <a:pt x="694" y="1533"/>
                  </a:lnTo>
                  <a:lnTo>
                    <a:pt x="709" y="1538"/>
                  </a:lnTo>
                  <a:lnTo>
                    <a:pt x="723" y="1537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2"/>
                  </a:lnTo>
                  <a:lnTo>
                    <a:pt x="757" y="1531"/>
                  </a:lnTo>
                  <a:lnTo>
                    <a:pt x="763" y="1528"/>
                  </a:lnTo>
                  <a:lnTo>
                    <a:pt x="768" y="1527"/>
                  </a:lnTo>
                  <a:lnTo>
                    <a:pt x="773" y="1527"/>
                  </a:lnTo>
                  <a:lnTo>
                    <a:pt x="775" y="1530"/>
                  </a:lnTo>
                  <a:lnTo>
                    <a:pt x="775" y="1540"/>
                  </a:lnTo>
                  <a:lnTo>
                    <a:pt x="777" y="1548"/>
                  </a:lnTo>
                  <a:lnTo>
                    <a:pt x="781" y="1556"/>
                  </a:lnTo>
                  <a:lnTo>
                    <a:pt x="781" y="1558"/>
                  </a:lnTo>
                  <a:lnTo>
                    <a:pt x="786" y="1553"/>
                  </a:lnTo>
                  <a:lnTo>
                    <a:pt x="793" y="1547"/>
                  </a:lnTo>
                  <a:lnTo>
                    <a:pt x="793" y="1538"/>
                  </a:lnTo>
                  <a:lnTo>
                    <a:pt x="796" y="1538"/>
                  </a:lnTo>
                  <a:lnTo>
                    <a:pt x="798" y="1537"/>
                  </a:lnTo>
                  <a:lnTo>
                    <a:pt x="800" y="1536"/>
                  </a:lnTo>
                  <a:lnTo>
                    <a:pt x="804" y="1532"/>
                  </a:lnTo>
                  <a:lnTo>
                    <a:pt x="806" y="1527"/>
                  </a:lnTo>
                  <a:lnTo>
                    <a:pt x="810" y="1524"/>
                  </a:lnTo>
                  <a:lnTo>
                    <a:pt x="817" y="1518"/>
                  </a:lnTo>
                  <a:lnTo>
                    <a:pt x="825" y="1513"/>
                  </a:lnTo>
                  <a:lnTo>
                    <a:pt x="833" y="1510"/>
                  </a:lnTo>
                  <a:lnTo>
                    <a:pt x="835" y="1512"/>
                  </a:lnTo>
                  <a:lnTo>
                    <a:pt x="837" y="1512"/>
                  </a:lnTo>
                  <a:lnTo>
                    <a:pt x="838" y="1515"/>
                  </a:lnTo>
                  <a:lnTo>
                    <a:pt x="842" y="1515"/>
                  </a:lnTo>
                  <a:lnTo>
                    <a:pt x="846" y="1514"/>
                  </a:lnTo>
                  <a:lnTo>
                    <a:pt x="848" y="1514"/>
                  </a:lnTo>
                  <a:lnTo>
                    <a:pt x="852" y="1518"/>
                  </a:lnTo>
                  <a:lnTo>
                    <a:pt x="855" y="1521"/>
                  </a:lnTo>
                  <a:lnTo>
                    <a:pt x="859" y="1523"/>
                  </a:lnTo>
                  <a:lnTo>
                    <a:pt x="867" y="1524"/>
                  </a:lnTo>
                  <a:lnTo>
                    <a:pt x="875" y="1526"/>
                  </a:lnTo>
                  <a:lnTo>
                    <a:pt x="883" y="1527"/>
                  </a:lnTo>
                  <a:lnTo>
                    <a:pt x="890" y="1527"/>
                  </a:lnTo>
                  <a:lnTo>
                    <a:pt x="898" y="1525"/>
                  </a:lnTo>
                  <a:lnTo>
                    <a:pt x="903" y="1525"/>
                  </a:lnTo>
                  <a:lnTo>
                    <a:pt x="910" y="1532"/>
                  </a:lnTo>
                  <a:lnTo>
                    <a:pt x="916" y="1540"/>
                  </a:lnTo>
                  <a:lnTo>
                    <a:pt x="922" y="1550"/>
                  </a:lnTo>
                  <a:lnTo>
                    <a:pt x="933" y="1544"/>
                  </a:lnTo>
                  <a:lnTo>
                    <a:pt x="946" y="1542"/>
                  </a:lnTo>
                  <a:lnTo>
                    <a:pt x="957" y="1539"/>
                  </a:lnTo>
                  <a:lnTo>
                    <a:pt x="970" y="1537"/>
                  </a:lnTo>
                  <a:lnTo>
                    <a:pt x="971" y="1524"/>
                  </a:lnTo>
                  <a:lnTo>
                    <a:pt x="983" y="1519"/>
                  </a:lnTo>
                  <a:lnTo>
                    <a:pt x="992" y="1510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7" y="1492"/>
                  </a:lnTo>
                  <a:lnTo>
                    <a:pt x="1017" y="1491"/>
                  </a:lnTo>
                  <a:lnTo>
                    <a:pt x="1027" y="1491"/>
                  </a:lnTo>
                  <a:lnTo>
                    <a:pt x="1036" y="1490"/>
                  </a:lnTo>
                  <a:lnTo>
                    <a:pt x="1049" y="1478"/>
                  </a:lnTo>
                  <a:lnTo>
                    <a:pt x="1061" y="1465"/>
                  </a:lnTo>
                  <a:lnTo>
                    <a:pt x="1075" y="1461"/>
                  </a:lnTo>
                  <a:lnTo>
                    <a:pt x="1083" y="1464"/>
                  </a:lnTo>
                  <a:lnTo>
                    <a:pt x="1093" y="1469"/>
                  </a:lnTo>
                  <a:lnTo>
                    <a:pt x="1102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7"/>
                  </a:lnTo>
                  <a:lnTo>
                    <a:pt x="1119" y="1470"/>
                  </a:lnTo>
                  <a:lnTo>
                    <a:pt x="1131" y="1460"/>
                  </a:lnTo>
                  <a:lnTo>
                    <a:pt x="1145" y="1459"/>
                  </a:lnTo>
                  <a:lnTo>
                    <a:pt x="1150" y="1467"/>
                  </a:lnTo>
                  <a:lnTo>
                    <a:pt x="1149" y="1477"/>
                  </a:lnTo>
                  <a:lnTo>
                    <a:pt x="1145" y="1487"/>
                  </a:lnTo>
                  <a:lnTo>
                    <a:pt x="1152" y="1483"/>
                  </a:lnTo>
                  <a:lnTo>
                    <a:pt x="1158" y="1480"/>
                  </a:lnTo>
                  <a:lnTo>
                    <a:pt x="1165" y="1477"/>
                  </a:lnTo>
                  <a:lnTo>
                    <a:pt x="1168" y="1482"/>
                  </a:lnTo>
                  <a:lnTo>
                    <a:pt x="1172" y="1486"/>
                  </a:lnTo>
                  <a:lnTo>
                    <a:pt x="1171" y="1491"/>
                  </a:lnTo>
                  <a:lnTo>
                    <a:pt x="1165" y="1497"/>
                  </a:lnTo>
                  <a:lnTo>
                    <a:pt x="1157" y="1501"/>
                  </a:lnTo>
                  <a:lnTo>
                    <a:pt x="1149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2" y="1510"/>
                  </a:lnTo>
                  <a:lnTo>
                    <a:pt x="1164" y="1510"/>
                  </a:lnTo>
                  <a:lnTo>
                    <a:pt x="1175" y="1510"/>
                  </a:lnTo>
                  <a:lnTo>
                    <a:pt x="1185" y="1514"/>
                  </a:lnTo>
                  <a:lnTo>
                    <a:pt x="1187" y="1509"/>
                  </a:lnTo>
                  <a:lnTo>
                    <a:pt x="1191" y="1510"/>
                  </a:lnTo>
                  <a:lnTo>
                    <a:pt x="1195" y="1511"/>
                  </a:lnTo>
                  <a:lnTo>
                    <a:pt x="1201" y="1515"/>
                  </a:lnTo>
                  <a:lnTo>
                    <a:pt x="1205" y="1517"/>
                  </a:lnTo>
                  <a:lnTo>
                    <a:pt x="1211" y="1516"/>
                  </a:lnTo>
                  <a:lnTo>
                    <a:pt x="1212" y="1513"/>
                  </a:lnTo>
                  <a:lnTo>
                    <a:pt x="1211" y="1511"/>
                  </a:lnTo>
                  <a:lnTo>
                    <a:pt x="1209" y="1508"/>
                  </a:lnTo>
                  <a:lnTo>
                    <a:pt x="1208" y="1504"/>
                  </a:lnTo>
                  <a:lnTo>
                    <a:pt x="1208" y="1501"/>
                  </a:lnTo>
                  <a:lnTo>
                    <a:pt x="1212" y="1501"/>
                  </a:lnTo>
                  <a:lnTo>
                    <a:pt x="1216" y="1500"/>
                  </a:lnTo>
                  <a:lnTo>
                    <a:pt x="1219" y="1501"/>
                  </a:lnTo>
                  <a:lnTo>
                    <a:pt x="1231" y="1509"/>
                  </a:lnTo>
                  <a:lnTo>
                    <a:pt x="1241" y="1519"/>
                  </a:lnTo>
                  <a:lnTo>
                    <a:pt x="1247" y="1531"/>
                  </a:lnTo>
                  <a:lnTo>
                    <a:pt x="1247" y="1539"/>
                  </a:lnTo>
                  <a:lnTo>
                    <a:pt x="1248" y="1547"/>
                  </a:lnTo>
                  <a:lnTo>
                    <a:pt x="1252" y="1552"/>
                  </a:lnTo>
                  <a:lnTo>
                    <a:pt x="1256" y="1552"/>
                  </a:lnTo>
                  <a:lnTo>
                    <a:pt x="1262" y="1550"/>
                  </a:lnTo>
                  <a:lnTo>
                    <a:pt x="1268" y="1551"/>
                  </a:lnTo>
                  <a:lnTo>
                    <a:pt x="1273" y="1557"/>
                  </a:lnTo>
                  <a:lnTo>
                    <a:pt x="1275" y="1565"/>
                  </a:lnTo>
                  <a:lnTo>
                    <a:pt x="1273" y="1574"/>
                  </a:lnTo>
                  <a:lnTo>
                    <a:pt x="1273" y="1586"/>
                  </a:lnTo>
                  <a:lnTo>
                    <a:pt x="1280" y="1597"/>
                  </a:lnTo>
                  <a:lnTo>
                    <a:pt x="1280" y="1611"/>
                  </a:lnTo>
                  <a:lnTo>
                    <a:pt x="1274" y="1621"/>
                  </a:lnTo>
                  <a:lnTo>
                    <a:pt x="1268" y="1632"/>
                  </a:lnTo>
                  <a:lnTo>
                    <a:pt x="1272" y="1643"/>
                  </a:lnTo>
                  <a:lnTo>
                    <a:pt x="1264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1" y="1671"/>
                  </a:lnTo>
                  <a:lnTo>
                    <a:pt x="1241" y="1679"/>
                  </a:lnTo>
                  <a:lnTo>
                    <a:pt x="1230" y="1684"/>
                  </a:lnTo>
                  <a:lnTo>
                    <a:pt x="1223" y="1692"/>
                  </a:lnTo>
                  <a:lnTo>
                    <a:pt x="1220" y="1701"/>
                  </a:lnTo>
                  <a:lnTo>
                    <a:pt x="1212" y="1709"/>
                  </a:lnTo>
                  <a:lnTo>
                    <a:pt x="1221" y="1724"/>
                  </a:lnTo>
                  <a:lnTo>
                    <a:pt x="1224" y="1740"/>
                  </a:lnTo>
                  <a:lnTo>
                    <a:pt x="1216" y="1755"/>
                  </a:lnTo>
                  <a:lnTo>
                    <a:pt x="1227" y="1749"/>
                  </a:lnTo>
                  <a:lnTo>
                    <a:pt x="1238" y="1743"/>
                  </a:lnTo>
                  <a:lnTo>
                    <a:pt x="1249" y="1738"/>
                  </a:lnTo>
                  <a:lnTo>
                    <a:pt x="1260" y="1734"/>
                  </a:lnTo>
                  <a:lnTo>
                    <a:pt x="1273" y="1734"/>
                  </a:lnTo>
                  <a:lnTo>
                    <a:pt x="1285" y="1739"/>
                  </a:lnTo>
                  <a:lnTo>
                    <a:pt x="1278" y="1748"/>
                  </a:lnTo>
                  <a:lnTo>
                    <a:pt x="1279" y="1761"/>
                  </a:lnTo>
                  <a:lnTo>
                    <a:pt x="1284" y="1772"/>
                  </a:lnTo>
                  <a:lnTo>
                    <a:pt x="1285" y="1777"/>
                  </a:lnTo>
                  <a:lnTo>
                    <a:pt x="1283" y="1783"/>
                  </a:lnTo>
                  <a:lnTo>
                    <a:pt x="1282" y="1788"/>
                  </a:lnTo>
                  <a:lnTo>
                    <a:pt x="1290" y="1793"/>
                  </a:lnTo>
                  <a:lnTo>
                    <a:pt x="1301" y="1791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1" y="1826"/>
                  </a:lnTo>
                  <a:lnTo>
                    <a:pt x="1303" y="1843"/>
                  </a:lnTo>
                  <a:lnTo>
                    <a:pt x="1313" y="1848"/>
                  </a:lnTo>
                  <a:lnTo>
                    <a:pt x="1325" y="1847"/>
                  </a:lnTo>
                  <a:lnTo>
                    <a:pt x="1336" y="1852"/>
                  </a:lnTo>
                  <a:lnTo>
                    <a:pt x="1337" y="1858"/>
                  </a:lnTo>
                  <a:lnTo>
                    <a:pt x="1335" y="1864"/>
                  </a:lnTo>
                  <a:lnTo>
                    <a:pt x="1331" y="1870"/>
                  </a:lnTo>
                  <a:lnTo>
                    <a:pt x="1335" y="1871"/>
                  </a:lnTo>
                  <a:lnTo>
                    <a:pt x="1339" y="1873"/>
                  </a:lnTo>
                  <a:lnTo>
                    <a:pt x="1344" y="1875"/>
                  </a:lnTo>
                  <a:lnTo>
                    <a:pt x="1344" y="1878"/>
                  </a:lnTo>
                  <a:lnTo>
                    <a:pt x="1341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4"/>
                  </a:lnTo>
                  <a:lnTo>
                    <a:pt x="1397" y="1870"/>
                  </a:lnTo>
                  <a:lnTo>
                    <a:pt x="1396" y="1873"/>
                  </a:lnTo>
                  <a:lnTo>
                    <a:pt x="1395" y="1875"/>
                  </a:lnTo>
                  <a:lnTo>
                    <a:pt x="1394" y="1876"/>
                  </a:lnTo>
                  <a:lnTo>
                    <a:pt x="1393" y="1881"/>
                  </a:lnTo>
                  <a:lnTo>
                    <a:pt x="1397" y="1885"/>
                  </a:lnTo>
                  <a:lnTo>
                    <a:pt x="1406" y="1892"/>
                  </a:lnTo>
                  <a:lnTo>
                    <a:pt x="1413" y="1896"/>
                  </a:lnTo>
                  <a:lnTo>
                    <a:pt x="1417" y="1897"/>
                  </a:lnTo>
                  <a:lnTo>
                    <a:pt x="1422" y="1897"/>
                  </a:lnTo>
                  <a:lnTo>
                    <a:pt x="1429" y="1894"/>
                  </a:lnTo>
                  <a:lnTo>
                    <a:pt x="1431" y="1886"/>
                  </a:lnTo>
                  <a:lnTo>
                    <a:pt x="1430" y="1878"/>
                  </a:lnTo>
                  <a:lnTo>
                    <a:pt x="1429" y="1873"/>
                  </a:lnTo>
                  <a:lnTo>
                    <a:pt x="1426" y="1870"/>
                  </a:lnTo>
                  <a:lnTo>
                    <a:pt x="1421" y="1863"/>
                  </a:lnTo>
                  <a:lnTo>
                    <a:pt x="1417" y="1853"/>
                  </a:lnTo>
                  <a:lnTo>
                    <a:pt x="1416" y="1846"/>
                  </a:lnTo>
                  <a:lnTo>
                    <a:pt x="1416" y="1842"/>
                  </a:lnTo>
                  <a:lnTo>
                    <a:pt x="1414" y="1841"/>
                  </a:lnTo>
                  <a:lnTo>
                    <a:pt x="1412" y="1838"/>
                  </a:lnTo>
                  <a:lnTo>
                    <a:pt x="1410" y="1833"/>
                  </a:lnTo>
                  <a:lnTo>
                    <a:pt x="1413" y="1827"/>
                  </a:lnTo>
                  <a:lnTo>
                    <a:pt x="1418" y="1824"/>
                  </a:lnTo>
                  <a:lnTo>
                    <a:pt x="1425" y="1823"/>
                  </a:lnTo>
                  <a:lnTo>
                    <a:pt x="1431" y="1824"/>
                  </a:lnTo>
                  <a:lnTo>
                    <a:pt x="1437" y="1827"/>
                  </a:lnTo>
                  <a:lnTo>
                    <a:pt x="1445" y="1831"/>
                  </a:lnTo>
                  <a:lnTo>
                    <a:pt x="1451" y="1833"/>
                  </a:lnTo>
                  <a:lnTo>
                    <a:pt x="1452" y="1832"/>
                  </a:lnTo>
                  <a:lnTo>
                    <a:pt x="1453" y="1829"/>
                  </a:lnTo>
                  <a:lnTo>
                    <a:pt x="1453" y="1828"/>
                  </a:lnTo>
                  <a:lnTo>
                    <a:pt x="1455" y="1820"/>
                  </a:lnTo>
                  <a:lnTo>
                    <a:pt x="1456" y="1816"/>
                  </a:lnTo>
                  <a:lnTo>
                    <a:pt x="1459" y="1809"/>
                  </a:lnTo>
                  <a:lnTo>
                    <a:pt x="1462" y="1808"/>
                  </a:lnTo>
                  <a:lnTo>
                    <a:pt x="1465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3" y="1822"/>
                  </a:lnTo>
                  <a:lnTo>
                    <a:pt x="1491" y="1823"/>
                  </a:lnTo>
                  <a:lnTo>
                    <a:pt x="1496" y="1818"/>
                  </a:lnTo>
                  <a:lnTo>
                    <a:pt x="1500" y="1811"/>
                  </a:lnTo>
                  <a:lnTo>
                    <a:pt x="1505" y="1806"/>
                  </a:lnTo>
                  <a:lnTo>
                    <a:pt x="1517" y="1806"/>
                  </a:lnTo>
                  <a:lnTo>
                    <a:pt x="1526" y="1811"/>
                  </a:lnTo>
                  <a:lnTo>
                    <a:pt x="1531" y="1821"/>
                  </a:lnTo>
                  <a:lnTo>
                    <a:pt x="1539" y="1818"/>
                  </a:lnTo>
                  <a:lnTo>
                    <a:pt x="1546" y="1815"/>
                  </a:lnTo>
                  <a:lnTo>
                    <a:pt x="1551" y="1808"/>
                  </a:lnTo>
                  <a:lnTo>
                    <a:pt x="1553" y="1810"/>
                  </a:lnTo>
                  <a:lnTo>
                    <a:pt x="1554" y="1812"/>
                  </a:lnTo>
                  <a:lnTo>
                    <a:pt x="1554" y="1815"/>
                  </a:lnTo>
                  <a:lnTo>
                    <a:pt x="1557" y="1815"/>
                  </a:lnTo>
                  <a:lnTo>
                    <a:pt x="1559" y="1815"/>
                  </a:lnTo>
                  <a:lnTo>
                    <a:pt x="1561" y="1814"/>
                  </a:lnTo>
                  <a:lnTo>
                    <a:pt x="1561" y="1813"/>
                  </a:lnTo>
                  <a:lnTo>
                    <a:pt x="1561" y="1810"/>
                  </a:lnTo>
                  <a:lnTo>
                    <a:pt x="1562" y="1809"/>
                  </a:lnTo>
                  <a:lnTo>
                    <a:pt x="1568" y="1806"/>
                  </a:lnTo>
                  <a:lnTo>
                    <a:pt x="1574" y="1807"/>
                  </a:lnTo>
                  <a:lnTo>
                    <a:pt x="1581" y="1808"/>
                  </a:lnTo>
                  <a:lnTo>
                    <a:pt x="1579" y="1795"/>
                  </a:lnTo>
                  <a:lnTo>
                    <a:pt x="1582" y="1784"/>
                  </a:lnTo>
                  <a:lnTo>
                    <a:pt x="1592" y="1777"/>
                  </a:lnTo>
                  <a:lnTo>
                    <a:pt x="1603" y="1776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0" y="1798"/>
                  </a:lnTo>
                  <a:lnTo>
                    <a:pt x="1641" y="1798"/>
                  </a:lnTo>
                  <a:lnTo>
                    <a:pt x="1654" y="1801"/>
                  </a:lnTo>
                  <a:lnTo>
                    <a:pt x="1661" y="1801"/>
                  </a:lnTo>
                  <a:lnTo>
                    <a:pt x="1669" y="1798"/>
                  </a:lnTo>
                  <a:lnTo>
                    <a:pt x="1675" y="1799"/>
                  </a:lnTo>
                  <a:lnTo>
                    <a:pt x="1679" y="1801"/>
                  </a:lnTo>
                  <a:lnTo>
                    <a:pt x="1683" y="1803"/>
                  </a:lnTo>
                  <a:lnTo>
                    <a:pt x="1683" y="1808"/>
                  </a:lnTo>
                  <a:lnTo>
                    <a:pt x="1678" y="1819"/>
                  </a:lnTo>
                  <a:lnTo>
                    <a:pt x="1675" y="1831"/>
                  </a:lnTo>
                  <a:lnTo>
                    <a:pt x="1670" y="1841"/>
                  </a:lnTo>
                  <a:lnTo>
                    <a:pt x="1681" y="1845"/>
                  </a:lnTo>
                  <a:lnTo>
                    <a:pt x="1688" y="1853"/>
                  </a:lnTo>
                  <a:lnTo>
                    <a:pt x="1697" y="1860"/>
                  </a:lnTo>
                  <a:lnTo>
                    <a:pt x="1706" y="1863"/>
                  </a:lnTo>
                  <a:lnTo>
                    <a:pt x="1716" y="1864"/>
                  </a:lnTo>
                  <a:lnTo>
                    <a:pt x="1726" y="1865"/>
                  </a:lnTo>
                  <a:lnTo>
                    <a:pt x="1729" y="1866"/>
                  </a:lnTo>
                  <a:lnTo>
                    <a:pt x="1731" y="1868"/>
                  </a:lnTo>
                  <a:lnTo>
                    <a:pt x="1734" y="1870"/>
                  </a:lnTo>
                  <a:lnTo>
                    <a:pt x="1736" y="1874"/>
                  </a:lnTo>
                  <a:lnTo>
                    <a:pt x="1749" y="1876"/>
                  </a:lnTo>
                  <a:lnTo>
                    <a:pt x="1747" y="1879"/>
                  </a:lnTo>
                  <a:lnTo>
                    <a:pt x="1760" y="1881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0"/>
                  </a:lnTo>
                  <a:lnTo>
                    <a:pt x="1819" y="1910"/>
                  </a:lnTo>
                  <a:lnTo>
                    <a:pt x="1821" y="1920"/>
                  </a:lnTo>
                  <a:lnTo>
                    <a:pt x="1831" y="1938"/>
                  </a:lnTo>
                  <a:lnTo>
                    <a:pt x="1849" y="1947"/>
                  </a:lnTo>
                  <a:lnTo>
                    <a:pt x="1869" y="1945"/>
                  </a:lnTo>
                  <a:lnTo>
                    <a:pt x="1870" y="1943"/>
                  </a:lnTo>
                  <a:lnTo>
                    <a:pt x="1867" y="1940"/>
                  </a:lnTo>
                  <a:lnTo>
                    <a:pt x="1869" y="1934"/>
                  </a:lnTo>
                  <a:lnTo>
                    <a:pt x="1859" y="1930"/>
                  </a:lnTo>
                  <a:lnTo>
                    <a:pt x="1850" y="1928"/>
                  </a:lnTo>
                  <a:lnTo>
                    <a:pt x="1848" y="1921"/>
                  </a:lnTo>
                  <a:lnTo>
                    <a:pt x="1854" y="1900"/>
                  </a:lnTo>
                  <a:lnTo>
                    <a:pt x="1865" y="1882"/>
                  </a:lnTo>
                  <a:lnTo>
                    <a:pt x="1878" y="1868"/>
                  </a:lnTo>
                  <a:lnTo>
                    <a:pt x="1901" y="1863"/>
                  </a:lnTo>
                  <a:lnTo>
                    <a:pt x="1926" y="1867"/>
                  </a:lnTo>
                  <a:lnTo>
                    <a:pt x="1950" y="1862"/>
                  </a:lnTo>
                  <a:lnTo>
                    <a:pt x="1960" y="1856"/>
                  </a:lnTo>
                  <a:lnTo>
                    <a:pt x="1971" y="1853"/>
                  </a:lnTo>
                  <a:lnTo>
                    <a:pt x="1981" y="1849"/>
                  </a:lnTo>
                  <a:lnTo>
                    <a:pt x="1991" y="1839"/>
                  </a:lnTo>
                  <a:lnTo>
                    <a:pt x="2000" y="1828"/>
                  </a:lnTo>
                  <a:lnTo>
                    <a:pt x="2014" y="1826"/>
                  </a:lnTo>
                  <a:lnTo>
                    <a:pt x="2016" y="1828"/>
                  </a:lnTo>
                  <a:lnTo>
                    <a:pt x="2019" y="1831"/>
                  </a:lnTo>
                  <a:lnTo>
                    <a:pt x="2021" y="1833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1"/>
                  </a:lnTo>
                  <a:lnTo>
                    <a:pt x="2027" y="1826"/>
                  </a:lnTo>
                  <a:lnTo>
                    <a:pt x="2034" y="1821"/>
                  </a:lnTo>
                  <a:lnTo>
                    <a:pt x="2034" y="1823"/>
                  </a:lnTo>
                  <a:lnTo>
                    <a:pt x="2035" y="1825"/>
                  </a:lnTo>
                  <a:lnTo>
                    <a:pt x="2042" y="1825"/>
                  </a:lnTo>
                  <a:lnTo>
                    <a:pt x="2047" y="1823"/>
                  </a:lnTo>
                  <a:lnTo>
                    <a:pt x="2056" y="1821"/>
                  </a:lnTo>
                  <a:lnTo>
                    <a:pt x="2064" y="1824"/>
                  </a:lnTo>
                  <a:lnTo>
                    <a:pt x="2067" y="1831"/>
                  </a:lnTo>
                  <a:lnTo>
                    <a:pt x="2077" y="1824"/>
                  </a:lnTo>
                  <a:lnTo>
                    <a:pt x="2090" y="1818"/>
                  </a:lnTo>
                  <a:lnTo>
                    <a:pt x="2104" y="1816"/>
                  </a:lnTo>
                  <a:lnTo>
                    <a:pt x="2106" y="1815"/>
                  </a:lnTo>
                  <a:lnTo>
                    <a:pt x="2109" y="1813"/>
                  </a:lnTo>
                  <a:lnTo>
                    <a:pt x="2114" y="1811"/>
                  </a:lnTo>
                  <a:lnTo>
                    <a:pt x="2128" y="1810"/>
                  </a:lnTo>
                  <a:lnTo>
                    <a:pt x="2141" y="1811"/>
                  </a:lnTo>
                  <a:lnTo>
                    <a:pt x="2152" y="1810"/>
                  </a:lnTo>
                  <a:lnTo>
                    <a:pt x="2170" y="1797"/>
                  </a:lnTo>
                  <a:lnTo>
                    <a:pt x="2183" y="1780"/>
                  </a:lnTo>
                  <a:lnTo>
                    <a:pt x="2199" y="1771"/>
                  </a:lnTo>
                  <a:lnTo>
                    <a:pt x="2217" y="1765"/>
                  </a:lnTo>
                  <a:lnTo>
                    <a:pt x="2230" y="1753"/>
                  </a:lnTo>
                  <a:lnTo>
                    <a:pt x="2246" y="1742"/>
                  </a:lnTo>
                  <a:lnTo>
                    <a:pt x="2244" y="1739"/>
                  </a:lnTo>
                  <a:lnTo>
                    <a:pt x="2242" y="1735"/>
                  </a:lnTo>
                  <a:lnTo>
                    <a:pt x="2243" y="1732"/>
                  </a:lnTo>
                  <a:lnTo>
                    <a:pt x="2262" y="1711"/>
                  </a:lnTo>
                  <a:lnTo>
                    <a:pt x="2286" y="1697"/>
                  </a:lnTo>
                  <a:lnTo>
                    <a:pt x="2315" y="1691"/>
                  </a:lnTo>
                  <a:lnTo>
                    <a:pt x="2322" y="1689"/>
                  </a:lnTo>
                  <a:lnTo>
                    <a:pt x="2328" y="1684"/>
                  </a:lnTo>
                  <a:lnTo>
                    <a:pt x="2335" y="1679"/>
                  </a:lnTo>
                  <a:lnTo>
                    <a:pt x="2324" y="1677"/>
                  </a:lnTo>
                  <a:lnTo>
                    <a:pt x="2314" y="1682"/>
                  </a:lnTo>
                  <a:lnTo>
                    <a:pt x="2307" y="1681"/>
                  </a:lnTo>
                  <a:lnTo>
                    <a:pt x="2307" y="1672"/>
                  </a:lnTo>
                  <a:lnTo>
                    <a:pt x="2315" y="1664"/>
                  </a:lnTo>
                  <a:lnTo>
                    <a:pt x="2317" y="1653"/>
                  </a:lnTo>
                  <a:lnTo>
                    <a:pt x="2316" y="1649"/>
                  </a:lnTo>
                  <a:lnTo>
                    <a:pt x="2315" y="1646"/>
                  </a:lnTo>
                  <a:lnTo>
                    <a:pt x="2316" y="1643"/>
                  </a:lnTo>
                  <a:lnTo>
                    <a:pt x="2329" y="1625"/>
                  </a:lnTo>
                  <a:lnTo>
                    <a:pt x="2342" y="1609"/>
                  </a:lnTo>
                  <a:lnTo>
                    <a:pt x="2356" y="1591"/>
                  </a:lnTo>
                  <a:lnTo>
                    <a:pt x="2372" y="1568"/>
                  </a:lnTo>
                  <a:lnTo>
                    <a:pt x="2387" y="1545"/>
                  </a:lnTo>
                  <a:lnTo>
                    <a:pt x="2407" y="1525"/>
                  </a:lnTo>
                  <a:lnTo>
                    <a:pt x="2413" y="1516"/>
                  </a:lnTo>
                  <a:lnTo>
                    <a:pt x="2414" y="1506"/>
                  </a:lnTo>
                  <a:lnTo>
                    <a:pt x="2420" y="1497"/>
                  </a:lnTo>
                  <a:lnTo>
                    <a:pt x="2421" y="1494"/>
                  </a:lnTo>
                  <a:lnTo>
                    <a:pt x="2420" y="1491"/>
                  </a:lnTo>
                  <a:lnTo>
                    <a:pt x="2417" y="1487"/>
                  </a:lnTo>
                  <a:lnTo>
                    <a:pt x="2427" y="1469"/>
                  </a:lnTo>
                  <a:lnTo>
                    <a:pt x="2437" y="1451"/>
                  </a:lnTo>
                  <a:lnTo>
                    <a:pt x="2451" y="1436"/>
                  </a:lnTo>
                  <a:lnTo>
                    <a:pt x="2455" y="1435"/>
                  </a:lnTo>
                  <a:lnTo>
                    <a:pt x="2460" y="1433"/>
                  </a:lnTo>
                  <a:lnTo>
                    <a:pt x="2462" y="1431"/>
                  </a:lnTo>
                  <a:lnTo>
                    <a:pt x="2463" y="1419"/>
                  </a:lnTo>
                  <a:lnTo>
                    <a:pt x="2461" y="1405"/>
                  </a:lnTo>
                  <a:lnTo>
                    <a:pt x="2464" y="1392"/>
                  </a:lnTo>
                  <a:lnTo>
                    <a:pt x="2450" y="1386"/>
                  </a:lnTo>
                  <a:lnTo>
                    <a:pt x="2438" y="1382"/>
                  </a:lnTo>
                  <a:lnTo>
                    <a:pt x="2424" y="1378"/>
                  </a:lnTo>
                  <a:lnTo>
                    <a:pt x="2424" y="1372"/>
                  </a:lnTo>
                  <a:lnTo>
                    <a:pt x="2420" y="1368"/>
                  </a:lnTo>
                  <a:lnTo>
                    <a:pt x="2419" y="1362"/>
                  </a:lnTo>
                  <a:lnTo>
                    <a:pt x="2421" y="1350"/>
                  </a:lnTo>
                  <a:lnTo>
                    <a:pt x="2425" y="1338"/>
                  </a:lnTo>
                  <a:lnTo>
                    <a:pt x="2434" y="1329"/>
                  </a:lnTo>
                  <a:lnTo>
                    <a:pt x="2426" y="1328"/>
                  </a:lnTo>
                  <a:lnTo>
                    <a:pt x="2418" y="1328"/>
                  </a:lnTo>
                  <a:lnTo>
                    <a:pt x="2410" y="1328"/>
                  </a:lnTo>
                  <a:lnTo>
                    <a:pt x="2398" y="1329"/>
                  </a:lnTo>
                  <a:lnTo>
                    <a:pt x="2385" y="1332"/>
                  </a:lnTo>
                  <a:lnTo>
                    <a:pt x="2371" y="1332"/>
                  </a:lnTo>
                  <a:lnTo>
                    <a:pt x="2358" y="1324"/>
                  </a:lnTo>
                  <a:lnTo>
                    <a:pt x="2344" y="1316"/>
                  </a:lnTo>
                  <a:lnTo>
                    <a:pt x="2328" y="1313"/>
                  </a:lnTo>
                  <a:lnTo>
                    <a:pt x="2346" y="1313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8" y="1311"/>
                  </a:lnTo>
                  <a:lnTo>
                    <a:pt x="2395" y="1301"/>
                  </a:lnTo>
                  <a:lnTo>
                    <a:pt x="2405" y="1294"/>
                  </a:lnTo>
                  <a:lnTo>
                    <a:pt x="2412" y="1292"/>
                  </a:lnTo>
                  <a:lnTo>
                    <a:pt x="2417" y="1290"/>
                  </a:lnTo>
                  <a:lnTo>
                    <a:pt x="2424" y="1286"/>
                  </a:lnTo>
                  <a:lnTo>
                    <a:pt x="2413" y="1282"/>
                  </a:lnTo>
                  <a:lnTo>
                    <a:pt x="2404" y="1277"/>
                  </a:lnTo>
                  <a:lnTo>
                    <a:pt x="2396" y="1272"/>
                  </a:lnTo>
                  <a:lnTo>
                    <a:pt x="2385" y="1254"/>
                  </a:lnTo>
                  <a:lnTo>
                    <a:pt x="2375" y="1235"/>
                  </a:lnTo>
                  <a:lnTo>
                    <a:pt x="2369" y="1214"/>
                  </a:lnTo>
                  <a:lnTo>
                    <a:pt x="2359" y="1206"/>
                  </a:lnTo>
                  <a:lnTo>
                    <a:pt x="2344" y="1203"/>
                  </a:lnTo>
                  <a:lnTo>
                    <a:pt x="2332" y="1194"/>
                  </a:lnTo>
                  <a:lnTo>
                    <a:pt x="2329" y="1185"/>
                  </a:lnTo>
                  <a:lnTo>
                    <a:pt x="2327" y="1176"/>
                  </a:lnTo>
                  <a:lnTo>
                    <a:pt x="2324" y="1168"/>
                  </a:lnTo>
                  <a:lnTo>
                    <a:pt x="2319" y="1165"/>
                  </a:lnTo>
                  <a:lnTo>
                    <a:pt x="2312" y="1163"/>
                  </a:lnTo>
                  <a:lnTo>
                    <a:pt x="2305" y="1161"/>
                  </a:lnTo>
                  <a:lnTo>
                    <a:pt x="2311" y="1156"/>
                  </a:lnTo>
                  <a:lnTo>
                    <a:pt x="2312" y="1148"/>
                  </a:lnTo>
                  <a:lnTo>
                    <a:pt x="2315" y="1141"/>
                  </a:lnTo>
                  <a:lnTo>
                    <a:pt x="2324" y="1136"/>
                  </a:lnTo>
                  <a:lnTo>
                    <a:pt x="2333" y="1130"/>
                  </a:lnTo>
                  <a:lnTo>
                    <a:pt x="2341" y="1124"/>
                  </a:lnTo>
                  <a:lnTo>
                    <a:pt x="2348" y="1110"/>
                  </a:lnTo>
                  <a:lnTo>
                    <a:pt x="2351" y="1096"/>
                  </a:lnTo>
                  <a:lnTo>
                    <a:pt x="2348" y="1082"/>
                  </a:lnTo>
                  <a:lnTo>
                    <a:pt x="2362" y="1088"/>
                  </a:lnTo>
                  <a:lnTo>
                    <a:pt x="2375" y="1085"/>
                  </a:lnTo>
                  <a:lnTo>
                    <a:pt x="2386" y="1077"/>
                  </a:lnTo>
                  <a:lnTo>
                    <a:pt x="2417" y="1051"/>
                  </a:lnTo>
                  <a:lnTo>
                    <a:pt x="2455" y="1039"/>
                  </a:lnTo>
                  <a:lnTo>
                    <a:pt x="2497" y="1035"/>
                  </a:lnTo>
                  <a:lnTo>
                    <a:pt x="2498" y="1031"/>
                  </a:lnTo>
                  <a:lnTo>
                    <a:pt x="2500" y="1020"/>
                  </a:lnTo>
                  <a:lnTo>
                    <a:pt x="2505" y="1008"/>
                  </a:lnTo>
                  <a:lnTo>
                    <a:pt x="2508" y="1002"/>
                  </a:lnTo>
                  <a:lnTo>
                    <a:pt x="2508" y="995"/>
                  </a:lnTo>
                  <a:lnTo>
                    <a:pt x="2505" y="991"/>
                  </a:lnTo>
                  <a:lnTo>
                    <a:pt x="2482" y="981"/>
                  </a:lnTo>
                  <a:lnTo>
                    <a:pt x="2457" y="979"/>
                  </a:lnTo>
                  <a:lnTo>
                    <a:pt x="2437" y="992"/>
                  </a:lnTo>
                  <a:lnTo>
                    <a:pt x="2410" y="975"/>
                  </a:lnTo>
                  <a:lnTo>
                    <a:pt x="2378" y="970"/>
                  </a:lnTo>
                  <a:lnTo>
                    <a:pt x="2345" y="970"/>
                  </a:lnTo>
                  <a:lnTo>
                    <a:pt x="2345" y="977"/>
                  </a:lnTo>
                  <a:lnTo>
                    <a:pt x="2345" y="985"/>
                  </a:lnTo>
                  <a:lnTo>
                    <a:pt x="2344" y="992"/>
                  </a:lnTo>
                  <a:lnTo>
                    <a:pt x="2334" y="1010"/>
                  </a:lnTo>
                  <a:lnTo>
                    <a:pt x="2317" y="1020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5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8" y="963"/>
                  </a:lnTo>
                  <a:lnTo>
                    <a:pt x="2236" y="959"/>
                  </a:lnTo>
                  <a:lnTo>
                    <a:pt x="2226" y="949"/>
                  </a:lnTo>
                  <a:lnTo>
                    <a:pt x="2222" y="937"/>
                  </a:lnTo>
                  <a:lnTo>
                    <a:pt x="2227" y="924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2" y="910"/>
                  </a:lnTo>
                  <a:lnTo>
                    <a:pt x="2254" y="913"/>
                  </a:lnTo>
                  <a:lnTo>
                    <a:pt x="2258" y="914"/>
                  </a:lnTo>
                  <a:lnTo>
                    <a:pt x="2259" y="917"/>
                  </a:lnTo>
                  <a:lnTo>
                    <a:pt x="2272" y="915"/>
                  </a:lnTo>
                  <a:lnTo>
                    <a:pt x="2285" y="912"/>
                  </a:lnTo>
                  <a:lnTo>
                    <a:pt x="2299" y="910"/>
                  </a:lnTo>
                  <a:lnTo>
                    <a:pt x="2302" y="905"/>
                  </a:lnTo>
                  <a:lnTo>
                    <a:pt x="2307" y="903"/>
                  </a:lnTo>
                  <a:lnTo>
                    <a:pt x="2311" y="900"/>
                  </a:lnTo>
                  <a:lnTo>
                    <a:pt x="2311" y="890"/>
                  </a:lnTo>
                  <a:lnTo>
                    <a:pt x="2313" y="880"/>
                  </a:lnTo>
                  <a:lnTo>
                    <a:pt x="2316" y="872"/>
                  </a:lnTo>
                  <a:lnTo>
                    <a:pt x="2328" y="862"/>
                  </a:lnTo>
                  <a:lnTo>
                    <a:pt x="2343" y="857"/>
                  </a:lnTo>
                  <a:lnTo>
                    <a:pt x="2358" y="850"/>
                  </a:lnTo>
                  <a:lnTo>
                    <a:pt x="2370" y="841"/>
                  </a:lnTo>
                  <a:lnTo>
                    <a:pt x="2382" y="832"/>
                  </a:lnTo>
                  <a:lnTo>
                    <a:pt x="2395" y="826"/>
                  </a:lnTo>
                  <a:lnTo>
                    <a:pt x="2405" y="824"/>
                  </a:lnTo>
                  <a:lnTo>
                    <a:pt x="2416" y="824"/>
                  </a:lnTo>
                  <a:lnTo>
                    <a:pt x="2426" y="826"/>
                  </a:lnTo>
                  <a:lnTo>
                    <a:pt x="2429" y="832"/>
                  </a:lnTo>
                  <a:lnTo>
                    <a:pt x="2427" y="841"/>
                  </a:lnTo>
                  <a:lnTo>
                    <a:pt x="2426" y="851"/>
                  </a:lnTo>
                  <a:lnTo>
                    <a:pt x="2424" y="858"/>
                  </a:lnTo>
                  <a:lnTo>
                    <a:pt x="2419" y="865"/>
                  </a:lnTo>
                  <a:lnTo>
                    <a:pt x="2413" y="869"/>
                  </a:lnTo>
                  <a:lnTo>
                    <a:pt x="2405" y="873"/>
                  </a:lnTo>
                  <a:lnTo>
                    <a:pt x="2398" y="877"/>
                  </a:lnTo>
                  <a:lnTo>
                    <a:pt x="2396" y="883"/>
                  </a:lnTo>
                  <a:lnTo>
                    <a:pt x="2404" y="895"/>
                  </a:lnTo>
                  <a:lnTo>
                    <a:pt x="2419" y="896"/>
                  </a:lnTo>
                  <a:lnTo>
                    <a:pt x="2437" y="897"/>
                  </a:lnTo>
                  <a:lnTo>
                    <a:pt x="2428" y="914"/>
                  </a:lnTo>
                  <a:lnTo>
                    <a:pt x="2414" y="927"/>
                  </a:lnTo>
                  <a:lnTo>
                    <a:pt x="2398" y="937"/>
                  </a:lnTo>
                  <a:lnTo>
                    <a:pt x="2405" y="942"/>
                  </a:lnTo>
                  <a:lnTo>
                    <a:pt x="2414" y="944"/>
                  </a:lnTo>
                  <a:lnTo>
                    <a:pt x="2418" y="940"/>
                  </a:lnTo>
                  <a:lnTo>
                    <a:pt x="2432" y="915"/>
                  </a:lnTo>
                  <a:lnTo>
                    <a:pt x="2455" y="902"/>
                  </a:lnTo>
                  <a:lnTo>
                    <a:pt x="2479" y="892"/>
                  </a:lnTo>
                  <a:lnTo>
                    <a:pt x="2504" y="881"/>
                  </a:lnTo>
                  <a:lnTo>
                    <a:pt x="2530" y="872"/>
                  </a:lnTo>
                  <a:lnTo>
                    <a:pt x="2557" y="864"/>
                  </a:lnTo>
                  <a:lnTo>
                    <a:pt x="2557" y="860"/>
                  </a:lnTo>
                  <a:lnTo>
                    <a:pt x="2555" y="854"/>
                  </a:lnTo>
                  <a:lnTo>
                    <a:pt x="2555" y="848"/>
                  </a:lnTo>
                  <a:lnTo>
                    <a:pt x="2558" y="843"/>
                  </a:lnTo>
                  <a:lnTo>
                    <a:pt x="2592" y="818"/>
                  </a:lnTo>
                  <a:lnTo>
                    <a:pt x="2630" y="801"/>
                  </a:lnTo>
                  <a:lnTo>
                    <a:pt x="2664" y="775"/>
                  </a:lnTo>
                  <a:lnTo>
                    <a:pt x="2668" y="768"/>
                  </a:lnTo>
                  <a:lnTo>
                    <a:pt x="2670" y="760"/>
                  </a:lnTo>
                  <a:lnTo>
                    <a:pt x="2675" y="756"/>
                  </a:lnTo>
                  <a:lnTo>
                    <a:pt x="2683" y="754"/>
                  </a:lnTo>
                  <a:lnTo>
                    <a:pt x="2689" y="752"/>
                  </a:lnTo>
                  <a:lnTo>
                    <a:pt x="2693" y="752"/>
                  </a:lnTo>
                  <a:lnTo>
                    <a:pt x="2702" y="768"/>
                  </a:lnTo>
                  <a:lnTo>
                    <a:pt x="2717" y="776"/>
                  </a:lnTo>
                  <a:lnTo>
                    <a:pt x="2734" y="776"/>
                  </a:lnTo>
                  <a:lnTo>
                    <a:pt x="2746" y="769"/>
                  </a:lnTo>
                  <a:lnTo>
                    <a:pt x="2744" y="757"/>
                  </a:lnTo>
                  <a:lnTo>
                    <a:pt x="2744" y="743"/>
                  </a:lnTo>
                  <a:lnTo>
                    <a:pt x="2754" y="739"/>
                  </a:lnTo>
                  <a:lnTo>
                    <a:pt x="2769" y="739"/>
                  </a:lnTo>
                  <a:lnTo>
                    <a:pt x="2782" y="737"/>
                  </a:lnTo>
                  <a:lnTo>
                    <a:pt x="2791" y="730"/>
                  </a:lnTo>
                  <a:lnTo>
                    <a:pt x="2799" y="723"/>
                  </a:lnTo>
                  <a:lnTo>
                    <a:pt x="2808" y="716"/>
                  </a:lnTo>
                  <a:lnTo>
                    <a:pt x="2813" y="715"/>
                  </a:lnTo>
                  <a:lnTo>
                    <a:pt x="2821" y="716"/>
                  </a:lnTo>
                  <a:lnTo>
                    <a:pt x="2826" y="714"/>
                  </a:lnTo>
                  <a:lnTo>
                    <a:pt x="2829" y="707"/>
                  </a:lnTo>
                  <a:lnTo>
                    <a:pt x="2830" y="698"/>
                  </a:lnTo>
                  <a:lnTo>
                    <a:pt x="2832" y="690"/>
                  </a:lnTo>
                  <a:lnTo>
                    <a:pt x="2844" y="685"/>
                  </a:lnTo>
                  <a:lnTo>
                    <a:pt x="2857" y="695"/>
                  </a:lnTo>
                  <a:lnTo>
                    <a:pt x="2870" y="705"/>
                  </a:lnTo>
                  <a:lnTo>
                    <a:pt x="2876" y="701"/>
                  </a:lnTo>
                  <a:lnTo>
                    <a:pt x="2885" y="694"/>
                  </a:lnTo>
                  <a:lnTo>
                    <a:pt x="2893" y="686"/>
                  </a:lnTo>
                  <a:lnTo>
                    <a:pt x="2897" y="678"/>
                  </a:lnTo>
                  <a:lnTo>
                    <a:pt x="2902" y="669"/>
                  </a:lnTo>
                  <a:lnTo>
                    <a:pt x="2907" y="660"/>
                  </a:lnTo>
                  <a:lnTo>
                    <a:pt x="2909" y="649"/>
                  </a:lnTo>
                  <a:lnTo>
                    <a:pt x="2906" y="648"/>
                  </a:lnTo>
                  <a:lnTo>
                    <a:pt x="2906" y="645"/>
                  </a:lnTo>
                  <a:lnTo>
                    <a:pt x="2903" y="643"/>
                  </a:lnTo>
                  <a:lnTo>
                    <a:pt x="2906" y="617"/>
                  </a:lnTo>
                  <a:lnTo>
                    <a:pt x="2902" y="592"/>
                  </a:lnTo>
                  <a:lnTo>
                    <a:pt x="2890" y="570"/>
                  </a:lnTo>
                  <a:lnTo>
                    <a:pt x="2905" y="562"/>
                  </a:lnTo>
                  <a:lnTo>
                    <a:pt x="2918" y="550"/>
                  </a:lnTo>
                  <a:lnTo>
                    <a:pt x="2929" y="537"/>
                  </a:lnTo>
                  <a:lnTo>
                    <a:pt x="2939" y="545"/>
                  </a:lnTo>
                  <a:lnTo>
                    <a:pt x="2950" y="549"/>
                  </a:lnTo>
                  <a:lnTo>
                    <a:pt x="2962" y="547"/>
                  </a:lnTo>
                  <a:lnTo>
                    <a:pt x="2963" y="551"/>
                  </a:lnTo>
                  <a:lnTo>
                    <a:pt x="2966" y="553"/>
                  </a:lnTo>
                  <a:lnTo>
                    <a:pt x="2969" y="553"/>
                  </a:lnTo>
                  <a:lnTo>
                    <a:pt x="2978" y="554"/>
                  </a:lnTo>
                  <a:lnTo>
                    <a:pt x="2987" y="552"/>
                  </a:lnTo>
                  <a:lnTo>
                    <a:pt x="2995" y="550"/>
                  </a:lnTo>
                  <a:lnTo>
                    <a:pt x="2996" y="538"/>
                  </a:lnTo>
                  <a:lnTo>
                    <a:pt x="3001" y="528"/>
                  </a:lnTo>
                  <a:lnTo>
                    <a:pt x="3011" y="520"/>
                  </a:lnTo>
                  <a:lnTo>
                    <a:pt x="3012" y="517"/>
                  </a:lnTo>
                  <a:lnTo>
                    <a:pt x="3012" y="512"/>
                  </a:lnTo>
                  <a:lnTo>
                    <a:pt x="3012" y="508"/>
                  </a:lnTo>
                  <a:lnTo>
                    <a:pt x="3019" y="499"/>
                  </a:lnTo>
                  <a:lnTo>
                    <a:pt x="3026" y="491"/>
                  </a:lnTo>
                  <a:lnTo>
                    <a:pt x="3034" y="483"/>
                  </a:lnTo>
                  <a:lnTo>
                    <a:pt x="3036" y="478"/>
                  </a:lnTo>
                  <a:lnTo>
                    <a:pt x="3035" y="471"/>
                  </a:lnTo>
                  <a:lnTo>
                    <a:pt x="3032" y="464"/>
                  </a:lnTo>
                  <a:lnTo>
                    <a:pt x="3038" y="460"/>
                  </a:lnTo>
                  <a:lnTo>
                    <a:pt x="3043" y="454"/>
                  </a:lnTo>
                  <a:lnTo>
                    <a:pt x="3047" y="447"/>
                  </a:lnTo>
                  <a:lnTo>
                    <a:pt x="3049" y="441"/>
                  </a:lnTo>
                  <a:lnTo>
                    <a:pt x="3046" y="434"/>
                  </a:lnTo>
                  <a:lnTo>
                    <a:pt x="3046" y="430"/>
                  </a:lnTo>
                  <a:lnTo>
                    <a:pt x="3054" y="421"/>
                  </a:lnTo>
                  <a:lnTo>
                    <a:pt x="3055" y="412"/>
                  </a:lnTo>
                  <a:lnTo>
                    <a:pt x="3055" y="402"/>
                  </a:lnTo>
                  <a:lnTo>
                    <a:pt x="3067" y="401"/>
                  </a:lnTo>
                  <a:lnTo>
                    <a:pt x="3078" y="396"/>
                  </a:lnTo>
                  <a:lnTo>
                    <a:pt x="3079" y="386"/>
                  </a:lnTo>
                  <a:lnTo>
                    <a:pt x="3076" y="377"/>
                  </a:lnTo>
                  <a:lnTo>
                    <a:pt x="3073" y="368"/>
                  </a:lnTo>
                  <a:lnTo>
                    <a:pt x="3073" y="359"/>
                  </a:lnTo>
                  <a:lnTo>
                    <a:pt x="3074" y="355"/>
                  </a:lnTo>
                  <a:lnTo>
                    <a:pt x="3075" y="350"/>
                  </a:lnTo>
                  <a:lnTo>
                    <a:pt x="3078" y="346"/>
                  </a:lnTo>
                  <a:lnTo>
                    <a:pt x="3070" y="344"/>
                  </a:lnTo>
                  <a:lnTo>
                    <a:pt x="3064" y="341"/>
                  </a:lnTo>
                  <a:lnTo>
                    <a:pt x="3059" y="341"/>
                  </a:lnTo>
                  <a:lnTo>
                    <a:pt x="3037" y="348"/>
                  </a:lnTo>
                  <a:lnTo>
                    <a:pt x="3014" y="350"/>
                  </a:lnTo>
                  <a:lnTo>
                    <a:pt x="2993" y="354"/>
                  </a:lnTo>
                  <a:lnTo>
                    <a:pt x="2984" y="360"/>
                  </a:lnTo>
                  <a:lnTo>
                    <a:pt x="2976" y="367"/>
                  </a:lnTo>
                  <a:lnTo>
                    <a:pt x="2966" y="372"/>
                  </a:lnTo>
                  <a:lnTo>
                    <a:pt x="2968" y="374"/>
                  </a:lnTo>
                  <a:lnTo>
                    <a:pt x="2969" y="376"/>
                  </a:lnTo>
                  <a:lnTo>
                    <a:pt x="2969" y="378"/>
                  </a:lnTo>
                  <a:lnTo>
                    <a:pt x="2951" y="385"/>
                  </a:lnTo>
                  <a:lnTo>
                    <a:pt x="2933" y="385"/>
                  </a:lnTo>
                  <a:lnTo>
                    <a:pt x="2916" y="380"/>
                  </a:lnTo>
                  <a:lnTo>
                    <a:pt x="2909" y="378"/>
                  </a:lnTo>
                  <a:lnTo>
                    <a:pt x="2903" y="380"/>
                  </a:lnTo>
                  <a:lnTo>
                    <a:pt x="2895" y="385"/>
                  </a:lnTo>
                  <a:lnTo>
                    <a:pt x="2892" y="386"/>
                  </a:lnTo>
                  <a:lnTo>
                    <a:pt x="2889" y="385"/>
                  </a:lnTo>
                  <a:lnTo>
                    <a:pt x="2887" y="382"/>
                  </a:lnTo>
                  <a:lnTo>
                    <a:pt x="2885" y="378"/>
                  </a:lnTo>
                  <a:lnTo>
                    <a:pt x="2884" y="374"/>
                  </a:lnTo>
                  <a:lnTo>
                    <a:pt x="2890" y="372"/>
                  </a:lnTo>
                  <a:lnTo>
                    <a:pt x="2885" y="368"/>
                  </a:lnTo>
                  <a:lnTo>
                    <a:pt x="2880" y="366"/>
                  </a:lnTo>
                  <a:lnTo>
                    <a:pt x="2877" y="362"/>
                  </a:lnTo>
                  <a:lnTo>
                    <a:pt x="2877" y="348"/>
                  </a:lnTo>
                  <a:lnTo>
                    <a:pt x="2874" y="335"/>
                  </a:lnTo>
                  <a:lnTo>
                    <a:pt x="2866" y="322"/>
                  </a:lnTo>
                  <a:lnTo>
                    <a:pt x="2871" y="319"/>
                  </a:lnTo>
                  <a:lnTo>
                    <a:pt x="2872" y="313"/>
                  </a:lnTo>
                  <a:lnTo>
                    <a:pt x="2876" y="309"/>
                  </a:lnTo>
                  <a:lnTo>
                    <a:pt x="2864" y="310"/>
                  </a:lnTo>
                  <a:lnTo>
                    <a:pt x="2852" y="307"/>
                  </a:lnTo>
                  <a:lnTo>
                    <a:pt x="2840" y="302"/>
                  </a:lnTo>
                  <a:lnTo>
                    <a:pt x="2836" y="298"/>
                  </a:lnTo>
                  <a:lnTo>
                    <a:pt x="2834" y="292"/>
                  </a:lnTo>
                  <a:lnTo>
                    <a:pt x="2832" y="286"/>
                  </a:lnTo>
                  <a:lnTo>
                    <a:pt x="2822" y="278"/>
                  </a:lnTo>
                  <a:lnTo>
                    <a:pt x="2808" y="277"/>
                  </a:lnTo>
                  <a:lnTo>
                    <a:pt x="2795" y="274"/>
                  </a:lnTo>
                  <a:lnTo>
                    <a:pt x="2787" y="270"/>
                  </a:lnTo>
                  <a:lnTo>
                    <a:pt x="2779" y="267"/>
                  </a:lnTo>
                  <a:lnTo>
                    <a:pt x="2770" y="264"/>
                  </a:lnTo>
                  <a:lnTo>
                    <a:pt x="2759" y="262"/>
                  </a:lnTo>
                  <a:lnTo>
                    <a:pt x="2747" y="262"/>
                  </a:lnTo>
                  <a:lnTo>
                    <a:pt x="2734" y="263"/>
                  </a:lnTo>
                  <a:lnTo>
                    <a:pt x="2731" y="257"/>
                  </a:lnTo>
                  <a:lnTo>
                    <a:pt x="2725" y="255"/>
                  </a:lnTo>
                  <a:lnTo>
                    <a:pt x="2721" y="250"/>
                  </a:lnTo>
                  <a:lnTo>
                    <a:pt x="2722" y="242"/>
                  </a:lnTo>
                  <a:lnTo>
                    <a:pt x="2725" y="235"/>
                  </a:lnTo>
                  <a:lnTo>
                    <a:pt x="2724" y="227"/>
                  </a:lnTo>
                  <a:lnTo>
                    <a:pt x="2719" y="223"/>
                  </a:lnTo>
                  <a:lnTo>
                    <a:pt x="2715" y="219"/>
                  </a:lnTo>
                  <a:lnTo>
                    <a:pt x="2713" y="217"/>
                  </a:lnTo>
                  <a:lnTo>
                    <a:pt x="2708" y="191"/>
                  </a:lnTo>
                  <a:lnTo>
                    <a:pt x="2696" y="170"/>
                  </a:lnTo>
                  <a:lnTo>
                    <a:pt x="2679" y="150"/>
                  </a:lnTo>
                  <a:lnTo>
                    <a:pt x="2679" y="145"/>
                  </a:lnTo>
                  <a:lnTo>
                    <a:pt x="2684" y="140"/>
                  </a:lnTo>
                  <a:lnTo>
                    <a:pt x="2685" y="135"/>
                  </a:lnTo>
                  <a:lnTo>
                    <a:pt x="2673" y="113"/>
                  </a:lnTo>
                  <a:lnTo>
                    <a:pt x="2663" y="91"/>
                  </a:lnTo>
                  <a:lnTo>
                    <a:pt x="2653" y="70"/>
                  </a:lnTo>
                  <a:lnTo>
                    <a:pt x="2647" y="59"/>
                  </a:lnTo>
                  <a:lnTo>
                    <a:pt x="2640" y="49"/>
                  </a:lnTo>
                  <a:lnTo>
                    <a:pt x="2631" y="40"/>
                  </a:lnTo>
                  <a:lnTo>
                    <a:pt x="2626" y="37"/>
                  </a:lnTo>
                  <a:lnTo>
                    <a:pt x="2619" y="35"/>
                  </a:lnTo>
                  <a:lnTo>
                    <a:pt x="2612" y="33"/>
                  </a:lnTo>
                  <a:lnTo>
                    <a:pt x="2600" y="32"/>
                  </a:lnTo>
                  <a:lnTo>
                    <a:pt x="2588" y="32"/>
                  </a:lnTo>
                  <a:lnTo>
                    <a:pt x="2577" y="31"/>
                  </a:lnTo>
                  <a:lnTo>
                    <a:pt x="2566" y="25"/>
                  </a:lnTo>
                  <a:lnTo>
                    <a:pt x="2555" y="18"/>
                  </a:lnTo>
                  <a:lnTo>
                    <a:pt x="2544" y="11"/>
                  </a:lnTo>
                  <a:lnTo>
                    <a:pt x="2527" y="4"/>
                  </a:lnTo>
                  <a:lnTo>
                    <a:pt x="2507" y="0"/>
                  </a:lnTo>
                  <a:lnTo>
                    <a:pt x="2487" y="1"/>
                  </a:lnTo>
                  <a:lnTo>
                    <a:pt x="2484" y="1"/>
                  </a:lnTo>
                  <a:lnTo>
                    <a:pt x="2480" y="3"/>
                  </a:lnTo>
                  <a:lnTo>
                    <a:pt x="2476" y="5"/>
                  </a:lnTo>
                  <a:lnTo>
                    <a:pt x="2466" y="5"/>
                  </a:lnTo>
                  <a:lnTo>
                    <a:pt x="2456" y="0"/>
                  </a:lnTo>
                  <a:lnTo>
                    <a:pt x="2448" y="1"/>
                  </a:lnTo>
                  <a:lnTo>
                    <a:pt x="2428" y="9"/>
                  </a:lnTo>
                  <a:lnTo>
                    <a:pt x="2407" y="10"/>
                  </a:lnTo>
                  <a:lnTo>
                    <a:pt x="2389" y="15"/>
                  </a:lnTo>
                  <a:lnTo>
                    <a:pt x="2375" y="25"/>
                  </a:lnTo>
                  <a:lnTo>
                    <a:pt x="2361" y="36"/>
                  </a:lnTo>
                  <a:lnTo>
                    <a:pt x="2345" y="44"/>
                  </a:lnTo>
                  <a:lnTo>
                    <a:pt x="2342" y="49"/>
                  </a:lnTo>
                  <a:lnTo>
                    <a:pt x="2342" y="56"/>
                  </a:lnTo>
                  <a:lnTo>
                    <a:pt x="2345" y="59"/>
                  </a:lnTo>
                  <a:lnTo>
                    <a:pt x="2365" y="65"/>
                  </a:lnTo>
                  <a:lnTo>
                    <a:pt x="2375" y="81"/>
                  </a:lnTo>
                  <a:lnTo>
                    <a:pt x="2377" y="98"/>
                  </a:lnTo>
                  <a:lnTo>
                    <a:pt x="2369" y="113"/>
                  </a:lnTo>
                  <a:lnTo>
                    <a:pt x="2353" y="127"/>
                  </a:lnTo>
                  <a:lnTo>
                    <a:pt x="2338" y="144"/>
                  </a:lnTo>
                  <a:lnTo>
                    <a:pt x="2334" y="155"/>
                  </a:lnTo>
                  <a:lnTo>
                    <a:pt x="2331" y="166"/>
                  </a:lnTo>
                  <a:lnTo>
                    <a:pt x="2324" y="173"/>
                  </a:lnTo>
                  <a:lnTo>
                    <a:pt x="2320" y="176"/>
                  </a:lnTo>
                  <a:lnTo>
                    <a:pt x="2316" y="181"/>
                  </a:lnTo>
                  <a:lnTo>
                    <a:pt x="2313" y="185"/>
                  </a:lnTo>
                  <a:lnTo>
                    <a:pt x="2307" y="198"/>
                  </a:lnTo>
                  <a:lnTo>
                    <a:pt x="2310" y="214"/>
                  </a:lnTo>
                  <a:lnTo>
                    <a:pt x="2308" y="230"/>
                  </a:lnTo>
                  <a:lnTo>
                    <a:pt x="2310" y="230"/>
                  </a:lnTo>
                  <a:lnTo>
                    <a:pt x="2313" y="230"/>
                  </a:lnTo>
                  <a:lnTo>
                    <a:pt x="2315" y="230"/>
                  </a:lnTo>
                  <a:lnTo>
                    <a:pt x="2310" y="233"/>
                  </a:lnTo>
                  <a:lnTo>
                    <a:pt x="2306" y="237"/>
                  </a:lnTo>
                  <a:lnTo>
                    <a:pt x="2302" y="239"/>
                  </a:lnTo>
                  <a:lnTo>
                    <a:pt x="2280" y="242"/>
                  </a:lnTo>
                  <a:lnTo>
                    <a:pt x="2261" y="251"/>
                  </a:lnTo>
                  <a:lnTo>
                    <a:pt x="2241" y="261"/>
                  </a:lnTo>
                  <a:lnTo>
                    <a:pt x="2222" y="262"/>
                  </a:lnTo>
                  <a:lnTo>
                    <a:pt x="2203" y="254"/>
                  </a:lnTo>
                  <a:lnTo>
                    <a:pt x="2183" y="246"/>
                  </a:lnTo>
                  <a:lnTo>
                    <a:pt x="2172" y="241"/>
                  </a:lnTo>
                  <a:lnTo>
                    <a:pt x="2175" y="250"/>
                  </a:lnTo>
                  <a:lnTo>
                    <a:pt x="2174" y="257"/>
                  </a:lnTo>
                  <a:lnTo>
                    <a:pt x="2172" y="263"/>
                  </a:lnTo>
                  <a:lnTo>
                    <a:pt x="2161" y="283"/>
                  </a:lnTo>
                  <a:lnTo>
                    <a:pt x="2148" y="302"/>
                  </a:lnTo>
                  <a:lnTo>
                    <a:pt x="2137" y="322"/>
                  </a:lnTo>
                  <a:lnTo>
                    <a:pt x="2136" y="329"/>
                  </a:lnTo>
                  <a:lnTo>
                    <a:pt x="2138" y="336"/>
                  </a:lnTo>
                  <a:lnTo>
                    <a:pt x="2140" y="342"/>
                  </a:lnTo>
                  <a:lnTo>
                    <a:pt x="2130" y="344"/>
                  </a:lnTo>
                  <a:lnTo>
                    <a:pt x="2121" y="347"/>
                  </a:lnTo>
                  <a:lnTo>
                    <a:pt x="2116" y="351"/>
                  </a:lnTo>
                  <a:lnTo>
                    <a:pt x="2113" y="362"/>
                  </a:lnTo>
                  <a:lnTo>
                    <a:pt x="2118" y="374"/>
                  </a:lnTo>
                  <a:lnTo>
                    <a:pt x="2130" y="380"/>
                  </a:lnTo>
                  <a:lnTo>
                    <a:pt x="2136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4"/>
                  </a:lnTo>
                  <a:lnTo>
                    <a:pt x="2181" y="375"/>
                  </a:lnTo>
                  <a:lnTo>
                    <a:pt x="2195" y="380"/>
                  </a:lnTo>
                  <a:lnTo>
                    <a:pt x="2197" y="382"/>
                  </a:lnTo>
                  <a:lnTo>
                    <a:pt x="2200" y="384"/>
                  </a:lnTo>
                  <a:lnTo>
                    <a:pt x="2203" y="385"/>
                  </a:lnTo>
                  <a:lnTo>
                    <a:pt x="2214" y="384"/>
                  </a:lnTo>
                  <a:lnTo>
                    <a:pt x="2223" y="378"/>
                  </a:lnTo>
                  <a:lnTo>
                    <a:pt x="2233" y="373"/>
                  </a:lnTo>
                  <a:lnTo>
                    <a:pt x="2259" y="370"/>
                  </a:lnTo>
                  <a:lnTo>
                    <a:pt x="2283" y="380"/>
                  </a:lnTo>
                  <a:lnTo>
                    <a:pt x="2304" y="400"/>
                  </a:lnTo>
                  <a:lnTo>
                    <a:pt x="2309" y="405"/>
                  </a:lnTo>
                  <a:lnTo>
                    <a:pt x="2317" y="409"/>
                  </a:lnTo>
                  <a:lnTo>
                    <a:pt x="2324" y="413"/>
                  </a:lnTo>
                  <a:lnTo>
                    <a:pt x="2332" y="420"/>
                  </a:lnTo>
                  <a:lnTo>
                    <a:pt x="2338" y="430"/>
                  </a:lnTo>
                  <a:lnTo>
                    <a:pt x="2337" y="441"/>
                  </a:lnTo>
                  <a:lnTo>
                    <a:pt x="2335" y="445"/>
                  </a:lnTo>
                  <a:lnTo>
                    <a:pt x="2332" y="449"/>
                  </a:lnTo>
                  <a:lnTo>
                    <a:pt x="2328" y="451"/>
                  </a:lnTo>
                  <a:lnTo>
                    <a:pt x="2314" y="451"/>
                  </a:lnTo>
                  <a:lnTo>
                    <a:pt x="2301" y="450"/>
                  </a:lnTo>
                  <a:lnTo>
                    <a:pt x="2288" y="446"/>
                  </a:lnTo>
                  <a:lnTo>
                    <a:pt x="2265" y="444"/>
                  </a:lnTo>
                  <a:lnTo>
                    <a:pt x="2243" y="451"/>
                  </a:lnTo>
                  <a:lnTo>
                    <a:pt x="2219" y="456"/>
                  </a:lnTo>
                  <a:lnTo>
                    <a:pt x="2214" y="459"/>
                  </a:lnTo>
                  <a:lnTo>
                    <a:pt x="2208" y="465"/>
                  </a:lnTo>
                  <a:lnTo>
                    <a:pt x="2202" y="470"/>
                  </a:lnTo>
                  <a:lnTo>
                    <a:pt x="2196" y="471"/>
                  </a:lnTo>
                  <a:lnTo>
                    <a:pt x="2190" y="471"/>
                  </a:lnTo>
                  <a:lnTo>
                    <a:pt x="2183" y="471"/>
                  </a:lnTo>
                  <a:lnTo>
                    <a:pt x="2165" y="487"/>
                  </a:lnTo>
                  <a:lnTo>
                    <a:pt x="2153" y="507"/>
                  </a:lnTo>
                  <a:lnTo>
                    <a:pt x="2139" y="526"/>
                  </a:lnTo>
                  <a:lnTo>
                    <a:pt x="2120" y="532"/>
                  </a:lnTo>
                  <a:lnTo>
                    <a:pt x="2101" y="531"/>
                  </a:lnTo>
                  <a:lnTo>
                    <a:pt x="2081" y="532"/>
                  </a:lnTo>
                  <a:lnTo>
                    <a:pt x="2071" y="537"/>
                  </a:lnTo>
                  <a:lnTo>
                    <a:pt x="2063" y="545"/>
                  </a:lnTo>
                  <a:lnTo>
                    <a:pt x="2055" y="555"/>
                  </a:lnTo>
                  <a:lnTo>
                    <a:pt x="2040" y="567"/>
                  </a:lnTo>
                  <a:lnTo>
                    <a:pt x="2020" y="571"/>
                  </a:lnTo>
                  <a:lnTo>
                    <a:pt x="1998" y="569"/>
                  </a:lnTo>
                  <a:lnTo>
                    <a:pt x="1978" y="562"/>
                  </a:lnTo>
                  <a:lnTo>
                    <a:pt x="1958" y="555"/>
                  </a:lnTo>
                  <a:lnTo>
                    <a:pt x="1939" y="556"/>
                  </a:lnTo>
                  <a:lnTo>
                    <a:pt x="1922" y="567"/>
                  </a:lnTo>
                  <a:lnTo>
                    <a:pt x="1913" y="586"/>
                  </a:lnTo>
                  <a:lnTo>
                    <a:pt x="1917" y="605"/>
                  </a:lnTo>
                  <a:lnTo>
                    <a:pt x="1929" y="617"/>
                  </a:lnTo>
                  <a:lnTo>
                    <a:pt x="1940" y="629"/>
                  </a:lnTo>
                  <a:lnTo>
                    <a:pt x="1939" y="641"/>
                  </a:lnTo>
                  <a:lnTo>
                    <a:pt x="1924" y="650"/>
                  </a:lnTo>
                  <a:lnTo>
                    <a:pt x="1905" y="657"/>
                  </a:lnTo>
                  <a:lnTo>
                    <a:pt x="1887" y="665"/>
                  </a:lnTo>
                  <a:lnTo>
                    <a:pt x="1869" y="680"/>
                  </a:lnTo>
                  <a:lnTo>
                    <a:pt x="1852" y="697"/>
                  </a:lnTo>
                  <a:lnTo>
                    <a:pt x="1835" y="708"/>
                  </a:lnTo>
                  <a:lnTo>
                    <a:pt x="1776" y="719"/>
                  </a:lnTo>
                  <a:lnTo>
                    <a:pt x="1715" y="719"/>
                  </a:lnTo>
                  <a:lnTo>
                    <a:pt x="1656" y="728"/>
                  </a:lnTo>
                  <a:lnTo>
                    <a:pt x="1636" y="740"/>
                  </a:lnTo>
                  <a:lnTo>
                    <a:pt x="1618" y="755"/>
                  </a:lnTo>
                  <a:lnTo>
                    <a:pt x="1595" y="761"/>
                  </a:lnTo>
                  <a:lnTo>
                    <a:pt x="1585" y="758"/>
                  </a:lnTo>
                  <a:lnTo>
                    <a:pt x="1576" y="755"/>
                  </a:lnTo>
                  <a:lnTo>
                    <a:pt x="1565" y="757"/>
                  </a:lnTo>
                  <a:lnTo>
                    <a:pt x="1563" y="756"/>
                  </a:lnTo>
                  <a:lnTo>
                    <a:pt x="1562" y="751"/>
                  </a:lnTo>
                  <a:lnTo>
                    <a:pt x="1559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6" y="716"/>
                  </a:lnTo>
                  <a:lnTo>
                    <a:pt x="1404" y="706"/>
                  </a:lnTo>
                  <a:lnTo>
                    <a:pt x="1381" y="701"/>
                  </a:lnTo>
                  <a:lnTo>
                    <a:pt x="1357" y="701"/>
                  </a:lnTo>
                  <a:lnTo>
                    <a:pt x="1290" y="708"/>
                  </a:lnTo>
                  <a:lnTo>
                    <a:pt x="1221" y="707"/>
                  </a:lnTo>
                  <a:lnTo>
                    <a:pt x="1161" y="685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8" y="611"/>
                  </a:lnTo>
                  <a:lnTo>
                    <a:pt x="1099" y="604"/>
                  </a:lnTo>
                  <a:lnTo>
                    <a:pt x="1083" y="598"/>
                  </a:lnTo>
                  <a:lnTo>
                    <a:pt x="1067" y="593"/>
                  </a:lnTo>
                  <a:lnTo>
                    <a:pt x="1051" y="588"/>
                  </a:lnTo>
                  <a:lnTo>
                    <a:pt x="1036" y="580"/>
                  </a:lnTo>
                  <a:lnTo>
                    <a:pt x="1023" y="569"/>
                  </a:lnTo>
                  <a:lnTo>
                    <a:pt x="1007" y="561"/>
                  </a:lnTo>
                  <a:lnTo>
                    <a:pt x="966" y="556"/>
                  </a:lnTo>
                  <a:lnTo>
                    <a:pt x="925" y="554"/>
                  </a:lnTo>
                  <a:lnTo>
                    <a:pt x="886" y="546"/>
                  </a:lnTo>
                  <a:lnTo>
                    <a:pt x="877" y="540"/>
                  </a:lnTo>
                  <a:lnTo>
                    <a:pt x="872" y="531"/>
                  </a:lnTo>
                  <a:lnTo>
                    <a:pt x="869" y="520"/>
                  </a:lnTo>
                  <a:lnTo>
                    <a:pt x="873" y="505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4" y="453"/>
                  </a:lnTo>
                  <a:lnTo>
                    <a:pt x="892" y="444"/>
                  </a:lnTo>
                  <a:lnTo>
                    <a:pt x="879" y="426"/>
                  </a:lnTo>
                  <a:lnTo>
                    <a:pt x="869" y="405"/>
                  </a:lnTo>
                  <a:lnTo>
                    <a:pt x="858" y="386"/>
                  </a:lnTo>
                  <a:lnTo>
                    <a:pt x="838" y="372"/>
                  </a:lnTo>
                  <a:lnTo>
                    <a:pt x="814" y="369"/>
                  </a:lnTo>
                  <a:lnTo>
                    <a:pt x="790" y="364"/>
                  </a:lnTo>
                  <a:lnTo>
                    <a:pt x="770" y="352"/>
                  </a:lnTo>
                  <a:lnTo>
                    <a:pt x="752" y="337"/>
                  </a:lnTo>
                  <a:lnTo>
                    <a:pt x="733" y="322"/>
                  </a:lnTo>
                  <a:lnTo>
                    <a:pt x="737" y="321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1"/>
                  </a:lnTo>
                  <a:lnTo>
                    <a:pt x="731" y="309"/>
                  </a:lnTo>
                  <a:lnTo>
                    <a:pt x="734" y="292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26520" y="1752480"/>
              <a:ext cx="3248640" cy="2433600"/>
            </a:xfrm>
            <a:custGeom>
              <a:avLst/>
              <a:gdLst/>
              <a:ahLst/>
              <a:rect l="l" t="t" r="r" b="b"/>
              <a:pathLst>
                <a:path w="3080" h="1948">
                  <a:moveTo>
                    <a:pt x="734" y="292"/>
                  </a:moveTo>
                  <a:lnTo>
                    <a:pt x="723" y="289"/>
                  </a:lnTo>
                  <a:lnTo>
                    <a:pt x="712" y="295"/>
                  </a:lnTo>
                  <a:lnTo>
                    <a:pt x="701" y="295"/>
                  </a:lnTo>
                  <a:lnTo>
                    <a:pt x="695" y="293"/>
                  </a:lnTo>
                  <a:lnTo>
                    <a:pt x="689" y="293"/>
                  </a:lnTo>
                  <a:lnTo>
                    <a:pt x="684" y="294"/>
                  </a:lnTo>
                  <a:lnTo>
                    <a:pt x="681" y="295"/>
                  </a:lnTo>
                  <a:lnTo>
                    <a:pt x="679" y="297"/>
                  </a:lnTo>
                  <a:lnTo>
                    <a:pt x="678" y="300"/>
                  </a:lnTo>
                  <a:lnTo>
                    <a:pt x="679" y="303"/>
                  </a:lnTo>
                  <a:lnTo>
                    <a:pt x="682" y="306"/>
                  </a:lnTo>
                  <a:lnTo>
                    <a:pt x="683" y="310"/>
                  </a:lnTo>
                  <a:lnTo>
                    <a:pt x="677" y="318"/>
                  </a:lnTo>
                  <a:lnTo>
                    <a:pt x="668" y="325"/>
                  </a:lnTo>
                  <a:lnTo>
                    <a:pt x="659" y="331"/>
                  </a:lnTo>
                  <a:lnTo>
                    <a:pt x="650" y="333"/>
                  </a:lnTo>
                  <a:lnTo>
                    <a:pt x="639" y="332"/>
                  </a:lnTo>
                  <a:lnTo>
                    <a:pt x="628" y="334"/>
                  </a:lnTo>
                  <a:lnTo>
                    <a:pt x="623" y="336"/>
                  </a:lnTo>
                  <a:lnTo>
                    <a:pt x="617" y="338"/>
                  </a:lnTo>
                  <a:lnTo>
                    <a:pt x="615" y="343"/>
                  </a:lnTo>
                  <a:lnTo>
                    <a:pt x="614" y="356"/>
                  </a:lnTo>
                  <a:lnTo>
                    <a:pt x="616" y="368"/>
                  </a:lnTo>
                  <a:lnTo>
                    <a:pt x="623" y="380"/>
                  </a:lnTo>
                  <a:lnTo>
                    <a:pt x="623" y="383"/>
                  </a:lnTo>
                  <a:lnTo>
                    <a:pt x="621" y="386"/>
                  </a:lnTo>
                  <a:lnTo>
                    <a:pt x="619" y="389"/>
                  </a:lnTo>
                  <a:lnTo>
                    <a:pt x="620" y="397"/>
                  </a:lnTo>
                  <a:lnTo>
                    <a:pt x="625" y="404"/>
                  </a:lnTo>
                  <a:lnTo>
                    <a:pt x="626" y="411"/>
                  </a:lnTo>
                  <a:lnTo>
                    <a:pt x="613" y="425"/>
                  </a:lnTo>
                  <a:lnTo>
                    <a:pt x="598" y="434"/>
                  </a:lnTo>
                  <a:lnTo>
                    <a:pt x="583" y="435"/>
                  </a:lnTo>
                  <a:lnTo>
                    <a:pt x="557" y="429"/>
                  </a:lnTo>
                  <a:lnTo>
                    <a:pt x="530" y="426"/>
                  </a:lnTo>
                  <a:lnTo>
                    <a:pt x="504" y="418"/>
                  </a:lnTo>
                  <a:lnTo>
                    <a:pt x="494" y="418"/>
                  </a:lnTo>
                  <a:lnTo>
                    <a:pt x="482" y="424"/>
                  </a:lnTo>
                  <a:lnTo>
                    <a:pt x="477" y="435"/>
                  </a:lnTo>
                  <a:lnTo>
                    <a:pt x="474" y="464"/>
                  </a:lnTo>
                  <a:lnTo>
                    <a:pt x="466" y="491"/>
                  </a:lnTo>
                  <a:lnTo>
                    <a:pt x="456" y="518"/>
                  </a:lnTo>
                  <a:lnTo>
                    <a:pt x="463" y="520"/>
                  </a:lnTo>
                  <a:lnTo>
                    <a:pt x="467" y="526"/>
                  </a:lnTo>
                  <a:lnTo>
                    <a:pt x="472" y="532"/>
                  </a:lnTo>
                  <a:lnTo>
                    <a:pt x="473" y="536"/>
                  </a:lnTo>
                  <a:lnTo>
                    <a:pt x="473" y="540"/>
                  </a:lnTo>
                  <a:lnTo>
                    <a:pt x="469" y="543"/>
                  </a:lnTo>
                  <a:lnTo>
                    <a:pt x="451" y="542"/>
                  </a:lnTo>
                  <a:lnTo>
                    <a:pt x="435" y="538"/>
                  </a:lnTo>
                  <a:lnTo>
                    <a:pt x="418" y="531"/>
                  </a:lnTo>
                  <a:lnTo>
                    <a:pt x="401" y="528"/>
                  </a:lnTo>
                  <a:lnTo>
                    <a:pt x="383" y="534"/>
                  </a:lnTo>
                  <a:lnTo>
                    <a:pt x="364" y="539"/>
                  </a:lnTo>
                  <a:lnTo>
                    <a:pt x="354" y="541"/>
                  </a:lnTo>
                  <a:lnTo>
                    <a:pt x="345" y="545"/>
                  </a:lnTo>
                  <a:lnTo>
                    <a:pt x="338" y="551"/>
                  </a:lnTo>
                  <a:lnTo>
                    <a:pt x="337" y="562"/>
                  </a:lnTo>
                  <a:lnTo>
                    <a:pt x="345" y="567"/>
                  </a:lnTo>
                  <a:lnTo>
                    <a:pt x="357" y="567"/>
                  </a:lnTo>
                  <a:lnTo>
                    <a:pt x="356" y="584"/>
                  </a:lnTo>
                  <a:lnTo>
                    <a:pt x="355" y="601"/>
                  </a:lnTo>
                  <a:lnTo>
                    <a:pt x="363" y="617"/>
                  </a:lnTo>
                  <a:lnTo>
                    <a:pt x="363" y="622"/>
                  </a:lnTo>
                  <a:lnTo>
                    <a:pt x="360" y="627"/>
                  </a:lnTo>
                  <a:lnTo>
                    <a:pt x="360" y="633"/>
                  </a:lnTo>
                  <a:lnTo>
                    <a:pt x="369" y="642"/>
                  </a:lnTo>
                  <a:lnTo>
                    <a:pt x="377" y="652"/>
                  </a:lnTo>
                  <a:lnTo>
                    <a:pt x="378" y="663"/>
                  </a:lnTo>
                  <a:lnTo>
                    <a:pt x="369" y="673"/>
                  </a:lnTo>
                  <a:lnTo>
                    <a:pt x="355" y="678"/>
                  </a:lnTo>
                  <a:lnTo>
                    <a:pt x="349" y="689"/>
                  </a:lnTo>
                  <a:lnTo>
                    <a:pt x="351" y="699"/>
                  </a:lnTo>
                  <a:lnTo>
                    <a:pt x="355" y="708"/>
                  </a:lnTo>
                  <a:lnTo>
                    <a:pt x="357" y="719"/>
                  </a:lnTo>
                  <a:lnTo>
                    <a:pt x="354" y="726"/>
                  </a:lnTo>
                  <a:lnTo>
                    <a:pt x="349" y="733"/>
                  </a:lnTo>
                  <a:lnTo>
                    <a:pt x="344" y="738"/>
                  </a:lnTo>
                  <a:lnTo>
                    <a:pt x="311" y="747"/>
                  </a:lnTo>
                  <a:lnTo>
                    <a:pt x="282" y="757"/>
                  </a:lnTo>
                  <a:lnTo>
                    <a:pt x="254" y="772"/>
                  </a:lnTo>
                  <a:lnTo>
                    <a:pt x="230" y="782"/>
                  </a:lnTo>
                  <a:lnTo>
                    <a:pt x="206" y="784"/>
                  </a:lnTo>
                  <a:lnTo>
                    <a:pt x="183" y="788"/>
                  </a:lnTo>
                  <a:lnTo>
                    <a:pt x="168" y="799"/>
                  </a:lnTo>
                  <a:lnTo>
                    <a:pt x="157" y="815"/>
                  </a:lnTo>
                  <a:lnTo>
                    <a:pt x="142" y="827"/>
                  </a:lnTo>
                  <a:lnTo>
                    <a:pt x="134" y="829"/>
                  </a:lnTo>
                  <a:lnTo>
                    <a:pt x="127" y="829"/>
                  </a:lnTo>
                  <a:lnTo>
                    <a:pt x="119" y="832"/>
                  </a:lnTo>
                  <a:lnTo>
                    <a:pt x="118" y="828"/>
                  </a:lnTo>
                  <a:lnTo>
                    <a:pt x="116" y="825"/>
                  </a:lnTo>
                  <a:lnTo>
                    <a:pt x="115" y="821"/>
                  </a:lnTo>
                  <a:lnTo>
                    <a:pt x="102" y="819"/>
                  </a:lnTo>
                  <a:lnTo>
                    <a:pt x="89" y="823"/>
                  </a:lnTo>
                  <a:lnTo>
                    <a:pt x="76" y="825"/>
                  </a:lnTo>
                  <a:lnTo>
                    <a:pt x="70" y="828"/>
                  </a:lnTo>
                  <a:lnTo>
                    <a:pt x="65" y="832"/>
                  </a:lnTo>
                  <a:lnTo>
                    <a:pt x="60" y="838"/>
                  </a:lnTo>
                  <a:lnTo>
                    <a:pt x="53" y="842"/>
                  </a:lnTo>
                  <a:lnTo>
                    <a:pt x="48" y="840"/>
                  </a:lnTo>
                  <a:lnTo>
                    <a:pt x="44" y="839"/>
                  </a:lnTo>
                  <a:lnTo>
                    <a:pt x="36" y="845"/>
                  </a:lnTo>
                  <a:lnTo>
                    <a:pt x="28" y="853"/>
                  </a:lnTo>
                  <a:lnTo>
                    <a:pt x="28" y="865"/>
                  </a:lnTo>
                  <a:lnTo>
                    <a:pt x="25" y="876"/>
                  </a:lnTo>
                  <a:lnTo>
                    <a:pt x="15" y="885"/>
                  </a:lnTo>
                  <a:lnTo>
                    <a:pt x="10" y="894"/>
                  </a:lnTo>
                  <a:lnTo>
                    <a:pt x="14" y="914"/>
                  </a:lnTo>
                  <a:lnTo>
                    <a:pt x="22" y="934"/>
                  </a:lnTo>
                  <a:lnTo>
                    <a:pt x="36" y="941"/>
                  </a:lnTo>
                  <a:lnTo>
                    <a:pt x="49" y="939"/>
                  </a:lnTo>
                  <a:lnTo>
                    <a:pt x="62" y="941"/>
                  </a:lnTo>
                  <a:lnTo>
                    <a:pt x="72" y="947"/>
                  </a:lnTo>
                  <a:lnTo>
                    <a:pt x="73" y="951"/>
                  </a:lnTo>
                  <a:lnTo>
                    <a:pt x="73" y="956"/>
                  </a:lnTo>
                  <a:lnTo>
                    <a:pt x="71" y="961"/>
                  </a:lnTo>
                  <a:lnTo>
                    <a:pt x="72" y="970"/>
                  </a:lnTo>
                  <a:lnTo>
                    <a:pt x="77" y="981"/>
                  </a:lnTo>
                  <a:lnTo>
                    <a:pt x="76" y="993"/>
                  </a:lnTo>
                  <a:lnTo>
                    <a:pt x="80" y="997"/>
                  </a:lnTo>
                  <a:lnTo>
                    <a:pt x="80" y="1002"/>
                  </a:lnTo>
                  <a:lnTo>
                    <a:pt x="82" y="1007"/>
                  </a:lnTo>
                  <a:lnTo>
                    <a:pt x="54" y="1010"/>
                  </a:lnTo>
                  <a:lnTo>
                    <a:pt x="23" y="1014"/>
                  </a:lnTo>
                  <a:lnTo>
                    <a:pt x="5" y="1021"/>
                  </a:lnTo>
                  <a:lnTo>
                    <a:pt x="3" y="1029"/>
                  </a:lnTo>
                  <a:lnTo>
                    <a:pt x="0" y="1037"/>
                  </a:lnTo>
                  <a:lnTo>
                    <a:pt x="2" y="1039"/>
                  </a:lnTo>
                  <a:lnTo>
                    <a:pt x="8" y="1041"/>
                  </a:lnTo>
                  <a:lnTo>
                    <a:pt x="18" y="1037"/>
                  </a:lnTo>
                  <a:lnTo>
                    <a:pt x="31" y="1029"/>
                  </a:lnTo>
                  <a:lnTo>
                    <a:pt x="43" y="1024"/>
                  </a:lnTo>
                  <a:lnTo>
                    <a:pt x="55" y="1024"/>
                  </a:lnTo>
                  <a:lnTo>
                    <a:pt x="69" y="1026"/>
                  </a:lnTo>
                  <a:lnTo>
                    <a:pt x="82" y="1028"/>
                  </a:lnTo>
                  <a:lnTo>
                    <a:pt x="91" y="1029"/>
                  </a:lnTo>
                  <a:lnTo>
                    <a:pt x="96" y="1029"/>
                  </a:lnTo>
                  <a:lnTo>
                    <a:pt x="104" y="1030"/>
                  </a:lnTo>
                  <a:lnTo>
                    <a:pt x="115" y="1035"/>
                  </a:lnTo>
                  <a:lnTo>
                    <a:pt x="125" y="1044"/>
                  </a:lnTo>
                  <a:lnTo>
                    <a:pt x="132" y="1052"/>
                  </a:lnTo>
                  <a:lnTo>
                    <a:pt x="137" y="1062"/>
                  </a:lnTo>
                  <a:lnTo>
                    <a:pt x="137" y="1063"/>
                  </a:lnTo>
                  <a:lnTo>
                    <a:pt x="136" y="1067"/>
                  </a:lnTo>
                  <a:lnTo>
                    <a:pt x="134" y="1073"/>
                  </a:lnTo>
                  <a:lnTo>
                    <a:pt x="132" y="1078"/>
                  </a:lnTo>
                  <a:lnTo>
                    <a:pt x="131" y="1084"/>
                  </a:lnTo>
                  <a:lnTo>
                    <a:pt x="135" y="1089"/>
                  </a:lnTo>
                  <a:lnTo>
                    <a:pt x="141" y="1093"/>
                  </a:lnTo>
                  <a:lnTo>
                    <a:pt x="146" y="1094"/>
                  </a:lnTo>
                  <a:lnTo>
                    <a:pt x="153" y="1093"/>
                  </a:lnTo>
                  <a:lnTo>
                    <a:pt x="158" y="1093"/>
                  </a:lnTo>
                  <a:lnTo>
                    <a:pt x="162" y="1094"/>
                  </a:lnTo>
                  <a:lnTo>
                    <a:pt x="169" y="1097"/>
                  </a:lnTo>
                  <a:lnTo>
                    <a:pt x="186" y="1104"/>
                  </a:lnTo>
                  <a:lnTo>
                    <a:pt x="208" y="1112"/>
                  </a:lnTo>
                  <a:lnTo>
                    <a:pt x="219" y="1116"/>
                  </a:lnTo>
                  <a:lnTo>
                    <a:pt x="221" y="1117"/>
                  </a:lnTo>
                  <a:lnTo>
                    <a:pt x="224" y="1118"/>
                  </a:lnTo>
                  <a:lnTo>
                    <a:pt x="228" y="1115"/>
                  </a:lnTo>
                  <a:lnTo>
                    <a:pt x="236" y="1108"/>
                  </a:lnTo>
                  <a:lnTo>
                    <a:pt x="257" y="1095"/>
                  </a:lnTo>
                  <a:lnTo>
                    <a:pt x="288" y="1088"/>
                  </a:lnTo>
                  <a:lnTo>
                    <a:pt x="292" y="1089"/>
                  </a:lnTo>
                  <a:lnTo>
                    <a:pt x="301" y="1090"/>
                  </a:lnTo>
                  <a:lnTo>
                    <a:pt x="310" y="1092"/>
                  </a:lnTo>
                  <a:lnTo>
                    <a:pt x="321" y="1098"/>
                  </a:lnTo>
                  <a:lnTo>
                    <a:pt x="341" y="1108"/>
                  </a:lnTo>
                  <a:lnTo>
                    <a:pt x="354" y="1116"/>
                  </a:lnTo>
                  <a:lnTo>
                    <a:pt x="357" y="1119"/>
                  </a:lnTo>
                  <a:lnTo>
                    <a:pt x="358" y="1123"/>
                  </a:lnTo>
                  <a:lnTo>
                    <a:pt x="357" y="1130"/>
                  </a:lnTo>
                  <a:lnTo>
                    <a:pt x="350" y="1143"/>
                  </a:lnTo>
                  <a:lnTo>
                    <a:pt x="338" y="1160"/>
                  </a:lnTo>
                  <a:lnTo>
                    <a:pt x="330" y="1172"/>
                  </a:lnTo>
                  <a:lnTo>
                    <a:pt x="327" y="1175"/>
                  </a:lnTo>
                  <a:lnTo>
                    <a:pt x="318" y="1184"/>
                  </a:lnTo>
                  <a:lnTo>
                    <a:pt x="302" y="1195"/>
                  </a:lnTo>
                  <a:lnTo>
                    <a:pt x="279" y="1193"/>
                  </a:lnTo>
                  <a:lnTo>
                    <a:pt x="274" y="1201"/>
                  </a:lnTo>
                  <a:lnTo>
                    <a:pt x="271" y="1205"/>
                  </a:lnTo>
                  <a:lnTo>
                    <a:pt x="270" y="1208"/>
                  </a:lnTo>
                  <a:lnTo>
                    <a:pt x="272" y="1214"/>
                  </a:lnTo>
                  <a:lnTo>
                    <a:pt x="280" y="1227"/>
                  </a:lnTo>
                  <a:lnTo>
                    <a:pt x="292" y="1238"/>
                  </a:lnTo>
                  <a:lnTo>
                    <a:pt x="306" y="1247"/>
                  </a:lnTo>
                  <a:lnTo>
                    <a:pt x="312" y="1259"/>
                  </a:lnTo>
                  <a:lnTo>
                    <a:pt x="305" y="1274"/>
                  </a:lnTo>
                  <a:lnTo>
                    <a:pt x="296" y="1290"/>
                  </a:lnTo>
                  <a:lnTo>
                    <a:pt x="294" y="1292"/>
                  </a:lnTo>
                  <a:lnTo>
                    <a:pt x="290" y="1294"/>
                  </a:lnTo>
                  <a:lnTo>
                    <a:pt x="284" y="1293"/>
                  </a:lnTo>
                  <a:lnTo>
                    <a:pt x="279" y="1289"/>
                  </a:lnTo>
                  <a:lnTo>
                    <a:pt x="275" y="1285"/>
                  </a:lnTo>
                  <a:lnTo>
                    <a:pt x="270" y="1281"/>
                  </a:lnTo>
                  <a:lnTo>
                    <a:pt x="264" y="1280"/>
                  </a:lnTo>
                  <a:lnTo>
                    <a:pt x="258" y="1282"/>
                  </a:lnTo>
                  <a:lnTo>
                    <a:pt x="257" y="1286"/>
                  </a:lnTo>
                  <a:lnTo>
                    <a:pt x="266" y="1305"/>
                  </a:lnTo>
                  <a:lnTo>
                    <a:pt x="270" y="1324"/>
                  </a:lnTo>
                  <a:lnTo>
                    <a:pt x="264" y="1343"/>
                  </a:lnTo>
                  <a:lnTo>
                    <a:pt x="271" y="1344"/>
                  </a:lnTo>
                  <a:lnTo>
                    <a:pt x="278" y="1346"/>
                  </a:lnTo>
                  <a:lnTo>
                    <a:pt x="285" y="1345"/>
                  </a:lnTo>
                  <a:lnTo>
                    <a:pt x="292" y="1346"/>
                  </a:lnTo>
                  <a:lnTo>
                    <a:pt x="297" y="1355"/>
                  </a:lnTo>
                  <a:lnTo>
                    <a:pt x="301" y="1361"/>
                  </a:lnTo>
                  <a:lnTo>
                    <a:pt x="325" y="1372"/>
                  </a:lnTo>
                  <a:lnTo>
                    <a:pt x="347" y="1385"/>
                  </a:lnTo>
                  <a:lnTo>
                    <a:pt x="368" y="1400"/>
                  </a:lnTo>
                  <a:lnTo>
                    <a:pt x="373" y="1404"/>
                  </a:lnTo>
                  <a:lnTo>
                    <a:pt x="377" y="1408"/>
                  </a:lnTo>
                  <a:lnTo>
                    <a:pt x="384" y="1406"/>
                  </a:lnTo>
                  <a:lnTo>
                    <a:pt x="390" y="1414"/>
                  </a:lnTo>
                  <a:lnTo>
                    <a:pt x="397" y="1421"/>
                  </a:lnTo>
                  <a:lnTo>
                    <a:pt x="397" y="1418"/>
                  </a:lnTo>
                  <a:lnTo>
                    <a:pt x="397" y="1415"/>
                  </a:lnTo>
                  <a:lnTo>
                    <a:pt x="398" y="1412"/>
                  </a:lnTo>
                  <a:lnTo>
                    <a:pt x="400" y="1409"/>
                  </a:lnTo>
                  <a:lnTo>
                    <a:pt x="405" y="1407"/>
                  </a:lnTo>
                  <a:lnTo>
                    <a:pt x="408" y="1404"/>
                  </a:lnTo>
                  <a:lnTo>
                    <a:pt x="412" y="1401"/>
                  </a:lnTo>
                  <a:lnTo>
                    <a:pt x="417" y="1400"/>
                  </a:lnTo>
                  <a:lnTo>
                    <a:pt x="422" y="1400"/>
                  </a:lnTo>
                  <a:lnTo>
                    <a:pt x="437" y="1409"/>
                  </a:lnTo>
                  <a:lnTo>
                    <a:pt x="452" y="1419"/>
                  </a:lnTo>
                  <a:lnTo>
                    <a:pt x="467" y="1428"/>
                  </a:lnTo>
                  <a:lnTo>
                    <a:pt x="480" y="1434"/>
                  </a:lnTo>
                  <a:lnTo>
                    <a:pt x="492" y="1441"/>
                  </a:lnTo>
                  <a:lnTo>
                    <a:pt x="500" y="1450"/>
                  </a:lnTo>
                  <a:lnTo>
                    <a:pt x="506" y="1461"/>
                  </a:lnTo>
                  <a:lnTo>
                    <a:pt x="514" y="1471"/>
                  </a:lnTo>
                  <a:lnTo>
                    <a:pt x="521" y="1472"/>
                  </a:lnTo>
                  <a:lnTo>
                    <a:pt x="526" y="1466"/>
                  </a:lnTo>
                  <a:lnTo>
                    <a:pt x="530" y="1459"/>
                  </a:lnTo>
                  <a:lnTo>
                    <a:pt x="536" y="1461"/>
                  </a:lnTo>
                  <a:lnTo>
                    <a:pt x="540" y="1468"/>
                  </a:lnTo>
                  <a:lnTo>
                    <a:pt x="542" y="1477"/>
                  </a:lnTo>
                  <a:lnTo>
                    <a:pt x="546" y="1485"/>
                  </a:lnTo>
                  <a:lnTo>
                    <a:pt x="551" y="1489"/>
                  </a:lnTo>
                  <a:lnTo>
                    <a:pt x="559" y="1491"/>
                  </a:lnTo>
                  <a:lnTo>
                    <a:pt x="567" y="1495"/>
                  </a:lnTo>
                  <a:lnTo>
                    <a:pt x="573" y="1497"/>
                  </a:lnTo>
                  <a:lnTo>
                    <a:pt x="581" y="1495"/>
                  </a:lnTo>
                  <a:lnTo>
                    <a:pt x="588" y="1495"/>
                  </a:lnTo>
                  <a:lnTo>
                    <a:pt x="592" y="1499"/>
                  </a:lnTo>
                  <a:lnTo>
                    <a:pt x="595" y="1504"/>
                  </a:lnTo>
                  <a:lnTo>
                    <a:pt x="598" y="1510"/>
                  </a:lnTo>
                  <a:lnTo>
                    <a:pt x="600" y="1513"/>
                  </a:lnTo>
                  <a:lnTo>
                    <a:pt x="603" y="1513"/>
                  </a:lnTo>
                  <a:lnTo>
                    <a:pt x="607" y="1511"/>
                  </a:lnTo>
                  <a:lnTo>
                    <a:pt x="614" y="1513"/>
                  </a:lnTo>
                  <a:lnTo>
                    <a:pt x="621" y="1517"/>
                  </a:lnTo>
                  <a:lnTo>
                    <a:pt x="628" y="1517"/>
                  </a:lnTo>
                  <a:lnTo>
                    <a:pt x="630" y="1522"/>
                  </a:lnTo>
                  <a:lnTo>
                    <a:pt x="632" y="1526"/>
                  </a:lnTo>
                  <a:lnTo>
                    <a:pt x="636" y="1527"/>
                  </a:lnTo>
                  <a:lnTo>
                    <a:pt x="644" y="1526"/>
                  </a:lnTo>
                  <a:lnTo>
                    <a:pt x="652" y="1529"/>
                  </a:lnTo>
                  <a:lnTo>
                    <a:pt x="659" y="1528"/>
                  </a:lnTo>
                  <a:lnTo>
                    <a:pt x="660" y="1527"/>
                  </a:lnTo>
                  <a:lnTo>
                    <a:pt x="660" y="1525"/>
                  </a:lnTo>
                  <a:lnTo>
                    <a:pt x="661" y="1524"/>
                  </a:lnTo>
                  <a:lnTo>
                    <a:pt x="673" y="1524"/>
                  </a:lnTo>
                  <a:lnTo>
                    <a:pt x="684" y="1528"/>
                  </a:lnTo>
                  <a:lnTo>
                    <a:pt x="694" y="1534"/>
                  </a:lnTo>
                  <a:lnTo>
                    <a:pt x="709" y="1538"/>
                  </a:lnTo>
                  <a:lnTo>
                    <a:pt x="723" y="1538"/>
                  </a:lnTo>
                  <a:lnTo>
                    <a:pt x="740" y="1536"/>
                  </a:lnTo>
                  <a:lnTo>
                    <a:pt x="750" y="1535"/>
                  </a:lnTo>
                  <a:lnTo>
                    <a:pt x="756" y="1533"/>
                  </a:lnTo>
                  <a:lnTo>
                    <a:pt x="757" y="1532"/>
                  </a:lnTo>
                  <a:lnTo>
                    <a:pt x="763" y="1529"/>
                  </a:lnTo>
                  <a:lnTo>
                    <a:pt x="768" y="1527"/>
                  </a:lnTo>
                  <a:lnTo>
                    <a:pt x="773" y="1528"/>
                  </a:lnTo>
                  <a:lnTo>
                    <a:pt x="775" y="1531"/>
                  </a:lnTo>
                  <a:lnTo>
                    <a:pt x="776" y="1540"/>
                  </a:lnTo>
                  <a:lnTo>
                    <a:pt x="777" y="1549"/>
                  </a:lnTo>
                  <a:lnTo>
                    <a:pt x="781" y="1557"/>
                  </a:lnTo>
                  <a:lnTo>
                    <a:pt x="781" y="1559"/>
                  </a:lnTo>
                  <a:lnTo>
                    <a:pt x="786" y="1554"/>
                  </a:lnTo>
                  <a:lnTo>
                    <a:pt x="794" y="1548"/>
                  </a:lnTo>
                  <a:lnTo>
                    <a:pt x="794" y="1539"/>
                  </a:lnTo>
                  <a:lnTo>
                    <a:pt x="796" y="1539"/>
                  </a:lnTo>
                  <a:lnTo>
                    <a:pt x="798" y="1538"/>
                  </a:lnTo>
                  <a:lnTo>
                    <a:pt x="800" y="1536"/>
                  </a:lnTo>
                  <a:lnTo>
                    <a:pt x="804" y="1533"/>
                  </a:lnTo>
                  <a:lnTo>
                    <a:pt x="807" y="1528"/>
                  </a:lnTo>
                  <a:lnTo>
                    <a:pt x="811" y="1524"/>
                  </a:lnTo>
                  <a:lnTo>
                    <a:pt x="818" y="1519"/>
                  </a:lnTo>
                  <a:lnTo>
                    <a:pt x="825" y="1514"/>
                  </a:lnTo>
                  <a:lnTo>
                    <a:pt x="834" y="1511"/>
                  </a:lnTo>
                  <a:lnTo>
                    <a:pt x="835" y="1512"/>
                  </a:lnTo>
                  <a:lnTo>
                    <a:pt x="838" y="1513"/>
                  </a:lnTo>
                  <a:lnTo>
                    <a:pt x="839" y="1516"/>
                  </a:lnTo>
                  <a:lnTo>
                    <a:pt x="843" y="1515"/>
                  </a:lnTo>
                  <a:lnTo>
                    <a:pt x="846" y="1514"/>
                  </a:lnTo>
                  <a:lnTo>
                    <a:pt x="849" y="1515"/>
                  </a:lnTo>
                  <a:lnTo>
                    <a:pt x="852" y="1518"/>
                  </a:lnTo>
                  <a:lnTo>
                    <a:pt x="856" y="1522"/>
                  </a:lnTo>
                  <a:lnTo>
                    <a:pt x="860" y="1523"/>
                  </a:lnTo>
                  <a:lnTo>
                    <a:pt x="868" y="1525"/>
                  </a:lnTo>
                  <a:lnTo>
                    <a:pt x="875" y="1527"/>
                  </a:lnTo>
                  <a:lnTo>
                    <a:pt x="883" y="1528"/>
                  </a:lnTo>
                  <a:lnTo>
                    <a:pt x="891" y="1528"/>
                  </a:lnTo>
                  <a:lnTo>
                    <a:pt x="898" y="1526"/>
                  </a:lnTo>
                  <a:lnTo>
                    <a:pt x="904" y="1526"/>
                  </a:lnTo>
                  <a:lnTo>
                    <a:pt x="911" y="1532"/>
                  </a:lnTo>
                  <a:lnTo>
                    <a:pt x="917" y="1541"/>
                  </a:lnTo>
                  <a:lnTo>
                    <a:pt x="922" y="1550"/>
                  </a:lnTo>
                  <a:lnTo>
                    <a:pt x="933" y="1545"/>
                  </a:lnTo>
                  <a:lnTo>
                    <a:pt x="946" y="1542"/>
                  </a:lnTo>
                  <a:lnTo>
                    <a:pt x="957" y="1540"/>
                  </a:lnTo>
                  <a:lnTo>
                    <a:pt x="971" y="1538"/>
                  </a:lnTo>
                  <a:lnTo>
                    <a:pt x="971" y="1525"/>
                  </a:lnTo>
                  <a:lnTo>
                    <a:pt x="983" y="1519"/>
                  </a:lnTo>
                  <a:lnTo>
                    <a:pt x="992" y="1511"/>
                  </a:lnTo>
                  <a:lnTo>
                    <a:pt x="996" y="1502"/>
                  </a:lnTo>
                  <a:lnTo>
                    <a:pt x="1001" y="1496"/>
                  </a:lnTo>
                  <a:lnTo>
                    <a:pt x="1008" y="1493"/>
                  </a:lnTo>
                  <a:lnTo>
                    <a:pt x="1017" y="1491"/>
                  </a:lnTo>
                  <a:lnTo>
                    <a:pt x="1027" y="1492"/>
                  </a:lnTo>
                  <a:lnTo>
                    <a:pt x="1036" y="1490"/>
                  </a:lnTo>
                  <a:lnTo>
                    <a:pt x="1049" y="1479"/>
                  </a:lnTo>
                  <a:lnTo>
                    <a:pt x="1061" y="1465"/>
                  </a:lnTo>
                  <a:lnTo>
                    <a:pt x="1076" y="1461"/>
                  </a:lnTo>
                  <a:lnTo>
                    <a:pt x="1084" y="1465"/>
                  </a:lnTo>
                  <a:lnTo>
                    <a:pt x="1093" y="1470"/>
                  </a:lnTo>
                  <a:lnTo>
                    <a:pt x="1103" y="1472"/>
                  </a:lnTo>
                  <a:lnTo>
                    <a:pt x="1105" y="1473"/>
                  </a:lnTo>
                  <a:lnTo>
                    <a:pt x="1106" y="1475"/>
                  </a:lnTo>
                  <a:lnTo>
                    <a:pt x="1106" y="1478"/>
                  </a:lnTo>
                  <a:lnTo>
                    <a:pt x="1120" y="1470"/>
                  </a:lnTo>
                  <a:lnTo>
                    <a:pt x="1132" y="1460"/>
                  </a:lnTo>
                  <a:lnTo>
                    <a:pt x="1145" y="1460"/>
                  </a:lnTo>
                  <a:lnTo>
                    <a:pt x="1151" y="1468"/>
                  </a:lnTo>
                  <a:lnTo>
                    <a:pt x="1150" y="1477"/>
                  </a:lnTo>
                  <a:lnTo>
                    <a:pt x="1146" y="1488"/>
                  </a:lnTo>
                  <a:lnTo>
                    <a:pt x="1152" y="1484"/>
                  </a:lnTo>
                  <a:lnTo>
                    <a:pt x="1158" y="1481"/>
                  </a:lnTo>
                  <a:lnTo>
                    <a:pt x="1165" y="1478"/>
                  </a:lnTo>
                  <a:lnTo>
                    <a:pt x="1168" y="1483"/>
                  </a:lnTo>
                  <a:lnTo>
                    <a:pt x="1173" y="1486"/>
                  </a:lnTo>
                  <a:lnTo>
                    <a:pt x="1172" y="1491"/>
                  </a:lnTo>
                  <a:lnTo>
                    <a:pt x="1165" y="1498"/>
                  </a:lnTo>
                  <a:lnTo>
                    <a:pt x="1158" y="1502"/>
                  </a:lnTo>
                  <a:lnTo>
                    <a:pt x="1150" y="1505"/>
                  </a:lnTo>
                  <a:lnTo>
                    <a:pt x="1149" y="1507"/>
                  </a:lnTo>
                  <a:lnTo>
                    <a:pt x="1150" y="1509"/>
                  </a:lnTo>
                  <a:lnTo>
                    <a:pt x="1153" y="1511"/>
                  </a:lnTo>
                  <a:lnTo>
                    <a:pt x="1164" y="1511"/>
                  </a:lnTo>
                  <a:lnTo>
                    <a:pt x="1175" y="1511"/>
                  </a:lnTo>
                  <a:lnTo>
                    <a:pt x="1186" y="1515"/>
                  </a:lnTo>
                  <a:lnTo>
                    <a:pt x="1187" y="1509"/>
                  </a:lnTo>
                  <a:lnTo>
                    <a:pt x="1191" y="1511"/>
                  </a:lnTo>
                  <a:lnTo>
                    <a:pt x="1196" y="1511"/>
                  </a:lnTo>
                  <a:lnTo>
                    <a:pt x="1202" y="1516"/>
                  </a:lnTo>
                  <a:lnTo>
                    <a:pt x="1206" y="1518"/>
                  </a:lnTo>
                  <a:lnTo>
                    <a:pt x="1211" y="1517"/>
                  </a:lnTo>
                  <a:lnTo>
                    <a:pt x="1212" y="1514"/>
                  </a:lnTo>
                  <a:lnTo>
                    <a:pt x="1212" y="1512"/>
                  </a:lnTo>
                  <a:lnTo>
                    <a:pt x="1210" y="1508"/>
                  </a:lnTo>
                  <a:lnTo>
                    <a:pt x="1209" y="1505"/>
                  </a:lnTo>
                  <a:lnTo>
                    <a:pt x="1209" y="1501"/>
                  </a:lnTo>
                  <a:lnTo>
                    <a:pt x="1212" y="1502"/>
                  </a:lnTo>
                  <a:lnTo>
                    <a:pt x="1216" y="1501"/>
                  </a:lnTo>
                  <a:lnTo>
                    <a:pt x="1219" y="1501"/>
                  </a:lnTo>
                  <a:lnTo>
                    <a:pt x="1231" y="1510"/>
                  </a:lnTo>
                  <a:lnTo>
                    <a:pt x="1241" y="1520"/>
                  </a:lnTo>
                  <a:lnTo>
                    <a:pt x="1247" y="1531"/>
                  </a:lnTo>
                  <a:lnTo>
                    <a:pt x="1248" y="1540"/>
                  </a:lnTo>
                  <a:lnTo>
                    <a:pt x="1248" y="1547"/>
                  </a:lnTo>
                  <a:lnTo>
                    <a:pt x="1253" y="1553"/>
                  </a:lnTo>
                  <a:lnTo>
                    <a:pt x="1257" y="1552"/>
                  </a:lnTo>
                  <a:lnTo>
                    <a:pt x="1263" y="1551"/>
                  </a:lnTo>
                  <a:lnTo>
                    <a:pt x="1268" y="1552"/>
                  </a:lnTo>
                  <a:lnTo>
                    <a:pt x="1273" y="1558"/>
                  </a:lnTo>
                  <a:lnTo>
                    <a:pt x="1275" y="1566"/>
                  </a:lnTo>
                  <a:lnTo>
                    <a:pt x="1273" y="1575"/>
                  </a:lnTo>
                  <a:lnTo>
                    <a:pt x="1273" y="1586"/>
                  </a:lnTo>
                  <a:lnTo>
                    <a:pt x="1280" y="1598"/>
                  </a:lnTo>
                  <a:lnTo>
                    <a:pt x="1280" y="1611"/>
                  </a:lnTo>
                  <a:lnTo>
                    <a:pt x="1274" y="1622"/>
                  </a:lnTo>
                  <a:lnTo>
                    <a:pt x="1269" y="1632"/>
                  </a:lnTo>
                  <a:lnTo>
                    <a:pt x="1272" y="1643"/>
                  </a:lnTo>
                  <a:lnTo>
                    <a:pt x="1265" y="1647"/>
                  </a:lnTo>
                  <a:lnTo>
                    <a:pt x="1259" y="1653"/>
                  </a:lnTo>
                  <a:lnTo>
                    <a:pt x="1256" y="1660"/>
                  </a:lnTo>
                  <a:lnTo>
                    <a:pt x="1252" y="1672"/>
                  </a:lnTo>
                  <a:lnTo>
                    <a:pt x="1241" y="1679"/>
                  </a:lnTo>
                  <a:lnTo>
                    <a:pt x="1230" y="1685"/>
                  </a:lnTo>
                  <a:lnTo>
                    <a:pt x="1224" y="1692"/>
                  </a:lnTo>
                  <a:lnTo>
                    <a:pt x="1220" y="1702"/>
                  </a:lnTo>
                  <a:lnTo>
                    <a:pt x="1212" y="1709"/>
                  </a:lnTo>
                  <a:lnTo>
                    <a:pt x="1221" y="1725"/>
                  </a:lnTo>
                  <a:lnTo>
                    <a:pt x="1225" y="1741"/>
                  </a:lnTo>
                  <a:lnTo>
                    <a:pt x="1216" y="1756"/>
                  </a:lnTo>
                  <a:lnTo>
                    <a:pt x="1227" y="1749"/>
                  </a:lnTo>
                  <a:lnTo>
                    <a:pt x="1238" y="1744"/>
                  </a:lnTo>
                  <a:lnTo>
                    <a:pt x="1250" y="1738"/>
                  </a:lnTo>
                  <a:lnTo>
                    <a:pt x="1261" y="1735"/>
                  </a:lnTo>
                  <a:lnTo>
                    <a:pt x="1273" y="1735"/>
                  </a:lnTo>
                  <a:lnTo>
                    <a:pt x="1285" y="1740"/>
                  </a:lnTo>
                  <a:lnTo>
                    <a:pt x="1278" y="1749"/>
                  </a:lnTo>
                  <a:lnTo>
                    <a:pt x="1279" y="1761"/>
                  </a:lnTo>
                  <a:lnTo>
                    <a:pt x="1284" y="1773"/>
                  </a:lnTo>
                  <a:lnTo>
                    <a:pt x="1285" y="1778"/>
                  </a:lnTo>
                  <a:lnTo>
                    <a:pt x="1283" y="1784"/>
                  </a:lnTo>
                  <a:lnTo>
                    <a:pt x="1283" y="1788"/>
                  </a:lnTo>
                  <a:lnTo>
                    <a:pt x="1291" y="1793"/>
                  </a:lnTo>
                  <a:lnTo>
                    <a:pt x="1302" y="1792"/>
                  </a:lnTo>
                  <a:lnTo>
                    <a:pt x="1308" y="1793"/>
                  </a:lnTo>
                  <a:lnTo>
                    <a:pt x="1307" y="1809"/>
                  </a:lnTo>
                  <a:lnTo>
                    <a:pt x="1302" y="1827"/>
                  </a:lnTo>
                  <a:lnTo>
                    <a:pt x="1304" y="1844"/>
                  </a:lnTo>
                  <a:lnTo>
                    <a:pt x="1313" y="1848"/>
                  </a:lnTo>
                  <a:lnTo>
                    <a:pt x="1326" y="1848"/>
                  </a:lnTo>
                  <a:lnTo>
                    <a:pt x="1336" y="1852"/>
                  </a:lnTo>
                  <a:lnTo>
                    <a:pt x="1338" y="1858"/>
                  </a:lnTo>
                  <a:lnTo>
                    <a:pt x="1335" y="1865"/>
                  </a:lnTo>
                  <a:lnTo>
                    <a:pt x="1331" y="1871"/>
                  </a:lnTo>
                  <a:lnTo>
                    <a:pt x="1336" y="1872"/>
                  </a:lnTo>
                  <a:lnTo>
                    <a:pt x="1340" y="1874"/>
                  </a:lnTo>
                  <a:lnTo>
                    <a:pt x="1344" y="1876"/>
                  </a:lnTo>
                  <a:lnTo>
                    <a:pt x="1344" y="1878"/>
                  </a:lnTo>
                  <a:lnTo>
                    <a:pt x="1342" y="1881"/>
                  </a:lnTo>
                  <a:lnTo>
                    <a:pt x="1341" y="1883"/>
                  </a:lnTo>
                  <a:lnTo>
                    <a:pt x="1360" y="1881"/>
                  </a:lnTo>
                  <a:lnTo>
                    <a:pt x="1378" y="1875"/>
                  </a:lnTo>
                  <a:lnTo>
                    <a:pt x="1397" y="1871"/>
                  </a:lnTo>
                  <a:lnTo>
                    <a:pt x="1396" y="1874"/>
                  </a:lnTo>
                  <a:lnTo>
                    <a:pt x="1395" y="1876"/>
                  </a:lnTo>
                  <a:lnTo>
                    <a:pt x="1395" y="1876"/>
                  </a:lnTo>
                  <a:lnTo>
                    <a:pt x="1393" y="1882"/>
                  </a:lnTo>
                  <a:lnTo>
                    <a:pt x="1398" y="1885"/>
                  </a:lnTo>
                  <a:lnTo>
                    <a:pt x="1406" y="1892"/>
                  </a:lnTo>
                  <a:lnTo>
                    <a:pt x="1413" y="1897"/>
                  </a:lnTo>
                  <a:lnTo>
                    <a:pt x="1418" y="1898"/>
                  </a:lnTo>
                  <a:lnTo>
                    <a:pt x="1423" y="1898"/>
                  </a:lnTo>
                  <a:lnTo>
                    <a:pt x="1429" y="1894"/>
                  </a:lnTo>
                  <a:lnTo>
                    <a:pt x="1432" y="1886"/>
                  </a:lnTo>
                  <a:lnTo>
                    <a:pt x="1430" y="1878"/>
                  </a:lnTo>
                  <a:lnTo>
                    <a:pt x="1429" y="1874"/>
                  </a:lnTo>
                  <a:lnTo>
                    <a:pt x="1426" y="1871"/>
                  </a:lnTo>
                  <a:lnTo>
                    <a:pt x="1421" y="1863"/>
                  </a:lnTo>
                  <a:lnTo>
                    <a:pt x="1418" y="1853"/>
                  </a:lnTo>
                  <a:lnTo>
                    <a:pt x="1417" y="1846"/>
                  </a:lnTo>
                  <a:lnTo>
                    <a:pt x="1416" y="1843"/>
                  </a:lnTo>
                  <a:lnTo>
                    <a:pt x="1414" y="1842"/>
                  </a:lnTo>
                  <a:lnTo>
                    <a:pt x="1412" y="1839"/>
                  </a:lnTo>
                  <a:lnTo>
                    <a:pt x="1411" y="1834"/>
                  </a:lnTo>
                  <a:lnTo>
                    <a:pt x="1413" y="1828"/>
                  </a:lnTo>
                  <a:lnTo>
                    <a:pt x="1419" y="1824"/>
                  </a:lnTo>
                  <a:lnTo>
                    <a:pt x="1425" y="1824"/>
                  </a:lnTo>
                  <a:lnTo>
                    <a:pt x="1431" y="1825"/>
                  </a:lnTo>
                  <a:lnTo>
                    <a:pt x="1437" y="1828"/>
                  </a:lnTo>
                  <a:lnTo>
                    <a:pt x="1445" y="1832"/>
                  </a:lnTo>
                  <a:lnTo>
                    <a:pt x="1451" y="1834"/>
                  </a:lnTo>
                  <a:lnTo>
                    <a:pt x="1452" y="1832"/>
                  </a:lnTo>
                  <a:lnTo>
                    <a:pt x="1453" y="1830"/>
                  </a:lnTo>
                  <a:lnTo>
                    <a:pt x="1453" y="1829"/>
                  </a:lnTo>
                  <a:lnTo>
                    <a:pt x="1455" y="1821"/>
                  </a:lnTo>
                  <a:lnTo>
                    <a:pt x="1457" y="1816"/>
                  </a:lnTo>
                  <a:lnTo>
                    <a:pt x="1460" y="1809"/>
                  </a:lnTo>
                  <a:lnTo>
                    <a:pt x="1462" y="1808"/>
                  </a:lnTo>
                  <a:lnTo>
                    <a:pt x="1466" y="1808"/>
                  </a:lnTo>
                  <a:lnTo>
                    <a:pt x="1468" y="1809"/>
                  </a:lnTo>
                  <a:lnTo>
                    <a:pt x="1475" y="1817"/>
                  </a:lnTo>
                  <a:lnTo>
                    <a:pt x="1484" y="1822"/>
                  </a:lnTo>
                  <a:lnTo>
                    <a:pt x="1492" y="1823"/>
                  </a:lnTo>
                  <a:lnTo>
                    <a:pt x="1496" y="1819"/>
                  </a:lnTo>
                  <a:lnTo>
                    <a:pt x="1500" y="1811"/>
                  </a:lnTo>
                  <a:lnTo>
                    <a:pt x="1506" y="1807"/>
                  </a:lnTo>
                  <a:lnTo>
                    <a:pt x="1517" y="1807"/>
                  </a:lnTo>
                  <a:lnTo>
                    <a:pt x="1526" y="1811"/>
                  </a:lnTo>
                  <a:lnTo>
                    <a:pt x="1532" y="1822"/>
                  </a:lnTo>
                  <a:lnTo>
                    <a:pt x="1539" y="1819"/>
                  </a:lnTo>
                  <a:lnTo>
                    <a:pt x="1547" y="1815"/>
                  </a:lnTo>
                  <a:lnTo>
                    <a:pt x="1552" y="1809"/>
                  </a:lnTo>
                  <a:lnTo>
                    <a:pt x="1554" y="1811"/>
                  </a:lnTo>
                  <a:lnTo>
                    <a:pt x="1555" y="1813"/>
                  </a:lnTo>
                  <a:lnTo>
                    <a:pt x="1555" y="1815"/>
                  </a:lnTo>
                  <a:lnTo>
                    <a:pt x="1558" y="1816"/>
                  </a:lnTo>
                  <a:lnTo>
                    <a:pt x="1560" y="1816"/>
                  </a:lnTo>
                  <a:lnTo>
                    <a:pt x="1561" y="1815"/>
                  </a:lnTo>
                  <a:lnTo>
                    <a:pt x="1562" y="1813"/>
                  </a:lnTo>
                  <a:lnTo>
                    <a:pt x="1562" y="1811"/>
                  </a:lnTo>
                  <a:lnTo>
                    <a:pt x="1562" y="1809"/>
                  </a:lnTo>
                  <a:lnTo>
                    <a:pt x="1568" y="1807"/>
                  </a:lnTo>
                  <a:lnTo>
                    <a:pt x="1574" y="1807"/>
                  </a:lnTo>
                  <a:lnTo>
                    <a:pt x="1581" y="1809"/>
                  </a:lnTo>
                  <a:lnTo>
                    <a:pt x="1579" y="1796"/>
                  </a:lnTo>
                  <a:lnTo>
                    <a:pt x="1583" y="1785"/>
                  </a:lnTo>
                  <a:lnTo>
                    <a:pt x="1592" y="1777"/>
                  </a:lnTo>
                  <a:lnTo>
                    <a:pt x="1603" y="1777"/>
                  </a:lnTo>
                  <a:lnTo>
                    <a:pt x="1614" y="1783"/>
                  </a:lnTo>
                  <a:lnTo>
                    <a:pt x="1623" y="1794"/>
                  </a:lnTo>
                  <a:lnTo>
                    <a:pt x="1631" y="1799"/>
                  </a:lnTo>
                  <a:lnTo>
                    <a:pt x="1642" y="1799"/>
                  </a:lnTo>
                  <a:lnTo>
                    <a:pt x="1654" y="1802"/>
                  </a:lnTo>
                  <a:lnTo>
                    <a:pt x="1662" y="1802"/>
                  </a:lnTo>
                  <a:lnTo>
                    <a:pt x="1670" y="1799"/>
                  </a:lnTo>
                  <a:lnTo>
                    <a:pt x="1676" y="1800"/>
                  </a:lnTo>
                  <a:lnTo>
                    <a:pt x="1680" y="1802"/>
                  </a:lnTo>
                  <a:lnTo>
                    <a:pt x="1684" y="1804"/>
                  </a:lnTo>
                  <a:lnTo>
                    <a:pt x="1683" y="1808"/>
                  </a:lnTo>
                  <a:lnTo>
                    <a:pt x="1679" y="1820"/>
                  </a:lnTo>
                  <a:lnTo>
                    <a:pt x="1675" y="1831"/>
                  </a:lnTo>
                  <a:lnTo>
                    <a:pt x="1670" y="1842"/>
                  </a:lnTo>
                  <a:lnTo>
                    <a:pt x="1681" y="1845"/>
                  </a:lnTo>
                  <a:lnTo>
                    <a:pt x="1689" y="1853"/>
                  </a:lnTo>
                  <a:lnTo>
                    <a:pt x="1697" y="1861"/>
                  </a:lnTo>
                  <a:lnTo>
                    <a:pt x="1707" y="1864"/>
                  </a:lnTo>
                  <a:lnTo>
                    <a:pt x="1716" y="1865"/>
                  </a:lnTo>
                  <a:lnTo>
                    <a:pt x="1727" y="1866"/>
                  </a:lnTo>
                  <a:lnTo>
                    <a:pt x="1730" y="1867"/>
                  </a:lnTo>
                  <a:lnTo>
                    <a:pt x="1732" y="1869"/>
                  </a:lnTo>
                  <a:lnTo>
                    <a:pt x="1734" y="1871"/>
                  </a:lnTo>
                  <a:lnTo>
                    <a:pt x="1737" y="1875"/>
                  </a:lnTo>
                  <a:lnTo>
                    <a:pt x="1750" y="1877"/>
                  </a:lnTo>
                  <a:lnTo>
                    <a:pt x="1748" y="1880"/>
                  </a:lnTo>
                  <a:lnTo>
                    <a:pt x="1761" y="1882"/>
                  </a:lnTo>
                  <a:lnTo>
                    <a:pt x="1779" y="1871"/>
                  </a:lnTo>
                  <a:lnTo>
                    <a:pt x="1801" y="1880"/>
                  </a:lnTo>
                  <a:lnTo>
                    <a:pt x="1823" y="1891"/>
                  </a:lnTo>
                  <a:lnTo>
                    <a:pt x="1820" y="1901"/>
                  </a:lnTo>
                  <a:lnTo>
                    <a:pt x="1820" y="1911"/>
                  </a:lnTo>
                  <a:lnTo>
                    <a:pt x="1821" y="1921"/>
                  </a:lnTo>
                  <a:lnTo>
                    <a:pt x="1832" y="1939"/>
                  </a:lnTo>
                  <a:lnTo>
                    <a:pt x="1849" y="1948"/>
                  </a:lnTo>
                  <a:lnTo>
                    <a:pt x="1869" y="1946"/>
                  </a:lnTo>
                  <a:lnTo>
                    <a:pt x="1871" y="1943"/>
                  </a:lnTo>
                  <a:lnTo>
                    <a:pt x="1868" y="1940"/>
                  </a:lnTo>
                  <a:lnTo>
                    <a:pt x="1870" y="1934"/>
                  </a:lnTo>
                  <a:lnTo>
                    <a:pt x="1860" y="1931"/>
                  </a:lnTo>
                  <a:lnTo>
                    <a:pt x="1851" y="1929"/>
                  </a:lnTo>
                  <a:lnTo>
                    <a:pt x="1848" y="1922"/>
                  </a:lnTo>
                  <a:lnTo>
                    <a:pt x="1855" y="1901"/>
                  </a:lnTo>
                  <a:lnTo>
                    <a:pt x="1865" y="1882"/>
                  </a:lnTo>
                  <a:lnTo>
                    <a:pt x="1879" y="1868"/>
                  </a:lnTo>
                  <a:lnTo>
                    <a:pt x="1901" y="1864"/>
                  </a:lnTo>
                  <a:lnTo>
                    <a:pt x="1927" y="1868"/>
                  </a:lnTo>
                  <a:lnTo>
                    <a:pt x="1951" y="1862"/>
                  </a:lnTo>
                  <a:lnTo>
                    <a:pt x="1961" y="1857"/>
                  </a:lnTo>
                  <a:lnTo>
                    <a:pt x="1972" y="1853"/>
                  </a:lnTo>
                  <a:lnTo>
                    <a:pt x="1982" y="1850"/>
                  </a:lnTo>
                  <a:lnTo>
                    <a:pt x="1991" y="1840"/>
                  </a:lnTo>
                  <a:lnTo>
                    <a:pt x="2001" y="1828"/>
                  </a:lnTo>
                  <a:lnTo>
                    <a:pt x="2015" y="1826"/>
                  </a:lnTo>
                  <a:lnTo>
                    <a:pt x="2017" y="1829"/>
                  </a:lnTo>
                  <a:lnTo>
                    <a:pt x="2019" y="1832"/>
                  </a:lnTo>
                  <a:lnTo>
                    <a:pt x="2022" y="1834"/>
                  </a:lnTo>
                  <a:lnTo>
                    <a:pt x="2023" y="1834"/>
                  </a:lnTo>
                  <a:lnTo>
                    <a:pt x="2023" y="1834"/>
                  </a:lnTo>
                  <a:lnTo>
                    <a:pt x="2024" y="1834"/>
                  </a:lnTo>
                  <a:lnTo>
                    <a:pt x="2025" y="1832"/>
                  </a:lnTo>
                  <a:lnTo>
                    <a:pt x="2028" y="1827"/>
                  </a:lnTo>
                  <a:lnTo>
                    <a:pt x="2035" y="1822"/>
                  </a:lnTo>
                  <a:lnTo>
                    <a:pt x="2035" y="1823"/>
                  </a:lnTo>
                  <a:lnTo>
                    <a:pt x="2036" y="1825"/>
                  </a:lnTo>
                  <a:lnTo>
                    <a:pt x="2043" y="1825"/>
                  </a:lnTo>
                  <a:lnTo>
                    <a:pt x="2047" y="1824"/>
                  </a:lnTo>
                  <a:lnTo>
                    <a:pt x="2057" y="1821"/>
                  </a:lnTo>
                  <a:lnTo>
                    <a:pt x="2064" y="1825"/>
                  </a:lnTo>
                  <a:lnTo>
                    <a:pt x="2068" y="1832"/>
                  </a:lnTo>
                  <a:lnTo>
                    <a:pt x="2078" y="1824"/>
                  </a:lnTo>
                  <a:lnTo>
                    <a:pt x="2091" y="1819"/>
                  </a:lnTo>
                  <a:lnTo>
                    <a:pt x="2104" y="1817"/>
                  </a:lnTo>
                  <a:lnTo>
                    <a:pt x="2106" y="1816"/>
                  </a:lnTo>
                  <a:lnTo>
                    <a:pt x="2110" y="1814"/>
                  </a:lnTo>
                  <a:lnTo>
                    <a:pt x="2114" y="1812"/>
                  </a:lnTo>
                  <a:lnTo>
                    <a:pt x="2128" y="1811"/>
                  </a:lnTo>
                  <a:lnTo>
                    <a:pt x="2141" y="1811"/>
                  </a:lnTo>
                  <a:lnTo>
                    <a:pt x="2153" y="1810"/>
                  </a:lnTo>
                  <a:lnTo>
                    <a:pt x="2170" y="1798"/>
                  </a:lnTo>
                  <a:lnTo>
                    <a:pt x="2183" y="1781"/>
                  </a:lnTo>
                  <a:lnTo>
                    <a:pt x="2200" y="1772"/>
                  </a:lnTo>
                  <a:lnTo>
                    <a:pt x="2217" y="1766"/>
                  </a:lnTo>
                  <a:lnTo>
                    <a:pt x="2231" y="1753"/>
                  </a:lnTo>
                  <a:lnTo>
                    <a:pt x="2246" y="1743"/>
                  </a:lnTo>
                  <a:lnTo>
                    <a:pt x="2244" y="1740"/>
                  </a:lnTo>
                  <a:lnTo>
                    <a:pt x="2243" y="1736"/>
                  </a:lnTo>
                  <a:lnTo>
                    <a:pt x="2244" y="1733"/>
                  </a:lnTo>
                  <a:lnTo>
                    <a:pt x="2263" y="1711"/>
                  </a:lnTo>
                  <a:lnTo>
                    <a:pt x="2287" y="1697"/>
                  </a:lnTo>
                  <a:lnTo>
                    <a:pt x="2316" y="1692"/>
                  </a:lnTo>
                  <a:lnTo>
                    <a:pt x="2322" y="1689"/>
                  </a:lnTo>
                  <a:lnTo>
                    <a:pt x="2329" y="1684"/>
                  </a:lnTo>
                  <a:lnTo>
                    <a:pt x="2336" y="1680"/>
                  </a:lnTo>
                  <a:lnTo>
                    <a:pt x="2325" y="1678"/>
                  </a:lnTo>
                  <a:lnTo>
                    <a:pt x="2315" y="1682"/>
                  </a:lnTo>
                  <a:lnTo>
                    <a:pt x="2308" y="1682"/>
                  </a:lnTo>
                  <a:lnTo>
                    <a:pt x="2308" y="1673"/>
                  </a:lnTo>
                  <a:lnTo>
                    <a:pt x="2316" y="1664"/>
                  </a:lnTo>
                  <a:lnTo>
                    <a:pt x="2318" y="1654"/>
                  </a:lnTo>
                  <a:lnTo>
                    <a:pt x="2316" y="1650"/>
                  </a:lnTo>
                  <a:lnTo>
                    <a:pt x="2316" y="1647"/>
                  </a:lnTo>
                  <a:lnTo>
                    <a:pt x="2317" y="1644"/>
                  </a:lnTo>
                  <a:lnTo>
                    <a:pt x="2330" y="1626"/>
                  </a:lnTo>
                  <a:lnTo>
                    <a:pt x="2343" y="1609"/>
                  </a:lnTo>
                  <a:lnTo>
                    <a:pt x="2356" y="1592"/>
                  </a:lnTo>
                  <a:lnTo>
                    <a:pt x="2373" y="1569"/>
                  </a:lnTo>
                  <a:lnTo>
                    <a:pt x="2388" y="1546"/>
                  </a:lnTo>
                  <a:lnTo>
                    <a:pt x="2408" y="1525"/>
                  </a:lnTo>
                  <a:lnTo>
                    <a:pt x="2414" y="1516"/>
                  </a:lnTo>
                  <a:lnTo>
                    <a:pt x="2415" y="1506"/>
                  </a:lnTo>
                  <a:lnTo>
                    <a:pt x="2421" y="1497"/>
                  </a:lnTo>
                  <a:lnTo>
                    <a:pt x="2422" y="1495"/>
                  </a:lnTo>
                  <a:lnTo>
                    <a:pt x="2421" y="1491"/>
                  </a:lnTo>
                  <a:lnTo>
                    <a:pt x="2418" y="1488"/>
                  </a:lnTo>
                  <a:lnTo>
                    <a:pt x="2428" y="1470"/>
                  </a:lnTo>
                  <a:lnTo>
                    <a:pt x="2438" y="1452"/>
                  </a:lnTo>
                  <a:lnTo>
                    <a:pt x="2452" y="1437"/>
                  </a:lnTo>
                  <a:lnTo>
                    <a:pt x="2456" y="1436"/>
                  </a:lnTo>
                  <a:lnTo>
                    <a:pt x="2461" y="1434"/>
                  </a:lnTo>
                  <a:lnTo>
                    <a:pt x="2463" y="1432"/>
                  </a:lnTo>
                  <a:lnTo>
                    <a:pt x="2464" y="1419"/>
                  </a:lnTo>
                  <a:lnTo>
                    <a:pt x="2462" y="1406"/>
                  </a:lnTo>
                  <a:lnTo>
                    <a:pt x="2465" y="1393"/>
                  </a:lnTo>
                  <a:lnTo>
                    <a:pt x="2451" y="1387"/>
                  </a:lnTo>
                  <a:lnTo>
                    <a:pt x="2439" y="1383"/>
                  </a:lnTo>
                  <a:lnTo>
                    <a:pt x="2425" y="1379"/>
                  </a:lnTo>
                  <a:lnTo>
                    <a:pt x="2425" y="1373"/>
                  </a:lnTo>
                  <a:lnTo>
                    <a:pt x="2421" y="1368"/>
                  </a:lnTo>
                  <a:lnTo>
                    <a:pt x="2420" y="1363"/>
                  </a:lnTo>
                  <a:lnTo>
                    <a:pt x="2422" y="1351"/>
                  </a:lnTo>
                  <a:lnTo>
                    <a:pt x="2426" y="1339"/>
                  </a:lnTo>
                  <a:lnTo>
                    <a:pt x="2435" y="1330"/>
                  </a:lnTo>
                  <a:lnTo>
                    <a:pt x="2427" y="1329"/>
                  </a:lnTo>
                  <a:lnTo>
                    <a:pt x="2419" y="1329"/>
                  </a:lnTo>
                  <a:lnTo>
                    <a:pt x="2411" y="1328"/>
                  </a:lnTo>
                  <a:lnTo>
                    <a:pt x="2399" y="1330"/>
                  </a:lnTo>
                  <a:lnTo>
                    <a:pt x="2386" y="1333"/>
                  </a:lnTo>
                  <a:lnTo>
                    <a:pt x="2372" y="1332"/>
                  </a:lnTo>
                  <a:lnTo>
                    <a:pt x="2359" y="1325"/>
                  </a:lnTo>
                  <a:lnTo>
                    <a:pt x="2345" y="1317"/>
                  </a:lnTo>
                  <a:lnTo>
                    <a:pt x="2329" y="1313"/>
                  </a:lnTo>
                  <a:lnTo>
                    <a:pt x="2347" y="1314"/>
                  </a:lnTo>
                  <a:lnTo>
                    <a:pt x="2364" y="1317"/>
                  </a:lnTo>
                  <a:lnTo>
                    <a:pt x="2381" y="1317"/>
                  </a:lnTo>
                  <a:lnTo>
                    <a:pt x="2389" y="1311"/>
                  </a:lnTo>
                  <a:lnTo>
                    <a:pt x="2396" y="1302"/>
                  </a:lnTo>
                  <a:lnTo>
                    <a:pt x="2405" y="1295"/>
                  </a:lnTo>
                  <a:lnTo>
                    <a:pt x="2413" y="1293"/>
                  </a:lnTo>
                  <a:lnTo>
                    <a:pt x="2418" y="1291"/>
                  </a:lnTo>
                  <a:lnTo>
                    <a:pt x="2425" y="1287"/>
                  </a:lnTo>
                  <a:lnTo>
                    <a:pt x="2414" y="1283"/>
                  </a:lnTo>
                  <a:lnTo>
                    <a:pt x="2404" y="1278"/>
                  </a:lnTo>
                  <a:lnTo>
                    <a:pt x="2397" y="1272"/>
                  </a:lnTo>
                  <a:lnTo>
                    <a:pt x="2385" y="1255"/>
                  </a:lnTo>
                  <a:lnTo>
                    <a:pt x="2376" y="1236"/>
                  </a:lnTo>
                  <a:lnTo>
                    <a:pt x="2370" y="1215"/>
                  </a:lnTo>
                  <a:lnTo>
                    <a:pt x="2360" y="1207"/>
                  </a:lnTo>
                  <a:lnTo>
                    <a:pt x="2345" y="1203"/>
                  </a:lnTo>
                  <a:lnTo>
                    <a:pt x="2333" y="1194"/>
                  </a:lnTo>
                  <a:lnTo>
                    <a:pt x="2330" y="1186"/>
                  </a:lnTo>
                  <a:lnTo>
                    <a:pt x="2328" y="1177"/>
                  </a:lnTo>
                  <a:lnTo>
                    <a:pt x="2324" y="1169"/>
                  </a:lnTo>
                  <a:lnTo>
                    <a:pt x="2319" y="1165"/>
                  </a:lnTo>
                  <a:lnTo>
                    <a:pt x="2313" y="1164"/>
                  </a:lnTo>
                  <a:lnTo>
                    <a:pt x="2306" y="1161"/>
                  </a:lnTo>
                  <a:lnTo>
                    <a:pt x="2312" y="1156"/>
                  </a:lnTo>
                  <a:lnTo>
                    <a:pt x="2313" y="1149"/>
                  </a:lnTo>
                  <a:lnTo>
                    <a:pt x="2316" y="1142"/>
                  </a:lnTo>
                  <a:lnTo>
                    <a:pt x="2325" y="1137"/>
                  </a:lnTo>
                  <a:lnTo>
                    <a:pt x="2334" y="1131"/>
                  </a:lnTo>
                  <a:lnTo>
                    <a:pt x="2341" y="1125"/>
                  </a:lnTo>
                  <a:lnTo>
                    <a:pt x="2348" y="1111"/>
                  </a:lnTo>
                  <a:lnTo>
                    <a:pt x="2352" y="1097"/>
                  </a:lnTo>
                  <a:lnTo>
                    <a:pt x="2349" y="1083"/>
                  </a:lnTo>
                  <a:lnTo>
                    <a:pt x="2363" y="1089"/>
                  </a:lnTo>
                  <a:lnTo>
                    <a:pt x="2376" y="1086"/>
                  </a:lnTo>
                  <a:lnTo>
                    <a:pt x="2387" y="1077"/>
                  </a:lnTo>
                  <a:lnTo>
                    <a:pt x="2418" y="1051"/>
                  </a:lnTo>
                  <a:lnTo>
                    <a:pt x="2456" y="1039"/>
                  </a:lnTo>
                  <a:lnTo>
                    <a:pt x="2498" y="1036"/>
                  </a:lnTo>
                  <a:lnTo>
                    <a:pt x="2499" y="1031"/>
                  </a:lnTo>
                  <a:lnTo>
                    <a:pt x="2501" y="1020"/>
                  </a:lnTo>
                  <a:lnTo>
                    <a:pt x="2506" y="1009"/>
                  </a:lnTo>
                  <a:lnTo>
                    <a:pt x="2509" y="1003"/>
                  </a:lnTo>
                  <a:lnTo>
                    <a:pt x="2509" y="996"/>
                  </a:lnTo>
                  <a:lnTo>
                    <a:pt x="2506" y="991"/>
                  </a:lnTo>
                  <a:lnTo>
                    <a:pt x="2483" y="981"/>
                  </a:lnTo>
                  <a:lnTo>
                    <a:pt x="2458" y="979"/>
                  </a:lnTo>
                  <a:lnTo>
                    <a:pt x="2438" y="993"/>
                  </a:lnTo>
                  <a:lnTo>
                    <a:pt x="2411" y="976"/>
                  </a:lnTo>
                  <a:lnTo>
                    <a:pt x="2379" y="970"/>
                  </a:lnTo>
                  <a:lnTo>
                    <a:pt x="2346" y="970"/>
                  </a:lnTo>
                  <a:lnTo>
                    <a:pt x="2346" y="978"/>
                  </a:lnTo>
                  <a:lnTo>
                    <a:pt x="2346" y="985"/>
                  </a:lnTo>
                  <a:lnTo>
                    <a:pt x="2345" y="993"/>
                  </a:lnTo>
                  <a:lnTo>
                    <a:pt x="2335" y="1010"/>
                  </a:lnTo>
                  <a:lnTo>
                    <a:pt x="2318" y="1021"/>
                  </a:lnTo>
                  <a:lnTo>
                    <a:pt x="2299" y="1026"/>
                  </a:lnTo>
                  <a:lnTo>
                    <a:pt x="2301" y="1005"/>
                  </a:lnTo>
                  <a:lnTo>
                    <a:pt x="2306" y="985"/>
                  </a:lnTo>
                  <a:lnTo>
                    <a:pt x="2300" y="969"/>
                  </a:lnTo>
                  <a:lnTo>
                    <a:pt x="2281" y="962"/>
                  </a:lnTo>
                  <a:lnTo>
                    <a:pt x="2259" y="963"/>
                  </a:lnTo>
                  <a:lnTo>
                    <a:pt x="2237" y="959"/>
                  </a:lnTo>
                  <a:lnTo>
                    <a:pt x="2226" y="950"/>
                  </a:lnTo>
                  <a:lnTo>
                    <a:pt x="2223" y="937"/>
                  </a:lnTo>
                  <a:lnTo>
                    <a:pt x="2228" y="925"/>
                  </a:lnTo>
                  <a:lnTo>
                    <a:pt x="2234" y="917"/>
                  </a:lnTo>
                  <a:lnTo>
                    <a:pt x="2242" y="912"/>
                  </a:lnTo>
                  <a:lnTo>
                    <a:pt x="2253" y="911"/>
                  </a:lnTo>
                  <a:lnTo>
                    <a:pt x="2255" y="913"/>
                  </a:lnTo>
                  <a:lnTo>
                    <a:pt x="2258" y="914"/>
                  </a:lnTo>
                  <a:lnTo>
                    <a:pt x="2260" y="917"/>
                  </a:lnTo>
                  <a:lnTo>
                    <a:pt x="2273" y="916"/>
                  </a:lnTo>
                  <a:lnTo>
                    <a:pt x="2286" y="912"/>
                  </a:lnTo>
                  <a:lnTo>
                    <a:pt x="2299" y="911"/>
                  </a:lnTo>
                  <a:lnTo>
                    <a:pt x="2302" y="905"/>
                  </a:lnTo>
                  <a:lnTo>
                    <a:pt x="2308" y="904"/>
                  </a:lnTo>
                  <a:lnTo>
                    <a:pt x="2312" y="901"/>
                  </a:lnTo>
                  <a:lnTo>
                    <a:pt x="2312" y="890"/>
                  </a:lnTo>
                  <a:lnTo>
                    <a:pt x="2313" y="881"/>
                  </a:lnTo>
                  <a:lnTo>
                    <a:pt x="2317" y="872"/>
                  </a:lnTo>
                  <a:lnTo>
                    <a:pt x="2329" y="862"/>
                  </a:lnTo>
                  <a:lnTo>
                    <a:pt x="2344" y="857"/>
                  </a:lnTo>
                  <a:lnTo>
                    <a:pt x="2359" y="851"/>
                  </a:lnTo>
                  <a:lnTo>
                    <a:pt x="2371" y="841"/>
                  </a:lnTo>
                  <a:lnTo>
                    <a:pt x="2383" y="833"/>
                  </a:lnTo>
                  <a:lnTo>
                    <a:pt x="2395" y="827"/>
                  </a:lnTo>
                  <a:lnTo>
                    <a:pt x="2406" y="825"/>
                  </a:lnTo>
                  <a:lnTo>
                    <a:pt x="2417" y="825"/>
                  </a:lnTo>
                  <a:lnTo>
                    <a:pt x="2427" y="827"/>
                  </a:lnTo>
                  <a:lnTo>
                    <a:pt x="2430" y="832"/>
                  </a:lnTo>
                  <a:lnTo>
                    <a:pt x="2428" y="842"/>
                  </a:lnTo>
                  <a:lnTo>
                    <a:pt x="2427" y="851"/>
                  </a:lnTo>
                  <a:lnTo>
                    <a:pt x="2425" y="858"/>
                  </a:lnTo>
                  <a:lnTo>
                    <a:pt x="2420" y="865"/>
                  </a:lnTo>
                  <a:lnTo>
                    <a:pt x="2414" y="870"/>
                  </a:lnTo>
                  <a:lnTo>
                    <a:pt x="2406" y="873"/>
                  </a:lnTo>
                  <a:lnTo>
                    <a:pt x="2399" y="878"/>
                  </a:lnTo>
                  <a:lnTo>
                    <a:pt x="2397" y="884"/>
                  </a:lnTo>
                  <a:lnTo>
                    <a:pt x="2405" y="895"/>
                  </a:lnTo>
                  <a:lnTo>
                    <a:pt x="2420" y="896"/>
                  </a:lnTo>
                  <a:lnTo>
                    <a:pt x="2438" y="898"/>
                  </a:lnTo>
                  <a:lnTo>
                    <a:pt x="2428" y="914"/>
                  </a:lnTo>
                  <a:lnTo>
                    <a:pt x="2415" y="927"/>
                  </a:lnTo>
                  <a:lnTo>
                    <a:pt x="2398" y="937"/>
                  </a:lnTo>
                  <a:lnTo>
                    <a:pt x="2406" y="943"/>
                  </a:lnTo>
                  <a:lnTo>
                    <a:pt x="2415" y="945"/>
                  </a:lnTo>
                  <a:lnTo>
                    <a:pt x="2419" y="940"/>
                  </a:lnTo>
                  <a:lnTo>
                    <a:pt x="2433" y="916"/>
                  </a:lnTo>
                  <a:lnTo>
                    <a:pt x="2456" y="902"/>
                  </a:lnTo>
                  <a:lnTo>
                    <a:pt x="2480" y="892"/>
                  </a:lnTo>
                  <a:lnTo>
                    <a:pt x="2505" y="881"/>
                  </a:lnTo>
                  <a:lnTo>
                    <a:pt x="2531" y="872"/>
                  </a:lnTo>
                  <a:lnTo>
                    <a:pt x="2558" y="865"/>
                  </a:lnTo>
                  <a:lnTo>
                    <a:pt x="2558" y="861"/>
                  </a:lnTo>
                  <a:lnTo>
                    <a:pt x="2556" y="855"/>
                  </a:lnTo>
                  <a:lnTo>
                    <a:pt x="2556" y="848"/>
                  </a:lnTo>
                  <a:lnTo>
                    <a:pt x="2559" y="843"/>
                  </a:lnTo>
                  <a:lnTo>
                    <a:pt x="2593" y="818"/>
                  </a:lnTo>
                  <a:lnTo>
                    <a:pt x="2631" y="801"/>
                  </a:lnTo>
                  <a:lnTo>
                    <a:pt x="2665" y="775"/>
                  </a:lnTo>
                  <a:lnTo>
                    <a:pt x="2669" y="768"/>
                  </a:lnTo>
                  <a:lnTo>
                    <a:pt x="2671" y="761"/>
                  </a:lnTo>
                  <a:lnTo>
                    <a:pt x="2676" y="757"/>
                  </a:lnTo>
                  <a:lnTo>
                    <a:pt x="2684" y="755"/>
                  </a:lnTo>
                  <a:lnTo>
                    <a:pt x="2690" y="752"/>
                  </a:lnTo>
                  <a:lnTo>
                    <a:pt x="2693" y="753"/>
                  </a:lnTo>
                  <a:lnTo>
                    <a:pt x="2703" y="768"/>
                  </a:lnTo>
                  <a:lnTo>
                    <a:pt x="2718" y="776"/>
                  </a:lnTo>
                  <a:lnTo>
                    <a:pt x="2735" y="777"/>
                  </a:lnTo>
                  <a:lnTo>
                    <a:pt x="2746" y="770"/>
                  </a:lnTo>
                  <a:lnTo>
                    <a:pt x="2745" y="757"/>
                  </a:lnTo>
                  <a:lnTo>
                    <a:pt x="2745" y="744"/>
                  </a:lnTo>
                  <a:lnTo>
                    <a:pt x="2755" y="739"/>
                  </a:lnTo>
                  <a:lnTo>
                    <a:pt x="2770" y="740"/>
                  </a:lnTo>
                  <a:lnTo>
                    <a:pt x="2783" y="737"/>
                  </a:lnTo>
                  <a:lnTo>
                    <a:pt x="2792" y="730"/>
                  </a:lnTo>
                  <a:lnTo>
                    <a:pt x="2800" y="724"/>
                  </a:lnTo>
                  <a:lnTo>
                    <a:pt x="2809" y="717"/>
                  </a:lnTo>
                  <a:lnTo>
                    <a:pt x="2814" y="716"/>
                  </a:lnTo>
                  <a:lnTo>
                    <a:pt x="2821" y="716"/>
                  </a:lnTo>
                  <a:lnTo>
                    <a:pt x="2826" y="715"/>
                  </a:lnTo>
                  <a:lnTo>
                    <a:pt x="2830" y="707"/>
                  </a:lnTo>
                  <a:lnTo>
                    <a:pt x="2831" y="698"/>
                  </a:lnTo>
                  <a:lnTo>
                    <a:pt x="2833" y="690"/>
                  </a:lnTo>
                  <a:lnTo>
                    <a:pt x="2845" y="685"/>
                  </a:lnTo>
                  <a:lnTo>
                    <a:pt x="2858" y="695"/>
                  </a:lnTo>
                  <a:lnTo>
                    <a:pt x="2871" y="705"/>
                  </a:lnTo>
                  <a:lnTo>
                    <a:pt x="2877" y="702"/>
                  </a:lnTo>
                  <a:lnTo>
                    <a:pt x="2886" y="695"/>
                  </a:lnTo>
                  <a:lnTo>
                    <a:pt x="2894" y="686"/>
                  </a:lnTo>
                  <a:lnTo>
                    <a:pt x="2898" y="679"/>
                  </a:lnTo>
                  <a:lnTo>
                    <a:pt x="2903" y="669"/>
                  </a:lnTo>
                  <a:lnTo>
                    <a:pt x="2907" y="661"/>
                  </a:lnTo>
                  <a:lnTo>
                    <a:pt x="2910" y="650"/>
                  </a:lnTo>
                  <a:lnTo>
                    <a:pt x="2907" y="648"/>
                  </a:lnTo>
                  <a:lnTo>
                    <a:pt x="2907" y="645"/>
                  </a:lnTo>
                  <a:lnTo>
                    <a:pt x="2904" y="643"/>
                  </a:lnTo>
                  <a:lnTo>
                    <a:pt x="2907" y="618"/>
                  </a:lnTo>
                  <a:lnTo>
                    <a:pt x="2903" y="593"/>
                  </a:lnTo>
                  <a:lnTo>
                    <a:pt x="2891" y="570"/>
                  </a:lnTo>
                  <a:lnTo>
                    <a:pt x="2906" y="562"/>
                  </a:lnTo>
                  <a:lnTo>
                    <a:pt x="2919" y="551"/>
                  </a:lnTo>
                  <a:lnTo>
                    <a:pt x="2930" y="537"/>
                  </a:lnTo>
                  <a:lnTo>
                    <a:pt x="2940" y="545"/>
                  </a:lnTo>
                  <a:lnTo>
                    <a:pt x="2951" y="549"/>
                  </a:lnTo>
                  <a:lnTo>
                    <a:pt x="2963" y="547"/>
                  </a:lnTo>
                  <a:lnTo>
                    <a:pt x="2963" y="551"/>
                  </a:lnTo>
                  <a:lnTo>
                    <a:pt x="2967" y="553"/>
                  </a:lnTo>
                  <a:lnTo>
                    <a:pt x="2970" y="554"/>
                  </a:lnTo>
                  <a:lnTo>
                    <a:pt x="2979" y="554"/>
                  </a:lnTo>
                  <a:lnTo>
                    <a:pt x="2987" y="553"/>
                  </a:lnTo>
                  <a:lnTo>
                    <a:pt x="2996" y="550"/>
                  </a:lnTo>
                  <a:lnTo>
                    <a:pt x="2997" y="539"/>
                  </a:lnTo>
                  <a:lnTo>
                    <a:pt x="3002" y="529"/>
                  </a:lnTo>
                  <a:lnTo>
                    <a:pt x="3012" y="520"/>
                  </a:lnTo>
                  <a:lnTo>
                    <a:pt x="3013" y="517"/>
                  </a:lnTo>
                  <a:lnTo>
                    <a:pt x="3013" y="512"/>
                  </a:lnTo>
                  <a:lnTo>
                    <a:pt x="3013" y="508"/>
                  </a:lnTo>
                  <a:lnTo>
                    <a:pt x="3020" y="500"/>
                  </a:lnTo>
                  <a:lnTo>
                    <a:pt x="3027" y="492"/>
                  </a:lnTo>
                  <a:lnTo>
                    <a:pt x="3035" y="484"/>
                  </a:lnTo>
                  <a:lnTo>
                    <a:pt x="3037" y="478"/>
                  </a:lnTo>
                  <a:lnTo>
                    <a:pt x="3036" y="472"/>
                  </a:lnTo>
                  <a:lnTo>
                    <a:pt x="3033" y="465"/>
                  </a:lnTo>
                  <a:lnTo>
                    <a:pt x="3039" y="460"/>
                  </a:lnTo>
                  <a:lnTo>
                    <a:pt x="3044" y="454"/>
                  </a:lnTo>
                  <a:lnTo>
                    <a:pt x="3048" y="448"/>
                  </a:lnTo>
                  <a:lnTo>
                    <a:pt x="3049" y="441"/>
                  </a:lnTo>
                  <a:lnTo>
                    <a:pt x="3047" y="435"/>
                  </a:lnTo>
                  <a:lnTo>
                    <a:pt x="3047" y="430"/>
                  </a:lnTo>
                  <a:lnTo>
                    <a:pt x="3055" y="422"/>
                  </a:lnTo>
                  <a:lnTo>
                    <a:pt x="3056" y="413"/>
                  </a:lnTo>
                  <a:lnTo>
                    <a:pt x="3056" y="402"/>
                  </a:lnTo>
                  <a:lnTo>
                    <a:pt x="3068" y="402"/>
                  </a:lnTo>
                  <a:lnTo>
                    <a:pt x="3079" y="396"/>
                  </a:lnTo>
                  <a:lnTo>
                    <a:pt x="3080" y="387"/>
                  </a:lnTo>
                  <a:lnTo>
                    <a:pt x="3076" y="377"/>
                  </a:lnTo>
                  <a:lnTo>
                    <a:pt x="3074" y="368"/>
                  </a:lnTo>
                  <a:lnTo>
                    <a:pt x="3074" y="359"/>
                  </a:lnTo>
                  <a:lnTo>
                    <a:pt x="3074" y="355"/>
                  </a:lnTo>
                  <a:lnTo>
                    <a:pt x="3076" y="350"/>
                  </a:lnTo>
                  <a:lnTo>
                    <a:pt x="3079" y="346"/>
                  </a:lnTo>
                  <a:lnTo>
                    <a:pt x="3071" y="345"/>
                  </a:lnTo>
                  <a:lnTo>
                    <a:pt x="3065" y="341"/>
                  </a:lnTo>
                  <a:lnTo>
                    <a:pt x="3060" y="341"/>
                  </a:lnTo>
                  <a:lnTo>
                    <a:pt x="3038" y="348"/>
                  </a:lnTo>
                  <a:lnTo>
                    <a:pt x="3015" y="350"/>
                  </a:lnTo>
                  <a:lnTo>
                    <a:pt x="2994" y="355"/>
                  </a:lnTo>
                  <a:lnTo>
                    <a:pt x="2985" y="361"/>
                  </a:lnTo>
                  <a:lnTo>
                    <a:pt x="2977" y="367"/>
                  </a:lnTo>
                  <a:lnTo>
                    <a:pt x="2967" y="372"/>
                  </a:lnTo>
                  <a:lnTo>
                    <a:pt x="2969" y="374"/>
                  </a:lnTo>
                  <a:lnTo>
                    <a:pt x="2970" y="376"/>
                  </a:lnTo>
                  <a:lnTo>
                    <a:pt x="2970" y="378"/>
                  </a:lnTo>
                  <a:lnTo>
                    <a:pt x="2952" y="386"/>
                  </a:lnTo>
                  <a:lnTo>
                    <a:pt x="2934" y="386"/>
                  </a:lnTo>
                  <a:lnTo>
                    <a:pt x="2917" y="380"/>
                  </a:lnTo>
                  <a:lnTo>
                    <a:pt x="2910" y="379"/>
                  </a:lnTo>
                  <a:lnTo>
                    <a:pt x="2903" y="381"/>
                  </a:lnTo>
                  <a:lnTo>
                    <a:pt x="2896" y="385"/>
                  </a:lnTo>
                  <a:lnTo>
                    <a:pt x="2893" y="386"/>
                  </a:lnTo>
                  <a:lnTo>
                    <a:pt x="2890" y="386"/>
                  </a:lnTo>
                  <a:lnTo>
                    <a:pt x="2888" y="383"/>
                  </a:lnTo>
                  <a:lnTo>
                    <a:pt x="2886" y="378"/>
                  </a:lnTo>
                  <a:lnTo>
                    <a:pt x="2885" y="374"/>
                  </a:lnTo>
                  <a:lnTo>
                    <a:pt x="2891" y="372"/>
                  </a:lnTo>
                  <a:lnTo>
                    <a:pt x="2886" y="369"/>
                  </a:lnTo>
                  <a:lnTo>
                    <a:pt x="2881" y="366"/>
                  </a:lnTo>
                  <a:lnTo>
                    <a:pt x="2878" y="363"/>
                  </a:lnTo>
                  <a:lnTo>
                    <a:pt x="2878" y="348"/>
                  </a:lnTo>
                  <a:lnTo>
                    <a:pt x="2875" y="335"/>
                  </a:lnTo>
                  <a:lnTo>
                    <a:pt x="2867" y="323"/>
                  </a:lnTo>
                  <a:lnTo>
                    <a:pt x="2871" y="319"/>
                  </a:lnTo>
                  <a:lnTo>
                    <a:pt x="2873" y="313"/>
                  </a:lnTo>
                  <a:lnTo>
                    <a:pt x="2877" y="310"/>
                  </a:lnTo>
                  <a:lnTo>
                    <a:pt x="2865" y="310"/>
                  </a:lnTo>
                  <a:lnTo>
                    <a:pt x="2853" y="307"/>
                  </a:lnTo>
                  <a:lnTo>
                    <a:pt x="2841" y="303"/>
                  </a:lnTo>
                  <a:lnTo>
                    <a:pt x="2837" y="299"/>
                  </a:lnTo>
                  <a:lnTo>
                    <a:pt x="2835" y="293"/>
                  </a:lnTo>
                  <a:lnTo>
                    <a:pt x="2833" y="287"/>
                  </a:lnTo>
                  <a:lnTo>
                    <a:pt x="2823" y="278"/>
                  </a:lnTo>
                  <a:lnTo>
                    <a:pt x="2809" y="277"/>
                  </a:lnTo>
                  <a:lnTo>
                    <a:pt x="2796" y="275"/>
                  </a:lnTo>
                  <a:lnTo>
                    <a:pt x="2788" y="271"/>
                  </a:lnTo>
                  <a:lnTo>
                    <a:pt x="2779" y="268"/>
                  </a:lnTo>
                  <a:lnTo>
                    <a:pt x="2771" y="265"/>
                  </a:lnTo>
                  <a:lnTo>
                    <a:pt x="2760" y="263"/>
                  </a:lnTo>
                  <a:lnTo>
                    <a:pt x="2748" y="263"/>
                  </a:lnTo>
                  <a:lnTo>
                    <a:pt x="2735" y="263"/>
                  </a:lnTo>
                  <a:lnTo>
                    <a:pt x="2732" y="258"/>
                  </a:lnTo>
                  <a:lnTo>
                    <a:pt x="2726" y="255"/>
                  </a:lnTo>
                  <a:lnTo>
                    <a:pt x="2722" y="251"/>
                  </a:lnTo>
                  <a:lnTo>
                    <a:pt x="2723" y="243"/>
                  </a:lnTo>
                  <a:lnTo>
                    <a:pt x="2726" y="235"/>
                  </a:lnTo>
                  <a:lnTo>
                    <a:pt x="2725" y="227"/>
                  </a:lnTo>
                  <a:lnTo>
                    <a:pt x="2721" y="223"/>
                  </a:lnTo>
                  <a:lnTo>
                    <a:pt x="2716" y="220"/>
                  </a:lnTo>
                  <a:lnTo>
                    <a:pt x="2714" y="217"/>
                  </a:lnTo>
                  <a:lnTo>
                    <a:pt x="2709" y="192"/>
                  </a:lnTo>
                  <a:lnTo>
                    <a:pt x="2697" y="170"/>
                  </a:lnTo>
                  <a:lnTo>
                    <a:pt x="2680" y="150"/>
                  </a:lnTo>
                  <a:lnTo>
                    <a:pt x="2680" y="145"/>
                  </a:lnTo>
                  <a:lnTo>
                    <a:pt x="2685" y="141"/>
                  </a:lnTo>
                  <a:lnTo>
                    <a:pt x="2685" y="135"/>
                  </a:lnTo>
                  <a:lnTo>
                    <a:pt x="2674" y="113"/>
                  </a:lnTo>
                  <a:lnTo>
                    <a:pt x="2664" y="92"/>
                  </a:lnTo>
                  <a:lnTo>
                    <a:pt x="2653" y="70"/>
                  </a:lnTo>
                  <a:lnTo>
                    <a:pt x="2648" y="60"/>
                  </a:lnTo>
                  <a:lnTo>
                    <a:pt x="2641" y="49"/>
                  </a:lnTo>
                  <a:lnTo>
                    <a:pt x="2632" y="40"/>
                  </a:lnTo>
                  <a:lnTo>
                    <a:pt x="2627" y="37"/>
                  </a:lnTo>
                  <a:lnTo>
                    <a:pt x="2620" y="35"/>
                  </a:lnTo>
                  <a:lnTo>
                    <a:pt x="2613" y="33"/>
                  </a:lnTo>
                  <a:lnTo>
                    <a:pt x="2601" y="32"/>
                  </a:lnTo>
                  <a:lnTo>
                    <a:pt x="2589" y="33"/>
                  </a:lnTo>
                  <a:lnTo>
                    <a:pt x="2577" y="31"/>
                  </a:lnTo>
                  <a:lnTo>
                    <a:pt x="2567" y="25"/>
                  </a:lnTo>
                  <a:lnTo>
                    <a:pt x="2556" y="18"/>
                  </a:lnTo>
                  <a:lnTo>
                    <a:pt x="2545" y="12"/>
                  </a:lnTo>
                  <a:lnTo>
                    <a:pt x="2528" y="4"/>
                  </a:lnTo>
                  <a:lnTo>
                    <a:pt x="2508" y="0"/>
                  </a:lnTo>
                  <a:lnTo>
                    <a:pt x="2488" y="1"/>
                  </a:lnTo>
                  <a:lnTo>
                    <a:pt x="2485" y="2"/>
                  </a:lnTo>
                  <a:lnTo>
                    <a:pt x="2481" y="3"/>
                  </a:lnTo>
                  <a:lnTo>
                    <a:pt x="2477" y="5"/>
                  </a:lnTo>
                  <a:lnTo>
                    <a:pt x="2467" y="5"/>
                  </a:lnTo>
                  <a:lnTo>
                    <a:pt x="2457" y="1"/>
                  </a:lnTo>
                  <a:lnTo>
                    <a:pt x="2449" y="1"/>
                  </a:lnTo>
                  <a:lnTo>
                    <a:pt x="2429" y="9"/>
                  </a:lnTo>
                  <a:lnTo>
                    <a:pt x="2408" y="10"/>
                  </a:lnTo>
                  <a:lnTo>
                    <a:pt x="2390" y="15"/>
                  </a:lnTo>
                  <a:lnTo>
                    <a:pt x="2376" y="26"/>
                  </a:lnTo>
                  <a:lnTo>
                    <a:pt x="2362" y="36"/>
                  </a:lnTo>
                  <a:lnTo>
                    <a:pt x="2346" y="44"/>
                  </a:lnTo>
                  <a:lnTo>
                    <a:pt x="2343" y="49"/>
                  </a:lnTo>
                  <a:lnTo>
                    <a:pt x="2342" y="56"/>
                  </a:lnTo>
                  <a:lnTo>
                    <a:pt x="2346" y="60"/>
                  </a:lnTo>
                  <a:lnTo>
                    <a:pt x="2366" y="66"/>
                  </a:lnTo>
                  <a:lnTo>
                    <a:pt x="2376" y="81"/>
                  </a:lnTo>
                  <a:lnTo>
                    <a:pt x="2378" y="98"/>
                  </a:lnTo>
                  <a:lnTo>
                    <a:pt x="2370" y="113"/>
                  </a:lnTo>
                  <a:lnTo>
                    <a:pt x="2354" y="128"/>
                  </a:lnTo>
                  <a:lnTo>
                    <a:pt x="2339" y="144"/>
                  </a:lnTo>
                  <a:lnTo>
                    <a:pt x="2335" y="155"/>
                  </a:lnTo>
                  <a:lnTo>
                    <a:pt x="2332" y="166"/>
                  </a:lnTo>
                  <a:lnTo>
                    <a:pt x="2325" y="173"/>
                  </a:lnTo>
                  <a:lnTo>
                    <a:pt x="2320" y="177"/>
                  </a:lnTo>
                  <a:lnTo>
                    <a:pt x="2317" y="181"/>
                  </a:lnTo>
                  <a:lnTo>
                    <a:pt x="2314" y="185"/>
                  </a:lnTo>
                  <a:lnTo>
                    <a:pt x="2308" y="199"/>
                  </a:lnTo>
                  <a:lnTo>
                    <a:pt x="2311" y="215"/>
                  </a:lnTo>
                  <a:lnTo>
                    <a:pt x="2309" y="230"/>
                  </a:lnTo>
                  <a:lnTo>
                    <a:pt x="2311" y="230"/>
                  </a:lnTo>
                  <a:lnTo>
                    <a:pt x="2313" y="230"/>
                  </a:lnTo>
                  <a:lnTo>
                    <a:pt x="2316" y="230"/>
                  </a:lnTo>
                  <a:lnTo>
                    <a:pt x="2311" y="233"/>
                  </a:lnTo>
                  <a:lnTo>
                    <a:pt x="2306" y="237"/>
                  </a:lnTo>
                  <a:lnTo>
                    <a:pt x="2303" y="239"/>
                  </a:lnTo>
                  <a:lnTo>
                    <a:pt x="2280" y="242"/>
                  </a:lnTo>
                  <a:lnTo>
                    <a:pt x="2261" y="252"/>
                  </a:lnTo>
                  <a:lnTo>
                    <a:pt x="2242" y="261"/>
                  </a:lnTo>
                  <a:lnTo>
                    <a:pt x="2223" y="262"/>
                  </a:lnTo>
                  <a:lnTo>
                    <a:pt x="2204" y="254"/>
                  </a:lnTo>
                  <a:lnTo>
                    <a:pt x="2183" y="247"/>
                  </a:lnTo>
                  <a:lnTo>
                    <a:pt x="2172" y="242"/>
                  </a:lnTo>
                  <a:lnTo>
                    <a:pt x="2176" y="251"/>
                  </a:lnTo>
                  <a:lnTo>
                    <a:pt x="2175" y="257"/>
                  </a:lnTo>
                  <a:lnTo>
                    <a:pt x="2172" y="263"/>
                  </a:lnTo>
                  <a:lnTo>
                    <a:pt x="2162" y="283"/>
                  </a:lnTo>
                  <a:lnTo>
                    <a:pt x="2149" y="303"/>
                  </a:lnTo>
                  <a:lnTo>
                    <a:pt x="2137" y="323"/>
                  </a:lnTo>
                  <a:lnTo>
                    <a:pt x="2137" y="330"/>
                  </a:lnTo>
                  <a:lnTo>
                    <a:pt x="2139" y="336"/>
                  </a:lnTo>
                  <a:lnTo>
                    <a:pt x="2140" y="343"/>
                  </a:lnTo>
                  <a:lnTo>
                    <a:pt x="2131" y="344"/>
                  </a:lnTo>
                  <a:lnTo>
                    <a:pt x="2122" y="347"/>
                  </a:lnTo>
                  <a:lnTo>
                    <a:pt x="2116" y="351"/>
                  </a:lnTo>
                  <a:lnTo>
                    <a:pt x="2113" y="363"/>
                  </a:lnTo>
                  <a:lnTo>
                    <a:pt x="2119" y="375"/>
                  </a:lnTo>
                  <a:lnTo>
                    <a:pt x="2131" y="380"/>
                  </a:lnTo>
                  <a:lnTo>
                    <a:pt x="2137" y="378"/>
                  </a:lnTo>
                  <a:lnTo>
                    <a:pt x="2144" y="375"/>
                  </a:lnTo>
                  <a:lnTo>
                    <a:pt x="2150" y="374"/>
                  </a:lnTo>
                  <a:lnTo>
                    <a:pt x="2166" y="375"/>
                  </a:lnTo>
                  <a:lnTo>
                    <a:pt x="2181" y="376"/>
                  </a:lnTo>
                  <a:lnTo>
                    <a:pt x="2195" y="381"/>
                  </a:lnTo>
                  <a:lnTo>
                    <a:pt x="2198" y="382"/>
                  </a:lnTo>
                  <a:lnTo>
                    <a:pt x="2201" y="384"/>
                  </a:lnTo>
                  <a:lnTo>
                    <a:pt x="2204" y="386"/>
                  </a:lnTo>
                  <a:lnTo>
                    <a:pt x="2214" y="384"/>
                  </a:lnTo>
                  <a:lnTo>
                    <a:pt x="2224" y="378"/>
                  </a:lnTo>
                  <a:lnTo>
                    <a:pt x="2234" y="373"/>
                  </a:lnTo>
                  <a:lnTo>
                    <a:pt x="2260" y="370"/>
                  </a:lnTo>
                  <a:lnTo>
                    <a:pt x="2284" y="380"/>
                  </a:lnTo>
                  <a:lnTo>
                    <a:pt x="2304" y="401"/>
                  </a:lnTo>
                  <a:lnTo>
                    <a:pt x="2310" y="406"/>
                  </a:lnTo>
                  <a:lnTo>
                    <a:pt x="2317" y="409"/>
                  </a:lnTo>
                  <a:lnTo>
                    <a:pt x="2325" y="414"/>
                  </a:lnTo>
                  <a:lnTo>
                    <a:pt x="2333" y="420"/>
                  </a:lnTo>
                  <a:lnTo>
                    <a:pt x="2339" y="431"/>
                  </a:lnTo>
                  <a:lnTo>
                    <a:pt x="2337" y="441"/>
                  </a:lnTo>
                  <a:lnTo>
                    <a:pt x="2336" y="445"/>
                  </a:lnTo>
                  <a:lnTo>
                    <a:pt x="2333" y="449"/>
                  </a:lnTo>
                  <a:lnTo>
                    <a:pt x="2329" y="451"/>
                  </a:lnTo>
                  <a:lnTo>
                    <a:pt x="2315" y="451"/>
                  </a:lnTo>
                  <a:lnTo>
                    <a:pt x="2301" y="450"/>
                  </a:lnTo>
                  <a:lnTo>
                    <a:pt x="2288" y="447"/>
                  </a:lnTo>
                  <a:lnTo>
                    <a:pt x="2266" y="445"/>
                  </a:lnTo>
                  <a:lnTo>
                    <a:pt x="2243" y="451"/>
                  </a:lnTo>
                  <a:lnTo>
                    <a:pt x="2220" y="456"/>
                  </a:lnTo>
                  <a:lnTo>
                    <a:pt x="2214" y="460"/>
                  </a:lnTo>
                  <a:lnTo>
                    <a:pt x="2209" y="465"/>
                  </a:lnTo>
                  <a:lnTo>
                    <a:pt x="2203" y="471"/>
                  </a:lnTo>
                  <a:lnTo>
                    <a:pt x="2197" y="472"/>
                  </a:lnTo>
                  <a:lnTo>
                    <a:pt x="2190" y="471"/>
                  </a:lnTo>
                  <a:lnTo>
                    <a:pt x="2184" y="472"/>
                  </a:lnTo>
                  <a:lnTo>
                    <a:pt x="2166" y="488"/>
                  </a:lnTo>
                  <a:lnTo>
                    <a:pt x="2154" y="508"/>
                  </a:lnTo>
                  <a:lnTo>
                    <a:pt x="2139" y="526"/>
                  </a:lnTo>
                  <a:lnTo>
                    <a:pt x="2121" y="532"/>
                  </a:lnTo>
                  <a:lnTo>
                    <a:pt x="2101" y="531"/>
                  </a:lnTo>
                  <a:lnTo>
                    <a:pt x="2082" y="532"/>
                  </a:lnTo>
                  <a:lnTo>
                    <a:pt x="2072" y="537"/>
                  </a:lnTo>
                  <a:lnTo>
                    <a:pt x="2063" y="546"/>
                  </a:lnTo>
                  <a:lnTo>
                    <a:pt x="2056" y="556"/>
                  </a:lnTo>
                  <a:lnTo>
                    <a:pt x="2040" y="568"/>
                  </a:lnTo>
                  <a:lnTo>
                    <a:pt x="2020" y="572"/>
                  </a:lnTo>
                  <a:lnTo>
                    <a:pt x="1999" y="570"/>
                  </a:lnTo>
                  <a:lnTo>
                    <a:pt x="1979" y="562"/>
                  </a:lnTo>
                  <a:lnTo>
                    <a:pt x="1959" y="555"/>
                  </a:lnTo>
                  <a:lnTo>
                    <a:pt x="1940" y="556"/>
                  </a:lnTo>
                  <a:lnTo>
                    <a:pt x="1923" y="568"/>
                  </a:lnTo>
                  <a:lnTo>
                    <a:pt x="1914" y="586"/>
                  </a:lnTo>
                  <a:lnTo>
                    <a:pt x="1918" y="605"/>
                  </a:lnTo>
                  <a:lnTo>
                    <a:pt x="1930" y="618"/>
                  </a:lnTo>
                  <a:lnTo>
                    <a:pt x="1940" y="629"/>
                  </a:lnTo>
                  <a:lnTo>
                    <a:pt x="1940" y="641"/>
                  </a:lnTo>
                  <a:lnTo>
                    <a:pt x="1925" y="651"/>
                  </a:lnTo>
                  <a:lnTo>
                    <a:pt x="1906" y="657"/>
                  </a:lnTo>
                  <a:lnTo>
                    <a:pt x="1888" y="665"/>
                  </a:lnTo>
                  <a:lnTo>
                    <a:pt x="1870" y="680"/>
                  </a:lnTo>
                  <a:lnTo>
                    <a:pt x="1853" y="697"/>
                  </a:lnTo>
                  <a:lnTo>
                    <a:pt x="1835" y="709"/>
                  </a:lnTo>
                  <a:lnTo>
                    <a:pt x="1777" y="719"/>
                  </a:lnTo>
                  <a:lnTo>
                    <a:pt x="1716" y="719"/>
                  </a:lnTo>
                  <a:lnTo>
                    <a:pt x="1656" y="728"/>
                  </a:lnTo>
                  <a:lnTo>
                    <a:pt x="1637" y="741"/>
                  </a:lnTo>
                  <a:lnTo>
                    <a:pt x="1618" y="756"/>
                  </a:lnTo>
                  <a:lnTo>
                    <a:pt x="1595" y="762"/>
                  </a:lnTo>
                  <a:lnTo>
                    <a:pt x="1586" y="759"/>
                  </a:lnTo>
                  <a:lnTo>
                    <a:pt x="1576" y="756"/>
                  </a:lnTo>
                  <a:lnTo>
                    <a:pt x="1566" y="758"/>
                  </a:lnTo>
                  <a:lnTo>
                    <a:pt x="1563" y="756"/>
                  </a:lnTo>
                  <a:lnTo>
                    <a:pt x="1563" y="752"/>
                  </a:lnTo>
                  <a:lnTo>
                    <a:pt x="1560" y="749"/>
                  </a:lnTo>
                  <a:lnTo>
                    <a:pt x="1513" y="745"/>
                  </a:lnTo>
                  <a:lnTo>
                    <a:pt x="1469" y="734"/>
                  </a:lnTo>
                  <a:lnTo>
                    <a:pt x="1427" y="716"/>
                  </a:lnTo>
                  <a:lnTo>
                    <a:pt x="1404" y="707"/>
                  </a:lnTo>
                  <a:lnTo>
                    <a:pt x="1381" y="701"/>
                  </a:lnTo>
                  <a:lnTo>
                    <a:pt x="1358" y="701"/>
                  </a:lnTo>
                  <a:lnTo>
                    <a:pt x="1291" y="709"/>
                  </a:lnTo>
                  <a:lnTo>
                    <a:pt x="1221" y="708"/>
                  </a:lnTo>
                  <a:lnTo>
                    <a:pt x="1161" y="686"/>
                  </a:lnTo>
                  <a:lnTo>
                    <a:pt x="1121" y="631"/>
                  </a:lnTo>
                  <a:lnTo>
                    <a:pt x="1116" y="621"/>
                  </a:lnTo>
                  <a:lnTo>
                    <a:pt x="1109" y="612"/>
                  </a:lnTo>
                  <a:lnTo>
                    <a:pt x="1099" y="605"/>
                  </a:lnTo>
                  <a:lnTo>
                    <a:pt x="1084" y="599"/>
                  </a:lnTo>
                  <a:lnTo>
                    <a:pt x="1068" y="593"/>
                  </a:lnTo>
                  <a:lnTo>
                    <a:pt x="1051" y="589"/>
                  </a:lnTo>
                  <a:lnTo>
                    <a:pt x="1037" y="580"/>
                  </a:lnTo>
                  <a:lnTo>
                    <a:pt x="1023" y="569"/>
                  </a:lnTo>
                  <a:lnTo>
                    <a:pt x="1008" y="561"/>
                  </a:lnTo>
                  <a:lnTo>
                    <a:pt x="966" y="556"/>
                  </a:lnTo>
                  <a:lnTo>
                    <a:pt x="926" y="555"/>
                  </a:lnTo>
                  <a:lnTo>
                    <a:pt x="886" y="547"/>
                  </a:lnTo>
                  <a:lnTo>
                    <a:pt x="878" y="540"/>
                  </a:lnTo>
                  <a:lnTo>
                    <a:pt x="873" y="531"/>
                  </a:lnTo>
                  <a:lnTo>
                    <a:pt x="870" y="521"/>
                  </a:lnTo>
                  <a:lnTo>
                    <a:pt x="873" y="506"/>
                  </a:lnTo>
                  <a:lnTo>
                    <a:pt x="886" y="494"/>
                  </a:lnTo>
                  <a:lnTo>
                    <a:pt x="892" y="482"/>
                  </a:lnTo>
                  <a:lnTo>
                    <a:pt x="892" y="467"/>
                  </a:lnTo>
                  <a:lnTo>
                    <a:pt x="895" y="453"/>
                  </a:lnTo>
                  <a:lnTo>
                    <a:pt x="893" y="444"/>
                  </a:lnTo>
                  <a:lnTo>
                    <a:pt x="880" y="426"/>
                  </a:lnTo>
                  <a:lnTo>
                    <a:pt x="869" y="406"/>
                  </a:lnTo>
                  <a:lnTo>
                    <a:pt x="858" y="387"/>
                  </a:lnTo>
                  <a:lnTo>
                    <a:pt x="838" y="372"/>
                  </a:lnTo>
                  <a:lnTo>
                    <a:pt x="814" y="370"/>
                  </a:lnTo>
                  <a:lnTo>
                    <a:pt x="790" y="365"/>
                  </a:lnTo>
                  <a:lnTo>
                    <a:pt x="770" y="353"/>
                  </a:lnTo>
                  <a:lnTo>
                    <a:pt x="752" y="338"/>
                  </a:lnTo>
                  <a:lnTo>
                    <a:pt x="733" y="323"/>
                  </a:lnTo>
                  <a:lnTo>
                    <a:pt x="737" y="322"/>
                  </a:lnTo>
                  <a:lnTo>
                    <a:pt x="740" y="320"/>
                  </a:lnTo>
                  <a:lnTo>
                    <a:pt x="739" y="317"/>
                  </a:lnTo>
                  <a:lnTo>
                    <a:pt x="736" y="314"/>
                  </a:lnTo>
                  <a:lnTo>
                    <a:pt x="733" y="312"/>
                  </a:lnTo>
                  <a:lnTo>
                    <a:pt x="731" y="310"/>
                  </a:lnTo>
                  <a:lnTo>
                    <a:pt x="734" y="292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4200" y="4029480"/>
              <a:ext cx="402480" cy="568440"/>
            </a:xfrm>
            <a:custGeom>
              <a:avLst/>
              <a:gdLst/>
              <a:ahLst/>
              <a:rect l="l" t="t" r="r" b="b"/>
              <a:pathLst>
                <a:path w="382" h="455">
                  <a:moveTo>
                    <a:pt x="250" y="431"/>
                  </a:moveTo>
                  <a:lnTo>
                    <a:pt x="255" y="425"/>
                  </a:lnTo>
                  <a:lnTo>
                    <a:pt x="262" y="421"/>
                  </a:lnTo>
                  <a:lnTo>
                    <a:pt x="268" y="414"/>
                  </a:lnTo>
                  <a:lnTo>
                    <a:pt x="270" y="375"/>
                  </a:lnTo>
                  <a:lnTo>
                    <a:pt x="254" y="339"/>
                  </a:lnTo>
                  <a:lnTo>
                    <a:pt x="232" y="305"/>
                  </a:lnTo>
                  <a:lnTo>
                    <a:pt x="231" y="297"/>
                  </a:lnTo>
                  <a:lnTo>
                    <a:pt x="233" y="289"/>
                  </a:lnTo>
                  <a:lnTo>
                    <a:pt x="237" y="282"/>
                  </a:lnTo>
                  <a:lnTo>
                    <a:pt x="238" y="276"/>
                  </a:lnTo>
                  <a:lnTo>
                    <a:pt x="235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7" y="239"/>
                  </a:lnTo>
                  <a:lnTo>
                    <a:pt x="198" y="222"/>
                  </a:lnTo>
                  <a:lnTo>
                    <a:pt x="189" y="224"/>
                  </a:lnTo>
                  <a:lnTo>
                    <a:pt x="178" y="223"/>
                  </a:lnTo>
                  <a:lnTo>
                    <a:pt x="166" y="222"/>
                  </a:lnTo>
                  <a:lnTo>
                    <a:pt x="152" y="229"/>
                  </a:lnTo>
                  <a:lnTo>
                    <a:pt x="143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9" y="245"/>
                  </a:lnTo>
                  <a:lnTo>
                    <a:pt x="54" y="233"/>
                  </a:lnTo>
                  <a:lnTo>
                    <a:pt x="50" y="228"/>
                  </a:lnTo>
                  <a:lnTo>
                    <a:pt x="44" y="223"/>
                  </a:lnTo>
                  <a:lnTo>
                    <a:pt x="45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6"/>
                  </a:lnTo>
                  <a:lnTo>
                    <a:pt x="58" y="195"/>
                  </a:lnTo>
                  <a:lnTo>
                    <a:pt x="62" y="192"/>
                  </a:lnTo>
                  <a:lnTo>
                    <a:pt x="66" y="189"/>
                  </a:lnTo>
                  <a:lnTo>
                    <a:pt x="67" y="186"/>
                  </a:lnTo>
                  <a:lnTo>
                    <a:pt x="67" y="183"/>
                  </a:lnTo>
                  <a:lnTo>
                    <a:pt x="66" y="180"/>
                  </a:lnTo>
                  <a:lnTo>
                    <a:pt x="59" y="175"/>
                  </a:lnTo>
                  <a:lnTo>
                    <a:pt x="58" y="167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0" y="154"/>
                  </a:lnTo>
                  <a:lnTo>
                    <a:pt x="60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2" y="141"/>
                  </a:lnTo>
                  <a:lnTo>
                    <a:pt x="21" y="129"/>
                  </a:lnTo>
                  <a:lnTo>
                    <a:pt x="18" y="119"/>
                  </a:lnTo>
                  <a:lnTo>
                    <a:pt x="13" y="113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5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1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7" y="15"/>
                  </a:lnTo>
                  <a:lnTo>
                    <a:pt x="70" y="3"/>
                  </a:lnTo>
                  <a:lnTo>
                    <a:pt x="80" y="0"/>
                  </a:lnTo>
                  <a:lnTo>
                    <a:pt x="93" y="5"/>
                  </a:lnTo>
                  <a:lnTo>
                    <a:pt x="106" y="10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7" y="42"/>
                  </a:lnTo>
                  <a:lnTo>
                    <a:pt x="148" y="41"/>
                  </a:lnTo>
                  <a:lnTo>
                    <a:pt x="152" y="47"/>
                  </a:lnTo>
                  <a:lnTo>
                    <a:pt x="148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70" y="82"/>
                  </a:lnTo>
                  <a:lnTo>
                    <a:pt x="192" y="81"/>
                  </a:lnTo>
                  <a:lnTo>
                    <a:pt x="214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40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3" y="134"/>
                  </a:lnTo>
                  <a:lnTo>
                    <a:pt x="241" y="141"/>
                  </a:lnTo>
                  <a:lnTo>
                    <a:pt x="238" y="149"/>
                  </a:lnTo>
                  <a:lnTo>
                    <a:pt x="229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6" y="155"/>
                  </a:lnTo>
                  <a:lnTo>
                    <a:pt x="214" y="154"/>
                  </a:lnTo>
                  <a:lnTo>
                    <a:pt x="208" y="154"/>
                  </a:lnTo>
                  <a:lnTo>
                    <a:pt x="202" y="155"/>
                  </a:lnTo>
                  <a:lnTo>
                    <a:pt x="199" y="157"/>
                  </a:lnTo>
                  <a:lnTo>
                    <a:pt x="209" y="177"/>
                  </a:lnTo>
                  <a:lnTo>
                    <a:pt x="228" y="190"/>
                  </a:lnTo>
                  <a:lnTo>
                    <a:pt x="250" y="196"/>
                  </a:lnTo>
                  <a:lnTo>
                    <a:pt x="251" y="202"/>
                  </a:lnTo>
                  <a:lnTo>
                    <a:pt x="253" y="207"/>
                  </a:lnTo>
                  <a:lnTo>
                    <a:pt x="255" y="213"/>
                  </a:lnTo>
                  <a:lnTo>
                    <a:pt x="261" y="220"/>
                  </a:lnTo>
                  <a:lnTo>
                    <a:pt x="269" y="227"/>
                  </a:lnTo>
                  <a:lnTo>
                    <a:pt x="275" y="234"/>
                  </a:lnTo>
                  <a:lnTo>
                    <a:pt x="288" y="250"/>
                  </a:lnTo>
                  <a:lnTo>
                    <a:pt x="301" y="264"/>
                  </a:lnTo>
                  <a:lnTo>
                    <a:pt x="313" y="279"/>
                  </a:lnTo>
                  <a:lnTo>
                    <a:pt x="310" y="280"/>
                  </a:lnTo>
                  <a:lnTo>
                    <a:pt x="310" y="283"/>
                  </a:lnTo>
                  <a:lnTo>
                    <a:pt x="310" y="286"/>
                  </a:lnTo>
                  <a:lnTo>
                    <a:pt x="315" y="288"/>
                  </a:lnTo>
                  <a:lnTo>
                    <a:pt x="319" y="289"/>
                  </a:lnTo>
                  <a:lnTo>
                    <a:pt x="323" y="293"/>
                  </a:lnTo>
                  <a:lnTo>
                    <a:pt x="318" y="293"/>
                  </a:lnTo>
                  <a:lnTo>
                    <a:pt x="314" y="293"/>
                  </a:lnTo>
                  <a:lnTo>
                    <a:pt x="310" y="293"/>
                  </a:lnTo>
                  <a:lnTo>
                    <a:pt x="327" y="305"/>
                  </a:lnTo>
                  <a:lnTo>
                    <a:pt x="344" y="318"/>
                  </a:lnTo>
                  <a:lnTo>
                    <a:pt x="363" y="329"/>
                  </a:lnTo>
                  <a:lnTo>
                    <a:pt x="366" y="334"/>
                  </a:lnTo>
                  <a:lnTo>
                    <a:pt x="369" y="340"/>
                  </a:lnTo>
                  <a:lnTo>
                    <a:pt x="373" y="345"/>
                  </a:lnTo>
                  <a:lnTo>
                    <a:pt x="369" y="343"/>
                  </a:lnTo>
                  <a:lnTo>
                    <a:pt x="366" y="341"/>
                  </a:lnTo>
                  <a:lnTo>
                    <a:pt x="363" y="342"/>
                  </a:lnTo>
                  <a:lnTo>
                    <a:pt x="360" y="348"/>
                  </a:lnTo>
                  <a:lnTo>
                    <a:pt x="361" y="353"/>
                  </a:lnTo>
                  <a:lnTo>
                    <a:pt x="364" y="357"/>
                  </a:lnTo>
                  <a:lnTo>
                    <a:pt x="376" y="368"/>
                  </a:lnTo>
                  <a:lnTo>
                    <a:pt x="382" y="382"/>
                  </a:lnTo>
                  <a:lnTo>
                    <a:pt x="381" y="397"/>
                  </a:lnTo>
                  <a:lnTo>
                    <a:pt x="379" y="403"/>
                  </a:lnTo>
                  <a:lnTo>
                    <a:pt x="375" y="408"/>
                  </a:lnTo>
                  <a:lnTo>
                    <a:pt x="371" y="412"/>
                  </a:lnTo>
                  <a:lnTo>
                    <a:pt x="370" y="411"/>
                  </a:lnTo>
                  <a:lnTo>
                    <a:pt x="366" y="410"/>
                  </a:lnTo>
                  <a:lnTo>
                    <a:pt x="356" y="413"/>
                  </a:lnTo>
                  <a:lnTo>
                    <a:pt x="346" y="420"/>
                  </a:lnTo>
                  <a:lnTo>
                    <a:pt x="340" y="425"/>
                  </a:lnTo>
                  <a:lnTo>
                    <a:pt x="337" y="427"/>
                  </a:lnTo>
                  <a:lnTo>
                    <a:pt x="335" y="425"/>
                  </a:lnTo>
                  <a:lnTo>
                    <a:pt x="326" y="420"/>
                  </a:lnTo>
                  <a:lnTo>
                    <a:pt x="311" y="420"/>
                  </a:lnTo>
                  <a:lnTo>
                    <a:pt x="305" y="421"/>
                  </a:lnTo>
                  <a:lnTo>
                    <a:pt x="295" y="424"/>
                  </a:lnTo>
                  <a:lnTo>
                    <a:pt x="291" y="431"/>
                  </a:lnTo>
                  <a:lnTo>
                    <a:pt x="293" y="433"/>
                  </a:lnTo>
                  <a:lnTo>
                    <a:pt x="297" y="439"/>
                  </a:lnTo>
                  <a:lnTo>
                    <a:pt x="300" y="444"/>
                  </a:lnTo>
                  <a:lnTo>
                    <a:pt x="301" y="449"/>
                  </a:lnTo>
                  <a:lnTo>
                    <a:pt x="299" y="452"/>
                  </a:lnTo>
                  <a:lnTo>
                    <a:pt x="293" y="455"/>
                  </a:lnTo>
                  <a:lnTo>
                    <a:pt x="286" y="454"/>
                  </a:lnTo>
                  <a:lnTo>
                    <a:pt x="282" y="450"/>
                  </a:lnTo>
                  <a:lnTo>
                    <a:pt x="280" y="448"/>
                  </a:lnTo>
                  <a:lnTo>
                    <a:pt x="279" y="445"/>
                  </a:lnTo>
                  <a:lnTo>
                    <a:pt x="276" y="439"/>
                  </a:lnTo>
                  <a:lnTo>
                    <a:pt x="269" y="438"/>
                  </a:lnTo>
                  <a:lnTo>
                    <a:pt x="269" y="438"/>
                  </a:lnTo>
                  <a:lnTo>
                    <a:pt x="267" y="439"/>
                  </a:lnTo>
                  <a:lnTo>
                    <a:pt x="265" y="442"/>
                  </a:lnTo>
                  <a:lnTo>
                    <a:pt x="264" y="443"/>
                  </a:lnTo>
                  <a:lnTo>
                    <a:pt x="262" y="443"/>
                  </a:lnTo>
                  <a:lnTo>
                    <a:pt x="260" y="442"/>
                  </a:lnTo>
                  <a:lnTo>
                    <a:pt x="256" y="438"/>
                  </a:lnTo>
                  <a:lnTo>
                    <a:pt x="252" y="433"/>
                  </a:lnTo>
                  <a:lnTo>
                    <a:pt x="250" y="43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45280" y="4029480"/>
              <a:ext cx="401760" cy="568440"/>
            </a:xfrm>
            <a:custGeom>
              <a:avLst/>
              <a:gdLst/>
              <a:ahLst/>
              <a:rect l="l" t="t" r="r" b="b"/>
              <a:pathLst>
                <a:path w="381" h="455">
                  <a:moveTo>
                    <a:pt x="249" y="431"/>
                  </a:moveTo>
                  <a:lnTo>
                    <a:pt x="254" y="425"/>
                  </a:lnTo>
                  <a:lnTo>
                    <a:pt x="261" y="421"/>
                  </a:lnTo>
                  <a:lnTo>
                    <a:pt x="267" y="414"/>
                  </a:lnTo>
                  <a:lnTo>
                    <a:pt x="269" y="375"/>
                  </a:lnTo>
                  <a:lnTo>
                    <a:pt x="253" y="339"/>
                  </a:lnTo>
                  <a:lnTo>
                    <a:pt x="232" y="305"/>
                  </a:lnTo>
                  <a:lnTo>
                    <a:pt x="230" y="297"/>
                  </a:lnTo>
                  <a:lnTo>
                    <a:pt x="233" y="290"/>
                  </a:lnTo>
                  <a:lnTo>
                    <a:pt x="237" y="282"/>
                  </a:lnTo>
                  <a:lnTo>
                    <a:pt x="237" y="276"/>
                  </a:lnTo>
                  <a:lnTo>
                    <a:pt x="234" y="271"/>
                  </a:lnTo>
                  <a:lnTo>
                    <a:pt x="230" y="266"/>
                  </a:lnTo>
                  <a:lnTo>
                    <a:pt x="218" y="253"/>
                  </a:lnTo>
                  <a:lnTo>
                    <a:pt x="206" y="239"/>
                  </a:lnTo>
                  <a:lnTo>
                    <a:pt x="198" y="223"/>
                  </a:lnTo>
                  <a:lnTo>
                    <a:pt x="188" y="224"/>
                  </a:lnTo>
                  <a:lnTo>
                    <a:pt x="177" y="223"/>
                  </a:lnTo>
                  <a:lnTo>
                    <a:pt x="165" y="223"/>
                  </a:lnTo>
                  <a:lnTo>
                    <a:pt x="152" y="229"/>
                  </a:lnTo>
                  <a:lnTo>
                    <a:pt x="142" y="241"/>
                  </a:lnTo>
                  <a:lnTo>
                    <a:pt x="132" y="247"/>
                  </a:lnTo>
                  <a:lnTo>
                    <a:pt x="120" y="242"/>
                  </a:lnTo>
                  <a:lnTo>
                    <a:pt x="108" y="234"/>
                  </a:lnTo>
                  <a:lnTo>
                    <a:pt x="97" y="232"/>
                  </a:lnTo>
                  <a:lnTo>
                    <a:pt x="83" y="245"/>
                  </a:lnTo>
                  <a:lnTo>
                    <a:pt x="68" y="260"/>
                  </a:lnTo>
                  <a:lnTo>
                    <a:pt x="50" y="264"/>
                  </a:lnTo>
                  <a:lnTo>
                    <a:pt x="41" y="255"/>
                  </a:lnTo>
                  <a:lnTo>
                    <a:pt x="48" y="245"/>
                  </a:lnTo>
                  <a:lnTo>
                    <a:pt x="53" y="233"/>
                  </a:lnTo>
                  <a:lnTo>
                    <a:pt x="49" y="228"/>
                  </a:lnTo>
                  <a:lnTo>
                    <a:pt x="43" y="223"/>
                  </a:lnTo>
                  <a:lnTo>
                    <a:pt x="44" y="218"/>
                  </a:lnTo>
                  <a:lnTo>
                    <a:pt x="51" y="212"/>
                  </a:lnTo>
                  <a:lnTo>
                    <a:pt x="54" y="205"/>
                  </a:lnTo>
                  <a:lnTo>
                    <a:pt x="53" y="197"/>
                  </a:lnTo>
                  <a:lnTo>
                    <a:pt x="57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6" y="186"/>
                  </a:lnTo>
                  <a:lnTo>
                    <a:pt x="66" y="183"/>
                  </a:lnTo>
                  <a:lnTo>
                    <a:pt x="65" y="181"/>
                  </a:lnTo>
                  <a:lnTo>
                    <a:pt x="59" y="175"/>
                  </a:lnTo>
                  <a:lnTo>
                    <a:pt x="57" y="167"/>
                  </a:lnTo>
                  <a:lnTo>
                    <a:pt x="62" y="160"/>
                  </a:lnTo>
                  <a:lnTo>
                    <a:pt x="62" y="157"/>
                  </a:lnTo>
                  <a:lnTo>
                    <a:pt x="60" y="154"/>
                  </a:lnTo>
                  <a:lnTo>
                    <a:pt x="59" y="150"/>
                  </a:lnTo>
                  <a:lnTo>
                    <a:pt x="48" y="149"/>
                  </a:lnTo>
                  <a:lnTo>
                    <a:pt x="37" y="149"/>
                  </a:lnTo>
                  <a:lnTo>
                    <a:pt x="27" y="148"/>
                  </a:lnTo>
                  <a:lnTo>
                    <a:pt x="21" y="141"/>
                  </a:lnTo>
                  <a:lnTo>
                    <a:pt x="20" y="129"/>
                  </a:lnTo>
                  <a:lnTo>
                    <a:pt x="17" y="119"/>
                  </a:lnTo>
                  <a:lnTo>
                    <a:pt x="12" y="114"/>
                  </a:lnTo>
                  <a:lnTo>
                    <a:pt x="7" y="111"/>
                  </a:lnTo>
                  <a:lnTo>
                    <a:pt x="0" y="110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4" y="99"/>
                  </a:lnTo>
                  <a:lnTo>
                    <a:pt x="22" y="93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4" y="79"/>
                  </a:lnTo>
                  <a:lnTo>
                    <a:pt x="28" y="75"/>
                  </a:lnTo>
                  <a:lnTo>
                    <a:pt x="33" y="72"/>
                  </a:lnTo>
                  <a:lnTo>
                    <a:pt x="40" y="71"/>
                  </a:lnTo>
                  <a:lnTo>
                    <a:pt x="40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60" y="68"/>
                  </a:lnTo>
                  <a:lnTo>
                    <a:pt x="71" y="74"/>
                  </a:lnTo>
                  <a:lnTo>
                    <a:pt x="82" y="73"/>
                  </a:lnTo>
                  <a:lnTo>
                    <a:pt x="87" y="64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6" y="38"/>
                  </a:lnTo>
                  <a:lnTo>
                    <a:pt x="73" y="30"/>
                  </a:lnTo>
                  <a:lnTo>
                    <a:pt x="71" y="22"/>
                  </a:lnTo>
                  <a:lnTo>
                    <a:pt x="70" y="19"/>
                  </a:lnTo>
                  <a:lnTo>
                    <a:pt x="68" y="17"/>
                  </a:lnTo>
                  <a:lnTo>
                    <a:pt x="66" y="15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5"/>
                  </a:lnTo>
                  <a:lnTo>
                    <a:pt x="106" y="10"/>
                  </a:lnTo>
                  <a:lnTo>
                    <a:pt x="114" y="18"/>
                  </a:lnTo>
                  <a:lnTo>
                    <a:pt x="122" y="27"/>
                  </a:lnTo>
                  <a:lnTo>
                    <a:pt x="128" y="38"/>
                  </a:lnTo>
                  <a:lnTo>
                    <a:pt x="137" y="42"/>
                  </a:lnTo>
                  <a:lnTo>
                    <a:pt x="147" y="42"/>
                  </a:lnTo>
                  <a:lnTo>
                    <a:pt x="151" y="47"/>
                  </a:lnTo>
                  <a:lnTo>
                    <a:pt x="147" y="58"/>
                  </a:lnTo>
                  <a:lnTo>
                    <a:pt x="145" y="68"/>
                  </a:lnTo>
                  <a:lnTo>
                    <a:pt x="149" y="76"/>
                  </a:lnTo>
                  <a:lnTo>
                    <a:pt x="169" y="82"/>
                  </a:lnTo>
                  <a:lnTo>
                    <a:pt x="191" y="81"/>
                  </a:lnTo>
                  <a:lnTo>
                    <a:pt x="213" y="82"/>
                  </a:lnTo>
                  <a:lnTo>
                    <a:pt x="220" y="89"/>
                  </a:lnTo>
                  <a:lnTo>
                    <a:pt x="220" y="101"/>
                  </a:lnTo>
                  <a:lnTo>
                    <a:pt x="224" y="110"/>
                  </a:lnTo>
                  <a:lnTo>
                    <a:pt x="232" y="114"/>
                  </a:lnTo>
                  <a:lnTo>
                    <a:pt x="239" y="119"/>
                  </a:lnTo>
                  <a:lnTo>
                    <a:pt x="245" y="125"/>
                  </a:lnTo>
                  <a:lnTo>
                    <a:pt x="245" y="129"/>
                  </a:lnTo>
                  <a:lnTo>
                    <a:pt x="242" y="134"/>
                  </a:lnTo>
                  <a:lnTo>
                    <a:pt x="241" y="141"/>
                  </a:lnTo>
                  <a:lnTo>
                    <a:pt x="237" y="149"/>
                  </a:lnTo>
                  <a:lnTo>
                    <a:pt x="228" y="156"/>
                  </a:lnTo>
                  <a:lnTo>
                    <a:pt x="217" y="160"/>
                  </a:lnTo>
                  <a:lnTo>
                    <a:pt x="217" y="157"/>
                  </a:lnTo>
                  <a:lnTo>
                    <a:pt x="215" y="155"/>
                  </a:lnTo>
                  <a:lnTo>
                    <a:pt x="213" y="154"/>
                  </a:lnTo>
                  <a:lnTo>
                    <a:pt x="207" y="154"/>
                  </a:lnTo>
                  <a:lnTo>
                    <a:pt x="201" y="155"/>
                  </a:lnTo>
                  <a:lnTo>
                    <a:pt x="199" y="157"/>
                  </a:lnTo>
                  <a:lnTo>
                    <a:pt x="208" y="177"/>
                  </a:lnTo>
                  <a:lnTo>
                    <a:pt x="228" y="190"/>
                  </a:lnTo>
                  <a:lnTo>
                    <a:pt x="250" y="197"/>
                  </a:lnTo>
                  <a:lnTo>
                    <a:pt x="250" y="202"/>
                  </a:lnTo>
                  <a:lnTo>
                    <a:pt x="252" y="208"/>
                  </a:lnTo>
                  <a:lnTo>
                    <a:pt x="254" y="213"/>
                  </a:lnTo>
                  <a:lnTo>
                    <a:pt x="260" y="220"/>
                  </a:lnTo>
                  <a:lnTo>
                    <a:pt x="268" y="227"/>
                  </a:lnTo>
                  <a:lnTo>
                    <a:pt x="275" y="234"/>
                  </a:lnTo>
                  <a:lnTo>
                    <a:pt x="287" y="250"/>
                  </a:lnTo>
                  <a:lnTo>
                    <a:pt x="300" y="264"/>
                  </a:lnTo>
                  <a:lnTo>
                    <a:pt x="312" y="280"/>
                  </a:lnTo>
                  <a:lnTo>
                    <a:pt x="309" y="280"/>
                  </a:lnTo>
                  <a:lnTo>
                    <a:pt x="309" y="283"/>
                  </a:lnTo>
                  <a:lnTo>
                    <a:pt x="309" y="286"/>
                  </a:lnTo>
                  <a:lnTo>
                    <a:pt x="314" y="288"/>
                  </a:lnTo>
                  <a:lnTo>
                    <a:pt x="318" y="289"/>
                  </a:lnTo>
                  <a:lnTo>
                    <a:pt x="322" y="293"/>
                  </a:lnTo>
                  <a:lnTo>
                    <a:pt x="318" y="293"/>
                  </a:lnTo>
                  <a:lnTo>
                    <a:pt x="313" y="293"/>
                  </a:lnTo>
                  <a:lnTo>
                    <a:pt x="309" y="293"/>
                  </a:lnTo>
                  <a:lnTo>
                    <a:pt x="326" y="305"/>
                  </a:lnTo>
                  <a:lnTo>
                    <a:pt x="343" y="318"/>
                  </a:lnTo>
                  <a:lnTo>
                    <a:pt x="362" y="330"/>
                  </a:lnTo>
                  <a:lnTo>
                    <a:pt x="365" y="334"/>
                  </a:lnTo>
                  <a:lnTo>
                    <a:pt x="368" y="340"/>
                  </a:lnTo>
                  <a:lnTo>
                    <a:pt x="372" y="345"/>
                  </a:lnTo>
                  <a:lnTo>
                    <a:pt x="368" y="344"/>
                  </a:lnTo>
                  <a:lnTo>
                    <a:pt x="365" y="341"/>
                  </a:lnTo>
                  <a:lnTo>
                    <a:pt x="362" y="342"/>
                  </a:lnTo>
                  <a:lnTo>
                    <a:pt x="359" y="348"/>
                  </a:lnTo>
                  <a:lnTo>
                    <a:pt x="360" y="353"/>
                  </a:lnTo>
                  <a:lnTo>
                    <a:pt x="363" y="357"/>
                  </a:lnTo>
                  <a:lnTo>
                    <a:pt x="375" y="368"/>
                  </a:lnTo>
                  <a:lnTo>
                    <a:pt x="381" y="382"/>
                  </a:lnTo>
                  <a:lnTo>
                    <a:pt x="380" y="397"/>
                  </a:lnTo>
                  <a:lnTo>
                    <a:pt x="378" y="403"/>
                  </a:lnTo>
                  <a:lnTo>
                    <a:pt x="374" y="408"/>
                  </a:lnTo>
                  <a:lnTo>
                    <a:pt x="370" y="412"/>
                  </a:lnTo>
                  <a:lnTo>
                    <a:pt x="369" y="411"/>
                  </a:lnTo>
                  <a:lnTo>
                    <a:pt x="365" y="410"/>
                  </a:lnTo>
                  <a:lnTo>
                    <a:pt x="356" y="413"/>
                  </a:lnTo>
                  <a:lnTo>
                    <a:pt x="345" y="420"/>
                  </a:lnTo>
                  <a:lnTo>
                    <a:pt x="339" y="425"/>
                  </a:lnTo>
                  <a:lnTo>
                    <a:pt x="336" y="428"/>
                  </a:lnTo>
                  <a:lnTo>
                    <a:pt x="334" y="425"/>
                  </a:lnTo>
                  <a:lnTo>
                    <a:pt x="325" y="420"/>
                  </a:lnTo>
                  <a:lnTo>
                    <a:pt x="310" y="420"/>
                  </a:lnTo>
                  <a:lnTo>
                    <a:pt x="305" y="421"/>
                  </a:lnTo>
                  <a:lnTo>
                    <a:pt x="294" y="424"/>
                  </a:lnTo>
                  <a:lnTo>
                    <a:pt x="290" y="431"/>
                  </a:lnTo>
                  <a:lnTo>
                    <a:pt x="292" y="434"/>
                  </a:lnTo>
                  <a:lnTo>
                    <a:pt x="296" y="439"/>
                  </a:lnTo>
                  <a:lnTo>
                    <a:pt x="300" y="444"/>
                  </a:lnTo>
                  <a:lnTo>
                    <a:pt x="300" y="449"/>
                  </a:lnTo>
                  <a:lnTo>
                    <a:pt x="298" y="453"/>
                  </a:lnTo>
                  <a:lnTo>
                    <a:pt x="292" y="455"/>
                  </a:lnTo>
                  <a:lnTo>
                    <a:pt x="285" y="454"/>
                  </a:lnTo>
                  <a:lnTo>
                    <a:pt x="281" y="450"/>
                  </a:lnTo>
                  <a:lnTo>
                    <a:pt x="279" y="448"/>
                  </a:lnTo>
                  <a:lnTo>
                    <a:pt x="278" y="445"/>
                  </a:lnTo>
                  <a:lnTo>
                    <a:pt x="275" y="439"/>
                  </a:lnTo>
                  <a:lnTo>
                    <a:pt x="268" y="438"/>
                  </a:lnTo>
                  <a:lnTo>
                    <a:pt x="268" y="438"/>
                  </a:lnTo>
                  <a:lnTo>
                    <a:pt x="266" y="439"/>
                  </a:lnTo>
                  <a:lnTo>
                    <a:pt x="264" y="442"/>
                  </a:lnTo>
                  <a:lnTo>
                    <a:pt x="263" y="443"/>
                  </a:lnTo>
                  <a:lnTo>
                    <a:pt x="261" y="443"/>
                  </a:lnTo>
                  <a:lnTo>
                    <a:pt x="259" y="442"/>
                  </a:lnTo>
                  <a:lnTo>
                    <a:pt x="255" y="438"/>
                  </a:lnTo>
                  <a:lnTo>
                    <a:pt x="251" y="433"/>
                  </a:lnTo>
                  <a:lnTo>
                    <a:pt x="249" y="43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40960" y="4763160"/>
              <a:ext cx="151560" cy="200880"/>
            </a:xfrm>
            <a:custGeom>
              <a:avLst/>
              <a:gdLst/>
              <a:ahLst/>
              <a:rect l="l" t="t" r="r" b="b"/>
              <a:pathLst>
                <a:path w="144" h="161">
                  <a:moveTo>
                    <a:pt x="124" y="10"/>
                  </a:moveTo>
                  <a:lnTo>
                    <a:pt x="123" y="11"/>
                  </a:lnTo>
                  <a:lnTo>
                    <a:pt x="121" y="14"/>
                  </a:lnTo>
                  <a:lnTo>
                    <a:pt x="118" y="16"/>
                  </a:lnTo>
                  <a:lnTo>
                    <a:pt x="122" y="26"/>
                  </a:lnTo>
                  <a:lnTo>
                    <a:pt x="129" y="35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5"/>
                  </a:lnTo>
                  <a:lnTo>
                    <a:pt x="135" y="4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6"/>
                  </a:lnTo>
                  <a:lnTo>
                    <a:pt x="68" y="105"/>
                  </a:lnTo>
                  <a:lnTo>
                    <a:pt x="52" y="119"/>
                  </a:lnTo>
                  <a:lnTo>
                    <a:pt x="38" y="126"/>
                  </a:lnTo>
                  <a:lnTo>
                    <a:pt x="24" y="133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8" y="159"/>
                  </a:lnTo>
                  <a:lnTo>
                    <a:pt x="0" y="161"/>
                  </a:lnTo>
                  <a:lnTo>
                    <a:pt x="6" y="150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6"/>
                  </a:lnTo>
                  <a:lnTo>
                    <a:pt x="43" y="96"/>
                  </a:lnTo>
                  <a:lnTo>
                    <a:pt x="55" y="89"/>
                  </a:lnTo>
                  <a:lnTo>
                    <a:pt x="66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9"/>
                  </a:lnTo>
                  <a:lnTo>
                    <a:pt x="107" y="30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40960" y="4764240"/>
              <a:ext cx="151560" cy="19980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24" y="9"/>
                  </a:moveTo>
                  <a:lnTo>
                    <a:pt x="124" y="11"/>
                  </a:lnTo>
                  <a:lnTo>
                    <a:pt x="121" y="13"/>
                  </a:lnTo>
                  <a:lnTo>
                    <a:pt x="118" y="15"/>
                  </a:lnTo>
                  <a:lnTo>
                    <a:pt x="122" y="25"/>
                  </a:lnTo>
                  <a:lnTo>
                    <a:pt x="129" y="34"/>
                  </a:lnTo>
                  <a:lnTo>
                    <a:pt x="141" y="36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4" y="44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18" y="49"/>
                  </a:lnTo>
                  <a:lnTo>
                    <a:pt x="116" y="51"/>
                  </a:lnTo>
                  <a:lnTo>
                    <a:pt x="113" y="54"/>
                  </a:lnTo>
                  <a:lnTo>
                    <a:pt x="111" y="58"/>
                  </a:lnTo>
                  <a:lnTo>
                    <a:pt x="105" y="62"/>
                  </a:lnTo>
                  <a:lnTo>
                    <a:pt x="97" y="62"/>
                  </a:lnTo>
                  <a:lnTo>
                    <a:pt x="93" y="65"/>
                  </a:lnTo>
                  <a:lnTo>
                    <a:pt x="83" y="85"/>
                  </a:lnTo>
                  <a:lnTo>
                    <a:pt x="68" y="104"/>
                  </a:lnTo>
                  <a:lnTo>
                    <a:pt x="52" y="118"/>
                  </a:lnTo>
                  <a:lnTo>
                    <a:pt x="38" y="125"/>
                  </a:lnTo>
                  <a:lnTo>
                    <a:pt x="24" y="132"/>
                  </a:lnTo>
                  <a:lnTo>
                    <a:pt x="14" y="144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60"/>
                  </a:lnTo>
                  <a:lnTo>
                    <a:pt x="6" y="149"/>
                  </a:lnTo>
                  <a:lnTo>
                    <a:pt x="9" y="138"/>
                  </a:lnTo>
                  <a:lnTo>
                    <a:pt x="17" y="128"/>
                  </a:lnTo>
                  <a:lnTo>
                    <a:pt x="26" y="117"/>
                  </a:lnTo>
                  <a:lnTo>
                    <a:pt x="34" y="105"/>
                  </a:lnTo>
                  <a:lnTo>
                    <a:pt x="43" y="95"/>
                  </a:lnTo>
                  <a:lnTo>
                    <a:pt x="55" y="88"/>
                  </a:lnTo>
                  <a:lnTo>
                    <a:pt x="67" y="80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102" y="48"/>
                  </a:lnTo>
                  <a:lnTo>
                    <a:pt x="106" y="48"/>
                  </a:lnTo>
                  <a:lnTo>
                    <a:pt x="111" y="48"/>
                  </a:lnTo>
                  <a:lnTo>
                    <a:pt x="107" y="29"/>
                  </a:lnTo>
                  <a:lnTo>
                    <a:pt x="111" y="1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1" y="4"/>
                  </a:lnTo>
                  <a:lnTo>
                    <a:pt x="124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486400" y="470808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4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8" y="14"/>
                  </a:lnTo>
                  <a:lnTo>
                    <a:pt x="7" y="23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86400" y="470808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3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21320" y="4629240"/>
              <a:ext cx="48240" cy="748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2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8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30"/>
                  </a:lnTo>
                  <a:lnTo>
                    <a:pt x="18" y="43"/>
                  </a:lnTo>
                  <a:lnTo>
                    <a:pt x="24" y="51"/>
                  </a:lnTo>
                  <a:lnTo>
                    <a:pt x="34" y="56"/>
                  </a:lnTo>
                  <a:lnTo>
                    <a:pt x="46" y="53"/>
                  </a:lnTo>
                  <a:lnTo>
                    <a:pt x="44" y="56"/>
                  </a:lnTo>
                  <a:lnTo>
                    <a:pt x="43" y="58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521320" y="4629240"/>
              <a:ext cx="48240" cy="7488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43" y="60"/>
                  </a:moveTo>
                  <a:lnTo>
                    <a:pt x="46" y="49"/>
                  </a:lnTo>
                  <a:lnTo>
                    <a:pt x="46" y="38"/>
                  </a:lnTo>
                  <a:lnTo>
                    <a:pt x="44" y="27"/>
                  </a:lnTo>
                  <a:lnTo>
                    <a:pt x="41" y="17"/>
                  </a:lnTo>
                  <a:lnTo>
                    <a:pt x="36" y="7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2" y="29"/>
                  </a:lnTo>
                  <a:lnTo>
                    <a:pt x="18" y="42"/>
                  </a:lnTo>
                  <a:lnTo>
                    <a:pt x="24" y="51"/>
                  </a:lnTo>
                  <a:lnTo>
                    <a:pt x="34" y="55"/>
                  </a:lnTo>
                  <a:lnTo>
                    <a:pt x="46" y="53"/>
                  </a:lnTo>
                  <a:lnTo>
                    <a:pt x="45" y="56"/>
                  </a:lnTo>
                  <a:lnTo>
                    <a:pt x="44" y="58"/>
                  </a:lnTo>
                  <a:lnTo>
                    <a:pt x="43" y="6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82080" y="4312080"/>
              <a:ext cx="260280" cy="38952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3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44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6" y="252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19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60" y="188"/>
                  </a:lnTo>
                  <a:lnTo>
                    <a:pt x="57" y="190"/>
                  </a:lnTo>
                  <a:lnTo>
                    <a:pt x="53" y="192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2" y="125"/>
                  </a:lnTo>
                  <a:lnTo>
                    <a:pt x="0" y="118"/>
                  </a:lnTo>
                  <a:lnTo>
                    <a:pt x="1" y="111"/>
                  </a:lnTo>
                  <a:lnTo>
                    <a:pt x="5" y="107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4" y="7"/>
                  </a:lnTo>
                  <a:lnTo>
                    <a:pt x="131" y="8"/>
                  </a:lnTo>
                  <a:lnTo>
                    <a:pt x="131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40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2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5" y="145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6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3" y="228"/>
                  </a:lnTo>
                  <a:lnTo>
                    <a:pt x="158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6"/>
                  </a:lnTo>
                  <a:lnTo>
                    <a:pt x="204" y="259"/>
                  </a:lnTo>
                  <a:lnTo>
                    <a:pt x="209" y="261"/>
                  </a:lnTo>
                  <a:lnTo>
                    <a:pt x="216" y="260"/>
                  </a:lnTo>
                  <a:lnTo>
                    <a:pt x="212" y="251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7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4" y="276"/>
                  </a:lnTo>
                  <a:lnTo>
                    <a:pt x="223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7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482080" y="4312080"/>
              <a:ext cx="260280" cy="38952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228" y="304"/>
                  </a:moveTo>
                  <a:lnTo>
                    <a:pt x="224" y="304"/>
                  </a:lnTo>
                  <a:lnTo>
                    <a:pt x="219" y="304"/>
                  </a:lnTo>
                  <a:lnTo>
                    <a:pt x="216" y="303"/>
                  </a:lnTo>
                  <a:lnTo>
                    <a:pt x="211" y="295"/>
                  </a:lnTo>
                  <a:lnTo>
                    <a:pt x="206" y="286"/>
                  </a:lnTo>
                  <a:lnTo>
                    <a:pt x="201" y="279"/>
                  </a:lnTo>
                  <a:lnTo>
                    <a:pt x="187" y="268"/>
                  </a:lnTo>
                  <a:lnTo>
                    <a:pt x="174" y="258"/>
                  </a:lnTo>
                  <a:lnTo>
                    <a:pt x="161" y="245"/>
                  </a:lnTo>
                  <a:lnTo>
                    <a:pt x="155" y="239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43" y="246"/>
                  </a:lnTo>
                  <a:lnTo>
                    <a:pt x="151" y="257"/>
                  </a:lnTo>
                  <a:lnTo>
                    <a:pt x="149" y="265"/>
                  </a:lnTo>
                  <a:lnTo>
                    <a:pt x="138" y="264"/>
                  </a:lnTo>
                  <a:lnTo>
                    <a:pt x="127" y="259"/>
                  </a:lnTo>
                  <a:lnTo>
                    <a:pt x="115" y="252"/>
                  </a:lnTo>
                  <a:lnTo>
                    <a:pt x="108" y="251"/>
                  </a:lnTo>
                  <a:lnTo>
                    <a:pt x="100" y="251"/>
                  </a:lnTo>
                  <a:lnTo>
                    <a:pt x="94" y="250"/>
                  </a:lnTo>
                  <a:lnTo>
                    <a:pt x="78" y="243"/>
                  </a:lnTo>
                  <a:lnTo>
                    <a:pt x="63" y="239"/>
                  </a:lnTo>
                  <a:lnTo>
                    <a:pt x="53" y="230"/>
                  </a:lnTo>
                  <a:lnTo>
                    <a:pt x="56" y="226"/>
                  </a:lnTo>
                  <a:lnTo>
                    <a:pt x="65" y="223"/>
                  </a:lnTo>
                  <a:lnTo>
                    <a:pt x="71" y="220"/>
                  </a:lnTo>
                  <a:lnTo>
                    <a:pt x="75" y="210"/>
                  </a:lnTo>
                  <a:lnTo>
                    <a:pt x="72" y="19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7" y="190"/>
                  </a:lnTo>
                  <a:lnTo>
                    <a:pt x="53" y="191"/>
                  </a:lnTo>
                  <a:lnTo>
                    <a:pt x="57" y="195"/>
                  </a:lnTo>
                  <a:lnTo>
                    <a:pt x="57" y="200"/>
                  </a:lnTo>
                  <a:lnTo>
                    <a:pt x="57" y="205"/>
                  </a:lnTo>
                  <a:lnTo>
                    <a:pt x="41" y="198"/>
                  </a:lnTo>
                  <a:lnTo>
                    <a:pt x="28" y="188"/>
                  </a:lnTo>
                  <a:lnTo>
                    <a:pt x="15" y="176"/>
                  </a:lnTo>
                  <a:lnTo>
                    <a:pt x="7" y="162"/>
                  </a:lnTo>
                  <a:lnTo>
                    <a:pt x="6" y="144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13" y="107"/>
                  </a:lnTo>
                  <a:lnTo>
                    <a:pt x="23" y="110"/>
                  </a:lnTo>
                  <a:lnTo>
                    <a:pt x="34" y="112"/>
                  </a:lnTo>
                  <a:lnTo>
                    <a:pt x="25" y="84"/>
                  </a:lnTo>
                  <a:lnTo>
                    <a:pt x="27" y="55"/>
                  </a:lnTo>
                  <a:lnTo>
                    <a:pt x="34" y="28"/>
                  </a:lnTo>
                  <a:lnTo>
                    <a:pt x="37" y="19"/>
                  </a:lnTo>
                  <a:lnTo>
                    <a:pt x="41" y="9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85" y="5"/>
                  </a:lnTo>
                  <a:lnTo>
                    <a:pt x="103" y="12"/>
                  </a:lnTo>
                  <a:lnTo>
                    <a:pt x="113" y="11"/>
                  </a:lnTo>
                  <a:lnTo>
                    <a:pt x="123" y="7"/>
                  </a:lnTo>
                  <a:lnTo>
                    <a:pt x="131" y="8"/>
                  </a:lnTo>
                  <a:lnTo>
                    <a:pt x="130" y="15"/>
                  </a:lnTo>
                  <a:lnTo>
                    <a:pt x="124" y="20"/>
                  </a:lnTo>
                  <a:lnTo>
                    <a:pt x="118" y="27"/>
                  </a:lnTo>
                  <a:lnTo>
                    <a:pt x="119" y="39"/>
                  </a:lnTo>
                  <a:lnTo>
                    <a:pt x="128" y="50"/>
                  </a:lnTo>
                  <a:lnTo>
                    <a:pt x="139" y="60"/>
                  </a:lnTo>
                  <a:lnTo>
                    <a:pt x="142" y="64"/>
                  </a:lnTo>
                  <a:lnTo>
                    <a:pt x="143" y="68"/>
                  </a:lnTo>
                  <a:lnTo>
                    <a:pt x="142" y="72"/>
                  </a:lnTo>
                  <a:lnTo>
                    <a:pt x="136" y="82"/>
                  </a:lnTo>
                  <a:lnTo>
                    <a:pt x="130" y="91"/>
                  </a:lnTo>
                  <a:lnTo>
                    <a:pt x="124" y="102"/>
                  </a:lnTo>
                  <a:lnTo>
                    <a:pt x="114" y="111"/>
                  </a:lnTo>
                  <a:lnTo>
                    <a:pt x="100" y="118"/>
                  </a:lnTo>
                  <a:lnTo>
                    <a:pt x="91" y="129"/>
                  </a:lnTo>
                  <a:lnTo>
                    <a:pt x="88" y="138"/>
                  </a:lnTo>
                  <a:lnTo>
                    <a:pt x="84" y="146"/>
                  </a:lnTo>
                  <a:lnTo>
                    <a:pt x="82" y="152"/>
                  </a:lnTo>
                  <a:lnTo>
                    <a:pt x="86" y="187"/>
                  </a:lnTo>
                  <a:lnTo>
                    <a:pt x="103" y="217"/>
                  </a:lnTo>
                  <a:lnTo>
                    <a:pt x="136" y="221"/>
                  </a:lnTo>
                  <a:lnTo>
                    <a:pt x="138" y="224"/>
                  </a:lnTo>
                  <a:lnTo>
                    <a:pt x="141" y="224"/>
                  </a:lnTo>
                  <a:lnTo>
                    <a:pt x="142" y="228"/>
                  </a:lnTo>
                  <a:lnTo>
                    <a:pt x="157" y="224"/>
                  </a:lnTo>
                  <a:lnTo>
                    <a:pt x="172" y="223"/>
                  </a:lnTo>
                  <a:lnTo>
                    <a:pt x="184" y="227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199" y="257"/>
                  </a:lnTo>
                  <a:lnTo>
                    <a:pt x="204" y="260"/>
                  </a:lnTo>
                  <a:lnTo>
                    <a:pt x="209" y="261"/>
                  </a:lnTo>
                  <a:lnTo>
                    <a:pt x="215" y="261"/>
                  </a:lnTo>
                  <a:lnTo>
                    <a:pt x="212" y="252"/>
                  </a:lnTo>
                  <a:lnTo>
                    <a:pt x="215" y="242"/>
                  </a:lnTo>
                  <a:lnTo>
                    <a:pt x="221" y="239"/>
                  </a:lnTo>
                  <a:lnTo>
                    <a:pt x="227" y="245"/>
                  </a:lnTo>
                  <a:lnTo>
                    <a:pt x="233" y="252"/>
                  </a:lnTo>
                  <a:lnTo>
                    <a:pt x="242" y="258"/>
                  </a:lnTo>
                  <a:lnTo>
                    <a:pt x="235" y="263"/>
                  </a:lnTo>
                  <a:lnTo>
                    <a:pt x="230" y="270"/>
                  </a:lnTo>
                  <a:lnTo>
                    <a:pt x="223" y="276"/>
                  </a:lnTo>
                  <a:lnTo>
                    <a:pt x="222" y="282"/>
                  </a:lnTo>
                  <a:lnTo>
                    <a:pt x="229" y="291"/>
                  </a:lnTo>
                  <a:lnTo>
                    <a:pt x="238" y="297"/>
                  </a:lnTo>
                  <a:lnTo>
                    <a:pt x="237" y="297"/>
                  </a:lnTo>
                  <a:lnTo>
                    <a:pt x="236" y="297"/>
                  </a:lnTo>
                  <a:lnTo>
                    <a:pt x="235" y="297"/>
                  </a:lnTo>
                  <a:lnTo>
                    <a:pt x="240" y="297"/>
                  </a:lnTo>
                  <a:lnTo>
                    <a:pt x="245" y="297"/>
                  </a:lnTo>
                  <a:lnTo>
                    <a:pt x="247" y="298"/>
                  </a:lnTo>
                  <a:lnTo>
                    <a:pt x="246" y="308"/>
                  </a:lnTo>
                  <a:lnTo>
                    <a:pt x="235" y="312"/>
                  </a:lnTo>
                  <a:lnTo>
                    <a:pt x="222" y="310"/>
                  </a:lnTo>
                  <a:lnTo>
                    <a:pt x="224" y="308"/>
                  </a:lnTo>
                  <a:lnTo>
                    <a:pt x="226" y="306"/>
                  </a:lnTo>
                  <a:lnTo>
                    <a:pt x="228" y="30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37320" y="4694040"/>
              <a:ext cx="55800" cy="92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49"/>
                  </a:lnTo>
                  <a:lnTo>
                    <a:pt x="53" y="64"/>
                  </a:lnTo>
                  <a:lnTo>
                    <a:pt x="48" y="74"/>
                  </a:lnTo>
                  <a:lnTo>
                    <a:pt x="39" y="71"/>
                  </a:lnTo>
                  <a:lnTo>
                    <a:pt x="33" y="57"/>
                  </a:lnTo>
                  <a:lnTo>
                    <a:pt x="24" y="43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29" y="30"/>
                  </a:lnTo>
                  <a:lnTo>
                    <a:pt x="19" y="36"/>
                  </a:lnTo>
                  <a:lnTo>
                    <a:pt x="9" y="29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37320" y="4694040"/>
              <a:ext cx="55800" cy="9360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7" y="21"/>
                  </a:moveTo>
                  <a:lnTo>
                    <a:pt x="4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3" y="8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50" y="50"/>
                  </a:lnTo>
                  <a:lnTo>
                    <a:pt x="53" y="64"/>
                  </a:lnTo>
                  <a:lnTo>
                    <a:pt x="48" y="75"/>
                  </a:lnTo>
                  <a:lnTo>
                    <a:pt x="39" y="72"/>
                  </a:lnTo>
                  <a:lnTo>
                    <a:pt x="33" y="58"/>
                  </a:lnTo>
                  <a:lnTo>
                    <a:pt x="24" y="44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9" y="30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24000" y="4736520"/>
              <a:ext cx="56880" cy="10728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36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3"/>
                  </a:lnTo>
                  <a:lnTo>
                    <a:pt x="4" y="14"/>
                  </a:lnTo>
                  <a:lnTo>
                    <a:pt x="6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3" y="82"/>
                  </a:lnTo>
                  <a:lnTo>
                    <a:pt x="49" y="86"/>
                  </a:lnTo>
                  <a:lnTo>
                    <a:pt x="42" y="82"/>
                  </a:lnTo>
                  <a:lnTo>
                    <a:pt x="38" y="79"/>
                  </a:lnTo>
                  <a:lnTo>
                    <a:pt x="40" y="73"/>
                  </a:lnTo>
                  <a:lnTo>
                    <a:pt x="44" y="73"/>
                  </a:lnTo>
                  <a:lnTo>
                    <a:pt x="50" y="76"/>
                  </a:lnTo>
                  <a:lnTo>
                    <a:pt x="54" y="75"/>
                  </a:lnTo>
                  <a:lnTo>
                    <a:pt x="52" y="66"/>
                  </a:lnTo>
                  <a:lnTo>
                    <a:pt x="42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3" y="32"/>
                  </a:lnTo>
                  <a:lnTo>
                    <a:pt x="38" y="27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24720" y="4736520"/>
              <a:ext cx="55800" cy="10728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35" y="27"/>
                  </a:moveTo>
                  <a:lnTo>
                    <a:pt x="23" y="21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4" y="14"/>
                  </a:lnTo>
                  <a:lnTo>
                    <a:pt x="5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9" y="50"/>
                  </a:lnTo>
                  <a:lnTo>
                    <a:pt x="22" y="50"/>
                  </a:lnTo>
                  <a:lnTo>
                    <a:pt x="26" y="67"/>
                  </a:lnTo>
                  <a:lnTo>
                    <a:pt x="32" y="82"/>
                  </a:lnTo>
                  <a:lnTo>
                    <a:pt x="48" y="86"/>
                  </a:lnTo>
                  <a:lnTo>
                    <a:pt x="42" y="82"/>
                  </a:lnTo>
                  <a:lnTo>
                    <a:pt x="37" y="80"/>
                  </a:lnTo>
                  <a:lnTo>
                    <a:pt x="40" y="74"/>
                  </a:lnTo>
                  <a:lnTo>
                    <a:pt x="44" y="73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1" y="66"/>
                  </a:lnTo>
                  <a:lnTo>
                    <a:pt x="41" y="5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3" y="32"/>
                  </a:lnTo>
                  <a:lnTo>
                    <a:pt x="38" y="28"/>
                  </a:lnTo>
                  <a:lnTo>
                    <a:pt x="31" y="23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610960" y="4785480"/>
              <a:ext cx="65160" cy="12096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3" y="7"/>
                  </a:moveTo>
                  <a:lnTo>
                    <a:pt x="43" y="10"/>
                  </a:lnTo>
                  <a:lnTo>
                    <a:pt x="32" y="12"/>
                  </a:lnTo>
                  <a:lnTo>
                    <a:pt x="20" y="11"/>
                  </a:lnTo>
                  <a:lnTo>
                    <a:pt x="16" y="19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23" y="37"/>
                  </a:lnTo>
                  <a:lnTo>
                    <a:pt x="28" y="35"/>
                  </a:lnTo>
                  <a:lnTo>
                    <a:pt x="34" y="33"/>
                  </a:lnTo>
                  <a:lnTo>
                    <a:pt x="28" y="42"/>
                  </a:lnTo>
                  <a:lnTo>
                    <a:pt x="29" y="51"/>
                  </a:lnTo>
                  <a:lnTo>
                    <a:pt x="29" y="59"/>
                  </a:lnTo>
                  <a:lnTo>
                    <a:pt x="23" y="64"/>
                  </a:lnTo>
                  <a:lnTo>
                    <a:pt x="14" y="64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18" y="88"/>
                  </a:lnTo>
                  <a:lnTo>
                    <a:pt x="38" y="97"/>
                  </a:lnTo>
                  <a:lnTo>
                    <a:pt x="59" y="94"/>
                  </a:lnTo>
                  <a:lnTo>
                    <a:pt x="59" y="90"/>
                  </a:lnTo>
                  <a:lnTo>
                    <a:pt x="55" y="83"/>
                  </a:lnTo>
                  <a:lnTo>
                    <a:pt x="52" y="76"/>
                  </a:lnTo>
                  <a:lnTo>
                    <a:pt x="53" y="54"/>
                  </a:lnTo>
                  <a:lnTo>
                    <a:pt x="60" y="31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32920" y="4795200"/>
              <a:ext cx="34920" cy="6480"/>
            </a:xfrm>
            <a:custGeom>
              <a:avLst/>
              <a:gdLst/>
              <a:ahLst/>
              <a:rect l="l" t="t" r="r" b="b"/>
              <a:pathLst>
                <a:path w="33" h="5">
                  <a:moveTo>
                    <a:pt x="33" y="0"/>
                  </a:moveTo>
                  <a:lnTo>
                    <a:pt x="22" y="3"/>
                  </a:lnTo>
                  <a:lnTo>
                    <a:pt x="11" y="5"/>
                  </a:lnTo>
                  <a:lnTo>
                    <a:pt x="0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24640" y="4799160"/>
              <a:ext cx="8280" cy="320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5" y="2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28960" y="4827960"/>
              <a:ext cx="17640" cy="50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7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41560" y="4827960"/>
              <a:ext cx="5040" cy="30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0" y="8"/>
                  </a:lnTo>
                  <a:lnTo>
                    <a:pt x="1" y="17"/>
                  </a:lnTo>
                  <a:lnTo>
                    <a:pt x="0" y="2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614920" y="4858920"/>
              <a:ext cx="26280" cy="61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0"/>
                  </a:moveTo>
                  <a:lnTo>
                    <a:pt x="19" y="4"/>
                  </a:lnTo>
                  <a:lnTo>
                    <a:pt x="10" y="5"/>
                  </a:lnTo>
                  <a:lnTo>
                    <a:pt x="0" y="5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610960" y="4865400"/>
              <a:ext cx="396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12040" y="4876560"/>
              <a:ext cx="61200" cy="2988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0" y="0"/>
                  </a:moveTo>
                  <a:lnTo>
                    <a:pt x="17" y="15"/>
                  </a:lnTo>
                  <a:lnTo>
                    <a:pt x="37" y="24"/>
                  </a:lnTo>
                  <a:lnTo>
                    <a:pt x="58" y="2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665680" y="4880160"/>
              <a:ext cx="7200" cy="223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18"/>
                  </a:move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65680" y="4795200"/>
              <a:ext cx="10440" cy="8496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8"/>
                  </a:moveTo>
                  <a:lnTo>
                    <a:pt x="1" y="46"/>
                  </a:lnTo>
                  <a:lnTo>
                    <a:pt x="8" y="23"/>
                  </a:lnTo>
                  <a:lnTo>
                    <a:pt x="1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657400" y="4786920"/>
              <a:ext cx="18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5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590800" y="4709160"/>
              <a:ext cx="72360" cy="1098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590800" y="4709160"/>
              <a:ext cx="72360" cy="1098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4" y="6"/>
                  </a:moveTo>
                  <a:lnTo>
                    <a:pt x="5" y="18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6" y="73"/>
                  </a:lnTo>
                  <a:lnTo>
                    <a:pt x="0" y="88"/>
                  </a:lnTo>
                  <a:lnTo>
                    <a:pt x="17" y="84"/>
                  </a:lnTo>
                  <a:lnTo>
                    <a:pt x="32" y="76"/>
                  </a:lnTo>
                  <a:lnTo>
                    <a:pt x="49" y="71"/>
                  </a:lnTo>
                  <a:lnTo>
                    <a:pt x="55" y="68"/>
                  </a:lnTo>
                  <a:lnTo>
                    <a:pt x="61" y="64"/>
                  </a:lnTo>
                  <a:lnTo>
                    <a:pt x="65" y="58"/>
                  </a:lnTo>
                  <a:lnTo>
                    <a:pt x="67" y="50"/>
                  </a:lnTo>
                  <a:lnTo>
                    <a:pt x="69" y="41"/>
                  </a:lnTo>
                  <a:lnTo>
                    <a:pt x="69" y="32"/>
                  </a:lnTo>
                  <a:lnTo>
                    <a:pt x="46" y="30"/>
                  </a:lnTo>
                  <a:lnTo>
                    <a:pt x="28" y="16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600520" y="4679280"/>
              <a:ext cx="15480" cy="212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6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00520" y="4679280"/>
              <a:ext cx="15480" cy="212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3" y="5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29680" y="4691520"/>
              <a:ext cx="13320" cy="32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0" y="26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29680" y="4691520"/>
              <a:ext cx="13320" cy="33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6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10" y="27"/>
                  </a:lnTo>
                  <a:lnTo>
                    <a:pt x="11" y="22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60280" y="467928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60280" y="4679280"/>
              <a:ext cx="55800" cy="536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7" y="7"/>
                  </a:move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7" y="21"/>
                  </a:lnTo>
                  <a:lnTo>
                    <a:pt x="30" y="25"/>
                  </a:lnTo>
                  <a:lnTo>
                    <a:pt x="39" y="38"/>
                  </a:lnTo>
                  <a:lnTo>
                    <a:pt x="53" y="43"/>
                  </a:lnTo>
                  <a:lnTo>
                    <a:pt x="42" y="30"/>
                  </a:lnTo>
                  <a:lnTo>
                    <a:pt x="32" y="15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5"/>
                  </a:lnTo>
                  <a:lnTo>
                    <a:pt x="0" y="3"/>
                  </a:lnTo>
                  <a:lnTo>
                    <a:pt x="2" y="4"/>
                  </a:lnTo>
                  <a:lnTo>
                    <a:pt x="5" y="5"/>
                  </a:lnTo>
                  <a:lnTo>
                    <a:pt x="7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673960" y="4765680"/>
              <a:ext cx="31680" cy="11232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86"/>
                  </a:moveTo>
                  <a:lnTo>
                    <a:pt x="3" y="73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60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73960" y="4766760"/>
              <a:ext cx="31680" cy="11124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86"/>
                  </a:moveTo>
                  <a:lnTo>
                    <a:pt x="3" y="73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5" y="31"/>
                  </a:lnTo>
                  <a:lnTo>
                    <a:pt x="19" y="14"/>
                  </a:lnTo>
                  <a:lnTo>
                    <a:pt x="30" y="0"/>
                  </a:lnTo>
                  <a:lnTo>
                    <a:pt x="29" y="31"/>
                  </a:lnTo>
                  <a:lnTo>
                    <a:pt x="16" y="59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2" y="87"/>
                  </a:lnTo>
                  <a:lnTo>
                    <a:pt x="0" y="86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04560" y="4841640"/>
              <a:ext cx="32760" cy="38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704560" y="4841640"/>
              <a:ext cx="32760" cy="38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7"/>
                  </a:moveTo>
                  <a:lnTo>
                    <a:pt x="0" y="16"/>
                  </a:lnTo>
                  <a:lnTo>
                    <a:pt x="9" y="6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1" y="11"/>
                  </a:lnTo>
                  <a:lnTo>
                    <a:pt x="30" y="17"/>
                  </a:lnTo>
                  <a:lnTo>
                    <a:pt x="20" y="25"/>
                  </a:lnTo>
                  <a:lnTo>
                    <a:pt x="9" y="31"/>
                  </a:lnTo>
                  <a:lnTo>
                    <a:pt x="0" y="2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90800" y="4856760"/>
              <a:ext cx="250560" cy="25956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3"/>
                  </a:lnTo>
                  <a:lnTo>
                    <a:pt x="35" y="105"/>
                  </a:lnTo>
                  <a:lnTo>
                    <a:pt x="18" y="117"/>
                  </a:lnTo>
                  <a:lnTo>
                    <a:pt x="14" y="120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7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5" y="128"/>
                  </a:lnTo>
                  <a:lnTo>
                    <a:pt x="67" y="128"/>
                  </a:lnTo>
                  <a:lnTo>
                    <a:pt x="79" y="125"/>
                  </a:lnTo>
                  <a:lnTo>
                    <a:pt x="77" y="122"/>
                  </a:lnTo>
                  <a:lnTo>
                    <a:pt x="73" y="117"/>
                  </a:lnTo>
                  <a:lnTo>
                    <a:pt x="77" y="114"/>
                  </a:lnTo>
                  <a:lnTo>
                    <a:pt x="85" y="115"/>
                  </a:lnTo>
                  <a:lnTo>
                    <a:pt x="93" y="118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1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6" y="188"/>
                  </a:lnTo>
                  <a:lnTo>
                    <a:pt x="155" y="187"/>
                  </a:lnTo>
                  <a:lnTo>
                    <a:pt x="163" y="185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70" y="198"/>
                  </a:lnTo>
                  <a:lnTo>
                    <a:pt x="170" y="204"/>
                  </a:lnTo>
                  <a:lnTo>
                    <a:pt x="178" y="208"/>
                  </a:lnTo>
                  <a:lnTo>
                    <a:pt x="188" y="207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2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5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4" y="5"/>
                  </a:lnTo>
                  <a:lnTo>
                    <a:pt x="181" y="0"/>
                  </a:lnTo>
                  <a:lnTo>
                    <a:pt x="170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3"/>
                  </a:lnTo>
                  <a:lnTo>
                    <a:pt x="168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6" y="103"/>
                  </a:lnTo>
                  <a:lnTo>
                    <a:pt x="105" y="96"/>
                  </a:lnTo>
                  <a:lnTo>
                    <a:pt x="103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90800" y="4856760"/>
              <a:ext cx="250560" cy="259560"/>
            </a:xfrm>
            <a:custGeom>
              <a:avLst/>
              <a:gdLst/>
              <a:ahLst/>
              <a:rect l="l" t="t" r="r" b="b"/>
              <a:pathLst>
                <a:path w="238" h="208">
                  <a:moveTo>
                    <a:pt x="96" y="83"/>
                  </a:moveTo>
                  <a:lnTo>
                    <a:pt x="92" y="71"/>
                  </a:lnTo>
                  <a:lnTo>
                    <a:pt x="84" y="64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7" y="73"/>
                  </a:lnTo>
                  <a:lnTo>
                    <a:pt x="65" y="78"/>
                  </a:lnTo>
                  <a:lnTo>
                    <a:pt x="50" y="92"/>
                  </a:lnTo>
                  <a:lnTo>
                    <a:pt x="34" y="105"/>
                  </a:lnTo>
                  <a:lnTo>
                    <a:pt x="18" y="117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6" y="126"/>
                  </a:lnTo>
                  <a:lnTo>
                    <a:pt x="2" y="137"/>
                  </a:lnTo>
                  <a:lnTo>
                    <a:pt x="0" y="150"/>
                  </a:lnTo>
                  <a:lnTo>
                    <a:pt x="4" y="161"/>
                  </a:lnTo>
                  <a:lnTo>
                    <a:pt x="8" y="162"/>
                  </a:lnTo>
                  <a:lnTo>
                    <a:pt x="12" y="159"/>
                  </a:lnTo>
                  <a:lnTo>
                    <a:pt x="16" y="159"/>
                  </a:lnTo>
                  <a:lnTo>
                    <a:pt x="20" y="139"/>
                  </a:lnTo>
                  <a:lnTo>
                    <a:pt x="26" y="122"/>
                  </a:lnTo>
                  <a:lnTo>
                    <a:pt x="42" y="118"/>
                  </a:lnTo>
                  <a:lnTo>
                    <a:pt x="43" y="121"/>
                  </a:lnTo>
                  <a:lnTo>
                    <a:pt x="41" y="128"/>
                  </a:lnTo>
                  <a:lnTo>
                    <a:pt x="40" y="135"/>
                  </a:lnTo>
                  <a:lnTo>
                    <a:pt x="41" y="138"/>
                  </a:lnTo>
                  <a:lnTo>
                    <a:pt x="44" y="139"/>
                  </a:lnTo>
                  <a:lnTo>
                    <a:pt x="46" y="138"/>
                  </a:lnTo>
                  <a:lnTo>
                    <a:pt x="54" y="127"/>
                  </a:lnTo>
                  <a:lnTo>
                    <a:pt x="67" y="128"/>
                  </a:lnTo>
                  <a:lnTo>
                    <a:pt x="78" y="125"/>
                  </a:lnTo>
                  <a:lnTo>
                    <a:pt x="77" y="121"/>
                  </a:lnTo>
                  <a:lnTo>
                    <a:pt x="73" y="117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3" y="117"/>
                  </a:lnTo>
                  <a:lnTo>
                    <a:pt x="102" y="119"/>
                  </a:lnTo>
                  <a:lnTo>
                    <a:pt x="103" y="141"/>
                  </a:lnTo>
                  <a:lnTo>
                    <a:pt x="110" y="160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37" y="185"/>
                  </a:lnTo>
                  <a:lnTo>
                    <a:pt x="145" y="187"/>
                  </a:lnTo>
                  <a:lnTo>
                    <a:pt x="154" y="187"/>
                  </a:lnTo>
                  <a:lnTo>
                    <a:pt x="163" y="184"/>
                  </a:lnTo>
                  <a:lnTo>
                    <a:pt x="171" y="186"/>
                  </a:lnTo>
                  <a:lnTo>
                    <a:pt x="172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78" y="208"/>
                  </a:lnTo>
                  <a:lnTo>
                    <a:pt x="187" y="206"/>
                  </a:lnTo>
                  <a:lnTo>
                    <a:pt x="192" y="201"/>
                  </a:lnTo>
                  <a:lnTo>
                    <a:pt x="189" y="185"/>
                  </a:lnTo>
                  <a:lnTo>
                    <a:pt x="180" y="169"/>
                  </a:lnTo>
                  <a:lnTo>
                    <a:pt x="179" y="152"/>
                  </a:lnTo>
                  <a:lnTo>
                    <a:pt x="185" y="140"/>
                  </a:lnTo>
                  <a:lnTo>
                    <a:pt x="192" y="129"/>
                  </a:lnTo>
                  <a:lnTo>
                    <a:pt x="201" y="119"/>
                  </a:lnTo>
                  <a:lnTo>
                    <a:pt x="203" y="139"/>
                  </a:lnTo>
                  <a:lnTo>
                    <a:pt x="208" y="159"/>
                  </a:lnTo>
                  <a:lnTo>
                    <a:pt x="215" y="178"/>
                  </a:lnTo>
                  <a:lnTo>
                    <a:pt x="217" y="170"/>
                  </a:lnTo>
                  <a:lnTo>
                    <a:pt x="219" y="161"/>
                  </a:lnTo>
                  <a:lnTo>
                    <a:pt x="221" y="152"/>
                  </a:lnTo>
                  <a:lnTo>
                    <a:pt x="229" y="146"/>
                  </a:lnTo>
                  <a:lnTo>
                    <a:pt x="236" y="139"/>
                  </a:lnTo>
                  <a:lnTo>
                    <a:pt x="238" y="129"/>
                  </a:lnTo>
                  <a:lnTo>
                    <a:pt x="234" y="116"/>
                  </a:lnTo>
                  <a:lnTo>
                    <a:pt x="229" y="104"/>
                  </a:lnTo>
                  <a:lnTo>
                    <a:pt x="222" y="92"/>
                  </a:lnTo>
                  <a:lnTo>
                    <a:pt x="222" y="87"/>
                  </a:lnTo>
                  <a:lnTo>
                    <a:pt x="224" y="81"/>
                  </a:lnTo>
                  <a:lnTo>
                    <a:pt x="224" y="76"/>
                  </a:lnTo>
                  <a:lnTo>
                    <a:pt x="220" y="71"/>
                  </a:lnTo>
                  <a:lnTo>
                    <a:pt x="218" y="65"/>
                  </a:lnTo>
                  <a:lnTo>
                    <a:pt x="219" y="61"/>
                  </a:lnTo>
                  <a:lnTo>
                    <a:pt x="225" y="52"/>
                  </a:lnTo>
                  <a:lnTo>
                    <a:pt x="227" y="44"/>
                  </a:lnTo>
                  <a:lnTo>
                    <a:pt x="223" y="38"/>
                  </a:lnTo>
                  <a:lnTo>
                    <a:pt x="217" y="30"/>
                  </a:lnTo>
                  <a:lnTo>
                    <a:pt x="210" y="22"/>
                  </a:lnTo>
                  <a:lnTo>
                    <a:pt x="204" y="14"/>
                  </a:lnTo>
                  <a:lnTo>
                    <a:pt x="193" y="4"/>
                  </a:lnTo>
                  <a:lnTo>
                    <a:pt x="181" y="0"/>
                  </a:lnTo>
                  <a:lnTo>
                    <a:pt x="169" y="4"/>
                  </a:lnTo>
                  <a:lnTo>
                    <a:pt x="169" y="13"/>
                  </a:lnTo>
                  <a:lnTo>
                    <a:pt x="174" y="23"/>
                  </a:lnTo>
                  <a:lnTo>
                    <a:pt x="174" y="32"/>
                  </a:lnTo>
                  <a:lnTo>
                    <a:pt x="167" y="40"/>
                  </a:lnTo>
                  <a:lnTo>
                    <a:pt x="158" y="44"/>
                  </a:lnTo>
                  <a:lnTo>
                    <a:pt x="150" y="48"/>
                  </a:lnTo>
                  <a:lnTo>
                    <a:pt x="130" y="62"/>
                  </a:lnTo>
                  <a:lnTo>
                    <a:pt x="115" y="80"/>
                  </a:lnTo>
                  <a:lnTo>
                    <a:pt x="105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102" y="83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96" y="8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94560" y="4831560"/>
              <a:ext cx="21960" cy="25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4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794560" y="4831560"/>
              <a:ext cx="21960" cy="25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3" y="13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27960" y="4897800"/>
              <a:ext cx="19800" cy="111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6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27960" y="4897800"/>
              <a:ext cx="19800" cy="111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3" y="0"/>
                  </a:moveTo>
                  <a:lnTo>
                    <a:pt x="7" y="3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81520" y="4914000"/>
              <a:ext cx="13320" cy="16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3" y="13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2" y="1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81520" y="4914000"/>
              <a:ext cx="1332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4" y="14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94040" y="5070240"/>
              <a:ext cx="19800" cy="15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3" y="1"/>
                  </a:moveTo>
                  <a:lnTo>
                    <a:pt x="9" y="3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94040" y="5070240"/>
              <a:ext cx="19800" cy="15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4" y="1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837760" y="5195160"/>
              <a:ext cx="17640" cy="158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3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37760" y="5195160"/>
              <a:ext cx="17640" cy="158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3"/>
                  </a:move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5"/>
                  </a:lnTo>
                  <a:lnTo>
                    <a:pt x="8" y="9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27320" y="5145120"/>
              <a:ext cx="11160" cy="14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2" y="7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828040" y="5145120"/>
              <a:ext cx="10440" cy="14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1" y="7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72240" y="5161680"/>
              <a:ext cx="10440" cy="20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72240" y="5161680"/>
              <a:ext cx="10440" cy="20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3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84840" y="5250240"/>
              <a:ext cx="11520" cy="198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8" y="7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84840" y="5250240"/>
              <a:ext cx="11520" cy="198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94040" y="4518360"/>
              <a:ext cx="15480" cy="284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2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11" y="7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95120" y="4518360"/>
              <a:ext cx="14400" cy="29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" y="8"/>
                  </a:lnTo>
                  <a:lnTo>
                    <a:pt x="3" y="16"/>
                  </a:lnTo>
                  <a:lnTo>
                    <a:pt x="3" y="24"/>
                  </a:lnTo>
                  <a:lnTo>
                    <a:pt x="7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49840" y="4649400"/>
              <a:ext cx="7200" cy="208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4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49840" y="4649400"/>
              <a:ext cx="7200" cy="223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7" y="6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69920" y="4638240"/>
              <a:ext cx="15480" cy="17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4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69920" y="4638240"/>
              <a:ext cx="15480" cy="17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5" y="9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5" y="7"/>
                  </a:lnTo>
                  <a:lnTo>
                    <a:pt x="11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02840" y="48067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02840" y="4806720"/>
              <a:ext cx="8280" cy="13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22560" y="4584240"/>
              <a:ext cx="1476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24000" y="4584240"/>
              <a:ext cx="1440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7"/>
                  </a:moveTo>
                  <a:lnTo>
                    <a:pt x="3" y="12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7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75600" y="5552640"/>
              <a:ext cx="222120" cy="510480"/>
            </a:xfrm>
            <a:custGeom>
              <a:avLst/>
              <a:gdLst/>
              <a:ahLst/>
              <a:rect l="l" t="t" r="r" b="b"/>
              <a:pathLst>
                <a:path w="211" h="409">
                  <a:moveTo>
                    <a:pt x="15" y="104"/>
                  </a:moveTo>
                  <a:lnTo>
                    <a:pt x="0" y="160"/>
                  </a:lnTo>
                  <a:lnTo>
                    <a:pt x="10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5" y="181"/>
                  </a:lnTo>
                  <a:lnTo>
                    <a:pt x="41" y="180"/>
                  </a:lnTo>
                  <a:lnTo>
                    <a:pt x="46" y="181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5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8" y="208"/>
                  </a:lnTo>
                  <a:lnTo>
                    <a:pt x="71" y="217"/>
                  </a:lnTo>
                  <a:lnTo>
                    <a:pt x="77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4"/>
                  </a:lnTo>
                  <a:lnTo>
                    <a:pt x="93" y="292"/>
                  </a:lnTo>
                  <a:lnTo>
                    <a:pt x="98" y="300"/>
                  </a:lnTo>
                  <a:lnTo>
                    <a:pt x="106" y="306"/>
                  </a:lnTo>
                  <a:lnTo>
                    <a:pt x="103" y="306"/>
                  </a:lnTo>
                  <a:lnTo>
                    <a:pt x="101" y="305"/>
                  </a:lnTo>
                  <a:lnTo>
                    <a:pt x="99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3" y="314"/>
                  </a:lnTo>
                  <a:lnTo>
                    <a:pt x="102" y="317"/>
                  </a:lnTo>
                  <a:lnTo>
                    <a:pt x="107" y="321"/>
                  </a:lnTo>
                  <a:lnTo>
                    <a:pt x="109" y="335"/>
                  </a:lnTo>
                  <a:lnTo>
                    <a:pt x="98" y="345"/>
                  </a:lnTo>
                  <a:lnTo>
                    <a:pt x="84" y="354"/>
                  </a:lnTo>
                  <a:lnTo>
                    <a:pt x="82" y="357"/>
                  </a:lnTo>
                  <a:lnTo>
                    <a:pt x="81" y="361"/>
                  </a:lnTo>
                  <a:lnTo>
                    <a:pt x="80" y="366"/>
                  </a:lnTo>
                  <a:lnTo>
                    <a:pt x="104" y="361"/>
                  </a:lnTo>
                  <a:lnTo>
                    <a:pt x="127" y="360"/>
                  </a:lnTo>
                  <a:lnTo>
                    <a:pt x="152" y="362"/>
                  </a:lnTo>
                  <a:lnTo>
                    <a:pt x="152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6" y="357"/>
                  </a:lnTo>
                  <a:lnTo>
                    <a:pt x="159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3" y="396"/>
                  </a:lnTo>
                  <a:lnTo>
                    <a:pt x="205" y="409"/>
                  </a:lnTo>
                  <a:lnTo>
                    <a:pt x="209" y="364"/>
                  </a:lnTo>
                  <a:lnTo>
                    <a:pt x="209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1" y="264"/>
                  </a:lnTo>
                  <a:lnTo>
                    <a:pt x="200" y="261"/>
                  </a:lnTo>
                  <a:lnTo>
                    <a:pt x="211" y="199"/>
                  </a:lnTo>
                  <a:lnTo>
                    <a:pt x="207" y="135"/>
                  </a:lnTo>
                  <a:lnTo>
                    <a:pt x="200" y="72"/>
                  </a:lnTo>
                  <a:lnTo>
                    <a:pt x="192" y="63"/>
                  </a:lnTo>
                  <a:lnTo>
                    <a:pt x="173" y="57"/>
                  </a:lnTo>
                  <a:lnTo>
                    <a:pt x="155" y="50"/>
                  </a:lnTo>
                  <a:lnTo>
                    <a:pt x="144" y="46"/>
                  </a:lnTo>
                  <a:lnTo>
                    <a:pt x="133" y="43"/>
                  </a:lnTo>
                  <a:lnTo>
                    <a:pt x="124" y="39"/>
                  </a:lnTo>
                  <a:lnTo>
                    <a:pt x="100" y="29"/>
                  </a:lnTo>
                  <a:lnTo>
                    <a:pt x="76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3" y="31"/>
                  </a:lnTo>
                  <a:lnTo>
                    <a:pt x="33" y="70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75600" y="5552640"/>
              <a:ext cx="223560" cy="510480"/>
            </a:xfrm>
            <a:custGeom>
              <a:avLst/>
              <a:gdLst/>
              <a:ahLst/>
              <a:rect l="l" t="t" r="r" b="b"/>
              <a:pathLst>
                <a:path w="212" h="409">
                  <a:moveTo>
                    <a:pt x="15" y="104"/>
                  </a:moveTo>
                  <a:lnTo>
                    <a:pt x="0" y="160"/>
                  </a:lnTo>
                  <a:lnTo>
                    <a:pt x="11" y="164"/>
                  </a:lnTo>
                  <a:lnTo>
                    <a:pt x="21" y="172"/>
                  </a:lnTo>
                  <a:lnTo>
                    <a:pt x="31" y="180"/>
                  </a:lnTo>
                  <a:lnTo>
                    <a:pt x="36" y="181"/>
                  </a:lnTo>
                  <a:lnTo>
                    <a:pt x="42" y="181"/>
                  </a:lnTo>
                  <a:lnTo>
                    <a:pt x="46" y="182"/>
                  </a:lnTo>
                  <a:lnTo>
                    <a:pt x="48" y="185"/>
                  </a:lnTo>
                  <a:lnTo>
                    <a:pt x="50" y="188"/>
                  </a:lnTo>
                  <a:lnTo>
                    <a:pt x="53" y="190"/>
                  </a:lnTo>
                  <a:lnTo>
                    <a:pt x="56" y="189"/>
                  </a:lnTo>
                  <a:lnTo>
                    <a:pt x="58" y="187"/>
                  </a:lnTo>
                  <a:lnTo>
                    <a:pt x="59" y="188"/>
                  </a:lnTo>
                  <a:lnTo>
                    <a:pt x="63" y="199"/>
                  </a:lnTo>
                  <a:lnTo>
                    <a:pt x="69" y="207"/>
                  </a:lnTo>
                  <a:lnTo>
                    <a:pt x="72" y="217"/>
                  </a:lnTo>
                  <a:lnTo>
                    <a:pt x="78" y="242"/>
                  </a:lnTo>
                  <a:lnTo>
                    <a:pt x="87" y="264"/>
                  </a:lnTo>
                  <a:lnTo>
                    <a:pt x="103" y="283"/>
                  </a:lnTo>
                  <a:lnTo>
                    <a:pt x="99" y="283"/>
                  </a:lnTo>
                  <a:lnTo>
                    <a:pt x="96" y="283"/>
                  </a:lnTo>
                  <a:lnTo>
                    <a:pt x="94" y="283"/>
                  </a:lnTo>
                  <a:lnTo>
                    <a:pt x="93" y="292"/>
                  </a:lnTo>
                  <a:lnTo>
                    <a:pt x="99" y="300"/>
                  </a:lnTo>
                  <a:lnTo>
                    <a:pt x="106" y="306"/>
                  </a:lnTo>
                  <a:lnTo>
                    <a:pt x="104" y="306"/>
                  </a:lnTo>
                  <a:lnTo>
                    <a:pt x="102" y="305"/>
                  </a:lnTo>
                  <a:lnTo>
                    <a:pt x="100" y="303"/>
                  </a:lnTo>
                  <a:lnTo>
                    <a:pt x="94" y="305"/>
                  </a:lnTo>
                  <a:lnTo>
                    <a:pt x="89" y="305"/>
                  </a:lnTo>
                  <a:lnTo>
                    <a:pt x="88" y="309"/>
                  </a:lnTo>
                  <a:lnTo>
                    <a:pt x="94" y="314"/>
                  </a:lnTo>
                  <a:lnTo>
                    <a:pt x="102" y="317"/>
                  </a:lnTo>
                  <a:lnTo>
                    <a:pt x="108" y="321"/>
                  </a:lnTo>
                  <a:lnTo>
                    <a:pt x="110" y="335"/>
                  </a:lnTo>
                  <a:lnTo>
                    <a:pt x="99" y="345"/>
                  </a:lnTo>
                  <a:lnTo>
                    <a:pt x="84" y="354"/>
                  </a:lnTo>
                  <a:lnTo>
                    <a:pt x="83" y="356"/>
                  </a:lnTo>
                  <a:lnTo>
                    <a:pt x="82" y="361"/>
                  </a:lnTo>
                  <a:lnTo>
                    <a:pt x="80" y="366"/>
                  </a:lnTo>
                  <a:lnTo>
                    <a:pt x="104" y="360"/>
                  </a:lnTo>
                  <a:lnTo>
                    <a:pt x="128" y="359"/>
                  </a:lnTo>
                  <a:lnTo>
                    <a:pt x="152" y="362"/>
                  </a:lnTo>
                  <a:lnTo>
                    <a:pt x="153" y="357"/>
                  </a:lnTo>
                  <a:lnTo>
                    <a:pt x="155" y="352"/>
                  </a:lnTo>
                  <a:lnTo>
                    <a:pt x="156" y="346"/>
                  </a:lnTo>
                  <a:lnTo>
                    <a:pt x="157" y="357"/>
                  </a:lnTo>
                  <a:lnTo>
                    <a:pt x="160" y="367"/>
                  </a:lnTo>
                  <a:lnTo>
                    <a:pt x="166" y="374"/>
                  </a:lnTo>
                  <a:lnTo>
                    <a:pt x="181" y="384"/>
                  </a:lnTo>
                  <a:lnTo>
                    <a:pt x="194" y="396"/>
                  </a:lnTo>
                  <a:lnTo>
                    <a:pt x="205" y="409"/>
                  </a:lnTo>
                  <a:lnTo>
                    <a:pt x="210" y="364"/>
                  </a:lnTo>
                  <a:lnTo>
                    <a:pt x="210" y="319"/>
                  </a:lnTo>
                  <a:lnTo>
                    <a:pt x="207" y="274"/>
                  </a:lnTo>
                  <a:lnTo>
                    <a:pt x="205" y="269"/>
                  </a:lnTo>
                  <a:lnTo>
                    <a:pt x="202" y="264"/>
                  </a:lnTo>
                  <a:lnTo>
                    <a:pt x="201" y="261"/>
                  </a:lnTo>
                  <a:lnTo>
                    <a:pt x="212" y="199"/>
                  </a:lnTo>
                  <a:lnTo>
                    <a:pt x="208" y="135"/>
                  </a:lnTo>
                  <a:lnTo>
                    <a:pt x="201" y="72"/>
                  </a:lnTo>
                  <a:lnTo>
                    <a:pt x="192" y="63"/>
                  </a:lnTo>
                  <a:lnTo>
                    <a:pt x="174" y="57"/>
                  </a:lnTo>
                  <a:lnTo>
                    <a:pt x="155" y="50"/>
                  </a:lnTo>
                  <a:lnTo>
                    <a:pt x="145" y="46"/>
                  </a:lnTo>
                  <a:lnTo>
                    <a:pt x="134" y="43"/>
                  </a:lnTo>
                  <a:lnTo>
                    <a:pt x="125" y="39"/>
                  </a:lnTo>
                  <a:lnTo>
                    <a:pt x="100" y="30"/>
                  </a:lnTo>
                  <a:lnTo>
                    <a:pt x="77" y="19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4" y="31"/>
                  </a:lnTo>
                  <a:lnTo>
                    <a:pt x="34" y="70"/>
                  </a:lnTo>
                  <a:lnTo>
                    <a:pt x="15" y="104"/>
                  </a:lnTo>
                </a:path>
              </a:pathLst>
            </a:custGeom>
            <a:solidFill>
              <a:srgbClr val="339966">
                <a:alpha val="50000"/>
              </a:srgbClr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6172200" y="1143000"/>
            <a:ext cx="2666880" cy="1447920"/>
          </a:xfrm>
          <a:prstGeom prst="wedgeRoundRectCallout">
            <a:avLst>
              <a:gd name="adj1" fmla="val -111962"/>
              <a:gd name="adj2" fmla="val 184208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248520" y="3276720"/>
            <a:ext cx="2743200" cy="1447560"/>
          </a:xfrm>
          <a:prstGeom prst="wedgeRoundRectCallout">
            <a:avLst>
              <a:gd name="adj1" fmla="val -72282"/>
              <a:gd name="adj2" fmla="val 53509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248520" y="3352680"/>
            <a:ext cx="26668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ILIPP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High environmental awareness and public participation in reform.. Poorly developed savings cul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52280" y="1066680"/>
            <a:ext cx="3505320" cy="1447920"/>
          </a:xfrm>
          <a:prstGeom prst="wedgeRoundRectCallout">
            <a:avLst>
              <a:gd name="adj1" fmla="val 69518"/>
              <a:gd name="adj2" fmla="val 88597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52280" y="1143000"/>
            <a:ext cx="35053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The BIG one!…Govt. sponsored CG initiatives… nascent mutual fund industry and growing retail equity culture…SRI could be an ‘angle’ for early particip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52280" y="2743200"/>
            <a:ext cx="2286000" cy="1752480"/>
          </a:xfrm>
          <a:prstGeom prst="wedgeRoundRectCallout">
            <a:avLst>
              <a:gd name="adj1" fmla="val 86041"/>
              <a:gd name="adj2" fmla="val 26810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28600" y="2895480"/>
            <a:ext cx="22096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D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Vast educated population….a major SRI opportunity…. Retail financial services taking off .. but work to be don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7200" y="6095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populations…less developed investment fund industries…need for SRI approach substa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228600" y="5105520"/>
            <a:ext cx="3124080" cy="685800"/>
          </a:xfrm>
          <a:prstGeom prst="wedgeRoundRectCallout">
            <a:avLst>
              <a:gd name="adj1" fmla="val -91819"/>
              <a:gd name="adj2" fmla="val 26847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4800600"/>
            <a:ext cx="3048120" cy="1143000"/>
          </a:xfrm>
          <a:prstGeom prst="wedgeRoundRectCallout">
            <a:avLst>
              <a:gd name="adj1" fmla="val -97134"/>
              <a:gd name="adj2" fmla="val -15555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4920" y="51814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ONES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big need.. fragmented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248520" y="1219320"/>
            <a:ext cx="259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IL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High level of interest in SRI but very early days, desire for modernisation with environmental benefi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95880" y="487692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AYS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althy, educated population…active religious groups… stronger retail investment cul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Reasons why SRI 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product choice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and Pressures for higher corporate govern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Wor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28880" y="2666880"/>
            <a:ext cx="3517920" cy="2819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6120" y="2743200"/>
            <a:ext cx="5344920" cy="1066680"/>
          </a:xfrm>
          <a:prstGeom prst="rightArrow">
            <a:avLst>
              <a:gd name="adj1" fmla="val 50000"/>
              <a:gd name="adj2" fmla="val 6263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6120" y="4038480"/>
            <a:ext cx="5344920" cy="1067040"/>
          </a:xfrm>
          <a:prstGeom prst="rightArrow">
            <a:avLst>
              <a:gd name="adj1" fmla="val 50000"/>
              <a:gd name="adj2" fmla="val 6261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1120" y="2211480"/>
            <a:ext cx="260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Linear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7800" y="6024600"/>
            <a:ext cx="3513600" cy="420840"/>
          </a:xfrm>
          <a:prstGeom prst="rect">
            <a:avLst/>
          </a:prstGeom>
          <a:solidFill>
            <a:srgbClr val="83e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200" y="2801160"/>
            <a:ext cx="123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Fossil Fuels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Nucl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160" y="4344120"/>
            <a:ext cx="1985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Rich Ore Deposits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Ancient Forests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82160" y="4326840"/>
            <a:ext cx="13935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Heavy metal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Carcinogens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ED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87640" y="3048840"/>
            <a:ext cx="104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CO2, Nox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362320" y="1204920"/>
            <a:ext cx="4192200" cy="866880"/>
            <a:chOff x="2362320" y="1204920"/>
            <a:chExt cx="4192200" cy="8668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362320" y="1218240"/>
              <a:ext cx="7729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206520" y="1204920"/>
              <a:ext cx="79848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070880" y="1218240"/>
              <a:ext cx="7819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901760" y="1204920"/>
              <a:ext cx="806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5774400" y="1219680"/>
              <a:ext cx="780120" cy="83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3324240" y="5105520"/>
            <a:ext cx="2531880" cy="838080"/>
          </a:xfrm>
          <a:prstGeom prst="downArrow">
            <a:avLst>
              <a:gd name="adj1" fmla="val 48611"/>
              <a:gd name="adj2" fmla="val 402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6583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thanks to Morley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or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02080" y="2284560"/>
            <a:ext cx="3517560" cy="28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2080" y="2284560"/>
            <a:ext cx="3517560" cy="28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02080" y="2284560"/>
            <a:ext cx="3517560" cy="28191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8960" y="2284560"/>
            <a:ext cx="2039760" cy="1218960"/>
          </a:xfrm>
          <a:prstGeom prst="rightArrow">
            <a:avLst>
              <a:gd name="adj1" fmla="val 50000"/>
              <a:gd name="adj2" fmla="val 209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64120" y="4130640"/>
            <a:ext cx="2040120" cy="744480"/>
          </a:xfrm>
          <a:prstGeom prst="rightArrow">
            <a:avLst>
              <a:gd name="adj1" fmla="val 50000"/>
              <a:gd name="adj2" fmla="val 342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W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2840" y="1828800"/>
            <a:ext cx="2743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Cycl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65480" y="5027760"/>
            <a:ext cx="2531880" cy="533160"/>
          </a:xfrm>
          <a:prstGeom prst="downArrow">
            <a:avLst>
              <a:gd name="adj1" fmla="val 48611"/>
              <a:gd name="adj2" fmla="val 402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76720" y="5641920"/>
            <a:ext cx="3989160" cy="420840"/>
          </a:xfrm>
          <a:prstGeom prst="rect">
            <a:avLst/>
          </a:prstGeom>
          <a:solidFill>
            <a:srgbClr val="83e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Quality of Life Enhan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440" y="2418480"/>
            <a:ext cx="120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Renewabl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560" y="3639600"/>
            <a:ext cx="12229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ustainab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Managed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Resour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5600" y="4418640"/>
            <a:ext cx="154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Bio-degradabl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wa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7760" y="3384720"/>
            <a:ext cx="1687680" cy="1566720"/>
          </a:xfrm>
          <a:prstGeom prst="donut">
            <a:avLst>
              <a:gd name="adj" fmla="val 37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8960" y="3503520"/>
            <a:ext cx="2039760" cy="809640"/>
          </a:xfrm>
          <a:prstGeom prst="rightArrow">
            <a:avLst>
              <a:gd name="adj1" fmla="val 50000"/>
              <a:gd name="adj2" fmla="val 314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 45 Light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0840" y="388476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90480" y="472284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06720" y="1066680"/>
            <a:ext cx="83988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248520"/>
            <a:ext cx="899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ians promoting agenda….UK legislation sets new pr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583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thanks to Morley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1219320"/>
            <a:ext cx="784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US$10 bn including chur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, excluding shareholder activ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US$ 1 bn i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 US$2.16 tn in funds and portfol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 US$ 32 b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  US$2.5 bn in funds plus US$250 b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portfol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of Europe US$ 2 -3 bn (guesstimat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I Funds Glob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Research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Governance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Quality and Stewar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4:43:44Z</dcterms:created>
  <dc:creator>Sue Howland Jackson</dc:creator>
  <dc:description/>
  <dc:language>en-US</dc:language>
  <cp:lastModifiedBy>Jim Browne</cp:lastModifiedBy>
  <cp:lastPrinted>2002-11-05T08:34:26Z</cp:lastPrinted>
  <dcterms:modified xsi:type="dcterms:W3CDTF">2002-11-05T20:19:00Z</dcterms:modified>
  <cp:revision>87</cp:revision>
  <dc:subject/>
  <dc:title>ASrIA</dc:title>
</cp:coreProperties>
</file>