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 Gra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3320" indent="-4633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0480" indent="-4885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653120" indent="-226080">
              <a:spcBef>
                <a:spcPts val="799"/>
              </a:spcBef>
              <a:buClr>
                <a:srgbClr val="ffffff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206784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482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482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482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0" y="228600"/>
          <a:ext cx="1752480" cy="1143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1752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0" y="6491160"/>
            <a:ext cx="9143640" cy="366840"/>
            <a:chOff x="0" y="6491160"/>
            <a:chExt cx="9143640" cy="366840"/>
          </a:xfrm>
        </p:grpSpPr>
        <p:sp>
          <p:nvSpPr>
            <p:cNvPr id="15" name=""/>
            <p:cNvSpPr/>
            <p:nvPr/>
          </p:nvSpPr>
          <p:spPr>
            <a:xfrm>
              <a:off x="0" y="6491160"/>
              <a:ext cx="914364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77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EU Action Plan for Forest Law Enforcement, Governance and Tra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491160"/>
              <a:ext cx="9143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858000"/>
              <a:ext cx="9143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491160"/>
              <a:ext cx="0" cy="36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3640" y="6491160"/>
              <a:ext cx="0" cy="36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 Gra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352680" y="228600"/>
          <a:ext cx="2438640" cy="152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28600"/>
                    <a:ext cx="2438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0" y="6491160"/>
            <a:ext cx="9143640" cy="366840"/>
            <a:chOff x="0" y="6491160"/>
            <a:chExt cx="9143640" cy="366840"/>
          </a:xfrm>
        </p:grpSpPr>
        <p:sp>
          <p:nvSpPr>
            <p:cNvPr id="70" name=""/>
            <p:cNvSpPr/>
            <p:nvPr/>
          </p:nvSpPr>
          <p:spPr>
            <a:xfrm>
              <a:off x="0" y="6491160"/>
              <a:ext cx="914364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77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EU Action Plan for Forest Law Enforcement, Governance and Tra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6491160"/>
              <a:ext cx="9143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858000"/>
              <a:ext cx="9143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91160"/>
              <a:ext cx="0" cy="36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3640" y="6491160"/>
              <a:ext cx="0" cy="36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 Gras"/>
              </a:rPr>
              <a:t>FLEGT EU demand-side measure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 Unicode MS"/>
              </a:rPr>
              <a:t>Beijing, 18 June 2008</a:t>
            </a:r>
            <a:endParaRPr b="0" lang="en-US" sz="28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5157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Vincent van den Be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Unicode MS"/>
              </a:rPr>
              <a:t>European Com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Due diligence proposal III</a:t>
            </a:r>
            <a:endParaRPr b="0" lang="en-US" sz="28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0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Guidance: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 Criteria for due diligence to be developed through an additional procedure, based on the work of an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Advisory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Exemptions: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 FLEGT and CITES timb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Enforcement: 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Check on use of due diligence systems by the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Expected effects</a:t>
            </a:r>
            <a:endParaRPr b="0" lang="en-US" sz="28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0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Level playing field: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Requires all EU traders to use due diligen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Risk management: 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provides an incentive to source imports from low risk rather than high risk supplie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Incentive for FLEGT: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Provides partner countries with an incentive to join FLE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7724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Vincent .van-den-berk@ec.europa.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EU demand-side measures</a:t>
            </a:r>
            <a:endParaRPr b="0" lang="en-US" sz="28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Create market incentives for legal timber through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rivate sector initiativ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upport the implementation of VPA agre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Green public procurement poli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dditional legal op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Green Public Procurement I</a:t>
            </a:r>
            <a:endParaRPr b="0" lang="en-US" sz="28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3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ment = EU Member State competenc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ies in place: BE-DE-DK-ES-FR-IT-NL-U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0-20% of market on average with main effects on construction, furniture and paper produc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ost policies focus on sustainability only, some also recognise lega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 Gra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 Gras"/>
              </a:rPr>
              <a:t>Green Public Procurement II</a:t>
            </a:r>
            <a:endParaRPr b="0" lang="en-US" sz="32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0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New Green Public Procurement Communic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Follows from earlier agreed  initiativ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Identifies wood products as a priority catego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ims to develop a process of cooperation with the MS to identify applicable procurement criteri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 Gra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 Gras"/>
              </a:rPr>
              <a:t>Green Public Procurement III</a:t>
            </a:r>
            <a:endParaRPr b="0" lang="en-US" sz="32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0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link to FLEGT in the New GPP Communic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MS are recommended to stipulate – as minimum – the use of legal timb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Advocates a stepwise approach from legality towards sustainability for developing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Unicode MS"/>
                <a:ea typeface="Arial Unicode MS"/>
              </a:rPr>
              <a:t>Additional legal options I</a:t>
            </a:r>
            <a:endParaRPr b="0" lang="en-US" sz="28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The process on additional options (to reinforce VPA’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2006/07: 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  Internet and stakeholder consult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nd 2007:  Impact assessm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June 2008: Proposal in Inter-Services Consul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 Unicode MS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quarter 2008:   Proposal presented to Council and 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Additional legal options II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81378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ption 1: VPA expa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ption 2: Voluntary private sector sche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ption 3: Ban on im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ption 4a: Prohibition on trading illegal ti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ption 4b: mandatory private sector legality guarant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Conclusion: all 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ptions have their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New Option: ‘due diligence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 Gra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Due diligence proposal I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0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Key characteristics of the proposed regula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Aim: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To recognize the efforts of producers/traders that invest in the legality of their timber produc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Product scope: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round wood; sawn timber; veneer, panels, wooden furniture, pulp, paper, wood chip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Focus: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The act of placing timber products on the Community mark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 Gra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 Gras"/>
              </a:rPr>
              <a:t>Due diligence proposal II</a:t>
            </a:r>
            <a:endParaRPr b="0" lang="en-US" sz="2800" spc="-1" strike="noStrike">
              <a:solidFill>
                <a:srgbClr val="ffcc66"/>
              </a:solidFill>
              <a:latin typeface="Times New Roman Gr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0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560" indent="-430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Obligation: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traders to demonstrate due diligence in ensuring the legality of the produce trade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560" indent="-430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Legality: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legislation applicable in country of harves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560" indent="-430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Systems: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traders may develop their own verification and COC systems or use existing system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560" indent="-430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Risk: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Use of risk assessment procedu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05:02Z</dcterms:created>
  <dc:creator>le Grand</dc:creator>
  <dc:description/>
  <dc:language>en-US</dc:language>
  <cp:lastModifiedBy>berkvin</cp:lastModifiedBy>
  <cp:lastPrinted>2003-07-11T08:49:00Z</cp:lastPrinted>
  <dcterms:modified xsi:type="dcterms:W3CDTF">2008-06-11T07:49:26Z</dcterms:modified>
  <cp:revision>189</cp:revision>
  <dc:subject/>
  <dc:title>Integrating Environment into Programming</dc:title>
</cp:coreProperties>
</file>