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38.wmf" ContentType="image/x-wmf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40.wmf" ContentType="image/x-wmf"/>
  <Override PartName="/ppt/media/image6.jpeg" ContentType="image/jpeg"/>
  <Override PartName="/ppt/media/image18.png" ContentType="image/png"/>
  <Override PartName="/ppt/media/image31.jpeg" ContentType="image/jpeg"/>
  <Override PartName="/ppt/media/image35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2.jpeg" ContentType="image/jpeg"/>
  <Override PartName="/ppt/media/image5.jpeg" ContentType="image/jpeg"/>
  <Override PartName="/ppt/media/image39.wmf" ContentType="image/x-wmf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2.wmf" ContentType="image/x-wmf"/>
  <Override PartName="/ppt/media/image47.jpeg" ContentType="image/jpeg"/>
  <Override PartName="/ppt/media/image30.png" ContentType="image/png"/>
  <Override PartName="/ppt/media/image37.jpeg" ContentType="image/jpeg"/>
  <Override PartName="/ppt/media/image13.jpeg" ContentType="image/jpe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1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16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e00"/>
                </a:solidFill>
                <a:latin typeface="Helvetica Neue Light"/>
              </a:rPr>
              <a:t>Click to move the slide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ftr" idx="17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 type="sldNum" idx="18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CC67-7C9C-45AC-AF4F-E43FC382708C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6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15C6-41A3-40C9-A46F-A83C37994971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F80C-A22A-41E0-A0E8-A6E50A21BC3A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520560" y="4416480"/>
            <a:ext cx="576432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Helvetica Neue Light"/>
              </a:rPr>
              <a:t>(Offsets) Pagos compensatorios ($20M) (</a:t>
            </a:r>
            <a:r>
              <a:rPr b="0" lang="en-US" sz="1600" spc="-1" strike="noStrike">
                <a:solidFill>
                  <a:srgbClr val="000000"/>
                </a:solidFill>
                <a:latin typeface="Helvetica Neue Light"/>
              </a:rPr>
              <a:t>Reverse compensation for damage caused)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Helvetica Neue Light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Helvetica Neue Light"/>
              </a:rPr>
              <a:t>se divide a su vez en varios tipos- le hablare mas de esto…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Helvetica Neue Light"/>
              </a:rPr>
              <a:t>Biocarbon Fund: $54 million entre 2004-2006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5A4B-3A7A-440D-9135-631910F2EF8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20560" y="4416480"/>
            <a:ext cx="576432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Helvetica Neue Light"/>
              </a:rPr>
              <a:t>Wetland banking USA: por reducir a cero la perdida neta de humedales: Hay bancas privadas y publicos para crear, mejorar restaurar humedales. Estas acciones generan créditos que pueden ser vendidos a quienes tienen permiso de hacer desarrollo en otras zonas.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Helvetica Neue Light"/>
              </a:rPr>
              <a:t>Australia: BioBanking propuesta bajo diseno: para reducir aclareos de vegetación en zonas semi urbanas, se crean creditos de biodiversidad para los duenos de tierras que se comprometen a proteger y mejorar los valores de biodiversidad en su tierra. 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MX" sz="1200" spc="-1" strike="noStrike">
                <a:solidFill>
                  <a:srgbClr val="000000"/>
                </a:solidFill>
                <a:latin typeface="Helvetica Neue Light"/>
              </a:rPr>
              <a:t>Esos créditos son vendidos y usados en COMPENSACION por la perdida de biodiv en areas desarrolladas.  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CE19-AF95-4216-9252-9483785A70B5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73AD-E9EF-4197-90A1-20343948A968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0B2B-BC6C-4CED-A432-6321D7FE17C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FC7E-D300-4CBC-BBBD-186B1C2565D5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Ave tiene habitat bajo amenaza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1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7FA4-A9B7-4BE5-99A1-16A9F75037E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9395-0DE5-4660-A3EB-6D93F55989EF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elvetica Neue Light"/>
              </a:rPr>
              <a:t>Working with mines, oil companies, multinationals en Africa, China y EEUU</a:t>
            </a:r>
            <a:endParaRPr b="0" lang="en-US" sz="13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Helvetica Neue Light"/>
              </a:rPr>
              <a:t>Evaluando tres sitios en America Latina: Venezuela, Mexico y Argentina</a:t>
            </a:r>
            <a:endParaRPr b="0" lang="en-US" sz="13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E3F2-205C-416F-8D40-68A6E9FD51D6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elvetica Neue Light"/>
              </a:rPr>
              <a:t>Frente a la critica de que permitir que empresas que impactan el ambiente simplemente conservan ambiente en otro lado, se subraya que el offset o compensacion se hace dentro de un marco regulatorio ya establecido- En EEUU, como parte del IA permitido, se tiene que comprobar que se respeto la jerarquia de mitigacion- estricta prueba de ha llegado a un nivel de impacto minimo posible por ese proyecto.</a:t>
            </a:r>
            <a:endParaRPr b="0" lang="en-US" sz="13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elvetica Neue Light"/>
              </a:rPr>
              <a:t>Ghana- busca apoyar politica</a:t>
            </a:r>
            <a:endParaRPr b="0" lang="en-US" sz="13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87E2-A91B-42BC-8EF7-DBFD5533E84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160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A479-582C-46EB-B242-983106BD22F6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E5DA-92BA-4414-9D06-904C6FADA8C8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4A9E-B0E5-41BD-A371-193B83BAA57B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160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CC5C-B4A9-48C9-B50A-507D15630A3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Bancas internacionales que tienen criterios de impacto ambiental antes de dar prestamos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F39B-59D2-410A-8A84-EB0907DE3AE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La idea es no llegar a este punto: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5208-272A-4C18-BCFC-6E7706CDB485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Helvetica Neue Light"/>
              </a:rPr>
              <a:t>Pongamos valor en lo que por mucho tiempo no ha tenido precio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Helvetica Neue Light"/>
              </a:rPr>
              <a:t>No todo ha sido negativo: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Helvetica Neue Light"/>
              </a:rPr>
              <a:t>- Permitamos que los mercados jueguen papel de agregar información, descubrir precios y encontrar eficiencias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Helvetica Neue Light"/>
              </a:rPr>
              <a:t>PERO, moldeemos los mercados para que los intereses de grupos menos fuertes también sean beneficiados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Helvetica Neue Light"/>
              </a:rPr>
              <a:t>Es una herramienta tremenda, pero no cada tarea necesita un martillo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F8ED-912B-4714-9D3A-499D89414C0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2862-6DFB-4F3A-B1BA-ACE552F5C48F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3DB9-8DBD-4D28-A3CC-4F00BA4C0932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How come in our society everything has a price, except the most valuable?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Millenium Development Assessment por un grupo de 1000 expertos completado en 2005 senala que mas de 60% de nuestros servicios ambientales estan amenazados y deteriorandose.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Que son esos SA?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B122-51FC-485C-9CD4-78C0A0C19900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En Stockholmo al final de este mes se estan volviendo a reunir a decir: “y ahora que sabemos eso, que?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4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15D8-6696-49F6-9DF2-D28EA5B6237C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08DB-B0FC-4761-A853-03C399F7125A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Nos abrimos a un mundo de experiencias concretas en un gran numero de paises que se insertan dentro de estas clases de Pagos y Compensacion por Servicios Ambientales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4D2D-9F2A-447A-8E57-F4D56CEB18D0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520560" y="4416480"/>
            <a:ext cx="576432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Helvetica Neue Light"/>
              </a:rPr>
              <a:t>Por areas de alto valor donde hay especies amenazadas, o para hacer corredores biologicos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Helvetica Neue Light"/>
              </a:rPr>
              <a:t>PAGO a través de Productos Ecocertificados: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Helvetica Neue Light"/>
              </a:rPr>
              <a:t>El VALOR DE PRODUCTOS VENDIDOS de este tipo asciende a</a:t>
            </a:r>
            <a:r>
              <a:rPr b="0" lang="es-MX" sz="1600" spc="-1" strike="noStrike">
                <a:solidFill>
                  <a:srgbClr val="000000"/>
                </a:solidFill>
                <a:latin typeface="Helvetica Neue Light"/>
              </a:rPr>
              <a:t> $26 billones global,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Helvetica Neue Light"/>
              </a:rPr>
              <a:t>no del Servicio de biodiversidad vendido pero sector con</a:t>
            </a:r>
            <a:r>
              <a:rPr b="0" lang="es-MX" sz="1600" spc="-1" strike="noStrike">
                <a:solidFill>
                  <a:srgbClr val="000000"/>
                </a:solidFill>
                <a:latin typeface="Helvetica Neue Light"/>
              </a:rPr>
              <a:t> 30% crecimiento- conforme seguimos la transformación de comprensión sobre los servicios ambientales intrínsecos de los bienes, y mejoramos formas de valorar y pagar por ellos, puede ser muy significativo.</a:t>
            </a:r>
            <a:r>
              <a:rPr b="0" lang="es-MX" sz="1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Helvetica Neue Light"/>
              </a:rPr>
              <a:t>nuevos estándares con biodiversidad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Helvetica Neue Light"/>
              </a:rPr>
              <a:t>Análisis científico no concluido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Myriad Roman"/>
              </a:rPr>
              <a:t>Servicios y manejos beneficiados: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9599-2EE3-485A-8672-08A874291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620FF-17BD-4201-9C5E-A5A7D82F0F9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64A5-471C-489A-8F44-35171C14B65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D5F51-107F-4C36-87ED-914774192B6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838400" y="622440"/>
            <a:ext cx="36702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2C620-7697-4327-88E1-793239FD27A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836E5-CE06-4A60-830A-5D411AAB2AB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9DE93-A7F7-4075-9E63-E5F32F0CF74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670C5-66CF-444E-A1F7-3C12D40B611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1CF35-43AD-4264-8428-7CB5CE39A26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E58FA-AF7D-4000-812F-8B1E2B32AD9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7932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32024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83840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607932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732024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980FF-D7F0-4335-A1FE-02AA939D9E2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31C419-4DEC-4E28-9263-1C821B3E1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48E4-A4D8-4733-A81C-451E01880B1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4AD500-6792-4D5C-A49E-50A32912E30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1836D4-1944-4227-9DBE-334C263713A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9DC077-CFA4-445D-AE55-A2AC29B2153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DC7360-E58B-41F7-AE69-6FE4F472D9E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838400" y="622440"/>
            <a:ext cx="36702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75E56D-22FC-4D86-98A0-C9E168F8128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F215E7-9BD2-403B-998F-F18C4398030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401C0-FEE2-45C5-9DEC-B5CD89E2E0E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22071-78CA-41FE-82EB-EE0A13606A5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FD632E-4412-4471-AFF3-1168AA5D181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6B33A8-03B3-4E9C-B56F-6B6EDD811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7932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2024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840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607932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32024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940E-9879-40A1-9E3B-37E5C909634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07932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732024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83840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607932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732024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B51855-AB77-41B8-B7DC-6AB6BBBAA83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C1FEAE-C09A-4FB6-95DB-610E164C7B4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DC819A-2330-4503-8B20-AFF765CB47A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077324-2661-4BDF-82D5-FBD43ACD6B8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423176-BE4E-4323-8C35-125D8411E18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2EBD51-98FD-4093-A4E8-715EC9ADFED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838400" y="622440"/>
            <a:ext cx="36702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3A1BAC-44B0-459A-BB15-2818465464D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4B0AAB-DBA4-487E-8E6E-58AA75984C9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1ACD81-2CD9-48E9-B59B-90FDF095447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B3BBA5-66F0-425F-A529-47C76A53B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9827D-79E7-46D7-823A-49AFD319C16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F1E229-81E7-403A-8D4A-D1F065F0BB1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7F6774-5831-47F1-9179-B505D04C259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07932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32024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83840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607932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732024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F1A9CF-4B93-4DC0-B99F-7BE5F8DE3A1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04567-BFF9-4773-938C-83A6F5E442C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5079E-3311-4139-B785-98DE21CA7EB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53326-049D-4ABD-986C-745589D23A1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22A9C-6D80-4A51-A65A-40B86FB727A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D2819-921B-4A65-980C-939BE160B35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838400" y="622440"/>
            <a:ext cx="36702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DC918-4F58-4695-BFBB-C92A2FEF34E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6DDF8-3F7F-46E9-B5ED-3C6EB2F429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A13D-4D10-4D2F-A031-8C7BDA56CB7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763B8-2BD0-45F2-9121-CA411843AA1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71A55-13FC-4AEB-82EF-A418498FF93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DED88-BC1B-4705-8D16-55E57CFBC67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ACC29-08E1-49CD-B4C6-993A85CB152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07932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32024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83840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607932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732024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626A8-4196-47EE-A47D-F4A4E0CAFC3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0C4BBA-1EF5-4EB1-A8CA-2C6CE0785BD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89F2BE-8298-4723-9445-51A28D0953A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37DA7A-0E35-4CE9-AB57-494779A3958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5EA8CB-BD3B-4925-B5B1-8B50CAA3A81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6D5213-5437-4E9D-A342-BA793A8600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E4E44-0461-428A-997C-FE4AEB7ABC5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838400" y="622440"/>
            <a:ext cx="36702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32E7D2-9BD4-4ED8-BB77-E3CEB240523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FA900A-8D06-48B6-BCCD-536A3B27FD6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9BEFAF-DB44-4EE0-8AC8-5456932523D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59E42A-AAED-44E6-A3C0-3F4E7AA9116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5B3B61-271F-4846-803E-570BE28D96E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C207AA-4F43-4A62-8728-EE6FD6BC7E6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07932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32024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83840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607932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732024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DAC8E5-0058-4734-BD6C-A430024F3DF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4161F-4B0C-4C86-B66C-4FE38A97F91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0D4DE-0470-4B90-AB96-8308CD9B3E0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FBCD6E-E43E-49A4-BDC7-40EB3F2643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F5FFB-1404-4653-AC85-521A6BF33C4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3BDF2-06FD-46F8-AE26-E8520178528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36FF5-F9F8-445A-B35D-6D0EEC13916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838400" y="622440"/>
            <a:ext cx="36702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DB3279-AEC6-4CE5-BFD7-FC5E42EC4CA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861792-83F4-4F8B-8549-4B78B32FF5D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60760-912E-43F0-83F4-CB15A903D3E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B1393-E478-41A9-A743-7446D680FBA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145D6-C243-406B-98F8-9A5946CB75B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8714D0-5793-43F6-9815-27CDD0AEACE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07932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732024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83840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607932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732024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6F3050-CBA9-4AFD-8C4B-09AF3658E81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02865-ECA8-4729-8D5C-D17493785F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E907C-DB69-43F5-AD7B-0C7CE4AD575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272EF-C2CF-4CB7-B475-76C4F817453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D34C8-406D-42C0-A6D2-EC0FBCD2CD5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A7C72-1D35-41E6-8A54-D88237C97C4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B18DE-F09B-4B70-ACA3-CE6209B60D6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838400" y="622440"/>
            <a:ext cx="36702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659BC-9940-40EE-A269-15E1F1F390B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21909-6966-4DA8-834C-B4055A27288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CD16A-3395-4F69-8BEE-7560EE91D5E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F2B77-96BE-41EA-BD37-C5F4A2F73E3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2410E-D25D-4D6C-921B-BB2BBCCB27E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FA555-17D9-457C-A731-9EE3B30576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838400" y="622440"/>
            <a:ext cx="36702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C0EA8-A475-46A1-8A86-2BC76FC01AC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07932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732024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83840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607932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732024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0BEC8-F964-42ED-860B-2330A8F73A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53A44-7984-4069-86B3-7E7E01CB95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6DDFD-C9FC-44A2-B018-08F2DE272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F86EE-1262-4AF5-B8C0-6B099AF780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1570B-1D99-4F27-843C-D2671267DE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D921-D2E8-4A27-8616-DADA6B339B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5943-183E-4410-B9CD-C6B5F2B5BC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7932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2024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3840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607932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732024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F8699-E54F-4950-8B3B-2B8B93C977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C78-A82F-4A55-BD29-7C1B90437E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B22-FE42-4731-BC3D-920E911BBB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A37C-C893-4CE1-97E8-8BD15CA12E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ECB-03BE-4C3C-B436-541E7303B2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358-FA3F-4541-850E-718170E13B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7EA1-7E23-41D5-9E04-A33DA6B961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838400" y="622440"/>
            <a:ext cx="36702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4EDA-CC2E-4E74-B500-CDE1664D80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BC0-13DE-4F7F-99DE-5D2FDC7083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E2D6-8A09-4D6C-A03D-4A468ADB06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D23-8B01-4130-A88C-56CC5921A2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9999-7881-4D68-86EB-11EBE23B67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372-AA3C-4C6A-A96C-FD80F6DF18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7932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32024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3840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607932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732024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7B1-91D1-44F6-8190-B69AC79550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2BCF2-ADE0-4CF6-97DB-E1F762E9D3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4AD8A-FC36-431A-971F-A71E2CB9D5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8D2EF-41F6-4B06-9362-BAC96D1A9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9A65-9853-4C1E-8FF0-457F8D964F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EBBF8-3358-4FE9-AC80-A7C7F50CB1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F6FB4-E6DD-4566-ACDB-83EEB108AD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838400" y="622440"/>
            <a:ext cx="36702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564F3-97F8-4687-8E2C-7DD0C3CC17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86DDB-0ABE-4E2D-BC05-8A931AFB2E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215D9-57B9-484F-9D6D-A365CE46C1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3F0C2-AF37-4158-B5D6-152F5302C8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66344-3CA0-4875-8CC9-6EAC2A6064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64F4D-4D6B-4D2F-AB18-CD4F6148933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07932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2024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83840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607932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732024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A0B8C-6C24-40C8-8FB2-E975D635B27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665CD-FB69-4C0E-A3C1-D47A844ED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13CC-46CD-447C-AF5E-DC71CBB8B46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DEBA6-2F1F-43AD-A2A7-FDBD0F39F09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38FC9-817F-4FE2-8969-A7D58BE53CA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78CE0-A8DF-4E31-B5CD-FD39E64507E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D5278-5E26-4248-A9B8-7CF0EC398F6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838400" y="622440"/>
            <a:ext cx="36702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87073-0249-4FE9-9B25-4B3E70FAA90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077C8-11F0-477B-9737-439B7F66E57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0158F-9766-479A-803E-290D8F64E55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E3890-8207-4BCB-AD10-EA20F1982A4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7EFB2-362C-466C-9755-5EBDA19DFEC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13995-CE69-4BCF-8E8D-A16A24E91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38400" y="622440"/>
            <a:ext cx="36702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EB91-706A-4286-B1E3-633745ADA48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7932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32024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83840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607932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32024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2D1EA-35EB-4062-A32B-DCD2B9FEF58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D0C4-7285-49D9-B689-82803EA4BE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4E5E-90DE-4291-A192-0E1DA4F9B51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57BF-04C0-414B-BC9C-3FEE9FFC899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A574-52FE-46A6-9937-7678F04A4F7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2F2D-F1EC-4235-B279-662517F781C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838400" y="622440"/>
            <a:ext cx="36702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9416-7721-41FA-BE6E-6B3F8F662A7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77CC-0C6F-4F4E-887C-17EB312CE93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C553-FE42-449D-9067-1C467CCE554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9026-40A1-46C1-8B8B-A83229B9F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290F-9ED2-4520-8DCB-A1CDBE0E55E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2D35-8BBD-4E23-8830-47749D75BBD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B867-51FE-451D-9A68-9FC5600FD2B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07932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2024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83840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607932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732024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4281-FA6C-4CED-9E66-89847C97CF7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0C652-0181-45D5-8D7E-5A9C92AE394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2F16CF-4C37-4857-879D-94C622B0FB2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50FDF3-F979-4778-8A77-D03F2E1F884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C404A2-0BF2-4B53-AAE8-89BCCDDC363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AF7E91-623C-48A7-99A4-8D2CD68670B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838400" y="622440"/>
            <a:ext cx="36702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66F514-9D0A-4CEB-82E5-2E4D5F2A231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8E6E16-67CF-4FCF-A72A-179DD1D85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6B74-430C-4BBD-949B-AA7C37D1FBD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20B7EB-B7B5-441B-9E41-B55C6A82A3A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D57C41-0D2B-467C-83D7-46A75474BC3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3BE8E7-2E18-44F2-8E9C-048D402AB50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9DD1AC-9AFB-459E-8750-1D0C8E33F9F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7932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32024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83840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607932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732024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B5EF1D-2EBE-429C-9539-4215305185A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6D3CD-83AF-4CA4-9FF6-AD4EEC75A17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79FF6-493A-4AF5-83C2-CDE5EBF8D51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BD776-13BD-4FEB-8617-F44256D5553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93B18-942F-43A3-82C3-2267572C175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608C9-55BA-4CA8-BA38-8D55058B9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AFE2-C769-41A7-949B-47E7D6AA8DB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838400" y="622440"/>
            <a:ext cx="36702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057AB-4175-4482-AF07-1C81D447327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E197B-5F01-4459-A552-2D1C2D827B1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D6763-FFF2-4D9E-96C9-4F6C7627080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582B3-5402-4C1A-AFCB-53B1D0D23E4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38400" y="3812040"/>
            <a:ext cx="36702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746F7-C34E-4F31-908B-29D0817DE30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719400" y="15368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838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719400" y="3812040"/>
            <a:ext cx="179100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67A60-44DB-40B9-83BA-A968267950E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7932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20240" y="15368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3840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607932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7320240" y="3812040"/>
            <a:ext cx="1181520" cy="207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12CA7-6F7B-4DA9-AB13-EFEBF434B7F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223CA-E8BB-4E6D-8901-F6BF393E3EB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FA44C-88B6-4AE8-A742-E92CCE576EA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D0B0D-C786-42C6-8022-379B5848E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4668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6b5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8C25-D7BB-48EF-94E4-C174E08AAF7E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82880" y="1917720"/>
            <a:ext cx="3378240" cy="386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402840" indent="-40284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Click to edit the outline text format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514080" indent="-40284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Second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2" marL="680400" indent="-4042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Third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3" marL="844920" indent="-40320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Fourth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4" marL="1011240" indent="-4042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Fifth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5" marL="1011240" indent="-4042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Sixth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6" marL="1011240" indent="-4042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Seventh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882880" y="546120"/>
            <a:ext cx="3378240" cy="1193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e00"/>
                </a:solidFill>
                <a:latin typeface="Helvetica Neue Light"/>
              </a:rPr>
              <a:t>Click to edit the title text format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10"/>
          </p:nvPr>
        </p:nvSpPr>
        <p:spPr>
          <a:xfrm>
            <a:off x="844668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6b5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96BA-6A6A-409A-94AC-18358DCCA7D2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35040" y="2374560"/>
            <a:ext cx="379728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5000"/>
          </a:bodyPr>
          <a:p>
            <a:pPr marL="287640" indent="-28764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Click to edit the outline text format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349560" indent="-27000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con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2" marL="450720" indent="-25380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Thir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3" marL="550800" indent="-23508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our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4" marL="669600" indent="-23616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if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5" marL="669600" indent="-23616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ix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6" marL="669600" indent="-23616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ven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title"/>
          </p:nvPr>
        </p:nvSpPr>
        <p:spPr>
          <a:xfrm>
            <a:off x="660240" y="672840"/>
            <a:ext cx="7670880" cy="11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e00"/>
                </a:solidFill>
                <a:latin typeface="Helvetica Neue Light"/>
              </a:rPr>
              <a:t>Click to edit the title text format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Num" idx="11"/>
          </p:nvPr>
        </p:nvSpPr>
        <p:spPr>
          <a:xfrm>
            <a:off x="844668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6b5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50DB-A21A-4E8E-AF64-FF8ECB333BB2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838080" y="1587240"/>
            <a:ext cx="3378240" cy="430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420480" indent="-4204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Click to edit the outline text format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536760" indent="-4204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Second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2" marL="710280" indent="-4222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Third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3" marL="882360" indent="-42084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Fourth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4" marL="1055520" indent="-4222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Fifth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5" marL="1055520" indent="-4222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Sixth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6" marL="1055520" indent="-4222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Seventh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title"/>
          </p:nvPr>
        </p:nvSpPr>
        <p:spPr>
          <a:xfrm>
            <a:off x="838080" y="748800"/>
            <a:ext cx="3378240" cy="69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e00"/>
                </a:solidFill>
                <a:latin typeface="Helvetica Neue Light"/>
              </a:rPr>
              <a:t>Click to edit the title text format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Num" idx="12"/>
          </p:nvPr>
        </p:nvSpPr>
        <p:spPr>
          <a:xfrm>
            <a:off x="844668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6b5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8A00-BEA0-4AE6-95B7-F8B50C1D09C5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37720" y="2235240"/>
            <a:ext cx="3365640" cy="372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3000"/>
          </a:bodyPr>
          <a:p>
            <a:pPr marL="278640" indent="-27864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Click to edit the outline text format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338760" indent="-26172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con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2" marL="437040" indent="-24588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Thir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3" marL="533880" indent="-22788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our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4" marL="649080" indent="-22896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if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5" marL="649080" indent="-22896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ix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6" marL="649080" indent="-22896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ven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title"/>
          </p:nvPr>
        </p:nvSpPr>
        <p:spPr>
          <a:xfrm>
            <a:off x="838080" y="672840"/>
            <a:ext cx="7493040" cy="11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e00"/>
                </a:solidFill>
                <a:latin typeface="Helvetica Neue Light"/>
              </a:rPr>
              <a:t>Click to edit the title text format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Num" idx="13"/>
          </p:nvPr>
        </p:nvSpPr>
        <p:spPr>
          <a:xfrm>
            <a:off x="844668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6b5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1D2A-7C20-4C37-A2A1-9B6722D57D5B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837720" y="2374560"/>
            <a:ext cx="33656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3000"/>
          </a:bodyPr>
          <a:p>
            <a:pPr marL="278640" indent="-27864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Click to edit the outline text format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338760" indent="-26172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con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2" marL="437040" indent="-24588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Thir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3" marL="533880" indent="-22788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our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4" marL="649080" indent="-22896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if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5" marL="649080" indent="-22896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ix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6" marL="649080" indent="-22896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ven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title"/>
          </p:nvPr>
        </p:nvSpPr>
        <p:spPr>
          <a:xfrm>
            <a:off x="838080" y="672840"/>
            <a:ext cx="7493040" cy="11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e00"/>
                </a:solidFill>
                <a:latin typeface="Helvetica Neue Light"/>
              </a:rPr>
              <a:t>Click to edit the title text format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Num" idx="14"/>
          </p:nvPr>
        </p:nvSpPr>
        <p:spPr>
          <a:xfrm>
            <a:off x="844668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6b5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8A47-09F8-487F-B657-AD74E0040D49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8080" y="1587240"/>
            <a:ext cx="3378240" cy="430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420480" indent="-4204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Click to edit the outline text format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536760" indent="-4204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Second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2" marL="710280" indent="-4222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Third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3" marL="882360" indent="-42084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Fourth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4" marL="1055520" indent="-4222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Fifth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5" marL="1055520" indent="-4222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Sixth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6" marL="1055520" indent="-4222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Seventh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title"/>
          </p:nvPr>
        </p:nvSpPr>
        <p:spPr>
          <a:xfrm>
            <a:off x="838080" y="748800"/>
            <a:ext cx="3378240" cy="69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e00"/>
                </a:solidFill>
                <a:latin typeface="Helvetica Neue Light"/>
              </a:rPr>
              <a:t>Click to edit the title text format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Num" idx="15"/>
          </p:nvPr>
        </p:nvSpPr>
        <p:spPr>
          <a:xfrm>
            <a:off x="844668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6b5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3A2E-EA98-4D7F-BA29-ED8ECECC92E5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837720" y="2374560"/>
            <a:ext cx="33656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3000"/>
          </a:bodyPr>
          <a:p>
            <a:pPr marL="278640" indent="-27864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Click to edit the outline text format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338760" indent="-26172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con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2" marL="437040" indent="-24588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Thir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3" marL="533880" indent="-22788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our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4" marL="649080" indent="-22896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if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5" marL="649080" indent="-22896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ix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6" marL="649080" indent="-22896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ven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title"/>
          </p:nvPr>
        </p:nvSpPr>
        <p:spPr>
          <a:xfrm>
            <a:off x="838080" y="672840"/>
            <a:ext cx="7493040" cy="11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e00"/>
                </a:solidFill>
                <a:latin typeface="Helvetica Neue Light"/>
              </a:rPr>
              <a:t>Click to edit the title text format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844668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6b5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54C9-3704-40A6-A63F-D7DB810EFB94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25480" y="4114800"/>
            <a:ext cx="74930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7000"/>
          </a:bodyPr>
          <a:p>
            <a:pPr marL="252360" indent="-25236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Click to edit the outline text format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321840" indent="-25236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Second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2" marL="425880" indent="-2530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Third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3" marL="529200" indent="-25236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Fourth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4" marL="633240" indent="-2530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Fifth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5" marL="633240" indent="-2530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Sixth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6" marL="633240" indent="-2530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</a:rPr>
              <a:t>Seventh Outline Level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title"/>
          </p:nvPr>
        </p:nvSpPr>
        <p:spPr>
          <a:xfrm>
            <a:off x="825480" y="3365640"/>
            <a:ext cx="7493040" cy="62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e00"/>
                </a:solidFill>
                <a:latin typeface="Helvetica Neue Light"/>
              </a:rPr>
              <a:t>Click to edit the title text format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Num" idx="3"/>
          </p:nvPr>
        </p:nvSpPr>
        <p:spPr>
          <a:xfrm>
            <a:off x="844668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6b5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28E3-10E3-4ECB-AAF6-109D4ADB5D02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Num" idx="4"/>
          </p:nvPr>
        </p:nvSpPr>
        <p:spPr>
          <a:xfrm>
            <a:off x="844668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6b5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8968-02FC-4CCF-92BE-03B85EFA91F6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838400" y="1536840"/>
            <a:ext cx="367020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5000"/>
          </a:bodyPr>
          <a:p>
            <a:pPr marL="331920" indent="-33192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Click to edit the outline text format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423720" indent="-33192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con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2" marL="560520" indent="-33336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Thir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3" marL="696600" indent="-33228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our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4" marL="833400" indent="-33336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if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5" marL="833400" indent="-33336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ix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6" marL="833400" indent="-33336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ven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2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e00"/>
                </a:solidFill>
                <a:latin typeface="Helvetica Neue Light"/>
              </a:rPr>
              <a:t>Click to edit the title text format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Num" idx="5"/>
          </p:nvPr>
        </p:nvSpPr>
        <p:spPr>
          <a:xfrm>
            <a:off x="844668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6b5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DA63-4690-44C6-8B96-7E4FB88A8A19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38080" y="1739520"/>
            <a:ext cx="3378240" cy="396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8000"/>
          </a:bodyPr>
          <a:p>
            <a:pPr marL="300960" indent="-30096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Click to edit the outline text format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384120" indent="-30096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con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2" marL="508320" indent="-30204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Thir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3" marL="631440" indent="-30132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our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4" marL="755640" indent="-30204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if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5" marL="755640" indent="-30204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ix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6" marL="755640" indent="-30204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ven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title"/>
          </p:nvPr>
        </p:nvSpPr>
        <p:spPr>
          <a:xfrm>
            <a:off x="838080" y="748800"/>
            <a:ext cx="3378240" cy="736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e00"/>
                </a:solidFill>
                <a:latin typeface="Helvetica Neue Light"/>
              </a:rPr>
              <a:t>Click to edit the title text format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Num" idx="6"/>
          </p:nvPr>
        </p:nvSpPr>
        <p:spPr>
          <a:xfrm>
            <a:off x="844668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6b5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31E1-A19E-448A-BD27-9719C99B120F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7720" y="2374560"/>
            <a:ext cx="33656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3000"/>
          </a:bodyPr>
          <a:p>
            <a:pPr marL="278640" indent="-27864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Click to edit the outline text format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338760" indent="-26172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con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2" marL="437040" indent="-24588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Thir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3" marL="533880" indent="-22788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our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4" marL="649080" indent="-22896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if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5" marL="649080" indent="-22896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ix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6" marL="649080" indent="-22896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ven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title"/>
          </p:nvPr>
        </p:nvSpPr>
        <p:spPr>
          <a:xfrm>
            <a:off x="838080" y="672840"/>
            <a:ext cx="7493040" cy="11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e00"/>
                </a:solidFill>
                <a:latin typeface="Helvetica Neue Light"/>
              </a:rPr>
              <a:t>Click to edit the title text format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Num" idx="7"/>
          </p:nvPr>
        </p:nvSpPr>
        <p:spPr>
          <a:xfrm>
            <a:off x="844668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6b5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86C8-8F6A-4936-B273-B8F7D9CB6280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2882880" y="1815840"/>
            <a:ext cx="33782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8000"/>
          </a:bodyPr>
          <a:p>
            <a:pPr marL="300960" indent="-30096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Click to edit the outline text format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384120" indent="-30096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con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2" marL="508320" indent="-30204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Thir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3" marL="631440" indent="-30132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our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4" marL="755640" indent="-30204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if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5" marL="755640" indent="-30204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ix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6" marL="755640" indent="-30204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ven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2882880" y="749160"/>
            <a:ext cx="3378240" cy="71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e00"/>
                </a:solidFill>
                <a:latin typeface="Helvetica Neue Light"/>
              </a:rPr>
              <a:t>Click to edit the title text format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Num" idx="8"/>
          </p:nvPr>
        </p:nvSpPr>
        <p:spPr>
          <a:xfrm>
            <a:off x="844668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6b5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E77E-5C99-46AA-A47C-6DA52BBC731E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837720" y="2235240"/>
            <a:ext cx="3365640" cy="372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3000"/>
          </a:bodyPr>
          <a:p>
            <a:pPr marL="278640" indent="-27864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Click to edit the outline text format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338760" indent="-26172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con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2" marL="437040" indent="-24588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Thir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3" marL="533880" indent="-22788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our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4" marL="649080" indent="-22896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if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5" marL="649080" indent="-22896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ix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6" marL="649080" indent="-228960">
              <a:spcBef>
                <a:spcPts val="17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ven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title"/>
          </p:nvPr>
        </p:nvSpPr>
        <p:spPr>
          <a:xfrm>
            <a:off x="838080" y="672840"/>
            <a:ext cx="7493040" cy="11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e00"/>
                </a:solidFill>
                <a:latin typeface="Helvetica Neue Light"/>
              </a:rPr>
              <a:t>Click to edit the title text format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Num" idx="9"/>
          </p:nvPr>
        </p:nvSpPr>
        <p:spPr>
          <a:xfrm>
            <a:off x="844668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6b5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591E-4F5D-43D7-80B7-E559609EFE48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2882880" y="1815840"/>
            <a:ext cx="33782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8000"/>
          </a:bodyPr>
          <a:p>
            <a:pPr marL="300960" indent="-30096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Click to edit the outline text format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384120" indent="-30096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con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2" marL="508320" indent="-30204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Third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3" marL="631440" indent="-30132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our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4" marL="755640" indent="-30204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Fif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5" marL="755640" indent="-30204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ix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  <a:p>
            <a:pPr lvl="6" marL="755640" indent="-302040">
              <a:spcBef>
                <a:spcPts val="1001"/>
              </a:spcBef>
              <a:buClr>
                <a:srgbClr val="cdcadb"/>
              </a:buClr>
              <a:buSzPct val="15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adb"/>
                </a:solidFill>
                <a:latin typeface="Helvetica Neue Light"/>
              </a:rPr>
              <a:t>Seventh Outline Level</a:t>
            </a:r>
            <a:endParaRPr b="0" lang="en-US" sz="3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title"/>
          </p:nvPr>
        </p:nvSpPr>
        <p:spPr>
          <a:xfrm>
            <a:off x="2882880" y="749160"/>
            <a:ext cx="3378240" cy="71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e00"/>
                </a:solidFill>
                <a:latin typeface="Helvetica Neue Light"/>
              </a:rPr>
              <a:t>Click to edit the title text format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mailto:cbracer@katoombagroup.or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9.jpeg"/><Relationship Id="rId5" Type="http://schemas.openxmlformats.org/officeDocument/2006/relationships/image" Target="../media/image24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2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97.xml"/><Relationship Id="rId1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4.jpeg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73.xml"/><Relationship Id="rId1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35.jpeg"/><Relationship Id="rId12" Type="http://schemas.openxmlformats.org/officeDocument/2006/relationships/slideLayout" Target="../slideLayouts/slideLayout169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2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4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hyperlink" Target="http://www.ecosystemmarketplace.com/" TargetMode="External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109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09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9.jpeg"/><Relationship Id="rId5" Type="http://schemas.openxmlformats.org/officeDocument/2006/relationships/image" Target="../media/image24.jpe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45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57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7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image" Target="../media/image21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49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09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3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C184-8110-46B3-A595-D5838996952F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5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9CB6-6DC6-4399-A08E-F5482D83694C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grpSp>
        <p:nvGrpSpPr>
          <p:cNvPr id="593" name="Group 5"/>
          <p:cNvGrpSpPr/>
          <p:nvPr/>
        </p:nvGrpSpPr>
        <p:grpSpPr>
          <a:xfrm>
            <a:off x="442800" y="6029280"/>
            <a:ext cx="8255160" cy="398160"/>
            <a:chOff x="442800" y="6029280"/>
            <a:chExt cx="8255160" cy="398160"/>
          </a:xfrm>
        </p:grpSpPr>
        <p:pic>
          <p:nvPicPr>
            <p:cNvPr id="594" name="Picture 6" descr=""/>
            <p:cNvPicPr/>
            <p:nvPr/>
          </p:nvPicPr>
          <p:blipFill>
            <a:blip r:embed="rId2"/>
            <a:srcRect l="1526" t="0" r="423" b="57277"/>
            <a:stretch/>
          </p:blipFill>
          <p:spPr>
            <a:xfrm>
              <a:off x="442800" y="6029280"/>
              <a:ext cx="82551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Picture 7" descr=""/>
            <p:cNvPicPr/>
            <p:nvPr/>
          </p:nvPicPr>
          <p:blipFill>
            <a:blip r:embed="rId3"/>
            <a:stretch/>
          </p:blipFill>
          <p:spPr>
            <a:xfrm>
              <a:off x="592200" y="6088320"/>
              <a:ext cx="1984320" cy="3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653920" y="1079280"/>
            <a:ext cx="3822840" cy="22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e00"/>
                </a:solidFill>
                <a:latin typeface="Helvetica Neue Light"/>
                <a:ea typeface="Times New Roman"/>
              </a:rPr>
              <a:t>De Abejas y Jaguares</a:t>
            </a:r>
            <a:endParaRPr b="0" lang="en-US" sz="48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514600" y="3467160"/>
            <a:ext cx="411480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  <a:ea typeface="Times New Roman"/>
              </a:rPr>
              <a:t>Pagamentos y Mercados por Biodiversidad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marL="39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marL="39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cadb"/>
                </a:solidFill>
                <a:latin typeface="Helvetica Neue Light"/>
                <a:ea typeface="Times New Roman"/>
              </a:rPr>
              <a:t>Carina Bracer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9999"/>
                </a:solidFill>
                <a:uFillTx/>
                <a:latin typeface="Helvetica Neue Light"/>
                <a:ea typeface="Times New Roman"/>
                <a:hlinkClick r:id="rId4"/>
              </a:rPr>
              <a:t>cbracer@katoombagroup.org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dcadb"/>
                </a:solidFill>
                <a:latin typeface="Helvetica Neue Light"/>
                <a:ea typeface="Times New Roman"/>
              </a:rPr>
              <a:t>Iquitos, Peru Oct 2007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4E80-DE7A-4075-B447-8A54B9761DF6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599" name="Picture 13" descr=""/>
          <p:cNvPicPr/>
          <p:nvPr/>
        </p:nvPicPr>
        <p:blipFill>
          <a:blip r:embed="rId5"/>
          <a:srcRect l="24404" t="5333" r="23732" b="1246"/>
          <a:stretch/>
        </p:blipFill>
        <p:spPr>
          <a:xfrm>
            <a:off x="433440" y="471600"/>
            <a:ext cx="2003400" cy="27050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4" descr=""/>
          <p:cNvPicPr/>
          <p:nvPr/>
        </p:nvPicPr>
        <p:blipFill>
          <a:blip r:embed="rId6"/>
          <a:srcRect l="7551" t="924" r="51280" b="924"/>
          <a:stretch/>
        </p:blipFill>
        <p:spPr>
          <a:xfrm>
            <a:off x="444600" y="3257640"/>
            <a:ext cx="1993680" cy="27176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5" descr=""/>
          <p:cNvPicPr/>
          <p:nvPr/>
        </p:nvPicPr>
        <p:blipFill>
          <a:blip r:embed="rId7"/>
          <a:srcRect l="4667" t="23647" r="36803" b="23377"/>
          <a:stretch/>
        </p:blipFill>
        <p:spPr>
          <a:xfrm>
            <a:off x="6707160" y="3276720"/>
            <a:ext cx="1992240" cy="27050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6" descr=""/>
          <p:cNvPicPr/>
          <p:nvPr/>
        </p:nvPicPr>
        <p:blipFill>
          <a:blip r:embed="rId8"/>
          <a:stretch/>
        </p:blipFill>
        <p:spPr>
          <a:xfrm>
            <a:off x="6705720" y="457200"/>
            <a:ext cx="19936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EBD6-E19E-4490-9E35-5B3CF2B76382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84" name="Line 2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75960" y="129492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2800" indent="-442800">
              <a:lnSpc>
                <a:spcPct val="90000"/>
              </a:lnSpc>
              <a:spcBef>
                <a:spcPts val="1701"/>
              </a:spcBef>
              <a:buClr>
                <a:srgbClr val="66ccff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cdcadb"/>
                </a:solidFill>
                <a:latin typeface="Helvetica Neue Light"/>
              </a:rPr>
              <a:t>Transacciones privadas …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1000080" indent="-442800">
              <a:lnSpc>
                <a:spcPct val="90000"/>
              </a:lnSpc>
              <a:spcBef>
                <a:spcPts val="1701"/>
              </a:spcBef>
              <a:buClr>
                <a:srgbClr val="66ccff"/>
              </a:buClr>
              <a:buSzPct val="12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Servidumbre de Conservación (easements)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1000080" indent="-442800">
              <a:lnSpc>
                <a:spcPct val="90000"/>
              </a:lnSpc>
              <a:spcBef>
                <a:spcPts val="1701"/>
              </a:spcBef>
              <a:buClr>
                <a:srgbClr val="66ccff"/>
              </a:buClr>
              <a:buSzPct val="12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‘</a:t>
            </a: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Arrendamiento’ de tierra en conservación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1000080" indent="-442800">
              <a:lnSpc>
                <a:spcPct val="90000"/>
              </a:lnSpc>
              <a:spcBef>
                <a:spcPts val="1701"/>
              </a:spcBef>
              <a:buClr>
                <a:srgbClr val="66ccff"/>
              </a:buClr>
              <a:buSzPct val="12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Concesión de conservación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1000080" indent="-442800">
              <a:lnSpc>
                <a:spcPct val="90000"/>
              </a:lnSpc>
              <a:spcBef>
                <a:spcPts val="1701"/>
              </a:spcBef>
              <a:buClr>
                <a:srgbClr val="66ccff"/>
              </a:buClr>
              <a:buSzPct val="12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Concesión comunitaria área publica protegida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1000080" indent="-442800">
              <a:lnSpc>
                <a:spcPct val="90000"/>
              </a:lnSpc>
              <a:spcBef>
                <a:spcPts val="1701"/>
              </a:spcBef>
              <a:buClr>
                <a:srgbClr val="66ccff"/>
              </a:buClr>
              <a:buSzPct val="12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Contratos por manejo en área privada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1000080" indent="-442800">
              <a:lnSpc>
                <a:spcPct val="90000"/>
              </a:lnSpc>
              <a:spcBef>
                <a:spcPts val="1701"/>
              </a:spcBef>
              <a:buClr>
                <a:srgbClr val="66ccff"/>
              </a:buClr>
              <a:buSzPct val="12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Helvetica Neue Light"/>
              </a:rPr>
              <a:t>Pagos compensatorios “ Offsets “  …….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90000"/>
              </a:lnSpc>
              <a:spcBef>
                <a:spcPts val="1701"/>
              </a:spcBef>
              <a:buClr>
                <a:srgbClr val="66ccff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cdcadb"/>
                </a:solidFill>
                <a:latin typeface="Helvetica Neue Light"/>
              </a:rPr>
              <a:t>… </a:t>
            </a:r>
            <a:r>
              <a:rPr b="0" lang="es-CR" sz="2000" spc="-1" strike="noStrike">
                <a:solidFill>
                  <a:srgbClr val="cdcadb"/>
                </a:solidFill>
                <a:latin typeface="Helvetica Neue Light"/>
              </a:rPr>
              <a:t>del sector publico y quasi-publico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1000080" indent="-442800">
              <a:lnSpc>
                <a:spcPct val="90000"/>
              </a:lnSpc>
              <a:spcBef>
                <a:spcPts val="1701"/>
              </a:spcBef>
              <a:buClr>
                <a:srgbClr val="66ccff"/>
              </a:buClr>
              <a:buSzPct val="12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China: Tierras en Pendiente US $4.3B anual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1000080" indent="-442800">
              <a:lnSpc>
                <a:spcPct val="90000"/>
              </a:lnSpc>
              <a:spcBef>
                <a:spcPts val="1701"/>
              </a:spcBef>
              <a:buClr>
                <a:srgbClr val="66ccff"/>
              </a:buClr>
              <a:buSzPct val="12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México/ Costa Rica: Biodiversidad a través de pago por conservación de bosques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1000080" indent="-442800">
              <a:lnSpc>
                <a:spcPct val="90000"/>
              </a:lnSpc>
              <a:spcBef>
                <a:spcPts val="1701"/>
              </a:spcBef>
              <a:buClr>
                <a:srgbClr val="66ccff"/>
              </a:buClr>
              <a:buSzPct val="12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Fondo BioCarbono del BM y GEF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86" name="Picture 4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3298680" cy="373356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7"/>
          <p:cNvSpPr/>
          <p:nvPr/>
        </p:nvSpPr>
        <p:spPr>
          <a:xfrm>
            <a:off x="228600" y="228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66ccff"/>
                </a:solidFill>
                <a:latin typeface="Helvetica Neue Light"/>
              </a:rPr>
              <a:t>Por </a:t>
            </a:r>
            <a:r>
              <a:rPr b="0" lang="es-MX" sz="3600" spc="-1" strike="noStrike">
                <a:solidFill>
                  <a:srgbClr val="66ccff"/>
                </a:solidFill>
                <a:latin typeface="Helvetica Neue Light"/>
              </a:rPr>
              <a:t>practicas de uso y manejo</a:t>
            </a:r>
            <a:endParaRPr b="0" lang="en-US" sz="36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88" name="Picture 8" descr="katoomba logo"/>
          <p:cNvPicPr/>
          <p:nvPr/>
        </p:nvPicPr>
        <p:blipFill>
          <a:blip r:embed="rId2"/>
          <a:stretch/>
        </p:blipFill>
        <p:spPr>
          <a:xfrm>
            <a:off x="7010280" y="228600"/>
            <a:ext cx="1981440" cy="6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7ABE-0F44-4F0E-8E57-41813FE8F707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90" name="Line 2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152280" y="1447920"/>
            <a:ext cx="518184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76040" indent="-176040">
              <a:spcBef>
                <a:spcPts val="1701"/>
              </a:spcBef>
              <a:buClr>
                <a:srgbClr val="0b9ccf"/>
              </a:buClr>
              <a:buSzPct val="12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dcadb"/>
                </a:solidFill>
                <a:latin typeface="Helvetica Neue Light"/>
              </a:rPr>
              <a:t>“</a:t>
            </a:r>
            <a:r>
              <a:rPr b="0" lang="es-MX" sz="2000" spc="-1" strike="noStrike">
                <a:solidFill>
                  <a:srgbClr val="cdcadb"/>
                </a:solidFill>
                <a:latin typeface="Helvetica Neue Light"/>
              </a:rPr>
              <a:t>Offsets” o Compensaciones por impacto a biodiversidad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176040" indent="-176040">
              <a:spcBef>
                <a:spcPts val="1701"/>
              </a:spcBef>
              <a:buClr>
                <a:srgbClr val="0b9ccf"/>
              </a:buClr>
              <a:buSzPct val="12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dcadb"/>
                </a:solidFill>
                <a:latin typeface="Helvetica Neue Light"/>
              </a:rPr>
              <a:t>Legalmente requeridos, negociables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909720" indent="-287280">
              <a:spcBef>
                <a:spcPts val="1701"/>
              </a:spcBef>
              <a:buClr>
                <a:srgbClr val="0b9ccf"/>
              </a:buClr>
              <a:buSzPct val="12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Créditos de desarrollo intercambiables (Australia)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909720" indent="-287280">
              <a:spcBef>
                <a:spcPts val="1701"/>
              </a:spcBef>
              <a:buClr>
                <a:srgbClr val="0b9ccf"/>
              </a:buClr>
              <a:buSzPct val="12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Créditos por mitigación de impacto a humedales en EEUU (Francia, México)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909720" indent="-287280">
              <a:spcBef>
                <a:spcPts val="1701"/>
              </a:spcBef>
              <a:buClr>
                <a:srgbClr val="0b9ccf"/>
              </a:buClr>
              <a:buSzPct val="12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Créditos de especies transferibles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marL="176040" indent="-176040">
              <a:spcBef>
                <a:spcPts val="1701"/>
              </a:spcBef>
              <a:buClr>
                <a:srgbClr val="0b9ccf"/>
              </a:buClr>
              <a:buSzPct val="12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cdcadb"/>
                </a:solidFill>
                <a:latin typeface="Helvetica Neue Light"/>
              </a:rPr>
              <a:t>Voluntario</a:t>
            </a:r>
            <a:endParaRPr b="0" lang="en-US" sz="22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909720" indent="-287280">
              <a:spcBef>
                <a:spcPts val="1701"/>
              </a:spcBef>
              <a:buClr>
                <a:srgbClr val="0b9ccf"/>
              </a:buClr>
              <a:buSzPct val="12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Empresas compensando impactos por motivos financieros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909720" indent="-287280">
              <a:spcBef>
                <a:spcPts val="1701"/>
              </a:spcBef>
              <a:buClr>
                <a:srgbClr val="0b9ccf"/>
              </a:buClr>
              <a:buSzPct val="12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Donde hay una lógica de negocios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92" name="Picture 4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3299040" cy="373356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11"/>
          <p:cNvSpPr/>
          <p:nvPr/>
        </p:nvSpPr>
        <p:spPr>
          <a:xfrm>
            <a:off x="304920" y="22860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ccff"/>
                </a:solidFill>
                <a:latin typeface="Helvetica Neue Light"/>
              </a:rPr>
              <a:t>Pagos por Biodiversidad</a:t>
            </a:r>
            <a:endParaRPr b="0" lang="en-US" sz="36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94" name="Picture 12" descr="katoomba logo"/>
          <p:cNvPicPr/>
          <p:nvPr/>
        </p:nvPicPr>
        <p:blipFill>
          <a:blip r:embed="rId2"/>
          <a:stretch/>
        </p:blipFill>
        <p:spPr>
          <a:xfrm>
            <a:off x="7086600" y="228600"/>
            <a:ext cx="1981080" cy="6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5E96-B859-469F-AA41-AED6230C8F7D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8276-2AE5-41ED-8DDE-D6FEB31DE310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grpSp>
        <p:nvGrpSpPr>
          <p:cNvPr id="698" name="Group 3"/>
          <p:cNvGrpSpPr/>
          <p:nvPr/>
        </p:nvGrpSpPr>
        <p:grpSpPr>
          <a:xfrm>
            <a:off x="442800" y="6029280"/>
            <a:ext cx="8255160" cy="398160"/>
            <a:chOff x="442800" y="6029280"/>
            <a:chExt cx="8255160" cy="398160"/>
          </a:xfrm>
        </p:grpSpPr>
        <p:pic>
          <p:nvPicPr>
            <p:cNvPr id="699" name="Picture 4" descr=""/>
            <p:cNvPicPr/>
            <p:nvPr/>
          </p:nvPicPr>
          <p:blipFill>
            <a:blip r:embed="rId2"/>
            <a:srcRect l="1526" t="0" r="423" b="57277"/>
            <a:stretch/>
          </p:blipFill>
          <p:spPr>
            <a:xfrm>
              <a:off x="442800" y="6029280"/>
              <a:ext cx="82551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Picture 5" descr=""/>
            <p:cNvPicPr/>
            <p:nvPr/>
          </p:nvPicPr>
          <p:blipFill>
            <a:blip r:embed="rId3"/>
            <a:stretch/>
          </p:blipFill>
          <p:spPr>
            <a:xfrm>
              <a:off x="592200" y="6088320"/>
              <a:ext cx="1984320" cy="30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1" name="Picture 6" descr=""/>
          <p:cNvPicPr/>
          <p:nvPr/>
        </p:nvPicPr>
        <p:blipFill>
          <a:blip r:embed="rId4"/>
          <a:srcRect l="5780" t="21284" r="5596" b="36332"/>
          <a:stretch/>
        </p:blipFill>
        <p:spPr>
          <a:xfrm>
            <a:off x="4610160" y="469800"/>
            <a:ext cx="4089240" cy="29336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7" descr=""/>
          <p:cNvPicPr/>
          <p:nvPr/>
        </p:nvPicPr>
        <p:blipFill>
          <a:blip r:embed="rId5"/>
          <a:srcRect l="13123" t="14642" r="625" b="14999"/>
          <a:stretch/>
        </p:blipFill>
        <p:spPr>
          <a:xfrm>
            <a:off x="4610160" y="3467160"/>
            <a:ext cx="4089240" cy="250200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48800"/>
            <a:ext cx="3606840" cy="133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ae00"/>
                </a:solidFill>
                <a:latin typeface="Myriad Roman"/>
              </a:rPr>
              <a:t>¿</a:t>
            </a:r>
            <a:r>
              <a:rPr b="0" lang="es-MX" sz="3200" spc="-1" strike="noStrike">
                <a:solidFill>
                  <a:srgbClr val="ffae00"/>
                </a:solidFill>
                <a:latin typeface="Helvetica Neue Light"/>
              </a:rPr>
              <a:t>Que son los ‘Offsets’ o ‘compensaciones?</a:t>
            </a:r>
            <a:endParaRPr b="0" lang="en-US" sz="32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34680" y="2311560"/>
            <a:ext cx="3784680" cy="358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29480" indent="-429480">
              <a:spcBef>
                <a:spcPts val="1001"/>
              </a:spcBef>
              <a:buSzPct val="1595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“</a:t>
            </a: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Acciones de conservación dirigidas a compensar por danos residuales, no evitables a la biodiversidad provenientes de proyectos de desarrollo, que buscan asegurar que no haya perdida neta de biodiversidad… Antes de contemplar ‘offsets’, desarrolladores deben primero procurar evitar y minimizar estos da</a:t>
            </a:r>
            <a:r>
              <a:rPr b="0" lang="en-US" sz="1800" spc="-1" strike="noStrike">
                <a:solidFill>
                  <a:srgbClr val="cdcadb"/>
                </a:solidFill>
                <a:latin typeface="Helvetica Neue Light"/>
              </a:rPr>
              <a:t>ñ</a:t>
            </a: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os”.</a:t>
            </a:r>
            <a:br>
              <a:rPr sz="1800"/>
            </a:b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Ten Kate, Bishop, Bayon, 2004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05" name="Text Box 10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9635-9AF1-4B10-BFC2-9E4EB1A2AB9E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FEAC-CF97-4D7F-877A-D8EBFA80338D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7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C2D6-7CBE-44DB-A656-F7AECB6C3A31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709" name="Picture 3" descr=""/>
          <p:cNvPicPr/>
          <p:nvPr/>
        </p:nvPicPr>
        <p:blipFill>
          <a:blip r:embed="rId2"/>
          <a:stretch/>
        </p:blipFill>
        <p:spPr>
          <a:xfrm>
            <a:off x="6692760" y="3251160"/>
            <a:ext cx="2006640" cy="27288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4" descr=""/>
          <p:cNvPicPr/>
          <p:nvPr/>
        </p:nvPicPr>
        <p:blipFill>
          <a:blip r:embed="rId3"/>
          <a:stretch/>
        </p:blipFill>
        <p:spPr>
          <a:xfrm>
            <a:off x="431640" y="444600"/>
            <a:ext cx="2006640" cy="27302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5" descr=""/>
          <p:cNvPicPr/>
          <p:nvPr/>
        </p:nvPicPr>
        <p:blipFill>
          <a:blip r:embed="rId4"/>
          <a:stretch/>
        </p:blipFill>
        <p:spPr>
          <a:xfrm>
            <a:off x="6692760" y="444600"/>
            <a:ext cx="2006640" cy="2717640"/>
          </a:xfrm>
          <a:prstGeom prst="rect">
            <a:avLst/>
          </a:prstGeom>
          <a:ln w="0">
            <a:noFill/>
          </a:ln>
        </p:spPr>
      </p:pic>
      <p:grpSp>
        <p:nvGrpSpPr>
          <p:cNvPr id="712" name="Group 6"/>
          <p:cNvGrpSpPr/>
          <p:nvPr/>
        </p:nvGrpSpPr>
        <p:grpSpPr>
          <a:xfrm>
            <a:off x="442800" y="6029280"/>
            <a:ext cx="8255160" cy="398160"/>
            <a:chOff x="442800" y="6029280"/>
            <a:chExt cx="8255160" cy="398160"/>
          </a:xfrm>
        </p:grpSpPr>
        <p:pic>
          <p:nvPicPr>
            <p:cNvPr id="713" name="Picture 7" descr=""/>
            <p:cNvPicPr/>
            <p:nvPr/>
          </p:nvPicPr>
          <p:blipFill>
            <a:blip r:embed="rId5"/>
            <a:srcRect l="1526" t="0" r="423" b="57277"/>
            <a:stretch/>
          </p:blipFill>
          <p:spPr>
            <a:xfrm>
              <a:off x="442800" y="6029280"/>
              <a:ext cx="82551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Picture 8" descr=""/>
            <p:cNvPicPr/>
            <p:nvPr/>
          </p:nvPicPr>
          <p:blipFill>
            <a:blip r:embed="rId6"/>
            <a:stretch/>
          </p:blipFill>
          <p:spPr>
            <a:xfrm>
              <a:off x="592200" y="6088320"/>
              <a:ext cx="1984320" cy="3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666520" y="749160"/>
            <a:ext cx="396252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ae00"/>
                </a:solidFill>
                <a:latin typeface="Helvetica Neue Light"/>
                <a:ea typeface="Times New Roman"/>
              </a:rPr>
              <a:t>Bancos de Humedales y Ríos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882880" y="2044800"/>
            <a:ext cx="3378240" cy="383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29480" indent="-429480">
              <a:lnSpc>
                <a:spcPct val="90000"/>
              </a:lnSpc>
              <a:spcBef>
                <a:spcPts val="1001"/>
              </a:spcBef>
              <a:buSzPct val="1595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A veces clasificado como mercado de agua, pero es para un ecosistema (ergo Biodiversidad)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29480" indent="-429480">
              <a:lnSpc>
                <a:spcPct val="90000"/>
              </a:lnSpc>
              <a:spcBef>
                <a:spcPts val="1001"/>
              </a:spcBef>
              <a:buSzPct val="1595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Aun si inicia a partir de la Ley de Agua Limpia de USA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29480" indent="-429480">
              <a:lnSpc>
                <a:spcPct val="90000"/>
              </a:lnSpc>
              <a:spcBef>
                <a:spcPts val="1001"/>
              </a:spcBef>
              <a:buSzPct val="1595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Motiva: “la no perdida neta de humedales”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29480" indent="-429480">
              <a:lnSpc>
                <a:spcPct val="90000"/>
              </a:lnSpc>
              <a:spcBef>
                <a:spcPts val="1001"/>
              </a:spcBef>
              <a:buSzPct val="1595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Si lo dañas, compensas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29480" indent="-429480">
              <a:lnSpc>
                <a:spcPct val="90000"/>
              </a:lnSpc>
              <a:spcBef>
                <a:spcPts val="1001"/>
              </a:spcBef>
              <a:buSzPct val="1595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Mercado de ~ US $1 billón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597240" indent="-429480">
              <a:lnSpc>
                <a:spcPct val="90000"/>
              </a:lnSpc>
              <a:spcBef>
                <a:spcPts val="1001"/>
              </a:spcBef>
              <a:buSzPct val="1595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crecimiento (reglamentos)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17" name="Text Box 1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04DE-794F-40E6-A4BD-A4FC242AEF8C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718" name="Picture 14" descr=""/>
          <p:cNvPicPr/>
          <p:nvPr/>
        </p:nvPicPr>
        <p:blipFill>
          <a:blip r:embed="rId13"/>
          <a:srcRect l="4598" t="23633" r="36819" b="23384"/>
          <a:stretch/>
        </p:blipFill>
        <p:spPr>
          <a:xfrm>
            <a:off x="457200" y="3238560"/>
            <a:ext cx="19940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E703-FD8F-4241-B2C7-DC07F85ABC00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7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94C4-A3C7-47F4-9742-098EBBDCCC31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grpSp>
        <p:nvGrpSpPr>
          <p:cNvPr id="722" name="Group 3"/>
          <p:cNvGrpSpPr/>
          <p:nvPr/>
        </p:nvGrpSpPr>
        <p:grpSpPr>
          <a:xfrm>
            <a:off x="442800" y="6029280"/>
            <a:ext cx="8255160" cy="398160"/>
            <a:chOff x="442800" y="6029280"/>
            <a:chExt cx="8255160" cy="398160"/>
          </a:xfrm>
        </p:grpSpPr>
        <p:pic>
          <p:nvPicPr>
            <p:cNvPr id="723" name="Picture 4" descr=""/>
            <p:cNvPicPr/>
            <p:nvPr/>
          </p:nvPicPr>
          <p:blipFill>
            <a:blip r:embed="rId2"/>
            <a:srcRect l="1526" t="0" r="423" b="57277"/>
            <a:stretch/>
          </p:blipFill>
          <p:spPr>
            <a:xfrm>
              <a:off x="442800" y="6029280"/>
              <a:ext cx="82551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5" descr=""/>
            <p:cNvPicPr/>
            <p:nvPr/>
          </p:nvPicPr>
          <p:blipFill>
            <a:blip r:embed="rId3"/>
            <a:stretch/>
          </p:blipFill>
          <p:spPr>
            <a:xfrm>
              <a:off x="592200" y="6088320"/>
              <a:ext cx="1984320" cy="30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5" name="Picture 6" descr=""/>
          <p:cNvPicPr/>
          <p:nvPr/>
        </p:nvPicPr>
        <p:blipFill>
          <a:blip r:embed="rId4"/>
          <a:stretch/>
        </p:blipFill>
        <p:spPr>
          <a:xfrm>
            <a:off x="6692760" y="469800"/>
            <a:ext cx="1994040" cy="27050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7" descr=""/>
          <p:cNvPicPr/>
          <p:nvPr/>
        </p:nvPicPr>
        <p:blipFill>
          <a:blip r:embed="rId5"/>
          <a:srcRect l="24341" t="5263" r="23685" b="1316"/>
          <a:stretch/>
        </p:blipFill>
        <p:spPr>
          <a:xfrm>
            <a:off x="431640" y="469800"/>
            <a:ext cx="2006640" cy="27050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"/>
          <p:cNvPicPr/>
          <p:nvPr/>
        </p:nvPicPr>
        <p:blipFill>
          <a:blip r:embed="rId6"/>
          <a:srcRect l="4598" t="23633" r="36819" b="23384"/>
          <a:stretch/>
        </p:blipFill>
        <p:spPr>
          <a:xfrm>
            <a:off x="6692760" y="3251160"/>
            <a:ext cx="1994040" cy="27050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9" descr=""/>
          <p:cNvPicPr/>
          <p:nvPr/>
        </p:nvPicPr>
        <p:blipFill>
          <a:blip r:embed="rId7"/>
          <a:srcRect l="7551" t="924" r="51280" b="924"/>
          <a:stretch/>
        </p:blipFill>
        <p:spPr>
          <a:xfrm>
            <a:off x="444600" y="3257640"/>
            <a:ext cx="1993680" cy="271764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819520" y="685440"/>
            <a:ext cx="337824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ae00"/>
                </a:solidFill>
                <a:latin typeface="Helvetica Neue Light"/>
                <a:ea typeface="Times New Roman"/>
              </a:rPr>
              <a:t>Banca de Conservación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819160" y="1905120"/>
            <a:ext cx="3632040" cy="396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433800" indent="-433800">
              <a:lnSpc>
                <a:spcPct val="90000"/>
              </a:lnSpc>
              <a:spcBef>
                <a:spcPts val="1001"/>
              </a:spcBef>
              <a:buSzPct val="1595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Como de humedales, pero de especies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33800" indent="-433800">
              <a:lnSpc>
                <a:spcPct val="90000"/>
              </a:lnSpc>
              <a:spcBef>
                <a:spcPts val="1001"/>
              </a:spcBef>
              <a:buSzPct val="1595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Casi 100 en EEUU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603360" indent="-433800">
              <a:lnSpc>
                <a:spcPct val="90000"/>
              </a:lnSpc>
              <a:spcBef>
                <a:spcPts val="1001"/>
              </a:spcBef>
              <a:buSzPct val="15934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dcadb"/>
                </a:solidFill>
                <a:latin typeface="Helvetica Neue Light"/>
              </a:rPr>
              <a:t>Mayormente en California</a:t>
            </a:r>
            <a:endParaRPr b="0" lang="en-US" sz="14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603360" indent="-433800">
              <a:lnSpc>
                <a:spcPct val="90000"/>
              </a:lnSpc>
              <a:spcBef>
                <a:spcPts val="1001"/>
              </a:spcBef>
              <a:buSzPct val="15934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dcadb"/>
                </a:solidFill>
                <a:latin typeface="Helvetica Neue Light"/>
              </a:rPr>
              <a:t>Crecimiento en Tejas, Florida, etc.</a:t>
            </a:r>
            <a:endParaRPr b="0" lang="en-US" sz="1400" spc="-1" strike="noStrike">
              <a:solidFill>
                <a:srgbClr val="cdcadb"/>
              </a:solidFill>
              <a:latin typeface="Helvetica Neue Light"/>
            </a:endParaRPr>
          </a:p>
          <a:p>
            <a:pPr marL="433800" indent="-433800">
              <a:lnSpc>
                <a:spcPct val="90000"/>
              </a:lnSpc>
              <a:spcBef>
                <a:spcPts val="1001"/>
              </a:spcBef>
              <a:buSzPct val="1595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Créditos de especies, ya transando por cientos de miles de $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33800" indent="-433800">
              <a:lnSpc>
                <a:spcPct val="90000"/>
              </a:lnSpc>
              <a:spcBef>
                <a:spcPts val="1001"/>
              </a:spcBef>
              <a:buSzPct val="1595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Banqueros privados entrando el mercado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33800" indent="-433800">
              <a:lnSpc>
                <a:spcPct val="90000"/>
              </a:lnSpc>
              <a:spcBef>
                <a:spcPts val="1001"/>
              </a:spcBef>
              <a:buSzPct val="1595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Mercado vale alrededor de US $45 millón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603360" indent="-433800">
              <a:lnSpc>
                <a:spcPct val="90000"/>
              </a:lnSpc>
              <a:spcBef>
                <a:spcPts val="1001"/>
              </a:spcBef>
              <a:buSzPct val="15934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dcadb"/>
                </a:solidFill>
                <a:latin typeface="Helvetica Neue Light"/>
              </a:rPr>
              <a:t>Siendo exportado a Australia</a:t>
            </a:r>
            <a:endParaRPr b="0" lang="en-US" sz="14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31" name="Text Box 1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681F-4EDC-49FA-805A-7C5EB30FDC7C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0F1D-E942-4302-8211-52BE597BE3B3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7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3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4631-5E0B-4FFB-B578-176BECD18606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grpSp>
        <p:nvGrpSpPr>
          <p:cNvPr id="735" name="Group 4"/>
          <p:cNvGrpSpPr/>
          <p:nvPr/>
        </p:nvGrpSpPr>
        <p:grpSpPr>
          <a:xfrm>
            <a:off x="442800" y="6029280"/>
            <a:ext cx="8255160" cy="398160"/>
            <a:chOff x="442800" y="6029280"/>
            <a:chExt cx="8255160" cy="398160"/>
          </a:xfrm>
        </p:grpSpPr>
        <p:pic>
          <p:nvPicPr>
            <p:cNvPr id="736" name="Picture 5" descr=""/>
            <p:cNvPicPr/>
            <p:nvPr/>
          </p:nvPicPr>
          <p:blipFill>
            <a:blip r:embed="rId2"/>
            <a:srcRect l="1526" t="0" r="423" b="57277"/>
            <a:stretch/>
          </p:blipFill>
          <p:spPr>
            <a:xfrm>
              <a:off x="442800" y="6029280"/>
              <a:ext cx="82551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6" descr=""/>
            <p:cNvPicPr/>
            <p:nvPr/>
          </p:nvPicPr>
          <p:blipFill>
            <a:blip r:embed="rId3"/>
            <a:stretch/>
          </p:blipFill>
          <p:spPr>
            <a:xfrm>
              <a:off x="592200" y="6088320"/>
              <a:ext cx="1984320" cy="3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8" name="Text Box 8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12AB-E9BA-462E-AA0A-AFB429E25F10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7493040" cy="11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e00"/>
                </a:solidFill>
                <a:latin typeface="Helvetica Neue Light"/>
              </a:rPr>
              <a:t>El “Gnatcatcher”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11480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29480" indent="-429480">
              <a:spcBef>
                <a:spcPts val="1701"/>
              </a:spcBef>
              <a:buSzPct val="1595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Dueño de 263 ha. donde vive el ave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marL="429480" indent="-429480">
              <a:spcBef>
                <a:spcPts val="1701"/>
              </a:spcBef>
              <a:buSzPct val="1595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Entra en la lista de spp. bajo peligro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marL="429480" indent="-429480">
              <a:spcBef>
                <a:spcPts val="1701"/>
              </a:spcBef>
              <a:buSzPct val="15957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Uso de la tierra limitada 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marL="429480" indent="-429480">
              <a:spcBef>
                <a:spcPts val="1701"/>
              </a:spcBef>
              <a:buSzPct val="15957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Dep. de Transporte de Calif. quiere construir carretera donde lo encuentran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marL="429480" indent="-429480">
              <a:spcBef>
                <a:spcPts val="1701"/>
              </a:spcBef>
              <a:buSzPct val="15957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Negocian trato por proteger 83 ha.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marL="429480" indent="-429480">
              <a:spcBef>
                <a:spcPts val="1701"/>
              </a:spcBef>
              <a:buSzPct val="15957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Crean ‘créditos’ transables del ave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marL="429480" indent="-429480">
              <a:spcBef>
                <a:spcPts val="1701"/>
              </a:spcBef>
              <a:buSzPct val="15957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Ahora entre US $10K y $25K x crédito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741" name="Picture 11" descr=""/>
          <p:cNvPicPr/>
          <p:nvPr/>
        </p:nvPicPr>
        <p:blipFill>
          <a:blip r:embed="rId11"/>
          <a:stretch/>
        </p:blipFill>
        <p:spPr>
          <a:xfrm>
            <a:off x="4572000" y="2133720"/>
            <a:ext cx="413532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1C7A-3DE8-41A5-91D7-04C87BD678F4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743" name="Picture 1" descr=""/>
          <p:cNvPicPr/>
          <p:nvPr/>
        </p:nvPicPr>
        <p:blipFill>
          <a:blip r:embed="rId1"/>
          <a:stretch/>
        </p:blipFill>
        <p:spPr>
          <a:xfrm>
            <a:off x="1763640" y="1231920"/>
            <a:ext cx="5604120" cy="438156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3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E9BB-ED06-4DF3-A739-B0916427CF79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grpSp>
        <p:nvGrpSpPr>
          <p:cNvPr id="746" name="Group 4"/>
          <p:cNvGrpSpPr/>
          <p:nvPr/>
        </p:nvGrpSpPr>
        <p:grpSpPr>
          <a:xfrm>
            <a:off x="442800" y="6029280"/>
            <a:ext cx="8254800" cy="398160"/>
            <a:chOff x="442800" y="6029280"/>
            <a:chExt cx="8254800" cy="398160"/>
          </a:xfrm>
        </p:grpSpPr>
        <p:pic>
          <p:nvPicPr>
            <p:cNvPr id="747" name="Picture 5" descr=""/>
            <p:cNvPicPr/>
            <p:nvPr/>
          </p:nvPicPr>
          <p:blipFill>
            <a:blip r:embed="rId3"/>
            <a:srcRect l="1526" t="0" r="423" b="57277"/>
            <a:stretch/>
          </p:blipFill>
          <p:spPr>
            <a:xfrm>
              <a:off x="442800" y="6029280"/>
              <a:ext cx="825480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6" descr=""/>
            <p:cNvPicPr/>
            <p:nvPr/>
          </p:nvPicPr>
          <p:blipFill>
            <a:blip r:embed="rId4"/>
            <a:stretch/>
          </p:blipFill>
          <p:spPr>
            <a:xfrm>
              <a:off x="592200" y="6088320"/>
              <a:ext cx="1984680" cy="3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9" name="Text Box 7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9446-94CC-4F04-8173-10D3060FDEEA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E0B7-C2DA-4AB4-9B8D-A8AE5395F880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7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2235-D5EF-47E6-9380-D764DA87934E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753" name="Picture 3" descr=""/>
          <p:cNvPicPr/>
          <p:nvPr/>
        </p:nvPicPr>
        <p:blipFill>
          <a:blip r:embed="rId2"/>
          <a:srcRect l="3477" t="1783" r="26801" b="283"/>
          <a:stretch/>
        </p:blipFill>
        <p:spPr>
          <a:xfrm>
            <a:off x="4610160" y="2146320"/>
            <a:ext cx="4071960" cy="3809880"/>
          </a:xfrm>
          <a:prstGeom prst="rect">
            <a:avLst/>
          </a:prstGeom>
          <a:ln w="0">
            <a:noFill/>
          </a:ln>
        </p:spPr>
      </p:pic>
      <p:grpSp>
        <p:nvGrpSpPr>
          <p:cNvPr id="754" name="Group 4"/>
          <p:cNvGrpSpPr/>
          <p:nvPr/>
        </p:nvGrpSpPr>
        <p:grpSpPr>
          <a:xfrm>
            <a:off x="442800" y="6029280"/>
            <a:ext cx="8255160" cy="398160"/>
            <a:chOff x="442800" y="6029280"/>
            <a:chExt cx="8255160" cy="398160"/>
          </a:xfrm>
        </p:grpSpPr>
        <p:pic>
          <p:nvPicPr>
            <p:cNvPr id="755" name="Picture 5" descr=""/>
            <p:cNvPicPr/>
            <p:nvPr/>
          </p:nvPicPr>
          <p:blipFill>
            <a:blip r:embed="rId3"/>
            <a:srcRect l="1526" t="0" r="423" b="57277"/>
            <a:stretch/>
          </p:blipFill>
          <p:spPr>
            <a:xfrm>
              <a:off x="442800" y="6029280"/>
              <a:ext cx="82551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6" descr=""/>
            <p:cNvPicPr/>
            <p:nvPr/>
          </p:nvPicPr>
          <p:blipFill>
            <a:blip r:embed="rId4"/>
            <a:stretch/>
          </p:blipFill>
          <p:spPr>
            <a:xfrm>
              <a:off x="592200" y="6088320"/>
              <a:ext cx="1984320" cy="3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7493040" cy="11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ae00"/>
                </a:solidFill>
                <a:latin typeface="Helvetica Neue Light"/>
                <a:ea typeface="Times New Roman"/>
              </a:rPr>
              <a:t>Offsets de Biodiversidad Voluntarios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886200" cy="3733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2800" indent="-442800">
              <a:lnSpc>
                <a:spcPct val="90000"/>
              </a:lnSpc>
              <a:spcBef>
                <a:spcPts val="1701"/>
              </a:spcBef>
              <a:buSzPct val="1595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Empresas (eg. mineras) ‘compensando’ de forma voluntaria el daño residual a la biodiversidad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90000"/>
              </a:lnSpc>
              <a:spcBef>
                <a:spcPts val="1701"/>
              </a:spcBef>
              <a:buSzPct val="1595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Aun pequeño, pero potencial a crecer (eg. América Latina) donde el sistema regulatorio tal vez no facilite ‘mercados’ regulados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90000"/>
              </a:lnSpc>
              <a:spcBef>
                <a:spcPts val="1701"/>
              </a:spcBef>
              <a:buSzPct val="1595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Forest Trends/Conservación Internacional: </a:t>
            </a:r>
            <a:r>
              <a:rPr b="0" i="1" lang="es-MX" sz="1800" spc="-1" strike="noStrike">
                <a:solidFill>
                  <a:srgbClr val="cdcadb"/>
                </a:solidFill>
                <a:latin typeface="Helvetica Neue Light"/>
              </a:rPr>
              <a:t>Business &amp; Biodiversity Offset Program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59" name="Text Box 9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6A78-0863-44EE-B488-EFF3FC29498D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F6A1-28DF-4CDD-A5E9-E21177ED7B57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C75E-70FB-4DC0-80DA-F349E0F8732D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ae00"/>
                </a:solidFill>
                <a:latin typeface="Helvetica Neue Light"/>
                <a:ea typeface="Times New Roman"/>
              </a:rPr>
              <a:t>Offsets y ‘Mitigacion’ de Impacto a Biodiversidad</a:t>
            </a:r>
            <a:endParaRPr b="0" lang="en-US" sz="32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763" name="Text Box 10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1E28-3893-4CFD-A957-1AA18D9F3FE5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grpSp>
        <p:nvGrpSpPr>
          <p:cNvPr id="764" name="Group 11"/>
          <p:cNvGrpSpPr/>
          <p:nvPr/>
        </p:nvGrpSpPr>
        <p:grpSpPr>
          <a:xfrm>
            <a:off x="3429000" y="1869840"/>
            <a:ext cx="5688000" cy="4717440"/>
            <a:chOff x="3429000" y="1869840"/>
            <a:chExt cx="5688000" cy="4717440"/>
          </a:xfrm>
        </p:grpSpPr>
        <p:sp>
          <p:nvSpPr>
            <p:cNvPr id="765" name="Oval 12"/>
            <p:cNvSpPr/>
            <p:nvPr/>
          </p:nvSpPr>
          <p:spPr>
            <a:xfrm>
              <a:off x="5803920" y="4440240"/>
              <a:ext cx="1584360" cy="1511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dcadb"/>
                </a:solidFill>
                <a:latin typeface="Helvetica Neue Light"/>
              </a:endParaRPr>
            </a:p>
          </p:txBody>
        </p:sp>
        <p:grpSp>
          <p:nvGrpSpPr>
            <p:cNvPr id="766" name="Group 13"/>
            <p:cNvGrpSpPr/>
            <p:nvPr/>
          </p:nvGrpSpPr>
          <p:grpSpPr>
            <a:xfrm>
              <a:off x="3429000" y="1869840"/>
              <a:ext cx="5688000" cy="4717440"/>
              <a:chOff x="3429000" y="1869840"/>
              <a:chExt cx="5688000" cy="4717440"/>
            </a:xfrm>
          </p:grpSpPr>
          <p:sp>
            <p:nvSpPr>
              <p:cNvPr id="767" name="AutoShape 14"/>
              <p:cNvSpPr/>
              <p:nvPr/>
            </p:nvSpPr>
            <p:spPr>
              <a:xfrm flipV="1">
                <a:off x="4443480" y="1905480"/>
                <a:ext cx="4330800" cy="3289320"/>
              </a:xfrm>
              <a:prstGeom prst="triangle">
                <a:avLst>
                  <a:gd name="adj" fmla="val 50000"/>
                </a:avLst>
              </a:prstGeom>
              <a:solidFill>
                <a:srgbClr val="ffae00"/>
              </a:solidFill>
              <a:ln w="9360">
                <a:solidFill>
                  <a:srgbClr val="cdca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dcadb"/>
                  </a:solidFill>
                  <a:latin typeface="Helvetica Neue Light"/>
                </a:endParaRPr>
              </a:p>
            </p:txBody>
          </p:sp>
          <p:sp>
            <p:nvSpPr>
              <p:cNvPr id="768" name="AutoShape 15"/>
              <p:cNvSpPr/>
              <p:nvPr/>
            </p:nvSpPr>
            <p:spPr>
              <a:xfrm>
                <a:off x="4189680" y="5195880"/>
                <a:ext cx="4851360" cy="1320840"/>
              </a:xfrm>
              <a:prstGeom prst="triangle">
                <a:avLst>
                  <a:gd name="adj" fmla="val 50000"/>
                </a:avLst>
              </a:prstGeom>
              <a:solidFill>
                <a:srgbClr val="99ff99"/>
              </a:solidFill>
              <a:ln w="9360">
                <a:solidFill>
                  <a:srgbClr val="cdca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dcadb"/>
                  </a:solidFill>
                  <a:latin typeface="Helvetica Neue Light"/>
                </a:endParaRPr>
              </a:p>
            </p:txBody>
          </p:sp>
          <p:sp>
            <p:nvSpPr>
              <p:cNvPr id="769" name="Rectangle 16"/>
              <p:cNvSpPr/>
              <p:nvPr/>
            </p:nvSpPr>
            <p:spPr>
              <a:xfrm>
                <a:off x="4164120" y="5884920"/>
                <a:ext cx="49528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b9ccf"/>
                    </a:solidFill>
                    <a:latin typeface="Helvetica Neue Light"/>
                  </a:rPr>
                  <a:t>Contribuciones positivas</a:t>
                </a:r>
                <a:endParaRPr b="0" lang="en-US" sz="2000" spc="-1" strike="noStrike">
                  <a:solidFill>
                    <a:srgbClr val="cdcadb"/>
                  </a:solidFill>
                  <a:latin typeface="Helvetica Neue Light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b9ccf"/>
                    </a:solidFill>
                    <a:latin typeface="Helvetica Neue Light"/>
                  </a:rPr>
                  <a:t>(beneficio neto de</a:t>
                </a:r>
                <a:r>
                  <a:rPr b="0" lang="es-MX" sz="2000" spc="-1" strike="noStrike">
                    <a:solidFill>
                      <a:srgbClr val="cdcadb"/>
                    </a:solidFill>
                    <a:latin typeface="Helvetica Neue Light"/>
                  </a:rPr>
                  <a:t> </a:t>
                </a:r>
                <a:r>
                  <a:rPr b="0" lang="es-MX" sz="2000" spc="-1" strike="noStrike">
                    <a:solidFill>
                      <a:srgbClr val="0b9ccf"/>
                    </a:solidFill>
                    <a:latin typeface="Helvetica Neue Light"/>
                  </a:rPr>
                  <a:t>biodiversidad)</a:t>
                </a:r>
                <a:endParaRPr b="0" lang="en-US" sz="2000" spc="-1" strike="noStrike">
                  <a:solidFill>
                    <a:srgbClr val="cdcadb"/>
                  </a:solidFill>
                  <a:latin typeface="Helvetica Neue Light"/>
                </a:endParaRPr>
              </a:p>
            </p:txBody>
          </p:sp>
          <p:sp>
            <p:nvSpPr>
              <p:cNvPr id="770" name="Line 17"/>
              <p:cNvSpPr/>
              <p:nvPr/>
            </p:nvSpPr>
            <p:spPr>
              <a:xfrm>
                <a:off x="4738680" y="2135160"/>
                <a:ext cx="1841760" cy="2844720"/>
              </a:xfrm>
              <a:prstGeom prst="line">
                <a:avLst/>
              </a:prstGeom>
              <a:ln w="63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dcadb"/>
                  </a:solidFill>
                  <a:latin typeface="Helvetica Neue Light"/>
                </a:endParaRPr>
              </a:p>
            </p:txBody>
          </p:sp>
          <p:sp>
            <p:nvSpPr>
              <p:cNvPr id="771" name="Text Box 18"/>
              <p:cNvSpPr/>
              <p:nvPr/>
            </p:nvSpPr>
            <p:spPr>
              <a:xfrm rot="3496200">
                <a:off x="4059720" y="3361320"/>
                <a:ext cx="36950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b9ccf"/>
                    </a:solidFill>
                    <a:latin typeface="Helvetica Neue Light"/>
                  </a:rPr>
                  <a:t>Reducir impactos hacia </a:t>
                </a:r>
                <a:r>
                  <a:rPr b="1" lang="es-MX" sz="1600" spc="-1" strike="noStrike">
                    <a:solidFill>
                      <a:srgbClr val="0b9ccf"/>
                    </a:solidFill>
                    <a:latin typeface="Helvetica Neue Light"/>
                  </a:rPr>
                  <a:t>zero </a:t>
                </a:r>
                <a:r>
                  <a:rPr b="0" lang="es-MX" sz="1600" spc="-1" strike="noStrike">
                    <a:solidFill>
                      <a:srgbClr val="0b9ccf"/>
                    </a:solidFill>
                    <a:latin typeface="Helvetica Neue Light"/>
                  </a:rPr>
                  <a:t>residual</a:t>
                </a:r>
                <a:endParaRPr b="0" lang="en-US" sz="1600" spc="-1" strike="noStrike">
                  <a:solidFill>
                    <a:srgbClr val="cdcadb"/>
                  </a:solidFill>
                  <a:latin typeface="Helvetica Neue Light"/>
                </a:endParaRPr>
              </a:p>
            </p:txBody>
          </p:sp>
          <p:sp>
            <p:nvSpPr>
              <p:cNvPr id="772" name="Line 19"/>
              <p:cNvSpPr/>
              <p:nvPr/>
            </p:nvSpPr>
            <p:spPr>
              <a:xfrm>
                <a:off x="3429000" y="5086440"/>
                <a:ext cx="2016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dcadb"/>
                  </a:solidFill>
                  <a:latin typeface="Helvetica Neue Light"/>
                </a:endParaRPr>
              </a:p>
            </p:txBody>
          </p:sp>
        </p:grpSp>
      </p:grpSp>
      <p:sp>
        <p:nvSpPr>
          <p:cNvPr id="773" name="Rectangle 30"/>
          <p:cNvSpPr/>
          <p:nvPr/>
        </p:nvSpPr>
        <p:spPr>
          <a:xfrm>
            <a:off x="304920" y="1905120"/>
            <a:ext cx="5029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ae00"/>
                </a:solidFill>
                <a:latin typeface="Helvetica Neue Light"/>
              </a:rPr>
              <a:t>Jerarquía de Mitigacion - la base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609480" indent="-609480">
              <a:spcBef>
                <a:spcPts val="10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609480" indent="-609480">
              <a:spcBef>
                <a:spcPts val="10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b9ccf"/>
                </a:solidFill>
                <a:latin typeface="Helvetica Neue Light"/>
              </a:rPr>
              <a:t>Evitar daño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609480" indent="-609480">
              <a:spcBef>
                <a:spcPts val="10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b9ccf"/>
                </a:solidFill>
                <a:latin typeface="Helvetica Neue Light"/>
              </a:rPr>
              <a:t>Reducir, moderar y minimizarlo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609480" indent="-609480">
              <a:spcBef>
                <a:spcPts val="10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b9ccf"/>
                </a:solidFill>
                <a:latin typeface="Helvetica Neue Light"/>
              </a:rPr>
              <a:t>Rescatar (reubicar, traslocar)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609480" indent="-609480">
              <a:spcBef>
                <a:spcPts val="10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b9ccf"/>
                </a:solidFill>
                <a:latin typeface="Helvetica Neue Light"/>
              </a:rPr>
              <a:t>Reparar, reinstaurar, restorar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609480" indent="-609480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Helvetica Neue Light"/>
              </a:rPr>
              <a:t>Compensar / “Offset”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8966-D64A-46F5-815A-2A3ACB1520AB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75" name="AutoShape 2"/>
          <p:cNvSpPr/>
          <p:nvPr/>
        </p:nvSpPr>
        <p:spPr>
          <a:xfrm>
            <a:off x="1219320" y="685800"/>
            <a:ext cx="7696080" cy="6248520"/>
          </a:xfrm>
          <a:prstGeom prst="triangle">
            <a:avLst>
              <a:gd name="adj" fmla="val 50000"/>
            </a:avLst>
          </a:prstGeom>
          <a:solidFill>
            <a:srgbClr val="ffae00">
              <a:alpha val="50000"/>
            </a:srgbClr>
          </a:solidFill>
          <a:ln w="9360">
            <a:solidFill>
              <a:srgbClr val="cdc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76" name="Text Box 3"/>
          <p:cNvSpPr/>
          <p:nvPr/>
        </p:nvSpPr>
        <p:spPr>
          <a:xfrm>
            <a:off x="4113360" y="144792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dcadb"/>
                </a:solidFill>
                <a:latin typeface="Helvetica Neue Light"/>
                <a:ea typeface="Arial"/>
              </a:rPr>
              <a:t>Principios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77" name="Text Box 4"/>
          <p:cNvSpPr/>
          <p:nvPr/>
        </p:nvSpPr>
        <p:spPr>
          <a:xfrm>
            <a:off x="4057920" y="2057400"/>
            <a:ext cx="20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dcadb"/>
                </a:solidFill>
                <a:latin typeface="Helvetica Neue Light"/>
                <a:ea typeface="Arial"/>
              </a:rPr>
              <a:t>Preguntas clave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78" name="Line 5"/>
          <p:cNvSpPr/>
          <p:nvPr/>
        </p:nvSpPr>
        <p:spPr>
          <a:xfrm>
            <a:off x="2476440" y="2657520"/>
            <a:ext cx="54943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79" name="Text Box 6"/>
          <p:cNvSpPr/>
          <p:nvPr/>
        </p:nvSpPr>
        <p:spPr>
          <a:xfrm>
            <a:off x="304920" y="13716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Helvetica Neue Light"/>
                <a:ea typeface="Arial"/>
              </a:rPr>
              <a:t>REQUEREMIENTOS BASE DEL OFFSET</a:t>
            </a:r>
            <a:endParaRPr b="0" lang="en-US" sz="24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80" name="Text Box 7"/>
          <p:cNvSpPr/>
          <p:nvPr/>
        </p:nvSpPr>
        <p:spPr>
          <a:xfrm>
            <a:off x="304920" y="30481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ccff"/>
                </a:solidFill>
                <a:latin typeface="Helvetica Neue Light"/>
                <a:ea typeface="Arial"/>
              </a:rPr>
              <a:t>HERRAMIENTAS OPCIONALES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81" name="Text Box 8"/>
          <p:cNvSpPr/>
          <p:nvPr/>
        </p:nvSpPr>
        <p:spPr>
          <a:xfrm>
            <a:off x="352440" y="45720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dcadb"/>
                </a:solidFill>
                <a:latin typeface="Helvetica Neue Light"/>
                <a:ea typeface="Arial"/>
              </a:rPr>
              <a:t>DOCUMENTOS DE APOYO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82" name="Text Box 9"/>
          <p:cNvSpPr/>
          <p:nvPr/>
        </p:nvSpPr>
        <p:spPr>
          <a:xfrm>
            <a:off x="3657600" y="297180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dcadb"/>
                </a:solidFill>
                <a:latin typeface="Helvetica Neue Light"/>
                <a:ea typeface="Arial"/>
              </a:rPr>
              <a:t>Diseño de Offset de Biod. 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83" name="Text Box 10"/>
          <p:cNvSpPr/>
          <p:nvPr/>
        </p:nvSpPr>
        <p:spPr>
          <a:xfrm>
            <a:off x="2971800" y="350532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dcadb"/>
                </a:solidFill>
                <a:latin typeface="Helvetica Neue Light"/>
                <a:ea typeface="Arial"/>
              </a:rPr>
              <a:t>Valoración</a:t>
            </a:r>
            <a:r>
              <a:rPr b="1" lang="en-GB" sz="1600" spc="-1" strike="noStrike">
                <a:solidFill>
                  <a:srgbClr val="cdcadb"/>
                </a:solidFill>
                <a:latin typeface="Helvetica Neue Light"/>
                <a:ea typeface="Arial"/>
              </a:rPr>
              <a:t> </a:t>
            </a:r>
            <a:r>
              <a:rPr b="1" lang="es-MX" sz="1600" spc="-1" strike="noStrike">
                <a:solidFill>
                  <a:srgbClr val="cdcadb"/>
                </a:solidFill>
                <a:latin typeface="Helvetica Neue Light"/>
              </a:rPr>
              <a:t>Económica</a:t>
            </a:r>
            <a:r>
              <a:rPr b="1" lang="es-MX" sz="1600" spc="-1" strike="noStrike">
                <a:solidFill>
                  <a:srgbClr val="cdcadb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84" name="Text Box 11"/>
          <p:cNvSpPr/>
          <p:nvPr/>
        </p:nvSpPr>
        <p:spPr>
          <a:xfrm>
            <a:off x="5181480" y="3657600"/>
            <a:ext cx="174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dcadb"/>
                </a:solidFill>
                <a:latin typeface="Helvetica Neue Light"/>
                <a:ea typeface="Arial"/>
              </a:rPr>
              <a:t>Implementación 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85" name="Text Box 12"/>
          <p:cNvSpPr/>
          <p:nvPr/>
        </p:nvSpPr>
        <p:spPr>
          <a:xfrm>
            <a:off x="3267000" y="4540320"/>
            <a:ext cx="359100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dcadb"/>
                </a:solidFill>
                <a:latin typeface="Helvetica Neue Light"/>
                <a:ea typeface="Arial"/>
              </a:rPr>
              <a:t>Documento Temático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dcadb"/>
                </a:solidFill>
                <a:latin typeface="Helvetica Neue Light"/>
                <a:ea typeface="Arial"/>
              </a:rPr>
              <a:t>Evaluación de Impacto y de Offsets</a:t>
            </a:r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dcadb"/>
                </a:solidFill>
                <a:latin typeface="Helvetica Neue Light"/>
                <a:ea typeface="Arial"/>
              </a:rPr>
              <a:t>Evaluación de Impacto Social y Offsets</a:t>
            </a:r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dcadb"/>
                </a:solidFill>
                <a:latin typeface="Helvetica Neue Light"/>
                <a:ea typeface="Arial"/>
              </a:rPr>
              <a:t>Perdidas Netas;  “Leakage”</a:t>
            </a:r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dcadb"/>
                </a:solidFill>
                <a:latin typeface="Helvetica Neue Light"/>
                <a:ea typeface="Arial"/>
              </a:rPr>
              <a:t> </a:t>
            </a:r>
            <a:r>
              <a:rPr b="0" lang="es-MX" sz="1200" spc="-1" strike="noStrike">
                <a:solidFill>
                  <a:srgbClr val="cdcadb"/>
                </a:solidFill>
                <a:latin typeface="Helvetica Neue Light"/>
                <a:ea typeface="Arial"/>
              </a:rPr>
              <a:t>Participación en Procesos de Offset</a:t>
            </a:r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dcadb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dcadb"/>
                </a:solidFill>
                <a:latin typeface="Helvetica Neue Light"/>
                <a:ea typeface="Arial"/>
              </a:rPr>
              <a:t>Fuentes de Información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dcadb"/>
                </a:solidFill>
                <a:latin typeface="Helvetica Neue Light"/>
                <a:ea typeface="Arial"/>
              </a:rPr>
              <a:t>Preguntas Comunes; Glosario</a:t>
            </a:r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dcadb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dcadb"/>
                </a:solidFill>
                <a:latin typeface="Helvetica Neue Light"/>
                <a:ea typeface="Arial"/>
              </a:rPr>
              <a:t>Estudios de Caso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dcadb"/>
                </a:solidFill>
                <a:latin typeface="Helvetica Neue Light"/>
                <a:ea typeface="Arial"/>
              </a:rPr>
              <a:t>BBOP Pilotos;  otros casos y experiencias</a:t>
            </a:r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86" name="Text Box 14"/>
          <p:cNvSpPr/>
          <p:nvPr/>
        </p:nvSpPr>
        <p:spPr>
          <a:xfrm>
            <a:off x="0" y="79200"/>
            <a:ext cx="5638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ae00"/>
                </a:solidFill>
                <a:latin typeface="Helvetica Neue Light"/>
              </a:rPr>
              <a:t>Contribuciones de “BBOP”</a:t>
            </a:r>
            <a:endParaRPr b="0" lang="en-US" sz="36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87" name="Text Box 15"/>
          <p:cNvSpPr/>
          <p:nvPr/>
        </p:nvSpPr>
        <p:spPr>
          <a:xfrm>
            <a:off x="6553080" y="152388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dcadb"/>
                </a:solidFill>
                <a:latin typeface="Helvetica Neue Light"/>
                <a:ea typeface="Arial"/>
              </a:rPr>
              <a:t>Futuro: estándares y certificación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88" name="Line 16"/>
          <p:cNvSpPr/>
          <p:nvPr/>
        </p:nvSpPr>
        <p:spPr>
          <a:xfrm>
            <a:off x="2438280" y="4191120"/>
            <a:ext cx="54943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126A-968F-4F7C-97DE-715B577485FF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E212-2779-4A87-AF09-192DB798D4BB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2"/>
          <a:stretch/>
        </p:blipFill>
        <p:spPr>
          <a:xfrm>
            <a:off x="431640" y="457200"/>
            <a:ext cx="4089600" cy="27176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4" descr=""/>
          <p:cNvPicPr/>
          <p:nvPr/>
        </p:nvPicPr>
        <p:blipFill>
          <a:blip r:embed="rId3"/>
          <a:stretch/>
        </p:blipFill>
        <p:spPr>
          <a:xfrm>
            <a:off x="4622760" y="457200"/>
            <a:ext cx="4076640" cy="2705040"/>
          </a:xfrm>
          <a:prstGeom prst="rect">
            <a:avLst/>
          </a:prstGeom>
          <a:ln w="0">
            <a:noFill/>
          </a:ln>
        </p:spPr>
      </p:pic>
      <p:grpSp>
        <p:nvGrpSpPr>
          <p:cNvPr id="608" name="Group 5"/>
          <p:cNvGrpSpPr/>
          <p:nvPr/>
        </p:nvGrpSpPr>
        <p:grpSpPr>
          <a:xfrm>
            <a:off x="442800" y="6029280"/>
            <a:ext cx="8255160" cy="398160"/>
            <a:chOff x="442800" y="6029280"/>
            <a:chExt cx="8255160" cy="398160"/>
          </a:xfrm>
        </p:grpSpPr>
        <p:pic>
          <p:nvPicPr>
            <p:cNvPr id="609" name="Picture 6" descr=""/>
            <p:cNvPicPr/>
            <p:nvPr/>
          </p:nvPicPr>
          <p:blipFill>
            <a:blip r:embed="rId4"/>
            <a:srcRect l="1526" t="0" r="423" b="57277"/>
            <a:stretch/>
          </p:blipFill>
          <p:spPr>
            <a:xfrm>
              <a:off x="442800" y="6029280"/>
              <a:ext cx="82551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7" descr=""/>
            <p:cNvPicPr/>
            <p:nvPr/>
          </p:nvPicPr>
          <p:blipFill>
            <a:blip r:embed="rId5"/>
            <a:stretch/>
          </p:blipFill>
          <p:spPr>
            <a:xfrm>
              <a:off x="592200" y="6088320"/>
              <a:ext cx="1984320" cy="3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5480" y="3365640"/>
            <a:ext cx="7493040" cy="62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e00"/>
                </a:solidFill>
                <a:latin typeface="Helvetica Neue Light"/>
              </a:rPr>
              <a:t>Acerca del Ecosystem Marketplace 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25480" y="4038120"/>
            <a:ext cx="749304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438120" indent="-438120">
              <a:lnSpc>
                <a:spcPct val="80000"/>
              </a:lnSpc>
              <a:spcBef>
                <a:spcPts val="1001"/>
              </a:spcBef>
              <a:buSzPct val="15948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900" spc="-1" strike="noStrike">
                <a:solidFill>
                  <a:srgbClr val="cdcadb"/>
                </a:solidFill>
                <a:latin typeface="Helvetica Neue Light"/>
              </a:rPr>
              <a:t>“</a:t>
            </a:r>
            <a:r>
              <a:rPr b="0" lang="es-CR" sz="1900" spc="-1" strike="noStrike">
                <a:solidFill>
                  <a:srgbClr val="cdcadb"/>
                </a:solidFill>
                <a:latin typeface="Helvetica Neue Light"/>
              </a:rPr>
              <a:t>Bloomberg” para Mercados Emergentes en Servicios Ambientales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609480" indent="-438120">
              <a:lnSpc>
                <a:spcPct val="80000"/>
              </a:lnSpc>
              <a:spcBef>
                <a:spcPts val="1001"/>
              </a:spcBef>
              <a:buSzPct val="1593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cdcadb"/>
                </a:solidFill>
                <a:latin typeface="Helvetica Neue Light"/>
              </a:rPr>
              <a:t>Mercados de Carbono , Mercados de Agua, Mercado de Biodiversidad, “Servidumbres” y otras transacciones de conservación (</a:t>
            </a:r>
            <a:r>
              <a:rPr b="0" lang="es-CR" sz="1500" spc="-1" strike="noStrike" u="sng">
                <a:solidFill>
                  <a:srgbClr val="009999"/>
                </a:solidFill>
                <a:uFillTx/>
                <a:latin typeface="Helvetica Neue Light"/>
                <a:hlinkClick r:id="rId8"/>
              </a:rPr>
              <a:t>www.ecosystemmarketplace.com</a:t>
            </a:r>
            <a:r>
              <a:rPr b="0" lang="es-CR" sz="1300" spc="-1" strike="noStrike">
                <a:solidFill>
                  <a:srgbClr val="cdcadb"/>
                </a:solidFill>
                <a:latin typeface="Helvetica Neue Light"/>
              </a:rPr>
              <a:t>)</a:t>
            </a:r>
            <a:endParaRPr b="0" lang="en-US" sz="13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609480" indent="-438120">
              <a:lnSpc>
                <a:spcPct val="80000"/>
              </a:lnSpc>
              <a:spcBef>
                <a:spcPts val="1001"/>
              </a:spcBef>
              <a:buSzPct val="15934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cdcadb"/>
                </a:solidFill>
                <a:latin typeface="Helvetica Neue Light"/>
              </a:rPr>
              <a:t>Un Proyecto de Forest Trends, originado por el Grupo Katoomba</a:t>
            </a:r>
            <a:endParaRPr b="0" lang="en-US" sz="1400" spc="-1" strike="noStrike">
              <a:solidFill>
                <a:srgbClr val="cdcadb"/>
              </a:solidFill>
              <a:latin typeface="Helvetica Neue Light"/>
            </a:endParaRPr>
          </a:p>
          <a:p>
            <a:pPr marL="438120" indent="-438120">
              <a:lnSpc>
                <a:spcPct val="80000"/>
              </a:lnSpc>
              <a:spcBef>
                <a:spcPts val="1001"/>
              </a:spcBef>
              <a:buSzPct val="15948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900" spc="-1" strike="noStrike">
                <a:solidFill>
                  <a:srgbClr val="cdcadb"/>
                </a:solidFill>
                <a:latin typeface="Helvetica Neue Light"/>
              </a:rPr>
              <a:t>Noticias diarias, Artículos y boletines electrónicos regulares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791D-F430-4D26-89C3-C491BA00BCE4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38CD-97BF-4A68-9150-C3C025B672AE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90" name="Text Box 3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3251-3B26-4432-84BB-317E6A407D4D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6629400" cy="71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ae00"/>
                </a:solidFill>
                <a:latin typeface="Helvetica Neue Light"/>
              </a:rPr>
              <a:t>Manual BBOP Diseño de Offset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b9ccf"/>
                </a:solidFill>
                <a:latin typeface="Helvetica Neue Light"/>
                <a:ea typeface="Times New Roman"/>
              </a:rPr>
              <a:t>Actividad A: Preparándose</a:t>
            </a:r>
            <a:r>
              <a:rPr b="1" i="1" lang="es-MX" sz="2400" spc="-1" strike="noStrike">
                <a:solidFill>
                  <a:srgbClr val="333399"/>
                </a:solidFill>
                <a:latin typeface="Helvetica Neue Light"/>
                <a:ea typeface="Times New Roman"/>
              </a:rPr>
              <a:t>	</a:t>
            </a:r>
            <a:endParaRPr b="0" lang="en-US" sz="2400" spc="-1" strike="noStrike">
              <a:solidFill>
                <a:srgbClr val="cdcadb"/>
              </a:solidFill>
              <a:latin typeface="Helvetica Neue Light"/>
            </a:endParaRPr>
          </a:p>
          <a:p>
            <a:pPr marL="438120" indent="-438120">
              <a:lnSpc>
                <a:spcPct val="95000"/>
              </a:lnSpc>
              <a:buClr>
                <a:srgbClr val="cdcadb"/>
              </a:buClr>
              <a:buSzPct val="155000"/>
              <a:buFont typeface="Helvetica Neue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dcadb"/>
                </a:solidFill>
                <a:latin typeface="Helvetica Neue Light"/>
                <a:ea typeface="Times New Roman"/>
              </a:rPr>
              <a:t>Definir fronteras de impacto físicas e indirectas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438120" indent="-438120">
              <a:lnSpc>
                <a:spcPct val="95000"/>
              </a:lnSpc>
              <a:buClr>
                <a:srgbClr val="cdcadb"/>
              </a:buClr>
              <a:buSzPct val="155000"/>
              <a:buFont typeface="Helvetica Neue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dcadb"/>
                </a:solidFill>
                <a:latin typeface="Helvetica Neue Light"/>
                <a:ea typeface="Times New Roman"/>
              </a:rPr>
              <a:t>Establecer base de método participativo para diseñar el offset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438120" indent="-438120">
              <a:lnSpc>
                <a:spcPct val="95000"/>
              </a:lnSpc>
              <a:spcAft>
                <a:spcPts val="374"/>
              </a:spcAft>
              <a:buClr>
                <a:srgbClr val="cdcadb"/>
              </a:buClr>
              <a:buSzPct val="155000"/>
              <a:buFont typeface="Helvetica Neue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dcadb"/>
                </a:solidFill>
                <a:latin typeface="Helvetica Neue Light"/>
                <a:ea typeface="Times New Roman"/>
              </a:rPr>
              <a:t>Definir requerimientos legales y regulatorios para su offset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438120" indent="0">
              <a:lnSpc>
                <a:spcPct val="95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b9ccf"/>
                </a:solidFill>
                <a:latin typeface="Helvetica Neue Light"/>
                <a:ea typeface="Times New Roman"/>
              </a:rPr>
              <a:t>Actividad B: Determinar importancia de la biodiversidad del sitio</a:t>
            </a:r>
            <a:endParaRPr b="0" lang="en-US" sz="2400" spc="-1" strike="noStrike">
              <a:solidFill>
                <a:srgbClr val="cdcadb"/>
              </a:solidFill>
              <a:latin typeface="Helvetica Neue Light"/>
            </a:endParaRPr>
          </a:p>
          <a:p>
            <a:pPr marL="438120"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dcadb"/>
                </a:solidFill>
                <a:latin typeface="Helvetica Neue Light"/>
                <a:ea typeface="Times New Roman"/>
              </a:rPr>
              <a:t>4.</a:t>
            </a:r>
            <a:r>
              <a:rPr b="0" lang="es-MX" sz="2000" spc="-1" strike="noStrike">
                <a:solidFill>
                  <a:srgbClr val="cdcadb"/>
                </a:solidFill>
                <a:latin typeface="Helvetica Neue Light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cdcadb"/>
                </a:solidFill>
                <a:latin typeface="Helvetica Neue Light"/>
                <a:ea typeface="Times New Roman"/>
              </a:rPr>
              <a:t>Evaluación línea de base en el sitio de impacto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438120" indent="0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b9ccf"/>
                </a:solidFill>
                <a:latin typeface="Helvetica Neue Light"/>
                <a:ea typeface="Times New Roman"/>
              </a:rPr>
              <a:t>Actividad C: Determinar impacto residual y aplicabilidad del offset</a:t>
            </a:r>
            <a:endParaRPr b="0" lang="en-US" sz="2400" spc="-1" strike="noStrike">
              <a:solidFill>
                <a:srgbClr val="cdcadb"/>
              </a:solidFill>
              <a:latin typeface="Helvetica Neue Light"/>
            </a:endParaRPr>
          </a:p>
          <a:p>
            <a:pPr marL="438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dcadb"/>
                </a:solidFill>
                <a:latin typeface="Helvetica Neue Light"/>
                <a:ea typeface="Times New Roman"/>
              </a:rPr>
              <a:t>5.  </a:t>
            </a:r>
            <a:r>
              <a:rPr b="0" lang="es-MX" sz="2000" spc="-1" strike="noStrike">
                <a:solidFill>
                  <a:srgbClr val="cdcadb"/>
                </a:solidFill>
                <a:latin typeface="Helvetica Neue Light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cdcadb"/>
                </a:solidFill>
                <a:latin typeface="Helvetica Neue Light"/>
                <a:ea typeface="Times New Roman"/>
              </a:rPr>
              <a:t>Aplicar la jerarquía de mitigacion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438120" indent="0">
              <a:lnSpc>
                <a:spcPct val="95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dcadb"/>
                </a:solidFill>
                <a:latin typeface="Helvetica Neue Light"/>
                <a:ea typeface="Times New Roman"/>
              </a:rPr>
              <a:t>6.    Determinar si el offset es apropiado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438120" indent="0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b9ccf"/>
                </a:solidFill>
                <a:latin typeface="Helvetica Neue Light"/>
                <a:ea typeface="Times New Roman"/>
              </a:rPr>
              <a:t>Actividad D: Magnitud del offset requerido y ubicación deseada</a:t>
            </a:r>
            <a:endParaRPr b="0" lang="en-US" sz="2400" spc="-1" strike="noStrike">
              <a:solidFill>
                <a:srgbClr val="cdcadb"/>
              </a:solidFill>
              <a:latin typeface="Helvetica Neue Light"/>
            </a:endParaRPr>
          </a:p>
          <a:p>
            <a:pPr marL="438120" indent="0">
              <a:lnSpc>
                <a:spcPct val="95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dcadb"/>
                </a:solidFill>
                <a:latin typeface="Helvetica Neue Light"/>
                <a:ea typeface="Times New Roman"/>
              </a:rPr>
              <a:t>7.   Identificar sitio ‘benchmark’/referencia y establecerlo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438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dcadb"/>
                </a:solidFill>
                <a:latin typeface="Helvetica Neue Light"/>
                <a:ea typeface="Times New Roman"/>
              </a:rPr>
              <a:t>8.   Calcular perdida de biodiversidad en el sitio de impacto </a:t>
            </a:r>
            <a:r>
              <a:rPr b="0" lang="es-MX" sz="2000" spc="-1" strike="noStrike">
                <a:solidFill>
                  <a:srgbClr val="ff0000"/>
                </a:solidFill>
                <a:latin typeface="Helvetica Neue Light"/>
                <a:ea typeface="Times New Roman"/>
              </a:rPr>
              <a:t>[estructural, composición, funcional]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438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dcadb"/>
                </a:solidFill>
                <a:latin typeface="Helvetica Neue Light"/>
                <a:ea typeface="Times New Roman"/>
              </a:rPr>
              <a:t>9.   Evaluar sitios potenciales para el offset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438120" indent="0">
              <a:lnSpc>
                <a:spcPct val="95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dcadb"/>
                </a:solidFill>
                <a:latin typeface="Helvetica Neue Light"/>
                <a:ea typeface="Times New Roman"/>
              </a:rPr>
              <a:t>10. Comparar sitios – ganancia de biodiversidad / otras características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438120" indent="0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b9ccf"/>
                </a:solidFill>
                <a:latin typeface="Helvetica Neue Light"/>
                <a:ea typeface="Times New Roman"/>
              </a:rPr>
              <a:t>Actividad E: Definir el offset de biodiversidad</a:t>
            </a:r>
            <a:r>
              <a:rPr b="1" i="1" lang="es-MX" sz="2400" spc="-1" strike="noStrike">
                <a:solidFill>
                  <a:srgbClr val="333399"/>
                </a:solidFill>
                <a:latin typeface="Helvetica Neue Light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333399"/>
                </a:solidFill>
                <a:latin typeface="Helvetica Neue Light"/>
                <a:ea typeface="Times New Roman"/>
              </a:rPr>
              <a:t>	</a:t>
            </a:r>
            <a:endParaRPr b="0" lang="en-US" sz="2400" spc="-1" strike="noStrike">
              <a:solidFill>
                <a:srgbClr val="cdcadb"/>
              </a:solidFill>
              <a:latin typeface="Helvetica Neue Light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dcadb"/>
                </a:solidFill>
                <a:latin typeface="Helvetica Neue Light"/>
                <a:ea typeface="Times New Roman"/>
              </a:rPr>
              <a:t>11.  Finalizar aspectos técnicos del sitio(s) seleccionados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C5E8-9B4F-4331-9098-BCC2F8090501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794" name="Picture 11" descr="beetle"/>
          <p:cNvPicPr/>
          <p:nvPr/>
        </p:nvPicPr>
        <p:blipFill>
          <a:blip r:embed="rId1"/>
          <a:stretch/>
        </p:blipFill>
        <p:spPr>
          <a:xfrm>
            <a:off x="6858000" y="81000"/>
            <a:ext cx="228600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253A-35A7-460D-8A62-EB6C6CFCA236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60240" y="672840"/>
            <a:ext cx="7670880" cy="11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marL="476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ae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ae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ae00"/>
              </a:solidFill>
              <a:latin typeface="Helvetica Neue Light"/>
            </a:endParaRPr>
          </a:p>
        </p:txBody>
      </p:sp>
      <p:graphicFrame>
        <p:nvGraphicFramePr>
          <p:cNvPr id="797" name="Object 3"/>
          <p:cNvGraphicFramePr/>
          <p:nvPr/>
        </p:nvGraphicFramePr>
        <p:xfrm>
          <a:off x="635040" y="2374920"/>
          <a:ext cx="379728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2374920"/>
                    <a:ext cx="379728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Text Box 4"/>
          <p:cNvSpPr/>
          <p:nvPr/>
        </p:nvSpPr>
        <p:spPr>
          <a:xfrm>
            <a:off x="609480" y="1595520"/>
            <a:ext cx="87631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6ccff"/>
                </a:solidFill>
                <a:latin typeface="Helvetica Neue Light"/>
              </a:rPr>
              <a:t>Aspectos estructurales y de composición de biodiversidad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628560" indent="-62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Helvetica Neue Light"/>
              </a:rPr>
              <a:t>          </a:t>
            </a: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Punto referencia: cuantifica impacto sobre estos aspectos. Se calcula la cantidad de biodiversidad impactada por un proyecto y obtenida por el offset.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628560" indent="-62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628560" indent="-628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6ccff"/>
                </a:solidFill>
                <a:latin typeface="Helvetica Neue Light"/>
              </a:rPr>
              <a:t>Aspectos funcionales de biodiversidad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628560" indent="-62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Helvetica Neue Light"/>
              </a:rPr>
              <a:t>	</a:t>
            </a: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Evalúa cualitativamente y donde significativo, cuantitativamente, las funciones y servicios ofrecidos por la biodiversidad impactada y ‘compensada’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628560" indent="-628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628560" indent="-628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6ccff"/>
                </a:solidFill>
                <a:latin typeface="Helvetica Neue Light"/>
              </a:rPr>
              <a:t>Temas de bienestar y amenidades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628560" indent="-62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Helvetica Neue Light"/>
              </a:rPr>
              <a:t>	</a:t>
            </a:r>
            <a:r>
              <a:rPr b="0" lang="es-MX" sz="1800" spc="-1" strike="noStrike" u="sng">
                <a:solidFill>
                  <a:srgbClr val="cdcadb"/>
                </a:solidFill>
                <a:uFillTx/>
                <a:latin typeface="Helvetica Neue Light"/>
              </a:rPr>
              <a:t>En el sitio del impacto</a:t>
            </a: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: Se cuantifica el impacto del proyecto en el bienestar y goce proveniente de biodiversidad de una comunidad. Hace posible que los impactados vuelvan a una posición al menos igual de buena. 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628560" indent="-62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          </a:t>
            </a:r>
            <a:r>
              <a:rPr b="0" lang="es-MX" sz="1800" spc="-1" strike="noStrike" u="sng">
                <a:solidFill>
                  <a:srgbClr val="cdcadb"/>
                </a:solidFill>
                <a:uFillTx/>
                <a:latin typeface="Helvetica Neue Light"/>
              </a:rPr>
              <a:t>En el sitio del offset</a:t>
            </a: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: Se cuantifica la contribución al mantenimiento de bienestar, incluyéndolo en el calculo.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628560" indent="-62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628560" indent="-628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6ccff"/>
                </a:solidFill>
                <a:latin typeface="Helvetica Neue Light"/>
              </a:rPr>
              <a:t>Significatividad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628560" indent="-62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Helvetica Neue Light"/>
              </a:rPr>
              <a:t>	</a:t>
            </a: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Evaluar decisiones “go/no go” y “offset/no offset”; jerarquía de mitigacion y selección del sitio del offset.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800" name="Picture 7" descr="j0096781"/>
          <p:cNvPicPr/>
          <p:nvPr/>
        </p:nvPicPr>
        <p:blipFill>
          <a:blip r:embed="rId3"/>
          <a:stretch/>
        </p:blipFill>
        <p:spPr>
          <a:xfrm>
            <a:off x="835200" y="2133720"/>
            <a:ext cx="231480" cy="560160"/>
          </a:xfrm>
          <a:prstGeom prst="rect">
            <a:avLst/>
          </a:prstGeom>
          <a:ln w="0">
            <a:noFill/>
          </a:ln>
        </p:spPr>
      </p:pic>
      <p:sp>
        <p:nvSpPr>
          <p:cNvPr id="801" name="Line 8"/>
          <p:cNvSpPr/>
          <p:nvPr/>
        </p:nvSpPr>
        <p:spPr>
          <a:xfrm>
            <a:off x="3527280" y="4454640"/>
            <a:ext cx="0" cy="814320"/>
          </a:xfrm>
          <a:prstGeom prst="line">
            <a:avLst/>
          </a:prstGeom>
          <a:ln w="9360">
            <a:solidFill>
              <a:srgbClr val="2b31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802" name="Line 9"/>
          <p:cNvSpPr/>
          <p:nvPr/>
        </p:nvSpPr>
        <p:spPr>
          <a:xfrm>
            <a:off x="3274920" y="4024440"/>
            <a:ext cx="252360" cy="430200"/>
          </a:xfrm>
          <a:prstGeom prst="line">
            <a:avLst/>
          </a:prstGeom>
          <a:ln w="9360">
            <a:solidFill>
              <a:srgbClr val="2b31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803" name="Picture 10" descr="SY00599_"/>
          <p:cNvPicPr/>
          <p:nvPr/>
        </p:nvPicPr>
        <p:blipFill>
          <a:blip r:embed="rId4"/>
          <a:stretch/>
        </p:blipFill>
        <p:spPr>
          <a:xfrm>
            <a:off x="0" y="1600200"/>
            <a:ext cx="990720" cy="43668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1" descr="j0203400"/>
          <p:cNvPicPr/>
          <p:nvPr/>
        </p:nvPicPr>
        <p:blipFill>
          <a:blip r:embed="rId5"/>
          <a:stretch/>
        </p:blipFill>
        <p:spPr>
          <a:xfrm>
            <a:off x="0" y="2971800"/>
            <a:ext cx="914400" cy="639720"/>
          </a:xfrm>
          <a:prstGeom prst="rect">
            <a:avLst/>
          </a:prstGeom>
          <a:ln w="0">
            <a:noFill/>
          </a:ln>
        </p:spPr>
      </p:pic>
      <p:sp>
        <p:nvSpPr>
          <p:cNvPr id="805" name="Line 12"/>
          <p:cNvSpPr/>
          <p:nvPr/>
        </p:nvSpPr>
        <p:spPr>
          <a:xfrm>
            <a:off x="5045040" y="4454640"/>
            <a:ext cx="0" cy="814320"/>
          </a:xfrm>
          <a:prstGeom prst="line">
            <a:avLst/>
          </a:prstGeom>
          <a:ln w="9360">
            <a:solidFill>
              <a:srgbClr val="2b31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806" name="Picture 13" descr="j0280748"/>
          <p:cNvPicPr/>
          <p:nvPr/>
        </p:nvPicPr>
        <p:blipFill>
          <a:blip r:embed="rId6"/>
          <a:stretch/>
        </p:blipFill>
        <p:spPr>
          <a:xfrm>
            <a:off x="0" y="2057400"/>
            <a:ext cx="765000" cy="5446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14" descr="RedList"/>
          <p:cNvPicPr/>
          <p:nvPr/>
        </p:nvPicPr>
        <p:blipFill>
          <a:blip r:embed="rId7"/>
          <a:stretch/>
        </p:blipFill>
        <p:spPr>
          <a:xfrm>
            <a:off x="0" y="6102360"/>
            <a:ext cx="762120" cy="75564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15" descr="© Elaine Marshall"/>
          <p:cNvPicPr/>
          <p:nvPr/>
        </p:nvPicPr>
        <p:blipFill>
          <a:blip r:embed="rId8"/>
          <a:stretch/>
        </p:blipFill>
        <p:spPr>
          <a:xfrm>
            <a:off x="0" y="4191120"/>
            <a:ext cx="857160" cy="1271520"/>
          </a:xfrm>
          <a:prstGeom prst="rect">
            <a:avLst/>
          </a:prstGeom>
          <a:ln w="0">
            <a:noFill/>
          </a:ln>
        </p:spPr>
      </p:pic>
      <p:sp>
        <p:nvSpPr>
          <p:cNvPr id="809" name="Text Box 16"/>
          <p:cNvSpPr/>
          <p:nvPr/>
        </p:nvSpPr>
        <p:spPr>
          <a:xfrm>
            <a:off x="152280" y="533520"/>
            <a:ext cx="8991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ae00"/>
                </a:solidFill>
                <a:latin typeface="Helvetica Neue Light"/>
              </a:rPr>
              <a:t>Aspectos del calculo de impacto y ‘offset’</a:t>
            </a:r>
            <a:endParaRPr b="0" lang="en-US" sz="36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03B3-24D5-4BFD-B457-75E9F1C40853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81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928B-1BB4-4D28-B52C-E78FD2AD5DBC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813" name="Picture 3" descr=""/>
          <p:cNvPicPr/>
          <p:nvPr/>
        </p:nvPicPr>
        <p:blipFill>
          <a:blip r:embed="rId2"/>
          <a:srcRect l="3477" t="1783" r="26801" b="283"/>
          <a:stretch/>
        </p:blipFill>
        <p:spPr>
          <a:xfrm>
            <a:off x="4610160" y="2146320"/>
            <a:ext cx="4071960" cy="3809880"/>
          </a:xfrm>
          <a:prstGeom prst="rect">
            <a:avLst/>
          </a:prstGeom>
          <a:ln w="0">
            <a:noFill/>
          </a:ln>
        </p:spPr>
      </p:pic>
      <p:grpSp>
        <p:nvGrpSpPr>
          <p:cNvPr id="814" name="Group 4"/>
          <p:cNvGrpSpPr/>
          <p:nvPr/>
        </p:nvGrpSpPr>
        <p:grpSpPr>
          <a:xfrm>
            <a:off x="442800" y="6029280"/>
            <a:ext cx="8255160" cy="398160"/>
            <a:chOff x="442800" y="6029280"/>
            <a:chExt cx="8255160" cy="398160"/>
          </a:xfrm>
        </p:grpSpPr>
        <p:pic>
          <p:nvPicPr>
            <p:cNvPr id="815" name="Picture 5" descr=""/>
            <p:cNvPicPr/>
            <p:nvPr/>
          </p:nvPicPr>
          <p:blipFill>
            <a:blip r:embed="rId3"/>
            <a:srcRect l="1526" t="0" r="423" b="57277"/>
            <a:stretch/>
          </p:blipFill>
          <p:spPr>
            <a:xfrm>
              <a:off x="442800" y="6029280"/>
              <a:ext cx="82551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Picture 6" descr=""/>
            <p:cNvPicPr/>
            <p:nvPr/>
          </p:nvPicPr>
          <p:blipFill>
            <a:blip r:embed="rId4"/>
            <a:stretch/>
          </p:blipFill>
          <p:spPr>
            <a:xfrm>
              <a:off x="592200" y="6088320"/>
              <a:ext cx="1984320" cy="3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60240" y="672840"/>
            <a:ext cx="7670880" cy="11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ae00"/>
                </a:solidFill>
                <a:latin typeface="Helvetica Neue Light"/>
              </a:rPr>
              <a:t>Voluntario: Beneficios para Empresas</a:t>
            </a:r>
            <a:endParaRPr b="0" lang="en-US" sz="32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35040" y="2374560"/>
            <a:ext cx="379728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2800" indent="-442800">
              <a:lnSpc>
                <a:spcPct val="80000"/>
              </a:lnSpc>
              <a:spcBef>
                <a:spcPts val="1701"/>
              </a:spcBef>
              <a:buSzPct val="1595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Relaciones con comunidades, autoridades, ambientalistas y otros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80000"/>
              </a:lnSpc>
              <a:spcBef>
                <a:spcPts val="1701"/>
              </a:spcBef>
              <a:buSzPct val="1595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Reputación mejorada “licencia social para operar’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80000"/>
              </a:lnSpc>
              <a:spcBef>
                <a:spcPts val="1701"/>
              </a:spcBef>
              <a:buSzPct val="1595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Favorecidos por autoridades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80000"/>
              </a:lnSpc>
              <a:spcBef>
                <a:spcPts val="1701"/>
              </a:spcBef>
              <a:buSzPct val="1595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Facilita acceso a capital y otras ventajas competitivas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80000"/>
              </a:lnSpc>
              <a:spcBef>
                <a:spcPts val="1701"/>
              </a:spcBef>
              <a:buSzPct val="1595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Influir en reglas y políticas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80000"/>
              </a:lnSpc>
              <a:spcBef>
                <a:spcPts val="1701"/>
              </a:spcBef>
              <a:buSzPct val="1595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Ventajas por ser pionero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819" name="Text Box 9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F0C3-CB3A-4B26-9A88-AC6B5F203031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4251-0BBB-4004-A5C4-BE6061F33C75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8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2" name="Text Box 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BD7B-7C60-43DE-9D29-C74D878ADB4F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823" name="Picture 3" descr=""/>
          <p:cNvPicPr/>
          <p:nvPr/>
        </p:nvPicPr>
        <p:blipFill>
          <a:blip r:embed="rId2"/>
          <a:srcRect l="3477" t="1783" r="26801" b="283"/>
          <a:stretch/>
        </p:blipFill>
        <p:spPr>
          <a:xfrm>
            <a:off x="4610160" y="2146320"/>
            <a:ext cx="4071960" cy="3809880"/>
          </a:xfrm>
          <a:prstGeom prst="rect">
            <a:avLst/>
          </a:prstGeom>
          <a:ln w="0">
            <a:noFill/>
          </a:ln>
        </p:spPr>
      </p:pic>
      <p:grpSp>
        <p:nvGrpSpPr>
          <p:cNvPr id="824" name="Group 4"/>
          <p:cNvGrpSpPr/>
          <p:nvPr/>
        </p:nvGrpSpPr>
        <p:grpSpPr>
          <a:xfrm>
            <a:off x="442800" y="6029280"/>
            <a:ext cx="8255160" cy="398160"/>
            <a:chOff x="442800" y="6029280"/>
            <a:chExt cx="8255160" cy="398160"/>
          </a:xfrm>
        </p:grpSpPr>
        <p:pic>
          <p:nvPicPr>
            <p:cNvPr id="825" name="Picture 5" descr=""/>
            <p:cNvPicPr/>
            <p:nvPr/>
          </p:nvPicPr>
          <p:blipFill>
            <a:blip r:embed="rId3"/>
            <a:srcRect l="1526" t="0" r="423" b="57277"/>
            <a:stretch/>
          </p:blipFill>
          <p:spPr>
            <a:xfrm>
              <a:off x="442800" y="6029280"/>
              <a:ext cx="82551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icture 6" descr=""/>
            <p:cNvPicPr/>
            <p:nvPr/>
          </p:nvPicPr>
          <p:blipFill>
            <a:blip r:embed="rId4"/>
            <a:stretch/>
          </p:blipFill>
          <p:spPr>
            <a:xfrm>
              <a:off x="592200" y="6088320"/>
              <a:ext cx="1984320" cy="3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60240" y="672840"/>
            <a:ext cx="7670880" cy="11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ae00"/>
                </a:solidFill>
                <a:latin typeface="Helvetica Neue Light"/>
              </a:rPr>
              <a:t>Voluntario: Beneficios para Conservación</a:t>
            </a:r>
            <a:endParaRPr b="0" lang="en-US" sz="32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35040" y="2209320"/>
            <a:ext cx="379728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420480" indent="-420480">
              <a:spcBef>
                <a:spcPts val="1701"/>
              </a:spcBef>
              <a:buSzPct val="1595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Mayor actividad de conservación in situ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20480" indent="-420480">
              <a:spcBef>
                <a:spcPts val="1701"/>
              </a:spcBef>
              <a:buSzPct val="1595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Nueva fuente de inversión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20480" indent="-420480">
              <a:spcBef>
                <a:spcPts val="1701"/>
              </a:spcBef>
              <a:buSzPct val="1595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Mejor conservación al ‘compensar’ perdidas en hábitat de valores relativamente reducidos, por áreas de alto valor de biodiversidad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20480" indent="-420480">
              <a:spcBef>
                <a:spcPts val="1701"/>
              </a:spcBef>
              <a:buSzPct val="1595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dcadb"/>
                </a:solidFill>
                <a:latin typeface="Helvetica Neue Light"/>
              </a:rPr>
              <a:t>Mayor valor económico a la biodiversidad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829" name="Text Box 9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A3E1-971E-4D00-A3BB-C60C58994281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AE94-3BC0-4ACE-8BD0-405B5964DE1B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83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E10A-F89E-4D4C-A803-3C6002C55608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2"/>
          <a:srcRect l="3477" t="1783" r="26801" b="283"/>
          <a:stretch/>
        </p:blipFill>
        <p:spPr>
          <a:xfrm>
            <a:off x="4610160" y="2146320"/>
            <a:ext cx="4071960" cy="3809880"/>
          </a:xfrm>
          <a:prstGeom prst="rect">
            <a:avLst/>
          </a:prstGeom>
          <a:ln w="0">
            <a:noFill/>
          </a:ln>
        </p:spPr>
      </p:pic>
      <p:grpSp>
        <p:nvGrpSpPr>
          <p:cNvPr id="834" name="Group 4"/>
          <p:cNvGrpSpPr/>
          <p:nvPr/>
        </p:nvGrpSpPr>
        <p:grpSpPr>
          <a:xfrm>
            <a:off x="442800" y="6029280"/>
            <a:ext cx="8255160" cy="398160"/>
            <a:chOff x="442800" y="6029280"/>
            <a:chExt cx="8255160" cy="398160"/>
          </a:xfrm>
        </p:grpSpPr>
        <p:pic>
          <p:nvPicPr>
            <p:cNvPr id="835" name="Picture 5" descr=""/>
            <p:cNvPicPr/>
            <p:nvPr/>
          </p:nvPicPr>
          <p:blipFill>
            <a:blip r:embed="rId3"/>
            <a:srcRect l="1526" t="0" r="423" b="57277"/>
            <a:stretch/>
          </p:blipFill>
          <p:spPr>
            <a:xfrm>
              <a:off x="442800" y="6029280"/>
              <a:ext cx="82551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6" descr=""/>
            <p:cNvPicPr/>
            <p:nvPr/>
          </p:nvPicPr>
          <p:blipFill>
            <a:blip r:embed="rId4"/>
            <a:stretch/>
          </p:blipFill>
          <p:spPr>
            <a:xfrm>
              <a:off x="592200" y="6088320"/>
              <a:ext cx="1984320" cy="3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60240" y="672840"/>
            <a:ext cx="7670880" cy="11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ae00"/>
                </a:solidFill>
                <a:latin typeface="Helvetica Neue Light"/>
              </a:rPr>
              <a:t>Voluntario: Beneficios para  Reguladores y Comunidades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35040" y="2374560"/>
            <a:ext cx="379728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433800" indent="-433800">
              <a:spcBef>
                <a:spcPts val="1701"/>
              </a:spcBef>
              <a:buSzPct val="15924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dcadb"/>
                </a:solidFill>
                <a:latin typeface="Helvetica Neue Light"/>
              </a:rPr>
              <a:t>Reguladores: Balancear costos y beneficios de conservación de biodiversidad con el desarrollo económico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433800" indent="-433800">
              <a:spcBef>
                <a:spcPts val="1701"/>
              </a:spcBef>
              <a:buSzPct val="15924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dcadb"/>
                </a:solidFill>
                <a:latin typeface="Helvetica Neue Light"/>
              </a:rPr>
              <a:t>Comunidades: Oportunidad para negociar resultados ambientales, económicos y sociales óptimos a nivel comunitario o de paisaje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839" name="Text Box 9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A9F6-7C08-4828-A0E5-E615B3C70D5F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011C-5B1B-43ED-BD58-5DBAA651C67B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8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2" name="Text Box 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3FC0-D226-4C8A-AB59-40F1A5C8CA85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grpSp>
        <p:nvGrpSpPr>
          <p:cNvPr id="843" name="Group 3"/>
          <p:cNvGrpSpPr/>
          <p:nvPr/>
        </p:nvGrpSpPr>
        <p:grpSpPr>
          <a:xfrm>
            <a:off x="442800" y="6029280"/>
            <a:ext cx="8255160" cy="398160"/>
            <a:chOff x="442800" y="6029280"/>
            <a:chExt cx="8255160" cy="398160"/>
          </a:xfrm>
        </p:grpSpPr>
        <p:pic>
          <p:nvPicPr>
            <p:cNvPr id="844" name="Picture 4" descr=""/>
            <p:cNvPicPr/>
            <p:nvPr/>
          </p:nvPicPr>
          <p:blipFill>
            <a:blip r:embed="rId2"/>
            <a:srcRect l="1526" t="0" r="423" b="57277"/>
            <a:stretch/>
          </p:blipFill>
          <p:spPr>
            <a:xfrm>
              <a:off x="442800" y="6029280"/>
              <a:ext cx="82551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Picture 5" descr=""/>
            <p:cNvPicPr/>
            <p:nvPr/>
          </p:nvPicPr>
          <p:blipFill>
            <a:blip r:embed="rId3"/>
            <a:stretch/>
          </p:blipFill>
          <p:spPr>
            <a:xfrm>
              <a:off x="592200" y="6088320"/>
              <a:ext cx="1984320" cy="30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6" name="Picture 6" descr=""/>
          <p:cNvPicPr/>
          <p:nvPr/>
        </p:nvPicPr>
        <p:blipFill>
          <a:blip r:embed="rId4"/>
          <a:srcRect l="5780" t="21284" r="5596" b="36332"/>
          <a:stretch/>
        </p:blipFill>
        <p:spPr>
          <a:xfrm>
            <a:off x="4610160" y="469800"/>
            <a:ext cx="4089240" cy="2933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7" descr=""/>
          <p:cNvPicPr/>
          <p:nvPr/>
        </p:nvPicPr>
        <p:blipFill>
          <a:blip r:embed="rId5"/>
          <a:srcRect l="13123" t="14642" r="625" b="14999"/>
          <a:stretch/>
        </p:blipFill>
        <p:spPr>
          <a:xfrm>
            <a:off x="4610160" y="3467160"/>
            <a:ext cx="4089240" cy="2502000"/>
          </a:xfrm>
          <a:prstGeom prst="rect">
            <a:avLst/>
          </a:prstGeom>
          <a:ln w="0">
            <a:noFill/>
          </a:ln>
        </p:spPr>
      </p:pic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7720" y="748800"/>
            <a:ext cx="3581640" cy="69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ae00"/>
                </a:solidFill>
                <a:latin typeface="Helvetica Neue Light"/>
              </a:rPr>
              <a:t>Los Temas Claves</a:t>
            </a:r>
            <a:endParaRPr b="0" lang="en-US" sz="32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587240"/>
            <a:ext cx="3378240" cy="430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2800" indent="-442800">
              <a:spcBef>
                <a:spcPts val="1001"/>
              </a:spcBef>
              <a:buSzPct val="15948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cdcadb"/>
                </a:solidFill>
                <a:latin typeface="Helvetica Neue Light"/>
              </a:rPr>
              <a:t>Equivalencia (“in-kind” vs. “out-of-kind”) 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spcBef>
                <a:spcPts val="1001"/>
              </a:spcBef>
              <a:buSzPct val="15948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cdcadb"/>
                </a:solidFill>
                <a:latin typeface="Helvetica Neue Light"/>
              </a:rPr>
              <a:t>Ubicación (in situ vs. ex)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spcBef>
                <a:spcPts val="1001"/>
              </a:spcBef>
              <a:buSzPct val="15948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cdcadb"/>
                </a:solidFill>
                <a:latin typeface="Helvetica Neue Light"/>
              </a:rPr>
              <a:t>Prioridades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spcBef>
                <a:spcPts val="1001"/>
              </a:spcBef>
              <a:buSzPct val="15948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cdcadb"/>
                </a:solidFill>
                <a:latin typeface="Helvetica Neue Light"/>
              </a:rPr>
              <a:t>“</a:t>
            </a:r>
            <a:r>
              <a:rPr b="0" lang="es-MX" sz="1900" spc="-1" strike="noStrike">
                <a:solidFill>
                  <a:srgbClr val="cdcadb"/>
                </a:solidFill>
                <a:latin typeface="Helvetica Neue Light"/>
              </a:rPr>
              <a:t>Adicionalidad” 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spcBef>
                <a:spcPts val="1001"/>
              </a:spcBef>
              <a:buSzPct val="15948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cdcadb"/>
                </a:solidFill>
                <a:latin typeface="Helvetica Neue Light"/>
              </a:rPr>
              <a:t>“</a:t>
            </a:r>
            <a:r>
              <a:rPr b="0" lang="es-MX" sz="1900" spc="-1" strike="noStrike">
                <a:solidFill>
                  <a:srgbClr val="cdcadb"/>
                </a:solidFill>
                <a:latin typeface="Helvetica Neue Light"/>
              </a:rPr>
              <a:t>Unidad de medida” y equivalencia (ratio)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spcBef>
                <a:spcPts val="1001"/>
              </a:spcBef>
              <a:buSzPct val="15948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cdcadb"/>
                </a:solidFill>
                <a:latin typeface="Helvetica Neue Light"/>
              </a:rPr>
              <a:t>Marco temporal de impactos y offsets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spcBef>
                <a:spcPts val="1001"/>
              </a:spcBef>
              <a:buSzPct val="15948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cdcadb"/>
                </a:solidFill>
                <a:latin typeface="Helvetica Neue Light"/>
              </a:rPr>
              <a:t>Perpetuidad?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spcBef>
                <a:spcPts val="1001"/>
              </a:spcBef>
              <a:buSzPct val="15948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cdcadb"/>
                </a:solidFill>
                <a:latin typeface="Helvetica Neue Light"/>
              </a:rPr>
              <a:t>Monitoreo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850" name="Text Box 10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099D-1A89-44E2-A5A6-822666D1729F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F3E2-856E-4CAC-B11E-DE59B29E900F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8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89CC-2BD7-4192-A731-53BE0D971963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854" name="Picture 3" descr=""/>
          <p:cNvPicPr/>
          <p:nvPr/>
        </p:nvPicPr>
        <p:blipFill>
          <a:blip r:embed="rId2"/>
          <a:srcRect l="39798" t="0" r="33878" b="1839"/>
          <a:stretch/>
        </p:blipFill>
        <p:spPr>
          <a:xfrm>
            <a:off x="6705720" y="457200"/>
            <a:ext cx="1993680" cy="551196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4" descr=""/>
          <p:cNvPicPr/>
          <p:nvPr/>
        </p:nvPicPr>
        <p:blipFill>
          <a:blip r:embed="rId3"/>
          <a:stretch/>
        </p:blipFill>
        <p:spPr>
          <a:xfrm>
            <a:off x="444600" y="457200"/>
            <a:ext cx="1993680" cy="5511960"/>
          </a:xfrm>
          <a:prstGeom prst="rect">
            <a:avLst/>
          </a:prstGeom>
          <a:ln w="0">
            <a:noFill/>
          </a:ln>
        </p:spPr>
      </p:pic>
      <p:grpSp>
        <p:nvGrpSpPr>
          <p:cNvPr id="856" name="Group 5"/>
          <p:cNvGrpSpPr/>
          <p:nvPr/>
        </p:nvGrpSpPr>
        <p:grpSpPr>
          <a:xfrm>
            <a:off x="442800" y="6029280"/>
            <a:ext cx="8255160" cy="398160"/>
            <a:chOff x="442800" y="6029280"/>
            <a:chExt cx="8255160" cy="398160"/>
          </a:xfrm>
        </p:grpSpPr>
        <p:pic>
          <p:nvPicPr>
            <p:cNvPr id="857" name="Picture 6" descr=""/>
            <p:cNvPicPr/>
            <p:nvPr/>
          </p:nvPicPr>
          <p:blipFill>
            <a:blip r:embed="rId4"/>
            <a:srcRect l="1526" t="0" r="423" b="57277"/>
            <a:stretch/>
          </p:blipFill>
          <p:spPr>
            <a:xfrm>
              <a:off x="442800" y="6029280"/>
              <a:ext cx="82551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Picture 7" descr=""/>
            <p:cNvPicPr/>
            <p:nvPr/>
          </p:nvPicPr>
          <p:blipFill>
            <a:blip r:embed="rId5"/>
            <a:stretch/>
          </p:blipFill>
          <p:spPr>
            <a:xfrm>
              <a:off x="592200" y="6088320"/>
              <a:ext cx="1984320" cy="3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565360" y="546120"/>
            <a:ext cx="4013280" cy="71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ae00"/>
                </a:solidFill>
                <a:latin typeface="Helvetica Neue Light"/>
              </a:rPr>
              <a:t>Lecciones: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2666880" y="1726920"/>
            <a:ext cx="3873600" cy="452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2800" indent="-442800">
              <a:spcBef>
                <a:spcPts val="1001"/>
              </a:spcBef>
              <a:buSzPct val="15948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cdcadb"/>
                </a:solidFill>
                <a:latin typeface="Helvetica Neue Light"/>
              </a:rPr>
              <a:t>Derechos de Propiedad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615960" indent="-442800">
              <a:spcBef>
                <a:spcPts val="1001"/>
              </a:spcBef>
              <a:buSzPct val="159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cdcadb"/>
                </a:solidFill>
                <a:latin typeface="Helvetica Neue Light"/>
              </a:rPr>
              <a:t>Rol critico del Gobierno</a:t>
            </a:r>
            <a:endParaRPr b="0" lang="en-US" sz="17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spcBef>
                <a:spcPts val="1001"/>
              </a:spcBef>
              <a:buSzPct val="15948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cdcadb"/>
                </a:solidFill>
                <a:latin typeface="Helvetica Neue Light"/>
              </a:rPr>
              <a:t>Confianza (crédito=”credere”)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spcBef>
                <a:spcPts val="1001"/>
              </a:spcBef>
              <a:buSzPct val="15948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cdcadb"/>
                </a:solidFill>
                <a:latin typeface="Helvetica Neue Light"/>
              </a:rPr>
              <a:t>Aplicación de Leyes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spcBef>
                <a:spcPts val="1001"/>
              </a:spcBef>
              <a:buSzPct val="15948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cdcadb"/>
                </a:solidFill>
                <a:latin typeface="Helvetica Neue Light"/>
              </a:rPr>
              <a:t>Cuidado con perfección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615960" indent="-442800">
              <a:spcBef>
                <a:spcPts val="1001"/>
              </a:spcBef>
              <a:buSzPct val="15928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cdcadb"/>
                </a:solidFill>
                <a:latin typeface="Helvetica Neue Light"/>
              </a:rPr>
              <a:t>No espere por ciencia perfecta</a:t>
            </a:r>
            <a:endParaRPr b="0" lang="en-US" sz="17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spcBef>
                <a:spcPts val="1001"/>
              </a:spcBef>
              <a:buSzPct val="15948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cdcadb"/>
                </a:solidFill>
                <a:latin typeface="Helvetica Neue Light"/>
              </a:rPr>
              <a:t>Información es poder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spcBef>
                <a:spcPts val="1001"/>
              </a:spcBef>
              <a:buSzPct val="15948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cdcadb"/>
                </a:solidFill>
                <a:latin typeface="Helvetica Neue Light"/>
              </a:rPr>
              <a:t>Implicaciones de la comunicación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spcBef>
                <a:spcPts val="1001"/>
              </a:spcBef>
              <a:buSzPct val="15948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cdcadb"/>
                </a:solidFill>
                <a:latin typeface="Helvetica Neue Light"/>
              </a:rPr>
              <a:t>No siempre herramienta aprop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861" name="Text Box 10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8479-D88B-4453-8075-F58C9EAE6ACD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6322-92EE-4888-A99A-F7DD9B624E52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8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4" name="Text Box 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3F6B-FB28-4A0D-A67A-35ED2ED8AE2E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grpSp>
        <p:nvGrpSpPr>
          <p:cNvPr id="865" name="Group 3"/>
          <p:cNvGrpSpPr/>
          <p:nvPr/>
        </p:nvGrpSpPr>
        <p:grpSpPr>
          <a:xfrm>
            <a:off x="442800" y="6029280"/>
            <a:ext cx="8255160" cy="398160"/>
            <a:chOff x="442800" y="6029280"/>
            <a:chExt cx="8255160" cy="398160"/>
          </a:xfrm>
        </p:grpSpPr>
        <p:pic>
          <p:nvPicPr>
            <p:cNvPr id="866" name="Picture 4" descr=""/>
            <p:cNvPicPr/>
            <p:nvPr/>
          </p:nvPicPr>
          <p:blipFill>
            <a:blip r:embed="rId2"/>
            <a:srcRect l="1526" t="0" r="423" b="57277"/>
            <a:stretch/>
          </p:blipFill>
          <p:spPr>
            <a:xfrm>
              <a:off x="442800" y="6029280"/>
              <a:ext cx="82551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7" name="Picture 5" descr=""/>
            <p:cNvPicPr/>
            <p:nvPr/>
          </p:nvPicPr>
          <p:blipFill>
            <a:blip r:embed="rId3"/>
            <a:stretch/>
          </p:blipFill>
          <p:spPr>
            <a:xfrm>
              <a:off x="592200" y="6088320"/>
              <a:ext cx="1984320" cy="30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8" name="Picture 6" descr=""/>
          <p:cNvPicPr/>
          <p:nvPr/>
        </p:nvPicPr>
        <p:blipFill>
          <a:blip r:embed="rId4"/>
          <a:stretch/>
        </p:blipFill>
        <p:spPr>
          <a:xfrm>
            <a:off x="4610160" y="3467160"/>
            <a:ext cx="4089240" cy="250200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7" descr=""/>
          <p:cNvPicPr/>
          <p:nvPr/>
        </p:nvPicPr>
        <p:blipFill>
          <a:blip r:embed="rId5"/>
          <a:stretch/>
        </p:blipFill>
        <p:spPr>
          <a:xfrm>
            <a:off x="4610160" y="468360"/>
            <a:ext cx="4089240" cy="292248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495360" y="2324160"/>
            <a:ext cx="3975120" cy="3378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cdcadb"/>
                </a:solidFill>
                <a:latin typeface="Helvetica Neue Light"/>
              </a:rPr>
              <a:t>“</a:t>
            </a:r>
            <a:r>
              <a:rPr b="0" lang="es-MX" sz="3400" spc="-1" strike="noStrike">
                <a:solidFill>
                  <a:srgbClr val="cdcadb"/>
                </a:solidFill>
                <a:latin typeface="Helvetica Neue Light"/>
              </a:rPr>
              <a:t>Cuando se seca el pozo, sabremos el valor del agua."</a:t>
            </a:r>
            <a:r>
              <a:rPr b="0" lang="es-MX" sz="3100" spc="-1" strike="noStrike">
                <a:solidFill>
                  <a:srgbClr val="cdcadb"/>
                </a:solidFill>
                <a:latin typeface="Helvetica Neue Light"/>
              </a:rPr>
              <a:t> </a:t>
            </a:r>
            <a:r>
              <a:rPr b="0" lang="es-MX" sz="2100" spc="-1" strike="noStrike">
                <a:solidFill>
                  <a:srgbClr val="cdcadb"/>
                </a:solidFill>
                <a:latin typeface="Helvetica Neue Light"/>
              </a:rPr>
              <a:t> </a:t>
            </a:r>
            <a:endParaRPr b="0" lang="en-US" sz="2100" spc="-1" strike="noStrike">
              <a:solidFill>
                <a:srgbClr val="cdcadb"/>
              </a:solidFill>
              <a:latin typeface="Helvetica Neue Light"/>
            </a:endParaRPr>
          </a:p>
          <a:p>
            <a:pPr lvl="3" marL="523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dcadb"/>
                </a:solidFill>
                <a:latin typeface="Helvetica Neue Light"/>
              </a:rPr>
              <a:t>Benjamin Franklin, (1706-1790), Poor Richard's Almanac.</a:t>
            </a:r>
            <a:endParaRPr b="0" lang="en-US" sz="15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871" name="Text Box 9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A543-CCC2-4FD1-A266-6AFE432CFEF2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7783-F4AB-475B-9414-BB1424188E05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8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4" name="Text Box 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493B-73D0-41E4-BE42-64DB38A57759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875" name="Picture 4" descr=""/>
          <p:cNvPicPr/>
          <p:nvPr/>
        </p:nvPicPr>
        <p:blipFill>
          <a:blip r:embed="rId2"/>
          <a:srcRect l="704" t="9682" r="0" b="3335"/>
          <a:stretch/>
        </p:blipFill>
        <p:spPr>
          <a:xfrm>
            <a:off x="2540160" y="450720"/>
            <a:ext cx="1987560" cy="273204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5" descr=""/>
          <p:cNvPicPr/>
          <p:nvPr/>
        </p:nvPicPr>
        <p:blipFill>
          <a:blip r:embed="rId3"/>
          <a:srcRect l="28804" t="0" r="28804" b="22438"/>
          <a:stretch/>
        </p:blipFill>
        <p:spPr>
          <a:xfrm>
            <a:off x="447840" y="430200"/>
            <a:ext cx="2006280" cy="2754360"/>
          </a:xfrm>
          <a:prstGeom prst="rect">
            <a:avLst/>
          </a:prstGeom>
          <a:ln w="0">
            <a:noFill/>
          </a:ln>
        </p:spPr>
      </p:pic>
      <p:grpSp>
        <p:nvGrpSpPr>
          <p:cNvPr id="877" name="Group 6"/>
          <p:cNvGrpSpPr/>
          <p:nvPr/>
        </p:nvGrpSpPr>
        <p:grpSpPr>
          <a:xfrm>
            <a:off x="442800" y="6029280"/>
            <a:ext cx="8255160" cy="398160"/>
            <a:chOff x="442800" y="6029280"/>
            <a:chExt cx="8255160" cy="398160"/>
          </a:xfrm>
        </p:grpSpPr>
        <p:pic>
          <p:nvPicPr>
            <p:cNvPr id="878" name="Picture 7" descr=""/>
            <p:cNvPicPr/>
            <p:nvPr/>
          </p:nvPicPr>
          <p:blipFill>
            <a:blip r:embed="rId4"/>
            <a:srcRect l="1526" t="0" r="423" b="57277"/>
            <a:stretch/>
          </p:blipFill>
          <p:spPr>
            <a:xfrm>
              <a:off x="442800" y="6029280"/>
              <a:ext cx="82551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Picture 8" descr=""/>
            <p:cNvPicPr/>
            <p:nvPr/>
          </p:nvPicPr>
          <p:blipFill>
            <a:blip r:embed="rId5"/>
            <a:stretch/>
          </p:blipFill>
          <p:spPr>
            <a:xfrm>
              <a:off x="592200" y="6088320"/>
              <a:ext cx="1984320" cy="3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838400" y="622440"/>
            <a:ext cx="36702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ae00"/>
                </a:solidFill>
                <a:latin typeface="Helvetica Neue Light"/>
              </a:rPr>
              <a:t>En otras palabras</a:t>
            </a:r>
            <a:endParaRPr b="0" lang="en-US" sz="32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838400" y="1714680"/>
            <a:ext cx="3670200" cy="417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2800" indent="-442800">
              <a:lnSpc>
                <a:spcPct val="90000"/>
              </a:lnSpc>
              <a:spcBef>
                <a:spcPts val="1001"/>
              </a:spcBef>
              <a:buSzPct val="15924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dcadb"/>
                </a:solidFill>
                <a:latin typeface="Helvetica Neue Light"/>
              </a:rPr>
              <a:t>Con escasez, el sistema económico entero cambiara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90000"/>
              </a:lnSpc>
              <a:spcBef>
                <a:spcPts val="1001"/>
              </a:spcBef>
              <a:buSzPct val="15924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dcadb"/>
                </a:solidFill>
                <a:latin typeface="Helvetica Neue Light"/>
              </a:rPr>
              <a:t>Riesgos y recompensas cambiaran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lvl="2" marL="798480" indent="-444600">
              <a:lnSpc>
                <a:spcPct val="90000"/>
              </a:lnSpc>
              <a:spcBef>
                <a:spcPts val="1001"/>
              </a:spcBef>
              <a:buSzPct val="15934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dcadb"/>
                </a:solidFill>
                <a:latin typeface="Helvetica Neue Light"/>
              </a:rPr>
              <a:t>No se puede tomar por dado el servicio de la naturaleza</a:t>
            </a:r>
            <a:endParaRPr b="0" lang="en-US" sz="1400" spc="-1" strike="noStrike">
              <a:solidFill>
                <a:srgbClr val="cdcadb"/>
              </a:solidFill>
              <a:latin typeface="Helvetica Neue Light"/>
            </a:endParaRPr>
          </a:p>
          <a:p>
            <a:pPr lvl="2" marL="798480" indent="-444600">
              <a:lnSpc>
                <a:spcPct val="90000"/>
              </a:lnSpc>
              <a:spcBef>
                <a:spcPts val="1001"/>
              </a:spcBef>
              <a:buSzPct val="15934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dcadb"/>
                </a:solidFill>
                <a:latin typeface="Helvetica Neue Light"/>
              </a:rPr>
              <a:t>Naturaleza cambia de ser pasivo a ser un activo</a:t>
            </a:r>
            <a:endParaRPr b="0" lang="en-US" sz="1400" spc="-1" strike="noStrike">
              <a:solidFill>
                <a:srgbClr val="cdcadb"/>
              </a:solidFill>
              <a:latin typeface="Helvetica Neue Light"/>
            </a:endParaRPr>
          </a:p>
          <a:p>
            <a:pPr lvl="2" marL="798480" indent="-444600">
              <a:lnSpc>
                <a:spcPct val="90000"/>
              </a:lnSpc>
              <a:spcBef>
                <a:spcPts val="1001"/>
              </a:spcBef>
              <a:buSzPct val="15934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dcadb"/>
                </a:solidFill>
                <a:latin typeface="Helvetica Neue Light"/>
              </a:rPr>
              <a:t>No todo ha sido negativo</a:t>
            </a:r>
            <a:endParaRPr b="0" lang="en-US" sz="14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90000"/>
              </a:lnSpc>
              <a:spcBef>
                <a:spcPts val="1001"/>
              </a:spcBef>
              <a:buSzPct val="15924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dcadb"/>
                </a:solidFill>
                <a:latin typeface="Helvetica Neue Light"/>
              </a:rPr>
              <a:t>Empresas inteligentes se quedaran en frente de esta honda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882" name="Text Box 11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FB93-99D6-403E-B895-4BF1A8478B6F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883" name="Picture 13" descr=""/>
          <p:cNvPicPr/>
          <p:nvPr/>
        </p:nvPicPr>
        <p:blipFill>
          <a:blip r:embed="rId12"/>
          <a:srcRect l="13123" t="14642" r="625" b="14999"/>
          <a:stretch/>
        </p:blipFill>
        <p:spPr>
          <a:xfrm>
            <a:off x="457200" y="3225960"/>
            <a:ext cx="411480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0C23-20A6-43C0-B4EA-500DF987DFD4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1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519D-7032-48D6-AF78-B61DB411FED3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grpSp>
        <p:nvGrpSpPr>
          <p:cNvPr id="617" name="Group 3"/>
          <p:cNvGrpSpPr/>
          <p:nvPr/>
        </p:nvGrpSpPr>
        <p:grpSpPr>
          <a:xfrm>
            <a:off x="442800" y="6029280"/>
            <a:ext cx="8254800" cy="398160"/>
            <a:chOff x="442800" y="6029280"/>
            <a:chExt cx="8254800" cy="398160"/>
          </a:xfrm>
        </p:grpSpPr>
        <p:pic>
          <p:nvPicPr>
            <p:cNvPr id="618" name="Picture 4" descr=""/>
            <p:cNvPicPr/>
            <p:nvPr/>
          </p:nvPicPr>
          <p:blipFill>
            <a:blip r:embed="rId2"/>
            <a:srcRect l="1526" t="0" r="423" b="57277"/>
            <a:stretch/>
          </p:blipFill>
          <p:spPr>
            <a:xfrm>
              <a:off x="442800" y="6029280"/>
              <a:ext cx="825480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5" descr=""/>
            <p:cNvPicPr/>
            <p:nvPr/>
          </p:nvPicPr>
          <p:blipFill>
            <a:blip r:embed="rId3"/>
            <a:stretch/>
          </p:blipFill>
          <p:spPr>
            <a:xfrm>
              <a:off x="592200" y="6088320"/>
              <a:ext cx="1984680" cy="3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0" name="Text Box 6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3632-19B2-432A-9098-300C867AE84B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21" name="Picture 7" descr=""/>
          <p:cNvPicPr/>
          <p:nvPr/>
        </p:nvPicPr>
        <p:blipFill>
          <a:blip r:embed="rId4"/>
          <a:stretch/>
        </p:blipFill>
        <p:spPr>
          <a:xfrm>
            <a:off x="1447920" y="595440"/>
            <a:ext cx="6251400" cy="52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C1C3-7358-4CAC-B72D-FB302D5FDE5C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2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9097-B1CA-4CAA-B9C3-DE2CBBBEA417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25" name="Picture 3" descr=""/>
          <p:cNvPicPr/>
          <p:nvPr/>
        </p:nvPicPr>
        <p:blipFill>
          <a:blip r:embed="rId2"/>
          <a:srcRect l="37138" t="23137" r="4819" b="25556"/>
          <a:stretch/>
        </p:blipFill>
        <p:spPr>
          <a:xfrm>
            <a:off x="426960" y="3249720"/>
            <a:ext cx="4103640" cy="27208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"/>
          <p:cNvPicPr/>
          <p:nvPr/>
        </p:nvPicPr>
        <p:blipFill>
          <a:blip r:embed="rId3"/>
          <a:srcRect l="704" t="9682" r="0" b="3335"/>
          <a:stretch/>
        </p:blipFill>
        <p:spPr>
          <a:xfrm>
            <a:off x="2540160" y="450720"/>
            <a:ext cx="1987560" cy="27320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" descr=""/>
          <p:cNvPicPr/>
          <p:nvPr/>
        </p:nvPicPr>
        <p:blipFill>
          <a:blip r:embed="rId4"/>
          <a:srcRect l="28804" t="0" r="28804" b="22438"/>
          <a:stretch/>
        </p:blipFill>
        <p:spPr>
          <a:xfrm>
            <a:off x="447840" y="430200"/>
            <a:ext cx="2006280" cy="2754360"/>
          </a:xfrm>
          <a:prstGeom prst="rect">
            <a:avLst/>
          </a:prstGeom>
          <a:ln w="0">
            <a:noFill/>
          </a:ln>
        </p:spPr>
      </p:pic>
      <p:grpSp>
        <p:nvGrpSpPr>
          <p:cNvPr id="628" name="Group 6"/>
          <p:cNvGrpSpPr/>
          <p:nvPr/>
        </p:nvGrpSpPr>
        <p:grpSpPr>
          <a:xfrm>
            <a:off x="442800" y="6029280"/>
            <a:ext cx="8255160" cy="398160"/>
            <a:chOff x="442800" y="6029280"/>
            <a:chExt cx="8255160" cy="398160"/>
          </a:xfrm>
        </p:grpSpPr>
        <p:pic>
          <p:nvPicPr>
            <p:cNvPr id="629" name="Picture 7" descr=""/>
            <p:cNvPicPr/>
            <p:nvPr/>
          </p:nvPicPr>
          <p:blipFill>
            <a:blip r:embed="rId5"/>
            <a:srcRect l="1526" t="0" r="423" b="57277"/>
            <a:stretch/>
          </p:blipFill>
          <p:spPr>
            <a:xfrm>
              <a:off x="442800" y="6029280"/>
              <a:ext cx="82551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8" descr=""/>
            <p:cNvPicPr/>
            <p:nvPr/>
          </p:nvPicPr>
          <p:blipFill>
            <a:blip r:embed="rId6"/>
            <a:stretch/>
          </p:blipFill>
          <p:spPr>
            <a:xfrm>
              <a:off x="592200" y="6088320"/>
              <a:ext cx="1984320" cy="3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838400" y="622080"/>
            <a:ext cx="3670200" cy="124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ae00"/>
                </a:solidFill>
                <a:latin typeface="Myriad Roman"/>
                <a:ea typeface="Arial"/>
              </a:rPr>
              <a:t>¿</a:t>
            </a:r>
            <a:r>
              <a:rPr b="0" lang="es-MX" sz="4000" spc="-1" strike="noStrike">
                <a:solidFill>
                  <a:srgbClr val="ffae00"/>
                </a:solidFill>
                <a:latin typeface="Arial"/>
                <a:ea typeface="Arial"/>
              </a:rPr>
              <a:t>Abejas valen US $62,000?</a:t>
            </a:r>
            <a:endParaRPr b="0" lang="en-US" sz="40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787640" y="1994040"/>
            <a:ext cx="3670200" cy="389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2800" indent="-442800">
              <a:spcBef>
                <a:spcPts val="1001"/>
              </a:spcBef>
              <a:buSzPct val="1595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cdcadb"/>
                </a:solidFill>
                <a:latin typeface="Helvetica Neue Light"/>
              </a:rPr>
              <a:t>Granja de café en Costa Rica depende de un servicio ambiental: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615960" indent="-442800">
              <a:spcAft>
                <a:spcPts val="264"/>
              </a:spcAft>
              <a:buSzPct val="15934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cdcadb"/>
                </a:solidFill>
                <a:latin typeface="Helvetica Neue Light"/>
              </a:rPr>
              <a:t>Bosque cercano es hábitat para abeja</a:t>
            </a:r>
            <a:endParaRPr b="0" lang="en-US" sz="14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615960" indent="-442800">
              <a:spcAft>
                <a:spcPts val="264"/>
              </a:spcAft>
              <a:buSzPct val="15934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cdcadb"/>
                </a:solidFill>
                <a:latin typeface="Helvetica Neue Light"/>
              </a:rPr>
              <a:t>Abejas polinizadores de planta de café aumentan cosecha</a:t>
            </a:r>
            <a:endParaRPr b="0" lang="en-US" sz="14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615960" indent="-442800">
              <a:spcAft>
                <a:spcPts val="264"/>
              </a:spcAft>
              <a:buSzPct val="15934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cdcadb"/>
                </a:solidFill>
                <a:latin typeface="Helvetica Neue Light"/>
              </a:rPr>
              <a:t>Beneficio estimado: US $62,000 en promedio (7% del ingreso)</a:t>
            </a:r>
            <a:endParaRPr b="0" lang="en-US" sz="14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615960" indent="-442800">
              <a:spcAft>
                <a:spcPts val="264"/>
              </a:spcAft>
              <a:buSzPct val="15934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cdcadb"/>
                </a:solidFill>
                <a:latin typeface="Helvetica Neue Light"/>
              </a:rPr>
              <a:t>Usos alternativos (ganadería) daría al bosque promedio de US $24,000</a:t>
            </a:r>
            <a:endParaRPr b="0" lang="en-US" sz="14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spcBef>
                <a:spcPts val="1001"/>
              </a:spcBef>
              <a:buSzPct val="1595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cdcadb"/>
                </a:solidFill>
                <a:latin typeface="Helvetica Neue Light"/>
              </a:rPr>
              <a:t>Servicios Ambientales comúnmente son ignorados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spcBef>
                <a:spcPts val="1001"/>
              </a:spcBef>
              <a:buSzPct val="1595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cdcadb"/>
                </a:solidFill>
                <a:latin typeface="Helvetica Neue Light"/>
              </a:rPr>
              <a:t>Casi siempre subvaluados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1E65-1B45-4977-BF1B-CFA7FF131656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2894-06C1-4590-BBB6-F3CA86FB7C0E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3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192A-2B9F-4C6E-A713-E01E8EB49D0D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37" name="Picture 3" descr=""/>
          <p:cNvPicPr/>
          <p:nvPr/>
        </p:nvPicPr>
        <p:blipFill>
          <a:blip r:embed="rId2"/>
          <a:srcRect l="23282" t="2205" r="23716" b="1934"/>
          <a:stretch/>
        </p:blipFill>
        <p:spPr>
          <a:xfrm>
            <a:off x="6705720" y="3251160"/>
            <a:ext cx="2006640" cy="27180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"/>
          <p:cNvPicPr/>
          <p:nvPr/>
        </p:nvPicPr>
        <p:blipFill>
          <a:blip r:embed="rId3"/>
          <a:stretch/>
        </p:blipFill>
        <p:spPr>
          <a:xfrm>
            <a:off x="4610160" y="457200"/>
            <a:ext cx="2006640" cy="270504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5" descr=""/>
          <p:cNvPicPr/>
          <p:nvPr/>
        </p:nvPicPr>
        <p:blipFill>
          <a:blip r:embed="rId4"/>
          <a:stretch/>
        </p:blipFill>
        <p:spPr>
          <a:xfrm>
            <a:off x="4610160" y="3251160"/>
            <a:ext cx="2019240" cy="2705040"/>
          </a:xfrm>
          <a:prstGeom prst="rect">
            <a:avLst/>
          </a:prstGeom>
          <a:ln w="0">
            <a:noFill/>
          </a:ln>
        </p:spPr>
      </p:pic>
      <p:grpSp>
        <p:nvGrpSpPr>
          <p:cNvPr id="640" name="Group 6"/>
          <p:cNvGrpSpPr/>
          <p:nvPr/>
        </p:nvGrpSpPr>
        <p:grpSpPr>
          <a:xfrm>
            <a:off x="442800" y="6029280"/>
            <a:ext cx="8255160" cy="398160"/>
            <a:chOff x="442800" y="6029280"/>
            <a:chExt cx="8255160" cy="398160"/>
          </a:xfrm>
        </p:grpSpPr>
        <p:pic>
          <p:nvPicPr>
            <p:cNvPr id="641" name="Picture 7" descr=""/>
            <p:cNvPicPr/>
            <p:nvPr/>
          </p:nvPicPr>
          <p:blipFill>
            <a:blip r:embed="rId5"/>
            <a:srcRect l="1526" t="0" r="423" b="57277"/>
            <a:stretch/>
          </p:blipFill>
          <p:spPr>
            <a:xfrm>
              <a:off x="442800" y="6029280"/>
              <a:ext cx="82551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8" descr=""/>
            <p:cNvPicPr/>
            <p:nvPr/>
          </p:nvPicPr>
          <p:blipFill>
            <a:blip r:embed="rId6"/>
            <a:stretch/>
          </p:blipFill>
          <p:spPr>
            <a:xfrm>
              <a:off x="592200" y="6088320"/>
              <a:ext cx="1984320" cy="30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3" name="Picture 9" descr=""/>
          <p:cNvPicPr/>
          <p:nvPr/>
        </p:nvPicPr>
        <p:blipFill>
          <a:blip r:embed="rId7"/>
          <a:stretch/>
        </p:blipFill>
        <p:spPr>
          <a:xfrm>
            <a:off x="6705720" y="457200"/>
            <a:ext cx="2006640" cy="27306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3378240" cy="116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ffae00"/>
                </a:solidFill>
                <a:latin typeface="Helvetica Neue Light"/>
              </a:rPr>
              <a:t>Primero, algo de Filosofía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2800" indent="-442800">
              <a:lnSpc>
                <a:spcPct val="80000"/>
              </a:lnSpc>
              <a:spcBef>
                <a:spcPts val="1001"/>
              </a:spcBef>
              <a:buSzPct val="159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dcadb"/>
                </a:solidFill>
                <a:latin typeface="Myriad Roman"/>
              </a:rPr>
              <a:t>¿</a:t>
            </a:r>
            <a:r>
              <a:rPr b="0" lang="es-CR" sz="1700" spc="-1" strike="noStrike">
                <a:solidFill>
                  <a:srgbClr val="cdcadb"/>
                </a:solidFill>
                <a:latin typeface="Helvetica Neue Light"/>
              </a:rPr>
              <a:t>Que es valor?</a:t>
            </a:r>
            <a:endParaRPr b="0" lang="en-US" sz="17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80000"/>
              </a:lnSpc>
              <a:spcBef>
                <a:spcPts val="1001"/>
              </a:spcBef>
              <a:buSzPct val="15928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dcadb"/>
                </a:solidFill>
                <a:latin typeface="Myriad Roman"/>
              </a:rPr>
              <a:t>¿</a:t>
            </a:r>
            <a:r>
              <a:rPr b="0" lang="es-CR" sz="1700" spc="-1" strike="noStrike">
                <a:solidFill>
                  <a:srgbClr val="cdcadb"/>
                </a:solidFill>
                <a:latin typeface="Helvetica Neue Light"/>
              </a:rPr>
              <a:t>La naturaleza puede tener precio?</a:t>
            </a:r>
            <a:endParaRPr b="0" lang="en-US" sz="17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80000"/>
              </a:lnSpc>
              <a:spcBef>
                <a:spcPts val="1001"/>
              </a:spcBef>
              <a:buSzPct val="15928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dcadb"/>
                </a:solidFill>
                <a:latin typeface="Myriad Roman"/>
              </a:rPr>
              <a:t>¿</a:t>
            </a:r>
            <a:r>
              <a:rPr b="0" lang="es-CR" sz="1700" spc="-1" strike="noStrike">
                <a:solidFill>
                  <a:srgbClr val="cdcadb"/>
                </a:solidFill>
                <a:latin typeface="Helvetica Neue Light"/>
              </a:rPr>
              <a:t>Como se determina el precio? </a:t>
            </a:r>
            <a:endParaRPr b="0" lang="en-US" sz="17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80000"/>
              </a:lnSpc>
              <a:spcBef>
                <a:spcPts val="1001"/>
              </a:spcBef>
              <a:buSzPct val="15957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cdcadb"/>
                </a:solidFill>
                <a:latin typeface="Helvetica Neue Light"/>
              </a:rPr>
              <a:t>Sociedad toma servicios ambientales como dados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80000"/>
              </a:lnSpc>
              <a:spcBef>
                <a:spcPts val="1001"/>
              </a:spcBef>
              <a:buSzPct val="15957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cdcadb"/>
                </a:solidFill>
                <a:latin typeface="Helvetica Neue Light"/>
              </a:rPr>
              <a:t>Lo que no tiene costo se usa en exceso,  Y … lo mas valioso NO TIENE precio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80000"/>
              </a:lnSpc>
              <a:spcBef>
                <a:spcPts val="1001"/>
              </a:spcBef>
              <a:buSzPct val="15928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dcadb"/>
                </a:solidFill>
                <a:latin typeface="Myriad Roman"/>
              </a:rPr>
              <a:t>¿</a:t>
            </a:r>
            <a:r>
              <a:rPr b="0" lang="es-CR" sz="1600" spc="-1" strike="noStrike">
                <a:solidFill>
                  <a:srgbClr val="cdcadb"/>
                </a:solidFill>
                <a:latin typeface="Helvetica Neue Light"/>
              </a:rPr>
              <a:t>Que pasaría si la electricidad fuera gratis?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565200" indent="-442800">
              <a:lnSpc>
                <a:spcPct val="80000"/>
              </a:lnSpc>
              <a:spcBef>
                <a:spcPts val="1001"/>
              </a:spcBef>
              <a:buSzPct val="15928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dcadb"/>
                </a:solidFill>
                <a:latin typeface="Myriad Roman"/>
              </a:rPr>
              <a:t>¿</a:t>
            </a:r>
            <a:r>
              <a:rPr b="0" lang="es-CR" sz="1600" spc="-1" strike="noStrike">
                <a:solidFill>
                  <a:srgbClr val="cdcadb"/>
                </a:solidFill>
                <a:latin typeface="Helvetica Neue Light"/>
              </a:rPr>
              <a:t>Como responderían las empresas generadoras?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80000"/>
              </a:lnSpc>
              <a:spcBef>
                <a:spcPts val="1001"/>
              </a:spcBef>
              <a:buSzPct val="15957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cdcadb"/>
                </a:solidFill>
                <a:latin typeface="Helvetica Neue Light"/>
              </a:rPr>
              <a:t>Eso es lo que pasa ahora con la naturaleza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46" name="Text Box 1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2824-DFE6-4368-9B92-212DAE347A39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FCFB-16F5-4617-9556-213827005FDF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EE96-3E59-4D60-B085-F8B5CEA13478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50" name="Picture 3" descr=""/>
          <p:cNvPicPr/>
          <p:nvPr/>
        </p:nvPicPr>
        <p:blipFill>
          <a:blip r:embed="rId2"/>
          <a:srcRect l="3477" t="1783" r="26801" b="283"/>
          <a:stretch/>
        </p:blipFill>
        <p:spPr>
          <a:xfrm>
            <a:off x="4610160" y="2146320"/>
            <a:ext cx="4071960" cy="3809880"/>
          </a:xfrm>
          <a:prstGeom prst="rect">
            <a:avLst/>
          </a:prstGeom>
          <a:ln w="0">
            <a:noFill/>
          </a:ln>
        </p:spPr>
      </p:pic>
      <p:grpSp>
        <p:nvGrpSpPr>
          <p:cNvPr id="651" name="Group 4"/>
          <p:cNvGrpSpPr/>
          <p:nvPr/>
        </p:nvGrpSpPr>
        <p:grpSpPr>
          <a:xfrm>
            <a:off x="442800" y="6029280"/>
            <a:ext cx="8255160" cy="398160"/>
            <a:chOff x="442800" y="6029280"/>
            <a:chExt cx="8255160" cy="398160"/>
          </a:xfrm>
        </p:grpSpPr>
        <p:pic>
          <p:nvPicPr>
            <p:cNvPr id="652" name="Picture 5" descr=""/>
            <p:cNvPicPr/>
            <p:nvPr/>
          </p:nvPicPr>
          <p:blipFill>
            <a:blip r:embed="rId3"/>
            <a:srcRect l="1526" t="0" r="423" b="57277"/>
            <a:stretch/>
          </p:blipFill>
          <p:spPr>
            <a:xfrm>
              <a:off x="442800" y="6029280"/>
              <a:ext cx="82551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6" descr=""/>
            <p:cNvPicPr/>
            <p:nvPr/>
          </p:nvPicPr>
          <p:blipFill>
            <a:blip r:embed="rId4"/>
            <a:stretch/>
          </p:blipFill>
          <p:spPr>
            <a:xfrm>
              <a:off x="592200" y="6088320"/>
              <a:ext cx="1984320" cy="3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60240" y="672840"/>
            <a:ext cx="8026560" cy="11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ae00"/>
                </a:solidFill>
                <a:latin typeface="Helvetica Neue Light"/>
              </a:rPr>
              <a:t>Suficiente Filosofía, hablemos de realidad</a:t>
            </a:r>
            <a:endParaRPr b="0" lang="en-US" sz="32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35040" y="2374560"/>
            <a:ext cx="379728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280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cdcadb"/>
                </a:solidFill>
                <a:latin typeface="Helvetica Neue Light"/>
              </a:rPr>
              <a:t>Hay mercados en operación, y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cdcadb"/>
                </a:solidFill>
                <a:latin typeface="Helvetica Neue Light"/>
              </a:rPr>
              <a:t>gran variedad de transacciones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cdcadb"/>
                </a:solidFill>
                <a:latin typeface="Helvetica Neue Light"/>
              </a:rPr>
              <a:t>con características de mercado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933480" indent="-415800">
              <a:spcBef>
                <a:spcPts val="1701"/>
              </a:spcBef>
              <a:buSzPct val="15948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900" spc="-1" strike="noStrike">
                <a:solidFill>
                  <a:srgbClr val="cdcadb"/>
                </a:solidFill>
                <a:latin typeface="Helvetica Neue Light"/>
              </a:rPr>
              <a:t>Carbono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933480" indent="-415800">
              <a:spcBef>
                <a:spcPts val="1701"/>
              </a:spcBef>
              <a:buSzPct val="15948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900" spc="-1" strike="noStrike">
                <a:solidFill>
                  <a:srgbClr val="cdcadb"/>
                </a:solidFill>
                <a:latin typeface="Helvetica Neue Light"/>
              </a:rPr>
              <a:t>Agua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933480" indent="-415800">
              <a:spcBef>
                <a:spcPts val="1701"/>
              </a:spcBef>
              <a:buSzPct val="15948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900" spc="-1" strike="noStrike">
                <a:solidFill>
                  <a:srgbClr val="cdcadb"/>
                </a:solidFill>
                <a:latin typeface="Helvetica Neue Light"/>
              </a:rPr>
              <a:t>Biodiversidad</a:t>
            </a:r>
            <a:endParaRPr b="0" lang="en-US" sz="19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82B7-45F7-4534-A4C4-850E10C07D09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9F46-5204-43D8-A5E7-F777376C83CE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767D-9453-43AC-978A-36EE0DFE533A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grpSp>
        <p:nvGrpSpPr>
          <p:cNvPr id="660" name="Group 3"/>
          <p:cNvGrpSpPr/>
          <p:nvPr/>
        </p:nvGrpSpPr>
        <p:grpSpPr>
          <a:xfrm>
            <a:off x="442800" y="6029280"/>
            <a:ext cx="8255160" cy="398160"/>
            <a:chOff x="442800" y="6029280"/>
            <a:chExt cx="8255160" cy="398160"/>
          </a:xfrm>
        </p:grpSpPr>
        <p:pic>
          <p:nvPicPr>
            <p:cNvPr id="661" name="Picture 4" descr=""/>
            <p:cNvPicPr/>
            <p:nvPr/>
          </p:nvPicPr>
          <p:blipFill>
            <a:blip r:embed="rId2"/>
            <a:srcRect l="1526" t="0" r="423" b="57277"/>
            <a:stretch/>
          </p:blipFill>
          <p:spPr>
            <a:xfrm>
              <a:off x="442800" y="6029280"/>
              <a:ext cx="82551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5" descr=""/>
            <p:cNvPicPr/>
            <p:nvPr/>
          </p:nvPicPr>
          <p:blipFill>
            <a:blip r:embed="rId3"/>
            <a:stretch/>
          </p:blipFill>
          <p:spPr>
            <a:xfrm>
              <a:off x="592200" y="6088320"/>
              <a:ext cx="1984320" cy="3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7493040" cy="11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ffae00"/>
                </a:solidFill>
                <a:latin typeface="Helvetica Neue Light"/>
                <a:ea typeface="Times New Roman"/>
              </a:rPr>
              <a:t>Biodiversidad</a:t>
            </a:r>
            <a:endParaRPr b="0" lang="en-US" sz="36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3365640" cy="361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2800" indent="-442800">
              <a:lnSpc>
                <a:spcPct val="80000"/>
              </a:lnSpc>
              <a:buSzPct val="1595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cdcadb"/>
                </a:solidFill>
                <a:latin typeface="Helvetica Neue Light"/>
              </a:rPr>
              <a:t>Nuez mas difícil de romper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80000"/>
              </a:lnSpc>
              <a:spcBef>
                <a:spcPts val="1701"/>
              </a:spcBef>
              <a:buSzPct val="1595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cdcadb"/>
                </a:solidFill>
                <a:latin typeface="Helvetica Neue Light"/>
              </a:rPr>
              <a:t>No fácil de comodificar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588960" indent="-415800">
              <a:lnSpc>
                <a:spcPct val="80000"/>
              </a:lnSpc>
              <a:spcBef>
                <a:spcPts val="1701"/>
              </a:spcBef>
              <a:buSzPct val="15957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cdcadb"/>
                </a:solidFill>
                <a:latin typeface="Helvetica Neue Light"/>
              </a:rPr>
              <a:t>Perfecta “anti-commodity”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80000"/>
              </a:lnSpc>
              <a:spcBef>
                <a:spcPts val="1701"/>
              </a:spcBef>
              <a:buSzPct val="1595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cdcadb"/>
                </a:solidFill>
                <a:latin typeface="Helvetica Neue Light"/>
              </a:rPr>
              <a:t>Además, a que nos referimos con Biodiversidad?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588960" indent="-415800">
              <a:lnSpc>
                <a:spcPct val="80000"/>
              </a:lnSpc>
              <a:spcBef>
                <a:spcPts val="1701"/>
              </a:spcBef>
              <a:buSzPct val="15957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cdcadb"/>
                </a:solidFill>
                <a:latin typeface="Helvetica Neue Light"/>
              </a:rPr>
              <a:t>Ecosistemas?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588960" indent="-415800">
              <a:lnSpc>
                <a:spcPct val="80000"/>
              </a:lnSpc>
              <a:spcBef>
                <a:spcPts val="799"/>
              </a:spcBef>
              <a:buSzPct val="15957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cdcadb"/>
                </a:solidFill>
                <a:latin typeface="Helvetica Neue Light"/>
              </a:rPr>
              <a:t>Especies?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588960" indent="-415800">
              <a:lnSpc>
                <a:spcPct val="80000"/>
              </a:lnSpc>
              <a:spcBef>
                <a:spcPts val="799"/>
              </a:spcBef>
              <a:buSzPct val="15957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cdcadb"/>
                </a:solidFill>
                <a:latin typeface="Helvetica Neue Light"/>
              </a:rPr>
              <a:t>Diversidad Genética?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588960" indent="-415800">
              <a:lnSpc>
                <a:spcPct val="80000"/>
              </a:lnSpc>
              <a:spcBef>
                <a:spcPts val="799"/>
              </a:spcBef>
              <a:buSzPct val="15957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cdcadb"/>
                </a:solidFill>
                <a:latin typeface="Helvetica Neue Light"/>
              </a:rPr>
              <a:t>Todo eso y mas?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65" name="Text Box 9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3D9C-C8D2-422B-B945-55CCA8C9F8F6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66" name="Picture 11" descr=""/>
          <p:cNvPicPr/>
          <p:nvPr/>
        </p:nvPicPr>
        <p:blipFill>
          <a:blip r:embed="rId12"/>
          <a:srcRect l="13123" t="14642" r="625" b="14999"/>
          <a:stretch/>
        </p:blipFill>
        <p:spPr>
          <a:xfrm>
            <a:off x="4597560" y="2133720"/>
            <a:ext cx="4089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DF4A-55D0-4DB3-9913-2AF122308803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2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9883-DD9B-497E-BA4B-15F1DA111842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grpSp>
        <p:nvGrpSpPr>
          <p:cNvPr id="670" name="Group 4"/>
          <p:cNvGrpSpPr/>
          <p:nvPr/>
        </p:nvGrpSpPr>
        <p:grpSpPr>
          <a:xfrm>
            <a:off x="442800" y="6029280"/>
            <a:ext cx="8255160" cy="398160"/>
            <a:chOff x="442800" y="6029280"/>
            <a:chExt cx="8255160" cy="398160"/>
          </a:xfrm>
        </p:grpSpPr>
        <p:pic>
          <p:nvPicPr>
            <p:cNvPr id="671" name="Picture 5" descr=""/>
            <p:cNvPicPr/>
            <p:nvPr/>
          </p:nvPicPr>
          <p:blipFill>
            <a:blip r:embed="rId2"/>
            <a:srcRect l="1526" t="0" r="423" b="57277"/>
            <a:stretch/>
          </p:blipFill>
          <p:spPr>
            <a:xfrm>
              <a:off x="442800" y="6029280"/>
              <a:ext cx="82551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6" descr=""/>
            <p:cNvPicPr/>
            <p:nvPr/>
          </p:nvPicPr>
          <p:blipFill>
            <a:blip r:embed="rId3"/>
            <a:stretch/>
          </p:blipFill>
          <p:spPr>
            <a:xfrm>
              <a:off x="592200" y="6088320"/>
              <a:ext cx="1984320" cy="3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672840"/>
            <a:ext cx="8229600" cy="11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400" spc="-1" strike="noStrike">
                <a:solidFill>
                  <a:srgbClr val="ffae00"/>
                </a:solidFill>
                <a:latin typeface="Helvetica Neue Light"/>
                <a:ea typeface="Times New Roman"/>
              </a:rPr>
              <a:t>Aun así, hay movimiento en pagos por…</a:t>
            </a:r>
            <a:endParaRPr b="0" lang="en-US" sz="3400" spc="-1" strike="noStrike">
              <a:solidFill>
                <a:srgbClr val="ffae00"/>
              </a:solidFill>
              <a:latin typeface="Helvetica Neue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3809880" cy="372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2800" indent="-442800">
              <a:lnSpc>
                <a:spcPct val="90000"/>
              </a:lnSpc>
              <a:spcBef>
                <a:spcPts val="1701"/>
              </a:spcBef>
              <a:buSzPct val="1595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cdcadb"/>
                </a:solidFill>
                <a:latin typeface="Helvetica Neue Light"/>
              </a:rPr>
              <a:t>Presencia de especies en áreas de alto valor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90000"/>
              </a:lnSpc>
              <a:spcBef>
                <a:spcPts val="1701"/>
              </a:spcBef>
              <a:buSzPct val="1595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cdcadb"/>
                </a:solidFill>
                <a:latin typeface="Helvetica Neue Light"/>
              </a:rPr>
              <a:t>Acceso al hábitat y a especies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90000"/>
              </a:lnSpc>
              <a:spcBef>
                <a:spcPts val="1701"/>
              </a:spcBef>
              <a:buSzPct val="1595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cdcadb"/>
                </a:solidFill>
                <a:latin typeface="Helvetica Neue Light"/>
              </a:rPr>
              <a:t>Biodiversidad a través de eco-negocios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90000"/>
              </a:lnSpc>
              <a:spcBef>
                <a:spcPts val="1701"/>
              </a:spcBef>
              <a:buSzPct val="1595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cdcadb"/>
                </a:solidFill>
                <a:latin typeface="Helvetica Neue Light"/>
              </a:rPr>
              <a:t>Practicas de uso y manejo que conservan (Privados/Públicos, Voluntario/Regulatorio)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  <a:p>
            <a:pPr marL="442800" indent="-442800">
              <a:lnSpc>
                <a:spcPct val="90000"/>
              </a:lnSpc>
              <a:spcBef>
                <a:spcPts val="1701"/>
              </a:spcBef>
              <a:buSzPct val="1595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cdcadb"/>
                </a:solidFill>
                <a:latin typeface="Helvetica Neue Light"/>
              </a:rPr>
              <a:t>Derechos negociables “compensaciones” (Voluntario/Regulatorio)</a:t>
            </a: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75" name="Text Box 9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CC7A-8EB5-442A-A5DC-6A48DE113158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76" name="Picture 11" descr=""/>
          <p:cNvPicPr/>
          <p:nvPr/>
        </p:nvPicPr>
        <p:blipFill>
          <a:blip r:embed="rId9"/>
          <a:stretch/>
        </p:blipFill>
        <p:spPr>
          <a:xfrm>
            <a:off x="4622760" y="2127240"/>
            <a:ext cx="407664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3 Marcador de número de diapositiva"/>
          <p:cNvSpPr/>
          <p:nvPr/>
        </p:nvSpPr>
        <p:spPr>
          <a:xfrm>
            <a:off x="8447040" y="614664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FBF9-CABF-4280-B475-D26F631D6521}" type="slidenum">
              <a:rPr b="0" lang="en-US" sz="1200" spc="-1" strike="noStrike">
                <a:solidFill>
                  <a:srgbClr val="a3a6b5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78" name="Text Box 2"/>
          <p:cNvSpPr/>
          <p:nvPr/>
        </p:nvSpPr>
        <p:spPr>
          <a:xfrm>
            <a:off x="304920" y="22860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99ff"/>
                </a:solidFill>
                <a:latin typeface="Helvetica Neue Light"/>
              </a:rPr>
              <a:t>Pagos por Biodiversidad</a:t>
            </a:r>
            <a:endParaRPr b="0" lang="en-US" sz="36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79" name="Line 3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dcadb"/>
              </a:solidFill>
              <a:latin typeface="Helvetica Neue Light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76320" y="1294920"/>
            <a:ext cx="579096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36600" indent="-336600">
              <a:lnSpc>
                <a:spcPct val="80000"/>
              </a:lnSpc>
              <a:spcBef>
                <a:spcPts val="1701"/>
              </a:spcBef>
              <a:buClr>
                <a:srgbClr val="0b9ccf"/>
              </a:buClr>
              <a:buSzPct val="15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cdcadb"/>
                </a:solidFill>
                <a:latin typeface="Helvetica Neue Light"/>
              </a:rPr>
              <a:t>Por compra de áreas de alto valor en biodiversidad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1022400" indent="-442800">
              <a:lnSpc>
                <a:spcPct val="80000"/>
              </a:lnSpc>
              <a:spcBef>
                <a:spcPts val="1701"/>
              </a:spcBef>
              <a:buClr>
                <a:srgbClr val="0b9ccf"/>
              </a:buClr>
              <a:buSzPct val="15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cdcadb"/>
                </a:solidFill>
                <a:latin typeface="Helvetica Neue Light"/>
              </a:rPr>
              <a:t>Transacciones privadas: ONG’s como TNC, empresa como Patagonia (ropa), Individuos Doug Tompkins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1022400" indent="-442800">
              <a:lnSpc>
                <a:spcPct val="80000"/>
              </a:lnSpc>
              <a:spcBef>
                <a:spcPts val="1701"/>
              </a:spcBef>
              <a:buClr>
                <a:srgbClr val="0b9ccf"/>
              </a:buClr>
              <a:buSzPct val="15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cdcadb"/>
                </a:solidFill>
                <a:latin typeface="Helvetica Neue Light"/>
              </a:rPr>
              <a:t>Transacciones publicas: Gobiernos con parques naturales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marL="336600" indent="-336600">
              <a:lnSpc>
                <a:spcPct val="80000"/>
              </a:lnSpc>
              <a:spcBef>
                <a:spcPts val="1701"/>
              </a:spcBef>
              <a:buClr>
                <a:srgbClr val="0b9ccf"/>
              </a:buClr>
              <a:buSzPct val="15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cdcadb"/>
                </a:solidFill>
                <a:latin typeface="Helvetica Neue Light"/>
              </a:rPr>
              <a:t>Por </a:t>
            </a:r>
            <a:r>
              <a:rPr b="0" lang="es-MX" sz="2000" spc="-1" strike="noStrike">
                <a:solidFill>
                  <a:srgbClr val="cdcadb"/>
                </a:solidFill>
                <a:latin typeface="Helvetica Neue Light"/>
              </a:rPr>
              <a:t>acceso al hábitat y la especie</a:t>
            </a:r>
            <a:r>
              <a:rPr b="0" lang="es-CR" sz="2000" spc="-1" strike="noStrike">
                <a:solidFill>
                  <a:srgbClr val="cdcadb"/>
                </a:solidFill>
                <a:latin typeface="Helvetica Neue Light"/>
              </a:rPr>
              <a:t> 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1022400" indent="-442800">
              <a:lnSpc>
                <a:spcPct val="80000"/>
              </a:lnSpc>
              <a:spcBef>
                <a:spcPts val="1701"/>
              </a:spcBef>
              <a:buClr>
                <a:srgbClr val="0b9ccf"/>
              </a:buClr>
              <a:buSzPct val="15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Derechos de bioprospeccion: Volumen $30 M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1022400" indent="-442800">
              <a:lnSpc>
                <a:spcPct val="80000"/>
              </a:lnSpc>
              <a:spcBef>
                <a:spcPts val="1701"/>
              </a:spcBef>
              <a:buClr>
                <a:srgbClr val="0b9ccf"/>
              </a:buClr>
              <a:buSzPct val="15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cdcadb"/>
                </a:solidFill>
                <a:latin typeface="Helvetica Neue Light"/>
              </a:rPr>
              <a:t>Permisos de Investigación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1022400" indent="-442800">
              <a:lnSpc>
                <a:spcPct val="80000"/>
              </a:lnSpc>
              <a:spcBef>
                <a:spcPts val="1701"/>
              </a:spcBef>
              <a:buClr>
                <a:srgbClr val="0b9ccf"/>
              </a:buClr>
              <a:buSzPct val="15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cdcadb"/>
                </a:solidFill>
                <a:latin typeface="Helvetica Neue Light"/>
              </a:rPr>
              <a:t>Permisos de cacería, pesca y colección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marL="336600" indent="-336600">
              <a:lnSpc>
                <a:spcPct val="80000"/>
              </a:lnSpc>
              <a:spcBef>
                <a:spcPts val="1701"/>
              </a:spcBef>
              <a:buClr>
                <a:srgbClr val="0b9ccf"/>
              </a:buClr>
              <a:buSzPct val="12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dcadb"/>
                </a:solidFill>
                <a:latin typeface="Helvetica Neue Light"/>
              </a:rPr>
              <a:t>A través de productos* eco-certificados</a:t>
            </a:r>
            <a:endParaRPr b="0" lang="en-US" sz="20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1022400" indent="-442800">
              <a:lnSpc>
                <a:spcPct val="80000"/>
              </a:lnSpc>
              <a:spcBef>
                <a:spcPts val="1701"/>
              </a:spcBef>
              <a:buClr>
                <a:srgbClr val="0b9ccf"/>
              </a:buClr>
              <a:buSzPct val="12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Certificación de madera y no madereros: US $5 B (FSC estima $15 B antes 2010)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  <a:p>
            <a:pPr lvl="1" marL="1022400" indent="-442800">
              <a:lnSpc>
                <a:spcPct val="80000"/>
              </a:lnSpc>
              <a:spcBef>
                <a:spcPts val="1701"/>
              </a:spcBef>
              <a:buClr>
                <a:srgbClr val="0b9ccf"/>
              </a:buClr>
              <a:buSzPct val="12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dcadb"/>
                </a:solidFill>
                <a:latin typeface="Helvetica Neue Light"/>
              </a:rPr>
              <a:t>Productos orgánicos: demanda 20%+</a:t>
            </a:r>
            <a:endParaRPr b="0" lang="en-US" sz="1600" spc="-1" strike="noStrike">
              <a:solidFill>
                <a:srgbClr val="cdcadb"/>
              </a:solidFill>
              <a:latin typeface="Helvetica Neue Light"/>
            </a:endParaRPr>
          </a:p>
        </p:txBody>
      </p:sp>
      <p:pic>
        <p:nvPicPr>
          <p:cNvPr id="681" name="Picture 5" descr=""/>
          <p:cNvPicPr/>
          <p:nvPr/>
        </p:nvPicPr>
        <p:blipFill>
          <a:blip r:embed="rId1"/>
          <a:stretch/>
        </p:blipFill>
        <p:spPr>
          <a:xfrm>
            <a:off x="5769000" y="1752480"/>
            <a:ext cx="3298680" cy="37339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0" descr="katoomba logo"/>
          <p:cNvPicPr/>
          <p:nvPr/>
        </p:nvPicPr>
        <p:blipFill>
          <a:blip r:embed="rId2"/>
          <a:stretch/>
        </p:blipFill>
        <p:spPr>
          <a:xfrm>
            <a:off x="7086600" y="228600"/>
            <a:ext cx="1981080" cy="63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ardo Bayon</dc:creator>
  <dc:description/>
  <dc:language>en-US</dc:language>
  <cp:lastModifiedBy>Lauren Delaloye</cp:lastModifiedBy>
  <dcterms:modified xsi:type="dcterms:W3CDTF">2007-10-26T17:57:18Z</dcterms:modified>
  <cp:revision>32</cp:revision>
  <dc:subject/>
  <dc:title>PowerPoint Presentation</dc:title>
</cp:coreProperties>
</file>