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3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4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D1146-3066-430B-ADE7-2070B484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ears of letting industrialised countries off the hook – diverting attention from changing energy production and consum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ks suggestion came after ER targets were already ag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nt sink Kyot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ket flo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ea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n-perma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easuring uncertain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o-colonialism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6852A-5BA3-47B3-BAEC-C6F07051B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clusió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s decir que, cuando el bien en cuestión se ofrece a una persona, se ofrece a todas.En otras palabras, no puede excluirse a nadie de su disfrute, aunque no pague por el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no rivalidad en el consum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es decir que cuando alguien consume el bien o lo disfruta, no reduce el consumo potencial de los demás. En otras palabras, el hecho de consumir el bien no reduce su dispon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NewRoman,Italic"/>
              </a:rPr>
              <a:t>Externalities</a:t>
            </a:r>
            <a:r>
              <a:rPr b="0" i="1" lang="de-DE" sz="1200" spc="-1" strike="noStrike">
                <a:solidFill>
                  <a:srgbClr val="000000"/>
                </a:solidFill>
                <a:latin typeface="TimesNewRoman,Italic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NewRoman"/>
              </a:rPr>
              <a:t>are uncompensated costs or benefits arising from economic activity. P. ej. the decline in availability of game or other non-timber forest products due to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B1D4B-ADC4-4E77-84B8-5A2B54378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olivia ha ratificado la CMNUCC en 1994 y el PK en 1999, por lo tanto es una de las Partes de la Convención y del Protocolo de Kio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3FEA-1915-41D8-927E-F9428834E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03360"/>
            <a:ext cx="8077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D36B-A29D-4B75-8008-F04ABD505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0336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6120" y="420336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980E-8BEE-46C7-9B98-3C3356AEE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7800" y="213372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9120" y="213372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0336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7800" y="420336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9120" y="420336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57A5-2A7F-4433-A139-395A51D2E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6aad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5400" y="1402920"/>
            <a:ext cx="807876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76aad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0336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6aad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92FD-886B-4CF3-BA76-2A35C373F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6120" y="420336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03360"/>
            <a:ext cx="8077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203360"/>
            <a:ext cx="8077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20336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6120" y="420336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7800" y="213372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19120" y="213372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20336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7800" y="420336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19120" y="4203360"/>
            <a:ext cx="2600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409C-F1DC-4771-800E-92DBD1B6D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45BD-6E6C-4A60-8279-786069D6D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7392-6B57-44BC-9EC1-9CDDF3A90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1402920"/>
            <a:ext cx="807876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76aa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EC9D-08AC-44A8-A8D9-4395AB42B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0336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161C-1B03-4BA2-9B00-E3E9E8691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6120" y="420336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0B49-5C73-46C9-A800-A681C5A1B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6120" y="2133720"/>
            <a:ext cx="39416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03360"/>
            <a:ext cx="8077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BC00-4900-4E0B-A32F-951453CBD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516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16720"/>
            <a:ext cx="9144000" cy="341280"/>
          </a:xfrm>
          <a:prstGeom prst="rect">
            <a:avLst/>
          </a:prstGeom>
          <a:solidFill>
            <a:srgbClr val="6ca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2" marL="1147680" indent="-403200">
              <a:spcBef>
                <a:spcPts val="901"/>
              </a:spcBef>
              <a:buClr>
                <a:srgbClr val="002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3" marL="1527120" indent="-377640">
              <a:spcBef>
                <a:spcPts val="901"/>
              </a:spcBef>
              <a:buClr>
                <a:srgbClr val="002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4" marL="1905120" indent="-376200">
              <a:spcBef>
                <a:spcPts val="901"/>
              </a:spcBef>
              <a:buClr>
                <a:srgbClr val="002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5" marL="1905120" indent="-376200">
              <a:spcBef>
                <a:spcPts val="901"/>
              </a:spcBef>
              <a:buClr>
                <a:srgbClr val="002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6" marL="1905120" indent="-376200">
              <a:spcBef>
                <a:spcPts val="901"/>
              </a:spcBef>
              <a:buClr>
                <a:srgbClr val="002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95840" y="6585120"/>
            <a:ext cx="316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rbon credits - origination to commercialisation</a:t>
            </a:r>
            <a:endParaRPr b="0" lang="en-US" sz="1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585120"/>
            <a:ext cx="316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© 2007 EcoSecurities Group plc</a:t>
            </a:r>
            <a:endParaRPr b="0" lang="en-US" sz="1000" spc="-1" strike="noStrike">
              <a:solidFill>
                <a:srgbClr val="002c5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31720" y="503280"/>
            <a:ext cx="1440000" cy="328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723160" y="6559200"/>
            <a:ext cx="3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17E-9C5B-4337-BA6F-16454FDF41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9360" y="0"/>
            <a:ext cx="9153360" cy="651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16720"/>
            <a:ext cx="9144000" cy="341280"/>
          </a:xfrm>
          <a:prstGeom prst="rect">
            <a:avLst/>
          </a:prstGeom>
          <a:solidFill>
            <a:srgbClr val="6ca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6985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95840" y="6585120"/>
            <a:ext cx="316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rbon credits - origination to commercialisation</a:t>
            </a:r>
            <a:endParaRPr b="0" lang="en-US" sz="1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585120"/>
            <a:ext cx="316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© 2007 EcoSecurities Group plc</a:t>
            </a:r>
            <a:endParaRPr b="0" lang="en-US" sz="1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80880"/>
            <a:ext cx="1676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1720" y="503280"/>
            <a:ext cx="1440000" cy="328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aad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76aadc"/>
              </a:solidFill>
              <a:latin typeface="Arial"/>
            </a:endParaRPr>
          </a:p>
          <a:p>
            <a:pPr lvl="1" marL="344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2" marL="744480" algn="ctr">
              <a:spcBef>
                <a:spcPts val="901"/>
              </a:spcBef>
              <a:buClr>
                <a:srgbClr val="002c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3" marL="1149480" algn="ctr">
              <a:spcBef>
                <a:spcPts val="901"/>
              </a:spcBef>
              <a:buClr>
                <a:srgbClr val="002c5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4" marL="1528920" algn="ctr">
              <a:spcBef>
                <a:spcPts val="901"/>
              </a:spcBef>
              <a:buClr>
                <a:srgbClr val="002c5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5" marL="1528920">
              <a:spcBef>
                <a:spcPts val="451"/>
              </a:spcBef>
              <a:buClr>
                <a:srgbClr val="002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6" marL="1528920">
              <a:spcBef>
                <a:spcPts val="451"/>
              </a:spcBef>
              <a:buClr>
                <a:srgbClr val="002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hyperlink" Target="http://www.ecofys.nl/renewable/netinpassing.html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webserv-gmbh.de/webserv.data/Bilder/industrie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4880" y="2444760"/>
            <a:ext cx="6275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mercado de Carbono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loma Sarria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quitos, Peru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tubre 2-4, 2007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ibuciones Natalia Calderón, F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2360" y="4707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28640" y="549360"/>
            <a:ext cx="656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d"/>
                </a:solidFill>
                <a:latin typeface="Arial"/>
              </a:rPr>
              <a:t>Solucion Internacional:</a:t>
            </a:r>
            <a:br>
              <a:rPr sz="2800"/>
            </a:br>
            <a:r>
              <a:rPr b="1" lang="en-US" sz="2800" spc="-1" strike="noStrike">
                <a:solidFill>
                  <a:srgbClr val="002c5d"/>
                </a:solidFill>
                <a:latin typeface="Arial"/>
              </a:rPr>
              <a:t>Protocolo de Kioto</a:t>
            </a:r>
            <a:endParaRPr b="0" lang="en-US" sz="2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00" y="1773360"/>
            <a:ext cx="821844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Tratado desarrollado en respuesta al problema de cambio climático, el cual es producto de la generaci</a:t>
            </a: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ó</a:t>
            </a: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n de Gases de Efecto Invernadero (GEIs) 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Define las formas en las que las emisiones de GEIs pueden reducirse mediante la cooperación entre países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Los países que participan son: 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lvl="1" marL="743040" indent="-39852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2c5d"/>
                </a:solidFill>
                <a:latin typeface="Arial"/>
              </a:rPr>
              <a:t>Países desarrollados (Anexo I)</a:t>
            </a: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 quienes tienen el compromiso de reducir sus emisiones (ej. Canada, Japon, Comunidad Europea); y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lvl="1" marL="743040" indent="-39852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2c5d"/>
                </a:solidFill>
                <a:latin typeface="Arial"/>
              </a:rPr>
              <a:t>Países en vías de desarrollo (no-Anexo I)</a:t>
            </a: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 quienes no tienen ningún compromiso, pero que pueden contribuir y beneficiarse a la vez (ej. Per</a:t>
            </a: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ú</a:t>
            </a: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Define el 2008 al 2012 como el período bajo el cual los países Anexo 1 deben de demostrar sus reducciones de GEI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439640" cy="129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59CE-B566-4361-867B-EAA760D96D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516720"/>
            <a:chOff x="0" y="0"/>
            <a:chExt cx="9140760" cy="65167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0760" cy="65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31720" y="503280"/>
              <a:ext cx="1440000" cy="3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5400" y="5187960"/>
            <a:ext cx="5634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Narrow"/>
                <a:ea typeface="SimSun"/>
              </a:rPr>
              <a:t>Anexo I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42920" y="2341440"/>
            <a:ext cx="7200720" cy="4182840"/>
            <a:chOff x="1042920" y="2341440"/>
            <a:chExt cx="7200720" cy="4182840"/>
          </a:xfrm>
        </p:grpSpPr>
        <p:sp>
          <p:nvSpPr>
            <p:cNvPr id="138" name=""/>
            <p:cNvSpPr/>
            <p:nvPr/>
          </p:nvSpPr>
          <p:spPr>
            <a:xfrm>
              <a:off x="5139720" y="3802320"/>
              <a:ext cx="15480" cy="35280"/>
            </a:xfrm>
            <a:custGeom>
              <a:avLst/>
              <a:gdLst/>
              <a:ahLst/>
              <a:rect l="l" t="t" r="r" b="b"/>
              <a:pathLst>
                <a:path w="88" h="208">
                  <a:moveTo>
                    <a:pt x="80" y="172"/>
                  </a:moveTo>
                  <a:lnTo>
                    <a:pt x="84" y="164"/>
                  </a:lnTo>
                  <a:lnTo>
                    <a:pt x="84" y="144"/>
                  </a:lnTo>
                  <a:lnTo>
                    <a:pt x="88" y="128"/>
                  </a:lnTo>
                  <a:lnTo>
                    <a:pt x="80" y="104"/>
                  </a:lnTo>
                  <a:lnTo>
                    <a:pt x="78" y="74"/>
                  </a:lnTo>
                  <a:lnTo>
                    <a:pt x="80" y="52"/>
                  </a:lnTo>
                  <a:lnTo>
                    <a:pt x="78" y="32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60" y="16"/>
                  </a:lnTo>
                  <a:lnTo>
                    <a:pt x="56" y="0"/>
                  </a:lnTo>
                  <a:lnTo>
                    <a:pt x="42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12" y="34"/>
                  </a:lnTo>
                  <a:lnTo>
                    <a:pt x="0" y="50"/>
                  </a:lnTo>
                  <a:lnTo>
                    <a:pt x="6" y="90"/>
                  </a:lnTo>
                  <a:lnTo>
                    <a:pt x="14" y="104"/>
                  </a:lnTo>
                  <a:lnTo>
                    <a:pt x="10" y="116"/>
                  </a:lnTo>
                  <a:lnTo>
                    <a:pt x="36" y="114"/>
                  </a:lnTo>
                  <a:lnTo>
                    <a:pt x="46" y="118"/>
                  </a:lnTo>
                  <a:lnTo>
                    <a:pt x="48" y="124"/>
                  </a:lnTo>
                  <a:lnTo>
                    <a:pt x="44" y="128"/>
                  </a:lnTo>
                  <a:lnTo>
                    <a:pt x="30" y="130"/>
                  </a:lnTo>
                  <a:lnTo>
                    <a:pt x="20" y="138"/>
                  </a:lnTo>
                  <a:lnTo>
                    <a:pt x="18" y="146"/>
                  </a:lnTo>
                  <a:lnTo>
                    <a:pt x="16" y="170"/>
                  </a:lnTo>
                  <a:lnTo>
                    <a:pt x="8" y="180"/>
                  </a:lnTo>
                  <a:lnTo>
                    <a:pt x="10" y="196"/>
                  </a:lnTo>
                  <a:lnTo>
                    <a:pt x="18" y="208"/>
                  </a:lnTo>
                  <a:lnTo>
                    <a:pt x="20" y="200"/>
                  </a:lnTo>
                  <a:lnTo>
                    <a:pt x="48" y="194"/>
                  </a:lnTo>
                  <a:lnTo>
                    <a:pt x="70" y="174"/>
                  </a:lnTo>
                  <a:lnTo>
                    <a:pt x="80" y="17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440" bIns="-104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24240" y="3831480"/>
              <a:ext cx="7560" cy="1044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8" y="66"/>
                  </a:moveTo>
                  <a:lnTo>
                    <a:pt x="24" y="56"/>
                  </a:lnTo>
                  <a:lnTo>
                    <a:pt x="20" y="42"/>
                  </a:lnTo>
                  <a:lnTo>
                    <a:pt x="44" y="14"/>
                  </a:lnTo>
                  <a:lnTo>
                    <a:pt x="34" y="0"/>
                  </a:lnTo>
                  <a:lnTo>
                    <a:pt x="0" y="40"/>
                  </a:lnTo>
                  <a:lnTo>
                    <a:pt x="8" y="6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75920" y="4049280"/>
              <a:ext cx="249840" cy="102600"/>
            </a:xfrm>
            <a:custGeom>
              <a:avLst/>
              <a:gdLst/>
              <a:ahLst/>
              <a:rect l="l" t="t" r="r" b="b"/>
              <a:pathLst>
                <a:path w="1430" h="604">
                  <a:moveTo>
                    <a:pt x="1050" y="280"/>
                  </a:moveTo>
                  <a:lnTo>
                    <a:pt x="1052" y="286"/>
                  </a:lnTo>
                  <a:lnTo>
                    <a:pt x="1086" y="314"/>
                  </a:lnTo>
                  <a:lnTo>
                    <a:pt x="1112" y="344"/>
                  </a:lnTo>
                  <a:lnTo>
                    <a:pt x="1132" y="354"/>
                  </a:lnTo>
                  <a:lnTo>
                    <a:pt x="1148" y="354"/>
                  </a:lnTo>
                  <a:lnTo>
                    <a:pt x="1158" y="358"/>
                  </a:lnTo>
                  <a:lnTo>
                    <a:pt x="1166" y="368"/>
                  </a:lnTo>
                  <a:lnTo>
                    <a:pt x="1192" y="378"/>
                  </a:lnTo>
                  <a:lnTo>
                    <a:pt x="1210" y="380"/>
                  </a:lnTo>
                  <a:lnTo>
                    <a:pt x="1230" y="376"/>
                  </a:lnTo>
                  <a:lnTo>
                    <a:pt x="1244" y="380"/>
                  </a:lnTo>
                  <a:lnTo>
                    <a:pt x="1248" y="396"/>
                  </a:lnTo>
                  <a:lnTo>
                    <a:pt x="1246" y="410"/>
                  </a:lnTo>
                  <a:lnTo>
                    <a:pt x="1234" y="430"/>
                  </a:lnTo>
                  <a:lnTo>
                    <a:pt x="1232" y="440"/>
                  </a:lnTo>
                  <a:lnTo>
                    <a:pt x="1234" y="444"/>
                  </a:lnTo>
                  <a:lnTo>
                    <a:pt x="1254" y="448"/>
                  </a:lnTo>
                  <a:lnTo>
                    <a:pt x="1332" y="448"/>
                  </a:lnTo>
                  <a:lnTo>
                    <a:pt x="1346" y="456"/>
                  </a:lnTo>
                  <a:lnTo>
                    <a:pt x="1362" y="478"/>
                  </a:lnTo>
                  <a:lnTo>
                    <a:pt x="1364" y="488"/>
                  </a:lnTo>
                  <a:lnTo>
                    <a:pt x="1394" y="518"/>
                  </a:lnTo>
                  <a:lnTo>
                    <a:pt x="1416" y="522"/>
                  </a:lnTo>
                  <a:lnTo>
                    <a:pt x="1430" y="528"/>
                  </a:lnTo>
                  <a:lnTo>
                    <a:pt x="1428" y="548"/>
                  </a:lnTo>
                  <a:lnTo>
                    <a:pt x="1330" y="582"/>
                  </a:lnTo>
                  <a:lnTo>
                    <a:pt x="1298" y="598"/>
                  </a:lnTo>
                  <a:lnTo>
                    <a:pt x="1264" y="604"/>
                  </a:lnTo>
                  <a:lnTo>
                    <a:pt x="1224" y="600"/>
                  </a:lnTo>
                  <a:lnTo>
                    <a:pt x="1202" y="590"/>
                  </a:lnTo>
                  <a:lnTo>
                    <a:pt x="1176" y="588"/>
                  </a:lnTo>
                  <a:lnTo>
                    <a:pt x="1060" y="582"/>
                  </a:lnTo>
                  <a:lnTo>
                    <a:pt x="998" y="590"/>
                  </a:lnTo>
                  <a:lnTo>
                    <a:pt x="960" y="600"/>
                  </a:lnTo>
                  <a:lnTo>
                    <a:pt x="940" y="600"/>
                  </a:lnTo>
                  <a:lnTo>
                    <a:pt x="930" y="596"/>
                  </a:lnTo>
                  <a:lnTo>
                    <a:pt x="928" y="584"/>
                  </a:lnTo>
                  <a:lnTo>
                    <a:pt x="940" y="572"/>
                  </a:lnTo>
                  <a:lnTo>
                    <a:pt x="970" y="546"/>
                  </a:lnTo>
                  <a:lnTo>
                    <a:pt x="998" y="528"/>
                  </a:lnTo>
                  <a:lnTo>
                    <a:pt x="1036" y="512"/>
                  </a:lnTo>
                  <a:lnTo>
                    <a:pt x="1042" y="494"/>
                  </a:lnTo>
                  <a:lnTo>
                    <a:pt x="1042" y="484"/>
                  </a:lnTo>
                  <a:lnTo>
                    <a:pt x="1026" y="474"/>
                  </a:lnTo>
                  <a:lnTo>
                    <a:pt x="986" y="458"/>
                  </a:lnTo>
                  <a:lnTo>
                    <a:pt x="908" y="448"/>
                  </a:lnTo>
                  <a:lnTo>
                    <a:pt x="898" y="430"/>
                  </a:lnTo>
                  <a:lnTo>
                    <a:pt x="878" y="412"/>
                  </a:lnTo>
                  <a:lnTo>
                    <a:pt x="864" y="390"/>
                  </a:lnTo>
                  <a:lnTo>
                    <a:pt x="858" y="354"/>
                  </a:lnTo>
                  <a:lnTo>
                    <a:pt x="858" y="326"/>
                  </a:lnTo>
                  <a:lnTo>
                    <a:pt x="844" y="302"/>
                  </a:lnTo>
                  <a:lnTo>
                    <a:pt x="800" y="294"/>
                  </a:lnTo>
                  <a:lnTo>
                    <a:pt x="756" y="294"/>
                  </a:lnTo>
                  <a:lnTo>
                    <a:pt x="742" y="292"/>
                  </a:lnTo>
                  <a:lnTo>
                    <a:pt x="732" y="286"/>
                  </a:lnTo>
                  <a:lnTo>
                    <a:pt x="684" y="272"/>
                  </a:lnTo>
                  <a:lnTo>
                    <a:pt x="648" y="250"/>
                  </a:lnTo>
                  <a:lnTo>
                    <a:pt x="624" y="218"/>
                  </a:lnTo>
                  <a:lnTo>
                    <a:pt x="604" y="206"/>
                  </a:lnTo>
                  <a:lnTo>
                    <a:pt x="546" y="200"/>
                  </a:lnTo>
                  <a:lnTo>
                    <a:pt x="530" y="192"/>
                  </a:lnTo>
                  <a:lnTo>
                    <a:pt x="520" y="192"/>
                  </a:lnTo>
                  <a:lnTo>
                    <a:pt x="504" y="198"/>
                  </a:lnTo>
                  <a:lnTo>
                    <a:pt x="488" y="200"/>
                  </a:lnTo>
                  <a:lnTo>
                    <a:pt x="470" y="192"/>
                  </a:lnTo>
                  <a:lnTo>
                    <a:pt x="466" y="186"/>
                  </a:lnTo>
                  <a:lnTo>
                    <a:pt x="432" y="182"/>
                  </a:lnTo>
                  <a:lnTo>
                    <a:pt x="410" y="174"/>
                  </a:lnTo>
                  <a:lnTo>
                    <a:pt x="404" y="168"/>
                  </a:lnTo>
                  <a:lnTo>
                    <a:pt x="400" y="150"/>
                  </a:lnTo>
                  <a:lnTo>
                    <a:pt x="402" y="142"/>
                  </a:lnTo>
                  <a:lnTo>
                    <a:pt x="450" y="130"/>
                  </a:lnTo>
                  <a:lnTo>
                    <a:pt x="458" y="120"/>
                  </a:lnTo>
                  <a:lnTo>
                    <a:pt x="458" y="108"/>
                  </a:lnTo>
                  <a:lnTo>
                    <a:pt x="442" y="104"/>
                  </a:lnTo>
                  <a:lnTo>
                    <a:pt x="436" y="98"/>
                  </a:lnTo>
                  <a:lnTo>
                    <a:pt x="346" y="84"/>
                  </a:lnTo>
                  <a:lnTo>
                    <a:pt x="320" y="84"/>
                  </a:lnTo>
                  <a:lnTo>
                    <a:pt x="292" y="100"/>
                  </a:lnTo>
                  <a:lnTo>
                    <a:pt x="266" y="124"/>
                  </a:lnTo>
                  <a:lnTo>
                    <a:pt x="244" y="150"/>
                  </a:lnTo>
                  <a:lnTo>
                    <a:pt x="212" y="160"/>
                  </a:lnTo>
                  <a:lnTo>
                    <a:pt x="176" y="164"/>
                  </a:lnTo>
                  <a:lnTo>
                    <a:pt x="154" y="172"/>
                  </a:lnTo>
                  <a:lnTo>
                    <a:pt x="130" y="200"/>
                  </a:lnTo>
                  <a:lnTo>
                    <a:pt x="106" y="204"/>
                  </a:lnTo>
                  <a:lnTo>
                    <a:pt x="98" y="206"/>
                  </a:lnTo>
                  <a:lnTo>
                    <a:pt x="54" y="238"/>
                  </a:lnTo>
                  <a:lnTo>
                    <a:pt x="50" y="238"/>
                  </a:lnTo>
                  <a:lnTo>
                    <a:pt x="50" y="230"/>
                  </a:lnTo>
                  <a:lnTo>
                    <a:pt x="44" y="222"/>
                  </a:lnTo>
                  <a:lnTo>
                    <a:pt x="0" y="222"/>
                  </a:lnTo>
                  <a:lnTo>
                    <a:pt x="2" y="216"/>
                  </a:lnTo>
                  <a:lnTo>
                    <a:pt x="40" y="192"/>
                  </a:lnTo>
                  <a:lnTo>
                    <a:pt x="66" y="190"/>
                  </a:lnTo>
                  <a:lnTo>
                    <a:pt x="70" y="186"/>
                  </a:lnTo>
                  <a:lnTo>
                    <a:pt x="74" y="178"/>
                  </a:lnTo>
                  <a:lnTo>
                    <a:pt x="86" y="122"/>
                  </a:lnTo>
                  <a:lnTo>
                    <a:pt x="96" y="106"/>
                  </a:lnTo>
                  <a:lnTo>
                    <a:pt x="134" y="82"/>
                  </a:lnTo>
                  <a:lnTo>
                    <a:pt x="182" y="58"/>
                  </a:lnTo>
                  <a:lnTo>
                    <a:pt x="192" y="56"/>
                  </a:lnTo>
                  <a:lnTo>
                    <a:pt x="240" y="34"/>
                  </a:lnTo>
                  <a:lnTo>
                    <a:pt x="342" y="12"/>
                  </a:lnTo>
                  <a:lnTo>
                    <a:pt x="378" y="0"/>
                  </a:lnTo>
                  <a:lnTo>
                    <a:pt x="488" y="0"/>
                  </a:lnTo>
                  <a:lnTo>
                    <a:pt x="534" y="12"/>
                  </a:lnTo>
                  <a:lnTo>
                    <a:pt x="584" y="16"/>
                  </a:lnTo>
                  <a:lnTo>
                    <a:pt x="614" y="14"/>
                  </a:lnTo>
                  <a:lnTo>
                    <a:pt x="628" y="32"/>
                  </a:lnTo>
                  <a:lnTo>
                    <a:pt x="640" y="40"/>
                  </a:lnTo>
                  <a:lnTo>
                    <a:pt x="696" y="40"/>
                  </a:lnTo>
                  <a:lnTo>
                    <a:pt x="708" y="48"/>
                  </a:lnTo>
                  <a:lnTo>
                    <a:pt x="740" y="86"/>
                  </a:lnTo>
                  <a:lnTo>
                    <a:pt x="748" y="106"/>
                  </a:lnTo>
                  <a:lnTo>
                    <a:pt x="770" y="134"/>
                  </a:lnTo>
                  <a:lnTo>
                    <a:pt x="792" y="142"/>
                  </a:lnTo>
                  <a:lnTo>
                    <a:pt x="848" y="142"/>
                  </a:lnTo>
                  <a:lnTo>
                    <a:pt x="860" y="154"/>
                  </a:lnTo>
                  <a:lnTo>
                    <a:pt x="884" y="154"/>
                  </a:lnTo>
                  <a:lnTo>
                    <a:pt x="890" y="164"/>
                  </a:lnTo>
                  <a:lnTo>
                    <a:pt x="882" y="164"/>
                  </a:lnTo>
                  <a:lnTo>
                    <a:pt x="880" y="174"/>
                  </a:lnTo>
                  <a:lnTo>
                    <a:pt x="890" y="180"/>
                  </a:lnTo>
                  <a:lnTo>
                    <a:pt x="918" y="188"/>
                  </a:lnTo>
                  <a:lnTo>
                    <a:pt x="934" y="198"/>
                  </a:lnTo>
                  <a:lnTo>
                    <a:pt x="958" y="236"/>
                  </a:lnTo>
                  <a:lnTo>
                    <a:pt x="1000" y="254"/>
                  </a:lnTo>
                  <a:lnTo>
                    <a:pt x="1030" y="274"/>
                  </a:lnTo>
                  <a:lnTo>
                    <a:pt x="1050" y="28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6600" y="4086000"/>
              <a:ext cx="10800" cy="1368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64" y="2"/>
                  </a:moveTo>
                  <a:lnTo>
                    <a:pt x="64" y="22"/>
                  </a:lnTo>
                  <a:lnTo>
                    <a:pt x="70" y="32"/>
                  </a:lnTo>
                  <a:lnTo>
                    <a:pt x="70" y="66"/>
                  </a:lnTo>
                  <a:lnTo>
                    <a:pt x="26" y="80"/>
                  </a:lnTo>
                  <a:lnTo>
                    <a:pt x="10" y="80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0" y="48"/>
                  </a:lnTo>
                  <a:lnTo>
                    <a:pt x="18" y="62"/>
                  </a:lnTo>
                  <a:lnTo>
                    <a:pt x="28" y="44"/>
                  </a:lnTo>
                  <a:lnTo>
                    <a:pt x="24" y="34"/>
                  </a:lnTo>
                  <a:lnTo>
                    <a:pt x="26" y="20"/>
                  </a:lnTo>
                  <a:lnTo>
                    <a:pt x="30" y="2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64" y="6"/>
                  </a:lnTo>
                  <a:lnTo>
                    <a:pt x="64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0720" y="4070880"/>
              <a:ext cx="21600" cy="1836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86" y="46"/>
                  </a:moveTo>
                  <a:lnTo>
                    <a:pt x="114" y="68"/>
                  </a:lnTo>
                  <a:lnTo>
                    <a:pt x="122" y="84"/>
                  </a:lnTo>
                  <a:lnTo>
                    <a:pt x="122" y="108"/>
                  </a:lnTo>
                  <a:lnTo>
                    <a:pt x="100" y="104"/>
                  </a:lnTo>
                  <a:lnTo>
                    <a:pt x="78" y="82"/>
                  </a:lnTo>
                  <a:lnTo>
                    <a:pt x="66" y="52"/>
                  </a:lnTo>
                  <a:lnTo>
                    <a:pt x="54" y="36"/>
                  </a:lnTo>
                  <a:lnTo>
                    <a:pt x="22" y="30"/>
                  </a:lnTo>
                  <a:lnTo>
                    <a:pt x="12" y="2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0"/>
                  </a:lnTo>
                  <a:lnTo>
                    <a:pt x="38" y="2"/>
                  </a:lnTo>
                  <a:lnTo>
                    <a:pt x="86" y="4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360" bIns="-27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36600" y="6343200"/>
              <a:ext cx="15480" cy="6120"/>
            </a:xfrm>
            <a:custGeom>
              <a:avLst/>
              <a:gdLst/>
              <a:ahLst/>
              <a:rect l="l" t="t" r="r" b="b"/>
              <a:pathLst>
                <a:path w="98" h="36">
                  <a:moveTo>
                    <a:pt x="14" y="16"/>
                  </a:moveTo>
                  <a:lnTo>
                    <a:pt x="38" y="8"/>
                  </a:lnTo>
                  <a:lnTo>
                    <a:pt x="64" y="8"/>
                  </a:lnTo>
                  <a:lnTo>
                    <a:pt x="90" y="0"/>
                  </a:lnTo>
                  <a:lnTo>
                    <a:pt x="94" y="4"/>
                  </a:lnTo>
                  <a:lnTo>
                    <a:pt x="98" y="14"/>
                  </a:lnTo>
                  <a:lnTo>
                    <a:pt x="90" y="16"/>
                  </a:lnTo>
                  <a:lnTo>
                    <a:pt x="68" y="14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36" y="26"/>
                  </a:lnTo>
                  <a:lnTo>
                    <a:pt x="24" y="36"/>
                  </a:lnTo>
                  <a:lnTo>
                    <a:pt x="0" y="32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4" y="1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47440" y="4253400"/>
              <a:ext cx="6120" cy="61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2" y="32"/>
                  </a:moveTo>
                  <a:lnTo>
                    <a:pt x="28" y="32"/>
                  </a:lnTo>
                  <a:lnTo>
                    <a:pt x="28" y="26"/>
                  </a:lnTo>
                  <a:lnTo>
                    <a:pt x="18" y="20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8" y="32"/>
                  </a:lnTo>
                  <a:lnTo>
                    <a:pt x="22" y="3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49240" y="4251960"/>
              <a:ext cx="4320" cy="43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" y="0"/>
                  </a:moveTo>
                  <a:lnTo>
                    <a:pt x="0" y="2"/>
                  </a:lnTo>
                  <a:lnTo>
                    <a:pt x="2" y="8"/>
                  </a:lnTo>
                  <a:lnTo>
                    <a:pt x="8" y="14"/>
                  </a:lnTo>
                  <a:lnTo>
                    <a:pt x="10" y="22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14" y="16"/>
                  </a:lnTo>
                  <a:lnTo>
                    <a:pt x="12" y="6"/>
                  </a:lnTo>
                  <a:lnTo>
                    <a:pt x="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55000" y="4256640"/>
              <a:ext cx="1440" cy="4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6" y="26"/>
                  </a:moveTo>
                  <a:lnTo>
                    <a:pt x="18" y="20"/>
                  </a:lnTo>
                  <a:lnTo>
                    <a:pt x="12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10" y="24"/>
                  </a:lnTo>
                  <a:lnTo>
                    <a:pt x="16" y="2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09160" y="4055400"/>
              <a:ext cx="6120" cy="1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0" y="10"/>
                  </a:moveTo>
                  <a:lnTo>
                    <a:pt x="16" y="74"/>
                  </a:lnTo>
                  <a:lnTo>
                    <a:pt x="36" y="80"/>
                  </a:lnTo>
                  <a:lnTo>
                    <a:pt x="44" y="58"/>
                  </a:lnTo>
                  <a:lnTo>
                    <a:pt x="38" y="34"/>
                  </a:lnTo>
                  <a:lnTo>
                    <a:pt x="20" y="4"/>
                  </a:lnTo>
                  <a:lnTo>
                    <a:pt x="8" y="0"/>
                  </a:lnTo>
                  <a:lnTo>
                    <a:pt x="0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29400" y="4262400"/>
              <a:ext cx="152640" cy="87480"/>
            </a:xfrm>
            <a:custGeom>
              <a:avLst/>
              <a:gdLst/>
              <a:ahLst/>
              <a:rect l="l" t="t" r="r" b="b"/>
              <a:pathLst>
                <a:path w="880" h="512">
                  <a:moveTo>
                    <a:pt x="880" y="176"/>
                  </a:moveTo>
                  <a:lnTo>
                    <a:pt x="850" y="174"/>
                  </a:lnTo>
                  <a:lnTo>
                    <a:pt x="812" y="192"/>
                  </a:lnTo>
                  <a:lnTo>
                    <a:pt x="800" y="206"/>
                  </a:lnTo>
                  <a:lnTo>
                    <a:pt x="776" y="220"/>
                  </a:lnTo>
                  <a:lnTo>
                    <a:pt x="752" y="220"/>
                  </a:lnTo>
                  <a:lnTo>
                    <a:pt x="730" y="238"/>
                  </a:lnTo>
                  <a:lnTo>
                    <a:pt x="686" y="234"/>
                  </a:lnTo>
                  <a:lnTo>
                    <a:pt x="680" y="226"/>
                  </a:lnTo>
                  <a:lnTo>
                    <a:pt x="674" y="214"/>
                  </a:lnTo>
                  <a:lnTo>
                    <a:pt x="660" y="206"/>
                  </a:lnTo>
                  <a:lnTo>
                    <a:pt x="654" y="218"/>
                  </a:lnTo>
                  <a:lnTo>
                    <a:pt x="648" y="224"/>
                  </a:lnTo>
                  <a:lnTo>
                    <a:pt x="636" y="228"/>
                  </a:lnTo>
                  <a:lnTo>
                    <a:pt x="624" y="244"/>
                  </a:lnTo>
                  <a:lnTo>
                    <a:pt x="612" y="288"/>
                  </a:lnTo>
                  <a:lnTo>
                    <a:pt x="602" y="298"/>
                  </a:lnTo>
                  <a:lnTo>
                    <a:pt x="576" y="300"/>
                  </a:lnTo>
                  <a:lnTo>
                    <a:pt x="562" y="316"/>
                  </a:lnTo>
                  <a:lnTo>
                    <a:pt x="556" y="326"/>
                  </a:lnTo>
                  <a:lnTo>
                    <a:pt x="548" y="330"/>
                  </a:lnTo>
                  <a:lnTo>
                    <a:pt x="536" y="346"/>
                  </a:lnTo>
                  <a:lnTo>
                    <a:pt x="514" y="352"/>
                  </a:lnTo>
                  <a:lnTo>
                    <a:pt x="514" y="358"/>
                  </a:lnTo>
                  <a:lnTo>
                    <a:pt x="506" y="362"/>
                  </a:lnTo>
                  <a:lnTo>
                    <a:pt x="488" y="364"/>
                  </a:lnTo>
                  <a:lnTo>
                    <a:pt x="472" y="342"/>
                  </a:lnTo>
                  <a:lnTo>
                    <a:pt x="456" y="336"/>
                  </a:lnTo>
                  <a:lnTo>
                    <a:pt x="434" y="364"/>
                  </a:lnTo>
                  <a:lnTo>
                    <a:pt x="422" y="392"/>
                  </a:lnTo>
                  <a:lnTo>
                    <a:pt x="378" y="394"/>
                  </a:lnTo>
                  <a:lnTo>
                    <a:pt x="366" y="390"/>
                  </a:lnTo>
                  <a:lnTo>
                    <a:pt x="356" y="414"/>
                  </a:lnTo>
                  <a:lnTo>
                    <a:pt x="352" y="460"/>
                  </a:lnTo>
                  <a:lnTo>
                    <a:pt x="342" y="462"/>
                  </a:lnTo>
                  <a:lnTo>
                    <a:pt x="328" y="480"/>
                  </a:lnTo>
                  <a:lnTo>
                    <a:pt x="316" y="502"/>
                  </a:lnTo>
                  <a:lnTo>
                    <a:pt x="306" y="510"/>
                  </a:lnTo>
                  <a:lnTo>
                    <a:pt x="262" y="512"/>
                  </a:lnTo>
                  <a:lnTo>
                    <a:pt x="262" y="504"/>
                  </a:lnTo>
                  <a:lnTo>
                    <a:pt x="246" y="482"/>
                  </a:lnTo>
                  <a:lnTo>
                    <a:pt x="248" y="468"/>
                  </a:lnTo>
                  <a:lnTo>
                    <a:pt x="244" y="454"/>
                  </a:lnTo>
                  <a:lnTo>
                    <a:pt x="228" y="444"/>
                  </a:lnTo>
                  <a:lnTo>
                    <a:pt x="214" y="446"/>
                  </a:lnTo>
                  <a:lnTo>
                    <a:pt x="206" y="438"/>
                  </a:lnTo>
                  <a:lnTo>
                    <a:pt x="216" y="382"/>
                  </a:lnTo>
                  <a:lnTo>
                    <a:pt x="214" y="374"/>
                  </a:lnTo>
                  <a:lnTo>
                    <a:pt x="204" y="360"/>
                  </a:lnTo>
                  <a:lnTo>
                    <a:pt x="182" y="352"/>
                  </a:lnTo>
                  <a:lnTo>
                    <a:pt x="176" y="346"/>
                  </a:lnTo>
                  <a:lnTo>
                    <a:pt x="158" y="348"/>
                  </a:lnTo>
                  <a:lnTo>
                    <a:pt x="146" y="362"/>
                  </a:lnTo>
                  <a:lnTo>
                    <a:pt x="130" y="362"/>
                  </a:lnTo>
                  <a:lnTo>
                    <a:pt x="120" y="356"/>
                  </a:lnTo>
                  <a:lnTo>
                    <a:pt x="114" y="346"/>
                  </a:lnTo>
                  <a:lnTo>
                    <a:pt x="114" y="340"/>
                  </a:lnTo>
                  <a:lnTo>
                    <a:pt x="98" y="336"/>
                  </a:lnTo>
                  <a:lnTo>
                    <a:pt x="90" y="330"/>
                  </a:lnTo>
                  <a:lnTo>
                    <a:pt x="88" y="320"/>
                  </a:lnTo>
                  <a:lnTo>
                    <a:pt x="76" y="318"/>
                  </a:lnTo>
                  <a:lnTo>
                    <a:pt x="60" y="302"/>
                  </a:lnTo>
                  <a:lnTo>
                    <a:pt x="56" y="288"/>
                  </a:lnTo>
                  <a:lnTo>
                    <a:pt x="44" y="268"/>
                  </a:lnTo>
                  <a:lnTo>
                    <a:pt x="16" y="266"/>
                  </a:lnTo>
                  <a:lnTo>
                    <a:pt x="0" y="254"/>
                  </a:lnTo>
                  <a:lnTo>
                    <a:pt x="8" y="252"/>
                  </a:lnTo>
                  <a:lnTo>
                    <a:pt x="12" y="238"/>
                  </a:lnTo>
                  <a:lnTo>
                    <a:pt x="36" y="220"/>
                  </a:lnTo>
                  <a:lnTo>
                    <a:pt x="38" y="208"/>
                  </a:lnTo>
                  <a:lnTo>
                    <a:pt x="36" y="194"/>
                  </a:lnTo>
                  <a:lnTo>
                    <a:pt x="34" y="190"/>
                  </a:lnTo>
                  <a:lnTo>
                    <a:pt x="36" y="176"/>
                  </a:lnTo>
                  <a:lnTo>
                    <a:pt x="40" y="166"/>
                  </a:lnTo>
                  <a:lnTo>
                    <a:pt x="66" y="144"/>
                  </a:lnTo>
                  <a:lnTo>
                    <a:pt x="68" y="140"/>
                  </a:lnTo>
                  <a:lnTo>
                    <a:pt x="80" y="136"/>
                  </a:lnTo>
                  <a:lnTo>
                    <a:pt x="118" y="104"/>
                  </a:lnTo>
                  <a:lnTo>
                    <a:pt x="168" y="66"/>
                  </a:lnTo>
                  <a:lnTo>
                    <a:pt x="180" y="48"/>
                  </a:lnTo>
                  <a:lnTo>
                    <a:pt x="186" y="34"/>
                  </a:lnTo>
                  <a:lnTo>
                    <a:pt x="220" y="34"/>
                  </a:lnTo>
                  <a:lnTo>
                    <a:pt x="250" y="20"/>
                  </a:lnTo>
                  <a:lnTo>
                    <a:pt x="272" y="16"/>
                  </a:lnTo>
                  <a:lnTo>
                    <a:pt x="312" y="20"/>
                  </a:lnTo>
                  <a:lnTo>
                    <a:pt x="352" y="30"/>
                  </a:lnTo>
                  <a:lnTo>
                    <a:pt x="410" y="30"/>
                  </a:lnTo>
                  <a:lnTo>
                    <a:pt x="460" y="18"/>
                  </a:lnTo>
                  <a:lnTo>
                    <a:pt x="492" y="16"/>
                  </a:lnTo>
                  <a:lnTo>
                    <a:pt x="506" y="12"/>
                  </a:lnTo>
                  <a:lnTo>
                    <a:pt x="520" y="4"/>
                  </a:lnTo>
                  <a:lnTo>
                    <a:pt x="548" y="0"/>
                  </a:lnTo>
                  <a:lnTo>
                    <a:pt x="566" y="6"/>
                  </a:lnTo>
                  <a:lnTo>
                    <a:pt x="572" y="14"/>
                  </a:lnTo>
                  <a:lnTo>
                    <a:pt x="606" y="14"/>
                  </a:lnTo>
                  <a:lnTo>
                    <a:pt x="628" y="6"/>
                  </a:lnTo>
                  <a:lnTo>
                    <a:pt x="652" y="6"/>
                  </a:lnTo>
                  <a:lnTo>
                    <a:pt x="664" y="8"/>
                  </a:lnTo>
                  <a:lnTo>
                    <a:pt x="692" y="28"/>
                  </a:lnTo>
                  <a:lnTo>
                    <a:pt x="726" y="30"/>
                  </a:lnTo>
                  <a:lnTo>
                    <a:pt x="756" y="38"/>
                  </a:lnTo>
                  <a:lnTo>
                    <a:pt x="780" y="54"/>
                  </a:lnTo>
                  <a:lnTo>
                    <a:pt x="804" y="90"/>
                  </a:lnTo>
                  <a:lnTo>
                    <a:pt x="860" y="126"/>
                  </a:lnTo>
                  <a:lnTo>
                    <a:pt x="870" y="140"/>
                  </a:lnTo>
                  <a:lnTo>
                    <a:pt x="880" y="166"/>
                  </a:lnTo>
                  <a:lnTo>
                    <a:pt x="880" y="17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1760" bIns="417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05800" y="4747320"/>
              <a:ext cx="330840" cy="534960"/>
            </a:xfrm>
            <a:custGeom>
              <a:avLst/>
              <a:gdLst/>
              <a:ahLst/>
              <a:rect l="l" t="t" r="r" b="b"/>
              <a:pathLst>
                <a:path w="1906" h="3140">
                  <a:moveTo>
                    <a:pt x="840" y="0"/>
                  </a:moveTo>
                  <a:lnTo>
                    <a:pt x="834" y="8"/>
                  </a:lnTo>
                  <a:lnTo>
                    <a:pt x="804" y="8"/>
                  </a:lnTo>
                  <a:lnTo>
                    <a:pt x="802" y="34"/>
                  </a:lnTo>
                  <a:lnTo>
                    <a:pt x="814" y="40"/>
                  </a:lnTo>
                  <a:lnTo>
                    <a:pt x="820" y="50"/>
                  </a:lnTo>
                  <a:lnTo>
                    <a:pt x="834" y="88"/>
                  </a:lnTo>
                  <a:lnTo>
                    <a:pt x="836" y="102"/>
                  </a:lnTo>
                  <a:lnTo>
                    <a:pt x="858" y="156"/>
                  </a:lnTo>
                  <a:lnTo>
                    <a:pt x="856" y="158"/>
                  </a:lnTo>
                  <a:lnTo>
                    <a:pt x="834" y="158"/>
                  </a:lnTo>
                  <a:lnTo>
                    <a:pt x="816" y="208"/>
                  </a:lnTo>
                  <a:lnTo>
                    <a:pt x="780" y="286"/>
                  </a:lnTo>
                  <a:lnTo>
                    <a:pt x="748" y="332"/>
                  </a:lnTo>
                  <a:lnTo>
                    <a:pt x="726" y="350"/>
                  </a:lnTo>
                  <a:lnTo>
                    <a:pt x="702" y="382"/>
                  </a:lnTo>
                  <a:lnTo>
                    <a:pt x="678" y="418"/>
                  </a:lnTo>
                  <a:lnTo>
                    <a:pt x="656" y="440"/>
                  </a:lnTo>
                  <a:lnTo>
                    <a:pt x="614" y="462"/>
                  </a:lnTo>
                  <a:lnTo>
                    <a:pt x="520" y="498"/>
                  </a:lnTo>
                  <a:lnTo>
                    <a:pt x="474" y="524"/>
                  </a:lnTo>
                  <a:lnTo>
                    <a:pt x="456" y="538"/>
                  </a:lnTo>
                  <a:lnTo>
                    <a:pt x="450" y="548"/>
                  </a:lnTo>
                  <a:lnTo>
                    <a:pt x="436" y="578"/>
                  </a:lnTo>
                  <a:lnTo>
                    <a:pt x="436" y="608"/>
                  </a:lnTo>
                  <a:lnTo>
                    <a:pt x="426" y="616"/>
                  </a:lnTo>
                  <a:lnTo>
                    <a:pt x="420" y="616"/>
                  </a:lnTo>
                  <a:lnTo>
                    <a:pt x="410" y="606"/>
                  </a:lnTo>
                  <a:lnTo>
                    <a:pt x="404" y="606"/>
                  </a:lnTo>
                  <a:lnTo>
                    <a:pt x="404" y="610"/>
                  </a:lnTo>
                  <a:lnTo>
                    <a:pt x="370" y="672"/>
                  </a:lnTo>
                  <a:lnTo>
                    <a:pt x="366" y="718"/>
                  </a:lnTo>
                  <a:lnTo>
                    <a:pt x="366" y="784"/>
                  </a:lnTo>
                  <a:lnTo>
                    <a:pt x="362" y="806"/>
                  </a:lnTo>
                  <a:lnTo>
                    <a:pt x="356" y="812"/>
                  </a:lnTo>
                  <a:lnTo>
                    <a:pt x="334" y="824"/>
                  </a:lnTo>
                  <a:lnTo>
                    <a:pt x="316" y="846"/>
                  </a:lnTo>
                  <a:lnTo>
                    <a:pt x="288" y="862"/>
                  </a:lnTo>
                  <a:lnTo>
                    <a:pt x="266" y="858"/>
                  </a:lnTo>
                  <a:lnTo>
                    <a:pt x="254" y="836"/>
                  </a:lnTo>
                  <a:lnTo>
                    <a:pt x="248" y="814"/>
                  </a:lnTo>
                  <a:lnTo>
                    <a:pt x="232" y="788"/>
                  </a:lnTo>
                  <a:lnTo>
                    <a:pt x="216" y="786"/>
                  </a:lnTo>
                  <a:lnTo>
                    <a:pt x="190" y="788"/>
                  </a:lnTo>
                  <a:lnTo>
                    <a:pt x="182" y="774"/>
                  </a:lnTo>
                  <a:lnTo>
                    <a:pt x="170" y="766"/>
                  </a:lnTo>
                  <a:lnTo>
                    <a:pt x="146" y="764"/>
                  </a:lnTo>
                  <a:lnTo>
                    <a:pt x="126" y="780"/>
                  </a:lnTo>
                  <a:lnTo>
                    <a:pt x="112" y="784"/>
                  </a:lnTo>
                  <a:lnTo>
                    <a:pt x="108" y="778"/>
                  </a:lnTo>
                  <a:lnTo>
                    <a:pt x="104" y="732"/>
                  </a:lnTo>
                  <a:lnTo>
                    <a:pt x="96" y="718"/>
                  </a:lnTo>
                  <a:lnTo>
                    <a:pt x="94" y="710"/>
                  </a:lnTo>
                  <a:lnTo>
                    <a:pt x="104" y="694"/>
                  </a:lnTo>
                  <a:lnTo>
                    <a:pt x="130" y="686"/>
                  </a:lnTo>
                  <a:lnTo>
                    <a:pt x="142" y="668"/>
                  </a:lnTo>
                  <a:lnTo>
                    <a:pt x="138" y="642"/>
                  </a:lnTo>
                  <a:lnTo>
                    <a:pt x="134" y="636"/>
                  </a:lnTo>
                  <a:lnTo>
                    <a:pt x="126" y="604"/>
                  </a:lnTo>
                  <a:lnTo>
                    <a:pt x="124" y="604"/>
                  </a:lnTo>
                  <a:lnTo>
                    <a:pt x="124" y="594"/>
                  </a:lnTo>
                  <a:lnTo>
                    <a:pt x="104" y="620"/>
                  </a:lnTo>
                  <a:lnTo>
                    <a:pt x="76" y="644"/>
                  </a:lnTo>
                  <a:lnTo>
                    <a:pt x="38" y="692"/>
                  </a:lnTo>
                  <a:lnTo>
                    <a:pt x="4" y="742"/>
                  </a:lnTo>
                  <a:lnTo>
                    <a:pt x="0" y="756"/>
                  </a:lnTo>
                  <a:lnTo>
                    <a:pt x="0" y="790"/>
                  </a:lnTo>
                  <a:lnTo>
                    <a:pt x="6" y="836"/>
                  </a:lnTo>
                  <a:lnTo>
                    <a:pt x="8" y="844"/>
                  </a:lnTo>
                  <a:lnTo>
                    <a:pt x="24" y="870"/>
                  </a:lnTo>
                  <a:lnTo>
                    <a:pt x="30" y="912"/>
                  </a:lnTo>
                  <a:lnTo>
                    <a:pt x="54" y="940"/>
                  </a:lnTo>
                  <a:lnTo>
                    <a:pt x="66" y="960"/>
                  </a:lnTo>
                  <a:lnTo>
                    <a:pt x="66" y="968"/>
                  </a:lnTo>
                  <a:lnTo>
                    <a:pt x="62" y="990"/>
                  </a:lnTo>
                  <a:lnTo>
                    <a:pt x="36" y="1020"/>
                  </a:lnTo>
                  <a:lnTo>
                    <a:pt x="44" y="1036"/>
                  </a:lnTo>
                  <a:lnTo>
                    <a:pt x="86" y="1068"/>
                  </a:lnTo>
                  <a:lnTo>
                    <a:pt x="108" y="1090"/>
                  </a:lnTo>
                  <a:lnTo>
                    <a:pt x="144" y="1122"/>
                  </a:lnTo>
                  <a:lnTo>
                    <a:pt x="164" y="1138"/>
                  </a:lnTo>
                  <a:lnTo>
                    <a:pt x="206" y="1176"/>
                  </a:lnTo>
                  <a:lnTo>
                    <a:pt x="228" y="1214"/>
                  </a:lnTo>
                  <a:lnTo>
                    <a:pt x="234" y="1216"/>
                  </a:lnTo>
                  <a:lnTo>
                    <a:pt x="252" y="1240"/>
                  </a:lnTo>
                  <a:lnTo>
                    <a:pt x="280" y="1322"/>
                  </a:lnTo>
                  <a:lnTo>
                    <a:pt x="294" y="1354"/>
                  </a:lnTo>
                  <a:lnTo>
                    <a:pt x="380" y="1444"/>
                  </a:lnTo>
                  <a:lnTo>
                    <a:pt x="398" y="1492"/>
                  </a:lnTo>
                  <a:lnTo>
                    <a:pt x="404" y="1528"/>
                  </a:lnTo>
                  <a:lnTo>
                    <a:pt x="412" y="1546"/>
                  </a:lnTo>
                  <a:lnTo>
                    <a:pt x="450" y="1620"/>
                  </a:lnTo>
                  <a:lnTo>
                    <a:pt x="468" y="1666"/>
                  </a:lnTo>
                  <a:lnTo>
                    <a:pt x="500" y="1750"/>
                  </a:lnTo>
                  <a:lnTo>
                    <a:pt x="556" y="1842"/>
                  </a:lnTo>
                  <a:lnTo>
                    <a:pt x="562" y="1864"/>
                  </a:lnTo>
                  <a:lnTo>
                    <a:pt x="576" y="1934"/>
                  </a:lnTo>
                  <a:lnTo>
                    <a:pt x="596" y="1988"/>
                  </a:lnTo>
                  <a:lnTo>
                    <a:pt x="612" y="2002"/>
                  </a:lnTo>
                  <a:lnTo>
                    <a:pt x="630" y="2012"/>
                  </a:lnTo>
                  <a:lnTo>
                    <a:pt x="646" y="2032"/>
                  </a:lnTo>
                  <a:lnTo>
                    <a:pt x="672" y="2096"/>
                  </a:lnTo>
                  <a:lnTo>
                    <a:pt x="714" y="2152"/>
                  </a:lnTo>
                  <a:lnTo>
                    <a:pt x="744" y="2200"/>
                  </a:lnTo>
                  <a:lnTo>
                    <a:pt x="770" y="2256"/>
                  </a:lnTo>
                  <a:lnTo>
                    <a:pt x="808" y="2302"/>
                  </a:lnTo>
                  <a:lnTo>
                    <a:pt x="828" y="2352"/>
                  </a:lnTo>
                  <a:lnTo>
                    <a:pt x="836" y="2388"/>
                  </a:lnTo>
                  <a:lnTo>
                    <a:pt x="824" y="2402"/>
                  </a:lnTo>
                  <a:lnTo>
                    <a:pt x="818" y="2420"/>
                  </a:lnTo>
                  <a:lnTo>
                    <a:pt x="826" y="2458"/>
                  </a:lnTo>
                  <a:lnTo>
                    <a:pt x="834" y="2470"/>
                  </a:lnTo>
                  <a:lnTo>
                    <a:pt x="864" y="2502"/>
                  </a:lnTo>
                  <a:lnTo>
                    <a:pt x="890" y="2536"/>
                  </a:lnTo>
                  <a:lnTo>
                    <a:pt x="910" y="2554"/>
                  </a:lnTo>
                  <a:lnTo>
                    <a:pt x="966" y="2614"/>
                  </a:lnTo>
                  <a:lnTo>
                    <a:pt x="994" y="2636"/>
                  </a:lnTo>
                  <a:lnTo>
                    <a:pt x="1016" y="2658"/>
                  </a:lnTo>
                  <a:lnTo>
                    <a:pt x="1086" y="2706"/>
                  </a:lnTo>
                  <a:lnTo>
                    <a:pt x="1174" y="2754"/>
                  </a:lnTo>
                  <a:lnTo>
                    <a:pt x="1232" y="2804"/>
                  </a:lnTo>
                  <a:lnTo>
                    <a:pt x="1242" y="2806"/>
                  </a:lnTo>
                  <a:lnTo>
                    <a:pt x="1350" y="2854"/>
                  </a:lnTo>
                  <a:lnTo>
                    <a:pt x="1414" y="2894"/>
                  </a:lnTo>
                  <a:lnTo>
                    <a:pt x="1424" y="2898"/>
                  </a:lnTo>
                  <a:lnTo>
                    <a:pt x="1434" y="2896"/>
                  </a:lnTo>
                  <a:lnTo>
                    <a:pt x="1448" y="2900"/>
                  </a:lnTo>
                  <a:lnTo>
                    <a:pt x="1514" y="2952"/>
                  </a:lnTo>
                  <a:lnTo>
                    <a:pt x="1546" y="2972"/>
                  </a:lnTo>
                  <a:lnTo>
                    <a:pt x="1568" y="2998"/>
                  </a:lnTo>
                  <a:lnTo>
                    <a:pt x="1594" y="3020"/>
                  </a:lnTo>
                  <a:lnTo>
                    <a:pt x="1624" y="3050"/>
                  </a:lnTo>
                  <a:lnTo>
                    <a:pt x="1656" y="3094"/>
                  </a:lnTo>
                  <a:lnTo>
                    <a:pt x="1692" y="3112"/>
                  </a:lnTo>
                  <a:lnTo>
                    <a:pt x="1718" y="3130"/>
                  </a:lnTo>
                  <a:lnTo>
                    <a:pt x="1720" y="3128"/>
                  </a:lnTo>
                  <a:lnTo>
                    <a:pt x="1732" y="3140"/>
                  </a:lnTo>
                  <a:lnTo>
                    <a:pt x="1754" y="3114"/>
                  </a:lnTo>
                  <a:lnTo>
                    <a:pt x="1760" y="3112"/>
                  </a:lnTo>
                  <a:lnTo>
                    <a:pt x="1804" y="3110"/>
                  </a:lnTo>
                  <a:lnTo>
                    <a:pt x="1820" y="3102"/>
                  </a:lnTo>
                  <a:lnTo>
                    <a:pt x="1824" y="3096"/>
                  </a:lnTo>
                  <a:lnTo>
                    <a:pt x="1824" y="3072"/>
                  </a:lnTo>
                  <a:lnTo>
                    <a:pt x="1834" y="3040"/>
                  </a:lnTo>
                  <a:lnTo>
                    <a:pt x="1842" y="3028"/>
                  </a:lnTo>
                  <a:lnTo>
                    <a:pt x="1852" y="3024"/>
                  </a:lnTo>
                  <a:lnTo>
                    <a:pt x="1840" y="3006"/>
                  </a:lnTo>
                  <a:lnTo>
                    <a:pt x="1836" y="3004"/>
                  </a:lnTo>
                  <a:lnTo>
                    <a:pt x="1834" y="2986"/>
                  </a:lnTo>
                  <a:lnTo>
                    <a:pt x="1858" y="2926"/>
                  </a:lnTo>
                  <a:lnTo>
                    <a:pt x="1880" y="2892"/>
                  </a:lnTo>
                  <a:lnTo>
                    <a:pt x="1906" y="2840"/>
                  </a:lnTo>
                  <a:lnTo>
                    <a:pt x="1904" y="2810"/>
                  </a:lnTo>
                  <a:lnTo>
                    <a:pt x="1900" y="2800"/>
                  </a:lnTo>
                  <a:lnTo>
                    <a:pt x="1882" y="2782"/>
                  </a:lnTo>
                  <a:lnTo>
                    <a:pt x="1870" y="2778"/>
                  </a:lnTo>
                  <a:lnTo>
                    <a:pt x="1858" y="2762"/>
                  </a:lnTo>
                  <a:lnTo>
                    <a:pt x="1852" y="2758"/>
                  </a:lnTo>
                  <a:lnTo>
                    <a:pt x="1844" y="2740"/>
                  </a:lnTo>
                  <a:lnTo>
                    <a:pt x="1840" y="2712"/>
                  </a:lnTo>
                  <a:lnTo>
                    <a:pt x="1838" y="2672"/>
                  </a:lnTo>
                  <a:lnTo>
                    <a:pt x="1848" y="2642"/>
                  </a:lnTo>
                  <a:lnTo>
                    <a:pt x="1860" y="2632"/>
                  </a:lnTo>
                  <a:lnTo>
                    <a:pt x="1864" y="2612"/>
                  </a:lnTo>
                  <a:lnTo>
                    <a:pt x="1860" y="2596"/>
                  </a:lnTo>
                  <a:lnTo>
                    <a:pt x="1856" y="2578"/>
                  </a:lnTo>
                  <a:lnTo>
                    <a:pt x="1826" y="2542"/>
                  </a:lnTo>
                  <a:lnTo>
                    <a:pt x="1826" y="2530"/>
                  </a:lnTo>
                  <a:lnTo>
                    <a:pt x="1832" y="2512"/>
                  </a:lnTo>
                  <a:lnTo>
                    <a:pt x="1866" y="2492"/>
                  </a:lnTo>
                  <a:lnTo>
                    <a:pt x="1868" y="2484"/>
                  </a:lnTo>
                  <a:lnTo>
                    <a:pt x="1862" y="2428"/>
                  </a:lnTo>
                  <a:lnTo>
                    <a:pt x="1848" y="2372"/>
                  </a:lnTo>
                  <a:lnTo>
                    <a:pt x="1844" y="2338"/>
                  </a:lnTo>
                  <a:lnTo>
                    <a:pt x="1846" y="2282"/>
                  </a:lnTo>
                  <a:lnTo>
                    <a:pt x="1840" y="2206"/>
                  </a:lnTo>
                  <a:lnTo>
                    <a:pt x="1848" y="2172"/>
                  </a:lnTo>
                  <a:lnTo>
                    <a:pt x="1866" y="2144"/>
                  </a:lnTo>
                  <a:lnTo>
                    <a:pt x="1870" y="2138"/>
                  </a:lnTo>
                  <a:lnTo>
                    <a:pt x="1868" y="2130"/>
                  </a:lnTo>
                  <a:lnTo>
                    <a:pt x="1824" y="2058"/>
                  </a:lnTo>
                  <a:lnTo>
                    <a:pt x="1720" y="1874"/>
                  </a:lnTo>
                  <a:lnTo>
                    <a:pt x="1676" y="1880"/>
                  </a:lnTo>
                  <a:lnTo>
                    <a:pt x="1658" y="1890"/>
                  </a:lnTo>
                  <a:lnTo>
                    <a:pt x="1658" y="1892"/>
                  </a:lnTo>
                  <a:lnTo>
                    <a:pt x="1638" y="1898"/>
                  </a:lnTo>
                  <a:lnTo>
                    <a:pt x="1628" y="1898"/>
                  </a:lnTo>
                  <a:lnTo>
                    <a:pt x="1610" y="1888"/>
                  </a:lnTo>
                  <a:lnTo>
                    <a:pt x="1602" y="1876"/>
                  </a:lnTo>
                  <a:lnTo>
                    <a:pt x="1594" y="1784"/>
                  </a:lnTo>
                  <a:lnTo>
                    <a:pt x="1596" y="1774"/>
                  </a:lnTo>
                  <a:lnTo>
                    <a:pt x="1584" y="1602"/>
                  </a:lnTo>
                  <a:lnTo>
                    <a:pt x="1580" y="1594"/>
                  </a:lnTo>
                  <a:lnTo>
                    <a:pt x="1574" y="1600"/>
                  </a:lnTo>
                  <a:lnTo>
                    <a:pt x="1550" y="1628"/>
                  </a:lnTo>
                  <a:lnTo>
                    <a:pt x="1496" y="1682"/>
                  </a:lnTo>
                  <a:lnTo>
                    <a:pt x="1454" y="1710"/>
                  </a:lnTo>
                  <a:lnTo>
                    <a:pt x="1432" y="1716"/>
                  </a:lnTo>
                  <a:lnTo>
                    <a:pt x="1394" y="1714"/>
                  </a:lnTo>
                  <a:lnTo>
                    <a:pt x="1358" y="1700"/>
                  </a:lnTo>
                  <a:lnTo>
                    <a:pt x="1348" y="1690"/>
                  </a:lnTo>
                  <a:lnTo>
                    <a:pt x="1338" y="1654"/>
                  </a:lnTo>
                  <a:lnTo>
                    <a:pt x="1330" y="1638"/>
                  </a:lnTo>
                  <a:lnTo>
                    <a:pt x="1316" y="1630"/>
                  </a:lnTo>
                  <a:lnTo>
                    <a:pt x="1264" y="1626"/>
                  </a:lnTo>
                  <a:lnTo>
                    <a:pt x="1230" y="1616"/>
                  </a:lnTo>
                  <a:lnTo>
                    <a:pt x="1228" y="1602"/>
                  </a:lnTo>
                  <a:lnTo>
                    <a:pt x="1240" y="1570"/>
                  </a:lnTo>
                  <a:lnTo>
                    <a:pt x="1238" y="1544"/>
                  </a:lnTo>
                  <a:lnTo>
                    <a:pt x="1210" y="1526"/>
                  </a:lnTo>
                  <a:lnTo>
                    <a:pt x="1176" y="1482"/>
                  </a:lnTo>
                  <a:lnTo>
                    <a:pt x="1164" y="1458"/>
                  </a:lnTo>
                  <a:lnTo>
                    <a:pt x="1138" y="1424"/>
                  </a:lnTo>
                  <a:lnTo>
                    <a:pt x="1134" y="1416"/>
                  </a:lnTo>
                  <a:lnTo>
                    <a:pt x="1128" y="1376"/>
                  </a:lnTo>
                  <a:lnTo>
                    <a:pt x="1092" y="1302"/>
                  </a:lnTo>
                  <a:lnTo>
                    <a:pt x="1092" y="1290"/>
                  </a:lnTo>
                  <a:lnTo>
                    <a:pt x="1096" y="1278"/>
                  </a:lnTo>
                  <a:lnTo>
                    <a:pt x="1122" y="1208"/>
                  </a:lnTo>
                  <a:lnTo>
                    <a:pt x="1130" y="1152"/>
                  </a:lnTo>
                  <a:lnTo>
                    <a:pt x="1140" y="1138"/>
                  </a:lnTo>
                  <a:lnTo>
                    <a:pt x="1164" y="1130"/>
                  </a:lnTo>
                  <a:lnTo>
                    <a:pt x="1186" y="1126"/>
                  </a:lnTo>
                  <a:lnTo>
                    <a:pt x="1182" y="1030"/>
                  </a:lnTo>
                  <a:lnTo>
                    <a:pt x="1188" y="1012"/>
                  </a:lnTo>
                  <a:lnTo>
                    <a:pt x="1208" y="960"/>
                  </a:lnTo>
                  <a:lnTo>
                    <a:pt x="1228" y="922"/>
                  </a:lnTo>
                  <a:lnTo>
                    <a:pt x="1262" y="872"/>
                  </a:lnTo>
                  <a:lnTo>
                    <a:pt x="1288" y="842"/>
                  </a:lnTo>
                  <a:lnTo>
                    <a:pt x="1330" y="810"/>
                  </a:lnTo>
                  <a:lnTo>
                    <a:pt x="1378" y="784"/>
                  </a:lnTo>
                  <a:lnTo>
                    <a:pt x="1508" y="738"/>
                  </a:lnTo>
                  <a:lnTo>
                    <a:pt x="1542" y="720"/>
                  </a:lnTo>
                  <a:lnTo>
                    <a:pt x="1596" y="726"/>
                  </a:lnTo>
                  <a:lnTo>
                    <a:pt x="1612" y="714"/>
                  </a:lnTo>
                  <a:lnTo>
                    <a:pt x="1614" y="706"/>
                  </a:lnTo>
                  <a:lnTo>
                    <a:pt x="1596" y="704"/>
                  </a:lnTo>
                  <a:lnTo>
                    <a:pt x="1572" y="666"/>
                  </a:lnTo>
                  <a:lnTo>
                    <a:pt x="1560" y="654"/>
                  </a:lnTo>
                  <a:lnTo>
                    <a:pt x="1548" y="652"/>
                  </a:lnTo>
                  <a:lnTo>
                    <a:pt x="1538" y="654"/>
                  </a:lnTo>
                  <a:lnTo>
                    <a:pt x="1524" y="650"/>
                  </a:lnTo>
                  <a:lnTo>
                    <a:pt x="1522" y="646"/>
                  </a:lnTo>
                  <a:lnTo>
                    <a:pt x="1522" y="612"/>
                  </a:lnTo>
                  <a:lnTo>
                    <a:pt x="1540" y="578"/>
                  </a:lnTo>
                  <a:lnTo>
                    <a:pt x="1568" y="540"/>
                  </a:lnTo>
                  <a:lnTo>
                    <a:pt x="1584" y="514"/>
                  </a:lnTo>
                  <a:lnTo>
                    <a:pt x="1594" y="492"/>
                  </a:lnTo>
                  <a:lnTo>
                    <a:pt x="1592" y="474"/>
                  </a:lnTo>
                  <a:lnTo>
                    <a:pt x="1564" y="438"/>
                  </a:lnTo>
                  <a:lnTo>
                    <a:pt x="1522" y="406"/>
                  </a:lnTo>
                  <a:lnTo>
                    <a:pt x="1478" y="386"/>
                  </a:lnTo>
                  <a:lnTo>
                    <a:pt x="1460" y="382"/>
                  </a:lnTo>
                  <a:lnTo>
                    <a:pt x="1454" y="382"/>
                  </a:lnTo>
                  <a:lnTo>
                    <a:pt x="1434" y="400"/>
                  </a:lnTo>
                  <a:lnTo>
                    <a:pt x="1410" y="406"/>
                  </a:lnTo>
                  <a:lnTo>
                    <a:pt x="1390" y="400"/>
                  </a:lnTo>
                  <a:lnTo>
                    <a:pt x="1376" y="386"/>
                  </a:lnTo>
                  <a:lnTo>
                    <a:pt x="1356" y="382"/>
                  </a:lnTo>
                  <a:lnTo>
                    <a:pt x="1334" y="382"/>
                  </a:lnTo>
                  <a:lnTo>
                    <a:pt x="1324" y="386"/>
                  </a:lnTo>
                  <a:lnTo>
                    <a:pt x="1316" y="398"/>
                  </a:lnTo>
                  <a:lnTo>
                    <a:pt x="1306" y="404"/>
                  </a:lnTo>
                  <a:lnTo>
                    <a:pt x="1300" y="416"/>
                  </a:lnTo>
                  <a:lnTo>
                    <a:pt x="1290" y="422"/>
                  </a:lnTo>
                  <a:lnTo>
                    <a:pt x="1272" y="424"/>
                  </a:lnTo>
                  <a:lnTo>
                    <a:pt x="1262" y="424"/>
                  </a:lnTo>
                  <a:lnTo>
                    <a:pt x="1240" y="414"/>
                  </a:lnTo>
                  <a:lnTo>
                    <a:pt x="1202" y="410"/>
                  </a:lnTo>
                  <a:lnTo>
                    <a:pt x="1190" y="416"/>
                  </a:lnTo>
                  <a:lnTo>
                    <a:pt x="1166" y="410"/>
                  </a:lnTo>
                  <a:lnTo>
                    <a:pt x="1152" y="396"/>
                  </a:lnTo>
                  <a:lnTo>
                    <a:pt x="1142" y="378"/>
                  </a:lnTo>
                  <a:lnTo>
                    <a:pt x="1142" y="310"/>
                  </a:lnTo>
                  <a:lnTo>
                    <a:pt x="1128" y="302"/>
                  </a:lnTo>
                  <a:lnTo>
                    <a:pt x="1106" y="302"/>
                  </a:lnTo>
                  <a:lnTo>
                    <a:pt x="1096" y="296"/>
                  </a:lnTo>
                  <a:lnTo>
                    <a:pt x="1092" y="286"/>
                  </a:lnTo>
                  <a:lnTo>
                    <a:pt x="1084" y="258"/>
                  </a:lnTo>
                  <a:lnTo>
                    <a:pt x="1080" y="218"/>
                  </a:lnTo>
                  <a:lnTo>
                    <a:pt x="1068" y="198"/>
                  </a:lnTo>
                  <a:lnTo>
                    <a:pt x="1054" y="186"/>
                  </a:lnTo>
                  <a:lnTo>
                    <a:pt x="1040" y="182"/>
                  </a:lnTo>
                  <a:lnTo>
                    <a:pt x="1028" y="182"/>
                  </a:lnTo>
                  <a:lnTo>
                    <a:pt x="1012" y="174"/>
                  </a:lnTo>
                  <a:lnTo>
                    <a:pt x="1004" y="160"/>
                  </a:lnTo>
                  <a:lnTo>
                    <a:pt x="990" y="148"/>
                  </a:lnTo>
                  <a:lnTo>
                    <a:pt x="976" y="120"/>
                  </a:lnTo>
                  <a:lnTo>
                    <a:pt x="964" y="78"/>
                  </a:lnTo>
                  <a:lnTo>
                    <a:pt x="938" y="64"/>
                  </a:lnTo>
                  <a:lnTo>
                    <a:pt x="926" y="52"/>
                  </a:lnTo>
                  <a:lnTo>
                    <a:pt x="914" y="26"/>
                  </a:lnTo>
                  <a:lnTo>
                    <a:pt x="900" y="16"/>
                  </a:lnTo>
                  <a:lnTo>
                    <a:pt x="876" y="12"/>
                  </a:lnTo>
                  <a:lnTo>
                    <a:pt x="850" y="0"/>
                  </a:lnTo>
                  <a:lnTo>
                    <a:pt x="84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80560" y="5384880"/>
              <a:ext cx="370080" cy="893880"/>
            </a:xfrm>
            <a:custGeom>
              <a:avLst/>
              <a:gdLst/>
              <a:ahLst/>
              <a:rect l="l" t="t" r="r" b="b"/>
              <a:pathLst>
                <a:path w="2128" h="5226">
                  <a:moveTo>
                    <a:pt x="1434" y="5226"/>
                  </a:moveTo>
                  <a:lnTo>
                    <a:pt x="1424" y="5226"/>
                  </a:lnTo>
                  <a:lnTo>
                    <a:pt x="1386" y="5212"/>
                  </a:lnTo>
                  <a:lnTo>
                    <a:pt x="1314" y="5204"/>
                  </a:lnTo>
                  <a:lnTo>
                    <a:pt x="1254" y="5192"/>
                  </a:lnTo>
                  <a:lnTo>
                    <a:pt x="1230" y="5192"/>
                  </a:lnTo>
                  <a:lnTo>
                    <a:pt x="1196" y="5200"/>
                  </a:lnTo>
                  <a:lnTo>
                    <a:pt x="1154" y="5202"/>
                  </a:lnTo>
                  <a:lnTo>
                    <a:pt x="1144" y="5204"/>
                  </a:lnTo>
                  <a:lnTo>
                    <a:pt x="1132" y="5200"/>
                  </a:lnTo>
                  <a:lnTo>
                    <a:pt x="1016" y="5206"/>
                  </a:lnTo>
                  <a:lnTo>
                    <a:pt x="980" y="5196"/>
                  </a:lnTo>
                  <a:lnTo>
                    <a:pt x="968" y="5188"/>
                  </a:lnTo>
                  <a:lnTo>
                    <a:pt x="944" y="5164"/>
                  </a:lnTo>
                  <a:lnTo>
                    <a:pt x="938" y="5154"/>
                  </a:lnTo>
                  <a:lnTo>
                    <a:pt x="890" y="5044"/>
                  </a:lnTo>
                  <a:lnTo>
                    <a:pt x="876" y="5014"/>
                  </a:lnTo>
                  <a:lnTo>
                    <a:pt x="856" y="4980"/>
                  </a:lnTo>
                  <a:lnTo>
                    <a:pt x="850" y="4974"/>
                  </a:lnTo>
                  <a:lnTo>
                    <a:pt x="838" y="4972"/>
                  </a:lnTo>
                  <a:lnTo>
                    <a:pt x="836" y="4972"/>
                  </a:lnTo>
                  <a:lnTo>
                    <a:pt x="832" y="4984"/>
                  </a:lnTo>
                  <a:lnTo>
                    <a:pt x="788" y="4980"/>
                  </a:lnTo>
                  <a:lnTo>
                    <a:pt x="774" y="4990"/>
                  </a:lnTo>
                  <a:lnTo>
                    <a:pt x="774" y="5004"/>
                  </a:lnTo>
                  <a:lnTo>
                    <a:pt x="768" y="5012"/>
                  </a:lnTo>
                  <a:lnTo>
                    <a:pt x="760" y="5010"/>
                  </a:lnTo>
                  <a:lnTo>
                    <a:pt x="748" y="4996"/>
                  </a:lnTo>
                  <a:lnTo>
                    <a:pt x="732" y="4968"/>
                  </a:lnTo>
                  <a:lnTo>
                    <a:pt x="726" y="4964"/>
                  </a:lnTo>
                  <a:lnTo>
                    <a:pt x="700" y="4902"/>
                  </a:lnTo>
                  <a:lnTo>
                    <a:pt x="694" y="4884"/>
                  </a:lnTo>
                  <a:lnTo>
                    <a:pt x="684" y="4858"/>
                  </a:lnTo>
                  <a:lnTo>
                    <a:pt x="674" y="4794"/>
                  </a:lnTo>
                  <a:lnTo>
                    <a:pt x="676" y="4772"/>
                  </a:lnTo>
                  <a:lnTo>
                    <a:pt x="682" y="4764"/>
                  </a:lnTo>
                  <a:lnTo>
                    <a:pt x="688" y="4706"/>
                  </a:lnTo>
                  <a:lnTo>
                    <a:pt x="700" y="4678"/>
                  </a:lnTo>
                  <a:lnTo>
                    <a:pt x="702" y="4668"/>
                  </a:lnTo>
                  <a:lnTo>
                    <a:pt x="698" y="4640"/>
                  </a:lnTo>
                  <a:lnTo>
                    <a:pt x="688" y="4598"/>
                  </a:lnTo>
                  <a:lnTo>
                    <a:pt x="686" y="4588"/>
                  </a:lnTo>
                  <a:lnTo>
                    <a:pt x="692" y="4584"/>
                  </a:lnTo>
                  <a:lnTo>
                    <a:pt x="686" y="4566"/>
                  </a:lnTo>
                  <a:lnTo>
                    <a:pt x="672" y="4542"/>
                  </a:lnTo>
                  <a:lnTo>
                    <a:pt x="662" y="4532"/>
                  </a:lnTo>
                  <a:lnTo>
                    <a:pt x="654" y="4512"/>
                  </a:lnTo>
                  <a:lnTo>
                    <a:pt x="652" y="4512"/>
                  </a:lnTo>
                  <a:lnTo>
                    <a:pt x="642" y="4480"/>
                  </a:lnTo>
                  <a:lnTo>
                    <a:pt x="640" y="4470"/>
                  </a:lnTo>
                  <a:lnTo>
                    <a:pt x="640" y="4454"/>
                  </a:lnTo>
                  <a:lnTo>
                    <a:pt x="658" y="4416"/>
                  </a:lnTo>
                  <a:lnTo>
                    <a:pt x="662" y="4376"/>
                  </a:lnTo>
                  <a:lnTo>
                    <a:pt x="658" y="4356"/>
                  </a:lnTo>
                  <a:lnTo>
                    <a:pt x="662" y="4324"/>
                  </a:lnTo>
                  <a:lnTo>
                    <a:pt x="660" y="4290"/>
                  </a:lnTo>
                  <a:lnTo>
                    <a:pt x="634" y="4210"/>
                  </a:lnTo>
                  <a:lnTo>
                    <a:pt x="624" y="4196"/>
                  </a:lnTo>
                  <a:lnTo>
                    <a:pt x="614" y="4168"/>
                  </a:lnTo>
                  <a:lnTo>
                    <a:pt x="612" y="4158"/>
                  </a:lnTo>
                  <a:lnTo>
                    <a:pt x="592" y="4098"/>
                  </a:lnTo>
                  <a:lnTo>
                    <a:pt x="588" y="4078"/>
                  </a:lnTo>
                  <a:lnTo>
                    <a:pt x="592" y="4066"/>
                  </a:lnTo>
                  <a:lnTo>
                    <a:pt x="600" y="4056"/>
                  </a:lnTo>
                  <a:lnTo>
                    <a:pt x="590" y="4034"/>
                  </a:lnTo>
                  <a:lnTo>
                    <a:pt x="558" y="4008"/>
                  </a:lnTo>
                  <a:lnTo>
                    <a:pt x="524" y="3998"/>
                  </a:lnTo>
                  <a:lnTo>
                    <a:pt x="508" y="3974"/>
                  </a:lnTo>
                  <a:lnTo>
                    <a:pt x="514" y="3970"/>
                  </a:lnTo>
                  <a:lnTo>
                    <a:pt x="550" y="3972"/>
                  </a:lnTo>
                  <a:lnTo>
                    <a:pt x="580" y="3970"/>
                  </a:lnTo>
                  <a:lnTo>
                    <a:pt x="578" y="3950"/>
                  </a:lnTo>
                  <a:lnTo>
                    <a:pt x="570" y="3930"/>
                  </a:lnTo>
                  <a:lnTo>
                    <a:pt x="546" y="3914"/>
                  </a:lnTo>
                  <a:lnTo>
                    <a:pt x="510" y="3904"/>
                  </a:lnTo>
                  <a:lnTo>
                    <a:pt x="494" y="3906"/>
                  </a:lnTo>
                  <a:lnTo>
                    <a:pt x="488" y="3894"/>
                  </a:lnTo>
                  <a:lnTo>
                    <a:pt x="474" y="3826"/>
                  </a:lnTo>
                  <a:lnTo>
                    <a:pt x="458" y="3794"/>
                  </a:lnTo>
                  <a:lnTo>
                    <a:pt x="436" y="3772"/>
                  </a:lnTo>
                  <a:lnTo>
                    <a:pt x="430" y="3760"/>
                  </a:lnTo>
                  <a:lnTo>
                    <a:pt x="410" y="3698"/>
                  </a:lnTo>
                  <a:lnTo>
                    <a:pt x="406" y="3690"/>
                  </a:lnTo>
                  <a:lnTo>
                    <a:pt x="394" y="3682"/>
                  </a:lnTo>
                  <a:lnTo>
                    <a:pt x="384" y="3670"/>
                  </a:lnTo>
                  <a:lnTo>
                    <a:pt x="354" y="3588"/>
                  </a:lnTo>
                  <a:lnTo>
                    <a:pt x="352" y="3538"/>
                  </a:lnTo>
                  <a:lnTo>
                    <a:pt x="364" y="3506"/>
                  </a:lnTo>
                  <a:lnTo>
                    <a:pt x="366" y="3486"/>
                  </a:lnTo>
                  <a:lnTo>
                    <a:pt x="364" y="3476"/>
                  </a:lnTo>
                  <a:lnTo>
                    <a:pt x="354" y="3448"/>
                  </a:lnTo>
                  <a:lnTo>
                    <a:pt x="348" y="3438"/>
                  </a:lnTo>
                  <a:lnTo>
                    <a:pt x="322" y="3420"/>
                  </a:lnTo>
                  <a:lnTo>
                    <a:pt x="302" y="3384"/>
                  </a:lnTo>
                  <a:lnTo>
                    <a:pt x="284" y="3316"/>
                  </a:lnTo>
                  <a:lnTo>
                    <a:pt x="274" y="3218"/>
                  </a:lnTo>
                  <a:lnTo>
                    <a:pt x="260" y="3180"/>
                  </a:lnTo>
                  <a:lnTo>
                    <a:pt x="258" y="3168"/>
                  </a:lnTo>
                  <a:lnTo>
                    <a:pt x="250" y="3018"/>
                  </a:lnTo>
                  <a:lnTo>
                    <a:pt x="246" y="2982"/>
                  </a:lnTo>
                  <a:lnTo>
                    <a:pt x="248" y="2968"/>
                  </a:lnTo>
                  <a:lnTo>
                    <a:pt x="254" y="2954"/>
                  </a:lnTo>
                  <a:lnTo>
                    <a:pt x="268" y="2934"/>
                  </a:lnTo>
                  <a:lnTo>
                    <a:pt x="268" y="2910"/>
                  </a:lnTo>
                  <a:lnTo>
                    <a:pt x="260" y="2880"/>
                  </a:lnTo>
                  <a:lnTo>
                    <a:pt x="242" y="2850"/>
                  </a:lnTo>
                  <a:lnTo>
                    <a:pt x="210" y="2782"/>
                  </a:lnTo>
                  <a:lnTo>
                    <a:pt x="184" y="2690"/>
                  </a:lnTo>
                  <a:lnTo>
                    <a:pt x="166" y="2592"/>
                  </a:lnTo>
                  <a:lnTo>
                    <a:pt x="164" y="2556"/>
                  </a:lnTo>
                  <a:lnTo>
                    <a:pt x="174" y="2536"/>
                  </a:lnTo>
                  <a:lnTo>
                    <a:pt x="182" y="2530"/>
                  </a:lnTo>
                  <a:lnTo>
                    <a:pt x="196" y="2528"/>
                  </a:lnTo>
                  <a:lnTo>
                    <a:pt x="198" y="2520"/>
                  </a:lnTo>
                  <a:lnTo>
                    <a:pt x="198" y="2502"/>
                  </a:lnTo>
                  <a:lnTo>
                    <a:pt x="200" y="2494"/>
                  </a:lnTo>
                  <a:lnTo>
                    <a:pt x="214" y="2484"/>
                  </a:lnTo>
                  <a:lnTo>
                    <a:pt x="218" y="2478"/>
                  </a:lnTo>
                  <a:lnTo>
                    <a:pt x="214" y="2458"/>
                  </a:lnTo>
                  <a:lnTo>
                    <a:pt x="194" y="2416"/>
                  </a:lnTo>
                  <a:lnTo>
                    <a:pt x="172" y="2338"/>
                  </a:lnTo>
                  <a:lnTo>
                    <a:pt x="190" y="2314"/>
                  </a:lnTo>
                  <a:lnTo>
                    <a:pt x="192" y="2308"/>
                  </a:lnTo>
                  <a:lnTo>
                    <a:pt x="184" y="2246"/>
                  </a:lnTo>
                  <a:lnTo>
                    <a:pt x="184" y="2226"/>
                  </a:lnTo>
                  <a:lnTo>
                    <a:pt x="190" y="2196"/>
                  </a:lnTo>
                  <a:lnTo>
                    <a:pt x="206" y="2144"/>
                  </a:lnTo>
                  <a:lnTo>
                    <a:pt x="196" y="2102"/>
                  </a:lnTo>
                  <a:lnTo>
                    <a:pt x="182" y="2056"/>
                  </a:lnTo>
                  <a:lnTo>
                    <a:pt x="162" y="2006"/>
                  </a:lnTo>
                  <a:lnTo>
                    <a:pt x="152" y="1994"/>
                  </a:lnTo>
                  <a:lnTo>
                    <a:pt x="130" y="1972"/>
                  </a:lnTo>
                  <a:lnTo>
                    <a:pt x="124" y="1942"/>
                  </a:lnTo>
                  <a:lnTo>
                    <a:pt x="116" y="1914"/>
                  </a:lnTo>
                  <a:lnTo>
                    <a:pt x="62" y="1830"/>
                  </a:lnTo>
                  <a:lnTo>
                    <a:pt x="42" y="1750"/>
                  </a:lnTo>
                  <a:lnTo>
                    <a:pt x="14" y="1726"/>
                  </a:lnTo>
                  <a:lnTo>
                    <a:pt x="6" y="1690"/>
                  </a:lnTo>
                  <a:lnTo>
                    <a:pt x="0" y="1650"/>
                  </a:lnTo>
                  <a:lnTo>
                    <a:pt x="2" y="1618"/>
                  </a:lnTo>
                  <a:lnTo>
                    <a:pt x="6" y="1610"/>
                  </a:lnTo>
                  <a:lnTo>
                    <a:pt x="14" y="1572"/>
                  </a:lnTo>
                  <a:lnTo>
                    <a:pt x="14" y="1532"/>
                  </a:lnTo>
                  <a:lnTo>
                    <a:pt x="24" y="1514"/>
                  </a:lnTo>
                  <a:lnTo>
                    <a:pt x="24" y="1498"/>
                  </a:lnTo>
                  <a:lnTo>
                    <a:pt x="22" y="1486"/>
                  </a:lnTo>
                  <a:lnTo>
                    <a:pt x="30" y="1476"/>
                  </a:lnTo>
                  <a:lnTo>
                    <a:pt x="30" y="1438"/>
                  </a:lnTo>
                  <a:lnTo>
                    <a:pt x="26" y="1412"/>
                  </a:lnTo>
                  <a:lnTo>
                    <a:pt x="16" y="1384"/>
                  </a:lnTo>
                  <a:lnTo>
                    <a:pt x="4" y="1318"/>
                  </a:lnTo>
                  <a:lnTo>
                    <a:pt x="4" y="1294"/>
                  </a:lnTo>
                  <a:lnTo>
                    <a:pt x="12" y="1258"/>
                  </a:lnTo>
                  <a:lnTo>
                    <a:pt x="12" y="1238"/>
                  </a:lnTo>
                  <a:lnTo>
                    <a:pt x="8" y="1178"/>
                  </a:lnTo>
                  <a:lnTo>
                    <a:pt x="10" y="1106"/>
                  </a:lnTo>
                  <a:lnTo>
                    <a:pt x="56" y="1026"/>
                  </a:lnTo>
                  <a:lnTo>
                    <a:pt x="60" y="956"/>
                  </a:lnTo>
                  <a:lnTo>
                    <a:pt x="64" y="946"/>
                  </a:lnTo>
                  <a:lnTo>
                    <a:pt x="94" y="906"/>
                  </a:lnTo>
                  <a:lnTo>
                    <a:pt x="116" y="896"/>
                  </a:lnTo>
                  <a:lnTo>
                    <a:pt x="128" y="886"/>
                  </a:lnTo>
                  <a:lnTo>
                    <a:pt x="128" y="876"/>
                  </a:lnTo>
                  <a:lnTo>
                    <a:pt x="116" y="836"/>
                  </a:lnTo>
                  <a:lnTo>
                    <a:pt x="98" y="796"/>
                  </a:lnTo>
                  <a:lnTo>
                    <a:pt x="84" y="764"/>
                  </a:lnTo>
                  <a:lnTo>
                    <a:pt x="70" y="690"/>
                  </a:lnTo>
                  <a:lnTo>
                    <a:pt x="52" y="648"/>
                  </a:lnTo>
                  <a:lnTo>
                    <a:pt x="44" y="602"/>
                  </a:lnTo>
                  <a:lnTo>
                    <a:pt x="44" y="596"/>
                  </a:lnTo>
                  <a:lnTo>
                    <a:pt x="56" y="574"/>
                  </a:lnTo>
                  <a:lnTo>
                    <a:pt x="50" y="546"/>
                  </a:lnTo>
                  <a:lnTo>
                    <a:pt x="40" y="518"/>
                  </a:lnTo>
                  <a:lnTo>
                    <a:pt x="36" y="496"/>
                  </a:lnTo>
                  <a:lnTo>
                    <a:pt x="36" y="476"/>
                  </a:lnTo>
                  <a:lnTo>
                    <a:pt x="144" y="410"/>
                  </a:lnTo>
                  <a:lnTo>
                    <a:pt x="186" y="388"/>
                  </a:lnTo>
                  <a:lnTo>
                    <a:pt x="186" y="252"/>
                  </a:lnTo>
                  <a:lnTo>
                    <a:pt x="180" y="214"/>
                  </a:lnTo>
                  <a:lnTo>
                    <a:pt x="166" y="200"/>
                  </a:lnTo>
                  <a:lnTo>
                    <a:pt x="166" y="196"/>
                  </a:lnTo>
                  <a:lnTo>
                    <a:pt x="162" y="194"/>
                  </a:lnTo>
                  <a:lnTo>
                    <a:pt x="160" y="188"/>
                  </a:lnTo>
                  <a:lnTo>
                    <a:pt x="166" y="184"/>
                  </a:lnTo>
                  <a:lnTo>
                    <a:pt x="178" y="172"/>
                  </a:lnTo>
                  <a:lnTo>
                    <a:pt x="188" y="144"/>
                  </a:lnTo>
                  <a:lnTo>
                    <a:pt x="188" y="130"/>
                  </a:lnTo>
                  <a:lnTo>
                    <a:pt x="200" y="108"/>
                  </a:lnTo>
                  <a:lnTo>
                    <a:pt x="216" y="84"/>
                  </a:lnTo>
                  <a:lnTo>
                    <a:pt x="242" y="54"/>
                  </a:lnTo>
                  <a:lnTo>
                    <a:pt x="268" y="6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302" y="18"/>
                  </a:lnTo>
                  <a:lnTo>
                    <a:pt x="328" y="54"/>
                  </a:lnTo>
                  <a:lnTo>
                    <a:pt x="394" y="52"/>
                  </a:lnTo>
                  <a:lnTo>
                    <a:pt x="418" y="58"/>
                  </a:lnTo>
                  <a:lnTo>
                    <a:pt x="430" y="58"/>
                  </a:lnTo>
                  <a:lnTo>
                    <a:pt x="484" y="72"/>
                  </a:lnTo>
                  <a:lnTo>
                    <a:pt x="494" y="82"/>
                  </a:lnTo>
                  <a:lnTo>
                    <a:pt x="508" y="100"/>
                  </a:lnTo>
                  <a:lnTo>
                    <a:pt x="514" y="104"/>
                  </a:lnTo>
                  <a:lnTo>
                    <a:pt x="520" y="114"/>
                  </a:lnTo>
                  <a:lnTo>
                    <a:pt x="552" y="146"/>
                  </a:lnTo>
                  <a:lnTo>
                    <a:pt x="558" y="146"/>
                  </a:lnTo>
                  <a:lnTo>
                    <a:pt x="558" y="126"/>
                  </a:lnTo>
                  <a:lnTo>
                    <a:pt x="564" y="96"/>
                  </a:lnTo>
                  <a:lnTo>
                    <a:pt x="564" y="40"/>
                  </a:lnTo>
                  <a:lnTo>
                    <a:pt x="568" y="32"/>
                  </a:lnTo>
                  <a:lnTo>
                    <a:pt x="590" y="32"/>
                  </a:lnTo>
                  <a:lnTo>
                    <a:pt x="638" y="36"/>
                  </a:lnTo>
                  <a:lnTo>
                    <a:pt x="682" y="36"/>
                  </a:lnTo>
                  <a:lnTo>
                    <a:pt x="704" y="40"/>
                  </a:lnTo>
                  <a:lnTo>
                    <a:pt x="712" y="42"/>
                  </a:lnTo>
                  <a:lnTo>
                    <a:pt x="730" y="54"/>
                  </a:lnTo>
                  <a:lnTo>
                    <a:pt x="748" y="72"/>
                  </a:lnTo>
                  <a:lnTo>
                    <a:pt x="770" y="78"/>
                  </a:lnTo>
                  <a:lnTo>
                    <a:pt x="812" y="92"/>
                  </a:lnTo>
                  <a:lnTo>
                    <a:pt x="828" y="108"/>
                  </a:lnTo>
                  <a:lnTo>
                    <a:pt x="864" y="168"/>
                  </a:lnTo>
                  <a:lnTo>
                    <a:pt x="906" y="204"/>
                  </a:lnTo>
                  <a:lnTo>
                    <a:pt x="916" y="220"/>
                  </a:lnTo>
                  <a:lnTo>
                    <a:pt x="984" y="270"/>
                  </a:lnTo>
                  <a:lnTo>
                    <a:pt x="1016" y="290"/>
                  </a:lnTo>
                  <a:lnTo>
                    <a:pt x="1028" y="300"/>
                  </a:lnTo>
                  <a:lnTo>
                    <a:pt x="1064" y="350"/>
                  </a:lnTo>
                  <a:lnTo>
                    <a:pt x="1068" y="356"/>
                  </a:lnTo>
                  <a:lnTo>
                    <a:pt x="1082" y="364"/>
                  </a:lnTo>
                  <a:lnTo>
                    <a:pt x="1112" y="376"/>
                  </a:lnTo>
                  <a:lnTo>
                    <a:pt x="1134" y="380"/>
                  </a:lnTo>
                  <a:lnTo>
                    <a:pt x="1204" y="382"/>
                  </a:lnTo>
                  <a:lnTo>
                    <a:pt x="1236" y="392"/>
                  </a:lnTo>
                  <a:lnTo>
                    <a:pt x="1254" y="400"/>
                  </a:lnTo>
                  <a:lnTo>
                    <a:pt x="1326" y="452"/>
                  </a:lnTo>
                  <a:lnTo>
                    <a:pt x="1368" y="470"/>
                  </a:lnTo>
                  <a:lnTo>
                    <a:pt x="1410" y="494"/>
                  </a:lnTo>
                  <a:lnTo>
                    <a:pt x="1438" y="524"/>
                  </a:lnTo>
                  <a:lnTo>
                    <a:pt x="1474" y="536"/>
                  </a:lnTo>
                  <a:lnTo>
                    <a:pt x="1496" y="552"/>
                  </a:lnTo>
                  <a:lnTo>
                    <a:pt x="1514" y="576"/>
                  </a:lnTo>
                  <a:lnTo>
                    <a:pt x="1522" y="580"/>
                  </a:lnTo>
                  <a:lnTo>
                    <a:pt x="1530" y="592"/>
                  </a:lnTo>
                  <a:lnTo>
                    <a:pt x="1538" y="618"/>
                  </a:lnTo>
                  <a:lnTo>
                    <a:pt x="1542" y="646"/>
                  </a:lnTo>
                  <a:lnTo>
                    <a:pt x="1528" y="686"/>
                  </a:lnTo>
                  <a:lnTo>
                    <a:pt x="1500" y="748"/>
                  </a:lnTo>
                  <a:lnTo>
                    <a:pt x="1484" y="816"/>
                  </a:lnTo>
                  <a:lnTo>
                    <a:pt x="1482" y="840"/>
                  </a:lnTo>
                  <a:lnTo>
                    <a:pt x="1482" y="864"/>
                  </a:lnTo>
                  <a:lnTo>
                    <a:pt x="1484" y="884"/>
                  </a:lnTo>
                  <a:lnTo>
                    <a:pt x="1490" y="892"/>
                  </a:lnTo>
                  <a:lnTo>
                    <a:pt x="1544" y="890"/>
                  </a:lnTo>
                  <a:lnTo>
                    <a:pt x="1628" y="902"/>
                  </a:lnTo>
                  <a:lnTo>
                    <a:pt x="1644" y="910"/>
                  </a:lnTo>
                  <a:lnTo>
                    <a:pt x="1690" y="938"/>
                  </a:lnTo>
                  <a:lnTo>
                    <a:pt x="1718" y="946"/>
                  </a:lnTo>
                  <a:lnTo>
                    <a:pt x="1740" y="944"/>
                  </a:lnTo>
                  <a:lnTo>
                    <a:pt x="1756" y="946"/>
                  </a:lnTo>
                  <a:lnTo>
                    <a:pt x="1772" y="946"/>
                  </a:lnTo>
                  <a:lnTo>
                    <a:pt x="1788" y="940"/>
                  </a:lnTo>
                  <a:lnTo>
                    <a:pt x="1796" y="928"/>
                  </a:lnTo>
                  <a:lnTo>
                    <a:pt x="1814" y="918"/>
                  </a:lnTo>
                  <a:lnTo>
                    <a:pt x="1850" y="920"/>
                  </a:lnTo>
                  <a:lnTo>
                    <a:pt x="1870" y="914"/>
                  </a:lnTo>
                  <a:lnTo>
                    <a:pt x="1874" y="910"/>
                  </a:lnTo>
                  <a:lnTo>
                    <a:pt x="1878" y="898"/>
                  </a:lnTo>
                  <a:lnTo>
                    <a:pt x="1908" y="868"/>
                  </a:lnTo>
                  <a:lnTo>
                    <a:pt x="1918" y="862"/>
                  </a:lnTo>
                  <a:lnTo>
                    <a:pt x="1922" y="854"/>
                  </a:lnTo>
                  <a:lnTo>
                    <a:pt x="1952" y="822"/>
                  </a:lnTo>
                  <a:lnTo>
                    <a:pt x="1968" y="794"/>
                  </a:lnTo>
                  <a:lnTo>
                    <a:pt x="1980" y="768"/>
                  </a:lnTo>
                  <a:lnTo>
                    <a:pt x="1984" y="742"/>
                  </a:lnTo>
                  <a:lnTo>
                    <a:pt x="1986" y="698"/>
                  </a:lnTo>
                  <a:lnTo>
                    <a:pt x="1982" y="614"/>
                  </a:lnTo>
                  <a:lnTo>
                    <a:pt x="2002" y="610"/>
                  </a:lnTo>
                  <a:lnTo>
                    <a:pt x="2010" y="606"/>
                  </a:lnTo>
                  <a:lnTo>
                    <a:pt x="2050" y="606"/>
                  </a:lnTo>
                  <a:lnTo>
                    <a:pt x="2068" y="626"/>
                  </a:lnTo>
                  <a:lnTo>
                    <a:pt x="2116" y="738"/>
                  </a:lnTo>
                  <a:lnTo>
                    <a:pt x="2128" y="826"/>
                  </a:lnTo>
                  <a:lnTo>
                    <a:pt x="2128" y="856"/>
                  </a:lnTo>
                  <a:lnTo>
                    <a:pt x="2124" y="870"/>
                  </a:lnTo>
                  <a:lnTo>
                    <a:pt x="2120" y="878"/>
                  </a:lnTo>
                  <a:lnTo>
                    <a:pt x="2070" y="924"/>
                  </a:lnTo>
                  <a:lnTo>
                    <a:pt x="2050" y="932"/>
                  </a:lnTo>
                  <a:lnTo>
                    <a:pt x="2022" y="936"/>
                  </a:lnTo>
                  <a:lnTo>
                    <a:pt x="2004" y="946"/>
                  </a:lnTo>
                  <a:lnTo>
                    <a:pt x="1988" y="980"/>
                  </a:lnTo>
                  <a:lnTo>
                    <a:pt x="1970" y="1008"/>
                  </a:lnTo>
                  <a:lnTo>
                    <a:pt x="1876" y="1114"/>
                  </a:lnTo>
                  <a:lnTo>
                    <a:pt x="1876" y="1126"/>
                  </a:lnTo>
                  <a:lnTo>
                    <a:pt x="1866" y="1146"/>
                  </a:lnTo>
                  <a:lnTo>
                    <a:pt x="1830" y="1216"/>
                  </a:lnTo>
                  <a:lnTo>
                    <a:pt x="1828" y="1232"/>
                  </a:lnTo>
                  <a:lnTo>
                    <a:pt x="1792" y="1290"/>
                  </a:lnTo>
                  <a:lnTo>
                    <a:pt x="1762" y="1322"/>
                  </a:lnTo>
                  <a:lnTo>
                    <a:pt x="1748" y="1350"/>
                  </a:lnTo>
                  <a:lnTo>
                    <a:pt x="1730" y="1366"/>
                  </a:lnTo>
                  <a:lnTo>
                    <a:pt x="1726" y="1380"/>
                  </a:lnTo>
                  <a:lnTo>
                    <a:pt x="1708" y="1404"/>
                  </a:lnTo>
                  <a:lnTo>
                    <a:pt x="1688" y="1420"/>
                  </a:lnTo>
                  <a:lnTo>
                    <a:pt x="1686" y="1436"/>
                  </a:lnTo>
                  <a:lnTo>
                    <a:pt x="1668" y="1460"/>
                  </a:lnTo>
                  <a:lnTo>
                    <a:pt x="1668" y="1468"/>
                  </a:lnTo>
                  <a:lnTo>
                    <a:pt x="1684" y="1530"/>
                  </a:lnTo>
                  <a:lnTo>
                    <a:pt x="1684" y="1588"/>
                  </a:lnTo>
                  <a:lnTo>
                    <a:pt x="1692" y="1630"/>
                  </a:lnTo>
                  <a:lnTo>
                    <a:pt x="1692" y="1656"/>
                  </a:lnTo>
                  <a:lnTo>
                    <a:pt x="1684" y="1720"/>
                  </a:lnTo>
                  <a:lnTo>
                    <a:pt x="1710" y="1852"/>
                  </a:lnTo>
                  <a:lnTo>
                    <a:pt x="1712" y="1880"/>
                  </a:lnTo>
                  <a:lnTo>
                    <a:pt x="1710" y="1896"/>
                  </a:lnTo>
                  <a:lnTo>
                    <a:pt x="1698" y="1930"/>
                  </a:lnTo>
                  <a:lnTo>
                    <a:pt x="1696" y="1956"/>
                  </a:lnTo>
                  <a:lnTo>
                    <a:pt x="1700" y="2022"/>
                  </a:lnTo>
                  <a:lnTo>
                    <a:pt x="1706" y="2064"/>
                  </a:lnTo>
                  <a:lnTo>
                    <a:pt x="1714" y="2090"/>
                  </a:lnTo>
                  <a:lnTo>
                    <a:pt x="1714" y="2112"/>
                  </a:lnTo>
                  <a:lnTo>
                    <a:pt x="1708" y="2118"/>
                  </a:lnTo>
                  <a:lnTo>
                    <a:pt x="1738" y="2168"/>
                  </a:lnTo>
                  <a:lnTo>
                    <a:pt x="1806" y="2202"/>
                  </a:lnTo>
                  <a:lnTo>
                    <a:pt x="1834" y="2220"/>
                  </a:lnTo>
                  <a:lnTo>
                    <a:pt x="1872" y="2246"/>
                  </a:lnTo>
                  <a:lnTo>
                    <a:pt x="1918" y="2286"/>
                  </a:lnTo>
                  <a:lnTo>
                    <a:pt x="1926" y="2312"/>
                  </a:lnTo>
                  <a:lnTo>
                    <a:pt x="1912" y="2376"/>
                  </a:lnTo>
                  <a:lnTo>
                    <a:pt x="1928" y="2408"/>
                  </a:lnTo>
                  <a:lnTo>
                    <a:pt x="1964" y="2442"/>
                  </a:lnTo>
                  <a:lnTo>
                    <a:pt x="2000" y="2458"/>
                  </a:lnTo>
                  <a:lnTo>
                    <a:pt x="2022" y="2454"/>
                  </a:lnTo>
                  <a:lnTo>
                    <a:pt x="2032" y="2478"/>
                  </a:lnTo>
                  <a:lnTo>
                    <a:pt x="2048" y="2550"/>
                  </a:lnTo>
                  <a:lnTo>
                    <a:pt x="2040" y="2584"/>
                  </a:lnTo>
                  <a:lnTo>
                    <a:pt x="2010" y="2654"/>
                  </a:lnTo>
                  <a:lnTo>
                    <a:pt x="1990" y="2686"/>
                  </a:lnTo>
                  <a:lnTo>
                    <a:pt x="1980" y="2714"/>
                  </a:lnTo>
                  <a:lnTo>
                    <a:pt x="1980" y="2774"/>
                  </a:lnTo>
                  <a:lnTo>
                    <a:pt x="1960" y="2800"/>
                  </a:lnTo>
                  <a:lnTo>
                    <a:pt x="1934" y="2818"/>
                  </a:lnTo>
                  <a:lnTo>
                    <a:pt x="1878" y="2842"/>
                  </a:lnTo>
                  <a:lnTo>
                    <a:pt x="1856" y="2842"/>
                  </a:lnTo>
                  <a:lnTo>
                    <a:pt x="1826" y="2860"/>
                  </a:lnTo>
                  <a:lnTo>
                    <a:pt x="1772" y="2882"/>
                  </a:lnTo>
                  <a:lnTo>
                    <a:pt x="1744" y="2888"/>
                  </a:lnTo>
                  <a:lnTo>
                    <a:pt x="1700" y="2894"/>
                  </a:lnTo>
                  <a:lnTo>
                    <a:pt x="1650" y="2910"/>
                  </a:lnTo>
                  <a:lnTo>
                    <a:pt x="1574" y="2926"/>
                  </a:lnTo>
                  <a:lnTo>
                    <a:pt x="1510" y="2928"/>
                  </a:lnTo>
                  <a:lnTo>
                    <a:pt x="1440" y="2920"/>
                  </a:lnTo>
                  <a:lnTo>
                    <a:pt x="1402" y="2892"/>
                  </a:lnTo>
                  <a:lnTo>
                    <a:pt x="1402" y="2916"/>
                  </a:lnTo>
                  <a:lnTo>
                    <a:pt x="1424" y="2976"/>
                  </a:lnTo>
                  <a:lnTo>
                    <a:pt x="1448" y="2996"/>
                  </a:lnTo>
                  <a:lnTo>
                    <a:pt x="1462" y="3014"/>
                  </a:lnTo>
                  <a:lnTo>
                    <a:pt x="1466" y="3058"/>
                  </a:lnTo>
                  <a:lnTo>
                    <a:pt x="1468" y="3074"/>
                  </a:lnTo>
                  <a:lnTo>
                    <a:pt x="1460" y="3082"/>
                  </a:lnTo>
                  <a:lnTo>
                    <a:pt x="1456" y="3078"/>
                  </a:lnTo>
                  <a:lnTo>
                    <a:pt x="1454" y="3112"/>
                  </a:lnTo>
                  <a:lnTo>
                    <a:pt x="1458" y="3146"/>
                  </a:lnTo>
                  <a:lnTo>
                    <a:pt x="1490" y="3216"/>
                  </a:lnTo>
                  <a:lnTo>
                    <a:pt x="1492" y="3232"/>
                  </a:lnTo>
                  <a:lnTo>
                    <a:pt x="1492" y="3252"/>
                  </a:lnTo>
                  <a:lnTo>
                    <a:pt x="1480" y="3270"/>
                  </a:lnTo>
                  <a:lnTo>
                    <a:pt x="1444" y="3282"/>
                  </a:lnTo>
                  <a:lnTo>
                    <a:pt x="1414" y="3308"/>
                  </a:lnTo>
                  <a:lnTo>
                    <a:pt x="1326" y="3308"/>
                  </a:lnTo>
                  <a:lnTo>
                    <a:pt x="1302" y="3302"/>
                  </a:lnTo>
                  <a:lnTo>
                    <a:pt x="1276" y="3288"/>
                  </a:lnTo>
                  <a:lnTo>
                    <a:pt x="1222" y="3268"/>
                  </a:lnTo>
                  <a:lnTo>
                    <a:pt x="1184" y="3260"/>
                  </a:lnTo>
                  <a:lnTo>
                    <a:pt x="1154" y="3234"/>
                  </a:lnTo>
                  <a:lnTo>
                    <a:pt x="1138" y="3266"/>
                  </a:lnTo>
                  <a:lnTo>
                    <a:pt x="1154" y="3318"/>
                  </a:lnTo>
                  <a:lnTo>
                    <a:pt x="1180" y="3362"/>
                  </a:lnTo>
                  <a:lnTo>
                    <a:pt x="1204" y="3436"/>
                  </a:lnTo>
                  <a:lnTo>
                    <a:pt x="1218" y="3470"/>
                  </a:lnTo>
                  <a:lnTo>
                    <a:pt x="1258" y="3496"/>
                  </a:lnTo>
                  <a:lnTo>
                    <a:pt x="1292" y="3506"/>
                  </a:lnTo>
                  <a:lnTo>
                    <a:pt x="1286" y="3522"/>
                  </a:lnTo>
                  <a:lnTo>
                    <a:pt x="1304" y="3534"/>
                  </a:lnTo>
                  <a:lnTo>
                    <a:pt x="1346" y="3518"/>
                  </a:lnTo>
                  <a:lnTo>
                    <a:pt x="1334" y="3500"/>
                  </a:lnTo>
                  <a:lnTo>
                    <a:pt x="1316" y="3490"/>
                  </a:lnTo>
                  <a:lnTo>
                    <a:pt x="1352" y="3486"/>
                  </a:lnTo>
                  <a:lnTo>
                    <a:pt x="1374" y="3466"/>
                  </a:lnTo>
                  <a:lnTo>
                    <a:pt x="1400" y="3492"/>
                  </a:lnTo>
                  <a:lnTo>
                    <a:pt x="1424" y="3552"/>
                  </a:lnTo>
                  <a:lnTo>
                    <a:pt x="1428" y="3578"/>
                  </a:lnTo>
                  <a:lnTo>
                    <a:pt x="1416" y="3590"/>
                  </a:lnTo>
                  <a:lnTo>
                    <a:pt x="1394" y="3600"/>
                  </a:lnTo>
                  <a:lnTo>
                    <a:pt x="1372" y="3600"/>
                  </a:lnTo>
                  <a:lnTo>
                    <a:pt x="1352" y="3592"/>
                  </a:lnTo>
                  <a:lnTo>
                    <a:pt x="1342" y="3566"/>
                  </a:lnTo>
                  <a:lnTo>
                    <a:pt x="1326" y="3552"/>
                  </a:lnTo>
                  <a:lnTo>
                    <a:pt x="1298" y="3546"/>
                  </a:lnTo>
                  <a:lnTo>
                    <a:pt x="1282" y="3554"/>
                  </a:lnTo>
                  <a:lnTo>
                    <a:pt x="1270" y="3570"/>
                  </a:lnTo>
                  <a:lnTo>
                    <a:pt x="1260" y="3570"/>
                  </a:lnTo>
                  <a:lnTo>
                    <a:pt x="1252" y="3582"/>
                  </a:lnTo>
                  <a:lnTo>
                    <a:pt x="1256" y="3598"/>
                  </a:lnTo>
                  <a:lnTo>
                    <a:pt x="1300" y="3614"/>
                  </a:lnTo>
                  <a:lnTo>
                    <a:pt x="1326" y="3616"/>
                  </a:lnTo>
                  <a:lnTo>
                    <a:pt x="1346" y="3622"/>
                  </a:lnTo>
                  <a:lnTo>
                    <a:pt x="1360" y="3626"/>
                  </a:lnTo>
                  <a:lnTo>
                    <a:pt x="1360" y="3632"/>
                  </a:lnTo>
                  <a:lnTo>
                    <a:pt x="1296" y="3676"/>
                  </a:lnTo>
                  <a:lnTo>
                    <a:pt x="1290" y="3690"/>
                  </a:lnTo>
                  <a:lnTo>
                    <a:pt x="1288" y="3710"/>
                  </a:lnTo>
                  <a:lnTo>
                    <a:pt x="1276" y="3736"/>
                  </a:lnTo>
                  <a:lnTo>
                    <a:pt x="1280" y="3764"/>
                  </a:lnTo>
                  <a:lnTo>
                    <a:pt x="1300" y="3796"/>
                  </a:lnTo>
                  <a:lnTo>
                    <a:pt x="1306" y="3828"/>
                  </a:lnTo>
                  <a:lnTo>
                    <a:pt x="1318" y="3862"/>
                  </a:lnTo>
                  <a:lnTo>
                    <a:pt x="1316" y="3890"/>
                  </a:lnTo>
                  <a:lnTo>
                    <a:pt x="1310" y="3900"/>
                  </a:lnTo>
                  <a:lnTo>
                    <a:pt x="1294" y="3908"/>
                  </a:lnTo>
                  <a:lnTo>
                    <a:pt x="1288" y="3930"/>
                  </a:lnTo>
                  <a:lnTo>
                    <a:pt x="1310" y="3960"/>
                  </a:lnTo>
                  <a:lnTo>
                    <a:pt x="1314" y="3972"/>
                  </a:lnTo>
                  <a:lnTo>
                    <a:pt x="1312" y="3984"/>
                  </a:lnTo>
                  <a:lnTo>
                    <a:pt x="1236" y="3982"/>
                  </a:lnTo>
                  <a:lnTo>
                    <a:pt x="1216" y="3996"/>
                  </a:lnTo>
                  <a:lnTo>
                    <a:pt x="1208" y="4016"/>
                  </a:lnTo>
                  <a:lnTo>
                    <a:pt x="1186" y="4018"/>
                  </a:lnTo>
                  <a:lnTo>
                    <a:pt x="1166" y="4030"/>
                  </a:lnTo>
                  <a:lnTo>
                    <a:pt x="1142" y="4072"/>
                  </a:lnTo>
                  <a:lnTo>
                    <a:pt x="1136" y="4092"/>
                  </a:lnTo>
                  <a:lnTo>
                    <a:pt x="1136" y="4110"/>
                  </a:lnTo>
                  <a:lnTo>
                    <a:pt x="1124" y="4152"/>
                  </a:lnTo>
                  <a:lnTo>
                    <a:pt x="1130" y="4188"/>
                  </a:lnTo>
                  <a:lnTo>
                    <a:pt x="1140" y="4202"/>
                  </a:lnTo>
                  <a:lnTo>
                    <a:pt x="1164" y="4232"/>
                  </a:lnTo>
                  <a:lnTo>
                    <a:pt x="1188" y="4256"/>
                  </a:lnTo>
                  <a:lnTo>
                    <a:pt x="1214" y="4270"/>
                  </a:lnTo>
                  <a:lnTo>
                    <a:pt x="1282" y="4320"/>
                  </a:lnTo>
                  <a:lnTo>
                    <a:pt x="1344" y="4338"/>
                  </a:lnTo>
                  <a:lnTo>
                    <a:pt x="1372" y="4338"/>
                  </a:lnTo>
                  <a:lnTo>
                    <a:pt x="1398" y="4332"/>
                  </a:lnTo>
                  <a:lnTo>
                    <a:pt x="1418" y="4348"/>
                  </a:lnTo>
                  <a:lnTo>
                    <a:pt x="1432" y="4370"/>
                  </a:lnTo>
                  <a:lnTo>
                    <a:pt x="1444" y="4404"/>
                  </a:lnTo>
                  <a:lnTo>
                    <a:pt x="1438" y="4430"/>
                  </a:lnTo>
                  <a:lnTo>
                    <a:pt x="1432" y="4436"/>
                  </a:lnTo>
                  <a:lnTo>
                    <a:pt x="1450" y="4462"/>
                  </a:lnTo>
                  <a:lnTo>
                    <a:pt x="1460" y="4482"/>
                  </a:lnTo>
                  <a:lnTo>
                    <a:pt x="1446" y="4488"/>
                  </a:lnTo>
                  <a:lnTo>
                    <a:pt x="1450" y="4512"/>
                  </a:lnTo>
                  <a:lnTo>
                    <a:pt x="1434" y="4512"/>
                  </a:lnTo>
                  <a:lnTo>
                    <a:pt x="1420" y="4524"/>
                  </a:lnTo>
                  <a:lnTo>
                    <a:pt x="1396" y="4560"/>
                  </a:lnTo>
                  <a:lnTo>
                    <a:pt x="1366" y="4594"/>
                  </a:lnTo>
                  <a:lnTo>
                    <a:pt x="1352" y="4604"/>
                  </a:lnTo>
                  <a:lnTo>
                    <a:pt x="1334" y="4640"/>
                  </a:lnTo>
                  <a:lnTo>
                    <a:pt x="1312" y="4666"/>
                  </a:lnTo>
                  <a:lnTo>
                    <a:pt x="1308" y="4708"/>
                  </a:lnTo>
                  <a:lnTo>
                    <a:pt x="1312" y="4732"/>
                  </a:lnTo>
                  <a:lnTo>
                    <a:pt x="1324" y="4718"/>
                  </a:lnTo>
                  <a:lnTo>
                    <a:pt x="1334" y="4794"/>
                  </a:lnTo>
                  <a:lnTo>
                    <a:pt x="1336" y="4824"/>
                  </a:lnTo>
                  <a:lnTo>
                    <a:pt x="1326" y="4844"/>
                  </a:lnTo>
                  <a:lnTo>
                    <a:pt x="1308" y="4854"/>
                  </a:lnTo>
                  <a:lnTo>
                    <a:pt x="1286" y="4854"/>
                  </a:lnTo>
                  <a:lnTo>
                    <a:pt x="1264" y="4840"/>
                  </a:lnTo>
                  <a:lnTo>
                    <a:pt x="1224" y="4800"/>
                  </a:lnTo>
                  <a:lnTo>
                    <a:pt x="1246" y="4840"/>
                  </a:lnTo>
                  <a:lnTo>
                    <a:pt x="1266" y="4846"/>
                  </a:lnTo>
                  <a:lnTo>
                    <a:pt x="1276" y="4858"/>
                  </a:lnTo>
                  <a:lnTo>
                    <a:pt x="1278" y="4866"/>
                  </a:lnTo>
                  <a:lnTo>
                    <a:pt x="1242" y="4900"/>
                  </a:lnTo>
                  <a:lnTo>
                    <a:pt x="1228" y="4918"/>
                  </a:lnTo>
                  <a:lnTo>
                    <a:pt x="1236" y="5002"/>
                  </a:lnTo>
                  <a:lnTo>
                    <a:pt x="1228" y="5024"/>
                  </a:lnTo>
                  <a:lnTo>
                    <a:pt x="1242" y="5024"/>
                  </a:lnTo>
                  <a:lnTo>
                    <a:pt x="1250" y="5016"/>
                  </a:lnTo>
                  <a:lnTo>
                    <a:pt x="1286" y="5064"/>
                  </a:lnTo>
                  <a:lnTo>
                    <a:pt x="1304" y="5094"/>
                  </a:lnTo>
                  <a:lnTo>
                    <a:pt x="1304" y="5108"/>
                  </a:lnTo>
                  <a:lnTo>
                    <a:pt x="1278" y="5108"/>
                  </a:lnTo>
                  <a:lnTo>
                    <a:pt x="1266" y="5112"/>
                  </a:lnTo>
                  <a:lnTo>
                    <a:pt x="1292" y="5126"/>
                  </a:lnTo>
                  <a:lnTo>
                    <a:pt x="1302" y="5122"/>
                  </a:lnTo>
                  <a:lnTo>
                    <a:pt x="1316" y="5126"/>
                  </a:lnTo>
                  <a:lnTo>
                    <a:pt x="1372" y="5182"/>
                  </a:lnTo>
                  <a:lnTo>
                    <a:pt x="1434" y="5224"/>
                  </a:lnTo>
                  <a:lnTo>
                    <a:pt x="1434" y="522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27160" y="6288480"/>
              <a:ext cx="96840" cy="65520"/>
            </a:xfrm>
            <a:custGeom>
              <a:avLst/>
              <a:gdLst/>
              <a:ahLst/>
              <a:rect l="l" t="t" r="r" b="b"/>
              <a:pathLst>
                <a:path w="554" h="392">
                  <a:moveTo>
                    <a:pt x="170" y="378"/>
                  </a:moveTo>
                  <a:lnTo>
                    <a:pt x="160" y="356"/>
                  </a:lnTo>
                  <a:lnTo>
                    <a:pt x="154" y="348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34" y="24"/>
                  </a:lnTo>
                  <a:lnTo>
                    <a:pt x="90" y="78"/>
                  </a:lnTo>
                  <a:lnTo>
                    <a:pt x="96" y="86"/>
                  </a:lnTo>
                  <a:lnTo>
                    <a:pt x="82" y="76"/>
                  </a:lnTo>
                  <a:lnTo>
                    <a:pt x="68" y="72"/>
                  </a:lnTo>
                  <a:lnTo>
                    <a:pt x="56" y="78"/>
                  </a:lnTo>
                  <a:lnTo>
                    <a:pt x="58" y="90"/>
                  </a:lnTo>
                  <a:lnTo>
                    <a:pt x="72" y="106"/>
                  </a:lnTo>
                  <a:lnTo>
                    <a:pt x="88" y="110"/>
                  </a:lnTo>
                  <a:lnTo>
                    <a:pt x="104" y="120"/>
                  </a:lnTo>
                  <a:lnTo>
                    <a:pt x="120" y="134"/>
                  </a:lnTo>
                  <a:lnTo>
                    <a:pt x="150" y="168"/>
                  </a:lnTo>
                  <a:lnTo>
                    <a:pt x="164" y="178"/>
                  </a:lnTo>
                  <a:lnTo>
                    <a:pt x="210" y="198"/>
                  </a:lnTo>
                  <a:lnTo>
                    <a:pt x="254" y="230"/>
                  </a:lnTo>
                  <a:lnTo>
                    <a:pt x="272" y="232"/>
                  </a:lnTo>
                  <a:lnTo>
                    <a:pt x="284" y="240"/>
                  </a:lnTo>
                  <a:lnTo>
                    <a:pt x="300" y="244"/>
                  </a:lnTo>
                  <a:lnTo>
                    <a:pt x="314" y="254"/>
                  </a:lnTo>
                  <a:lnTo>
                    <a:pt x="340" y="260"/>
                  </a:lnTo>
                  <a:lnTo>
                    <a:pt x="374" y="282"/>
                  </a:lnTo>
                  <a:lnTo>
                    <a:pt x="430" y="310"/>
                  </a:lnTo>
                  <a:lnTo>
                    <a:pt x="470" y="324"/>
                  </a:lnTo>
                  <a:lnTo>
                    <a:pt x="522" y="326"/>
                  </a:lnTo>
                  <a:lnTo>
                    <a:pt x="542" y="320"/>
                  </a:lnTo>
                  <a:lnTo>
                    <a:pt x="550" y="332"/>
                  </a:lnTo>
                  <a:lnTo>
                    <a:pt x="554" y="352"/>
                  </a:lnTo>
                  <a:lnTo>
                    <a:pt x="550" y="362"/>
                  </a:lnTo>
                  <a:lnTo>
                    <a:pt x="528" y="374"/>
                  </a:lnTo>
                  <a:lnTo>
                    <a:pt x="484" y="368"/>
                  </a:lnTo>
                  <a:lnTo>
                    <a:pt x="438" y="386"/>
                  </a:lnTo>
                  <a:lnTo>
                    <a:pt x="436" y="392"/>
                  </a:lnTo>
                  <a:lnTo>
                    <a:pt x="416" y="388"/>
                  </a:lnTo>
                  <a:lnTo>
                    <a:pt x="374" y="372"/>
                  </a:lnTo>
                  <a:lnTo>
                    <a:pt x="314" y="366"/>
                  </a:lnTo>
                  <a:lnTo>
                    <a:pt x="260" y="368"/>
                  </a:lnTo>
                  <a:lnTo>
                    <a:pt x="240" y="362"/>
                  </a:lnTo>
                  <a:lnTo>
                    <a:pt x="224" y="360"/>
                  </a:lnTo>
                  <a:lnTo>
                    <a:pt x="206" y="360"/>
                  </a:lnTo>
                  <a:lnTo>
                    <a:pt x="180" y="376"/>
                  </a:lnTo>
                  <a:lnTo>
                    <a:pt x="170" y="37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9800" bIns="19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81800" y="4570920"/>
              <a:ext cx="104760" cy="117720"/>
            </a:xfrm>
            <a:custGeom>
              <a:avLst/>
              <a:gdLst/>
              <a:ahLst/>
              <a:rect l="l" t="t" r="r" b="b"/>
              <a:pathLst>
                <a:path w="596" h="696">
                  <a:moveTo>
                    <a:pt x="524" y="622"/>
                  </a:moveTo>
                  <a:lnTo>
                    <a:pt x="506" y="618"/>
                  </a:lnTo>
                  <a:lnTo>
                    <a:pt x="498" y="610"/>
                  </a:lnTo>
                  <a:lnTo>
                    <a:pt x="444" y="586"/>
                  </a:lnTo>
                  <a:lnTo>
                    <a:pt x="386" y="608"/>
                  </a:lnTo>
                  <a:lnTo>
                    <a:pt x="376" y="608"/>
                  </a:lnTo>
                  <a:lnTo>
                    <a:pt x="350" y="598"/>
                  </a:lnTo>
                  <a:lnTo>
                    <a:pt x="332" y="598"/>
                  </a:lnTo>
                  <a:lnTo>
                    <a:pt x="316" y="608"/>
                  </a:lnTo>
                  <a:lnTo>
                    <a:pt x="316" y="684"/>
                  </a:lnTo>
                  <a:lnTo>
                    <a:pt x="308" y="696"/>
                  </a:lnTo>
                  <a:lnTo>
                    <a:pt x="264" y="696"/>
                  </a:lnTo>
                  <a:lnTo>
                    <a:pt x="232" y="680"/>
                  </a:lnTo>
                  <a:lnTo>
                    <a:pt x="230" y="672"/>
                  </a:lnTo>
                  <a:lnTo>
                    <a:pt x="226" y="672"/>
                  </a:lnTo>
                  <a:lnTo>
                    <a:pt x="200" y="644"/>
                  </a:lnTo>
                  <a:lnTo>
                    <a:pt x="166" y="592"/>
                  </a:lnTo>
                  <a:lnTo>
                    <a:pt x="150" y="560"/>
                  </a:lnTo>
                  <a:lnTo>
                    <a:pt x="146" y="542"/>
                  </a:lnTo>
                  <a:lnTo>
                    <a:pt x="132" y="520"/>
                  </a:lnTo>
                  <a:lnTo>
                    <a:pt x="130" y="490"/>
                  </a:lnTo>
                  <a:lnTo>
                    <a:pt x="118" y="478"/>
                  </a:lnTo>
                  <a:lnTo>
                    <a:pt x="116" y="448"/>
                  </a:lnTo>
                  <a:lnTo>
                    <a:pt x="108" y="442"/>
                  </a:lnTo>
                  <a:lnTo>
                    <a:pt x="80" y="440"/>
                  </a:lnTo>
                  <a:lnTo>
                    <a:pt x="74" y="436"/>
                  </a:lnTo>
                  <a:lnTo>
                    <a:pt x="66" y="424"/>
                  </a:lnTo>
                  <a:lnTo>
                    <a:pt x="64" y="410"/>
                  </a:lnTo>
                  <a:lnTo>
                    <a:pt x="44" y="386"/>
                  </a:lnTo>
                  <a:lnTo>
                    <a:pt x="36" y="382"/>
                  </a:lnTo>
                  <a:lnTo>
                    <a:pt x="14" y="338"/>
                  </a:lnTo>
                  <a:lnTo>
                    <a:pt x="0" y="314"/>
                  </a:lnTo>
                  <a:lnTo>
                    <a:pt x="0" y="298"/>
                  </a:lnTo>
                  <a:lnTo>
                    <a:pt x="10" y="264"/>
                  </a:lnTo>
                  <a:lnTo>
                    <a:pt x="22" y="236"/>
                  </a:lnTo>
                  <a:lnTo>
                    <a:pt x="26" y="190"/>
                  </a:lnTo>
                  <a:lnTo>
                    <a:pt x="28" y="180"/>
                  </a:lnTo>
                  <a:lnTo>
                    <a:pt x="34" y="174"/>
                  </a:lnTo>
                  <a:lnTo>
                    <a:pt x="44" y="168"/>
                  </a:lnTo>
                  <a:lnTo>
                    <a:pt x="62" y="160"/>
                  </a:lnTo>
                  <a:lnTo>
                    <a:pt x="86" y="160"/>
                  </a:lnTo>
                  <a:lnTo>
                    <a:pt x="104" y="156"/>
                  </a:lnTo>
                  <a:lnTo>
                    <a:pt x="106" y="142"/>
                  </a:lnTo>
                  <a:lnTo>
                    <a:pt x="124" y="124"/>
                  </a:lnTo>
                  <a:lnTo>
                    <a:pt x="124" y="100"/>
                  </a:lnTo>
                  <a:lnTo>
                    <a:pt x="120" y="100"/>
                  </a:lnTo>
                  <a:lnTo>
                    <a:pt x="114" y="94"/>
                  </a:lnTo>
                  <a:lnTo>
                    <a:pt x="118" y="82"/>
                  </a:lnTo>
                  <a:lnTo>
                    <a:pt x="140" y="48"/>
                  </a:lnTo>
                  <a:lnTo>
                    <a:pt x="156" y="30"/>
                  </a:lnTo>
                  <a:lnTo>
                    <a:pt x="160" y="20"/>
                  </a:lnTo>
                  <a:lnTo>
                    <a:pt x="168" y="16"/>
                  </a:lnTo>
                  <a:lnTo>
                    <a:pt x="182" y="0"/>
                  </a:lnTo>
                  <a:lnTo>
                    <a:pt x="196" y="0"/>
                  </a:lnTo>
                  <a:lnTo>
                    <a:pt x="254" y="22"/>
                  </a:lnTo>
                  <a:lnTo>
                    <a:pt x="306" y="22"/>
                  </a:lnTo>
                  <a:lnTo>
                    <a:pt x="370" y="6"/>
                  </a:lnTo>
                  <a:lnTo>
                    <a:pt x="408" y="10"/>
                  </a:lnTo>
                  <a:lnTo>
                    <a:pt x="440" y="8"/>
                  </a:lnTo>
                  <a:lnTo>
                    <a:pt x="448" y="2"/>
                  </a:lnTo>
                  <a:lnTo>
                    <a:pt x="466" y="2"/>
                  </a:lnTo>
                  <a:lnTo>
                    <a:pt x="530" y="10"/>
                  </a:lnTo>
                  <a:lnTo>
                    <a:pt x="594" y="34"/>
                  </a:lnTo>
                  <a:lnTo>
                    <a:pt x="596" y="38"/>
                  </a:lnTo>
                  <a:lnTo>
                    <a:pt x="594" y="72"/>
                  </a:lnTo>
                  <a:lnTo>
                    <a:pt x="586" y="80"/>
                  </a:lnTo>
                  <a:lnTo>
                    <a:pt x="586" y="86"/>
                  </a:lnTo>
                  <a:lnTo>
                    <a:pt x="572" y="108"/>
                  </a:lnTo>
                  <a:lnTo>
                    <a:pt x="554" y="126"/>
                  </a:lnTo>
                  <a:lnTo>
                    <a:pt x="542" y="158"/>
                  </a:lnTo>
                  <a:lnTo>
                    <a:pt x="540" y="228"/>
                  </a:lnTo>
                  <a:lnTo>
                    <a:pt x="542" y="284"/>
                  </a:lnTo>
                  <a:lnTo>
                    <a:pt x="552" y="316"/>
                  </a:lnTo>
                  <a:lnTo>
                    <a:pt x="574" y="360"/>
                  </a:lnTo>
                  <a:lnTo>
                    <a:pt x="574" y="366"/>
                  </a:lnTo>
                  <a:lnTo>
                    <a:pt x="576" y="368"/>
                  </a:lnTo>
                  <a:lnTo>
                    <a:pt x="590" y="396"/>
                  </a:lnTo>
                  <a:lnTo>
                    <a:pt x="586" y="442"/>
                  </a:lnTo>
                  <a:lnTo>
                    <a:pt x="570" y="512"/>
                  </a:lnTo>
                  <a:lnTo>
                    <a:pt x="564" y="568"/>
                  </a:lnTo>
                  <a:lnTo>
                    <a:pt x="560" y="580"/>
                  </a:lnTo>
                  <a:lnTo>
                    <a:pt x="524" y="6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2400" y="3124800"/>
              <a:ext cx="193680" cy="139680"/>
            </a:xfrm>
            <a:custGeom>
              <a:avLst/>
              <a:gdLst/>
              <a:ahLst/>
              <a:rect l="l" t="t" r="r" b="b"/>
              <a:pathLst>
                <a:path w="1106" h="816">
                  <a:moveTo>
                    <a:pt x="54" y="782"/>
                  </a:moveTo>
                  <a:lnTo>
                    <a:pt x="52" y="706"/>
                  </a:lnTo>
                  <a:lnTo>
                    <a:pt x="16" y="682"/>
                  </a:lnTo>
                  <a:lnTo>
                    <a:pt x="2" y="660"/>
                  </a:lnTo>
                  <a:lnTo>
                    <a:pt x="20" y="636"/>
                  </a:lnTo>
                  <a:lnTo>
                    <a:pt x="50" y="620"/>
                  </a:lnTo>
                  <a:lnTo>
                    <a:pt x="70" y="590"/>
                  </a:lnTo>
                  <a:lnTo>
                    <a:pt x="68" y="558"/>
                  </a:lnTo>
                  <a:lnTo>
                    <a:pt x="64" y="528"/>
                  </a:lnTo>
                  <a:lnTo>
                    <a:pt x="6" y="398"/>
                  </a:lnTo>
                  <a:lnTo>
                    <a:pt x="0" y="380"/>
                  </a:lnTo>
                  <a:lnTo>
                    <a:pt x="34" y="386"/>
                  </a:lnTo>
                  <a:lnTo>
                    <a:pt x="66" y="380"/>
                  </a:lnTo>
                  <a:lnTo>
                    <a:pt x="100" y="384"/>
                  </a:lnTo>
                  <a:lnTo>
                    <a:pt x="114" y="378"/>
                  </a:lnTo>
                  <a:lnTo>
                    <a:pt x="126" y="368"/>
                  </a:lnTo>
                  <a:lnTo>
                    <a:pt x="142" y="374"/>
                  </a:lnTo>
                  <a:lnTo>
                    <a:pt x="158" y="372"/>
                  </a:lnTo>
                  <a:lnTo>
                    <a:pt x="148" y="346"/>
                  </a:lnTo>
                  <a:lnTo>
                    <a:pt x="162" y="340"/>
                  </a:lnTo>
                  <a:lnTo>
                    <a:pt x="178" y="340"/>
                  </a:lnTo>
                  <a:lnTo>
                    <a:pt x="188" y="328"/>
                  </a:lnTo>
                  <a:lnTo>
                    <a:pt x="202" y="320"/>
                  </a:lnTo>
                  <a:lnTo>
                    <a:pt x="220" y="324"/>
                  </a:lnTo>
                  <a:lnTo>
                    <a:pt x="230" y="338"/>
                  </a:lnTo>
                  <a:lnTo>
                    <a:pt x="248" y="344"/>
                  </a:lnTo>
                  <a:lnTo>
                    <a:pt x="262" y="338"/>
                  </a:lnTo>
                  <a:lnTo>
                    <a:pt x="258" y="324"/>
                  </a:lnTo>
                  <a:lnTo>
                    <a:pt x="244" y="312"/>
                  </a:lnTo>
                  <a:lnTo>
                    <a:pt x="236" y="300"/>
                  </a:lnTo>
                  <a:lnTo>
                    <a:pt x="236" y="284"/>
                  </a:lnTo>
                  <a:lnTo>
                    <a:pt x="250" y="260"/>
                  </a:lnTo>
                  <a:lnTo>
                    <a:pt x="248" y="246"/>
                  </a:lnTo>
                  <a:lnTo>
                    <a:pt x="250" y="230"/>
                  </a:lnTo>
                  <a:lnTo>
                    <a:pt x="248" y="216"/>
                  </a:lnTo>
                  <a:lnTo>
                    <a:pt x="250" y="202"/>
                  </a:lnTo>
                  <a:lnTo>
                    <a:pt x="262" y="196"/>
                  </a:lnTo>
                  <a:lnTo>
                    <a:pt x="280" y="192"/>
                  </a:lnTo>
                  <a:lnTo>
                    <a:pt x="290" y="182"/>
                  </a:lnTo>
                  <a:lnTo>
                    <a:pt x="304" y="176"/>
                  </a:lnTo>
                  <a:lnTo>
                    <a:pt x="330" y="176"/>
                  </a:lnTo>
                  <a:lnTo>
                    <a:pt x="344" y="142"/>
                  </a:lnTo>
                  <a:lnTo>
                    <a:pt x="328" y="136"/>
                  </a:lnTo>
                  <a:lnTo>
                    <a:pt x="310" y="138"/>
                  </a:lnTo>
                  <a:lnTo>
                    <a:pt x="306" y="124"/>
                  </a:lnTo>
                  <a:lnTo>
                    <a:pt x="306" y="110"/>
                  </a:lnTo>
                  <a:lnTo>
                    <a:pt x="320" y="102"/>
                  </a:lnTo>
                  <a:lnTo>
                    <a:pt x="330" y="92"/>
                  </a:lnTo>
                  <a:lnTo>
                    <a:pt x="328" y="88"/>
                  </a:lnTo>
                  <a:lnTo>
                    <a:pt x="328" y="88"/>
                  </a:lnTo>
                  <a:lnTo>
                    <a:pt x="344" y="90"/>
                  </a:lnTo>
                  <a:lnTo>
                    <a:pt x="358" y="82"/>
                  </a:lnTo>
                  <a:lnTo>
                    <a:pt x="358" y="68"/>
                  </a:lnTo>
                  <a:lnTo>
                    <a:pt x="372" y="60"/>
                  </a:lnTo>
                  <a:lnTo>
                    <a:pt x="406" y="70"/>
                  </a:lnTo>
                  <a:lnTo>
                    <a:pt x="422" y="66"/>
                  </a:lnTo>
                  <a:lnTo>
                    <a:pt x="438" y="44"/>
                  </a:lnTo>
                  <a:lnTo>
                    <a:pt x="440" y="30"/>
                  </a:lnTo>
                  <a:lnTo>
                    <a:pt x="462" y="10"/>
                  </a:lnTo>
                  <a:lnTo>
                    <a:pt x="476" y="0"/>
                  </a:lnTo>
                  <a:lnTo>
                    <a:pt x="496" y="0"/>
                  </a:lnTo>
                  <a:lnTo>
                    <a:pt x="504" y="12"/>
                  </a:lnTo>
                  <a:lnTo>
                    <a:pt x="536" y="8"/>
                  </a:lnTo>
                  <a:lnTo>
                    <a:pt x="552" y="12"/>
                  </a:lnTo>
                  <a:lnTo>
                    <a:pt x="564" y="24"/>
                  </a:lnTo>
                  <a:lnTo>
                    <a:pt x="596" y="20"/>
                  </a:lnTo>
                  <a:lnTo>
                    <a:pt x="614" y="22"/>
                  </a:lnTo>
                  <a:lnTo>
                    <a:pt x="642" y="38"/>
                  </a:lnTo>
                  <a:lnTo>
                    <a:pt x="644" y="72"/>
                  </a:lnTo>
                  <a:lnTo>
                    <a:pt x="670" y="56"/>
                  </a:lnTo>
                  <a:lnTo>
                    <a:pt x="688" y="54"/>
                  </a:lnTo>
                  <a:lnTo>
                    <a:pt x="698" y="46"/>
                  </a:lnTo>
                  <a:lnTo>
                    <a:pt x="730" y="42"/>
                  </a:lnTo>
                  <a:lnTo>
                    <a:pt x="748" y="44"/>
                  </a:lnTo>
                  <a:lnTo>
                    <a:pt x="764" y="52"/>
                  </a:lnTo>
                  <a:lnTo>
                    <a:pt x="776" y="62"/>
                  </a:lnTo>
                  <a:lnTo>
                    <a:pt x="802" y="84"/>
                  </a:lnTo>
                  <a:lnTo>
                    <a:pt x="818" y="86"/>
                  </a:lnTo>
                  <a:lnTo>
                    <a:pt x="824" y="106"/>
                  </a:lnTo>
                  <a:lnTo>
                    <a:pt x="822" y="118"/>
                  </a:lnTo>
                  <a:lnTo>
                    <a:pt x="826" y="132"/>
                  </a:lnTo>
                  <a:lnTo>
                    <a:pt x="838" y="144"/>
                  </a:lnTo>
                  <a:lnTo>
                    <a:pt x="846" y="156"/>
                  </a:lnTo>
                  <a:lnTo>
                    <a:pt x="846" y="172"/>
                  </a:lnTo>
                  <a:lnTo>
                    <a:pt x="844" y="184"/>
                  </a:lnTo>
                  <a:lnTo>
                    <a:pt x="832" y="194"/>
                  </a:lnTo>
                  <a:lnTo>
                    <a:pt x="830" y="208"/>
                  </a:lnTo>
                  <a:lnTo>
                    <a:pt x="838" y="220"/>
                  </a:lnTo>
                  <a:lnTo>
                    <a:pt x="866" y="240"/>
                  </a:lnTo>
                  <a:lnTo>
                    <a:pt x="882" y="268"/>
                  </a:lnTo>
                  <a:lnTo>
                    <a:pt x="912" y="306"/>
                  </a:lnTo>
                  <a:lnTo>
                    <a:pt x="924" y="318"/>
                  </a:lnTo>
                  <a:lnTo>
                    <a:pt x="958" y="332"/>
                  </a:lnTo>
                  <a:lnTo>
                    <a:pt x="970" y="344"/>
                  </a:lnTo>
                  <a:lnTo>
                    <a:pt x="976" y="358"/>
                  </a:lnTo>
                  <a:lnTo>
                    <a:pt x="976" y="372"/>
                  </a:lnTo>
                  <a:lnTo>
                    <a:pt x="986" y="386"/>
                  </a:lnTo>
                  <a:lnTo>
                    <a:pt x="1036" y="378"/>
                  </a:lnTo>
                  <a:lnTo>
                    <a:pt x="1052" y="388"/>
                  </a:lnTo>
                  <a:lnTo>
                    <a:pt x="1068" y="392"/>
                  </a:lnTo>
                  <a:lnTo>
                    <a:pt x="1066" y="406"/>
                  </a:lnTo>
                  <a:lnTo>
                    <a:pt x="1078" y="416"/>
                  </a:lnTo>
                  <a:lnTo>
                    <a:pt x="1098" y="420"/>
                  </a:lnTo>
                  <a:lnTo>
                    <a:pt x="1106" y="444"/>
                  </a:lnTo>
                  <a:lnTo>
                    <a:pt x="1094" y="454"/>
                  </a:lnTo>
                  <a:lnTo>
                    <a:pt x="1086" y="466"/>
                  </a:lnTo>
                  <a:lnTo>
                    <a:pt x="1064" y="486"/>
                  </a:lnTo>
                  <a:lnTo>
                    <a:pt x="1050" y="494"/>
                  </a:lnTo>
                  <a:lnTo>
                    <a:pt x="1014" y="490"/>
                  </a:lnTo>
                  <a:lnTo>
                    <a:pt x="984" y="472"/>
                  </a:lnTo>
                  <a:lnTo>
                    <a:pt x="968" y="472"/>
                  </a:lnTo>
                  <a:lnTo>
                    <a:pt x="954" y="478"/>
                  </a:lnTo>
                  <a:lnTo>
                    <a:pt x="954" y="492"/>
                  </a:lnTo>
                  <a:lnTo>
                    <a:pt x="940" y="500"/>
                  </a:lnTo>
                  <a:lnTo>
                    <a:pt x="944" y="514"/>
                  </a:lnTo>
                  <a:lnTo>
                    <a:pt x="972" y="532"/>
                  </a:lnTo>
                  <a:lnTo>
                    <a:pt x="980" y="546"/>
                  </a:lnTo>
                  <a:lnTo>
                    <a:pt x="978" y="562"/>
                  </a:lnTo>
                  <a:lnTo>
                    <a:pt x="990" y="572"/>
                  </a:lnTo>
                  <a:lnTo>
                    <a:pt x="990" y="586"/>
                  </a:lnTo>
                  <a:lnTo>
                    <a:pt x="1006" y="594"/>
                  </a:lnTo>
                  <a:lnTo>
                    <a:pt x="1016" y="608"/>
                  </a:lnTo>
                  <a:lnTo>
                    <a:pt x="1016" y="624"/>
                  </a:lnTo>
                  <a:lnTo>
                    <a:pt x="1036" y="664"/>
                  </a:lnTo>
                  <a:lnTo>
                    <a:pt x="992" y="666"/>
                  </a:lnTo>
                  <a:lnTo>
                    <a:pt x="978" y="674"/>
                  </a:lnTo>
                  <a:lnTo>
                    <a:pt x="958" y="674"/>
                  </a:lnTo>
                  <a:lnTo>
                    <a:pt x="944" y="682"/>
                  </a:lnTo>
                  <a:lnTo>
                    <a:pt x="912" y="718"/>
                  </a:lnTo>
                  <a:lnTo>
                    <a:pt x="908" y="732"/>
                  </a:lnTo>
                  <a:lnTo>
                    <a:pt x="910" y="748"/>
                  </a:lnTo>
                  <a:lnTo>
                    <a:pt x="908" y="764"/>
                  </a:lnTo>
                  <a:lnTo>
                    <a:pt x="920" y="796"/>
                  </a:lnTo>
                  <a:lnTo>
                    <a:pt x="914" y="812"/>
                  </a:lnTo>
                  <a:lnTo>
                    <a:pt x="896" y="816"/>
                  </a:lnTo>
                  <a:lnTo>
                    <a:pt x="884" y="804"/>
                  </a:lnTo>
                  <a:lnTo>
                    <a:pt x="866" y="796"/>
                  </a:lnTo>
                  <a:lnTo>
                    <a:pt x="848" y="796"/>
                  </a:lnTo>
                  <a:lnTo>
                    <a:pt x="814" y="804"/>
                  </a:lnTo>
                  <a:lnTo>
                    <a:pt x="794" y="802"/>
                  </a:lnTo>
                  <a:lnTo>
                    <a:pt x="780" y="812"/>
                  </a:lnTo>
                  <a:lnTo>
                    <a:pt x="766" y="802"/>
                  </a:lnTo>
                  <a:lnTo>
                    <a:pt x="756" y="788"/>
                  </a:lnTo>
                  <a:lnTo>
                    <a:pt x="724" y="768"/>
                  </a:lnTo>
                  <a:lnTo>
                    <a:pt x="694" y="804"/>
                  </a:lnTo>
                  <a:lnTo>
                    <a:pt x="676" y="796"/>
                  </a:lnTo>
                  <a:lnTo>
                    <a:pt x="664" y="782"/>
                  </a:lnTo>
                  <a:lnTo>
                    <a:pt x="648" y="788"/>
                  </a:lnTo>
                  <a:lnTo>
                    <a:pt x="630" y="782"/>
                  </a:lnTo>
                  <a:lnTo>
                    <a:pt x="614" y="772"/>
                  </a:lnTo>
                  <a:lnTo>
                    <a:pt x="602" y="786"/>
                  </a:lnTo>
                  <a:lnTo>
                    <a:pt x="584" y="786"/>
                  </a:lnTo>
                  <a:lnTo>
                    <a:pt x="568" y="792"/>
                  </a:lnTo>
                  <a:lnTo>
                    <a:pt x="556" y="802"/>
                  </a:lnTo>
                  <a:lnTo>
                    <a:pt x="540" y="792"/>
                  </a:lnTo>
                  <a:lnTo>
                    <a:pt x="536" y="776"/>
                  </a:lnTo>
                  <a:lnTo>
                    <a:pt x="502" y="780"/>
                  </a:lnTo>
                  <a:lnTo>
                    <a:pt x="486" y="770"/>
                  </a:lnTo>
                  <a:lnTo>
                    <a:pt x="480" y="754"/>
                  </a:lnTo>
                  <a:lnTo>
                    <a:pt x="462" y="746"/>
                  </a:lnTo>
                  <a:lnTo>
                    <a:pt x="444" y="744"/>
                  </a:lnTo>
                  <a:lnTo>
                    <a:pt x="428" y="736"/>
                  </a:lnTo>
                  <a:lnTo>
                    <a:pt x="410" y="738"/>
                  </a:lnTo>
                  <a:lnTo>
                    <a:pt x="392" y="738"/>
                  </a:lnTo>
                  <a:lnTo>
                    <a:pt x="356" y="728"/>
                  </a:lnTo>
                  <a:lnTo>
                    <a:pt x="324" y="712"/>
                  </a:lnTo>
                  <a:lnTo>
                    <a:pt x="306" y="716"/>
                  </a:lnTo>
                  <a:lnTo>
                    <a:pt x="268" y="716"/>
                  </a:lnTo>
                  <a:lnTo>
                    <a:pt x="250" y="710"/>
                  </a:lnTo>
                  <a:lnTo>
                    <a:pt x="164" y="724"/>
                  </a:lnTo>
                  <a:lnTo>
                    <a:pt x="148" y="730"/>
                  </a:lnTo>
                  <a:lnTo>
                    <a:pt x="146" y="746"/>
                  </a:lnTo>
                  <a:lnTo>
                    <a:pt x="134" y="756"/>
                  </a:lnTo>
                  <a:lnTo>
                    <a:pt x="102" y="770"/>
                  </a:lnTo>
                  <a:lnTo>
                    <a:pt x="84" y="768"/>
                  </a:lnTo>
                  <a:lnTo>
                    <a:pt x="66" y="772"/>
                  </a:lnTo>
                  <a:lnTo>
                    <a:pt x="54" y="78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85760" y="3318120"/>
              <a:ext cx="115200" cy="51840"/>
            </a:xfrm>
            <a:custGeom>
              <a:avLst/>
              <a:gdLst/>
              <a:ahLst/>
              <a:rect l="l" t="t" r="r" b="b"/>
              <a:pathLst>
                <a:path w="662" h="304">
                  <a:moveTo>
                    <a:pt x="636" y="188"/>
                  </a:moveTo>
                  <a:lnTo>
                    <a:pt x="608" y="196"/>
                  </a:lnTo>
                  <a:lnTo>
                    <a:pt x="570" y="174"/>
                  </a:lnTo>
                  <a:lnTo>
                    <a:pt x="534" y="166"/>
                  </a:lnTo>
                  <a:lnTo>
                    <a:pt x="508" y="172"/>
                  </a:lnTo>
                  <a:lnTo>
                    <a:pt x="470" y="168"/>
                  </a:lnTo>
                  <a:lnTo>
                    <a:pt x="436" y="188"/>
                  </a:lnTo>
                  <a:lnTo>
                    <a:pt x="428" y="210"/>
                  </a:lnTo>
                  <a:lnTo>
                    <a:pt x="406" y="218"/>
                  </a:lnTo>
                  <a:lnTo>
                    <a:pt x="376" y="232"/>
                  </a:lnTo>
                  <a:lnTo>
                    <a:pt x="338" y="222"/>
                  </a:lnTo>
                  <a:lnTo>
                    <a:pt x="304" y="240"/>
                  </a:lnTo>
                  <a:lnTo>
                    <a:pt x="238" y="260"/>
                  </a:lnTo>
                  <a:lnTo>
                    <a:pt x="212" y="300"/>
                  </a:lnTo>
                  <a:lnTo>
                    <a:pt x="198" y="300"/>
                  </a:lnTo>
                  <a:lnTo>
                    <a:pt x="124" y="304"/>
                  </a:lnTo>
                  <a:lnTo>
                    <a:pt x="66" y="266"/>
                  </a:lnTo>
                  <a:lnTo>
                    <a:pt x="36" y="252"/>
                  </a:lnTo>
                  <a:lnTo>
                    <a:pt x="16" y="224"/>
                  </a:lnTo>
                  <a:lnTo>
                    <a:pt x="0" y="180"/>
                  </a:lnTo>
                  <a:lnTo>
                    <a:pt x="10" y="156"/>
                  </a:lnTo>
                  <a:lnTo>
                    <a:pt x="22" y="136"/>
                  </a:lnTo>
                  <a:lnTo>
                    <a:pt x="38" y="136"/>
                  </a:lnTo>
                  <a:lnTo>
                    <a:pt x="52" y="146"/>
                  </a:lnTo>
                  <a:lnTo>
                    <a:pt x="84" y="142"/>
                  </a:lnTo>
                  <a:lnTo>
                    <a:pt x="112" y="122"/>
                  </a:lnTo>
                  <a:lnTo>
                    <a:pt x="110" y="108"/>
                  </a:lnTo>
                  <a:lnTo>
                    <a:pt x="128" y="104"/>
                  </a:lnTo>
                  <a:lnTo>
                    <a:pt x="138" y="86"/>
                  </a:lnTo>
                  <a:lnTo>
                    <a:pt x="138" y="60"/>
                  </a:lnTo>
                  <a:lnTo>
                    <a:pt x="142" y="52"/>
                  </a:lnTo>
                  <a:lnTo>
                    <a:pt x="160" y="46"/>
                  </a:lnTo>
                  <a:lnTo>
                    <a:pt x="170" y="30"/>
                  </a:lnTo>
                  <a:lnTo>
                    <a:pt x="182" y="16"/>
                  </a:lnTo>
                  <a:lnTo>
                    <a:pt x="206" y="18"/>
                  </a:lnTo>
                  <a:lnTo>
                    <a:pt x="220" y="4"/>
                  </a:lnTo>
                  <a:lnTo>
                    <a:pt x="246" y="14"/>
                  </a:lnTo>
                  <a:lnTo>
                    <a:pt x="270" y="10"/>
                  </a:lnTo>
                  <a:lnTo>
                    <a:pt x="292" y="0"/>
                  </a:lnTo>
                  <a:lnTo>
                    <a:pt x="312" y="12"/>
                  </a:lnTo>
                  <a:lnTo>
                    <a:pt x="334" y="30"/>
                  </a:lnTo>
                  <a:lnTo>
                    <a:pt x="352" y="50"/>
                  </a:lnTo>
                  <a:lnTo>
                    <a:pt x="370" y="54"/>
                  </a:lnTo>
                  <a:lnTo>
                    <a:pt x="390" y="44"/>
                  </a:lnTo>
                  <a:lnTo>
                    <a:pt x="408" y="24"/>
                  </a:lnTo>
                  <a:lnTo>
                    <a:pt x="450" y="24"/>
                  </a:lnTo>
                  <a:lnTo>
                    <a:pt x="474" y="38"/>
                  </a:lnTo>
                  <a:lnTo>
                    <a:pt x="490" y="28"/>
                  </a:lnTo>
                  <a:lnTo>
                    <a:pt x="510" y="16"/>
                  </a:lnTo>
                  <a:lnTo>
                    <a:pt x="538" y="14"/>
                  </a:lnTo>
                  <a:lnTo>
                    <a:pt x="568" y="16"/>
                  </a:lnTo>
                  <a:lnTo>
                    <a:pt x="592" y="28"/>
                  </a:lnTo>
                  <a:lnTo>
                    <a:pt x="612" y="46"/>
                  </a:lnTo>
                  <a:lnTo>
                    <a:pt x="640" y="62"/>
                  </a:lnTo>
                  <a:lnTo>
                    <a:pt x="662" y="68"/>
                  </a:lnTo>
                  <a:lnTo>
                    <a:pt x="662" y="82"/>
                  </a:lnTo>
                  <a:lnTo>
                    <a:pt x="644" y="142"/>
                  </a:lnTo>
                  <a:lnTo>
                    <a:pt x="636" y="18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30960" y="3382200"/>
              <a:ext cx="6120" cy="104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20" y="64"/>
                  </a:moveTo>
                  <a:lnTo>
                    <a:pt x="32" y="48"/>
                  </a:lnTo>
                  <a:lnTo>
                    <a:pt x="32" y="26"/>
                  </a:lnTo>
                  <a:lnTo>
                    <a:pt x="26" y="10"/>
                  </a:lnTo>
                  <a:lnTo>
                    <a:pt x="10" y="0"/>
                  </a:lnTo>
                  <a:lnTo>
                    <a:pt x="2" y="20"/>
                  </a:lnTo>
                  <a:lnTo>
                    <a:pt x="0" y="40"/>
                  </a:lnTo>
                  <a:lnTo>
                    <a:pt x="20" y="6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5280" bIns="-352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080" y="3659760"/>
              <a:ext cx="145080" cy="148680"/>
            </a:xfrm>
            <a:custGeom>
              <a:avLst/>
              <a:gdLst/>
              <a:ahLst/>
              <a:rect l="l" t="t" r="r" b="b"/>
              <a:pathLst>
                <a:path w="836" h="870">
                  <a:moveTo>
                    <a:pt x="446" y="686"/>
                  </a:moveTo>
                  <a:lnTo>
                    <a:pt x="540" y="606"/>
                  </a:lnTo>
                  <a:lnTo>
                    <a:pt x="570" y="580"/>
                  </a:lnTo>
                  <a:lnTo>
                    <a:pt x="604" y="566"/>
                  </a:lnTo>
                  <a:lnTo>
                    <a:pt x="654" y="532"/>
                  </a:lnTo>
                  <a:lnTo>
                    <a:pt x="680" y="512"/>
                  </a:lnTo>
                  <a:lnTo>
                    <a:pt x="688" y="502"/>
                  </a:lnTo>
                  <a:lnTo>
                    <a:pt x="716" y="490"/>
                  </a:lnTo>
                  <a:lnTo>
                    <a:pt x="730" y="426"/>
                  </a:lnTo>
                  <a:lnTo>
                    <a:pt x="724" y="334"/>
                  </a:lnTo>
                  <a:lnTo>
                    <a:pt x="702" y="156"/>
                  </a:lnTo>
                  <a:lnTo>
                    <a:pt x="772" y="126"/>
                  </a:lnTo>
                  <a:lnTo>
                    <a:pt x="804" y="52"/>
                  </a:lnTo>
                  <a:lnTo>
                    <a:pt x="836" y="26"/>
                  </a:lnTo>
                  <a:lnTo>
                    <a:pt x="814" y="28"/>
                  </a:lnTo>
                  <a:lnTo>
                    <a:pt x="812" y="24"/>
                  </a:lnTo>
                  <a:lnTo>
                    <a:pt x="810" y="10"/>
                  </a:lnTo>
                  <a:lnTo>
                    <a:pt x="800" y="6"/>
                  </a:lnTo>
                  <a:lnTo>
                    <a:pt x="792" y="0"/>
                  </a:lnTo>
                  <a:lnTo>
                    <a:pt x="776" y="18"/>
                  </a:lnTo>
                  <a:lnTo>
                    <a:pt x="738" y="38"/>
                  </a:lnTo>
                  <a:lnTo>
                    <a:pt x="652" y="44"/>
                  </a:lnTo>
                  <a:lnTo>
                    <a:pt x="628" y="36"/>
                  </a:lnTo>
                  <a:lnTo>
                    <a:pt x="610" y="38"/>
                  </a:lnTo>
                  <a:lnTo>
                    <a:pt x="572" y="50"/>
                  </a:lnTo>
                  <a:lnTo>
                    <a:pt x="552" y="70"/>
                  </a:lnTo>
                  <a:lnTo>
                    <a:pt x="534" y="82"/>
                  </a:lnTo>
                  <a:lnTo>
                    <a:pt x="506" y="90"/>
                  </a:lnTo>
                  <a:lnTo>
                    <a:pt x="494" y="100"/>
                  </a:lnTo>
                  <a:lnTo>
                    <a:pt x="420" y="118"/>
                  </a:lnTo>
                  <a:lnTo>
                    <a:pt x="352" y="110"/>
                  </a:lnTo>
                  <a:lnTo>
                    <a:pt x="320" y="84"/>
                  </a:lnTo>
                  <a:lnTo>
                    <a:pt x="302" y="80"/>
                  </a:lnTo>
                  <a:lnTo>
                    <a:pt x="270" y="84"/>
                  </a:lnTo>
                  <a:lnTo>
                    <a:pt x="250" y="100"/>
                  </a:lnTo>
                  <a:lnTo>
                    <a:pt x="218" y="114"/>
                  </a:lnTo>
                  <a:lnTo>
                    <a:pt x="200" y="118"/>
                  </a:lnTo>
                  <a:lnTo>
                    <a:pt x="192" y="128"/>
                  </a:lnTo>
                  <a:lnTo>
                    <a:pt x="156" y="122"/>
                  </a:lnTo>
                  <a:lnTo>
                    <a:pt x="138" y="128"/>
                  </a:lnTo>
                  <a:lnTo>
                    <a:pt x="134" y="122"/>
                  </a:lnTo>
                  <a:lnTo>
                    <a:pt x="132" y="116"/>
                  </a:lnTo>
                  <a:lnTo>
                    <a:pt x="132" y="116"/>
                  </a:lnTo>
                  <a:lnTo>
                    <a:pt x="130" y="112"/>
                  </a:lnTo>
                  <a:lnTo>
                    <a:pt x="118" y="106"/>
                  </a:lnTo>
                  <a:lnTo>
                    <a:pt x="94" y="104"/>
                  </a:lnTo>
                  <a:lnTo>
                    <a:pt x="82" y="98"/>
                  </a:lnTo>
                  <a:lnTo>
                    <a:pt x="74" y="124"/>
                  </a:lnTo>
                  <a:lnTo>
                    <a:pt x="72" y="128"/>
                  </a:lnTo>
                  <a:lnTo>
                    <a:pt x="74" y="138"/>
                  </a:lnTo>
                  <a:lnTo>
                    <a:pt x="72" y="160"/>
                  </a:lnTo>
                  <a:lnTo>
                    <a:pt x="98" y="190"/>
                  </a:lnTo>
                  <a:lnTo>
                    <a:pt x="100" y="198"/>
                  </a:lnTo>
                  <a:lnTo>
                    <a:pt x="96" y="200"/>
                  </a:lnTo>
                  <a:lnTo>
                    <a:pt x="76" y="200"/>
                  </a:lnTo>
                  <a:lnTo>
                    <a:pt x="58" y="210"/>
                  </a:lnTo>
                  <a:lnTo>
                    <a:pt x="58" y="216"/>
                  </a:lnTo>
                  <a:lnTo>
                    <a:pt x="60" y="238"/>
                  </a:lnTo>
                  <a:lnTo>
                    <a:pt x="50" y="252"/>
                  </a:lnTo>
                  <a:lnTo>
                    <a:pt x="40" y="254"/>
                  </a:lnTo>
                  <a:lnTo>
                    <a:pt x="36" y="270"/>
                  </a:lnTo>
                  <a:lnTo>
                    <a:pt x="20" y="260"/>
                  </a:lnTo>
                  <a:lnTo>
                    <a:pt x="14" y="250"/>
                  </a:lnTo>
                  <a:lnTo>
                    <a:pt x="4" y="250"/>
                  </a:lnTo>
                  <a:lnTo>
                    <a:pt x="8" y="280"/>
                  </a:lnTo>
                  <a:lnTo>
                    <a:pt x="0" y="314"/>
                  </a:lnTo>
                  <a:lnTo>
                    <a:pt x="8" y="324"/>
                  </a:lnTo>
                  <a:lnTo>
                    <a:pt x="24" y="356"/>
                  </a:lnTo>
                  <a:lnTo>
                    <a:pt x="32" y="402"/>
                  </a:lnTo>
                  <a:lnTo>
                    <a:pt x="30" y="434"/>
                  </a:lnTo>
                  <a:lnTo>
                    <a:pt x="40" y="462"/>
                  </a:lnTo>
                  <a:lnTo>
                    <a:pt x="80" y="462"/>
                  </a:lnTo>
                  <a:lnTo>
                    <a:pt x="86" y="452"/>
                  </a:lnTo>
                  <a:lnTo>
                    <a:pt x="90" y="452"/>
                  </a:lnTo>
                  <a:lnTo>
                    <a:pt x="96" y="462"/>
                  </a:lnTo>
                  <a:lnTo>
                    <a:pt x="106" y="462"/>
                  </a:lnTo>
                  <a:lnTo>
                    <a:pt x="110" y="466"/>
                  </a:lnTo>
                  <a:lnTo>
                    <a:pt x="112" y="474"/>
                  </a:lnTo>
                  <a:lnTo>
                    <a:pt x="100" y="472"/>
                  </a:lnTo>
                  <a:lnTo>
                    <a:pt x="102" y="478"/>
                  </a:lnTo>
                  <a:lnTo>
                    <a:pt x="96" y="484"/>
                  </a:lnTo>
                  <a:lnTo>
                    <a:pt x="96" y="488"/>
                  </a:lnTo>
                  <a:lnTo>
                    <a:pt x="110" y="488"/>
                  </a:lnTo>
                  <a:lnTo>
                    <a:pt x="114" y="500"/>
                  </a:lnTo>
                  <a:lnTo>
                    <a:pt x="128" y="504"/>
                  </a:lnTo>
                  <a:lnTo>
                    <a:pt x="126" y="514"/>
                  </a:lnTo>
                  <a:lnTo>
                    <a:pt x="136" y="526"/>
                  </a:lnTo>
                  <a:lnTo>
                    <a:pt x="136" y="536"/>
                  </a:lnTo>
                  <a:lnTo>
                    <a:pt x="144" y="542"/>
                  </a:lnTo>
                  <a:lnTo>
                    <a:pt x="138" y="548"/>
                  </a:lnTo>
                  <a:lnTo>
                    <a:pt x="136" y="558"/>
                  </a:lnTo>
                  <a:lnTo>
                    <a:pt x="130" y="558"/>
                  </a:lnTo>
                  <a:lnTo>
                    <a:pt x="118" y="570"/>
                  </a:lnTo>
                  <a:lnTo>
                    <a:pt x="108" y="574"/>
                  </a:lnTo>
                  <a:lnTo>
                    <a:pt x="108" y="582"/>
                  </a:lnTo>
                  <a:lnTo>
                    <a:pt x="100" y="588"/>
                  </a:lnTo>
                  <a:lnTo>
                    <a:pt x="98" y="594"/>
                  </a:lnTo>
                  <a:lnTo>
                    <a:pt x="110" y="602"/>
                  </a:lnTo>
                  <a:lnTo>
                    <a:pt x="116" y="608"/>
                  </a:lnTo>
                  <a:lnTo>
                    <a:pt x="116" y="610"/>
                  </a:lnTo>
                  <a:lnTo>
                    <a:pt x="112" y="612"/>
                  </a:lnTo>
                  <a:lnTo>
                    <a:pt x="102" y="610"/>
                  </a:lnTo>
                  <a:lnTo>
                    <a:pt x="68" y="612"/>
                  </a:lnTo>
                  <a:lnTo>
                    <a:pt x="66" y="624"/>
                  </a:lnTo>
                  <a:lnTo>
                    <a:pt x="60" y="630"/>
                  </a:lnTo>
                  <a:lnTo>
                    <a:pt x="56" y="644"/>
                  </a:lnTo>
                  <a:lnTo>
                    <a:pt x="56" y="646"/>
                  </a:lnTo>
                  <a:lnTo>
                    <a:pt x="70" y="650"/>
                  </a:lnTo>
                  <a:lnTo>
                    <a:pt x="72" y="664"/>
                  </a:lnTo>
                  <a:lnTo>
                    <a:pt x="66" y="664"/>
                  </a:lnTo>
                  <a:lnTo>
                    <a:pt x="58" y="678"/>
                  </a:lnTo>
                  <a:lnTo>
                    <a:pt x="44" y="690"/>
                  </a:lnTo>
                  <a:lnTo>
                    <a:pt x="42" y="698"/>
                  </a:lnTo>
                  <a:lnTo>
                    <a:pt x="32" y="700"/>
                  </a:lnTo>
                  <a:lnTo>
                    <a:pt x="16" y="716"/>
                  </a:lnTo>
                  <a:lnTo>
                    <a:pt x="18" y="740"/>
                  </a:lnTo>
                  <a:lnTo>
                    <a:pt x="14" y="750"/>
                  </a:lnTo>
                  <a:lnTo>
                    <a:pt x="18" y="762"/>
                  </a:lnTo>
                  <a:lnTo>
                    <a:pt x="18" y="776"/>
                  </a:lnTo>
                  <a:lnTo>
                    <a:pt x="24" y="790"/>
                  </a:lnTo>
                  <a:lnTo>
                    <a:pt x="16" y="808"/>
                  </a:lnTo>
                  <a:lnTo>
                    <a:pt x="42" y="800"/>
                  </a:lnTo>
                  <a:lnTo>
                    <a:pt x="54" y="804"/>
                  </a:lnTo>
                  <a:lnTo>
                    <a:pt x="70" y="826"/>
                  </a:lnTo>
                  <a:lnTo>
                    <a:pt x="90" y="838"/>
                  </a:lnTo>
                  <a:lnTo>
                    <a:pt x="114" y="860"/>
                  </a:lnTo>
                  <a:lnTo>
                    <a:pt x="128" y="868"/>
                  </a:lnTo>
                  <a:lnTo>
                    <a:pt x="158" y="870"/>
                  </a:lnTo>
                  <a:lnTo>
                    <a:pt x="176" y="866"/>
                  </a:lnTo>
                  <a:lnTo>
                    <a:pt x="280" y="792"/>
                  </a:lnTo>
                  <a:lnTo>
                    <a:pt x="332" y="756"/>
                  </a:lnTo>
                  <a:lnTo>
                    <a:pt x="446" y="68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45840" y="3810600"/>
              <a:ext cx="526320" cy="479520"/>
            </a:xfrm>
            <a:custGeom>
              <a:avLst/>
              <a:gdLst/>
              <a:ahLst/>
              <a:rect l="l" t="t" r="r" b="b"/>
              <a:pathLst>
                <a:path w="3026" h="2806">
                  <a:moveTo>
                    <a:pt x="1610" y="502"/>
                  </a:moveTo>
                  <a:lnTo>
                    <a:pt x="1620" y="510"/>
                  </a:lnTo>
                  <a:lnTo>
                    <a:pt x="1676" y="518"/>
                  </a:lnTo>
                  <a:lnTo>
                    <a:pt x="1728" y="536"/>
                  </a:lnTo>
                  <a:lnTo>
                    <a:pt x="1748" y="554"/>
                  </a:lnTo>
                  <a:lnTo>
                    <a:pt x="1778" y="596"/>
                  </a:lnTo>
                  <a:lnTo>
                    <a:pt x="1860" y="596"/>
                  </a:lnTo>
                  <a:lnTo>
                    <a:pt x="1874" y="610"/>
                  </a:lnTo>
                  <a:lnTo>
                    <a:pt x="1886" y="638"/>
                  </a:lnTo>
                  <a:lnTo>
                    <a:pt x="1896" y="650"/>
                  </a:lnTo>
                  <a:lnTo>
                    <a:pt x="1904" y="670"/>
                  </a:lnTo>
                  <a:lnTo>
                    <a:pt x="1932" y="712"/>
                  </a:lnTo>
                  <a:lnTo>
                    <a:pt x="1954" y="722"/>
                  </a:lnTo>
                  <a:lnTo>
                    <a:pt x="1976" y="754"/>
                  </a:lnTo>
                  <a:lnTo>
                    <a:pt x="2014" y="780"/>
                  </a:lnTo>
                  <a:lnTo>
                    <a:pt x="2016" y="784"/>
                  </a:lnTo>
                  <a:lnTo>
                    <a:pt x="2010" y="794"/>
                  </a:lnTo>
                  <a:lnTo>
                    <a:pt x="2018" y="804"/>
                  </a:lnTo>
                  <a:lnTo>
                    <a:pt x="2028" y="832"/>
                  </a:lnTo>
                  <a:lnTo>
                    <a:pt x="2052" y="838"/>
                  </a:lnTo>
                  <a:lnTo>
                    <a:pt x="2064" y="848"/>
                  </a:lnTo>
                  <a:lnTo>
                    <a:pt x="2108" y="876"/>
                  </a:lnTo>
                  <a:lnTo>
                    <a:pt x="2122" y="888"/>
                  </a:lnTo>
                  <a:lnTo>
                    <a:pt x="2134" y="904"/>
                  </a:lnTo>
                  <a:lnTo>
                    <a:pt x="2138" y="912"/>
                  </a:lnTo>
                  <a:lnTo>
                    <a:pt x="2138" y="940"/>
                  </a:lnTo>
                  <a:lnTo>
                    <a:pt x="2162" y="970"/>
                  </a:lnTo>
                  <a:lnTo>
                    <a:pt x="2170" y="990"/>
                  </a:lnTo>
                  <a:lnTo>
                    <a:pt x="2170" y="1002"/>
                  </a:lnTo>
                  <a:lnTo>
                    <a:pt x="2158" y="1020"/>
                  </a:lnTo>
                  <a:lnTo>
                    <a:pt x="2164" y="1054"/>
                  </a:lnTo>
                  <a:lnTo>
                    <a:pt x="2188" y="1084"/>
                  </a:lnTo>
                  <a:lnTo>
                    <a:pt x="2228" y="1126"/>
                  </a:lnTo>
                  <a:lnTo>
                    <a:pt x="2244" y="1180"/>
                  </a:lnTo>
                  <a:lnTo>
                    <a:pt x="2260" y="1198"/>
                  </a:lnTo>
                  <a:lnTo>
                    <a:pt x="2264" y="1212"/>
                  </a:lnTo>
                  <a:lnTo>
                    <a:pt x="2272" y="1220"/>
                  </a:lnTo>
                  <a:lnTo>
                    <a:pt x="2278" y="1234"/>
                  </a:lnTo>
                  <a:lnTo>
                    <a:pt x="2284" y="1234"/>
                  </a:lnTo>
                  <a:lnTo>
                    <a:pt x="2308" y="1270"/>
                  </a:lnTo>
                  <a:lnTo>
                    <a:pt x="2322" y="1274"/>
                  </a:lnTo>
                  <a:lnTo>
                    <a:pt x="2338" y="1314"/>
                  </a:lnTo>
                  <a:lnTo>
                    <a:pt x="2432" y="1394"/>
                  </a:lnTo>
                  <a:lnTo>
                    <a:pt x="2490" y="1534"/>
                  </a:lnTo>
                  <a:lnTo>
                    <a:pt x="2918" y="1612"/>
                  </a:lnTo>
                  <a:lnTo>
                    <a:pt x="2940" y="1576"/>
                  </a:lnTo>
                  <a:lnTo>
                    <a:pt x="3026" y="1694"/>
                  </a:lnTo>
                  <a:lnTo>
                    <a:pt x="2970" y="2038"/>
                  </a:lnTo>
                  <a:lnTo>
                    <a:pt x="2568" y="2216"/>
                  </a:lnTo>
                  <a:lnTo>
                    <a:pt x="2132" y="2342"/>
                  </a:lnTo>
                  <a:lnTo>
                    <a:pt x="1820" y="2806"/>
                  </a:lnTo>
                  <a:lnTo>
                    <a:pt x="1806" y="2620"/>
                  </a:lnTo>
                  <a:lnTo>
                    <a:pt x="1538" y="2518"/>
                  </a:lnTo>
                  <a:lnTo>
                    <a:pt x="1454" y="2556"/>
                  </a:lnTo>
                  <a:lnTo>
                    <a:pt x="1398" y="2562"/>
                  </a:lnTo>
                  <a:lnTo>
                    <a:pt x="1384" y="2576"/>
                  </a:lnTo>
                  <a:lnTo>
                    <a:pt x="1378" y="2596"/>
                  </a:lnTo>
                  <a:lnTo>
                    <a:pt x="1356" y="2608"/>
                  </a:lnTo>
                  <a:lnTo>
                    <a:pt x="1342" y="2620"/>
                  </a:lnTo>
                  <a:lnTo>
                    <a:pt x="1340" y="2646"/>
                  </a:lnTo>
                  <a:lnTo>
                    <a:pt x="1328" y="2660"/>
                  </a:lnTo>
                  <a:lnTo>
                    <a:pt x="1300" y="2672"/>
                  </a:lnTo>
                  <a:lnTo>
                    <a:pt x="1292" y="2654"/>
                  </a:lnTo>
                  <a:lnTo>
                    <a:pt x="1290" y="2624"/>
                  </a:lnTo>
                  <a:lnTo>
                    <a:pt x="1256" y="2562"/>
                  </a:lnTo>
                  <a:lnTo>
                    <a:pt x="1246" y="2554"/>
                  </a:lnTo>
                  <a:lnTo>
                    <a:pt x="1232" y="2538"/>
                  </a:lnTo>
                  <a:lnTo>
                    <a:pt x="1218" y="2484"/>
                  </a:lnTo>
                  <a:lnTo>
                    <a:pt x="1168" y="2434"/>
                  </a:lnTo>
                  <a:lnTo>
                    <a:pt x="1146" y="2420"/>
                  </a:lnTo>
                  <a:lnTo>
                    <a:pt x="1132" y="2404"/>
                  </a:lnTo>
                  <a:lnTo>
                    <a:pt x="1100" y="2360"/>
                  </a:lnTo>
                  <a:lnTo>
                    <a:pt x="1068" y="2294"/>
                  </a:lnTo>
                  <a:lnTo>
                    <a:pt x="1056" y="2284"/>
                  </a:lnTo>
                  <a:lnTo>
                    <a:pt x="1050" y="2276"/>
                  </a:lnTo>
                  <a:lnTo>
                    <a:pt x="1038" y="2242"/>
                  </a:lnTo>
                  <a:lnTo>
                    <a:pt x="1036" y="2208"/>
                  </a:lnTo>
                  <a:lnTo>
                    <a:pt x="1024" y="2182"/>
                  </a:lnTo>
                  <a:lnTo>
                    <a:pt x="1006" y="2152"/>
                  </a:lnTo>
                  <a:lnTo>
                    <a:pt x="986" y="2132"/>
                  </a:lnTo>
                  <a:lnTo>
                    <a:pt x="976" y="2112"/>
                  </a:lnTo>
                  <a:lnTo>
                    <a:pt x="964" y="2102"/>
                  </a:lnTo>
                  <a:lnTo>
                    <a:pt x="940" y="2068"/>
                  </a:lnTo>
                  <a:lnTo>
                    <a:pt x="924" y="2052"/>
                  </a:lnTo>
                  <a:lnTo>
                    <a:pt x="884" y="2022"/>
                  </a:lnTo>
                  <a:lnTo>
                    <a:pt x="862" y="2010"/>
                  </a:lnTo>
                  <a:lnTo>
                    <a:pt x="856" y="2014"/>
                  </a:lnTo>
                  <a:lnTo>
                    <a:pt x="840" y="2006"/>
                  </a:lnTo>
                  <a:lnTo>
                    <a:pt x="804" y="1982"/>
                  </a:lnTo>
                  <a:lnTo>
                    <a:pt x="784" y="1966"/>
                  </a:lnTo>
                  <a:lnTo>
                    <a:pt x="772" y="1950"/>
                  </a:lnTo>
                  <a:lnTo>
                    <a:pt x="752" y="1912"/>
                  </a:lnTo>
                  <a:lnTo>
                    <a:pt x="742" y="1882"/>
                  </a:lnTo>
                  <a:lnTo>
                    <a:pt x="714" y="1764"/>
                  </a:lnTo>
                  <a:lnTo>
                    <a:pt x="702" y="1744"/>
                  </a:lnTo>
                  <a:lnTo>
                    <a:pt x="700" y="1730"/>
                  </a:lnTo>
                  <a:lnTo>
                    <a:pt x="706" y="1722"/>
                  </a:lnTo>
                  <a:lnTo>
                    <a:pt x="710" y="1702"/>
                  </a:lnTo>
                  <a:lnTo>
                    <a:pt x="710" y="1662"/>
                  </a:lnTo>
                  <a:lnTo>
                    <a:pt x="694" y="1622"/>
                  </a:lnTo>
                  <a:lnTo>
                    <a:pt x="686" y="1602"/>
                  </a:lnTo>
                  <a:lnTo>
                    <a:pt x="674" y="1588"/>
                  </a:lnTo>
                  <a:lnTo>
                    <a:pt x="662" y="1564"/>
                  </a:lnTo>
                  <a:lnTo>
                    <a:pt x="654" y="1536"/>
                  </a:lnTo>
                  <a:lnTo>
                    <a:pt x="642" y="1518"/>
                  </a:lnTo>
                  <a:lnTo>
                    <a:pt x="628" y="1488"/>
                  </a:lnTo>
                  <a:lnTo>
                    <a:pt x="590" y="1424"/>
                  </a:lnTo>
                  <a:lnTo>
                    <a:pt x="548" y="1384"/>
                  </a:lnTo>
                  <a:lnTo>
                    <a:pt x="522" y="1366"/>
                  </a:lnTo>
                  <a:lnTo>
                    <a:pt x="518" y="1358"/>
                  </a:lnTo>
                  <a:lnTo>
                    <a:pt x="510" y="1356"/>
                  </a:lnTo>
                  <a:lnTo>
                    <a:pt x="506" y="1348"/>
                  </a:lnTo>
                  <a:lnTo>
                    <a:pt x="484" y="1336"/>
                  </a:lnTo>
                  <a:lnTo>
                    <a:pt x="470" y="1338"/>
                  </a:lnTo>
                  <a:lnTo>
                    <a:pt x="460" y="1340"/>
                  </a:lnTo>
                  <a:lnTo>
                    <a:pt x="450" y="1336"/>
                  </a:lnTo>
                  <a:lnTo>
                    <a:pt x="442" y="1314"/>
                  </a:lnTo>
                  <a:lnTo>
                    <a:pt x="428" y="1292"/>
                  </a:lnTo>
                  <a:lnTo>
                    <a:pt x="410" y="1270"/>
                  </a:lnTo>
                  <a:lnTo>
                    <a:pt x="408" y="1244"/>
                  </a:lnTo>
                  <a:lnTo>
                    <a:pt x="410" y="1238"/>
                  </a:lnTo>
                  <a:lnTo>
                    <a:pt x="378" y="1156"/>
                  </a:lnTo>
                  <a:lnTo>
                    <a:pt x="362" y="1134"/>
                  </a:lnTo>
                  <a:lnTo>
                    <a:pt x="342" y="1098"/>
                  </a:lnTo>
                  <a:lnTo>
                    <a:pt x="320" y="1088"/>
                  </a:lnTo>
                  <a:lnTo>
                    <a:pt x="310" y="1076"/>
                  </a:lnTo>
                  <a:lnTo>
                    <a:pt x="304" y="1056"/>
                  </a:lnTo>
                  <a:lnTo>
                    <a:pt x="272" y="1018"/>
                  </a:lnTo>
                  <a:lnTo>
                    <a:pt x="242" y="950"/>
                  </a:lnTo>
                  <a:lnTo>
                    <a:pt x="224" y="928"/>
                  </a:lnTo>
                  <a:lnTo>
                    <a:pt x="204" y="914"/>
                  </a:lnTo>
                  <a:lnTo>
                    <a:pt x="168" y="868"/>
                  </a:lnTo>
                  <a:lnTo>
                    <a:pt x="164" y="852"/>
                  </a:lnTo>
                  <a:lnTo>
                    <a:pt x="142" y="828"/>
                  </a:lnTo>
                  <a:lnTo>
                    <a:pt x="120" y="784"/>
                  </a:lnTo>
                  <a:lnTo>
                    <a:pt x="78" y="712"/>
                  </a:lnTo>
                  <a:lnTo>
                    <a:pt x="64" y="702"/>
                  </a:lnTo>
                  <a:lnTo>
                    <a:pt x="42" y="702"/>
                  </a:lnTo>
                  <a:lnTo>
                    <a:pt x="22" y="698"/>
                  </a:lnTo>
                  <a:lnTo>
                    <a:pt x="16" y="696"/>
                  </a:lnTo>
                  <a:lnTo>
                    <a:pt x="4" y="700"/>
                  </a:lnTo>
                  <a:lnTo>
                    <a:pt x="0" y="712"/>
                  </a:lnTo>
                  <a:lnTo>
                    <a:pt x="20" y="634"/>
                  </a:lnTo>
                  <a:lnTo>
                    <a:pt x="16" y="574"/>
                  </a:lnTo>
                  <a:lnTo>
                    <a:pt x="18" y="550"/>
                  </a:lnTo>
                  <a:lnTo>
                    <a:pt x="26" y="524"/>
                  </a:lnTo>
                  <a:lnTo>
                    <a:pt x="20" y="482"/>
                  </a:lnTo>
                  <a:lnTo>
                    <a:pt x="28" y="506"/>
                  </a:lnTo>
                  <a:lnTo>
                    <a:pt x="182" y="524"/>
                  </a:lnTo>
                  <a:lnTo>
                    <a:pt x="218" y="478"/>
                  </a:lnTo>
                  <a:lnTo>
                    <a:pt x="220" y="468"/>
                  </a:lnTo>
                  <a:lnTo>
                    <a:pt x="248" y="398"/>
                  </a:lnTo>
                  <a:lnTo>
                    <a:pt x="350" y="380"/>
                  </a:lnTo>
                  <a:lnTo>
                    <a:pt x="352" y="356"/>
                  </a:lnTo>
                  <a:lnTo>
                    <a:pt x="360" y="312"/>
                  </a:lnTo>
                  <a:lnTo>
                    <a:pt x="410" y="278"/>
                  </a:lnTo>
                  <a:lnTo>
                    <a:pt x="412" y="274"/>
                  </a:lnTo>
                  <a:lnTo>
                    <a:pt x="266" y="134"/>
                  </a:lnTo>
                  <a:lnTo>
                    <a:pt x="244" y="118"/>
                  </a:lnTo>
                  <a:lnTo>
                    <a:pt x="338" y="92"/>
                  </a:lnTo>
                  <a:lnTo>
                    <a:pt x="496" y="54"/>
                  </a:lnTo>
                  <a:lnTo>
                    <a:pt x="530" y="0"/>
                  </a:lnTo>
                  <a:lnTo>
                    <a:pt x="742" y="56"/>
                  </a:lnTo>
                  <a:lnTo>
                    <a:pt x="912" y="176"/>
                  </a:lnTo>
                  <a:lnTo>
                    <a:pt x="1056" y="230"/>
                  </a:lnTo>
                  <a:lnTo>
                    <a:pt x="1072" y="242"/>
                  </a:lnTo>
                  <a:lnTo>
                    <a:pt x="1100" y="292"/>
                  </a:lnTo>
                  <a:lnTo>
                    <a:pt x="1172" y="298"/>
                  </a:lnTo>
                  <a:lnTo>
                    <a:pt x="1178" y="304"/>
                  </a:lnTo>
                  <a:lnTo>
                    <a:pt x="1192" y="410"/>
                  </a:lnTo>
                  <a:lnTo>
                    <a:pt x="1200" y="418"/>
                  </a:lnTo>
                  <a:lnTo>
                    <a:pt x="1364" y="492"/>
                  </a:lnTo>
                  <a:lnTo>
                    <a:pt x="1610" y="50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22200" y="3607560"/>
              <a:ext cx="302400" cy="271440"/>
            </a:xfrm>
            <a:custGeom>
              <a:avLst/>
              <a:gdLst/>
              <a:ahLst/>
              <a:rect l="l" t="t" r="r" b="b"/>
              <a:pathLst>
                <a:path w="1738" h="1596">
                  <a:moveTo>
                    <a:pt x="216" y="1526"/>
                  </a:moveTo>
                  <a:lnTo>
                    <a:pt x="232" y="1458"/>
                  </a:lnTo>
                  <a:lnTo>
                    <a:pt x="274" y="1382"/>
                  </a:lnTo>
                  <a:lnTo>
                    <a:pt x="278" y="1334"/>
                  </a:lnTo>
                  <a:lnTo>
                    <a:pt x="272" y="1296"/>
                  </a:lnTo>
                  <a:lnTo>
                    <a:pt x="248" y="1252"/>
                  </a:lnTo>
                  <a:lnTo>
                    <a:pt x="216" y="1228"/>
                  </a:lnTo>
                  <a:lnTo>
                    <a:pt x="186" y="1228"/>
                  </a:lnTo>
                  <a:lnTo>
                    <a:pt x="152" y="1218"/>
                  </a:lnTo>
                  <a:lnTo>
                    <a:pt x="124" y="1192"/>
                  </a:lnTo>
                  <a:lnTo>
                    <a:pt x="116" y="1160"/>
                  </a:lnTo>
                  <a:lnTo>
                    <a:pt x="110" y="1114"/>
                  </a:lnTo>
                  <a:lnTo>
                    <a:pt x="96" y="1064"/>
                  </a:lnTo>
                  <a:lnTo>
                    <a:pt x="70" y="1024"/>
                  </a:lnTo>
                  <a:lnTo>
                    <a:pt x="56" y="990"/>
                  </a:lnTo>
                  <a:lnTo>
                    <a:pt x="54" y="944"/>
                  </a:lnTo>
                  <a:lnTo>
                    <a:pt x="62" y="894"/>
                  </a:lnTo>
                  <a:lnTo>
                    <a:pt x="54" y="868"/>
                  </a:lnTo>
                  <a:lnTo>
                    <a:pt x="18" y="856"/>
                  </a:lnTo>
                  <a:lnTo>
                    <a:pt x="6" y="806"/>
                  </a:lnTo>
                  <a:lnTo>
                    <a:pt x="0" y="780"/>
                  </a:lnTo>
                  <a:lnTo>
                    <a:pt x="48" y="754"/>
                  </a:lnTo>
                  <a:lnTo>
                    <a:pt x="40" y="718"/>
                  </a:lnTo>
                  <a:lnTo>
                    <a:pt x="58" y="660"/>
                  </a:lnTo>
                  <a:lnTo>
                    <a:pt x="56" y="604"/>
                  </a:lnTo>
                  <a:lnTo>
                    <a:pt x="46" y="562"/>
                  </a:lnTo>
                  <a:lnTo>
                    <a:pt x="44" y="528"/>
                  </a:lnTo>
                  <a:lnTo>
                    <a:pt x="60" y="536"/>
                  </a:lnTo>
                  <a:lnTo>
                    <a:pt x="80" y="552"/>
                  </a:lnTo>
                  <a:lnTo>
                    <a:pt x="86" y="560"/>
                  </a:lnTo>
                  <a:lnTo>
                    <a:pt x="116" y="566"/>
                  </a:lnTo>
                  <a:lnTo>
                    <a:pt x="146" y="560"/>
                  </a:lnTo>
                  <a:lnTo>
                    <a:pt x="160" y="570"/>
                  </a:lnTo>
                  <a:lnTo>
                    <a:pt x="180" y="578"/>
                  </a:lnTo>
                  <a:lnTo>
                    <a:pt x="198" y="596"/>
                  </a:lnTo>
                  <a:lnTo>
                    <a:pt x="208" y="596"/>
                  </a:lnTo>
                  <a:lnTo>
                    <a:pt x="224" y="590"/>
                  </a:lnTo>
                  <a:lnTo>
                    <a:pt x="258" y="590"/>
                  </a:lnTo>
                  <a:lnTo>
                    <a:pt x="268" y="572"/>
                  </a:lnTo>
                  <a:lnTo>
                    <a:pt x="288" y="564"/>
                  </a:lnTo>
                  <a:lnTo>
                    <a:pt x="294" y="556"/>
                  </a:lnTo>
                  <a:lnTo>
                    <a:pt x="292" y="524"/>
                  </a:lnTo>
                  <a:lnTo>
                    <a:pt x="300" y="522"/>
                  </a:lnTo>
                  <a:lnTo>
                    <a:pt x="306" y="510"/>
                  </a:lnTo>
                  <a:lnTo>
                    <a:pt x="288" y="496"/>
                  </a:lnTo>
                  <a:lnTo>
                    <a:pt x="284" y="482"/>
                  </a:lnTo>
                  <a:lnTo>
                    <a:pt x="302" y="484"/>
                  </a:lnTo>
                  <a:lnTo>
                    <a:pt x="318" y="476"/>
                  </a:lnTo>
                  <a:lnTo>
                    <a:pt x="358" y="466"/>
                  </a:lnTo>
                  <a:lnTo>
                    <a:pt x="372" y="452"/>
                  </a:lnTo>
                  <a:lnTo>
                    <a:pt x="392" y="444"/>
                  </a:lnTo>
                  <a:lnTo>
                    <a:pt x="402" y="426"/>
                  </a:lnTo>
                  <a:lnTo>
                    <a:pt x="418" y="424"/>
                  </a:lnTo>
                  <a:lnTo>
                    <a:pt x="446" y="398"/>
                  </a:lnTo>
                  <a:lnTo>
                    <a:pt x="446" y="386"/>
                  </a:lnTo>
                  <a:lnTo>
                    <a:pt x="442" y="366"/>
                  </a:lnTo>
                  <a:lnTo>
                    <a:pt x="438" y="336"/>
                  </a:lnTo>
                  <a:lnTo>
                    <a:pt x="442" y="326"/>
                  </a:lnTo>
                  <a:lnTo>
                    <a:pt x="446" y="282"/>
                  </a:lnTo>
                  <a:lnTo>
                    <a:pt x="442" y="268"/>
                  </a:lnTo>
                  <a:lnTo>
                    <a:pt x="442" y="260"/>
                  </a:lnTo>
                  <a:lnTo>
                    <a:pt x="450" y="252"/>
                  </a:lnTo>
                  <a:lnTo>
                    <a:pt x="456" y="236"/>
                  </a:lnTo>
                  <a:lnTo>
                    <a:pt x="476" y="232"/>
                  </a:lnTo>
                  <a:lnTo>
                    <a:pt x="492" y="236"/>
                  </a:lnTo>
                  <a:lnTo>
                    <a:pt x="528" y="232"/>
                  </a:lnTo>
                  <a:lnTo>
                    <a:pt x="532" y="228"/>
                  </a:lnTo>
                  <a:lnTo>
                    <a:pt x="534" y="216"/>
                  </a:lnTo>
                  <a:lnTo>
                    <a:pt x="530" y="194"/>
                  </a:lnTo>
                  <a:lnTo>
                    <a:pt x="534" y="188"/>
                  </a:lnTo>
                  <a:lnTo>
                    <a:pt x="546" y="186"/>
                  </a:lnTo>
                  <a:lnTo>
                    <a:pt x="558" y="186"/>
                  </a:lnTo>
                  <a:lnTo>
                    <a:pt x="598" y="206"/>
                  </a:lnTo>
                  <a:lnTo>
                    <a:pt x="622" y="214"/>
                  </a:lnTo>
                  <a:lnTo>
                    <a:pt x="658" y="214"/>
                  </a:lnTo>
                  <a:lnTo>
                    <a:pt x="724" y="206"/>
                  </a:lnTo>
                  <a:lnTo>
                    <a:pt x="744" y="214"/>
                  </a:lnTo>
                  <a:lnTo>
                    <a:pt x="762" y="224"/>
                  </a:lnTo>
                  <a:lnTo>
                    <a:pt x="784" y="216"/>
                  </a:lnTo>
                  <a:lnTo>
                    <a:pt x="814" y="220"/>
                  </a:lnTo>
                  <a:lnTo>
                    <a:pt x="830" y="230"/>
                  </a:lnTo>
                  <a:lnTo>
                    <a:pt x="872" y="268"/>
                  </a:lnTo>
                  <a:lnTo>
                    <a:pt x="886" y="258"/>
                  </a:lnTo>
                  <a:lnTo>
                    <a:pt x="902" y="258"/>
                  </a:lnTo>
                  <a:lnTo>
                    <a:pt x="904" y="246"/>
                  </a:lnTo>
                  <a:lnTo>
                    <a:pt x="930" y="228"/>
                  </a:lnTo>
                  <a:lnTo>
                    <a:pt x="942" y="222"/>
                  </a:lnTo>
                  <a:lnTo>
                    <a:pt x="954" y="224"/>
                  </a:lnTo>
                  <a:lnTo>
                    <a:pt x="958" y="216"/>
                  </a:lnTo>
                  <a:lnTo>
                    <a:pt x="970" y="210"/>
                  </a:lnTo>
                  <a:lnTo>
                    <a:pt x="978" y="212"/>
                  </a:lnTo>
                  <a:lnTo>
                    <a:pt x="994" y="224"/>
                  </a:lnTo>
                  <a:lnTo>
                    <a:pt x="1030" y="234"/>
                  </a:lnTo>
                  <a:lnTo>
                    <a:pt x="1038" y="228"/>
                  </a:lnTo>
                  <a:lnTo>
                    <a:pt x="1038" y="222"/>
                  </a:lnTo>
                  <a:lnTo>
                    <a:pt x="1034" y="210"/>
                  </a:lnTo>
                  <a:lnTo>
                    <a:pt x="1026" y="200"/>
                  </a:lnTo>
                  <a:lnTo>
                    <a:pt x="1020" y="184"/>
                  </a:lnTo>
                  <a:lnTo>
                    <a:pt x="1034" y="152"/>
                  </a:lnTo>
                  <a:lnTo>
                    <a:pt x="1044" y="150"/>
                  </a:lnTo>
                  <a:lnTo>
                    <a:pt x="1060" y="158"/>
                  </a:lnTo>
                  <a:lnTo>
                    <a:pt x="1078" y="150"/>
                  </a:lnTo>
                  <a:lnTo>
                    <a:pt x="1100" y="162"/>
                  </a:lnTo>
                  <a:lnTo>
                    <a:pt x="1110" y="164"/>
                  </a:lnTo>
                  <a:lnTo>
                    <a:pt x="1116" y="162"/>
                  </a:lnTo>
                  <a:lnTo>
                    <a:pt x="1126" y="140"/>
                  </a:lnTo>
                  <a:lnTo>
                    <a:pt x="1126" y="130"/>
                  </a:lnTo>
                  <a:lnTo>
                    <a:pt x="1108" y="114"/>
                  </a:lnTo>
                  <a:lnTo>
                    <a:pt x="1106" y="102"/>
                  </a:lnTo>
                  <a:lnTo>
                    <a:pt x="1120" y="68"/>
                  </a:lnTo>
                  <a:lnTo>
                    <a:pt x="1132" y="28"/>
                  </a:lnTo>
                  <a:lnTo>
                    <a:pt x="1138" y="24"/>
                  </a:lnTo>
                  <a:lnTo>
                    <a:pt x="1140" y="8"/>
                  </a:lnTo>
                  <a:lnTo>
                    <a:pt x="1142" y="6"/>
                  </a:lnTo>
                  <a:lnTo>
                    <a:pt x="1158" y="8"/>
                  </a:lnTo>
                  <a:lnTo>
                    <a:pt x="1168" y="0"/>
                  </a:lnTo>
                  <a:lnTo>
                    <a:pt x="1192" y="2"/>
                  </a:lnTo>
                  <a:lnTo>
                    <a:pt x="1232" y="32"/>
                  </a:lnTo>
                  <a:lnTo>
                    <a:pt x="1236" y="48"/>
                  </a:lnTo>
                  <a:lnTo>
                    <a:pt x="1232" y="66"/>
                  </a:lnTo>
                  <a:lnTo>
                    <a:pt x="1234" y="78"/>
                  </a:lnTo>
                  <a:lnTo>
                    <a:pt x="1240" y="84"/>
                  </a:lnTo>
                  <a:lnTo>
                    <a:pt x="1256" y="92"/>
                  </a:lnTo>
                  <a:lnTo>
                    <a:pt x="1266" y="86"/>
                  </a:lnTo>
                  <a:lnTo>
                    <a:pt x="1276" y="90"/>
                  </a:lnTo>
                  <a:lnTo>
                    <a:pt x="1278" y="94"/>
                  </a:lnTo>
                  <a:lnTo>
                    <a:pt x="1284" y="102"/>
                  </a:lnTo>
                  <a:lnTo>
                    <a:pt x="1280" y="110"/>
                  </a:lnTo>
                  <a:lnTo>
                    <a:pt x="1280" y="124"/>
                  </a:lnTo>
                  <a:lnTo>
                    <a:pt x="1290" y="148"/>
                  </a:lnTo>
                  <a:lnTo>
                    <a:pt x="1294" y="162"/>
                  </a:lnTo>
                  <a:lnTo>
                    <a:pt x="1290" y="176"/>
                  </a:lnTo>
                  <a:lnTo>
                    <a:pt x="1298" y="200"/>
                  </a:lnTo>
                  <a:lnTo>
                    <a:pt x="1298" y="222"/>
                  </a:lnTo>
                  <a:lnTo>
                    <a:pt x="1310" y="246"/>
                  </a:lnTo>
                  <a:lnTo>
                    <a:pt x="1332" y="272"/>
                  </a:lnTo>
                  <a:lnTo>
                    <a:pt x="1352" y="300"/>
                  </a:lnTo>
                  <a:lnTo>
                    <a:pt x="1358" y="302"/>
                  </a:lnTo>
                  <a:lnTo>
                    <a:pt x="1368" y="304"/>
                  </a:lnTo>
                  <a:lnTo>
                    <a:pt x="1378" y="300"/>
                  </a:lnTo>
                  <a:lnTo>
                    <a:pt x="1404" y="278"/>
                  </a:lnTo>
                  <a:lnTo>
                    <a:pt x="1426" y="252"/>
                  </a:lnTo>
                  <a:lnTo>
                    <a:pt x="1472" y="238"/>
                  </a:lnTo>
                  <a:lnTo>
                    <a:pt x="1476" y="232"/>
                  </a:lnTo>
                  <a:lnTo>
                    <a:pt x="1482" y="216"/>
                  </a:lnTo>
                  <a:lnTo>
                    <a:pt x="1496" y="204"/>
                  </a:lnTo>
                  <a:lnTo>
                    <a:pt x="1498" y="196"/>
                  </a:lnTo>
                  <a:lnTo>
                    <a:pt x="1508" y="194"/>
                  </a:lnTo>
                  <a:lnTo>
                    <a:pt x="1524" y="176"/>
                  </a:lnTo>
                  <a:lnTo>
                    <a:pt x="1536" y="172"/>
                  </a:lnTo>
                  <a:lnTo>
                    <a:pt x="1548" y="158"/>
                  </a:lnTo>
                  <a:lnTo>
                    <a:pt x="1562" y="158"/>
                  </a:lnTo>
                  <a:lnTo>
                    <a:pt x="1572" y="164"/>
                  </a:lnTo>
                  <a:lnTo>
                    <a:pt x="1578" y="166"/>
                  </a:lnTo>
                  <a:lnTo>
                    <a:pt x="1588" y="164"/>
                  </a:lnTo>
                  <a:lnTo>
                    <a:pt x="1600" y="190"/>
                  </a:lnTo>
                  <a:lnTo>
                    <a:pt x="1608" y="198"/>
                  </a:lnTo>
                  <a:lnTo>
                    <a:pt x="1614" y="194"/>
                  </a:lnTo>
                  <a:lnTo>
                    <a:pt x="1626" y="180"/>
                  </a:lnTo>
                  <a:lnTo>
                    <a:pt x="1628" y="184"/>
                  </a:lnTo>
                  <a:lnTo>
                    <a:pt x="1634" y="182"/>
                  </a:lnTo>
                  <a:lnTo>
                    <a:pt x="1658" y="168"/>
                  </a:lnTo>
                  <a:lnTo>
                    <a:pt x="1682" y="164"/>
                  </a:lnTo>
                  <a:lnTo>
                    <a:pt x="1698" y="162"/>
                  </a:lnTo>
                  <a:lnTo>
                    <a:pt x="1712" y="170"/>
                  </a:lnTo>
                  <a:lnTo>
                    <a:pt x="1730" y="168"/>
                  </a:lnTo>
                  <a:lnTo>
                    <a:pt x="1736" y="178"/>
                  </a:lnTo>
                  <a:lnTo>
                    <a:pt x="1738" y="184"/>
                  </a:lnTo>
                  <a:lnTo>
                    <a:pt x="1728" y="188"/>
                  </a:lnTo>
                  <a:lnTo>
                    <a:pt x="1734" y="186"/>
                  </a:lnTo>
                  <a:lnTo>
                    <a:pt x="1728" y="188"/>
                  </a:lnTo>
                  <a:lnTo>
                    <a:pt x="1716" y="182"/>
                  </a:lnTo>
                  <a:lnTo>
                    <a:pt x="1708" y="186"/>
                  </a:lnTo>
                  <a:lnTo>
                    <a:pt x="1694" y="206"/>
                  </a:lnTo>
                  <a:lnTo>
                    <a:pt x="1702" y="214"/>
                  </a:lnTo>
                  <a:lnTo>
                    <a:pt x="1718" y="220"/>
                  </a:lnTo>
                  <a:lnTo>
                    <a:pt x="1726" y="230"/>
                  </a:lnTo>
                  <a:lnTo>
                    <a:pt x="1726" y="242"/>
                  </a:lnTo>
                  <a:lnTo>
                    <a:pt x="1702" y="240"/>
                  </a:lnTo>
                  <a:lnTo>
                    <a:pt x="1692" y="248"/>
                  </a:lnTo>
                  <a:lnTo>
                    <a:pt x="1686" y="248"/>
                  </a:lnTo>
                  <a:lnTo>
                    <a:pt x="1674" y="262"/>
                  </a:lnTo>
                  <a:lnTo>
                    <a:pt x="1662" y="262"/>
                  </a:lnTo>
                  <a:lnTo>
                    <a:pt x="1626" y="252"/>
                  </a:lnTo>
                  <a:lnTo>
                    <a:pt x="1610" y="254"/>
                  </a:lnTo>
                  <a:lnTo>
                    <a:pt x="1602" y="252"/>
                  </a:lnTo>
                  <a:lnTo>
                    <a:pt x="1520" y="262"/>
                  </a:lnTo>
                  <a:lnTo>
                    <a:pt x="1510" y="260"/>
                  </a:lnTo>
                  <a:lnTo>
                    <a:pt x="1490" y="272"/>
                  </a:lnTo>
                  <a:lnTo>
                    <a:pt x="1474" y="274"/>
                  </a:lnTo>
                  <a:lnTo>
                    <a:pt x="1456" y="290"/>
                  </a:lnTo>
                  <a:lnTo>
                    <a:pt x="1436" y="292"/>
                  </a:lnTo>
                  <a:lnTo>
                    <a:pt x="1428" y="300"/>
                  </a:lnTo>
                  <a:lnTo>
                    <a:pt x="1418" y="302"/>
                  </a:lnTo>
                  <a:lnTo>
                    <a:pt x="1420" y="312"/>
                  </a:lnTo>
                  <a:lnTo>
                    <a:pt x="1414" y="320"/>
                  </a:lnTo>
                  <a:lnTo>
                    <a:pt x="1394" y="326"/>
                  </a:lnTo>
                  <a:lnTo>
                    <a:pt x="1392" y="334"/>
                  </a:lnTo>
                  <a:lnTo>
                    <a:pt x="1396" y="344"/>
                  </a:lnTo>
                  <a:lnTo>
                    <a:pt x="1390" y="346"/>
                  </a:lnTo>
                  <a:lnTo>
                    <a:pt x="1378" y="340"/>
                  </a:lnTo>
                  <a:lnTo>
                    <a:pt x="1364" y="340"/>
                  </a:lnTo>
                  <a:lnTo>
                    <a:pt x="1362" y="344"/>
                  </a:lnTo>
                  <a:lnTo>
                    <a:pt x="1366" y="356"/>
                  </a:lnTo>
                  <a:lnTo>
                    <a:pt x="1334" y="390"/>
                  </a:lnTo>
                  <a:lnTo>
                    <a:pt x="1330" y="402"/>
                  </a:lnTo>
                  <a:lnTo>
                    <a:pt x="1330" y="416"/>
                  </a:lnTo>
                  <a:lnTo>
                    <a:pt x="1336" y="422"/>
                  </a:lnTo>
                  <a:lnTo>
                    <a:pt x="1358" y="434"/>
                  </a:lnTo>
                  <a:lnTo>
                    <a:pt x="1380" y="454"/>
                  </a:lnTo>
                  <a:lnTo>
                    <a:pt x="1398" y="488"/>
                  </a:lnTo>
                  <a:lnTo>
                    <a:pt x="1414" y="512"/>
                  </a:lnTo>
                  <a:lnTo>
                    <a:pt x="1416" y="516"/>
                  </a:lnTo>
                  <a:lnTo>
                    <a:pt x="1412" y="538"/>
                  </a:lnTo>
                  <a:lnTo>
                    <a:pt x="1416" y="544"/>
                  </a:lnTo>
                  <a:lnTo>
                    <a:pt x="1422" y="554"/>
                  </a:lnTo>
                  <a:lnTo>
                    <a:pt x="1424" y="570"/>
                  </a:lnTo>
                  <a:lnTo>
                    <a:pt x="1422" y="590"/>
                  </a:lnTo>
                  <a:lnTo>
                    <a:pt x="1412" y="608"/>
                  </a:lnTo>
                  <a:lnTo>
                    <a:pt x="1396" y="626"/>
                  </a:lnTo>
                  <a:lnTo>
                    <a:pt x="1386" y="646"/>
                  </a:lnTo>
                  <a:lnTo>
                    <a:pt x="1382" y="666"/>
                  </a:lnTo>
                  <a:lnTo>
                    <a:pt x="1376" y="678"/>
                  </a:lnTo>
                  <a:lnTo>
                    <a:pt x="1380" y="694"/>
                  </a:lnTo>
                  <a:lnTo>
                    <a:pt x="1394" y="698"/>
                  </a:lnTo>
                  <a:lnTo>
                    <a:pt x="1402" y="706"/>
                  </a:lnTo>
                  <a:lnTo>
                    <a:pt x="1398" y="716"/>
                  </a:lnTo>
                  <a:lnTo>
                    <a:pt x="1404" y="732"/>
                  </a:lnTo>
                  <a:lnTo>
                    <a:pt x="1392" y="758"/>
                  </a:lnTo>
                  <a:lnTo>
                    <a:pt x="1378" y="768"/>
                  </a:lnTo>
                  <a:lnTo>
                    <a:pt x="1354" y="776"/>
                  </a:lnTo>
                  <a:lnTo>
                    <a:pt x="1328" y="776"/>
                  </a:lnTo>
                  <a:lnTo>
                    <a:pt x="1280" y="764"/>
                  </a:lnTo>
                  <a:lnTo>
                    <a:pt x="1266" y="762"/>
                  </a:lnTo>
                  <a:lnTo>
                    <a:pt x="1258" y="768"/>
                  </a:lnTo>
                  <a:lnTo>
                    <a:pt x="1258" y="782"/>
                  </a:lnTo>
                  <a:lnTo>
                    <a:pt x="1264" y="792"/>
                  </a:lnTo>
                  <a:lnTo>
                    <a:pt x="1286" y="814"/>
                  </a:lnTo>
                  <a:lnTo>
                    <a:pt x="1296" y="816"/>
                  </a:lnTo>
                  <a:lnTo>
                    <a:pt x="1318" y="856"/>
                  </a:lnTo>
                  <a:lnTo>
                    <a:pt x="1332" y="868"/>
                  </a:lnTo>
                  <a:lnTo>
                    <a:pt x="1334" y="878"/>
                  </a:lnTo>
                  <a:lnTo>
                    <a:pt x="1326" y="894"/>
                  </a:lnTo>
                  <a:lnTo>
                    <a:pt x="1312" y="902"/>
                  </a:lnTo>
                  <a:lnTo>
                    <a:pt x="1294" y="924"/>
                  </a:lnTo>
                  <a:lnTo>
                    <a:pt x="1272" y="920"/>
                  </a:lnTo>
                  <a:lnTo>
                    <a:pt x="1246" y="930"/>
                  </a:lnTo>
                  <a:lnTo>
                    <a:pt x="1252" y="966"/>
                  </a:lnTo>
                  <a:lnTo>
                    <a:pt x="1240" y="974"/>
                  </a:lnTo>
                  <a:lnTo>
                    <a:pt x="1238" y="986"/>
                  </a:lnTo>
                  <a:lnTo>
                    <a:pt x="1248" y="1002"/>
                  </a:lnTo>
                  <a:lnTo>
                    <a:pt x="1248" y="1012"/>
                  </a:lnTo>
                  <a:lnTo>
                    <a:pt x="1242" y="1014"/>
                  </a:lnTo>
                  <a:lnTo>
                    <a:pt x="1236" y="1026"/>
                  </a:lnTo>
                  <a:lnTo>
                    <a:pt x="1232" y="1040"/>
                  </a:lnTo>
                  <a:lnTo>
                    <a:pt x="1232" y="1050"/>
                  </a:lnTo>
                  <a:lnTo>
                    <a:pt x="1246" y="1096"/>
                  </a:lnTo>
                  <a:lnTo>
                    <a:pt x="1258" y="1126"/>
                  </a:lnTo>
                  <a:lnTo>
                    <a:pt x="1260" y="1136"/>
                  </a:lnTo>
                  <a:lnTo>
                    <a:pt x="1226" y="1190"/>
                  </a:lnTo>
                  <a:lnTo>
                    <a:pt x="1218" y="1194"/>
                  </a:lnTo>
                  <a:lnTo>
                    <a:pt x="1204" y="1186"/>
                  </a:lnTo>
                  <a:lnTo>
                    <a:pt x="1196" y="1178"/>
                  </a:lnTo>
                  <a:lnTo>
                    <a:pt x="1190" y="1166"/>
                  </a:lnTo>
                  <a:lnTo>
                    <a:pt x="1168" y="1156"/>
                  </a:lnTo>
                  <a:lnTo>
                    <a:pt x="1158" y="1154"/>
                  </a:lnTo>
                  <a:lnTo>
                    <a:pt x="1156" y="1164"/>
                  </a:lnTo>
                  <a:lnTo>
                    <a:pt x="1166" y="1170"/>
                  </a:lnTo>
                  <a:lnTo>
                    <a:pt x="1170" y="1174"/>
                  </a:lnTo>
                  <a:lnTo>
                    <a:pt x="1126" y="1164"/>
                  </a:lnTo>
                  <a:lnTo>
                    <a:pt x="1110" y="1164"/>
                  </a:lnTo>
                  <a:lnTo>
                    <a:pt x="1102" y="1170"/>
                  </a:lnTo>
                  <a:lnTo>
                    <a:pt x="1096" y="1184"/>
                  </a:lnTo>
                  <a:lnTo>
                    <a:pt x="1060" y="1206"/>
                  </a:lnTo>
                  <a:lnTo>
                    <a:pt x="1054" y="1218"/>
                  </a:lnTo>
                  <a:lnTo>
                    <a:pt x="1058" y="1222"/>
                  </a:lnTo>
                  <a:lnTo>
                    <a:pt x="1078" y="1228"/>
                  </a:lnTo>
                  <a:lnTo>
                    <a:pt x="1080" y="1238"/>
                  </a:lnTo>
                  <a:lnTo>
                    <a:pt x="1076" y="1244"/>
                  </a:lnTo>
                  <a:lnTo>
                    <a:pt x="1056" y="1248"/>
                  </a:lnTo>
                  <a:lnTo>
                    <a:pt x="1032" y="1256"/>
                  </a:lnTo>
                  <a:lnTo>
                    <a:pt x="1008" y="1260"/>
                  </a:lnTo>
                  <a:lnTo>
                    <a:pt x="980" y="1260"/>
                  </a:lnTo>
                  <a:lnTo>
                    <a:pt x="978" y="1250"/>
                  </a:lnTo>
                  <a:lnTo>
                    <a:pt x="966" y="1244"/>
                  </a:lnTo>
                  <a:lnTo>
                    <a:pt x="952" y="1256"/>
                  </a:lnTo>
                  <a:lnTo>
                    <a:pt x="944" y="1284"/>
                  </a:lnTo>
                  <a:lnTo>
                    <a:pt x="920" y="1308"/>
                  </a:lnTo>
                  <a:lnTo>
                    <a:pt x="914" y="1326"/>
                  </a:lnTo>
                  <a:lnTo>
                    <a:pt x="914" y="1366"/>
                  </a:lnTo>
                  <a:lnTo>
                    <a:pt x="926" y="1400"/>
                  </a:lnTo>
                  <a:lnTo>
                    <a:pt x="928" y="1452"/>
                  </a:lnTo>
                  <a:lnTo>
                    <a:pt x="932" y="1462"/>
                  </a:lnTo>
                  <a:lnTo>
                    <a:pt x="940" y="1470"/>
                  </a:lnTo>
                  <a:lnTo>
                    <a:pt x="942" y="1488"/>
                  </a:lnTo>
                  <a:lnTo>
                    <a:pt x="928" y="1506"/>
                  </a:lnTo>
                  <a:lnTo>
                    <a:pt x="868" y="1520"/>
                  </a:lnTo>
                  <a:lnTo>
                    <a:pt x="824" y="1544"/>
                  </a:lnTo>
                  <a:lnTo>
                    <a:pt x="784" y="1556"/>
                  </a:lnTo>
                  <a:lnTo>
                    <a:pt x="722" y="1552"/>
                  </a:lnTo>
                  <a:lnTo>
                    <a:pt x="690" y="1554"/>
                  </a:lnTo>
                  <a:lnTo>
                    <a:pt x="674" y="1560"/>
                  </a:lnTo>
                  <a:lnTo>
                    <a:pt x="668" y="1568"/>
                  </a:lnTo>
                  <a:lnTo>
                    <a:pt x="664" y="1580"/>
                  </a:lnTo>
                  <a:lnTo>
                    <a:pt x="656" y="1588"/>
                  </a:lnTo>
                  <a:lnTo>
                    <a:pt x="614" y="1570"/>
                  </a:lnTo>
                  <a:lnTo>
                    <a:pt x="570" y="1570"/>
                  </a:lnTo>
                  <a:lnTo>
                    <a:pt x="536" y="1578"/>
                  </a:lnTo>
                  <a:lnTo>
                    <a:pt x="506" y="1576"/>
                  </a:lnTo>
                  <a:lnTo>
                    <a:pt x="486" y="1582"/>
                  </a:lnTo>
                  <a:lnTo>
                    <a:pt x="462" y="1582"/>
                  </a:lnTo>
                  <a:lnTo>
                    <a:pt x="456" y="1586"/>
                  </a:lnTo>
                  <a:lnTo>
                    <a:pt x="448" y="1592"/>
                  </a:lnTo>
                  <a:lnTo>
                    <a:pt x="438" y="1596"/>
                  </a:lnTo>
                  <a:lnTo>
                    <a:pt x="420" y="1592"/>
                  </a:lnTo>
                  <a:lnTo>
                    <a:pt x="370" y="1568"/>
                  </a:lnTo>
                  <a:lnTo>
                    <a:pt x="216" y="1526"/>
                  </a:lnTo>
                  <a:lnTo>
                    <a:pt x="216" y="1526"/>
                  </a:lnTo>
                </a:path>
              </a:pathLst>
            </a:custGeom>
            <a:solidFill>
              <a:srgbClr val="000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14320" y="3837960"/>
              <a:ext cx="205920" cy="113040"/>
            </a:xfrm>
            <a:custGeom>
              <a:avLst/>
              <a:gdLst/>
              <a:ahLst/>
              <a:rect l="l" t="t" r="r" b="b"/>
              <a:pathLst>
                <a:path w="1184" h="654">
                  <a:moveTo>
                    <a:pt x="1126" y="386"/>
                  </a:moveTo>
                  <a:lnTo>
                    <a:pt x="1122" y="406"/>
                  </a:lnTo>
                  <a:lnTo>
                    <a:pt x="1122" y="440"/>
                  </a:lnTo>
                  <a:lnTo>
                    <a:pt x="1136" y="482"/>
                  </a:lnTo>
                  <a:lnTo>
                    <a:pt x="1142" y="520"/>
                  </a:lnTo>
                  <a:lnTo>
                    <a:pt x="1136" y="536"/>
                  </a:lnTo>
                  <a:lnTo>
                    <a:pt x="1138" y="544"/>
                  </a:lnTo>
                  <a:lnTo>
                    <a:pt x="1162" y="558"/>
                  </a:lnTo>
                  <a:lnTo>
                    <a:pt x="1180" y="584"/>
                  </a:lnTo>
                  <a:lnTo>
                    <a:pt x="1184" y="604"/>
                  </a:lnTo>
                  <a:lnTo>
                    <a:pt x="1176" y="636"/>
                  </a:lnTo>
                  <a:lnTo>
                    <a:pt x="1178" y="644"/>
                  </a:lnTo>
                  <a:lnTo>
                    <a:pt x="1148" y="642"/>
                  </a:lnTo>
                  <a:lnTo>
                    <a:pt x="1124" y="650"/>
                  </a:lnTo>
                  <a:lnTo>
                    <a:pt x="1086" y="648"/>
                  </a:lnTo>
                  <a:lnTo>
                    <a:pt x="1066" y="654"/>
                  </a:lnTo>
                  <a:lnTo>
                    <a:pt x="1040" y="642"/>
                  </a:lnTo>
                  <a:lnTo>
                    <a:pt x="1012" y="640"/>
                  </a:lnTo>
                  <a:lnTo>
                    <a:pt x="998" y="642"/>
                  </a:lnTo>
                  <a:lnTo>
                    <a:pt x="876" y="624"/>
                  </a:lnTo>
                  <a:lnTo>
                    <a:pt x="856" y="606"/>
                  </a:lnTo>
                  <a:lnTo>
                    <a:pt x="832" y="598"/>
                  </a:lnTo>
                  <a:lnTo>
                    <a:pt x="800" y="602"/>
                  </a:lnTo>
                  <a:lnTo>
                    <a:pt x="750" y="594"/>
                  </a:lnTo>
                  <a:lnTo>
                    <a:pt x="712" y="572"/>
                  </a:lnTo>
                  <a:lnTo>
                    <a:pt x="694" y="556"/>
                  </a:lnTo>
                  <a:lnTo>
                    <a:pt x="660" y="518"/>
                  </a:lnTo>
                  <a:lnTo>
                    <a:pt x="642" y="508"/>
                  </a:lnTo>
                  <a:lnTo>
                    <a:pt x="594" y="500"/>
                  </a:lnTo>
                  <a:lnTo>
                    <a:pt x="584" y="500"/>
                  </a:lnTo>
                  <a:lnTo>
                    <a:pt x="582" y="510"/>
                  </a:lnTo>
                  <a:lnTo>
                    <a:pt x="566" y="508"/>
                  </a:lnTo>
                  <a:lnTo>
                    <a:pt x="540" y="500"/>
                  </a:lnTo>
                  <a:lnTo>
                    <a:pt x="514" y="498"/>
                  </a:lnTo>
                  <a:lnTo>
                    <a:pt x="496" y="514"/>
                  </a:lnTo>
                  <a:lnTo>
                    <a:pt x="482" y="514"/>
                  </a:lnTo>
                  <a:lnTo>
                    <a:pt x="430" y="502"/>
                  </a:lnTo>
                  <a:lnTo>
                    <a:pt x="398" y="468"/>
                  </a:lnTo>
                  <a:lnTo>
                    <a:pt x="388" y="462"/>
                  </a:lnTo>
                  <a:lnTo>
                    <a:pt x="368" y="460"/>
                  </a:lnTo>
                  <a:lnTo>
                    <a:pt x="358" y="462"/>
                  </a:lnTo>
                  <a:lnTo>
                    <a:pt x="330" y="440"/>
                  </a:lnTo>
                  <a:lnTo>
                    <a:pt x="300" y="428"/>
                  </a:lnTo>
                  <a:lnTo>
                    <a:pt x="274" y="424"/>
                  </a:lnTo>
                  <a:lnTo>
                    <a:pt x="246" y="412"/>
                  </a:lnTo>
                  <a:lnTo>
                    <a:pt x="230" y="402"/>
                  </a:lnTo>
                  <a:lnTo>
                    <a:pt x="190" y="362"/>
                  </a:lnTo>
                  <a:lnTo>
                    <a:pt x="164" y="346"/>
                  </a:lnTo>
                  <a:lnTo>
                    <a:pt x="142" y="336"/>
                  </a:lnTo>
                  <a:lnTo>
                    <a:pt x="128" y="324"/>
                  </a:lnTo>
                  <a:lnTo>
                    <a:pt x="90" y="306"/>
                  </a:lnTo>
                  <a:lnTo>
                    <a:pt x="84" y="306"/>
                  </a:lnTo>
                  <a:lnTo>
                    <a:pt x="84" y="318"/>
                  </a:lnTo>
                  <a:lnTo>
                    <a:pt x="74" y="318"/>
                  </a:lnTo>
                  <a:lnTo>
                    <a:pt x="60" y="306"/>
                  </a:lnTo>
                  <a:lnTo>
                    <a:pt x="52" y="292"/>
                  </a:lnTo>
                  <a:lnTo>
                    <a:pt x="36" y="278"/>
                  </a:lnTo>
                  <a:lnTo>
                    <a:pt x="8" y="274"/>
                  </a:lnTo>
                  <a:lnTo>
                    <a:pt x="4" y="266"/>
                  </a:lnTo>
                  <a:lnTo>
                    <a:pt x="0" y="246"/>
                  </a:lnTo>
                  <a:lnTo>
                    <a:pt x="8" y="226"/>
                  </a:lnTo>
                  <a:lnTo>
                    <a:pt x="16" y="222"/>
                  </a:lnTo>
                  <a:lnTo>
                    <a:pt x="14" y="204"/>
                  </a:lnTo>
                  <a:lnTo>
                    <a:pt x="20" y="190"/>
                  </a:lnTo>
                  <a:lnTo>
                    <a:pt x="6" y="168"/>
                  </a:lnTo>
                  <a:lnTo>
                    <a:pt x="8" y="146"/>
                  </a:lnTo>
                  <a:lnTo>
                    <a:pt x="16" y="130"/>
                  </a:lnTo>
                  <a:lnTo>
                    <a:pt x="6" y="110"/>
                  </a:lnTo>
                  <a:lnTo>
                    <a:pt x="2" y="100"/>
                  </a:lnTo>
                  <a:lnTo>
                    <a:pt x="10" y="86"/>
                  </a:lnTo>
                  <a:lnTo>
                    <a:pt x="24" y="84"/>
                  </a:lnTo>
                  <a:lnTo>
                    <a:pt x="26" y="64"/>
                  </a:lnTo>
                  <a:lnTo>
                    <a:pt x="40" y="50"/>
                  </a:lnTo>
                  <a:lnTo>
                    <a:pt x="48" y="34"/>
                  </a:lnTo>
                  <a:lnTo>
                    <a:pt x="46" y="20"/>
                  </a:lnTo>
                  <a:lnTo>
                    <a:pt x="50" y="16"/>
                  </a:lnTo>
                  <a:lnTo>
                    <a:pt x="58" y="20"/>
                  </a:lnTo>
                  <a:lnTo>
                    <a:pt x="72" y="16"/>
                  </a:lnTo>
                  <a:lnTo>
                    <a:pt x="78" y="18"/>
                  </a:lnTo>
                  <a:lnTo>
                    <a:pt x="90" y="32"/>
                  </a:lnTo>
                  <a:lnTo>
                    <a:pt x="114" y="48"/>
                  </a:lnTo>
                  <a:lnTo>
                    <a:pt x="114" y="42"/>
                  </a:lnTo>
                  <a:lnTo>
                    <a:pt x="110" y="34"/>
                  </a:lnTo>
                  <a:lnTo>
                    <a:pt x="114" y="22"/>
                  </a:lnTo>
                  <a:lnTo>
                    <a:pt x="110" y="6"/>
                  </a:lnTo>
                  <a:lnTo>
                    <a:pt x="112" y="2"/>
                  </a:lnTo>
                  <a:lnTo>
                    <a:pt x="116" y="0"/>
                  </a:lnTo>
                  <a:lnTo>
                    <a:pt x="156" y="4"/>
                  </a:lnTo>
                  <a:lnTo>
                    <a:pt x="162" y="8"/>
                  </a:lnTo>
                  <a:lnTo>
                    <a:pt x="210" y="16"/>
                  </a:lnTo>
                  <a:lnTo>
                    <a:pt x="264" y="30"/>
                  </a:lnTo>
                  <a:lnTo>
                    <a:pt x="276" y="38"/>
                  </a:lnTo>
                  <a:lnTo>
                    <a:pt x="300" y="60"/>
                  </a:lnTo>
                  <a:lnTo>
                    <a:pt x="328" y="82"/>
                  </a:lnTo>
                  <a:lnTo>
                    <a:pt x="362" y="92"/>
                  </a:lnTo>
                  <a:lnTo>
                    <a:pt x="398" y="120"/>
                  </a:lnTo>
                  <a:lnTo>
                    <a:pt x="420" y="142"/>
                  </a:lnTo>
                  <a:lnTo>
                    <a:pt x="438" y="190"/>
                  </a:lnTo>
                  <a:lnTo>
                    <a:pt x="448" y="200"/>
                  </a:lnTo>
                  <a:lnTo>
                    <a:pt x="464" y="206"/>
                  </a:lnTo>
                  <a:lnTo>
                    <a:pt x="474" y="208"/>
                  </a:lnTo>
                  <a:lnTo>
                    <a:pt x="482" y="194"/>
                  </a:lnTo>
                  <a:lnTo>
                    <a:pt x="488" y="192"/>
                  </a:lnTo>
                  <a:lnTo>
                    <a:pt x="496" y="182"/>
                  </a:lnTo>
                  <a:lnTo>
                    <a:pt x="494" y="174"/>
                  </a:lnTo>
                  <a:lnTo>
                    <a:pt x="500" y="164"/>
                  </a:lnTo>
                  <a:lnTo>
                    <a:pt x="510" y="164"/>
                  </a:lnTo>
                  <a:lnTo>
                    <a:pt x="524" y="162"/>
                  </a:lnTo>
                  <a:lnTo>
                    <a:pt x="540" y="166"/>
                  </a:lnTo>
                  <a:lnTo>
                    <a:pt x="548" y="172"/>
                  </a:lnTo>
                  <a:lnTo>
                    <a:pt x="542" y="188"/>
                  </a:lnTo>
                  <a:lnTo>
                    <a:pt x="550" y="206"/>
                  </a:lnTo>
                  <a:lnTo>
                    <a:pt x="554" y="242"/>
                  </a:lnTo>
                  <a:lnTo>
                    <a:pt x="558" y="250"/>
                  </a:lnTo>
                  <a:lnTo>
                    <a:pt x="570" y="242"/>
                  </a:lnTo>
                  <a:lnTo>
                    <a:pt x="580" y="258"/>
                  </a:lnTo>
                  <a:lnTo>
                    <a:pt x="588" y="266"/>
                  </a:lnTo>
                  <a:lnTo>
                    <a:pt x="600" y="266"/>
                  </a:lnTo>
                  <a:lnTo>
                    <a:pt x="616" y="274"/>
                  </a:lnTo>
                  <a:lnTo>
                    <a:pt x="630" y="272"/>
                  </a:lnTo>
                  <a:lnTo>
                    <a:pt x="648" y="280"/>
                  </a:lnTo>
                  <a:lnTo>
                    <a:pt x="672" y="280"/>
                  </a:lnTo>
                  <a:lnTo>
                    <a:pt x="682" y="278"/>
                  </a:lnTo>
                  <a:lnTo>
                    <a:pt x="692" y="266"/>
                  </a:lnTo>
                  <a:lnTo>
                    <a:pt x="698" y="270"/>
                  </a:lnTo>
                  <a:lnTo>
                    <a:pt x="702" y="308"/>
                  </a:lnTo>
                  <a:lnTo>
                    <a:pt x="710" y="324"/>
                  </a:lnTo>
                  <a:lnTo>
                    <a:pt x="752" y="350"/>
                  </a:lnTo>
                  <a:lnTo>
                    <a:pt x="768" y="342"/>
                  </a:lnTo>
                  <a:lnTo>
                    <a:pt x="790" y="346"/>
                  </a:lnTo>
                  <a:lnTo>
                    <a:pt x="808" y="362"/>
                  </a:lnTo>
                  <a:lnTo>
                    <a:pt x="812" y="374"/>
                  </a:lnTo>
                  <a:lnTo>
                    <a:pt x="826" y="390"/>
                  </a:lnTo>
                  <a:lnTo>
                    <a:pt x="838" y="396"/>
                  </a:lnTo>
                  <a:lnTo>
                    <a:pt x="852" y="392"/>
                  </a:lnTo>
                  <a:lnTo>
                    <a:pt x="858" y="384"/>
                  </a:lnTo>
                  <a:lnTo>
                    <a:pt x="878" y="396"/>
                  </a:lnTo>
                  <a:lnTo>
                    <a:pt x="890" y="390"/>
                  </a:lnTo>
                  <a:lnTo>
                    <a:pt x="906" y="396"/>
                  </a:lnTo>
                  <a:lnTo>
                    <a:pt x="912" y="394"/>
                  </a:lnTo>
                  <a:lnTo>
                    <a:pt x="916" y="376"/>
                  </a:lnTo>
                  <a:lnTo>
                    <a:pt x="926" y="370"/>
                  </a:lnTo>
                  <a:lnTo>
                    <a:pt x="950" y="372"/>
                  </a:lnTo>
                  <a:lnTo>
                    <a:pt x="972" y="390"/>
                  </a:lnTo>
                  <a:lnTo>
                    <a:pt x="998" y="396"/>
                  </a:lnTo>
                  <a:lnTo>
                    <a:pt x="1018" y="408"/>
                  </a:lnTo>
                  <a:lnTo>
                    <a:pt x="1028" y="408"/>
                  </a:lnTo>
                  <a:lnTo>
                    <a:pt x="1044" y="402"/>
                  </a:lnTo>
                  <a:lnTo>
                    <a:pt x="1080" y="410"/>
                  </a:lnTo>
                  <a:lnTo>
                    <a:pt x="1090" y="410"/>
                  </a:lnTo>
                  <a:lnTo>
                    <a:pt x="1096" y="386"/>
                  </a:lnTo>
                  <a:lnTo>
                    <a:pt x="1114" y="380"/>
                  </a:lnTo>
                  <a:lnTo>
                    <a:pt x="1126" y="38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4920" y="3945240"/>
              <a:ext cx="138600" cy="165240"/>
            </a:xfrm>
            <a:custGeom>
              <a:avLst/>
              <a:gdLst/>
              <a:ahLst/>
              <a:rect l="l" t="t" r="r" b="b"/>
              <a:pathLst>
                <a:path w="810" h="974">
                  <a:moveTo>
                    <a:pt x="780" y="970"/>
                  </a:moveTo>
                  <a:lnTo>
                    <a:pt x="774" y="974"/>
                  </a:lnTo>
                  <a:lnTo>
                    <a:pt x="746" y="924"/>
                  </a:lnTo>
                  <a:lnTo>
                    <a:pt x="710" y="836"/>
                  </a:lnTo>
                  <a:lnTo>
                    <a:pt x="696" y="794"/>
                  </a:lnTo>
                  <a:lnTo>
                    <a:pt x="674" y="734"/>
                  </a:lnTo>
                  <a:lnTo>
                    <a:pt x="614" y="654"/>
                  </a:lnTo>
                  <a:lnTo>
                    <a:pt x="594" y="640"/>
                  </a:lnTo>
                  <a:lnTo>
                    <a:pt x="570" y="652"/>
                  </a:lnTo>
                  <a:lnTo>
                    <a:pt x="538" y="656"/>
                  </a:lnTo>
                  <a:lnTo>
                    <a:pt x="516" y="646"/>
                  </a:lnTo>
                  <a:lnTo>
                    <a:pt x="494" y="616"/>
                  </a:lnTo>
                  <a:lnTo>
                    <a:pt x="486" y="622"/>
                  </a:lnTo>
                  <a:lnTo>
                    <a:pt x="484" y="654"/>
                  </a:lnTo>
                  <a:lnTo>
                    <a:pt x="468" y="670"/>
                  </a:lnTo>
                  <a:lnTo>
                    <a:pt x="484" y="708"/>
                  </a:lnTo>
                  <a:lnTo>
                    <a:pt x="492" y="740"/>
                  </a:lnTo>
                  <a:lnTo>
                    <a:pt x="460" y="818"/>
                  </a:lnTo>
                  <a:lnTo>
                    <a:pt x="448" y="812"/>
                  </a:lnTo>
                  <a:lnTo>
                    <a:pt x="414" y="774"/>
                  </a:lnTo>
                  <a:lnTo>
                    <a:pt x="406" y="794"/>
                  </a:lnTo>
                  <a:lnTo>
                    <a:pt x="406" y="810"/>
                  </a:lnTo>
                  <a:lnTo>
                    <a:pt x="386" y="836"/>
                  </a:lnTo>
                  <a:lnTo>
                    <a:pt x="374" y="814"/>
                  </a:lnTo>
                  <a:lnTo>
                    <a:pt x="362" y="828"/>
                  </a:lnTo>
                  <a:lnTo>
                    <a:pt x="336" y="826"/>
                  </a:lnTo>
                  <a:lnTo>
                    <a:pt x="336" y="840"/>
                  </a:lnTo>
                  <a:lnTo>
                    <a:pt x="326" y="836"/>
                  </a:lnTo>
                  <a:lnTo>
                    <a:pt x="318" y="838"/>
                  </a:lnTo>
                  <a:lnTo>
                    <a:pt x="312" y="852"/>
                  </a:lnTo>
                  <a:lnTo>
                    <a:pt x="304" y="860"/>
                  </a:lnTo>
                  <a:lnTo>
                    <a:pt x="286" y="854"/>
                  </a:lnTo>
                  <a:lnTo>
                    <a:pt x="262" y="814"/>
                  </a:lnTo>
                  <a:lnTo>
                    <a:pt x="262" y="798"/>
                  </a:lnTo>
                  <a:lnTo>
                    <a:pt x="254" y="784"/>
                  </a:lnTo>
                  <a:lnTo>
                    <a:pt x="242" y="752"/>
                  </a:lnTo>
                  <a:lnTo>
                    <a:pt x="240" y="730"/>
                  </a:lnTo>
                  <a:lnTo>
                    <a:pt x="230" y="702"/>
                  </a:lnTo>
                  <a:lnTo>
                    <a:pt x="214" y="686"/>
                  </a:lnTo>
                  <a:lnTo>
                    <a:pt x="200" y="662"/>
                  </a:lnTo>
                  <a:lnTo>
                    <a:pt x="194" y="632"/>
                  </a:lnTo>
                  <a:lnTo>
                    <a:pt x="196" y="628"/>
                  </a:lnTo>
                  <a:lnTo>
                    <a:pt x="190" y="580"/>
                  </a:lnTo>
                  <a:lnTo>
                    <a:pt x="184" y="568"/>
                  </a:lnTo>
                  <a:lnTo>
                    <a:pt x="174" y="564"/>
                  </a:lnTo>
                  <a:lnTo>
                    <a:pt x="164" y="520"/>
                  </a:lnTo>
                  <a:lnTo>
                    <a:pt x="144" y="502"/>
                  </a:lnTo>
                  <a:lnTo>
                    <a:pt x="138" y="478"/>
                  </a:lnTo>
                  <a:lnTo>
                    <a:pt x="136" y="444"/>
                  </a:lnTo>
                  <a:lnTo>
                    <a:pt x="126" y="382"/>
                  </a:lnTo>
                  <a:lnTo>
                    <a:pt x="98" y="354"/>
                  </a:lnTo>
                  <a:lnTo>
                    <a:pt x="80" y="342"/>
                  </a:lnTo>
                  <a:lnTo>
                    <a:pt x="48" y="328"/>
                  </a:lnTo>
                  <a:lnTo>
                    <a:pt x="26" y="318"/>
                  </a:lnTo>
                  <a:lnTo>
                    <a:pt x="18" y="300"/>
                  </a:lnTo>
                  <a:lnTo>
                    <a:pt x="18" y="284"/>
                  </a:lnTo>
                  <a:lnTo>
                    <a:pt x="22" y="260"/>
                  </a:lnTo>
                  <a:lnTo>
                    <a:pt x="42" y="254"/>
                  </a:lnTo>
                  <a:lnTo>
                    <a:pt x="54" y="244"/>
                  </a:lnTo>
                  <a:lnTo>
                    <a:pt x="54" y="224"/>
                  </a:lnTo>
                  <a:lnTo>
                    <a:pt x="104" y="218"/>
                  </a:lnTo>
                  <a:lnTo>
                    <a:pt x="96" y="192"/>
                  </a:lnTo>
                  <a:lnTo>
                    <a:pt x="86" y="184"/>
                  </a:lnTo>
                  <a:lnTo>
                    <a:pt x="86" y="172"/>
                  </a:lnTo>
                  <a:lnTo>
                    <a:pt x="50" y="176"/>
                  </a:lnTo>
                  <a:lnTo>
                    <a:pt x="28" y="162"/>
                  </a:lnTo>
                  <a:lnTo>
                    <a:pt x="12" y="124"/>
                  </a:lnTo>
                  <a:lnTo>
                    <a:pt x="0" y="114"/>
                  </a:lnTo>
                  <a:lnTo>
                    <a:pt x="18" y="42"/>
                  </a:lnTo>
                  <a:lnTo>
                    <a:pt x="16" y="8"/>
                  </a:lnTo>
                  <a:lnTo>
                    <a:pt x="26" y="0"/>
                  </a:lnTo>
                  <a:lnTo>
                    <a:pt x="60" y="46"/>
                  </a:lnTo>
                  <a:lnTo>
                    <a:pt x="82" y="68"/>
                  </a:lnTo>
                  <a:lnTo>
                    <a:pt x="78" y="48"/>
                  </a:lnTo>
                  <a:lnTo>
                    <a:pt x="78" y="10"/>
                  </a:lnTo>
                  <a:lnTo>
                    <a:pt x="94" y="16"/>
                  </a:lnTo>
                  <a:lnTo>
                    <a:pt x="112" y="60"/>
                  </a:lnTo>
                  <a:lnTo>
                    <a:pt x="138" y="86"/>
                  </a:lnTo>
                  <a:lnTo>
                    <a:pt x="148" y="72"/>
                  </a:lnTo>
                  <a:lnTo>
                    <a:pt x="174" y="90"/>
                  </a:lnTo>
                  <a:lnTo>
                    <a:pt x="182" y="46"/>
                  </a:lnTo>
                  <a:lnTo>
                    <a:pt x="192" y="60"/>
                  </a:lnTo>
                  <a:lnTo>
                    <a:pt x="214" y="116"/>
                  </a:lnTo>
                  <a:lnTo>
                    <a:pt x="240" y="168"/>
                  </a:lnTo>
                  <a:lnTo>
                    <a:pt x="262" y="194"/>
                  </a:lnTo>
                  <a:lnTo>
                    <a:pt x="292" y="206"/>
                  </a:lnTo>
                  <a:lnTo>
                    <a:pt x="404" y="212"/>
                  </a:lnTo>
                  <a:lnTo>
                    <a:pt x="412" y="206"/>
                  </a:lnTo>
                  <a:lnTo>
                    <a:pt x="448" y="198"/>
                  </a:lnTo>
                  <a:lnTo>
                    <a:pt x="504" y="202"/>
                  </a:lnTo>
                  <a:lnTo>
                    <a:pt x="566" y="212"/>
                  </a:lnTo>
                  <a:lnTo>
                    <a:pt x="608" y="228"/>
                  </a:lnTo>
                  <a:lnTo>
                    <a:pt x="606" y="242"/>
                  </a:lnTo>
                  <a:lnTo>
                    <a:pt x="586" y="258"/>
                  </a:lnTo>
                  <a:lnTo>
                    <a:pt x="586" y="298"/>
                  </a:lnTo>
                  <a:lnTo>
                    <a:pt x="566" y="342"/>
                  </a:lnTo>
                  <a:lnTo>
                    <a:pt x="546" y="370"/>
                  </a:lnTo>
                  <a:lnTo>
                    <a:pt x="518" y="390"/>
                  </a:lnTo>
                  <a:lnTo>
                    <a:pt x="492" y="418"/>
                  </a:lnTo>
                  <a:lnTo>
                    <a:pt x="492" y="442"/>
                  </a:lnTo>
                  <a:lnTo>
                    <a:pt x="508" y="490"/>
                  </a:lnTo>
                  <a:lnTo>
                    <a:pt x="538" y="546"/>
                  </a:lnTo>
                  <a:lnTo>
                    <a:pt x="564" y="552"/>
                  </a:lnTo>
                  <a:lnTo>
                    <a:pt x="584" y="578"/>
                  </a:lnTo>
                  <a:lnTo>
                    <a:pt x="606" y="594"/>
                  </a:lnTo>
                  <a:lnTo>
                    <a:pt x="612" y="570"/>
                  </a:lnTo>
                  <a:lnTo>
                    <a:pt x="614" y="508"/>
                  </a:lnTo>
                  <a:lnTo>
                    <a:pt x="632" y="464"/>
                  </a:lnTo>
                  <a:lnTo>
                    <a:pt x="646" y="466"/>
                  </a:lnTo>
                  <a:lnTo>
                    <a:pt x="674" y="506"/>
                  </a:lnTo>
                  <a:lnTo>
                    <a:pt x="698" y="558"/>
                  </a:lnTo>
                  <a:lnTo>
                    <a:pt x="712" y="580"/>
                  </a:lnTo>
                  <a:lnTo>
                    <a:pt x="724" y="606"/>
                  </a:lnTo>
                  <a:lnTo>
                    <a:pt x="756" y="690"/>
                  </a:lnTo>
                  <a:lnTo>
                    <a:pt x="788" y="788"/>
                  </a:lnTo>
                  <a:lnTo>
                    <a:pt x="786" y="798"/>
                  </a:lnTo>
                  <a:lnTo>
                    <a:pt x="810" y="886"/>
                  </a:lnTo>
                  <a:lnTo>
                    <a:pt x="778" y="876"/>
                  </a:lnTo>
                  <a:lnTo>
                    <a:pt x="768" y="890"/>
                  </a:lnTo>
                  <a:lnTo>
                    <a:pt x="770" y="916"/>
                  </a:lnTo>
                  <a:lnTo>
                    <a:pt x="780" y="97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4840" y="4386960"/>
              <a:ext cx="76320" cy="176040"/>
            </a:xfrm>
            <a:custGeom>
              <a:avLst/>
              <a:gdLst/>
              <a:ahLst/>
              <a:rect l="l" t="t" r="r" b="b"/>
              <a:pathLst>
                <a:path w="432" h="1036">
                  <a:moveTo>
                    <a:pt x="406" y="114"/>
                  </a:moveTo>
                  <a:lnTo>
                    <a:pt x="382" y="88"/>
                  </a:lnTo>
                  <a:lnTo>
                    <a:pt x="364" y="76"/>
                  </a:lnTo>
                  <a:lnTo>
                    <a:pt x="334" y="38"/>
                  </a:lnTo>
                  <a:lnTo>
                    <a:pt x="304" y="4"/>
                  </a:lnTo>
                  <a:lnTo>
                    <a:pt x="296" y="0"/>
                  </a:lnTo>
                  <a:lnTo>
                    <a:pt x="276" y="14"/>
                  </a:lnTo>
                  <a:lnTo>
                    <a:pt x="264" y="14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52" y="62"/>
                  </a:lnTo>
                  <a:lnTo>
                    <a:pt x="234" y="76"/>
                  </a:lnTo>
                  <a:lnTo>
                    <a:pt x="234" y="74"/>
                  </a:lnTo>
                  <a:lnTo>
                    <a:pt x="234" y="80"/>
                  </a:lnTo>
                  <a:lnTo>
                    <a:pt x="230" y="94"/>
                  </a:lnTo>
                  <a:lnTo>
                    <a:pt x="220" y="106"/>
                  </a:lnTo>
                  <a:lnTo>
                    <a:pt x="222" y="110"/>
                  </a:lnTo>
                  <a:lnTo>
                    <a:pt x="218" y="118"/>
                  </a:lnTo>
                  <a:lnTo>
                    <a:pt x="186" y="154"/>
                  </a:lnTo>
                  <a:lnTo>
                    <a:pt x="174" y="160"/>
                  </a:lnTo>
                  <a:lnTo>
                    <a:pt x="158" y="154"/>
                  </a:lnTo>
                  <a:lnTo>
                    <a:pt x="134" y="160"/>
                  </a:lnTo>
                  <a:lnTo>
                    <a:pt x="114" y="150"/>
                  </a:lnTo>
                  <a:lnTo>
                    <a:pt x="98" y="150"/>
                  </a:lnTo>
                  <a:lnTo>
                    <a:pt x="92" y="154"/>
                  </a:lnTo>
                  <a:lnTo>
                    <a:pt x="72" y="190"/>
                  </a:lnTo>
                  <a:lnTo>
                    <a:pt x="60" y="188"/>
                  </a:lnTo>
                  <a:lnTo>
                    <a:pt x="56" y="192"/>
                  </a:lnTo>
                  <a:lnTo>
                    <a:pt x="54" y="198"/>
                  </a:lnTo>
                  <a:lnTo>
                    <a:pt x="44" y="208"/>
                  </a:lnTo>
                  <a:lnTo>
                    <a:pt x="42" y="224"/>
                  </a:lnTo>
                  <a:lnTo>
                    <a:pt x="32" y="224"/>
                  </a:lnTo>
                  <a:lnTo>
                    <a:pt x="22" y="236"/>
                  </a:lnTo>
                  <a:lnTo>
                    <a:pt x="18" y="242"/>
                  </a:lnTo>
                  <a:lnTo>
                    <a:pt x="12" y="268"/>
                  </a:lnTo>
                  <a:lnTo>
                    <a:pt x="4" y="286"/>
                  </a:lnTo>
                  <a:lnTo>
                    <a:pt x="0" y="320"/>
                  </a:lnTo>
                  <a:lnTo>
                    <a:pt x="2" y="344"/>
                  </a:lnTo>
                  <a:lnTo>
                    <a:pt x="12" y="356"/>
                  </a:lnTo>
                  <a:lnTo>
                    <a:pt x="32" y="368"/>
                  </a:lnTo>
                  <a:lnTo>
                    <a:pt x="40" y="368"/>
                  </a:lnTo>
                  <a:lnTo>
                    <a:pt x="52" y="376"/>
                  </a:lnTo>
                  <a:lnTo>
                    <a:pt x="86" y="422"/>
                  </a:lnTo>
                  <a:lnTo>
                    <a:pt x="106" y="482"/>
                  </a:lnTo>
                  <a:lnTo>
                    <a:pt x="122" y="546"/>
                  </a:lnTo>
                  <a:lnTo>
                    <a:pt x="132" y="576"/>
                  </a:lnTo>
                  <a:lnTo>
                    <a:pt x="134" y="594"/>
                  </a:lnTo>
                  <a:lnTo>
                    <a:pt x="142" y="620"/>
                  </a:lnTo>
                  <a:lnTo>
                    <a:pt x="148" y="654"/>
                  </a:lnTo>
                  <a:lnTo>
                    <a:pt x="152" y="710"/>
                  </a:lnTo>
                  <a:lnTo>
                    <a:pt x="154" y="866"/>
                  </a:lnTo>
                  <a:lnTo>
                    <a:pt x="142" y="938"/>
                  </a:lnTo>
                  <a:lnTo>
                    <a:pt x="142" y="966"/>
                  </a:lnTo>
                  <a:lnTo>
                    <a:pt x="152" y="1008"/>
                  </a:lnTo>
                  <a:lnTo>
                    <a:pt x="160" y="1030"/>
                  </a:lnTo>
                  <a:lnTo>
                    <a:pt x="162" y="1034"/>
                  </a:lnTo>
                  <a:lnTo>
                    <a:pt x="178" y="1036"/>
                  </a:lnTo>
                  <a:lnTo>
                    <a:pt x="294" y="1024"/>
                  </a:lnTo>
                  <a:lnTo>
                    <a:pt x="286" y="1016"/>
                  </a:lnTo>
                  <a:lnTo>
                    <a:pt x="280" y="898"/>
                  </a:lnTo>
                  <a:lnTo>
                    <a:pt x="284" y="872"/>
                  </a:lnTo>
                  <a:lnTo>
                    <a:pt x="296" y="808"/>
                  </a:lnTo>
                  <a:lnTo>
                    <a:pt x="292" y="712"/>
                  </a:lnTo>
                  <a:lnTo>
                    <a:pt x="296" y="654"/>
                  </a:lnTo>
                  <a:lnTo>
                    <a:pt x="306" y="618"/>
                  </a:lnTo>
                  <a:lnTo>
                    <a:pt x="336" y="556"/>
                  </a:lnTo>
                  <a:lnTo>
                    <a:pt x="340" y="512"/>
                  </a:lnTo>
                  <a:lnTo>
                    <a:pt x="346" y="480"/>
                  </a:lnTo>
                  <a:lnTo>
                    <a:pt x="368" y="450"/>
                  </a:lnTo>
                  <a:lnTo>
                    <a:pt x="406" y="418"/>
                  </a:lnTo>
                  <a:lnTo>
                    <a:pt x="406" y="400"/>
                  </a:lnTo>
                  <a:lnTo>
                    <a:pt x="416" y="392"/>
                  </a:lnTo>
                  <a:lnTo>
                    <a:pt x="416" y="386"/>
                  </a:lnTo>
                  <a:lnTo>
                    <a:pt x="414" y="378"/>
                  </a:lnTo>
                  <a:lnTo>
                    <a:pt x="404" y="362"/>
                  </a:lnTo>
                  <a:lnTo>
                    <a:pt x="402" y="352"/>
                  </a:lnTo>
                  <a:lnTo>
                    <a:pt x="408" y="336"/>
                  </a:lnTo>
                  <a:lnTo>
                    <a:pt x="418" y="330"/>
                  </a:lnTo>
                  <a:lnTo>
                    <a:pt x="430" y="330"/>
                  </a:lnTo>
                  <a:lnTo>
                    <a:pt x="432" y="324"/>
                  </a:lnTo>
                  <a:lnTo>
                    <a:pt x="430" y="268"/>
                  </a:lnTo>
                  <a:lnTo>
                    <a:pt x="422" y="224"/>
                  </a:lnTo>
                  <a:lnTo>
                    <a:pt x="418" y="208"/>
                  </a:lnTo>
                  <a:lnTo>
                    <a:pt x="394" y="178"/>
                  </a:lnTo>
                  <a:lnTo>
                    <a:pt x="390" y="166"/>
                  </a:lnTo>
                  <a:lnTo>
                    <a:pt x="394" y="132"/>
                  </a:lnTo>
                  <a:lnTo>
                    <a:pt x="406" y="1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45000" y="4676760"/>
              <a:ext cx="138600" cy="180720"/>
            </a:xfrm>
            <a:custGeom>
              <a:avLst/>
              <a:gdLst/>
              <a:ahLst/>
              <a:rect l="l" t="t" r="r" b="b"/>
              <a:pathLst>
                <a:path w="796" h="1056">
                  <a:moveTo>
                    <a:pt x="332" y="1056"/>
                  </a:moveTo>
                  <a:lnTo>
                    <a:pt x="316" y="1014"/>
                  </a:lnTo>
                  <a:lnTo>
                    <a:pt x="288" y="984"/>
                  </a:lnTo>
                  <a:lnTo>
                    <a:pt x="254" y="938"/>
                  </a:lnTo>
                  <a:lnTo>
                    <a:pt x="162" y="844"/>
                  </a:lnTo>
                  <a:lnTo>
                    <a:pt x="142" y="808"/>
                  </a:lnTo>
                  <a:lnTo>
                    <a:pt x="118" y="772"/>
                  </a:lnTo>
                  <a:lnTo>
                    <a:pt x="88" y="730"/>
                  </a:lnTo>
                  <a:lnTo>
                    <a:pt x="72" y="712"/>
                  </a:lnTo>
                  <a:lnTo>
                    <a:pt x="46" y="640"/>
                  </a:lnTo>
                  <a:lnTo>
                    <a:pt x="36" y="598"/>
                  </a:lnTo>
                  <a:lnTo>
                    <a:pt x="14" y="546"/>
                  </a:lnTo>
                  <a:lnTo>
                    <a:pt x="0" y="516"/>
                  </a:lnTo>
                  <a:lnTo>
                    <a:pt x="12" y="514"/>
                  </a:lnTo>
                  <a:lnTo>
                    <a:pt x="32" y="506"/>
                  </a:lnTo>
                  <a:lnTo>
                    <a:pt x="46" y="480"/>
                  </a:lnTo>
                  <a:lnTo>
                    <a:pt x="66" y="462"/>
                  </a:lnTo>
                  <a:lnTo>
                    <a:pt x="70" y="422"/>
                  </a:lnTo>
                  <a:lnTo>
                    <a:pt x="74" y="346"/>
                  </a:lnTo>
                  <a:lnTo>
                    <a:pt x="86" y="348"/>
                  </a:lnTo>
                  <a:lnTo>
                    <a:pt x="98" y="364"/>
                  </a:lnTo>
                  <a:lnTo>
                    <a:pt x="120" y="374"/>
                  </a:lnTo>
                  <a:lnTo>
                    <a:pt x="152" y="374"/>
                  </a:lnTo>
                  <a:lnTo>
                    <a:pt x="158" y="366"/>
                  </a:lnTo>
                  <a:lnTo>
                    <a:pt x="150" y="358"/>
                  </a:lnTo>
                  <a:lnTo>
                    <a:pt x="126" y="352"/>
                  </a:lnTo>
                  <a:lnTo>
                    <a:pt x="106" y="336"/>
                  </a:lnTo>
                  <a:lnTo>
                    <a:pt x="90" y="320"/>
                  </a:lnTo>
                  <a:lnTo>
                    <a:pt x="82" y="302"/>
                  </a:lnTo>
                  <a:lnTo>
                    <a:pt x="86" y="288"/>
                  </a:lnTo>
                  <a:lnTo>
                    <a:pt x="106" y="286"/>
                  </a:lnTo>
                  <a:lnTo>
                    <a:pt x="112" y="270"/>
                  </a:lnTo>
                  <a:lnTo>
                    <a:pt x="112" y="224"/>
                  </a:lnTo>
                  <a:lnTo>
                    <a:pt x="174" y="206"/>
                  </a:lnTo>
                  <a:lnTo>
                    <a:pt x="358" y="202"/>
                  </a:lnTo>
                  <a:lnTo>
                    <a:pt x="354" y="192"/>
                  </a:lnTo>
                  <a:lnTo>
                    <a:pt x="346" y="132"/>
                  </a:lnTo>
                  <a:lnTo>
                    <a:pt x="344" y="58"/>
                  </a:lnTo>
                  <a:lnTo>
                    <a:pt x="358" y="14"/>
                  </a:lnTo>
                  <a:lnTo>
                    <a:pt x="396" y="4"/>
                  </a:lnTo>
                  <a:lnTo>
                    <a:pt x="434" y="10"/>
                  </a:lnTo>
                  <a:lnTo>
                    <a:pt x="484" y="0"/>
                  </a:lnTo>
                  <a:lnTo>
                    <a:pt x="528" y="12"/>
                  </a:lnTo>
                  <a:lnTo>
                    <a:pt x="620" y="14"/>
                  </a:lnTo>
                  <a:lnTo>
                    <a:pt x="644" y="22"/>
                  </a:lnTo>
                  <a:lnTo>
                    <a:pt x="626" y="66"/>
                  </a:lnTo>
                  <a:lnTo>
                    <a:pt x="624" y="124"/>
                  </a:lnTo>
                  <a:lnTo>
                    <a:pt x="626" y="182"/>
                  </a:lnTo>
                  <a:lnTo>
                    <a:pt x="648" y="196"/>
                  </a:lnTo>
                  <a:lnTo>
                    <a:pt x="690" y="124"/>
                  </a:lnTo>
                  <a:lnTo>
                    <a:pt x="766" y="146"/>
                  </a:lnTo>
                  <a:lnTo>
                    <a:pt x="794" y="182"/>
                  </a:lnTo>
                  <a:lnTo>
                    <a:pt x="796" y="250"/>
                  </a:lnTo>
                  <a:lnTo>
                    <a:pt x="750" y="342"/>
                  </a:lnTo>
                  <a:lnTo>
                    <a:pt x="746" y="392"/>
                  </a:lnTo>
                  <a:lnTo>
                    <a:pt x="758" y="434"/>
                  </a:lnTo>
                  <a:lnTo>
                    <a:pt x="786" y="522"/>
                  </a:lnTo>
                  <a:lnTo>
                    <a:pt x="784" y="570"/>
                  </a:lnTo>
                  <a:lnTo>
                    <a:pt x="772" y="612"/>
                  </a:lnTo>
                  <a:lnTo>
                    <a:pt x="766" y="726"/>
                  </a:lnTo>
                  <a:lnTo>
                    <a:pt x="754" y="778"/>
                  </a:lnTo>
                  <a:lnTo>
                    <a:pt x="714" y="796"/>
                  </a:lnTo>
                  <a:lnTo>
                    <a:pt x="664" y="746"/>
                  </a:lnTo>
                  <a:lnTo>
                    <a:pt x="600" y="752"/>
                  </a:lnTo>
                  <a:lnTo>
                    <a:pt x="576" y="718"/>
                  </a:lnTo>
                  <a:lnTo>
                    <a:pt x="554" y="706"/>
                  </a:lnTo>
                  <a:lnTo>
                    <a:pt x="528" y="730"/>
                  </a:lnTo>
                  <a:lnTo>
                    <a:pt x="504" y="762"/>
                  </a:lnTo>
                  <a:lnTo>
                    <a:pt x="444" y="792"/>
                  </a:lnTo>
                  <a:lnTo>
                    <a:pt x="416" y="816"/>
                  </a:lnTo>
                  <a:lnTo>
                    <a:pt x="402" y="842"/>
                  </a:lnTo>
                  <a:lnTo>
                    <a:pt x="400" y="880"/>
                  </a:lnTo>
                  <a:lnTo>
                    <a:pt x="412" y="920"/>
                  </a:lnTo>
                  <a:lnTo>
                    <a:pt x="420" y="964"/>
                  </a:lnTo>
                  <a:lnTo>
                    <a:pt x="412" y="980"/>
                  </a:lnTo>
                  <a:lnTo>
                    <a:pt x="382" y="978"/>
                  </a:lnTo>
                  <a:lnTo>
                    <a:pt x="354" y="986"/>
                  </a:lnTo>
                  <a:lnTo>
                    <a:pt x="338" y="1010"/>
                  </a:lnTo>
                  <a:lnTo>
                    <a:pt x="332" y="105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45840" y="4313160"/>
              <a:ext cx="372960" cy="327960"/>
            </a:xfrm>
            <a:custGeom>
              <a:avLst/>
              <a:gdLst/>
              <a:ahLst/>
              <a:rect l="l" t="t" r="r" b="b"/>
              <a:pathLst>
                <a:path w="2146" h="1918">
                  <a:moveTo>
                    <a:pt x="454" y="98"/>
                  </a:moveTo>
                  <a:lnTo>
                    <a:pt x="456" y="142"/>
                  </a:lnTo>
                  <a:lnTo>
                    <a:pt x="420" y="320"/>
                  </a:lnTo>
                  <a:lnTo>
                    <a:pt x="404" y="342"/>
                  </a:lnTo>
                  <a:lnTo>
                    <a:pt x="382" y="352"/>
                  </a:lnTo>
                  <a:lnTo>
                    <a:pt x="358" y="380"/>
                  </a:lnTo>
                  <a:lnTo>
                    <a:pt x="274" y="530"/>
                  </a:lnTo>
                  <a:lnTo>
                    <a:pt x="266" y="570"/>
                  </a:lnTo>
                  <a:lnTo>
                    <a:pt x="254" y="654"/>
                  </a:lnTo>
                  <a:lnTo>
                    <a:pt x="244" y="668"/>
                  </a:lnTo>
                  <a:lnTo>
                    <a:pt x="214" y="666"/>
                  </a:lnTo>
                  <a:lnTo>
                    <a:pt x="194" y="684"/>
                  </a:lnTo>
                  <a:lnTo>
                    <a:pt x="178" y="720"/>
                  </a:lnTo>
                  <a:lnTo>
                    <a:pt x="170" y="744"/>
                  </a:lnTo>
                  <a:lnTo>
                    <a:pt x="162" y="736"/>
                  </a:lnTo>
                  <a:lnTo>
                    <a:pt x="162" y="768"/>
                  </a:lnTo>
                  <a:lnTo>
                    <a:pt x="166" y="788"/>
                  </a:lnTo>
                  <a:lnTo>
                    <a:pt x="164" y="824"/>
                  </a:lnTo>
                  <a:lnTo>
                    <a:pt x="154" y="870"/>
                  </a:lnTo>
                  <a:lnTo>
                    <a:pt x="160" y="1012"/>
                  </a:lnTo>
                  <a:lnTo>
                    <a:pt x="158" y="1054"/>
                  </a:lnTo>
                  <a:lnTo>
                    <a:pt x="138" y="1076"/>
                  </a:lnTo>
                  <a:lnTo>
                    <a:pt x="110" y="1090"/>
                  </a:lnTo>
                  <a:lnTo>
                    <a:pt x="52" y="1082"/>
                  </a:lnTo>
                  <a:lnTo>
                    <a:pt x="26" y="1092"/>
                  </a:lnTo>
                  <a:lnTo>
                    <a:pt x="28" y="1140"/>
                  </a:lnTo>
                  <a:lnTo>
                    <a:pt x="12" y="1154"/>
                  </a:lnTo>
                  <a:lnTo>
                    <a:pt x="0" y="1178"/>
                  </a:lnTo>
                  <a:lnTo>
                    <a:pt x="16" y="1190"/>
                  </a:lnTo>
                  <a:lnTo>
                    <a:pt x="32" y="1192"/>
                  </a:lnTo>
                  <a:lnTo>
                    <a:pt x="54" y="1210"/>
                  </a:lnTo>
                  <a:lnTo>
                    <a:pt x="76" y="1208"/>
                  </a:lnTo>
                  <a:lnTo>
                    <a:pt x="104" y="1216"/>
                  </a:lnTo>
                  <a:lnTo>
                    <a:pt x="126" y="1234"/>
                  </a:lnTo>
                  <a:lnTo>
                    <a:pt x="150" y="1262"/>
                  </a:lnTo>
                  <a:lnTo>
                    <a:pt x="154" y="1292"/>
                  </a:lnTo>
                  <a:lnTo>
                    <a:pt x="172" y="1320"/>
                  </a:lnTo>
                  <a:lnTo>
                    <a:pt x="192" y="1342"/>
                  </a:lnTo>
                  <a:lnTo>
                    <a:pt x="250" y="1386"/>
                  </a:lnTo>
                  <a:lnTo>
                    <a:pt x="264" y="1414"/>
                  </a:lnTo>
                  <a:lnTo>
                    <a:pt x="276" y="1454"/>
                  </a:lnTo>
                  <a:lnTo>
                    <a:pt x="304" y="1534"/>
                  </a:lnTo>
                  <a:lnTo>
                    <a:pt x="316" y="1564"/>
                  </a:lnTo>
                  <a:lnTo>
                    <a:pt x="342" y="1582"/>
                  </a:lnTo>
                  <a:lnTo>
                    <a:pt x="402" y="1598"/>
                  </a:lnTo>
                  <a:lnTo>
                    <a:pt x="420" y="1612"/>
                  </a:lnTo>
                  <a:lnTo>
                    <a:pt x="422" y="1634"/>
                  </a:lnTo>
                  <a:lnTo>
                    <a:pt x="420" y="1664"/>
                  </a:lnTo>
                  <a:lnTo>
                    <a:pt x="420" y="1734"/>
                  </a:lnTo>
                  <a:lnTo>
                    <a:pt x="454" y="1746"/>
                  </a:lnTo>
                  <a:lnTo>
                    <a:pt x="496" y="1740"/>
                  </a:lnTo>
                  <a:lnTo>
                    <a:pt x="536" y="1744"/>
                  </a:lnTo>
                  <a:lnTo>
                    <a:pt x="582" y="1768"/>
                  </a:lnTo>
                  <a:lnTo>
                    <a:pt x="680" y="1840"/>
                  </a:lnTo>
                  <a:lnTo>
                    <a:pt x="712" y="1876"/>
                  </a:lnTo>
                  <a:lnTo>
                    <a:pt x="764" y="1896"/>
                  </a:lnTo>
                  <a:lnTo>
                    <a:pt x="806" y="1898"/>
                  </a:lnTo>
                  <a:lnTo>
                    <a:pt x="866" y="1916"/>
                  </a:lnTo>
                  <a:lnTo>
                    <a:pt x="928" y="1918"/>
                  </a:lnTo>
                  <a:lnTo>
                    <a:pt x="990" y="1880"/>
                  </a:lnTo>
                  <a:lnTo>
                    <a:pt x="1030" y="1830"/>
                  </a:lnTo>
                  <a:lnTo>
                    <a:pt x="1080" y="1810"/>
                  </a:lnTo>
                  <a:lnTo>
                    <a:pt x="1130" y="1798"/>
                  </a:lnTo>
                  <a:lnTo>
                    <a:pt x="1216" y="1850"/>
                  </a:lnTo>
                  <a:lnTo>
                    <a:pt x="1250" y="1844"/>
                  </a:lnTo>
                  <a:lnTo>
                    <a:pt x="1276" y="1848"/>
                  </a:lnTo>
                  <a:lnTo>
                    <a:pt x="1288" y="1846"/>
                  </a:lnTo>
                  <a:lnTo>
                    <a:pt x="1298" y="1832"/>
                  </a:lnTo>
                  <a:lnTo>
                    <a:pt x="1334" y="1810"/>
                  </a:lnTo>
                  <a:lnTo>
                    <a:pt x="1426" y="1774"/>
                  </a:lnTo>
                  <a:lnTo>
                    <a:pt x="1460" y="1734"/>
                  </a:lnTo>
                  <a:lnTo>
                    <a:pt x="1492" y="1708"/>
                  </a:lnTo>
                  <a:lnTo>
                    <a:pt x="1548" y="1682"/>
                  </a:lnTo>
                  <a:lnTo>
                    <a:pt x="1568" y="1666"/>
                  </a:lnTo>
                  <a:lnTo>
                    <a:pt x="1736" y="1664"/>
                  </a:lnTo>
                  <a:lnTo>
                    <a:pt x="1940" y="1408"/>
                  </a:lnTo>
                  <a:lnTo>
                    <a:pt x="2120" y="1190"/>
                  </a:lnTo>
                  <a:lnTo>
                    <a:pt x="2144" y="1152"/>
                  </a:lnTo>
                  <a:lnTo>
                    <a:pt x="2146" y="1142"/>
                  </a:lnTo>
                  <a:lnTo>
                    <a:pt x="2008" y="1148"/>
                  </a:lnTo>
                  <a:lnTo>
                    <a:pt x="1778" y="1052"/>
                  </a:lnTo>
                  <a:lnTo>
                    <a:pt x="1570" y="970"/>
                  </a:lnTo>
                  <a:lnTo>
                    <a:pt x="1554" y="946"/>
                  </a:lnTo>
                  <a:lnTo>
                    <a:pt x="1498" y="900"/>
                  </a:lnTo>
                  <a:lnTo>
                    <a:pt x="1480" y="870"/>
                  </a:lnTo>
                  <a:lnTo>
                    <a:pt x="1460" y="852"/>
                  </a:lnTo>
                  <a:lnTo>
                    <a:pt x="1456" y="834"/>
                  </a:lnTo>
                  <a:lnTo>
                    <a:pt x="1442" y="822"/>
                  </a:lnTo>
                  <a:lnTo>
                    <a:pt x="1426" y="802"/>
                  </a:lnTo>
                  <a:lnTo>
                    <a:pt x="1420" y="788"/>
                  </a:lnTo>
                  <a:lnTo>
                    <a:pt x="1398" y="764"/>
                  </a:lnTo>
                  <a:lnTo>
                    <a:pt x="1382" y="696"/>
                  </a:lnTo>
                  <a:lnTo>
                    <a:pt x="1384" y="680"/>
                  </a:lnTo>
                  <a:lnTo>
                    <a:pt x="1394" y="662"/>
                  </a:lnTo>
                  <a:lnTo>
                    <a:pt x="1394" y="660"/>
                  </a:lnTo>
                  <a:lnTo>
                    <a:pt x="1370" y="638"/>
                  </a:lnTo>
                  <a:lnTo>
                    <a:pt x="1358" y="634"/>
                  </a:lnTo>
                  <a:lnTo>
                    <a:pt x="1326" y="648"/>
                  </a:lnTo>
                  <a:lnTo>
                    <a:pt x="1322" y="658"/>
                  </a:lnTo>
                  <a:lnTo>
                    <a:pt x="1318" y="660"/>
                  </a:lnTo>
                  <a:lnTo>
                    <a:pt x="1304" y="654"/>
                  </a:lnTo>
                  <a:lnTo>
                    <a:pt x="1290" y="658"/>
                  </a:lnTo>
                  <a:lnTo>
                    <a:pt x="1260" y="658"/>
                  </a:lnTo>
                  <a:lnTo>
                    <a:pt x="1242" y="638"/>
                  </a:lnTo>
                  <a:lnTo>
                    <a:pt x="1236" y="608"/>
                  </a:lnTo>
                  <a:lnTo>
                    <a:pt x="1238" y="600"/>
                  </a:lnTo>
                  <a:lnTo>
                    <a:pt x="1258" y="570"/>
                  </a:lnTo>
                  <a:lnTo>
                    <a:pt x="1272" y="532"/>
                  </a:lnTo>
                  <a:lnTo>
                    <a:pt x="1278" y="498"/>
                  </a:lnTo>
                  <a:lnTo>
                    <a:pt x="1286" y="430"/>
                  </a:lnTo>
                  <a:lnTo>
                    <a:pt x="1302" y="416"/>
                  </a:lnTo>
                  <a:lnTo>
                    <a:pt x="1284" y="394"/>
                  </a:lnTo>
                  <a:lnTo>
                    <a:pt x="1274" y="372"/>
                  </a:lnTo>
                  <a:lnTo>
                    <a:pt x="1252" y="352"/>
                  </a:lnTo>
                  <a:lnTo>
                    <a:pt x="1232" y="342"/>
                  </a:lnTo>
                  <a:lnTo>
                    <a:pt x="1220" y="322"/>
                  </a:lnTo>
                  <a:lnTo>
                    <a:pt x="1210" y="294"/>
                  </a:lnTo>
                  <a:lnTo>
                    <a:pt x="1196" y="274"/>
                  </a:lnTo>
                  <a:lnTo>
                    <a:pt x="1162" y="246"/>
                  </a:lnTo>
                  <a:lnTo>
                    <a:pt x="1116" y="210"/>
                  </a:lnTo>
                  <a:lnTo>
                    <a:pt x="1102" y="182"/>
                  </a:lnTo>
                  <a:lnTo>
                    <a:pt x="1080" y="152"/>
                  </a:lnTo>
                  <a:lnTo>
                    <a:pt x="1046" y="116"/>
                  </a:lnTo>
                  <a:lnTo>
                    <a:pt x="1026" y="114"/>
                  </a:lnTo>
                  <a:lnTo>
                    <a:pt x="1000" y="98"/>
                  </a:lnTo>
                  <a:lnTo>
                    <a:pt x="966" y="68"/>
                  </a:lnTo>
                  <a:lnTo>
                    <a:pt x="934" y="68"/>
                  </a:lnTo>
                  <a:lnTo>
                    <a:pt x="930" y="74"/>
                  </a:lnTo>
                  <a:lnTo>
                    <a:pt x="922" y="74"/>
                  </a:lnTo>
                  <a:lnTo>
                    <a:pt x="914" y="64"/>
                  </a:lnTo>
                  <a:lnTo>
                    <a:pt x="890" y="62"/>
                  </a:lnTo>
                  <a:lnTo>
                    <a:pt x="876" y="52"/>
                  </a:lnTo>
                  <a:lnTo>
                    <a:pt x="868" y="50"/>
                  </a:lnTo>
                  <a:lnTo>
                    <a:pt x="856" y="64"/>
                  </a:lnTo>
                  <a:lnTo>
                    <a:pt x="838" y="66"/>
                  </a:lnTo>
                  <a:lnTo>
                    <a:pt x="834" y="72"/>
                  </a:lnTo>
                  <a:lnTo>
                    <a:pt x="828" y="72"/>
                  </a:lnTo>
                  <a:lnTo>
                    <a:pt x="820" y="54"/>
                  </a:lnTo>
                  <a:lnTo>
                    <a:pt x="806" y="38"/>
                  </a:lnTo>
                  <a:lnTo>
                    <a:pt x="794" y="38"/>
                  </a:lnTo>
                  <a:lnTo>
                    <a:pt x="794" y="50"/>
                  </a:lnTo>
                  <a:lnTo>
                    <a:pt x="780" y="64"/>
                  </a:lnTo>
                  <a:lnTo>
                    <a:pt x="744" y="72"/>
                  </a:lnTo>
                  <a:lnTo>
                    <a:pt x="736" y="76"/>
                  </a:lnTo>
                  <a:lnTo>
                    <a:pt x="714" y="76"/>
                  </a:lnTo>
                  <a:lnTo>
                    <a:pt x="690" y="42"/>
                  </a:lnTo>
                  <a:lnTo>
                    <a:pt x="690" y="34"/>
                  </a:lnTo>
                  <a:lnTo>
                    <a:pt x="682" y="32"/>
                  </a:lnTo>
                  <a:lnTo>
                    <a:pt x="664" y="32"/>
                  </a:lnTo>
                  <a:lnTo>
                    <a:pt x="646" y="14"/>
                  </a:lnTo>
                  <a:lnTo>
                    <a:pt x="636" y="0"/>
                  </a:lnTo>
                  <a:lnTo>
                    <a:pt x="592" y="132"/>
                  </a:lnTo>
                  <a:lnTo>
                    <a:pt x="570" y="102"/>
                  </a:lnTo>
                  <a:lnTo>
                    <a:pt x="568" y="92"/>
                  </a:lnTo>
                  <a:lnTo>
                    <a:pt x="554" y="76"/>
                  </a:lnTo>
                  <a:lnTo>
                    <a:pt x="534" y="76"/>
                  </a:lnTo>
                  <a:lnTo>
                    <a:pt x="526" y="86"/>
                  </a:lnTo>
                  <a:lnTo>
                    <a:pt x="526" y="98"/>
                  </a:lnTo>
                  <a:lnTo>
                    <a:pt x="518" y="106"/>
                  </a:lnTo>
                  <a:lnTo>
                    <a:pt x="510" y="106"/>
                  </a:lnTo>
                  <a:lnTo>
                    <a:pt x="498" y="98"/>
                  </a:lnTo>
                  <a:lnTo>
                    <a:pt x="462" y="100"/>
                  </a:lnTo>
                  <a:lnTo>
                    <a:pt x="454" y="9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63400" y="5049360"/>
              <a:ext cx="270000" cy="465840"/>
            </a:xfrm>
            <a:custGeom>
              <a:avLst/>
              <a:gdLst/>
              <a:ahLst/>
              <a:rect l="l" t="t" r="r" b="b"/>
              <a:pathLst>
                <a:path w="1550" h="2734">
                  <a:moveTo>
                    <a:pt x="1536" y="0"/>
                  </a:moveTo>
                  <a:lnTo>
                    <a:pt x="1546" y="6"/>
                  </a:lnTo>
                  <a:lnTo>
                    <a:pt x="1550" y="24"/>
                  </a:lnTo>
                  <a:lnTo>
                    <a:pt x="1544" y="30"/>
                  </a:lnTo>
                  <a:lnTo>
                    <a:pt x="1546" y="82"/>
                  </a:lnTo>
                  <a:lnTo>
                    <a:pt x="1538" y="100"/>
                  </a:lnTo>
                  <a:lnTo>
                    <a:pt x="1524" y="126"/>
                  </a:lnTo>
                  <a:lnTo>
                    <a:pt x="1502" y="172"/>
                  </a:lnTo>
                  <a:lnTo>
                    <a:pt x="1492" y="214"/>
                  </a:lnTo>
                  <a:lnTo>
                    <a:pt x="1490" y="286"/>
                  </a:lnTo>
                  <a:lnTo>
                    <a:pt x="1496" y="344"/>
                  </a:lnTo>
                  <a:lnTo>
                    <a:pt x="1494" y="388"/>
                  </a:lnTo>
                  <a:lnTo>
                    <a:pt x="1478" y="404"/>
                  </a:lnTo>
                  <a:lnTo>
                    <a:pt x="1482" y="434"/>
                  </a:lnTo>
                  <a:lnTo>
                    <a:pt x="1490" y="434"/>
                  </a:lnTo>
                  <a:lnTo>
                    <a:pt x="1480" y="536"/>
                  </a:lnTo>
                  <a:lnTo>
                    <a:pt x="1484" y="598"/>
                  </a:lnTo>
                  <a:lnTo>
                    <a:pt x="1478" y="624"/>
                  </a:lnTo>
                  <a:lnTo>
                    <a:pt x="1488" y="632"/>
                  </a:lnTo>
                  <a:lnTo>
                    <a:pt x="1498" y="624"/>
                  </a:lnTo>
                  <a:lnTo>
                    <a:pt x="1506" y="646"/>
                  </a:lnTo>
                  <a:lnTo>
                    <a:pt x="1490" y="668"/>
                  </a:lnTo>
                  <a:lnTo>
                    <a:pt x="1502" y="670"/>
                  </a:lnTo>
                  <a:lnTo>
                    <a:pt x="1512" y="678"/>
                  </a:lnTo>
                  <a:lnTo>
                    <a:pt x="1510" y="706"/>
                  </a:lnTo>
                  <a:lnTo>
                    <a:pt x="1496" y="734"/>
                  </a:lnTo>
                  <a:lnTo>
                    <a:pt x="1486" y="768"/>
                  </a:lnTo>
                  <a:lnTo>
                    <a:pt x="1460" y="796"/>
                  </a:lnTo>
                  <a:lnTo>
                    <a:pt x="1480" y="804"/>
                  </a:lnTo>
                  <a:lnTo>
                    <a:pt x="1476" y="828"/>
                  </a:lnTo>
                  <a:lnTo>
                    <a:pt x="1470" y="850"/>
                  </a:lnTo>
                  <a:lnTo>
                    <a:pt x="1446" y="864"/>
                  </a:lnTo>
                  <a:lnTo>
                    <a:pt x="1400" y="922"/>
                  </a:lnTo>
                  <a:lnTo>
                    <a:pt x="1388" y="950"/>
                  </a:lnTo>
                  <a:lnTo>
                    <a:pt x="1344" y="976"/>
                  </a:lnTo>
                  <a:lnTo>
                    <a:pt x="1356" y="990"/>
                  </a:lnTo>
                  <a:lnTo>
                    <a:pt x="1344" y="1016"/>
                  </a:lnTo>
                  <a:lnTo>
                    <a:pt x="1316" y="1038"/>
                  </a:lnTo>
                  <a:lnTo>
                    <a:pt x="1284" y="1060"/>
                  </a:lnTo>
                  <a:lnTo>
                    <a:pt x="1260" y="1070"/>
                  </a:lnTo>
                  <a:lnTo>
                    <a:pt x="1242" y="1102"/>
                  </a:lnTo>
                  <a:lnTo>
                    <a:pt x="1206" y="1124"/>
                  </a:lnTo>
                  <a:lnTo>
                    <a:pt x="1162" y="1124"/>
                  </a:lnTo>
                  <a:lnTo>
                    <a:pt x="1128" y="1138"/>
                  </a:lnTo>
                  <a:lnTo>
                    <a:pt x="1012" y="1198"/>
                  </a:lnTo>
                  <a:lnTo>
                    <a:pt x="936" y="1262"/>
                  </a:lnTo>
                  <a:lnTo>
                    <a:pt x="928" y="1290"/>
                  </a:lnTo>
                  <a:lnTo>
                    <a:pt x="916" y="1300"/>
                  </a:lnTo>
                  <a:lnTo>
                    <a:pt x="894" y="1304"/>
                  </a:lnTo>
                  <a:lnTo>
                    <a:pt x="882" y="1308"/>
                  </a:lnTo>
                  <a:lnTo>
                    <a:pt x="898" y="1324"/>
                  </a:lnTo>
                  <a:lnTo>
                    <a:pt x="850" y="1382"/>
                  </a:lnTo>
                  <a:lnTo>
                    <a:pt x="832" y="1414"/>
                  </a:lnTo>
                  <a:lnTo>
                    <a:pt x="818" y="1408"/>
                  </a:lnTo>
                  <a:lnTo>
                    <a:pt x="812" y="1378"/>
                  </a:lnTo>
                  <a:lnTo>
                    <a:pt x="792" y="1424"/>
                  </a:lnTo>
                  <a:lnTo>
                    <a:pt x="770" y="1436"/>
                  </a:lnTo>
                  <a:lnTo>
                    <a:pt x="740" y="1472"/>
                  </a:lnTo>
                  <a:lnTo>
                    <a:pt x="690" y="1528"/>
                  </a:lnTo>
                  <a:lnTo>
                    <a:pt x="656" y="1552"/>
                  </a:lnTo>
                  <a:lnTo>
                    <a:pt x="632" y="1580"/>
                  </a:lnTo>
                  <a:lnTo>
                    <a:pt x="604" y="1588"/>
                  </a:lnTo>
                  <a:lnTo>
                    <a:pt x="590" y="1676"/>
                  </a:lnTo>
                  <a:lnTo>
                    <a:pt x="592" y="1704"/>
                  </a:lnTo>
                  <a:lnTo>
                    <a:pt x="624" y="1734"/>
                  </a:lnTo>
                  <a:lnTo>
                    <a:pt x="634" y="1750"/>
                  </a:lnTo>
                  <a:lnTo>
                    <a:pt x="634" y="1776"/>
                  </a:lnTo>
                  <a:lnTo>
                    <a:pt x="638" y="1780"/>
                  </a:lnTo>
                  <a:lnTo>
                    <a:pt x="640" y="1806"/>
                  </a:lnTo>
                  <a:lnTo>
                    <a:pt x="662" y="1906"/>
                  </a:lnTo>
                  <a:lnTo>
                    <a:pt x="660" y="1962"/>
                  </a:lnTo>
                  <a:lnTo>
                    <a:pt x="664" y="1976"/>
                  </a:lnTo>
                  <a:lnTo>
                    <a:pt x="680" y="1962"/>
                  </a:lnTo>
                  <a:lnTo>
                    <a:pt x="688" y="1972"/>
                  </a:lnTo>
                  <a:lnTo>
                    <a:pt x="682" y="2036"/>
                  </a:lnTo>
                  <a:lnTo>
                    <a:pt x="666" y="2144"/>
                  </a:lnTo>
                  <a:lnTo>
                    <a:pt x="622" y="2276"/>
                  </a:lnTo>
                  <a:lnTo>
                    <a:pt x="624" y="2306"/>
                  </a:lnTo>
                  <a:lnTo>
                    <a:pt x="634" y="2280"/>
                  </a:lnTo>
                  <a:lnTo>
                    <a:pt x="656" y="2256"/>
                  </a:lnTo>
                  <a:lnTo>
                    <a:pt x="654" y="2266"/>
                  </a:lnTo>
                  <a:lnTo>
                    <a:pt x="644" y="2304"/>
                  </a:lnTo>
                  <a:lnTo>
                    <a:pt x="626" y="2336"/>
                  </a:lnTo>
                  <a:lnTo>
                    <a:pt x="586" y="2386"/>
                  </a:lnTo>
                  <a:lnTo>
                    <a:pt x="546" y="2416"/>
                  </a:lnTo>
                  <a:lnTo>
                    <a:pt x="498" y="2436"/>
                  </a:lnTo>
                  <a:lnTo>
                    <a:pt x="468" y="2438"/>
                  </a:lnTo>
                  <a:lnTo>
                    <a:pt x="376" y="2474"/>
                  </a:lnTo>
                  <a:lnTo>
                    <a:pt x="352" y="2492"/>
                  </a:lnTo>
                  <a:lnTo>
                    <a:pt x="332" y="2508"/>
                  </a:lnTo>
                  <a:lnTo>
                    <a:pt x="304" y="2524"/>
                  </a:lnTo>
                  <a:lnTo>
                    <a:pt x="282" y="2530"/>
                  </a:lnTo>
                  <a:lnTo>
                    <a:pt x="268" y="2542"/>
                  </a:lnTo>
                  <a:lnTo>
                    <a:pt x="246" y="2580"/>
                  </a:lnTo>
                  <a:lnTo>
                    <a:pt x="220" y="2612"/>
                  </a:lnTo>
                  <a:lnTo>
                    <a:pt x="216" y="2612"/>
                  </a:lnTo>
                  <a:lnTo>
                    <a:pt x="234" y="2632"/>
                  </a:lnTo>
                  <a:lnTo>
                    <a:pt x="248" y="2660"/>
                  </a:lnTo>
                  <a:lnTo>
                    <a:pt x="264" y="2646"/>
                  </a:lnTo>
                  <a:lnTo>
                    <a:pt x="274" y="2628"/>
                  </a:lnTo>
                  <a:lnTo>
                    <a:pt x="256" y="2734"/>
                  </a:lnTo>
                  <a:lnTo>
                    <a:pt x="240" y="2732"/>
                  </a:lnTo>
                  <a:lnTo>
                    <a:pt x="152" y="2732"/>
                  </a:lnTo>
                  <a:lnTo>
                    <a:pt x="154" y="2652"/>
                  </a:lnTo>
                  <a:lnTo>
                    <a:pt x="158" y="2596"/>
                  </a:lnTo>
                  <a:lnTo>
                    <a:pt x="156" y="2572"/>
                  </a:lnTo>
                  <a:lnTo>
                    <a:pt x="168" y="2312"/>
                  </a:lnTo>
                  <a:lnTo>
                    <a:pt x="148" y="2186"/>
                  </a:lnTo>
                  <a:lnTo>
                    <a:pt x="138" y="2094"/>
                  </a:lnTo>
                  <a:lnTo>
                    <a:pt x="138" y="2036"/>
                  </a:lnTo>
                  <a:lnTo>
                    <a:pt x="142" y="2030"/>
                  </a:lnTo>
                  <a:lnTo>
                    <a:pt x="144" y="1988"/>
                  </a:lnTo>
                  <a:lnTo>
                    <a:pt x="154" y="1954"/>
                  </a:lnTo>
                  <a:lnTo>
                    <a:pt x="172" y="1928"/>
                  </a:lnTo>
                  <a:lnTo>
                    <a:pt x="204" y="1906"/>
                  </a:lnTo>
                  <a:lnTo>
                    <a:pt x="222" y="1886"/>
                  </a:lnTo>
                  <a:lnTo>
                    <a:pt x="276" y="1788"/>
                  </a:lnTo>
                  <a:lnTo>
                    <a:pt x="300" y="1698"/>
                  </a:lnTo>
                  <a:lnTo>
                    <a:pt x="352" y="1594"/>
                  </a:lnTo>
                  <a:lnTo>
                    <a:pt x="350" y="1516"/>
                  </a:lnTo>
                  <a:lnTo>
                    <a:pt x="340" y="1476"/>
                  </a:lnTo>
                  <a:lnTo>
                    <a:pt x="340" y="1426"/>
                  </a:lnTo>
                  <a:lnTo>
                    <a:pt x="368" y="1372"/>
                  </a:lnTo>
                  <a:lnTo>
                    <a:pt x="374" y="1346"/>
                  </a:lnTo>
                  <a:lnTo>
                    <a:pt x="388" y="1300"/>
                  </a:lnTo>
                  <a:lnTo>
                    <a:pt x="386" y="1268"/>
                  </a:lnTo>
                  <a:lnTo>
                    <a:pt x="398" y="1164"/>
                  </a:lnTo>
                  <a:lnTo>
                    <a:pt x="388" y="1100"/>
                  </a:lnTo>
                  <a:lnTo>
                    <a:pt x="380" y="1070"/>
                  </a:lnTo>
                  <a:lnTo>
                    <a:pt x="380" y="1028"/>
                  </a:lnTo>
                  <a:lnTo>
                    <a:pt x="360" y="1002"/>
                  </a:lnTo>
                  <a:lnTo>
                    <a:pt x="282" y="968"/>
                  </a:lnTo>
                  <a:lnTo>
                    <a:pt x="212" y="930"/>
                  </a:lnTo>
                  <a:lnTo>
                    <a:pt x="174" y="916"/>
                  </a:lnTo>
                  <a:lnTo>
                    <a:pt x="134" y="906"/>
                  </a:lnTo>
                  <a:lnTo>
                    <a:pt x="78" y="912"/>
                  </a:lnTo>
                  <a:lnTo>
                    <a:pt x="30" y="906"/>
                  </a:lnTo>
                  <a:lnTo>
                    <a:pt x="34" y="850"/>
                  </a:lnTo>
                  <a:lnTo>
                    <a:pt x="22" y="840"/>
                  </a:lnTo>
                  <a:lnTo>
                    <a:pt x="16" y="804"/>
                  </a:lnTo>
                  <a:lnTo>
                    <a:pt x="0" y="758"/>
                  </a:lnTo>
                  <a:lnTo>
                    <a:pt x="432" y="588"/>
                  </a:lnTo>
                  <a:lnTo>
                    <a:pt x="456" y="586"/>
                  </a:lnTo>
                  <a:lnTo>
                    <a:pt x="460" y="592"/>
                  </a:lnTo>
                  <a:lnTo>
                    <a:pt x="474" y="602"/>
                  </a:lnTo>
                  <a:lnTo>
                    <a:pt x="492" y="648"/>
                  </a:lnTo>
                  <a:lnTo>
                    <a:pt x="516" y="678"/>
                  </a:lnTo>
                  <a:lnTo>
                    <a:pt x="526" y="680"/>
                  </a:lnTo>
                  <a:lnTo>
                    <a:pt x="546" y="672"/>
                  </a:lnTo>
                  <a:lnTo>
                    <a:pt x="624" y="660"/>
                  </a:lnTo>
                  <a:lnTo>
                    <a:pt x="634" y="664"/>
                  </a:lnTo>
                  <a:lnTo>
                    <a:pt x="642" y="680"/>
                  </a:lnTo>
                  <a:lnTo>
                    <a:pt x="650" y="720"/>
                  </a:lnTo>
                  <a:lnTo>
                    <a:pt x="652" y="744"/>
                  </a:lnTo>
                  <a:lnTo>
                    <a:pt x="650" y="798"/>
                  </a:lnTo>
                  <a:lnTo>
                    <a:pt x="642" y="818"/>
                  </a:lnTo>
                  <a:lnTo>
                    <a:pt x="626" y="840"/>
                  </a:lnTo>
                  <a:lnTo>
                    <a:pt x="628" y="860"/>
                  </a:lnTo>
                  <a:lnTo>
                    <a:pt x="612" y="874"/>
                  </a:lnTo>
                  <a:lnTo>
                    <a:pt x="602" y="906"/>
                  </a:lnTo>
                  <a:lnTo>
                    <a:pt x="610" y="918"/>
                  </a:lnTo>
                  <a:lnTo>
                    <a:pt x="620" y="966"/>
                  </a:lnTo>
                  <a:lnTo>
                    <a:pt x="628" y="976"/>
                  </a:lnTo>
                  <a:lnTo>
                    <a:pt x="636" y="980"/>
                  </a:lnTo>
                  <a:lnTo>
                    <a:pt x="642" y="998"/>
                  </a:lnTo>
                  <a:lnTo>
                    <a:pt x="664" y="1024"/>
                  </a:lnTo>
                  <a:lnTo>
                    <a:pt x="674" y="1042"/>
                  </a:lnTo>
                  <a:lnTo>
                    <a:pt x="684" y="1050"/>
                  </a:lnTo>
                  <a:lnTo>
                    <a:pt x="702" y="1056"/>
                  </a:lnTo>
                  <a:lnTo>
                    <a:pt x="710" y="1070"/>
                  </a:lnTo>
                  <a:lnTo>
                    <a:pt x="710" y="1082"/>
                  </a:lnTo>
                  <a:lnTo>
                    <a:pt x="698" y="1100"/>
                  </a:lnTo>
                  <a:lnTo>
                    <a:pt x="700" y="1104"/>
                  </a:lnTo>
                  <a:lnTo>
                    <a:pt x="730" y="1106"/>
                  </a:lnTo>
                  <a:lnTo>
                    <a:pt x="734" y="1102"/>
                  </a:lnTo>
                  <a:lnTo>
                    <a:pt x="732" y="1074"/>
                  </a:lnTo>
                  <a:lnTo>
                    <a:pt x="738" y="1054"/>
                  </a:lnTo>
                  <a:lnTo>
                    <a:pt x="730" y="1038"/>
                  </a:lnTo>
                  <a:lnTo>
                    <a:pt x="724" y="1030"/>
                  </a:lnTo>
                  <a:lnTo>
                    <a:pt x="724" y="1010"/>
                  </a:lnTo>
                  <a:lnTo>
                    <a:pt x="734" y="990"/>
                  </a:lnTo>
                  <a:lnTo>
                    <a:pt x="734" y="978"/>
                  </a:lnTo>
                  <a:lnTo>
                    <a:pt x="740" y="966"/>
                  </a:lnTo>
                  <a:lnTo>
                    <a:pt x="772" y="946"/>
                  </a:lnTo>
                  <a:lnTo>
                    <a:pt x="790" y="942"/>
                  </a:lnTo>
                  <a:lnTo>
                    <a:pt x="806" y="932"/>
                  </a:lnTo>
                  <a:lnTo>
                    <a:pt x="814" y="916"/>
                  </a:lnTo>
                  <a:lnTo>
                    <a:pt x="822" y="854"/>
                  </a:lnTo>
                  <a:lnTo>
                    <a:pt x="832" y="832"/>
                  </a:lnTo>
                  <a:lnTo>
                    <a:pt x="822" y="788"/>
                  </a:lnTo>
                  <a:lnTo>
                    <a:pt x="836" y="758"/>
                  </a:lnTo>
                  <a:lnTo>
                    <a:pt x="840" y="738"/>
                  </a:lnTo>
                  <a:lnTo>
                    <a:pt x="836" y="698"/>
                  </a:lnTo>
                  <a:lnTo>
                    <a:pt x="826" y="678"/>
                  </a:lnTo>
                  <a:lnTo>
                    <a:pt x="794" y="640"/>
                  </a:lnTo>
                  <a:lnTo>
                    <a:pt x="778" y="608"/>
                  </a:lnTo>
                  <a:lnTo>
                    <a:pt x="742" y="556"/>
                  </a:lnTo>
                  <a:lnTo>
                    <a:pt x="720" y="532"/>
                  </a:lnTo>
                  <a:lnTo>
                    <a:pt x="702" y="502"/>
                  </a:lnTo>
                  <a:lnTo>
                    <a:pt x="700" y="504"/>
                  </a:lnTo>
                  <a:lnTo>
                    <a:pt x="694" y="470"/>
                  </a:lnTo>
                  <a:lnTo>
                    <a:pt x="696" y="440"/>
                  </a:lnTo>
                  <a:lnTo>
                    <a:pt x="692" y="412"/>
                  </a:lnTo>
                  <a:lnTo>
                    <a:pt x="694" y="368"/>
                  </a:lnTo>
                  <a:lnTo>
                    <a:pt x="688" y="346"/>
                  </a:lnTo>
                  <a:lnTo>
                    <a:pt x="686" y="320"/>
                  </a:lnTo>
                  <a:lnTo>
                    <a:pt x="698" y="276"/>
                  </a:lnTo>
                  <a:lnTo>
                    <a:pt x="720" y="228"/>
                  </a:lnTo>
                  <a:lnTo>
                    <a:pt x="732" y="170"/>
                  </a:lnTo>
                  <a:lnTo>
                    <a:pt x="838" y="174"/>
                  </a:lnTo>
                  <a:lnTo>
                    <a:pt x="848" y="174"/>
                  </a:lnTo>
                  <a:lnTo>
                    <a:pt x="866" y="158"/>
                  </a:lnTo>
                  <a:lnTo>
                    <a:pt x="884" y="156"/>
                  </a:lnTo>
                  <a:lnTo>
                    <a:pt x="900" y="164"/>
                  </a:lnTo>
                  <a:lnTo>
                    <a:pt x="916" y="186"/>
                  </a:lnTo>
                  <a:lnTo>
                    <a:pt x="928" y="194"/>
                  </a:lnTo>
                  <a:lnTo>
                    <a:pt x="940" y="198"/>
                  </a:lnTo>
                  <a:lnTo>
                    <a:pt x="960" y="190"/>
                  </a:lnTo>
                  <a:lnTo>
                    <a:pt x="982" y="190"/>
                  </a:lnTo>
                  <a:lnTo>
                    <a:pt x="1012" y="170"/>
                  </a:lnTo>
                  <a:lnTo>
                    <a:pt x="1094" y="174"/>
                  </a:lnTo>
                  <a:lnTo>
                    <a:pt x="1112" y="172"/>
                  </a:lnTo>
                  <a:lnTo>
                    <a:pt x="1120" y="170"/>
                  </a:lnTo>
                  <a:lnTo>
                    <a:pt x="1156" y="128"/>
                  </a:lnTo>
                  <a:lnTo>
                    <a:pt x="1192" y="126"/>
                  </a:lnTo>
                  <a:lnTo>
                    <a:pt x="1216" y="118"/>
                  </a:lnTo>
                  <a:lnTo>
                    <a:pt x="1250" y="136"/>
                  </a:lnTo>
                  <a:lnTo>
                    <a:pt x="1274" y="140"/>
                  </a:lnTo>
                  <a:lnTo>
                    <a:pt x="1300" y="136"/>
                  </a:lnTo>
                  <a:lnTo>
                    <a:pt x="1386" y="96"/>
                  </a:lnTo>
                  <a:lnTo>
                    <a:pt x="1436" y="80"/>
                  </a:lnTo>
                  <a:lnTo>
                    <a:pt x="1448" y="72"/>
                  </a:lnTo>
                  <a:lnTo>
                    <a:pt x="1488" y="34"/>
                  </a:lnTo>
                  <a:lnTo>
                    <a:pt x="1528" y="4"/>
                  </a:lnTo>
                  <a:lnTo>
                    <a:pt x="153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3400" y="3589560"/>
              <a:ext cx="30960" cy="2268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178" y="138"/>
                  </a:moveTo>
                  <a:lnTo>
                    <a:pt x="144" y="134"/>
                  </a:lnTo>
                  <a:lnTo>
                    <a:pt x="106" y="126"/>
                  </a:lnTo>
                  <a:lnTo>
                    <a:pt x="10" y="18"/>
                  </a:lnTo>
                  <a:lnTo>
                    <a:pt x="0" y="8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4" y="20"/>
                  </a:lnTo>
                  <a:lnTo>
                    <a:pt x="72" y="28"/>
                  </a:lnTo>
                  <a:lnTo>
                    <a:pt x="92" y="30"/>
                  </a:lnTo>
                  <a:lnTo>
                    <a:pt x="106" y="20"/>
                  </a:lnTo>
                  <a:lnTo>
                    <a:pt x="126" y="28"/>
                  </a:lnTo>
                  <a:lnTo>
                    <a:pt x="138" y="44"/>
                  </a:lnTo>
                  <a:lnTo>
                    <a:pt x="152" y="62"/>
                  </a:lnTo>
                  <a:lnTo>
                    <a:pt x="162" y="80"/>
                  </a:lnTo>
                  <a:lnTo>
                    <a:pt x="178" y="13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3040" bIns="-23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25840" y="3524760"/>
              <a:ext cx="126360" cy="96480"/>
            </a:xfrm>
            <a:custGeom>
              <a:avLst/>
              <a:gdLst/>
              <a:ahLst/>
              <a:rect l="l" t="t" r="r" b="b"/>
              <a:pathLst>
                <a:path w="724" h="572">
                  <a:moveTo>
                    <a:pt x="164" y="2"/>
                  </a:moveTo>
                  <a:lnTo>
                    <a:pt x="186" y="14"/>
                  </a:lnTo>
                  <a:lnTo>
                    <a:pt x="204" y="14"/>
                  </a:lnTo>
                  <a:lnTo>
                    <a:pt x="234" y="38"/>
                  </a:lnTo>
                  <a:lnTo>
                    <a:pt x="248" y="54"/>
                  </a:lnTo>
                  <a:lnTo>
                    <a:pt x="266" y="54"/>
                  </a:lnTo>
                  <a:lnTo>
                    <a:pt x="284" y="92"/>
                  </a:lnTo>
                  <a:lnTo>
                    <a:pt x="296" y="108"/>
                  </a:lnTo>
                  <a:lnTo>
                    <a:pt x="316" y="106"/>
                  </a:lnTo>
                  <a:lnTo>
                    <a:pt x="354" y="112"/>
                  </a:lnTo>
                  <a:lnTo>
                    <a:pt x="372" y="108"/>
                  </a:lnTo>
                  <a:lnTo>
                    <a:pt x="382" y="96"/>
                  </a:lnTo>
                  <a:lnTo>
                    <a:pt x="388" y="60"/>
                  </a:lnTo>
                  <a:lnTo>
                    <a:pt x="402" y="48"/>
                  </a:lnTo>
                  <a:lnTo>
                    <a:pt x="418" y="40"/>
                  </a:lnTo>
                  <a:lnTo>
                    <a:pt x="420" y="22"/>
                  </a:lnTo>
                  <a:lnTo>
                    <a:pt x="428" y="0"/>
                  </a:lnTo>
                  <a:lnTo>
                    <a:pt x="504" y="70"/>
                  </a:lnTo>
                  <a:lnTo>
                    <a:pt x="562" y="148"/>
                  </a:lnTo>
                  <a:lnTo>
                    <a:pt x="590" y="182"/>
                  </a:lnTo>
                  <a:lnTo>
                    <a:pt x="614" y="206"/>
                  </a:lnTo>
                  <a:lnTo>
                    <a:pt x="634" y="214"/>
                  </a:lnTo>
                  <a:lnTo>
                    <a:pt x="662" y="202"/>
                  </a:lnTo>
                  <a:lnTo>
                    <a:pt x="682" y="216"/>
                  </a:lnTo>
                  <a:lnTo>
                    <a:pt x="696" y="220"/>
                  </a:lnTo>
                  <a:lnTo>
                    <a:pt x="712" y="240"/>
                  </a:lnTo>
                  <a:lnTo>
                    <a:pt x="724" y="262"/>
                  </a:lnTo>
                  <a:lnTo>
                    <a:pt x="694" y="240"/>
                  </a:lnTo>
                  <a:lnTo>
                    <a:pt x="660" y="242"/>
                  </a:lnTo>
                  <a:lnTo>
                    <a:pt x="640" y="262"/>
                  </a:lnTo>
                  <a:lnTo>
                    <a:pt x="628" y="286"/>
                  </a:lnTo>
                  <a:lnTo>
                    <a:pt x="628" y="332"/>
                  </a:lnTo>
                  <a:lnTo>
                    <a:pt x="634" y="376"/>
                  </a:lnTo>
                  <a:lnTo>
                    <a:pt x="628" y="412"/>
                  </a:lnTo>
                  <a:lnTo>
                    <a:pt x="632" y="474"/>
                  </a:lnTo>
                  <a:lnTo>
                    <a:pt x="594" y="442"/>
                  </a:lnTo>
                  <a:lnTo>
                    <a:pt x="580" y="456"/>
                  </a:lnTo>
                  <a:lnTo>
                    <a:pt x="578" y="476"/>
                  </a:lnTo>
                  <a:lnTo>
                    <a:pt x="588" y="528"/>
                  </a:lnTo>
                  <a:lnTo>
                    <a:pt x="602" y="568"/>
                  </a:lnTo>
                  <a:lnTo>
                    <a:pt x="602" y="568"/>
                  </a:lnTo>
                  <a:lnTo>
                    <a:pt x="592" y="572"/>
                  </a:lnTo>
                  <a:lnTo>
                    <a:pt x="576" y="572"/>
                  </a:lnTo>
                  <a:lnTo>
                    <a:pt x="558" y="566"/>
                  </a:lnTo>
                  <a:lnTo>
                    <a:pt x="536" y="550"/>
                  </a:lnTo>
                  <a:lnTo>
                    <a:pt x="516" y="542"/>
                  </a:lnTo>
                  <a:lnTo>
                    <a:pt x="502" y="528"/>
                  </a:lnTo>
                  <a:lnTo>
                    <a:pt x="472" y="516"/>
                  </a:lnTo>
                  <a:lnTo>
                    <a:pt x="478" y="504"/>
                  </a:lnTo>
                  <a:lnTo>
                    <a:pt x="510" y="480"/>
                  </a:lnTo>
                  <a:lnTo>
                    <a:pt x="482" y="432"/>
                  </a:lnTo>
                  <a:lnTo>
                    <a:pt x="478" y="400"/>
                  </a:lnTo>
                  <a:lnTo>
                    <a:pt x="432" y="378"/>
                  </a:lnTo>
                  <a:lnTo>
                    <a:pt x="376" y="394"/>
                  </a:lnTo>
                  <a:lnTo>
                    <a:pt x="350" y="416"/>
                  </a:lnTo>
                  <a:lnTo>
                    <a:pt x="334" y="440"/>
                  </a:lnTo>
                  <a:lnTo>
                    <a:pt x="326" y="476"/>
                  </a:lnTo>
                  <a:lnTo>
                    <a:pt x="306" y="510"/>
                  </a:lnTo>
                  <a:lnTo>
                    <a:pt x="280" y="514"/>
                  </a:lnTo>
                  <a:lnTo>
                    <a:pt x="274" y="498"/>
                  </a:lnTo>
                  <a:lnTo>
                    <a:pt x="262" y="480"/>
                  </a:lnTo>
                  <a:lnTo>
                    <a:pt x="248" y="466"/>
                  </a:lnTo>
                  <a:lnTo>
                    <a:pt x="264" y="460"/>
                  </a:lnTo>
                  <a:lnTo>
                    <a:pt x="264" y="440"/>
                  </a:lnTo>
                  <a:lnTo>
                    <a:pt x="246" y="428"/>
                  </a:lnTo>
                  <a:lnTo>
                    <a:pt x="246" y="410"/>
                  </a:lnTo>
                  <a:lnTo>
                    <a:pt x="252" y="392"/>
                  </a:lnTo>
                  <a:lnTo>
                    <a:pt x="232" y="386"/>
                  </a:lnTo>
                  <a:lnTo>
                    <a:pt x="214" y="390"/>
                  </a:lnTo>
                  <a:lnTo>
                    <a:pt x="178" y="370"/>
                  </a:lnTo>
                  <a:lnTo>
                    <a:pt x="146" y="340"/>
                  </a:lnTo>
                  <a:lnTo>
                    <a:pt x="140" y="322"/>
                  </a:lnTo>
                  <a:lnTo>
                    <a:pt x="158" y="320"/>
                  </a:lnTo>
                  <a:lnTo>
                    <a:pt x="162" y="300"/>
                  </a:lnTo>
                  <a:lnTo>
                    <a:pt x="156" y="282"/>
                  </a:lnTo>
                  <a:lnTo>
                    <a:pt x="118" y="262"/>
                  </a:lnTo>
                  <a:lnTo>
                    <a:pt x="102" y="250"/>
                  </a:lnTo>
                  <a:lnTo>
                    <a:pt x="88" y="234"/>
                  </a:lnTo>
                  <a:lnTo>
                    <a:pt x="78" y="216"/>
                  </a:lnTo>
                  <a:lnTo>
                    <a:pt x="76" y="198"/>
                  </a:lnTo>
                  <a:lnTo>
                    <a:pt x="82" y="182"/>
                  </a:lnTo>
                  <a:lnTo>
                    <a:pt x="76" y="164"/>
                  </a:lnTo>
                  <a:lnTo>
                    <a:pt x="58" y="154"/>
                  </a:lnTo>
                  <a:lnTo>
                    <a:pt x="40" y="152"/>
                  </a:lnTo>
                  <a:lnTo>
                    <a:pt x="10" y="12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0" y="102"/>
                  </a:lnTo>
                  <a:lnTo>
                    <a:pt x="38" y="80"/>
                  </a:lnTo>
                  <a:lnTo>
                    <a:pt x="58" y="82"/>
                  </a:lnTo>
                  <a:lnTo>
                    <a:pt x="76" y="88"/>
                  </a:lnTo>
                  <a:lnTo>
                    <a:pt x="94" y="100"/>
                  </a:lnTo>
                  <a:lnTo>
                    <a:pt x="132" y="118"/>
                  </a:lnTo>
                  <a:lnTo>
                    <a:pt x="150" y="114"/>
                  </a:lnTo>
                  <a:lnTo>
                    <a:pt x="188" y="128"/>
                  </a:lnTo>
                  <a:lnTo>
                    <a:pt x="206" y="130"/>
                  </a:lnTo>
                  <a:lnTo>
                    <a:pt x="214" y="116"/>
                  </a:lnTo>
                  <a:lnTo>
                    <a:pt x="204" y="98"/>
                  </a:lnTo>
                  <a:lnTo>
                    <a:pt x="168" y="76"/>
                  </a:lnTo>
                  <a:lnTo>
                    <a:pt x="158" y="58"/>
                  </a:lnTo>
                  <a:lnTo>
                    <a:pt x="142" y="46"/>
                  </a:lnTo>
                  <a:lnTo>
                    <a:pt x="140" y="26"/>
                  </a:lnTo>
                  <a:lnTo>
                    <a:pt x="162" y="4"/>
                  </a:lnTo>
                  <a:lnTo>
                    <a:pt x="164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43200" y="3790080"/>
              <a:ext cx="391680" cy="390960"/>
            </a:xfrm>
            <a:custGeom>
              <a:avLst/>
              <a:gdLst/>
              <a:ahLst/>
              <a:rect l="l" t="t" r="r" b="b"/>
              <a:pathLst>
                <a:path w="2256" h="2286">
                  <a:moveTo>
                    <a:pt x="382" y="1622"/>
                  </a:moveTo>
                  <a:lnTo>
                    <a:pt x="378" y="1604"/>
                  </a:lnTo>
                  <a:lnTo>
                    <a:pt x="362" y="1564"/>
                  </a:lnTo>
                  <a:lnTo>
                    <a:pt x="316" y="1484"/>
                  </a:lnTo>
                  <a:lnTo>
                    <a:pt x="242" y="1444"/>
                  </a:lnTo>
                  <a:lnTo>
                    <a:pt x="214" y="1446"/>
                  </a:lnTo>
                  <a:lnTo>
                    <a:pt x="168" y="1444"/>
                  </a:lnTo>
                  <a:lnTo>
                    <a:pt x="130" y="1400"/>
                  </a:lnTo>
                  <a:lnTo>
                    <a:pt x="124" y="1366"/>
                  </a:lnTo>
                  <a:lnTo>
                    <a:pt x="118" y="1312"/>
                  </a:lnTo>
                  <a:lnTo>
                    <a:pt x="92" y="1268"/>
                  </a:lnTo>
                  <a:lnTo>
                    <a:pt x="44" y="1208"/>
                  </a:lnTo>
                  <a:lnTo>
                    <a:pt x="30" y="1170"/>
                  </a:lnTo>
                  <a:lnTo>
                    <a:pt x="34" y="1146"/>
                  </a:lnTo>
                  <a:lnTo>
                    <a:pt x="62" y="1136"/>
                  </a:lnTo>
                  <a:lnTo>
                    <a:pt x="82" y="1122"/>
                  </a:lnTo>
                  <a:lnTo>
                    <a:pt x="82" y="966"/>
                  </a:lnTo>
                  <a:lnTo>
                    <a:pt x="88" y="908"/>
                  </a:lnTo>
                  <a:lnTo>
                    <a:pt x="88" y="872"/>
                  </a:lnTo>
                  <a:lnTo>
                    <a:pt x="80" y="848"/>
                  </a:lnTo>
                  <a:lnTo>
                    <a:pt x="80" y="768"/>
                  </a:lnTo>
                  <a:lnTo>
                    <a:pt x="74" y="708"/>
                  </a:lnTo>
                  <a:lnTo>
                    <a:pt x="58" y="642"/>
                  </a:lnTo>
                  <a:lnTo>
                    <a:pt x="28" y="586"/>
                  </a:lnTo>
                  <a:lnTo>
                    <a:pt x="0" y="548"/>
                  </a:lnTo>
                  <a:lnTo>
                    <a:pt x="2" y="506"/>
                  </a:lnTo>
                  <a:lnTo>
                    <a:pt x="26" y="486"/>
                  </a:lnTo>
                  <a:lnTo>
                    <a:pt x="26" y="478"/>
                  </a:lnTo>
                  <a:lnTo>
                    <a:pt x="58" y="474"/>
                  </a:lnTo>
                  <a:lnTo>
                    <a:pt x="86" y="454"/>
                  </a:lnTo>
                  <a:lnTo>
                    <a:pt x="110" y="430"/>
                  </a:lnTo>
                  <a:lnTo>
                    <a:pt x="124" y="404"/>
                  </a:lnTo>
                  <a:lnTo>
                    <a:pt x="124" y="378"/>
                  </a:lnTo>
                  <a:lnTo>
                    <a:pt x="108" y="306"/>
                  </a:lnTo>
                  <a:lnTo>
                    <a:pt x="110" y="282"/>
                  </a:lnTo>
                  <a:lnTo>
                    <a:pt x="120" y="258"/>
                  </a:lnTo>
                  <a:lnTo>
                    <a:pt x="150" y="242"/>
                  </a:lnTo>
                  <a:lnTo>
                    <a:pt x="172" y="224"/>
                  </a:lnTo>
                  <a:lnTo>
                    <a:pt x="184" y="198"/>
                  </a:lnTo>
                  <a:lnTo>
                    <a:pt x="252" y="146"/>
                  </a:lnTo>
                  <a:lnTo>
                    <a:pt x="266" y="130"/>
                  </a:lnTo>
                  <a:lnTo>
                    <a:pt x="278" y="104"/>
                  </a:lnTo>
                  <a:lnTo>
                    <a:pt x="270" y="12"/>
                  </a:lnTo>
                  <a:lnTo>
                    <a:pt x="272" y="0"/>
                  </a:lnTo>
                  <a:lnTo>
                    <a:pt x="300" y="8"/>
                  </a:lnTo>
                  <a:lnTo>
                    <a:pt x="330" y="28"/>
                  </a:lnTo>
                  <a:lnTo>
                    <a:pt x="398" y="56"/>
                  </a:lnTo>
                  <a:lnTo>
                    <a:pt x="450" y="60"/>
                  </a:lnTo>
                  <a:lnTo>
                    <a:pt x="498" y="44"/>
                  </a:lnTo>
                  <a:lnTo>
                    <a:pt x="536" y="48"/>
                  </a:lnTo>
                  <a:lnTo>
                    <a:pt x="564" y="62"/>
                  </a:lnTo>
                  <a:lnTo>
                    <a:pt x="596" y="62"/>
                  </a:lnTo>
                  <a:lnTo>
                    <a:pt x="638" y="78"/>
                  </a:lnTo>
                  <a:lnTo>
                    <a:pt x="660" y="90"/>
                  </a:lnTo>
                  <a:lnTo>
                    <a:pt x="712" y="116"/>
                  </a:lnTo>
                  <a:lnTo>
                    <a:pt x="744" y="124"/>
                  </a:lnTo>
                  <a:lnTo>
                    <a:pt x="778" y="136"/>
                  </a:lnTo>
                  <a:lnTo>
                    <a:pt x="794" y="152"/>
                  </a:lnTo>
                  <a:lnTo>
                    <a:pt x="804" y="184"/>
                  </a:lnTo>
                  <a:lnTo>
                    <a:pt x="806" y="218"/>
                  </a:lnTo>
                  <a:lnTo>
                    <a:pt x="832" y="256"/>
                  </a:lnTo>
                  <a:lnTo>
                    <a:pt x="872" y="298"/>
                  </a:lnTo>
                  <a:lnTo>
                    <a:pt x="904" y="314"/>
                  </a:lnTo>
                  <a:lnTo>
                    <a:pt x="926" y="322"/>
                  </a:lnTo>
                  <a:lnTo>
                    <a:pt x="1012" y="324"/>
                  </a:lnTo>
                  <a:lnTo>
                    <a:pt x="1052" y="336"/>
                  </a:lnTo>
                  <a:lnTo>
                    <a:pt x="1126" y="362"/>
                  </a:lnTo>
                  <a:lnTo>
                    <a:pt x="1162" y="388"/>
                  </a:lnTo>
                  <a:lnTo>
                    <a:pt x="1182" y="390"/>
                  </a:lnTo>
                  <a:lnTo>
                    <a:pt x="1204" y="400"/>
                  </a:lnTo>
                  <a:lnTo>
                    <a:pt x="1220" y="422"/>
                  </a:lnTo>
                  <a:lnTo>
                    <a:pt x="1264" y="462"/>
                  </a:lnTo>
                  <a:lnTo>
                    <a:pt x="1304" y="478"/>
                  </a:lnTo>
                  <a:lnTo>
                    <a:pt x="1336" y="478"/>
                  </a:lnTo>
                  <a:lnTo>
                    <a:pt x="1382" y="456"/>
                  </a:lnTo>
                  <a:lnTo>
                    <a:pt x="1404" y="440"/>
                  </a:lnTo>
                  <a:lnTo>
                    <a:pt x="1428" y="412"/>
                  </a:lnTo>
                  <a:lnTo>
                    <a:pt x="1440" y="382"/>
                  </a:lnTo>
                  <a:lnTo>
                    <a:pt x="1454" y="356"/>
                  </a:lnTo>
                  <a:lnTo>
                    <a:pt x="1454" y="334"/>
                  </a:lnTo>
                  <a:lnTo>
                    <a:pt x="1440" y="302"/>
                  </a:lnTo>
                  <a:lnTo>
                    <a:pt x="1436" y="276"/>
                  </a:lnTo>
                  <a:lnTo>
                    <a:pt x="1420" y="250"/>
                  </a:lnTo>
                  <a:lnTo>
                    <a:pt x="1416" y="210"/>
                  </a:lnTo>
                  <a:lnTo>
                    <a:pt x="1422" y="176"/>
                  </a:lnTo>
                  <a:lnTo>
                    <a:pt x="1452" y="136"/>
                  </a:lnTo>
                  <a:lnTo>
                    <a:pt x="1470" y="118"/>
                  </a:lnTo>
                  <a:lnTo>
                    <a:pt x="1514" y="78"/>
                  </a:lnTo>
                  <a:lnTo>
                    <a:pt x="1552" y="56"/>
                  </a:lnTo>
                  <a:lnTo>
                    <a:pt x="1592" y="48"/>
                  </a:lnTo>
                  <a:lnTo>
                    <a:pt x="1620" y="36"/>
                  </a:lnTo>
                  <a:lnTo>
                    <a:pt x="1694" y="34"/>
                  </a:lnTo>
                  <a:lnTo>
                    <a:pt x="1768" y="58"/>
                  </a:lnTo>
                  <a:lnTo>
                    <a:pt x="1786" y="66"/>
                  </a:lnTo>
                  <a:lnTo>
                    <a:pt x="1806" y="68"/>
                  </a:lnTo>
                  <a:lnTo>
                    <a:pt x="1830" y="82"/>
                  </a:lnTo>
                  <a:lnTo>
                    <a:pt x="1834" y="106"/>
                  </a:lnTo>
                  <a:lnTo>
                    <a:pt x="1830" y="112"/>
                  </a:lnTo>
                  <a:lnTo>
                    <a:pt x="1824" y="110"/>
                  </a:lnTo>
                  <a:lnTo>
                    <a:pt x="1830" y="130"/>
                  </a:lnTo>
                  <a:lnTo>
                    <a:pt x="1856" y="150"/>
                  </a:lnTo>
                  <a:lnTo>
                    <a:pt x="1868" y="154"/>
                  </a:lnTo>
                  <a:lnTo>
                    <a:pt x="1880" y="152"/>
                  </a:lnTo>
                  <a:lnTo>
                    <a:pt x="1916" y="156"/>
                  </a:lnTo>
                  <a:lnTo>
                    <a:pt x="1940" y="162"/>
                  </a:lnTo>
                  <a:lnTo>
                    <a:pt x="1950" y="166"/>
                  </a:lnTo>
                  <a:lnTo>
                    <a:pt x="1986" y="184"/>
                  </a:lnTo>
                  <a:lnTo>
                    <a:pt x="2026" y="188"/>
                  </a:lnTo>
                  <a:lnTo>
                    <a:pt x="2088" y="192"/>
                  </a:lnTo>
                  <a:lnTo>
                    <a:pt x="2110" y="204"/>
                  </a:lnTo>
                  <a:lnTo>
                    <a:pt x="2122" y="236"/>
                  </a:lnTo>
                  <a:lnTo>
                    <a:pt x="2126" y="240"/>
                  </a:lnTo>
                  <a:lnTo>
                    <a:pt x="2110" y="244"/>
                  </a:lnTo>
                  <a:lnTo>
                    <a:pt x="2104" y="268"/>
                  </a:lnTo>
                  <a:lnTo>
                    <a:pt x="2088" y="292"/>
                  </a:lnTo>
                  <a:lnTo>
                    <a:pt x="2088" y="298"/>
                  </a:lnTo>
                  <a:lnTo>
                    <a:pt x="2098" y="322"/>
                  </a:lnTo>
                  <a:lnTo>
                    <a:pt x="2106" y="392"/>
                  </a:lnTo>
                  <a:lnTo>
                    <a:pt x="2116" y="436"/>
                  </a:lnTo>
                  <a:lnTo>
                    <a:pt x="2116" y="462"/>
                  </a:lnTo>
                  <a:lnTo>
                    <a:pt x="2114" y="466"/>
                  </a:lnTo>
                  <a:lnTo>
                    <a:pt x="2094" y="478"/>
                  </a:lnTo>
                  <a:lnTo>
                    <a:pt x="2084" y="494"/>
                  </a:lnTo>
                  <a:lnTo>
                    <a:pt x="2084" y="504"/>
                  </a:lnTo>
                  <a:lnTo>
                    <a:pt x="2094" y="558"/>
                  </a:lnTo>
                  <a:lnTo>
                    <a:pt x="2114" y="586"/>
                  </a:lnTo>
                  <a:lnTo>
                    <a:pt x="2118" y="596"/>
                  </a:lnTo>
                  <a:lnTo>
                    <a:pt x="2114" y="628"/>
                  </a:lnTo>
                  <a:lnTo>
                    <a:pt x="2160" y="676"/>
                  </a:lnTo>
                  <a:lnTo>
                    <a:pt x="2168" y="792"/>
                  </a:lnTo>
                  <a:lnTo>
                    <a:pt x="2180" y="954"/>
                  </a:lnTo>
                  <a:lnTo>
                    <a:pt x="2192" y="1114"/>
                  </a:lnTo>
                  <a:lnTo>
                    <a:pt x="2202" y="1274"/>
                  </a:lnTo>
                  <a:lnTo>
                    <a:pt x="2212" y="1434"/>
                  </a:lnTo>
                  <a:lnTo>
                    <a:pt x="2222" y="1594"/>
                  </a:lnTo>
                  <a:lnTo>
                    <a:pt x="2232" y="1754"/>
                  </a:lnTo>
                  <a:lnTo>
                    <a:pt x="2238" y="1864"/>
                  </a:lnTo>
                  <a:lnTo>
                    <a:pt x="2248" y="2016"/>
                  </a:lnTo>
                  <a:lnTo>
                    <a:pt x="2256" y="2188"/>
                  </a:lnTo>
                  <a:lnTo>
                    <a:pt x="2122" y="2190"/>
                  </a:lnTo>
                  <a:lnTo>
                    <a:pt x="2126" y="2286"/>
                  </a:lnTo>
                  <a:lnTo>
                    <a:pt x="2104" y="2282"/>
                  </a:lnTo>
                  <a:lnTo>
                    <a:pt x="1982" y="2212"/>
                  </a:lnTo>
                  <a:lnTo>
                    <a:pt x="1858" y="2142"/>
                  </a:lnTo>
                  <a:lnTo>
                    <a:pt x="1736" y="2072"/>
                  </a:lnTo>
                  <a:lnTo>
                    <a:pt x="1612" y="2002"/>
                  </a:lnTo>
                  <a:lnTo>
                    <a:pt x="1490" y="1932"/>
                  </a:lnTo>
                  <a:lnTo>
                    <a:pt x="1368" y="1862"/>
                  </a:lnTo>
                  <a:lnTo>
                    <a:pt x="1248" y="1792"/>
                  </a:lnTo>
                  <a:lnTo>
                    <a:pt x="1126" y="1722"/>
                  </a:lnTo>
                  <a:lnTo>
                    <a:pt x="1004" y="1652"/>
                  </a:lnTo>
                  <a:lnTo>
                    <a:pt x="978" y="1640"/>
                  </a:lnTo>
                  <a:lnTo>
                    <a:pt x="854" y="1688"/>
                  </a:lnTo>
                  <a:lnTo>
                    <a:pt x="840" y="1696"/>
                  </a:lnTo>
                  <a:lnTo>
                    <a:pt x="798" y="1710"/>
                  </a:lnTo>
                  <a:lnTo>
                    <a:pt x="780" y="1682"/>
                  </a:lnTo>
                  <a:lnTo>
                    <a:pt x="770" y="1672"/>
                  </a:lnTo>
                  <a:lnTo>
                    <a:pt x="734" y="1652"/>
                  </a:lnTo>
                  <a:lnTo>
                    <a:pt x="722" y="1638"/>
                  </a:lnTo>
                  <a:lnTo>
                    <a:pt x="710" y="1630"/>
                  </a:lnTo>
                  <a:lnTo>
                    <a:pt x="688" y="1624"/>
                  </a:lnTo>
                  <a:lnTo>
                    <a:pt x="588" y="1614"/>
                  </a:lnTo>
                  <a:lnTo>
                    <a:pt x="480" y="1618"/>
                  </a:lnTo>
                  <a:lnTo>
                    <a:pt x="400" y="1612"/>
                  </a:lnTo>
                  <a:lnTo>
                    <a:pt x="392" y="1614"/>
                  </a:lnTo>
                  <a:lnTo>
                    <a:pt x="382" y="16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29480" y="4023360"/>
              <a:ext cx="399600" cy="426240"/>
            </a:xfrm>
            <a:custGeom>
              <a:avLst/>
              <a:gdLst/>
              <a:ahLst/>
              <a:rect l="l" t="t" r="r" b="b"/>
              <a:pathLst>
                <a:path w="2300" h="2492">
                  <a:moveTo>
                    <a:pt x="1202" y="124"/>
                  </a:moveTo>
                  <a:lnTo>
                    <a:pt x="1864" y="640"/>
                  </a:lnTo>
                  <a:lnTo>
                    <a:pt x="1866" y="654"/>
                  </a:lnTo>
                  <a:lnTo>
                    <a:pt x="1876" y="666"/>
                  </a:lnTo>
                  <a:lnTo>
                    <a:pt x="1872" y="690"/>
                  </a:lnTo>
                  <a:lnTo>
                    <a:pt x="1874" y="700"/>
                  </a:lnTo>
                  <a:lnTo>
                    <a:pt x="1892" y="712"/>
                  </a:lnTo>
                  <a:lnTo>
                    <a:pt x="1910" y="716"/>
                  </a:lnTo>
                  <a:lnTo>
                    <a:pt x="1938" y="732"/>
                  </a:lnTo>
                  <a:lnTo>
                    <a:pt x="1944" y="738"/>
                  </a:lnTo>
                  <a:lnTo>
                    <a:pt x="1946" y="756"/>
                  </a:lnTo>
                  <a:lnTo>
                    <a:pt x="1950" y="768"/>
                  </a:lnTo>
                  <a:lnTo>
                    <a:pt x="1970" y="786"/>
                  </a:lnTo>
                  <a:lnTo>
                    <a:pt x="1984" y="794"/>
                  </a:lnTo>
                  <a:lnTo>
                    <a:pt x="2006" y="800"/>
                  </a:lnTo>
                  <a:lnTo>
                    <a:pt x="2030" y="796"/>
                  </a:lnTo>
                  <a:lnTo>
                    <a:pt x="2036" y="800"/>
                  </a:lnTo>
                  <a:lnTo>
                    <a:pt x="2044" y="822"/>
                  </a:lnTo>
                  <a:lnTo>
                    <a:pt x="2056" y="830"/>
                  </a:lnTo>
                  <a:lnTo>
                    <a:pt x="2082" y="830"/>
                  </a:lnTo>
                  <a:lnTo>
                    <a:pt x="2094" y="834"/>
                  </a:lnTo>
                  <a:lnTo>
                    <a:pt x="2104" y="834"/>
                  </a:lnTo>
                  <a:lnTo>
                    <a:pt x="2126" y="850"/>
                  </a:lnTo>
                  <a:lnTo>
                    <a:pt x="2148" y="858"/>
                  </a:lnTo>
                  <a:lnTo>
                    <a:pt x="2158" y="866"/>
                  </a:lnTo>
                  <a:lnTo>
                    <a:pt x="2162" y="874"/>
                  </a:lnTo>
                  <a:lnTo>
                    <a:pt x="2164" y="876"/>
                  </a:lnTo>
                  <a:lnTo>
                    <a:pt x="2166" y="890"/>
                  </a:lnTo>
                  <a:lnTo>
                    <a:pt x="2162" y="898"/>
                  </a:lnTo>
                  <a:lnTo>
                    <a:pt x="2164" y="912"/>
                  </a:lnTo>
                  <a:lnTo>
                    <a:pt x="2170" y="922"/>
                  </a:lnTo>
                  <a:lnTo>
                    <a:pt x="2170" y="930"/>
                  </a:lnTo>
                  <a:lnTo>
                    <a:pt x="2162" y="936"/>
                  </a:lnTo>
                  <a:lnTo>
                    <a:pt x="2160" y="942"/>
                  </a:lnTo>
                  <a:lnTo>
                    <a:pt x="2162" y="960"/>
                  </a:lnTo>
                  <a:lnTo>
                    <a:pt x="2156" y="976"/>
                  </a:lnTo>
                  <a:lnTo>
                    <a:pt x="2156" y="988"/>
                  </a:lnTo>
                  <a:lnTo>
                    <a:pt x="2176" y="1014"/>
                  </a:lnTo>
                  <a:lnTo>
                    <a:pt x="2188" y="1018"/>
                  </a:lnTo>
                  <a:lnTo>
                    <a:pt x="2208" y="1016"/>
                  </a:lnTo>
                  <a:lnTo>
                    <a:pt x="2230" y="1004"/>
                  </a:lnTo>
                  <a:lnTo>
                    <a:pt x="2254" y="1002"/>
                  </a:lnTo>
                  <a:lnTo>
                    <a:pt x="2278" y="988"/>
                  </a:lnTo>
                  <a:lnTo>
                    <a:pt x="2292" y="984"/>
                  </a:lnTo>
                  <a:lnTo>
                    <a:pt x="2292" y="990"/>
                  </a:lnTo>
                  <a:lnTo>
                    <a:pt x="2296" y="992"/>
                  </a:lnTo>
                  <a:lnTo>
                    <a:pt x="2296" y="1026"/>
                  </a:lnTo>
                  <a:lnTo>
                    <a:pt x="2298" y="1186"/>
                  </a:lnTo>
                  <a:lnTo>
                    <a:pt x="2298" y="1346"/>
                  </a:lnTo>
                  <a:lnTo>
                    <a:pt x="2300" y="1506"/>
                  </a:lnTo>
                  <a:lnTo>
                    <a:pt x="2286" y="1510"/>
                  </a:lnTo>
                  <a:lnTo>
                    <a:pt x="2262" y="1526"/>
                  </a:lnTo>
                  <a:lnTo>
                    <a:pt x="2254" y="1544"/>
                  </a:lnTo>
                  <a:lnTo>
                    <a:pt x="2250" y="1566"/>
                  </a:lnTo>
                  <a:lnTo>
                    <a:pt x="2218" y="1588"/>
                  </a:lnTo>
                  <a:lnTo>
                    <a:pt x="2210" y="1596"/>
                  </a:lnTo>
                  <a:lnTo>
                    <a:pt x="2204" y="1606"/>
                  </a:lnTo>
                  <a:lnTo>
                    <a:pt x="2202" y="1622"/>
                  </a:lnTo>
                  <a:lnTo>
                    <a:pt x="2170" y="1616"/>
                  </a:lnTo>
                  <a:lnTo>
                    <a:pt x="2136" y="1614"/>
                  </a:lnTo>
                  <a:lnTo>
                    <a:pt x="2136" y="1626"/>
                  </a:lnTo>
                  <a:lnTo>
                    <a:pt x="2124" y="1620"/>
                  </a:lnTo>
                  <a:lnTo>
                    <a:pt x="1898" y="1626"/>
                  </a:lnTo>
                  <a:lnTo>
                    <a:pt x="1834" y="1684"/>
                  </a:lnTo>
                  <a:lnTo>
                    <a:pt x="1738" y="1684"/>
                  </a:lnTo>
                  <a:lnTo>
                    <a:pt x="1652" y="1688"/>
                  </a:lnTo>
                  <a:lnTo>
                    <a:pt x="1602" y="1708"/>
                  </a:lnTo>
                  <a:lnTo>
                    <a:pt x="1580" y="1722"/>
                  </a:lnTo>
                  <a:lnTo>
                    <a:pt x="1542" y="1758"/>
                  </a:lnTo>
                  <a:lnTo>
                    <a:pt x="1448" y="1832"/>
                  </a:lnTo>
                  <a:lnTo>
                    <a:pt x="1414" y="1878"/>
                  </a:lnTo>
                  <a:lnTo>
                    <a:pt x="1366" y="1918"/>
                  </a:lnTo>
                  <a:lnTo>
                    <a:pt x="1268" y="1954"/>
                  </a:lnTo>
                  <a:lnTo>
                    <a:pt x="1236" y="1962"/>
                  </a:lnTo>
                  <a:lnTo>
                    <a:pt x="1206" y="1964"/>
                  </a:lnTo>
                  <a:lnTo>
                    <a:pt x="1188" y="1972"/>
                  </a:lnTo>
                  <a:lnTo>
                    <a:pt x="1166" y="1988"/>
                  </a:lnTo>
                  <a:lnTo>
                    <a:pt x="1154" y="2006"/>
                  </a:lnTo>
                  <a:lnTo>
                    <a:pt x="1142" y="2040"/>
                  </a:lnTo>
                  <a:lnTo>
                    <a:pt x="1132" y="2082"/>
                  </a:lnTo>
                  <a:lnTo>
                    <a:pt x="1112" y="2140"/>
                  </a:lnTo>
                  <a:lnTo>
                    <a:pt x="1094" y="2170"/>
                  </a:lnTo>
                  <a:lnTo>
                    <a:pt x="1048" y="2204"/>
                  </a:lnTo>
                  <a:lnTo>
                    <a:pt x="1026" y="2232"/>
                  </a:lnTo>
                  <a:lnTo>
                    <a:pt x="1014" y="2246"/>
                  </a:lnTo>
                  <a:lnTo>
                    <a:pt x="1004" y="2272"/>
                  </a:lnTo>
                  <a:lnTo>
                    <a:pt x="998" y="2302"/>
                  </a:lnTo>
                  <a:lnTo>
                    <a:pt x="976" y="2356"/>
                  </a:lnTo>
                  <a:lnTo>
                    <a:pt x="972" y="2388"/>
                  </a:lnTo>
                  <a:lnTo>
                    <a:pt x="972" y="2428"/>
                  </a:lnTo>
                  <a:lnTo>
                    <a:pt x="976" y="2464"/>
                  </a:lnTo>
                  <a:lnTo>
                    <a:pt x="946" y="2470"/>
                  </a:lnTo>
                  <a:lnTo>
                    <a:pt x="940" y="2466"/>
                  </a:lnTo>
                  <a:lnTo>
                    <a:pt x="930" y="2450"/>
                  </a:lnTo>
                  <a:lnTo>
                    <a:pt x="924" y="2444"/>
                  </a:lnTo>
                  <a:lnTo>
                    <a:pt x="896" y="2444"/>
                  </a:lnTo>
                  <a:lnTo>
                    <a:pt x="888" y="2446"/>
                  </a:lnTo>
                  <a:lnTo>
                    <a:pt x="878" y="2464"/>
                  </a:lnTo>
                  <a:lnTo>
                    <a:pt x="870" y="2466"/>
                  </a:lnTo>
                  <a:lnTo>
                    <a:pt x="860" y="2480"/>
                  </a:lnTo>
                  <a:lnTo>
                    <a:pt x="836" y="2478"/>
                  </a:lnTo>
                  <a:lnTo>
                    <a:pt x="838" y="2472"/>
                  </a:lnTo>
                  <a:lnTo>
                    <a:pt x="838" y="2436"/>
                  </a:lnTo>
                  <a:lnTo>
                    <a:pt x="832" y="2426"/>
                  </a:lnTo>
                  <a:lnTo>
                    <a:pt x="834" y="2422"/>
                  </a:lnTo>
                  <a:lnTo>
                    <a:pt x="834" y="2406"/>
                  </a:lnTo>
                  <a:lnTo>
                    <a:pt x="828" y="2398"/>
                  </a:lnTo>
                  <a:lnTo>
                    <a:pt x="820" y="2400"/>
                  </a:lnTo>
                  <a:lnTo>
                    <a:pt x="806" y="2400"/>
                  </a:lnTo>
                  <a:lnTo>
                    <a:pt x="798" y="2422"/>
                  </a:lnTo>
                  <a:lnTo>
                    <a:pt x="792" y="2422"/>
                  </a:lnTo>
                  <a:lnTo>
                    <a:pt x="780" y="2412"/>
                  </a:lnTo>
                  <a:lnTo>
                    <a:pt x="772" y="2412"/>
                  </a:lnTo>
                  <a:lnTo>
                    <a:pt x="766" y="2420"/>
                  </a:lnTo>
                  <a:lnTo>
                    <a:pt x="766" y="2434"/>
                  </a:lnTo>
                  <a:lnTo>
                    <a:pt x="770" y="2450"/>
                  </a:lnTo>
                  <a:lnTo>
                    <a:pt x="764" y="2460"/>
                  </a:lnTo>
                  <a:lnTo>
                    <a:pt x="736" y="2460"/>
                  </a:lnTo>
                  <a:lnTo>
                    <a:pt x="720" y="2468"/>
                  </a:lnTo>
                  <a:lnTo>
                    <a:pt x="720" y="2480"/>
                  </a:lnTo>
                  <a:lnTo>
                    <a:pt x="714" y="2492"/>
                  </a:lnTo>
                  <a:lnTo>
                    <a:pt x="704" y="2492"/>
                  </a:lnTo>
                  <a:lnTo>
                    <a:pt x="694" y="2484"/>
                  </a:lnTo>
                  <a:lnTo>
                    <a:pt x="684" y="2470"/>
                  </a:lnTo>
                  <a:lnTo>
                    <a:pt x="678" y="2470"/>
                  </a:lnTo>
                  <a:lnTo>
                    <a:pt x="672" y="2474"/>
                  </a:lnTo>
                  <a:lnTo>
                    <a:pt x="670" y="2478"/>
                  </a:lnTo>
                  <a:lnTo>
                    <a:pt x="666" y="2478"/>
                  </a:lnTo>
                  <a:lnTo>
                    <a:pt x="664" y="2460"/>
                  </a:lnTo>
                  <a:lnTo>
                    <a:pt x="654" y="2442"/>
                  </a:lnTo>
                  <a:lnTo>
                    <a:pt x="644" y="2440"/>
                  </a:lnTo>
                  <a:lnTo>
                    <a:pt x="634" y="2450"/>
                  </a:lnTo>
                  <a:lnTo>
                    <a:pt x="622" y="2448"/>
                  </a:lnTo>
                  <a:lnTo>
                    <a:pt x="616" y="2450"/>
                  </a:lnTo>
                  <a:lnTo>
                    <a:pt x="610" y="2458"/>
                  </a:lnTo>
                  <a:lnTo>
                    <a:pt x="606" y="2470"/>
                  </a:lnTo>
                  <a:lnTo>
                    <a:pt x="598" y="2482"/>
                  </a:lnTo>
                  <a:lnTo>
                    <a:pt x="582" y="2486"/>
                  </a:lnTo>
                  <a:lnTo>
                    <a:pt x="582" y="2476"/>
                  </a:lnTo>
                  <a:lnTo>
                    <a:pt x="578" y="2466"/>
                  </a:lnTo>
                  <a:lnTo>
                    <a:pt x="564" y="2458"/>
                  </a:lnTo>
                  <a:lnTo>
                    <a:pt x="558" y="2444"/>
                  </a:lnTo>
                  <a:lnTo>
                    <a:pt x="544" y="2442"/>
                  </a:lnTo>
                  <a:lnTo>
                    <a:pt x="536" y="2424"/>
                  </a:lnTo>
                  <a:lnTo>
                    <a:pt x="534" y="2354"/>
                  </a:lnTo>
                  <a:lnTo>
                    <a:pt x="532" y="2344"/>
                  </a:lnTo>
                  <a:lnTo>
                    <a:pt x="520" y="2338"/>
                  </a:lnTo>
                  <a:lnTo>
                    <a:pt x="506" y="2342"/>
                  </a:lnTo>
                  <a:lnTo>
                    <a:pt x="492" y="2362"/>
                  </a:lnTo>
                  <a:lnTo>
                    <a:pt x="486" y="2362"/>
                  </a:lnTo>
                  <a:lnTo>
                    <a:pt x="486" y="2338"/>
                  </a:lnTo>
                  <a:lnTo>
                    <a:pt x="488" y="2334"/>
                  </a:lnTo>
                  <a:lnTo>
                    <a:pt x="500" y="2328"/>
                  </a:lnTo>
                  <a:lnTo>
                    <a:pt x="502" y="2316"/>
                  </a:lnTo>
                  <a:lnTo>
                    <a:pt x="512" y="2314"/>
                  </a:lnTo>
                  <a:lnTo>
                    <a:pt x="516" y="2302"/>
                  </a:lnTo>
                  <a:lnTo>
                    <a:pt x="528" y="2302"/>
                  </a:lnTo>
                  <a:lnTo>
                    <a:pt x="526" y="2286"/>
                  </a:lnTo>
                  <a:lnTo>
                    <a:pt x="524" y="2282"/>
                  </a:lnTo>
                  <a:lnTo>
                    <a:pt x="510" y="2282"/>
                  </a:lnTo>
                  <a:lnTo>
                    <a:pt x="502" y="2272"/>
                  </a:lnTo>
                  <a:lnTo>
                    <a:pt x="492" y="2266"/>
                  </a:lnTo>
                  <a:lnTo>
                    <a:pt x="480" y="2236"/>
                  </a:lnTo>
                  <a:lnTo>
                    <a:pt x="468" y="2242"/>
                  </a:lnTo>
                  <a:lnTo>
                    <a:pt x="464" y="2240"/>
                  </a:lnTo>
                  <a:lnTo>
                    <a:pt x="466" y="2188"/>
                  </a:lnTo>
                  <a:lnTo>
                    <a:pt x="460" y="2172"/>
                  </a:lnTo>
                  <a:lnTo>
                    <a:pt x="454" y="2172"/>
                  </a:lnTo>
                  <a:lnTo>
                    <a:pt x="456" y="2154"/>
                  </a:lnTo>
                  <a:lnTo>
                    <a:pt x="452" y="2148"/>
                  </a:lnTo>
                  <a:lnTo>
                    <a:pt x="442" y="2148"/>
                  </a:lnTo>
                  <a:lnTo>
                    <a:pt x="440" y="2146"/>
                  </a:lnTo>
                  <a:lnTo>
                    <a:pt x="442" y="2110"/>
                  </a:lnTo>
                  <a:lnTo>
                    <a:pt x="442" y="2106"/>
                  </a:lnTo>
                  <a:lnTo>
                    <a:pt x="432" y="2098"/>
                  </a:lnTo>
                  <a:lnTo>
                    <a:pt x="426" y="2098"/>
                  </a:lnTo>
                  <a:lnTo>
                    <a:pt x="420" y="2108"/>
                  </a:lnTo>
                  <a:lnTo>
                    <a:pt x="414" y="2108"/>
                  </a:lnTo>
                  <a:lnTo>
                    <a:pt x="396" y="2096"/>
                  </a:lnTo>
                  <a:lnTo>
                    <a:pt x="390" y="2096"/>
                  </a:lnTo>
                  <a:lnTo>
                    <a:pt x="388" y="2098"/>
                  </a:lnTo>
                  <a:lnTo>
                    <a:pt x="388" y="2126"/>
                  </a:lnTo>
                  <a:lnTo>
                    <a:pt x="378" y="2134"/>
                  </a:lnTo>
                  <a:lnTo>
                    <a:pt x="346" y="2148"/>
                  </a:lnTo>
                  <a:lnTo>
                    <a:pt x="344" y="2164"/>
                  </a:lnTo>
                  <a:lnTo>
                    <a:pt x="338" y="2178"/>
                  </a:lnTo>
                  <a:lnTo>
                    <a:pt x="302" y="2164"/>
                  </a:lnTo>
                  <a:lnTo>
                    <a:pt x="278" y="2148"/>
                  </a:lnTo>
                  <a:lnTo>
                    <a:pt x="256" y="2142"/>
                  </a:lnTo>
                  <a:lnTo>
                    <a:pt x="248" y="2144"/>
                  </a:lnTo>
                  <a:lnTo>
                    <a:pt x="238" y="2160"/>
                  </a:lnTo>
                  <a:lnTo>
                    <a:pt x="224" y="2166"/>
                  </a:lnTo>
                  <a:lnTo>
                    <a:pt x="216" y="2182"/>
                  </a:lnTo>
                  <a:lnTo>
                    <a:pt x="208" y="2192"/>
                  </a:lnTo>
                  <a:lnTo>
                    <a:pt x="192" y="2186"/>
                  </a:lnTo>
                  <a:lnTo>
                    <a:pt x="174" y="2152"/>
                  </a:lnTo>
                  <a:lnTo>
                    <a:pt x="166" y="2146"/>
                  </a:lnTo>
                  <a:lnTo>
                    <a:pt x="152" y="2148"/>
                  </a:lnTo>
                  <a:lnTo>
                    <a:pt x="138" y="2166"/>
                  </a:lnTo>
                  <a:lnTo>
                    <a:pt x="126" y="2174"/>
                  </a:lnTo>
                  <a:lnTo>
                    <a:pt x="114" y="2178"/>
                  </a:lnTo>
                  <a:lnTo>
                    <a:pt x="102" y="2170"/>
                  </a:lnTo>
                  <a:lnTo>
                    <a:pt x="90" y="2156"/>
                  </a:lnTo>
                  <a:lnTo>
                    <a:pt x="92" y="2144"/>
                  </a:lnTo>
                  <a:lnTo>
                    <a:pt x="104" y="2130"/>
                  </a:lnTo>
                  <a:lnTo>
                    <a:pt x="104" y="2122"/>
                  </a:lnTo>
                  <a:lnTo>
                    <a:pt x="110" y="2110"/>
                  </a:lnTo>
                  <a:lnTo>
                    <a:pt x="116" y="2104"/>
                  </a:lnTo>
                  <a:lnTo>
                    <a:pt x="116" y="2098"/>
                  </a:lnTo>
                  <a:lnTo>
                    <a:pt x="106" y="2088"/>
                  </a:lnTo>
                  <a:lnTo>
                    <a:pt x="106" y="2064"/>
                  </a:lnTo>
                  <a:lnTo>
                    <a:pt x="112" y="2056"/>
                  </a:lnTo>
                  <a:lnTo>
                    <a:pt x="112" y="2042"/>
                  </a:lnTo>
                  <a:lnTo>
                    <a:pt x="108" y="2032"/>
                  </a:lnTo>
                  <a:lnTo>
                    <a:pt x="110" y="2026"/>
                  </a:lnTo>
                  <a:lnTo>
                    <a:pt x="114" y="2026"/>
                  </a:lnTo>
                  <a:lnTo>
                    <a:pt x="112" y="2016"/>
                  </a:lnTo>
                  <a:lnTo>
                    <a:pt x="102" y="2000"/>
                  </a:lnTo>
                  <a:lnTo>
                    <a:pt x="96" y="1986"/>
                  </a:lnTo>
                  <a:lnTo>
                    <a:pt x="88" y="1982"/>
                  </a:lnTo>
                  <a:lnTo>
                    <a:pt x="88" y="1966"/>
                  </a:lnTo>
                  <a:lnTo>
                    <a:pt x="78" y="1958"/>
                  </a:lnTo>
                  <a:lnTo>
                    <a:pt x="76" y="1948"/>
                  </a:lnTo>
                  <a:lnTo>
                    <a:pt x="64" y="1944"/>
                  </a:lnTo>
                  <a:lnTo>
                    <a:pt x="58" y="1952"/>
                  </a:lnTo>
                  <a:lnTo>
                    <a:pt x="50" y="1952"/>
                  </a:lnTo>
                  <a:lnTo>
                    <a:pt x="44" y="1950"/>
                  </a:lnTo>
                  <a:lnTo>
                    <a:pt x="40" y="1930"/>
                  </a:lnTo>
                  <a:lnTo>
                    <a:pt x="20" y="1900"/>
                  </a:lnTo>
                  <a:lnTo>
                    <a:pt x="20" y="1890"/>
                  </a:lnTo>
                  <a:lnTo>
                    <a:pt x="32" y="1870"/>
                  </a:lnTo>
                  <a:lnTo>
                    <a:pt x="32" y="1856"/>
                  </a:lnTo>
                  <a:lnTo>
                    <a:pt x="26" y="1838"/>
                  </a:lnTo>
                  <a:lnTo>
                    <a:pt x="26" y="1822"/>
                  </a:lnTo>
                  <a:lnTo>
                    <a:pt x="22" y="1800"/>
                  </a:lnTo>
                  <a:lnTo>
                    <a:pt x="14" y="1790"/>
                  </a:lnTo>
                  <a:lnTo>
                    <a:pt x="10" y="1788"/>
                  </a:lnTo>
                  <a:lnTo>
                    <a:pt x="6" y="1778"/>
                  </a:lnTo>
                  <a:lnTo>
                    <a:pt x="2" y="1778"/>
                  </a:lnTo>
                  <a:lnTo>
                    <a:pt x="0" y="1756"/>
                  </a:lnTo>
                  <a:lnTo>
                    <a:pt x="6" y="1738"/>
                  </a:lnTo>
                  <a:lnTo>
                    <a:pt x="6" y="1726"/>
                  </a:lnTo>
                  <a:lnTo>
                    <a:pt x="0" y="1718"/>
                  </a:lnTo>
                  <a:lnTo>
                    <a:pt x="58" y="1652"/>
                  </a:lnTo>
                  <a:lnTo>
                    <a:pt x="78" y="1600"/>
                  </a:lnTo>
                  <a:lnTo>
                    <a:pt x="90" y="1564"/>
                  </a:lnTo>
                  <a:lnTo>
                    <a:pt x="104" y="1532"/>
                  </a:lnTo>
                  <a:lnTo>
                    <a:pt x="110" y="1530"/>
                  </a:lnTo>
                  <a:lnTo>
                    <a:pt x="118" y="1530"/>
                  </a:lnTo>
                  <a:lnTo>
                    <a:pt x="120" y="1534"/>
                  </a:lnTo>
                  <a:lnTo>
                    <a:pt x="134" y="1538"/>
                  </a:lnTo>
                  <a:lnTo>
                    <a:pt x="144" y="1548"/>
                  </a:lnTo>
                  <a:lnTo>
                    <a:pt x="154" y="1586"/>
                  </a:lnTo>
                  <a:lnTo>
                    <a:pt x="178" y="1642"/>
                  </a:lnTo>
                  <a:lnTo>
                    <a:pt x="218" y="1652"/>
                  </a:lnTo>
                  <a:lnTo>
                    <a:pt x="224" y="1652"/>
                  </a:lnTo>
                  <a:lnTo>
                    <a:pt x="290" y="1588"/>
                  </a:lnTo>
                  <a:lnTo>
                    <a:pt x="516" y="1594"/>
                  </a:lnTo>
                  <a:lnTo>
                    <a:pt x="700" y="1600"/>
                  </a:lnTo>
                  <a:lnTo>
                    <a:pt x="888" y="1604"/>
                  </a:lnTo>
                  <a:lnTo>
                    <a:pt x="936" y="1604"/>
                  </a:lnTo>
                  <a:lnTo>
                    <a:pt x="968" y="1464"/>
                  </a:lnTo>
                  <a:lnTo>
                    <a:pt x="912" y="1442"/>
                  </a:lnTo>
                  <a:lnTo>
                    <a:pt x="898" y="1274"/>
                  </a:lnTo>
                  <a:lnTo>
                    <a:pt x="884" y="1116"/>
                  </a:lnTo>
                  <a:lnTo>
                    <a:pt x="872" y="956"/>
                  </a:lnTo>
                  <a:lnTo>
                    <a:pt x="858" y="798"/>
                  </a:lnTo>
                  <a:lnTo>
                    <a:pt x="848" y="638"/>
                  </a:lnTo>
                  <a:lnTo>
                    <a:pt x="834" y="480"/>
                  </a:lnTo>
                  <a:lnTo>
                    <a:pt x="822" y="322"/>
                  </a:lnTo>
                  <a:lnTo>
                    <a:pt x="812" y="162"/>
                  </a:lnTo>
                  <a:lnTo>
                    <a:pt x="800" y="0"/>
                  </a:lnTo>
                  <a:lnTo>
                    <a:pt x="1042" y="0"/>
                  </a:lnTo>
                  <a:lnTo>
                    <a:pt x="1202" y="1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17160" y="3946680"/>
              <a:ext cx="205920" cy="191520"/>
            </a:xfrm>
            <a:custGeom>
              <a:avLst/>
              <a:gdLst/>
              <a:ahLst/>
              <a:rect l="l" t="t" r="r" b="b"/>
              <a:pathLst>
                <a:path w="1192" h="1120">
                  <a:moveTo>
                    <a:pt x="504" y="1058"/>
                  </a:moveTo>
                  <a:lnTo>
                    <a:pt x="382" y="1058"/>
                  </a:lnTo>
                  <a:lnTo>
                    <a:pt x="246" y="1058"/>
                  </a:lnTo>
                  <a:lnTo>
                    <a:pt x="118" y="1056"/>
                  </a:lnTo>
                  <a:lnTo>
                    <a:pt x="46" y="1056"/>
                  </a:lnTo>
                  <a:lnTo>
                    <a:pt x="40" y="1076"/>
                  </a:lnTo>
                  <a:lnTo>
                    <a:pt x="16" y="1096"/>
                  </a:lnTo>
                  <a:lnTo>
                    <a:pt x="6" y="1110"/>
                  </a:lnTo>
                  <a:lnTo>
                    <a:pt x="12" y="1108"/>
                  </a:lnTo>
                  <a:lnTo>
                    <a:pt x="0" y="1120"/>
                  </a:lnTo>
                  <a:lnTo>
                    <a:pt x="2" y="1098"/>
                  </a:lnTo>
                  <a:lnTo>
                    <a:pt x="18" y="992"/>
                  </a:lnTo>
                  <a:lnTo>
                    <a:pt x="48" y="918"/>
                  </a:lnTo>
                  <a:lnTo>
                    <a:pt x="80" y="900"/>
                  </a:lnTo>
                  <a:lnTo>
                    <a:pt x="114" y="822"/>
                  </a:lnTo>
                  <a:lnTo>
                    <a:pt x="136" y="788"/>
                  </a:lnTo>
                  <a:lnTo>
                    <a:pt x="130" y="764"/>
                  </a:lnTo>
                  <a:lnTo>
                    <a:pt x="182" y="682"/>
                  </a:lnTo>
                  <a:lnTo>
                    <a:pt x="192" y="664"/>
                  </a:lnTo>
                  <a:lnTo>
                    <a:pt x="202" y="630"/>
                  </a:lnTo>
                  <a:lnTo>
                    <a:pt x="214" y="612"/>
                  </a:lnTo>
                  <a:lnTo>
                    <a:pt x="292" y="518"/>
                  </a:lnTo>
                  <a:lnTo>
                    <a:pt x="332" y="448"/>
                  </a:lnTo>
                  <a:lnTo>
                    <a:pt x="340" y="400"/>
                  </a:lnTo>
                  <a:lnTo>
                    <a:pt x="366" y="332"/>
                  </a:lnTo>
                  <a:lnTo>
                    <a:pt x="384" y="274"/>
                  </a:lnTo>
                  <a:lnTo>
                    <a:pt x="424" y="218"/>
                  </a:lnTo>
                  <a:lnTo>
                    <a:pt x="476" y="192"/>
                  </a:lnTo>
                  <a:lnTo>
                    <a:pt x="520" y="154"/>
                  </a:lnTo>
                  <a:lnTo>
                    <a:pt x="534" y="106"/>
                  </a:lnTo>
                  <a:lnTo>
                    <a:pt x="542" y="92"/>
                  </a:lnTo>
                  <a:lnTo>
                    <a:pt x="556" y="60"/>
                  </a:lnTo>
                  <a:lnTo>
                    <a:pt x="580" y="16"/>
                  </a:lnTo>
                  <a:lnTo>
                    <a:pt x="594" y="2"/>
                  </a:lnTo>
                  <a:lnTo>
                    <a:pt x="616" y="0"/>
                  </a:lnTo>
                  <a:lnTo>
                    <a:pt x="700" y="0"/>
                  </a:lnTo>
                  <a:lnTo>
                    <a:pt x="790" y="2"/>
                  </a:lnTo>
                  <a:lnTo>
                    <a:pt x="890" y="2"/>
                  </a:lnTo>
                  <a:lnTo>
                    <a:pt x="994" y="2"/>
                  </a:lnTo>
                  <a:lnTo>
                    <a:pt x="1102" y="2"/>
                  </a:lnTo>
                  <a:lnTo>
                    <a:pt x="1192" y="4"/>
                  </a:lnTo>
                  <a:lnTo>
                    <a:pt x="1190" y="92"/>
                  </a:lnTo>
                  <a:lnTo>
                    <a:pt x="1186" y="282"/>
                  </a:lnTo>
                  <a:lnTo>
                    <a:pt x="1054" y="282"/>
                  </a:lnTo>
                  <a:lnTo>
                    <a:pt x="920" y="282"/>
                  </a:lnTo>
                  <a:lnTo>
                    <a:pt x="786" y="280"/>
                  </a:lnTo>
                  <a:lnTo>
                    <a:pt x="742" y="280"/>
                  </a:lnTo>
                  <a:lnTo>
                    <a:pt x="738" y="444"/>
                  </a:lnTo>
                  <a:lnTo>
                    <a:pt x="732" y="606"/>
                  </a:lnTo>
                  <a:lnTo>
                    <a:pt x="730" y="708"/>
                  </a:lnTo>
                  <a:lnTo>
                    <a:pt x="678" y="724"/>
                  </a:lnTo>
                  <a:lnTo>
                    <a:pt x="634" y="730"/>
                  </a:lnTo>
                  <a:lnTo>
                    <a:pt x="594" y="746"/>
                  </a:lnTo>
                  <a:lnTo>
                    <a:pt x="582" y="754"/>
                  </a:lnTo>
                  <a:lnTo>
                    <a:pt x="572" y="768"/>
                  </a:lnTo>
                  <a:lnTo>
                    <a:pt x="556" y="800"/>
                  </a:lnTo>
                  <a:lnTo>
                    <a:pt x="554" y="826"/>
                  </a:lnTo>
                  <a:lnTo>
                    <a:pt x="554" y="898"/>
                  </a:lnTo>
                  <a:lnTo>
                    <a:pt x="560" y="956"/>
                  </a:lnTo>
                  <a:lnTo>
                    <a:pt x="562" y="1014"/>
                  </a:lnTo>
                  <a:lnTo>
                    <a:pt x="568" y="1060"/>
                  </a:lnTo>
                  <a:lnTo>
                    <a:pt x="504" y="105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2400" y="5254560"/>
              <a:ext cx="232560" cy="260640"/>
            </a:xfrm>
            <a:custGeom>
              <a:avLst/>
              <a:gdLst/>
              <a:ahLst/>
              <a:rect l="l" t="t" r="r" b="b"/>
              <a:pathLst>
                <a:path w="1336" h="1522">
                  <a:moveTo>
                    <a:pt x="0" y="1170"/>
                  </a:moveTo>
                  <a:lnTo>
                    <a:pt x="8" y="1022"/>
                  </a:lnTo>
                  <a:lnTo>
                    <a:pt x="16" y="858"/>
                  </a:lnTo>
                  <a:lnTo>
                    <a:pt x="22" y="704"/>
                  </a:lnTo>
                  <a:lnTo>
                    <a:pt x="164" y="706"/>
                  </a:lnTo>
                  <a:lnTo>
                    <a:pt x="170" y="596"/>
                  </a:lnTo>
                  <a:lnTo>
                    <a:pt x="176" y="432"/>
                  </a:lnTo>
                  <a:lnTo>
                    <a:pt x="184" y="270"/>
                  </a:lnTo>
                  <a:lnTo>
                    <a:pt x="190" y="114"/>
                  </a:lnTo>
                  <a:lnTo>
                    <a:pt x="202" y="100"/>
                  </a:lnTo>
                  <a:lnTo>
                    <a:pt x="408" y="58"/>
                  </a:lnTo>
                  <a:lnTo>
                    <a:pt x="454" y="50"/>
                  </a:lnTo>
                  <a:lnTo>
                    <a:pt x="470" y="50"/>
                  </a:lnTo>
                  <a:lnTo>
                    <a:pt x="516" y="54"/>
                  </a:lnTo>
                  <a:lnTo>
                    <a:pt x="540" y="64"/>
                  </a:lnTo>
                  <a:lnTo>
                    <a:pt x="556" y="100"/>
                  </a:lnTo>
                  <a:lnTo>
                    <a:pt x="562" y="144"/>
                  </a:lnTo>
                  <a:lnTo>
                    <a:pt x="582" y="122"/>
                  </a:lnTo>
                  <a:lnTo>
                    <a:pt x="602" y="90"/>
                  </a:lnTo>
                  <a:lnTo>
                    <a:pt x="646" y="54"/>
                  </a:lnTo>
                  <a:lnTo>
                    <a:pt x="716" y="34"/>
                  </a:lnTo>
                  <a:lnTo>
                    <a:pt x="730" y="16"/>
                  </a:lnTo>
                  <a:lnTo>
                    <a:pt x="750" y="2"/>
                  </a:lnTo>
                  <a:lnTo>
                    <a:pt x="778" y="0"/>
                  </a:lnTo>
                  <a:lnTo>
                    <a:pt x="796" y="8"/>
                  </a:lnTo>
                  <a:lnTo>
                    <a:pt x="796" y="30"/>
                  </a:lnTo>
                  <a:lnTo>
                    <a:pt x="802" y="52"/>
                  </a:lnTo>
                  <a:lnTo>
                    <a:pt x="832" y="114"/>
                  </a:lnTo>
                  <a:lnTo>
                    <a:pt x="858" y="142"/>
                  </a:lnTo>
                  <a:lnTo>
                    <a:pt x="860" y="176"/>
                  </a:lnTo>
                  <a:lnTo>
                    <a:pt x="876" y="218"/>
                  </a:lnTo>
                  <a:lnTo>
                    <a:pt x="906" y="274"/>
                  </a:lnTo>
                  <a:lnTo>
                    <a:pt x="978" y="364"/>
                  </a:lnTo>
                  <a:lnTo>
                    <a:pt x="1018" y="376"/>
                  </a:lnTo>
                  <a:lnTo>
                    <a:pt x="1048" y="402"/>
                  </a:lnTo>
                  <a:lnTo>
                    <a:pt x="1072" y="442"/>
                  </a:lnTo>
                  <a:lnTo>
                    <a:pt x="1104" y="456"/>
                  </a:lnTo>
                  <a:lnTo>
                    <a:pt x="1128" y="484"/>
                  </a:lnTo>
                  <a:lnTo>
                    <a:pt x="1126" y="542"/>
                  </a:lnTo>
                  <a:lnTo>
                    <a:pt x="1134" y="600"/>
                  </a:lnTo>
                  <a:lnTo>
                    <a:pt x="1146" y="638"/>
                  </a:lnTo>
                  <a:lnTo>
                    <a:pt x="1164" y="662"/>
                  </a:lnTo>
                  <a:lnTo>
                    <a:pt x="1186" y="680"/>
                  </a:lnTo>
                  <a:lnTo>
                    <a:pt x="1218" y="686"/>
                  </a:lnTo>
                  <a:lnTo>
                    <a:pt x="1252" y="686"/>
                  </a:lnTo>
                  <a:lnTo>
                    <a:pt x="1284" y="706"/>
                  </a:lnTo>
                  <a:lnTo>
                    <a:pt x="1308" y="714"/>
                  </a:lnTo>
                  <a:lnTo>
                    <a:pt x="1336" y="738"/>
                  </a:lnTo>
                  <a:lnTo>
                    <a:pt x="1330" y="748"/>
                  </a:lnTo>
                  <a:lnTo>
                    <a:pt x="1300" y="764"/>
                  </a:lnTo>
                  <a:lnTo>
                    <a:pt x="1264" y="790"/>
                  </a:lnTo>
                  <a:lnTo>
                    <a:pt x="1164" y="840"/>
                  </a:lnTo>
                  <a:lnTo>
                    <a:pt x="1122" y="888"/>
                  </a:lnTo>
                  <a:lnTo>
                    <a:pt x="1070" y="922"/>
                  </a:lnTo>
                  <a:lnTo>
                    <a:pt x="1018" y="974"/>
                  </a:lnTo>
                  <a:lnTo>
                    <a:pt x="988" y="1020"/>
                  </a:lnTo>
                  <a:lnTo>
                    <a:pt x="938" y="1090"/>
                  </a:lnTo>
                  <a:lnTo>
                    <a:pt x="866" y="1144"/>
                  </a:lnTo>
                  <a:lnTo>
                    <a:pt x="824" y="1196"/>
                  </a:lnTo>
                  <a:lnTo>
                    <a:pt x="782" y="1290"/>
                  </a:lnTo>
                  <a:lnTo>
                    <a:pt x="768" y="1308"/>
                  </a:lnTo>
                  <a:lnTo>
                    <a:pt x="746" y="1320"/>
                  </a:lnTo>
                  <a:lnTo>
                    <a:pt x="720" y="1320"/>
                  </a:lnTo>
                  <a:lnTo>
                    <a:pt x="656" y="1338"/>
                  </a:lnTo>
                  <a:lnTo>
                    <a:pt x="620" y="1334"/>
                  </a:lnTo>
                  <a:lnTo>
                    <a:pt x="564" y="1296"/>
                  </a:lnTo>
                  <a:lnTo>
                    <a:pt x="534" y="1284"/>
                  </a:lnTo>
                  <a:lnTo>
                    <a:pt x="498" y="1278"/>
                  </a:lnTo>
                  <a:lnTo>
                    <a:pt x="468" y="1290"/>
                  </a:lnTo>
                  <a:lnTo>
                    <a:pt x="418" y="1340"/>
                  </a:lnTo>
                  <a:lnTo>
                    <a:pt x="400" y="1364"/>
                  </a:lnTo>
                  <a:lnTo>
                    <a:pt x="390" y="1388"/>
                  </a:lnTo>
                  <a:lnTo>
                    <a:pt x="366" y="1416"/>
                  </a:lnTo>
                  <a:lnTo>
                    <a:pt x="334" y="1438"/>
                  </a:lnTo>
                  <a:lnTo>
                    <a:pt x="324" y="1450"/>
                  </a:lnTo>
                  <a:lnTo>
                    <a:pt x="294" y="1498"/>
                  </a:lnTo>
                  <a:lnTo>
                    <a:pt x="206" y="1522"/>
                  </a:lnTo>
                  <a:lnTo>
                    <a:pt x="160" y="1518"/>
                  </a:lnTo>
                  <a:lnTo>
                    <a:pt x="122" y="1510"/>
                  </a:lnTo>
                  <a:lnTo>
                    <a:pt x="98" y="1502"/>
                  </a:lnTo>
                  <a:lnTo>
                    <a:pt x="90" y="1478"/>
                  </a:lnTo>
                  <a:lnTo>
                    <a:pt x="112" y="1420"/>
                  </a:lnTo>
                  <a:lnTo>
                    <a:pt x="120" y="1384"/>
                  </a:lnTo>
                  <a:lnTo>
                    <a:pt x="122" y="1366"/>
                  </a:lnTo>
                  <a:lnTo>
                    <a:pt x="118" y="1320"/>
                  </a:lnTo>
                  <a:lnTo>
                    <a:pt x="102" y="1286"/>
                  </a:lnTo>
                  <a:lnTo>
                    <a:pt x="72" y="1254"/>
                  </a:lnTo>
                  <a:lnTo>
                    <a:pt x="62" y="1230"/>
                  </a:lnTo>
                  <a:lnTo>
                    <a:pt x="30" y="1200"/>
                  </a:lnTo>
                  <a:lnTo>
                    <a:pt x="26" y="1188"/>
                  </a:lnTo>
                  <a:lnTo>
                    <a:pt x="10" y="1170"/>
                  </a:lnTo>
                  <a:lnTo>
                    <a:pt x="0" y="117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1800" y="3116880"/>
              <a:ext cx="836640" cy="420120"/>
            </a:xfrm>
            <a:custGeom>
              <a:avLst/>
              <a:gdLst/>
              <a:ahLst/>
              <a:rect l="l" t="t" r="r" b="b"/>
              <a:pathLst>
                <a:path w="4820" h="2460">
                  <a:moveTo>
                    <a:pt x="1326" y="1834"/>
                  </a:moveTo>
                  <a:lnTo>
                    <a:pt x="1370" y="1990"/>
                  </a:lnTo>
                  <a:lnTo>
                    <a:pt x="1414" y="2154"/>
                  </a:lnTo>
                  <a:lnTo>
                    <a:pt x="1454" y="2304"/>
                  </a:lnTo>
                  <a:lnTo>
                    <a:pt x="1492" y="2446"/>
                  </a:lnTo>
                  <a:lnTo>
                    <a:pt x="1464" y="2460"/>
                  </a:lnTo>
                  <a:lnTo>
                    <a:pt x="1420" y="2460"/>
                  </a:lnTo>
                  <a:lnTo>
                    <a:pt x="1394" y="2444"/>
                  </a:lnTo>
                  <a:lnTo>
                    <a:pt x="1360" y="2392"/>
                  </a:lnTo>
                  <a:lnTo>
                    <a:pt x="1346" y="2376"/>
                  </a:lnTo>
                  <a:lnTo>
                    <a:pt x="1330" y="2362"/>
                  </a:lnTo>
                  <a:lnTo>
                    <a:pt x="1306" y="2328"/>
                  </a:lnTo>
                  <a:lnTo>
                    <a:pt x="1290" y="2314"/>
                  </a:lnTo>
                  <a:lnTo>
                    <a:pt x="1252" y="2298"/>
                  </a:lnTo>
                  <a:lnTo>
                    <a:pt x="1234" y="2286"/>
                  </a:lnTo>
                  <a:lnTo>
                    <a:pt x="1214" y="2278"/>
                  </a:lnTo>
                  <a:lnTo>
                    <a:pt x="1196" y="2278"/>
                  </a:lnTo>
                  <a:lnTo>
                    <a:pt x="1178" y="2284"/>
                  </a:lnTo>
                  <a:lnTo>
                    <a:pt x="1128" y="2300"/>
                  </a:lnTo>
                  <a:lnTo>
                    <a:pt x="1080" y="2320"/>
                  </a:lnTo>
                  <a:lnTo>
                    <a:pt x="1026" y="2384"/>
                  </a:lnTo>
                  <a:lnTo>
                    <a:pt x="1000" y="2294"/>
                  </a:lnTo>
                  <a:lnTo>
                    <a:pt x="1014" y="2268"/>
                  </a:lnTo>
                  <a:lnTo>
                    <a:pt x="1008" y="2222"/>
                  </a:lnTo>
                  <a:lnTo>
                    <a:pt x="978" y="2212"/>
                  </a:lnTo>
                  <a:lnTo>
                    <a:pt x="950" y="2210"/>
                  </a:lnTo>
                  <a:lnTo>
                    <a:pt x="900" y="2192"/>
                  </a:lnTo>
                  <a:lnTo>
                    <a:pt x="870" y="2162"/>
                  </a:lnTo>
                  <a:lnTo>
                    <a:pt x="852" y="2164"/>
                  </a:lnTo>
                  <a:lnTo>
                    <a:pt x="822" y="2160"/>
                  </a:lnTo>
                  <a:lnTo>
                    <a:pt x="794" y="2074"/>
                  </a:lnTo>
                  <a:lnTo>
                    <a:pt x="756" y="2030"/>
                  </a:lnTo>
                  <a:lnTo>
                    <a:pt x="736" y="2018"/>
                  </a:lnTo>
                  <a:lnTo>
                    <a:pt x="710" y="1984"/>
                  </a:lnTo>
                  <a:lnTo>
                    <a:pt x="654" y="1966"/>
                  </a:lnTo>
                  <a:lnTo>
                    <a:pt x="618" y="1930"/>
                  </a:lnTo>
                  <a:lnTo>
                    <a:pt x="632" y="1916"/>
                  </a:lnTo>
                  <a:lnTo>
                    <a:pt x="672" y="1914"/>
                  </a:lnTo>
                  <a:lnTo>
                    <a:pt x="714" y="1922"/>
                  </a:lnTo>
                  <a:lnTo>
                    <a:pt x="740" y="1932"/>
                  </a:lnTo>
                  <a:lnTo>
                    <a:pt x="756" y="1926"/>
                  </a:lnTo>
                  <a:lnTo>
                    <a:pt x="788" y="1928"/>
                  </a:lnTo>
                  <a:lnTo>
                    <a:pt x="772" y="1912"/>
                  </a:lnTo>
                  <a:lnTo>
                    <a:pt x="758" y="1888"/>
                  </a:lnTo>
                  <a:lnTo>
                    <a:pt x="742" y="1848"/>
                  </a:lnTo>
                  <a:lnTo>
                    <a:pt x="748" y="1822"/>
                  </a:lnTo>
                  <a:lnTo>
                    <a:pt x="768" y="1810"/>
                  </a:lnTo>
                  <a:lnTo>
                    <a:pt x="772" y="1826"/>
                  </a:lnTo>
                  <a:lnTo>
                    <a:pt x="796" y="1828"/>
                  </a:lnTo>
                  <a:lnTo>
                    <a:pt x="820" y="1818"/>
                  </a:lnTo>
                  <a:lnTo>
                    <a:pt x="820" y="1798"/>
                  </a:lnTo>
                  <a:lnTo>
                    <a:pt x="838" y="1778"/>
                  </a:lnTo>
                  <a:lnTo>
                    <a:pt x="876" y="1776"/>
                  </a:lnTo>
                  <a:lnTo>
                    <a:pt x="918" y="1794"/>
                  </a:lnTo>
                  <a:lnTo>
                    <a:pt x="956" y="1806"/>
                  </a:lnTo>
                  <a:lnTo>
                    <a:pt x="990" y="1798"/>
                  </a:lnTo>
                  <a:lnTo>
                    <a:pt x="1008" y="1782"/>
                  </a:lnTo>
                  <a:lnTo>
                    <a:pt x="1018" y="1784"/>
                  </a:lnTo>
                  <a:lnTo>
                    <a:pt x="1032" y="1792"/>
                  </a:lnTo>
                  <a:lnTo>
                    <a:pt x="1076" y="1806"/>
                  </a:lnTo>
                  <a:lnTo>
                    <a:pt x="1106" y="1816"/>
                  </a:lnTo>
                  <a:lnTo>
                    <a:pt x="1128" y="1812"/>
                  </a:lnTo>
                  <a:lnTo>
                    <a:pt x="1158" y="1816"/>
                  </a:lnTo>
                  <a:lnTo>
                    <a:pt x="1162" y="1800"/>
                  </a:lnTo>
                  <a:lnTo>
                    <a:pt x="1138" y="1774"/>
                  </a:lnTo>
                  <a:lnTo>
                    <a:pt x="1160" y="1774"/>
                  </a:lnTo>
                  <a:lnTo>
                    <a:pt x="1136" y="1746"/>
                  </a:lnTo>
                  <a:lnTo>
                    <a:pt x="1102" y="1718"/>
                  </a:lnTo>
                  <a:lnTo>
                    <a:pt x="1076" y="1704"/>
                  </a:lnTo>
                  <a:lnTo>
                    <a:pt x="1060" y="1682"/>
                  </a:lnTo>
                  <a:lnTo>
                    <a:pt x="1034" y="1680"/>
                  </a:lnTo>
                  <a:lnTo>
                    <a:pt x="998" y="1646"/>
                  </a:lnTo>
                  <a:lnTo>
                    <a:pt x="972" y="1596"/>
                  </a:lnTo>
                  <a:lnTo>
                    <a:pt x="950" y="1572"/>
                  </a:lnTo>
                  <a:lnTo>
                    <a:pt x="946" y="1584"/>
                  </a:lnTo>
                  <a:lnTo>
                    <a:pt x="920" y="1550"/>
                  </a:lnTo>
                  <a:lnTo>
                    <a:pt x="908" y="1552"/>
                  </a:lnTo>
                  <a:lnTo>
                    <a:pt x="896" y="1526"/>
                  </a:lnTo>
                  <a:lnTo>
                    <a:pt x="844" y="1492"/>
                  </a:lnTo>
                  <a:lnTo>
                    <a:pt x="818" y="1490"/>
                  </a:lnTo>
                  <a:lnTo>
                    <a:pt x="814" y="1478"/>
                  </a:lnTo>
                  <a:lnTo>
                    <a:pt x="784" y="1478"/>
                  </a:lnTo>
                  <a:lnTo>
                    <a:pt x="762" y="1488"/>
                  </a:lnTo>
                  <a:lnTo>
                    <a:pt x="742" y="1492"/>
                  </a:lnTo>
                  <a:lnTo>
                    <a:pt x="720" y="1504"/>
                  </a:lnTo>
                  <a:lnTo>
                    <a:pt x="708" y="1482"/>
                  </a:lnTo>
                  <a:lnTo>
                    <a:pt x="676" y="1484"/>
                  </a:lnTo>
                  <a:lnTo>
                    <a:pt x="664" y="1478"/>
                  </a:lnTo>
                  <a:lnTo>
                    <a:pt x="632" y="1474"/>
                  </a:lnTo>
                  <a:lnTo>
                    <a:pt x="600" y="1474"/>
                  </a:lnTo>
                  <a:lnTo>
                    <a:pt x="542" y="1544"/>
                  </a:lnTo>
                  <a:lnTo>
                    <a:pt x="498" y="1550"/>
                  </a:lnTo>
                  <a:lnTo>
                    <a:pt x="446" y="1568"/>
                  </a:lnTo>
                  <a:lnTo>
                    <a:pt x="390" y="1580"/>
                  </a:lnTo>
                  <a:lnTo>
                    <a:pt x="342" y="1594"/>
                  </a:lnTo>
                  <a:lnTo>
                    <a:pt x="402" y="1624"/>
                  </a:lnTo>
                  <a:lnTo>
                    <a:pt x="366" y="1640"/>
                  </a:lnTo>
                  <a:lnTo>
                    <a:pt x="350" y="1636"/>
                  </a:lnTo>
                  <a:lnTo>
                    <a:pt x="338" y="1622"/>
                  </a:lnTo>
                  <a:lnTo>
                    <a:pt x="320" y="1616"/>
                  </a:lnTo>
                  <a:lnTo>
                    <a:pt x="302" y="1618"/>
                  </a:lnTo>
                  <a:lnTo>
                    <a:pt x="286" y="1612"/>
                  </a:lnTo>
                  <a:lnTo>
                    <a:pt x="274" y="1598"/>
                  </a:lnTo>
                  <a:lnTo>
                    <a:pt x="286" y="1584"/>
                  </a:lnTo>
                  <a:lnTo>
                    <a:pt x="282" y="1566"/>
                  </a:lnTo>
                  <a:lnTo>
                    <a:pt x="300" y="1562"/>
                  </a:lnTo>
                  <a:lnTo>
                    <a:pt x="322" y="1572"/>
                  </a:lnTo>
                  <a:lnTo>
                    <a:pt x="348" y="1564"/>
                  </a:lnTo>
                  <a:lnTo>
                    <a:pt x="298" y="1446"/>
                  </a:lnTo>
                  <a:lnTo>
                    <a:pt x="280" y="1442"/>
                  </a:lnTo>
                  <a:lnTo>
                    <a:pt x="266" y="1428"/>
                  </a:lnTo>
                  <a:lnTo>
                    <a:pt x="256" y="1412"/>
                  </a:lnTo>
                  <a:lnTo>
                    <a:pt x="244" y="1398"/>
                  </a:lnTo>
                  <a:lnTo>
                    <a:pt x="228" y="1388"/>
                  </a:lnTo>
                  <a:lnTo>
                    <a:pt x="210" y="1388"/>
                  </a:lnTo>
                  <a:lnTo>
                    <a:pt x="174" y="1394"/>
                  </a:lnTo>
                  <a:lnTo>
                    <a:pt x="142" y="1386"/>
                  </a:lnTo>
                  <a:lnTo>
                    <a:pt x="144" y="1406"/>
                  </a:lnTo>
                  <a:lnTo>
                    <a:pt x="112" y="1382"/>
                  </a:lnTo>
                  <a:lnTo>
                    <a:pt x="104" y="1364"/>
                  </a:lnTo>
                  <a:lnTo>
                    <a:pt x="92" y="1350"/>
                  </a:lnTo>
                  <a:lnTo>
                    <a:pt x="98" y="1336"/>
                  </a:lnTo>
                  <a:lnTo>
                    <a:pt x="86" y="1322"/>
                  </a:lnTo>
                  <a:lnTo>
                    <a:pt x="78" y="1306"/>
                  </a:lnTo>
                  <a:lnTo>
                    <a:pt x="10" y="1288"/>
                  </a:lnTo>
                  <a:lnTo>
                    <a:pt x="12" y="1200"/>
                  </a:lnTo>
                  <a:lnTo>
                    <a:pt x="38" y="1182"/>
                  </a:lnTo>
                  <a:lnTo>
                    <a:pt x="44" y="1168"/>
                  </a:lnTo>
                  <a:lnTo>
                    <a:pt x="34" y="1152"/>
                  </a:lnTo>
                  <a:lnTo>
                    <a:pt x="4" y="1132"/>
                  </a:lnTo>
                  <a:lnTo>
                    <a:pt x="0" y="1040"/>
                  </a:lnTo>
                  <a:lnTo>
                    <a:pt x="26" y="1022"/>
                  </a:lnTo>
                  <a:lnTo>
                    <a:pt x="34" y="1010"/>
                  </a:lnTo>
                  <a:lnTo>
                    <a:pt x="26" y="994"/>
                  </a:lnTo>
                  <a:lnTo>
                    <a:pt x="28" y="978"/>
                  </a:lnTo>
                  <a:lnTo>
                    <a:pt x="24" y="962"/>
                  </a:lnTo>
                  <a:lnTo>
                    <a:pt x="26" y="948"/>
                  </a:lnTo>
                  <a:lnTo>
                    <a:pt x="34" y="934"/>
                  </a:lnTo>
                  <a:lnTo>
                    <a:pt x="52" y="944"/>
                  </a:lnTo>
                  <a:lnTo>
                    <a:pt x="62" y="958"/>
                  </a:lnTo>
                  <a:lnTo>
                    <a:pt x="94" y="976"/>
                  </a:lnTo>
                  <a:lnTo>
                    <a:pt x="154" y="1048"/>
                  </a:lnTo>
                  <a:lnTo>
                    <a:pt x="172" y="1052"/>
                  </a:lnTo>
                  <a:lnTo>
                    <a:pt x="220" y="1014"/>
                  </a:lnTo>
                  <a:lnTo>
                    <a:pt x="210" y="998"/>
                  </a:lnTo>
                  <a:lnTo>
                    <a:pt x="198" y="986"/>
                  </a:lnTo>
                  <a:lnTo>
                    <a:pt x="176" y="938"/>
                  </a:lnTo>
                  <a:lnTo>
                    <a:pt x="152" y="910"/>
                  </a:lnTo>
                  <a:lnTo>
                    <a:pt x="170" y="912"/>
                  </a:lnTo>
                  <a:lnTo>
                    <a:pt x="186" y="906"/>
                  </a:lnTo>
                  <a:lnTo>
                    <a:pt x="220" y="876"/>
                  </a:lnTo>
                  <a:lnTo>
                    <a:pt x="234" y="868"/>
                  </a:lnTo>
                  <a:lnTo>
                    <a:pt x="240" y="856"/>
                  </a:lnTo>
                  <a:lnTo>
                    <a:pt x="238" y="840"/>
                  </a:lnTo>
                  <a:lnTo>
                    <a:pt x="232" y="824"/>
                  </a:lnTo>
                  <a:lnTo>
                    <a:pt x="248" y="820"/>
                  </a:lnTo>
                  <a:lnTo>
                    <a:pt x="266" y="822"/>
                  </a:lnTo>
                  <a:lnTo>
                    <a:pt x="280" y="816"/>
                  </a:lnTo>
                  <a:lnTo>
                    <a:pt x="288" y="802"/>
                  </a:lnTo>
                  <a:lnTo>
                    <a:pt x="300" y="794"/>
                  </a:lnTo>
                  <a:lnTo>
                    <a:pt x="316" y="790"/>
                  </a:lnTo>
                  <a:lnTo>
                    <a:pt x="322" y="778"/>
                  </a:lnTo>
                  <a:lnTo>
                    <a:pt x="334" y="768"/>
                  </a:lnTo>
                  <a:lnTo>
                    <a:pt x="342" y="756"/>
                  </a:lnTo>
                  <a:lnTo>
                    <a:pt x="342" y="740"/>
                  </a:lnTo>
                  <a:lnTo>
                    <a:pt x="354" y="730"/>
                  </a:lnTo>
                  <a:lnTo>
                    <a:pt x="382" y="720"/>
                  </a:lnTo>
                  <a:lnTo>
                    <a:pt x="418" y="720"/>
                  </a:lnTo>
                  <a:lnTo>
                    <a:pt x="426" y="734"/>
                  </a:lnTo>
                  <a:lnTo>
                    <a:pt x="438" y="748"/>
                  </a:lnTo>
                  <a:lnTo>
                    <a:pt x="470" y="740"/>
                  </a:lnTo>
                  <a:lnTo>
                    <a:pt x="484" y="752"/>
                  </a:lnTo>
                  <a:lnTo>
                    <a:pt x="488" y="738"/>
                  </a:lnTo>
                  <a:lnTo>
                    <a:pt x="490" y="722"/>
                  </a:lnTo>
                  <a:lnTo>
                    <a:pt x="496" y="708"/>
                  </a:lnTo>
                  <a:lnTo>
                    <a:pt x="514" y="710"/>
                  </a:lnTo>
                  <a:lnTo>
                    <a:pt x="528" y="702"/>
                  </a:lnTo>
                  <a:lnTo>
                    <a:pt x="544" y="702"/>
                  </a:lnTo>
                  <a:lnTo>
                    <a:pt x="566" y="732"/>
                  </a:lnTo>
                  <a:lnTo>
                    <a:pt x="580" y="742"/>
                  </a:lnTo>
                  <a:lnTo>
                    <a:pt x="596" y="736"/>
                  </a:lnTo>
                  <a:lnTo>
                    <a:pt x="612" y="736"/>
                  </a:lnTo>
                  <a:lnTo>
                    <a:pt x="630" y="740"/>
                  </a:lnTo>
                  <a:lnTo>
                    <a:pt x="662" y="732"/>
                  </a:lnTo>
                  <a:lnTo>
                    <a:pt x="678" y="732"/>
                  </a:lnTo>
                  <a:lnTo>
                    <a:pt x="698" y="740"/>
                  </a:lnTo>
                  <a:lnTo>
                    <a:pt x="712" y="750"/>
                  </a:lnTo>
                  <a:lnTo>
                    <a:pt x="734" y="778"/>
                  </a:lnTo>
                  <a:lnTo>
                    <a:pt x="788" y="802"/>
                  </a:lnTo>
                  <a:lnTo>
                    <a:pt x="802" y="812"/>
                  </a:lnTo>
                  <a:lnTo>
                    <a:pt x="812" y="828"/>
                  </a:lnTo>
                  <a:lnTo>
                    <a:pt x="844" y="850"/>
                  </a:lnTo>
                  <a:lnTo>
                    <a:pt x="846" y="866"/>
                  </a:lnTo>
                  <a:lnTo>
                    <a:pt x="852" y="882"/>
                  </a:lnTo>
                  <a:lnTo>
                    <a:pt x="868" y="894"/>
                  </a:lnTo>
                  <a:lnTo>
                    <a:pt x="882" y="888"/>
                  </a:lnTo>
                  <a:lnTo>
                    <a:pt x="878" y="874"/>
                  </a:lnTo>
                  <a:lnTo>
                    <a:pt x="870" y="858"/>
                  </a:lnTo>
                  <a:lnTo>
                    <a:pt x="866" y="842"/>
                  </a:lnTo>
                  <a:lnTo>
                    <a:pt x="852" y="828"/>
                  </a:lnTo>
                  <a:lnTo>
                    <a:pt x="860" y="816"/>
                  </a:lnTo>
                  <a:lnTo>
                    <a:pt x="876" y="814"/>
                  </a:lnTo>
                  <a:lnTo>
                    <a:pt x="888" y="828"/>
                  </a:lnTo>
                  <a:lnTo>
                    <a:pt x="904" y="838"/>
                  </a:lnTo>
                  <a:lnTo>
                    <a:pt x="914" y="852"/>
                  </a:lnTo>
                  <a:lnTo>
                    <a:pt x="932" y="862"/>
                  </a:lnTo>
                  <a:lnTo>
                    <a:pt x="968" y="872"/>
                  </a:lnTo>
                  <a:lnTo>
                    <a:pt x="1004" y="886"/>
                  </a:lnTo>
                  <a:lnTo>
                    <a:pt x="1020" y="882"/>
                  </a:lnTo>
                  <a:lnTo>
                    <a:pt x="1054" y="852"/>
                  </a:lnTo>
                  <a:lnTo>
                    <a:pt x="1048" y="836"/>
                  </a:lnTo>
                  <a:lnTo>
                    <a:pt x="1060" y="828"/>
                  </a:lnTo>
                  <a:lnTo>
                    <a:pt x="1070" y="818"/>
                  </a:lnTo>
                  <a:lnTo>
                    <a:pt x="1086" y="814"/>
                  </a:lnTo>
                  <a:lnTo>
                    <a:pt x="1104" y="818"/>
                  </a:lnTo>
                  <a:lnTo>
                    <a:pt x="1100" y="804"/>
                  </a:lnTo>
                  <a:lnTo>
                    <a:pt x="1118" y="802"/>
                  </a:lnTo>
                  <a:lnTo>
                    <a:pt x="1136" y="806"/>
                  </a:lnTo>
                  <a:lnTo>
                    <a:pt x="1148" y="796"/>
                  </a:lnTo>
                  <a:lnTo>
                    <a:pt x="1166" y="804"/>
                  </a:lnTo>
                  <a:lnTo>
                    <a:pt x="1198" y="824"/>
                  </a:lnTo>
                  <a:lnTo>
                    <a:pt x="1224" y="808"/>
                  </a:lnTo>
                  <a:lnTo>
                    <a:pt x="1226" y="792"/>
                  </a:lnTo>
                  <a:lnTo>
                    <a:pt x="1260" y="790"/>
                  </a:lnTo>
                  <a:lnTo>
                    <a:pt x="1274" y="784"/>
                  </a:lnTo>
                  <a:lnTo>
                    <a:pt x="1310" y="794"/>
                  </a:lnTo>
                  <a:lnTo>
                    <a:pt x="1324" y="806"/>
                  </a:lnTo>
                  <a:lnTo>
                    <a:pt x="1338" y="836"/>
                  </a:lnTo>
                  <a:lnTo>
                    <a:pt x="1354" y="846"/>
                  </a:lnTo>
                  <a:lnTo>
                    <a:pt x="1368" y="858"/>
                  </a:lnTo>
                  <a:lnTo>
                    <a:pt x="1402" y="854"/>
                  </a:lnTo>
                  <a:lnTo>
                    <a:pt x="1438" y="858"/>
                  </a:lnTo>
                  <a:lnTo>
                    <a:pt x="1436" y="858"/>
                  </a:lnTo>
                  <a:lnTo>
                    <a:pt x="1450" y="880"/>
                  </a:lnTo>
                  <a:lnTo>
                    <a:pt x="1486" y="876"/>
                  </a:lnTo>
                  <a:lnTo>
                    <a:pt x="1496" y="866"/>
                  </a:lnTo>
                  <a:lnTo>
                    <a:pt x="1502" y="836"/>
                  </a:lnTo>
                  <a:lnTo>
                    <a:pt x="1508" y="822"/>
                  </a:lnTo>
                  <a:lnTo>
                    <a:pt x="1524" y="828"/>
                  </a:lnTo>
                  <a:lnTo>
                    <a:pt x="1556" y="852"/>
                  </a:lnTo>
                  <a:lnTo>
                    <a:pt x="1592" y="850"/>
                  </a:lnTo>
                  <a:lnTo>
                    <a:pt x="1624" y="844"/>
                  </a:lnTo>
                  <a:lnTo>
                    <a:pt x="1634" y="834"/>
                  </a:lnTo>
                  <a:lnTo>
                    <a:pt x="1664" y="820"/>
                  </a:lnTo>
                  <a:lnTo>
                    <a:pt x="1664" y="746"/>
                  </a:lnTo>
                  <a:lnTo>
                    <a:pt x="1666" y="732"/>
                  </a:lnTo>
                  <a:lnTo>
                    <a:pt x="1650" y="720"/>
                  </a:lnTo>
                  <a:lnTo>
                    <a:pt x="1642" y="714"/>
                  </a:lnTo>
                  <a:lnTo>
                    <a:pt x="1614" y="714"/>
                  </a:lnTo>
                  <a:lnTo>
                    <a:pt x="1578" y="712"/>
                  </a:lnTo>
                  <a:lnTo>
                    <a:pt x="1560" y="698"/>
                  </a:lnTo>
                  <a:lnTo>
                    <a:pt x="1548" y="688"/>
                  </a:lnTo>
                  <a:lnTo>
                    <a:pt x="1510" y="684"/>
                  </a:lnTo>
                  <a:lnTo>
                    <a:pt x="1492" y="680"/>
                  </a:lnTo>
                  <a:lnTo>
                    <a:pt x="1488" y="664"/>
                  </a:lnTo>
                  <a:lnTo>
                    <a:pt x="1474" y="650"/>
                  </a:lnTo>
                  <a:lnTo>
                    <a:pt x="1438" y="646"/>
                  </a:lnTo>
                  <a:lnTo>
                    <a:pt x="1434" y="630"/>
                  </a:lnTo>
                  <a:lnTo>
                    <a:pt x="1448" y="624"/>
                  </a:lnTo>
                  <a:lnTo>
                    <a:pt x="1468" y="604"/>
                  </a:lnTo>
                  <a:lnTo>
                    <a:pt x="1496" y="592"/>
                  </a:lnTo>
                  <a:lnTo>
                    <a:pt x="1520" y="576"/>
                  </a:lnTo>
                  <a:lnTo>
                    <a:pt x="1524" y="562"/>
                  </a:lnTo>
                  <a:lnTo>
                    <a:pt x="1520" y="546"/>
                  </a:lnTo>
                  <a:lnTo>
                    <a:pt x="1462" y="498"/>
                  </a:lnTo>
                  <a:lnTo>
                    <a:pt x="1476" y="490"/>
                  </a:lnTo>
                  <a:lnTo>
                    <a:pt x="1486" y="478"/>
                  </a:lnTo>
                  <a:lnTo>
                    <a:pt x="1486" y="464"/>
                  </a:lnTo>
                  <a:lnTo>
                    <a:pt x="1492" y="454"/>
                  </a:lnTo>
                  <a:lnTo>
                    <a:pt x="1510" y="450"/>
                  </a:lnTo>
                  <a:lnTo>
                    <a:pt x="1528" y="454"/>
                  </a:lnTo>
                  <a:lnTo>
                    <a:pt x="1544" y="450"/>
                  </a:lnTo>
                  <a:lnTo>
                    <a:pt x="1562" y="452"/>
                  </a:lnTo>
                  <a:lnTo>
                    <a:pt x="1596" y="452"/>
                  </a:lnTo>
                  <a:lnTo>
                    <a:pt x="1610" y="446"/>
                  </a:lnTo>
                  <a:lnTo>
                    <a:pt x="1612" y="430"/>
                  </a:lnTo>
                  <a:lnTo>
                    <a:pt x="1598" y="418"/>
                  </a:lnTo>
                  <a:lnTo>
                    <a:pt x="1562" y="406"/>
                  </a:lnTo>
                  <a:lnTo>
                    <a:pt x="1492" y="400"/>
                  </a:lnTo>
                  <a:lnTo>
                    <a:pt x="1478" y="388"/>
                  </a:lnTo>
                  <a:lnTo>
                    <a:pt x="1474" y="372"/>
                  </a:lnTo>
                  <a:lnTo>
                    <a:pt x="1492" y="372"/>
                  </a:lnTo>
                  <a:lnTo>
                    <a:pt x="1504" y="366"/>
                  </a:lnTo>
                  <a:lnTo>
                    <a:pt x="1508" y="352"/>
                  </a:lnTo>
                  <a:lnTo>
                    <a:pt x="1492" y="344"/>
                  </a:lnTo>
                  <a:lnTo>
                    <a:pt x="1480" y="352"/>
                  </a:lnTo>
                  <a:lnTo>
                    <a:pt x="1448" y="354"/>
                  </a:lnTo>
                  <a:lnTo>
                    <a:pt x="1442" y="338"/>
                  </a:lnTo>
                  <a:lnTo>
                    <a:pt x="1442" y="324"/>
                  </a:lnTo>
                  <a:lnTo>
                    <a:pt x="1448" y="312"/>
                  </a:lnTo>
                  <a:lnTo>
                    <a:pt x="1416" y="292"/>
                  </a:lnTo>
                  <a:lnTo>
                    <a:pt x="1450" y="290"/>
                  </a:lnTo>
                  <a:lnTo>
                    <a:pt x="1454" y="276"/>
                  </a:lnTo>
                  <a:lnTo>
                    <a:pt x="1472" y="276"/>
                  </a:lnTo>
                  <a:lnTo>
                    <a:pt x="1486" y="288"/>
                  </a:lnTo>
                  <a:lnTo>
                    <a:pt x="1502" y="284"/>
                  </a:lnTo>
                  <a:lnTo>
                    <a:pt x="1520" y="286"/>
                  </a:lnTo>
                  <a:lnTo>
                    <a:pt x="1534" y="280"/>
                  </a:lnTo>
                  <a:lnTo>
                    <a:pt x="1586" y="280"/>
                  </a:lnTo>
                  <a:lnTo>
                    <a:pt x="1600" y="290"/>
                  </a:lnTo>
                  <a:lnTo>
                    <a:pt x="1612" y="268"/>
                  </a:lnTo>
                  <a:lnTo>
                    <a:pt x="1626" y="262"/>
                  </a:lnTo>
                  <a:lnTo>
                    <a:pt x="1660" y="262"/>
                  </a:lnTo>
                  <a:lnTo>
                    <a:pt x="1670" y="250"/>
                  </a:lnTo>
                  <a:lnTo>
                    <a:pt x="1684" y="246"/>
                  </a:lnTo>
                  <a:lnTo>
                    <a:pt x="1704" y="226"/>
                  </a:lnTo>
                  <a:lnTo>
                    <a:pt x="1722" y="232"/>
                  </a:lnTo>
                  <a:lnTo>
                    <a:pt x="1738" y="240"/>
                  </a:lnTo>
                  <a:lnTo>
                    <a:pt x="1756" y="238"/>
                  </a:lnTo>
                  <a:lnTo>
                    <a:pt x="1756" y="224"/>
                  </a:lnTo>
                  <a:lnTo>
                    <a:pt x="1786" y="216"/>
                  </a:lnTo>
                  <a:lnTo>
                    <a:pt x="1796" y="206"/>
                  </a:lnTo>
                  <a:lnTo>
                    <a:pt x="1812" y="206"/>
                  </a:lnTo>
                  <a:lnTo>
                    <a:pt x="1826" y="200"/>
                  </a:lnTo>
                  <a:lnTo>
                    <a:pt x="1842" y="198"/>
                  </a:lnTo>
                  <a:lnTo>
                    <a:pt x="1860" y="202"/>
                  </a:lnTo>
                  <a:lnTo>
                    <a:pt x="1864" y="188"/>
                  </a:lnTo>
                  <a:lnTo>
                    <a:pt x="1860" y="174"/>
                  </a:lnTo>
                  <a:lnTo>
                    <a:pt x="1862" y="160"/>
                  </a:lnTo>
                  <a:lnTo>
                    <a:pt x="1874" y="152"/>
                  </a:lnTo>
                  <a:lnTo>
                    <a:pt x="1890" y="148"/>
                  </a:lnTo>
                  <a:lnTo>
                    <a:pt x="1908" y="154"/>
                  </a:lnTo>
                  <a:lnTo>
                    <a:pt x="1942" y="142"/>
                  </a:lnTo>
                  <a:lnTo>
                    <a:pt x="1940" y="144"/>
                  </a:lnTo>
                  <a:lnTo>
                    <a:pt x="2010" y="122"/>
                  </a:lnTo>
                  <a:lnTo>
                    <a:pt x="2072" y="112"/>
                  </a:lnTo>
                  <a:lnTo>
                    <a:pt x="2126" y="94"/>
                  </a:lnTo>
                  <a:lnTo>
                    <a:pt x="2134" y="84"/>
                  </a:lnTo>
                  <a:lnTo>
                    <a:pt x="2152" y="84"/>
                  </a:lnTo>
                  <a:lnTo>
                    <a:pt x="2166" y="80"/>
                  </a:lnTo>
                  <a:lnTo>
                    <a:pt x="2170" y="68"/>
                  </a:lnTo>
                  <a:lnTo>
                    <a:pt x="2162" y="54"/>
                  </a:lnTo>
                  <a:lnTo>
                    <a:pt x="2158" y="40"/>
                  </a:lnTo>
                  <a:lnTo>
                    <a:pt x="2176" y="40"/>
                  </a:lnTo>
                  <a:lnTo>
                    <a:pt x="2190" y="38"/>
                  </a:lnTo>
                  <a:lnTo>
                    <a:pt x="2194" y="24"/>
                  </a:lnTo>
                  <a:lnTo>
                    <a:pt x="2204" y="16"/>
                  </a:lnTo>
                  <a:lnTo>
                    <a:pt x="2220" y="14"/>
                  </a:lnTo>
                  <a:lnTo>
                    <a:pt x="2224" y="2"/>
                  </a:lnTo>
                  <a:lnTo>
                    <a:pt x="2240" y="0"/>
                  </a:lnTo>
                  <a:lnTo>
                    <a:pt x="2256" y="10"/>
                  </a:lnTo>
                  <a:lnTo>
                    <a:pt x="2272" y="6"/>
                  </a:lnTo>
                  <a:lnTo>
                    <a:pt x="2290" y="10"/>
                  </a:lnTo>
                  <a:lnTo>
                    <a:pt x="2304" y="6"/>
                  </a:lnTo>
                  <a:lnTo>
                    <a:pt x="2322" y="10"/>
                  </a:lnTo>
                  <a:lnTo>
                    <a:pt x="2338" y="20"/>
                  </a:lnTo>
                  <a:lnTo>
                    <a:pt x="2372" y="36"/>
                  </a:lnTo>
                  <a:lnTo>
                    <a:pt x="2384" y="28"/>
                  </a:lnTo>
                  <a:lnTo>
                    <a:pt x="2392" y="18"/>
                  </a:lnTo>
                  <a:lnTo>
                    <a:pt x="2424" y="12"/>
                  </a:lnTo>
                  <a:lnTo>
                    <a:pt x="2442" y="16"/>
                  </a:lnTo>
                  <a:lnTo>
                    <a:pt x="2458" y="26"/>
                  </a:lnTo>
                  <a:lnTo>
                    <a:pt x="2472" y="38"/>
                  </a:lnTo>
                  <a:lnTo>
                    <a:pt x="2488" y="66"/>
                  </a:lnTo>
                  <a:lnTo>
                    <a:pt x="2492" y="80"/>
                  </a:lnTo>
                  <a:lnTo>
                    <a:pt x="2504" y="94"/>
                  </a:lnTo>
                  <a:lnTo>
                    <a:pt x="2538" y="112"/>
                  </a:lnTo>
                  <a:lnTo>
                    <a:pt x="2534" y="124"/>
                  </a:lnTo>
                  <a:lnTo>
                    <a:pt x="2550" y="154"/>
                  </a:lnTo>
                  <a:lnTo>
                    <a:pt x="2548" y="166"/>
                  </a:lnTo>
                  <a:lnTo>
                    <a:pt x="2540" y="178"/>
                  </a:lnTo>
                  <a:lnTo>
                    <a:pt x="2556" y="190"/>
                  </a:lnTo>
                  <a:lnTo>
                    <a:pt x="2566" y="204"/>
                  </a:lnTo>
                  <a:lnTo>
                    <a:pt x="2596" y="194"/>
                  </a:lnTo>
                  <a:lnTo>
                    <a:pt x="2614" y="202"/>
                  </a:lnTo>
                  <a:lnTo>
                    <a:pt x="2630" y="200"/>
                  </a:lnTo>
                  <a:lnTo>
                    <a:pt x="2630" y="184"/>
                  </a:lnTo>
                  <a:lnTo>
                    <a:pt x="2646" y="182"/>
                  </a:lnTo>
                  <a:lnTo>
                    <a:pt x="2662" y="186"/>
                  </a:lnTo>
                  <a:lnTo>
                    <a:pt x="2660" y="172"/>
                  </a:lnTo>
                  <a:lnTo>
                    <a:pt x="2654" y="158"/>
                  </a:lnTo>
                  <a:lnTo>
                    <a:pt x="2672" y="158"/>
                  </a:lnTo>
                  <a:lnTo>
                    <a:pt x="2684" y="170"/>
                  </a:lnTo>
                  <a:lnTo>
                    <a:pt x="2694" y="186"/>
                  </a:lnTo>
                  <a:lnTo>
                    <a:pt x="2712" y="196"/>
                  </a:lnTo>
                  <a:lnTo>
                    <a:pt x="2712" y="210"/>
                  </a:lnTo>
                  <a:lnTo>
                    <a:pt x="2716" y="224"/>
                  </a:lnTo>
                  <a:lnTo>
                    <a:pt x="2752" y="226"/>
                  </a:lnTo>
                  <a:lnTo>
                    <a:pt x="2740" y="212"/>
                  </a:lnTo>
                  <a:lnTo>
                    <a:pt x="2724" y="202"/>
                  </a:lnTo>
                  <a:lnTo>
                    <a:pt x="2736" y="194"/>
                  </a:lnTo>
                  <a:lnTo>
                    <a:pt x="2772" y="200"/>
                  </a:lnTo>
                  <a:lnTo>
                    <a:pt x="2790" y="206"/>
                  </a:lnTo>
                  <a:lnTo>
                    <a:pt x="2808" y="216"/>
                  </a:lnTo>
                  <a:lnTo>
                    <a:pt x="2826" y="222"/>
                  </a:lnTo>
                  <a:lnTo>
                    <a:pt x="2842" y="222"/>
                  </a:lnTo>
                  <a:lnTo>
                    <a:pt x="2844" y="208"/>
                  </a:lnTo>
                  <a:lnTo>
                    <a:pt x="2858" y="200"/>
                  </a:lnTo>
                  <a:lnTo>
                    <a:pt x="2868" y="216"/>
                  </a:lnTo>
                  <a:lnTo>
                    <a:pt x="2874" y="230"/>
                  </a:lnTo>
                  <a:lnTo>
                    <a:pt x="2860" y="234"/>
                  </a:lnTo>
                  <a:lnTo>
                    <a:pt x="2850" y="244"/>
                  </a:lnTo>
                  <a:lnTo>
                    <a:pt x="2846" y="258"/>
                  </a:lnTo>
                  <a:lnTo>
                    <a:pt x="2848" y="272"/>
                  </a:lnTo>
                  <a:lnTo>
                    <a:pt x="2858" y="288"/>
                  </a:lnTo>
                  <a:lnTo>
                    <a:pt x="2872" y="300"/>
                  </a:lnTo>
                  <a:lnTo>
                    <a:pt x="2888" y="296"/>
                  </a:lnTo>
                  <a:lnTo>
                    <a:pt x="2894" y="284"/>
                  </a:lnTo>
                  <a:lnTo>
                    <a:pt x="2920" y="272"/>
                  </a:lnTo>
                  <a:lnTo>
                    <a:pt x="2938" y="276"/>
                  </a:lnTo>
                  <a:lnTo>
                    <a:pt x="2954" y="274"/>
                  </a:lnTo>
                  <a:lnTo>
                    <a:pt x="2970" y="284"/>
                  </a:lnTo>
                  <a:lnTo>
                    <a:pt x="2988" y="284"/>
                  </a:lnTo>
                  <a:lnTo>
                    <a:pt x="2976" y="270"/>
                  </a:lnTo>
                  <a:lnTo>
                    <a:pt x="2980" y="256"/>
                  </a:lnTo>
                  <a:lnTo>
                    <a:pt x="2996" y="256"/>
                  </a:lnTo>
                  <a:lnTo>
                    <a:pt x="3008" y="232"/>
                  </a:lnTo>
                  <a:lnTo>
                    <a:pt x="3038" y="226"/>
                  </a:lnTo>
                  <a:lnTo>
                    <a:pt x="3054" y="204"/>
                  </a:lnTo>
                  <a:lnTo>
                    <a:pt x="3054" y="176"/>
                  </a:lnTo>
                  <a:lnTo>
                    <a:pt x="3062" y="168"/>
                  </a:lnTo>
                  <a:lnTo>
                    <a:pt x="3080" y="168"/>
                  </a:lnTo>
                  <a:lnTo>
                    <a:pt x="3110" y="162"/>
                  </a:lnTo>
                  <a:lnTo>
                    <a:pt x="3124" y="154"/>
                  </a:lnTo>
                  <a:lnTo>
                    <a:pt x="3124" y="140"/>
                  </a:lnTo>
                  <a:lnTo>
                    <a:pt x="3158" y="136"/>
                  </a:lnTo>
                  <a:lnTo>
                    <a:pt x="3178" y="120"/>
                  </a:lnTo>
                  <a:lnTo>
                    <a:pt x="3192" y="132"/>
                  </a:lnTo>
                  <a:lnTo>
                    <a:pt x="3200" y="146"/>
                  </a:lnTo>
                  <a:lnTo>
                    <a:pt x="3198" y="160"/>
                  </a:lnTo>
                  <a:lnTo>
                    <a:pt x="3184" y="166"/>
                  </a:lnTo>
                  <a:lnTo>
                    <a:pt x="3168" y="166"/>
                  </a:lnTo>
                  <a:lnTo>
                    <a:pt x="3172" y="180"/>
                  </a:lnTo>
                  <a:lnTo>
                    <a:pt x="3184" y="192"/>
                  </a:lnTo>
                  <a:lnTo>
                    <a:pt x="3196" y="196"/>
                  </a:lnTo>
                  <a:lnTo>
                    <a:pt x="3404" y="308"/>
                  </a:lnTo>
                  <a:lnTo>
                    <a:pt x="3856" y="710"/>
                  </a:lnTo>
                  <a:lnTo>
                    <a:pt x="3876" y="686"/>
                  </a:lnTo>
                  <a:lnTo>
                    <a:pt x="3874" y="672"/>
                  </a:lnTo>
                  <a:lnTo>
                    <a:pt x="3868" y="656"/>
                  </a:lnTo>
                  <a:lnTo>
                    <a:pt x="3876" y="628"/>
                  </a:lnTo>
                  <a:lnTo>
                    <a:pt x="3892" y="624"/>
                  </a:lnTo>
                  <a:lnTo>
                    <a:pt x="3910" y="636"/>
                  </a:lnTo>
                  <a:lnTo>
                    <a:pt x="3928" y="638"/>
                  </a:lnTo>
                  <a:lnTo>
                    <a:pt x="3966" y="654"/>
                  </a:lnTo>
                  <a:lnTo>
                    <a:pt x="3966" y="668"/>
                  </a:lnTo>
                  <a:lnTo>
                    <a:pt x="3980" y="682"/>
                  </a:lnTo>
                  <a:lnTo>
                    <a:pt x="3994" y="682"/>
                  </a:lnTo>
                  <a:lnTo>
                    <a:pt x="4016" y="708"/>
                  </a:lnTo>
                  <a:lnTo>
                    <a:pt x="4066" y="700"/>
                  </a:lnTo>
                  <a:lnTo>
                    <a:pt x="4106" y="708"/>
                  </a:lnTo>
                  <a:lnTo>
                    <a:pt x="4118" y="700"/>
                  </a:lnTo>
                  <a:lnTo>
                    <a:pt x="4154" y="700"/>
                  </a:lnTo>
                  <a:lnTo>
                    <a:pt x="4152" y="686"/>
                  </a:lnTo>
                  <a:lnTo>
                    <a:pt x="4158" y="672"/>
                  </a:lnTo>
                  <a:lnTo>
                    <a:pt x="4176" y="674"/>
                  </a:lnTo>
                  <a:lnTo>
                    <a:pt x="4192" y="672"/>
                  </a:lnTo>
                  <a:lnTo>
                    <a:pt x="4190" y="656"/>
                  </a:lnTo>
                  <a:lnTo>
                    <a:pt x="4202" y="646"/>
                  </a:lnTo>
                  <a:lnTo>
                    <a:pt x="4238" y="654"/>
                  </a:lnTo>
                  <a:lnTo>
                    <a:pt x="4258" y="662"/>
                  </a:lnTo>
                  <a:lnTo>
                    <a:pt x="4272" y="674"/>
                  </a:lnTo>
                  <a:lnTo>
                    <a:pt x="4292" y="682"/>
                  </a:lnTo>
                  <a:lnTo>
                    <a:pt x="4326" y="704"/>
                  </a:lnTo>
                  <a:lnTo>
                    <a:pt x="4344" y="710"/>
                  </a:lnTo>
                  <a:lnTo>
                    <a:pt x="4358" y="722"/>
                  </a:lnTo>
                  <a:lnTo>
                    <a:pt x="4362" y="740"/>
                  </a:lnTo>
                  <a:lnTo>
                    <a:pt x="4372" y="756"/>
                  </a:lnTo>
                  <a:lnTo>
                    <a:pt x="4388" y="768"/>
                  </a:lnTo>
                  <a:lnTo>
                    <a:pt x="4406" y="770"/>
                  </a:lnTo>
                  <a:lnTo>
                    <a:pt x="4462" y="790"/>
                  </a:lnTo>
                  <a:lnTo>
                    <a:pt x="4476" y="802"/>
                  </a:lnTo>
                  <a:lnTo>
                    <a:pt x="4484" y="820"/>
                  </a:lnTo>
                  <a:lnTo>
                    <a:pt x="4502" y="824"/>
                  </a:lnTo>
                  <a:lnTo>
                    <a:pt x="4520" y="834"/>
                  </a:lnTo>
                  <a:lnTo>
                    <a:pt x="4548" y="864"/>
                  </a:lnTo>
                  <a:lnTo>
                    <a:pt x="4566" y="870"/>
                  </a:lnTo>
                  <a:lnTo>
                    <a:pt x="4604" y="872"/>
                  </a:lnTo>
                  <a:lnTo>
                    <a:pt x="4622" y="880"/>
                  </a:lnTo>
                  <a:lnTo>
                    <a:pt x="4642" y="884"/>
                  </a:lnTo>
                  <a:lnTo>
                    <a:pt x="4662" y="886"/>
                  </a:lnTo>
                  <a:lnTo>
                    <a:pt x="4678" y="886"/>
                  </a:lnTo>
                  <a:lnTo>
                    <a:pt x="4678" y="870"/>
                  </a:lnTo>
                  <a:lnTo>
                    <a:pt x="4682" y="856"/>
                  </a:lnTo>
                  <a:lnTo>
                    <a:pt x="4708" y="842"/>
                  </a:lnTo>
                  <a:lnTo>
                    <a:pt x="4720" y="860"/>
                  </a:lnTo>
                  <a:lnTo>
                    <a:pt x="4736" y="872"/>
                  </a:lnTo>
                  <a:lnTo>
                    <a:pt x="4754" y="882"/>
                  </a:lnTo>
                  <a:lnTo>
                    <a:pt x="4784" y="908"/>
                  </a:lnTo>
                  <a:lnTo>
                    <a:pt x="4804" y="918"/>
                  </a:lnTo>
                  <a:lnTo>
                    <a:pt x="4818" y="932"/>
                  </a:lnTo>
                  <a:lnTo>
                    <a:pt x="4820" y="986"/>
                  </a:lnTo>
                  <a:lnTo>
                    <a:pt x="4820" y="986"/>
                  </a:lnTo>
                  <a:lnTo>
                    <a:pt x="4818" y="1028"/>
                  </a:lnTo>
                  <a:lnTo>
                    <a:pt x="4800" y="1064"/>
                  </a:lnTo>
                  <a:lnTo>
                    <a:pt x="4762" y="1078"/>
                  </a:lnTo>
                  <a:lnTo>
                    <a:pt x="4726" y="1078"/>
                  </a:lnTo>
                  <a:lnTo>
                    <a:pt x="4724" y="1124"/>
                  </a:lnTo>
                  <a:lnTo>
                    <a:pt x="4738" y="1176"/>
                  </a:lnTo>
                  <a:lnTo>
                    <a:pt x="4766" y="1222"/>
                  </a:lnTo>
                  <a:lnTo>
                    <a:pt x="4796" y="1302"/>
                  </a:lnTo>
                  <a:lnTo>
                    <a:pt x="4752" y="1322"/>
                  </a:lnTo>
                  <a:lnTo>
                    <a:pt x="4732" y="1348"/>
                  </a:lnTo>
                  <a:lnTo>
                    <a:pt x="4706" y="1336"/>
                  </a:lnTo>
                  <a:lnTo>
                    <a:pt x="4676" y="1316"/>
                  </a:lnTo>
                  <a:lnTo>
                    <a:pt x="4604" y="1328"/>
                  </a:lnTo>
                  <a:lnTo>
                    <a:pt x="4558" y="1318"/>
                  </a:lnTo>
                  <a:lnTo>
                    <a:pt x="4530" y="1304"/>
                  </a:lnTo>
                  <a:lnTo>
                    <a:pt x="4478" y="1306"/>
                  </a:lnTo>
                  <a:lnTo>
                    <a:pt x="4474" y="1352"/>
                  </a:lnTo>
                  <a:lnTo>
                    <a:pt x="4482" y="1408"/>
                  </a:lnTo>
                  <a:lnTo>
                    <a:pt x="4480" y="1468"/>
                  </a:lnTo>
                  <a:lnTo>
                    <a:pt x="4488" y="1522"/>
                  </a:lnTo>
                  <a:lnTo>
                    <a:pt x="4498" y="1564"/>
                  </a:lnTo>
                  <a:lnTo>
                    <a:pt x="4518" y="1598"/>
                  </a:lnTo>
                  <a:lnTo>
                    <a:pt x="4548" y="1636"/>
                  </a:lnTo>
                  <a:lnTo>
                    <a:pt x="4536" y="1646"/>
                  </a:lnTo>
                  <a:lnTo>
                    <a:pt x="4416" y="1660"/>
                  </a:lnTo>
                  <a:lnTo>
                    <a:pt x="4376" y="1680"/>
                  </a:lnTo>
                  <a:lnTo>
                    <a:pt x="4336" y="1686"/>
                  </a:lnTo>
                  <a:lnTo>
                    <a:pt x="4298" y="1706"/>
                  </a:lnTo>
                  <a:lnTo>
                    <a:pt x="4284" y="1724"/>
                  </a:lnTo>
                  <a:lnTo>
                    <a:pt x="4308" y="1740"/>
                  </a:lnTo>
                  <a:lnTo>
                    <a:pt x="4340" y="1772"/>
                  </a:lnTo>
                  <a:lnTo>
                    <a:pt x="4384" y="1856"/>
                  </a:lnTo>
                  <a:lnTo>
                    <a:pt x="4406" y="1886"/>
                  </a:lnTo>
                  <a:lnTo>
                    <a:pt x="4432" y="1914"/>
                  </a:lnTo>
                  <a:lnTo>
                    <a:pt x="4476" y="1976"/>
                  </a:lnTo>
                  <a:lnTo>
                    <a:pt x="4490" y="2010"/>
                  </a:lnTo>
                  <a:lnTo>
                    <a:pt x="4468" y="2032"/>
                  </a:lnTo>
                  <a:lnTo>
                    <a:pt x="4482" y="2062"/>
                  </a:lnTo>
                  <a:lnTo>
                    <a:pt x="4474" y="2084"/>
                  </a:lnTo>
                  <a:lnTo>
                    <a:pt x="4478" y="2110"/>
                  </a:lnTo>
                  <a:lnTo>
                    <a:pt x="4494" y="2152"/>
                  </a:lnTo>
                  <a:lnTo>
                    <a:pt x="4494" y="2152"/>
                  </a:lnTo>
                  <a:lnTo>
                    <a:pt x="4480" y="2154"/>
                  </a:lnTo>
                  <a:lnTo>
                    <a:pt x="4422" y="2124"/>
                  </a:lnTo>
                  <a:lnTo>
                    <a:pt x="4384" y="2122"/>
                  </a:lnTo>
                  <a:lnTo>
                    <a:pt x="4334" y="2080"/>
                  </a:lnTo>
                  <a:lnTo>
                    <a:pt x="4296" y="2078"/>
                  </a:lnTo>
                  <a:lnTo>
                    <a:pt x="4276" y="2074"/>
                  </a:lnTo>
                  <a:lnTo>
                    <a:pt x="4258" y="2076"/>
                  </a:lnTo>
                  <a:lnTo>
                    <a:pt x="4238" y="2066"/>
                  </a:lnTo>
                  <a:lnTo>
                    <a:pt x="4220" y="2066"/>
                  </a:lnTo>
                  <a:lnTo>
                    <a:pt x="4166" y="2072"/>
                  </a:lnTo>
                  <a:lnTo>
                    <a:pt x="4108" y="2066"/>
                  </a:lnTo>
                  <a:lnTo>
                    <a:pt x="4092" y="2068"/>
                  </a:lnTo>
                  <a:lnTo>
                    <a:pt x="4052" y="2054"/>
                  </a:lnTo>
                  <a:lnTo>
                    <a:pt x="4034" y="2054"/>
                  </a:lnTo>
                  <a:lnTo>
                    <a:pt x="4006" y="2072"/>
                  </a:lnTo>
                  <a:lnTo>
                    <a:pt x="3930" y="2066"/>
                  </a:lnTo>
                  <a:lnTo>
                    <a:pt x="3912" y="2068"/>
                  </a:lnTo>
                  <a:lnTo>
                    <a:pt x="3878" y="2078"/>
                  </a:lnTo>
                  <a:lnTo>
                    <a:pt x="3842" y="2080"/>
                  </a:lnTo>
                  <a:lnTo>
                    <a:pt x="3822" y="2078"/>
                  </a:lnTo>
                  <a:lnTo>
                    <a:pt x="3802" y="2068"/>
                  </a:lnTo>
                  <a:lnTo>
                    <a:pt x="3784" y="2064"/>
                  </a:lnTo>
                  <a:lnTo>
                    <a:pt x="3748" y="2070"/>
                  </a:lnTo>
                  <a:lnTo>
                    <a:pt x="3730" y="2058"/>
                  </a:lnTo>
                  <a:lnTo>
                    <a:pt x="3672" y="2034"/>
                  </a:lnTo>
                  <a:lnTo>
                    <a:pt x="3660" y="2044"/>
                  </a:lnTo>
                  <a:lnTo>
                    <a:pt x="3642" y="2046"/>
                  </a:lnTo>
                  <a:lnTo>
                    <a:pt x="3628" y="2054"/>
                  </a:lnTo>
                  <a:lnTo>
                    <a:pt x="3608" y="2078"/>
                  </a:lnTo>
                  <a:lnTo>
                    <a:pt x="3612" y="2096"/>
                  </a:lnTo>
                  <a:lnTo>
                    <a:pt x="3608" y="2112"/>
                  </a:lnTo>
                  <a:lnTo>
                    <a:pt x="3614" y="2150"/>
                  </a:lnTo>
                  <a:lnTo>
                    <a:pt x="3612" y="2166"/>
                  </a:lnTo>
                  <a:lnTo>
                    <a:pt x="3574" y="2158"/>
                  </a:lnTo>
                  <a:lnTo>
                    <a:pt x="3534" y="2144"/>
                  </a:lnTo>
                  <a:lnTo>
                    <a:pt x="3496" y="2134"/>
                  </a:lnTo>
                  <a:lnTo>
                    <a:pt x="3476" y="2124"/>
                  </a:lnTo>
                  <a:lnTo>
                    <a:pt x="3458" y="2122"/>
                  </a:lnTo>
                  <a:lnTo>
                    <a:pt x="3438" y="2124"/>
                  </a:lnTo>
                  <a:lnTo>
                    <a:pt x="3400" y="2118"/>
                  </a:lnTo>
                  <a:lnTo>
                    <a:pt x="3384" y="2122"/>
                  </a:lnTo>
                  <a:lnTo>
                    <a:pt x="3364" y="2116"/>
                  </a:lnTo>
                  <a:lnTo>
                    <a:pt x="3330" y="2124"/>
                  </a:lnTo>
                  <a:lnTo>
                    <a:pt x="3316" y="2132"/>
                  </a:lnTo>
                  <a:lnTo>
                    <a:pt x="3316" y="2150"/>
                  </a:lnTo>
                  <a:lnTo>
                    <a:pt x="3324" y="2168"/>
                  </a:lnTo>
                  <a:lnTo>
                    <a:pt x="3318" y="2184"/>
                  </a:lnTo>
                  <a:lnTo>
                    <a:pt x="3316" y="2202"/>
                  </a:lnTo>
                  <a:lnTo>
                    <a:pt x="3316" y="2218"/>
                  </a:lnTo>
                  <a:lnTo>
                    <a:pt x="3302" y="2248"/>
                  </a:lnTo>
                  <a:lnTo>
                    <a:pt x="3286" y="2254"/>
                  </a:lnTo>
                  <a:lnTo>
                    <a:pt x="3266" y="2250"/>
                  </a:lnTo>
                  <a:lnTo>
                    <a:pt x="3264" y="2286"/>
                  </a:lnTo>
                  <a:lnTo>
                    <a:pt x="3254" y="2298"/>
                  </a:lnTo>
                  <a:lnTo>
                    <a:pt x="3210" y="2322"/>
                  </a:lnTo>
                  <a:lnTo>
                    <a:pt x="3182" y="2344"/>
                  </a:lnTo>
                  <a:lnTo>
                    <a:pt x="3176" y="2360"/>
                  </a:lnTo>
                  <a:lnTo>
                    <a:pt x="3160" y="2366"/>
                  </a:lnTo>
                  <a:lnTo>
                    <a:pt x="3148" y="2378"/>
                  </a:lnTo>
                  <a:lnTo>
                    <a:pt x="3144" y="2396"/>
                  </a:lnTo>
                  <a:lnTo>
                    <a:pt x="3144" y="2414"/>
                  </a:lnTo>
                  <a:lnTo>
                    <a:pt x="3134" y="2426"/>
                  </a:lnTo>
                  <a:lnTo>
                    <a:pt x="3120" y="2436"/>
                  </a:lnTo>
                  <a:lnTo>
                    <a:pt x="3100" y="2434"/>
                  </a:lnTo>
                  <a:lnTo>
                    <a:pt x="3062" y="2418"/>
                  </a:lnTo>
                  <a:lnTo>
                    <a:pt x="3040" y="2414"/>
                  </a:lnTo>
                  <a:lnTo>
                    <a:pt x="3002" y="2398"/>
                  </a:lnTo>
                  <a:lnTo>
                    <a:pt x="2876" y="2418"/>
                  </a:lnTo>
                  <a:lnTo>
                    <a:pt x="2820" y="2310"/>
                  </a:lnTo>
                  <a:lnTo>
                    <a:pt x="2740" y="2298"/>
                  </a:lnTo>
                  <a:lnTo>
                    <a:pt x="2726" y="2268"/>
                  </a:lnTo>
                  <a:lnTo>
                    <a:pt x="2718" y="2230"/>
                  </a:lnTo>
                  <a:lnTo>
                    <a:pt x="2734" y="2228"/>
                  </a:lnTo>
                  <a:lnTo>
                    <a:pt x="2702" y="2130"/>
                  </a:lnTo>
                  <a:lnTo>
                    <a:pt x="2672" y="2134"/>
                  </a:lnTo>
                  <a:lnTo>
                    <a:pt x="2608" y="2060"/>
                  </a:lnTo>
                  <a:lnTo>
                    <a:pt x="2574" y="2038"/>
                  </a:lnTo>
                  <a:lnTo>
                    <a:pt x="2554" y="2030"/>
                  </a:lnTo>
                  <a:lnTo>
                    <a:pt x="2518" y="2010"/>
                  </a:lnTo>
                  <a:lnTo>
                    <a:pt x="2502" y="1996"/>
                  </a:lnTo>
                  <a:lnTo>
                    <a:pt x="2474" y="2012"/>
                  </a:lnTo>
                  <a:lnTo>
                    <a:pt x="2300" y="2016"/>
                  </a:lnTo>
                  <a:lnTo>
                    <a:pt x="2148" y="2050"/>
                  </a:lnTo>
                  <a:lnTo>
                    <a:pt x="2064" y="1992"/>
                  </a:lnTo>
                  <a:lnTo>
                    <a:pt x="1934" y="1888"/>
                  </a:lnTo>
                  <a:lnTo>
                    <a:pt x="1832" y="1818"/>
                  </a:lnTo>
                  <a:lnTo>
                    <a:pt x="1794" y="1798"/>
                  </a:lnTo>
                  <a:lnTo>
                    <a:pt x="1740" y="1766"/>
                  </a:lnTo>
                  <a:lnTo>
                    <a:pt x="1686" y="1738"/>
                  </a:lnTo>
                  <a:lnTo>
                    <a:pt x="1610" y="1714"/>
                  </a:lnTo>
                  <a:lnTo>
                    <a:pt x="1326" y="183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27840" y="4705920"/>
              <a:ext cx="9000" cy="1044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34" y="10"/>
                  </a:moveTo>
                  <a:lnTo>
                    <a:pt x="46" y="20"/>
                  </a:lnTo>
                  <a:lnTo>
                    <a:pt x="50" y="40"/>
                  </a:lnTo>
                  <a:lnTo>
                    <a:pt x="44" y="60"/>
                  </a:lnTo>
                  <a:lnTo>
                    <a:pt x="32" y="62"/>
                  </a:lnTo>
                  <a:lnTo>
                    <a:pt x="26" y="42"/>
                  </a:lnTo>
                  <a:lnTo>
                    <a:pt x="18" y="28"/>
                  </a:lnTo>
                  <a:lnTo>
                    <a:pt x="6" y="28"/>
                  </a:lnTo>
                  <a:lnTo>
                    <a:pt x="0" y="8"/>
                  </a:lnTo>
                  <a:lnTo>
                    <a:pt x="4" y="2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34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6360" y="4572360"/>
              <a:ext cx="273240" cy="352440"/>
            </a:xfrm>
            <a:custGeom>
              <a:avLst/>
              <a:gdLst/>
              <a:ahLst/>
              <a:rect l="l" t="t" r="r" b="b"/>
              <a:pathLst>
                <a:path w="1568" h="2064">
                  <a:moveTo>
                    <a:pt x="0" y="4"/>
                  </a:moveTo>
                  <a:lnTo>
                    <a:pt x="16" y="4"/>
                  </a:lnTo>
                  <a:lnTo>
                    <a:pt x="22" y="0"/>
                  </a:lnTo>
                  <a:lnTo>
                    <a:pt x="56" y="0"/>
                  </a:lnTo>
                  <a:lnTo>
                    <a:pt x="72" y="4"/>
                  </a:lnTo>
                  <a:lnTo>
                    <a:pt x="88" y="14"/>
                  </a:lnTo>
                  <a:lnTo>
                    <a:pt x="110" y="50"/>
                  </a:lnTo>
                  <a:lnTo>
                    <a:pt x="144" y="54"/>
                  </a:lnTo>
                  <a:lnTo>
                    <a:pt x="160" y="64"/>
                  </a:lnTo>
                  <a:lnTo>
                    <a:pt x="194" y="66"/>
                  </a:lnTo>
                  <a:lnTo>
                    <a:pt x="240" y="60"/>
                  </a:lnTo>
                  <a:lnTo>
                    <a:pt x="262" y="60"/>
                  </a:lnTo>
                  <a:lnTo>
                    <a:pt x="288" y="76"/>
                  </a:lnTo>
                  <a:lnTo>
                    <a:pt x="320" y="74"/>
                  </a:lnTo>
                  <a:lnTo>
                    <a:pt x="342" y="80"/>
                  </a:lnTo>
                  <a:lnTo>
                    <a:pt x="386" y="120"/>
                  </a:lnTo>
                  <a:lnTo>
                    <a:pt x="398" y="144"/>
                  </a:lnTo>
                  <a:lnTo>
                    <a:pt x="400" y="164"/>
                  </a:lnTo>
                  <a:lnTo>
                    <a:pt x="410" y="182"/>
                  </a:lnTo>
                  <a:lnTo>
                    <a:pt x="430" y="196"/>
                  </a:lnTo>
                  <a:lnTo>
                    <a:pt x="450" y="236"/>
                  </a:lnTo>
                  <a:lnTo>
                    <a:pt x="458" y="256"/>
                  </a:lnTo>
                  <a:lnTo>
                    <a:pt x="492" y="290"/>
                  </a:lnTo>
                  <a:lnTo>
                    <a:pt x="524" y="332"/>
                  </a:lnTo>
                  <a:lnTo>
                    <a:pt x="616" y="382"/>
                  </a:lnTo>
                  <a:lnTo>
                    <a:pt x="636" y="406"/>
                  </a:lnTo>
                  <a:lnTo>
                    <a:pt x="672" y="442"/>
                  </a:lnTo>
                  <a:lnTo>
                    <a:pt x="696" y="476"/>
                  </a:lnTo>
                  <a:lnTo>
                    <a:pt x="706" y="510"/>
                  </a:lnTo>
                  <a:lnTo>
                    <a:pt x="740" y="520"/>
                  </a:lnTo>
                  <a:lnTo>
                    <a:pt x="758" y="560"/>
                  </a:lnTo>
                  <a:lnTo>
                    <a:pt x="796" y="608"/>
                  </a:lnTo>
                  <a:lnTo>
                    <a:pt x="810" y="620"/>
                  </a:lnTo>
                  <a:lnTo>
                    <a:pt x="826" y="628"/>
                  </a:lnTo>
                  <a:lnTo>
                    <a:pt x="826" y="616"/>
                  </a:lnTo>
                  <a:lnTo>
                    <a:pt x="832" y="600"/>
                  </a:lnTo>
                  <a:lnTo>
                    <a:pt x="858" y="600"/>
                  </a:lnTo>
                  <a:lnTo>
                    <a:pt x="876" y="616"/>
                  </a:lnTo>
                  <a:lnTo>
                    <a:pt x="906" y="688"/>
                  </a:lnTo>
                  <a:lnTo>
                    <a:pt x="924" y="700"/>
                  </a:lnTo>
                  <a:lnTo>
                    <a:pt x="938" y="706"/>
                  </a:lnTo>
                  <a:lnTo>
                    <a:pt x="952" y="708"/>
                  </a:lnTo>
                  <a:lnTo>
                    <a:pt x="996" y="736"/>
                  </a:lnTo>
                  <a:lnTo>
                    <a:pt x="1008" y="752"/>
                  </a:lnTo>
                  <a:lnTo>
                    <a:pt x="1024" y="788"/>
                  </a:lnTo>
                  <a:lnTo>
                    <a:pt x="1034" y="796"/>
                  </a:lnTo>
                  <a:lnTo>
                    <a:pt x="1036" y="760"/>
                  </a:lnTo>
                  <a:lnTo>
                    <a:pt x="1046" y="768"/>
                  </a:lnTo>
                  <a:lnTo>
                    <a:pt x="1060" y="792"/>
                  </a:lnTo>
                  <a:lnTo>
                    <a:pt x="1078" y="810"/>
                  </a:lnTo>
                  <a:lnTo>
                    <a:pt x="1130" y="806"/>
                  </a:lnTo>
                  <a:lnTo>
                    <a:pt x="1150" y="820"/>
                  </a:lnTo>
                  <a:lnTo>
                    <a:pt x="1156" y="830"/>
                  </a:lnTo>
                  <a:lnTo>
                    <a:pt x="1152" y="848"/>
                  </a:lnTo>
                  <a:lnTo>
                    <a:pt x="1144" y="860"/>
                  </a:lnTo>
                  <a:lnTo>
                    <a:pt x="1134" y="860"/>
                  </a:lnTo>
                  <a:lnTo>
                    <a:pt x="1136" y="882"/>
                  </a:lnTo>
                  <a:lnTo>
                    <a:pt x="1146" y="904"/>
                  </a:lnTo>
                  <a:lnTo>
                    <a:pt x="1146" y="926"/>
                  </a:lnTo>
                  <a:lnTo>
                    <a:pt x="1114" y="950"/>
                  </a:lnTo>
                  <a:lnTo>
                    <a:pt x="1112" y="958"/>
                  </a:lnTo>
                  <a:lnTo>
                    <a:pt x="1116" y="962"/>
                  </a:lnTo>
                  <a:lnTo>
                    <a:pt x="1150" y="942"/>
                  </a:lnTo>
                  <a:lnTo>
                    <a:pt x="1168" y="926"/>
                  </a:lnTo>
                  <a:lnTo>
                    <a:pt x="1200" y="910"/>
                  </a:lnTo>
                  <a:lnTo>
                    <a:pt x="1212" y="920"/>
                  </a:lnTo>
                  <a:lnTo>
                    <a:pt x="1234" y="946"/>
                  </a:lnTo>
                  <a:lnTo>
                    <a:pt x="1244" y="974"/>
                  </a:lnTo>
                  <a:lnTo>
                    <a:pt x="1248" y="992"/>
                  </a:lnTo>
                  <a:lnTo>
                    <a:pt x="1212" y="1036"/>
                  </a:lnTo>
                  <a:lnTo>
                    <a:pt x="1220" y="1046"/>
                  </a:lnTo>
                  <a:lnTo>
                    <a:pt x="1238" y="1050"/>
                  </a:lnTo>
                  <a:lnTo>
                    <a:pt x="1232" y="1074"/>
                  </a:lnTo>
                  <a:lnTo>
                    <a:pt x="1212" y="1094"/>
                  </a:lnTo>
                  <a:lnTo>
                    <a:pt x="1202" y="1126"/>
                  </a:lnTo>
                  <a:lnTo>
                    <a:pt x="1216" y="1150"/>
                  </a:lnTo>
                  <a:lnTo>
                    <a:pt x="1242" y="1174"/>
                  </a:lnTo>
                  <a:lnTo>
                    <a:pt x="1264" y="1186"/>
                  </a:lnTo>
                  <a:lnTo>
                    <a:pt x="1284" y="1184"/>
                  </a:lnTo>
                  <a:lnTo>
                    <a:pt x="1298" y="1196"/>
                  </a:lnTo>
                  <a:lnTo>
                    <a:pt x="1308" y="1194"/>
                  </a:lnTo>
                  <a:lnTo>
                    <a:pt x="1334" y="1196"/>
                  </a:lnTo>
                  <a:lnTo>
                    <a:pt x="1348" y="1232"/>
                  </a:lnTo>
                  <a:lnTo>
                    <a:pt x="1354" y="1262"/>
                  </a:lnTo>
                  <a:lnTo>
                    <a:pt x="1356" y="1294"/>
                  </a:lnTo>
                  <a:lnTo>
                    <a:pt x="1362" y="1320"/>
                  </a:lnTo>
                  <a:lnTo>
                    <a:pt x="1356" y="1344"/>
                  </a:lnTo>
                  <a:lnTo>
                    <a:pt x="1372" y="1346"/>
                  </a:lnTo>
                  <a:lnTo>
                    <a:pt x="1396" y="1360"/>
                  </a:lnTo>
                  <a:lnTo>
                    <a:pt x="1410" y="1382"/>
                  </a:lnTo>
                  <a:lnTo>
                    <a:pt x="1394" y="1430"/>
                  </a:lnTo>
                  <a:lnTo>
                    <a:pt x="1414" y="1432"/>
                  </a:lnTo>
                  <a:lnTo>
                    <a:pt x="1438" y="1432"/>
                  </a:lnTo>
                  <a:lnTo>
                    <a:pt x="1462" y="1430"/>
                  </a:lnTo>
                  <a:lnTo>
                    <a:pt x="1486" y="1434"/>
                  </a:lnTo>
                  <a:lnTo>
                    <a:pt x="1512" y="1446"/>
                  </a:lnTo>
                  <a:lnTo>
                    <a:pt x="1518" y="1468"/>
                  </a:lnTo>
                  <a:lnTo>
                    <a:pt x="1534" y="1494"/>
                  </a:lnTo>
                  <a:lnTo>
                    <a:pt x="1544" y="1522"/>
                  </a:lnTo>
                  <a:lnTo>
                    <a:pt x="1562" y="1544"/>
                  </a:lnTo>
                  <a:lnTo>
                    <a:pt x="1568" y="1574"/>
                  </a:lnTo>
                  <a:lnTo>
                    <a:pt x="1560" y="1604"/>
                  </a:lnTo>
                  <a:lnTo>
                    <a:pt x="1544" y="1652"/>
                  </a:lnTo>
                  <a:lnTo>
                    <a:pt x="1538" y="1680"/>
                  </a:lnTo>
                  <a:lnTo>
                    <a:pt x="1546" y="1688"/>
                  </a:lnTo>
                  <a:lnTo>
                    <a:pt x="1548" y="1708"/>
                  </a:lnTo>
                  <a:lnTo>
                    <a:pt x="1538" y="1746"/>
                  </a:lnTo>
                  <a:lnTo>
                    <a:pt x="1530" y="1804"/>
                  </a:lnTo>
                  <a:lnTo>
                    <a:pt x="1532" y="1834"/>
                  </a:lnTo>
                  <a:lnTo>
                    <a:pt x="1524" y="1960"/>
                  </a:lnTo>
                  <a:lnTo>
                    <a:pt x="1514" y="2020"/>
                  </a:lnTo>
                  <a:lnTo>
                    <a:pt x="1506" y="2052"/>
                  </a:lnTo>
                  <a:lnTo>
                    <a:pt x="1492" y="2054"/>
                  </a:lnTo>
                  <a:lnTo>
                    <a:pt x="1466" y="2022"/>
                  </a:lnTo>
                  <a:lnTo>
                    <a:pt x="1444" y="2002"/>
                  </a:lnTo>
                  <a:lnTo>
                    <a:pt x="1436" y="2012"/>
                  </a:lnTo>
                  <a:lnTo>
                    <a:pt x="1430" y="2042"/>
                  </a:lnTo>
                  <a:lnTo>
                    <a:pt x="1412" y="2048"/>
                  </a:lnTo>
                  <a:lnTo>
                    <a:pt x="1364" y="2002"/>
                  </a:lnTo>
                  <a:lnTo>
                    <a:pt x="1344" y="2006"/>
                  </a:lnTo>
                  <a:lnTo>
                    <a:pt x="1360" y="2056"/>
                  </a:lnTo>
                  <a:lnTo>
                    <a:pt x="1348" y="2064"/>
                  </a:lnTo>
                  <a:lnTo>
                    <a:pt x="1320" y="2034"/>
                  </a:lnTo>
                  <a:lnTo>
                    <a:pt x="1304" y="2008"/>
                  </a:lnTo>
                  <a:lnTo>
                    <a:pt x="1264" y="1960"/>
                  </a:lnTo>
                  <a:lnTo>
                    <a:pt x="1248" y="1928"/>
                  </a:lnTo>
                  <a:lnTo>
                    <a:pt x="1230" y="1902"/>
                  </a:lnTo>
                  <a:lnTo>
                    <a:pt x="1206" y="1884"/>
                  </a:lnTo>
                  <a:lnTo>
                    <a:pt x="1190" y="1880"/>
                  </a:lnTo>
                  <a:lnTo>
                    <a:pt x="1144" y="1822"/>
                  </a:lnTo>
                  <a:lnTo>
                    <a:pt x="1104" y="1788"/>
                  </a:lnTo>
                  <a:lnTo>
                    <a:pt x="1080" y="1760"/>
                  </a:lnTo>
                  <a:lnTo>
                    <a:pt x="1054" y="1746"/>
                  </a:lnTo>
                  <a:lnTo>
                    <a:pt x="1036" y="1714"/>
                  </a:lnTo>
                  <a:lnTo>
                    <a:pt x="1028" y="1672"/>
                  </a:lnTo>
                  <a:lnTo>
                    <a:pt x="1016" y="1648"/>
                  </a:lnTo>
                  <a:lnTo>
                    <a:pt x="986" y="1624"/>
                  </a:lnTo>
                  <a:lnTo>
                    <a:pt x="962" y="1590"/>
                  </a:lnTo>
                  <a:lnTo>
                    <a:pt x="904" y="1498"/>
                  </a:lnTo>
                  <a:lnTo>
                    <a:pt x="848" y="1422"/>
                  </a:lnTo>
                  <a:lnTo>
                    <a:pt x="838" y="1400"/>
                  </a:lnTo>
                  <a:lnTo>
                    <a:pt x="834" y="1342"/>
                  </a:lnTo>
                  <a:lnTo>
                    <a:pt x="778" y="1202"/>
                  </a:lnTo>
                  <a:lnTo>
                    <a:pt x="774" y="1162"/>
                  </a:lnTo>
                  <a:lnTo>
                    <a:pt x="750" y="1118"/>
                  </a:lnTo>
                  <a:lnTo>
                    <a:pt x="734" y="1102"/>
                  </a:lnTo>
                  <a:lnTo>
                    <a:pt x="718" y="1074"/>
                  </a:lnTo>
                  <a:lnTo>
                    <a:pt x="702" y="1060"/>
                  </a:lnTo>
                  <a:lnTo>
                    <a:pt x="678" y="1000"/>
                  </a:lnTo>
                  <a:lnTo>
                    <a:pt x="632" y="960"/>
                  </a:lnTo>
                  <a:lnTo>
                    <a:pt x="612" y="960"/>
                  </a:lnTo>
                  <a:lnTo>
                    <a:pt x="608" y="958"/>
                  </a:lnTo>
                  <a:lnTo>
                    <a:pt x="604" y="952"/>
                  </a:lnTo>
                  <a:lnTo>
                    <a:pt x="592" y="884"/>
                  </a:lnTo>
                  <a:lnTo>
                    <a:pt x="574" y="814"/>
                  </a:lnTo>
                  <a:lnTo>
                    <a:pt x="560" y="774"/>
                  </a:lnTo>
                  <a:lnTo>
                    <a:pt x="542" y="736"/>
                  </a:lnTo>
                  <a:lnTo>
                    <a:pt x="542" y="702"/>
                  </a:lnTo>
                  <a:lnTo>
                    <a:pt x="522" y="670"/>
                  </a:lnTo>
                  <a:lnTo>
                    <a:pt x="494" y="638"/>
                  </a:lnTo>
                  <a:lnTo>
                    <a:pt x="442" y="604"/>
                  </a:lnTo>
                  <a:lnTo>
                    <a:pt x="418" y="592"/>
                  </a:lnTo>
                  <a:lnTo>
                    <a:pt x="386" y="586"/>
                  </a:lnTo>
                  <a:lnTo>
                    <a:pt x="360" y="486"/>
                  </a:lnTo>
                  <a:lnTo>
                    <a:pt x="342" y="478"/>
                  </a:lnTo>
                  <a:lnTo>
                    <a:pt x="332" y="458"/>
                  </a:lnTo>
                  <a:lnTo>
                    <a:pt x="320" y="442"/>
                  </a:lnTo>
                  <a:lnTo>
                    <a:pt x="288" y="382"/>
                  </a:lnTo>
                  <a:lnTo>
                    <a:pt x="260" y="352"/>
                  </a:lnTo>
                  <a:lnTo>
                    <a:pt x="238" y="336"/>
                  </a:lnTo>
                  <a:lnTo>
                    <a:pt x="212" y="336"/>
                  </a:lnTo>
                  <a:lnTo>
                    <a:pt x="184" y="304"/>
                  </a:lnTo>
                  <a:lnTo>
                    <a:pt x="160" y="270"/>
                  </a:lnTo>
                  <a:lnTo>
                    <a:pt x="142" y="252"/>
                  </a:lnTo>
                  <a:lnTo>
                    <a:pt x="116" y="234"/>
                  </a:lnTo>
                  <a:lnTo>
                    <a:pt x="54" y="154"/>
                  </a:lnTo>
                  <a:lnTo>
                    <a:pt x="38" y="130"/>
                  </a:lnTo>
                  <a:lnTo>
                    <a:pt x="12" y="70"/>
                  </a:lnTo>
                  <a:lnTo>
                    <a:pt x="6" y="14"/>
                  </a:lnTo>
                  <a:lnTo>
                    <a:pt x="0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12200" y="4653720"/>
              <a:ext cx="18720" cy="165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92" y="68"/>
                  </a:lnTo>
                  <a:lnTo>
                    <a:pt x="104" y="98"/>
                  </a:lnTo>
                  <a:lnTo>
                    <a:pt x="102" y="100"/>
                  </a:lnTo>
                  <a:lnTo>
                    <a:pt x="84" y="80"/>
                  </a:lnTo>
                  <a:lnTo>
                    <a:pt x="58" y="70"/>
                  </a:lnTo>
                  <a:lnTo>
                    <a:pt x="16" y="40"/>
                  </a:lnTo>
                  <a:lnTo>
                    <a:pt x="4" y="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49640" y="4696560"/>
              <a:ext cx="20520" cy="27720"/>
            </a:xfrm>
            <a:custGeom>
              <a:avLst/>
              <a:gdLst/>
              <a:ahLst/>
              <a:rect l="l" t="t" r="r" b="b"/>
              <a:pathLst>
                <a:path w="110" h="166">
                  <a:moveTo>
                    <a:pt x="2" y="26"/>
                  </a:moveTo>
                  <a:lnTo>
                    <a:pt x="0" y="16"/>
                  </a:lnTo>
                  <a:lnTo>
                    <a:pt x="30" y="0"/>
                  </a:lnTo>
                  <a:lnTo>
                    <a:pt x="50" y="24"/>
                  </a:lnTo>
                  <a:lnTo>
                    <a:pt x="66" y="52"/>
                  </a:lnTo>
                  <a:lnTo>
                    <a:pt x="106" y="94"/>
                  </a:lnTo>
                  <a:lnTo>
                    <a:pt x="110" y="152"/>
                  </a:lnTo>
                  <a:lnTo>
                    <a:pt x="104" y="166"/>
                  </a:lnTo>
                  <a:lnTo>
                    <a:pt x="90" y="166"/>
                  </a:lnTo>
                  <a:lnTo>
                    <a:pt x="78" y="134"/>
                  </a:lnTo>
                  <a:lnTo>
                    <a:pt x="66" y="116"/>
                  </a:lnTo>
                  <a:lnTo>
                    <a:pt x="36" y="84"/>
                  </a:lnTo>
                  <a:lnTo>
                    <a:pt x="2" y="2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8000" bIns="-180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4400" y="4676760"/>
              <a:ext cx="10800" cy="1044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38" y="62"/>
                  </a:moveTo>
                  <a:lnTo>
                    <a:pt x="26" y="60"/>
                  </a:lnTo>
                  <a:lnTo>
                    <a:pt x="14" y="5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10" y="12"/>
                  </a:lnTo>
                  <a:lnTo>
                    <a:pt x="20" y="4"/>
                  </a:lnTo>
                  <a:lnTo>
                    <a:pt x="32" y="0"/>
                  </a:lnTo>
                  <a:lnTo>
                    <a:pt x="48" y="16"/>
                  </a:lnTo>
                  <a:lnTo>
                    <a:pt x="50" y="46"/>
                  </a:lnTo>
                  <a:lnTo>
                    <a:pt x="46" y="56"/>
                  </a:lnTo>
                  <a:lnTo>
                    <a:pt x="38" y="6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71320" y="4691880"/>
              <a:ext cx="10800" cy="936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0"/>
                  </a:moveTo>
                  <a:lnTo>
                    <a:pt x="6" y="0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52" y="10"/>
                  </a:lnTo>
                  <a:lnTo>
                    <a:pt x="64" y="54"/>
                  </a:lnTo>
                  <a:lnTo>
                    <a:pt x="62" y="58"/>
                  </a:lnTo>
                  <a:lnTo>
                    <a:pt x="46" y="40"/>
                  </a:lnTo>
                  <a:lnTo>
                    <a:pt x="16" y="24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87080" y="4770000"/>
              <a:ext cx="15480" cy="27360"/>
            </a:xfrm>
            <a:custGeom>
              <a:avLst/>
              <a:gdLst/>
              <a:ahLst/>
              <a:rect l="l" t="t" r="r" b="b"/>
              <a:pathLst>
                <a:path w="90" h="156">
                  <a:moveTo>
                    <a:pt x="10" y="8"/>
                  </a:moveTo>
                  <a:lnTo>
                    <a:pt x="36" y="0"/>
                  </a:lnTo>
                  <a:lnTo>
                    <a:pt x="44" y="12"/>
                  </a:lnTo>
                  <a:lnTo>
                    <a:pt x="48" y="42"/>
                  </a:lnTo>
                  <a:lnTo>
                    <a:pt x="66" y="92"/>
                  </a:lnTo>
                  <a:lnTo>
                    <a:pt x="90" y="132"/>
                  </a:lnTo>
                  <a:lnTo>
                    <a:pt x="86" y="148"/>
                  </a:lnTo>
                  <a:lnTo>
                    <a:pt x="66" y="156"/>
                  </a:lnTo>
                  <a:lnTo>
                    <a:pt x="50" y="148"/>
                  </a:lnTo>
                  <a:lnTo>
                    <a:pt x="34" y="132"/>
                  </a:lnTo>
                  <a:lnTo>
                    <a:pt x="18" y="104"/>
                  </a:lnTo>
                  <a:lnTo>
                    <a:pt x="4" y="66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0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8360" bIns="-18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7840" y="4753080"/>
              <a:ext cx="6120" cy="79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2" y="24"/>
                  </a:moveTo>
                  <a:lnTo>
                    <a:pt x="0" y="12"/>
                  </a:lnTo>
                  <a:lnTo>
                    <a:pt x="6" y="4"/>
                  </a:lnTo>
                  <a:lnTo>
                    <a:pt x="18" y="0"/>
                  </a:lnTo>
                  <a:lnTo>
                    <a:pt x="36" y="30"/>
                  </a:lnTo>
                  <a:lnTo>
                    <a:pt x="32" y="44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7800" bIns="-37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49800" y="4790160"/>
              <a:ext cx="35640" cy="47520"/>
            </a:xfrm>
            <a:custGeom>
              <a:avLst/>
              <a:gdLst/>
              <a:ahLst/>
              <a:rect l="l" t="t" r="r" b="b"/>
              <a:pathLst>
                <a:path w="218" h="284">
                  <a:moveTo>
                    <a:pt x="0" y="70"/>
                  </a:moveTo>
                  <a:lnTo>
                    <a:pt x="28" y="24"/>
                  </a:lnTo>
                  <a:lnTo>
                    <a:pt x="38" y="14"/>
                  </a:lnTo>
                  <a:lnTo>
                    <a:pt x="52" y="8"/>
                  </a:lnTo>
                  <a:lnTo>
                    <a:pt x="68" y="14"/>
                  </a:lnTo>
                  <a:lnTo>
                    <a:pt x="74" y="40"/>
                  </a:lnTo>
                  <a:lnTo>
                    <a:pt x="84" y="40"/>
                  </a:lnTo>
                  <a:lnTo>
                    <a:pt x="88" y="36"/>
                  </a:lnTo>
                  <a:lnTo>
                    <a:pt x="88" y="16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0" y="30"/>
                  </a:lnTo>
                  <a:lnTo>
                    <a:pt x="132" y="58"/>
                  </a:lnTo>
                  <a:lnTo>
                    <a:pt x="140" y="108"/>
                  </a:lnTo>
                  <a:lnTo>
                    <a:pt x="148" y="142"/>
                  </a:lnTo>
                  <a:lnTo>
                    <a:pt x="162" y="164"/>
                  </a:lnTo>
                  <a:lnTo>
                    <a:pt x="190" y="184"/>
                  </a:lnTo>
                  <a:lnTo>
                    <a:pt x="218" y="184"/>
                  </a:lnTo>
                  <a:lnTo>
                    <a:pt x="206" y="258"/>
                  </a:lnTo>
                  <a:lnTo>
                    <a:pt x="212" y="276"/>
                  </a:lnTo>
                  <a:lnTo>
                    <a:pt x="198" y="284"/>
                  </a:lnTo>
                  <a:lnTo>
                    <a:pt x="182" y="264"/>
                  </a:lnTo>
                  <a:lnTo>
                    <a:pt x="134" y="238"/>
                  </a:lnTo>
                  <a:lnTo>
                    <a:pt x="118" y="220"/>
                  </a:lnTo>
                  <a:lnTo>
                    <a:pt x="110" y="192"/>
                  </a:lnTo>
                  <a:lnTo>
                    <a:pt x="112" y="172"/>
                  </a:lnTo>
                  <a:lnTo>
                    <a:pt x="100" y="144"/>
                  </a:lnTo>
                  <a:lnTo>
                    <a:pt x="88" y="118"/>
                  </a:lnTo>
                  <a:lnTo>
                    <a:pt x="56" y="96"/>
                  </a:lnTo>
                  <a:lnTo>
                    <a:pt x="38" y="94"/>
                  </a:lnTo>
                  <a:lnTo>
                    <a:pt x="8" y="82"/>
                  </a:lnTo>
                  <a:lnTo>
                    <a:pt x="0" y="7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800" bIns="1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07400" y="4820760"/>
              <a:ext cx="16920" cy="20880"/>
            </a:xfrm>
            <a:custGeom>
              <a:avLst/>
              <a:gdLst/>
              <a:ahLst/>
              <a:rect l="l" t="t" r="r" b="b"/>
              <a:pathLst>
                <a:path w="96" h="124">
                  <a:moveTo>
                    <a:pt x="18" y="6"/>
                  </a:moveTo>
                  <a:lnTo>
                    <a:pt x="22" y="0"/>
                  </a:lnTo>
                  <a:lnTo>
                    <a:pt x="52" y="4"/>
                  </a:lnTo>
                  <a:lnTo>
                    <a:pt x="66" y="16"/>
                  </a:lnTo>
                  <a:lnTo>
                    <a:pt x="82" y="24"/>
                  </a:lnTo>
                  <a:lnTo>
                    <a:pt x="96" y="44"/>
                  </a:lnTo>
                  <a:lnTo>
                    <a:pt x="96" y="72"/>
                  </a:lnTo>
                  <a:lnTo>
                    <a:pt x="92" y="96"/>
                  </a:lnTo>
                  <a:lnTo>
                    <a:pt x="76" y="116"/>
                  </a:lnTo>
                  <a:lnTo>
                    <a:pt x="60" y="124"/>
                  </a:lnTo>
                  <a:lnTo>
                    <a:pt x="50" y="104"/>
                  </a:lnTo>
                  <a:lnTo>
                    <a:pt x="38" y="112"/>
                  </a:lnTo>
                  <a:lnTo>
                    <a:pt x="16" y="114"/>
                  </a:lnTo>
                  <a:lnTo>
                    <a:pt x="6" y="104"/>
                  </a:lnTo>
                  <a:lnTo>
                    <a:pt x="0" y="80"/>
                  </a:lnTo>
                  <a:lnTo>
                    <a:pt x="0" y="56"/>
                  </a:lnTo>
                  <a:lnTo>
                    <a:pt x="2" y="36"/>
                  </a:lnTo>
                  <a:lnTo>
                    <a:pt x="12" y="10"/>
                  </a:lnTo>
                  <a:lnTo>
                    <a:pt x="18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4840" bIns="-24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43320" y="4924800"/>
              <a:ext cx="221400" cy="93240"/>
            </a:xfrm>
            <a:custGeom>
              <a:avLst/>
              <a:gdLst/>
              <a:ahLst/>
              <a:rect l="l" t="t" r="r" b="b"/>
              <a:pathLst>
                <a:path w="1280" h="544">
                  <a:moveTo>
                    <a:pt x="946" y="440"/>
                  </a:moveTo>
                  <a:lnTo>
                    <a:pt x="918" y="440"/>
                  </a:lnTo>
                  <a:lnTo>
                    <a:pt x="888" y="456"/>
                  </a:lnTo>
                  <a:lnTo>
                    <a:pt x="844" y="440"/>
                  </a:lnTo>
                  <a:lnTo>
                    <a:pt x="830" y="432"/>
                  </a:lnTo>
                  <a:lnTo>
                    <a:pt x="822" y="420"/>
                  </a:lnTo>
                  <a:lnTo>
                    <a:pt x="814" y="428"/>
                  </a:lnTo>
                  <a:lnTo>
                    <a:pt x="790" y="428"/>
                  </a:lnTo>
                  <a:lnTo>
                    <a:pt x="764" y="422"/>
                  </a:lnTo>
                  <a:lnTo>
                    <a:pt x="726" y="406"/>
                  </a:lnTo>
                  <a:lnTo>
                    <a:pt x="704" y="388"/>
                  </a:lnTo>
                  <a:lnTo>
                    <a:pt x="688" y="370"/>
                  </a:lnTo>
                  <a:lnTo>
                    <a:pt x="670" y="356"/>
                  </a:lnTo>
                  <a:lnTo>
                    <a:pt x="650" y="344"/>
                  </a:lnTo>
                  <a:lnTo>
                    <a:pt x="614" y="334"/>
                  </a:lnTo>
                  <a:lnTo>
                    <a:pt x="584" y="334"/>
                  </a:lnTo>
                  <a:lnTo>
                    <a:pt x="548" y="322"/>
                  </a:lnTo>
                  <a:lnTo>
                    <a:pt x="534" y="326"/>
                  </a:lnTo>
                  <a:lnTo>
                    <a:pt x="524" y="334"/>
                  </a:lnTo>
                  <a:lnTo>
                    <a:pt x="512" y="332"/>
                  </a:lnTo>
                  <a:lnTo>
                    <a:pt x="504" y="320"/>
                  </a:lnTo>
                  <a:lnTo>
                    <a:pt x="480" y="320"/>
                  </a:lnTo>
                  <a:lnTo>
                    <a:pt x="464" y="338"/>
                  </a:lnTo>
                  <a:lnTo>
                    <a:pt x="450" y="346"/>
                  </a:lnTo>
                  <a:lnTo>
                    <a:pt x="442" y="344"/>
                  </a:lnTo>
                  <a:lnTo>
                    <a:pt x="352" y="318"/>
                  </a:lnTo>
                  <a:lnTo>
                    <a:pt x="322" y="296"/>
                  </a:lnTo>
                  <a:lnTo>
                    <a:pt x="288" y="288"/>
                  </a:lnTo>
                  <a:lnTo>
                    <a:pt x="234" y="286"/>
                  </a:lnTo>
                  <a:lnTo>
                    <a:pt x="208" y="276"/>
                  </a:lnTo>
                  <a:lnTo>
                    <a:pt x="192" y="264"/>
                  </a:lnTo>
                  <a:lnTo>
                    <a:pt x="164" y="250"/>
                  </a:lnTo>
                  <a:lnTo>
                    <a:pt x="154" y="238"/>
                  </a:lnTo>
                  <a:lnTo>
                    <a:pt x="180" y="200"/>
                  </a:lnTo>
                  <a:lnTo>
                    <a:pt x="178" y="196"/>
                  </a:lnTo>
                  <a:lnTo>
                    <a:pt x="156" y="194"/>
                  </a:lnTo>
                  <a:lnTo>
                    <a:pt x="106" y="166"/>
                  </a:lnTo>
                  <a:lnTo>
                    <a:pt x="58" y="164"/>
                  </a:lnTo>
                  <a:lnTo>
                    <a:pt x="42" y="156"/>
                  </a:lnTo>
                  <a:lnTo>
                    <a:pt x="14" y="152"/>
                  </a:lnTo>
                  <a:lnTo>
                    <a:pt x="0" y="132"/>
                  </a:lnTo>
                  <a:lnTo>
                    <a:pt x="6" y="124"/>
                  </a:lnTo>
                  <a:lnTo>
                    <a:pt x="12" y="126"/>
                  </a:lnTo>
                  <a:lnTo>
                    <a:pt x="20" y="136"/>
                  </a:lnTo>
                  <a:lnTo>
                    <a:pt x="36" y="136"/>
                  </a:lnTo>
                  <a:lnTo>
                    <a:pt x="52" y="124"/>
                  </a:lnTo>
                  <a:lnTo>
                    <a:pt x="62" y="100"/>
                  </a:lnTo>
                  <a:lnTo>
                    <a:pt x="74" y="100"/>
                  </a:lnTo>
                  <a:lnTo>
                    <a:pt x="90" y="74"/>
                  </a:lnTo>
                  <a:lnTo>
                    <a:pt x="98" y="46"/>
                  </a:lnTo>
                  <a:lnTo>
                    <a:pt x="112" y="14"/>
                  </a:lnTo>
                  <a:lnTo>
                    <a:pt x="146" y="2"/>
                  </a:lnTo>
                  <a:lnTo>
                    <a:pt x="236" y="22"/>
                  </a:lnTo>
                  <a:lnTo>
                    <a:pt x="274" y="0"/>
                  </a:lnTo>
                  <a:lnTo>
                    <a:pt x="304" y="2"/>
                  </a:lnTo>
                  <a:lnTo>
                    <a:pt x="318" y="22"/>
                  </a:lnTo>
                  <a:lnTo>
                    <a:pt x="324" y="50"/>
                  </a:lnTo>
                  <a:lnTo>
                    <a:pt x="348" y="54"/>
                  </a:lnTo>
                  <a:lnTo>
                    <a:pt x="370" y="50"/>
                  </a:lnTo>
                  <a:lnTo>
                    <a:pt x="406" y="64"/>
                  </a:lnTo>
                  <a:lnTo>
                    <a:pt x="430" y="68"/>
                  </a:lnTo>
                  <a:lnTo>
                    <a:pt x="462" y="110"/>
                  </a:lnTo>
                  <a:lnTo>
                    <a:pt x="478" y="160"/>
                  </a:lnTo>
                  <a:lnTo>
                    <a:pt x="506" y="166"/>
                  </a:lnTo>
                  <a:lnTo>
                    <a:pt x="536" y="164"/>
                  </a:lnTo>
                  <a:lnTo>
                    <a:pt x="586" y="168"/>
                  </a:lnTo>
                  <a:lnTo>
                    <a:pt x="604" y="166"/>
                  </a:lnTo>
                  <a:lnTo>
                    <a:pt x="674" y="182"/>
                  </a:lnTo>
                  <a:lnTo>
                    <a:pt x="700" y="184"/>
                  </a:lnTo>
                  <a:lnTo>
                    <a:pt x="720" y="196"/>
                  </a:lnTo>
                  <a:lnTo>
                    <a:pt x="738" y="186"/>
                  </a:lnTo>
                  <a:lnTo>
                    <a:pt x="766" y="136"/>
                  </a:lnTo>
                  <a:lnTo>
                    <a:pt x="772" y="110"/>
                  </a:lnTo>
                  <a:lnTo>
                    <a:pt x="792" y="94"/>
                  </a:lnTo>
                  <a:lnTo>
                    <a:pt x="812" y="96"/>
                  </a:lnTo>
                  <a:lnTo>
                    <a:pt x="824" y="126"/>
                  </a:lnTo>
                  <a:lnTo>
                    <a:pt x="842" y="146"/>
                  </a:lnTo>
                  <a:lnTo>
                    <a:pt x="866" y="146"/>
                  </a:lnTo>
                  <a:lnTo>
                    <a:pt x="890" y="132"/>
                  </a:lnTo>
                  <a:lnTo>
                    <a:pt x="902" y="142"/>
                  </a:lnTo>
                  <a:lnTo>
                    <a:pt x="916" y="148"/>
                  </a:lnTo>
                  <a:lnTo>
                    <a:pt x="930" y="160"/>
                  </a:lnTo>
                  <a:lnTo>
                    <a:pt x="948" y="166"/>
                  </a:lnTo>
                  <a:lnTo>
                    <a:pt x="964" y="180"/>
                  </a:lnTo>
                  <a:lnTo>
                    <a:pt x="1010" y="178"/>
                  </a:lnTo>
                  <a:lnTo>
                    <a:pt x="1028" y="194"/>
                  </a:lnTo>
                  <a:lnTo>
                    <a:pt x="1044" y="242"/>
                  </a:lnTo>
                  <a:lnTo>
                    <a:pt x="1062" y="260"/>
                  </a:lnTo>
                  <a:lnTo>
                    <a:pt x="1064" y="314"/>
                  </a:lnTo>
                  <a:lnTo>
                    <a:pt x="1086" y="330"/>
                  </a:lnTo>
                  <a:lnTo>
                    <a:pt x="1114" y="342"/>
                  </a:lnTo>
                  <a:lnTo>
                    <a:pt x="1168" y="334"/>
                  </a:lnTo>
                  <a:lnTo>
                    <a:pt x="1198" y="336"/>
                  </a:lnTo>
                  <a:lnTo>
                    <a:pt x="1232" y="330"/>
                  </a:lnTo>
                  <a:lnTo>
                    <a:pt x="1262" y="336"/>
                  </a:lnTo>
                  <a:lnTo>
                    <a:pt x="1280" y="356"/>
                  </a:lnTo>
                  <a:lnTo>
                    <a:pt x="1278" y="402"/>
                  </a:lnTo>
                  <a:lnTo>
                    <a:pt x="1264" y="468"/>
                  </a:lnTo>
                  <a:lnTo>
                    <a:pt x="1266" y="492"/>
                  </a:lnTo>
                  <a:lnTo>
                    <a:pt x="1274" y="510"/>
                  </a:lnTo>
                  <a:lnTo>
                    <a:pt x="1278" y="544"/>
                  </a:lnTo>
                  <a:lnTo>
                    <a:pt x="1266" y="536"/>
                  </a:lnTo>
                  <a:lnTo>
                    <a:pt x="1256" y="514"/>
                  </a:lnTo>
                  <a:lnTo>
                    <a:pt x="1170" y="484"/>
                  </a:lnTo>
                  <a:lnTo>
                    <a:pt x="1132" y="460"/>
                  </a:lnTo>
                  <a:lnTo>
                    <a:pt x="1096" y="446"/>
                  </a:lnTo>
                  <a:lnTo>
                    <a:pt x="1024" y="472"/>
                  </a:lnTo>
                  <a:lnTo>
                    <a:pt x="992" y="462"/>
                  </a:lnTo>
                  <a:lnTo>
                    <a:pt x="964" y="446"/>
                  </a:lnTo>
                  <a:lnTo>
                    <a:pt x="946" y="44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16560" y="4845240"/>
              <a:ext cx="5760" cy="2448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24" y="4"/>
                  </a:moveTo>
                  <a:lnTo>
                    <a:pt x="26" y="2"/>
                  </a:lnTo>
                  <a:lnTo>
                    <a:pt x="32" y="32"/>
                  </a:lnTo>
                  <a:lnTo>
                    <a:pt x="32" y="90"/>
                  </a:lnTo>
                  <a:lnTo>
                    <a:pt x="36" y="114"/>
                  </a:lnTo>
                  <a:lnTo>
                    <a:pt x="18" y="138"/>
                  </a:lnTo>
                  <a:lnTo>
                    <a:pt x="6" y="140"/>
                  </a:lnTo>
                  <a:lnTo>
                    <a:pt x="0" y="94"/>
                  </a:lnTo>
                  <a:lnTo>
                    <a:pt x="0" y="50"/>
                  </a:lnTo>
                  <a:lnTo>
                    <a:pt x="8" y="14"/>
                  </a:lnTo>
                  <a:lnTo>
                    <a:pt x="22" y="0"/>
                  </a:lnTo>
                  <a:lnTo>
                    <a:pt x="24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240" bIns="-21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47320" y="4984560"/>
              <a:ext cx="26280" cy="15120"/>
            </a:xfrm>
            <a:custGeom>
              <a:avLst/>
              <a:gdLst/>
              <a:ahLst/>
              <a:rect l="l" t="t" r="r" b="b"/>
              <a:pathLst>
                <a:path w="152" h="94">
                  <a:moveTo>
                    <a:pt x="10" y="92"/>
                  </a:moveTo>
                  <a:lnTo>
                    <a:pt x="0" y="74"/>
                  </a:lnTo>
                  <a:lnTo>
                    <a:pt x="12" y="46"/>
                  </a:lnTo>
                  <a:lnTo>
                    <a:pt x="24" y="30"/>
                  </a:lnTo>
                  <a:lnTo>
                    <a:pt x="66" y="34"/>
                  </a:lnTo>
                  <a:lnTo>
                    <a:pt x="86" y="26"/>
                  </a:lnTo>
                  <a:lnTo>
                    <a:pt x="120" y="0"/>
                  </a:lnTo>
                  <a:lnTo>
                    <a:pt x="128" y="16"/>
                  </a:lnTo>
                  <a:lnTo>
                    <a:pt x="152" y="38"/>
                  </a:lnTo>
                  <a:lnTo>
                    <a:pt x="120" y="60"/>
                  </a:lnTo>
                  <a:lnTo>
                    <a:pt x="98" y="84"/>
                  </a:lnTo>
                  <a:lnTo>
                    <a:pt x="70" y="86"/>
                  </a:lnTo>
                  <a:lnTo>
                    <a:pt x="46" y="84"/>
                  </a:lnTo>
                  <a:lnTo>
                    <a:pt x="28" y="94"/>
                  </a:lnTo>
                  <a:lnTo>
                    <a:pt x="10" y="9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600" bIns="-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18160" y="5010840"/>
              <a:ext cx="62280" cy="35280"/>
            </a:xfrm>
            <a:custGeom>
              <a:avLst/>
              <a:gdLst/>
              <a:ahLst/>
              <a:rect l="l" t="t" r="r" b="b"/>
              <a:pathLst>
                <a:path w="362" h="206">
                  <a:moveTo>
                    <a:pt x="0" y="126"/>
                  </a:moveTo>
                  <a:lnTo>
                    <a:pt x="4" y="126"/>
                  </a:lnTo>
                  <a:lnTo>
                    <a:pt x="32" y="98"/>
                  </a:lnTo>
                  <a:lnTo>
                    <a:pt x="56" y="52"/>
                  </a:lnTo>
                  <a:lnTo>
                    <a:pt x="80" y="50"/>
                  </a:lnTo>
                  <a:lnTo>
                    <a:pt x="154" y="36"/>
                  </a:lnTo>
                  <a:lnTo>
                    <a:pt x="172" y="24"/>
                  </a:lnTo>
                  <a:lnTo>
                    <a:pt x="194" y="30"/>
                  </a:lnTo>
                  <a:lnTo>
                    <a:pt x="268" y="26"/>
                  </a:lnTo>
                  <a:lnTo>
                    <a:pt x="298" y="14"/>
                  </a:lnTo>
                  <a:lnTo>
                    <a:pt x="320" y="10"/>
                  </a:lnTo>
                  <a:lnTo>
                    <a:pt x="338" y="0"/>
                  </a:lnTo>
                  <a:lnTo>
                    <a:pt x="358" y="12"/>
                  </a:lnTo>
                  <a:lnTo>
                    <a:pt x="362" y="24"/>
                  </a:lnTo>
                  <a:lnTo>
                    <a:pt x="342" y="66"/>
                  </a:lnTo>
                  <a:lnTo>
                    <a:pt x="298" y="82"/>
                  </a:lnTo>
                  <a:lnTo>
                    <a:pt x="230" y="124"/>
                  </a:lnTo>
                  <a:lnTo>
                    <a:pt x="190" y="136"/>
                  </a:lnTo>
                  <a:lnTo>
                    <a:pt x="154" y="158"/>
                  </a:lnTo>
                  <a:lnTo>
                    <a:pt x="98" y="170"/>
                  </a:lnTo>
                  <a:lnTo>
                    <a:pt x="50" y="206"/>
                  </a:lnTo>
                  <a:lnTo>
                    <a:pt x="38" y="19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440" bIns="-104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1800" y="5032440"/>
              <a:ext cx="40680" cy="410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68"/>
                  </a:moveTo>
                  <a:lnTo>
                    <a:pt x="240" y="80"/>
                  </a:lnTo>
                  <a:lnTo>
                    <a:pt x="220" y="118"/>
                  </a:lnTo>
                  <a:lnTo>
                    <a:pt x="188" y="154"/>
                  </a:lnTo>
                  <a:lnTo>
                    <a:pt x="166" y="184"/>
                  </a:lnTo>
                  <a:lnTo>
                    <a:pt x="146" y="194"/>
                  </a:lnTo>
                  <a:lnTo>
                    <a:pt x="130" y="206"/>
                  </a:lnTo>
                  <a:lnTo>
                    <a:pt x="104" y="212"/>
                  </a:lnTo>
                  <a:lnTo>
                    <a:pt x="78" y="230"/>
                  </a:lnTo>
                  <a:lnTo>
                    <a:pt x="54" y="238"/>
                  </a:lnTo>
                  <a:lnTo>
                    <a:pt x="34" y="240"/>
                  </a:lnTo>
                  <a:lnTo>
                    <a:pt x="10" y="238"/>
                  </a:lnTo>
                  <a:lnTo>
                    <a:pt x="0" y="220"/>
                  </a:lnTo>
                  <a:lnTo>
                    <a:pt x="22" y="192"/>
                  </a:lnTo>
                  <a:lnTo>
                    <a:pt x="28" y="174"/>
                  </a:lnTo>
                  <a:lnTo>
                    <a:pt x="24" y="150"/>
                  </a:lnTo>
                  <a:lnTo>
                    <a:pt x="36" y="102"/>
                  </a:lnTo>
                  <a:lnTo>
                    <a:pt x="56" y="80"/>
                  </a:lnTo>
                  <a:lnTo>
                    <a:pt x="78" y="58"/>
                  </a:lnTo>
                  <a:lnTo>
                    <a:pt x="104" y="48"/>
                  </a:lnTo>
                  <a:lnTo>
                    <a:pt x="130" y="30"/>
                  </a:lnTo>
                  <a:lnTo>
                    <a:pt x="150" y="22"/>
                  </a:lnTo>
                  <a:lnTo>
                    <a:pt x="164" y="12"/>
                  </a:lnTo>
                  <a:lnTo>
                    <a:pt x="188" y="12"/>
                  </a:lnTo>
                  <a:lnTo>
                    <a:pt x="20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680" bIns="-46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1640" y="5078160"/>
              <a:ext cx="15480" cy="1224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2"/>
                  </a:moveTo>
                  <a:lnTo>
                    <a:pt x="4" y="52"/>
                  </a:lnTo>
                  <a:lnTo>
                    <a:pt x="30" y="48"/>
                  </a:lnTo>
                  <a:lnTo>
                    <a:pt x="62" y="16"/>
                  </a:lnTo>
                  <a:lnTo>
                    <a:pt x="84" y="0"/>
                  </a:lnTo>
                  <a:lnTo>
                    <a:pt x="82" y="22"/>
                  </a:lnTo>
                  <a:lnTo>
                    <a:pt x="72" y="40"/>
                  </a:lnTo>
                  <a:lnTo>
                    <a:pt x="52" y="58"/>
                  </a:lnTo>
                  <a:lnTo>
                    <a:pt x="28" y="76"/>
                  </a:lnTo>
                  <a:lnTo>
                    <a:pt x="10" y="80"/>
                  </a:lnTo>
                  <a:lnTo>
                    <a:pt x="0" y="7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480" bIns="-334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11680" y="5004720"/>
              <a:ext cx="16920" cy="900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6" y="4"/>
                  </a:moveTo>
                  <a:lnTo>
                    <a:pt x="14" y="0"/>
                  </a:lnTo>
                  <a:lnTo>
                    <a:pt x="32" y="4"/>
                  </a:lnTo>
                  <a:lnTo>
                    <a:pt x="84" y="0"/>
                  </a:lnTo>
                  <a:lnTo>
                    <a:pt x="94" y="20"/>
                  </a:lnTo>
                  <a:lnTo>
                    <a:pt x="80" y="40"/>
                  </a:lnTo>
                  <a:lnTo>
                    <a:pt x="62" y="50"/>
                  </a:lnTo>
                  <a:lnTo>
                    <a:pt x="14" y="54"/>
                  </a:lnTo>
                  <a:lnTo>
                    <a:pt x="0" y="44"/>
                  </a:lnTo>
                  <a:lnTo>
                    <a:pt x="10" y="26"/>
                  </a:lnTo>
                  <a:lnTo>
                    <a:pt x="6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00880" y="5006160"/>
              <a:ext cx="6120" cy="1044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2" y="42"/>
                  </a:moveTo>
                  <a:lnTo>
                    <a:pt x="0" y="24"/>
                  </a:lnTo>
                  <a:lnTo>
                    <a:pt x="26" y="6"/>
                  </a:lnTo>
                  <a:lnTo>
                    <a:pt x="42" y="0"/>
                  </a:lnTo>
                  <a:lnTo>
                    <a:pt x="40" y="24"/>
                  </a:lnTo>
                  <a:lnTo>
                    <a:pt x="22" y="58"/>
                  </a:lnTo>
                  <a:lnTo>
                    <a:pt x="14" y="46"/>
                  </a:lnTo>
                  <a:lnTo>
                    <a:pt x="2" y="4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83600" y="5004720"/>
              <a:ext cx="12240" cy="1188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0" y="62"/>
                  </a:moveTo>
                  <a:lnTo>
                    <a:pt x="12" y="22"/>
                  </a:lnTo>
                  <a:lnTo>
                    <a:pt x="22" y="8"/>
                  </a:lnTo>
                  <a:lnTo>
                    <a:pt x="28" y="22"/>
                  </a:lnTo>
                  <a:lnTo>
                    <a:pt x="36" y="28"/>
                  </a:lnTo>
                  <a:lnTo>
                    <a:pt x="52" y="4"/>
                  </a:lnTo>
                  <a:lnTo>
                    <a:pt x="66" y="0"/>
                  </a:lnTo>
                  <a:lnTo>
                    <a:pt x="72" y="16"/>
                  </a:lnTo>
                  <a:lnTo>
                    <a:pt x="54" y="46"/>
                  </a:lnTo>
                  <a:lnTo>
                    <a:pt x="42" y="60"/>
                  </a:lnTo>
                  <a:lnTo>
                    <a:pt x="24" y="74"/>
                  </a:lnTo>
                  <a:lnTo>
                    <a:pt x="6" y="72"/>
                  </a:lnTo>
                  <a:lnTo>
                    <a:pt x="0" y="6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96120" y="4998600"/>
              <a:ext cx="79560" cy="29160"/>
            </a:xfrm>
            <a:custGeom>
              <a:avLst/>
              <a:gdLst/>
              <a:ahLst/>
              <a:rect l="l" t="t" r="r" b="b"/>
              <a:pathLst>
                <a:path w="456" h="162">
                  <a:moveTo>
                    <a:pt x="24" y="66"/>
                  </a:moveTo>
                  <a:lnTo>
                    <a:pt x="32" y="66"/>
                  </a:lnTo>
                  <a:lnTo>
                    <a:pt x="46" y="52"/>
                  </a:lnTo>
                  <a:lnTo>
                    <a:pt x="82" y="36"/>
                  </a:lnTo>
                  <a:lnTo>
                    <a:pt x="124" y="26"/>
                  </a:lnTo>
                  <a:lnTo>
                    <a:pt x="136" y="40"/>
                  </a:lnTo>
                  <a:lnTo>
                    <a:pt x="162" y="44"/>
                  </a:lnTo>
                  <a:lnTo>
                    <a:pt x="188" y="52"/>
                  </a:lnTo>
                  <a:lnTo>
                    <a:pt x="200" y="72"/>
                  </a:lnTo>
                  <a:lnTo>
                    <a:pt x="234" y="96"/>
                  </a:lnTo>
                  <a:lnTo>
                    <a:pt x="254" y="82"/>
                  </a:lnTo>
                  <a:lnTo>
                    <a:pt x="316" y="70"/>
                  </a:lnTo>
                  <a:lnTo>
                    <a:pt x="322" y="84"/>
                  </a:lnTo>
                  <a:lnTo>
                    <a:pt x="340" y="94"/>
                  </a:lnTo>
                  <a:lnTo>
                    <a:pt x="366" y="102"/>
                  </a:lnTo>
                  <a:lnTo>
                    <a:pt x="382" y="92"/>
                  </a:lnTo>
                  <a:lnTo>
                    <a:pt x="400" y="68"/>
                  </a:lnTo>
                  <a:lnTo>
                    <a:pt x="410" y="60"/>
                  </a:lnTo>
                  <a:lnTo>
                    <a:pt x="426" y="54"/>
                  </a:lnTo>
                  <a:lnTo>
                    <a:pt x="442" y="40"/>
                  </a:lnTo>
                  <a:lnTo>
                    <a:pt x="442" y="46"/>
                  </a:lnTo>
                  <a:lnTo>
                    <a:pt x="436" y="30"/>
                  </a:lnTo>
                  <a:lnTo>
                    <a:pt x="440" y="0"/>
                  </a:lnTo>
                  <a:lnTo>
                    <a:pt x="454" y="14"/>
                  </a:lnTo>
                  <a:lnTo>
                    <a:pt x="456" y="52"/>
                  </a:lnTo>
                  <a:lnTo>
                    <a:pt x="438" y="82"/>
                  </a:lnTo>
                  <a:lnTo>
                    <a:pt x="416" y="104"/>
                  </a:lnTo>
                  <a:lnTo>
                    <a:pt x="388" y="122"/>
                  </a:lnTo>
                  <a:lnTo>
                    <a:pt x="364" y="130"/>
                  </a:lnTo>
                  <a:lnTo>
                    <a:pt x="334" y="130"/>
                  </a:lnTo>
                  <a:lnTo>
                    <a:pt x="296" y="146"/>
                  </a:lnTo>
                  <a:lnTo>
                    <a:pt x="260" y="142"/>
                  </a:lnTo>
                  <a:lnTo>
                    <a:pt x="234" y="140"/>
                  </a:lnTo>
                  <a:lnTo>
                    <a:pt x="204" y="156"/>
                  </a:lnTo>
                  <a:lnTo>
                    <a:pt x="174" y="162"/>
                  </a:lnTo>
                  <a:lnTo>
                    <a:pt x="148" y="146"/>
                  </a:lnTo>
                  <a:lnTo>
                    <a:pt x="102" y="134"/>
                  </a:lnTo>
                  <a:lnTo>
                    <a:pt x="20" y="136"/>
                  </a:lnTo>
                  <a:lnTo>
                    <a:pt x="6" y="134"/>
                  </a:lnTo>
                  <a:lnTo>
                    <a:pt x="0" y="122"/>
                  </a:lnTo>
                  <a:lnTo>
                    <a:pt x="0" y="94"/>
                  </a:lnTo>
                  <a:lnTo>
                    <a:pt x="6" y="74"/>
                  </a:lnTo>
                  <a:lnTo>
                    <a:pt x="24" y="6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6560" bIns="-165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74160" y="5036760"/>
              <a:ext cx="42120" cy="32040"/>
            </a:xfrm>
            <a:custGeom>
              <a:avLst/>
              <a:gdLst/>
              <a:ahLst/>
              <a:rect l="l" t="t" r="r" b="b"/>
              <a:pathLst>
                <a:path w="238" h="190">
                  <a:moveTo>
                    <a:pt x="136" y="0"/>
                  </a:moveTo>
                  <a:lnTo>
                    <a:pt x="150" y="34"/>
                  </a:lnTo>
                  <a:lnTo>
                    <a:pt x="166" y="36"/>
                  </a:lnTo>
                  <a:lnTo>
                    <a:pt x="172" y="48"/>
                  </a:lnTo>
                  <a:lnTo>
                    <a:pt x="188" y="66"/>
                  </a:lnTo>
                  <a:lnTo>
                    <a:pt x="212" y="84"/>
                  </a:lnTo>
                  <a:lnTo>
                    <a:pt x="234" y="126"/>
                  </a:lnTo>
                  <a:lnTo>
                    <a:pt x="238" y="160"/>
                  </a:lnTo>
                  <a:lnTo>
                    <a:pt x="220" y="178"/>
                  </a:lnTo>
                  <a:lnTo>
                    <a:pt x="190" y="190"/>
                  </a:lnTo>
                  <a:lnTo>
                    <a:pt x="158" y="188"/>
                  </a:lnTo>
                  <a:lnTo>
                    <a:pt x="136" y="146"/>
                  </a:lnTo>
                  <a:lnTo>
                    <a:pt x="108" y="124"/>
                  </a:lnTo>
                  <a:lnTo>
                    <a:pt x="80" y="92"/>
                  </a:lnTo>
                  <a:lnTo>
                    <a:pt x="48" y="94"/>
                  </a:lnTo>
                  <a:lnTo>
                    <a:pt x="16" y="90"/>
                  </a:lnTo>
                  <a:lnTo>
                    <a:pt x="0" y="56"/>
                  </a:lnTo>
                  <a:lnTo>
                    <a:pt x="4" y="30"/>
                  </a:lnTo>
                  <a:lnTo>
                    <a:pt x="22" y="22"/>
                  </a:lnTo>
                  <a:lnTo>
                    <a:pt x="44" y="14"/>
                  </a:lnTo>
                  <a:lnTo>
                    <a:pt x="88" y="12"/>
                  </a:lnTo>
                  <a:lnTo>
                    <a:pt x="108" y="16"/>
                  </a:lnTo>
                  <a:lnTo>
                    <a:pt x="120" y="14"/>
                  </a:lnTo>
                  <a:lnTo>
                    <a:pt x="13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3680" bIns="-136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21240" y="4997160"/>
              <a:ext cx="59400" cy="31680"/>
            </a:xfrm>
            <a:custGeom>
              <a:avLst/>
              <a:gdLst/>
              <a:ahLst/>
              <a:rect l="l" t="t" r="r" b="b"/>
              <a:pathLst>
                <a:path w="338" h="184">
                  <a:moveTo>
                    <a:pt x="46" y="60"/>
                  </a:moveTo>
                  <a:lnTo>
                    <a:pt x="72" y="52"/>
                  </a:lnTo>
                  <a:lnTo>
                    <a:pt x="118" y="66"/>
                  </a:lnTo>
                  <a:lnTo>
                    <a:pt x="138" y="88"/>
                  </a:lnTo>
                  <a:lnTo>
                    <a:pt x="146" y="104"/>
                  </a:lnTo>
                  <a:lnTo>
                    <a:pt x="158" y="114"/>
                  </a:lnTo>
                  <a:lnTo>
                    <a:pt x="170" y="114"/>
                  </a:lnTo>
                  <a:lnTo>
                    <a:pt x="182" y="106"/>
                  </a:lnTo>
                  <a:lnTo>
                    <a:pt x="202" y="100"/>
                  </a:lnTo>
                  <a:lnTo>
                    <a:pt x="200" y="86"/>
                  </a:lnTo>
                  <a:lnTo>
                    <a:pt x="176" y="66"/>
                  </a:lnTo>
                  <a:lnTo>
                    <a:pt x="158" y="44"/>
                  </a:lnTo>
                  <a:lnTo>
                    <a:pt x="156" y="14"/>
                  </a:lnTo>
                  <a:lnTo>
                    <a:pt x="176" y="0"/>
                  </a:lnTo>
                  <a:lnTo>
                    <a:pt x="198" y="18"/>
                  </a:lnTo>
                  <a:lnTo>
                    <a:pt x="214" y="48"/>
                  </a:lnTo>
                  <a:lnTo>
                    <a:pt x="232" y="46"/>
                  </a:lnTo>
                  <a:lnTo>
                    <a:pt x="258" y="38"/>
                  </a:lnTo>
                  <a:lnTo>
                    <a:pt x="274" y="54"/>
                  </a:lnTo>
                  <a:lnTo>
                    <a:pt x="272" y="80"/>
                  </a:lnTo>
                  <a:lnTo>
                    <a:pt x="306" y="38"/>
                  </a:lnTo>
                  <a:lnTo>
                    <a:pt x="318" y="66"/>
                  </a:lnTo>
                  <a:lnTo>
                    <a:pt x="328" y="82"/>
                  </a:lnTo>
                  <a:lnTo>
                    <a:pt x="328" y="104"/>
                  </a:lnTo>
                  <a:lnTo>
                    <a:pt x="338" y="118"/>
                  </a:lnTo>
                  <a:lnTo>
                    <a:pt x="322" y="122"/>
                  </a:lnTo>
                  <a:lnTo>
                    <a:pt x="300" y="114"/>
                  </a:lnTo>
                  <a:lnTo>
                    <a:pt x="296" y="122"/>
                  </a:lnTo>
                  <a:lnTo>
                    <a:pt x="296" y="136"/>
                  </a:lnTo>
                  <a:lnTo>
                    <a:pt x="262" y="142"/>
                  </a:lnTo>
                  <a:lnTo>
                    <a:pt x="238" y="130"/>
                  </a:lnTo>
                  <a:lnTo>
                    <a:pt x="236" y="114"/>
                  </a:lnTo>
                  <a:lnTo>
                    <a:pt x="196" y="140"/>
                  </a:lnTo>
                  <a:lnTo>
                    <a:pt x="156" y="154"/>
                  </a:lnTo>
                  <a:lnTo>
                    <a:pt x="118" y="172"/>
                  </a:lnTo>
                  <a:lnTo>
                    <a:pt x="56" y="184"/>
                  </a:lnTo>
                  <a:lnTo>
                    <a:pt x="26" y="182"/>
                  </a:lnTo>
                  <a:lnTo>
                    <a:pt x="4" y="170"/>
                  </a:lnTo>
                  <a:lnTo>
                    <a:pt x="0" y="150"/>
                  </a:lnTo>
                  <a:lnTo>
                    <a:pt x="2" y="122"/>
                  </a:lnTo>
                  <a:lnTo>
                    <a:pt x="2" y="98"/>
                  </a:lnTo>
                  <a:lnTo>
                    <a:pt x="38" y="74"/>
                  </a:lnTo>
                  <a:lnTo>
                    <a:pt x="46" y="6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040" bIns="-14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9280" y="5001840"/>
              <a:ext cx="21600" cy="2268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28" y="44"/>
                  </a:moveTo>
                  <a:lnTo>
                    <a:pt x="38" y="32"/>
                  </a:lnTo>
                  <a:lnTo>
                    <a:pt x="50" y="24"/>
                  </a:lnTo>
                  <a:lnTo>
                    <a:pt x="72" y="2"/>
                  </a:lnTo>
                  <a:lnTo>
                    <a:pt x="100" y="0"/>
                  </a:lnTo>
                  <a:lnTo>
                    <a:pt x="120" y="18"/>
                  </a:lnTo>
                  <a:lnTo>
                    <a:pt x="120" y="58"/>
                  </a:lnTo>
                  <a:lnTo>
                    <a:pt x="104" y="94"/>
                  </a:lnTo>
                  <a:lnTo>
                    <a:pt x="98" y="128"/>
                  </a:lnTo>
                  <a:lnTo>
                    <a:pt x="80" y="134"/>
                  </a:lnTo>
                  <a:lnTo>
                    <a:pt x="20" y="132"/>
                  </a:lnTo>
                  <a:lnTo>
                    <a:pt x="0" y="120"/>
                  </a:lnTo>
                  <a:lnTo>
                    <a:pt x="4" y="96"/>
                  </a:lnTo>
                  <a:lnTo>
                    <a:pt x="22" y="86"/>
                  </a:lnTo>
                  <a:lnTo>
                    <a:pt x="26" y="66"/>
                  </a:lnTo>
                  <a:lnTo>
                    <a:pt x="28" y="4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3040" bIns="-23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7960" y="4995360"/>
              <a:ext cx="26280" cy="24480"/>
            </a:xfrm>
            <a:custGeom>
              <a:avLst/>
              <a:gdLst/>
              <a:ahLst/>
              <a:rect l="l" t="t" r="r" b="b"/>
              <a:pathLst>
                <a:path w="154" h="142">
                  <a:moveTo>
                    <a:pt x="70" y="8"/>
                  </a:moveTo>
                  <a:lnTo>
                    <a:pt x="76" y="8"/>
                  </a:lnTo>
                  <a:lnTo>
                    <a:pt x="96" y="0"/>
                  </a:lnTo>
                  <a:lnTo>
                    <a:pt x="120" y="8"/>
                  </a:lnTo>
                  <a:lnTo>
                    <a:pt x="144" y="24"/>
                  </a:lnTo>
                  <a:lnTo>
                    <a:pt x="154" y="48"/>
                  </a:lnTo>
                  <a:lnTo>
                    <a:pt x="154" y="74"/>
                  </a:lnTo>
                  <a:lnTo>
                    <a:pt x="106" y="106"/>
                  </a:lnTo>
                  <a:lnTo>
                    <a:pt x="86" y="142"/>
                  </a:lnTo>
                  <a:lnTo>
                    <a:pt x="84" y="124"/>
                  </a:lnTo>
                  <a:lnTo>
                    <a:pt x="70" y="90"/>
                  </a:lnTo>
                  <a:lnTo>
                    <a:pt x="50" y="66"/>
                  </a:lnTo>
                  <a:lnTo>
                    <a:pt x="10" y="58"/>
                  </a:lnTo>
                  <a:lnTo>
                    <a:pt x="0" y="46"/>
                  </a:lnTo>
                  <a:lnTo>
                    <a:pt x="0" y="12"/>
                  </a:lnTo>
                  <a:lnTo>
                    <a:pt x="6" y="0"/>
                  </a:lnTo>
                  <a:lnTo>
                    <a:pt x="70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240" bIns="-21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27280" y="4957200"/>
              <a:ext cx="31320" cy="11880"/>
            </a:xfrm>
            <a:custGeom>
              <a:avLst/>
              <a:gdLst/>
              <a:ahLst/>
              <a:rect l="l" t="t" r="r" b="b"/>
              <a:pathLst>
                <a:path w="180" h="70">
                  <a:moveTo>
                    <a:pt x="2" y="14"/>
                  </a:moveTo>
                  <a:lnTo>
                    <a:pt x="10" y="16"/>
                  </a:lnTo>
                  <a:lnTo>
                    <a:pt x="32" y="2"/>
                  </a:lnTo>
                  <a:lnTo>
                    <a:pt x="52" y="0"/>
                  </a:lnTo>
                  <a:lnTo>
                    <a:pt x="146" y="6"/>
                  </a:lnTo>
                  <a:lnTo>
                    <a:pt x="170" y="2"/>
                  </a:lnTo>
                  <a:lnTo>
                    <a:pt x="180" y="38"/>
                  </a:lnTo>
                  <a:lnTo>
                    <a:pt x="166" y="46"/>
                  </a:lnTo>
                  <a:lnTo>
                    <a:pt x="136" y="54"/>
                  </a:lnTo>
                  <a:lnTo>
                    <a:pt x="98" y="70"/>
                  </a:lnTo>
                  <a:lnTo>
                    <a:pt x="18" y="56"/>
                  </a:lnTo>
                  <a:lnTo>
                    <a:pt x="4" y="46"/>
                  </a:lnTo>
                  <a:lnTo>
                    <a:pt x="0" y="30"/>
                  </a:lnTo>
                  <a:lnTo>
                    <a:pt x="2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89920" y="4955760"/>
              <a:ext cx="7560" cy="75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2" y="0"/>
                  </a:moveTo>
                  <a:lnTo>
                    <a:pt x="36" y="0"/>
                  </a:lnTo>
                  <a:lnTo>
                    <a:pt x="46" y="8"/>
                  </a:lnTo>
                  <a:lnTo>
                    <a:pt x="46" y="22"/>
                  </a:lnTo>
                  <a:lnTo>
                    <a:pt x="12" y="42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74400" y="4745520"/>
              <a:ext cx="21240" cy="1224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8" y="12"/>
                  </a:moveTo>
                  <a:lnTo>
                    <a:pt x="2" y="12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128" y="56"/>
                  </a:lnTo>
                  <a:lnTo>
                    <a:pt x="88" y="64"/>
                  </a:lnTo>
                  <a:lnTo>
                    <a:pt x="70" y="74"/>
                  </a:lnTo>
                  <a:lnTo>
                    <a:pt x="50" y="58"/>
                  </a:lnTo>
                  <a:lnTo>
                    <a:pt x="30" y="48"/>
                  </a:lnTo>
                  <a:lnTo>
                    <a:pt x="12" y="44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480" bIns="-334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81960" y="4771440"/>
              <a:ext cx="7560" cy="13680"/>
            </a:xfrm>
            <a:custGeom>
              <a:avLst/>
              <a:gdLst/>
              <a:ahLst/>
              <a:rect l="l" t="t" r="r" b="b"/>
              <a:pathLst>
                <a:path w="44" h="72">
                  <a:moveTo>
                    <a:pt x="0" y="16"/>
                  </a:moveTo>
                  <a:lnTo>
                    <a:pt x="30" y="0"/>
                  </a:lnTo>
                  <a:lnTo>
                    <a:pt x="42" y="10"/>
                  </a:lnTo>
                  <a:lnTo>
                    <a:pt x="44" y="68"/>
                  </a:lnTo>
                  <a:lnTo>
                    <a:pt x="28" y="72"/>
                  </a:lnTo>
                  <a:lnTo>
                    <a:pt x="16" y="64"/>
                  </a:lnTo>
                  <a:lnTo>
                    <a:pt x="0" y="1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8200" y="4799520"/>
              <a:ext cx="15840" cy="1044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26"/>
                  </a:moveTo>
                  <a:lnTo>
                    <a:pt x="14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56" y="0"/>
                  </a:lnTo>
                  <a:lnTo>
                    <a:pt x="74" y="0"/>
                  </a:lnTo>
                  <a:lnTo>
                    <a:pt x="86" y="22"/>
                  </a:lnTo>
                  <a:lnTo>
                    <a:pt x="84" y="36"/>
                  </a:lnTo>
                  <a:lnTo>
                    <a:pt x="86" y="54"/>
                  </a:lnTo>
                  <a:lnTo>
                    <a:pt x="64" y="66"/>
                  </a:lnTo>
                  <a:lnTo>
                    <a:pt x="36" y="70"/>
                  </a:lnTo>
                  <a:lnTo>
                    <a:pt x="4" y="40"/>
                  </a:lnTo>
                  <a:lnTo>
                    <a:pt x="0" y="2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10320" y="4834440"/>
              <a:ext cx="73080" cy="35280"/>
            </a:xfrm>
            <a:custGeom>
              <a:avLst/>
              <a:gdLst/>
              <a:ahLst/>
              <a:rect l="l" t="t" r="r" b="b"/>
              <a:pathLst>
                <a:path w="418" h="206">
                  <a:moveTo>
                    <a:pt x="8" y="132"/>
                  </a:moveTo>
                  <a:lnTo>
                    <a:pt x="2" y="122"/>
                  </a:lnTo>
                  <a:lnTo>
                    <a:pt x="0" y="78"/>
                  </a:lnTo>
                  <a:lnTo>
                    <a:pt x="8" y="56"/>
                  </a:lnTo>
                  <a:lnTo>
                    <a:pt x="22" y="46"/>
                  </a:lnTo>
                  <a:lnTo>
                    <a:pt x="34" y="24"/>
                  </a:lnTo>
                  <a:lnTo>
                    <a:pt x="50" y="6"/>
                  </a:lnTo>
                  <a:lnTo>
                    <a:pt x="116" y="16"/>
                  </a:lnTo>
                  <a:lnTo>
                    <a:pt x="146" y="12"/>
                  </a:lnTo>
                  <a:lnTo>
                    <a:pt x="172" y="4"/>
                  </a:lnTo>
                  <a:lnTo>
                    <a:pt x="186" y="16"/>
                  </a:lnTo>
                  <a:lnTo>
                    <a:pt x="236" y="0"/>
                  </a:lnTo>
                  <a:lnTo>
                    <a:pt x="262" y="14"/>
                  </a:lnTo>
                  <a:lnTo>
                    <a:pt x="286" y="38"/>
                  </a:lnTo>
                  <a:lnTo>
                    <a:pt x="306" y="42"/>
                  </a:lnTo>
                  <a:lnTo>
                    <a:pt x="330" y="42"/>
                  </a:lnTo>
                  <a:lnTo>
                    <a:pt x="350" y="36"/>
                  </a:lnTo>
                  <a:lnTo>
                    <a:pt x="374" y="48"/>
                  </a:lnTo>
                  <a:lnTo>
                    <a:pt x="388" y="104"/>
                  </a:lnTo>
                  <a:lnTo>
                    <a:pt x="398" y="120"/>
                  </a:lnTo>
                  <a:lnTo>
                    <a:pt x="418" y="130"/>
                  </a:lnTo>
                  <a:lnTo>
                    <a:pt x="418" y="174"/>
                  </a:lnTo>
                  <a:lnTo>
                    <a:pt x="406" y="206"/>
                  </a:lnTo>
                  <a:lnTo>
                    <a:pt x="388" y="188"/>
                  </a:lnTo>
                  <a:lnTo>
                    <a:pt x="282" y="108"/>
                  </a:lnTo>
                  <a:lnTo>
                    <a:pt x="256" y="102"/>
                  </a:lnTo>
                  <a:lnTo>
                    <a:pt x="232" y="102"/>
                  </a:lnTo>
                  <a:lnTo>
                    <a:pt x="232" y="116"/>
                  </a:lnTo>
                  <a:lnTo>
                    <a:pt x="218" y="120"/>
                  </a:lnTo>
                  <a:lnTo>
                    <a:pt x="188" y="118"/>
                  </a:lnTo>
                  <a:lnTo>
                    <a:pt x="162" y="114"/>
                  </a:lnTo>
                  <a:lnTo>
                    <a:pt x="142" y="86"/>
                  </a:lnTo>
                  <a:lnTo>
                    <a:pt x="118" y="98"/>
                  </a:lnTo>
                  <a:lnTo>
                    <a:pt x="110" y="118"/>
                  </a:lnTo>
                  <a:lnTo>
                    <a:pt x="88" y="124"/>
                  </a:lnTo>
                  <a:lnTo>
                    <a:pt x="62" y="110"/>
                  </a:lnTo>
                  <a:lnTo>
                    <a:pt x="36" y="70"/>
                  </a:lnTo>
                  <a:lnTo>
                    <a:pt x="30" y="80"/>
                  </a:lnTo>
                  <a:lnTo>
                    <a:pt x="8" y="13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440" bIns="-104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86760" y="4687560"/>
              <a:ext cx="157680" cy="235800"/>
            </a:xfrm>
            <a:custGeom>
              <a:avLst/>
              <a:gdLst/>
              <a:ahLst/>
              <a:rect l="l" t="t" r="r" b="b"/>
              <a:pathLst>
                <a:path w="910" h="1374">
                  <a:moveTo>
                    <a:pt x="324" y="76"/>
                  </a:moveTo>
                  <a:lnTo>
                    <a:pt x="372" y="80"/>
                  </a:lnTo>
                  <a:lnTo>
                    <a:pt x="376" y="100"/>
                  </a:lnTo>
                  <a:lnTo>
                    <a:pt x="394" y="118"/>
                  </a:lnTo>
                  <a:lnTo>
                    <a:pt x="414" y="122"/>
                  </a:lnTo>
                  <a:lnTo>
                    <a:pt x="436" y="116"/>
                  </a:lnTo>
                  <a:lnTo>
                    <a:pt x="452" y="116"/>
                  </a:lnTo>
                  <a:lnTo>
                    <a:pt x="472" y="118"/>
                  </a:lnTo>
                  <a:lnTo>
                    <a:pt x="488" y="124"/>
                  </a:lnTo>
                  <a:lnTo>
                    <a:pt x="512" y="124"/>
                  </a:lnTo>
                  <a:lnTo>
                    <a:pt x="536" y="132"/>
                  </a:lnTo>
                  <a:lnTo>
                    <a:pt x="546" y="146"/>
                  </a:lnTo>
                  <a:lnTo>
                    <a:pt x="576" y="158"/>
                  </a:lnTo>
                  <a:lnTo>
                    <a:pt x="590" y="156"/>
                  </a:lnTo>
                  <a:lnTo>
                    <a:pt x="608" y="144"/>
                  </a:lnTo>
                  <a:lnTo>
                    <a:pt x="630" y="140"/>
                  </a:lnTo>
                  <a:lnTo>
                    <a:pt x="726" y="156"/>
                  </a:lnTo>
                  <a:lnTo>
                    <a:pt x="762" y="144"/>
                  </a:lnTo>
                  <a:lnTo>
                    <a:pt x="816" y="72"/>
                  </a:lnTo>
                  <a:lnTo>
                    <a:pt x="836" y="54"/>
                  </a:lnTo>
                  <a:lnTo>
                    <a:pt x="856" y="18"/>
                  </a:lnTo>
                  <a:lnTo>
                    <a:pt x="882" y="0"/>
                  </a:lnTo>
                  <a:lnTo>
                    <a:pt x="898" y="2"/>
                  </a:lnTo>
                  <a:lnTo>
                    <a:pt x="904" y="12"/>
                  </a:lnTo>
                  <a:lnTo>
                    <a:pt x="910" y="40"/>
                  </a:lnTo>
                  <a:lnTo>
                    <a:pt x="908" y="66"/>
                  </a:lnTo>
                  <a:lnTo>
                    <a:pt x="896" y="98"/>
                  </a:lnTo>
                  <a:lnTo>
                    <a:pt x="854" y="158"/>
                  </a:lnTo>
                  <a:lnTo>
                    <a:pt x="828" y="204"/>
                  </a:lnTo>
                  <a:lnTo>
                    <a:pt x="804" y="234"/>
                  </a:lnTo>
                  <a:lnTo>
                    <a:pt x="776" y="256"/>
                  </a:lnTo>
                  <a:lnTo>
                    <a:pt x="742" y="256"/>
                  </a:lnTo>
                  <a:lnTo>
                    <a:pt x="710" y="264"/>
                  </a:lnTo>
                  <a:lnTo>
                    <a:pt x="652" y="266"/>
                  </a:lnTo>
                  <a:lnTo>
                    <a:pt x="624" y="242"/>
                  </a:lnTo>
                  <a:lnTo>
                    <a:pt x="582" y="230"/>
                  </a:lnTo>
                  <a:lnTo>
                    <a:pt x="538" y="230"/>
                  </a:lnTo>
                  <a:lnTo>
                    <a:pt x="474" y="238"/>
                  </a:lnTo>
                  <a:lnTo>
                    <a:pt x="440" y="246"/>
                  </a:lnTo>
                  <a:lnTo>
                    <a:pt x="420" y="230"/>
                  </a:lnTo>
                  <a:lnTo>
                    <a:pt x="398" y="230"/>
                  </a:lnTo>
                  <a:lnTo>
                    <a:pt x="388" y="238"/>
                  </a:lnTo>
                  <a:lnTo>
                    <a:pt x="362" y="226"/>
                  </a:lnTo>
                  <a:lnTo>
                    <a:pt x="350" y="230"/>
                  </a:lnTo>
                  <a:lnTo>
                    <a:pt x="328" y="246"/>
                  </a:lnTo>
                  <a:lnTo>
                    <a:pt x="296" y="244"/>
                  </a:lnTo>
                  <a:lnTo>
                    <a:pt x="266" y="238"/>
                  </a:lnTo>
                  <a:lnTo>
                    <a:pt x="236" y="238"/>
                  </a:lnTo>
                  <a:lnTo>
                    <a:pt x="214" y="272"/>
                  </a:lnTo>
                  <a:lnTo>
                    <a:pt x="192" y="318"/>
                  </a:lnTo>
                  <a:lnTo>
                    <a:pt x="186" y="364"/>
                  </a:lnTo>
                  <a:lnTo>
                    <a:pt x="188" y="464"/>
                  </a:lnTo>
                  <a:lnTo>
                    <a:pt x="204" y="492"/>
                  </a:lnTo>
                  <a:lnTo>
                    <a:pt x="232" y="506"/>
                  </a:lnTo>
                  <a:lnTo>
                    <a:pt x="270" y="584"/>
                  </a:lnTo>
                  <a:lnTo>
                    <a:pt x="326" y="580"/>
                  </a:lnTo>
                  <a:lnTo>
                    <a:pt x="334" y="560"/>
                  </a:lnTo>
                  <a:lnTo>
                    <a:pt x="354" y="534"/>
                  </a:lnTo>
                  <a:lnTo>
                    <a:pt x="376" y="502"/>
                  </a:lnTo>
                  <a:lnTo>
                    <a:pt x="404" y="486"/>
                  </a:lnTo>
                  <a:lnTo>
                    <a:pt x="428" y="496"/>
                  </a:lnTo>
                  <a:lnTo>
                    <a:pt x="438" y="496"/>
                  </a:lnTo>
                  <a:lnTo>
                    <a:pt x="460" y="504"/>
                  </a:lnTo>
                  <a:lnTo>
                    <a:pt x="472" y="476"/>
                  </a:lnTo>
                  <a:lnTo>
                    <a:pt x="514" y="470"/>
                  </a:lnTo>
                  <a:lnTo>
                    <a:pt x="572" y="472"/>
                  </a:lnTo>
                  <a:lnTo>
                    <a:pt x="578" y="442"/>
                  </a:lnTo>
                  <a:lnTo>
                    <a:pt x="620" y="424"/>
                  </a:lnTo>
                  <a:lnTo>
                    <a:pt x="648" y="426"/>
                  </a:lnTo>
                  <a:lnTo>
                    <a:pt x="664" y="452"/>
                  </a:lnTo>
                  <a:lnTo>
                    <a:pt x="660" y="492"/>
                  </a:lnTo>
                  <a:lnTo>
                    <a:pt x="644" y="514"/>
                  </a:lnTo>
                  <a:lnTo>
                    <a:pt x="610" y="492"/>
                  </a:lnTo>
                  <a:lnTo>
                    <a:pt x="580" y="502"/>
                  </a:lnTo>
                  <a:lnTo>
                    <a:pt x="524" y="586"/>
                  </a:lnTo>
                  <a:lnTo>
                    <a:pt x="500" y="616"/>
                  </a:lnTo>
                  <a:lnTo>
                    <a:pt x="460" y="640"/>
                  </a:lnTo>
                  <a:lnTo>
                    <a:pt x="440" y="646"/>
                  </a:lnTo>
                  <a:lnTo>
                    <a:pt x="412" y="668"/>
                  </a:lnTo>
                  <a:lnTo>
                    <a:pt x="398" y="672"/>
                  </a:lnTo>
                  <a:lnTo>
                    <a:pt x="364" y="658"/>
                  </a:lnTo>
                  <a:lnTo>
                    <a:pt x="366" y="692"/>
                  </a:lnTo>
                  <a:lnTo>
                    <a:pt x="402" y="722"/>
                  </a:lnTo>
                  <a:lnTo>
                    <a:pt x="472" y="856"/>
                  </a:lnTo>
                  <a:lnTo>
                    <a:pt x="486" y="862"/>
                  </a:lnTo>
                  <a:lnTo>
                    <a:pt x="494" y="898"/>
                  </a:lnTo>
                  <a:lnTo>
                    <a:pt x="510" y="922"/>
                  </a:lnTo>
                  <a:lnTo>
                    <a:pt x="498" y="944"/>
                  </a:lnTo>
                  <a:lnTo>
                    <a:pt x="480" y="952"/>
                  </a:lnTo>
                  <a:lnTo>
                    <a:pt x="474" y="980"/>
                  </a:lnTo>
                  <a:lnTo>
                    <a:pt x="478" y="1000"/>
                  </a:lnTo>
                  <a:lnTo>
                    <a:pt x="508" y="1030"/>
                  </a:lnTo>
                  <a:lnTo>
                    <a:pt x="520" y="1052"/>
                  </a:lnTo>
                  <a:lnTo>
                    <a:pt x="518" y="1084"/>
                  </a:lnTo>
                  <a:lnTo>
                    <a:pt x="534" y="1098"/>
                  </a:lnTo>
                  <a:lnTo>
                    <a:pt x="554" y="1092"/>
                  </a:lnTo>
                  <a:lnTo>
                    <a:pt x="558" y="1122"/>
                  </a:lnTo>
                  <a:lnTo>
                    <a:pt x="550" y="1136"/>
                  </a:lnTo>
                  <a:lnTo>
                    <a:pt x="538" y="1152"/>
                  </a:lnTo>
                  <a:lnTo>
                    <a:pt x="500" y="1150"/>
                  </a:lnTo>
                  <a:lnTo>
                    <a:pt x="460" y="1162"/>
                  </a:lnTo>
                  <a:lnTo>
                    <a:pt x="442" y="1206"/>
                  </a:lnTo>
                  <a:lnTo>
                    <a:pt x="414" y="1228"/>
                  </a:lnTo>
                  <a:lnTo>
                    <a:pt x="374" y="1224"/>
                  </a:lnTo>
                  <a:lnTo>
                    <a:pt x="364" y="1186"/>
                  </a:lnTo>
                  <a:lnTo>
                    <a:pt x="364" y="1138"/>
                  </a:lnTo>
                  <a:lnTo>
                    <a:pt x="376" y="1096"/>
                  </a:lnTo>
                  <a:lnTo>
                    <a:pt x="364" y="1070"/>
                  </a:lnTo>
                  <a:lnTo>
                    <a:pt x="336" y="1040"/>
                  </a:lnTo>
                  <a:lnTo>
                    <a:pt x="308" y="1004"/>
                  </a:lnTo>
                  <a:lnTo>
                    <a:pt x="292" y="954"/>
                  </a:lnTo>
                  <a:lnTo>
                    <a:pt x="316" y="902"/>
                  </a:lnTo>
                  <a:lnTo>
                    <a:pt x="318" y="864"/>
                  </a:lnTo>
                  <a:lnTo>
                    <a:pt x="314" y="836"/>
                  </a:lnTo>
                  <a:lnTo>
                    <a:pt x="308" y="814"/>
                  </a:lnTo>
                  <a:lnTo>
                    <a:pt x="276" y="810"/>
                  </a:lnTo>
                  <a:lnTo>
                    <a:pt x="240" y="834"/>
                  </a:lnTo>
                  <a:lnTo>
                    <a:pt x="212" y="864"/>
                  </a:lnTo>
                  <a:lnTo>
                    <a:pt x="196" y="908"/>
                  </a:lnTo>
                  <a:lnTo>
                    <a:pt x="214" y="954"/>
                  </a:lnTo>
                  <a:lnTo>
                    <a:pt x="212" y="1000"/>
                  </a:lnTo>
                  <a:lnTo>
                    <a:pt x="200" y="1172"/>
                  </a:lnTo>
                  <a:lnTo>
                    <a:pt x="208" y="1204"/>
                  </a:lnTo>
                  <a:lnTo>
                    <a:pt x="188" y="1252"/>
                  </a:lnTo>
                  <a:lnTo>
                    <a:pt x="188" y="1304"/>
                  </a:lnTo>
                  <a:lnTo>
                    <a:pt x="196" y="1352"/>
                  </a:lnTo>
                  <a:lnTo>
                    <a:pt x="186" y="1360"/>
                  </a:lnTo>
                  <a:lnTo>
                    <a:pt x="150" y="1364"/>
                  </a:lnTo>
                  <a:lnTo>
                    <a:pt x="116" y="1374"/>
                  </a:lnTo>
                  <a:lnTo>
                    <a:pt x="82" y="1370"/>
                  </a:lnTo>
                  <a:lnTo>
                    <a:pt x="60" y="1356"/>
                  </a:lnTo>
                  <a:lnTo>
                    <a:pt x="48" y="1304"/>
                  </a:lnTo>
                  <a:lnTo>
                    <a:pt x="72" y="1234"/>
                  </a:lnTo>
                  <a:lnTo>
                    <a:pt x="78" y="1192"/>
                  </a:lnTo>
                  <a:lnTo>
                    <a:pt x="102" y="1076"/>
                  </a:lnTo>
                  <a:lnTo>
                    <a:pt x="96" y="1056"/>
                  </a:lnTo>
                  <a:lnTo>
                    <a:pt x="86" y="964"/>
                  </a:lnTo>
                  <a:lnTo>
                    <a:pt x="54" y="966"/>
                  </a:lnTo>
                  <a:lnTo>
                    <a:pt x="24" y="972"/>
                  </a:lnTo>
                  <a:lnTo>
                    <a:pt x="2" y="926"/>
                  </a:lnTo>
                  <a:lnTo>
                    <a:pt x="0" y="882"/>
                  </a:lnTo>
                  <a:lnTo>
                    <a:pt x="4" y="816"/>
                  </a:lnTo>
                  <a:lnTo>
                    <a:pt x="34" y="772"/>
                  </a:lnTo>
                  <a:lnTo>
                    <a:pt x="54" y="714"/>
                  </a:lnTo>
                  <a:lnTo>
                    <a:pt x="74" y="666"/>
                  </a:lnTo>
                  <a:lnTo>
                    <a:pt x="74" y="564"/>
                  </a:lnTo>
                  <a:lnTo>
                    <a:pt x="104" y="490"/>
                  </a:lnTo>
                  <a:lnTo>
                    <a:pt x="124" y="466"/>
                  </a:lnTo>
                  <a:lnTo>
                    <a:pt x="138" y="434"/>
                  </a:lnTo>
                  <a:lnTo>
                    <a:pt x="144" y="468"/>
                  </a:lnTo>
                  <a:lnTo>
                    <a:pt x="150" y="430"/>
                  </a:lnTo>
                  <a:lnTo>
                    <a:pt x="148" y="356"/>
                  </a:lnTo>
                  <a:lnTo>
                    <a:pt x="130" y="330"/>
                  </a:lnTo>
                  <a:lnTo>
                    <a:pt x="136" y="332"/>
                  </a:lnTo>
                  <a:lnTo>
                    <a:pt x="154" y="296"/>
                  </a:lnTo>
                  <a:lnTo>
                    <a:pt x="154" y="274"/>
                  </a:lnTo>
                  <a:lnTo>
                    <a:pt x="160" y="236"/>
                  </a:lnTo>
                  <a:lnTo>
                    <a:pt x="174" y="196"/>
                  </a:lnTo>
                  <a:lnTo>
                    <a:pt x="202" y="156"/>
                  </a:lnTo>
                  <a:lnTo>
                    <a:pt x="214" y="156"/>
                  </a:lnTo>
                  <a:lnTo>
                    <a:pt x="234" y="176"/>
                  </a:lnTo>
                  <a:lnTo>
                    <a:pt x="252" y="172"/>
                  </a:lnTo>
                  <a:lnTo>
                    <a:pt x="276" y="136"/>
                  </a:lnTo>
                  <a:lnTo>
                    <a:pt x="282" y="94"/>
                  </a:lnTo>
                  <a:lnTo>
                    <a:pt x="298" y="80"/>
                  </a:lnTo>
                  <a:lnTo>
                    <a:pt x="324" y="7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57320" y="4905000"/>
              <a:ext cx="4320" cy="104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0" y="14"/>
                  </a:moveTo>
                  <a:lnTo>
                    <a:pt x="2" y="6"/>
                  </a:lnTo>
                  <a:lnTo>
                    <a:pt x="12" y="0"/>
                  </a:lnTo>
                  <a:lnTo>
                    <a:pt x="24" y="2"/>
                  </a:lnTo>
                  <a:lnTo>
                    <a:pt x="34" y="22"/>
                  </a:lnTo>
                  <a:lnTo>
                    <a:pt x="30" y="54"/>
                  </a:lnTo>
                  <a:lnTo>
                    <a:pt x="18" y="60"/>
                  </a:lnTo>
                  <a:lnTo>
                    <a:pt x="4" y="40"/>
                  </a:lnTo>
                  <a:lnTo>
                    <a:pt x="0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67760" y="4891320"/>
              <a:ext cx="10800" cy="23040"/>
            </a:xfrm>
            <a:custGeom>
              <a:avLst/>
              <a:gdLst/>
              <a:ahLst/>
              <a:rect l="l" t="t" r="r" b="b"/>
              <a:pathLst>
                <a:path w="64" h="138">
                  <a:moveTo>
                    <a:pt x="14" y="14"/>
                  </a:moveTo>
                  <a:lnTo>
                    <a:pt x="34" y="14"/>
                  </a:lnTo>
                  <a:lnTo>
                    <a:pt x="50" y="0"/>
                  </a:lnTo>
                  <a:lnTo>
                    <a:pt x="62" y="6"/>
                  </a:lnTo>
                  <a:lnTo>
                    <a:pt x="64" y="58"/>
                  </a:lnTo>
                  <a:lnTo>
                    <a:pt x="62" y="78"/>
                  </a:lnTo>
                  <a:lnTo>
                    <a:pt x="52" y="104"/>
                  </a:lnTo>
                  <a:lnTo>
                    <a:pt x="44" y="138"/>
                  </a:lnTo>
                  <a:lnTo>
                    <a:pt x="38" y="126"/>
                  </a:lnTo>
                  <a:lnTo>
                    <a:pt x="20" y="138"/>
                  </a:lnTo>
                  <a:lnTo>
                    <a:pt x="0" y="130"/>
                  </a:lnTo>
                  <a:lnTo>
                    <a:pt x="4" y="88"/>
                  </a:lnTo>
                  <a:lnTo>
                    <a:pt x="14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2680" bIns="-226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76040" y="4881960"/>
              <a:ext cx="13680" cy="42480"/>
            </a:xfrm>
            <a:custGeom>
              <a:avLst/>
              <a:gdLst/>
              <a:ahLst/>
              <a:rect l="l" t="t" r="r" b="b"/>
              <a:pathLst>
                <a:path w="86" h="244">
                  <a:moveTo>
                    <a:pt x="26" y="118"/>
                  </a:moveTo>
                  <a:lnTo>
                    <a:pt x="34" y="110"/>
                  </a:lnTo>
                  <a:lnTo>
                    <a:pt x="42" y="30"/>
                  </a:lnTo>
                  <a:lnTo>
                    <a:pt x="50" y="20"/>
                  </a:lnTo>
                  <a:lnTo>
                    <a:pt x="60" y="0"/>
                  </a:lnTo>
                  <a:lnTo>
                    <a:pt x="68" y="12"/>
                  </a:lnTo>
                  <a:lnTo>
                    <a:pt x="80" y="42"/>
                  </a:lnTo>
                  <a:lnTo>
                    <a:pt x="86" y="74"/>
                  </a:lnTo>
                  <a:lnTo>
                    <a:pt x="80" y="70"/>
                  </a:lnTo>
                  <a:lnTo>
                    <a:pt x="64" y="94"/>
                  </a:lnTo>
                  <a:lnTo>
                    <a:pt x="58" y="114"/>
                  </a:lnTo>
                  <a:lnTo>
                    <a:pt x="58" y="130"/>
                  </a:lnTo>
                  <a:lnTo>
                    <a:pt x="70" y="140"/>
                  </a:lnTo>
                  <a:lnTo>
                    <a:pt x="76" y="164"/>
                  </a:lnTo>
                  <a:lnTo>
                    <a:pt x="74" y="190"/>
                  </a:lnTo>
                  <a:lnTo>
                    <a:pt x="56" y="202"/>
                  </a:lnTo>
                  <a:lnTo>
                    <a:pt x="16" y="244"/>
                  </a:lnTo>
                  <a:lnTo>
                    <a:pt x="0" y="224"/>
                  </a:lnTo>
                  <a:lnTo>
                    <a:pt x="2" y="202"/>
                  </a:lnTo>
                  <a:lnTo>
                    <a:pt x="8" y="172"/>
                  </a:lnTo>
                  <a:lnTo>
                    <a:pt x="18" y="152"/>
                  </a:lnTo>
                  <a:lnTo>
                    <a:pt x="26" y="1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" bIns="-3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88280" y="4870080"/>
              <a:ext cx="4320" cy="900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4" y="10"/>
                  </a:moveTo>
                  <a:lnTo>
                    <a:pt x="10" y="0"/>
                  </a:lnTo>
                  <a:lnTo>
                    <a:pt x="14" y="6"/>
                  </a:lnTo>
                  <a:lnTo>
                    <a:pt x="26" y="12"/>
                  </a:lnTo>
                  <a:lnTo>
                    <a:pt x="32" y="28"/>
                  </a:lnTo>
                  <a:lnTo>
                    <a:pt x="26" y="50"/>
                  </a:lnTo>
                  <a:lnTo>
                    <a:pt x="14" y="52"/>
                  </a:lnTo>
                  <a:lnTo>
                    <a:pt x="4" y="42"/>
                  </a:lnTo>
                  <a:lnTo>
                    <a:pt x="0" y="14"/>
                  </a:lnTo>
                  <a:lnTo>
                    <a:pt x="4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85040" y="4779360"/>
              <a:ext cx="10800" cy="13680"/>
            </a:xfrm>
            <a:custGeom>
              <a:avLst/>
              <a:gdLst/>
              <a:ahLst/>
              <a:rect l="l" t="t" r="r" b="b"/>
              <a:pathLst>
                <a:path w="56" h="76">
                  <a:moveTo>
                    <a:pt x="36" y="0"/>
                  </a:moveTo>
                  <a:lnTo>
                    <a:pt x="52" y="2"/>
                  </a:lnTo>
                  <a:lnTo>
                    <a:pt x="56" y="10"/>
                  </a:lnTo>
                  <a:lnTo>
                    <a:pt x="50" y="30"/>
                  </a:lnTo>
                  <a:lnTo>
                    <a:pt x="26" y="76"/>
                  </a:lnTo>
                  <a:lnTo>
                    <a:pt x="6" y="74"/>
                  </a:lnTo>
                  <a:lnTo>
                    <a:pt x="0" y="42"/>
                  </a:lnTo>
                  <a:lnTo>
                    <a:pt x="6" y="26"/>
                  </a:lnTo>
                  <a:lnTo>
                    <a:pt x="16" y="14"/>
                  </a:lnTo>
                  <a:lnTo>
                    <a:pt x="3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4400" y="4782240"/>
              <a:ext cx="9360" cy="1044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" y="24"/>
                  </a:moveTo>
                  <a:lnTo>
                    <a:pt x="16" y="4"/>
                  </a:lnTo>
                  <a:lnTo>
                    <a:pt x="28" y="0"/>
                  </a:lnTo>
                  <a:lnTo>
                    <a:pt x="44" y="4"/>
                  </a:lnTo>
                  <a:lnTo>
                    <a:pt x="48" y="12"/>
                  </a:lnTo>
                  <a:lnTo>
                    <a:pt x="46" y="38"/>
                  </a:lnTo>
                  <a:lnTo>
                    <a:pt x="36" y="58"/>
                  </a:lnTo>
                  <a:lnTo>
                    <a:pt x="18" y="46"/>
                  </a:lnTo>
                  <a:lnTo>
                    <a:pt x="10" y="64"/>
                  </a:lnTo>
                  <a:lnTo>
                    <a:pt x="2" y="50"/>
                  </a:lnTo>
                  <a:lnTo>
                    <a:pt x="0" y="30"/>
                  </a:lnTo>
                  <a:lnTo>
                    <a:pt x="4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24280" y="4796280"/>
              <a:ext cx="21600" cy="11880"/>
            </a:xfrm>
            <a:custGeom>
              <a:avLst/>
              <a:gdLst/>
              <a:ahLst/>
              <a:rect l="l" t="t" r="r" b="b"/>
              <a:pathLst>
                <a:path w="124" h="66">
                  <a:moveTo>
                    <a:pt x="4" y="0"/>
                  </a:moveTo>
                  <a:lnTo>
                    <a:pt x="54" y="2"/>
                  </a:lnTo>
                  <a:lnTo>
                    <a:pt x="80" y="14"/>
                  </a:lnTo>
                  <a:lnTo>
                    <a:pt x="118" y="12"/>
                  </a:lnTo>
                  <a:lnTo>
                    <a:pt x="122" y="16"/>
                  </a:lnTo>
                  <a:lnTo>
                    <a:pt x="124" y="26"/>
                  </a:lnTo>
                  <a:lnTo>
                    <a:pt x="116" y="28"/>
                  </a:lnTo>
                  <a:lnTo>
                    <a:pt x="96" y="42"/>
                  </a:lnTo>
                  <a:lnTo>
                    <a:pt x="54" y="44"/>
                  </a:lnTo>
                  <a:lnTo>
                    <a:pt x="28" y="66"/>
                  </a:lnTo>
                  <a:lnTo>
                    <a:pt x="12" y="62"/>
                  </a:lnTo>
                  <a:lnTo>
                    <a:pt x="2" y="22"/>
                  </a:lnTo>
                  <a:lnTo>
                    <a:pt x="0" y="12"/>
                  </a:lnTo>
                  <a:lnTo>
                    <a:pt x="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0560" y="4800600"/>
              <a:ext cx="21600" cy="432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2" y="8"/>
                  </a:moveTo>
                  <a:lnTo>
                    <a:pt x="0" y="0"/>
                  </a:lnTo>
                  <a:lnTo>
                    <a:pt x="32" y="14"/>
                  </a:lnTo>
                  <a:lnTo>
                    <a:pt x="70" y="2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20" y="12"/>
                  </a:lnTo>
                  <a:lnTo>
                    <a:pt x="94" y="20"/>
                  </a:lnTo>
                  <a:lnTo>
                    <a:pt x="20" y="32"/>
                  </a:lnTo>
                  <a:lnTo>
                    <a:pt x="2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61720" y="4807080"/>
              <a:ext cx="2880" cy="1368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2" y="8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0" y="40"/>
                  </a:lnTo>
                  <a:lnTo>
                    <a:pt x="18" y="90"/>
                  </a:lnTo>
                  <a:lnTo>
                    <a:pt x="0" y="34"/>
                  </a:lnTo>
                  <a:lnTo>
                    <a:pt x="2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63160" y="4840920"/>
              <a:ext cx="31320" cy="25920"/>
            </a:xfrm>
            <a:custGeom>
              <a:avLst/>
              <a:gdLst/>
              <a:ahLst/>
              <a:rect l="l" t="t" r="r" b="b"/>
              <a:pathLst>
                <a:path w="168" h="158">
                  <a:moveTo>
                    <a:pt x="4" y="12"/>
                  </a:moveTo>
                  <a:lnTo>
                    <a:pt x="10" y="12"/>
                  </a:lnTo>
                  <a:lnTo>
                    <a:pt x="14" y="28"/>
                  </a:lnTo>
                  <a:lnTo>
                    <a:pt x="66" y="8"/>
                  </a:lnTo>
                  <a:lnTo>
                    <a:pt x="102" y="0"/>
                  </a:lnTo>
                  <a:lnTo>
                    <a:pt x="150" y="42"/>
                  </a:lnTo>
                  <a:lnTo>
                    <a:pt x="150" y="58"/>
                  </a:lnTo>
                  <a:lnTo>
                    <a:pt x="164" y="56"/>
                  </a:lnTo>
                  <a:lnTo>
                    <a:pt x="168" y="102"/>
                  </a:lnTo>
                  <a:lnTo>
                    <a:pt x="158" y="128"/>
                  </a:lnTo>
                  <a:lnTo>
                    <a:pt x="128" y="142"/>
                  </a:lnTo>
                  <a:lnTo>
                    <a:pt x="104" y="158"/>
                  </a:lnTo>
                  <a:lnTo>
                    <a:pt x="68" y="148"/>
                  </a:lnTo>
                  <a:lnTo>
                    <a:pt x="38" y="128"/>
                  </a:lnTo>
                  <a:lnTo>
                    <a:pt x="22" y="98"/>
                  </a:lnTo>
                  <a:lnTo>
                    <a:pt x="8" y="66"/>
                  </a:lnTo>
                  <a:lnTo>
                    <a:pt x="0" y="34"/>
                  </a:lnTo>
                  <a:lnTo>
                    <a:pt x="0" y="18"/>
                  </a:lnTo>
                  <a:lnTo>
                    <a:pt x="4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9800" bIns="-19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49120" y="4624560"/>
              <a:ext cx="4320" cy="1044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0" y="0"/>
                  </a:moveTo>
                  <a:lnTo>
                    <a:pt x="2" y="0"/>
                  </a:lnTo>
                  <a:lnTo>
                    <a:pt x="12" y="10"/>
                  </a:lnTo>
                  <a:lnTo>
                    <a:pt x="32" y="68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0440" y="4596840"/>
              <a:ext cx="2880" cy="16560"/>
            </a:xfrm>
            <a:custGeom>
              <a:avLst/>
              <a:gdLst/>
              <a:ahLst/>
              <a:rect l="l" t="t" r="r" b="b"/>
              <a:pathLst>
                <a:path w="20" h="96">
                  <a:moveTo>
                    <a:pt x="0" y="0"/>
                  </a:moveTo>
                  <a:lnTo>
                    <a:pt x="10" y="0"/>
                  </a:lnTo>
                  <a:lnTo>
                    <a:pt x="16" y="18"/>
                  </a:lnTo>
                  <a:lnTo>
                    <a:pt x="20" y="54"/>
                  </a:lnTo>
                  <a:lnTo>
                    <a:pt x="20" y="88"/>
                  </a:lnTo>
                  <a:lnTo>
                    <a:pt x="14" y="96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21120" y="4656960"/>
              <a:ext cx="9000" cy="19800"/>
            </a:xfrm>
            <a:custGeom>
              <a:avLst/>
              <a:gdLst/>
              <a:ahLst/>
              <a:rect l="l" t="t" r="r" b="b"/>
              <a:pathLst>
                <a:path w="54" h="114">
                  <a:moveTo>
                    <a:pt x="38" y="0"/>
                  </a:moveTo>
                  <a:lnTo>
                    <a:pt x="50" y="26"/>
                  </a:lnTo>
                  <a:lnTo>
                    <a:pt x="54" y="42"/>
                  </a:lnTo>
                  <a:lnTo>
                    <a:pt x="54" y="68"/>
                  </a:lnTo>
                  <a:lnTo>
                    <a:pt x="36" y="114"/>
                  </a:lnTo>
                  <a:lnTo>
                    <a:pt x="10" y="114"/>
                  </a:lnTo>
                  <a:lnTo>
                    <a:pt x="0" y="66"/>
                  </a:lnTo>
                  <a:lnTo>
                    <a:pt x="0" y="40"/>
                  </a:lnTo>
                  <a:lnTo>
                    <a:pt x="12" y="20"/>
                  </a:lnTo>
                  <a:lnTo>
                    <a:pt x="3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920" bIns="-259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9160" y="4672080"/>
              <a:ext cx="37440" cy="99360"/>
            </a:xfrm>
            <a:custGeom>
              <a:avLst/>
              <a:gdLst/>
              <a:ahLst/>
              <a:rect l="l" t="t" r="r" b="b"/>
              <a:pathLst>
                <a:path w="210" h="588">
                  <a:moveTo>
                    <a:pt x="76" y="2"/>
                  </a:moveTo>
                  <a:lnTo>
                    <a:pt x="78" y="0"/>
                  </a:lnTo>
                  <a:lnTo>
                    <a:pt x="86" y="4"/>
                  </a:lnTo>
                  <a:lnTo>
                    <a:pt x="88" y="24"/>
                  </a:lnTo>
                  <a:lnTo>
                    <a:pt x="78" y="48"/>
                  </a:lnTo>
                  <a:lnTo>
                    <a:pt x="68" y="60"/>
                  </a:lnTo>
                  <a:lnTo>
                    <a:pt x="66" y="74"/>
                  </a:lnTo>
                  <a:lnTo>
                    <a:pt x="78" y="86"/>
                  </a:lnTo>
                  <a:lnTo>
                    <a:pt x="88" y="126"/>
                  </a:lnTo>
                  <a:lnTo>
                    <a:pt x="92" y="154"/>
                  </a:lnTo>
                  <a:lnTo>
                    <a:pt x="90" y="182"/>
                  </a:lnTo>
                  <a:lnTo>
                    <a:pt x="58" y="228"/>
                  </a:lnTo>
                  <a:lnTo>
                    <a:pt x="38" y="246"/>
                  </a:lnTo>
                  <a:lnTo>
                    <a:pt x="40" y="254"/>
                  </a:lnTo>
                  <a:lnTo>
                    <a:pt x="60" y="262"/>
                  </a:lnTo>
                  <a:lnTo>
                    <a:pt x="76" y="238"/>
                  </a:lnTo>
                  <a:lnTo>
                    <a:pt x="98" y="218"/>
                  </a:lnTo>
                  <a:lnTo>
                    <a:pt x="122" y="154"/>
                  </a:lnTo>
                  <a:lnTo>
                    <a:pt x="146" y="136"/>
                  </a:lnTo>
                  <a:lnTo>
                    <a:pt x="174" y="134"/>
                  </a:lnTo>
                  <a:lnTo>
                    <a:pt x="182" y="142"/>
                  </a:lnTo>
                  <a:lnTo>
                    <a:pt x="192" y="172"/>
                  </a:lnTo>
                  <a:lnTo>
                    <a:pt x="192" y="216"/>
                  </a:lnTo>
                  <a:lnTo>
                    <a:pt x="136" y="270"/>
                  </a:lnTo>
                  <a:lnTo>
                    <a:pt x="136" y="282"/>
                  </a:lnTo>
                  <a:lnTo>
                    <a:pt x="182" y="318"/>
                  </a:lnTo>
                  <a:lnTo>
                    <a:pt x="186" y="342"/>
                  </a:lnTo>
                  <a:lnTo>
                    <a:pt x="194" y="358"/>
                  </a:lnTo>
                  <a:lnTo>
                    <a:pt x="210" y="372"/>
                  </a:lnTo>
                  <a:lnTo>
                    <a:pt x="186" y="374"/>
                  </a:lnTo>
                  <a:lnTo>
                    <a:pt x="162" y="356"/>
                  </a:lnTo>
                  <a:lnTo>
                    <a:pt x="124" y="344"/>
                  </a:lnTo>
                  <a:lnTo>
                    <a:pt x="96" y="332"/>
                  </a:lnTo>
                  <a:lnTo>
                    <a:pt x="84" y="352"/>
                  </a:lnTo>
                  <a:lnTo>
                    <a:pt x="80" y="410"/>
                  </a:lnTo>
                  <a:lnTo>
                    <a:pt x="86" y="472"/>
                  </a:lnTo>
                  <a:lnTo>
                    <a:pt x="98" y="508"/>
                  </a:lnTo>
                  <a:lnTo>
                    <a:pt x="114" y="544"/>
                  </a:lnTo>
                  <a:lnTo>
                    <a:pt x="142" y="586"/>
                  </a:lnTo>
                  <a:lnTo>
                    <a:pt x="130" y="588"/>
                  </a:lnTo>
                  <a:lnTo>
                    <a:pt x="104" y="554"/>
                  </a:lnTo>
                  <a:lnTo>
                    <a:pt x="56" y="472"/>
                  </a:lnTo>
                  <a:lnTo>
                    <a:pt x="46" y="366"/>
                  </a:lnTo>
                  <a:lnTo>
                    <a:pt x="32" y="320"/>
                  </a:lnTo>
                  <a:lnTo>
                    <a:pt x="32" y="278"/>
                  </a:lnTo>
                  <a:lnTo>
                    <a:pt x="26" y="246"/>
                  </a:lnTo>
                  <a:lnTo>
                    <a:pt x="14" y="234"/>
                  </a:lnTo>
                  <a:lnTo>
                    <a:pt x="0" y="206"/>
                  </a:lnTo>
                  <a:lnTo>
                    <a:pt x="2" y="170"/>
                  </a:lnTo>
                  <a:lnTo>
                    <a:pt x="6" y="168"/>
                  </a:lnTo>
                  <a:lnTo>
                    <a:pt x="22" y="86"/>
                  </a:lnTo>
                  <a:lnTo>
                    <a:pt x="36" y="52"/>
                  </a:lnTo>
                  <a:lnTo>
                    <a:pt x="76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99160" y="4754880"/>
              <a:ext cx="12240" cy="1512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0" y="0"/>
                  </a:moveTo>
                  <a:lnTo>
                    <a:pt x="24" y="0"/>
                  </a:lnTo>
                  <a:lnTo>
                    <a:pt x="34" y="20"/>
                  </a:lnTo>
                  <a:lnTo>
                    <a:pt x="38" y="46"/>
                  </a:lnTo>
                  <a:lnTo>
                    <a:pt x="48" y="64"/>
                  </a:lnTo>
                  <a:lnTo>
                    <a:pt x="68" y="80"/>
                  </a:lnTo>
                  <a:lnTo>
                    <a:pt x="62" y="96"/>
                  </a:lnTo>
                  <a:lnTo>
                    <a:pt x="46" y="80"/>
                  </a:lnTo>
                  <a:lnTo>
                    <a:pt x="22" y="84"/>
                  </a:lnTo>
                  <a:lnTo>
                    <a:pt x="18" y="58"/>
                  </a:lnTo>
                  <a:lnTo>
                    <a:pt x="10" y="42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600" bIns="-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9160" y="4787280"/>
              <a:ext cx="18720" cy="11880"/>
            </a:xfrm>
            <a:custGeom>
              <a:avLst/>
              <a:gdLst/>
              <a:ahLst/>
              <a:rect l="l" t="t" r="r" b="b"/>
              <a:pathLst>
                <a:path w="110" h="72">
                  <a:moveTo>
                    <a:pt x="4" y="18"/>
                  </a:moveTo>
                  <a:lnTo>
                    <a:pt x="12" y="14"/>
                  </a:lnTo>
                  <a:lnTo>
                    <a:pt x="34" y="0"/>
                  </a:lnTo>
                  <a:lnTo>
                    <a:pt x="58" y="6"/>
                  </a:lnTo>
                  <a:lnTo>
                    <a:pt x="104" y="34"/>
                  </a:lnTo>
                  <a:lnTo>
                    <a:pt x="110" y="48"/>
                  </a:lnTo>
                  <a:lnTo>
                    <a:pt x="104" y="64"/>
                  </a:lnTo>
                  <a:lnTo>
                    <a:pt x="46" y="66"/>
                  </a:lnTo>
                  <a:lnTo>
                    <a:pt x="20" y="72"/>
                  </a:lnTo>
                  <a:lnTo>
                    <a:pt x="4" y="58"/>
                  </a:lnTo>
                  <a:lnTo>
                    <a:pt x="0" y="30"/>
                  </a:lnTo>
                  <a:lnTo>
                    <a:pt x="4" y="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11400" y="4856040"/>
              <a:ext cx="7560" cy="900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8" y="56"/>
                  </a:moveTo>
                  <a:lnTo>
                    <a:pt x="0" y="50"/>
                  </a:lnTo>
                  <a:lnTo>
                    <a:pt x="2" y="36"/>
                  </a:lnTo>
                  <a:lnTo>
                    <a:pt x="8" y="20"/>
                  </a:lnTo>
                  <a:lnTo>
                    <a:pt x="24" y="12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44" y="28"/>
                  </a:lnTo>
                  <a:lnTo>
                    <a:pt x="36" y="44"/>
                  </a:lnTo>
                  <a:lnTo>
                    <a:pt x="26" y="44"/>
                  </a:lnTo>
                  <a:lnTo>
                    <a:pt x="8" y="5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00760" y="4765680"/>
              <a:ext cx="21240" cy="16560"/>
            </a:xfrm>
            <a:custGeom>
              <a:avLst/>
              <a:gdLst/>
              <a:ahLst/>
              <a:rect l="l" t="t" r="r" b="b"/>
              <a:pathLst>
                <a:path w="126" h="98">
                  <a:moveTo>
                    <a:pt x="8" y="10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34" y="2"/>
                  </a:lnTo>
                  <a:lnTo>
                    <a:pt x="42" y="8"/>
                  </a:lnTo>
                  <a:lnTo>
                    <a:pt x="62" y="10"/>
                  </a:lnTo>
                  <a:lnTo>
                    <a:pt x="84" y="26"/>
                  </a:lnTo>
                  <a:lnTo>
                    <a:pt x="104" y="48"/>
                  </a:lnTo>
                  <a:lnTo>
                    <a:pt x="126" y="86"/>
                  </a:lnTo>
                  <a:lnTo>
                    <a:pt x="116" y="92"/>
                  </a:lnTo>
                  <a:lnTo>
                    <a:pt x="86" y="98"/>
                  </a:lnTo>
                  <a:lnTo>
                    <a:pt x="72" y="84"/>
                  </a:lnTo>
                  <a:lnTo>
                    <a:pt x="66" y="64"/>
                  </a:lnTo>
                  <a:lnTo>
                    <a:pt x="48" y="42"/>
                  </a:lnTo>
                  <a:lnTo>
                    <a:pt x="22" y="24"/>
                  </a:lnTo>
                  <a:lnTo>
                    <a:pt x="8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04000" y="4796280"/>
              <a:ext cx="30960" cy="9000"/>
            </a:xfrm>
            <a:custGeom>
              <a:avLst/>
              <a:gdLst/>
              <a:ahLst/>
              <a:rect l="l" t="t" r="r" b="b"/>
              <a:pathLst>
                <a:path w="180" h="60">
                  <a:moveTo>
                    <a:pt x="0" y="6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86" y="18"/>
                  </a:lnTo>
                  <a:lnTo>
                    <a:pt x="162" y="24"/>
                  </a:lnTo>
                  <a:lnTo>
                    <a:pt x="174" y="32"/>
                  </a:lnTo>
                  <a:lnTo>
                    <a:pt x="180" y="54"/>
                  </a:lnTo>
                  <a:lnTo>
                    <a:pt x="150" y="60"/>
                  </a:lnTo>
                  <a:lnTo>
                    <a:pt x="92" y="50"/>
                  </a:lnTo>
                  <a:lnTo>
                    <a:pt x="2" y="14"/>
                  </a:lnTo>
                  <a:lnTo>
                    <a:pt x="0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32000" y="4915800"/>
              <a:ext cx="5760" cy="1188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12" y="12"/>
                  </a:moveTo>
                  <a:lnTo>
                    <a:pt x="22" y="0"/>
                  </a:lnTo>
                  <a:lnTo>
                    <a:pt x="28" y="6"/>
                  </a:lnTo>
                  <a:lnTo>
                    <a:pt x="22" y="30"/>
                  </a:lnTo>
                  <a:lnTo>
                    <a:pt x="8" y="64"/>
                  </a:lnTo>
                  <a:lnTo>
                    <a:pt x="0" y="66"/>
                  </a:lnTo>
                  <a:lnTo>
                    <a:pt x="12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62960" y="4920480"/>
              <a:ext cx="12240" cy="30600"/>
            </a:xfrm>
            <a:custGeom>
              <a:avLst/>
              <a:gdLst/>
              <a:ahLst/>
              <a:rect l="l" t="t" r="r" b="b"/>
              <a:pathLst>
                <a:path w="68" h="176">
                  <a:moveTo>
                    <a:pt x="0" y="66"/>
                  </a:moveTo>
                  <a:lnTo>
                    <a:pt x="36" y="0"/>
                  </a:lnTo>
                  <a:lnTo>
                    <a:pt x="56" y="10"/>
                  </a:lnTo>
                  <a:lnTo>
                    <a:pt x="68" y="52"/>
                  </a:lnTo>
                  <a:lnTo>
                    <a:pt x="58" y="116"/>
                  </a:lnTo>
                  <a:lnTo>
                    <a:pt x="60" y="154"/>
                  </a:lnTo>
                  <a:lnTo>
                    <a:pt x="48" y="176"/>
                  </a:lnTo>
                  <a:lnTo>
                    <a:pt x="34" y="174"/>
                  </a:lnTo>
                  <a:lnTo>
                    <a:pt x="20" y="166"/>
                  </a:lnTo>
                  <a:lnTo>
                    <a:pt x="8" y="144"/>
                  </a:lnTo>
                  <a:lnTo>
                    <a:pt x="4" y="116"/>
                  </a:lnTo>
                  <a:lnTo>
                    <a:pt x="18" y="72"/>
                  </a:lnTo>
                  <a:lnTo>
                    <a:pt x="10" y="78"/>
                  </a:lnTo>
                  <a:lnTo>
                    <a:pt x="0" y="6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5120" bIns="-151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1880" y="4942080"/>
              <a:ext cx="7560" cy="1368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2" y="26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20" y="32"/>
                  </a:lnTo>
                  <a:lnTo>
                    <a:pt x="42" y="44"/>
                  </a:lnTo>
                  <a:lnTo>
                    <a:pt x="46" y="54"/>
                  </a:lnTo>
                  <a:lnTo>
                    <a:pt x="48" y="80"/>
                  </a:lnTo>
                  <a:lnTo>
                    <a:pt x="46" y="88"/>
                  </a:lnTo>
                  <a:lnTo>
                    <a:pt x="38" y="84"/>
                  </a:lnTo>
                  <a:lnTo>
                    <a:pt x="20" y="54"/>
                  </a:lnTo>
                  <a:lnTo>
                    <a:pt x="10" y="42"/>
                  </a:lnTo>
                  <a:lnTo>
                    <a:pt x="2" y="2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55400" y="4944960"/>
              <a:ext cx="10800" cy="24120"/>
            </a:xfrm>
            <a:custGeom>
              <a:avLst/>
              <a:gdLst/>
              <a:ahLst/>
              <a:rect l="l" t="t" r="r" b="b"/>
              <a:pathLst>
                <a:path w="58" h="134">
                  <a:moveTo>
                    <a:pt x="20" y="0"/>
                  </a:moveTo>
                  <a:lnTo>
                    <a:pt x="28" y="6"/>
                  </a:lnTo>
                  <a:lnTo>
                    <a:pt x="58" y="64"/>
                  </a:lnTo>
                  <a:lnTo>
                    <a:pt x="56" y="84"/>
                  </a:lnTo>
                  <a:lnTo>
                    <a:pt x="48" y="108"/>
                  </a:lnTo>
                  <a:lnTo>
                    <a:pt x="38" y="128"/>
                  </a:lnTo>
                  <a:lnTo>
                    <a:pt x="20" y="134"/>
                  </a:lnTo>
                  <a:lnTo>
                    <a:pt x="8" y="128"/>
                  </a:lnTo>
                  <a:lnTo>
                    <a:pt x="2" y="106"/>
                  </a:lnTo>
                  <a:lnTo>
                    <a:pt x="0" y="80"/>
                  </a:lnTo>
                  <a:lnTo>
                    <a:pt x="6" y="62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8" y="44"/>
                  </a:lnTo>
                  <a:lnTo>
                    <a:pt x="22" y="46"/>
                  </a:lnTo>
                  <a:lnTo>
                    <a:pt x="18" y="22"/>
                  </a:lnTo>
                  <a:lnTo>
                    <a:pt x="2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600" bIns="-21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78720" y="4973760"/>
              <a:ext cx="16920" cy="29160"/>
            </a:xfrm>
            <a:custGeom>
              <a:avLst/>
              <a:gdLst/>
              <a:ahLst/>
              <a:rect l="l" t="t" r="r" b="b"/>
              <a:pathLst>
                <a:path w="90" h="170">
                  <a:moveTo>
                    <a:pt x="2" y="124"/>
                  </a:moveTo>
                  <a:lnTo>
                    <a:pt x="6" y="120"/>
                  </a:lnTo>
                  <a:lnTo>
                    <a:pt x="14" y="118"/>
                  </a:lnTo>
                  <a:lnTo>
                    <a:pt x="14" y="74"/>
                  </a:lnTo>
                  <a:lnTo>
                    <a:pt x="52" y="40"/>
                  </a:lnTo>
                  <a:lnTo>
                    <a:pt x="66" y="6"/>
                  </a:lnTo>
                  <a:lnTo>
                    <a:pt x="76" y="0"/>
                  </a:lnTo>
                  <a:lnTo>
                    <a:pt x="90" y="14"/>
                  </a:lnTo>
                  <a:lnTo>
                    <a:pt x="80" y="88"/>
                  </a:lnTo>
                  <a:lnTo>
                    <a:pt x="28" y="170"/>
                  </a:lnTo>
                  <a:lnTo>
                    <a:pt x="0" y="140"/>
                  </a:lnTo>
                  <a:lnTo>
                    <a:pt x="2" y="1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6560" bIns="-165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1280" y="4997160"/>
              <a:ext cx="6120" cy="576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" y="10"/>
                  </a:moveTo>
                  <a:lnTo>
                    <a:pt x="0" y="2"/>
                  </a:lnTo>
                  <a:lnTo>
                    <a:pt x="30" y="0"/>
                  </a:lnTo>
                  <a:lnTo>
                    <a:pt x="30" y="16"/>
                  </a:lnTo>
                  <a:lnTo>
                    <a:pt x="16" y="36"/>
                  </a:lnTo>
                  <a:lnTo>
                    <a:pt x="8" y="32"/>
                  </a:lnTo>
                  <a:lnTo>
                    <a:pt x="2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16080" y="4972680"/>
              <a:ext cx="4680" cy="43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6" y="10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6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3240" y="4449600"/>
              <a:ext cx="54360" cy="114840"/>
            </a:xfrm>
            <a:custGeom>
              <a:avLst/>
              <a:gdLst/>
              <a:ahLst/>
              <a:rect l="l" t="t" r="r" b="b"/>
              <a:pathLst>
                <a:path w="314" h="674">
                  <a:moveTo>
                    <a:pt x="28" y="0"/>
                  </a:moveTo>
                  <a:lnTo>
                    <a:pt x="16" y="12"/>
                  </a:lnTo>
                  <a:lnTo>
                    <a:pt x="34" y="30"/>
                  </a:lnTo>
                  <a:lnTo>
                    <a:pt x="56" y="40"/>
                  </a:lnTo>
                  <a:lnTo>
                    <a:pt x="70" y="60"/>
                  </a:lnTo>
                  <a:lnTo>
                    <a:pt x="56" y="58"/>
                  </a:lnTo>
                  <a:lnTo>
                    <a:pt x="42" y="80"/>
                  </a:lnTo>
                  <a:lnTo>
                    <a:pt x="42" y="122"/>
                  </a:lnTo>
                  <a:lnTo>
                    <a:pt x="26" y="152"/>
                  </a:lnTo>
                  <a:lnTo>
                    <a:pt x="20" y="302"/>
                  </a:lnTo>
                  <a:lnTo>
                    <a:pt x="8" y="292"/>
                  </a:lnTo>
                  <a:lnTo>
                    <a:pt x="0" y="302"/>
                  </a:lnTo>
                  <a:lnTo>
                    <a:pt x="4" y="352"/>
                  </a:lnTo>
                  <a:lnTo>
                    <a:pt x="34" y="528"/>
                  </a:lnTo>
                  <a:lnTo>
                    <a:pt x="48" y="578"/>
                  </a:lnTo>
                  <a:lnTo>
                    <a:pt x="74" y="632"/>
                  </a:lnTo>
                  <a:lnTo>
                    <a:pt x="98" y="664"/>
                  </a:lnTo>
                  <a:lnTo>
                    <a:pt x="142" y="674"/>
                  </a:lnTo>
                  <a:lnTo>
                    <a:pt x="178" y="674"/>
                  </a:lnTo>
                  <a:lnTo>
                    <a:pt x="244" y="626"/>
                  </a:lnTo>
                  <a:lnTo>
                    <a:pt x="284" y="592"/>
                  </a:lnTo>
                  <a:lnTo>
                    <a:pt x="310" y="540"/>
                  </a:lnTo>
                  <a:lnTo>
                    <a:pt x="314" y="462"/>
                  </a:lnTo>
                  <a:lnTo>
                    <a:pt x="312" y="396"/>
                  </a:lnTo>
                  <a:lnTo>
                    <a:pt x="306" y="370"/>
                  </a:lnTo>
                  <a:lnTo>
                    <a:pt x="288" y="362"/>
                  </a:lnTo>
                  <a:lnTo>
                    <a:pt x="258" y="276"/>
                  </a:lnTo>
                  <a:lnTo>
                    <a:pt x="238" y="236"/>
                  </a:lnTo>
                  <a:lnTo>
                    <a:pt x="218" y="216"/>
                  </a:lnTo>
                  <a:lnTo>
                    <a:pt x="210" y="194"/>
                  </a:lnTo>
                  <a:lnTo>
                    <a:pt x="200" y="174"/>
                  </a:lnTo>
                  <a:lnTo>
                    <a:pt x="166" y="140"/>
                  </a:lnTo>
                  <a:lnTo>
                    <a:pt x="154" y="108"/>
                  </a:lnTo>
                  <a:lnTo>
                    <a:pt x="100" y="40"/>
                  </a:lnTo>
                  <a:lnTo>
                    <a:pt x="74" y="12"/>
                  </a:lnTo>
                  <a:lnTo>
                    <a:pt x="50" y="2"/>
                  </a:lnTo>
                  <a:lnTo>
                    <a:pt x="2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08000" y="4250160"/>
              <a:ext cx="9360" cy="61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44" y="0"/>
                  </a:moveTo>
                  <a:lnTo>
                    <a:pt x="0" y="4"/>
                  </a:lnTo>
                  <a:lnTo>
                    <a:pt x="2" y="32"/>
                  </a:lnTo>
                  <a:lnTo>
                    <a:pt x="6" y="40"/>
                  </a:lnTo>
                  <a:lnTo>
                    <a:pt x="30" y="32"/>
                  </a:lnTo>
                  <a:lnTo>
                    <a:pt x="46" y="18"/>
                  </a:lnTo>
                  <a:lnTo>
                    <a:pt x="50" y="10"/>
                  </a:lnTo>
                  <a:lnTo>
                    <a:pt x="4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31400" y="4264200"/>
              <a:ext cx="10800" cy="432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56" y="12"/>
                  </a:moveTo>
                  <a:lnTo>
                    <a:pt x="50" y="8"/>
                  </a:lnTo>
                  <a:lnTo>
                    <a:pt x="2" y="0"/>
                  </a:lnTo>
                  <a:lnTo>
                    <a:pt x="0" y="16"/>
                  </a:lnTo>
                  <a:lnTo>
                    <a:pt x="6" y="26"/>
                  </a:lnTo>
                  <a:lnTo>
                    <a:pt x="14" y="18"/>
                  </a:lnTo>
                  <a:lnTo>
                    <a:pt x="56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65600" y="4256640"/>
              <a:ext cx="2880" cy="756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6" y="0"/>
                  </a:moveTo>
                  <a:lnTo>
                    <a:pt x="0" y="26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16" y="18"/>
                  </a:lnTo>
                  <a:lnTo>
                    <a:pt x="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64160" y="4277880"/>
              <a:ext cx="7560" cy="79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6" y="4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38" y="28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6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7800" bIns="-37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44000" y="4303800"/>
              <a:ext cx="7560" cy="1044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6" y="0"/>
                  </a:moveTo>
                  <a:lnTo>
                    <a:pt x="2" y="0"/>
                  </a:lnTo>
                  <a:lnTo>
                    <a:pt x="0" y="62"/>
                  </a:lnTo>
                  <a:lnTo>
                    <a:pt x="16" y="68"/>
                  </a:lnTo>
                  <a:lnTo>
                    <a:pt x="40" y="58"/>
                  </a:lnTo>
                  <a:lnTo>
                    <a:pt x="48" y="42"/>
                  </a:lnTo>
                  <a:lnTo>
                    <a:pt x="40" y="30"/>
                  </a:lnTo>
                  <a:lnTo>
                    <a:pt x="22" y="12"/>
                  </a:lnTo>
                  <a:lnTo>
                    <a:pt x="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26720" y="4313160"/>
              <a:ext cx="4320" cy="4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6" y="0"/>
                  </a:moveTo>
                  <a:lnTo>
                    <a:pt x="2" y="2"/>
                  </a:lnTo>
                  <a:lnTo>
                    <a:pt x="0" y="16"/>
                  </a:lnTo>
                  <a:lnTo>
                    <a:pt x="4" y="26"/>
                  </a:lnTo>
                  <a:lnTo>
                    <a:pt x="16" y="26"/>
                  </a:lnTo>
                  <a:lnTo>
                    <a:pt x="26" y="14"/>
                  </a:lnTo>
                  <a:lnTo>
                    <a:pt x="1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17000" y="3396240"/>
              <a:ext cx="68400" cy="44280"/>
            </a:xfrm>
            <a:custGeom>
              <a:avLst/>
              <a:gdLst/>
              <a:ahLst/>
              <a:rect l="l" t="t" r="r" b="b"/>
              <a:pathLst>
                <a:path w="392" h="264">
                  <a:moveTo>
                    <a:pt x="320" y="0"/>
                  </a:moveTo>
                  <a:lnTo>
                    <a:pt x="302" y="10"/>
                  </a:lnTo>
                  <a:lnTo>
                    <a:pt x="300" y="26"/>
                  </a:lnTo>
                  <a:lnTo>
                    <a:pt x="260" y="22"/>
                  </a:lnTo>
                  <a:lnTo>
                    <a:pt x="250" y="22"/>
                  </a:lnTo>
                  <a:lnTo>
                    <a:pt x="240" y="40"/>
                  </a:lnTo>
                  <a:lnTo>
                    <a:pt x="196" y="32"/>
                  </a:lnTo>
                  <a:lnTo>
                    <a:pt x="166" y="40"/>
                  </a:lnTo>
                  <a:lnTo>
                    <a:pt x="150" y="62"/>
                  </a:lnTo>
                  <a:lnTo>
                    <a:pt x="132" y="74"/>
                  </a:lnTo>
                  <a:lnTo>
                    <a:pt x="64" y="68"/>
                  </a:lnTo>
                  <a:lnTo>
                    <a:pt x="28" y="68"/>
                  </a:lnTo>
                  <a:lnTo>
                    <a:pt x="6" y="88"/>
                  </a:lnTo>
                  <a:lnTo>
                    <a:pt x="0" y="104"/>
                  </a:lnTo>
                  <a:lnTo>
                    <a:pt x="2" y="114"/>
                  </a:lnTo>
                  <a:lnTo>
                    <a:pt x="6" y="118"/>
                  </a:lnTo>
                  <a:lnTo>
                    <a:pt x="18" y="116"/>
                  </a:lnTo>
                  <a:lnTo>
                    <a:pt x="14" y="130"/>
                  </a:lnTo>
                  <a:lnTo>
                    <a:pt x="12" y="148"/>
                  </a:lnTo>
                  <a:lnTo>
                    <a:pt x="24" y="160"/>
                  </a:lnTo>
                  <a:lnTo>
                    <a:pt x="26" y="178"/>
                  </a:lnTo>
                  <a:lnTo>
                    <a:pt x="32" y="182"/>
                  </a:lnTo>
                  <a:lnTo>
                    <a:pt x="50" y="190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0" y="214"/>
                  </a:lnTo>
                  <a:lnTo>
                    <a:pt x="68" y="222"/>
                  </a:lnTo>
                  <a:lnTo>
                    <a:pt x="62" y="228"/>
                  </a:lnTo>
                  <a:lnTo>
                    <a:pt x="50" y="232"/>
                  </a:lnTo>
                  <a:lnTo>
                    <a:pt x="38" y="230"/>
                  </a:lnTo>
                  <a:lnTo>
                    <a:pt x="24" y="238"/>
                  </a:lnTo>
                  <a:lnTo>
                    <a:pt x="42" y="250"/>
                  </a:lnTo>
                  <a:lnTo>
                    <a:pt x="74" y="250"/>
                  </a:lnTo>
                  <a:lnTo>
                    <a:pt x="78" y="238"/>
                  </a:lnTo>
                  <a:lnTo>
                    <a:pt x="92" y="248"/>
                  </a:lnTo>
                  <a:lnTo>
                    <a:pt x="130" y="248"/>
                  </a:lnTo>
                  <a:lnTo>
                    <a:pt x="144" y="214"/>
                  </a:lnTo>
                  <a:lnTo>
                    <a:pt x="152" y="214"/>
                  </a:lnTo>
                  <a:lnTo>
                    <a:pt x="180" y="256"/>
                  </a:lnTo>
                  <a:lnTo>
                    <a:pt x="190" y="254"/>
                  </a:lnTo>
                  <a:lnTo>
                    <a:pt x="190" y="244"/>
                  </a:lnTo>
                  <a:lnTo>
                    <a:pt x="196" y="246"/>
                  </a:lnTo>
                  <a:lnTo>
                    <a:pt x="200" y="250"/>
                  </a:lnTo>
                  <a:lnTo>
                    <a:pt x="210" y="252"/>
                  </a:lnTo>
                  <a:lnTo>
                    <a:pt x="222" y="264"/>
                  </a:lnTo>
                  <a:lnTo>
                    <a:pt x="230" y="264"/>
                  </a:lnTo>
                  <a:lnTo>
                    <a:pt x="240" y="256"/>
                  </a:lnTo>
                  <a:lnTo>
                    <a:pt x="236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58" y="188"/>
                  </a:lnTo>
                  <a:lnTo>
                    <a:pt x="278" y="186"/>
                  </a:lnTo>
                  <a:lnTo>
                    <a:pt x="286" y="170"/>
                  </a:lnTo>
                  <a:lnTo>
                    <a:pt x="286" y="146"/>
                  </a:lnTo>
                  <a:lnTo>
                    <a:pt x="270" y="132"/>
                  </a:lnTo>
                  <a:lnTo>
                    <a:pt x="268" y="124"/>
                  </a:lnTo>
                  <a:lnTo>
                    <a:pt x="274" y="112"/>
                  </a:lnTo>
                  <a:lnTo>
                    <a:pt x="318" y="98"/>
                  </a:lnTo>
                  <a:lnTo>
                    <a:pt x="326" y="92"/>
                  </a:lnTo>
                  <a:lnTo>
                    <a:pt x="326" y="82"/>
                  </a:lnTo>
                  <a:lnTo>
                    <a:pt x="342" y="82"/>
                  </a:lnTo>
                  <a:lnTo>
                    <a:pt x="350" y="84"/>
                  </a:lnTo>
                  <a:lnTo>
                    <a:pt x="350" y="82"/>
                  </a:lnTo>
                  <a:lnTo>
                    <a:pt x="344" y="68"/>
                  </a:lnTo>
                  <a:lnTo>
                    <a:pt x="344" y="58"/>
                  </a:lnTo>
                  <a:lnTo>
                    <a:pt x="352" y="50"/>
                  </a:lnTo>
                  <a:lnTo>
                    <a:pt x="360" y="52"/>
                  </a:lnTo>
                  <a:lnTo>
                    <a:pt x="382" y="64"/>
                  </a:lnTo>
                  <a:lnTo>
                    <a:pt x="388" y="60"/>
                  </a:lnTo>
                  <a:lnTo>
                    <a:pt x="392" y="64"/>
                  </a:lnTo>
                  <a:lnTo>
                    <a:pt x="368" y="36"/>
                  </a:lnTo>
                  <a:lnTo>
                    <a:pt x="354" y="8"/>
                  </a:lnTo>
                  <a:lnTo>
                    <a:pt x="336" y="0"/>
                  </a:lnTo>
                  <a:lnTo>
                    <a:pt x="320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83680" y="3524760"/>
              <a:ext cx="54720" cy="42840"/>
            </a:xfrm>
            <a:custGeom>
              <a:avLst/>
              <a:gdLst/>
              <a:ahLst/>
              <a:rect l="l" t="t" r="r" b="b"/>
              <a:pathLst>
                <a:path w="314" h="248">
                  <a:moveTo>
                    <a:pt x="74" y="248"/>
                  </a:moveTo>
                  <a:lnTo>
                    <a:pt x="30" y="208"/>
                  </a:lnTo>
                  <a:lnTo>
                    <a:pt x="6" y="162"/>
                  </a:lnTo>
                  <a:lnTo>
                    <a:pt x="0" y="124"/>
                  </a:lnTo>
                  <a:lnTo>
                    <a:pt x="4" y="40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38"/>
                  </a:lnTo>
                  <a:lnTo>
                    <a:pt x="26" y="18"/>
                  </a:lnTo>
                  <a:lnTo>
                    <a:pt x="64" y="6"/>
                  </a:lnTo>
                  <a:lnTo>
                    <a:pt x="72" y="8"/>
                  </a:lnTo>
                  <a:lnTo>
                    <a:pt x="88" y="24"/>
                  </a:lnTo>
                  <a:lnTo>
                    <a:pt x="94" y="22"/>
                  </a:lnTo>
                  <a:lnTo>
                    <a:pt x="94" y="12"/>
                  </a:lnTo>
                  <a:lnTo>
                    <a:pt x="110" y="2"/>
                  </a:lnTo>
                  <a:lnTo>
                    <a:pt x="148" y="8"/>
                  </a:lnTo>
                  <a:lnTo>
                    <a:pt x="156" y="0"/>
                  </a:lnTo>
                  <a:lnTo>
                    <a:pt x="192" y="4"/>
                  </a:lnTo>
                  <a:lnTo>
                    <a:pt x="214" y="0"/>
                  </a:lnTo>
                  <a:lnTo>
                    <a:pt x="230" y="8"/>
                  </a:lnTo>
                  <a:lnTo>
                    <a:pt x="288" y="50"/>
                  </a:lnTo>
                  <a:lnTo>
                    <a:pt x="310" y="118"/>
                  </a:lnTo>
                  <a:lnTo>
                    <a:pt x="314" y="158"/>
                  </a:lnTo>
                  <a:lnTo>
                    <a:pt x="300" y="162"/>
                  </a:lnTo>
                  <a:lnTo>
                    <a:pt x="268" y="192"/>
                  </a:lnTo>
                  <a:lnTo>
                    <a:pt x="220" y="194"/>
                  </a:lnTo>
                  <a:lnTo>
                    <a:pt x="180" y="210"/>
                  </a:lnTo>
                  <a:lnTo>
                    <a:pt x="156" y="236"/>
                  </a:lnTo>
                  <a:lnTo>
                    <a:pt x="74" y="24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" bIns="-28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51440" y="4052520"/>
              <a:ext cx="213840" cy="258840"/>
            </a:xfrm>
            <a:custGeom>
              <a:avLst/>
              <a:gdLst/>
              <a:ahLst/>
              <a:rect l="l" t="t" r="r" b="b"/>
              <a:pathLst>
                <a:path w="1224" h="1514">
                  <a:moveTo>
                    <a:pt x="192" y="12"/>
                  </a:moveTo>
                  <a:lnTo>
                    <a:pt x="236" y="60"/>
                  </a:lnTo>
                  <a:lnTo>
                    <a:pt x="290" y="116"/>
                  </a:lnTo>
                  <a:lnTo>
                    <a:pt x="324" y="144"/>
                  </a:lnTo>
                  <a:lnTo>
                    <a:pt x="344" y="174"/>
                  </a:lnTo>
                  <a:lnTo>
                    <a:pt x="344" y="212"/>
                  </a:lnTo>
                  <a:lnTo>
                    <a:pt x="354" y="236"/>
                  </a:lnTo>
                  <a:lnTo>
                    <a:pt x="404" y="282"/>
                  </a:lnTo>
                  <a:lnTo>
                    <a:pt x="454" y="292"/>
                  </a:lnTo>
                  <a:lnTo>
                    <a:pt x="502" y="274"/>
                  </a:lnTo>
                  <a:lnTo>
                    <a:pt x="540" y="276"/>
                  </a:lnTo>
                  <a:lnTo>
                    <a:pt x="574" y="308"/>
                  </a:lnTo>
                  <a:lnTo>
                    <a:pt x="594" y="336"/>
                  </a:lnTo>
                  <a:lnTo>
                    <a:pt x="602" y="358"/>
                  </a:lnTo>
                  <a:lnTo>
                    <a:pt x="628" y="376"/>
                  </a:lnTo>
                  <a:lnTo>
                    <a:pt x="644" y="402"/>
                  </a:lnTo>
                  <a:lnTo>
                    <a:pt x="662" y="420"/>
                  </a:lnTo>
                  <a:lnTo>
                    <a:pt x="666" y="448"/>
                  </a:lnTo>
                  <a:lnTo>
                    <a:pt x="638" y="498"/>
                  </a:lnTo>
                  <a:lnTo>
                    <a:pt x="624" y="500"/>
                  </a:lnTo>
                  <a:lnTo>
                    <a:pt x="594" y="492"/>
                  </a:lnTo>
                  <a:lnTo>
                    <a:pt x="576" y="500"/>
                  </a:lnTo>
                  <a:lnTo>
                    <a:pt x="570" y="516"/>
                  </a:lnTo>
                  <a:lnTo>
                    <a:pt x="570" y="546"/>
                  </a:lnTo>
                  <a:lnTo>
                    <a:pt x="576" y="566"/>
                  </a:lnTo>
                  <a:lnTo>
                    <a:pt x="594" y="572"/>
                  </a:lnTo>
                  <a:lnTo>
                    <a:pt x="618" y="590"/>
                  </a:lnTo>
                  <a:lnTo>
                    <a:pt x="674" y="620"/>
                  </a:lnTo>
                  <a:lnTo>
                    <a:pt x="754" y="678"/>
                  </a:lnTo>
                  <a:lnTo>
                    <a:pt x="774" y="722"/>
                  </a:lnTo>
                  <a:lnTo>
                    <a:pt x="844" y="784"/>
                  </a:lnTo>
                  <a:lnTo>
                    <a:pt x="860" y="814"/>
                  </a:lnTo>
                  <a:lnTo>
                    <a:pt x="914" y="874"/>
                  </a:lnTo>
                  <a:lnTo>
                    <a:pt x="932" y="878"/>
                  </a:lnTo>
                  <a:lnTo>
                    <a:pt x="980" y="916"/>
                  </a:lnTo>
                  <a:lnTo>
                    <a:pt x="1002" y="958"/>
                  </a:lnTo>
                  <a:lnTo>
                    <a:pt x="1018" y="996"/>
                  </a:lnTo>
                  <a:lnTo>
                    <a:pt x="1018" y="1002"/>
                  </a:lnTo>
                  <a:lnTo>
                    <a:pt x="1020" y="1004"/>
                  </a:lnTo>
                  <a:lnTo>
                    <a:pt x="1038" y="1046"/>
                  </a:lnTo>
                  <a:lnTo>
                    <a:pt x="1062" y="1044"/>
                  </a:lnTo>
                  <a:lnTo>
                    <a:pt x="1102" y="1074"/>
                  </a:lnTo>
                  <a:lnTo>
                    <a:pt x="1126" y="1102"/>
                  </a:lnTo>
                  <a:lnTo>
                    <a:pt x="1150" y="1158"/>
                  </a:lnTo>
                  <a:lnTo>
                    <a:pt x="1198" y="1244"/>
                  </a:lnTo>
                  <a:lnTo>
                    <a:pt x="1206" y="1268"/>
                  </a:lnTo>
                  <a:lnTo>
                    <a:pt x="1224" y="1376"/>
                  </a:lnTo>
                  <a:lnTo>
                    <a:pt x="1220" y="1394"/>
                  </a:lnTo>
                  <a:lnTo>
                    <a:pt x="1194" y="1426"/>
                  </a:lnTo>
                  <a:lnTo>
                    <a:pt x="1172" y="1440"/>
                  </a:lnTo>
                  <a:lnTo>
                    <a:pt x="1152" y="1440"/>
                  </a:lnTo>
                  <a:lnTo>
                    <a:pt x="1128" y="1416"/>
                  </a:lnTo>
                  <a:lnTo>
                    <a:pt x="1104" y="1414"/>
                  </a:lnTo>
                  <a:lnTo>
                    <a:pt x="1076" y="1428"/>
                  </a:lnTo>
                  <a:lnTo>
                    <a:pt x="1042" y="1456"/>
                  </a:lnTo>
                  <a:lnTo>
                    <a:pt x="1048" y="1506"/>
                  </a:lnTo>
                  <a:lnTo>
                    <a:pt x="1026" y="1514"/>
                  </a:lnTo>
                  <a:lnTo>
                    <a:pt x="998" y="1500"/>
                  </a:lnTo>
                  <a:lnTo>
                    <a:pt x="948" y="1490"/>
                  </a:lnTo>
                  <a:lnTo>
                    <a:pt x="922" y="1464"/>
                  </a:lnTo>
                  <a:lnTo>
                    <a:pt x="920" y="1450"/>
                  </a:lnTo>
                  <a:lnTo>
                    <a:pt x="932" y="1450"/>
                  </a:lnTo>
                  <a:lnTo>
                    <a:pt x="946" y="1416"/>
                  </a:lnTo>
                  <a:lnTo>
                    <a:pt x="924" y="1280"/>
                  </a:lnTo>
                  <a:lnTo>
                    <a:pt x="926" y="1250"/>
                  </a:lnTo>
                  <a:lnTo>
                    <a:pt x="918" y="1218"/>
                  </a:lnTo>
                  <a:lnTo>
                    <a:pt x="912" y="1200"/>
                  </a:lnTo>
                  <a:lnTo>
                    <a:pt x="896" y="1182"/>
                  </a:lnTo>
                  <a:lnTo>
                    <a:pt x="872" y="1164"/>
                  </a:lnTo>
                  <a:lnTo>
                    <a:pt x="862" y="1144"/>
                  </a:lnTo>
                  <a:lnTo>
                    <a:pt x="838" y="1140"/>
                  </a:lnTo>
                  <a:lnTo>
                    <a:pt x="814" y="1122"/>
                  </a:lnTo>
                  <a:lnTo>
                    <a:pt x="792" y="1094"/>
                  </a:lnTo>
                  <a:lnTo>
                    <a:pt x="774" y="1058"/>
                  </a:lnTo>
                  <a:lnTo>
                    <a:pt x="764" y="982"/>
                  </a:lnTo>
                  <a:lnTo>
                    <a:pt x="752" y="940"/>
                  </a:lnTo>
                  <a:lnTo>
                    <a:pt x="736" y="900"/>
                  </a:lnTo>
                  <a:lnTo>
                    <a:pt x="716" y="870"/>
                  </a:lnTo>
                  <a:lnTo>
                    <a:pt x="698" y="856"/>
                  </a:lnTo>
                  <a:lnTo>
                    <a:pt x="686" y="834"/>
                  </a:lnTo>
                  <a:lnTo>
                    <a:pt x="662" y="822"/>
                  </a:lnTo>
                  <a:lnTo>
                    <a:pt x="640" y="800"/>
                  </a:lnTo>
                  <a:lnTo>
                    <a:pt x="622" y="774"/>
                  </a:lnTo>
                  <a:lnTo>
                    <a:pt x="582" y="730"/>
                  </a:lnTo>
                  <a:lnTo>
                    <a:pt x="550" y="730"/>
                  </a:lnTo>
                  <a:lnTo>
                    <a:pt x="522" y="732"/>
                  </a:lnTo>
                  <a:lnTo>
                    <a:pt x="496" y="740"/>
                  </a:lnTo>
                  <a:lnTo>
                    <a:pt x="494" y="774"/>
                  </a:lnTo>
                  <a:lnTo>
                    <a:pt x="486" y="790"/>
                  </a:lnTo>
                  <a:lnTo>
                    <a:pt x="466" y="798"/>
                  </a:lnTo>
                  <a:lnTo>
                    <a:pt x="438" y="820"/>
                  </a:lnTo>
                  <a:lnTo>
                    <a:pt x="418" y="822"/>
                  </a:lnTo>
                  <a:lnTo>
                    <a:pt x="394" y="804"/>
                  </a:lnTo>
                  <a:lnTo>
                    <a:pt x="372" y="772"/>
                  </a:lnTo>
                  <a:lnTo>
                    <a:pt x="350" y="766"/>
                  </a:lnTo>
                  <a:lnTo>
                    <a:pt x="328" y="774"/>
                  </a:lnTo>
                  <a:lnTo>
                    <a:pt x="298" y="790"/>
                  </a:lnTo>
                  <a:lnTo>
                    <a:pt x="276" y="830"/>
                  </a:lnTo>
                  <a:lnTo>
                    <a:pt x="248" y="848"/>
                  </a:lnTo>
                  <a:lnTo>
                    <a:pt x="234" y="876"/>
                  </a:lnTo>
                  <a:lnTo>
                    <a:pt x="222" y="888"/>
                  </a:lnTo>
                  <a:lnTo>
                    <a:pt x="222" y="872"/>
                  </a:lnTo>
                  <a:lnTo>
                    <a:pt x="206" y="834"/>
                  </a:lnTo>
                  <a:lnTo>
                    <a:pt x="210" y="788"/>
                  </a:lnTo>
                  <a:lnTo>
                    <a:pt x="202" y="710"/>
                  </a:lnTo>
                  <a:lnTo>
                    <a:pt x="206" y="676"/>
                  </a:lnTo>
                  <a:lnTo>
                    <a:pt x="200" y="650"/>
                  </a:lnTo>
                  <a:lnTo>
                    <a:pt x="198" y="626"/>
                  </a:lnTo>
                  <a:lnTo>
                    <a:pt x="178" y="576"/>
                  </a:lnTo>
                  <a:lnTo>
                    <a:pt x="176" y="522"/>
                  </a:lnTo>
                  <a:lnTo>
                    <a:pt x="164" y="510"/>
                  </a:lnTo>
                  <a:lnTo>
                    <a:pt x="114" y="514"/>
                  </a:lnTo>
                  <a:lnTo>
                    <a:pt x="98" y="512"/>
                  </a:lnTo>
                  <a:lnTo>
                    <a:pt x="90" y="506"/>
                  </a:lnTo>
                  <a:lnTo>
                    <a:pt x="78" y="448"/>
                  </a:lnTo>
                  <a:lnTo>
                    <a:pt x="62" y="406"/>
                  </a:lnTo>
                  <a:lnTo>
                    <a:pt x="40" y="378"/>
                  </a:lnTo>
                  <a:lnTo>
                    <a:pt x="26" y="366"/>
                  </a:lnTo>
                  <a:lnTo>
                    <a:pt x="12" y="370"/>
                  </a:lnTo>
                  <a:lnTo>
                    <a:pt x="4" y="354"/>
                  </a:lnTo>
                  <a:lnTo>
                    <a:pt x="0" y="332"/>
                  </a:lnTo>
                  <a:lnTo>
                    <a:pt x="6" y="330"/>
                  </a:lnTo>
                  <a:lnTo>
                    <a:pt x="8" y="312"/>
                  </a:lnTo>
                  <a:lnTo>
                    <a:pt x="16" y="300"/>
                  </a:lnTo>
                  <a:lnTo>
                    <a:pt x="34" y="292"/>
                  </a:lnTo>
                  <a:lnTo>
                    <a:pt x="48" y="288"/>
                  </a:lnTo>
                  <a:lnTo>
                    <a:pt x="38" y="266"/>
                  </a:lnTo>
                  <a:lnTo>
                    <a:pt x="34" y="250"/>
                  </a:lnTo>
                  <a:lnTo>
                    <a:pt x="86" y="190"/>
                  </a:lnTo>
                  <a:lnTo>
                    <a:pt x="94" y="170"/>
                  </a:lnTo>
                  <a:lnTo>
                    <a:pt x="94" y="156"/>
                  </a:lnTo>
                  <a:lnTo>
                    <a:pt x="128" y="234"/>
                  </a:lnTo>
                  <a:lnTo>
                    <a:pt x="174" y="216"/>
                  </a:lnTo>
                  <a:lnTo>
                    <a:pt x="182" y="208"/>
                  </a:lnTo>
                  <a:lnTo>
                    <a:pt x="176" y="164"/>
                  </a:lnTo>
                  <a:lnTo>
                    <a:pt x="146" y="114"/>
                  </a:lnTo>
                  <a:lnTo>
                    <a:pt x="130" y="62"/>
                  </a:lnTo>
                  <a:lnTo>
                    <a:pt x="124" y="26"/>
                  </a:lnTo>
                  <a:lnTo>
                    <a:pt x="138" y="0"/>
                  </a:lnTo>
                  <a:lnTo>
                    <a:pt x="190" y="4"/>
                  </a:lnTo>
                  <a:lnTo>
                    <a:pt x="192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74360" y="3388680"/>
              <a:ext cx="110880" cy="168480"/>
            </a:xfrm>
            <a:custGeom>
              <a:avLst/>
              <a:gdLst/>
              <a:ahLst/>
              <a:rect l="l" t="t" r="r" b="b"/>
              <a:pathLst>
                <a:path w="638" h="988">
                  <a:moveTo>
                    <a:pt x="638" y="804"/>
                  </a:moveTo>
                  <a:lnTo>
                    <a:pt x="618" y="780"/>
                  </a:lnTo>
                  <a:lnTo>
                    <a:pt x="532" y="734"/>
                  </a:lnTo>
                  <a:lnTo>
                    <a:pt x="490" y="704"/>
                  </a:lnTo>
                  <a:lnTo>
                    <a:pt x="454" y="694"/>
                  </a:lnTo>
                  <a:lnTo>
                    <a:pt x="440" y="678"/>
                  </a:lnTo>
                  <a:lnTo>
                    <a:pt x="432" y="648"/>
                  </a:lnTo>
                  <a:lnTo>
                    <a:pt x="444" y="670"/>
                  </a:lnTo>
                  <a:lnTo>
                    <a:pt x="436" y="650"/>
                  </a:lnTo>
                  <a:lnTo>
                    <a:pt x="406" y="604"/>
                  </a:lnTo>
                  <a:lnTo>
                    <a:pt x="398" y="586"/>
                  </a:lnTo>
                  <a:lnTo>
                    <a:pt x="418" y="576"/>
                  </a:lnTo>
                  <a:lnTo>
                    <a:pt x="430" y="560"/>
                  </a:lnTo>
                  <a:lnTo>
                    <a:pt x="428" y="538"/>
                  </a:lnTo>
                  <a:lnTo>
                    <a:pt x="476" y="526"/>
                  </a:lnTo>
                  <a:lnTo>
                    <a:pt x="490" y="504"/>
                  </a:lnTo>
                  <a:lnTo>
                    <a:pt x="488" y="488"/>
                  </a:lnTo>
                  <a:lnTo>
                    <a:pt x="510" y="448"/>
                  </a:lnTo>
                  <a:lnTo>
                    <a:pt x="518" y="400"/>
                  </a:lnTo>
                  <a:lnTo>
                    <a:pt x="540" y="378"/>
                  </a:lnTo>
                  <a:lnTo>
                    <a:pt x="544" y="364"/>
                  </a:lnTo>
                  <a:lnTo>
                    <a:pt x="502" y="292"/>
                  </a:lnTo>
                  <a:lnTo>
                    <a:pt x="482" y="272"/>
                  </a:lnTo>
                  <a:lnTo>
                    <a:pt x="470" y="244"/>
                  </a:lnTo>
                  <a:lnTo>
                    <a:pt x="468" y="212"/>
                  </a:lnTo>
                  <a:lnTo>
                    <a:pt x="464" y="190"/>
                  </a:lnTo>
                  <a:lnTo>
                    <a:pt x="476" y="110"/>
                  </a:lnTo>
                  <a:lnTo>
                    <a:pt x="488" y="102"/>
                  </a:lnTo>
                  <a:lnTo>
                    <a:pt x="504" y="106"/>
                  </a:lnTo>
                  <a:lnTo>
                    <a:pt x="490" y="88"/>
                  </a:lnTo>
                  <a:lnTo>
                    <a:pt x="470" y="70"/>
                  </a:lnTo>
                  <a:lnTo>
                    <a:pt x="460" y="56"/>
                  </a:lnTo>
                  <a:lnTo>
                    <a:pt x="440" y="56"/>
                  </a:lnTo>
                  <a:lnTo>
                    <a:pt x="398" y="22"/>
                  </a:lnTo>
                  <a:lnTo>
                    <a:pt x="358" y="0"/>
                  </a:lnTo>
                  <a:lnTo>
                    <a:pt x="350" y="20"/>
                  </a:lnTo>
                  <a:lnTo>
                    <a:pt x="364" y="70"/>
                  </a:lnTo>
                  <a:lnTo>
                    <a:pt x="368" y="112"/>
                  </a:lnTo>
                  <a:lnTo>
                    <a:pt x="336" y="174"/>
                  </a:lnTo>
                  <a:lnTo>
                    <a:pt x="292" y="192"/>
                  </a:lnTo>
                  <a:lnTo>
                    <a:pt x="250" y="198"/>
                  </a:lnTo>
                  <a:lnTo>
                    <a:pt x="250" y="218"/>
                  </a:lnTo>
                  <a:lnTo>
                    <a:pt x="312" y="294"/>
                  </a:lnTo>
                  <a:lnTo>
                    <a:pt x="226" y="312"/>
                  </a:lnTo>
                  <a:lnTo>
                    <a:pt x="180" y="294"/>
                  </a:lnTo>
                  <a:lnTo>
                    <a:pt x="134" y="286"/>
                  </a:lnTo>
                  <a:lnTo>
                    <a:pt x="120" y="312"/>
                  </a:lnTo>
                  <a:lnTo>
                    <a:pt x="110" y="386"/>
                  </a:lnTo>
                  <a:lnTo>
                    <a:pt x="92" y="426"/>
                  </a:lnTo>
                  <a:lnTo>
                    <a:pt x="36" y="486"/>
                  </a:lnTo>
                  <a:lnTo>
                    <a:pt x="10" y="506"/>
                  </a:lnTo>
                  <a:lnTo>
                    <a:pt x="0" y="600"/>
                  </a:lnTo>
                  <a:lnTo>
                    <a:pt x="2" y="608"/>
                  </a:lnTo>
                  <a:lnTo>
                    <a:pt x="46" y="636"/>
                  </a:lnTo>
                  <a:lnTo>
                    <a:pt x="70" y="660"/>
                  </a:lnTo>
                  <a:lnTo>
                    <a:pt x="88" y="640"/>
                  </a:lnTo>
                  <a:lnTo>
                    <a:pt x="124" y="650"/>
                  </a:lnTo>
                  <a:lnTo>
                    <a:pt x="160" y="650"/>
                  </a:lnTo>
                  <a:lnTo>
                    <a:pt x="178" y="658"/>
                  </a:lnTo>
                  <a:lnTo>
                    <a:pt x="182" y="684"/>
                  </a:lnTo>
                  <a:lnTo>
                    <a:pt x="202" y="734"/>
                  </a:lnTo>
                  <a:lnTo>
                    <a:pt x="222" y="792"/>
                  </a:lnTo>
                  <a:lnTo>
                    <a:pt x="238" y="810"/>
                  </a:lnTo>
                  <a:lnTo>
                    <a:pt x="256" y="808"/>
                  </a:lnTo>
                  <a:lnTo>
                    <a:pt x="232" y="830"/>
                  </a:lnTo>
                  <a:lnTo>
                    <a:pt x="234" y="842"/>
                  </a:lnTo>
                  <a:lnTo>
                    <a:pt x="226" y="852"/>
                  </a:lnTo>
                  <a:lnTo>
                    <a:pt x="238" y="894"/>
                  </a:lnTo>
                  <a:lnTo>
                    <a:pt x="238" y="928"/>
                  </a:lnTo>
                  <a:lnTo>
                    <a:pt x="274" y="928"/>
                  </a:lnTo>
                  <a:lnTo>
                    <a:pt x="292" y="920"/>
                  </a:lnTo>
                  <a:lnTo>
                    <a:pt x="298" y="932"/>
                  </a:lnTo>
                  <a:lnTo>
                    <a:pt x="298" y="948"/>
                  </a:lnTo>
                  <a:lnTo>
                    <a:pt x="286" y="950"/>
                  </a:lnTo>
                  <a:lnTo>
                    <a:pt x="298" y="964"/>
                  </a:lnTo>
                  <a:lnTo>
                    <a:pt x="310" y="960"/>
                  </a:lnTo>
                  <a:lnTo>
                    <a:pt x="332" y="988"/>
                  </a:lnTo>
                  <a:lnTo>
                    <a:pt x="338" y="988"/>
                  </a:lnTo>
                  <a:lnTo>
                    <a:pt x="356" y="986"/>
                  </a:lnTo>
                  <a:lnTo>
                    <a:pt x="358" y="972"/>
                  </a:lnTo>
                  <a:lnTo>
                    <a:pt x="368" y="964"/>
                  </a:lnTo>
                  <a:lnTo>
                    <a:pt x="362" y="938"/>
                  </a:lnTo>
                  <a:lnTo>
                    <a:pt x="348" y="928"/>
                  </a:lnTo>
                  <a:lnTo>
                    <a:pt x="366" y="930"/>
                  </a:lnTo>
                  <a:lnTo>
                    <a:pt x="392" y="950"/>
                  </a:lnTo>
                  <a:lnTo>
                    <a:pt x="412" y="956"/>
                  </a:lnTo>
                  <a:lnTo>
                    <a:pt x="436" y="968"/>
                  </a:lnTo>
                  <a:lnTo>
                    <a:pt x="438" y="956"/>
                  </a:lnTo>
                  <a:lnTo>
                    <a:pt x="456" y="944"/>
                  </a:lnTo>
                  <a:lnTo>
                    <a:pt x="486" y="964"/>
                  </a:lnTo>
                  <a:lnTo>
                    <a:pt x="502" y="934"/>
                  </a:lnTo>
                  <a:lnTo>
                    <a:pt x="520" y="874"/>
                  </a:lnTo>
                  <a:lnTo>
                    <a:pt x="558" y="866"/>
                  </a:lnTo>
                  <a:lnTo>
                    <a:pt x="596" y="866"/>
                  </a:lnTo>
                  <a:lnTo>
                    <a:pt x="622" y="846"/>
                  </a:lnTo>
                  <a:lnTo>
                    <a:pt x="638" y="80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41600" y="4604760"/>
              <a:ext cx="248040" cy="267840"/>
            </a:xfrm>
            <a:custGeom>
              <a:avLst/>
              <a:gdLst/>
              <a:ahLst/>
              <a:rect l="l" t="t" r="r" b="b"/>
              <a:pathLst>
                <a:path w="1430" h="1576">
                  <a:moveTo>
                    <a:pt x="1216" y="36"/>
                  </a:moveTo>
                  <a:lnTo>
                    <a:pt x="1224" y="40"/>
                  </a:lnTo>
                  <a:lnTo>
                    <a:pt x="1220" y="46"/>
                  </a:lnTo>
                  <a:lnTo>
                    <a:pt x="1208" y="56"/>
                  </a:lnTo>
                  <a:lnTo>
                    <a:pt x="1194" y="62"/>
                  </a:lnTo>
                  <a:lnTo>
                    <a:pt x="1216" y="74"/>
                  </a:lnTo>
                  <a:lnTo>
                    <a:pt x="1230" y="90"/>
                  </a:lnTo>
                  <a:lnTo>
                    <a:pt x="1250" y="96"/>
                  </a:lnTo>
                  <a:lnTo>
                    <a:pt x="1250" y="126"/>
                  </a:lnTo>
                  <a:lnTo>
                    <a:pt x="1238" y="136"/>
                  </a:lnTo>
                  <a:lnTo>
                    <a:pt x="1218" y="130"/>
                  </a:lnTo>
                  <a:lnTo>
                    <a:pt x="1214" y="140"/>
                  </a:lnTo>
                  <a:lnTo>
                    <a:pt x="1178" y="142"/>
                  </a:lnTo>
                  <a:lnTo>
                    <a:pt x="1168" y="154"/>
                  </a:lnTo>
                  <a:lnTo>
                    <a:pt x="1190" y="190"/>
                  </a:lnTo>
                  <a:lnTo>
                    <a:pt x="1202" y="198"/>
                  </a:lnTo>
                  <a:lnTo>
                    <a:pt x="1204" y="210"/>
                  </a:lnTo>
                  <a:lnTo>
                    <a:pt x="1196" y="220"/>
                  </a:lnTo>
                  <a:lnTo>
                    <a:pt x="1202" y="234"/>
                  </a:lnTo>
                  <a:lnTo>
                    <a:pt x="1220" y="250"/>
                  </a:lnTo>
                  <a:lnTo>
                    <a:pt x="1232" y="268"/>
                  </a:lnTo>
                  <a:lnTo>
                    <a:pt x="1242" y="294"/>
                  </a:lnTo>
                  <a:lnTo>
                    <a:pt x="1292" y="388"/>
                  </a:lnTo>
                  <a:lnTo>
                    <a:pt x="1284" y="404"/>
                  </a:lnTo>
                  <a:lnTo>
                    <a:pt x="1282" y="418"/>
                  </a:lnTo>
                  <a:lnTo>
                    <a:pt x="1276" y="426"/>
                  </a:lnTo>
                  <a:lnTo>
                    <a:pt x="1276" y="442"/>
                  </a:lnTo>
                  <a:lnTo>
                    <a:pt x="1280" y="460"/>
                  </a:lnTo>
                  <a:lnTo>
                    <a:pt x="1414" y="604"/>
                  </a:lnTo>
                  <a:lnTo>
                    <a:pt x="1430" y="626"/>
                  </a:lnTo>
                  <a:lnTo>
                    <a:pt x="1430" y="642"/>
                  </a:lnTo>
                  <a:lnTo>
                    <a:pt x="1406" y="652"/>
                  </a:lnTo>
                  <a:lnTo>
                    <a:pt x="1358" y="656"/>
                  </a:lnTo>
                  <a:lnTo>
                    <a:pt x="1318" y="644"/>
                  </a:lnTo>
                  <a:lnTo>
                    <a:pt x="1298" y="612"/>
                  </a:lnTo>
                  <a:lnTo>
                    <a:pt x="1292" y="628"/>
                  </a:lnTo>
                  <a:lnTo>
                    <a:pt x="1300" y="654"/>
                  </a:lnTo>
                  <a:lnTo>
                    <a:pt x="1298" y="662"/>
                  </a:lnTo>
                  <a:lnTo>
                    <a:pt x="1270" y="680"/>
                  </a:lnTo>
                  <a:lnTo>
                    <a:pt x="1250" y="712"/>
                  </a:lnTo>
                  <a:lnTo>
                    <a:pt x="1238" y="740"/>
                  </a:lnTo>
                  <a:lnTo>
                    <a:pt x="1232" y="770"/>
                  </a:lnTo>
                  <a:lnTo>
                    <a:pt x="1232" y="806"/>
                  </a:lnTo>
                  <a:lnTo>
                    <a:pt x="1224" y="838"/>
                  </a:lnTo>
                  <a:lnTo>
                    <a:pt x="1222" y="898"/>
                  </a:lnTo>
                  <a:lnTo>
                    <a:pt x="1204" y="928"/>
                  </a:lnTo>
                  <a:lnTo>
                    <a:pt x="1168" y="1028"/>
                  </a:lnTo>
                  <a:lnTo>
                    <a:pt x="1144" y="1052"/>
                  </a:lnTo>
                  <a:lnTo>
                    <a:pt x="1132" y="1042"/>
                  </a:lnTo>
                  <a:lnTo>
                    <a:pt x="1116" y="1068"/>
                  </a:lnTo>
                  <a:lnTo>
                    <a:pt x="1048" y="1134"/>
                  </a:lnTo>
                  <a:lnTo>
                    <a:pt x="1052" y="1146"/>
                  </a:lnTo>
                  <a:lnTo>
                    <a:pt x="1068" y="1152"/>
                  </a:lnTo>
                  <a:lnTo>
                    <a:pt x="1070" y="1182"/>
                  </a:lnTo>
                  <a:lnTo>
                    <a:pt x="1070" y="1206"/>
                  </a:lnTo>
                  <a:lnTo>
                    <a:pt x="1098" y="1226"/>
                  </a:lnTo>
                  <a:lnTo>
                    <a:pt x="1082" y="1288"/>
                  </a:lnTo>
                  <a:lnTo>
                    <a:pt x="1068" y="1276"/>
                  </a:lnTo>
                  <a:lnTo>
                    <a:pt x="1060" y="1286"/>
                  </a:lnTo>
                  <a:lnTo>
                    <a:pt x="1056" y="1326"/>
                  </a:lnTo>
                  <a:lnTo>
                    <a:pt x="1044" y="1356"/>
                  </a:lnTo>
                  <a:lnTo>
                    <a:pt x="1032" y="1358"/>
                  </a:lnTo>
                  <a:lnTo>
                    <a:pt x="1028" y="1374"/>
                  </a:lnTo>
                  <a:lnTo>
                    <a:pt x="1030" y="1390"/>
                  </a:lnTo>
                  <a:lnTo>
                    <a:pt x="1026" y="1402"/>
                  </a:lnTo>
                  <a:lnTo>
                    <a:pt x="1018" y="1406"/>
                  </a:lnTo>
                  <a:lnTo>
                    <a:pt x="1008" y="1420"/>
                  </a:lnTo>
                  <a:lnTo>
                    <a:pt x="998" y="1462"/>
                  </a:lnTo>
                  <a:lnTo>
                    <a:pt x="964" y="1488"/>
                  </a:lnTo>
                  <a:lnTo>
                    <a:pt x="956" y="1492"/>
                  </a:lnTo>
                  <a:lnTo>
                    <a:pt x="928" y="1512"/>
                  </a:lnTo>
                  <a:lnTo>
                    <a:pt x="828" y="1568"/>
                  </a:lnTo>
                  <a:lnTo>
                    <a:pt x="806" y="1576"/>
                  </a:lnTo>
                  <a:lnTo>
                    <a:pt x="796" y="1492"/>
                  </a:lnTo>
                  <a:lnTo>
                    <a:pt x="790" y="1462"/>
                  </a:lnTo>
                  <a:lnTo>
                    <a:pt x="784" y="1454"/>
                  </a:lnTo>
                  <a:lnTo>
                    <a:pt x="772" y="1450"/>
                  </a:lnTo>
                  <a:lnTo>
                    <a:pt x="752" y="1426"/>
                  </a:lnTo>
                  <a:lnTo>
                    <a:pt x="718" y="1426"/>
                  </a:lnTo>
                  <a:lnTo>
                    <a:pt x="696" y="1436"/>
                  </a:lnTo>
                  <a:lnTo>
                    <a:pt x="672" y="1440"/>
                  </a:lnTo>
                  <a:lnTo>
                    <a:pt x="666" y="1424"/>
                  </a:lnTo>
                  <a:lnTo>
                    <a:pt x="664" y="1396"/>
                  </a:lnTo>
                  <a:lnTo>
                    <a:pt x="616" y="1394"/>
                  </a:lnTo>
                  <a:lnTo>
                    <a:pt x="588" y="1370"/>
                  </a:lnTo>
                  <a:lnTo>
                    <a:pt x="574" y="1364"/>
                  </a:lnTo>
                  <a:lnTo>
                    <a:pt x="568" y="1374"/>
                  </a:lnTo>
                  <a:lnTo>
                    <a:pt x="570" y="1394"/>
                  </a:lnTo>
                  <a:lnTo>
                    <a:pt x="548" y="1410"/>
                  </a:lnTo>
                  <a:lnTo>
                    <a:pt x="512" y="1430"/>
                  </a:lnTo>
                  <a:lnTo>
                    <a:pt x="492" y="1430"/>
                  </a:lnTo>
                  <a:lnTo>
                    <a:pt x="464" y="1424"/>
                  </a:lnTo>
                  <a:lnTo>
                    <a:pt x="440" y="1436"/>
                  </a:lnTo>
                  <a:lnTo>
                    <a:pt x="426" y="1438"/>
                  </a:lnTo>
                  <a:lnTo>
                    <a:pt x="414" y="1446"/>
                  </a:lnTo>
                  <a:lnTo>
                    <a:pt x="406" y="1446"/>
                  </a:lnTo>
                  <a:lnTo>
                    <a:pt x="404" y="1386"/>
                  </a:lnTo>
                  <a:lnTo>
                    <a:pt x="386" y="1316"/>
                  </a:lnTo>
                  <a:lnTo>
                    <a:pt x="374" y="1340"/>
                  </a:lnTo>
                  <a:lnTo>
                    <a:pt x="366" y="1348"/>
                  </a:lnTo>
                  <a:lnTo>
                    <a:pt x="340" y="1338"/>
                  </a:lnTo>
                  <a:lnTo>
                    <a:pt x="326" y="1342"/>
                  </a:lnTo>
                  <a:lnTo>
                    <a:pt x="312" y="1356"/>
                  </a:lnTo>
                  <a:lnTo>
                    <a:pt x="300" y="1362"/>
                  </a:lnTo>
                  <a:lnTo>
                    <a:pt x="278" y="1364"/>
                  </a:lnTo>
                  <a:lnTo>
                    <a:pt x="264" y="1358"/>
                  </a:lnTo>
                  <a:lnTo>
                    <a:pt x="238" y="1362"/>
                  </a:lnTo>
                  <a:lnTo>
                    <a:pt x="212" y="1336"/>
                  </a:lnTo>
                  <a:lnTo>
                    <a:pt x="202" y="1346"/>
                  </a:lnTo>
                  <a:lnTo>
                    <a:pt x="184" y="1348"/>
                  </a:lnTo>
                  <a:lnTo>
                    <a:pt x="176" y="1300"/>
                  </a:lnTo>
                  <a:lnTo>
                    <a:pt x="178" y="1270"/>
                  </a:lnTo>
                  <a:lnTo>
                    <a:pt x="168" y="1252"/>
                  </a:lnTo>
                  <a:lnTo>
                    <a:pt x="158" y="1186"/>
                  </a:lnTo>
                  <a:lnTo>
                    <a:pt x="144" y="1148"/>
                  </a:lnTo>
                  <a:lnTo>
                    <a:pt x="144" y="1132"/>
                  </a:lnTo>
                  <a:lnTo>
                    <a:pt x="150" y="1122"/>
                  </a:lnTo>
                  <a:lnTo>
                    <a:pt x="154" y="1094"/>
                  </a:lnTo>
                  <a:lnTo>
                    <a:pt x="150" y="1054"/>
                  </a:lnTo>
                  <a:lnTo>
                    <a:pt x="142" y="1028"/>
                  </a:lnTo>
                  <a:lnTo>
                    <a:pt x="118" y="972"/>
                  </a:lnTo>
                  <a:lnTo>
                    <a:pt x="112" y="952"/>
                  </a:lnTo>
                  <a:lnTo>
                    <a:pt x="100" y="934"/>
                  </a:lnTo>
                  <a:lnTo>
                    <a:pt x="74" y="924"/>
                  </a:lnTo>
                  <a:lnTo>
                    <a:pt x="62" y="902"/>
                  </a:lnTo>
                  <a:lnTo>
                    <a:pt x="46" y="904"/>
                  </a:lnTo>
                  <a:lnTo>
                    <a:pt x="36" y="892"/>
                  </a:lnTo>
                  <a:lnTo>
                    <a:pt x="30" y="854"/>
                  </a:lnTo>
                  <a:lnTo>
                    <a:pt x="30" y="784"/>
                  </a:lnTo>
                  <a:lnTo>
                    <a:pt x="16" y="752"/>
                  </a:lnTo>
                  <a:lnTo>
                    <a:pt x="6" y="740"/>
                  </a:lnTo>
                  <a:lnTo>
                    <a:pt x="2" y="722"/>
                  </a:lnTo>
                  <a:lnTo>
                    <a:pt x="0" y="660"/>
                  </a:lnTo>
                  <a:lnTo>
                    <a:pt x="4" y="616"/>
                  </a:lnTo>
                  <a:lnTo>
                    <a:pt x="18" y="552"/>
                  </a:lnTo>
                  <a:lnTo>
                    <a:pt x="28" y="522"/>
                  </a:lnTo>
                  <a:lnTo>
                    <a:pt x="46" y="494"/>
                  </a:lnTo>
                  <a:lnTo>
                    <a:pt x="64" y="454"/>
                  </a:lnTo>
                  <a:lnTo>
                    <a:pt x="82" y="440"/>
                  </a:lnTo>
                  <a:lnTo>
                    <a:pt x="82" y="456"/>
                  </a:lnTo>
                  <a:lnTo>
                    <a:pt x="156" y="588"/>
                  </a:lnTo>
                  <a:lnTo>
                    <a:pt x="190" y="626"/>
                  </a:lnTo>
                  <a:lnTo>
                    <a:pt x="228" y="638"/>
                  </a:lnTo>
                  <a:lnTo>
                    <a:pt x="258" y="624"/>
                  </a:lnTo>
                  <a:lnTo>
                    <a:pt x="286" y="622"/>
                  </a:lnTo>
                  <a:lnTo>
                    <a:pt x="312" y="640"/>
                  </a:lnTo>
                  <a:lnTo>
                    <a:pt x="336" y="630"/>
                  </a:lnTo>
                  <a:lnTo>
                    <a:pt x="362" y="628"/>
                  </a:lnTo>
                  <a:lnTo>
                    <a:pt x="386" y="632"/>
                  </a:lnTo>
                  <a:lnTo>
                    <a:pt x="404" y="622"/>
                  </a:lnTo>
                  <a:lnTo>
                    <a:pt x="446" y="556"/>
                  </a:lnTo>
                  <a:lnTo>
                    <a:pt x="466" y="530"/>
                  </a:lnTo>
                  <a:lnTo>
                    <a:pt x="478" y="526"/>
                  </a:lnTo>
                  <a:lnTo>
                    <a:pt x="550" y="530"/>
                  </a:lnTo>
                  <a:lnTo>
                    <a:pt x="562" y="536"/>
                  </a:lnTo>
                  <a:lnTo>
                    <a:pt x="566" y="560"/>
                  </a:lnTo>
                  <a:lnTo>
                    <a:pt x="578" y="562"/>
                  </a:lnTo>
                  <a:lnTo>
                    <a:pt x="634" y="584"/>
                  </a:lnTo>
                  <a:lnTo>
                    <a:pt x="658" y="584"/>
                  </a:lnTo>
                  <a:lnTo>
                    <a:pt x="688" y="566"/>
                  </a:lnTo>
                  <a:lnTo>
                    <a:pt x="714" y="556"/>
                  </a:lnTo>
                  <a:lnTo>
                    <a:pt x="742" y="550"/>
                  </a:lnTo>
                  <a:lnTo>
                    <a:pt x="776" y="536"/>
                  </a:lnTo>
                  <a:lnTo>
                    <a:pt x="794" y="518"/>
                  </a:lnTo>
                  <a:lnTo>
                    <a:pt x="802" y="494"/>
                  </a:lnTo>
                  <a:lnTo>
                    <a:pt x="822" y="456"/>
                  </a:lnTo>
                  <a:lnTo>
                    <a:pt x="842" y="394"/>
                  </a:lnTo>
                  <a:lnTo>
                    <a:pt x="854" y="304"/>
                  </a:lnTo>
                  <a:lnTo>
                    <a:pt x="918" y="202"/>
                  </a:lnTo>
                  <a:lnTo>
                    <a:pt x="930" y="164"/>
                  </a:lnTo>
                  <a:lnTo>
                    <a:pt x="934" y="94"/>
                  </a:lnTo>
                  <a:lnTo>
                    <a:pt x="946" y="34"/>
                  </a:lnTo>
                  <a:lnTo>
                    <a:pt x="962" y="6"/>
                  </a:lnTo>
                  <a:lnTo>
                    <a:pt x="1010" y="0"/>
                  </a:lnTo>
                  <a:lnTo>
                    <a:pt x="1144" y="2"/>
                  </a:lnTo>
                  <a:lnTo>
                    <a:pt x="1166" y="20"/>
                  </a:lnTo>
                  <a:lnTo>
                    <a:pt x="1202" y="34"/>
                  </a:lnTo>
                  <a:lnTo>
                    <a:pt x="1216" y="3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88080" y="4754880"/>
              <a:ext cx="253080" cy="291240"/>
            </a:xfrm>
            <a:custGeom>
              <a:avLst/>
              <a:gdLst/>
              <a:ahLst/>
              <a:rect l="l" t="t" r="r" b="b"/>
              <a:pathLst>
                <a:path w="1450" h="1702">
                  <a:moveTo>
                    <a:pt x="1364" y="1702"/>
                  </a:moveTo>
                  <a:lnTo>
                    <a:pt x="1362" y="1698"/>
                  </a:lnTo>
                  <a:lnTo>
                    <a:pt x="1336" y="1684"/>
                  </a:lnTo>
                  <a:lnTo>
                    <a:pt x="1318" y="1662"/>
                  </a:lnTo>
                  <a:lnTo>
                    <a:pt x="1280" y="1610"/>
                  </a:lnTo>
                  <a:lnTo>
                    <a:pt x="1262" y="1570"/>
                  </a:lnTo>
                  <a:lnTo>
                    <a:pt x="1240" y="1534"/>
                  </a:lnTo>
                  <a:lnTo>
                    <a:pt x="1220" y="1514"/>
                  </a:lnTo>
                  <a:lnTo>
                    <a:pt x="1216" y="1502"/>
                  </a:lnTo>
                  <a:lnTo>
                    <a:pt x="1206" y="1486"/>
                  </a:lnTo>
                  <a:lnTo>
                    <a:pt x="1172" y="1496"/>
                  </a:lnTo>
                  <a:lnTo>
                    <a:pt x="1144" y="1508"/>
                  </a:lnTo>
                  <a:lnTo>
                    <a:pt x="1096" y="1496"/>
                  </a:lnTo>
                  <a:lnTo>
                    <a:pt x="1072" y="1522"/>
                  </a:lnTo>
                  <a:lnTo>
                    <a:pt x="1060" y="1504"/>
                  </a:lnTo>
                  <a:lnTo>
                    <a:pt x="1054" y="1528"/>
                  </a:lnTo>
                  <a:lnTo>
                    <a:pt x="1054" y="1536"/>
                  </a:lnTo>
                  <a:lnTo>
                    <a:pt x="1046" y="1540"/>
                  </a:lnTo>
                  <a:lnTo>
                    <a:pt x="1026" y="1542"/>
                  </a:lnTo>
                  <a:lnTo>
                    <a:pt x="1016" y="1526"/>
                  </a:lnTo>
                  <a:lnTo>
                    <a:pt x="960" y="1546"/>
                  </a:lnTo>
                  <a:lnTo>
                    <a:pt x="908" y="1552"/>
                  </a:lnTo>
                  <a:lnTo>
                    <a:pt x="888" y="1548"/>
                  </a:lnTo>
                  <a:lnTo>
                    <a:pt x="892" y="1518"/>
                  </a:lnTo>
                  <a:lnTo>
                    <a:pt x="914" y="1480"/>
                  </a:lnTo>
                  <a:lnTo>
                    <a:pt x="936" y="1428"/>
                  </a:lnTo>
                  <a:lnTo>
                    <a:pt x="986" y="1364"/>
                  </a:lnTo>
                  <a:lnTo>
                    <a:pt x="1018" y="1352"/>
                  </a:lnTo>
                  <a:lnTo>
                    <a:pt x="1040" y="1354"/>
                  </a:lnTo>
                  <a:lnTo>
                    <a:pt x="1062" y="1378"/>
                  </a:lnTo>
                  <a:lnTo>
                    <a:pt x="1080" y="1386"/>
                  </a:lnTo>
                  <a:lnTo>
                    <a:pt x="1084" y="1362"/>
                  </a:lnTo>
                  <a:lnTo>
                    <a:pt x="1060" y="1328"/>
                  </a:lnTo>
                  <a:lnTo>
                    <a:pt x="1064" y="1318"/>
                  </a:lnTo>
                  <a:lnTo>
                    <a:pt x="1084" y="1312"/>
                  </a:lnTo>
                  <a:lnTo>
                    <a:pt x="1058" y="1298"/>
                  </a:lnTo>
                  <a:lnTo>
                    <a:pt x="1030" y="1270"/>
                  </a:lnTo>
                  <a:lnTo>
                    <a:pt x="1046" y="1262"/>
                  </a:lnTo>
                  <a:lnTo>
                    <a:pt x="1062" y="1204"/>
                  </a:lnTo>
                  <a:lnTo>
                    <a:pt x="1042" y="1182"/>
                  </a:lnTo>
                  <a:lnTo>
                    <a:pt x="1026" y="1134"/>
                  </a:lnTo>
                  <a:lnTo>
                    <a:pt x="1024" y="1062"/>
                  </a:lnTo>
                  <a:lnTo>
                    <a:pt x="1028" y="1048"/>
                  </a:lnTo>
                  <a:lnTo>
                    <a:pt x="1016" y="1036"/>
                  </a:lnTo>
                  <a:lnTo>
                    <a:pt x="994" y="980"/>
                  </a:lnTo>
                  <a:lnTo>
                    <a:pt x="978" y="980"/>
                  </a:lnTo>
                  <a:lnTo>
                    <a:pt x="962" y="970"/>
                  </a:lnTo>
                  <a:lnTo>
                    <a:pt x="952" y="948"/>
                  </a:lnTo>
                  <a:lnTo>
                    <a:pt x="948" y="948"/>
                  </a:lnTo>
                  <a:lnTo>
                    <a:pt x="938" y="926"/>
                  </a:lnTo>
                  <a:lnTo>
                    <a:pt x="910" y="916"/>
                  </a:lnTo>
                  <a:lnTo>
                    <a:pt x="866" y="884"/>
                  </a:lnTo>
                  <a:lnTo>
                    <a:pt x="840" y="886"/>
                  </a:lnTo>
                  <a:lnTo>
                    <a:pt x="790" y="846"/>
                  </a:lnTo>
                  <a:lnTo>
                    <a:pt x="756" y="834"/>
                  </a:lnTo>
                  <a:lnTo>
                    <a:pt x="730" y="830"/>
                  </a:lnTo>
                  <a:lnTo>
                    <a:pt x="682" y="802"/>
                  </a:lnTo>
                  <a:lnTo>
                    <a:pt x="654" y="798"/>
                  </a:lnTo>
                  <a:lnTo>
                    <a:pt x="610" y="788"/>
                  </a:lnTo>
                  <a:lnTo>
                    <a:pt x="576" y="784"/>
                  </a:lnTo>
                  <a:lnTo>
                    <a:pt x="572" y="770"/>
                  </a:lnTo>
                  <a:lnTo>
                    <a:pt x="564" y="768"/>
                  </a:lnTo>
                  <a:lnTo>
                    <a:pt x="540" y="752"/>
                  </a:lnTo>
                  <a:lnTo>
                    <a:pt x="526" y="726"/>
                  </a:lnTo>
                  <a:lnTo>
                    <a:pt x="524" y="696"/>
                  </a:lnTo>
                  <a:lnTo>
                    <a:pt x="502" y="698"/>
                  </a:lnTo>
                  <a:lnTo>
                    <a:pt x="476" y="690"/>
                  </a:lnTo>
                  <a:lnTo>
                    <a:pt x="472" y="714"/>
                  </a:lnTo>
                  <a:lnTo>
                    <a:pt x="464" y="692"/>
                  </a:lnTo>
                  <a:lnTo>
                    <a:pt x="440" y="670"/>
                  </a:lnTo>
                  <a:lnTo>
                    <a:pt x="428" y="664"/>
                  </a:lnTo>
                  <a:lnTo>
                    <a:pt x="424" y="642"/>
                  </a:lnTo>
                  <a:lnTo>
                    <a:pt x="398" y="626"/>
                  </a:lnTo>
                  <a:lnTo>
                    <a:pt x="394" y="604"/>
                  </a:lnTo>
                  <a:lnTo>
                    <a:pt x="398" y="566"/>
                  </a:lnTo>
                  <a:lnTo>
                    <a:pt x="412" y="526"/>
                  </a:lnTo>
                  <a:lnTo>
                    <a:pt x="410" y="498"/>
                  </a:lnTo>
                  <a:lnTo>
                    <a:pt x="402" y="522"/>
                  </a:lnTo>
                  <a:lnTo>
                    <a:pt x="396" y="556"/>
                  </a:lnTo>
                  <a:lnTo>
                    <a:pt x="386" y="584"/>
                  </a:lnTo>
                  <a:lnTo>
                    <a:pt x="364" y="634"/>
                  </a:lnTo>
                  <a:lnTo>
                    <a:pt x="356" y="662"/>
                  </a:lnTo>
                  <a:lnTo>
                    <a:pt x="344" y="686"/>
                  </a:lnTo>
                  <a:lnTo>
                    <a:pt x="326" y="710"/>
                  </a:lnTo>
                  <a:lnTo>
                    <a:pt x="276" y="718"/>
                  </a:lnTo>
                  <a:lnTo>
                    <a:pt x="264" y="710"/>
                  </a:lnTo>
                  <a:lnTo>
                    <a:pt x="258" y="696"/>
                  </a:lnTo>
                  <a:lnTo>
                    <a:pt x="258" y="666"/>
                  </a:lnTo>
                  <a:lnTo>
                    <a:pt x="254" y="624"/>
                  </a:lnTo>
                  <a:lnTo>
                    <a:pt x="256" y="608"/>
                  </a:lnTo>
                  <a:lnTo>
                    <a:pt x="258" y="570"/>
                  </a:lnTo>
                  <a:lnTo>
                    <a:pt x="240" y="570"/>
                  </a:lnTo>
                  <a:lnTo>
                    <a:pt x="222" y="524"/>
                  </a:lnTo>
                  <a:lnTo>
                    <a:pt x="196" y="500"/>
                  </a:lnTo>
                  <a:lnTo>
                    <a:pt x="160" y="502"/>
                  </a:lnTo>
                  <a:lnTo>
                    <a:pt x="140" y="492"/>
                  </a:lnTo>
                  <a:lnTo>
                    <a:pt x="144" y="460"/>
                  </a:lnTo>
                  <a:lnTo>
                    <a:pt x="170" y="446"/>
                  </a:lnTo>
                  <a:lnTo>
                    <a:pt x="206" y="444"/>
                  </a:lnTo>
                  <a:lnTo>
                    <a:pt x="242" y="454"/>
                  </a:lnTo>
                  <a:lnTo>
                    <a:pt x="296" y="416"/>
                  </a:lnTo>
                  <a:lnTo>
                    <a:pt x="322" y="404"/>
                  </a:lnTo>
                  <a:lnTo>
                    <a:pt x="348" y="418"/>
                  </a:lnTo>
                  <a:lnTo>
                    <a:pt x="380" y="420"/>
                  </a:lnTo>
                  <a:lnTo>
                    <a:pt x="404" y="408"/>
                  </a:lnTo>
                  <a:lnTo>
                    <a:pt x="406" y="372"/>
                  </a:lnTo>
                  <a:lnTo>
                    <a:pt x="416" y="348"/>
                  </a:lnTo>
                  <a:lnTo>
                    <a:pt x="420" y="324"/>
                  </a:lnTo>
                  <a:lnTo>
                    <a:pt x="394" y="340"/>
                  </a:lnTo>
                  <a:lnTo>
                    <a:pt x="344" y="358"/>
                  </a:lnTo>
                  <a:lnTo>
                    <a:pt x="284" y="374"/>
                  </a:lnTo>
                  <a:lnTo>
                    <a:pt x="244" y="372"/>
                  </a:lnTo>
                  <a:lnTo>
                    <a:pt x="220" y="364"/>
                  </a:lnTo>
                  <a:lnTo>
                    <a:pt x="198" y="372"/>
                  </a:lnTo>
                  <a:lnTo>
                    <a:pt x="160" y="344"/>
                  </a:lnTo>
                  <a:lnTo>
                    <a:pt x="142" y="292"/>
                  </a:lnTo>
                  <a:lnTo>
                    <a:pt x="136" y="254"/>
                  </a:lnTo>
                  <a:lnTo>
                    <a:pt x="120" y="236"/>
                  </a:lnTo>
                  <a:lnTo>
                    <a:pt x="96" y="218"/>
                  </a:lnTo>
                  <a:lnTo>
                    <a:pt x="70" y="222"/>
                  </a:lnTo>
                  <a:lnTo>
                    <a:pt x="52" y="208"/>
                  </a:lnTo>
                  <a:lnTo>
                    <a:pt x="46" y="230"/>
                  </a:lnTo>
                  <a:lnTo>
                    <a:pt x="0" y="202"/>
                  </a:lnTo>
                  <a:lnTo>
                    <a:pt x="8" y="180"/>
                  </a:lnTo>
                  <a:lnTo>
                    <a:pt x="22" y="160"/>
                  </a:lnTo>
                  <a:lnTo>
                    <a:pt x="44" y="96"/>
                  </a:lnTo>
                  <a:lnTo>
                    <a:pt x="54" y="88"/>
                  </a:lnTo>
                  <a:lnTo>
                    <a:pt x="80" y="80"/>
                  </a:lnTo>
                  <a:lnTo>
                    <a:pt x="102" y="80"/>
                  </a:lnTo>
                  <a:lnTo>
                    <a:pt x="128" y="70"/>
                  </a:lnTo>
                  <a:lnTo>
                    <a:pt x="176" y="12"/>
                  </a:lnTo>
                  <a:lnTo>
                    <a:pt x="210" y="0"/>
                  </a:lnTo>
                  <a:lnTo>
                    <a:pt x="248" y="0"/>
                  </a:lnTo>
                  <a:lnTo>
                    <a:pt x="282" y="10"/>
                  </a:lnTo>
                  <a:lnTo>
                    <a:pt x="316" y="40"/>
                  </a:lnTo>
                  <a:lnTo>
                    <a:pt x="332" y="66"/>
                  </a:lnTo>
                  <a:lnTo>
                    <a:pt x="354" y="82"/>
                  </a:lnTo>
                  <a:lnTo>
                    <a:pt x="442" y="82"/>
                  </a:lnTo>
                  <a:lnTo>
                    <a:pt x="450" y="136"/>
                  </a:lnTo>
                  <a:lnTo>
                    <a:pt x="466" y="172"/>
                  </a:lnTo>
                  <a:lnTo>
                    <a:pt x="468" y="228"/>
                  </a:lnTo>
                  <a:lnTo>
                    <a:pt x="458" y="272"/>
                  </a:lnTo>
                  <a:lnTo>
                    <a:pt x="452" y="316"/>
                  </a:lnTo>
                  <a:lnTo>
                    <a:pt x="466" y="400"/>
                  </a:lnTo>
                  <a:lnTo>
                    <a:pt x="496" y="464"/>
                  </a:lnTo>
                  <a:lnTo>
                    <a:pt x="502" y="446"/>
                  </a:lnTo>
                  <a:lnTo>
                    <a:pt x="504" y="416"/>
                  </a:lnTo>
                  <a:lnTo>
                    <a:pt x="530" y="430"/>
                  </a:lnTo>
                  <a:lnTo>
                    <a:pt x="542" y="486"/>
                  </a:lnTo>
                  <a:lnTo>
                    <a:pt x="548" y="502"/>
                  </a:lnTo>
                  <a:lnTo>
                    <a:pt x="560" y="540"/>
                  </a:lnTo>
                  <a:lnTo>
                    <a:pt x="602" y="576"/>
                  </a:lnTo>
                  <a:lnTo>
                    <a:pt x="620" y="578"/>
                  </a:lnTo>
                  <a:lnTo>
                    <a:pt x="656" y="574"/>
                  </a:lnTo>
                  <a:lnTo>
                    <a:pt x="672" y="532"/>
                  </a:lnTo>
                  <a:lnTo>
                    <a:pt x="692" y="522"/>
                  </a:lnTo>
                  <a:lnTo>
                    <a:pt x="710" y="504"/>
                  </a:lnTo>
                  <a:lnTo>
                    <a:pt x="716" y="478"/>
                  </a:lnTo>
                  <a:lnTo>
                    <a:pt x="768" y="422"/>
                  </a:lnTo>
                  <a:lnTo>
                    <a:pt x="786" y="366"/>
                  </a:lnTo>
                  <a:lnTo>
                    <a:pt x="810" y="356"/>
                  </a:lnTo>
                  <a:lnTo>
                    <a:pt x="830" y="356"/>
                  </a:lnTo>
                  <a:lnTo>
                    <a:pt x="876" y="342"/>
                  </a:lnTo>
                  <a:lnTo>
                    <a:pt x="900" y="322"/>
                  </a:lnTo>
                  <a:lnTo>
                    <a:pt x="900" y="288"/>
                  </a:lnTo>
                  <a:lnTo>
                    <a:pt x="912" y="274"/>
                  </a:lnTo>
                  <a:lnTo>
                    <a:pt x="946" y="240"/>
                  </a:lnTo>
                  <a:lnTo>
                    <a:pt x="994" y="202"/>
                  </a:lnTo>
                  <a:lnTo>
                    <a:pt x="1012" y="214"/>
                  </a:lnTo>
                  <a:lnTo>
                    <a:pt x="1020" y="232"/>
                  </a:lnTo>
                  <a:lnTo>
                    <a:pt x="1070" y="256"/>
                  </a:lnTo>
                  <a:lnTo>
                    <a:pt x="1100" y="276"/>
                  </a:lnTo>
                  <a:lnTo>
                    <a:pt x="1118" y="280"/>
                  </a:lnTo>
                  <a:lnTo>
                    <a:pt x="1128" y="294"/>
                  </a:lnTo>
                  <a:lnTo>
                    <a:pt x="1190" y="322"/>
                  </a:lnTo>
                  <a:lnTo>
                    <a:pt x="1230" y="360"/>
                  </a:lnTo>
                  <a:lnTo>
                    <a:pt x="1248" y="372"/>
                  </a:lnTo>
                  <a:lnTo>
                    <a:pt x="1280" y="384"/>
                  </a:lnTo>
                  <a:lnTo>
                    <a:pt x="1306" y="382"/>
                  </a:lnTo>
                  <a:lnTo>
                    <a:pt x="1318" y="374"/>
                  </a:lnTo>
                  <a:lnTo>
                    <a:pt x="1338" y="386"/>
                  </a:lnTo>
                  <a:lnTo>
                    <a:pt x="1354" y="382"/>
                  </a:lnTo>
                  <a:lnTo>
                    <a:pt x="1364" y="384"/>
                  </a:lnTo>
                  <a:lnTo>
                    <a:pt x="1390" y="406"/>
                  </a:lnTo>
                  <a:lnTo>
                    <a:pt x="1404" y="408"/>
                  </a:lnTo>
                  <a:lnTo>
                    <a:pt x="1408" y="414"/>
                  </a:lnTo>
                  <a:lnTo>
                    <a:pt x="1408" y="426"/>
                  </a:lnTo>
                  <a:lnTo>
                    <a:pt x="1412" y="432"/>
                  </a:lnTo>
                  <a:lnTo>
                    <a:pt x="1428" y="432"/>
                  </a:lnTo>
                  <a:lnTo>
                    <a:pt x="1434" y="428"/>
                  </a:lnTo>
                  <a:lnTo>
                    <a:pt x="1450" y="430"/>
                  </a:lnTo>
                  <a:lnTo>
                    <a:pt x="1444" y="460"/>
                  </a:lnTo>
                  <a:lnTo>
                    <a:pt x="1428" y="906"/>
                  </a:lnTo>
                  <a:lnTo>
                    <a:pt x="1408" y="1162"/>
                  </a:lnTo>
                  <a:lnTo>
                    <a:pt x="1392" y="1232"/>
                  </a:lnTo>
                  <a:lnTo>
                    <a:pt x="1384" y="1246"/>
                  </a:lnTo>
                  <a:lnTo>
                    <a:pt x="1396" y="1306"/>
                  </a:lnTo>
                  <a:lnTo>
                    <a:pt x="1382" y="1448"/>
                  </a:lnTo>
                  <a:lnTo>
                    <a:pt x="1362" y="1652"/>
                  </a:lnTo>
                  <a:lnTo>
                    <a:pt x="1364" y="170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62080" y="3351600"/>
              <a:ext cx="210600" cy="133200"/>
            </a:xfrm>
            <a:custGeom>
              <a:avLst/>
              <a:gdLst/>
              <a:ahLst/>
              <a:rect l="l" t="t" r="r" b="b"/>
              <a:pathLst>
                <a:path w="1208" h="778">
                  <a:moveTo>
                    <a:pt x="1112" y="754"/>
                  </a:moveTo>
                  <a:lnTo>
                    <a:pt x="1072" y="758"/>
                  </a:lnTo>
                  <a:lnTo>
                    <a:pt x="1020" y="726"/>
                  </a:lnTo>
                  <a:lnTo>
                    <a:pt x="950" y="710"/>
                  </a:lnTo>
                  <a:lnTo>
                    <a:pt x="934" y="698"/>
                  </a:lnTo>
                  <a:lnTo>
                    <a:pt x="890" y="698"/>
                  </a:lnTo>
                  <a:lnTo>
                    <a:pt x="834" y="716"/>
                  </a:lnTo>
                  <a:lnTo>
                    <a:pt x="786" y="740"/>
                  </a:lnTo>
                  <a:lnTo>
                    <a:pt x="748" y="768"/>
                  </a:lnTo>
                  <a:lnTo>
                    <a:pt x="710" y="778"/>
                  </a:lnTo>
                  <a:lnTo>
                    <a:pt x="608" y="764"/>
                  </a:lnTo>
                  <a:lnTo>
                    <a:pt x="512" y="764"/>
                  </a:lnTo>
                  <a:lnTo>
                    <a:pt x="432" y="758"/>
                  </a:lnTo>
                  <a:lnTo>
                    <a:pt x="402" y="758"/>
                  </a:lnTo>
                  <a:lnTo>
                    <a:pt x="374" y="738"/>
                  </a:lnTo>
                  <a:lnTo>
                    <a:pt x="386" y="706"/>
                  </a:lnTo>
                  <a:lnTo>
                    <a:pt x="356" y="698"/>
                  </a:lnTo>
                  <a:lnTo>
                    <a:pt x="334" y="692"/>
                  </a:lnTo>
                  <a:lnTo>
                    <a:pt x="312" y="656"/>
                  </a:lnTo>
                  <a:lnTo>
                    <a:pt x="332" y="632"/>
                  </a:lnTo>
                  <a:lnTo>
                    <a:pt x="314" y="608"/>
                  </a:lnTo>
                  <a:lnTo>
                    <a:pt x="290" y="628"/>
                  </a:lnTo>
                  <a:lnTo>
                    <a:pt x="222" y="608"/>
                  </a:lnTo>
                  <a:lnTo>
                    <a:pt x="184" y="582"/>
                  </a:lnTo>
                  <a:lnTo>
                    <a:pt x="178" y="548"/>
                  </a:lnTo>
                  <a:lnTo>
                    <a:pt x="170" y="528"/>
                  </a:lnTo>
                  <a:lnTo>
                    <a:pt x="150" y="516"/>
                  </a:lnTo>
                  <a:lnTo>
                    <a:pt x="126" y="512"/>
                  </a:lnTo>
                  <a:lnTo>
                    <a:pt x="102" y="482"/>
                  </a:lnTo>
                  <a:lnTo>
                    <a:pt x="88" y="442"/>
                  </a:lnTo>
                  <a:lnTo>
                    <a:pt x="72" y="418"/>
                  </a:lnTo>
                  <a:lnTo>
                    <a:pt x="46" y="392"/>
                  </a:lnTo>
                  <a:lnTo>
                    <a:pt x="12" y="380"/>
                  </a:lnTo>
                  <a:lnTo>
                    <a:pt x="0" y="372"/>
                  </a:lnTo>
                  <a:lnTo>
                    <a:pt x="6" y="372"/>
                  </a:lnTo>
                  <a:lnTo>
                    <a:pt x="76" y="348"/>
                  </a:lnTo>
                  <a:lnTo>
                    <a:pt x="110" y="334"/>
                  </a:lnTo>
                  <a:lnTo>
                    <a:pt x="122" y="296"/>
                  </a:lnTo>
                  <a:lnTo>
                    <a:pt x="138" y="274"/>
                  </a:lnTo>
                  <a:lnTo>
                    <a:pt x="152" y="242"/>
                  </a:lnTo>
                  <a:lnTo>
                    <a:pt x="160" y="214"/>
                  </a:lnTo>
                  <a:lnTo>
                    <a:pt x="184" y="184"/>
                  </a:lnTo>
                  <a:lnTo>
                    <a:pt x="186" y="160"/>
                  </a:lnTo>
                  <a:lnTo>
                    <a:pt x="198" y="140"/>
                  </a:lnTo>
                  <a:lnTo>
                    <a:pt x="198" y="124"/>
                  </a:lnTo>
                  <a:lnTo>
                    <a:pt x="218" y="102"/>
                  </a:lnTo>
                  <a:lnTo>
                    <a:pt x="248" y="88"/>
                  </a:lnTo>
                  <a:lnTo>
                    <a:pt x="264" y="88"/>
                  </a:lnTo>
                  <a:lnTo>
                    <a:pt x="280" y="72"/>
                  </a:lnTo>
                  <a:lnTo>
                    <a:pt x="288" y="60"/>
                  </a:lnTo>
                  <a:lnTo>
                    <a:pt x="302" y="54"/>
                  </a:lnTo>
                  <a:lnTo>
                    <a:pt x="340" y="52"/>
                  </a:lnTo>
                  <a:lnTo>
                    <a:pt x="382" y="58"/>
                  </a:lnTo>
                  <a:lnTo>
                    <a:pt x="436" y="60"/>
                  </a:lnTo>
                  <a:lnTo>
                    <a:pt x="468" y="52"/>
                  </a:lnTo>
                  <a:lnTo>
                    <a:pt x="502" y="50"/>
                  </a:lnTo>
                  <a:lnTo>
                    <a:pt x="530" y="70"/>
                  </a:lnTo>
                  <a:lnTo>
                    <a:pt x="554" y="80"/>
                  </a:lnTo>
                  <a:lnTo>
                    <a:pt x="586" y="56"/>
                  </a:lnTo>
                  <a:lnTo>
                    <a:pt x="622" y="46"/>
                  </a:lnTo>
                  <a:lnTo>
                    <a:pt x="660" y="44"/>
                  </a:lnTo>
                  <a:lnTo>
                    <a:pt x="730" y="0"/>
                  </a:lnTo>
                  <a:lnTo>
                    <a:pt x="746" y="2"/>
                  </a:lnTo>
                  <a:lnTo>
                    <a:pt x="762" y="2"/>
                  </a:lnTo>
                  <a:lnTo>
                    <a:pt x="794" y="22"/>
                  </a:lnTo>
                  <a:lnTo>
                    <a:pt x="826" y="48"/>
                  </a:lnTo>
                  <a:lnTo>
                    <a:pt x="850" y="76"/>
                  </a:lnTo>
                  <a:lnTo>
                    <a:pt x="862" y="112"/>
                  </a:lnTo>
                  <a:lnTo>
                    <a:pt x="894" y="154"/>
                  </a:lnTo>
                  <a:lnTo>
                    <a:pt x="932" y="198"/>
                  </a:lnTo>
                  <a:lnTo>
                    <a:pt x="962" y="240"/>
                  </a:lnTo>
                  <a:lnTo>
                    <a:pt x="984" y="302"/>
                  </a:lnTo>
                  <a:lnTo>
                    <a:pt x="990" y="342"/>
                  </a:lnTo>
                  <a:lnTo>
                    <a:pt x="988" y="378"/>
                  </a:lnTo>
                  <a:lnTo>
                    <a:pt x="998" y="404"/>
                  </a:lnTo>
                  <a:lnTo>
                    <a:pt x="1004" y="428"/>
                  </a:lnTo>
                  <a:lnTo>
                    <a:pt x="1010" y="460"/>
                  </a:lnTo>
                  <a:lnTo>
                    <a:pt x="1010" y="468"/>
                  </a:lnTo>
                  <a:lnTo>
                    <a:pt x="1030" y="466"/>
                  </a:lnTo>
                  <a:lnTo>
                    <a:pt x="1064" y="502"/>
                  </a:lnTo>
                  <a:lnTo>
                    <a:pt x="1088" y="500"/>
                  </a:lnTo>
                  <a:lnTo>
                    <a:pt x="1108" y="482"/>
                  </a:lnTo>
                  <a:lnTo>
                    <a:pt x="1142" y="476"/>
                  </a:lnTo>
                  <a:lnTo>
                    <a:pt x="1162" y="468"/>
                  </a:lnTo>
                  <a:lnTo>
                    <a:pt x="1182" y="470"/>
                  </a:lnTo>
                  <a:lnTo>
                    <a:pt x="1194" y="476"/>
                  </a:lnTo>
                  <a:lnTo>
                    <a:pt x="1204" y="492"/>
                  </a:lnTo>
                  <a:lnTo>
                    <a:pt x="1208" y="528"/>
                  </a:lnTo>
                  <a:lnTo>
                    <a:pt x="1208" y="552"/>
                  </a:lnTo>
                  <a:lnTo>
                    <a:pt x="1202" y="566"/>
                  </a:lnTo>
                  <a:lnTo>
                    <a:pt x="1192" y="576"/>
                  </a:lnTo>
                  <a:lnTo>
                    <a:pt x="1170" y="582"/>
                  </a:lnTo>
                  <a:lnTo>
                    <a:pt x="1150" y="600"/>
                  </a:lnTo>
                  <a:lnTo>
                    <a:pt x="1134" y="622"/>
                  </a:lnTo>
                  <a:lnTo>
                    <a:pt x="1120" y="636"/>
                  </a:lnTo>
                  <a:lnTo>
                    <a:pt x="1112" y="624"/>
                  </a:lnTo>
                  <a:lnTo>
                    <a:pt x="1126" y="608"/>
                  </a:lnTo>
                  <a:lnTo>
                    <a:pt x="1136" y="580"/>
                  </a:lnTo>
                  <a:lnTo>
                    <a:pt x="1130" y="550"/>
                  </a:lnTo>
                  <a:lnTo>
                    <a:pt x="1112" y="550"/>
                  </a:lnTo>
                  <a:lnTo>
                    <a:pt x="1112" y="600"/>
                  </a:lnTo>
                  <a:lnTo>
                    <a:pt x="1104" y="628"/>
                  </a:lnTo>
                  <a:lnTo>
                    <a:pt x="1104" y="652"/>
                  </a:lnTo>
                  <a:lnTo>
                    <a:pt x="1100" y="670"/>
                  </a:lnTo>
                  <a:lnTo>
                    <a:pt x="1106" y="710"/>
                  </a:lnTo>
                  <a:lnTo>
                    <a:pt x="1104" y="728"/>
                  </a:lnTo>
                  <a:lnTo>
                    <a:pt x="1112" y="75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49480" y="3057120"/>
              <a:ext cx="28080" cy="18360"/>
            </a:xfrm>
            <a:custGeom>
              <a:avLst/>
              <a:gdLst/>
              <a:ahLst/>
              <a:rect l="l" t="t" r="r" b="b"/>
              <a:pathLst>
                <a:path w="154" h="114">
                  <a:moveTo>
                    <a:pt x="122" y="2"/>
                  </a:moveTo>
                  <a:lnTo>
                    <a:pt x="112" y="0"/>
                  </a:lnTo>
                  <a:lnTo>
                    <a:pt x="78" y="4"/>
                  </a:lnTo>
                  <a:lnTo>
                    <a:pt x="52" y="4"/>
                  </a:lnTo>
                  <a:lnTo>
                    <a:pt x="42" y="22"/>
                  </a:lnTo>
                  <a:lnTo>
                    <a:pt x="30" y="20"/>
                  </a:lnTo>
                  <a:lnTo>
                    <a:pt x="20" y="26"/>
                  </a:lnTo>
                  <a:lnTo>
                    <a:pt x="0" y="20"/>
                  </a:lnTo>
                  <a:lnTo>
                    <a:pt x="6" y="58"/>
                  </a:lnTo>
                  <a:lnTo>
                    <a:pt x="22" y="72"/>
                  </a:lnTo>
                  <a:lnTo>
                    <a:pt x="34" y="76"/>
                  </a:lnTo>
                  <a:lnTo>
                    <a:pt x="36" y="88"/>
                  </a:lnTo>
                  <a:lnTo>
                    <a:pt x="28" y="102"/>
                  </a:lnTo>
                  <a:lnTo>
                    <a:pt x="28" y="114"/>
                  </a:lnTo>
                  <a:lnTo>
                    <a:pt x="44" y="96"/>
                  </a:lnTo>
                  <a:lnTo>
                    <a:pt x="54" y="76"/>
                  </a:lnTo>
                  <a:lnTo>
                    <a:pt x="58" y="56"/>
                  </a:lnTo>
                  <a:lnTo>
                    <a:pt x="82" y="64"/>
                  </a:lnTo>
                  <a:lnTo>
                    <a:pt x="92" y="64"/>
                  </a:lnTo>
                  <a:lnTo>
                    <a:pt x="102" y="60"/>
                  </a:lnTo>
                  <a:lnTo>
                    <a:pt x="108" y="48"/>
                  </a:lnTo>
                  <a:lnTo>
                    <a:pt x="128" y="40"/>
                  </a:lnTo>
                  <a:lnTo>
                    <a:pt x="138" y="30"/>
                  </a:lnTo>
                  <a:lnTo>
                    <a:pt x="154" y="28"/>
                  </a:lnTo>
                  <a:lnTo>
                    <a:pt x="150" y="22"/>
                  </a:lnTo>
                  <a:lnTo>
                    <a:pt x="130" y="8"/>
                  </a:lnTo>
                  <a:lnTo>
                    <a:pt x="122" y="6"/>
                  </a:lnTo>
                  <a:lnTo>
                    <a:pt x="122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52360" y="3043800"/>
              <a:ext cx="17280" cy="10440"/>
            </a:xfrm>
            <a:custGeom>
              <a:avLst/>
              <a:gdLst/>
              <a:ahLst/>
              <a:rect l="l" t="t" r="r" b="b"/>
              <a:pathLst>
                <a:path w="102" h="62">
                  <a:moveTo>
                    <a:pt x="32" y="22"/>
                  </a:moveTo>
                  <a:lnTo>
                    <a:pt x="6" y="26"/>
                  </a:lnTo>
                  <a:lnTo>
                    <a:pt x="0" y="32"/>
                  </a:lnTo>
                  <a:lnTo>
                    <a:pt x="8" y="36"/>
                  </a:lnTo>
                  <a:lnTo>
                    <a:pt x="26" y="36"/>
                  </a:lnTo>
                  <a:lnTo>
                    <a:pt x="38" y="46"/>
                  </a:lnTo>
                  <a:lnTo>
                    <a:pt x="46" y="62"/>
                  </a:lnTo>
                  <a:lnTo>
                    <a:pt x="60" y="62"/>
                  </a:lnTo>
                  <a:lnTo>
                    <a:pt x="66" y="46"/>
                  </a:lnTo>
                  <a:lnTo>
                    <a:pt x="102" y="36"/>
                  </a:lnTo>
                  <a:lnTo>
                    <a:pt x="100" y="20"/>
                  </a:lnTo>
                  <a:lnTo>
                    <a:pt x="88" y="12"/>
                  </a:lnTo>
                  <a:lnTo>
                    <a:pt x="74" y="10"/>
                  </a:lnTo>
                  <a:lnTo>
                    <a:pt x="62" y="2"/>
                  </a:lnTo>
                  <a:lnTo>
                    <a:pt x="50" y="0"/>
                  </a:lnTo>
                  <a:lnTo>
                    <a:pt x="42" y="16"/>
                  </a:lnTo>
                  <a:lnTo>
                    <a:pt x="32" y="2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79000" y="3026520"/>
              <a:ext cx="96840" cy="58320"/>
            </a:xfrm>
            <a:custGeom>
              <a:avLst/>
              <a:gdLst/>
              <a:ahLst/>
              <a:rect l="l" t="t" r="r" b="b"/>
              <a:pathLst>
                <a:path w="564" h="348">
                  <a:moveTo>
                    <a:pt x="228" y="8"/>
                  </a:moveTo>
                  <a:lnTo>
                    <a:pt x="230" y="0"/>
                  </a:lnTo>
                  <a:lnTo>
                    <a:pt x="248" y="12"/>
                  </a:lnTo>
                  <a:lnTo>
                    <a:pt x="264" y="8"/>
                  </a:lnTo>
                  <a:lnTo>
                    <a:pt x="280" y="10"/>
                  </a:lnTo>
                  <a:lnTo>
                    <a:pt x="306" y="16"/>
                  </a:lnTo>
                  <a:lnTo>
                    <a:pt x="346" y="20"/>
                  </a:lnTo>
                  <a:lnTo>
                    <a:pt x="358" y="30"/>
                  </a:lnTo>
                  <a:lnTo>
                    <a:pt x="384" y="36"/>
                  </a:lnTo>
                  <a:lnTo>
                    <a:pt x="472" y="36"/>
                  </a:lnTo>
                  <a:lnTo>
                    <a:pt x="492" y="28"/>
                  </a:lnTo>
                  <a:lnTo>
                    <a:pt x="496" y="16"/>
                  </a:lnTo>
                  <a:lnTo>
                    <a:pt x="508" y="18"/>
                  </a:lnTo>
                  <a:lnTo>
                    <a:pt x="522" y="28"/>
                  </a:lnTo>
                  <a:lnTo>
                    <a:pt x="530" y="40"/>
                  </a:lnTo>
                  <a:lnTo>
                    <a:pt x="524" y="52"/>
                  </a:lnTo>
                  <a:lnTo>
                    <a:pt x="506" y="70"/>
                  </a:lnTo>
                  <a:lnTo>
                    <a:pt x="494" y="94"/>
                  </a:lnTo>
                  <a:lnTo>
                    <a:pt x="484" y="116"/>
                  </a:lnTo>
                  <a:lnTo>
                    <a:pt x="496" y="138"/>
                  </a:lnTo>
                  <a:lnTo>
                    <a:pt x="496" y="166"/>
                  </a:lnTo>
                  <a:lnTo>
                    <a:pt x="502" y="176"/>
                  </a:lnTo>
                  <a:lnTo>
                    <a:pt x="508" y="184"/>
                  </a:lnTo>
                  <a:lnTo>
                    <a:pt x="510" y="194"/>
                  </a:lnTo>
                  <a:lnTo>
                    <a:pt x="508" y="206"/>
                  </a:lnTo>
                  <a:lnTo>
                    <a:pt x="492" y="220"/>
                  </a:lnTo>
                  <a:lnTo>
                    <a:pt x="484" y="226"/>
                  </a:lnTo>
                  <a:lnTo>
                    <a:pt x="480" y="238"/>
                  </a:lnTo>
                  <a:lnTo>
                    <a:pt x="490" y="250"/>
                  </a:lnTo>
                  <a:lnTo>
                    <a:pt x="508" y="252"/>
                  </a:lnTo>
                  <a:lnTo>
                    <a:pt x="536" y="248"/>
                  </a:lnTo>
                  <a:lnTo>
                    <a:pt x="562" y="276"/>
                  </a:lnTo>
                  <a:lnTo>
                    <a:pt x="564" y="302"/>
                  </a:lnTo>
                  <a:lnTo>
                    <a:pt x="544" y="302"/>
                  </a:lnTo>
                  <a:lnTo>
                    <a:pt x="524" y="284"/>
                  </a:lnTo>
                  <a:lnTo>
                    <a:pt x="504" y="272"/>
                  </a:lnTo>
                  <a:lnTo>
                    <a:pt x="510" y="296"/>
                  </a:lnTo>
                  <a:lnTo>
                    <a:pt x="502" y="308"/>
                  </a:lnTo>
                  <a:lnTo>
                    <a:pt x="494" y="334"/>
                  </a:lnTo>
                  <a:lnTo>
                    <a:pt x="500" y="346"/>
                  </a:lnTo>
                  <a:lnTo>
                    <a:pt x="498" y="346"/>
                  </a:lnTo>
                  <a:lnTo>
                    <a:pt x="462" y="338"/>
                  </a:lnTo>
                  <a:lnTo>
                    <a:pt x="430" y="342"/>
                  </a:lnTo>
                  <a:lnTo>
                    <a:pt x="416" y="348"/>
                  </a:lnTo>
                  <a:lnTo>
                    <a:pt x="400" y="348"/>
                  </a:lnTo>
                  <a:lnTo>
                    <a:pt x="348" y="316"/>
                  </a:lnTo>
                  <a:lnTo>
                    <a:pt x="336" y="302"/>
                  </a:lnTo>
                  <a:lnTo>
                    <a:pt x="302" y="294"/>
                  </a:lnTo>
                  <a:lnTo>
                    <a:pt x="274" y="278"/>
                  </a:lnTo>
                  <a:lnTo>
                    <a:pt x="238" y="272"/>
                  </a:lnTo>
                  <a:lnTo>
                    <a:pt x="188" y="278"/>
                  </a:lnTo>
                  <a:lnTo>
                    <a:pt x="164" y="296"/>
                  </a:lnTo>
                  <a:lnTo>
                    <a:pt x="148" y="298"/>
                  </a:lnTo>
                  <a:lnTo>
                    <a:pt x="136" y="308"/>
                  </a:lnTo>
                  <a:lnTo>
                    <a:pt x="140" y="288"/>
                  </a:lnTo>
                  <a:lnTo>
                    <a:pt x="138" y="246"/>
                  </a:lnTo>
                  <a:lnTo>
                    <a:pt x="142" y="228"/>
                  </a:lnTo>
                  <a:lnTo>
                    <a:pt x="140" y="220"/>
                  </a:lnTo>
                  <a:lnTo>
                    <a:pt x="110" y="218"/>
                  </a:lnTo>
                  <a:lnTo>
                    <a:pt x="106" y="230"/>
                  </a:lnTo>
                  <a:lnTo>
                    <a:pt x="92" y="238"/>
                  </a:lnTo>
                  <a:lnTo>
                    <a:pt x="76" y="224"/>
                  </a:lnTo>
                  <a:lnTo>
                    <a:pt x="64" y="226"/>
                  </a:lnTo>
                  <a:lnTo>
                    <a:pt x="50" y="222"/>
                  </a:lnTo>
                  <a:lnTo>
                    <a:pt x="38" y="204"/>
                  </a:lnTo>
                  <a:lnTo>
                    <a:pt x="22" y="192"/>
                  </a:lnTo>
                  <a:lnTo>
                    <a:pt x="18" y="174"/>
                  </a:lnTo>
                  <a:lnTo>
                    <a:pt x="22" y="160"/>
                  </a:lnTo>
                  <a:lnTo>
                    <a:pt x="44" y="156"/>
                  </a:lnTo>
                  <a:lnTo>
                    <a:pt x="40" y="150"/>
                  </a:lnTo>
                  <a:lnTo>
                    <a:pt x="12" y="148"/>
                  </a:lnTo>
                  <a:lnTo>
                    <a:pt x="10" y="126"/>
                  </a:lnTo>
                  <a:lnTo>
                    <a:pt x="14" y="122"/>
                  </a:lnTo>
                  <a:lnTo>
                    <a:pt x="10" y="114"/>
                  </a:lnTo>
                  <a:lnTo>
                    <a:pt x="0" y="114"/>
                  </a:lnTo>
                  <a:lnTo>
                    <a:pt x="2" y="82"/>
                  </a:lnTo>
                  <a:lnTo>
                    <a:pt x="10" y="74"/>
                  </a:lnTo>
                  <a:lnTo>
                    <a:pt x="62" y="62"/>
                  </a:lnTo>
                  <a:lnTo>
                    <a:pt x="62" y="54"/>
                  </a:lnTo>
                  <a:lnTo>
                    <a:pt x="70" y="50"/>
                  </a:lnTo>
                  <a:lnTo>
                    <a:pt x="86" y="44"/>
                  </a:lnTo>
                  <a:lnTo>
                    <a:pt x="98" y="36"/>
                  </a:lnTo>
                  <a:lnTo>
                    <a:pt x="138" y="36"/>
                  </a:lnTo>
                  <a:lnTo>
                    <a:pt x="140" y="20"/>
                  </a:lnTo>
                  <a:lnTo>
                    <a:pt x="162" y="28"/>
                  </a:lnTo>
                  <a:lnTo>
                    <a:pt x="204" y="26"/>
                  </a:lnTo>
                  <a:lnTo>
                    <a:pt x="212" y="18"/>
                  </a:lnTo>
                  <a:lnTo>
                    <a:pt x="208" y="8"/>
                  </a:lnTo>
                  <a:lnTo>
                    <a:pt x="228" y="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2600" bIns="12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51040" y="3166200"/>
              <a:ext cx="183960" cy="216000"/>
            </a:xfrm>
            <a:custGeom>
              <a:avLst/>
              <a:gdLst/>
              <a:ahLst/>
              <a:rect l="l" t="t" r="r" b="b"/>
              <a:pathLst>
                <a:path w="1066" h="1266">
                  <a:moveTo>
                    <a:pt x="542" y="156"/>
                  </a:moveTo>
                  <a:lnTo>
                    <a:pt x="536" y="146"/>
                  </a:lnTo>
                  <a:lnTo>
                    <a:pt x="542" y="130"/>
                  </a:lnTo>
                  <a:lnTo>
                    <a:pt x="558" y="120"/>
                  </a:lnTo>
                  <a:lnTo>
                    <a:pt x="568" y="108"/>
                  </a:lnTo>
                  <a:lnTo>
                    <a:pt x="568" y="92"/>
                  </a:lnTo>
                  <a:lnTo>
                    <a:pt x="558" y="86"/>
                  </a:lnTo>
                  <a:lnTo>
                    <a:pt x="524" y="96"/>
                  </a:lnTo>
                  <a:lnTo>
                    <a:pt x="510" y="96"/>
                  </a:lnTo>
                  <a:lnTo>
                    <a:pt x="500" y="84"/>
                  </a:lnTo>
                  <a:lnTo>
                    <a:pt x="474" y="76"/>
                  </a:lnTo>
                  <a:lnTo>
                    <a:pt x="466" y="88"/>
                  </a:lnTo>
                  <a:lnTo>
                    <a:pt x="454" y="88"/>
                  </a:lnTo>
                  <a:lnTo>
                    <a:pt x="452" y="74"/>
                  </a:lnTo>
                  <a:lnTo>
                    <a:pt x="436" y="74"/>
                  </a:lnTo>
                  <a:lnTo>
                    <a:pt x="428" y="68"/>
                  </a:lnTo>
                  <a:lnTo>
                    <a:pt x="440" y="54"/>
                  </a:lnTo>
                  <a:lnTo>
                    <a:pt x="440" y="38"/>
                  </a:lnTo>
                  <a:lnTo>
                    <a:pt x="428" y="18"/>
                  </a:lnTo>
                  <a:lnTo>
                    <a:pt x="394" y="10"/>
                  </a:lnTo>
                  <a:lnTo>
                    <a:pt x="378" y="10"/>
                  </a:lnTo>
                  <a:lnTo>
                    <a:pt x="378" y="2"/>
                  </a:lnTo>
                  <a:lnTo>
                    <a:pt x="362" y="10"/>
                  </a:lnTo>
                  <a:lnTo>
                    <a:pt x="312" y="0"/>
                  </a:lnTo>
                  <a:lnTo>
                    <a:pt x="294" y="0"/>
                  </a:lnTo>
                  <a:lnTo>
                    <a:pt x="294" y="18"/>
                  </a:lnTo>
                  <a:lnTo>
                    <a:pt x="314" y="44"/>
                  </a:lnTo>
                  <a:lnTo>
                    <a:pt x="326" y="56"/>
                  </a:lnTo>
                  <a:lnTo>
                    <a:pt x="332" y="68"/>
                  </a:lnTo>
                  <a:lnTo>
                    <a:pt x="304" y="82"/>
                  </a:lnTo>
                  <a:lnTo>
                    <a:pt x="304" y="88"/>
                  </a:lnTo>
                  <a:lnTo>
                    <a:pt x="296" y="98"/>
                  </a:lnTo>
                  <a:lnTo>
                    <a:pt x="310" y="98"/>
                  </a:lnTo>
                  <a:lnTo>
                    <a:pt x="318" y="104"/>
                  </a:lnTo>
                  <a:lnTo>
                    <a:pt x="316" y="114"/>
                  </a:lnTo>
                  <a:lnTo>
                    <a:pt x="322" y="124"/>
                  </a:lnTo>
                  <a:lnTo>
                    <a:pt x="334" y="132"/>
                  </a:lnTo>
                  <a:lnTo>
                    <a:pt x="332" y="140"/>
                  </a:lnTo>
                  <a:lnTo>
                    <a:pt x="322" y="140"/>
                  </a:lnTo>
                  <a:lnTo>
                    <a:pt x="322" y="156"/>
                  </a:lnTo>
                  <a:lnTo>
                    <a:pt x="350" y="172"/>
                  </a:lnTo>
                  <a:lnTo>
                    <a:pt x="348" y="176"/>
                  </a:lnTo>
                  <a:lnTo>
                    <a:pt x="300" y="178"/>
                  </a:lnTo>
                  <a:lnTo>
                    <a:pt x="292" y="190"/>
                  </a:lnTo>
                  <a:lnTo>
                    <a:pt x="290" y="198"/>
                  </a:lnTo>
                  <a:lnTo>
                    <a:pt x="290" y="230"/>
                  </a:lnTo>
                  <a:lnTo>
                    <a:pt x="304" y="268"/>
                  </a:lnTo>
                  <a:lnTo>
                    <a:pt x="292" y="254"/>
                  </a:lnTo>
                  <a:lnTo>
                    <a:pt x="280" y="232"/>
                  </a:lnTo>
                  <a:lnTo>
                    <a:pt x="262" y="228"/>
                  </a:lnTo>
                  <a:lnTo>
                    <a:pt x="262" y="246"/>
                  </a:lnTo>
                  <a:lnTo>
                    <a:pt x="248" y="246"/>
                  </a:lnTo>
                  <a:lnTo>
                    <a:pt x="242" y="224"/>
                  </a:lnTo>
                  <a:lnTo>
                    <a:pt x="230" y="208"/>
                  </a:lnTo>
                  <a:lnTo>
                    <a:pt x="196" y="202"/>
                  </a:lnTo>
                  <a:lnTo>
                    <a:pt x="138" y="212"/>
                  </a:lnTo>
                  <a:lnTo>
                    <a:pt x="134" y="228"/>
                  </a:lnTo>
                  <a:lnTo>
                    <a:pt x="124" y="234"/>
                  </a:lnTo>
                  <a:lnTo>
                    <a:pt x="118" y="248"/>
                  </a:lnTo>
                  <a:lnTo>
                    <a:pt x="120" y="252"/>
                  </a:lnTo>
                  <a:lnTo>
                    <a:pt x="144" y="258"/>
                  </a:lnTo>
                  <a:lnTo>
                    <a:pt x="154" y="264"/>
                  </a:lnTo>
                  <a:lnTo>
                    <a:pt x="166" y="272"/>
                  </a:lnTo>
                  <a:lnTo>
                    <a:pt x="170" y="290"/>
                  </a:lnTo>
                  <a:lnTo>
                    <a:pt x="168" y="288"/>
                  </a:lnTo>
                  <a:lnTo>
                    <a:pt x="156" y="272"/>
                  </a:lnTo>
                  <a:lnTo>
                    <a:pt x="124" y="278"/>
                  </a:lnTo>
                  <a:lnTo>
                    <a:pt x="106" y="364"/>
                  </a:lnTo>
                  <a:lnTo>
                    <a:pt x="74" y="382"/>
                  </a:lnTo>
                  <a:lnTo>
                    <a:pt x="80" y="400"/>
                  </a:lnTo>
                  <a:lnTo>
                    <a:pt x="120" y="416"/>
                  </a:lnTo>
                  <a:lnTo>
                    <a:pt x="118" y="436"/>
                  </a:lnTo>
                  <a:lnTo>
                    <a:pt x="102" y="456"/>
                  </a:lnTo>
                  <a:lnTo>
                    <a:pt x="82" y="468"/>
                  </a:lnTo>
                  <a:lnTo>
                    <a:pt x="78" y="490"/>
                  </a:lnTo>
                  <a:lnTo>
                    <a:pt x="70" y="510"/>
                  </a:lnTo>
                  <a:lnTo>
                    <a:pt x="52" y="514"/>
                  </a:lnTo>
                  <a:lnTo>
                    <a:pt x="24" y="504"/>
                  </a:lnTo>
                  <a:lnTo>
                    <a:pt x="2" y="504"/>
                  </a:lnTo>
                  <a:lnTo>
                    <a:pt x="2" y="520"/>
                  </a:lnTo>
                  <a:lnTo>
                    <a:pt x="10" y="548"/>
                  </a:lnTo>
                  <a:lnTo>
                    <a:pt x="14" y="566"/>
                  </a:lnTo>
                  <a:lnTo>
                    <a:pt x="12" y="590"/>
                  </a:lnTo>
                  <a:lnTo>
                    <a:pt x="14" y="626"/>
                  </a:lnTo>
                  <a:lnTo>
                    <a:pt x="0" y="640"/>
                  </a:lnTo>
                  <a:lnTo>
                    <a:pt x="0" y="654"/>
                  </a:lnTo>
                  <a:lnTo>
                    <a:pt x="10" y="688"/>
                  </a:lnTo>
                  <a:lnTo>
                    <a:pt x="12" y="700"/>
                  </a:lnTo>
                  <a:lnTo>
                    <a:pt x="22" y="712"/>
                  </a:lnTo>
                  <a:lnTo>
                    <a:pt x="26" y="732"/>
                  </a:lnTo>
                  <a:lnTo>
                    <a:pt x="40" y="750"/>
                  </a:lnTo>
                  <a:lnTo>
                    <a:pt x="40" y="766"/>
                  </a:lnTo>
                  <a:lnTo>
                    <a:pt x="20" y="798"/>
                  </a:lnTo>
                  <a:lnTo>
                    <a:pt x="36" y="806"/>
                  </a:lnTo>
                  <a:lnTo>
                    <a:pt x="32" y="820"/>
                  </a:lnTo>
                  <a:lnTo>
                    <a:pt x="34" y="834"/>
                  </a:lnTo>
                  <a:lnTo>
                    <a:pt x="44" y="850"/>
                  </a:lnTo>
                  <a:lnTo>
                    <a:pt x="52" y="864"/>
                  </a:lnTo>
                  <a:lnTo>
                    <a:pt x="56" y="888"/>
                  </a:lnTo>
                  <a:lnTo>
                    <a:pt x="46" y="900"/>
                  </a:lnTo>
                  <a:lnTo>
                    <a:pt x="76" y="920"/>
                  </a:lnTo>
                  <a:lnTo>
                    <a:pt x="90" y="936"/>
                  </a:lnTo>
                  <a:lnTo>
                    <a:pt x="104" y="956"/>
                  </a:lnTo>
                  <a:lnTo>
                    <a:pt x="148" y="960"/>
                  </a:lnTo>
                  <a:lnTo>
                    <a:pt x="238" y="984"/>
                  </a:lnTo>
                  <a:lnTo>
                    <a:pt x="268" y="996"/>
                  </a:lnTo>
                  <a:lnTo>
                    <a:pt x="264" y="1018"/>
                  </a:lnTo>
                  <a:lnTo>
                    <a:pt x="228" y="1066"/>
                  </a:lnTo>
                  <a:lnTo>
                    <a:pt x="224" y="1090"/>
                  </a:lnTo>
                  <a:lnTo>
                    <a:pt x="208" y="1140"/>
                  </a:lnTo>
                  <a:lnTo>
                    <a:pt x="208" y="1198"/>
                  </a:lnTo>
                  <a:lnTo>
                    <a:pt x="212" y="1218"/>
                  </a:lnTo>
                  <a:lnTo>
                    <a:pt x="216" y="1224"/>
                  </a:lnTo>
                  <a:lnTo>
                    <a:pt x="234" y="1236"/>
                  </a:lnTo>
                  <a:lnTo>
                    <a:pt x="312" y="1226"/>
                  </a:lnTo>
                  <a:lnTo>
                    <a:pt x="368" y="1216"/>
                  </a:lnTo>
                  <a:lnTo>
                    <a:pt x="414" y="1226"/>
                  </a:lnTo>
                  <a:lnTo>
                    <a:pt x="454" y="1244"/>
                  </a:lnTo>
                  <a:lnTo>
                    <a:pt x="476" y="1236"/>
                  </a:lnTo>
                  <a:lnTo>
                    <a:pt x="498" y="1234"/>
                  </a:lnTo>
                  <a:lnTo>
                    <a:pt x="518" y="1238"/>
                  </a:lnTo>
                  <a:lnTo>
                    <a:pt x="530" y="1256"/>
                  </a:lnTo>
                  <a:lnTo>
                    <a:pt x="552" y="1266"/>
                  </a:lnTo>
                  <a:lnTo>
                    <a:pt x="564" y="1260"/>
                  </a:lnTo>
                  <a:lnTo>
                    <a:pt x="570" y="1246"/>
                  </a:lnTo>
                  <a:lnTo>
                    <a:pt x="584" y="1232"/>
                  </a:lnTo>
                  <a:lnTo>
                    <a:pt x="610" y="1234"/>
                  </a:lnTo>
                  <a:lnTo>
                    <a:pt x="640" y="1250"/>
                  </a:lnTo>
                  <a:lnTo>
                    <a:pt x="670" y="1250"/>
                  </a:lnTo>
                  <a:lnTo>
                    <a:pt x="712" y="1224"/>
                  </a:lnTo>
                  <a:lnTo>
                    <a:pt x="786" y="1214"/>
                  </a:lnTo>
                  <a:lnTo>
                    <a:pt x="796" y="1204"/>
                  </a:lnTo>
                  <a:lnTo>
                    <a:pt x="822" y="1212"/>
                  </a:lnTo>
                  <a:lnTo>
                    <a:pt x="854" y="1210"/>
                  </a:lnTo>
                  <a:lnTo>
                    <a:pt x="864" y="1226"/>
                  </a:lnTo>
                  <a:lnTo>
                    <a:pt x="882" y="1220"/>
                  </a:lnTo>
                  <a:lnTo>
                    <a:pt x="880" y="1204"/>
                  </a:lnTo>
                  <a:lnTo>
                    <a:pt x="862" y="1170"/>
                  </a:lnTo>
                  <a:lnTo>
                    <a:pt x="858" y="1138"/>
                  </a:lnTo>
                  <a:lnTo>
                    <a:pt x="866" y="1114"/>
                  </a:lnTo>
                  <a:lnTo>
                    <a:pt x="916" y="1094"/>
                  </a:lnTo>
                  <a:lnTo>
                    <a:pt x="920" y="1076"/>
                  </a:lnTo>
                  <a:lnTo>
                    <a:pt x="928" y="1058"/>
                  </a:lnTo>
                  <a:lnTo>
                    <a:pt x="966" y="1042"/>
                  </a:lnTo>
                  <a:lnTo>
                    <a:pt x="968" y="1026"/>
                  </a:lnTo>
                  <a:lnTo>
                    <a:pt x="956" y="1014"/>
                  </a:lnTo>
                  <a:lnTo>
                    <a:pt x="898" y="974"/>
                  </a:lnTo>
                  <a:lnTo>
                    <a:pt x="874" y="950"/>
                  </a:lnTo>
                  <a:lnTo>
                    <a:pt x="808" y="906"/>
                  </a:lnTo>
                  <a:lnTo>
                    <a:pt x="784" y="880"/>
                  </a:lnTo>
                  <a:lnTo>
                    <a:pt x="782" y="844"/>
                  </a:lnTo>
                  <a:lnTo>
                    <a:pt x="774" y="820"/>
                  </a:lnTo>
                  <a:lnTo>
                    <a:pt x="748" y="808"/>
                  </a:lnTo>
                  <a:lnTo>
                    <a:pt x="728" y="790"/>
                  </a:lnTo>
                  <a:lnTo>
                    <a:pt x="726" y="772"/>
                  </a:lnTo>
                  <a:lnTo>
                    <a:pt x="728" y="764"/>
                  </a:lnTo>
                  <a:lnTo>
                    <a:pt x="764" y="790"/>
                  </a:lnTo>
                  <a:lnTo>
                    <a:pt x="770" y="790"/>
                  </a:lnTo>
                  <a:lnTo>
                    <a:pt x="778" y="764"/>
                  </a:lnTo>
                  <a:lnTo>
                    <a:pt x="812" y="750"/>
                  </a:lnTo>
                  <a:lnTo>
                    <a:pt x="850" y="738"/>
                  </a:lnTo>
                  <a:lnTo>
                    <a:pt x="886" y="722"/>
                  </a:lnTo>
                  <a:lnTo>
                    <a:pt x="898" y="700"/>
                  </a:lnTo>
                  <a:lnTo>
                    <a:pt x="980" y="670"/>
                  </a:lnTo>
                  <a:lnTo>
                    <a:pt x="984" y="628"/>
                  </a:lnTo>
                  <a:lnTo>
                    <a:pt x="1006" y="632"/>
                  </a:lnTo>
                  <a:lnTo>
                    <a:pt x="1022" y="656"/>
                  </a:lnTo>
                  <a:lnTo>
                    <a:pt x="1040" y="672"/>
                  </a:lnTo>
                  <a:lnTo>
                    <a:pt x="1054" y="672"/>
                  </a:lnTo>
                  <a:lnTo>
                    <a:pt x="1060" y="658"/>
                  </a:lnTo>
                  <a:lnTo>
                    <a:pt x="1066" y="622"/>
                  </a:lnTo>
                  <a:lnTo>
                    <a:pt x="1064" y="582"/>
                  </a:lnTo>
                  <a:lnTo>
                    <a:pt x="1062" y="574"/>
                  </a:lnTo>
                  <a:lnTo>
                    <a:pt x="1024" y="540"/>
                  </a:lnTo>
                  <a:lnTo>
                    <a:pt x="1016" y="494"/>
                  </a:lnTo>
                  <a:lnTo>
                    <a:pt x="1014" y="474"/>
                  </a:lnTo>
                  <a:lnTo>
                    <a:pt x="1008" y="444"/>
                  </a:lnTo>
                  <a:lnTo>
                    <a:pt x="1000" y="426"/>
                  </a:lnTo>
                  <a:lnTo>
                    <a:pt x="992" y="380"/>
                  </a:lnTo>
                  <a:lnTo>
                    <a:pt x="986" y="364"/>
                  </a:lnTo>
                  <a:lnTo>
                    <a:pt x="954" y="344"/>
                  </a:lnTo>
                  <a:lnTo>
                    <a:pt x="952" y="332"/>
                  </a:lnTo>
                  <a:lnTo>
                    <a:pt x="958" y="308"/>
                  </a:lnTo>
                  <a:lnTo>
                    <a:pt x="970" y="286"/>
                  </a:lnTo>
                  <a:lnTo>
                    <a:pt x="970" y="264"/>
                  </a:lnTo>
                  <a:lnTo>
                    <a:pt x="968" y="232"/>
                  </a:lnTo>
                  <a:lnTo>
                    <a:pt x="948" y="202"/>
                  </a:lnTo>
                  <a:lnTo>
                    <a:pt x="942" y="186"/>
                  </a:lnTo>
                  <a:lnTo>
                    <a:pt x="892" y="172"/>
                  </a:lnTo>
                  <a:lnTo>
                    <a:pt x="886" y="148"/>
                  </a:lnTo>
                  <a:lnTo>
                    <a:pt x="866" y="124"/>
                  </a:lnTo>
                  <a:lnTo>
                    <a:pt x="844" y="126"/>
                  </a:lnTo>
                  <a:lnTo>
                    <a:pt x="832" y="116"/>
                  </a:lnTo>
                  <a:lnTo>
                    <a:pt x="824" y="116"/>
                  </a:lnTo>
                  <a:lnTo>
                    <a:pt x="818" y="102"/>
                  </a:lnTo>
                  <a:lnTo>
                    <a:pt x="802" y="94"/>
                  </a:lnTo>
                  <a:lnTo>
                    <a:pt x="788" y="82"/>
                  </a:lnTo>
                  <a:lnTo>
                    <a:pt x="756" y="88"/>
                  </a:lnTo>
                  <a:lnTo>
                    <a:pt x="740" y="94"/>
                  </a:lnTo>
                  <a:lnTo>
                    <a:pt x="726" y="102"/>
                  </a:lnTo>
                  <a:lnTo>
                    <a:pt x="730" y="92"/>
                  </a:lnTo>
                  <a:lnTo>
                    <a:pt x="740" y="82"/>
                  </a:lnTo>
                  <a:lnTo>
                    <a:pt x="760" y="72"/>
                  </a:lnTo>
                  <a:lnTo>
                    <a:pt x="746" y="70"/>
                  </a:lnTo>
                  <a:lnTo>
                    <a:pt x="728" y="74"/>
                  </a:lnTo>
                  <a:lnTo>
                    <a:pt x="702" y="102"/>
                  </a:lnTo>
                  <a:lnTo>
                    <a:pt x="694" y="120"/>
                  </a:lnTo>
                  <a:lnTo>
                    <a:pt x="686" y="126"/>
                  </a:lnTo>
                  <a:lnTo>
                    <a:pt x="684" y="114"/>
                  </a:lnTo>
                  <a:lnTo>
                    <a:pt x="644" y="122"/>
                  </a:lnTo>
                  <a:lnTo>
                    <a:pt x="614" y="146"/>
                  </a:lnTo>
                  <a:lnTo>
                    <a:pt x="620" y="156"/>
                  </a:lnTo>
                  <a:lnTo>
                    <a:pt x="602" y="156"/>
                  </a:lnTo>
                  <a:lnTo>
                    <a:pt x="576" y="150"/>
                  </a:lnTo>
                  <a:lnTo>
                    <a:pt x="548" y="166"/>
                  </a:lnTo>
                  <a:lnTo>
                    <a:pt x="542" y="15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90360" y="3173760"/>
              <a:ext cx="10440" cy="1044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54" y="36"/>
                  </a:moveTo>
                  <a:lnTo>
                    <a:pt x="56" y="46"/>
                  </a:lnTo>
                  <a:lnTo>
                    <a:pt x="64" y="56"/>
                  </a:lnTo>
                  <a:lnTo>
                    <a:pt x="62" y="64"/>
                  </a:lnTo>
                  <a:lnTo>
                    <a:pt x="52" y="58"/>
                  </a:lnTo>
                  <a:lnTo>
                    <a:pt x="40" y="60"/>
                  </a:lnTo>
                  <a:lnTo>
                    <a:pt x="34" y="66"/>
                  </a:lnTo>
                  <a:lnTo>
                    <a:pt x="14" y="64"/>
                  </a:lnTo>
                  <a:lnTo>
                    <a:pt x="2" y="54"/>
                  </a:lnTo>
                  <a:lnTo>
                    <a:pt x="6" y="46"/>
                  </a:lnTo>
                  <a:lnTo>
                    <a:pt x="6" y="36"/>
                  </a:lnTo>
                  <a:lnTo>
                    <a:pt x="0" y="24"/>
                  </a:lnTo>
                  <a:lnTo>
                    <a:pt x="10" y="20"/>
                  </a:lnTo>
                  <a:lnTo>
                    <a:pt x="36" y="32"/>
                  </a:lnTo>
                  <a:lnTo>
                    <a:pt x="32" y="24"/>
                  </a:lnTo>
                  <a:lnTo>
                    <a:pt x="20" y="16"/>
                  </a:lnTo>
                  <a:lnTo>
                    <a:pt x="10" y="8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30" y="12"/>
                  </a:lnTo>
                  <a:lnTo>
                    <a:pt x="46" y="12"/>
                  </a:lnTo>
                  <a:lnTo>
                    <a:pt x="58" y="16"/>
                  </a:lnTo>
                  <a:lnTo>
                    <a:pt x="54" y="3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89640" y="4230360"/>
              <a:ext cx="2880" cy="43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2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2" y="26"/>
                  </a:lnTo>
                  <a:lnTo>
                    <a:pt x="18" y="22"/>
                  </a:lnTo>
                  <a:lnTo>
                    <a:pt x="20" y="6"/>
                  </a:lnTo>
                  <a:lnTo>
                    <a:pt x="16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26000" y="4331520"/>
              <a:ext cx="4320" cy="900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16" y="0"/>
                  </a:moveTo>
                  <a:lnTo>
                    <a:pt x="0" y="52"/>
                  </a:lnTo>
                  <a:lnTo>
                    <a:pt x="10" y="56"/>
                  </a:lnTo>
                  <a:lnTo>
                    <a:pt x="20" y="50"/>
                  </a:lnTo>
                  <a:lnTo>
                    <a:pt x="22" y="34"/>
                  </a:lnTo>
                  <a:lnTo>
                    <a:pt x="20" y="12"/>
                  </a:lnTo>
                  <a:lnTo>
                    <a:pt x="1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32480" y="4590720"/>
              <a:ext cx="473040" cy="534960"/>
            </a:xfrm>
            <a:custGeom>
              <a:avLst/>
              <a:gdLst/>
              <a:ahLst/>
              <a:rect l="l" t="t" r="r" b="b"/>
              <a:pathLst>
                <a:path w="2732" h="3132">
                  <a:moveTo>
                    <a:pt x="2608" y="2270"/>
                  </a:moveTo>
                  <a:lnTo>
                    <a:pt x="2590" y="2164"/>
                  </a:lnTo>
                  <a:lnTo>
                    <a:pt x="2566" y="2126"/>
                  </a:lnTo>
                  <a:lnTo>
                    <a:pt x="2532" y="2114"/>
                  </a:lnTo>
                  <a:lnTo>
                    <a:pt x="2498" y="2074"/>
                  </a:lnTo>
                  <a:lnTo>
                    <a:pt x="2480" y="2046"/>
                  </a:lnTo>
                  <a:lnTo>
                    <a:pt x="2464" y="1996"/>
                  </a:lnTo>
                  <a:lnTo>
                    <a:pt x="2450" y="1974"/>
                  </a:lnTo>
                  <a:lnTo>
                    <a:pt x="2442" y="1924"/>
                  </a:lnTo>
                  <a:lnTo>
                    <a:pt x="2448" y="1884"/>
                  </a:lnTo>
                  <a:lnTo>
                    <a:pt x="2452" y="1846"/>
                  </a:lnTo>
                  <a:lnTo>
                    <a:pt x="2434" y="1806"/>
                  </a:lnTo>
                  <a:lnTo>
                    <a:pt x="2420" y="1750"/>
                  </a:lnTo>
                  <a:lnTo>
                    <a:pt x="2422" y="1700"/>
                  </a:lnTo>
                  <a:lnTo>
                    <a:pt x="2438" y="1632"/>
                  </a:lnTo>
                  <a:lnTo>
                    <a:pt x="2434" y="1600"/>
                  </a:lnTo>
                  <a:lnTo>
                    <a:pt x="2424" y="1608"/>
                  </a:lnTo>
                  <a:lnTo>
                    <a:pt x="2422" y="1590"/>
                  </a:lnTo>
                  <a:lnTo>
                    <a:pt x="2426" y="1554"/>
                  </a:lnTo>
                  <a:lnTo>
                    <a:pt x="2438" y="1510"/>
                  </a:lnTo>
                  <a:lnTo>
                    <a:pt x="2442" y="1478"/>
                  </a:lnTo>
                  <a:lnTo>
                    <a:pt x="2452" y="1454"/>
                  </a:lnTo>
                  <a:lnTo>
                    <a:pt x="2446" y="1380"/>
                  </a:lnTo>
                  <a:lnTo>
                    <a:pt x="2440" y="1362"/>
                  </a:lnTo>
                  <a:lnTo>
                    <a:pt x="2426" y="1342"/>
                  </a:lnTo>
                  <a:lnTo>
                    <a:pt x="2410" y="1320"/>
                  </a:lnTo>
                  <a:lnTo>
                    <a:pt x="2408" y="1312"/>
                  </a:lnTo>
                  <a:lnTo>
                    <a:pt x="2410" y="1288"/>
                  </a:lnTo>
                  <a:lnTo>
                    <a:pt x="2436" y="1244"/>
                  </a:lnTo>
                  <a:lnTo>
                    <a:pt x="2446" y="1212"/>
                  </a:lnTo>
                  <a:lnTo>
                    <a:pt x="2464" y="1168"/>
                  </a:lnTo>
                  <a:lnTo>
                    <a:pt x="2484" y="1132"/>
                  </a:lnTo>
                  <a:lnTo>
                    <a:pt x="2502" y="1112"/>
                  </a:lnTo>
                  <a:lnTo>
                    <a:pt x="2510" y="1106"/>
                  </a:lnTo>
                  <a:lnTo>
                    <a:pt x="2512" y="1038"/>
                  </a:lnTo>
                  <a:lnTo>
                    <a:pt x="2518" y="952"/>
                  </a:lnTo>
                  <a:lnTo>
                    <a:pt x="2520" y="910"/>
                  </a:lnTo>
                  <a:lnTo>
                    <a:pt x="2538" y="816"/>
                  </a:lnTo>
                  <a:lnTo>
                    <a:pt x="2554" y="780"/>
                  </a:lnTo>
                  <a:lnTo>
                    <a:pt x="2562" y="766"/>
                  </a:lnTo>
                  <a:lnTo>
                    <a:pt x="2594" y="720"/>
                  </a:lnTo>
                  <a:lnTo>
                    <a:pt x="2626" y="680"/>
                  </a:lnTo>
                  <a:lnTo>
                    <a:pt x="2640" y="662"/>
                  </a:lnTo>
                  <a:lnTo>
                    <a:pt x="2648" y="644"/>
                  </a:lnTo>
                  <a:lnTo>
                    <a:pt x="2658" y="622"/>
                  </a:lnTo>
                  <a:lnTo>
                    <a:pt x="2684" y="608"/>
                  </a:lnTo>
                  <a:lnTo>
                    <a:pt x="2700" y="590"/>
                  </a:lnTo>
                  <a:lnTo>
                    <a:pt x="2722" y="562"/>
                  </a:lnTo>
                  <a:lnTo>
                    <a:pt x="2732" y="534"/>
                  </a:lnTo>
                  <a:lnTo>
                    <a:pt x="2730" y="514"/>
                  </a:lnTo>
                  <a:lnTo>
                    <a:pt x="2722" y="500"/>
                  </a:lnTo>
                  <a:lnTo>
                    <a:pt x="2702" y="492"/>
                  </a:lnTo>
                  <a:lnTo>
                    <a:pt x="2686" y="478"/>
                  </a:lnTo>
                  <a:lnTo>
                    <a:pt x="2676" y="466"/>
                  </a:lnTo>
                  <a:lnTo>
                    <a:pt x="2666" y="436"/>
                  </a:lnTo>
                  <a:lnTo>
                    <a:pt x="2664" y="370"/>
                  </a:lnTo>
                  <a:lnTo>
                    <a:pt x="2672" y="314"/>
                  </a:lnTo>
                  <a:lnTo>
                    <a:pt x="2680" y="286"/>
                  </a:lnTo>
                  <a:lnTo>
                    <a:pt x="2680" y="274"/>
                  </a:lnTo>
                  <a:lnTo>
                    <a:pt x="2664" y="276"/>
                  </a:lnTo>
                  <a:lnTo>
                    <a:pt x="2646" y="258"/>
                  </a:lnTo>
                  <a:lnTo>
                    <a:pt x="2624" y="230"/>
                  </a:lnTo>
                  <a:lnTo>
                    <a:pt x="2590" y="206"/>
                  </a:lnTo>
                  <a:lnTo>
                    <a:pt x="2522" y="126"/>
                  </a:lnTo>
                  <a:lnTo>
                    <a:pt x="2496" y="106"/>
                  </a:lnTo>
                  <a:lnTo>
                    <a:pt x="2462" y="138"/>
                  </a:lnTo>
                  <a:lnTo>
                    <a:pt x="2432" y="142"/>
                  </a:lnTo>
                  <a:lnTo>
                    <a:pt x="2364" y="124"/>
                  </a:lnTo>
                  <a:lnTo>
                    <a:pt x="2348" y="150"/>
                  </a:lnTo>
                  <a:lnTo>
                    <a:pt x="2330" y="158"/>
                  </a:lnTo>
                  <a:lnTo>
                    <a:pt x="2270" y="130"/>
                  </a:lnTo>
                  <a:lnTo>
                    <a:pt x="2256" y="100"/>
                  </a:lnTo>
                  <a:lnTo>
                    <a:pt x="2240" y="74"/>
                  </a:lnTo>
                  <a:lnTo>
                    <a:pt x="2208" y="48"/>
                  </a:lnTo>
                  <a:lnTo>
                    <a:pt x="2190" y="14"/>
                  </a:lnTo>
                  <a:lnTo>
                    <a:pt x="2116" y="14"/>
                  </a:lnTo>
                  <a:lnTo>
                    <a:pt x="2098" y="46"/>
                  </a:lnTo>
                  <a:lnTo>
                    <a:pt x="2066" y="24"/>
                  </a:lnTo>
                  <a:lnTo>
                    <a:pt x="2050" y="46"/>
                  </a:lnTo>
                  <a:lnTo>
                    <a:pt x="2012" y="0"/>
                  </a:lnTo>
                  <a:lnTo>
                    <a:pt x="1974" y="14"/>
                  </a:lnTo>
                  <a:lnTo>
                    <a:pt x="1912" y="24"/>
                  </a:lnTo>
                  <a:lnTo>
                    <a:pt x="1860" y="10"/>
                  </a:lnTo>
                  <a:lnTo>
                    <a:pt x="1854" y="48"/>
                  </a:lnTo>
                  <a:lnTo>
                    <a:pt x="1822" y="48"/>
                  </a:lnTo>
                  <a:lnTo>
                    <a:pt x="1802" y="56"/>
                  </a:lnTo>
                  <a:lnTo>
                    <a:pt x="1782" y="48"/>
                  </a:lnTo>
                  <a:lnTo>
                    <a:pt x="1786" y="48"/>
                  </a:lnTo>
                  <a:lnTo>
                    <a:pt x="1780" y="28"/>
                  </a:lnTo>
                  <a:lnTo>
                    <a:pt x="1766" y="28"/>
                  </a:lnTo>
                  <a:lnTo>
                    <a:pt x="1738" y="48"/>
                  </a:lnTo>
                  <a:lnTo>
                    <a:pt x="1670" y="62"/>
                  </a:lnTo>
                  <a:lnTo>
                    <a:pt x="1642" y="80"/>
                  </a:lnTo>
                  <a:lnTo>
                    <a:pt x="1594" y="100"/>
                  </a:lnTo>
                  <a:lnTo>
                    <a:pt x="1570" y="80"/>
                  </a:lnTo>
                  <a:lnTo>
                    <a:pt x="1522" y="72"/>
                  </a:lnTo>
                  <a:lnTo>
                    <a:pt x="1486" y="100"/>
                  </a:lnTo>
                  <a:lnTo>
                    <a:pt x="1482" y="152"/>
                  </a:lnTo>
                  <a:lnTo>
                    <a:pt x="1462" y="162"/>
                  </a:lnTo>
                  <a:lnTo>
                    <a:pt x="1330" y="162"/>
                  </a:lnTo>
                  <a:lnTo>
                    <a:pt x="1270" y="144"/>
                  </a:lnTo>
                  <a:lnTo>
                    <a:pt x="1234" y="114"/>
                  </a:lnTo>
                  <a:lnTo>
                    <a:pt x="1214" y="138"/>
                  </a:lnTo>
                  <a:lnTo>
                    <a:pt x="1194" y="134"/>
                  </a:lnTo>
                  <a:lnTo>
                    <a:pt x="1142" y="76"/>
                  </a:lnTo>
                  <a:lnTo>
                    <a:pt x="1134" y="48"/>
                  </a:lnTo>
                  <a:lnTo>
                    <a:pt x="1114" y="20"/>
                  </a:lnTo>
                  <a:lnTo>
                    <a:pt x="1072" y="16"/>
                  </a:lnTo>
                  <a:lnTo>
                    <a:pt x="1036" y="16"/>
                  </a:lnTo>
                  <a:lnTo>
                    <a:pt x="1002" y="48"/>
                  </a:lnTo>
                  <a:lnTo>
                    <a:pt x="986" y="68"/>
                  </a:lnTo>
                  <a:lnTo>
                    <a:pt x="970" y="114"/>
                  </a:lnTo>
                  <a:lnTo>
                    <a:pt x="950" y="128"/>
                  </a:lnTo>
                  <a:lnTo>
                    <a:pt x="942" y="172"/>
                  </a:lnTo>
                  <a:lnTo>
                    <a:pt x="938" y="234"/>
                  </a:lnTo>
                  <a:lnTo>
                    <a:pt x="948" y="256"/>
                  </a:lnTo>
                  <a:lnTo>
                    <a:pt x="914" y="266"/>
                  </a:lnTo>
                  <a:lnTo>
                    <a:pt x="920" y="318"/>
                  </a:lnTo>
                  <a:lnTo>
                    <a:pt x="908" y="376"/>
                  </a:lnTo>
                  <a:lnTo>
                    <a:pt x="854" y="488"/>
                  </a:lnTo>
                  <a:lnTo>
                    <a:pt x="830" y="564"/>
                  </a:lnTo>
                  <a:lnTo>
                    <a:pt x="808" y="700"/>
                  </a:lnTo>
                  <a:lnTo>
                    <a:pt x="802" y="902"/>
                  </a:lnTo>
                  <a:lnTo>
                    <a:pt x="784" y="998"/>
                  </a:lnTo>
                  <a:lnTo>
                    <a:pt x="782" y="1010"/>
                  </a:lnTo>
                  <a:lnTo>
                    <a:pt x="744" y="1048"/>
                  </a:lnTo>
                  <a:lnTo>
                    <a:pt x="694" y="1082"/>
                  </a:lnTo>
                  <a:lnTo>
                    <a:pt x="650" y="1130"/>
                  </a:lnTo>
                  <a:lnTo>
                    <a:pt x="588" y="1240"/>
                  </a:lnTo>
                  <a:lnTo>
                    <a:pt x="568" y="1306"/>
                  </a:lnTo>
                  <a:lnTo>
                    <a:pt x="560" y="1368"/>
                  </a:lnTo>
                  <a:lnTo>
                    <a:pt x="560" y="1428"/>
                  </a:lnTo>
                  <a:lnTo>
                    <a:pt x="550" y="1480"/>
                  </a:lnTo>
                  <a:lnTo>
                    <a:pt x="514" y="1548"/>
                  </a:lnTo>
                  <a:lnTo>
                    <a:pt x="474" y="1594"/>
                  </a:lnTo>
                  <a:lnTo>
                    <a:pt x="438" y="1616"/>
                  </a:lnTo>
                  <a:lnTo>
                    <a:pt x="378" y="1678"/>
                  </a:lnTo>
                  <a:lnTo>
                    <a:pt x="324" y="1702"/>
                  </a:lnTo>
                  <a:lnTo>
                    <a:pt x="296" y="1692"/>
                  </a:lnTo>
                  <a:lnTo>
                    <a:pt x="294" y="1636"/>
                  </a:lnTo>
                  <a:lnTo>
                    <a:pt x="286" y="1624"/>
                  </a:lnTo>
                  <a:lnTo>
                    <a:pt x="254" y="1634"/>
                  </a:lnTo>
                  <a:lnTo>
                    <a:pt x="218" y="1642"/>
                  </a:lnTo>
                  <a:lnTo>
                    <a:pt x="196" y="1660"/>
                  </a:lnTo>
                  <a:lnTo>
                    <a:pt x="178" y="1698"/>
                  </a:lnTo>
                  <a:lnTo>
                    <a:pt x="146" y="1708"/>
                  </a:lnTo>
                  <a:lnTo>
                    <a:pt x="104" y="1678"/>
                  </a:lnTo>
                  <a:lnTo>
                    <a:pt x="94" y="1682"/>
                  </a:lnTo>
                  <a:lnTo>
                    <a:pt x="72" y="1702"/>
                  </a:lnTo>
                  <a:lnTo>
                    <a:pt x="48" y="1730"/>
                  </a:lnTo>
                  <a:lnTo>
                    <a:pt x="36" y="1776"/>
                  </a:lnTo>
                  <a:lnTo>
                    <a:pt x="30" y="1824"/>
                  </a:lnTo>
                  <a:lnTo>
                    <a:pt x="28" y="1860"/>
                  </a:lnTo>
                  <a:lnTo>
                    <a:pt x="2" y="1874"/>
                  </a:lnTo>
                  <a:lnTo>
                    <a:pt x="6" y="1886"/>
                  </a:lnTo>
                  <a:lnTo>
                    <a:pt x="6" y="1910"/>
                  </a:lnTo>
                  <a:lnTo>
                    <a:pt x="0" y="1928"/>
                  </a:lnTo>
                  <a:lnTo>
                    <a:pt x="4" y="1940"/>
                  </a:lnTo>
                  <a:lnTo>
                    <a:pt x="8" y="1932"/>
                  </a:lnTo>
                  <a:lnTo>
                    <a:pt x="22" y="1924"/>
                  </a:lnTo>
                  <a:lnTo>
                    <a:pt x="70" y="1908"/>
                  </a:lnTo>
                  <a:lnTo>
                    <a:pt x="106" y="1888"/>
                  </a:lnTo>
                  <a:lnTo>
                    <a:pt x="142" y="1874"/>
                  </a:lnTo>
                  <a:lnTo>
                    <a:pt x="166" y="1874"/>
                  </a:lnTo>
                  <a:lnTo>
                    <a:pt x="184" y="1870"/>
                  </a:lnTo>
                  <a:lnTo>
                    <a:pt x="246" y="1870"/>
                  </a:lnTo>
                  <a:lnTo>
                    <a:pt x="302" y="1866"/>
                  </a:lnTo>
                  <a:lnTo>
                    <a:pt x="320" y="1874"/>
                  </a:lnTo>
                  <a:lnTo>
                    <a:pt x="370" y="1874"/>
                  </a:lnTo>
                  <a:lnTo>
                    <a:pt x="404" y="1868"/>
                  </a:lnTo>
                  <a:lnTo>
                    <a:pt x="440" y="1870"/>
                  </a:lnTo>
                  <a:lnTo>
                    <a:pt x="526" y="1862"/>
                  </a:lnTo>
                  <a:lnTo>
                    <a:pt x="568" y="1866"/>
                  </a:lnTo>
                  <a:lnTo>
                    <a:pt x="574" y="1870"/>
                  </a:lnTo>
                  <a:lnTo>
                    <a:pt x="586" y="1892"/>
                  </a:lnTo>
                  <a:lnTo>
                    <a:pt x="596" y="1894"/>
                  </a:lnTo>
                  <a:lnTo>
                    <a:pt x="606" y="1890"/>
                  </a:lnTo>
                  <a:lnTo>
                    <a:pt x="620" y="1916"/>
                  </a:lnTo>
                  <a:lnTo>
                    <a:pt x="632" y="1976"/>
                  </a:lnTo>
                  <a:lnTo>
                    <a:pt x="634" y="2014"/>
                  </a:lnTo>
                  <a:lnTo>
                    <a:pt x="638" y="2030"/>
                  </a:lnTo>
                  <a:lnTo>
                    <a:pt x="658" y="2068"/>
                  </a:lnTo>
                  <a:lnTo>
                    <a:pt x="664" y="2118"/>
                  </a:lnTo>
                  <a:lnTo>
                    <a:pt x="696" y="2158"/>
                  </a:lnTo>
                  <a:lnTo>
                    <a:pt x="748" y="2242"/>
                  </a:lnTo>
                  <a:lnTo>
                    <a:pt x="782" y="2256"/>
                  </a:lnTo>
                  <a:lnTo>
                    <a:pt x="816" y="2256"/>
                  </a:lnTo>
                  <a:lnTo>
                    <a:pt x="872" y="2236"/>
                  </a:lnTo>
                  <a:lnTo>
                    <a:pt x="906" y="2228"/>
                  </a:lnTo>
                  <a:lnTo>
                    <a:pt x="952" y="2232"/>
                  </a:lnTo>
                  <a:lnTo>
                    <a:pt x="1000" y="2232"/>
                  </a:lnTo>
                  <a:lnTo>
                    <a:pt x="1010" y="2188"/>
                  </a:lnTo>
                  <a:lnTo>
                    <a:pt x="1012" y="2166"/>
                  </a:lnTo>
                  <a:lnTo>
                    <a:pt x="1020" y="2152"/>
                  </a:lnTo>
                  <a:lnTo>
                    <a:pt x="1024" y="2142"/>
                  </a:lnTo>
                  <a:lnTo>
                    <a:pt x="1028" y="2126"/>
                  </a:lnTo>
                  <a:lnTo>
                    <a:pt x="1032" y="2090"/>
                  </a:lnTo>
                  <a:lnTo>
                    <a:pt x="1038" y="2066"/>
                  </a:lnTo>
                  <a:lnTo>
                    <a:pt x="1150" y="2064"/>
                  </a:lnTo>
                  <a:lnTo>
                    <a:pt x="1154" y="2046"/>
                  </a:lnTo>
                  <a:lnTo>
                    <a:pt x="1216" y="2048"/>
                  </a:lnTo>
                  <a:lnTo>
                    <a:pt x="1212" y="2114"/>
                  </a:lnTo>
                  <a:lnTo>
                    <a:pt x="1338" y="2118"/>
                  </a:lnTo>
                  <a:lnTo>
                    <a:pt x="1346" y="2130"/>
                  </a:lnTo>
                  <a:lnTo>
                    <a:pt x="1354" y="2156"/>
                  </a:lnTo>
                  <a:lnTo>
                    <a:pt x="1358" y="2256"/>
                  </a:lnTo>
                  <a:lnTo>
                    <a:pt x="1362" y="2292"/>
                  </a:lnTo>
                  <a:lnTo>
                    <a:pt x="1362" y="2338"/>
                  </a:lnTo>
                  <a:lnTo>
                    <a:pt x="1366" y="2390"/>
                  </a:lnTo>
                  <a:lnTo>
                    <a:pt x="1366" y="2408"/>
                  </a:lnTo>
                  <a:lnTo>
                    <a:pt x="1358" y="2442"/>
                  </a:lnTo>
                  <a:lnTo>
                    <a:pt x="1356" y="2482"/>
                  </a:lnTo>
                  <a:lnTo>
                    <a:pt x="1360" y="2510"/>
                  </a:lnTo>
                  <a:lnTo>
                    <a:pt x="1384" y="2554"/>
                  </a:lnTo>
                  <a:lnTo>
                    <a:pt x="1398" y="2618"/>
                  </a:lnTo>
                  <a:lnTo>
                    <a:pt x="1414" y="2668"/>
                  </a:lnTo>
                  <a:lnTo>
                    <a:pt x="1410" y="2690"/>
                  </a:lnTo>
                  <a:lnTo>
                    <a:pt x="1398" y="2710"/>
                  </a:lnTo>
                  <a:lnTo>
                    <a:pt x="1370" y="2746"/>
                  </a:lnTo>
                  <a:lnTo>
                    <a:pt x="1368" y="2752"/>
                  </a:lnTo>
                  <a:lnTo>
                    <a:pt x="1370" y="2760"/>
                  </a:lnTo>
                  <a:lnTo>
                    <a:pt x="1374" y="2764"/>
                  </a:lnTo>
                  <a:lnTo>
                    <a:pt x="1386" y="2768"/>
                  </a:lnTo>
                  <a:lnTo>
                    <a:pt x="1398" y="2788"/>
                  </a:lnTo>
                  <a:lnTo>
                    <a:pt x="1416" y="2794"/>
                  </a:lnTo>
                  <a:lnTo>
                    <a:pt x="1422" y="2788"/>
                  </a:lnTo>
                  <a:lnTo>
                    <a:pt x="1430" y="2772"/>
                  </a:lnTo>
                  <a:lnTo>
                    <a:pt x="1434" y="2748"/>
                  </a:lnTo>
                  <a:lnTo>
                    <a:pt x="1448" y="2742"/>
                  </a:lnTo>
                  <a:lnTo>
                    <a:pt x="1580" y="2742"/>
                  </a:lnTo>
                  <a:lnTo>
                    <a:pt x="1610" y="2730"/>
                  </a:lnTo>
                  <a:lnTo>
                    <a:pt x="1628" y="2736"/>
                  </a:lnTo>
                  <a:lnTo>
                    <a:pt x="1638" y="2736"/>
                  </a:lnTo>
                  <a:lnTo>
                    <a:pt x="1662" y="2718"/>
                  </a:lnTo>
                  <a:lnTo>
                    <a:pt x="1666" y="2718"/>
                  </a:lnTo>
                  <a:lnTo>
                    <a:pt x="1690" y="2708"/>
                  </a:lnTo>
                  <a:lnTo>
                    <a:pt x="1702" y="2706"/>
                  </a:lnTo>
                  <a:lnTo>
                    <a:pt x="1708" y="2710"/>
                  </a:lnTo>
                  <a:lnTo>
                    <a:pt x="1722" y="2740"/>
                  </a:lnTo>
                  <a:lnTo>
                    <a:pt x="1720" y="2780"/>
                  </a:lnTo>
                  <a:lnTo>
                    <a:pt x="1724" y="2794"/>
                  </a:lnTo>
                  <a:lnTo>
                    <a:pt x="1734" y="2796"/>
                  </a:lnTo>
                  <a:lnTo>
                    <a:pt x="1768" y="2778"/>
                  </a:lnTo>
                  <a:lnTo>
                    <a:pt x="1782" y="2772"/>
                  </a:lnTo>
                  <a:lnTo>
                    <a:pt x="1800" y="2772"/>
                  </a:lnTo>
                  <a:lnTo>
                    <a:pt x="1828" y="2760"/>
                  </a:lnTo>
                  <a:lnTo>
                    <a:pt x="1844" y="2784"/>
                  </a:lnTo>
                  <a:lnTo>
                    <a:pt x="1852" y="2812"/>
                  </a:lnTo>
                  <a:lnTo>
                    <a:pt x="1862" y="2828"/>
                  </a:lnTo>
                  <a:lnTo>
                    <a:pt x="1898" y="2848"/>
                  </a:lnTo>
                  <a:lnTo>
                    <a:pt x="1930" y="2870"/>
                  </a:lnTo>
                  <a:lnTo>
                    <a:pt x="1974" y="2892"/>
                  </a:lnTo>
                  <a:lnTo>
                    <a:pt x="2006" y="2894"/>
                  </a:lnTo>
                  <a:lnTo>
                    <a:pt x="2026" y="2890"/>
                  </a:lnTo>
                  <a:lnTo>
                    <a:pt x="2060" y="2872"/>
                  </a:lnTo>
                  <a:lnTo>
                    <a:pt x="2084" y="2868"/>
                  </a:lnTo>
                  <a:lnTo>
                    <a:pt x="2098" y="2870"/>
                  </a:lnTo>
                  <a:lnTo>
                    <a:pt x="2146" y="2926"/>
                  </a:lnTo>
                  <a:lnTo>
                    <a:pt x="2180" y="2944"/>
                  </a:lnTo>
                  <a:lnTo>
                    <a:pt x="2210" y="2958"/>
                  </a:lnTo>
                  <a:lnTo>
                    <a:pt x="2238" y="2960"/>
                  </a:lnTo>
                  <a:lnTo>
                    <a:pt x="2256" y="2980"/>
                  </a:lnTo>
                  <a:lnTo>
                    <a:pt x="2268" y="3016"/>
                  </a:lnTo>
                  <a:lnTo>
                    <a:pt x="2276" y="3036"/>
                  </a:lnTo>
                  <a:lnTo>
                    <a:pt x="2310" y="3072"/>
                  </a:lnTo>
                  <a:lnTo>
                    <a:pt x="2346" y="3098"/>
                  </a:lnTo>
                  <a:lnTo>
                    <a:pt x="2368" y="3110"/>
                  </a:lnTo>
                  <a:lnTo>
                    <a:pt x="2394" y="3114"/>
                  </a:lnTo>
                  <a:lnTo>
                    <a:pt x="2404" y="3114"/>
                  </a:lnTo>
                  <a:lnTo>
                    <a:pt x="2420" y="3104"/>
                  </a:lnTo>
                  <a:lnTo>
                    <a:pt x="2428" y="3104"/>
                  </a:lnTo>
                  <a:lnTo>
                    <a:pt x="2432" y="3104"/>
                  </a:lnTo>
                  <a:lnTo>
                    <a:pt x="2444" y="3128"/>
                  </a:lnTo>
                  <a:lnTo>
                    <a:pt x="2454" y="3132"/>
                  </a:lnTo>
                  <a:lnTo>
                    <a:pt x="2464" y="3132"/>
                  </a:lnTo>
                  <a:lnTo>
                    <a:pt x="2470" y="3126"/>
                  </a:lnTo>
                  <a:lnTo>
                    <a:pt x="2470" y="3104"/>
                  </a:lnTo>
                  <a:lnTo>
                    <a:pt x="2468" y="3082"/>
                  </a:lnTo>
                  <a:lnTo>
                    <a:pt x="2468" y="2974"/>
                  </a:lnTo>
                  <a:lnTo>
                    <a:pt x="2464" y="2952"/>
                  </a:lnTo>
                  <a:lnTo>
                    <a:pt x="2450" y="2948"/>
                  </a:lnTo>
                  <a:lnTo>
                    <a:pt x="2426" y="2962"/>
                  </a:lnTo>
                  <a:lnTo>
                    <a:pt x="2398" y="2956"/>
                  </a:lnTo>
                  <a:lnTo>
                    <a:pt x="2364" y="2954"/>
                  </a:lnTo>
                  <a:lnTo>
                    <a:pt x="2348" y="2940"/>
                  </a:lnTo>
                  <a:lnTo>
                    <a:pt x="2324" y="2900"/>
                  </a:lnTo>
                  <a:lnTo>
                    <a:pt x="2308" y="2882"/>
                  </a:lnTo>
                  <a:lnTo>
                    <a:pt x="2304" y="2874"/>
                  </a:lnTo>
                  <a:lnTo>
                    <a:pt x="2304" y="2846"/>
                  </a:lnTo>
                  <a:lnTo>
                    <a:pt x="2308" y="2824"/>
                  </a:lnTo>
                  <a:lnTo>
                    <a:pt x="2318" y="2788"/>
                  </a:lnTo>
                  <a:lnTo>
                    <a:pt x="2360" y="2670"/>
                  </a:lnTo>
                  <a:lnTo>
                    <a:pt x="2362" y="2650"/>
                  </a:lnTo>
                  <a:lnTo>
                    <a:pt x="2368" y="2574"/>
                  </a:lnTo>
                  <a:lnTo>
                    <a:pt x="2364" y="2530"/>
                  </a:lnTo>
                  <a:lnTo>
                    <a:pt x="2346" y="2470"/>
                  </a:lnTo>
                  <a:lnTo>
                    <a:pt x="2346" y="2442"/>
                  </a:lnTo>
                  <a:lnTo>
                    <a:pt x="2354" y="2430"/>
                  </a:lnTo>
                  <a:lnTo>
                    <a:pt x="2360" y="2404"/>
                  </a:lnTo>
                  <a:lnTo>
                    <a:pt x="2374" y="2382"/>
                  </a:lnTo>
                  <a:lnTo>
                    <a:pt x="2394" y="2340"/>
                  </a:lnTo>
                  <a:lnTo>
                    <a:pt x="2400" y="2332"/>
                  </a:lnTo>
                  <a:lnTo>
                    <a:pt x="2414" y="2322"/>
                  </a:lnTo>
                  <a:lnTo>
                    <a:pt x="2420" y="2322"/>
                  </a:lnTo>
                  <a:lnTo>
                    <a:pt x="2448" y="2310"/>
                  </a:lnTo>
                  <a:lnTo>
                    <a:pt x="2608" y="227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57240" y="3519000"/>
              <a:ext cx="9000" cy="576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38" y="0"/>
                  </a:moveTo>
                  <a:lnTo>
                    <a:pt x="24" y="4"/>
                  </a:lnTo>
                  <a:lnTo>
                    <a:pt x="12" y="18"/>
                  </a:lnTo>
                  <a:lnTo>
                    <a:pt x="0" y="20"/>
                  </a:lnTo>
                  <a:lnTo>
                    <a:pt x="8" y="30"/>
                  </a:lnTo>
                  <a:lnTo>
                    <a:pt x="20" y="22"/>
                  </a:lnTo>
                  <a:lnTo>
                    <a:pt x="42" y="24"/>
                  </a:lnTo>
                  <a:lnTo>
                    <a:pt x="48" y="28"/>
                  </a:lnTo>
                  <a:lnTo>
                    <a:pt x="54" y="10"/>
                  </a:lnTo>
                  <a:lnTo>
                    <a:pt x="44" y="10"/>
                  </a:lnTo>
                  <a:lnTo>
                    <a:pt x="38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960" bIns="-399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67680" y="3523680"/>
              <a:ext cx="7560" cy="28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28" y="10"/>
                  </a:moveTo>
                  <a:lnTo>
                    <a:pt x="22" y="16"/>
                  </a:lnTo>
                  <a:lnTo>
                    <a:pt x="6" y="12"/>
                  </a:lnTo>
                  <a:lnTo>
                    <a:pt x="0" y="16"/>
                  </a:lnTo>
                  <a:lnTo>
                    <a:pt x="14" y="28"/>
                  </a:lnTo>
                  <a:lnTo>
                    <a:pt x="28" y="28"/>
                  </a:lnTo>
                  <a:lnTo>
                    <a:pt x="38" y="16"/>
                  </a:lnTo>
                  <a:lnTo>
                    <a:pt x="34" y="0"/>
                  </a:lnTo>
                  <a:lnTo>
                    <a:pt x="28" y="1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840" bIns="-428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76800" y="3223080"/>
              <a:ext cx="1303560" cy="769320"/>
            </a:xfrm>
            <a:custGeom>
              <a:avLst/>
              <a:gdLst/>
              <a:ahLst/>
              <a:rect l="l" t="t" r="r" b="b"/>
              <a:pathLst>
                <a:path w="7506" h="4500">
                  <a:moveTo>
                    <a:pt x="7480" y="1182"/>
                  </a:moveTo>
                  <a:lnTo>
                    <a:pt x="7466" y="1178"/>
                  </a:lnTo>
                  <a:lnTo>
                    <a:pt x="7470" y="1172"/>
                  </a:lnTo>
                  <a:lnTo>
                    <a:pt x="7482" y="1162"/>
                  </a:lnTo>
                  <a:lnTo>
                    <a:pt x="7488" y="1136"/>
                  </a:lnTo>
                  <a:lnTo>
                    <a:pt x="7490" y="1126"/>
                  </a:lnTo>
                  <a:lnTo>
                    <a:pt x="7484" y="1132"/>
                  </a:lnTo>
                  <a:lnTo>
                    <a:pt x="7474" y="1132"/>
                  </a:lnTo>
                  <a:lnTo>
                    <a:pt x="7456" y="1128"/>
                  </a:lnTo>
                  <a:lnTo>
                    <a:pt x="7440" y="1116"/>
                  </a:lnTo>
                  <a:lnTo>
                    <a:pt x="7438" y="1104"/>
                  </a:lnTo>
                  <a:lnTo>
                    <a:pt x="7440" y="1094"/>
                  </a:lnTo>
                  <a:lnTo>
                    <a:pt x="7450" y="1058"/>
                  </a:lnTo>
                  <a:lnTo>
                    <a:pt x="7424" y="1042"/>
                  </a:lnTo>
                  <a:lnTo>
                    <a:pt x="7466" y="918"/>
                  </a:lnTo>
                  <a:lnTo>
                    <a:pt x="7506" y="810"/>
                  </a:lnTo>
                  <a:lnTo>
                    <a:pt x="7468" y="754"/>
                  </a:lnTo>
                  <a:lnTo>
                    <a:pt x="7452" y="752"/>
                  </a:lnTo>
                  <a:lnTo>
                    <a:pt x="7428" y="774"/>
                  </a:lnTo>
                  <a:lnTo>
                    <a:pt x="7386" y="780"/>
                  </a:lnTo>
                  <a:lnTo>
                    <a:pt x="7362" y="770"/>
                  </a:lnTo>
                  <a:lnTo>
                    <a:pt x="7362" y="762"/>
                  </a:lnTo>
                  <a:lnTo>
                    <a:pt x="7360" y="748"/>
                  </a:lnTo>
                  <a:lnTo>
                    <a:pt x="7348" y="734"/>
                  </a:lnTo>
                  <a:lnTo>
                    <a:pt x="7338" y="732"/>
                  </a:lnTo>
                  <a:lnTo>
                    <a:pt x="7320" y="740"/>
                  </a:lnTo>
                  <a:lnTo>
                    <a:pt x="7224" y="830"/>
                  </a:lnTo>
                  <a:lnTo>
                    <a:pt x="7196" y="880"/>
                  </a:lnTo>
                  <a:lnTo>
                    <a:pt x="7174" y="908"/>
                  </a:lnTo>
                  <a:lnTo>
                    <a:pt x="7166" y="920"/>
                  </a:lnTo>
                  <a:lnTo>
                    <a:pt x="7150" y="936"/>
                  </a:lnTo>
                  <a:lnTo>
                    <a:pt x="7136" y="954"/>
                  </a:lnTo>
                  <a:lnTo>
                    <a:pt x="7102" y="1030"/>
                  </a:lnTo>
                  <a:lnTo>
                    <a:pt x="7096" y="1036"/>
                  </a:lnTo>
                  <a:lnTo>
                    <a:pt x="7076" y="1046"/>
                  </a:lnTo>
                  <a:lnTo>
                    <a:pt x="7066" y="1056"/>
                  </a:lnTo>
                  <a:lnTo>
                    <a:pt x="7060" y="1066"/>
                  </a:lnTo>
                  <a:lnTo>
                    <a:pt x="7058" y="1080"/>
                  </a:lnTo>
                  <a:lnTo>
                    <a:pt x="7056" y="1084"/>
                  </a:lnTo>
                  <a:lnTo>
                    <a:pt x="7042" y="1078"/>
                  </a:lnTo>
                  <a:lnTo>
                    <a:pt x="7038" y="1078"/>
                  </a:lnTo>
                  <a:lnTo>
                    <a:pt x="7034" y="1094"/>
                  </a:lnTo>
                  <a:lnTo>
                    <a:pt x="7014" y="1082"/>
                  </a:lnTo>
                  <a:lnTo>
                    <a:pt x="6992" y="1088"/>
                  </a:lnTo>
                  <a:lnTo>
                    <a:pt x="6982" y="1092"/>
                  </a:lnTo>
                  <a:lnTo>
                    <a:pt x="6956" y="1094"/>
                  </a:lnTo>
                  <a:lnTo>
                    <a:pt x="6944" y="1102"/>
                  </a:lnTo>
                  <a:lnTo>
                    <a:pt x="6918" y="1136"/>
                  </a:lnTo>
                  <a:lnTo>
                    <a:pt x="6914" y="1136"/>
                  </a:lnTo>
                  <a:lnTo>
                    <a:pt x="6694" y="1124"/>
                  </a:lnTo>
                  <a:lnTo>
                    <a:pt x="6526" y="1116"/>
                  </a:lnTo>
                  <a:lnTo>
                    <a:pt x="6494" y="1114"/>
                  </a:lnTo>
                  <a:lnTo>
                    <a:pt x="6444" y="1144"/>
                  </a:lnTo>
                  <a:lnTo>
                    <a:pt x="6394" y="1166"/>
                  </a:lnTo>
                  <a:lnTo>
                    <a:pt x="6380" y="1180"/>
                  </a:lnTo>
                  <a:lnTo>
                    <a:pt x="6380" y="1180"/>
                  </a:lnTo>
                  <a:lnTo>
                    <a:pt x="6372" y="1194"/>
                  </a:lnTo>
                  <a:lnTo>
                    <a:pt x="6350" y="1216"/>
                  </a:lnTo>
                  <a:lnTo>
                    <a:pt x="6292" y="1244"/>
                  </a:lnTo>
                  <a:lnTo>
                    <a:pt x="6280" y="1254"/>
                  </a:lnTo>
                  <a:lnTo>
                    <a:pt x="6278" y="1266"/>
                  </a:lnTo>
                  <a:lnTo>
                    <a:pt x="6294" y="1266"/>
                  </a:lnTo>
                  <a:lnTo>
                    <a:pt x="6298" y="1274"/>
                  </a:lnTo>
                  <a:lnTo>
                    <a:pt x="6292" y="1284"/>
                  </a:lnTo>
                  <a:lnTo>
                    <a:pt x="6282" y="1290"/>
                  </a:lnTo>
                  <a:lnTo>
                    <a:pt x="6274" y="1288"/>
                  </a:lnTo>
                  <a:lnTo>
                    <a:pt x="6270" y="1292"/>
                  </a:lnTo>
                  <a:lnTo>
                    <a:pt x="6270" y="1300"/>
                  </a:lnTo>
                  <a:lnTo>
                    <a:pt x="6274" y="1314"/>
                  </a:lnTo>
                  <a:lnTo>
                    <a:pt x="6270" y="1336"/>
                  </a:lnTo>
                  <a:lnTo>
                    <a:pt x="6262" y="1350"/>
                  </a:lnTo>
                  <a:lnTo>
                    <a:pt x="6220" y="1356"/>
                  </a:lnTo>
                  <a:lnTo>
                    <a:pt x="6172" y="1382"/>
                  </a:lnTo>
                  <a:lnTo>
                    <a:pt x="6150" y="1388"/>
                  </a:lnTo>
                  <a:lnTo>
                    <a:pt x="6104" y="1388"/>
                  </a:lnTo>
                  <a:lnTo>
                    <a:pt x="6096" y="1384"/>
                  </a:lnTo>
                  <a:lnTo>
                    <a:pt x="6070" y="1390"/>
                  </a:lnTo>
                  <a:lnTo>
                    <a:pt x="6056" y="1374"/>
                  </a:lnTo>
                  <a:lnTo>
                    <a:pt x="6026" y="1364"/>
                  </a:lnTo>
                  <a:lnTo>
                    <a:pt x="6012" y="1364"/>
                  </a:lnTo>
                  <a:lnTo>
                    <a:pt x="5960" y="1366"/>
                  </a:lnTo>
                  <a:lnTo>
                    <a:pt x="5908" y="1378"/>
                  </a:lnTo>
                  <a:lnTo>
                    <a:pt x="5884" y="1386"/>
                  </a:lnTo>
                  <a:lnTo>
                    <a:pt x="5882" y="1408"/>
                  </a:lnTo>
                  <a:lnTo>
                    <a:pt x="5884" y="1426"/>
                  </a:lnTo>
                  <a:lnTo>
                    <a:pt x="5880" y="1456"/>
                  </a:lnTo>
                  <a:lnTo>
                    <a:pt x="5842" y="1480"/>
                  </a:lnTo>
                  <a:lnTo>
                    <a:pt x="5828" y="1494"/>
                  </a:lnTo>
                  <a:lnTo>
                    <a:pt x="5818" y="1500"/>
                  </a:lnTo>
                  <a:lnTo>
                    <a:pt x="5808" y="1500"/>
                  </a:lnTo>
                  <a:lnTo>
                    <a:pt x="5776" y="1522"/>
                  </a:lnTo>
                  <a:lnTo>
                    <a:pt x="5728" y="1546"/>
                  </a:lnTo>
                  <a:lnTo>
                    <a:pt x="5702" y="1558"/>
                  </a:lnTo>
                  <a:lnTo>
                    <a:pt x="5676" y="1560"/>
                  </a:lnTo>
                  <a:lnTo>
                    <a:pt x="5650" y="1576"/>
                  </a:lnTo>
                  <a:lnTo>
                    <a:pt x="5614" y="1592"/>
                  </a:lnTo>
                  <a:lnTo>
                    <a:pt x="5580" y="1594"/>
                  </a:lnTo>
                  <a:lnTo>
                    <a:pt x="5528" y="1614"/>
                  </a:lnTo>
                  <a:lnTo>
                    <a:pt x="5428" y="1660"/>
                  </a:lnTo>
                  <a:lnTo>
                    <a:pt x="5390" y="1658"/>
                  </a:lnTo>
                  <a:lnTo>
                    <a:pt x="5344" y="1668"/>
                  </a:lnTo>
                  <a:lnTo>
                    <a:pt x="5302" y="1660"/>
                  </a:lnTo>
                  <a:lnTo>
                    <a:pt x="5300" y="1652"/>
                  </a:lnTo>
                  <a:lnTo>
                    <a:pt x="5282" y="1652"/>
                  </a:lnTo>
                  <a:lnTo>
                    <a:pt x="5274" y="1648"/>
                  </a:lnTo>
                  <a:lnTo>
                    <a:pt x="5264" y="1632"/>
                  </a:lnTo>
                  <a:lnTo>
                    <a:pt x="5234" y="1616"/>
                  </a:lnTo>
                  <a:lnTo>
                    <a:pt x="5250" y="1602"/>
                  </a:lnTo>
                  <a:lnTo>
                    <a:pt x="5294" y="1572"/>
                  </a:lnTo>
                  <a:lnTo>
                    <a:pt x="5306" y="1544"/>
                  </a:lnTo>
                  <a:lnTo>
                    <a:pt x="5326" y="1518"/>
                  </a:lnTo>
                  <a:lnTo>
                    <a:pt x="5344" y="1506"/>
                  </a:lnTo>
                  <a:lnTo>
                    <a:pt x="5350" y="1492"/>
                  </a:lnTo>
                  <a:lnTo>
                    <a:pt x="5360" y="1478"/>
                  </a:lnTo>
                  <a:lnTo>
                    <a:pt x="5378" y="1466"/>
                  </a:lnTo>
                  <a:lnTo>
                    <a:pt x="5406" y="1468"/>
                  </a:lnTo>
                  <a:lnTo>
                    <a:pt x="5406" y="1468"/>
                  </a:lnTo>
                  <a:lnTo>
                    <a:pt x="5448" y="1406"/>
                  </a:lnTo>
                  <a:lnTo>
                    <a:pt x="5456" y="1388"/>
                  </a:lnTo>
                  <a:lnTo>
                    <a:pt x="5450" y="1392"/>
                  </a:lnTo>
                  <a:lnTo>
                    <a:pt x="5448" y="1382"/>
                  </a:lnTo>
                  <a:lnTo>
                    <a:pt x="5448" y="1362"/>
                  </a:lnTo>
                  <a:lnTo>
                    <a:pt x="5460" y="1314"/>
                  </a:lnTo>
                  <a:lnTo>
                    <a:pt x="5470" y="1286"/>
                  </a:lnTo>
                  <a:lnTo>
                    <a:pt x="5472" y="1260"/>
                  </a:lnTo>
                  <a:lnTo>
                    <a:pt x="5462" y="1216"/>
                  </a:lnTo>
                  <a:lnTo>
                    <a:pt x="5442" y="1218"/>
                  </a:lnTo>
                  <a:lnTo>
                    <a:pt x="5398" y="1230"/>
                  </a:lnTo>
                  <a:lnTo>
                    <a:pt x="5394" y="1234"/>
                  </a:lnTo>
                  <a:lnTo>
                    <a:pt x="5364" y="1268"/>
                  </a:lnTo>
                  <a:lnTo>
                    <a:pt x="5344" y="1278"/>
                  </a:lnTo>
                  <a:lnTo>
                    <a:pt x="5328" y="1284"/>
                  </a:lnTo>
                  <a:lnTo>
                    <a:pt x="5314" y="1276"/>
                  </a:lnTo>
                  <a:lnTo>
                    <a:pt x="5312" y="1266"/>
                  </a:lnTo>
                  <a:lnTo>
                    <a:pt x="5328" y="1246"/>
                  </a:lnTo>
                  <a:lnTo>
                    <a:pt x="5348" y="1226"/>
                  </a:lnTo>
                  <a:lnTo>
                    <a:pt x="5388" y="1202"/>
                  </a:lnTo>
                  <a:lnTo>
                    <a:pt x="5408" y="1180"/>
                  </a:lnTo>
                  <a:lnTo>
                    <a:pt x="5428" y="1166"/>
                  </a:lnTo>
                  <a:lnTo>
                    <a:pt x="5438" y="1152"/>
                  </a:lnTo>
                  <a:lnTo>
                    <a:pt x="5448" y="1130"/>
                  </a:lnTo>
                  <a:lnTo>
                    <a:pt x="5458" y="1082"/>
                  </a:lnTo>
                  <a:lnTo>
                    <a:pt x="5458" y="1068"/>
                  </a:lnTo>
                  <a:lnTo>
                    <a:pt x="5464" y="1050"/>
                  </a:lnTo>
                  <a:lnTo>
                    <a:pt x="5474" y="1040"/>
                  </a:lnTo>
                  <a:lnTo>
                    <a:pt x="5478" y="1040"/>
                  </a:lnTo>
                  <a:lnTo>
                    <a:pt x="5478" y="1010"/>
                  </a:lnTo>
                  <a:lnTo>
                    <a:pt x="5468" y="996"/>
                  </a:lnTo>
                  <a:lnTo>
                    <a:pt x="5440" y="980"/>
                  </a:lnTo>
                  <a:lnTo>
                    <a:pt x="5432" y="968"/>
                  </a:lnTo>
                  <a:lnTo>
                    <a:pt x="5422" y="964"/>
                  </a:lnTo>
                  <a:lnTo>
                    <a:pt x="5404" y="940"/>
                  </a:lnTo>
                  <a:lnTo>
                    <a:pt x="5394" y="934"/>
                  </a:lnTo>
                  <a:lnTo>
                    <a:pt x="5378" y="936"/>
                  </a:lnTo>
                  <a:lnTo>
                    <a:pt x="5376" y="932"/>
                  </a:lnTo>
                  <a:lnTo>
                    <a:pt x="5354" y="922"/>
                  </a:lnTo>
                  <a:lnTo>
                    <a:pt x="5328" y="924"/>
                  </a:lnTo>
                  <a:lnTo>
                    <a:pt x="5310" y="936"/>
                  </a:lnTo>
                  <a:lnTo>
                    <a:pt x="5304" y="950"/>
                  </a:lnTo>
                  <a:lnTo>
                    <a:pt x="5302" y="960"/>
                  </a:lnTo>
                  <a:lnTo>
                    <a:pt x="5306" y="976"/>
                  </a:lnTo>
                  <a:lnTo>
                    <a:pt x="5298" y="982"/>
                  </a:lnTo>
                  <a:lnTo>
                    <a:pt x="5264" y="992"/>
                  </a:lnTo>
                  <a:lnTo>
                    <a:pt x="5242" y="996"/>
                  </a:lnTo>
                  <a:lnTo>
                    <a:pt x="5228" y="1026"/>
                  </a:lnTo>
                  <a:lnTo>
                    <a:pt x="5212" y="1050"/>
                  </a:lnTo>
                  <a:lnTo>
                    <a:pt x="5200" y="1054"/>
                  </a:lnTo>
                  <a:lnTo>
                    <a:pt x="5186" y="1066"/>
                  </a:lnTo>
                  <a:lnTo>
                    <a:pt x="5186" y="1060"/>
                  </a:lnTo>
                  <a:lnTo>
                    <a:pt x="5198" y="1030"/>
                  </a:lnTo>
                  <a:lnTo>
                    <a:pt x="5196" y="1018"/>
                  </a:lnTo>
                  <a:lnTo>
                    <a:pt x="5184" y="1024"/>
                  </a:lnTo>
                  <a:lnTo>
                    <a:pt x="5166" y="1036"/>
                  </a:lnTo>
                  <a:lnTo>
                    <a:pt x="5128" y="1054"/>
                  </a:lnTo>
                  <a:lnTo>
                    <a:pt x="5114" y="1072"/>
                  </a:lnTo>
                  <a:lnTo>
                    <a:pt x="5096" y="1088"/>
                  </a:lnTo>
                  <a:lnTo>
                    <a:pt x="5086" y="1110"/>
                  </a:lnTo>
                  <a:lnTo>
                    <a:pt x="5076" y="1124"/>
                  </a:lnTo>
                  <a:lnTo>
                    <a:pt x="5060" y="1152"/>
                  </a:lnTo>
                  <a:lnTo>
                    <a:pt x="5060" y="1162"/>
                  </a:lnTo>
                  <a:lnTo>
                    <a:pt x="5044" y="1170"/>
                  </a:lnTo>
                  <a:lnTo>
                    <a:pt x="5020" y="1212"/>
                  </a:lnTo>
                  <a:lnTo>
                    <a:pt x="4986" y="1260"/>
                  </a:lnTo>
                  <a:lnTo>
                    <a:pt x="4980" y="1314"/>
                  </a:lnTo>
                  <a:lnTo>
                    <a:pt x="4984" y="1338"/>
                  </a:lnTo>
                  <a:lnTo>
                    <a:pt x="4982" y="1358"/>
                  </a:lnTo>
                  <a:lnTo>
                    <a:pt x="4944" y="1438"/>
                  </a:lnTo>
                  <a:lnTo>
                    <a:pt x="4898" y="1498"/>
                  </a:lnTo>
                  <a:lnTo>
                    <a:pt x="4854" y="1544"/>
                  </a:lnTo>
                  <a:lnTo>
                    <a:pt x="4842" y="1562"/>
                  </a:lnTo>
                  <a:lnTo>
                    <a:pt x="4800" y="1582"/>
                  </a:lnTo>
                  <a:lnTo>
                    <a:pt x="4764" y="1600"/>
                  </a:lnTo>
                  <a:lnTo>
                    <a:pt x="4744" y="1598"/>
                  </a:lnTo>
                  <a:lnTo>
                    <a:pt x="4732" y="1592"/>
                  </a:lnTo>
                  <a:lnTo>
                    <a:pt x="4724" y="1586"/>
                  </a:lnTo>
                  <a:lnTo>
                    <a:pt x="4722" y="1572"/>
                  </a:lnTo>
                  <a:lnTo>
                    <a:pt x="4726" y="1542"/>
                  </a:lnTo>
                  <a:lnTo>
                    <a:pt x="4728" y="1488"/>
                  </a:lnTo>
                  <a:lnTo>
                    <a:pt x="4742" y="1454"/>
                  </a:lnTo>
                  <a:lnTo>
                    <a:pt x="4756" y="1426"/>
                  </a:lnTo>
                  <a:lnTo>
                    <a:pt x="4762" y="1406"/>
                  </a:lnTo>
                  <a:lnTo>
                    <a:pt x="4772" y="1364"/>
                  </a:lnTo>
                  <a:lnTo>
                    <a:pt x="4788" y="1326"/>
                  </a:lnTo>
                  <a:lnTo>
                    <a:pt x="4808" y="1296"/>
                  </a:lnTo>
                  <a:lnTo>
                    <a:pt x="4846" y="1250"/>
                  </a:lnTo>
                  <a:lnTo>
                    <a:pt x="4860" y="1220"/>
                  </a:lnTo>
                  <a:lnTo>
                    <a:pt x="4876" y="1196"/>
                  </a:lnTo>
                  <a:lnTo>
                    <a:pt x="4910" y="1154"/>
                  </a:lnTo>
                  <a:lnTo>
                    <a:pt x="4918" y="1134"/>
                  </a:lnTo>
                  <a:lnTo>
                    <a:pt x="4936" y="1104"/>
                  </a:lnTo>
                  <a:lnTo>
                    <a:pt x="4962" y="1078"/>
                  </a:lnTo>
                  <a:lnTo>
                    <a:pt x="4996" y="1046"/>
                  </a:lnTo>
                  <a:lnTo>
                    <a:pt x="5032" y="1004"/>
                  </a:lnTo>
                  <a:lnTo>
                    <a:pt x="5036" y="984"/>
                  </a:lnTo>
                  <a:lnTo>
                    <a:pt x="4990" y="1016"/>
                  </a:lnTo>
                  <a:lnTo>
                    <a:pt x="4980" y="1034"/>
                  </a:lnTo>
                  <a:lnTo>
                    <a:pt x="4966" y="1054"/>
                  </a:lnTo>
                  <a:lnTo>
                    <a:pt x="4950" y="1056"/>
                  </a:lnTo>
                  <a:lnTo>
                    <a:pt x="4878" y="1098"/>
                  </a:lnTo>
                  <a:lnTo>
                    <a:pt x="4882" y="1088"/>
                  </a:lnTo>
                  <a:lnTo>
                    <a:pt x="4914" y="1054"/>
                  </a:lnTo>
                  <a:lnTo>
                    <a:pt x="4924" y="1044"/>
                  </a:lnTo>
                  <a:lnTo>
                    <a:pt x="4944" y="1032"/>
                  </a:lnTo>
                  <a:lnTo>
                    <a:pt x="4972" y="1006"/>
                  </a:lnTo>
                  <a:lnTo>
                    <a:pt x="5060" y="924"/>
                  </a:lnTo>
                  <a:lnTo>
                    <a:pt x="5094" y="900"/>
                  </a:lnTo>
                  <a:lnTo>
                    <a:pt x="5098" y="902"/>
                  </a:lnTo>
                  <a:lnTo>
                    <a:pt x="5120" y="896"/>
                  </a:lnTo>
                  <a:lnTo>
                    <a:pt x="5142" y="884"/>
                  </a:lnTo>
                  <a:lnTo>
                    <a:pt x="5122" y="926"/>
                  </a:lnTo>
                  <a:lnTo>
                    <a:pt x="5134" y="926"/>
                  </a:lnTo>
                  <a:lnTo>
                    <a:pt x="5190" y="886"/>
                  </a:lnTo>
                  <a:lnTo>
                    <a:pt x="5226" y="880"/>
                  </a:lnTo>
                  <a:lnTo>
                    <a:pt x="5262" y="878"/>
                  </a:lnTo>
                  <a:lnTo>
                    <a:pt x="5284" y="860"/>
                  </a:lnTo>
                  <a:lnTo>
                    <a:pt x="5314" y="856"/>
                  </a:lnTo>
                  <a:lnTo>
                    <a:pt x="5338" y="864"/>
                  </a:lnTo>
                  <a:lnTo>
                    <a:pt x="5354" y="878"/>
                  </a:lnTo>
                  <a:lnTo>
                    <a:pt x="5360" y="882"/>
                  </a:lnTo>
                  <a:lnTo>
                    <a:pt x="5364" y="894"/>
                  </a:lnTo>
                  <a:lnTo>
                    <a:pt x="5382" y="896"/>
                  </a:lnTo>
                  <a:lnTo>
                    <a:pt x="5390" y="880"/>
                  </a:lnTo>
                  <a:lnTo>
                    <a:pt x="5400" y="872"/>
                  </a:lnTo>
                  <a:lnTo>
                    <a:pt x="5408" y="878"/>
                  </a:lnTo>
                  <a:lnTo>
                    <a:pt x="5412" y="892"/>
                  </a:lnTo>
                  <a:lnTo>
                    <a:pt x="5458" y="882"/>
                  </a:lnTo>
                  <a:lnTo>
                    <a:pt x="5472" y="884"/>
                  </a:lnTo>
                  <a:lnTo>
                    <a:pt x="5474" y="882"/>
                  </a:lnTo>
                  <a:lnTo>
                    <a:pt x="5474" y="876"/>
                  </a:lnTo>
                  <a:lnTo>
                    <a:pt x="5466" y="868"/>
                  </a:lnTo>
                  <a:lnTo>
                    <a:pt x="5464" y="856"/>
                  </a:lnTo>
                  <a:lnTo>
                    <a:pt x="5454" y="848"/>
                  </a:lnTo>
                  <a:lnTo>
                    <a:pt x="5462" y="822"/>
                  </a:lnTo>
                  <a:lnTo>
                    <a:pt x="5462" y="812"/>
                  </a:lnTo>
                  <a:lnTo>
                    <a:pt x="5466" y="802"/>
                  </a:lnTo>
                  <a:lnTo>
                    <a:pt x="5464" y="794"/>
                  </a:lnTo>
                  <a:lnTo>
                    <a:pt x="5446" y="792"/>
                  </a:lnTo>
                  <a:lnTo>
                    <a:pt x="5412" y="794"/>
                  </a:lnTo>
                  <a:lnTo>
                    <a:pt x="5398" y="790"/>
                  </a:lnTo>
                  <a:lnTo>
                    <a:pt x="5384" y="778"/>
                  </a:lnTo>
                  <a:lnTo>
                    <a:pt x="5394" y="754"/>
                  </a:lnTo>
                  <a:lnTo>
                    <a:pt x="5394" y="742"/>
                  </a:lnTo>
                  <a:lnTo>
                    <a:pt x="5376" y="740"/>
                  </a:lnTo>
                  <a:lnTo>
                    <a:pt x="5350" y="750"/>
                  </a:lnTo>
                  <a:lnTo>
                    <a:pt x="5330" y="752"/>
                  </a:lnTo>
                  <a:lnTo>
                    <a:pt x="5262" y="748"/>
                  </a:lnTo>
                  <a:lnTo>
                    <a:pt x="5236" y="758"/>
                  </a:lnTo>
                  <a:lnTo>
                    <a:pt x="5212" y="764"/>
                  </a:lnTo>
                  <a:lnTo>
                    <a:pt x="5190" y="780"/>
                  </a:lnTo>
                  <a:lnTo>
                    <a:pt x="5176" y="784"/>
                  </a:lnTo>
                  <a:lnTo>
                    <a:pt x="5128" y="770"/>
                  </a:lnTo>
                  <a:lnTo>
                    <a:pt x="5106" y="772"/>
                  </a:lnTo>
                  <a:lnTo>
                    <a:pt x="5094" y="746"/>
                  </a:lnTo>
                  <a:lnTo>
                    <a:pt x="5090" y="724"/>
                  </a:lnTo>
                  <a:lnTo>
                    <a:pt x="5060" y="700"/>
                  </a:lnTo>
                  <a:lnTo>
                    <a:pt x="5024" y="704"/>
                  </a:lnTo>
                  <a:lnTo>
                    <a:pt x="5014" y="700"/>
                  </a:lnTo>
                  <a:lnTo>
                    <a:pt x="4990" y="716"/>
                  </a:lnTo>
                  <a:lnTo>
                    <a:pt x="4992" y="708"/>
                  </a:lnTo>
                  <a:lnTo>
                    <a:pt x="5008" y="682"/>
                  </a:lnTo>
                  <a:lnTo>
                    <a:pt x="5024" y="668"/>
                  </a:lnTo>
                  <a:lnTo>
                    <a:pt x="5042" y="662"/>
                  </a:lnTo>
                  <a:lnTo>
                    <a:pt x="5098" y="622"/>
                  </a:lnTo>
                  <a:lnTo>
                    <a:pt x="5124" y="610"/>
                  </a:lnTo>
                  <a:lnTo>
                    <a:pt x="5130" y="600"/>
                  </a:lnTo>
                  <a:lnTo>
                    <a:pt x="5126" y="598"/>
                  </a:lnTo>
                  <a:lnTo>
                    <a:pt x="5102" y="598"/>
                  </a:lnTo>
                  <a:lnTo>
                    <a:pt x="5074" y="604"/>
                  </a:lnTo>
                  <a:lnTo>
                    <a:pt x="5044" y="616"/>
                  </a:lnTo>
                  <a:lnTo>
                    <a:pt x="5000" y="636"/>
                  </a:lnTo>
                  <a:lnTo>
                    <a:pt x="4960" y="662"/>
                  </a:lnTo>
                  <a:lnTo>
                    <a:pt x="4930" y="674"/>
                  </a:lnTo>
                  <a:lnTo>
                    <a:pt x="4898" y="690"/>
                  </a:lnTo>
                  <a:lnTo>
                    <a:pt x="4860" y="696"/>
                  </a:lnTo>
                  <a:lnTo>
                    <a:pt x="4830" y="702"/>
                  </a:lnTo>
                  <a:lnTo>
                    <a:pt x="4774" y="728"/>
                  </a:lnTo>
                  <a:lnTo>
                    <a:pt x="4744" y="730"/>
                  </a:lnTo>
                  <a:lnTo>
                    <a:pt x="4704" y="722"/>
                  </a:lnTo>
                  <a:lnTo>
                    <a:pt x="4690" y="730"/>
                  </a:lnTo>
                  <a:lnTo>
                    <a:pt x="4690" y="724"/>
                  </a:lnTo>
                  <a:lnTo>
                    <a:pt x="4708" y="700"/>
                  </a:lnTo>
                  <a:lnTo>
                    <a:pt x="4716" y="680"/>
                  </a:lnTo>
                  <a:lnTo>
                    <a:pt x="4710" y="666"/>
                  </a:lnTo>
                  <a:lnTo>
                    <a:pt x="4606" y="712"/>
                  </a:lnTo>
                  <a:lnTo>
                    <a:pt x="4574" y="716"/>
                  </a:lnTo>
                  <a:lnTo>
                    <a:pt x="4558" y="712"/>
                  </a:lnTo>
                  <a:lnTo>
                    <a:pt x="4556" y="698"/>
                  </a:lnTo>
                  <a:lnTo>
                    <a:pt x="4580" y="682"/>
                  </a:lnTo>
                  <a:lnTo>
                    <a:pt x="4696" y="616"/>
                  </a:lnTo>
                  <a:lnTo>
                    <a:pt x="4824" y="550"/>
                  </a:lnTo>
                  <a:lnTo>
                    <a:pt x="4874" y="536"/>
                  </a:lnTo>
                  <a:lnTo>
                    <a:pt x="4944" y="498"/>
                  </a:lnTo>
                  <a:lnTo>
                    <a:pt x="4934" y="496"/>
                  </a:lnTo>
                  <a:lnTo>
                    <a:pt x="4910" y="480"/>
                  </a:lnTo>
                  <a:lnTo>
                    <a:pt x="4856" y="474"/>
                  </a:lnTo>
                  <a:lnTo>
                    <a:pt x="4826" y="460"/>
                  </a:lnTo>
                  <a:lnTo>
                    <a:pt x="4804" y="460"/>
                  </a:lnTo>
                  <a:lnTo>
                    <a:pt x="4770" y="472"/>
                  </a:lnTo>
                  <a:lnTo>
                    <a:pt x="4756" y="472"/>
                  </a:lnTo>
                  <a:lnTo>
                    <a:pt x="4736" y="458"/>
                  </a:lnTo>
                  <a:lnTo>
                    <a:pt x="4730" y="436"/>
                  </a:lnTo>
                  <a:lnTo>
                    <a:pt x="4708" y="428"/>
                  </a:lnTo>
                  <a:lnTo>
                    <a:pt x="4698" y="414"/>
                  </a:lnTo>
                  <a:lnTo>
                    <a:pt x="4682" y="406"/>
                  </a:lnTo>
                  <a:lnTo>
                    <a:pt x="4674" y="400"/>
                  </a:lnTo>
                  <a:lnTo>
                    <a:pt x="4670" y="384"/>
                  </a:lnTo>
                  <a:lnTo>
                    <a:pt x="4656" y="372"/>
                  </a:lnTo>
                  <a:lnTo>
                    <a:pt x="4640" y="362"/>
                  </a:lnTo>
                  <a:lnTo>
                    <a:pt x="4586" y="354"/>
                  </a:lnTo>
                  <a:lnTo>
                    <a:pt x="4564" y="364"/>
                  </a:lnTo>
                  <a:lnTo>
                    <a:pt x="4540" y="364"/>
                  </a:lnTo>
                  <a:lnTo>
                    <a:pt x="4528" y="356"/>
                  </a:lnTo>
                  <a:lnTo>
                    <a:pt x="4528" y="354"/>
                  </a:lnTo>
                  <a:lnTo>
                    <a:pt x="4526" y="348"/>
                  </a:lnTo>
                  <a:lnTo>
                    <a:pt x="4504" y="340"/>
                  </a:lnTo>
                  <a:lnTo>
                    <a:pt x="4496" y="332"/>
                  </a:lnTo>
                  <a:lnTo>
                    <a:pt x="4474" y="334"/>
                  </a:lnTo>
                  <a:lnTo>
                    <a:pt x="4464" y="334"/>
                  </a:lnTo>
                  <a:lnTo>
                    <a:pt x="4462" y="330"/>
                  </a:lnTo>
                  <a:lnTo>
                    <a:pt x="4444" y="330"/>
                  </a:lnTo>
                  <a:lnTo>
                    <a:pt x="4450" y="286"/>
                  </a:lnTo>
                  <a:lnTo>
                    <a:pt x="4448" y="282"/>
                  </a:lnTo>
                  <a:lnTo>
                    <a:pt x="4458" y="214"/>
                  </a:lnTo>
                  <a:lnTo>
                    <a:pt x="4444" y="210"/>
                  </a:lnTo>
                  <a:lnTo>
                    <a:pt x="4436" y="210"/>
                  </a:lnTo>
                  <a:lnTo>
                    <a:pt x="4396" y="284"/>
                  </a:lnTo>
                  <a:lnTo>
                    <a:pt x="4268" y="274"/>
                  </a:lnTo>
                  <a:lnTo>
                    <a:pt x="4152" y="266"/>
                  </a:lnTo>
                  <a:lnTo>
                    <a:pt x="4152" y="266"/>
                  </a:lnTo>
                  <a:lnTo>
                    <a:pt x="4128" y="264"/>
                  </a:lnTo>
                  <a:lnTo>
                    <a:pt x="4030" y="256"/>
                  </a:lnTo>
                  <a:lnTo>
                    <a:pt x="3928" y="248"/>
                  </a:lnTo>
                  <a:lnTo>
                    <a:pt x="3816" y="240"/>
                  </a:lnTo>
                  <a:lnTo>
                    <a:pt x="3708" y="230"/>
                  </a:lnTo>
                  <a:lnTo>
                    <a:pt x="3672" y="228"/>
                  </a:lnTo>
                  <a:lnTo>
                    <a:pt x="3364" y="202"/>
                  </a:lnTo>
                  <a:lnTo>
                    <a:pt x="3272" y="194"/>
                  </a:lnTo>
                  <a:lnTo>
                    <a:pt x="3160" y="184"/>
                  </a:lnTo>
                  <a:lnTo>
                    <a:pt x="3056" y="176"/>
                  </a:lnTo>
                  <a:lnTo>
                    <a:pt x="2960" y="166"/>
                  </a:lnTo>
                  <a:lnTo>
                    <a:pt x="2858" y="158"/>
                  </a:lnTo>
                  <a:lnTo>
                    <a:pt x="2746" y="148"/>
                  </a:lnTo>
                  <a:lnTo>
                    <a:pt x="2678" y="142"/>
                  </a:lnTo>
                  <a:lnTo>
                    <a:pt x="2576" y="132"/>
                  </a:lnTo>
                  <a:lnTo>
                    <a:pt x="2464" y="122"/>
                  </a:lnTo>
                  <a:lnTo>
                    <a:pt x="2360" y="112"/>
                  </a:lnTo>
                  <a:lnTo>
                    <a:pt x="2216" y="98"/>
                  </a:lnTo>
                  <a:lnTo>
                    <a:pt x="1990" y="76"/>
                  </a:lnTo>
                  <a:lnTo>
                    <a:pt x="1880" y="66"/>
                  </a:lnTo>
                  <a:lnTo>
                    <a:pt x="1772" y="56"/>
                  </a:lnTo>
                  <a:lnTo>
                    <a:pt x="1676" y="46"/>
                  </a:lnTo>
                  <a:lnTo>
                    <a:pt x="1578" y="36"/>
                  </a:lnTo>
                  <a:lnTo>
                    <a:pt x="1468" y="24"/>
                  </a:lnTo>
                  <a:lnTo>
                    <a:pt x="1364" y="14"/>
                  </a:lnTo>
                  <a:lnTo>
                    <a:pt x="1236" y="0"/>
                  </a:lnTo>
                  <a:lnTo>
                    <a:pt x="1230" y="18"/>
                  </a:lnTo>
                  <a:lnTo>
                    <a:pt x="1232" y="34"/>
                  </a:lnTo>
                  <a:lnTo>
                    <a:pt x="1246" y="36"/>
                  </a:lnTo>
                  <a:lnTo>
                    <a:pt x="1260" y="42"/>
                  </a:lnTo>
                  <a:lnTo>
                    <a:pt x="1260" y="52"/>
                  </a:lnTo>
                  <a:lnTo>
                    <a:pt x="1256" y="54"/>
                  </a:lnTo>
                  <a:lnTo>
                    <a:pt x="1252" y="50"/>
                  </a:lnTo>
                  <a:lnTo>
                    <a:pt x="1244" y="50"/>
                  </a:lnTo>
                  <a:lnTo>
                    <a:pt x="1228" y="70"/>
                  </a:lnTo>
                  <a:lnTo>
                    <a:pt x="1210" y="82"/>
                  </a:lnTo>
                  <a:lnTo>
                    <a:pt x="1198" y="86"/>
                  </a:lnTo>
                  <a:lnTo>
                    <a:pt x="1198" y="88"/>
                  </a:lnTo>
                  <a:lnTo>
                    <a:pt x="1202" y="100"/>
                  </a:lnTo>
                  <a:lnTo>
                    <a:pt x="1208" y="106"/>
                  </a:lnTo>
                  <a:lnTo>
                    <a:pt x="1206" y="114"/>
                  </a:lnTo>
                  <a:lnTo>
                    <a:pt x="1192" y="150"/>
                  </a:lnTo>
                  <a:lnTo>
                    <a:pt x="1170" y="182"/>
                  </a:lnTo>
                  <a:lnTo>
                    <a:pt x="1146" y="210"/>
                  </a:lnTo>
                  <a:lnTo>
                    <a:pt x="1144" y="210"/>
                  </a:lnTo>
                  <a:lnTo>
                    <a:pt x="1146" y="194"/>
                  </a:lnTo>
                  <a:lnTo>
                    <a:pt x="1142" y="192"/>
                  </a:lnTo>
                  <a:lnTo>
                    <a:pt x="1128" y="196"/>
                  </a:lnTo>
                  <a:lnTo>
                    <a:pt x="1090" y="226"/>
                  </a:lnTo>
                  <a:lnTo>
                    <a:pt x="1060" y="240"/>
                  </a:lnTo>
                  <a:lnTo>
                    <a:pt x="1046" y="250"/>
                  </a:lnTo>
                  <a:lnTo>
                    <a:pt x="1050" y="252"/>
                  </a:lnTo>
                  <a:lnTo>
                    <a:pt x="1038" y="266"/>
                  </a:lnTo>
                  <a:lnTo>
                    <a:pt x="1022" y="266"/>
                  </a:lnTo>
                  <a:lnTo>
                    <a:pt x="1038" y="240"/>
                  </a:lnTo>
                  <a:lnTo>
                    <a:pt x="1088" y="198"/>
                  </a:lnTo>
                  <a:lnTo>
                    <a:pt x="1098" y="192"/>
                  </a:lnTo>
                  <a:lnTo>
                    <a:pt x="1112" y="188"/>
                  </a:lnTo>
                  <a:lnTo>
                    <a:pt x="1120" y="182"/>
                  </a:lnTo>
                  <a:lnTo>
                    <a:pt x="1138" y="162"/>
                  </a:lnTo>
                  <a:lnTo>
                    <a:pt x="1142" y="146"/>
                  </a:lnTo>
                  <a:lnTo>
                    <a:pt x="1118" y="146"/>
                  </a:lnTo>
                  <a:lnTo>
                    <a:pt x="1098" y="130"/>
                  </a:lnTo>
                  <a:lnTo>
                    <a:pt x="1068" y="130"/>
                  </a:lnTo>
                  <a:lnTo>
                    <a:pt x="1046" y="120"/>
                  </a:lnTo>
                  <a:lnTo>
                    <a:pt x="1026" y="118"/>
                  </a:lnTo>
                  <a:lnTo>
                    <a:pt x="982" y="90"/>
                  </a:lnTo>
                  <a:lnTo>
                    <a:pt x="970" y="76"/>
                  </a:lnTo>
                  <a:lnTo>
                    <a:pt x="952" y="86"/>
                  </a:lnTo>
                  <a:lnTo>
                    <a:pt x="932" y="104"/>
                  </a:lnTo>
                  <a:lnTo>
                    <a:pt x="918" y="124"/>
                  </a:lnTo>
                  <a:lnTo>
                    <a:pt x="910" y="140"/>
                  </a:lnTo>
                  <a:lnTo>
                    <a:pt x="906" y="158"/>
                  </a:lnTo>
                  <a:lnTo>
                    <a:pt x="908" y="182"/>
                  </a:lnTo>
                  <a:lnTo>
                    <a:pt x="898" y="218"/>
                  </a:lnTo>
                  <a:lnTo>
                    <a:pt x="862" y="290"/>
                  </a:lnTo>
                  <a:lnTo>
                    <a:pt x="850" y="318"/>
                  </a:lnTo>
                  <a:lnTo>
                    <a:pt x="850" y="320"/>
                  </a:lnTo>
                  <a:lnTo>
                    <a:pt x="870" y="308"/>
                  </a:lnTo>
                  <a:lnTo>
                    <a:pt x="870" y="320"/>
                  </a:lnTo>
                  <a:lnTo>
                    <a:pt x="858" y="332"/>
                  </a:lnTo>
                  <a:lnTo>
                    <a:pt x="842" y="344"/>
                  </a:lnTo>
                  <a:lnTo>
                    <a:pt x="832" y="358"/>
                  </a:lnTo>
                  <a:lnTo>
                    <a:pt x="832" y="366"/>
                  </a:lnTo>
                  <a:lnTo>
                    <a:pt x="838" y="368"/>
                  </a:lnTo>
                  <a:lnTo>
                    <a:pt x="846" y="368"/>
                  </a:lnTo>
                  <a:lnTo>
                    <a:pt x="846" y="372"/>
                  </a:lnTo>
                  <a:lnTo>
                    <a:pt x="832" y="390"/>
                  </a:lnTo>
                  <a:lnTo>
                    <a:pt x="818" y="414"/>
                  </a:lnTo>
                  <a:lnTo>
                    <a:pt x="810" y="420"/>
                  </a:lnTo>
                  <a:lnTo>
                    <a:pt x="804" y="420"/>
                  </a:lnTo>
                  <a:lnTo>
                    <a:pt x="820" y="396"/>
                  </a:lnTo>
                  <a:lnTo>
                    <a:pt x="816" y="388"/>
                  </a:lnTo>
                  <a:lnTo>
                    <a:pt x="794" y="418"/>
                  </a:lnTo>
                  <a:lnTo>
                    <a:pt x="786" y="436"/>
                  </a:lnTo>
                  <a:lnTo>
                    <a:pt x="792" y="448"/>
                  </a:lnTo>
                  <a:lnTo>
                    <a:pt x="838" y="452"/>
                  </a:lnTo>
                  <a:lnTo>
                    <a:pt x="844" y="466"/>
                  </a:lnTo>
                  <a:lnTo>
                    <a:pt x="850" y="474"/>
                  </a:lnTo>
                  <a:lnTo>
                    <a:pt x="844" y="482"/>
                  </a:lnTo>
                  <a:lnTo>
                    <a:pt x="826" y="470"/>
                  </a:lnTo>
                  <a:lnTo>
                    <a:pt x="782" y="470"/>
                  </a:lnTo>
                  <a:lnTo>
                    <a:pt x="772" y="474"/>
                  </a:lnTo>
                  <a:lnTo>
                    <a:pt x="762" y="486"/>
                  </a:lnTo>
                  <a:lnTo>
                    <a:pt x="736" y="520"/>
                  </a:lnTo>
                  <a:lnTo>
                    <a:pt x="728" y="536"/>
                  </a:lnTo>
                  <a:lnTo>
                    <a:pt x="730" y="542"/>
                  </a:lnTo>
                  <a:lnTo>
                    <a:pt x="716" y="556"/>
                  </a:lnTo>
                  <a:lnTo>
                    <a:pt x="702" y="580"/>
                  </a:lnTo>
                  <a:lnTo>
                    <a:pt x="682" y="600"/>
                  </a:lnTo>
                  <a:lnTo>
                    <a:pt x="632" y="672"/>
                  </a:lnTo>
                  <a:lnTo>
                    <a:pt x="604" y="700"/>
                  </a:lnTo>
                  <a:lnTo>
                    <a:pt x="542" y="798"/>
                  </a:lnTo>
                  <a:lnTo>
                    <a:pt x="522" y="820"/>
                  </a:lnTo>
                  <a:lnTo>
                    <a:pt x="502" y="850"/>
                  </a:lnTo>
                  <a:lnTo>
                    <a:pt x="452" y="906"/>
                  </a:lnTo>
                  <a:lnTo>
                    <a:pt x="438" y="924"/>
                  </a:lnTo>
                  <a:lnTo>
                    <a:pt x="436" y="928"/>
                  </a:lnTo>
                  <a:lnTo>
                    <a:pt x="440" y="928"/>
                  </a:lnTo>
                  <a:lnTo>
                    <a:pt x="432" y="946"/>
                  </a:lnTo>
                  <a:lnTo>
                    <a:pt x="412" y="956"/>
                  </a:lnTo>
                  <a:lnTo>
                    <a:pt x="386" y="978"/>
                  </a:lnTo>
                  <a:lnTo>
                    <a:pt x="336" y="1040"/>
                  </a:lnTo>
                  <a:lnTo>
                    <a:pt x="320" y="1076"/>
                  </a:lnTo>
                  <a:lnTo>
                    <a:pt x="286" y="1136"/>
                  </a:lnTo>
                  <a:lnTo>
                    <a:pt x="274" y="1186"/>
                  </a:lnTo>
                  <a:lnTo>
                    <a:pt x="270" y="1196"/>
                  </a:lnTo>
                  <a:lnTo>
                    <a:pt x="262" y="1220"/>
                  </a:lnTo>
                  <a:lnTo>
                    <a:pt x="228" y="1304"/>
                  </a:lnTo>
                  <a:lnTo>
                    <a:pt x="190" y="1358"/>
                  </a:lnTo>
                  <a:lnTo>
                    <a:pt x="158" y="1408"/>
                  </a:lnTo>
                  <a:lnTo>
                    <a:pt x="130" y="1434"/>
                  </a:lnTo>
                  <a:lnTo>
                    <a:pt x="100" y="1456"/>
                  </a:lnTo>
                  <a:lnTo>
                    <a:pt x="86" y="1478"/>
                  </a:lnTo>
                  <a:lnTo>
                    <a:pt x="82" y="1490"/>
                  </a:lnTo>
                  <a:lnTo>
                    <a:pt x="88" y="1506"/>
                  </a:lnTo>
                  <a:lnTo>
                    <a:pt x="86" y="1608"/>
                  </a:lnTo>
                  <a:lnTo>
                    <a:pt x="82" y="1622"/>
                  </a:lnTo>
                  <a:lnTo>
                    <a:pt x="70" y="1636"/>
                  </a:lnTo>
                  <a:lnTo>
                    <a:pt x="54" y="1664"/>
                  </a:lnTo>
                  <a:lnTo>
                    <a:pt x="22" y="1760"/>
                  </a:lnTo>
                  <a:lnTo>
                    <a:pt x="28" y="1778"/>
                  </a:lnTo>
                  <a:lnTo>
                    <a:pt x="30" y="1808"/>
                  </a:lnTo>
                  <a:lnTo>
                    <a:pt x="44" y="1858"/>
                  </a:lnTo>
                  <a:lnTo>
                    <a:pt x="42" y="1876"/>
                  </a:lnTo>
                  <a:lnTo>
                    <a:pt x="28" y="1900"/>
                  </a:lnTo>
                  <a:lnTo>
                    <a:pt x="28" y="1908"/>
                  </a:lnTo>
                  <a:lnTo>
                    <a:pt x="38" y="1926"/>
                  </a:lnTo>
                  <a:lnTo>
                    <a:pt x="50" y="1930"/>
                  </a:lnTo>
                  <a:lnTo>
                    <a:pt x="50" y="1938"/>
                  </a:lnTo>
                  <a:lnTo>
                    <a:pt x="56" y="1940"/>
                  </a:lnTo>
                  <a:lnTo>
                    <a:pt x="68" y="1934"/>
                  </a:lnTo>
                  <a:lnTo>
                    <a:pt x="72" y="1930"/>
                  </a:lnTo>
                  <a:lnTo>
                    <a:pt x="94" y="1892"/>
                  </a:lnTo>
                  <a:lnTo>
                    <a:pt x="124" y="1898"/>
                  </a:lnTo>
                  <a:lnTo>
                    <a:pt x="146" y="1912"/>
                  </a:lnTo>
                  <a:lnTo>
                    <a:pt x="126" y="1922"/>
                  </a:lnTo>
                  <a:lnTo>
                    <a:pt x="110" y="1924"/>
                  </a:lnTo>
                  <a:lnTo>
                    <a:pt x="90" y="1938"/>
                  </a:lnTo>
                  <a:lnTo>
                    <a:pt x="86" y="1954"/>
                  </a:lnTo>
                  <a:lnTo>
                    <a:pt x="84" y="2000"/>
                  </a:lnTo>
                  <a:lnTo>
                    <a:pt x="78" y="2014"/>
                  </a:lnTo>
                  <a:lnTo>
                    <a:pt x="68" y="1996"/>
                  </a:lnTo>
                  <a:lnTo>
                    <a:pt x="66" y="1978"/>
                  </a:lnTo>
                  <a:lnTo>
                    <a:pt x="68" y="1964"/>
                  </a:lnTo>
                  <a:lnTo>
                    <a:pt x="60" y="1960"/>
                  </a:lnTo>
                  <a:lnTo>
                    <a:pt x="46" y="1980"/>
                  </a:lnTo>
                  <a:lnTo>
                    <a:pt x="38" y="1998"/>
                  </a:lnTo>
                  <a:lnTo>
                    <a:pt x="36" y="2028"/>
                  </a:lnTo>
                  <a:lnTo>
                    <a:pt x="18" y="2078"/>
                  </a:lnTo>
                  <a:lnTo>
                    <a:pt x="26" y="2104"/>
                  </a:lnTo>
                  <a:lnTo>
                    <a:pt x="52" y="2112"/>
                  </a:lnTo>
                  <a:lnTo>
                    <a:pt x="52" y="2138"/>
                  </a:lnTo>
                  <a:lnTo>
                    <a:pt x="38" y="2170"/>
                  </a:lnTo>
                  <a:lnTo>
                    <a:pt x="14" y="2182"/>
                  </a:lnTo>
                  <a:lnTo>
                    <a:pt x="0" y="2216"/>
                  </a:lnTo>
                  <a:lnTo>
                    <a:pt x="0" y="2228"/>
                  </a:lnTo>
                  <a:lnTo>
                    <a:pt x="18" y="2296"/>
                  </a:lnTo>
                  <a:lnTo>
                    <a:pt x="22" y="2346"/>
                  </a:lnTo>
                  <a:lnTo>
                    <a:pt x="36" y="2390"/>
                  </a:lnTo>
                  <a:lnTo>
                    <a:pt x="46" y="2400"/>
                  </a:lnTo>
                  <a:lnTo>
                    <a:pt x="34" y="2430"/>
                  </a:lnTo>
                  <a:lnTo>
                    <a:pt x="48" y="2442"/>
                  </a:lnTo>
                  <a:lnTo>
                    <a:pt x="50" y="2462"/>
                  </a:lnTo>
                  <a:lnTo>
                    <a:pt x="50" y="2468"/>
                  </a:lnTo>
                  <a:lnTo>
                    <a:pt x="36" y="2486"/>
                  </a:lnTo>
                  <a:lnTo>
                    <a:pt x="26" y="2510"/>
                  </a:lnTo>
                  <a:lnTo>
                    <a:pt x="14" y="2548"/>
                  </a:lnTo>
                  <a:lnTo>
                    <a:pt x="14" y="2558"/>
                  </a:lnTo>
                  <a:lnTo>
                    <a:pt x="26" y="2566"/>
                  </a:lnTo>
                  <a:lnTo>
                    <a:pt x="66" y="2578"/>
                  </a:lnTo>
                  <a:lnTo>
                    <a:pt x="86" y="2598"/>
                  </a:lnTo>
                  <a:lnTo>
                    <a:pt x="102" y="2590"/>
                  </a:lnTo>
                  <a:lnTo>
                    <a:pt x="116" y="2594"/>
                  </a:lnTo>
                  <a:lnTo>
                    <a:pt x="130" y="2610"/>
                  </a:lnTo>
                  <a:lnTo>
                    <a:pt x="148" y="2622"/>
                  </a:lnTo>
                  <a:lnTo>
                    <a:pt x="150" y="2640"/>
                  </a:lnTo>
                  <a:lnTo>
                    <a:pt x="178" y="2658"/>
                  </a:lnTo>
                  <a:lnTo>
                    <a:pt x="188" y="2668"/>
                  </a:lnTo>
                  <a:lnTo>
                    <a:pt x="192" y="2680"/>
                  </a:lnTo>
                  <a:lnTo>
                    <a:pt x="206" y="2664"/>
                  </a:lnTo>
                  <a:lnTo>
                    <a:pt x="216" y="2664"/>
                  </a:lnTo>
                  <a:lnTo>
                    <a:pt x="224" y="2670"/>
                  </a:lnTo>
                  <a:lnTo>
                    <a:pt x="232" y="2692"/>
                  </a:lnTo>
                  <a:lnTo>
                    <a:pt x="226" y="2720"/>
                  </a:lnTo>
                  <a:lnTo>
                    <a:pt x="226" y="2726"/>
                  </a:lnTo>
                  <a:lnTo>
                    <a:pt x="256" y="2732"/>
                  </a:lnTo>
                  <a:lnTo>
                    <a:pt x="276" y="2752"/>
                  </a:lnTo>
                  <a:lnTo>
                    <a:pt x="286" y="2770"/>
                  </a:lnTo>
                  <a:lnTo>
                    <a:pt x="298" y="2816"/>
                  </a:lnTo>
                  <a:lnTo>
                    <a:pt x="310" y="2840"/>
                  </a:lnTo>
                  <a:lnTo>
                    <a:pt x="312" y="2868"/>
                  </a:lnTo>
                  <a:lnTo>
                    <a:pt x="288" y="2940"/>
                  </a:lnTo>
                  <a:lnTo>
                    <a:pt x="286" y="2958"/>
                  </a:lnTo>
                  <a:lnTo>
                    <a:pt x="588" y="2952"/>
                  </a:lnTo>
                  <a:lnTo>
                    <a:pt x="586" y="2968"/>
                  </a:lnTo>
                  <a:lnTo>
                    <a:pt x="994" y="3216"/>
                  </a:lnTo>
                  <a:lnTo>
                    <a:pt x="1244" y="3232"/>
                  </a:lnTo>
                  <a:lnTo>
                    <a:pt x="1350" y="3238"/>
                  </a:lnTo>
                  <a:lnTo>
                    <a:pt x="1382" y="3154"/>
                  </a:lnTo>
                  <a:lnTo>
                    <a:pt x="1598" y="3166"/>
                  </a:lnTo>
                  <a:lnTo>
                    <a:pt x="1618" y="3184"/>
                  </a:lnTo>
                  <a:lnTo>
                    <a:pt x="1626" y="3190"/>
                  </a:lnTo>
                  <a:lnTo>
                    <a:pt x="1628" y="3226"/>
                  </a:lnTo>
                  <a:lnTo>
                    <a:pt x="1654" y="3244"/>
                  </a:lnTo>
                  <a:lnTo>
                    <a:pt x="1662" y="3280"/>
                  </a:lnTo>
                  <a:lnTo>
                    <a:pt x="1690" y="3332"/>
                  </a:lnTo>
                  <a:lnTo>
                    <a:pt x="1742" y="3390"/>
                  </a:lnTo>
                  <a:lnTo>
                    <a:pt x="1726" y="3532"/>
                  </a:lnTo>
                  <a:lnTo>
                    <a:pt x="1744" y="3588"/>
                  </a:lnTo>
                  <a:lnTo>
                    <a:pt x="1772" y="3634"/>
                  </a:lnTo>
                  <a:lnTo>
                    <a:pt x="1818" y="3684"/>
                  </a:lnTo>
                  <a:lnTo>
                    <a:pt x="1870" y="3698"/>
                  </a:lnTo>
                  <a:lnTo>
                    <a:pt x="1970" y="3570"/>
                  </a:lnTo>
                  <a:lnTo>
                    <a:pt x="1982" y="3560"/>
                  </a:lnTo>
                  <a:lnTo>
                    <a:pt x="2012" y="3550"/>
                  </a:lnTo>
                  <a:lnTo>
                    <a:pt x="2036" y="3558"/>
                  </a:lnTo>
                  <a:lnTo>
                    <a:pt x="2146" y="3560"/>
                  </a:lnTo>
                  <a:lnTo>
                    <a:pt x="2156" y="3588"/>
                  </a:lnTo>
                  <a:lnTo>
                    <a:pt x="2182" y="3636"/>
                  </a:lnTo>
                  <a:lnTo>
                    <a:pt x="2190" y="3664"/>
                  </a:lnTo>
                  <a:lnTo>
                    <a:pt x="2208" y="3688"/>
                  </a:lnTo>
                  <a:lnTo>
                    <a:pt x="2214" y="3822"/>
                  </a:lnTo>
                  <a:lnTo>
                    <a:pt x="2238" y="3874"/>
                  </a:lnTo>
                  <a:lnTo>
                    <a:pt x="2244" y="3928"/>
                  </a:lnTo>
                  <a:lnTo>
                    <a:pt x="2276" y="3964"/>
                  </a:lnTo>
                  <a:lnTo>
                    <a:pt x="2272" y="4104"/>
                  </a:lnTo>
                  <a:lnTo>
                    <a:pt x="2292" y="4180"/>
                  </a:lnTo>
                  <a:lnTo>
                    <a:pt x="2324" y="4214"/>
                  </a:lnTo>
                  <a:lnTo>
                    <a:pt x="2358" y="4220"/>
                  </a:lnTo>
                  <a:lnTo>
                    <a:pt x="2388" y="4246"/>
                  </a:lnTo>
                  <a:lnTo>
                    <a:pt x="2452" y="4254"/>
                  </a:lnTo>
                  <a:lnTo>
                    <a:pt x="2490" y="4282"/>
                  </a:lnTo>
                  <a:lnTo>
                    <a:pt x="2532" y="4290"/>
                  </a:lnTo>
                  <a:lnTo>
                    <a:pt x="2536" y="4284"/>
                  </a:lnTo>
                  <a:lnTo>
                    <a:pt x="2528" y="4272"/>
                  </a:lnTo>
                  <a:lnTo>
                    <a:pt x="2526" y="4240"/>
                  </a:lnTo>
                  <a:lnTo>
                    <a:pt x="2528" y="4220"/>
                  </a:lnTo>
                  <a:lnTo>
                    <a:pt x="2526" y="4214"/>
                  </a:lnTo>
                  <a:lnTo>
                    <a:pt x="2530" y="4138"/>
                  </a:lnTo>
                  <a:lnTo>
                    <a:pt x="2536" y="4110"/>
                  </a:lnTo>
                  <a:lnTo>
                    <a:pt x="2550" y="4102"/>
                  </a:lnTo>
                  <a:lnTo>
                    <a:pt x="2560" y="4068"/>
                  </a:lnTo>
                  <a:lnTo>
                    <a:pt x="2560" y="4062"/>
                  </a:lnTo>
                  <a:lnTo>
                    <a:pt x="2546" y="4056"/>
                  </a:lnTo>
                  <a:lnTo>
                    <a:pt x="2540" y="4052"/>
                  </a:lnTo>
                  <a:lnTo>
                    <a:pt x="2546" y="4042"/>
                  </a:lnTo>
                  <a:lnTo>
                    <a:pt x="2564" y="4040"/>
                  </a:lnTo>
                  <a:lnTo>
                    <a:pt x="2568" y="4050"/>
                  </a:lnTo>
                  <a:lnTo>
                    <a:pt x="2582" y="4042"/>
                  </a:lnTo>
                  <a:lnTo>
                    <a:pt x="2592" y="4020"/>
                  </a:lnTo>
                  <a:lnTo>
                    <a:pt x="2604" y="3982"/>
                  </a:lnTo>
                  <a:lnTo>
                    <a:pt x="2600" y="3954"/>
                  </a:lnTo>
                  <a:lnTo>
                    <a:pt x="2636" y="3946"/>
                  </a:lnTo>
                  <a:lnTo>
                    <a:pt x="2658" y="3920"/>
                  </a:lnTo>
                  <a:lnTo>
                    <a:pt x="2658" y="3912"/>
                  </a:lnTo>
                  <a:lnTo>
                    <a:pt x="2642" y="3916"/>
                  </a:lnTo>
                  <a:lnTo>
                    <a:pt x="2648" y="3902"/>
                  </a:lnTo>
                  <a:lnTo>
                    <a:pt x="2676" y="3888"/>
                  </a:lnTo>
                  <a:lnTo>
                    <a:pt x="2684" y="3890"/>
                  </a:lnTo>
                  <a:lnTo>
                    <a:pt x="2704" y="3870"/>
                  </a:lnTo>
                  <a:lnTo>
                    <a:pt x="2710" y="3860"/>
                  </a:lnTo>
                  <a:lnTo>
                    <a:pt x="2716" y="3854"/>
                  </a:lnTo>
                  <a:lnTo>
                    <a:pt x="2742" y="3852"/>
                  </a:lnTo>
                  <a:lnTo>
                    <a:pt x="2752" y="3846"/>
                  </a:lnTo>
                  <a:lnTo>
                    <a:pt x="2758" y="3834"/>
                  </a:lnTo>
                  <a:lnTo>
                    <a:pt x="2748" y="3820"/>
                  </a:lnTo>
                  <a:lnTo>
                    <a:pt x="2752" y="3806"/>
                  </a:lnTo>
                  <a:lnTo>
                    <a:pt x="2758" y="3798"/>
                  </a:lnTo>
                  <a:lnTo>
                    <a:pt x="2768" y="3804"/>
                  </a:lnTo>
                  <a:lnTo>
                    <a:pt x="2774" y="3814"/>
                  </a:lnTo>
                  <a:lnTo>
                    <a:pt x="2776" y="3812"/>
                  </a:lnTo>
                  <a:lnTo>
                    <a:pt x="2780" y="3800"/>
                  </a:lnTo>
                  <a:lnTo>
                    <a:pt x="2786" y="3794"/>
                  </a:lnTo>
                  <a:lnTo>
                    <a:pt x="2790" y="3796"/>
                  </a:lnTo>
                  <a:lnTo>
                    <a:pt x="2792" y="3810"/>
                  </a:lnTo>
                  <a:lnTo>
                    <a:pt x="2796" y="3812"/>
                  </a:lnTo>
                  <a:lnTo>
                    <a:pt x="2804" y="3808"/>
                  </a:lnTo>
                  <a:lnTo>
                    <a:pt x="2812" y="3794"/>
                  </a:lnTo>
                  <a:lnTo>
                    <a:pt x="2816" y="3792"/>
                  </a:lnTo>
                  <a:lnTo>
                    <a:pt x="2814" y="3816"/>
                  </a:lnTo>
                  <a:lnTo>
                    <a:pt x="2858" y="3804"/>
                  </a:lnTo>
                  <a:lnTo>
                    <a:pt x="2864" y="3804"/>
                  </a:lnTo>
                  <a:lnTo>
                    <a:pt x="2860" y="3810"/>
                  </a:lnTo>
                  <a:lnTo>
                    <a:pt x="2848" y="3816"/>
                  </a:lnTo>
                  <a:lnTo>
                    <a:pt x="2820" y="3826"/>
                  </a:lnTo>
                  <a:lnTo>
                    <a:pt x="2796" y="3836"/>
                  </a:lnTo>
                  <a:lnTo>
                    <a:pt x="2790" y="3842"/>
                  </a:lnTo>
                  <a:lnTo>
                    <a:pt x="2794" y="3846"/>
                  </a:lnTo>
                  <a:lnTo>
                    <a:pt x="2840" y="3830"/>
                  </a:lnTo>
                  <a:lnTo>
                    <a:pt x="2884" y="3810"/>
                  </a:lnTo>
                  <a:lnTo>
                    <a:pt x="2904" y="3794"/>
                  </a:lnTo>
                  <a:lnTo>
                    <a:pt x="2946" y="3768"/>
                  </a:lnTo>
                  <a:lnTo>
                    <a:pt x="2956" y="3756"/>
                  </a:lnTo>
                  <a:lnTo>
                    <a:pt x="2984" y="3712"/>
                  </a:lnTo>
                  <a:lnTo>
                    <a:pt x="3014" y="3622"/>
                  </a:lnTo>
                  <a:lnTo>
                    <a:pt x="3024" y="3614"/>
                  </a:lnTo>
                  <a:lnTo>
                    <a:pt x="3032" y="3610"/>
                  </a:lnTo>
                  <a:lnTo>
                    <a:pt x="3038" y="3610"/>
                  </a:lnTo>
                  <a:lnTo>
                    <a:pt x="3030" y="3644"/>
                  </a:lnTo>
                  <a:lnTo>
                    <a:pt x="3048" y="3646"/>
                  </a:lnTo>
                  <a:lnTo>
                    <a:pt x="3040" y="3656"/>
                  </a:lnTo>
                  <a:lnTo>
                    <a:pt x="3022" y="3664"/>
                  </a:lnTo>
                  <a:lnTo>
                    <a:pt x="3026" y="3666"/>
                  </a:lnTo>
                  <a:lnTo>
                    <a:pt x="3080" y="3648"/>
                  </a:lnTo>
                  <a:lnTo>
                    <a:pt x="3116" y="3630"/>
                  </a:lnTo>
                  <a:lnTo>
                    <a:pt x="3158" y="3630"/>
                  </a:lnTo>
                  <a:lnTo>
                    <a:pt x="3236" y="3620"/>
                  </a:lnTo>
                  <a:lnTo>
                    <a:pt x="3284" y="3640"/>
                  </a:lnTo>
                  <a:lnTo>
                    <a:pt x="3306" y="3654"/>
                  </a:lnTo>
                  <a:lnTo>
                    <a:pt x="3334" y="3662"/>
                  </a:lnTo>
                  <a:lnTo>
                    <a:pt x="3364" y="3664"/>
                  </a:lnTo>
                  <a:lnTo>
                    <a:pt x="3382" y="3650"/>
                  </a:lnTo>
                  <a:lnTo>
                    <a:pt x="3388" y="3634"/>
                  </a:lnTo>
                  <a:lnTo>
                    <a:pt x="3396" y="3626"/>
                  </a:lnTo>
                  <a:lnTo>
                    <a:pt x="3420" y="3628"/>
                  </a:lnTo>
                  <a:lnTo>
                    <a:pt x="3452" y="3650"/>
                  </a:lnTo>
                  <a:lnTo>
                    <a:pt x="3462" y="3672"/>
                  </a:lnTo>
                  <a:lnTo>
                    <a:pt x="3476" y="3676"/>
                  </a:lnTo>
                  <a:lnTo>
                    <a:pt x="3490" y="3724"/>
                  </a:lnTo>
                  <a:lnTo>
                    <a:pt x="3516" y="3728"/>
                  </a:lnTo>
                  <a:lnTo>
                    <a:pt x="3522" y="3736"/>
                  </a:lnTo>
                  <a:lnTo>
                    <a:pt x="3540" y="3744"/>
                  </a:lnTo>
                  <a:lnTo>
                    <a:pt x="3564" y="3734"/>
                  </a:lnTo>
                  <a:lnTo>
                    <a:pt x="3574" y="3744"/>
                  </a:lnTo>
                  <a:lnTo>
                    <a:pt x="3588" y="3738"/>
                  </a:lnTo>
                  <a:lnTo>
                    <a:pt x="3598" y="3738"/>
                  </a:lnTo>
                  <a:lnTo>
                    <a:pt x="3622" y="3746"/>
                  </a:lnTo>
                  <a:lnTo>
                    <a:pt x="3646" y="3722"/>
                  </a:lnTo>
                  <a:lnTo>
                    <a:pt x="3652" y="3714"/>
                  </a:lnTo>
                  <a:lnTo>
                    <a:pt x="3652" y="3704"/>
                  </a:lnTo>
                  <a:lnTo>
                    <a:pt x="3658" y="3700"/>
                  </a:lnTo>
                  <a:lnTo>
                    <a:pt x="3672" y="3700"/>
                  </a:lnTo>
                  <a:lnTo>
                    <a:pt x="3684" y="3720"/>
                  </a:lnTo>
                  <a:lnTo>
                    <a:pt x="3708" y="3736"/>
                  </a:lnTo>
                  <a:lnTo>
                    <a:pt x="3722" y="3776"/>
                  </a:lnTo>
                  <a:lnTo>
                    <a:pt x="3732" y="3772"/>
                  </a:lnTo>
                  <a:lnTo>
                    <a:pt x="3754" y="3764"/>
                  </a:lnTo>
                  <a:lnTo>
                    <a:pt x="3760" y="3752"/>
                  </a:lnTo>
                  <a:lnTo>
                    <a:pt x="3754" y="3734"/>
                  </a:lnTo>
                  <a:lnTo>
                    <a:pt x="3722" y="3708"/>
                  </a:lnTo>
                  <a:lnTo>
                    <a:pt x="3710" y="3682"/>
                  </a:lnTo>
                  <a:lnTo>
                    <a:pt x="3714" y="3674"/>
                  </a:lnTo>
                  <a:lnTo>
                    <a:pt x="3730" y="3654"/>
                  </a:lnTo>
                  <a:lnTo>
                    <a:pt x="3764" y="3630"/>
                  </a:lnTo>
                  <a:lnTo>
                    <a:pt x="3782" y="3592"/>
                  </a:lnTo>
                  <a:lnTo>
                    <a:pt x="3778" y="3586"/>
                  </a:lnTo>
                  <a:lnTo>
                    <a:pt x="3774" y="3584"/>
                  </a:lnTo>
                  <a:lnTo>
                    <a:pt x="3742" y="3596"/>
                  </a:lnTo>
                  <a:lnTo>
                    <a:pt x="3722" y="3610"/>
                  </a:lnTo>
                  <a:lnTo>
                    <a:pt x="3714" y="3608"/>
                  </a:lnTo>
                  <a:lnTo>
                    <a:pt x="3716" y="3576"/>
                  </a:lnTo>
                  <a:lnTo>
                    <a:pt x="3712" y="3574"/>
                  </a:lnTo>
                  <a:lnTo>
                    <a:pt x="3702" y="3574"/>
                  </a:lnTo>
                  <a:lnTo>
                    <a:pt x="3678" y="3590"/>
                  </a:lnTo>
                  <a:lnTo>
                    <a:pt x="3652" y="3590"/>
                  </a:lnTo>
                  <a:lnTo>
                    <a:pt x="3640" y="3570"/>
                  </a:lnTo>
                  <a:lnTo>
                    <a:pt x="3656" y="3540"/>
                  </a:lnTo>
                  <a:lnTo>
                    <a:pt x="3690" y="3530"/>
                  </a:lnTo>
                  <a:lnTo>
                    <a:pt x="3720" y="3552"/>
                  </a:lnTo>
                  <a:lnTo>
                    <a:pt x="3754" y="3562"/>
                  </a:lnTo>
                  <a:lnTo>
                    <a:pt x="3790" y="3546"/>
                  </a:lnTo>
                  <a:lnTo>
                    <a:pt x="3808" y="3552"/>
                  </a:lnTo>
                  <a:lnTo>
                    <a:pt x="3842" y="3536"/>
                  </a:lnTo>
                  <a:lnTo>
                    <a:pt x="3920" y="3544"/>
                  </a:lnTo>
                  <a:lnTo>
                    <a:pt x="3940" y="3548"/>
                  </a:lnTo>
                  <a:lnTo>
                    <a:pt x="3952" y="3544"/>
                  </a:lnTo>
                  <a:lnTo>
                    <a:pt x="4000" y="3454"/>
                  </a:lnTo>
                  <a:lnTo>
                    <a:pt x="3998" y="3472"/>
                  </a:lnTo>
                  <a:lnTo>
                    <a:pt x="3992" y="3498"/>
                  </a:lnTo>
                  <a:lnTo>
                    <a:pt x="3988" y="3532"/>
                  </a:lnTo>
                  <a:lnTo>
                    <a:pt x="3982" y="3544"/>
                  </a:lnTo>
                  <a:lnTo>
                    <a:pt x="3972" y="3562"/>
                  </a:lnTo>
                  <a:lnTo>
                    <a:pt x="3972" y="3572"/>
                  </a:lnTo>
                  <a:lnTo>
                    <a:pt x="3994" y="3570"/>
                  </a:lnTo>
                  <a:lnTo>
                    <a:pt x="4050" y="3554"/>
                  </a:lnTo>
                  <a:lnTo>
                    <a:pt x="4078" y="3532"/>
                  </a:lnTo>
                  <a:lnTo>
                    <a:pt x="4092" y="3530"/>
                  </a:lnTo>
                  <a:lnTo>
                    <a:pt x="4106" y="3520"/>
                  </a:lnTo>
                  <a:lnTo>
                    <a:pt x="4110" y="3520"/>
                  </a:lnTo>
                  <a:lnTo>
                    <a:pt x="4110" y="3526"/>
                  </a:lnTo>
                  <a:lnTo>
                    <a:pt x="4096" y="3548"/>
                  </a:lnTo>
                  <a:lnTo>
                    <a:pt x="4114" y="3548"/>
                  </a:lnTo>
                  <a:lnTo>
                    <a:pt x="4172" y="3534"/>
                  </a:lnTo>
                  <a:lnTo>
                    <a:pt x="4198" y="3536"/>
                  </a:lnTo>
                  <a:lnTo>
                    <a:pt x="4208" y="3542"/>
                  </a:lnTo>
                  <a:lnTo>
                    <a:pt x="4204" y="3550"/>
                  </a:lnTo>
                  <a:lnTo>
                    <a:pt x="4194" y="3554"/>
                  </a:lnTo>
                  <a:lnTo>
                    <a:pt x="4196" y="3558"/>
                  </a:lnTo>
                  <a:lnTo>
                    <a:pt x="4208" y="3570"/>
                  </a:lnTo>
                  <a:lnTo>
                    <a:pt x="4232" y="3584"/>
                  </a:lnTo>
                  <a:lnTo>
                    <a:pt x="4282" y="3626"/>
                  </a:lnTo>
                  <a:lnTo>
                    <a:pt x="4290" y="3640"/>
                  </a:lnTo>
                  <a:lnTo>
                    <a:pt x="4294" y="3668"/>
                  </a:lnTo>
                  <a:lnTo>
                    <a:pt x="4302" y="3678"/>
                  </a:lnTo>
                  <a:lnTo>
                    <a:pt x="4340" y="3670"/>
                  </a:lnTo>
                  <a:lnTo>
                    <a:pt x="4376" y="3664"/>
                  </a:lnTo>
                  <a:lnTo>
                    <a:pt x="4416" y="3646"/>
                  </a:lnTo>
                  <a:lnTo>
                    <a:pt x="4432" y="3646"/>
                  </a:lnTo>
                  <a:lnTo>
                    <a:pt x="4434" y="3644"/>
                  </a:lnTo>
                  <a:lnTo>
                    <a:pt x="4440" y="3630"/>
                  </a:lnTo>
                  <a:lnTo>
                    <a:pt x="4456" y="3620"/>
                  </a:lnTo>
                  <a:lnTo>
                    <a:pt x="4478" y="3620"/>
                  </a:lnTo>
                  <a:lnTo>
                    <a:pt x="4490" y="3622"/>
                  </a:lnTo>
                  <a:lnTo>
                    <a:pt x="4510" y="3634"/>
                  </a:lnTo>
                  <a:lnTo>
                    <a:pt x="4524" y="3652"/>
                  </a:lnTo>
                  <a:lnTo>
                    <a:pt x="4538" y="3686"/>
                  </a:lnTo>
                  <a:lnTo>
                    <a:pt x="4550" y="3694"/>
                  </a:lnTo>
                  <a:lnTo>
                    <a:pt x="4544" y="3720"/>
                  </a:lnTo>
                  <a:lnTo>
                    <a:pt x="4554" y="3728"/>
                  </a:lnTo>
                  <a:lnTo>
                    <a:pt x="4570" y="3764"/>
                  </a:lnTo>
                  <a:lnTo>
                    <a:pt x="4582" y="3776"/>
                  </a:lnTo>
                  <a:lnTo>
                    <a:pt x="4608" y="3792"/>
                  </a:lnTo>
                  <a:lnTo>
                    <a:pt x="4610" y="3802"/>
                  </a:lnTo>
                  <a:lnTo>
                    <a:pt x="4610" y="3824"/>
                  </a:lnTo>
                  <a:lnTo>
                    <a:pt x="4598" y="3876"/>
                  </a:lnTo>
                  <a:lnTo>
                    <a:pt x="4562" y="3972"/>
                  </a:lnTo>
                  <a:lnTo>
                    <a:pt x="4558" y="3988"/>
                  </a:lnTo>
                  <a:lnTo>
                    <a:pt x="4554" y="4018"/>
                  </a:lnTo>
                  <a:lnTo>
                    <a:pt x="4554" y="4020"/>
                  </a:lnTo>
                  <a:lnTo>
                    <a:pt x="4566" y="4022"/>
                  </a:lnTo>
                  <a:lnTo>
                    <a:pt x="4574" y="3996"/>
                  </a:lnTo>
                  <a:lnTo>
                    <a:pt x="4584" y="4000"/>
                  </a:lnTo>
                  <a:lnTo>
                    <a:pt x="4592" y="4012"/>
                  </a:lnTo>
                  <a:lnTo>
                    <a:pt x="4572" y="4046"/>
                  </a:lnTo>
                  <a:lnTo>
                    <a:pt x="4562" y="4072"/>
                  </a:lnTo>
                  <a:lnTo>
                    <a:pt x="4558" y="4102"/>
                  </a:lnTo>
                  <a:lnTo>
                    <a:pt x="4564" y="4132"/>
                  </a:lnTo>
                  <a:lnTo>
                    <a:pt x="4584" y="4190"/>
                  </a:lnTo>
                  <a:lnTo>
                    <a:pt x="4588" y="4192"/>
                  </a:lnTo>
                  <a:lnTo>
                    <a:pt x="4608" y="4184"/>
                  </a:lnTo>
                  <a:lnTo>
                    <a:pt x="4602" y="4234"/>
                  </a:lnTo>
                  <a:lnTo>
                    <a:pt x="4616" y="4230"/>
                  </a:lnTo>
                  <a:lnTo>
                    <a:pt x="4618" y="4232"/>
                  </a:lnTo>
                  <a:lnTo>
                    <a:pt x="4608" y="4246"/>
                  </a:lnTo>
                  <a:lnTo>
                    <a:pt x="4604" y="4256"/>
                  </a:lnTo>
                  <a:lnTo>
                    <a:pt x="4616" y="4294"/>
                  </a:lnTo>
                  <a:lnTo>
                    <a:pt x="4616" y="4332"/>
                  </a:lnTo>
                  <a:lnTo>
                    <a:pt x="4620" y="4350"/>
                  </a:lnTo>
                  <a:lnTo>
                    <a:pt x="4628" y="4366"/>
                  </a:lnTo>
                  <a:lnTo>
                    <a:pt x="4650" y="4368"/>
                  </a:lnTo>
                  <a:lnTo>
                    <a:pt x="4660" y="4384"/>
                  </a:lnTo>
                  <a:lnTo>
                    <a:pt x="4672" y="4448"/>
                  </a:lnTo>
                  <a:lnTo>
                    <a:pt x="4662" y="4484"/>
                  </a:lnTo>
                  <a:lnTo>
                    <a:pt x="4662" y="4490"/>
                  </a:lnTo>
                  <a:lnTo>
                    <a:pt x="4670" y="4500"/>
                  </a:lnTo>
                  <a:lnTo>
                    <a:pt x="4704" y="4500"/>
                  </a:lnTo>
                  <a:lnTo>
                    <a:pt x="4728" y="4494"/>
                  </a:lnTo>
                  <a:lnTo>
                    <a:pt x="4764" y="4478"/>
                  </a:lnTo>
                  <a:lnTo>
                    <a:pt x="4780" y="4490"/>
                  </a:lnTo>
                  <a:lnTo>
                    <a:pt x="4796" y="4468"/>
                  </a:lnTo>
                  <a:lnTo>
                    <a:pt x="4788" y="4458"/>
                  </a:lnTo>
                  <a:lnTo>
                    <a:pt x="4812" y="4400"/>
                  </a:lnTo>
                  <a:lnTo>
                    <a:pt x="4842" y="4342"/>
                  </a:lnTo>
                  <a:lnTo>
                    <a:pt x="4858" y="4286"/>
                  </a:lnTo>
                  <a:lnTo>
                    <a:pt x="4868" y="4228"/>
                  </a:lnTo>
                  <a:lnTo>
                    <a:pt x="4878" y="4190"/>
                  </a:lnTo>
                  <a:lnTo>
                    <a:pt x="4866" y="4064"/>
                  </a:lnTo>
                  <a:lnTo>
                    <a:pt x="4854" y="4014"/>
                  </a:lnTo>
                  <a:lnTo>
                    <a:pt x="4856" y="3978"/>
                  </a:lnTo>
                  <a:lnTo>
                    <a:pt x="4872" y="3932"/>
                  </a:lnTo>
                  <a:lnTo>
                    <a:pt x="4874" y="3906"/>
                  </a:lnTo>
                  <a:lnTo>
                    <a:pt x="4866" y="3864"/>
                  </a:lnTo>
                  <a:lnTo>
                    <a:pt x="4842" y="3784"/>
                  </a:lnTo>
                  <a:lnTo>
                    <a:pt x="4838" y="3674"/>
                  </a:lnTo>
                  <a:lnTo>
                    <a:pt x="4846" y="3542"/>
                  </a:lnTo>
                  <a:lnTo>
                    <a:pt x="4856" y="3528"/>
                  </a:lnTo>
                  <a:lnTo>
                    <a:pt x="4868" y="3484"/>
                  </a:lnTo>
                  <a:lnTo>
                    <a:pt x="4890" y="3458"/>
                  </a:lnTo>
                  <a:lnTo>
                    <a:pt x="4906" y="3426"/>
                  </a:lnTo>
                  <a:lnTo>
                    <a:pt x="4918" y="3404"/>
                  </a:lnTo>
                  <a:lnTo>
                    <a:pt x="4970" y="3328"/>
                  </a:lnTo>
                  <a:lnTo>
                    <a:pt x="4992" y="3304"/>
                  </a:lnTo>
                  <a:lnTo>
                    <a:pt x="5000" y="3304"/>
                  </a:lnTo>
                  <a:lnTo>
                    <a:pt x="5002" y="3288"/>
                  </a:lnTo>
                  <a:lnTo>
                    <a:pt x="5008" y="3284"/>
                  </a:lnTo>
                  <a:lnTo>
                    <a:pt x="5032" y="3272"/>
                  </a:lnTo>
                  <a:lnTo>
                    <a:pt x="5044" y="3272"/>
                  </a:lnTo>
                  <a:lnTo>
                    <a:pt x="5056" y="3260"/>
                  </a:lnTo>
                  <a:lnTo>
                    <a:pt x="5054" y="3246"/>
                  </a:lnTo>
                  <a:lnTo>
                    <a:pt x="5048" y="3224"/>
                  </a:lnTo>
                  <a:lnTo>
                    <a:pt x="5050" y="3218"/>
                  </a:lnTo>
                  <a:lnTo>
                    <a:pt x="5054" y="3214"/>
                  </a:lnTo>
                  <a:lnTo>
                    <a:pt x="5092" y="3212"/>
                  </a:lnTo>
                  <a:lnTo>
                    <a:pt x="5128" y="3216"/>
                  </a:lnTo>
                  <a:lnTo>
                    <a:pt x="5142" y="3214"/>
                  </a:lnTo>
                  <a:lnTo>
                    <a:pt x="5210" y="3166"/>
                  </a:lnTo>
                  <a:lnTo>
                    <a:pt x="5216" y="3166"/>
                  </a:lnTo>
                  <a:lnTo>
                    <a:pt x="5228" y="3158"/>
                  </a:lnTo>
                  <a:lnTo>
                    <a:pt x="5240" y="3138"/>
                  </a:lnTo>
                  <a:lnTo>
                    <a:pt x="5264" y="3132"/>
                  </a:lnTo>
                  <a:lnTo>
                    <a:pt x="5282" y="3120"/>
                  </a:lnTo>
                  <a:lnTo>
                    <a:pt x="5294" y="3102"/>
                  </a:lnTo>
                  <a:lnTo>
                    <a:pt x="5292" y="3088"/>
                  </a:lnTo>
                  <a:lnTo>
                    <a:pt x="5310" y="3076"/>
                  </a:lnTo>
                  <a:lnTo>
                    <a:pt x="5334" y="3048"/>
                  </a:lnTo>
                  <a:lnTo>
                    <a:pt x="5356" y="3028"/>
                  </a:lnTo>
                  <a:lnTo>
                    <a:pt x="5394" y="3012"/>
                  </a:lnTo>
                  <a:lnTo>
                    <a:pt x="5402" y="3000"/>
                  </a:lnTo>
                  <a:lnTo>
                    <a:pt x="5416" y="2996"/>
                  </a:lnTo>
                  <a:lnTo>
                    <a:pt x="5460" y="2992"/>
                  </a:lnTo>
                  <a:lnTo>
                    <a:pt x="5512" y="2972"/>
                  </a:lnTo>
                  <a:lnTo>
                    <a:pt x="5520" y="2956"/>
                  </a:lnTo>
                  <a:lnTo>
                    <a:pt x="5528" y="2946"/>
                  </a:lnTo>
                  <a:lnTo>
                    <a:pt x="5546" y="2934"/>
                  </a:lnTo>
                  <a:lnTo>
                    <a:pt x="5564" y="2912"/>
                  </a:lnTo>
                  <a:lnTo>
                    <a:pt x="5588" y="2898"/>
                  </a:lnTo>
                  <a:lnTo>
                    <a:pt x="5640" y="2876"/>
                  </a:lnTo>
                  <a:lnTo>
                    <a:pt x="5690" y="2876"/>
                  </a:lnTo>
                  <a:lnTo>
                    <a:pt x="5734" y="2852"/>
                  </a:lnTo>
                  <a:lnTo>
                    <a:pt x="5742" y="2838"/>
                  </a:lnTo>
                  <a:lnTo>
                    <a:pt x="5746" y="2820"/>
                  </a:lnTo>
                  <a:lnTo>
                    <a:pt x="5728" y="2814"/>
                  </a:lnTo>
                  <a:lnTo>
                    <a:pt x="5714" y="2820"/>
                  </a:lnTo>
                  <a:lnTo>
                    <a:pt x="5710" y="2826"/>
                  </a:lnTo>
                  <a:lnTo>
                    <a:pt x="5712" y="2818"/>
                  </a:lnTo>
                  <a:lnTo>
                    <a:pt x="5716" y="2804"/>
                  </a:lnTo>
                  <a:lnTo>
                    <a:pt x="5730" y="2794"/>
                  </a:lnTo>
                  <a:lnTo>
                    <a:pt x="5738" y="2782"/>
                  </a:lnTo>
                  <a:lnTo>
                    <a:pt x="5754" y="2772"/>
                  </a:lnTo>
                  <a:lnTo>
                    <a:pt x="5748" y="2760"/>
                  </a:lnTo>
                  <a:lnTo>
                    <a:pt x="5714" y="2742"/>
                  </a:lnTo>
                  <a:lnTo>
                    <a:pt x="5744" y="2744"/>
                  </a:lnTo>
                  <a:lnTo>
                    <a:pt x="5764" y="2730"/>
                  </a:lnTo>
                  <a:lnTo>
                    <a:pt x="5764" y="2748"/>
                  </a:lnTo>
                  <a:lnTo>
                    <a:pt x="5774" y="2748"/>
                  </a:lnTo>
                  <a:lnTo>
                    <a:pt x="5778" y="2760"/>
                  </a:lnTo>
                  <a:lnTo>
                    <a:pt x="5802" y="2760"/>
                  </a:lnTo>
                  <a:lnTo>
                    <a:pt x="5818" y="2754"/>
                  </a:lnTo>
                  <a:lnTo>
                    <a:pt x="5850" y="2724"/>
                  </a:lnTo>
                  <a:lnTo>
                    <a:pt x="5866" y="2714"/>
                  </a:lnTo>
                  <a:lnTo>
                    <a:pt x="5874" y="2692"/>
                  </a:lnTo>
                  <a:lnTo>
                    <a:pt x="5876" y="2676"/>
                  </a:lnTo>
                  <a:lnTo>
                    <a:pt x="5870" y="2658"/>
                  </a:lnTo>
                  <a:lnTo>
                    <a:pt x="5854" y="2672"/>
                  </a:lnTo>
                  <a:lnTo>
                    <a:pt x="5834" y="2698"/>
                  </a:lnTo>
                  <a:lnTo>
                    <a:pt x="5832" y="2698"/>
                  </a:lnTo>
                  <a:lnTo>
                    <a:pt x="5832" y="2688"/>
                  </a:lnTo>
                  <a:lnTo>
                    <a:pt x="5838" y="2656"/>
                  </a:lnTo>
                  <a:lnTo>
                    <a:pt x="5776" y="2664"/>
                  </a:lnTo>
                  <a:lnTo>
                    <a:pt x="5762" y="2658"/>
                  </a:lnTo>
                  <a:lnTo>
                    <a:pt x="5764" y="2638"/>
                  </a:lnTo>
                  <a:lnTo>
                    <a:pt x="5776" y="2602"/>
                  </a:lnTo>
                  <a:lnTo>
                    <a:pt x="5782" y="2596"/>
                  </a:lnTo>
                  <a:lnTo>
                    <a:pt x="5780" y="2630"/>
                  </a:lnTo>
                  <a:lnTo>
                    <a:pt x="5786" y="2638"/>
                  </a:lnTo>
                  <a:lnTo>
                    <a:pt x="5798" y="2638"/>
                  </a:lnTo>
                  <a:lnTo>
                    <a:pt x="5840" y="2618"/>
                  </a:lnTo>
                  <a:lnTo>
                    <a:pt x="5848" y="2620"/>
                  </a:lnTo>
                  <a:lnTo>
                    <a:pt x="5852" y="2610"/>
                  </a:lnTo>
                  <a:lnTo>
                    <a:pt x="5864" y="2616"/>
                  </a:lnTo>
                  <a:lnTo>
                    <a:pt x="5878" y="2618"/>
                  </a:lnTo>
                  <a:lnTo>
                    <a:pt x="5880" y="2638"/>
                  </a:lnTo>
                  <a:lnTo>
                    <a:pt x="5882" y="2634"/>
                  </a:lnTo>
                  <a:lnTo>
                    <a:pt x="5882" y="2616"/>
                  </a:lnTo>
                  <a:lnTo>
                    <a:pt x="5878" y="2602"/>
                  </a:lnTo>
                  <a:lnTo>
                    <a:pt x="5882" y="2578"/>
                  </a:lnTo>
                  <a:lnTo>
                    <a:pt x="5880" y="2572"/>
                  </a:lnTo>
                  <a:lnTo>
                    <a:pt x="5900" y="2530"/>
                  </a:lnTo>
                  <a:lnTo>
                    <a:pt x="5908" y="2496"/>
                  </a:lnTo>
                  <a:lnTo>
                    <a:pt x="5870" y="2484"/>
                  </a:lnTo>
                  <a:lnTo>
                    <a:pt x="5864" y="2484"/>
                  </a:lnTo>
                  <a:lnTo>
                    <a:pt x="5856" y="2490"/>
                  </a:lnTo>
                  <a:lnTo>
                    <a:pt x="5844" y="2486"/>
                  </a:lnTo>
                  <a:lnTo>
                    <a:pt x="5834" y="2476"/>
                  </a:lnTo>
                  <a:lnTo>
                    <a:pt x="5842" y="2462"/>
                  </a:lnTo>
                  <a:lnTo>
                    <a:pt x="5864" y="2464"/>
                  </a:lnTo>
                  <a:lnTo>
                    <a:pt x="5876" y="2460"/>
                  </a:lnTo>
                  <a:lnTo>
                    <a:pt x="5876" y="2448"/>
                  </a:lnTo>
                  <a:lnTo>
                    <a:pt x="5866" y="2442"/>
                  </a:lnTo>
                  <a:lnTo>
                    <a:pt x="5866" y="2426"/>
                  </a:lnTo>
                  <a:lnTo>
                    <a:pt x="5870" y="2416"/>
                  </a:lnTo>
                  <a:lnTo>
                    <a:pt x="5882" y="2412"/>
                  </a:lnTo>
                  <a:lnTo>
                    <a:pt x="5890" y="2414"/>
                  </a:lnTo>
                  <a:lnTo>
                    <a:pt x="5888" y="2392"/>
                  </a:lnTo>
                  <a:lnTo>
                    <a:pt x="5878" y="2384"/>
                  </a:lnTo>
                  <a:lnTo>
                    <a:pt x="5882" y="2364"/>
                  </a:lnTo>
                  <a:lnTo>
                    <a:pt x="5884" y="2362"/>
                  </a:lnTo>
                  <a:lnTo>
                    <a:pt x="5892" y="2358"/>
                  </a:lnTo>
                  <a:lnTo>
                    <a:pt x="5910" y="2330"/>
                  </a:lnTo>
                  <a:lnTo>
                    <a:pt x="5912" y="2314"/>
                  </a:lnTo>
                  <a:lnTo>
                    <a:pt x="5906" y="2296"/>
                  </a:lnTo>
                  <a:lnTo>
                    <a:pt x="5882" y="2280"/>
                  </a:lnTo>
                  <a:lnTo>
                    <a:pt x="5860" y="2270"/>
                  </a:lnTo>
                  <a:lnTo>
                    <a:pt x="5844" y="2248"/>
                  </a:lnTo>
                  <a:lnTo>
                    <a:pt x="5812" y="2226"/>
                  </a:lnTo>
                  <a:lnTo>
                    <a:pt x="5812" y="2218"/>
                  </a:lnTo>
                  <a:lnTo>
                    <a:pt x="5812" y="2210"/>
                  </a:lnTo>
                  <a:lnTo>
                    <a:pt x="5824" y="2196"/>
                  </a:lnTo>
                  <a:lnTo>
                    <a:pt x="5836" y="2192"/>
                  </a:lnTo>
                  <a:lnTo>
                    <a:pt x="5834" y="2198"/>
                  </a:lnTo>
                  <a:lnTo>
                    <a:pt x="5822" y="2214"/>
                  </a:lnTo>
                  <a:lnTo>
                    <a:pt x="5826" y="2220"/>
                  </a:lnTo>
                  <a:lnTo>
                    <a:pt x="5842" y="2226"/>
                  </a:lnTo>
                  <a:lnTo>
                    <a:pt x="5862" y="2242"/>
                  </a:lnTo>
                  <a:lnTo>
                    <a:pt x="5876" y="2242"/>
                  </a:lnTo>
                  <a:lnTo>
                    <a:pt x="5882" y="2252"/>
                  </a:lnTo>
                  <a:lnTo>
                    <a:pt x="5896" y="2258"/>
                  </a:lnTo>
                  <a:lnTo>
                    <a:pt x="5904" y="2272"/>
                  </a:lnTo>
                  <a:lnTo>
                    <a:pt x="5918" y="2280"/>
                  </a:lnTo>
                  <a:lnTo>
                    <a:pt x="5922" y="2240"/>
                  </a:lnTo>
                  <a:lnTo>
                    <a:pt x="5910" y="2224"/>
                  </a:lnTo>
                  <a:lnTo>
                    <a:pt x="5922" y="2222"/>
                  </a:lnTo>
                  <a:lnTo>
                    <a:pt x="5922" y="2220"/>
                  </a:lnTo>
                  <a:lnTo>
                    <a:pt x="5924" y="2206"/>
                  </a:lnTo>
                  <a:lnTo>
                    <a:pt x="5930" y="2176"/>
                  </a:lnTo>
                  <a:lnTo>
                    <a:pt x="5956" y="2112"/>
                  </a:lnTo>
                  <a:lnTo>
                    <a:pt x="5956" y="2092"/>
                  </a:lnTo>
                  <a:lnTo>
                    <a:pt x="5978" y="2084"/>
                  </a:lnTo>
                  <a:lnTo>
                    <a:pt x="6016" y="2060"/>
                  </a:lnTo>
                  <a:lnTo>
                    <a:pt x="6030" y="2042"/>
                  </a:lnTo>
                  <a:lnTo>
                    <a:pt x="6042" y="2032"/>
                  </a:lnTo>
                  <a:lnTo>
                    <a:pt x="6046" y="2034"/>
                  </a:lnTo>
                  <a:lnTo>
                    <a:pt x="6050" y="2040"/>
                  </a:lnTo>
                  <a:lnTo>
                    <a:pt x="6050" y="2044"/>
                  </a:lnTo>
                  <a:lnTo>
                    <a:pt x="6042" y="2058"/>
                  </a:lnTo>
                  <a:lnTo>
                    <a:pt x="6032" y="2066"/>
                  </a:lnTo>
                  <a:lnTo>
                    <a:pt x="6018" y="2072"/>
                  </a:lnTo>
                  <a:lnTo>
                    <a:pt x="6006" y="2086"/>
                  </a:lnTo>
                  <a:lnTo>
                    <a:pt x="6000" y="2098"/>
                  </a:lnTo>
                  <a:lnTo>
                    <a:pt x="6000" y="2112"/>
                  </a:lnTo>
                  <a:lnTo>
                    <a:pt x="5996" y="2122"/>
                  </a:lnTo>
                  <a:lnTo>
                    <a:pt x="5972" y="2140"/>
                  </a:lnTo>
                  <a:lnTo>
                    <a:pt x="5974" y="2148"/>
                  </a:lnTo>
                  <a:lnTo>
                    <a:pt x="5988" y="2148"/>
                  </a:lnTo>
                  <a:lnTo>
                    <a:pt x="5988" y="2152"/>
                  </a:lnTo>
                  <a:lnTo>
                    <a:pt x="5982" y="2170"/>
                  </a:lnTo>
                  <a:lnTo>
                    <a:pt x="5978" y="2190"/>
                  </a:lnTo>
                  <a:lnTo>
                    <a:pt x="5966" y="2196"/>
                  </a:lnTo>
                  <a:lnTo>
                    <a:pt x="5956" y="2206"/>
                  </a:lnTo>
                  <a:lnTo>
                    <a:pt x="5950" y="2218"/>
                  </a:lnTo>
                  <a:lnTo>
                    <a:pt x="5948" y="2234"/>
                  </a:lnTo>
                  <a:lnTo>
                    <a:pt x="5958" y="2252"/>
                  </a:lnTo>
                  <a:lnTo>
                    <a:pt x="5978" y="2254"/>
                  </a:lnTo>
                  <a:lnTo>
                    <a:pt x="5986" y="2258"/>
                  </a:lnTo>
                  <a:lnTo>
                    <a:pt x="5988" y="2286"/>
                  </a:lnTo>
                  <a:lnTo>
                    <a:pt x="5984" y="2302"/>
                  </a:lnTo>
                  <a:lnTo>
                    <a:pt x="5988" y="2308"/>
                  </a:lnTo>
                  <a:lnTo>
                    <a:pt x="5996" y="2314"/>
                  </a:lnTo>
                  <a:lnTo>
                    <a:pt x="5988" y="2328"/>
                  </a:lnTo>
                  <a:lnTo>
                    <a:pt x="5976" y="2332"/>
                  </a:lnTo>
                  <a:lnTo>
                    <a:pt x="5968" y="2340"/>
                  </a:lnTo>
                  <a:lnTo>
                    <a:pt x="5928" y="2396"/>
                  </a:lnTo>
                  <a:lnTo>
                    <a:pt x="5922" y="2418"/>
                  </a:lnTo>
                  <a:lnTo>
                    <a:pt x="5918" y="2444"/>
                  </a:lnTo>
                  <a:lnTo>
                    <a:pt x="5922" y="2450"/>
                  </a:lnTo>
                  <a:lnTo>
                    <a:pt x="5934" y="2450"/>
                  </a:lnTo>
                  <a:lnTo>
                    <a:pt x="5944" y="2442"/>
                  </a:lnTo>
                  <a:lnTo>
                    <a:pt x="5954" y="2430"/>
                  </a:lnTo>
                  <a:lnTo>
                    <a:pt x="5990" y="2370"/>
                  </a:lnTo>
                  <a:lnTo>
                    <a:pt x="6052" y="2300"/>
                  </a:lnTo>
                  <a:lnTo>
                    <a:pt x="6056" y="2276"/>
                  </a:lnTo>
                  <a:lnTo>
                    <a:pt x="6086" y="2250"/>
                  </a:lnTo>
                  <a:lnTo>
                    <a:pt x="6098" y="2230"/>
                  </a:lnTo>
                  <a:lnTo>
                    <a:pt x="6110" y="2216"/>
                  </a:lnTo>
                  <a:lnTo>
                    <a:pt x="6110" y="2172"/>
                  </a:lnTo>
                  <a:lnTo>
                    <a:pt x="6098" y="2136"/>
                  </a:lnTo>
                  <a:lnTo>
                    <a:pt x="6088" y="2072"/>
                  </a:lnTo>
                  <a:lnTo>
                    <a:pt x="6090" y="2054"/>
                  </a:lnTo>
                  <a:lnTo>
                    <a:pt x="6100" y="2038"/>
                  </a:lnTo>
                  <a:lnTo>
                    <a:pt x="6108" y="2058"/>
                  </a:lnTo>
                  <a:lnTo>
                    <a:pt x="6118" y="2076"/>
                  </a:lnTo>
                  <a:lnTo>
                    <a:pt x="6134" y="2084"/>
                  </a:lnTo>
                  <a:lnTo>
                    <a:pt x="6144" y="2098"/>
                  </a:lnTo>
                  <a:lnTo>
                    <a:pt x="6168" y="2102"/>
                  </a:lnTo>
                  <a:lnTo>
                    <a:pt x="6156" y="2134"/>
                  </a:lnTo>
                  <a:lnTo>
                    <a:pt x="6158" y="2140"/>
                  </a:lnTo>
                  <a:lnTo>
                    <a:pt x="6180" y="2122"/>
                  </a:lnTo>
                  <a:lnTo>
                    <a:pt x="6218" y="2082"/>
                  </a:lnTo>
                  <a:lnTo>
                    <a:pt x="6240" y="2066"/>
                  </a:lnTo>
                  <a:lnTo>
                    <a:pt x="6256" y="2050"/>
                  </a:lnTo>
                  <a:lnTo>
                    <a:pt x="6258" y="2040"/>
                  </a:lnTo>
                  <a:lnTo>
                    <a:pt x="6272" y="2036"/>
                  </a:lnTo>
                  <a:lnTo>
                    <a:pt x="6278" y="2028"/>
                  </a:lnTo>
                  <a:lnTo>
                    <a:pt x="6302" y="1982"/>
                  </a:lnTo>
                  <a:lnTo>
                    <a:pt x="6308" y="1976"/>
                  </a:lnTo>
                  <a:lnTo>
                    <a:pt x="6312" y="1978"/>
                  </a:lnTo>
                  <a:lnTo>
                    <a:pt x="6318" y="1976"/>
                  </a:lnTo>
                  <a:lnTo>
                    <a:pt x="6338" y="1942"/>
                  </a:lnTo>
                  <a:lnTo>
                    <a:pt x="6344" y="1930"/>
                  </a:lnTo>
                  <a:lnTo>
                    <a:pt x="6346" y="1918"/>
                  </a:lnTo>
                  <a:lnTo>
                    <a:pt x="6338" y="1902"/>
                  </a:lnTo>
                  <a:lnTo>
                    <a:pt x="6324" y="1892"/>
                  </a:lnTo>
                  <a:lnTo>
                    <a:pt x="6324" y="1886"/>
                  </a:lnTo>
                  <a:lnTo>
                    <a:pt x="6328" y="1876"/>
                  </a:lnTo>
                  <a:lnTo>
                    <a:pt x="6344" y="1858"/>
                  </a:lnTo>
                  <a:lnTo>
                    <a:pt x="6354" y="1850"/>
                  </a:lnTo>
                  <a:lnTo>
                    <a:pt x="6384" y="1822"/>
                  </a:lnTo>
                  <a:lnTo>
                    <a:pt x="6396" y="1822"/>
                  </a:lnTo>
                  <a:lnTo>
                    <a:pt x="6418" y="1800"/>
                  </a:lnTo>
                  <a:lnTo>
                    <a:pt x="6446" y="1794"/>
                  </a:lnTo>
                  <a:lnTo>
                    <a:pt x="6480" y="1782"/>
                  </a:lnTo>
                  <a:lnTo>
                    <a:pt x="6506" y="1778"/>
                  </a:lnTo>
                  <a:lnTo>
                    <a:pt x="6522" y="1762"/>
                  </a:lnTo>
                  <a:lnTo>
                    <a:pt x="6542" y="1756"/>
                  </a:lnTo>
                  <a:lnTo>
                    <a:pt x="6572" y="1762"/>
                  </a:lnTo>
                  <a:lnTo>
                    <a:pt x="6602" y="1758"/>
                  </a:lnTo>
                  <a:lnTo>
                    <a:pt x="6664" y="1756"/>
                  </a:lnTo>
                  <a:lnTo>
                    <a:pt x="6710" y="1748"/>
                  </a:lnTo>
                  <a:lnTo>
                    <a:pt x="6722" y="1744"/>
                  </a:lnTo>
                  <a:lnTo>
                    <a:pt x="6736" y="1736"/>
                  </a:lnTo>
                  <a:lnTo>
                    <a:pt x="6762" y="1700"/>
                  </a:lnTo>
                  <a:lnTo>
                    <a:pt x="6768" y="1694"/>
                  </a:lnTo>
                  <a:lnTo>
                    <a:pt x="6776" y="1702"/>
                  </a:lnTo>
                  <a:lnTo>
                    <a:pt x="6774" y="1724"/>
                  </a:lnTo>
                  <a:lnTo>
                    <a:pt x="6782" y="1726"/>
                  </a:lnTo>
                  <a:lnTo>
                    <a:pt x="6800" y="1722"/>
                  </a:lnTo>
                  <a:lnTo>
                    <a:pt x="6840" y="1704"/>
                  </a:lnTo>
                  <a:lnTo>
                    <a:pt x="6848" y="1706"/>
                  </a:lnTo>
                  <a:lnTo>
                    <a:pt x="6848" y="1722"/>
                  </a:lnTo>
                  <a:lnTo>
                    <a:pt x="6858" y="1724"/>
                  </a:lnTo>
                  <a:lnTo>
                    <a:pt x="6890" y="1716"/>
                  </a:lnTo>
                  <a:lnTo>
                    <a:pt x="6904" y="1718"/>
                  </a:lnTo>
                  <a:lnTo>
                    <a:pt x="6936" y="1704"/>
                  </a:lnTo>
                  <a:lnTo>
                    <a:pt x="6942" y="1698"/>
                  </a:lnTo>
                  <a:lnTo>
                    <a:pt x="6948" y="1666"/>
                  </a:lnTo>
                  <a:lnTo>
                    <a:pt x="6946" y="1662"/>
                  </a:lnTo>
                  <a:lnTo>
                    <a:pt x="6940" y="1662"/>
                  </a:lnTo>
                  <a:lnTo>
                    <a:pt x="6932" y="1688"/>
                  </a:lnTo>
                  <a:lnTo>
                    <a:pt x="6924" y="1698"/>
                  </a:lnTo>
                  <a:lnTo>
                    <a:pt x="6906" y="1700"/>
                  </a:lnTo>
                  <a:lnTo>
                    <a:pt x="6886" y="1694"/>
                  </a:lnTo>
                  <a:lnTo>
                    <a:pt x="6866" y="1680"/>
                  </a:lnTo>
                  <a:lnTo>
                    <a:pt x="6866" y="1654"/>
                  </a:lnTo>
                  <a:lnTo>
                    <a:pt x="6858" y="1646"/>
                  </a:lnTo>
                  <a:lnTo>
                    <a:pt x="6864" y="1622"/>
                  </a:lnTo>
                  <a:lnTo>
                    <a:pt x="6858" y="1610"/>
                  </a:lnTo>
                  <a:lnTo>
                    <a:pt x="6840" y="1598"/>
                  </a:lnTo>
                  <a:lnTo>
                    <a:pt x="6838" y="1594"/>
                  </a:lnTo>
                  <a:lnTo>
                    <a:pt x="6844" y="1582"/>
                  </a:lnTo>
                  <a:lnTo>
                    <a:pt x="6852" y="1574"/>
                  </a:lnTo>
                  <a:lnTo>
                    <a:pt x="6862" y="1570"/>
                  </a:lnTo>
                  <a:lnTo>
                    <a:pt x="6876" y="1552"/>
                  </a:lnTo>
                  <a:lnTo>
                    <a:pt x="6890" y="1546"/>
                  </a:lnTo>
                  <a:lnTo>
                    <a:pt x="6884" y="1528"/>
                  </a:lnTo>
                  <a:lnTo>
                    <a:pt x="6882" y="1496"/>
                  </a:lnTo>
                  <a:lnTo>
                    <a:pt x="6902" y="1462"/>
                  </a:lnTo>
                  <a:lnTo>
                    <a:pt x="6946" y="1436"/>
                  </a:lnTo>
                  <a:lnTo>
                    <a:pt x="6984" y="1398"/>
                  </a:lnTo>
                  <a:lnTo>
                    <a:pt x="7000" y="1386"/>
                  </a:lnTo>
                  <a:lnTo>
                    <a:pt x="7014" y="1362"/>
                  </a:lnTo>
                  <a:lnTo>
                    <a:pt x="7038" y="1346"/>
                  </a:lnTo>
                  <a:lnTo>
                    <a:pt x="7060" y="1336"/>
                  </a:lnTo>
                  <a:lnTo>
                    <a:pt x="7068" y="1340"/>
                  </a:lnTo>
                  <a:lnTo>
                    <a:pt x="7068" y="1356"/>
                  </a:lnTo>
                  <a:lnTo>
                    <a:pt x="7072" y="1358"/>
                  </a:lnTo>
                  <a:lnTo>
                    <a:pt x="7084" y="1348"/>
                  </a:lnTo>
                  <a:lnTo>
                    <a:pt x="7096" y="1328"/>
                  </a:lnTo>
                  <a:lnTo>
                    <a:pt x="7102" y="1326"/>
                  </a:lnTo>
                  <a:lnTo>
                    <a:pt x="7104" y="1338"/>
                  </a:lnTo>
                  <a:lnTo>
                    <a:pt x="7110" y="1338"/>
                  </a:lnTo>
                  <a:lnTo>
                    <a:pt x="7122" y="1334"/>
                  </a:lnTo>
                  <a:lnTo>
                    <a:pt x="7136" y="1318"/>
                  </a:lnTo>
                  <a:lnTo>
                    <a:pt x="7148" y="1312"/>
                  </a:lnTo>
                  <a:lnTo>
                    <a:pt x="7160" y="1318"/>
                  </a:lnTo>
                  <a:lnTo>
                    <a:pt x="7166" y="1316"/>
                  </a:lnTo>
                  <a:lnTo>
                    <a:pt x="7184" y="1296"/>
                  </a:lnTo>
                  <a:lnTo>
                    <a:pt x="7192" y="1280"/>
                  </a:lnTo>
                  <a:lnTo>
                    <a:pt x="7206" y="1266"/>
                  </a:lnTo>
                  <a:lnTo>
                    <a:pt x="7218" y="1244"/>
                  </a:lnTo>
                  <a:lnTo>
                    <a:pt x="7232" y="1234"/>
                  </a:lnTo>
                  <a:lnTo>
                    <a:pt x="7240" y="1232"/>
                  </a:lnTo>
                  <a:lnTo>
                    <a:pt x="7244" y="1234"/>
                  </a:lnTo>
                  <a:lnTo>
                    <a:pt x="7240" y="1250"/>
                  </a:lnTo>
                  <a:lnTo>
                    <a:pt x="7242" y="1262"/>
                  </a:lnTo>
                  <a:lnTo>
                    <a:pt x="7252" y="1266"/>
                  </a:lnTo>
                  <a:lnTo>
                    <a:pt x="7264" y="1262"/>
                  </a:lnTo>
                  <a:lnTo>
                    <a:pt x="7280" y="1278"/>
                  </a:lnTo>
                  <a:lnTo>
                    <a:pt x="7292" y="1276"/>
                  </a:lnTo>
                  <a:lnTo>
                    <a:pt x="7302" y="1264"/>
                  </a:lnTo>
                  <a:lnTo>
                    <a:pt x="7322" y="1252"/>
                  </a:lnTo>
                  <a:lnTo>
                    <a:pt x="7334" y="1252"/>
                  </a:lnTo>
                  <a:lnTo>
                    <a:pt x="7350" y="1246"/>
                  </a:lnTo>
                  <a:lnTo>
                    <a:pt x="7362" y="1232"/>
                  </a:lnTo>
                  <a:lnTo>
                    <a:pt x="7388" y="1232"/>
                  </a:lnTo>
                  <a:lnTo>
                    <a:pt x="7400" y="1228"/>
                  </a:lnTo>
                  <a:lnTo>
                    <a:pt x="7410" y="1220"/>
                  </a:lnTo>
                  <a:lnTo>
                    <a:pt x="7428" y="1220"/>
                  </a:lnTo>
                  <a:lnTo>
                    <a:pt x="7436" y="1212"/>
                  </a:lnTo>
                  <a:lnTo>
                    <a:pt x="7456" y="1212"/>
                  </a:lnTo>
                  <a:lnTo>
                    <a:pt x="7472" y="1202"/>
                  </a:lnTo>
                  <a:lnTo>
                    <a:pt x="7478" y="1192"/>
                  </a:lnTo>
                  <a:lnTo>
                    <a:pt x="7480" y="118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94880" y="3592440"/>
              <a:ext cx="360" cy="14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1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4880" y="3587760"/>
              <a:ext cx="1080" cy="14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14"/>
                  </a:lnTo>
                  <a:lnTo>
                    <a:pt x="6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65720" y="2637000"/>
              <a:ext cx="936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2" y="2"/>
                  </a:moveTo>
                  <a:lnTo>
                    <a:pt x="32" y="6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44" y="10"/>
                  </a:lnTo>
                  <a:lnTo>
                    <a:pt x="30" y="34"/>
                  </a:lnTo>
                  <a:lnTo>
                    <a:pt x="2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6" y="16"/>
                  </a:lnTo>
                  <a:lnTo>
                    <a:pt x="12" y="10"/>
                  </a:lnTo>
                  <a:lnTo>
                    <a:pt x="28" y="2"/>
                  </a:lnTo>
                  <a:lnTo>
                    <a:pt x="32" y="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5080" y="2692440"/>
              <a:ext cx="38880" cy="25920"/>
            </a:xfrm>
            <a:custGeom>
              <a:avLst/>
              <a:gdLst/>
              <a:ahLst/>
              <a:rect l="l" t="t" r="r" b="b"/>
              <a:pathLst>
                <a:path w="224" h="144">
                  <a:moveTo>
                    <a:pt x="78" y="142"/>
                  </a:moveTo>
                  <a:lnTo>
                    <a:pt x="88" y="134"/>
                  </a:lnTo>
                  <a:lnTo>
                    <a:pt x="92" y="128"/>
                  </a:lnTo>
                  <a:lnTo>
                    <a:pt x="74" y="110"/>
                  </a:lnTo>
                  <a:lnTo>
                    <a:pt x="76" y="84"/>
                  </a:lnTo>
                  <a:lnTo>
                    <a:pt x="72" y="78"/>
                  </a:lnTo>
                  <a:lnTo>
                    <a:pt x="66" y="74"/>
                  </a:lnTo>
                  <a:lnTo>
                    <a:pt x="42" y="68"/>
                  </a:lnTo>
                  <a:lnTo>
                    <a:pt x="20" y="74"/>
                  </a:lnTo>
                  <a:lnTo>
                    <a:pt x="6" y="74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8" y="46"/>
                  </a:lnTo>
                  <a:lnTo>
                    <a:pt x="16" y="38"/>
                  </a:lnTo>
                  <a:lnTo>
                    <a:pt x="50" y="24"/>
                  </a:lnTo>
                  <a:lnTo>
                    <a:pt x="74" y="10"/>
                  </a:lnTo>
                  <a:lnTo>
                    <a:pt x="88" y="0"/>
                  </a:lnTo>
                  <a:lnTo>
                    <a:pt x="82" y="16"/>
                  </a:lnTo>
                  <a:lnTo>
                    <a:pt x="96" y="20"/>
                  </a:lnTo>
                  <a:lnTo>
                    <a:pt x="106" y="30"/>
                  </a:lnTo>
                  <a:lnTo>
                    <a:pt x="110" y="40"/>
                  </a:lnTo>
                  <a:lnTo>
                    <a:pt x="122" y="40"/>
                  </a:lnTo>
                  <a:lnTo>
                    <a:pt x="136" y="36"/>
                  </a:lnTo>
                  <a:lnTo>
                    <a:pt x="148" y="38"/>
                  </a:lnTo>
                  <a:lnTo>
                    <a:pt x="164" y="32"/>
                  </a:lnTo>
                  <a:lnTo>
                    <a:pt x="174" y="32"/>
                  </a:lnTo>
                  <a:lnTo>
                    <a:pt x="182" y="40"/>
                  </a:lnTo>
                  <a:lnTo>
                    <a:pt x="180" y="46"/>
                  </a:lnTo>
                  <a:lnTo>
                    <a:pt x="186" y="50"/>
                  </a:lnTo>
                  <a:lnTo>
                    <a:pt x="178" y="60"/>
                  </a:lnTo>
                  <a:lnTo>
                    <a:pt x="162" y="70"/>
                  </a:lnTo>
                  <a:lnTo>
                    <a:pt x="174" y="92"/>
                  </a:lnTo>
                  <a:lnTo>
                    <a:pt x="168" y="100"/>
                  </a:lnTo>
                  <a:lnTo>
                    <a:pt x="182" y="110"/>
                  </a:lnTo>
                  <a:lnTo>
                    <a:pt x="198" y="108"/>
                  </a:lnTo>
                  <a:lnTo>
                    <a:pt x="214" y="108"/>
                  </a:lnTo>
                  <a:lnTo>
                    <a:pt x="214" y="116"/>
                  </a:lnTo>
                  <a:lnTo>
                    <a:pt x="224" y="118"/>
                  </a:lnTo>
                  <a:lnTo>
                    <a:pt x="216" y="124"/>
                  </a:lnTo>
                  <a:lnTo>
                    <a:pt x="202" y="132"/>
                  </a:lnTo>
                  <a:lnTo>
                    <a:pt x="190" y="136"/>
                  </a:lnTo>
                  <a:lnTo>
                    <a:pt x="174" y="138"/>
                  </a:lnTo>
                  <a:lnTo>
                    <a:pt x="160" y="128"/>
                  </a:lnTo>
                  <a:lnTo>
                    <a:pt x="150" y="126"/>
                  </a:lnTo>
                  <a:lnTo>
                    <a:pt x="110" y="140"/>
                  </a:lnTo>
                  <a:lnTo>
                    <a:pt x="102" y="144"/>
                  </a:lnTo>
                  <a:lnTo>
                    <a:pt x="78" y="1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800" bIns="-198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43840" y="2950200"/>
              <a:ext cx="29160" cy="38160"/>
            </a:xfrm>
            <a:custGeom>
              <a:avLst/>
              <a:gdLst/>
              <a:ahLst/>
              <a:rect l="l" t="t" r="r" b="b"/>
              <a:pathLst>
                <a:path w="170" h="228">
                  <a:moveTo>
                    <a:pt x="162" y="50"/>
                  </a:moveTo>
                  <a:lnTo>
                    <a:pt x="170" y="48"/>
                  </a:lnTo>
                  <a:lnTo>
                    <a:pt x="154" y="68"/>
                  </a:lnTo>
                  <a:lnTo>
                    <a:pt x="118" y="98"/>
                  </a:lnTo>
                  <a:lnTo>
                    <a:pt x="136" y="84"/>
                  </a:lnTo>
                  <a:lnTo>
                    <a:pt x="136" y="90"/>
                  </a:lnTo>
                  <a:lnTo>
                    <a:pt x="132" y="100"/>
                  </a:lnTo>
                  <a:lnTo>
                    <a:pt x="126" y="108"/>
                  </a:lnTo>
                  <a:lnTo>
                    <a:pt x="116" y="112"/>
                  </a:lnTo>
                  <a:lnTo>
                    <a:pt x="110" y="120"/>
                  </a:lnTo>
                  <a:lnTo>
                    <a:pt x="98" y="136"/>
                  </a:lnTo>
                  <a:lnTo>
                    <a:pt x="96" y="140"/>
                  </a:lnTo>
                  <a:lnTo>
                    <a:pt x="76" y="168"/>
                  </a:lnTo>
                  <a:lnTo>
                    <a:pt x="58" y="184"/>
                  </a:lnTo>
                  <a:lnTo>
                    <a:pt x="24" y="218"/>
                  </a:lnTo>
                  <a:lnTo>
                    <a:pt x="10" y="228"/>
                  </a:lnTo>
                  <a:lnTo>
                    <a:pt x="0" y="226"/>
                  </a:lnTo>
                  <a:lnTo>
                    <a:pt x="20" y="204"/>
                  </a:lnTo>
                  <a:lnTo>
                    <a:pt x="18" y="202"/>
                  </a:lnTo>
                  <a:lnTo>
                    <a:pt x="24" y="184"/>
                  </a:lnTo>
                  <a:lnTo>
                    <a:pt x="38" y="164"/>
                  </a:lnTo>
                  <a:lnTo>
                    <a:pt x="48" y="154"/>
                  </a:lnTo>
                  <a:lnTo>
                    <a:pt x="66" y="144"/>
                  </a:lnTo>
                  <a:lnTo>
                    <a:pt x="84" y="132"/>
                  </a:lnTo>
                  <a:lnTo>
                    <a:pt x="94" y="122"/>
                  </a:lnTo>
                  <a:lnTo>
                    <a:pt x="72" y="140"/>
                  </a:lnTo>
                  <a:lnTo>
                    <a:pt x="62" y="142"/>
                  </a:lnTo>
                  <a:lnTo>
                    <a:pt x="54" y="142"/>
                  </a:lnTo>
                  <a:lnTo>
                    <a:pt x="54" y="136"/>
                  </a:lnTo>
                  <a:lnTo>
                    <a:pt x="62" y="122"/>
                  </a:lnTo>
                  <a:lnTo>
                    <a:pt x="56" y="118"/>
                  </a:lnTo>
                  <a:lnTo>
                    <a:pt x="54" y="108"/>
                  </a:lnTo>
                  <a:lnTo>
                    <a:pt x="60" y="110"/>
                  </a:lnTo>
                  <a:lnTo>
                    <a:pt x="74" y="100"/>
                  </a:lnTo>
                  <a:lnTo>
                    <a:pt x="76" y="92"/>
                  </a:lnTo>
                  <a:lnTo>
                    <a:pt x="86" y="88"/>
                  </a:lnTo>
                  <a:lnTo>
                    <a:pt x="98" y="78"/>
                  </a:lnTo>
                  <a:lnTo>
                    <a:pt x="96" y="72"/>
                  </a:lnTo>
                  <a:lnTo>
                    <a:pt x="106" y="48"/>
                  </a:lnTo>
                  <a:lnTo>
                    <a:pt x="100" y="38"/>
                  </a:lnTo>
                  <a:lnTo>
                    <a:pt x="102" y="30"/>
                  </a:lnTo>
                  <a:lnTo>
                    <a:pt x="114" y="24"/>
                  </a:lnTo>
                  <a:lnTo>
                    <a:pt x="120" y="16"/>
                  </a:lnTo>
                  <a:lnTo>
                    <a:pt x="134" y="6"/>
                  </a:lnTo>
                  <a:lnTo>
                    <a:pt x="148" y="0"/>
                  </a:lnTo>
                  <a:lnTo>
                    <a:pt x="144" y="14"/>
                  </a:lnTo>
                  <a:lnTo>
                    <a:pt x="154" y="18"/>
                  </a:lnTo>
                  <a:lnTo>
                    <a:pt x="160" y="30"/>
                  </a:lnTo>
                  <a:lnTo>
                    <a:pt x="154" y="38"/>
                  </a:lnTo>
                  <a:lnTo>
                    <a:pt x="154" y="46"/>
                  </a:lnTo>
                  <a:lnTo>
                    <a:pt x="162" y="5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71920" y="2934720"/>
              <a:ext cx="37440" cy="3060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82" y="92"/>
                  </a:moveTo>
                  <a:lnTo>
                    <a:pt x="76" y="94"/>
                  </a:lnTo>
                  <a:lnTo>
                    <a:pt x="94" y="70"/>
                  </a:lnTo>
                  <a:lnTo>
                    <a:pt x="100" y="56"/>
                  </a:lnTo>
                  <a:lnTo>
                    <a:pt x="110" y="44"/>
                  </a:lnTo>
                  <a:lnTo>
                    <a:pt x="136" y="16"/>
                  </a:lnTo>
                  <a:lnTo>
                    <a:pt x="152" y="4"/>
                  </a:lnTo>
                  <a:lnTo>
                    <a:pt x="162" y="0"/>
                  </a:lnTo>
                  <a:lnTo>
                    <a:pt x="194" y="4"/>
                  </a:lnTo>
                  <a:lnTo>
                    <a:pt x="206" y="8"/>
                  </a:lnTo>
                  <a:lnTo>
                    <a:pt x="198" y="20"/>
                  </a:lnTo>
                  <a:lnTo>
                    <a:pt x="190" y="54"/>
                  </a:lnTo>
                  <a:lnTo>
                    <a:pt x="168" y="84"/>
                  </a:lnTo>
                  <a:lnTo>
                    <a:pt x="168" y="88"/>
                  </a:lnTo>
                  <a:lnTo>
                    <a:pt x="156" y="108"/>
                  </a:lnTo>
                  <a:lnTo>
                    <a:pt x="178" y="50"/>
                  </a:lnTo>
                  <a:lnTo>
                    <a:pt x="194" y="22"/>
                  </a:lnTo>
                  <a:lnTo>
                    <a:pt x="188" y="22"/>
                  </a:lnTo>
                  <a:lnTo>
                    <a:pt x="178" y="30"/>
                  </a:lnTo>
                  <a:lnTo>
                    <a:pt x="174" y="30"/>
                  </a:lnTo>
                  <a:lnTo>
                    <a:pt x="162" y="42"/>
                  </a:lnTo>
                  <a:lnTo>
                    <a:pt x="152" y="58"/>
                  </a:lnTo>
                  <a:lnTo>
                    <a:pt x="146" y="70"/>
                  </a:lnTo>
                  <a:lnTo>
                    <a:pt x="148" y="76"/>
                  </a:lnTo>
                  <a:lnTo>
                    <a:pt x="142" y="88"/>
                  </a:lnTo>
                  <a:lnTo>
                    <a:pt x="144" y="98"/>
                  </a:lnTo>
                  <a:lnTo>
                    <a:pt x="134" y="116"/>
                  </a:lnTo>
                  <a:lnTo>
                    <a:pt x="130" y="112"/>
                  </a:lnTo>
                  <a:lnTo>
                    <a:pt x="120" y="118"/>
                  </a:lnTo>
                  <a:lnTo>
                    <a:pt x="114" y="120"/>
                  </a:lnTo>
                  <a:lnTo>
                    <a:pt x="118" y="132"/>
                  </a:lnTo>
                  <a:lnTo>
                    <a:pt x="108" y="142"/>
                  </a:lnTo>
                  <a:lnTo>
                    <a:pt x="98" y="142"/>
                  </a:lnTo>
                  <a:lnTo>
                    <a:pt x="90" y="134"/>
                  </a:lnTo>
                  <a:lnTo>
                    <a:pt x="68" y="158"/>
                  </a:lnTo>
                  <a:lnTo>
                    <a:pt x="62" y="162"/>
                  </a:lnTo>
                  <a:lnTo>
                    <a:pt x="62" y="152"/>
                  </a:lnTo>
                  <a:lnTo>
                    <a:pt x="14" y="182"/>
                  </a:lnTo>
                  <a:lnTo>
                    <a:pt x="2" y="182"/>
                  </a:lnTo>
                  <a:lnTo>
                    <a:pt x="0" y="178"/>
                  </a:lnTo>
                  <a:lnTo>
                    <a:pt x="2" y="172"/>
                  </a:lnTo>
                  <a:lnTo>
                    <a:pt x="10" y="166"/>
                  </a:lnTo>
                  <a:lnTo>
                    <a:pt x="44" y="134"/>
                  </a:lnTo>
                  <a:lnTo>
                    <a:pt x="52" y="132"/>
                  </a:lnTo>
                  <a:lnTo>
                    <a:pt x="62" y="134"/>
                  </a:lnTo>
                  <a:lnTo>
                    <a:pt x="72" y="128"/>
                  </a:lnTo>
                  <a:lnTo>
                    <a:pt x="66" y="120"/>
                  </a:lnTo>
                  <a:lnTo>
                    <a:pt x="70" y="112"/>
                  </a:lnTo>
                  <a:lnTo>
                    <a:pt x="90" y="106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78" y="104"/>
                  </a:lnTo>
                  <a:lnTo>
                    <a:pt x="82" y="9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6080" y="2970000"/>
              <a:ext cx="21600" cy="22680"/>
            </a:xfrm>
            <a:custGeom>
              <a:avLst/>
              <a:gdLst/>
              <a:ahLst/>
              <a:rect l="l" t="t" r="r" b="b"/>
              <a:pathLst>
                <a:path w="122" h="132">
                  <a:moveTo>
                    <a:pt x="64" y="46"/>
                  </a:moveTo>
                  <a:lnTo>
                    <a:pt x="64" y="40"/>
                  </a:lnTo>
                  <a:lnTo>
                    <a:pt x="56" y="40"/>
                  </a:lnTo>
                  <a:lnTo>
                    <a:pt x="62" y="30"/>
                  </a:lnTo>
                  <a:lnTo>
                    <a:pt x="56" y="24"/>
                  </a:lnTo>
                  <a:lnTo>
                    <a:pt x="66" y="12"/>
                  </a:lnTo>
                  <a:lnTo>
                    <a:pt x="78" y="4"/>
                  </a:lnTo>
                  <a:lnTo>
                    <a:pt x="94" y="4"/>
                  </a:lnTo>
                  <a:lnTo>
                    <a:pt x="104" y="0"/>
                  </a:lnTo>
                  <a:lnTo>
                    <a:pt x="104" y="10"/>
                  </a:lnTo>
                  <a:lnTo>
                    <a:pt x="102" y="24"/>
                  </a:lnTo>
                  <a:lnTo>
                    <a:pt x="122" y="22"/>
                  </a:lnTo>
                  <a:lnTo>
                    <a:pt x="100" y="50"/>
                  </a:lnTo>
                  <a:lnTo>
                    <a:pt x="84" y="46"/>
                  </a:lnTo>
                  <a:lnTo>
                    <a:pt x="72" y="64"/>
                  </a:lnTo>
                  <a:lnTo>
                    <a:pt x="46" y="94"/>
                  </a:lnTo>
                  <a:lnTo>
                    <a:pt x="4" y="132"/>
                  </a:lnTo>
                  <a:lnTo>
                    <a:pt x="18" y="110"/>
                  </a:lnTo>
                  <a:lnTo>
                    <a:pt x="16" y="102"/>
                  </a:lnTo>
                  <a:lnTo>
                    <a:pt x="0" y="118"/>
                  </a:lnTo>
                  <a:lnTo>
                    <a:pt x="4" y="102"/>
                  </a:lnTo>
                  <a:lnTo>
                    <a:pt x="26" y="76"/>
                  </a:lnTo>
                  <a:lnTo>
                    <a:pt x="34" y="78"/>
                  </a:lnTo>
                  <a:lnTo>
                    <a:pt x="60" y="64"/>
                  </a:lnTo>
                  <a:lnTo>
                    <a:pt x="64" y="58"/>
                  </a:lnTo>
                  <a:lnTo>
                    <a:pt x="52" y="64"/>
                  </a:lnTo>
                  <a:lnTo>
                    <a:pt x="50" y="60"/>
                  </a:lnTo>
                  <a:lnTo>
                    <a:pt x="52" y="50"/>
                  </a:lnTo>
                  <a:lnTo>
                    <a:pt x="64" y="4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3360" y="2965320"/>
              <a:ext cx="21600" cy="1980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0" y="34"/>
                  </a:moveTo>
                  <a:lnTo>
                    <a:pt x="52" y="30"/>
                  </a:lnTo>
                  <a:lnTo>
                    <a:pt x="48" y="18"/>
                  </a:lnTo>
                  <a:lnTo>
                    <a:pt x="50" y="8"/>
                  </a:lnTo>
                  <a:lnTo>
                    <a:pt x="56" y="4"/>
                  </a:lnTo>
                  <a:lnTo>
                    <a:pt x="66" y="0"/>
                  </a:lnTo>
                  <a:lnTo>
                    <a:pt x="100" y="22"/>
                  </a:lnTo>
                  <a:lnTo>
                    <a:pt x="116" y="24"/>
                  </a:lnTo>
                  <a:lnTo>
                    <a:pt x="128" y="30"/>
                  </a:lnTo>
                  <a:lnTo>
                    <a:pt x="126" y="40"/>
                  </a:lnTo>
                  <a:lnTo>
                    <a:pt x="122" y="48"/>
                  </a:lnTo>
                  <a:lnTo>
                    <a:pt x="84" y="86"/>
                  </a:lnTo>
                  <a:lnTo>
                    <a:pt x="80" y="86"/>
                  </a:lnTo>
                  <a:lnTo>
                    <a:pt x="86" y="60"/>
                  </a:lnTo>
                  <a:lnTo>
                    <a:pt x="84" y="52"/>
                  </a:lnTo>
                  <a:lnTo>
                    <a:pt x="80" y="52"/>
                  </a:lnTo>
                  <a:lnTo>
                    <a:pt x="66" y="66"/>
                  </a:lnTo>
                  <a:lnTo>
                    <a:pt x="68" y="72"/>
                  </a:lnTo>
                  <a:lnTo>
                    <a:pt x="64" y="90"/>
                  </a:lnTo>
                  <a:lnTo>
                    <a:pt x="44" y="114"/>
                  </a:lnTo>
                  <a:lnTo>
                    <a:pt x="36" y="114"/>
                  </a:lnTo>
                  <a:lnTo>
                    <a:pt x="28" y="108"/>
                  </a:lnTo>
                  <a:lnTo>
                    <a:pt x="14" y="112"/>
                  </a:lnTo>
                  <a:lnTo>
                    <a:pt x="0" y="112"/>
                  </a:lnTo>
                  <a:lnTo>
                    <a:pt x="26" y="7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50" y="3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9200" y="2976120"/>
              <a:ext cx="5760" cy="900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40" y="4"/>
                  </a:moveTo>
                  <a:lnTo>
                    <a:pt x="42" y="4"/>
                  </a:lnTo>
                  <a:lnTo>
                    <a:pt x="30" y="40"/>
                  </a:lnTo>
                  <a:lnTo>
                    <a:pt x="24" y="44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8" y="50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10" y="26"/>
                  </a:lnTo>
                  <a:lnTo>
                    <a:pt x="34" y="0"/>
                  </a:lnTo>
                  <a:lnTo>
                    <a:pt x="40" y="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79480" y="2986560"/>
              <a:ext cx="7560" cy="468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0" y="8"/>
                  </a:moveTo>
                  <a:lnTo>
                    <a:pt x="46" y="10"/>
                  </a:lnTo>
                  <a:lnTo>
                    <a:pt x="26" y="26"/>
                  </a:lnTo>
                  <a:lnTo>
                    <a:pt x="16" y="30"/>
                  </a:lnTo>
                  <a:lnTo>
                    <a:pt x="14" y="24"/>
                  </a:lnTo>
                  <a:lnTo>
                    <a:pt x="0" y="18"/>
                  </a:lnTo>
                  <a:lnTo>
                    <a:pt x="2" y="8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0" y="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92080" y="2988360"/>
              <a:ext cx="2880" cy="7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22"/>
                  </a:moveTo>
                  <a:lnTo>
                    <a:pt x="22" y="36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4" y="44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4" y="16"/>
                  </a:lnTo>
                  <a:lnTo>
                    <a:pt x="24" y="2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59320" y="2927160"/>
              <a:ext cx="32400" cy="25560"/>
            </a:xfrm>
            <a:custGeom>
              <a:avLst/>
              <a:gdLst/>
              <a:ahLst/>
              <a:rect l="l" t="t" r="r" b="b"/>
              <a:pathLst>
                <a:path w="192" h="150">
                  <a:moveTo>
                    <a:pt x="186" y="50"/>
                  </a:moveTo>
                  <a:lnTo>
                    <a:pt x="192" y="50"/>
                  </a:lnTo>
                  <a:lnTo>
                    <a:pt x="190" y="56"/>
                  </a:lnTo>
                  <a:lnTo>
                    <a:pt x="172" y="74"/>
                  </a:lnTo>
                  <a:lnTo>
                    <a:pt x="156" y="68"/>
                  </a:lnTo>
                  <a:lnTo>
                    <a:pt x="158" y="80"/>
                  </a:lnTo>
                  <a:lnTo>
                    <a:pt x="144" y="94"/>
                  </a:lnTo>
                  <a:lnTo>
                    <a:pt x="132" y="94"/>
                  </a:lnTo>
                  <a:lnTo>
                    <a:pt x="120" y="74"/>
                  </a:lnTo>
                  <a:lnTo>
                    <a:pt x="110" y="68"/>
                  </a:lnTo>
                  <a:lnTo>
                    <a:pt x="96" y="74"/>
                  </a:lnTo>
                  <a:lnTo>
                    <a:pt x="106" y="94"/>
                  </a:lnTo>
                  <a:lnTo>
                    <a:pt x="118" y="98"/>
                  </a:lnTo>
                  <a:lnTo>
                    <a:pt x="136" y="100"/>
                  </a:lnTo>
                  <a:lnTo>
                    <a:pt x="142" y="106"/>
                  </a:lnTo>
                  <a:lnTo>
                    <a:pt x="114" y="138"/>
                  </a:lnTo>
                  <a:lnTo>
                    <a:pt x="108" y="140"/>
                  </a:lnTo>
                  <a:lnTo>
                    <a:pt x="100" y="150"/>
                  </a:lnTo>
                  <a:lnTo>
                    <a:pt x="84" y="134"/>
                  </a:lnTo>
                  <a:lnTo>
                    <a:pt x="74" y="104"/>
                  </a:lnTo>
                  <a:lnTo>
                    <a:pt x="82" y="92"/>
                  </a:lnTo>
                  <a:lnTo>
                    <a:pt x="74" y="88"/>
                  </a:lnTo>
                  <a:lnTo>
                    <a:pt x="54" y="106"/>
                  </a:lnTo>
                  <a:lnTo>
                    <a:pt x="50" y="122"/>
                  </a:lnTo>
                  <a:lnTo>
                    <a:pt x="36" y="138"/>
                  </a:lnTo>
                  <a:lnTo>
                    <a:pt x="22" y="150"/>
                  </a:lnTo>
                  <a:lnTo>
                    <a:pt x="10" y="150"/>
                  </a:lnTo>
                  <a:lnTo>
                    <a:pt x="2" y="146"/>
                  </a:lnTo>
                  <a:lnTo>
                    <a:pt x="0" y="136"/>
                  </a:lnTo>
                  <a:lnTo>
                    <a:pt x="6" y="130"/>
                  </a:lnTo>
                  <a:lnTo>
                    <a:pt x="16" y="128"/>
                  </a:lnTo>
                  <a:lnTo>
                    <a:pt x="20" y="118"/>
                  </a:lnTo>
                  <a:lnTo>
                    <a:pt x="16" y="110"/>
                  </a:lnTo>
                  <a:lnTo>
                    <a:pt x="24" y="100"/>
                  </a:lnTo>
                  <a:lnTo>
                    <a:pt x="30" y="90"/>
                  </a:lnTo>
                  <a:lnTo>
                    <a:pt x="24" y="86"/>
                  </a:lnTo>
                  <a:lnTo>
                    <a:pt x="26" y="74"/>
                  </a:lnTo>
                  <a:lnTo>
                    <a:pt x="34" y="62"/>
                  </a:lnTo>
                  <a:lnTo>
                    <a:pt x="46" y="50"/>
                  </a:lnTo>
                  <a:lnTo>
                    <a:pt x="48" y="62"/>
                  </a:lnTo>
                  <a:lnTo>
                    <a:pt x="58" y="54"/>
                  </a:lnTo>
                  <a:lnTo>
                    <a:pt x="66" y="28"/>
                  </a:lnTo>
                  <a:lnTo>
                    <a:pt x="74" y="20"/>
                  </a:lnTo>
                  <a:lnTo>
                    <a:pt x="88" y="10"/>
                  </a:lnTo>
                  <a:lnTo>
                    <a:pt x="78" y="28"/>
                  </a:lnTo>
                  <a:lnTo>
                    <a:pt x="90" y="24"/>
                  </a:lnTo>
                  <a:lnTo>
                    <a:pt x="104" y="12"/>
                  </a:lnTo>
                  <a:lnTo>
                    <a:pt x="124" y="10"/>
                  </a:lnTo>
                  <a:lnTo>
                    <a:pt x="146" y="0"/>
                  </a:lnTo>
                  <a:lnTo>
                    <a:pt x="156" y="22"/>
                  </a:lnTo>
                  <a:lnTo>
                    <a:pt x="150" y="34"/>
                  </a:lnTo>
                  <a:lnTo>
                    <a:pt x="156" y="38"/>
                  </a:lnTo>
                  <a:lnTo>
                    <a:pt x="162" y="36"/>
                  </a:lnTo>
                  <a:lnTo>
                    <a:pt x="184" y="40"/>
                  </a:lnTo>
                  <a:lnTo>
                    <a:pt x="186" y="5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49960" y="2988360"/>
              <a:ext cx="26280" cy="48960"/>
            </a:xfrm>
            <a:custGeom>
              <a:avLst/>
              <a:gdLst/>
              <a:ahLst/>
              <a:rect l="l" t="t" r="r" b="b"/>
              <a:pathLst>
                <a:path w="152" h="290">
                  <a:moveTo>
                    <a:pt x="146" y="66"/>
                  </a:moveTo>
                  <a:lnTo>
                    <a:pt x="140" y="80"/>
                  </a:lnTo>
                  <a:lnTo>
                    <a:pt x="142" y="104"/>
                  </a:lnTo>
                  <a:lnTo>
                    <a:pt x="140" y="110"/>
                  </a:lnTo>
                  <a:lnTo>
                    <a:pt x="130" y="122"/>
                  </a:lnTo>
                  <a:lnTo>
                    <a:pt x="118" y="122"/>
                  </a:lnTo>
                  <a:lnTo>
                    <a:pt x="116" y="126"/>
                  </a:lnTo>
                  <a:lnTo>
                    <a:pt x="122" y="130"/>
                  </a:lnTo>
                  <a:lnTo>
                    <a:pt x="128" y="128"/>
                  </a:lnTo>
                  <a:lnTo>
                    <a:pt x="124" y="156"/>
                  </a:lnTo>
                  <a:lnTo>
                    <a:pt x="120" y="166"/>
                  </a:lnTo>
                  <a:lnTo>
                    <a:pt x="106" y="140"/>
                  </a:lnTo>
                  <a:lnTo>
                    <a:pt x="94" y="154"/>
                  </a:lnTo>
                  <a:lnTo>
                    <a:pt x="96" y="166"/>
                  </a:lnTo>
                  <a:lnTo>
                    <a:pt x="86" y="174"/>
                  </a:lnTo>
                  <a:lnTo>
                    <a:pt x="90" y="180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96" y="198"/>
                  </a:lnTo>
                  <a:lnTo>
                    <a:pt x="90" y="198"/>
                  </a:lnTo>
                  <a:lnTo>
                    <a:pt x="84" y="210"/>
                  </a:lnTo>
                  <a:lnTo>
                    <a:pt x="96" y="206"/>
                  </a:lnTo>
                  <a:lnTo>
                    <a:pt x="98" y="212"/>
                  </a:lnTo>
                  <a:lnTo>
                    <a:pt x="86" y="226"/>
                  </a:lnTo>
                  <a:lnTo>
                    <a:pt x="78" y="228"/>
                  </a:lnTo>
                  <a:lnTo>
                    <a:pt x="62" y="238"/>
                  </a:lnTo>
                  <a:lnTo>
                    <a:pt x="50" y="248"/>
                  </a:lnTo>
                  <a:lnTo>
                    <a:pt x="60" y="246"/>
                  </a:lnTo>
                  <a:lnTo>
                    <a:pt x="64" y="250"/>
                  </a:lnTo>
                  <a:lnTo>
                    <a:pt x="56" y="260"/>
                  </a:lnTo>
                  <a:lnTo>
                    <a:pt x="48" y="264"/>
                  </a:lnTo>
                  <a:lnTo>
                    <a:pt x="40" y="278"/>
                  </a:lnTo>
                  <a:lnTo>
                    <a:pt x="26" y="290"/>
                  </a:lnTo>
                  <a:lnTo>
                    <a:pt x="26" y="284"/>
                  </a:lnTo>
                  <a:lnTo>
                    <a:pt x="0" y="288"/>
                  </a:lnTo>
                  <a:lnTo>
                    <a:pt x="24" y="254"/>
                  </a:lnTo>
                  <a:lnTo>
                    <a:pt x="32" y="240"/>
                  </a:lnTo>
                  <a:lnTo>
                    <a:pt x="18" y="248"/>
                  </a:lnTo>
                  <a:lnTo>
                    <a:pt x="14" y="242"/>
                  </a:lnTo>
                  <a:lnTo>
                    <a:pt x="22" y="228"/>
                  </a:lnTo>
                  <a:lnTo>
                    <a:pt x="32" y="220"/>
                  </a:lnTo>
                  <a:lnTo>
                    <a:pt x="32" y="204"/>
                  </a:lnTo>
                  <a:lnTo>
                    <a:pt x="22" y="190"/>
                  </a:lnTo>
                  <a:lnTo>
                    <a:pt x="12" y="190"/>
                  </a:lnTo>
                  <a:lnTo>
                    <a:pt x="14" y="184"/>
                  </a:lnTo>
                  <a:lnTo>
                    <a:pt x="0" y="172"/>
                  </a:lnTo>
                  <a:lnTo>
                    <a:pt x="28" y="168"/>
                  </a:lnTo>
                  <a:lnTo>
                    <a:pt x="42" y="146"/>
                  </a:lnTo>
                  <a:lnTo>
                    <a:pt x="60" y="138"/>
                  </a:lnTo>
                  <a:lnTo>
                    <a:pt x="66" y="130"/>
                  </a:lnTo>
                  <a:lnTo>
                    <a:pt x="64" y="126"/>
                  </a:lnTo>
                  <a:lnTo>
                    <a:pt x="46" y="130"/>
                  </a:lnTo>
                  <a:lnTo>
                    <a:pt x="32" y="128"/>
                  </a:lnTo>
                  <a:lnTo>
                    <a:pt x="28" y="118"/>
                  </a:lnTo>
                  <a:lnTo>
                    <a:pt x="48" y="104"/>
                  </a:lnTo>
                  <a:lnTo>
                    <a:pt x="68" y="94"/>
                  </a:lnTo>
                  <a:lnTo>
                    <a:pt x="82" y="80"/>
                  </a:lnTo>
                  <a:lnTo>
                    <a:pt x="96" y="60"/>
                  </a:lnTo>
                  <a:lnTo>
                    <a:pt x="118" y="40"/>
                  </a:lnTo>
                  <a:lnTo>
                    <a:pt x="116" y="38"/>
                  </a:lnTo>
                  <a:lnTo>
                    <a:pt x="94" y="56"/>
                  </a:lnTo>
                  <a:lnTo>
                    <a:pt x="78" y="54"/>
                  </a:lnTo>
                  <a:lnTo>
                    <a:pt x="46" y="68"/>
                  </a:lnTo>
                  <a:lnTo>
                    <a:pt x="34" y="68"/>
                  </a:lnTo>
                  <a:lnTo>
                    <a:pt x="54" y="52"/>
                  </a:lnTo>
                  <a:lnTo>
                    <a:pt x="74" y="42"/>
                  </a:lnTo>
                  <a:lnTo>
                    <a:pt x="100" y="26"/>
                  </a:lnTo>
                  <a:lnTo>
                    <a:pt x="98" y="14"/>
                  </a:lnTo>
                  <a:lnTo>
                    <a:pt x="102" y="6"/>
                  </a:lnTo>
                  <a:lnTo>
                    <a:pt x="112" y="0"/>
                  </a:lnTo>
                  <a:lnTo>
                    <a:pt x="130" y="2"/>
                  </a:lnTo>
                  <a:lnTo>
                    <a:pt x="126" y="14"/>
                  </a:lnTo>
                  <a:lnTo>
                    <a:pt x="146" y="8"/>
                  </a:lnTo>
                  <a:lnTo>
                    <a:pt x="150" y="10"/>
                  </a:lnTo>
                  <a:lnTo>
                    <a:pt x="152" y="24"/>
                  </a:lnTo>
                  <a:lnTo>
                    <a:pt x="140" y="36"/>
                  </a:lnTo>
                  <a:lnTo>
                    <a:pt x="130" y="44"/>
                  </a:lnTo>
                  <a:lnTo>
                    <a:pt x="120" y="54"/>
                  </a:lnTo>
                  <a:lnTo>
                    <a:pt x="136" y="56"/>
                  </a:lnTo>
                  <a:lnTo>
                    <a:pt x="146" y="6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76240" y="3003840"/>
              <a:ext cx="24840" cy="24480"/>
            </a:xfrm>
            <a:custGeom>
              <a:avLst/>
              <a:gdLst/>
              <a:ahLst/>
              <a:rect l="l" t="t" r="r" b="b"/>
              <a:pathLst>
                <a:path w="140" h="138">
                  <a:moveTo>
                    <a:pt x="22" y="106"/>
                  </a:moveTo>
                  <a:lnTo>
                    <a:pt x="26" y="108"/>
                  </a:lnTo>
                  <a:lnTo>
                    <a:pt x="38" y="102"/>
                  </a:lnTo>
                  <a:lnTo>
                    <a:pt x="48" y="94"/>
                  </a:lnTo>
                  <a:lnTo>
                    <a:pt x="46" y="102"/>
                  </a:lnTo>
                  <a:lnTo>
                    <a:pt x="34" y="116"/>
                  </a:lnTo>
                  <a:lnTo>
                    <a:pt x="28" y="124"/>
                  </a:lnTo>
                  <a:lnTo>
                    <a:pt x="32" y="136"/>
                  </a:lnTo>
                  <a:lnTo>
                    <a:pt x="44" y="138"/>
                  </a:lnTo>
                  <a:lnTo>
                    <a:pt x="52" y="134"/>
                  </a:lnTo>
                  <a:lnTo>
                    <a:pt x="58" y="124"/>
                  </a:lnTo>
                  <a:lnTo>
                    <a:pt x="64" y="112"/>
                  </a:lnTo>
                  <a:lnTo>
                    <a:pt x="74" y="96"/>
                  </a:lnTo>
                  <a:lnTo>
                    <a:pt x="112" y="60"/>
                  </a:lnTo>
                  <a:lnTo>
                    <a:pt x="136" y="20"/>
                  </a:lnTo>
                  <a:lnTo>
                    <a:pt x="140" y="4"/>
                  </a:lnTo>
                  <a:lnTo>
                    <a:pt x="134" y="0"/>
                  </a:lnTo>
                  <a:lnTo>
                    <a:pt x="118" y="2"/>
                  </a:lnTo>
                  <a:lnTo>
                    <a:pt x="106" y="6"/>
                  </a:lnTo>
                  <a:lnTo>
                    <a:pt x="94" y="12"/>
                  </a:lnTo>
                  <a:lnTo>
                    <a:pt x="76" y="18"/>
                  </a:lnTo>
                  <a:lnTo>
                    <a:pt x="76" y="24"/>
                  </a:lnTo>
                  <a:lnTo>
                    <a:pt x="70" y="32"/>
                  </a:lnTo>
                  <a:lnTo>
                    <a:pt x="62" y="32"/>
                  </a:lnTo>
                  <a:lnTo>
                    <a:pt x="56" y="42"/>
                  </a:lnTo>
                  <a:lnTo>
                    <a:pt x="36" y="56"/>
                  </a:lnTo>
                  <a:lnTo>
                    <a:pt x="34" y="60"/>
                  </a:lnTo>
                  <a:lnTo>
                    <a:pt x="26" y="66"/>
                  </a:lnTo>
                  <a:lnTo>
                    <a:pt x="6" y="78"/>
                  </a:lnTo>
                  <a:lnTo>
                    <a:pt x="0" y="92"/>
                  </a:lnTo>
                  <a:lnTo>
                    <a:pt x="8" y="98"/>
                  </a:lnTo>
                  <a:lnTo>
                    <a:pt x="22" y="92"/>
                  </a:lnTo>
                  <a:lnTo>
                    <a:pt x="40" y="70"/>
                  </a:lnTo>
                  <a:lnTo>
                    <a:pt x="36" y="86"/>
                  </a:lnTo>
                  <a:lnTo>
                    <a:pt x="48" y="82"/>
                  </a:lnTo>
                  <a:lnTo>
                    <a:pt x="66" y="64"/>
                  </a:lnTo>
                  <a:lnTo>
                    <a:pt x="76" y="52"/>
                  </a:lnTo>
                  <a:lnTo>
                    <a:pt x="64" y="72"/>
                  </a:lnTo>
                  <a:lnTo>
                    <a:pt x="56" y="82"/>
                  </a:lnTo>
                  <a:lnTo>
                    <a:pt x="46" y="92"/>
                  </a:lnTo>
                  <a:lnTo>
                    <a:pt x="22" y="10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38800" y="3018960"/>
              <a:ext cx="9360" cy="16920"/>
            </a:xfrm>
            <a:custGeom>
              <a:avLst/>
              <a:gdLst/>
              <a:ahLst/>
              <a:rect l="l" t="t" r="r" b="b"/>
              <a:pathLst>
                <a:path w="48" h="94">
                  <a:moveTo>
                    <a:pt x="30" y="38"/>
                  </a:moveTo>
                  <a:lnTo>
                    <a:pt x="32" y="42"/>
                  </a:lnTo>
                  <a:lnTo>
                    <a:pt x="14" y="86"/>
                  </a:lnTo>
                  <a:lnTo>
                    <a:pt x="0" y="94"/>
                  </a:lnTo>
                  <a:lnTo>
                    <a:pt x="0" y="80"/>
                  </a:lnTo>
                  <a:lnTo>
                    <a:pt x="8" y="64"/>
                  </a:lnTo>
                  <a:lnTo>
                    <a:pt x="10" y="40"/>
                  </a:lnTo>
                  <a:lnTo>
                    <a:pt x="16" y="28"/>
                  </a:lnTo>
                  <a:lnTo>
                    <a:pt x="22" y="20"/>
                  </a:lnTo>
                  <a:lnTo>
                    <a:pt x="32" y="8"/>
                  </a:lnTo>
                  <a:lnTo>
                    <a:pt x="42" y="0"/>
                  </a:lnTo>
                  <a:lnTo>
                    <a:pt x="48" y="12"/>
                  </a:lnTo>
                  <a:lnTo>
                    <a:pt x="42" y="24"/>
                  </a:lnTo>
                  <a:lnTo>
                    <a:pt x="30" y="3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71920" y="3020760"/>
              <a:ext cx="6120" cy="9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28" y="0"/>
                  </a:moveTo>
                  <a:lnTo>
                    <a:pt x="30" y="20"/>
                  </a:lnTo>
                  <a:lnTo>
                    <a:pt x="12" y="46"/>
                  </a:lnTo>
                  <a:lnTo>
                    <a:pt x="0" y="48"/>
                  </a:lnTo>
                  <a:lnTo>
                    <a:pt x="6" y="26"/>
                  </a:lnTo>
                  <a:lnTo>
                    <a:pt x="12" y="24"/>
                  </a:lnTo>
                  <a:lnTo>
                    <a:pt x="20" y="12"/>
                  </a:lnTo>
                  <a:lnTo>
                    <a:pt x="28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53720" y="2974320"/>
              <a:ext cx="44640" cy="18360"/>
            </a:xfrm>
            <a:custGeom>
              <a:avLst/>
              <a:gdLst/>
              <a:ahLst/>
              <a:rect l="l" t="t" r="r" b="b"/>
              <a:pathLst>
                <a:path w="260" h="108">
                  <a:moveTo>
                    <a:pt x="0" y="104"/>
                  </a:moveTo>
                  <a:lnTo>
                    <a:pt x="16" y="92"/>
                  </a:lnTo>
                  <a:lnTo>
                    <a:pt x="42" y="82"/>
                  </a:lnTo>
                  <a:lnTo>
                    <a:pt x="74" y="64"/>
                  </a:lnTo>
                  <a:lnTo>
                    <a:pt x="134" y="32"/>
                  </a:lnTo>
                  <a:lnTo>
                    <a:pt x="152" y="28"/>
                  </a:lnTo>
                  <a:lnTo>
                    <a:pt x="176" y="28"/>
                  </a:lnTo>
                  <a:lnTo>
                    <a:pt x="208" y="6"/>
                  </a:lnTo>
                  <a:lnTo>
                    <a:pt x="254" y="0"/>
                  </a:lnTo>
                  <a:lnTo>
                    <a:pt x="260" y="6"/>
                  </a:lnTo>
                  <a:lnTo>
                    <a:pt x="246" y="18"/>
                  </a:lnTo>
                  <a:lnTo>
                    <a:pt x="228" y="32"/>
                  </a:lnTo>
                  <a:lnTo>
                    <a:pt x="178" y="42"/>
                  </a:lnTo>
                  <a:lnTo>
                    <a:pt x="32" y="100"/>
                  </a:lnTo>
                  <a:lnTo>
                    <a:pt x="22" y="100"/>
                  </a:lnTo>
                  <a:lnTo>
                    <a:pt x="0" y="108"/>
                  </a:lnTo>
                  <a:lnTo>
                    <a:pt x="0" y="10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7360" bIns="-273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95840" y="2966760"/>
              <a:ext cx="45000" cy="16920"/>
            </a:xfrm>
            <a:custGeom>
              <a:avLst/>
              <a:gdLst/>
              <a:ahLst/>
              <a:rect l="l" t="t" r="r" b="b"/>
              <a:pathLst>
                <a:path w="258" h="100">
                  <a:moveTo>
                    <a:pt x="0" y="98"/>
                  </a:moveTo>
                  <a:lnTo>
                    <a:pt x="2" y="88"/>
                  </a:lnTo>
                  <a:lnTo>
                    <a:pt x="6" y="86"/>
                  </a:lnTo>
                  <a:lnTo>
                    <a:pt x="60" y="82"/>
                  </a:lnTo>
                  <a:lnTo>
                    <a:pt x="86" y="72"/>
                  </a:lnTo>
                  <a:lnTo>
                    <a:pt x="110" y="58"/>
                  </a:lnTo>
                  <a:lnTo>
                    <a:pt x="140" y="42"/>
                  </a:lnTo>
                  <a:lnTo>
                    <a:pt x="140" y="52"/>
                  </a:lnTo>
                  <a:lnTo>
                    <a:pt x="160" y="44"/>
                  </a:lnTo>
                  <a:lnTo>
                    <a:pt x="164" y="36"/>
                  </a:lnTo>
                  <a:lnTo>
                    <a:pt x="154" y="34"/>
                  </a:lnTo>
                  <a:lnTo>
                    <a:pt x="162" y="16"/>
                  </a:lnTo>
                  <a:lnTo>
                    <a:pt x="178" y="4"/>
                  </a:lnTo>
                  <a:lnTo>
                    <a:pt x="198" y="0"/>
                  </a:lnTo>
                  <a:lnTo>
                    <a:pt x="216" y="0"/>
                  </a:lnTo>
                  <a:lnTo>
                    <a:pt x="218" y="10"/>
                  </a:lnTo>
                  <a:lnTo>
                    <a:pt x="210" y="24"/>
                  </a:lnTo>
                  <a:lnTo>
                    <a:pt x="252" y="4"/>
                  </a:lnTo>
                  <a:lnTo>
                    <a:pt x="258" y="6"/>
                  </a:lnTo>
                  <a:lnTo>
                    <a:pt x="254" y="16"/>
                  </a:lnTo>
                  <a:lnTo>
                    <a:pt x="232" y="28"/>
                  </a:lnTo>
                  <a:lnTo>
                    <a:pt x="204" y="40"/>
                  </a:lnTo>
                  <a:lnTo>
                    <a:pt x="186" y="50"/>
                  </a:lnTo>
                  <a:lnTo>
                    <a:pt x="204" y="46"/>
                  </a:lnTo>
                  <a:lnTo>
                    <a:pt x="190" y="60"/>
                  </a:lnTo>
                  <a:lnTo>
                    <a:pt x="168" y="68"/>
                  </a:lnTo>
                  <a:lnTo>
                    <a:pt x="134" y="74"/>
                  </a:lnTo>
                  <a:lnTo>
                    <a:pt x="114" y="86"/>
                  </a:lnTo>
                  <a:lnTo>
                    <a:pt x="98" y="84"/>
                  </a:lnTo>
                  <a:lnTo>
                    <a:pt x="74" y="90"/>
                  </a:lnTo>
                  <a:lnTo>
                    <a:pt x="44" y="100"/>
                  </a:lnTo>
                  <a:lnTo>
                    <a:pt x="0" y="9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0" bIns="-288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7320" y="2961000"/>
              <a:ext cx="9360" cy="756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6" y="0"/>
                  </a:moveTo>
                  <a:lnTo>
                    <a:pt x="42" y="6"/>
                  </a:lnTo>
                  <a:lnTo>
                    <a:pt x="50" y="10"/>
                  </a:lnTo>
                  <a:lnTo>
                    <a:pt x="38" y="26"/>
                  </a:lnTo>
                  <a:lnTo>
                    <a:pt x="14" y="36"/>
                  </a:lnTo>
                  <a:lnTo>
                    <a:pt x="0" y="30"/>
                  </a:lnTo>
                  <a:lnTo>
                    <a:pt x="10" y="18"/>
                  </a:lnTo>
                  <a:lnTo>
                    <a:pt x="28" y="4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83320" y="2945160"/>
              <a:ext cx="40320" cy="16920"/>
            </a:xfrm>
            <a:custGeom>
              <a:avLst/>
              <a:gdLst/>
              <a:ahLst/>
              <a:rect l="l" t="t" r="r" b="b"/>
              <a:pathLst>
                <a:path w="236" h="102">
                  <a:moveTo>
                    <a:pt x="20" y="54"/>
                  </a:moveTo>
                  <a:lnTo>
                    <a:pt x="46" y="46"/>
                  </a:lnTo>
                  <a:lnTo>
                    <a:pt x="92" y="28"/>
                  </a:lnTo>
                  <a:lnTo>
                    <a:pt x="128" y="6"/>
                  </a:lnTo>
                  <a:lnTo>
                    <a:pt x="150" y="14"/>
                  </a:lnTo>
                  <a:lnTo>
                    <a:pt x="174" y="12"/>
                  </a:lnTo>
                  <a:lnTo>
                    <a:pt x="226" y="0"/>
                  </a:lnTo>
                  <a:lnTo>
                    <a:pt x="236" y="4"/>
                  </a:lnTo>
                  <a:lnTo>
                    <a:pt x="204" y="42"/>
                  </a:lnTo>
                  <a:lnTo>
                    <a:pt x="204" y="56"/>
                  </a:lnTo>
                  <a:lnTo>
                    <a:pt x="210" y="56"/>
                  </a:lnTo>
                  <a:lnTo>
                    <a:pt x="210" y="62"/>
                  </a:lnTo>
                  <a:lnTo>
                    <a:pt x="204" y="70"/>
                  </a:lnTo>
                  <a:lnTo>
                    <a:pt x="196" y="72"/>
                  </a:lnTo>
                  <a:lnTo>
                    <a:pt x="190" y="64"/>
                  </a:lnTo>
                  <a:lnTo>
                    <a:pt x="166" y="72"/>
                  </a:lnTo>
                  <a:lnTo>
                    <a:pt x="138" y="74"/>
                  </a:lnTo>
                  <a:lnTo>
                    <a:pt x="98" y="66"/>
                  </a:lnTo>
                  <a:lnTo>
                    <a:pt x="4" y="102"/>
                  </a:lnTo>
                  <a:lnTo>
                    <a:pt x="0" y="80"/>
                  </a:lnTo>
                  <a:lnTo>
                    <a:pt x="20" y="5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0" bIns="-288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4640" y="2965320"/>
              <a:ext cx="2880" cy="28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0" y="0"/>
                  </a:moveTo>
                  <a:lnTo>
                    <a:pt x="24" y="0"/>
                  </a:lnTo>
                  <a:lnTo>
                    <a:pt x="26" y="4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0" y="16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840" bIns="-428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2240" y="2945160"/>
              <a:ext cx="10800" cy="61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2" y="12"/>
                  </a:moveTo>
                  <a:lnTo>
                    <a:pt x="48" y="0"/>
                  </a:lnTo>
                  <a:lnTo>
                    <a:pt x="36" y="10"/>
                  </a:lnTo>
                  <a:lnTo>
                    <a:pt x="42" y="12"/>
                  </a:lnTo>
                  <a:lnTo>
                    <a:pt x="52" y="6"/>
                  </a:lnTo>
                  <a:lnTo>
                    <a:pt x="62" y="0"/>
                  </a:lnTo>
                  <a:lnTo>
                    <a:pt x="58" y="8"/>
                  </a:lnTo>
                  <a:lnTo>
                    <a:pt x="40" y="22"/>
                  </a:lnTo>
                  <a:lnTo>
                    <a:pt x="34" y="30"/>
                  </a:lnTo>
                  <a:lnTo>
                    <a:pt x="20" y="40"/>
                  </a:lnTo>
                  <a:lnTo>
                    <a:pt x="16" y="34"/>
                  </a:lnTo>
                  <a:lnTo>
                    <a:pt x="0" y="36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42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9560" y="2925360"/>
              <a:ext cx="10440" cy="936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58" y="0"/>
                  </a:moveTo>
                  <a:lnTo>
                    <a:pt x="44" y="6"/>
                  </a:lnTo>
                  <a:lnTo>
                    <a:pt x="50" y="4"/>
                  </a:lnTo>
                  <a:lnTo>
                    <a:pt x="62" y="4"/>
                  </a:lnTo>
                  <a:lnTo>
                    <a:pt x="62" y="12"/>
                  </a:lnTo>
                  <a:lnTo>
                    <a:pt x="50" y="18"/>
                  </a:lnTo>
                  <a:lnTo>
                    <a:pt x="50" y="22"/>
                  </a:lnTo>
                  <a:lnTo>
                    <a:pt x="0" y="54"/>
                  </a:lnTo>
                  <a:lnTo>
                    <a:pt x="4" y="46"/>
                  </a:lnTo>
                  <a:lnTo>
                    <a:pt x="42" y="14"/>
                  </a:lnTo>
                  <a:lnTo>
                    <a:pt x="46" y="8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12640" y="2928600"/>
              <a:ext cx="7560" cy="61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6"/>
                  </a:moveTo>
                  <a:lnTo>
                    <a:pt x="48" y="0"/>
                  </a:lnTo>
                  <a:lnTo>
                    <a:pt x="46" y="6"/>
                  </a:lnTo>
                  <a:lnTo>
                    <a:pt x="36" y="14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10" y="18"/>
                  </a:lnTo>
                  <a:lnTo>
                    <a:pt x="26" y="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23800" y="2928600"/>
              <a:ext cx="4320" cy="288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10" y="14"/>
                  </a:moveTo>
                  <a:lnTo>
                    <a:pt x="0" y="10"/>
                  </a:lnTo>
                  <a:lnTo>
                    <a:pt x="6" y="6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20" y="12"/>
                  </a:lnTo>
                  <a:lnTo>
                    <a:pt x="1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840" bIns="-428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56200" y="2916360"/>
              <a:ext cx="10800" cy="4320"/>
            </a:xfrm>
            <a:custGeom>
              <a:avLst/>
              <a:gdLst/>
              <a:ahLst/>
              <a:rect l="l" t="t" r="r" b="b"/>
              <a:pathLst>
                <a:path w="68" h="28">
                  <a:moveTo>
                    <a:pt x="32" y="16"/>
                  </a:moveTo>
                  <a:lnTo>
                    <a:pt x="0" y="28"/>
                  </a:lnTo>
                  <a:lnTo>
                    <a:pt x="6" y="14"/>
                  </a:lnTo>
                  <a:lnTo>
                    <a:pt x="28" y="4"/>
                  </a:lnTo>
                  <a:lnTo>
                    <a:pt x="42" y="0"/>
                  </a:lnTo>
                  <a:lnTo>
                    <a:pt x="44" y="4"/>
                  </a:lnTo>
                  <a:lnTo>
                    <a:pt x="68" y="6"/>
                  </a:lnTo>
                  <a:lnTo>
                    <a:pt x="64" y="10"/>
                  </a:lnTo>
                  <a:lnTo>
                    <a:pt x="32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34600" y="2894760"/>
              <a:ext cx="62280" cy="30600"/>
            </a:xfrm>
            <a:custGeom>
              <a:avLst/>
              <a:gdLst/>
              <a:ahLst/>
              <a:rect l="l" t="t" r="r" b="b"/>
              <a:pathLst>
                <a:path w="356" h="176">
                  <a:moveTo>
                    <a:pt x="44" y="70"/>
                  </a:moveTo>
                  <a:lnTo>
                    <a:pt x="38" y="70"/>
                  </a:lnTo>
                  <a:lnTo>
                    <a:pt x="42" y="66"/>
                  </a:lnTo>
                  <a:lnTo>
                    <a:pt x="58" y="68"/>
                  </a:lnTo>
                  <a:lnTo>
                    <a:pt x="76" y="54"/>
                  </a:lnTo>
                  <a:lnTo>
                    <a:pt x="122" y="34"/>
                  </a:lnTo>
                  <a:lnTo>
                    <a:pt x="128" y="36"/>
                  </a:lnTo>
                  <a:lnTo>
                    <a:pt x="142" y="32"/>
                  </a:lnTo>
                  <a:lnTo>
                    <a:pt x="162" y="34"/>
                  </a:lnTo>
                  <a:lnTo>
                    <a:pt x="170" y="36"/>
                  </a:lnTo>
                  <a:lnTo>
                    <a:pt x="146" y="48"/>
                  </a:lnTo>
                  <a:lnTo>
                    <a:pt x="150" y="50"/>
                  </a:lnTo>
                  <a:lnTo>
                    <a:pt x="146" y="60"/>
                  </a:lnTo>
                  <a:lnTo>
                    <a:pt x="134" y="72"/>
                  </a:lnTo>
                  <a:lnTo>
                    <a:pt x="146" y="78"/>
                  </a:lnTo>
                  <a:lnTo>
                    <a:pt x="168" y="60"/>
                  </a:lnTo>
                  <a:lnTo>
                    <a:pt x="178" y="56"/>
                  </a:lnTo>
                  <a:lnTo>
                    <a:pt x="184" y="46"/>
                  </a:lnTo>
                  <a:lnTo>
                    <a:pt x="194" y="44"/>
                  </a:lnTo>
                  <a:lnTo>
                    <a:pt x="204" y="16"/>
                  </a:lnTo>
                  <a:lnTo>
                    <a:pt x="216" y="4"/>
                  </a:lnTo>
                  <a:lnTo>
                    <a:pt x="228" y="0"/>
                  </a:lnTo>
                  <a:lnTo>
                    <a:pt x="244" y="0"/>
                  </a:lnTo>
                  <a:lnTo>
                    <a:pt x="234" y="18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46" y="24"/>
                  </a:lnTo>
                  <a:lnTo>
                    <a:pt x="262" y="18"/>
                  </a:lnTo>
                  <a:lnTo>
                    <a:pt x="276" y="24"/>
                  </a:lnTo>
                  <a:lnTo>
                    <a:pt x="290" y="18"/>
                  </a:lnTo>
                  <a:lnTo>
                    <a:pt x="298" y="12"/>
                  </a:lnTo>
                  <a:lnTo>
                    <a:pt x="302" y="2"/>
                  </a:lnTo>
                  <a:lnTo>
                    <a:pt x="306" y="6"/>
                  </a:lnTo>
                  <a:lnTo>
                    <a:pt x="314" y="6"/>
                  </a:lnTo>
                  <a:lnTo>
                    <a:pt x="322" y="10"/>
                  </a:lnTo>
                  <a:lnTo>
                    <a:pt x="300" y="30"/>
                  </a:lnTo>
                  <a:lnTo>
                    <a:pt x="300" y="36"/>
                  </a:lnTo>
                  <a:lnTo>
                    <a:pt x="338" y="18"/>
                  </a:lnTo>
                  <a:lnTo>
                    <a:pt x="356" y="16"/>
                  </a:lnTo>
                  <a:lnTo>
                    <a:pt x="350" y="24"/>
                  </a:lnTo>
                  <a:lnTo>
                    <a:pt x="324" y="44"/>
                  </a:lnTo>
                  <a:lnTo>
                    <a:pt x="318" y="48"/>
                  </a:lnTo>
                  <a:lnTo>
                    <a:pt x="308" y="58"/>
                  </a:lnTo>
                  <a:lnTo>
                    <a:pt x="310" y="58"/>
                  </a:lnTo>
                  <a:lnTo>
                    <a:pt x="302" y="66"/>
                  </a:lnTo>
                  <a:lnTo>
                    <a:pt x="332" y="72"/>
                  </a:lnTo>
                  <a:lnTo>
                    <a:pt x="292" y="92"/>
                  </a:lnTo>
                  <a:lnTo>
                    <a:pt x="278" y="90"/>
                  </a:lnTo>
                  <a:lnTo>
                    <a:pt x="264" y="70"/>
                  </a:lnTo>
                  <a:lnTo>
                    <a:pt x="252" y="70"/>
                  </a:lnTo>
                  <a:lnTo>
                    <a:pt x="230" y="82"/>
                  </a:lnTo>
                  <a:lnTo>
                    <a:pt x="252" y="92"/>
                  </a:lnTo>
                  <a:lnTo>
                    <a:pt x="250" y="100"/>
                  </a:lnTo>
                  <a:lnTo>
                    <a:pt x="236" y="114"/>
                  </a:lnTo>
                  <a:lnTo>
                    <a:pt x="222" y="108"/>
                  </a:lnTo>
                  <a:lnTo>
                    <a:pt x="236" y="96"/>
                  </a:lnTo>
                  <a:lnTo>
                    <a:pt x="228" y="96"/>
                  </a:lnTo>
                  <a:lnTo>
                    <a:pt x="210" y="102"/>
                  </a:lnTo>
                  <a:lnTo>
                    <a:pt x="190" y="104"/>
                  </a:lnTo>
                  <a:lnTo>
                    <a:pt x="192" y="106"/>
                  </a:lnTo>
                  <a:lnTo>
                    <a:pt x="192" y="114"/>
                  </a:lnTo>
                  <a:lnTo>
                    <a:pt x="184" y="112"/>
                  </a:lnTo>
                  <a:lnTo>
                    <a:pt x="156" y="114"/>
                  </a:lnTo>
                  <a:lnTo>
                    <a:pt x="116" y="132"/>
                  </a:lnTo>
                  <a:lnTo>
                    <a:pt x="102" y="134"/>
                  </a:lnTo>
                  <a:lnTo>
                    <a:pt x="92" y="138"/>
                  </a:lnTo>
                  <a:lnTo>
                    <a:pt x="88" y="146"/>
                  </a:lnTo>
                  <a:lnTo>
                    <a:pt x="74" y="158"/>
                  </a:lnTo>
                  <a:lnTo>
                    <a:pt x="52" y="168"/>
                  </a:lnTo>
                  <a:lnTo>
                    <a:pt x="4" y="176"/>
                  </a:lnTo>
                  <a:lnTo>
                    <a:pt x="30" y="160"/>
                  </a:lnTo>
                  <a:lnTo>
                    <a:pt x="54" y="150"/>
                  </a:lnTo>
                  <a:lnTo>
                    <a:pt x="60" y="144"/>
                  </a:lnTo>
                  <a:lnTo>
                    <a:pt x="50" y="138"/>
                  </a:lnTo>
                  <a:lnTo>
                    <a:pt x="60" y="128"/>
                  </a:lnTo>
                  <a:lnTo>
                    <a:pt x="72" y="120"/>
                  </a:lnTo>
                  <a:lnTo>
                    <a:pt x="68" y="112"/>
                  </a:lnTo>
                  <a:lnTo>
                    <a:pt x="58" y="108"/>
                  </a:lnTo>
                  <a:lnTo>
                    <a:pt x="48" y="110"/>
                  </a:lnTo>
                  <a:lnTo>
                    <a:pt x="46" y="114"/>
                  </a:lnTo>
                  <a:lnTo>
                    <a:pt x="56" y="118"/>
                  </a:lnTo>
                  <a:lnTo>
                    <a:pt x="22" y="148"/>
                  </a:lnTo>
                  <a:lnTo>
                    <a:pt x="2" y="154"/>
                  </a:lnTo>
                  <a:lnTo>
                    <a:pt x="0" y="138"/>
                  </a:lnTo>
                  <a:lnTo>
                    <a:pt x="14" y="122"/>
                  </a:lnTo>
                  <a:lnTo>
                    <a:pt x="32" y="106"/>
                  </a:lnTo>
                  <a:lnTo>
                    <a:pt x="44" y="90"/>
                  </a:lnTo>
                  <a:lnTo>
                    <a:pt x="38" y="82"/>
                  </a:lnTo>
                  <a:lnTo>
                    <a:pt x="44" y="7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87520" y="2890440"/>
              <a:ext cx="4680" cy="43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0" y="8"/>
                  </a:lnTo>
                  <a:lnTo>
                    <a:pt x="22" y="22"/>
                  </a:lnTo>
                  <a:lnTo>
                    <a:pt x="16" y="8"/>
                  </a:lnTo>
                  <a:lnTo>
                    <a:pt x="0" y="10"/>
                  </a:lnTo>
                  <a:lnTo>
                    <a:pt x="2" y="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95440" y="2882520"/>
              <a:ext cx="23040" cy="11880"/>
            </a:xfrm>
            <a:custGeom>
              <a:avLst/>
              <a:gdLst/>
              <a:ahLst/>
              <a:rect l="l" t="t" r="r" b="b"/>
              <a:pathLst>
                <a:path w="132" h="64">
                  <a:moveTo>
                    <a:pt x="56" y="30"/>
                  </a:moveTo>
                  <a:lnTo>
                    <a:pt x="60" y="28"/>
                  </a:lnTo>
                  <a:lnTo>
                    <a:pt x="64" y="26"/>
                  </a:lnTo>
                  <a:lnTo>
                    <a:pt x="54" y="22"/>
                  </a:lnTo>
                  <a:lnTo>
                    <a:pt x="52" y="16"/>
                  </a:lnTo>
                  <a:lnTo>
                    <a:pt x="62" y="16"/>
                  </a:lnTo>
                  <a:lnTo>
                    <a:pt x="70" y="10"/>
                  </a:lnTo>
                  <a:lnTo>
                    <a:pt x="82" y="4"/>
                  </a:lnTo>
                  <a:lnTo>
                    <a:pt x="102" y="0"/>
                  </a:lnTo>
                  <a:lnTo>
                    <a:pt x="128" y="6"/>
                  </a:lnTo>
                  <a:lnTo>
                    <a:pt x="120" y="14"/>
                  </a:lnTo>
                  <a:lnTo>
                    <a:pt x="106" y="18"/>
                  </a:lnTo>
                  <a:lnTo>
                    <a:pt x="100" y="24"/>
                  </a:lnTo>
                  <a:lnTo>
                    <a:pt x="114" y="24"/>
                  </a:lnTo>
                  <a:lnTo>
                    <a:pt x="132" y="18"/>
                  </a:lnTo>
                  <a:lnTo>
                    <a:pt x="106" y="38"/>
                  </a:lnTo>
                  <a:lnTo>
                    <a:pt x="118" y="36"/>
                  </a:lnTo>
                  <a:lnTo>
                    <a:pt x="106" y="50"/>
                  </a:lnTo>
                  <a:lnTo>
                    <a:pt x="90" y="46"/>
                  </a:lnTo>
                  <a:lnTo>
                    <a:pt x="70" y="56"/>
                  </a:lnTo>
                  <a:lnTo>
                    <a:pt x="52" y="56"/>
                  </a:lnTo>
                  <a:lnTo>
                    <a:pt x="48" y="50"/>
                  </a:lnTo>
                  <a:lnTo>
                    <a:pt x="32" y="58"/>
                  </a:lnTo>
                  <a:lnTo>
                    <a:pt x="16" y="58"/>
                  </a:lnTo>
                  <a:lnTo>
                    <a:pt x="10" y="62"/>
                  </a:lnTo>
                  <a:lnTo>
                    <a:pt x="4" y="64"/>
                  </a:lnTo>
                  <a:lnTo>
                    <a:pt x="0" y="62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8" y="36"/>
                  </a:lnTo>
                  <a:lnTo>
                    <a:pt x="24" y="26"/>
                  </a:lnTo>
                  <a:lnTo>
                    <a:pt x="32" y="22"/>
                  </a:lnTo>
                  <a:lnTo>
                    <a:pt x="44" y="30"/>
                  </a:lnTo>
                  <a:lnTo>
                    <a:pt x="56" y="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840" bIns="-338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15960" y="2877840"/>
              <a:ext cx="4320" cy="4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4" y="0"/>
                  </a:moveTo>
                  <a:lnTo>
                    <a:pt x="12" y="8"/>
                  </a:lnTo>
                  <a:lnTo>
                    <a:pt x="24" y="4"/>
                  </a:lnTo>
                  <a:lnTo>
                    <a:pt x="30" y="8"/>
                  </a:lnTo>
                  <a:lnTo>
                    <a:pt x="18" y="18"/>
                  </a:lnTo>
                  <a:lnTo>
                    <a:pt x="10" y="20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31160" y="2844000"/>
              <a:ext cx="30960" cy="13680"/>
            </a:xfrm>
            <a:custGeom>
              <a:avLst/>
              <a:gdLst/>
              <a:ahLst/>
              <a:rect l="l" t="t" r="r" b="b"/>
              <a:pathLst>
                <a:path w="178" h="84">
                  <a:moveTo>
                    <a:pt x="54" y="50"/>
                  </a:moveTo>
                  <a:lnTo>
                    <a:pt x="62" y="46"/>
                  </a:lnTo>
                  <a:lnTo>
                    <a:pt x="100" y="36"/>
                  </a:lnTo>
                  <a:lnTo>
                    <a:pt x="120" y="28"/>
                  </a:lnTo>
                  <a:lnTo>
                    <a:pt x="150" y="16"/>
                  </a:lnTo>
                  <a:lnTo>
                    <a:pt x="176" y="0"/>
                  </a:lnTo>
                  <a:lnTo>
                    <a:pt x="172" y="8"/>
                  </a:lnTo>
                  <a:lnTo>
                    <a:pt x="164" y="14"/>
                  </a:lnTo>
                  <a:lnTo>
                    <a:pt x="178" y="12"/>
                  </a:lnTo>
                  <a:lnTo>
                    <a:pt x="176" y="18"/>
                  </a:lnTo>
                  <a:lnTo>
                    <a:pt x="94" y="48"/>
                  </a:lnTo>
                  <a:lnTo>
                    <a:pt x="72" y="66"/>
                  </a:lnTo>
                  <a:lnTo>
                    <a:pt x="60" y="68"/>
                  </a:lnTo>
                  <a:lnTo>
                    <a:pt x="48" y="76"/>
                  </a:lnTo>
                  <a:lnTo>
                    <a:pt x="4" y="84"/>
                  </a:lnTo>
                  <a:lnTo>
                    <a:pt x="0" y="80"/>
                  </a:lnTo>
                  <a:lnTo>
                    <a:pt x="18" y="68"/>
                  </a:lnTo>
                  <a:lnTo>
                    <a:pt x="32" y="60"/>
                  </a:lnTo>
                  <a:lnTo>
                    <a:pt x="46" y="56"/>
                  </a:lnTo>
                  <a:lnTo>
                    <a:pt x="54" y="5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040" bIns="-320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67520" y="2842560"/>
              <a:ext cx="12240" cy="432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10" y="18"/>
                  </a:moveTo>
                  <a:lnTo>
                    <a:pt x="0" y="22"/>
                  </a:lnTo>
                  <a:lnTo>
                    <a:pt x="6" y="18"/>
                  </a:lnTo>
                  <a:lnTo>
                    <a:pt x="20" y="8"/>
                  </a:lnTo>
                  <a:lnTo>
                    <a:pt x="32" y="2"/>
                  </a:lnTo>
                  <a:lnTo>
                    <a:pt x="44" y="0"/>
                  </a:lnTo>
                  <a:lnTo>
                    <a:pt x="46" y="6"/>
                  </a:lnTo>
                  <a:lnTo>
                    <a:pt x="54" y="4"/>
                  </a:lnTo>
                  <a:lnTo>
                    <a:pt x="48" y="14"/>
                  </a:lnTo>
                  <a:lnTo>
                    <a:pt x="66" y="16"/>
                  </a:lnTo>
                  <a:lnTo>
                    <a:pt x="68" y="20"/>
                  </a:lnTo>
                  <a:lnTo>
                    <a:pt x="58" y="26"/>
                  </a:lnTo>
                  <a:lnTo>
                    <a:pt x="8" y="32"/>
                  </a:lnTo>
                  <a:lnTo>
                    <a:pt x="18" y="26"/>
                  </a:lnTo>
                  <a:lnTo>
                    <a:pt x="14" y="22"/>
                  </a:lnTo>
                  <a:lnTo>
                    <a:pt x="8" y="22"/>
                  </a:lnTo>
                  <a:lnTo>
                    <a:pt x="10" y="1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83120" y="2850480"/>
              <a:ext cx="14040" cy="612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6" y="2"/>
                  </a:moveTo>
                  <a:lnTo>
                    <a:pt x="80" y="0"/>
                  </a:lnTo>
                  <a:lnTo>
                    <a:pt x="62" y="12"/>
                  </a:lnTo>
                  <a:lnTo>
                    <a:pt x="18" y="36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16" y="20"/>
                  </a:lnTo>
                  <a:lnTo>
                    <a:pt x="28" y="14"/>
                  </a:lnTo>
                  <a:lnTo>
                    <a:pt x="40" y="14"/>
                  </a:lnTo>
                  <a:lnTo>
                    <a:pt x="76" y="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41000" y="2793600"/>
              <a:ext cx="32760" cy="16560"/>
            </a:xfrm>
            <a:custGeom>
              <a:avLst/>
              <a:gdLst/>
              <a:ahLst/>
              <a:rect l="l" t="t" r="r" b="b"/>
              <a:pathLst>
                <a:path w="194" h="94">
                  <a:moveTo>
                    <a:pt x="26" y="2"/>
                  </a:moveTo>
                  <a:lnTo>
                    <a:pt x="50" y="10"/>
                  </a:lnTo>
                  <a:lnTo>
                    <a:pt x="86" y="12"/>
                  </a:lnTo>
                  <a:lnTo>
                    <a:pt x="144" y="0"/>
                  </a:lnTo>
                  <a:lnTo>
                    <a:pt x="164" y="4"/>
                  </a:lnTo>
                  <a:lnTo>
                    <a:pt x="164" y="12"/>
                  </a:lnTo>
                  <a:lnTo>
                    <a:pt x="188" y="20"/>
                  </a:lnTo>
                  <a:lnTo>
                    <a:pt x="194" y="26"/>
                  </a:lnTo>
                  <a:lnTo>
                    <a:pt x="146" y="60"/>
                  </a:lnTo>
                  <a:lnTo>
                    <a:pt x="154" y="60"/>
                  </a:lnTo>
                  <a:lnTo>
                    <a:pt x="144" y="68"/>
                  </a:lnTo>
                  <a:lnTo>
                    <a:pt x="122" y="76"/>
                  </a:lnTo>
                  <a:lnTo>
                    <a:pt x="112" y="72"/>
                  </a:lnTo>
                  <a:lnTo>
                    <a:pt x="98" y="78"/>
                  </a:lnTo>
                  <a:lnTo>
                    <a:pt x="86" y="78"/>
                  </a:lnTo>
                  <a:lnTo>
                    <a:pt x="62" y="86"/>
                  </a:lnTo>
                  <a:lnTo>
                    <a:pt x="44" y="94"/>
                  </a:lnTo>
                  <a:lnTo>
                    <a:pt x="18" y="72"/>
                  </a:lnTo>
                  <a:lnTo>
                    <a:pt x="16" y="56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4" y="26"/>
                  </a:lnTo>
                  <a:lnTo>
                    <a:pt x="16" y="16"/>
                  </a:lnTo>
                  <a:lnTo>
                    <a:pt x="18" y="8"/>
                  </a:lnTo>
                  <a:lnTo>
                    <a:pt x="26" y="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9160" bIns="-29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92120" y="2786040"/>
              <a:ext cx="18720" cy="13680"/>
            </a:xfrm>
            <a:custGeom>
              <a:avLst/>
              <a:gdLst/>
              <a:ahLst/>
              <a:rect l="l" t="t" r="r" b="b"/>
              <a:pathLst>
                <a:path w="108" h="78">
                  <a:moveTo>
                    <a:pt x="6" y="24"/>
                  </a:moveTo>
                  <a:lnTo>
                    <a:pt x="14" y="18"/>
                  </a:lnTo>
                  <a:lnTo>
                    <a:pt x="62" y="8"/>
                  </a:lnTo>
                  <a:lnTo>
                    <a:pt x="78" y="0"/>
                  </a:lnTo>
                  <a:lnTo>
                    <a:pt x="108" y="26"/>
                  </a:lnTo>
                  <a:lnTo>
                    <a:pt x="98" y="40"/>
                  </a:lnTo>
                  <a:lnTo>
                    <a:pt x="86" y="48"/>
                  </a:lnTo>
                  <a:lnTo>
                    <a:pt x="0" y="78"/>
                  </a:lnTo>
                  <a:lnTo>
                    <a:pt x="8" y="64"/>
                  </a:lnTo>
                  <a:lnTo>
                    <a:pt x="26" y="42"/>
                  </a:lnTo>
                  <a:lnTo>
                    <a:pt x="18" y="30"/>
                  </a:lnTo>
                  <a:lnTo>
                    <a:pt x="6" y="2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040" bIns="-320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75480" y="2770560"/>
              <a:ext cx="2880" cy="7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0" y="2"/>
                  </a:moveTo>
                  <a:lnTo>
                    <a:pt x="24" y="0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0" y="26"/>
                  </a:lnTo>
                  <a:lnTo>
                    <a:pt x="16" y="28"/>
                  </a:lnTo>
                  <a:lnTo>
                    <a:pt x="14" y="34"/>
                  </a:lnTo>
                  <a:lnTo>
                    <a:pt x="0" y="32"/>
                  </a:lnTo>
                  <a:lnTo>
                    <a:pt x="2" y="18"/>
                  </a:lnTo>
                  <a:lnTo>
                    <a:pt x="10" y="4"/>
                  </a:lnTo>
                  <a:lnTo>
                    <a:pt x="20" y="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88000" y="2865600"/>
              <a:ext cx="288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4" y="4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0" y="8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840" bIns="-428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6840" y="2885400"/>
              <a:ext cx="2880" cy="1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0" y="0"/>
                  </a:moveTo>
                  <a:lnTo>
                    <a:pt x="4" y="4"/>
                  </a:lnTo>
                  <a:lnTo>
                    <a:pt x="8" y="10"/>
                  </a:lnTo>
                  <a:lnTo>
                    <a:pt x="20" y="8"/>
                  </a:lnTo>
                  <a:lnTo>
                    <a:pt x="8" y="16"/>
                  </a:lnTo>
                  <a:lnTo>
                    <a:pt x="0" y="18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74920" y="2730600"/>
              <a:ext cx="20520" cy="756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114" y="10"/>
                  </a:moveTo>
                  <a:lnTo>
                    <a:pt x="116" y="16"/>
                  </a:lnTo>
                  <a:lnTo>
                    <a:pt x="94" y="26"/>
                  </a:lnTo>
                  <a:lnTo>
                    <a:pt x="76" y="36"/>
                  </a:lnTo>
                  <a:lnTo>
                    <a:pt x="62" y="44"/>
                  </a:lnTo>
                  <a:lnTo>
                    <a:pt x="34" y="36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34" y="18"/>
                  </a:lnTo>
                  <a:lnTo>
                    <a:pt x="106" y="0"/>
                  </a:lnTo>
                  <a:lnTo>
                    <a:pt x="114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20400" y="2543760"/>
              <a:ext cx="851040" cy="407880"/>
            </a:xfrm>
            <a:custGeom>
              <a:avLst/>
              <a:gdLst/>
              <a:ahLst/>
              <a:rect l="l" t="t" r="r" b="b"/>
              <a:pathLst>
                <a:path w="4896" h="2384">
                  <a:moveTo>
                    <a:pt x="3158" y="1804"/>
                  </a:moveTo>
                  <a:lnTo>
                    <a:pt x="3332" y="1650"/>
                  </a:lnTo>
                  <a:lnTo>
                    <a:pt x="3500" y="1504"/>
                  </a:lnTo>
                  <a:lnTo>
                    <a:pt x="3654" y="1374"/>
                  </a:lnTo>
                  <a:lnTo>
                    <a:pt x="3820" y="1236"/>
                  </a:lnTo>
                  <a:lnTo>
                    <a:pt x="4004" y="1088"/>
                  </a:lnTo>
                  <a:lnTo>
                    <a:pt x="4182" y="946"/>
                  </a:lnTo>
                  <a:lnTo>
                    <a:pt x="4344" y="820"/>
                  </a:lnTo>
                  <a:lnTo>
                    <a:pt x="4518" y="686"/>
                  </a:lnTo>
                  <a:lnTo>
                    <a:pt x="4712" y="542"/>
                  </a:lnTo>
                  <a:lnTo>
                    <a:pt x="4896" y="406"/>
                  </a:lnTo>
                  <a:lnTo>
                    <a:pt x="4896" y="402"/>
                  </a:lnTo>
                  <a:lnTo>
                    <a:pt x="4884" y="400"/>
                  </a:lnTo>
                  <a:lnTo>
                    <a:pt x="4876" y="408"/>
                  </a:lnTo>
                  <a:lnTo>
                    <a:pt x="4856" y="416"/>
                  </a:lnTo>
                  <a:lnTo>
                    <a:pt x="4854" y="412"/>
                  </a:lnTo>
                  <a:lnTo>
                    <a:pt x="4860" y="392"/>
                  </a:lnTo>
                  <a:lnTo>
                    <a:pt x="4834" y="378"/>
                  </a:lnTo>
                  <a:lnTo>
                    <a:pt x="4840" y="372"/>
                  </a:lnTo>
                  <a:lnTo>
                    <a:pt x="4824" y="360"/>
                  </a:lnTo>
                  <a:lnTo>
                    <a:pt x="4830" y="356"/>
                  </a:lnTo>
                  <a:lnTo>
                    <a:pt x="4830" y="348"/>
                  </a:lnTo>
                  <a:lnTo>
                    <a:pt x="4802" y="322"/>
                  </a:lnTo>
                  <a:lnTo>
                    <a:pt x="4790" y="326"/>
                  </a:lnTo>
                  <a:lnTo>
                    <a:pt x="4782" y="324"/>
                  </a:lnTo>
                  <a:lnTo>
                    <a:pt x="4778" y="320"/>
                  </a:lnTo>
                  <a:lnTo>
                    <a:pt x="4766" y="330"/>
                  </a:lnTo>
                  <a:lnTo>
                    <a:pt x="4752" y="336"/>
                  </a:lnTo>
                  <a:lnTo>
                    <a:pt x="4756" y="324"/>
                  </a:lnTo>
                  <a:lnTo>
                    <a:pt x="4752" y="320"/>
                  </a:lnTo>
                  <a:lnTo>
                    <a:pt x="4740" y="322"/>
                  </a:lnTo>
                  <a:lnTo>
                    <a:pt x="4696" y="320"/>
                  </a:lnTo>
                  <a:lnTo>
                    <a:pt x="4688" y="324"/>
                  </a:lnTo>
                  <a:lnTo>
                    <a:pt x="4662" y="328"/>
                  </a:lnTo>
                  <a:lnTo>
                    <a:pt x="4646" y="326"/>
                  </a:lnTo>
                  <a:lnTo>
                    <a:pt x="4646" y="318"/>
                  </a:lnTo>
                  <a:lnTo>
                    <a:pt x="4634" y="324"/>
                  </a:lnTo>
                  <a:lnTo>
                    <a:pt x="4606" y="320"/>
                  </a:lnTo>
                  <a:lnTo>
                    <a:pt x="4610" y="316"/>
                  </a:lnTo>
                  <a:lnTo>
                    <a:pt x="4620" y="312"/>
                  </a:lnTo>
                  <a:lnTo>
                    <a:pt x="4594" y="304"/>
                  </a:lnTo>
                  <a:lnTo>
                    <a:pt x="4594" y="294"/>
                  </a:lnTo>
                  <a:lnTo>
                    <a:pt x="4586" y="286"/>
                  </a:lnTo>
                  <a:lnTo>
                    <a:pt x="4540" y="278"/>
                  </a:lnTo>
                  <a:lnTo>
                    <a:pt x="4506" y="278"/>
                  </a:lnTo>
                  <a:lnTo>
                    <a:pt x="4480" y="258"/>
                  </a:lnTo>
                  <a:lnTo>
                    <a:pt x="4466" y="254"/>
                  </a:lnTo>
                  <a:lnTo>
                    <a:pt x="4466" y="244"/>
                  </a:lnTo>
                  <a:lnTo>
                    <a:pt x="4450" y="236"/>
                  </a:lnTo>
                  <a:lnTo>
                    <a:pt x="4426" y="232"/>
                  </a:lnTo>
                  <a:lnTo>
                    <a:pt x="4436" y="224"/>
                  </a:lnTo>
                  <a:lnTo>
                    <a:pt x="4414" y="216"/>
                  </a:lnTo>
                  <a:lnTo>
                    <a:pt x="4398" y="204"/>
                  </a:lnTo>
                  <a:lnTo>
                    <a:pt x="4366" y="198"/>
                  </a:lnTo>
                  <a:lnTo>
                    <a:pt x="4346" y="202"/>
                  </a:lnTo>
                  <a:lnTo>
                    <a:pt x="4296" y="204"/>
                  </a:lnTo>
                  <a:lnTo>
                    <a:pt x="4306" y="200"/>
                  </a:lnTo>
                  <a:lnTo>
                    <a:pt x="4320" y="200"/>
                  </a:lnTo>
                  <a:lnTo>
                    <a:pt x="4324" y="194"/>
                  </a:lnTo>
                  <a:lnTo>
                    <a:pt x="4320" y="190"/>
                  </a:lnTo>
                  <a:lnTo>
                    <a:pt x="4306" y="188"/>
                  </a:lnTo>
                  <a:lnTo>
                    <a:pt x="4240" y="190"/>
                  </a:lnTo>
                  <a:lnTo>
                    <a:pt x="4202" y="180"/>
                  </a:lnTo>
                  <a:lnTo>
                    <a:pt x="4224" y="176"/>
                  </a:lnTo>
                  <a:lnTo>
                    <a:pt x="4236" y="170"/>
                  </a:lnTo>
                  <a:lnTo>
                    <a:pt x="4184" y="162"/>
                  </a:lnTo>
                  <a:lnTo>
                    <a:pt x="4180" y="158"/>
                  </a:lnTo>
                  <a:lnTo>
                    <a:pt x="4212" y="160"/>
                  </a:lnTo>
                  <a:lnTo>
                    <a:pt x="4214" y="154"/>
                  </a:lnTo>
                  <a:lnTo>
                    <a:pt x="4202" y="152"/>
                  </a:lnTo>
                  <a:lnTo>
                    <a:pt x="4206" y="146"/>
                  </a:lnTo>
                  <a:lnTo>
                    <a:pt x="4234" y="134"/>
                  </a:lnTo>
                  <a:lnTo>
                    <a:pt x="4252" y="124"/>
                  </a:lnTo>
                  <a:lnTo>
                    <a:pt x="4236" y="114"/>
                  </a:lnTo>
                  <a:lnTo>
                    <a:pt x="4214" y="110"/>
                  </a:lnTo>
                  <a:lnTo>
                    <a:pt x="4196" y="124"/>
                  </a:lnTo>
                  <a:lnTo>
                    <a:pt x="4198" y="120"/>
                  </a:lnTo>
                  <a:lnTo>
                    <a:pt x="4182" y="122"/>
                  </a:lnTo>
                  <a:lnTo>
                    <a:pt x="4196" y="110"/>
                  </a:lnTo>
                  <a:lnTo>
                    <a:pt x="4204" y="98"/>
                  </a:lnTo>
                  <a:lnTo>
                    <a:pt x="4192" y="96"/>
                  </a:lnTo>
                  <a:lnTo>
                    <a:pt x="4176" y="96"/>
                  </a:lnTo>
                  <a:lnTo>
                    <a:pt x="4134" y="102"/>
                  </a:lnTo>
                  <a:lnTo>
                    <a:pt x="4140" y="94"/>
                  </a:lnTo>
                  <a:lnTo>
                    <a:pt x="4124" y="98"/>
                  </a:lnTo>
                  <a:lnTo>
                    <a:pt x="4100" y="106"/>
                  </a:lnTo>
                  <a:lnTo>
                    <a:pt x="4088" y="102"/>
                  </a:lnTo>
                  <a:lnTo>
                    <a:pt x="4088" y="96"/>
                  </a:lnTo>
                  <a:lnTo>
                    <a:pt x="4074" y="94"/>
                  </a:lnTo>
                  <a:lnTo>
                    <a:pt x="4072" y="88"/>
                  </a:lnTo>
                  <a:lnTo>
                    <a:pt x="4088" y="82"/>
                  </a:lnTo>
                  <a:lnTo>
                    <a:pt x="4106" y="60"/>
                  </a:lnTo>
                  <a:lnTo>
                    <a:pt x="4090" y="50"/>
                  </a:lnTo>
                  <a:lnTo>
                    <a:pt x="4080" y="58"/>
                  </a:lnTo>
                  <a:lnTo>
                    <a:pt x="4078" y="50"/>
                  </a:lnTo>
                  <a:lnTo>
                    <a:pt x="4066" y="60"/>
                  </a:lnTo>
                  <a:lnTo>
                    <a:pt x="4056" y="58"/>
                  </a:lnTo>
                  <a:lnTo>
                    <a:pt x="4038" y="62"/>
                  </a:lnTo>
                  <a:lnTo>
                    <a:pt x="4018" y="74"/>
                  </a:lnTo>
                  <a:lnTo>
                    <a:pt x="4014" y="86"/>
                  </a:lnTo>
                  <a:lnTo>
                    <a:pt x="4004" y="92"/>
                  </a:lnTo>
                  <a:lnTo>
                    <a:pt x="3990" y="102"/>
                  </a:lnTo>
                  <a:lnTo>
                    <a:pt x="3976" y="100"/>
                  </a:lnTo>
                  <a:lnTo>
                    <a:pt x="3988" y="92"/>
                  </a:lnTo>
                  <a:lnTo>
                    <a:pt x="3988" y="84"/>
                  </a:lnTo>
                  <a:lnTo>
                    <a:pt x="3970" y="90"/>
                  </a:lnTo>
                  <a:lnTo>
                    <a:pt x="3980" y="80"/>
                  </a:lnTo>
                  <a:lnTo>
                    <a:pt x="3958" y="90"/>
                  </a:lnTo>
                  <a:lnTo>
                    <a:pt x="3950" y="74"/>
                  </a:lnTo>
                  <a:lnTo>
                    <a:pt x="3940" y="72"/>
                  </a:lnTo>
                  <a:lnTo>
                    <a:pt x="3932" y="74"/>
                  </a:lnTo>
                  <a:lnTo>
                    <a:pt x="3968" y="60"/>
                  </a:lnTo>
                  <a:lnTo>
                    <a:pt x="3972" y="66"/>
                  </a:lnTo>
                  <a:lnTo>
                    <a:pt x="3996" y="62"/>
                  </a:lnTo>
                  <a:lnTo>
                    <a:pt x="4040" y="54"/>
                  </a:lnTo>
                  <a:lnTo>
                    <a:pt x="4050" y="48"/>
                  </a:lnTo>
                  <a:lnTo>
                    <a:pt x="4060" y="40"/>
                  </a:lnTo>
                  <a:lnTo>
                    <a:pt x="4058" y="34"/>
                  </a:lnTo>
                  <a:lnTo>
                    <a:pt x="4026" y="32"/>
                  </a:lnTo>
                  <a:lnTo>
                    <a:pt x="4028" y="30"/>
                  </a:lnTo>
                  <a:lnTo>
                    <a:pt x="4042" y="20"/>
                  </a:lnTo>
                  <a:lnTo>
                    <a:pt x="4036" y="14"/>
                  </a:lnTo>
                  <a:lnTo>
                    <a:pt x="4022" y="16"/>
                  </a:lnTo>
                  <a:lnTo>
                    <a:pt x="4018" y="10"/>
                  </a:lnTo>
                  <a:lnTo>
                    <a:pt x="4020" y="0"/>
                  </a:lnTo>
                  <a:lnTo>
                    <a:pt x="4006" y="2"/>
                  </a:lnTo>
                  <a:lnTo>
                    <a:pt x="3996" y="8"/>
                  </a:lnTo>
                  <a:lnTo>
                    <a:pt x="3978" y="12"/>
                  </a:lnTo>
                  <a:lnTo>
                    <a:pt x="3966" y="18"/>
                  </a:lnTo>
                  <a:lnTo>
                    <a:pt x="3966" y="16"/>
                  </a:lnTo>
                  <a:lnTo>
                    <a:pt x="3954" y="24"/>
                  </a:lnTo>
                  <a:lnTo>
                    <a:pt x="3944" y="26"/>
                  </a:lnTo>
                  <a:lnTo>
                    <a:pt x="3940" y="24"/>
                  </a:lnTo>
                  <a:lnTo>
                    <a:pt x="3934" y="24"/>
                  </a:lnTo>
                  <a:lnTo>
                    <a:pt x="3924" y="28"/>
                  </a:lnTo>
                  <a:lnTo>
                    <a:pt x="3906" y="32"/>
                  </a:lnTo>
                  <a:lnTo>
                    <a:pt x="3880" y="42"/>
                  </a:lnTo>
                  <a:lnTo>
                    <a:pt x="3810" y="56"/>
                  </a:lnTo>
                  <a:lnTo>
                    <a:pt x="3778" y="52"/>
                  </a:lnTo>
                  <a:lnTo>
                    <a:pt x="3774" y="56"/>
                  </a:lnTo>
                  <a:lnTo>
                    <a:pt x="3732" y="54"/>
                  </a:lnTo>
                  <a:lnTo>
                    <a:pt x="3712" y="46"/>
                  </a:lnTo>
                  <a:lnTo>
                    <a:pt x="3710" y="52"/>
                  </a:lnTo>
                  <a:lnTo>
                    <a:pt x="3690" y="54"/>
                  </a:lnTo>
                  <a:lnTo>
                    <a:pt x="3678" y="64"/>
                  </a:lnTo>
                  <a:lnTo>
                    <a:pt x="3670" y="52"/>
                  </a:lnTo>
                  <a:lnTo>
                    <a:pt x="3694" y="46"/>
                  </a:lnTo>
                  <a:lnTo>
                    <a:pt x="3710" y="38"/>
                  </a:lnTo>
                  <a:lnTo>
                    <a:pt x="3734" y="38"/>
                  </a:lnTo>
                  <a:lnTo>
                    <a:pt x="3746" y="34"/>
                  </a:lnTo>
                  <a:lnTo>
                    <a:pt x="3708" y="36"/>
                  </a:lnTo>
                  <a:lnTo>
                    <a:pt x="3680" y="38"/>
                  </a:lnTo>
                  <a:lnTo>
                    <a:pt x="3646" y="46"/>
                  </a:lnTo>
                  <a:lnTo>
                    <a:pt x="3628" y="52"/>
                  </a:lnTo>
                  <a:lnTo>
                    <a:pt x="3622" y="56"/>
                  </a:lnTo>
                  <a:lnTo>
                    <a:pt x="3608" y="56"/>
                  </a:lnTo>
                  <a:lnTo>
                    <a:pt x="3606" y="62"/>
                  </a:lnTo>
                  <a:lnTo>
                    <a:pt x="3612" y="66"/>
                  </a:lnTo>
                  <a:lnTo>
                    <a:pt x="3602" y="78"/>
                  </a:lnTo>
                  <a:lnTo>
                    <a:pt x="3606" y="82"/>
                  </a:lnTo>
                  <a:lnTo>
                    <a:pt x="3622" y="84"/>
                  </a:lnTo>
                  <a:lnTo>
                    <a:pt x="3596" y="84"/>
                  </a:lnTo>
                  <a:lnTo>
                    <a:pt x="3586" y="82"/>
                  </a:lnTo>
                  <a:lnTo>
                    <a:pt x="3568" y="92"/>
                  </a:lnTo>
                  <a:lnTo>
                    <a:pt x="3560" y="98"/>
                  </a:lnTo>
                  <a:lnTo>
                    <a:pt x="3544" y="108"/>
                  </a:lnTo>
                  <a:lnTo>
                    <a:pt x="3526" y="114"/>
                  </a:lnTo>
                  <a:lnTo>
                    <a:pt x="3528" y="108"/>
                  </a:lnTo>
                  <a:lnTo>
                    <a:pt x="3546" y="96"/>
                  </a:lnTo>
                  <a:lnTo>
                    <a:pt x="3526" y="100"/>
                  </a:lnTo>
                  <a:lnTo>
                    <a:pt x="3548" y="92"/>
                  </a:lnTo>
                  <a:lnTo>
                    <a:pt x="3564" y="82"/>
                  </a:lnTo>
                  <a:lnTo>
                    <a:pt x="3580" y="78"/>
                  </a:lnTo>
                  <a:lnTo>
                    <a:pt x="3590" y="70"/>
                  </a:lnTo>
                  <a:lnTo>
                    <a:pt x="3582" y="64"/>
                  </a:lnTo>
                  <a:lnTo>
                    <a:pt x="3516" y="76"/>
                  </a:lnTo>
                  <a:lnTo>
                    <a:pt x="3510" y="78"/>
                  </a:lnTo>
                  <a:lnTo>
                    <a:pt x="3536" y="76"/>
                  </a:lnTo>
                  <a:lnTo>
                    <a:pt x="3508" y="84"/>
                  </a:lnTo>
                  <a:lnTo>
                    <a:pt x="3410" y="98"/>
                  </a:lnTo>
                  <a:lnTo>
                    <a:pt x="3382" y="96"/>
                  </a:lnTo>
                  <a:lnTo>
                    <a:pt x="3348" y="106"/>
                  </a:lnTo>
                  <a:lnTo>
                    <a:pt x="3368" y="98"/>
                  </a:lnTo>
                  <a:lnTo>
                    <a:pt x="3380" y="90"/>
                  </a:lnTo>
                  <a:lnTo>
                    <a:pt x="3394" y="88"/>
                  </a:lnTo>
                  <a:lnTo>
                    <a:pt x="3384" y="84"/>
                  </a:lnTo>
                  <a:lnTo>
                    <a:pt x="3332" y="102"/>
                  </a:lnTo>
                  <a:lnTo>
                    <a:pt x="3314" y="112"/>
                  </a:lnTo>
                  <a:lnTo>
                    <a:pt x="3314" y="130"/>
                  </a:lnTo>
                  <a:lnTo>
                    <a:pt x="3322" y="138"/>
                  </a:lnTo>
                  <a:lnTo>
                    <a:pt x="3314" y="142"/>
                  </a:lnTo>
                  <a:lnTo>
                    <a:pt x="3296" y="124"/>
                  </a:lnTo>
                  <a:lnTo>
                    <a:pt x="3300" y="118"/>
                  </a:lnTo>
                  <a:lnTo>
                    <a:pt x="3290" y="114"/>
                  </a:lnTo>
                  <a:lnTo>
                    <a:pt x="3270" y="122"/>
                  </a:lnTo>
                  <a:lnTo>
                    <a:pt x="3202" y="140"/>
                  </a:lnTo>
                  <a:lnTo>
                    <a:pt x="3208" y="146"/>
                  </a:lnTo>
                  <a:lnTo>
                    <a:pt x="3238" y="152"/>
                  </a:lnTo>
                  <a:lnTo>
                    <a:pt x="3230" y="154"/>
                  </a:lnTo>
                  <a:lnTo>
                    <a:pt x="3192" y="148"/>
                  </a:lnTo>
                  <a:lnTo>
                    <a:pt x="3178" y="148"/>
                  </a:lnTo>
                  <a:lnTo>
                    <a:pt x="3172" y="150"/>
                  </a:lnTo>
                  <a:lnTo>
                    <a:pt x="3168" y="166"/>
                  </a:lnTo>
                  <a:lnTo>
                    <a:pt x="3174" y="174"/>
                  </a:lnTo>
                  <a:lnTo>
                    <a:pt x="3162" y="178"/>
                  </a:lnTo>
                  <a:lnTo>
                    <a:pt x="3158" y="160"/>
                  </a:lnTo>
                  <a:lnTo>
                    <a:pt x="3144" y="168"/>
                  </a:lnTo>
                  <a:lnTo>
                    <a:pt x="3088" y="194"/>
                  </a:lnTo>
                  <a:lnTo>
                    <a:pt x="3078" y="198"/>
                  </a:lnTo>
                  <a:lnTo>
                    <a:pt x="3102" y="182"/>
                  </a:lnTo>
                  <a:lnTo>
                    <a:pt x="3056" y="204"/>
                  </a:lnTo>
                  <a:lnTo>
                    <a:pt x="3004" y="222"/>
                  </a:lnTo>
                  <a:lnTo>
                    <a:pt x="2934" y="238"/>
                  </a:lnTo>
                  <a:lnTo>
                    <a:pt x="2870" y="238"/>
                  </a:lnTo>
                  <a:lnTo>
                    <a:pt x="2816" y="234"/>
                  </a:lnTo>
                  <a:lnTo>
                    <a:pt x="2764" y="236"/>
                  </a:lnTo>
                  <a:lnTo>
                    <a:pt x="2752" y="232"/>
                  </a:lnTo>
                  <a:lnTo>
                    <a:pt x="2770" y="230"/>
                  </a:lnTo>
                  <a:lnTo>
                    <a:pt x="2774" y="226"/>
                  </a:lnTo>
                  <a:lnTo>
                    <a:pt x="2740" y="222"/>
                  </a:lnTo>
                  <a:lnTo>
                    <a:pt x="2738" y="224"/>
                  </a:lnTo>
                  <a:lnTo>
                    <a:pt x="2732" y="230"/>
                  </a:lnTo>
                  <a:lnTo>
                    <a:pt x="2704" y="244"/>
                  </a:lnTo>
                  <a:lnTo>
                    <a:pt x="2678" y="260"/>
                  </a:lnTo>
                  <a:lnTo>
                    <a:pt x="2646" y="276"/>
                  </a:lnTo>
                  <a:lnTo>
                    <a:pt x="2650" y="278"/>
                  </a:lnTo>
                  <a:lnTo>
                    <a:pt x="2662" y="276"/>
                  </a:lnTo>
                  <a:lnTo>
                    <a:pt x="2642" y="282"/>
                  </a:lnTo>
                  <a:lnTo>
                    <a:pt x="2614" y="284"/>
                  </a:lnTo>
                  <a:lnTo>
                    <a:pt x="2598" y="290"/>
                  </a:lnTo>
                  <a:lnTo>
                    <a:pt x="2590" y="288"/>
                  </a:lnTo>
                  <a:lnTo>
                    <a:pt x="2610" y="284"/>
                  </a:lnTo>
                  <a:lnTo>
                    <a:pt x="2628" y="276"/>
                  </a:lnTo>
                  <a:lnTo>
                    <a:pt x="2622" y="278"/>
                  </a:lnTo>
                  <a:lnTo>
                    <a:pt x="2586" y="282"/>
                  </a:lnTo>
                  <a:lnTo>
                    <a:pt x="2572" y="288"/>
                  </a:lnTo>
                  <a:lnTo>
                    <a:pt x="2596" y="310"/>
                  </a:lnTo>
                  <a:lnTo>
                    <a:pt x="2592" y="322"/>
                  </a:lnTo>
                  <a:lnTo>
                    <a:pt x="2584" y="334"/>
                  </a:lnTo>
                  <a:lnTo>
                    <a:pt x="2594" y="352"/>
                  </a:lnTo>
                  <a:lnTo>
                    <a:pt x="2606" y="358"/>
                  </a:lnTo>
                  <a:lnTo>
                    <a:pt x="2602" y="394"/>
                  </a:lnTo>
                  <a:lnTo>
                    <a:pt x="2612" y="416"/>
                  </a:lnTo>
                  <a:lnTo>
                    <a:pt x="2608" y="434"/>
                  </a:lnTo>
                  <a:lnTo>
                    <a:pt x="2600" y="438"/>
                  </a:lnTo>
                  <a:lnTo>
                    <a:pt x="2600" y="448"/>
                  </a:lnTo>
                  <a:lnTo>
                    <a:pt x="2592" y="458"/>
                  </a:lnTo>
                  <a:lnTo>
                    <a:pt x="2576" y="472"/>
                  </a:lnTo>
                  <a:lnTo>
                    <a:pt x="2574" y="478"/>
                  </a:lnTo>
                  <a:lnTo>
                    <a:pt x="2568" y="480"/>
                  </a:lnTo>
                  <a:lnTo>
                    <a:pt x="2550" y="492"/>
                  </a:lnTo>
                  <a:lnTo>
                    <a:pt x="2532" y="508"/>
                  </a:lnTo>
                  <a:lnTo>
                    <a:pt x="2546" y="516"/>
                  </a:lnTo>
                  <a:lnTo>
                    <a:pt x="2550" y="524"/>
                  </a:lnTo>
                  <a:lnTo>
                    <a:pt x="2566" y="540"/>
                  </a:lnTo>
                  <a:lnTo>
                    <a:pt x="2570" y="534"/>
                  </a:lnTo>
                  <a:lnTo>
                    <a:pt x="2584" y="530"/>
                  </a:lnTo>
                  <a:lnTo>
                    <a:pt x="2598" y="524"/>
                  </a:lnTo>
                  <a:lnTo>
                    <a:pt x="2616" y="528"/>
                  </a:lnTo>
                  <a:lnTo>
                    <a:pt x="2624" y="524"/>
                  </a:lnTo>
                  <a:lnTo>
                    <a:pt x="2630" y="518"/>
                  </a:lnTo>
                  <a:lnTo>
                    <a:pt x="2642" y="518"/>
                  </a:lnTo>
                  <a:lnTo>
                    <a:pt x="2648" y="520"/>
                  </a:lnTo>
                  <a:lnTo>
                    <a:pt x="2592" y="540"/>
                  </a:lnTo>
                  <a:lnTo>
                    <a:pt x="2590" y="546"/>
                  </a:lnTo>
                  <a:lnTo>
                    <a:pt x="2616" y="542"/>
                  </a:lnTo>
                  <a:lnTo>
                    <a:pt x="2646" y="540"/>
                  </a:lnTo>
                  <a:lnTo>
                    <a:pt x="2662" y="546"/>
                  </a:lnTo>
                  <a:lnTo>
                    <a:pt x="2668" y="550"/>
                  </a:lnTo>
                  <a:lnTo>
                    <a:pt x="2666" y="560"/>
                  </a:lnTo>
                  <a:lnTo>
                    <a:pt x="2654" y="564"/>
                  </a:lnTo>
                  <a:lnTo>
                    <a:pt x="2634" y="564"/>
                  </a:lnTo>
                  <a:lnTo>
                    <a:pt x="2596" y="582"/>
                  </a:lnTo>
                  <a:lnTo>
                    <a:pt x="2582" y="606"/>
                  </a:lnTo>
                  <a:lnTo>
                    <a:pt x="2588" y="622"/>
                  </a:lnTo>
                  <a:lnTo>
                    <a:pt x="2600" y="618"/>
                  </a:lnTo>
                  <a:lnTo>
                    <a:pt x="2618" y="606"/>
                  </a:lnTo>
                  <a:lnTo>
                    <a:pt x="2630" y="602"/>
                  </a:lnTo>
                  <a:lnTo>
                    <a:pt x="2612" y="612"/>
                  </a:lnTo>
                  <a:lnTo>
                    <a:pt x="2614" y="614"/>
                  </a:lnTo>
                  <a:lnTo>
                    <a:pt x="2626" y="610"/>
                  </a:lnTo>
                  <a:lnTo>
                    <a:pt x="2652" y="612"/>
                  </a:lnTo>
                  <a:lnTo>
                    <a:pt x="2658" y="628"/>
                  </a:lnTo>
                  <a:lnTo>
                    <a:pt x="2682" y="628"/>
                  </a:lnTo>
                  <a:lnTo>
                    <a:pt x="2710" y="620"/>
                  </a:lnTo>
                  <a:lnTo>
                    <a:pt x="2720" y="624"/>
                  </a:lnTo>
                  <a:lnTo>
                    <a:pt x="2740" y="620"/>
                  </a:lnTo>
                  <a:lnTo>
                    <a:pt x="2760" y="626"/>
                  </a:lnTo>
                  <a:lnTo>
                    <a:pt x="2744" y="630"/>
                  </a:lnTo>
                  <a:lnTo>
                    <a:pt x="2696" y="634"/>
                  </a:lnTo>
                  <a:lnTo>
                    <a:pt x="2674" y="642"/>
                  </a:lnTo>
                  <a:lnTo>
                    <a:pt x="2678" y="646"/>
                  </a:lnTo>
                  <a:lnTo>
                    <a:pt x="2690" y="640"/>
                  </a:lnTo>
                  <a:lnTo>
                    <a:pt x="2736" y="638"/>
                  </a:lnTo>
                  <a:lnTo>
                    <a:pt x="2740" y="644"/>
                  </a:lnTo>
                  <a:lnTo>
                    <a:pt x="2728" y="652"/>
                  </a:lnTo>
                  <a:lnTo>
                    <a:pt x="2706" y="656"/>
                  </a:lnTo>
                  <a:lnTo>
                    <a:pt x="2672" y="652"/>
                  </a:lnTo>
                  <a:lnTo>
                    <a:pt x="2654" y="654"/>
                  </a:lnTo>
                  <a:lnTo>
                    <a:pt x="2638" y="660"/>
                  </a:lnTo>
                  <a:lnTo>
                    <a:pt x="2604" y="658"/>
                  </a:lnTo>
                  <a:lnTo>
                    <a:pt x="2598" y="654"/>
                  </a:lnTo>
                  <a:lnTo>
                    <a:pt x="2602" y="646"/>
                  </a:lnTo>
                  <a:lnTo>
                    <a:pt x="2598" y="640"/>
                  </a:lnTo>
                  <a:lnTo>
                    <a:pt x="2598" y="636"/>
                  </a:lnTo>
                  <a:lnTo>
                    <a:pt x="2592" y="632"/>
                  </a:lnTo>
                  <a:lnTo>
                    <a:pt x="2598" y="626"/>
                  </a:lnTo>
                  <a:lnTo>
                    <a:pt x="2590" y="626"/>
                  </a:lnTo>
                  <a:lnTo>
                    <a:pt x="2570" y="630"/>
                  </a:lnTo>
                  <a:lnTo>
                    <a:pt x="2544" y="626"/>
                  </a:lnTo>
                  <a:lnTo>
                    <a:pt x="2544" y="614"/>
                  </a:lnTo>
                  <a:lnTo>
                    <a:pt x="2560" y="592"/>
                  </a:lnTo>
                  <a:lnTo>
                    <a:pt x="2542" y="612"/>
                  </a:lnTo>
                  <a:lnTo>
                    <a:pt x="2532" y="624"/>
                  </a:lnTo>
                  <a:lnTo>
                    <a:pt x="2508" y="634"/>
                  </a:lnTo>
                  <a:lnTo>
                    <a:pt x="2490" y="646"/>
                  </a:lnTo>
                  <a:lnTo>
                    <a:pt x="2496" y="652"/>
                  </a:lnTo>
                  <a:lnTo>
                    <a:pt x="2502" y="646"/>
                  </a:lnTo>
                  <a:lnTo>
                    <a:pt x="2526" y="636"/>
                  </a:lnTo>
                  <a:lnTo>
                    <a:pt x="2542" y="640"/>
                  </a:lnTo>
                  <a:lnTo>
                    <a:pt x="2566" y="656"/>
                  </a:lnTo>
                  <a:lnTo>
                    <a:pt x="2562" y="666"/>
                  </a:lnTo>
                  <a:lnTo>
                    <a:pt x="2548" y="676"/>
                  </a:lnTo>
                  <a:lnTo>
                    <a:pt x="2518" y="684"/>
                  </a:lnTo>
                  <a:lnTo>
                    <a:pt x="2528" y="678"/>
                  </a:lnTo>
                  <a:lnTo>
                    <a:pt x="2536" y="670"/>
                  </a:lnTo>
                  <a:lnTo>
                    <a:pt x="2518" y="658"/>
                  </a:lnTo>
                  <a:lnTo>
                    <a:pt x="2468" y="680"/>
                  </a:lnTo>
                  <a:lnTo>
                    <a:pt x="2448" y="688"/>
                  </a:lnTo>
                  <a:lnTo>
                    <a:pt x="2436" y="696"/>
                  </a:lnTo>
                  <a:lnTo>
                    <a:pt x="2424" y="700"/>
                  </a:lnTo>
                  <a:lnTo>
                    <a:pt x="2418" y="694"/>
                  </a:lnTo>
                  <a:lnTo>
                    <a:pt x="2426" y="688"/>
                  </a:lnTo>
                  <a:lnTo>
                    <a:pt x="2426" y="680"/>
                  </a:lnTo>
                  <a:lnTo>
                    <a:pt x="2410" y="678"/>
                  </a:lnTo>
                  <a:lnTo>
                    <a:pt x="2404" y="682"/>
                  </a:lnTo>
                  <a:lnTo>
                    <a:pt x="2402" y="676"/>
                  </a:lnTo>
                  <a:lnTo>
                    <a:pt x="2380" y="676"/>
                  </a:lnTo>
                  <a:lnTo>
                    <a:pt x="2384" y="670"/>
                  </a:lnTo>
                  <a:lnTo>
                    <a:pt x="2372" y="672"/>
                  </a:lnTo>
                  <a:lnTo>
                    <a:pt x="2382" y="666"/>
                  </a:lnTo>
                  <a:lnTo>
                    <a:pt x="2370" y="666"/>
                  </a:lnTo>
                  <a:lnTo>
                    <a:pt x="2354" y="672"/>
                  </a:lnTo>
                  <a:lnTo>
                    <a:pt x="2352" y="668"/>
                  </a:lnTo>
                  <a:lnTo>
                    <a:pt x="2338" y="662"/>
                  </a:lnTo>
                  <a:lnTo>
                    <a:pt x="2302" y="658"/>
                  </a:lnTo>
                  <a:lnTo>
                    <a:pt x="2300" y="648"/>
                  </a:lnTo>
                  <a:lnTo>
                    <a:pt x="2316" y="638"/>
                  </a:lnTo>
                  <a:lnTo>
                    <a:pt x="2298" y="632"/>
                  </a:lnTo>
                  <a:lnTo>
                    <a:pt x="2342" y="622"/>
                  </a:lnTo>
                  <a:lnTo>
                    <a:pt x="2358" y="610"/>
                  </a:lnTo>
                  <a:lnTo>
                    <a:pt x="2382" y="598"/>
                  </a:lnTo>
                  <a:lnTo>
                    <a:pt x="2394" y="588"/>
                  </a:lnTo>
                  <a:lnTo>
                    <a:pt x="2388" y="580"/>
                  </a:lnTo>
                  <a:lnTo>
                    <a:pt x="2398" y="578"/>
                  </a:lnTo>
                  <a:lnTo>
                    <a:pt x="2422" y="580"/>
                  </a:lnTo>
                  <a:lnTo>
                    <a:pt x="2398" y="574"/>
                  </a:lnTo>
                  <a:lnTo>
                    <a:pt x="2376" y="574"/>
                  </a:lnTo>
                  <a:lnTo>
                    <a:pt x="2336" y="568"/>
                  </a:lnTo>
                  <a:lnTo>
                    <a:pt x="2282" y="584"/>
                  </a:lnTo>
                  <a:lnTo>
                    <a:pt x="2260" y="582"/>
                  </a:lnTo>
                  <a:lnTo>
                    <a:pt x="2244" y="586"/>
                  </a:lnTo>
                  <a:lnTo>
                    <a:pt x="2242" y="582"/>
                  </a:lnTo>
                  <a:lnTo>
                    <a:pt x="2208" y="590"/>
                  </a:lnTo>
                  <a:lnTo>
                    <a:pt x="2174" y="598"/>
                  </a:lnTo>
                  <a:lnTo>
                    <a:pt x="2176" y="608"/>
                  </a:lnTo>
                  <a:lnTo>
                    <a:pt x="2168" y="620"/>
                  </a:lnTo>
                  <a:lnTo>
                    <a:pt x="2158" y="622"/>
                  </a:lnTo>
                  <a:lnTo>
                    <a:pt x="2124" y="618"/>
                  </a:lnTo>
                  <a:lnTo>
                    <a:pt x="2124" y="612"/>
                  </a:lnTo>
                  <a:lnTo>
                    <a:pt x="2132" y="606"/>
                  </a:lnTo>
                  <a:lnTo>
                    <a:pt x="2114" y="606"/>
                  </a:lnTo>
                  <a:lnTo>
                    <a:pt x="2056" y="618"/>
                  </a:lnTo>
                  <a:lnTo>
                    <a:pt x="2032" y="626"/>
                  </a:lnTo>
                  <a:lnTo>
                    <a:pt x="2032" y="622"/>
                  </a:lnTo>
                  <a:lnTo>
                    <a:pt x="2020" y="628"/>
                  </a:lnTo>
                  <a:lnTo>
                    <a:pt x="1998" y="636"/>
                  </a:lnTo>
                  <a:lnTo>
                    <a:pt x="1974" y="638"/>
                  </a:lnTo>
                  <a:lnTo>
                    <a:pt x="1978" y="630"/>
                  </a:lnTo>
                  <a:lnTo>
                    <a:pt x="1952" y="634"/>
                  </a:lnTo>
                  <a:lnTo>
                    <a:pt x="1936" y="642"/>
                  </a:lnTo>
                  <a:lnTo>
                    <a:pt x="1928" y="646"/>
                  </a:lnTo>
                  <a:lnTo>
                    <a:pt x="1926" y="650"/>
                  </a:lnTo>
                  <a:lnTo>
                    <a:pt x="1872" y="658"/>
                  </a:lnTo>
                  <a:lnTo>
                    <a:pt x="1862" y="656"/>
                  </a:lnTo>
                  <a:lnTo>
                    <a:pt x="1894" y="644"/>
                  </a:lnTo>
                  <a:lnTo>
                    <a:pt x="1866" y="648"/>
                  </a:lnTo>
                  <a:lnTo>
                    <a:pt x="1850" y="658"/>
                  </a:lnTo>
                  <a:lnTo>
                    <a:pt x="1848" y="666"/>
                  </a:lnTo>
                  <a:lnTo>
                    <a:pt x="1858" y="702"/>
                  </a:lnTo>
                  <a:lnTo>
                    <a:pt x="1884" y="720"/>
                  </a:lnTo>
                  <a:lnTo>
                    <a:pt x="1890" y="720"/>
                  </a:lnTo>
                  <a:lnTo>
                    <a:pt x="1894" y="712"/>
                  </a:lnTo>
                  <a:lnTo>
                    <a:pt x="1928" y="734"/>
                  </a:lnTo>
                  <a:lnTo>
                    <a:pt x="1892" y="738"/>
                  </a:lnTo>
                  <a:lnTo>
                    <a:pt x="1858" y="750"/>
                  </a:lnTo>
                  <a:lnTo>
                    <a:pt x="1850" y="744"/>
                  </a:lnTo>
                  <a:lnTo>
                    <a:pt x="1866" y="734"/>
                  </a:lnTo>
                  <a:lnTo>
                    <a:pt x="1870" y="728"/>
                  </a:lnTo>
                  <a:lnTo>
                    <a:pt x="1850" y="738"/>
                  </a:lnTo>
                  <a:lnTo>
                    <a:pt x="1826" y="768"/>
                  </a:lnTo>
                  <a:lnTo>
                    <a:pt x="1820" y="784"/>
                  </a:lnTo>
                  <a:lnTo>
                    <a:pt x="1802" y="798"/>
                  </a:lnTo>
                  <a:lnTo>
                    <a:pt x="1776" y="812"/>
                  </a:lnTo>
                  <a:lnTo>
                    <a:pt x="1768" y="830"/>
                  </a:lnTo>
                  <a:lnTo>
                    <a:pt x="1772" y="834"/>
                  </a:lnTo>
                  <a:lnTo>
                    <a:pt x="1768" y="840"/>
                  </a:lnTo>
                  <a:lnTo>
                    <a:pt x="1816" y="860"/>
                  </a:lnTo>
                  <a:lnTo>
                    <a:pt x="1832" y="862"/>
                  </a:lnTo>
                  <a:lnTo>
                    <a:pt x="1844" y="878"/>
                  </a:lnTo>
                  <a:lnTo>
                    <a:pt x="1918" y="868"/>
                  </a:lnTo>
                  <a:lnTo>
                    <a:pt x="1942" y="878"/>
                  </a:lnTo>
                  <a:lnTo>
                    <a:pt x="1974" y="878"/>
                  </a:lnTo>
                  <a:lnTo>
                    <a:pt x="1984" y="890"/>
                  </a:lnTo>
                  <a:lnTo>
                    <a:pt x="1978" y="910"/>
                  </a:lnTo>
                  <a:lnTo>
                    <a:pt x="1990" y="906"/>
                  </a:lnTo>
                  <a:lnTo>
                    <a:pt x="2008" y="894"/>
                  </a:lnTo>
                  <a:lnTo>
                    <a:pt x="1998" y="890"/>
                  </a:lnTo>
                  <a:lnTo>
                    <a:pt x="1998" y="880"/>
                  </a:lnTo>
                  <a:lnTo>
                    <a:pt x="2004" y="874"/>
                  </a:lnTo>
                  <a:lnTo>
                    <a:pt x="2028" y="876"/>
                  </a:lnTo>
                  <a:lnTo>
                    <a:pt x="2020" y="888"/>
                  </a:lnTo>
                  <a:lnTo>
                    <a:pt x="2022" y="898"/>
                  </a:lnTo>
                  <a:lnTo>
                    <a:pt x="1980" y="932"/>
                  </a:lnTo>
                  <a:lnTo>
                    <a:pt x="1986" y="934"/>
                  </a:lnTo>
                  <a:lnTo>
                    <a:pt x="2022" y="916"/>
                  </a:lnTo>
                  <a:lnTo>
                    <a:pt x="2060" y="902"/>
                  </a:lnTo>
                  <a:lnTo>
                    <a:pt x="2098" y="892"/>
                  </a:lnTo>
                  <a:lnTo>
                    <a:pt x="2122" y="882"/>
                  </a:lnTo>
                  <a:lnTo>
                    <a:pt x="2168" y="878"/>
                  </a:lnTo>
                  <a:lnTo>
                    <a:pt x="2178" y="868"/>
                  </a:lnTo>
                  <a:lnTo>
                    <a:pt x="2192" y="880"/>
                  </a:lnTo>
                  <a:lnTo>
                    <a:pt x="2202" y="880"/>
                  </a:lnTo>
                  <a:lnTo>
                    <a:pt x="2224" y="872"/>
                  </a:lnTo>
                  <a:lnTo>
                    <a:pt x="2254" y="866"/>
                  </a:lnTo>
                  <a:lnTo>
                    <a:pt x="2248" y="886"/>
                  </a:lnTo>
                  <a:lnTo>
                    <a:pt x="2250" y="890"/>
                  </a:lnTo>
                  <a:lnTo>
                    <a:pt x="2228" y="906"/>
                  </a:lnTo>
                  <a:lnTo>
                    <a:pt x="2204" y="916"/>
                  </a:lnTo>
                  <a:lnTo>
                    <a:pt x="2180" y="926"/>
                  </a:lnTo>
                  <a:lnTo>
                    <a:pt x="2154" y="928"/>
                  </a:lnTo>
                  <a:lnTo>
                    <a:pt x="2150" y="920"/>
                  </a:lnTo>
                  <a:lnTo>
                    <a:pt x="2136" y="918"/>
                  </a:lnTo>
                  <a:lnTo>
                    <a:pt x="2118" y="930"/>
                  </a:lnTo>
                  <a:lnTo>
                    <a:pt x="2108" y="938"/>
                  </a:lnTo>
                  <a:lnTo>
                    <a:pt x="2126" y="934"/>
                  </a:lnTo>
                  <a:lnTo>
                    <a:pt x="2132" y="942"/>
                  </a:lnTo>
                  <a:lnTo>
                    <a:pt x="2118" y="958"/>
                  </a:lnTo>
                  <a:lnTo>
                    <a:pt x="2100" y="984"/>
                  </a:lnTo>
                  <a:lnTo>
                    <a:pt x="2086" y="994"/>
                  </a:lnTo>
                  <a:lnTo>
                    <a:pt x="2074" y="998"/>
                  </a:lnTo>
                  <a:lnTo>
                    <a:pt x="2076" y="1006"/>
                  </a:lnTo>
                  <a:lnTo>
                    <a:pt x="2066" y="1016"/>
                  </a:lnTo>
                  <a:lnTo>
                    <a:pt x="2056" y="1024"/>
                  </a:lnTo>
                  <a:lnTo>
                    <a:pt x="2030" y="1040"/>
                  </a:lnTo>
                  <a:lnTo>
                    <a:pt x="1988" y="1058"/>
                  </a:lnTo>
                  <a:lnTo>
                    <a:pt x="1960" y="1068"/>
                  </a:lnTo>
                  <a:lnTo>
                    <a:pt x="1936" y="1076"/>
                  </a:lnTo>
                  <a:lnTo>
                    <a:pt x="1918" y="1076"/>
                  </a:lnTo>
                  <a:lnTo>
                    <a:pt x="1902" y="1074"/>
                  </a:lnTo>
                  <a:lnTo>
                    <a:pt x="1884" y="1076"/>
                  </a:lnTo>
                  <a:lnTo>
                    <a:pt x="1872" y="1072"/>
                  </a:lnTo>
                  <a:lnTo>
                    <a:pt x="1834" y="1074"/>
                  </a:lnTo>
                  <a:lnTo>
                    <a:pt x="1828" y="1074"/>
                  </a:lnTo>
                  <a:lnTo>
                    <a:pt x="1864" y="1064"/>
                  </a:lnTo>
                  <a:lnTo>
                    <a:pt x="1866" y="1060"/>
                  </a:lnTo>
                  <a:lnTo>
                    <a:pt x="1850" y="1058"/>
                  </a:lnTo>
                  <a:lnTo>
                    <a:pt x="1838" y="1062"/>
                  </a:lnTo>
                  <a:lnTo>
                    <a:pt x="1808" y="1074"/>
                  </a:lnTo>
                  <a:lnTo>
                    <a:pt x="1774" y="1088"/>
                  </a:lnTo>
                  <a:lnTo>
                    <a:pt x="1720" y="1102"/>
                  </a:lnTo>
                  <a:lnTo>
                    <a:pt x="1696" y="1110"/>
                  </a:lnTo>
                  <a:lnTo>
                    <a:pt x="1678" y="1112"/>
                  </a:lnTo>
                  <a:lnTo>
                    <a:pt x="1668" y="1106"/>
                  </a:lnTo>
                  <a:lnTo>
                    <a:pt x="1666" y="1098"/>
                  </a:lnTo>
                  <a:lnTo>
                    <a:pt x="1622" y="1110"/>
                  </a:lnTo>
                  <a:lnTo>
                    <a:pt x="1584" y="1112"/>
                  </a:lnTo>
                  <a:lnTo>
                    <a:pt x="1568" y="1118"/>
                  </a:lnTo>
                  <a:lnTo>
                    <a:pt x="1560" y="1124"/>
                  </a:lnTo>
                  <a:lnTo>
                    <a:pt x="1556" y="1128"/>
                  </a:lnTo>
                  <a:lnTo>
                    <a:pt x="1544" y="1140"/>
                  </a:lnTo>
                  <a:lnTo>
                    <a:pt x="1530" y="1146"/>
                  </a:lnTo>
                  <a:lnTo>
                    <a:pt x="1510" y="1136"/>
                  </a:lnTo>
                  <a:lnTo>
                    <a:pt x="1488" y="1136"/>
                  </a:lnTo>
                  <a:lnTo>
                    <a:pt x="1446" y="1150"/>
                  </a:lnTo>
                  <a:lnTo>
                    <a:pt x="1424" y="1160"/>
                  </a:lnTo>
                  <a:lnTo>
                    <a:pt x="1422" y="1154"/>
                  </a:lnTo>
                  <a:lnTo>
                    <a:pt x="1408" y="1156"/>
                  </a:lnTo>
                  <a:lnTo>
                    <a:pt x="1344" y="1178"/>
                  </a:lnTo>
                  <a:lnTo>
                    <a:pt x="1338" y="1178"/>
                  </a:lnTo>
                  <a:lnTo>
                    <a:pt x="1322" y="1182"/>
                  </a:lnTo>
                  <a:lnTo>
                    <a:pt x="1310" y="1190"/>
                  </a:lnTo>
                  <a:lnTo>
                    <a:pt x="1256" y="1216"/>
                  </a:lnTo>
                  <a:lnTo>
                    <a:pt x="1242" y="1222"/>
                  </a:lnTo>
                  <a:lnTo>
                    <a:pt x="1214" y="1246"/>
                  </a:lnTo>
                  <a:lnTo>
                    <a:pt x="1200" y="1252"/>
                  </a:lnTo>
                  <a:lnTo>
                    <a:pt x="1182" y="1252"/>
                  </a:lnTo>
                  <a:lnTo>
                    <a:pt x="1174" y="1248"/>
                  </a:lnTo>
                  <a:lnTo>
                    <a:pt x="1166" y="1250"/>
                  </a:lnTo>
                  <a:lnTo>
                    <a:pt x="1156" y="1256"/>
                  </a:lnTo>
                  <a:lnTo>
                    <a:pt x="1156" y="1272"/>
                  </a:lnTo>
                  <a:lnTo>
                    <a:pt x="1144" y="1276"/>
                  </a:lnTo>
                  <a:lnTo>
                    <a:pt x="1122" y="1276"/>
                  </a:lnTo>
                  <a:lnTo>
                    <a:pt x="1106" y="1284"/>
                  </a:lnTo>
                  <a:lnTo>
                    <a:pt x="1090" y="1294"/>
                  </a:lnTo>
                  <a:lnTo>
                    <a:pt x="1102" y="1292"/>
                  </a:lnTo>
                  <a:lnTo>
                    <a:pt x="1138" y="1294"/>
                  </a:lnTo>
                  <a:lnTo>
                    <a:pt x="1156" y="1292"/>
                  </a:lnTo>
                  <a:lnTo>
                    <a:pt x="1174" y="1286"/>
                  </a:lnTo>
                  <a:lnTo>
                    <a:pt x="1208" y="1288"/>
                  </a:lnTo>
                  <a:lnTo>
                    <a:pt x="1202" y="1294"/>
                  </a:lnTo>
                  <a:lnTo>
                    <a:pt x="1188" y="1294"/>
                  </a:lnTo>
                  <a:lnTo>
                    <a:pt x="1188" y="1300"/>
                  </a:lnTo>
                  <a:lnTo>
                    <a:pt x="1150" y="1298"/>
                  </a:lnTo>
                  <a:lnTo>
                    <a:pt x="1130" y="1302"/>
                  </a:lnTo>
                  <a:lnTo>
                    <a:pt x="1106" y="1310"/>
                  </a:lnTo>
                  <a:lnTo>
                    <a:pt x="1094" y="1316"/>
                  </a:lnTo>
                  <a:lnTo>
                    <a:pt x="1098" y="1332"/>
                  </a:lnTo>
                  <a:lnTo>
                    <a:pt x="1136" y="1324"/>
                  </a:lnTo>
                  <a:lnTo>
                    <a:pt x="1142" y="1326"/>
                  </a:lnTo>
                  <a:lnTo>
                    <a:pt x="1124" y="1334"/>
                  </a:lnTo>
                  <a:lnTo>
                    <a:pt x="1106" y="1344"/>
                  </a:lnTo>
                  <a:lnTo>
                    <a:pt x="1088" y="1360"/>
                  </a:lnTo>
                  <a:lnTo>
                    <a:pt x="1084" y="1368"/>
                  </a:lnTo>
                  <a:lnTo>
                    <a:pt x="1072" y="1378"/>
                  </a:lnTo>
                  <a:lnTo>
                    <a:pt x="1066" y="1388"/>
                  </a:lnTo>
                  <a:lnTo>
                    <a:pt x="1070" y="1394"/>
                  </a:lnTo>
                  <a:lnTo>
                    <a:pt x="1080" y="1392"/>
                  </a:lnTo>
                  <a:lnTo>
                    <a:pt x="1120" y="1376"/>
                  </a:lnTo>
                  <a:lnTo>
                    <a:pt x="1104" y="1390"/>
                  </a:lnTo>
                  <a:lnTo>
                    <a:pt x="1106" y="1392"/>
                  </a:lnTo>
                  <a:lnTo>
                    <a:pt x="1132" y="1394"/>
                  </a:lnTo>
                  <a:lnTo>
                    <a:pt x="1090" y="1412"/>
                  </a:lnTo>
                  <a:lnTo>
                    <a:pt x="1098" y="1422"/>
                  </a:lnTo>
                  <a:lnTo>
                    <a:pt x="1124" y="1434"/>
                  </a:lnTo>
                  <a:lnTo>
                    <a:pt x="1152" y="1432"/>
                  </a:lnTo>
                  <a:lnTo>
                    <a:pt x="1166" y="1434"/>
                  </a:lnTo>
                  <a:lnTo>
                    <a:pt x="1152" y="1448"/>
                  </a:lnTo>
                  <a:lnTo>
                    <a:pt x="1130" y="1458"/>
                  </a:lnTo>
                  <a:lnTo>
                    <a:pt x="1094" y="1460"/>
                  </a:lnTo>
                  <a:lnTo>
                    <a:pt x="1064" y="1474"/>
                  </a:lnTo>
                  <a:lnTo>
                    <a:pt x="1020" y="1490"/>
                  </a:lnTo>
                  <a:lnTo>
                    <a:pt x="994" y="1500"/>
                  </a:lnTo>
                  <a:lnTo>
                    <a:pt x="974" y="1512"/>
                  </a:lnTo>
                  <a:lnTo>
                    <a:pt x="958" y="1524"/>
                  </a:lnTo>
                  <a:lnTo>
                    <a:pt x="936" y="1552"/>
                  </a:lnTo>
                  <a:lnTo>
                    <a:pt x="940" y="1556"/>
                  </a:lnTo>
                  <a:lnTo>
                    <a:pt x="962" y="1552"/>
                  </a:lnTo>
                  <a:lnTo>
                    <a:pt x="978" y="1550"/>
                  </a:lnTo>
                  <a:lnTo>
                    <a:pt x="974" y="1558"/>
                  </a:lnTo>
                  <a:lnTo>
                    <a:pt x="962" y="1562"/>
                  </a:lnTo>
                  <a:lnTo>
                    <a:pt x="958" y="1566"/>
                  </a:lnTo>
                  <a:lnTo>
                    <a:pt x="980" y="1570"/>
                  </a:lnTo>
                  <a:lnTo>
                    <a:pt x="970" y="1572"/>
                  </a:lnTo>
                  <a:lnTo>
                    <a:pt x="948" y="1570"/>
                  </a:lnTo>
                  <a:lnTo>
                    <a:pt x="930" y="1574"/>
                  </a:lnTo>
                  <a:lnTo>
                    <a:pt x="924" y="1586"/>
                  </a:lnTo>
                  <a:lnTo>
                    <a:pt x="922" y="1606"/>
                  </a:lnTo>
                  <a:lnTo>
                    <a:pt x="932" y="1608"/>
                  </a:lnTo>
                  <a:lnTo>
                    <a:pt x="936" y="1612"/>
                  </a:lnTo>
                  <a:lnTo>
                    <a:pt x="944" y="1612"/>
                  </a:lnTo>
                  <a:lnTo>
                    <a:pt x="950" y="1618"/>
                  </a:lnTo>
                  <a:lnTo>
                    <a:pt x="960" y="1620"/>
                  </a:lnTo>
                  <a:lnTo>
                    <a:pt x="966" y="1626"/>
                  </a:lnTo>
                  <a:lnTo>
                    <a:pt x="978" y="1628"/>
                  </a:lnTo>
                  <a:lnTo>
                    <a:pt x="992" y="1620"/>
                  </a:lnTo>
                  <a:lnTo>
                    <a:pt x="1016" y="1614"/>
                  </a:lnTo>
                  <a:lnTo>
                    <a:pt x="1084" y="1586"/>
                  </a:lnTo>
                  <a:lnTo>
                    <a:pt x="1124" y="1564"/>
                  </a:lnTo>
                  <a:lnTo>
                    <a:pt x="1138" y="1562"/>
                  </a:lnTo>
                  <a:lnTo>
                    <a:pt x="1146" y="1556"/>
                  </a:lnTo>
                  <a:lnTo>
                    <a:pt x="1144" y="1546"/>
                  </a:lnTo>
                  <a:lnTo>
                    <a:pt x="1158" y="1530"/>
                  </a:lnTo>
                  <a:lnTo>
                    <a:pt x="1238" y="1496"/>
                  </a:lnTo>
                  <a:lnTo>
                    <a:pt x="1284" y="1484"/>
                  </a:lnTo>
                  <a:lnTo>
                    <a:pt x="1314" y="1472"/>
                  </a:lnTo>
                  <a:lnTo>
                    <a:pt x="1332" y="1468"/>
                  </a:lnTo>
                  <a:lnTo>
                    <a:pt x="1356" y="1470"/>
                  </a:lnTo>
                  <a:lnTo>
                    <a:pt x="1246" y="1504"/>
                  </a:lnTo>
                  <a:lnTo>
                    <a:pt x="1178" y="1532"/>
                  </a:lnTo>
                  <a:lnTo>
                    <a:pt x="1166" y="1538"/>
                  </a:lnTo>
                  <a:lnTo>
                    <a:pt x="1160" y="1546"/>
                  </a:lnTo>
                  <a:lnTo>
                    <a:pt x="1162" y="1552"/>
                  </a:lnTo>
                  <a:lnTo>
                    <a:pt x="1146" y="1568"/>
                  </a:lnTo>
                  <a:lnTo>
                    <a:pt x="1130" y="1580"/>
                  </a:lnTo>
                  <a:lnTo>
                    <a:pt x="1120" y="1596"/>
                  </a:lnTo>
                  <a:lnTo>
                    <a:pt x="1116" y="1610"/>
                  </a:lnTo>
                  <a:lnTo>
                    <a:pt x="1076" y="1654"/>
                  </a:lnTo>
                  <a:lnTo>
                    <a:pt x="1070" y="1668"/>
                  </a:lnTo>
                  <a:lnTo>
                    <a:pt x="1060" y="1676"/>
                  </a:lnTo>
                  <a:lnTo>
                    <a:pt x="1016" y="1694"/>
                  </a:lnTo>
                  <a:lnTo>
                    <a:pt x="1006" y="1700"/>
                  </a:lnTo>
                  <a:lnTo>
                    <a:pt x="998" y="1702"/>
                  </a:lnTo>
                  <a:lnTo>
                    <a:pt x="980" y="1712"/>
                  </a:lnTo>
                  <a:lnTo>
                    <a:pt x="962" y="1734"/>
                  </a:lnTo>
                  <a:lnTo>
                    <a:pt x="978" y="1730"/>
                  </a:lnTo>
                  <a:lnTo>
                    <a:pt x="990" y="1732"/>
                  </a:lnTo>
                  <a:lnTo>
                    <a:pt x="992" y="1740"/>
                  </a:lnTo>
                  <a:lnTo>
                    <a:pt x="978" y="1742"/>
                  </a:lnTo>
                  <a:lnTo>
                    <a:pt x="956" y="1752"/>
                  </a:lnTo>
                  <a:lnTo>
                    <a:pt x="928" y="1776"/>
                  </a:lnTo>
                  <a:lnTo>
                    <a:pt x="938" y="1776"/>
                  </a:lnTo>
                  <a:lnTo>
                    <a:pt x="934" y="1784"/>
                  </a:lnTo>
                  <a:lnTo>
                    <a:pt x="926" y="1784"/>
                  </a:lnTo>
                  <a:lnTo>
                    <a:pt x="888" y="1798"/>
                  </a:lnTo>
                  <a:lnTo>
                    <a:pt x="876" y="1796"/>
                  </a:lnTo>
                  <a:lnTo>
                    <a:pt x="850" y="1804"/>
                  </a:lnTo>
                  <a:lnTo>
                    <a:pt x="876" y="1814"/>
                  </a:lnTo>
                  <a:lnTo>
                    <a:pt x="910" y="1806"/>
                  </a:lnTo>
                  <a:lnTo>
                    <a:pt x="944" y="1792"/>
                  </a:lnTo>
                  <a:lnTo>
                    <a:pt x="962" y="1790"/>
                  </a:lnTo>
                  <a:lnTo>
                    <a:pt x="1010" y="1776"/>
                  </a:lnTo>
                  <a:lnTo>
                    <a:pt x="1028" y="1780"/>
                  </a:lnTo>
                  <a:lnTo>
                    <a:pt x="1072" y="1766"/>
                  </a:lnTo>
                  <a:lnTo>
                    <a:pt x="1144" y="1730"/>
                  </a:lnTo>
                  <a:lnTo>
                    <a:pt x="1132" y="1744"/>
                  </a:lnTo>
                  <a:lnTo>
                    <a:pt x="1112" y="1760"/>
                  </a:lnTo>
                  <a:lnTo>
                    <a:pt x="1098" y="1766"/>
                  </a:lnTo>
                  <a:lnTo>
                    <a:pt x="1082" y="1776"/>
                  </a:lnTo>
                  <a:lnTo>
                    <a:pt x="1074" y="1784"/>
                  </a:lnTo>
                  <a:lnTo>
                    <a:pt x="1072" y="1796"/>
                  </a:lnTo>
                  <a:lnTo>
                    <a:pt x="1080" y="1796"/>
                  </a:lnTo>
                  <a:lnTo>
                    <a:pt x="1078" y="1806"/>
                  </a:lnTo>
                  <a:lnTo>
                    <a:pt x="1080" y="1812"/>
                  </a:lnTo>
                  <a:lnTo>
                    <a:pt x="1112" y="1802"/>
                  </a:lnTo>
                  <a:lnTo>
                    <a:pt x="1126" y="1796"/>
                  </a:lnTo>
                  <a:lnTo>
                    <a:pt x="1124" y="1800"/>
                  </a:lnTo>
                  <a:lnTo>
                    <a:pt x="1130" y="1802"/>
                  </a:lnTo>
                  <a:lnTo>
                    <a:pt x="1118" y="1812"/>
                  </a:lnTo>
                  <a:lnTo>
                    <a:pt x="1122" y="1818"/>
                  </a:lnTo>
                  <a:lnTo>
                    <a:pt x="1116" y="1832"/>
                  </a:lnTo>
                  <a:lnTo>
                    <a:pt x="1086" y="1880"/>
                  </a:lnTo>
                  <a:lnTo>
                    <a:pt x="1086" y="1890"/>
                  </a:lnTo>
                  <a:lnTo>
                    <a:pt x="1094" y="1890"/>
                  </a:lnTo>
                  <a:lnTo>
                    <a:pt x="1124" y="1878"/>
                  </a:lnTo>
                  <a:lnTo>
                    <a:pt x="1154" y="1854"/>
                  </a:lnTo>
                  <a:lnTo>
                    <a:pt x="1164" y="1838"/>
                  </a:lnTo>
                  <a:lnTo>
                    <a:pt x="1176" y="1832"/>
                  </a:lnTo>
                  <a:lnTo>
                    <a:pt x="1200" y="1820"/>
                  </a:lnTo>
                  <a:lnTo>
                    <a:pt x="1230" y="1810"/>
                  </a:lnTo>
                  <a:lnTo>
                    <a:pt x="1244" y="1804"/>
                  </a:lnTo>
                  <a:lnTo>
                    <a:pt x="1252" y="1802"/>
                  </a:lnTo>
                  <a:lnTo>
                    <a:pt x="1242" y="1812"/>
                  </a:lnTo>
                  <a:lnTo>
                    <a:pt x="1208" y="1832"/>
                  </a:lnTo>
                  <a:lnTo>
                    <a:pt x="1204" y="1860"/>
                  </a:lnTo>
                  <a:lnTo>
                    <a:pt x="1216" y="1866"/>
                  </a:lnTo>
                  <a:lnTo>
                    <a:pt x="1280" y="1856"/>
                  </a:lnTo>
                  <a:lnTo>
                    <a:pt x="1334" y="1840"/>
                  </a:lnTo>
                  <a:lnTo>
                    <a:pt x="1392" y="1820"/>
                  </a:lnTo>
                  <a:lnTo>
                    <a:pt x="1426" y="1812"/>
                  </a:lnTo>
                  <a:lnTo>
                    <a:pt x="1422" y="1818"/>
                  </a:lnTo>
                  <a:lnTo>
                    <a:pt x="1350" y="1852"/>
                  </a:lnTo>
                  <a:lnTo>
                    <a:pt x="1330" y="1858"/>
                  </a:lnTo>
                  <a:lnTo>
                    <a:pt x="1334" y="1862"/>
                  </a:lnTo>
                  <a:lnTo>
                    <a:pt x="1330" y="1864"/>
                  </a:lnTo>
                  <a:lnTo>
                    <a:pt x="1294" y="1880"/>
                  </a:lnTo>
                  <a:lnTo>
                    <a:pt x="1264" y="1888"/>
                  </a:lnTo>
                  <a:lnTo>
                    <a:pt x="1204" y="1928"/>
                  </a:lnTo>
                  <a:lnTo>
                    <a:pt x="1218" y="1932"/>
                  </a:lnTo>
                  <a:lnTo>
                    <a:pt x="1168" y="1952"/>
                  </a:lnTo>
                  <a:lnTo>
                    <a:pt x="1102" y="1998"/>
                  </a:lnTo>
                  <a:lnTo>
                    <a:pt x="1072" y="2020"/>
                  </a:lnTo>
                  <a:lnTo>
                    <a:pt x="1052" y="2032"/>
                  </a:lnTo>
                  <a:lnTo>
                    <a:pt x="1024" y="2044"/>
                  </a:lnTo>
                  <a:lnTo>
                    <a:pt x="962" y="2076"/>
                  </a:lnTo>
                  <a:lnTo>
                    <a:pt x="964" y="2070"/>
                  </a:lnTo>
                  <a:lnTo>
                    <a:pt x="952" y="2070"/>
                  </a:lnTo>
                  <a:lnTo>
                    <a:pt x="938" y="2080"/>
                  </a:lnTo>
                  <a:lnTo>
                    <a:pt x="880" y="2106"/>
                  </a:lnTo>
                  <a:lnTo>
                    <a:pt x="876" y="2104"/>
                  </a:lnTo>
                  <a:lnTo>
                    <a:pt x="850" y="2118"/>
                  </a:lnTo>
                  <a:lnTo>
                    <a:pt x="822" y="2138"/>
                  </a:lnTo>
                  <a:lnTo>
                    <a:pt x="804" y="2146"/>
                  </a:lnTo>
                  <a:lnTo>
                    <a:pt x="798" y="2142"/>
                  </a:lnTo>
                  <a:lnTo>
                    <a:pt x="784" y="2146"/>
                  </a:lnTo>
                  <a:lnTo>
                    <a:pt x="784" y="2138"/>
                  </a:lnTo>
                  <a:lnTo>
                    <a:pt x="734" y="2156"/>
                  </a:lnTo>
                  <a:lnTo>
                    <a:pt x="708" y="2158"/>
                  </a:lnTo>
                  <a:lnTo>
                    <a:pt x="660" y="2172"/>
                  </a:lnTo>
                  <a:lnTo>
                    <a:pt x="650" y="2170"/>
                  </a:lnTo>
                  <a:lnTo>
                    <a:pt x="578" y="2196"/>
                  </a:lnTo>
                  <a:lnTo>
                    <a:pt x="536" y="2218"/>
                  </a:lnTo>
                  <a:lnTo>
                    <a:pt x="512" y="2228"/>
                  </a:lnTo>
                  <a:lnTo>
                    <a:pt x="494" y="2238"/>
                  </a:lnTo>
                  <a:lnTo>
                    <a:pt x="466" y="2258"/>
                  </a:lnTo>
                  <a:lnTo>
                    <a:pt x="462" y="2260"/>
                  </a:lnTo>
                  <a:lnTo>
                    <a:pt x="474" y="2272"/>
                  </a:lnTo>
                  <a:lnTo>
                    <a:pt x="468" y="2282"/>
                  </a:lnTo>
                  <a:lnTo>
                    <a:pt x="456" y="2278"/>
                  </a:lnTo>
                  <a:lnTo>
                    <a:pt x="454" y="2268"/>
                  </a:lnTo>
                  <a:lnTo>
                    <a:pt x="446" y="2262"/>
                  </a:lnTo>
                  <a:lnTo>
                    <a:pt x="436" y="2270"/>
                  </a:lnTo>
                  <a:lnTo>
                    <a:pt x="422" y="2274"/>
                  </a:lnTo>
                  <a:lnTo>
                    <a:pt x="418" y="2268"/>
                  </a:lnTo>
                  <a:lnTo>
                    <a:pt x="426" y="2252"/>
                  </a:lnTo>
                  <a:lnTo>
                    <a:pt x="440" y="2246"/>
                  </a:lnTo>
                  <a:lnTo>
                    <a:pt x="452" y="2238"/>
                  </a:lnTo>
                  <a:lnTo>
                    <a:pt x="430" y="2238"/>
                  </a:lnTo>
                  <a:lnTo>
                    <a:pt x="422" y="2230"/>
                  </a:lnTo>
                  <a:lnTo>
                    <a:pt x="412" y="2230"/>
                  </a:lnTo>
                  <a:lnTo>
                    <a:pt x="396" y="2236"/>
                  </a:lnTo>
                  <a:lnTo>
                    <a:pt x="356" y="2240"/>
                  </a:lnTo>
                  <a:lnTo>
                    <a:pt x="286" y="2258"/>
                  </a:lnTo>
                  <a:lnTo>
                    <a:pt x="228" y="2278"/>
                  </a:lnTo>
                  <a:lnTo>
                    <a:pt x="200" y="2292"/>
                  </a:lnTo>
                  <a:lnTo>
                    <a:pt x="190" y="2296"/>
                  </a:lnTo>
                  <a:lnTo>
                    <a:pt x="184" y="2300"/>
                  </a:lnTo>
                  <a:lnTo>
                    <a:pt x="168" y="2314"/>
                  </a:lnTo>
                  <a:lnTo>
                    <a:pt x="132" y="2320"/>
                  </a:lnTo>
                  <a:lnTo>
                    <a:pt x="120" y="2330"/>
                  </a:lnTo>
                  <a:lnTo>
                    <a:pt x="104" y="2334"/>
                  </a:lnTo>
                  <a:lnTo>
                    <a:pt x="104" y="2328"/>
                  </a:lnTo>
                  <a:lnTo>
                    <a:pt x="96" y="2328"/>
                  </a:lnTo>
                  <a:lnTo>
                    <a:pt x="84" y="2332"/>
                  </a:lnTo>
                  <a:lnTo>
                    <a:pt x="60" y="2338"/>
                  </a:lnTo>
                  <a:lnTo>
                    <a:pt x="52" y="2338"/>
                  </a:lnTo>
                  <a:lnTo>
                    <a:pt x="34" y="2342"/>
                  </a:lnTo>
                  <a:lnTo>
                    <a:pt x="32" y="2344"/>
                  </a:lnTo>
                  <a:lnTo>
                    <a:pt x="40" y="2346"/>
                  </a:lnTo>
                  <a:lnTo>
                    <a:pt x="26" y="2364"/>
                  </a:lnTo>
                  <a:lnTo>
                    <a:pt x="0" y="2384"/>
                  </a:lnTo>
                  <a:lnTo>
                    <a:pt x="8" y="2384"/>
                  </a:lnTo>
                  <a:lnTo>
                    <a:pt x="26" y="2380"/>
                  </a:lnTo>
                  <a:lnTo>
                    <a:pt x="42" y="2370"/>
                  </a:lnTo>
                  <a:lnTo>
                    <a:pt x="64" y="2348"/>
                  </a:lnTo>
                  <a:lnTo>
                    <a:pt x="70" y="2350"/>
                  </a:lnTo>
                  <a:lnTo>
                    <a:pt x="62" y="2366"/>
                  </a:lnTo>
                  <a:lnTo>
                    <a:pt x="60" y="2376"/>
                  </a:lnTo>
                  <a:lnTo>
                    <a:pt x="104" y="2368"/>
                  </a:lnTo>
                  <a:lnTo>
                    <a:pt x="136" y="2336"/>
                  </a:lnTo>
                  <a:lnTo>
                    <a:pt x="144" y="2332"/>
                  </a:lnTo>
                  <a:lnTo>
                    <a:pt x="142" y="2344"/>
                  </a:lnTo>
                  <a:lnTo>
                    <a:pt x="136" y="2354"/>
                  </a:lnTo>
                  <a:lnTo>
                    <a:pt x="122" y="2364"/>
                  </a:lnTo>
                  <a:lnTo>
                    <a:pt x="132" y="2364"/>
                  </a:lnTo>
                  <a:lnTo>
                    <a:pt x="134" y="2370"/>
                  </a:lnTo>
                  <a:lnTo>
                    <a:pt x="150" y="2366"/>
                  </a:lnTo>
                  <a:lnTo>
                    <a:pt x="162" y="2360"/>
                  </a:lnTo>
                  <a:lnTo>
                    <a:pt x="164" y="2366"/>
                  </a:lnTo>
                  <a:lnTo>
                    <a:pt x="176" y="2362"/>
                  </a:lnTo>
                  <a:lnTo>
                    <a:pt x="198" y="2350"/>
                  </a:lnTo>
                  <a:lnTo>
                    <a:pt x="224" y="2340"/>
                  </a:lnTo>
                  <a:lnTo>
                    <a:pt x="252" y="2318"/>
                  </a:lnTo>
                  <a:lnTo>
                    <a:pt x="290" y="2298"/>
                  </a:lnTo>
                  <a:lnTo>
                    <a:pt x="310" y="2292"/>
                  </a:lnTo>
                  <a:lnTo>
                    <a:pt x="324" y="2292"/>
                  </a:lnTo>
                  <a:lnTo>
                    <a:pt x="306" y="2310"/>
                  </a:lnTo>
                  <a:lnTo>
                    <a:pt x="274" y="2324"/>
                  </a:lnTo>
                  <a:lnTo>
                    <a:pt x="270" y="2332"/>
                  </a:lnTo>
                  <a:lnTo>
                    <a:pt x="300" y="2332"/>
                  </a:lnTo>
                  <a:lnTo>
                    <a:pt x="342" y="2320"/>
                  </a:lnTo>
                  <a:lnTo>
                    <a:pt x="362" y="2330"/>
                  </a:lnTo>
                  <a:lnTo>
                    <a:pt x="372" y="2318"/>
                  </a:lnTo>
                  <a:lnTo>
                    <a:pt x="380" y="2316"/>
                  </a:lnTo>
                  <a:lnTo>
                    <a:pt x="392" y="2310"/>
                  </a:lnTo>
                  <a:lnTo>
                    <a:pt x="390" y="2324"/>
                  </a:lnTo>
                  <a:lnTo>
                    <a:pt x="414" y="2312"/>
                  </a:lnTo>
                  <a:lnTo>
                    <a:pt x="422" y="2306"/>
                  </a:lnTo>
                  <a:lnTo>
                    <a:pt x="436" y="2302"/>
                  </a:lnTo>
                  <a:lnTo>
                    <a:pt x="456" y="2302"/>
                  </a:lnTo>
                  <a:lnTo>
                    <a:pt x="474" y="2294"/>
                  </a:lnTo>
                  <a:lnTo>
                    <a:pt x="488" y="2290"/>
                  </a:lnTo>
                  <a:lnTo>
                    <a:pt x="496" y="2292"/>
                  </a:lnTo>
                  <a:lnTo>
                    <a:pt x="512" y="2286"/>
                  </a:lnTo>
                  <a:lnTo>
                    <a:pt x="524" y="2288"/>
                  </a:lnTo>
                  <a:lnTo>
                    <a:pt x="516" y="2300"/>
                  </a:lnTo>
                  <a:lnTo>
                    <a:pt x="494" y="2318"/>
                  </a:lnTo>
                  <a:lnTo>
                    <a:pt x="476" y="2330"/>
                  </a:lnTo>
                  <a:lnTo>
                    <a:pt x="476" y="2332"/>
                  </a:lnTo>
                  <a:lnTo>
                    <a:pt x="526" y="2304"/>
                  </a:lnTo>
                  <a:lnTo>
                    <a:pt x="560" y="2282"/>
                  </a:lnTo>
                  <a:lnTo>
                    <a:pt x="560" y="2286"/>
                  </a:lnTo>
                  <a:lnTo>
                    <a:pt x="566" y="2288"/>
                  </a:lnTo>
                  <a:lnTo>
                    <a:pt x="602" y="2288"/>
                  </a:lnTo>
                  <a:lnTo>
                    <a:pt x="640" y="2276"/>
                  </a:lnTo>
                  <a:lnTo>
                    <a:pt x="650" y="2278"/>
                  </a:lnTo>
                  <a:lnTo>
                    <a:pt x="664" y="2270"/>
                  </a:lnTo>
                  <a:lnTo>
                    <a:pt x="680" y="2254"/>
                  </a:lnTo>
                  <a:lnTo>
                    <a:pt x="694" y="2244"/>
                  </a:lnTo>
                  <a:lnTo>
                    <a:pt x="684" y="2238"/>
                  </a:lnTo>
                  <a:lnTo>
                    <a:pt x="684" y="2224"/>
                  </a:lnTo>
                  <a:lnTo>
                    <a:pt x="690" y="2208"/>
                  </a:lnTo>
                  <a:lnTo>
                    <a:pt x="704" y="2192"/>
                  </a:lnTo>
                  <a:lnTo>
                    <a:pt x="714" y="2194"/>
                  </a:lnTo>
                  <a:lnTo>
                    <a:pt x="698" y="2214"/>
                  </a:lnTo>
                  <a:lnTo>
                    <a:pt x="692" y="2226"/>
                  </a:lnTo>
                  <a:lnTo>
                    <a:pt x="708" y="2230"/>
                  </a:lnTo>
                  <a:lnTo>
                    <a:pt x="760" y="2212"/>
                  </a:lnTo>
                  <a:lnTo>
                    <a:pt x="784" y="2210"/>
                  </a:lnTo>
                  <a:lnTo>
                    <a:pt x="816" y="2214"/>
                  </a:lnTo>
                  <a:lnTo>
                    <a:pt x="836" y="2202"/>
                  </a:lnTo>
                  <a:lnTo>
                    <a:pt x="834" y="2198"/>
                  </a:lnTo>
                  <a:lnTo>
                    <a:pt x="814" y="2200"/>
                  </a:lnTo>
                  <a:lnTo>
                    <a:pt x="830" y="2192"/>
                  </a:lnTo>
                  <a:lnTo>
                    <a:pt x="866" y="2184"/>
                  </a:lnTo>
                  <a:lnTo>
                    <a:pt x="864" y="2194"/>
                  </a:lnTo>
                  <a:lnTo>
                    <a:pt x="880" y="2196"/>
                  </a:lnTo>
                  <a:lnTo>
                    <a:pt x="902" y="2176"/>
                  </a:lnTo>
                  <a:lnTo>
                    <a:pt x="916" y="2166"/>
                  </a:lnTo>
                  <a:lnTo>
                    <a:pt x="932" y="2162"/>
                  </a:lnTo>
                  <a:lnTo>
                    <a:pt x="942" y="2174"/>
                  </a:lnTo>
                  <a:lnTo>
                    <a:pt x="988" y="2158"/>
                  </a:lnTo>
                  <a:lnTo>
                    <a:pt x="1002" y="2150"/>
                  </a:lnTo>
                  <a:lnTo>
                    <a:pt x="1006" y="2154"/>
                  </a:lnTo>
                  <a:lnTo>
                    <a:pt x="1014" y="2152"/>
                  </a:lnTo>
                  <a:lnTo>
                    <a:pt x="1026" y="2144"/>
                  </a:lnTo>
                  <a:lnTo>
                    <a:pt x="1030" y="2152"/>
                  </a:lnTo>
                  <a:lnTo>
                    <a:pt x="1038" y="2146"/>
                  </a:lnTo>
                  <a:lnTo>
                    <a:pt x="1058" y="2140"/>
                  </a:lnTo>
                  <a:lnTo>
                    <a:pt x="1082" y="2128"/>
                  </a:lnTo>
                  <a:lnTo>
                    <a:pt x="1110" y="2108"/>
                  </a:lnTo>
                  <a:lnTo>
                    <a:pt x="1098" y="2106"/>
                  </a:lnTo>
                  <a:lnTo>
                    <a:pt x="1100" y="2102"/>
                  </a:lnTo>
                  <a:lnTo>
                    <a:pt x="1118" y="2092"/>
                  </a:lnTo>
                  <a:lnTo>
                    <a:pt x="1170" y="2080"/>
                  </a:lnTo>
                  <a:lnTo>
                    <a:pt x="1168" y="2086"/>
                  </a:lnTo>
                  <a:lnTo>
                    <a:pt x="1198" y="2066"/>
                  </a:lnTo>
                  <a:lnTo>
                    <a:pt x="1218" y="2072"/>
                  </a:lnTo>
                  <a:lnTo>
                    <a:pt x="1230" y="2064"/>
                  </a:lnTo>
                  <a:lnTo>
                    <a:pt x="1244" y="2058"/>
                  </a:lnTo>
                  <a:lnTo>
                    <a:pt x="1264" y="2044"/>
                  </a:lnTo>
                  <a:lnTo>
                    <a:pt x="1272" y="2046"/>
                  </a:lnTo>
                  <a:lnTo>
                    <a:pt x="1280" y="2056"/>
                  </a:lnTo>
                  <a:lnTo>
                    <a:pt x="1308" y="2040"/>
                  </a:lnTo>
                  <a:lnTo>
                    <a:pt x="1318" y="2040"/>
                  </a:lnTo>
                  <a:lnTo>
                    <a:pt x="1336" y="2034"/>
                  </a:lnTo>
                  <a:lnTo>
                    <a:pt x="1356" y="2026"/>
                  </a:lnTo>
                  <a:lnTo>
                    <a:pt x="1368" y="2018"/>
                  </a:lnTo>
                  <a:lnTo>
                    <a:pt x="1398" y="2014"/>
                  </a:lnTo>
                  <a:lnTo>
                    <a:pt x="1424" y="2014"/>
                  </a:lnTo>
                  <a:lnTo>
                    <a:pt x="1452" y="2000"/>
                  </a:lnTo>
                  <a:lnTo>
                    <a:pt x="1458" y="2006"/>
                  </a:lnTo>
                  <a:lnTo>
                    <a:pt x="1488" y="2000"/>
                  </a:lnTo>
                  <a:lnTo>
                    <a:pt x="1506" y="1986"/>
                  </a:lnTo>
                  <a:lnTo>
                    <a:pt x="1504" y="1976"/>
                  </a:lnTo>
                  <a:lnTo>
                    <a:pt x="1530" y="1972"/>
                  </a:lnTo>
                  <a:lnTo>
                    <a:pt x="1536" y="1966"/>
                  </a:lnTo>
                  <a:lnTo>
                    <a:pt x="1542" y="1958"/>
                  </a:lnTo>
                  <a:lnTo>
                    <a:pt x="1554" y="1950"/>
                  </a:lnTo>
                  <a:lnTo>
                    <a:pt x="1566" y="1950"/>
                  </a:lnTo>
                  <a:lnTo>
                    <a:pt x="1594" y="1936"/>
                  </a:lnTo>
                  <a:lnTo>
                    <a:pt x="1636" y="1932"/>
                  </a:lnTo>
                  <a:lnTo>
                    <a:pt x="1662" y="1922"/>
                  </a:lnTo>
                  <a:lnTo>
                    <a:pt x="1676" y="1912"/>
                  </a:lnTo>
                  <a:lnTo>
                    <a:pt x="1690" y="1900"/>
                  </a:lnTo>
                  <a:lnTo>
                    <a:pt x="1692" y="1894"/>
                  </a:lnTo>
                  <a:lnTo>
                    <a:pt x="1680" y="1880"/>
                  </a:lnTo>
                  <a:lnTo>
                    <a:pt x="1686" y="1872"/>
                  </a:lnTo>
                  <a:lnTo>
                    <a:pt x="1676" y="1864"/>
                  </a:lnTo>
                  <a:lnTo>
                    <a:pt x="1644" y="1868"/>
                  </a:lnTo>
                  <a:lnTo>
                    <a:pt x="1640" y="1862"/>
                  </a:lnTo>
                  <a:lnTo>
                    <a:pt x="1710" y="1818"/>
                  </a:lnTo>
                  <a:lnTo>
                    <a:pt x="1718" y="1812"/>
                  </a:lnTo>
                  <a:lnTo>
                    <a:pt x="1744" y="1812"/>
                  </a:lnTo>
                  <a:lnTo>
                    <a:pt x="1766" y="1804"/>
                  </a:lnTo>
                  <a:lnTo>
                    <a:pt x="1778" y="1796"/>
                  </a:lnTo>
                  <a:lnTo>
                    <a:pt x="1796" y="1792"/>
                  </a:lnTo>
                  <a:lnTo>
                    <a:pt x="1810" y="1780"/>
                  </a:lnTo>
                  <a:lnTo>
                    <a:pt x="1820" y="1768"/>
                  </a:lnTo>
                  <a:lnTo>
                    <a:pt x="1824" y="1774"/>
                  </a:lnTo>
                  <a:lnTo>
                    <a:pt x="1844" y="1762"/>
                  </a:lnTo>
                  <a:lnTo>
                    <a:pt x="1860" y="1762"/>
                  </a:lnTo>
                  <a:lnTo>
                    <a:pt x="1842" y="1774"/>
                  </a:lnTo>
                  <a:lnTo>
                    <a:pt x="1864" y="1774"/>
                  </a:lnTo>
                  <a:lnTo>
                    <a:pt x="1884" y="1770"/>
                  </a:lnTo>
                  <a:lnTo>
                    <a:pt x="1896" y="1758"/>
                  </a:lnTo>
                  <a:lnTo>
                    <a:pt x="1886" y="1750"/>
                  </a:lnTo>
                  <a:lnTo>
                    <a:pt x="1904" y="1748"/>
                  </a:lnTo>
                  <a:lnTo>
                    <a:pt x="1932" y="1750"/>
                  </a:lnTo>
                  <a:lnTo>
                    <a:pt x="1966" y="1734"/>
                  </a:lnTo>
                  <a:lnTo>
                    <a:pt x="1980" y="1724"/>
                  </a:lnTo>
                  <a:lnTo>
                    <a:pt x="1988" y="1714"/>
                  </a:lnTo>
                  <a:lnTo>
                    <a:pt x="1984" y="1684"/>
                  </a:lnTo>
                  <a:lnTo>
                    <a:pt x="1998" y="1684"/>
                  </a:lnTo>
                  <a:lnTo>
                    <a:pt x="1996" y="1696"/>
                  </a:lnTo>
                  <a:lnTo>
                    <a:pt x="2016" y="1700"/>
                  </a:lnTo>
                  <a:lnTo>
                    <a:pt x="2076" y="1678"/>
                  </a:lnTo>
                  <a:lnTo>
                    <a:pt x="2122" y="1652"/>
                  </a:lnTo>
                  <a:lnTo>
                    <a:pt x="2194" y="1624"/>
                  </a:lnTo>
                  <a:lnTo>
                    <a:pt x="2222" y="1606"/>
                  </a:lnTo>
                  <a:lnTo>
                    <a:pt x="2308" y="1590"/>
                  </a:lnTo>
                  <a:lnTo>
                    <a:pt x="2388" y="1562"/>
                  </a:lnTo>
                  <a:lnTo>
                    <a:pt x="2402" y="1552"/>
                  </a:lnTo>
                  <a:lnTo>
                    <a:pt x="2414" y="1540"/>
                  </a:lnTo>
                  <a:lnTo>
                    <a:pt x="2438" y="1524"/>
                  </a:lnTo>
                  <a:lnTo>
                    <a:pt x="2458" y="1512"/>
                  </a:lnTo>
                  <a:lnTo>
                    <a:pt x="2486" y="1500"/>
                  </a:lnTo>
                  <a:lnTo>
                    <a:pt x="2570" y="1454"/>
                  </a:lnTo>
                  <a:lnTo>
                    <a:pt x="2588" y="1442"/>
                  </a:lnTo>
                  <a:lnTo>
                    <a:pt x="2602" y="1430"/>
                  </a:lnTo>
                  <a:lnTo>
                    <a:pt x="2626" y="1414"/>
                  </a:lnTo>
                  <a:lnTo>
                    <a:pt x="2630" y="1420"/>
                  </a:lnTo>
                  <a:lnTo>
                    <a:pt x="2616" y="1432"/>
                  </a:lnTo>
                  <a:lnTo>
                    <a:pt x="2538" y="1486"/>
                  </a:lnTo>
                  <a:lnTo>
                    <a:pt x="2508" y="1502"/>
                  </a:lnTo>
                  <a:lnTo>
                    <a:pt x="2450" y="1530"/>
                  </a:lnTo>
                  <a:lnTo>
                    <a:pt x="2422" y="1548"/>
                  </a:lnTo>
                  <a:lnTo>
                    <a:pt x="2402" y="1564"/>
                  </a:lnTo>
                  <a:lnTo>
                    <a:pt x="2400" y="1572"/>
                  </a:lnTo>
                  <a:lnTo>
                    <a:pt x="2438" y="1576"/>
                  </a:lnTo>
                  <a:lnTo>
                    <a:pt x="2504" y="1552"/>
                  </a:lnTo>
                  <a:lnTo>
                    <a:pt x="2542" y="1546"/>
                  </a:lnTo>
                  <a:lnTo>
                    <a:pt x="2558" y="1546"/>
                  </a:lnTo>
                  <a:lnTo>
                    <a:pt x="2530" y="1558"/>
                  </a:lnTo>
                  <a:lnTo>
                    <a:pt x="2510" y="1560"/>
                  </a:lnTo>
                  <a:lnTo>
                    <a:pt x="2482" y="1570"/>
                  </a:lnTo>
                  <a:lnTo>
                    <a:pt x="2456" y="1580"/>
                  </a:lnTo>
                  <a:lnTo>
                    <a:pt x="2432" y="1586"/>
                  </a:lnTo>
                  <a:lnTo>
                    <a:pt x="2416" y="1602"/>
                  </a:lnTo>
                  <a:lnTo>
                    <a:pt x="2416" y="1614"/>
                  </a:lnTo>
                  <a:lnTo>
                    <a:pt x="2448" y="1628"/>
                  </a:lnTo>
                  <a:lnTo>
                    <a:pt x="2464" y="1650"/>
                  </a:lnTo>
                  <a:lnTo>
                    <a:pt x="2406" y="1628"/>
                  </a:lnTo>
                  <a:lnTo>
                    <a:pt x="2366" y="1634"/>
                  </a:lnTo>
                  <a:lnTo>
                    <a:pt x="2356" y="1628"/>
                  </a:lnTo>
                  <a:lnTo>
                    <a:pt x="2366" y="1610"/>
                  </a:lnTo>
                  <a:lnTo>
                    <a:pt x="2352" y="1612"/>
                  </a:lnTo>
                  <a:lnTo>
                    <a:pt x="2332" y="1616"/>
                  </a:lnTo>
                  <a:lnTo>
                    <a:pt x="2304" y="1626"/>
                  </a:lnTo>
                  <a:lnTo>
                    <a:pt x="2232" y="1638"/>
                  </a:lnTo>
                  <a:lnTo>
                    <a:pt x="2212" y="1648"/>
                  </a:lnTo>
                  <a:lnTo>
                    <a:pt x="2194" y="1666"/>
                  </a:lnTo>
                  <a:lnTo>
                    <a:pt x="2170" y="1688"/>
                  </a:lnTo>
                  <a:lnTo>
                    <a:pt x="2136" y="1712"/>
                  </a:lnTo>
                  <a:lnTo>
                    <a:pt x="2114" y="1724"/>
                  </a:lnTo>
                  <a:lnTo>
                    <a:pt x="2084" y="1734"/>
                  </a:lnTo>
                  <a:lnTo>
                    <a:pt x="2056" y="1750"/>
                  </a:lnTo>
                  <a:lnTo>
                    <a:pt x="2040" y="1760"/>
                  </a:lnTo>
                  <a:lnTo>
                    <a:pt x="2014" y="1774"/>
                  </a:lnTo>
                  <a:lnTo>
                    <a:pt x="1994" y="1788"/>
                  </a:lnTo>
                  <a:lnTo>
                    <a:pt x="1988" y="1798"/>
                  </a:lnTo>
                  <a:lnTo>
                    <a:pt x="1998" y="1810"/>
                  </a:lnTo>
                  <a:lnTo>
                    <a:pt x="2070" y="1794"/>
                  </a:lnTo>
                  <a:lnTo>
                    <a:pt x="2076" y="1796"/>
                  </a:lnTo>
                  <a:lnTo>
                    <a:pt x="2046" y="1814"/>
                  </a:lnTo>
                  <a:lnTo>
                    <a:pt x="2024" y="1824"/>
                  </a:lnTo>
                  <a:lnTo>
                    <a:pt x="2004" y="1830"/>
                  </a:lnTo>
                  <a:lnTo>
                    <a:pt x="1992" y="1830"/>
                  </a:lnTo>
                  <a:lnTo>
                    <a:pt x="1984" y="1834"/>
                  </a:lnTo>
                  <a:lnTo>
                    <a:pt x="1982" y="1842"/>
                  </a:lnTo>
                  <a:lnTo>
                    <a:pt x="1972" y="1832"/>
                  </a:lnTo>
                  <a:lnTo>
                    <a:pt x="1966" y="1832"/>
                  </a:lnTo>
                  <a:lnTo>
                    <a:pt x="1956" y="1836"/>
                  </a:lnTo>
                  <a:lnTo>
                    <a:pt x="1942" y="1844"/>
                  </a:lnTo>
                  <a:lnTo>
                    <a:pt x="1946" y="1832"/>
                  </a:lnTo>
                  <a:lnTo>
                    <a:pt x="1928" y="1842"/>
                  </a:lnTo>
                  <a:lnTo>
                    <a:pt x="1918" y="1850"/>
                  </a:lnTo>
                  <a:lnTo>
                    <a:pt x="1904" y="1854"/>
                  </a:lnTo>
                  <a:lnTo>
                    <a:pt x="1890" y="1864"/>
                  </a:lnTo>
                  <a:lnTo>
                    <a:pt x="1900" y="1870"/>
                  </a:lnTo>
                  <a:lnTo>
                    <a:pt x="1896" y="1880"/>
                  </a:lnTo>
                  <a:lnTo>
                    <a:pt x="1924" y="1876"/>
                  </a:lnTo>
                  <a:lnTo>
                    <a:pt x="1952" y="1880"/>
                  </a:lnTo>
                  <a:lnTo>
                    <a:pt x="1968" y="1864"/>
                  </a:lnTo>
                  <a:lnTo>
                    <a:pt x="1974" y="1862"/>
                  </a:lnTo>
                  <a:lnTo>
                    <a:pt x="1982" y="1868"/>
                  </a:lnTo>
                  <a:lnTo>
                    <a:pt x="1984" y="1878"/>
                  </a:lnTo>
                  <a:lnTo>
                    <a:pt x="2032" y="1854"/>
                  </a:lnTo>
                  <a:lnTo>
                    <a:pt x="2068" y="1840"/>
                  </a:lnTo>
                  <a:lnTo>
                    <a:pt x="2078" y="1842"/>
                  </a:lnTo>
                  <a:lnTo>
                    <a:pt x="2098" y="1838"/>
                  </a:lnTo>
                  <a:lnTo>
                    <a:pt x="2078" y="1854"/>
                  </a:lnTo>
                  <a:lnTo>
                    <a:pt x="2052" y="1870"/>
                  </a:lnTo>
                  <a:lnTo>
                    <a:pt x="2108" y="1844"/>
                  </a:lnTo>
                  <a:lnTo>
                    <a:pt x="2128" y="1828"/>
                  </a:lnTo>
                  <a:lnTo>
                    <a:pt x="2162" y="1820"/>
                  </a:lnTo>
                  <a:lnTo>
                    <a:pt x="2164" y="1828"/>
                  </a:lnTo>
                  <a:lnTo>
                    <a:pt x="2186" y="1816"/>
                  </a:lnTo>
                  <a:lnTo>
                    <a:pt x="2200" y="1800"/>
                  </a:lnTo>
                  <a:lnTo>
                    <a:pt x="2206" y="1796"/>
                  </a:lnTo>
                  <a:lnTo>
                    <a:pt x="2224" y="1788"/>
                  </a:lnTo>
                  <a:lnTo>
                    <a:pt x="2204" y="1808"/>
                  </a:lnTo>
                  <a:lnTo>
                    <a:pt x="2188" y="1828"/>
                  </a:lnTo>
                  <a:lnTo>
                    <a:pt x="2218" y="1806"/>
                  </a:lnTo>
                  <a:lnTo>
                    <a:pt x="2240" y="1790"/>
                  </a:lnTo>
                  <a:lnTo>
                    <a:pt x="2258" y="1782"/>
                  </a:lnTo>
                  <a:lnTo>
                    <a:pt x="2276" y="1768"/>
                  </a:lnTo>
                  <a:lnTo>
                    <a:pt x="2260" y="1788"/>
                  </a:lnTo>
                  <a:lnTo>
                    <a:pt x="2272" y="1786"/>
                  </a:lnTo>
                  <a:lnTo>
                    <a:pt x="2282" y="1788"/>
                  </a:lnTo>
                  <a:lnTo>
                    <a:pt x="2284" y="1794"/>
                  </a:lnTo>
                  <a:lnTo>
                    <a:pt x="2308" y="1800"/>
                  </a:lnTo>
                  <a:lnTo>
                    <a:pt x="2332" y="1794"/>
                  </a:lnTo>
                  <a:lnTo>
                    <a:pt x="2342" y="1794"/>
                  </a:lnTo>
                  <a:lnTo>
                    <a:pt x="2374" y="1774"/>
                  </a:lnTo>
                  <a:lnTo>
                    <a:pt x="2380" y="1778"/>
                  </a:lnTo>
                  <a:lnTo>
                    <a:pt x="2396" y="1774"/>
                  </a:lnTo>
                  <a:lnTo>
                    <a:pt x="2416" y="1764"/>
                  </a:lnTo>
                  <a:lnTo>
                    <a:pt x="2412" y="1762"/>
                  </a:lnTo>
                  <a:lnTo>
                    <a:pt x="2414" y="1758"/>
                  </a:lnTo>
                  <a:lnTo>
                    <a:pt x="2402" y="1756"/>
                  </a:lnTo>
                  <a:lnTo>
                    <a:pt x="2428" y="1744"/>
                  </a:lnTo>
                  <a:lnTo>
                    <a:pt x="2456" y="1732"/>
                  </a:lnTo>
                  <a:lnTo>
                    <a:pt x="2464" y="1734"/>
                  </a:lnTo>
                  <a:lnTo>
                    <a:pt x="2486" y="1720"/>
                  </a:lnTo>
                  <a:lnTo>
                    <a:pt x="2490" y="1708"/>
                  </a:lnTo>
                  <a:lnTo>
                    <a:pt x="2460" y="1718"/>
                  </a:lnTo>
                  <a:lnTo>
                    <a:pt x="2450" y="1718"/>
                  </a:lnTo>
                  <a:lnTo>
                    <a:pt x="2424" y="1720"/>
                  </a:lnTo>
                  <a:lnTo>
                    <a:pt x="2436" y="1708"/>
                  </a:lnTo>
                  <a:lnTo>
                    <a:pt x="2458" y="1706"/>
                  </a:lnTo>
                  <a:lnTo>
                    <a:pt x="2484" y="1698"/>
                  </a:lnTo>
                  <a:lnTo>
                    <a:pt x="2502" y="1684"/>
                  </a:lnTo>
                  <a:lnTo>
                    <a:pt x="2482" y="1690"/>
                  </a:lnTo>
                  <a:lnTo>
                    <a:pt x="2492" y="1682"/>
                  </a:lnTo>
                  <a:lnTo>
                    <a:pt x="2472" y="1682"/>
                  </a:lnTo>
                  <a:lnTo>
                    <a:pt x="2484" y="1672"/>
                  </a:lnTo>
                  <a:lnTo>
                    <a:pt x="2478" y="1670"/>
                  </a:lnTo>
                  <a:lnTo>
                    <a:pt x="2496" y="1660"/>
                  </a:lnTo>
                  <a:lnTo>
                    <a:pt x="2524" y="1658"/>
                  </a:lnTo>
                  <a:lnTo>
                    <a:pt x="2550" y="1644"/>
                  </a:lnTo>
                  <a:lnTo>
                    <a:pt x="2536" y="1640"/>
                  </a:lnTo>
                  <a:lnTo>
                    <a:pt x="2570" y="1626"/>
                  </a:lnTo>
                  <a:lnTo>
                    <a:pt x="2582" y="1624"/>
                  </a:lnTo>
                  <a:lnTo>
                    <a:pt x="2574" y="1636"/>
                  </a:lnTo>
                  <a:lnTo>
                    <a:pt x="2580" y="1634"/>
                  </a:lnTo>
                  <a:lnTo>
                    <a:pt x="2610" y="1620"/>
                  </a:lnTo>
                  <a:lnTo>
                    <a:pt x="2644" y="1608"/>
                  </a:lnTo>
                  <a:lnTo>
                    <a:pt x="2628" y="1622"/>
                  </a:lnTo>
                  <a:lnTo>
                    <a:pt x="2584" y="1642"/>
                  </a:lnTo>
                  <a:lnTo>
                    <a:pt x="2560" y="1656"/>
                  </a:lnTo>
                  <a:lnTo>
                    <a:pt x="2560" y="1666"/>
                  </a:lnTo>
                  <a:lnTo>
                    <a:pt x="2576" y="1666"/>
                  </a:lnTo>
                  <a:lnTo>
                    <a:pt x="2590" y="1660"/>
                  </a:lnTo>
                  <a:lnTo>
                    <a:pt x="2616" y="1640"/>
                  </a:lnTo>
                  <a:lnTo>
                    <a:pt x="2638" y="1624"/>
                  </a:lnTo>
                  <a:lnTo>
                    <a:pt x="2622" y="1644"/>
                  </a:lnTo>
                  <a:lnTo>
                    <a:pt x="2608" y="1656"/>
                  </a:lnTo>
                  <a:lnTo>
                    <a:pt x="2620" y="1658"/>
                  </a:lnTo>
                  <a:lnTo>
                    <a:pt x="2650" y="1658"/>
                  </a:lnTo>
                  <a:lnTo>
                    <a:pt x="2658" y="1662"/>
                  </a:lnTo>
                  <a:lnTo>
                    <a:pt x="2678" y="1662"/>
                  </a:lnTo>
                  <a:lnTo>
                    <a:pt x="2706" y="1650"/>
                  </a:lnTo>
                  <a:lnTo>
                    <a:pt x="2734" y="1644"/>
                  </a:lnTo>
                  <a:lnTo>
                    <a:pt x="2754" y="1648"/>
                  </a:lnTo>
                  <a:lnTo>
                    <a:pt x="2746" y="1654"/>
                  </a:lnTo>
                  <a:lnTo>
                    <a:pt x="2716" y="1654"/>
                  </a:lnTo>
                  <a:lnTo>
                    <a:pt x="2702" y="1664"/>
                  </a:lnTo>
                  <a:lnTo>
                    <a:pt x="2684" y="1676"/>
                  </a:lnTo>
                  <a:lnTo>
                    <a:pt x="2670" y="1688"/>
                  </a:lnTo>
                  <a:lnTo>
                    <a:pt x="2678" y="1692"/>
                  </a:lnTo>
                  <a:lnTo>
                    <a:pt x="2716" y="1688"/>
                  </a:lnTo>
                  <a:lnTo>
                    <a:pt x="2708" y="1694"/>
                  </a:lnTo>
                  <a:lnTo>
                    <a:pt x="2668" y="1704"/>
                  </a:lnTo>
                  <a:lnTo>
                    <a:pt x="2642" y="1708"/>
                  </a:lnTo>
                  <a:lnTo>
                    <a:pt x="2662" y="1714"/>
                  </a:lnTo>
                  <a:lnTo>
                    <a:pt x="2688" y="1706"/>
                  </a:lnTo>
                  <a:lnTo>
                    <a:pt x="2714" y="1700"/>
                  </a:lnTo>
                  <a:lnTo>
                    <a:pt x="2718" y="1704"/>
                  </a:lnTo>
                  <a:lnTo>
                    <a:pt x="2666" y="1724"/>
                  </a:lnTo>
                  <a:lnTo>
                    <a:pt x="2702" y="1722"/>
                  </a:lnTo>
                  <a:lnTo>
                    <a:pt x="2704" y="1728"/>
                  </a:lnTo>
                  <a:lnTo>
                    <a:pt x="2722" y="1730"/>
                  </a:lnTo>
                  <a:lnTo>
                    <a:pt x="2720" y="1734"/>
                  </a:lnTo>
                  <a:lnTo>
                    <a:pt x="2688" y="1750"/>
                  </a:lnTo>
                  <a:lnTo>
                    <a:pt x="2696" y="1756"/>
                  </a:lnTo>
                  <a:lnTo>
                    <a:pt x="2694" y="1782"/>
                  </a:lnTo>
                  <a:lnTo>
                    <a:pt x="2698" y="1790"/>
                  </a:lnTo>
                  <a:lnTo>
                    <a:pt x="2712" y="1790"/>
                  </a:lnTo>
                  <a:lnTo>
                    <a:pt x="2718" y="1784"/>
                  </a:lnTo>
                  <a:lnTo>
                    <a:pt x="2728" y="1780"/>
                  </a:lnTo>
                  <a:lnTo>
                    <a:pt x="2736" y="1772"/>
                  </a:lnTo>
                  <a:lnTo>
                    <a:pt x="2746" y="1770"/>
                  </a:lnTo>
                  <a:lnTo>
                    <a:pt x="2756" y="1770"/>
                  </a:lnTo>
                  <a:lnTo>
                    <a:pt x="2758" y="1776"/>
                  </a:lnTo>
                  <a:lnTo>
                    <a:pt x="2750" y="1786"/>
                  </a:lnTo>
                  <a:lnTo>
                    <a:pt x="2736" y="1798"/>
                  </a:lnTo>
                  <a:lnTo>
                    <a:pt x="2744" y="1808"/>
                  </a:lnTo>
                  <a:lnTo>
                    <a:pt x="2740" y="1818"/>
                  </a:lnTo>
                  <a:lnTo>
                    <a:pt x="2742" y="1822"/>
                  </a:lnTo>
                  <a:lnTo>
                    <a:pt x="2752" y="1816"/>
                  </a:lnTo>
                  <a:lnTo>
                    <a:pt x="2758" y="1824"/>
                  </a:lnTo>
                  <a:lnTo>
                    <a:pt x="2768" y="1824"/>
                  </a:lnTo>
                  <a:lnTo>
                    <a:pt x="2772" y="1832"/>
                  </a:lnTo>
                  <a:lnTo>
                    <a:pt x="2768" y="1844"/>
                  </a:lnTo>
                  <a:lnTo>
                    <a:pt x="2762" y="1850"/>
                  </a:lnTo>
                  <a:lnTo>
                    <a:pt x="2754" y="1854"/>
                  </a:lnTo>
                  <a:lnTo>
                    <a:pt x="2758" y="1858"/>
                  </a:lnTo>
                  <a:lnTo>
                    <a:pt x="2770" y="1862"/>
                  </a:lnTo>
                  <a:lnTo>
                    <a:pt x="2800" y="1860"/>
                  </a:lnTo>
                  <a:lnTo>
                    <a:pt x="2858" y="1866"/>
                  </a:lnTo>
                  <a:lnTo>
                    <a:pt x="2874" y="1858"/>
                  </a:lnTo>
                  <a:lnTo>
                    <a:pt x="2882" y="1866"/>
                  </a:lnTo>
                  <a:lnTo>
                    <a:pt x="2896" y="1862"/>
                  </a:lnTo>
                  <a:lnTo>
                    <a:pt x="2912" y="1868"/>
                  </a:lnTo>
                  <a:lnTo>
                    <a:pt x="2916" y="1878"/>
                  </a:lnTo>
                  <a:lnTo>
                    <a:pt x="2958" y="1894"/>
                  </a:lnTo>
                  <a:lnTo>
                    <a:pt x="2970" y="1898"/>
                  </a:lnTo>
                  <a:lnTo>
                    <a:pt x="3006" y="1892"/>
                  </a:lnTo>
                  <a:lnTo>
                    <a:pt x="3010" y="1900"/>
                  </a:lnTo>
                  <a:lnTo>
                    <a:pt x="3006" y="1904"/>
                  </a:lnTo>
                  <a:lnTo>
                    <a:pt x="2990" y="1906"/>
                  </a:lnTo>
                  <a:lnTo>
                    <a:pt x="2982" y="1910"/>
                  </a:lnTo>
                  <a:lnTo>
                    <a:pt x="2986" y="1916"/>
                  </a:lnTo>
                  <a:lnTo>
                    <a:pt x="3004" y="1934"/>
                  </a:lnTo>
                  <a:lnTo>
                    <a:pt x="3032" y="1946"/>
                  </a:lnTo>
                  <a:lnTo>
                    <a:pt x="3060" y="1954"/>
                  </a:lnTo>
                  <a:lnTo>
                    <a:pt x="3104" y="1946"/>
                  </a:lnTo>
                  <a:lnTo>
                    <a:pt x="3162" y="1924"/>
                  </a:lnTo>
                  <a:lnTo>
                    <a:pt x="3180" y="1912"/>
                  </a:lnTo>
                  <a:lnTo>
                    <a:pt x="3192" y="1908"/>
                  </a:lnTo>
                  <a:lnTo>
                    <a:pt x="3188" y="1932"/>
                  </a:lnTo>
                  <a:lnTo>
                    <a:pt x="3190" y="1942"/>
                  </a:lnTo>
                  <a:lnTo>
                    <a:pt x="3200" y="1950"/>
                  </a:lnTo>
                  <a:lnTo>
                    <a:pt x="3194" y="1950"/>
                  </a:lnTo>
                  <a:lnTo>
                    <a:pt x="3170" y="1958"/>
                  </a:lnTo>
                  <a:lnTo>
                    <a:pt x="3158" y="1968"/>
                  </a:lnTo>
                  <a:lnTo>
                    <a:pt x="3152" y="1978"/>
                  </a:lnTo>
                  <a:lnTo>
                    <a:pt x="3138" y="1990"/>
                  </a:lnTo>
                  <a:lnTo>
                    <a:pt x="3130" y="1994"/>
                  </a:lnTo>
                  <a:lnTo>
                    <a:pt x="3130" y="1986"/>
                  </a:lnTo>
                  <a:lnTo>
                    <a:pt x="3158" y="1958"/>
                  </a:lnTo>
                  <a:lnTo>
                    <a:pt x="3168" y="1950"/>
                  </a:lnTo>
                  <a:lnTo>
                    <a:pt x="3180" y="1938"/>
                  </a:lnTo>
                  <a:lnTo>
                    <a:pt x="3184" y="1928"/>
                  </a:lnTo>
                  <a:lnTo>
                    <a:pt x="3184" y="1926"/>
                  </a:lnTo>
                  <a:lnTo>
                    <a:pt x="3168" y="1930"/>
                  </a:lnTo>
                  <a:lnTo>
                    <a:pt x="3156" y="1938"/>
                  </a:lnTo>
                  <a:lnTo>
                    <a:pt x="3134" y="1958"/>
                  </a:lnTo>
                  <a:lnTo>
                    <a:pt x="3134" y="1964"/>
                  </a:lnTo>
                  <a:lnTo>
                    <a:pt x="3126" y="1972"/>
                  </a:lnTo>
                  <a:lnTo>
                    <a:pt x="3112" y="1980"/>
                  </a:lnTo>
                  <a:lnTo>
                    <a:pt x="3102" y="1984"/>
                  </a:lnTo>
                  <a:lnTo>
                    <a:pt x="3094" y="1986"/>
                  </a:lnTo>
                  <a:lnTo>
                    <a:pt x="3070" y="1994"/>
                  </a:lnTo>
                  <a:lnTo>
                    <a:pt x="3068" y="2002"/>
                  </a:lnTo>
                  <a:lnTo>
                    <a:pt x="3086" y="2014"/>
                  </a:lnTo>
                  <a:lnTo>
                    <a:pt x="3084" y="2018"/>
                  </a:lnTo>
                  <a:lnTo>
                    <a:pt x="3086" y="2022"/>
                  </a:lnTo>
                  <a:lnTo>
                    <a:pt x="3098" y="2024"/>
                  </a:lnTo>
                  <a:lnTo>
                    <a:pt x="3100" y="2026"/>
                  </a:lnTo>
                  <a:lnTo>
                    <a:pt x="3094" y="2032"/>
                  </a:lnTo>
                  <a:lnTo>
                    <a:pt x="3112" y="2046"/>
                  </a:lnTo>
                  <a:lnTo>
                    <a:pt x="3114" y="2072"/>
                  </a:lnTo>
                  <a:lnTo>
                    <a:pt x="3122" y="2066"/>
                  </a:lnTo>
                  <a:lnTo>
                    <a:pt x="3134" y="2060"/>
                  </a:lnTo>
                  <a:lnTo>
                    <a:pt x="3156" y="2064"/>
                  </a:lnTo>
                  <a:lnTo>
                    <a:pt x="3162" y="2062"/>
                  </a:lnTo>
                  <a:lnTo>
                    <a:pt x="3180" y="2046"/>
                  </a:lnTo>
                  <a:lnTo>
                    <a:pt x="3188" y="2032"/>
                  </a:lnTo>
                  <a:lnTo>
                    <a:pt x="3194" y="2032"/>
                  </a:lnTo>
                  <a:lnTo>
                    <a:pt x="3198" y="2036"/>
                  </a:lnTo>
                  <a:lnTo>
                    <a:pt x="3212" y="2030"/>
                  </a:lnTo>
                  <a:lnTo>
                    <a:pt x="3214" y="2022"/>
                  </a:lnTo>
                  <a:lnTo>
                    <a:pt x="3220" y="1966"/>
                  </a:lnTo>
                  <a:lnTo>
                    <a:pt x="3228" y="1948"/>
                  </a:lnTo>
                  <a:lnTo>
                    <a:pt x="3224" y="1928"/>
                  </a:lnTo>
                  <a:lnTo>
                    <a:pt x="3222" y="1918"/>
                  </a:lnTo>
                  <a:lnTo>
                    <a:pt x="3230" y="1918"/>
                  </a:lnTo>
                  <a:lnTo>
                    <a:pt x="3238" y="1910"/>
                  </a:lnTo>
                  <a:lnTo>
                    <a:pt x="3274" y="1878"/>
                  </a:lnTo>
                  <a:lnTo>
                    <a:pt x="3216" y="1870"/>
                  </a:lnTo>
                  <a:lnTo>
                    <a:pt x="3170" y="1890"/>
                  </a:lnTo>
                  <a:lnTo>
                    <a:pt x="3164" y="1886"/>
                  </a:lnTo>
                  <a:lnTo>
                    <a:pt x="3156" y="1866"/>
                  </a:lnTo>
                  <a:lnTo>
                    <a:pt x="3114" y="1878"/>
                  </a:lnTo>
                  <a:lnTo>
                    <a:pt x="3100" y="1856"/>
                  </a:lnTo>
                  <a:lnTo>
                    <a:pt x="3158" y="180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76800" y="3677040"/>
              <a:ext cx="5760" cy="43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6" y="10"/>
                  </a:moveTo>
                  <a:lnTo>
                    <a:pt x="0" y="6"/>
                  </a:lnTo>
                  <a:lnTo>
                    <a:pt x="24" y="0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22" y="24"/>
                  </a:lnTo>
                  <a:lnTo>
                    <a:pt x="14" y="24"/>
                  </a:lnTo>
                  <a:lnTo>
                    <a:pt x="6" y="10"/>
                  </a:lnTo>
                  <a:lnTo>
                    <a:pt x="14" y="24"/>
                  </a:lnTo>
                  <a:lnTo>
                    <a:pt x="6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85800" y="3675240"/>
              <a:ext cx="6120" cy="61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" y="0"/>
                  </a:moveTo>
                  <a:lnTo>
                    <a:pt x="16" y="16"/>
                  </a:lnTo>
                  <a:lnTo>
                    <a:pt x="42" y="14"/>
                  </a:lnTo>
                  <a:lnTo>
                    <a:pt x="38" y="20"/>
                  </a:lnTo>
                  <a:lnTo>
                    <a:pt x="30" y="22"/>
                  </a:lnTo>
                  <a:lnTo>
                    <a:pt x="8" y="30"/>
                  </a:lnTo>
                  <a:lnTo>
                    <a:pt x="0" y="20"/>
                  </a:lnTo>
                  <a:lnTo>
                    <a:pt x="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07760" y="3698280"/>
              <a:ext cx="2880" cy="432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6" y="0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8" y="12"/>
                  </a:lnTo>
                  <a:lnTo>
                    <a:pt x="16" y="14"/>
                  </a:lnTo>
                  <a:lnTo>
                    <a:pt x="14" y="26"/>
                  </a:lnTo>
                  <a:lnTo>
                    <a:pt x="12" y="30"/>
                  </a:lnTo>
                  <a:lnTo>
                    <a:pt x="6" y="28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00200" y="3710520"/>
              <a:ext cx="2880" cy="7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2" y="4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6" y="30"/>
                  </a:lnTo>
                  <a:lnTo>
                    <a:pt x="14" y="32"/>
                  </a:lnTo>
                  <a:lnTo>
                    <a:pt x="18" y="48"/>
                  </a:lnTo>
                  <a:lnTo>
                    <a:pt x="4" y="50"/>
                  </a:lnTo>
                  <a:lnTo>
                    <a:pt x="0" y="14"/>
                  </a:lnTo>
                  <a:lnTo>
                    <a:pt x="2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76800" y="3677040"/>
              <a:ext cx="5760" cy="43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6" y="10"/>
                  </a:moveTo>
                  <a:lnTo>
                    <a:pt x="0" y="6"/>
                  </a:lnTo>
                  <a:lnTo>
                    <a:pt x="24" y="0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22" y="24"/>
                  </a:lnTo>
                  <a:lnTo>
                    <a:pt x="14" y="24"/>
                  </a:lnTo>
                  <a:lnTo>
                    <a:pt x="6" y="10"/>
                  </a:lnTo>
                  <a:lnTo>
                    <a:pt x="14" y="24"/>
                  </a:lnTo>
                  <a:lnTo>
                    <a:pt x="6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85800" y="3675240"/>
              <a:ext cx="6120" cy="61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" y="0"/>
                  </a:moveTo>
                  <a:lnTo>
                    <a:pt x="16" y="16"/>
                  </a:lnTo>
                  <a:lnTo>
                    <a:pt x="42" y="14"/>
                  </a:lnTo>
                  <a:lnTo>
                    <a:pt x="38" y="20"/>
                  </a:lnTo>
                  <a:lnTo>
                    <a:pt x="30" y="22"/>
                  </a:lnTo>
                  <a:lnTo>
                    <a:pt x="8" y="30"/>
                  </a:lnTo>
                  <a:lnTo>
                    <a:pt x="0" y="20"/>
                  </a:lnTo>
                  <a:lnTo>
                    <a:pt x="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7760" y="3698280"/>
              <a:ext cx="2880" cy="432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6" y="0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8" y="12"/>
                  </a:lnTo>
                  <a:lnTo>
                    <a:pt x="16" y="14"/>
                  </a:lnTo>
                  <a:lnTo>
                    <a:pt x="14" y="26"/>
                  </a:lnTo>
                  <a:lnTo>
                    <a:pt x="12" y="30"/>
                  </a:lnTo>
                  <a:lnTo>
                    <a:pt x="6" y="28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3710520"/>
              <a:ext cx="2880" cy="7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2" y="4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6" y="30"/>
                  </a:lnTo>
                  <a:lnTo>
                    <a:pt x="14" y="32"/>
                  </a:lnTo>
                  <a:lnTo>
                    <a:pt x="18" y="48"/>
                  </a:lnTo>
                  <a:lnTo>
                    <a:pt x="4" y="50"/>
                  </a:lnTo>
                  <a:lnTo>
                    <a:pt x="0" y="14"/>
                  </a:lnTo>
                  <a:lnTo>
                    <a:pt x="2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34360" y="3883680"/>
              <a:ext cx="18720" cy="16920"/>
            </a:xfrm>
            <a:custGeom>
              <a:avLst/>
              <a:gdLst/>
              <a:ahLst/>
              <a:rect l="l" t="t" r="r" b="b"/>
              <a:pathLst>
                <a:path w="108" h="102">
                  <a:moveTo>
                    <a:pt x="30" y="56"/>
                  </a:moveTo>
                  <a:lnTo>
                    <a:pt x="32" y="56"/>
                  </a:lnTo>
                  <a:lnTo>
                    <a:pt x="42" y="42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86" y="16"/>
                  </a:lnTo>
                  <a:lnTo>
                    <a:pt x="96" y="6"/>
                  </a:lnTo>
                  <a:lnTo>
                    <a:pt x="106" y="0"/>
                  </a:lnTo>
                  <a:lnTo>
                    <a:pt x="108" y="4"/>
                  </a:lnTo>
                  <a:lnTo>
                    <a:pt x="104" y="16"/>
                  </a:lnTo>
                  <a:lnTo>
                    <a:pt x="58" y="54"/>
                  </a:lnTo>
                  <a:lnTo>
                    <a:pt x="8" y="100"/>
                  </a:lnTo>
                  <a:lnTo>
                    <a:pt x="2" y="102"/>
                  </a:lnTo>
                  <a:lnTo>
                    <a:pt x="0" y="96"/>
                  </a:lnTo>
                  <a:lnTo>
                    <a:pt x="20" y="74"/>
                  </a:lnTo>
                  <a:lnTo>
                    <a:pt x="28" y="64"/>
                  </a:lnTo>
                  <a:lnTo>
                    <a:pt x="30" y="5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0" bIns="-28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99760" y="3991320"/>
              <a:ext cx="5760" cy="75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40" y="4"/>
                  </a:moveTo>
                  <a:lnTo>
                    <a:pt x="34" y="0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40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91840" y="3998880"/>
              <a:ext cx="4320" cy="432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0"/>
                  </a:moveTo>
                  <a:lnTo>
                    <a:pt x="0" y="14"/>
                  </a:lnTo>
                  <a:lnTo>
                    <a:pt x="0" y="18"/>
                  </a:lnTo>
                  <a:lnTo>
                    <a:pt x="24" y="10"/>
                  </a:lnTo>
                  <a:lnTo>
                    <a:pt x="2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68440" y="4003560"/>
              <a:ext cx="12240" cy="432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0" y="20"/>
                  </a:moveTo>
                  <a:lnTo>
                    <a:pt x="52" y="18"/>
                  </a:lnTo>
                  <a:lnTo>
                    <a:pt x="20" y="34"/>
                  </a:lnTo>
                  <a:lnTo>
                    <a:pt x="0" y="34"/>
                  </a:lnTo>
                  <a:lnTo>
                    <a:pt x="8" y="24"/>
                  </a:lnTo>
                  <a:lnTo>
                    <a:pt x="30" y="18"/>
                  </a:lnTo>
                  <a:lnTo>
                    <a:pt x="60" y="0"/>
                  </a:lnTo>
                  <a:lnTo>
                    <a:pt x="76" y="6"/>
                  </a:lnTo>
                  <a:lnTo>
                    <a:pt x="70" y="2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77240" y="3699720"/>
              <a:ext cx="10800" cy="612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0" y="28"/>
                  </a:moveTo>
                  <a:lnTo>
                    <a:pt x="4" y="34"/>
                  </a:lnTo>
                  <a:lnTo>
                    <a:pt x="58" y="4"/>
                  </a:lnTo>
                  <a:lnTo>
                    <a:pt x="54" y="0"/>
                  </a:lnTo>
                  <a:lnTo>
                    <a:pt x="0" y="2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90200" y="3673800"/>
              <a:ext cx="10800" cy="25920"/>
            </a:xfrm>
            <a:custGeom>
              <a:avLst/>
              <a:gdLst/>
              <a:ahLst/>
              <a:rect l="l" t="t" r="r" b="b"/>
              <a:pathLst>
                <a:path w="60" h="148">
                  <a:moveTo>
                    <a:pt x="0" y="146"/>
                  </a:moveTo>
                  <a:lnTo>
                    <a:pt x="4" y="148"/>
                  </a:lnTo>
                  <a:lnTo>
                    <a:pt x="28" y="144"/>
                  </a:lnTo>
                  <a:lnTo>
                    <a:pt x="60" y="76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52" y="76"/>
                  </a:lnTo>
                  <a:lnTo>
                    <a:pt x="26" y="134"/>
                  </a:lnTo>
                  <a:lnTo>
                    <a:pt x="0" y="14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800" bIns="-198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82000" y="3526560"/>
              <a:ext cx="48240" cy="16560"/>
            </a:xfrm>
            <a:custGeom>
              <a:avLst/>
              <a:gdLst/>
              <a:ahLst/>
              <a:rect l="l" t="t" r="r" b="b"/>
              <a:pathLst>
                <a:path w="278" h="94">
                  <a:moveTo>
                    <a:pt x="252" y="0"/>
                  </a:moveTo>
                  <a:lnTo>
                    <a:pt x="222" y="20"/>
                  </a:lnTo>
                  <a:lnTo>
                    <a:pt x="194" y="32"/>
                  </a:lnTo>
                  <a:lnTo>
                    <a:pt x="146" y="32"/>
                  </a:lnTo>
                  <a:lnTo>
                    <a:pt x="76" y="42"/>
                  </a:lnTo>
                  <a:lnTo>
                    <a:pt x="50" y="50"/>
                  </a:lnTo>
                  <a:lnTo>
                    <a:pt x="32" y="56"/>
                  </a:lnTo>
                  <a:lnTo>
                    <a:pt x="22" y="68"/>
                  </a:lnTo>
                  <a:lnTo>
                    <a:pt x="8" y="72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4" y="84"/>
                  </a:lnTo>
                  <a:lnTo>
                    <a:pt x="16" y="82"/>
                  </a:lnTo>
                  <a:lnTo>
                    <a:pt x="14" y="90"/>
                  </a:lnTo>
                  <a:lnTo>
                    <a:pt x="22" y="94"/>
                  </a:lnTo>
                  <a:lnTo>
                    <a:pt x="64" y="78"/>
                  </a:lnTo>
                  <a:lnTo>
                    <a:pt x="128" y="66"/>
                  </a:lnTo>
                  <a:lnTo>
                    <a:pt x="186" y="60"/>
                  </a:lnTo>
                  <a:lnTo>
                    <a:pt x="212" y="48"/>
                  </a:lnTo>
                  <a:lnTo>
                    <a:pt x="242" y="42"/>
                  </a:lnTo>
                  <a:lnTo>
                    <a:pt x="278" y="28"/>
                  </a:lnTo>
                  <a:lnTo>
                    <a:pt x="252" y="24"/>
                  </a:lnTo>
                  <a:lnTo>
                    <a:pt x="230" y="30"/>
                  </a:lnTo>
                  <a:lnTo>
                    <a:pt x="216" y="40"/>
                  </a:lnTo>
                  <a:lnTo>
                    <a:pt x="200" y="42"/>
                  </a:lnTo>
                  <a:lnTo>
                    <a:pt x="204" y="36"/>
                  </a:lnTo>
                  <a:lnTo>
                    <a:pt x="242" y="10"/>
                  </a:lnTo>
                  <a:lnTo>
                    <a:pt x="252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9160" bIns="-29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26000" y="3442320"/>
              <a:ext cx="2520" cy="43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6"/>
                  </a:moveTo>
                  <a:lnTo>
                    <a:pt x="0" y="28"/>
                  </a:lnTo>
                  <a:lnTo>
                    <a:pt x="12" y="30"/>
                  </a:lnTo>
                  <a:lnTo>
                    <a:pt x="16" y="22"/>
                  </a:lnTo>
                  <a:lnTo>
                    <a:pt x="12" y="14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1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30680" y="3440880"/>
              <a:ext cx="2880" cy="28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8"/>
                  </a:moveTo>
                  <a:lnTo>
                    <a:pt x="8" y="22"/>
                  </a:lnTo>
                  <a:lnTo>
                    <a:pt x="14" y="1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840" bIns="-428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30680" y="3443760"/>
              <a:ext cx="1080" cy="43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4" y="8"/>
                  </a:moveTo>
                  <a:lnTo>
                    <a:pt x="0" y="18"/>
                  </a:lnTo>
                  <a:lnTo>
                    <a:pt x="6" y="22"/>
                  </a:lnTo>
                  <a:lnTo>
                    <a:pt x="14" y="10"/>
                  </a:lnTo>
                  <a:lnTo>
                    <a:pt x="14" y="0"/>
                  </a:lnTo>
                  <a:lnTo>
                    <a:pt x="4" y="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62560" y="2887200"/>
              <a:ext cx="71280" cy="151560"/>
            </a:xfrm>
            <a:custGeom>
              <a:avLst/>
              <a:gdLst/>
              <a:ahLst/>
              <a:rect l="l" t="t" r="r" b="b"/>
              <a:pathLst>
                <a:path w="416" h="880">
                  <a:moveTo>
                    <a:pt x="92" y="32"/>
                  </a:moveTo>
                  <a:lnTo>
                    <a:pt x="100" y="56"/>
                  </a:lnTo>
                  <a:lnTo>
                    <a:pt x="78" y="94"/>
                  </a:lnTo>
                  <a:lnTo>
                    <a:pt x="76" y="104"/>
                  </a:lnTo>
                  <a:lnTo>
                    <a:pt x="70" y="110"/>
                  </a:lnTo>
                  <a:lnTo>
                    <a:pt x="70" y="114"/>
                  </a:lnTo>
                  <a:lnTo>
                    <a:pt x="102" y="108"/>
                  </a:lnTo>
                  <a:lnTo>
                    <a:pt x="152" y="90"/>
                  </a:lnTo>
                  <a:lnTo>
                    <a:pt x="188" y="88"/>
                  </a:lnTo>
                  <a:lnTo>
                    <a:pt x="208" y="74"/>
                  </a:lnTo>
                  <a:lnTo>
                    <a:pt x="222" y="64"/>
                  </a:lnTo>
                  <a:lnTo>
                    <a:pt x="232" y="58"/>
                  </a:lnTo>
                  <a:lnTo>
                    <a:pt x="248" y="54"/>
                  </a:lnTo>
                  <a:lnTo>
                    <a:pt x="258" y="50"/>
                  </a:lnTo>
                  <a:lnTo>
                    <a:pt x="278" y="32"/>
                  </a:lnTo>
                  <a:lnTo>
                    <a:pt x="296" y="24"/>
                  </a:lnTo>
                  <a:lnTo>
                    <a:pt x="342" y="20"/>
                  </a:lnTo>
                  <a:lnTo>
                    <a:pt x="408" y="0"/>
                  </a:lnTo>
                  <a:lnTo>
                    <a:pt x="416" y="2"/>
                  </a:lnTo>
                  <a:lnTo>
                    <a:pt x="414" y="14"/>
                  </a:lnTo>
                  <a:lnTo>
                    <a:pt x="402" y="42"/>
                  </a:lnTo>
                  <a:lnTo>
                    <a:pt x="402" y="50"/>
                  </a:lnTo>
                  <a:lnTo>
                    <a:pt x="410" y="50"/>
                  </a:lnTo>
                  <a:lnTo>
                    <a:pt x="400" y="68"/>
                  </a:lnTo>
                  <a:lnTo>
                    <a:pt x="392" y="92"/>
                  </a:lnTo>
                  <a:lnTo>
                    <a:pt x="384" y="106"/>
                  </a:lnTo>
                  <a:lnTo>
                    <a:pt x="388" y="126"/>
                  </a:lnTo>
                  <a:lnTo>
                    <a:pt x="372" y="150"/>
                  </a:lnTo>
                  <a:lnTo>
                    <a:pt x="366" y="154"/>
                  </a:lnTo>
                  <a:lnTo>
                    <a:pt x="362" y="164"/>
                  </a:lnTo>
                  <a:lnTo>
                    <a:pt x="386" y="184"/>
                  </a:lnTo>
                  <a:lnTo>
                    <a:pt x="386" y="204"/>
                  </a:lnTo>
                  <a:lnTo>
                    <a:pt x="370" y="238"/>
                  </a:lnTo>
                  <a:lnTo>
                    <a:pt x="356" y="272"/>
                  </a:lnTo>
                  <a:lnTo>
                    <a:pt x="338" y="350"/>
                  </a:lnTo>
                  <a:lnTo>
                    <a:pt x="318" y="380"/>
                  </a:lnTo>
                  <a:lnTo>
                    <a:pt x="316" y="386"/>
                  </a:lnTo>
                  <a:lnTo>
                    <a:pt x="322" y="386"/>
                  </a:lnTo>
                  <a:lnTo>
                    <a:pt x="306" y="416"/>
                  </a:lnTo>
                  <a:lnTo>
                    <a:pt x="300" y="448"/>
                  </a:lnTo>
                  <a:lnTo>
                    <a:pt x="296" y="462"/>
                  </a:lnTo>
                  <a:lnTo>
                    <a:pt x="290" y="468"/>
                  </a:lnTo>
                  <a:lnTo>
                    <a:pt x="280" y="474"/>
                  </a:lnTo>
                  <a:lnTo>
                    <a:pt x="274" y="484"/>
                  </a:lnTo>
                  <a:lnTo>
                    <a:pt x="278" y="500"/>
                  </a:lnTo>
                  <a:lnTo>
                    <a:pt x="274" y="512"/>
                  </a:lnTo>
                  <a:lnTo>
                    <a:pt x="268" y="518"/>
                  </a:lnTo>
                  <a:lnTo>
                    <a:pt x="250" y="548"/>
                  </a:lnTo>
                  <a:lnTo>
                    <a:pt x="244" y="564"/>
                  </a:lnTo>
                  <a:lnTo>
                    <a:pt x="244" y="574"/>
                  </a:lnTo>
                  <a:lnTo>
                    <a:pt x="254" y="590"/>
                  </a:lnTo>
                  <a:lnTo>
                    <a:pt x="304" y="614"/>
                  </a:lnTo>
                  <a:lnTo>
                    <a:pt x="322" y="654"/>
                  </a:lnTo>
                  <a:lnTo>
                    <a:pt x="322" y="666"/>
                  </a:lnTo>
                  <a:lnTo>
                    <a:pt x="348" y="678"/>
                  </a:lnTo>
                  <a:lnTo>
                    <a:pt x="348" y="686"/>
                  </a:lnTo>
                  <a:lnTo>
                    <a:pt x="344" y="698"/>
                  </a:lnTo>
                  <a:lnTo>
                    <a:pt x="340" y="702"/>
                  </a:lnTo>
                  <a:lnTo>
                    <a:pt x="328" y="710"/>
                  </a:lnTo>
                  <a:lnTo>
                    <a:pt x="300" y="734"/>
                  </a:lnTo>
                  <a:lnTo>
                    <a:pt x="258" y="780"/>
                  </a:lnTo>
                  <a:lnTo>
                    <a:pt x="242" y="810"/>
                  </a:lnTo>
                  <a:lnTo>
                    <a:pt x="234" y="818"/>
                  </a:lnTo>
                  <a:lnTo>
                    <a:pt x="220" y="828"/>
                  </a:lnTo>
                  <a:lnTo>
                    <a:pt x="210" y="834"/>
                  </a:lnTo>
                  <a:lnTo>
                    <a:pt x="196" y="844"/>
                  </a:lnTo>
                  <a:lnTo>
                    <a:pt x="184" y="840"/>
                  </a:lnTo>
                  <a:lnTo>
                    <a:pt x="156" y="856"/>
                  </a:lnTo>
                  <a:lnTo>
                    <a:pt x="132" y="868"/>
                  </a:lnTo>
                  <a:lnTo>
                    <a:pt x="120" y="870"/>
                  </a:lnTo>
                  <a:lnTo>
                    <a:pt x="112" y="870"/>
                  </a:lnTo>
                  <a:lnTo>
                    <a:pt x="96" y="876"/>
                  </a:lnTo>
                  <a:lnTo>
                    <a:pt x="100" y="862"/>
                  </a:lnTo>
                  <a:lnTo>
                    <a:pt x="80" y="880"/>
                  </a:lnTo>
                  <a:lnTo>
                    <a:pt x="74" y="878"/>
                  </a:lnTo>
                  <a:lnTo>
                    <a:pt x="84" y="862"/>
                  </a:lnTo>
                  <a:lnTo>
                    <a:pt x="106" y="838"/>
                  </a:lnTo>
                  <a:lnTo>
                    <a:pt x="122" y="834"/>
                  </a:lnTo>
                  <a:lnTo>
                    <a:pt x="126" y="840"/>
                  </a:lnTo>
                  <a:lnTo>
                    <a:pt x="138" y="834"/>
                  </a:lnTo>
                  <a:lnTo>
                    <a:pt x="142" y="836"/>
                  </a:lnTo>
                  <a:lnTo>
                    <a:pt x="154" y="828"/>
                  </a:lnTo>
                  <a:lnTo>
                    <a:pt x="162" y="826"/>
                  </a:lnTo>
                  <a:lnTo>
                    <a:pt x="168" y="816"/>
                  </a:lnTo>
                  <a:lnTo>
                    <a:pt x="186" y="792"/>
                  </a:lnTo>
                  <a:lnTo>
                    <a:pt x="180" y="788"/>
                  </a:lnTo>
                  <a:lnTo>
                    <a:pt x="168" y="794"/>
                  </a:lnTo>
                  <a:lnTo>
                    <a:pt x="162" y="792"/>
                  </a:lnTo>
                  <a:lnTo>
                    <a:pt x="160" y="788"/>
                  </a:lnTo>
                  <a:lnTo>
                    <a:pt x="182" y="762"/>
                  </a:lnTo>
                  <a:lnTo>
                    <a:pt x="196" y="750"/>
                  </a:lnTo>
                  <a:lnTo>
                    <a:pt x="200" y="740"/>
                  </a:lnTo>
                  <a:lnTo>
                    <a:pt x="216" y="722"/>
                  </a:lnTo>
                  <a:lnTo>
                    <a:pt x="220" y="698"/>
                  </a:lnTo>
                  <a:lnTo>
                    <a:pt x="234" y="678"/>
                  </a:lnTo>
                  <a:lnTo>
                    <a:pt x="222" y="686"/>
                  </a:lnTo>
                  <a:lnTo>
                    <a:pt x="236" y="672"/>
                  </a:lnTo>
                  <a:lnTo>
                    <a:pt x="252" y="662"/>
                  </a:lnTo>
                  <a:lnTo>
                    <a:pt x="256" y="654"/>
                  </a:lnTo>
                  <a:lnTo>
                    <a:pt x="244" y="654"/>
                  </a:lnTo>
                  <a:lnTo>
                    <a:pt x="218" y="668"/>
                  </a:lnTo>
                  <a:lnTo>
                    <a:pt x="204" y="672"/>
                  </a:lnTo>
                  <a:lnTo>
                    <a:pt x="188" y="682"/>
                  </a:lnTo>
                  <a:lnTo>
                    <a:pt x="180" y="674"/>
                  </a:lnTo>
                  <a:lnTo>
                    <a:pt x="164" y="680"/>
                  </a:lnTo>
                  <a:lnTo>
                    <a:pt x="150" y="684"/>
                  </a:lnTo>
                  <a:lnTo>
                    <a:pt x="144" y="692"/>
                  </a:lnTo>
                  <a:lnTo>
                    <a:pt x="130" y="704"/>
                  </a:lnTo>
                  <a:lnTo>
                    <a:pt x="122" y="708"/>
                  </a:lnTo>
                  <a:lnTo>
                    <a:pt x="116" y="716"/>
                  </a:lnTo>
                  <a:lnTo>
                    <a:pt x="98" y="724"/>
                  </a:lnTo>
                  <a:lnTo>
                    <a:pt x="96" y="720"/>
                  </a:lnTo>
                  <a:lnTo>
                    <a:pt x="82" y="732"/>
                  </a:lnTo>
                  <a:lnTo>
                    <a:pt x="66" y="740"/>
                  </a:lnTo>
                  <a:lnTo>
                    <a:pt x="66" y="732"/>
                  </a:lnTo>
                  <a:lnTo>
                    <a:pt x="68" y="720"/>
                  </a:lnTo>
                  <a:lnTo>
                    <a:pt x="76" y="704"/>
                  </a:lnTo>
                  <a:lnTo>
                    <a:pt x="86" y="698"/>
                  </a:lnTo>
                  <a:lnTo>
                    <a:pt x="98" y="696"/>
                  </a:lnTo>
                  <a:lnTo>
                    <a:pt x="114" y="690"/>
                  </a:lnTo>
                  <a:lnTo>
                    <a:pt x="148" y="664"/>
                  </a:lnTo>
                  <a:lnTo>
                    <a:pt x="170" y="640"/>
                  </a:lnTo>
                  <a:lnTo>
                    <a:pt x="186" y="634"/>
                  </a:lnTo>
                  <a:lnTo>
                    <a:pt x="220" y="634"/>
                  </a:lnTo>
                  <a:lnTo>
                    <a:pt x="224" y="630"/>
                  </a:lnTo>
                  <a:lnTo>
                    <a:pt x="202" y="616"/>
                  </a:lnTo>
                  <a:lnTo>
                    <a:pt x="200" y="602"/>
                  </a:lnTo>
                  <a:lnTo>
                    <a:pt x="192" y="592"/>
                  </a:lnTo>
                  <a:lnTo>
                    <a:pt x="196" y="574"/>
                  </a:lnTo>
                  <a:lnTo>
                    <a:pt x="222" y="544"/>
                  </a:lnTo>
                  <a:lnTo>
                    <a:pt x="208" y="540"/>
                  </a:lnTo>
                  <a:lnTo>
                    <a:pt x="210" y="532"/>
                  </a:lnTo>
                  <a:lnTo>
                    <a:pt x="218" y="526"/>
                  </a:lnTo>
                  <a:lnTo>
                    <a:pt x="218" y="518"/>
                  </a:lnTo>
                  <a:lnTo>
                    <a:pt x="198" y="512"/>
                  </a:lnTo>
                  <a:lnTo>
                    <a:pt x="196" y="506"/>
                  </a:lnTo>
                  <a:lnTo>
                    <a:pt x="202" y="482"/>
                  </a:lnTo>
                  <a:lnTo>
                    <a:pt x="208" y="476"/>
                  </a:lnTo>
                  <a:lnTo>
                    <a:pt x="216" y="498"/>
                  </a:lnTo>
                  <a:lnTo>
                    <a:pt x="212" y="504"/>
                  </a:lnTo>
                  <a:lnTo>
                    <a:pt x="224" y="482"/>
                  </a:lnTo>
                  <a:lnTo>
                    <a:pt x="236" y="468"/>
                  </a:lnTo>
                  <a:lnTo>
                    <a:pt x="228" y="468"/>
                  </a:lnTo>
                  <a:lnTo>
                    <a:pt x="214" y="474"/>
                  </a:lnTo>
                  <a:lnTo>
                    <a:pt x="206" y="472"/>
                  </a:lnTo>
                  <a:lnTo>
                    <a:pt x="202" y="464"/>
                  </a:lnTo>
                  <a:lnTo>
                    <a:pt x="208" y="458"/>
                  </a:lnTo>
                  <a:lnTo>
                    <a:pt x="208" y="456"/>
                  </a:lnTo>
                  <a:lnTo>
                    <a:pt x="202" y="454"/>
                  </a:lnTo>
                  <a:lnTo>
                    <a:pt x="194" y="458"/>
                  </a:lnTo>
                  <a:lnTo>
                    <a:pt x="184" y="460"/>
                  </a:lnTo>
                  <a:lnTo>
                    <a:pt x="184" y="448"/>
                  </a:lnTo>
                  <a:lnTo>
                    <a:pt x="186" y="440"/>
                  </a:lnTo>
                  <a:lnTo>
                    <a:pt x="198" y="432"/>
                  </a:lnTo>
                  <a:lnTo>
                    <a:pt x="226" y="434"/>
                  </a:lnTo>
                  <a:lnTo>
                    <a:pt x="240" y="426"/>
                  </a:lnTo>
                  <a:lnTo>
                    <a:pt x="218" y="424"/>
                  </a:lnTo>
                  <a:lnTo>
                    <a:pt x="214" y="418"/>
                  </a:lnTo>
                  <a:lnTo>
                    <a:pt x="218" y="414"/>
                  </a:lnTo>
                  <a:lnTo>
                    <a:pt x="228" y="410"/>
                  </a:lnTo>
                  <a:lnTo>
                    <a:pt x="230" y="404"/>
                  </a:lnTo>
                  <a:lnTo>
                    <a:pt x="222" y="404"/>
                  </a:lnTo>
                  <a:lnTo>
                    <a:pt x="234" y="390"/>
                  </a:lnTo>
                  <a:lnTo>
                    <a:pt x="250" y="386"/>
                  </a:lnTo>
                  <a:lnTo>
                    <a:pt x="252" y="382"/>
                  </a:lnTo>
                  <a:lnTo>
                    <a:pt x="228" y="384"/>
                  </a:lnTo>
                  <a:lnTo>
                    <a:pt x="228" y="378"/>
                  </a:lnTo>
                  <a:lnTo>
                    <a:pt x="250" y="362"/>
                  </a:lnTo>
                  <a:lnTo>
                    <a:pt x="274" y="386"/>
                  </a:lnTo>
                  <a:lnTo>
                    <a:pt x="270" y="400"/>
                  </a:lnTo>
                  <a:lnTo>
                    <a:pt x="278" y="404"/>
                  </a:lnTo>
                  <a:lnTo>
                    <a:pt x="274" y="402"/>
                  </a:lnTo>
                  <a:lnTo>
                    <a:pt x="276" y="388"/>
                  </a:lnTo>
                  <a:lnTo>
                    <a:pt x="290" y="372"/>
                  </a:lnTo>
                  <a:lnTo>
                    <a:pt x="286" y="368"/>
                  </a:lnTo>
                  <a:lnTo>
                    <a:pt x="280" y="374"/>
                  </a:lnTo>
                  <a:lnTo>
                    <a:pt x="276" y="366"/>
                  </a:lnTo>
                  <a:lnTo>
                    <a:pt x="278" y="348"/>
                  </a:lnTo>
                  <a:lnTo>
                    <a:pt x="284" y="338"/>
                  </a:lnTo>
                  <a:lnTo>
                    <a:pt x="298" y="330"/>
                  </a:lnTo>
                  <a:lnTo>
                    <a:pt x="314" y="338"/>
                  </a:lnTo>
                  <a:lnTo>
                    <a:pt x="322" y="334"/>
                  </a:lnTo>
                  <a:lnTo>
                    <a:pt x="316" y="330"/>
                  </a:lnTo>
                  <a:lnTo>
                    <a:pt x="284" y="324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58" y="336"/>
                  </a:lnTo>
                  <a:lnTo>
                    <a:pt x="264" y="322"/>
                  </a:lnTo>
                  <a:lnTo>
                    <a:pt x="274" y="314"/>
                  </a:lnTo>
                  <a:lnTo>
                    <a:pt x="288" y="314"/>
                  </a:lnTo>
                  <a:lnTo>
                    <a:pt x="318" y="304"/>
                  </a:lnTo>
                  <a:lnTo>
                    <a:pt x="322" y="298"/>
                  </a:lnTo>
                  <a:lnTo>
                    <a:pt x="296" y="304"/>
                  </a:lnTo>
                  <a:lnTo>
                    <a:pt x="300" y="298"/>
                  </a:lnTo>
                  <a:lnTo>
                    <a:pt x="330" y="282"/>
                  </a:lnTo>
                  <a:lnTo>
                    <a:pt x="318" y="282"/>
                  </a:lnTo>
                  <a:lnTo>
                    <a:pt x="306" y="286"/>
                  </a:lnTo>
                  <a:lnTo>
                    <a:pt x="288" y="298"/>
                  </a:lnTo>
                  <a:lnTo>
                    <a:pt x="272" y="306"/>
                  </a:lnTo>
                  <a:lnTo>
                    <a:pt x="266" y="300"/>
                  </a:lnTo>
                  <a:lnTo>
                    <a:pt x="276" y="280"/>
                  </a:lnTo>
                  <a:lnTo>
                    <a:pt x="288" y="270"/>
                  </a:lnTo>
                  <a:lnTo>
                    <a:pt x="288" y="264"/>
                  </a:lnTo>
                  <a:lnTo>
                    <a:pt x="282" y="264"/>
                  </a:lnTo>
                  <a:lnTo>
                    <a:pt x="268" y="268"/>
                  </a:lnTo>
                  <a:lnTo>
                    <a:pt x="270" y="258"/>
                  </a:lnTo>
                  <a:lnTo>
                    <a:pt x="264" y="238"/>
                  </a:lnTo>
                  <a:lnTo>
                    <a:pt x="248" y="232"/>
                  </a:lnTo>
                  <a:lnTo>
                    <a:pt x="260" y="204"/>
                  </a:lnTo>
                  <a:lnTo>
                    <a:pt x="260" y="194"/>
                  </a:lnTo>
                  <a:lnTo>
                    <a:pt x="276" y="184"/>
                  </a:lnTo>
                  <a:lnTo>
                    <a:pt x="292" y="164"/>
                  </a:lnTo>
                  <a:lnTo>
                    <a:pt x="278" y="168"/>
                  </a:lnTo>
                  <a:lnTo>
                    <a:pt x="320" y="106"/>
                  </a:lnTo>
                  <a:lnTo>
                    <a:pt x="332" y="80"/>
                  </a:lnTo>
                  <a:lnTo>
                    <a:pt x="348" y="62"/>
                  </a:lnTo>
                  <a:lnTo>
                    <a:pt x="328" y="72"/>
                  </a:lnTo>
                  <a:lnTo>
                    <a:pt x="314" y="96"/>
                  </a:lnTo>
                  <a:lnTo>
                    <a:pt x="306" y="102"/>
                  </a:lnTo>
                  <a:lnTo>
                    <a:pt x="306" y="96"/>
                  </a:lnTo>
                  <a:lnTo>
                    <a:pt x="288" y="122"/>
                  </a:lnTo>
                  <a:lnTo>
                    <a:pt x="280" y="130"/>
                  </a:lnTo>
                  <a:lnTo>
                    <a:pt x="262" y="162"/>
                  </a:lnTo>
                  <a:lnTo>
                    <a:pt x="236" y="194"/>
                  </a:lnTo>
                  <a:lnTo>
                    <a:pt x="222" y="220"/>
                  </a:lnTo>
                  <a:lnTo>
                    <a:pt x="212" y="232"/>
                  </a:lnTo>
                  <a:lnTo>
                    <a:pt x="184" y="250"/>
                  </a:lnTo>
                  <a:lnTo>
                    <a:pt x="174" y="256"/>
                  </a:lnTo>
                  <a:lnTo>
                    <a:pt x="162" y="250"/>
                  </a:lnTo>
                  <a:lnTo>
                    <a:pt x="186" y="216"/>
                  </a:lnTo>
                  <a:lnTo>
                    <a:pt x="186" y="206"/>
                  </a:lnTo>
                  <a:lnTo>
                    <a:pt x="168" y="222"/>
                  </a:lnTo>
                  <a:lnTo>
                    <a:pt x="138" y="216"/>
                  </a:lnTo>
                  <a:lnTo>
                    <a:pt x="166" y="188"/>
                  </a:lnTo>
                  <a:lnTo>
                    <a:pt x="174" y="188"/>
                  </a:lnTo>
                  <a:lnTo>
                    <a:pt x="172" y="180"/>
                  </a:lnTo>
                  <a:lnTo>
                    <a:pt x="180" y="160"/>
                  </a:lnTo>
                  <a:lnTo>
                    <a:pt x="196" y="144"/>
                  </a:lnTo>
                  <a:lnTo>
                    <a:pt x="204" y="140"/>
                  </a:lnTo>
                  <a:lnTo>
                    <a:pt x="204" y="128"/>
                  </a:lnTo>
                  <a:lnTo>
                    <a:pt x="198" y="128"/>
                  </a:lnTo>
                  <a:lnTo>
                    <a:pt x="174" y="148"/>
                  </a:lnTo>
                  <a:lnTo>
                    <a:pt x="160" y="152"/>
                  </a:lnTo>
                  <a:lnTo>
                    <a:pt x="158" y="138"/>
                  </a:lnTo>
                  <a:lnTo>
                    <a:pt x="164" y="114"/>
                  </a:lnTo>
                  <a:lnTo>
                    <a:pt x="160" y="112"/>
                  </a:lnTo>
                  <a:lnTo>
                    <a:pt x="154" y="120"/>
                  </a:lnTo>
                  <a:lnTo>
                    <a:pt x="144" y="124"/>
                  </a:lnTo>
                  <a:lnTo>
                    <a:pt x="140" y="114"/>
                  </a:lnTo>
                  <a:lnTo>
                    <a:pt x="140" y="104"/>
                  </a:lnTo>
                  <a:lnTo>
                    <a:pt x="136" y="114"/>
                  </a:lnTo>
                  <a:lnTo>
                    <a:pt x="124" y="120"/>
                  </a:lnTo>
                  <a:lnTo>
                    <a:pt x="114" y="120"/>
                  </a:lnTo>
                  <a:lnTo>
                    <a:pt x="110" y="122"/>
                  </a:lnTo>
                  <a:lnTo>
                    <a:pt x="128" y="126"/>
                  </a:lnTo>
                  <a:lnTo>
                    <a:pt x="134" y="138"/>
                  </a:lnTo>
                  <a:lnTo>
                    <a:pt x="130" y="146"/>
                  </a:lnTo>
                  <a:lnTo>
                    <a:pt x="126" y="148"/>
                  </a:lnTo>
                  <a:lnTo>
                    <a:pt x="132" y="162"/>
                  </a:lnTo>
                  <a:lnTo>
                    <a:pt x="124" y="170"/>
                  </a:lnTo>
                  <a:lnTo>
                    <a:pt x="126" y="174"/>
                  </a:lnTo>
                  <a:lnTo>
                    <a:pt x="134" y="172"/>
                  </a:lnTo>
                  <a:lnTo>
                    <a:pt x="142" y="172"/>
                  </a:lnTo>
                  <a:lnTo>
                    <a:pt x="132" y="196"/>
                  </a:lnTo>
                  <a:lnTo>
                    <a:pt x="124" y="206"/>
                  </a:lnTo>
                  <a:lnTo>
                    <a:pt x="110" y="218"/>
                  </a:lnTo>
                  <a:lnTo>
                    <a:pt x="92" y="222"/>
                  </a:lnTo>
                  <a:lnTo>
                    <a:pt x="70" y="224"/>
                  </a:lnTo>
                  <a:lnTo>
                    <a:pt x="76" y="212"/>
                  </a:lnTo>
                  <a:lnTo>
                    <a:pt x="76" y="214"/>
                  </a:lnTo>
                  <a:lnTo>
                    <a:pt x="62" y="228"/>
                  </a:lnTo>
                  <a:lnTo>
                    <a:pt x="38" y="232"/>
                  </a:lnTo>
                  <a:lnTo>
                    <a:pt x="30" y="200"/>
                  </a:lnTo>
                  <a:lnTo>
                    <a:pt x="12" y="192"/>
                  </a:lnTo>
                  <a:lnTo>
                    <a:pt x="14" y="178"/>
                  </a:lnTo>
                  <a:lnTo>
                    <a:pt x="8" y="170"/>
                  </a:lnTo>
                  <a:lnTo>
                    <a:pt x="0" y="164"/>
                  </a:lnTo>
                  <a:lnTo>
                    <a:pt x="28" y="146"/>
                  </a:lnTo>
                  <a:lnTo>
                    <a:pt x="20" y="144"/>
                  </a:lnTo>
                  <a:lnTo>
                    <a:pt x="6" y="148"/>
                  </a:lnTo>
                  <a:lnTo>
                    <a:pt x="6" y="128"/>
                  </a:lnTo>
                  <a:lnTo>
                    <a:pt x="16" y="88"/>
                  </a:lnTo>
                  <a:lnTo>
                    <a:pt x="28" y="74"/>
                  </a:lnTo>
                  <a:lnTo>
                    <a:pt x="44" y="64"/>
                  </a:lnTo>
                  <a:lnTo>
                    <a:pt x="78" y="38"/>
                  </a:lnTo>
                  <a:lnTo>
                    <a:pt x="92" y="3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94640" y="4511160"/>
              <a:ext cx="4680" cy="1332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6" y="0"/>
                  </a:moveTo>
                  <a:lnTo>
                    <a:pt x="20" y="2"/>
                  </a:lnTo>
                  <a:lnTo>
                    <a:pt x="20" y="0"/>
                  </a:lnTo>
                  <a:lnTo>
                    <a:pt x="2" y="22"/>
                  </a:lnTo>
                  <a:lnTo>
                    <a:pt x="0" y="48"/>
                  </a:lnTo>
                  <a:lnTo>
                    <a:pt x="18" y="72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0" bIns="-32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19520" y="3789000"/>
              <a:ext cx="6120" cy="57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0" y="12"/>
                  </a:moveTo>
                  <a:lnTo>
                    <a:pt x="26" y="0"/>
                  </a:lnTo>
                  <a:lnTo>
                    <a:pt x="20" y="10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12" y="28"/>
                  </a:lnTo>
                  <a:lnTo>
                    <a:pt x="20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960" bIns="-399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18480" y="4188960"/>
              <a:ext cx="46440" cy="24120"/>
            </a:xfrm>
            <a:custGeom>
              <a:avLst/>
              <a:gdLst/>
              <a:ahLst/>
              <a:rect l="l" t="t" r="r" b="b"/>
              <a:pathLst>
                <a:path w="274" h="140">
                  <a:moveTo>
                    <a:pt x="168" y="18"/>
                  </a:moveTo>
                  <a:lnTo>
                    <a:pt x="178" y="20"/>
                  </a:lnTo>
                  <a:lnTo>
                    <a:pt x="200" y="36"/>
                  </a:lnTo>
                  <a:lnTo>
                    <a:pt x="212" y="56"/>
                  </a:lnTo>
                  <a:lnTo>
                    <a:pt x="264" y="60"/>
                  </a:lnTo>
                  <a:lnTo>
                    <a:pt x="274" y="116"/>
                  </a:lnTo>
                  <a:lnTo>
                    <a:pt x="250" y="122"/>
                  </a:lnTo>
                  <a:lnTo>
                    <a:pt x="214" y="108"/>
                  </a:lnTo>
                  <a:lnTo>
                    <a:pt x="184" y="120"/>
                  </a:lnTo>
                  <a:lnTo>
                    <a:pt x="162" y="120"/>
                  </a:lnTo>
                  <a:lnTo>
                    <a:pt x="150" y="140"/>
                  </a:lnTo>
                  <a:lnTo>
                    <a:pt x="120" y="136"/>
                  </a:lnTo>
                  <a:lnTo>
                    <a:pt x="108" y="122"/>
                  </a:lnTo>
                  <a:lnTo>
                    <a:pt x="74" y="118"/>
                  </a:lnTo>
                  <a:lnTo>
                    <a:pt x="40" y="70"/>
                  </a:lnTo>
                  <a:lnTo>
                    <a:pt x="14" y="60"/>
                  </a:lnTo>
                  <a:lnTo>
                    <a:pt x="0" y="36"/>
                  </a:lnTo>
                  <a:lnTo>
                    <a:pt x="6" y="22"/>
                  </a:lnTo>
                  <a:lnTo>
                    <a:pt x="66" y="0"/>
                  </a:lnTo>
                  <a:lnTo>
                    <a:pt x="90" y="2"/>
                  </a:lnTo>
                  <a:lnTo>
                    <a:pt x="128" y="12"/>
                  </a:lnTo>
                  <a:lnTo>
                    <a:pt x="168" y="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600" bIns="-21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93160" y="5976720"/>
              <a:ext cx="23040" cy="49320"/>
            </a:xfrm>
            <a:custGeom>
              <a:avLst/>
              <a:gdLst/>
              <a:ahLst/>
              <a:rect l="l" t="t" r="r" b="b"/>
              <a:pathLst>
                <a:path w="140" h="294">
                  <a:moveTo>
                    <a:pt x="16" y="6"/>
                  </a:moveTo>
                  <a:lnTo>
                    <a:pt x="20" y="0"/>
                  </a:lnTo>
                  <a:lnTo>
                    <a:pt x="32" y="26"/>
                  </a:lnTo>
                  <a:lnTo>
                    <a:pt x="48" y="24"/>
                  </a:lnTo>
                  <a:lnTo>
                    <a:pt x="58" y="26"/>
                  </a:lnTo>
                  <a:lnTo>
                    <a:pt x="88" y="66"/>
                  </a:lnTo>
                  <a:lnTo>
                    <a:pt x="94" y="78"/>
                  </a:lnTo>
                  <a:lnTo>
                    <a:pt x="110" y="100"/>
                  </a:lnTo>
                  <a:lnTo>
                    <a:pt x="114" y="114"/>
                  </a:lnTo>
                  <a:lnTo>
                    <a:pt x="98" y="118"/>
                  </a:lnTo>
                  <a:lnTo>
                    <a:pt x="96" y="144"/>
                  </a:lnTo>
                  <a:lnTo>
                    <a:pt x="86" y="142"/>
                  </a:lnTo>
                  <a:lnTo>
                    <a:pt x="84" y="152"/>
                  </a:lnTo>
                  <a:lnTo>
                    <a:pt x="86" y="160"/>
                  </a:lnTo>
                  <a:lnTo>
                    <a:pt x="102" y="176"/>
                  </a:lnTo>
                  <a:lnTo>
                    <a:pt x="114" y="178"/>
                  </a:lnTo>
                  <a:lnTo>
                    <a:pt x="126" y="194"/>
                  </a:lnTo>
                  <a:lnTo>
                    <a:pt x="106" y="196"/>
                  </a:lnTo>
                  <a:lnTo>
                    <a:pt x="112" y="210"/>
                  </a:lnTo>
                  <a:lnTo>
                    <a:pt x="132" y="232"/>
                  </a:lnTo>
                  <a:lnTo>
                    <a:pt x="140" y="252"/>
                  </a:lnTo>
                  <a:lnTo>
                    <a:pt x="120" y="252"/>
                  </a:lnTo>
                  <a:lnTo>
                    <a:pt x="134" y="280"/>
                  </a:lnTo>
                  <a:lnTo>
                    <a:pt x="130" y="294"/>
                  </a:lnTo>
                  <a:lnTo>
                    <a:pt x="110" y="294"/>
                  </a:lnTo>
                  <a:lnTo>
                    <a:pt x="62" y="282"/>
                  </a:lnTo>
                  <a:lnTo>
                    <a:pt x="38" y="254"/>
                  </a:lnTo>
                  <a:lnTo>
                    <a:pt x="42" y="230"/>
                  </a:lnTo>
                  <a:lnTo>
                    <a:pt x="38" y="174"/>
                  </a:lnTo>
                  <a:lnTo>
                    <a:pt x="10" y="96"/>
                  </a:lnTo>
                  <a:lnTo>
                    <a:pt x="8" y="68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8" y="24"/>
                  </a:lnTo>
                  <a:lnTo>
                    <a:pt x="16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600" bIns="3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35280" y="6053760"/>
              <a:ext cx="15480" cy="165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2" y="0"/>
                  </a:moveTo>
                  <a:lnTo>
                    <a:pt x="46" y="6"/>
                  </a:lnTo>
                  <a:lnTo>
                    <a:pt x="70" y="14"/>
                  </a:lnTo>
                  <a:lnTo>
                    <a:pt x="80" y="24"/>
                  </a:lnTo>
                  <a:lnTo>
                    <a:pt x="84" y="32"/>
                  </a:lnTo>
                  <a:lnTo>
                    <a:pt x="84" y="48"/>
                  </a:lnTo>
                  <a:lnTo>
                    <a:pt x="92" y="72"/>
                  </a:lnTo>
                  <a:lnTo>
                    <a:pt x="78" y="88"/>
                  </a:lnTo>
                  <a:lnTo>
                    <a:pt x="62" y="94"/>
                  </a:lnTo>
                  <a:lnTo>
                    <a:pt x="44" y="90"/>
                  </a:lnTo>
                  <a:lnTo>
                    <a:pt x="26" y="76"/>
                  </a:lnTo>
                  <a:lnTo>
                    <a:pt x="12" y="56"/>
                  </a:lnTo>
                  <a:lnTo>
                    <a:pt x="0" y="38"/>
                  </a:lnTo>
                  <a:lnTo>
                    <a:pt x="12" y="22"/>
                  </a:lnTo>
                  <a:lnTo>
                    <a:pt x="4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16560" y="6062760"/>
              <a:ext cx="7560" cy="288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"/>
                  </a:moveTo>
                  <a:lnTo>
                    <a:pt x="22" y="0"/>
                  </a:lnTo>
                  <a:lnTo>
                    <a:pt x="42" y="6"/>
                  </a:lnTo>
                  <a:lnTo>
                    <a:pt x="46" y="12"/>
                  </a:lnTo>
                  <a:lnTo>
                    <a:pt x="20" y="24"/>
                  </a:lnTo>
                  <a:lnTo>
                    <a:pt x="6" y="12"/>
                  </a:lnTo>
                  <a:lnTo>
                    <a:pt x="0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19800" y="6070320"/>
              <a:ext cx="7560" cy="288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6" y="22"/>
                  </a:moveTo>
                  <a:lnTo>
                    <a:pt x="2" y="20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38" y="2"/>
                  </a:lnTo>
                  <a:lnTo>
                    <a:pt x="42" y="6"/>
                  </a:lnTo>
                  <a:lnTo>
                    <a:pt x="42" y="10"/>
                  </a:lnTo>
                  <a:lnTo>
                    <a:pt x="16" y="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24480" y="6073560"/>
              <a:ext cx="1080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0" y="10"/>
                  </a:moveTo>
                  <a:lnTo>
                    <a:pt x="0" y="12"/>
                  </a:lnTo>
                  <a:lnTo>
                    <a:pt x="4" y="6"/>
                  </a:lnTo>
                  <a:lnTo>
                    <a:pt x="50" y="0"/>
                  </a:lnTo>
                  <a:lnTo>
                    <a:pt x="64" y="18"/>
                  </a:lnTo>
                  <a:lnTo>
                    <a:pt x="70" y="36"/>
                  </a:lnTo>
                  <a:lnTo>
                    <a:pt x="52" y="28"/>
                  </a:lnTo>
                  <a:lnTo>
                    <a:pt x="30" y="16"/>
                  </a:lnTo>
                  <a:lnTo>
                    <a:pt x="10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25560" y="6079680"/>
              <a:ext cx="9360" cy="432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0"/>
                  </a:moveTo>
                  <a:lnTo>
                    <a:pt x="22" y="6"/>
                  </a:lnTo>
                  <a:lnTo>
                    <a:pt x="46" y="24"/>
                  </a:lnTo>
                  <a:lnTo>
                    <a:pt x="18" y="14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38520" y="6095160"/>
              <a:ext cx="4320" cy="43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4"/>
                  </a:moveTo>
                  <a:lnTo>
                    <a:pt x="4" y="0"/>
                  </a:lnTo>
                  <a:lnTo>
                    <a:pt x="14" y="10"/>
                  </a:lnTo>
                  <a:lnTo>
                    <a:pt x="24" y="28"/>
                  </a:lnTo>
                  <a:lnTo>
                    <a:pt x="12" y="30"/>
                  </a:lnTo>
                  <a:lnTo>
                    <a:pt x="2" y="14"/>
                  </a:lnTo>
                  <a:lnTo>
                    <a:pt x="0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4640" y="6147360"/>
              <a:ext cx="9360" cy="6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48" y="36"/>
                  </a:moveTo>
                  <a:lnTo>
                    <a:pt x="30" y="38"/>
                  </a:lnTo>
                  <a:lnTo>
                    <a:pt x="4" y="30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2" y="0"/>
                  </a:lnTo>
                  <a:lnTo>
                    <a:pt x="38" y="18"/>
                  </a:lnTo>
                  <a:lnTo>
                    <a:pt x="50" y="34"/>
                  </a:lnTo>
                  <a:lnTo>
                    <a:pt x="48" y="3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32040" y="6151680"/>
              <a:ext cx="6120" cy="43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0" y="0"/>
                  </a:moveTo>
                  <a:lnTo>
                    <a:pt x="34" y="8"/>
                  </a:lnTo>
                  <a:lnTo>
                    <a:pt x="28" y="24"/>
                  </a:lnTo>
                  <a:lnTo>
                    <a:pt x="12" y="26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3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38520" y="6162480"/>
              <a:ext cx="9000" cy="756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2" y="2"/>
                  </a:moveTo>
                  <a:lnTo>
                    <a:pt x="0" y="0"/>
                  </a:lnTo>
                  <a:lnTo>
                    <a:pt x="44" y="10"/>
                  </a:lnTo>
                  <a:lnTo>
                    <a:pt x="52" y="18"/>
                  </a:lnTo>
                  <a:lnTo>
                    <a:pt x="56" y="34"/>
                  </a:lnTo>
                  <a:lnTo>
                    <a:pt x="54" y="40"/>
                  </a:lnTo>
                  <a:lnTo>
                    <a:pt x="42" y="42"/>
                  </a:lnTo>
                  <a:lnTo>
                    <a:pt x="2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32040" y="6161040"/>
              <a:ext cx="14040" cy="1656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8" y="2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8" y="60"/>
                  </a:lnTo>
                  <a:lnTo>
                    <a:pt x="76" y="80"/>
                  </a:lnTo>
                  <a:lnTo>
                    <a:pt x="82" y="90"/>
                  </a:lnTo>
                  <a:lnTo>
                    <a:pt x="78" y="96"/>
                  </a:lnTo>
                  <a:lnTo>
                    <a:pt x="68" y="86"/>
                  </a:lnTo>
                  <a:lnTo>
                    <a:pt x="52" y="64"/>
                  </a:lnTo>
                  <a:lnTo>
                    <a:pt x="24" y="46"/>
                  </a:lnTo>
                  <a:lnTo>
                    <a:pt x="8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6080" y="6171480"/>
              <a:ext cx="12240" cy="6120"/>
            </a:xfrm>
            <a:custGeom>
              <a:avLst/>
              <a:gdLst/>
              <a:ahLst/>
              <a:rect l="l" t="t" r="r" b="b"/>
              <a:pathLst>
                <a:path w="68" h="34">
                  <a:moveTo>
                    <a:pt x="4" y="0"/>
                  </a:moveTo>
                  <a:lnTo>
                    <a:pt x="32" y="2"/>
                  </a:lnTo>
                  <a:lnTo>
                    <a:pt x="44" y="1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38" y="28"/>
                  </a:lnTo>
                  <a:lnTo>
                    <a:pt x="18" y="22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36720" y="6174720"/>
              <a:ext cx="6120" cy="75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0" y="24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20" y="6"/>
                  </a:lnTo>
                  <a:lnTo>
                    <a:pt x="32" y="26"/>
                  </a:lnTo>
                  <a:lnTo>
                    <a:pt x="30" y="38"/>
                  </a:lnTo>
                  <a:lnTo>
                    <a:pt x="24" y="48"/>
                  </a:lnTo>
                  <a:lnTo>
                    <a:pt x="14" y="38"/>
                  </a:lnTo>
                  <a:lnTo>
                    <a:pt x="10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50760" y="6179400"/>
              <a:ext cx="26280" cy="39600"/>
            </a:xfrm>
            <a:custGeom>
              <a:avLst/>
              <a:gdLst/>
              <a:ahLst/>
              <a:rect l="l" t="t" r="r" b="b"/>
              <a:pathLst>
                <a:path w="146" h="232">
                  <a:moveTo>
                    <a:pt x="10" y="54"/>
                  </a:moveTo>
                  <a:lnTo>
                    <a:pt x="14" y="52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34" y="10"/>
                  </a:lnTo>
                  <a:lnTo>
                    <a:pt x="52" y="24"/>
                  </a:lnTo>
                  <a:lnTo>
                    <a:pt x="68" y="42"/>
                  </a:lnTo>
                  <a:lnTo>
                    <a:pt x="82" y="64"/>
                  </a:lnTo>
                  <a:lnTo>
                    <a:pt x="108" y="118"/>
                  </a:lnTo>
                  <a:lnTo>
                    <a:pt x="138" y="186"/>
                  </a:lnTo>
                  <a:lnTo>
                    <a:pt x="146" y="208"/>
                  </a:lnTo>
                  <a:lnTo>
                    <a:pt x="142" y="228"/>
                  </a:lnTo>
                  <a:lnTo>
                    <a:pt x="122" y="232"/>
                  </a:lnTo>
                  <a:lnTo>
                    <a:pt x="100" y="214"/>
                  </a:lnTo>
                  <a:lnTo>
                    <a:pt x="78" y="162"/>
                  </a:lnTo>
                  <a:lnTo>
                    <a:pt x="78" y="150"/>
                  </a:lnTo>
                  <a:lnTo>
                    <a:pt x="74" y="144"/>
                  </a:lnTo>
                  <a:lnTo>
                    <a:pt x="36" y="130"/>
                  </a:lnTo>
                  <a:lnTo>
                    <a:pt x="8" y="110"/>
                  </a:lnTo>
                  <a:lnTo>
                    <a:pt x="8" y="102"/>
                  </a:lnTo>
                  <a:lnTo>
                    <a:pt x="20" y="104"/>
                  </a:lnTo>
                  <a:lnTo>
                    <a:pt x="40" y="112"/>
                  </a:lnTo>
                  <a:lnTo>
                    <a:pt x="32" y="90"/>
                  </a:lnTo>
                  <a:lnTo>
                    <a:pt x="18" y="88"/>
                  </a:lnTo>
                  <a:lnTo>
                    <a:pt x="2" y="78"/>
                  </a:lnTo>
                  <a:lnTo>
                    <a:pt x="2" y="64"/>
                  </a:lnTo>
                  <a:lnTo>
                    <a:pt x="10" y="5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6120" bIns="-61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49320" y="6208560"/>
              <a:ext cx="9000" cy="61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6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8" y="0"/>
                  </a:lnTo>
                  <a:lnTo>
                    <a:pt x="34" y="18"/>
                  </a:lnTo>
                  <a:lnTo>
                    <a:pt x="52" y="34"/>
                  </a:lnTo>
                  <a:lnTo>
                    <a:pt x="48" y="36"/>
                  </a:lnTo>
                  <a:lnTo>
                    <a:pt x="30" y="36"/>
                  </a:lnTo>
                  <a:lnTo>
                    <a:pt x="14" y="26"/>
                  </a:lnTo>
                  <a:lnTo>
                    <a:pt x="6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60120" y="6222240"/>
              <a:ext cx="12600" cy="9000"/>
            </a:xfrm>
            <a:custGeom>
              <a:avLst/>
              <a:gdLst/>
              <a:ahLst/>
              <a:rect l="l" t="t" r="r" b="b"/>
              <a:pathLst>
                <a:path w="70" h="58">
                  <a:moveTo>
                    <a:pt x="6" y="30"/>
                  </a:moveTo>
                  <a:lnTo>
                    <a:pt x="2" y="22"/>
                  </a:lnTo>
                  <a:lnTo>
                    <a:pt x="0" y="10"/>
                  </a:lnTo>
                  <a:lnTo>
                    <a:pt x="24" y="18"/>
                  </a:lnTo>
                  <a:lnTo>
                    <a:pt x="36" y="6"/>
                  </a:lnTo>
                  <a:lnTo>
                    <a:pt x="54" y="0"/>
                  </a:lnTo>
                  <a:lnTo>
                    <a:pt x="62" y="12"/>
                  </a:lnTo>
                  <a:lnTo>
                    <a:pt x="62" y="34"/>
                  </a:lnTo>
                  <a:lnTo>
                    <a:pt x="70" y="58"/>
                  </a:lnTo>
                  <a:lnTo>
                    <a:pt x="44" y="50"/>
                  </a:lnTo>
                  <a:lnTo>
                    <a:pt x="32" y="38"/>
                  </a:lnTo>
                  <a:lnTo>
                    <a:pt x="22" y="48"/>
                  </a:lnTo>
                  <a:lnTo>
                    <a:pt x="6" y="3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77400" y="6229800"/>
              <a:ext cx="15480" cy="1044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50" y="50"/>
                  </a:moveTo>
                  <a:lnTo>
                    <a:pt x="34" y="48"/>
                  </a:lnTo>
                  <a:lnTo>
                    <a:pt x="28" y="36"/>
                  </a:lnTo>
                  <a:lnTo>
                    <a:pt x="2" y="8"/>
                  </a:lnTo>
                  <a:lnTo>
                    <a:pt x="0" y="2"/>
                  </a:lnTo>
                  <a:lnTo>
                    <a:pt x="6" y="0"/>
                  </a:lnTo>
                  <a:lnTo>
                    <a:pt x="24" y="14"/>
                  </a:lnTo>
                  <a:lnTo>
                    <a:pt x="50" y="28"/>
                  </a:lnTo>
                  <a:lnTo>
                    <a:pt x="68" y="40"/>
                  </a:lnTo>
                  <a:lnTo>
                    <a:pt x="94" y="72"/>
                  </a:lnTo>
                  <a:lnTo>
                    <a:pt x="92" y="74"/>
                  </a:lnTo>
                  <a:lnTo>
                    <a:pt x="50" y="5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77400" y="6237720"/>
              <a:ext cx="14040" cy="1368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72" y="50"/>
                  </a:moveTo>
                  <a:lnTo>
                    <a:pt x="70" y="70"/>
                  </a:lnTo>
                  <a:lnTo>
                    <a:pt x="80" y="88"/>
                  </a:lnTo>
                  <a:lnTo>
                    <a:pt x="60" y="82"/>
                  </a:lnTo>
                  <a:lnTo>
                    <a:pt x="16" y="4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8" y="16"/>
                  </a:lnTo>
                  <a:lnTo>
                    <a:pt x="72" y="5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86760" y="6251400"/>
              <a:ext cx="6120" cy="90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4" y="44"/>
                  </a:moveTo>
                  <a:lnTo>
                    <a:pt x="0" y="26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38" y="34"/>
                  </a:lnTo>
                  <a:lnTo>
                    <a:pt x="22" y="44"/>
                  </a:lnTo>
                  <a:lnTo>
                    <a:pt x="6" y="40"/>
                  </a:lnTo>
                  <a:lnTo>
                    <a:pt x="4" y="4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9640" y="6266880"/>
              <a:ext cx="7560" cy="1368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32" y="76"/>
                  </a:moveTo>
                  <a:lnTo>
                    <a:pt x="20" y="76"/>
                  </a:lnTo>
                  <a:lnTo>
                    <a:pt x="8" y="48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24" y="34"/>
                  </a:lnTo>
                  <a:lnTo>
                    <a:pt x="36" y="76"/>
                  </a:lnTo>
                  <a:lnTo>
                    <a:pt x="32" y="7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04040" y="6262200"/>
              <a:ext cx="9000" cy="9000"/>
            </a:xfrm>
            <a:custGeom>
              <a:avLst/>
              <a:gdLst/>
              <a:ahLst/>
              <a:rect l="l" t="t" r="r" b="b"/>
              <a:pathLst>
                <a:path w="56" h="50">
                  <a:moveTo>
                    <a:pt x="20" y="18"/>
                  </a:moveTo>
                  <a:lnTo>
                    <a:pt x="56" y="50"/>
                  </a:lnTo>
                  <a:lnTo>
                    <a:pt x="44" y="48"/>
                  </a:lnTo>
                  <a:lnTo>
                    <a:pt x="22" y="38"/>
                  </a:lnTo>
                  <a:lnTo>
                    <a:pt x="10" y="24"/>
                  </a:lnTo>
                  <a:lnTo>
                    <a:pt x="0" y="6"/>
                  </a:lnTo>
                  <a:lnTo>
                    <a:pt x="4" y="0"/>
                  </a:lnTo>
                  <a:lnTo>
                    <a:pt x="20" y="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07280" y="6259320"/>
              <a:ext cx="9000" cy="7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8" y="16"/>
                  </a:moveTo>
                  <a:lnTo>
                    <a:pt x="38" y="28"/>
                  </a:lnTo>
                  <a:lnTo>
                    <a:pt x="50" y="50"/>
                  </a:lnTo>
                  <a:lnTo>
                    <a:pt x="18" y="28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6" y="16"/>
                  </a:lnTo>
                  <a:lnTo>
                    <a:pt x="28" y="1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24200" y="6274440"/>
              <a:ext cx="49680" cy="41040"/>
            </a:xfrm>
            <a:custGeom>
              <a:avLst/>
              <a:gdLst/>
              <a:ahLst/>
              <a:rect l="l" t="t" r="r" b="b"/>
              <a:pathLst>
                <a:path w="288" h="248">
                  <a:moveTo>
                    <a:pt x="0" y="38"/>
                  </a:moveTo>
                  <a:lnTo>
                    <a:pt x="2" y="36"/>
                  </a:lnTo>
                  <a:lnTo>
                    <a:pt x="2" y="30"/>
                  </a:lnTo>
                  <a:lnTo>
                    <a:pt x="6" y="28"/>
                  </a:lnTo>
                  <a:lnTo>
                    <a:pt x="18" y="34"/>
                  </a:lnTo>
                  <a:lnTo>
                    <a:pt x="32" y="36"/>
                  </a:lnTo>
                  <a:lnTo>
                    <a:pt x="36" y="26"/>
                  </a:lnTo>
                  <a:lnTo>
                    <a:pt x="46" y="22"/>
                  </a:lnTo>
                  <a:lnTo>
                    <a:pt x="58" y="28"/>
                  </a:lnTo>
                  <a:lnTo>
                    <a:pt x="68" y="44"/>
                  </a:lnTo>
                  <a:lnTo>
                    <a:pt x="76" y="54"/>
                  </a:lnTo>
                  <a:lnTo>
                    <a:pt x="84" y="44"/>
                  </a:lnTo>
                  <a:lnTo>
                    <a:pt x="82" y="22"/>
                  </a:lnTo>
                  <a:lnTo>
                    <a:pt x="72" y="14"/>
                  </a:lnTo>
                  <a:lnTo>
                    <a:pt x="64" y="0"/>
                  </a:lnTo>
                  <a:lnTo>
                    <a:pt x="72" y="2"/>
                  </a:lnTo>
                  <a:lnTo>
                    <a:pt x="90" y="10"/>
                  </a:lnTo>
                  <a:lnTo>
                    <a:pt x="104" y="28"/>
                  </a:lnTo>
                  <a:lnTo>
                    <a:pt x="116" y="50"/>
                  </a:lnTo>
                  <a:lnTo>
                    <a:pt x="104" y="76"/>
                  </a:lnTo>
                  <a:lnTo>
                    <a:pt x="104" y="106"/>
                  </a:lnTo>
                  <a:lnTo>
                    <a:pt x="126" y="112"/>
                  </a:lnTo>
                  <a:lnTo>
                    <a:pt x="144" y="124"/>
                  </a:lnTo>
                  <a:lnTo>
                    <a:pt x="152" y="134"/>
                  </a:lnTo>
                  <a:lnTo>
                    <a:pt x="178" y="148"/>
                  </a:lnTo>
                  <a:lnTo>
                    <a:pt x="198" y="112"/>
                  </a:lnTo>
                  <a:lnTo>
                    <a:pt x="214" y="110"/>
                  </a:lnTo>
                  <a:lnTo>
                    <a:pt x="242" y="112"/>
                  </a:lnTo>
                  <a:lnTo>
                    <a:pt x="266" y="110"/>
                  </a:lnTo>
                  <a:lnTo>
                    <a:pt x="280" y="124"/>
                  </a:lnTo>
                  <a:lnTo>
                    <a:pt x="288" y="140"/>
                  </a:lnTo>
                  <a:lnTo>
                    <a:pt x="254" y="176"/>
                  </a:lnTo>
                  <a:lnTo>
                    <a:pt x="244" y="184"/>
                  </a:lnTo>
                  <a:lnTo>
                    <a:pt x="226" y="182"/>
                  </a:lnTo>
                  <a:lnTo>
                    <a:pt x="218" y="186"/>
                  </a:lnTo>
                  <a:lnTo>
                    <a:pt x="224" y="196"/>
                  </a:lnTo>
                  <a:lnTo>
                    <a:pt x="222" y="202"/>
                  </a:lnTo>
                  <a:lnTo>
                    <a:pt x="208" y="196"/>
                  </a:lnTo>
                  <a:lnTo>
                    <a:pt x="198" y="204"/>
                  </a:lnTo>
                  <a:lnTo>
                    <a:pt x="208" y="216"/>
                  </a:lnTo>
                  <a:lnTo>
                    <a:pt x="204" y="222"/>
                  </a:lnTo>
                  <a:lnTo>
                    <a:pt x="210" y="238"/>
                  </a:lnTo>
                  <a:lnTo>
                    <a:pt x="222" y="248"/>
                  </a:lnTo>
                  <a:lnTo>
                    <a:pt x="202" y="244"/>
                  </a:lnTo>
                  <a:lnTo>
                    <a:pt x="130" y="204"/>
                  </a:lnTo>
                  <a:lnTo>
                    <a:pt x="122" y="200"/>
                  </a:lnTo>
                  <a:lnTo>
                    <a:pt x="138" y="196"/>
                  </a:lnTo>
                  <a:lnTo>
                    <a:pt x="162" y="202"/>
                  </a:lnTo>
                  <a:lnTo>
                    <a:pt x="170" y="196"/>
                  </a:lnTo>
                  <a:lnTo>
                    <a:pt x="166" y="186"/>
                  </a:lnTo>
                  <a:lnTo>
                    <a:pt x="152" y="178"/>
                  </a:lnTo>
                  <a:lnTo>
                    <a:pt x="132" y="158"/>
                  </a:lnTo>
                  <a:lnTo>
                    <a:pt x="132" y="168"/>
                  </a:lnTo>
                  <a:lnTo>
                    <a:pt x="126" y="176"/>
                  </a:lnTo>
                  <a:lnTo>
                    <a:pt x="94" y="176"/>
                  </a:lnTo>
                  <a:lnTo>
                    <a:pt x="92" y="164"/>
                  </a:lnTo>
                  <a:lnTo>
                    <a:pt x="88" y="156"/>
                  </a:lnTo>
                  <a:lnTo>
                    <a:pt x="66" y="150"/>
                  </a:lnTo>
                  <a:lnTo>
                    <a:pt x="56" y="142"/>
                  </a:lnTo>
                  <a:lnTo>
                    <a:pt x="52" y="128"/>
                  </a:lnTo>
                  <a:lnTo>
                    <a:pt x="46" y="126"/>
                  </a:lnTo>
                  <a:lnTo>
                    <a:pt x="36" y="130"/>
                  </a:lnTo>
                  <a:lnTo>
                    <a:pt x="32" y="118"/>
                  </a:lnTo>
                  <a:lnTo>
                    <a:pt x="24" y="100"/>
                  </a:lnTo>
                  <a:lnTo>
                    <a:pt x="20" y="80"/>
                  </a:lnTo>
                  <a:lnTo>
                    <a:pt x="10" y="62"/>
                  </a:lnTo>
                  <a:lnTo>
                    <a:pt x="0" y="3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680" bIns="-46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19520" y="6288480"/>
              <a:ext cx="7560" cy="5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2" y="0"/>
                  </a:moveTo>
                  <a:lnTo>
                    <a:pt x="32" y="4"/>
                  </a:lnTo>
                  <a:lnTo>
                    <a:pt x="40" y="32"/>
                  </a:lnTo>
                  <a:lnTo>
                    <a:pt x="32" y="44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6" y="30"/>
                  </a:lnTo>
                  <a:lnTo>
                    <a:pt x="22" y="22"/>
                  </a:lnTo>
                  <a:lnTo>
                    <a:pt x="20" y="28"/>
                  </a:lnTo>
                  <a:lnTo>
                    <a:pt x="14" y="28"/>
                  </a:lnTo>
                  <a:lnTo>
                    <a:pt x="4" y="18"/>
                  </a:lnTo>
                  <a:lnTo>
                    <a:pt x="0" y="8"/>
                  </a:lnTo>
                  <a:lnTo>
                    <a:pt x="2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08720" y="6297480"/>
              <a:ext cx="40680" cy="16920"/>
            </a:xfrm>
            <a:custGeom>
              <a:avLst/>
              <a:gdLst/>
              <a:ahLst/>
              <a:rect l="l" t="t" r="r" b="b"/>
              <a:pathLst>
                <a:path w="228" h="98">
                  <a:moveTo>
                    <a:pt x="0" y="0"/>
                  </a:moveTo>
                  <a:lnTo>
                    <a:pt x="8" y="4"/>
                  </a:lnTo>
                  <a:lnTo>
                    <a:pt x="40" y="24"/>
                  </a:lnTo>
                  <a:lnTo>
                    <a:pt x="160" y="62"/>
                  </a:lnTo>
                  <a:lnTo>
                    <a:pt x="170" y="74"/>
                  </a:lnTo>
                  <a:lnTo>
                    <a:pt x="176" y="74"/>
                  </a:lnTo>
                  <a:lnTo>
                    <a:pt x="178" y="68"/>
                  </a:lnTo>
                  <a:lnTo>
                    <a:pt x="184" y="68"/>
                  </a:lnTo>
                  <a:lnTo>
                    <a:pt x="196" y="78"/>
                  </a:lnTo>
                  <a:lnTo>
                    <a:pt x="222" y="88"/>
                  </a:lnTo>
                  <a:lnTo>
                    <a:pt x="228" y="96"/>
                  </a:lnTo>
                  <a:lnTo>
                    <a:pt x="204" y="98"/>
                  </a:lnTo>
                  <a:lnTo>
                    <a:pt x="178" y="90"/>
                  </a:lnTo>
                  <a:lnTo>
                    <a:pt x="166" y="80"/>
                  </a:lnTo>
                  <a:lnTo>
                    <a:pt x="126" y="56"/>
                  </a:lnTo>
                  <a:lnTo>
                    <a:pt x="126" y="62"/>
                  </a:lnTo>
                  <a:lnTo>
                    <a:pt x="132" y="70"/>
                  </a:lnTo>
                  <a:lnTo>
                    <a:pt x="128" y="72"/>
                  </a:lnTo>
                  <a:lnTo>
                    <a:pt x="100" y="66"/>
                  </a:lnTo>
                  <a:lnTo>
                    <a:pt x="42" y="42"/>
                  </a:lnTo>
                  <a:lnTo>
                    <a:pt x="26" y="30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0" bIns="-28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94320" y="6268320"/>
              <a:ext cx="6120" cy="1044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6" y="0"/>
                  </a:moveTo>
                  <a:lnTo>
                    <a:pt x="16" y="12"/>
                  </a:lnTo>
                  <a:lnTo>
                    <a:pt x="32" y="50"/>
                  </a:lnTo>
                  <a:lnTo>
                    <a:pt x="32" y="62"/>
                  </a:lnTo>
                  <a:lnTo>
                    <a:pt x="26" y="66"/>
                  </a:lnTo>
                  <a:lnTo>
                    <a:pt x="20" y="62"/>
                  </a:lnTo>
                  <a:lnTo>
                    <a:pt x="10" y="42"/>
                  </a:lnTo>
                  <a:lnTo>
                    <a:pt x="6" y="32"/>
                  </a:lnTo>
                  <a:lnTo>
                    <a:pt x="12" y="22"/>
                  </a:lnTo>
                  <a:lnTo>
                    <a:pt x="6" y="12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38240" y="6314400"/>
              <a:ext cx="32400" cy="2088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4" y="2"/>
                  </a:moveTo>
                  <a:lnTo>
                    <a:pt x="12" y="0"/>
                  </a:lnTo>
                  <a:lnTo>
                    <a:pt x="24" y="2"/>
                  </a:lnTo>
                  <a:lnTo>
                    <a:pt x="32" y="12"/>
                  </a:lnTo>
                  <a:lnTo>
                    <a:pt x="52" y="14"/>
                  </a:lnTo>
                  <a:lnTo>
                    <a:pt x="66" y="22"/>
                  </a:lnTo>
                  <a:lnTo>
                    <a:pt x="74" y="22"/>
                  </a:lnTo>
                  <a:lnTo>
                    <a:pt x="68" y="8"/>
                  </a:lnTo>
                  <a:lnTo>
                    <a:pt x="72" y="6"/>
                  </a:lnTo>
                  <a:lnTo>
                    <a:pt x="82" y="8"/>
                  </a:lnTo>
                  <a:lnTo>
                    <a:pt x="100" y="20"/>
                  </a:lnTo>
                  <a:lnTo>
                    <a:pt x="100" y="12"/>
                  </a:lnTo>
                  <a:lnTo>
                    <a:pt x="128" y="36"/>
                  </a:lnTo>
                  <a:lnTo>
                    <a:pt x="134" y="30"/>
                  </a:lnTo>
                  <a:lnTo>
                    <a:pt x="148" y="32"/>
                  </a:lnTo>
                  <a:lnTo>
                    <a:pt x="158" y="38"/>
                  </a:lnTo>
                  <a:lnTo>
                    <a:pt x="160" y="44"/>
                  </a:lnTo>
                  <a:lnTo>
                    <a:pt x="190" y="54"/>
                  </a:lnTo>
                  <a:lnTo>
                    <a:pt x="196" y="60"/>
                  </a:lnTo>
                  <a:lnTo>
                    <a:pt x="200" y="72"/>
                  </a:lnTo>
                  <a:lnTo>
                    <a:pt x="184" y="72"/>
                  </a:lnTo>
                  <a:lnTo>
                    <a:pt x="196" y="102"/>
                  </a:lnTo>
                  <a:lnTo>
                    <a:pt x="192" y="110"/>
                  </a:lnTo>
                  <a:lnTo>
                    <a:pt x="178" y="108"/>
                  </a:lnTo>
                  <a:lnTo>
                    <a:pt x="168" y="102"/>
                  </a:lnTo>
                  <a:lnTo>
                    <a:pt x="168" y="108"/>
                  </a:lnTo>
                  <a:lnTo>
                    <a:pt x="176" y="120"/>
                  </a:lnTo>
                  <a:lnTo>
                    <a:pt x="170" y="124"/>
                  </a:lnTo>
                  <a:lnTo>
                    <a:pt x="152" y="120"/>
                  </a:lnTo>
                  <a:lnTo>
                    <a:pt x="142" y="122"/>
                  </a:lnTo>
                  <a:lnTo>
                    <a:pt x="132" y="118"/>
                  </a:lnTo>
                  <a:lnTo>
                    <a:pt x="148" y="110"/>
                  </a:lnTo>
                  <a:lnTo>
                    <a:pt x="120" y="104"/>
                  </a:lnTo>
                  <a:lnTo>
                    <a:pt x="96" y="104"/>
                  </a:lnTo>
                  <a:lnTo>
                    <a:pt x="86" y="98"/>
                  </a:lnTo>
                  <a:lnTo>
                    <a:pt x="78" y="80"/>
                  </a:lnTo>
                  <a:lnTo>
                    <a:pt x="74" y="68"/>
                  </a:lnTo>
                  <a:lnTo>
                    <a:pt x="52" y="64"/>
                  </a:lnTo>
                  <a:lnTo>
                    <a:pt x="30" y="3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4840" bIns="-24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74240" y="6326640"/>
              <a:ext cx="28080" cy="1368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28" y="0"/>
                  </a:moveTo>
                  <a:lnTo>
                    <a:pt x="30" y="0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60" y="20"/>
                  </a:lnTo>
                  <a:lnTo>
                    <a:pt x="58" y="24"/>
                  </a:lnTo>
                  <a:lnTo>
                    <a:pt x="62" y="32"/>
                  </a:lnTo>
                  <a:lnTo>
                    <a:pt x="70" y="38"/>
                  </a:lnTo>
                  <a:lnTo>
                    <a:pt x="70" y="26"/>
                  </a:lnTo>
                  <a:lnTo>
                    <a:pt x="74" y="20"/>
                  </a:lnTo>
                  <a:lnTo>
                    <a:pt x="88" y="20"/>
                  </a:lnTo>
                  <a:lnTo>
                    <a:pt x="98" y="28"/>
                  </a:lnTo>
                  <a:lnTo>
                    <a:pt x="106" y="24"/>
                  </a:lnTo>
                  <a:lnTo>
                    <a:pt x="128" y="52"/>
                  </a:lnTo>
                  <a:lnTo>
                    <a:pt x="132" y="46"/>
                  </a:lnTo>
                  <a:lnTo>
                    <a:pt x="140" y="46"/>
                  </a:lnTo>
                  <a:lnTo>
                    <a:pt x="152" y="54"/>
                  </a:lnTo>
                  <a:lnTo>
                    <a:pt x="160" y="66"/>
                  </a:lnTo>
                  <a:lnTo>
                    <a:pt x="154" y="80"/>
                  </a:lnTo>
                  <a:lnTo>
                    <a:pt x="140" y="80"/>
                  </a:lnTo>
                  <a:lnTo>
                    <a:pt x="120" y="64"/>
                  </a:lnTo>
                  <a:lnTo>
                    <a:pt x="80" y="60"/>
                  </a:lnTo>
                  <a:lnTo>
                    <a:pt x="78" y="68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64" y="72"/>
                  </a:lnTo>
                  <a:lnTo>
                    <a:pt x="54" y="64"/>
                  </a:lnTo>
                  <a:lnTo>
                    <a:pt x="40" y="56"/>
                  </a:lnTo>
                  <a:lnTo>
                    <a:pt x="28" y="54"/>
                  </a:lnTo>
                  <a:lnTo>
                    <a:pt x="22" y="4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20" y="12"/>
                  </a:lnTo>
                  <a:lnTo>
                    <a:pt x="22" y="2"/>
                  </a:lnTo>
                  <a:lnTo>
                    <a:pt x="2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00520" y="6317280"/>
              <a:ext cx="14040" cy="20160"/>
            </a:xfrm>
            <a:custGeom>
              <a:avLst/>
              <a:gdLst/>
              <a:ahLst/>
              <a:rect l="l" t="t" r="r" b="b"/>
              <a:pathLst>
                <a:path w="88" h="116">
                  <a:moveTo>
                    <a:pt x="8" y="0"/>
                  </a:moveTo>
                  <a:lnTo>
                    <a:pt x="18" y="4"/>
                  </a:lnTo>
                  <a:lnTo>
                    <a:pt x="32" y="32"/>
                  </a:lnTo>
                  <a:lnTo>
                    <a:pt x="48" y="58"/>
                  </a:lnTo>
                  <a:lnTo>
                    <a:pt x="64" y="78"/>
                  </a:lnTo>
                  <a:lnTo>
                    <a:pt x="66" y="84"/>
                  </a:lnTo>
                  <a:lnTo>
                    <a:pt x="60" y="84"/>
                  </a:lnTo>
                  <a:lnTo>
                    <a:pt x="38" y="70"/>
                  </a:lnTo>
                  <a:lnTo>
                    <a:pt x="28" y="66"/>
                  </a:lnTo>
                  <a:lnTo>
                    <a:pt x="36" y="84"/>
                  </a:lnTo>
                  <a:lnTo>
                    <a:pt x="50" y="98"/>
                  </a:lnTo>
                  <a:lnTo>
                    <a:pt x="60" y="106"/>
                  </a:lnTo>
                  <a:lnTo>
                    <a:pt x="76" y="106"/>
                  </a:lnTo>
                  <a:lnTo>
                    <a:pt x="88" y="116"/>
                  </a:lnTo>
                  <a:lnTo>
                    <a:pt x="70" y="114"/>
                  </a:lnTo>
                  <a:lnTo>
                    <a:pt x="58" y="110"/>
                  </a:lnTo>
                  <a:lnTo>
                    <a:pt x="26" y="92"/>
                  </a:lnTo>
                  <a:lnTo>
                    <a:pt x="12" y="80"/>
                  </a:lnTo>
                  <a:lnTo>
                    <a:pt x="4" y="6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18" y="48"/>
                  </a:lnTo>
                  <a:lnTo>
                    <a:pt x="20" y="44"/>
                  </a:lnTo>
                  <a:lnTo>
                    <a:pt x="14" y="32"/>
                  </a:lnTo>
                  <a:lnTo>
                    <a:pt x="6" y="24"/>
                  </a:lnTo>
                  <a:lnTo>
                    <a:pt x="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560" bIns="-255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13480" y="6357240"/>
              <a:ext cx="4320" cy="61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6" y="22"/>
                  </a:moveTo>
                  <a:lnTo>
                    <a:pt x="2" y="18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8" y="0"/>
                  </a:lnTo>
                  <a:lnTo>
                    <a:pt x="32" y="16"/>
                  </a:lnTo>
                  <a:lnTo>
                    <a:pt x="36" y="24"/>
                  </a:lnTo>
                  <a:lnTo>
                    <a:pt x="34" y="28"/>
                  </a:lnTo>
                  <a:lnTo>
                    <a:pt x="28" y="30"/>
                  </a:lnTo>
                  <a:lnTo>
                    <a:pt x="6" y="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21040" y="6361560"/>
              <a:ext cx="5760" cy="288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40" y="24"/>
                  </a:moveTo>
                  <a:lnTo>
                    <a:pt x="30" y="24"/>
                  </a:lnTo>
                  <a:lnTo>
                    <a:pt x="16" y="18"/>
                  </a:lnTo>
                  <a:lnTo>
                    <a:pt x="4" y="8"/>
                  </a:lnTo>
                  <a:lnTo>
                    <a:pt x="0" y="2"/>
                  </a:lnTo>
                  <a:lnTo>
                    <a:pt x="4" y="0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8" y="10"/>
                  </a:lnTo>
                  <a:lnTo>
                    <a:pt x="40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33640" y="6354000"/>
              <a:ext cx="14040" cy="432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82" y="12"/>
                  </a:moveTo>
                  <a:lnTo>
                    <a:pt x="84" y="14"/>
                  </a:lnTo>
                  <a:lnTo>
                    <a:pt x="48" y="24"/>
                  </a:lnTo>
                  <a:lnTo>
                    <a:pt x="18" y="30"/>
                  </a:lnTo>
                  <a:lnTo>
                    <a:pt x="14" y="28"/>
                  </a:lnTo>
                  <a:lnTo>
                    <a:pt x="6" y="20"/>
                  </a:lnTo>
                  <a:lnTo>
                    <a:pt x="0" y="6"/>
                  </a:lnTo>
                  <a:lnTo>
                    <a:pt x="8" y="2"/>
                  </a:lnTo>
                  <a:lnTo>
                    <a:pt x="12" y="4"/>
                  </a:lnTo>
                  <a:lnTo>
                    <a:pt x="36" y="0"/>
                  </a:lnTo>
                  <a:lnTo>
                    <a:pt x="76" y="6"/>
                  </a:lnTo>
                  <a:lnTo>
                    <a:pt x="82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35080" y="6354000"/>
              <a:ext cx="46800" cy="20160"/>
            </a:xfrm>
            <a:custGeom>
              <a:avLst/>
              <a:gdLst/>
              <a:ahLst/>
              <a:rect l="l" t="t" r="r" b="b"/>
              <a:pathLst>
                <a:path w="268" h="120">
                  <a:moveTo>
                    <a:pt x="0" y="44"/>
                  </a:moveTo>
                  <a:lnTo>
                    <a:pt x="2" y="40"/>
                  </a:lnTo>
                  <a:lnTo>
                    <a:pt x="30" y="34"/>
                  </a:lnTo>
                  <a:lnTo>
                    <a:pt x="80" y="16"/>
                  </a:lnTo>
                  <a:lnTo>
                    <a:pt x="116" y="1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76" y="14"/>
                  </a:lnTo>
                  <a:lnTo>
                    <a:pt x="186" y="24"/>
                  </a:lnTo>
                  <a:lnTo>
                    <a:pt x="164" y="30"/>
                  </a:lnTo>
                  <a:lnTo>
                    <a:pt x="150" y="30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40" y="38"/>
                  </a:lnTo>
                  <a:lnTo>
                    <a:pt x="190" y="40"/>
                  </a:lnTo>
                  <a:lnTo>
                    <a:pt x="202" y="44"/>
                  </a:lnTo>
                  <a:lnTo>
                    <a:pt x="206" y="52"/>
                  </a:lnTo>
                  <a:lnTo>
                    <a:pt x="212" y="54"/>
                  </a:lnTo>
                  <a:lnTo>
                    <a:pt x="178" y="56"/>
                  </a:lnTo>
                  <a:lnTo>
                    <a:pt x="172" y="60"/>
                  </a:lnTo>
                  <a:lnTo>
                    <a:pt x="176" y="64"/>
                  </a:lnTo>
                  <a:lnTo>
                    <a:pt x="212" y="70"/>
                  </a:lnTo>
                  <a:lnTo>
                    <a:pt x="228" y="76"/>
                  </a:lnTo>
                  <a:lnTo>
                    <a:pt x="234" y="86"/>
                  </a:lnTo>
                  <a:lnTo>
                    <a:pt x="244" y="90"/>
                  </a:lnTo>
                  <a:lnTo>
                    <a:pt x="254" y="104"/>
                  </a:lnTo>
                  <a:lnTo>
                    <a:pt x="266" y="116"/>
                  </a:lnTo>
                  <a:lnTo>
                    <a:pt x="268" y="120"/>
                  </a:lnTo>
                  <a:lnTo>
                    <a:pt x="262" y="120"/>
                  </a:lnTo>
                  <a:lnTo>
                    <a:pt x="248" y="114"/>
                  </a:lnTo>
                  <a:lnTo>
                    <a:pt x="236" y="106"/>
                  </a:lnTo>
                  <a:lnTo>
                    <a:pt x="228" y="92"/>
                  </a:lnTo>
                  <a:lnTo>
                    <a:pt x="216" y="92"/>
                  </a:lnTo>
                  <a:lnTo>
                    <a:pt x="198" y="82"/>
                  </a:lnTo>
                  <a:lnTo>
                    <a:pt x="170" y="92"/>
                  </a:lnTo>
                  <a:lnTo>
                    <a:pt x="154" y="82"/>
                  </a:lnTo>
                  <a:lnTo>
                    <a:pt x="144" y="70"/>
                  </a:lnTo>
                  <a:lnTo>
                    <a:pt x="134" y="66"/>
                  </a:lnTo>
                  <a:lnTo>
                    <a:pt x="126" y="58"/>
                  </a:lnTo>
                  <a:lnTo>
                    <a:pt x="114" y="54"/>
                  </a:lnTo>
                  <a:lnTo>
                    <a:pt x="88" y="54"/>
                  </a:lnTo>
                  <a:lnTo>
                    <a:pt x="84" y="64"/>
                  </a:lnTo>
                  <a:lnTo>
                    <a:pt x="96" y="76"/>
                  </a:lnTo>
                  <a:lnTo>
                    <a:pt x="134" y="100"/>
                  </a:lnTo>
                  <a:lnTo>
                    <a:pt x="94" y="100"/>
                  </a:lnTo>
                  <a:lnTo>
                    <a:pt x="86" y="92"/>
                  </a:lnTo>
                  <a:lnTo>
                    <a:pt x="80" y="84"/>
                  </a:lnTo>
                  <a:lnTo>
                    <a:pt x="50" y="72"/>
                  </a:lnTo>
                  <a:lnTo>
                    <a:pt x="50" y="68"/>
                  </a:lnTo>
                  <a:lnTo>
                    <a:pt x="70" y="54"/>
                  </a:lnTo>
                  <a:lnTo>
                    <a:pt x="72" y="48"/>
                  </a:lnTo>
                  <a:lnTo>
                    <a:pt x="70" y="46"/>
                  </a:lnTo>
                  <a:lnTo>
                    <a:pt x="58" y="48"/>
                  </a:lnTo>
                  <a:lnTo>
                    <a:pt x="46" y="58"/>
                  </a:lnTo>
                  <a:lnTo>
                    <a:pt x="20" y="62"/>
                  </a:lnTo>
                  <a:lnTo>
                    <a:pt x="6" y="60"/>
                  </a:lnTo>
                  <a:lnTo>
                    <a:pt x="0" y="50"/>
                  </a:lnTo>
                  <a:lnTo>
                    <a:pt x="0" y="4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560" bIns="-255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64600" y="6352560"/>
              <a:ext cx="26280" cy="10440"/>
            </a:xfrm>
            <a:custGeom>
              <a:avLst/>
              <a:gdLst/>
              <a:ahLst/>
              <a:rect l="l" t="t" r="r" b="b"/>
              <a:pathLst>
                <a:path w="160" h="66">
                  <a:moveTo>
                    <a:pt x="26" y="16"/>
                  </a:moveTo>
                  <a:lnTo>
                    <a:pt x="24" y="20"/>
                  </a:lnTo>
                  <a:lnTo>
                    <a:pt x="8" y="16"/>
                  </a:lnTo>
                  <a:lnTo>
                    <a:pt x="0" y="8"/>
                  </a:lnTo>
                  <a:lnTo>
                    <a:pt x="52" y="0"/>
                  </a:lnTo>
                  <a:lnTo>
                    <a:pt x="88" y="4"/>
                  </a:lnTo>
                  <a:lnTo>
                    <a:pt x="126" y="4"/>
                  </a:lnTo>
                  <a:lnTo>
                    <a:pt x="138" y="14"/>
                  </a:lnTo>
                  <a:lnTo>
                    <a:pt x="156" y="38"/>
                  </a:lnTo>
                  <a:lnTo>
                    <a:pt x="160" y="44"/>
                  </a:lnTo>
                  <a:lnTo>
                    <a:pt x="160" y="50"/>
                  </a:lnTo>
                  <a:lnTo>
                    <a:pt x="156" y="60"/>
                  </a:lnTo>
                  <a:lnTo>
                    <a:pt x="146" y="64"/>
                  </a:lnTo>
                  <a:lnTo>
                    <a:pt x="136" y="66"/>
                  </a:lnTo>
                  <a:lnTo>
                    <a:pt x="130" y="64"/>
                  </a:lnTo>
                  <a:lnTo>
                    <a:pt x="122" y="52"/>
                  </a:lnTo>
                  <a:lnTo>
                    <a:pt x="108" y="48"/>
                  </a:lnTo>
                  <a:lnTo>
                    <a:pt x="100" y="50"/>
                  </a:lnTo>
                  <a:lnTo>
                    <a:pt x="104" y="56"/>
                  </a:lnTo>
                  <a:lnTo>
                    <a:pt x="90" y="58"/>
                  </a:lnTo>
                  <a:lnTo>
                    <a:pt x="86" y="56"/>
                  </a:lnTo>
                  <a:lnTo>
                    <a:pt x="88" y="52"/>
                  </a:lnTo>
                  <a:lnTo>
                    <a:pt x="48" y="48"/>
                  </a:lnTo>
                  <a:lnTo>
                    <a:pt x="36" y="32"/>
                  </a:lnTo>
                  <a:lnTo>
                    <a:pt x="26" y="1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00600" y="6358680"/>
              <a:ext cx="4680" cy="468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4"/>
                  </a:moveTo>
                  <a:lnTo>
                    <a:pt x="14" y="0"/>
                  </a:lnTo>
                  <a:lnTo>
                    <a:pt x="22" y="6"/>
                  </a:lnTo>
                  <a:lnTo>
                    <a:pt x="24" y="10"/>
                  </a:lnTo>
                  <a:lnTo>
                    <a:pt x="16" y="16"/>
                  </a:lnTo>
                  <a:lnTo>
                    <a:pt x="8" y="14"/>
                  </a:lnTo>
                  <a:lnTo>
                    <a:pt x="2" y="8"/>
                  </a:lnTo>
                  <a:lnTo>
                    <a:pt x="0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040" bIns="-41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89800" y="6354000"/>
              <a:ext cx="7560" cy="288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40" y="18"/>
                  </a:moveTo>
                  <a:lnTo>
                    <a:pt x="32" y="18"/>
                  </a:lnTo>
                  <a:lnTo>
                    <a:pt x="12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2" y="2"/>
                  </a:lnTo>
                  <a:lnTo>
                    <a:pt x="34" y="10"/>
                  </a:lnTo>
                  <a:lnTo>
                    <a:pt x="40" y="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92680" y="6361560"/>
              <a:ext cx="4680" cy="14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18"/>
                  </a:moveTo>
                  <a:lnTo>
                    <a:pt x="12" y="20"/>
                  </a:lnTo>
                  <a:lnTo>
                    <a:pt x="4" y="16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2" y="8"/>
                  </a:lnTo>
                  <a:lnTo>
                    <a:pt x="26" y="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46600" y="4737960"/>
              <a:ext cx="17280" cy="39960"/>
            </a:xfrm>
            <a:custGeom>
              <a:avLst/>
              <a:gdLst/>
              <a:ahLst/>
              <a:rect l="l" t="t" r="r" b="b"/>
              <a:pathLst>
                <a:path w="94" h="228">
                  <a:moveTo>
                    <a:pt x="32" y="0"/>
                  </a:moveTo>
                  <a:lnTo>
                    <a:pt x="46" y="76"/>
                  </a:lnTo>
                  <a:lnTo>
                    <a:pt x="76" y="110"/>
                  </a:lnTo>
                  <a:lnTo>
                    <a:pt x="94" y="176"/>
                  </a:lnTo>
                  <a:lnTo>
                    <a:pt x="94" y="194"/>
                  </a:lnTo>
                  <a:lnTo>
                    <a:pt x="72" y="216"/>
                  </a:lnTo>
                  <a:lnTo>
                    <a:pt x="42" y="228"/>
                  </a:lnTo>
                  <a:lnTo>
                    <a:pt x="20" y="214"/>
                  </a:lnTo>
                  <a:lnTo>
                    <a:pt x="14" y="200"/>
                  </a:lnTo>
                  <a:lnTo>
                    <a:pt x="14" y="174"/>
                  </a:lnTo>
                  <a:lnTo>
                    <a:pt x="16" y="166"/>
                  </a:lnTo>
                  <a:lnTo>
                    <a:pt x="34" y="150"/>
                  </a:lnTo>
                  <a:lnTo>
                    <a:pt x="50" y="126"/>
                  </a:lnTo>
                  <a:lnTo>
                    <a:pt x="52" y="112"/>
                  </a:lnTo>
                  <a:lnTo>
                    <a:pt x="38" y="88"/>
                  </a:lnTo>
                  <a:lnTo>
                    <a:pt x="28" y="62"/>
                  </a:lnTo>
                  <a:lnTo>
                    <a:pt x="18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3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5760" bIns="-57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3880" y="4748760"/>
              <a:ext cx="5760" cy="75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4" y="0"/>
                  </a:moveTo>
                  <a:lnTo>
                    <a:pt x="6" y="2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20" y="36"/>
                  </a:lnTo>
                  <a:lnTo>
                    <a:pt x="30" y="36"/>
                  </a:lnTo>
                  <a:lnTo>
                    <a:pt x="36" y="26"/>
                  </a:lnTo>
                  <a:lnTo>
                    <a:pt x="36" y="12"/>
                  </a:lnTo>
                  <a:lnTo>
                    <a:pt x="2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75040" y="4759560"/>
              <a:ext cx="5760" cy="75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44" y="6"/>
                  </a:moveTo>
                  <a:lnTo>
                    <a:pt x="44" y="36"/>
                  </a:lnTo>
                  <a:lnTo>
                    <a:pt x="30" y="48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8" y="0"/>
                  </a:lnTo>
                  <a:lnTo>
                    <a:pt x="44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96640" y="4765680"/>
              <a:ext cx="6120" cy="75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36" y="4"/>
                  </a:moveTo>
                  <a:lnTo>
                    <a:pt x="40" y="0"/>
                  </a:lnTo>
                  <a:lnTo>
                    <a:pt x="40" y="14"/>
                  </a:lnTo>
                  <a:lnTo>
                    <a:pt x="36" y="26"/>
                  </a:lnTo>
                  <a:lnTo>
                    <a:pt x="20" y="42"/>
                  </a:lnTo>
                  <a:lnTo>
                    <a:pt x="8" y="4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0" y="10"/>
                  </a:lnTo>
                  <a:lnTo>
                    <a:pt x="36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35920" y="5579640"/>
              <a:ext cx="2520" cy="46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6" y="22"/>
                  </a:moveTo>
                  <a:lnTo>
                    <a:pt x="20" y="20"/>
                  </a:lnTo>
                  <a:lnTo>
                    <a:pt x="20" y="12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6" y="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040" bIns="-41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43360" y="4753080"/>
              <a:ext cx="6120" cy="612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8" y="0"/>
                  </a:moveTo>
                  <a:lnTo>
                    <a:pt x="32" y="10"/>
                  </a:lnTo>
                  <a:lnTo>
                    <a:pt x="32" y="34"/>
                  </a:lnTo>
                  <a:lnTo>
                    <a:pt x="16" y="34"/>
                  </a:lnTo>
                  <a:lnTo>
                    <a:pt x="6" y="30"/>
                  </a:lnTo>
                  <a:lnTo>
                    <a:pt x="0" y="16"/>
                  </a:lnTo>
                  <a:lnTo>
                    <a:pt x="4" y="6"/>
                  </a:lnTo>
                  <a:lnTo>
                    <a:pt x="2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01240" y="3006720"/>
              <a:ext cx="9000" cy="1188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38" y="6"/>
                  </a:moveTo>
                  <a:lnTo>
                    <a:pt x="22" y="4"/>
                  </a:lnTo>
                  <a:lnTo>
                    <a:pt x="16" y="0"/>
                  </a:lnTo>
                  <a:lnTo>
                    <a:pt x="4" y="8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4" y="50"/>
                  </a:lnTo>
                  <a:lnTo>
                    <a:pt x="32" y="56"/>
                  </a:lnTo>
                  <a:lnTo>
                    <a:pt x="48" y="68"/>
                  </a:lnTo>
                  <a:lnTo>
                    <a:pt x="54" y="56"/>
                  </a:lnTo>
                  <a:lnTo>
                    <a:pt x="40" y="52"/>
                  </a:lnTo>
                  <a:lnTo>
                    <a:pt x="34" y="38"/>
                  </a:lnTo>
                  <a:lnTo>
                    <a:pt x="44" y="34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38" y="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38680" y="3011400"/>
              <a:ext cx="2520" cy="28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8"/>
                  </a:moveTo>
                  <a:lnTo>
                    <a:pt x="14" y="0"/>
                  </a:lnTo>
                  <a:lnTo>
                    <a:pt x="2" y="2"/>
                  </a:lnTo>
                  <a:lnTo>
                    <a:pt x="0" y="12"/>
                  </a:lnTo>
                  <a:lnTo>
                    <a:pt x="10" y="20"/>
                  </a:lnTo>
                  <a:lnTo>
                    <a:pt x="20" y="20"/>
                  </a:lnTo>
                  <a:lnTo>
                    <a:pt x="20" y="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52360" y="3009960"/>
              <a:ext cx="6120" cy="75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34" y="42"/>
                  </a:moveTo>
                  <a:lnTo>
                    <a:pt x="40" y="36"/>
                  </a:lnTo>
                  <a:lnTo>
                    <a:pt x="44" y="22"/>
                  </a:lnTo>
                  <a:lnTo>
                    <a:pt x="44" y="0"/>
                  </a:lnTo>
                  <a:lnTo>
                    <a:pt x="38" y="6"/>
                  </a:lnTo>
                  <a:lnTo>
                    <a:pt x="10" y="16"/>
                  </a:lnTo>
                  <a:lnTo>
                    <a:pt x="12" y="28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18" y="38"/>
                  </a:lnTo>
                  <a:lnTo>
                    <a:pt x="34" y="4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10520" y="3641400"/>
              <a:ext cx="69840" cy="47520"/>
            </a:xfrm>
            <a:custGeom>
              <a:avLst/>
              <a:gdLst/>
              <a:ahLst/>
              <a:rect l="l" t="t" r="r" b="b"/>
              <a:pathLst>
                <a:path w="404" h="270">
                  <a:moveTo>
                    <a:pt x="404" y="0"/>
                  </a:moveTo>
                  <a:lnTo>
                    <a:pt x="396" y="2"/>
                  </a:lnTo>
                  <a:lnTo>
                    <a:pt x="398" y="4"/>
                  </a:lnTo>
                  <a:lnTo>
                    <a:pt x="396" y="30"/>
                  </a:lnTo>
                  <a:lnTo>
                    <a:pt x="366" y="84"/>
                  </a:lnTo>
                  <a:lnTo>
                    <a:pt x="346" y="148"/>
                  </a:lnTo>
                  <a:lnTo>
                    <a:pt x="346" y="160"/>
                  </a:lnTo>
                  <a:lnTo>
                    <a:pt x="356" y="170"/>
                  </a:lnTo>
                  <a:lnTo>
                    <a:pt x="358" y="182"/>
                  </a:lnTo>
                  <a:lnTo>
                    <a:pt x="372" y="212"/>
                  </a:lnTo>
                  <a:lnTo>
                    <a:pt x="360" y="252"/>
                  </a:lnTo>
                  <a:lnTo>
                    <a:pt x="358" y="270"/>
                  </a:lnTo>
                  <a:lnTo>
                    <a:pt x="322" y="270"/>
                  </a:lnTo>
                  <a:lnTo>
                    <a:pt x="294" y="264"/>
                  </a:lnTo>
                  <a:lnTo>
                    <a:pt x="266" y="242"/>
                  </a:lnTo>
                  <a:lnTo>
                    <a:pt x="246" y="216"/>
                  </a:lnTo>
                  <a:lnTo>
                    <a:pt x="212" y="204"/>
                  </a:lnTo>
                  <a:lnTo>
                    <a:pt x="190" y="202"/>
                  </a:lnTo>
                  <a:lnTo>
                    <a:pt x="170" y="192"/>
                  </a:lnTo>
                  <a:lnTo>
                    <a:pt x="152" y="176"/>
                  </a:lnTo>
                  <a:lnTo>
                    <a:pt x="124" y="162"/>
                  </a:lnTo>
                  <a:lnTo>
                    <a:pt x="94" y="140"/>
                  </a:lnTo>
                  <a:lnTo>
                    <a:pt x="64" y="126"/>
                  </a:lnTo>
                  <a:lnTo>
                    <a:pt x="22" y="118"/>
                  </a:lnTo>
                  <a:lnTo>
                    <a:pt x="8" y="102"/>
                  </a:lnTo>
                  <a:lnTo>
                    <a:pt x="0" y="66"/>
                  </a:lnTo>
                  <a:lnTo>
                    <a:pt x="4" y="46"/>
                  </a:lnTo>
                  <a:lnTo>
                    <a:pt x="8" y="38"/>
                  </a:lnTo>
                  <a:lnTo>
                    <a:pt x="12" y="28"/>
                  </a:lnTo>
                  <a:lnTo>
                    <a:pt x="22" y="24"/>
                  </a:lnTo>
                  <a:lnTo>
                    <a:pt x="44" y="40"/>
                  </a:lnTo>
                  <a:lnTo>
                    <a:pt x="60" y="38"/>
                  </a:lnTo>
                  <a:lnTo>
                    <a:pt x="96" y="16"/>
                  </a:lnTo>
                  <a:lnTo>
                    <a:pt x="148" y="38"/>
                  </a:lnTo>
                  <a:lnTo>
                    <a:pt x="158" y="56"/>
                  </a:lnTo>
                  <a:lnTo>
                    <a:pt x="176" y="54"/>
                  </a:lnTo>
                  <a:lnTo>
                    <a:pt x="190" y="48"/>
                  </a:lnTo>
                  <a:lnTo>
                    <a:pt x="264" y="40"/>
                  </a:lnTo>
                  <a:lnTo>
                    <a:pt x="282" y="34"/>
                  </a:lnTo>
                  <a:lnTo>
                    <a:pt x="302" y="22"/>
                  </a:lnTo>
                  <a:lnTo>
                    <a:pt x="346" y="22"/>
                  </a:lnTo>
                  <a:lnTo>
                    <a:pt x="360" y="8"/>
                  </a:lnTo>
                  <a:lnTo>
                    <a:pt x="386" y="8"/>
                  </a:lnTo>
                  <a:lnTo>
                    <a:pt x="40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10800" y="3557160"/>
              <a:ext cx="34200" cy="68760"/>
            </a:xfrm>
            <a:custGeom>
              <a:avLst/>
              <a:gdLst/>
              <a:ahLst/>
              <a:rect l="l" t="t" r="r" b="b"/>
              <a:pathLst>
                <a:path w="196" h="406">
                  <a:moveTo>
                    <a:pt x="116" y="0"/>
                  </a:moveTo>
                  <a:lnTo>
                    <a:pt x="144" y="10"/>
                  </a:lnTo>
                  <a:lnTo>
                    <a:pt x="148" y="16"/>
                  </a:lnTo>
                  <a:lnTo>
                    <a:pt x="162" y="26"/>
                  </a:lnTo>
                  <a:lnTo>
                    <a:pt x="174" y="52"/>
                  </a:lnTo>
                  <a:lnTo>
                    <a:pt x="190" y="100"/>
                  </a:lnTo>
                  <a:lnTo>
                    <a:pt x="196" y="142"/>
                  </a:lnTo>
                  <a:lnTo>
                    <a:pt x="192" y="182"/>
                  </a:lnTo>
                  <a:lnTo>
                    <a:pt x="196" y="256"/>
                  </a:lnTo>
                  <a:lnTo>
                    <a:pt x="196" y="320"/>
                  </a:lnTo>
                  <a:lnTo>
                    <a:pt x="190" y="336"/>
                  </a:lnTo>
                  <a:lnTo>
                    <a:pt x="188" y="348"/>
                  </a:lnTo>
                  <a:lnTo>
                    <a:pt x="176" y="360"/>
                  </a:lnTo>
                  <a:lnTo>
                    <a:pt x="144" y="352"/>
                  </a:lnTo>
                  <a:lnTo>
                    <a:pt x="132" y="362"/>
                  </a:lnTo>
                  <a:lnTo>
                    <a:pt x="122" y="386"/>
                  </a:lnTo>
                  <a:lnTo>
                    <a:pt x="108" y="400"/>
                  </a:lnTo>
                  <a:lnTo>
                    <a:pt x="86" y="406"/>
                  </a:lnTo>
                  <a:lnTo>
                    <a:pt x="74" y="394"/>
                  </a:lnTo>
                  <a:lnTo>
                    <a:pt x="46" y="358"/>
                  </a:lnTo>
                  <a:lnTo>
                    <a:pt x="42" y="338"/>
                  </a:lnTo>
                  <a:lnTo>
                    <a:pt x="42" y="324"/>
                  </a:lnTo>
                  <a:lnTo>
                    <a:pt x="34" y="304"/>
                  </a:lnTo>
                  <a:lnTo>
                    <a:pt x="38" y="256"/>
                  </a:lnTo>
                  <a:lnTo>
                    <a:pt x="48" y="248"/>
                  </a:lnTo>
                  <a:lnTo>
                    <a:pt x="48" y="234"/>
                  </a:lnTo>
                  <a:lnTo>
                    <a:pt x="42" y="226"/>
                  </a:lnTo>
                  <a:lnTo>
                    <a:pt x="38" y="204"/>
                  </a:lnTo>
                  <a:lnTo>
                    <a:pt x="40" y="186"/>
                  </a:lnTo>
                  <a:lnTo>
                    <a:pt x="38" y="162"/>
                  </a:lnTo>
                  <a:lnTo>
                    <a:pt x="32" y="144"/>
                  </a:lnTo>
                  <a:lnTo>
                    <a:pt x="24" y="126"/>
                  </a:lnTo>
                  <a:lnTo>
                    <a:pt x="20" y="122"/>
                  </a:lnTo>
                  <a:lnTo>
                    <a:pt x="10" y="122"/>
                  </a:lnTo>
                  <a:lnTo>
                    <a:pt x="2" y="108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24" y="76"/>
                  </a:lnTo>
                  <a:lnTo>
                    <a:pt x="46" y="72"/>
                  </a:lnTo>
                  <a:lnTo>
                    <a:pt x="90" y="26"/>
                  </a:lnTo>
                  <a:lnTo>
                    <a:pt x="104" y="22"/>
                  </a:lnTo>
                  <a:lnTo>
                    <a:pt x="116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74400" y="3567960"/>
              <a:ext cx="7560" cy="756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26" y="32"/>
                  </a:moveTo>
                  <a:lnTo>
                    <a:pt x="40" y="26"/>
                  </a:lnTo>
                  <a:lnTo>
                    <a:pt x="32" y="22"/>
                  </a:lnTo>
                  <a:lnTo>
                    <a:pt x="30" y="4"/>
                  </a:lnTo>
                  <a:lnTo>
                    <a:pt x="18" y="0"/>
                  </a:lnTo>
                  <a:lnTo>
                    <a:pt x="0" y="20"/>
                  </a:lnTo>
                  <a:lnTo>
                    <a:pt x="2" y="30"/>
                  </a:lnTo>
                  <a:lnTo>
                    <a:pt x="18" y="36"/>
                  </a:lnTo>
                  <a:lnTo>
                    <a:pt x="26" y="3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89880" y="3591000"/>
              <a:ext cx="6120" cy="756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2" y="12"/>
                  </a:moveTo>
                  <a:lnTo>
                    <a:pt x="38" y="12"/>
                  </a:lnTo>
                  <a:lnTo>
                    <a:pt x="34" y="2"/>
                  </a:lnTo>
                  <a:lnTo>
                    <a:pt x="20" y="0"/>
                  </a:lnTo>
                  <a:lnTo>
                    <a:pt x="2" y="4"/>
                  </a:lnTo>
                  <a:lnTo>
                    <a:pt x="0" y="28"/>
                  </a:lnTo>
                  <a:lnTo>
                    <a:pt x="8" y="34"/>
                  </a:lnTo>
                  <a:lnTo>
                    <a:pt x="14" y="24"/>
                  </a:lnTo>
                  <a:lnTo>
                    <a:pt x="32" y="32"/>
                  </a:lnTo>
                  <a:lnTo>
                    <a:pt x="42" y="1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10400" y="3607560"/>
              <a:ext cx="16920" cy="12240"/>
            </a:xfrm>
            <a:custGeom>
              <a:avLst/>
              <a:gdLst/>
              <a:ahLst/>
              <a:rect l="l" t="t" r="r" b="b"/>
              <a:pathLst>
                <a:path w="102" h="76">
                  <a:moveTo>
                    <a:pt x="86" y="64"/>
                  </a:moveTo>
                  <a:lnTo>
                    <a:pt x="102" y="66"/>
                  </a:lnTo>
                  <a:lnTo>
                    <a:pt x="86" y="38"/>
                  </a:lnTo>
                  <a:lnTo>
                    <a:pt x="58" y="0"/>
                  </a:lnTo>
                  <a:lnTo>
                    <a:pt x="4" y="28"/>
                  </a:lnTo>
                  <a:lnTo>
                    <a:pt x="0" y="50"/>
                  </a:lnTo>
                  <a:lnTo>
                    <a:pt x="16" y="52"/>
                  </a:lnTo>
                  <a:lnTo>
                    <a:pt x="32" y="42"/>
                  </a:lnTo>
                  <a:lnTo>
                    <a:pt x="48" y="42"/>
                  </a:lnTo>
                  <a:lnTo>
                    <a:pt x="38" y="66"/>
                  </a:lnTo>
                  <a:lnTo>
                    <a:pt x="60" y="76"/>
                  </a:lnTo>
                  <a:lnTo>
                    <a:pt x="78" y="64"/>
                  </a:lnTo>
                  <a:lnTo>
                    <a:pt x="78" y="54"/>
                  </a:lnTo>
                  <a:lnTo>
                    <a:pt x="86" y="6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11840" y="3630960"/>
              <a:ext cx="6120" cy="1008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20" y="68"/>
                  </a:moveTo>
                  <a:lnTo>
                    <a:pt x="34" y="58"/>
                  </a:lnTo>
                  <a:lnTo>
                    <a:pt x="34" y="12"/>
                  </a:lnTo>
                  <a:lnTo>
                    <a:pt x="28" y="4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0" y="38"/>
                  </a:lnTo>
                  <a:lnTo>
                    <a:pt x="8" y="54"/>
                  </a:lnTo>
                  <a:lnTo>
                    <a:pt x="10" y="66"/>
                  </a:lnTo>
                  <a:lnTo>
                    <a:pt x="20" y="6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5640" bIns="-356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63680" y="3692160"/>
              <a:ext cx="10440" cy="15120"/>
            </a:xfrm>
            <a:custGeom>
              <a:avLst/>
              <a:gdLst/>
              <a:ahLst/>
              <a:rect l="l" t="t" r="r" b="b"/>
              <a:pathLst>
                <a:path w="68" h="90">
                  <a:moveTo>
                    <a:pt x="46" y="64"/>
                  </a:moveTo>
                  <a:lnTo>
                    <a:pt x="56" y="60"/>
                  </a:lnTo>
                  <a:lnTo>
                    <a:pt x="56" y="46"/>
                  </a:lnTo>
                  <a:lnTo>
                    <a:pt x="64" y="28"/>
                  </a:lnTo>
                  <a:lnTo>
                    <a:pt x="68" y="0"/>
                  </a:lnTo>
                  <a:lnTo>
                    <a:pt x="34" y="14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46" y="6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68280" y="3718440"/>
              <a:ext cx="63720" cy="19800"/>
            </a:xfrm>
            <a:custGeom>
              <a:avLst/>
              <a:gdLst/>
              <a:ahLst/>
              <a:rect l="l" t="t" r="r" b="b"/>
              <a:pathLst>
                <a:path w="368" h="118">
                  <a:moveTo>
                    <a:pt x="200" y="38"/>
                  </a:moveTo>
                  <a:lnTo>
                    <a:pt x="180" y="30"/>
                  </a:lnTo>
                  <a:lnTo>
                    <a:pt x="108" y="44"/>
                  </a:lnTo>
                  <a:lnTo>
                    <a:pt x="90" y="30"/>
                  </a:lnTo>
                  <a:lnTo>
                    <a:pt x="78" y="28"/>
                  </a:lnTo>
                  <a:lnTo>
                    <a:pt x="82" y="14"/>
                  </a:lnTo>
                  <a:lnTo>
                    <a:pt x="70" y="2"/>
                  </a:lnTo>
                  <a:lnTo>
                    <a:pt x="58" y="16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6" y="20"/>
                  </a:lnTo>
                  <a:lnTo>
                    <a:pt x="4" y="14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34" y="68"/>
                  </a:lnTo>
                  <a:lnTo>
                    <a:pt x="58" y="66"/>
                  </a:lnTo>
                  <a:lnTo>
                    <a:pt x="86" y="66"/>
                  </a:lnTo>
                  <a:lnTo>
                    <a:pt x="124" y="76"/>
                  </a:lnTo>
                  <a:lnTo>
                    <a:pt x="138" y="86"/>
                  </a:lnTo>
                  <a:lnTo>
                    <a:pt x="160" y="94"/>
                  </a:lnTo>
                  <a:lnTo>
                    <a:pt x="174" y="118"/>
                  </a:lnTo>
                  <a:lnTo>
                    <a:pt x="212" y="116"/>
                  </a:lnTo>
                  <a:lnTo>
                    <a:pt x="236" y="106"/>
                  </a:lnTo>
                  <a:lnTo>
                    <a:pt x="258" y="108"/>
                  </a:lnTo>
                  <a:lnTo>
                    <a:pt x="278" y="102"/>
                  </a:lnTo>
                  <a:lnTo>
                    <a:pt x="304" y="100"/>
                  </a:lnTo>
                  <a:lnTo>
                    <a:pt x="324" y="94"/>
                  </a:lnTo>
                  <a:lnTo>
                    <a:pt x="350" y="106"/>
                  </a:lnTo>
                  <a:lnTo>
                    <a:pt x="368" y="68"/>
                  </a:lnTo>
                  <a:lnTo>
                    <a:pt x="364" y="56"/>
                  </a:lnTo>
                  <a:lnTo>
                    <a:pt x="348" y="64"/>
                  </a:lnTo>
                  <a:lnTo>
                    <a:pt x="336" y="66"/>
                  </a:lnTo>
                  <a:lnTo>
                    <a:pt x="318" y="74"/>
                  </a:lnTo>
                  <a:lnTo>
                    <a:pt x="298" y="66"/>
                  </a:lnTo>
                  <a:lnTo>
                    <a:pt x="284" y="48"/>
                  </a:lnTo>
                  <a:lnTo>
                    <a:pt x="258" y="50"/>
                  </a:lnTo>
                  <a:lnTo>
                    <a:pt x="216" y="50"/>
                  </a:lnTo>
                  <a:lnTo>
                    <a:pt x="200" y="46"/>
                  </a:lnTo>
                  <a:lnTo>
                    <a:pt x="200" y="3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920" bIns="-259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86640" y="3650760"/>
              <a:ext cx="7560" cy="90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36" y="52"/>
                  </a:moveTo>
                  <a:lnTo>
                    <a:pt x="42" y="42"/>
                  </a:lnTo>
                  <a:lnTo>
                    <a:pt x="40" y="26"/>
                  </a:lnTo>
                  <a:lnTo>
                    <a:pt x="34" y="16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" y="24"/>
                  </a:lnTo>
                  <a:lnTo>
                    <a:pt x="28" y="50"/>
                  </a:lnTo>
                  <a:lnTo>
                    <a:pt x="36" y="5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5360" y="3672360"/>
              <a:ext cx="4680" cy="75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8" y="40"/>
                  </a:moveTo>
                  <a:lnTo>
                    <a:pt x="24" y="40"/>
                  </a:lnTo>
                  <a:lnTo>
                    <a:pt x="24" y="0"/>
                  </a:lnTo>
                  <a:lnTo>
                    <a:pt x="10" y="4"/>
                  </a:lnTo>
                  <a:lnTo>
                    <a:pt x="0" y="18"/>
                  </a:lnTo>
                  <a:lnTo>
                    <a:pt x="2" y="38"/>
                  </a:lnTo>
                  <a:lnTo>
                    <a:pt x="8" y="4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7440" y="3639960"/>
              <a:ext cx="54360" cy="55080"/>
            </a:xfrm>
            <a:custGeom>
              <a:avLst/>
              <a:gdLst/>
              <a:ahLst/>
              <a:rect l="l" t="t" r="r" b="b"/>
              <a:pathLst>
                <a:path w="312" h="320">
                  <a:moveTo>
                    <a:pt x="112" y="0"/>
                  </a:moveTo>
                  <a:lnTo>
                    <a:pt x="80" y="6"/>
                  </a:lnTo>
                  <a:lnTo>
                    <a:pt x="48" y="30"/>
                  </a:lnTo>
                  <a:lnTo>
                    <a:pt x="28" y="22"/>
                  </a:lnTo>
                  <a:lnTo>
                    <a:pt x="4" y="68"/>
                  </a:lnTo>
                  <a:lnTo>
                    <a:pt x="0" y="90"/>
                  </a:lnTo>
                  <a:lnTo>
                    <a:pt x="20" y="122"/>
                  </a:lnTo>
                  <a:lnTo>
                    <a:pt x="58" y="140"/>
                  </a:lnTo>
                  <a:lnTo>
                    <a:pt x="78" y="170"/>
                  </a:lnTo>
                  <a:lnTo>
                    <a:pt x="68" y="210"/>
                  </a:lnTo>
                  <a:lnTo>
                    <a:pt x="78" y="242"/>
                  </a:lnTo>
                  <a:lnTo>
                    <a:pt x="92" y="258"/>
                  </a:lnTo>
                  <a:lnTo>
                    <a:pt x="112" y="264"/>
                  </a:lnTo>
                  <a:lnTo>
                    <a:pt x="116" y="238"/>
                  </a:lnTo>
                  <a:lnTo>
                    <a:pt x="130" y="218"/>
                  </a:lnTo>
                  <a:lnTo>
                    <a:pt x="140" y="234"/>
                  </a:lnTo>
                  <a:lnTo>
                    <a:pt x="162" y="250"/>
                  </a:lnTo>
                  <a:lnTo>
                    <a:pt x="176" y="290"/>
                  </a:lnTo>
                  <a:lnTo>
                    <a:pt x="182" y="318"/>
                  </a:lnTo>
                  <a:lnTo>
                    <a:pt x="194" y="320"/>
                  </a:lnTo>
                  <a:lnTo>
                    <a:pt x="198" y="270"/>
                  </a:lnTo>
                  <a:lnTo>
                    <a:pt x="220" y="260"/>
                  </a:lnTo>
                  <a:lnTo>
                    <a:pt x="236" y="284"/>
                  </a:lnTo>
                  <a:lnTo>
                    <a:pt x="256" y="302"/>
                  </a:lnTo>
                  <a:lnTo>
                    <a:pt x="278" y="314"/>
                  </a:lnTo>
                  <a:lnTo>
                    <a:pt x="268" y="258"/>
                  </a:lnTo>
                  <a:lnTo>
                    <a:pt x="246" y="186"/>
                  </a:lnTo>
                  <a:lnTo>
                    <a:pt x="224" y="160"/>
                  </a:lnTo>
                  <a:lnTo>
                    <a:pt x="216" y="130"/>
                  </a:lnTo>
                  <a:lnTo>
                    <a:pt x="262" y="158"/>
                  </a:lnTo>
                  <a:lnTo>
                    <a:pt x="266" y="172"/>
                  </a:lnTo>
                  <a:lnTo>
                    <a:pt x="278" y="170"/>
                  </a:lnTo>
                  <a:lnTo>
                    <a:pt x="292" y="154"/>
                  </a:lnTo>
                  <a:lnTo>
                    <a:pt x="312" y="152"/>
                  </a:lnTo>
                  <a:lnTo>
                    <a:pt x="306" y="134"/>
                  </a:lnTo>
                  <a:lnTo>
                    <a:pt x="276" y="114"/>
                  </a:lnTo>
                  <a:lnTo>
                    <a:pt x="254" y="78"/>
                  </a:lnTo>
                  <a:lnTo>
                    <a:pt x="254" y="58"/>
                  </a:lnTo>
                  <a:lnTo>
                    <a:pt x="232" y="48"/>
                  </a:lnTo>
                  <a:lnTo>
                    <a:pt x="172" y="28"/>
                  </a:lnTo>
                  <a:lnTo>
                    <a:pt x="142" y="18"/>
                  </a:lnTo>
                  <a:lnTo>
                    <a:pt x="128" y="20"/>
                  </a:lnTo>
                  <a:lnTo>
                    <a:pt x="11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360" bIns="9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88720" y="3638520"/>
              <a:ext cx="9000" cy="1008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52" y="58"/>
                  </a:moveTo>
                  <a:lnTo>
                    <a:pt x="54" y="38"/>
                  </a:lnTo>
                  <a:lnTo>
                    <a:pt x="36" y="24"/>
                  </a:lnTo>
                  <a:lnTo>
                    <a:pt x="28" y="0"/>
                  </a:lnTo>
                  <a:lnTo>
                    <a:pt x="16" y="8"/>
                  </a:lnTo>
                  <a:lnTo>
                    <a:pt x="0" y="28"/>
                  </a:lnTo>
                  <a:lnTo>
                    <a:pt x="20" y="48"/>
                  </a:lnTo>
                  <a:lnTo>
                    <a:pt x="38" y="50"/>
                  </a:lnTo>
                  <a:lnTo>
                    <a:pt x="52" y="5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5640" bIns="-356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46320" y="3620160"/>
              <a:ext cx="38880" cy="30600"/>
            </a:xfrm>
            <a:custGeom>
              <a:avLst/>
              <a:gdLst/>
              <a:ahLst/>
              <a:rect l="l" t="t" r="r" b="b"/>
              <a:pathLst>
                <a:path w="228" h="180">
                  <a:moveTo>
                    <a:pt x="222" y="158"/>
                  </a:moveTo>
                  <a:lnTo>
                    <a:pt x="228" y="164"/>
                  </a:lnTo>
                  <a:lnTo>
                    <a:pt x="224" y="144"/>
                  </a:lnTo>
                  <a:lnTo>
                    <a:pt x="186" y="134"/>
                  </a:lnTo>
                  <a:lnTo>
                    <a:pt x="168" y="98"/>
                  </a:lnTo>
                  <a:lnTo>
                    <a:pt x="166" y="78"/>
                  </a:lnTo>
                  <a:lnTo>
                    <a:pt x="152" y="64"/>
                  </a:lnTo>
                  <a:lnTo>
                    <a:pt x="116" y="56"/>
                  </a:lnTo>
                  <a:lnTo>
                    <a:pt x="90" y="46"/>
                  </a:lnTo>
                  <a:lnTo>
                    <a:pt x="48" y="10"/>
                  </a:lnTo>
                  <a:lnTo>
                    <a:pt x="44" y="0"/>
                  </a:lnTo>
                  <a:lnTo>
                    <a:pt x="30" y="0"/>
                  </a:lnTo>
                  <a:lnTo>
                    <a:pt x="8" y="20"/>
                  </a:lnTo>
                  <a:lnTo>
                    <a:pt x="0" y="32"/>
                  </a:lnTo>
                  <a:lnTo>
                    <a:pt x="24" y="32"/>
                  </a:lnTo>
                  <a:lnTo>
                    <a:pt x="54" y="58"/>
                  </a:lnTo>
                  <a:lnTo>
                    <a:pt x="78" y="74"/>
                  </a:lnTo>
                  <a:lnTo>
                    <a:pt x="84" y="94"/>
                  </a:lnTo>
                  <a:lnTo>
                    <a:pt x="106" y="106"/>
                  </a:lnTo>
                  <a:lnTo>
                    <a:pt x="134" y="108"/>
                  </a:lnTo>
                  <a:lnTo>
                    <a:pt x="162" y="128"/>
                  </a:lnTo>
                  <a:lnTo>
                    <a:pt x="170" y="142"/>
                  </a:lnTo>
                  <a:lnTo>
                    <a:pt x="178" y="164"/>
                  </a:lnTo>
                  <a:lnTo>
                    <a:pt x="194" y="176"/>
                  </a:lnTo>
                  <a:lnTo>
                    <a:pt x="224" y="180"/>
                  </a:lnTo>
                  <a:lnTo>
                    <a:pt x="222" y="15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70000" y="3598560"/>
              <a:ext cx="9000" cy="1044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56" y="64"/>
                  </a:moveTo>
                  <a:lnTo>
                    <a:pt x="56" y="54"/>
                  </a:lnTo>
                  <a:lnTo>
                    <a:pt x="30" y="10"/>
                  </a:lnTo>
                  <a:lnTo>
                    <a:pt x="16" y="0"/>
                  </a:lnTo>
                  <a:lnTo>
                    <a:pt x="0" y="4"/>
                  </a:lnTo>
                  <a:lnTo>
                    <a:pt x="24" y="48"/>
                  </a:lnTo>
                  <a:lnTo>
                    <a:pt x="42" y="64"/>
                  </a:lnTo>
                  <a:lnTo>
                    <a:pt x="56" y="6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5280" bIns="-352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42640" y="3954240"/>
              <a:ext cx="20160" cy="1368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116" y="2"/>
                  </a:moveTo>
                  <a:lnTo>
                    <a:pt x="104" y="0"/>
                  </a:lnTo>
                  <a:lnTo>
                    <a:pt x="60" y="4"/>
                  </a:lnTo>
                  <a:lnTo>
                    <a:pt x="54" y="28"/>
                  </a:lnTo>
                  <a:lnTo>
                    <a:pt x="28" y="50"/>
                  </a:lnTo>
                  <a:lnTo>
                    <a:pt x="0" y="64"/>
                  </a:lnTo>
                  <a:lnTo>
                    <a:pt x="6" y="76"/>
                  </a:lnTo>
                  <a:lnTo>
                    <a:pt x="68" y="54"/>
                  </a:lnTo>
                  <a:lnTo>
                    <a:pt x="116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48840" y="4137120"/>
              <a:ext cx="5760" cy="1188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4" y="78"/>
                  </a:moveTo>
                  <a:lnTo>
                    <a:pt x="6" y="74"/>
                  </a:lnTo>
                  <a:lnTo>
                    <a:pt x="12" y="72"/>
                  </a:lnTo>
                  <a:lnTo>
                    <a:pt x="18" y="60"/>
                  </a:lnTo>
                  <a:lnTo>
                    <a:pt x="18" y="52"/>
                  </a:lnTo>
                  <a:lnTo>
                    <a:pt x="20" y="46"/>
                  </a:lnTo>
                  <a:lnTo>
                    <a:pt x="36" y="28"/>
                  </a:lnTo>
                  <a:lnTo>
                    <a:pt x="36" y="20"/>
                  </a:lnTo>
                  <a:lnTo>
                    <a:pt x="30" y="20"/>
                  </a:lnTo>
                  <a:lnTo>
                    <a:pt x="32" y="6"/>
                  </a:lnTo>
                  <a:lnTo>
                    <a:pt x="30" y="0"/>
                  </a:lnTo>
                  <a:lnTo>
                    <a:pt x="22" y="6"/>
                  </a:lnTo>
                  <a:lnTo>
                    <a:pt x="14" y="26"/>
                  </a:lnTo>
                  <a:lnTo>
                    <a:pt x="14" y="38"/>
                  </a:lnTo>
                  <a:lnTo>
                    <a:pt x="2" y="50"/>
                  </a:lnTo>
                  <a:lnTo>
                    <a:pt x="4" y="58"/>
                  </a:lnTo>
                  <a:lnTo>
                    <a:pt x="0" y="72"/>
                  </a:lnTo>
                  <a:lnTo>
                    <a:pt x="4" y="7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10680" y="4332960"/>
              <a:ext cx="5760" cy="59760"/>
            </a:xfrm>
            <a:custGeom>
              <a:avLst/>
              <a:gdLst/>
              <a:ahLst/>
              <a:rect l="l" t="t" r="r" b="b"/>
              <a:pathLst>
                <a:path w="36" h="354">
                  <a:moveTo>
                    <a:pt x="18" y="0"/>
                  </a:moveTo>
                  <a:lnTo>
                    <a:pt x="14" y="10"/>
                  </a:lnTo>
                  <a:lnTo>
                    <a:pt x="8" y="80"/>
                  </a:lnTo>
                  <a:lnTo>
                    <a:pt x="8" y="186"/>
                  </a:lnTo>
                  <a:lnTo>
                    <a:pt x="16" y="232"/>
                  </a:lnTo>
                  <a:lnTo>
                    <a:pt x="12" y="254"/>
                  </a:lnTo>
                  <a:lnTo>
                    <a:pt x="0" y="292"/>
                  </a:lnTo>
                  <a:lnTo>
                    <a:pt x="8" y="336"/>
                  </a:lnTo>
                  <a:lnTo>
                    <a:pt x="24" y="354"/>
                  </a:lnTo>
                  <a:lnTo>
                    <a:pt x="34" y="348"/>
                  </a:lnTo>
                  <a:lnTo>
                    <a:pt x="28" y="328"/>
                  </a:lnTo>
                  <a:lnTo>
                    <a:pt x="28" y="258"/>
                  </a:lnTo>
                  <a:lnTo>
                    <a:pt x="34" y="224"/>
                  </a:lnTo>
                  <a:lnTo>
                    <a:pt x="30" y="204"/>
                  </a:lnTo>
                  <a:lnTo>
                    <a:pt x="34" y="176"/>
                  </a:lnTo>
                  <a:lnTo>
                    <a:pt x="36" y="130"/>
                  </a:lnTo>
                  <a:lnTo>
                    <a:pt x="26" y="110"/>
                  </a:lnTo>
                  <a:lnTo>
                    <a:pt x="24" y="88"/>
                  </a:lnTo>
                  <a:lnTo>
                    <a:pt x="36" y="76"/>
                  </a:lnTo>
                  <a:lnTo>
                    <a:pt x="28" y="0"/>
                  </a:lnTo>
                  <a:lnTo>
                    <a:pt x="1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2800" y="4520160"/>
              <a:ext cx="4320" cy="1512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2" y="6"/>
                  </a:moveTo>
                  <a:lnTo>
                    <a:pt x="8" y="2"/>
                  </a:lnTo>
                  <a:lnTo>
                    <a:pt x="0" y="20"/>
                  </a:lnTo>
                  <a:lnTo>
                    <a:pt x="2" y="52"/>
                  </a:lnTo>
                  <a:lnTo>
                    <a:pt x="12" y="86"/>
                  </a:lnTo>
                  <a:lnTo>
                    <a:pt x="26" y="64"/>
                  </a:lnTo>
                  <a:lnTo>
                    <a:pt x="28" y="24"/>
                  </a:lnTo>
                  <a:lnTo>
                    <a:pt x="22" y="0"/>
                  </a:lnTo>
                  <a:lnTo>
                    <a:pt x="22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600" bIns="-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96520" y="4420800"/>
              <a:ext cx="5760" cy="1008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10" y="0"/>
                  </a:moveTo>
                  <a:lnTo>
                    <a:pt x="26" y="18"/>
                  </a:lnTo>
                  <a:lnTo>
                    <a:pt x="30" y="44"/>
                  </a:lnTo>
                  <a:lnTo>
                    <a:pt x="28" y="62"/>
                  </a:lnTo>
                  <a:lnTo>
                    <a:pt x="12" y="42"/>
                  </a:lnTo>
                  <a:lnTo>
                    <a:pt x="2" y="2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640" bIns="-356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22680" y="3681360"/>
              <a:ext cx="14040" cy="10440"/>
            </a:xfrm>
            <a:custGeom>
              <a:avLst/>
              <a:gdLst/>
              <a:ahLst/>
              <a:rect l="l" t="t" r="r" b="b"/>
              <a:pathLst>
                <a:path w="84" h="62">
                  <a:moveTo>
                    <a:pt x="4" y="24"/>
                  </a:moveTo>
                  <a:lnTo>
                    <a:pt x="0" y="44"/>
                  </a:lnTo>
                  <a:lnTo>
                    <a:pt x="10" y="60"/>
                  </a:lnTo>
                  <a:lnTo>
                    <a:pt x="36" y="62"/>
                  </a:lnTo>
                  <a:lnTo>
                    <a:pt x="68" y="54"/>
                  </a:lnTo>
                  <a:lnTo>
                    <a:pt x="84" y="20"/>
                  </a:lnTo>
                  <a:lnTo>
                    <a:pt x="70" y="0"/>
                  </a:lnTo>
                  <a:lnTo>
                    <a:pt x="32" y="4"/>
                  </a:lnTo>
                  <a:lnTo>
                    <a:pt x="4" y="2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81920" y="3920760"/>
              <a:ext cx="2520" cy="1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8"/>
                  </a:moveTo>
                  <a:lnTo>
                    <a:pt x="12" y="10"/>
                  </a:lnTo>
                  <a:lnTo>
                    <a:pt x="4" y="12"/>
                  </a:lnTo>
                  <a:lnTo>
                    <a:pt x="6" y="0"/>
                  </a:lnTo>
                  <a:lnTo>
                    <a:pt x="8" y="0"/>
                  </a:lnTo>
                  <a:lnTo>
                    <a:pt x="2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12" y="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36120" y="4078440"/>
              <a:ext cx="1440" cy="28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2"/>
                  </a:moveTo>
                  <a:lnTo>
                    <a:pt x="8" y="0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0" y="4"/>
                  </a:lnTo>
                  <a:lnTo>
                    <a:pt x="2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69240" y="4138200"/>
              <a:ext cx="2880" cy="28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2" y="6"/>
                  </a:moveTo>
                  <a:lnTo>
                    <a:pt x="4" y="0"/>
                  </a:lnTo>
                  <a:lnTo>
                    <a:pt x="8" y="2"/>
                  </a:lnTo>
                  <a:lnTo>
                    <a:pt x="6" y="16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94440" y="4241160"/>
              <a:ext cx="2520" cy="2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8"/>
                  </a:moveTo>
                  <a:lnTo>
                    <a:pt x="14" y="0"/>
                  </a:lnTo>
                  <a:lnTo>
                    <a:pt x="16" y="12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2"/>
                  </a:lnTo>
                  <a:lnTo>
                    <a:pt x="10" y="4"/>
                  </a:lnTo>
                  <a:lnTo>
                    <a:pt x="12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200" bIns="-432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83280" y="4293360"/>
              <a:ext cx="5760" cy="900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20" y="0"/>
                  </a:moveTo>
                  <a:lnTo>
                    <a:pt x="28" y="0"/>
                  </a:lnTo>
                  <a:lnTo>
                    <a:pt x="28" y="12"/>
                  </a:lnTo>
                  <a:lnTo>
                    <a:pt x="20" y="22"/>
                  </a:lnTo>
                  <a:lnTo>
                    <a:pt x="20" y="44"/>
                  </a:lnTo>
                  <a:lnTo>
                    <a:pt x="12" y="52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6" y="16"/>
                  </a:lnTo>
                  <a:lnTo>
                    <a:pt x="2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78120" y="3630960"/>
              <a:ext cx="1440" cy="1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0"/>
                  </a:moveTo>
                  <a:lnTo>
                    <a:pt x="0" y="6"/>
                  </a:lnTo>
                  <a:lnTo>
                    <a:pt x="4" y="18"/>
                  </a:lnTo>
                  <a:lnTo>
                    <a:pt x="12" y="14"/>
                  </a:lnTo>
                  <a:lnTo>
                    <a:pt x="1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84600" y="3632400"/>
              <a:ext cx="9000" cy="432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46" y="24"/>
                  </a:moveTo>
                  <a:lnTo>
                    <a:pt x="58" y="20"/>
                  </a:lnTo>
                  <a:lnTo>
                    <a:pt x="46" y="1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30" y="26"/>
                  </a:lnTo>
                  <a:lnTo>
                    <a:pt x="46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91080" y="3627720"/>
              <a:ext cx="9000" cy="43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46" y="26"/>
                  </a:moveTo>
                  <a:lnTo>
                    <a:pt x="52" y="20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24" y="24"/>
                  </a:lnTo>
                  <a:lnTo>
                    <a:pt x="38" y="32"/>
                  </a:lnTo>
                  <a:lnTo>
                    <a:pt x="46" y="2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11240" y="3626280"/>
              <a:ext cx="6120" cy="468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0" y="4"/>
                  </a:moveTo>
                  <a:lnTo>
                    <a:pt x="24" y="0"/>
                  </a:lnTo>
                  <a:lnTo>
                    <a:pt x="6" y="6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26" y="26"/>
                  </a:lnTo>
                  <a:lnTo>
                    <a:pt x="36" y="18"/>
                  </a:lnTo>
                  <a:lnTo>
                    <a:pt x="30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42200" y="3652200"/>
              <a:ext cx="15480" cy="612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84" y="6"/>
                  </a:moveTo>
                  <a:lnTo>
                    <a:pt x="80" y="2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0" y="20"/>
                  </a:lnTo>
                  <a:lnTo>
                    <a:pt x="46" y="28"/>
                  </a:lnTo>
                  <a:lnTo>
                    <a:pt x="74" y="22"/>
                  </a:lnTo>
                  <a:lnTo>
                    <a:pt x="84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56600" y="3678120"/>
              <a:ext cx="2880" cy="14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4" y="6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4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96040" y="5070600"/>
              <a:ext cx="4320" cy="18360"/>
            </a:xfrm>
            <a:custGeom>
              <a:avLst/>
              <a:gdLst/>
              <a:ahLst/>
              <a:rect l="l" t="t" r="r" b="b"/>
              <a:pathLst>
                <a:path w="34" h="102">
                  <a:moveTo>
                    <a:pt x="20" y="2"/>
                  </a:moveTo>
                  <a:lnTo>
                    <a:pt x="26" y="12"/>
                  </a:lnTo>
                  <a:lnTo>
                    <a:pt x="24" y="50"/>
                  </a:lnTo>
                  <a:lnTo>
                    <a:pt x="34" y="82"/>
                  </a:lnTo>
                  <a:lnTo>
                    <a:pt x="34" y="94"/>
                  </a:lnTo>
                  <a:lnTo>
                    <a:pt x="26" y="102"/>
                  </a:lnTo>
                  <a:lnTo>
                    <a:pt x="18" y="96"/>
                  </a:lnTo>
                  <a:lnTo>
                    <a:pt x="12" y="82"/>
                  </a:lnTo>
                  <a:lnTo>
                    <a:pt x="4" y="76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20" y="0"/>
                  </a:lnTo>
                  <a:lnTo>
                    <a:pt x="20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360" bIns="-27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03600" y="5099760"/>
              <a:ext cx="6120" cy="288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20"/>
                  </a:moveTo>
                  <a:lnTo>
                    <a:pt x="26" y="22"/>
                  </a:lnTo>
                  <a:lnTo>
                    <a:pt x="18" y="16"/>
                  </a:lnTo>
                  <a:lnTo>
                    <a:pt x="10" y="18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2"/>
                  </a:lnTo>
                  <a:lnTo>
                    <a:pt x="28" y="12"/>
                  </a:lnTo>
                  <a:lnTo>
                    <a:pt x="36" y="2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19440" y="5095440"/>
              <a:ext cx="7560" cy="756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4" y="0"/>
                  </a:moveTo>
                  <a:lnTo>
                    <a:pt x="38" y="8"/>
                  </a:lnTo>
                  <a:lnTo>
                    <a:pt x="34" y="26"/>
                  </a:lnTo>
                  <a:lnTo>
                    <a:pt x="36" y="38"/>
                  </a:lnTo>
                  <a:lnTo>
                    <a:pt x="32" y="48"/>
                  </a:lnTo>
                  <a:lnTo>
                    <a:pt x="24" y="42"/>
                  </a:lnTo>
                  <a:lnTo>
                    <a:pt x="22" y="28"/>
                  </a:lnTo>
                  <a:lnTo>
                    <a:pt x="14" y="22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28" y="2"/>
                  </a:lnTo>
                  <a:lnTo>
                    <a:pt x="3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38160" y="5112000"/>
              <a:ext cx="4320" cy="936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26" y="12"/>
                  </a:moveTo>
                  <a:lnTo>
                    <a:pt x="24" y="30"/>
                  </a:lnTo>
                  <a:lnTo>
                    <a:pt x="26" y="38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6" y="44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2" y="2"/>
                  </a:lnTo>
                  <a:lnTo>
                    <a:pt x="26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28320" y="4423320"/>
              <a:ext cx="6120" cy="46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2"/>
                  </a:moveTo>
                  <a:lnTo>
                    <a:pt x="20" y="0"/>
                  </a:lnTo>
                  <a:lnTo>
                    <a:pt x="0" y="10"/>
                  </a:lnTo>
                  <a:lnTo>
                    <a:pt x="6" y="28"/>
                  </a:lnTo>
                  <a:lnTo>
                    <a:pt x="30" y="12"/>
                  </a:lnTo>
                  <a:lnTo>
                    <a:pt x="38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040" bIns="-41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7080" y="4633920"/>
              <a:ext cx="12240" cy="15120"/>
            </a:xfrm>
            <a:custGeom>
              <a:avLst/>
              <a:gdLst/>
              <a:ahLst/>
              <a:rect l="l" t="t" r="r" b="b"/>
              <a:pathLst>
                <a:path w="64" h="94">
                  <a:moveTo>
                    <a:pt x="64" y="24"/>
                  </a:moveTo>
                  <a:lnTo>
                    <a:pt x="64" y="48"/>
                  </a:lnTo>
                  <a:lnTo>
                    <a:pt x="56" y="72"/>
                  </a:lnTo>
                  <a:lnTo>
                    <a:pt x="52" y="82"/>
                  </a:lnTo>
                  <a:lnTo>
                    <a:pt x="46" y="88"/>
                  </a:lnTo>
                  <a:lnTo>
                    <a:pt x="34" y="94"/>
                  </a:lnTo>
                  <a:lnTo>
                    <a:pt x="20" y="94"/>
                  </a:lnTo>
                  <a:lnTo>
                    <a:pt x="12" y="92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64"/>
                  </a:lnTo>
                  <a:lnTo>
                    <a:pt x="4" y="46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64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600" bIns="-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65440" y="4782240"/>
              <a:ext cx="2880" cy="28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6" y="0"/>
                  </a:lnTo>
                  <a:lnTo>
                    <a:pt x="10" y="8"/>
                  </a:lnTo>
                  <a:lnTo>
                    <a:pt x="10" y="18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05320" y="4275000"/>
              <a:ext cx="4320" cy="57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0" y="10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8" y="22"/>
                  </a:lnTo>
                  <a:lnTo>
                    <a:pt x="16" y="30"/>
                  </a:lnTo>
                  <a:lnTo>
                    <a:pt x="22" y="28"/>
                  </a:lnTo>
                  <a:lnTo>
                    <a:pt x="24" y="20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8" y="4"/>
                  </a:lnTo>
                  <a:lnTo>
                    <a:pt x="10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03880" y="4282560"/>
              <a:ext cx="14040" cy="1044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48" y="30"/>
                  </a:moveTo>
                  <a:lnTo>
                    <a:pt x="48" y="38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36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8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16" y="18"/>
                  </a:lnTo>
                  <a:lnTo>
                    <a:pt x="18" y="20"/>
                  </a:lnTo>
                  <a:lnTo>
                    <a:pt x="22" y="36"/>
                  </a:lnTo>
                  <a:lnTo>
                    <a:pt x="18" y="38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20" y="44"/>
                  </a:lnTo>
                  <a:lnTo>
                    <a:pt x="36" y="50"/>
                  </a:lnTo>
                  <a:lnTo>
                    <a:pt x="52" y="48"/>
                  </a:lnTo>
                  <a:lnTo>
                    <a:pt x="62" y="52"/>
                  </a:lnTo>
                  <a:lnTo>
                    <a:pt x="72" y="52"/>
                  </a:lnTo>
                  <a:lnTo>
                    <a:pt x="74" y="44"/>
                  </a:lnTo>
                  <a:lnTo>
                    <a:pt x="70" y="40"/>
                  </a:lnTo>
                  <a:lnTo>
                    <a:pt x="62" y="34"/>
                  </a:lnTo>
                  <a:lnTo>
                    <a:pt x="56" y="26"/>
                  </a:lnTo>
                  <a:lnTo>
                    <a:pt x="50" y="26"/>
                  </a:lnTo>
                  <a:lnTo>
                    <a:pt x="48" y="3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73800" y="5016960"/>
              <a:ext cx="7920" cy="10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2" y="4"/>
                  </a:moveTo>
                  <a:lnTo>
                    <a:pt x="28" y="0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22" y="16"/>
                  </a:lnTo>
                  <a:lnTo>
                    <a:pt x="40" y="2"/>
                  </a:lnTo>
                  <a:lnTo>
                    <a:pt x="22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640" bIns="-446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16720" y="5379120"/>
              <a:ext cx="391680" cy="363240"/>
            </a:xfrm>
            <a:custGeom>
              <a:avLst/>
              <a:gdLst/>
              <a:ahLst/>
              <a:rect l="l" t="t" r="r" b="b"/>
              <a:pathLst>
                <a:path w="2260" h="2130">
                  <a:moveTo>
                    <a:pt x="502" y="444"/>
                  </a:moveTo>
                  <a:lnTo>
                    <a:pt x="494" y="598"/>
                  </a:lnTo>
                  <a:lnTo>
                    <a:pt x="486" y="762"/>
                  </a:lnTo>
                  <a:lnTo>
                    <a:pt x="476" y="924"/>
                  </a:lnTo>
                  <a:lnTo>
                    <a:pt x="466" y="1080"/>
                  </a:lnTo>
                  <a:lnTo>
                    <a:pt x="454" y="1088"/>
                  </a:lnTo>
                  <a:lnTo>
                    <a:pt x="426" y="1094"/>
                  </a:lnTo>
                  <a:lnTo>
                    <a:pt x="390" y="1120"/>
                  </a:lnTo>
                  <a:lnTo>
                    <a:pt x="348" y="1162"/>
                  </a:lnTo>
                  <a:lnTo>
                    <a:pt x="316" y="1160"/>
                  </a:lnTo>
                  <a:lnTo>
                    <a:pt x="296" y="1152"/>
                  </a:lnTo>
                  <a:lnTo>
                    <a:pt x="248" y="1152"/>
                  </a:lnTo>
                  <a:lnTo>
                    <a:pt x="210" y="1166"/>
                  </a:lnTo>
                  <a:lnTo>
                    <a:pt x="170" y="1160"/>
                  </a:lnTo>
                  <a:lnTo>
                    <a:pt x="144" y="1126"/>
                  </a:lnTo>
                  <a:lnTo>
                    <a:pt x="146" y="1092"/>
                  </a:lnTo>
                  <a:lnTo>
                    <a:pt x="84" y="1042"/>
                  </a:lnTo>
                  <a:lnTo>
                    <a:pt x="54" y="1044"/>
                  </a:lnTo>
                  <a:lnTo>
                    <a:pt x="38" y="1076"/>
                  </a:lnTo>
                  <a:lnTo>
                    <a:pt x="24" y="1094"/>
                  </a:lnTo>
                  <a:lnTo>
                    <a:pt x="12" y="1102"/>
                  </a:lnTo>
                  <a:lnTo>
                    <a:pt x="0" y="1104"/>
                  </a:lnTo>
                  <a:lnTo>
                    <a:pt x="6" y="1114"/>
                  </a:lnTo>
                  <a:lnTo>
                    <a:pt x="4" y="1132"/>
                  </a:lnTo>
                  <a:lnTo>
                    <a:pt x="10" y="1146"/>
                  </a:lnTo>
                  <a:lnTo>
                    <a:pt x="32" y="1172"/>
                  </a:lnTo>
                  <a:lnTo>
                    <a:pt x="62" y="1272"/>
                  </a:lnTo>
                  <a:lnTo>
                    <a:pt x="78" y="1346"/>
                  </a:lnTo>
                  <a:lnTo>
                    <a:pt x="112" y="1442"/>
                  </a:lnTo>
                  <a:lnTo>
                    <a:pt x="126" y="1466"/>
                  </a:lnTo>
                  <a:lnTo>
                    <a:pt x="136" y="1508"/>
                  </a:lnTo>
                  <a:lnTo>
                    <a:pt x="148" y="1536"/>
                  </a:lnTo>
                  <a:lnTo>
                    <a:pt x="198" y="1624"/>
                  </a:lnTo>
                  <a:lnTo>
                    <a:pt x="210" y="1656"/>
                  </a:lnTo>
                  <a:lnTo>
                    <a:pt x="210" y="1762"/>
                  </a:lnTo>
                  <a:lnTo>
                    <a:pt x="184" y="1804"/>
                  </a:lnTo>
                  <a:lnTo>
                    <a:pt x="156" y="1792"/>
                  </a:lnTo>
                  <a:lnTo>
                    <a:pt x="146" y="1808"/>
                  </a:lnTo>
                  <a:lnTo>
                    <a:pt x="144" y="1836"/>
                  </a:lnTo>
                  <a:lnTo>
                    <a:pt x="150" y="1838"/>
                  </a:lnTo>
                  <a:lnTo>
                    <a:pt x="166" y="1850"/>
                  </a:lnTo>
                  <a:lnTo>
                    <a:pt x="170" y="1868"/>
                  </a:lnTo>
                  <a:lnTo>
                    <a:pt x="160" y="1872"/>
                  </a:lnTo>
                  <a:lnTo>
                    <a:pt x="174" y="1898"/>
                  </a:lnTo>
                  <a:lnTo>
                    <a:pt x="184" y="1906"/>
                  </a:lnTo>
                  <a:lnTo>
                    <a:pt x="196" y="1936"/>
                  </a:lnTo>
                  <a:lnTo>
                    <a:pt x="214" y="1962"/>
                  </a:lnTo>
                  <a:lnTo>
                    <a:pt x="214" y="1982"/>
                  </a:lnTo>
                  <a:lnTo>
                    <a:pt x="202" y="2002"/>
                  </a:lnTo>
                  <a:lnTo>
                    <a:pt x="200" y="2022"/>
                  </a:lnTo>
                  <a:lnTo>
                    <a:pt x="200" y="2050"/>
                  </a:lnTo>
                  <a:lnTo>
                    <a:pt x="210" y="2072"/>
                  </a:lnTo>
                  <a:lnTo>
                    <a:pt x="216" y="2070"/>
                  </a:lnTo>
                  <a:lnTo>
                    <a:pt x="214" y="2052"/>
                  </a:lnTo>
                  <a:lnTo>
                    <a:pt x="216" y="2034"/>
                  </a:lnTo>
                  <a:lnTo>
                    <a:pt x="222" y="2026"/>
                  </a:lnTo>
                  <a:lnTo>
                    <a:pt x="240" y="2022"/>
                  </a:lnTo>
                  <a:lnTo>
                    <a:pt x="262" y="2024"/>
                  </a:lnTo>
                  <a:lnTo>
                    <a:pt x="260" y="2056"/>
                  </a:lnTo>
                  <a:lnTo>
                    <a:pt x="256" y="2072"/>
                  </a:lnTo>
                  <a:lnTo>
                    <a:pt x="268" y="2078"/>
                  </a:lnTo>
                  <a:lnTo>
                    <a:pt x="314" y="2076"/>
                  </a:lnTo>
                  <a:lnTo>
                    <a:pt x="322" y="2088"/>
                  </a:lnTo>
                  <a:lnTo>
                    <a:pt x="320" y="2106"/>
                  </a:lnTo>
                  <a:lnTo>
                    <a:pt x="346" y="2122"/>
                  </a:lnTo>
                  <a:lnTo>
                    <a:pt x="366" y="2122"/>
                  </a:lnTo>
                  <a:lnTo>
                    <a:pt x="388" y="2130"/>
                  </a:lnTo>
                  <a:lnTo>
                    <a:pt x="414" y="2130"/>
                  </a:lnTo>
                  <a:lnTo>
                    <a:pt x="438" y="2124"/>
                  </a:lnTo>
                  <a:lnTo>
                    <a:pt x="464" y="2092"/>
                  </a:lnTo>
                  <a:lnTo>
                    <a:pt x="508" y="2090"/>
                  </a:lnTo>
                  <a:lnTo>
                    <a:pt x="518" y="2080"/>
                  </a:lnTo>
                  <a:lnTo>
                    <a:pt x="540" y="2076"/>
                  </a:lnTo>
                  <a:lnTo>
                    <a:pt x="586" y="2084"/>
                  </a:lnTo>
                  <a:lnTo>
                    <a:pt x="594" y="2074"/>
                  </a:lnTo>
                  <a:lnTo>
                    <a:pt x="644" y="2080"/>
                  </a:lnTo>
                  <a:lnTo>
                    <a:pt x="660" y="2076"/>
                  </a:lnTo>
                  <a:lnTo>
                    <a:pt x="666" y="2056"/>
                  </a:lnTo>
                  <a:lnTo>
                    <a:pt x="688" y="2048"/>
                  </a:lnTo>
                  <a:lnTo>
                    <a:pt x="704" y="2036"/>
                  </a:lnTo>
                  <a:lnTo>
                    <a:pt x="716" y="2022"/>
                  </a:lnTo>
                  <a:lnTo>
                    <a:pt x="758" y="2016"/>
                  </a:lnTo>
                  <a:lnTo>
                    <a:pt x="778" y="2018"/>
                  </a:lnTo>
                  <a:lnTo>
                    <a:pt x="834" y="2038"/>
                  </a:lnTo>
                  <a:lnTo>
                    <a:pt x="854" y="2036"/>
                  </a:lnTo>
                  <a:lnTo>
                    <a:pt x="876" y="2018"/>
                  </a:lnTo>
                  <a:lnTo>
                    <a:pt x="908" y="2016"/>
                  </a:lnTo>
                  <a:lnTo>
                    <a:pt x="942" y="2022"/>
                  </a:lnTo>
                  <a:lnTo>
                    <a:pt x="1030" y="2050"/>
                  </a:lnTo>
                  <a:lnTo>
                    <a:pt x="1064" y="2052"/>
                  </a:lnTo>
                  <a:lnTo>
                    <a:pt x="1084" y="2018"/>
                  </a:lnTo>
                  <a:lnTo>
                    <a:pt x="1114" y="2016"/>
                  </a:lnTo>
                  <a:lnTo>
                    <a:pt x="1144" y="2026"/>
                  </a:lnTo>
                  <a:lnTo>
                    <a:pt x="1182" y="2032"/>
                  </a:lnTo>
                  <a:lnTo>
                    <a:pt x="1184" y="2014"/>
                  </a:lnTo>
                  <a:lnTo>
                    <a:pt x="1178" y="1990"/>
                  </a:lnTo>
                  <a:lnTo>
                    <a:pt x="1196" y="1978"/>
                  </a:lnTo>
                  <a:lnTo>
                    <a:pt x="1218" y="1974"/>
                  </a:lnTo>
                  <a:lnTo>
                    <a:pt x="1246" y="1972"/>
                  </a:lnTo>
                  <a:lnTo>
                    <a:pt x="1298" y="1976"/>
                  </a:lnTo>
                  <a:lnTo>
                    <a:pt x="1324" y="1972"/>
                  </a:lnTo>
                  <a:lnTo>
                    <a:pt x="1382" y="1946"/>
                  </a:lnTo>
                  <a:lnTo>
                    <a:pt x="1478" y="1880"/>
                  </a:lnTo>
                  <a:lnTo>
                    <a:pt x="1504" y="1856"/>
                  </a:lnTo>
                  <a:lnTo>
                    <a:pt x="1530" y="1828"/>
                  </a:lnTo>
                  <a:lnTo>
                    <a:pt x="1584" y="1784"/>
                  </a:lnTo>
                  <a:lnTo>
                    <a:pt x="1656" y="1712"/>
                  </a:lnTo>
                  <a:lnTo>
                    <a:pt x="1700" y="1652"/>
                  </a:lnTo>
                  <a:lnTo>
                    <a:pt x="1726" y="1624"/>
                  </a:lnTo>
                  <a:lnTo>
                    <a:pt x="1750" y="1606"/>
                  </a:lnTo>
                  <a:lnTo>
                    <a:pt x="1814" y="1550"/>
                  </a:lnTo>
                  <a:lnTo>
                    <a:pt x="1866" y="1476"/>
                  </a:lnTo>
                  <a:lnTo>
                    <a:pt x="1892" y="1444"/>
                  </a:lnTo>
                  <a:lnTo>
                    <a:pt x="1956" y="1336"/>
                  </a:lnTo>
                  <a:lnTo>
                    <a:pt x="1966" y="1316"/>
                  </a:lnTo>
                  <a:lnTo>
                    <a:pt x="1980" y="1296"/>
                  </a:lnTo>
                  <a:lnTo>
                    <a:pt x="1992" y="1268"/>
                  </a:lnTo>
                  <a:lnTo>
                    <a:pt x="2026" y="1222"/>
                  </a:lnTo>
                  <a:lnTo>
                    <a:pt x="2050" y="1192"/>
                  </a:lnTo>
                  <a:lnTo>
                    <a:pt x="2072" y="1176"/>
                  </a:lnTo>
                  <a:lnTo>
                    <a:pt x="2094" y="1168"/>
                  </a:lnTo>
                  <a:lnTo>
                    <a:pt x="2148" y="1126"/>
                  </a:lnTo>
                  <a:lnTo>
                    <a:pt x="2174" y="1090"/>
                  </a:lnTo>
                  <a:lnTo>
                    <a:pt x="2196" y="1008"/>
                  </a:lnTo>
                  <a:lnTo>
                    <a:pt x="2214" y="972"/>
                  </a:lnTo>
                  <a:lnTo>
                    <a:pt x="2222" y="936"/>
                  </a:lnTo>
                  <a:lnTo>
                    <a:pt x="2226" y="900"/>
                  </a:lnTo>
                  <a:lnTo>
                    <a:pt x="2246" y="866"/>
                  </a:lnTo>
                  <a:lnTo>
                    <a:pt x="2254" y="836"/>
                  </a:lnTo>
                  <a:lnTo>
                    <a:pt x="2260" y="800"/>
                  </a:lnTo>
                  <a:lnTo>
                    <a:pt x="2244" y="798"/>
                  </a:lnTo>
                  <a:lnTo>
                    <a:pt x="2156" y="798"/>
                  </a:lnTo>
                  <a:lnTo>
                    <a:pt x="2138" y="806"/>
                  </a:lnTo>
                  <a:lnTo>
                    <a:pt x="2120" y="848"/>
                  </a:lnTo>
                  <a:lnTo>
                    <a:pt x="2100" y="872"/>
                  </a:lnTo>
                  <a:lnTo>
                    <a:pt x="2068" y="868"/>
                  </a:lnTo>
                  <a:lnTo>
                    <a:pt x="2010" y="858"/>
                  </a:lnTo>
                  <a:lnTo>
                    <a:pt x="1994" y="804"/>
                  </a:lnTo>
                  <a:lnTo>
                    <a:pt x="1990" y="772"/>
                  </a:lnTo>
                  <a:lnTo>
                    <a:pt x="2006" y="728"/>
                  </a:lnTo>
                  <a:lnTo>
                    <a:pt x="2028" y="678"/>
                  </a:lnTo>
                  <a:lnTo>
                    <a:pt x="2050" y="646"/>
                  </a:lnTo>
                  <a:lnTo>
                    <a:pt x="2086" y="620"/>
                  </a:lnTo>
                  <a:lnTo>
                    <a:pt x="2140" y="664"/>
                  </a:lnTo>
                  <a:lnTo>
                    <a:pt x="2160" y="638"/>
                  </a:lnTo>
                  <a:lnTo>
                    <a:pt x="2172" y="378"/>
                  </a:lnTo>
                  <a:lnTo>
                    <a:pt x="2152" y="252"/>
                  </a:lnTo>
                  <a:lnTo>
                    <a:pt x="2142" y="160"/>
                  </a:lnTo>
                  <a:lnTo>
                    <a:pt x="2142" y="102"/>
                  </a:lnTo>
                  <a:lnTo>
                    <a:pt x="2140" y="98"/>
                  </a:lnTo>
                  <a:lnTo>
                    <a:pt x="2128" y="96"/>
                  </a:lnTo>
                  <a:lnTo>
                    <a:pt x="2092" y="52"/>
                  </a:lnTo>
                  <a:lnTo>
                    <a:pt x="2042" y="32"/>
                  </a:lnTo>
                  <a:lnTo>
                    <a:pt x="2010" y="30"/>
                  </a:lnTo>
                  <a:lnTo>
                    <a:pt x="1980" y="34"/>
                  </a:lnTo>
                  <a:lnTo>
                    <a:pt x="1946" y="30"/>
                  </a:lnTo>
                  <a:lnTo>
                    <a:pt x="1890" y="6"/>
                  </a:lnTo>
                  <a:lnTo>
                    <a:pt x="1868" y="0"/>
                  </a:lnTo>
                  <a:lnTo>
                    <a:pt x="1838" y="12"/>
                  </a:lnTo>
                  <a:lnTo>
                    <a:pt x="1832" y="22"/>
                  </a:lnTo>
                  <a:lnTo>
                    <a:pt x="1802" y="38"/>
                  </a:lnTo>
                  <a:lnTo>
                    <a:pt x="1766" y="64"/>
                  </a:lnTo>
                  <a:lnTo>
                    <a:pt x="1668" y="114"/>
                  </a:lnTo>
                  <a:lnTo>
                    <a:pt x="1624" y="162"/>
                  </a:lnTo>
                  <a:lnTo>
                    <a:pt x="1572" y="196"/>
                  </a:lnTo>
                  <a:lnTo>
                    <a:pt x="1520" y="248"/>
                  </a:lnTo>
                  <a:lnTo>
                    <a:pt x="1490" y="294"/>
                  </a:lnTo>
                  <a:lnTo>
                    <a:pt x="1440" y="364"/>
                  </a:lnTo>
                  <a:lnTo>
                    <a:pt x="1368" y="418"/>
                  </a:lnTo>
                  <a:lnTo>
                    <a:pt x="1326" y="470"/>
                  </a:lnTo>
                  <a:lnTo>
                    <a:pt x="1284" y="564"/>
                  </a:lnTo>
                  <a:lnTo>
                    <a:pt x="1270" y="582"/>
                  </a:lnTo>
                  <a:lnTo>
                    <a:pt x="1248" y="594"/>
                  </a:lnTo>
                  <a:lnTo>
                    <a:pt x="1222" y="594"/>
                  </a:lnTo>
                  <a:lnTo>
                    <a:pt x="1158" y="612"/>
                  </a:lnTo>
                  <a:lnTo>
                    <a:pt x="1122" y="608"/>
                  </a:lnTo>
                  <a:lnTo>
                    <a:pt x="1066" y="570"/>
                  </a:lnTo>
                  <a:lnTo>
                    <a:pt x="1036" y="558"/>
                  </a:lnTo>
                  <a:lnTo>
                    <a:pt x="1000" y="552"/>
                  </a:lnTo>
                  <a:lnTo>
                    <a:pt x="970" y="564"/>
                  </a:lnTo>
                  <a:lnTo>
                    <a:pt x="920" y="614"/>
                  </a:lnTo>
                  <a:lnTo>
                    <a:pt x="902" y="638"/>
                  </a:lnTo>
                  <a:lnTo>
                    <a:pt x="892" y="662"/>
                  </a:lnTo>
                  <a:lnTo>
                    <a:pt x="868" y="690"/>
                  </a:lnTo>
                  <a:lnTo>
                    <a:pt x="836" y="712"/>
                  </a:lnTo>
                  <a:lnTo>
                    <a:pt x="826" y="726"/>
                  </a:lnTo>
                  <a:lnTo>
                    <a:pt x="796" y="772"/>
                  </a:lnTo>
                  <a:lnTo>
                    <a:pt x="708" y="796"/>
                  </a:lnTo>
                  <a:lnTo>
                    <a:pt x="662" y="792"/>
                  </a:lnTo>
                  <a:lnTo>
                    <a:pt x="624" y="784"/>
                  </a:lnTo>
                  <a:lnTo>
                    <a:pt x="600" y="776"/>
                  </a:lnTo>
                  <a:lnTo>
                    <a:pt x="592" y="752"/>
                  </a:lnTo>
                  <a:lnTo>
                    <a:pt x="614" y="694"/>
                  </a:lnTo>
                  <a:lnTo>
                    <a:pt x="622" y="658"/>
                  </a:lnTo>
                  <a:lnTo>
                    <a:pt x="624" y="640"/>
                  </a:lnTo>
                  <a:lnTo>
                    <a:pt x="622" y="594"/>
                  </a:lnTo>
                  <a:lnTo>
                    <a:pt x="604" y="560"/>
                  </a:lnTo>
                  <a:lnTo>
                    <a:pt x="574" y="528"/>
                  </a:lnTo>
                  <a:lnTo>
                    <a:pt x="564" y="504"/>
                  </a:lnTo>
                  <a:lnTo>
                    <a:pt x="534" y="474"/>
                  </a:lnTo>
                  <a:lnTo>
                    <a:pt x="528" y="462"/>
                  </a:lnTo>
                  <a:lnTo>
                    <a:pt x="512" y="444"/>
                  </a:lnTo>
                  <a:lnTo>
                    <a:pt x="502" y="44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54080" y="4070880"/>
              <a:ext cx="262080" cy="458640"/>
            </a:xfrm>
            <a:custGeom>
              <a:avLst/>
              <a:gdLst/>
              <a:ahLst/>
              <a:rect l="l" t="t" r="r" b="b"/>
              <a:pathLst>
                <a:path w="1504" h="2682">
                  <a:moveTo>
                    <a:pt x="200" y="300"/>
                  </a:moveTo>
                  <a:lnTo>
                    <a:pt x="206" y="318"/>
                  </a:lnTo>
                  <a:lnTo>
                    <a:pt x="218" y="346"/>
                  </a:lnTo>
                  <a:lnTo>
                    <a:pt x="220" y="354"/>
                  </a:lnTo>
                  <a:lnTo>
                    <a:pt x="230" y="374"/>
                  </a:lnTo>
                  <a:lnTo>
                    <a:pt x="240" y="406"/>
                  </a:lnTo>
                  <a:lnTo>
                    <a:pt x="252" y="424"/>
                  </a:lnTo>
                  <a:lnTo>
                    <a:pt x="266" y="444"/>
                  </a:lnTo>
                  <a:lnTo>
                    <a:pt x="284" y="458"/>
                  </a:lnTo>
                  <a:lnTo>
                    <a:pt x="346" y="494"/>
                  </a:lnTo>
                  <a:lnTo>
                    <a:pt x="310" y="562"/>
                  </a:lnTo>
                  <a:lnTo>
                    <a:pt x="280" y="796"/>
                  </a:lnTo>
                  <a:lnTo>
                    <a:pt x="274" y="1084"/>
                  </a:lnTo>
                  <a:lnTo>
                    <a:pt x="264" y="1100"/>
                  </a:lnTo>
                  <a:lnTo>
                    <a:pt x="44" y="1394"/>
                  </a:lnTo>
                  <a:lnTo>
                    <a:pt x="44" y="1426"/>
                  </a:lnTo>
                  <a:lnTo>
                    <a:pt x="28" y="1434"/>
                  </a:lnTo>
                  <a:lnTo>
                    <a:pt x="32" y="1464"/>
                  </a:lnTo>
                  <a:lnTo>
                    <a:pt x="10" y="1468"/>
                  </a:lnTo>
                  <a:lnTo>
                    <a:pt x="0" y="1482"/>
                  </a:lnTo>
                  <a:lnTo>
                    <a:pt x="4" y="1514"/>
                  </a:lnTo>
                  <a:lnTo>
                    <a:pt x="46" y="1530"/>
                  </a:lnTo>
                  <a:lnTo>
                    <a:pt x="58" y="1548"/>
                  </a:lnTo>
                  <a:lnTo>
                    <a:pt x="78" y="1560"/>
                  </a:lnTo>
                  <a:lnTo>
                    <a:pt x="94" y="1584"/>
                  </a:lnTo>
                  <a:lnTo>
                    <a:pt x="104" y="1648"/>
                  </a:lnTo>
                  <a:lnTo>
                    <a:pt x="148" y="1658"/>
                  </a:lnTo>
                  <a:lnTo>
                    <a:pt x="178" y="1652"/>
                  </a:lnTo>
                  <a:lnTo>
                    <a:pt x="196" y="1662"/>
                  </a:lnTo>
                  <a:lnTo>
                    <a:pt x="216" y="1668"/>
                  </a:lnTo>
                  <a:lnTo>
                    <a:pt x="234" y="1660"/>
                  </a:lnTo>
                  <a:lnTo>
                    <a:pt x="256" y="1704"/>
                  </a:lnTo>
                  <a:lnTo>
                    <a:pt x="248" y="1718"/>
                  </a:lnTo>
                  <a:lnTo>
                    <a:pt x="244" y="1742"/>
                  </a:lnTo>
                  <a:lnTo>
                    <a:pt x="218" y="1766"/>
                  </a:lnTo>
                  <a:lnTo>
                    <a:pt x="180" y="1778"/>
                  </a:lnTo>
                  <a:lnTo>
                    <a:pt x="184" y="1786"/>
                  </a:lnTo>
                  <a:lnTo>
                    <a:pt x="186" y="1792"/>
                  </a:lnTo>
                  <a:lnTo>
                    <a:pt x="204" y="1878"/>
                  </a:lnTo>
                  <a:lnTo>
                    <a:pt x="218" y="1902"/>
                  </a:lnTo>
                  <a:lnTo>
                    <a:pt x="226" y="1924"/>
                  </a:lnTo>
                  <a:lnTo>
                    <a:pt x="224" y="1984"/>
                  </a:lnTo>
                  <a:lnTo>
                    <a:pt x="222" y="2018"/>
                  </a:lnTo>
                  <a:lnTo>
                    <a:pt x="214" y="2052"/>
                  </a:lnTo>
                  <a:lnTo>
                    <a:pt x="214" y="2078"/>
                  </a:lnTo>
                  <a:lnTo>
                    <a:pt x="240" y="2138"/>
                  </a:lnTo>
                  <a:lnTo>
                    <a:pt x="280" y="2202"/>
                  </a:lnTo>
                  <a:lnTo>
                    <a:pt x="286" y="2224"/>
                  </a:lnTo>
                  <a:lnTo>
                    <a:pt x="288" y="2248"/>
                  </a:lnTo>
                  <a:lnTo>
                    <a:pt x="286" y="2258"/>
                  </a:lnTo>
                  <a:lnTo>
                    <a:pt x="276" y="2262"/>
                  </a:lnTo>
                  <a:lnTo>
                    <a:pt x="224" y="2250"/>
                  </a:lnTo>
                  <a:lnTo>
                    <a:pt x="184" y="2246"/>
                  </a:lnTo>
                  <a:lnTo>
                    <a:pt x="146" y="2250"/>
                  </a:lnTo>
                  <a:lnTo>
                    <a:pt x="136" y="2254"/>
                  </a:lnTo>
                  <a:lnTo>
                    <a:pt x="126" y="2260"/>
                  </a:lnTo>
                  <a:lnTo>
                    <a:pt x="116" y="2278"/>
                  </a:lnTo>
                  <a:lnTo>
                    <a:pt x="112" y="2324"/>
                  </a:lnTo>
                  <a:lnTo>
                    <a:pt x="120" y="2360"/>
                  </a:lnTo>
                  <a:lnTo>
                    <a:pt x="146" y="2404"/>
                  </a:lnTo>
                  <a:lnTo>
                    <a:pt x="168" y="2420"/>
                  </a:lnTo>
                  <a:lnTo>
                    <a:pt x="190" y="2430"/>
                  </a:lnTo>
                  <a:lnTo>
                    <a:pt x="220" y="2440"/>
                  </a:lnTo>
                  <a:lnTo>
                    <a:pt x="232" y="2448"/>
                  </a:lnTo>
                  <a:lnTo>
                    <a:pt x="246" y="2476"/>
                  </a:lnTo>
                  <a:lnTo>
                    <a:pt x="276" y="2560"/>
                  </a:lnTo>
                  <a:lnTo>
                    <a:pt x="286" y="2614"/>
                  </a:lnTo>
                  <a:lnTo>
                    <a:pt x="292" y="2666"/>
                  </a:lnTo>
                  <a:lnTo>
                    <a:pt x="294" y="2678"/>
                  </a:lnTo>
                  <a:lnTo>
                    <a:pt x="302" y="2682"/>
                  </a:lnTo>
                  <a:lnTo>
                    <a:pt x="312" y="2676"/>
                  </a:lnTo>
                  <a:lnTo>
                    <a:pt x="332" y="2674"/>
                  </a:lnTo>
                  <a:lnTo>
                    <a:pt x="350" y="2668"/>
                  </a:lnTo>
                  <a:lnTo>
                    <a:pt x="364" y="2668"/>
                  </a:lnTo>
                  <a:lnTo>
                    <a:pt x="378" y="2676"/>
                  </a:lnTo>
                  <a:lnTo>
                    <a:pt x="392" y="2674"/>
                  </a:lnTo>
                  <a:lnTo>
                    <a:pt x="416" y="2648"/>
                  </a:lnTo>
                  <a:lnTo>
                    <a:pt x="452" y="2640"/>
                  </a:lnTo>
                  <a:lnTo>
                    <a:pt x="456" y="2620"/>
                  </a:lnTo>
                  <a:lnTo>
                    <a:pt x="466" y="2618"/>
                  </a:lnTo>
                  <a:lnTo>
                    <a:pt x="470" y="2612"/>
                  </a:lnTo>
                  <a:lnTo>
                    <a:pt x="480" y="2612"/>
                  </a:lnTo>
                  <a:lnTo>
                    <a:pt x="486" y="2614"/>
                  </a:lnTo>
                  <a:lnTo>
                    <a:pt x="494" y="2634"/>
                  </a:lnTo>
                  <a:lnTo>
                    <a:pt x="504" y="2640"/>
                  </a:lnTo>
                  <a:lnTo>
                    <a:pt x="522" y="2662"/>
                  </a:lnTo>
                  <a:lnTo>
                    <a:pt x="532" y="2656"/>
                  </a:lnTo>
                  <a:lnTo>
                    <a:pt x="538" y="2644"/>
                  </a:lnTo>
                  <a:lnTo>
                    <a:pt x="560" y="2640"/>
                  </a:lnTo>
                  <a:lnTo>
                    <a:pt x="576" y="2632"/>
                  </a:lnTo>
                  <a:lnTo>
                    <a:pt x="584" y="2620"/>
                  </a:lnTo>
                  <a:lnTo>
                    <a:pt x="596" y="2612"/>
                  </a:lnTo>
                  <a:lnTo>
                    <a:pt x="652" y="2586"/>
                  </a:lnTo>
                  <a:lnTo>
                    <a:pt x="668" y="2590"/>
                  </a:lnTo>
                  <a:lnTo>
                    <a:pt x="690" y="2588"/>
                  </a:lnTo>
                  <a:lnTo>
                    <a:pt x="710" y="2576"/>
                  </a:lnTo>
                  <a:lnTo>
                    <a:pt x="774" y="2576"/>
                  </a:lnTo>
                  <a:lnTo>
                    <a:pt x="776" y="2574"/>
                  </a:lnTo>
                  <a:lnTo>
                    <a:pt x="780" y="2554"/>
                  </a:lnTo>
                  <a:lnTo>
                    <a:pt x="784" y="2546"/>
                  </a:lnTo>
                  <a:lnTo>
                    <a:pt x="798" y="2544"/>
                  </a:lnTo>
                  <a:lnTo>
                    <a:pt x="810" y="2534"/>
                  </a:lnTo>
                  <a:lnTo>
                    <a:pt x="818" y="2508"/>
                  </a:lnTo>
                  <a:lnTo>
                    <a:pt x="830" y="2498"/>
                  </a:lnTo>
                  <a:lnTo>
                    <a:pt x="838" y="2486"/>
                  </a:lnTo>
                  <a:lnTo>
                    <a:pt x="828" y="2464"/>
                  </a:lnTo>
                  <a:lnTo>
                    <a:pt x="814" y="2450"/>
                  </a:lnTo>
                  <a:lnTo>
                    <a:pt x="812" y="2442"/>
                  </a:lnTo>
                  <a:lnTo>
                    <a:pt x="818" y="2430"/>
                  </a:lnTo>
                  <a:lnTo>
                    <a:pt x="820" y="2426"/>
                  </a:lnTo>
                  <a:lnTo>
                    <a:pt x="848" y="2416"/>
                  </a:lnTo>
                  <a:lnTo>
                    <a:pt x="876" y="2410"/>
                  </a:lnTo>
                  <a:lnTo>
                    <a:pt x="926" y="2410"/>
                  </a:lnTo>
                  <a:lnTo>
                    <a:pt x="934" y="2404"/>
                  </a:lnTo>
                  <a:lnTo>
                    <a:pt x="960" y="2402"/>
                  </a:lnTo>
                  <a:lnTo>
                    <a:pt x="978" y="2394"/>
                  </a:lnTo>
                  <a:lnTo>
                    <a:pt x="996" y="2394"/>
                  </a:lnTo>
                  <a:lnTo>
                    <a:pt x="1010" y="2400"/>
                  </a:lnTo>
                  <a:lnTo>
                    <a:pt x="1028" y="2390"/>
                  </a:lnTo>
                  <a:lnTo>
                    <a:pt x="1036" y="2382"/>
                  </a:lnTo>
                  <a:lnTo>
                    <a:pt x="1048" y="2358"/>
                  </a:lnTo>
                  <a:lnTo>
                    <a:pt x="1066" y="2354"/>
                  </a:lnTo>
                  <a:lnTo>
                    <a:pt x="1096" y="2336"/>
                  </a:lnTo>
                  <a:lnTo>
                    <a:pt x="1104" y="2326"/>
                  </a:lnTo>
                  <a:lnTo>
                    <a:pt x="1114" y="2294"/>
                  </a:lnTo>
                  <a:lnTo>
                    <a:pt x="1156" y="2246"/>
                  </a:lnTo>
                  <a:lnTo>
                    <a:pt x="1168" y="2242"/>
                  </a:lnTo>
                  <a:lnTo>
                    <a:pt x="1176" y="2234"/>
                  </a:lnTo>
                  <a:lnTo>
                    <a:pt x="1192" y="2206"/>
                  </a:lnTo>
                  <a:lnTo>
                    <a:pt x="1210" y="2198"/>
                  </a:lnTo>
                  <a:lnTo>
                    <a:pt x="1208" y="2150"/>
                  </a:lnTo>
                  <a:lnTo>
                    <a:pt x="1222" y="2116"/>
                  </a:lnTo>
                  <a:lnTo>
                    <a:pt x="1236" y="2098"/>
                  </a:lnTo>
                  <a:lnTo>
                    <a:pt x="1254" y="2090"/>
                  </a:lnTo>
                  <a:lnTo>
                    <a:pt x="1292" y="2086"/>
                  </a:lnTo>
                  <a:lnTo>
                    <a:pt x="1314" y="2076"/>
                  </a:lnTo>
                  <a:lnTo>
                    <a:pt x="1344" y="2070"/>
                  </a:lnTo>
                  <a:lnTo>
                    <a:pt x="1366" y="2058"/>
                  </a:lnTo>
                  <a:lnTo>
                    <a:pt x="1366" y="2034"/>
                  </a:lnTo>
                  <a:lnTo>
                    <a:pt x="1358" y="2006"/>
                  </a:lnTo>
                  <a:lnTo>
                    <a:pt x="1348" y="1992"/>
                  </a:lnTo>
                  <a:lnTo>
                    <a:pt x="1332" y="1980"/>
                  </a:lnTo>
                  <a:lnTo>
                    <a:pt x="1330" y="1976"/>
                  </a:lnTo>
                  <a:lnTo>
                    <a:pt x="1294" y="1872"/>
                  </a:lnTo>
                  <a:lnTo>
                    <a:pt x="1282" y="1824"/>
                  </a:lnTo>
                  <a:lnTo>
                    <a:pt x="1282" y="1776"/>
                  </a:lnTo>
                  <a:lnTo>
                    <a:pt x="1240" y="1786"/>
                  </a:lnTo>
                  <a:lnTo>
                    <a:pt x="1230" y="1792"/>
                  </a:lnTo>
                  <a:lnTo>
                    <a:pt x="1218" y="1792"/>
                  </a:lnTo>
                  <a:lnTo>
                    <a:pt x="1218" y="1744"/>
                  </a:lnTo>
                  <a:lnTo>
                    <a:pt x="1220" y="1728"/>
                  </a:lnTo>
                  <a:lnTo>
                    <a:pt x="1236" y="1696"/>
                  </a:lnTo>
                  <a:lnTo>
                    <a:pt x="1242" y="1670"/>
                  </a:lnTo>
                  <a:lnTo>
                    <a:pt x="1240" y="1626"/>
                  </a:lnTo>
                  <a:lnTo>
                    <a:pt x="1242" y="1594"/>
                  </a:lnTo>
                  <a:lnTo>
                    <a:pt x="1250" y="1582"/>
                  </a:lnTo>
                  <a:lnTo>
                    <a:pt x="1270" y="1570"/>
                  </a:lnTo>
                  <a:lnTo>
                    <a:pt x="1272" y="1566"/>
                  </a:lnTo>
                  <a:lnTo>
                    <a:pt x="1274" y="1550"/>
                  </a:lnTo>
                  <a:lnTo>
                    <a:pt x="1270" y="1524"/>
                  </a:lnTo>
                  <a:lnTo>
                    <a:pt x="1270" y="1488"/>
                  </a:lnTo>
                  <a:lnTo>
                    <a:pt x="1310" y="1434"/>
                  </a:lnTo>
                  <a:lnTo>
                    <a:pt x="1338" y="1380"/>
                  </a:lnTo>
                  <a:lnTo>
                    <a:pt x="1348" y="1350"/>
                  </a:lnTo>
                  <a:lnTo>
                    <a:pt x="1350" y="1314"/>
                  </a:lnTo>
                  <a:lnTo>
                    <a:pt x="1354" y="1292"/>
                  </a:lnTo>
                  <a:lnTo>
                    <a:pt x="1358" y="1286"/>
                  </a:lnTo>
                  <a:lnTo>
                    <a:pt x="1390" y="1284"/>
                  </a:lnTo>
                  <a:lnTo>
                    <a:pt x="1412" y="1276"/>
                  </a:lnTo>
                  <a:lnTo>
                    <a:pt x="1488" y="1276"/>
                  </a:lnTo>
                  <a:lnTo>
                    <a:pt x="1504" y="1274"/>
                  </a:lnTo>
                  <a:lnTo>
                    <a:pt x="1500" y="1126"/>
                  </a:lnTo>
                  <a:lnTo>
                    <a:pt x="1492" y="966"/>
                  </a:lnTo>
                  <a:lnTo>
                    <a:pt x="1486" y="806"/>
                  </a:lnTo>
                  <a:lnTo>
                    <a:pt x="1478" y="646"/>
                  </a:lnTo>
                  <a:lnTo>
                    <a:pt x="1456" y="642"/>
                  </a:lnTo>
                  <a:lnTo>
                    <a:pt x="1334" y="572"/>
                  </a:lnTo>
                  <a:lnTo>
                    <a:pt x="1210" y="502"/>
                  </a:lnTo>
                  <a:lnTo>
                    <a:pt x="1088" y="432"/>
                  </a:lnTo>
                  <a:lnTo>
                    <a:pt x="964" y="362"/>
                  </a:lnTo>
                  <a:lnTo>
                    <a:pt x="842" y="292"/>
                  </a:lnTo>
                  <a:lnTo>
                    <a:pt x="722" y="222"/>
                  </a:lnTo>
                  <a:lnTo>
                    <a:pt x="600" y="152"/>
                  </a:lnTo>
                  <a:lnTo>
                    <a:pt x="478" y="82"/>
                  </a:lnTo>
                  <a:lnTo>
                    <a:pt x="356" y="12"/>
                  </a:lnTo>
                  <a:lnTo>
                    <a:pt x="330" y="0"/>
                  </a:lnTo>
                  <a:lnTo>
                    <a:pt x="206" y="48"/>
                  </a:lnTo>
                  <a:lnTo>
                    <a:pt x="192" y="56"/>
                  </a:lnTo>
                  <a:lnTo>
                    <a:pt x="200" y="30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70080" y="4293360"/>
              <a:ext cx="111960" cy="125280"/>
            </a:xfrm>
            <a:custGeom>
              <a:avLst/>
              <a:gdLst/>
              <a:ahLst/>
              <a:rect l="l" t="t" r="r" b="b"/>
              <a:pathLst>
                <a:path w="648" h="740">
                  <a:moveTo>
                    <a:pt x="648" y="2"/>
                  </a:moveTo>
                  <a:lnTo>
                    <a:pt x="618" y="0"/>
                  </a:lnTo>
                  <a:lnTo>
                    <a:pt x="582" y="18"/>
                  </a:lnTo>
                  <a:lnTo>
                    <a:pt x="570" y="32"/>
                  </a:lnTo>
                  <a:lnTo>
                    <a:pt x="546" y="46"/>
                  </a:lnTo>
                  <a:lnTo>
                    <a:pt x="522" y="46"/>
                  </a:lnTo>
                  <a:lnTo>
                    <a:pt x="500" y="64"/>
                  </a:lnTo>
                  <a:lnTo>
                    <a:pt x="456" y="60"/>
                  </a:lnTo>
                  <a:lnTo>
                    <a:pt x="450" y="52"/>
                  </a:lnTo>
                  <a:lnTo>
                    <a:pt x="444" y="40"/>
                  </a:lnTo>
                  <a:lnTo>
                    <a:pt x="430" y="32"/>
                  </a:lnTo>
                  <a:lnTo>
                    <a:pt x="424" y="44"/>
                  </a:lnTo>
                  <a:lnTo>
                    <a:pt x="418" y="50"/>
                  </a:lnTo>
                  <a:lnTo>
                    <a:pt x="406" y="54"/>
                  </a:lnTo>
                  <a:lnTo>
                    <a:pt x="394" y="70"/>
                  </a:lnTo>
                  <a:lnTo>
                    <a:pt x="380" y="114"/>
                  </a:lnTo>
                  <a:lnTo>
                    <a:pt x="372" y="122"/>
                  </a:lnTo>
                  <a:lnTo>
                    <a:pt x="346" y="126"/>
                  </a:lnTo>
                  <a:lnTo>
                    <a:pt x="332" y="142"/>
                  </a:lnTo>
                  <a:lnTo>
                    <a:pt x="326" y="152"/>
                  </a:lnTo>
                  <a:lnTo>
                    <a:pt x="318" y="156"/>
                  </a:lnTo>
                  <a:lnTo>
                    <a:pt x="304" y="172"/>
                  </a:lnTo>
                  <a:lnTo>
                    <a:pt x="284" y="178"/>
                  </a:lnTo>
                  <a:lnTo>
                    <a:pt x="284" y="184"/>
                  </a:lnTo>
                  <a:lnTo>
                    <a:pt x="276" y="188"/>
                  </a:lnTo>
                  <a:lnTo>
                    <a:pt x="258" y="190"/>
                  </a:lnTo>
                  <a:lnTo>
                    <a:pt x="242" y="168"/>
                  </a:lnTo>
                  <a:lnTo>
                    <a:pt x="226" y="162"/>
                  </a:lnTo>
                  <a:lnTo>
                    <a:pt x="204" y="190"/>
                  </a:lnTo>
                  <a:lnTo>
                    <a:pt x="192" y="218"/>
                  </a:lnTo>
                  <a:lnTo>
                    <a:pt x="148" y="220"/>
                  </a:lnTo>
                  <a:lnTo>
                    <a:pt x="136" y="216"/>
                  </a:lnTo>
                  <a:lnTo>
                    <a:pt x="126" y="240"/>
                  </a:lnTo>
                  <a:lnTo>
                    <a:pt x="122" y="286"/>
                  </a:lnTo>
                  <a:lnTo>
                    <a:pt x="112" y="288"/>
                  </a:lnTo>
                  <a:lnTo>
                    <a:pt x="96" y="306"/>
                  </a:lnTo>
                  <a:lnTo>
                    <a:pt x="86" y="328"/>
                  </a:lnTo>
                  <a:lnTo>
                    <a:pt x="76" y="336"/>
                  </a:lnTo>
                  <a:lnTo>
                    <a:pt x="32" y="338"/>
                  </a:lnTo>
                  <a:lnTo>
                    <a:pt x="6" y="338"/>
                  </a:lnTo>
                  <a:lnTo>
                    <a:pt x="0" y="356"/>
                  </a:lnTo>
                  <a:lnTo>
                    <a:pt x="2" y="366"/>
                  </a:lnTo>
                  <a:lnTo>
                    <a:pt x="34" y="414"/>
                  </a:lnTo>
                  <a:lnTo>
                    <a:pt x="44" y="434"/>
                  </a:lnTo>
                  <a:lnTo>
                    <a:pt x="94" y="500"/>
                  </a:lnTo>
                  <a:lnTo>
                    <a:pt x="124" y="558"/>
                  </a:lnTo>
                  <a:lnTo>
                    <a:pt x="144" y="586"/>
                  </a:lnTo>
                  <a:lnTo>
                    <a:pt x="156" y="600"/>
                  </a:lnTo>
                  <a:lnTo>
                    <a:pt x="170" y="610"/>
                  </a:lnTo>
                  <a:lnTo>
                    <a:pt x="212" y="658"/>
                  </a:lnTo>
                  <a:lnTo>
                    <a:pt x="216" y="676"/>
                  </a:lnTo>
                  <a:lnTo>
                    <a:pt x="218" y="688"/>
                  </a:lnTo>
                  <a:lnTo>
                    <a:pt x="220" y="688"/>
                  </a:lnTo>
                  <a:lnTo>
                    <a:pt x="238" y="670"/>
                  </a:lnTo>
                  <a:lnTo>
                    <a:pt x="248" y="670"/>
                  </a:lnTo>
                  <a:lnTo>
                    <a:pt x="274" y="686"/>
                  </a:lnTo>
                  <a:lnTo>
                    <a:pt x="330" y="706"/>
                  </a:lnTo>
                  <a:lnTo>
                    <a:pt x="354" y="704"/>
                  </a:lnTo>
                  <a:lnTo>
                    <a:pt x="376" y="698"/>
                  </a:lnTo>
                  <a:lnTo>
                    <a:pt x="388" y="698"/>
                  </a:lnTo>
                  <a:lnTo>
                    <a:pt x="410" y="712"/>
                  </a:lnTo>
                  <a:lnTo>
                    <a:pt x="432" y="734"/>
                  </a:lnTo>
                  <a:lnTo>
                    <a:pt x="444" y="740"/>
                  </a:lnTo>
                  <a:lnTo>
                    <a:pt x="470" y="738"/>
                  </a:lnTo>
                  <a:lnTo>
                    <a:pt x="504" y="730"/>
                  </a:lnTo>
                  <a:lnTo>
                    <a:pt x="514" y="726"/>
                  </a:lnTo>
                  <a:lnTo>
                    <a:pt x="514" y="718"/>
                  </a:lnTo>
                  <a:lnTo>
                    <a:pt x="512" y="702"/>
                  </a:lnTo>
                  <a:lnTo>
                    <a:pt x="496" y="662"/>
                  </a:lnTo>
                  <a:lnTo>
                    <a:pt x="498" y="626"/>
                  </a:lnTo>
                  <a:lnTo>
                    <a:pt x="514" y="596"/>
                  </a:lnTo>
                  <a:lnTo>
                    <a:pt x="522" y="566"/>
                  </a:lnTo>
                  <a:lnTo>
                    <a:pt x="536" y="486"/>
                  </a:lnTo>
                  <a:lnTo>
                    <a:pt x="564" y="364"/>
                  </a:lnTo>
                  <a:lnTo>
                    <a:pt x="576" y="256"/>
                  </a:lnTo>
                  <a:lnTo>
                    <a:pt x="626" y="132"/>
                  </a:lnTo>
                  <a:lnTo>
                    <a:pt x="640" y="74"/>
                  </a:lnTo>
                  <a:lnTo>
                    <a:pt x="648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68360" y="4454280"/>
              <a:ext cx="142200" cy="73080"/>
            </a:xfrm>
            <a:custGeom>
              <a:avLst/>
              <a:gdLst/>
              <a:ahLst/>
              <a:rect l="l" t="t" r="r" b="b"/>
              <a:pathLst>
                <a:path w="824" h="430">
                  <a:moveTo>
                    <a:pt x="78" y="0"/>
                  </a:moveTo>
                  <a:lnTo>
                    <a:pt x="74" y="4"/>
                  </a:lnTo>
                  <a:lnTo>
                    <a:pt x="70" y="4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32" y="26"/>
                  </a:lnTo>
                  <a:lnTo>
                    <a:pt x="24" y="74"/>
                  </a:lnTo>
                  <a:lnTo>
                    <a:pt x="44" y="88"/>
                  </a:lnTo>
                  <a:lnTo>
                    <a:pt x="52" y="100"/>
                  </a:lnTo>
                  <a:lnTo>
                    <a:pt x="46" y="114"/>
                  </a:lnTo>
                  <a:lnTo>
                    <a:pt x="36" y="126"/>
                  </a:lnTo>
                  <a:lnTo>
                    <a:pt x="32" y="138"/>
                  </a:lnTo>
                  <a:lnTo>
                    <a:pt x="30" y="176"/>
                  </a:lnTo>
                  <a:lnTo>
                    <a:pt x="24" y="194"/>
                  </a:lnTo>
                  <a:lnTo>
                    <a:pt x="4" y="222"/>
                  </a:lnTo>
                  <a:lnTo>
                    <a:pt x="0" y="222"/>
                  </a:lnTo>
                  <a:lnTo>
                    <a:pt x="12" y="260"/>
                  </a:lnTo>
                  <a:lnTo>
                    <a:pt x="16" y="258"/>
                  </a:lnTo>
                  <a:lnTo>
                    <a:pt x="24" y="238"/>
                  </a:lnTo>
                  <a:lnTo>
                    <a:pt x="32" y="228"/>
                  </a:lnTo>
                  <a:lnTo>
                    <a:pt x="58" y="228"/>
                  </a:lnTo>
                  <a:lnTo>
                    <a:pt x="106" y="236"/>
                  </a:lnTo>
                  <a:lnTo>
                    <a:pt x="122" y="240"/>
                  </a:lnTo>
                  <a:lnTo>
                    <a:pt x="148" y="256"/>
                  </a:lnTo>
                  <a:lnTo>
                    <a:pt x="172" y="258"/>
                  </a:lnTo>
                  <a:lnTo>
                    <a:pt x="180" y="262"/>
                  </a:lnTo>
                  <a:lnTo>
                    <a:pt x="192" y="276"/>
                  </a:lnTo>
                  <a:lnTo>
                    <a:pt x="200" y="304"/>
                  </a:lnTo>
                  <a:lnTo>
                    <a:pt x="212" y="328"/>
                  </a:lnTo>
                  <a:lnTo>
                    <a:pt x="232" y="358"/>
                  </a:lnTo>
                  <a:lnTo>
                    <a:pt x="248" y="358"/>
                  </a:lnTo>
                  <a:lnTo>
                    <a:pt x="260" y="336"/>
                  </a:lnTo>
                  <a:lnTo>
                    <a:pt x="278" y="328"/>
                  </a:lnTo>
                  <a:lnTo>
                    <a:pt x="284" y="358"/>
                  </a:lnTo>
                  <a:lnTo>
                    <a:pt x="284" y="388"/>
                  </a:lnTo>
                  <a:lnTo>
                    <a:pt x="290" y="420"/>
                  </a:lnTo>
                  <a:lnTo>
                    <a:pt x="292" y="428"/>
                  </a:lnTo>
                  <a:lnTo>
                    <a:pt x="326" y="430"/>
                  </a:lnTo>
                  <a:lnTo>
                    <a:pt x="340" y="428"/>
                  </a:lnTo>
                  <a:lnTo>
                    <a:pt x="386" y="396"/>
                  </a:lnTo>
                  <a:lnTo>
                    <a:pt x="404" y="374"/>
                  </a:lnTo>
                  <a:lnTo>
                    <a:pt x="402" y="354"/>
                  </a:lnTo>
                  <a:lnTo>
                    <a:pt x="388" y="342"/>
                  </a:lnTo>
                  <a:lnTo>
                    <a:pt x="378" y="326"/>
                  </a:lnTo>
                  <a:lnTo>
                    <a:pt x="356" y="302"/>
                  </a:lnTo>
                  <a:lnTo>
                    <a:pt x="354" y="292"/>
                  </a:lnTo>
                  <a:lnTo>
                    <a:pt x="354" y="278"/>
                  </a:lnTo>
                  <a:lnTo>
                    <a:pt x="362" y="260"/>
                  </a:lnTo>
                  <a:lnTo>
                    <a:pt x="386" y="240"/>
                  </a:lnTo>
                  <a:lnTo>
                    <a:pt x="406" y="232"/>
                  </a:lnTo>
                  <a:lnTo>
                    <a:pt x="416" y="232"/>
                  </a:lnTo>
                  <a:lnTo>
                    <a:pt x="438" y="216"/>
                  </a:lnTo>
                  <a:lnTo>
                    <a:pt x="464" y="186"/>
                  </a:lnTo>
                  <a:lnTo>
                    <a:pt x="492" y="140"/>
                  </a:lnTo>
                  <a:lnTo>
                    <a:pt x="498" y="130"/>
                  </a:lnTo>
                  <a:lnTo>
                    <a:pt x="504" y="126"/>
                  </a:lnTo>
                  <a:lnTo>
                    <a:pt x="532" y="114"/>
                  </a:lnTo>
                  <a:lnTo>
                    <a:pt x="544" y="114"/>
                  </a:lnTo>
                  <a:lnTo>
                    <a:pt x="550" y="116"/>
                  </a:lnTo>
                  <a:lnTo>
                    <a:pt x="584" y="148"/>
                  </a:lnTo>
                  <a:lnTo>
                    <a:pt x="632" y="176"/>
                  </a:lnTo>
                  <a:lnTo>
                    <a:pt x="656" y="216"/>
                  </a:lnTo>
                  <a:lnTo>
                    <a:pt x="680" y="204"/>
                  </a:lnTo>
                  <a:lnTo>
                    <a:pt x="696" y="206"/>
                  </a:lnTo>
                  <a:lnTo>
                    <a:pt x="708" y="222"/>
                  </a:lnTo>
                  <a:lnTo>
                    <a:pt x="710" y="230"/>
                  </a:lnTo>
                  <a:lnTo>
                    <a:pt x="698" y="232"/>
                  </a:lnTo>
                  <a:lnTo>
                    <a:pt x="672" y="258"/>
                  </a:lnTo>
                  <a:lnTo>
                    <a:pt x="666" y="274"/>
                  </a:lnTo>
                  <a:lnTo>
                    <a:pt x="664" y="302"/>
                  </a:lnTo>
                  <a:lnTo>
                    <a:pt x="664" y="338"/>
                  </a:lnTo>
                  <a:lnTo>
                    <a:pt x="674" y="358"/>
                  </a:lnTo>
                  <a:lnTo>
                    <a:pt x="698" y="396"/>
                  </a:lnTo>
                  <a:lnTo>
                    <a:pt x="716" y="412"/>
                  </a:lnTo>
                  <a:lnTo>
                    <a:pt x="722" y="414"/>
                  </a:lnTo>
                  <a:lnTo>
                    <a:pt x="722" y="396"/>
                  </a:lnTo>
                  <a:lnTo>
                    <a:pt x="744" y="378"/>
                  </a:lnTo>
                  <a:lnTo>
                    <a:pt x="746" y="352"/>
                  </a:lnTo>
                  <a:lnTo>
                    <a:pt x="756" y="350"/>
                  </a:lnTo>
                  <a:lnTo>
                    <a:pt x="770" y="362"/>
                  </a:lnTo>
                  <a:lnTo>
                    <a:pt x="780" y="352"/>
                  </a:lnTo>
                  <a:lnTo>
                    <a:pt x="808" y="312"/>
                  </a:lnTo>
                  <a:lnTo>
                    <a:pt x="824" y="294"/>
                  </a:lnTo>
                  <a:lnTo>
                    <a:pt x="824" y="286"/>
                  </a:lnTo>
                  <a:lnTo>
                    <a:pt x="816" y="276"/>
                  </a:lnTo>
                  <a:lnTo>
                    <a:pt x="812" y="274"/>
                  </a:lnTo>
                  <a:lnTo>
                    <a:pt x="812" y="254"/>
                  </a:lnTo>
                  <a:lnTo>
                    <a:pt x="806" y="232"/>
                  </a:lnTo>
                  <a:lnTo>
                    <a:pt x="794" y="222"/>
                  </a:lnTo>
                  <a:lnTo>
                    <a:pt x="792" y="218"/>
                  </a:lnTo>
                  <a:lnTo>
                    <a:pt x="798" y="190"/>
                  </a:lnTo>
                  <a:lnTo>
                    <a:pt x="802" y="180"/>
                  </a:lnTo>
                  <a:lnTo>
                    <a:pt x="778" y="158"/>
                  </a:lnTo>
                  <a:lnTo>
                    <a:pt x="756" y="122"/>
                  </a:lnTo>
                  <a:lnTo>
                    <a:pt x="746" y="112"/>
                  </a:lnTo>
                  <a:lnTo>
                    <a:pt x="706" y="66"/>
                  </a:lnTo>
                  <a:lnTo>
                    <a:pt x="680" y="50"/>
                  </a:lnTo>
                  <a:lnTo>
                    <a:pt x="650" y="42"/>
                  </a:lnTo>
                  <a:lnTo>
                    <a:pt x="614" y="38"/>
                  </a:lnTo>
                  <a:lnTo>
                    <a:pt x="582" y="26"/>
                  </a:lnTo>
                  <a:lnTo>
                    <a:pt x="558" y="10"/>
                  </a:lnTo>
                  <a:lnTo>
                    <a:pt x="510" y="8"/>
                  </a:lnTo>
                  <a:lnTo>
                    <a:pt x="494" y="12"/>
                  </a:lnTo>
                  <a:lnTo>
                    <a:pt x="488" y="16"/>
                  </a:lnTo>
                  <a:lnTo>
                    <a:pt x="470" y="40"/>
                  </a:lnTo>
                  <a:lnTo>
                    <a:pt x="462" y="90"/>
                  </a:lnTo>
                  <a:lnTo>
                    <a:pt x="444" y="102"/>
                  </a:lnTo>
                  <a:lnTo>
                    <a:pt x="438" y="100"/>
                  </a:lnTo>
                  <a:lnTo>
                    <a:pt x="438" y="70"/>
                  </a:lnTo>
                  <a:lnTo>
                    <a:pt x="428" y="66"/>
                  </a:lnTo>
                  <a:lnTo>
                    <a:pt x="418" y="66"/>
                  </a:lnTo>
                  <a:lnTo>
                    <a:pt x="368" y="98"/>
                  </a:lnTo>
                  <a:lnTo>
                    <a:pt x="326" y="108"/>
                  </a:lnTo>
                  <a:lnTo>
                    <a:pt x="314" y="114"/>
                  </a:lnTo>
                  <a:lnTo>
                    <a:pt x="294" y="138"/>
                  </a:lnTo>
                  <a:lnTo>
                    <a:pt x="282" y="142"/>
                  </a:lnTo>
                  <a:lnTo>
                    <a:pt x="268" y="142"/>
                  </a:lnTo>
                  <a:lnTo>
                    <a:pt x="248" y="138"/>
                  </a:lnTo>
                  <a:lnTo>
                    <a:pt x="202" y="112"/>
                  </a:lnTo>
                  <a:lnTo>
                    <a:pt x="194" y="110"/>
                  </a:lnTo>
                  <a:lnTo>
                    <a:pt x="132" y="110"/>
                  </a:lnTo>
                  <a:lnTo>
                    <a:pt x="128" y="90"/>
                  </a:lnTo>
                  <a:lnTo>
                    <a:pt x="130" y="72"/>
                  </a:lnTo>
                  <a:lnTo>
                    <a:pt x="114" y="60"/>
                  </a:lnTo>
                  <a:lnTo>
                    <a:pt x="112" y="28"/>
                  </a:lnTo>
                  <a:lnTo>
                    <a:pt x="108" y="24"/>
                  </a:lnTo>
                  <a:lnTo>
                    <a:pt x="86" y="14"/>
                  </a:lnTo>
                  <a:lnTo>
                    <a:pt x="7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62080" y="4201200"/>
              <a:ext cx="99720" cy="125640"/>
            </a:xfrm>
            <a:custGeom>
              <a:avLst/>
              <a:gdLst/>
              <a:ahLst/>
              <a:rect l="l" t="t" r="r" b="b"/>
              <a:pathLst>
                <a:path w="578" h="738">
                  <a:moveTo>
                    <a:pt x="518" y="6"/>
                  </a:moveTo>
                  <a:lnTo>
                    <a:pt x="276" y="0"/>
                  </a:lnTo>
                  <a:lnTo>
                    <a:pt x="260" y="84"/>
                  </a:lnTo>
                  <a:lnTo>
                    <a:pt x="178" y="82"/>
                  </a:lnTo>
                  <a:lnTo>
                    <a:pt x="174" y="80"/>
                  </a:lnTo>
                  <a:lnTo>
                    <a:pt x="226" y="160"/>
                  </a:lnTo>
                  <a:lnTo>
                    <a:pt x="262" y="192"/>
                  </a:lnTo>
                  <a:lnTo>
                    <a:pt x="268" y="220"/>
                  </a:lnTo>
                  <a:lnTo>
                    <a:pt x="286" y="246"/>
                  </a:lnTo>
                  <a:lnTo>
                    <a:pt x="292" y="262"/>
                  </a:lnTo>
                  <a:lnTo>
                    <a:pt x="282" y="308"/>
                  </a:lnTo>
                  <a:lnTo>
                    <a:pt x="280" y="312"/>
                  </a:lnTo>
                  <a:lnTo>
                    <a:pt x="276" y="310"/>
                  </a:lnTo>
                  <a:lnTo>
                    <a:pt x="218" y="308"/>
                  </a:lnTo>
                  <a:lnTo>
                    <a:pt x="142" y="310"/>
                  </a:lnTo>
                  <a:lnTo>
                    <a:pt x="64" y="426"/>
                  </a:lnTo>
                  <a:lnTo>
                    <a:pt x="62" y="436"/>
                  </a:lnTo>
                  <a:lnTo>
                    <a:pt x="38" y="468"/>
                  </a:lnTo>
                  <a:lnTo>
                    <a:pt x="32" y="484"/>
                  </a:lnTo>
                  <a:lnTo>
                    <a:pt x="26" y="486"/>
                  </a:lnTo>
                  <a:lnTo>
                    <a:pt x="30" y="510"/>
                  </a:lnTo>
                  <a:lnTo>
                    <a:pt x="26" y="518"/>
                  </a:lnTo>
                  <a:lnTo>
                    <a:pt x="18" y="526"/>
                  </a:lnTo>
                  <a:lnTo>
                    <a:pt x="6" y="576"/>
                  </a:lnTo>
                  <a:lnTo>
                    <a:pt x="0" y="578"/>
                  </a:lnTo>
                  <a:lnTo>
                    <a:pt x="6" y="592"/>
                  </a:lnTo>
                  <a:lnTo>
                    <a:pt x="16" y="602"/>
                  </a:lnTo>
                  <a:lnTo>
                    <a:pt x="18" y="608"/>
                  </a:lnTo>
                  <a:lnTo>
                    <a:pt x="36" y="622"/>
                  </a:lnTo>
                  <a:lnTo>
                    <a:pt x="38" y="630"/>
                  </a:lnTo>
                  <a:lnTo>
                    <a:pt x="68" y="662"/>
                  </a:lnTo>
                  <a:lnTo>
                    <a:pt x="84" y="672"/>
                  </a:lnTo>
                  <a:lnTo>
                    <a:pt x="104" y="692"/>
                  </a:lnTo>
                  <a:lnTo>
                    <a:pt x="126" y="702"/>
                  </a:lnTo>
                  <a:lnTo>
                    <a:pt x="154" y="706"/>
                  </a:lnTo>
                  <a:lnTo>
                    <a:pt x="204" y="708"/>
                  </a:lnTo>
                  <a:lnTo>
                    <a:pt x="230" y="714"/>
                  </a:lnTo>
                  <a:lnTo>
                    <a:pt x="268" y="724"/>
                  </a:lnTo>
                  <a:lnTo>
                    <a:pt x="286" y="738"/>
                  </a:lnTo>
                  <a:lnTo>
                    <a:pt x="290" y="726"/>
                  </a:lnTo>
                  <a:lnTo>
                    <a:pt x="308" y="694"/>
                  </a:lnTo>
                  <a:lnTo>
                    <a:pt x="330" y="688"/>
                  </a:lnTo>
                  <a:lnTo>
                    <a:pt x="344" y="666"/>
                  </a:lnTo>
                  <a:lnTo>
                    <a:pt x="362" y="660"/>
                  </a:lnTo>
                  <a:lnTo>
                    <a:pt x="372" y="646"/>
                  </a:lnTo>
                  <a:lnTo>
                    <a:pt x="380" y="624"/>
                  </a:lnTo>
                  <a:lnTo>
                    <a:pt x="390" y="610"/>
                  </a:lnTo>
                  <a:lnTo>
                    <a:pt x="396" y="608"/>
                  </a:lnTo>
                  <a:lnTo>
                    <a:pt x="402" y="594"/>
                  </a:lnTo>
                  <a:lnTo>
                    <a:pt x="426" y="576"/>
                  </a:lnTo>
                  <a:lnTo>
                    <a:pt x="428" y="564"/>
                  </a:lnTo>
                  <a:lnTo>
                    <a:pt x="426" y="550"/>
                  </a:lnTo>
                  <a:lnTo>
                    <a:pt x="422" y="546"/>
                  </a:lnTo>
                  <a:lnTo>
                    <a:pt x="424" y="532"/>
                  </a:lnTo>
                  <a:lnTo>
                    <a:pt x="430" y="522"/>
                  </a:lnTo>
                  <a:lnTo>
                    <a:pt x="456" y="500"/>
                  </a:lnTo>
                  <a:lnTo>
                    <a:pt x="458" y="496"/>
                  </a:lnTo>
                  <a:lnTo>
                    <a:pt x="470" y="492"/>
                  </a:lnTo>
                  <a:lnTo>
                    <a:pt x="508" y="460"/>
                  </a:lnTo>
                  <a:lnTo>
                    <a:pt x="558" y="422"/>
                  </a:lnTo>
                  <a:lnTo>
                    <a:pt x="570" y="404"/>
                  </a:lnTo>
                  <a:lnTo>
                    <a:pt x="576" y="390"/>
                  </a:lnTo>
                  <a:lnTo>
                    <a:pt x="578" y="386"/>
                  </a:lnTo>
                  <a:lnTo>
                    <a:pt x="574" y="384"/>
                  </a:lnTo>
                  <a:lnTo>
                    <a:pt x="572" y="384"/>
                  </a:lnTo>
                  <a:lnTo>
                    <a:pt x="570" y="372"/>
                  </a:lnTo>
                  <a:lnTo>
                    <a:pt x="554" y="370"/>
                  </a:lnTo>
                  <a:lnTo>
                    <a:pt x="534" y="384"/>
                  </a:lnTo>
                  <a:lnTo>
                    <a:pt x="528" y="382"/>
                  </a:lnTo>
                  <a:lnTo>
                    <a:pt x="512" y="368"/>
                  </a:lnTo>
                  <a:lnTo>
                    <a:pt x="504" y="350"/>
                  </a:lnTo>
                  <a:lnTo>
                    <a:pt x="508" y="352"/>
                  </a:lnTo>
                  <a:lnTo>
                    <a:pt x="476" y="348"/>
                  </a:lnTo>
                  <a:lnTo>
                    <a:pt x="456" y="340"/>
                  </a:lnTo>
                  <a:lnTo>
                    <a:pt x="458" y="336"/>
                  </a:lnTo>
                  <a:lnTo>
                    <a:pt x="480" y="230"/>
                  </a:lnTo>
                  <a:lnTo>
                    <a:pt x="518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75800" y="4152240"/>
              <a:ext cx="84240" cy="67320"/>
            </a:xfrm>
            <a:custGeom>
              <a:avLst/>
              <a:gdLst/>
              <a:ahLst/>
              <a:rect l="l" t="t" r="r" b="b"/>
              <a:pathLst>
                <a:path w="486" h="392">
                  <a:moveTo>
                    <a:pt x="42" y="16"/>
                  </a:moveTo>
                  <a:lnTo>
                    <a:pt x="46" y="10"/>
                  </a:lnTo>
                  <a:lnTo>
                    <a:pt x="58" y="0"/>
                  </a:lnTo>
                  <a:lnTo>
                    <a:pt x="88" y="2"/>
                  </a:lnTo>
                  <a:lnTo>
                    <a:pt x="116" y="6"/>
                  </a:lnTo>
                  <a:lnTo>
                    <a:pt x="186" y="6"/>
                  </a:lnTo>
                  <a:lnTo>
                    <a:pt x="222" y="20"/>
                  </a:lnTo>
                  <a:lnTo>
                    <a:pt x="258" y="46"/>
                  </a:lnTo>
                  <a:lnTo>
                    <a:pt x="290" y="50"/>
                  </a:lnTo>
                  <a:lnTo>
                    <a:pt x="300" y="64"/>
                  </a:lnTo>
                  <a:lnTo>
                    <a:pt x="304" y="94"/>
                  </a:lnTo>
                  <a:lnTo>
                    <a:pt x="308" y="100"/>
                  </a:lnTo>
                  <a:lnTo>
                    <a:pt x="332" y="108"/>
                  </a:lnTo>
                  <a:lnTo>
                    <a:pt x="378" y="108"/>
                  </a:lnTo>
                  <a:lnTo>
                    <a:pt x="386" y="114"/>
                  </a:lnTo>
                  <a:lnTo>
                    <a:pt x="386" y="126"/>
                  </a:lnTo>
                  <a:lnTo>
                    <a:pt x="364" y="136"/>
                  </a:lnTo>
                  <a:lnTo>
                    <a:pt x="340" y="134"/>
                  </a:lnTo>
                  <a:lnTo>
                    <a:pt x="338" y="148"/>
                  </a:lnTo>
                  <a:lnTo>
                    <a:pt x="368" y="162"/>
                  </a:lnTo>
                  <a:lnTo>
                    <a:pt x="434" y="164"/>
                  </a:lnTo>
                  <a:lnTo>
                    <a:pt x="446" y="186"/>
                  </a:lnTo>
                  <a:lnTo>
                    <a:pt x="468" y="212"/>
                  </a:lnTo>
                  <a:lnTo>
                    <a:pt x="484" y="222"/>
                  </a:lnTo>
                  <a:lnTo>
                    <a:pt x="486" y="228"/>
                  </a:lnTo>
                  <a:lnTo>
                    <a:pt x="482" y="252"/>
                  </a:lnTo>
                  <a:lnTo>
                    <a:pt x="468" y="276"/>
                  </a:lnTo>
                  <a:lnTo>
                    <a:pt x="446" y="296"/>
                  </a:lnTo>
                  <a:lnTo>
                    <a:pt x="428" y="296"/>
                  </a:lnTo>
                  <a:lnTo>
                    <a:pt x="416" y="282"/>
                  </a:lnTo>
                  <a:lnTo>
                    <a:pt x="388" y="268"/>
                  </a:lnTo>
                  <a:lnTo>
                    <a:pt x="314" y="260"/>
                  </a:lnTo>
                  <a:lnTo>
                    <a:pt x="260" y="268"/>
                  </a:lnTo>
                  <a:lnTo>
                    <a:pt x="242" y="278"/>
                  </a:lnTo>
                  <a:lnTo>
                    <a:pt x="234" y="292"/>
                  </a:lnTo>
                  <a:lnTo>
                    <a:pt x="228" y="296"/>
                  </a:lnTo>
                  <a:lnTo>
                    <a:pt x="204" y="306"/>
                  </a:lnTo>
                  <a:lnTo>
                    <a:pt x="172" y="312"/>
                  </a:lnTo>
                  <a:lnTo>
                    <a:pt x="160" y="278"/>
                  </a:lnTo>
                  <a:lnTo>
                    <a:pt x="162" y="270"/>
                  </a:lnTo>
                  <a:lnTo>
                    <a:pt x="140" y="268"/>
                  </a:lnTo>
                  <a:lnTo>
                    <a:pt x="126" y="274"/>
                  </a:lnTo>
                  <a:lnTo>
                    <a:pt x="116" y="282"/>
                  </a:lnTo>
                  <a:lnTo>
                    <a:pt x="96" y="308"/>
                  </a:lnTo>
                  <a:lnTo>
                    <a:pt x="72" y="346"/>
                  </a:lnTo>
                  <a:lnTo>
                    <a:pt x="62" y="356"/>
                  </a:lnTo>
                  <a:lnTo>
                    <a:pt x="60" y="364"/>
                  </a:lnTo>
                  <a:lnTo>
                    <a:pt x="30" y="392"/>
                  </a:lnTo>
                  <a:lnTo>
                    <a:pt x="20" y="392"/>
                  </a:lnTo>
                  <a:lnTo>
                    <a:pt x="18" y="386"/>
                  </a:lnTo>
                  <a:lnTo>
                    <a:pt x="4" y="368"/>
                  </a:lnTo>
                  <a:lnTo>
                    <a:pt x="2" y="364"/>
                  </a:lnTo>
                  <a:lnTo>
                    <a:pt x="6" y="336"/>
                  </a:lnTo>
                  <a:lnTo>
                    <a:pt x="0" y="324"/>
                  </a:lnTo>
                  <a:lnTo>
                    <a:pt x="6" y="318"/>
                  </a:lnTo>
                  <a:lnTo>
                    <a:pt x="14" y="278"/>
                  </a:lnTo>
                  <a:lnTo>
                    <a:pt x="14" y="260"/>
                  </a:lnTo>
                  <a:lnTo>
                    <a:pt x="0" y="240"/>
                  </a:lnTo>
                  <a:lnTo>
                    <a:pt x="2" y="226"/>
                  </a:lnTo>
                  <a:lnTo>
                    <a:pt x="8" y="218"/>
                  </a:lnTo>
                  <a:lnTo>
                    <a:pt x="30" y="202"/>
                  </a:lnTo>
                  <a:lnTo>
                    <a:pt x="34" y="152"/>
                  </a:lnTo>
                  <a:lnTo>
                    <a:pt x="46" y="142"/>
                  </a:lnTo>
                  <a:lnTo>
                    <a:pt x="52" y="124"/>
                  </a:lnTo>
                  <a:lnTo>
                    <a:pt x="42" y="108"/>
                  </a:lnTo>
                  <a:lnTo>
                    <a:pt x="52" y="66"/>
                  </a:lnTo>
                  <a:lnTo>
                    <a:pt x="50" y="42"/>
                  </a:lnTo>
                  <a:lnTo>
                    <a:pt x="38" y="20"/>
                  </a:lnTo>
                  <a:lnTo>
                    <a:pt x="42" y="1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1600" bIns="21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0280" y="4381920"/>
              <a:ext cx="332280" cy="338760"/>
            </a:xfrm>
            <a:custGeom>
              <a:avLst/>
              <a:gdLst/>
              <a:ahLst/>
              <a:rect l="l" t="t" r="r" b="b"/>
              <a:pathLst>
                <a:path w="1922" h="1990">
                  <a:moveTo>
                    <a:pt x="320" y="62"/>
                  </a:moveTo>
                  <a:lnTo>
                    <a:pt x="292" y="88"/>
                  </a:lnTo>
                  <a:lnTo>
                    <a:pt x="264" y="94"/>
                  </a:lnTo>
                  <a:lnTo>
                    <a:pt x="246" y="106"/>
                  </a:lnTo>
                  <a:lnTo>
                    <a:pt x="246" y="118"/>
                  </a:lnTo>
                  <a:lnTo>
                    <a:pt x="248" y="144"/>
                  </a:lnTo>
                  <a:lnTo>
                    <a:pt x="254" y="168"/>
                  </a:lnTo>
                  <a:lnTo>
                    <a:pt x="272" y="200"/>
                  </a:lnTo>
                  <a:lnTo>
                    <a:pt x="272" y="214"/>
                  </a:lnTo>
                  <a:lnTo>
                    <a:pt x="266" y="218"/>
                  </a:lnTo>
                  <a:lnTo>
                    <a:pt x="266" y="226"/>
                  </a:lnTo>
                  <a:lnTo>
                    <a:pt x="272" y="234"/>
                  </a:lnTo>
                  <a:lnTo>
                    <a:pt x="270" y="256"/>
                  </a:lnTo>
                  <a:lnTo>
                    <a:pt x="260" y="294"/>
                  </a:lnTo>
                  <a:lnTo>
                    <a:pt x="218" y="334"/>
                  </a:lnTo>
                  <a:lnTo>
                    <a:pt x="210" y="344"/>
                  </a:lnTo>
                  <a:lnTo>
                    <a:pt x="202" y="366"/>
                  </a:lnTo>
                  <a:lnTo>
                    <a:pt x="200" y="412"/>
                  </a:lnTo>
                  <a:lnTo>
                    <a:pt x="202" y="436"/>
                  </a:lnTo>
                  <a:lnTo>
                    <a:pt x="210" y="452"/>
                  </a:lnTo>
                  <a:lnTo>
                    <a:pt x="232" y="472"/>
                  </a:lnTo>
                  <a:lnTo>
                    <a:pt x="244" y="512"/>
                  </a:lnTo>
                  <a:lnTo>
                    <a:pt x="248" y="540"/>
                  </a:lnTo>
                  <a:lnTo>
                    <a:pt x="252" y="548"/>
                  </a:lnTo>
                  <a:lnTo>
                    <a:pt x="272" y="548"/>
                  </a:lnTo>
                  <a:lnTo>
                    <a:pt x="292" y="542"/>
                  </a:lnTo>
                  <a:lnTo>
                    <a:pt x="310" y="526"/>
                  </a:lnTo>
                  <a:lnTo>
                    <a:pt x="328" y="502"/>
                  </a:lnTo>
                  <a:lnTo>
                    <a:pt x="330" y="494"/>
                  </a:lnTo>
                  <a:lnTo>
                    <a:pt x="332" y="460"/>
                  </a:lnTo>
                  <a:lnTo>
                    <a:pt x="332" y="418"/>
                  </a:lnTo>
                  <a:lnTo>
                    <a:pt x="312" y="364"/>
                  </a:lnTo>
                  <a:lnTo>
                    <a:pt x="296" y="340"/>
                  </a:lnTo>
                  <a:lnTo>
                    <a:pt x="286" y="314"/>
                  </a:lnTo>
                  <a:lnTo>
                    <a:pt x="292" y="236"/>
                  </a:lnTo>
                  <a:lnTo>
                    <a:pt x="304" y="228"/>
                  </a:lnTo>
                  <a:lnTo>
                    <a:pt x="308" y="216"/>
                  </a:lnTo>
                  <a:lnTo>
                    <a:pt x="314" y="210"/>
                  </a:lnTo>
                  <a:lnTo>
                    <a:pt x="338" y="202"/>
                  </a:lnTo>
                  <a:lnTo>
                    <a:pt x="390" y="162"/>
                  </a:lnTo>
                  <a:lnTo>
                    <a:pt x="478" y="136"/>
                  </a:lnTo>
                  <a:lnTo>
                    <a:pt x="540" y="130"/>
                  </a:lnTo>
                  <a:lnTo>
                    <a:pt x="542" y="112"/>
                  </a:lnTo>
                  <a:lnTo>
                    <a:pt x="538" y="100"/>
                  </a:lnTo>
                  <a:lnTo>
                    <a:pt x="528" y="94"/>
                  </a:lnTo>
                  <a:lnTo>
                    <a:pt x="486" y="88"/>
                  </a:lnTo>
                  <a:lnTo>
                    <a:pt x="480" y="84"/>
                  </a:lnTo>
                  <a:lnTo>
                    <a:pt x="474" y="84"/>
                  </a:lnTo>
                  <a:lnTo>
                    <a:pt x="470" y="78"/>
                  </a:lnTo>
                  <a:lnTo>
                    <a:pt x="478" y="54"/>
                  </a:lnTo>
                  <a:lnTo>
                    <a:pt x="496" y="16"/>
                  </a:lnTo>
                  <a:lnTo>
                    <a:pt x="514" y="0"/>
                  </a:lnTo>
                  <a:lnTo>
                    <a:pt x="524" y="0"/>
                  </a:lnTo>
                  <a:lnTo>
                    <a:pt x="536" y="6"/>
                  </a:lnTo>
                  <a:lnTo>
                    <a:pt x="540" y="14"/>
                  </a:lnTo>
                  <a:lnTo>
                    <a:pt x="554" y="92"/>
                  </a:lnTo>
                  <a:lnTo>
                    <a:pt x="556" y="92"/>
                  </a:lnTo>
                  <a:lnTo>
                    <a:pt x="568" y="126"/>
                  </a:lnTo>
                  <a:lnTo>
                    <a:pt x="610" y="130"/>
                  </a:lnTo>
                  <a:lnTo>
                    <a:pt x="660" y="146"/>
                  </a:lnTo>
                  <a:lnTo>
                    <a:pt x="670" y="146"/>
                  </a:lnTo>
                  <a:lnTo>
                    <a:pt x="702" y="158"/>
                  </a:lnTo>
                  <a:lnTo>
                    <a:pt x="732" y="174"/>
                  </a:lnTo>
                  <a:lnTo>
                    <a:pt x="742" y="192"/>
                  </a:lnTo>
                  <a:lnTo>
                    <a:pt x="748" y="242"/>
                  </a:lnTo>
                  <a:lnTo>
                    <a:pt x="756" y="278"/>
                  </a:lnTo>
                  <a:lnTo>
                    <a:pt x="760" y="284"/>
                  </a:lnTo>
                  <a:lnTo>
                    <a:pt x="776" y="300"/>
                  </a:lnTo>
                  <a:lnTo>
                    <a:pt x="802" y="298"/>
                  </a:lnTo>
                  <a:lnTo>
                    <a:pt x="874" y="286"/>
                  </a:lnTo>
                  <a:lnTo>
                    <a:pt x="900" y="288"/>
                  </a:lnTo>
                  <a:lnTo>
                    <a:pt x="970" y="280"/>
                  </a:lnTo>
                  <a:lnTo>
                    <a:pt x="1044" y="280"/>
                  </a:lnTo>
                  <a:lnTo>
                    <a:pt x="1052" y="282"/>
                  </a:lnTo>
                  <a:lnTo>
                    <a:pt x="1060" y="292"/>
                  </a:lnTo>
                  <a:lnTo>
                    <a:pt x="1068" y="310"/>
                  </a:lnTo>
                  <a:lnTo>
                    <a:pt x="1068" y="322"/>
                  </a:lnTo>
                  <a:lnTo>
                    <a:pt x="1080" y="338"/>
                  </a:lnTo>
                  <a:lnTo>
                    <a:pt x="1110" y="356"/>
                  </a:lnTo>
                  <a:lnTo>
                    <a:pt x="1134" y="364"/>
                  </a:lnTo>
                  <a:lnTo>
                    <a:pt x="1182" y="364"/>
                  </a:lnTo>
                  <a:lnTo>
                    <a:pt x="1250" y="352"/>
                  </a:lnTo>
                  <a:lnTo>
                    <a:pt x="1270" y="340"/>
                  </a:lnTo>
                  <a:lnTo>
                    <a:pt x="1302" y="316"/>
                  </a:lnTo>
                  <a:lnTo>
                    <a:pt x="1346" y="316"/>
                  </a:lnTo>
                  <a:lnTo>
                    <a:pt x="1374" y="310"/>
                  </a:lnTo>
                  <a:lnTo>
                    <a:pt x="1384" y="302"/>
                  </a:lnTo>
                  <a:lnTo>
                    <a:pt x="1384" y="292"/>
                  </a:lnTo>
                  <a:lnTo>
                    <a:pt x="1330" y="290"/>
                  </a:lnTo>
                  <a:lnTo>
                    <a:pt x="1314" y="284"/>
                  </a:lnTo>
                  <a:lnTo>
                    <a:pt x="1314" y="282"/>
                  </a:lnTo>
                  <a:lnTo>
                    <a:pt x="1334" y="272"/>
                  </a:lnTo>
                  <a:lnTo>
                    <a:pt x="1372" y="268"/>
                  </a:lnTo>
                  <a:lnTo>
                    <a:pt x="1598" y="270"/>
                  </a:lnTo>
                  <a:lnTo>
                    <a:pt x="1628" y="280"/>
                  </a:lnTo>
                  <a:lnTo>
                    <a:pt x="1630" y="282"/>
                  </a:lnTo>
                  <a:lnTo>
                    <a:pt x="1624" y="288"/>
                  </a:lnTo>
                  <a:lnTo>
                    <a:pt x="1592" y="292"/>
                  </a:lnTo>
                  <a:lnTo>
                    <a:pt x="1588" y="300"/>
                  </a:lnTo>
                  <a:lnTo>
                    <a:pt x="1574" y="306"/>
                  </a:lnTo>
                  <a:lnTo>
                    <a:pt x="1542" y="302"/>
                  </a:lnTo>
                  <a:lnTo>
                    <a:pt x="1506" y="308"/>
                  </a:lnTo>
                  <a:lnTo>
                    <a:pt x="1494" y="320"/>
                  </a:lnTo>
                  <a:lnTo>
                    <a:pt x="1496" y="330"/>
                  </a:lnTo>
                  <a:lnTo>
                    <a:pt x="1518" y="342"/>
                  </a:lnTo>
                  <a:lnTo>
                    <a:pt x="1530" y="346"/>
                  </a:lnTo>
                  <a:lnTo>
                    <a:pt x="1546" y="360"/>
                  </a:lnTo>
                  <a:lnTo>
                    <a:pt x="1550" y="378"/>
                  </a:lnTo>
                  <a:lnTo>
                    <a:pt x="1566" y="394"/>
                  </a:lnTo>
                  <a:lnTo>
                    <a:pt x="1568" y="416"/>
                  </a:lnTo>
                  <a:lnTo>
                    <a:pt x="1578" y="430"/>
                  </a:lnTo>
                  <a:lnTo>
                    <a:pt x="1620" y="424"/>
                  </a:lnTo>
                  <a:lnTo>
                    <a:pt x="1666" y="436"/>
                  </a:lnTo>
                  <a:lnTo>
                    <a:pt x="1726" y="480"/>
                  </a:lnTo>
                  <a:lnTo>
                    <a:pt x="1748" y="486"/>
                  </a:lnTo>
                  <a:lnTo>
                    <a:pt x="1766" y="508"/>
                  </a:lnTo>
                  <a:lnTo>
                    <a:pt x="1784" y="552"/>
                  </a:lnTo>
                  <a:lnTo>
                    <a:pt x="1788" y="566"/>
                  </a:lnTo>
                  <a:lnTo>
                    <a:pt x="1788" y="616"/>
                  </a:lnTo>
                  <a:lnTo>
                    <a:pt x="1786" y="626"/>
                  </a:lnTo>
                  <a:lnTo>
                    <a:pt x="1780" y="634"/>
                  </a:lnTo>
                  <a:lnTo>
                    <a:pt x="1754" y="646"/>
                  </a:lnTo>
                  <a:lnTo>
                    <a:pt x="1754" y="654"/>
                  </a:lnTo>
                  <a:lnTo>
                    <a:pt x="1760" y="658"/>
                  </a:lnTo>
                  <a:lnTo>
                    <a:pt x="1784" y="664"/>
                  </a:lnTo>
                  <a:lnTo>
                    <a:pt x="1800" y="670"/>
                  </a:lnTo>
                  <a:lnTo>
                    <a:pt x="1814" y="670"/>
                  </a:lnTo>
                  <a:lnTo>
                    <a:pt x="1824" y="666"/>
                  </a:lnTo>
                  <a:lnTo>
                    <a:pt x="1844" y="644"/>
                  </a:lnTo>
                  <a:lnTo>
                    <a:pt x="1870" y="640"/>
                  </a:lnTo>
                  <a:lnTo>
                    <a:pt x="1884" y="646"/>
                  </a:lnTo>
                  <a:lnTo>
                    <a:pt x="1908" y="668"/>
                  </a:lnTo>
                  <a:lnTo>
                    <a:pt x="1920" y="680"/>
                  </a:lnTo>
                  <a:lnTo>
                    <a:pt x="1922" y="690"/>
                  </a:lnTo>
                  <a:lnTo>
                    <a:pt x="1922" y="718"/>
                  </a:lnTo>
                  <a:lnTo>
                    <a:pt x="1914" y="724"/>
                  </a:lnTo>
                  <a:lnTo>
                    <a:pt x="1900" y="724"/>
                  </a:lnTo>
                  <a:lnTo>
                    <a:pt x="1882" y="736"/>
                  </a:lnTo>
                  <a:lnTo>
                    <a:pt x="1874" y="744"/>
                  </a:lnTo>
                  <a:lnTo>
                    <a:pt x="1832" y="766"/>
                  </a:lnTo>
                  <a:lnTo>
                    <a:pt x="1818" y="776"/>
                  </a:lnTo>
                  <a:lnTo>
                    <a:pt x="1814" y="786"/>
                  </a:lnTo>
                  <a:lnTo>
                    <a:pt x="1784" y="792"/>
                  </a:lnTo>
                  <a:lnTo>
                    <a:pt x="1776" y="802"/>
                  </a:lnTo>
                  <a:lnTo>
                    <a:pt x="1770" y="820"/>
                  </a:lnTo>
                  <a:lnTo>
                    <a:pt x="1768" y="848"/>
                  </a:lnTo>
                  <a:lnTo>
                    <a:pt x="1774" y="884"/>
                  </a:lnTo>
                  <a:lnTo>
                    <a:pt x="1786" y="890"/>
                  </a:lnTo>
                  <a:lnTo>
                    <a:pt x="1802" y="884"/>
                  </a:lnTo>
                  <a:lnTo>
                    <a:pt x="1808" y="886"/>
                  </a:lnTo>
                  <a:lnTo>
                    <a:pt x="1820" y="900"/>
                  </a:lnTo>
                  <a:lnTo>
                    <a:pt x="1808" y="918"/>
                  </a:lnTo>
                  <a:lnTo>
                    <a:pt x="1776" y="942"/>
                  </a:lnTo>
                  <a:lnTo>
                    <a:pt x="1732" y="962"/>
                  </a:lnTo>
                  <a:lnTo>
                    <a:pt x="1730" y="970"/>
                  </a:lnTo>
                  <a:lnTo>
                    <a:pt x="1728" y="1014"/>
                  </a:lnTo>
                  <a:lnTo>
                    <a:pt x="1716" y="1036"/>
                  </a:lnTo>
                  <a:lnTo>
                    <a:pt x="1700" y="1062"/>
                  </a:lnTo>
                  <a:lnTo>
                    <a:pt x="1696" y="1064"/>
                  </a:lnTo>
                  <a:lnTo>
                    <a:pt x="1694" y="1076"/>
                  </a:lnTo>
                  <a:lnTo>
                    <a:pt x="1696" y="1084"/>
                  </a:lnTo>
                  <a:lnTo>
                    <a:pt x="1726" y="1134"/>
                  </a:lnTo>
                  <a:lnTo>
                    <a:pt x="1754" y="1170"/>
                  </a:lnTo>
                  <a:lnTo>
                    <a:pt x="1762" y="1192"/>
                  </a:lnTo>
                  <a:lnTo>
                    <a:pt x="1778" y="1214"/>
                  </a:lnTo>
                  <a:lnTo>
                    <a:pt x="1786" y="1218"/>
                  </a:lnTo>
                  <a:lnTo>
                    <a:pt x="1784" y="1228"/>
                  </a:lnTo>
                  <a:lnTo>
                    <a:pt x="1784" y="1268"/>
                  </a:lnTo>
                  <a:lnTo>
                    <a:pt x="1756" y="1308"/>
                  </a:lnTo>
                  <a:lnTo>
                    <a:pt x="1736" y="1330"/>
                  </a:lnTo>
                  <a:lnTo>
                    <a:pt x="1726" y="1334"/>
                  </a:lnTo>
                  <a:lnTo>
                    <a:pt x="1684" y="1338"/>
                  </a:lnTo>
                  <a:lnTo>
                    <a:pt x="1668" y="1350"/>
                  </a:lnTo>
                  <a:lnTo>
                    <a:pt x="1644" y="1362"/>
                  </a:lnTo>
                  <a:lnTo>
                    <a:pt x="1626" y="1388"/>
                  </a:lnTo>
                  <a:lnTo>
                    <a:pt x="1614" y="1396"/>
                  </a:lnTo>
                  <a:lnTo>
                    <a:pt x="1538" y="1406"/>
                  </a:lnTo>
                  <a:lnTo>
                    <a:pt x="1498" y="1414"/>
                  </a:lnTo>
                  <a:lnTo>
                    <a:pt x="1448" y="1434"/>
                  </a:lnTo>
                  <a:lnTo>
                    <a:pt x="1440" y="1450"/>
                  </a:lnTo>
                  <a:lnTo>
                    <a:pt x="1434" y="1452"/>
                  </a:lnTo>
                  <a:lnTo>
                    <a:pt x="1372" y="1448"/>
                  </a:lnTo>
                  <a:lnTo>
                    <a:pt x="1326" y="1430"/>
                  </a:lnTo>
                  <a:lnTo>
                    <a:pt x="1270" y="1392"/>
                  </a:lnTo>
                  <a:lnTo>
                    <a:pt x="1212" y="1384"/>
                  </a:lnTo>
                  <a:lnTo>
                    <a:pt x="1196" y="1376"/>
                  </a:lnTo>
                  <a:lnTo>
                    <a:pt x="1184" y="1376"/>
                  </a:lnTo>
                  <a:lnTo>
                    <a:pt x="1182" y="1378"/>
                  </a:lnTo>
                  <a:lnTo>
                    <a:pt x="1182" y="1408"/>
                  </a:lnTo>
                  <a:lnTo>
                    <a:pt x="1194" y="1436"/>
                  </a:lnTo>
                  <a:lnTo>
                    <a:pt x="1220" y="1450"/>
                  </a:lnTo>
                  <a:lnTo>
                    <a:pt x="1254" y="1474"/>
                  </a:lnTo>
                  <a:lnTo>
                    <a:pt x="1258" y="1482"/>
                  </a:lnTo>
                  <a:lnTo>
                    <a:pt x="1256" y="1520"/>
                  </a:lnTo>
                  <a:lnTo>
                    <a:pt x="1246" y="1562"/>
                  </a:lnTo>
                  <a:lnTo>
                    <a:pt x="1244" y="1580"/>
                  </a:lnTo>
                  <a:lnTo>
                    <a:pt x="1246" y="1600"/>
                  </a:lnTo>
                  <a:lnTo>
                    <a:pt x="1258" y="1654"/>
                  </a:lnTo>
                  <a:lnTo>
                    <a:pt x="1260" y="1680"/>
                  </a:lnTo>
                  <a:lnTo>
                    <a:pt x="1266" y="1700"/>
                  </a:lnTo>
                  <a:lnTo>
                    <a:pt x="1304" y="1706"/>
                  </a:lnTo>
                  <a:lnTo>
                    <a:pt x="1312" y="1712"/>
                  </a:lnTo>
                  <a:lnTo>
                    <a:pt x="1378" y="1706"/>
                  </a:lnTo>
                  <a:lnTo>
                    <a:pt x="1376" y="1734"/>
                  </a:lnTo>
                  <a:lnTo>
                    <a:pt x="1376" y="1738"/>
                  </a:lnTo>
                  <a:lnTo>
                    <a:pt x="1370" y="1748"/>
                  </a:lnTo>
                  <a:lnTo>
                    <a:pt x="1340" y="1756"/>
                  </a:lnTo>
                  <a:lnTo>
                    <a:pt x="1322" y="1768"/>
                  </a:lnTo>
                  <a:lnTo>
                    <a:pt x="1318" y="1774"/>
                  </a:lnTo>
                  <a:lnTo>
                    <a:pt x="1304" y="1784"/>
                  </a:lnTo>
                  <a:lnTo>
                    <a:pt x="1284" y="1786"/>
                  </a:lnTo>
                  <a:lnTo>
                    <a:pt x="1268" y="1806"/>
                  </a:lnTo>
                  <a:lnTo>
                    <a:pt x="1254" y="1854"/>
                  </a:lnTo>
                  <a:lnTo>
                    <a:pt x="1244" y="1864"/>
                  </a:lnTo>
                  <a:lnTo>
                    <a:pt x="1228" y="1872"/>
                  </a:lnTo>
                  <a:lnTo>
                    <a:pt x="1216" y="1872"/>
                  </a:lnTo>
                  <a:lnTo>
                    <a:pt x="1202" y="1882"/>
                  </a:lnTo>
                  <a:lnTo>
                    <a:pt x="1196" y="1886"/>
                  </a:lnTo>
                  <a:lnTo>
                    <a:pt x="1188" y="1900"/>
                  </a:lnTo>
                  <a:lnTo>
                    <a:pt x="1166" y="1902"/>
                  </a:lnTo>
                  <a:lnTo>
                    <a:pt x="1134" y="1916"/>
                  </a:lnTo>
                  <a:lnTo>
                    <a:pt x="1128" y="1916"/>
                  </a:lnTo>
                  <a:lnTo>
                    <a:pt x="1108" y="1930"/>
                  </a:lnTo>
                  <a:lnTo>
                    <a:pt x="1086" y="1940"/>
                  </a:lnTo>
                  <a:lnTo>
                    <a:pt x="1072" y="1950"/>
                  </a:lnTo>
                  <a:lnTo>
                    <a:pt x="1054" y="1974"/>
                  </a:lnTo>
                  <a:lnTo>
                    <a:pt x="1046" y="1978"/>
                  </a:lnTo>
                  <a:lnTo>
                    <a:pt x="998" y="1990"/>
                  </a:lnTo>
                  <a:lnTo>
                    <a:pt x="954" y="1990"/>
                  </a:lnTo>
                  <a:lnTo>
                    <a:pt x="948" y="1986"/>
                  </a:lnTo>
                  <a:lnTo>
                    <a:pt x="942" y="1986"/>
                  </a:lnTo>
                  <a:lnTo>
                    <a:pt x="908" y="1958"/>
                  </a:lnTo>
                  <a:lnTo>
                    <a:pt x="900" y="1946"/>
                  </a:lnTo>
                  <a:lnTo>
                    <a:pt x="890" y="1932"/>
                  </a:lnTo>
                  <a:lnTo>
                    <a:pt x="884" y="1916"/>
                  </a:lnTo>
                  <a:lnTo>
                    <a:pt x="872" y="1892"/>
                  </a:lnTo>
                  <a:lnTo>
                    <a:pt x="858" y="1866"/>
                  </a:lnTo>
                  <a:lnTo>
                    <a:pt x="850" y="1828"/>
                  </a:lnTo>
                  <a:lnTo>
                    <a:pt x="812" y="1714"/>
                  </a:lnTo>
                  <a:lnTo>
                    <a:pt x="790" y="1678"/>
                  </a:lnTo>
                  <a:lnTo>
                    <a:pt x="744" y="1636"/>
                  </a:lnTo>
                  <a:lnTo>
                    <a:pt x="746" y="1624"/>
                  </a:lnTo>
                  <a:lnTo>
                    <a:pt x="778" y="1588"/>
                  </a:lnTo>
                  <a:lnTo>
                    <a:pt x="792" y="1566"/>
                  </a:lnTo>
                  <a:lnTo>
                    <a:pt x="798" y="1562"/>
                  </a:lnTo>
                  <a:lnTo>
                    <a:pt x="806" y="1552"/>
                  </a:lnTo>
                  <a:lnTo>
                    <a:pt x="816" y="1544"/>
                  </a:lnTo>
                  <a:lnTo>
                    <a:pt x="818" y="1538"/>
                  </a:lnTo>
                  <a:lnTo>
                    <a:pt x="818" y="1514"/>
                  </a:lnTo>
                  <a:lnTo>
                    <a:pt x="808" y="1500"/>
                  </a:lnTo>
                  <a:lnTo>
                    <a:pt x="798" y="1472"/>
                  </a:lnTo>
                  <a:lnTo>
                    <a:pt x="780" y="1446"/>
                  </a:lnTo>
                  <a:lnTo>
                    <a:pt x="760" y="1430"/>
                  </a:lnTo>
                  <a:lnTo>
                    <a:pt x="756" y="1422"/>
                  </a:lnTo>
                  <a:lnTo>
                    <a:pt x="754" y="1390"/>
                  </a:lnTo>
                  <a:lnTo>
                    <a:pt x="750" y="1370"/>
                  </a:lnTo>
                  <a:lnTo>
                    <a:pt x="750" y="1342"/>
                  </a:lnTo>
                  <a:lnTo>
                    <a:pt x="740" y="1320"/>
                  </a:lnTo>
                  <a:lnTo>
                    <a:pt x="740" y="1280"/>
                  </a:lnTo>
                  <a:lnTo>
                    <a:pt x="750" y="1262"/>
                  </a:lnTo>
                  <a:lnTo>
                    <a:pt x="760" y="1230"/>
                  </a:lnTo>
                  <a:lnTo>
                    <a:pt x="760" y="1198"/>
                  </a:lnTo>
                  <a:lnTo>
                    <a:pt x="786" y="1162"/>
                  </a:lnTo>
                  <a:lnTo>
                    <a:pt x="786" y="1120"/>
                  </a:lnTo>
                  <a:lnTo>
                    <a:pt x="794" y="1106"/>
                  </a:lnTo>
                  <a:lnTo>
                    <a:pt x="812" y="1086"/>
                  </a:lnTo>
                  <a:lnTo>
                    <a:pt x="812" y="1072"/>
                  </a:lnTo>
                  <a:lnTo>
                    <a:pt x="806" y="1044"/>
                  </a:lnTo>
                  <a:lnTo>
                    <a:pt x="798" y="1038"/>
                  </a:lnTo>
                  <a:lnTo>
                    <a:pt x="790" y="1034"/>
                  </a:lnTo>
                  <a:lnTo>
                    <a:pt x="764" y="1036"/>
                  </a:lnTo>
                  <a:lnTo>
                    <a:pt x="710" y="1062"/>
                  </a:lnTo>
                  <a:lnTo>
                    <a:pt x="682" y="1068"/>
                  </a:lnTo>
                  <a:lnTo>
                    <a:pt x="664" y="1068"/>
                  </a:lnTo>
                  <a:lnTo>
                    <a:pt x="640" y="1064"/>
                  </a:lnTo>
                  <a:lnTo>
                    <a:pt x="628" y="1060"/>
                  </a:lnTo>
                  <a:lnTo>
                    <a:pt x="616" y="1050"/>
                  </a:lnTo>
                  <a:lnTo>
                    <a:pt x="602" y="1046"/>
                  </a:lnTo>
                  <a:lnTo>
                    <a:pt x="580" y="1054"/>
                  </a:lnTo>
                  <a:lnTo>
                    <a:pt x="574" y="1062"/>
                  </a:lnTo>
                  <a:lnTo>
                    <a:pt x="558" y="1064"/>
                  </a:lnTo>
                  <a:lnTo>
                    <a:pt x="534" y="1062"/>
                  </a:lnTo>
                  <a:lnTo>
                    <a:pt x="528" y="1054"/>
                  </a:lnTo>
                  <a:lnTo>
                    <a:pt x="524" y="1054"/>
                  </a:lnTo>
                  <a:lnTo>
                    <a:pt x="454" y="926"/>
                  </a:lnTo>
                  <a:lnTo>
                    <a:pt x="452" y="916"/>
                  </a:lnTo>
                  <a:lnTo>
                    <a:pt x="446" y="912"/>
                  </a:lnTo>
                  <a:lnTo>
                    <a:pt x="418" y="904"/>
                  </a:lnTo>
                  <a:lnTo>
                    <a:pt x="402" y="892"/>
                  </a:lnTo>
                  <a:lnTo>
                    <a:pt x="372" y="878"/>
                  </a:lnTo>
                  <a:lnTo>
                    <a:pt x="326" y="880"/>
                  </a:lnTo>
                  <a:lnTo>
                    <a:pt x="278" y="896"/>
                  </a:lnTo>
                  <a:lnTo>
                    <a:pt x="252" y="900"/>
                  </a:lnTo>
                  <a:lnTo>
                    <a:pt x="214" y="896"/>
                  </a:lnTo>
                  <a:lnTo>
                    <a:pt x="172" y="874"/>
                  </a:lnTo>
                  <a:lnTo>
                    <a:pt x="162" y="852"/>
                  </a:lnTo>
                  <a:lnTo>
                    <a:pt x="154" y="844"/>
                  </a:lnTo>
                  <a:lnTo>
                    <a:pt x="120" y="826"/>
                  </a:lnTo>
                  <a:lnTo>
                    <a:pt x="118" y="818"/>
                  </a:lnTo>
                  <a:lnTo>
                    <a:pt x="126" y="714"/>
                  </a:lnTo>
                  <a:lnTo>
                    <a:pt x="120" y="686"/>
                  </a:lnTo>
                  <a:lnTo>
                    <a:pt x="114" y="666"/>
                  </a:lnTo>
                  <a:lnTo>
                    <a:pt x="104" y="656"/>
                  </a:lnTo>
                  <a:lnTo>
                    <a:pt x="100" y="646"/>
                  </a:lnTo>
                  <a:lnTo>
                    <a:pt x="82" y="620"/>
                  </a:lnTo>
                  <a:lnTo>
                    <a:pt x="78" y="606"/>
                  </a:lnTo>
                  <a:lnTo>
                    <a:pt x="72" y="546"/>
                  </a:lnTo>
                  <a:lnTo>
                    <a:pt x="66" y="526"/>
                  </a:lnTo>
                  <a:lnTo>
                    <a:pt x="62" y="520"/>
                  </a:lnTo>
                  <a:lnTo>
                    <a:pt x="0" y="522"/>
                  </a:lnTo>
                  <a:lnTo>
                    <a:pt x="20" y="478"/>
                  </a:lnTo>
                  <a:lnTo>
                    <a:pt x="46" y="434"/>
                  </a:lnTo>
                  <a:lnTo>
                    <a:pt x="86" y="292"/>
                  </a:lnTo>
                  <a:lnTo>
                    <a:pt x="128" y="224"/>
                  </a:lnTo>
                  <a:lnTo>
                    <a:pt x="198" y="148"/>
                  </a:lnTo>
                  <a:lnTo>
                    <a:pt x="210" y="134"/>
                  </a:lnTo>
                  <a:lnTo>
                    <a:pt x="226" y="102"/>
                  </a:lnTo>
                  <a:lnTo>
                    <a:pt x="240" y="88"/>
                  </a:lnTo>
                  <a:lnTo>
                    <a:pt x="280" y="66"/>
                  </a:lnTo>
                  <a:lnTo>
                    <a:pt x="320" y="6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13720" y="4704120"/>
              <a:ext cx="140400" cy="188640"/>
            </a:xfrm>
            <a:custGeom>
              <a:avLst/>
              <a:gdLst/>
              <a:ahLst/>
              <a:rect l="l" t="t" r="r" b="b"/>
              <a:pathLst>
                <a:path w="810" h="1110">
                  <a:moveTo>
                    <a:pt x="282" y="0"/>
                  </a:moveTo>
                  <a:lnTo>
                    <a:pt x="288" y="10"/>
                  </a:lnTo>
                  <a:lnTo>
                    <a:pt x="300" y="20"/>
                  </a:lnTo>
                  <a:lnTo>
                    <a:pt x="382" y="60"/>
                  </a:lnTo>
                  <a:lnTo>
                    <a:pt x="458" y="108"/>
                  </a:lnTo>
                  <a:lnTo>
                    <a:pt x="490" y="138"/>
                  </a:lnTo>
                  <a:lnTo>
                    <a:pt x="498" y="154"/>
                  </a:lnTo>
                  <a:lnTo>
                    <a:pt x="504" y="186"/>
                  </a:lnTo>
                  <a:lnTo>
                    <a:pt x="508" y="198"/>
                  </a:lnTo>
                  <a:lnTo>
                    <a:pt x="540" y="202"/>
                  </a:lnTo>
                  <a:lnTo>
                    <a:pt x="566" y="194"/>
                  </a:lnTo>
                  <a:lnTo>
                    <a:pt x="576" y="194"/>
                  </a:lnTo>
                  <a:lnTo>
                    <a:pt x="630" y="202"/>
                  </a:lnTo>
                  <a:lnTo>
                    <a:pt x="656" y="202"/>
                  </a:lnTo>
                  <a:lnTo>
                    <a:pt x="662" y="196"/>
                  </a:lnTo>
                  <a:lnTo>
                    <a:pt x="672" y="178"/>
                  </a:lnTo>
                  <a:lnTo>
                    <a:pt x="684" y="176"/>
                  </a:lnTo>
                  <a:lnTo>
                    <a:pt x="704" y="184"/>
                  </a:lnTo>
                  <a:lnTo>
                    <a:pt x="720" y="202"/>
                  </a:lnTo>
                  <a:lnTo>
                    <a:pt x="736" y="210"/>
                  </a:lnTo>
                  <a:lnTo>
                    <a:pt x="776" y="246"/>
                  </a:lnTo>
                  <a:lnTo>
                    <a:pt x="792" y="248"/>
                  </a:lnTo>
                  <a:lnTo>
                    <a:pt x="786" y="256"/>
                  </a:lnTo>
                  <a:lnTo>
                    <a:pt x="756" y="256"/>
                  </a:lnTo>
                  <a:lnTo>
                    <a:pt x="754" y="282"/>
                  </a:lnTo>
                  <a:lnTo>
                    <a:pt x="766" y="288"/>
                  </a:lnTo>
                  <a:lnTo>
                    <a:pt x="772" y="298"/>
                  </a:lnTo>
                  <a:lnTo>
                    <a:pt x="786" y="336"/>
                  </a:lnTo>
                  <a:lnTo>
                    <a:pt x="788" y="350"/>
                  </a:lnTo>
                  <a:lnTo>
                    <a:pt x="810" y="404"/>
                  </a:lnTo>
                  <a:lnTo>
                    <a:pt x="808" y="406"/>
                  </a:lnTo>
                  <a:lnTo>
                    <a:pt x="786" y="406"/>
                  </a:lnTo>
                  <a:lnTo>
                    <a:pt x="768" y="456"/>
                  </a:lnTo>
                  <a:lnTo>
                    <a:pt x="732" y="534"/>
                  </a:lnTo>
                  <a:lnTo>
                    <a:pt x="700" y="580"/>
                  </a:lnTo>
                  <a:lnTo>
                    <a:pt x="678" y="598"/>
                  </a:lnTo>
                  <a:lnTo>
                    <a:pt x="654" y="630"/>
                  </a:lnTo>
                  <a:lnTo>
                    <a:pt x="630" y="668"/>
                  </a:lnTo>
                  <a:lnTo>
                    <a:pt x="608" y="688"/>
                  </a:lnTo>
                  <a:lnTo>
                    <a:pt x="566" y="710"/>
                  </a:lnTo>
                  <a:lnTo>
                    <a:pt x="472" y="746"/>
                  </a:lnTo>
                  <a:lnTo>
                    <a:pt x="426" y="772"/>
                  </a:lnTo>
                  <a:lnTo>
                    <a:pt x="408" y="786"/>
                  </a:lnTo>
                  <a:lnTo>
                    <a:pt x="400" y="796"/>
                  </a:lnTo>
                  <a:lnTo>
                    <a:pt x="388" y="826"/>
                  </a:lnTo>
                  <a:lnTo>
                    <a:pt x="386" y="856"/>
                  </a:lnTo>
                  <a:lnTo>
                    <a:pt x="378" y="864"/>
                  </a:lnTo>
                  <a:lnTo>
                    <a:pt x="372" y="864"/>
                  </a:lnTo>
                  <a:lnTo>
                    <a:pt x="362" y="854"/>
                  </a:lnTo>
                  <a:lnTo>
                    <a:pt x="356" y="854"/>
                  </a:lnTo>
                  <a:lnTo>
                    <a:pt x="356" y="858"/>
                  </a:lnTo>
                  <a:lnTo>
                    <a:pt x="322" y="920"/>
                  </a:lnTo>
                  <a:lnTo>
                    <a:pt x="316" y="966"/>
                  </a:lnTo>
                  <a:lnTo>
                    <a:pt x="318" y="1032"/>
                  </a:lnTo>
                  <a:lnTo>
                    <a:pt x="312" y="1054"/>
                  </a:lnTo>
                  <a:lnTo>
                    <a:pt x="308" y="1060"/>
                  </a:lnTo>
                  <a:lnTo>
                    <a:pt x="286" y="1072"/>
                  </a:lnTo>
                  <a:lnTo>
                    <a:pt x="268" y="1094"/>
                  </a:lnTo>
                  <a:lnTo>
                    <a:pt x="240" y="1110"/>
                  </a:lnTo>
                  <a:lnTo>
                    <a:pt x="218" y="1106"/>
                  </a:lnTo>
                  <a:lnTo>
                    <a:pt x="206" y="1084"/>
                  </a:lnTo>
                  <a:lnTo>
                    <a:pt x="200" y="1062"/>
                  </a:lnTo>
                  <a:lnTo>
                    <a:pt x="184" y="1036"/>
                  </a:lnTo>
                  <a:lnTo>
                    <a:pt x="168" y="1034"/>
                  </a:lnTo>
                  <a:lnTo>
                    <a:pt x="142" y="1036"/>
                  </a:lnTo>
                  <a:lnTo>
                    <a:pt x="134" y="1022"/>
                  </a:lnTo>
                  <a:lnTo>
                    <a:pt x="122" y="1014"/>
                  </a:lnTo>
                  <a:lnTo>
                    <a:pt x="98" y="1012"/>
                  </a:lnTo>
                  <a:lnTo>
                    <a:pt x="78" y="1028"/>
                  </a:lnTo>
                  <a:lnTo>
                    <a:pt x="64" y="1032"/>
                  </a:lnTo>
                  <a:lnTo>
                    <a:pt x="60" y="1026"/>
                  </a:lnTo>
                  <a:lnTo>
                    <a:pt x="56" y="982"/>
                  </a:lnTo>
                  <a:lnTo>
                    <a:pt x="46" y="966"/>
                  </a:lnTo>
                  <a:lnTo>
                    <a:pt x="46" y="958"/>
                  </a:lnTo>
                  <a:lnTo>
                    <a:pt x="56" y="944"/>
                  </a:lnTo>
                  <a:lnTo>
                    <a:pt x="82" y="934"/>
                  </a:lnTo>
                  <a:lnTo>
                    <a:pt x="94" y="916"/>
                  </a:lnTo>
                  <a:lnTo>
                    <a:pt x="90" y="890"/>
                  </a:lnTo>
                  <a:lnTo>
                    <a:pt x="84" y="884"/>
                  </a:lnTo>
                  <a:lnTo>
                    <a:pt x="78" y="852"/>
                  </a:lnTo>
                  <a:lnTo>
                    <a:pt x="76" y="852"/>
                  </a:lnTo>
                  <a:lnTo>
                    <a:pt x="76" y="842"/>
                  </a:lnTo>
                  <a:lnTo>
                    <a:pt x="84" y="832"/>
                  </a:lnTo>
                  <a:lnTo>
                    <a:pt x="110" y="820"/>
                  </a:lnTo>
                  <a:lnTo>
                    <a:pt x="124" y="808"/>
                  </a:lnTo>
                  <a:lnTo>
                    <a:pt x="142" y="782"/>
                  </a:lnTo>
                  <a:lnTo>
                    <a:pt x="146" y="766"/>
                  </a:lnTo>
                  <a:lnTo>
                    <a:pt x="154" y="690"/>
                  </a:lnTo>
                  <a:lnTo>
                    <a:pt x="148" y="668"/>
                  </a:lnTo>
                  <a:lnTo>
                    <a:pt x="138" y="662"/>
                  </a:lnTo>
                  <a:lnTo>
                    <a:pt x="134" y="620"/>
                  </a:lnTo>
                  <a:lnTo>
                    <a:pt x="118" y="638"/>
                  </a:lnTo>
                  <a:lnTo>
                    <a:pt x="98" y="676"/>
                  </a:lnTo>
                  <a:lnTo>
                    <a:pt x="80" y="700"/>
                  </a:lnTo>
                  <a:lnTo>
                    <a:pt x="68" y="696"/>
                  </a:lnTo>
                  <a:lnTo>
                    <a:pt x="54" y="676"/>
                  </a:lnTo>
                  <a:lnTo>
                    <a:pt x="30" y="664"/>
                  </a:lnTo>
                  <a:lnTo>
                    <a:pt x="4" y="640"/>
                  </a:lnTo>
                  <a:lnTo>
                    <a:pt x="0" y="560"/>
                  </a:lnTo>
                  <a:lnTo>
                    <a:pt x="0" y="532"/>
                  </a:lnTo>
                  <a:lnTo>
                    <a:pt x="2" y="504"/>
                  </a:lnTo>
                  <a:lnTo>
                    <a:pt x="0" y="422"/>
                  </a:lnTo>
                  <a:lnTo>
                    <a:pt x="8" y="408"/>
                  </a:lnTo>
                  <a:lnTo>
                    <a:pt x="40" y="390"/>
                  </a:lnTo>
                  <a:lnTo>
                    <a:pt x="62" y="360"/>
                  </a:lnTo>
                  <a:lnTo>
                    <a:pt x="62" y="314"/>
                  </a:lnTo>
                  <a:lnTo>
                    <a:pt x="68" y="288"/>
                  </a:lnTo>
                  <a:lnTo>
                    <a:pt x="102" y="236"/>
                  </a:lnTo>
                  <a:lnTo>
                    <a:pt x="112" y="212"/>
                  </a:lnTo>
                  <a:lnTo>
                    <a:pt x="112" y="196"/>
                  </a:lnTo>
                  <a:lnTo>
                    <a:pt x="104" y="154"/>
                  </a:lnTo>
                  <a:lnTo>
                    <a:pt x="106" y="110"/>
                  </a:lnTo>
                  <a:lnTo>
                    <a:pt x="120" y="90"/>
                  </a:lnTo>
                  <a:lnTo>
                    <a:pt x="168" y="90"/>
                  </a:lnTo>
                  <a:lnTo>
                    <a:pt x="174" y="88"/>
                  </a:lnTo>
                  <a:lnTo>
                    <a:pt x="184" y="80"/>
                  </a:lnTo>
                  <a:lnTo>
                    <a:pt x="210" y="48"/>
                  </a:lnTo>
                  <a:lnTo>
                    <a:pt x="228" y="36"/>
                  </a:lnTo>
                  <a:lnTo>
                    <a:pt x="252" y="32"/>
                  </a:lnTo>
                  <a:lnTo>
                    <a:pt x="266" y="24"/>
                  </a:lnTo>
                  <a:lnTo>
                    <a:pt x="278" y="10"/>
                  </a:lnTo>
                  <a:lnTo>
                    <a:pt x="28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3040" y="5308560"/>
              <a:ext cx="212400" cy="239040"/>
            </a:xfrm>
            <a:custGeom>
              <a:avLst/>
              <a:gdLst/>
              <a:ahLst/>
              <a:rect l="l" t="t" r="r" b="b"/>
              <a:pathLst>
                <a:path w="1216" h="1404">
                  <a:moveTo>
                    <a:pt x="0" y="536"/>
                  </a:moveTo>
                  <a:lnTo>
                    <a:pt x="14" y="492"/>
                  </a:lnTo>
                  <a:lnTo>
                    <a:pt x="26" y="376"/>
                  </a:lnTo>
                  <a:lnTo>
                    <a:pt x="22" y="356"/>
                  </a:lnTo>
                  <a:lnTo>
                    <a:pt x="16" y="340"/>
                  </a:lnTo>
                  <a:lnTo>
                    <a:pt x="6" y="266"/>
                  </a:lnTo>
                  <a:lnTo>
                    <a:pt x="6" y="258"/>
                  </a:lnTo>
                  <a:lnTo>
                    <a:pt x="26" y="202"/>
                  </a:lnTo>
                  <a:lnTo>
                    <a:pt x="48" y="156"/>
                  </a:lnTo>
                  <a:lnTo>
                    <a:pt x="50" y="112"/>
                  </a:lnTo>
                  <a:lnTo>
                    <a:pt x="54" y="94"/>
                  </a:lnTo>
                  <a:lnTo>
                    <a:pt x="98" y="80"/>
                  </a:lnTo>
                  <a:lnTo>
                    <a:pt x="230" y="28"/>
                  </a:lnTo>
                  <a:lnTo>
                    <a:pt x="240" y="28"/>
                  </a:lnTo>
                  <a:lnTo>
                    <a:pt x="314" y="2"/>
                  </a:lnTo>
                  <a:lnTo>
                    <a:pt x="326" y="0"/>
                  </a:lnTo>
                  <a:lnTo>
                    <a:pt x="432" y="0"/>
                  </a:lnTo>
                  <a:lnTo>
                    <a:pt x="470" y="10"/>
                  </a:lnTo>
                  <a:lnTo>
                    <a:pt x="498" y="28"/>
                  </a:lnTo>
                  <a:lnTo>
                    <a:pt x="524" y="54"/>
                  </a:lnTo>
                  <a:lnTo>
                    <a:pt x="570" y="114"/>
                  </a:lnTo>
                  <a:lnTo>
                    <a:pt x="574" y="126"/>
                  </a:lnTo>
                  <a:lnTo>
                    <a:pt x="594" y="144"/>
                  </a:lnTo>
                  <a:lnTo>
                    <a:pt x="590" y="158"/>
                  </a:lnTo>
                  <a:lnTo>
                    <a:pt x="590" y="166"/>
                  </a:lnTo>
                  <a:lnTo>
                    <a:pt x="616" y="206"/>
                  </a:lnTo>
                  <a:lnTo>
                    <a:pt x="618" y="214"/>
                  </a:lnTo>
                  <a:lnTo>
                    <a:pt x="638" y="352"/>
                  </a:lnTo>
                  <a:lnTo>
                    <a:pt x="650" y="450"/>
                  </a:lnTo>
                  <a:lnTo>
                    <a:pt x="664" y="474"/>
                  </a:lnTo>
                  <a:lnTo>
                    <a:pt x="678" y="482"/>
                  </a:lnTo>
                  <a:lnTo>
                    <a:pt x="718" y="492"/>
                  </a:lnTo>
                  <a:lnTo>
                    <a:pt x="738" y="502"/>
                  </a:lnTo>
                  <a:lnTo>
                    <a:pt x="782" y="510"/>
                  </a:lnTo>
                  <a:lnTo>
                    <a:pt x="812" y="510"/>
                  </a:lnTo>
                  <a:lnTo>
                    <a:pt x="846" y="504"/>
                  </a:lnTo>
                  <a:lnTo>
                    <a:pt x="856" y="496"/>
                  </a:lnTo>
                  <a:lnTo>
                    <a:pt x="876" y="488"/>
                  </a:lnTo>
                  <a:lnTo>
                    <a:pt x="894" y="500"/>
                  </a:lnTo>
                  <a:lnTo>
                    <a:pt x="954" y="520"/>
                  </a:lnTo>
                  <a:lnTo>
                    <a:pt x="972" y="546"/>
                  </a:lnTo>
                  <a:lnTo>
                    <a:pt x="978" y="562"/>
                  </a:lnTo>
                  <a:lnTo>
                    <a:pt x="996" y="628"/>
                  </a:lnTo>
                  <a:lnTo>
                    <a:pt x="1008" y="664"/>
                  </a:lnTo>
                  <a:lnTo>
                    <a:pt x="1016" y="736"/>
                  </a:lnTo>
                  <a:lnTo>
                    <a:pt x="1022" y="750"/>
                  </a:lnTo>
                  <a:lnTo>
                    <a:pt x="1038" y="770"/>
                  </a:lnTo>
                  <a:lnTo>
                    <a:pt x="1058" y="784"/>
                  </a:lnTo>
                  <a:lnTo>
                    <a:pt x="1076" y="790"/>
                  </a:lnTo>
                  <a:lnTo>
                    <a:pt x="1102" y="790"/>
                  </a:lnTo>
                  <a:lnTo>
                    <a:pt x="1114" y="784"/>
                  </a:lnTo>
                  <a:lnTo>
                    <a:pt x="1146" y="782"/>
                  </a:lnTo>
                  <a:lnTo>
                    <a:pt x="1168" y="774"/>
                  </a:lnTo>
                  <a:lnTo>
                    <a:pt x="1182" y="786"/>
                  </a:lnTo>
                  <a:lnTo>
                    <a:pt x="1200" y="814"/>
                  </a:lnTo>
                  <a:lnTo>
                    <a:pt x="1210" y="882"/>
                  </a:lnTo>
                  <a:lnTo>
                    <a:pt x="1206" y="892"/>
                  </a:lnTo>
                  <a:lnTo>
                    <a:pt x="1204" y="940"/>
                  </a:lnTo>
                  <a:lnTo>
                    <a:pt x="1206" y="1014"/>
                  </a:lnTo>
                  <a:lnTo>
                    <a:pt x="1212" y="1070"/>
                  </a:lnTo>
                  <a:lnTo>
                    <a:pt x="1216" y="1154"/>
                  </a:lnTo>
                  <a:lnTo>
                    <a:pt x="1214" y="1198"/>
                  </a:lnTo>
                  <a:lnTo>
                    <a:pt x="1210" y="1224"/>
                  </a:lnTo>
                  <a:lnTo>
                    <a:pt x="1198" y="1250"/>
                  </a:lnTo>
                  <a:lnTo>
                    <a:pt x="1182" y="1278"/>
                  </a:lnTo>
                  <a:lnTo>
                    <a:pt x="1152" y="1310"/>
                  </a:lnTo>
                  <a:lnTo>
                    <a:pt x="1148" y="1318"/>
                  </a:lnTo>
                  <a:lnTo>
                    <a:pt x="1138" y="1324"/>
                  </a:lnTo>
                  <a:lnTo>
                    <a:pt x="1108" y="1354"/>
                  </a:lnTo>
                  <a:lnTo>
                    <a:pt x="1104" y="1366"/>
                  </a:lnTo>
                  <a:lnTo>
                    <a:pt x="1100" y="1370"/>
                  </a:lnTo>
                  <a:lnTo>
                    <a:pt x="1080" y="1376"/>
                  </a:lnTo>
                  <a:lnTo>
                    <a:pt x="1044" y="1374"/>
                  </a:lnTo>
                  <a:lnTo>
                    <a:pt x="1026" y="1384"/>
                  </a:lnTo>
                  <a:lnTo>
                    <a:pt x="1018" y="1396"/>
                  </a:lnTo>
                  <a:lnTo>
                    <a:pt x="1002" y="1402"/>
                  </a:lnTo>
                  <a:lnTo>
                    <a:pt x="984" y="1404"/>
                  </a:lnTo>
                  <a:lnTo>
                    <a:pt x="970" y="1400"/>
                  </a:lnTo>
                  <a:lnTo>
                    <a:pt x="948" y="1402"/>
                  </a:lnTo>
                  <a:lnTo>
                    <a:pt x="920" y="1394"/>
                  </a:lnTo>
                  <a:lnTo>
                    <a:pt x="874" y="1366"/>
                  </a:lnTo>
                  <a:lnTo>
                    <a:pt x="858" y="1360"/>
                  </a:lnTo>
                  <a:lnTo>
                    <a:pt x="774" y="1346"/>
                  </a:lnTo>
                  <a:lnTo>
                    <a:pt x="720" y="1348"/>
                  </a:lnTo>
                  <a:lnTo>
                    <a:pt x="714" y="1340"/>
                  </a:lnTo>
                  <a:lnTo>
                    <a:pt x="712" y="1322"/>
                  </a:lnTo>
                  <a:lnTo>
                    <a:pt x="712" y="1296"/>
                  </a:lnTo>
                  <a:lnTo>
                    <a:pt x="714" y="1272"/>
                  </a:lnTo>
                  <a:lnTo>
                    <a:pt x="730" y="1204"/>
                  </a:lnTo>
                  <a:lnTo>
                    <a:pt x="758" y="1142"/>
                  </a:lnTo>
                  <a:lnTo>
                    <a:pt x="772" y="1102"/>
                  </a:lnTo>
                  <a:lnTo>
                    <a:pt x="768" y="1074"/>
                  </a:lnTo>
                  <a:lnTo>
                    <a:pt x="760" y="1048"/>
                  </a:lnTo>
                  <a:lnTo>
                    <a:pt x="752" y="1036"/>
                  </a:lnTo>
                  <a:lnTo>
                    <a:pt x="744" y="1032"/>
                  </a:lnTo>
                  <a:lnTo>
                    <a:pt x="726" y="1008"/>
                  </a:lnTo>
                  <a:lnTo>
                    <a:pt x="704" y="994"/>
                  </a:lnTo>
                  <a:lnTo>
                    <a:pt x="668" y="982"/>
                  </a:lnTo>
                  <a:lnTo>
                    <a:pt x="640" y="950"/>
                  </a:lnTo>
                  <a:lnTo>
                    <a:pt x="598" y="926"/>
                  </a:lnTo>
                  <a:lnTo>
                    <a:pt x="556" y="908"/>
                  </a:lnTo>
                  <a:lnTo>
                    <a:pt x="482" y="856"/>
                  </a:lnTo>
                  <a:lnTo>
                    <a:pt x="466" y="848"/>
                  </a:lnTo>
                  <a:lnTo>
                    <a:pt x="434" y="838"/>
                  </a:lnTo>
                  <a:lnTo>
                    <a:pt x="364" y="836"/>
                  </a:lnTo>
                  <a:lnTo>
                    <a:pt x="342" y="832"/>
                  </a:lnTo>
                  <a:lnTo>
                    <a:pt x="312" y="820"/>
                  </a:lnTo>
                  <a:lnTo>
                    <a:pt x="298" y="812"/>
                  </a:lnTo>
                  <a:lnTo>
                    <a:pt x="292" y="806"/>
                  </a:lnTo>
                  <a:lnTo>
                    <a:pt x="258" y="756"/>
                  </a:lnTo>
                  <a:lnTo>
                    <a:pt x="246" y="746"/>
                  </a:lnTo>
                  <a:lnTo>
                    <a:pt x="214" y="728"/>
                  </a:lnTo>
                  <a:lnTo>
                    <a:pt x="146" y="676"/>
                  </a:lnTo>
                  <a:lnTo>
                    <a:pt x="136" y="660"/>
                  </a:lnTo>
                  <a:lnTo>
                    <a:pt x="94" y="624"/>
                  </a:lnTo>
                  <a:lnTo>
                    <a:pt x="58" y="564"/>
                  </a:lnTo>
                  <a:lnTo>
                    <a:pt x="42" y="548"/>
                  </a:lnTo>
                  <a:lnTo>
                    <a:pt x="0" y="53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07120" y="5262480"/>
              <a:ext cx="323280" cy="1062000"/>
            </a:xfrm>
            <a:custGeom>
              <a:avLst/>
              <a:gdLst/>
              <a:ahLst/>
              <a:rect l="l" t="t" r="r" b="b"/>
              <a:pathLst>
                <a:path w="1862" h="6222">
                  <a:moveTo>
                    <a:pt x="118" y="0"/>
                  </a:moveTo>
                  <a:lnTo>
                    <a:pt x="124" y="0"/>
                  </a:lnTo>
                  <a:lnTo>
                    <a:pt x="156" y="40"/>
                  </a:lnTo>
                  <a:lnTo>
                    <a:pt x="168" y="50"/>
                  </a:lnTo>
                  <a:lnTo>
                    <a:pt x="190" y="80"/>
                  </a:lnTo>
                  <a:lnTo>
                    <a:pt x="194" y="110"/>
                  </a:lnTo>
                  <a:lnTo>
                    <a:pt x="218" y="204"/>
                  </a:lnTo>
                  <a:lnTo>
                    <a:pt x="228" y="228"/>
                  </a:lnTo>
                  <a:lnTo>
                    <a:pt x="244" y="246"/>
                  </a:lnTo>
                  <a:lnTo>
                    <a:pt x="278" y="272"/>
                  </a:lnTo>
                  <a:lnTo>
                    <a:pt x="302" y="296"/>
                  </a:lnTo>
                  <a:lnTo>
                    <a:pt x="310" y="324"/>
                  </a:lnTo>
                  <a:lnTo>
                    <a:pt x="302" y="340"/>
                  </a:lnTo>
                  <a:lnTo>
                    <a:pt x="302" y="360"/>
                  </a:lnTo>
                  <a:lnTo>
                    <a:pt x="312" y="374"/>
                  </a:lnTo>
                  <a:lnTo>
                    <a:pt x="314" y="386"/>
                  </a:lnTo>
                  <a:lnTo>
                    <a:pt x="310" y="392"/>
                  </a:lnTo>
                  <a:lnTo>
                    <a:pt x="290" y="402"/>
                  </a:lnTo>
                  <a:lnTo>
                    <a:pt x="288" y="406"/>
                  </a:lnTo>
                  <a:lnTo>
                    <a:pt x="288" y="444"/>
                  </a:lnTo>
                  <a:lnTo>
                    <a:pt x="290" y="462"/>
                  </a:lnTo>
                  <a:lnTo>
                    <a:pt x="310" y="472"/>
                  </a:lnTo>
                  <a:lnTo>
                    <a:pt x="322" y="484"/>
                  </a:lnTo>
                  <a:lnTo>
                    <a:pt x="328" y="510"/>
                  </a:lnTo>
                  <a:lnTo>
                    <a:pt x="328" y="532"/>
                  </a:lnTo>
                  <a:lnTo>
                    <a:pt x="338" y="542"/>
                  </a:lnTo>
                  <a:lnTo>
                    <a:pt x="350" y="550"/>
                  </a:lnTo>
                  <a:lnTo>
                    <a:pt x="372" y="568"/>
                  </a:lnTo>
                  <a:lnTo>
                    <a:pt x="378" y="580"/>
                  </a:lnTo>
                  <a:lnTo>
                    <a:pt x="388" y="618"/>
                  </a:lnTo>
                  <a:lnTo>
                    <a:pt x="392" y="644"/>
                  </a:lnTo>
                  <a:lnTo>
                    <a:pt x="412" y="674"/>
                  </a:lnTo>
                  <a:lnTo>
                    <a:pt x="430" y="736"/>
                  </a:lnTo>
                  <a:lnTo>
                    <a:pt x="438" y="790"/>
                  </a:lnTo>
                  <a:lnTo>
                    <a:pt x="460" y="854"/>
                  </a:lnTo>
                  <a:lnTo>
                    <a:pt x="462" y="868"/>
                  </a:lnTo>
                  <a:lnTo>
                    <a:pt x="476" y="902"/>
                  </a:lnTo>
                  <a:lnTo>
                    <a:pt x="478" y="906"/>
                  </a:lnTo>
                  <a:lnTo>
                    <a:pt x="500" y="916"/>
                  </a:lnTo>
                  <a:lnTo>
                    <a:pt x="516" y="918"/>
                  </a:lnTo>
                  <a:lnTo>
                    <a:pt x="546" y="916"/>
                  </a:lnTo>
                  <a:lnTo>
                    <a:pt x="558" y="908"/>
                  </a:lnTo>
                  <a:lnTo>
                    <a:pt x="584" y="908"/>
                  </a:lnTo>
                  <a:lnTo>
                    <a:pt x="586" y="914"/>
                  </a:lnTo>
                  <a:lnTo>
                    <a:pt x="590" y="916"/>
                  </a:lnTo>
                  <a:lnTo>
                    <a:pt x="590" y="920"/>
                  </a:lnTo>
                  <a:lnTo>
                    <a:pt x="604" y="934"/>
                  </a:lnTo>
                  <a:lnTo>
                    <a:pt x="610" y="972"/>
                  </a:lnTo>
                  <a:lnTo>
                    <a:pt x="610" y="1108"/>
                  </a:lnTo>
                  <a:lnTo>
                    <a:pt x="568" y="1130"/>
                  </a:lnTo>
                  <a:lnTo>
                    <a:pt x="460" y="1198"/>
                  </a:lnTo>
                  <a:lnTo>
                    <a:pt x="460" y="1216"/>
                  </a:lnTo>
                  <a:lnTo>
                    <a:pt x="464" y="1238"/>
                  </a:lnTo>
                  <a:lnTo>
                    <a:pt x="474" y="1266"/>
                  </a:lnTo>
                  <a:lnTo>
                    <a:pt x="480" y="1294"/>
                  </a:lnTo>
                  <a:lnTo>
                    <a:pt x="468" y="1316"/>
                  </a:lnTo>
                  <a:lnTo>
                    <a:pt x="468" y="1322"/>
                  </a:lnTo>
                  <a:lnTo>
                    <a:pt x="476" y="1368"/>
                  </a:lnTo>
                  <a:lnTo>
                    <a:pt x="494" y="1410"/>
                  </a:lnTo>
                  <a:lnTo>
                    <a:pt x="508" y="1484"/>
                  </a:lnTo>
                  <a:lnTo>
                    <a:pt x="520" y="1516"/>
                  </a:lnTo>
                  <a:lnTo>
                    <a:pt x="540" y="1556"/>
                  </a:lnTo>
                  <a:lnTo>
                    <a:pt x="550" y="1596"/>
                  </a:lnTo>
                  <a:lnTo>
                    <a:pt x="550" y="1606"/>
                  </a:lnTo>
                  <a:lnTo>
                    <a:pt x="540" y="1616"/>
                  </a:lnTo>
                  <a:lnTo>
                    <a:pt x="518" y="1626"/>
                  </a:lnTo>
                  <a:lnTo>
                    <a:pt x="488" y="1668"/>
                  </a:lnTo>
                  <a:lnTo>
                    <a:pt x="484" y="1676"/>
                  </a:lnTo>
                  <a:lnTo>
                    <a:pt x="480" y="1746"/>
                  </a:lnTo>
                  <a:lnTo>
                    <a:pt x="434" y="1826"/>
                  </a:lnTo>
                  <a:lnTo>
                    <a:pt x="432" y="1898"/>
                  </a:lnTo>
                  <a:lnTo>
                    <a:pt x="436" y="1958"/>
                  </a:lnTo>
                  <a:lnTo>
                    <a:pt x="434" y="1978"/>
                  </a:lnTo>
                  <a:lnTo>
                    <a:pt x="428" y="2014"/>
                  </a:lnTo>
                  <a:lnTo>
                    <a:pt x="428" y="2038"/>
                  </a:lnTo>
                  <a:lnTo>
                    <a:pt x="438" y="2104"/>
                  </a:lnTo>
                  <a:lnTo>
                    <a:pt x="448" y="2132"/>
                  </a:lnTo>
                  <a:lnTo>
                    <a:pt x="452" y="2158"/>
                  </a:lnTo>
                  <a:lnTo>
                    <a:pt x="454" y="2196"/>
                  </a:lnTo>
                  <a:lnTo>
                    <a:pt x="446" y="2206"/>
                  </a:lnTo>
                  <a:lnTo>
                    <a:pt x="448" y="2218"/>
                  </a:lnTo>
                  <a:lnTo>
                    <a:pt x="448" y="2234"/>
                  </a:lnTo>
                  <a:lnTo>
                    <a:pt x="438" y="2252"/>
                  </a:lnTo>
                  <a:lnTo>
                    <a:pt x="438" y="2292"/>
                  </a:lnTo>
                  <a:lnTo>
                    <a:pt x="428" y="2332"/>
                  </a:lnTo>
                  <a:lnTo>
                    <a:pt x="426" y="2338"/>
                  </a:lnTo>
                  <a:lnTo>
                    <a:pt x="424" y="2370"/>
                  </a:lnTo>
                  <a:lnTo>
                    <a:pt x="430" y="2410"/>
                  </a:lnTo>
                  <a:lnTo>
                    <a:pt x="438" y="2446"/>
                  </a:lnTo>
                  <a:lnTo>
                    <a:pt x="466" y="2470"/>
                  </a:lnTo>
                  <a:lnTo>
                    <a:pt x="484" y="2550"/>
                  </a:lnTo>
                  <a:lnTo>
                    <a:pt x="538" y="2634"/>
                  </a:lnTo>
                  <a:lnTo>
                    <a:pt x="548" y="2662"/>
                  </a:lnTo>
                  <a:lnTo>
                    <a:pt x="554" y="2694"/>
                  </a:lnTo>
                  <a:lnTo>
                    <a:pt x="576" y="2714"/>
                  </a:lnTo>
                  <a:lnTo>
                    <a:pt x="586" y="2728"/>
                  </a:lnTo>
                  <a:lnTo>
                    <a:pt x="606" y="2776"/>
                  </a:lnTo>
                  <a:lnTo>
                    <a:pt x="620" y="2824"/>
                  </a:lnTo>
                  <a:lnTo>
                    <a:pt x="630" y="2864"/>
                  </a:lnTo>
                  <a:lnTo>
                    <a:pt x="614" y="2916"/>
                  </a:lnTo>
                  <a:lnTo>
                    <a:pt x="608" y="2948"/>
                  </a:lnTo>
                  <a:lnTo>
                    <a:pt x="608" y="2966"/>
                  </a:lnTo>
                  <a:lnTo>
                    <a:pt x="616" y="3028"/>
                  </a:lnTo>
                  <a:lnTo>
                    <a:pt x="614" y="3034"/>
                  </a:lnTo>
                  <a:lnTo>
                    <a:pt x="596" y="3058"/>
                  </a:lnTo>
                  <a:lnTo>
                    <a:pt x="618" y="3136"/>
                  </a:lnTo>
                  <a:lnTo>
                    <a:pt x="638" y="3178"/>
                  </a:lnTo>
                  <a:lnTo>
                    <a:pt x="642" y="3198"/>
                  </a:lnTo>
                  <a:lnTo>
                    <a:pt x="638" y="3206"/>
                  </a:lnTo>
                  <a:lnTo>
                    <a:pt x="624" y="3214"/>
                  </a:lnTo>
                  <a:lnTo>
                    <a:pt x="620" y="3222"/>
                  </a:lnTo>
                  <a:lnTo>
                    <a:pt x="622" y="3242"/>
                  </a:lnTo>
                  <a:lnTo>
                    <a:pt x="620" y="3248"/>
                  </a:lnTo>
                  <a:lnTo>
                    <a:pt x="606" y="3250"/>
                  </a:lnTo>
                  <a:lnTo>
                    <a:pt x="598" y="3256"/>
                  </a:lnTo>
                  <a:lnTo>
                    <a:pt x="588" y="3276"/>
                  </a:lnTo>
                  <a:lnTo>
                    <a:pt x="590" y="3312"/>
                  </a:lnTo>
                  <a:lnTo>
                    <a:pt x="608" y="3410"/>
                  </a:lnTo>
                  <a:lnTo>
                    <a:pt x="634" y="3502"/>
                  </a:lnTo>
                  <a:lnTo>
                    <a:pt x="666" y="3570"/>
                  </a:lnTo>
                  <a:lnTo>
                    <a:pt x="684" y="3600"/>
                  </a:lnTo>
                  <a:lnTo>
                    <a:pt x="692" y="3630"/>
                  </a:lnTo>
                  <a:lnTo>
                    <a:pt x="692" y="3654"/>
                  </a:lnTo>
                  <a:lnTo>
                    <a:pt x="678" y="3674"/>
                  </a:lnTo>
                  <a:lnTo>
                    <a:pt x="672" y="3688"/>
                  </a:lnTo>
                  <a:lnTo>
                    <a:pt x="670" y="3702"/>
                  </a:lnTo>
                  <a:lnTo>
                    <a:pt x="674" y="3738"/>
                  </a:lnTo>
                  <a:lnTo>
                    <a:pt x="680" y="3888"/>
                  </a:lnTo>
                  <a:lnTo>
                    <a:pt x="684" y="3900"/>
                  </a:lnTo>
                  <a:lnTo>
                    <a:pt x="698" y="3938"/>
                  </a:lnTo>
                  <a:lnTo>
                    <a:pt x="708" y="4036"/>
                  </a:lnTo>
                  <a:lnTo>
                    <a:pt x="726" y="4106"/>
                  </a:lnTo>
                  <a:lnTo>
                    <a:pt x="746" y="4140"/>
                  </a:lnTo>
                  <a:lnTo>
                    <a:pt x="772" y="4158"/>
                  </a:lnTo>
                  <a:lnTo>
                    <a:pt x="778" y="4168"/>
                  </a:lnTo>
                  <a:lnTo>
                    <a:pt x="788" y="4196"/>
                  </a:lnTo>
                  <a:lnTo>
                    <a:pt x="790" y="4208"/>
                  </a:lnTo>
                  <a:lnTo>
                    <a:pt x="788" y="4226"/>
                  </a:lnTo>
                  <a:lnTo>
                    <a:pt x="776" y="4258"/>
                  </a:lnTo>
                  <a:lnTo>
                    <a:pt x="778" y="4308"/>
                  </a:lnTo>
                  <a:lnTo>
                    <a:pt x="808" y="4390"/>
                  </a:lnTo>
                  <a:lnTo>
                    <a:pt x="818" y="4402"/>
                  </a:lnTo>
                  <a:lnTo>
                    <a:pt x="830" y="4410"/>
                  </a:lnTo>
                  <a:lnTo>
                    <a:pt x="834" y="4418"/>
                  </a:lnTo>
                  <a:lnTo>
                    <a:pt x="854" y="4480"/>
                  </a:lnTo>
                  <a:lnTo>
                    <a:pt x="860" y="4492"/>
                  </a:lnTo>
                  <a:lnTo>
                    <a:pt x="882" y="4514"/>
                  </a:lnTo>
                  <a:lnTo>
                    <a:pt x="898" y="4546"/>
                  </a:lnTo>
                  <a:lnTo>
                    <a:pt x="912" y="4614"/>
                  </a:lnTo>
                  <a:lnTo>
                    <a:pt x="918" y="4626"/>
                  </a:lnTo>
                  <a:lnTo>
                    <a:pt x="934" y="4624"/>
                  </a:lnTo>
                  <a:lnTo>
                    <a:pt x="970" y="4634"/>
                  </a:lnTo>
                  <a:lnTo>
                    <a:pt x="992" y="4650"/>
                  </a:lnTo>
                  <a:lnTo>
                    <a:pt x="1002" y="4670"/>
                  </a:lnTo>
                  <a:lnTo>
                    <a:pt x="1004" y="4690"/>
                  </a:lnTo>
                  <a:lnTo>
                    <a:pt x="974" y="4692"/>
                  </a:lnTo>
                  <a:lnTo>
                    <a:pt x="938" y="4690"/>
                  </a:lnTo>
                  <a:lnTo>
                    <a:pt x="932" y="4694"/>
                  </a:lnTo>
                  <a:lnTo>
                    <a:pt x="948" y="4718"/>
                  </a:lnTo>
                  <a:lnTo>
                    <a:pt x="982" y="4728"/>
                  </a:lnTo>
                  <a:lnTo>
                    <a:pt x="1014" y="4754"/>
                  </a:lnTo>
                  <a:lnTo>
                    <a:pt x="1024" y="4776"/>
                  </a:lnTo>
                  <a:lnTo>
                    <a:pt x="1016" y="4788"/>
                  </a:lnTo>
                  <a:lnTo>
                    <a:pt x="1012" y="4798"/>
                  </a:lnTo>
                  <a:lnTo>
                    <a:pt x="1016" y="4820"/>
                  </a:lnTo>
                  <a:lnTo>
                    <a:pt x="1036" y="4878"/>
                  </a:lnTo>
                  <a:lnTo>
                    <a:pt x="1038" y="4888"/>
                  </a:lnTo>
                  <a:lnTo>
                    <a:pt x="1048" y="4916"/>
                  </a:lnTo>
                  <a:lnTo>
                    <a:pt x="1058" y="4930"/>
                  </a:lnTo>
                  <a:lnTo>
                    <a:pt x="1084" y="5010"/>
                  </a:lnTo>
                  <a:lnTo>
                    <a:pt x="1084" y="5044"/>
                  </a:lnTo>
                  <a:lnTo>
                    <a:pt x="1082" y="5076"/>
                  </a:lnTo>
                  <a:lnTo>
                    <a:pt x="1086" y="5096"/>
                  </a:lnTo>
                  <a:lnTo>
                    <a:pt x="1082" y="5136"/>
                  </a:lnTo>
                  <a:lnTo>
                    <a:pt x="1064" y="5174"/>
                  </a:lnTo>
                  <a:lnTo>
                    <a:pt x="1064" y="5190"/>
                  </a:lnTo>
                  <a:lnTo>
                    <a:pt x="1066" y="5202"/>
                  </a:lnTo>
                  <a:lnTo>
                    <a:pt x="1076" y="5232"/>
                  </a:lnTo>
                  <a:lnTo>
                    <a:pt x="1078" y="5232"/>
                  </a:lnTo>
                  <a:lnTo>
                    <a:pt x="1086" y="5252"/>
                  </a:lnTo>
                  <a:lnTo>
                    <a:pt x="1096" y="5262"/>
                  </a:lnTo>
                  <a:lnTo>
                    <a:pt x="1110" y="5286"/>
                  </a:lnTo>
                  <a:lnTo>
                    <a:pt x="1116" y="5304"/>
                  </a:lnTo>
                  <a:lnTo>
                    <a:pt x="1110" y="5308"/>
                  </a:lnTo>
                  <a:lnTo>
                    <a:pt x="1112" y="5318"/>
                  </a:lnTo>
                  <a:lnTo>
                    <a:pt x="1122" y="5360"/>
                  </a:lnTo>
                  <a:lnTo>
                    <a:pt x="1126" y="5388"/>
                  </a:lnTo>
                  <a:lnTo>
                    <a:pt x="1124" y="5398"/>
                  </a:lnTo>
                  <a:lnTo>
                    <a:pt x="1112" y="5426"/>
                  </a:lnTo>
                  <a:lnTo>
                    <a:pt x="1106" y="5484"/>
                  </a:lnTo>
                  <a:lnTo>
                    <a:pt x="1100" y="5492"/>
                  </a:lnTo>
                  <a:lnTo>
                    <a:pt x="1098" y="5514"/>
                  </a:lnTo>
                  <a:lnTo>
                    <a:pt x="1108" y="5578"/>
                  </a:lnTo>
                  <a:lnTo>
                    <a:pt x="1118" y="5604"/>
                  </a:lnTo>
                  <a:lnTo>
                    <a:pt x="1124" y="5622"/>
                  </a:lnTo>
                  <a:lnTo>
                    <a:pt x="1150" y="5684"/>
                  </a:lnTo>
                  <a:lnTo>
                    <a:pt x="1156" y="5688"/>
                  </a:lnTo>
                  <a:lnTo>
                    <a:pt x="1172" y="5718"/>
                  </a:lnTo>
                  <a:lnTo>
                    <a:pt x="1184" y="5730"/>
                  </a:lnTo>
                  <a:lnTo>
                    <a:pt x="1192" y="5732"/>
                  </a:lnTo>
                  <a:lnTo>
                    <a:pt x="1198" y="5724"/>
                  </a:lnTo>
                  <a:lnTo>
                    <a:pt x="1198" y="5712"/>
                  </a:lnTo>
                  <a:lnTo>
                    <a:pt x="1212" y="5700"/>
                  </a:lnTo>
                  <a:lnTo>
                    <a:pt x="1256" y="5706"/>
                  </a:lnTo>
                  <a:lnTo>
                    <a:pt x="1260" y="5692"/>
                  </a:lnTo>
                  <a:lnTo>
                    <a:pt x="1262" y="5692"/>
                  </a:lnTo>
                  <a:lnTo>
                    <a:pt x="1274" y="5694"/>
                  </a:lnTo>
                  <a:lnTo>
                    <a:pt x="1280" y="5700"/>
                  </a:lnTo>
                  <a:lnTo>
                    <a:pt x="1300" y="5734"/>
                  </a:lnTo>
                  <a:lnTo>
                    <a:pt x="1314" y="5764"/>
                  </a:lnTo>
                  <a:lnTo>
                    <a:pt x="1360" y="5874"/>
                  </a:lnTo>
                  <a:lnTo>
                    <a:pt x="1368" y="5884"/>
                  </a:lnTo>
                  <a:lnTo>
                    <a:pt x="1392" y="5908"/>
                  </a:lnTo>
                  <a:lnTo>
                    <a:pt x="1404" y="5916"/>
                  </a:lnTo>
                  <a:lnTo>
                    <a:pt x="1440" y="5926"/>
                  </a:lnTo>
                  <a:lnTo>
                    <a:pt x="1556" y="5920"/>
                  </a:lnTo>
                  <a:lnTo>
                    <a:pt x="1568" y="5924"/>
                  </a:lnTo>
                  <a:lnTo>
                    <a:pt x="1578" y="5924"/>
                  </a:lnTo>
                  <a:lnTo>
                    <a:pt x="1618" y="5920"/>
                  </a:lnTo>
                  <a:lnTo>
                    <a:pt x="1654" y="5912"/>
                  </a:lnTo>
                  <a:lnTo>
                    <a:pt x="1678" y="5912"/>
                  </a:lnTo>
                  <a:lnTo>
                    <a:pt x="1738" y="5924"/>
                  </a:lnTo>
                  <a:lnTo>
                    <a:pt x="1810" y="5932"/>
                  </a:lnTo>
                  <a:lnTo>
                    <a:pt x="1848" y="5946"/>
                  </a:lnTo>
                  <a:lnTo>
                    <a:pt x="1858" y="5948"/>
                  </a:lnTo>
                  <a:lnTo>
                    <a:pt x="1862" y="5954"/>
                  </a:lnTo>
                  <a:lnTo>
                    <a:pt x="1856" y="5956"/>
                  </a:lnTo>
                  <a:lnTo>
                    <a:pt x="1830" y="5952"/>
                  </a:lnTo>
                  <a:lnTo>
                    <a:pt x="1806" y="5954"/>
                  </a:lnTo>
                  <a:lnTo>
                    <a:pt x="1772" y="5940"/>
                  </a:lnTo>
                  <a:lnTo>
                    <a:pt x="1756" y="5940"/>
                  </a:lnTo>
                  <a:lnTo>
                    <a:pt x="1730" y="5954"/>
                  </a:lnTo>
                  <a:lnTo>
                    <a:pt x="1732" y="5968"/>
                  </a:lnTo>
                  <a:lnTo>
                    <a:pt x="1728" y="5982"/>
                  </a:lnTo>
                  <a:lnTo>
                    <a:pt x="1696" y="5988"/>
                  </a:lnTo>
                  <a:lnTo>
                    <a:pt x="1670" y="6010"/>
                  </a:lnTo>
                  <a:lnTo>
                    <a:pt x="1664" y="6018"/>
                  </a:lnTo>
                  <a:lnTo>
                    <a:pt x="1650" y="6024"/>
                  </a:lnTo>
                  <a:lnTo>
                    <a:pt x="1634" y="6022"/>
                  </a:lnTo>
                  <a:lnTo>
                    <a:pt x="1622" y="6032"/>
                  </a:lnTo>
                  <a:lnTo>
                    <a:pt x="1606" y="6036"/>
                  </a:lnTo>
                  <a:lnTo>
                    <a:pt x="1624" y="6078"/>
                  </a:lnTo>
                  <a:lnTo>
                    <a:pt x="1630" y="6126"/>
                  </a:lnTo>
                  <a:lnTo>
                    <a:pt x="1654" y="6188"/>
                  </a:lnTo>
                  <a:lnTo>
                    <a:pt x="1658" y="6202"/>
                  </a:lnTo>
                  <a:lnTo>
                    <a:pt x="1656" y="6214"/>
                  </a:lnTo>
                  <a:lnTo>
                    <a:pt x="1654" y="6220"/>
                  </a:lnTo>
                  <a:lnTo>
                    <a:pt x="1642" y="6222"/>
                  </a:lnTo>
                  <a:lnTo>
                    <a:pt x="1608" y="6214"/>
                  </a:lnTo>
                  <a:lnTo>
                    <a:pt x="1590" y="6214"/>
                  </a:lnTo>
                  <a:lnTo>
                    <a:pt x="1540" y="6198"/>
                  </a:lnTo>
                  <a:lnTo>
                    <a:pt x="1508" y="6180"/>
                  </a:lnTo>
                  <a:lnTo>
                    <a:pt x="1490" y="6164"/>
                  </a:lnTo>
                  <a:lnTo>
                    <a:pt x="1484" y="6144"/>
                  </a:lnTo>
                  <a:lnTo>
                    <a:pt x="1498" y="6136"/>
                  </a:lnTo>
                  <a:lnTo>
                    <a:pt x="1508" y="6148"/>
                  </a:lnTo>
                  <a:lnTo>
                    <a:pt x="1512" y="6160"/>
                  </a:lnTo>
                  <a:lnTo>
                    <a:pt x="1526" y="6152"/>
                  </a:lnTo>
                  <a:lnTo>
                    <a:pt x="1528" y="6140"/>
                  </a:lnTo>
                  <a:lnTo>
                    <a:pt x="1534" y="6126"/>
                  </a:lnTo>
                  <a:lnTo>
                    <a:pt x="1560" y="6122"/>
                  </a:lnTo>
                  <a:lnTo>
                    <a:pt x="1578" y="6108"/>
                  </a:lnTo>
                  <a:lnTo>
                    <a:pt x="1588" y="6094"/>
                  </a:lnTo>
                  <a:lnTo>
                    <a:pt x="1588" y="6072"/>
                  </a:lnTo>
                  <a:lnTo>
                    <a:pt x="1586" y="6058"/>
                  </a:lnTo>
                  <a:lnTo>
                    <a:pt x="1556" y="6048"/>
                  </a:lnTo>
                  <a:lnTo>
                    <a:pt x="1538" y="6032"/>
                  </a:lnTo>
                  <a:lnTo>
                    <a:pt x="1516" y="6012"/>
                  </a:lnTo>
                  <a:lnTo>
                    <a:pt x="1492" y="6008"/>
                  </a:lnTo>
                  <a:lnTo>
                    <a:pt x="1444" y="6010"/>
                  </a:lnTo>
                  <a:lnTo>
                    <a:pt x="1422" y="6020"/>
                  </a:lnTo>
                  <a:lnTo>
                    <a:pt x="1414" y="6032"/>
                  </a:lnTo>
                  <a:lnTo>
                    <a:pt x="1408" y="6020"/>
                  </a:lnTo>
                  <a:lnTo>
                    <a:pt x="1400" y="6010"/>
                  </a:lnTo>
                  <a:lnTo>
                    <a:pt x="1372" y="6018"/>
                  </a:lnTo>
                  <a:lnTo>
                    <a:pt x="1366" y="6006"/>
                  </a:lnTo>
                  <a:lnTo>
                    <a:pt x="1368" y="5998"/>
                  </a:lnTo>
                  <a:lnTo>
                    <a:pt x="1386" y="5984"/>
                  </a:lnTo>
                  <a:lnTo>
                    <a:pt x="1386" y="5966"/>
                  </a:lnTo>
                  <a:lnTo>
                    <a:pt x="1374" y="5942"/>
                  </a:lnTo>
                  <a:lnTo>
                    <a:pt x="1342" y="5920"/>
                  </a:lnTo>
                  <a:lnTo>
                    <a:pt x="1356" y="5912"/>
                  </a:lnTo>
                  <a:lnTo>
                    <a:pt x="1354" y="5902"/>
                  </a:lnTo>
                  <a:lnTo>
                    <a:pt x="1344" y="5886"/>
                  </a:lnTo>
                  <a:lnTo>
                    <a:pt x="1318" y="5866"/>
                  </a:lnTo>
                  <a:lnTo>
                    <a:pt x="1276" y="5842"/>
                  </a:lnTo>
                  <a:lnTo>
                    <a:pt x="1246" y="5832"/>
                  </a:lnTo>
                  <a:lnTo>
                    <a:pt x="1236" y="5832"/>
                  </a:lnTo>
                  <a:lnTo>
                    <a:pt x="1320" y="5872"/>
                  </a:lnTo>
                  <a:lnTo>
                    <a:pt x="1326" y="5886"/>
                  </a:lnTo>
                  <a:lnTo>
                    <a:pt x="1316" y="5890"/>
                  </a:lnTo>
                  <a:lnTo>
                    <a:pt x="1296" y="5884"/>
                  </a:lnTo>
                  <a:lnTo>
                    <a:pt x="1272" y="5870"/>
                  </a:lnTo>
                  <a:lnTo>
                    <a:pt x="1268" y="5874"/>
                  </a:lnTo>
                  <a:lnTo>
                    <a:pt x="1294" y="5900"/>
                  </a:lnTo>
                  <a:lnTo>
                    <a:pt x="1294" y="5918"/>
                  </a:lnTo>
                  <a:lnTo>
                    <a:pt x="1286" y="5926"/>
                  </a:lnTo>
                  <a:lnTo>
                    <a:pt x="1274" y="5918"/>
                  </a:lnTo>
                  <a:lnTo>
                    <a:pt x="1262" y="5902"/>
                  </a:lnTo>
                  <a:lnTo>
                    <a:pt x="1250" y="5886"/>
                  </a:lnTo>
                  <a:lnTo>
                    <a:pt x="1226" y="5860"/>
                  </a:lnTo>
                  <a:lnTo>
                    <a:pt x="1252" y="5888"/>
                  </a:lnTo>
                  <a:lnTo>
                    <a:pt x="1266" y="5914"/>
                  </a:lnTo>
                  <a:lnTo>
                    <a:pt x="1274" y="5938"/>
                  </a:lnTo>
                  <a:lnTo>
                    <a:pt x="1262" y="5936"/>
                  </a:lnTo>
                  <a:lnTo>
                    <a:pt x="1248" y="5932"/>
                  </a:lnTo>
                  <a:lnTo>
                    <a:pt x="1232" y="5910"/>
                  </a:lnTo>
                  <a:lnTo>
                    <a:pt x="1214" y="5864"/>
                  </a:lnTo>
                  <a:lnTo>
                    <a:pt x="1184" y="5828"/>
                  </a:lnTo>
                  <a:lnTo>
                    <a:pt x="1110" y="5780"/>
                  </a:lnTo>
                  <a:lnTo>
                    <a:pt x="1092" y="5758"/>
                  </a:lnTo>
                  <a:lnTo>
                    <a:pt x="1092" y="5742"/>
                  </a:lnTo>
                  <a:lnTo>
                    <a:pt x="1116" y="5742"/>
                  </a:lnTo>
                  <a:lnTo>
                    <a:pt x="1134" y="5734"/>
                  </a:lnTo>
                  <a:lnTo>
                    <a:pt x="1122" y="5710"/>
                  </a:lnTo>
                  <a:lnTo>
                    <a:pt x="1112" y="5706"/>
                  </a:lnTo>
                  <a:lnTo>
                    <a:pt x="1112" y="5720"/>
                  </a:lnTo>
                  <a:lnTo>
                    <a:pt x="1100" y="5720"/>
                  </a:lnTo>
                  <a:lnTo>
                    <a:pt x="1084" y="5710"/>
                  </a:lnTo>
                  <a:lnTo>
                    <a:pt x="1066" y="5692"/>
                  </a:lnTo>
                  <a:lnTo>
                    <a:pt x="1066" y="5678"/>
                  </a:lnTo>
                  <a:lnTo>
                    <a:pt x="1094" y="5684"/>
                  </a:lnTo>
                  <a:lnTo>
                    <a:pt x="1088" y="5678"/>
                  </a:lnTo>
                  <a:lnTo>
                    <a:pt x="1070" y="5666"/>
                  </a:lnTo>
                  <a:lnTo>
                    <a:pt x="1042" y="5664"/>
                  </a:lnTo>
                  <a:lnTo>
                    <a:pt x="1024" y="5656"/>
                  </a:lnTo>
                  <a:lnTo>
                    <a:pt x="1002" y="5642"/>
                  </a:lnTo>
                  <a:lnTo>
                    <a:pt x="984" y="5624"/>
                  </a:lnTo>
                  <a:lnTo>
                    <a:pt x="1000" y="5594"/>
                  </a:lnTo>
                  <a:lnTo>
                    <a:pt x="990" y="5560"/>
                  </a:lnTo>
                  <a:lnTo>
                    <a:pt x="992" y="5554"/>
                  </a:lnTo>
                  <a:lnTo>
                    <a:pt x="986" y="5540"/>
                  </a:lnTo>
                  <a:lnTo>
                    <a:pt x="1010" y="5518"/>
                  </a:lnTo>
                  <a:lnTo>
                    <a:pt x="1024" y="5522"/>
                  </a:lnTo>
                  <a:lnTo>
                    <a:pt x="1034" y="5522"/>
                  </a:lnTo>
                  <a:lnTo>
                    <a:pt x="1032" y="5516"/>
                  </a:lnTo>
                  <a:lnTo>
                    <a:pt x="1016" y="5510"/>
                  </a:lnTo>
                  <a:lnTo>
                    <a:pt x="1006" y="5500"/>
                  </a:lnTo>
                  <a:lnTo>
                    <a:pt x="1000" y="5440"/>
                  </a:lnTo>
                  <a:lnTo>
                    <a:pt x="992" y="5446"/>
                  </a:lnTo>
                  <a:lnTo>
                    <a:pt x="980" y="5462"/>
                  </a:lnTo>
                  <a:lnTo>
                    <a:pt x="984" y="5480"/>
                  </a:lnTo>
                  <a:lnTo>
                    <a:pt x="980" y="5500"/>
                  </a:lnTo>
                  <a:lnTo>
                    <a:pt x="966" y="5496"/>
                  </a:lnTo>
                  <a:lnTo>
                    <a:pt x="956" y="5480"/>
                  </a:lnTo>
                  <a:lnTo>
                    <a:pt x="942" y="5452"/>
                  </a:lnTo>
                  <a:lnTo>
                    <a:pt x="914" y="5388"/>
                  </a:lnTo>
                  <a:lnTo>
                    <a:pt x="918" y="5378"/>
                  </a:lnTo>
                  <a:lnTo>
                    <a:pt x="928" y="5378"/>
                  </a:lnTo>
                  <a:lnTo>
                    <a:pt x="908" y="5364"/>
                  </a:lnTo>
                  <a:lnTo>
                    <a:pt x="904" y="5340"/>
                  </a:lnTo>
                  <a:lnTo>
                    <a:pt x="936" y="5336"/>
                  </a:lnTo>
                  <a:lnTo>
                    <a:pt x="966" y="5352"/>
                  </a:lnTo>
                  <a:lnTo>
                    <a:pt x="952" y="5336"/>
                  </a:lnTo>
                  <a:lnTo>
                    <a:pt x="936" y="5312"/>
                  </a:lnTo>
                  <a:lnTo>
                    <a:pt x="932" y="5320"/>
                  </a:lnTo>
                  <a:lnTo>
                    <a:pt x="892" y="5334"/>
                  </a:lnTo>
                  <a:lnTo>
                    <a:pt x="882" y="5328"/>
                  </a:lnTo>
                  <a:lnTo>
                    <a:pt x="868" y="5308"/>
                  </a:lnTo>
                  <a:lnTo>
                    <a:pt x="852" y="5294"/>
                  </a:lnTo>
                  <a:lnTo>
                    <a:pt x="834" y="5250"/>
                  </a:lnTo>
                  <a:lnTo>
                    <a:pt x="854" y="5254"/>
                  </a:lnTo>
                  <a:lnTo>
                    <a:pt x="874" y="5272"/>
                  </a:lnTo>
                  <a:lnTo>
                    <a:pt x="890" y="5292"/>
                  </a:lnTo>
                  <a:lnTo>
                    <a:pt x="874" y="5262"/>
                  </a:lnTo>
                  <a:lnTo>
                    <a:pt x="880" y="5256"/>
                  </a:lnTo>
                  <a:lnTo>
                    <a:pt x="930" y="5262"/>
                  </a:lnTo>
                  <a:lnTo>
                    <a:pt x="974" y="5286"/>
                  </a:lnTo>
                  <a:lnTo>
                    <a:pt x="988" y="5284"/>
                  </a:lnTo>
                  <a:lnTo>
                    <a:pt x="954" y="5268"/>
                  </a:lnTo>
                  <a:lnTo>
                    <a:pt x="928" y="5240"/>
                  </a:lnTo>
                  <a:lnTo>
                    <a:pt x="910" y="5214"/>
                  </a:lnTo>
                  <a:lnTo>
                    <a:pt x="898" y="5200"/>
                  </a:lnTo>
                  <a:lnTo>
                    <a:pt x="900" y="5214"/>
                  </a:lnTo>
                  <a:lnTo>
                    <a:pt x="872" y="5216"/>
                  </a:lnTo>
                  <a:lnTo>
                    <a:pt x="856" y="5204"/>
                  </a:lnTo>
                  <a:lnTo>
                    <a:pt x="852" y="5194"/>
                  </a:lnTo>
                  <a:lnTo>
                    <a:pt x="864" y="5182"/>
                  </a:lnTo>
                  <a:lnTo>
                    <a:pt x="842" y="5176"/>
                  </a:lnTo>
                  <a:lnTo>
                    <a:pt x="808" y="5164"/>
                  </a:lnTo>
                  <a:lnTo>
                    <a:pt x="800" y="5158"/>
                  </a:lnTo>
                  <a:lnTo>
                    <a:pt x="804" y="5136"/>
                  </a:lnTo>
                  <a:lnTo>
                    <a:pt x="822" y="5122"/>
                  </a:lnTo>
                  <a:lnTo>
                    <a:pt x="838" y="5116"/>
                  </a:lnTo>
                  <a:lnTo>
                    <a:pt x="816" y="5102"/>
                  </a:lnTo>
                  <a:lnTo>
                    <a:pt x="830" y="5082"/>
                  </a:lnTo>
                  <a:lnTo>
                    <a:pt x="820" y="5076"/>
                  </a:lnTo>
                  <a:lnTo>
                    <a:pt x="808" y="5062"/>
                  </a:lnTo>
                  <a:lnTo>
                    <a:pt x="786" y="5046"/>
                  </a:lnTo>
                  <a:lnTo>
                    <a:pt x="766" y="5038"/>
                  </a:lnTo>
                  <a:lnTo>
                    <a:pt x="750" y="5040"/>
                  </a:lnTo>
                  <a:lnTo>
                    <a:pt x="744" y="5054"/>
                  </a:lnTo>
                  <a:lnTo>
                    <a:pt x="734" y="5058"/>
                  </a:lnTo>
                  <a:lnTo>
                    <a:pt x="694" y="5044"/>
                  </a:lnTo>
                  <a:lnTo>
                    <a:pt x="678" y="5030"/>
                  </a:lnTo>
                  <a:lnTo>
                    <a:pt x="660" y="5020"/>
                  </a:lnTo>
                  <a:lnTo>
                    <a:pt x="644" y="5030"/>
                  </a:lnTo>
                  <a:lnTo>
                    <a:pt x="636" y="5042"/>
                  </a:lnTo>
                  <a:lnTo>
                    <a:pt x="648" y="5050"/>
                  </a:lnTo>
                  <a:lnTo>
                    <a:pt x="660" y="5066"/>
                  </a:lnTo>
                  <a:lnTo>
                    <a:pt x="662" y="5086"/>
                  </a:lnTo>
                  <a:lnTo>
                    <a:pt x="638" y="5082"/>
                  </a:lnTo>
                  <a:lnTo>
                    <a:pt x="626" y="5064"/>
                  </a:lnTo>
                  <a:lnTo>
                    <a:pt x="618" y="5020"/>
                  </a:lnTo>
                  <a:lnTo>
                    <a:pt x="632" y="5010"/>
                  </a:lnTo>
                  <a:lnTo>
                    <a:pt x="642" y="4992"/>
                  </a:lnTo>
                  <a:lnTo>
                    <a:pt x="650" y="4968"/>
                  </a:lnTo>
                  <a:lnTo>
                    <a:pt x="668" y="4964"/>
                  </a:lnTo>
                  <a:lnTo>
                    <a:pt x="684" y="4952"/>
                  </a:lnTo>
                  <a:lnTo>
                    <a:pt x="676" y="4936"/>
                  </a:lnTo>
                  <a:lnTo>
                    <a:pt x="668" y="4932"/>
                  </a:lnTo>
                  <a:lnTo>
                    <a:pt x="658" y="4938"/>
                  </a:lnTo>
                  <a:lnTo>
                    <a:pt x="648" y="4932"/>
                  </a:lnTo>
                  <a:lnTo>
                    <a:pt x="638" y="4922"/>
                  </a:lnTo>
                  <a:lnTo>
                    <a:pt x="630" y="4904"/>
                  </a:lnTo>
                  <a:lnTo>
                    <a:pt x="666" y="4896"/>
                  </a:lnTo>
                  <a:lnTo>
                    <a:pt x="686" y="4898"/>
                  </a:lnTo>
                  <a:lnTo>
                    <a:pt x="700" y="4906"/>
                  </a:lnTo>
                  <a:lnTo>
                    <a:pt x="710" y="4894"/>
                  </a:lnTo>
                  <a:lnTo>
                    <a:pt x="726" y="4900"/>
                  </a:lnTo>
                  <a:lnTo>
                    <a:pt x="742" y="4908"/>
                  </a:lnTo>
                  <a:lnTo>
                    <a:pt x="744" y="4926"/>
                  </a:lnTo>
                  <a:lnTo>
                    <a:pt x="750" y="4938"/>
                  </a:lnTo>
                  <a:lnTo>
                    <a:pt x="758" y="4928"/>
                  </a:lnTo>
                  <a:lnTo>
                    <a:pt x="766" y="4942"/>
                  </a:lnTo>
                  <a:lnTo>
                    <a:pt x="758" y="4960"/>
                  </a:lnTo>
                  <a:lnTo>
                    <a:pt x="758" y="4970"/>
                  </a:lnTo>
                  <a:lnTo>
                    <a:pt x="774" y="4988"/>
                  </a:lnTo>
                  <a:lnTo>
                    <a:pt x="790" y="4988"/>
                  </a:lnTo>
                  <a:lnTo>
                    <a:pt x="792" y="4968"/>
                  </a:lnTo>
                  <a:lnTo>
                    <a:pt x="800" y="4954"/>
                  </a:lnTo>
                  <a:lnTo>
                    <a:pt x="806" y="4966"/>
                  </a:lnTo>
                  <a:lnTo>
                    <a:pt x="810" y="4990"/>
                  </a:lnTo>
                  <a:lnTo>
                    <a:pt x="816" y="5004"/>
                  </a:lnTo>
                  <a:lnTo>
                    <a:pt x="826" y="5000"/>
                  </a:lnTo>
                  <a:lnTo>
                    <a:pt x="822" y="4984"/>
                  </a:lnTo>
                  <a:lnTo>
                    <a:pt x="826" y="4974"/>
                  </a:lnTo>
                  <a:lnTo>
                    <a:pt x="838" y="4958"/>
                  </a:lnTo>
                  <a:lnTo>
                    <a:pt x="848" y="4952"/>
                  </a:lnTo>
                  <a:lnTo>
                    <a:pt x="844" y="4942"/>
                  </a:lnTo>
                  <a:lnTo>
                    <a:pt x="844" y="4926"/>
                  </a:lnTo>
                  <a:lnTo>
                    <a:pt x="844" y="4900"/>
                  </a:lnTo>
                  <a:lnTo>
                    <a:pt x="840" y="4884"/>
                  </a:lnTo>
                  <a:lnTo>
                    <a:pt x="832" y="4892"/>
                  </a:lnTo>
                  <a:lnTo>
                    <a:pt x="828" y="4904"/>
                  </a:lnTo>
                  <a:lnTo>
                    <a:pt x="830" y="4916"/>
                  </a:lnTo>
                  <a:lnTo>
                    <a:pt x="824" y="4946"/>
                  </a:lnTo>
                  <a:lnTo>
                    <a:pt x="808" y="4892"/>
                  </a:lnTo>
                  <a:lnTo>
                    <a:pt x="810" y="4882"/>
                  </a:lnTo>
                  <a:lnTo>
                    <a:pt x="814" y="4880"/>
                  </a:lnTo>
                  <a:lnTo>
                    <a:pt x="840" y="4872"/>
                  </a:lnTo>
                  <a:lnTo>
                    <a:pt x="818" y="4868"/>
                  </a:lnTo>
                  <a:lnTo>
                    <a:pt x="814" y="4858"/>
                  </a:lnTo>
                  <a:lnTo>
                    <a:pt x="822" y="4846"/>
                  </a:lnTo>
                  <a:lnTo>
                    <a:pt x="834" y="4838"/>
                  </a:lnTo>
                  <a:lnTo>
                    <a:pt x="832" y="4830"/>
                  </a:lnTo>
                  <a:lnTo>
                    <a:pt x="816" y="4832"/>
                  </a:lnTo>
                  <a:lnTo>
                    <a:pt x="794" y="4846"/>
                  </a:lnTo>
                  <a:lnTo>
                    <a:pt x="788" y="4824"/>
                  </a:lnTo>
                  <a:lnTo>
                    <a:pt x="792" y="4812"/>
                  </a:lnTo>
                  <a:lnTo>
                    <a:pt x="800" y="4800"/>
                  </a:lnTo>
                  <a:lnTo>
                    <a:pt x="808" y="4798"/>
                  </a:lnTo>
                  <a:lnTo>
                    <a:pt x="832" y="4810"/>
                  </a:lnTo>
                  <a:lnTo>
                    <a:pt x="846" y="4816"/>
                  </a:lnTo>
                  <a:lnTo>
                    <a:pt x="858" y="4822"/>
                  </a:lnTo>
                  <a:lnTo>
                    <a:pt x="872" y="4818"/>
                  </a:lnTo>
                  <a:lnTo>
                    <a:pt x="864" y="4802"/>
                  </a:lnTo>
                  <a:lnTo>
                    <a:pt x="848" y="4804"/>
                  </a:lnTo>
                  <a:lnTo>
                    <a:pt x="810" y="4786"/>
                  </a:lnTo>
                  <a:lnTo>
                    <a:pt x="790" y="4784"/>
                  </a:lnTo>
                  <a:lnTo>
                    <a:pt x="786" y="4762"/>
                  </a:lnTo>
                  <a:lnTo>
                    <a:pt x="780" y="4748"/>
                  </a:lnTo>
                  <a:lnTo>
                    <a:pt x="788" y="4740"/>
                  </a:lnTo>
                  <a:lnTo>
                    <a:pt x="812" y="4740"/>
                  </a:lnTo>
                  <a:lnTo>
                    <a:pt x="828" y="4734"/>
                  </a:lnTo>
                  <a:lnTo>
                    <a:pt x="842" y="4710"/>
                  </a:lnTo>
                  <a:lnTo>
                    <a:pt x="842" y="4696"/>
                  </a:lnTo>
                  <a:lnTo>
                    <a:pt x="828" y="4656"/>
                  </a:lnTo>
                  <a:lnTo>
                    <a:pt x="814" y="4640"/>
                  </a:lnTo>
                  <a:lnTo>
                    <a:pt x="800" y="4636"/>
                  </a:lnTo>
                  <a:lnTo>
                    <a:pt x="764" y="4614"/>
                  </a:lnTo>
                  <a:lnTo>
                    <a:pt x="746" y="4606"/>
                  </a:lnTo>
                  <a:lnTo>
                    <a:pt x="736" y="4598"/>
                  </a:lnTo>
                  <a:lnTo>
                    <a:pt x="734" y="4594"/>
                  </a:lnTo>
                  <a:lnTo>
                    <a:pt x="736" y="4594"/>
                  </a:lnTo>
                  <a:lnTo>
                    <a:pt x="738" y="4588"/>
                  </a:lnTo>
                  <a:lnTo>
                    <a:pt x="748" y="4574"/>
                  </a:lnTo>
                  <a:lnTo>
                    <a:pt x="746" y="4558"/>
                  </a:lnTo>
                  <a:lnTo>
                    <a:pt x="748" y="4540"/>
                  </a:lnTo>
                  <a:lnTo>
                    <a:pt x="756" y="4526"/>
                  </a:lnTo>
                  <a:lnTo>
                    <a:pt x="746" y="4516"/>
                  </a:lnTo>
                  <a:lnTo>
                    <a:pt x="744" y="4500"/>
                  </a:lnTo>
                  <a:lnTo>
                    <a:pt x="728" y="4490"/>
                  </a:lnTo>
                  <a:lnTo>
                    <a:pt x="720" y="4474"/>
                  </a:lnTo>
                  <a:lnTo>
                    <a:pt x="718" y="4460"/>
                  </a:lnTo>
                  <a:lnTo>
                    <a:pt x="720" y="4450"/>
                  </a:lnTo>
                  <a:lnTo>
                    <a:pt x="728" y="4436"/>
                  </a:lnTo>
                  <a:lnTo>
                    <a:pt x="726" y="4394"/>
                  </a:lnTo>
                  <a:lnTo>
                    <a:pt x="702" y="4346"/>
                  </a:lnTo>
                  <a:lnTo>
                    <a:pt x="710" y="4320"/>
                  </a:lnTo>
                  <a:lnTo>
                    <a:pt x="728" y="4324"/>
                  </a:lnTo>
                  <a:lnTo>
                    <a:pt x="712" y="4312"/>
                  </a:lnTo>
                  <a:lnTo>
                    <a:pt x="692" y="4290"/>
                  </a:lnTo>
                  <a:lnTo>
                    <a:pt x="694" y="4268"/>
                  </a:lnTo>
                  <a:lnTo>
                    <a:pt x="714" y="4272"/>
                  </a:lnTo>
                  <a:lnTo>
                    <a:pt x="736" y="4302"/>
                  </a:lnTo>
                  <a:lnTo>
                    <a:pt x="726" y="4276"/>
                  </a:lnTo>
                  <a:lnTo>
                    <a:pt x="706" y="4228"/>
                  </a:lnTo>
                  <a:lnTo>
                    <a:pt x="686" y="4228"/>
                  </a:lnTo>
                  <a:lnTo>
                    <a:pt x="664" y="4220"/>
                  </a:lnTo>
                  <a:lnTo>
                    <a:pt x="664" y="4198"/>
                  </a:lnTo>
                  <a:lnTo>
                    <a:pt x="680" y="4182"/>
                  </a:lnTo>
                  <a:lnTo>
                    <a:pt x="692" y="4176"/>
                  </a:lnTo>
                  <a:lnTo>
                    <a:pt x="702" y="4162"/>
                  </a:lnTo>
                  <a:lnTo>
                    <a:pt x="700" y="4158"/>
                  </a:lnTo>
                  <a:lnTo>
                    <a:pt x="684" y="4168"/>
                  </a:lnTo>
                  <a:lnTo>
                    <a:pt x="670" y="4170"/>
                  </a:lnTo>
                  <a:lnTo>
                    <a:pt x="654" y="4164"/>
                  </a:lnTo>
                  <a:lnTo>
                    <a:pt x="632" y="4144"/>
                  </a:lnTo>
                  <a:lnTo>
                    <a:pt x="612" y="4144"/>
                  </a:lnTo>
                  <a:lnTo>
                    <a:pt x="600" y="4154"/>
                  </a:lnTo>
                  <a:lnTo>
                    <a:pt x="604" y="4170"/>
                  </a:lnTo>
                  <a:lnTo>
                    <a:pt x="596" y="4182"/>
                  </a:lnTo>
                  <a:lnTo>
                    <a:pt x="570" y="4190"/>
                  </a:lnTo>
                  <a:lnTo>
                    <a:pt x="532" y="4178"/>
                  </a:lnTo>
                  <a:lnTo>
                    <a:pt x="530" y="4164"/>
                  </a:lnTo>
                  <a:lnTo>
                    <a:pt x="518" y="4150"/>
                  </a:lnTo>
                  <a:lnTo>
                    <a:pt x="506" y="4146"/>
                  </a:lnTo>
                  <a:lnTo>
                    <a:pt x="494" y="4130"/>
                  </a:lnTo>
                  <a:lnTo>
                    <a:pt x="482" y="4102"/>
                  </a:lnTo>
                  <a:lnTo>
                    <a:pt x="472" y="4068"/>
                  </a:lnTo>
                  <a:lnTo>
                    <a:pt x="460" y="4012"/>
                  </a:lnTo>
                  <a:lnTo>
                    <a:pt x="460" y="3980"/>
                  </a:lnTo>
                  <a:lnTo>
                    <a:pt x="426" y="3870"/>
                  </a:lnTo>
                  <a:lnTo>
                    <a:pt x="444" y="3856"/>
                  </a:lnTo>
                  <a:lnTo>
                    <a:pt x="444" y="3842"/>
                  </a:lnTo>
                  <a:lnTo>
                    <a:pt x="452" y="3828"/>
                  </a:lnTo>
                  <a:lnTo>
                    <a:pt x="450" y="3800"/>
                  </a:lnTo>
                  <a:lnTo>
                    <a:pt x="424" y="3728"/>
                  </a:lnTo>
                  <a:lnTo>
                    <a:pt x="400" y="3682"/>
                  </a:lnTo>
                  <a:lnTo>
                    <a:pt x="368" y="3642"/>
                  </a:lnTo>
                  <a:lnTo>
                    <a:pt x="368" y="3636"/>
                  </a:lnTo>
                  <a:lnTo>
                    <a:pt x="370" y="3636"/>
                  </a:lnTo>
                  <a:lnTo>
                    <a:pt x="356" y="3572"/>
                  </a:lnTo>
                  <a:lnTo>
                    <a:pt x="342" y="3546"/>
                  </a:lnTo>
                  <a:lnTo>
                    <a:pt x="320" y="3512"/>
                  </a:lnTo>
                  <a:lnTo>
                    <a:pt x="310" y="3472"/>
                  </a:lnTo>
                  <a:lnTo>
                    <a:pt x="296" y="3424"/>
                  </a:lnTo>
                  <a:lnTo>
                    <a:pt x="306" y="3400"/>
                  </a:lnTo>
                  <a:lnTo>
                    <a:pt x="330" y="3408"/>
                  </a:lnTo>
                  <a:lnTo>
                    <a:pt x="346" y="3398"/>
                  </a:lnTo>
                  <a:lnTo>
                    <a:pt x="318" y="3314"/>
                  </a:lnTo>
                  <a:lnTo>
                    <a:pt x="328" y="3306"/>
                  </a:lnTo>
                  <a:lnTo>
                    <a:pt x="340" y="3314"/>
                  </a:lnTo>
                  <a:lnTo>
                    <a:pt x="346" y="3308"/>
                  </a:lnTo>
                  <a:lnTo>
                    <a:pt x="348" y="3260"/>
                  </a:lnTo>
                  <a:lnTo>
                    <a:pt x="344" y="3204"/>
                  </a:lnTo>
                  <a:lnTo>
                    <a:pt x="350" y="3184"/>
                  </a:lnTo>
                  <a:lnTo>
                    <a:pt x="348" y="3144"/>
                  </a:lnTo>
                  <a:lnTo>
                    <a:pt x="350" y="3114"/>
                  </a:lnTo>
                  <a:lnTo>
                    <a:pt x="368" y="3040"/>
                  </a:lnTo>
                  <a:lnTo>
                    <a:pt x="364" y="3018"/>
                  </a:lnTo>
                  <a:lnTo>
                    <a:pt x="370" y="2938"/>
                  </a:lnTo>
                  <a:lnTo>
                    <a:pt x="362" y="2906"/>
                  </a:lnTo>
                  <a:lnTo>
                    <a:pt x="364" y="2902"/>
                  </a:lnTo>
                  <a:lnTo>
                    <a:pt x="362" y="2826"/>
                  </a:lnTo>
                  <a:lnTo>
                    <a:pt x="372" y="2802"/>
                  </a:lnTo>
                  <a:lnTo>
                    <a:pt x="348" y="2708"/>
                  </a:lnTo>
                  <a:lnTo>
                    <a:pt x="356" y="2678"/>
                  </a:lnTo>
                  <a:lnTo>
                    <a:pt x="358" y="2650"/>
                  </a:lnTo>
                  <a:lnTo>
                    <a:pt x="342" y="2582"/>
                  </a:lnTo>
                  <a:lnTo>
                    <a:pt x="316" y="2528"/>
                  </a:lnTo>
                  <a:lnTo>
                    <a:pt x="296" y="2458"/>
                  </a:lnTo>
                  <a:lnTo>
                    <a:pt x="262" y="2364"/>
                  </a:lnTo>
                  <a:lnTo>
                    <a:pt x="238" y="2276"/>
                  </a:lnTo>
                  <a:lnTo>
                    <a:pt x="226" y="2208"/>
                  </a:lnTo>
                  <a:lnTo>
                    <a:pt x="252" y="2186"/>
                  </a:lnTo>
                  <a:lnTo>
                    <a:pt x="252" y="2136"/>
                  </a:lnTo>
                  <a:lnTo>
                    <a:pt x="244" y="2120"/>
                  </a:lnTo>
                  <a:lnTo>
                    <a:pt x="234" y="2084"/>
                  </a:lnTo>
                  <a:lnTo>
                    <a:pt x="206" y="2030"/>
                  </a:lnTo>
                  <a:lnTo>
                    <a:pt x="196" y="2018"/>
                  </a:lnTo>
                  <a:lnTo>
                    <a:pt x="192" y="1992"/>
                  </a:lnTo>
                  <a:lnTo>
                    <a:pt x="196" y="1972"/>
                  </a:lnTo>
                  <a:lnTo>
                    <a:pt x="212" y="1932"/>
                  </a:lnTo>
                  <a:lnTo>
                    <a:pt x="212" y="1874"/>
                  </a:lnTo>
                  <a:lnTo>
                    <a:pt x="206" y="1770"/>
                  </a:lnTo>
                  <a:lnTo>
                    <a:pt x="216" y="1730"/>
                  </a:lnTo>
                  <a:lnTo>
                    <a:pt x="204" y="1672"/>
                  </a:lnTo>
                  <a:lnTo>
                    <a:pt x="210" y="1656"/>
                  </a:lnTo>
                  <a:lnTo>
                    <a:pt x="218" y="1644"/>
                  </a:lnTo>
                  <a:lnTo>
                    <a:pt x="220" y="1608"/>
                  </a:lnTo>
                  <a:lnTo>
                    <a:pt x="214" y="1554"/>
                  </a:lnTo>
                  <a:lnTo>
                    <a:pt x="214" y="1530"/>
                  </a:lnTo>
                  <a:lnTo>
                    <a:pt x="208" y="1504"/>
                  </a:lnTo>
                  <a:lnTo>
                    <a:pt x="192" y="1462"/>
                  </a:lnTo>
                  <a:lnTo>
                    <a:pt x="184" y="1424"/>
                  </a:lnTo>
                  <a:lnTo>
                    <a:pt x="184" y="1400"/>
                  </a:lnTo>
                  <a:lnTo>
                    <a:pt x="190" y="1376"/>
                  </a:lnTo>
                  <a:lnTo>
                    <a:pt x="204" y="1360"/>
                  </a:lnTo>
                  <a:lnTo>
                    <a:pt x="202" y="1336"/>
                  </a:lnTo>
                  <a:lnTo>
                    <a:pt x="194" y="1292"/>
                  </a:lnTo>
                  <a:lnTo>
                    <a:pt x="182" y="1250"/>
                  </a:lnTo>
                  <a:lnTo>
                    <a:pt x="156" y="1112"/>
                  </a:lnTo>
                  <a:lnTo>
                    <a:pt x="156" y="1076"/>
                  </a:lnTo>
                  <a:lnTo>
                    <a:pt x="150" y="1042"/>
                  </a:lnTo>
                  <a:lnTo>
                    <a:pt x="132" y="1018"/>
                  </a:lnTo>
                  <a:lnTo>
                    <a:pt x="128" y="1000"/>
                  </a:lnTo>
                  <a:lnTo>
                    <a:pt x="132" y="962"/>
                  </a:lnTo>
                  <a:lnTo>
                    <a:pt x="140" y="944"/>
                  </a:lnTo>
                  <a:lnTo>
                    <a:pt x="150" y="944"/>
                  </a:lnTo>
                  <a:lnTo>
                    <a:pt x="156" y="922"/>
                  </a:lnTo>
                  <a:lnTo>
                    <a:pt x="140" y="798"/>
                  </a:lnTo>
                  <a:lnTo>
                    <a:pt x="144" y="762"/>
                  </a:lnTo>
                  <a:lnTo>
                    <a:pt x="140" y="726"/>
                  </a:lnTo>
                  <a:lnTo>
                    <a:pt x="142" y="694"/>
                  </a:lnTo>
                  <a:lnTo>
                    <a:pt x="140" y="670"/>
                  </a:lnTo>
                  <a:lnTo>
                    <a:pt x="136" y="662"/>
                  </a:lnTo>
                  <a:lnTo>
                    <a:pt x="110" y="584"/>
                  </a:lnTo>
                  <a:lnTo>
                    <a:pt x="92" y="426"/>
                  </a:lnTo>
                  <a:lnTo>
                    <a:pt x="82" y="396"/>
                  </a:lnTo>
                  <a:lnTo>
                    <a:pt x="68" y="368"/>
                  </a:lnTo>
                  <a:lnTo>
                    <a:pt x="52" y="286"/>
                  </a:lnTo>
                  <a:lnTo>
                    <a:pt x="20" y="172"/>
                  </a:lnTo>
                  <a:lnTo>
                    <a:pt x="0" y="116"/>
                  </a:lnTo>
                  <a:lnTo>
                    <a:pt x="22" y="90"/>
                  </a:lnTo>
                  <a:lnTo>
                    <a:pt x="28" y="88"/>
                  </a:lnTo>
                  <a:lnTo>
                    <a:pt x="72" y="86"/>
                  </a:lnTo>
                  <a:lnTo>
                    <a:pt x="88" y="78"/>
                  </a:lnTo>
                  <a:lnTo>
                    <a:pt x="92" y="72"/>
                  </a:lnTo>
                  <a:lnTo>
                    <a:pt x="90" y="48"/>
                  </a:lnTo>
                  <a:lnTo>
                    <a:pt x="102" y="16"/>
                  </a:lnTo>
                  <a:lnTo>
                    <a:pt x="110" y="4"/>
                  </a:lnTo>
                  <a:lnTo>
                    <a:pt x="11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2960" y="6283440"/>
              <a:ext cx="64080" cy="72000"/>
            </a:xfrm>
            <a:custGeom>
              <a:avLst/>
              <a:gdLst/>
              <a:ahLst/>
              <a:rect l="l" t="t" r="r" b="b"/>
              <a:pathLst>
                <a:path w="366" h="424">
                  <a:moveTo>
                    <a:pt x="366" y="404"/>
                  </a:moveTo>
                  <a:lnTo>
                    <a:pt x="342" y="404"/>
                  </a:lnTo>
                  <a:lnTo>
                    <a:pt x="354" y="414"/>
                  </a:lnTo>
                  <a:lnTo>
                    <a:pt x="334" y="416"/>
                  </a:lnTo>
                  <a:lnTo>
                    <a:pt x="326" y="424"/>
                  </a:lnTo>
                  <a:lnTo>
                    <a:pt x="290" y="406"/>
                  </a:lnTo>
                  <a:lnTo>
                    <a:pt x="256" y="404"/>
                  </a:lnTo>
                  <a:lnTo>
                    <a:pt x="208" y="406"/>
                  </a:lnTo>
                  <a:lnTo>
                    <a:pt x="208" y="412"/>
                  </a:lnTo>
                  <a:lnTo>
                    <a:pt x="178" y="414"/>
                  </a:lnTo>
                  <a:lnTo>
                    <a:pt x="132" y="402"/>
                  </a:lnTo>
                  <a:lnTo>
                    <a:pt x="122" y="408"/>
                  </a:lnTo>
                  <a:lnTo>
                    <a:pt x="102" y="406"/>
                  </a:lnTo>
                  <a:lnTo>
                    <a:pt x="108" y="400"/>
                  </a:lnTo>
                  <a:lnTo>
                    <a:pt x="106" y="394"/>
                  </a:lnTo>
                  <a:lnTo>
                    <a:pt x="90" y="396"/>
                  </a:lnTo>
                  <a:lnTo>
                    <a:pt x="90" y="390"/>
                  </a:lnTo>
                  <a:lnTo>
                    <a:pt x="100" y="382"/>
                  </a:lnTo>
                  <a:lnTo>
                    <a:pt x="66" y="378"/>
                  </a:lnTo>
                  <a:lnTo>
                    <a:pt x="62" y="384"/>
                  </a:lnTo>
                  <a:lnTo>
                    <a:pt x="42" y="384"/>
                  </a:lnTo>
                  <a:lnTo>
                    <a:pt x="44" y="378"/>
                  </a:lnTo>
                  <a:lnTo>
                    <a:pt x="38" y="364"/>
                  </a:lnTo>
                  <a:lnTo>
                    <a:pt x="24" y="356"/>
                  </a:lnTo>
                  <a:lnTo>
                    <a:pt x="52" y="350"/>
                  </a:lnTo>
                  <a:lnTo>
                    <a:pt x="48" y="340"/>
                  </a:lnTo>
                  <a:lnTo>
                    <a:pt x="66" y="338"/>
                  </a:lnTo>
                  <a:lnTo>
                    <a:pt x="72" y="330"/>
                  </a:lnTo>
                  <a:lnTo>
                    <a:pt x="84" y="332"/>
                  </a:lnTo>
                  <a:lnTo>
                    <a:pt x="88" y="328"/>
                  </a:lnTo>
                  <a:lnTo>
                    <a:pt x="76" y="314"/>
                  </a:lnTo>
                  <a:lnTo>
                    <a:pt x="48" y="302"/>
                  </a:lnTo>
                  <a:lnTo>
                    <a:pt x="40" y="286"/>
                  </a:lnTo>
                  <a:lnTo>
                    <a:pt x="82" y="308"/>
                  </a:lnTo>
                  <a:lnTo>
                    <a:pt x="134" y="328"/>
                  </a:lnTo>
                  <a:lnTo>
                    <a:pt x="152" y="342"/>
                  </a:lnTo>
                  <a:lnTo>
                    <a:pt x="156" y="334"/>
                  </a:lnTo>
                  <a:lnTo>
                    <a:pt x="166" y="330"/>
                  </a:lnTo>
                  <a:lnTo>
                    <a:pt x="146" y="326"/>
                  </a:lnTo>
                  <a:lnTo>
                    <a:pt x="138" y="318"/>
                  </a:lnTo>
                  <a:lnTo>
                    <a:pt x="146" y="306"/>
                  </a:lnTo>
                  <a:lnTo>
                    <a:pt x="182" y="328"/>
                  </a:lnTo>
                  <a:lnTo>
                    <a:pt x="178" y="310"/>
                  </a:lnTo>
                  <a:lnTo>
                    <a:pt x="198" y="312"/>
                  </a:lnTo>
                  <a:lnTo>
                    <a:pt x="222" y="330"/>
                  </a:lnTo>
                  <a:lnTo>
                    <a:pt x="222" y="322"/>
                  </a:lnTo>
                  <a:lnTo>
                    <a:pt x="240" y="320"/>
                  </a:lnTo>
                  <a:lnTo>
                    <a:pt x="228" y="306"/>
                  </a:lnTo>
                  <a:lnTo>
                    <a:pt x="152" y="288"/>
                  </a:lnTo>
                  <a:lnTo>
                    <a:pt x="142" y="280"/>
                  </a:lnTo>
                  <a:lnTo>
                    <a:pt x="108" y="226"/>
                  </a:lnTo>
                  <a:lnTo>
                    <a:pt x="108" y="212"/>
                  </a:lnTo>
                  <a:lnTo>
                    <a:pt x="126" y="210"/>
                  </a:lnTo>
                  <a:lnTo>
                    <a:pt x="130" y="202"/>
                  </a:lnTo>
                  <a:lnTo>
                    <a:pt x="178" y="184"/>
                  </a:lnTo>
                  <a:lnTo>
                    <a:pt x="174" y="162"/>
                  </a:lnTo>
                  <a:lnTo>
                    <a:pt x="158" y="148"/>
                  </a:lnTo>
                  <a:lnTo>
                    <a:pt x="142" y="146"/>
                  </a:lnTo>
                  <a:lnTo>
                    <a:pt x="116" y="150"/>
                  </a:lnTo>
                  <a:lnTo>
                    <a:pt x="80" y="170"/>
                  </a:lnTo>
                  <a:lnTo>
                    <a:pt x="42" y="154"/>
                  </a:lnTo>
                  <a:lnTo>
                    <a:pt x="30" y="140"/>
                  </a:lnTo>
                  <a:lnTo>
                    <a:pt x="26" y="120"/>
                  </a:lnTo>
                  <a:lnTo>
                    <a:pt x="16" y="98"/>
                  </a:lnTo>
                  <a:lnTo>
                    <a:pt x="24" y="94"/>
                  </a:lnTo>
                  <a:lnTo>
                    <a:pt x="38" y="102"/>
                  </a:lnTo>
                  <a:lnTo>
                    <a:pt x="48" y="98"/>
                  </a:lnTo>
                  <a:lnTo>
                    <a:pt x="48" y="84"/>
                  </a:lnTo>
                  <a:lnTo>
                    <a:pt x="32" y="70"/>
                  </a:lnTo>
                  <a:lnTo>
                    <a:pt x="24" y="58"/>
                  </a:lnTo>
                  <a:lnTo>
                    <a:pt x="0" y="54"/>
                  </a:lnTo>
                  <a:lnTo>
                    <a:pt x="30" y="50"/>
                  </a:lnTo>
                  <a:lnTo>
                    <a:pt x="52" y="60"/>
                  </a:lnTo>
                  <a:lnTo>
                    <a:pt x="56" y="54"/>
                  </a:lnTo>
                  <a:lnTo>
                    <a:pt x="76" y="48"/>
                  </a:lnTo>
                  <a:lnTo>
                    <a:pt x="72" y="10"/>
                  </a:lnTo>
                  <a:lnTo>
                    <a:pt x="94" y="0"/>
                  </a:lnTo>
                  <a:lnTo>
                    <a:pt x="122" y="26"/>
                  </a:lnTo>
                  <a:lnTo>
                    <a:pt x="144" y="28"/>
                  </a:lnTo>
                  <a:lnTo>
                    <a:pt x="164" y="22"/>
                  </a:lnTo>
                  <a:lnTo>
                    <a:pt x="178" y="10"/>
                  </a:lnTo>
                  <a:lnTo>
                    <a:pt x="196" y="26"/>
                  </a:lnTo>
                  <a:lnTo>
                    <a:pt x="350" y="374"/>
                  </a:lnTo>
                  <a:lnTo>
                    <a:pt x="356" y="382"/>
                  </a:lnTo>
                  <a:lnTo>
                    <a:pt x="366" y="40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6280" bIns="26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77840" y="2729160"/>
              <a:ext cx="229320" cy="292680"/>
            </a:xfrm>
            <a:custGeom>
              <a:avLst/>
              <a:gdLst/>
              <a:ahLst/>
              <a:rect l="l" t="t" r="r" b="b"/>
              <a:pathLst>
                <a:path w="1328" h="1720">
                  <a:moveTo>
                    <a:pt x="0" y="180"/>
                  </a:moveTo>
                  <a:lnTo>
                    <a:pt x="4" y="180"/>
                  </a:lnTo>
                  <a:lnTo>
                    <a:pt x="10" y="184"/>
                  </a:lnTo>
                  <a:lnTo>
                    <a:pt x="92" y="234"/>
                  </a:lnTo>
                  <a:lnTo>
                    <a:pt x="154" y="268"/>
                  </a:lnTo>
                  <a:lnTo>
                    <a:pt x="220" y="278"/>
                  </a:lnTo>
                  <a:lnTo>
                    <a:pt x="256" y="296"/>
                  </a:lnTo>
                  <a:lnTo>
                    <a:pt x="328" y="360"/>
                  </a:lnTo>
                  <a:lnTo>
                    <a:pt x="334" y="368"/>
                  </a:lnTo>
                  <a:lnTo>
                    <a:pt x="328" y="382"/>
                  </a:lnTo>
                  <a:lnTo>
                    <a:pt x="328" y="402"/>
                  </a:lnTo>
                  <a:lnTo>
                    <a:pt x="332" y="426"/>
                  </a:lnTo>
                  <a:lnTo>
                    <a:pt x="340" y="442"/>
                  </a:lnTo>
                  <a:lnTo>
                    <a:pt x="350" y="450"/>
                  </a:lnTo>
                  <a:lnTo>
                    <a:pt x="356" y="468"/>
                  </a:lnTo>
                  <a:lnTo>
                    <a:pt x="350" y="492"/>
                  </a:lnTo>
                  <a:lnTo>
                    <a:pt x="358" y="512"/>
                  </a:lnTo>
                  <a:lnTo>
                    <a:pt x="408" y="566"/>
                  </a:lnTo>
                  <a:lnTo>
                    <a:pt x="412" y="582"/>
                  </a:lnTo>
                  <a:lnTo>
                    <a:pt x="412" y="592"/>
                  </a:lnTo>
                  <a:lnTo>
                    <a:pt x="400" y="610"/>
                  </a:lnTo>
                  <a:lnTo>
                    <a:pt x="396" y="632"/>
                  </a:lnTo>
                  <a:lnTo>
                    <a:pt x="408" y="658"/>
                  </a:lnTo>
                  <a:lnTo>
                    <a:pt x="444" y="698"/>
                  </a:lnTo>
                  <a:lnTo>
                    <a:pt x="460" y="708"/>
                  </a:lnTo>
                  <a:lnTo>
                    <a:pt x="470" y="710"/>
                  </a:lnTo>
                  <a:lnTo>
                    <a:pt x="478" y="718"/>
                  </a:lnTo>
                  <a:lnTo>
                    <a:pt x="490" y="722"/>
                  </a:lnTo>
                  <a:lnTo>
                    <a:pt x="498" y="714"/>
                  </a:lnTo>
                  <a:lnTo>
                    <a:pt x="506" y="718"/>
                  </a:lnTo>
                  <a:lnTo>
                    <a:pt x="516" y="736"/>
                  </a:lnTo>
                  <a:lnTo>
                    <a:pt x="548" y="750"/>
                  </a:lnTo>
                  <a:lnTo>
                    <a:pt x="586" y="778"/>
                  </a:lnTo>
                  <a:lnTo>
                    <a:pt x="600" y="796"/>
                  </a:lnTo>
                  <a:lnTo>
                    <a:pt x="602" y="834"/>
                  </a:lnTo>
                  <a:lnTo>
                    <a:pt x="626" y="858"/>
                  </a:lnTo>
                  <a:lnTo>
                    <a:pt x="612" y="858"/>
                  </a:lnTo>
                  <a:lnTo>
                    <a:pt x="608" y="868"/>
                  </a:lnTo>
                  <a:lnTo>
                    <a:pt x="616" y="880"/>
                  </a:lnTo>
                  <a:lnTo>
                    <a:pt x="594" y="872"/>
                  </a:lnTo>
                  <a:lnTo>
                    <a:pt x="576" y="874"/>
                  </a:lnTo>
                  <a:lnTo>
                    <a:pt x="544" y="886"/>
                  </a:lnTo>
                  <a:lnTo>
                    <a:pt x="534" y="932"/>
                  </a:lnTo>
                  <a:lnTo>
                    <a:pt x="514" y="950"/>
                  </a:lnTo>
                  <a:lnTo>
                    <a:pt x="482" y="986"/>
                  </a:lnTo>
                  <a:lnTo>
                    <a:pt x="444" y="1024"/>
                  </a:lnTo>
                  <a:lnTo>
                    <a:pt x="418" y="1056"/>
                  </a:lnTo>
                  <a:lnTo>
                    <a:pt x="384" y="1110"/>
                  </a:lnTo>
                  <a:lnTo>
                    <a:pt x="368" y="1118"/>
                  </a:lnTo>
                  <a:lnTo>
                    <a:pt x="358" y="1134"/>
                  </a:lnTo>
                  <a:lnTo>
                    <a:pt x="350" y="1140"/>
                  </a:lnTo>
                  <a:lnTo>
                    <a:pt x="338" y="1154"/>
                  </a:lnTo>
                  <a:lnTo>
                    <a:pt x="300" y="1158"/>
                  </a:lnTo>
                  <a:lnTo>
                    <a:pt x="284" y="1152"/>
                  </a:lnTo>
                  <a:lnTo>
                    <a:pt x="274" y="1174"/>
                  </a:lnTo>
                  <a:lnTo>
                    <a:pt x="292" y="1184"/>
                  </a:lnTo>
                  <a:lnTo>
                    <a:pt x="284" y="1188"/>
                  </a:lnTo>
                  <a:lnTo>
                    <a:pt x="252" y="1192"/>
                  </a:lnTo>
                  <a:lnTo>
                    <a:pt x="254" y="1200"/>
                  </a:lnTo>
                  <a:lnTo>
                    <a:pt x="250" y="1212"/>
                  </a:lnTo>
                  <a:lnTo>
                    <a:pt x="238" y="1212"/>
                  </a:lnTo>
                  <a:lnTo>
                    <a:pt x="232" y="1216"/>
                  </a:lnTo>
                  <a:lnTo>
                    <a:pt x="226" y="1226"/>
                  </a:lnTo>
                  <a:lnTo>
                    <a:pt x="220" y="1252"/>
                  </a:lnTo>
                  <a:lnTo>
                    <a:pt x="230" y="1282"/>
                  </a:lnTo>
                  <a:lnTo>
                    <a:pt x="236" y="1292"/>
                  </a:lnTo>
                  <a:lnTo>
                    <a:pt x="246" y="1300"/>
                  </a:lnTo>
                  <a:lnTo>
                    <a:pt x="256" y="1318"/>
                  </a:lnTo>
                  <a:lnTo>
                    <a:pt x="254" y="1354"/>
                  </a:lnTo>
                  <a:lnTo>
                    <a:pt x="264" y="1370"/>
                  </a:lnTo>
                  <a:lnTo>
                    <a:pt x="282" y="1382"/>
                  </a:lnTo>
                  <a:lnTo>
                    <a:pt x="286" y="1398"/>
                  </a:lnTo>
                  <a:lnTo>
                    <a:pt x="296" y="1420"/>
                  </a:lnTo>
                  <a:lnTo>
                    <a:pt x="308" y="1432"/>
                  </a:lnTo>
                  <a:lnTo>
                    <a:pt x="318" y="1438"/>
                  </a:lnTo>
                  <a:lnTo>
                    <a:pt x="320" y="1444"/>
                  </a:lnTo>
                  <a:lnTo>
                    <a:pt x="310" y="1436"/>
                  </a:lnTo>
                  <a:lnTo>
                    <a:pt x="300" y="1436"/>
                  </a:lnTo>
                  <a:lnTo>
                    <a:pt x="294" y="1444"/>
                  </a:lnTo>
                  <a:lnTo>
                    <a:pt x="298" y="1452"/>
                  </a:lnTo>
                  <a:lnTo>
                    <a:pt x="296" y="1462"/>
                  </a:lnTo>
                  <a:lnTo>
                    <a:pt x="302" y="1474"/>
                  </a:lnTo>
                  <a:lnTo>
                    <a:pt x="304" y="1496"/>
                  </a:lnTo>
                  <a:lnTo>
                    <a:pt x="298" y="1516"/>
                  </a:lnTo>
                  <a:lnTo>
                    <a:pt x="292" y="1516"/>
                  </a:lnTo>
                  <a:lnTo>
                    <a:pt x="288" y="1532"/>
                  </a:lnTo>
                  <a:lnTo>
                    <a:pt x="296" y="1540"/>
                  </a:lnTo>
                  <a:lnTo>
                    <a:pt x="300" y="1548"/>
                  </a:lnTo>
                  <a:lnTo>
                    <a:pt x="296" y="1556"/>
                  </a:lnTo>
                  <a:lnTo>
                    <a:pt x="302" y="1564"/>
                  </a:lnTo>
                  <a:lnTo>
                    <a:pt x="316" y="1568"/>
                  </a:lnTo>
                  <a:lnTo>
                    <a:pt x="316" y="1576"/>
                  </a:lnTo>
                  <a:lnTo>
                    <a:pt x="304" y="1576"/>
                  </a:lnTo>
                  <a:lnTo>
                    <a:pt x="308" y="1588"/>
                  </a:lnTo>
                  <a:lnTo>
                    <a:pt x="336" y="1588"/>
                  </a:lnTo>
                  <a:lnTo>
                    <a:pt x="360" y="1598"/>
                  </a:lnTo>
                  <a:lnTo>
                    <a:pt x="372" y="1608"/>
                  </a:lnTo>
                  <a:lnTo>
                    <a:pt x="396" y="1616"/>
                  </a:lnTo>
                  <a:lnTo>
                    <a:pt x="432" y="1622"/>
                  </a:lnTo>
                  <a:lnTo>
                    <a:pt x="438" y="1628"/>
                  </a:lnTo>
                  <a:lnTo>
                    <a:pt x="434" y="1640"/>
                  </a:lnTo>
                  <a:lnTo>
                    <a:pt x="450" y="1648"/>
                  </a:lnTo>
                  <a:lnTo>
                    <a:pt x="480" y="1634"/>
                  </a:lnTo>
                  <a:lnTo>
                    <a:pt x="482" y="1642"/>
                  </a:lnTo>
                  <a:lnTo>
                    <a:pt x="486" y="1660"/>
                  </a:lnTo>
                  <a:lnTo>
                    <a:pt x="506" y="1682"/>
                  </a:lnTo>
                  <a:lnTo>
                    <a:pt x="506" y="1692"/>
                  </a:lnTo>
                  <a:lnTo>
                    <a:pt x="522" y="1698"/>
                  </a:lnTo>
                  <a:lnTo>
                    <a:pt x="518" y="1706"/>
                  </a:lnTo>
                  <a:lnTo>
                    <a:pt x="500" y="1718"/>
                  </a:lnTo>
                  <a:lnTo>
                    <a:pt x="510" y="1720"/>
                  </a:lnTo>
                  <a:lnTo>
                    <a:pt x="530" y="1712"/>
                  </a:lnTo>
                  <a:lnTo>
                    <a:pt x="546" y="1680"/>
                  </a:lnTo>
                  <a:lnTo>
                    <a:pt x="552" y="1684"/>
                  </a:lnTo>
                  <a:lnTo>
                    <a:pt x="554" y="1698"/>
                  </a:lnTo>
                  <a:lnTo>
                    <a:pt x="564" y="1702"/>
                  </a:lnTo>
                  <a:lnTo>
                    <a:pt x="608" y="1682"/>
                  </a:lnTo>
                  <a:lnTo>
                    <a:pt x="624" y="1680"/>
                  </a:lnTo>
                  <a:lnTo>
                    <a:pt x="638" y="1676"/>
                  </a:lnTo>
                  <a:lnTo>
                    <a:pt x="648" y="1682"/>
                  </a:lnTo>
                  <a:lnTo>
                    <a:pt x="654" y="1682"/>
                  </a:lnTo>
                  <a:lnTo>
                    <a:pt x="670" y="1666"/>
                  </a:lnTo>
                  <a:lnTo>
                    <a:pt x="684" y="1658"/>
                  </a:lnTo>
                  <a:lnTo>
                    <a:pt x="700" y="1654"/>
                  </a:lnTo>
                  <a:lnTo>
                    <a:pt x="714" y="1658"/>
                  </a:lnTo>
                  <a:lnTo>
                    <a:pt x="742" y="1644"/>
                  </a:lnTo>
                  <a:lnTo>
                    <a:pt x="760" y="1642"/>
                  </a:lnTo>
                  <a:lnTo>
                    <a:pt x="772" y="1620"/>
                  </a:lnTo>
                  <a:lnTo>
                    <a:pt x="782" y="1634"/>
                  </a:lnTo>
                  <a:lnTo>
                    <a:pt x="818" y="1622"/>
                  </a:lnTo>
                  <a:lnTo>
                    <a:pt x="810" y="1608"/>
                  </a:lnTo>
                  <a:lnTo>
                    <a:pt x="816" y="1612"/>
                  </a:lnTo>
                  <a:lnTo>
                    <a:pt x="832" y="1616"/>
                  </a:lnTo>
                  <a:lnTo>
                    <a:pt x="844" y="1616"/>
                  </a:lnTo>
                  <a:lnTo>
                    <a:pt x="856" y="1608"/>
                  </a:lnTo>
                  <a:lnTo>
                    <a:pt x="890" y="1604"/>
                  </a:lnTo>
                  <a:lnTo>
                    <a:pt x="914" y="1596"/>
                  </a:lnTo>
                  <a:lnTo>
                    <a:pt x="930" y="1588"/>
                  </a:lnTo>
                  <a:lnTo>
                    <a:pt x="950" y="1596"/>
                  </a:lnTo>
                  <a:lnTo>
                    <a:pt x="986" y="1598"/>
                  </a:lnTo>
                  <a:lnTo>
                    <a:pt x="994" y="1594"/>
                  </a:lnTo>
                  <a:lnTo>
                    <a:pt x="1000" y="1586"/>
                  </a:lnTo>
                  <a:lnTo>
                    <a:pt x="1002" y="1588"/>
                  </a:lnTo>
                  <a:lnTo>
                    <a:pt x="1066" y="1544"/>
                  </a:lnTo>
                  <a:lnTo>
                    <a:pt x="1148" y="1470"/>
                  </a:lnTo>
                  <a:lnTo>
                    <a:pt x="1210" y="1406"/>
                  </a:lnTo>
                  <a:lnTo>
                    <a:pt x="1290" y="1304"/>
                  </a:lnTo>
                  <a:lnTo>
                    <a:pt x="1308" y="1276"/>
                  </a:lnTo>
                  <a:lnTo>
                    <a:pt x="1328" y="1220"/>
                  </a:lnTo>
                  <a:lnTo>
                    <a:pt x="1316" y="1166"/>
                  </a:lnTo>
                  <a:lnTo>
                    <a:pt x="1308" y="1174"/>
                  </a:lnTo>
                  <a:lnTo>
                    <a:pt x="1284" y="1150"/>
                  </a:lnTo>
                  <a:lnTo>
                    <a:pt x="1270" y="1128"/>
                  </a:lnTo>
                  <a:lnTo>
                    <a:pt x="1204" y="1098"/>
                  </a:lnTo>
                  <a:lnTo>
                    <a:pt x="1186" y="1082"/>
                  </a:lnTo>
                  <a:lnTo>
                    <a:pt x="1166" y="1056"/>
                  </a:lnTo>
                  <a:lnTo>
                    <a:pt x="1170" y="1034"/>
                  </a:lnTo>
                  <a:lnTo>
                    <a:pt x="1184" y="1014"/>
                  </a:lnTo>
                  <a:lnTo>
                    <a:pt x="1190" y="988"/>
                  </a:lnTo>
                  <a:lnTo>
                    <a:pt x="1182" y="964"/>
                  </a:lnTo>
                  <a:lnTo>
                    <a:pt x="1146" y="946"/>
                  </a:lnTo>
                  <a:lnTo>
                    <a:pt x="1128" y="922"/>
                  </a:lnTo>
                  <a:lnTo>
                    <a:pt x="1124" y="896"/>
                  </a:lnTo>
                  <a:lnTo>
                    <a:pt x="1104" y="874"/>
                  </a:lnTo>
                  <a:lnTo>
                    <a:pt x="1072" y="870"/>
                  </a:lnTo>
                  <a:lnTo>
                    <a:pt x="1066" y="844"/>
                  </a:lnTo>
                  <a:lnTo>
                    <a:pt x="1072" y="828"/>
                  </a:lnTo>
                  <a:lnTo>
                    <a:pt x="1064" y="804"/>
                  </a:lnTo>
                  <a:lnTo>
                    <a:pt x="1056" y="792"/>
                  </a:lnTo>
                  <a:lnTo>
                    <a:pt x="1058" y="772"/>
                  </a:lnTo>
                  <a:lnTo>
                    <a:pt x="1056" y="744"/>
                  </a:lnTo>
                  <a:lnTo>
                    <a:pt x="1078" y="726"/>
                  </a:lnTo>
                  <a:lnTo>
                    <a:pt x="1072" y="708"/>
                  </a:lnTo>
                  <a:lnTo>
                    <a:pt x="1062" y="688"/>
                  </a:lnTo>
                  <a:lnTo>
                    <a:pt x="1030" y="644"/>
                  </a:lnTo>
                  <a:lnTo>
                    <a:pt x="994" y="614"/>
                  </a:lnTo>
                  <a:lnTo>
                    <a:pt x="984" y="590"/>
                  </a:lnTo>
                  <a:lnTo>
                    <a:pt x="966" y="570"/>
                  </a:lnTo>
                  <a:lnTo>
                    <a:pt x="942" y="546"/>
                  </a:lnTo>
                  <a:lnTo>
                    <a:pt x="934" y="520"/>
                  </a:lnTo>
                  <a:lnTo>
                    <a:pt x="942" y="506"/>
                  </a:lnTo>
                  <a:lnTo>
                    <a:pt x="962" y="452"/>
                  </a:lnTo>
                  <a:lnTo>
                    <a:pt x="984" y="410"/>
                  </a:lnTo>
                  <a:lnTo>
                    <a:pt x="972" y="384"/>
                  </a:lnTo>
                  <a:lnTo>
                    <a:pt x="950" y="368"/>
                  </a:lnTo>
                  <a:lnTo>
                    <a:pt x="904" y="324"/>
                  </a:lnTo>
                  <a:lnTo>
                    <a:pt x="874" y="316"/>
                  </a:lnTo>
                  <a:lnTo>
                    <a:pt x="848" y="314"/>
                  </a:lnTo>
                  <a:lnTo>
                    <a:pt x="830" y="308"/>
                  </a:lnTo>
                  <a:lnTo>
                    <a:pt x="818" y="298"/>
                  </a:lnTo>
                  <a:lnTo>
                    <a:pt x="804" y="278"/>
                  </a:lnTo>
                  <a:lnTo>
                    <a:pt x="792" y="248"/>
                  </a:lnTo>
                  <a:lnTo>
                    <a:pt x="792" y="238"/>
                  </a:lnTo>
                  <a:lnTo>
                    <a:pt x="804" y="206"/>
                  </a:lnTo>
                  <a:lnTo>
                    <a:pt x="802" y="202"/>
                  </a:lnTo>
                  <a:lnTo>
                    <a:pt x="784" y="196"/>
                  </a:lnTo>
                  <a:lnTo>
                    <a:pt x="830" y="164"/>
                  </a:lnTo>
                  <a:lnTo>
                    <a:pt x="810" y="156"/>
                  </a:lnTo>
                  <a:lnTo>
                    <a:pt x="806" y="144"/>
                  </a:lnTo>
                  <a:lnTo>
                    <a:pt x="810" y="130"/>
                  </a:lnTo>
                  <a:lnTo>
                    <a:pt x="838" y="104"/>
                  </a:lnTo>
                  <a:lnTo>
                    <a:pt x="832" y="86"/>
                  </a:lnTo>
                  <a:lnTo>
                    <a:pt x="812" y="58"/>
                  </a:lnTo>
                  <a:lnTo>
                    <a:pt x="774" y="40"/>
                  </a:lnTo>
                  <a:lnTo>
                    <a:pt x="742" y="34"/>
                  </a:lnTo>
                  <a:lnTo>
                    <a:pt x="720" y="26"/>
                  </a:lnTo>
                  <a:lnTo>
                    <a:pt x="698" y="4"/>
                  </a:lnTo>
                  <a:lnTo>
                    <a:pt x="688" y="0"/>
                  </a:lnTo>
                  <a:lnTo>
                    <a:pt x="648" y="6"/>
                  </a:lnTo>
                  <a:lnTo>
                    <a:pt x="584" y="24"/>
                  </a:lnTo>
                  <a:lnTo>
                    <a:pt x="542" y="28"/>
                  </a:lnTo>
                  <a:lnTo>
                    <a:pt x="522" y="36"/>
                  </a:lnTo>
                  <a:lnTo>
                    <a:pt x="506" y="50"/>
                  </a:lnTo>
                  <a:lnTo>
                    <a:pt x="490" y="84"/>
                  </a:lnTo>
                  <a:lnTo>
                    <a:pt x="494" y="130"/>
                  </a:lnTo>
                  <a:lnTo>
                    <a:pt x="496" y="144"/>
                  </a:lnTo>
                  <a:lnTo>
                    <a:pt x="506" y="168"/>
                  </a:lnTo>
                  <a:lnTo>
                    <a:pt x="506" y="182"/>
                  </a:lnTo>
                  <a:lnTo>
                    <a:pt x="464" y="204"/>
                  </a:lnTo>
                  <a:lnTo>
                    <a:pt x="454" y="220"/>
                  </a:lnTo>
                  <a:lnTo>
                    <a:pt x="432" y="232"/>
                  </a:lnTo>
                  <a:lnTo>
                    <a:pt x="408" y="240"/>
                  </a:lnTo>
                  <a:lnTo>
                    <a:pt x="388" y="236"/>
                  </a:lnTo>
                  <a:lnTo>
                    <a:pt x="380" y="228"/>
                  </a:lnTo>
                  <a:lnTo>
                    <a:pt x="360" y="214"/>
                  </a:lnTo>
                  <a:lnTo>
                    <a:pt x="342" y="206"/>
                  </a:lnTo>
                  <a:lnTo>
                    <a:pt x="314" y="228"/>
                  </a:lnTo>
                  <a:lnTo>
                    <a:pt x="290" y="238"/>
                  </a:lnTo>
                  <a:lnTo>
                    <a:pt x="270" y="240"/>
                  </a:lnTo>
                  <a:lnTo>
                    <a:pt x="240" y="232"/>
                  </a:lnTo>
                  <a:lnTo>
                    <a:pt x="194" y="228"/>
                  </a:lnTo>
                  <a:lnTo>
                    <a:pt x="182" y="220"/>
                  </a:lnTo>
                  <a:lnTo>
                    <a:pt x="170" y="200"/>
                  </a:lnTo>
                  <a:lnTo>
                    <a:pt x="108" y="152"/>
                  </a:lnTo>
                  <a:lnTo>
                    <a:pt x="84" y="140"/>
                  </a:lnTo>
                  <a:lnTo>
                    <a:pt x="58" y="134"/>
                  </a:lnTo>
                  <a:lnTo>
                    <a:pt x="36" y="142"/>
                  </a:lnTo>
                  <a:lnTo>
                    <a:pt x="42" y="154"/>
                  </a:lnTo>
                  <a:lnTo>
                    <a:pt x="50" y="168"/>
                  </a:lnTo>
                  <a:lnTo>
                    <a:pt x="32" y="172"/>
                  </a:lnTo>
                  <a:lnTo>
                    <a:pt x="18" y="168"/>
                  </a:lnTo>
                  <a:lnTo>
                    <a:pt x="4" y="170"/>
                  </a:lnTo>
                  <a:lnTo>
                    <a:pt x="0" y="18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73000" y="3391920"/>
              <a:ext cx="268200" cy="260280"/>
            </a:xfrm>
            <a:custGeom>
              <a:avLst/>
              <a:gdLst/>
              <a:ahLst/>
              <a:rect l="l" t="t" r="r" b="b"/>
              <a:pathLst>
                <a:path w="1544" h="1536">
                  <a:moveTo>
                    <a:pt x="444" y="38"/>
                  </a:moveTo>
                  <a:lnTo>
                    <a:pt x="438" y="62"/>
                  </a:lnTo>
                  <a:lnTo>
                    <a:pt x="440" y="76"/>
                  </a:lnTo>
                  <a:lnTo>
                    <a:pt x="430" y="82"/>
                  </a:lnTo>
                  <a:lnTo>
                    <a:pt x="408" y="82"/>
                  </a:lnTo>
                  <a:lnTo>
                    <a:pt x="404" y="96"/>
                  </a:lnTo>
                  <a:lnTo>
                    <a:pt x="408" y="112"/>
                  </a:lnTo>
                  <a:lnTo>
                    <a:pt x="414" y="124"/>
                  </a:lnTo>
                  <a:lnTo>
                    <a:pt x="410" y="134"/>
                  </a:lnTo>
                  <a:lnTo>
                    <a:pt x="364" y="124"/>
                  </a:lnTo>
                  <a:lnTo>
                    <a:pt x="338" y="124"/>
                  </a:lnTo>
                  <a:lnTo>
                    <a:pt x="324" y="112"/>
                  </a:lnTo>
                  <a:lnTo>
                    <a:pt x="306" y="106"/>
                  </a:lnTo>
                  <a:lnTo>
                    <a:pt x="302" y="128"/>
                  </a:lnTo>
                  <a:lnTo>
                    <a:pt x="280" y="170"/>
                  </a:lnTo>
                  <a:lnTo>
                    <a:pt x="276" y="190"/>
                  </a:lnTo>
                  <a:lnTo>
                    <a:pt x="272" y="200"/>
                  </a:lnTo>
                  <a:lnTo>
                    <a:pt x="256" y="190"/>
                  </a:lnTo>
                  <a:lnTo>
                    <a:pt x="242" y="174"/>
                  </a:lnTo>
                  <a:lnTo>
                    <a:pt x="214" y="156"/>
                  </a:lnTo>
                  <a:lnTo>
                    <a:pt x="200" y="114"/>
                  </a:lnTo>
                  <a:lnTo>
                    <a:pt x="174" y="128"/>
                  </a:lnTo>
                  <a:lnTo>
                    <a:pt x="162" y="144"/>
                  </a:lnTo>
                  <a:lnTo>
                    <a:pt x="162" y="164"/>
                  </a:lnTo>
                  <a:lnTo>
                    <a:pt x="154" y="174"/>
                  </a:lnTo>
                  <a:lnTo>
                    <a:pt x="132" y="194"/>
                  </a:lnTo>
                  <a:lnTo>
                    <a:pt x="102" y="192"/>
                  </a:lnTo>
                  <a:lnTo>
                    <a:pt x="46" y="206"/>
                  </a:lnTo>
                  <a:lnTo>
                    <a:pt x="28" y="206"/>
                  </a:lnTo>
                  <a:lnTo>
                    <a:pt x="4" y="208"/>
                  </a:lnTo>
                  <a:lnTo>
                    <a:pt x="4" y="218"/>
                  </a:lnTo>
                  <a:lnTo>
                    <a:pt x="6" y="230"/>
                  </a:lnTo>
                  <a:lnTo>
                    <a:pt x="32" y="286"/>
                  </a:lnTo>
                  <a:lnTo>
                    <a:pt x="38" y="306"/>
                  </a:lnTo>
                  <a:lnTo>
                    <a:pt x="14" y="322"/>
                  </a:lnTo>
                  <a:lnTo>
                    <a:pt x="2" y="336"/>
                  </a:lnTo>
                  <a:lnTo>
                    <a:pt x="0" y="356"/>
                  </a:lnTo>
                  <a:lnTo>
                    <a:pt x="2" y="366"/>
                  </a:lnTo>
                  <a:lnTo>
                    <a:pt x="6" y="374"/>
                  </a:lnTo>
                  <a:lnTo>
                    <a:pt x="24" y="382"/>
                  </a:lnTo>
                  <a:lnTo>
                    <a:pt x="28" y="398"/>
                  </a:lnTo>
                  <a:lnTo>
                    <a:pt x="24" y="420"/>
                  </a:lnTo>
                  <a:lnTo>
                    <a:pt x="26" y="444"/>
                  </a:lnTo>
                  <a:lnTo>
                    <a:pt x="34" y="468"/>
                  </a:lnTo>
                  <a:lnTo>
                    <a:pt x="48" y="486"/>
                  </a:lnTo>
                  <a:lnTo>
                    <a:pt x="104" y="492"/>
                  </a:lnTo>
                  <a:lnTo>
                    <a:pt x="112" y="510"/>
                  </a:lnTo>
                  <a:lnTo>
                    <a:pt x="114" y="528"/>
                  </a:lnTo>
                  <a:lnTo>
                    <a:pt x="110" y="544"/>
                  </a:lnTo>
                  <a:lnTo>
                    <a:pt x="112" y="552"/>
                  </a:lnTo>
                  <a:lnTo>
                    <a:pt x="132" y="552"/>
                  </a:lnTo>
                  <a:lnTo>
                    <a:pt x="152" y="550"/>
                  </a:lnTo>
                  <a:lnTo>
                    <a:pt x="188" y="534"/>
                  </a:lnTo>
                  <a:lnTo>
                    <a:pt x="190" y="518"/>
                  </a:lnTo>
                  <a:lnTo>
                    <a:pt x="210" y="488"/>
                  </a:lnTo>
                  <a:lnTo>
                    <a:pt x="222" y="482"/>
                  </a:lnTo>
                  <a:lnTo>
                    <a:pt x="226" y="470"/>
                  </a:lnTo>
                  <a:lnTo>
                    <a:pt x="264" y="452"/>
                  </a:lnTo>
                  <a:lnTo>
                    <a:pt x="284" y="452"/>
                  </a:lnTo>
                  <a:lnTo>
                    <a:pt x="306" y="456"/>
                  </a:lnTo>
                  <a:lnTo>
                    <a:pt x="402" y="508"/>
                  </a:lnTo>
                  <a:lnTo>
                    <a:pt x="442" y="524"/>
                  </a:lnTo>
                  <a:lnTo>
                    <a:pt x="450" y="534"/>
                  </a:lnTo>
                  <a:lnTo>
                    <a:pt x="454" y="562"/>
                  </a:lnTo>
                  <a:lnTo>
                    <a:pt x="488" y="638"/>
                  </a:lnTo>
                  <a:lnTo>
                    <a:pt x="498" y="664"/>
                  </a:lnTo>
                  <a:lnTo>
                    <a:pt x="496" y="680"/>
                  </a:lnTo>
                  <a:lnTo>
                    <a:pt x="546" y="726"/>
                  </a:lnTo>
                  <a:lnTo>
                    <a:pt x="570" y="754"/>
                  </a:lnTo>
                  <a:lnTo>
                    <a:pt x="580" y="788"/>
                  </a:lnTo>
                  <a:lnTo>
                    <a:pt x="598" y="780"/>
                  </a:lnTo>
                  <a:lnTo>
                    <a:pt x="616" y="780"/>
                  </a:lnTo>
                  <a:lnTo>
                    <a:pt x="638" y="796"/>
                  </a:lnTo>
                  <a:lnTo>
                    <a:pt x="672" y="842"/>
                  </a:lnTo>
                  <a:lnTo>
                    <a:pt x="694" y="846"/>
                  </a:lnTo>
                  <a:lnTo>
                    <a:pt x="740" y="900"/>
                  </a:lnTo>
                  <a:lnTo>
                    <a:pt x="770" y="932"/>
                  </a:lnTo>
                  <a:lnTo>
                    <a:pt x="832" y="976"/>
                  </a:lnTo>
                  <a:lnTo>
                    <a:pt x="844" y="972"/>
                  </a:lnTo>
                  <a:lnTo>
                    <a:pt x="906" y="974"/>
                  </a:lnTo>
                  <a:lnTo>
                    <a:pt x="922" y="978"/>
                  </a:lnTo>
                  <a:lnTo>
                    <a:pt x="958" y="1016"/>
                  </a:lnTo>
                  <a:lnTo>
                    <a:pt x="970" y="1040"/>
                  </a:lnTo>
                  <a:lnTo>
                    <a:pt x="1008" y="1056"/>
                  </a:lnTo>
                  <a:lnTo>
                    <a:pt x="1012" y="1064"/>
                  </a:lnTo>
                  <a:lnTo>
                    <a:pt x="1010" y="1082"/>
                  </a:lnTo>
                  <a:lnTo>
                    <a:pt x="1054" y="1074"/>
                  </a:lnTo>
                  <a:lnTo>
                    <a:pt x="1066" y="1076"/>
                  </a:lnTo>
                  <a:lnTo>
                    <a:pt x="1078" y="1090"/>
                  </a:lnTo>
                  <a:lnTo>
                    <a:pt x="1088" y="1116"/>
                  </a:lnTo>
                  <a:lnTo>
                    <a:pt x="1084" y="1134"/>
                  </a:lnTo>
                  <a:lnTo>
                    <a:pt x="1096" y="1150"/>
                  </a:lnTo>
                  <a:lnTo>
                    <a:pt x="1124" y="1162"/>
                  </a:lnTo>
                  <a:lnTo>
                    <a:pt x="1138" y="1172"/>
                  </a:lnTo>
                  <a:lnTo>
                    <a:pt x="1150" y="1190"/>
                  </a:lnTo>
                  <a:lnTo>
                    <a:pt x="1160" y="1168"/>
                  </a:lnTo>
                  <a:lnTo>
                    <a:pt x="1174" y="1168"/>
                  </a:lnTo>
                  <a:lnTo>
                    <a:pt x="1190" y="1194"/>
                  </a:lnTo>
                  <a:lnTo>
                    <a:pt x="1194" y="1210"/>
                  </a:lnTo>
                  <a:lnTo>
                    <a:pt x="1204" y="1242"/>
                  </a:lnTo>
                  <a:lnTo>
                    <a:pt x="1232" y="1288"/>
                  </a:lnTo>
                  <a:lnTo>
                    <a:pt x="1246" y="1330"/>
                  </a:lnTo>
                  <a:lnTo>
                    <a:pt x="1268" y="1380"/>
                  </a:lnTo>
                  <a:lnTo>
                    <a:pt x="1236" y="1398"/>
                  </a:lnTo>
                  <a:lnTo>
                    <a:pt x="1218" y="1410"/>
                  </a:lnTo>
                  <a:lnTo>
                    <a:pt x="1228" y="1436"/>
                  </a:lnTo>
                  <a:lnTo>
                    <a:pt x="1214" y="1462"/>
                  </a:lnTo>
                  <a:lnTo>
                    <a:pt x="1206" y="1486"/>
                  </a:lnTo>
                  <a:lnTo>
                    <a:pt x="1208" y="1516"/>
                  </a:lnTo>
                  <a:lnTo>
                    <a:pt x="1216" y="1534"/>
                  </a:lnTo>
                  <a:lnTo>
                    <a:pt x="1218" y="1528"/>
                  </a:lnTo>
                  <a:lnTo>
                    <a:pt x="1218" y="1534"/>
                  </a:lnTo>
                  <a:lnTo>
                    <a:pt x="1234" y="1536"/>
                  </a:lnTo>
                  <a:lnTo>
                    <a:pt x="1254" y="1532"/>
                  </a:lnTo>
                  <a:lnTo>
                    <a:pt x="1260" y="1526"/>
                  </a:lnTo>
                  <a:lnTo>
                    <a:pt x="1276" y="1486"/>
                  </a:lnTo>
                  <a:lnTo>
                    <a:pt x="1282" y="1476"/>
                  </a:lnTo>
                  <a:lnTo>
                    <a:pt x="1298" y="1460"/>
                  </a:lnTo>
                  <a:lnTo>
                    <a:pt x="1314" y="1456"/>
                  </a:lnTo>
                  <a:lnTo>
                    <a:pt x="1318" y="1442"/>
                  </a:lnTo>
                  <a:lnTo>
                    <a:pt x="1316" y="1388"/>
                  </a:lnTo>
                  <a:lnTo>
                    <a:pt x="1322" y="1376"/>
                  </a:lnTo>
                  <a:lnTo>
                    <a:pt x="1340" y="1370"/>
                  </a:lnTo>
                  <a:lnTo>
                    <a:pt x="1364" y="1356"/>
                  </a:lnTo>
                  <a:lnTo>
                    <a:pt x="1376" y="1356"/>
                  </a:lnTo>
                  <a:lnTo>
                    <a:pt x="1378" y="1346"/>
                  </a:lnTo>
                  <a:lnTo>
                    <a:pt x="1376" y="1314"/>
                  </a:lnTo>
                  <a:lnTo>
                    <a:pt x="1372" y="1302"/>
                  </a:lnTo>
                  <a:lnTo>
                    <a:pt x="1370" y="1278"/>
                  </a:lnTo>
                  <a:lnTo>
                    <a:pt x="1358" y="1266"/>
                  </a:lnTo>
                  <a:lnTo>
                    <a:pt x="1334" y="1254"/>
                  </a:lnTo>
                  <a:lnTo>
                    <a:pt x="1322" y="1238"/>
                  </a:lnTo>
                  <a:lnTo>
                    <a:pt x="1296" y="1226"/>
                  </a:lnTo>
                  <a:lnTo>
                    <a:pt x="1296" y="1202"/>
                  </a:lnTo>
                  <a:lnTo>
                    <a:pt x="1304" y="1156"/>
                  </a:lnTo>
                  <a:lnTo>
                    <a:pt x="1322" y="1128"/>
                  </a:lnTo>
                  <a:lnTo>
                    <a:pt x="1346" y="1098"/>
                  </a:lnTo>
                  <a:lnTo>
                    <a:pt x="1372" y="1094"/>
                  </a:lnTo>
                  <a:lnTo>
                    <a:pt x="1412" y="1122"/>
                  </a:lnTo>
                  <a:lnTo>
                    <a:pt x="1446" y="1130"/>
                  </a:lnTo>
                  <a:lnTo>
                    <a:pt x="1472" y="1144"/>
                  </a:lnTo>
                  <a:lnTo>
                    <a:pt x="1482" y="1164"/>
                  </a:lnTo>
                  <a:lnTo>
                    <a:pt x="1502" y="1192"/>
                  </a:lnTo>
                  <a:lnTo>
                    <a:pt x="1528" y="1206"/>
                  </a:lnTo>
                  <a:lnTo>
                    <a:pt x="1528" y="1200"/>
                  </a:lnTo>
                  <a:lnTo>
                    <a:pt x="1544" y="1164"/>
                  </a:lnTo>
                  <a:lnTo>
                    <a:pt x="1534" y="1146"/>
                  </a:lnTo>
                  <a:lnTo>
                    <a:pt x="1518" y="1124"/>
                  </a:lnTo>
                  <a:lnTo>
                    <a:pt x="1494" y="1100"/>
                  </a:lnTo>
                  <a:lnTo>
                    <a:pt x="1464" y="1058"/>
                  </a:lnTo>
                  <a:lnTo>
                    <a:pt x="1378" y="1028"/>
                  </a:lnTo>
                  <a:lnTo>
                    <a:pt x="1358" y="1006"/>
                  </a:lnTo>
                  <a:lnTo>
                    <a:pt x="1330" y="992"/>
                  </a:lnTo>
                  <a:lnTo>
                    <a:pt x="1244" y="958"/>
                  </a:lnTo>
                  <a:lnTo>
                    <a:pt x="1224" y="946"/>
                  </a:lnTo>
                  <a:lnTo>
                    <a:pt x="1210" y="942"/>
                  </a:lnTo>
                  <a:lnTo>
                    <a:pt x="1200" y="942"/>
                  </a:lnTo>
                  <a:lnTo>
                    <a:pt x="1192" y="932"/>
                  </a:lnTo>
                  <a:lnTo>
                    <a:pt x="1192" y="918"/>
                  </a:lnTo>
                  <a:lnTo>
                    <a:pt x="1204" y="904"/>
                  </a:lnTo>
                  <a:lnTo>
                    <a:pt x="1220" y="892"/>
                  </a:lnTo>
                  <a:lnTo>
                    <a:pt x="1222" y="872"/>
                  </a:lnTo>
                  <a:lnTo>
                    <a:pt x="1204" y="852"/>
                  </a:lnTo>
                  <a:lnTo>
                    <a:pt x="1180" y="854"/>
                  </a:lnTo>
                  <a:lnTo>
                    <a:pt x="1172" y="860"/>
                  </a:lnTo>
                  <a:lnTo>
                    <a:pt x="1190" y="854"/>
                  </a:lnTo>
                  <a:lnTo>
                    <a:pt x="1172" y="860"/>
                  </a:lnTo>
                  <a:lnTo>
                    <a:pt x="1102" y="862"/>
                  </a:lnTo>
                  <a:lnTo>
                    <a:pt x="1102" y="880"/>
                  </a:lnTo>
                  <a:lnTo>
                    <a:pt x="1070" y="850"/>
                  </a:lnTo>
                  <a:lnTo>
                    <a:pt x="1044" y="832"/>
                  </a:lnTo>
                  <a:lnTo>
                    <a:pt x="1034" y="832"/>
                  </a:lnTo>
                  <a:lnTo>
                    <a:pt x="1026" y="814"/>
                  </a:lnTo>
                  <a:lnTo>
                    <a:pt x="1016" y="814"/>
                  </a:lnTo>
                  <a:lnTo>
                    <a:pt x="966" y="768"/>
                  </a:lnTo>
                  <a:lnTo>
                    <a:pt x="952" y="750"/>
                  </a:lnTo>
                  <a:lnTo>
                    <a:pt x="932" y="718"/>
                  </a:lnTo>
                  <a:lnTo>
                    <a:pt x="916" y="678"/>
                  </a:lnTo>
                  <a:lnTo>
                    <a:pt x="906" y="668"/>
                  </a:lnTo>
                  <a:lnTo>
                    <a:pt x="890" y="614"/>
                  </a:lnTo>
                  <a:lnTo>
                    <a:pt x="870" y="580"/>
                  </a:lnTo>
                  <a:lnTo>
                    <a:pt x="860" y="574"/>
                  </a:lnTo>
                  <a:lnTo>
                    <a:pt x="844" y="574"/>
                  </a:lnTo>
                  <a:lnTo>
                    <a:pt x="840" y="566"/>
                  </a:lnTo>
                  <a:lnTo>
                    <a:pt x="806" y="546"/>
                  </a:lnTo>
                  <a:lnTo>
                    <a:pt x="790" y="530"/>
                  </a:lnTo>
                  <a:lnTo>
                    <a:pt x="742" y="508"/>
                  </a:lnTo>
                  <a:lnTo>
                    <a:pt x="726" y="492"/>
                  </a:lnTo>
                  <a:lnTo>
                    <a:pt x="712" y="472"/>
                  </a:lnTo>
                  <a:lnTo>
                    <a:pt x="704" y="454"/>
                  </a:lnTo>
                  <a:lnTo>
                    <a:pt x="702" y="414"/>
                  </a:lnTo>
                  <a:lnTo>
                    <a:pt x="704" y="376"/>
                  </a:lnTo>
                  <a:lnTo>
                    <a:pt x="716" y="366"/>
                  </a:lnTo>
                  <a:lnTo>
                    <a:pt x="718" y="350"/>
                  </a:lnTo>
                  <a:lnTo>
                    <a:pt x="710" y="336"/>
                  </a:lnTo>
                  <a:lnTo>
                    <a:pt x="694" y="332"/>
                  </a:lnTo>
                  <a:lnTo>
                    <a:pt x="686" y="300"/>
                  </a:lnTo>
                  <a:lnTo>
                    <a:pt x="690" y="284"/>
                  </a:lnTo>
                  <a:lnTo>
                    <a:pt x="712" y="266"/>
                  </a:lnTo>
                  <a:lnTo>
                    <a:pt x="722" y="266"/>
                  </a:lnTo>
                  <a:lnTo>
                    <a:pt x="724" y="268"/>
                  </a:lnTo>
                  <a:lnTo>
                    <a:pt x="736" y="266"/>
                  </a:lnTo>
                  <a:lnTo>
                    <a:pt x="808" y="228"/>
                  </a:lnTo>
                  <a:lnTo>
                    <a:pt x="828" y="232"/>
                  </a:lnTo>
                  <a:lnTo>
                    <a:pt x="848" y="222"/>
                  </a:lnTo>
                  <a:lnTo>
                    <a:pt x="864" y="226"/>
                  </a:lnTo>
                  <a:lnTo>
                    <a:pt x="866" y="238"/>
                  </a:lnTo>
                  <a:lnTo>
                    <a:pt x="860" y="254"/>
                  </a:lnTo>
                  <a:lnTo>
                    <a:pt x="860" y="258"/>
                  </a:lnTo>
                  <a:lnTo>
                    <a:pt x="872" y="260"/>
                  </a:lnTo>
                  <a:lnTo>
                    <a:pt x="884" y="256"/>
                  </a:lnTo>
                  <a:lnTo>
                    <a:pt x="890" y="250"/>
                  </a:lnTo>
                  <a:lnTo>
                    <a:pt x="892" y="242"/>
                  </a:lnTo>
                  <a:lnTo>
                    <a:pt x="888" y="232"/>
                  </a:lnTo>
                  <a:lnTo>
                    <a:pt x="878" y="228"/>
                  </a:lnTo>
                  <a:lnTo>
                    <a:pt x="872" y="218"/>
                  </a:lnTo>
                  <a:lnTo>
                    <a:pt x="854" y="210"/>
                  </a:lnTo>
                  <a:lnTo>
                    <a:pt x="848" y="206"/>
                  </a:lnTo>
                  <a:lnTo>
                    <a:pt x="846" y="188"/>
                  </a:lnTo>
                  <a:lnTo>
                    <a:pt x="834" y="176"/>
                  </a:lnTo>
                  <a:lnTo>
                    <a:pt x="836" y="158"/>
                  </a:lnTo>
                  <a:lnTo>
                    <a:pt x="840" y="144"/>
                  </a:lnTo>
                  <a:lnTo>
                    <a:pt x="828" y="146"/>
                  </a:lnTo>
                  <a:lnTo>
                    <a:pt x="824" y="142"/>
                  </a:lnTo>
                  <a:lnTo>
                    <a:pt x="822" y="132"/>
                  </a:lnTo>
                  <a:lnTo>
                    <a:pt x="828" y="116"/>
                  </a:lnTo>
                  <a:lnTo>
                    <a:pt x="850" y="96"/>
                  </a:lnTo>
                  <a:lnTo>
                    <a:pt x="830" y="96"/>
                  </a:lnTo>
                  <a:lnTo>
                    <a:pt x="800" y="84"/>
                  </a:lnTo>
                  <a:lnTo>
                    <a:pt x="730" y="78"/>
                  </a:lnTo>
                  <a:lnTo>
                    <a:pt x="706" y="64"/>
                  </a:lnTo>
                  <a:lnTo>
                    <a:pt x="698" y="62"/>
                  </a:lnTo>
                  <a:lnTo>
                    <a:pt x="670" y="46"/>
                  </a:lnTo>
                  <a:lnTo>
                    <a:pt x="660" y="32"/>
                  </a:lnTo>
                  <a:lnTo>
                    <a:pt x="654" y="14"/>
                  </a:lnTo>
                  <a:lnTo>
                    <a:pt x="654" y="4"/>
                  </a:lnTo>
                  <a:lnTo>
                    <a:pt x="648" y="0"/>
                  </a:lnTo>
                  <a:lnTo>
                    <a:pt x="636" y="2"/>
                  </a:lnTo>
                  <a:lnTo>
                    <a:pt x="624" y="10"/>
                  </a:lnTo>
                  <a:lnTo>
                    <a:pt x="602" y="14"/>
                  </a:lnTo>
                  <a:lnTo>
                    <a:pt x="560" y="18"/>
                  </a:lnTo>
                  <a:lnTo>
                    <a:pt x="518" y="34"/>
                  </a:lnTo>
                  <a:lnTo>
                    <a:pt x="482" y="44"/>
                  </a:lnTo>
                  <a:lnTo>
                    <a:pt x="474" y="46"/>
                  </a:lnTo>
                  <a:lnTo>
                    <a:pt x="444" y="3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69560" y="3439080"/>
              <a:ext cx="87120" cy="81360"/>
            </a:xfrm>
            <a:custGeom>
              <a:avLst/>
              <a:gdLst/>
              <a:ahLst/>
              <a:rect l="l" t="t" r="r" b="b"/>
              <a:pathLst>
                <a:path w="504" h="480">
                  <a:moveTo>
                    <a:pt x="378" y="480"/>
                  </a:moveTo>
                  <a:lnTo>
                    <a:pt x="378" y="462"/>
                  </a:lnTo>
                  <a:lnTo>
                    <a:pt x="366" y="460"/>
                  </a:lnTo>
                  <a:lnTo>
                    <a:pt x="366" y="450"/>
                  </a:lnTo>
                  <a:lnTo>
                    <a:pt x="348" y="448"/>
                  </a:lnTo>
                  <a:lnTo>
                    <a:pt x="324" y="428"/>
                  </a:lnTo>
                  <a:lnTo>
                    <a:pt x="310" y="424"/>
                  </a:lnTo>
                  <a:lnTo>
                    <a:pt x="290" y="410"/>
                  </a:lnTo>
                  <a:lnTo>
                    <a:pt x="288" y="400"/>
                  </a:lnTo>
                  <a:lnTo>
                    <a:pt x="272" y="398"/>
                  </a:lnTo>
                  <a:lnTo>
                    <a:pt x="256" y="408"/>
                  </a:lnTo>
                  <a:lnTo>
                    <a:pt x="252" y="398"/>
                  </a:lnTo>
                  <a:lnTo>
                    <a:pt x="268" y="388"/>
                  </a:lnTo>
                  <a:lnTo>
                    <a:pt x="212" y="334"/>
                  </a:lnTo>
                  <a:lnTo>
                    <a:pt x="206" y="310"/>
                  </a:lnTo>
                  <a:lnTo>
                    <a:pt x="196" y="300"/>
                  </a:lnTo>
                  <a:lnTo>
                    <a:pt x="184" y="296"/>
                  </a:lnTo>
                  <a:lnTo>
                    <a:pt x="134" y="252"/>
                  </a:lnTo>
                  <a:lnTo>
                    <a:pt x="132" y="240"/>
                  </a:lnTo>
                  <a:lnTo>
                    <a:pt x="108" y="212"/>
                  </a:lnTo>
                  <a:lnTo>
                    <a:pt x="92" y="208"/>
                  </a:lnTo>
                  <a:lnTo>
                    <a:pt x="70" y="178"/>
                  </a:lnTo>
                  <a:lnTo>
                    <a:pt x="60" y="178"/>
                  </a:lnTo>
                  <a:lnTo>
                    <a:pt x="60" y="162"/>
                  </a:lnTo>
                  <a:lnTo>
                    <a:pt x="64" y="158"/>
                  </a:lnTo>
                  <a:lnTo>
                    <a:pt x="54" y="146"/>
                  </a:lnTo>
                  <a:lnTo>
                    <a:pt x="54" y="134"/>
                  </a:lnTo>
                  <a:lnTo>
                    <a:pt x="40" y="120"/>
                  </a:lnTo>
                  <a:lnTo>
                    <a:pt x="28" y="94"/>
                  </a:lnTo>
                  <a:lnTo>
                    <a:pt x="18" y="92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8" y="68"/>
                  </a:lnTo>
                  <a:lnTo>
                    <a:pt x="4" y="58"/>
                  </a:lnTo>
                  <a:lnTo>
                    <a:pt x="2" y="18"/>
                  </a:lnTo>
                  <a:lnTo>
                    <a:pt x="14" y="4"/>
                  </a:lnTo>
                  <a:lnTo>
                    <a:pt x="34" y="8"/>
                  </a:lnTo>
                  <a:lnTo>
                    <a:pt x="36" y="14"/>
                  </a:lnTo>
                  <a:lnTo>
                    <a:pt x="68" y="44"/>
                  </a:lnTo>
                  <a:lnTo>
                    <a:pt x="74" y="46"/>
                  </a:lnTo>
                  <a:lnTo>
                    <a:pt x="94" y="8"/>
                  </a:lnTo>
                  <a:lnTo>
                    <a:pt x="136" y="12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76" y="20"/>
                  </a:lnTo>
                  <a:lnTo>
                    <a:pt x="186" y="20"/>
                  </a:lnTo>
                  <a:lnTo>
                    <a:pt x="190" y="14"/>
                  </a:lnTo>
                  <a:lnTo>
                    <a:pt x="200" y="22"/>
                  </a:lnTo>
                  <a:lnTo>
                    <a:pt x="234" y="26"/>
                  </a:lnTo>
                  <a:lnTo>
                    <a:pt x="238" y="22"/>
                  </a:lnTo>
                  <a:lnTo>
                    <a:pt x="242" y="22"/>
                  </a:lnTo>
                  <a:lnTo>
                    <a:pt x="262" y="38"/>
                  </a:lnTo>
                  <a:lnTo>
                    <a:pt x="268" y="36"/>
                  </a:lnTo>
                  <a:lnTo>
                    <a:pt x="280" y="22"/>
                  </a:lnTo>
                  <a:lnTo>
                    <a:pt x="288" y="22"/>
                  </a:lnTo>
                  <a:lnTo>
                    <a:pt x="298" y="32"/>
                  </a:lnTo>
                  <a:lnTo>
                    <a:pt x="304" y="34"/>
                  </a:lnTo>
                  <a:lnTo>
                    <a:pt x="310" y="24"/>
                  </a:lnTo>
                  <a:lnTo>
                    <a:pt x="336" y="28"/>
                  </a:lnTo>
                  <a:lnTo>
                    <a:pt x="346" y="40"/>
                  </a:lnTo>
                  <a:lnTo>
                    <a:pt x="350" y="36"/>
                  </a:lnTo>
                  <a:lnTo>
                    <a:pt x="350" y="30"/>
                  </a:lnTo>
                  <a:lnTo>
                    <a:pt x="366" y="32"/>
                  </a:lnTo>
                  <a:lnTo>
                    <a:pt x="382" y="48"/>
                  </a:lnTo>
                  <a:lnTo>
                    <a:pt x="380" y="58"/>
                  </a:lnTo>
                  <a:lnTo>
                    <a:pt x="382" y="62"/>
                  </a:lnTo>
                  <a:lnTo>
                    <a:pt x="394" y="70"/>
                  </a:lnTo>
                  <a:lnTo>
                    <a:pt x="414" y="70"/>
                  </a:lnTo>
                  <a:lnTo>
                    <a:pt x="426" y="60"/>
                  </a:lnTo>
                  <a:lnTo>
                    <a:pt x="454" y="60"/>
                  </a:lnTo>
                  <a:lnTo>
                    <a:pt x="460" y="68"/>
                  </a:lnTo>
                  <a:lnTo>
                    <a:pt x="456" y="74"/>
                  </a:lnTo>
                  <a:lnTo>
                    <a:pt x="458" y="84"/>
                  </a:lnTo>
                  <a:lnTo>
                    <a:pt x="448" y="100"/>
                  </a:lnTo>
                  <a:lnTo>
                    <a:pt x="440" y="124"/>
                  </a:lnTo>
                  <a:lnTo>
                    <a:pt x="434" y="126"/>
                  </a:lnTo>
                  <a:lnTo>
                    <a:pt x="436" y="134"/>
                  </a:lnTo>
                  <a:lnTo>
                    <a:pt x="438" y="138"/>
                  </a:lnTo>
                  <a:lnTo>
                    <a:pt x="432" y="150"/>
                  </a:lnTo>
                  <a:lnTo>
                    <a:pt x="438" y="164"/>
                  </a:lnTo>
                  <a:lnTo>
                    <a:pt x="446" y="166"/>
                  </a:lnTo>
                  <a:lnTo>
                    <a:pt x="452" y="168"/>
                  </a:lnTo>
                  <a:lnTo>
                    <a:pt x="460" y="166"/>
                  </a:lnTo>
                  <a:lnTo>
                    <a:pt x="466" y="174"/>
                  </a:lnTo>
                  <a:lnTo>
                    <a:pt x="468" y="180"/>
                  </a:lnTo>
                  <a:lnTo>
                    <a:pt x="478" y="190"/>
                  </a:lnTo>
                  <a:lnTo>
                    <a:pt x="484" y="188"/>
                  </a:lnTo>
                  <a:lnTo>
                    <a:pt x="486" y="192"/>
                  </a:lnTo>
                  <a:lnTo>
                    <a:pt x="486" y="196"/>
                  </a:lnTo>
                  <a:lnTo>
                    <a:pt x="496" y="202"/>
                  </a:lnTo>
                  <a:lnTo>
                    <a:pt x="502" y="204"/>
                  </a:lnTo>
                  <a:lnTo>
                    <a:pt x="504" y="210"/>
                  </a:lnTo>
                  <a:lnTo>
                    <a:pt x="496" y="220"/>
                  </a:lnTo>
                  <a:lnTo>
                    <a:pt x="478" y="222"/>
                  </a:lnTo>
                  <a:lnTo>
                    <a:pt x="466" y="214"/>
                  </a:lnTo>
                  <a:lnTo>
                    <a:pt x="460" y="214"/>
                  </a:lnTo>
                  <a:lnTo>
                    <a:pt x="458" y="218"/>
                  </a:lnTo>
                  <a:lnTo>
                    <a:pt x="460" y="222"/>
                  </a:lnTo>
                  <a:lnTo>
                    <a:pt x="476" y="236"/>
                  </a:lnTo>
                  <a:lnTo>
                    <a:pt x="492" y="256"/>
                  </a:lnTo>
                  <a:lnTo>
                    <a:pt x="496" y="258"/>
                  </a:lnTo>
                  <a:lnTo>
                    <a:pt x="498" y="276"/>
                  </a:lnTo>
                  <a:lnTo>
                    <a:pt x="494" y="282"/>
                  </a:lnTo>
                  <a:lnTo>
                    <a:pt x="488" y="286"/>
                  </a:lnTo>
                  <a:lnTo>
                    <a:pt x="484" y="280"/>
                  </a:lnTo>
                  <a:lnTo>
                    <a:pt x="476" y="280"/>
                  </a:lnTo>
                  <a:lnTo>
                    <a:pt x="472" y="290"/>
                  </a:lnTo>
                  <a:lnTo>
                    <a:pt x="462" y="294"/>
                  </a:lnTo>
                  <a:lnTo>
                    <a:pt x="452" y="294"/>
                  </a:lnTo>
                  <a:lnTo>
                    <a:pt x="448" y="298"/>
                  </a:lnTo>
                  <a:lnTo>
                    <a:pt x="442" y="298"/>
                  </a:lnTo>
                  <a:lnTo>
                    <a:pt x="440" y="292"/>
                  </a:lnTo>
                  <a:lnTo>
                    <a:pt x="432" y="292"/>
                  </a:lnTo>
                  <a:lnTo>
                    <a:pt x="426" y="300"/>
                  </a:lnTo>
                  <a:lnTo>
                    <a:pt x="430" y="306"/>
                  </a:lnTo>
                  <a:lnTo>
                    <a:pt x="438" y="310"/>
                  </a:lnTo>
                  <a:lnTo>
                    <a:pt x="440" y="320"/>
                  </a:lnTo>
                  <a:lnTo>
                    <a:pt x="446" y="328"/>
                  </a:lnTo>
                  <a:lnTo>
                    <a:pt x="446" y="340"/>
                  </a:lnTo>
                  <a:lnTo>
                    <a:pt x="444" y="344"/>
                  </a:lnTo>
                  <a:lnTo>
                    <a:pt x="438" y="344"/>
                  </a:lnTo>
                  <a:lnTo>
                    <a:pt x="434" y="340"/>
                  </a:lnTo>
                  <a:lnTo>
                    <a:pt x="430" y="328"/>
                  </a:lnTo>
                  <a:lnTo>
                    <a:pt x="426" y="326"/>
                  </a:lnTo>
                  <a:lnTo>
                    <a:pt x="416" y="326"/>
                  </a:lnTo>
                  <a:lnTo>
                    <a:pt x="398" y="342"/>
                  </a:lnTo>
                  <a:lnTo>
                    <a:pt x="396" y="354"/>
                  </a:lnTo>
                  <a:lnTo>
                    <a:pt x="392" y="358"/>
                  </a:lnTo>
                  <a:lnTo>
                    <a:pt x="394" y="376"/>
                  </a:lnTo>
                  <a:lnTo>
                    <a:pt x="390" y="380"/>
                  </a:lnTo>
                  <a:lnTo>
                    <a:pt x="380" y="380"/>
                  </a:lnTo>
                  <a:lnTo>
                    <a:pt x="374" y="388"/>
                  </a:lnTo>
                  <a:lnTo>
                    <a:pt x="374" y="408"/>
                  </a:lnTo>
                  <a:lnTo>
                    <a:pt x="372" y="410"/>
                  </a:lnTo>
                  <a:lnTo>
                    <a:pt x="372" y="416"/>
                  </a:lnTo>
                  <a:lnTo>
                    <a:pt x="380" y="428"/>
                  </a:lnTo>
                  <a:lnTo>
                    <a:pt x="386" y="434"/>
                  </a:lnTo>
                  <a:lnTo>
                    <a:pt x="388" y="444"/>
                  </a:lnTo>
                  <a:lnTo>
                    <a:pt x="378" y="462"/>
                  </a:lnTo>
                  <a:lnTo>
                    <a:pt x="378" y="48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640" bIns="356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79000" y="3538800"/>
              <a:ext cx="137160" cy="119520"/>
            </a:xfrm>
            <a:custGeom>
              <a:avLst/>
              <a:gdLst/>
              <a:ahLst/>
              <a:rect l="l" t="t" r="r" b="b"/>
              <a:pathLst>
                <a:path w="792" h="698">
                  <a:moveTo>
                    <a:pt x="744" y="182"/>
                  </a:moveTo>
                  <a:lnTo>
                    <a:pt x="720" y="164"/>
                  </a:lnTo>
                  <a:lnTo>
                    <a:pt x="608" y="138"/>
                  </a:lnTo>
                  <a:lnTo>
                    <a:pt x="586" y="152"/>
                  </a:lnTo>
                  <a:lnTo>
                    <a:pt x="574" y="156"/>
                  </a:lnTo>
                  <a:lnTo>
                    <a:pt x="556" y="156"/>
                  </a:lnTo>
                  <a:lnTo>
                    <a:pt x="530" y="146"/>
                  </a:lnTo>
                  <a:lnTo>
                    <a:pt x="508" y="172"/>
                  </a:lnTo>
                  <a:lnTo>
                    <a:pt x="472" y="182"/>
                  </a:lnTo>
                  <a:lnTo>
                    <a:pt x="438" y="204"/>
                  </a:lnTo>
                  <a:lnTo>
                    <a:pt x="460" y="224"/>
                  </a:lnTo>
                  <a:lnTo>
                    <a:pt x="496" y="236"/>
                  </a:lnTo>
                  <a:lnTo>
                    <a:pt x="520" y="262"/>
                  </a:lnTo>
                  <a:lnTo>
                    <a:pt x="528" y="274"/>
                  </a:lnTo>
                  <a:lnTo>
                    <a:pt x="500" y="254"/>
                  </a:lnTo>
                  <a:lnTo>
                    <a:pt x="462" y="246"/>
                  </a:lnTo>
                  <a:lnTo>
                    <a:pt x="454" y="266"/>
                  </a:lnTo>
                  <a:lnTo>
                    <a:pt x="482" y="284"/>
                  </a:lnTo>
                  <a:lnTo>
                    <a:pt x="488" y="316"/>
                  </a:lnTo>
                  <a:lnTo>
                    <a:pt x="468" y="296"/>
                  </a:lnTo>
                  <a:lnTo>
                    <a:pt x="450" y="272"/>
                  </a:lnTo>
                  <a:lnTo>
                    <a:pt x="428" y="264"/>
                  </a:lnTo>
                  <a:lnTo>
                    <a:pt x="418" y="268"/>
                  </a:lnTo>
                  <a:lnTo>
                    <a:pt x="426" y="292"/>
                  </a:lnTo>
                  <a:lnTo>
                    <a:pt x="450" y="310"/>
                  </a:lnTo>
                  <a:lnTo>
                    <a:pt x="438" y="320"/>
                  </a:lnTo>
                  <a:lnTo>
                    <a:pt x="410" y="296"/>
                  </a:lnTo>
                  <a:lnTo>
                    <a:pt x="394" y="266"/>
                  </a:lnTo>
                  <a:lnTo>
                    <a:pt x="338" y="232"/>
                  </a:lnTo>
                  <a:lnTo>
                    <a:pt x="334" y="222"/>
                  </a:lnTo>
                  <a:lnTo>
                    <a:pt x="340" y="206"/>
                  </a:lnTo>
                  <a:lnTo>
                    <a:pt x="310" y="218"/>
                  </a:lnTo>
                  <a:lnTo>
                    <a:pt x="306" y="252"/>
                  </a:lnTo>
                  <a:lnTo>
                    <a:pt x="310" y="286"/>
                  </a:lnTo>
                  <a:lnTo>
                    <a:pt x="318" y="316"/>
                  </a:lnTo>
                  <a:lnTo>
                    <a:pt x="334" y="332"/>
                  </a:lnTo>
                  <a:lnTo>
                    <a:pt x="348" y="368"/>
                  </a:lnTo>
                  <a:lnTo>
                    <a:pt x="394" y="408"/>
                  </a:lnTo>
                  <a:lnTo>
                    <a:pt x="408" y="432"/>
                  </a:lnTo>
                  <a:lnTo>
                    <a:pt x="414" y="450"/>
                  </a:lnTo>
                  <a:lnTo>
                    <a:pt x="404" y="458"/>
                  </a:lnTo>
                  <a:lnTo>
                    <a:pt x="394" y="456"/>
                  </a:lnTo>
                  <a:lnTo>
                    <a:pt x="396" y="440"/>
                  </a:lnTo>
                  <a:lnTo>
                    <a:pt x="384" y="426"/>
                  </a:lnTo>
                  <a:lnTo>
                    <a:pt x="364" y="422"/>
                  </a:lnTo>
                  <a:lnTo>
                    <a:pt x="360" y="442"/>
                  </a:lnTo>
                  <a:lnTo>
                    <a:pt x="376" y="476"/>
                  </a:lnTo>
                  <a:lnTo>
                    <a:pt x="370" y="484"/>
                  </a:lnTo>
                  <a:lnTo>
                    <a:pt x="358" y="486"/>
                  </a:lnTo>
                  <a:lnTo>
                    <a:pt x="344" y="484"/>
                  </a:lnTo>
                  <a:lnTo>
                    <a:pt x="322" y="490"/>
                  </a:lnTo>
                  <a:lnTo>
                    <a:pt x="332" y="506"/>
                  </a:lnTo>
                  <a:lnTo>
                    <a:pt x="360" y="518"/>
                  </a:lnTo>
                  <a:lnTo>
                    <a:pt x="384" y="524"/>
                  </a:lnTo>
                  <a:lnTo>
                    <a:pt x="402" y="534"/>
                  </a:lnTo>
                  <a:lnTo>
                    <a:pt x="424" y="536"/>
                  </a:lnTo>
                  <a:lnTo>
                    <a:pt x="438" y="562"/>
                  </a:lnTo>
                  <a:lnTo>
                    <a:pt x="454" y="562"/>
                  </a:lnTo>
                  <a:lnTo>
                    <a:pt x="472" y="580"/>
                  </a:lnTo>
                  <a:lnTo>
                    <a:pt x="492" y="594"/>
                  </a:lnTo>
                  <a:lnTo>
                    <a:pt x="506" y="596"/>
                  </a:lnTo>
                  <a:lnTo>
                    <a:pt x="524" y="608"/>
                  </a:lnTo>
                  <a:lnTo>
                    <a:pt x="536" y="698"/>
                  </a:lnTo>
                  <a:lnTo>
                    <a:pt x="502" y="678"/>
                  </a:lnTo>
                  <a:lnTo>
                    <a:pt x="474" y="648"/>
                  </a:lnTo>
                  <a:lnTo>
                    <a:pt x="444" y="654"/>
                  </a:lnTo>
                  <a:lnTo>
                    <a:pt x="408" y="654"/>
                  </a:lnTo>
                  <a:lnTo>
                    <a:pt x="386" y="644"/>
                  </a:lnTo>
                  <a:lnTo>
                    <a:pt x="410" y="636"/>
                  </a:lnTo>
                  <a:lnTo>
                    <a:pt x="412" y="616"/>
                  </a:lnTo>
                  <a:lnTo>
                    <a:pt x="384" y="612"/>
                  </a:lnTo>
                  <a:lnTo>
                    <a:pt x="348" y="580"/>
                  </a:lnTo>
                  <a:lnTo>
                    <a:pt x="336" y="594"/>
                  </a:lnTo>
                  <a:lnTo>
                    <a:pt x="312" y="586"/>
                  </a:lnTo>
                  <a:lnTo>
                    <a:pt x="282" y="590"/>
                  </a:lnTo>
                  <a:lnTo>
                    <a:pt x="252" y="586"/>
                  </a:lnTo>
                  <a:lnTo>
                    <a:pt x="212" y="592"/>
                  </a:lnTo>
                  <a:lnTo>
                    <a:pt x="178" y="578"/>
                  </a:lnTo>
                  <a:lnTo>
                    <a:pt x="170" y="578"/>
                  </a:lnTo>
                  <a:lnTo>
                    <a:pt x="164" y="588"/>
                  </a:lnTo>
                  <a:lnTo>
                    <a:pt x="152" y="592"/>
                  </a:lnTo>
                  <a:lnTo>
                    <a:pt x="140" y="576"/>
                  </a:lnTo>
                  <a:lnTo>
                    <a:pt x="124" y="546"/>
                  </a:lnTo>
                  <a:lnTo>
                    <a:pt x="90" y="500"/>
                  </a:lnTo>
                  <a:lnTo>
                    <a:pt x="114" y="504"/>
                  </a:lnTo>
                  <a:lnTo>
                    <a:pt x="138" y="498"/>
                  </a:lnTo>
                  <a:lnTo>
                    <a:pt x="126" y="478"/>
                  </a:lnTo>
                  <a:lnTo>
                    <a:pt x="92" y="464"/>
                  </a:lnTo>
                  <a:lnTo>
                    <a:pt x="88" y="486"/>
                  </a:lnTo>
                  <a:lnTo>
                    <a:pt x="46" y="426"/>
                  </a:lnTo>
                  <a:lnTo>
                    <a:pt x="22" y="410"/>
                  </a:lnTo>
                  <a:lnTo>
                    <a:pt x="8" y="370"/>
                  </a:lnTo>
                  <a:lnTo>
                    <a:pt x="4" y="366"/>
                  </a:lnTo>
                  <a:lnTo>
                    <a:pt x="0" y="366"/>
                  </a:lnTo>
                  <a:lnTo>
                    <a:pt x="4" y="366"/>
                  </a:lnTo>
                  <a:lnTo>
                    <a:pt x="22" y="350"/>
                  </a:lnTo>
                  <a:lnTo>
                    <a:pt x="32" y="334"/>
                  </a:lnTo>
                  <a:lnTo>
                    <a:pt x="36" y="308"/>
                  </a:lnTo>
                  <a:lnTo>
                    <a:pt x="58" y="290"/>
                  </a:lnTo>
                  <a:lnTo>
                    <a:pt x="74" y="250"/>
                  </a:lnTo>
                  <a:lnTo>
                    <a:pt x="102" y="222"/>
                  </a:lnTo>
                  <a:lnTo>
                    <a:pt x="98" y="190"/>
                  </a:lnTo>
                  <a:lnTo>
                    <a:pt x="92" y="166"/>
                  </a:lnTo>
                  <a:lnTo>
                    <a:pt x="174" y="154"/>
                  </a:lnTo>
                  <a:lnTo>
                    <a:pt x="198" y="128"/>
                  </a:lnTo>
                  <a:lnTo>
                    <a:pt x="238" y="112"/>
                  </a:lnTo>
                  <a:lnTo>
                    <a:pt x="286" y="110"/>
                  </a:lnTo>
                  <a:lnTo>
                    <a:pt x="318" y="80"/>
                  </a:lnTo>
                  <a:lnTo>
                    <a:pt x="332" y="76"/>
                  </a:lnTo>
                  <a:lnTo>
                    <a:pt x="362" y="74"/>
                  </a:lnTo>
                  <a:lnTo>
                    <a:pt x="400" y="64"/>
                  </a:lnTo>
                  <a:lnTo>
                    <a:pt x="454" y="64"/>
                  </a:lnTo>
                  <a:lnTo>
                    <a:pt x="522" y="40"/>
                  </a:lnTo>
                  <a:lnTo>
                    <a:pt x="550" y="40"/>
                  </a:lnTo>
                  <a:lnTo>
                    <a:pt x="574" y="60"/>
                  </a:lnTo>
                  <a:lnTo>
                    <a:pt x="660" y="88"/>
                  </a:lnTo>
                  <a:lnTo>
                    <a:pt x="706" y="76"/>
                  </a:lnTo>
                  <a:lnTo>
                    <a:pt x="734" y="48"/>
                  </a:lnTo>
                  <a:lnTo>
                    <a:pt x="734" y="2"/>
                  </a:lnTo>
                  <a:lnTo>
                    <a:pt x="760" y="0"/>
                  </a:lnTo>
                  <a:lnTo>
                    <a:pt x="768" y="14"/>
                  </a:lnTo>
                  <a:lnTo>
                    <a:pt x="792" y="32"/>
                  </a:lnTo>
                  <a:lnTo>
                    <a:pt x="792" y="58"/>
                  </a:lnTo>
                  <a:lnTo>
                    <a:pt x="768" y="78"/>
                  </a:lnTo>
                  <a:lnTo>
                    <a:pt x="768" y="112"/>
                  </a:lnTo>
                  <a:lnTo>
                    <a:pt x="764" y="148"/>
                  </a:lnTo>
                  <a:lnTo>
                    <a:pt x="744" y="18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39720" y="3736800"/>
              <a:ext cx="35640" cy="50400"/>
            </a:xfrm>
            <a:custGeom>
              <a:avLst/>
              <a:gdLst/>
              <a:ahLst/>
              <a:rect l="l" t="t" r="r" b="b"/>
              <a:pathLst>
                <a:path w="204" h="298">
                  <a:moveTo>
                    <a:pt x="76" y="264"/>
                  </a:moveTo>
                  <a:lnTo>
                    <a:pt x="92" y="248"/>
                  </a:lnTo>
                  <a:lnTo>
                    <a:pt x="102" y="246"/>
                  </a:lnTo>
                  <a:lnTo>
                    <a:pt x="104" y="238"/>
                  </a:lnTo>
                  <a:lnTo>
                    <a:pt x="118" y="226"/>
                  </a:lnTo>
                  <a:lnTo>
                    <a:pt x="126" y="212"/>
                  </a:lnTo>
                  <a:lnTo>
                    <a:pt x="132" y="212"/>
                  </a:lnTo>
                  <a:lnTo>
                    <a:pt x="130" y="198"/>
                  </a:lnTo>
                  <a:lnTo>
                    <a:pt x="118" y="194"/>
                  </a:lnTo>
                  <a:lnTo>
                    <a:pt x="116" y="192"/>
                  </a:lnTo>
                  <a:lnTo>
                    <a:pt x="120" y="178"/>
                  </a:lnTo>
                  <a:lnTo>
                    <a:pt x="126" y="172"/>
                  </a:lnTo>
                  <a:lnTo>
                    <a:pt x="128" y="160"/>
                  </a:lnTo>
                  <a:lnTo>
                    <a:pt x="162" y="158"/>
                  </a:lnTo>
                  <a:lnTo>
                    <a:pt x="172" y="160"/>
                  </a:lnTo>
                  <a:lnTo>
                    <a:pt x="176" y="158"/>
                  </a:lnTo>
                  <a:lnTo>
                    <a:pt x="176" y="156"/>
                  </a:lnTo>
                  <a:lnTo>
                    <a:pt x="170" y="150"/>
                  </a:lnTo>
                  <a:lnTo>
                    <a:pt x="158" y="142"/>
                  </a:lnTo>
                  <a:lnTo>
                    <a:pt x="160" y="136"/>
                  </a:lnTo>
                  <a:lnTo>
                    <a:pt x="168" y="130"/>
                  </a:lnTo>
                  <a:lnTo>
                    <a:pt x="168" y="122"/>
                  </a:lnTo>
                  <a:lnTo>
                    <a:pt x="178" y="118"/>
                  </a:lnTo>
                  <a:lnTo>
                    <a:pt x="190" y="106"/>
                  </a:lnTo>
                  <a:lnTo>
                    <a:pt x="196" y="106"/>
                  </a:lnTo>
                  <a:lnTo>
                    <a:pt x="198" y="96"/>
                  </a:lnTo>
                  <a:lnTo>
                    <a:pt x="204" y="90"/>
                  </a:lnTo>
                  <a:lnTo>
                    <a:pt x="196" y="84"/>
                  </a:lnTo>
                  <a:lnTo>
                    <a:pt x="198" y="72"/>
                  </a:lnTo>
                  <a:lnTo>
                    <a:pt x="186" y="62"/>
                  </a:lnTo>
                  <a:lnTo>
                    <a:pt x="188" y="52"/>
                  </a:lnTo>
                  <a:lnTo>
                    <a:pt x="174" y="48"/>
                  </a:lnTo>
                  <a:lnTo>
                    <a:pt x="170" y="36"/>
                  </a:lnTo>
                  <a:lnTo>
                    <a:pt x="156" y="36"/>
                  </a:lnTo>
                  <a:lnTo>
                    <a:pt x="156" y="32"/>
                  </a:lnTo>
                  <a:lnTo>
                    <a:pt x="162" y="26"/>
                  </a:lnTo>
                  <a:lnTo>
                    <a:pt x="162" y="20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66" y="10"/>
                  </a:lnTo>
                  <a:lnTo>
                    <a:pt x="156" y="1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0" y="10"/>
                  </a:lnTo>
                  <a:lnTo>
                    <a:pt x="100" y="10"/>
                  </a:lnTo>
                  <a:lnTo>
                    <a:pt x="108" y="36"/>
                  </a:lnTo>
                  <a:lnTo>
                    <a:pt x="86" y="54"/>
                  </a:lnTo>
                  <a:lnTo>
                    <a:pt x="72" y="72"/>
                  </a:lnTo>
                  <a:lnTo>
                    <a:pt x="62" y="136"/>
                  </a:lnTo>
                  <a:lnTo>
                    <a:pt x="48" y="142"/>
                  </a:lnTo>
                  <a:lnTo>
                    <a:pt x="48" y="150"/>
                  </a:lnTo>
                  <a:lnTo>
                    <a:pt x="44" y="150"/>
                  </a:lnTo>
                  <a:lnTo>
                    <a:pt x="38" y="162"/>
                  </a:lnTo>
                  <a:lnTo>
                    <a:pt x="30" y="188"/>
                  </a:lnTo>
                  <a:lnTo>
                    <a:pt x="30" y="198"/>
                  </a:lnTo>
                  <a:lnTo>
                    <a:pt x="20" y="220"/>
                  </a:lnTo>
                  <a:lnTo>
                    <a:pt x="10" y="254"/>
                  </a:lnTo>
                  <a:lnTo>
                    <a:pt x="2" y="274"/>
                  </a:lnTo>
                  <a:lnTo>
                    <a:pt x="0" y="286"/>
                  </a:lnTo>
                  <a:lnTo>
                    <a:pt x="6" y="294"/>
                  </a:lnTo>
                  <a:lnTo>
                    <a:pt x="32" y="290"/>
                  </a:lnTo>
                  <a:lnTo>
                    <a:pt x="42" y="298"/>
                  </a:lnTo>
                  <a:lnTo>
                    <a:pt x="46" y="298"/>
                  </a:lnTo>
                  <a:lnTo>
                    <a:pt x="52" y="292"/>
                  </a:lnTo>
                  <a:lnTo>
                    <a:pt x="64" y="294"/>
                  </a:lnTo>
                  <a:lnTo>
                    <a:pt x="62" y="258"/>
                  </a:lnTo>
                  <a:lnTo>
                    <a:pt x="68" y="254"/>
                  </a:lnTo>
                  <a:lnTo>
                    <a:pt x="72" y="258"/>
                  </a:lnTo>
                  <a:lnTo>
                    <a:pt x="76" y="26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680" bIns="46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62800" y="3972960"/>
              <a:ext cx="7560" cy="198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0" y="40"/>
                  </a:moveTo>
                  <a:lnTo>
                    <a:pt x="6" y="50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16" y="84"/>
                  </a:lnTo>
                  <a:lnTo>
                    <a:pt x="14" y="100"/>
                  </a:lnTo>
                  <a:lnTo>
                    <a:pt x="20" y="104"/>
                  </a:lnTo>
                  <a:lnTo>
                    <a:pt x="40" y="108"/>
                  </a:lnTo>
                  <a:lnTo>
                    <a:pt x="40" y="100"/>
                  </a:lnTo>
                  <a:lnTo>
                    <a:pt x="50" y="72"/>
                  </a:lnTo>
                  <a:lnTo>
                    <a:pt x="46" y="48"/>
                  </a:lnTo>
                  <a:lnTo>
                    <a:pt x="40" y="40"/>
                  </a:lnTo>
                  <a:lnTo>
                    <a:pt x="38" y="30"/>
                  </a:lnTo>
                  <a:lnTo>
                    <a:pt x="44" y="20"/>
                  </a:lnTo>
                  <a:lnTo>
                    <a:pt x="44" y="8"/>
                  </a:lnTo>
                  <a:lnTo>
                    <a:pt x="34" y="0"/>
                  </a:lnTo>
                  <a:lnTo>
                    <a:pt x="22" y="10"/>
                  </a:lnTo>
                  <a:lnTo>
                    <a:pt x="14" y="10"/>
                  </a:lnTo>
                  <a:lnTo>
                    <a:pt x="0" y="4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920" bIns="-259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92600" y="4014360"/>
              <a:ext cx="176040" cy="243720"/>
            </a:xfrm>
            <a:custGeom>
              <a:avLst/>
              <a:gdLst/>
              <a:ahLst/>
              <a:rect l="l" t="t" r="r" b="b"/>
              <a:pathLst>
                <a:path w="1012" h="1422">
                  <a:moveTo>
                    <a:pt x="472" y="0"/>
                  </a:moveTo>
                  <a:lnTo>
                    <a:pt x="390" y="4"/>
                  </a:lnTo>
                  <a:lnTo>
                    <a:pt x="450" y="136"/>
                  </a:lnTo>
                  <a:lnTo>
                    <a:pt x="372" y="170"/>
                  </a:lnTo>
                  <a:lnTo>
                    <a:pt x="372" y="376"/>
                  </a:lnTo>
                  <a:lnTo>
                    <a:pt x="458" y="494"/>
                  </a:lnTo>
                  <a:lnTo>
                    <a:pt x="402" y="838"/>
                  </a:lnTo>
                  <a:lnTo>
                    <a:pt x="0" y="1014"/>
                  </a:lnTo>
                  <a:lnTo>
                    <a:pt x="186" y="1422"/>
                  </a:lnTo>
                  <a:lnTo>
                    <a:pt x="248" y="1396"/>
                  </a:lnTo>
                  <a:lnTo>
                    <a:pt x="278" y="1390"/>
                  </a:lnTo>
                  <a:lnTo>
                    <a:pt x="310" y="1374"/>
                  </a:lnTo>
                  <a:lnTo>
                    <a:pt x="334" y="1354"/>
                  </a:lnTo>
                  <a:lnTo>
                    <a:pt x="382" y="1350"/>
                  </a:lnTo>
                  <a:lnTo>
                    <a:pt x="420" y="1356"/>
                  </a:lnTo>
                  <a:lnTo>
                    <a:pt x="430" y="1362"/>
                  </a:lnTo>
                  <a:lnTo>
                    <a:pt x="448" y="1362"/>
                  </a:lnTo>
                  <a:lnTo>
                    <a:pt x="456" y="1352"/>
                  </a:lnTo>
                  <a:lnTo>
                    <a:pt x="474" y="1336"/>
                  </a:lnTo>
                  <a:lnTo>
                    <a:pt x="486" y="1310"/>
                  </a:lnTo>
                  <a:lnTo>
                    <a:pt x="490" y="1300"/>
                  </a:lnTo>
                  <a:lnTo>
                    <a:pt x="486" y="1280"/>
                  </a:lnTo>
                  <a:lnTo>
                    <a:pt x="484" y="1260"/>
                  </a:lnTo>
                  <a:lnTo>
                    <a:pt x="498" y="1244"/>
                  </a:lnTo>
                  <a:lnTo>
                    <a:pt x="518" y="1210"/>
                  </a:lnTo>
                  <a:lnTo>
                    <a:pt x="592" y="1192"/>
                  </a:lnTo>
                  <a:lnTo>
                    <a:pt x="616" y="1192"/>
                  </a:lnTo>
                  <a:lnTo>
                    <a:pt x="636" y="1180"/>
                  </a:lnTo>
                  <a:lnTo>
                    <a:pt x="652" y="1150"/>
                  </a:lnTo>
                  <a:lnTo>
                    <a:pt x="660" y="1112"/>
                  </a:lnTo>
                  <a:lnTo>
                    <a:pt x="660" y="1080"/>
                  </a:lnTo>
                  <a:lnTo>
                    <a:pt x="672" y="1050"/>
                  </a:lnTo>
                  <a:lnTo>
                    <a:pt x="690" y="1032"/>
                  </a:lnTo>
                  <a:lnTo>
                    <a:pt x="714" y="1022"/>
                  </a:lnTo>
                  <a:lnTo>
                    <a:pt x="720" y="1008"/>
                  </a:lnTo>
                  <a:lnTo>
                    <a:pt x="738" y="1012"/>
                  </a:lnTo>
                  <a:lnTo>
                    <a:pt x="770" y="1006"/>
                  </a:lnTo>
                  <a:lnTo>
                    <a:pt x="788" y="1006"/>
                  </a:lnTo>
                  <a:lnTo>
                    <a:pt x="806" y="994"/>
                  </a:lnTo>
                  <a:lnTo>
                    <a:pt x="810" y="980"/>
                  </a:lnTo>
                  <a:lnTo>
                    <a:pt x="800" y="950"/>
                  </a:lnTo>
                  <a:lnTo>
                    <a:pt x="794" y="942"/>
                  </a:lnTo>
                  <a:lnTo>
                    <a:pt x="784" y="904"/>
                  </a:lnTo>
                  <a:lnTo>
                    <a:pt x="782" y="878"/>
                  </a:lnTo>
                  <a:lnTo>
                    <a:pt x="784" y="848"/>
                  </a:lnTo>
                  <a:lnTo>
                    <a:pt x="778" y="822"/>
                  </a:lnTo>
                  <a:lnTo>
                    <a:pt x="806" y="764"/>
                  </a:lnTo>
                  <a:lnTo>
                    <a:pt x="820" y="738"/>
                  </a:lnTo>
                  <a:lnTo>
                    <a:pt x="832" y="730"/>
                  </a:lnTo>
                  <a:lnTo>
                    <a:pt x="840" y="736"/>
                  </a:lnTo>
                  <a:lnTo>
                    <a:pt x="846" y="750"/>
                  </a:lnTo>
                  <a:lnTo>
                    <a:pt x="854" y="756"/>
                  </a:lnTo>
                  <a:lnTo>
                    <a:pt x="870" y="758"/>
                  </a:lnTo>
                  <a:lnTo>
                    <a:pt x="876" y="752"/>
                  </a:lnTo>
                  <a:lnTo>
                    <a:pt x="894" y="700"/>
                  </a:lnTo>
                  <a:lnTo>
                    <a:pt x="904" y="686"/>
                  </a:lnTo>
                  <a:lnTo>
                    <a:pt x="916" y="644"/>
                  </a:lnTo>
                  <a:lnTo>
                    <a:pt x="928" y="618"/>
                  </a:lnTo>
                  <a:lnTo>
                    <a:pt x="960" y="586"/>
                  </a:lnTo>
                  <a:lnTo>
                    <a:pt x="998" y="504"/>
                  </a:lnTo>
                  <a:lnTo>
                    <a:pt x="1006" y="472"/>
                  </a:lnTo>
                  <a:lnTo>
                    <a:pt x="1006" y="454"/>
                  </a:lnTo>
                  <a:lnTo>
                    <a:pt x="1012" y="414"/>
                  </a:lnTo>
                  <a:lnTo>
                    <a:pt x="1012" y="404"/>
                  </a:lnTo>
                  <a:lnTo>
                    <a:pt x="1000" y="392"/>
                  </a:lnTo>
                  <a:lnTo>
                    <a:pt x="990" y="384"/>
                  </a:lnTo>
                  <a:lnTo>
                    <a:pt x="984" y="374"/>
                  </a:lnTo>
                  <a:lnTo>
                    <a:pt x="952" y="370"/>
                  </a:lnTo>
                  <a:lnTo>
                    <a:pt x="924" y="346"/>
                  </a:lnTo>
                  <a:lnTo>
                    <a:pt x="910" y="312"/>
                  </a:lnTo>
                  <a:lnTo>
                    <a:pt x="896" y="302"/>
                  </a:lnTo>
                  <a:lnTo>
                    <a:pt x="882" y="290"/>
                  </a:lnTo>
                  <a:lnTo>
                    <a:pt x="878" y="274"/>
                  </a:lnTo>
                  <a:lnTo>
                    <a:pt x="860" y="258"/>
                  </a:lnTo>
                  <a:lnTo>
                    <a:pt x="852" y="244"/>
                  </a:lnTo>
                  <a:lnTo>
                    <a:pt x="832" y="220"/>
                  </a:lnTo>
                  <a:lnTo>
                    <a:pt x="800" y="206"/>
                  </a:lnTo>
                  <a:lnTo>
                    <a:pt x="782" y="204"/>
                  </a:lnTo>
                  <a:lnTo>
                    <a:pt x="742" y="184"/>
                  </a:lnTo>
                  <a:lnTo>
                    <a:pt x="696" y="180"/>
                  </a:lnTo>
                  <a:lnTo>
                    <a:pt x="682" y="174"/>
                  </a:lnTo>
                  <a:lnTo>
                    <a:pt x="618" y="146"/>
                  </a:lnTo>
                  <a:lnTo>
                    <a:pt x="586" y="122"/>
                  </a:lnTo>
                  <a:lnTo>
                    <a:pt x="564" y="114"/>
                  </a:lnTo>
                  <a:lnTo>
                    <a:pt x="544" y="88"/>
                  </a:lnTo>
                  <a:lnTo>
                    <a:pt x="520" y="64"/>
                  </a:lnTo>
                  <a:lnTo>
                    <a:pt x="516" y="56"/>
                  </a:lnTo>
                  <a:lnTo>
                    <a:pt x="490" y="34"/>
                  </a:lnTo>
                  <a:lnTo>
                    <a:pt x="47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2680" y="3672360"/>
              <a:ext cx="663480" cy="827640"/>
            </a:xfrm>
            <a:custGeom>
              <a:avLst/>
              <a:gdLst/>
              <a:ahLst/>
              <a:rect l="l" t="t" r="r" b="b"/>
              <a:pathLst>
                <a:path w="3824" h="4854">
                  <a:moveTo>
                    <a:pt x="974" y="3532"/>
                  </a:moveTo>
                  <a:lnTo>
                    <a:pt x="980" y="3538"/>
                  </a:lnTo>
                  <a:lnTo>
                    <a:pt x="994" y="3576"/>
                  </a:lnTo>
                  <a:lnTo>
                    <a:pt x="1000" y="3582"/>
                  </a:lnTo>
                  <a:lnTo>
                    <a:pt x="1006" y="3572"/>
                  </a:lnTo>
                  <a:lnTo>
                    <a:pt x="1020" y="3574"/>
                  </a:lnTo>
                  <a:lnTo>
                    <a:pt x="1012" y="3592"/>
                  </a:lnTo>
                  <a:lnTo>
                    <a:pt x="1012" y="3606"/>
                  </a:lnTo>
                  <a:lnTo>
                    <a:pt x="1038" y="3670"/>
                  </a:lnTo>
                  <a:lnTo>
                    <a:pt x="1064" y="3708"/>
                  </a:lnTo>
                  <a:lnTo>
                    <a:pt x="1084" y="3718"/>
                  </a:lnTo>
                  <a:lnTo>
                    <a:pt x="1116" y="3786"/>
                  </a:lnTo>
                  <a:lnTo>
                    <a:pt x="1128" y="3830"/>
                  </a:lnTo>
                  <a:lnTo>
                    <a:pt x="1150" y="3860"/>
                  </a:lnTo>
                  <a:lnTo>
                    <a:pt x="1172" y="3904"/>
                  </a:lnTo>
                  <a:lnTo>
                    <a:pt x="1196" y="3998"/>
                  </a:lnTo>
                  <a:lnTo>
                    <a:pt x="1240" y="4114"/>
                  </a:lnTo>
                  <a:lnTo>
                    <a:pt x="1240" y="4130"/>
                  </a:lnTo>
                  <a:lnTo>
                    <a:pt x="1268" y="4172"/>
                  </a:lnTo>
                  <a:lnTo>
                    <a:pt x="1296" y="4200"/>
                  </a:lnTo>
                  <a:lnTo>
                    <a:pt x="1348" y="4268"/>
                  </a:lnTo>
                  <a:lnTo>
                    <a:pt x="1370" y="4328"/>
                  </a:lnTo>
                  <a:lnTo>
                    <a:pt x="1394" y="4408"/>
                  </a:lnTo>
                  <a:lnTo>
                    <a:pt x="1464" y="4570"/>
                  </a:lnTo>
                  <a:lnTo>
                    <a:pt x="1492" y="4660"/>
                  </a:lnTo>
                  <a:lnTo>
                    <a:pt x="1512" y="4704"/>
                  </a:lnTo>
                  <a:lnTo>
                    <a:pt x="1550" y="4764"/>
                  </a:lnTo>
                  <a:lnTo>
                    <a:pt x="1590" y="4820"/>
                  </a:lnTo>
                  <a:lnTo>
                    <a:pt x="1626" y="4854"/>
                  </a:lnTo>
                  <a:lnTo>
                    <a:pt x="1670" y="4852"/>
                  </a:lnTo>
                  <a:lnTo>
                    <a:pt x="1690" y="4828"/>
                  </a:lnTo>
                  <a:lnTo>
                    <a:pt x="1690" y="4820"/>
                  </a:lnTo>
                  <a:lnTo>
                    <a:pt x="1708" y="4808"/>
                  </a:lnTo>
                  <a:lnTo>
                    <a:pt x="1722" y="4788"/>
                  </a:lnTo>
                  <a:lnTo>
                    <a:pt x="1726" y="4772"/>
                  </a:lnTo>
                  <a:lnTo>
                    <a:pt x="1722" y="4758"/>
                  </a:lnTo>
                  <a:lnTo>
                    <a:pt x="1736" y="4692"/>
                  </a:lnTo>
                  <a:lnTo>
                    <a:pt x="1792" y="4658"/>
                  </a:lnTo>
                  <a:lnTo>
                    <a:pt x="1836" y="4650"/>
                  </a:lnTo>
                  <a:lnTo>
                    <a:pt x="1830" y="4618"/>
                  </a:lnTo>
                  <a:lnTo>
                    <a:pt x="1830" y="4588"/>
                  </a:lnTo>
                  <a:lnTo>
                    <a:pt x="1862" y="4526"/>
                  </a:lnTo>
                  <a:lnTo>
                    <a:pt x="1866" y="4504"/>
                  </a:lnTo>
                  <a:lnTo>
                    <a:pt x="1876" y="4470"/>
                  </a:lnTo>
                  <a:lnTo>
                    <a:pt x="1910" y="4462"/>
                  </a:lnTo>
                  <a:lnTo>
                    <a:pt x="1920" y="4472"/>
                  </a:lnTo>
                  <a:lnTo>
                    <a:pt x="1948" y="4472"/>
                  </a:lnTo>
                  <a:lnTo>
                    <a:pt x="1942" y="4416"/>
                  </a:lnTo>
                  <a:lnTo>
                    <a:pt x="1928" y="4326"/>
                  </a:lnTo>
                  <a:lnTo>
                    <a:pt x="1920" y="4234"/>
                  </a:lnTo>
                  <a:lnTo>
                    <a:pt x="1924" y="4200"/>
                  </a:lnTo>
                  <a:lnTo>
                    <a:pt x="1946" y="4122"/>
                  </a:lnTo>
                  <a:lnTo>
                    <a:pt x="1956" y="4076"/>
                  </a:lnTo>
                  <a:lnTo>
                    <a:pt x="1966" y="3990"/>
                  </a:lnTo>
                  <a:lnTo>
                    <a:pt x="1966" y="3966"/>
                  </a:lnTo>
                  <a:lnTo>
                    <a:pt x="1956" y="3922"/>
                  </a:lnTo>
                  <a:lnTo>
                    <a:pt x="1942" y="3908"/>
                  </a:lnTo>
                  <a:lnTo>
                    <a:pt x="1936" y="3894"/>
                  </a:lnTo>
                  <a:lnTo>
                    <a:pt x="1928" y="3886"/>
                  </a:lnTo>
                  <a:lnTo>
                    <a:pt x="1934" y="3874"/>
                  </a:lnTo>
                  <a:lnTo>
                    <a:pt x="1944" y="3886"/>
                  </a:lnTo>
                  <a:lnTo>
                    <a:pt x="1914" y="3788"/>
                  </a:lnTo>
                  <a:lnTo>
                    <a:pt x="1918" y="3754"/>
                  </a:lnTo>
                  <a:lnTo>
                    <a:pt x="1914" y="3724"/>
                  </a:lnTo>
                  <a:lnTo>
                    <a:pt x="1912" y="3716"/>
                  </a:lnTo>
                  <a:lnTo>
                    <a:pt x="1900" y="3702"/>
                  </a:lnTo>
                  <a:lnTo>
                    <a:pt x="1890" y="3664"/>
                  </a:lnTo>
                  <a:lnTo>
                    <a:pt x="1882" y="3596"/>
                  </a:lnTo>
                  <a:lnTo>
                    <a:pt x="1898" y="3562"/>
                  </a:lnTo>
                  <a:lnTo>
                    <a:pt x="1914" y="3520"/>
                  </a:lnTo>
                  <a:lnTo>
                    <a:pt x="1936" y="3502"/>
                  </a:lnTo>
                  <a:lnTo>
                    <a:pt x="1960" y="3500"/>
                  </a:lnTo>
                  <a:lnTo>
                    <a:pt x="1986" y="3516"/>
                  </a:lnTo>
                  <a:lnTo>
                    <a:pt x="2006" y="3504"/>
                  </a:lnTo>
                  <a:lnTo>
                    <a:pt x="2018" y="3466"/>
                  </a:lnTo>
                  <a:lnTo>
                    <a:pt x="2026" y="3428"/>
                  </a:lnTo>
                  <a:lnTo>
                    <a:pt x="2030" y="3424"/>
                  </a:lnTo>
                  <a:lnTo>
                    <a:pt x="2060" y="3412"/>
                  </a:lnTo>
                  <a:lnTo>
                    <a:pt x="2094" y="3406"/>
                  </a:lnTo>
                  <a:lnTo>
                    <a:pt x="2150" y="3376"/>
                  </a:lnTo>
                  <a:lnTo>
                    <a:pt x="2164" y="3352"/>
                  </a:lnTo>
                  <a:lnTo>
                    <a:pt x="2158" y="3316"/>
                  </a:lnTo>
                  <a:lnTo>
                    <a:pt x="2170" y="3286"/>
                  </a:lnTo>
                  <a:lnTo>
                    <a:pt x="2200" y="3258"/>
                  </a:lnTo>
                  <a:lnTo>
                    <a:pt x="2252" y="3196"/>
                  </a:lnTo>
                  <a:lnTo>
                    <a:pt x="2292" y="3158"/>
                  </a:lnTo>
                  <a:lnTo>
                    <a:pt x="2316" y="3112"/>
                  </a:lnTo>
                  <a:lnTo>
                    <a:pt x="2348" y="3078"/>
                  </a:lnTo>
                  <a:lnTo>
                    <a:pt x="2372" y="3056"/>
                  </a:lnTo>
                  <a:lnTo>
                    <a:pt x="2376" y="3046"/>
                  </a:lnTo>
                  <a:lnTo>
                    <a:pt x="2382" y="3044"/>
                  </a:lnTo>
                  <a:lnTo>
                    <a:pt x="2404" y="3014"/>
                  </a:lnTo>
                  <a:lnTo>
                    <a:pt x="2472" y="2878"/>
                  </a:lnTo>
                  <a:lnTo>
                    <a:pt x="2498" y="2846"/>
                  </a:lnTo>
                  <a:lnTo>
                    <a:pt x="2568" y="2792"/>
                  </a:lnTo>
                  <a:lnTo>
                    <a:pt x="2608" y="2776"/>
                  </a:lnTo>
                  <a:lnTo>
                    <a:pt x="2630" y="2760"/>
                  </a:lnTo>
                  <a:lnTo>
                    <a:pt x="2636" y="2758"/>
                  </a:lnTo>
                  <a:lnTo>
                    <a:pt x="2670" y="2712"/>
                  </a:lnTo>
                  <a:lnTo>
                    <a:pt x="2686" y="2680"/>
                  </a:lnTo>
                  <a:lnTo>
                    <a:pt x="2688" y="2660"/>
                  </a:lnTo>
                  <a:lnTo>
                    <a:pt x="2708" y="2626"/>
                  </a:lnTo>
                  <a:lnTo>
                    <a:pt x="2678" y="2554"/>
                  </a:lnTo>
                  <a:lnTo>
                    <a:pt x="2684" y="2506"/>
                  </a:lnTo>
                  <a:lnTo>
                    <a:pt x="2756" y="2456"/>
                  </a:lnTo>
                  <a:lnTo>
                    <a:pt x="2778" y="2446"/>
                  </a:lnTo>
                  <a:lnTo>
                    <a:pt x="2792" y="2430"/>
                  </a:lnTo>
                  <a:lnTo>
                    <a:pt x="2798" y="2404"/>
                  </a:lnTo>
                  <a:lnTo>
                    <a:pt x="2800" y="2386"/>
                  </a:lnTo>
                  <a:lnTo>
                    <a:pt x="2810" y="2366"/>
                  </a:lnTo>
                  <a:lnTo>
                    <a:pt x="2816" y="2368"/>
                  </a:lnTo>
                  <a:lnTo>
                    <a:pt x="2820" y="2402"/>
                  </a:lnTo>
                  <a:lnTo>
                    <a:pt x="2828" y="2440"/>
                  </a:lnTo>
                  <a:lnTo>
                    <a:pt x="2830" y="2446"/>
                  </a:lnTo>
                  <a:lnTo>
                    <a:pt x="2836" y="2442"/>
                  </a:lnTo>
                  <a:lnTo>
                    <a:pt x="2844" y="2446"/>
                  </a:lnTo>
                  <a:lnTo>
                    <a:pt x="2858" y="2470"/>
                  </a:lnTo>
                  <a:lnTo>
                    <a:pt x="2878" y="2466"/>
                  </a:lnTo>
                  <a:lnTo>
                    <a:pt x="2888" y="2452"/>
                  </a:lnTo>
                  <a:lnTo>
                    <a:pt x="2900" y="2456"/>
                  </a:lnTo>
                  <a:lnTo>
                    <a:pt x="2896" y="2432"/>
                  </a:lnTo>
                  <a:lnTo>
                    <a:pt x="2900" y="2418"/>
                  </a:lnTo>
                  <a:lnTo>
                    <a:pt x="2914" y="2448"/>
                  </a:lnTo>
                  <a:lnTo>
                    <a:pt x="2924" y="2458"/>
                  </a:lnTo>
                  <a:lnTo>
                    <a:pt x="2942" y="2450"/>
                  </a:lnTo>
                  <a:lnTo>
                    <a:pt x="2918" y="2410"/>
                  </a:lnTo>
                  <a:lnTo>
                    <a:pt x="2918" y="2394"/>
                  </a:lnTo>
                  <a:lnTo>
                    <a:pt x="2910" y="2380"/>
                  </a:lnTo>
                  <a:lnTo>
                    <a:pt x="2898" y="2348"/>
                  </a:lnTo>
                  <a:lnTo>
                    <a:pt x="2896" y="2326"/>
                  </a:lnTo>
                  <a:lnTo>
                    <a:pt x="2886" y="2298"/>
                  </a:lnTo>
                  <a:lnTo>
                    <a:pt x="2870" y="2282"/>
                  </a:lnTo>
                  <a:lnTo>
                    <a:pt x="2856" y="2258"/>
                  </a:lnTo>
                  <a:lnTo>
                    <a:pt x="2850" y="2228"/>
                  </a:lnTo>
                  <a:lnTo>
                    <a:pt x="2852" y="2224"/>
                  </a:lnTo>
                  <a:lnTo>
                    <a:pt x="2846" y="2174"/>
                  </a:lnTo>
                  <a:lnTo>
                    <a:pt x="2840" y="2164"/>
                  </a:lnTo>
                  <a:lnTo>
                    <a:pt x="2830" y="2160"/>
                  </a:lnTo>
                  <a:lnTo>
                    <a:pt x="2822" y="2116"/>
                  </a:lnTo>
                  <a:lnTo>
                    <a:pt x="2800" y="2098"/>
                  </a:lnTo>
                  <a:lnTo>
                    <a:pt x="2796" y="2074"/>
                  </a:lnTo>
                  <a:lnTo>
                    <a:pt x="2794" y="2040"/>
                  </a:lnTo>
                  <a:lnTo>
                    <a:pt x="2782" y="1978"/>
                  </a:lnTo>
                  <a:lnTo>
                    <a:pt x="2754" y="1950"/>
                  </a:lnTo>
                  <a:lnTo>
                    <a:pt x="2736" y="1938"/>
                  </a:lnTo>
                  <a:lnTo>
                    <a:pt x="2704" y="1924"/>
                  </a:lnTo>
                  <a:lnTo>
                    <a:pt x="2682" y="1914"/>
                  </a:lnTo>
                  <a:lnTo>
                    <a:pt x="2674" y="1896"/>
                  </a:lnTo>
                  <a:lnTo>
                    <a:pt x="2674" y="1880"/>
                  </a:lnTo>
                  <a:lnTo>
                    <a:pt x="2678" y="1856"/>
                  </a:lnTo>
                  <a:lnTo>
                    <a:pt x="2698" y="1850"/>
                  </a:lnTo>
                  <a:lnTo>
                    <a:pt x="2710" y="1840"/>
                  </a:lnTo>
                  <a:lnTo>
                    <a:pt x="2712" y="1820"/>
                  </a:lnTo>
                  <a:lnTo>
                    <a:pt x="2760" y="1812"/>
                  </a:lnTo>
                  <a:lnTo>
                    <a:pt x="2752" y="1788"/>
                  </a:lnTo>
                  <a:lnTo>
                    <a:pt x="2742" y="1780"/>
                  </a:lnTo>
                  <a:lnTo>
                    <a:pt x="2742" y="1768"/>
                  </a:lnTo>
                  <a:lnTo>
                    <a:pt x="2706" y="1772"/>
                  </a:lnTo>
                  <a:lnTo>
                    <a:pt x="2684" y="1758"/>
                  </a:lnTo>
                  <a:lnTo>
                    <a:pt x="2668" y="1720"/>
                  </a:lnTo>
                  <a:lnTo>
                    <a:pt x="2656" y="1710"/>
                  </a:lnTo>
                  <a:lnTo>
                    <a:pt x="2674" y="1638"/>
                  </a:lnTo>
                  <a:lnTo>
                    <a:pt x="2672" y="1604"/>
                  </a:lnTo>
                  <a:lnTo>
                    <a:pt x="2682" y="1596"/>
                  </a:lnTo>
                  <a:lnTo>
                    <a:pt x="2716" y="1642"/>
                  </a:lnTo>
                  <a:lnTo>
                    <a:pt x="2738" y="1664"/>
                  </a:lnTo>
                  <a:lnTo>
                    <a:pt x="2734" y="1644"/>
                  </a:lnTo>
                  <a:lnTo>
                    <a:pt x="2734" y="1606"/>
                  </a:lnTo>
                  <a:lnTo>
                    <a:pt x="2752" y="1612"/>
                  </a:lnTo>
                  <a:lnTo>
                    <a:pt x="2768" y="1656"/>
                  </a:lnTo>
                  <a:lnTo>
                    <a:pt x="2794" y="1682"/>
                  </a:lnTo>
                  <a:lnTo>
                    <a:pt x="2806" y="1668"/>
                  </a:lnTo>
                  <a:lnTo>
                    <a:pt x="2830" y="1684"/>
                  </a:lnTo>
                  <a:lnTo>
                    <a:pt x="2838" y="1642"/>
                  </a:lnTo>
                  <a:lnTo>
                    <a:pt x="2848" y="1656"/>
                  </a:lnTo>
                  <a:lnTo>
                    <a:pt x="2870" y="1712"/>
                  </a:lnTo>
                  <a:lnTo>
                    <a:pt x="2896" y="1764"/>
                  </a:lnTo>
                  <a:lnTo>
                    <a:pt x="2918" y="1790"/>
                  </a:lnTo>
                  <a:lnTo>
                    <a:pt x="2950" y="1802"/>
                  </a:lnTo>
                  <a:lnTo>
                    <a:pt x="3060" y="1808"/>
                  </a:lnTo>
                  <a:lnTo>
                    <a:pt x="3068" y="1800"/>
                  </a:lnTo>
                  <a:lnTo>
                    <a:pt x="3104" y="1794"/>
                  </a:lnTo>
                  <a:lnTo>
                    <a:pt x="3160" y="1798"/>
                  </a:lnTo>
                  <a:lnTo>
                    <a:pt x="3222" y="1808"/>
                  </a:lnTo>
                  <a:lnTo>
                    <a:pt x="3264" y="1824"/>
                  </a:lnTo>
                  <a:lnTo>
                    <a:pt x="3262" y="1838"/>
                  </a:lnTo>
                  <a:lnTo>
                    <a:pt x="3242" y="1854"/>
                  </a:lnTo>
                  <a:lnTo>
                    <a:pt x="3242" y="1894"/>
                  </a:lnTo>
                  <a:lnTo>
                    <a:pt x="3222" y="1938"/>
                  </a:lnTo>
                  <a:lnTo>
                    <a:pt x="3202" y="1966"/>
                  </a:lnTo>
                  <a:lnTo>
                    <a:pt x="3176" y="1984"/>
                  </a:lnTo>
                  <a:lnTo>
                    <a:pt x="3150" y="2014"/>
                  </a:lnTo>
                  <a:lnTo>
                    <a:pt x="3148" y="2038"/>
                  </a:lnTo>
                  <a:lnTo>
                    <a:pt x="3164" y="2086"/>
                  </a:lnTo>
                  <a:lnTo>
                    <a:pt x="3194" y="2142"/>
                  </a:lnTo>
                  <a:lnTo>
                    <a:pt x="3222" y="2148"/>
                  </a:lnTo>
                  <a:lnTo>
                    <a:pt x="3242" y="2174"/>
                  </a:lnTo>
                  <a:lnTo>
                    <a:pt x="3264" y="2190"/>
                  </a:lnTo>
                  <a:lnTo>
                    <a:pt x="3268" y="2166"/>
                  </a:lnTo>
                  <a:lnTo>
                    <a:pt x="3270" y="2104"/>
                  </a:lnTo>
                  <a:lnTo>
                    <a:pt x="3288" y="2060"/>
                  </a:lnTo>
                  <a:lnTo>
                    <a:pt x="3302" y="2062"/>
                  </a:lnTo>
                  <a:lnTo>
                    <a:pt x="3330" y="2102"/>
                  </a:lnTo>
                  <a:lnTo>
                    <a:pt x="3354" y="2154"/>
                  </a:lnTo>
                  <a:lnTo>
                    <a:pt x="3368" y="2176"/>
                  </a:lnTo>
                  <a:lnTo>
                    <a:pt x="3380" y="2202"/>
                  </a:lnTo>
                  <a:lnTo>
                    <a:pt x="3414" y="2286"/>
                  </a:lnTo>
                  <a:lnTo>
                    <a:pt x="3444" y="2384"/>
                  </a:lnTo>
                  <a:lnTo>
                    <a:pt x="3452" y="2376"/>
                  </a:lnTo>
                  <a:lnTo>
                    <a:pt x="3460" y="2360"/>
                  </a:lnTo>
                  <a:lnTo>
                    <a:pt x="3484" y="2366"/>
                  </a:lnTo>
                  <a:lnTo>
                    <a:pt x="3496" y="2360"/>
                  </a:lnTo>
                  <a:lnTo>
                    <a:pt x="3506" y="2342"/>
                  </a:lnTo>
                  <a:lnTo>
                    <a:pt x="3504" y="2326"/>
                  </a:lnTo>
                  <a:lnTo>
                    <a:pt x="3498" y="2324"/>
                  </a:lnTo>
                  <a:lnTo>
                    <a:pt x="3482" y="2294"/>
                  </a:lnTo>
                  <a:lnTo>
                    <a:pt x="3470" y="2248"/>
                  </a:lnTo>
                  <a:lnTo>
                    <a:pt x="3466" y="2208"/>
                  </a:lnTo>
                  <a:lnTo>
                    <a:pt x="3494" y="2210"/>
                  </a:lnTo>
                  <a:lnTo>
                    <a:pt x="3500" y="2196"/>
                  </a:lnTo>
                  <a:lnTo>
                    <a:pt x="3496" y="2138"/>
                  </a:lnTo>
                  <a:lnTo>
                    <a:pt x="3472" y="2060"/>
                  </a:lnTo>
                  <a:lnTo>
                    <a:pt x="3486" y="2036"/>
                  </a:lnTo>
                  <a:lnTo>
                    <a:pt x="3520" y="2026"/>
                  </a:lnTo>
                  <a:lnTo>
                    <a:pt x="3552" y="2032"/>
                  </a:lnTo>
                  <a:lnTo>
                    <a:pt x="3572" y="2032"/>
                  </a:lnTo>
                  <a:lnTo>
                    <a:pt x="3580" y="2016"/>
                  </a:lnTo>
                  <a:lnTo>
                    <a:pt x="3582" y="1958"/>
                  </a:lnTo>
                  <a:lnTo>
                    <a:pt x="3600" y="1850"/>
                  </a:lnTo>
                  <a:lnTo>
                    <a:pt x="3602" y="1816"/>
                  </a:lnTo>
                  <a:lnTo>
                    <a:pt x="3590" y="1790"/>
                  </a:lnTo>
                  <a:lnTo>
                    <a:pt x="3596" y="1762"/>
                  </a:lnTo>
                  <a:lnTo>
                    <a:pt x="3628" y="1728"/>
                  </a:lnTo>
                  <a:lnTo>
                    <a:pt x="3634" y="1692"/>
                  </a:lnTo>
                  <a:lnTo>
                    <a:pt x="3608" y="1610"/>
                  </a:lnTo>
                  <a:lnTo>
                    <a:pt x="3612" y="1562"/>
                  </a:lnTo>
                  <a:lnTo>
                    <a:pt x="3638" y="1528"/>
                  </a:lnTo>
                  <a:lnTo>
                    <a:pt x="3670" y="1508"/>
                  </a:lnTo>
                  <a:lnTo>
                    <a:pt x="3688" y="1480"/>
                  </a:lnTo>
                  <a:lnTo>
                    <a:pt x="3696" y="1442"/>
                  </a:lnTo>
                  <a:lnTo>
                    <a:pt x="3740" y="1430"/>
                  </a:lnTo>
                  <a:lnTo>
                    <a:pt x="3762" y="1414"/>
                  </a:lnTo>
                  <a:lnTo>
                    <a:pt x="3808" y="1428"/>
                  </a:lnTo>
                  <a:lnTo>
                    <a:pt x="3814" y="1412"/>
                  </a:lnTo>
                  <a:lnTo>
                    <a:pt x="3794" y="1368"/>
                  </a:lnTo>
                  <a:lnTo>
                    <a:pt x="3794" y="1330"/>
                  </a:lnTo>
                  <a:lnTo>
                    <a:pt x="3814" y="1312"/>
                  </a:lnTo>
                  <a:lnTo>
                    <a:pt x="3824" y="1292"/>
                  </a:lnTo>
                  <a:lnTo>
                    <a:pt x="3814" y="1258"/>
                  </a:lnTo>
                  <a:lnTo>
                    <a:pt x="3794" y="1224"/>
                  </a:lnTo>
                  <a:lnTo>
                    <a:pt x="3764" y="1214"/>
                  </a:lnTo>
                  <a:lnTo>
                    <a:pt x="3730" y="1216"/>
                  </a:lnTo>
                  <a:lnTo>
                    <a:pt x="3704" y="1204"/>
                  </a:lnTo>
                  <a:lnTo>
                    <a:pt x="3658" y="1206"/>
                  </a:lnTo>
                  <a:lnTo>
                    <a:pt x="3654" y="1164"/>
                  </a:lnTo>
                  <a:lnTo>
                    <a:pt x="3642" y="1122"/>
                  </a:lnTo>
                  <a:lnTo>
                    <a:pt x="3610" y="1114"/>
                  </a:lnTo>
                  <a:lnTo>
                    <a:pt x="3594" y="1084"/>
                  </a:lnTo>
                  <a:lnTo>
                    <a:pt x="3594" y="1064"/>
                  </a:lnTo>
                  <a:lnTo>
                    <a:pt x="3556" y="1032"/>
                  </a:lnTo>
                  <a:lnTo>
                    <a:pt x="3530" y="1042"/>
                  </a:lnTo>
                  <a:lnTo>
                    <a:pt x="3504" y="1070"/>
                  </a:lnTo>
                  <a:lnTo>
                    <a:pt x="3474" y="1084"/>
                  </a:lnTo>
                  <a:lnTo>
                    <a:pt x="3426" y="1088"/>
                  </a:lnTo>
                  <a:lnTo>
                    <a:pt x="3406" y="1086"/>
                  </a:lnTo>
                  <a:lnTo>
                    <a:pt x="3382" y="1072"/>
                  </a:lnTo>
                  <a:lnTo>
                    <a:pt x="3372" y="1070"/>
                  </a:lnTo>
                  <a:lnTo>
                    <a:pt x="3352" y="1086"/>
                  </a:lnTo>
                  <a:lnTo>
                    <a:pt x="3336" y="1104"/>
                  </a:lnTo>
                  <a:lnTo>
                    <a:pt x="3330" y="1136"/>
                  </a:lnTo>
                  <a:lnTo>
                    <a:pt x="3296" y="1186"/>
                  </a:lnTo>
                  <a:lnTo>
                    <a:pt x="3264" y="1198"/>
                  </a:lnTo>
                  <a:lnTo>
                    <a:pt x="3242" y="1244"/>
                  </a:lnTo>
                  <a:lnTo>
                    <a:pt x="3224" y="1268"/>
                  </a:lnTo>
                  <a:lnTo>
                    <a:pt x="3192" y="1288"/>
                  </a:lnTo>
                  <a:lnTo>
                    <a:pt x="3168" y="1316"/>
                  </a:lnTo>
                  <a:lnTo>
                    <a:pt x="3104" y="1334"/>
                  </a:lnTo>
                  <a:lnTo>
                    <a:pt x="3068" y="1352"/>
                  </a:lnTo>
                  <a:lnTo>
                    <a:pt x="3072" y="1358"/>
                  </a:lnTo>
                  <a:lnTo>
                    <a:pt x="3074" y="1366"/>
                  </a:lnTo>
                  <a:lnTo>
                    <a:pt x="3072" y="1382"/>
                  </a:lnTo>
                  <a:lnTo>
                    <a:pt x="3074" y="1390"/>
                  </a:lnTo>
                  <a:lnTo>
                    <a:pt x="3080" y="1398"/>
                  </a:lnTo>
                  <a:lnTo>
                    <a:pt x="3128" y="1416"/>
                  </a:lnTo>
                  <a:lnTo>
                    <a:pt x="3148" y="1432"/>
                  </a:lnTo>
                  <a:lnTo>
                    <a:pt x="3156" y="1474"/>
                  </a:lnTo>
                  <a:lnTo>
                    <a:pt x="3162" y="1484"/>
                  </a:lnTo>
                  <a:lnTo>
                    <a:pt x="3162" y="1492"/>
                  </a:lnTo>
                  <a:lnTo>
                    <a:pt x="3146" y="1506"/>
                  </a:lnTo>
                  <a:lnTo>
                    <a:pt x="3098" y="1520"/>
                  </a:lnTo>
                  <a:lnTo>
                    <a:pt x="3066" y="1520"/>
                  </a:lnTo>
                  <a:lnTo>
                    <a:pt x="3020" y="1536"/>
                  </a:lnTo>
                  <a:lnTo>
                    <a:pt x="3000" y="1540"/>
                  </a:lnTo>
                  <a:lnTo>
                    <a:pt x="2978" y="1540"/>
                  </a:lnTo>
                  <a:lnTo>
                    <a:pt x="2948" y="1530"/>
                  </a:lnTo>
                  <a:lnTo>
                    <a:pt x="2936" y="1532"/>
                  </a:lnTo>
                  <a:lnTo>
                    <a:pt x="2884" y="1556"/>
                  </a:lnTo>
                  <a:lnTo>
                    <a:pt x="2838" y="1558"/>
                  </a:lnTo>
                  <a:lnTo>
                    <a:pt x="2780" y="1552"/>
                  </a:lnTo>
                  <a:lnTo>
                    <a:pt x="2750" y="1542"/>
                  </a:lnTo>
                  <a:lnTo>
                    <a:pt x="2738" y="1534"/>
                  </a:lnTo>
                  <a:lnTo>
                    <a:pt x="2730" y="1536"/>
                  </a:lnTo>
                  <a:lnTo>
                    <a:pt x="2724" y="1532"/>
                  </a:lnTo>
                  <a:lnTo>
                    <a:pt x="2720" y="1510"/>
                  </a:lnTo>
                  <a:lnTo>
                    <a:pt x="2716" y="1504"/>
                  </a:lnTo>
                  <a:lnTo>
                    <a:pt x="2702" y="1500"/>
                  </a:lnTo>
                  <a:lnTo>
                    <a:pt x="2700" y="1488"/>
                  </a:lnTo>
                  <a:lnTo>
                    <a:pt x="2714" y="1460"/>
                  </a:lnTo>
                  <a:lnTo>
                    <a:pt x="2714" y="1450"/>
                  </a:lnTo>
                  <a:lnTo>
                    <a:pt x="2700" y="1452"/>
                  </a:lnTo>
                  <a:lnTo>
                    <a:pt x="2690" y="1446"/>
                  </a:lnTo>
                  <a:lnTo>
                    <a:pt x="2684" y="1438"/>
                  </a:lnTo>
                  <a:lnTo>
                    <a:pt x="2678" y="1418"/>
                  </a:lnTo>
                  <a:lnTo>
                    <a:pt x="2676" y="1380"/>
                  </a:lnTo>
                  <a:lnTo>
                    <a:pt x="2674" y="1364"/>
                  </a:lnTo>
                  <a:lnTo>
                    <a:pt x="2660" y="1338"/>
                  </a:lnTo>
                  <a:lnTo>
                    <a:pt x="2652" y="1328"/>
                  </a:lnTo>
                  <a:lnTo>
                    <a:pt x="2640" y="1322"/>
                  </a:lnTo>
                  <a:lnTo>
                    <a:pt x="2628" y="1324"/>
                  </a:lnTo>
                  <a:lnTo>
                    <a:pt x="2612" y="1344"/>
                  </a:lnTo>
                  <a:lnTo>
                    <a:pt x="2594" y="1344"/>
                  </a:lnTo>
                  <a:lnTo>
                    <a:pt x="2574" y="1356"/>
                  </a:lnTo>
                  <a:lnTo>
                    <a:pt x="2574" y="1360"/>
                  </a:lnTo>
                  <a:lnTo>
                    <a:pt x="2570" y="1380"/>
                  </a:lnTo>
                  <a:lnTo>
                    <a:pt x="2570" y="1414"/>
                  </a:lnTo>
                  <a:lnTo>
                    <a:pt x="2584" y="1456"/>
                  </a:lnTo>
                  <a:lnTo>
                    <a:pt x="2590" y="1494"/>
                  </a:lnTo>
                  <a:lnTo>
                    <a:pt x="2584" y="1510"/>
                  </a:lnTo>
                  <a:lnTo>
                    <a:pt x="2588" y="1518"/>
                  </a:lnTo>
                  <a:lnTo>
                    <a:pt x="2610" y="1532"/>
                  </a:lnTo>
                  <a:lnTo>
                    <a:pt x="2630" y="1558"/>
                  </a:lnTo>
                  <a:lnTo>
                    <a:pt x="2632" y="1578"/>
                  </a:lnTo>
                  <a:lnTo>
                    <a:pt x="2626" y="1610"/>
                  </a:lnTo>
                  <a:lnTo>
                    <a:pt x="2628" y="1618"/>
                  </a:lnTo>
                  <a:lnTo>
                    <a:pt x="2596" y="1616"/>
                  </a:lnTo>
                  <a:lnTo>
                    <a:pt x="2572" y="1624"/>
                  </a:lnTo>
                  <a:lnTo>
                    <a:pt x="2536" y="1622"/>
                  </a:lnTo>
                  <a:lnTo>
                    <a:pt x="2514" y="1628"/>
                  </a:lnTo>
                  <a:lnTo>
                    <a:pt x="2488" y="1616"/>
                  </a:lnTo>
                  <a:lnTo>
                    <a:pt x="2460" y="1614"/>
                  </a:lnTo>
                  <a:lnTo>
                    <a:pt x="2446" y="1614"/>
                  </a:lnTo>
                  <a:lnTo>
                    <a:pt x="2326" y="1598"/>
                  </a:lnTo>
                  <a:lnTo>
                    <a:pt x="2304" y="1580"/>
                  </a:lnTo>
                  <a:lnTo>
                    <a:pt x="2280" y="1572"/>
                  </a:lnTo>
                  <a:lnTo>
                    <a:pt x="2248" y="1576"/>
                  </a:lnTo>
                  <a:lnTo>
                    <a:pt x="2198" y="1568"/>
                  </a:lnTo>
                  <a:lnTo>
                    <a:pt x="2162" y="1546"/>
                  </a:lnTo>
                  <a:lnTo>
                    <a:pt x="2142" y="1530"/>
                  </a:lnTo>
                  <a:lnTo>
                    <a:pt x="2108" y="1490"/>
                  </a:lnTo>
                  <a:lnTo>
                    <a:pt x="2090" y="1482"/>
                  </a:lnTo>
                  <a:lnTo>
                    <a:pt x="2042" y="1474"/>
                  </a:lnTo>
                  <a:lnTo>
                    <a:pt x="2034" y="1474"/>
                  </a:lnTo>
                  <a:lnTo>
                    <a:pt x="2030" y="1484"/>
                  </a:lnTo>
                  <a:lnTo>
                    <a:pt x="2016" y="1482"/>
                  </a:lnTo>
                  <a:lnTo>
                    <a:pt x="1990" y="1474"/>
                  </a:lnTo>
                  <a:lnTo>
                    <a:pt x="1964" y="1472"/>
                  </a:lnTo>
                  <a:lnTo>
                    <a:pt x="1944" y="1486"/>
                  </a:lnTo>
                  <a:lnTo>
                    <a:pt x="1932" y="1488"/>
                  </a:lnTo>
                  <a:lnTo>
                    <a:pt x="1880" y="1476"/>
                  </a:lnTo>
                  <a:lnTo>
                    <a:pt x="1846" y="1442"/>
                  </a:lnTo>
                  <a:lnTo>
                    <a:pt x="1836" y="1436"/>
                  </a:lnTo>
                  <a:lnTo>
                    <a:pt x="1816" y="1434"/>
                  </a:lnTo>
                  <a:lnTo>
                    <a:pt x="1806" y="1434"/>
                  </a:lnTo>
                  <a:lnTo>
                    <a:pt x="1778" y="1414"/>
                  </a:lnTo>
                  <a:lnTo>
                    <a:pt x="1748" y="1400"/>
                  </a:lnTo>
                  <a:lnTo>
                    <a:pt x="1722" y="1398"/>
                  </a:lnTo>
                  <a:lnTo>
                    <a:pt x="1694" y="1386"/>
                  </a:lnTo>
                  <a:lnTo>
                    <a:pt x="1678" y="1376"/>
                  </a:lnTo>
                  <a:lnTo>
                    <a:pt x="1638" y="1336"/>
                  </a:lnTo>
                  <a:lnTo>
                    <a:pt x="1612" y="1320"/>
                  </a:lnTo>
                  <a:lnTo>
                    <a:pt x="1590" y="1310"/>
                  </a:lnTo>
                  <a:lnTo>
                    <a:pt x="1576" y="1298"/>
                  </a:lnTo>
                  <a:lnTo>
                    <a:pt x="1538" y="1280"/>
                  </a:lnTo>
                  <a:lnTo>
                    <a:pt x="1532" y="1280"/>
                  </a:lnTo>
                  <a:lnTo>
                    <a:pt x="1532" y="1292"/>
                  </a:lnTo>
                  <a:lnTo>
                    <a:pt x="1522" y="1292"/>
                  </a:lnTo>
                  <a:lnTo>
                    <a:pt x="1508" y="1280"/>
                  </a:lnTo>
                  <a:lnTo>
                    <a:pt x="1500" y="1266"/>
                  </a:lnTo>
                  <a:lnTo>
                    <a:pt x="1484" y="1252"/>
                  </a:lnTo>
                  <a:lnTo>
                    <a:pt x="1456" y="1248"/>
                  </a:lnTo>
                  <a:lnTo>
                    <a:pt x="1452" y="1240"/>
                  </a:lnTo>
                  <a:lnTo>
                    <a:pt x="1448" y="1220"/>
                  </a:lnTo>
                  <a:lnTo>
                    <a:pt x="1456" y="1200"/>
                  </a:lnTo>
                  <a:lnTo>
                    <a:pt x="1464" y="1196"/>
                  </a:lnTo>
                  <a:lnTo>
                    <a:pt x="1462" y="1178"/>
                  </a:lnTo>
                  <a:lnTo>
                    <a:pt x="1468" y="1164"/>
                  </a:lnTo>
                  <a:lnTo>
                    <a:pt x="1454" y="1142"/>
                  </a:lnTo>
                  <a:lnTo>
                    <a:pt x="1456" y="1120"/>
                  </a:lnTo>
                  <a:lnTo>
                    <a:pt x="1464" y="1104"/>
                  </a:lnTo>
                  <a:lnTo>
                    <a:pt x="1454" y="1084"/>
                  </a:lnTo>
                  <a:lnTo>
                    <a:pt x="1450" y="1074"/>
                  </a:lnTo>
                  <a:lnTo>
                    <a:pt x="1458" y="1060"/>
                  </a:lnTo>
                  <a:lnTo>
                    <a:pt x="1472" y="1058"/>
                  </a:lnTo>
                  <a:lnTo>
                    <a:pt x="1474" y="1038"/>
                  </a:lnTo>
                  <a:lnTo>
                    <a:pt x="1488" y="1022"/>
                  </a:lnTo>
                  <a:lnTo>
                    <a:pt x="1496" y="1008"/>
                  </a:lnTo>
                  <a:lnTo>
                    <a:pt x="1494" y="994"/>
                  </a:lnTo>
                  <a:lnTo>
                    <a:pt x="1500" y="990"/>
                  </a:lnTo>
                  <a:lnTo>
                    <a:pt x="1508" y="994"/>
                  </a:lnTo>
                  <a:lnTo>
                    <a:pt x="1520" y="988"/>
                  </a:lnTo>
                  <a:lnTo>
                    <a:pt x="1512" y="984"/>
                  </a:lnTo>
                  <a:lnTo>
                    <a:pt x="1466" y="972"/>
                  </a:lnTo>
                  <a:lnTo>
                    <a:pt x="1458" y="966"/>
                  </a:lnTo>
                  <a:lnTo>
                    <a:pt x="1444" y="950"/>
                  </a:lnTo>
                  <a:lnTo>
                    <a:pt x="1432" y="950"/>
                  </a:lnTo>
                  <a:lnTo>
                    <a:pt x="1396" y="924"/>
                  </a:lnTo>
                  <a:lnTo>
                    <a:pt x="1380" y="922"/>
                  </a:lnTo>
                  <a:lnTo>
                    <a:pt x="1362" y="914"/>
                  </a:lnTo>
                  <a:lnTo>
                    <a:pt x="1356" y="904"/>
                  </a:lnTo>
                  <a:lnTo>
                    <a:pt x="1352" y="894"/>
                  </a:lnTo>
                  <a:lnTo>
                    <a:pt x="1344" y="884"/>
                  </a:lnTo>
                  <a:lnTo>
                    <a:pt x="1332" y="884"/>
                  </a:lnTo>
                  <a:lnTo>
                    <a:pt x="1326" y="876"/>
                  </a:lnTo>
                  <a:lnTo>
                    <a:pt x="1314" y="872"/>
                  </a:lnTo>
                  <a:lnTo>
                    <a:pt x="1296" y="882"/>
                  </a:lnTo>
                  <a:lnTo>
                    <a:pt x="1292" y="878"/>
                  </a:lnTo>
                  <a:lnTo>
                    <a:pt x="1284" y="862"/>
                  </a:lnTo>
                  <a:lnTo>
                    <a:pt x="1278" y="858"/>
                  </a:lnTo>
                  <a:lnTo>
                    <a:pt x="1270" y="856"/>
                  </a:lnTo>
                  <a:lnTo>
                    <a:pt x="1262" y="858"/>
                  </a:lnTo>
                  <a:lnTo>
                    <a:pt x="1240" y="858"/>
                  </a:lnTo>
                  <a:lnTo>
                    <a:pt x="1230" y="862"/>
                  </a:lnTo>
                  <a:lnTo>
                    <a:pt x="1218" y="872"/>
                  </a:lnTo>
                  <a:lnTo>
                    <a:pt x="1210" y="872"/>
                  </a:lnTo>
                  <a:lnTo>
                    <a:pt x="1204" y="866"/>
                  </a:lnTo>
                  <a:lnTo>
                    <a:pt x="1200" y="838"/>
                  </a:lnTo>
                  <a:lnTo>
                    <a:pt x="1184" y="828"/>
                  </a:lnTo>
                  <a:lnTo>
                    <a:pt x="1172" y="814"/>
                  </a:lnTo>
                  <a:lnTo>
                    <a:pt x="1168" y="806"/>
                  </a:lnTo>
                  <a:lnTo>
                    <a:pt x="1152" y="792"/>
                  </a:lnTo>
                  <a:lnTo>
                    <a:pt x="1150" y="782"/>
                  </a:lnTo>
                  <a:lnTo>
                    <a:pt x="1150" y="758"/>
                  </a:lnTo>
                  <a:lnTo>
                    <a:pt x="1138" y="744"/>
                  </a:lnTo>
                  <a:lnTo>
                    <a:pt x="1136" y="734"/>
                  </a:lnTo>
                  <a:lnTo>
                    <a:pt x="1132" y="716"/>
                  </a:lnTo>
                  <a:lnTo>
                    <a:pt x="1134" y="698"/>
                  </a:lnTo>
                  <a:lnTo>
                    <a:pt x="1108" y="672"/>
                  </a:lnTo>
                  <a:lnTo>
                    <a:pt x="1084" y="654"/>
                  </a:lnTo>
                  <a:lnTo>
                    <a:pt x="1076" y="624"/>
                  </a:lnTo>
                  <a:lnTo>
                    <a:pt x="1066" y="606"/>
                  </a:lnTo>
                  <a:lnTo>
                    <a:pt x="1066" y="598"/>
                  </a:lnTo>
                  <a:lnTo>
                    <a:pt x="1092" y="594"/>
                  </a:lnTo>
                  <a:lnTo>
                    <a:pt x="1096" y="582"/>
                  </a:lnTo>
                  <a:lnTo>
                    <a:pt x="1100" y="586"/>
                  </a:lnTo>
                  <a:lnTo>
                    <a:pt x="1108" y="606"/>
                  </a:lnTo>
                  <a:lnTo>
                    <a:pt x="1118" y="616"/>
                  </a:lnTo>
                  <a:lnTo>
                    <a:pt x="1126" y="622"/>
                  </a:lnTo>
                  <a:lnTo>
                    <a:pt x="1144" y="630"/>
                  </a:lnTo>
                  <a:lnTo>
                    <a:pt x="1150" y="628"/>
                  </a:lnTo>
                  <a:lnTo>
                    <a:pt x="1154" y="622"/>
                  </a:lnTo>
                  <a:lnTo>
                    <a:pt x="1164" y="624"/>
                  </a:lnTo>
                  <a:lnTo>
                    <a:pt x="1162" y="610"/>
                  </a:lnTo>
                  <a:lnTo>
                    <a:pt x="1170" y="602"/>
                  </a:lnTo>
                  <a:lnTo>
                    <a:pt x="1174" y="588"/>
                  </a:lnTo>
                  <a:lnTo>
                    <a:pt x="1178" y="588"/>
                  </a:lnTo>
                  <a:lnTo>
                    <a:pt x="1190" y="598"/>
                  </a:lnTo>
                  <a:lnTo>
                    <a:pt x="1196" y="598"/>
                  </a:lnTo>
                  <a:lnTo>
                    <a:pt x="1208" y="568"/>
                  </a:lnTo>
                  <a:lnTo>
                    <a:pt x="1206" y="560"/>
                  </a:lnTo>
                  <a:lnTo>
                    <a:pt x="1194" y="546"/>
                  </a:lnTo>
                  <a:lnTo>
                    <a:pt x="1172" y="524"/>
                  </a:lnTo>
                  <a:lnTo>
                    <a:pt x="1166" y="512"/>
                  </a:lnTo>
                  <a:lnTo>
                    <a:pt x="1168" y="504"/>
                  </a:lnTo>
                  <a:lnTo>
                    <a:pt x="1164" y="492"/>
                  </a:lnTo>
                  <a:lnTo>
                    <a:pt x="1134" y="482"/>
                  </a:lnTo>
                  <a:lnTo>
                    <a:pt x="1124" y="484"/>
                  </a:lnTo>
                  <a:lnTo>
                    <a:pt x="1118" y="476"/>
                  </a:lnTo>
                  <a:lnTo>
                    <a:pt x="1092" y="456"/>
                  </a:lnTo>
                  <a:lnTo>
                    <a:pt x="1082" y="418"/>
                  </a:lnTo>
                  <a:lnTo>
                    <a:pt x="1092" y="414"/>
                  </a:lnTo>
                  <a:lnTo>
                    <a:pt x="1084" y="400"/>
                  </a:lnTo>
                  <a:lnTo>
                    <a:pt x="1082" y="390"/>
                  </a:lnTo>
                  <a:lnTo>
                    <a:pt x="1084" y="388"/>
                  </a:lnTo>
                  <a:lnTo>
                    <a:pt x="1062" y="368"/>
                  </a:lnTo>
                  <a:lnTo>
                    <a:pt x="1060" y="352"/>
                  </a:lnTo>
                  <a:lnTo>
                    <a:pt x="1060" y="350"/>
                  </a:lnTo>
                  <a:lnTo>
                    <a:pt x="1084" y="350"/>
                  </a:lnTo>
                  <a:lnTo>
                    <a:pt x="1090" y="340"/>
                  </a:lnTo>
                  <a:lnTo>
                    <a:pt x="1118" y="346"/>
                  </a:lnTo>
                  <a:lnTo>
                    <a:pt x="1124" y="342"/>
                  </a:lnTo>
                  <a:lnTo>
                    <a:pt x="1132" y="326"/>
                  </a:lnTo>
                  <a:lnTo>
                    <a:pt x="1134" y="302"/>
                  </a:lnTo>
                  <a:lnTo>
                    <a:pt x="1126" y="274"/>
                  </a:lnTo>
                  <a:lnTo>
                    <a:pt x="1148" y="268"/>
                  </a:lnTo>
                  <a:lnTo>
                    <a:pt x="1150" y="266"/>
                  </a:lnTo>
                  <a:lnTo>
                    <a:pt x="1144" y="260"/>
                  </a:lnTo>
                  <a:lnTo>
                    <a:pt x="1142" y="250"/>
                  </a:lnTo>
                  <a:lnTo>
                    <a:pt x="1150" y="242"/>
                  </a:lnTo>
                  <a:lnTo>
                    <a:pt x="1148" y="234"/>
                  </a:lnTo>
                  <a:lnTo>
                    <a:pt x="1154" y="226"/>
                  </a:lnTo>
                  <a:lnTo>
                    <a:pt x="1168" y="212"/>
                  </a:lnTo>
                  <a:lnTo>
                    <a:pt x="1164" y="196"/>
                  </a:lnTo>
                  <a:lnTo>
                    <a:pt x="1172" y="182"/>
                  </a:lnTo>
                  <a:lnTo>
                    <a:pt x="1162" y="134"/>
                  </a:lnTo>
                  <a:lnTo>
                    <a:pt x="1166" y="126"/>
                  </a:lnTo>
                  <a:lnTo>
                    <a:pt x="1160" y="104"/>
                  </a:lnTo>
                  <a:lnTo>
                    <a:pt x="1170" y="88"/>
                  </a:lnTo>
                  <a:lnTo>
                    <a:pt x="1166" y="78"/>
                  </a:lnTo>
                  <a:lnTo>
                    <a:pt x="1158" y="72"/>
                  </a:lnTo>
                  <a:lnTo>
                    <a:pt x="1148" y="72"/>
                  </a:lnTo>
                  <a:lnTo>
                    <a:pt x="1136" y="94"/>
                  </a:lnTo>
                  <a:lnTo>
                    <a:pt x="1132" y="96"/>
                  </a:lnTo>
                  <a:lnTo>
                    <a:pt x="1120" y="86"/>
                  </a:lnTo>
                  <a:lnTo>
                    <a:pt x="1108" y="58"/>
                  </a:lnTo>
                  <a:lnTo>
                    <a:pt x="1098" y="68"/>
                  </a:lnTo>
                  <a:lnTo>
                    <a:pt x="1090" y="68"/>
                  </a:lnTo>
                  <a:lnTo>
                    <a:pt x="1080" y="56"/>
                  </a:lnTo>
                  <a:lnTo>
                    <a:pt x="1074" y="56"/>
                  </a:lnTo>
                  <a:lnTo>
                    <a:pt x="1066" y="52"/>
                  </a:lnTo>
                  <a:lnTo>
                    <a:pt x="1056" y="26"/>
                  </a:lnTo>
                  <a:lnTo>
                    <a:pt x="1046" y="24"/>
                  </a:lnTo>
                  <a:lnTo>
                    <a:pt x="1042" y="18"/>
                  </a:lnTo>
                  <a:lnTo>
                    <a:pt x="1034" y="16"/>
                  </a:lnTo>
                  <a:lnTo>
                    <a:pt x="1026" y="16"/>
                  </a:lnTo>
                  <a:lnTo>
                    <a:pt x="1014" y="4"/>
                  </a:lnTo>
                  <a:lnTo>
                    <a:pt x="1006" y="0"/>
                  </a:lnTo>
                  <a:lnTo>
                    <a:pt x="998" y="2"/>
                  </a:lnTo>
                  <a:lnTo>
                    <a:pt x="990" y="8"/>
                  </a:lnTo>
                  <a:lnTo>
                    <a:pt x="976" y="10"/>
                  </a:lnTo>
                  <a:lnTo>
                    <a:pt x="966" y="18"/>
                  </a:lnTo>
                  <a:lnTo>
                    <a:pt x="932" y="20"/>
                  </a:lnTo>
                  <a:lnTo>
                    <a:pt x="916" y="42"/>
                  </a:lnTo>
                  <a:lnTo>
                    <a:pt x="892" y="56"/>
                  </a:lnTo>
                  <a:lnTo>
                    <a:pt x="880" y="70"/>
                  </a:lnTo>
                  <a:lnTo>
                    <a:pt x="874" y="86"/>
                  </a:lnTo>
                  <a:lnTo>
                    <a:pt x="860" y="88"/>
                  </a:lnTo>
                  <a:lnTo>
                    <a:pt x="856" y="100"/>
                  </a:lnTo>
                  <a:lnTo>
                    <a:pt x="838" y="94"/>
                  </a:lnTo>
                  <a:lnTo>
                    <a:pt x="826" y="102"/>
                  </a:lnTo>
                  <a:lnTo>
                    <a:pt x="816" y="102"/>
                  </a:lnTo>
                  <a:lnTo>
                    <a:pt x="752" y="170"/>
                  </a:lnTo>
                  <a:lnTo>
                    <a:pt x="748" y="184"/>
                  </a:lnTo>
                  <a:lnTo>
                    <a:pt x="754" y="190"/>
                  </a:lnTo>
                  <a:lnTo>
                    <a:pt x="756" y="198"/>
                  </a:lnTo>
                  <a:lnTo>
                    <a:pt x="752" y="220"/>
                  </a:lnTo>
                  <a:lnTo>
                    <a:pt x="746" y="230"/>
                  </a:lnTo>
                  <a:lnTo>
                    <a:pt x="738" y="228"/>
                  </a:lnTo>
                  <a:lnTo>
                    <a:pt x="726" y="218"/>
                  </a:lnTo>
                  <a:lnTo>
                    <a:pt x="682" y="224"/>
                  </a:lnTo>
                  <a:lnTo>
                    <a:pt x="678" y="226"/>
                  </a:lnTo>
                  <a:lnTo>
                    <a:pt x="672" y="242"/>
                  </a:lnTo>
                  <a:lnTo>
                    <a:pt x="666" y="248"/>
                  </a:lnTo>
                  <a:lnTo>
                    <a:pt x="652" y="248"/>
                  </a:lnTo>
                  <a:lnTo>
                    <a:pt x="632" y="242"/>
                  </a:lnTo>
                  <a:lnTo>
                    <a:pt x="624" y="248"/>
                  </a:lnTo>
                  <a:lnTo>
                    <a:pt x="622" y="258"/>
                  </a:lnTo>
                  <a:lnTo>
                    <a:pt x="616" y="266"/>
                  </a:lnTo>
                  <a:lnTo>
                    <a:pt x="608" y="268"/>
                  </a:lnTo>
                  <a:lnTo>
                    <a:pt x="596" y="266"/>
                  </a:lnTo>
                  <a:lnTo>
                    <a:pt x="588" y="270"/>
                  </a:lnTo>
                  <a:lnTo>
                    <a:pt x="576" y="262"/>
                  </a:lnTo>
                  <a:lnTo>
                    <a:pt x="546" y="266"/>
                  </a:lnTo>
                  <a:lnTo>
                    <a:pt x="534" y="260"/>
                  </a:lnTo>
                  <a:lnTo>
                    <a:pt x="520" y="262"/>
                  </a:lnTo>
                  <a:lnTo>
                    <a:pt x="480" y="240"/>
                  </a:lnTo>
                  <a:lnTo>
                    <a:pt x="454" y="236"/>
                  </a:lnTo>
                  <a:lnTo>
                    <a:pt x="406" y="220"/>
                  </a:lnTo>
                  <a:lnTo>
                    <a:pt x="396" y="224"/>
                  </a:lnTo>
                  <a:lnTo>
                    <a:pt x="390" y="236"/>
                  </a:lnTo>
                  <a:lnTo>
                    <a:pt x="372" y="234"/>
                  </a:lnTo>
                  <a:lnTo>
                    <a:pt x="364" y="236"/>
                  </a:lnTo>
                  <a:lnTo>
                    <a:pt x="362" y="244"/>
                  </a:lnTo>
                  <a:lnTo>
                    <a:pt x="366" y="264"/>
                  </a:lnTo>
                  <a:lnTo>
                    <a:pt x="356" y="304"/>
                  </a:lnTo>
                  <a:lnTo>
                    <a:pt x="360" y="308"/>
                  </a:lnTo>
                  <a:lnTo>
                    <a:pt x="380" y="306"/>
                  </a:lnTo>
                  <a:lnTo>
                    <a:pt x="390" y="320"/>
                  </a:lnTo>
                  <a:lnTo>
                    <a:pt x="392" y="328"/>
                  </a:lnTo>
                  <a:lnTo>
                    <a:pt x="384" y="336"/>
                  </a:lnTo>
                  <a:lnTo>
                    <a:pt x="380" y="340"/>
                  </a:lnTo>
                  <a:lnTo>
                    <a:pt x="382" y="350"/>
                  </a:lnTo>
                  <a:lnTo>
                    <a:pt x="390" y="358"/>
                  </a:lnTo>
                  <a:lnTo>
                    <a:pt x="398" y="362"/>
                  </a:lnTo>
                  <a:lnTo>
                    <a:pt x="424" y="358"/>
                  </a:lnTo>
                  <a:lnTo>
                    <a:pt x="432" y="362"/>
                  </a:lnTo>
                  <a:lnTo>
                    <a:pt x="438" y="372"/>
                  </a:lnTo>
                  <a:lnTo>
                    <a:pt x="438" y="378"/>
                  </a:lnTo>
                  <a:lnTo>
                    <a:pt x="430" y="388"/>
                  </a:lnTo>
                  <a:lnTo>
                    <a:pt x="416" y="396"/>
                  </a:lnTo>
                  <a:lnTo>
                    <a:pt x="416" y="410"/>
                  </a:lnTo>
                  <a:lnTo>
                    <a:pt x="454" y="440"/>
                  </a:lnTo>
                  <a:lnTo>
                    <a:pt x="460" y="458"/>
                  </a:lnTo>
                  <a:lnTo>
                    <a:pt x="460" y="468"/>
                  </a:lnTo>
                  <a:lnTo>
                    <a:pt x="434" y="496"/>
                  </a:lnTo>
                  <a:lnTo>
                    <a:pt x="434" y="502"/>
                  </a:lnTo>
                  <a:lnTo>
                    <a:pt x="456" y="512"/>
                  </a:lnTo>
                  <a:lnTo>
                    <a:pt x="472" y="534"/>
                  </a:lnTo>
                  <a:lnTo>
                    <a:pt x="500" y="548"/>
                  </a:lnTo>
                  <a:lnTo>
                    <a:pt x="504" y="570"/>
                  </a:lnTo>
                  <a:lnTo>
                    <a:pt x="520" y="572"/>
                  </a:lnTo>
                  <a:lnTo>
                    <a:pt x="530" y="580"/>
                  </a:lnTo>
                  <a:lnTo>
                    <a:pt x="542" y="574"/>
                  </a:lnTo>
                  <a:lnTo>
                    <a:pt x="554" y="578"/>
                  </a:lnTo>
                  <a:lnTo>
                    <a:pt x="558" y="590"/>
                  </a:lnTo>
                  <a:lnTo>
                    <a:pt x="560" y="606"/>
                  </a:lnTo>
                  <a:lnTo>
                    <a:pt x="572" y="628"/>
                  </a:lnTo>
                  <a:lnTo>
                    <a:pt x="576" y="630"/>
                  </a:lnTo>
                  <a:lnTo>
                    <a:pt x="622" y="632"/>
                  </a:lnTo>
                  <a:lnTo>
                    <a:pt x="636" y="640"/>
                  </a:lnTo>
                  <a:lnTo>
                    <a:pt x="646" y="638"/>
                  </a:lnTo>
                  <a:lnTo>
                    <a:pt x="664" y="656"/>
                  </a:lnTo>
                  <a:lnTo>
                    <a:pt x="668" y="670"/>
                  </a:lnTo>
                  <a:lnTo>
                    <a:pt x="674" y="680"/>
                  </a:lnTo>
                  <a:lnTo>
                    <a:pt x="664" y="692"/>
                  </a:lnTo>
                  <a:lnTo>
                    <a:pt x="664" y="704"/>
                  </a:lnTo>
                  <a:lnTo>
                    <a:pt x="646" y="708"/>
                  </a:lnTo>
                  <a:lnTo>
                    <a:pt x="638" y="708"/>
                  </a:lnTo>
                  <a:lnTo>
                    <a:pt x="630" y="704"/>
                  </a:lnTo>
                  <a:lnTo>
                    <a:pt x="618" y="708"/>
                  </a:lnTo>
                  <a:lnTo>
                    <a:pt x="614" y="714"/>
                  </a:lnTo>
                  <a:lnTo>
                    <a:pt x="590" y="730"/>
                  </a:lnTo>
                  <a:lnTo>
                    <a:pt x="586" y="750"/>
                  </a:lnTo>
                  <a:lnTo>
                    <a:pt x="592" y="778"/>
                  </a:lnTo>
                  <a:lnTo>
                    <a:pt x="608" y="794"/>
                  </a:lnTo>
                  <a:lnTo>
                    <a:pt x="610" y="808"/>
                  </a:lnTo>
                  <a:lnTo>
                    <a:pt x="614" y="810"/>
                  </a:lnTo>
                  <a:lnTo>
                    <a:pt x="622" y="818"/>
                  </a:lnTo>
                  <a:lnTo>
                    <a:pt x="620" y="826"/>
                  </a:lnTo>
                  <a:lnTo>
                    <a:pt x="610" y="838"/>
                  </a:lnTo>
                  <a:lnTo>
                    <a:pt x="610" y="854"/>
                  </a:lnTo>
                  <a:lnTo>
                    <a:pt x="614" y="862"/>
                  </a:lnTo>
                  <a:lnTo>
                    <a:pt x="618" y="864"/>
                  </a:lnTo>
                  <a:lnTo>
                    <a:pt x="644" y="864"/>
                  </a:lnTo>
                  <a:lnTo>
                    <a:pt x="654" y="882"/>
                  </a:lnTo>
                  <a:lnTo>
                    <a:pt x="650" y="888"/>
                  </a:lnTo>
                  <a:lnTo>
                    <a:pt x="642" y="890"/>
                  </a:lnTo>
                  <a:lnTo>
                    <a:pt x="632" y="888"/>
                  </a:lnTo>
                  <a:lnTo>
                    <a:pt x="624" y="882"/>
                  </a:lnTo>
                  <a:lnTo>
                    <a:pt x="622" y="900"/>
                  </a:lnTo>
                  <a:lnTo>
                    <a:pt x="592" y="916"/>
                  </a:lnTo>
                  <a:lnTo>
                    <a:pt x="576" y="960"/>
                  </a:lnTo>
                  <a:lnTo>
                    <a:pt x="564" y="968"/>
                  </a:lnTo>
                  <a:lnTo>
                    <a:pt x="556" y="984"/>
                  </a:lnTo>
                  <a:lnTo>
                    <a:pt x="550" y="998"/>
                  </a:lnTo>
                  <a:lnTo>
                    <a:pt x="550" y="1016"/>
                  </a:lnTo>
                  <a:lnTo>
                    <a:pt x="560" y="1038"/>
                  </a:lnTo>
                  <a:lnTo>
                    <a:pt x="556" y="1058"/>
                  </a:lnTo>
                  <a:lnTo>
                    <a:pt x="538" y="1072"/>
                  </a:lnTo>
                  <a:lnTo>
                    <a:pt x="520" y="1076"/>
                  </a:lnTo>
                  <a:lnTo>
                    <a:pt x="508" y="1088"/>
                  </a:lnTo>
                  <a:lnTo>
                    <a:pt x="500" y="1112"/>
                  </a:lnTo>
                  <a:lnTo>
                    <a:pt x="500" y="1144"/>
                  </a:lnTo>
                  <a:lnTo>
                    <a:pt x="492" y="1172"/>
                  </a:lnTo>
                  <a:lnTo>
                    <a:pt x="468" y="1238"/>
                  </a:lnTo>
                  <a:lnTo>
                    <a:pt x="458" y="1254"/>
                  </a:lnTo>
                  <a:lnTo>
                    <a:pt x="432" y="1274"/>
                  </a:lnTo>
                  <a:lnTo>
                    <a:pt x="412" y="1302"/>
                  </a:lnTo>
                  <a:lnTo>
                    <a:pt x="404" y="1318"/>
                  </a:lnTo>
                  <a:lnTo>
                    <a:pt x="390" y="1362"/>
                  </a:lnTo>
                  <a:lnTo>
                    <a:pt x="378" y="1390"/>
                  </a:lnTo>
                  <a:lnTo>
                    <a:pt x="368" y="1430"/>
                  </a:lnTo>
                  <a:lnTo>
                    <a:pt x="358" y="1440"/>
                  </a:lnTo>
                  <a:lnTo>
                    <a:pt x="348" y="1444"/>
                  </a:lnTo>
                  <a:lnTo>
                    <a:pt x="294" y="1444"/>
                  </a:lnTo>
                  <a:lnTo>
                    <a:pt x="284" y="1446"/>
                  </a:lnTo>
                  <a:lnTo>
                    <a:pt x="266" y="1458"/>
                  </a:lnTo>
                  <a:lnTo>
                    <a:pt x="258" y="1474"/>
                  </a:lnTo>
                  <a:lnTo>
                    <a:pt x="248" y="1478"/>
                  </a:lnTo>
                  <a:lnTo>
                    <a:pt x="240" y="1472"/>
                  </a:lnTo>
                  <a:lnTo>
                    <a:pt x="232" y="1458"/>
                  </a:lnTo>
                  <a:lnTo>
                    <a:pt x="204" y="1424"/>
                  </a:lnTo>
                  <a:lnTo>
                    <a:pt x="194" y="1418"/>
                  </a:lnTo>
                  <a:lnTo>
                    <a:pt x="186" y="1418"/>
                  </a:lnTo>
                  <a:lnTo>
                    <a:pt x="168" y="1444"/>
                  </a:lnTo>
                  <a:lnTo>
                    <a:pt x="162" y="1464"/>
                  </a:lnTo>
                  <a:lnTo>
                    <a:pt x="140" y="1490"/>
                  </a:lnTo>
                  <a:lnTo>
                    <a:pt x="114" y="1542"/>
                  </a:lnTo>
                  <a:lnTo>
                    <a:pt x="100" y="1564"/>
                  </a:lnTo>
                  <a:lnTo>
                    <a:pt x="96" y="1582"/>
                  </a:lnTo>
                  <a:lnTo>
                    <a:pt x="96" y="1634"/>
                  </a:lnTo>
                  <a:lnTo>
                    <a:pt x="100" y="1648"/>
                  </a:lnTo>
                  <a:lnTo>
                    <a:pt x="110" y="1660"/>
                  </a:lnTo>
                  <a:lnTo>
                    <a:pt x="126" y="1672"/>
                  </a:lnTo>
                  <a:lnTo>
                    <a:pt x="142" y="1668"/>
                  </a:lnTo>
                  <a:lnTo>
                    <a:pt x="160" y="1674"/>
                  </a:lnTo>
                  <a:lnTo>
                    <a:pt x="188" y="1674"/>
                  </a:lnTo>
                  <a:lnTo>
                    <a:pt x="194" y="1676"/>
                  </a:lnTo>
                  <a:lnTo>
                    <a:pt x="206" y="1688"/>
                  </a:lnTo>
                  <a:lnTo>
                    <a:pt x="210" y="1698"/>
                  </a:lnTo>
                  <a:lnTo>
                    <a:pt x="212" y="1712"/>
                  </a:lnTo>
                  <a:lnTo>
                    <a:pt x="208" y="1768"/>
                  </a:lnTo>
                  <a:lnTo>
                    <a:pt x="210" y="1782"/>
                  </a:lnTo>
                  <a:lnTo>
                    <a:pt x="216" y="1794"/>
                  </a:lnTo>
                  <a:lnTo>
                    <a:pt x="248" y="1824"/>
                  </a:lnTo>
                  <a:lnTo>
                    <a:pt x="258" y="1828"/>
                  </a:lnTo>
                  <a:lnTo>
                    <a:pt x="278" y="1820"/>
                  </a:lnTo>
                  <a:lnTo>
                    <a:pt x="286" y="1822"/>
                  </a:lnTo>
                  <a:lnTo>
                    <a:pt x="292" y="1830"/>
                  </a:lnTo>
                  <a:lnTo>
                    <a:pt x="298" y="1862"/>
                  </a:lnTo>
                  <a:lnTo>
                    <a:pt x="306" y="1884"/>
                  </a:lnTo>
                  <a:lnTo>
                    <a:pt x="322" y="1904"/>
                  </a:lnTo>
                  <a:lnTo>
                    <a:pt x="332" y="1926"/>
                  </a:lnTo>
                  <a:lnTo>
                    <a:pt x="348" y="1944"/>
                  </a:lnTo>
                  <a:lnTo>
                    <a:pt x="364" y="1958"/>
                  </a:lnTo>
                  <a:lnTo>
                    <a:pt x="368" y="1964"/>
                  </a:lnTo>
                  <a:lnTo>
                    <a:pt x="378" y="1976"/>
                  </a:lnTo>
                  <a:lnTo>
                    <a:pt x="382" y="1986"/>
                  </a:lnTo>
                  <a:lnTo>
                    <a:pt x="372" y="1994"/>
                  </a:lnTo>
                  <a:lnTo>
                    <a:pt x="372" y="2000"/>
                  </a:lnTo>
                  <a:lnTo>
                    <a:pt x="378" y="2028"/>
                  </a:lnTo>
                  <a:lnTo>
                    <a:pt x="378" y="2036"/>
                  </a:lnTo>
                  <a:lnTo>
                    <a:pt x="394" y="2040"/>
                  </a:lnTo>
                  <a:lnTo>
                    <a:pt x="396" y="2048"/>
                  </a:lnTo>
                  <a:lnTo>
                    <a:pt x="380" y="2050"/>
                  </a:lnTo>
                  <a:lnTo>
                    <a:pt x="368" y="2058"/>
                  </a:lnTo>
                  <a:lnTo>
                    <a:pt x="368" y="2068"/>
                  </a:lnTo>
                  <a:lnTo>
                    <a:pt x="362" y="2072"/>
                  </a:lnTo>
                  <a:lnTo>
                    <a:pt x="352" y="2072"/>
                  </a:lnTo>
                  <a:lnTo>
                    <a:pt x="336" y="2070"/>
                  </a:lnTo>
                  <a:lnTo>
                    <a:pt x="330" y="2066"/>
                  </a:lnTo>
                  <a:lnTo>
                    <a:pt x="328" y="2060"/>
                  </a:lnTo>
                  <a:lnTo>
                    <a:pt x="328" y="2044"/>
                  </a:lnTo>
                  <a:lnTo>
                    <a:pt x="326" y="2040"/>
                  </a:lnTo>
                  <a:lnTo>
                    <a:pt x="308" y="2038"/>
                  </a:lnTo>
                  <a:lnTo>
                    <a:pt x="296" y="2046"/>
                  </a:lnTo>
                  <a:lnTo>
                    <a:pt x="268" y="2058"/>
                  </a:lnTo>
                  <a:lnTo>
                    <a:pt x="264" y="2080"/>
                  </a:lnTo>
                  <a:lnTo>
                    <a:pt x="260" y="2084"/>
                  </a:lnTo>
                  <a:lnTo>
                    <a:pt x="254" y="2084"/>
                  </a:lnTo>
                  <a:lnTo>
                    <a:pt x="216" y="2084"/>
                  </a:lnTo>
                  <a:lnTo>
                    <a:pt x="192" y="2064"/>
                  </a:lnTo>
                  <a:lnTo>
                    <a:pt x="178" y="2072"/>
                  </a:lnTo>
                  <a:lnTo>
                    <a:pt x="168" y="2066"/>
                  </a:lnTo>
                  <a:lnTo>
                    <a:pt x="136" y="2068"/>
                  </a:lnTo>
                  <a:lnTo>
                    <a:pt x="128" y="2068"/>
                  </a:lnTo>
                  <a:lnTo>
                    <a:pt x="114" y="2070"/>
                  </a:lnTo>
                  <a:lnTo>
                    <a:pt x="102" y="2066"/>
                  </a:lnTo>
                  <a:lnTo>
                    <a:pt x="100" y="2072"/>
                  </a:lnTo>
                  <a:lnTo>
                    <a:pt x="96" y="2072"/>
                  </a:lnTo>
                  <a:lnTo>
                    <a:pt x="88" y="2058"/>
                  </a:lnTo>
                  <a:lnTo>
                    <a:pt x="82" y="2056"/>
                  </a:lnTo>
                  <a:lnTo>
                    <a:pt x="80" y="2070"/>
                  </a:lnTo>
                  <a:lnTo>
                    <a:pt x="90" y="2120"/>
                  </a:lnTo>
                  <a:lnTo>
                    <a:pt x="40" y="2122"/>
                  </a:lnTo>
                  <a:lnTo>
                    <a:pt x="32" y="2126"/>
                  </a:lnTo>
                  <a:lnTo>
                    <a:pt x="18" y="2122"/>
                  </a:lnTo>
                  <a:lnTo>
                    <a:pt x="18" y="2138"/>
                  </a:lnTo>
                  <a:lnTo>
                    <a:pt x="12" y="2140"/>
                  </a:lnTo>
                  <a:lnTo>
                    <a:pt x="10" y="2152"/>
                  </a:lnTo>
                  <a:lnTo>
                    <a:pt x="0" y="2164"/>
                  </a:lnTo>
                  <a:lnTo>
                    <a:pt x="2" y="2170"/>
                  </a:lnTo>
                  <a:lnTo>
                    <a:pt x="8" y="2194"/>
                  </a:lnTo>
                  <a:lnTo>
                    <a:pt x="26" y="2196"/>
                  </a:lnTo>
                  <a:lnTo>
                    <a:pt x="40" y="2220"/>
                  </a:lnTo>
                  <a:lnTo>
                    <a:pt x="86" y="2272"/>
                  </a:lnTo>
                  <a:lnTo>
                    <a:pt x="116" y="2302"/>
                  </a:lnTo>
                  <a:lnTo>
                    <a:pt x="142" y="2316"/>
                  </a:lnTo>
                  <a:lnTo>
                    <a:pt x="192" y="2322"/>
                  </a:lnTo>
                  <a:lnTo>
                    <a:pt x="248" y="2316"/>
                  </a:lnTo>
                  <a:lnTo>
                    <a:pt x="284" y="2302"/>
                  </a:lnTo>
                  <a:lnTo>
                    <a:pt x="306" y="2290"/>
                  </a:lnTo>
                  <a:lnTo>
                    <a:pt x="312" y="2268"/>
                  </a:lnTo>
                  <a:lnTo>
                    <a:pt x="322" y="2262"/>
                  </a:lnTo>
                  <a:lnTo>
                    <a:pt x="332" y="2278"/>
                  </a:lnTo>
                  <a:lnTo>
                    <a:pt x="322" y="2338"/>
                  </a:lnTo>
                  <a:lnTo>
                    <a:pt x="302" y="2366"/>
                  </a:lnTo>
                  <a:lnTo>
                    <a:pt x="280" y="2386"/>
                  </a:lnTo>
                  <a:lnTo>
                    <a:pt x="250" y="2394"/>
                  </a:lnTo>
                  <a:lnTo>
                    <a:pt x="216" y="2400"/>
                  </a:lnTo>
                  <a:lnTo>
                    <a:pt x="190" y="2408"/>
                  </a:lnTo>
                  <a:lnTo>
                    <a:pt x="164" y="2390"/>
                  </a:lnTo>
                  <a:lnTo>
                    <a:pt x="156" y="2404"/>
                  </a:lnTo>
                  <a:lnTo>
                    <a:pt x="170" y="2450"/>
                  </a:lnTo>
                  <a:lnTo>
                    <a:pt x="292" y="2566"/>
                  </a:lnTo>
                  <a:lnTo>
                    <a:pt x="332" y="2610"/>
                  </a:lnTo>
                  <a:lnTo>
                    <a:pt x="396" y="2662"/>
                  </a:lnTo>
                  <a:lnTo>
                    <a:pt x="410" y="2666"/>
                  </a:lnTo>
                  <a:lnTo>
                    <a:pt x="476" y="2668"/>
                  </a:lnTo>
                  <a:lnTo>
                    <a:pt x="504" y="2660"/>
                  </a:lnTo>
                  <a:lnTo>
                    <a:pt x="518" y="2654"/>
                  </a:lnTo>
                  <a:lnTo>
                    <a:pt x="540" y="2634"/>
                  </a:lnTo>
                  <a:lnTo>
                    <a:pt x="556" y="2632"/>
                  </a:lnTo>
                  <a:lnTo>
                    <a:pt x="594" y="2600"/>
                  </a:lnTo>
                  <a:lnTo>
                    <a:pt x="604" y="2574"/>
                  </a:lnTo>
                  <a:lnTo>
                    <a:pt x="612" y="2542"/>
                  </a:lnTo>
                  <a:lnTo>
                    <a:pt x="602" y="2464"/>
                  </a:lnTo>
                  <a:lnTo>
                    <a:pt x="604" y="2430"/>
                  </a:lnTo>
                  <a:lnTo>
                    <a:pt x="600" y="2382"/>
                  </a:lnTo>
                  <a:lnTo>
                    <a:pt x="608" y="2394"/>
                  </a:lnTo>
                  <a:lnTo>
                    <a:pt x="618" y="2400"/>
                  </a:lnTo>
                  <a:lnTo>
                    <a:pt x="692" y="2400"/>
                  </a:lnTo>
                  <a:lnTo>
                    <a:pt x="694" y="2406"/>
                  </a:lnTo>
                  <a:lnTo>
                    <a:pt x="684" y="2422"/>
                  </a:lnTo>
                  <a:lnTo>
                    <a:pt x="656" y="2424"/>
                  </a:lnTo>
                  <a:lnTo>
                    <a:pt x="652" y="2462"/>
                  </a:lnTo>
                  <a:lnTo>
                    <a:pt x="660" y="2464"/>
                  </a:lnTo>
                  <a:lnTo>
                    <a:pt x="662" y="2498"/>
                  </a:lnTo>
                  <a:lnTo>
                    <a:pt x="670" y="2506"/>
                  </a:lnTo>
                  <a:lnTo>
                    <a:pt x="686" y="2516"/>
                  </a:lnTo>
                  <a:lnTo>
                    <a:pt x="678" y="2556"/>
                  </a:lnTo>
                  <a:lnTo>
                    <a:pt x="682" y="2590"/>
                  </a:lnTo>
                  <a:lnTo>
                    <a:pt x="686" y="2598"/>
                  </a:lnTo>
                  <a:lnTo>
                    <a:pt x="694" y="2598"/>
                  </a:lnTo>
                  <a:lnTo>
                    <a:pt x="702" y="2606"/>
                  </a:lnTo>
                  <a:lnTo>
                    <a:pt x="704" y="2626"/>
                  </a:lnTo>
                  <a:lnTo>
                    <a:pt x="726" y="2674"/>
                  </a:lnTo>
                  <a:lnTo>
                    <a:pt x="736" y="2708"/>
                  </a:lnTo>
                  <a:lnTo>
                    <a:pt x="740" y="2736"/>
                  </a:lnTo>
                  <a:lnTo>
                    <a:pt x="734" y="2782"/>
                  </a:lnTo>
                  <a:lnTo>
                    <a:pt x="732" y="2816"/>
                  </a:lnTo>
                  <a:lnTo>
                    <a:pt x="736" y="2850"/>
                  </a:lnTo>
                  <a:lnTo>
                    <a:pt x="752" y="2902"/>
                  </a:lnTo>
                  <a:lnTo>
                    <a:pt x="760" y="2914"/>
                  </a:lnTo>
                  <a:lnTo>
                    <a:pt x="770" y="2964"/>
                  </a:lnTo>
                  <a:lnTo>
                    <a:pt x="776" y="2952"/>
                  </a:lnTo>
                  <a:lnTo>
                    <a:pt x="784" y="2944"/>
                  </a:lnTo>
                  <a:lnTo>
                    <a:pt x="790" y="2956"/>
                  </a:lnTo>
                  <a:lnTo>
                    <a:pt x="794" y="2976"/>
                  </a:lnTo>
                  <a:lnTo>
                    <a:pt x="792" y="2986"/>
                  </a:lnTo>
                  <a:lnTo>
                    <a:pt x="792" y="2998"/>
                  </a:lnTo>
                  <a:lnTo>
                    <a:pt x="790" y="3014"/>
                  </a:lnTo>
                  <a:lnTo>
                    <a:pt x="794" y="3074"/>
                  </a:lnTo>
                  <a:lnTo>
                    <a:pt x="812" y="3100"/>
                  </a:lnTo>
                  <a:lnTo>
                    <a:pt x="812" y="3110"/>
                  </a:lnTo>
                  <a:lnTo>
                    <a:pt x="824" y="3164"/>
                  </a:lnTo>
                  <a:lnTo>
                    <a:pt x="826" y="3164"/>
                  </a:lnTo>
                  <a:lnTo>
                    <a:pt x="858" y="3242"/>
                  </a:lnTo>
                  <a:lnTo>
                    <a:pt x="868" y="3262"/>
                  </a:lnTo>
                  <a:lnTo>
                    <a:pt x="872" y="3290"/>
                  </a:lnTo>
                  <a:lnTo>
                    <a:pt x="880" y="3310"/>
                  </a:lnTo>
                  <a:lnTo>
                    <a:pt x="900" y="3400"/>
                  </a:lnTo>
                  <a:lnTo>
                    <a:pt x="910" y="3426"/>
                  </a:lnTo>
                  <a:lnTo>
                    <a:pt x="928" y="3460"/>
                  </a:lnTo>
                  <a:lnTo>
                    <a:pt x="936" y="3466"/>
                  </a:lnTo>
                  <a:lnTo>
                    <a:pt x="946" y="3500"/>
                  </a:lnTo>
                  <a:lnTo>
                    <a:pt x="974" y="353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85640" y="4028040"/>
              <a:ext cx="235800" cy="450360"/>
            </a:xfrm>
            <a:custGeom>
              <a:avLst/>
              <a:gdLst/>
              <a:ahLst/>
              <a:rect l="l" t="t" r="r" b="b"/>
              <a:pathLst>
                <a:path w="1358" h="2632">
                  <a:moveTo>
                    <a:pt x="996" y="2438"/>
                  </a:moveTo>
                  <a:lnTo>
                    <a:pt x="1022" y="2450"/>
                  </a:lnTo>
                  <a:lnTo>
                    <a:pt x="1028" y="2422"/>
                  </a:lnTo>
                  <a:lnTo>
                    <a:pt x="1012" y="2388"/>
                  </a:lnTo>
                  <a:lnTo>
                    <a:pt x="1016" y="2370"/>
                  </a:lnTo>
                  <a:lnTo>
                    <a:pt x="1034" y="2374"/>
                  </a:lnTo>
                  <a:lnTo>
                    <a:pt x="1034" y="2356"/>
                  </a:lnTo>
                  <a:lnTo>
                    <a:pt x="1044" y="2358"/>
                  </a:lnTo>
                  <a:lnTo>
                    <a:pt x="1038" y="2330"/>
                  </a:lnTo>
                  <a:lnTo>
                    <a:pt x="1046" y="2320"/>
                  </a:lnTo>
                  <a:lnTo>
                    <a:pt x="1050" y="2298"/>
                  </a:lnTo>
                  <a:lnTo>
                    <a:pt x="1086" y="2286"/>
                  </a:lnTo>
                  <a:lnTo>
                    <a:pt x="1104" y="2296"/>
                  </a:lnTo>
                  <a:lnTo>
                    <a:pt x="1122" y="2296"/>
                  </a:lnTo>
                  <a:lnTo>
                    <a:pt x="1180" y="2248"/>
                  </a:lnTo>
                  <a:lnTo>
                    <a:pt x="1214" y="2234"/>
                  </a:lnTo>
                  <a:lnTo>
                    <a:pt x="1230" y="2198"/>
                  </a:lnTo>
                  <a:lnTo>
                    <a:pt x="1304" y="2148"/>
                  </a:lnTo>
                  <a:lnTo>
                    <a:pt x="1318" y="2126"/>
                  </a:lnTo>
                  <a:lnTo>
                    <a:pt x="1340" y="2124"/>
                  </a:lnTo>
                  <a:lnTo>
                    <a:pt x="1344" y="2104"/>
                  </a:lnTo>
                  <a:lnTo>
                    <a:pt x="1344" y="2074"/>
                  </a:lnTo>
                  <a:lnTo>
                    <a:pt x="1358" y="2058"/>
                  </a:lnTo>
                  <a:lnTo>
                    <a:pt x="1356" y="2038"/>
                  </a:lnTo>
                  <a:lnTo>
                    <a:pt x="1346" y="2026"/>
                  </a:lnTo>
                  <a:lnTo>
                    <a:pt x="1350" y="2014"/>
                  </a:lnTo>
                  <a:lnTo>
                    <a:pt x="1356" y="2018"/>
                  </a:lnTo>
                  <a:lnTo>
                    <a:pt x="1354" y="2000"/>
                  </a:lnTo>
                  <a:lnTo>
                    <a:pt x="1334" y="1926"/>
                  </a:lnTo>
                  <a:lnTo>
                    <a:pt x="1334" y="1914"/>
                  </a:lnTo>
                  <a:lnTo>
                    <a:pt x="1346" y="1924"/>
                  </a:lnTo>
                  <a:lnTo>
                    <a:pt x="1338" y="1886"/>
                  </a:lnTo>
                  <a:lnTo>
                    <a:pt x="1344" y="1870"/>
                  </a:lnTo>
                  <a:lnTo>
                    <a:pt x="1356" y="1872"/>
                  </a:lnTo>
                  <a:lnTo>
                    <a:pt x="1358" y="1884"/>
                  </a:lnTo>
                  <a:lnTo>
                    <a:pt x="1352" y="1850"/>
                  </a:lnTo>
                  <a:lnTo>
                    <a:pt x="1344" y="1820"/>
                  </a:lnTo>
                  <a:lnTo>
                    <a:pt x="1334" y="1812"/>
                  </a:lnTo>
                  <a:lnTo>
                    <a:pt x="1322" y="1762"/>
                  </a:lnTo>
                  <a:lnTo>
                    <a:pt x="1318" y="1722"/>
                  </a:lnTo>
                  <a:lnTo>
                    <a:pt x="1310" y="1700"/>
                  </a:lnTo>
                  <a:lnTo>
                    <a:pt x="1304" y="1668"/>
                  </a:lnTo>
                  <a:lnTo>
                    <a:pt x="1298" y="1656"/>
                  </a:lnTo>
                  <a:lnTo>
                    <a:pt x="1272" y="1564"/>
                  </a:lnTo>
                  <a:lnTo>
                    <a:pt x="1202" y="1400"/>
                  </a:lnTo>
                  <a:lnTo>
                    <a:pt x="1132" y="1330"/>
                  </a:lnTo>
                  <a:lnTo>
                    <a:pt x="1110" y="1298"/>
                  </a:lnTo>
                  <a:lnTo>
                    <a:pt x="1098" y="1256"/>
                  </a:lnTo>
                  <a:lnTo>
                    <a:pt x="1098" y="1266"/>
                  </a:lnTo>
                  <a:lnTo>
                    <a:pt x="1084" y="1270"/>
                  </a:lnTo>
                  <a:lnTo>
                    <a:pt x="1078" y="1254"/>
                  </a:lnTo>
                  <a:lnTo>
                    <a:pt x="1060" y="1228"/>
                  </a:lnTo>
                  <a:lnTo>
                    <a:pt x="1014" y="1218"/>
                  </a:lnTo>
                  <a:lnTo>
                    <a:pt x="990" y="1186"/>
                  </a:lnTo>
                  <a:lnTo>
                    <a:pt x="962" y="1160"/>
                  </a:lnTo>
                  <a:lnTo>
                    <a:pt x="936" y="1140"/>
                  </a:lnTo>
                  <a:lnTo>
                    <a:pt x="912" y="1110"/>
                  </a:lnTo>
                  <a:lnTo>
                    <a:pt x="898" y="1100"/>
                  </a:lnTo>
                  <a:lnTo>
                    <a:pt x="880" y="1076"/>
                  </a:lnTo>
                  <a:lnTo>
                    <a:pt x="854" y="1054"/>
                  </a:lnTo>
                  <a:lnTo>
                    <a:pt x="826" y="1022"/>
                  </a:lnTo>
                  <a:lnTo>
                    <a:pt x="790" y="994"/>
                  </a:lnTo>
                  <a:lnTo>
                    <a:pt x="778" y="954"/>
                  </a:lnTo>
                  <a:lnTo>
                    <a:pt x="754" y="908"/>
                  </a:lnTo>
                  <a:lnTo>
                    <a:pt x="720" y="888"/>
                  </a:lnTo>
                  <a:lnTo>
                    <a:pt x="656" y="826"/>
                  </a:lnTo>
                  <a:lnTo>
                    <a:pt x="634" y="788"/>
                  </a:lnTo>
                  <a:lnTo>
                    <a:pt x="630" y="746"/>
                  </a:lnTo>
                  <a:lnTo>
                    <a:pt x="632" y="714"/>
                  </a:lnTo>
                  <a:lnTo>
                    <a:pt x="628" y="676"/>
                  </a:lnTo>
                  <a:lnTo>
                    <a:pt x="638" y="592"/>
                  </a:lnTo>
                  <a:lnTo>
                    <a:pt x="694" y="514"/>
                  </a:lnTo>
                  <a:lnTo>
                    <a:pt x="698" y="500"/>
                  </a:lnTo>
                  <a:lnTo>
                    <a:pt x="698" y="454"/>
                  </a:lnTo>
                  <a:lnTo>
                    <a:pt x="712" y="434"/>
                  </a:lnTo>
                  <a:lnTo>
                    <a:pt x="718" y="416"/>
                  </a:lnTo>
                  <a:lnTo>
                    <a:pt x="760" y="390"/>
                  </a:lnTo>
                  <a:lnTo>
                    <a:pt x="778" y="364"/>
                  </a:lnTo>
                  <a:lnTo>
                    <a:pt x="776" y="336"/>
                  </a:lnTo>
                  <a:lnTo>
                    <a:pt x="814" y="302"/>
                  </a:lnTo>
                  <a:lnTo>
                    <a:pt x="838" y="312"/>
                  </a:lnTo>
                  <a:lnTo>
                    <a:pt x="844" y="304"/>
                  </a:lnTo>
                  <a:lnTo>
                    <a:pt x="844" y="294"/>
                  </a:lnTo>
                  <a:lnTo>
                    <a:pt x="822" y="280"/>
                  </a:lnTo>
                  <a:lnTo>
                    <a:pt x="778" y="284"/>
                  </a:lnTo>
                  <a:lnTo>
                    <a:pt x="748" y="278"/>
                  </a:lnTo>
                  <a:lnTo>
                    <a:pt x="734" y="264"/>
                  </a:lnTo>
                  <a:lnTo>
                    <a:pt x="664" y="224"/>
                  </a:lnTo>
                  <a:lnTo>
                    <a:pt x="636" y="190"/>
                  </a:lnTo>
                  <a:lnTo>
                    <a:pt x="614" y="144"/>
                  </a:lnTo>
                  <a:lnTo>
                    <a:pt x="614" y="96"/>
                  </a:lnTo>
                  <a:lnTo>
                    <a:pt x="594" y="68"/>
                  </a:lnTo>
                  <a:lnTo>
                    <a:pt x="548" y="68"/>
                  </a:lnTo>
                  <a:lnTo>
                    <a:pt x="510" y="60"/>
                  </a:lnTo>
                  <a:lnTo>
                    <a:pt x="468" y="40"/>
                  </a:lnTo>
                  <a:lnTo>
                    <a:pt x="428" y="12"/>
                  </a:lnTo>
                  <a:lnTo>
                    <a:pt x="388" y="0"/>
                  </a:lnTo>
                  <a:lnTo>
                    <a:pt x="370" y="4"/>
                  </a:lnTo>
                  <a:lnTo>
                    <a:pt x="354" y="38"/>
                  </a:lnTo>
                  <a:lnTo>
                    <a:pt x="336" y="60"/>
                  </a:lnTo>
                  <a:lnTo>
                    <a:pt x="306" y="84"/>
                  </a:lnTo>
                  <a:lnTo>
                    <a:pt x="290" y="92"/>
                  </a:lnTo>
                  <a:lnTo>
                    <a:pt x="266" y="82"/>
                  </a:lnTo>
                  <a:lnTo>
                    <a:pt x="250" y="108"/>
                  </a:lnTo>
                  <a:lnTo>
                    <a:pt x="230" y="122"/>
                  </a:lnTo>
                  <a:lnTo>
                    <a:pt x="216" y="104"/>
                  </a:lnTo>
                  <a:lnTo>
                    <a:pt x="186" y="116"/>
                  </a:lnTo>
                  <a:lnTo>
                    <a:pt x="166" y="102"/>
                  </a:lnTo>
                  <a:lnTo>
                    <a:pt x="152" y="108"/>
                  </a:lnTo>
                  <a:lnTo>
                    <a:pt x="122" y="136"/>
                  </a:lnTo>
                  <a:lnTo>
                    <a:pt x="106" y="134"/>
                  </a:lnTo>
                  <a:lnTo>
                    <a:pt x="84" y="114"/>
                  </a:lnTo>
                  <a:lnTo>
                    <a:pt x="48" y="108"/>
                  </a:lnTo>
                  <a:lnTo>
                    <a:pt x="38" y="102"/>
                  </a:lnTo>
                  <a:lnTo>
                    <a:pt x="32" y="108"/>
                  </a:lnTo>
                  <a:lnTo>
                    <a:pt x="28" y="126"/>
                  </a:lnTo>
                  <a:lnTo>
                    <a:pt x="18" y="150"/>
                  </a:lnTo>
                  <a:lnTo>
                    <a:pt x="20" y="160"/>
                  </a:lnTo>
                  <a:lnTo>
                    <a:pt x="0" y="152"/>
                  </a:lnTo>
                  <a:lnTo>
                    <a:pt x="44" y="200"/>
                  </a:lnTo>
                  <a:lnTo>
                    <a:pt x="98" y="256"/>
                  </a:lnTo>
                  <a:lnTo>
                    <a:pt x="132" y="284"/>
                  </a:lnTo>
                  <a:lnTo>
                    <a:pt x="152" y="314"/>
                  </a:lnTo>
                  <a:lnTo>
                    <a:pt x="152" y="352"/>
                  </a:lnTo>
                  <a:lnTo>
                    <a:pt x="162" y="376"/>
                  </a:lnTo>
                  <a:lnTo>
                    <a:pt x="212" y="422"/>
                  </a:lnTo>
                  <a:lnTo>
                    <a:pt x="262" y="432"/>
                  </a:lnTo>
                  <a:lnTo>
                    <a:pt x="310" y="414"/>
                  </a:lnTo>
                  <a:lnTo>
                    <a:pt x="348" y="416"/>
                  </a:lnTo>
                  <a:lnTo>
                    <a:pt x="382" y="448"/>
                  </a:lnTo>
                  <a:lnTo>
                    <a:pt x="402" y="476"/>
                  </a:lnTo>
                  <a:lnTo>
                    <a:pt x="410" y="498"/>
                  </a:lnTo>
                  <a:lnTo>
                    <a:pt x="436" y="516"/>
                  </a:lnTo>
                  <a:lnTo>
                    <a:pt x="452" y="542"/>
                  </a:lnTo>
                  <a:lnTo>
                    <a:pt x="470" y="560"/>
                  </a:lnTo>
                  <a:lnTo>
                    <a:pt x="474" y="588"/>
                  </a:lnTo>
                  <a:lnTo>
                    <a:pt x="446" y="638"/>
                  </a:lnTo>
                  <a:lnTo>
                    <a:pt x="432" y="640"/>
                  </a:lnTo>
                  <a:lnTo>
                    <a:pt x="402" y="632"/>
                  </a:lnTo>
                  <a:lnTo>
                    <a:pt x="384" y="640"/>
                  </a:lnTo>
                  <a:lnTo>
                    <a:pt x="378" y="656"/>
                  </a:lnTo>
                  <a:lnTo>
                    <a:pt x="378" y="686"/>
                  </a:lnTo>
                  <a:lnTo>
                    <a:pt x="384" y="706"/>
                  </a:lnTo>
                  <a:lnTo>
                    <a:pt x="402" y="712"/>
                  </a:lnTo>
                  <a:lnTo>
                    <a:pt x="426" y="730"/>
                  </a:lnTo>
                  <a:lnTo>
                    <a:pt x="482" y="760"/>
                  </a:lnTo>
                  <a:lnTo>
                    <a:pt x="562" y="818"/>
                  </a:lnTo>
                  <a:lnTo>
                    <a:pt x="582" y="862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722" y="1014"/>
                  </a:lnTo>
                  <a:lnTo>
                    <a:pt x="740" y="1018"/>
                  </a:lnTo>
                  <a:lnTo>
                    <a:pt x="788" y="1056"/>
                  </a:lnTo>
                  <a:lnTo>
                    <a:pt x="810" y="1098"/>
                  </a:lnTo>
                  <a:lnTo>
                    <a:pt x="826" y="1136"/>
                  </a:lnTo>
                  <a:lnTo>
                    <a:pt x="826" y="1142"/>
                  </a:lnTo>
                  <a:lnTo>
                    <a:pt x="828" y="1144"/>
                  </a:lnTo>
                  <a:lnTo>
                    <a:pt x="846" y="1186"/>
                  </a:lnTo>
                  <a:lnTo>
                    <a:pt x="870" y="1184"/>
                  </a:lnTo>
                  <a:lnTo>
                    <a:pt x="910" y="1214"/>
                  </a:lnTo>
                  <a:lnTo>
                    <a:pt x="934" y="1242"/>
                  </a:lnTo>
                  <a:lnTo>
                    <a:pt x="958" y="1298"/>
                  </a:lnTo>
                  <a:lnTo>
                    <a:pt x="1006" y="1384"/>
                  </a:lnTo>
                  <a:lnTo>
                    <a:pt x="1014" y="1408"/>
                  </a:lnTo>
                  <a:lnTo>
                    <a:pt x="1032" y="1516"/>
                  </a:lnTo>
                  <a:lnTo>
                    <a:pt x="1046" y="1636"/>
                  </a:lnTo>
                  <a:lnTo>
                    <a:pt x="1062" y="1684"/>
                  </a:lnTo>
                  <a:lnTo>
                    <a:pt x="1088" y="1732"/>
                  </a:lnTo>
                  <a:lnTo>
                    <a:pt x="1108" y="1890"/>
                  </a:lnTo>
                  <a:lnTo>
                    <a:pt x="1108" y="1932"/>
                  </a:lnTo>
                  <a:lnTo>
                    <a:pt x="1094" y="1960"/>
                  </a:lnTo>
                  <a:lnTo>
                    <a:pt x="1072" y="1952"/>
                  </a:lnTo>
                  <a:lnTo>
                    <a:pt x="1050" y="1982"/>
                  </a:lnTo>
                  <a:lnTo>
                    <a:pt x="1034" y="1994"/>
                  </a:lnTo>
                  <a:lnTo>
                    <a:pt x="1014" y="1996"/>
                  </a:lnTo>
                  <a:lnTo>
                    <a:pt x="968" y="2022"/>
                  </a:lnTo>
                  <a:lnTo>
                    <a:pt x="970" y="2056"/>
                  </a:lnTo>
                  <a:lnTo>
                    <a:pt x="924" y="2062"/>
                  </a:lnTo>
                  <a:lnTo>
                    <a:pt x="900" y="2072"/>
                  </a:lnTo>
                  <a:lnTo>
                    <a:pt x="898" y="2118"/>
                  </a:lnTo>
                  <a:lnTo>
                    <a:pt x="906" y="2144"/>
                  </a:lnTo>
                  <a:lnTo>
                    <a:pt x="912" y="2172"/>
                  </a:lnTo>
                  <a:lnTo>
                    <a:pt x="896" y="2182"/>
                  </a:lnTo>
                  <a:lnTo>
                    <a:pt x="876" y="2190"/>
                  </a:lnTo>
                  <a:lnTo>
                    <a:pt x="850" y="2216"/>
                  </a:lnTo>
                  <a:lnTo>
                    <a:pt x="826" y="2228"/>
                  </a:lnTo>
                  <a:lnTo>
                    <a:pt x="806" y="2220"/>
                  </a:lnTo>
                  <a:lnTo>
                    <a:pt x="790" y="2220"/>
                  </a:lnTo>
                  <a:lnTo>
                    <a:pt x="788" y="2250"/>
                  </a:lnTo>
                  <a:lnTo>
                    <a:pt x="778" y="2268"/>
                  </a:lnTo>
                  <a:lnTo>
                    <a:pt x="760" y="2280"/>
                  </a:lnTo>
                  <a:lnTo>
                    <a:pt x="732" y="2288"/>
                  </a:lnTo>
                  <a:lnTo>
                    <a:pt x="722" y="2294"/>
                  </a:lnTo>
                  <a:lnTo>
                    <a:pt x="744" y="2330"/>
                  </a:lnTo>
                  <a:lnTo>
                    <a:pt x="794" y="2352"/>
                  </a:lnTo>
                  <a:lnTo>
                    <a:pt x="812" y="2370"/>
                  </a:lnTo>
                  <a:lnTo>
                    <a:pt x="806" y="2400"/>
                  </a:lnTo>
                  <a:lnTo>
                    <a:pt x="790" y="2432"/>
                  </a:lnTo>
                  <a:lnTo>
                    <a:pt x="792" y="2486"/>
                  </a:lnTo>
                  <a:lnTo>
                    <a:pt x="798" y="2522"/>
                  </a:lnTo>
                  <a:lnTo>
                    <a:pt x="808" y="2562"/>
                  </a:lnTo>
                  <a:lnTo>
                    <a:pt x="824" y="2602"/>
                  </a:lnTo>
                  <a:lnTo>
                    <a:pt x="812" y="2616"/>
                  </a:lnTo>
                  <a:lnTo>
                    <a:pt x="818" y="2632"/>
                  </a:lnTo>
                  <a:lnTo>
                    <a:pt x="842" y="2630"/>
                  </a:lnTo>
                  <a:lnTo>
                    <a:pt x="876" y="2594"/>
                  </a:lnTo>
                  <a:lnTo>
                    <a:pt x="898" y="2548"/>
                  </a:lnTo>
                  <a:lnTo>
                    <a:pt x="918" y="2520"/>
                  </a:lnTo>
                  <a:lnTo>
                    <a:pt x="970" y="2490"/>
                  </a:lnTo>
                  <a:lnTo>
                    <a:pt x="978" y="2476"/>
                  </a:lnTo>
                  <a:lnTo>
                    <a:pt x="974" y="2452"/>
                  </a:lnTo>
                  <a:lnTo>
                    <a:pt x="996" y="243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57160" y="3524760"/>
              <a:ext cx="101520" cy="133200"/>
            </a:xfrm>
            <a:custGeom>
              <a:avLst/>
              <a:gdLst/>
              <a:ahLst/>
              <a:rect l="l" t="t" r="r" b="b"/>
              <a:pathLst>
                <a:path w="584" h="776">
                  <a:moveTo>
                    <a:pt x="162" y="0"/>
                  </a:moveTo>
                  <a:lnTo>
                    <a:pt x="178" y="10"/>
                  </a:lnTo>
                  <a:lnTo>
                    <a:pt x="260" y="86"/>
                  </a:lnTo>
                  <a:lnTo>
                    <a:pt x="294" y="106"/>
                  </a:lnTo>
                  <a:lnTo>
                    <a:pt x="336" y="140"/>
                  </a:lnTo>
                  <a:lnTo>
                    <a:pt x="376" y="176"/>
                  </a:lnTo>
                  <a:lnTo>
                    <a:pt x="418" y="222"/>
                  </a:lnTo>
                  <a:lnTo>
                    <a:pt x="458" y="278"/>
                  </a:lnTo>
                  <a:lnTo>
                    <a:pt x="506" y="376"/>
                  </a:lnTo>
                  <a:lnTo>
                    <a:pt x="540" y="430"/>
                  </a:lnTo>
                  <a:lnTo>
                    <a:pt x="556" y="430"/>
                  </a:lnTo>
                  <a:lnTo>
                    <a:pt x="578" y="512"/>
                  </a:lnTo>
                  <a:lnTo>
                    <a:pt x="584" y="554"/>
                  </a:lnTo>
                  <a:lnTo>
                    <a:pt x="574" y="586"/>
                  </a:lnTo>
                  <a:lnTo>
                    <a:pt x="558" y="596"/>
                  </a:lnTo>
                  <a:lnTo>
                    <a:pt x="534" y="604"/>
                  </a:lnTo>
                  <a:lnTo>
                    <a:pt x="510" y="598"/>
                  </a:lnTo>
                  <a:lnTo>
                    <a:pt x="510" y="614"/>
                  </a:lnTo>
                  <a:lnTo>
                    <a:pt x="514" y="636"/>
                  </a:lnTo>
                  <a:lnTo>
                    <a:pt x="510" y="662"/>
                  </a:lnTo>
                  <a:lnTo>
                    <a:pt x="492" y="644"/>
                  </a:lnTo>
                  <a:lnTo>
                    <a:pt x="480" y="646"/>
                  </a:lnTo>
                  <a:lnTo>
                    <a:pt x="448" y="632"/>
                  </a:lnTo>
                  <a:lnTo>
                    <a:pt x="438" y="636"/>
                  </a:lnTo>
                  <a:lnTo>
                    <a:pt x="416" y="654"/>
                  </a:lnTo>
                  <a:lnTo>
                    <a:pt x="434" y="670"/>
                  </a:lnTo>
                  <a:lnTo>
                    <a:pt x="438" y="688"/>
                  </a:lnTo>
                  <a:lnTo>
                    <a:pt x="430" y="698"/>
                  </a:lnTo>
                  <a:lnTo>
                    <a:pt x="412" y="680"/>
                  </a:lnTo>
                  <a:lnTo>
                    <a:pt x="398" y="670"/>
                  </a:lnTo>
                  <a:lnTo>
                    <a:pt x="418" y="716"/>
                  </a:lnTo>
                  <a:lnTo>
                    <a:pt x="410" y="728"/>
                  </a:lnTo>
                  <a:lnTo>
                    <a:pt x="400" y="730"/>
                  </a:lnTo>
                  <a:lnTo>
                    <a:pt x="388" y="720"/>
                  </a:lnTo>
                  <a:lnTo>
                    <a:pt x="396" y="702"/>
                  </a:lnTo>
                  <a:lnTo>
                    <a:pt x="390" y="686"/>
                  </a:lnTo>
                  <a:lnTo>
                    <a:pt x="378" y="694"/>
                  </a:lnTo>
                  <a:lnTo>
                    <a:pt x="366" y="710"/>
                  </a:lnTo>
                  <a:lnTo>
                    <a:pt x="360" y="742"/>
                  </a:lnTo>
                  <a:lnTo>
                    <a:pt x="352" y="744"/>
                  </a:lnTo>
                  <a:lnTo>
                    <a:pt x="336" y="726"/>
                  </a:lnTo>
                  <a:lnTo>
                    <a:pt x="334" y="740"/>
                  </a:lnTo>
                  <a:lnTo>
                    <a:pt x="324" y="766"/>
                  </a:lnTo>
                  <a:lnTo>
                    <a:pt x="310" y="742"/>
                  </a:lnTo>
                  <a:lnTo>
                    <a:pt x="292" y="752"/>
                  </a:lnTo>
                  <a:lnTo>
                    <a:pt x="296" y="776"/>
                  </a:lnTo>
                  <a:lnTo>
                    <a:pt x="284" y="764"/>
                  </a:lnTo>
                  <a:lnTo>
                    <a:pt x="282" y="742"/>
                  </a:lnTo>
                  <a:lnTo>
                    <a:pt x="272" y="714"/>
                  </a:lnTo>
                  <a:lnTo>
                    <a:pt x="302" y="722"/>
                  </a:lnTo>
                  <a:lnTo>
                    <a:pt x="290" y="704"/>
                  </a:lnTo>
                  <a:lnTo>
                    <a:pt x="288" y="684"/>
                  </a:lnTo>
                  <a:lnTo>
                    <a:pt x="272" y="674"/>
                  </a:lnTo>
                  <a:lnTo>
                    <a:pt x="268" y="694"/>
                  </a:lnTo>
                  <a:lnTo>
                    <a:pt x="250" y="672"/>
                  </a:lnTo>
                  <a:lnTo>
                    <a:pt x="244" y="636"/>
                  </a:lnTo>
                  <a:lnTo>
                    <a:pt x="230" y="608"/>
                  </a:lnTo>
                  <a:lnTo>
                    <a:pt x="224" y="574"/>
                  </a:lnTo>
                  <a:lnTo>
                    <a:pt x="226" y="550"/>
                  </a:lnTo>
                  <a:lnTo>
                    <a:pt x="214" y="540"/>
                  </a:lnTo>
                  <a:lnTo>
                    <a:pt x="224" y="520"/>
                  </a:lnTo>
                  <a:lnTo>
                    <a:pt x="220" y="500"/>
                  </a:lnTo>
                  <a:lnTo>
                    <a:pt x="202" y="484"/>
                  </a:lnTo>
                  <a:lnTo>
                    <a:pt x="194" y="468"/>
                  </a:lnTo>
                  <a:lnTo>
                    <a:pt x="172" y="454"/>
                  </a:lnTo>
                  <a:lnTo>
                    <a:pt x="150" y="420"/>
                  </a:lnTo>
                  <a:lnTo>
                    <a:pt x="128" y="390"/>
                  </a:lnTo>
                  <a:lnTo>
                    <a:pt x="106" y="356"/>
                  </a:lnTo>
                  <a:lnTo>
                    <a:pt x="88" y="350"/>
                  </a:lnTo>
                  <a:lnTo>
                    <a:pt x="112" y="380"/>
                  </a:lnTo>
                  <a:lnTo>
                    <a:pt x="104" y="390"/>
                  </a:lnTo>
                  <a:lnTo>
                    <a:pt x="78" y="366"/>
                  </a:lnTo>
                  <a:lnTo>
                    <a:pt x="66" y="366"/>
                  </a:lnTo>
                  <a:lnTo>
                    <a:pt x="54" y="340"/>
                  </a:lnTo>
                  <a:lnTo>
                    <a:pt x="60" y="318"/>
                  </a:lnTo>
                  <a:lnTo>
                    <a:pt x="78" y="314"/>
                  </a:lnTo>
                  <a:lnTo>
                    <a:pt x="102" y="300"/>
                  </a:lnTo>
                  <a:lnTo>
                    <a:pt x="132" y="316"/>
                  </a:lnTo>
                  <a:lnTo>
                    <a:pt x="144" y="320"/>
                  </a:lnTo>
                  <a:lnTo>
                    <a:pt x="118" y="294"/>
                  </a:lnTo>
                  <a:lnTo>
                    <a:pt x="106" y="272"/>
                  </a:lnTo>
                  <a:lnTo>
                    <a:pt x="92" y="262"/>
                  </a:lnTo>
                  <a:lnTo>
                    <a:pt x="86" y="244"/>
                  </a:lnTo>
                  <a:lnTo>
                    <a:pt x="88" y="238"/>
                  </a:lnTo>
                  <a:lnTo>
                    <a:pt x="68" y="226"/>
                  </a:lnTo>
                  <a:lnTo>
                    <a:pt x="62" y="230"/>
                  </a:lnTo>
                  <a:lnTo>
                    <a:pt x="44" y="214"/>
                  </a:lnTo>
                  <a:lnTo>
                    <a:pt x="36" y="204"/>
                  </a:lnTo>
                  <a:lnTo>
                    <a:pt x="42" y="200"/>
                  </a:lnTo>
                  <a:lnTo>
                    <a:pt x="20" y="184"/>
                  </a:lnTo>
                  <a:lnTo>
                    <a:pt x="8" y="170"/>
                  </a:lnTo>
                  <a:lnTo>
                    <a:pt x="0" y="156"/>
                  </a:lnTo>
                  <a:lnTo>
                    <a:pt x="10" y="160"/>
                  </a:lnTo>
                  <a:lnTo>
                    <a:pt x="26" y="130"/>
                  </a:lnTo>
                  <a:lnTo>
                    <a:pt x="44" y="70"/>
                  </a:lnTo>
                  <a:lnTo>
                    <a:pt x="82" y="62"/>
                  </a:lnTo>
                  <a:lnTo>
                    <a:pt x="120" y="62"/>
                  </a:lnTo>
                  <a:lnTo>
                    <a:pt x="146" y="42"/>
                  </a:lnTo>
                  <a:lnTo>
                    <a:pt x="162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56000" y="4524840"/>
              <a:ext cx="236880" cy="190080"/>
            </a:xfrm>
            <a:custGeom>
              <a:avLst/>
              <a:gdLst/>
              <a:ahLst/>
              <a:rect l="l" t="t" r="r" b="b"/>
              <a:pathLst>
                <a:path w="1360" h="1112">
                  <a:moveTo>
                    <a:pt x="614" y="438"/>
                  </a:moveTo>
                  <a:lnTo>
                    <a:pt x="624" y="442"/>
                  </a:lnTo>
                  <a:lnTo>
                    <a:pt x="634" y="452"/>
                  </a:lnTo>
                  <a:lnTo>
                    <a:pt x="662" y="486"/>
                  </a:lnTo>
                  <a:lnTo>
                    <a:pt x="672" y="506"/>
                  </a:lnTo>
                  <a:lnTo>
                    <a:pt x="684" y="522"/>
                  </a:lnTo>
                  <a:lnTo>
                    <a:pt x="696" y="534"/>
                  </a:lnTo>
                  <a:lnTo>
                    <a:pt x="710" y="538"/>
                  </a:lnTo>
                  <a:lnTo>
                    <a:pt x="720" y="530"/>
                  </a:lnTo>
                  <a:lnTo>
                    <a:pt x="726" y="506"/>
                  </a:lnTo>
                  <a:lnTo>
                    <a:pt x="724" y="422"/>
                  </a:lnTo>
                  <a:lnTo>
                    <a:pt x="734" y="408"/>
                  </a:lnTo>
                  <a:lnTo>
                    <a:pt x="746" y="400"/>
                  </a:lnTo>
                  <a:lnTo>
                    <a:pt x="756" y="400"/>
                  </a:lnTo>
                  <a:lnTo>
                    <a:pt x="766" y="412"/>
                  </a:lnTo>
                  <a:lnTo>
                    <a:pt x="774" y="438"/>
                  </a:lnTo>
                  <a:lnTo>
                    <a:pt x="784" y="460"/>
                  </a:lnTo>
                  <a:lnTo>
                    <a:pt x="798" y="470"/>
                  </a:lnTo>
                  <a:lnTo>
                    <a:pt x="814" y="470"/>
                  </a:lnTo>
                  <a:lnTo>
                    <a:pt x="818" y="454"/>
                  </a:lnTo>
                  <a:lnTo>
                    <a:pt x="816" y="432"/>
                  </a:lnTo>
                  <a:lnTo>
                    <a:pt x="812" y="414"/>
                  </a:lnTo>
                  <a:lnTo>
                    <a:pt x="800" y="390"/>
                  </a:lnTo>
                  <a:lnTo>
                    <a:pt x="788" y="374"/>
                  </a:lnTo>
                  <a:lnTo>
                    <a:pt x="802" y="370"/>
                  </a:lnTo>
                  <a:lnTo>
                    <a:pt x="816" y="358"/>
                  </a:lnTo>
                  <a:lnTo>
                    <a:pt x="830" y="326"/>
                  </a:lnTo>
                  <a:lnTo>
                    <a:pt x="816" y="316"/>
                  </a:lnTo>
                  <a:lnTo>
                    <a:pt x="808" y="296"/>
                  </a:lnTo>
                  <a:lnTo>
                    <a:pt x="818" y="274"/>
                  </a:lnTo>
                  <a:lnTo>
                    <a:pt x="830" y="268"/>
                  </a:lnTo>
                  <a:lnTo>
                    <a:pt x="856" y="266"/>
                  </a:lnTo>
                  <a:lnTo>
                    <a:pt x="886" y="216"/>
                  </a:lnTo>
                  <a:lnTo>
                    <a:pt x="898" y="176"/>
                  </a:lnTo>
                  <a:lnTo>
                    <a:pt x="898" y="158"/>
                  </a:lnTo>
                  <a:lnTo>
                    <a:pt x="954" y="64"/>
                  </a:lnTo>
                  <a:lnTo>
                    <a:pt x="962" y="42"/>
                  </a:lnTo>
                  <a:lnTo>
                    <a:pt x="966" y="20"/>
                  </a:lnTo>
                  <a:lnTo>
                    <a:pt x="974" y="0"/>
                  </a:lnTo>
                  <a:lnTo>
                    <a:pt x="980" y="0"/>
                  </a:lnTo>
                  <a:lnTo>
                    <a:pt x="984" y="8"/>
                  </a:lnTo>
                  <a:lnTo>
                    <a:pt x="986" y="46"/>
                  </a:lnTo>
                  <a:lnTo>
                    <a:pt x="982" y="64"/>
                  </a:lnTo>
                  <a:lnTo>
                    <a:pt x="984" y="74"/>
                  </a:lnTo>
                  <a:lnTo>
                    <a:pt x="1008" y="28"/>
                  </a:lnTo>
                  <a:lnTo>
                    <a:pt x="1016" y="2"/>
                  </a:lnTo>
                  <a:lnTo>
                    <a:pt x="1034" y="2"/>
                  </a:lnTo>
                  <a:lnTo>
                    <a:pt x="1042" y="12"/>
                  </a:lnTo>
                  <a:lnTo>
                    <a:pt x="1058" y="58"/>
                  </a:lnTo>
                  <a:lnTo>
                    <a:pt x="1076" y="72"/>
                  </a:lnTo>
                  <a:lnTo>
                    <a:pt x="1086" y="62"/>
                  </a:lnTo>
                  <a:lnTo>
                    <a:pt x="1114" y="90"/>
                  </a:lnTo>
                  <a:lnTo>
                    <a:pt x="1124" y="130"/>
                  </a:lnTo>
                  <a:lnTo>
                    <a:pt x="1118" y="144"/>
                  </a:lnTo>
                  <a:lnTo>
                    <a:pt x="1122" y="188"/>
                  </a:lnTo>
                  <a:lnTo>
                    <a:pt x="1128" y="192"/>
                  </a:lnTo>
                  <a:lnTo>
                    <a:pt x="1136" y="186"/>
                  </a:lnTo>
                  <a:lnTo>
                    <a:pt x="1146" y="188"/>
                  </a:lnTo>
                  <a:lnTo>
                    <a:pt x="1158" y="178"/>
                  </a:lnTo>
                  <a:lnTo>
                    <a:pt x="1172" y="178"/>
                  </a:lnTo>
                  <a:lnTo>
                    <a:pt x="1182" y="194"/>
                  </a:lnTo>
                  <a:lnTo>
                    <a:pt x="1182" y="212"/>
                  </a:lnTo>
                  <a:lnTo>
                    <a:pt x="1172" y="224"/>
                  </a:lnTo>
                  <a:lnTo>
                    <a:pt x="1178" y="232"/>
                  </a:lnTo>
                  <a:lnTo>
                    <a:pt x="1192" y="232"/>
                  </a:lnTo>
                  <a:lnTo>
                    <a:pt x="1206" y="214"/>
                  </a:lnTo>
                  <a:lnTo>
                    <a:pt x="1220" y="218"/>
                  </a:lnTo>
                  <a:lnTo>
                    <a:pt x="1238" y="228"/>
                  </a:lnTo>
                  <a:lnTo>
                    <a:pt x="1282" y="266"/>
                  </a:lnTo>
                  <a:lnTo>
                    <a:pt x="1338" y="286"/>
                  </a:lnTo>
                  <a:lnTo>
                    <a:pt x="1356" y="300"/>
                  </a:lnTo>
                  <a:lnTo>
                    <a:pt x="1360" y="316"/>
                  </a:lnTo>
                  <a:lnTo>
                    <a:pt x="1354" y="332"/>
                  </a:lnTo>
                  <a:lnTo>
                    <a:pt x="1330" y="344"/>
                  </a:lnTo>
                  <a:lnTo>
                    <a:pt x="1314" y="358"/>
                  </a:lnTo>
                  <a:lnTo>
                    <a:pt x="1288" y="374"/>
                  </a:lnTo>
                  <a:lnTo>
                    <a:pt x="1260" y="380"/>
                  </a:lnTo>
                  <a:lnTo>
                    <a:pt x="1238" y="366"/>
                  </a:lnTo>
                  <a:lnTo>
                    <a:pt x="1220" y="378"/>
                  </a:lnTo>
                  <a:lnTo>
                    <a:pt x="1218" y="402"/>
                  </a:lnTo>
                  <a:lnTo>
                    <a:pt x="1226" y="422"/>
                  </a:lnTo>
                  <a:lnTo>
                    <a:pt x="1242" y="440"/>
                  </a:lnTo>
                  <a:lnTo>
                    <a:pt x="1254" y="444"/>
                  </a:lnTo>
                  <a:lnTo>
                    <a:pt x="1268" y="456"/>
                  </a:lnTo>
                  <a:lnTo>
                    <a:pt x="1272" y="468"/>
                  </a:lnTo>
                  <a:lnTo>
                    <a:pt x="1238" y="476"/>
                  </a:lnTo>
                  <a:lnTo>
                    <a:pt x="1196" y="500"/>
                  </a:lnTo>
                  <a:lnTo>
                    <a:pt x="1178" y="498"/>
                  </a:lnTo>
                  <a:lnTo>
                    <a:pt x="1166" y="492"/>
                  </a:lnTo>
                  <a:lnTo>
                    <a:pt x="1150" y="478"/>
                  </a:lnTo>
                  <a:lnTo>
                    <a:pt x="1146" y="480"/>
                  </a:lnTo>
                  <a:lnTo>
                    <a:pt x="1142" y="496"/>
                  </a:lnTo>
                  <a:lnTo>
                    <a:pt x="1134" y="508"/>
                  </a:lnTo>
                  <a:lnTo>
                    <a:pt x="1120" y="506"/>
                  </a:lnTo>
                  <a:lnTo>
                    <a:pt x="1084" y="492"/>
                  </a:lnTo>
                  <a:lnTo>
                    <a:pt x="1062" y="474"/>
                  </a:lnTo>
                  <a:lnTo>
                    <a:pt x="928" y="472"/>
                  </a:lnTo>
                  <a:lnTo>
                    <a:pt x="880" y="478"/>
                  </a:lnTo>
                  <a:lnTo>
                    <a:pt x="864" y="506"/>
                  </a:lnTo>
                  <a:lnTo>
                    <a:pt x="852" y="566"/>
                  </a:lnTo>
                  <a:lnTo>
                    <a:pt x="848" y="636"/>
                  </a:lnTo>
                  <a:lnTo>
                    <a:pt x="836" y="674"/>
                  </a:lnTo>
                  <a:lnTo>
                    <a:pt x="772" y="776"/>
                  </a:lnTo>
                  <a:lnTo>
                    <a:pt x="760" y="866"/>
                  </a:lnTo>
                  <a:lnTo>
                    <a:pt x="740" y="928"/>
                  </a:lnTo>
                  <a:lnTo>
                    <a:pt x="720" y="966"/>
                  </a:lnTo>
                  <a:lnTo>
                    <a:pt x="712" y="990"/>
                  </a:lnTo>
                  <a:lnTo>
                    <a:pt x="694" y="1008"/>
                  </a:lnTo>
                  <a:lnTo>
                    <a:pt x="660" y="1022"/>
                  </a:lnTo>
                  <a:lnTo>
                    <a:pt x="632" y="1028"/>
                  </a:lnTo>
                  <a:lnTo>
                    <a:pt x="606" y="1038"/>
                  </a:lnTo>
                  <a:lnTo>
                    <a:pt x="576" y="1056"/>
                  </a:lnTo>
                  <a:lnTo>
                    <a:pt x="552" y="1056"/>
                  </a:lnTo>
                  <a:lnTo>
                    <a:pt x="496" y="1034"/>
                  </a:lnTo>
                  <a:lnTo>
                    <a:pt x="484" y="1032"/>
                  </a:lnTo>
                  <a:lnTo>
                    <a:pt x="480" y="1008"/>
                  </a:lnTo>
                  <a:lnTo>
                    <a:pt x="468" y="1002"/>
                  </a:lnTo>
                  <a:lnTo>
                    <a:pt x="396" y="998"/>
                  </a:lnTo>
                  <a:lnTo>
                    <a:pt x="384" y="1002"/>
                  </a:lnTo>
                  <a:lnTo>
                    <a:pt x="364" y="1028"/>
                  </a:lnTo>
                  <a:lnTo>
                    <a:pt x="322" y="1094"/>
                  </a:lnTo>
                  <a:lnTo>
                    <a:pt x="304" y="1104"/>
                  </a:lnTo>
                  <a:lnTo>
                    <a:pt x="280" y="1100"/>
                  </a:lnTo>
                  <a:lnTo>
                    <a:pt x="254" y="1102"/>
                  </a:lnTo>
                  <a:lnTo>
                    <a:pt x="230" y="1112"/>
                  </a:lnTo>
                  <a:lnTo>
                    <a:pt x="204" y="1094"/>
                  </a:lnTo>
                  <a:lnTo>
                    <a:pt x="176" y="1096"/>
                  </a:lnTo>
                  <a:lnTo>
                    <a:pt x="146" y="1110"/>
                  </a:lnTo>
                  <a:lnTo>
                    <a:pt x="108" y="1098"/>
                  </a:lnTo>
                  <a:lnTo>
                    <a:pt x="74" y="1060"/>
                  </a:lnTo>
                  <a:lnTo>
                    <a:pt x="0" y="928"/>
                  </a:lnTo>
                  <a:lnTo>
                    <a:pt x="0" y="912"/>
                  </a:lnTo>
                  <a:lnTo>
                    <a:pt x="4" y="906"/>
                  </a:lnTo>
                  <a:lnTo>
                    <a:pt x="12" y="898"/>
                  </a:lnTo>
                  <a:lnTo>
                    <a:pt x="18" y="894"/>
                  </a:lnTo>
                  <a:lnTo>
                    <a:pt x="28" y="924"/>
                  </a:lnTo>
                  <a:lnTo>
                    <a:pt x="38" y="938"/>
                  </a:lnTo>
                  <a:lnTo>
                    <a:pt x="76" y="956"/>
                  </a:lnTo>
                  <a:lnTo>
                    <a:pt x="92" y="960"/>
                  </a:lnTo>
                  <a:lnTo>
                    <a:pt x="124" y="954"/>
                  </a:lnTo>
                  <a:lnTo>
                    <a:pt x="138" y="960"/>
                  </a:lnTo>
                  <a:lnTo>
                    <a:pt x="154" y="974"/>
                  </a:lnTo>
                  <a:lnTo>
                    <a:pt x="178" y="982"/>
                  </a:lnTo>
                  <a:lnTo>
                    <a:pt x="222" y="988"/>
                  </a:lnTo>
                  <a:lnTo>
                    <a:pt x="226" y="964"/>
                  </a:lnTo>
                  <a:lnTo>
                    <a:pt x="234" y="942"/>
                  </a:lnTo>
                  <a:lnTo>
                    <a:pt x="238" y="910"/>
                  </a:lnTo>
                  <a:lnTo>
                    <a:pt x="244" y="892"/>
                  </a:lnTo>
                  <a:lnTo>
                    <a:pt x="236" y="856"/>
                  </a:lnTo>
                  <a:lnTo>
                    <a:pt x="248" y="844"/>
                  </a:lnTo>
                  <a:lnTo>
                    <a:pt x="266" y="850"/>
                  </a:lnTo>
                  <a:lnTo>
                    <a:pt x="268" y="856"/>
                  </a:lnTo>
                  <a:lnTo>
                    <a:pt x="268" y="808"/>
                  </a:lnTo>
                  <a:lnTo>
                    <a:pt x="272" y="794"/>
                  </a:lnTo>
                  <a:lnTo>
                    <a:pt x="290" y="760"/>
                  </a:lnTo>
                  <a:lnTo>
                    <a:pt x="300" y="750"/>
                  </a:lnTo>
                  <a:lnTo>
                    <a:pt x="344" y="746"/>
                  </a:lnTo>
                  <a:lnTo>
                    <a:pt x="354" y="740"/>
                  </a:lnTo>
                  <a:lnTo>
                    <a:pt x="352" y="738"/>
                  </a:lnTo>
                  <a:lnTo>
                    <a:pt x="366" y="734"/>
                  </a:lnTo>
                  <a:lnTo>
                    <a:pt x="394" y="734"/>
                  </a:lnTo>
                  <a:lnTo>
                    <a:pt x="416" y="728"/>
                  </a:lnTo>
                  <a:lnTo>
                    <a:pt x="450" y="724"/>
                  </a:lnTo>
                  <a:lnTo>
                    <a:pt x="464" y="714"/>
                  </a:lnTo>
                  <a:lnTo>
                    <a:pt x="492" y="678"/>
                  </a:lnTo>
                  <a:lnTo>
                    <a:pt x="524" y="622"/>
                  </a:lnTo>
                  <a:lnTo>
                    <a:pt x="532" y="602"/>
                  </a:lnTo>
                  <a:lnTo>
                    <a:pt x="550" y="568"/>
                  </a:lnTo>
                  <a:lnTo>
                    <a:pt x="590" y="522"/>
                  </a:lnTo>
                  <a:lnTo>
                    <a:pt x="606" y="482"/>
                  </a:lnTo>
                  <a:lnTo>
                    <a:pt x="610" y="442"/>
                  </a:lnTo>
                  <a:lnTo>
                    <a:pt x="614" y="43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12480" y="4345560"/>
              <a:ext cx="76320" cy="20880"/>
            </a:xfrm>
            <a:custGeom>
              <a:avLst/>
              <a:gdLst/>
              <a:ahLst/>
              <a:rect l="l" t="t" r="r" b="b"/>
              <a:pathLst>
                <a:path w="436" h="138">
                  <a:moveTo>
                    <a:pt x="10" y="136"/>
                  </a:moveTo>
                  <a:lnTo>
                    <a:pt x="20" y="116"/>
                  </a:lnTo>
                  <a:lnTo>
                    <a:pt x="120" y="106"/>
                  </a:lnTo>
                  <a:lnTo>
                    <a:pt x="144" y="106"/>
                  </a:lnTo>
                  <a:lnTo>
                    <a:pt x="146" y="102"/>
                  </a:lnTo>
                  <a:lnTo>
                    <a:pt x="154" y="82"/>
                  </a:lnTo>
                  <a:lnTo>
                    <a:pt x="164" y="80"/>
                  </a:lnTo>
                  <a:lnTo>
                    <a:pt x="176" y="82"/>
                  </a:lnTo>
                  <a:lnTo>
                    <a:pt x="206" y="80"/>
                  </a:lnTo>
                  <a:lnTo>
                    <a:pt x="228" y="68"/>
                  </a:lnTo>
                  <a:lnTo>
                    <a:pt x="240" y="52"/>
                  </a:lnTo>
                  <a:lnTo>
                    <a:pt x="246" y="48"/>
                  </a:lnTo>
                  <a:lnTo>
                    <a:pt x="262" y="52"/>
                  </a:lnTo>
                  <a:lnTo>
                    <a:pt x="272" y="64"/>
                  </a:lnTo>
                  <a:lnTo>
                    <a:pt x="290" y="70"/>
                  </a:lnTo>
                  <a:lnTo>
                    <a:pt x="312" y="88"/>
                  </a:lnTo>
                  <a:lnTo>
                    <a:pt x="330" y="88"/>
                  </a:lnTo>
                  <a:lnTo>
                    <a:pt x="352" y="100"/>
                  </a:lnTo>
                  <a:lnTo>
                    <a:pt x="370" y="100"/>
                  </a:lnTo>
                  <a:lnTo>
                    <a:pt x="378" y="106"/>
                  </a:lnTo>
                  <a:lnTo>
                    <a:pt x="396" y="94"/>
                  </a:lnTo>
                  <a:lnTo>
                    <a:pt x="426" y="86"/>
                  </a:lnTo>
                  <a:lnTo>
                    <a:pt x="436" y="76"/>
                  </a:lnTo>
                  <a:lnTo>
                    <a:pt x="436" y="64"/>
                  </a:lnTo>
                  <a:lnTo>
                    <a:pt x="434" y="48"/>
                  </a:lnTo>
                  <a:lnTo>
                    <a:pt x="434" y="48"/>
                  </a:lnTo>
                  <a:lnTo>
                    <a:pt x="426" y="50"/>
                  </a:lnTo>
                  <a:lnTo>
                    <a:pt x="416" y="46"/>
                  </a:lnTo>
                  <a:lnTo>
                    <a:pt x="406" y="46"/>
                  </a:lnTo>
                  <a:lnTo>
                    <a:pt x="396" y="48"/>
                  </a:lnTo>
                  <a:lnTo>
                    <a:pt x="368" y="64"/>
                  </a:lnTo>
                  <a:lnTo>
                    <a:pt x="352" y="62"/>
                  </a:lnTo>
                  <a:lnTo>
                    <a:pt x="338" y="52"/>
                  </a:lnTo>
                  <a:lnTo>
                    <a:pt x="328" y="36"/>
                  </a:lnTo>
                  <a:lnTo>
                    <a:pt x="324" y="32"/>
                  </a:lnTo>
                  <a:lnTo>
                    <a:pt x="294" y="32"/>
                  </a:lnTo>
                  <a:lnTo>
                    <a:pt x="276" y="8"/>
                  </a:lnTo>
                  <a:lnTo>
                    <a:pt x="264" y="6"/>
                  </a:lnTo>
                  <a:lnTo>
                    <a:pt x="256" y="0"/>
                  </a:lnTo>
                  <a:lnTo>
                    <a:pt x="240" y="4"/>
                  </a:lnTo>
                  <a:lnTo>
                    <a:pt x="228" y="10"/>
                  </a:lnTo>
                  <a:lnTo>
                    <a:pt x="212" y="10"/>
                  </a:lnTo>
                  <a:lnTo>
                    <a:pt x="198" y="22"/>
                  </a:lnTo>
                  <a:lnTo>
                    <a:pt x="186" y="42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52"/>
                  </a:lnTo>
                  <a:lnTo>
                    <a:pt x="38" y="6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0" y="78"/>
                  </a:lnTo>
                  <a:lnTo>
                    <a:pt x="2" y="84"/>
                  </a:lnTo>
                  <a:lnTo>
                    <a:pt x="0" y="104"/>
                  </a:lnTo>
                  <a:lnTo>
                    <a:pt x="2" y="134"/>
                  </a:lnTo>
                  <a:lnTo>
                    <a:pt x="6" y="138"/>
                  </a:lnTo>
                  <a:lnTo>
                    <a:pt x="10" y="13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4840" bIns="-24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12480" y="4376160"/>
              <a:ext cx="79560" cy="51840"/>
            </a:xfrm>
            <a:custGeom>
              <a:avLst/>
              <a:gdLst/>
              <a:ahLst/>
              <a:rect l="l" t="t" r="r" b="b"/>
              <a:pathLst>
                <a:path w="452" h="300">
                  <a:moveTo>
                    <a:pt x="442" y="2"/>
                  </a:moveTo>
                  <a:lnTo>
                    <a:pt x="442" y="22"/>
                  </a:lnTo>
                  <a:lnTo>
                    <a:pt x="452" y="44"/>
                  </a:lnTo>
                  <a:lnTo>
                    <a:pt x="452" y="56"/>
                  </a:lnTo>
                  <a:lnTo>
                    <a:pt x="446" y="72"/>
                  </a:lnTo>
                  <a:lnTo>
                    <a:pt x="436" y="78"/>
                  </a:lnTo>
                  <a:lnTo>
                    <a:pt x="422" y="78"/>
                  </a:lnTo>
                  <a:lnTo>
                    <a:pt x="416" y="82"/>
                  </a:lnTo>
                  <a:lnTo>
                    <a:pt x="412" y="94"/>
                  </a:lnTo>
                  <a:lnTo>
                    <a:pt x="426" y="104"/>
                  </a:lnTo>
                  <a:lnTo>
                    <a:pt x="434" y="118"/>
                  </a:lnTo>
                  <a:lnTo>
                    <a:pt x="438" y="174"/>
                  </a:lnTo>
                  <a:lnTo>
                    <a:pt x="420" y="174"/>
                  </a:lnTo>
                  <a:lnTo>
                    <a:pt x="410" y="182"/>
                  </a:lnTo>
                  <a:lnTo>
                    <a:pt x="360" y="182"/>
                  </a:lnTo>
                  <a:lnTo>
                    <a:pt x="314" y="206"/>
                  </a:lnTo>
                  <a:lnTo>
                    <a:pt x="296" y="222"/>
                  </a:lnTo>
                  <a:lnTo>
                    <a:pt x="284" y="242"/>
                  </a:lnTo>
                  <a:lnTo>
                    <a:pt x="276" y="272"/>
                  </a:lnTo>
                  <a:lnTo>
                    <a:pt x="270" y="282"/>
                  </a:lnTo>
                  <a:lnTo>
                    <a:pt x="256" y="294"/>
                  </a:lnTo>
                  <a:lnTo>
                    <a:pt x="240" y="300"/>
                  </a:lnTo>
                  <a:lnTo>
                    <a:pt x="238" y="288"/>
                  </a:lnTo>
                  <a:lnTo>
                    <a:pt x="244" y="280"/>
                  </a:lnTo>
                  <a:lnTo>
                    <a:pt x="222" y="284"/>
                  </a:lnTo>
                  <a:lnTo>
                    <a:pt x="208" y="280"/>
                  </a:lnTo>
                  <a:lnTo>
                    <a:pt x="196" y="262"/>
                  </a:lnTo>
                  <a:lnTo>
                    <a:pt x="192" y="240"/>
                  </a:lnTo>
                  <a:lnTo>
                    <a:pt x="200" y="210"/>
                  </a:lnTo>
                  <a:lnTo>
                    <a:pt x="188" y="178"/>
                  </a:lnTo>
                  <a:lnTo>
                    <a:pt x="206" y="162"/>
                  </a:lnTo>
                  <a:lnTo>
                    <a:pt x="220" y="156"/>
                  </a:lnTo>
                  <a:lnTo>
                    <a:pt x="270" y="152"/>
                  </a:lnTo>
                  <a:lnTo>
                    <a:pt x="272" y="138"/>
                  </a:lnTo>
                  <a:lnTo>
                    <a:pt x="210" y="146"/>
                  </a:lnTo>
                  <a:lnTo>
                    <a:pt x="190" y="152"/>
                  </a:lnTo>
                  <a:lnTo>
                    <a:pt x="152" y="172"/>
                  </a:lnTo>
                  <a:lnTo>
                    <a:pt x="132" y="176"/>
                  </a:lnTo>
                  <a:lnTo>
                    <a:pt x="122" y="172"/>
                  </a:lnTo>
                  <a:lnTo>
                    <a:pt x="122" y="148"/>
                  </a:lnTo>
                  <a:lnTo>
                    <a:pt x="106" y="150"/>
                  </a:lnTo>
                  <a:lnTo>
                    <a:pt x="80" y="144"/>
                  </a:lnTo>
                  <a:lnTo>
                    <a:pt x="70" y="130"/>
                  </a:lnTo>
                  <a:lnTo>
                    <a:pt x="70" y="102"/>
                  </a:lnTo>
                  <a:lnTo>
                    <a:pt x="16" y="84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2" y="58"/>
                  </a:lnTo>
                  <a:lnTo>
                    <a:pt x="22" y="62"/>
                  </a:lnTo>
                  <a:lnTo>
                    <a:pt x="38" y="62"/>
                  </a:lnTo>
                  <a:lnTo>
                    <a:pt x="68" y="48"/>
                  </a:lnTo>
                  <a:lnTo>
                    <a:pt x="80" y="40"/>
                  </a:lnTo>
                  <a:lnTo>
                    <a:pt x="154" y="44"/>
                  </a:lnTo>
                  <a:lnTo>
                    <a:pt x="180" y="38"/>
                  </a:lnTo>
                  <a:lnTo>
                    <a:pt x="208" y="20"/>
                  </a:lnTo>
                  <a:lnTo>
                    <a:pt x="240" y="4"/>
                  </a:lnTo>
                  <a:lnTo>
                    <a:pt x="304" y="4"/>
                  </a:lnTo>
                  <a:lnTo>
                    <a:pt x="312" y="0"/>
                  </a:lnTo>
                  <a:lnTo>
                    <a:pt x="442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6120" bIns="61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42080" y="4497120"/>
              <a:ext cx="101160" cy="118080"/>
            </a:xfrm>
            <a:custGeom>
              <a:avLst/>
              <a:gdLst/>
              <a:ahLst/>
              <a:rect l="l" t="t" r="r" b="b"/>
              <a:pathLst>
                <a:path w="590" h="700">
                  <a:moveTo>
                    <a:pt x="4" y="264"/>
                  </a:moveTo>
                  <a:lnTo>
                    <a:pt x="10" y="264"/>
                  </a:lnTo>
                  <a:lnTo>
                    <a:pt x="20" y="256"/>
                  </a:lnTo>
                  <a:lnTo>
                    <a:pt x="26" y="238"/>
                  </a:lnTo>
                  <a:lnTo>
                    <a:pt x="32" y="234"/>
                  </a:lnTo>
                  <a:lnTo>
                    <a:pt x="32" y="220"/>
                  </a:lnTo>
                  <a:lnTo>
                    <a:pt x="36" y="212"/>
                  </a:lnTo>
                  <a:lnTo>
                    <a:pt x="48" y="212"/>
                  </a:lnTo>
                  <a:lnTo>
                    <a:pt x="58" y="204"/>
                  </a:lnTo>
                  <a:lnTo>
                    <a:pt x="80" y="178"/>
                  </a:lnTo>
                  <a:lnTo>
                    <a:pt x="96" y="172"/>
                  </a:lnTo>
                  <a:lnTo>
                    <a:pt x="106" y="152"/>
                  </a:lnTo>
                  <a:lnTo>
                    <a:pt x="116" y="148"/>
                  </a:lnTo>
                  <a:lnTo>
                    <a:pt x="122" y="136"/>
                  </a:lnTo>
                  <a:lnTo>
                    <a:pt x="132" y="132"/>
                  </a:lnTo>
                  <a:lnTo>
                    <a:pt x="130" y="84"/>
                  </a:lnTo>
                  <a:lnTo>
                    <a:pt x="140" y="80"/>
                  </a:lnTo>
                  <a:lnTo>
                    <a:pt x="150" y="62"/>
                  </a:lnTo>
                  <a:lnTo>
                    <a:pt x="176" y="58"/>
                  </a:lnTo>
                  <a:lnTo>
                    <a:pt x="178" y="54"/>
                  </a:lnTo>
                  <a:lnTo>
                    <a:pt x="170" y="42"/>
                  </a:lnTo>
                  <a:lnTo>
                    <a:pt x="170" y="28"/>
                  </a:lnTo>
                  <a:lnTo>
                    <a:pt x="182" y="26"/>
                  </a:lnTo>
                  <a:lnTo>
                    <a:pt x="188" y="8"/>
                  </a:lnTo>
                  <a:lnTo>
                    <a:pt x="198" y="0"/>
                  </a:lnTo>
                  <a:lnTo>
                    <a:pt x="208" y="6"/>
                  </a:lnTo>
                  <a:lnTo>
                    <a:pt x="220" y="18"/>
                  </a:lnTo>
                  <a:lnTo>
                    <a:pt x="226" y="18"/>
                  </a:lnTo>
                  <a:lnTo>
                    <a:pt x="232" y="14"/>
                  </a:lnTo>
                  <a:lnTo>
                    <a:pt x="254" y="4"/>
                  </a:lnTo>
                  <a:lnTo>
                    <a:pt x="260" y="6"/>
                  </a:lnTo>
                  <a:lnTo>
                    <a:pt x="260" y="12"/>
                  </a:lnTo>
                  <a:lnTo>
                    <a:pt x="268" y="24"/>
                  </a:lnTo>
                  <a:lnTo>
                    <a:pt x="288" y="38"/>
                  </a:lnTo>
                  <a:lnTo>
                    <a:pt x="286" y="60"/>
                  </a:lnTo>
                  <a:lnTo>
                    <a:pt x="298" y="78"/>
                  </a:lnTo>
                  <a:lnTo>
                    <a:pt x="300" y="120"/>
                  </a:lnTo>
                  <a:lnTo>
                    <a:pt x="308" y="128"/>
                  </a:lnTo>
                  <a:lnTo>
                    <a:pt x="304" y="174"/>
                  </a:lnTo>
                  <a:lnTo>
                    <a:pt x="298" y="186"/>
                  </a:lnTo>
                  <a:lnTo>
                    <a:pt x="288" y="194"/>
                  </a:lnTo>
                  <a:lnTo>
                    <a:pt x="286" y="200"/>
                  </a:lnTo>
                  <a:lnTo>
                    <a:pt x="288" y="204"/>
                  </a:lnTo>
                  <a:lnTo>
                    <a:pt x="300" y="202"/>
                  </a:lnTo>
                  <a:lnTo>
                    <a:pt x="310" y="194"/>
                  </a:lnTo>
                  <a:lnTo>
                    <a:pt x="316" y="194"/>
                  </a:lnTo>
                  <a:lnTo>
                    <a:pt x="330" y="208"/>
                  </a:lnTo>
                  <a:lnTo>
                    <a:pt x="342" y="228"/>
                  </a:lnTo>
                  <a:lnTo>
                    <a:pt x="354" y="226"/>
                  </a:lnTo>
                  <a:lnTo>
                    <a:pt x="362" y="218"/>
                  </a:lnTo>
                  <a:lnTo>
                    <a:pt x="382" y="216"/>
                  </a:lnTo>
                  <a:lnTo>
                    <a:pt x="384" y="202"/>
                  </a:lnTo>
                  <a:lnTo>
                    <a:pt x="396" y="184"/>
                  </a:lnTo>
                  <a:lnTo>
                    <a:pt x="398" y="160"/>
                  </a:lnTo>
                  <a:lnTo>
                    <a:pt x="406" y="152"/>
                  </a:lnTo>
                  <a:lnTo>
                    <a:pt x="422" y="152"/>
                  </a:lnTo>
                  <a:lnTo>
                    <a:pt x="432" y="172"/>
                  </a:lnTo>
                  <a:lnTo>
                    <a:pt x="436" y="188"/>
                  </a:lnTo>
                  <a:lnTo>
                    <a:pt x="440" y="216"/>
                  </a:lnTo>
                  <a:lnTo>
                    <a:pt x="446" y="218"/>
                  </a:lnTo>
                  <a:lnTo>
                    <a:pt x="452" y="228"/>
                  </a:lnTo>
                  <a:lnTo>
                    <a:pt x="450" y="236"/>
                  </a:lnTo>
                  <a:lnTo>
                    <a:pt x="462" y="244"/>
                  </a:lnTo>
                  <a:lnTo>
                    <a:pt x="454" y="294"/>
                  </a:lnTo>
                  <a:lnTo>
                    <a:pt x="450" y="302"/>
                  </a:lnTo>
                  <a:lnTo>
                    <a:pt x="428" y="324"/>
                  </a:lnTo>
                  <a:lnTo>
                    <a:pt x="418" y="344"/>
                  </a:lnTo>
                  <a:lnTo>
                    <a:pt x="420" y="348"/>
                  </a:lnTo>
                  <a:lnTo>
                    <a:pt x="426" y="348"/>
                  </a:lnTo>
                  <a:lnTo>
                    <a:pt x="428" y="352"/>
                  </a:lnTo>
                  <a:lnTo>
                    <a:pt x="438" y="352"/>
                  </a:lnTo>
                  <a:lnTo>
                    <a:pt x="440" y="360"/>
                  </a:lnTo>
                  <a:lnTo>
                    <a:pt x="446" y="364"/>
                  </a:lnTo>
                  <a:lnTo>
                    <a:pt x="456" y="364"/>
                  </a:lnTo>
                  <a:lnTo>
                    <a:pt x="476" y="378"/>
                  </a:lnTo>
                  <a:lnTo>
                    <a:pt x="500" y="376"/>
                  </a:lnTo>
                  <a:lnTo>
                    <a:pt x="506" y="378"/>
                  </a:lnTo>
                  <a:lnTo>
                    <a:pt x="518" y="398"/>
                  </a:lnTo>
                  <a:lnTo>
                    <a:pt x="518" y="410"/>
                  </a:lnTo>
                  <a:lnTo>
                    <a:pt x="524" y="414"/>
                  </a:lnTo>
                  <a:lnTo>
                    <a:pt x="532" y="430"/>
                  </a:lnTo>
                  <a:lnTo>
                    <a:pt x="536" y="442"/>
                  </a:lnTo>
                  <a:lnTo>
                    <a:pt x="552" y="444"/>
                  </a:lnTo>
                  <a:lnTo>
                    <a:pt x="566" y="460"/>
                  </a:lnTo>
                  <a:lnTo>
                    <a:pt x="580" y="456"/>
                  </a:lnTo>
                  <a:lnTo>
                    <a:pt x="580" y="472"/>
                  </a:lnTo>
                  <a:lnTo>
                    <a:pt x="586" y="486"/>
                  </a:lnTo>
                  <a:lnTo>
                    <a:pt x="590" y="506"/>
                  </a:lnTo>
                  <a:lnTo>
                    <a:pt x="584" y="528"/>
                  </a:lnTo>
                  <a:lnTo>
                    <a:pt x="590" y="544"/>
                  </a:lnTo>
                  <a:lnTo>
                    <a:pt x="588" y="546"/>
                  </a:lnTo>
                  <a:lnTo>
                    <a:pt x="578" y="546"/>
                  </a:lnTo>
                  <a:lnTo>
                    <a:pt x="574" y="556"/>
                  </a:lnTo>
                  <a:lnTo>
                    <a:pt x="574" y="580"/>
                  </a:lnTo>
                  <a:lnTo>
                    <a:pt x="566" y="582"/>
                  </a:lnTo>
                  <a:lnTo>
                    <a:pt x="564" y="586"/>
                  </a:lnTo>
                  <a:lnTo>
                    <a:pt x="566" y="604"/>
                  </a:lnTo>
                  <a:lnTo>
                    <a:pt x="562" y="620"/>
                  </a:lnTo>
                  <a:lnTo>
                    <a:pt x="564" y="700"/>
                  </a:lnTo>
                  <a:lnTo>
                    <a:pt x="506" y="688"/>
                  </a:lnTo>
                  <a:lnTo>
                    <a:pt x="492" y="674"/>
                  </a:lnTo>
                  <a:lnTo>
                    <a:pt x="480" y="668"/>
                  </a:lnTo>
                  <a:lnTo>
                    <a:pt x="466" y="668"/>
                  </a:lnTo>
                  <a:lnTo>
                    <a:pt x="438" y="658"/>
                  </a:lnTo>
                  <a:lnTo>
                    <a:pt x="414" y="646"/>
                  </a:lnTo>
                  <a:lnTo>
                    <a:pt x="398" y="632"/>
                  </a:lnTo>
                  <a:lnTo>
                    <a:pt x="372" y="620"/>
                  </a:lnTo>
                  <a:lnTo>
                    <a:pt x="344" y="592"/>
                  </a:lnTo>
                  <a:lnTo>
                    <a:pt x="310" y="576"/>
                  </a:lnTo>
                  <a:lnTo>
                    <a:pt x="268" y="520"/>
                  </a:lnTo>
                  <a:lnTo>
                    <a:pt x="178" y="432"/>
                  </a:lnTo>
                  <a:lnTo>
                    <a:pt x="164" y="414"/>
                  </a:lnTo>
                  <a:lnTo>
                    <a:pt x="150" y="402"/>
                  </a:lnTo>
                  <a:lnTo>
                    <a:pt x="126" y="394"/>
                  </a:lnTo>
                  <a:lnTo>
                    <a:pt x="92" y="374"/>
                  </a:lnTo>
                  <a:lnTo>
                    <a:pt x="72" y="334"/>
                  </a:lnTo>
                  <a:lnTo>
                    <a:pt x="46" y="324"/>
                  </a:lnTo>
                  <a:lnTo>
                    <a:pt x="40" y="316"/>
                  </a:lnTo>
                  <a:lnTo>
                    <a:pt x="42" y="302"/>
                  </a:lnTo>
                  <a:lnTo>
                    <a:pt x="38" y="294"/>
                  </a:lnTo>
                  <a:lnTo>
                    <a:pt x="10" y="284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6" y="268"/>
                  </a:lnTo>
                  <a:lnTo>
                    <a:pt x="4" y="26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48360" y="4423320"/>
              <a:ext cx="110520" cy="185400"/>
            </a:xfrm>
            <a:custGeom>
              <a:avLst/>
              <a:gdLst/>
              <a:ahLst/>
              <a:rect l="l" t="t" r="r" b="b"/>
              <a:pathLst>
                <a:path w="632" h="1088">
                  <a:moveTo>
                    <a:pt x="632" y="856"/>
                  </a:moveTo>
                  <a:lnTo>
                    <a:pt x="622" y="852"/>
                  </a:lnTo>
                  <a:lnTo>
                    <a:pt x="578" y="798"/>
                  </a:lnTo>
                  <a:lnTo>
                    <a:pt x="560" y="768"/>
                  </a:lnTo>
                  <a:lnTo>
                    <a:pt x="548" y="732"/>
                  </a:lnTo>
                  <a:lnTo>
                    <a:pt x="544" y="706"/>
                  </a:lnTo>
                  <a:lnTo>
                    <a:pt x="542" y="636"/>
                  </a:lnTo>
                  <a:lnTo>
                    <a:pt x="544" y="574"/>
                  </a:lnTo>
                  <a:lnTo>
                    <a:pt x="534" y="448"/>
                  </a:lnTo>
                  <a:lnTo>
                    <a:pt x="534" y="348"/>
                  </a:lnTo>
                  <a:lnTo>
                    <a:pt x="528" y="308"/>
                  </a:lnTo>
                  <a:lnTo>
                    <a:pt x="520" y="286"/>
                  </a:lnTo>
                  <a:lnTo>
                    <a:pt x="510" y="270"/>
                  </a:lnTo>
                  <a:lnTo>
                    <a:pt x="506" y="204"/>
                  </a:lnTo>
                  <a:lnTo>
                    <a:pt x="498" y="162"/>
                  </a:lnTo>
                  <a:lnTo>
                    <a:pt x="488" y="146"/>
                  </a:lnTo>
                  <a:lnTo>
                    <a:pt x="448" y="122"/>
                  </a:lnTo>
                  <a:lnTo>
                    <a:pt x="448" y="100"/>
                  </a:lnTo>
                  <a:lnTo>
                    <a:pt x="448" y="82"/>
                  </a:lnTo>
                  <a:lnTo>
                    <a:pt x="448" y="66"/>
                  </a:lnTo>
                  <a:lnTo>
                    <a:pt x="448" y="48"/>
                  </a:lnTo>
                  <a:lnTo>
                    <a:pt x="448" y="32"/>
                  </a:lnTo>
                  <a:lnTo>
                    <a:pt x="448" y="18"/>
                  </a:lnTo>
                  <a:lnTo>
                    <a:pt x="448" y="14"/>
                  </a:lnTo>
                  <a:lnTo>
                    <a:pt x="448" y="10"/>
                  </a:lnTo>
                  <a:lnTo>
                    <a:pt x="422" y="8"/>
                  </a:lnTo>
                  <a:lnTo>
                    <a:pt x="422" y="0"/>
                  </a:lnTo>
                  <a:lnTo>
                    <a:pt x="380" y="8"/>
                  </a:lnTo>
                  <a:lnTo>
                    <a:pt x="346" y="32"/>
                  </a:lnTo>
                  <a:lnTo>
                    <a:pt x="338" y="36"/>
                  </a:lnTo>
                  <a:lnTo>
                    <a:pt x="294" y="34"/>
                  </a:lnTo>
                  <a:lnTo>
                    <a:pt x="224" y="20"/>
                  </a:lnTo>
                  <a:lnTo>
                    <a:pt x="152" y="22"/>
                  </a:lnTo>
                  <a:lnTo>
                    <a:pt x="122" y="16"/>
                  </a:lnTo>
                  <a:lnTo>
                    <a:pt x="96" y="16"/>
                  </a:lnTo>
                  <a:lnTo>
                    <a:pt x="50" y="24"/>
                  </a:lnTo>
                  <a:lnTo>
                    <a:pt x="38" y="50"/>
                  </a:lnTo>
                  <a:lnTo>
                    <a:pt x="38" y="72"/>
                  </a:lnTo>
                  <a:lnTo>
                    <a:pt x="46" y="98"/>
                  </a:lnTo>
                  <a:lnTo>
                    <a:pt x="54" y="106"/>
                  </a:lnTo>
                  <a:lnTo>
                    <a:pt x="52" y="130"/>
                  </a:lnTo>
                  <a:lnTo>
                    <a:pt x="62" y="134"/>
                  </a:lnTo>
                  <a:lnTo>
                    <a:pt x="58" y="172"/>
                  </a:lnTo>
                  <a:lnTo>
                    <a:pt x="66" y="198"/>
                  </a:lnTo>
                  <a:lnTo>
                    <a:pt x="64" y="232"/>
                  </a:lnTo>
                  <a:lnTo>
                    <a:pt x="66" y="248"/>
                  </a:lnTo>
                  <a:lnTo>
                    <a:pt x="76" y="270"/>
                  </a:lnTo>
                  <a:lnTo>
                    <a:pt x="76" y="288"/>
                  </a:lnTo>
                  <a:lnTo>
                    <a:pt x="70" y="298"/>
                  </a:lnTo>
                  <a:lnTo>
                    <a:pt x="78" y="314"/>
                  </a:lnTo>
                  <a:lnTo>
                    <a:pt x="66" y="330"/>
                  </a:lnTo>
                  <a:lnTo>
                    <a:pt x="64" y="338"/>
                  </a:lnTo>
                  <a:lnTo>
                    <a:pt x="74" y="342"/>
                  </a:lnTo>
                  <a:lnTo>
                    <a:pt x="82" y="350"/>
                  </a:lnTo>
                  <a:lnTo>
                    <a:pt x="100" y="434"/>
                  </a:lnTo>
                  <a:lnTo>
                    <a:pt x="108" y="482"/>
                  </a:lnTo>
                  <a:lnTo>
                    <a:pt x="92" y="486"/>
                  </a:lnTo>
                  <a:lnTo>
                    <a:pt x="92" y="500"/>
                  </a:lnTo>
                  <a:lnTo>
                    <a:pt x="84" y="506"/>
                  </a:lnTo>
                  <a:lnTo>
                    <a:pt x="76" y="520"/>
                  </a:lnTo>
                  <a:lnTo>
                    <a:pt x="66" y="526"/>
                  </a:lnTo>
                  <a:lnTo>
                    <a:pt x="60" y="554"/>
                  </a:lnTo>
                  <a:lnTo>
                    <a:pt x="42" y="594"/>
                  </a:lnTo>
                  <a:lnTo>
                    <a:pt x="38" y="620"/>
                  </a:lnTo>
                  <a:lnTo>
                    <a:pt x="36" y="654"/>
                  </a:lnTo>
                  <a:lnTo>
                    <a:pt x="30" y="670"/>
                  </a:lnTo>
                  <a:lnTo>
                    <a:pt x="12" y="690"/>
                  </a:lnTo>
                  <a:lnTo>
                    <a:pt x="4" y="710"/>
                  </a:lnTo>
                  <a:lnTo>
                    <a:pt x="0" y="764"/>
                  </a:lnTo>
                  <a:lnTo>
                    <a:pt x="0" y="788"/>
                  </a:lnTo>
                  <a:lnTo>
                    <a:pt x="20" y="848"/>
                  </a:lnTo>
                  <a:lnTo>
                    <a:pt x="28" y="900"/>
                  </a:lnTo>
                  <a:lnTo>
                    <a:pt x="38" y="914"/>
                  </a:lnTo>
                  <a:lnTo>
                    <a:pt x="58" y="916"/>
                  </a:lnTo>
                  <a:lnTo>
                    <a:pt x="64" y="924"/>
                  </a:lnTo>
                  <a:lnTo>
                    <a:pt x="70" y="960"/>
                  </a:lnTo>
                  <a:lnTo>
                    <a:pt x="70" y="1006"/>
                  </a:lnTo>
                  <a:lnTo>
                    <a:pt x="54" y="1008"/>
                  </a:lnTo>
                  <a:lnTo>
                    <a:pt x="44" y="1002"/>
                  </a:lnTo>
                  <a:lnTo>
                    <a:pt x="28" y="1002"/>
                  </a:lnTo>
                  <a:lnTo>
                    <a:pt x="24" y="1004"/>
                  </a:lnTo>
                  <a:lnTo>
                    <a:pt x="12" y="1022"/>
                  </a:lnTo>
                  <a:lnTo>
                    <a:pt x="106" y="1056"/>
                  </a:lnTo>
                  <a:lnTo>
                    <a:pt x="174" y="1088"/>
                  </a:lnTo>
                  <a:lnTo>
                    <a:pt x="228" y="1056"/>
                  </a:lnTo>
                  <a:lnTo>
                    <a:pt x="248" y="1034"/>
                  </a:lnTo>
                  <a:lnTo>
                    <a:pt x="270" y="1024"/>
                  </a:lnTo>
                  <a:lnTo>
                    <a:pt x="356" y="1002"/>
                  </a:lnTo>
                  <a:lnTo>
                    <a:pt x="448" y="948"/>
                  </a:lnTo>
                  <a:lnTo>
                    <a:pt x="478" y="922"/>
                  </a:lnTo>
                  <a:lnTo>
                    <a:pt x="490" y="914"/>
                  </a:lnTo>
                  <a:lnTo>
                    <a:pt x="508" y="912"/>
                  </a:lnTo>
                  <a:lnTo>
                    <a:pt x="560" y="904"/>
                  </a:lnTo>
                  <a:lnTo>
                    <a:pt x="572" y="914"/>
                  </a:lnTo>
                  <a:lnTo>
                    <a:pt x="596" y="910"/>
                  </a:lnTo>
                  <a:lnTo>
                    <a:pt x="626" y="860"/>
                  </a:lnTo>
                  <a:lnTo>
                    <a:pt x="632" y="85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93440" y="4345560"/>
              <a:ext cx="290160" cy="277200"/>
            </a:xfrm>
            <a:custGeom>
              <a:avLst/>
              <a:gdLst/>
              <a:ahLst/>
              <a:rect l="l" t="t" r="r" b="b"/>
              <a:pathLst>
                <a:path w="1662" h="1620">
                  <a:moveTo>
                    <a:pt x="126" y="356"/>
                  </a:moveTo>
                  <a:lnTo>
                    <a:pt x="128" y="334"/>
                  </a:lnTo>
                  <a:lnTo>
                    <a:pt x="120" y="258"/>
                  </a:lnTo>
                  <a:lnTo>
                    <a:pt x="124" y="230"/>
                  </a:lnTo>
                  <a:lnTo>
                    <a:pt x="130" y="216"/>
                  </a:lnTo>
                  <a:lnTo>
                    <a:pt x="140" y="204"/>
                  </a:lnTo>
                  <a:lnTo>
                    <a:pt x="158" y="192"/>
                  </a:lnTo>
                  <a:lnTo>
                    <a:pt x="174" y="174"/>
                  </a:lnTo>
                  <a:lnTo>
                    <a:pt x="190" y="132"/>
                  </a:lnTo>
                  <a:lnTo>
                    <a:pt x="198" y="76"/>
                  </a:lnTo>
                  <a:lnTo>
                    <a:pt x="202" y="66"/>
                  </a:lnTo>
                  <a:lnTo>
                    <a:pt x="244" y="30"/>
                  </a:lnTo>
                  <a:lnTo>
                    <a:pt x="294" y="14"/>
                  </a:lnTo>
                  <a:lnTo>
                    <a:pt x="338" y="16"/>
                  </a:lnTo>
                  <a:lnTo>
                    <a:pt x="356" y="12"/>
                  </a:lnTo>
                  <a:lnTo>
                    <a:pt x="378" y="4"/>
                  </a:lnTo>
                  <a:lnTo>
                    <a:pt x="414" y="6"/>
                  </a:lnTo>
                  <a:lnTo>
                    <a:pt x="512" y="62"/>
                  </a:lnTo>
                  <a:lnTo>
                    <a:pt x="572" y="124"/>
                  </a:lnTo>
                  <a:lnTo>
                    <a:pt x="588" y="140"/>
                  </a:lnTo>
                  <a:lnTo>
                    <a:pt x="600" y="146"/>
                  </a:lnTo>
                  <a:lnTo>
                    <a:pt x="622" y="146"/>
                  </a:lnTo>
                  <a:lnTo>
                    <a:pt x="640" y="118"/>
                  </a:lnTo>
                  <a:lnTo>
                    <a:pt x="682" y="92"/>
                  </a:lnTo>
                  <a:lnTo>
                    <a:pt x="706" y="84"/>
                  </a:lnTo>
                  <a:lnTo>
                    <a:pt x="738" y="84"/>
                  </a:lnTo>
                  <a:lnTo>
                    <a:pt x="782" y="112"/>
                  </a:lnTo>
                  <a:lnTo>
                    <a:pt x="844" y="156"/>
                  </a:lnTo>
                  <a:lnTo>
                    <a:pt x="874" y="166"/>
                  </a:lnTo>
                  <a:lnTo>
                    <a:pt x="936" y="176"/>
                  </a:lnTo>
                  <a:lnTo>
                    <a:pt x="968" y="170"/>
                  </a:lnTo>
                  <a:lnTo>
                    <a:pt x="1006" y="142"/>
                  </a:lnTo>
                  <a:lnTo>
                    <a:pt x="1050" y="100"/>
                  </a:lnTo>
                  <a:lnTo>
                    <a:pt x="1072" y="84"/>
                  </a:lnTo>
                  <a:lnTo>
                    <a:pt x="1136" y="82"/>
                  </a:lnTo>
                  <a:lnTo>
                    <a:pt x="1186" y="88"/>
                  </a:lnTo>
                  <a:lnTo>
                    <a:pt x="1212" y="78"/>
                  </a:lnTo>
                  <a:lnTo>
                    <a:pt x="1262" y="72"/>
                  </a:lnTo>
                  <a:lnTo>
                    <a:pt x="1280" y="78"/>
                  </a:lnTo>
                  <a:lnTo>
                    <a:pt x="1298" y="92"/>
                  </a:lnTo>
                  <a:lnTo>
                    <a:pt x="1320" y="98"/>
                  </a:lnTo>
                  <a:lnTo>
                    <a:pt x="1336" y="110"/>
                  </a:lnTo>
                  <a:lnTo>
                    <a:pt x="1364" y="108"/>
                  </a:lnTo>
                  <a:lnTo>
                    <a:pt x="1380" y="96"/>
                  </a:lnTo>
                  <a:lnTo>
                    <a:pt x="1404" y="68"/>
                  </a:lnTo>
                  <a:lnTo>
                    <a:pt x="1406" y="62"/>
                  </a:lnTo>
                  <a:lnTo>
                    <a:pt x="1420" y="50"/>
                  </a:lnTo>
                  <a:lnTo>
                    <a:pt x="1438" y="44"/>
                  </a:lnTo>
                  <a:lnTo>
                    <a:pt x="1456" y="46"/>
                  </a:lnTo>
                  <a:lnTo>
                    <a:pt x="1470" y="10"/>
                  </a:lnTo>
                  <a:lnTo>
                    <a:pt x="1474" y="10"/>
                  </a:lnTo>
                  <a:lnTo>
                    <a:pt x="1480" y="0"/>
                  </a:lnTo>
                  <a:lnTo>
                    <a:pt x="1490" y="36"/>
                  </a:lnTo>
                  <a:lnTo>
                    <a:pt x="1498" y="58"/>
                  </a:lnTo>
                  <a:lnTo>
                    <a:pt x="1518" y="90"/>
                  </a:lnTo>
                  <a:lnTo>
                    <a:pt x="1548" y="108"/>
                  </a:lnTo>
                  <a:lnTo>
                    <a:pt x="1562" y="132"/>
                  </a:lnTo>
                  <a:lnTo>
                    <a:pt x="1584" y="198"/>
                  </a:lnTo>
                  <a:lnTo>
                    <a:pt x="1612" y="220"/>
                  </a:lnTo>
                  <a:lnTo>
                    <a:pt x="1614" y="230"/>
                  </a:lnTo>
                  <a:lnTo>
                    <a:pt x="1642" y="240"/>
                  </a:lnTo>
                  <a:lnTo>
                    <a:pt x="1646" y="244"/>
                  </a:lnTo>
                  <a:lnTo>
                    <a:pt x="1652" y="250"/>
                  </a:lnTo>
                  <a:lnTo>
                    <a:pt x="1658" y="268"/>
                  </a:lnTo>
                  <a:lnTo>
                    <a:pt x="1658" y="320"/>
                  </a:lnTo>
                  <a:lnTo>
                    <a:pt x="1662" y="360"/>
                  </a:lnTo>
                  <a:lnTo>
                    <a:pt x="1614" y="398"/>
                  </a:lnTo>
                  <a:lnTo>
                    <a:pt x="1608" y="408"/>
                  </a:lnTo>
                  <a:lnTo>
                    <a:pt x="1566" y="424"/>
                  </a:lnTo>
                  <a:lnTo>
                    <a:pt x="1556" y="432"/>
                  </a:lnTo>
                  <a:lnTo>
                    <a:pt x="1534" y="460"/>
                  </a:lnTo>
                  <a:lnTo>
                    <a:pt x="1524" y="478"/>
                  </a:lnTo>
                  <a:lnTo>
                    <a:pt x="1514" y="502"/>
                  </a:lnTo>
                  <a:lnTo>
                    <a:pt x="1496" y="574"/>
                  </a:lnTo>
                  <a:lnTo>
                    <a:pt x="1474" y="624"/>
                  </a:lnTo>
                  <a:lnTo>
                    <a:pt x="1466" y="658"/>
                  </a:lnTo>
                  <a:lnTo>
                    <a:pt x="1462" y="692"/>
                  </a:lnTo>
                  <a:lnTo>
                    <a:pt x="1440" y="778"/>
                  </a:lnTo>
                  <a:lnTo>
                    <a:pt x="1438" y="814"/>
                  </a:lnTo>
                  <a:lnTo>
                    <a:pt x="1434" y="834"/>
                  </a:lnTo>
                  <a:lnTo>
                    <a:pt x="1428" y="848"/>
                  </a:lnTo>
                  <a:lnTo>
                    <a:pt x="1388" y="868"/>
                  </a:lnTo>
                  <a:lnTo>
                    <a:pt x="1362" y="906"/>
                  </a:lnTo>
                  <a:lnTo>
                    <a:pt x="1346" y="952"/>
                  </a:lnTo>
                  <a:lnTo>
                    <a:pt x="1338" y="1002"/>
                  </a:lnTo>
                  <a:lnTo>
                    <a:pt x="1330" y="1024"/>
                  </a:lnTo>
                  <a:lnTo>
                    <a:pt x="1306" y="1092"/>
                  </a:lnTo>
                  <a:lnTo>
                    <a:pt x="1258" y="1188"/>
                  </a:lnTo>
                  <a:lnTo>
                    <a:pt x="1256" y="1212"/>
                  </a:lnTo>
                  <a:lnTo>
                    <a:pt x="1244" y="1230"/>
                  </a:lnTo>
                  <a:lnTo>
                    <a:pt x="1224" y="1242"/>
                  </a:lnTo>
                  <a:lnTo>
                    <a:pt x="1190" y="1240"/>
                  </a:lnTo>
                  <a:lnTo>
                    <a:pt x="1166" y="1218"/>
                  </a:lnTo>
                  <a:lnTo>
                    <a:pt x="1156" y="1212"/>
                  </a:lnTo>
                  <a:lnTo>
                    <a:pt x="1156" y="1204"/>
                  </a:lnTo>
                  <a:lnTo>
                    <a:pt x="1148" y="1192"/>
                  </a:lnTo>
                  <a:lnTo>
                    <a:pt x="1120" y="1162"/>
                  </a:lnTo>
                  <a:lnTo>
                    <a:pt x="1078" y="1158"/>
                  </a:lnTo>
                  <a:lnTo>
                    <a:pt x="1022" y="1172"/>
                  </a:lnTo>
                  <a:lnTo>
                    <a:pt x="982" y="1172"/>
                  </a:lnTo>
                  <a:lnTo>
                    <a:pt x="978" y="1174"/>
                  </a:lnTo>
                  <a:lnTo>
                    <a:pt x="966" y="1224"/>
                  </a:lnTo>
                  <a:lnTo>
                    <a:pt x="940" y="1240"/>
                  </a:lnTo>
                  <a:lnTo>
                    <a:pt x="920" y="1262"/>
                  </a:lnTo>
                  <a:lnTo>
                    <a:pt x="900" y="1294"/>
                  </a:lnTo>
                  <a:lnTo>
                    <a:pt x="876" y="1346"/>
                  </a:lnTo>
                  <a:lnTo>
                    <a:pt x="866" y="1394"/>
                  </a:lnTo>
                  <a:lnTo>
                    <a:pt x="864" y="1436"/>
                  </a:lnTo>
                  <a:lnTo>
                    <a:pt x="854" y="1464"/>
                  </a:lnTo>
                  <a:lnTo>
                    <a:pt x="838" y="1494"/>
                  </a:lnTo>
                  <a:lnTo>
                    <a:pt x="818" y="1512"/>
                  </a:lnTo>
                  <a:lnTo>
                    <a:pt x="818" y="1534"/>
                  </a:lnTo>
                  <a:lnTo>
                    <a:pt x="808" y="1516"/>
                  </a:lnTo>
                  <a:lnTo>
                    <a:pt x="794" y="1512"/>
                  </a:lnTo>
                  <a:lnTo>
                    <a:pt x="786" y="1538"/>
                  </a:lnTo>
                  <a:lnTo>
                    <a:pt x="782" y="1574"/>
                  </a:lnTo>
                  <a:lnTo>
                    <a:pt x="722" y="1572"/>
                  </a:lnTo>
                  <a:lnTo>
                    <a:pt x="692" y="1576"/>
                  </a:lnTo>
                  <a:lnTo>
                    <a:pt x="632" y="1546"/>
                  </a:lnTo>
                  <a:lnTo>
                    <a:pt x="622" y="1566"/>
                  </a:lnTo>
                  <a:lnTo>
                    <a:pt x="612" y="1572"/>
                  </a:lnTo>
                  <a:lnTo>
                    <a:pt x="602" y="1588"/>
                  </a:lnTo>
                  <a:lnTo>
                    <a:pt x="592" y="1592"/>
                  </a:lnTo>
                  <a:lnTo>
                    <a:pt x="586" y="1592"/>
                  </a:lnTo>
                  <a:lnTo>
                    <a:pt x="580" y="1600"/>
                  </a:lnTo>
                  <a:lnTo>
                    <a:pt x="564" y="1592"/>
                  </a:lnTo>
                  <a:lnTo>
                    <a:pt x="554" y="1598"/>
                  </a:lnTo>
                  <a:lnTo>
                    <a:pt x="550" y="1592"/>
                  </a:lnTo>
                  <a:lnTo>
                    <a:pt x="504" y="1620"/>
                  </a:lnTo>
                  <a:lnTo>
                    <a:pt x="498" y="1592"/>
                  </a:lnTo>
                  <a:lnTo>
                    <a:pt x="476" y="1594"/>
                  </a:lnTo>
                  <a:lnTo>
                    <a:pt x="472" y="1596"/>
                  </a:lnTo>
                  <a:lnTo>
                    <a:pt x="440" y="1586"/>
                  </a:lnTo>
                  <a:lnTo>
                    <a:pt x="428" y="1560"/>
                  </a:lnTo>
                  <a:lnTo>
                    <a:pt x="396" y="1522"/>
                  </a:lnTo>
                  <a:lnTo>
                    <a:pt x="382" y="1466"/>
                  </a:lnTo>
                  <a:lnTo>
                    <a:pt x="380" y="1432"/>
                  </a:lnTo>
                  <a:lnTo>
                    <a:pt x="394" y="1420"/>
                  </a:lnTo>
                  <a:lnTo>
                    <a:pt x="386" y="1420"/>
                  </a:lnTo>
                  <a:lnTo>
                    <a:pt x="366" y="1412"/>
                  </a:lnTo>
                  <a:lnTo>
                    <a:pt x="356" y="1382"/>
                  </a:lnTo>
                  <a:lnTo>
                    <a:pt x="348" y="1370"/>
                  </a:lnTo>
                  <a:lnTo>
                    <a:pt x="340" y="1352"/>
                  </a:lnTo>
                  <a:lnTo>
                    <a:pt x="330" y="1350"/>
                  </a:lnTo>
                  <a:lnTo>
                    <a:pt x="326" y="1334"/>
                  </a:lnTo>
                  <a:lnTo>
                    <a:pt x="304" y="1304"/>
                  </a:lnTo>
                  <a:lnTo>
                    <a:pt x="250" y="1268"/>
                  </a:lnTo>
                  <a:lnTo>
                    <a:pt x="226" y="1260"/>
                  </a:lnTo>
                  <a:lnTo>
                    <a:pt x="168" y="1256"/>
                  </a:lnTo>
                  <a:lnTo>
                    <a:pt x="14" y="1266"/>
                  </a:lnTo>
                  <a:lnTo>
                    <a:pt x="6" y="1258"/>
                  </a:lnTo>
                  <a:lnTo>
                    <a:pt x="0" y="1140"/>
                  </a:lnTo>
                  <a:lnTo>
                    <a:pt x="4" y="1114"/>
                  </a:lnTo>
                  <a:lnTo>
                    <a:pt x="16" y="1050"/>
                  </a:lnTo>
                  <a:lnTo>
                    <a:pt x="12" y="954"/>
                  </a:lnTo>
                  <a:lnTo>
                    <a:pt x="16" y="896"/>
                  </a:lnTo>
                  <a:lnTo>
                    <a:pt x="26" y="860"/>
                  </a:lnTo>
                  <a:lnTo>
                    <a:pt x="56" y="798"/>
                  </a:lnTo>
                  <a:lnTo>
                    <a:pt x="60" y="754"/>
                  </a:lnTo>
                  <a:lnTo>
                    <a:pt x="66" y="722"/>
                  </a:lnTo>
                  <a:lnTo>
                    <a:pt x="88" y="692"/>
                  </a:lnTo>
                  <a:lnTo>
                    <a:pt x="126" y="660"/>
                  </a:lnTo>
                  <a:lnTo>
                    <a:pt x="126" y="642"/>
                  </a:lnTo>
                  <a:lnTo>
                    <a:pt x="136" y="634"/>
                  </a:lnTo>
                  <a:lnTo>
                    <a:pt x="136" y="628"/>
                  </a:lnTo>
                  <a:lnTo>
                    <a:pt x="134" y="620"/>
                  </a:lnTo>
                  <a:lnTo>
                    <a:pt x="124" y="604"/>
                  </a:lnTo>
                  <a:lnTo>
                    <a:pt x="122" y="594"/>
                  </a:lnTo>
                  <a:lnTo>
                    <a:pt x="128" y="578"/>
                  </a:lnTo>
                  <a:lnTo>
                    <a:pt x="138" y="572"/>
                  </a:lnTo>
                  <a:lnTo>
                    <a:pt x="150" y="572"/>
                  </a:lnTo>
                  <a:lnTo>
                    <a:pt x="152" y="566"/>
                  </a:lnTo>
                  <a:lnTo>
                    <a:pt x="150" y="510"/>
                  </a:lnTo>
                  <a:lnTo>
                    <a:pt x="142" y="466"/>
                  </a:lnTo>
                  <a:lnTo>
                    <a:pt x="138" y="450"/>
                  </a:lnTo>
                  <a:lnTo>
                    <a:pt x="114" y="420"/>
                  </a:lnTo>
                  <a:lnTo>
                    <a:pt x="110" y="408"/>
                  </a:lnTo>
                  <a:lnTo>
                    <a:pt x="114" y="374"/>
                  </a:lnTo>
                  <a:lnTo>
                    <a:pt x="126" y="35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02600" y="4635360"/>
              <a:ext cx="188640" cy="253080"/>
            </a:xfrm>
            <a:custGeom>
              <a:avLst/>
              <a:gdLst/>
              <a:ahLst/>
              <a:rect l="l" t="t" r="r" b="b"/>
              <a:pathLst>
                <a:path w="1088" h="1476">
                  <a:moveTo>
                    <a:pt x="1082" y="0"/>
                  </a:moveTo>
                  <a:lnTo>
                    <a:pt x="1066" y="16"/>
                  </a:lnTo>
                  <a:lnTo>
                    <a:pt x="1028" y="36"/>
                  </a:lnTo>
                  <a:lnTo>
                    <a:pt x="984" y="48"/>
                  </a:lnTo>
                  <a:lnTo>
                    <a:pt x="942" y="28"/>
                  </a:lnTo>
                  <a:lnTo>
                    <a:pt x="896" y="0"/>
                  </a:lnTo>
                  <a:lnTo>
                    <a:pt x="846" y="8"/>
                  </a:lnTo>
                  <a:lnTo>
                    <a:pt x="784" y="54"/>
                  </a:lnTo>
                  <a:lnTo>
                    <a:pt x="740" y="102"/>
                  </a:lnTo>
                  <a:lnTo>
                    <a:pt x="718" y="142"/>
                  </a:lnTo>
                  <a:lnTo>
                    <a:pt x="712" y="178"/>
                  </a:lnTo>
                  <a:lnTo>
                    <a:pt x="720" y="312"/>
                  </a:lnTo>
                  <a:lnTo>
                    <a:pt x="712" y="342"/>
                  </a:lnTo>
                  <a:lnTo>
                    <a:pt x="700" y="352"/>
                  </a:lnTo>
                  <a:lnTo>
                    <a:pt x="638" y="294"/>
                  </a:lnTo>
                  <a:lnTo>
                    <a:pt x="612" y="296"/>
                  </a:lnTo>
                  <a:lnTo>
                    <a:pt x="576" y="282"/>
                  </a:lnTo>
                  <a:lnTo>
                    <a:pt x="538" y="278"/>
                  </a:lnTo>
                  <a:lnTo>
                    <a:pt x="508" y="258"/>
                  </a:lnTo>
                  <a:lnTo>
                    <a:pt x="312" y="258"/>
                  </a:lnTo>
                  <a:lnTo>
                    <a:pt x="294" y="302"/>
                  </a:lnTo>
                  <a:lnTo>
                    <a:pt x="292" y="360"/>
                  </a:lnTo>
                  <a:lnTo>
                    <a:pt x="294" y="418"/>
                  </a:lnTo>
                  <a:lnTo>
                    <a:pt x="316" y="432"/>
                  </a:lnTo>
                  <a:lnTo>
                    <a:pt x="358" y="360"/>
                  </a:lnTo>
                  <a:lnTo>
                    <a:pt x="434" y="382"/>
                  </a:lnTo>
                  <a:lnTo>
                    <a:pt x="462" y="418"/>
                  </a:lnTo>
                  <a:lnTo>
                    <a:pt x="464" y="486"/>
                  </a:lnTo>
                  <a:lnTo>
                    <a:pt x="418" y="578"/>
                  </a:lnTo>
                  <a:lnTo>
                    <a:pt x="414" y="628"/>
                  </a:lnTo>
                  <a:lnTo>
                    <a:pt x="426" y="670"/>
                  </a:lnTo>
                  <a:lnTo>
                    <a:pt x="454" y="758"/>
                  </a:lnTo>
                  <a:lnTo>
                    <a:pt x="452" y="806"/>
                  </a:lnTo>
                  <a:lnTo>
                    <a:pt x="442" y="848"/>
                  </a:lnTo>
                  <a:lnTo>
                    <a:pt x="434" y="962"/>
                  </a:lnTo>
                  <a:lnTo>
                    <a:pt x="422" y="1014"/>
                  </a:lnTo>
                  <a:lnTo>
                    <a:pt x="382" y="1032"/>
                  </a:lnTo>
                  <a:lnTo>
                    <a:pt x="332" y="982"/>
                  </a:lnTo>
                  <a:lnTo>
                    <a:pt x="268" y="988"/>
                  </a:lnTo>
                  <a:lnTo>
                    <a:pt x="244" y="954"/>
                  </a:lnTo>
                  <a:lnTo>
                    <a:pt x="222" y="942"/>
                  </a:lnTo>
                  <a:lnTo>
                    <a:pt x="196" y="966"/>
                  </a:lnTo>
                  <a:lnTo>
                    <a:pt x="172" y="998"/>
                  </a:lnTo>
                  <a:lnTo>
                    <a:pt x="112" y="1028"/>
                  </a:lnTo>
                  <a:lnTo>
                    <a:pt x="84" y="1052"/>
                  </a:lnTo>
                  <a:lnTo>
                    <a:pt x="72" y="1078"/>
                  </a:lnTo>
                  <a:lnTo>
                    <a:pt x="68" y="1116"/>
                  </a:lnTo>
                  <a:lnTo>
                    <a:pt x="80" y="1156"/>
                  </a:lnTo>
                  <a:lnTo>
                    <a:pt x="88" y="1200"/>
                  </a:lnTo>
                  <a:lnTo>
                    <a:pt x="80" y="1216"/>
                  </a:lnTo>
                  <a:lnTo>
                    <a:pt x="50" y="1214"/>
                  </a:lnTo>
                  <a:lnTo>
                    <a:pt x="22" y="1222"/>
                  </a:lnTo>
                  <a:lnTo>
                    <a:pt x="6" y="1246"/>
                  </a:lnTo>
                  <a:lnTo>
                    <a:pt x="0" y="1292"/>
                  </a:lnTo>
                  <a:lnTo>
                    <a:pt x="32" y="1310"/>
                  </a:lnTo>
                  <a:lnTo>
                    <a:pt x="50" y="1340"/>
                  </a:lnTo>
                  <a:lnTo>
                    <a:pt x="88" y="1382"/>
                  </a:lnTo>
                  <a:lnTo>
                    <a:pt x="102" y="1406"/>
                  </a:lnTo>
                  <a:lnTo>
                    <a:pt x="128" y="1476"/>
                  </a:lnTo>
                  <a:lnTo>
                    <a:pt x="164" y="1446"/>
                  </a:lnTo>
                  <a:lnTo>
                    <a:pt x="190" y="1428"/>
                  </a:lnTo>
                  <a:lnTo>
                    <a:pt x="208" y="1384"/>
                  </a:lnTo>
                  <a:lnTo>
                    <a:pt x="236" y="1366"/>
                  </a:lnTo>
                  <a:lnTo>
                    <a:pt x="260" y="1378"/>
                  </a:lnTo>
                  <a:lnTo>
                    <a:pt x="272" y="1412"/>
                  </a:lnTo>
                  <a:lnTo>
                    <a:pt x="314" y="1442"/>
                  </a:lnTo>
                  <a:lnTo>
                    <a:pt x="346" y="1432"/>
                  </a:lnTo>
                  <a:lnTo>
                    <a:pt x="364" y="1394"/>
                  </a:lnTo>
                  <a:lnTo>
                    <a:pt x="386" y="1376"/>
                  </a:lnTo>
                  <a:lnTo>
                    <a:pt x="422" y="1368"/>
                  </a:lnTo>
                  <a:lnTo>
                    <a:pt x="454" y="1358"/>
                  </a:lnTo>
                  <a:lnTo>
                    <a:pt x="462" y="1370"/>
                  </a:lnTo>
                  <a:lnTo>
                    <a:pt x="464" y="1426"/>
                  </a:lnTo>
                  <a:lnTo>
                    <a:pt x="492" y="1436"/>
                  </a:lnTo>
                  <a:lnTo>
                    <a:pt x="546" y="1412"/>
                  </a:lnTo>
                  <a:lnTo>
                    <a:pt x="606" y="1350"/>
                  </a:lnTo>
                  <a:lnTo>
                    <a:pt x="642" y="1328"/>
                  </a:lnTo>
                  <a:lnTo>
                    <a:pt x="682" y="1282"/>
                  </a:lnTo>
                  <a:lnTo>
                    <a:pt x="718" y="1214"/>
                  </a:lnTo>
                  <a:lnTo>
                    <a:pt x="728" y="1162"/>
                  </a:lnTo>
                  <a:lnTo>
                    <a:pt x="728" y="1102"/>
                  </a:lnTo>
                  <a:lnTo>
                    <a:pt x="736" y="1040"/>
                  </a:lnTo>
                  <a:lnTo>
                    <a:pt x="756" y="974"/>
                  </a:lnTo>
                  <a:lnTo>
                    <a:pt x="818" y="864"/>
                  </a:lnTo>
                  <a:lnTo>
                    <a:pt x="862" y="816"/>
                  </a:lnTo>
                  <a:lnTo>
                    <a:pt x="912" y="782"/>
                  </a:lnTo>
                  <a:lnTo>
                    <a:pt x="950" y="744"/>
                  </a:lnTo>
                  <a:lnTo>
                    <a:pt x="952" y="732"/>
                  </a:lnTo>
                  <a:lnTo>
                    <a:pt x="970" y="636"/>
                  </a:lnTo>
                  <a:lnTo>
                    <a:pt x="976" y="434"/>
                  </a:lnTo>
                  <a:lnTo>
                    <a:pt x="998" y="298"/>
                  </a:lnTo>
                  <a:lnTo>
                    <a:pt x="1022" y="222"/>
                  </a:lnTo>
                  <a:lnTo>
                    <a:pt x="1076" y="110"/>
                  </a:lnTo>
                  <a:lnTo>
                    <a:pt x="1088" y="52"/>
                  </a:lnTo>
                  <a:lnTo>
                    <a:pt x="108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58680" y="4677840"/>
              <a:ext cx="48240" cy="38520"/>
            </a:xfrm>
            <a:custGeom>
              <a:avLst/>
              <a:gdLst/>
              <a:ahLst/>
              <a:rect l="l" t="t" r="r" b="b"/>
              <a:pathLst>
                <a:path w="276" h="214">
                  <a:moveTo>
                    <a:pt x="276" y="0"/>
                  </a:moveTo>
                  <a:lnTo>
                    <a:pt x="172" y="0"/>
                  </a:lnTo>
                  <a:lnTo>
                    <a:pt x="64" y="8"/>
                  </a:lnTo>
                  <a:lnTo>
                    <a:pt x="52" y="12"/>
                  </a:lnTo>
                  <a:lnTo>
                    <a:pt x="52" y="40"/>
                  </a:lnTo>
                  <a:lnTo>
                    <a:pt x="34" y="80"/>
                  </a:lnTo>
                  <a:lnTo>
                    <a:pt x="28" y="116"/>
                  </a:lnTo>
                  <a:lnTo>
                    <a:pt x="0" y="168"/>
                  </a:lnTo>
                  <a:lnTo>
                    <a:pt x="36" y="194"/>
                  </a:lnTo>
                  <a:lnTo>
                    <a:pt x="38" y="202"/>
                  </a:lnTo>
                  <a:lnTo>
                    <a:pt x="30" y="214"/>
                  </a:lnTo>
                  <a:lnTo>
                    <a:pt x="30" y="210"/>
                  </a:lnTo>
                  <a:lnTo>
                    <a:pt x="92" y="192"/>
                  </a:lnTo>
                  <a:lnTo>
                    <a:pt x="276" y="188"/>
                  </a:lnTo>
                  <a:lnTo>
                    <a:pt x="272" y="178"/>
                  </a:lnTo>
                  <a:lnTo>
                    <a:pt x="264" y="118"/>
                  </a:lnTo>
                  <a:lnTo>
                    <a:pt x="262" y="44"/>
                  </a:lnTo>
                  <a:lnTo>
                    <a:pt x="27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7200" bIns="-72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22880" y="4219560"/>
              <a:ext cx="165240" cy="165240"/>
            </a:xfrm>
            <a:custGeom>
              <a:avLst/>
              <a:gdLst/>
              <a:ahLst/>
              <a:rect l="l" t="t" r="r" b="b"/>
              <a:pathLst>
                <a:path w="952" h="968">
                  <a:moveTo>
                    <a:pt x="246" y="0"/>
                  </a:moveTo>
                  <a:lnTo>
                    <a:pt x="244" y="30"/>
                  </a:lnTo>
                  <a:lnTo>
                    <a:pt x="228" y="74"/>
                  </a:lnTo>
                  <a:lnTo>
                    <a:pt x="196" y="92"/>
                  </a:lnTo>
                  <a:lnTo>
                    <a:pt x="174" y="98"/>
                  </a:lnTo>
                  <a:lnTo>
                    <a:pt x="126" y="128"/>
                  </a:lnTo>
                  <a:lnTo>
                    <a:pt x="112" y="150"/>
                  </a:lnTo>
                  <a:lnTo>
                    <a:pt x="92" y="166"/>
                  </a:lnTo>
                  <a:lnTo>
                    <a:pt x="58" y="170"/>
                  </a:lnTo>
                  <a:lnTo>
                    <a:pt x="50" y="196"/>
                  </a:lnTo>
                  <a:lnTo>
                    <a:pt x="44" y="258"/>
                  </a:lnTo>
                  <a:lnTo>
                    <a:pt x="44" y="282"/>
                  </a:lnTo>
                  <a:lnTo>
                    <a:pt x="40" y="346"/>
                  </a:lnTo>
                  <a:lnTo>
                    <a:pt x="22" y="448"/>
                  </a:lnTo>
                  <a:lnTo>
                    <a:pt x="6" y="490"/>
                  </a:lnTo>
                  <a:lnTo>
                    <a:pt x="0" y="542"/>
                  </a:lnTo>
                  <a:lnTo>
                    <a:pt x="2" y="600"/>
                  </a:lnTo>
                  <a:lnTo>
                    <a:pt x="14" y="650"/>
                  </a:lnTo>
                  <a:lnTo>
                    <a:pt x="20" y="652"/>
                  </a:lnTo>
                  <a:lnTo>
                    <a:pt x="56" y="650"/>
                  </a:lnTo>
                  <a:lnTo>
                    <a:pt x="68" y="658"/>
                  </a:lnTo>
                  <a:lnTo>
                    <a:pt x="76" y="658"/>
                  </a:lnTo>
                  <a:lnTo>
                    <a:pt x="84" y="650"/>
                  </a:lnTo>
                  <a:lnTo>
                    <a:pt x="84" y="638"/>
                  </a:lnTo>
                  <a:lnTo>
                    <a:pt x="92" y="628"/>
                  </a:lnTo>
                  <a:lnTo>
                    <a:pt x="112" y="628"/>
                  </a:lnTo>
                  <a:lnTo>
                    <a:pt x="126" y="644"/>
                  </a:lnTo>
                  <a:lnTo>
                    <a:pt x="128" y="654"/>
                  </a:lnTo>
                  <a:lnTo>
                    <a:pt x="150" y="684"/>
                  </a:lnTo>
                  <a:lnTo>
                    <a:pt x="194" y="552"/>
                  </a:lnTo>
                  <a:lnTo>
                    <a:pt x="204" y="566"/>
                  </a:lnTo>
                  <a:lnTo>
                    <a:pt x="222" y="584"/>
                  </a:lnTo>
                  <a:lnTo>
                    <a:pt x="240" y="584"/>
                  </a:lnTo>
                  <a:lnTo>
                    <a:pt x="248" y="586"/>
                  </a:lnTo>
                  <a:lnTo>
                    <a:pt x="248" y="594"/>
                  </a:lnTo>
                  <a:lnTo>
                    <a:pt x="272" y="628"/>
                  </a:lnTo>
                  <a:lnTo>
                    <a:pt x="294" y="628"/>
                  </a:lnTo>
                  <a:lnTo>
                    <a:pt x="302" y="624"/>
                  </a:lnTo>
                  <a:lnTo>
                    <a:pt x="338" y="616"/>
                  </a:lnTo>
                  <a:lnTo>
                    <a:pt x="352" y="602"/>
                  </a:lnTo>
                  <a:lnTo>
                    <a:pt x="352" y="590"/>
                  </a:lnTo>
                  <a:lnTo>
                    <a:pt x="364" y="590"/>
                  </a:lnTo>
                  <a:lnTo>
                    <a:pt x="378" y="606"/>
                  </a:lnTo>
                  <a:lnTo>
                    <a:pt x="386" y="624"/>
                  </a:lnTo>
                  <a:lnTo>
                    <a:pt x="392" y="624"/>
                  </a:lnTo>
                  <a:lnTo>
                    <a:pt x="396" y="618"/>
                  </a:lnTo>
                  <a:lnTo>
                    <a:pt x="414" y="616"/>
                  </a:lnTo>
                  <a:lnTo>
                    <a:pt x="426" y="602"/>
                  </a:lnTo>
                  <a:lnTo>
                    <a:pt x="434" y="604"/>
                  </a:lnTo>
                  <a:lnTo>
                    <a:pt x="448" y="614"/>
                  </a:lnTo>
                  <a:lnTo>
                    <a:pt x="472" y="616"/>
                  </a:lnTo>
                  <a:lnTo>
                    <a:pt x="480" y="626"/>
                  </a:lnTo>
                  <a:lnTo>
                    <a:pt x="488" y="626"/>
                  </a:lnTo>
                  <a:lnTo>
                    <a:pt x="492" y="620"/>
                  </a:lnTo>
                  <a:lnTo>
                    <a:pt x="524" y="620"/>
                  </a:lnTo>
                  <a:lnTo>
                    <a:pt x="558" y="650"/>
                  </a:lnTo>
                  <a:lnTo>
                    <a:pt x="586" y="666"/>
                  </a:lnTo>
                  <a:lnTo>
                    <a:pt x="604" y="668"/>
                  </a:lnTo>
                  <a:lnTo>
                    <a:pt x="638" y="704"/>
                  </a:lnTo>
                  <a:lnTo>
                    <a:pt x="660" y="734"/>
                  </a:lnTo>
                  <a:lnTo>
                    <a:pt x="674" y="762"/>
                  </a:lnTo>
                  <a:lnTo>
                    <a:pt x="720" y="798"/>
                  </a:lnTo>
                  <a:lnTo>
                    <a:pt x="754" y="826"/>
                  </a:lnTo>
                  <a:lnTo>
                    <a:pt x="768" y="846"/>
                  </a:lnTo>
                  <a:lnTo>
                    <a:pt x="778" y="874"/>
                  </a:lnTo>
                  <a:lnTo>
                    <a:pt x="790" y="894"/>
                  </a:lnTo>
                  <a:lnTo>
                    <a:pt x="810" y="904"/>
                  </a:lnTo>
                  <a:lnTo>
                    <a:pt x="832" y="922"/>
                  </a:lnTo>
                  <a:lnTo>
                    <a:pt x="842" y="946"/>
                  </a:lnTo>
                  <a:lnTo>
                    <a:pt x="860" y="968"/>
                  </a:lnTo>
                  <a:lnTo>
                    <a:pt x="872" y="948"/>
                  </a:lnTo>
                  <a:lnTo>
                    <a:pt x="910" y="928"/>
                  </a:lnTo>
                  <a:lnTo>
                    <a:pt x="952" y="892"/>
                  </a:lnTo>
                  <a:lnTo>
                    <a:pt x="940" y="876"/>
                  </a:lnTo>
                  <a:lnTo>
                    <a:pt x="924" y="882"/>
                  </a:lnTo>
                  <a:lnTo>
                    <a:pt x="908" y="874"/>
                  </a:lnTo>
                  <a:lnTo>
                    <a:pt x="902" y="864"/>
                  </a:lnTo>
                  <a:lnTo>
                    <a:pt x="896" y="842"/>
                  </a:lnTo>
                  <a:lnTo>
                    <a:pt x="892" y="838"/>
                  </a:lnTo>
                  <a:lnTo>
                    <a:pt x="870" y="834"/>
                  </a:lnTo>
                  <a:lnTo>
                    <a:pt x="858" y="826"/>
                  </a:lnTo>
                  <a:lnTo>
                    <a:pt x="854" y="816"/>
                  </a:lnTo>
                  <a:lnTo>
                    <a:pt x="844" y="786"/>
                  </a:lnTo>
                  <a:lnTo>
                    <a:pt x="836" y="776"/>
                  </a:lnTo>
                  <a:lnTo>
                    <a:pt x="832" y="766"/>
                  </a:lnTo>
                  <a:lnTo>
                    <a:pt x="816" y="762"/>
                  </a:lnTo>
                  <a:lnTo>
                    <a:pt x="806" y="752"/>
                  </a:lnTo>
                  <a:lnTo>
                    <a:pt x="790" y="722"/>
                  </a:lnTo>
                  <a:lnTo>
                    <a:pt x="786" y="716"/>
                  </a:lnTo>
                  <a:lnTo>
                    <a:pt x="774" y="720"/>
                  </a:lnTo>
                  <a:lnTo>
                    <a:pt x="764" y="710"/>
                  </a:lnTo>
                  <a:lnTo>
                    <a:pt x="756" y="712"/>
                  </a:lnTo>
                  <a:lnTo>
                    <a:pt x="750" y="706"/>
                  </a:lnTo>
                  <a:lnTo>
                    <a:pt x="748" y="690"/>
                  </a:lnTo>
                  <a:lnTo>
                    <a:pt x="726" y="664"/>
                  </a:lnTo>
                  <a:lnTo>
                    <a:pt x="684" y="598"/>
                  </a:lnTo>
                  <a:lnTo>
                    <a:pt x="664" y="584"/>
                  </a:lnTo>
                  <a:lnTo>
                    <a:pt x="636" y="584"/>
                  </a:lnTo>
                  <a:lnTo>
                    <a:pt x="622" y="574"/>
                  </a:lnTo>
                  <a:lnTo>
                    <a:pt x="610" y="572"/>
                  </a:lnTo>
                  <a:lnTo>
                    <a:pt x="600" y="562"/>
                  </a:lnTo>
                  <a:lnTo>
                    <a:pt x="590" y="540"/>
                  </a:lnTo>
                  <a:lnTo>
                    <a:pt x="582" y="532"/>
                  </a:lnTo>
                  <a:lnTo>
                    <a:pt x="568" y="528"/>
                  </a:lnTo>
                  <a:lnTo>
                    <a:pt x="554" y="526"/>
                  </a:lnTo>
                  <a:lnTo>
                    <a:pt x="546" y="536"/>
                  </a:lnTo>
                  <a:lnTo>
                    <a:pt x="540" y="538"/>
                  </a:lnTo>
                  <a:lnTo>
                    <a:pt x="528" y="534"/>
                  </a:lnTo>
                  <a:lnTo>
                    <a:pt x="512" y="506"/>
                  </a:lnTo>
                  <a:lnTo>
                    <a:pt x="500" y="492"/>
                  </a:lnTo>
                  <a:lnTo>
                    <a:pt x="498" y="480"/>
                  </a:lnTo>
                  <a:lnTo>
                    <a:pt x="504" y="468"/>
                  </a:lnTo>
                  <a:lnTo>
                    <a:pt x="500" y="458"/>
                  </a:lnTo>
                  <a:lnTo>
                    <a:pt x="488" y="456"/>
                  </a:lnTo>
                  <a:lnTo>
                    <a:pt x="480" y="444"/>
                  </a:lnTo>
                  <a:lnTo>
                    <a:pt x="468" y="448"/>
                  </a:lnTo>
                  <a:lnTo>
                    <a:pt x="464" y="456"/>
                  </a:lnTo>
                  <a:lnTo>
                    <a:pt x="466" y="470"/>
                  </a:lnTo>
                  <a:lnTo>
                    <a:pt x="476" y="482"/>
                  </a:lnTo>
                  <a:lnTo>
                    <a:pt x="474" y="498"/>
                  </a:lnTo>
                  <a:lnTo>
                    <a:pt x="466" y="500"/>
                  </a:lnTo>
                  <a:lnTo>
                    <a:pt x="452" y="494"/>
                  </a:lnTo>
                  <a:lnTo>
                    <a:pt x="450" y="486"/>
                  </a:lnTo>
                  <a:lnTo>
                    <a:pt x="450" y="472"/>
                  </a:lnTo>
                  <a:lnTo>
                    <a:pt x="442" y="462"/>
                  </a:lnTo>
                  <a:lnTo>
                    <a:pt x="434" y="430"/>
                  </a:lnTo>
                  <a:lnTo>
                    <a:pt x="430" y="428"/>
                  </a:lnTo>
                  <a:lnTo>
                    <a:pt x="418" y="424"/>
                  </a:lnTo>
                  <a:lnTo>
                    <a:pt x="410" y="418"/>
                  </a:lnTo>
                  <a:lnTo>
                    <a:pt x="410" y="410"/>
                  </a:lnTo>
                  <a:lnTo>
                    <a:pt x="404" y="404"/>
                  </a:lnTo>
                  <a:lnTo>
                    <a:pt x="402" y="384"/>
                  </a:lnTo>
                  <a:lnTo>
                    <a:pt x="386" y="372"/>
                  </a:lnTo>
                  <a:lnTo>
                    <a:pt x="374" y="356"/>
                  </a:lnTo>
                  <a:lnTo>
                    <a:pt x="360" y="308"/>
                  </a:lnTo>
                  <a:lnTo>
                    <a:pt x="356" y="280"/>
                  </a:lnTo>
                  <a:lnTo>
                    <a:pt x="346" y="250"/>
                  </a:lnTo>
                  <a:lnTo>
                    <a:pt x="338" y="204"/>
                  </a:lnTo>
                  <a:lnTo>
                    <a:pt x="332" y="188"/>
                  </a:lnTo>
                  <a:lnTo>
                    <a:pt x="320" y="146"/>
                  </a:lnTo>
                  <a:lnTo>
                    <a:pt x="314" y="114"/>
                  </a:lnTo>
                  <a:lnTo>
                    <a:pt x="306" y="92"/>
                  </a:lnTo>
                  <a:lnTo>
                    <a:pt x="292" y="64"/>
                  </a:lnTo>
                  <a:lnTo>
                    <a:pt x="280" y="48"/>
                  </a:lnTo>
                  <a:lnTo>
                    <a:pt x="270" y="24"/>
                  </a:lnTo>
                  <a:lnTo>
                    <a:pt x="260" y="6"/>
                  </a:lnTo>
                  <a:lnTo>
                    <a:pt x="256" y="0"/>
                  </a:lnTo>
                  <a:lnTo>
                    <a:pt x="24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52600" y="4810320"/>
              <a:ext cx="42120" cy="59760"/>
            </a:xfrm>
            <a:custGeom>
              <a:avLst/>
              <a:gdLst/>
              <a:ahLst/>
              <a:rect l="l" t="t" r="r" b="b"/>
              <a:pathLst>
                <a:path w="240" h="354">
                  <a:moveTo>
                    <a:pt x="218" y="14"/>
                  </a:moveTo>
                  <a:lnTo>
                    <a:pt x="210" y="6"/>
                  </a:lnTo>
                  <a:lnTo>
                    <a:pt x="198" y="2"/>
                  </a:lnTo>
                  <a:lnTo>
                    <a:pt x="198" y="0"/>
                  </a:lnTo>
                  <a:lnTo>
                    <a:pt x="186" y="0"/>
                  </a:lnTo>
                  <a:lnTo>
                    <a:pt x="152" y="12"/>
                  </a:lnTo>
                  <a:lnTo>
                    <a:pt x="126" y="10"/>
                  </a:lnTo>
                  <a:lnTo>
                    <a:pt x="120" y="18"/>
                  </a:lnTo>
                  <a:lnTo>
                    <a:pt x="118" y="28"/>
                  </a:lnTo>
                  <a:lnTo>
                    <a:pt x="116" y="54"/>
                  </a:lnTo>
                  <a:lnTo>
                    <a:pt x="106" y="66"/>
                  </a:lnTo>
                  <a:lnTo>
                    <a:pt x="86" y="68"/>
                  </a:lnTo>
                  <a:lnTo>
                    <a:pt x="72" y="76"/>
                  </a:lnTo>
                  <a:lnTo>
                    <a:pt x="56" y="78"/>
                  </a:lnTo>
                  <a:lnTo>
                    <a:pt x="50" y="76"/>
                  </a:lnTo>
                  <a:lnTo>
                    <a:pt x="40" y="48"/>
                  </a:lnTo>
                  <a:lnTo>
                    <a:pt x="32" y="32"/>
                  </a:lnTo>
                  <a:lnTo>
                    <a:pt x="28" y="30"/>
                  </a:lnTo>
                  <a:lnTo>
                    <a:pt x="16" y="30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0" y="66"/>
                  </a:lnTo>
                  <a:lnTo>
                    <a:pt x="14" y="86"/>
                  </a:lnTo>
                  <a:lnTo>
                    <a:pt x="20" y="104"/>
                  </a:lnTo>
                  <a:lnTo>
                    <a:pt x="26" y="178"/>
                  </a:lnTo>
                  <a:lnTo>
                    <a:pt x="34" y="190"/>
                  </a:lnTo>
                  <a:lnTo>
                    <a:pt x="38" y="212"/>
                  </a:lnTo>
                  <a:lnTo>
                    <a:pt x="40" y="244"/>
                  </a:lnTo>
                  <a:lnTo>
                    <a:pt x="40" y="282"/>
                  </a:lnTo>
                  <a:lnTo>
                    <a:pt x="44" y="310"/>
                  </a:lnTo>
                  <a:lnTo>
                    <a:pt x="56" y="336"/>
                  </a:lnTo>
                  <a:lnTo>
                    <a:pt x="72" y="354"/>
                  </a:lnTo>
                  <a:lnTo>
                    <a:pt x="80" y="348"/>
                  </a:lnTo>
                  <a:lnTo>
                    <a:pt x="108" y="344"/>
                  </a:lnTo>
                  <a:lnTo>
                    <a:pt x="144" y="326"/>
                  </a:lnTo>
                  <a:lnTo>
                    <a:pt x="176" y="266"/>
                  </a:lnTo>
                  <a:lnTo>
                    <a:pt x="190" y="246"/>
                  </a:lnTo>
                  <a:lnTo>
                    <a:pt x="204" y="204"/>
                  </a:lnTo>
                  <a:lnTo>
                    <a:pt x="232" y="170"/>
                  </a:lnTo>
                  <a:lnTo>
                    <a:pt x="240" y="150"/>
                  </a:lnTo>
                  <a:lnTo>
                    <a:pt x="240" y="124"/>
                  </a:lnTo>
                  <a:lnTo>
                    <a:pt x="234" y="104"/>
                  </a:lnTo>
                  <a:lnTo>
                    <a:pt x="226" y="96"/>
                  </a:lnTo>
                  <a:lnTo>
                    <a:pt x="210" y="92"/>
                  </a:lnTo>
                  <a:lnTo>
                    <a:pt x="202" y="80"/>
                  </a:lnTo>
                  <a:lnTo>
                    <a:pt x="200" y="68"/>
                  </a:lnTo>
                  <a:lnTo>
                    <a:pt x="200" y="50"/>
                  </a:lnTo>
                  <a:lnTo>
                    <a:pt x="204" y="30"/>
                  </a:lnTo>
                  <a:lnTo>
                    <a:pt x="218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35400" y="5015520"/>
              <a:ext cx="74520" cy="220680"/>
            </a:xfrm>
            <a:custGeom>
              <a:avLst/>
              <a:gdLst/>
              <a:ahLst/>
              <a:rect l="l" t="t" r="r" b="b"/>
              <a:pathLst>
                <a:path w="438" h="1302">
                  <a:moveTo>
                    <a:pt x="190" y="50"/>
                  </a:moveTo>
                  <a:lnTo>
                    <a:pt x="186" y="40"/>
                  </a:lnTo>
                  <a:lnTo>
                    <a:pt x="182" y="34"/>
                  </a:lnTo>
                  <a:lnTo>
                    <a:pt x="176" y="28"/>
                  </a:lnTo>
                  <a:lnTo>
                    <a:pt x="166" y="28"/>
                  </a:lnTo>
                  <a:lnTo>
                    <a:pt x="134" y="40"/>
                  </a:lnTo>
                  <a:lnTo>
                    <a:pt x="128" y="34"/>
                  </a:lnTo>
                  <a:lnTo>
                    <a:pt x="118" y="18"/>
                  </a:lnTo>
                  <a:lnTo>
                    <a:pt x="92" y="20"/>
                  </a:lnTo>
                  <a:lnTo>
                    <a:pt x="64" y="0"/>
                  </a:lnTo>
                  <a:lnTo>
                    <a:pt x="60" y="4"/>
                  </a:lnTo>
                  <a:lnTo>
                    <a:pt x="58" y="20"/>
                  </a:lnTo>
                  <a:lnTo>
                    <a:pt x="64" y="26"/>
                  </a:lnTo>
                  <a:lnTo>
                    <a:pt x="68" y="44"/>
                  </a:lnTo>
                  <a:lnTo>
                    <a:pt x="92" y="44"/>
                  </a:lnTo>
                  <a:lnTo>
                    <a:pt x="108" y="70"/>
                  </a:lnTo>
                  <a:lnTo>
                    <a:pt x="112" y="86"/>
                  </a:lnTo>
                  <a:lnTo>
                    <a:pt x="118" y="118"/>
                  </a:lnTo>
                  <a:lnTo>
                    <a:pt x="134" y="134"/>
                  </a:lnTo>
                  <a:lnTo>
                    <a:pt x="140" y="190"/>
                  </a:lnTo>
                  <a:lnTo>
                    <a:pt x="150" y="200"/>
                  </a:lnTo>
                  <a:lnTo>
                    <a:pt x="152" y="216"/>
                  </a:lnTo>
                  <a:lnTo>
                    <a:pt x="150" y="228"/>
                  </a:lnTo>
                  <a:lnTo>
                    <a:pt x="128" y="244"/>
                  </a:lnTo>
                  <a:lnTo>
                    <a:pt x="122" y="246"/>
                  </a:lnTo>
                  <a:lnTo>
                    <a:pt x="112" y="254"/>
                  </a:lnTo>
                  <a:lnTo>
                    <a:pt x="108" y="282"/>
                  </a:lnTo>
                  <a:lnTo>
                    <a:pt x="108" y="308"/>
                  </a:lnTo>
                  <a:lnTo>
                    <a:pt x="92" y="362"/>
                  </a:lnTo>
                  <a:lnTo>
                    <a:pt x="94" y="386"/>
                  </a:lnTo>
                  <a:lnTo>
                    <a:pt x="94" y="428"/>
                  </a:lnTo>
                  <a:lnTo>
                    <a:pt x="86" y="474"/>
                  </a:lnTo>
                  <a:lnTo>
                    <a:pt x="88" y="482"/>
                  </a:lnTo>
                  <a:lnTo>
                    <a:pt x="98" y="496"/>
                  </a:lnTo>
                  <a:lnTo>
                    <a:pt x="110" y="502"/>
                  </a:lnTo>
                  <a:lnTo>
                    <a:pt x="114" y="522"/>
                  </a:lnTo>
                  <a:lnTo>
                    <a:pt x="108" y="530"/>
                  </a:lnTo>
                  <a:lnTo>
                    <a:pt x="84" y="534"/>
                  </a:lnTo>
                  <a:lnTo>
                    <a:pt x="68" y="548"/>
                  </a:lnTo>
                  <a:lnTo>
                    <a:pt x="54" y="552"/>
                  </a:lnTo>
                  <a:lnTo>
                    <a:pt x="50" y="556"/>
                  </a:lnTo>
                  <a:lnTo>
                    <a:pt x="42" y="600"/>
                  </a:lnTo>
                  <a:lnTo>
                    <a:pt x="38" y="644"/>
                  </a:lnTo>
                  <a:lnTo>
                    <a:pt x="22" y="688"/>
                  </a:lnTo>
                  <a:lnTo>
                    <a:pt x="4" y="712"/>
                  </a:lnTo>
                  <a:lnTo>
                    <a:pt x="0" y="722"/>
                  </a:lnTo>
                  <a:lnTo>
                    <a:pt x="4" y="748"/>
                  </a:lnTo>
                  <a:lnTo>
                    <a:pt x="18" y="754"/>
                  </a:lnTo>
                  <a:lnTo>
                    <a:pt x="24" y="774"/>
                  </a:lnTo>
                  <a:lnTo>
                    <a:pt x="46" y="772"/>
                  </a:lnTo>
                  <a:lnTo>
                    <a:pt x="52" y="778"/>
                  </a:lnTo>
                  <a:lnTo>
                    <a:pt x="54" y="782"/>
                  </a:lnTo>
                  <a:lnTo>
                    <a:pt x="58" y="788"/>
                  </a:lnTo>
                  <a:lnTo>
                    <a:pt x="72" y="798"/>
                  </a:lnTo>
                  <a:lnTo>
                    <a:pt x="90" y="844"/>
                  </a:lnTo>
                  <a:lnTo>
                    <a:pt x="114" y="874"/>
                  </a:lnTo>
                  <a:lnTo>
                    <a:pt x="124" y="876"/>
                  </a:lnTo>
                  <a:lnTo>
                    <a:pt x="144" y="868"/>
                  </a:lnTo>
                  <a:lnTo>
                    <a:pt x="222" y="856"/>
                  </a:lnTo>
                  <a:lnTo>
                    <a:pt x="232" y="860"/>
                  </a:lnTo>
                  <a:lnTo>
                    <a:pt x="240" y="876"/>
                  </a:lnTo>
                  <a:lnTo>
                    <a:pt x="248" y="916"/>
                  </a:lnTo>
                  <a:lnTo>
                    <a:pt x="250" y="940"/>
                  </a:lnTo>
                  <a:lnTo>
                    <a:pt x="248" y="994"/>
                  </a:lnTo>
                  <a:lnTo>
                    <a:pt x="240" y="1014"/>
                  </a:lnTo>
                  <a:lnTo>
                    <a:pt x="224" y="1036"/>
                  </a:lnTo>
                  <a:lnTo>
                    <a:pt x="226" y="1056"/>
                  </a:lnTo>
                  <a:lnTo>
                    <a:pt x="210" y="1070"/>
                  </a:lnTo>
                  <a:lnTo>
                    <a:pt x="200" y="1102"/>
                  </a:lnTo>
                  <a:lnTo>
                    <a:pt x="208" y="1114"/>
                  </a:lnTo>
                  <a:lnTo>
                    <a:pt x="218" y="1162"/>
                  </a:lnTo>
                  <a:lnTo>
                    <a:pt x="226" y="1172"/>
                  </a:lnTo>
                  <a:lnTo>
                    <a:pt x="234" y="1176"/>
                  </a:lnTo>
                  <a:lnTo>
                    <a:pt x="240" y="1194"/>
                  </a:lnTo>
                  <a:lnTo>
                    <a:pt x="262" y="1220"/>
                  </a:lnTo>
                  <a:lnTo>
                    <a:pt x="272" y="1238"/>
                  </a:lnTo>
                  <a:lnTo>
                    <a:pt x="282" y="1246"/>
                  </a:lnTo>
                  <a:lnTo>
                    <a:pt x="300" y="1252"/>
                  </a:lnTo>
                  <a:lnTo>
                    <a:pt x="308" y="1266"/>
                  </a:lnTo>
                  <a:lnTo>
                    <a:pt x="308" y="1278"/>
                  </a:lnTo>
                  <a:lnTo>
                    <a:pt x="296" y="1296"/>
                  </a:lnTo>
                  <a:lnTo>
                    <a:pt x="298" y="1300"/>
                  </a:lnTo>
                  <a:lnTo>
                    <a:pt x="328" y="1302"/>
                  </a:lnTo>
                  <a:lnTo>
                    <a:pt x="332" y="1298"/>
                  </a:lnTo>
                  <a:lnTo>
                    <a:pt x="330" y="1270"/>
                  </a:lnTo>
                  <a:lnTo>
                    <a:pt x="336" y="1250"/>
                  </a:lnTo>
                  <a:lnTo>
                    <a:pt x="330" y="1234"/>
                  </a:lnTo>
                  <a:lnTo>
                    <a:pt x="322" y="1226"/>
                  </a:lnTo>
                  <a:lnTo>
                    <a:pt x="322" y="1206"/>
                  </a:lnTo>
                  <a:lnTo>
                    <a:pt x="332" y="1186"/>
                  </a:lnTo>
                  <a:lnTo>
                    <a:pt x="332" y="1174"/>
                  </a:lnTo>
                  <a:lnTo>
                    <a:pt x="338" y="1162"/>
                  </a:lnTo>
                  <a:lnTo>
                    <a:pt x="370" y="1142"/>
                  </a:lnTo>
                  <a:lnTo>
                    <a:pt x="388" y="1138"/>
                  </a:lnTo>
                  <a:lnTo>
                    <a:pt x="404" y="1128"/>
                  </a:lnTo>
                  <a:lnTo>
                    <a:pt x="412" y="1112"/>
                  </a:lnTo>
                  <a:lnTo>
                    <a:pt x="420" y="1050"/>
                  </a:lnTo>
                  <a:lnTo>
                    <a:pt x="430" y="1028"/>
                  </a:lnTo>
                  <a:lnTo>
                    <a:pt x="420" y="984"/>
                  </a:lnTo>
                  <a:lnTo>
                    <a:pt x="434" y="954"/>
                  </a:lnTo>
                  <a:lnTo>
                    <a:pt x="438" y="934"/>
                  </a:lnTo>
                  <a:lnTo>
                    <a:pt x="434" y="894"/>
                  </a:lnTo>
                  <a:lnTo>
                    <a:pt x="424" y="874"/>
                  </a:lnTo>
                  <a:lnTo>
                    <a:pt x="392" y="836"/>
                  </a:lnTo>
                  <a:lnTo>
                    <a:pt x="376" y="804"/>
                  </a:lnTo>
                  <a:lnTo>
                    <a:pt x="340" y="752"/>
                  </a:lnTo>
                  <a:lnTo>
                    <a:pt x="318" y="728"/>
                  </a:lnTo>
                  <a:lnTo>
                    <a:pt x="300" y="698"/>
                  </a:lnTo>
                  <a:lnTo>
                    <a:pt x="298" y="702"/>
                  </a:lnTo>
                  <a:lnTo>
                    <a:pt x="296" y="724"/>
                  </a:lnTo>
                  <a:lnTo>
                    <a:pt x="298" y="736"/>
                  </a:lnTo>
                  <a:lnTo>
                    <a:pt x="302" y="742"/>
                  </a:lnTo>
                  <a:lnTo>
                    <a:pt x="314" y="748"/>
                  </a:lnTo>
                  <a:lnTo>
                    <a:pt x="322" y="758"/>
                  </a:lnTo>
                  <a:lnTo>
                    <a:pt x="342" y="832"/>
                  </a:lnTo>
                  <a:lnTo>
                    <a:pt x="344" y="850"/>
                  </a:lnTo>
                  <a:lnTo>
                    <a:pt x="338" y="852"/>
                  </a:lnTo>
                  <a:lnTo>
                    <a:pt x="334" y="850"/>
                  </a:lnTo>
                  <a:lnTo>
                    <a:pt x="318" y="822"/>
                  </a:lnTo>
                  <a:lnTo>
                    <a:pt x="306" y="816"/>
                  </a:lnTo>
                  <a:lnTo>
                    <a:pt x="298" y="796"/>
                  </a:lnTo>
                  <a:lnTo>
                    <a:pt x="296" y="794"/>
                  </a:lnTo>
                  <a:lnTo>
                    <a:pt x="292" y="794"/>
                  </a:lnTo>
                  <a:lnTo>
                    <a:pt x="280" y="822"/>
                  </a:lnTo>
                  <a:lnTo>
                    <a:pt x="272" y="824"/>
                  </a:lnTo>
                  <a:lnTo>
                    <a:pt x="260" y="824"/>
                  </a:lnTo>
                  <a:lnTo>
                    <a:pt x="254" y="818"/>
                  </a:lnTo>
                  <a:lnTo>
                    <a:pt x="248" y="806"/>
                  </a:lnTo>
                  <a:lnTo>
                    <a:pt x="246" y="790"/>
                  </a:lnTo>
                  <a:lnTo>
                    <a:pt x="248" y="778"/>
                  </a:lnTo>
                  <a:lnTo>
                    <a:pt x="256" y="752"/>
                  </a:lnTo>
                  <a:lnTo>
                    <a:pt x="254" y="740"/>
                  </a:lnTo>
                  <a:lnTo>
                    <a:pt x="250" y="732"/>
                  </a:lnTo>
                  <a:lnTo>
                    <a:pt x="234" y="714"/>
                  </a:lnTo>
                  <a:lnTo>
                    <a:pt x="230" y="702"/>
                  </a:lnTo>
                  <a:lnTo>
                    <a:pt x="226" y="674"/>
                  </a:lnTo>
                  <a:lnTo>
                    <a:pt x="224" y="634"/>
                  </a:lnTo>
                  <a:lnTo>
                    <a:pt x="224" y="632"/>
                  </a:lnTo>
                  <a:lnTo>
                    <a:pt x="212" y="568"/>
                  </a:lnTo>
                  <a:lnTo>
                    <a:pt x="184" y="496"/>
                  </a:lnTo>
                  <a:lnTo>
                    <a:pt x="184" y="482"/>
                  </a:lnTo>
                  <a:lnTo>
                    <a:pt x="188" y="468"/>
                  </a:lnTo>
                  <a:lnTo>
                    <a:pt x="200" y="442"/>
                  </a:lnTo>
                  <a:lnTo>
                    <a:pt x="214" y="426"/>
                  </a:lnTo>
                  <a:lnTo>
                    <a:pt x="228" y="390"/>
                  </a:lnTo>
                  <a:lnTo>
                    <a:pt x="228" y="284"/>
                  </a:lnTo>
                  <a:lnTo>
                    <a:pt x="224" y="212"/>
                  </a:lnTo>
                  <a:lnTo>
                    <a:pt x="232" y="188"/>
                  </a:lnTo>
                  <a:lnTo>
                    <a:pt x="232" y="172"/>
                  </a:lnTo>
                  <a:lnTo>
                    <a:pt x="222" y="154"/>
                  </a:lnTo>
                  <a:lnTo>
                    <a:pt x="210" y="144"/>
                  </a:lnTo>
                  <a:lnTo>
                    <a:pt x="202" y="136"/>
                  </a:lnTo>
                  <a:lnTo>
                    <a:pt x="186" y="96"/>
                  </a:lnTo>
                  <a:lnTo>
                    <a:pt x="186" y="76"/>
                  </a:lnTo>
                  <a:lnTo>
                    <a:pt x="190" y="50"/>
                  </a:lnTo>
                  <a:lnTo>
                    <a:pt x="206" y="30"/>
                  </a:lnTo>
                  <a:lnTo>
                    <a:pt x="190" y="5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02360" y="3480480"/>
              <a:ext cx="162360" cy="69120"/>
            </a:xfrm>
            <a:custGeom>
              <a:avLst/>
              <a:gdLst/>
              <a:ahLst/>
              <a:rect l="l" t="t" r="r" b="b"/>
              <a:pathLst>
                <a:path w="926" h="406">
                  <a:moveTo>
                    <a:pt x="264" y="332"/>
                  </a:moveTo>
                  <a:lnTo>
                    <a:pt x="280" y="346"/>
                  </a:lnTo>
                  <a:lnTo>
                    <a:pt x="302" y="346"/>
                  </a:lnTo>
                  <a:lnTo>
                    <a:pt x="328" y="338"/>
                  </a:lnTo>
                  <a:lnTo>
                    <a:pt x="374" y="350"/>
                  </a:lnTo>
                  <a:lnTo>
                    <a:pt x="390" y="350"/>
                  </a:lnTo>
                  <a:lnTo>
                    <a:pt x="398" y="330"/>
                  </a:lnTo>
                  <a:lnTo>
                    <a:pt x="406" y="324"/>
                  </a:lnTo>
                  <a:lnTo>
                    <a:pt x="426" y="330"/>
                  </a:lnTo>
                  <a:lnTo>
                    <a:pt x="450" y="346"/>
                  </a:lnTo>
                  <a:lnTo>
                    <a:pt x="482" y="380"/>
                  </a:lnTo>
                  <a:lnTo>
                    <a:pt x="496" y="384"/>
                  </a:lnTo>
                  <a:lnTo>
                    <a:pt x="520" y="406"/>
                  </a:lnTo>
                  <a:lnTo>
                    <a:pt x="568" y="402"/>
                  </a:lnTo>
                  <a:lnTo>
                    <a:pt x="580" y="390"/>
                  </a:lnTo>
                  <a:lnTo>
                    <a:pt x="618" y="386"/>
                  </a:lnTo>
                  <a:lnTo>
                    <a:pt x="632" y="376"/>
                  </a:lnTo>
                  <a:lnTo>
                    <a:pt x="672" y="384"/>
                  </a:lnTo>
                  <a:lnTo>
                    <a:pt x="690" y="378"/>
                  </a:lnTo>
                  <a:lnTo>
                    <a:pt x="712" y="366"/>
                  </a:lnTo>
                  <a:lnTo>
                    <a:pt x="722" y="362"/>
                  </a:lnTo>
                  <a:lnTo>
                    <a:pt x="752" y="340"/>
                  </a:lnTo>
                  <a:lnTo>
                    <a:pt x="770" y="342"/>
                  </a:lnTo>
                  <a:lnTo>
                    <a:pt x="788" y="346"/>
                  </a:lnTo>
                  <a:lnTo>
                    <a:pt x="806" y="360"/>
                  </a:lnTo>
                  <a:lnTo>
                    <a:pt x="844" y="378"/>
                  </a:lnTo>
                  <a:lnTo>
                    <a:pt x="862" y="374"/>
                  </a:lnTo>
                  <a:lnTo>
                    <a:pt x="900" y="386"/>
                  </a:lnTo>
                  <a:lnTo>
                    <a:pt x="918" y="390"/>
                  </a:lnTo>
                  <a:lnTo>
                    <a:pt x="926" y="374"/>
                  </a:lnTo>
                  <a:lnTo>
                    <a:pt x="916" y="358"/>
                  </a:lnTo>
                  <a:lnTo>
                    <a:pt x="880" y="336"/>
                  </a:lnTo>
                  <a:lnTo>
                    <a:pt x="870" y="318"/>
                  </a:lnTo>
                  <a:lnTo>
                    <a:pt x="854" y="306"/>
                  </a:lnTo>
                  <a:lnTo>
                    <a:pt x="852" y="286"/>
                  </a:lnTo>
                  <a:lnTo>
                    <a:pt x="874" y="264"/>
                  </a:lnTo>
                  <a:lnTo>
                    <a:pt x="876" y="262"/>
                  </a:lnTo>
                  <a:lnTo>
                    <a:pt x="862" y="254"/>
                  </a:lnTo>
                  <a:lnTo>
                    <a:pt x="844" y="244"/>
                  </a:lnTo>
                  <a:lnTo>
                    <a:pt x="808" y="234"/>
                  </a:lnTo>
                  <a:lnTo>
                    <a:pt x="772" y="212"/>
                  </a:lnTo>
                  <a:lnTo>
                    <a:pt x="774" y="176"/>
                  </a:lnTo>
                  <a:lnTo>
                    <a:pt x="764" y="160"/>
                  </a:lnTo>
                  <a:lnTo>
                    <a:pt x="744" y="152"/>
                  </a:lnTo>
                  <a:lnTo>
                    <a:pt x="726" y="152"/>
                  </a:lnTo>
                  <a:lnTo>
                    <a:pt x="708" y="146"/>
                  </a:lnTo>
                  <a:lnTo>
                    <a:pt x="694" y="130"/>
                  </a:lnTo>
                  <a:lnTo>
                    <a:pt x="656" y="126"/>
                  </a:lnTo>
                  <a:lnTo>
                    <a:pt x="638" y="130"/>
                  </a:lnTo>
                  <a:lnTo>
                    <a:pt x="622" y="118"/>
                  </a:lnTo>
                  <a:lnTo>
                    <a:pt x="604" y="122"/>
                  </a:lnTo>
                  <a:lnTo>
                    <a:pt x="572" y="136"/>
                  </a:lnTo>
                  <a:lnTo>
                    <a:pt x="560" y="146"/>
                  </a:lnTo>
                  <a:lnTo>
                    <a:pt x="542" y="152"/>
                  </a:lnTo>
                  <a:lnTo>
                    <a:pt x="524" y="144"/>
                  </a:lnTo>
                  <a:lnTo>
                    <a:pt x="514" y="126"/>
                  </a:lnTo>
                  <a:lnTo>
                    <a:pt x="414" y="76"/>
                  </a:lnTo>
                  <a:lnTo>
                    <a:pt x="404" y="66"/>
                  </a:lnTo>
                  <a:lnTo>
                    <a:pt x="386" y="56"/>
                  </a:lnTo>
                  <a:lnTo>
                    <a:pt x="350" y="56"/>
                  </a:lnTo>
                  <a:lnTo>
                    <a:pt x="310" y="46"/>
                  </a:lnTo>
                  <a:lnTo>
                    <a:pt x="256" y="54"/>
                  </a:lnTo>
                  <a:lnTo>
                    <a:pt x="234" y="52"/>
                  </a:lnTo>
                  <a:lnTo>
                    <a:pt x="178" y="32"/>
                  </a:lnTo>
                  <a:lnTo>
                    <a:pt x="142" y="24"/>
                  </a:lnTo>
                  <a:lnTo>
                    <a:pt x="126" y="14"/>
                  </a:lnTo>
                  <a:lnTo>
                    <a:pt x="88" y="4"/>
                  </a:lnTo>
                  <a:lnTo>
                    <a:pt x="70" y="6"/>
                  </a:lnTo>
                  <a:lnTo>
                    <a:pt x="52" y="0"/>
                  </a:lnTo>
                  <a:lnTo>
                    <a:pt x="32" y="4"/>
                  </a:lnTo>
                  <a:lnTo>
                    <a:pt x="0" y="16"/>
                  </a:lnTo>
                  <a:lnTo>
                    <a:pt x="12" y="28"/>
                  </a:lnTo>
                  <a:lnTo>
                    <a:pt x="36" y="40"/>
                  </a:lnTo>
                  <a:lnTo>
                    <a:pt x="58" y="62"/>
                  </a:lnTo>
                  <a:lnTo>
                    <a:pt x="84" y="72"/>
                  </a:lnTo>
                  <a:lnTo>
                    <a:pt x="140" y="86"/>
                  </a:lnTo>
                  <a:lnTo>
                    <a:pt x="174" y="110"/>
                  </a:lnTo>
                  <a:lnTo>
                    <a:pt x="200" y="126"/>
                  </a:lnTo>
                  <a:lnTo>
                    <a:pt x="220" y="150"/>
                  </a:lnTo>
                  <a:lnTo>
                    <a:pt x="234" y="180"/>
                  </a:lnTo>
                  <a:lnTo>
                    <a:pt x="252" y="230"/>
                  </a:lnTo>
                  <a:lnTo>
                    <a:pt x="276" y="252"/>
                  </a:lnTo>
                  <a:lnTo>
                    <a:pt x="282" y="278"/>
                  </a:lnTo>
                  <a:lnTo>
                    <a:pt x="284" y="310"/>
                  </a:lnTo>
                  <a:lnTo>
                    <a:pt x="274" y="326"/>
                  </a:lnTo>
                  <a:lnTo>
                    <a:pt x="264" y="332"/>
                  </a:lnTo>
                  <a:lnTo>
                    <a:pt x="264" y="33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400" bIns="23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11200" y="3557160"/>
              <a:ext cx="7560" cy="7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8" y="44"/>
                  </a:moveTo>
                  <a:lnTo>
                    <a:pt x="42" y="28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10" y="32"/>
                  </a:lnTo>
                  <a:lnTo>
                    <a:pt x="24" y="50"/>
                  </a:lnTo>
                  <a:lnTo>
                    <a:pt x="42" y="50"/>
                  </a:lnTo>
                  <a:lnTo>
                    <a:pt x="48" y="4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25240" y="3560400"/>
              <a:ext cx="7560" cy="43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10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6" y="20"/>
                  </a:lnTo>
                  <a:lnTo>
                    <a:pt x="34" y="16"/>
                  </a:lnTo>
                  <a:lnTo>
                    <a:pt x="34" y="1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20800" y="3586320"/>
              <a:ext cx="510480" cy="418320"/>
            </a:xfrm>
            <a:custGeom>
              <a:avLst/>
              <a:gdLst/>
              <a:ahLst/>
              <a:rect l="l" t="t" r="r" b="b"/>
              <a:pathLst>
                <a:path w="2944" h="2456">
                  <a:moveTo>
                    <a:pt x="2766" y="2450"/>
                  </a:moveTo>
                  <a:lnTo>
                    <a:pt x="2760" y="2448"/>
                  </a:lnTo>
                  <a:lnTo>
                    <a:pt x="2744" y="2456"/>
                  </a:lnTo>
                  <a:lnTo>
                    <a:pt x="2706" y="2454"/>
                  </a:lnTo>
                  <a:lnTo>
                    <a:pt x="2674" y="2446"/>
                  </a:lnTo>
                  <a:lnTo>
                    <a:pt x="2628" y="2432"/>
                  </a:lnTo>
                  <a:lnTo>
                    <a:pt x="2606" y="2410"/>
                  </a:lnTo>
                  <a:lnTo>
                    <a:pt x="2592" y="2426"/>
                  </a:lnTo>
                  <a:lnTo>
                    <a:pt x="2506" y="2422"/>
                  </a:lnTo>
                  <a:lnTo>
                    <a:pt x="2458" y="2414"/>
                  </a:lnTo>
                  <a:lnTo>
                    <a:pt x="2428" y="2402"/>
                  </a:lnTo>
                  <a:lnTo>
                    <a:pt x="2416" y="2408"/>
                  </a:lnTo>
                  <a:lnTo>
                    <a:pt x="2414" y="2420"/>
                  </a:lnTo>
                  <a:lnTo>
                    <a:pt x="2380" y="2398"/>
                  </a:lnTo>
                  <a:lnTo>
                    <a:pt x="2346" y="2386"/>
                  </a:lnTo>
                  <a:lnTo>
                    <a:pt x="2302" y="2386"/>
                  </a:lnTo>
                  <a:lnTo>
                    <a:pt x="2248" y="2380"/>
                  </a:lnTo>
                  <a:lnTo>
                    <a:pt x="2220" y="2370"/>
                  </a:lnTo>
                  <a:lnTo>
                    <a:pt x="2176" y="2368"/>
                  </a:lnTo>
                  <a:lnTo>
                    <a:pt x="2148" y="2332"/>
                  </a:lnTo>
                  <a:lnTo>
                    <a:pt x="2120" y="2280"/>
                  </a:lnTo>
                  <a:lnTo>
                    <a:pt x="2098" y="2210"/>
                  </a:lnTo>
                  <a:lnTo>
                    <a:pt x="2072" y="2164"/>
                  </a:lnTo>
                  <a:lnTo>
                    <a:pt x="2030" y="2140"/>
                  </a:lnTo>
                  <a:lnTo>
                    <a:pt x="2004" y="2130"/>
                  </a:lnTo>
                  <a:lnTo>
                    <a:pt x="1984" y="2128"/>
                  </a:lnTo>
                  <a:lnTo>
                    <a:pt x="1938" y="2154"/>
                  </a:lnTo>
                  <a:lnTo>
                    <a:pt x="1892" y="2170"/>
                  </a:lnTo>
                  <a:lnTo>
                    <a:pt x="1880" y="2194"/>
                  </a:lnTo>
                  <a:lnTo>
                    <a:pt x="1860" y="2206"/>
                  </a:lnTo>
                  <a:lnTo>
                    <a:pt x="1838" y="2208"/>
                  </a:lnTo>
                  <a:lnTo>
                    <a:pt x="1800" y="2236"/>
                  </a:lnTo>
                  <a:lnTo>
                    <a:pt x="1772" y="2244"/>
                  </a:lnTo>
                  <a:lnTo>
                    <a:pt x="1736" y="2234"/>
                  </a:lnTo>
                  <a:lnTo>
                    <a:pt x="1716" y="2216"/>
                  </a:lnTo>
                  <a:lnTo>
                    <a:pt x="1678" y="2210"/>
                  </a:lnTo>
                  <a:lnTo>
                    <a:pt x="1644" y="2216"/>
                  </a:lnTo>
                  <a:lnTo>
                    <a:pt x="1626" y="2218"/>
                  </a:lnTo>
                  <a:lnTo>
                    <a:pt x="1598" y="2188"/>
                  </a:lnTo>
                  <a:lnTo>
                    <a:pt x="1608" y="2192"/>
                  </a:lnTo>
                  <a:lnTo>
                    <a:pt x="1604" y="2180"/>
                  </a:lnTo>
                  <a:lnTo>
                    <a:pt x="1584" y="2168"/>
                  </a:lnTo>
                  <a:lnTo>
                    <a:pt x="1500" y="2140"/>
                  </a:lnTo>
                  <a:lnTo>
                    <a:pt x="1474" y="2106"/>
                  </a:lnTo>
                  <a:lnTo>
                    <a:pt x="1472" y="2094"/>
                  </a:lnTo>
                  <a:lnTo>
                    <a:pt x="1446" y="2068"/>
                  </a:lnTo>
                  <a:lnTo>
                    <a:pt x="1406" y="2048"/>
                  </a:lnTo>
                  <a:lnTo>
                    <a:pt x="1372" y="2036"/>
                  </a:lnTo>
                  <a:lnTo>
                    <a:pt x="1330" y="2034"/>
                  </a:lnTo>
                  <a:lnTo>
                    <a:pt x="1306" y="2020"/>
                  </a:lnTo>
                  <a:lnTo>
                    <a:pt x="1280" y="1996"/>
                  </a:lnTo>
                  <a:lnTo>
                    <a:pt x="1254" y="1934"/>
                  </a:lnTo>
                  <a:lnTo>
                    <a:pt x="1224" y="1886"/>
                  </a:lnTo>
                  <a:lnTo>
                    <a:pt x="1208" y="1848"/>
                  </a:lnTo>
                  <a:lnTo>
                    <a:pt x="1152" y="1802"/>
                  </a:lnTo>
                  <a:lnTo>
                    <a:pt x="1134" y="1762"/>
                  </a:lnTo>
                  <a:lnTo>
                    <a:pt x="1120" y="1736"/>
                  </a:lnTo>
                  <a:lnTo>
                    <a:pt x="1098" y="1724"/>
                  </a:lnTo>
                  <a:lnTo>
                    <a:pt x="1064" y="1682"/>
                  </a:lnTo>
                  <a:lnTo>
                    <a:pt x="1058" y="1662"/>
                  </a:lnTo>
                  <a:lnTo>
                    <a:pt x="1046" y="1646"/>
                  </a:lnTo>
                  <a:lnTo>
                    <a:pt x="1032" y="1636"/>
                  </a:lnTo>
                  <a:lnTo>
                    <a:pt x="1004" y="1650"/>
                  </a:lnTo>
                  <a:lnTo>
                    <a:pt x="988" y="1670"/>
                  </a:lnTo>
                  <a:lnTo>
                    <a:pt x="982" y="1662"/>
                  </a:lnTo>
                  <a:lnTo>
                    <a:pt x="968" y="1658"/>
                  </a:lnTo>
                  <a:lnTo>
                    <a:pt x="958" y="1646"/>
                  </a:lnTo>
                  <a:lnTo>
                    <a:pt x="938" y="1634"/>
                  </a:lnTo>
                  <a:lnTo>
                    <a:pt x="924" y="1610"/>
                  </a:lnTo>
                  <a:lnTo>
                    <a:pt x="916" y="1584"/>
                  </a:lnTo>
                  <a:lnTo>
                    <a:pt x="902" y="1572"/>
                  </a:lnTo>
                  <a:lnTo>
                    <a:pt x="880" y="1568"/>
                  </a:lnTo>
                  <a:lnTo>
                    <a:pt x="870" y="1576"/>
                  </a:lnTo>
                  <a:lnTo>
                    <a:pt x="880" y="1594"/>
                  </a:lnTo>
                  <a:lnTo>
                    <a:pt x="876" y="1608"/>
                  </a:lnTo>
                  <a:lnTo>
                    <a:pt x="880" y="1628"/>
                  </a:lnTo>
                  <a:lnTo>
                    <a:pt x="860" y="1628"/>
                  </a:lnTo>
                  <a:lnTo>
                    <a:pt x="860" y="1654"/>
                  </a:lnTo>
                  <a:lnTo>
                    <a:pt x="854" y="1652"/>
                  </a:lnTo>
                  <a:lnTo>
                    <a:pt x="844" y="1644"/>
                  </a:lnTo>
                  <a:lnTo>
                    <a:pt x="788" y="1604"/>
                  </a:lnTo>
                  <a:lnTo>
                    <a:pt x="768" y="1584"/>
                  </a:lnTo>
                  <a:lnTo>
                    <a:pt x="752" y="1562"/>
                  </a:lnTo>
                  <a:lnTo>
                    <a:pt x="736" y="1510"/>
                  </a:lnTo>
                  <a:lnTo>
                    <a:pt x="700" y="1492"/>
                  </a:lnTo>
                  <a:lnTo>
                    <a:pt x="694" y="1438"/>
                  </a:lnTo>
                  <a:lnTo>
                    <a:pt x="692" y="1366"/>
                  </a:lnTo>
                  <a:lnTo>
                    <a:pt x="672" y="1330"/>
                  </a:lnTo>
                  <a:lnTo>
                    <a:pt x="646" y="1296"/>
                  </a:lnTo>
                  <a:lnTo>
                    <a:pt x="622" y="1256"/>
                  </a:lnTo>
                  <a:lnTo>
                    <a:pt x="598" y="1232"/>
                  </a:lnTo>
                  <a:lnTo>
                    <a:pt x="564" y="1224"/>
                  </a:lnTo>
                  <a:lnTo>
                    <a:pt x="536" y="1212"/>
                  </a:lnTo>
                  <a:lnTo>
                    <a:pt x="500" y="1184"/>
                  </a:lnTo>
                  <a:lnTo>
                    <a:pt x="460" y="1158"/>
                  </a:lnTo>
                  <a:lnTo>
                    <a:pt x="428" y="1140"/>
                  </a:lnTo>
                  <a:lnTo>
                    <a:pt x="422" y="1112"/>
                  </a:lnTo>
                  <a:lnTo>
                    <a:pt x="400" y="1078"/>
                  </a:lnTo>
                  <a:lnTo>
                    <a:pt x="382" y="1062"/>
                  </a:lnTo>
                  <a:lnTo>
                    <a:pt x="370" y="1042"/>
                  </a:lnTo>
                  <a:lnTo>
                    <a:pt x="348" y="1044"/>
                  </a:lnTo>
                  <a:lnTo>
                    <a:pt x="330" y="1030"/>
                  </a:lnTo>
                  <a:lnTo>
                    <a:pt x="320" y="992"/>
                  </a:lnTo>
                  <a:lnTo>
                    <a:pt x="326" y="986"/>
                  </a:lnTo>
                  <a:lnTo>
                    <a:pt x="332" y="970"/>
                  </a:lnTo>
                  <a:lnTo>
                    <a:pt x="330" y="904"/>
                  </a:lnTo>
                  <a:lnTo>
                    <a:pt x="336" y="886"/>
                  </a:lnTo>
                  <a:lnTo>
                    <a:pt x="354" y="878"/>
                  </a:lnTo>
                  <a:lnTo>
                    <a:pt x="350" y="858"/>
                  </a:lnTo>
                  <a:lnTo>
                    <a:pt x="372" y="804"/>
                  </a:lnTo>
                  <a:lnTo>
                    <a:pt x="390" y="776"/>
                  </a:lnTo>
                  <a:lnTo>
                    <a:pt x="370" y="728"/>
                  </a:lnTo>
                  <a:lnTo>
                    <a:pt x="376" y="694"/>
                  </a:lnTo>
                  <a:lnTo>
                    <a:pt x="388" y="674"/>
                  </a:lnTo>
                  <a:lnTo>
                    <a:pt x="354" y="674"/>
                  </a:lnTo>
                  <a:lnTo>
                    <a:pt x="296" y="662"/>
                  </a:lnTo>
                  <a:lnTo>
                    <a:pt x="268" y="636"/>
                  </a:lnTo>
                  <a:lnTo>
                    <a:pt x="242" y="580"/>
                  </a:lnTo>
                  <a:lnTo>
                    <a:pt x="208" y="558"/>
                  </a:lnTo>
                  <a:lnTo>
                    <a:pt x="176" y="516"/>
                  </a:lnTo>
                  <a:lnTo>
                    <a:pt x="152" y="436"/>
                  </a:lnTo>
                  <a:lnTo>
                    <a:pt x="140" y="396"/>
                  </a:lnTo>
                  <a:lnTo>
                    <a:pt x="104" y="354"/>
                  </a:lnTo>
                  <a:lnTo>
                    <a:pt x="68" y="336"/>
                  </a:lnTo>
                  <a:lnTo>
                    <a:pt x="66" y="286"/>
                  </a:lnTo>
                  <a:lnTo>
                    <a:pt x="54" y="248"/>
                  </a:lnTo>
                  <a:lnTo>
                    <a:pt x="48" y="206"/>
                  </a:lnTo>
                  <a:lnTo>
                    <a:pt x="30" y="140"/>
                  </a:lnTo>
                  <a:lnTo>
                    <a:pt x="6" y="100"/>
                  </a:lnTo>
                  <a:lnTo>
                    <a:pt x="0" y="80"/>
                  </a:lnTo>
                  <a:lnTo>
                    <a:pt x="30" y="58"/>
                  </a:lnTo>
                  <a:lnTo>
                    <a:pt x="30" y="44"/>
                  </a:lnTo>
                  <a:lnTo>
                    <a:pt x="44" y="0"/>
                  </a:lnTo>
                  <a:lnTo>
                    <a:pt x="72" y="28"/>
                  </a:lnTo>
                  <a:lnTo>
                    <a:pt x="82" y="38"/>
                  </a:lnTo>
                  <a:lnTo>
                    <a:pt x="178" y="144"/>
                  </a:lnTo>
                  <a:lnTo>
                    <a:pt x="216" y="154"/>
                  </a:lnTo>
                  <a:lnTo>
                    <a:pt x="250" y="158"/>
                  </a:lnTo>
                  <a:lnTo>
                    <a:pt x="264" y="158"/>
                  </a:lnTo>
                  <a:lnTo>
                    <a:pt x="304" y="158"/>
                  </a:lnTo>
                  <a:lnTo>
                    <a:pt x="316" y="156"/>
                  </a:lnTo>
                  <a:lnTo>
                    <a:pt x="342" y="150"/>
                  </a:lnTo>
                  <a:lnTo>
                    <a:pt x="362" y="118"/>
                  </a:lnTo>
                  <a:lnTo>
                    <a:pt x="370" y="82"/>
                  </a:lnTo>
                  <a:lnTo>
                    <a:pt x="386" y="58"/>
                  </a:lnTo>
                  <a:lnTo>
                    <a:pt x="412" y="36"/>
                  </a:lnTo>
                  <a:lnTo>
                    <a:pt x="468" y="20"/>
                  </a:lnTo>
                  <a:lnTo>
                    <a:pt x="514" y="42"/>
                  </a:lnTo>
                  <a:lnTo>
                    <a:pt x="518" y="72"/>
                  </a:lnTo>
                  <a:lnTo>
                    <a:pt x="546" y="122"/>
                  </a:lnTo>
                  <a:lnTo>
                    <a:pt x="514" y="146"/>
                  </a:lnTo>
                  <a:lnTo>
                    <a:pt x="508" y="156"/>
                  </a:lnTo>
                  <a:lnTo>
                    <a:pt x="540" y="170"/>
                  </a:lnTo>
                  <a:lnTo>
                    <a:pt x="552" y="184"/>
                  </a:lnTo>
                  <a:lnTo>
                    <a:pt x="572" y="192"/>
                  </a:lnTo>
                  <a:lnTo>
                    <a:pt x="594" y="208"/>
                  </a:lnTo>
                  <a:lnTo>
                    <a:pt x="612" y="212"/>
                  </a:lnTo>
                  <a:lnTo>
                    <a:pt x="628" y="214"/>
                  </a:lnTo>
                  <a:lnTo>
                    <a:pt x="638" y="210"/>
                  </a:lnTo>
                  <a:lnTo>
                    <a:pt x="658" y="280"/>
                  </a:lnTo>
                  <a:lnTo>
                    <a:pt x="678" y="328"/>
                  </a:lnTo>
                  <a:lnTo>
                    <a:pt x="698" y="360"/>
                  </a:lnTo>
                  <a:lnTo>
                    <a:pt x="730" y="384"/>
                  </a:lnTo>
                  <a:lnTo>
                    <a:pt x="758" y="386"/>
                  </a:lnTo>
                  <a:lnTo>
                    <a:pt x="784" y="396"/>
                  </a:lnTo>
                  <a:lnTo>
                    <a:pt x="818" y="392"/>
                  </a:lnTo>
                  <a:lnTo>
                    <a:pt x="844" y="394"/>
                  </a:lnTo>
                  <a:lnTo>
                    <a:pt x="864" y="406"/>
                  </a:lnTo>
                  <a:lnTo>
                    <a:pt x="888" y="444"/>
                  </a:lnTo>
                  <a:lnTo>
                    <a:pt x="928" y="470"/>
                  </a:lnTo>
                  <a:lnTo>
                    <a:pt x="980" y="498"/>
                  </a:lnTo>
                  <a:lnTo>
                    <a:pt x="1068" y="524"/>
                  </a:lnTo>
                  <a:lnTo>
                    <a:pt x="1098" y="526"/>
                  </a:lnTo>
                  <a:lnTo>
                    <a:pt x="1222" y="478"/>
                  </a:lnTo>
                  <a:lnTo>
                    <a:pt x="1262" y="472"/>
                  </a:lnTo>
                  <a:lnTo>
                    <a:pt x="1314" y="456"/>
                  </a:lnTo>
                  <a:lnTo>
                    <a:pt x="1306" y="468"/>
                  </a:lnTo>
                  <a:lnTo>
                    <a:pt x="1276" y="476"/>
                  </a:lnTo>
                  <a:lnTo>
                    <a:pt x="1318" y="478"/>
                  </a:lnTo>
                  <a:lnTo>
                    <a:pt x="1370" y="468"/>
                  </a:lnTo>
                  <a:lnTo>
                    <a:pt x="1360" y="420"/>
                  </a:lnTo>
                  <a:lnTo>
                    <a:pt x="1330" y="370"/>
                  </a:lnTo>
                  <a:lnTo>
                    <a:pt x="1360" y="368"/>
                  </a:lnTo>
                  <a:lnTo>
                    <a:pt x="1402" y="356"/>
                  </a:lnTo>
                  <a:lnTo>
                    <a:pt x="1468" y="286"/>
                  </a:lnTo>
                  <a:lnTo>
                    <a:pt x="1496" y="252"/>
                  </a:lnTo>
                  <a:lnTo>
                    <a:pt x="1530" y="242"/>
                  </a:lnTo>
                  <a:lnTo>
                    <a:pt x="1556" y="240"/>
                  </a:lnTo>
                  <a:lnTo>
                    <a:pt x="1584" y="248"/>
                  </a:lnTo>
                  <a:lnTo>
                    <a:pt x="1610" y="248"/>
                  </a:lnTo>
                  <a:lnTo>
                    <a:pt x="1620" y="234"/>
                  </a:lnTo>
                  <a:lnTo>
                    <a:pt x="1620" y="214"/>
                  </a:lnTo>
                  <a:lnTo>
                    <a:pt x="1654" y="208"/>
                  </a:lnTo>
                  <a:lnTo>
                    <a:pt x="1706" y="210"/>
                  </a:lnTo>
                  <a:lnTo>
                    <a:pt x="1746" y="240"/>
                  </a:lnTo>
                  <a:lnTo>
                    <a:pt x="1772" y="264"/>
                  </a:lnTo>
                  <a:lnTo>
                    <a:pt x="1870" y="294"/>
                  </a:lnTo>
                  <a:lnTo>
                    <a:pt x="1906" y="312"/>
                  </a:lnTo>
                  <a:lnTo>
                    <a:pt x="1936" y="316"/>
                  </a:lnTo>
                  <a:lnTo>
                    <a:pt x="1960" y="308"/>
                  </a:lnTo>
                  <a:lnTo>
                    <a:pt x="1994" y="314"/>
                  </a:lnTo>
                  <a:lnTo>
                    <a:pt x="2020" y="326"/>
                  </a:lnTo>
                  <a:lnTo>
                    <a:pt x="2050" y="356"/>
                  </a:lnTo>
                  <a:lnTo>
                    <a:pt x="2066" y="388"/>
                  </a:lnTo>
                  <a:lnTo>
                    <a:pt x="2090" y="398"/>
                  </a:lnTo>
                  <a:lnTo>
                    <a:pt x="2134" y="418"/>
                  </a:lnTo>
                  <a:lnTo>
                    <a:pt x="2200" y="464"/>
                  </a:lnTo>
                  <a:lnTo>
                    <a:pt x="2244" y="486"/>
                  </a:lnTo>
                  <a:lnTo>
                    <a:pt x="2304" y="484"/>
                  </a:lnTo>
                  <a:lnTo>
                    <a:pt x="2318" y="498"/>
                  </a:lnTo>
                  <a:lnTo>
                    <a:pt x="2340" y="588"/>
                  </a:lnTo>
                  <a:lnTo>
                    <a:pt x="2354" y="616"/>
                  </a:lnTo>
                  <a:lnTo>
                    <a:pt x="2358" y="652"/>
                  </a:lnTo>
                  <a:lnTo>
                    <a:pt x="2360" y="684"/>
                  </a:lnTo>
                  <a:lnTo>
                    <a:pt x="2370" y="728"/>
                  </a:lnTo>
                  <a:lnTo>
                    <a:pt x="2372" y="784"/>
                  </a:lnTo>
                  <a:lnTo>
                    <a:pt x="2354" y="842"/>
                  </a:lnTo>
                  <a:lnTo>
                    <a:pt x="2362" y="878"/>
                  </a:lnTo>
                  <a:lnTo>
                    <a:pt x="2314" y="904"/>
                  </a:lnTo>
                  <a:lnTo>
                    <a:pt x="2320" y="928"/>
                  </a:lnTo>
                  <a:lnTo>
                    <a:pt x="2332" y="980"/>
                  </a:lnTo>
                  <a:lnTo>
                    <a:pt x="2368" y="990"/>
                  </a:lnTo>
                  <a:lnTo>
                    <a:pt x="2378" y="1018"/>
                  </a:lnTo>
                  <a:lnTo>
                    <a:pt x="2368" y="1068"/>
                  </a:lnTo>
                  <a:lnTo>
                    <a:pt x="2370" y="1114"/>
                  </a:lnTo>
                  <a:lnTo>
                    <a:pt x="2384" y="1148"/>
                  </a:lnTo>
                  <a:lnTo>
                    <a:pt x="2410" y="1188"/>
                  </a:lnTo>
                  <a:lnTo>
                    <a:pt x="2424" y="1238"/>
                  </a:lnTo>
                  <a:lnTo>
                    <a:pt x="2430" y="1284"/>
                  </a:lnTo>
                  <a:lnTo>
                    <a:pt x="2438" y="1316"/>
                  </a:lnTo>
                  <a:lnTo>
                    <a:pt x="2466" y="1342"/>
                  </a:lnTo>
                  <a:lnTo>
                    <a:pt x="2500" y="1352"/>
                  </a:lnTo>
                  <a:lnTo>
                    <a:pt x="2530" y="1352"/>
                  </a:lnTo>
                  <a:lnTo>
                    <a:pt x="2562" y="1376"/>
                  </a:lnTo>
                  <a:lnTo>
                    <a:pt x="2586" y="1420"/>
                  </a:lnTo>
                  <a:lnTo>
                    <a:pt x="2594" y="1458"/>
                  </a:lnTo>
                  <a:lnTo>
                    <a:pt x="2588" y="1506"/>
                  </a:lnTo>
                  <a:lnTo>
                    <a:pt x="2546" y="1582"/>
                  </a:lnTo>
                  <a:lnTo>
                    <a:pt x="2530" y="1650"/>
                  </a:lnTo>
                  <a:lnTo>
                    <a:pt x="2524" y="1664"/>
                  </a:lnTo>
                  <a:lnTo>
                    <a:pt x="2548" y="1690"/>
                  </a:lnTo>
                  <a:lnTo>
                    <a:pt x="2588" y="1724"/>
                  </a:lnTo>
                  <a:lnTo>
                    <a:pt x="2662" y="1840"/>
                  </a:lnTo>
                  <a:lnTo>
                    <a:pt x="2698" y="1866"/>
                  </a:lnTo>
                  <a:lnTo>
                    <a:pt x="2742" y="1888"/>
                  </a:lnTo>
                  <a:lnTo>
                    <a:pt x="2812" y="1910"/>
                  </a:lnTo>
                  <a:lnTo>
                    <a:pt x="2830" y="1928"/>
                  </a:lnTo>
                  <a:lnTo>
                    <a:pt x="2854" y="1998"/>
                  </a:lnTo>
                  <a:lnTo>
                    <a:pt x="2866" y="2040"/>
                  </a:lnTo>
                  <a:lnTo>
                    <a:pt x="2870" y="2080"/>
                  </a:lnTo>
                  <a:lnTo>
                    <a:pt x="2920" y="2090"/>
                  </a:lnTo>
                  <a:lnTo>
                    <a:pt x="2936" y="2102"/>
                  </a:lnTo>
                  <a:lnTo>
                    <a:pt x="2944" y="2132"/>
                  </a:lnTo>
                  <a:lnTo>
                    <a:pt x="2940" y="2146"/>
                  </a:lnTo>
                  <a:lnTo>
                    <a:pt x="2912" y="2186"/>
                  </a:lnTo>
                  <a:lnTo>
                    <a:pt x="2882" y="2190"/>
                  </a:lnTo>
                  <a:lnTo>
                    <a:pt x="2848" y="2210"/>
                  </a:lnTo>
                  <a:lnTo>
                    <a:pt x="2818" y="2224"/>
                  </a:lnTo>
                  <a:lnTo>
                    <a:pt x="2792" y="2254"/>
                  </a:lnTo>
                  <a:lnTo>
                    <a:pt x="2774" y="2288"/>
                  </a:lnTo>
                  <a:lnTo>
                    <a:pt x="2762" y="2372"/>
                  </a:lnTo>
                  <a:lnTo>
                    <a:pt x="2760" y="2406"/>
                  </a:lnTo>
                  <a:lnTo>
                    <a:pt x="2766" y="245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05360" y="3831480"/>
              <a:ext cx="280800" cy="283680"/>
            </a:xfrm>
            <a:custGeom>
              <a:avLst/>
              <a:gdLst/>
              <a:ahLst/>
              <a:rect l="l" t="t" r="r" b="b"/>
              <a:pathLst>
                <a:path w="1616" h="1654">
                  <a:moveTo>
                    <a:pt x="148" y="1514"/>
                  </a:moveTo>
                  <a:lnTo>
                    <a:pt x="138" y="1354"/>
                  </a:lnTo>
                  <a:lnTo>
                    <a:pt x="128" y="1194"/>
                  </a:lnTo>
                  <a:lnTo>
                    <a:pt x="118" y="1034"/>
                  </a:lnTo>
                  <a:lnTo>
                    <a:pt x="108" y="874"/>
                  </a:lnTo>
                  <a:lnTo>
                    <a:pt x="96" y="714"/>
                  </a:lnTo>
                  <a:lnTo>
                    <a:pt x="84" y="552"/>
                  </a:lnTo>
                  <a:lnTo>
                    <a:pt x="76" y="436"/>
                  </a:lnTo>
                  <a:lnTo>
                    <a:pt x="30" y="388"/>
                  </a:lnTo>
                  <a:lnTo>
                    <a:pt x="34" y="356"/>
                  </a:lnTo>
                  <a:lnTo>
                    <a:pt x="30" y="346"/>
                  </a:lnTo>
                  <a:lnTo>
                    <a:pt x="10" y="318"/>
                  </a:lnTo>
                  <a:lnTo>
                    <a:pt x="0" y="264"/>
                  </a:lnTo>
                  <a:lnTo>
                    <a:pt x="0" y="254"/>
                  </a:lnTo>
                  <a:lnTo>
                    <a:pt x="10" y="238"/>
                  </a:lnTo>
                  <a:lnTo>
                    <a:pt x="30" y="226"/>
                  </a:lnTo>
                  <a:lnTo>
                    <a:pt x="32" y="222"/>
                  </a:lnTo>
                  <a:lnTo>
                    <a:pt x="32" y="196"/>
                  </a:lnTo>
                  <a:lnTo>
                    <a:pt x="22" y="152"/>
                  </a:lnTo>
                  <a:lnTo>
                    <a:pt x="14" y="82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20" y="26"/>
                  </a:lnTo>
                  <a:lnTo>
                    <a:pt x="26" y="4"/>
                  </a:lnTo>
                  <a:lnTo>
                    <a:pt x="42" y="0"/>
                  </a:lnTo>
                  <a:lnTo>
                    <a:pt x="50" y="14"/>
                  </a:lnTo>
                  <a:lnTo>
                    <a:pt x="68" y="20"/>
                  </a:lnTo>
                  <a:lnTo>
                    <a:pt x="114" y="8"/>
                  </a:lnTo>
                  <a:lnTo>
                    <a:pt x="146" y="8"/>
                  </a:lnTo>
                  <a:lnTo>
                    <a:pt x="204" y="18"/>
                  </a:lnTo>
                  <a:lnTo>
                    <a:pt x="284" y="28"/>
                  </a:lnTo>
                  <a:lnTo>
                    <a:pt x="334" y="46"/>
                  </a:lnTo>
                  <a:lnTo>
                    <a:pt x="364" y="66"/>
                  </a:lnTo>
                  <a:lnTo>
                    <a:pt x="404" y="72"/>
                  </a:lnTo>
                  <a:lnTo>
                    <a:pt x="422" y="78"/>
                  </a:lnTo>
                  <a:lnTo>
                    <a:pt x="444" y="92"/>
                  </a:lnTo>
                  <a:lnTo>
                    <a:pt x="484" y="92"/>
                  </a:lnTo>
                  <a:lnTo>
                    <a:pt x="514" y="98"/>
                  </a:lnTo>
                  <a:lnTo>
                    <a:pt x="552" y="112"/>
                  </a:lnTo>
                  <a:lnTo>
                    <a:pt x="580" y="132"/>
                  </a:lnTo>
                  <a:lnTo>
                    <a:pt x="618" y="118"/>
                  </a:lnTo>
                  <a:lnTo>
                    <a:pt x="652" y="98"/>
                  </a:lnTo>
                  <a:lnTo>
                    <a:pt x="686" y="66"/>
                  </a:lnTo>
                  <a:lnTo>
                    <a:pt x="724" y="46"/>
                  </a:lnTo>
                  <a:lnTo>
                    <a:pt x="746" y="26"/>
                  </a:lnTo>
                  <a:lnTo>
                    <a:pt x="780" y="20"/>
                  </a:lnTo>
                  <a:lnTo>
                    <a:pt x="802" y="12"/>
                  </a:lnTo>
                  <a:lnTo>
                    <a:pt x="808" y="12"/>
                  </a:lnTo>
                  <a:lnTo>
                    <a:pt x="808" y="20"/>
                  </a:lnTo>
                  <a:lnTo>
                    <a:pt x="780" y="32"/>
                  </a:lnTo>
                  <a:lnTo>
                    <a:pt x="774" y="44"/>
                  </a:lnTo>
                  <a:lnTo>
                    <a:pt x="782" y="44"/>
                  </a:lnTo>
                  <a:lnTo>
                    <a:pt x="826" y="34"/>
                  </a:lnTo>
                  <a:lnTo>
                    <a:pt x="840" y="24"/>
                  </a:lnTo>
                  <a:lnTo>
                    <a:pt x="848" y="10"/>
                  </a:lnTo>
                  <a:lnTo>
                    <a:pt x="868" y="16"/>
                  </a:lnTo>
                  <a:lnTo>
                    <a:pt x="876" y="16"/>
                  </a:lnTo>
                  <a:lnTo>
                    <a:pt x="934" y="18"/>
                  </a:lnTo>
                  <a:lnTo>
                    <a:pt x="942" y="16"/>
                  </a:lnTo>
                  <a:lnTo>
                    <a:pt x="962" y="4"/>
                  </a:lnTo>
                  <a:lnTo>
                    <a:pt x="968" y="10"/>
                  </a:lnTo>
                  <a:lnTo>
                    <a:pt x="976" y="24"/>
                  </a:lnTo>
                  <a:lnTo>
                    <a:pt x="986" y="28"/>
                  </a:lnTo>
                  <a:lnTo>
                    <a:pt x="994" y="42"/>
                  </a:lnTo>
                  <a:lnTo>
                    <a:pt x="1006" y="50"/>
                  </a:lnTo>
                  <a:lnTo>
                    <a:pt x="1032" y="62"/>
                  </a:lnTo>
                  <a:lnTo>
                    <a:pt x="1046" y="80"/>
                  </a:lnTo>
                  <a:lnTo>
                    <a:pt x="1058" y="92"/>
                  </a:lnTo>
                  <a:lnTo>
                    <a:pt x="1088" y="92"/>
                  </a:lnTo>
                  <a:lnTo>
                    <a:pt x="1108" y="90"/>
                  </a:lnTo>
                  <a:lnTo>
                    <a:pt x="1116" y="80"/>
                  </a:lnTo>
                  <a:lnTo>
                    <a:pt x="1126" y="76"/>
                  </a:lnTo>
                  <a:lnTo>
                    <a:pt x="1140" y="92"/>
                  </a:lnTo>
                  <a:lnTo>
                    <a:pt x="1194" y="84"/>
                  </a:lnTo>
                  <a:lnTo>
                    <a:pt x="1238" y="62"/>
                  </a:lnTo>
                  <a:lnTo>
                    <a:pt x="1262" y="38"/>
                  </a:lnTo>
                  <a:lnTo>
                    <a:pt x="1270" y="64"/>
                  </a:lnTo>
                  <a:lnTo>
                    <a:pt x="1274" y="76"/>
                  </a:lnTo>
                  <a:lnTo>
                    <a:pt x="1282" y="90"/>
                  </a:lnTo>
                  <a:lnTo>
                    <a:pt x="1346" y="248"/>
                  </a:lnTo>
                  <a:lnTo>
                    <a:pt x="1400" y="366"/>
                  </a:lnTo>
                  <a:lnTo>
                    <a:pt x="1386" y="422"/>
                  </a:lnTo>
                  <a:lnTo>
                    <a:pt x="1380" y="484"/>
                  </a:lnTo>
                  <a:lnTo>
                    <a:pt x="1364" y="550"/>
                  </a:lnTo>
                  <a:lnTo>
                    <a:pt x="1364" y="574"/>
                  </a:lnTo>
                  <a:lnTo>
                    <a:pt x="1370" y="594"/>
                  </a:lnTo>
                  <a:lnTo>
                    <a:pt x="1366" y="612"/>
                  </a:lnTo>
                  <a:lnTo>
                    <a:pt x="1360" y="622"/>
                  </a:lnTo>
                  <a:lnTo>
                    <a:pt x="1340" y="634"/>
                  </a:lnTo>
                  <a:lnTo>
                    <a:pt x="1320" y="632"/>
                  </a:lnTo>
                  <a:lnTo>
                    <a:pt x="1298" y="614"/>
                  </a:lnTo>
                  <a:lnTo>
                    <a:pt x="1264" y="572"/>
                  </a:lnTo>
                  <a:lnTo>
                    <a:pt x="1232" y="538"/>
                  </a:lnTo>
                  <a:lnTo>
                    <a:pt x="1204" y="500"/>
                  </a:lnTo>
                  <a:lnTo>
                    <a:pt x="1198" y="490"/>
                  </a:lnTo>
                  <a:lnTo>
                    <a:pt x="1190" y="454"/>
                  </a:lnTo>
                  <a:lnTo>
                    <a:pt x="1176" y="428"/>
                  </a:lnTo>
                  <a:lnTo>
                    <a:pt x="1148" y="396"/>
                  </a:lnTo>
                  <a:lnTo>
                    <a:pt x="1134" y="372"/>
                  </a:lnTo>
                  <a:lnTo>
                    <a:pt x="1114" y="346"/>
                  </a:lnTo>
                  <a:lnTo>
                    <a:pt x="1098" y="290"/>
                  </a:lnTo>
                  <a:lnTo>
                    <a:pt x="1088" y="278"/>
                  </a:lnTo>
                  <a:lnTo>
                    <a:pt x="1084" y="264"/>
                  </a:lnTo>
                  <a:lnTo>
                    <a:pt x="1080" y="262"/>
                  </a:lnTo>
                  <a:lnTo>
                    <a:pt x="1080" y="262"/>
                  </a:lnTo>
                  <a:lnTo>
                    <a:pt x="1070" y="274"/>
                  </a:lnTo>
                  <a:lnTo>
                    <a:pt x="1076" y="286"/>
                  </a:lnTo>
                  <a:lnTo>
                    <a:pt x="1064" y="302"/>
                  </a:lnTo>
                  <a:lnTo>
                    <a:pt x="1064" y="334"/>
                  </a:lnTo>
                  <a:lnTo>
                    <a:pt x="1068" y="344"/>
                  </a:lnTo>
                  <a:lnTo>
                    <a:pt x="1094" y="368"/>
                  </a:lnTo>
                  <a:lnTo>
                    <a:pt x="1100" y="382"/>
                  </a:lnTo>
                  <a:lnTo>
                    <a:pt x="1106" y="398"/>
                  </a:lnTo>
                  <a:lnTo>
                    <a:pt x="1108" y="430"/>
                  </a:lnTo>
                  <a:lnTo>
                    <a:pt x="1118" y="454"/>
                  </a:lnTo>
                  <a:lnTo>
                    <a:pt x="1162" y="530"/>
                  </a:lnTo>
                  <a:lnTo>
                    <a:pt x="1210" y="584"/>
                  </a:lnTo>
                  <a:lnTo>
                    <a:pt x="1230" y="602"/>
                  </a:lnTo>
                  <a:lnTo>
                    <a:pt x="1242" y="608"/>
                  </a:lnTo>
                  <a:lnTo>
                    <a:pt x="1256" y="674"/>
                  </a:lnTo>
                  <a:lnTo>
                    <a:pt x="1268" y="698"/>
                  </a:lnTo>
                  <a:lnTo>
                    <a:pt x="1300" y="734"/>
                  </a:lnTo>
                  <a:lnTo>
                    <a:pt x="1322" y="804"/>
                  </a:lnTo>
                  <a:lnTo>
                    <a:pt x="1330" y="832"/>
                  </a:lnTo>
                  <a:lnTo>
                    <a:pt x="1340" y="856"/>
                  </a:lnTo>
                  <a:lnTo>
                    <a:pt x="1378" y="920"/>
                  </a:lnTo>
                  <a:lnTo>
                    <a:pt x="1396" y="962"/>
                  </a:lnTo>
                  <a:lnTo>
                    <a:pt x="1424" y="998"/>
                  </a:lnTo>
                  <a:lnTo>
                    <a:pt x="1460" y="1076"/>
                  </a:lnTo>
                  <a:lnTo>
                    <a:pt x="1478" y="1106"/>
                  </a:lnTo>
                  <a:lnTo>
                    <a:pt x="1490" y="1122"/>
                  </a:lnTo>
                  <a:lnTo>
                    <a:pt x="1526" y="1194"/>
                  </a:lnTo>
                  <a:lnTo>
                    <a:pt x="1552" y="1224"/>
                  </a:lnTo>
                  <a:lnTo>
                    <a:pt x="1596" y="1264"/>
                  </a:lnTo>
                  <a:lnTo>
                    <a:pt x="1604" y="1268"/>
                  </a:lnTo>
                  <a:lnTo>
                    <a:pt x="1616" y="1284"/>
                  </a:lnTo>
                  <a:lnTo>
                    <a:pt x="1616" y="1292"/>
                  </a:lnTo>
                  <a:lnTo>
                    <a:pt x="1584" y="1282"/>
                  </a:lnTo>
                  <a:lnTo>
                    <a:pt x="1576" y="1284"/>
                  </a:lnTo>
                  <a:lnTo>
                    <a:pt x="1574" y="1292"/>
                  </a:lnTo>
                  <a:lnTo>
                    <a:pt x="1584" y="1318"/>
                  </a:lnTo>
                  <a:lnTo>
                    <a:pt x="1592" y="1388"/>
                  </a:lnTo>
                  <a:lnTo>
                    <a:pt x="1606" y="1424"/>
                  </a:lnTo>
                  <a:lnTo>
                    <a:pt x="1556" y="1480"/>
                  </a:lnTo>
                  <a:lnTo>
                    <a:pt x="1520" y="1466"/>
                  </a:lnTo>
                  <a:lnTo>
                    <a:pt x="1494" y="1554"/>
                  </a:lnTo>
                  <a:lnTo>
                    <a:pt x="1422" y="1576"/>
                  </a:lnTo>
                  <a:lnTo>
                    <a:pt x="1408" y="1648"/>
                  </a:lnTo>
                  <a:lnTo>
                    <a:pt x="1344" y="1654"/>
                  </a:lnTo>
                  <a:lnTo>
                    <a:pt x="1292" y="1616"/>
                  </a:lnTo>
                  <a:lnTo>
                    <a:pt x="1046" y="1618"/>
                  </a:lnTo>
                  <a:lnTo>
                    <a:pt x="1056" y="1586"/>
                  </a:lnTo>
                  <a:lnTo>
                    <a:pt x="1050" y="1586"/>
                  </a:lnTo>
                  <a:lnTo>
                    <a:pt x="1044" y="1582"/>
                  </a:lnTo>
                  <a:lnTo>
                    <a:pt x="1038" y="1580"/>
                  </a:lnTo>
                  <a:lnTo>
                    <a:pt x="1020" y="1618"/>
                  </a:lnTo>
                  <a:lnTo>
                    <a:pt x="950" y="1618"/>
                  </a:lnTo>
                  <a:lnTo>
                    <a:pt x="816" y="1618"/>
                  </a:lnTo>
                  <a:lnTo>
                    <a:pt x="684" y="1620"/>
                  </a:lnTo>
                  <a:lnTo>
                    <a:pt x="552" y="1620"/>
                  </a:lnTo>
                  <a:lnTo>
                    <a:pt x="420" y="1622"/>
                  </a:lnTo>
                  <a:lnTo>
                    <a:pt x="288" y="1624"/>
                  </a:lnTo>
                  <a:lnTo>
                    <a:pt x="154" y="1624"/>
                  </a:lnTo>
                  <a:lnTo>
                    <a:pt x="148" y="15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3440" y="3678120"/>
              <a:ext cx="485640" cy="521280"/>
            </a:xfrm>
            <a:custGeom>
              <a:avLst/>
              <a:gdLst/>
              <a:ahLst/>
              <a:rect l="l" t="t" r="r" b="b"/>
              <a:pathLst>
                <a:path w="2796" h="3048">
                  <a:moveTo>
                    <a:pt x="500" y="2030"/>
                  </a:moveTo>
                  <a:lnTo>
                    <a:pt x="500" y="2030"/>
                  </a:lnTo>
                  <a:lnTo>
                    <a:pt x="310" y="1892"/>
                  </a:lnTo>
                  <a:lnTo>
                    <a:pt x="164" y="1784"/>
                  </a:lnTo>
                  <a:lnTo>
                    <a:pt x="0" y="1664"/>
                  </a:lnTo>
                  <a:lnTo>
                    <a:pt x="2" y="1576"/>
                  </a:lnTo>
                  <a:lnTo>
                    <a:pt x="8" y="1388"/>
                  </a:lnTo>
                  <a:lnTo>
                    <a:pt x="72" y="1332"/>
                  </a:lnTo>
                  <a:lnTo>
                    <a:pt x="124" y="1296"/>
                  </a:lnTo>
                  <a:lnTo>
                    <a:pt x="154" y="1294"/>
                  </a:lnTo>
                  <a:lnTo>
                    <a:pt x="172" y="1278"/>
                  </a:lnTo>
                  <a:lnTo>
                    <a:pt x="190" y="1270"/>
                  </a:lnTo>
                  <a:lnTo>
                    <a:pt x="204" y="1252"/>
                  </a:lnTo>
                  <a:lnTo>
                    <a:pt x="216" y="1244"/>
                  </a:lnTo>
                  <a:lnTo>
                    <a:pt x="232" y="1248"/>
                  </a:lnTo>
                  <a:lnTo>
                    <a:pt x="248" y="1244"/>
                  </a:lnTo>
                  <a:lnTo>
                    <a:pt x="262" y="1252"/>
                  </a:lnTo>
                  <a:lnTo>
                    <a:pt x="284" y="1252"/>
                  </a:lnTo>
                  <a:lnTo>
                    <a:pt x="288" y="1250"/>
                  </a:lnTo>
                  <a:lnTo>
                    <a:pt x="288" y="1226"/>
                  </a:lnTo>
                  <a:lnTo>
                    <a:pt x="294" y="1214"/>
                  </a:lnTo>
                  <a:lnTo>
                    <a:pt x="334" y="1218"/>
                  </a:lnTo>
                  <a:lnTo>
                    <a:pt x="346" y="1212"/>
                  </a:lnTo>
                  <a:lnTo>
                    <a:pt x="368" y="1212"/>
                  </a:lnTo>
                  <a:lnTo>
                    <a:pt x="410" y="1204"/>
                  </a:lnTo>
                  <a:lnTo>
                    <a:pt x="450" y="1186"/>
                  </a:lnTo>
                  <a:lnTo>
                    <a:pt x="468" y="1172"/>
                  </a:lnTo>
                  <a:lnTo>
                    <a:pt x="480" y="1158"/>
                  </a:lnTo>
                  <a:lnTo>
                    <a:pt x="488" y="1144"/>
                  </a:lnTo>
                  <a:lnTo>
                    <a:pt x="488" y="1136"/>
                  </a:lnTo>
                  <a:lnTo>
                    <a:pt x="500" y="1116"/>
                  </a:lnTo>
                  <a:lnTo>
                    <a:pt x="522" y="1096"/>
                  </a:lnTo>
                  <a:lnTo>
                    <a:pt x="558" y="1082"/>
                  </a:lnTo>
                  <a:lnTo>
                    <a:pt x="574" y="1080"/>
                  </a:lnTo>
                  <a:lnTo>
                    <a:pt x="638" y="1036"/>
                  </a:lnTo>
                  <a:lnTo>
                    <a:pt x="690" y="1026"/>
                  </a:lnTo>
                  <a:lnTo>
                    <a:pt x="696" y="1018"/>
                  </a:lnTo>
                  <a:lnTo>
                    <a:pt x="692" y="1008"/>
                  </a:lnTo>
                  <a:lnTo>
                    <a:pt x="682" y="1000"/>
                  </a:lnTo>
                  <a:lnTo>
                    <a:pt x="678" y="992"/>
                  </a:lnTo>
                  <a:lnTo>
                    <a:pt x="672" y="990"/>
                  </a:lnTo>
                  <a:lnTo>
                    <a:pt x="668" y="996"/>
                  </a:lnTo>
                  <a:lnTo>
                    <a:pt x="662" y="992"/>
                  </a:lnTo>
                  <a:lnTo>
                    <a:pt x="668" y="966"/>
                  </a:lnTo>
                  <a:lnTo>
                    <a:pt x="678" y="952"/>
                  </a:lnTo>
                  <a:lnTo>
                    <a:pt x="676" y="948"/>
                  </a:lnTo>
                  <a:lnTo>
                    <a:pt x="664" y="946"/>
                  </a:lnTo>
                  <a:lnTo>
                    <a:pt x="660" y="940"/>
                  </a:lnTo>
                  <a:lnTo>
                    <a:pt x="660" y="922"/>
                  </a:lnTo>
                  <a:lnTo>
                    <a:pt x="664" y="910"/>
                  </a:lnTo>
                  <a:lnTo>
                    <a:pt x="676" y="900"/>
                  </a:lnTo>
                  <a:lnTo>
                    <a:pt x="690" y="900"/>
                  </a:lnTo>
                  <a:lnTo>
                    <a:pt x="706" y="904"/>
                  </a:lnTo>
                  <a:lnTo>
                    <a:pt x="724" y="902"/>
                  </a:lnTo>
                  <a:lnTo>
                    <a:pt x="744" y="896"/>
                  </a:lnTo>
                  <a:lnTo>
                    <a:pt x="778" y="882"/>
                  </a:lnTo>
                  <a:lnTo>
                    <a:pt x="782" y="876"/>
                  </a:lnTo>
                  <a:lnTo>
                    <a:pt x="784" y="860"/>
                  </a:lnTo>
                  <a:lnTo>
                    <a:pt x="782" y="846"/>
                  </a:lnTo>
                  <a:lnTo>
                    <a:pt x="790" y="832"/>
                  </a:lnTo>
                  <a:lnTo>
                    <a:pt x="794" y="830"/>
                  </a:lnTo>
                  <a:lnTo>
                    <a:pt x="812" y="838"/>
                  </a:lnTo>
                  <a:lnTo>
                    <a:pt x="822" y="834"/>
                  </a:lnTo>
                  <a:lnTo>
                    <a:pt x="830" y="828"/>
                  </a:lnTo>
                  <a:lnTo>
                    <a:pt x="856" y="820"/>
                  </a:lnTo>
                  <a:lnTo>
                    <a:pt x="930" y="820"/>
                  </a:lnTo>
                  <a:lnTo>
                    <a:pt x="942" y="816"/>
                  </a:lnTo>
                  <a:lnTo>
                    <a:pt x="970" y="822"/>
                  </a:lnTo>
                  <a:lnTo>
                    <a:pt x="1000" y="822"/>
                  </a:lnTo>
                  <a:lnTo>
                    <a:pt x="1016" y="828"/>
                  </a:lnTo>
                  <a:lnTo>
                    <a:pt x="1024" y="826"/>
                  </a:lnTo>
                  <a:lnTo>
                    <a:pt x="1024" y="822"/>
                  </a:lnTo>
                  <a:lnTo>
                    <a:pt x="1018" y="808"/>
                  </a:lnTo>
                  <a:lnTo>
                    <a:pt x="1020" y="790"/>
                  </a:lnTo>
                  <a:lnTo>
                    <a:pt x="1030" y="772"/>
                  </a:lnTo>
                  <a:lnTo>
                    <a:pt x="1042" y="766"/>
                  </a:lnTo>
                  <a:lnTo>
                    <a:pt x="1042" y="762"/>
                  </a:lnTo>
                  <a:lnTo>
                    <a:pt x="1024" y="750"/>
                  </a:lnTo>
                  <a:lnTo>
                    <a:pt x="1002" y="726"/>
                  </a:lnTo>
                  <a:lnTo>
                    <a:pt x="986" y="690"/>
                  </a:lnTo>
                  <a:lnTo>
                    <a:pt x="986" y="674"/>
                  </a:lnTo>
                  <a:lnTo>
                    <a:pt x="978" y="656"/>
                  </a:lnTo>
                  <a:lnTo>
                    <a:pt x="974" y="638"/>
                  </a:lnTo>
                  <a:lnTo>
                    <a:pt x="974" y="622"/>
                  </a:lnTo>
                  <a:lnTo>
                    <a:pt x="980" y="610"/>
                  </a:lnTo>
                  <a:lnTo>
                    <a:pt x="980" y="598"/>
                  </a:lnTo>
                  <a:lnTo>
                    <a:pt x="978" y="586"/>
                  </a:lnTo>
                  <a:lnTo>
                    <a:pt x="962" y="566"/>
                  </a:lnTo>
                  <a:lnTo>
                    <a:pt x="968" y="556"/>
                  </a:lnTo>
                  <a:lnTo>
                    <a:pt x="966" y="534"/>
                  </a:lnTo>
                  <a:lnTo>
                    <a:pt x="970" y="512"/>
                  </a:lnTo>
                  <a:lnTo>
                    <a:pt x="966" y="484"/>
                  </a:lnTo>
                  <a:lnTo>
                    <a:pt x="960" y="464"/>
                  </a:lnTo>
                  <a:lnTo>
                    <a:pt x="966" y="446"/>
                  </a:lnTo>
                  <a:lnTo>
                    <a:pt x="954" y="422"/>
                  </a:lnTo>
                  <a:lnTo>
                    <a:pt x="956" y="418"/>
                  </a:lnTo>
                  <a:lnTo>
                    <a:pt x="960" y="416"/>
                  </a:lnTo>
                  <a:lnTo>
                    <a:pt x="962" y="410"/>
                  </a:lnTo>
                  <a:lnTo>
                    <a:pt x="956" y="402"/>
                  </a:lnTo>
                  <a:lnTo>
                    <a:pt x="948" y="398"/>
                  </a:lnTo>
                  <a:lnTo>
                    <a:pt x="938" y="386"/>
                  </a:lnTo>
                  <a:lnTo>
                    <a:pt x="934" y="378"/>
                  </a:lnTo>
                  <a:lnTo>
                    <a:pt x="920" y="366"/>
                  </a:lnTo>
                  <a:lnTo>
                    <a:pt x="914" y="354"/>
                  </a:lnTo>
                  <a:lnTo>
                    <a:pt x="914" y="342"/>
                  </a:lnTo>
                  <a:lnTo>
                    <a:pt x="914" y="342"/>
                  </a:lnTo>
                  <a:lnTo>
                    <a:pt x="932" y="340"/>
                  </a:lnTo>
                  <a:lnTo>
                    <a:pt x="964" y="328"/>
                  </a:lnTo>
                  <a:lnTo>
                    <a:pt x="1002" y="304"/>
                  </a:lnTo>
                  <a:lnTo>
                    <a:pt x="1046" y="246"/>
                  </a:lnTo>
                  <a:lnTo>
                    <a:pt x="1074" y="228"/>
                  </a:lnTo>
                  <a:lnTo>
                    <a:pt x="1096" y="224"/>
                  </a:lnTo>
                  <a:lnTo>
                    <a:pt x="1110" y="228"/>
                  </a:lnTo>
                  <a:lnTo>
                    <a:pt x="1138" y="204"/>
                  </a:lnTo>
                  <a:lnTo>
                    <a:pt x="1170" y="216"/>
                  </a:lnTo>
                  <a:lnTo>
                    <a:pt x="1170" y="204"/>
                  </a:lnTo>
                  <a:lnTo>
                    <a:pt x="1206" y="180"/>
                  </a:lnTo>
                  <a:lnTo>
                    <a:pt x="1222" y="160"/>
                  </a:lnTo>
                  <a:lnTo>
                    <a:pt x="1238" y="152"/>
                  </a:lnTo>
                  <a:lnTo>
                    <a:pt x="1258" y="146"/>
                  </a:lnTo>
                  <a:lnTo>
                    <a:pt x="1282" y="124"/>
                  </a:lnTo>
                  <a:lnTo>
                    <a:pt x="1348" y="100"/>
                  </a:lnTo>
                  <a:lnTo>
                    <a:pt x="1376" y="92"/>
                  </a:lnTo>
                  <a:lnTo>
                    <a:pt x="1502" y="82"/>
                  </a:lnTo>
                  <a:lnTo>
                    <a:pt x="1534" y="82"/>
                  </a:lnTo>
                  <a:lnTo>
                    <a:pt x="1556" y="68"/>
                  </a:lnTo>
                  <a:lnTo>
                    <a:pt x="1580" y="50"/>
                  </a:lnTo>
                  <a:lnTo>
                    <a:pt x="1596" y="56"/>
                  </a:lnTo>
                  <a:lnTo>
                    <a:pt x="1624" y="52"/>
                  </a:lnTo>
                  <a:lnTo>
                    <a:pt x="1638" y="56"/>
                  </a:lnTo>
                  <a:lnTo>
                    <a:pt x="1660" y="52"/>
                  </a:lnTo>
                  <a:lnTo>
                    <a:pt x="1696" y="32"/>
                  </a:lnTo>
                  <a:lnTo>
                    <a:pt x="1736" y="34"/>
                  </a:lnTo>
                  <a:lnTo>
                    <a:pt x="1770" y="32"/>
                  </a:lnTo>
                  <a:lnTo>
                    <a:pt x="1830" y="38"/>
                  </a:lnTo>
                  <a:lnTo>
                    <a:pt x="1852" y="58"/>
                  </a:lnTo>
                  <a:lnTo>
                    <a:pt x="1878" y="68"/>
                  </a:lnTo>
                  <a:lnTo>
                    <a:pt x="1904" y="60"/>
                  </a:lnTo>
                  <a:lnTo>
                    <a:pt x="1926" y="48"/>
                  </a:lnTo>
                  <a:lnTo>
                    <a:pt x="1964" y="40"/>
                  </a:lnTo>
                  <a:lnTo>
                    <a:pt x="1990" y="28"/>
                  </a:lnTo>
                  <a:lnTo>
                    <a:pt x="2010" y="0"/>
                  </a:lnTo>
                  <a:lnTo>
                    <a:pt x="2038" y="8"/>
                  </a:lnTo>
                  <a:lnTo>
                    <a:pt x="2060" y="22"/>
                  </a:lnTo>
                  <a:lnTo>
                    <a:pt x="2072" y="22"/>
                  </a:lnTo>
                  <a:lnTo>
                    <a:pt x="2094" y="32"/>
                  </a:lnTo>
                  <a:lnTo>
                    <a:pt x="2122" y="20"/>
                  </a:lnTo>
                  <a:lnTo>
                    <a:pt x="2134" y="2"/>
                  </a:lnTo>
                  <a:lnTo>
                    <a:pt x="2184" y="18"/>
                  </a:lnTo>
                  <a:lnTo>
                    <a:pt x="2204" y="36"/>
                  </a:lnTo>
                  <a:lnTo>
                    <a:pt x="2234" y="32"/>
                  </a:lnTo>
                  <a:lnTo>
                    <a:pt x="2252" y="24"/>
                  </a:lnTo>
                  <a:lnTo>
                    <a:pt x="2288" y="28"/>
                  </a:lnTo>
                  <a:lnTo>
                    <a:pt x="2318" y="22"/>
                  </a:lnTo>
                  <a:lnTo>
                    <a:pt x="2314" y="38"/>
                  </a:lnTo>
                  <a:lnTo>
                    <a:pt x="2302" y="44"/>
                  </a:lnTo>
                  <a:lnTo>
                    <a:pt x="2288" y="62"/>
                  </a:lnTo>
                  <a:lnTo>
                    <a:pt x="2266" y="82"/>
                  </a:lnTo>
                  <a:lnTo>
                    <a:pt x="2260" y="94"/>
                  </a:lnTo>
                  <a:lnTo>
                    <a:pt x="2278" y="100"/>
                  </a:lnTo>
                  <a:lnTo>
                    <a:pt x="2280" y="110"/>
                  </a:lnTo>
                  <a:lnTo>
                    <a:pt x="2270" y="188"/>
                  </a:lnTo>
                  <a:lnTo>
                    <a:pt x="2270" y="212"/>
                  </a:lnTo>
                  <a:lnTo>
                    <a:pt x="2276" y="236"/>
                  </a:lnTo>
                  <a:lnTo>
                    <a:pt x="2280" y="292"/>
                  </a:lnTo>
                  <a:lnTo>
                    <a:pt x="2290" y="310"/>
                  </a:lnTo>
                  <a:lnTo>
                    <a:pt x="2290" y="324"/>
                  </a:lnTo>
                  <a:lnTo>
                    <a:pt x="2278" y="388"/>
                  </a:lnTo>
                  <a:lnTo>
                    <a:pt x="2270" y="420"/>
                  </a:lnTo>
                  <a:lnTo>
                    <a:pt x="2222" y="452"/>
                  </a:lnTo>
                  <a:lnTo>
                    <a:pt x="2216" y="480"/>
                  </a:lnTo>
                  <a:lnTo>
                    <a:pt x="2196" y="492"/>
                  </a:lnTo>
                  <a:lnTo>
                    <a:pt x="2184" y="504"/>
                  </a:lnTo>
                  <a:lnTo>
                    <a:pt x="2182" y="512"/>
                  </a:lnTo>
                  <a:lnTo>
                    <a:pt x="2158" y="530"/>
                  </a:lnTo>
                  <a:lnTo>
                    <a:pt x="2154" y="530"/>
                  </a:lnTo>
                  <a:lnTo>
                    <a:pt x="2158" y="548"/>
                  </a:lnTo>
                  <a:lnTo>
                    <a:pt x="2172" y="576"/>
                  </a:lnTo>
                  <a:lnTo>
                    <a:pt x="2188" y="644"/>
                  </a:lnTo>
                  <a:lnTo>
                    <a:pt x="2236" y="662"/>
                  </a:lnTo>
                  <a:lnTo>
                    <a:pt x="2248" y="678"/>
                  </a:lnTo>
                  <a:lnTo>
                    <a:pt x="2270" y="730"/>
                  </a:lnTo>
                  <a:lnTo>
                    <a:pt x="2270" y="778"/>
                  </a:lnTo>
                  <a:lnTo>
                    <a:pt x="2318" y="810"/>
                  </a:lnTo>
                  <a:lnTo>
                    <a:pt x="2376" y="842"/>
                  </a:lnTo>
                  <a:lnTo>
                    <a:pt x="2384" y="842"/>
                  </a:lnTo>
                  <a:lnTo>
                    <a:pt x="2386" y="844"/>
                  </a:lnTo>
                  <a:lnTo>
                    <a:pt x="2422" y="1032"/>
                  </a:lnTo>
                  <a:lnTo>
                    <a:pt x="2436" y="1130"/>
                  </a:lnTo>
                  <a:lnTo>
                    <a:pt x="2440" y="1140"/>
                  </a:lnTo>
                  <a:lnTo>
                    <a:pt x="2440" y="1148"/>
                  </a:lnTo>
                  <a:lnTo>
                    <a:pt x="2416" y="1168"/>
                  </a:lnTo>
                  <a:lnTo>
                    <a:pt x="2414" y="1210"/>
                  </a:lnTo>
                  <a:lnTo>
                    <a:pt x="2442" y="1248"/>
                  </a:lnTo>
                  <a:lnTo>
                    <a:pt x="2472" y="1304"/>
                  </a:lnTo>
                  <a:lnTo>
                    <a:pt x="2488" y="1368"/>
                  </a:lnTo>
                  <a:lnTo>
                    <a:pt x="2494" y="1430"/>
                  </a:lnTo>
                  <a:lnTo>
                    <a:pt x="2494" y="1510"/>
                  </a:lnTo>
                  <a:lnTo>
                    <a:pt x="2502" y="1534"/>
                  </a:lnTo>
                  <a:lnTo>
                    <a:pt x="2502" y="1568"/>
                  </a:lnTo>
                  <a:lnTo>
                    <a:pt x="2496" y="1628"/>
                  </a:lnTo>
                  <a:lnTo>
                    <a:pt x="2496" y="1784"/>
                  </a:lnTo>
                  <a:lnTo>
                    <a:pt x="2476" y="1798"/>
                  </a:lnTo>
                  <a:lnTo>
                    <a:pt x="2448" y="1808"/>
                  </a:lnTo>
                  <a:lnTo>
                    <a:pt x="2444" y="1832"/>
                  </a:lnTo>
                  <a:lnTo>
                    <a:pt x="2458" y="1870"/>
                  </a:lnTo>
                  <a:lnTo>
                    <a:pt x="2506" y="1930"/>
                  </a:lnTo>
                  <a:lnTo>
                    <a:pt x="2532" y="1974"/>
                  </a:lnTo>
                  <a:lnTo>
                    <a:pt x="2538" y="2028"/>
                  </a:lnTo>
                  <a:lnTo>
                    <a:pt x="2544" y="2062"/>
                  </a:lnTo>
                  <a:lnTo>
                    <a:pt x="2582" y="2104"/>
                  </a:lnTo>
                  <a:lnTo>
                    <a:pt x="2628" y="2108"/>
                  </a:lnTo>
                  <a:lnTo>
                    <a:pt x="2656" y="2106"/>
                  </a:lnTo>
                  <a:lnTo>
                    <a:pt x="2730" y="2144"/>
                  </a:lnTo>
                  <a:lnTo>
                    <a:pt x="2776" y="2226"/>
                  </a:lnTo>
                  <a:lnTo>
                    <a:pt x="2792" y="2266"/>
                  </a:lnTo>
                  <a:lnTo>
                    <a:pt x="2796" y="2284"/>
                  </a:lnTo>
                  <a:lnTo>
                    <a:pt x="2730" y="2336"/>
                  </a:lnTo>
                  <a:lnTo>
                    <a:pt x="2622" y="2424"/>
                  </a:lnTo>
                  <a:lnTo>
                    <a:pt x="2514" y="2512"/>
                  </a:lnTo>
                  <a:lnTo>
                    <a:pt x="2404" y="2600"/>
                  </a:lnTo>
                  <a:lnTo>
                    <a:pt x="2296" y="2688"/>
                  </a:lnTo>
                  <a:lnTo>
                    <a:pt x="2186" y="2776"/>
                  </a:lnTo>
                  <a:lnTo>
                    <a:pt x="2076" y="2864"/>
                  </a:lnTo>
                  <a:lnTo>
                    <a:pt x="1966" y="2952"/>
                  </a:lnTo>
                  <a:lnTo>
                    <a:pt x="1932" y="2964"/>
                  </a:lnTo>
                  <a:lnTo>
                    <a:pt x="1770" y="3010"/>
                  </a:lnTo>
                  <a:lnTo>
                    <a:pt x="1750" y="3014"/>
                  </a:lnTo>
                  <a:lnTo>
                    <a:pt x="1736" y="3018"/>
                  </a:lnTo>
                  <a:lnTo>
                    <a:pt x="1712" y="3032"/>
                  </a:lnTo>
                  <a:lnTo>
                    <a:pt x="1688" y="3034"/>
                  </a:lnTo>
                  <a:lnTo>
                    <a:pt x="1666" y="3046"/>
                  </a:lnTo>
                  <a:lnTo>
                    <a:pt x="1646" y="3048"/>
                  </a:lnTo>
                  <a:lnTo>
                    <a:pt x="1634" y="3044"/>
                  </a:lnTo>
                  <a:lnTo>
                    <a:pt x="1614" y="3018"/>
                  </a:lnTo>
                  <a:lnTo>
                    <a:pt x="1614" y="3006"/>
                  </a:lnTo>
                  <a:lnTo>
                    <a:pt x="1620" y="2990"/>
                  </a:lnTo>
                  <a:lnTo>
                    <a:pt x="1618" y="2972"/>
                  </a:lnTo>
                  <a:lnTo>
                    <a:pt x="1620" y="2966"/>
                  </a:lnTo>
                  <a:lnTo>
                    <a:pt x="1628" y="2960"/>
                  </a:lnTo>
                  <a:lnTo>
                    <a:pt x="1628" y="2952"/>
                  </a:lnTo>
                  <a:lnTo>
                    <a:pt x="1622" y="2942"/>
                  </a:lnTo>
                  <a:lnTo>
                    <a:pt x="1620" y="2928"/>
                  </a:lnTo>
                  <a:lnTo>
                    <a:pt x="1624" y="2920"/>
                  </a:lnTo>
                  <a:lnTo>
                    <a:pt x="1622" y="2906"/>
                  </a:lnTo>
                  <a:lnTo>
                    <a:pt x="1620" y="2904"/>
                  </a:lnTo>
                  <a:lnTo>
                    <a:pt x="1616" y="2896"/>
                  </a:lnTo>
                  <a:lnTo>
                    <a:pt x="1606" y="2888"/>
                  </a:lnTo>
                  <a:lnTo>
                    <a:pt x="1584" y="2880"/>
                  </a:lnTo>
                  <a:lnTo>
                    <a:pt x="1562" y="2864"/>
                  </a:lnTo>
                  <a:lnTo>
                    <a:pt x="1552" y="2864"/>
                  </a:lnTo>
                  <a:lnTo>
                    <a:pt x="1540" y="2860"/>
                  </a:lnTo>
                  <a:lnTo>
                    <a:pt x="1514" y="2860"/>
                  </a:lnTo>
                  <a:lnTo>
                    <a:pt x="1502" y="2852"/>
                  </a:lnTo>
                  <a:lnTo>
                    <a:pt x="1494" y="2830"/>
                  </a:lnTo>
                  <a:lnTo>
                    <a:pt x="1488" y="2826"/>
                  </a:lnTo>
                  <a:lnTo>
                    <a:pt x="1464" y="2830"/>
                  </a:lnTo>
                  <a:lnTo>
                    <a:pt x="1442" y="2824"/>
                  </a:lnTo>
                  <a:lnTo>
                    <a:pt x="1428" y="2816"/>
                  </a:lnTo>
                  <a:lnTo>
                    <a:pt x="1408" y="2798"/>
                  </a:lnTo>
                  <a:lnTo>
                    <a:pt x="1404" y="2786"/>
                  </a:lnTo>
                  <a:lnTo>
                    <a:pt x="1402" y="2768"/>
                  </a:lnTo>
                  <a:lnTo>
                    <a:pt x="1396" y="2762"/>
                  </a:lnTo>
                  <a:lnTo>
                    <a:pt x="1368" y="2746"/>
                  </a:lnTo>
                  <a:lnTo>
                    <a:pt x="1350" y="2742"/>
                  </a:lnTo>
                  <a:lnTo>
                    <a:pt x="1332" y="2730"/>
                  </a:lnTo>
                  <a:lnTo>
                    <a:pt x="1330" y="2720"/>
                  </a:lnTo>
                  <a:lnTo>
                    <a:pt x="1334" y="2696"/>
                  </a:lnTo>
                  <a:lnTo>
                    <a:pt x="1324" y="2684"/>
                  </a:lnTo>
                  <a:lnTo>
                    <a:pt x="1322" y="2670"/>
                  </a:lnTo>
                  <a:lnTo>
                    <a:pt x="660" y="2154"/>
                  </a:lnTo>
                  <a:lnTo>
                    <a:pt x="500" y="203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10520" y="4909680"/>
              <a:ext cx="313560" cy="352800"/>
            </a:xfrm>
            <a:custGeom>
              <a:avLst/>
              <a:gdLst/>
              <a:ahLst/>
              <a:rect l="l" t="t" r="r" b="b"/>
              <a:pathLst>
                <a:path w="1802" h="2066">
                  <a:moveTo>
                    <a:pt x="14" y="1800"/>
                  </a:moveTo>
                  <a:lnTo>
                    <a:pt x="16" y="1742"/>
                  </a:lnTo>
                  <a:lnTo>
                    <a:pt x="20" y="1706"/>
                  </a:lnTo>
                  <a:lnTo>
                    <a:pt x="40" y="1682"/>
                  </a:lnTo>
                  <a:lnTo>
                    <a:pt x="58" y="1608"/>
                  </a:lnTo>
                  <a:lnTo>
                    <a:pt x="70" y="1580"/>
                  </a:lnTo>
                  <a:lnTo>
                    <a:pt x="74" y="1538"/>
                  </a:lnTo>
                  <a:lnTo>
                    <a:pt x="82" y="1510"/>
                  </a:lnTo>
                  <a:lnTo>
                    <a:pt x="88" y="1474"/>
                  </a:lnTo>
                  <a:lnTo>
                    <a:pt x="94" y="1454"/>
                  </a:lnTo>
                  <a:lnTo>
                    <a:pt x="100" y="1422"/>
                  </a:lnTo>
                  <a:lnTo>
                    <a:pt x="120" y="1368"/>
                  </a:lnTo>
                  <a:lnTo>
                    <a:pt x="120" y="1344"/>
                  </a:lnTo>
                  <a:lnTo>
                    <a:pt x="130" y="1330"/>
                  </a:lnTo>
                  <a:lnTo>
                    <a:pt x="132" y="1310"/>
                  </a:lnTo>
                  <a:lnTo>
                    <a:pt x="150" y="1266"/>
                  </a:lnTo>
                  <a:lnTo>
                    <a:pt x="172" y="1246"/>
                  </a:lnTo>
                  <a:lnTo>
                    <a:pt x="190" y="1226"/>
                  </a:lnTo>
                  <a:lnTo>
                    <a:pt x="194" y="1186"/>
                  </a:lnTo>
                  <a:lnTo>
                    <a:pt x="246" y="1158"/>
                  </a:lnTo>
                  <a:lnTo>
                    <a:pt x="282" y="1112"/>
                  </a:lnTo>
                  <a:lnTo>
                    <a:pt x="294" y="1088"/>
                  </a:lnTo>
                  <a:lnTo>
                    <a:pt x="306" y="1054"/>
                  </a:lnTo>
                  <a:lnTo>
                    <a:pt x="314" y="1008"/>
                  </a:lnTo>
                  <a:lnTo>
                    <a:pt x="316" y="956"/>
                  </a:lnTo>
                  <a:lnTo>
                    <a:pt x="322" y="930"/>
                  </a:lnTo>
                  <a:lnTo>
                    <a:pt x="320" y="884"/>
                  </a:lnTo>
                  <a:lnTo>
                    <a:pt x="332" y="862"/>
                  </a:lnTo>
                  <a:lnTo>
                    <a:pt x="322" y="804"/>
                  </a:lnTo>
                  <a:lnTo>
                    <a:pt x="290" y="772"/>
                  </a:lnTo>
                  <a:lnTo>
                    <a:pt x="278" y="736"/>
                  </a:lnTo>
                  <a:lnTo>
                    <a:pt x="264" y="714"/>
                  </a:lnTo>
                  <a:lnTo>
                    <a:pt x="250" y="666"/>
                  </a:lnTo>
                  <a:lnTo>
                    <a:pt x="232" y="574"/>
                  </a:lnTo>
                  <a:lnTo>
                    <a:pt x="234" y="554"/>
                  </a:lnTo>
                  <a:lnTo>
                    <a:pt x="246" y="534"/>
                  </a:lnTo>
                  <a:lnTo>
                    <a:pt x="266" y="512"/>
                  </a:lnTo>
                  <a:lnTo>
                    <a:pt x="266" y="460"/>
                  </a:lnTo>
                  <a:lnTo>
                    <a:pt x="256" y="418"/>
                  </a:lnTo>
                  <a:lnTo>
                    <a:pt x="240" y="388"/>
                  </a:lnTo>
                  <a:lnTo>
                    <a:pt x="210" y="274"/>
                  </a:lnTo>
                  <a:lnTo>
                    <a:pt x="206" y="238"/>
                  </a:lnTo>
                  <a:lnTo>
                    <a:pt x="198" y="214"/>
                  </a:lnTo>
                  <a:lnTo>
                    <a:pt x="164" y="160"/>
                  </a:lnTo>
                  <a:lnTo>
                    <a:pt x="150" y="132"/>
                  </a:lnTo>
                  <a:lnTo>
                    <a:pt x="136" y="106"/>
                  </a:lnTo>
                  <a:lnTo>
                    <a:pt x="128" y="88"/>
                  </a:lnTo>
                  <a:lnTo>
                    <a:pt x="128" y="78"/>
                  </a:lnTo>
                  <a:lnTo>
                    <a:pt x="132" y="70"/>
                  </a:lnTo>
                  <a:lnTo>
                    <a:pt x="146" y="62"/>
                  </a:lnTo>
                  <a:lnTo>
                    <a:pt x="194" y="46"/>
                  </a:lnTo>
                  <a:lnTo>
                    <a:pt x="230" y="26"/>
                  </a:lnTo>
                  <a:lnTo>
                    <a:pt x="266" y="12"/>
                  </a:lnTo>
                  <a:lnTo>
                    <a:pt x="290" y="12"/>
                  </a:lnTo>
                  <a:lnTo>
                    <a:pt x="308" y="8"/>
                  </a:lnTo>
                  <a:lnTo>
                    <a:pt x="370" y="8"/>
                  </a:lnTo>
                  <a:lnTo>
                    <a:pt x="426" y="4"/>
                  </a:lnTo>
                  <a:lnTo>
                    <a:pt x="444" y="12"/>
                  </a:lnTo>
                  <a:lnTo>
                    <a:pt x="494" y="12"/>
                  </a:lnTo>
                  <a:lnTo>
                    <a:pt x="528" y="6"/>
                  </a:lnTo>
                  <a:lnTo>
                    <a:pt x="564" y="8"/>
                  </a:lnTo>
                  <a:lnTo>
                    <a:pt x="650" y="0"/>
                  </a:lnTo>
                  <a:lnTo>
                    <a:pt x="692" y="4"/>
                  </a:lnTo>
                  <a:lnTo>
                    <a:pt x="698" y="8"/>
                  </a:lnTo>
                  <a:lnTo>
                    <a:pt x="710" y="30"/>
                  </a:lnTo>
                  <a:lnTo>
                    <a:pt x="720" y="32"/>
                  </a:lnTo>
                  <a:lnTo>
                    <a:pt x="730" y="28"/>
                  </a:lnTo>
                  <a:lnTo>
                    <a:pt x="744" y="54"/>
                  </a:lnTo>
                  <a:lnTo>
                    <a:pt x="756" y="114"/>
                  </a:lnTo>
                  <a:lnTo>
                    <a:pt x="758" y="152"/>
                  </a:lnTo>
                  <a:lnTo>
                    <a:pt x="762" y="168"/>
                  </a:lnTo>
                  <a:lnTo>
                    <a:pt x="782" y="206"/>
                  </a:lnTo>
                  <a:lnTo>
                    <a:pt x="788" y="256"/>
                  </a:lnTo>
                  <a:lnTo>
                    <a:pt x="820" y="296"/>
                  </a:lnTo>
                  <a:lnTo>
                    <a:pt x="872" y="380"/>
                  </a:lnTo>
                  <a:lnTo>
                    <a:pt x="906" y="394"/>
                  </a:lnTo>
                  <a:lnTo>
                    <a:pt x="940" y="394"/>
                  </a:lnTo>
                  <a:lnTo>
                    <a:pt x="996" y="374"/>
                  </a:lnTo>
                  <a:lnTo>
                    <a:pt x="1030" y="366"/>
                  </a:lnTo>
                  <a:lnTo>
                    <a:pt x="1076" y="370"/>
                  </a:lnTo>
                  <a:lnTo>
                    <a:pt x="1124" y="370"/>
                  </a:lnTo>
                  <a:lnTo>
                    <a:pt x="1134" y="326"/>
                  </a:lnTo>
                  <a:lnTo>
                    <a:pt x="1136" y="304"/>
                  </a:lnTo>
                  <a:lnTo>
                    <a:pt x="1144" y="290"/>
                  </a:lnTo>
                  <a:lnTo>
                    <a:pt x="1148" y="280"/>
                  </a:lnTo>
                  <a:lnTo>
                    <a:pt x="1152" y="264"/>
                  </a:lnTo>
                  <a:lnTo>
                    <a:pt x="1156" y="228"/>
                  </a:lnTo>
                  <a:lnTo>
                    <a:pt x="1162" y="204"/>
                  </a:lnTo>
                  <a:lnTo>
                    <a:pt x="1274" y="202"/>
                  </a:lnTo>
                  <a:lnTo>
                    <a:pt x="1278" y="184"/>
                  </a:lnTo>
                  <a:lnTo>
                    <a:pt x="1340" y="186"/>
                  </a:lnTo>
                  <a:lnTo>
                    <a:pt x="1336" y="252"/>
                  </a:lnTo>
                  <a:lnTo>
                    <a:pt x="1462" y="256"/>
                  </a:lnTo>
                  <a:lnTo>
                    <a:pt x="1470" y="268"/>
                  </a:lnTo>
                  <a:lnTo>
                    <a:pt x="1478" y="294"/>
                  </a:lnTo>
                  <a:lnTo>
                    <a:pt x="1482" y="394"/>
                  </a:lnTo>
                  <a:lnTo>
                    <a:pt x="1486" y="430"/>
                  </a:lnTo>
                  <a:lnTo>
                    <a:pt x="1486" y="476"/>
                  </a:lnTo>
                  <a:lnTo>
                    <a:pt x="1490" y="528"/>
                  </a:lnTo>
                  <a:lnTo>
                    <a:pt x="1490" y="546"/>
                  </a:lnTo>
                  <a:lnTo>
                    <a:pt x="1482" y="580"/>
                  </a:lnTo>
                  <a:lnTo>
                    <a:pt x="1480" y="620"/>
                  </a:lnTo>
                  <a:lnTo>
                    <a:pt x="1484" y="648"/>
                  </a:lnTo>
                  <a:lnTo>
                    <a:pt x="1508" y="692"/>
                  </a:lnTo>
                  <a:lnTo>
                    <a:pt x="1522" y="756"/>
                  </a:lnTo>
                  <a:lnTo>
                    <a:pt x="1538" y="806"/>
                  </a:lnTo>
                  <a:lnTo>
                    <a:pt x="1534" y="828"/>
                  </a:lnTo>
                  <a:lnTo>
                    <a:pt x="1522" y="848"/>
                  </a:lnTo>
                  <a:lnTo>
                    <a:pt x="1494" y="884"/>
                  </a:lnTo>
                  <a:lnTo>
                    <a:pt x="1492" y="890"/>
                  </a:lnTo>
                  <a:lnTo>
                    <a:pt x="1494" y="898"/>
                  </a:lnTo>
                  <a:lnTo>
                    <a:pt x="1498" y="902"/>
                  </a:lnTo>
                  <a:lnTo>
                    <a:pt x="1510" y="906"/>
                  </a:lnTo>
                  <a:lnTo>
                    <a:pt x="1522" y="926"/>
                  </a:lnTo>
                  <a:lnTo>
                    <a:pt x="1540" y="932"/>
                  </a:lnTo>
                  <a:lnTo>
                    <a:pt x="1546" y="926"/>
                  </a:lnTo>
                  <a:lnTo>
                    <a:pt x="1554" y="910"/>
                  </a:lnTo>
                  <a:lnTo>
                    <a:pt x="1558" y="886"/>
                  </a:lnTo>
                  <a:lnTo>
                    <a:pt x="1572" y="880"/>
                  </a:lnTo>
                  <a:lnTo>
                    <a:pt x="1704" y="880"/>
                  </a:lnTo>
                  <a:lnTo>
                    <a:pt x="1734" y="868"/>
                  </a:lnTo>
                  <a:lnTo>
                    <a:pt x="1752" y="874"/>
                  </a:lnTo>
                  <a:lnTo>
                    <a:pt x="1762" y="874"/>
                  </a:lnTo>
                  <a:lnTo>
                    <a:pt x="1786" y="856"/>
                  </a:lnTo>
                  <a:lnTo>
                    <a:pt x="1790" y="856"/>
                  </a:lnTo>
                  <a:lnTo>
                    <a:pt x="1798" y="864"/>
                  </a:lnTo>
                  <a:lnTo>
                    <a:pt x="1800" y="876"/>
                  </a:lnTo>
                  <a:lnTo>
                    <a:pt x="1794" y="878"/>
                  </a:lnTo>
                  <a:lnTo>
                    <a:pt x="1792" y="890"/>
                  </a:lnTo>
                  <a:lnTo>
                    <a:pt x="1796" y="918"/>
                  </a:lnTo>
                  <a:lnTo>
                    <a:pt x="1794" y="932"/>
                  </a:lnTo>
                  <a:lnTo>
                    <a:pt x="1790" y="950"/>
                  </a:lnTo>
                  <a:lnTo>
                    <a:pt x="1786" y="988"/>
                  </a:lnTo>
                  <a:lnTo>
                    <a:pt x="1778" y="1026"/>
                  </a:lnTo>
                  <a:lnTo>
                    <a:pt x="1780" y="1070"/>
                  </a:lnTo>
                  <a:lnTo>
                    <a:pt x="1778" y="1112"/>
                  </a:lnTo>
                  <a:lnTo>
                    <a:pt x="1770" y="1136"/>
                  </a:lnTo>
                  <a:lnTo>
                    <a:pt x="1766" y="1184"/>
                  </a:lnTo>
                  <a:lnTo>
                    <a:pt x="1770" y="1196"/>
                  </a:lnTo>
                  <a:lnTo>
                    <a:pt x="1780" y="1206"/>
                  </a:lnTo>
                  <a:lnTo>
                    <a:pt x="1802" y="1216"/>
                  </a:lnTo>
                  <a:lnTo>
                    <a:pt x="1650" y="1214"/>
                  </a:lnTo>
                  <a:lnTo>
                    <a:pt x="1494" y="1214"/>
                  </a:lnTo>
                  <a:lnTo>
                    <a:pt x="1490" y="1378"/>
                  </a:lnTo>
                  <a:lnTo>
                    <a:pt x="1484" y="1540"/>
                  </a:lnTo>
                  <a:lnTo>
                    <a:pt x="1480" y="1704"/>
                  </a:lnTo>
                  <a:lnTo>
                    <a:pt x="1476" y="1814"/>
                  </a:lnTo>
                  <a:lnTo>
                    <a:pt x="1474" y="1820"/>
                  </a:lnTo>
                  <a:lnTo>
                    <a:pt x="1492" y="1838"/>
                  </a:lnTo>
                  <a:lnTo>
                    <a:pt x="1500" y="1860"/>
                  </a:lnTo>
                  <a:lnTo>
                    <a:pt x="1532" y="1884"/>
                  </a:lnTo>
                  <a:lnTo>
                    <a:pt x="1548" y="1908"/>
                  </a:lnTo>
                  <a:lnTo>
                    <a:pt x="1572" y="1932"/>
                  </a:lnTo>
                  <a:lnTo>
                    <a:pt x="1582" y="1946"/>
                  </a:lnTo>
                  <a:lnTo>
                    <a:pt x="1604" y="1958"/>
                  </a:lnTo>
                  <a:lnTo>
                    <a:pt x="1614" y="1978"/>
                  </a:lnTo>
                  <a:lnTo>
                    <a:pt x="1634" y="1992"/>
                  </a:lnTo>
                  <a:lnTo>
                    <a:pt x="1628" y="1996"/>
                  </a:lnTo>
                  <a:lnTo>
                    <a:pt x="1600" y="2006"/>
                  </a:lnTo>
                  <a:lnTo>
                    <a:pt x="1404" y="2064"/>
                  </a:lnTo>
                  <a:lnTo>
                    <a:pt x="1382" y="2066"/>
                  </a:lnTo>
                  <a:lnTo>
                    <a:pt x="1372" y="2056"/>
                  </a:lnTo>
                  <a:lnTo>
                    <a:pt x="1340" y="2052"/>
                  </a:lnTo>
                  <a:lnTo>
                    <a:pt x="1310" y="2044"/>
                  </a:lnTo>
                  <a:lnTo>
                    <a:pt x="1270" y="2040"/>
                  </a:lnTo>
                  <a:lnTo>
                    <a:pt x="1184" y="2018"/>
                  </a:lnTo>
                  <a:lnTo>
                    <a:pt x="1116" y="2016"/>
                  </a:lnTo>
                  <a:lnTo>
                    <a:pt x="1064" y="2024"/>
                  </a:lnTo>
                  <a:lnTo>
                    <a:pt x="1044" y="2022"/>
                  </a:lnTo>
                  <a:lnTo>
                    <a:pt x="1000" y="2004"/>
                  </a:lnTo>
                  <a:lnTo>
                    <a:pt x="984" y="1978"/>
                  </a:lnTo>
                  <a:lnTo>
                    <a:pt x="946" y="1944"/>
                  </a:lnTo>
                  <a:lnTo>
                    <a:pt x="892" y="1944"/>
                  </a:lnTo>
                  <a:lnTo>
                    <a:pt x="776" y="1942"/>
                  </a:lnTo>
                  <a:lnTo>
                    <a:pt x="650" y="1942"/>
                  </a:lnTo>
                  <a:lnTo>
                    <a:pt x="514" y="1942"/>
                  </a:lnTo>
                  <a:lnTo>
                    <a:pt x="386" y="1942"/>
                  </a:lnTo>
                  <a:lnTo>
                    <a:pt x="340" y="1940"/>
                  </a:lnTo>
                  <a:lnTo>
                    <a:pt x="320" y="1946"/>
                  </a:lnTo>
                  <a:lnTo>
                    <a:pt x="288" y="1908"/>
                  </a:lnTo>
                  <a:lnTo>
                    <a:pt x="254" y="1894"/>
                  </a:lnTo>
                  <a:lnTo>
                    <a:pt x="242" y="1870"/>
                  </a:lnTo>
                  <a:lnTo>
                    <a:pt x="216" y="1864"/>
                  </a:lnTo>
                  <a:lnTo>
                    <a:pt x="158" y="1866"/>
                  </a:lnTo>
                  <a:lnTo>
                    <a:pt x="134" y="1876"/>
                  </a:lnTo>
                  <a:lnTo>
                    <a:pt x="106" y="1904"/>
                  </a:lnTo>
                  <a:lnTo>
                    <a:pt x="90" y="1914"/>
                  </a:lnTo>
                  <a:lnTo>
                    <a:pt x="66" y="1896"/>
                  </a:lnTo>
                  <a:lnTo>
                    <a:pt x="36" y="1922"/>
                  </a:lnTo>
                  <a:lnTo>
                    <a:pt x="6" y="1940"/>
                  </a:lnTo>
                  <a:lnTo>
                    <a:pt x="8" y="1922"/>
                  </a:lnTo>
                  <a:lnTo>
                    <a:pt x="0" y="1860"/>
                  </a:lnTo>
                  <a:lnTo>
                    <a:pt x="2" y="1826"/>
                  </a:lnTo>
                  <a:lnTo>
                    <a:pt x="14" y="1834"/>
                  </a:lnTo>
                  <a:lnTo>
                    <a:pt x="14" y="180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71360" y="3347280"/>
              <a:ext cx="140400" cy="79560"/>
            </a:xfrm>
            <a:custGeom>
              <a:avLst/>
              <a:gdLst/>
              <a:ahLst/>
              <a:rect l="l" t="t" r="r" b="b"/>
              <a:pathLst>
                <a:path w="810" h="470">
                  <a:moveTo>
                    <a:pt x="112" y="86"/>
                  </a:moveTo>
                  <a:lnTo>
                    <a:pt x="142" y="100"/>
                  </a:lnTo>
                  <a:lnTo>
                    <a:pt x="200" y="138"/>
                  </a:lnTo>
                  <a:lnTo>
                    <a:pt x="274" y="134"/>
                  </a:lnTo>
                  <a:lnTo>
                    <a:pt x="288" y="134"/>
                  </a:lnTo>
                  <a:lnTo>
                    <a:pt x="314" y="94"/>
                  </a:lnTo>
                  <a:lnTo>
                    <a:pt x="380" y="74"/>
                  </a:lnTo>
                  <a:lnTo>
                    <a:pt x="414" y="54"/>
                  </a:lnTo>
                  <a:lnTo>
                    <a:pt x="452" y="66"/>
                  </a:lnTo>
                  <a:lnTo>
                    <a:pt x="482" y="52"/>
                  </a:lnTo>
                  <a:lnTo>
                    <a:pt x="504" y="44"/>
                  </a:lnTo>
                  <a:lnTo>
                    <a:pt x="512" y="22"/>
                  </a:lnTo>
                  <a:lnTo>
                    <a:pt x="546" y="2"/>
                  </a:lnTo>
                  <a:lnTo>
                    <a:pt x="584" y="6"/>
                  </a:lnTo>
                  <a:lnTo>
                    <a:pt x="610" y="0"/>
                  </a:lnTo>
                  <a:lnTo>
                    <a:pt x="646" y="8"/>
                  </a:lnTo>
                  <a:lnTo>
                    <a:pt x="684" y="28"/>
                  </a:lnTo>
                  <a:lnTo>
                    <a:pt x="712" y="22"/>
                  </a:lnTo>
                  <a:lnTo>
                    <a:pt x="748" y="38"/>
                  </a:lnTo>
                  <a:lnTo>
                    <a:pt x="776" y="56"/>
                  </a:lnTo>
                  <a:lnTo>
                    <a:pt x="796" y="72"/>
                  </a:lnTo>
                  <a:lnTo>
                    <a:pt x="810" y="96"/>
                  </a:lnTo>
                  <a:lnTo>
                    <a:pt x="802" y="108"/>
                  </a:lnTo>
                  <a:lnTo>
                    <a:pt x="786" y="124"/>
                  </a:lnTo>
                  <a:lnTo>
                    <a:pt x="770" y="124"/>
                  </a:lnTo>
                  <a:lnTo>
                    <a:pt x="740" y="138"/>
                  </a:lnTo>
                  <a:lnTo>
                    <a:pt x="720" y="160"/>
                  </a:lnTo>
                  <a:lnTo>
                    <a:pt x="720" y="176"/>
                  </a:lnTo>
                  <a:lnTo>
                    <a:pt x="708" y="196"/>
                  </a:lnTo>
                  <a:lnTo>
                    <a:pt x="706" y="220"/>
                  </a:lnTo>
                  <a:lnTo>
                    <a:pt x="682" y="250"/>
                  </a:lnTo>
                  <a:lnTo>
                    <a:pt x="674" y="278"/>
                  </a:lnTo>
                  <a:lnTo>
                    <a:pt x="660" y="310"/>
                  </a:lnTo>
                  <a:lnTo>
                    <a:pt x="644" y="332"/>
                  </a:lnTo>
                  <a:lnTo>
                    <a:pt x="632" y="370"/>
                  </a:lnTo>
                  <a:lnTo>
                    <a:pt x="598" y="384"/>
                  </a:lnTo>
                  <a:lnTo>
                    <a:pt x="528" y="408"/>
                  </a:lnTo>
                  <a:lnTo>
                    <a:pt x="522" y="408"/>
                  </a:lnTo>
                  <a:lnTo>
                    <a:pt x="510" y="392"/>
                  </a:lnTo>
                  <a:lnTo>
                    <a:pt x="482" y="402"/>
                  </a:lnTo>
                  <a:lnTo>
                    <a:pt x="456" y="404"/>
                  </a:lnTo>
                  <a:lnTo>
                    <a:pt x="422" y="426"/>
                  </a:lnTo>
                  <a:lnTo>
                    <a:pt x="390" y="426"/>
                  </a:lnTo>
                  <a:lnTo>
                    <a:pt x="376" y="440"/>
                  </a:lnTo>
                  <a:lnTo>
                    <a:pt x="344" y="442"/>
                  </a:lnTo>
                  <a:lnTo>
                    <a:pt x="316" y="458"/>
                  </a:lnTo>
                  <a:lnTo>
                    <a:pt x="288" y="468"/>
                  </a:lnTo>
                  <a:lnTo>
                    <a:pt x="248" y="470"/>
                  </a:lnTo>
                  <a:lnTo>
                    <a:pt x="212" y="450"/>
                  </a:lnTo>
                  <a:lnTo>
                    <a:pt x="186" y="442"/>
                  </a:lnTo>
                  <a:lnTo>
                    <a:pt x="158" y="410"/>
                  </a:lnTo>
                  <a:lnTo>
                    <a:pt x="124" y="396"/>
                  </a:lnTo>
                  <a:lnTo>
                    <a:pt x="98" y="364"/>
                  </a:lnTo>
                  <a:lnTo>
                    <a:pt x="72" y="352"/>
                  </a:lnTo>
                  <a:lnTo>
                    <a:pt x="48" y="324"/>
                  </a:lnTo>
                  <a:lnTo>
                    <a:pt x="34" y="296"/>
                  </a:lnTo>
                  <a:lnTo>
                    <a:pt x="16" y="288"/>
                  </a:lnTo>
                  <a:lnTo>
                    <a:pt x="0" y="288"/>
                  </a:lnTo>
                  <a:lnTo>
                    <a:pt x="22" y="266"/>
                  </a:lnTo>
                  <a:lnTo>
                    <a:pt x="46" y="260"/>
                  </a:lnTo>
                  <a:lnTo>
                    <a:pt x="40" y="236"/>
                  </a:lnTo>
                  <a:lnTo>
                    <a:pt x="40" y="216"/>
                  </a:lnTo>
                  <a:lnTo>
                    <a:pt x="56" y="178"/>
                  </a:lnTo>
                  <a:lnTo>
                    <a:pt x="40" y="162"/>
                  </a:lnTo>
                  <a:lnTo>
                    <a:pt x="48" y="146"/>
                  </a:lnTo>
                  <a:lnTo>
                    <a:pt x="106" y="144"/>
                  </a:lnTo>
                  <a:lnTo>
                    <a:pt x="116" y="126"/>
                  </a:lnTo>
                  <a:lnTo>
                    <a:pt x="112" y="8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33600" y="6096240"/>
              <a:ext cx="2880" cy="61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4" y="2"/>
                  </a:moveTo>
                  <a:lnTo>
                    <a:pt x="16" y="0"/>
                  </a:lnTo>
                  <a:lnTo>
                    <a:pt x="26" y="8"/>
                  </a:lnTo>
                  <a:lnTo>
                    <a:pt x="26" y="20"/>
                  </a:lnTo>
                  <a:lnTo>
                    <a:pt x="22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4" y="2"/>
                  </a:lnTo>
                </a:path>
              </a:pathLst>
            </a:custGeom>
            <a:solidFill>
              <a:srgbClr val="33c733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37760" y="3531240"/>
              <a:ext cx="189000" cy="128520"/>
            </a:xfrm>
            <a:custGeom>
              <a:avLst/>
              <a:gdLst/>
              <a:ahLst/>
              <a:rect l="l" t="t" r="r" b="b"/>
              <a:pathLst>
                <a:path w="1086" h="752">
                  <a:moveTo>
                    <a:pt x="144" y="668"/>
                  </a:moveTo>
                  <a:lnTo>
                    <a:pt x="160" y="678"/>
                  </a:lnTo>
                  <a:lnTo>
                    <a:pt x="202" y="716"/>
                  </a:lnTo>
                  <a:lnTo>
                    <a:pt x="216" y="706"/>
                  </a:lnTo>
                  <a:lnTo>
                    <a:pt x="232" y="706"/>
                  </a:lnTo>
                  <a:lnTo>
                    <a:pt x="234" y="694"/>
                  </a:lnTo>
                  <a:lnTo>
                    <a:pt x="260" y="676"/>
                  </a:lnTo>
                  <a:lnTo>
                    <a:pt x="272" y="670"/>
                  </a:lnTo>
                  <a:lnTo>
                    <a:pt x="284" y="672"/>
                  </a:lnTo>
                  <a:lnTo>
                    <a:pt x="288" y="664"/>
                  </a:lnTo>
                  <a:lnTo>
                    <a:pt x="300" y="658"/>
                  </a:lnTo>
                  <a:lnTo>
                    <a:pt x="308" y="660"/>
                  </a:lnTo>
                  <a:lnTo>
                    <a:pt x="324" y="672"/>
                  </a:lnTo>
                  <a:lnTo>
                    <a:pt x="360" y="682"/>
                  </a:lnTo>
                  <a:lnTo>
                    <a:pt x="368" y="676"/>
                  </a:lnTo>
                  <a:lnTo>
                    <a:pt x="368" y="670"/>
                  </a:lnTo>
                  <a:lnTo>
                    <a:pt x="366" y="658"/>
                  </a:lnTo>
                  <a:lnTo>
                    <a:pt x="356" y="648"/>
                  </a:lnTo>
                  <a:lnTo>
                    <a:pt x="350" y="632"/>
                  </a:lnTo>
                  <a:lnTo>
                    <a:pt x="364" y="600"/>
                  </a:lnTo>
                  <a:lnTo>
                    <a:pt x="374" y="598"/>
                  </a:lnTo>
                  <a:lnTo>
                    <a:pt x="390" y="606"/>
                  </a:lnTo>
                  <a:lnTo>
                    <a:pt x="408" y="598"/>
                  </a:lnTo>
                  <a:lnTo>
                    <a:pt x="430" y="610"/>
                  </a:lnTo>
                  <a:lnTo>
                    <a:pt x="440" y="612"/>
                  </a:lnTo>
                  <a:lnTo>
                    <a:pt x="446" y="610"/>
                  </a:lnTo>
                  <a:lnTo>
                    <a:pt x="456" y="588"/>
                  </a:lnTo>
                  <a:lnTo>
                    <a:pt x="456" y="578"/>
                  </a:lnTo>
                  <a:lnTo>
                    <a:pt x="440" y="562"/>
                  </a:lnTo>
                  <a:lnTo>
                    <a:pt x="436" y="548"/>
                  </a:lnTo>
                  <a:lnTo>
                    <a:pt x="450" y="516"/>
                  </a:lnTo>
                  <a:lnTo>
                    <a:pt x="462" y="476"/>
                  </a:lnTo>
                  <a:lnTo>
                    <a:pt x="468" y="470"/>
                  </a:lnTo>
                  <a:lnTo>
                    <a:pt x="470" y="456"/>
                  </a:lnTo>
                  <a:lnTo>
                    <a:pt x="472" y="454"/>
                  </a:lnTo>
                  <a:lnTo>
                    <a:pt x="488" y="456"/>
                  </a:lnTo>
                  <a:lnTo>
                    <a:pt x="498" y="446"/>
                  </a:lnTo>
                  <a:lnTo>
                    <a:pt x="522" y="450"/>
                  </a:lnTo>
                  <a:lnTo>
                    <a:pt x="562" y="480"/>
                  </a:lnTo>
                  <a:lnTo>
                    <a:pt x="568" y="496"/>
                  </a:lnTo>
                  <a:lnTo>
                    <a:pt x="562" y="514"/>
                  </a:lnTo>
                  <a:lnTo>
                    <a:pt x="564" y="526"/>
                  </a:lnTo>
                  <a:lnTo>
                    <a:pt x="570" y="532"/>
                  </a:lnTo>
                  <a:lnTo>
                    <a:pt x="586" y="540"/>
                  </a:lnTo>
                  <a:lnTo>
                    <a:pt x="596" y="534"/>
                  </a:lnTo>
                  <a:lnTo>
                    <a:pt x="606" y="538"/>
                  </a:lnTo>
                  <a:lnTo>
                    <a:pt x="610" y="542"/>
                  </a:lnTo>
                  <a:lnTo>
                    <a:pt x="614" y="550"/>
                  </a:lnTo>
                  <a:lnTo>
                    <a:pt x="610" y="558"/>
                  </a:lnTo>
                  <a:lnTo>
                    <a:pt x="610" y="570"/>
                  </a:lnTo>
                  <a:lnTo>
                    <a:pt x="620" y="596"/>
                  </a:lnTo>
                  <a:lnTo>
                    <a:pt x="624" y="610"/>
                  </a:lnTo>
                  <a:lnTo>
                    <a:pt x="620" y="624"/>
                  </a:lnTo>
                  <a:lnTo>
                    <a:pt x="628" y="648"/>
                  </a:lnTo>
                  <a:lnTo>
                    <a:pt x="628" y="670"/>
                  </a:lnTo>
                  <a:lnTo>
                    <a:pt x="640" y="694"/>
                  </a:lnTo>
                  <a:lnTo>
                    <a:pt x="662" y="720"/>
                  </a:lnTo>
                  <a:lnTo>
                    <a:pt x="682" y="746"/>
                  </a:lnTo>
                  <a:lnTo>
                    <a:pt x="688" y="750"/>
                  </a:lnTo>
                  <a:lnTo>
                    <a:pt x="698" y="752"/>
                  </a:lnTo>
                  <a:lnTo>
                    <a:pt x="708" y="748"/>
                  </a:lnTo>
                  <a:lnTo>
                    <a:pt x="734" y="726"/>
                  </a:lnTo>
                  <a:lnTo>
                    <a:pt x="756" y="700"/>
                  </a:lnTo>
                  <a:lnTo>
                    <a:pt x="802" y="684"/>
                  </a:lnTo>
                  <a:lnTo>
                    <a:pt x="806" y="680"/>
                  </a:lnTo>
                  <a:lnTo>
                    <a:pt x="812" y="662"/>
                  </a:lnTo>
                  <a:lnTo>
                    <a:pt x="826" y="652"/>
                  </a:lnTo>
                  <a:lnTo>
                    <a:pt x="828" y="644"/>
                  </a:lnTo>
                  <a:lnTo>
                    <a:pt x="838" y="642"/>
                  </a:lnTo>
                  <a:lnTo>
                    <a:pt x="854" y="624"/>
                  </a:lnTo>
                  <a:lnTo>
                    <a:pt x="866" y="620"/>
                  </a:lnTo>
                  <a:lnTo>
                    <a:pt x="878" y="606"/>
                  </a:lnTo>
                  <a:lnTo>
                    <a:pt x="892" y="606"/>
                  </a:lnTo>
                  <a:lnTo>
                    <a:pt x="902" y="612"/>
                  </a:lnTo>
                  <a:lnTo>
                    <a:pt x="908" y="614"/>
                  </a:lnTo>
                  <a:lnTo>
                    <a:pt x="918" y="612"/>
                  </a:lnTo>
                  <a:lnTo>
                    <a:pt x="930" y="638"/>
                  </a:lnTo>
                  <a:lnTo>
                    <a:pt x="938" y="646"/>
                  </a:lnTo>
                  <a:lnTo>
                    <a:pt x="944" y="642"/>
                  </a:lnTo>
                  <a:lnTo>
                    <a:pt x="956" y="628"/>
                  </a:lnTo>
                  <a:lnTo>
                    <a:pt x="958" y="632"/>
                  </a:lnTo>
                  <a:lnTo>
                    <a:pt x="964" y="630"/>
                  </a:lnTo>
                  <a:lnTo>
                    <a:pt x="988" y="616"/>
                  </a:lnTo>
                  <a:lnTo>
                    <a:pt x="1012" y="610"/>
                  </a:lnTo>
                  <a:lnTo>
                    <a:pt x="1028" y="610"/>
                  </a:lnTo>
                  <a:lnTo>
                    <a:pt x="1042" y="618"/>
                  </a:lnTo>
                  <a:lnTo>
                    <a:pt x="1060" y="616"/>
                  </a:lnTo>
                  <a:lnTo>
                    <a:pt x="1066" y="626"/>
                  </a:lnTo>
                  <a:lnTo>
                    <a:pt x="1068" y="632"/>
                  </a:lnTo>
                  <a:lnTo>
                    <a:pt x="1058" y="636"/>
                  </a:lnTo>
                  <a:lnTo>
                    <a:pt x="1080" y="638"/>
                  </a:lnTo>
                  <a:lnTo>
                    <a:pt x="1086" y="636"/>
                  </a:lnTo>
                  <a:lnTo>
                    <a:pt x="1058" y="548"/>
                  </a:lnTo>
                  <a:lnTo>
                    <a:pt x="1016" y="490"/>
                  </a:lnTo>
                  <a:lnTo>
                    <a:pt x="1000" y="440"/>
                  </a:lnTo>
                  <a:lnTo>
                    <a:pt x="974" y="414"/>
                  </a:lnTo>
                  <a:lnTo>
                    <a:pt x="932" y="412"/>
                  </a:lnTo>
                  <a:lnTo>
                    <a:pt x="888" y="428"/>
                  </a:lnTo>
                  <a:lnTo>
                    <a:pt x="858" y="414"/>
                  </a:lnTo>
                  <a:lnTo>
                    <a:pt x="832" y="370"/>
                  </a:lnTo>
                  <a:lnTo>
                    <a:pt x="814" y="322"/>
                  </a:lnTo>
                  <a:lnTo>
                    <a:pt x="814" y="240"/>
                  </a:lnTo>
                  <a:lnTo>
                    <a:pt x="814" y="240"/>
                  </a:lnTo>
                  <a:lnTo>
                    <a:pt x="766" y="234"/>
                  </a:lnTo>
                  <a:lnTo>
                    <a:pt x="772" y="270"/>
                  </a:lnTo>
                  <a:lnTo>
                    <a:pt x="748" y="270"/>
                  </a:lnTo>
                  <a:lnTo>
                    <a:pt x="728" y="278"/>
                  </a:lnTo>
                  <a:lnTo>
                    <a:pt x="688" y="272"/>
                  </a:lnTo>
                  <a:lnTo>
                    <a:pt x="654" y="280"/>
                  </a:lnTo>
                  <a:lnTo>
                    <a:pt x="624" y="298"/>
                  </a:lnTo>
                  <a:lnTo>
                    <a:pt x="606" y="292"/>
                  </a:lnTo>
                  <a:lnTo>
                    <a:pt x="568" y="296"/>
                  </a:lnTo>
                  <a:lnTo>
                    <a:pt x="546" y="260"/>
                  </a:lnTo>
                  <a:lnTo>
                    <a:pt x="526" y="256"/>
                  </a:lnTo>
                  <a:lnTo>
                    <a:pt x="506" y="248"/>
                  </a:lnTo>
                  <a:lnTo>
                    <a:pt x="442" y="274"/>
                  </a:lnTo>
                  <a:lnTo>
                    <a:pt x="422" y="272"/>
                  </a:lnTo>
                  <a:lnTo>
                    <a:pt x="406" y="256"/>
                  </a:lnTo>
                  <a:lnTo>
                    <a:pt x="386" y="252"/>
                  </a:lnTo>
                  <a:lnTo>
                    <a:pt x="366" y="252"/>
                  </a:lnTo>
                  <a:lnTo>
                    <a:pt x="314" y="264"/>
                  </a:lnTo>
                  <a:lnTo>
                    <a:pt x="276" y="256"/>
                  </a:lnTo>
                  <a:lnTo>
                    <a:pt x="260" y="264"/>
                  </a:lnTo>
                  <a:lnTo>
                    <a:pt x="240" y="264"/>
                  </a:lnTo>
                  <a:lnTo>
                    <a:pt x="224" y="250"/>
                  </a:lnTo>
                  <a:lnTo>
                    <a:pt x="210" y="210"/>
                  </a:lnTo>
                  <a:lnTo>
                    <a:pt x="206" y="192"/>
                  </a:lnTo>
                  <a:lnTo>
                    <a:pt x="238" y="176"/>
                  </a:lnTo>
                  <a:lnTo>
                    <a:pt x="252" y="166"/>
                  </a:lnTo>
                  <a:lnTo>
                    <a:pt x="270" y="168"/>
                  </a:lnTo>
                  <a:lnTo>
                    <a:pt x="308" y="162"/>
                  </a:lnTo>
                  <a:lnTo>
                    <a:pt x="326" y="164"/>
                  </a:lnTo>
                  <a:lnTo>
                    <a:pt x="366" y="184"/>
                  </a:lnTo>
                  <a:lnTo>
                    <a:pt x="382" y="176"/>
                  </a:lnTo>
                  <a:lnTo>
                    <a:pt x="386" y="158"/>
                  </a:lnTo>
                  <a:lnTo>
                    <a:pt x="402" y="152"/>
                  </a:lnTo>
                  <a:lnTo>
                    <a:pt x="404" y="130"/>
                  </a:lnTo>
                  <a:lnTo>
                    <a:pt x="394" y="132"/>
                  </a:lnTo>
                  <a:lnTo>
                    <a:pt x="380" y="140"/>
                  </a:lnTo>
                  <a:lnTo>
                    <a:pt x="362" y="144"/>
                  </a:lnTo>
                  <a:lnTo>
                    <a:pt x="348" y="128"/>
                  </a:lnTo>
                  <a:lnTo>
                    <a:pt x="326" y="92"/>
                  </a:lnTo>
                  <a:lnTo>
                    <a:pt x="334" y="78"/>
                  </a:lnTo>
                  <a:lnTo>
                    <a:pt x="348" y="68"/>
                  </a:lnTo>
                  <a:lnTo>
                    <a:pt x="354" y="52"/>
                  </a:lnTo>
                  <a:lnTo>
                    <a:pt x="344" y="34"/>
                  </a:lnTo>
                  <a:lnTo>
                    <a:pt x="328" y="18"/>
                  </a:lnTo>
                  <a:lnTo>
                    <a:pt x="320" y="0"/>
                  </a:lnTo>
                  <a:lnTo>
                    <a:pt x="300" y="0"/>
                  </a:lnTo>
                  <a:lnTo>
                    <a:pt x="290" y="12"/>
                  </a:lnTo>
                  <a:lnTo>
                    <a:pt x="286" y="30"/>
                  </a:lnTo>
                  <a:lnTo>
                    <a:pt x="258" y="48"/>
                  </a:lnTo>
                  <a:lnTo>
                    <a:pt x="234" y="70"/>
                  </a:lnTo>
                  <a:lnTo>
                    <a:pt x="216" y="72"/>
                  </a:lnTo>
                  <a:lnTo>
                    <a:pt x="198" y="60"/>
                  </a:lnTo>
                  <a:lnTo>
                    <a:pt x="184" y="70"/>
                  </a:lnTo>
                  <a:lnTo>
                    <a:pt x="188" y="90"/>
                  </a:lnTo>
                  <a:lnTo>
                    <a:pt x="176" y="102"/>
                  </a:lnTo>
                  <a:lnTo>
                    <a:pt x="190" y="118"/>
                  </a:lnTo>
                  <a:lnTo>
                    <a:pt x="198" y="136"/>
                  </a:lnTo>
                  <a:lnTo>
                    <a:pt x="196" y="156"/>
                  </a:lnTo>
                  <a:lnTo>
                    <a:pt x="188" y="168"/>
                  </a:lnTo>
                  <a:lnTo>
                    <a:pt x="152" y="176"/>
                  </a:lnTo>
                  <a:lnTo>
                    <a:pt x="138" y="186"/>
                  </a:lnTo>
                  <a:lnTo>
                    <a:pt x="142" y="206"/>
                  </a:lnTo>
                  <a:lnTo>
                    <a:pt x="132" y="258"/>
                  </a:lnTo>
                  <a:lnTo>
                    <a:pt x="116" y="268"/>
                  </a:lnTo>
                  <a:lnTo>
                    <a:pt x="80" y="270"/>
                  </a:lnTo>
                  <a:lnTo>
                    <a:pt x="60" y="268"/>
                  </a:lnTo>
                  <a:lnTo>
                    <a:pt x="42" y="254"/>
                  </a:lnTo>
                  <a:lnTo>
                    <a:pt x="26" y="258"/>
                  </a:lnTo>
                  <a:lnTo>
                    <a:pt x="10" y="268"/>
                  </a:lnTo>
                  <a:lnTo>
                    <a:pt x="4" y="284"/>
                  </a:lnTo>
                  <a:lnTo>
                    <a:pt x="14" y="304"/>
                  </a:lnTo>
                  <a:lnTo>
                    <a:pt x="0" y="314"/>
                  </a:lnTo>
                  <a:lnTo>
                    <a:pt x="18" y="330"/>
                  </a:lnTo>
                  <a:lnTo>
                    <a:pt x="40" y="340"/>
                  </a:lnTo>
                  <a:lnTo>
                    <a:pt x="52" y="358"/>
                  </a:lnTo>
                  <a:lnTo>
                    <a:pt x="72" y="362"/>
                  </a:lnTo>
                  <a:lnTo>
                    <a:pt x="90" y="358"/>
                  </a:lnTo>
                  <a:lnTo>
                    <a:pt x="110" y="368"/>
                  </a:lnTo>
                  <a:lnTo>
                    <a:pt x="120" y="386"/>
                  </a:lnTo>
                  <a:lnTo>
                    <a:pt x="122" y="406"/>
                  </a:lnTo>
                  <a:lnTo>
                    <a:pt x="118" y="424"/>
                  </a:lnTo>
                  <a:lnTo>
                    <a:pt x="140" y="462"/>
                  </a:lnTo>
                  <a:lnTo>
                    <a:pt x="156" y="478"/>
                  </a:lnTo>
                  <a:lnTo>
                    <a:pt x="176" y="490"/>
                  </a:lnTo>
                  <a:lnTo>
                    <a:pt x="184" y="506"/>
                  </a:lnTo>
                  <a:lnTo>
                    <a:pt x="182" y="524"/>
                  </a:lnTo>
                  <a:lnTo>
                    <a:pt x="176" y="538"/>
                  </a:lnTo>
                  <a:lnTo>
                    <a:pt x="162" y="548"/>
                  </a:lnTo>
                  <a:lnTo>
                    <a:pt x="160" y="564"/>
                  </a:lnTo>
                  <a:lnTo>
                    <a:pt x="146" y="594"/>
                  </a:lnTo>
                  <a:lnTo>
                    <a:pt x="140" y="626"/>
                  </a:lnTo>
                  <a:lnTo>
                    <a:pt x="148" y="644"/>
                  </a:lnTo>
                  <a:lnTo>
                    <a:pt x="154" y="660"/>
                  </a:lnTo>
                  <a:lnTo>
                    <a:pt x="144" y="668"/>
                  </a:lnTo>
                  <a:lnTo>
                    <a:pt x="144" y="66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64280" y="3173760"/>
              <a:ext cx="680400" cy="300600"/>
            </a:xfrm>
            <a:custGeom>
              <a:avLst/>
              <a:gdLst/>
              <a:ahLst/>
              <a:rect l="l" t="t" r="r" b="b"/>
              <a:pathLst>
                <a:path w="3912" h="1762">
                  <a:moveTo>
                    <a:pt x="0" y="636"/>
                  </a:moveTo>
                  <a:lnTo>
                    <a:pt x="4" y="590"/>
                  </a:lnTo>
                  <a:lnTo>
                    <a:pt x="20" y="552"/>
                  </a:lnTo>
                  <a:lnTo>
                    <a:pt x="52" y="534"/>
                  </a:lnTo>
                  <a:lnTo>
                    <a:pt x="84" y="522"/>
                  </a:lnTo>
                  <a:lnTo>
                    <a:pt x="114" y="492"/>
                  </a:lnTo>
                  <a:lnTo>
                    <a:pt x="138" y="458"/>
                  </a:lnTo>
                  <a:lnTo>
                    <a:pt x="176" y="428"/>
                  </a:lnTo>
                  <a:lnTo>
                    <a:pt x="208" y="382"/>
                  </a:lnTo>
                  <a:lnTo>
                    <a:pt x="280" y="352"/>
                  </a:lnTo>
                  <a:lnTo>
                    <a:pt x="322" y="326"/>
                  </a:lnTo>
                  <a:lnTo>
                    <a:pt x="366" y="318"/>
                  </a:lnTo>
                  <a:lnTo>
                    <a:pt x="416" y="322"/>
                  </a:lnTo>
                  <a:lnTo>
                    <a:pt x="458" y="332"/>
                  </a:lnTo>
                  <a:lnTo>
                    <a:pt x="498" y="352"/>
                  </a:lnTo>
                  <a:lnTo>
                    <a:pt x="532" y="342"/>
                  </a:lnTo>
                  <a:lnTo>
                    <a:pt x="574" y="334"/>
                  </a:lnTo>
                  <a:lnTo>
                    <a:pt x="614" y="336"/>
                  </a:lnTo>
                  <a:lnTo>
                    <a:pt x="712" y="392"/>
                  </a:lnTo>
                  <a:lnTo>
                    <a:pt x="730" y="406"/>
                  </a:lnTo>
                  <a:lnTo>
                    <a:pt x="770" y="408"/>
                  </a:lnTo>
                  <a:lnTo>
                    <a:pt x="858" y="384"/>
                  </a:lnTo>
                  <a:lnTo>
                    <a:pt x="896" y="396"/>
                  </a:lnTo>
                  <a:lnTo>
                    <a:pt x="990" y="390"/>
                  </a:lnTo>
                  <a:lnTo>
                    <a:pt x="1064" y="376"/>
                  </a:lnTo>
                  <a:lnTo>
                    <a:pt x="1078" y="362"/>
                  </a:lnTo>
                  <a:lnTo>
                    <a:pt x="1068" y="346"/>
                  </a:lnTo>
                  <a:lnTo>
                    <a:pt x="1048" y="326"/>
                  </a:lnTo>
                  <a:lnTo>
                    <a:pt x="1036" y="296"/>
                  </a:lnTo>
                  <a:lnTo>
                    <a:pt x="1038" y="262"/>
                  </a:lnTo>
                  <a:lnTo>
                    <a:pt x="1018" y="230"/>
                  </a:lnTo>
                  <a:lnTo>
                    <a:pt x="980" y="204"/>
                  </a:lnTo>
                  <a:lnTo>
                    <a:pt x="952" y="168"/>
                  </a:lnTo>
                  <a:lnTo>
                    <a:pt x="934" y="134"/>
                  </a:lnTo>
                  <a:lnTo>
                    <a:pt x="950" y="102"/>
                  </a:lnTo>
                  <a:lnTo>
                    <a:pt x="962" y="70"/>
                  </a:lnTo>
                  <a:lnTo>
                    <a:pt x="982" y="38"/>
                  </a:lnTo>
                  <a:lnTo>
                    <a:pt x="986" y="6"/>
                  </a:lnTo>
                  <a:lnTo>
                    <a:pt x="1012" y="0"/>
                  </a:lnTo>
                  <a:lnTo>
                    <a:pt x="1058" y="8"/>
                  </a:lnTo>
                  <a:lnTo>
                    <a:pt x="1102" y="28"/>
                  </a:lnTo>
                  <a:lnTo>
                    <a:pt x="1190" y="40"/>
                  </a:lnTo>
                  <a:lnTo>
                    <a:pt x="1230" y="66"/>
                  </a:lnTo>
                  <a:lnTo>
                    <a:pt x="1284" y="74"/>
                  </a:lnTo>
                  <a:lnTo>
                    <a:pt x="1338" y="76"/>
                  </a:lnTo>
                  <a:lnTo>
                    <a:pt x="1382" y="84"/>
                  </a:lnTo>
                  <a:lnTo>
                    <a:pt x="1422" y="116"/>
                  </a:lnTo>
                  <a:lnTo>
                    <a:pt x="1468" y="172"/>
                  </a:lnTo>
                  <a:lnTo>
                    <a:pt x="1492" y="212"/>
                  </a:lnTo>
                  <a:lnTo>
                    <a:pt x="1504" y="212"/>
                  </a:lnTo>
                  <a:lnTo>
                    <a:pt x="1552" y="238"/>
                  </a:lnTo>
                  <a:lnTo>
                    <a:pt x="1620" y="266"/>
                  </a:lnTo>
                  <a:lnTo>
                    <a:pt x="1702" y="280"/>
                  </a:lnTo>
                  <a:lnTo>
                    <a:pt x="1752" y="264"/>
                  </a:lnTo>
                  <a:lnTo>
                    <a:pt x="1790" y="230"/>
                  </a:lnTo>
                  <a:lnTo>
                    <a:pt x="1830" y="202"/>
                  </a:lnTo>
                  <a:lnTo>
                    <a:pt x="1900" y="210"/>
                  </a:lnTo>
                  <a:lnTo>
                    <a:pt x="2020" y="238"/>
                  </a:lnTo>
                  <a:lnTo>
                    <a:pt x="2056" y="258"/>
                  </a:lnTo>
                  <a:lnTo>
                    <a:pt x="2060" y="258"/>
                  </a:lnTo>
                  <a:lnTo>
                    <a:pt x="2080" y="266"/>
                  </a:lnTo>
                  <a:lnTo>
                    <a:pt x="2140" y="288"/>
                  </a:lnTo>
                  <a:lnTo>
                    <a:pt x="2192" y="296"/>
                  </a:lnTo>
                  <a:lnTo>
                    <a:pt x="2246" y="308"/>
                  </a:lnTo>
                  <a:lnTo>
                    <a:pt x="2300" y="348"/>
                  </a:lnTo>
                  <a:lnTo>
                    <a:pt x="2376" y="374"/>
                  </a:lnTo>
                  <a:lnTo>
                    <a:pt x="2448" y="376"/>
                  </a:lnTo>
                  <a:lnTo>
                    <a:pt x="2508" y="388"/>
                  </a:lnTo>
                  <a:lnTo>
                    <a:pt x="2546" y="388"/>
                  </a:lnTo>
                  <a:lnTo>
                    <a:pt x="2596" y="380"/>
                  </a:lnTo>
                  <a:lnTo>
                    <a:pt x="2646" y="392"/>
                  </a:lnTo>
                  <a:lnTo>
                    <a:pt x="2732" y="342"/>
                  </a:lnTo>
                  <a:lnTo>
                    <a:pt x="2794" y="320"/>
                  </a:lnTo>
                  <a:lnTo>
                    <a:pt x="2846" y="306"/>
                  </a:lnTo>
                  <a:lnTo>
                    <a:pt x="2880" y="238"/>
                  </a:lnTo>
                  <a:lnTo>
                    <a:pt x="2908" y="200"/>
                  </a:lnTo>
                  <a:lnTo>
                    <a:pt x="2948" y="180"/>
                  </a:lnTo>
                  <a:lnTo>
                    <a:pt x="3012" y="196"/>
                  </a:lnTo>
                  <a:lnTo>
                    <a:pt x="3068" y="220"/>
                  </a:lnTo>
                  <a:lnTo>
                    <a:pt x="3118" y="224"/>
                  </a:lnTo>
                  <a:lnTo>
                    <a:pt x="3148" y="212"/>
                  </a:lnTo>
                  <a:lnTo>
                    <a:pt x="3166" y="196"/>
                  </a:lnTo>
                  <a:lnTo>
                    <a:pt x="3182" y="200"/>
                  </a:lnTo>
                  <a:lnTo>
                    <a:pt x="3182" y="200"/>
                  </a:lnTo>
                  <a:lnTo>
                    <a:pt x="3188" y="208"/>
                  </a:lnTo>
                  <a:lnTo>
                    <a:pt x="3180" y="226"/>
                  </a:lnTo>
                  <a:lnTo>
                    <a:pt x="3190" y="288"/>
                  </a:lnTo>
                  <a:lnTo>
                    <a:pt x="3186" y="322"/>
                  </a:lnTo>
                  <a:lnTo>
                    <a:pt x="3190" y="340"/>
                  </a:lnTo>
                  <a:lnTo>
                    <a:pt x="3212" y="370"/>
                  </a:lnTo>
                  <a:lnTo>
                    <a:pt x="3242" y="406"/>
                  </a:lnTo>
                  <a:lnTo>
                    <a:pt x="3264" y="446"/>
                  </a:lnTo>
                  <a:lnTo>
                    <a:pt x="3270" y="484"/>
                  </a:lnTo>
                  <a:lnTo>
                    <a:pt x="3300" y="530"/>
                  </a:lnTo>
                  <a:lnTo>
                    <a:pt x="3336" y="572"/>
                  </a:lnTo>
                  <a:lnTo>
                    <a:pt x="3374" y="602"/>
                  </a:lnTo>
                  <a:lnTo>
                    <a:pt x="3470" y="612"/>
                  </a:lnTo>
                  <a:lnTo>
                    <a:pt x="3524" y="604"/>
                  </a:lnTo>
                  <a:lnTo>
                    <a:pt x="3564" y="584"/>
                  </a:lnTo>
                  <a:lnTo>
                    <a:pt x="3586" y="554"/>
                  </a:lnTo>
                  <a:lnTo>
                    <a:pt x="3614" y="504"/>
                  </a:lnTo>
                  <a:lnTo>
                    <a:pt x="3646" y="530"/>
                  </a:lnTo>
                  <a:lnTo>
                    <a:pt x="3694" y="560"/>
                  </a:lnTo>
                  <a:lnTo>
                    <a:pt x="3790" y="604"/>
                  </a:lnTo>
                  <a:lnTo>
                    <a:pt x="3822" y="632"/>
                  </a:lnTo>
                  <a:lnTo>
                    <a:pt x="3838" y="662"/>
                  </a:lnTo>
                  <a:lnTo>
                    <a:pt x="3852" y="680"/>
                  </a:lnTo>
                  <a:lnTo>
                    <a:pt x="3890" y="696"/>
                  </a:lnTo>
                  <a:lnTo>
                    <a:pt x="3912" y="724"/>
                  </a:lnTo>
                  <a:lnTo>
                    <a:pt x="3900" y="736"/>
                  </a:lnTo>
                  <a:lnTo>
                    <a:pt x="3860" y="738"/>
                  </a:lnTo>
                  <a:lnTo>
                    <a:pt x="3810" y="728"/>
                  </a:lnTo>
                  <a:lnTo>
                    <a:pt x="3766" y="746"/>
                  </a:lnTo>
                  <a:lnTo>
                    <a:pt x="3720" y="758"/>
                  </a:lnTo>
                  <a:lnTo>
                    <a:pt x="3664" y="760"/>
                  </a:lnTo>
                  <a:lnTo>
                    <a:pt x="3624" y="772"/>
                  </a:lnTo>
                  <a:lnTo>
                    <a:pt x="3612" y="810"/>
                  </a:lnTo>
                  <a:lnTo>
                    <a:pt x="3582" y="940"/>
                  </a:lnTo>
                  <a:lnTo>
                    <a:pt x="3560" y="970"/>
                  </a:lnTo>
                  <a:lnTo>
                    <a:pt x="3546" y="976"/>
                  </a:lnTo>
                  <a:lnTo>
                    <a:pt x="3520" y="976"/>
                  </a:lnTo>
                  <a:lnTo>
                    <a:pt x="3498" y="980"/>
                  </a:lnTo>
                  <a:lnTo>
                    <a:pt x="3482" y="1030"/>
                  </a:lnTo>
                  <a:lnTo>
                    <a:pt x="3470" y="1082"/>
                  </a:lnTo>
                  <a:lnTo>
                    <a:pt x="3434" y="1124"/>
                  </a:lnTo>
                  <a:lnTo>
                    <a:pt x="3394" y="1128"/>
                  </a:lnTo>
                  <a:lnTo>
                    <a:pt x="3344" y="1122"/>
                  </a:lnTo>
                  <a:lnTo>
                    <a:pt x="3300" y="1096"/>
                  </a:lnTo>
                  <a:lnTo>
                    <a:pt x="3260" y="1086"/>
                  </a:lnTo>
                  <a:lnTo>
                    <a:pt x="3222" y="1106"/>
                  </a:lnTo>
                  <a:lnTo>
                    <a:pt x="3226" y="1144"/>
                  </a:lnTo>
                  <a:lnTo>
                    <a:pt x="3224" y="1192"/>
                  </a:lnTo>
                  <a:lnTo>
                    <a:pt x="3236" y="1226"/>
                  </a:lnTo>
                  <a:lnTo>
                    <a:pt x="3322" y="1288"/>
                  </a:lnTo>
                  <a:lnTo>
                    <a:pt x="3344" y="1318"/>
                  </a:lnTo>
                  <a:lnTo>
                    <a:pt x="3282" y="1444"/>
                  </a:lnTo>
                  <a:lnTo>
                    <a:pt x="3280" y="1480"/>
                  </a:lnTo>
                  <a:lnTo>
                    <a:pt x="3254" y="1516"/>
                  </a:lnTo>
                  <a:lnTo>
                    <a:pt x="3234" y="1540"/>
                  </a:lnTo>
                  <a:lnTo>
                    <a:pt x="3182" y="1572"/>
                  </a:lnTo>
                  <a:lnTo>
                    <a:pt x="3122" y="1580"/>
                  </a:lnTo>
                  <a:lnTo>
                    <a:pt x="3114" y="1588"/>
                  </a:lnTo>
                  <a:lnTo>
                    <a:pt x="3042" y="1574"/>
                  </a:lnTo>
                  <a:lnTo>
                    <a:pt x="3014" y="1590"/>
                  </a:lnTo>
                  <a:lnTo>
                    <a:pt x="2954" y="1590"/>
                  </a:lnTo>
                  <a:lnTo>
                    <a:pt x="2926" y="1614"/>
                  </a:lnTo>
                  <a:lnTo>
                    <a:pt x="2850" y="1634"/>
                  </a:lnTo>
                  <a:lnTo>
                    <a:pt x="2830" y="1644"/>
                  </a:lnTo>
                  <a:lnTo>
                    <a:pt x="2824" y="1668"/>
                  </a:lnTo>
                  <a:lnTo>
                    <a:pt x="2802" y="1680"/>
                  </a:lnTo>
                  <a:lnTo>
                    <a:pt x="2776" y="1688"/>
                  </a:lnTo>
                  <a:lnTo>
                    <a:pt x="2724" y="1718"/>
                  </a:lnTo>
                  <a:lnTo>
                    <a:pt x="2698" y="1756"/>
                  </a:lnTo>
                  <a:lnTo>
                    <a:pt x="2678" y="1762"/>
                  </a:lnTo>
                  <a:lnTo>
                    <a:pt x="2646" y="1754"/>
                  </a:lnTo>
                  <a:lnTo>
                    <a:pt x="2612" y="1736"/>
                  </a:lnTo>
                  <a:lnTo>
                    <a:pt x="2596" y="1732"/>
                  </a:lnTo>
                  <a:lnTo>
                    <a:pt x="2532" y="1732"/>
                  </a:lnTo>
                  <a:lnTo>
                    <a:pt x="2474" y="1718"/>
                  </a:lnTo>
                  <a:lnTo>
                    <a:pt x="2420" y="1698"/>
                  </a:lnTo>
                  <a:lnTo>
                    <a:pt x="2334" y="1682"/>
                  </a:lnTo>
                  <a:lnTo>
                    <a:pt x="2272" y="1660"/>
                  </a:lnTo>
                  <a:lnTo>
                    <a:pt x="2222" y="1630"/>
                  </a:lnTo>
                  <a:lnTo>
                    <a:pt x="2190" y="1610"/>
                  </a:lnTo>
                  <a:lnTo>
                    <a:pt x="2164" y="1600"/>
                  </a:lnTo>
                  <a:lnTo>
                    <a:pt x="2076" y="1580"/>
                  </a:lnTo>
                  <a:lnTo>
                    <a:pt x="2034" y="1576"/>
                  </a:lnTo>
                  <a:lnTo>
                    <a:pt x="1998" y="1588"/>
                  </a:lnTo>
                  <a:lnTo>
                    <a:pt x="1676" y="1632"/>
                  </a:lnTo>
                  <a:lnTo>
                    <a:pt x="1632" y="1636"/>
                  </a:lnTo>
                  <a:lnTo>
                    <a:pt x="1594" y="1622"/>
                  </a:lnTo>
                  <a:lnTo>
                    <a:pt x="1544" y="1594"/>
                  </a:lnTo>
                  <a:lnTo>
                    <a:pt x="1496" y="1558"/>
                  </a:lnTo>
                  <a:lnTo>
                    <a:pt x="1452" y="1528"/>
                  </a:lnTo>
                  <a:lnTo>
                    <a:pt x="1406" y="1484"/>
                  </a:lnTo>
                  <a:lnTo>
                    <a:pt x="1368" y="1440"/>
                  </a:lnTo>
                  <a:lnTo>
                    <a:pt x="1324" y="1402"/>
                  </a:lnTo>
                  <a:lnTo>
                    <a:pt x="1284" y="1372"/>
                  </a:lnTo>
                  <a:lnTo>
                    <a:pt x="1256" y="1370"/>
                  </a:lnTo>
                  <a:lnTo>
                    <a:pt x="1218" y="1352"/>
                  </a:lnTo>
                  <a:lnTo>
                    <a:pt x="1140" y="1336"/>
                  </a:lnTo>
                  <a:lnTo>
                    <a:pt x="1092" y="1320"/>
                  </a:lnTo>
                  <a:lnTo>
                    <a:pt x="1050" y="1300"/>
                  </a:lnTo>
                  <a:lnTo>
                    <a:pt x="974" y="1282"/>
                  </a:lnTo>
                  <a:lnTo>
                    <a:pt x="940" y="1270"/>
                  </a:lnTo>
                  <a:lnTo>
                    <a:pt x="914" y="1274"/>
                  </a:lnTo>
                  <a:lnTo>
                    <a:pt x="890" y="1286"/>
                  </a:lnTo>
                  <a:lnTo>
                    <a:pt x="866" y="1286"/>
                  </a:lnTo>
                  <a:lnTo>
                    <a:pt x="782" y="1268"/>
                  </a:lnTo>
                  <a:lnTo>
                    <a:pt x="710" y="1262"/>
                  </a:lnTo>
                  <a:lnTo>
                    <a:pt x="670" y="1252"/>
                  </a:lnTo>
                  <a:lnTo>
                    <a:pt x="644" y="1238"/>
                  </a:lnTo>
                  <a:lnTo>
                    <a:pt x="632" y="1206"/>
                  </a:lnTo>
                  <a:lnTo>
                    <a:pt x="632" y="1168"/>
                  </a:lnTo>
                  <a:lnTo>
                    <a:pt x="614" y="1126"/>
                  </a:lnTo>
                  <a:lnTo>
                    <a:pt x="586" y="1084"/>
                  </a:lnTo>
                  <a:lnTo>
                    <a:pt x="556" y="1024"/>
                  </a:lnTo>
                  <a:lnTo>
                    <a:pt x="484" y="936"/>
                  </a:lnTo>
                  <a:lnTo>
                    <a:pt x="446" y="898"/>
                  </a:lnTo>
                  <a:lnTo>
                    <a:pt x="406" y="856"/>
                  </a:lnTo>
                  <a:lnTo>
                    <a:pt x="370" y="822"/>
                  </a:lnTo>
                  <a:lnTo>
                    <a:pt x="330" y="820"/>
                  </a:lnTo>
                  <a:lnTo>
                    <a:pt x="292" y="804"/>
                  </a:lnTo>
                  <a:lnTo>
                    <a:pt x="254" y="800"/>
                  </a:lnTo>
                  <a:lnTo>
                    <a:pt x="248" y="824"/>
                  </a:lnTo>
                  <a:lnTo>
                    <a:pt x="204" y="804"/>
                  </a:lnTo>
                  <a:lnTo>
                    <a:pt x="162" y="762"/>
                  </a:lnTo>
                  <a:lnTo>
                    <a:pt x="72" y="716"/>
                  </a:lnTo>
                  <a:lnTo>
                    <a:pt x="24" y="666"/>
                  </a:lnTo>
                  <a:lnTo>
                    <a:pt x="4" y="644"/>
                  </a:lnTo>
                  <a:lnTo>
                    <a:pt x="0" y="636"/>
                  </a:lnTo>
                  <a:lnTo>
                    <a:pt x="0" y="63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15160" y="4537080"/>
              <a:ext cx="109080" cy="162360"/>
            </a:xfrm>
            <a:custGeom>
              <a:avLst/>
              <a:gdLst/>
              <a:ahLst/>
              <a:rect l="l" t="t" r="r" b="b"/>
              <a:pathLst>
                <a:path w="630" h="954">
                  <a:moveTo>
                    <a:pt x="16" y="48"/>
                  </a:moveTo>
                  <a:lnTo>
                    <a:pt x="10" y="50"/>
                  </a:lnTo>
                  <a:lnTo>
                    <a:pt x="24" y="80"/>
                  </a:lnTo>
                  <a:lnTo>
                    <a:pt x="34" y="138"/>
                  </a:lnTo>
                  <a:lnTo>
                    <a:pt x="46" y="180"/>
                  </a:lnTo>
                  <a:lnTo>
                    <a:pt x="56" y="286"/>
                  </a:lnTo>
                  <a:lnTo>
                    <a:pt x="68" y="320"/>
                  </a:lnTo>
                  <a:lnTo>
                    <a:pt x="90" y="340"/>
                  </a:lnTo>
                  <a:lnTo>
                    <a:pt x="92" y="378"/>
                  </a:lnTo>
                  <a:lnTo>
                    <a:pt x="92" y="426"/>
                  </a:lnTo>
                  <a:lnTo>
                    <a:pt x="108" y="462"/>
                  </a:lnTo>
                  <a:lnTo>
                    <a:pt x="114" y="486"/>
                  </a:lnTo>
                  <a:lnTo>
                    <a:pt x="164" y="566"/>
                  </a:lnTo>
                  <a:lnTo>
                    <a:pt x="190" y="600"/>
                  </a:lnTo>
                  <a:lnTo>
                    <a:pt x="206" y="642"/>
                  </a:lnTo>
                  <a:lnTo>
                    <a:pt x="212" y="684"/>
                  </a:lnTo>
                  <a:lnTo>
                    <a:pt x="236" y="716"/>
                  </a:lnTo>
                  <a:lnTo>
                    <a:pt x="280" y="752"/>
                  </a:lnTo>
                  <a:lnTo>
                    <a:pt x="338" y="812"/>
                  </a:lnTo>
                  <a:lnTo>
                    <a:pt x="374" y="830"/>
                  </a:lnTo>
                  <a:lnTo>
                    <a:pt x="414" y="868"/>
                  </a:lnTo>
                  <a:lnTo>
                    <a:pt x="438" y="882"/>
                  </a:lnTo>
                  <a:lnTo>
                    <a:pt x="474" y="908"/>
                  </a:lnTo>
                  <a:lnTo>
                    <a:pt x="504" y="944"/>
                  </a:lnTo>
                  <a:lnTo>
                    <a:pt x="514" y="936"/>
                  </a:lnTo>
                  <a:lnTo>
                    <a:pt x="524" y="954"/>
                  </a:lnTo>
                  <a:lnTo>
                    <a:pt x="536" y="942"/>
                  </a:lnTo>
                  <a:lnTo>
                    <a:pt x="540" y="922"/>
                  </a:lnTo>
                  <a:lnTo>
                    <a:pt x="556" y="910"/>
                  </a:lnTo>
                  <a:lnTo>
                    <a:pt x="592" y="918"/>
                  </a:lnTo>
                  <a:lnTo>
                    <a:pt x="614" y="946"/>
                  </a:lnTo>
                  <a:lnTo>
                    <a:pt x="624" y="922"/>
                  </a:lnTo>
                  <a:lnTo>
                    <a:pt x="630" y="870"/>
                  </a:lnTo>
                  <a:lnTo>
                    <a:pt x="586" y="772"/>
                  </a:lnTo>
                  <a:lnTo>
                    <a:pt x="572" y="728"/>
                  </a:lnTo>
                  <a:lnTo>
                    <a:pt x="526" y="686"/>
                  </a:lnTo>
                  <a:lnTo>
                    <a:pt x="508" y="624"/>
                  </a:lnTo>
                  <a:lnTo>
                    <a:pt x="496" y="490"/>
                  </a:lnTo>
                  <a:lnTo>
                    <a:pt x="500" y="410"/>
                  </a:lnTo>
                  <a:lnTo>
                    <a:pt x="498" y="350"/>
                  </a:lnTo>
                  <a:lnTo>
                    <a:pt x="490" y="308"/>
                  </a:lnTo>
                  <a:lnTo>
                    <a:pt x="472" y="270"/>
                  </a:lnTo>
                  <a:lnTo>
                    <a:pt x="426" y="192"/>
                  </a:lnTo>
                  <a:lnTo>
                    <a:pt x="364" y="138"/>
                  </a:lnTo>
                  <a:lnTo>
                    <a:pt x="326" y="88"/>
                  </a:lnTo>
                  <a:lnTo>
                    <a:pt x="294" y="90"/>
                  </a:lnTo>
                  <a:lnTo>
                    <a:pt x="278" y="132"/>
                  </a:lnTo>
                  <a:lnTo>
                    <a:pt x="250" y="136"/>
                  </a:lnTo>
                  <a:lnTo>
                    <a:pt x="222" y="132"/>
                  </a:lnTo>
                  <a:lnTo>
                    <a:pt x="164" y="184"/>
                  </a:lnTo>
                  <a:lnTo>
                    <a:pt x="150" y="146"/>
                  </a:lnTo>
                  <a:lnTo>
                    <a:pt x="154" y="92"/>
                  </a:lnTo>
                  <a:lnTo>
                    <a:pt x="124" y="44"/>
                  </a:lnTo>
                  <a:lnTo>
                    <a:pt x="100" y="36"/>
                  </a:lnTo>
                  <a:lnTo>
                    <a:pt x="54" y="3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16" y="4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13760" y="3166200"/>
              <a:ext cx="215280" cy="163800"/>
            </a:xfrm>
            <a:custGeom>
              <a:avLst/>
              <a:gdLst/>
              <a:ahLst/>
              <a:rect l="l" t="t" r="r" b="b"/>
              <a:pathLst>
                <a:path w="1234" h="958">
                  <a:moveTo>
                    <a:pt x="1142" y="538"/>
                  </a:moveTo>
                  <a:lnTo>
                    <a:pt x="1158" y="562"/>
                  </a:lnTo>
                  <a:lnTo>
                    <a:pt x="1166" y="586"/>
                  </a:lnTo>
                  <a:lnTo>
                    <a:pt x="1186" y="622"/>
                  </a:lnTo>
                  <a:lnTo>
                    <a:pt x="1190" y="628"/>
                  </a:lnTo>
                  <a:lnTo>
                    <a:pt x="1216" y="650"/>
                  </a:lnTo>
                  <a:lnTo>
                    <a:pt x="1216" y="672"/>
                  </a:lnTo>
                  <a:lnTo>
                    <a:pt x="1234" y="702"/>
                  </a:lnTo>
                  <a:lnTo>
                    <a:pt x="1226" y="728"/>
                  </a:lnTo>
                  <a:lnTo>
                    <a:pt x="1192" y="760"/>
                  </a:lnTo>
                  <a:lnTo>
                    <a:pt x="1152" y="786"/>
                  </a:lnTo>
                  <a:lnTo>
                    <a:pt x="1124" y="824"/>
                  </a:lnTo>
                  <a:lnTo>
                    <a:pt x="1096" y="900"/>
                  </a:lnTo>
                  <a:lnTo>
                    <a:pt x="1094" y="928"/>
                  </a:lnTo>
                  <a:lnTo>
                    <a:pt x="1104" y="954"/>
                  </a:lnTo>
                  <a:lnTo>
                    <a:pt x="1080" y="958"/>
                  </a:lnTo>
                  <a:lnTo>
                    <a:pt x="1070" y="956"/>
                  </a:lnTo>
                  <a:lnTo>
                    <a:pt x="1048" y="950"/>
                  </a:lnTo>
                  <a:lnTo>
                    <a:pt x="1020" y="934"/>
                  </a:lnTo>
                  <a:lnTo>
                    <a:pt x="1000" y="916"/>
                  </a:lnTo>
                  <a:lnTo>
                    <a:pt x="976" y="904"/>
                  </a:lnTo>
                  <a:lnTo>
                    <a:pt x="946" y="902"/>
                  </a:lnTo>
                  <a:lnTo>
                    <a:pt x="918" y="904"/>
                  </a:lnTo>
                  <a:lnTo>
                    <a:pt x="898" y="916"/>
                  </a:lnTo>
                  <a:lnTo>
                    <a:pt x="882" y="926"/>
                  </a:lnTo>
                  <a:lnTo>
                    <a:pt x="858" y="912"/>
                  </a:lnTo>
                  <a:lnTo>
                    <a:pt x="816" y="912"/>
                  </a:lnTo>
                  <a:lnTo>
                    <a:pt x="798" y="932"/>
                  </a:lnTo>
                  <a:lnTo>
                    <a:pt x="778" y="942"/>
                  </a:lnTo>
                  <a:lnTo>
                    <a:pt x="760" y="936"/>
                  </a:lnTo>
                  <a:lnTo>
                    <a:pt x="742" y="918"/>
                  </a:lnTo>
                  <a:lnTo>
                    <a:pt x="720" y="900"/>
                  </a:lnTo>
                  <a:lnTo>
                    <a:pt x="700" y="888"/>
                  </a:lnTo>
                  <a:lnTo>
                    <a:pt x="678" y="898"/>
                  </a:lnTo>
                  <a:lnTo>
                    <a:pt x="654" y="902"/>
                  </a:lnTo>
                  <a:lnTo>
                    <a:pt x="628" y="892"/>
                  </a:lnTo>
                  <a:lnTo>
                    <a:pt x="584" y="876"/>
                  </a:lnTo>
                  <a:lnTo>
                    <a:pt x="536" y="820"/>
                  </a:lnTo>
                  <a:lnTo>
                    <a:pt x="516" y="810"/>
                  </a:lnTo>
                  <a:lnTo>
                    <a:pt x="504" y="814"/>
                  </a:lnTo>
                  <a:lnTo>
                    <a:pt x="484" y="800"/>
                  </a:lnTo>
                  <a:lnTo>
                    <a:pt x="478" y="770"/>
                  </a:lnTo>
                  <a:lnTo>
                    <a:pt x="434" y="764"/>
                  </a:lnTo>
                  <a:lnTo>
                    <a:pt x="380" y="748"/>
                  </a:lnTo>
                  <a:lnTo>
                    <a:pt x="378" y="760"/>
                  </a:lnTo>
                  <a:lnTo>
                    <a:pt x="386" y="772"/>
                  </a:lnTo>
                  <a:lnTo>
                    <a:pt x="362" y="788"/>
                  </a:lnTo>
                  <a:lnTo>
                    <a:pt x="346" y="782"/>
                  </a:lnTo>
                  <a:lnTo>
                    <a:pt x="300" y="746"/>
                  </a:lnTo>
                  <a:lnTo>
                    <a:pt x="308" y="724"/>
                  </a:lnTo>
                  <a:lnTo>
                    <a:pt x="308" y="720"/>
                  </a:lnTo>
                  <a:lnTo>
                    <a:pt x="306" y="716"/>
                  </a:lnTo>
                  <a:lnTo>
                    <a:pt x="280" y="712"/>
                  </a:lnTo>
                  <a:lnTo>
                    <a:pt x="258" y="690"/>
                  </a:lnTo>
                  <a:lnTo>
                    <a:pt x="210" y="682"/>
                  </a:lnTo>
                  <a:lnTo>
                    <a:pt x="194" y="682"/>
                  </a:lnTo>
                  <a:lnTo>
                    <a:pt x="180" y="664"/>
                  </a:lnTo>
                  <a:lnTo>
                    <a:pt x="156" y="654"/>
                  </a:lnTo>
                  <a:lnTo>
                    <a:pt x="128" y="684"/>
                  </a:lnTo>
                  <a:lnTo>
                    <a:pt x="112" y="676"/>
                  </a:lnTo>
                  <a:lnTo>
                    <a:pt x="118" y="662"/>
                  </a:lnTo>
                  <a:lnTo>
                    <a:pt x="124" y="626"/>
                  </a:lnTo>
                  <a:lnTo>
                    <a:pt x="122" y="586"/>
                  </a:lnTo>
                  <a:lnTo>
                    <a:pt x="120" y="578"/>
                  </a:lnTo>
                  <a:lnTo>
                    <a:pt x="82" y="544"/>
                  </a:lnTo>
                  <a:lnTo>
                    <a:pt x="74" y="498"/>
                  </a:lnTo>
                  <a:lnTo>
                    <a:pt x="72" y="478"/>
                  </a:lnTo>
                  <a:lnTo>
                    <a:pt x="66" y="448"/>
                  </a:lnTo>
                  <a:lnTo>
                    <a:pt x="58" y="430"/>
                  </a:lnTo>
                  <a:lnTo>
                    <a:pt x="50" y="384"/>
                  </a:lnTo>
                  <a:lnTo>
                    <a:pt x="44" y="368"/>
                  </a:lnTo>
                  <a:lnTo>
                    <a:pt x="12" y="348"/>
                  </a:lnTo>
                  <a:lnTo>
                    <a:pt x="10" y="336"/>
                  </a:lnTo>
                  <a:lnTo>
                    <a:pt x="16" y="312"/>
                  </a:lnTo>
                  <a:lnTo>
                    <a:pt x="28" y="290"/>
                  </a:lnTo>
                  <a:lnTo>
                    <a:pt x="28" y="268"/>
                  </a:lnTo>
                  <a:lnTo>
                    <a:pt x="26" y="236"/>
                  </a:lnTo>
                  <a:lnTo>
                    <a:pt x="6" y="206"/>
                  </a:lnTo>
                  <a:lnTo>
                    <a:pt x="0" y="190"/>
                  </a:lnTo>
                  <a:lnTo>
                    <a:pt x="36" y="202"/>
                  </a:lnTo>
                  <a:lnTo>
                    <a:pt x="40" y="192"/>
                  </a:lnTo>
                  <a:lnTo>
                    <a:pt x="40" y="178"/>
                  </a:lnTo>
                  <a:lnTo>
                    <a:pt x="10" y="170"/>
                  </a:lnTo>
                  <a:lnTo>
                    <a:pt x="28" y="160"/>
                  </a:lnTo>
                  <a:lnTo>
                    <a:pt x="48" y="152"/>
                  </a:lnTo>
                  <a:lnTo>
                    <a:pt x="50" y="160"/>
                  </a:lnTo>
                  <a:lnTo>
                    <a:pt x="74" y="136"/>
                  </a:lnTo>
                  <a:lnTo>
                    <a:pt x="100" y="124"/>
                  </a:lnTo>
                  <a:lnTo>
                    <a:pt x="138" y="118"/>
                  </a:lnTo>
                  <a:lnTo>
                    <a:pt x="204" y="98"/>
                  </a:lnTo>
                  <a:lnTo>
                    <a:pt x="268" y="48"/>
                  </a:lnTo>
                  <a:lnTo>
                    <a:pt x="298" y="40"/>
                  </a:lnTo>
                  <a:lnTo>
                    <a:pt x="344" y="18"/>
                  </a:lnTo>
                  <a:lnTo>
                    <a:pt x="432" y="0"/>
                  </a:lnTo>
                  <a:lnTo>
                    <a:pt x="462" y="0"/>
                  </a:lnTo>
                  <a:lnTo>
                    <a:pt x="486" y="6"/>
                  </a:lnTo>
                  <a:lnTo>
                    <a:pt x="506" y="12"/>
                  </a:lnTo>
                  <a:lnTo>
                    <a:pt x="522" y="26"/>
                  </a:lnTo>
                  <a:lnTo>
                    <a:pt x="522" y="38"/>
                  </a:lnTo>
                  <a:lnTo>
                    <a:pt x="480" y="18"/>
                  </a:lnTo>
                  <a:lnTo>
                    <a:pt x="484" y="30"/>
                  </a:lnTo>
                  <a:lnTo>
                    <a:pt x="518" y="88"/>
                  </a:lnTo>
                  <a:lnTo>
                    <a:pt x="534" y="92"/>
                  </a:lnTo>
                  <a:lnTo>
                    <a:pt x="534" y="86"/>
                  </a:lnTo>
                  <a:lnTo>
                    <a:pt x="542" y="80"/>
                  </a:lnTo>
                  <a:lnTo>
                    <a:pt x="552" y="86"/>
                  </a:lnTo>
                  <a:lnTo>
                    <a:pt x="574" y="78"/>
                  </a:lnTo>
                  <a:lnTo>
                    <a:pt x="602" y="72"/>
                  </a:lnTo>
                  <a:lnTo>
                    <a:pt x="622" y="62"/>
                  </a:lnTo>
                  <a:lnTo>
                    <a:pt x="652" y="70"/>
                  </a:lnTo>
                  <a:lnTo>
                    <a:pt x="790" y="88"/>
                  </a:lnTo>
                  <a:lnTo>
                    <a:pt x="894" y="86"/>
                  </a:lnTo>
                  <a:lnTo>
                    <a:pt x="950" y="74"/>
                  </a:lnTo>
                  <a:lnTo>
                    <a:pt x="998" y="68"/>
                  </a:lnTo>
                  <a:lnTo>
                    <a:pt x="1032" y="80"/>
                  </a:lnTo>
                  <a:lnTo>
                    <a:pt x="1072" y="102"/>
                  </a:lnTo>
                  <a:lnTo>
                    <a:pt x="1086" y="124"/>
                  </a:lnTo>
                  <a:lnTo>
                    <a:pt x="1088" y="136"/>
                  </a:lnTo>
                  <a:lnTo>
                    <a:pt x="1094" y="154"/>
                  </a:lnTo>
                  <a:lnTo>
                    <a:pt x="1152" y="284"/>
                  </a:lnTo>
                  <a:lnTo>
                    <a:pt x="1156" y="314"/>
                  </a:lnTo>
                  <a:lnTo>
                    <a:pt x="1158" y="346"/>
                  </a:lnTo>
                  <a:lnTo>
                    <a:pt x="1138" y="376"/>
                  </a:lnTo>
                  <a:lnTo>
                    <a:pt x="1108" y="392"/>
                  </a:lnTo>
                  <a:lnTo>
                    <a:pt x="1090" y="416"/>
                  </a:lnTo>
                  <a:lnTo>
                    <a:pt x="1104" y="438"/>
                  </a:lnTo>
                  <a:lnTo>
                    <a:pt x="1140" y="462"/>
                  </a:lnTo>
                  <a:lnTo>
                    <a:pt x="1142" y="53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41560" y="3071160"/>
              <a:ext cx="148320" cy="68760"/>
            </a:xfrm>
            <a:custGeom>
              <a:avLst/>
              <a:gdLst/>
              <a:ahLst/>
              <a:rect l="l" t="t" r="r" b="b"/>
              <a:pathLst>
                <a:path w="846" h="398">
                  <a:moveTo>
                    <a:pt x="12" y="334"/>
                  </a:moveTo>
                  <a:lnTo>
                    <a:pt x="2" y="314"/>
                  </a:lnTo>
                  <a:lnTo>
                    <a:pt x="0" y="228"/>
                  </a:lnTo>
                  <a:lnTo>
                    <a:pt x="12" y="202"/>
                  </a:lnTo>
                  <a:lnTo>
                    <a:pt x="26" y="182"/>
                  </a:lnTo>
                  <a:lnTo>
                    <a:pt x="30" y="160"/>
                  </a:lnTo>
                  <a:lnTo>
                    <a:pt x="32" y="134"/>
                  </a:lnTo>
                  <a:lnTo>
                    <a:pt x="42" y="110"/>
                  </a:lnTo>
                  <a:lnTo>
                    <a:pt x="58" y="90"/>
                  </a:lnTo>
                  <a:lnTo>
                    <a:pt x="76" y="78"/>
                  </a:lnTo>
                  <a:lnTo>
                    <a:pt x="100" y="74"/>
                  </a:lnTo>
                  <a:lnTo>
                    <a:pt x="144" y="58"/>
                  </a:lnTo>
                  <a:lnTo>
                    <a:pt x="162" y="82"/>
                  </a:lnTo>
                  <a:lnTo>
                    <a:pt x="208" y="116"/>
                  </a:lnTo>
                  <a:lnTo>
                    <a:pt x="216" y="134"/>
                  </a:lnTo>
                  <a:lnTo>
                    <a:pt x="224" y="144"/>
                  </a:lnTo>
                  <a:lnTo>
                    <a:pt x="224" y="126"/>
                  </a:lnTo>
                  <a:lnTo>
                    <a:pt x="238" y="154"/>
                  </a:lnTo>
                  <a:lnTo>
                    <a:pt x="254" y="168"/>
                  </a:lnTo>
                  <a:lnTo>
                    <a:pt x="290" y="180"/>
                  </a:lnTo>
                  <a:lnTo>
                    <a:pt x="300" y="180"/>
                  </a:lnTo>
                  <a:lnTo>
                    <a:pt x="332" y="168"/>
                  </a:lnTo>
                  <a:lnTo>
                    <a:pt x="334" y="178"/>
                  </a:lnTo>
                  <a:lnTo>
                    <a:pt x="344" y="188"/>
                  </a:lnTo>
                  <a:lnTo>
                    <a:pt x="344" y="162"/>
                  </a:lnTo>
                  <a:lnTo>
                    <a:pt x="354" y="152"/>
                  </a:lnTo>
                  <a:lnTo>
                    <a:pt x="360" y="140"/>
                  </a:lnTo>
                  <a:lnTo>
                    <a:pt x="344" y="36"/>
                  </a:lnTo>
                  <a:lnTo>
                    <a:pt x="356" y="26"/>
                  </a:lnTo>
                  <a:lnTo>
                    <a:pt x="372" y="24"/>
                  </a:lnTo>
                  <a:lnTo>
                    <a:pt x="396" y="6"/>
                  </a:lnTo>
                  <a:lnTo>
                    <a:pt x="446" y="0"/>
                  </a:lnTo>
                  <a:lnTo>
                    <a:pt x="482" y="6"/>
                  </a:lnTo>
                  <a:lnTo>
                    <a:pt x="510" y="22"/>
                  </a:lnTo>
                  <a:lnTo>
                    <a:pt x="544" y="30"/>
                  </a:lnTo>
                  <a:lnTo>
                    <a:pt x="556" y="44"/>
                  </a:lnTo>
                  <a:lnTo>
                    <a:pt x="608" y="76"/>
                  </a:lnTo>
                  <a:lnTo>
                    <a:pt x="624" y="76"/>
                  </a:lnTo>
                  <a:lnTo>
                    <a:pt x="638" y="70"/>
                  </a:lnTo>
                  <a:lnTo>
                    <a:pt x="670" y="66"/>
                  </a:lnTo>
                  <a:lnTo>
                    <a:pt x="706" y="74"/>
                  </a:lnTo>
                  <a:lnTo>
                    <a:pt x="708" y="74"/>
                  </a:lnTo>
                  <a:lnTo>
                    <a:pt x="722" y="84"/>
                  </a:lnTo>
                  <a:lnTo>
                    <a:pt x="730" y="96"/>
                  </a:lnTo>
                  <a:lnTo>
                    <a:pt x="746" y="102"/>
                  </a:lnTo>
                  <a:lnTo>
                    <a:pt x="758" y="114"/>
                  </a:lnTo>
                  <a:lnTo>
                    <a:pt x="762" y="128"/>
                  </a:lnTo>
                  <a:lnTo>
                    <a:pt x="758" y="166"/>
                  </a:lnTo>
                  <a:lnTo>
                    <a:pt x="754" y="180"/>
                  </a:lnTo>
                  <a:lnTo>
                    <a:pt x="772" y="184"/>
                  </a:lnTo>
                  <a:lnTo>
                    <a:pt x="788" y="192"/>
                  </a:lnTo>
                  <a:lnTo>
                    <a:pt x="790" y="204"/>
                  </a:lnTo>
                  <a:lnTo>
                    <a:pt x="824" y="240"/>
                  </a:lnTo>
                  <a:lnTo>
                    <a:pt x="830" y="254"/>
                  </a:lnTo>
                  <a:lnTo>
                    <a:pt x="840" y="266"/>
                  </a:lnTo>
                  <a:lnTo>
                    <a:pt x="846" y="294"/>
                  </a:lnTo>
                  <a:lnTo>
                    <a:pt x="846" y="308"/>
                  </a:lnTo>
                  <a:lnTo>
                    <a:pt x="826" y="308"/>
                  </a:lnTo>
                  <a:lnTo>
                    <a:pt x="812" y="316"/>
                  </a:lnTo>
                  <a:lnTo>
                    <a:pt x="790" y="338"/>
                  </a:lnTo>
                  <a:lnTo>
                    <a:pt x="788" y="352"/>
                  </a:lnTo>
                  <a:lnTo>
                    <a:pt x="772" y="374"/>
                  </a:lnTo>
                  <a:lnTo>
                    <a:pt x="756" y="378"/>
                  </a:lnTo>
                  <a:lnTo>
                    <a:pt x="722" y="366"/>
                  </a:lnTo>
                  <a:lnTo>
                    <a:pt x="708" y="376"/>
                  </a:lnTo>
                  <a:lnTo>
                    <a:pt x="708" y="390"/>
                  </a:lnTo>
                  <a:lnTo>
                    <a:pt x="696" y="398"/>
                  </a:lnTo>
                  <a:lnTo>
                    <a:pt x="678" y="394"/>
                  </a:lnTo>
                  <a:lnTo>
                    <a:pt x="662" y="388"/>
                  </a:lnTo>
                  <a:lnTo>
                    <a:pt x="646" y="382"/>
                  </a:lnTo>
                  <a:lnTo>
                    <a:pt x="600" y="344"/>
                  </a:lnTo>
                  <a:lnTo>
                    <a:pt x="540" y="314"/>
                  </a:lnTo>
                  <a:lnTo>
                    <a:pt x="506" y="316"/>
                  </a:lnTo>
                  <a:lnTo>
                    <a:pt x="490" y="310"/>
                  </a:lnTo>
                  <a:lnTo>
                    <a:pt x="464" y="274"/>
                  </a:lnTo>
                  <a:lnTo>
                    <a:pt x="450" y="264"/>
                  </a:lnTo>
                  <a:lnTo>
                    <a:pt x="436" y="268"/>
                  </a:lnTo>
                  <a:lnTo>
                    <a:pt x="414" y="290"/>
                  </a:lnTo>
                  <a:lnTo>
                    <a:pt x="384" y="296"/>
                  </a:lnTo>
                  <a:lnTo>
                    <a:pt x="316" y="276"/>
                  </a:lnTo>
                  <a:lnTo>
                    <a:pt x="300" y="278"/>
                  </a:lnTo>
                  <a:lnTo>
                    <a:pt x="266" y="274"/>
                  </a:lnTo>
                  <a:lnTo>
                    <a:pt x="250" y="278"/>
                  </a:lnTo>
                  <a:lnTo>
                    <a:pt x="234" y="276"/>
                  </a:lnTo>
                  <a:lnTo>
                    <a:pt x="220" y="282"/>
                  </a:lnTo>
                  <a:lnTo>
                    <a:pt x="202" y="282"/>
                  </a:lnTo>
                  <a:lnTo>
                    <a:pt x="186" y="274"/>
                  </a:lnTo>
                  <a:lnTo>
                    <a:pt x="170" y="274"/>
                  </a:lnTo>
                  <a:lnTo>
                    <a:pt x="136" y="276"/>
                  </a:lnTo>
                  <a:lnTo>
                    <a:pt x="90" y="290"/>
                  </a:lnTo>
                  <a:lnTo>
                    <a:pt x="62" y="304"/>
                  </a:lnTo>
                  <a:lnTo>
                    <a:pt x="46" y="328"/>
                  </a:lnTo>
                  <a:lnTo>
                    <a:pt x="34" y="336"/>
                  </a:lnTo>
                  <a:lnTo>
                    <a:pt x="12" y="33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3040" bIns="23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19880" y="3153960"/>
              <a:ext cx="7560" cy="93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48" y="46"/>
                  </a:moveTo>
                  <a:lnTo>
                    <a:pt x="38" y="18"/>
                  </a:lnTo>
                  <a:lnTo>
                    <a:pt x="20" y="6"/>
                  </a:lnTo>
                  <a:lnTo>
                    <a:pt x="4" y="0"/>
                  </a:lnTo>
                  <a:lnTo>
                    <a:pt x="0" y="30"/>
                  </a:lnTo>
                  <a:lnTo>
                    <a:pt x="12" y="40"/>
                  </a:lnTo>
                  <a:lnTo>
                    <a:pt x="26" y="44"/>
                  </a:lnTo>
                  <a:lnTo>
                    <a:pt x="48" y="4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63720" y="3164760"/>
              <a:ext cx="7560" cy="1044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8" y="2"/>
                  </a:moveTo>
                  <a:lnTo>
                    <a:pt x="12" y="0"/>
                  </a:lnTo>
                  <a:lnTo>
                    <a:pt x="20" y="2"/>
                  </a:lnTo>
                  <a:lnTo>
                    <a:pt x="24" y="10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34" y="36"/>
                  </a:lnTo>
                  <a:lnTo>
                    <a:pt x="32" y="40"/>
                  </a:lnTo>
                  <a:lnTo>
                    <a:pt x="32" y="64"/>
                  </a:lnTo>
                  <a:lnTo>
                    <a:pt x="24" y="58"/>
                  </a:lnTo>
                  <a:lnTo>
                    <a:pt x="22" y="36"/>
                  </a:lnTo>
                  <a:lnTo>
                    <a:pt x="16" y="30"/>
                  </a:lnTo>
                  <a:lnTo>
                    <a:pt x="12" y="20"/>
                  </a:lnTo>
                  <a:lnTo>
                    <a:pt x="6" y="18"/>
                  </a:lnTo>
                  <a:lnTo>
                    <a:pt x="0" y="4"/>
                  </a:lnTo>
                  <a:lnTo>
                    <a:pt x="0" y="2"/>
                  </a:lnTo>
                  <a:lnTo>
                    <a:pt x="8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49680" y="3164760"/>
              <a:ext cx="15480" cy="1044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28" y="0"/>
                  </a:moveTo>
                  <a:lnTo>
                    <a:pt x="30" y="0"/>
                  </a:lnTo>
                  <a:lnTo>
                    <a:pt x="36" y="8"/>
                  </a:lnTo>
                  <a:lnTo>
                    <a:pt x="44" y="10"/>
                  </a:lnTo>
                  <a:lnTo>
                    <a:pt x="52" y="18"/>
                  </a:lnTo>
                  <a:lnTo>
                    <a:pt x="60" y="18"/>
                  </a:lnTo>
                  <a:lnTo>
                    <a:pt x="58" y="14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74" y="10"/>
                  </a:lnTo>
                  <a:lnTo>
                    <a:pt x="76" y="16"/>
                  </a:lnTo>
                  <a:lnTo>
                    <a:pt x="84" y="24"/>
                  </a:lnTo>
                  <a:lnTo>
                    <a:pt x="94" y="48"/>
                  </a:lnTo>
                  <a:lnTo>
                    <a:pt x="86" y="50"/>
                  </a:lnTo>
                  <a:lnTo>
                    <a:pt x="66" y="46"/>
                  </a:lnTo>
                  <a:lnTo>
                    <a:pt x="60" y="52"/>
                  </a:lnTo>
                  <a:lnTo>
                    <a:pt x="50" y="54"/>
                  </a:lnTo>
                  <a:lnTo>
                    <a:pt x="28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0" y="8"/>
                  </a:lnTo>
                  <a:lnTo>
                    <a:pt x="10" y="2"/>
                  </a:lnTo>
                  <a:lnTo>
                    <a:pt x="24" y="2"/>
                  </a:lnTo>
                  <a:lnTo>
                    <a:pt x="28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21600" y="3146400"/>
              <a:ext cx="24480" cy="16920"/>
            </a:xfrm>
            <a:custGeom>
              <a:avLst/>
              <a:gdLst/>
              <a:ahLst/>
              <a:rect l="l" t="t" r="r" b="b"/>
              <a:pathLst>
                <a:path w="134" h="100">
                  <a:moveTo>
                    <a:pt x="34" y="16"/>
                  </a:moveTo>
                  <a:lnTo>
                    <a:pt x="44" y="10"/>
                  </a:lnTo>
                  <a:lnTo>
                    <a:pt x="70" y="8"/>
                  </a:lnTo>
                  <a:lnTo>
                    <a:pt x="88" y="16"/>
                  </a:lnTo>
                  <a:lnTo>
                    <a:pt x="92" y="16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14" y="24"/>
                  </a:lnTo>
                  <a:lnTo>
                    <a:pt x="114" y="38"/>
                  </a:lnTo>
                  <a:lnTo>
                    <a:pt x="120" y="48"/>
                  </a:lnTo>
                  <a:lnTo>
                    <a:pt x="124" y="54"/>
                  </a:lnTo>
                  <a:lnTo>
                    <a:pt x="134" y="56"/>
                  </a:lnTo>
                  <a:lnTo>
                    <a:pt x="134" y="60"/>
                  </a:lnTo>
                  <a:lnTo>
                    <a:pt x="128" y="58"/>
                  </a:lnTo>
                  <a:lnTo>
                    <a:pt x="128" y="72"/>
                  </a:lnTo>
                  <a:lnTo>
                    <a:pt x="126" y="92"/>
                  </a:lnTo>
                  <a:lnTo>
                    <a:pt x="108" y="94"/>
                  </a:lnTo>
                  <a:lnTo>
                    <a:pt x="98" y="100"/>
                  </a:lnTo>
                  <a:lnTo>
                    <a:pt x="86" y="98"/>
                  </a:lnTo>
                  <a:lnTo>
                    <a:pt x="68" y="90"/>
                  </a:lnTo>
                  <a:lnTo>
                    <a:pt x="48" y="94"/>
                  </a:lnTo>
                  <a:lnTo>
                    <a:pt x="48" y="88"/>
                  </a:lnTo>
                  <a:lnTo>
                    <a:pt x="54" y="78"/>
                  </a:lnTo>
                  <a:lnTo>
                    <a:pt x="46" y="78"/>
                  </a:lnTo>
                  <a:lnTo>
                    <a:pt x="22" y="70"/>
                  </a:lnTo>
                  <a:lnTo>
                    <a:pt x="20" y="58"/>
                  </a:lnTo>
                  <a:lnTo>
                    <a:pt x="8" y="50"/>
                  </a:lnTo>
                  <a:lnTo>
                    <a:pt x="12" y="42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6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22" y="22"/>
                  </a:lnTo>
                  <a:lnTo>
                    <a:pt x="34" y="1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41760" y="3160080"/>
              <a:ext cx="6120" cy="1188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22" y="18"/>
                  </a:moveTo>
                  <a:lnTo>
                    <a:pt x="22" y="4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24"/>
                  </a:lnTo>
                  <a:lnTo>
                    <a:pt x="24" y="40"/>
                  </a:lnTo>
                  <a:lnTo>
                    <a:pt x="24" y="52"/>
                  </a:lnTo>
                  <a:lnTo>
                    <a:pt x="20" y="58"/>
                  </a:lnTo>
                  <a:lnTo>
                    <a:pt x="14" y="72"/>
                  </a:lnTo>
                  <a:lnTo>
                    <a:pt x="10" y="74"/>
                  </a:lnTo>
                  <a:lnTo>
                    <a:pt x="8" y="60"/>
                  </a:lnTo>
                  <a:lnTo>
                    <a:pt x="0" y="50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4" y="20"/>
                  </a:lnTo>
                  <a:lnTo>
                    <a:pt x="22" y="1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46440" y="3130920"/>
              <a:ext cx="34200" cy="33480"/>
            </a:xfrm>
            <a:custGeom>
              <a:avLst/>
              <a:gdLst/>
              <a:ahLst/>
              <a:rect l="l" t="t" r="r" b="b"/>
              <a:pathLst>
                <a:path w="202" h="194">
                  <a:moveTo>
                    <a:pt x="48" y="26"/>
                  </a:moveTo>
                  <a:lnTo>
                    <a:pt x="68" y="30"/>
                  </a:lnTo>
                  <a:lnTo>
                    <a:pt x="98" y="30"/>
                  </a:lnTo>
                  <a:lnTo>
                    <a:pt x="98" y="38"/>
                  </a:lnTo>
                  <a:lnTo>
                    <a:pt x="90" y="40"/>
                  </a:lnTo>
                  <a:lnTo>
                    <a:pt x="92" y="54"/>
                  </a:lnTo>
                  <a:lnTo>
                    <a:pt x="86" y="58"/>
                  </a:lnTo>
                  <a:lnTo>
                    <a:pt x="88" y="60"/>
                  </a:lnTo>
                  <a:lnTo>
                    <a:pt x="92" y="58"/>
                  </a:lnTo>
                  <a:lnTo>
                    <a:pt x="96" y="70"/>
                  </a:lnTo>
                  <a:lnTo>
                    <a:pt x="98" y="80"/>
                  </a:lnTo>
                  <a:lnTo>
                    <a:pt x="106" y="70"/>
                  </a:lnTo>
                  <a:lnTo>
                    <a:pt x="108" y="56"/>
                  </a:lnTo>
                  <a:lnTo>
                    <a:pt x="112" y="54"/>
                  </a:lnTo>
                  <a:lnTo>
                    <a:pt x="112" y="42"/>
                  </a:lnTo>
                  <a:lnTo>
                    <a:pt x="110" y="42"/>
                  </a:lnTo>
                  <a:lnTo>
                    <a:pt x="110" y="38"/>
                  </a:lnTo>
                  <a:lnTo>
                    <a:pt x="114" y="38"/>
                  </a:lnTo>
                  <a:lnTo>
                    <a:pt x="126" y="58"/>
                  </a:lnTo>
                  <a:lnTo>
                    <a:pt x="126" y="68"/>
                  </a:lnTo>
                  <a:lnTo>
                    <a:pt x="122" y="68"/>
                  </a:lnTo>
                  <a:lnTo>
                    <a:pt x="120" y="74"/>
                  </a:lnTo>
                  <a:lnTo>
                    <a:pt x="122" y="74"/>
                  </a:lnTo>
                  <a:lnTo>
                    <a:pt x="124" y="78"/>
                  </a:lnTo>
                  <a:lnTo>
                    <a:pt x="130" y="78"/>
                  </a:lnTo>
                  <a:lnTo>
                    <a:pt x="128" y="38"/>
                  </a:lnTo>
                  <a:lnTo>
                    <a:pt x="122" y="32"/>
                  </a:lnTo>
                  <a:lnTo>
                    <a:pt x="112" y="30"/>
                  </a:lnTo>
                  <a:lnTo>
                    <a:pt x="110" y="24"/>
                  </a:lnTo>
                  <a:lnTo>
                    <a:pt x="124" y="10"/>
                  </a:lnTo>
                  <a:lnTo>
                    <a:pt x="144" y="4"/>
                  </a:lnTo>
                  <a:lnTo>
                    <a:pt x="146" y="2"/>
                  </a:lnTo>
                  <a:lnTo>
                    <a:pt x="158" y="0"/>
                  </a:lnTo>
                  <a:lnTo>
                    <a:pt x="170" y="12"/>
                  </a:lnTo>
                  <a:lnTo>
                    <a:pt x="182" y="34"/>
                  </a:lnTo>
                  <a:lnTo>
                    <a:pt x="188" y="34"/>
                  </a:lnTo>
                  <a:lnTo>
                    <a:pt x="186" y="42"/>
                  </a:lnTo>
                  <a:lnTo>
                    <a:pt x="190" y="52"/>
                  </a:lnTo>
                  <a:lnTo>
                    <a:pt x="194" y="52"/>
                  </a:lnTo>
                  <a:lnTo>
                    <a:pt x="194" y="62"/>
                  </a:lnTo>
                  <a:lnTo>
                    <a:pt x="202" y="80"/>
                  </a:lnTo>
                  <a:lnTo>
                    <a:pt x="188" y="80"/>
                  </a:lnTo>
                  <a:lnTo>
                    <a:pt x="182" y="86"/>
                  </a:lnTo>
                  <a:lnTo>
                    <a:pt x="170" y="86"/>
                  </a:lnTo>
                  <a:lnTo>
                    <a:pt x="162" y="96"/>
                  </a:lnTo>
                  <a:lnTo>
                    <a:pt x="156" y="106"/>
                  </a:lnTo>
                  <a:lnTo>
                    <a:pt x="156" y="120"/>
                  </a:lnTo>
                  <a:lnTo>
                    <a:pt x="168" y="120"/>
                  </a:lnTo>
                  <a:lnTo>
                    <a:pt x="180" y="132"/>
                  </a:lnTo>
                  <a:lnTo>
                    <a:pt x="180" y="148"/>
                  </a:lnTo>
                  <a:lnTo>
                    <a:pt x="150" y="156"/>
                  </a:lnTo>
                  <a:lnTo>
                    <a:pt x="146" y="160"/>
                  </a:lnTo>
                  <a:lnTo>
                    <a:pt x="148" y="168"/>
                  </a:lnTo>
                  <a:lnTo>
                    <a:pt x="150" y="168"/>
                  </a:lnTo>
                  <a:lnTo>
                    <a:pt x="154" y="176"/>
                  </a:lnTo>
                  <a:lnTo>
                    <a:pt x="150" y="176"/>
                  </a:lnTo>
                  <a:lnTo>
                    <a:pt x="150" y="180"/>
                  </a:lnTo>
                  <a:lnTo>
                    <a:pt x="150" y="192"/>
                  </a:lnTo>
                  <a:lnTo>
                    <a:pt x="138" y="194"/>
                  </a:lnTo>
                  <a:lnTo>
                    <a:pt x="132" y="188"/>
                  </a:lnTo>
                  <a:lnTo>
                    <a:pt x="100" y="184"/>
                  </a:lnTo>
                  <a:lnTo>
                    <a:pt x="92" y="180"/>
                  </a:lnTo>
                  <a:lnTo>
                    <a:pt x="92" y="176"/>
                  </a:lnTo>
                  <a:lnTo>
                    <a:pt x="102" y="180"/>
                  </a:lnTo>
                  <a:lnTo>
                    <a:pt x="100" y="168"/>
                  </a:lnTo>
                  <a:lnTo>
                    <a:pt x="104" y="168"/>
                  </a:lnTo>
                  <a:lnTo>
                    <a:pt x="104" y="164"/>
                  </a:lnTo>
                  <a:lnTo>
                    <a:pt x="74" y="158"/>
                  </a:lnTo>
                  <a:lnTo>
                    <a:pt x="48" y="158"/>
                  </a:lnTo>
                  <a:lnTo>
                    <a:pt x="44" y="144"/>
                  </a:lnTo>
                  <a:lnTo>
                    <a:pt x="32" y="140"/>
                  </a:lnTo>
                  <a:lnTo>
                    <a:pt x="28" y="134"/>
                  </a:lnTo>
                  <a:lnTo>
                    <a:pt x="28" y="132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30" y="92"/>
                  </a:lnTo>
                  <a:lnTo>
                    <a:pt x="24" y="86"/>
                  </a:lnTo>
                  <a:lnTo>
                    <a:pt x="10" y="86"/>
                  </a:lnTo>
                  <a:lnTo>
                    <a:pt x="6" y="82"/>
                  </a:lnTo>
                  <a:lnTo>
                    <a:pt x="12" y="78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8" y="68"/>
                  </a:lnTo>
                  <a:lnTo>
                    <a:pt x="36" y="68"/>
                  </a:lnTo>
                  <a:lnTo>
                    <a:pt x="48" y="64"/>
                  </a:lnTo>
                  <a:lnTo>
                    <a:pt x="50" y="50"/>
                  </a:lnTo>
                  <a:lnTo>
                    <a:pt x="62" y="50"/>
                  </a:lnTo>
                  <a:lnTo>
                    <a:pt x="68" y="46"/>
                  </a:lnTo>
                  <a:lnTo>
                    <a:pt x="68" y="38"/>
                  </a:lnTo>
                  <a:lnTo>
                    <a:pt x="48" y="2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85600" y="3086280"/>
              <a:ext cx="56160" cy="82440"/>
            </a:xfrm>
            <a:custGeom>
              <a:avLst/>
              <a:gdLst/>
              <a:ahLst/>
              <a:rect l="l" t="t" r="r" b="b"/>
              <a:pathLst>
                <a:path w="318" h="484">
                  <a:moveTo>
                    <a:pt x="86" y="474"/>
                  </a:moveTo>
                  <a:lnTo>
                    <a:pt x="104" y="474"/>
                  </a:lnTo>
                  <a:lnTo>
                    <a:pt x="154" y="484"/>
                  </a:lnTo>
                  <a:lnTo>
                    <a:pt x="170" y="476"/>
                  </a:lnTo>
                  <a:lnTo>
                    <a:pt x="178" y="474"/>
                  </a:lnTo>
                  <a:lnTo>
                    <a:pt x="180" y="470"/>
                  </a:lnTo>
                  <a:lnTo>
                    <a:pt x="186" y="470"/>
                  </a:lnTo>
                  <a:lnTo>
                    <a:pt x="190" y="474"/>
                  </a:lnTo>
                  <a:lnTo>
                    <a:pt x="200" y="474"/>
                  </a:lnTo>
                  <a:lnTo>
                    <a:pt x="200" y="468"/>
                  </a:lnTo>
                  <a:lnTo>
                    <a:pt x="194" y="460"/>
                  </a:lnTo>
                  <a:lnTo>
                    <a:pt x="184" y="454"/>
                  </a:lnTo>
                  <a:lnTo>
                    <a:pt x="170" y="454"/>
                  </a:lnTo>
                  <a:lnTo>
                    <a:pt x="168" y="444"/>
                  </a:lnTo>
                  <a:lnTo>
                    <a:pt x="168" y="430"/>
                  </a:lnTo>
                  <a:lnTo>
                    <a:pt x="188" y="418"/>
                  </a:lnTo>
                  <a:lnTo>
                    <a:pt x="188" y="412"/>
                  </a:lnTo>
                  <a:lnTo>
                    <a:pt x="182" y="412"/>
                  </a:lnTo>
                  <a:lnTo>
                    <a:pt x="180" y="398"/>
                  </a:lnTo>
                  <a:lnTo>
                    <a:pt x="184" y="378"/>
                  </a:lnTo>
                  <a:lnTo>
                    <a:pt x="178" y="372"/>
                  </a:lnTo>
                  <a:lnTo>
                    <a:pt x="196" y="354"/>
                  </a:lnTo>
                  <a:lnTo>
                    <a:pt x="194" y="348"/>
                  </a:lnTo>
                  <a:lnTo>
                    <a:pt x="180" y="336"/>
                  </a:lnTo>
                  <a:lnTo>
                    <a:pt x="192" y="332"/>
                  </a:lnTo>
                  <a:lnTo>
                    <a:pt x="220" y="336"/>
                  </a:lnTo>
                  <a:lnTo>
                    <a:pt x="220" y="324"/>
                  </a:lnTo>
                  <a:lnTo>
                    <a:pt x="210" y="310"/>
                  </a:lnTo>
                  <a:lnTo>
                    <a:pt x="218" y="304"/>
                  </a:lnTo>
                  <a:lnTo>
                    <a:pt x="246" y="306"/>
                  </a:lnTo>
                  <a:lnTo>
                    <a:pt x="254" y="294"/>
                  </a:lnTo>
                  <a:lnTo>
                    <a:pt x="248" y="272"/>
                  </a:lnTo>
                  <a:lnTo>
                    <a:pt x="254" y="252"/>
                  </a:lnTo>
                  <a:lnTo>
                    <a:pt x="266" y="248"/>
                  </a:lnTo>
                  <a:lnTo>
                    <a:pt x="268" y="258"/>
                  </a:lnTo>
                  <a:lnTo>
                    <a:pt x="276" y="268"/>
                  </a:lnTo>
                  <a:lnTo>
                    <a:pt x="286" y="256"/>
                  </a:lnTo>
                  <a:lnTo>
                    <a:pt x="290" y="260"/>
                  </a:lnTo>
                  <a:lnTo>
                    <a:pt x="318" y="238"/>
                  </a:lnTo>
                  <a:lnTo>
                    <a:pt x="318" y="220"/>
                  </a:lnTo>
                  <a:lnTo>
                    <a:pt x="314" y="208"/>
                  </a:lnTo>
                  <a:lnTo>
                    <a:pt x="304" y="204"/>
                  </a:lnTo>
                  <a:lnTo>
                    <a:pt x="284" y="206"/>
                  </a:lnTo>
                  <a:lnTo>
                    <a:pt x="268" y="210"/>
                  </a:lnTo>
                  <a:lnTo>
                    <a:pt x="260" y="200"/>
                  </a:lnTo>
                  <a:lnTo>
                    <a:pt x="246" y="200"/>
                  </a:lnTo>
                  <a:lnTo>
                    <a:pt x="238" y="212"/>
                  </a:lnTo>
                  <a:lnTo>
                    <a:pt x="232" y="204"/>
                  </a:lnTo>
                  <a:lnTo>
                    <a:pt x="232" y="194"/>
                  </a:lnTo>
                  <a:lnTo>
                    <a:pt x="246" y="182"/>
                  </a:lnTo>
                  <a:lnTo>
                    <a:pt x="242" y="178"/>
                  </a:lnTo>
                  <a:lnTo>
                    <a:pt x="222" y="182"/>
                  </a:lnTo>
                  <a:lnTo>
                    <a:pt x="222" y="174"/>
                  </a:lnTo>
                  <a:lnTo>
                    <a:pt x="238" y="168"/>
                  </a:lnTo>
                  <a:lnTo>
                    <a:pt x="238" y="154"/>
                  </a:lnTo>
                  <a:lnTo>
                    <a:pt x="240" y="152"/>
                  </a:lnTo>
                  <a:lnTo>
                    <a:pt x="238" y="132"/>
                  </a:lnTo>
                  <a:lnTo>
                    <a:pt x="244" y="110"/>
                  </a:lnTo>
                  <a:lnTo>
                    <a:pt x="264" y="78"/>
                  </a:lnTo>
                  <a:lnTo>
                    <a:pt x="262" y="64"/>
                  </a:lnTo>
                  <a:lnTo>
                    <a:pt x="248" y="32"/>
                  </a:lnTo>
                  <a:lnTo>
                    <a:pt x="252" y="16"/>
                  </a:lnTo>
                  <a:lnTo>
                    <a:pt x="256" y="4"/>
                  </a:lnTo>
                  <a:lnTo>
                    <a:pt x="252" y="0"/>
                  </a:lnTo>
                  <a:lnTo>
                    <a:pt x="240" y="10"/>
                  </a:lnTo>
                  <a:lnTo>
                    <a:pt x="196" y="28"/>
                  </a:lnTo>
                  <a:lnTo>
                    <a:pt x="166" y="58"/>
                  </a:lnTo>
                  <a:lnTo>
                    <a:pt x="162" y="74"/>
                  </a:lnTo>
                  <a:lnTo>
                    <a:pt x="140" y="90"/>
                  </a:lnTo>
                  <a:lnTo>
                    <a:pt x="52" y="104"/>
                  </a:lnTo>
                  <a:lnTo>
                    <a:pt x="34" y="120"/>
                  </a:lnTo>
                  <a:lnTo>
                    <a:pt x="26" y="136"/>
                  </a:lnTo>
                  <a:lnTo>
                    <a:pt x="12" y="180"/>
                  </a:lnTo>
                  <a:lnTo>
                    <a:pt x="10" y="200"/>
                  </a:lnTo>
                  <a:lnTo>
                    <a:pt x="0" y="226"/>
                  </a:lnTo>
                  <a:lnTo>
                    <a:pt x="0" y="246"/>
                  </a:lnTo>
                  <a:lnTo>
                    <a:pt x="8" y="294"/>
                  </a:lnTo>
                  <a:lnTo>
                    <a:pt x="16" y="312"/>
                  </a:lnTo>
                  <a:lnTo>
                    <a:pt x="18" y="336"/>
                  </a:lnTo>
                  <a:lnTo>
                    <a:pt x="14" y="364"/>
                  </a:lnTo>
                  <a:lnTo>
                    <a:pt x="24" y="364"/>
                  </a:lnTo>
                  <a:lnTo>
                    <a:pt x="32" y="360"/>
                  </a:lnTo>
                  <a:lnTo>
                    <a:pt x="52" y="370"/>
                  </a:lnTo>
                  <a:lnTo>
                    <a:pt x="68" y="384"/>
                  </a:lnTo>
                  <a:lnTo>
                    <a:pt x="78" y="400"/>
                  </a:lnTo>
                  <a:lnTo>
                    <a:pt x="82" y="458"/>
                  </a:lnTo>
                  <a:lnTo>
                    <a:pt x="86" y="47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44920" y="3302640"/>
              <a:ext cx="15840" cy="18360"/>
            </a:xfrm>
            <a:custGeom>
              <a:avLst/>
              <a:gdLst/>
              <a:ahLst/>
              <a:rect l="l" t="t" r="r" b="b"/>
              <a:pathLst>
                <a:path w="84" h="104">
                  <a:moveTo>
                    <a:pt x="46" y="104"/>
                  </a:moveTo>
                  <a:lnTo>
                    <a:pt x="74" y="102"/>
                  </a:lnTo>
                  <a:lnTo>
                    <a:pt x="84" y="90"/>
                  </a:lnTo>
                  <a:lnTo>
                    <a:pt x="80" y="66"/>
                  </a:lnTo>
                  <a:lnTo>
                    <a:pt x="72" y="52"/>
                  </a:lnTo>
                  <a:lnTo>
                    <a:pt x="62" y="36"/>
                  </a:lnTo>
                  <a:lnTo>
                    <a:pt x="60" y="22"/>
                  </a:lnTo>
                  <a:lnTo>
                    <a:pt x="64" y="8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12" y="14"/>
                  </a:lnTo>
                  <a:lnTo>
                    <a:pt x="0" y="40"/>
                  </a:lnTo>
                  <a:lnTo>
                    <a:pt x="10" y="64"/>
                  </a:lnTo>
                  <a:lnTo>
                    <a:pt x="10" y="94"/>
                  </a:lnTo>
                  <a:lnTo>
                    <a:pt x="46" y="10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13040" y="4239360"/>
              <a:ext cx="6120" cy="43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0" y="0"/>
                  </a:moveTo>
                  <a:lnTo>
                    <a:pt x="6" y="0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10" y="28"/>
                  </a:lnTo>
                  <a:lnTo>
                    <a:pt x="22" y="18"/>
                  </a:lnTo>
                  <a:lnTo>
                    <a:pt x="26" y="10"/>
                  </a:lnTo>
                  <a:lnTo>
                    <a:pt x="1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22760" y="4303800"/>
              <a:ext cx="7560" cy="15480"/>
            </a:xfrm>
            <a:custGeom>
              <a:avLst/>
              <a:gdLst/>
              <a:ahLst/>
              <a:rect l="l" t="t" r="r" b="b"/>
              <a:pathLst>
                <a:path w="44" h="82">
                  <a:moveTo>
                    <a:pt x="2" y="0"/>
                  </a:moveTo>
                  <a:lnTo>
                    <a:pt x="14" y="4"/>
                  </a:lnTo>
                  <a:lnTo>
                    <a:pt x="28" y="24"/>
                  </a:lnTo>
                  <a:lnTo>
                    <a:pt x="44" y="76"/>
                  </a:lnTo>
                  <a:lnTo>
                    <a:pt x="40" y="80"/>
                  </a:lnTo>
                  <a:lnTo>
                    <a:pt x="22" y="82"/>
                  </a:lnTo>
                  <a:lnTo>
                    <a:pt x="16" y="74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240" bIns="-30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35280" y="4414320"/>
              <a:ext cx="14040" cy="75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70" y="0"/>
                  </a:moveTo>
                  <a:lnTo>
                    <a:pt x="78" y="10"/>
                  </a:lnTo>
                  <a:lnTo>
                    <a:pt x="82" y="30"/>
                  </a:lnTo>
                  <a:lnTo>
                    <a:pt x="50" y="50"/>
                  </a:lnTo>
                  <a:lnTo>
                    <a:pt x="38" y="48"/>
                  </a:lnTo>
                  <a:lnTo>
                    <a:pt x="28" y="40"/>
                  </a:lnTo>
                  <a:lnTo>
                    <a:pt x="6" y="40"/>
                  </a:lnTo>
                  <a:lnTo>
                    <a:pt x="0" y="22"/>
                  </a:lnTo>
                  <a:lnTo>
                    <a:pt x="12" y="12"/>
                  </a:lnTo>
                  <a:lnTo>
                    <a:pt x="26" y="14"/>
                  </a:lnTo>
                  <a:lnTo>
                    <a:pt x="38" y="24"/>
                  </a:lnTo>
                  <a:lnTo>
                    <a:pt x="7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68080" y="4623120"/>
              <a:ext cx="130680" cy="159120"/>
            </a:xfrm>
            <a:custGeom>
              <a:avLst/>
              <a:gdLst/>
              <a:ahLst/>
              <a:rect l="l" t="t" r="r" b="b"/>
              <a:pathLst>
                <a:path w="756" h="934">
                  <a:moveTo>
                    <a:pt x="602" y="10"/>
                  </a:moveTo>
                  <a:lnTo>
                    <a:pt x="602" y="0"/>
                  </a:lnTo>
                  <a:lnTo>
                    <a:pt x="602" y="8"/>
                  </a:lnTo>
                  <a:lnTo>
                    <a:pt x="532" y="62"/>
                  </a:lnTo>
                  <a:lnTo>
                    <a:pt x="482" y="62"/>
                  </a:lnTo>
                  <a:lnTo>
                    <a:pt x="442" y="58"/>
                  </a:lnTo>
                  <a:lnTo>
                    <a:pt x="408" y="76"/>
                  </a:lnTo>
                  <a:lnTo>
                    <a:pt x="370" y="80"/>
                  </a:lnTo>
                  <a:lnTo>
                    <a:pt x="328" y="92"/>
                  </a:lnTo>
                  <a:lnTo>
                    <a:pt x="312" y="66"/>
                  </a:lnTo>
                  <a:lnTo>
                    <a:pt x="278" y="70"/>
                  </a:lnTo>
                  <a:lnTo>
                    <a:pt x="254" y="78"/>
                  </a:lnTo>
                  <a:lnTo>
                    <a:pt x="224" y="66"/>
                  </a:lnTo>
                  <a:lnTo>
                    <a:pt x="188" y="70"/>
                  </a:lnTo>
                  <a:lnTo>
                    <a:pt x="170" y="86"/>
                  </a:lnTo>
                  <a:lnTo>
                    <a:pt x="170" y="98"/>
                  </a:lnTo>
                  <a:lnTo>
                    <a:pt x="162" y="126"/>
                  </a:lnTo>
                  <a:lnTo>
                    <a:pt x="154" y="182"/>
                  </a:lnTo>
                  <a:lnTo>
                    <a:pt x="156" y="248"/>
                  </a:lnTo>
                  <a:lnTo>
                    <a:pt x="166" y="278"/>
                  </a:lnTo>
                  <a:lnTo>
                    <a:pt x="176" y="290"/>
                  </a:lnTo>
                  <a:lnTo>
                    <a:pt x="192" y="304"/>
                  </a:lnTo>
                  <a:lnTo>
                    <a:pt x="212" y="312"/>
                  </a:lnTo>
                  <a:lnTo>
                    <a:pt x="220" y="326"/>
                  </a:lnTo>
                  <a:lnTo>
                    <a:pt x="222" y="346"/>
                  </a:lnTo>
                  <a:lnTo>
                    <a:pt x="212" y="374"/>
                  </a:lnTo>
                  <a:lnTo>
                    <a:pt x="190" y="402"/>
                  </a:lnTo>
                  <a:lnTo>
                    <a:pt x="174" y="420"/>
                  </a:lnTo>
                  <a:lnTo>
                    <a:pt x="148" y="434"/>
                  </a:lnTo>
                  <a:lnTo>
                    <a:pt x="138" y="456"/>
                  </a:lnTo>
                  <a:lnTo>
                    <a:pt x="130" y="474"/>
                  </a:lnTo>
                  <a:lnTo>
                    <a:pt x="116" y="492"/>
                  </a:lnTo>
                  <a:lnTo>
                    <a:pt x="84" y="532"/>
                  </a:lnTo>
                  <a:lnTo>
                    <a:pt x="52" y="578"/>
                  </a:lnTo>
                  <a:lnTo>
                    <a:pt x="44" y="592"/>
                  </a:lnTo>
                  <a:lnTo>
                    <a:pt x="28" y="628"/>
                  </a:lnTo>
                  <a:lnTo>
                    <a:pt x="10" y="722"/>
                  </a:lnTo>
                  <a:lnTo>
                    <a:pt x="8" y="764"/>
                  </a:lnTo>
                  <a:lnTo>
                    <a:pt x="2" y="850"/>
                  </a:lnTo>
                  <a:lnTo>
                    <a:pt x="0" y="918"/>
                  </a:lnTo>
                  <a:lnTo>
                    <a:pt x="12" y="928"/>
                  </a:lnTo>
                  <a:lnTo>
                    <a:pt x="28" y="934"/>
                  </a:lnTo>
                  <a:lnTo>
                    <a:pt x="50" y="930"/>
                  </a:lnTo>
                  <a:lnTo>
                    <a:pt x="66" y="898"/>
                  </a:lnTo>
                  <a:lnTo>
                    <a:pt x="76" y="886"/>
                  </a:lnTo>
                  <a:lnTo>
                    <a:pt x="96" y="880"/>
                  </a:lnTo>
                  <a:lnTo>
                    <a:pt x="108" y="870"/>
                  </a:lnTo>
                  <a:lnTo>
                    <a:pt x="166" y="878"/>
                  </a:lnTo>
                  <a:lnTo>
                    <a:pt x="180" y="868"/>
                  </a:lnTo>
                  <a:lnTo>
                    <a:pt x="182" y="864"/>
                  </a:lnTo>
                  <a:lnTo>
                    <a:pt x="302" y="864"/>
                  </a:lnTo>
                  <a:lnTo>
                    <a:pt x="288" y="846"/>
                  </a:lnTo>
                  <a:lnTo>
                    <a:pt x="320" y="762"/>
                  </a:lnTo>
                  <a:lnTo>
                    <a:pt x="316" y="744"/>
                  </a:lnTo>
                  <a:lnTo>
                    <a:pt x="318" y="726"/>
                  </a:lnTo>
                  <a:lnTo>
                    <a:pt x="346" y="720"/>
                  </a:lnTo>
                  <a:lnTo>
                    <a:pt x="370" y="708"/>
                  </a:lnTo>
                  <a:lnTo>
                    <a:pt x="384" y="684"/>
                  </a:lnTo>
                  <a:lnTo>
                    <a:pt x="400" y="692"/>
                  </a:lnTo>
                  <a:lnTo>
                    <a:pt x="412" y="688"/>
                  </a:lnTo>
                  <a:lnTo>
                    <a:pt x="416" y="668"/>
                  </a:lnTo>
                  <a:lnTo>
                    <a:pt x="430" y="678"/>
                  </a:lnTo>
                  <a:lnTo>
                    <a:pt x="458" y="682"/>
                  </a:lnTo>
                  <a:lnTo>
                    <a:pt x="478" y="692"/>
                  </a:lnTo>
                  <a:lnTo>
                    <a:pt x="510" y="642"/>
                  </a:lnTo>
                  <a:lnTo>
                    <a:pt x="528" y="656"/>
                  </a:lnTo>
                  <a:lnTo>
                    <a:pt x="562" y="670"/>
                  </a:lnTo>
                  <a:lnTo>
                    <a:pt x="582" y="660"/>
                  </a:lnTo>
                  <a:lnTo>
                    <a:pt x="606" y="668"/>
                  </a:lnTo>
                  <a:lnTo>
                    <a:pt x="614" y="662"/>
                  </a:lnTo>
                  <a:lnTo>
                    <a:pt x="628" y="646"/>
                  </a:lnTo>
                  <a:lnTo>
                    <a:pt x="674" y="560"/>
                  </a:lnTo>
                  <a:lnTo>
                    <a:pt x="700" y="528"/>
                  </a:lnTo>
                  <a:lnTo>
                    <a:pt x="704" y="516"/>
                  </a:lnTo>
                  <a:lnTo>
                    <a:pt x="728" y="482"/>
                  </a:lnTo>
                  <a:lnTo>
                    <a:pt x="746" y="446"/>
                  </a:lnTo>
                  <a:lnTo>
                    <a:pt x="754" y="402"/>
                  </a:lnTo>
                  <a:lnTo>
                    <a:pt x="756" y="342"/>
                  </a:lnTo>
                  <a:lnTo>
                    <a:pt x="750" y="308"/>
                  </a:lnTo>
                  <a:lnTo>
                    <a:pt x="750" y="254"/>
                  </a:lnTo>
                  <a:lnTo>
                    <a:pt x="744" y="232"/>
                  </a:lnTo>
                  <a:lnTo>
                    <a:pt x="726" y="206"/>
                  </a:lnTo>
                  <a:lnTo>
                    <a:pt x="712" y="200"/>
                  </a:lnTo>
                  <a:lnTo>
                    <a:pt x="696" y="188"/>
                  </a:lnTo>
                  <a:lnTo>
                    <a:pt x="684" y="172"/>
                  </a:lnTo>
                  <a:lnTo>
                    <a:pt x="676" y="152"/>
                  </a:lnTo>
                  <a:lnTo>
                    <a:pt x="664" y="70"/>
                  </a:lnTo>
                  <a:lnTo>
                    <a:pt x="656" y="62"/>
                  </a:lnTo>
                  <a:lnTo>
                    <a:pt x="652" y="56"/>
                  </a:lnTo>
                  <a:lnTo>
                    <a:pt x="652" y="34"/>
                  </a:lnTo>
                  <a:lnTo>
                    <a:pt x="648" y="28"/>
                  </a:lnTo>
                  <a:lnTo>
                    <a:pt x="614" y="22"/>
                  </a:lnTo>
                  <a:lnTo>
                    <a:pt x="608" y="14"/>
                  </a:lnTo>
                  <a:lnTo>
                    <a:pt x="602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21160" y="4376160"/>
              <a:ext cx="7560" cy="90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10" y="2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8" y="40"/>
                  </a:lnTo>
                  <a:lnTo>
                    <a:pt x="42" y="56"/>
                  </a:lnTo>
                  <a:lnTo>
                    <a:pt x="42" y="48"/>
                  </a:lnTo>
                  <a:lnTo>
                    <a:pt x="24" y="38"/>
                  </a:lnTo>
                  <a:lnTo>
                    <a:pt x="10" y="2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39880" y="4377600"/>
              <a:ext cx="2880" cy="936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8" y="1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4" y="28"/>
                  </a:lnTo>
                  <a:lnTo>
                    <a:pt x="18" y="46"/>
                  </a:lnTo>
                  <a:lnTo>
                    <a:pt x="24" y="48"/>
                  </a:lnTo>
                  <a:lnTo>
                    <a:pt x="28" y="22"/>
                  </a:lnTo>
                  <a:lnTo>
                    <a:pt x="22" y="14"/>
                  </a:lnTo>
                  <a:lnTo>
                    <a:pt x="8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4200" y="4410000"/>
              <a:ext cx="7560" cy="57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40" y="0"/>
                  </a:moveTo>
                  <a:lnTo>
                    <a:pt x="24" y="6"/>
                  </a:lnTo>
                  <a:lnTo>
                    <a:pt x="0" y="28"/>
                  </a:lnTo>
                  <a:lnTo>
                    <a:pt x="6" y="34"/>
                  </a:lnTo>
                  <a:lnTo>
                    <a:pt x="28" y="16"/>
                  </a:lnTo>
                  <a:lnTo>
                    <a:pt x="4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6120" y="4425120"/>
              <a:ext cx="23040" cy="2268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138" y="14"/>
                  </a:moveTo>
                  <a:lnTo>
                    <a:pt x="126" y="26"/>
                  </a:lnTo>
                  <a:lnTo>
                    <a:pt x="122" y="58"/>
                  </a:lnTo>
                  <a:lnTo>
                    <a:pt x="124" y="78"/>
                  </a:lnTo>
                  <a:lnTo>
                    <a:pt x="126" y="82"/>
                  </a:lnTo>
                  <a:lnTo>
                    <a:pt x="122" y="110"/>
                  </a:lnTo>
                  <a:lnTo>
                    <a:pt x="104" y="126"/>
                  </a:lnTo>
                  <a:lnTo>
                    <a:pt x="78" y="132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46" y="104"/>
                  </a:lnTo>
                  <a:lnTo>
                    <a:pt x="56" y="84"/>
                  </a:lnTo>
                  <a:lnTo>
                    <a:pt x="62" y="46"/>
                  </a:lnTo>
                  <a:lnTo>
                    <a:pt x="60" y="38"/>
                  </a:lnTo>
                  <a:lnTo>
                    <a:pt x="54" y="34"/>
                  </a:lnTo>
                  <a:lnTo>
                    <a:pt x="40" y="32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56" y="10"/>
                  </a:lnTo>
                  <a:lnTo>
                    <a:pt x="100" y="1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38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3040" bIns="-23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72240" y="4728960"/>
              <a:ext cx="15480" cy="151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20" y="0"/>
                  </a:moveTo>
                  <a:lnTo>
                    <a:pt x="0" y="26"/>
                  </a:lnTo>
                  <a:lnTo>
                    <a:pt x="0" y="44"/>
                  </a:lnTo>
                  <a:lnTo>
                    <a:pt x="18" y="68"/>
                  </a:lnTo>
                  <a:lnTo>
                    <a:pt x="42" y="72"/>
                  </a:lnTo>
                  <a:lnTo>
                    <a:pt x="60" y="82"/>
                  </a:lnTo>
                  <a:lnTo>
                    <a:pt x="80" y="78"/>
                  </a:lnTo>
                  <a:lnTo>
                    <a:pt x="82" y="56"/>
                  </a:lnTo>
                  <a:lnTo>
                    <a:pt x="68" y="40"/>
                  </a:lnTo>
                  <a:lnTo>
                    <a:pt x="48" y="36"/>
                  </a:lnTo>
                  <a:lnTo>
                    <a:pt x="30" y="22"/>
                  </a:lnTo>
                  <a:lnTo>
                    <a:pt x="2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600" bIns="-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89880" y="4742640"/>
              <a:ext cx="7560" cy="576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6" y="26"/>
                  </a:moveTo>
                  <a:lnTo>
                    <a:pt x="30" y="36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8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0" y="4"/>
                  </a:lnTo>
                  <a:lnTo>
                    <a:pt x="50" y="18"/>
                  </a:lnTo>
                  <a:lnTo>
                    <a:pt x="46" y="2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69360" y="4748760"/>
              <a:ext cx="51120" cy="47520"/>
            </a:xfrm>
            <a:custGeom>
              <a:avLst/>
              <a:gdLst/>
              <a:ahLst/>
              <a:rect l="l" t="t" r="r" b="b"/>
              <a:pathLst>
                <a:path w="302" h="276">
                  <a:moveTo>
                    <a:pt x="302" y="30"/>
                  </a:moveTo>
                  <a:lnTo>
                    <a:pt x="302" y="106"/>
                  </a:lnTo>
                  <a:lnTo>
                    <a:pt x="300" y="120"/>
                  </a:lnTo>
                  <a:lnTo>
                    <a:pt x="252" y="202"/>
                  </a:lnTo>
                  <a:lnTo>
                    <a:pt x="216" y="234"/>
                  </a:lnTo>
                  <a:lnTo>
                    <a:pt x="182" y="254"/>
                  </a:lnTo>
                  <a:lnTo>
                    <a:pt x="108" y="276"/>
                  </a:lnTo>
                  <a:lnTo>
                    <a:pt x="98" y="272"/>
                  </a:lnTo>
                  <a:lnTo>
                    <a:pt x="44" y="272"/>
                  </a:lnTo>
                  <a:lnTo>
                    <a:pt x="22" y="260"/>
                  </a:lnTo>
                  <a:lnTo>
                    <a:pt x="12" y="244"/>
                  </a:lnTo>
                  <a:lnTo>
                    <a:pt x="12" y="204"/>
                  </a:lnTo>
                  <a:lnTo>
                    <a:pt x="6" y="172"/>
                  </a:lnTo>
                  <a:lnTo>
                    <a:pt x="6" y="152"/>
                  </a:lnTo>
                  <a:lnTo>
                    <a:pt x="2" y="126"/>
                  </a:lnTo>
                  <a:lnTo>
                    <a:pt x="0" y="50"/>
                  </a:lnTo>
                  <a:lnTo>
                    <a:pt x="8" y="36"/>
                  </a:lnTo>
                  <a:lnTo>
                    <a:pt x="34" y="24"/>
                  </a:lnTo>
                  <a:lnTo>
                    <a:pt x="40" y="14"/>
                  </a:lnTo>
                  <a:lnTo>
                    <a:pt x="64" y="4"/>
                  </a:lnTo>
                  <a:lnTo>
                    <a:pt x="96" y="4"/>
                  </a:lnTo>
                  <a:lnTo>
                    <a:pt x="112" y="8"/>
                  </a:lnTo>
                  <a:lnTo>
                    <a:pt x="142" y="18"/>
                  </a:lnTo>
                  <a:lnTo>
                    <a:pt x="164" y="18"/>
                  </a:lnTo>
                  <a:lnTo>
                    <a:pt x="198" y="8"/>
                  </a:lnTo>
                  <a:lnTo>
                    <a:pt x="246" y="0"/>
                  </a:lnTo>
                  <a:lnTo>
                    <a:pt x="278" y="4"/>
                  </a:lnTo>
                  <a:lnTo>
                    <a:pt x="290" y="12"/>
                  </a:lnTo>
                  <a:lnTo>
                    <a:pt x="298" y="24"/>
                  </a:lnTo>
                  <a:lnTo>
                    <a:pt x="298" y="28"/>
                  </a:lnTo>
                  <a:lnTo>
                    <a:pt x="302" y="3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800" bIns="1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53520" y="4745520"/>
              <a:ext cx="15840" cy="2016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80" y="48"/>
                  </a:moveTo>
                  <a:lnTo>
                    <a:pt x="80" y="54"/>
                  </a:lnTo>
                  <a:lnTo>
                    <a:pt x="62" y="74"/>
                  </a:lnTo>
                  <a:lnTo>
                    <a:pt x="60" y="82"/>
                  </a:lnTo>
                  <a:lnTo>
                    <a:pt x="32" y="116"/>
                  </a:lnTo>
                  <a:lnTo>
                    <a:pt x="12" y="118"/>
                  </a:lnTo>
                  <a:lnTo>
                    <a:pt x="12" y="102"/>
                  </a:lnTo>
                  <a:lnTo>
                    <a:pt x="0" y="94"/>
                  </a:lnTo>
                  <a:lnTo>
                    <a:pt x="0" y="82"/>
                  </a:lnTo>
                  <a:lnTo>
                    <a:pt x="4" y="68"/>
                  </a:lnTo>
                  <a:lnTo>
                    <a:pt x="24" y="44"/>
                  </a:lnTo>
                  <a:lnTo>
                    <a:pt x="24" y="28"/>
                  </a:lnTo>
                  <a:lnTo>
                    <a:pt x="28" y="20"/>
                  </a:lnTo>
                  <a:lnTo>
                    <a:pt x="38" y="12"/>
                  </a:lnTo>
                  <a:lnTo>
                    <a:pt x="60" y="6"/>
                  </a:lnTo>
                  <a:lnTo>
                    <a:pt x="62" y="2"/>
                  </a:lnTo>
                  <a:lnTo>
                    <a:pt x="80" y="0"/>
                  </a:lnTo>
                  <a:lnTo>
                    <a:pt x="80" y="6"/>
                  </a:lnTo>
                  <a:lnTo>
                    <a:pt x="60" y="20"/>
                  </a:lnTo>
                  <a:lnTo>
                    <a:pt x="52" y="28"/>
                  </a:lnTo>
                  <a:lnTo>
                    <a:pt x="50" y="38"/>
                  </a:lnTo>
                  <a:lnTo>
                    <a:pt x="74" y="34"/>
                  </a:lnTo>
                  <a:lnTo>
                    <a:pt x="78" y="44"/>
                  </a:lnTo>
                  <a:lnTo>
                    <a:pt x="80" y="4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560" bIns="-255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80160" y="4728960"/>
              <a:ext cx="2880" cy="432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6" y="0"/>
                  </a:moveTo>
                  <a:lnTo>
                    <a:pt x="18" y="18"/>
                  </a:lnTo>
                  <a:lnTo>
                    <a:pt x="16" y="22"/>
                  </a:lnTo>
                  <a:lnTo>
                    <a:pt x="8" y="24"/>
                  </a:lnTo>
                  <a:lnTo>
                    <a:pt x="2" y="22"/>
                  </a:lnTo>
                  <a:lnTo>
                    <a:pt x="0" y="8"/>
                  </a:lnTo>
                  <a:lnTo>
                    <a:pt x="4" y="4"/>
                  </a:lnTo>
                  <a:lnTo>
                    <a:pt x="1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70800" y="4742640"/>
              <a:ext cx="4320" cy="4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4" y="0"/>
                  </a:moveTo>
                  <a:lnTo>
                    <a:pt x="20" y="8"/>
                  </a:lnTo>
                  <a:lnTo>
                    <a:pt x="20" y="20"/>
                  </a:lnTo>
                  <a:lnTo>
                    <a:pt x="6" y="20"/>
                  </a:lnTo>
                  <a:lnTo>
                    <a:pt x="0" y="4"/>
                  </a:lnTo>
                  <a:lnTo>
                    <a:pt x="1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96960" y="3003840"/>
              <a:ext cx="10440" cy="21240"/>
            </a:xfrm>
            <a:custGeom>
              <a:avLst/>
              <a:gdLst/>
              <a:ahLst/>
              <a:rect l="l" t="t" r="r" b="b"/>
              <a:pathLst>
                <a:path w="58" h="128">
                  <a:moveTo>
                    <a:pt x="34" y="2"/>
                  </a:moveTo>
                  <a:lnTo>
                    <a:pt x="32" y="0"/>
                  </a:lnTo>
                  <a:lnTo>
                    <a:pt x="26" y="10"/>
                  </a:lnTo>
                  <a:lnTo>
                    <a:pt x="14" y="16"/>
                  </a:lnTo>
                  <a:lnTo>
                    <a:pt x="8" y="22"/>
                  </a:lnTo>
                  <a:lnTo>
                    <a:pt x="14" y="28"/>
                  </a:lnTo>
                  <a:lnTo>
                    <a:pt x="16" y="40"/>
                  </a:lnTo>
                  <a:lnTo>
                    <a:pt x="22" y="50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16" y="80"/>
                  </a:lnTo>
                  <a:lnTo>
                    <a:pt x="28" y="70"/>
                  </a:lnTo>
                  <a:lnTo>
                    <a:pt x="34" y="78"/>
                  </a:lnTo>
                  <a:lnTo>
                    <a:pt x="34" y="94"/>
                  </a:lnTo>
                  <a:lnTo>
                    <a:pt x="26" y="128"/>
                  </a:lnTo>
                  <a:lnTo>
                    <a:pt x="50" y="104"/>
                  </a:lnTo>
                  <a:lnTo>
                    <a:pt x="50" y="92"/>
                  </a:lnTo>
                  <a:lnTo>
                    <a:pt x="54" y="78"/>
                  </a:lnTo>
                  <a:lnTo>
                    <a:pt x="52" y="62"/>
                  </a:lnTo>
                  <a:lnTo>
                    <a:pt x="54" y="58"/>
                  </a:lnTo>
                  <a:lnTo>
                    <a:pt x="54" y="46"/>
                  </a:lnTo>
                  <a:lnTo>
                    <a:pt x="58" y="38"/>
                  </a:lnTo>
                  <a:lnTo>
                    <a:pt x="36" y="28"/>
                  </a:lnTo>
                  <a:lnTo>
                    <a:pt x="34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65280" y="3046320"/>
              <a:ext cx="10800" cy="468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66" y="36"/>
                  </a:moveTo>
                  <a:lnTo>
                    <a:pt x="68" y="32"/>
                  </a:lnTo>
                  <a:lnTo>
                    <a:pt x="62" y="26"/>
                  </a:lnTo>
                  <a:lnTo>
                    <a:pt x="28" y="26"/>
                  </a:lnTo>
                  <a:lnTo>
                    <a:pt x="22" y="1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10" y="34"/>
                  </a:lnTo>
                  <a:lnTo>
                    <a:pt x="38" y="32"/>
                  </a:lnTo>
                  <a:lnTo>
                    <a:pt x="60" y="38"/>
                  </a:lnTo>
                  <a:lnTo>
                    <a:pt x="66" y="3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63840" y="3051360"/>
              <a:ext cx="288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6"/>
                  </a:moveTo>
                  <a:lnTo>
                    <a:pt x="24" y="10"/>
                  </a:lnTo>
                  <a:lnTo>
                    <a:pt x="18" y="4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22" y="1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7680" y="3060360"/>
              <a:ext cx="155880" cy="248400"/>
            </a:xfrm>
            <a:custGeom>
              <a:avLst/>
              <a:gdLst/>
              <a:ahLst/>
              <a:rect l="l" t="t" r="r" b="b"/>
              <a:pathLst>
                <a:path w="902" h="1452">
                  <a:moveTo>
                    <a:pt x="398" y="1362"/>
                  </a:moveTo>
                  <a:lnTo>
                    <a:pt x="400" y="1364"/>
                  </a:lnTo>
                  <a:lnTo>
                    <a:pt x="406" y="1352"/>
                  </a:lnTo>
                  <a:lnTo>
                    <a:pt x="428" y="1348"/>
                  </a:lnTo>
                  <a:lnTo>
                    <a:pt x="450" y="1354"/>
                  </a:lnTo>
                  <a:lnTo>
                    <a:pt x="462" y="1350"/>
                  </a:lnTo>
                  <a:lnTo>
                    <a:pt x="456" y="1334"/>
                  </a:lnTo>
                  <a:lnTo>
                    <a:pt x="510" y="1334"/>
                  </a:lnTo>
                  <a:lnTo>
                    <a:pt x="518" y="1328"/>
                  </a:lnTo>
                  <a:lnTo>
                    <a:pt x="532" y="1322"/>
                  </a:lnTo>
                  <a:lnTo>
                    <a:pt x="534" y="1312"/>
                  </a:lnTo>
                  <a:lnTo>
                    <a:pt x="534" y="1302"/>
                  </a:lnTo>
                  <a:lnTo>
                    <a:pt x="548" y="1312"/>
                  </a:lnTo>
                  <a:lnTo>
                    <a:pt x="562" y="1316"/>
                  </a:lnTo>
                  <a:lnTo>
                    <a:pt x="582" y="1312"/>
                  </a:lnTo>
                  <a:lnTo>
                    <a:pt x="586" y="1318"/>
                  </a:lnTo>
                  <a:lnTo>
                    <a:pt x="598" y="1326"/>
                  </a:lnTo>
                  <a:lnTo>
                    <a:pt x="684" y="1316"/>
                  </a:lnTo>
                  <a:lnTo>
                    <a:pt x="708" y="1322"/>
                  </a:lnTo>
                  <a:lnTo>
                    <a:pt x="812" y="1294"/>
                  </a:lnTo>
                  <a:lnTo>
                    <a:pt x="816" y="1286"/>
                  </a:lnTo>
                  <a:lnTo>
                    <a:pt x="862" y="1256"/>
                  </a:lnTo>
                  <a:lnTo>
                    <a:pt x="868" y="1236"/>
                  </a:lnTo>
                  <a:lnTo>
                    <a:pt x="862" y="1228"/>
                  </a:lnTo>
                  <a:lnTo>
                    <a:pt x="808" y="1228"/>
                  </a:lnTo>
                  <a:lnTo>
                    <a:pt x="782" y="1226"/>
                  </a:lnTo>
                  <a:lnTo>
                    <a:pt x="780" y="1210"/>
                  </a:lnTo>
                  <a:lnTo>
                    <a:pt x="770" y="1198"/>
                  </a:lnTo>
                  <a:lnTo>
                    <a:pt x="792" y="1190"/>
                  </a:lnTo>
                  <a:lnTo>
                    <a:pt x="796" y="1180"/>
                  </a:lnTo>
                  <a:lnTo>
                    <a:pt x="806" y="1170"/>
                  </a:lnTo>
                  <a:lnTo>
                    <a:pt x="802" y="1164"/>
                  </a:lnTo>
                  <a:lnTo>
                    <a:pt x="790" y="1160"/>
                  </a:lnTo>
                  <a:lnTo>
                    <a:pt x="802" y="1152"/>
                  </a:lnTo>
                  <a:lnTo>
                    <a:pt x="818" y="1146"/>
                  </a:lnTo>
                  <a:lnTo>
                    <a:pt x="828" y="1152"/>
                  </a:lnTo>
                  <a:lnTo>
                    <a:pt x="844" y="1148"/>
                  </a:lnTo>
                  <a:lnTo>
                    <a:pt x="848" y="1136"/>
                  </a:lnTo>
                  <a:lnTo>
                    <a:pt x="844" y="1120"/>
                  </a:lnTo>
                  <a:lnTo>
                    <a:pt x="854" y="1120"/>
                  </a:lnTo>
                  <a:lnTo>
                    <a:pt x="870" y="1114"/>
                  </a:lnTo>
                  <a:lnTo>
                    <a:pt x="886" y="1096"/>
                  </a:lnTo>
                  <a:lnTo>
                    <a:pt x="898" y="1056"/>
                  </a:lnTo>
                  <a:lnTo>
                    <a:pt x="902" y="1028"/>
                  </a:lnTo>
                  <a:lnTo>
                    <a:pt x="894" y="998"/>
                  </a:lnTo>
                  <a:lnTo>
                    <a:pt x="874" y="974"/>
                  </a:lnTo>
                  <a:lnTo>
                    <a:pt x="854" y="962"/>
                  </a:lnTo>
                  <a:lnTo>
                    <a:pt x="836" y="956"/>
                  </a:lnTo>
                  <a:lnTo>
                    <a:pt x="808" y="954"/>
                  </a:lnTo>
                  <a:lnTo>
                    <a:pt x="760" y="962"/>
                  </a:lnTo>
                  <a:lnTo>
                    <a:pt x="738" y="988"/>
                  </a:lnTo>
                  <a:lnTo>
                    <a:pt x="730" y="980"/>
                  </a:lnTo>
                  <a:lnTo>
                    <a:pt x="710" y="978"/>
                  </a:lnTo>
                  <a:lnTo>
                    <a:pt x="684" y="976"/>
                  </a:lnTo>
                  <a:lnTo>
                    <a:pt x="708" y="958"/>
                  </a:lnTo>
                  <a:lnTo>
                    <a:pt x="734" y="932"/>
                  </a:lnTo>
                  <a:lnTo>
                    <a:pt x="738" y="920"/>
                  </a:lnTo>
                  <a:lnTo>
                    <a:pt x="738" y="902"/>
                  </a:lnTo>
                  <a:lnTo>
                    <a:pt x="718" y="878"/>
                  </a:lnTo>
                  <a:lnTo>
                    <a:pt x="704" y="868"/>
                  </a:lnTo>
                  <a:lnTo>
                    <a:pt x="684" y="858"/>
                  </a:lnTo>
                  <a:lnTo>
                    <a:pt x="684" y="852"/>
                  </a:lnTo>
                  <a:lnTo>
                    <a:pt x="658" y="828"/>
                  </a:lnTo>
                  <a:lnTo>
                    <a:pt x="684" y="824"/>
                  </a:lnTo>
                  <a:lnTo>
                    <a:pt x="684" y="842"/>
                  </a:lnTo>
                  <a:lnTo>
                    <a:pt x="718" y="846"/>
                  </a:lnTo>
                  <a:lnTo>
                    <a:pt x="718" y="844"/>
                  </a:lnTo>
                  <a:lnTo>
                    <a:pt x="712" y="816"/>
                  </a:lnTo>
                  <a:lnTo>
                    <a:pt x="684" y="806"/>
                  </a:lnTo>
                  <a:lnTo>
                    <a:pt x="684" y="782"/>
                  </a:lnTo>
                  <a:lnTo>
                    <a:pt x="684" y="756"/>
                  </a:lnTo>
                  <a:lnTo>
                    <a:pt x="654" y="736"/>
                  </a:lnTo>
                  <a:lnTo>
                    <a:pt x="644" y="718"/>
                  </a:lnTo>
                  <a:lnTo>
                    <a:pt x="626" y="694"/>
                  </a:lnTo>
                  <a:lnTo>
                    <a:pt x="600" y="684"/>
                  </a:lnTo>
                  <a:lnTo>
                    <a:pt x="572" y="680"/>
                  </a:lnTo>
                  <a:lnTo>
                    <a:pt x="564" y="674"/>
                  </a:lnTo>
                  <a:lnTo>
                    <a:pt x="556" y="650"/>
                  </a:lnTo>
                  <a:lnTo>
                    <a:pt x="540" y="630"/>
                  </a:lnTo>
                  <a:lnTo>
                    <a:pt x="528" y="608"/>
                  </a:lnTo>
                  <a:lnTo>
                    <a:pt x="520" y="588"/>
                  </a:lnTo>
                  <a:lnTo>
                    <a:pt x="514" y="522"/>
                  </a:lnTo>
                  <a:lnTo>
                    <a:pt x="494" y="510"/>
                  </a:lnTo>
                  <a:lnTo>
                    <a:pt x="472" y="490"/>
                  </a:lnTo>
                  <a:lnTo>
                    <a:pt x="458" y="470"/>
                  </a:lnTo>
                  <a:lnTo>
                    <a:pt x="400" y="442"/>
                  </a:lnTo>
                  <a:lnTo>
                    <a:pt x="388" y="440"/>
                  </a:lnTo>
                  <a:lnTo>
                    <a:pt x="352" y="452"/>
                  </a:lnTo>
                  <a:lnTo>
                    <a:pt x="322" y="444"/>
                  </a:lnTo>
                  <a:lnTo>
                    <a:pt x="320" y="440"/>
                  </a:lnTo>
                  <a:lnTo>
                    <a:pt x="326" y="428"/>
                  </a:lnTo>
                  <a:lnTo>
                    <a:pt x="338" y="416"/>
                  </a:lnTo>
                  <a:lnTo>
                    <a:pt x="354" y="414"/>
                  </a:lnTo>
                  <a:lnTo>
                    <a:pt x="378" y="412"/>
                  </a:lnTo>
                  <a:lnTo>
                    <a:pt x="396" y="406"/>
                  </a:lnTo>
                  <a:lnTo>
                    <a:pt x="374" y="380"/>
                  </a:lnTo>
                  <a:lnTo>
                    <a:pt x="364" y="376"/>
                  </a:lnTo>
                  <a:lnTo>
                    <a:pt x="360" y="366"/>
                  </a:lnTo>
                  <a:lnTo>
                    <a:pt x="380" y="368"/>
                  </a:lnTo>
                  <a:lnTo>
                    <a:pt x="394" y="360"/>
                  </a:lnTo>
                  <a:lnTo>
                    <a:pt x="406" y="346"/>
                  </a:lnTo>
                  <a:lnTo>
                    <a:pt x="410" y="332"/>
                  </a:lnTo>
                  <a:lnTo>
                    <a:pt x="438" y="300"/>
                  </a:lnTo>
                  <a:lnTo>
                    <a:pt x="442" y="284"/>
                  </a:lnTo>
                  <a:lnTo>
                    <a:pt x="452" y="264"/>
                  </a:lnTo>
                  <a:lnTo>
                    <a:pt x="458" y="238"/>
                  </a:lnTo>
                  <a:lnTo>
                    <a:pt x="488" y="210"/>
                  </a:lnTo>
                  <a:lnTo>
                    <a:pt x="488" y="178"/>
                  </a:lnTo>
                  <a:lnTo>
                    <a:pt x="480" y="164"/>
                  </a:lnTo>
                  <a:lnTo>
                    <a:pt x="446" y="162"/>
                  </a:lnTo>
                  <a:lnTo>
                    <a:pt x="418" y="166"/>
                  </a:lnTo>
                  <a:lnTo>
                    <a:pt x="372" y="160"/>
                  </a:lnTo>
                  <a:lnTo>
                    <a:pt x="348" y="164"/>
                  </a:lnTo>
                  <a:lnTo>
                    <a:pt x="324" y="158"/>
                  </a:lnTo>
                  <a:lnTo>
                    <a:pt x="248" y="178"/>
                  </a:lnTo>
                  <a:lnTo>
                    <a:pt x="234" y="188"/>
                  </a:lnTo>
                  <a:lnTo>
                    <a:pt x="224" y="184"/>
                  </a:lnTo>
                  <a:lnTo>
                    <a:pt x="230" y="172"/>
                  </a:lnTo>
                  <a:lnTo>
                    <a:pt x="230" y="166"/>
                  </a:lnTo>
                  <a:lnTo>
                    <a:pt x="212" y="170"/>
                  </a:lnTo>
                  <a:lnTo>
                    <a:pt x="212" y="162"/>
                  </a:lnTo>
                  <a:lnTo>
                    <a:pt x="242" y="156"/>
                  </a:lnTo>
                  <a:lnTo>
                    <a:pt x="262" y="140"/>
                  </a:lnTo>
                  <a:lnTo>
                    <a:pt x="226" y="138"/>
                  </a:lnTo>
                  <a:lnTo>
                    <a:pt x="232" y="124"/>
                  </a:lnTo>
                  <a:lnTo>
                    <a:pt x="234" y="126"/>
                  </a:lnTo>
                  <a:lnTo>
                    <a:pt x="254" y="106"/>
                  </a:lnTo>
                  <a:lnTo>
                    <a:pt x="296" y="86"/>
                  </a:lnTo>
                  <a:lnTo>
                    <a:pt x="312" y="64"/>
                  </a:lnTo>
                  <a:lnTo>
                    <a:pt x="340" y="50"/>
                  </a:lnTo>
                  <a:lnTo>
                    <a:pt x="346" y="8"/>
                  </a:lnTo>
                  <a:lnTo>
                    <a:pt x="322" y="0"/>
                  </a:lnTo>
                  <a:lnTo>
                    <a:pt x="294" y="8"/>
                  </a:lnTo>
                  <a:lnTo>
                    <a:pt x="264" y="14"/>
                  </a:lnTo>
                  <a:lnTo>
                    <a:pt x="242" y="14"/>
                  </a:lnTo>
                  <a:lnTo>
                    <a:pt x="208" y="20"/>
                  </a:lnTo>
                  <a:lnTo>
                    <a:pt x="206" y="18"/>
                  </a:lnTo>
                  <a:lnTo>
                    <a:pt x="166" y="10"/>
                  </a:lnTo>
                  <a:lnTo>
                    <a:pt x="144" y="14"/>
                  </a:lnTo>
                  <a:lnTo>
                    <a:pt x="122" y="42"/>
                  </a:lnTo>
                  <a:lnTo>
                    <a:pt x="120" y="68"/>
                  </a:lnTo>
                  <a:lnTo>
                    <a:pt x="96" y="70"/>
                  </a:lnTo>
                  <a:lnTo>
                    <a:pt x="96" y="92"/>
                  </a:lnTo>
                  <a:lnTo>
                    <a:pt x="86" y="96"/>
                  </a:lnTo>
                  <a:lnTo>
                    <a:pt x="88" y="104"/>
                  </a:lnTo>
                  <a:lnTo>
                    <a:pt x="104" y="118"/>
                  </a:lnTo>
                  <a:lnTo>
                    <a:pt x="48" y="142"/>
                  </a:lnTo>
                  <a:lnTo>
                    <a:pt x="48" y="176"/>
                  </a:lnTo>
                  <a:lnTo>
                    <a:pt x="62" y="184"/>
                  </a:lnTo>
                  <a:lnTo>
                    <a:pt x="58" y="186"/>
                  </a:lnTo>
                  <a:lnTo>
                    <a:pt x="44" y="184"/>
                  </a:lnTo>
                  <a:lnTo>
                    <a:pt x="38" y="188"/>
                  </a:lnTo>
                  <a:lnTo>
                    <a:pt x="38" y="212"/>
                  </a:lnTo>
                  <a:lnTo>
                    <a:pt x="52" y="214"/>
                  </a:lnTo>
                  <a:lnTo>
                    <a:pt x="76" y="210"/>
                  </a:lnTo>
                  <a:lnTo>
                    <a:pt x="72" y="218"/>
                  </a:lnTo>
                  <a:lnTo>
                    <a:pt x="62" y="222"/>
                  </a:lnTo>
                  <a:lnTo>
                    <a:pt x="74" y="226"/>
                  </a:lnTo>
                  <a:lnTo>
                    <a:pt x="62" y="240"/>
                  </a:lnTo>
                  <a:lnTo>
                    <a:pt x="58" y="246"/>
                  </a:lnTo>
                  <a:lnTo>
                    <a:pt x="62" y="258"/>
                  </a:lnTo>
                  <a:lnTo>
                    <a:pt x="56" y="258"/>
                  </a:lnTo>
                  <a:lnTo>
                    <a:pt x="48" y="266"/>
                  </a:lnTo>
                  <a:lnTo>
                    <a:pt x="48" y="274"/>
                  </a:lnTo>
                  <a:lnTo>
                    <a:pt x="40" y="280"/>
                  </a:lnTo>
                  <a:lnTo>
                    <a:pt x="36" y="290"/>
                  </a:lnTo>
                  <a:lnTo>
                    <a:pt x="32" y="316"/>
                  </a:lnTo>
                  <a:lnTo>
                    <a:pt x="12" y="318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20" y="332"/>
                  </a:lnTo>
                  <a:lnTo>
                    <a:pt x="22" y="348"/>
                  </a:lnTo>
                  <a:lnTo>
                    <a:pt x="46" y="366"/>
                  </a:lnTo>
                  <a:lnTo>
                    <a:pt x="68" y="354"/>
                  </a:lnTo>
                  <a:lnTo>
                    <a:pt x="88" y="338"/>
                  </a:lnTo>
                  <a:lnTo>
                    <a:pt x="92" y="336"/>
                  </a:lnTo>
                  <a:lnTo>
                    <a:pt x="94" y="340"/>
                  </a:lnTo>
                  <a:lnTo>
                    <a:pt x="94" y="348"/>
                  </a:lnTo>
                  <a:lnTo>
                    <a:pt x="66" y="400"/>
                  </a:lnTo>
                  <a:lnTo>
                    <a:pt x="60" y="420"/>
                  </a:lnTo>
                  <a:lnTo>
                    <a:pt x="60" y="428"/>
                  </a:lnTo>
                  <a:lnTo>
                    <a:pt x="54" y="438"/>
                  </a:lnTo>
                  <a:lnTo>
                    <a:pt x="50" y="456"/>
                  </a:lnTo>
                  <a:lnTo>
                    <a:pt x="50" y="472"/>
                  </a:lnTo>
                  <a:lnTo>
                    <a:pt x="62" y="470"/>
                  </a:lnTo>
                  <a:lnTo>
                    <a:pt x="66" y="476"/>
                  </a:lnTo>
                  <a:lnTo>
                    <a:pt x="64" y="486"/>
                  </a:lnTo>
                  <a:lnTo>
                    <a:pt x="46" y="512"/>
                  </a:lnTo>
                  <a:lnTo>
                    <a:pt x="32" y="554"/>
                  </a:lnTo>
                  <a:lnTo>
                    <a:pt x="32" y="558"/>
                  </a:lnTo>
                  <a:lnTo>
                    <a:pt x="46" y="558"/>
                  </a:lnTo>
                  <a:lnTo>
                    <a:pt x="52" y="552"/>
                  </a:lnTo>
                  <a:lnTo>
                    <a:pt x="58" y="530"/>
                  </a:lnTo>
                  <a:lnTo>
                    <a:pt x="84" y="484"/>
                  </a:lnTo>
                  <a:lnTo>
                    <a:pt x="82" y="462"/>
                  </a:lnTo>
                  <a:lnTo>
                    <a:pt x="78" y="448"/>
                  </a:lnTo>
                  <a:lnTo>
                    <a:pt x="76" y="442"/>
                  </a:lnTo>
                  <a:lnTo>
                    <a:pt x="110" y="410"/>
                  </a:lnTo>
                  <a:lnTo>
                    <a:pt x="108" y="420"/>
                  </a:lnTo>
                  <a:lnTo>
                    <a:pt x="92" y="450"/>
                  </a:lnTo>
                  <a:lnTo>
                    <a:pt x="92" y="468"/>
                  </a:lnTo>
                  <a:lnTo>
                    <a:pt x="96" y="462"/>
                  </a:lnTo>
                  <a:lnTo>
                    <a:pt x="104" y="462"/>
                  </a:lnTo>
                  <a:lnTo>
                    <a:pt x="106" y="454"/>
                  </a:lnTo>
                  <a:lnTo>
                    <a:pt x="112" y="450"/>
                  </a:lnTo>
                  <a:lnTo>
                    <a:pt x="124" y="458"/>
                  </a:lnTo>
                  <a:lnTo>
                    <a:pt x="128" y="456"/>
                  </a:lnTo>
                  <a:lnTo>
                    <a:pt x="130" y="432"/>
                  </a:lnTo>
                  <a:lnTo>
                    <a:pt x="148" y="442"/>
                  </a:lnTo>
                  <a:lnTo>
                    <a:pt x="160" y="452"/>
                  </a:lnTo>
                  <a:lnTo>
                    <a:pt x="150" y="454"/>
                  </a:lnTo>
                  <a:lnTo>
                    <a:pt x="144" y="462"/>
                  </a:lnTo>
                  <a:lnTo>
                    <a:pt x="140" y="472"/>
                  </a:lnTo>
                  <a:lnTo>
                    <a:pt x="136" y="498"/>
                  </a:lnTo>
                  <a:lnTo>
                    <a:pt x="142" y="506"/>
                  </a:lnTo>
                  <a:lnTo>
                    <a:pt x="154" y="514"/>
                  </a:lnTo>
                  <a:lnTo>
                    <a:pt x="158" y="532"/>
                  </a:lnTo>
                  <a:lnTo>
                    <a:pt x="146" y="548"/>
                  </a:lnTo>
                  <a:lnTo>
                    <a:pt x="136" y="570"/>
                  </a:lnTo>
                  <a:lnTo>
                    <a:pt x="120" y="594"/>
                  </a:lnTo>
                  <a:lnTo>
                    <a:pt x="114" y="610"/>
                  </a:lnTo>
                  <a:lnTo>
                    <a:pt x="116" y="626"/>
                  </a:lnTo>
                  <a:lnTo>
                    <a:pt x="102" y="616"/>
                  </a:lnTo>
                  <a:lnTo>
                    <a:pt x="98" y="626"/>
                  </a:lnTo>
                  <a:lnTo>
                    <a:pt x="114" y="666"/>
                  </a:lnTo>
                  <a:lnTo>
                    <a:pt x="122" y="672"/>
                  </a:lnTo>
                  <a:lnTo>
                    <a:pt x="128" y="670"/>
                  </a:lnTo>
                  <a:lnTo>
                    <a:pt x="126" y="646"/>
                  </a:lnTo>
                  <a:lnTo>
                    <a:pt x="128" y="640"/>
                  </a:lnTo>
                  <a:lnTo>
                    <a:pt x="136" y="638"/>
                  </a:lnTo>
                  <a:lnTo>
                    <a:pt x="170" y="660"/>
                  </a:lnTo>
                  <a:lnTo>
                    <a:pt x="182" y="666"/>
                  </a:lnTo>
                  <a:lnTo>
                    <a:pt x="190" y="654"/>
                  </a:lnTo>
                  <a:lnTo>
                    <a:pt x="190" y="640"/>
                  </a:lnTo>
                  <a:lnTo>
                    <a:pt x="240" y="644"/>
                  </a:lnTo>
                  <a:lnTo>
                    <a:pt x="274" y="632"/>
                  </a:lnTo>
                  <a:lnTo>
                    <a:pt x="278" y="626"/>
                  </a:lnTo>
                  <a:lnTo>
                    <a:pt x="294" y="618"/>
                  </a:lnTo>
                  <a:lnTo>
                    <a:pt x="338" y="622"/>
                  </a:lnTo>
                  <a:lnTo>
                    <a:pt x="332" y="628"/>
                  </a:lnTo>
                  <a:lnTo>
                    <a:pt x="322" y="628"/>
                  </a:lnTo>
                  <a:lnTo>
                    <a:pt x="304" y="640"/>
                  </a:lnTo>
                  <a:lnTo>
                    <a:pt x="278" y="686"/>
                  </a:lnTo>
                  <a:lnTo>
                    <a:pt x="274" y="700"/>
                  </a:lnTo>
                  <a:lnTo>
                    <a:pt x="278" y="714"/>
                  </a:lnTo>
                  <a:lnTo>
                    <a:pt x="294" y="730"/>
                  </a:lnTo>
                  <a:lnTo>
                    <a:pt x="300" y="744"/>
                  </a:lnTo>
                  <a:lnTo>
                    <a:pt x="302" y="746"/>
                  </a:lnTo>
                  <a:lnTo>
                    <a:pt x="306" y="740"/>
                  </a:lnTo>
                  <a:lnTo>
                    <a:pt x="320" y="764"/>
                  </a:lnTo>
                  <a:lnTo>
                    <a:pt x="350" y="756"/>
                  </a:lnTo>
                  <a:lnTo>
                    <a:pt x="368" y="742"/>
                  </a:lnTo>
                  <a:lnTo>
                    <a:pt x="376" y="744"/>
                  </a:lnTo>
                  <a:lnTo>
                    <a:pt x="368" y="756"/>
                  </a:lnTo>
                  <a:lnTo>
                    <a:pt x="364" y="786"/>
                  </a:lnTo>
                  <a:lnTo>
                    <a:pt x="354" y="796"/>
                  </a:lnTo>
                  <a:lnTo>
                    <a:pt x="344" y="818"/>
                  </a:lnTo>
                  <a:lnTo>
                    <a:pt x="366" y="822"/>
                  </a:lnTo>
                  <a:lnTo>
                    <a:pt x="352" y="836"/>
                  </a:lnTo>
                  <a:lnTo>
                    <a:pt x="342" y="866"/>
                  </a:lnTo>
                  <a:lnTo>
                    <a:pt x="348" y="874"/>
                  </a:lnTo>
                  <a:lnTo>
                    <a:pt x="358" y="880"/>
                  </a:lnTo>
                  <a:lnTo>
                    <a:pt x="350" y="884"/>
                  </a:lnTo>
                  <a:lnTo>
                    <a:pt x="340" y="898"/>
                  </a:lnTo>
                  <a:lnTo>
                    <a:pt x="254" y="896"/>
                  </a:lnTo>
                  <a:lnTo>
                    <a:pt x="226" y="910"/>
                  </a:lnTo>
                  <a:lnTo>
                    <a:pt x="196" y="930"/>
                  </a:lnTo>
                  <a:lnTo>
                    <a:pt x="146" y="974"/>
                  </a:lnTo>
                  <a:lnTo>
                    <a:pt x="156" y="982"/>
                  </a:lnTo>
                  <a:lnTo>
                    <a:pt x="188" y="964"/>
                  </a:lnTo>
                  <a:lnTo>
                    <a:pt x="210" y="958"/>
                  </a:lnTo>
                  <a:lnTo>
                    <a:pt x="214" y="976"/>
                  </a:lnTo>
                  <a:lnTo>
                    <a:pt x="214" y="1012"/>
                  </a:lnTo>
                  <a:lnTo>
                    <a:pt x="218" y="1020"/>
                  </a:lnTo>
                  <a:lnTo>
                    <a:pt x="230" y="1028"/>
                  </a:lnTo>
                  <a:lnTo>
                    <a:pt x="206" y="1070"/>
                  </a:lnTo>
                  <a:lnTo>
                    <a:pt x="140" y="1106"/>
                  </a:lnTo>
                  <a:lnTo>
                    <a:pt x="72" y="1138"/>
                  </a:lnTo>
                  <a:lnTo>
                    <a:pt x="78" y="1144"/>
                  </a:lnTo>
                  <a:lnTo>
                    <a:pt x="82" y="1156"/>
                  </a:lnTo>
                  <a:lnTo>
                    <a:pt x="92" y="1174"/>
                  </a:lnTo>
                  <a:lnTo>
                    <a:pt x="98" y="1180"/>
                  </a:lnTo>
                  <a:lnTo>
                    <a:pt x="110" y="1182"/>
                  </a:lnTo>
                  <a:lnTo>
                    <a:pt x="126" y="1176"/>
                  </a:lnTo>
                  <a:lnTo>
                    <a:pt x="146" y="1160"/>
                  </a:lnTo>
                  <a:lnTo>
                    <a:pt x="168" y="1152"/>
                  </a:lnTo>
                  <a:lnTo>
                    <a:pt x="174" y="1156"/>
                  </a:lnTo>
                  <a:lnTo>
                    <a:pt x="178" y="1180"/>
                  </a:lnTo>
                  <a:lnTo>
                    <a:pt x="186" y="1186"/>
                  </a:lnTo>
                  <a:lnTo>
                    <a:pt x="214" y="1188"/>
                  </a:lnTo>
                  <a:lnTo>
                    <a:pt x="228" y="1176"/>
                  </a:lnTo>
                  <a:lnTo>
                    <a:pt x="236" y="1174"/>
                  </a:lnTo>
                  <a:lnTo>
                    <a:pt x="242" y="1178"/>
                  </a:lnTo>
                  <a:lnTo>
                    <a:pt x="274" y="1214"/>
                  </a:lnTo>
                  <a:lnTo>
                    <a:pt x="288" y="1218"/>
                  </a:lnTo>
                  <a:lnTo>
                    <a:pt x="306" y="1218"/>
                  </a:lnTo>
                  <a:lnTo>
                    <a:pt x="320" y="1210"/>
                  </a:lnTo>
                  <a:lnTo>
                    <a:pt x="330" y="1196"/>
                  </a:lnTo>
                  <a:lnTo>
                    <a:pt x="358" y="1182"/>
                  </a:lnTo>
                  <a:lnTo>
                    <a:pt x="392" y="1160"/>
                  </a:lnTo>
                  <a:lnTo>
                    <a:pt x="392" y="1174"/>
                  </a:lnTo>
                  <a:lnTo>
                    <a:pt x="382" y="1188"/>
                  </a:lnTo>
                  <a:lnTo>
                    <a:pt x="346" y="1226"/>
                  </a:lnTo>
                  <a:lnTo>
                    <a:pt x="342" y="1238"/>
                  </a:lnTo>
                  <a:lnTo>
                    <a:pt x="334" y="1246"/>
                  </a:lnTo>
                  <a:lnTo>
                    <a:pt x="306" y="1252"/>
                  </a:lnTo>
                  <a:lnTo>
                    <a:pt x="236" y="1252"/>
                  </a:lnTo>
                  <a:lnTo>
                    <a:pt x="204" y="1258"/>
                  </a:lnTo>
                  <a:lnTo>
                    <a:pt x="192" y="1276"/>
                  </a:lnTo>
                  <a:lnTo>
                    <a:pt x="170" y="1290"/>
                  </a:lnTo>
                  <a:lnTo>
                    <a:pt x="156" y="1316"/>
                  </a:lnTo>
                  <a:lnTo>
                    <a:pt x="64" y="1404"/>
                  </a:lnTo>
                  <a:lnTo>
                    <a:pt x="28" y="1426"/>
                  </a:lnTo>
                  <a:lnTo>
                    <a:pt x="20" y="1442"/>
                  </a:lnTo>
                  <a:lnTo>
                    <a:pt x="20" y="1450"/>
                  </a:lnTo>
                  <a:lnTo>
                    <a:pt x="28" y="1436"/>
                  </a:lnTo>
                  <a:lnTo>
                    <a:pt x="36" y="1432"/>
                  </a:lnTo>
                  <a:lnTo>
                    <a:pt x="60" y="1446"/>
                  </a:lnTo>
                  <a:lnTo>
                    <a:pt x="70" y="1442"/>
                  </a:lnTo>
                  <a:lnTo>
                    <a:pt x="76" y="1452"/>
                  </a:lnTo>
                  <a:lnTo>
                    <a:pt x="86" y="1442"/>
                  </a:lnTo>
                  <a:lnTo>
                    <a:pt x="94" y="1426"/>
                  </a:lnTo>
                  <a:lnTo>
                    <a:pt x="118" y="1414"/>
                  </a:lnTo>
                  <a:lnTo>
                    <a:pt x="132" y="1394"/>
                  </a:lnTo>
                  <a:lnTo>
                    <a:pt x="196" y="1392"/>
                  </a:lnTo>
                  <a:lnTo>
                    <a:pt x="240" y="1406"/>
                  </a:lnTo>
                  <a:lnTo>
                    <a:pt x="256" y="1408"/>
                  </a:lnTo>
                  <a:lnTo>
                    <a:pt x="272" y="1390"/>
                  </a:lnTo>
                  <a:lnTo>
                    <a:pt x="282" y="1346"/>
                  </a:lnTo>
                  <a:lnTo>
                    <a:pt x="288" y="1344"/>
                  </a:lnTo>
                  <a:lnTo>
                    <a:pt x="306" y="1346"/>
                  </a:lnTo>
                  <a:lnTo>
                    <a:pt x="328" y="1336"/>
                  </a:lnTo>
                  <a:lnTo>
                    <a:pt x="362" y="1326"/>
                  </a:lnTo>
                  <a:lnTo>
                    <a:pt x="398" y="136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98400" y="3288960"/>
              <a:ext cx="9000" cy="2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30" y="4"/>
                  </a:moveTo>
                  <a:lnTo>
                    <a:pt x="26" y="0"/>
                  </a:lnTo>
                  <a:lnTo>
                    <a:pt x="12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4" y="20"/>
                  </a:lnTo>
                  <a:lnTo>
                    <a:pt x="20" y="24"/>
                  </a:lnTo>
                  <a:lnTo>
                    <a:pt x="34" y="2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30" y="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8640" y="3210480"/>
              <a:ext cx="6120" cy="6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24" y="28"/>
                  </a:moveTo>
                  <a:lnTo>
                    <a:pt x="36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4" y="2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32880" y="3183120"/>
              <a:ext cx="9000" cy="90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4" y="0"/>
                  </a:moveTo>
                  <a:lnTo>
                    <a:pt x="20" y="24"/>
                  </a:lnTo>
                  <a:lnTo>
                    <a:pt x="0" y="56"/>
                  </a:lnTo>
                  <a:lnTo>
                    <a:pt x="18" y="52"/>
                  </a:lnTo>
                  <a:lnTo>
                    <a:pt x="42" y="42"/>
                  </a:lnTo>
                  <a:lnTo>
                    <a:pt x="52" y="26"/>
                  </a:lnTo>
                  <a:lnTo>
                    <a:pt x="54" y="16"/>
                  </a:lnTo>
                  <a:lnTo>
                    <a:pt x="54" y="6"/>
                  </a:lnTo>
                  <a:lnTo>
                    <a:pt x="44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21720" y="3146400"/>
              <a:ext cx="4320" cy="756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4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30"/>
                  </a:lnTo>
                  <a:lnTo>
                    <a:pt x="10" y="44"/>
                  </a:lnTo>
                  <a:lnTo>
                    <a:pt x="22" y="40"/>
                  </a:lnTo>
                  <a:lnTo>
                    <a:pt x="28" y="16"/>
                  </a:lnTo>
                  <a:lnTo>
                    <a:pt x="26" y="0"/>
                  </a:lnTo>
                  <a:lnTo>
                    <a:pt x="4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99760" y="3139920"/>
              <a:ext cx="7560" cy="79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8" y="2"/>
                  </a:moveTo>
                  <a:lnTo>
                    <a:pt x="36" y="0"/>
                  </a:lnTo>
                  <a:lnTo>
                    <a:pt x="28" y="6"/>
                  </a:lnTo>
                  <a:lnTo>
                    <a:pt x="10" y="10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6" y="20"/>
                  </a:lnTo>
                  <a:lnTo>
                    <a:pt x="26" y="46"/>
                  </a:lnTo>
                  <a:lnTo>
                    <a:pt x="46" y="36"/>
                  </a:lnTo>
                  <a:lnTo>
                    <a:pt x="46" y="22"/>
                  </a:lnTo>
                  <a:lnTo>
                    <a:pt x="38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07680" y="3134160"/>
              <a:ext cx="6120" cy="900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6" y="0"/>
                  </a:moveTo>
                  <a:lnTo>
                    <a:pt x="20" y="10"/>
                  </a:lnTo>
                  <a:lnTo>
                    <a:pt x="14" y="18"/>
                  </a:lnTo>
                  <a:lnTo>
                    <a:pt x="12" y="26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12" y="44"/>
                  </a:lnTo>
                  <a:lnTo>
                    <a:pt x="18" y="32"/>
                  </a:lnTo>
                  <a:lnTo>
                    <a:pt x="30" y="14"/>
                  </a:lnTo>
                  <a:lnTo>
                    <a:pt x="36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03000" y="3118680"/>
              <a:ext cx="10800" cy="104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" y="52"/>
                  </a:moveTo>
                  <a:lnTo>
                    <a:pt x="0" y="48"/>
                  </a:lnTo>
                  <a:lnTo>
                    <a:pt x="0" y="54"/>
                  </a:lnTo>
                  <a:lnTo>
                    <a:pt x="12" y="60"/>
                  </a:lnTo>
                  <a:lnTo>
                    <a:pt x="34" y="60"/>
                  </a:lnTo>
                  <a:lnTo>
                    <a:pt x="54" y="48"/>
                  </a:lnTo>
                  <a:lnTo>
                    <a:pt x="72" y="44"/>
                  </a:lnTo>
                  <a:lnTo>
                    <a:pt x="70" y="34"/>
                  </a:lnTo>
                  <a:lnTo>
                    <a:pt x="36" y="8"/>
                  </a:lnTo>
                  <a:lnTo>
                    <a:pt x="34" y="0"/>
                  </a:lnTo>
                  <a:lnTo>
                    <a:pt x="20" y="2"/>
                  </a:lnTo>
                  <a:lnTo>
                    <a:pt x="12" y="10"/>
                  </a:lnTo>
                  <a:lnTo>
                    <a:pt x="14" y="18"/>
                  </a:lnTo>
                  <a:lnTo>
                    <a:pt x="30" y="26"/>
                  </a:lnTo>
                  <a:lnTo>
                    <a:pt x="28" y="40"/>
                  </a:lnTo>
                  <a:lnTo>
                    <a:pt x="32" y="42"/>
                  </a:lnTo>
                  <a:lnTo>
                    <a:pt x="28" y="48"/>
                  </a:lnTo>
                  <a:lnTo>
                    <a:pt x="18" y="52"/>
                  </a:lnTo>
                  <a:lnTo>
                    <a:pt x="4" y="5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3080" y="2763000"/>
              <a:ext cx="37440" cy="22680"/>
            </a:xfrm>
            <a:custGeom>
              <a:avLst/>
              <a:gdLst/>
              <a:ahLst/>
              <a:rect l="l" t="t" r="r" b="b"/>
              <a:pathLst>
                <a:path w="218" h="132">
                  <a:moveTo>
                    <a:pt x="122" y="4"/>
                  </a:moveTo>
                  <a:lnTo>
                    <a:pt x="134" y="0"/>
                  </a:lnTo>
                  <a:lnTo>
                    <a:pt x="142" y="10"/>
                  </a:lnTo>
                  <a:lnTo>
                    <a:pt x="146" y="18"/>
                  </a:lnTo>
                  <a:lnTo>
                    <a:pt x="142" y="28"/>
                  </a:lnTo>
                  <a:lnTo>
                    <a:pt x="146" y="26"/>
                  </a:lnTo>
                  <a:lnTo>
                    <a:pt x="152" y="36"/>
                  </a:lnTo>
                  <a:lnTo>
                    <a:pt x="148" y="48"/>
                  </a:lnTo>
                  <a:lnTo>
                    <a:pt x="140" y="62"/>
                  </a:lnTo>
                  <a:lnTo>
                    <a:pt x="144" y="56"/>
                  </a:lnTo>
                  <a:lnTo>
                    <a:pt x="156" y="52"/>
                  </a:lnTo>
                  <a:lnTo>
                    <a:pt x="162" y="36"/>
                  </a:lnTo>
                  <a:lnTo>
                    <a:pt x="178" y="32"/>
                  </a:lnTo>
                  <a:lnTo>
                    <a:pt x="174" y="26"/>
                  </a:lnTo>
                  <a:lnTo>
                    <a:pt x="178" y="12"/>
                  </a:lnTo>
                  <a:lnTo>
                    <a:pt x="196" y="18"/>
                  </a:lnTo>
                  <a:lnTo>
                    <a:pt x="212" y="28"/>
                  </a:lnTo>
                  <a:lnTo>
                    <a:pt x="218" y="44"/>
                  </a:lnTo>
                  <a:lnTo>
                    <a:pt x="214" y="54"/>
                  </a:lnTo>
                  <a:lnTo>
                    <a:pt x="206" y="62"/>
                  </a:lnTo>
                  <a:lnTo>
                    <a:pt x="188" y="66"/>
                  </a:lnTo>
                  <a:lnTo>
                    <a:pt x="174" y="76"/>
                  </a:lnTo>
                  <a:lnTo>
                    <a:pt x="168" y="88"/>
                  </a:lnTo>
                  <a:lnTo>
                    <a:pt x="158" y="78"/>
                  </a:lnTo>
                  <a:lnTo>
                    <a:pt x="138" y="94"/>
                  </a:lnTo>
                  <a:lnTo>
                    <a:pt x="140" y="100"/>
                  </a:lnTo>
                  <a:lnTo>
                    <a:pt x="132" y="108"/>
                  </a:lnTo>
                  <a:lnTo>
                    <a:pt x="124" y="100"/>
                  </a:lnTo>
                  <a:lnTo>
                    <a:pt x="118" y="88"/>
                  </a:lnTo>
                  <a:lnTo>
                    <a:pt x="120" y="82"/>
                  </a:lnTo>
                  <a:lnTo>
                    <a:pt x="106" y="98"/>
                  </a:lnTo>
                  <a:lnTo>
                    <a:pt x="90" y="110"/>
                  </a:lnTo>
                  <a:lnTo>
                    <a:pt x="58" y="126"/>
                  </a:lnTo>
                  <a:lnTo>
                    <a:pt x="58" y="114"/>
                  </a:lnTo>
                  <a:lnTo>
                    <a:pt x="46" y="114"/>
                  </a:lnTo>
                  <a:lnTo>
                    <a:pt x="36" y="124"/>
                  </a:lnTo>
                  <a:lnTo>
                    <a:pt x="6" y="132"/>
                  </a:lnTo>
                  <a:lnTo>
                    <a:pt x="2" y="126"/>
                  </a:lnTo>
                  <a:lnTo>
                    <a:pt x="0" y="110"/>
                  </a:lnTo>
                  <a:lnTo>
                    <a:pt x="10" y="108"/>
                  </a:lnTo>
                  <a:lnTo>
                    <a:pt x="16" y="100"/>
                  </a:lnTo>
                  <a:lnTo>
                    <a:pt x="28" y="100"/>
                  </a:lnTo>
                  <a:lnTo>
                    <a:pt x="42" y="94"/>
                  </a:lnTo>
                  <a:lnTo>
                    <a:pt x="52" y="94"/>
                  </a:lnTo>
                  <a:lnTo>
                    <a:pt x="60" y="86"/>
                  </a:lnTo>
                  <a:lnTo>
                    <a:pt x="92" y="78"/>
                  </a:lnTo>
                  <a:lnTo>
                    <a:pt x="88" y="70"/>
                  </a:lnTo>
                  <a:lnTo>
                    <a:pt x="110" y="54"/>
                  </a:lnTo>
                  <a:lnTo>
                    <a:pt x="108" y="42"/>
                  </a:lnTo>
                  <a:lnTo>
                    <a:pt x="114" y="38"/>
                  </a:lnTo>
                  <a:lnTo>
                    <a:pt x="114" y="30"/>
                  </a:lnTo>
                  <a:lnTo>
                    <a:pt x="116" y="16"/>
                  </a:lnTo>
                  <a:lnTo>
                    <a:pt x="122" y="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74520" y="2763000"/>
              <a:ext cx="15840" cy="10440"/>
            </a:xfrm>
            <a:custGeom>
              <a:avLst/>
              <a:gdLst/>
              <a:ahLst/>
              <a:rect l="l" t="t" r="r" b="b"/>
              <a:pathLst>
                <a:path w="88" h="66">
                  <a:moveTo>
                    <a:pt x="2" y="48"/>
                  </a:moveTo>
                  <a:lnTo>
                    <a:pt x="8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12" y="38"/>
                  </a:lnTo>
                  <a:lnTo>
                    <a:pt x="16" y="32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36" y="14"/>
                  </a:lnTo>
                  <a:lnTo>
                    <a:pt x="44" y="24"/>
                  </a:lnTo>
                  <a:lnTo>
                    <a:pt x="60" y="24"/>
                  </a:lnTo>
                  <a:lnTo>
                    <a:pt x="56" y="0"/>
                  </a:lnTo>
                  <a:lnTo>
                    <a:pt x="82" y="24"/>
                  </a:lnTo>
                  <a:lnTo>
                    <a:pt x="82" y="36"/>
                  </a:lnTo>
                  <a:lnTo>
                    <a:pt x="88" y="54"/>
                  </a:lnTo>
                  <a:lnTo>
                    <a:pt x="74" y="56"/>
                  </a:lnTo>
                  <a:lnTo>
                    <a:pt x="64" y="62"/>
                  </a:lnTo>
                  <a:lnTo>
                    <a:pt x="50" y="66"/>
                  </a:lnTo>
                  <a:lnTo>
                    <a:pt x="44" y="56"/>
                  </a:lnTo>
                  <a:lnTo>
                    <a:pt x="56" y="48"/>
                  </a:lnTo>
                  <a:lnTo>
                    <a:pt x="60" y="40"/>
                  </a:lnTo>
                  <a:lnTo>
                    <a:pt x="50" y="50"/>
                  </a:lnTo>
                  <a:lnTo>
                    <a:pt x="40" y="48"/>
                  </a:lnTo>
                  <a:lnTo>
                    <a:pt x="8" y="64"/>
                  </a:lnTo>
                  <a:lnTo>
                    <a:pt x="0" y="58"/>
                  </a:lnTo>
                  <a:lnTo>
                    <a:pt x="2" y="4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90360" y="2752200"/>
              <a:ext cx="10440" cy="90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22" y="18"/>
                  </a:moveTo>
                  <a:lnTo>
                    <a:pt x="28" y="18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8" y="6"/>
                  </a:lnTo>
                  <a:lnTo>
                    <a:pt x="54" y="14"/>
                  </a:lnTo>
                  <a:lnTo>
                    <a:pt x="54" y="26"/>
                  </a:lnTo>
                  <a:lnTo>
                    <a:pt x="44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6" y="54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22" y="26"/>
                  </a:lnTo>
                  <a:lnTo>
                    <a:pt x="22" y="1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82440" y="2791800"/>
              <a:ext cx="9000" cy="936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18" y="22"/>
                  </a:moveTo>
                  <a:lnTo>
                    <a:pt x="16" y="20"/>
                  </a:lnTo>
                  <a:lnTo>
                    <a:pt x="6" y="8"/>
                  </a:lnTo>
                  <a:lnTo>
                    <a:pt x="22" y="12"/>
                  </a:lnTo>
                  <a:lnTo>
                    <a:pt x="34" y="12"/>
                  </a:lnTo>
                  <a:lnTo>
                    <a:pt x="50" y="0"/>
                  </a:lnTo>
                  <a:lnTo>
                    <a:pt x="56" y="10"/>
                  </a:lnTo>
                  <a:lnTo>
                    <a:pt x="54" y="18"/>
                  </a:lnTo>
                  <a:lnTo>
                    <a:pt x="42" y="22"/>
                  </a:lnTo>
                  <a:lnTo>
                    <a:pt x="34" y="32"/>
                  </a:lnTo>
                  <a:lnTo>
                    <a:pt x="18" y="40"/>
                  </a:lnTo>
                  <a:lnTo>
                    <a:pt x="8" y="42"/>
                  </a:lnTo>
                  <a:lnTo>
                    <a:pt x="0" y="38"/>
                  </a:lnTo>
                  <a:lnTo>
                    <a:pt x="8" y="26"/>
                  </a:lnTo>
                  <a:lnTo>
                    <a:pt x="20" y="24"/>
                  </a:lnTo>
                  <a:lnTo>
                    <a:pt x="18" y="2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1960" y="2746080"/>
              <a:ext cx="20520" cy="1368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14" y="64"/>
                  </a:moveTo>
                  <a:lnTo>
                    <a:pt x="0" y="58"/>
                  </a:lnTo>
                  <a:lnTo>
                    <a:pt x="12" y="58"/>
                  </a:lnTo>
                  <a:lnTo>
                    <a:pt x="16" y="54"/>
                  </a:lnTo>
                  <a:lnTo>
                    <a:pt x="18" y="48"/>
                  </a:lnTo>
                  <a:lnTo>
                    <a:pt x="6" y="46"/>
                  </a:lnTo>
                  <a:lnTo>
                    <a:pt x="16" y="42"/>
                  </a:lnTo>
                  <a:lnTo>
                    <a:pt x="8" y="38"/>
                  </a:lnTo>
                  <a:lnTo>
                    <a:pt x="22" y="30"/>
                  </a:lnTo>
                  <a:lnTo>
                    <a:pt x="34" y="34"/>
                  </a:lnTo>
                  <a:lnTo>
                    <a:pt x="44" y="26"/>
                  </a:lnTo>
                  <a:lnTo>
                    <a:pt x="34" y="18"/>
                  </a:lnTo>
                  <a:lnTo>
                    <a:pt x="42" y="14"/>
                  </a:lnTo>
                  <a:lnTo>
                    <a:pt x="58" y="20"/>
                  </a:lnTo>
                  <a:lnTo>
                    <a:pt x="62" y="14"/>
                  </a:lnTo>
                  <a:lnTo>
                    <a:pt x="54" y="0"/>
                  </a:lnTo>
                  <a:lnTo>
                    <a:pt x="66" y="10"/>
                  </a:lnTo>
                  <a:lnTo>
                    <a:pt x="68" y="0"/>
                  </a:lnTo>
                  <a:lnTo>
                    <a:pt x="80" y="0"/>
                  </a:lnTo>
                  <a:lnTo>
                    <a:pt x="94" y="14"/>
                  </a:lnTo>
                  <a:lnTo>
                    <a:pt x="102" y="20"/>
                  </a:lnTo>
                  <a:lnTo>
                    <a:pt x="110" y="34"/>
                  </a:lnTo>
                  <a:lnTo>
                    <a:pt x="102" y="46"/>
                  </a:lnTo>
                  <a:lnTo>
                    <a:pt x="104" y="68"/>
                  </a:lnTo>
                  <a:lnTo>
                    <a:pt x="74" y="70"/>
                  </a:lnTo>
                  <a:lnTo>
                    <a:pt x="72" y="62"/>
                  </a:lnTo>
                  <a:lnTo>
                    <a:pt x="60" y="66"/>
                  </a:lnTo>
                  <a:lnTo>
                    <a:pt x="52" y="82"/>
                  </a:lnTo>
                  <a:lnTo>
                    <a:pt x="22" y="84"/>
                  </a:lnTo>
                  <a:lnTo>
                    <a:pt x="10" y="90"/>
                  </a:lnTo>
                  <a:lnTo>
                    <a:pt x="0" y="82"/>
                  </a:lnTo>
                  <a:lnTo>
                    <a:pt x="18" y="74"/>
                  </a:lnTo>
                  <a:lnTo>
                    <a:pt x="22" y="68"/>
                  </a:lnTo>
                  <a:lnTo>
                    <a:pt x="14" y="6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32480" y="2737080"/>
              <a:ext cx="13680" cy="900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14" y="28"/>
                  </a:moveTo>
                  <a:lnTo>
                    <a:pt x="34" y="28"/>
                  </a:lnTo>
                  <a:lnTo>
                    <a:pt x="38" y="24"/>
                  </a:lnTo>
                  <a:lnTo>
                    <a:pt x="40" y="12"/>
                  </a:lnTo>
                  <a:lnTo>
                    <a:pt x="50" y="22"/>
                  </a:lnTo>
                  <a:lnTo>
                    <a:pt x="54" y="22"/>
                  </a:lnTo>
                  <a:lnTo>
                    <a:pt x="58" y="10"/>
                  </a:lnTo>
                  <a:lnTo>
                    <a:pt x="56" y="0"/>
                  </a:lnTo>
                  <a:lnTo>
                    <a:pt x="74" y="6"/>
                  </a:lnTo>
                  <a:lnTo>
                    <a:pt x="82" y="14"/>
                  </a:lnTo>
                  <a:lnTo>
                    <a:pt x="70" y="32"/>
                  </a:lnTo>
                  <a:lnTo>
                    <a:pt x="72" y="42"/>
                  </a:lnTo>
                  <a:lnTo>
                    <a:pt x="28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4" y="44"/>
                  </a:lnTo>
                  <a:lnTo>
                    <a:pt x="16" y="40"/>
                  </a:lnTo>
                  <a:lnTo>
                    <a:pt x="14" y="2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40400" y="2729160"/>
              <a:ext cx="15480" cy="900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18" y="10"/>
                  </a:moveTo>
                  <a:lnTo>
                    <a:pt x="10" y="16"/>
                  </a:lnTo>
                  <a:lnTo>
                    <a:pt x="6" y="12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34" y="2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4" y="22"/>
                  </a:lnTo>
                  <a:lnTo>
                    <a:pt x="52" y="20"/>
                  </a:lnTo>
                  <a:lnTo>
                    <a:pt x="52" y="16"/>
                  </a:lnTo>
                  <a:lnTo>
                    <a:pt x="66" y="12"/>
                  </a:lnTo>
                  <a:lnTo>
                    <a:pt x="88" y="16"/>
                  </a:lnTo>
                  <a:lnTo>
                    <a:pt x="70" y="42"/>
                  </a:lnTo>
                  <a:lnTo>
                    <a:pt x="58" y="46"/>
                  </a:lnTo>
                  <a:lnTo>
                    <a:pt x="18" y="30"/>
                  </a:lnTo>
                  <a:lnTo>
                    <a:pt x="12" y="22"/>
                  </a:lnTo>
                  <a:lnTo>
                    <a:pt x="20" y="26"/>
                  </a:lnTo>
                  <a:lnTo>
                    <a:pt x="24" y="10"/>
                  </a:lnTo>
                  <a:lnTo>
                    <a:pt x="18" y="1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54080" y="2726280"/>
              <a:ext cx="9360" cy="43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8" y="14"/>
                  </a:moveTo>
                  <a:lnTo>
                    <a:pt x="30" y="12"/>
                  </a:lnTo>
                  <a:lnTo>
                    <a:pt x="34" y="16"/>
                  </a:lnTo>
                  <a:lnTo>
                    <a:pt x="40" y="18"/>
                  </a:lnTo>
                  <a:lnTo>
                    <a:pt x="54" y="28"/>
                  </a:lnTo>
                  <a:lnTo>
                    <a:pt x="48" y="36"/>
                  </a:lnTo>
                  <a:lnTo>
                    <a:pt x="22" y="30"/>
                  </a:lnTo>
                  <a:lnTo>
                    <a:pt x="8" y="1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4" y="4"/>
                  </a:lnTo>
                  <a:lnTo>
                    <a:pt x="22" y="16"/>
                  </a:lnTo>
                  <a:lnTo>
                    <a:pt x="28" y="1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69560" y="2726280"/>
              <a:ext cx="4680" cy="43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6" y="2"/>
                  </a:moveTo>
                  <a:lnTo>
                    <a:pt x="22" y="0"/>
                  </a:lnTo>
                  <a:lnTo>
                    <a:pt x="28" y="8"/>
                  </a:lnTo>
                  <a:lnTo>
                    <a:pt x="28" y="14"/>
                  </a:lnTo>
                  <a:lnTo>
                    <a:pt x="28" y="30"/>
                  </a:lnTo>
                  <a:lnTo>
                    <a:pt x="24" y="32"/>
                  </a:lnTo>
                  <a:lnTo>
                    <a:pt x="18" y="30"/>
                  </a:lnTo>
                  <a:lnTo>
                    <a:pt x="16" y="20"/>
                  </a:lnTo>
                  <a:lnTo>
                    <a:pt x="10" y="26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6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01240" y="2721600"/>
              <a:ext cx="9000" cy="252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32" y="22"/>
                  </a:moveTo>
                  <a:lnTo>
                    <a:pt x="4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4"/>
                  </a:lnTo>
                  <a:lnTo>
                    <a:pt x="48" y="12"/>
                  </a:lnTo>
                  <a:lnTo>
                    <a:pt x="50" y="20"/>
                  </a:lnTo>
                  <a:lnTo>
                    <a:pt x="32" y="2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94760" y="2710800"/>
              <a:ext cx="15480" cy="7560"/>
            </a:xfrm>
            <a:custGeom>
              <a:avLst/>
              <a:gdLst/>
              <a:ahLst/>
              <a:rect l="l" t="t" r="r" b="b"/>
              <a:pathLst>
                <a:path w="100" h="44">
                  <a:moveTo>
                    <a:pt x="28" y="12"/>
                  </a:moveTo>
                  <a:lnTo>
                    <a:pt x="32" y="10"/>
                  </a:lnTo>
                  <a:lnTo>
                    <a:pt x="32" y="6"/>
                  </a:lnTo>
                  <a:lnTo>
                    <a:pt x="38" y="6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8" y="16"/>
                  </a:lnTo>
                  <a:lnTo>
                    <a:pt x="66" y="12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2" y="10"/>
                  </a:lnTo>
                  <a:lnTo>
                    <a:pt x="98" y="14"/>
                  </a:lnTo>
                  <a:lnTo>
                    <a:pt x="100" y="22"/>
                  </a:lnTo>
                  <a:lnTo>
                    <a:pt x="90" y="22"/>
                  </a:lnTo>
                  <a:lnTo>
                    <a:pt x="88" y="30"/>
                  </a:lnTo>
                  <a:lnTo>
                    <a:pt x="82" y="34"/>
                  </a:lnTo>
                  <a:lnTo>
                    <a:pt x="70" y="30"/>
                  </a:lnTo>
                  <a:lnTo>
                    <a:pt x="62" y="38"/>
                  </a:lnTo>
                  <a:lnTo>
                    <a:pt x="54" y="38"/>
                  </a:lnTo>
                  <a:lnTo>
                    <a:pt x="46" y="34"/>
                  </a:lnTo>
                  <a:lnTo>
                    <a:pt x="34" y="40"/>
                  </a:lnTo>
                  <a:lnTo>
                    <a:pt x="26" y="32"/>
                  </a:lnTo>
                  <a:lnTo>
                    <a:pt x="24" y="44"/>
                  </a:lnTo>
                  <a:lnTo>
                    <a:pt x="14" y="24"/>
                  </a:lnTo>
                  <a:lnTo>
                    <a:pt x="0" y="22"/>
                  </a:lnTo>
                  <a:lnTo>
                    <a:pt x="10" y="14"/>
                  </a:lnTo>
                  <a:lnTo>
                    <a:pt x="22" y="16"/>
                  </a:lnTo>
                  <a:lnTo>
                    <a:pt x="28" y="1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08800" y="2715480"/>
              <a:ext cx="10800" cy="7560"/>
            </a:xfrm>
            <a:custGeom>
              <a:avLst/>
              <a:gdLst/>
              <a:ahLst/>
              <a:rect l="l" t="t" r="r" b="b"/>
              <a:pathLst>
                <a:path w="64" h="48">
                  <a:moveTo>
                    <a:pt x="48" y="40"/>
                  </a:moveTo>
                  <a:lnTo>
                    <a:pt x="42" y="38"/>
                  </a:lnTo>
                  <a:lnTo>
                    <a:pt x="44" y="44"/>
                  </a:lnTo>
                  <a:lnTo>
                    <a:pt x="36" y="48"/>
                  </a:lnTo>
                  <a:lnTo>
                    <a:pt x="20" y="46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8" y="28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8" y="16"/>
                  </a:lnTo>
                  <a:lnTo>
                    <a:pt x="20" y="6"/>
                  </a:lnTo>
                  <a:lnTo>
                    <a:pt x="36" y="10"/>
                  </a:lnTo>
                  <a:lnTo>
                    <a:pt x="44" y="0"/>
                  </a:lnTo>
                  <a:lnTo>
                    <a:pt x="60" y="10"/>
                  </a:lnTo>
                  <a:lnTo>
                    <a:pt x="64" y="18"/>
                  </a:lnTo>
                  <a:lnTo>
                    <a:pt x="58" y="30"/>
                  </a:lnTo>
                  <a:lnTo>
                    <a:pt x="48" y="4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19960" y="2709000"/>
              <a:ext cx="7560" cy="9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30" y="34"/>
                  </a:moveTo>
                  <a:lnTo>
                    <a:pt x="24" y="40"/>
                  </a:lnTo>
                  <a:lnTo>
                    <a:pt x="10" y="20"/>
                  </a:lnTo>
                  <a:lnTo>
                    <a:pt x="0" y="6"/>
                  </a:lnTo>
                  <a:lnTo>
                    <a:pt x="4" y="0"/>
                  </a:lnTo>
                  <a:lnTo>
                    <a:pt x="10" y="8"/>
                  </a:lnTo>
                  <a:lnTo>
                    <a:pt x="18" y="6"/>
                  </a:lnTo>
                  <a:lnTo>
                    <a:pt x="32" y="12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30" y="3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44800" y="2698560"/>
              <a:ext cx="12240" cy="612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50" y="8"/>
                  </a:moveTo>
                  <a:lnTo>
                    <a:pt x="66" y="20"/>
                  </a:lnTo>
                  <a:lnTo>
                    <a:pt x="70" y="28"/>
                  </a:lnTo>
                  <a:lnTo>
                    <a:pt x="54" y="26"/>
                  </a:lnTo>
                  <a:lnTo>
                    <a:pt x="46" y="32"/>
                  </a:lnTo>
                  <a:lnTo>
                    <a:pt x="36" y="30"/>
                  </a:lnTo>
                  <a:lnTo>
                    <a:pt x="18" y="32"/>
                  </a:lnTo>
                  <a:lnTo>
                    <a:pt x="12" y="26"/>
                  </a:lnTo>
                  <a:lnTo>
                    <a:pt x="24" y="22"/>
                  </a:lnTo>
                  <a:lnTo>
                    <a:pt x="28" y="1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14" y="10"/>
                  </a:lnTo>
                  <a:lnTo>
                    <a:pt x="30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50" y="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2360" y="2916360"/>
              <a:ext cx="14040" cy="576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0" y="22"/>
                  </a:moveTo>
                  <a:lnTo>
                    <a:pt x="8" y="22"/>
                  </a:lnTo>
                  <a:lnTo>
                    <a:pt x="8" y="18"/>
                  </a:lnTo>
                  <a:lnTo>
                    <a:pt x="20" y="18"/>
                  </a:lnTo>
                  <a:lnTo>
                    <a:pt x="26" y="12"/>
                  </a:lnTo>
                  <a:lnTo>
                    <a:pt x="28" y="8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66" y="6"/>
                  </a:lnTo>
                  <a:lnTo>
                    <a:pt x="74" y="10"/>
                  </a:lnTo>
                  <a:lnTo>
                    <a:pt x="78" y="20"/>
                  </a:lnTo>
                  <a:lnTo>
                    <a:pt x="36" y="28"/>
                  </a:lnTo>
                  <a:lnTo>
                    <a:pt x="16" y="38"/>
                  </a:lnTo>
                  <a:lnTo>
                    <a:pt x="4" y="30"/>
                  </a:lnTo>
                  <a:lnTo>
                    <a:pt x="0" y="2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6840" y="2988360"/>
              <a:ext cx="4320" cy="43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8" y="4"/>
                  </a:moveTo>
                  <a:lnTo>
                    <a:pt x="20" y="0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14" y="24"/>
                  </a:lnTo>
                  <a:lnTo>
                    <a:pt x="18" y="10"/>
                  </a:lnTo>
                  <a:lnTo>
                    <a:pt x="18" y="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35560" y="2953080"/>
              <a:ext cx="2880" cy="46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0" y="28"/>
                  </a:moveTo>
                  <a:lnTo>
                    <a:pt x="22" y="8"/>
                  </a:lnTo>
                  <a:lnTo>
                    <a:pt x="18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2" y="28"/>
                  </a:lnTo>
                  <a:lnTo>
                    <a:pt x="10" y="2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21520" y="2968560"/>
              <a:ext cx="1440" cy="25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4" y="14"/>
                  </a:lnTo>
                  <a:lnTo>
                    <a:pt x="14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28000" y="3022200"/>
              <a:ext cx="4320" cy="75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0" y="34"/>
                  </a:moveTo>
                  <a:lnTo>
                    <a:pt x="20" y="1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0" y="3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26560" y="3040560"/>
              <a:ext cx="2520" cy="432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2" y="32"/>
                  </a:moveTo>
                  <a:lnTo>
                    <a:pt x="10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32"/>
                  </a:lnTo>
                  <a:lnTo>
                    <a:pt x="12" y="3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57800" y="3620160"/>
              <a:ext cx="7560" cy="75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0" y="2"/>
                  </a:moveTo>
                  <a:lnTo>
                    <a:pt x="34" y="4"/>
                  </a:lnTo>
                  <a:lnTo>
                    <a:pt x="36" y="0"/>
                  </a:lnTo>
                  <a:lnTo>
                    <a:pt x="42" y="20"/>
                  </a:lnTo>
                  <a:lnTo>
                    <a:pt x="26" y="34"/>
                  </a:lnTo>
                  <a:lnTo>
                    <a:pt x="16" y="42"/>
                  </a:lnTo>
                  <a:lnTo>
                    <a:pt x="0" y="32"/>
                  </a:lnTo>
                  <a:lnTo>
                    <a:pt x="8" y="14"/>
                  </a:lnTo>
                  <a:lnTo>
                    <a:pt x="30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82640" y="3595680"/>
              <a:ext cx="23040" cy="19800"/>
            </a:xfrm>
            <a:custGeom>
              <a:avLst/>
              <a:gdLst/>
              <a:ahLst/>
              <a:rect l="l" t="t" r="r" b="b"/>
              <a:pathLst>
                <a:path w="128" h="116">
                  <a:moveTo>
                    <a:pt x="100" y="4"/>
                  </a:moveTo>
                  <a:lnTo>
                    <a:pt x="94" y="26"/>
                  </a:lnTo>
                  <a:lnTo>
                    <a:pt x="96" y="36"/>
                  </a:lnTo>
                  <a:lnTo>
                    <a:pt x="116" y="36"/>
                  </a:lnTo>
                  <a:lnTo>
                    <a:pt x="128" y="54"/>
                  </a:lnTo>
                  <a:lnTo>
                    <a:pt x="116" y="90"/>
                  </a:lnTo>
                  <a:lnTo>
                    <a:pt x="92" y="116"/>
                  </a:lnTo>
                  <a:lnTo>
                    <a:pt x="54" y="94"/>
                  </a:lnTo>
                  <a:lnTo>
                    <a:pt x="46" y="74"/>
                  </a:lnTo>
                  <a:lnTo>
                    <a:pt x="26" y="76"/>
                  </a:lnTo>
                  <a:lnTo>
                    <a:pt x="14" y="84"/>
                  </a:lnTo>
                  <a:lnTo>
                    <a:pt x="0" y="66"/>
                  </a:lnTo>
                  <a:lnTo>
                    <a:pt x="22" y="38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0" y="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15400" y="3592440"/>
              <a:ext cx="9000" cy="612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44" y="8"/>
                  </a:moveTo>
                  <a:lnTo>
                    <a:pt x="48" y="8"/>
                  </a:lnTo>
                  <a:lnTo>
                    <a:pt x="50" y="16"/>
                  </a:lnTo>
                  <a:lnTo>
                    <a:pt x="52" y="38"/>
                  </a:lnTo>
                  <a:lnTo>
                    <a:pt x="38" y="38"/>
                  </a:lnTo>
                  <a:lnTo>
                    <a:pt x="18" y="28"/>
                  </a:lnTo>
                  <a:lnTo>
                    <a:pt x="0" y="12"/>
                  </a:lnTo>
                  <a:lnTo>
                    <a:pt x="10" y="2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10200" y="4695120"/>
              <a:ext cx="7560" cy="75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4" y="22"/>
                  </a:moveTo>
                  <a:lnTo>
                    <a:pt x="42" y="2"/>
                  </a:lnTo>
                  <a:lnTo>
                    <a:pt x="28" y="0"/>
                  </a:lnTo>
                  <a:lnTo>
                    <a:pt x="10" y="1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8" y="42"/>
                  </a:lnTo>
                  <a:lnTo>
                    <a:pt x="36" y="36"/>
                  </a:lnTo>
                  <a:lnTo>
                    <a:pt x="44" y="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78680" y="4810320"/>
              <a:ext cx="13680" cy="9000"/>
            </a:xfrm>
            <a:custGeom>
              <a:avLst/>
              <a:gdLst/>
              <a:ahLst/>
              <a:rect l="l" t="t" r="r" b="b"/>
              <a:pathLst>
                <a:path w="74" h="56">
                  <a:moveTo>
                    <a:pt x="2" y="6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4" y="12"/>
                  </a:lnTo>
                  <a:lnTo>
                    <a:pt x="48" y="14"/>
                  </a:lnTo>
                  <a:lnTo>
                    <a:pt x="74" y="8"/>
                  </a:lnTo>
                  <a:lnTo>
                    <a:pt x="60" y="48"/>
                  </a:lnTo>
                  <a:lnTo>
                    <a:pt x="46" y="38"/>
                  </a:lnTo>
                  <a:lnTo>
                    <a:pt x="36" y="36"/>
                  </a:lnTo>
                  <a:lnTo>
                    <a:pt x="28" y="44"/>
                  </a:lnTo>
                  <a:lnTo>
                    <a:pt x="10" y="56"/>
                  </a:lnTo>
                  <a:lnTo>
                    <a:pt x="0" y="36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2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53200" y="4787280"/>
              <a:ext cx="6120" cy="90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4" y="6"/>
                  </a:moveTo>
                  <a:lnTo>
                    <a:pt x="10" y="0"/>
                  </a:lnTo>
                  <a:lnTo>
                    <a:pt x="28" y="40"/>
                  </a:lnTo>
                  <a:lnTo>
                    <a:pt x="20" y="54"/>
                  </a:lnTo>
                  <a:lnTo>
                    <a:pt x="4" y="36"/>
                  </a:lnTo>
                  <a:lnTo>
                    <a:pt x="0" y="14"/>
                  </a:lnTo>
                  <a:lnTo>
                    <a:pt x="4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64360" y="4823640"/>
              <a:ext cx="10800" cy="936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14"/>
                  </a:moveTo>
                  <a:lnTo>
                    <a:pt x="2" y="4"/>
                  </a:lnTo>
                  <a:lnTo>
                    <a:pt x="20" y="0"/>
                  </a:lnTo>
                  <a:lnTo>
                    <a:pt x="52" y="2"/>
                  </a:lnTo>
                  <a:lnTo>
                    <a:pt x="60" y="30"/>
                  </a:lnTo>
                  <a:lnTo>
                    <a:pt x="58" y="46"/>
                  </a:lnTo>
                  <a:lnTo>
                    <a:pt x="26" y="54"/>
                  </a:lnTo>
                  <a:lnTo>
                    <a:pt x="0" y="20"/>
                  </a:lnTo>
                  <a:lnTo>
                    <a:pt x="0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84880" y="4831200"/>
              <a:ext cx="54360" cy="73440"/>
            </a:xfrm>
            <a:custGeom>
              <a:avLst/>
              <a:gdLst/>
              <a:ahLst/>
              <a:rect l="l" t="t" r="r" b="b"/>
              <a:pathLst>
                <a:path w="316" h="438">
                  <a:moveTo>
                    <a:pt x="0" y="10"/>
                  </a:moveTo>
                  <a:lnTo>
                    <a:pt x="4" y="0"/>
                  </a:lnTo>
                  <a:lnTo>
                    <a:pt x="48" y="40"/>
                  </a:lnTo>
                  <a:lnTo>
                    <a:pt x="64" y="60"/>
                  </a:lnTo>
                  <a:lnTo>
                    <a:pt x="86" y="76"/>
                  </a:lnTo>
                  <a:lnTo>
                    <a:pt x="134" y="126"/>
                  </a:lnTo>
                  <a:lnTo>
                    <a:pt x="162" y="132"/>
                  </a:lnTo>
                  <a:lnTo>
                    <a:pt x="188" y="160"/>
                  </a:lnTo>
                  <a:lnTo>
                    <a:pt x="202" y="182"/>
                  </a:lnTo>
                  <a:lnTo>
                    <a:pt x="236" y="216"/>
                  </a:lnTo>
                  <a:lnTo>
                    <a:pt x="248" y="244"/>
                  </a:lnTo>
                  <a:lnTo>
                    <a:pt x="264" y="264"/>
                  </a:lnTo>
                  <a:lnTo>
                    <a:pt x="292" y="272"/>
                  </a:lnTo>
                  <a:lnTo>
                    <a:pt x="300" y="286"/>
                  </a:lnTo>
                  <a:lnTo>
                    <a:pt x="308" y="322"/>
                  </a:lnTo>
                  <a:lnTo>
                    <a:pt x="316" y="348"/>
                  </a:lnTo>
                  <a:lnTo>
                    <a:pt x="314" y="366"/>
                  </a:lnTo>
                  <a:lnTo>
                    <a:pt x="302" y="394"/>
                  </a:lnTo>
                  <a:lnTo>
                    <a:pt x="286" y="436"/>
                  </a:lnTo>
                  <a:lnTo>
                    <a:pt x="262" y="438"/>
                  </a:lnTo>
                  <a:lnTo>
                    <a:pt x="252" y="346"/>
                  </a:lnTo>
                  <a:lnTo>
                    <a:pt x="238" y="264"/>
                  </a:lnTo>
                  <a:lnTo>
                    <a:pt x="214" y="198"/>
                  </a:lnTo>
                  <a:lnTo>
                    <a:pt x="200" y="180"/>
                  </a:lnTo>
                  <a:lnTo>
                    <a:pt x="160" y="170"/>
                  </a:lnTo>
                  <a:lnTo>
                    <a:pt x="136" y="146"/>
                  </a:lnTo>
                  <a:lnTo>
                    <a:pt x="114" y="114"/>
                  </a:lnTo>
                  <a:lnTo>
                    <a:pt x="98" y="110"/>
                  </a:lnTo>
                  <a:lnTo>
                    <a:pt x="78" y="88"/>
                  </a:lnTo>
                  <a:lnTo>
                    <a:pt x="62" y="78"/>
                  </a:lnTo>
                  <a:lnTo>
                    <a:pt x="20" y="36"/>
                  </a:lnTo>
                  <a:lnTo>
                    <a:pt x="0" y="34"/>
                  </a:lnTo>
                  <a:lnTo>
                    <a:pt x="0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720" bIns="27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984800" y="4919040"/>
              <a:ext cx="2880" cy="756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4" y="0"/>
                  </a:moveTo>
                  <a:lnTo>
                    <a:pt x="12" y="0"/>
                  </a:lnTo>
                  <a:lnTo>
                    <a:pt x="20" y="10"/>
                  </a:lnTo>
                  <a:lnTo>
                    <a:pt x="26" y="28"/>
                  </a:lnTo>
                  <a:lnTo>
                    <a:pt x="16" y="44"/>
                  </a:lnTo>
                  <a:lnTo>
                    <a:pt x="4" y="40"/>
                  </a:lnTo>
                  <a:lnTo>
                    <a:pt x="0" y="18"/>
                  </a:lnTo>
                  <a:lnTo>
                    <a:pt x="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002080" y="4928040"/>
              <a:ext cx="5760" cy="936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"/>
                  </a:moveTo>
                  <a:lnTo>
                    <a:pt x="2" y="0"/>
                  </a:lnTo>
                  <a:lnTo>
                    <a:pt x="16" y="4"/>
                  </a:lnTo>
                  <a:lnTo>
                    <a:pt x="36" y="20"/>
                  </a:lnTo>
                  <a:lnTo>
                    <a:pt x="36" y="56"/>
                  </a:lnTo>
                  <a:lnTo>
                    <a:pt x="20" y="56"/>
                  </a:lnTo>
                  <a:lnTo>
                    <a:pt x="10" y="42"/>
                  </a:lnTo>
                  <a:lnTo>
                    <a:pt x="0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16120" y="4885200"/>
              <a:ext cx="102960" cy="70560"/>
            </a:xfrm>
            <a:custGeom>
              <a:avLst/>
              <a:gdLst/>
              <a:ahLst/>
              <a:rect l="l" t="t" r="r" b="b"/>
              <a:pathLst>
                <a:path w="596" h="414">
                  <a:moveTo>
                    <a:pt x="0" y="250"/>
                  </a:moveTo>
                  <a:lnTo>
                    <a:pt x="14" y="236"/>
                  </a:lnTo>
                  <a:lnTo>
                    <a:pt x="28" y="246"/>
                  </a:lnTo>
                  <a:lnTo>
                    <a:pt x="128" y="260"/>
                  </a:lnTo>
                  <a:lnTo>
                    <a:pt x="208" y="254"/>
                  </a:lnTo>
                  <a:lnTo>
                    <a:pt x="230" y="238"/>
                  </a:lnTo>
                  <a:lnTo>
                    <a:pt x="232" y="214"/>
                  </a:lnTo>
                  <a:lnTo>
                    <a:pt x="238" y="200"/>
                  </a:lnTo>
                  <a:lnTo>
                    <a:pt x="250" y="174"/>
                  </a:lnTo>
                  <a:lnTo>
                    <a:pt x="264" y="162"/>
                  </a:lnTo>
                  <a:lnTo>
                    <a:pt x="270" y="168"/>
                  </a:lnTo>
                  <a:lnTo>
                    <a:pt x="256" y="202"/>
                  </a:lnTo>
                  <a:lnTo>
                    <a:pt x="250" y="236"/>
                  </a:lnTo>
                  <a:lnTo>
                    <a:pt x="264" y="250"/>
                  </a:lnTo>
                  <a:lnTo>
                    <a:pt x="286" y="244"/>
                  </a:lnTo>
                  <a:lnTo>
                    <a:pt x="310" y="242"/>
                  </a:lnTo>
                  <a:lnTo>
                    <a:pt x="328" y="256"/>
                  </a:lnTo>
                  <a:lnTo>
                    <a:pt x="350" y="254"/>
                  </a:lnTo>
                  <a:lnTo>
                    <a:pt x="370" y="244"/>
                  </a:lnTo>
                  <a:lnTo>
                    <a:pt x="422" y="166"/>
                  </a:lnTo>
                  <a:lnTo>
                    <a:pt x="450" y="144"/>
                  </a:lnTo>
                  <a:lnTo>
                    <a:pt x="466" y="146"/>
                  </a:lnTo>
                  <a:lnTo>
                    <a:pt x="490" y="130"/>
                  </a:lnTo>
                  <a:lnTo>
                    <a:pt x="496" y="92"/>
                  </a:lnTo>
                  <a:lnTo>
                    <a:pt x="492" y="60"/>
                  </a:lnTo>
                  <a:lnTo>
                    <a:pt x="484" y="26"/>
                  </a:lnTo>
                  <a:lnTo>
                    <a:pt x="488" y="8"/>
                  </a:lnTo>
                  <a:lnTo>
                    <a:pt x="510" y="2"/>
                  </a:lnTo>
                  <a:lnTo>
                    <a:pt x="526" y="16"/>
                  </a:lnTo>
                  <a:lnTo>
                    <a:pt x="542" y="14"/>
                  </a:lnTo>
                  <a:lnTo>
                    <a:pt x="550" y="4"/>
                  </a:lnTo>
                  <a:lnTo>
                    <a:pt x="566" y="0"/>
                  </a:lnTo>
                  <a:lnTo>
                    <a:pt x="586" y="10"/>
                  </a:lnTo>
                  <a:lnTo>
                    <a:pt x="596" y="46"/>
                  </a:lnTo>
                  <a:lnTo>
                    <a:pt x="594" y="94"/>
                  </a:lnTo>
                  <a:lnTo>
                    <a:pt x="588" y="126"/>
                  </a:lnTo>
                  <a:lnTo>
                    <a:pt x="570" y="148"/>
                  </a:lnTo>
                  <a:lnTo>
                    <a:pt x="552" y="158"/>
                  </a:lnTo>
                  <a:lnTo>
                    <a:pt x="542" y="182"/>
                  </a:lnTo>
                  <a:lnTo>
                    <a:pt x="548" y="222"/>
                  </a:lnTo>
                  <a:lnTo>
                    <a:pt x="528" y="266"/>
                  </a:lnTo>
                  <a:lnTo>
                    <a:pt x="506" y="272"/>
                  </a:lnTo>
                  <a:lnTo>
                    <a:pt x="476" y="264"/>
                  </a:lnTo>
                  <a:lnTo>
                    <a:pt x="462" y="282"/>
                  </a:lnTo>
                  <a:lnTo>
                    <a:pt x="458" y="308"/>
                  </a:lnTo>
                  <a:lnTo>
                    <a:pt x="426" y="348"/>
                  </a:lnTo>
                  <a:lnTo>
                    <a:pt x="356" y="390"/>
                  </a:lnTo>
                  <a:lnTo>
                    <a:pt x="330" y="400"/>
                  </a:lnTo>
                  <a:lnTo>
                    <a:pt x="300" y="406"/>
                  </a:lnTo>
                  <a:lnTo>
                    <a:pt x="250" y="406"/>
                  </a:lnTo>
                  <a:lnTo>
                    <a:pt x="220" y="414"/>
                  </a:lnTo>
                  <a:lnTo>
                    <a:pt x="184" y="414"/>
                  </a:lnTo>
                  <a:lnTo>
                    <a:pt x="158" y="374"/>
                  </a:lnTo>
                  <a:lnTo>
                    <a:pt x="138" y="374"/>
                  </a:lnTo>
                  <a:lnTo>
                    <a:pt x="110" y="384"/>
                  </a:lnTo>
                  <a:lnTo>
                    <a:pt x="60" y="334"/>
                  </a:lnTo>
                  <a:lnTo>
                    <a:pt x="24" y="320"/>
                  </a:lnTo>
                  <a:lnTo>
                    <a:pt x="4" y="292"/>
                  </a:lnTo>
                  <a:lnTo>
                    <a:pt x="0" y="25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840" bIns="24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06480" y="5047560"/>
              <a:ext cx="7560" cy="1188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0" y="0"/>
                  </a:moveTo>
                  <a:lnTo>
                    <a:pt x="14" y="20"/>
                  </a:lnTo>
                  <a:lnTo>
                    <a:pt x="42" y="46"/>
                  </a:lnTo>
                  <a:lnTo>
                    <a:pt x="40" y="68"/>
                  </a:lnTo>
                  <a:lnTo>
                    <a:pt x="20" y="68"/>
                  </a:lnTo>
                  <a:lnTo>
                    <a:pt x="8" y="40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53200" y="5059800"/>
              <a:ext cx="7560" cy="10440"/>
            </a:xfrm>
            <a:custGeom>
              <a:avLst/>
              <a:gdLst/>
              <a:ahLst/>
              <a:rect l="l" t="t" r="r" b="b"/>
              <a:pathLst>
                <a:path w="54" h="72">
                  <a:moveTo>
                    <a:pt x="4" y="0"/>
                  </a:moveTo>
                  <a:lnTo>
                    <a:pt x="36" y="12"/>
                  </a:lnTo>
                  <a:lnTo>
                    <a:pt x="54" y="32"/>
                  </a:lnTo>
                  <a:lnTo>
                    <a:pt x="54" y="72"/>
                  </a:lnTo>
                  <a:lnTo>
                    <a:pt x="2" y="56"/>
                  </a:lnTo>
                  <a:lnTo>
                    <a:pt x="0" y="12"/>
                  </a:lnTo>
                  <a:lnTo>
                    <a:pt x="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59680" y="5075640"/>
              <a:ext cx="9000" cy="1008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0" y="0"/>
                  </a:moveTo>
                  <a:lnTo>
                    <a:pt x="20" y="28"/>
                  </a:lnTo>
                  <a:lnTo>
                    <a:pt x="26" y="30"/>
                  </a:lnTo>
                  <a:lnTo>
                    <a:pt x="42" y="28"/>
                  </a:lnTo>
                  <a:lnTo>
                    <a:pt x="52" y="34"/>
                  </a:lnTo>
                  <a:lnTo>
                    <a:pt x="50" y="62"/>
                  </a:lnTo>
                  <a:lnTo>
                    <a:pt x="30" y="64"/>
                  </a:lnTo>
                  <a:lnTo>
                    <a:pt x="8" y="26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640" bIns="-356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67960" y="5098320"/>
              <a:ext cx="191880" cy="387720"/>
            </a:xfrm>
            <a:custGeom>
              <a:avLst/>
              <a:gdLst/>
              <a:ahLst/>
              <a:rect l="l" t="t" r="r" b="b"/>
              <a:pathLst>
                <a:path w="1104" h="2278">
                  <a:moveTo>
                    <a:pt x="254" y="688"/>
                  </a:moveTo>
                  <a:lnTo>
                    <a:pt x="268" y="672"/>
                  </a:lnTo>
                  <a:lnTo>
                    <a:pt x="284" y="678"/>
                  </a:lnTo>
                  <a:lnTo>
                    <a:pt x="326" y="676"/>
                  </a:lnTo>
                  <a:lnTo>
                    <a:pt x="338" y="662"/>
                  </a:lnTo>
                  <a:lnTo>
                    <a:pt x="368" y="644"/>
                  </a:lnTo>
                  <a:lnTo>
                    <a:pt x="372" y="660"/>
                  </a:lnTo>
                  <a:lnTo>
                    <a:pt x="380" y="664"/>
                  </a:lnTo>
                  <a:lnTo>
                    <a:pt x="396" y="646"/>
                  </a:lnTo>
                  <a:lnTo>
                    <a:pt x="410" y="652"/>
                  </a:lnTo>
                  <a:lnTo>
                    <a:pt x="426" y="632"/>
                  </a:lnTo>
                  <a:lnTo>
                    <a:pt x="432" y="614"/>
                  </a:lnTo>
                  <a:lnTo>
                    <a:pt x="456" y="606"/>
                  </a:lnTo>
                  <a:lnTo>
                    <a:pt x="470" y="618"/>
                  </a:lnTo>
                  <a:lnTo>
                    <a:pt x="488" y="600"/>
                  </a:lnTo>
                  <a:lnTo>
                    <a:pt x="504" y="604"/>
                  </a:lnTo>
                  <a:lnTo>
                    <a:pt x="514" y="636"/>
                  </a:lnTo>
                  <a:lnTo>
                    <a:pt x="528" y="658"/>
                  </a:lnTo>
                  <a:lnTo>
                    <a:pt x="548" y="664"/>
                  </a:lnTo>
                  <a:lnTo>
                    <a:pt x="566" y="660"/>
                  </a:lnTo>
                  <a:lnTo>
                    <a:pt x="562" y="632"/>
                  </a:lnTo>
                  <a:lnTo>
                    <a:pt x="538" y="606"/>
                  </a:lnTo>
                  <a:lnTo>
                    <a:pt x="544" y="576"/>
                  </a:lnTo>
                  <a:lnTo>
                    <a:pt x="572" y="542"/>
                  </a:lnTo>
                  <a:lnTo>
                    <a:pt x="604" y="520"/>
                  </a:lnTo>
                  <a:lnTo>
                    <a:pt x="622" y="530"/>
                  </a:lnTo>
                  <a:lnTo>
                    <a:pt x="622" y="570"/>
                  </a:lnTo>
                  <a:lnTo>
                    <a:pt x="642" y="572"/>
                  </a:lnTo>
                  <a:lnTo>
                    <a:pt x="660" y="562"/>
                  </a:lnTo>
                  <a:lnTo>
                    <a:pt x="638" y="504"/>
                  </a:lnTo>
                  <a:lnTo>
                    <a:pt x="658" y="486"/>
                  </a:lnTo>
                  <a:lnTo>
                    <a:pt x="682" y="454"/>
                  </a:lnTo>
                  <a:lnTo>
                    <a:pt x="676" y="446"/>
                  </a:lnTo>
                  <a:lnTo>
                    <a:pt x="696" y="424"/>
                  </a:lnTo>
                  <a:lnTo>
                    <a:pt x="702" y="446"/>
                  </a:lnTo>
                  <a:lnTo>
                    <a:pt x="692" y="484"/>
                  </a:lnTo>
                  <a:lnTo>
                    <a:pt x="738" y="424"/>
                  </a:lnTo>
                  <a:lnTo>
                    <a:pt x="760" y="426"/>
                  </a:lnTo>
                  <a:lnTo>
                    <a:pt x="774" y="422"/>
                  </a:lnTo>
                  <a:lnTo>
                    <a:pt x="768" y="410"/>
                  </a:lnTo>
                  <a:lnTo>
                    <a:pt x="746" y="402"/>
                  </a:lnTo>
                  <a:lnTo>
                    <a:pt x="736" y="378"/>
                  </a:lnTo>
                  <a:lnTo>
                    <a:pt x="742" y="360"/>
                  </a:lnTo>
                  <a:lnTo>
                    <a:pt x="766" y="324"/>
                  </a:lnTo>
                  <a:lnTo>
                    <a:pt x="780" y="344"/>
                  </a:lnTo>
                  <a:lnTo>
                    <a:pt x="784" y="306"/>
                  </a:lnTo>
                  <a:lnTo>
                    <a:pt x="778" y="282"/>
                  </a:lnTo>
                  <a:lnTo>
                    <a:pt x="772" y="246"/>
                  </a:lnTo>
                  <a:lnTo>
                    <a:pt x="782" y="234"/>
                  </a:lnTo>
                  <a:lnTo>
                    <a:pt x="806" y="246"/>
                  </a:lnTo>
                  <a:lnTo>
                    <a:pt x="816" y="278"/>
                  </a:lnTo>
                  <a:lnTo>
                    <a:pt x="852" y="222"/>
                  </a:lnTo>
                  <a:lnTo>
                    <a:pt x="858" y="188"/>
                  </a:lnTo>
                  <a:lnTo>
                    <a:pt x="876" y="206"/>
                  </a:lnTo>
                  <a:lnTo>
                    <a:pt x="902" y="186"/>
                  </a:lnTo>
                  <a:lnTo>
                    <a:pt x="916" y="142"/>
                  </a:lnTo>
                  <a:lnTo>
                    <a:pt x="924" y="72"/>
                  </a:lnTo>
                  <a:lnTo>
                    <a:pt x="910" y="46"/>
                  </a:lnTo>
                  <a:lnTo>
                    <a:pt x="922" y="50"/>
                  </a:lnTo>
                  <a:lnTo>
                    <a:pt x="950" y="14"/>
                  </a:lnTo>
                  <a:lnTo>
                    <a:pt x="970" y="0"/>
                  </a:lnTo>
                  <a:lnTo>
                    <a:pt x="998" y="32"/>
                  </a:lnTo>
                  <a:lnTo>
                    <a:pt x="1018" y="72"/>
                  </a:lnTo>
                  <a:lnTo>
                    <a:pt x="1042" y="102"/>
                  </a:lnTo>
                  <a:lnTo>
                    <a:pt x="1058" y="142"/>
                  </a:lnTo>
                  <a:lnTo>
                    <a:pt x="1066" y="184"/>
                  </a:lnTo>
                  <a:lnTo>
                    <a:pt x="1066" y="220"/>
                  </a:lnTo>
                  <a:lnTo>
                    <a:pt x="1076" y="272"/>
                  </a:lnTo>
                  <a:lnTo>
                    <a:pt x="1080" y="320"/>
                  </a:lnTo>
                  <a:lnTo>
                    <a:pt x="1086" y="368"/>
                  </a:lnTo>
                  <a:lnTo>
                    <a:pt x="1086" y="412"/>
                  </a:lnTo>
                  <a:lnTo>
                    <a:pt x="1090" y="462"/>
                  </a:lnTo>
                  <a:lnTo>
                    <a:pt x="1104" y="508"/>
                  </a:lnTo>
                  <a:lnTo>
                    <a:pt x="1104" y="556"/>
                  </a:lnTo>
                  <a:lnTo>
                    <a:pt x="1096" y="600"/>
                  </a:lnTo>
                  <a:lnTo>
                    <a:pt x="1082" y="638"/>
                  </a:lnTo>
                  <a:lnTo>
                    <a:pt x="1060" y="640"/>
                  </a:lnTo>
                  <a:lnTo>
                    <a:pt x="1048" y="600"/>
                  </a:lnTo>
                  <a:lnTo>
                    <a:pt x="1040" y="556"/>
                  </a:lnTo>
                  <a:lnTo>
                    <a:pt x="1018" y="558"/>
                  </a:lnTo>
                  <a:lnTo>
                    <a:pt x="1002" y="628"/>
                  </a:lnTo>
                  <a:lnTo>
                    <a:pt x="998" y="674"/>
                  </a:lnTo>
                  <a:lnTo>
                    <a:pt x="1012" y="710"/>
                  </a:lnTo>
                  <a:lnTo>
                    <a:pt x="1008" y="760"/>
                  </a:lnTo>
                  <a:lnTo>
                    <a:pt x="994" y="792"/>
                  </a:lnTo>
                  <a:lnTo>
                    <a:pt x="978" y="812"/>
                  </a:lnTo>
                  <a:lnTo>
                    <a:pt x="954" y="854"/>
                  </a:lnTo>
                  <a:lnTo>
                    <a:pt x="944" y="906"/>
                  </a:lnTo>
                  <a:lnTo>
                    <a:pt x="938" y="950"/>
                  </a:lnTo>
                  <a:lnTo>
                    <a:pt x="900" y="1104"/>
                  </a:lnTo>
                  <a:lnTo>
                    <a:pt x="864" y="1192"/>
                  </a:lnTo>
                  <a:lnTo>
                    <a:pt x="858" y="1192"/>
                  </a:lnTo>
                  <a:lnTo>
                    <a:pt x="854" y="1218"/>
                  </a:lnTo>
                  <a:lnTo>
                    <a:pt x="796" y="1374"/>
                  </a:lnTo>
                  <a:lnTo>
                    <a:pt x="758" y="1458"/>
                  </a:lnTo>
                  <a:lnTo>
                    <a:pt x="738" y="1526"/>
                  </a:lnTo>
                  <a:lnTo>
                    <a:pt x="700" y="1636"/>
                  </a:lnTo>
                  <a:lnTo>
                    <a:pt x="676" y="1686"/>
                  </a:lnTo>
                  <a:lnTo>
                    <a:pt x="634" y="1800"/>
                  </a:lnTo>
                  <a:lnTo>
                    <a:pt x="610" y="1882"/>
                  </a:lnTo>
                  <a:lnTo>
                    <a:pt x="592" y="1928"/>
                  </a:lnTo>
                  <a:lnTo>
                    <a:pt x="562" y="2022"/>
                  </a:lnTo>
                  <a:lnTo>
                    <a:pt x="538" y="2068"/>
                  </a:lnTo>
                  <a:lnTo>
                    <a:pt x="520" y="2108"/>
                  </a:lnTo>
                  <a:lnTo>
                    <a:pt x="482" y="2168"/>
                  </a:lnTo>
                  <a:lnTo>
                    <a:pt x="454" y="2192"/>
                  </a:lnTo>
                  <a:lnTo>
                    <a:pt x="430" y="2206"/>
                  </a:lnTo>
                  <a:lnTo>
                    <a:pt x="410" y="2200"/>
                  </a:lnTo>
                  <a:lnTo>
                    <a:pt x="326" y="2220"/>
                  </a:lnTo>
                  <a:lnTo>
                    <a:pt x="238" y="2272"/>
                  </a:lnTo>
                  <a:lnTo>
                    <a:pt x="204" y="2278"/>
                  </a:lnTo>
                  <a:lnTo>
                    <a:pt x="162" y="2236"/>
                  </a:lnTo>
                  <a:lnTo>
                    <a:pt x="128" y="2208"/>
                  </a:lnTo>
                  <a:lnTo>
                    <a:pt x="98" y="2188"/>
                  </a:lnTo>
                  <a:lnTo>
                    <a:pt x="72" y="2160"/>
                  </a:lnTo>
                  <a:lnTo>
                    <a:pt x="42" y="2098"/>
                  </a:lnTo>
                  <a:lnTo>
                    <a:pt x="32" y="2048"/>
                  </a:lnTo>
                  <a:lnTo>
                    <a:pt x="30" y="1996"/>
                  </a:lnTo>
                  <a:lnTo>
                    <a:pt x="36" y="1956"/>
                  </a:lnTo>
                  <a:lnTo>
                    <a:pt x="50" y="1928"/>
                  </a:lnTo>
                  <a:lnTo>
                    <a:pt x="42" y="1882"/>
                  </a:lnTo>
                  <a:lnTo>
                    <a:pt x="32" y="1842"/>
                  </a:lnTo>
                  <a:lnTo>
                    <a:pt x="12" y="1818"/>
                  </a:lnTo>
                  <a:lnTo>
                    <a:pt x="0" y="1774"/>
                  </a:lnTo>
                  <a:lnTo>
                    <a:pt x="4" y="1732"/>
                  </a:lnTo>
                  <a:lnTo>
                    <a:pt x="2" y="1694"/>
                  </a:lnTo>
                  <a:lnTo>
                    <a:pt x="8" y="1642"/>
                  </a:lnTo>
                  <a:lnTo>
                    <a:pt x="30" y="1610"/>
                  </a:lnTo>
                  <a:lnTo>
                    <a:pt x="52" y="1562"/>
                  </a:lnTo>
                  <a:lnTo>
                    <a:pt x="72" y="1538"/>
                  </a:lnTo>
                  <a:lnTo>
                    <a:pt x="92" y="1530"/>
                  </a:lnTo>
                  <a:lnTo>
                    <a:pt x="124" y="1452"/>
                  </a:lnTo>
                  <a:lnTo>
                    <a:pt x="178" y="1358"/>
                  </a:lnTo>
                  <a:lnTo>
                    <a:pt x="202" y="1328"/>
                  </a:lnTo>
                  <a:lnTo>
                    <a:pt x="218" y="1296"/>
                  </a:lnTo>
                  <a:lnTo>
                    <a:pt x="214" y="1266"/>
                  </a:lnTo>
                  <a:lnTo>
                    <a:pt x="226" y="1250"/>
                  </a:lnTo>
                  <a:lnTo>
                    <a:pt x="222" y="1222"/>
                  </a:lnTo>
                  <a:lnTo>
                    <a:pt x="204" y="1178"/>
                  </a:lnTo>
                  <a:lnTo>
                    <a:pt x="196" y="1120"/>
                  </a:lnTo>
                  <a:lnTo>
                    <a:pt x="186" y="1038"/>
                  </a:lnTo>
                  <a:lnTo>
                    <a:pt x="190" y="950"/>
                  </a:lnTo>
                  <a:lnTo>
                    <a:pt x="168" y="902"/>
                  </a:lnTo>
                  <a:lnTo>
                    <a:pt x="208" y="836"/>
                  </a:lnTo>
                  <a:lnTo>
                    <a:pt x="252" y="738"/>
                  </a:lnTo>
                  <a:lnTo>
                    <a:pt x="254" y="68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71640" y="3770280"/>
              <a:ext cx="5760" cy="432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6" y="4"/>
                  </a:moveTo>
                  <a:lnTo>
                    <a:pt x="20" y="0"/>
                  </a:lnTo>
                  <a:lnTo>
                    <a:pt x="32" y="18"/>
                  </a:lnTo>
                  <a:lnTo>
                    <a:pt x="32" y="34"/>
                  </a:lnTo>
                  <a:lnTo>
                    <a:pt x="4" y="34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26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76240" y="2445480"/>
              <a:ext cx="155880" cy="99360"/>
            </a:xfrm>
            <a:custGeom>
              <a:avLst/>
              <a:gdLst/>
              <a:ahLst/>
              <a:rect l="l" t="t" r="r" b="b"/>
              <a:pathLst>
                <a:path w="900" h="588">
                  <a:moveTo>
                    <a:pt x="324" y="56"/>
                  </a:moveTo>
                  <a:lnTo>
                    <a:pt x="348" y="58"/>
                  </a:lnTo>
                  <a:lnTo>
                    <a:pt x="350" y="64"/>
                  </a:lnTo>
                  <a:lnTo>
                    <a:pt x="360" y="68"/>
                  </a:lnTo>
                  <a:lnTo>
                    <a:pt x="368" y="80"/>
                  </a:lnTo>
                  <a:lnTo>
                    <a:pt x="374" y="94"/>
                  </a:lnTo>
                  <a:lnTo>
                    <a:pt x="382" y="108"/>
                  </a:lnTo>
                  <a:lnTo>
                    <a:pt x="386" y="120"/>
                  </a:lnTo>
                  <a:lnTo>
                    <a:pt x="396" y="130"/>
                  </a:lnTo>
                  <a:lnTo>
                    <a:pt x="400" y="146"/>
                  </a:lnTo>
                  <a:lnTo>
                    <a:pt x="392" y="154"/>
                  </a:lnTo>
                  <a:lnTo>
                    <a:pt x="394" y="156"/>
                  </a:lnTo>
                  <a:lnTo>
                    <a:pt x="398" y="156"/>
                  </a:lnTo>
                  <a:lnTo>
                    <a:pt x="400" y="152"/>
                  </a:lnTo>
                  <a:lnTo>
                    <a:pt x="412" y="152"/>
                  </a:lnTo>
                  <a:lnTo>
                    <a:pt x="430" y="162"/>
                  </a:lnTo>
                  <a:lnTo>
                    <a:pt x="454" y="184"/>
                  </a:lnTo>
                  <a:lnTo>
                    <a:pt x="474" y="194"/>
                  </a:lnTo>
                  <a:lnTo>
                    <a:pt x="488" y="194"/>
                  </a:lnTo>
                  <a:lnTo>
                    <a:pt x="488" y="192"/>
                  </a:lnTo>
                  <a:lnTo>
                    <a:pt x="442" y="154"/>
                  </a:lnTo>
                  <a:lnTo>
                    <a:pt x="438" y="140"/>
                  </a:lnTo>
                  <a:lnTo>
                    <a:pt x="432" y="136"/>
                  </a:lnTo>
                  <a:lnTo>
                    <a:pt x="426" y="118"/>
                  </a:lnTo>
                  <a:lnTo>
                    <a:pt x="422" y="110"/>
                  </a:lnTo>
                  <a:lnTo>
                    <a:pt x="416" y="86"/>
                  </a:lnTo>
                  <a:lnTo>
                    <a:pt x="412" y="82"/>
                  </a:lnTo>
                  <a:lnTo>
                    <a:pt x="408" y="70"/>
                  </a:lnTo>
                  <a:lnTo>
                    <a:pt x="406" y="64"/>
                  </a:lnTo>
                  <a:lnTo>
                    <a:pt x="400" y="64"/>
                  </a:lnTo>
                  <a:lnTo>
                    <a:pt x="398" y="54"/>
                  </a:lnTo>
                  <a:lnTo>
                    <a:pt x="402" y="48"/>
                  </a:lnTo>
                  <a:lnTo>
                    <a:pt x="400" y="42"/>
                  </a:lnTo>
                  <a:lnTo>
                    <a:pt x="402" y="36"/>
                  </a:lnTo>
                  <a:lnTo>
                    <a:pt x="424" y="34"/>
                  </a:lnTo>
                  <a:lnTo>
                    <a:pt x="414" y="26"/>
                  </a:lnTo>
                  <a:lnTo>
                    <a:pt x="416" y="22"/>
                  </a:lnTo>
                  <a:lnTo>
                    <a:pt x="416" y="10"/>
                  </a:lnTo>
                  <a:lnTo>
                    <a:pt x="424" y="8"/>
                  </a:lnTo>
                  <a:lnTo>
                    <a:pt x="430" y="2"/>
                  </a:lnTo>
                  <a:lnTo>
                    <a:pt x="440" y="0"/>
                  </a:lnTo>
                  <a:lnTo>
                    <a:pt x="462" y="8"/>
                  </a:lnTo>
                  <a:lnTo>
                    <a:pt x="464" y="18"/>
                  </a:lnTo>
                  <a:lnTo>
                    <a:pt x="468" y="32"/>
                  </a:lnTo>
                  <a:lnTo>
                    <a:pt x="476" y="32"/>
                  </a:lnTo>
                  <a:lnTo>
                    <a:pt x="490" y="36"/>
                  </a:lnTo>
                  <a:lnTo>
                    <a:pt x="490" y="32"/>
                  </a:lnTo>
                  <a:lnTo>
                    <a:pt x="486" y="26"/>
                  </a:lnTo>
                  <a:lnTo>
                    <a:pt x="504" y="22"/>
                  </a:lnTo>
                  <a:lnTo>
                    <a:pt x="558" y="42"/>
                  </a:lnTo>
                  <a:lnTo>
                    <a:pt x="578" y="54"/>
                  </a:lnTo>
                  <a:lnTo>
                    <a:pt x="576" y="64"/>
                  </a:lnTo>
                  <a:lnTo>
                    <a:pt x="570" y="66"/>
                  </a:lnTo>
                  <a:lnTo>
                    <a:pt x="566" y="84"/>
                  </a:lnTo>
                  <a:lnTo>
                    <a:pt x="558" y="88"/>
                  </a:lnTo>
                  <a:lnTo>
                    <a:pt x="556" y="92"/>
                  </a:lnTo>
                  <a:lnTo>
                    <a:pt x="560" y="90"/>
                  </a:lnTo>
                  <a:lnTo>
                    <a:pt x="564" y="94"/>
                  </a:lnTo>
                  <a:lnTo>
                    <a:pt x="572" y="102"/>
                  </a:lnTo>
                  <a:lnTo>
                    <a:pt x="568" y="112"/>
                  </a:lnTo>
                  <a:lnTo>
                    <a:pt x="562" y="116"/>
                  </a:lnTo>
                  <a:lnTo>
                    <a:pt x="564" y="122"/>
                  </a:lnTo>
                  <a:lnTo>
                    <a:pt x="580" y="108"/>
                  </a:lnTo>
                  <a:lnTo>
                    <a:pt x="598" y="100"/>
                  </a:lnTo>
                  <a:lnTo>
                    <a:pt x="592" y="94"/>
                  </a:lnTo>
                  <a:lnTo>
                    <a:pt x="592" y="88"/>
                  </a:lnTo>
                  <a:lnTo>
                    <a:pt x="600" y="78"/>
                  </a:lnTo>
                  <a:lnTo>
                    <a:pt x="606" y="76"/>
                  </a:lnTo>
                  <a:lnTo>
                    <a:pt x="614" y="80"/>
                  </a:lnTo>
                  <a:lnTo>
                    <a:pt x="628" y="80"/>
                  </a:lnTo>
                  <a:lnTo>
                    <a:pt x="642" y="90"/>
                  </a:lnTo>
                  <a:lnTo>
                    <a:pt x="650" y="102"/>
                  </a:lnTo>
                  <a:lnTo>
                    <a:pt x="666" y="114"/>
                  </a:lnTo>
                  <a:lnTo>
                    <a:pt x="666" y="120"/>
                  </a:lnTo>
                  <a:lnTo>
                    <a:pt x="662" y="124"/>
                  </a:lnTo>
                  <a:lnTo>
                    <a:pt x="664" y="128"/>
                  </a:lnTo>
                  <a:lnTo>
                    <a:pt x="660" y="136"/>
                  </a:lnTo>
                  <a:lnTo>
                    <a:pt x="666" y="148"/>
                  </a:lnTo>
                  <a:lnTo>
                    <a:pt x="716" y="148"/>
                  </a:lnTo>
                  <a:lnTo>
                    <a:pt x="728" y="154"/>
                  </a:lnTo>
                  <a:lnTo>
                    <a:pt x="740" y="154"/>
                  </a:lnTo>
                  <a:lnTo>
                    <a:pt x="746" y="164"/>
                  </a:lnTo>
                  <a:lnTo>
                    <a:pt x="762" y="176"/>
                  </a:lnTo>
                  <a:lnTo>
                    <a:pt x="794" y="182"/>
                  </a:lnTo>
                  <a:lnTo>
                    <a:pt x="806" y="190"/>
                  </a:lnTo>
                  <a:lnTo>
                    <a:pt x="866" y="196"/>
                  </a:lnTo>
                  <a:lnTo>
                    <a:pt x="888" y="196"/>
                  </a:lnTo>
                  <a:lnTo>
                    <a:pt x="896" y="198"/>
                  </a:lnTo>
                  <a:lnTo>
                    <a:pt x="896" y="204"/>
                  </a:lnTo>
                  <a:lnTo>
                    <a:pt x="900" y="214"/>
                  </a:lnTo>
                  <a:lnTo>
                    <a:pt x="896" y="226"/>
                  </a:lnTo>
                  <a:lnTo>
                    <a:pt x="890" y="230"/>
                  </a:lnTo>
                  <a:lnTo>
                    <a:pt x="874" y="232"/>
                  </a:lnTo>
                  <a:lnTo>
                    <a:pt x="846" y="228"/>
                  </a:lnTo>
                  <a:lnTo>
                    <a:pt x="824" y="236"/>
                  </a:lnTo>
                  <a:lnTo>
                    <a:pt x="800" y="236"/>
                  </a:lnTo>
                  <a:lnTo>
                    <a:pt x="784" y="246"/>
                  </a:lnTo>
                  <a:lnTo>
                    <a:pt x="768" y="246"/>
                  </a:lnTo>
                  <a:lnTo>
                    <a:pt x="748" y="248"/>
                  </a:lnTo>
                  <a:lnTo>
                    <a:pt x="756" y="252"/>
                  </a:lnTo>
                  <a:lnTo>
                    <a:pt x="754" y="266"/>
                  </a:lnTo>
                  <a:lnTo>
                    <a:pt x="740" y="266"/>
                  </a:lnTo>
                  <a:lnTo>
                    <a:pt x="736" y="270"/>
                  </a:lnTo>
                  <a:lnTo>
                    <a:pt x="714" y="274"/>
                  </a:lnTo>
                  <a:lnTo>
                    <a:pt x="718" y="280"/>
                  </a:lnTo>
                  <a:lnTo>
                    <a:pt x="720" y="290"/>
                  </a:lnTo>
                  <a:lnTo>
                    <a:pt x="720" y="298"/>
                  </a:lnTo>
                  <a:lnTo>
                    <a:pt x="724" y="302"/>
                  </a:lnTo>
                  <a:lnTo>
                    <a:pt x="718" y="302"/>
                  </a:lnTo>
                  <a:lnTo>
                    <a:pt x="722" y="308"/>
                  </a:lnTo>
                  <a:lnTo>
                    <a:pt x="718" y="314"/>
                  </a:lnTo>
                  <a:lnTo>
                    <a:pt x="720" y="328"/>
                  </a:lnTo>
                  <a:lnTo>
                    <a:pt x="724" y="334"/>
                  </a:lnTo>
                  <a:lnTo>
                    <a:pt x="724" y="342"/>
                  </a:lnTo>
                  <a:lnTo>
                    <a:pt x="718" y="344"/>
                  </a:lnTo>
                  <a:lnTo>
                    <a:pt x="698" y="340"/>
                  </a:lnTo>
                  <a:lnTo>
                    <a:pt x="678" y="344"/>
                  </a:lnTo>
                  <a:lnTo>
                    <a:pt x="678" y="348"/>
                  </a:lnTo>
                  <a:lnTo>
                    <a:pt x="682" y="350"/>
                  </a:lnTo>
                  <a:lnTo>
                    <a:pt x="682" y="364"/>
                  </a:lnTo>
                  <a:lnTo>
                    <a:pt x="686" y="372"/>
                  </a:lnTo>
                  <a:lnTo>
                    <a:pt x="690" y="376"/>
                  </a:lnTo>
                  <a:lnTo>
                    <a:pt x="686" y="388"/>
                  </a:lnTo>
                  <a:lnTo>
                    <a:pt x="686" y="398"/>
                  </a:lnTo>
                  <a:lnTo>
                    <a:pt x="690" y="398"/>
                  </a:lnTo>
                  <a:lnTo>
                    <a:pt x="690" y="404"/>
                  </a:lnTo>
                  <a:lnTo>
                    <a:pt x="688" y="412"/>
                  </a:lnTo>
                  <a:lnTo>
                    <a:pt x="684" y="416"/>
                  </a:lnTo>
                  <a:lnTo>
                    <a:pt x="686" y="422"/>
                  </a:lnTo>
                  <a:lnTo>
                    <a:pt x="682" y="426"/>
                  </a:lnTo>
                  <a:lnTo>
                    <a:pt x="682" y="432"/>
                  </a:lnTo>
                  <a:lnTo>
                    <a:pt x="676" y="434"/>
                  </a:lnTo>
                  <a:lnTo>
                    <a:pt x="664" y="430"/>
                  </a:lnTo>
                  <a:lnTo>
                    <a:pt x="624" y="440"/>
                  </a:lnTo>
                  <a:lnTo>
                    <a:pt x="628" y="446"/>
                  </a:lnTo>
                  <a:lnTo>
                    <a:pt x="638" y="444"/>
                  </a:lnTo>
                  <a:lnTo>
                    <a:pt x="646" y="452"/>
                  </a:lnTo>
                  <a:lnTo>
                    <a:pt x="632" y="452"/>
                  </a:lnTo>
                  <a:lnTo>
                    <a:pt x="616" y="466"/>
                  </a:lnTo>
                  <a:lnTo>
                    <a:pt x="612" y="472"/>
                  </a:lnTo>
                  <a:lnTo>
                    <a:pt x="616" y="486"/>
                  </a:lnTo>
                  <a:lnTo>
                    <a:pt x="620" y="494"/>
                  </a:lnTo>
                  <a:lnTo>
                    <a:pt x="614" y="506"/>
                  </a:lnTo>
                  <a:lnTo>
                    <a:pt x="622" y="514"/>
                  </a:lnTo>
                  <a:lnTo>
                    <a:pt x="616" y="518"/>
                  </a:lnTo>
                  <a:lnTo>
                    <a:pt x="622" y="520"/>
                  </a:lnTo>
                  <a:lnTo>
                    <a:pt x="616" y="530"/>
                  </a:lnTo>
                  <a:lnTo>
                    <a:pt x="600" y="538"/>
                  </a:lnTo>
                  <a:lnTo>
                    <a:pt x="598" y="542"/>
                  </a:lnTo>
                  <a:lnTo>
                    <a:pt x="600" y="546"/>
                  </a:lnTo>
                  <a:lnTo>
                    <a:pt x="598" y="554"/>
                  </a:lnTo>
                  <a:lnTo>
                    <a:pt x="606" y="562"/>
                  </a:lnTo>
                  <a:lnTo>
                    <a:pt x="608" y="568"/>
                  </a:lnTo>
                  <a:lnTo>
                    <a:pt x="604" y="568"/>
                  </a:lnTo>
                  <a:lnTo>
                    <a:pt x="604" y="578"/>
                  </a:lnTo>
                  <a:lnTo>
                    <a:pt x="588" y="586"/>
                  </a:lnTo>
                  <a:lnTo>
                    <a:pt x="574" y="588"/>
                  </a:lnTo>
                  <a:lnTo>
                    <a:pt x="562" y="582"/>
                  </a:lnTo>
                  <a:lnTo>
                    <a:pt x="562" y="578"/>
                  </a:lnTo>
                  <a:lnTo>
                    <a:pt x="552" y="586"/>
                  </a:lnTo>
                  <a:lnTo>
                    <a:pt x="544" y="588"/>
                  </a:lnTo>
                  <a:lnTo>
                    <a:pt x="542" y="570"/>
                  </a:lnTo>
                  <a:lnTo>
                    <a:pt x="538" y="566"/>
                  </a:lnTo>
                  <a:lnTo>
                    <a:pt x="474" y="542"/>
                  </a:lnTo>
                  <a:lnTo>
                    <a:pt x="472" y="534"/>
                  </a:lnTo>
                  <a:lnTo>
                    <a:pt x="498" y="526"/>
                  </a:lnTo>
                  <a:lnTo>
                    <a:pt x="520" y="526"/>
                  </a:lnTo>
                  <a:lnTo>
                    <a:pt x="524" y="532"/>
                  </a:lnTo>
                  <a:lnTo>
                    <a:pt x="536" y="522"/>
                  </a:lnTo>
                  <a:lnTo>
                    <a:pt x="536" y="516"/>
                  </a:lnTo>
                  <a:lnTo>
                    <a:pt x="526" y="518"/>
                  </a:lnTo>
                  <a:lnTo>
                    <a:pt x="514" y="512"/>
                  </a:lnTo>
                  <a:lnTo>
                    <a:pt x="496" y="512"/>
                  </a:lnTo>
                  <a:lnTo>
                    <a:pt x="490" y="516"/>
                  </a:lnTo>
                  <a:lnTo>
                    <a:pt x="480" y="514"/>
                  </a:lnTo>
                  <a:lnTo>
                    <a:pt x="470" y="518"/>
                  </a:lnTo>
                  <a:lnTo>
                    <a:pt x="444" y="516"/>
                  </a:lnTo>
                  <a:lnTo>
                    <a:pt x="434" y="514"/>
                  </a:lnTo>
                  <a:lnTo>
                    <a:pt x="434" y="506"/>
                  </a:lnTo>
                  <a:lnTo>
                    <a:pt x="420" y="498"/>
                  </a:lnTo>
                  <a:lnTo>
                    <a:pt x="412" y="498"/>
                  </a:lnTo>
                  <a:lnTo>
                    <a:pt x="364" y="490"/>
                  </a:lnTo>
                  <a:lnTo>
                    <a:pt x="354" y="478"/>
                  </a:lnTo>
                  <a:lnTo>
                    <a:pt x="346" y="474"/>
                  </a:lnTo>
                  <a:lnTo>
                    <a:pt x="336" y="462"/>
                  </a:lnTo>
                  <a:lnTo>
                    <a:pt x="326" y="454"/>
                  </a:lnTo>
                  <a:lnTo>
                    <a:pt x="330" y="444"/>
                  </a:lnTo>
                  <a:lnTo>
                    <a:pt x="322" y="432"/>
                  </a:lnTo>
                  <a:lnTo>
                    <a:pt x="342" y="422"/>
                  </a:lnTo>
                  <a:lnTo>
                    <a:pt x="364" y="424"/>
                  </a:lnTo>
                  <a:lnTo>
                    <a:pt x="370" y="438"/>
                  </a:lnTo>
                  <a:lnTo>
                    <a:pt x="382" y="438"/>
                  </a:lnTo>
                  <a:lnTo>
                    <a:pt x="386" y="432"/>
                  </a:lnTo>
                  <a:lnTo>
                    <a:pt x="386" y="428"/>
                  </a:lnTo>
                  <a:lnTo>
                    <a:pt x="402" y="426"/>
                  </a:lnTo>
                  <a:lnTo>
                    <a:pt x="418" y="430"/>
                  </a:lnTo>
                  <a:lnTo>
                    <a:pt x="436" y="428"/>
                  </a:lnTo>
                  <a:lnTo>
                    <a:pt x="440" y="430"/>
                  </a:lnTo>
                  <a:lnTo>
                    <a:pt x="488" y="436"/>
                  </a:lnTo>
                  <a:lnTo>
                    <a:pt x="488" y="430"/>
                  </a:lnTo>
                  <a:lnTo>
                    <a:pt x="478" y="422"/>
                  </a:lnTo>
                  <a:lnTo>
                    <a:pt x="406" y="416"/>
                  </a:lnTo>
                  <a:lnTo>
                    <a:pt x="392" y="412"/>
                  </a:lnTo>
                  <a:lnTo>
                    <a:pt x="388" y="406"/>
                  </a:lnTo>
                  <a:lnTo>
                    <a:pt x="402" y="406"/>
                  </a:lnTo>
                  <a:lnTo>
                    <a:pt x="450" y="394"/>
                  </a:lnTo>
                  <a:lnTo>
                    <a:pt x="466" y="392"/>
                  </a:lnTo>
                  <a:lnTo>
                    <a:pt x="474" y="396"/>
                  </a:lnTo>
                  <a:lnTo>
                    <a:pt x="488" y="392"/>
                  </a:lnTo>
                  <a:lnTo>
                    <a:pt x="490" y="388"/>
                  </a:lnTo>
                  <a:lnTo>
                    <a:pt x="506" y="388"/>
                  </a:lnTo>
                  <a:lnTo>
                    <a:pt x="508" y="380"/>
                  </a:lnTo>
                  <a:lnTo>
                    <a:pt x="518" y="386"/>
                  </a:lnTo>
                  <a:lnTo>
                    <a:pt x="528" y="382"/>
                  </a:lnTo>
                  <a:lnTo>
                    <a:pt x="552" y="384"/>
                  </a:lnTo>
                  <a:lnTo>
                    <a:pt x="560" y="382"/>
                  </a:lnTo>
                  <a:lnTo>
                    <a:pt x="554" y="372"/>
                  </a:lnTo>
                  <a:lnTo>
                    <a:pt x="544" y="368"/>
                  </a:lnTo>
                  <a:lnTo>
                    <a:pt x="552" y="368"/>
                  </a:lnTo>
                  <a:lnTo>
                    <a:pt x="550" y="362"/>
                  </a:lnTo>
                  <a:lnTo>
                    <a:pt x="534" y="364"/>
                  </a:lnTo>
                  <a:lnTo>
                    <a:pt x="532" y="372"/>
                  </a:lnTo>
                  <a:lnTo>
                    <a:pt x="514" y="376"/>
                  </a:lnTo>
                  <a:lnTo>
                    <a:pt x="502" y="374"/>
                  </a:lnTo>
                  <a:lnTo>
                    <a:pt x="464" y="380"/>
                  </a:lnTo>
                  <a:lnTo>
                    <a:pt x="456" y="376"/>
                  </a:lnTo>
                  <a:lnTo>
                    <a:pt x="442" y="376"/>
                  </a:lnTo>
                  <a:lnTo>
                    <a:pt x="432" y="376"/>
                  </a:lnTo>
                  <a:lnTo>
                    <a:pt x="418" y="384"/>
                  </a:lnTo>
                  <a:lnTo>
                    <a:pt x="394" y="388"/>
                  </a:lnTo>
                  <a:lnTo>
                    <a:pt x="388" y="386"/>
                  </a:lnTo>
                  <a:lnTo>
                    <a:pt x="384" y="392"/>
                  </a:lnTo>
                  <a:lnTo>
                    <a:pt x="376" y="392"/>
                  </a:lnTo>
                  <a:lnTo>
                    <a:pt x="372" y="386"/>
                  </a:lnTo>
                  <a:lnTo>
                    <a:pt x="364" y="388"/>
                  </a:lnTo>
                  <a:lnTo>
                    <a:pt x="366" y="392"/>
                  </a:lnTo>
                  <a:lnTo>
                    <a:pt x="352" y="392"/>
                  </a:lnTo>
                  <a:lnTo>
                    <a:pt x="342" y="392"/>
                  </a:lnTo>
                  <a:lnTo>
                    <a:pt x="334" y="388"/>
                  </a:lnTo>
                  <a:lnTo>
                    <a:pt x="320" y="396"/>
                  </a:lnTo>
                  <a:lnTo>
                    <a:pt x="306" y="396"/>
                  </a:lnTo>
                  <a:lnTo>
                    <a:pt x="294" y="394"/>
                  </a:lnTo>
                  <a:lnTo>
                    <a:pt x="294" y="390"/>
                  </a:lnTo>
                  <a:lnTo>
                    <a:pt x="296" y="386"/>
                  </a:lnTo>
                  <a:lnTo>
                    <a:pt x="284" y="368"/>
                  </a:lnTo>
                  <a:lnTo>
                    <a:pt x="278" y="346"/>
                  </a:lnTo>
                  <a:lnTo>
                    <a:pt x="284" y="342"/>
                  </a:lnTo>
                  <a:lnTo>
                    <a:pt x="302" y="340"/>
                  </a:lnTo>
                  <a:lnTo>
                    <a:pt x="310" y="346"/>
                  </a:lnTo>
                  <a:lnTo>
                    <a:pt x="316" y="354"/>
                  </a:lnTo>
                  <a:lnTo>
                    <a:pt x="328" y="356"/>
                  </a:lnTo>
                  <a:lnTo>
                    <a:pt x="332" y="350"/>
                  </a:lnTo>
                  <a:lnTo>
                    <a:pt x="322" y="344"/>
                  </a:lnTo>
                  <a:lnTo>
                    <a:pt x="324" y="340"/>
                  </a:lnTo>
                  <a:lnTo>
                    <a:pt x="370" y="334"/>
                  </a:lnTo>
                  <a:lnTo>
                    <a:pt x="378" y="336"/>
                  </a:lnTo>
                  <a:lnTo>
                    <a:pt x="394" y="334"/>
                  </a:lnTo>
                  <a:lnTo>
                    <a:pt x="390" y="324"/>
                  </a:lnTo>
                  <a:lnTo>
                    <a:pt x="398" y="322"/>
                  </a:lnTo>
                  <a:lnTo>
                    <a:pt x="400" y="316"/>
                  </a:lnTo>
                  <a:lnTo>
                    <a:pt x="410" y="314"/>
                  </a:lnTo>
                  <a:lnTo>
                    <a:pt x="416" y="308"/>
                  </a:lnTo>
                  <a:lnTo>
                    <a:pt x="426" y="308"/>
                  </a:lnTo>
                  <a:lnTo>
                    <a:pt x="438" y="314"/>
                  </a:lnTo>
                  <a:lnTo>
                    <a:pt x="442" y="308"/>
                  </a:lnTo>
                  <a:lnTo>
                    <a:pt x="430" y="298"/>
                  </a:lnTo>
                  <a:lnTo>
                    <a:pt x="454" y="288"/>
                  </a:lnTo>
                  <a:lnTo>
                    <a:pt x="486" y="288"/>
                  </a:lnTo>
                  <a:lnTo>
                    <a:pt x="502" y="292"/>
                  </a:lnTo>
                  <a:lnTo>
                    <a:pt x="530" y="292"/>
                  </a:lnTo>
                  <a:lnTo>
                    <a:pt x="532" y="288"/>
                  </a:lnTo>
                  <a:lnTo>
                    <a:pt x="546" y="286"/>
                  </a:lnTo>
                  <a:lnTo>
                    <a:pt x="552" y="282"/>
                  </a:lnTo>
                  <a:lnTo>
                    <a:pt x="570" y="280"/>
                  </a:lnTo>
                  <a:lnTo>
                    <a:pt x="576" y="276"/>
                  </a:lnTo>
                  <a:lnTo>
                    <a:pt x="570" y="272"/>
                  </a:lnTo>
                  <a:lnTo>
                    <a:pt x="538" y="282"/>
                  </a:lnTo>
                  <a:lnTo>
                    <a:pt x="528" y="280"/>
                  </a:lnTo>
                  <a:lnTo>
                    <a:pt x="512" y="268"/>
                  </a:lnTo>
                  <a:lnTo>
                    <a:pt x="508" y="276"/>
                  </a:lnTo>
                  <a:lnTo>
                    <a:pt x="498" y="274"/>
                  </a:lnTo>
                  <a:lnTo>
                    <a:pt x="494" y="270"/>
                  </a:lnTo>
                  <a:lnTo>
                    <a:pt x="494" y="262"/>
                  </a:lnTo>
                  <a:lnTo>
                    <a:pt x="498" y="258"/>
                  </a:lnTo>
                  <a:lnTo>
                    <a:pt x="500" y="252"/>
                  </a:lnTo>
                  <a:lnTo>
                    <a:pt x="510" y="248"/>
                  </a:lnTo>
                  <a:lnTo>
                    <a:pt x="522" y="236"/>
                  </a:lnTo>
                  <a:lnTo>
                    <a:pt x="514" y="234"/>
                  </a:lnTo>
                  <a:lnTo>
                    <a:pt x="510" y="226"/>
                  </a:lnTo>
                  <a:lnTo>
                    <a:pt x="504" y="224"/>
                  </a:lnTo>
                  <a:lnTo>
                    <a:pt x="500" y="230"/>
                  </a:lnTo>
                  <a:lnTo>
                    <a:pt x="488" y="234"/>
                  </a:lnTo>
                  <a:lnTo>
                    <a:pt x="490" y="242"/>
                  </a:lnTo>
                  <a:lnTo>
                    <a:pt x="490" y="252"/>
                  </a:lnTo>
                  <a:lnTo>
                    <a:pt x="482" y="258"/>
                  </a:lnTo>
                  <a:lnTo>
                    <a:pt x="470" y="260"/>
                  </a:lnTo>
                  <a:lnTo>
                    <a:pt x="468" y="266"/>
                  </a:lnTo>
                  <a:lnTo>
                    <a:pt x="430" y="276"/>
                  </a:lnTo>
                  <a:lnTo>
                    <a:pt x="420" y="268"/>
                  </a:lnTo>
                  <a:lnTo>
                    <a:pt x="408" y="266"/>
                  </a:lnTo>
                  <a:lnTo>
                    <a:pt x="400" y="250"/>
                  </a:lnTo>
                  <a:lnTo>
                    <a:pt x="416" y="226"/>
                  </a:lnTo>
                  <a:lnTo>
                    <a:pt x="414" y="216"/>
                  </a:lnTo>
                  <a:lnTo>
                    <a:pt x="406" y="208"/>
                  </a:lnTo>
                  <a:lnTo>
                    <a:pt x="392" y="220"/>
                  </a:lnTo>
                  <a:lnTo>
                    <a:pt x="390" y="230"/>
                  </a:lnTo>
                  <a:lnTo>
                    <a:pt x="392" y="238"/>
                  </a:lnTo>
                  <a:lnTo>
                    <a:pt x="380" y="248"/>
                  </a:lnTo>
                  <a:lnTo>
                    <a:pt x="372" y="248"/>
                  </a:lnTo>
                  <a:lnTo>
                    <a:pt x="364" y="240"/>
                  </a:lnTo>
                  <a:lnTo>
                    <a:pt x="364" y="234"/>
                  </a:lnTo>
                  <a:lnTo>
                    <a:pt x="360" y="228"/>
                  </a:lnTo>
                  <a:lnTo>
                    <a:pt x="352" y="226"/>
                  </a:lnTo>
                  <a:lnTo>
                    <a:pt x="342" y="230"/>
                  </a:lnTo>
                  <a:lnTo>
                    <a:pt x="338" y="236"/>
                  </a:lnTo>
                  <a:lnTo>
                    <a:pt x="336" y="246"/>
                  </a:lnTo>
                  <a:lnTo>
                    <a:pt x="338" y="266"/>
                  </a:lnTo>
                  <a:lnTo>
                    <a:pt x="332" y="274"/>
                  </a:lnTo>
                  <a:lnTo>
                    <a:pt x="342" y="274"/>
                  </a:lnTo>
                  <a:lnTo>
                    <a:pt x="350" y="278"/>
                  </a:lnTo>
                  <a:lnTo>
                    <a:pt x="356" y="286"/>
                  </a:lnTo>
                  <a:lnTo>
                    <a:pt x="348" y="288"/>
                  </a:lnTo>
                  <a:lnTo>
                    <a:pt x="336" y="286"/>
                  </a:lnTo>
                  <a:lnTo>
                    <a:pt x="322" y="286"/>
                  </a:lnTo>
                  <a:lnTo>
                    <a:pt x="316" y="296"/>
                  </a:lnTo>
                  <a:lnTo>
                    <a:pt x="316" y="300"/>
                  </a:lnTo>
                  <a:lnTo>
                    <a:pt x="314" y="310"/>
                  </a:lnTo>
                  <a:lnTo>
                    <a:pt x="294" y="310"/>
                  </a:lnTo>
                  <a:lnTo>
                    <a:pt x="290" y="316"/>
                  </a:lnTo>
                  <a:lnTo>
                    <a:pt x="268" y="314"/>
                  </a:lnTo>
                  <a:lnTo>
                    <a:pt x="262" y="316"/>
                  </a:lnTo>
                  <a:lnTo>
                    <a:pt x="256" y="312"/>
                  </a:lnTo>
                  <a:lnTo>
                    <a:pt x="250" y="316"/>
                  </a:lnTo>
                  <a:lnTo>
                    <a:pt x="226" y="310"/>
                  </a:lnTo>
                  <a:lnTo>
                    <a:pt x="222" y="314"/>
                  </a:lnTo>
                  <a:lnTo>
                    <a:pt x="214" y="306"/>
                  </a:lnTo>
                  <a:lnTo>
                    <a:pt x="222" y="300"/>
                  </a:lnTo>
                  <a:lnTo>
                    <a:pt x="216" y="290"/>
                  </a:lnTo>
                  <a:lnTo>
                    <a:pt x="206" y="292"/>
                  </a:lnTo>
                  <a:lnTo>
                    <a:pt x="186" y="290"/>
                  </a:lnTo>
                  <a:lnTo>
                    <a:pt x="182" y="282"/>
                  </a:lnTo>
                  <a:lnTo>
                    <a:pt x="168" y="274"/>
                  </a:lnTo>
                  <a:lnTo>
                    <a:pt x="170" y="270"/>
                  </a:lnTo>
                  <a:lnTo>
                    <a:pt x="212" y="268"/>
                  </a:lnTo>
                  <a:lnTo>
                    <a:pt x="226" y="264"/>
                  </a:lnTo>
                  <a:lnTo>
                    <a:pt x="228" y="256"/>
                  </a:lnTo>
                  <a:lnTo>
                    <a:pt x="212" y="260"/>
                  </a:lnTo>
                  <a:lnTo>
                    <a:pt x="186" y="260"/>
                  </a:lnTo>
                  <a:lnTo>
                    <a:pt x="132" y="248"/>
                  </a:lnTo>
                  <a:lnTo>
                    <a:pt x="128" y="244"/>
                  </a:lnTo>
                  <a:lnTo>
                    <a:pt x="118" y="240"/>
                  </a:lnTo>
                  <a:lnTo>
                    <a:pt x="120" y="234"/>
                  </a:lnTo>
                  <a:lnTo>
                    <a:pt x="98" y="228"/>
                  </a:lnTo>
                  <a:lnTo>
                    <a:pt x="104" y="216"/>
                  </a:lnTo>
                  <a:lnTo>
                    <a:pt x="116" y="214"/>
                  </a:lnTo>
                  <a:lnTo>
                    <a:pt x="120" y="210"/>
                  </a:lnTo>
                  <a:lnTo>
                    <a:pt x="106" y="208"/>
                  </a:lnTo>
                  <a:lnTo>
                    <a:pt x="78" y="196"/>
                  </a:lnTo>
                  <a:lnTo>
                    <a:pt x="68" y="190"/>
                  </a:lnTo>
                  <a:lnTo>
                    <a:pt x="84" y="190"/>
                  </a:lnTo>
                  <a:lnTo>
                    <a:pt x="96" y="196"/>
                  </a:lnTo>
                  <a:lnTo>
                    <a:pt x="154" y="202"/>
                  </a:lnTo>
                  <a:lnTo>
                    <a:pt x="156" y="196"/>
                  </a:lnTo>
                  <a:lnTo>
                    <a:pt x="146" y="188"/>
                  </a:lnTo>
                  <a:lnTo>
                    <a:pt x="130" y="192"/>
                  </a:lnTo>
                  <a:lnTo>
                    <a:pt x="118" y="188"/>
                  </a:lnTo>
                  <a:lnTo>
                    <a:pt x="116" y="182"/>
                  </a:lnTo>
                  <a:lnTo>
                    <a:pt x="90" y="176"/>
                  </a:lnTo>
                  <a:lnTo>
                    <a:pt x="94" y="168"/>
                  </a:lnTo>
                  <a:lnTo>
                    <a:pt x="106" y="166"/>
                  </a:lnTo>
                  <a:lnTo>
                    <a:pt x="100" y="160"/>
                  </a:lnTo>
                  <a:lnTo>
                    <a:pt x="104" y="154"/>
                  </a:lnTo>
                  <a:lnTo>
                    <a:pt x="116" y="148"/>
                  </a:lnTo>
                  <a:lnTo>
                    <a:pt x="114" y="144"/>
                  </a:lnTo>
                  <a:lnTo>
                    <a:pt x="116" y="136"/>
                  </a:lnTo>
                  <a:lnTo>
                    <a:pt x="104" y="138"/>
                  </a:lnTo>
                  <a:lnTo>
                    <a:pt x="96" y="142"/>
                  </a:lnTo>
                  <a:lnTo>
                    <a:pt x="96" y="146"/>
                  </a:lnTo>
                  <a:lnTo>
                    <a:pt x="86" y="140"/>
                  </a:lnTo>
                  <a:lnTo>
                    <a:pt x="62" y="138"/>
                  </a:lnTo>
                  <a:lnTo>
                    <a:pt x="84" y="148"/>
                  </a:lnTo>
                  <a:lnTo>
                    <a:pt x="72" y="164"/>
                  </a:lnTo>
                  <a:lnTo>
                    <a:pt x="58" y="168"/>
                  </a:lnTo>
                  <a:lnTo>
                    <a:pt x="50" y="164"/>
                  </a:lnTo>
                  <a:lnTo>
                    <a:pt x="48" y="154"/>
                  </a:lnTo>
                  <a:lnTo>
                    <a:pt x="44" y="152"/>
                  </a:lnTo>
                  <a:lnTo>
                    <a:pt x="42" y="144"/>
                  </a:lnTo>
                  <a:lnTo>
                    <a:pt x="32" y="136"/>
                  </a:lnTo>
                  <a:lnTo>
                    <a:pt x="34" y="144"/>
                  </a:lnTo>
                  <a:lnTo>
                    <a:pt x="30" y="134"/>
                  </a:lnTo>
                  <a:lnTo>
                    <a:pt x="26" y="128"/>
                  </a:lnTo>
                  <a:lnTo>
                    <a:pt x="18" y="132"/>
                  </a:lnTo>
                  <a:lnTo>
                    <a:pt x="16" y="124"/>
                  </a:lnTo>
                  <a:lnTo>
                    <a:pt x="14" y="110"/>
                  </a:lnTo>
                  <a:lnTo>
                    <a:pt x="10" y="104"/>
                  </a:lnTo>
                  <a:lnTo>
                    <a:pt x="2" y="100"/>
                  </a:lnTo>
                  <a:lnTo>
                    <a:pt x="0" y="96"/>
                  </a:lnTo>
                  <a:lnTo>
                    <a:pt x="12" y="94"/>
                  </a:lnTo>
                  <a:lnTo>
                    <a:pt x="24" y="96"/>
                  </a:lnTo>
                  <a:lnTo>
                    <a:pt x="28" y="90"/>
                  </a:lnTo>
                  <a:lnTo>
                    <a:pt x="8" y="78"/>
                  </a:lnTo>
                  <a:lnTo>
                    <a:pt x="6" y="72"/>
                  </a:lnTo>
                  <a:lnTo>
                    <a:pt x="8" y="68"/>
                  </a:lnTo>
                  <a:lnTo>
                    <a:pt x="16" y="68"/>
                  </a:lnTo>
                  <a:lnTo>
                    <a:pt x="30" y="78"/>
                  </a:lnTo>
                  <a:lnTo>
                    <a:pt x="48" y="80"/>
                  </a:lnTo>
                  <a:lnTo>
                    <a:pt x="50" y="76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40" y="56"/>
                  </a:lnTo>
                  <a:lnTo>
                    <a:pt x="56" y="60"/>
                  </a:lnTo>
                  <a:lnTo>
                    <a:pt x="62" y="56"/>
                  </a:lnTo>
                  <a:lnTo>
                    <a:pt x="58" y="50"/>
                  </a:lnTo>
                  <a:lnTo>
                    <a:pt x="72" y="46"/>
                  </a:lnTo>
                  <a:lnTo>
                    <a:pt x="106" y="70"/>
                  </a:lnTo>
                  <a:lnTo>
                    <a:pt x="112" y="66"/>
                  </a:lnTo>
                  <a:lnTo>
                    <a:pt x="118" y="70"/>
                  </a:lnTo>
                  <a:lnTo>
                    <a:pt x="122" y="70"/>
                  </a:lnTo>
                  <a:lnTo>
                    <a:pt x="112" y="44"/>
                  </a:lnTo>
                  <a:lnTo>
                    <a:pt x="124" y="42"/>
                  </a:lnTo>
                  <a:lnTo>
                    <a:pt x="128" y="48"/>
                  </a:lnTo>
                  <a:lnTo>
                    <a:pt x="128" y="54"/>
                  </a:lnTo>
                  <a:lnTo>
                    <a:pt x="140" y="56"/>
                  </a:lnTo>
                  <a:lnTo>
                    <a:pt x="142" y="58"/>
                  </a:lnTo>
                  <a:lnTo>
                    <a:pt x="174" y="54"/>
                  </a:lnTo>
                  <a:lnTo>
                    <a:pt x="202" y="44"/>
                  </a:lnTo>
                  <a:lnTo>
                    <a:pt x="228" y="40"/>
                  </a:lnTo>
                  <a:lnTo>
                    <a:pt x="242" y="42"/>
                  </a:lnTo>
                  <a:lnTo>
                    <a:pt x="252" y="54"/>
                  </a:lnTo>
                  <a:lnTo>
                    <a:pt x="252" y="58"/>
                  </a:lnTo>
                  <a:lnTo>
                    <a:pt x="246" y="64"/>
                  </a:lnTo>
                  <a:lnTo>
                    <a:pt x="222" y="70"/>
                  </a:lnTo>
                  <a:lnTo>
                    <a:pt x="212" y="64"/>
                  </a:lnTo>
                  <a:lnTo>
                    <a:pt x="208" y="68"/>
                  </a:lnTo>
                  <a:lnTo>
                    <a:pt x="186" y="68"/>
                  </a:lnTo>
                  <a:lnTo>
                    <a:pt x="182" y="74"/>
                  </a:lnTo>
                  <a:lnTo>
                    <a:pt x="166" y="82"/>
                  </a:lnTo>
                  <a:lnTo>
                    <a:pt x="142" y="86"/>
                  </a:lnTo>
                  <a:lnTo>
                    <a:pt x="138" y="92"/>
                  </a:lnTo>
                  <a:lnTo>
                    <a:pt x="156" y="94"/>
                  </a:lnTo>
                  <a:lnTo>
                    <a:pt x="196" y="86"/>
                  </a:lnTo>
                  <a:lnTo>
                    <a:pt x="224" y="88"/>
                  </a:lnTo>
                  <a:lnTo>
                    <a:pt x="218" y="96"/>
                  </a:lnTo>
                  <a:lnTo>
                    <a:pt x="206" y="100"/>
                  </a:lnTo>
                  <a:lnTo>
                    <a:pt x="212" y="106"/>
                  </a:lnTo>
                  <a:lnTo>
                    <a:pt x="212" y="112"/>
                  </a:lnTo>
                  <a:lnTo>
                    <a:pt x="218" y="118"/>
                  </a:lnTo>
                  <a:lnTo>
                    <a:pt x="226" y="110"/>
                  </a:lnTo>
                  <a:lnTo>
                    <a:pt x="228" y="104"/>
                  </a:lnTo>
                  <a:lnTo>
                    <a:pt x="244" y="112"/>
                  </a:lnTo>
                  <a:lnTo>
                    <a:pt x="254" y="124"/>
                  </a:lnTo>
                  <a:lnTo>
                    <a:pt x="266" y="134"/>
                  </a:lnTo>
                  <a:lnTo>
                    <a:pt x="286" y="146"/>
                  </a:lnTo>
                  <a:lnTo>
                    <a:pt x="296" y="146"/>
                  </a:lnTo>
                  <a:lnTo>
                    <a:pt x="286" y="140"/>
                  </a:lnTo>
                  <a:lnTo>
                    <a:pt x="278" y="130"/>
                  </a:lnTo>
                  <a:lnTo>
                    <a:pt x="262" y="106"/>
                  </a:lnTo>
                  <a:lnTo>
                    <a:pt x="260" y="98"/>
                  </a:lnTo>
                  <a:lnTo>
                    <a:pt x="256" y="92"/>
                  </a:lnTo>
                  <a:lnTo>
                    <a:pt x="260" y="84"/>
                  </a:lnTo>
                  <a:lnTo>
                    <a:pt x="274" y="78"/>
                  </a:lnTo>
                  <a:lnTo>
                    <a:pt x="274" y="74"/>
                  </a:lnTo>
                  <a:lnTo>
                    <a:pt x="286" y="68"/>
                  </a:lnTo>
                  <a:lnTo>
                    <a:pt x="288" y="58"/>
                  </a:lnTo>
                  <a:lnTo>
                    <a:pt x="300" y="48"/>
                  </a:lnTo>
                  <a:lnTo>
                    <a:pt x="324" y="5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76240" y="2480760"/>
              <a:ext cx="26280" cy="18360"/>
            </a:xfrm>
            <a:custGeom>
              <a:avLst/>
              <a:gdLst/>
              <a:ahLst/>
              <a:rect l="l" t="t" r="r" b="b"/>
              <a:pathLst>
                <a:path w="148" h="112">
                  <a:moveTo>
                    <a:pt x="0" y="0"/>
                  </a:moveTo>
                  <a:lnTo>
                    <a:pt x="20" y="4"/>
                  </a:lnTo>
                  <a:lnTo>
                    <a:pt x="30" y="8"/>
                  </a:lnTo>
                  <a:lnTo>
                    <a:pt x="30" y="12"/>
                  </a:lnTo>
                  <a:lnTo>
                    <a:pt x="54" y="24"/>
                  </a:lnTo>
                  <a:lnTo>
                    <a:pt x="64" y="48"/>
                  </a:lnTo>
                  <a:lnTo>
                    <a:pt x="74" y="52"/>
                  </a:lnTo>
                  <a:lnTo>
                    <a:pt x="72" y="58"/>
                  </a:lnTo>
                  <a:lnTo>
                    <a:pt x="82" y="60"/>
                  </a:lnTo>
                  <a:lnTo>
                    <a:pt x="84" y="64"/>
                  </a:lnTo>
                  <a:lnTo>
                    <a:pt x="110" y="74"/>
                  </a:lnTo>
                  <a:lnTo>
                    <a:pt x="118" y="76"/>
                  </a:lnTo>
                  <a:lnTo>
                    <a:pt x="122" y="78"/>
                  </a:lnTo>
                  <a:lnTo>
                    <a:pt x="122" y="80"/>
                  </a:lnTo>
                  <a:lnTo>
                    <a:pt x="124" y="86"/>
                  </a:lnTo>
                  <a:lnTo>
                    <a:pt x="130" y="94"/>
                  </a:lnTo>
                  <a:lnTo>
                    <a:pt x="142" y="100"/>
                  </a:lnTo>
                  <a:lnTo>
                    <a:pt x="142" y="104"/>
                  </a:lnTo>
                  <a:lnTo>
                    <a:pt x="148" y="112"/>
                  </a:lnTo>
                  <a:lnTo>
                    <a:pt x="124" y="108"/>
                  </a:lnTo>
                  <a:lnTo>
                    <a:pt x="116" y="92"/>
                  </a:lnTo>
                  <a:lnTo>
                    <a:pt x="100" y="88"/>
                  </a:lnTo>
                  <a:lnTo>
                    <a:pt x="100" y="84"/>
                  </a:lnTo>
                  <a:lnTo>
                    <a:pt x="76" y="72"/>
                  </a:lnTo>
                  <a:lnTo>
                    <a:pt x="70" y="74"/>
                  </a:lnTo>
                  <a:lnTo>
                    <a:pt x="50" y="68"/>
                  </a:lnTo>
                  <a:lnTo>
                    <a:pt x="38" y="56"/>
                  </a:lnTo>
                  <a:lnTo>
                    <a:pt x="32" y="42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17000" y="2485440"/>
              <a:ext cx="32400" cy="11880"/>
            </a:xfrm>
            <a:custGeom>
              <a:avLst/>
              <a:gdLst/>
              <a:ahLst/>
              <a:rect l="l" t="t" r="r" b="b"/>
              <a:pathLst>
                <a:path w="188" h="72">
                  <a:moveTo>
                    <a:pt x="94" y="0"/>
                  </a:moveTo>
                  <a:lnTo>
                    <a:pt x="100" y="0"/>
                  </a:lnTo>
                  <a:lnTo>
                    <a:pt x="96" y="6"/>
                  </a:lnTo>
                  <a:lnTo>
                    <a:pt x="88" y="6"/>
                  </a:lnTo>
                  <a:lnTo>
                    <a:pt x="96" y="8"/>
                  </a:lnTo>
                  <a:lnTo>
                    <a:pt x="156" y="4"/>
                  </a:lnTo>
                  <a:lnTo>
                    <a:pt x="158" y="8"/>
                  </a:lnTo>
                  <a:lnTo>
                    <a:pt x="164" y="12"/>
                  </a:lnTo>
                  <a:lnTo>
                    <a:pt x="188" y="22"/>
                  </a:lnTo>
                  <a:lnTo>
                    <a:pt x="168" y="30"/>
                  </a:lnTo>
                  <a:lnTo>
                    <a:pt x="166" y="48"/>
                  </a:lnTo>
                  <a:lnTo>
                    <a:pt x="168" y="52"/>
                  </a:lnTo>
                  <a:lnTo>
                    <a:pt x="166" y="58"/>
                  </a:lnTo>
                  <a:lnTo>
                    <a:pt x="130" y="60"/>
                  </a:lnTo>
                  <a:lnTo>
                    <a:pt x="110" y="68"/>
                  </a:lnTo>
                  <a:lnTo>
                    <a:pt x="92" y="68"/>
                  </a:lnTo>
                  <a:lnTo>
                    <a:pt x="90" y="72"/>
                  </a:lnTo>
                  <a:lnTo>
                    <a:pt x="68" y="70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6" y="54"/>
                  </a:lnTo>
                  <a:lnTo>
                    <a:pt x="40" y="46"/>
                  </a:lnTo>
                  <a:lnTo>
                    <a:pt x="40" y="40"/>
                  </a:lnTo>
                  <a:lnTo>
                    <a:pt x="38" y="34"/>
                  </a:lnTo>
                  <a:lnTo>
                    <a:pt x="20" y="32"/>
                  </a:lnTo>
                  <a:lnTo>
                    <a:pt x="0" y="24"/>
                  </a:lnTo>
                  <a:lnTo>
                    <a:pt x="40" y="18"/>
                  </a:lnTo>
                  <a:lnTo>
                    <a:pt x="46" y="14"/>
                  </a:lnTo>
                  <a:lnTo>
                    <a:pt x="56" y="16"/>
                  </a:lnTo>
                  <a:lnTo>
                    <a:pt x="64" y="12"/>
                  </a:lnTo>
                  <a:lnTo>
                    <a:pt x="72" y="2"/>
                  </a:lnTo>
                  <a:lnTo>
                    <a:pt x="94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29240" y="2494440"/>
              <a:ext cx="60840" cy="29160"/>
            </a:xfrm>
            <a:custGeom>
              <a:avLst/>
              <a:gdLst/>
              <a:ahLst/>
              <a:rect l="l" t="t" r="r" b="b"/>
              <a:pathLst>
                <a:path w="352" h="172">
                  <a:moveTo>
                    <a:pt x="160" y="0"/>
                  </a:moveTo>
                  <a:lnTo>
                    <a:pt x="164" y="2"/>
                  </a:lnTo>
                  <a:lnTo>
                    <a:pt x="166" y="8"/>
                  </a:lnTo>
                  <a:lnTo>
                    <a:pt x="176" y="14"/>
                  </a:lnTo>
                  <a:lnTo>
                    <a:pt x="186" y="10"/>
                  </a:lnTo>
                  <a:lnTo>
                    <a:pt x="204" y="22"/>
                  </a:lnTo>
                  <a:lnTo>
                    <a:pt x="200" y="26"/>
                  </a:lnTo>
                  <a:lnTo>
                    <a:pt x="202" y="32"/>
                  </a:lnTo>
                  <a:lnTo>
                    <a:pt x="202" y="30"/>
                  </a:lnTo>
                  <a:lnTo>
                    <a:pt x="204" y="32"/>
                  </a:lnTo>
                  <a:lnTo>
                    <a:pt x="188" y="30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92" y="54"/>
                  </a:lnTo>
                  <a:lnTo>
                    <a:pt x="202" y="56"/>
                  </a:lnTo>
                  <a:lnTo>
                    <a:pt x="218" y="66"/>
                  </a:lnTo>
                  <a:lnTo>
                    <a:pt x="228" y="66"/>
                  </a:lnTo>
                  <a:lnTo>
                    <a:pt x="236" y="72"/>
                  </a:lnTo>
                  <a:lnTo>
                    <a:pt x="256" y="76"/>
                  </a:lnTo>
                  <a:lnTo>
                    <a:pt x="280" y="70"/>
                  </a:lnTo>
                  <a:lnTo>
                    <a:pt x="282" y="66"/>
                  </a:lnTo>
                  <a:lnTo>
                    <a:pt x="286" y="64"/>
                  </a:lnTo>
                  <a:lnTo>
                    <a:pt x="298" y="70"/>
                  </a:lnTo>
                  <a:lnTo>
                    <a:pt x="306" y="72"/>
                  </a:lnTo>
                  <a:lnTo>
                    <a:pt x="316" y="78"/>
                  </a:lnTo>
                  <a:lnTo>
                    <a:pt x="316" y="82"/>
                  </a:lnTo>
                  <a:lnTo>
                    <a:pt x="324" y="80"/>
                  </a:lnTo>
                  <a:lnTo>
                    <a:pt x="328" y="86"/>
                  </a:lnTo>
                  <a:lnTo>
                    <a:pt x="350" y="88"/>
                  </a:lnTo>
                  <a:lnTo>
                    <a:pt x="352" y="90"/>
                  </a:lnTo>
                  <a:lnTo>
                    <a:pt x="352" y="92"/>
                  </a:lnTo>
                  <a:lnTo>
                    <a:pt x="326" y="94"/>
                  </a:lnTo>
                  <a:lnTo>
                    <a:pt x="292" y="102"/>
                  </a:lnTo>
                  <a:lnTo>
                    <a:pt x="292" y="108"/>
                  </a:lnTo>
                  <a:lnTo>
                    <a:pt x="276" y="116"/>
                  </a:lnTo>
                  <a:lnTo>
                    <a:pt x="272" y="122"/>
                  </a:lnTo>
                  <a:lnTo>
                    <a:pt x="274" y="128"/>
                  </a:lnTo>
                  <a:lnTo>
                    <a:pt x="266" y="134"/>
                  </a:lnTo>
                  <a:lnTo>
                    <a:pt x="254" y="138"/>
                  </a:lnTo>
                  <a:lnTo>
                    <a:pt x="256" y="144"/>
                  </a:lnTo>
                  <a:lnTo>
                    <a:pt x="248" y="142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30" y="152"/>
                  </a:lnTo>
                  <a:lnTo>
                    <a:pt x="224" y="152"/>
                  </a:lnTo>
                  <a:lnTo>
                    <a:pt x="218" y="148"/>
                  </a:lnTo>
                  <a:lnTo>
                    <a:pt x="218" y="148"/>
                  </a:lnTo>
                  <a:lnTo>
                    <a:pt x="218" y="152"/>
                  </a:lnTo>
                  <a:lnTo>
                    <a:pt x="198" y="160"/>
                  </a:lnTo>
                  <a:lnTo>
                    <a:pt x="196" y="162"/>
                  </a:lnTo>
                  <a:lnTo>
                    <a:pt x="198" y="168"/>
                  </a:lnTo>
                  <a:lnTo>
                    <a:pt x="186" y="172"/>
                  </a:lnTo>
                  <a:lnTo>
                    <a:pt x="180" y="168"/>
                  </a:lnTo>
                  <a:lnTo>
                    <a:pt x="170" y="172"/>
                  </a:lnTo>
                  <a:lnTo>
                    <a:pt x="158" y="164"/>
                  </a:lnTo>
                  <a:lnTo>
                    <a:pt x="172" y="154"/>
                  </a:lnTo>
                  <a:lnTo>
                    <a:pt x="174" y="150"/>
                  </a:lnTo>
                  <a:lnTo>
                    <a:pt x="168" y="142"/>
                  </a:lnTo>
                  <a:lnTo>
                    <a:pt x="176" y="136"/>
                  </a:lnTo>
                  <a:lnTo>
                    <a:pt x="186" y="134"/>
                  </a:lnTo>
                  <a:lnTo>
                    <a:pt x="184" y="130"/>
                  </a:lnTo>
                  <a:lnTo>
                    <a:pt x="188" y="124"/>
                  </a:lnTo>
                  <a:lnTo>
                    <a:pt x="176" y="124"/>
                  </a:lnTo>
                  <a:lnTo>
                    <a:pt x="172" y="134"/>
                  </a:lnTo>
                  <a:lnTo>
                    <a:pt x="166" y="130"/>
                  </a:lnTo>
                  <a:lnTo>
                    <a:pt x="166" y="128"/>
                  </a:lnTo>
                  <a:lnTo>
                    <a:pt x="168" y="124"/>
                  </a:lnTo>
                  <a:lnTo>
                    <a:pt x="166" y="122"/>
                  </a:lnTo>
                  <a:lnTo>
                    <a:pt x="152" y="120"/>
                  </a:lnTo>
                  <a:lnTo>
                    <a:pt x="140" y="126"/>
                  </a:lnTo>
                  <a:lnTo>
                    <a:pt x="140" y="132"/>
                  </a:lnTo>
                  <a:lnTo>
                    <a:pt x="124" y="134"/>
                  </a:lnTo>
                  <a:lnTo>
                    <a:pt x="122" y="138"/>
                  </a:lnTo>
                  <a:lnTo>
                    <a:pt x="70" y="140"/>
                  </a:lnTo>
                  <a:lnTo>
                    <a:pt x="62" y="144"/>
                  </a:lnTo>
                  <a:lnTo>
                    <a:pt x="48" y="140"/>
                  </a:lnTo>
                  <a:lnTo>
                    <a:pt x="34" y="144"/>
                  </a:lnTo>
                  <a:lnTo>
                    <a:pt x="22" y="140"/>
                  </a:lnTo>
                  <a:lnTo>
                    <a:pt x="22" y="132"/>
                  </a:lnTo>
                  <a:lnTo>
                    <a:pt x="18" y="128"/>
                  </a:lnTo>
                  <a:lnTo>
                    <a:pt x="24" y="128"/>
                  </a:lnTo>
                  <a:lnTo>
                    <a:pt x="26" y="124"/>
                  </a:lnTo>
                  <a:lnTo>
                    <a:pt x="24" y="122"/>
                  </a:lnTo>
                  <a:lnTo>
                    <a:pt x="46" y="114"/>
                  </a:lnTo>
                  <a:lnTo>
                    <a:pt x="48" y="110"/>
                  </a:lnTo>
                  <a:lnTo>
                    <a:pt x="44" y="106"/>
                  </a:lnTo>
                  <a:lnTo>
                    <a:pt x="46" y="106"/>
                  </a:lnTo>
                  <a:lnTo>
                    <a:pt x="46" y="100"/>
                  </a:lnTo>
                  <a:lnTo>
                    <a:pt x="44" y="96"/>
                  </a:lnTo>
                  <a:lnTo>
                    <a:pt x="52" y="90"/>
                  </a:lnTo>
                  <a:lnTo>
                    <a:pt x="50" y="86"/>
                  </a:lnTo>
                  <a:lnTo>
                    <a:pt x="60" y="76"/>
                  </a:lnTo>
                  <a:lnTo>
                    <a:pt x="60" y="70"/>
                  </a:lnTo>
                  <a:lnTo>
                    <a:pt x="66" y="64"/>
                  </a:lnTo>
                  <a:lnTo>
                    <a:pt x="28" y="56"/>
                  </a:lnTo>
                  <a:lnTo>
                    <a:pt x="26" y="48"/>
                  </a:lnTo>
                  <a:lnTo>
                    <a:pt x="18" y="48"/>
                  </a:lnTo>
                  <a:lnTo>
                    <a:pt x="10" y="42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40" y="22"/>
                  </a:lnTo>
                  <a:lnTo>
                    <a:pt x="72" y="16"/>
                  </a:lnTo>
                  <a:lnTo>
                    <a:pt x="96" y="18"/>
                  </a:lnTo>
                  <a:lnTo>
                    <a:pt x="128" y="16"/>
                  </a:lnTo>
                  <a:lnTo>
                    <a:pt x="134" y="10"/>
                  </a:lnTo>
                  <a:lnTo>
                    <a:pt x="154" y="8"/>
                  </a:lnTo>
                  <a:lnTo>
                    <a:pt x="158" y="0"/>
                  </a:lnTo>
                  <a:lnTo>
                    <a:pt x="160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60280" y="2437920"/>
              <a:ext cx="29520" cy="432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62" y="2"/>
                  </a:moveTo>
                  <a:lnTo>
                    <a:pt x="164" y="0"/>
                  </a:lnTo>
                  <a:lnTo>
                    <a:pt x="166" y="4"/>
                  </a:lnTo>
                  <a:lnTo>
                    <a:pt x="170" y="6"/>
                  </a:lnTo>
                  <a:lnTo>
                    <a:pt x="144" y="8"/>
                  </a:lnTo>
                  <a:lnTo>
                    <a:pt x="122" y="16"/>
                  </a:lnTo>
                  <a:lnTo>
                    <a:pt x="98" y="18"/>
                  </a:lnTo>
                  <a:lnTo>
                    <a:pt x="96" y="22"/>
                  </a:lnTo>
                  <a:lnTo>
                    <a:pt x="82" y="26"/>
                  </a:lnTo>
                  <a:lnTo>
                    <a:pt x="60" y="24"/>
                  </a:lnTo>
                  <a:lnTo>
                    <a:pt x="58" y="28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2" y="30"/>
                  </a:lnTo>
                  <a:lnTo>
                    <a:pt x="32" y="34"/>
                  </a:lnTo>
                  <a:lnTo>
                    <a:pt x="28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0" y="28"/>
                  </a:lnTo>
                  <a:lnTo>
                    <a:pt x="0" y="28"/>
                  </a:lnTo>
                  <a:lnTo>
                    <a:pt x="14" y="22"/>
                  </a:lnTo>
                  <a:lnTo>
                    <a:pt x="64" y="16"/>
                  </a:lnTo>
                  <a:lnTo>
                    <a:pt x="86" y="10"/>
                  </a:lnTo>
                  <a:lnTo>
                    <a:pt x="108" y="10"/>
                  </a:lnTo>
                  <a:lnTo>
                    <a:pt x="122" y="0"/>
                  </a:lnTo>
                  <a:lnTo>
                    <a:pt x="162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02680" y="2479320"/>
              <a:ext cx="9360" cy="432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10" y="18"/>
                  </a:moveTo>
                  <a:lnTo>
                    <a:pt x="16" y="20"/>
                  </a:lnTo>
                  <a:lnTo>
                    <a:pt x="22" y="26"/>
                  </a:lnTo>
                  <a:lnTo>
                    <a:pt x="34" y="30"/>
                  </a:lnTo>
                  <a:lnTo>
                    <a:pt x="48" y="28"/>
                  </a:lnTo>
                  <a:lnTo>
                    <a:pt x="50" y="24"/>
                  </a:lnTo>
                  <a:lnTo>
                    <a:pt x="52" y="22"/>
                  </a:lnTo>
                  <a:lnTo>
                    <a:pt x="36" y="14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10" y="0"/>
                  </a:lnTo>
                  <a:lnTo>
                    <a:pt x="4" y="2"/>
                  </a:lnTo>
                  <a:lnTo>
                    <a:pt x="6" y="6"/>
                  </a:lnTo>
                  <a:lnTo>
                    <a:pt x="0" y="8"/>
                  </a:lnTo>
                  <a:lnTo>
                    <a:pt x="10" y="1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22840" y="2474640"/>
              <a:ext cx="24840" cy="4320"/>
            </a:xfrm>
            <a:custGeom>
              <a:avLst/>
              <a:gdLst/>
              <a:ahLst/>
              <a:rect l="l" t="t" r="r" b="b"/>
              <a:pathLst>
                <a:path w="142" h="26">
                  <a:moveTo>
                    <a:pt x="98" y="18"/>
                  </a:moveTo>
                  <a:lnTo>
                    <a:pt x="122" y="20"/>
                  </a:lnTo>
                  <a:lnTo>
                    <a:pt x="124" y="16"/>
                  </a:lnTo>
                  <a:lnTo>
                    <a:pt x="142" y="12"/>
                  </a:lnTo>
                  <a:lnTo>
                    <a:pt x="142" y="8"/>
                  </a:lnTo>
                  <a:lnTo>
                    <a:pt x="138" y="6"/>
                  </a:lnTo>
                  <a:lnTo>
                    <a:pt x="128" y="12"/>
                  </a:lnTo>
                  <a:lnTo>
                    <a:pt x="110" y="12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30" y="8"/>
                  </a:lnTo>
                  <a:lnTo>
                    <a:pt x="16" y="14"/>
                  </a:lnTo>
                  <a:lnTo>
                    <a:pt x="18" y="20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46" y="14"/>
                  </a:lnTo>
                  <a:lnTo>
                    <a:pt x="62" y="14"/>
                  </a:lnTo>
                  <a:lnTo>
                    <a:pt x="58" y="12"/>
                  </a:lnTo>
                  <a:lnTo>
                    <a:pt x="64" y="10"/>
                  </a:lnTo>
                  <a:lnTo>
                    <a:pt x="82" y="10"/>
                  </a:lnTo>
                  <a:lnTo>
                    <a:pt x="98" y="1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21680" y="2603520"/>
              <a:ext cx="4320" cy="43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" y="10"/>
                  </a:moveTo>
                  <a:lnTo>
                    <a:pt x="4" y="16"/>
                  </a:lnTo>
                  <a:lnTo>
                    <a:pt x="18" y="20"/>
                  </a:lnTo>
                  <a:lnTo>
                    <a:pt x="14" y="28"/>
                  </a:lnTo>
                  <a:lnTo>
                    <a:pt x="22" y="30"/>
                  </a:lnTo>
                  <a:lnTo>
                    <a:pt x="34" y="24"/>
                  </a:lnTo>
                  <a:lnTo>
                    <a:pt x="34" y="16"/>
                  </a:lnTo>
                  <a:lnTo>
                    <a:pt x="36" y="6"/>
                  </a:lnTo>
                  <a:lnTo>
                    <a:pt x="16" y="0"/>
                  </a:lnTo>
                  <a:lnTo>
                    <a:pt x="14" y="6"/>
                  </a:lnTo>
                  <a:lnTo>
                    <a:pt x="0" y="6"/>
                  </a:lnTo>
                  <a:lnTo>
                    <a:pt x="2" y="1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69840" y="2430360"/>
              <a:ext cx="135720" cy="39600"/>
            </a:xfrm>
            <a:custGeom>
              <a:avLst/>
              <a:gdLst/>
              <a:ahLst/>
              <a:rect l="l" t="t" r="r" b="b"/>
              <a:pathLst>
                <a:path w="780" h="230">
                  <a:moveTo>
                    <a:pt x="400" y="0"/>
                  </a:moveTo>
                  <a:lnTo>
                    <a:pt x="406" y="6"/>
                  </a:lnTo>
                  <a:lnTo>
                    <a:pt x="412" y="8"/>
                  </a:lnTo>
                  <a:lnTo>
                    <a:pt x="434" y="8"/>
                  </a:lnTo>
                  <a:lnTo>
                    <a:pt x="440" y="12"/>
                  </a:lnTo>
                  <a:lnTo>
                    <a:pt x="438" y="20"/>
                  </a:lnTo>
                  <a:lnTo>
                    <a:pt x="430" y="24"/>
                  </a:lnTo>
                  <a:lnTo>
                    <a:pt x="446" y="32"/>
                  </a:lnTo>
                  <a:lnTo>
                    <a:pt x="442" y="44"/>
                  </a:lnTo>
                  <a:lnTo>
                    <a:pt x="434" y="48"/>
                  </a:lnTo>
                  <a:lnTo>
                    <a:pt x="434" y="52"/>
                  </a:lnTo>
                  <a:lnTo>
                    <a:pt x="428" y="64"/>
                  </a:lnTo>
                  <a:lnTo>
                    <a:pt x="438" y="70"/>
                  </a:lnTo>
                  <a:lnTo>
                    <a:pt x="444" y="68"/>
                  </a:lnTo>
                  <a:lnTo>
                    <a:pt x="448" y="66"/>
                  </a:lnTo>
                  <a:lnTo>
                    <a:pt x="446" y="62"/>
                  </a:lnTo>
                  <a:lnTo>
                    <a:pt x="454" y="62"/>
                  </a:lnTo>
                  <a:lnTo>
                    <a:pt x="454" y="58"/>
                  </a:lnTo>
                  <a:lnTo>
                    <a:pt x="456" y="58"/>
                  </a:lnTo>
                  <a:lnTo>
                    <a:pt x="458" y="64"/>
                  </a:lnTo>
                  <a:lnTo>
                    <a:pt x="464" y="64"/>
                  </a:lnTo>
                  <a:lnTo>
                    <a:pt x="464" y="56"/>
                  </a:lnTo>
                  <a:lnTo>
                    <a:pt x="468" y="58"/>
                  </a:lnTo>
                  <a:lnTo>
                    <a:pt x="472" y="64"/>
                  </a:lnTo>
                  <a:lnTo>
                    <a:pt x="472" y="66"/>
                  </a:lnTo>
                  <a:lnTo>
                    <a:pt x="476" y="68"/>
                  </a:lnTo>
                  <a:lnTo>
                    <a:pt x="480" y="68"/>
                  </a:lnTo>
                  <a:lnTo>
                    <a:pt x="482" y="66"/>
                  </a:lnTo>
                  <a:lnTo>
                    <a:pt x="480" y="64"/>
                  </a:lnTo>
                  <a:lnTo>
                    <a:pt x="490" y="64"/>
                  </a:lnTo>
                  <a:lnTo>
                    <a:pt x="492" y="62"/>
                  </a:lnTo>
                  <a:lnTo>
                    <a:pt x="486" y="58"/>
                  </a:lnTo>
                  <a:lnTo>
                    <a:pt x="496" y="56"/>
                  </a:lnTo>
                  <a:lnTo>
                    <a:pt x="488" y="50"/>
                  </a:lnTo>
                  <a:lnTo>
                    <a:pt x="488" y="46"/>
                  </a:lnTo>
                  <a:lnTo>
                    <a:pt x="498" y="46"/>
                  </a:lnTo>
                  <a:lnTo>
                    <a:pt x="488" y="42"/>
                  </a:lnTo>
                  <a:lnTo>
                    <a:pt x="488" y="40"/>
                  </a:lnTo>
                  <a:lnTo>
                    <a:pt x="510" y="44"/>
                  </a:lnTo>
                  <a:lnTo>
                    <a:pt x="510" y="40"/>
                  </a:lnTo>
                  <a:lnTo>
                    <a:pt x="506" y="38"/>
                  </a:lnTo>
                  <a:lnTo>
                    <a:pt x="526" y="44"/>
                  </a:lnTo>
                  <a:lnTo>
                    <a:pt x="526" y="42"/>
                  </a:lnTo>
                  <a:lnTo>
                    <a:pt x="518" y="36"/>
                  </a:lnTo>
                  <a:lnTo>
                    <a:pt x="542" y="44"/>
                  </a:lnTo>
                  <a:lnTo>
                    <a:pt x="554" y="44"/>
                  </a:lnTo>
                  <a:lnTo>
                    <a:pt x="556" y="40"/>
                  </a:lnTo>
                  <a:lnTo>
                    <a:pt x="566" y="40"/>
                  </a:lnTo>
                  <a:lnTo>
                    <a:pt x="570" y="30"/>
                  </a:lnTo>
                  <a:lnTo>
                    <a:pt x="576" y="28"/>
                  </a:lnTo>
                  <a:lnTo>
                    <a:pt x="578" y="34"/>
                  </a:lnTo>
                  <a:lnTo>
                    <a:pt x="576" y="38"/>
                  </a:lnTo>
                  <a:lnTo>
                    <a:pt x="578" y="46"/>
                  </a:lnTo>
                  <a:lnTo>
                    <a:pt x="560" y="52"/>
                  </a:lnTo>
                  <a:lnTo>
                    <a:pt x="562" y="58"/>
                  </a:lnTo>
                  <a:lnTo>
                    <a:pt x="554" y="66"/>
                  </a:lnTo>
                  <a:lnTo>
                    <a:pt x="568" y="58"/>
                  </a:lnTo>
                  <a:lnTo>
                    <a:pt x="574" y="50"/>
                  </a:lnTo>
                  <a:lnTo>
                    <a:pt x="592" y="52"/>
                  </a:lnTo>
                  <a:lnTo>
                    <a:pt x="596" y="50"/>
                  </a:lnTo>
                  <a:lnTo>
                    <a:pt x="598" y="46"/>
                  </a:lnTo>
                  <a:lnTo>
                    <a:pt x="616" y="42"/>
                  </a:lnTo>
                  <a:lnTo>
                    <a:pt x="620" y="44"/>
                  </a:lnTo>
                  <a:lnTo>
                    <a:pt x="612" y="44"/>
                  </a:lnTo>
                  <a:lnTo>
                    <a:pt x="608" y="50"/>
                  </a:lnTo>
                  <a:lnTo>
                    <a:pt x="616" y="50"/>
                  </a:lnTo>
                  <a:lnTo>
                    <a:pt x="620" y="56"/>
                  </a:lnTo>
                  <a:lnTo>
                    <a:pt x="626" y="56"/>
                  </a:lnTo>
                  <a:lnTo>
                    <a:pt x="626" y="48"/>
                  </a:lnTo>
                  <a:lnTo>
                    <a:pt x="632" y="50"/>
                  </a:lnTo>
                  <a:lnTo>
                    <a:pt x="636" y="56"/>
                  </a:lnTo>
                  <a:lnTo>
                    <a:pt x="646" y="50"/>
                  </a:lnTo>
                  <a:lnTo>
                    <a:pt x="654" y="52"/>
                  </a:lnTo>
                  <a:lnTo>
                    <a:pt x="656" y="54"/>
                  </a:lnTo>
                  <a:lnTo>
                    <a:pt x="656" y="60"/>
                  </a:lnTo>
                  <a:lnTo>
                    <a:pt x="670" y="56"/>
                  </a:lnTo>
                  <a:lnTo>
                    <a:pt x="714" y="56"/>
                  </a:lnTo>
                  <a:lnTo>
                    <a:pt x="740" y="62"/>
                  </a:lnTo>
                  <a:lnTo>
                    <a:pt x="740" y="66"/>
                  </a:lnTo>
                  <a:lnTo>
                    <a:pt x="752" y="68"/>
                  </a:lnTo>
                  <a:lnTo>
                    <a:pt x="752" y="72"/>
                  </a:lnTo>
                  <a:lnTo>
                    <a:pt x="766" y="72"/>
                  </a:lnTo>
                  <a:lnTo>
                    <a:pt x="768" y="84"/>
                  </a:lnTo>
                  <a:lnTo>
                    <a:pt x="770" y="86"/>
                  </a:lnTo>
                  <a:lnTo>
                    <a:pt x="764" y="92"/>
                  </a:lnTo>
                  <a:lnTo>
                    <a:pt x="766" y="96"/>
                  </a:lnTo>
                  <a:lnTo>
                    <a:pt x="766" y="96"/>
                  </a:lnTo>
                  <a:lnTo>
                    <a:pt x="778" y="100"/>
                  </a:lnTo>
                  <a:lnTo>
                    <a:pt x="780" y="104"/>
                  </a:lnTo>
                  <a:lnTo>
                    <a:pt x="774" y="112"/>
                  </a:lnTo>
                  <a:lnTo>
                    <a:pt x="750" y="114"/>
                  </a:lnTo>
                  <a:lnTo>
                    <a:pt x="748" y="116"/>
                  </a:lnTo>
                  <a:lnTo>
                    <a:pt x="738" y="124"/>
                  </a:lnTo>
                  <a:lnTo>
                    <a:pt x="738" y="126"/>
                  </a:lnTo>
                  <a:lnTo>
                    <a:pt x="742" y="128"/>
                  </a:lnTo>
                  <a:lnTo>
                    <a:pt x="734" y="128"/>
                  </a:lnTo>
                  <a:lnTo>
                    <a:pt x="730" y="136"/>
                  </a:lnTo>
                  <a:lnTo>
                    <a:pt x="720" y="136"/>
                  </a:lnTo>
                  <a:lnTo>
                    <a:pt x="714" y="142"/>
                  </a:lnTo>
                  <a:lnTo>
                    <a:pt x="700" y="140"/>
                  </a:lnTo>
                  <a:lnTo>
                    <a:pt x="700" y="144"/>
                  </a:lnTo>
                  <a:lnTo>
                    <a:pt x="684" y="150"/>
                  </a:lnTo>
                  <a:lnTo>
                    <a:pt x="688" y="160"/>
                  </a:lnTo>
                  <a:lnTo>
                    <a:pt x="694" y="160"/>
                  </a:lnTo>
                  <a:lnTo>
                    <a:pt x="698" y="164"/>
                  </a:lnTo>
                  <a:lnTo>
                    <a:pt x="694" y="164"/>
                  </a:lnTo>
                  <a:lnTo>
                    <a:pt x="696" y="166"/>
                  </a:lnTo>
                  <a:lnTo>
                    <a:pt x="694" y="172"/>
                  </a:lnTo>
                  <a:lnTo>
                    <a:pt x="684" y="172"/>
                  </a:lnTo>
                  <a:lnTo>
                    <a:pt x="688" y="178"/>
                  </a:lnTo>
                  <a:lnTo>
                    <a:pt x="682" y="182"/>
                  </a:lnTo>
                  <a:lnTo>
                    <a:pt x="684" y="186"/>
                  </a:lnTo>
                  <a:lnTo>
                    <a:pt x="670" y="188"/>
                  </a:lnTo>
                  <a:lnTo>
                    <a:pt x="654" y="198"/>
                  </a:lnTo>
                  <a:lnTo>
                    <a:pt x="644" y="196"/>
                  </a:lnTo>
                  <a:lnTo>
                    <a:pt x="636" y="198"/>
                  </a:lnTo>
                  <a:lnTo>
                    <a:pt x="632" y="198"/>
                  </a:lnTo>
                  <a:lnTo>
                    <a:pt x="632" y="196"/>
                  </a:lnTo>
                  <a:lnTo>
                    <a:pt x="616" y="192"/>
                  </a:lnTo>
                  <a:lnTo>
                    <a:pt x="600" y="200"/>
                  </a:lnTo>
                  <a:lnTo>
                    <a:pt x="574" y="204"/>
                  </a:lnTo>
                  <a:lnTo>
                    <a:pt x="570" y="206"/>
                  </a:lnTo>
                  <a:lnTo>
                    <a:pt x="570" y="214"/>
                  </a:lnTo>
                  <a:lnTo>
                    <a:pt x="566" y="220"/>
                  </a:lnTo>
                  <a:lnTo>
                    <a:pt x="548" y="226"/>
                  </a:lnTo>
                  <a:lnTo>
                    <a:pt x="508" y="228"/>
                  </a:lnTo>
                  <a:lnTo>
                    <a:pt x="506" y="226"/>
                  </a:lnTo>
                  <a:lnTo>
                    <a:pt x="500" y="230"/>
                  </a:lnTo>
                  <a:lnTo>
                    <a:pt x="496" y="228"/>
                  </a:lnTo>
                  <a:lnTo>
                    <a:pt x="494" y="226"/>
                  </a:lnTo>
                  <a:lnTo>
                    <a:pt x="470" y="224"/>
                  </a:lnTo>
                  <a:lnTo>
                    <a:pt x="466" y="222"/>
                  </a:lnTo>
                  <a:lnTo>
                    <a:pt x="470" y="220"/>
                  </a:lnTo>
                  <a:lnTo>
                    <a:pt x="456" y="216"/>
                  </a:lnTo>
                  <a:lnTo>
                    <a:pt x="458" y="212"/>
                  </a:lnTo>
                  <a:lnTo>
                    <a:pt x="454" y="214"/>
                  </a:lnTo>
                  <a:lnTo>
                    <a:pt x="442" y="210"/>
                  </a:lnTo>
                  <a:lnTo>
                    <a:pt x="436" y="200"/>
                  </a:lnTo>
                  <a:lnTo>
                    <a:pt x="442" y="194"/>
                  </a:lnTo>
                  <a:lnTo>
                    <a:pt x="442" y="190"/>
                  </a:lnTo>
                  <a:lnTo>
                    <a:pt x="440" y="188"/>
                  </a:lnTo>
                  <a:lnTo>
                    <a:pt x="438" y="192"/>
                  </a:lnTo>
                  <a:lnTo>
                    <a:pt x="430" y="194"/>
                  </a:lnTo>
                  <a:lnTo>
                    <a:pt x="394" y="188"/>
                  </a:lnTo>
                  <a:lnTo>
                    <a:pt x="376" y="196"/>
                  </a:lnTo>
                  <a:lnTo>
                    <a:pt x="350" y="192"/>
                  </a:lnTo>
                  <a:lnTo>
                    <a:pt x="346" y="188"/>
                  </a:lnTo>
                  <a:lnTo>
                    <a:pt x="342" y="188"/>
                  </a:lnTo>
                  <a:lnTo>
                    <a:pt x="342" y="194"/>
                  </a:lnTo>
                  <a:lnTo>
                    <a:pt x="332" y="190"/>
                  </a:lnTo>
                  <a:lnTo>
                    <a:pt x="312" y="194"/>
                  </a:lnTo>
                  <a:lnTo>
                    <a:pt x="312" y="196"/>
                  </a:lnTo>
                  <a:lnTo>
                    <a:pt x="312" y="198"/>
                  </a:lnTo>
                  <a:lnTo>
                    <a:pt x="296" y="198"/>
                  </a:lnTo>
                  <a:lnTo>
                    <a:pt x="282" y="194"/>
                  </a:lnTo>
                  <a:lnTo>
                    <a:pt x="282" y="188"/>
                  </a:lnTo>
                  <a:lnTo>
                    <a:pt x="276" y="184"/>
                  </a:lnTo>
                  <a:lnTo>
                    <a:pt x="240" y="182"/>
                  </a:lnTo>
                  <a:lnTo>
                    <a:pt x="226" y="176"/>
                  </a:lnTo>
                  <a:lnTo>
                    <a:pt x="212" y="172"/>
                  </a:lnTo>
                  <a:lnTo>
                    <a:pt x="206" y="168"/>
                  </a:lnTo>
                  <a:lnTo>
                    <a:pt x="196" y="164"/>
                  </a:lnTo>
                  <a:lnTo>
                    <a:pt x="190" y="160"/>
                  </a:lnTo>
                  <a:lnTo>
                    <a:pt x="192" y="160"/>
                  </a:lnTo>
                  <a:lnTo>
                    <a:pt x="210" y="154"/>
                  </a:lnTo>
                  <a:lnTo>
                    <a:pt x="230" y="156"/>
                  </a:lnTo>
                  <a:lnTo>
                    <a:pt x="230" y="160"/>
                  </a:lnTo>
                  <a:lnTo>
                    <a:pt x="238" y="160"/>
                  </a:lnTo>
                  <a:lnTo>
                    <a:pt x="242" y="164"/>
                  </a:lnTo>
                  <a:lnTo>
                    <a:pt x="278" y="162"/>
                  </a:lnTo>
                  <a:lnTo>
                    <a:pt x="292" y="166"/>
                  </a:lnTo>
                  <a:lnTo>
                    <a:pt x="304" y="164"/>
                  </a:lnTo>
                  <a:lnTo>
                    <a:pt x="300" y="162"/>
                  </a:lnTo>
                  <a:lnTo>
                    <a:pt x="300" y="158"/>
                  </a:lnTo>
                  <a:lnTo>
                    <a:pt x="296" y="156"/>
                  </a:lnTo>
                  <a:lnTo>
                    <a:pt x="282" y="158"/>
                  </a:lnTo>
                  <a:lnTo>
                    <a:pt x="280" y="156"/>
                  </a:lnTo>
                  <a:lnTo>
                    <a:pt x="258" y="152"/>
                  </a:lnTo>
                  <a:lnTo>
                    <a:pt x="264" y="148"/>
                  </a:lnTo>
                  <a:lnTo>
                    <a:pt x="260" y="146"/>
                  </a:lnTo>
                  <a:lnTo>
                    <a:pt x="282" y="142"/>
                  </a:lnTo>
                  <a:lnTo>
                    <a:pt x="284" y="146"/>
                  </a:lnTo>
                  <a:lnTo>
                    <a:pt x="288" y="146"/>
                  </a:lnTo>
                  <a:lnTo>
                    <a:pt x="294" y="142"/>
                  </a:lnTo>
                  <a:lnTo>
                    <a:pt x="358" y="140"/>
                  </a:lnTo>
                  <a:lnTo>
                    <a:pt x="360" y="140"/>
                  </a:lnTo>
                  <a:lnTo>
                    <a:pt x="358" y="138"/>
                  </a:lnTo>
                  <a:lnTo>
                    <a:pt x="358" y="136"/>
                  </a:lnTo>
                  <a:lnTo>
                    <a:pt x="370" y="136"/>
                  </a:lnTo>
                  <a:lnTo>
                    <a:pt x="368" y="130"/>
                  </a:lnTo>
                  <a:lnTo>
                    <a:pt x="370" y="130"/>
                  </a:lnTo>
                  <a:lnTo>
                    <a:pt x="354" y="128"/>
                  </a:lnTo>
                  <a:lnTo>
                    <a:pt x="362" y="126"/>
                  </a:lnTo>
                  <a:lnTo>
                    <a:pt x="362" y="120"/>
                  </a:lnTo>
                  <a:lnTo>
                    <a:pt x="356" y="122"/>
                  </a:lnTo>
                  <a:lnTo>
                    <a:pt x="340" y="122"/>
                  </a:lnTo>
                  <a:lnTo>
                    <a:pt x="334" y="126"/>
                  </a:lnTo>
                  <a:lnTo>
                    <a:pt x="272" y="126"/>
                  </a:lnTo>
                  <a:lnTo>
                    <a:pt x="268" y="130"/>
                  </a:lnTo>
                  <a:lnTo>
                    <a:pt x="240" y="128"/>
                  </a:lnTo>
                  <a:lnTo>
                    <a:pt x="238" y="132"/>
                  </a:lnTo>
                  <a:lnTo>
                    <a:pt x="218" y="132"/>
                  </a:lnTo>
                  <a:lnTo>
                    <a:pt x="212" y="136"/>
                  </a:lnTo>
                  <a:lnTo>
                    <a:pt x="188" y="136"/>
                  </a:lnTo>
                  <a:lnTo>
                    <a:pt x="188" y="138"/>
                  </a:lnTo>
                  <a:lnTo>
                    <a:pt x="174" y="142"/>
                  </a:lnTo>
                  <a:lnTo>
                    <a:pt x="166" y="142"/>
                  </a:lnTo>
                  <a:lnTo>
                    <a:pt x="166" y="140"/>
                  </a:lnTo>
                  <a:lnTo>
                    <a:pt x="160" y="138"/>
                  </a:lnTo>
                  <a:lnTo>
                    <a:pt x="114" y="140"/>
                  </a:lnTo>
                  <a:lnTo>
                    <a:pt x="104" y="136"/>
                  </a:lnTo>
                  <a:lnTo>
                    <a:pt x="108" y="132"/>
                  </a:lnTo>
                  <a:lnTo>
                    <a:pt x="104" y="132"/>
                  </a:lnTo>
                  <a:lnTo>
                    <a:pt x="100" y="130"/>
                  </a:lnTo>
                  <a:lnTo>
                    <a:pt x="102" y="128"/>
                  </a:lnTo>
                  <a:lnTo>
                    <a:pt x="92" y="130"/>
                  </a:lnTo>
                  <a:lnTo>
                    <a:pt x="92" y="134"/>
                  </a:lnTo>
                  <a:lnTo>
                    <a:pt x="82" y="128"/>
                  </a:lnTo>
                  <a:lnTo>
                    <a:pt x="82" y="124"/>
                  </a:lnTo>
                  <a:lnTo>
                    <a:pt x="70" y="120"/>
                  </a:lnTo>
                  <a:lnTo>
                    <a:pt x="70" y="114"/>
                  </a:lnTo>
                  <a:lnTo>
                    <a:pt x="60" y="112"/>
                  </a:lnTo>
                  <a:lnTo>
                    <a:pt x="58" y="110"/>
                  </a:lnTo>
                  <a:lnTo>
                    <a:pt x="74" y="104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0" y="98"/>
                  </a:lnTo>
                  <a:lnTo>
                    <a:pt x="82" y="96"/>
                  </a:lnTo>
                  <a:lnTo>
                    <a:pt x="98" y="100"/>
                  </a:lnTo>
                  <a:lnTo>
                    <a:pt x="100" y="98"/>
                  </a:lnTo>
                  <a:lnTo>
                    <a:pt x="98" y="94"/>
                  </a:lnTo>
                  <a:lnTo>
                    <a:pt x="110" y="86"/>
                  </a:lnTo>
                  <a:lnTo>
                    <a:pt x="92" y="88"/>
                  </a:lnTo>
                  <a:lnTo>
                    <a:pt x="80" y="88"/>
                  </a:lnTo>
                  <a:lnTo>
                    <a:pt x="74" y="86"/>
                  </a:lnTo>
                  <a:lnTo>
                    <a:pt x="68" y="88"/>
                  </a:lnTo>
                  <a:lnTo>
                    <a:pt x="56" y="88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4" y="80"/>
                  </a:lnTo>
                  <a:lnTo>
                    <a:pt x="50" y="78"/>
                  </a:lnTo>
                  <a:lnTo>
                    <a:pt x="48" y="76"/>
                  </a:lnTo>
                  <a:lnTo>
                    <a:pt x="42" y="74"/>
                  </a:lnTo>
                  <a:lnTo>
                    <a:pt x="38" y="68"/>
                  </a:lnTo>
                  <a:lnTo>
                    <a:pt x="18" y="68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4" y="64"/>
                  </a:lnTo>
                  <a:lnTo>
                    <a:pt x="20" y="60"/>
                  </a:lnTo>
                  <a:lnTo>
                    <a:pt x="42" y="60"/>
                  </a:lnTo>
                  <a:lnTo>
                    <a:pt x="44" y="64"/>
                  </a:lnTo>
                  <a:lnTo>
                    <a:pt x="74" y="62"/>
                  </a:lnTo>
                  <a:lnTo>
                    <a:pt x="80" y="66"/>
                  </a:lnTo>
                  <a:lnTo>
                    <a:pt x="88" y="66"/>
                  </a:lnTo>
                  <a:lnTo>
                    <a:pt x="92" y="60"/>
                  </a:lnTo>
                  <a:lnTo>
                    <a:pt x="108" y="64"/>
                  </a:lnTo>
                  <a:lnTo>
                    <a:pt x="108" y="70"/>
                  </a:lnTo>
                  <a:lnTo>
                    <a:pt x="124" y="72"/>
                  </a:lnTo>
                  <a:lnTo>
                    <a:pt x="126" y="76"/>
                  </a:lnTo>
                  <a:lnTo>
                    <a:pt x="132" y="80"/>
                  </a:lnTo>
                  <a:lnTo>
                    <a:pt x="132" y="82"/>
                  </a:lnTo>
                  <a:lnTo>
                    <a:pt x="142" y="88"/>
                  </a:lnTo>
                  <a:lnTo>
                    <a:pt x="150" y="90"/>
                  </a:lnTo>
                  <a:lnTo>
                    <a:pt x="154" y="88"/>
                  </a:lnTo>
                  <a:lnTo>
                    <a:pt x="150" y="78"/>
                  </a:lnTo>
                  <a:lnTo>
                    <a:pt x="146" y="76"/>
                  </a:lnTo>
                  <a:lnTo>
                    <a:pt x="154" y="78"/>
                  </a:lnTo>
                  <a:lnTo>
                    <a:pt x="158" y="76"/>
                  </a:lnTo>
                  <a:lnTo>
                    <a:pt x="146" y="68"/>
                  </a:lnTo>
                  <a:lnTo>
                    <a:pt x="162" y="70"/>
                  </a:lnTo>
                  <a:lnTo>
                    <a:pt x="164" y="68"/>
                  </a:lnTo>
                  <a:lnTo>
                    <a:pt x="138" y="60"/>
                  </a:lnTo>
                  <a:lnTo>
                    <a:pt x="128" y="62"/>
                  </a:lnTo>
                  <a:lnTo>
                    <a:pt x="116" y="52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14" y="32"/>
                  </a:lnTo>
                  <a:lnTo>
                    <a:pt x="138" y="44"/>
                  </a:lnTo>
                  <a:lnTo>
                    <a:pt x="146" y="52"/>
                  </a:lnTo>
                  <a:lnTo>
                    <a:pt x="166" y="56"/>
                  </a:lnTo>
                  <a:lnTo>
                    <a:pt x="176" y="62"/>
                  </a:lnTo>
                  <a:lnTo>
                    <a:pt x="180" y="60"/>
                  </a:lnTo>
                  <a:lnTo>
                    <a:pt x="180" y="54"/>
                  </a:lnTo>
                  <a:lnTo>
                    <a:pt x="172" y="52"/>
                  </a:lnTo>
                  <a:lnTo>
                    <a:pt x="170" y="48"/>
                  </a:lnTo>
                  <a:lnTo>
                    <a:pt x="174" y="46"/>
                  </a:lnTo>
                  <a:lnTo>
                    <a:pt x="176" y="40"/>
                  </a:lnTo>
                  <a:lnTo>
                    <a:pt x="170" y="36"/>
                  </a:lnTo>
                  <a:lnTo>
                    <a:pt x="176" y="36"/>
                  </a:lnTo>
                  <a:lnTo>
                    <a:pt x="166" y="32"/>
                  </a:lnTo>
                  <a:lnTo>
                    <a:pt x="174" y="30"/>
                  </a:lnTo>
                  <a:lnTo>
                    <a:pt x="178" y="28"/>
                  </a:lnTo>
                  <a:lnTo>
                    <a:pt x="176" y="26"/>
                  </a:lnTo>
                  <a:lnTo>
                    <a:pt x="164" y="28"/>
                  </a:lnTo>
                  <a:lnTo>
                    <a:pt x="162" y="22"/>
                  </a:lnTo>
                  <a:lnTo>
                    <a:pt x="160" y="22"/>
                  </a:lnTo>
                  <a:lnTo>
                    <a:pt x="156" y="28"/>
                  </a:lnTo>
                  <a:lnTo>
                    <a:pt x="154" y="28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4" y="12"/>
                  </a:lnTo>
                  <a:lnTo>
                    <a:pt x="148" y="10"/>
                  </a:lnTo>
                  <a:lnTo>
                    <a:pt x="158" y="16"/>
                  </a:lnTo>
                  <a:lnTo>
                    <a:pt x="156" y="6"/>
                  </a:lnTo>
                  <a:lnTo>
                    <a:pt x="158" y="4"/>
                  </a:lnTo>
                  <a:lnTo>
                    <a:pt x="162" y="4"/>
                  </a:lnTo>
                  <a:lnTo>
                    <a:pt x="168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0" y="20"/>
                  </a:lnTo>
                  <a:lnTo>
                    <a:pt x="182" y="22"/>
                  </a:lnTo>
                  <a:lnTo>
                    <a:pt x="188" y="24"/>
                  </a:lnTo>
                  <a:lnTo>
                    <a:pt x="202" y="20"/>
                  </a:lnTo>
                  <a:lnTo>
                    <a:pt x="210" y="20"/>
                  </a:lnTo>
                  <a:lnTo>
                    <a:pt x="212" y="26"/>
                  </a:lnTo>
                  <a:lnTo>
                    <a:pt x="222" y="32"/>
                  </a:lnTo>
                  <a:lnTo>
                    <a:pt x="224" y="34"/>
                  </a:lnTo>
                  <a:lnTo>
                    <a:pt x="222" y="36"/>
                  </a:lnTo>
                  <a:lnTo>
                    <a:pt x="226" y="42"/>
                  </a:lnTo>
                  <a:lnTo>
                    <a:pt x="236" y="44"/>
                  </a:lnTo>
                  <a:lnTo>
                    <a:pt x="248" y="40"/>
                  </a:lnTo>
                  <a:lnTo>
                    <a:pt x="250" y="48"/>
                  </a:lnTo>
                  <a:lnTo>
                    <a:pt x="254" y="50"/>
                  </a:lnTo>
                  <a:lnTo>
                    <a:pt x="254" y="54"/>
                  </a:lnTo>
                  <a:lnTo>
                    <a:pt x="260" y="56"/>
                  </a:lnTo>
                  <a:lnTo>
                    <a:pt x="282" y="56"/>
                  </a:lnTo>
                  <a:lnTo>
                    <a:pt x="294" y="50"/>
                  </a:lnTo>
                  <a:lnTo>
                    <a:pt x="302" y="52"/>
                  </a:lnTo>
                  <a:lnTo>
                    <a:pt x="310" y="48"/>
                  </a:lnTo>
                  <a:lnTo>
                    <a:pt x="324" y="52"/>
                  </a:lnTo>
                  <a:lnTo>
                    <a:pt x="332" y="52"/>
                  </a:lnTo>
                  <a:lnTo>
                    <a:pt x="332" y="46"/>
                  </a:lnTo>
                  <a:lnTo>
                    <a:pt x="338" y="44"/>
                  </a:lnTo>
                  <a:lnTo>
                    <a:pt x="342" y="46"/>
                  </a:lnTo>
                  <a:lnTo>
                    <a:pt x="342" y="50"/>
                  </a:lnTo>
                  <a:lnTo>
                    <a:pt x="346" y="56"/>
                  </a:lnTo>
                  <a:lnTo>
                    <a:pt x="320" y="72"/>
                  </a:lnTo>
                  <a:lnTo>
                    <a:pt x="342" y="66"/>
                  </a:lnTo>
                  <a:lnTo>
                    <a:pt x="358" y="74"/>
                  </a:lnTo>
                  <a:lnTo>
                    <a:pt x="362" y="80"/>
                  </a:lnTo>
                  <a:lnTo>
                    <a:pt x="376" y="90"/>
                  </a:lnTo>
                  <a:lnTo>
                    <a:pt x="384" y="92"/>
                  </a:lnTo>
                  <a:lnTo>
                    <a:pt x="388" y="88"/>
                  </a:lnTo>
                  <a:lnTo>
                    <a:pt x="396" y="88"/>
                  </a:lnTo>
                  <a:lnTo>
                    <a:pt x="396" y="84"/>
                  </a:lnTo>
                  <a:lnTo>
                    <a:pt x="384" y="82"/>
                  </a:lnTo>
                  <a:lnTo>
                    <a:pt x="390" y="80"/>
                  </a:lnTo>
                  <a:lnTo>
                    <a:pt x="392" y="78"/>
                  </a:lnTo>
                  <a:lnTo>
                    <a:pt x="388" y="74"/>
                  </a:lnTo>
                  <a:lnTo>
                    <a:pt x="382" y="66"/>
                  </a:lnTo>
                  <a:lnTo>
                    <a:pt x="382" y="54"/>
                  </a:lnTo>
                  <a:lnTo>
                    <a:pt x="384" y="40"/>
                  </a:lnTo>
                  <a:lnTo>
                    <a:pt x="382" y="36"/>
                  </a:lnTo>
                  <a:lnTo>
                    <a:pt x="374" y="34"/>
                  </a:lnTo>
                  <a:lnTo>
                    <a:pt x="372" y="30"/>
                  </a:lnTo>
                  <a:lnTo>
                    <a:pt x="374" y="24"/>
                  </a:lnTo>
                  <a:lnTo>
                    <a:pt x="374" y="20"/>
                  </a:lnTo>
                  <a:lnTo>
                    <a:pt x="386" y="20"/>
                  </a:lnTo>
                  <a:lnTo>
                    <a:pt x="388" y="26"/>
                  </a:lnTo>
                  <a:lnTo>
                    <a:pt x="398" y="32"/>
                  </a:lnTo>
                  <a:lnTo>
                    <a:pt x="408" y="30"/>
                  </a:lnTo>
                  <a:lnTo>
                    <a:pt x="406" y="20"/>
                  </a:lnTo>
                  <a:lnTo>
                    <a:pt x="408" y="16"/>
                  </a:lnTo>
                  <a:lnTo>
                    <a:pt x="400" y="2"/>
                  </a:lnTo>
                  <a:lnTo>
                    <a:pt x="400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40560" y="4186080"/>
              <a:ext cx="38880" cy="76320"/>
            </a:xfrm>
            <a:custGeom>
              <a:avLst/>
              <a:gdLst/>
              <a:ahLst/>
              <a:rect l="l" t="t" r="r" b="b"/>
              <a:pathLst>
                <a:path w="222" h="446">
                  <a:moveTo>
                    <a:pt x="188" y="2"/>
                  </a:moveTo>
                  <a:lnTo>
                    <a:pt x="174" y="0"/>
                  </a:lnTo>
                  <a:lnTo>
                    <a:pt x="162" y="6"/>
                  </a:lnTo>
                  <a:lnTo>
                    <a:pt x="110" y="92"/>
                  </a:lnTo>
                  <a:lnTo>
                    <a:pt x="98" y="92"/>
                  </a:lnTo>
                  <a:lnTo>
                    <a:pt x="62" y="100"/>
                  </a:lnTo>
                  <a:lnTo>
                    <a:pt x="24" y="324"/>
                  </a:lnTo>
                  <a:lnTo>
                    <a:pt x="4" y="430"/>
                  </a:lnTo>
                  <a:lnTo>
                    <a:pt x="0" y="434"/>
                  </a:lnTo>
                  <a:lnTo>
                    <a:pt x="20" y="442"/>
                  </a:lnTo>
                  <a:lnTo>
                    <a:pt x="52" y="446"/>
                  </a:lnTo>
                  <a:lnTo>
                    <a:pt x="48" y="444"/>
                  </a:lnTo>
                  <a:lnTo>
                    <a:pt x="54" y="414"/>
                  </a:lnTo>
                  <a:lnTo>
                    <a:pt x="58" y="406"/>
                  </a:lnTo>
                  <a:lnTo>
                    <a:pt x="76" y="384"/>
                  </a:lnTo>
                  <a:lnTo>
                    <a:pt x="108" y="362"/>
                  </a:lnTo>
                  <a:lnTo>
                    <a:pt x="130" y="338"/>
                  </a:lnTo>
                  <a:lnTo>
                    <a:pt x="140" y="316"/>
                  </a:lnTo>
                  <a:lnTo>
                    <a:pt x="142" y="316"/>
                  </a:lnTo>
                  <a:lnTo>
                    <a:pt x="156" y="272"/>
                  </a:lnTo>
                  <a:lnTo>
                    <a:pt x="164" y="234"/>
                  </a:lnTo>
                  <a:lnTo>
                    <a:pt x="172" y="170"/>
                  </a:lnTo>
                  <a:lnTo>
                    <a:pt x="184" y="126"/>
                  </a:lnTo>
                  <a:lnTo>
                    <a:pt x="200" y="84"/>
                  </a:lnTo>
                  <a:lnTo>
                    <a:pt x="220" y="56"/>
                  </a:lnTo>
                  <a:lnTo>
                    <a:pt x="222" y="40"/>
                  </a:lnTo>
                  <a:lnTo>
                    <a:pt x="214" y="24"/>
                  </a:lnTo>
                  <a:lnTo>
                    <a:pt x="190" y="10"/>
                  </a:lnTo>
                  <a:lnTo>
                    <a:pt x="188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10680" y="4305600"/>
              <a:ext cx="56160" cy="39960"/>
            </a:xfrm>
            <a:custGeom>
              <a:avLst/>
              <a:gdLst/>
              <a:ahLst/>
              <a:rect l="l" t="t" r="r" b="b"/>
              <a:pathLst>
                <a:path w="320" h="228">
                  <a:moveTo>
                    <a:pt x="104" y="0"/>
                  </a:moveTo>
                  <a:lnTo>
                    <a:pt x="94" y="14"/>
                  </a:lnTo>
                  <a:lnTo>
                    <a:pt x="88" y="36"/>
                  </a:lnTo>
                  <a:lnTo>
                    <a:pt x="78" y="50"/>
                  </a:lnTo>
                  <a:lnTo>
                    <a:pt x="58" y="56"/>
                  </a:lnTo>
                  <a:lnTo>
                    <a:pt x="44" y="78"/>
                  </a:lnTo>
                  <a:lnTo>
                    <a:pt x="24" y="84"/>
                  </a:lnTo>
                  <a:lnTo>
                    <a:pt x="4" y="116"/>
                  </a:lnTo>
                  <a:lnTo>
                    <a:pt x="0" y="128"/>
                  </a:lnTo>
                  <a:lnTo>
                    <a:pt x="18" y="148"/>
                  </a:lnTo>
                  <a:lnTo>
                    <a:pt x="48" y="168"/>
                  </a:lnTo>
                  <a:lnTo>
                    <a:pt x="86" y="174"/>
                  </a:lnTo>
                  <a:lnTo>
                    <a:pt x="110" y="180"/>
                  </a:lnTo>
                  <a:lnTo>
                    <a:pt x="142" y="206"/>
                  </a:lnTo>
                  <a:lnTo>
                    <a:pt x="186" y="224"/>
                  </a:lnTo>
                  <a:lnTo>
                    <a:pt x="254" y="228"/>
                  </a:lnTo>
                  <a:lnTo>
                    <a:pt x="302" y="208"/>
                  </a:lnTo>
                  <a:lnTo>
                    <a:pt x="318" y="192"/>
                  </a:lnTo>
                  <a:lnTo>
                    <a:pt x="310" y="184"/>
                  </a:lnTo>
                  <a:lnTo>
                    <a:pt x="320" y="128"/>
                  </a:lnTo>
                  <a:lnTo>
                    <a:pt x="318" y="120"/>
                  </a:lnTo>
                  <a:lnTo>
                    <a:pt x="308" y="106"/>
                  </a:lnTo>
                  <a:lnTo>
                    <a:pt x="286" y="98"/>
                  </a:lnTo>
                  <a:lnTo>
                    <a:pt x="280" y="92"/>
                  </a:lnTo>
                  <a:lnTo>
                    <a:pt x="262" y="94"/>
                  </a:lnTo>
                  <a:lnTo>
                    <a:pt x="250" y="108"/>
                  </a:lnTo>
                  <a:lnTo>
                    <a:pt x="234" y="108"/>
                  </a:lnTo>
                  <a:lnTo>
                    <a:pt x="224" y="102"/>
                  </a:lnTo>
                  <a:lnTo>
                    <a:pt x="218" y="92"/>
                  </a:lnTo>
                  <a:lnTo>
                    <a:pt x="218" y="86"/>
                  </a:lnTo>
                  <a:lnTo>
                    <a:pt x="202" y="82"/>
                  </a:lnTo>
                  <a:lnTo>
                    <a:pt x="194" y="76"/>
                  </a:lnTo>
                  <a:lnTo>
                    <a:pt x="192" y="66"/>
                  </a:lnTo>
                  <a:lnTo>
                    <a:pt x="180" y="64"/>
                  </a:lnTo>
                  <a:lnTo>
                    <a:pt x="164" y="48"/>
                  </a:lnTo>
                  <a:lnTo>
                    <a:pt x="160" y="34"/>
                  </a:lnTo>
                  <a:lnTo>
                    <a:pt x="148" y="14"/>
                  </a:lnTo>
                  <a:lnTo>
                    <a:pt x="120" y="12"/>
                  </a:lnTo>
                  <a:lnTo>
                    <a:pt x="10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5760" bIns="-57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02840" y="4406760"/>
              <a:ext cx="79560" cy="85680"/>
            </a:xfrm>
            <a:custGeom>
              <a:avLst/>
              <a:gdLst/>
              <a:ahLst/>
              <a:rect l="l" t="t" r="r" b="b"/>
              <a:pathLst>
                <a:path w="454" h="502">
                  <a:moveTo>
                    <a:pt x="320" y="56"/>
                  </a:moveTo>
                  <a:lnTo>
                    <a:pt x="310" y="60"/>
                  </a:lnTo>
                  <a:lnTo>
                    <a:pt x="276" y="68"/>
                  </a:lnTo>
                  <a:lnTo>
                    <a:pt x="250" y="70"/>
                  </a:lnTo>
                  <a:lnTo>
                    <a:pt x="238" y="64"/>
                  </a:lnTo>
                  <a:lnTo>
                    <a:pt x="218" y="42"/>
                  </a:lnTo>
                  <a:lnTo>
                    <a:pt x="196" y="28"/>
                  </a:lnTo>
                  <a:lnTo>
                    <a:pt x="182" y="28"/>
                  </a:lnTo>
                  <a:lnTo>
                    <a:pt x="160" y="34"/>
                  </a:lnTo>
                  <a:lnTo>
                    <a:pt x="138" y="36"/>
                  </a:lnTo>
                  <a:lnTo>
                    <a:pt x="80" y="16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20" y="64"/>
                  </a:lnTo>
                  <a:lnTo>
                    <a:pt x="16" y="102"/>
                  </a:lnTo>
                  <a:lnTo>
                    <a:pt x="6" y="114"/>
                  </a:lnTo>
                  <a:lnTo>
                    <a:pt x="0" y="130"/>
                  </a:lnTo>
                  <a:lnTo>
                    <a:pt x="4" y="168"/>
                  </a:lnTo>
                  <a:lnTo>
                    <a:pt x="10" y="192"/>
                  </a:lnTo>
                  <a:lnTo>
                    <a:pt x="20" y="210"/>
                  </a:lnTo>
                  <a:lnTo>
                    <a:pt x="36" y="226"/>
                  </a:lnTo>
                  <a:lnTo>
                    <a:pt x="50" y="226"/>
                  </a:lnTo>
                  <a:lnTo>
                    <a:pt x="76" y="244"/>
                  </a:lnTo>
                  <a:lnTo>
                    <a:pt x="90" y="260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18" y="234"/>
                  </a:lnTo>
                  <a:lnTo>
                    <a:pt x="118" y="220"/>
                  </a:lnTo>
                  <a:lnTo>
                    <a:pt x="98" y="208"/>
                  </a:lnTo>
                  <a:lnTo>
                    <a:pt x="92" y="196"/>
                  </a:lnTo>
                  <a:lnTo>
                    <a:pt x="112" y="188"/>
                  </a:lnTo>
                  <a:lnTo>
                    <a:pt x="126" y="192"/>
                  </a:lnTo>
                  <a:lnTo>
                    <a:pt x="144" y="214"/>
                  </a:lnTo>
                  <a:lnTo>
                    <a:pt x="158" y="246"/>
                  </a:lnTo>
                  <a:lnTo>
                    <a:pt x="164" y="268"/>
                  </a:lnTo>
                  <a:lnTo>
                    <a:pt x="182" y="294"/>
                  </a:lnTo>
                  <a:lnTo>
                    <a:pt x="190" y="294"/>
                  </a:lnTo>
                  <a:lnTo>
                    <a:pt x="256" y="334"/>
                  </a:lnTo>
                  <a:lnTo>
                    <a:pt x="286" y="368"/>
                  </a:lnTo>
                  <a:lnTo>
                    <a:pt x="286" y="454"/>
                  </a:lnTo>
                  <a:lnTo>
                    <a:pt x="288" y="462"/>
                  </a:lnTo>
                  <a:lnTo>
                    <a:pt x="308" y="476"/>
                  </a:lnTo>
                  <a:lnTo>
                    <a:pt x="330" y="484"/>
                  </a:lnTo>
                  <a:lnTo>
                    <a:pt x="336" y="478"/>
                  </a:lnTo>
                  <a:lnTo>
                    <a:pt x="326" y="444"/>
                  </a:lnTo>
                  <a:lnTo>
                    <a:pt x="334" y="436"/>
                  </a:lnTo>
                  <a:lnTo>
                    <a:pt x="340" y="438"/>
                  </a:lnTo>
                  <a:lnTo>
                    <a:pt x="350" y="446"/>
                  </a:lnTo>
                  <a:lnTo>
                    <a:pt x="362" y="466"/>
                  </a:lnTo>
                  <a:lnTo>
                    <a:pt x="368" y="500"/>
                  </a:lnTo>
                  <a:lnTo>
                    <a:pt x="376" y="502"/>
                  </a:lnTo>
                  <a:lnTo>
                    <a:pt x="380" y="502"/>
                  </a:lnTo>
                  <a:lnTo>
                    <a:pt x="400" y="474"/>
                  </a:lnTo>
                  <a:lnTo>
                    <a:pt x="406" y="456"/>
                  </a:lnTo>
                  <a:lnTo>
                    <a:pt x="408" y="418"/>
                  </a:lnTo>
                  <a:lnTo>
                    <a:pt x="412" y="406"/>
                  </a:lnTo>
                  <a:lnTo>
                    <a:pt x="424" y="394"/>
                  </a:lnTo>
                  <a:lnTo>
                    <a:pt x="428" y="380"/>
                  </a:lnTo>
                  <a:lnTo>
                    <a:pt x="420" y="368"/>
                  </a:lnTo>
                  <a:lnTo>
                    <a:pt x="402" y="354"/>
                  </a:lnTo>
                  <a:lnTo>
                    <a:pt x="410" y="306"/>
                  </a:lnTo>
                  <a:lnTo>
                    <a:pt x="428" y="280"/>
                  </a:lnTo>
                  <a:lnTo>
                    <a:pt x="440" y="280"/>
                  </a:lnTo>
                  <a:lnTo>
                    <a:pt x="446" y="284"/>
                  </a:lnTo>
                  <a:lnTo>
                    <a:pt x="452" y="284"/>
                  </a:lnTo>
                  <a:lnTo>
                    <a:pt x="454" y="280"/>
                  </a:lnTo>
                  <a:lnTo>
                    <a:pt x="440" y="262"/>
                  </a:lnTo>
                  <a:lnTo>
                    <a:pt x="408" y="236"/>
                  </a:lnTo>
                  <a:lnTo>
                    <a:pt x="362" y="174"/>
                  </a:lnTo>
                  <a:lnTo>
                    <a:pt x="344" y="140"/>
                  </a:lnTo>
                  <a:lnTo>
                    <a:pt x="332" y="90"/>
                  </a:lnTo>
                  <a:lnTo>
                    <a:pt x="326" y="80"/>
                  </a:lnTo>
                  <a:lnTo>
                    <a:pt x="324" y="56"/>
                  </a:lnTo>
                  <a:lnTo>
                    <a:pt x="320" y="5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57080" y="4146120"/>
              <a:ext cx="6120" cy="288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2" y="0"/>
                  </a:moveTo>
                  <a:lnTo>
                    <a:pt x="18" y="0"/>
                  </a:lnTo>
                  <a:lnTo>
                    <a:pt x="30" y="12"/>
                  </a:lnTo>
                  <a:lnTo>
                    <a:pt x="26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4"/>
                  </a:lnTo>
                  <a:lnTo>
                    <a:pt x="8" y="4"/>
                  </a:lnTo>
                  <a:lnTo>
                    <a:pt x="1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43040" y="4179600"/>
              <a:ext cx="9360" cy="756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8" y="4"/>
                  </a:moveTo>
                  <a:lnTo>
                    <a:pt x="58" y="18"/>
                  </a:lnTo>
                  <a:lnTo>
                    <a:pt x="58" y="44"/>
                  </a:lnTo>
                  <a:lnTo>
                    <a:pt x="42" y="34"/>
                  </a:lnTo>
                  <a:lnTo>
                    <a:pt x="8" y="30"/>
                  </a:lnTo>
                  <a:lnTo>
                    <a:pt x="0" y="6"/>
                  </a:lnTo>
                  <a:lnTo>
                    <a:pt x="14" y="0"/>
                  </a:lnTo>
                  <a:lnTo>
                    <a:pt x="38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14960" y="4150440"/>
              <a:ext cx="70200" cy="58320"/>
            </a:xfrm>
            <a:custGeom>
              <a:avLst/>
              <a:gdLst/>
              <a:ahLst/>
              <a:rect l="l" t="t" r="r" b="b"/>
              <a:pathLst>
                <a:path w="410" h="334">
                  <a:moveTo>
                    <a:pt x="358" y="334"/>
                  </a:moveTo>
                  <a:lnTo>
                    <a:pt x="364" y="326"/>
                  </a:lnTo>
                  <a:lnTo>
                    <a:pt x="372" y="286"/>
                  </a:lnTo>
                  <a:lnTo>
                    <a:pt x="372" y="268"/>
                  </a:lnTo>
                  <a:lnTo>
                    <a:pt x="360" y="248"/>
                  </a:lnTo>
                  <a:lnTo>
                    <a:pt x="360" y="236"/>
                  </a:lnTo>
                  <a:lnTo>
                    <a:pt x="366" y="226"/>
                  </a:lnTo>
                  <a:lnTo>
                    <a:pt x="388" y="210"/>
                  </a:lnTo>
                  <a:lnTo>
                    <a:pt x="392" y="160"/>
                  </a:lnTo>
                  <a:lnTo>
                    <a:pt x="404" y="150"/>
                  </a:lnTo>
                  <a:lnTo>
                    <a:pt x="410" y="132"/>
                  </a:lnTo>
                  <a:lnTo>
                    <a:pt x="400" y="116"/>
                  </a:lnTo>
                  <a:lnTo>
                    <a:pt x="410" y="74"/>
                  </a:lnTo>
                  <a:lnTo>
                    <a:pt x="408" y="50"/>
                  </a:lnTo>
                  <a:lnTo>
                    <a:pt x="398" y="28"/>
                  </a:lnTo>
                  <a:lnTo>
                    <a:pt x="400" y="24"/>
                  </a:lnTo>
                  <a:lnTo>
                    <a:pt x="396" y="24"/>
                  </a:lnTo>
                  <a:lnTo>
                    <a:pt x="378" y="36"/>
                  </a:lnTo>
                  <a:lnTo>
                    <a:pt x="318" y="38"/>
                  </a:lnTo>
                  <a:lnTo>
                    <a:pt x="304" y="32"/>
                  </a:lnTo>
                  <a:lnTo>
                    <a:pt x="288" y="16"/>
                  </a:lnTo>
                  <a:lnTo>
                    <a:pt x="266" y="6"/>
                  </a:lnTo>
                  <a:lnTo>
                    <a:pt x="236" y="0"/>
                  </a:lnTo>
                  <a:lnTo>
                    <a:pt x="196" y="8"/>
                  </a:lnTo>
                  <a:lnTo>
                    <a:pt x="178" y="18"/>
                  </a:lnTo>
                  <a:lnTo>
                    <a:pt x="168" y="32"/>
                  </a:lnTo>
                  <a:lnTo>
                    <a:pt x="168" y="52"/>
                  </a:lnTo>
                  <a:lnTo>
                    <a:pt x="176" y="56"/>
                  </a:lnTo>
                  <a:lnTo>
                    <a:pt x="228" y="58"/>
                  </a:lnTo>
                  <a:lnTo>
                    <a:pt x="246" y="72"/>
                  </a:lnTo>
                  <a:lnTo>
                    <a:pt x="250" y="90"/>
                  </a:lnTo>
                  <a:lnTo>
                    <a:pt x="240" y="156"/>
                  </a:lnTo>
                  <a:lnTo>
                    <a:pt x="242" y="172"/>
                  </a:lnTo>
                  <a:lnTo>
                    <a:pt x="268" y="204"/>
                  </a:lnTo>
                  <a:lnTo>
                    <a:pt x="288" y="218"/>
                  </a:lnTo>
                  <a:lnTo>
                    <a:pt x="288" y="234"/>
                  </a:lnTo>
                  <a:lnTo>
                    <a:pt x="278" y="242"/>
                  </a:lnTo>
                  <a:lnTo>
                    <a:pt x="262" y="242"/>
                  </a:lnTo>
                  <a:lnTo>
                    <a:pt x="232" y="250"/>
                  </a:lnTo>
                  <a:lnTo>
                    <a:pt x="170" y="250"/>
                  </a:lnTo>
                  <a:lnTo>
                    <a:pt x="120" y="244"/>
                  </a:lnTo>
                  <a:lnTo>
                    <a:pt x="88" y="230"/>
                  </a:lnTo>
                  <a:lnTo>
                    <a:pt x="8" y="230"/>
                  </a:lnTo>
                  <a:lnTo>
                    <a:pt x="2" y="236"/>
                  </a:lnTo>
                  <a:lnTo>
                    <a:pt x="0" y="254"/>
                  </a:lnTo>
                  <a:lnTo>
                    <a:pt x="16" y="286"/>
                  </a:lnTo>
                  <a:lnTo>
                    <a:pt x="52" y="306"/>
                  </a:lnTo>
                  <a:lnTo>
                    <a:pt x="64" y="324"/>
                  </a:lnTo>
                  <a:lnTo>
                    <a:pt x="74" y="320"/>
                  </a:lnTo>
                  <a:lnTo>
                    <a:pt x="74" y="304"/>
                  </a:lnTo>
                  <a:lnTo>
                    <a:pt x="84" y="296"/>
                  </a:lnTo>
                  <a:lnTo>
                    <a:pt x="96" y="290"/>
                  </a:lnTo>
                  <a:lnTo>
                    <a:pt x="108" y="290"/>
                  </a:lnTo>
                  <a:lnTo>
                    <a:pt x="146" y="292"/>
                  </a:lnTo>
                  <a:lnTo>
                    <a:pt x="218" y="316"/>
                  </a:lnTo>
                  <a:lnTo>
                    <a:pt x="236" y="314"/>
                  </a:lnTo>
                  <a:lnTo>
                    <a:pt x="284" y="300"/>
                  </a:lnTo>
                  <a:lnTo>
                    <a:pt x="302" y="300"/>
                  </a:lnTo>
                  <a:lnTo>
                    <a:pt x="320" y="306"/>
                  </a:lnTo>
                  <a:lnTo>
                    <a:pt x="332" y="314"/>
                  </a:lnTo>
                  <a:lnTo>
                    <a:pt x="344" y="318"/>
                  </a:lnTo>
                  <a:lnTo>
                    <a:pt x="358" y="328"/>
                  </a:lnTo>
                  <a:lnTo>
                    <a:pt x="358" y="33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2600" bIns="12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94800" y="4590720"/>
              <a:ext cx="964800" cy="1136160"/>
            </a:xfrm>
            <a:custGeom>
              <a:avLst/>
              <a:gdLst/>
              <a:ahLst/>
              <a:rect l="l" t="t" r="r" b="b"/>
              <a:pathLst>
                <a:path w="5558" h="6658">
                  <a:moveTo>
                    <a:pt x="1872" y="8"/>
                  </a:moveTo>
                  <a:lnTo>
                    <a:pt x="1870" y="48"/>
                  </a:lnTo>
                  <a:lnTo>
                    <a:pt x="1842" y="88"/>
                  </a:lnTo>
                  <a:lnTo>
                    <a:pt x="1822" y="110"/>
                  </a:lnTo>
                  <a:lnTo>
                    <a:pt x="1812" y="114"/>
                  </a:lnTo>
                  <a:lnTo>
                    <a:pt x="1770" y="118"/>
                  </a:lnTo>
                  <a:lnTo>
                    <a:pt x="1754" y="130"/>
                  </a:lnTo>
                  <a:lnTo>
                    <a:pt x="1730" y="142"/>
                  </a:lnTo>
                  <a:lnTo>
                    <a:pt x="1712" y="170"/>
                  </a:lnTo>
                  <a:lnTo>
                    <a:pt x="1700" y="176"/>
                  </a:lnTo>
                  <a:lnTo>
                    <a:pt x="1624" y="186"/>
                  </a:lnTo>
                  <a:lnTo>
                    <a:pt x="1584" y="194"/>
                  </a:lnTo>
                  <a:lnTo>
                    <a:pt x="1536" y="214"/>
                  </a:lnTo>
                  <a:lnTo>
                    <a:pt x="1528" y="230"/>
                  </a:lnTo>
                  <a:lnTo>
                    <a:pt x="1520" y="232"/>
                  </a:lnTo>
                  <a:lnTo>
                    <a:pt x="1460" y="228"/>
                  </a:lnTo>
                  <a:lnTo>
                    <a:pt x="1412" y="210"/>
                  </a:lnTo>
                  <a:lnTo>
                    <a:pt x="1356" y="172"/>
                  </a:lnTo>
                  <a:lnTo>
                    <a:pt x="1298" y="164"/>
                  </a:lnTo>
                  <a:lnTo>
                    <a:pt x="1282" y="156"/>
                  </a:lnTo>
                  <a:lnTo>
                    <a:pt x="1270" y="156"/>
                  </a:lnTo>
                  <a:lnTo>
                    <a:pt x="1268" y="158"/>
                  </a:lnTo>
                  <a:lnTo>
                    <a:pt x="1270" y="188"/>
                  </a:lnTo>
                  <a:lnTo>
                    <a:pt x="1280" y="216"/>
                  </a:lnTo>
                  <a:lnTo>
                    <a:pt x="1306" y="230"/>
                  </a:lnTo>
                  <a:lnTo>
                    <a:pt x="1340" y="254"/>
                  </a:lnTo>
                  <a:lnTo>
                    <a:pt x="1344" y="262"/>
                  </a:lnTo>
                  <a:lnTo>
                    <a:pt x="1342" y="300"/>
                  </a:lnTo>
                  <a:lnTo>
                    <a:pt x="1332" y="342"/>
                  </a:lnTo>
                  <a:lnTo>
                    <a:pt x="1330" y="360"/>
                  </a:lnTo>
                  <a:lnTo>
                    <a:pt x="1332" y="380"/>
                  </a:lnTo>
                  <a:lnTo>
                    <a:pt x="1344" y="434"/>
                  </a:lnTo>
                  <a:lnTo>
                    <a:pt x="1346" y="460"/>
                  </a:lnTo>
                  <a:lnTo>
                    <a:pt x="1352" y="480"/>
                  </a:lnTo>
                  <a:lnTo>
                    <a:pt x="1390" y="486"/>
                  </a:lnTo>
                  <a:lnTo>
                    <a:pt x="1398" y="492"/>
                  </a:lnTo>
                  <a:lnTo>
                    <a:pt x="1464" y="486"/>
                  </a:lnTo>
                  <a:lnTo>
                    <a:pt x="1464" y="514"/>
                  </a:lnTo>
                  <a:lnTo>
                    <a:pt x="1462" y="518"/>
                  </a:lnTo>
                  <a:lnTo>
                    <a:pt x="1456" y="528"/>
                  </a:lnTo>
                  <a:lnTo>
                    <a:pt x="1426" y="536"/>
                  </a:lnTo>
                  <a:lnTo>
                    <a:pt x="1408" y="548"/>
                  </a:lnTo>
                  <a:lnTo>
                    <a:pt x="1404" y="554"/>
                  </a:lnTo>
                  <a:lnTo>
                    <a:pt x="1390" y="564"/>
                  </a:lnTo>
                  <a:lnTo>
                    <a:pt x="1370" y="566"/>
                  </a:lnTo>
                  <a:lnTo>
                    <a:pt x="1354" y="586"/>
                  </a:lnTo>
                  <a:lnTo>
                    <a:pt x="1340" y="634"/>
                  </a:lnTo>
                  <a:lnTo>
                    <a:pt x="1330" y="644"/>
                  </a:lnTo>
                  <a:lnTo>
                    <a:pt x="1314" y="652"/>
                  </a:lnTo>
                  <a:lnTo>
                    <a:pt x="1304" y="652"/>
                  </a:lnTo>
                  <a:lnTo>
                    <a:pt x="1288" y="662"/>
                  </a:lnTo>
                  <a:lnTo>
                    <a:pt x="1282" y="666"/>
                  </a:lnTo>
                  <a:lnTo>
                    <a:pt x="1274" y="680"/>
                  </a:lnTo>
                  <a:lnTo>
                    <a:pt x="1252" y="682"/>
                  </a:lnTo>
                  <a:lnTo>
                    <a:pt x="1220" y="696"/>
                  </a:lnTo>
                  <a:lnTo>
                    <a:pt x="1214" y="696"/>
                  </a:lnTo>
                  <a:lnTo>
                    <a:pt x="1194" y="710"/>
                  </a:lnTo>
                  <a:lnTo>
                    <a:pt x="1172" y="720"/>
                  </a:lnTo>
                  <a:lnTo>
                    <a:pt x="1158" y="730"/>
                  </a:lnTo>
                  <a:lnTo>
                    <a:pt x="1140" y="754"/>
                  </a:lnTo>
                  <a:lnTo>
                    <a:pt x="1132" y="758"/>
                  </a:lnTo>
                  <a:lnTo>
                    <a:pt x="1084" y="770"/>
                  </a:lnTo>
                  <a:lnTo>
                    <a:pt x="1040" y="770"/>
                  </a:lnTo>
                  <a:lnTo>
                    <a:pt x="1034" y="766"/>
                  </a:lnTo>
                  <a:lnTo>
                    <a:pt x="1028" y="766"/>
                  </a:lnTo>
                  <a:lnTo>
                    <a:pt x="996" y="738"/>
                  </a:lnTo>
                  <a:lnTo>
                    <a:pt x="986" y="726"/>
                  </a:lnTo>
                  <a:lnTo>
                    <a:pt x="976" y="712"/>
                  </a:lnTo>
                  <a:lnTo>
                    <a:pt x="970" y="696"/>
                  </a:lnTo>
                  <a:lnTo>
                    <a:pt x="958" y="672"/>
                  </a:lnTo>
                  <a:lnTo>
                    <a:pt x="954" y="680"/>
                  </a:lnTo>
                  <a:lnTo>
                    <a:pt x="926" y="696"/>
                  </a:lnTo>
                  <a:lnTo>
                    <a:pt x="912" y="604"/>
                  </a:lnTo>
                  <a:lnTo>
                    <a:pt x="890" y="568"/>
                  </a:lnTo>
                  <a:lnTo>
                    <a:pt x="878" y="554"/>
                  </a:lnTo>
                  <a:lnTo>
                    <a:pt x="850" y="554"/>
                  </a:lnTo>
                  <a:lnTo>
                    <a:pt x="800" y="582"/>
                  </a:lnTo>
                  <a:lnTo>
                    <a:pt x="794" y="582"/>
                  </a:lnTo>
                  <a:lnTo>
                    <a:pt x="784" y="564"/>
                  </a:lnTo>
                  <a:lnTo>
                    <a:pt x="774" y="556"/>
                  </a:lnTo>
                  <a:lnTo>
                    <a:pt x="766" y="556"/>
                  </a:lnTo>
                  <a:lnTo>
                    <a:pt x="758" y="570"/>
                  </a:lnTo>
                  <a:lnTo>
                    <a:pt x="754" y="592"/>
                  </a:lnTo>
                  <a:lnTo>
                    <a:pt x="744" y="602"/>
                  </a:lnTo>
                  <a:lnTo>
                    <a:pt x="536" y="600"/>
                  </a:lnTo>
                  <a:lnTo>
                    <a:pt x="532" y="598"/>
                  </a:lnTo>
                  <a:lnTo>
                    <a:pt x="532" y="702"/>
                  </a:lnTo>
                  <a:lnTo>
                    <a:pt x="534" y="702"/>
                  </a:lnTo>
                  <a:lnTo>
                    <a:pt x="534" y="710"/>
                  </a:lnTo>
                  <a:lnTo>
                    <a:pt x="544" y="714"/>
                  </a:lnTo>
                  <a:lnTo>
                    <a:pt x="550" y="726"/>
                  </a:lnTo>
                  <a:lnTo>
                    <a:pt x="570" y="726"/>
                  </a:lnTo>
                  <a:lnTo>
                    <a:pt x="578" y="720"/>
                  </a:lnTo>
                  <a:lnTo>
                    <a:pt x="602" y="716"/>
                  </a:lnTo>
                  <a:lnTo>
                    <a:pt x="616" y="738"/>
                  </a:lnTo>
                  <a:lnTo>
                    <a:pt x="620" y="762"/>
                  </a:lnTo>
                  <a:lnTo>
                    <a:pt x="630" y="794"/>
                  </a:lnTo>
                  <a:lnTo>
                    <a:pt x="628" y="798"/>
                  </a:lnTo>
                  <a:lnTo>
                    <a:pt x="614" y="800"/>
                  </a:lnTo>
                  <a:lnTo>
                    <a:pt x="612" y="796"/>
                  </a:lnTo>
                  <a:lnTo>
                    <a:pt x="602" y="788"/>
                  </a:lnTo>
                  <a:lnTo>
                    <a:pt x="576" y="784"/>
                  </a:lnTo>
                  <a:lnTo>
                    <a:pt x="556" y="794"/>
                  </a:lnTo>
                  <a:lnTo>
                    <a:pt x="514" y="802"/>
                  </a:lnTo>
                  <a:lnTo>
                    <a:pt x="500" y="810"/>
                  </a:lnTo>
                  <a:lnTo>
                    <a:pt x="500" y="928"/>
                  </a:lnTo>
                  <a:lnTo>
                    <a:pt x="512" y="946"/>
                  </a:lnTo>
                  <a:lnTo>
                    <a:pt x="544" y="978"/>
                  </a:lnTo>
                  <a:lnTo>
                    <a:pt x="560" y="998"/>
                  </a:lnTo>
                  <a:lnTo>
                    <a:pt x="574" y="1028"/>
                  </a:lnTo>
                  <a:lnTo>
                    <a:pt x="592" y="1120"/>
                  </a:lnTo>
                  <a:lnTo>
                    <a:pt x="592" y="1140"/>
                  </a:lnTo>
                  <a:lnTo>
                    <a:pt x="588" y="1168"/>
                  </a:lnTo>
                  <a:lnTo>
                    <a:pt x="564" y="1368"/>
                  </a:lnTo>
                  <a:lnTo>
                    <a:pt x="560" y="1374"/>
                  </a:lnTo>
                  <a:lnTo>
                    <a:pt x="552" y="1428"/>
                  </a:lnTo>
                  <a:lnTo>
                    <a:pt x="544" y="1454"/>
                  </a:lnTo>
                  <a:lnTo>
                    <a:pt x="542" y="1494"/>
                  </a:lnTo>
                  <a:lnTo>
                    <a:pt x="538" y="1504"/>
                  </a:lnTo>
                  <a:lnTo>
                    <a:pt x="536" y="1530"/>
                  </a:lnTo>
                  <a:lnTo>
                    <a:pt x="532" y="1576"/>
                  </a:lnTo>
                  <a:lnTo>
                    <a:pt x="526" y="1594"/>
                  </a:lnTo>
                  <a:lnTo>
                    <a:pt x="522" y="1618"/>
                  </a:lnTo>
                  <a:lnTo>
                    <a:pt x="520" y="1626"/>
                  </a:lnTo>
                  <a:lnTo>
                    <a:pt x="504" y="1638"/>
                  </a:lnTo>
                  <a:lnTo>
                    <a:pt x="450" y="1632"/>
                  </a:lnTo>
                  <a:lnTo>
                    <a:pt x="416" y="1650"/>
                  </a:lnTo>
                  <a:lnTo>
                    <a:pt x="286" y="1696"/>
                  </a:lnTo>
                  <a:lnTo>
                    <a:pt x="238" y="1722"/>
                  </a:lnTo>
                  <a:lnTo>
                    <a:pt x="196" y="1754"/>
                  </a:lnTo>
                  <a:lnTo>
                    <a:pt x="170" y="1784"/>
                  </a:lnTo>
                  <a:lnTo>
                    <a:pt x="136" y="1834"/>
                  </a:lnTo>
                  <a:lnTo>
                    <a:pt x="116" y="1872"/>
                  </a:lnTo>
                  <a:lnTo>
                    <a:pt x="96" y="1924"/>
                  </a:lnTo>
                  <a:lnTo>
                    <a:pt x="90" y="1942"/>
                  </a:lnTo>
                  <a:lnTo>
                    <a:pt x="94" y="2038"/>
                  </a:lnTo>
                  <a:lnTo>
                    <a:pt x="72" y="2042"/>
                  </a:lnTo>
                  <a:lnTo>
                    <a:pt x="48" y="2050"/>
                  </a:lnTo>
                  <a:lnTo>
                    <a:pt x="38" y="2064"/>
                  </a:lnTo>
                  <a:lnTo>
                    <a:pt x="30" y="2120"/>
                  </a:lnTo>
                  <a:lnTo>
                    <a:pt x="4" y="2190"/>
                  </a:lnTo>
                  <a:lnTo>
                    <a:pt x="0" y="2202"/>
                  </a:lnTo>
                  <a:lnTo>
                    <a:pt x="0" y="2214"/>
                  </a:lnTo>
                  <a:lnTo>
                    <a:pt x="36" y="2288"/>
                  </a:lnTo>
                  <a:lnTo>
                    <a:pt x="42" y="2328"/>
                  </a:lnTo>
                  <a:lnTo>
                    <a:pt x="46" y="2336"/>
                  </a:lnTo>
                  <a:lnTo>
                    <a:pt x="72" y="2370"/>
                  </a:lnTo>
                  <a:lnTo>
                    <a:pt x="84" y="2394"/>
                  </a:lnTo>
                  <a:lnTo>
                    <a:pt x="118" y="2438"/>
                  </a:lnTo>
                  <a:lnTo>
                    <a:pt x="146" y="2456"/>
                  </a:lnTo>
                  <a:lnTo>
                    <a:pt x="148" y="2482"/>
                  </a:lnTo>
                  <a:lnTo>
                    <a:pt x="136" y="2514"/>
                  </a:lnTo>
                  <a:lnTo>
                    <a:pt x="138" y="2528"/>
                  </a:lnTo>
                  <a:lnTo>
                    <a:pt x="172" y="2538"/>
                  </a:lnTo>
                  <a:lnTo>
                    <a:pt x="224" y="2542"/>
                  </a:lnTo>
                  <a:lnTo>
                    <a:pt x="238" y="2550"/>
                  </a:lnTo>
                  <a:lnTo>
                    <a:pt x="246" y="2566"/>
                  </a:lnTo>
                  <a:lnTo>
                    <a:pt x="256" y="2602"/>
                  </a:lnTo>
                  <a:lnTo>
                    <a:pt x="266" y="2612"/>
                  </a:lnTo>
                  <a:lnTo>
                    <a:pt x="302" y="2626"/>
                  </a:lnTo>
                  <a:lnTo>
                    <a:pt x="340" y="2628"/>
                  </a:lnTo>
                  <a:lnTo>
                    <a:pt x="362" y="2622"/>
                  </a:lnTo>
                  <a:lnTo>
                    <a:pt x="404" y="2594"/>
                  </a:lnTo>
                  <a:lnTo>
                    <a:pt x="458" y="2540"/>
                  </a:lnTo>
                  <a:lnTo>
                    <a:pt x="482" y="2512"/>
                  </a:lnTo>
                  <a:lnTo>
                    <a:pt x="488" y="2506"/>
                  </a:lnTo>
                  <a:lnTo>
                    <a:pt x="492" y="2514"/>
                  </a:lnTo>
                  <a:lnTo>
                    <a:pt x="504" y="2686"/>
                  </a:lnTo>
                  <a:lnTo>
                    <a:pt x="502" y="2696"/>
                  </a:lnTo>
                  <a:lnTo>
                    <a:pt x="510" y="2788"/>
                  </a:lnTo>
                  <a:lnTo>
                    <a:pt x="518" y="2800"/>
                  </a:lnTo>
                  <a:lnTo>
                    <a:pt x="536" y="2810"/>
                  </a:lnTo>
                  <a:lnTo>
                    <a:pt x="546" y="2810"/>
                  </a:lnTo>
                  <a:lnTo>
                    <a:pt x="566" y="2804"/>
                  </a:lnTo>
                  <a:lnTo>
                    <a:pt x="566" y="2802"/>
                  </a:lnTo>
                  <a:lnTo>
                    <a:pt x="584" y="2792"/>
                  </a:lnTo>
                  <a:lnTo>
                    <a:pt x="628" y="2786"/>
                  </a:lnTo>
                  <a:lnTo>
                    <a:pt x="634" y="2780"/>
                  </a:lnTo>
                  <a:lnTo>
                    <a:pt x="654" y="2780"/>
                  </a:lnTo>
                  <a:lnTo>
                    <a:pt x="702" y="2798"/>
                  </a:lnTo>
                  <a:lnTo>
                    <a:pt x="808" y="2802"/>
                  </a:lnTo>
                  <a:lnTo>
                    <a:pt x="830" y="2790"/>
                  </a:lnTo>
                  <a:lnTo>
                    <a:pt x="842" y="2778"/>
                  </a:lnTo>
                  <a:lnTo>
                    <a:pt x="908" y="2750"/>
                  </a:lnTo>
                  <a:lnTo>
                    <a:pt x="926" y="2736"/>
                  </a:lnTo>
                  <a:lnTo>
                    <a:pt x="984" y="2666"/>
                  </a:lnTo>
                  <a:lnTo>
                    <a:pt x="1024" y="2604"/>
                  </a:lnTo>
                  <a:lnTo>
                    <a:pt x="1038" y="2588"/>
                  </a:lnTo>
                  <a:lnTo>
                    <a:pt x="1078" y="2574"/>
                  </a:lnTo>
                  <a:lnTo>
                    <a:pt x="1096" y="2574"/>
                  </a:lnTo>
                  <a:lnTo>
                    <a:pt x="1164" y="2562"/>
                  </a:lnTo>
                  <a:lnTo>
                    <a:pt x="1212" y="2564"/>
                  </a:lnTo>
                  <a:lnTo>
                    <a:pt x="1224" y="2574"/>
                  </a:lnTo>
                  <a:lnTo>
                    <a:pt x="1236" y="2594"/>
                  </a:lnTo>
                  <a:lnTo>
                    <a:pt x="1246" y="2650"/>
                  </a:lnTo>
                  <a:lnTo>
                    <a:pt x="1254" y="2748"/>
                  </a:lnTo>
                  <a:lnTo>
                    <a:pt x="1252" y="2780"/>
                  </a:lnTo>
                  <a:lnTo>
                    <a:pt x="1242" y="2802"/>
                  </a:lnTo>
                  <a:lnTo>
                    <a:pt x="1238" y="2814"/>
                  </a:lnTo>
                  <a:lnTo>
                    <a:pt x="1238" y="2838"/>
                  </a:lnTo>
                  <a:lnTo>
                    <a:pt x="1260" y="2910"/>
                  </a:lnTo>
                  <a:lnTo>
                    <a:pt x="1284" y="2948"/>
                  </a:lnTo>
                  <a:lnTo>
                    <a:pt x="1304" y="2970"/>
                  </a:lnTo>
                  <a:lnTo>
                    <a:pt x="1382" y="3030"/>
                  </a:lnTo>
                  <a:lnTo>
                    <a:pt x="1414" y="3040"/>
                  </a:lnTo>
                  <a:lnTo>
                    <a:pt x="1458" y="3046"/>
                  </a:lnTo>
                  <a:lnTo>
                    <a:pt x="1510" y="3046"/>
                  </a:lnTo>
                  <a:lnTo>
                    <a:pt x="1552" y="3056"/>
                  </a:lnTo>
                  <a:lnTo>
                    <a:pt x="1568" y="3074"/>
                  </a:lnTo>
                  <a:lnTo>
                    <a:pt x="1576" y="3088"/>
                  </a:lnTo>
                  <a:lnTo>
                    <a:pt x="1596" y="3114"/>
                  </a:lnTo>
                  <a:lnTo>
                    <a:pt x="1616" y="3124"/>
                  </a:lnTo>
                  <a:lnTo>
                    <a:pt x="1718" y="3152"/>
                  </a:lnTo>
                  <a:lnTo>
                    <a:pt x="1762" y="3196"/>
                  </a:lnTo>
                  <a:lnTo>
                    <a:pt x="1778" y="3208"/>
                  </a:lnTo>
                  <a:lnTo>
                    <a:pt x="1802" y="3208"/>
                  </a:lnTo>
                  <a:lnTo>
                    <a:pt x="1828" y="3200"/>
                  </a:lnTo>
                  <a:lnTo>
                    <a:pt x="1840" y="3200"/>
                  </a:lnTo>
                  <a:lnTo>
                    <a:pt x="1872" y="3206"/>
                  </a:lnTo>
                  <a:lnTo>
                    <a:pt x="1926" y="3242"/>
                  </a:lnTo>
                  <a:lnTo>
                    <a:pt x="1946" y="3258"/>
                  </a:lnTo>
                  <a:lnTo>
                    <a:pt x="1966" y="3288"/>
                  </a:lnTo>
                  <a:lnTo>
                    <a:pt x="1982" y="3334"/>
                  </a:lnTo>
                  <a:lnTo>
                    <a:pt x="1990" y="3378"/>
                  </a:lnTo>
                  <a:lnTo>
                    <a:pt x="2000" y="3406"/>
                  </a:lnTo>
                  <a:lnTo>
                    <a:pt x="2012" y="3422"/>
                  </a:lnTo>
                  <a:lnTo>
                    <a:pt x="2014" y="3448"/>
                  </a:lnTo>
                  <a:lnTo>
                    <a:pt x="2014" y="3498"/>
                  </a:lnTo>
                  <a:lnTo>
                    <a:pt x="1992" y="3502"/>
                  </a:lnTo>
                  <a:lnTo>
                    <a:pt x="1994" y="3516"/>
                  </a:lnTo>
                  <a:lnTo>
                    <a:pt x="1998" y="3530"/>
                  </a:lnTo>
                  <a:lnTo>
                    <a:pt x="2018" y="3580"/>
                  </a:lnTo>
                  <a:lnTo>
                    <a:pt x="2042" y="3646"/>
                  </a:lnTo>
                  <a:lnTo>
                    <a:pt x="2064" y="3684"/>
                  </a:lnTo>
                  <a:lnTo>
                    <a:pt x="2102" y="3684"/>
                  </a:lnTo>
                  <a:lnTo>
                    <a:pt x="2130" y="3690"/>
                  </a:lnTo>
                  <a:lnTo>
                    <a:pt x="2164" y="3688"/>
                  </a:lnTo>
                  <a:lnTo>
                    <a:pt x="2180" y="3694"/>
                  </a:lnTo>
                  <a:lnTo>
                    <a:pt x="2290" y="3694"/>
                  </a:lnTo>
                  <a:lnTo>
                    <a:pt x="2302" y="3698"/>
                  </a:lnTo>
                  <a:lnTo>
                    <a:pt x="2310" y="3704"/>
                  </a:lnTo>
                  <a:lnTo>
                    <a:pt x="2314" y="3718"/>
                  </a:lnTo>
                  <a:lnTo>
                    <a:pt x="2314" y="3748"/>
                  </a:lnTo>
                  <a:lnTo>
                    <a:pt x="2308" y="3774"/>
                  </a:lnTo>
                  <a:lnTo>
                    <a:pt x="2310" y="3792"/>
                  </a:lnTo>
                  <a:lnTo>
                    <a:pt x="2328" y="3850"/>
                  </a:lnTo>
                  <a:lnTo>
                    <a:pt x="2376" y="3870"/>
                  </a:lnTo>
                  <a:lnTo>
                    <a:pt x="2382" y="3876"/>
                  </a:lnTo>
                  <a:lnTo>
                    <a:pt x="2398" y="3920"/>
                  </a:lnTo>
                  <a:lnTo>
                    <a:pt x="2432" y="3974"/>
                  </a:lnTo>
                  <a:lnTo>
                    <a:pt x="2440" y="4002"/>
                  </a:lnTo>
                  <a:lnTo>
                    <a:pt x="2448" y="4074"/>
                  </a:lnTo>
                  <a:lnTo>
                    <a:pt x="2456" y="4164"/>
                  </a:lnTo>
                  <a:lnTo>
                    <a:pt x="2454" y="4174"/>
                  </a:lnTo>
                  <a:lnTo>
                    <a:pt x="2444" y="4204"/>
                  </a:lnTo>
                  <a:lnTo>
                    <a:pt x="2434" y="4240"/>
                  </a:lnTo>
                  <a:lnTo>
                    <a:pt x="2434" y="4258"/>
                  </a:lnTo>
                  <a:lnTo>
                    <a:pt x="2436" y="4278"/>
                  </a:lnTo>
                  <a:lnTo>
                    <a:pt x="2444" y="4294"/>
                  </a:lnTo>
                  <a:lnTo>
                    <a:pt x="2450" y="4328"/>
                  </a:lnTo>
                  <a:lnTo>
                    <a:pt x="2448" y="4334"/>
                  </a:lnTo>
                  <a:lnTo>
                    <a:pt x="2428" y="4340"/>
                  </a:lnTo>
                  <a:lnTo>
                    <a:pt x="2428" y="4344"/>
                  </a:lnTo>
                  <a:lnTo>
                    <a:pt x="2424" y="4358"/>
                  </a:lnTo>
                  <a:lnTo>
                    <a:pt x="2424" y="4366"/>
                  </a:lnTo>
                  <a:lnTo>
                    <a:pt x="2450" y="4406"/>
                  </a:lnTo>
                  <a:lnTo>
                    <a:pt x="2454" y="4414"/>
                  </a:lnTo>
                  <a:lnTo>
                    <a:pt x="2472" y="4552"/>
                  </a:lnTo>
                  <a:lnTo>
                    <a:pt x="2484" y="4650"/>
                  </a:lnTo>
                  <a:lnTo>
                    <a:pt x="2498" y="4674"/>
                  </a:lnTo>
                  <a:lnTo>
                    <a:pt x="2512" y="4682"/>
                  </a:lnTo>
                  <a:lnTo>
                    <a:pt x="2552" y="4692"/>
                  </a:lnTo>
                  <a:lnTo>
                    <a:pt x="2574" y="4702"/>
                  </a:lnTo>
                  <a:lnTo>
                    <a:pt x="2616" y="4710"/>
                  </a:lnTo>
                  <a:lnTo>
                    <a:pt x="2646" y="4710"/>
                  </a:lnTo>
                  <a:lnTo>
                    <a:pt x="2680" y="4704"/>
                  </a:lnTo>
                  <a:lnTo>
                    <a:pt x="2690" y="4696"/>
                  </a:lnTo>
                  <a:lnTo>
                    <a:pt x="2710" y="4688"/>
                  </a:lnTo>
                  <a:lnTo>
                    <a:pt x="2728" y="4700"/>
                  </a:lnTo>
                  <a:lnTo>
                    <a:pt x="2788" y="4720"/>
                  </a:lnTo>
                  <a:lnTo>
                    <a:pt x="2806" y="4746"/>
                  </a:lnTo>
                  <a:lnTo>
                    <a:pt x="2814" y="4762"/>
                  </a:lnTo>
                  <a:lnTo>
                    <a:pt x="2830" y="4828"/>
                  </a:lnTo>
                  <a:lnTo>
                    <a:pt x="2842" y="4864"/>
                  </a:lnTo>
                  <a:lnTo>
                    <a:pt x="2850" y="4936"/>
                  </a:lnTo>
                  <a:lnTo>
                    <a:pt x="2856" y="4950"/>
                  </a:lnTo>
                  <a:lnTo>
                    <a:pt x="2872" y="4970"/>
                  </a:lnTo>
                  <a:lnTo>
                    <a:pt x="2892" y="4982"/>
                  </a:lnTo>
                  <a:lnTo>
                    <a:pt x="2910" y="4990"/>
                  </a:lnTo>
                  <a:lnTo>
                    <a:pt x="2936" y="4990"/>
                  </a:lnTo>
                  <a:lnTo>
                    <a:pt x="2948" y="4984"/>
                  </a:lnTo>
                  <a:lnTo>
                    <a:pt x="2980" y="4982"/>
                  </a:lnTo>
                  <a:lnTo>
                    <a:pt x="3002" y="4974"/>
                  </a:lnTo>
                  <a:lnTo>
                    <a:pt x="3018" y="4986"/>
                  </a:lnTo>
                  <a:lnTo>
                    <a:pt x="3034" y="5014"/>
                  </a:lnTo>
                  <a:lnTo>
                    <a:pt x="3044" y="5082"/>
                  </a:lnTo>
                  <a:lnTo>
                    <a:pt x="3040" y="5092"/>
                  </a:lnTo>
                  <a:lnTo>
                    <a:pt x="3038" y="5140"/>
                  </a:lnTo>
                  <a:lnTo>
                    <a:pt x="3040" y="5214"/>
                  </a:lnTo>
                  <a:lnTo>
                    <a:pt x="3046" y="5270"/>
                  </a:lnTo>
                  <a:lnTo>
                    <a:pt x="3066" y="5266"/>
                  </a:lnTo>
                  <a:lnTo>
                    <a:pt x="3074" y="5262"/>
                  </a:lnTo>
                  <a:lnTo>
                    <a:pt x="3114" y="5262"/>
                  </a:lnTo>
                  <a:lnTo>
                    <a:pt x="3132" y="5282"/>
                  </a:lnTo>
                  <a:lnTo>
                    <a:pt x="3180" y="5394"/>
                  </a:lnTo>
                  <a:lnTo>
                    <a:pt x="3192" y="5482"/>
                  </a:lnTo>
                  <a:lnTo>
                    <a:pt x="3192" y="5512"/>
                  </a:lnTo>
                  <a:lnTo>
                    <a:pt x="3188" y="5526"/>
                  </a:lnTo>
                  <a:lnTo>
                    <a:pt x="3184" y="5534"/>
                  </a:lnTo>
                  <a:lnTo>
                    <a:pt x="3134" y="5580"/>
                  </a:lnTo>
                  <a:lnTo>
                    <a:pt x="3114" y="5588"/>
                  </a:lnTo>
                  <a:lnTo>
                    <a:pt x="3086" y="5592"/>
                  </a:lnTo>
                  <a:lnTo>
                    <a:pt x="3068" y="5602"/>
                  </a:lnTo>
                  <a:lnTo>
                    <a:pt x="3052" y="5636"/>
                  </a:lnTo>
                  <a:lnTo>
                    <a:pt x="3034" y="5664"/>
                  </a:lnTo>
                  <a:lnTo>
                    <a:pt x="2940" y="5770"/>
                  </a:lnTo>
                  <a:lnTo>
                    <a:pt x="2940" y="5782"/>
                  </a:lnTo>
                  <a:lnTo>
                    <a:pt x="2930" y="5802"/>
                  </a:lnTo>
                  <a:lnTo>
                    <a:pt x="2894" y="5872"/>
                  </a:lnTo>
                  <a:lnTo>
                    <a:pt x="2892" y="5888"/>
                  </a:lnTo>
                  <a:lnTo>
                    <a:pt x="2856" y="5946"/>
                  </a:lnTo>
                  <a:lnTo>
                    <a:pt x="2826" y="5978"/>
                  </a:lnTo>
                  <a:lnTo>
                    <a:pt x="2812" y="6006"/>
                  </a:lnTo>
                  <a:lnTo>
                    <a:pt x="2794" y="6022"/>
                  </a:lnTo>
                  <a:lnTo>
                    <a:pt x="2790" y="6036"/>
                  </a:lnTo>
                  <a:lnTo>
                    <a:pt x="2772" y="6060"/>
                  </a:lnTo>
                  <a:lnTo>
                    <a:pt x="2752" y="6076"/>
                  </a:lnTo>
                  <a:lnTo>
                    <a:pt x="2798" y="6080"/>
                  </a:lnTo>
                  <a:lnTo>
                    <a:pt x="2814" y="6070"/>
                  </a:lnTo>
                  <a:lnTo>
                    <a:pt x="2820" y="6056"/>
                  </a:lnTo>
                  <a:lnTo>
                    <a:pt x="2830" y="6046"/>
                  </a:lnTo>
                  <a:lnTo>
                    <a:pt x="2842" y="6046"/>
                  </a:lnTo>
                  <a:lnTo>
                    <a:pt x="2858" y="6052"/>
                  </a:lnTo>
                  <a:lnTo>
                    <a:pt x="2896" y="6078"/>
                  </a:lnTo>
                  <a:lnTo>
                    <a:pt x="2910" y="6094"/>
                  </a:lnTo>
                  <a:lnTo>
                    <a:pt x="2942" y="6116"/>
                  </a:lnTo>
                  <a:lnTo>
                    <a:pt x="2966" y="6138"/>
                  </a:lnTo>
                  <a:lnTo>
                    <a:pt x="2986" y="6178"/>
                  </a:lnTo>
                  <a:lnTo>
                    <a:pt x="2994" y="6202"/>
                  </a:lnTo>
                  <a:lnTo>
                    <a:pt x="3016" y="6204"/>
                  </a:lnTo>
                  <a:lnTo>
                    <a:pt x="3022" y="6202"/>
                  </a:lnTo>
                  <a:lnTo>
                    <a:pt x="3050" y="6170"/>
                  </a:lnTo>
                  <a:lnTo>
                    <a:pt x="3064" y="6180"/>
                  </a:lnTo>
                  <a:lnTo>
                    <a:pt x="3070" y="6192"/>
                  </a:lnTo>
                  <a:lnTo>
                    <a:pt x="3088" y="6216"/>
                  </a:lnTo>
                  <a:lnTo>
                    <a:pt x="3108" y="6238"/>
                  </a:lnTo>
                  <a:lnTo>
                    <a:pt x="3116" y="6244"/>
                  </a:lnTo>
                  <a:lnTo>
                    <a:pt x="3128" y="6248"/>
                  </a:lnTo>
                  <a:lnTo>
                    <a:pt x="3146" y="6248"/>
                  </a:lnTo>
                  <a:lnTo>
                    <a:pt x="3170" y="6268"/>
                  </a:lnTo>
                  <a:lnTo>
                    <a:pt x="3200" y="6274"/>
                  </a:lnTo>
                  <a:lnTo>
                    <a:pt x="3208" y="6282"/>
                  </a:lnTo>
                  <a:lnTo>
                    <a:pt x="3230" y="6312"/>
                  </a:lnTo>
                  <a:lnTo>
                    <a:pt x="3246" y="6326"/>
                  </a:lnTo>
                  <a:lnTo>
                    <a:pt x="3272" y="6336"/>
                  </a:lnTo>
                  <a:lnTo>
                    <a:pt x="3284" y="6338"/>
                  </a:lnTo>
                  <a:lnTo>
                    <a:pt x="3322" y="6356"/>
                  </a:lnTo>
                  <a:lnTo>
                    <a:pt x="3336" y="6374"/>
                  </a:lnTo>
                  <a:lnTo>
                    <a:pt x="3354" y="6420"/>
                  </a:lnTo>
                  <a:lnTo>
                    <a:pt x="3362" y="6432"/>
                  </a:lnTo>
                  <a:lnTo>
                    <a:pt x="3420" y="6470"/>
                  </a:lnTo>
                  <a:lnTo>
                    <a:pt x="3436" y="6490"/>
                  </a:lnTo>
                  <a:lnTo>
                    <a:pt x="3436" y="6498"/>
                  </a:lnTo>
                  <a:lnTo>
                    <a:pt x="3422" y="6502"/>
                  </a:lnTo>
                  <a:lnTo>
                    <a:pt x="3420" y="6520"/>
                  </a:lnTo>
                  <a:lnTo>
                    <a:pt x="3414" y="6524"/>
                  </a:lnTo>
                  <a:lnTo>
                    <a:pt x="3408" y="6544"/>
                  </a:lnTo>
                  <a:lnTo>
                    <a:pt x="3404" y="6562"/>
                  </a:lnTo>
                  <a:lnTo>
                    <a:pt x="3412" y="6604"/>
                  </a:lnTo>
                  <a:lnTo>
                    <a:pt x="3414" y="6642"/>
                  </a:lnTo>
                  <a:lnTo>
                    <a:pt x="3416" y="6646"/>
                  </a:lnTo>
                  <a:lnTo>
                    <a:pt x="3430" y="6658"/>
                  </a:lnTo>
                  <a:lnTo>
                    <a:pt x="3428" y="6648"/>
                  </a:lnTo>
                  <a:lnTo>
                    <a:pt x="3436" y="6634"/>
                  </a:lnTo>
                  <a:lnTo>
                    <a:pt x="3454" y="6624"/>
                  </a:lnTo>
                  <a:lnTo>
                    <a:pt x="3484" y="6592"/>
                  </a:lnTo>
                  <a:lnTo>
                    <a:pt x="3500" y="6542"/>
                  </a:lnTo>
                  <a:lnTo>
                    <a:pt x="3522" y="6508"/>
                  </a:lnTo>
                  <a:lnTo>
                    <a:pt x="3524" y="6436"/>
                  </a:lnTo>
                  <a:lnTo>
                    <a:pt x="3530" y="6414"/>
                  </a:lnTo>
                  <a:lnTo>
                    <a:pt x="3560" y="6370"/>
                  </a:lnTo>
                  <a:lnTo>
                    <a:pt x="3574" y="6362"/>
                  </a:lnTo>
                  <a:lnTo>
                    <a:pt x="3620" y="6316"/>
                  </a:lnTo>
                  <a:lnTo>
                    <a:pt x="3640" y="6304"/>
                  </a:lnTo>
                  <a:lnTo>
                    <a:pt x="3658" y="6288"/>
                  </a:lnTo>
                  <a:lnTo>
                    <a:pt x="3668" y="6270"/>
                  </a:lnTo>
                  <a:lnTo>
                    <a:pt x="3672" y="6250"/>
                  </a:lnTo>
                  <a:lnTo>
                    <a:pt x="3682" y="6224"/>
                  </a:lnTo>
                  <a:lnTo>
                    <a:pt x="3708" y="6170"/>
                  </a:lnTo>
                  <a:lnTo>
                    <a:pt x="3720" y="6136"/>
                  </a:lnTo>
                  <a:lnTo>
                    <a:pt x="3744" y="6096"/>
                  </a:lnTo>
                  <a:lnTo>
                    <a:pt x="3744" y="6036"/>
                  </a:lnTo>
                  <a:lnTo>
                    <a:pt x="3762" y="5962"/>
                  </a:lnTo>
                  <a:lnTo>
                    <a:pt x="3774" y="5938"/>
                  </a:lnTo>
                  <a:lnTo>
                    <a:pt x="3782" y="5910"/>
                  </a:lnTo>
                  <a:lnTo>
                    <a:pt x="3790" y="5892"/>
                  </a:lnTo>
                  <a:lnTo>
                    <a:pt x="3802" y="5876"/>
                  </a:lnTo>
                  <a:lnTo>
                    <a:pt x="3830" y="5818"/>
                  </a:lnTo>
                  <a:lnTo>
                    <a:pt x="3844" y="5800"/>
                  </a:lnTo>
                  <a:lnTo>
                    <a:pt x="3860" y="5788"/>
                  </a:lnTo>
                  <a:lnTo>
                    <a:pt x="3884" y="5776"/>
                  </a:lnTo>
                  <a:lnTo>
                    <a:pt x="3892" y="5740"/>
                  </a:lnTo>
                  <a:lnTo>
                    <a:pt x="3908" y="5722"/>
                  </a:lnTo>
                  <a:lnTo>
                    <a:pt x="3910" y="5660"/>
                  </a:lnTo>
                  <a:lnTo>
                    <a:pt x="3898" y="5552"/>
                  </a:lnTo>
                  <a:lnTo>
                    <a:pt x="3904" y="5540"/>
                  </a:lnTo>
                  <a:lnTo>
                    <a:pt x="3918" y="5538"/>
                  </a:lnTo>
                  <a:lnTo>
                    <a:pt x="3918" y="5530"/>
                  </a:lnTo>
                  <a:lnTo>
                    <a:pt x="3912" y="5516"/>
                  </a:lnTo>
                  <a:lnTo>
                    <a:pt x="3890" y="5494"/>
                  </a:lnTo>
                  <a:lnTo>
                    <a:pt x="3884" y="5486"/>
                  </a:lnTo>
                  <a:lnTo>
                    <a:pt x="3882" y="5444"/>
                  </a:lnTo>
                  <a:lnTo>
                    <a:pt x="3872" y="5436"/>
                  </a:lnTo>
                  <a:lnTo>
                    <a:pt x="3866" y="5396"/>
                  </a:lnTo>
                  <a:lnTo>
                    <a:pt x="3856" y="5370"/>
                  </a:lnTo>
                  <a:lnTo>
                    <a:pt x="3854" y="5350"/>
                  </a:lnTo>
                  <a:lnTo>
                    <a:pt x="3860" y="5342"/>
                  </a:lnTo>
                  <a:lnTo>
                    <a:pt x="3862" y="5324"/>
                  </a:lnTo>
                  <a:lnTo>
                    <a:pt x="3860" y="5296"/>
                  </a:lnTo>
                  <a:lnTo>
                    <a:pt x="3878" y="5250"/>
                  </a:lnTo>
                  <a:lnTo>
                    <a:pt x="3890" y="5230"/>
                  </a:lnTo>
                  <a:lnTo>
                    <a:pt x="3918" y="5194"/>
                  </a:lnTo>
                  <a:lnTo>
                    <a:pt x="3960" y="5130"/>
                  </a:lnTo>
                  <a:lnTo>
                    <a:pt x="3964" y="5130"/>
                  </a:lnTo>
                  <a:lnTo>
                    <a:pt x="3976" y="5120"/>
                  </a:lnTo>
                  <a:lnTo>
                    <a:pt x="3996" y="5094"/>
                  </a:lnTo>
                  <a:lnTo>
                    <a:pt x="4028" y="5066"/>
                  </a:lnTo>
                  <a:lnTo>
                    <a:pt x="4040" y="5050"/>
                  </a:lnTo>
                  <a:lnTo>
                    <a:pt x="4062" y="5030"/>
                  </a:lnTo>
                  <a:lnTo>
                    <a:pt x="4088" y="4992"/>
                  </a:lnTo>
                  <a:lnTo>
                    <a:pt x="4122" y="4966"/>
                  </a:lnTo>
                  <a:lnTo>
                    <a:pt x="4148" y="4966"/>
                  </a:lnTo>
                  <a:lnTo>
                    <a:pt x="4158" y="4960"/>
                  </a:lnTo>
                  <a:lnTo>
                    <a:pt x="4170" y="4938"/>
                  </a:lnTo>
                  <a:lnTo>
                    <a:pt x="4200" y="4930"/>
                  </a:lnTo>
                  <a:lnTo>
                    <a:pt x="4242" y="4926"/>
                  </a:lnTo>
                  <a:lnTo>
                    <a:pt x="4266" y="4900"/>
                  </a:lnTo>
                  <a:lnTo>
                    <a:pt x="4274" y="4898"/>
                  </a:lnTo>
                  <a:lnTo>
                    <a:pt x="4292" y="4868"/>
                  </a:lnTo>
                  <a:lnTo>
                    <a:pt x="4304" y="4860"/>
                  </a:lnTo>
                  <a:lnTo>
                    <a:pt x="4334" y="4852"/>
                  </a:lnTo>
                  <a:lnTo>
                    <a:pt x="4354" y="4850"/>
                  </a:lnTo>
                  <a:lnTo>
                    <a:pt x="4360" y="4842"/>
                  </a:lnTo>
                  <a:lnTo>
                    <a:pt x="4356" y="4832"/>
                  </a:lnTo>
                  <a:lnTo>
                    <a:pt x="4348" y="4824"/>
                  </a:lnTo>
                  <a:lnTo>
                    <a:pt x="4348" y="4816"/>
                  </a:lnTo>
                  <a:lnTo>
                    <a:pt x="4366" y="4794"/>
                  </a:lnTo>
                  <a:lnTo>
                    <a:pt x="4372" y="4794"/>
                  </a:lnTo>
                  <a:lnTo>
                    <a:pt x="4372" y="4792"/>
                  </a:lnTo>
                  <a:lnTo>
                    <a:pt x="4376" y="4800"/>
                  </a:lnTo>
                  <a:lnTo>
                    <a:pt x="4394" y="4806"/>
                  </a:lnTo>
                  <a:lnTo>
                    <a:pt x="4448" y="4786"/>
                  </a:lnTo>
                  <a:lnTo>
                    <a:pt x="4462" y="4786"/>
                  </a:lnTo>
                  <a:lnTo>
                    <a:pt x="4470" y="4792"/>
                  </a:lnTo>
                  <a:lnTo>
                    <a:pt x="4496" y="4796"/>
                  </a:lnTo>
                  <a:lnTo>
                    <a:pt x="4536" y="4778"/>
                  </a:lnTo>
                  <a:lnTo>
                    <a:pt x="4556" y="4778"/>
                  </a:lnTo>
                  <a:lnTo>
                    <a:pt x="4568" y="4784"/>
                  </a:lnTo>
                  <a:lnTo>
                    <a:pt x="4600" y="4788"/>
                  </a:lnTo>
                  <a:lnTo>
                    <a:pt x="4626" y="4788"/>
                  </a:lnTo>
                  <a:lnTo>
                    <a:pt x="4684" y="4776"/>
                  </a:lnTo>
                  <a:lnTo>
                    <a:pt x="4694" y="4772"/>
                  </a:lnTo>
                  <a:lnTo>
                    <a:pt x="4704" y="4746"/>
                  </a:lnTo>
                  <a:lnTo>
                    <a:pt x="4706" y="4714"/>
                  </a:lnTo>
                  <a:lnTo>
                    <a:pt x="4726" y="4690"/>
                  </a:lnTo>
                  <a:lnTo>
                    <a:pt x="4744" y="4676"/>
                  </a:lnTo>
                  <a:lnTo>
                    <a:pt x="4792" y="4650"/>
                  </a:lnTo>
                  <a:lnTo>
                    <a:pt x="4810" y="4626"/>
                  </a:lnTo>
                  <a:lnTo>
                    <a:pt x="4818" y="4602"/>
                  </a:lnTo>
                  <a:lnTo>
                    <a:pt x="4818" y="4582"/>
                  </a:lnTo>
                  <a:lnTo>
                    <a:pt x="4818" y="4542"/>
                  </a:lnTo>
                  <a:lnTo>
                    <a:pt x="4820" y="4500"/>
                  </a:lnTo>
                  <a:lnTo>
                    <a:pt x="4846" y="4452"/>
                  </a:lnTo>
                  <a:lnTo>
                    <a:pt x="4886" y="4390"/>
                  </a:lnTo>
                  <a:lnTo>
                    <a:pt x="4906" y="4346"/>
                  </a:lnTo>
                  <a:lnTo>
                    <a:pt x="4924" y="4264"/>
                  </a:lnTo>
                  <a:lnTo>
                    <a:pt x="4956" y="4220"/>
                  </a:lnTo>
                  <a:lnTo>
                    <a:pt x="4968" y="4194"/>
                  </a:lnTo>
                  <a:lnTo>
                    <a:pt x="4966" y="4108"/>
                  </a:lnTo>
                  <a:lnTo>
                    <a:pt x="4964" y="4058"/>
                  </a:lnTo>
                  <a:lnTo>
                    <a:pt x="4966" y="4016"/>
                  </a:lnTo>
                  <a:lnTo>
                    <a:pt x="4972" y="3978"/>
                  </a:lnTo>
                  <a:lnTo>
                    <a:pt x="4984" y="3952"/>
                  </a:lnTo>
                  <a:lnTo>
                    <a:pt x="5014" y="3908"/>
                  </a:lnTo>
                  <a:lnTo>
                    <a:pt x="5020" y="3886"/>
                  </a:lnTo>
                  <a:lnTo>
                    <a:pt x="5016" y="3838"/>
                  </a:lnTo>
                  <a:lnTo>
                    <a:pt x="5020" y="3724"/>
                  </a:lnTo>
                  <a:lnTo>
                    <a:pt x="5024" y="3704"/>
                  </a:lnTo>
                  <a:lnTo>
                    <a:pt x="5028" y="3626"/>
                  </a:lnTo>
                  <a:lnTo>
                    <a:pt x="5036" y="3576"/>
                  </a:lnTo>
                  <a:lnTo>
                    <a:pt x="5030" y="3538"/>
                  </a:lnTo>
                  <a:lnTo>
                    <a:pt x="5022" y="3508"/>
                  </a:lnTo>
                  <a:lnTo>
                    <a:pt x="5016" y="3440"/>
                  </a:lnTo>
                  <a:lnTo>
                    <a:pt x="5008" y="3412"/>
                  </a:lnTo>
                  <a:lnTo>
                    <a:pt x="5004" y="3344"/>
                  </a:lnTo>
                  <a:lnTo>
                    <a:pt x="5006" y="3260"/>
                  </a:lnTo>
                  <a:lnTo>
                    <a:pt x="5012" y="3208"/>
                  </a:lnTo>
                  <a:lnTo>
                    <a:pt x="5012" y="3172"/>
                  </a:lnTo>
                  <a:lnTo>
                    <a:pt x="5016" y="3132"/>
                  </a:lnTo>
                  <a:lnTo>
                    <a:pt x="5018" y="3122"/>
                  </a:lnTo>
                  <a:lnTo>
                    <a:pt x="5044" y="3092"/>
                  </a:lnTo>
                  <a:lnTo>
                    <a:pt x="5056" y="3088"/>
                  </a:lnTo>
                  <a:lnTo>
                    <a:pt x="5076" y="3098"/>
                  </a:lnTo>
                  <a:lnTo>
                    <a:pt x="5082" y="3096"/>
                  </a:lnTo>
                  <a:lnTo>
                    <a:pt x="5120" y="3058"/>
                  </a:lnTo>
                  <a:lnTo>
                    <a:pt x="5146" y="3012"/>
                  </a:lnTo>
                  <a:lnTo>
                    <a:pt x="5174" y="2944"/>
                  </a:lnTo>
                  <a:lnTo>
                    <a:pt x="5188" y="2888"/>
                  </a:lnTo>
                  <a:lnTo>
                    <a:pt x="5204" y="2842"/>
                  </a:lnTo>
                  <a:lnTo>
                    <a:pt x="5226" y="2804"/>
                  </a:lnTo>
                  <a:lnTo>
                    <a:pt x="5264" y="2766"/>
                  </a:lnTo>
                  <a:lnTo>
                    <a:pt x="5276" y="2740"/>
                  </a:lnTo>
                  <a:lnTo>
                    <a:pt x="5302" y="2712"/>
                  </a:lnTo>
                  <a:lnTo>
                    <a:pt x="5354" y="2674"/>
                  </a:lnTo>
                  <a:lnTo>
                    <a:pt x="5370" y="2654"/>
                  </a:lnTo>
                  <a:lnTo>
                    <a:pt x="5388" y="2616"/>
                  </a:lnTo>
                  <a:lnTo>
                    <a:pt x="5420" y="2566"/>
                  </a:lnTo>
                  <a:lnTo>
                    <a:pt x="5466" y="2506"/>
                  </a:lnTo>
                  <a:lnTo>
                    <a:pt x="5510" y="2426"/>
                  </a:lnTo>
                  <a:lnTo>
                    <a:pt x="5516" y="2418"/>
                  </a:lnTo>
                  <a:lnTo>
                    <a:pt x="5528" y="2388"/>
                  </a:lnTo>
                  <a:lnTo>
                    <a:pt x="5532" y="2388"/>
                  </a:lnTo>
                  <a:lnTo>
                    <a:pt x="5552" y="2256"/>
                  </a:lnTo>
                  <a:lnTo>
                    <a:pt x="5556" y="2214"/>
                  </a:lnTo>
                  <a:lnTo>
                    <a:pt x="5558" y="2100"/>
                  </a:lnTo>
                  <a:lnTo>
                    <a:pt x="5558" y="2030"/>
                  </a:lnTo>
                  <a:lnTo>
                    <a:pt x="5534" y="1964"/>
                  </a:lnTo>
                  <a:lnTo>
                    <a:pt x="5516" y="1866"/>
                  </a:lnTo>
                  <a:lnTo>
                    <a:pt x="5494" y="1822"/>
                  </a:lnTo>
                  <a:lnTo>
                    <a:pt x="5466" y="1784"/>
                  </a:lnTo>
                  <a:lnTo>
                    <a:pt x="5444" y="1770"/>
                  </a:lnTo>
                  <a:lnTo>
                    <a:pt x="5320" y="1768"/>
                  </a:lnTo>
                  <a:lnTo>
                    <a:pt x="5306" y="1770"/>
                  </a:lnTo>
                  <a:lnTo>
                    <a:pt x="5290" y="1764"/>
                  </a:lnTo>
                  <a:lnTo>
                    <a:pt x="5280" y="1754"/>
                  </a:lnTo>
                  <a:lnTo>
                    <a:pt x="5258" y="1748"/>
                  </a:lnTo>
                  <a:lnTo>
                    <a:pt x="5236" y="1748"/>
                  </a:lnTo>
                  <a:lnTo>
                    <a:pt x="5224" y="1724"/>
                  </a:lnTo>
                  <a:lnTo>
                    <a:pt x="5200" y="1698"/>
                  </a:lnTo>
                  <a:lnTo>
                    <a:pt x="5184" y="1686"/>
                  </a:lnTo>
                  <a:lnTo>
                    <a:pt x="5160" y="1674"/>
                  </a:lnTo>
                  <a:lnTo>
                    <a:pt x="5124" y="1646"/>
                  </a:lnTo>
                  <a:lnTo>
                    <a:pt x="5046" y="1556"/>
                  </a:lnTo>
                  <a:lnTo>
                    <a:pt x="5012" y="1522"/>
                  </a:lnTo>
                  <a:lnTo>
                    <a:pt x="4972" y="1488"/>
                  </a:lnTo>
                  <a:lnTo>
                    <a:pt x="4924" y="1454"/>
                  </a:lnTo>
                  <a:lnTo>
                    <a:pt x="4890" y="1426"/>
                  </a:lnTo>
                  <a:lnTo>
                    <a:pt x="4860" y="1408"/>
                  </a:lnTo>
                  <a:lnTo>
                    <a:pt x="4828" y="1394"/>
                  </a:lnTo>
                  <a:lnTo>
                    <a:pt x="4692" y="1392"/>
                  </a:lnTo>
                  <a:lnTo>
                    <a:pt x="4670" y="1398"/>
                  </a:lnTo>
                  <a:lnTo>
                    <a:pt x="4646" y="1398"/>
                  </a:lnTo>
                  <a:lnTo>
                    <a:pt x="4568" y="1392"/>
                  </a:lnTo>
                  <a:lnTo>
                    <a:pt x="4546" y="1388"/>
                  </a:lnTo>
                  <a:lnTo>
                    <a:pt x="4492" y="1374"/>
                  </a:lnTo>
                  <a:lnTo>
                    <a:pt x="4352" y="1320"/>
                  </a:lnTo>
                  <a:lnTo>
                    <a:pt x="4326" y="1322"/>
                  </a:lnTo>
                  <a:lnTo>
                    <a:pt x="4318" y="1320"/>
                  </a:lnTo>
                  <a:lnTo>
                    <a:pt x="4304" y="1298"/>
                  </a:lnTo>
                  <a:lnTo>
                    <a:pt x="4284" y="1308"/>
                  </a:lnTo>
                  <a:lnTo>
                    <a:pt x="4264" y="1326"/>
                  </a:lnTo>
                  <a:lnTo>
                    <a:pt x="4242" y="1342"/>
                  </a:lnTo>
                  <a:lnTo>
                    <a:pt x="4202" y="1358"/>
                  </a:lnTo>
                  <a:lnTo>
                    <a:pt x="4178" y="1362"/>
                  </a:lnTo>
                  <a:lnTo>
                    <a:pt x="4174" y="1346"/>
                  </a:lnTo>
                  <a:lnTo>
                    <a:pt x="4182" y="1326"/>
                  </a:lnTo>
                  <a:lnTo>
                    <a:pt x="4196" y="1304"/>
                  </a:lnTo>
                  <a:lnTo>
                    <a:pt x="4198" y="1290"/>
                  </a:lnTo>
                  <a:lnTo>
                    <a:pt x="4190" y="1274"/>
                  </a:lnTo>
                  <a:lnTo>
                    <a:pt x="4178" y="1268"/>
                  </a:lnTo>
                  <a:lnTo>
                    <a:pt x="4170" y="1264"/>
                  </a:lnTo>
                  <a:lnTo>
                    <a:pt x="4162" y="1272"/>
                  </a:lnTo>
                  <a:lnTo>
                    <a:pt x="4154" y="1272"/>
                  </a:lnTo>
                  <a:lnTo>
                    <a:pt x="4148" y="1268"/>
                  </a:lnTo>
                  <a:lnTo>
                    <a:pt x="4148" y="1256"/>
                  </a:lnTo>
                  <a:lnTo>
                    <a:pt x="4160" y="1250"/>
                  </a:lnTo>
                  <a:lnTo>
                    <a:pt x="4162" y="1216"/>
                  </a:lnTo>
                  <a:lnTo>
                    <a:pt x="4142" y="1180"/>
                  </a:lnTo>
                  <a:lnTo>
                    <a:pt x="4114" y="1152"/>
                  </a:lnTo>
                  <a:lnTo>
                    <a:pt x="4098" y="1156"/>
                  </a:lnTo>
                  <a:lnTo>
                    <a:pt x="4086" y="1162"/>
                  </a:lnTo>
                  <a:lnTo>
                    <a:pt x="4070" y="1180"/>
                  </a:lnTo>
                  <a:lnTo>
                    <a:pt x="4050" y="1190"/>
                  </a:lnTo>
                  <a:lnTo>
                    <a:pt x="4050" y="1160"/>
                  </a:lnTo>
                  <a:lnTo>
                    <a:pt x="4046" y="1144"/>
                  </a:lnTo>
                  <a:lnTo>
                    <a:pt x="4030" y="1118"/>
                  </a:lnTo>
                  <a:lnTo>
                    <a:pt x="3996" y="1110"/>
                  </a:lnTo>
                  <a:lnTo>
                    <a:pt x="3970" y="1090"/>
                  </a:lnTo>
                  <a:lnTo>
                    <a:pt x="3944" y="1088"/>
                  </a:lnTo>
                  <a:lnTo>
                    <a:pt x="3928" y="1070"/>
                  </a:lnTo>
                  <a:lnTo>
                    <a:pt x="3890" y="1070"/>
                  </a:lnTo>
                  <a:lnTo>
                    <a:pt x="3878" y="1066"/>
                  </a:lnTo>
                  <a:lnTo>
                    <a:pt x="3794" y="1014"/>
                  </a:lnTo>
                  <a:lnTo>
                    <a:pt x="3766" y="1004"/>
                  </a:lnTo>
                  <a:lnTo>
                    <a:pt x="3688" y="1006"/>
                  </a:lnTo>
                  <a:lnTo>
                    <a:pt x="3664" y="1020"/>
                  </a:lnTo>
                  <a:lnTo>
                    <a:pt x="3648" y="1066"/>
                  </a:lnTo>
                  <a:lnTo>
                    <a:pt x="3632" y="1076"/>
                  </a:lnTo>
                  <a:lnTo>
                    <a:pt x="3620" y="1102"/>
                  </a:lnTo>
                  <a:lnTo>
                    <a:pt x="3616" y="1128"/>
                  </a:lnTo>
                  <a:lnTo>
                    <a:pt x="3604" y="1152"/>
                  </a:lnTo>
                  <a:lnTo>
                    <a:pt x="3580" y="1154"/>
                  </a:lnTo>
                  <a:lnTo>
                    <a:pt x="3558" y="1162"/>
                  </a:lnTo>
                  <a:lnTo>
                    <a:pt x="3548" y="1168"/>
                  </a:lnTo>
                  <a:lnTo>
                    <a:pt x="3532" y="1184"/>
                  </a:lnTo>
                  <a:lnTo>
                    <a:pt x="3516" y="1246"/>
                  </a:lnTo>
                  <a:lnTo>
                    <a:pt x="3506" y="1268"/>
                  </a:lnTo>
                  <a:lnTo>
                    <a:pt x="3500" y="1272"/>
                  </a:lnTo>
                  <a:lnTo>
                    <a:pt x="3496" y="1282"/>
                  </a:lnTo>
                  <a:lnTo>
                    <a:pt x="3492" y="1314"/>
                  </a:lnTo>
                  <a:lnTo>
                    <a:pt x="3480" y="1320"/>
                  </a:lnTo>
                  <a:lnTo>
                    <a:pt x="3478" y="1320"/>
                  </a:lnTo>
                  <a:lnTo>
                    <a:pt x="3474" y="1296"/>
                  </a:lnTo>
                  <a:lnTo>
                    <a:pt x="3472" y="1262"/>
                  </a:lnTo>
                  <a:lnTo>
                    <a:pt x="3480" y="1216"/>
                  </a:lnTo>
                  <a:lnTo>
                    <a:pt x="3474" y="1214"/>
                  </a:lnTo>
                  <a:lnTo>
                    <a:pt x="3452" y="1214"/>
                  </a:lnTo>
                  <a:lnTo>
                    <a:pt x="3434" y="1222"/>
                  </a:lnTo>
                  <a:lnTo>
                    <a:pt x="3412" y="1218"/>
                  </a:lnTo>
                  <a:lnTo>
                    <a:pt x="3352" y="1222"/>
                  </a:lnTo>
                  <a:lnTo>
                    <a:pt x="3332" y="1218"/>
                  </a:lnTo>
                  <a:lnTo>
                    <a:pt x="3326" y="1224"/>
                  </a:lnTo>
                  <a:lnTo>
                    <a:pt x="3310" y="1224"/>
                  </a:lnTo>
                  <a:lnTo>
                    <a:pt x="3304" y="1218"/>
                  </a:lnTo>
                  <a:lnTo>
                    <a:pt x="3286" y="1218"/>
                  </a:lnTo>
                  <a:lnTo>
                    <a:pt x="3250" y="1234"/>
                  </a:lnTo>
                  <a:lnTo>
                    <a:pt x="3234" y="1234"/>
                  </a:lnTo>
                  <a:lnTo>
                    <a:pt x="3200" y="1218"/>
                  </a:lnTo>
                  <a:lnTo>
                    <a:pt x="3190" y="1218"/>
                  </a:lnTo>
                  <a:lnTo>
                    <a:pt x="3186" y="1224"/>
                  </a:lnTo>
                  <a:lnTo>
                    <a:pt x="3180" y="1250"/>
                  </a:lnTo>
                  <a:lnTo>
                    <a:pt x="3176" y="1256"/>
                  </a:lnTo>
                  <a:lnTo>
                    <a:pt x="3170" y="1250"/>
                  </a:lnTo>
                  <a:lnTo>
                    <a:pt x="3168" y="1228"/>
                  </a:lnTo>
                  <a:lnTo>
                    <a:pt x="3170" y="1218"/>
                  </a:lnTo>
                  <a:lnTo>
                    <a:pt x="3184" y="1200"/>
                  </a:lnTo>
                  <a:lnTo>
                    <a:pt x="3202" y="1200"/>
                  </a:lnTo>
                  <a:lnTo>
                    <a:pt x="3226" y="1212"/>
                  </a:lnTo>
                  <a:lnTo>
                    <a:pt x="3256" y="1216"/>
                  </a:lnTo>
                  <a:lnTo>
                    <a:pt x="3282" y="1204"/>
                  </a:lnTo>
                  <a:lnTo>
                    <a:pt x="3288" y="1196"/>
                  </a:lnTo>
                  <a:lnTo>
                    <a:pt x="3290" y="1188"/>
                  </a:lnTo>
                  <a:lnTo>
                    <a:pt x="3290" y="1116"/>
                  </a:lnTo>
                  <a:lnTo>
                    <a:pt x="3288" y="1112"/>
                  </a:lnTo>
                  <a:lnTo>
                    <a:pt x="3272" y="1112"/>
                  </a:lnTo>
                  <a:lnTo>
                    <a:pt x="3266" y="1100"/>
                  </a:lnTo>
                  <a:lnTo>
                    <a:pt x="3252" y="1090"/>
                  </a:lnTo>
                  <a:lnTo>
                    <a:pt x="3250" y="1082"/>
                  </a:lnTo>
                  <a:lnTo>
                    <a:pt x="3250" y="1074"/>
                  </a:lnTo>
                  <a:lnTo>
                    <a:pt x="3262" y="1066"/>
                  </a:lnTo>
                  <a:lnTo>
                    <a:pt x="3274" y="1054"/>
                  </a:lnTo>
                  <a:lnTo>
                    <a:pt x="3276" y="1038"/>
                  </a:lnTo>
                  <a:lnTo>
                    <a:pt x="3260" y="1038"/>
                  </a:lnTo>
                  <a:lnTo>
                    <a:pt x="3252" y="1044"/>
                  </a:lnTo>
                  <a:lnTo>
                    <a:pt x="3244" y="1044"/>
                  </a:lnTo>
                  <a:lnTo>
                    <a:pt x="3228" y="1070"/>
                  </a:lnTo>
                  <a:lnTo>
                    <a:pt x="3222" y="1094"/>
                  </a:lnTo>
                  <a:lnTo>
                    <a:pt x="3196" y="1096"/>
                  </a:lnTo>
                  <a:lnTo>
                    <a:pt x="3192" y="1088"/>
                  </a:lnTo>
                  <a:lnTo>
                    <a:pt x="3190" y="1080"/>
                  </a:lnTo>
                  <a:lnTo>
                    <a:pt x="3192" y="1030"/>
                  </a:lnTo>
                  <a:lnTo>
                    <a:pt x="3182" y="1000"/>
                  </a:lnTo>
                  <a:lnTo>
                    <a:pt x="3182" y="972"/>
                  </a:lnTo>
                  <a:lnTo>
                    <a:pt x="3184" y="962"/>
                  </a:lnTo>
                  <a:lnTo>
                    <a:pt x="3200" y="942"/>
                  </a:lnTo>
                  <a:lnTo>
                    <a:pt x="3212" y="922"/>
                  </a:lnTo>
                  <a:lnTo>
                    <a:pt x="3238" y="886"/>
                  </a:lnTo>
                  <a:lnTo>
                    <a:pt x="3274" y="842"/>
                  </a:lnTo>
                  <a:lnTo>
                    <a:pt x="3318" y="802"/>
                  </a:lnTo>
                  <a:lnTo>
                    <a:pt x="3340" y="762"/>
                  </a:lnTo>
                  <a:lnTo>
                    <a:pt x="3354" y="752"/>
                  </a:lnTo>
                  <a:lnTo>
                    <a:pt x="3370" y="732"/>
                  </a:lnTo>
                  <a:lnTo>
                    <a:pt x="3376" y="704"/>
                  </a:lnTo>
                  <a:lnTo>
                    <a:pt x="3376" y="688"/>
                  </a:lnTo>
                  <a:lnTo>
                    <a:pt x="3394" y="630"/>
                  </a:lnTo>
                  <a:lnTo>
                    <a:pt x="3394" y="618"/>
                  </a:lnTo>
                  <a:lnTo>
                    <a:pt x="3386" y="606"/>
                  </a:lnTo>
                  <a:lnTo>
                    <a:pt x="3364" y="606"/>
                  </a:lnTo>
                  <a:lnTo>
                    <a:pt x="3324" y="590"/>
                  </a:lnTo>
                  <a:lnTo>
                    <a:pt x="3308" y="554"/>
                  </a:lnTo>
                  <a:lnTo>
                    <a:pt x="3292" y="482"/>
                  </a:lnTo>
                  <a:lnTo>
                    <a:pt x="3288" y="474"/>
                  </a:lnTo>
                  <a:lnTo>
                    <a:pt x="3282" y="438"/>
                  </a:lnTo>
                  <a:lnTo>
                    <a:pt x="3272" y="410"/>
                  </a:lnTo>
                  <a:lnTo>
                    <a:pt x="3262" y="366"/>
                  </a:lnTo>
                  <a:lnTo>
                    <a:pt x="3252" y="334"/>
                  </a:lnTo>
                  <a:lnTo>
                    <a:pt x="3244" y="290"/>
                  </a:lnTo>
                  <a:lnTo>
                    <a:pt x="3244" y="258"/>
                  </a:lnTo>
                  <a:lnTo>
                    <a:pt x="3228" y="222"/>
                  </a:lnTo>
                  <a:lnTo>
                    <a:pt x="3204" y="182"/>
                  </a:lnTo>
                  <a:lnTo>
                    <a:pt x="3192" y="172"/>
                  </a:lnTo>
                  <a:lnTo>
                    <a:pt x="3186" y="174"/>
                  </a:lnTo>
                  <a:lnTo>
                    <a:pt x="3176" y="198"/>
                  </a:lnTo>
                  <a:lnTo>
                    <a:pt x="3166" y="202"/>
                  </a:lnTo>
                  <a:lnTo>
                    <a:pt x="3130" y="244"/>
                  </a:lnTo>
                  <a:lnTo>
                    <a:pt x="3122" y="266"/>
                  </a:lnTo>
                  <a:lnTo>
                    <a:pt x="3088" y="324"/>
                  </a:lnTo>
                  <a:lnTo>
                    <a:pt x="3060" y="362"/>
                  </a:lnTo>
                  <a:lnTo>
                    <a:pt x="3050" y="382"/>
                  </a:lnTo>
                  <a:lnTo>
                    <a:pt x="3028" y="452"/>
                  </a:lnTo>
                  <a:lnTo>
                    <a:pt x="2956" y="526"/>
                  </a:lnTo>
                  <a:lnTo>
                    <a:pt x="2950" y="536"/>
                  </a:lnTo>
                  <a:lnTo>
                    <a:pt x="2936" y="544"/>
                  </a:lnTo>
                  <a:lnTo>
                    <a:pt x="2908" y="544"/>
                  </a:lnTo>
                  <a:lnTo>
                    <a:pt x="2892" y="534"/>
                  </a:lnTo>
                  <a:lnTo>
                    <a:pt x="2874" y="534"/>
                  </a:lnTo>
                  <a:lnTo>
                    <a:pt x="2864" y="536"/>
                  </a:lnTo>
                  <a:lnTo>
                    <a:pt x="2824" y="558"/>
                  </a:lnTo>
                  <a:lnTo>
                    <a:pt x="2808" y="558"/>
                  </a:lnTo>
                  <a:lnTo>
                    <a:pt x="2800" y="556"/>
                  </a:lnTo>
                  <a:lnTo>
                    <a:pt x="2774" y="538"/>
                  </a:lnTo>
                  <a:lnTo>
                    <a:pt x="2750" y="504"/>
                  </a:lnTo>
                  <a:lnTo>
                    <a:pt x="2732" y="500"/>
                  </a:lnTo>
                  <a:lnTo>
                    <a:pt x="2724" y="492"/>
                  </a:lnTo>
                  <a:lnTo>
                    <a:pt x="2670" y="468"/>
                  </a:lnTo>
                  <a:lnTo>
                    <a:pt x="2612" y="490"/>
                  </a:lnTo>
                  <a:lnTo>
                    <a:pt x="2602" y="490"/>
                  </a:lnTo>
                  <a:lnTo>
                    <a:pt x="2576" y="480"/>
                  </a:lnTo>
                  <a:lnTo>
                    <a:pt x="2558" y="480"/>
                  </a:lnTo>
                  <a:lnTo>
                    <a:pt x="2542" y="490"/>
                  </a:lnTo>
                  <a:lnTo>
                    <a:pt x="2542" y="566"/>
                  </a:lnTo>
                  <a:lnTo>
                    <a:pt x="2534" y="578"/>
                  </a:lnTo>
                  <a:lnTo>
                    <a:pt x="2490" y="578"/>
                  </a:lnTo>
                  <a:lnTo>
                    <a:pt x="2458" y="562"/>
                  </a:lnTo>
                  <a:lnTo>
                    <a:pt x="2428" y="568"/>
                  </a:lnTo>
                  <a:lnTo>
                    <a:pt x="2392" y="570"/>
                  </a:lnTo>
                  <a:lnTo>
                    <a:pt x="2376" y="564"/>
                  </a:lnTo>
                  <a:lnTo>
                    <a:pt x="2374" y="558"/>
                  </a:lnTo>
                  <a:lnTo>
                    <a:pt x="2366" y="554"/>
                  </a:lnTo>
                  <a:lnTo>
                    <a:pt x="2352" y="556"/>
                  </a:lnTo>
                  <a:lnTo>
                    <a:pt x="2322" y="572"/>
                  </a:lnTo>
                  <a:lnTo>
                    <a:pt x="2300" y="604"/>
                  </a:lnTo>
                  <a:lnTo>
                    <a:pt x="2262" y="604"/>
                  </a:lnTo>
                  <a:lnTo>
                    <a:pt x="2242" y="618"/>
                  </a:lnTo>
                  <a:lnTo>
                    <a:pt x="2228" y="632"/>
                  </a:lnTo>
                  <a:lnTo>
                    <a:pt x="2198" y="632"/>
                  </a:lnTo>
                  <a:lnTo>
                    <a:pt x="2178" y="640"/>
                  </a:lnTo>
                  <a:lnTo>
                    <a:pt x="2160" y="668"/>
                  </a:lnTo>
                  <a:lnTo>
                    <a:pt x="2146" y="678"/>
                  </a:lnTo>
                  <a:lnTo>
                    <a:pt x="2112" y="678"/>
                  </a:lnTo>
                  <a:lnTo>
                    <a:pt x="2086" y="668"/>
                  </a:lnTo>
                  <a:lnTo>
                    <a:pt x="2046" y="638"/>
                  </a:lnTo>
                  <a:lnTo>
                    <a:pt x="2030" y="622"/>
                  </a:lnTo>
                  <a:lnTo>
                    <a:pt x="2022" y="604"/>
                  </a:lnTo>
                  <a:lnTo>
                    <a:pt x="2014" y="600"/>
                  </a:lnTo>
                  <a:lnTo>
                    <a:pt x="2002" y="584"/>
                  </a:lnTo>
                  <a:lnTo>
                    <a:pt x="1998" y="576"/>
                  </a:lnTo>
                  <a:lnTo>
                    <a:pt x="2000" y="534"/>
                  </a:lnTo>
                  <a:lnTo>
                    <a:pt x="1998" y="508"/>
                  </a:lnTo>
                  <a:lnTo>
                    <a:pt x="1970" y="476"/>
                  </a:lnTo>
                  <a:lnTo>
                    <a:pt x="1966" y="464"/>
                  </a:lnTo>
                  <a:lnTo>
                    <a:pt x="1970" y="368"/>
                  </a:lnTo>
                  <a:lnTo>
                    <a:pt x="1986" y="326"/>
                  </a:lnTo>
                  <a:lnTo>
                    <a:pt x="1992" y="302"/>
                  </a:lnTo>
                  <a:lnTo>
                    <a:pt x="1992" y="270"/>
                  </a:lnTo>
                  <a:lnTo>
                    <a:pt x="2022" y="230"/>
                  </a:lnTo>
                  <a:lnTo>
                    <a:pt x="2024" y="222"/>
                  </a:lnTo>
                  <a:lnTo>
                    <a:pt x="2022" y="198"/>
                  </a:lnTo>
                  <a:lnTo>
                    <a:pt x="2010" y="178"/>
                  </a:lnTo>
                  <a:lnTo>
                    <a:pt x="2010" y="132"/>
                  </a:lnTo>
                  <a:lnTo>
                    <a:pt x="1982" y="122"/>
                  </a:lnTo>
                  <a:lnTo>
                    <a:pt x="1976" y="118"/>
                  </a:lnTo>
                  <a:lnTo>
                    <a:pt x="1952" y="112"/>
                  </a:lnTo>
                  <a:lnTo>
                    <a:pt x="1962" y="68"/>
                  </a:lnTo>
                  <a:lnTo>
                    <a:pt x="1964" y="48"/>
                  </a:lnTo>
                  <a:lnTo>
                    <a:pt x="1962" y="28"/>
                  </a:lnTo>
                  <a:lnTo>
                    <a:pt x="1952" y="2"/>
                  </a:lnTo>
                  <a:lnTo>
                    <a:pt x="1930" y="0"/>
                  </a:lnTo>
                  <a:lnTo>
                    <a:pt x="1898" y="12"/>
                  </a:lnTo>
                  <a:lnTo>
                    <a:pt x="1872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65560" y="3155760"/>
              <a:ext cx="51480" cy="38160"/>
            </a:xfrm>
            <a:custGeom>
              <a:avLst/>
              <a:gdLst/>
              <a:ahLst/>
              <a:rect l="l" t="t" r="r" b="b"/>
              <a:pathLst>
                <a:path w="298" h="222">
                  <a:moveTo>
                    <a:pt x="64" y="62"/>
                  </a:moveTo>
                  <a:lnTo>
                    <a:pt x="60" y="84"/>
                  </a:lnTo>
                  <a:lnTo>
                    <a:pt x="48" y="102"/>
                  </a:lnTo>
                  <a:lnTo>
                    <a:pt x="26" y="102"/>
                  </a:lnTo>
                  <a:lnTo>
                    <a:pt x="26" y="126"/>
                  </a:lnTo>
                  <a:lnTo>
                    <a:pt x="0" y="140"/>
                  </a:lnTo>
                  <a:lnTo>
                    <a:pt x="34" y="160"/>
                  </a:lnTo>
                  <a:lnTo>
                    <a:pt x="48" y="192"/>
                  </a:lnTo>
                  <a:lnTo>
                    <a:pt x="72" y="202"/>
                  </a:lnTo>
                  <a:lnTo>
                    <a:pt x="98" y="182"/>
                  </a:lnTo>
                  <a:lnTo>
                    <a:pt x="112" y="162"/>
                  </a:lnTo>
                  <a:lnTo>
                    <a:pt x="176" y="150"/>
                  </a:lnTo>
                  <a:lnTo>
                    <a:pt x="206" y="174"/>
                  </a:lnTo>
                  <a:lnTo>
                    <a:pt x="208" y="188"/>
                  </a:lnTo>
                  <a:lnTo>
                    <a:pt x="208" y="214"/>
                  </a:lnTo>
                  <a:lnTo>
                    <a:pt x="212" y="222"/>
                  </a:lnTo>
                  <a:lnTo>
                    <a:pt x="218" y="222"/>
                  </a:lnTo>
                  <a:lnTo>
                    <a:pt x="246" y="208"/>
                  </a:lnTo>
                  <a:lnTo>
                    <a:pt x="252" y="190"/>
                  </a:lnTo>
                  <a:lnTo>
                    <a:pt x="280" y="184"/>
                  </a:lnTo>
                  <a:lnTo>
                    <a:pt x="292" y="172"/>
                  </a:lnTo>
                  <a:lnTo>
                    <a:pt x="280" y="150"/>
                  </a:lnTo>
                  <a:lnTo>
                    <a:pt x="278" y="138"/>
                  </a:lnTo>
                  <a:lnTo>
                    <a:pt x="294" y="160"/>
                  </a:lnTo>
                  <a:lnTo>
                    <a:pt x="298" y="140"/>
                  </a:lnTo>
                  <a:lnTo>
                    <a:pt x="288" y="120"/>
                  </a:lnTo>
                  <a:lnTo>
                    <a:pt x="278" y="114"/>
                  </a:lnTo>
                  <a:lnTo>
                    <a:pt x="248" y="118"/>
                  </a:lnTo>
                  <a:lnTo>
                    <a:pt x="260" y="100"/>
                  </a:lnTo>
                  <a:lnTo>
                    <a:pt x="260" y="68"/>
                  </a:lnTo>
                  <a:lnTo>
                    <a:pt x="240" y="46"/>
                  </a:lnTo>
                  <a:lnTo>
                    <a:pt x="230" y="28"/>
                  </a:lnTo>
                  <a:lnTo>
                    <a:pt x="194" y="16"/>
                  </a:lnTo>
                  <a:lnTo>
                    <a:pt x="142" y="30"/>
                  </a:lnTo>
                  <a:lnTo>
                    <a:pt x="128" y="40"/>
                  </a:lnTo>
                  <a:lnTo>
                    <a:pt x="112" y="46"/>
                  </a:lnTo>
                  <a:lnTo>
                    <a:pt x="108" y="40"/>
                  </a:lnTo>
                  <a:lnTo>
                    <a:pt x="132" y="18"/>
                  </a:lnTo>
                  <a:lnTo>
                    <a:pt x="126" y="10"/>
                  </a:lnTo>
                  <a:lnTo>
                    <a:pt x="110" y="2"/>
                  </a:lnTo>
                  <a:lnTo>
                    <a:pt x="92" y="0"/>
                  </a:lnTo>
                  <a:lnTo>
                    <a:pt x="88" y="8"/>
                  </a:lnTo>
                  <a:lnTo>
                    <a:pt x="82" y="12"/>
                  </a:lnTo>
                  <a:lnTo>
                    <a:pt x="78" y="22"/>
                  </a:lnTo>
                  <a:lnTo>
                    <a:pt x="80" y="34"/>
                  </a:lnTo>
                  <a:lnTo>
                    <a:pt x="78" y="46"/>
                  </a:lnTo>
                  <a:lnTo>
                    <a:pt x="74" y="58"/>
                  </a:lnTo>
                  <a:lnTo>
                    <a:pt x="64" y="6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21520" y="2698560"/>
              <a:ext cx="426240" cy="380160"/>
            </a:xfrm>
            <a:custGeom>
              <a:avLst/>
              <a:gdLst/>
              <a:ahLst/>
              <a:rect l="l" t="t" r="r" b="b"/>
              <a:pathLst>
                <a:path w="2458" h="2220">
                  <a:moveTo>
                    <a:pt x="2450" y="214"/>
                  </a:moveTo>
                  <a:lnTo>
                    <a:pt x="2408" y="210"/>
                  </a:lnTo>
                  <a:lnTo>
                    <a:pt x="2410" y="232"/>
                  </a:lnTo>
                  <a:lnTo>
                    <a:pt x="2400" y="232"/>
                  </a:lnTo>
                  <a:lnTo>
                    <a:pt x="2400" y="228"/>
                  </a:lnTo>
                  <a:lnTo>
                    <a:pt x="2382" y="226"/>
                  </a:lnTo>
                  <a:lnTo>
                    <a:pt x="2374" y="220"/>
                  </a:lnTo>
                  <a:lnTo>
                    <a:pt x="2378" y="232"/>
                  </a:lnTo>
                  <a:lnTo>
                    <a:pt x="2374" y="236"/>
                  </a:lnTo>
                  <a:lnTo>
                    <a:pt x="2364" y="224"/>
                  </a:lnTo>
                  <a:lnTo>
                    <a:pt x="2342" y="228"/>
                  </a:lnTo>
                  <a:lnTo>
                    <a:pt x="2324" y="234"/>
                  </a:lnTo>
                  <a:lnTo>
                    <a:pt x="2328" y="222"/>
                  </a:lnTo>
                  <a:lnTo>
                    <a:pt x="2340" y="214"/>
                  </a:lnTo>
                  <a:lnTo>
                    <a:pt x="2352" y="212"/>
                  </a:lnTo>
                  <a:lnTo>
                    <a:pt x="2356" y="206"/>
                  </a:lnTo>
                  <a:lnTo>
                    <a:pt x="2350" y="200"/>
                  </a:lnTo>
                  <a:lnTo>
                    <a:pt x="2340" y="192"/>
                  </a:lnTo>
                  <a:lnTo>
                    <a:pt x="2304" y="196"/>
                  </a:lnTo>
                  <a:lnTo>
                    <a:pt x="2310" y="190"/>
                  </a:lnTo>
                  <a:lnTo>
                    <a:pt x="2298" y="184"/>
                  </a:lnTo>
                  <a:lnTo>
                    <a:pt x="2272" y="176"/>
                  </a:lnTo>
                  <a:lnTo>
                    <a:pt x="2252" y="166"/>
                  </a:lnTo>
                  <a:lnTo>
                    <a:pt x="2226" y="162"/>
                  </a:lnTo>
                  <a:lnTo>
                    <a:pt x="2216" y="158"/>
                  </a:lnTo>
                  <a:lnTo>
                    <a:pt x="2220" y="154"/>
                  </a:lnTo>
                  <a:lnTo>
                    <a:pt x="2218" y="150"/>
                  </a:lnTo>
                  <a:lnTo>
                    <a:pt x="2260" y="156"/>
                  </a:lnTo>
                  <a:lnTo>
                    <a:pt x="2350" y="164"/>
                  </a:lnTo>
                  <a:lnTo>
                    <a:pt x="2404" y="132"/>
                  </a:lnTo>
                  <a:lnTo>
                    <a:pt x="2424" y="126"/>
                  </a:lnTo>
                  <a:lnTo>
                    <a:pt x="2434" y="120"/>
                  </a:lnTo>
                  <a:lnTo>
                    <a:pt x="2426" y="106"/>
                  </a:lnTo>
                  <a:lnTo>
                    <a:pt x="2404" y="100"/>
                  </a:lnTo>
                  <a:lnTo>
                    <a:pt x="2386" y="86"/>
                  </a:lnTo>
                  <a:lnTo>
                    <a:pt x="2358" y="86"/>
                  </a:lnTo>
                  <a:lnTo>
                    <a:pt x="2344" y="82"/>
                  </a:lnTo>
                  <a:lnTo>
                    <a:pt x="2358" y="76"/>
                  </a:lnTo>
                  <a:lnTo>
                    <a:pt x="2328" y="68"/>
                  </a:lnTo>
                  <a:lnTo>
                    <a:pt x="2316" y="58"/>
                  </a:lnTo>
                  <a:lnTo>
                    <a:pt x="2306" y="68"/>
                  </a:lnTo>
                  <a:lnTo>
                    <a:pt x="2296" y="72"/>
                  </a:lnTo>
                  <a:lnTo>
                    <a:pt x="2294" y="64"/>
                  </a:lnTo>
                  <a:lnTo>
                    <a:pt x="2290" y="58"/>
                  </a:lnTo>
                  <a:lnTo>
                    <a:pt x="2258" y="68"/>
                  </a:lnTo>
                  <a:lnTo>
                    <a:pt x="2254" y="64"/>
                  </a:lnTo>
                  <a:lnTo>
                    <a:pt x="2252" y="60"/>
                  </a:lnTo>
                  <a:lnTo>
                    <a:pt x="2252" y="56"/>
                  </a:lnTo>
                  <a:lnTo>
                    <a:pt x="2250" y="46"/>
                  </a:lnTo>
                  <a:lnTo>
                    <a:pt x="2240" y="42"/>
                  </a:lnTo>
                  <a:lnTo>
                    <a:pt x="2234" y="36"/>
                  </a:lnTo>
                  <a:lnTo>
                    <a:pt x="2220" y="40"/>
                  </a:lnTo>
                  <a:lnTo>
                    <a:pt x="2208" y="36"/>
                  </a:lnTo>
                  <a:lnTo>
                    <a:pt x="2194" y="38"/>
                  </a:lnTo>
                  <a:lnTo>
                    <a:pt x="2182" y="54"/>
                  </a:lnTo>
                  <a:lnTo>
                    <a:pt x="2184" y="68"/>
                  </a:lnTo>
                  <a:lnTo>
                    <a:pt x="2188" y="88"/>
                  </a:lnTo>
                  <a:lnTo>
                    <a:pt x="2196" y="102"/>
                  </a:lnTo>
                  <a:lnTo>
                    <a:pt x="2176" y="110"/>
                  </a:lnTo>
                  <a:lnTo>
                    <a:pt x="2158" y="102"/>
                  </a:lnTo>
                  <a:lnTo>
                    <a:pt x="2140" y="106"/>
                  </a:lnTo>
                  <a:lnTo>
                    <a:pt x="2132" y="100"/>
                  </a:lnTo>
                  <a:lnTo>
                    <a:pt x="2148" y="90"/>
                  </a:lnTo>
                  <a:lnTo>
                    <a:pt x="2160" y="76"/>
                  </a:lnTo>
                  <a:lnTo>
                    <a:pt x="2152" y="66"/>
                  </a:lnTo>
                  <a:lnTo>
                    <a:pt x="2126" y="78"/>
                  </a:lnTo>
                  <a:lnTo>
                    <a:pt x="2110" y="78"/>
                  </a:lnTo>
                  <a:lnTo>
                    <a:pt x="2134" y="66"/>
                  </a:lnTo>
                  <a:lnTo>
                    <a:pt x="2116" y="54"/>
                  </a:lnTo>
                  <a:lnTo>
                    <a:pt x="2124" y="46"/>
                  </a:lnTo>
                  <a:lnTo>
                    <a:pt x="2156" y="48"/>
                  </a:lnTo>
                  <a:lnTo>
                    <a:pt x="2164" y="34"/>
                  </a:lnTo>
                  <a:lnTo>
                    <a:pt x="2162" y="18"/>
                  </a:lnTo>
                  <a:lnTo>
                    <a:pt x="2140" y="18"/>
                  </a:lnTo>
                  <a:lnTo>
                    <a:pt x="2142" y="8"/>
                  </a:lnTo>
                  <a:lnTo>
                    <a:pt x="2128" y="2"/>
                  </a:lnTo>
                  <a:lnTo>
                    <a:pt x="2116" y="2"/>
                  </a:lnTo>
                  <a:lnTo>
                    <a:pt x="2098" y="14"/>
                  </a:lnTo>
                  <a:lnTo>
                    <a:pt x="2076" y="0"/>
                  </a:lnTo>
                  <a:lnTo>
                    <a:pt x="2076" y="18"/>
                  </a:lnTo>
                  <a:lnTo>
                    <a:pt x="2072" y="38"/>
                  </a:lnTo>
                  <a:lnTo>
                    <a:pt x="2068" y="50"/>
                  </a:lnTo>
                  <a:lnTo>
                    <a:pt x="2058" y="60"/>
                  </a:lnTo>
                  <a:lnTo>
                    <a:pt x="2056" y="68"/>
                  </a:lnTo>
                  <a:lnTo>
                    <a:pt x="2060" y="80"/>
                  </a:lnTo>
                  <a:lnTo>
                    <a:pt x="2048" y="80"/>
                  </a:lnTo>
                  <a:lnTo>
                    <a:pt x="2044" y="90"/>
                  </a:lnTo>
                  <a:lnTo>
                    <a:pt x="2048" y="106"/>
                  </a:lnTo>
                  <a:lnTo>
                    <a:pt x="2028" y="106"/>
                  </a:lnTo>
                  <a:lnTo>
                    <a:pt x="2008" y="122"/>
                  </a:lnTo>
                  <a:lnTo>
                    <a:pt x="2006" y="106"/>
                  </a:lnTo>
                  <a:lnTo>
                    <a:pt x="2010" y="88"/>
                  </a:lnTo>
                  <a:lnTo>
                    <a:pt x="1990" y="74"/>
                  </a:lnTo>
                  <a:lnTo>
                    <a:pt x="2002" y="64"/>
                  </a:lnTo>
                  <a:lnTo>
                    <a:pt x="2000" y="44"/>
                  </a:lnTo>
                  <a:lnTo>
                    <a:pt x="1992" y="30"/>
                  </a:lnTo>
                  <a:lnTo>
                    <a:pt x="1986" y="30"/>
                  </a:lnTo>
                  <a:lnTo>
                    <a:pt x="1974" y="32"/>
                  </a:lnTo>
                  <a:lnTo>
                    <a:pt x="1928" y="94"/>
                  </a:lnTo>
                  <a:lnTo>
                    <a:pt x="1920" y="102"/>
                  </a:lnTo>
                  <a:lnTo>
                    <a:pt x="1914" y="116"/>
                  </a:lnTo>
                  <a:lnTo>
                    <a:pt x="1900" y="128"/>
                  </a:lnTo>
                  <a:lnTo>
                    <a:pt x="1894" y="146"/>
                  </a:lnTo>
                  <a:lnTo>
                    <a:pt x="1906" y="138"/>
                  </a:lnTo>
                  <a:lnTo>
                    <a:pt x="1878" y="176"/>
                  </a:lnTo>
                  <a:lnTo>
                    <a:pt x="1864" y="180"/>
                  </a:lnTo>
                  <a:lnTo>
                    <a:pt x="1858" y="168"/>
                  </a:lnTo>
                  <a:lnTo>
                    <a:pt x="1858" y="154"/>
                  </a:lnTo>
                  <a:lnTo>
                    <a:pt x="1866" y="146"/>
                  </a:lnTo>
                  <a:lnTo>
                    <a:pt x="1874" y="142"/>
                  </a:lnTo>
                  <a:lnTo>
                    <a:pt x="1872" y="136"/>
                  </a:lnTo>
                  <a:lnTo>
                    <a:pt x="1872" y="118"/>
                  </a:lnTo>
                  <a:lnTo>
                    <a:pt x="1870" y="110"/>
                  </a:lnTo>
                  <a:lnTo>
                    <a:pt x="1876" y="92"/>
                  </a:lnTo>
                  <a:lnTo>
                    <a:pt x="1908" y="62"/>
                  </a:lnTo>
                  <a:lnTo>
                    <a:pt x="1916" y="46"/>
                  </a:lnTo>
                  <a:lnTo>
                    <a:pt x="1898" y="40"/>
                  </a:lnTo>
                  <a:lnTo>
                    <a:pt x="1876" y="52"/>
                  </a:lnTo>
                  <a:lnTo>
                    <a:pt x="1860" y="56"/>
                  </a:lnTo>
                  <a:lnTo>
                    <a:pt x="1856" y="42"/>
                  </a:lnTo>
                  <a:lnTo>
                    <a:pt x="1844" y="38"/>
                  </a:lnTo>
                  <a:lnTo>
                    <a:pt x="1836" y="32"/>
                  </a:lnTo>
                  <a:lnTo>
                    <a:pt x="1832" y="24"/>
                  </a:lnTo>
                  <a:lnTo>
                    <a:pt x="1818" y="38"/>
                  </a:lnTo>
                  <a:lnTo>
                    <a:pt x="1810" y="32"/>
                  </a:lnTo>
                  <a:lnTo>
                    <a:pt x="1798" y="32"/>
                  </a:lnTo>
                  <a:lnTo>
                    <a:pt x="1800" y="56"/>
                  </a:lnTo>
                  <a:lnTo>
                    <a:pt x="1776" y="52"/>
                  </a:lnTo>
                  <a:lnTo>
                    <a:pt x="1790" y="66"/>
                  </a:lnTo>
                  <a:lnTo>
                    <a:pt x="1804" y="74"/>
                  </a:lnTo>
                  <a:lnTo>
                    <a:pt x="1808" y="78"/>
                  </a:lnTo>
                  <a:lnTo>
                    <a:pt x="1786" y="86"/>
                  </a:lnTo>
                  <a:lnTo>
                    <a:pt x="1776" y="98"/>
                  </a:lnTo>
                  <a:lnTo>
                    <a:pt x="1786" y="112"/>
                  </a:lnTo>
                  <a:lnTo>
                    <a:pt x="1742" y="112"/>
                  </a:lnTo>
                  <a:lnTo>
                    <a:pt x="1724" y="128"/>
                  </a:lnTo>
                  <a:lnTo>
                    <a:pt x="1718" y="138"/>
                  </a:lnTo>
                  <a:lnTo>
                    <a:pt x="1698" y="154"/>
                  </a:lnTo>
                  <a:lnTo>
                    <a:pt x="1698" y="160"/>
                  </a:lnTo>
                  <a:lnTo>
                    <a:pt x="1704" y="168"/>
                  </a:lnTo>
                  <a:lnTo>
                    <a:pt x="1702" y="180"/>
                  </a:lnTo>
                  <a:lnTo>
                    <a:pt x="1702" y="196"/>
                  </a:lnTo>
                  <a:lnTo>
                    <a:pt x="1688" y="198"/>
                  </a:lnTo>
                  <a:lnTo>
                    <a:pt x="1678" y="190"/>
                  </a:lnTo>
                  <a:lnTo>
                    <a:pt x="1676" y="182"/>
                  </a:lnTo>
                  <a:lnTo>
                    <a:pt x="1684" y="178"/>
                  </a:lnTo>
                  <a:lnTo>
                    <a:pt x="1660" y="174"/>
                  </a:lnTo>
                  <a:lnTo>
                    <a:pt x="1670" y="162"/>
                  </a:lnTo>
                  <a:lnTo>
                    <a:pt x="1668" y="160"/>
                  </a:lnTo>
                  <a:lnTo>
                    <a:pt x="1614" y="158"/>
                  </a:lnTo>
                  <a:lnTo>
                    <a:pt x="1622" y="170"/>
                  </a:lnTo>
                  <a:lnTo>
                    <a:pt x="1614" y="172"/>
                  </a:lnTo>
                  <a:lnTo>
                    <a:pt x="1598" y="170"/>
                  </a:lnTo>
                  <a:lnTo>
                    <a:pt x="1598" y="162"/>
                  </a:lnTo>
                  <a:lnTo>
                    <a:pt x="1590" y="152"/>
                  </a:lnTo>
                  <a:lnTo>
                    <a:pt x="1584" y="154"/>
                  </a:lnTo>
                  <a:lnTo>
                    <a:pt x="1580" y="144"/>
                  </a:lnTo>
                  <a:lnTo>
                    <a:pt x="1568" y="150"/>
                  </a:lnTo>
                  <a:lnTo>
                    <a:pt x="1564" y="144"/>
                  </a:lnTo>
                  <a:lnTo>
                    <a:pt x="1556" y="150"/>
                  </a:lnTo>
                  <a:lnTo>
                    <a:pt x="1558" y="168"/>
                  </a:lnTo>
                  <a:lnTo>
                    <a:pt x="1546" y="160"/>
                  </a:lnTo>
                  <a:lnTo>
                    <a:pt x="1536" y="148"/>
                  </a:lnTo>
                  <a:lnTo>
                    <a:pt x="1530" y="144"/>
                  </a:lnTo>
                  <a:lnTo>
                    <a:pt x="1534" y="170"/>
                  </a:lnTo>
                  <a:lnTo>
                    <a:pt x="1566" y="180"/>
                  </a:lnTo>
                  <a:lnTo>
                    <a:pt x="1578" y="180"/>
                  </a:lnTo>
                  <a:lnTo>
                    <a:pt x="1580" y="192"/>
                  </a:lnTo>
                  <a:lnTo>
                    <a:pt x="1578" y="202"/>
                  </a:lnTo>
                  <a:lnTo>
                    <a:pt x="1580" y="214"/>
                  </a:lnTo>
                  <a:lnTo>
                    <a:pt x="1590" y="226"/>
                  </a:lnTo>
                  <a:lnTo>
                    <a:pt x="1594" y="242"/>
                  </a:lnTo>
                  <a:lnTo>
                    <a:pt x="1580" y="236"/>
                  </a:lnTo>
                  <a:lnTo>
                    <a:pt x="1542" y="206"/>
                  </a:lnTo>
                  <a:lnTo>
                    <a:pt x="1510" y="190"/>
                  </a:lnTo>
                  <a:lnTo>
                    <a:pt x="1522" y="210"/>
                  </a:lnTo>
                  <a:lnTo>
                    <a:pt x="1512" y="210"/>
                  </a:lnTo>
                  <a:lnTo>
                    <a:pt x="1508" y="222"/>
                  </a:lnTo>
                  <a:lnTo>
                    <a:pt x="1500" y="220"/>
                  </a:lnTo>
                  <a:lnTo>
                    <a:pt x="1494" y="228"/>
                  </a:lnTo>
                  <a:lnTo>
                    <a:pt x="1486" y="224"/>
                  </a:lnTo>
                  <a:lnTo>
                    <a:pt x="1484" y="218"/>
                  </a:lnTo>
                  <a:lnTo>
                    <a:pt x="1490" y="206"/>
                  </a:lnTo>
                  <a:lnTo>
                    <a:pt x="1476" y="212"/>
                  </a:lnTo>
                  <a:lnTo>
                    <a:pt x="1466" y="222"/>
                  </a:lnTo>
                  <a:lnTo>
                    <a:pt x="1462" y="234"/>
                  </a:lnTo>
                  <a:lnTo>
                    <a:pt x="1452" y="238"/>
                  </a:lnTo>
                  <a:lnTo>
                    <a:pt x="1458" y="254"/>
                  </a:lnTo>
                  <a:lnTo>
                    <a:pt x="1462" y="260"/>
                  </a:lnTo>
                  <a:lnTo>
                    <a:pt x="1438" y="276"/>
                  </a:lnTo>
                  <a:lnTo>
                    <a:pt x="1430" y="298"/>
                  </a:lnTo>
                  <a:lnTo>
                    <a:pt x="1418" y="308"/>
                  </a:lnTo>
                  <a:lnTo>
                    <a:pt x="1432" y="286"/>
                  </a:lnTo>
                  <a:lnTo>
                    <a:pt x="1432" y="274"/>
                  </a:lnTo>
                  <a:lnTo>
                    <a:pt x="1430" y="248"/>
                  </a:lnTo>
                  <a:lnTo>
                    <a:pt x="1428" y="228"/>
                  </a:lnTo>
                  <a:lnTo>
                    <a:pt x="1420" y="208"/>
                  </a:lnTo>
                  <a:lnTo>
                    <a:pt x="1402" y="212"/>
                  </a:lnTo>
                  <a:lnTo>
                    <a:pt x="1394" y="226"/>
                  </a:lnTo>
                  <a:lnTo>
                    <a:pt x="1380" y="242"/>
                  </a:lnTo>
                  <a:lnTo>
                    <a:pt x="1378" y="268"/>
                  </a:lnTo>
                  <a:lnTo>
                    <a:pt x="1374" y="288"/>
                  </a:lnTo>
                  <a:lnTo>
                    <a:pt x="1362" y="232"/>
                  </a:lnTo>
                  <a:lnTo>
                    <a:pt x="1318" y="236"/>
                  </a:lnTo>
                  <a:lnTo>
                    <a:pt x="1304" y="256"/>
                  </a:lnTo>
                  <a:lnTo>
                    <a:pt x="1304" y="262"/>
                  </a:lnTo>
                  <a:lnTo>
                    <a:pt x="1312" y="284"/>
                  </a:lnTo>
                  <a:lnTo>
                    <a:pt x="1330" y="298"/>
                  </a:lnTo>
                  <a:lnTo>
                    <a:pt x="1346" y="302"/>
                  </a:lnTo>
                  <a:lnTo>
                    <a:pt x="1362" y="316"/>
                  </a:lnTo>
                  <a:lnTo>
                    <a:pt x="1362" y="328"/>
                  </a:lnTo>
                  <a:lnTo>
                    <a:pt x="1348" y="326"/>
                  </a:lnTo>
                  <a:lnTo>
                    <a:pt x="1332" y="308"/>
                  </a:lnTo>
                  <a:lnTo>
                    <a:pt x="1312" y="302"/>
                  </a:lnTo>
                  <a:lnTo>
                    <a:pt x="1294" y="284"/>
                  </a:lnTo>
                  <a:lnTo>
                    <a:pt x="1278" y="276"/>
                  </a:lnTo>
                  <a:lnTo>
                    <a:pt x="1256" y="278"/>
                  </a:lnTo>
                  <a:lnTo>
                    <a:pt x="1272" y="296"/>
                  </a:lnTo>
                  <a:lnTo>
                    <a:pt x="1298" y="310"/>
                  </a:lnTo>
                  <a:lnTo>
                    <a:pt x="1282" y="320"/>
                  </a:lnTo>
                  <a:lnTo>
                    <a:pt x="1266" y="312"/>
                  </a:lnTo>
                  <a:lnTo>
                    <a:pt x="1260" y="320"/>
                  </a:lnTo>
                  <a:lnTo>
                    <a:pt x="1254" y="306"/>
                  </a:lnTo>
                  <a:lnTo>
                    <a:pt x="1240" y="312"/>
                  </a:lnTo>
                  <a:lnTo>
                    <a:pt x="1238" y="306"/>
                  </a:lnTo>
                  <a:lnTo>
                    <a:pt x="1242" y="292"/>
                  </a:lnTo>
                  <a:lnTo>
                    <a:pt x="1230" y="284"/>
                  </a:lnTo>
                  <a:lnTo>
                    <a:pt x="1226" y="290"/>
                  </a:lnTo>
                  <a:lnTo>
                    <a:pt x="1218" y="316"/>
                  </a:lnTo>
                  <a:lnTo>
                    <a:pt x="1222" y="326"/>
                  </a:lnTo>
                  <a:lnTo>
                    <a:pt x="1232" y="334"/>
                  </a:lnTo>
                  <a:lnTo>
                    <a:pt x="1192" y="348"/>
                  </a:lnTo>
                  <a:lnTo>
                    <a:pt x="1182" y="354"/>
                  </a:lnTo>
                  <a:lnTo>
                    <a:pt x="1180" y="364"/>
                  </a:lnTo>
                  <a:lnTo>
                    <a:pt x="1178" y="376"/>
                  </a:lnTo>
                  <a:lnTo>
                    <a:pt x="1184" y="384"/>
                  </a:lnTo>
                  <a:lnTo>
                    <a:pt x="1200" y="380"/>
                  </a:lnTo>
                  <a:lnTo>
                    <a:pt x="1212" y="388"/>
                  </a:lnTo>
                  <a:lnTo>
                    <a:pt x="1190" y="388"/>
                  </a:lnTo>
                  <a:lnTo>
                    <a:pt x="1198" y="400"/>
                  </a:lnTo>
                  <a:lnTo>
                    <a:pt x="1200" y="408"/>
                  </a:lnTo>
                  <a:lnTo>
                    <a:pt x="1176" y="402"/>
                  </a:lnTo>
                  <a:lnTo>
                    <a:pt x="1168" y="406"/>
                  </a:lnTo>
                  <a:lnTo>
                    <a:pt x="1182" y="414"/>
                  </a:lnTo>
                  <a:lnTo>
                    <a:pt x="1174" y="420"/>
                  </a:lnTo>
                  <a:lnTo>
                    <a:pt x="1154" y="416"/>
                  </a:lnTo>
                  <a:lnTo>
                    <a:pt x="1150" y="424"/>
                  </a:lnTo>
                  <a:lnTo>
                    <a:pt x="1136" y="420"/>
                  </a:lnTo>
                  <a:lnTo>
                    <a:pt x="1108" y="428"/>
                  </a:lnTo>
                  <a:lnTo>
                    <a:pt x="1102" y="438"/>
                  </a:lnTo>
                  <a:lnTo>
                    <a:pt x="1092" y="444"/>
                  </a:lnTo>
                  <a:lnTo>
                    <a:pt x="1090" y="448"/>
                  </a:lnTo>
                  <a:lnTo>
                    <a:pt x="1110" y="456"/>
                  </a:lnTo>
                  <a:lnTo>
                    <a:pt x="1126" y="452"/>
                  </a:lnTo>
                  <a:lnTo>
                    <a:pt x="1134" y="444"/>
                  </a:lnTo>
                  <a:lnTo>
                    <a:pt x="1166" y="456"/>
                  </a:lnTo>
                  <a:lnTo>
                    <a:pt x="1184" y="446"/>
                  </a:lnTo>
                  <a:lnTo>
                    <a:pt x="1192" y="450"/>
                  </a:lnTo>
                  <a:lnTo>
                    <a:pt x="1198" y="458"/>
                  </a:lnTo>
                  <a:lnTo>
                    <a:pt x="1180" y="458"/>
                  </a:lnTo>
                  <a:lnTo>
                    <a:pt x="1172" y="468"/>
                  </a:lnTo>
                  <a:lnTo>
                    <a:pt x="1172" y="482"/>
                  </a:lnTo>
                  <a:lnTo>
                    <a:pt x="1142" y="472"/>
                  </a:lnTo>
                  <a:lnTo>
                    <a:pt x="1122" y="472"/>
                  </a:lnTo>
                  <a:lnTo>
                    <a:pt x="1118" y="468"/>
                  </a:lnTo>
                  <a:lnTo>
                    <a:pt x="1096" y="464"/>
                  </a:lnTo>
                  <a:lnTo>
                    <a:pt x="1072" y="474"/>
                  </a:lnTo>
                  <a:lnTo>
                    <a:pt x="1066" y="482"/>
                  </a:lnTo>
                  <a:lnTo>
                    <a:pt x="1086" y="500"/>
                  </a:lnTo>
                  <a:lnTo>
                    <a:pt x="1088" y="510"/>
                  </a:lnTo>
                  <a:lnTo>
                    <a:pt x="1076" y="510"/>
                  </a:lnTo>
                  <a:lnTo>
                    <a:pt x="1088" y="526"/>
                  </a:lnTo>
                  <a:lnTo>
                    <a:pt x="1092" y="538"/>
                  </a:lnTo>
                  <a:lnTo>
                    <a:pt x="1076" y="534"/>
                  </a:lnTo>
                  <a:lnTo>
                    <a:pt x="1078" y="548"/>
                  </a:lnTo>
                  <a:lnTo>
                    <a:pt x="1066" y="550"/>
                  </a:lnTo>
                  <a:lnTo>
                    <a:pt x="1048" y="506"/>
                  </a:lnTo>
                  <a:lnTo>
                    <a:pt x="1036" y="508"/>
                  </a:lnTo>
                  <a:lnTo>
                    <a:pt x="1030" y="524"/>
                  </a:lnTo>
                  <a:lnTo>
                    <a:pt x="1018" y="520"/>
                  </a:lnTo>
                  <a:lnTo>
                    <a:pt x="1012" y="526"/>
                  </a:lnTo>
                  <a:lnTo>
                    <a:pt x="1032" y="530"/>
                  </a:lnTo>
                  <a:lnTo>
                    <a:pt x="1028" y="536"/>
                  </a:lnTo>
                  <a:lnTo>
                    <a:pt x="1014" y="538"/>
                  </a:lnTo>
                  <a:lnTo>
                    <a:pt x="1002" y="544"/>
                  </a:lnTo>
                  <a:lnTo>
                    <a:pt x="998" y="554"/>
                  </a:lnTo>
                  <a:lnTo>
                    <a:pt x="1002" y="566"/>
                  </a:lnTo>
                  <a:lnTo>
                    <a:pt x="1018" y="572"/>
                  </a:lnTo>
                  <a:lnTo>
                    <a:pt x="1006" y="578"/>
                  </a:lnTo>
                  <a:lnTo>
                    <a:pt x="1014" y="584"/>
                  </a:lnTo>
                  <a:lnTo>
                    <a:pt x="1006" y="588"/>
                  </a:lnTo>
                  <a:lnTo>
                    <a:pt x="998" y="600"/>
                  </a:lnTo>
                  <a:lnTo>
                    <a:pt x="992" y="604"/>
                  </a:lnTo>
                  <a:lnTo>
                    <a:pt x="982" y="604"/>
                  </a:lnTo>
                  <a:lnTo>
                    <a:pt x="986" y="608"/>
                  </a:lnTo>
                  <a:lnTo>
                    <a:pt x="1004" y="612"/>
                  </a:lnTo>
                  <a:lnTo>
                    <a:pt x="1038" y="604"/>
                  </a:lnTo>
                  <a:lnTo>
                    <a:pt x="1016" y="622"/>
                  </a:lnTo>
                  <a:lnTo>
                    <a:pt x="1004" y="626"/>
                  </a:lnTo>
                  <a:lnTo>
                    <a:pt x="970" y="622"/>
                  </a:lnTo>
                  <a:lnTo>
                    <a:pt x="962" y="618"/>
                  </a:lnTo>
                  <a:lnTo>
                    <a:pt x="958" y="608"/>
                  </a:lnTo>
                  <a:lnTo>
                    <a:pt x="944" y="610"/>
                  </a:lnTo>
                  <a:lnTo>
                    <a:pt x="926" y="622"/>
                  </a:lnTo>
                  <a:lnTo>
                    <a:pt x="918" y="642"/>
                  </a:lnTo>
                  <a:lnTo>
                    <a:pt x="902" y="652"/>
                  </a:lnTo>
                  <a:lnTo>
                    <a:pt x="902" y="662"/>
                  </a:lnTo>
                  <a:lnTo>
                    <a:pt x="914" y="662"/>
                  </a:lnTo>
                  <a:lnTo>
                    <a:pt x="914" y="672"/>
                  </a:lnTo>
                  <a:lnTo>
                    <a:pt x="912" y="678"/>
                  </a:lnTo>
                  <a:lnTo>
                    <a:pt x="896" y="682"/>
                  </a:lnTo>
                  <a:lnTo>
                    <a:pt x="892" y="704"/>
                  </a:lnTo>
                  <a:lnTo>
                    <a:pt x="878" y="702"/>
                  </a:lnTo>
                  <a:lnTo>
                    <a:pt x="868" y="706"/>
                  </a:lnTo>
                  <a:lnTo>
                    <a:pt x="856" y="708"/>
                  </a:lnTo>
                  <a:lnTo>
                    <a:pt x="842" y="722"/>
                  </a:lnTo>
                  <a:lnTo>
                    <a:pt x="854" y="734"/>
                  </a:lnTo>
                  <a:lnTo>
                    <a:pt x="848" y="738"/>
                  </a:lnTo>
                  <a:lnTo>
                    <a:pt x="828" y="742"/>
                  </a:lnTo>
                  <a:lnTo>
                    <a:pt x="828" y="754"/>
                  </a:lnTo>
                  <a:lnTo>
                    <a:pt x="808" y="756"/>
                  </a:lnTo>
                  <a:lnTo>
                    <a:pt x="814" y="762"/>
                  </a:lnTo>
                  <a:lnTo>
                    <a:pt x="806" y="766"/>
                  </a:lnTo>
                  <a:lnTo>
                    <a:pt x="804" y="778"/>
                  </a:lnTo>
                  <a:lnTo>
                    <a:pt x="828" y="780"/>
                  </a:lnTo>
                  <a:lnTo>
                    <a:pt x="824" y="788"/>
                  </a:lnTo>
                  <a:lnTo>
                    <a:pt x="808" y="794"/>
                  </a:lnTo>
                  <a:lnTo>
                    <a:pt x="796" y="788"/>
                  </a:lnTo>
                  <a:lnTo>
                    <a:pt x="796" y="790"/>
                  </a:lnTo>
                  <a:lnTo>
                    <a:pt x="800" y="808"/>
                  </a:lnTo>
                  <a:lnTo>
                    <a:pt x="812" y="818"/>
                  </a:lnTo>
                  <a:lnTo>
                    <a:pt x="820" y="810"/>
                  </a:lnTo>
                  <a:lnTo>
                    <a:pt x="828" y="816"/>
                  </a:lnTo>
                  <a:lnTo>
                    <a:pt x="824" y="826"/>
                  </a:lnTo>
                  <a:lnTo>
                    <a:pt x="788" y="830"/>
                  </a:lnTo>
                  <a:lnTo>
                    <a:pt x="780" y="836"/>
                  </a:lnTo>
                  <a:lnTo>
                    <a:pt x="780" y="854"/>
                  </a:lnTo>
                  <a:lnTo>
                    <a:pt x="764" y="862"/>
                  </a:lnTo>
                  <a:lnTo>
                    <a:pt x="750" y="866"/>
                  </a:lnTo>
                  <a:lnTo>
                    <a:pt x="742" y="884"/>
                  </a:lnTo>
                  <a:lnTo>
                    <a:pt x="756" y="882"/>
                  </a:lnTo>
                  <a:lnTo>
                    <a:pt x="770" y="872"/>
                  </a:lnTo>
                  <a:lnTo>
                    <a:pt x="790" y="866"/>
                  </a:lnTo>
                  <a:lnTo>
                    <a:pt x="790" y="876"/>
                  </a:lnTo>
                  <a:lnTo>
                    <a:pt x="806" y="894"/>
                  </a:lnTo>
                  <a:lnTo>
                    <a:pt x="768" y="884"/>
                  </a:lnTo>
                  <a:lnTo>
                    <a:pt x="766" y="896"/>
                  </a:lnTo>
                  <a:lnTo>
                    <a:pt x="774" y="900"/>
                  </a:lnTo>
                  <a:lnTo>
                    <a:pt x="762" y="908"/>
                  </a:lnTo>
                  <a:lnTo>
                    <a:pt x="758" y="916"/>
                  </a:lnTo>
                  <a:lnTo>
                    <a:pt x="764" y="926"/>
                  </a:lnTo>
                  <a:lnTo>
                    <a:pt x="758" y="930"/>
                  </a:lnTo>
                  <a:lnTo>
                    <a:pt x="746" y="926"/>
                  </a:lnTo>
                  <a:lnTo>
                    <a:pt x="738" y="932"/>
                  </a:lnTo>
                  <a:lnTo>
                    <a:pt x="746" y="946"/>
                  </a:lnTo>
                  <a:lnTo>
                    <a:pt x="758" y="952"/>
                  </a:lnTo>
                  <a:lnTo>
                    <a:pt x="766" y="976"/>
                  </a:lnTo>
                  <a:lnTo>
                    <a:pt x="750" y="966"/>
                  </a:lnTo>
                  <a:lnTo>
                    <a:pt x="736" y="964"/>
                  </a:lnTo>
                  <a:lnTo>
                    <a:pt x="724" y="948"/>
                  </a:lnTo>
                  <a:lnTo>
                    <a:pt x="728" y="968"/>
                  </a:lnTo>
                  <a:lnTo>
                    <a:pt x="722" y="976"/>
                  </a:lnTo>
                  <a:lnTo>
                    <a:pt x="710" y="980"/>
                  </a:lnTo>
                  <a:lnTo>
                    <a:pt x="704" y="992"/>
                  </a:lnTo>
                  <a:lnTo>
                    <a:pt x="714" y="996"/>
                  </a:lnTo>
                  <a:lnTo>
                    <a:pt x="726" y="992"/>
                  </a:lnTo>
                  <a:lnTo>
                    <a:pt x="732" y="980"/>
                  </a:lnTo>
                  <a:lnTo>
                    <a:pt x="736" y="986"/>
                  </a:lnTo>
                  <a:lnTo>
                    <a:pt x="734" y="992"/>
                  </a:lnTo>
                  <a:lnTo>
                    <a:pt x="736" y="1000"/>
                  </a:lnTo>
                  <a:lnTo>
                    <a:pt x="740" y="1010"/>
                  </a:lnTo>
                  <a:lnTo>
                    <a:pt x="728" y="1018"/>
                  </a:lnTo>
                  <a:lnTo>
                    <a:pt x="708" y="1012"/>
                  </a:lnTo>
                  <a:lnTo>
                    <a:pt x="698" y="1022"/>
                  </a:lnTo>
                  <a:lnTo>
                    <a:pt x="684" y="1018"/>
                  </a:lnTo>
                  <a:lnTo>
                    <a:pt x="672" y="1030"/>
                  </a:lnTo>
                  <a:lnTo>
                    <a:pt x="670" y="1042"/>
                  </a:lnTo>
                  <a:lnTo>
                    <a:pt x="658" y="1050"/>
                  </a:lnTo>
                  <a:lnTo>
                    <a:pt x="642" y="1054"/>
                  </a:lnTo>
                  <a:lnTo>
                    <a:pt x="636" y="1080"/>
                  </a:lnTo>
                  <a:lnTo>
                    <a:pt x="654" y="1078"/>
                  </a:lnTo>
                  <a:lnTo>
                    <a:pt x="672" y="1070"/>
                  </a:lnTo>
                  <a:lnTo>
                    <a:pt x="678" y="1074"/>
                  </a:lnTo>
                  <a:lnTo>
                    <a:pt x="648" y="1084"/>
                  </a:lnTo>
                  <a:lnTo>
                    <a:pt x="648" y="1096"/>
                  </a:lnTo>
                  <a:lnTo>
                    <a:pt x="656" y="1112"/>
                  </a:lnTo>
                  <a:lnTo>
                    <a:pt x="648" y="1120"/>
                  </a:lnTo>
                  <a:lnTo>
                    <a:pt x="628" y="1126"/>
                  </a:lnTo>
                  <a:lnTo>
                    <a:pt x="602" y="1110"/>
                  </a:lnTo>
                  <a:lnTo>
                    <a:pt x="596" y="1110"/>
                  </a:lnTo>
                  <a:lnTo>
                    <a:pt x="580" y="1130"/>
                  </a:lnTo>
                  <a:lnTo>
                    <a:pt x="562" y="1140"/>
                  </a:lnTo>
                  <a:lnTo>
                    <a:pt x="560" y="1148"/>
                  </a:lnTo>
                  <a:lnTo>
                    <a:pt x="548" y="1156"/>
                  </a:lnTo>
                  <a:lnTo>
                    <a:pt x="518" y="1190"/>
                  </a:lnTo>
                  <a:lnTo>
                    <a:pt x="514" y="1198"/>
                  </a:lnTo>
                  <a:lnTo>
                    <a:pt x="522" y="1212"/>
                  </a:lnTo>
                  <a:lnTo>
                    <a:pt x="522" y="1216"/>
                  </a:lnTo>
                  <a:lnTo>
                    <a:pt x="480" y="1234"/>
                  </a:lnTo>
                  <a:lnTo>
                    <a:pt x="480" y="1248"/>
                  </a:lnTo>
                  <a:lnTo>
                    <a:pt x="490" y="1254"/>
                  </a:lnTo>
                  <a:lnTo>
                    <a:pt x="512" y="1246"/>
                  </a:lnTo>
                  <a:lnTo>
                    <a:pt x="504" y="1268"/>
                  </a:lnTo>
                  <a:lnTo>
                    <a:pt x="518" y="1284"/>
                  </a:lnTo>
                  <a:lnTo>
                    <a:pt x="532" y="1288"/>
                  </a:lnTo>
                  <a:lnTo>
                    <a:pt x="600" y="1250"/>
                  </a:lnTo>
                  <a:lnTo>
                    <a:pt x="640" y="1238"/>
                  </a:lnTo>
                  <a:lnTo>
                    <a:pt x="650" y="1228"/>
                  </a:lnTo>
                  <a:lnTo>
                    <a:pt x="658" y="1232"/>
                  </a:lnTo>
                  <a:lnTo>
                    <a:pt x="652" y="1240"/>
                  </a:lnTo>
                  <a:lnTo>
                    <a:pt x="628" y="1250"/>
                  </a:lnTo>
                  <a:lnTo>
                    <a:pt x="614" y="1252"/>
                  </a:lnTo>
                  <a:lnTo>
                    <a:pt x="594" y="1262"/>
                  </a:lnTo>
                  <a:lnTo>
                    <a:pt x="578" y="1272"/>
                  </a:lnTo>
                  <a:lnTo>
                    <a:pt x="590" y="1282"/>
                  </a:lnTo>
                  <a:lnTo>
                    <a:pt x="588" y="1288"/>
                  </a:lnTo>
                  <a:lnTo>
                    <a:pt x="556" y="1298"/>
                  </a:lnTo>
                  <a:lnTo>
                    <a:pt x="536" y="1298"/>
                  </a:lnTo>
                  <a:lnTo>
                    <a:pt x="530" y="1302"/>
                  </a:lnTo>
                  <a:lnTo>
                    <a:pt x="536" y="1312"/>
                  </a:lnTo>
                  <a:lnTo>
                    <a:pt x="528" y="1314"/>
                  </a:lnTo>
                  <a:lnTo>
                    <a:pt x="510" y="1312"/>
                  </a:lnTo>
                  <a:lnTo>
                    <a:pt x="510" y="1298"/>
                  </a:lnTo>
                  <a:lnTo>
                    <a:pt x="492" y="1278"/>
                  </a:lnTo>
                  <a:lnTo>
                    <a:pt x="482" y="1272"/>
                  </a:lnTo>
                  <a:lnTo>
                    <a:pt x="472" y="1272"/>
                  </a:lnTo>
                  <a:lnTo>
                    <a:pt x="468" y="1280"/>
                  </a:lnTo>
                  <a:lnTo>
                    <a:pt x="454" y="1280"/>
                  </a:lnTo>
                  <a:lnTo>
                    <a:pt x="442" y="1290"/>
                  </a:lnTo>
                  <a:lnTo>
                    <a:pt x="440" y="1300"/>
                  </a:lnTo>
                  <a:lnTo>
                    <a:pt x="452" y="1306"/>
                  </a:lnTo>
                  <a:lnTo>
                    <a:pt x="456" y="1312"/>
                  </a:lnTo>
                  <a:lnTo>
                    <a:pt x="434" y="1322"/>
                  </a:lnTo>
                  <a:lnTo>
                    <a:pt x="426" y="1314"/>
                  </a:lnTo>
                  <a:lnTo>
                    <a:pt x="424" y="1302"/>
                  </a:lnTo>
                  <a:lnTo>
                    <a:pt x="420" y="1294"/>
                  </a:lnTo>
                  <a:lnTo>
                    <a:pt x="370" y="1308"/>
                  </a:lnTo>
                  <a:lnTo>
                    <a:pt x="362" y="1316"/>
                  </a:lnTo>
                  <a:lnTo>
                    <a:pt x="356" y="1332"/>
                  </a:lnTo>
                  <a:lnTo>
                    <a:pt x="342" y="1330"/>
                  </a:lnTo>
                  <a:lnTo>
                    <a:pt x="346" y="1340"/>
                  </a:lnTo>
                  <a:lnTo>
                    <a:pt x="344" y="1346"/>
                  </a:lnTo>
                  <a:lnTo>
                    <a:pt x="326" y="1346"/>
                  </a:lnTo>
                  <a:lnTo>
                    <a:pt x="326" y="1340"/>
                  </a:lnTo>
                  <a:lnTo>
                    <a:pt x="322" y="1334"/>
                  </a:lnTo>
                  <a:lnTo>
                    <a:pt x="314" y="1336"/>
                  </a:lnTo>
                  <a:lnTo>
                    <a:pt x="310" y="1342"/>
                  </a:lnTo>
                  <a:lnTo>
                    <a:pt x="312" y="1348"/>
                  </a:lnTo>
                  <a:lnTo>
                    <a:pt x="310" y="1352"/>
                  </a:lnTo>
                  <a:lnTo>
                    <a:pt x="292" y="1352"/>
                  </a:lnTo>
                  <a:lnTo>
                    <a:pt x="264" y="1362"/>
                  </a:lnTo>
                  <a:lnTo>
                    <a:pt x="262" y="1380"/>
                  </a:lnTo>
                  <a:lnTo>
                    <a:pt x="254" y="1396"/>
                  </a:lnTo>
                  <a:lnTo>
                    <a:pt x="238" y="1390"/>
                  </a:lnTo>
                  <a:lnTo>
                    <a:pt x="218" y="1388"/>
                  </a:lnTo>
                  <a:lnTo>
                    <a:pt x="202" y="1398"/>
                  </a:lnTo>
                  <a:lnTo>
                    <a:pt x="200" y="1408"/>
                  </a:lnTo>
                  <a:lnTo>
                    <a:pt x="218" y="1416"/>
                  </a:lnTo>
                  <a:lnTo>
                    <a:pt x="208" y="1426"/>
                  </a:lnTo>
                  <a:lnTo>
                    <a:pt x="226" y="1428"/>
                  </a:lnTo>
                  <a:lnTo>
                    <a:pt x="248" y="1424"/>
                  </a:lnTo>
                  <a:lnTo>
                    <a:pt x="256" y="1432"/>
                  </a:lnTo>
                  <a:lnTo>
                    <a:pt x="268" y="1436"/>
                  </a:lnTo>
                  <a:lnTo>
                    <a:pt x="256" y="1448"/>
                  </a:lnTo>
                  <a:lnTo>
                    <a:pt x="262" y="1458"/>
                  </a:lnTo>
                  <a:lnTo>
                    <a:pt x="246" y="1452"/>
                  </a:lnTo>
                  <a:lnTo>
                    <a:pt x="230" y="1452"/>
                  </a:lnTo>
                  <a:lnTo>
                    <a:pt x="184" y="1448"/>
                  </a:lnTo>
                  <a:lnTo>
                    <a:pt x="170" y="1448"/>
                  </a:lnTo>
                  <a:lnTo>
                    <a:pt x="162" y="1454"/>
                  </a:lnTo>
                  <a:lnTo>
                    <a:pt x="148" y="1452"/>
                  </a:lnTo>
                  <a:lnTo>
                    <a:pt x="136" y="1460"/>
                  </a:lnTo>
                  <a:lnTo>
                    <a:pt x="140" y="1462"/>
                  </a:lnTo>
                  <a:lnTo>
                    <a:pt x="152" y="1466"/>
                  </a:lnTo>
                  <a:lnTo>
                    <a:pt x="140" y="1470"/>
                  </a:lnTo>
                  <a:lnTo>
                    <a:pt x="142" y="1478"/>
                  </a:lnTo>
                  <a:lnTo>
                    <a:pt x="156" y="1476"/>
                  </a:lnTo>
                  <a:lnTo>
                    <a:pt x="166" y="1472"/>
                  </a:lnTo>
                  <a:lnTo>
                    <a:pt x="152" y="1486"/>
                  </a:lnTo>
                  <a:lnTo>
                    <a:pt x="154" y="1498"/>
                  </a:lnTo>
                  <a:lnTo>
                    <a:pt x="164" y="1520"/>
                  </a:lnTo>
                  <a:lnTo>
                    <a:pt x="156" y="1522"/>
                  </a:lnTo>
                  <a:lnTo>
                    <a:pt x="148" y="1502"/>
                  </a:lnTo>
                  <a:lnTo>
                    <a:pt x="138" y="1494"/>
                  </a:lnTo>
                  <a:lnTo>
                    <a:pt x="120" y="1502"/>
                  </a:lnTo>
                  <a:lnTo>
                    <a:pt x="110" y="1514"/>
                  </a:lnTo>
                  <a:lnTo>
                    <a:pt x="104" y="1526"/>
                  </a:lnTo>
                  <a:lnTo>
                    <a:pt x="114" y="1534"/>
                  </a:lnTo>
                  <a:lnTo>
                    <a:pt x="118" y="1544"/>
                  </a:lnTo>
                  <a:lnTo>
                    <a:pt x="100" y="1536"/>
                  </a:lnTo>
                  <a:lnTo>
                    <a:pt x="92" y="1524"/>
                  </a:lnTo>
                  <a:lnTo>
                    <a:pt x="76" y="1530"/>
                  </a:lnTo>
                  <a:lnTo>
                    <a:pt x="50" y="1528"/>
                  </a:lnTo>
                  <a:lnTo>
                    <a:pt x="50" y="1536"/>
                  </a:lnTo>
                  <a:lnTo>
                    <a:pt x="52" y="1544"/>
                  </a:lnTo>
                  <a:lnTo>
                    <a:pt x="20" y="1526"/>
                  </a:lnTo>
                  <a:lnTo>
                    <a:pt x="12" y="1532"/>
                  </a:lnTo>
                  <a:lnTo>
                    <a:pt x="26" y="1554"/>
                  </a:lnTo>
                  <a:lnTo>
                    <a:pt x="18" y="1560"/>
                  </a:lnTo>
                  <a:lnTo>
                    <a:pt x="22" y="1566"/>
                  </a:lnTo>
                  <a:lnTo>
                    <a:pt x="76" y="1566"/>
                  </a:lnTo>
                  <a:lnTo>
                    <a:pt x="126" y="1556"/>
                  </a:lnTo>
                  <a:lnTo>
                    <a:pt x="96" y="1568"/>
                  </a:lnTo>
                  <a:lnTo>
                    <a:pt x="102" y="1572"/>
                  </a:lnTo>
                  <a:lnTo>
                    <a:pt x="124" y="1572"/>
                  </a:lnTo>
                  <a:lnTo>
                    <a:pt x="142" y="1566"/>
                  </a:lnTo>
                  <a:lnTo>
                    <a:pt x="148" y="1570"/>
                  </a:lnTo>
                  <a:lnTo>
                    <a:pt x="128" y="1580"/>
                  </a:lnTo>
                  <a:lnTo>
                    <a:pt x="98" y="1582"/>
                  </a:lnTo>
                  <a:lnTo>
                    <a:pt x="68" y="1582"/>
                  </a:lnTo>
                  <a:lnTo>
                    <a:pt x="56" y="1576"/>
                  </a:lnTo>
                  <a:lnTo>
                    <a:pt x="44" y="1576"/>
                  </a:lnTo>
                  <a:lnTo>
                    <a:pt x="22" y="1590"/>
                  </a:lnTo>
                  <a:lnTo>
                    <a:pt x="20" y="1598"/>
                  </a:lnTo>
                  <a:lnTo>
                    <a:pt x="6" y="1596"/>
                  </a:lnTo>
                  <a:lnTo>
                    <a:pt x="2" y="1598"/>
                  </a:lnTo>
                  <a:lnTo>
                    <a:pt x="0" y="1610"/>
                  </a:lnTo>
                  <a:lnTo>
                    <a:pt x="30" y="1616"/>
                  </a:lnTo>
                  <a:lnTo>
                    <a:pt x="28" y="1626"/>
                  </a:lnTo>
                  <a:lnTo>
                    <a:pt x="30" y="1636"/>
                  </a:lnTo>
                  <a:lnTo>
                    <a:pt x="20" y="1642"/>
                  </a:lnTo>
                  <a:lnTo>
                    <a:pt x="6" y="1656"/>
                  </a:lnTo>
                  <a:lnTo>
                    <a:pt x="12" y="1664"/>
                  </a:lnTo>
                  <a:lnTo>
                    <a:pt x="6" y="1672"/>
                  </a:lnTo>
                  <a:lnTo>
                    <a:pt x="6" y="1682"/>
                  </a:lnTo>
                  <a:lnTo>
                    <a:pt x="14" y="1688"/>
                  </a:lnTo>
                  <a:lnTo>
                    <a:pt x="14" y="1698"/>
                  </a:lnTo>
                  <a:lnTo>
                    <a:pt x="46" y="1702"/>
                  </a:lnTo>
                  <a:lnTo>
                    <a:pt x="106" y="1684"/>
                  </a:lnTo>
                  <a:lnTo>
                    <a:pt x="120" y="1690"/>
                  </a:lnTo>
                  <a:lnTo>
                    <a:pt x="142" y="1690"/>
                  </a:lnTo>
                  <a:lnTo>
                    <a:pt x="148" y="1674"/>
                  </a:lnTo>
                  <a:lnTo>
                    <a:pt x="164" y="1652"/>
                  </a:lnTo>
                  <a:lnTo>
                    <a:pt x="168" y="1666"/>
                  </a:lnTo>
                  <a:lnTo>
                    <a:pt x="162" y="1686"/>
                  </a:lnTo>
                  <a:lnTo>
                    <a:pt x="174" y="1690"/>
                  </a:lnTo>
                  <a:lnTo>
                    <a:pt x="196" y="1690"/>
                  </a:lnTo>
                  <a:lnTo>
                    <a:pt x="210" y="1684"/>
                  </a:lnTo>
                  <a:lnTo>
                    <a:pt x="222" y="1690"/>
                  </a:lnTo>
                  <a:lnTo>
                    <a:pt x="242" y="1672"/>
                  </a:lnTo>
                  <a:lnTo>
                    <a:pt x="246" y="1638"/>
                  </a:lnTo>
                  <a:lnTo>
                    <a:pt x="272" y="1628"/>
                  </a:lnTo>
                  <a:lnTo>
                    <a:pt x="274" y="1634"/>
                  </a:lnTo>
                  <a:lnTo>
                    <a:pt x="258" y="1656"/>
                  </a:lnTo>
                  <a:lnTo>
                    <a:pt x="256" y="1674"/>
                  </a:lnTo>
                  <a:lnTo>
                    <a:pt x="254" y="1680"/>
                  </a:lnTo>
                  <a:lnTo>
                    <a:pt x="264" y="1680"/>
                  </a:lnTo>
                  <a:lnTo>
                    <a:pt x="278" y="1672"/>
                  </a:lnTo>
                  <a:lnTo>
                    <a:pt x="288" y="1678"/>
                  </a:lnTo>
                  <a:lnTo>
                    <a:pt x="262" y="1694"/>
                  </a:lnTo>
                  <a:lnTo>
                    <a:pt x="226" y="1702"/>
                  </a:lnTo>
                  <a:lnTo>
                    <a:pt x="224" y="1716"/>
                  </a:lnTo>
                  <a:lnTo>
                    <a:pt x="238" y="1728"/>
                  </a:lnTo>
                  <a:lnTo>
                    <a:pt x="210" y="1740"/>
                  </a:lnTo>
                  <a:lnTo>
                    <a:pt x="210" y="1724"/>
                  </a:lnTo>
                  <a:lnTo>
                    <a:pt x="202" y="1712"/>
                  </a:lnTo>
                  <a:lnTo>
                    <a:pt x="184" y="1702"/>
                  </a:lnTo>
                  <a:lnTo>
                    <a:pt x="162" y="1702"/>
                  </a:lnTo>
                  <a:lnTo>
                    <a:pt x="136" y="1708"/>
                  </a:lnTo>
                  <a:lnTo>
                    <a:pt x="116" y="1704"/>
                  </a:lnTo>
                  <a:lnTo>
                    <a:pt x="96" y="1708"/>
                  </a:lnTo>
                  <a:lnTo>
                    <a:pt x="76" y="1706"/>
                  </a:lnTo>
                  <a:lnTo>
                    <a:pt x="60" y="1718"/>
                  </a:lnTo>
                  <a:lnTo>
                    <a:pt x="22" y="1712"/>
                  </a:lnTo>
                  <a:lnTo>
                    <a:pt x="12" y="1730"/>
                  </a:lnTo>
                  <a:lnTo>
                    <a:pt x="10" y="1744"/>
                  </a:lnTo>
                  <a:lnTo>
                    <a:pt x="30" y="1746"/>
                  </a:lnTo>
                  <a:lnTo>
                    <a:pt x="38" y="1744"/>
                  </a:lnTo>
                  <a:lnTo>
                    <a:pt x="40" y="1766"/>
                  </a:lnTo>
                  <a:lnTo>
                    <a:pt x="22" y="1760"/>
                  </a:lnTo>
                  <a:lnTo>
                    <a:pt x="10" y="1752"/>
                  </a:lnTo>
                  <a:lnTo>
                    <a:pt x="8" y="1756"/>
                  </a:lnTo>
                  <a:lnTo>
                    <a:pt x="4" y="1756"/>
                  </a:lnTo>
                  <a:lnTo>
                    <a:pt x="4" y="1760"/>
                  </a:lnTo>
                  <a:lnTo>
                    <a:pt x="24" y="1788"/>
                  </a:lnTo>
                  <a:lnTo>
                    <a:pt x="38" y="1790"/>
                  </a:lnTo>
                  <a:lnTo>
                    <a:pt x="64" y="1776"/>
                  </a:lnTo>
                  <a:lnTo>
                    <a:pt x="80" y="1774"/>
                  </a:lnTo>
                  <a:lnTo>
                    <a:pt x="54" y="1794"/>
                  </a:lnTo>
                  <a:lnTo>
                    <a:pt x="46" y="1804"/>
                  </a:lnTo>
                  <a:lnTo>
                    <a:pt x="54" y="1810"/>
                  </a:lnTo>
                  <a:lnTo>
                    <a:pt x="32" y="1820"/>
                  </a:lnTo>
                  <a:lnTo>
                    <a:pt x="24" y="1828"/>
                  </a:lnTo>
                  <a:lnTo>
                    <a:pt x="28" y="1842"/>
                  </a:lnTo>
                  <a:lnTo>
                    <a:pt x="38" y="1850"/>
                  </a:lnTo>
                  <a:lnTo>
                    <a:pt x="44" y="1860"/>
                  </a:lnTo>
                  <a:lnTo>
                    <a:pt x="56" y="1852"/>
                  </a:lnTo>
                  <a:lnTo>
                    <a:pt x="68" y="1842"/>
                  </a:lnTo>
                  <a:lnTo>
                    <a:pt x="68" y="1856"/>
                  </a:lnTo>
                  <a:lnTo>
                    <a:pt x="86" y="1876"/>
                  </a:lnTo>
                  <a:lnTo>
                    <a:pt x="70" y="1876"/>
                  </a:lnTo>
                  <a:lnTo>
                    <a:pt x="54" y="1888"/>
                  </a:lnTo>
                  <a:lnTo>
                    <a:pt x="54" y="1894"/>
                  </a:lnTo>
                  <a:lnTo>
                    <a:pt x="64" y="1900"/>
                  </a:lnTo>
                  <a:lnTo>
                    <a:pt x="84" y="1890"/>
                  </a:lnTo>
                  <a:lnTo>
                    <a:pt x="96" y="1872"/>
                  </a:lnTo>
                  <a:lnTo>
                    <a:pt x="96" y="1854"/>
                  </a:lnTo>
                  <a:lnTo>
                    <a:pt x="112" y="1844"/>
                  </a:lnTo>
                  <a:lnTo>
                    <a:pt x="132" y="1826"/>
                  </a:lnTo>
                  <a:lnTo>
                    <a:pt x="150" y="1796"/>
                  </a:lnTo>
                  <a:lnTo>
                    <a:pt x="170" y="1784"/>
                  </a:lnTo>
                  <a:lnTo>
                    <a:pt x="178" y="1792"/>
                  </a:lnTo>
                  <a:lnTo>
                    <a:pt x="180" y="1798"/>
                  </a:lnTo>
                  <a:lnTo>
                    <a:pt x="204" y="1792"/>
                  </a:lnTo>
                  <a:lnTo>
                    <a:pt x="222" y="1794"/>
                  </a:lnTo>
                  <a:lnTo>
                    <a:pt x="192" y="1806"/>
                  </a:lnTo>
                  <a:lnTo>
                    <a:pt x="190" y="1822"/>
                  </a:lnTo>
                  <a:lnTo>
                    <a:pt x="184" y="1832"/>
                  </a:lnTo>
                  <a:lnTo>
                    <a:pt x="180" y="1816"/>
                  </a:lnTo>
                  <a:lnTo>
                    <a:pt x="170" y="1812"/>
                  </a:lnTo>
                  <a:lnTo>
                    <a:pt x="154" y="1834"/>
                  </a:lnTo>
                  <a:lnTo>
                    <a:pt x="134" y="1852"/>
                  </a:lnTo>
                  <a:lnTo>
                    <a:pt x="148" y="1858"/>
                  </a:lnTo>
                  <a:lnTo>
                    <a:pt x="148" y="1864"/>
                  </a:lnTo>
                  <a:lnTo>
                    <a:pt x="128" y="1872"/>
                  </a:lnTo>
                  <a:lnTo>
                    <a:pt x="88" y="1912"/>
                  </a:lnTo>
                  <a:lnTo>
                    <a:pt x="104" y="1920"/>
                  </a:lnTo>
                  <a:lnTo>
                    <a:pt x="142" y="1918"/>
                  </a:lnTo>
                  <a:lnTo>
                    <a:pt x="152" y="1912"/>
                  </a:lnTo>
                  <a:lnTo>
                    <a:pt x="158" y="1916"/>
                  </a:lnTo>
                  <a:lnTo>
                    <a:pt x="118" y="1930"/>
                  </a:lnTo>
                  <a:lnTo>
                    <a:pt x="108" y="1938"/>
                  </a:lnTo>
                  <a:lnTo>
                    <a:pt x="104" y="1946"/>
                  </a:lnTo>
                  <a:lnTo>
                    <a:pt x="86" y="1946"/>
                  </a:lnTo>
                  <a:lnTo>
                    <a:pt x="76" y="1950"/>
                  </a:lnTo>
                  <a:lnTo>
                    <a:pt x="64" y="1946"/>
                  </a:lnTo>
                  <a:lnTo>
                    <a:pt x="46" y="1964"/>
                  </a:lnTo>
                  <a:lnTo>
                    <a:pt x="38" y="1978"/>
                  </a:lnTo>
                  <a:lnTo>
                    <a:pt x="38" y="1990"/>
                  </a:lnTo>
                  <a:lnTo>
                    <a:pt x="46" y="1996"/>
                  </a:lnTo>
                  <a:lnTo>
                    <a:pt x="48" y="2002"/>
                  </a:lnTo>
                  <a:lnTo>
                    <a:pt x="66" y="2000"/>
                  </a:lnTo>
                  <a:lnTo>
                    <a:pt x="74" y="1986"/>
                  </a:lnTo>
                  <a:lnTo>
                    <a:pt x="78" y="2000"/>
                  </a:lnTo>
                  <a:lnTo>
                    <a:pt x="94" y="1998"/>
                  </a:lnTo>
                  <a:lnTo>
                    <a:pt x="96" y="1990"/>
                  </a:lnTo>
                  <a:lnTo>
                    <a:pt x="94" y="1980"/>
                  </a:lnTo>
                  <a:lnTo>
                    <a:pt x="110" y="1986"/>
                  </a:lnTo>
                  <a:lnTo>
                    <a:pt x="138" y="1974"/>
                  </a:lnTo>
                  <a:lnTo>
                    <a:pt x="148" y="1964"/>
                  </a:lnTo>
                  <a:lnTo>
                    <a:pt x="158" y="1970"/>
                  </a:lnTo>
                  <a:lnTo>
                    <a:pt x="130" y="1996"/>
                  </a:lnTo>
                  <a:lnTo>
                    <a:pt x="142" y="1996"/>
                  </a:lnTo>
                  <a:lnTo>
                    <a:pt x="142" y="2012"/>
                  </a:lnTo>
                  <a:lnTo>
                    <a:pt x="132" y="2026"/>
                  </a:lnTo>
                  <a:lnTo>
                    <a:pt x="126" y="2036"/>
                  </a:lnTo>
                  <a:lnTo>
                    <a:pt x="116" y="2046"/>
                  </a:lnTo>
                  <a:lnTo>
                    <a:pt x="118" y="2058"/>
                  </a:lnTo>
                  <a:lnTo>
                    <a:pt x="116" y="2064"/>
                  </a:lnTo>
                  <a:lnTo>
                    <a:pt x="106" y="2064"/>
                  </a:lnTo>
                  <a:lnTo>
                    <a:pt x="96" y="2068"/>
                  </a:lnTo>
                  <a:lnTo>
                    <a:pt x="88" y="2056"/>
                  </a:lnTo>
                  <a:lnTo>
                    <a:pt x="80" y="2056"/>
                  </a:lnTo>
                  <a:lnTo>
                    <a:pt x="68" y="2106"/>
                  </a:lnTo>
                  <a:lnTo>
                    <a:pt x="96" y="2134"/>
                  </a:lnTo>
                  <a:lnTo>
                    <a:pt x="140" y="2162"/>
                  </a:lnTo>
                  <a:lnTo>
                    <a:pt x="168" y="2178"/>
                  </a:lnTo>
                  <a:lnTo>
                    <a:pt x="194" y="2180"/>
                  </a:lnTo>
                  <a:lnTo>
                    <a:pt x="208" y="2160"/>
                  </a:lnTo>
                  <a:lnTo>
                    <a:pt x="208" y="2188"/>
                  </a:lnTo>
                  <a:lnTo>
                    <a:pt x="204" y="2208"/>
                  </a:lnTo>
                  <a:lnTo>
                    <a:pt x="216" y="2200"/>
                  </a:lnTo>
                  <a:lnTo>
                    <a:pt x="238" y="2208"/>
                  </a:lnTo>
                  <a:lnTo>
                    <a:pt x="244" y="2194"/>
                  </a:lnTo>
                  <a:lnTo>
                    <a:pt x="274" y="2196"/>
                  </a:lnTo>
                  <a:lnTo>
                    <a:pt x="260" y="2210"/>
                  </a:lnTo>
                  <a:lnTo>
                    <a:pt x="294" y="2220"/>
                  </a:lnTo>
                  <a:lnTo>
                    <a:pt x="320" y="2212"/>
                  </a:lnTo>
                  <a:lnTo>
                    <a:pt x="342" y="2196"/>
                  </a:lnTo>
                  <a:lnTo>
                    <a:pt x="352" y="2174"/>
                  </a:lnTo>
                  <a:lnTo>
                    <a:pt x="368" y="2190"/>
                  </a:lnTo>
                  <a:lnTo>
                    <a:pt x="406" y="2168"/>
                  </a:lnTo>
                  <a:lnTo>
                    <a:pt x="444" y="2126"/>
                  </a:lnTo>
                  <a:lnTo>
                    <a:pt x="468" y="2116"/>
                  </a:lnTo>
                  <a:lnTo>
                    <a:pt x="474" y="2098"/>
                  </a:lnTo>
                  <a:lnTo>
                    <a:pt x="486" y="2088"/>
                  </a:lnTo>
                  <a:lnTo>
                    <a:pt x="492" y="2080"/>
                  </a:lnTo>
                  <a:lnTo>
                    <a:pt x="522" y="2052"/>
                  </a:lnTo>
                  <a:lnTo>
                    <a:pt x="516" y="2038"/>
                  </a:lnTo>
                  <a:lnTo>
                    <a:pt x="544" y="2050"/>
                  </a:lnTo>
                  <a:lnTo>
                    <a:pt x="572" y="2050"/>
                  </a:lnTo>
                  <a:lnTo>
                    <a:pt x="586" y="2044"/>
                  </a:lnTo>
                  <a:lnTo>
                    <a:pt x="592" y="2026"/>
                  </a:lnTo>
                  <a:lnTo>
                    <a:pt x="592" y="2014"/>
                  </a:lnTo>
                  <a:lnTo>
                    <a:pt x="608" y="2002"/>
                  </a:lnTo>
                  <a:lnTo>
                    <a:pt x="604" y="1986"/>
                  </a:lnTo>
                  <a:lnTo>
                    <a:pt x="590" y="1974"/>
                  </a:lnTo>
                  <a:lnTo>
                    <a:pt x="582" y="1962"/>
                  </a:lnTo>
                  <a:lnTo>
                    <a:pt x="588" y="1958"/>
                  </a:lnTo>
                  <a:lnTo>
                    <a:pt x="588" y="1950"/>
                  </a:lnTo>
                  <a:lnTo>
                    <a:pt x="582" y="1932"/>
                  </a:lnTo>
                  <a:lnTo>
                    <a:pt x="592" y="1938"/>
                  </a:lnTo>
                  <a:lnTo>
                    <a:pt x="600" y="1950"/>
                  </a:lnTo>
                  <a:lnTo>
                    <a:pt x="602" y="1962"/>
                  </a:lnTo>
                  <a:lnTo>
                    <a:pt x="614" y="1960"/>
                  </a:lnTo>
                  <a:lnTo>
                    <a:pt x="616" y="1948"/>
                  </a:lnTo>
                  <a:lnTo>
                    <a:pt x="606" y="1936"/>
                  </a:lnTo>
                  <a:lnTo>
                    <a:pt x="602" y="1912"/>
                  </a:lnTo>
                  <a:lnTo>
                    <a:pt x="606" y="1908"/>
                  </a:lnTo>
                  <a:lnTo>
                    <a:pt x="610" y="1908"/>
                  </a:lnTo>
                  <a:lnTo>
                    <a:pt x="622" y="1902"/>
                  </a:lnTo>
                  <a:lnTo>
                    <a:pt x="632" y="1906"/>
                  </a:lnTo>
                  <a:lnTo>
                    <a:pt x="634" y="1918"/>
                  </a:lnTo>
                  <a:lnTo>
                    <a:pt x="620" y="1924"/>
                  </a:lnTo>
                  <a:lnTo>
                    <a:pt x="620" y="1932"/>
                  </a:lnTo>
                  <a:lnTo>
                    <a:pt x="626" y="1950"/>
                  </a:lnTo>
                  <a:lnTo>
                    <a:pt x="634" y="1996"/>
                  </a:lnTo>
                  <a:lnTo>
                    <a:pt x="640" y="2014"/>
                  </a:lnTo>
                  <a:lnTo>
                    <a:pt x="656" y="2010"/>
                  </a:lnTo>
                  <a:lnTo>
                    <a:pt x="676" y="2024"/>
                  </a:lnTo>
                  <a:lnTo>
                    <a:pt x="690" y="2022"/>
                  </a:lnTo>
                  <a:lnTo>
                    <a:pt x="698" y="2034"/>
                  </a:lnTo>
                  <a:lnTo>
                    <a:pt x="704" y="2040"/>
                  </a:lnTo>
                  <a:lnTo>
                    <a:pt x="706" y="2076"/>
                  </a:lnTo>
                  <a:lnTo>
                    <a:pt x="710" y="2054"/>
                  </a:lnTo>
                  <a:lnTo>
                    <a:pt x="720" y="2068"/>
                  </a:lnTo>
                  <a:lnTo>
                    <a:pt x="736" y="2060"/>
                  </a:lnTo>
                  <a:lnTo>
                    <a:pt x="746" y="2000"/>
                  </a:lnTo>
                  <a:lnTo>
                    <a:pt x="736" y="1980"/>
                  </a:lnTo>
                  <a:lnTo>
                    <a:pt x="732" y="1956"/>
                  </a:lnTo>
                  <a:lnTo>
                    <a:pt x="754" y="1922"/>
                  </a:lnTo>
                  <a:lnTo>
                    <a:pt x="752" y="1900"/>
                  </a:lnTo>
                  <a:lnTo>
                    <a:pt x="806" y="1884"/>
                  </a:lnTo>
                  <a:lnTo>
                    <a:pt x="816" y="1868"/>
                  </a:lnTo>
                  <a:lnTo>
                    <a:pt x="818" y="1844"/>
                  </a:lnTo>
                  <a:lnTo>
                    <a:pt x="808" y="1832"/>
                  </a:lnTo>
                  <a:lnTo>
                    <a:pt x="820" y="1786"/>
                  </a:lnTo>
                  <a:lnTo>
                    <a:pt x="798" y="1736"/>
                  </a:lnTo>
                  <a:lnTo>
                    <a:pt x="776" y="1718"/>
                  </a:lnTo>
                  <a:lnTo>
                    <a:pt x="780" y="1708"/>
                  </a:lnTo>
                  <a:lnTo>
                    <a:pt x="808" y="1698"/>
                  </a:lnTo>
                  <a:lnTo>
                    <a:pt x="828" y="1682"/>
                  </a:lnTo>
                  <a:lnTo>
                    <a:pt x="836" y="1654"/>
                  </a:lnTo>
                  <a:lnTo>
                    <a:pt x="828" y="1624"/>
                  </a:lnTo>
                  <a:lnTo>
                    <a:pt x="786" y="1602"/>
                  </a:lnTo>
                  <a:lnTo>
                    <a:pt x="766" y="1580"/>
                  </a:lnTo>
                  <a:lnTo>
                    <a:pt x="760" y="1550"/>
                  </a:lnTo>
                  <a:lnTo>
                    <a:pt x="758" y="1490"/>
                  </a:lnTo>
                  <a:lnTo>
                    <a:pt x="748" y="1468"/>
                  </a:lnTo>
                  <a:lnTo>
                    <a:pt x="742" y="1464"/>
                  </a:lnTo>
                  <a:lnTo>
                    <a:pt x="740" y="1446"/>
                  </a:lnTo>
                  <a:lnTo>
                    <a:pt x="744" y="1434"/>
                  </a:lnTo>
                  <a:lnTo>
                    <a:pt x="742" y="1406"/>
                  </a:lnTo>
                  <a:lnTo>
                    <a:pt x="746" y="1394"/>
                  </a:lnTo>
                  <a:lnTo>
                    <a:pt x="748" y="1376"/>
                  </a:lnTo>
                  <a:lnTo>
                    <a:pt x="760" y="1362"/>
                  </a:lnTo>
                  <a:lnTo>
                    <a:pt x="750" y="1356"/>
                  </a:lnTo>
                  <a:lnTo>
                    <a:pt x="734" y="1336"/>
                  </a:lnTo>
                  <a:lnTo>
                    <a:pt x="726" y="1312"/>
                  </a:lnTo>
                  <a:lnTo>
                    <a:pt x="732" y="1284"/>
                  </a:lnTo>
                  <a:lnTo>
                    <a:pt x="742" y="1264"/>
                  </a:lnTo>
                  <a:lnTo>
                    <a:pt x="784" y="1222"/>
                  </a:lnTo>
                  <a:lnTo>
                    <a:pt x="816" y="1206"/>
                  </a:lnTo>
                  <a:lnTo>
                    <a:pt x="856" y="1198"/>
                  </a:lnTo>
                  <a:lnTo>
                    <a:pt x="890" y="1204"/>
                  </a:lnTo>
                  <a:lnTo>
                    <a:pt x="918" y="1204"/>
                  </a:lnTo>
                  <a:lnTo>
                    <a:pt x="934" y="1186"/>
                  </a:lnTo>
                  <a:lnTo>
                    <a:pt x="938" y="1172"/>
                  </a:lnTo>
                  <a:lnTo>
                    <a:pt x="936" y="1144"/>
                  </a:lnTo>
                  <a:lnTo>
                    <a:pt x="922" y="1130"/>
                  </a:lnTo>
                  <a:lnTo>
                    <a:pt x="892" y="1110"/>
                  </a:lnTo>
                  <a:lnTo>
                    <a:pt x="888" y="1096"/>
                  </a:lnTo>
                  <a:lnTo>
                    <a:pt x="920" y="1054"/>
                  </a:lnTo>
                  <a:lnTo>
                    <a:pt x="946" y="1008"/>
                  </a:lnTo>
                  <a:lnTo>
                    <a:pt x="956" y="942"/>
                  </a:lnTo>
                  <a:lnTo>
                    <a:pt x="954" y="906"/>
                  </a:lnTo>
                  <a:lnTo>
                    <a:pt x="950" y="878"/>
                  </a:lnTo>
                  <a:lnTo>
                    <a:pt x="946" y="860"/>
                  </a:lnTo>
                  <a:lnTo>
                    <a:pt x="958" y="854"/>
                  </a:lnTo>
                  <a:lnTo>
                    <a:pt x="980" y="854"/>
                  </a:lnTo>
                  <a:lnTo>
                    <a:pt x="1010" y="838"/>
                  </a:lnTo>
                  <a:lnTo>
                    <a:pt x="1016" y="822"/>
                  </a:lnTo>
                  <a:lnTo>
                    <a:pt x="1018" y="798"/>
                  </a:lnTo>
                  <a:lnTo>
                    <a:pt x="1026" y="778"/>
                  </a:lnTo>
                  <a:lnTo>
                    <a:pt x="1066" y="740"/>
                  </a:lnTo>
                  <a:lnTo>
                    <a:pt x="1076" y="722"/>
                  </a:lnTo>
                  <a:lnTo>
                    <a:pt x="1098" y="706"/>
                  </a:lnTo>
                  <a:lnTo>
                    <a:pt x="1108" y="692"/>
                  </a:lnTo>
                  <a:lnTo>
                    <a:pt x="1110" y="682"/>
                  </a:lnTo>
                  <a:lnTo>
                    <a:pt x="1104" y="666"/>
                  </a:lnTo>
                  <a:lnTo>
                    <a:pt x="1078" y="640"/>
                  </a:lnTo>
                  <a:lnTo>
                    <a:pt x="1082" y="624"/>
                  </a:lnTo>
                  <a:lnTo>
                    <a:pt x="1104" y="602"/>
                  </a:lnTo>
                  <a:lnTo>
                    <a:pt x="1114" y="590"/>
                  </a:lnTo>
                  <a:lnTo>
                    <a:pt x="1114" y="576"/>
                  </a:lnTo>
                  <a:lnTo>
                    <a:pt x="1120" y="556"/>
                  </a:lnTo>
                  <a:lnTo>
                    <a:pt x="1132" y="544"/>
                  </a:lnTo>
                  <a:lnTo>
                    <a:pt x="1164" y="520"/>
                  </a:lnTo>
                  <a:lnTo>
                    <a:pt x="1184" y="516"/>
                  </a:lnTo>
                  <a:lnTo>
                    <a:pt x="1208" y="524"/>
                  </a:lnTo>
                  <a:lnTo>
                    <a:pt x="1228" y="538"/>
                  </a:lnTo>
                  <a:lnTo>
                    <a:pt x="1236" y="540"/>
                  </a:lnTo>
                  <a:lnTo>
                    <a:pt x="1250" y="522"/>
                  </a:lnTo>
                  <a:lnTo>
                    <a:pt x="1256" y="496"/>
                  </a:lnTo>
                  <a:lnTo>
                    <a:pt x="1256" y="486"/>
                  </a:lnTo>
                  <a:lnTo>
                    <a:pt x="1250" y="460"/>
                  </a:lnTo>
                  <a:lnTo>
                    <a:pt x="1256" y="448"/>
                  </a:lnTo>
                  <a:lnTo>
                    <a:pt x="1266" y="444"/>
                  </a:lnTo>
                  <a:lnTo>
                    <a:pt x="1282" y="442"/>
                  </a:lnTo>
                  <a:lnTo>
                    <a:pt x="1338" y="444"/>
                  </a:lnTo>
                  <a:lnTo>
                    <a:pt x="1418" y="460"/>
                  </a:lnTo>
                  <a:lnTo>
                    <a:pt x="1434" y="458"/>
                  </a:lnTo>
                  <a:lnTo>
                    <a:pt x="1444" y="448"/>
                  </a:lnTo>
                  <a:lnTo>
                    <a:pt x="1424" y="438"/>
                  </a:lnTo>
                  <a:lnTo>
                    <a:pt x="1420" y="426"/>
                  </a:lnTo>
                  <a:lnTo>
                    <a:pt x="1430" y="414"/>
                  </a:lnTo>
                  <a:lnTo>
                    <a:pt x="1434" y="398"/>
                  </a:lnTo>
                  <a:lnTo>
                    <a:pt x="1440" y="392"/>
                  </a:lnTo>
                  <a:lnTo>
                    <a:pt x="1442" y="382"/>
                  </a:lnTo>
                  <a:lnTo>
                    <a:pt x="1436" y="370"/>
                  </a:lnTo>
                  <a:lnTo>
                    <a:pt x="1428" y="364"/>
                  </a:lnTo>
                  <a:lnTo>
                    <a:pt x="1424" y="354"/>
                  </a:lnTo>
                  <a:lnTo>
                    <a:pt x="1432" y="350"/>
                  </a:lnTo>
                  <a:lnTo>
                    <a:pt x="1474" y="350"/>
                  </a:lnTo>
                  <a:lnTo>
                    <a:pt x="1478" y="342"/>
                  </a:lnTo>
                  <a:lnTo>
                    <a:pt x="1492" y="338"/>
                  </a:lnTo>
                  <a:lnTo>
                    <a:pt x="1506" y="342"/>
                  </a:lnTo>
                  <a:lnTo>
                    <a:pt x="1524" y="338"/>
                  </a:lnTo>
                  <a:lnTo>
                    <a:pt x="1516" y="326"/>
                  </a:lnTo>
                  <a:lnTo>
                    <a:pt x="1510" y="312"/>
                  </a:lnTo>
                  <a:lnTo>
                    <a:pt x="1532" y="304"/>
                  </a:lnTo>
                  <a:lnTo>
                    <a:pt x="1558" y="310"/>
                  </a:lnTo>
                  <a:lnTo>
                    <a:pt x="1582" y="322"/>
                  </a:lnTo>
                  <a:lnTo>
                    <a:pt x="1644" y="370"/>
                  </a:lnTo>
                  <a:lnTo>
                    <a:pt x="1656" y="390"/>
                  </a:lnTo>
                  <a:lnTo>
                    <a:pt x="1668" y="398"/>
                  </a:lnTo>
                  <a:lnTo>
                    <a:pt x="1714" y="402"/>
                  </a:lnTo>
                  <a:lnTo>
                    <a:pt x="1744" y="412"/>
                  </a:lnTo>
                  <a:lnTo>
                    <a:pt x="1764" y="410"/>
                  </a:lnTo>
                  <a:lnTo>
                    <a:pt x="1788" y="398"/>
                  </a:lnTo>
                  <a:lnTo>
                    <a:pt x="1816" y="376"/>
                  </a:lnTo>
                  <a:lnTo>
                    <a:pt x="1834" y="384"/>
                  </a:lnTo>
                  <a:lnTo>
                    <a:pt x="1854" y="398"/>
                  </a:lnTo>
                  <a:lnTo>
                    <a:pt x="1862" y="408"/>
                  </a:lnTo>
                  <a:lnTo>
                    <a:pt x="1882" y="410"/>
                  </a:lnTo>
                  <a:lnTo>
                    <a:pt x="1906" y="402"/>
                  </a:lnTo>
                  <a:lnTo>
                    <a:pt x="1928" y="390"/>
                  </a:lnTo>
                  <a:lnTo>
                    <a:pt x="1938" y="374"/>
                  </a:lnTo>
                  <a:lnTo>
                    <a:pt x="1980" y="354"/>
                  </a:lnTo>
                  <a:lnTo>
                    <a:pt x="1980" y="340"/>
                  </a:lnTo>
                  <a:lnTo>
                    <a:pt x="1970" y="314"/>
                  </a:lnTo>
                  <a:lnTo>
                    <a:pt x="1968" y="300"/>
                  </a:lnTo>
                  <a:lnTo>
                    <a:pt x="1964" y="254"/>
                  </a:lnTo>
                  <a:lnTo>
                    <a:pt x="1980" y="220"/>
                  </a:lnTo>
                  <a:lnTo>
                    <a:pt x="1996" y="206"/>
                  </a:lnTo>
                  <a:lnTo>
                    <a:pt x="2016" y="198"/>
                  </a:lnTo>
                  <a:lnTo>
                    <a:pt x="2058" y="196"/>
                  </a:lnTo>
                  <a:lnTo>
                    <a:pt x="2122" y="176"/>
                  </a:lnTo>
                  <a:lnTo>
                    <a:pt x="2162" y="170"/>
                  </a:lnTo>
                  <a:lnTo>
                    <a:pt x="2172" y="174"/>
                  </a:lnTo>
                  <a:lnTo>
                    <a:pt x="2194" y="196"/>
                  </a:lnTo>
                  <a:lnTo>
                    <a:pt x="2216" y="204"/>
                  </a:lnTo>
                  <a:lnTo>
                    <a:pt x="2248" y="210"/>
                  </a:lnTo>
                  <a:lnTo>
                    <a:pt x="2286" y="228"/>
                  </a:lnTo>
                  <a:lnTo>
                    <a:pt x="2306" y="258"/>
                  </a:lnTo>
                  <a:lnTo>
                    <a:pt x="2312" y="274"/>
                  </a:lnTo>
                  <a:lnTo>
                    <a:pt x="2284" y="302"/>
                  </a:lnTo>
                  <a:lnTo>
                    <a:pt x="2280" y="314"/>
                  </a:lnTo>
                  <a:lnTo>
                    <a:pt x="2284" y="328"/>
                  </a:lnTo>
                  <a:lnTo>
                    <a:pt x="2304" y="334"/>
                  </a:lnTo>
                  <a:lnTo>
                    <a:pt x="2310" y="334"/>
                  </a:lnTo>
                  <a:lnTo>
                    <a:pt x="2322" y="324"/>
                  </a:lnTo>
                  <a:lnTo>
                    <a:pt x="2324" y="320"/>
                  </a:lnTo>
                  <a:lnTo>
                    <a:pt x="2322" y="308"/>
                  </a:lnTo>
                  <a:lnTo>
                    <a:pt x="2324" y="302"/>
                  </a:lnTo>
                  <a:lnTo>
                    <a:pt x="2376" y="280"/>
                  </a:lnTo>
                  <a:lnTo>
                    <a:pt x="2386" y="272"/>
                  </a:lnTo>
                  <a:lnTo>
                    <a:pt x="2388" y="240"/>
                  </a:lnTo>
                  <a:lnTo>
                    <a:pt x="2430" y="254"/>
                  </a:lnTo>
                  <a:lnTo>
                    <a:pt x="2450" y="250"/>
                  </a:lnTo>
                  <a:lnTo>
                    <a:pt x="2454" y="244"/>
                  </a:lnTo>
                  <a:lnTo>
                    <a:pt x="2458" y="230"/>
                  </a:lnTo>
                  <a:lnTo>
                    <a:pt x="2454" y="218"/>
                  </a:lnTo>
                  <a:lnTo>
                    <a:pt x="2450" y="21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94480" y="3232080"/>
              <a:ext cx="379440" cy="228240"/>
            </a:xfrm>
            <a:custGeom>
              <a:avLst/>
              <a:gdLst/>
              <a:ahLst/>
              <a:rect l="l" t="t" r="r" b="b"/>
              <a:pathLst>
                <a:path w="2182" h="1340">
                  <a:moveTo>
                    <a:pt x="556" y="712"/>
                  </a:moveTo>
                  <a:lnTo>
                    <a:pt x="540" y="710"/>
                  </a:lnTo>
                  <a:lnTo>
                    <a:pt x="470" y="754"/>
                  </a:lnTo>
                  <a:lnTo>
                    <a:pt x="432" y="756"/>
                  </a:lnTo>
                  <a:lnTo>
                    <a:pt x="396" y="766"/>
                  </a:lnTo>
                  <a:lnTo>
                    <a:pt x="364" y="790"/>
                  </a:lnTo>
                  <a:lnTo>
                    <a:pt x="340" y="780"/>
                  </a:lnTo>
                  <a:lnTo>
                    <a:pt x="312" y="760"/>
                  </a:lnTo>
                  <a:lnTo>
                    <a:pt x="278" y="762"/>
                  </a:lnTo>
                  <a:lnTo>
                    <a:pt x="246" y="770"/>
                  </a:lnTo>
                  <a:lnTo>
                    <a:pt x="192" y="768"/>
                  </a:lnTo>
                  <a:lnTo>
                    <a:pt x="150" y="762"/>
                  </a:lnTo>
                  <a:lnTo>
                    <a:pt x="112" y="764"/>
                  </a:lnTo>
                  <a:lnTo>
                    <a:pt x="98" y="770"/>
                  </a:lnTo>
                  <a:lnTo>
                    <a:pt x="84" y="748"/>
                  </a:lnTo>
                  <a:lnTo>
                    <a:pt x="64" y="730"/>
                  </a:lnTo>
                  <a:lnTo>
                    <a:pt x="36" y="712"/>
                  </a:lnTo>
                  <a:lnTo>
                    <a:pt x="0" y="696"/>
                  </a:lnTo>
                  <a:lnTo>
                    <a:pt x="8" y="650"/>
                  </a:lnTo>
                  <a:lnTo>
                    <a:pt x="26" y="590"/>
                  </a:lnTo>
                  <a:lnTo>
                    <a:pt x="26" y="576"/>
                  </a:lnTo>
                  <a:lnTo>
                    <a:pt x="36" y="578"/>
                  </a:lnTo>
                  <a:lnTo>
                    <a:pt x="60" y="574"/>
                  </a:lnTo>
                  <a:lnTo>
                    <a:pt x="50" y="548"/>
                  </a:lnTo>
                  <a:lnTo>
                    <a:pt x="52" y="520"/>
                  </a:lnTo>
                  <a:lnTo>
                    <a:pt x="80" y="444"/>
                  </a:lnTo>
                  <a:lnTo>
                    <a:pt x="108" y="406"/>
                  </a:lnTo>
                  <a:lnTo>
                    <a:pt x="148" y="380"/>
                  </a:lnTo>
                  <a:lnTo>
                    <a:pt x="182" y="350"/>
                  </a:lnTo>
                  <a:lnTo>
                    <a:pt x="190" y="322"/>
                  </a:lnTo>
                  <a:lnTo>
                    <a:pt x="172" y="292"/>
                  </a:lnTo>
                  <a:lnTo>
                    <a:pt x="172" y="270"/>
                  </a:lnTo>
                  <a:lnTo>
                    <a:pt x="146" y="248"/>
                  </a:lnTo>
                  <a:lnTo>
                    <a:pt x="142" y="242"/>
                  </a:lnTo>
                  <a:lnTo>
                    <a:pt x="122" y="208"/>
                  </a:lnTo>
                  <a:lnTo>
                    <a:pt x="114" y="182"/>
                  </a:lnTo>
                  <a:lnTo>
                    <a:pt x="98" y="158"/>
                  </a:lnTo>
                  <a:lnTo>
                    <a:pt x="110" y="148"/>
                  </a:lnTo>
                  <a:lnTo>
                    <a:pt x="128" y="144"/>
                  </a:lnTo>
                  <a:lnTo>
                    <a:pt x="146" y="146"/>
                  </a:lnTo>
                  <a:lnTo>
                    <a:pt x="178" y="132"/>
                  </a:lnTo>
                  <a:lnTo>
                    <a:pt x="190" y="122"/>
                  </a:lnTo>
                  <a:lnTo>
                    <a:pt x="192" y="106"/>
                  </a:lnTo>
                  <a:lnTo>
                    <a:pt x="208" y="100"/>
                  </a:lnTo>
                  <a:lnTo>
                    <a:pt x="294" y="86"/>
                  </a:lnTo>
                  <a:lnTo>
                    <a:pt x="312" y="92"/>
                  </a:lnTo>
                  <a:lnTo>
                    <a:pt x="350" y="92"/>
                  </a:lnTo>
                  <a:lnTo>
                    <a:pt x="368" y="88"/>
                  </a:lnTo>
                  <a:lnTo>
                    <a:pt x="400" y="104"/>
                  </a:lnTo>
                  <a:lnTo>
                    <a:pt x="436" y="114"/>
                  </a:lnTo>
                  <a:lnTo>
                    <a:pt x="454" y="114"/>
                  </a:lnTo>
                  <a:lnTo>
                    <a:pt x="472" y="112"/>
                  </a:lnTo>
                  <a:lnTo>
                    <a:pt x="488" y="120"/>
                  </a:lnTo>
                  <a:lnTo>
                    <a:pt x="506" y="122"/>
                  </a:lnTo>
                  <a:lnTo>
                    <a:pt x="524" y="130"/>
                  </a:lnTo>
                  <a:lnTo>
                    <a:pt x="530" y="146"/>
                  </a:lnTo>
                  <a:lnTo>
                    <a:pt x="546" y="156"/>
                  </a:lnTo>
                  <a:lnTo>
                    <a:pt x="580" y="152"/>
                  </a:lnTo>
                  <a:lnTo>
                    <a:pt x="584" y="168"/>
                  </a:lnTo>
                  <a:lnTo>
                    <a:pt x="600" y="178"/>
                  </a:lnTo>
                  <a:lnTo>
                    <a:pt x="612" y="168"/>
                  </a:lnTo>
                  <a:lnTo>
                    <a:pt x="628" y="162"/>
                  </a:lnTo>
                  <a:lnTo>
                    <a:pt x="646" y="162"/>
                  </a:lnTo>
                  <a:lnTo>
                    <a:pt x="658" y="148"/>
                  </a:lnTo>
                  <a:lnTo>
                    <a:pt x="674" y="158"/>
                  </a:lnTo>
                  <a:lnTo>
                    <a:pt x="692" y="164"/>
                  </a:lnTo>
                  <a:lnTo>
                    <a:pt x="708" y="158"/>
                  </a:lnTo>
                  <a:lnTo>
                    <a:pt x="720" y="172"/>
                  </a:lnTo>
                  <a:lnTo>
                    <a:pt x="738" y="180"/>
                  </a:lnTo>
                  <a:lnTo>
                    <a:pt x="768" y="144"/>
                  </a:lnTo>
                  <a:lnTo>
                    <a:pt x="800" y="164"/>
                  </a:lnTo>
                  <a:lnTo>
                    <a:pt x="810" y="178"/>
                  </a:lnTo>
                  <a:lnTo>
                    <a:pt x="824" y="188"/>
                  </a:lnTo>
                  <a:lnTo>
                    <a:pt x="838" y="178"/>
                  </a:lnTo>
                  <a:lnTo>
                    <a:pt x="858" y="180"/>
                  </a:lnTo>
                  <a:lnTo>
                    <a:pt x="892" y="172"/>
                  </a:lnTo>
                  <a:lnTo>
                    <a:pt x="910" y="172"/>
                  </a:lnTo>
                  <a:lnTo>
                    <a:pt x="928" y="180"/>
                  </a:lnTo>
                  <a:lnTo>
                    <a:pt x="940" y="192"/>
                  </a:lnTo>
                  <a:lnTo>
                    <a:pt x="958" y="188"/>
                  </a:lnTo>
                  <a:lnTo>
                    <a:pt x="964" y="172"/>
                  </a:lnTo>
                  <a:lnTo>
                    <a:pt x="952" y="140"/>
                  </a:lnTo>
                  <a:lnTo>
                    <a:pt x="954" y="124"/>
                  </a:lnTo>
                  <a:lnTo>
                    <a:pt x="952" y="108"/>
                  </a:lnTo>
                  <a:lnTo>
                    <a:pt x="956" y="94"/>
                  </a:lnTo>
                  <a:lnTo>
                    <a:pt x="988" y="58"/>
                  </a:lnTo>
                  <a:lnTo>
                    <a:pt x="1002" y="50"/>
                  </a:lnTo>
                  <a:lnTo>
                    <a:pt x="1022" y="50"/>
                  </a:lnTo>
                  <a:lnTo>
                    <a:pt x="1036" y="42"/>
                  </a:lnTo>
                  <a:lnTo>
                    <a:pt x="1080" y="40"/>
                  </a:lnTo>
                  <a:lnTo>
                    <a:pt x="1078" y="40"/>
                  </a:lnTo>
                  <a:lnTo>
                    <a:pt x="1094" y="50"/>
                  </a:lnTo>
                  <a:lnTo>
                    <a:pt x="1110" y="54"/>
                  </a:lnTo>
                  <a:lnTo>
                    <a:pt x="1124" y="46"/>
                  </a:lnTo>
                  <a:lnTo>
                    <a:pt x="1134" y="34"/>
                  </a:lnTo>
                  <a:lnTo>
                    <a:pt x="1136" y="18"/>
                  </a:lnTo>
                  <a:lnTo>
                    <a:pt x="1148" y="10"/>
                  </a:lnTo>
                  <a:lnTo>
                    <a:pt x="1186" y="14"/>
                  </a:lnTo>
                  <a:lnTo>
                    <a:pt x="1204" y="14"/>
                  </a:lnTo>
                  <a:lnTo>
                    <a:pt x="1236" y="4"/>
                  </a:lnTo>
                  <a:lnTo>
                    <a:pt x="1272" y="8"/>
                  </a:lnTo>
                  <a:lnTo>
                    <a:pt x="1304" y="0"/>
                  </a:lnTo>
                  <a:lnTo>
                    <a:pt x="1336" y="18"/>
                  </a:lnTo>
                  <a:lnTo>
                    <a:pt x="1346" y="32"/>
                  </a:lnTo>
                  <a:lnTo>
                    <a:pt x="1350" y="48"/>
                  </a:lnTo>
                  <a:lnTo>
                    <a:pt x="1382" y="68"/>
                  </a:lnTo>
                  <a:lnTo>
                    <a:pt x="1394" y="80"/>
                  </a:lnTo>
                  <a:lnTo>
                    <a:pt x="1398" y="98"/>
                  </a:lnTo>
                  <a:lnTo>
                    <a:pt x="1382" y="106"/>
                  </a:lnTo>
                  <a:lnTo>
                    <a:pt x="1366" y="108"/>
                  </a:lnTo>
                  <a:lnTo>
                    <a:pt x="1376" y="122"/>
                  </a:lnTo>
                  <a:lnTo>
                    <a:pt x="1378" y="136"/>
                  </a:lnTo>
                  <a:lnTo>
                    <a:pt x="1394" y="166"/>
                  </a:lnTo>
                  <a:lnTo>
                    <a:pt x="1410" y="176"/>
                  </a:lnTo>
                  <a:lnTo>
                    <a:pt x="1428" y="182"/>
                  </a:lnTo>
                  <a:lnTo>
                    <a:pt x="1466" y="188"/>
                  </a:lnTo>
                  <a:lnTo>
                    <a:pt x="1480" y="182"/>
                  </a:lnTo>
                  <a:lnTo>
                    <a:pt x="1498" y="182"/>
                  </a:lnTo>
                  <a:lnTo>
                    <a:pt x="1508" y="196"/>
                  </a:lnTo>
                  <a:lnTo>
                    <a:pt x="1534" y="220"/>
                  </a:lnTo>
                  <a:lnTo>
                    <a:pt x="1562" y="272"/>
                  </a:lnTo>
                  <a:lnTo>
                    <a:pt x="1560" y="288"/>
                  </a:lnTo>
                  <a:lnTo>
                    <a:pt x="1568" y="302"/>
                  </a:lnTo>
                  <a:lnTo>
                    <a:pt x="1584" y="312"/>
                  </a:lnTo>
                  <a:lnTo>
                    <a:pt x="1602" y="320"/>
                  </a:lnTo>
                  <a:lnTo>
                    <a:pt x="1616" y="312"/>
                  </a:lnTo>
                  <a:lnTo>
                    <a:pt x="1632" y="310"/>
                  </a:lnTo>
                  <a:lnTo>
                    <a:pt x="1650" y="312"/>
                  </a:lnTo>
                  <a:lnTo>
                    <a:pt x="1680" y="332"/>
                  </a:lnTo>
                  <a:lnTo>
                    <a:pt x="1698" y="328"/>
                  </a:lnTo>
                  <a:lnTo>
                    <a:pt x="1714" y="334"/>
                  </a:lnTo>
                  <a:lnTo>
                    <a:pt x="1766" y="318"/>
                  </a:lnTo>
                  <a:lnTo>
                    <a:pt x="1794" y="302"/>
                  </a:lnTo>
                  <a:lnTo>
                    <a:pt x="1812" y="306"/>
                  </a:lnTo>
                  <a:lnTo>
                    <a:pt x="1826" y="320"/>
                  </a:lnTo>
                  <a:lnTo>
                    <a:pt x="1860" y="362"/>
                  </a:lnTo>
                  <a:lnTo>
                    <a:pt x="1888" y="386"/>
                  </a:lnTo>
                  <a:lnTo>
                    <a:pt x="1906" y="386"/>
                  </a:lnTo>
                  <a:lnTo>
                    <a:pt x="1910" y="368"/>
                  </a:lnTo>
                  <a:lnTo>
                    <a:pt x="1928" y="370"/>
                  </a:lnTo>
                  <a:lnTo>
                    <a:pt x="1942" y="382"/>
                  </a:lnTo>
                  <a:lnTo>
                    <a:pt x="1960" y="384"/>
                  </a:lnTo>
                  <a:lnTo>
                    <a:pt x="1978" y="390"/>
                  </a:lnTo>
                  <a:lnTo>
                    <a:pt x="1992" y="402"/>
                  </a:lnTo>
                  <a:lnTo>
                    <a:pt x="2026" y="400"/>
                  </a:lnTo>
                  <a:lnTo>
                    <a:pt x="2060" y="416"/>
                  </a:lnTo>
                  <a:lnTo>
                    <a:pt x="2078" y="416"/>
                  </a:lnTo>
                  <a:lnTo>
                    <a:pt x="2108" y="436"/>
                  </a:lnTo>
                  <a:lnTo>
                    <a:pt x="2128" y="438"/>
                  </a:lnTo>
                  <a:lnTo>
                    <a:pt x="2146" y="438"/>
                  </a:lnTo>
                  <a:lnTo>
                    <a:pt x="2162" y="446"/>
                  </a:lnTo>
                  <a:lnTo>
                    <a:pt x="2148" y="454"/>
                  </a:lnTo>
                  <a:lnTo>
                    <a:pt x="2176" y="502"/>
                  </a:lnTo>
                  <a:lnTo>
                    <a:pt x="2164" y="530"/>
                  </a:lnTo>
                  <a:lnTo>
                    <a:pt x="2132" y="540"/>
                  </a:lnTo>
                  <a:lnTo>
                    <a:pt x="2146" y="552"/>
                  </a:lnTo>
                  <a:lnTo>
                    <a:pt x="2164" y="554"/>
                  </a:lnTo>
                  <a:lnTo>
                    <a:pt x="2178" y="568"/>
                  </a:lnTo>
                  <a:lnTo>
                    <a:pt x="2144" y="578"/>
                  </a:lnTo>
                  <a:lnTo>
                    <a:pt x="2140" y="592"/>
                  </a:lnTo>
                  <a:lnTo>
                    <a:pt x="2142" y="608"/>
                  </a:lnTo>
                  <a:lnTo>
                    <a:pt x="2156" y="622"/>
                  </a:lnTo>
                  <a:lnTo>
                    <a:pt x="2164" y="638"/>
                  </a:lnTo>
                  <a:lnTo>
                    <a:pt x="2164" y="654"/>
                  </a:lnTo>
                  <a:lnTo>
                    <a:pt x="2182" y="660"/>
                  </a:lnTo>
                  <a:lnTo>
                    <a:pt x="2180" y="694"/>
                  </a:lnTo>
                  <a:lnTo>
                    <a:pt x="2176" y="744"/>
                  </a:lnTo>
                  <a:lnTo>
                    <a:pt x="2162" y="750"/>
                  </a:lnTo>
                  <a:lnTo>
                    <a:pt x="2124" y="744"/>
                  </a:lnTo>
                  <a:lnTo>
                    <a:pt x="2108" y="748"/>
                  </a:lnTo>
                  <a:lnTo>
                    <a:pt x="2072" y="732"/>
                  </a:lnTo>
                  <a:lnTo>
                    <a:pt x="2062" y="742"/>
                  </a:lnTo>
                  <a:lnTo>
                    <a:pt x="2048" y="772"/>
                  </a:lnTo>
                  <a:lnTo>
                    <a:pt x="2016" y="786"/>
                  </a:lnTo>
                  <a:lnTo>
                    <a:pt x="2006" y="816"/>
                  </a:lnTo>
                  <a:lnTo>
                    <a:pt x="2012" y="834"/>
                  </a:lnTo>
                  <a:lnTo>
                    <a:pt x="2018" y="864"/>
                  </a:lnTo>
                  <a:lnTo>
                    <a:pt x="1968" y="872"/>
                  </a:lnTo>
                  <a:lnTo>
                    <a:pt x="1940" y="880"/>
                  </a:lnTo>
                  <a:lnTo>
                    <a:pt x="1922" y="902"/>
                  </a:lnTo>
                  <a:lnTo>
                    <a:pt x="1906" y="902"/>
                  </a:lnTo>
                  <a:lnTo>
                    <a:pt x="1866" y="918"/>
                  </a:lnTo>
                  <a:lnTo>
                    <a:pt x="1864" y="944"/>
                  </a:lnTo>
                  <a:lnTo>
                    <a:pt x="1834" y="928"/>
                  </a:lnTo>
                  <a:lnTo>
                    <a:pt x="1788" y="954"/>
                  </a:lnTo>
                  <a:lnTo>
                    <a:pt x="1784" y="964"/>
                  </a:lnTo>
                  <a:lnTo>
                    <a:pt x="1778" y="952"/>
                  </a:lnTo>
                  <a:lnTo>
                    <a:pt x="1756" y="962"/>
                  </a:lnTo>
                  <a:lnTo>
                    <a:pt x="1738" y="962"/>
                  </a:lnTo>
                  <a:lnTo>
                    <a:pt x="1708" y="994"/>
                  </a:lnTo>
                  <a:lnTo>
                    <a:pt x="1702" y="996"/>
                  </a:lnTo>
                  <a:lnTo>
                    <a:pt x="1692" y="1020"/>
                  </a:lnTo>
                  <a:lnTo>
                    <a:pt x="1680" y="1042"/>
                  </a:lnTo>
                  <a:lnTo>
                    <a:pt x="1664" y="1050"/>
                  </a:lnTo>
                  <a:lnTo>
                    <a:pt x="1668" y="1040"/>
                  </a:lnTo>
                  <a:lnTo>
                    <a:pt x="1682" y="1032"/>
                  </a:lnTo>
                  <a:lnTo>
                    <a:pt x="1690" y="1022"/>
                  </a:lnTo>
                  <a:lnTo>
                    <a:pt x="1674" y="990"/>
                  </a:lnTo>
                  <a:lnTo>
                    <a:pt x="1662" y="990"/>
                  </a:lnTo>
                  <a:lnTo>
                    <a:pt x="1658" y="1022"/>
                  </a:lnTo>
                  <a:lnTo>
                    <a:pt x="1640" y="1044"/>
                  </a:lnTo>
                  <a:lnTo>
                    <a:pt x="1650" y="1074"/>
                  </a:lnTo>
                  <a:lnTo>
                    <a:pt x="1654" y="1094"/>
                  </a:lnTo>
                  <a:lnTo>
                    <a:pt x="1644" y="1094"/>
                  </a:lnTo>
                  <a:lnTo>
                    <a:pt x="1642" y="1086"/>
                  </a:lnTo>
                  <a:lnTo>
                    <a:pt x="1626" y="1062"/>
                  </a:lnTo>
                  <a:lnTo>
                    <a:pt x="1626" y="1054"/>
                  </a:lnTo>
                  <a:lnTo>
                    <a:pt x="1620" y="1046"/>
                  </a:lnTo>
                  <a:lnTo>
                    <a:pt x="1606" y="1056"/>
                  </a:lnTo>
                  <a:lnTo>
                    <a:pt x="1600" y="1070"/>
                  </a:lnTo>
                  <a:lnTo>
                    <a:pt x="1594" y="1066"/>
                  </a:lnTo>
                  <a:lnTo>
                    <a:pt x="1598" y="1054"/>
                  </a:lnTo>
                  <a:lnTo>
                    <a:pt x="1592" y="1046"/>
                  </a:lnTo>
                  <a:lnTo>
                    <a:pt x="1562" y="1046"/>
                  </a:lnTo>
                  <a:lnTo>
                    <a:pt x="1558" y="1042"/>
                  </a:lnTo>
                  <a:lnTo>
                    <a:pt x="1552" y="1024"/>
                  </a:lnTo>
                  <a:lnTo>
                    <a:pt x="1542" y="1014"/>
                  </a:lnTo>
                  <a:lnTo>
                    <a:pt x="1544" y="1044"/>
                  </a:lnTo>
                  <a:lnTo>
                    <a:pt x="1538" y="1046"/>
                  </a:lnTo>
                  <a:lnTo>
                    <a:pt x="1496" y="1036"/>
                  </a:lnTo>
                  <a:lnTo>
                    <a:pt x="1508" y="1042"/>
                  </a:lnTo>
                  <a:lnTo>
                    <a:pt x="1522" y="1056"/>
                  </a:lnTo>
                  <a:lnTo>
                    <a:pt x="1530" y="1054"/>
                  </a:lnTo>
                  <a:lnTo>
                    <a:pt x="1538" y="1056"/>
                  </a:lnTo>
                  <a:lnTo>
                    <a:pt x="1546" y="1068"/>
                  </a:lnTo>
                  <a:lnTo>
                    <a:pt x="1550" y="1080"/>
                  </a:lnTo>
                  <a:lnTo>
                    <a:pt x="1560" y="1090"/>
                  </a:lnTo>
                  <a:lnTo>
                    <a:pt x="1564" y="1084"/>
                  </a:lnTo>
                  <a:lnTo>
                    <a:pt x="1562" y="1070"/>
                  </a:lnTo>
                  <a:lnTo>
                    <a:pt x="1584" y="1074"/>
                  </a:lnTo>
                  <a:lnTo>
                    <a:pt x="1596" y="1080"/>
                  </a:lnTo>
                  <a:lnTo>
                    <a:pt x="1610" y="1080"/>
                  </a:lnTo>
                  <a:lnTo>
                    <a:pt x="1604" y="1106"/>
                  </a:lnTo>
                  <a:lnTo>
                    <a:pt x="1610" y="1110"/>
                  </a:lnTo>
                  <a:lnTo>
                    <a:pt x="1624" y="1104"/>
                  </a:lnTo>
                  <a:lnTo>
                    <a:pt x="1630" y="1108"/>
                  </a:lnTo>
                  <a:lnTo>
                    <a:pt x="1628" y="1126"/>
                  </a:lnTo>
                  <a:lnTo>
                    <a:pt x="1656" y="1122"/>
                  </a:lnTo>
                  <a:lnTo>
                    <a:pt x="1674" y="1140"/>
                  </a:lnTo>
                  <a:lnTo>
                    <a:pt x="1680" y="1166"/>
                  </a:lnTo>
                  <a:lnTo>
                    <a:pt x="1688" y="1184"/>
                  </a:lnTo>
                  <a:lnTo>
                    <a:pt x="1694" y="1176"/>
                  </a:lnTo>
                  <a:lnTo>
                    <a:pt x="1736" y="1186"/>
                  </a:lnTo>
                  <a:lnTo>
                    <a:pt x="1738" y="1172"/>
                  </a:lnTo>
                  <a:lnTo>
                    <a:pt x="1764" y="1190"/>
                  </a:lnTo>
                  <a:lnTo>
                    <a:pt x="1786" y="1160"/>
                  </a:lnTo>
                  <a:lnTo>
                    <a:pt x="1796" y="1158"/>
                  </a:lnTo>
                  <a:lnTo>
                    <a:pt x="1804" y="1170"/>
                  </a:lnTo>
                  <a:lnTo>
                    <a:pt x="1820" y="1160"/>
                  </a:lnTo>
                  <a:lnTo>
                    <a:pt x="1848" y="1154"/>
                  </a:lnTo>
                  <a:lnTo>
                    <a:pt x="1874" y="1156"/>
                  </a:lnTo>
                  <a:lnTo>
                    <a:pt x="1874" y="1174"/>
                  </a:lnTo>
                  <a:lnTo>
                    <a:pt x="1866" y="1182"/>
                  </a:lnTo>
                  <a:lnTo>
                    <a:pt x="1866" y="1200"/>
                  </a:lnTo>
                  <a:lnTo>
                    <a:pt x="1870" y="1222"/>
                  </a:lnTo>
                  <a:lnTo>
                    <a:pt x="1830" y="1224"/>
                  </a:lnTo>
                  <a:lnTo>
                    <a:pt x="1822" y="1234"/>
                  </a:lnTo>
                  <a:lnTo>
                    <a:pt x="1748" y="1214"/>
                  </a:lnTo>
                  <a:lnTo>
                    <a:pt x="1714" y="1252"/>
                  </a:lnTo>
                  <a:lnTo>
                    <a:pt x="1698" y="1274"/>
                  </a:lnTo>
                  <a:lnTo>
                    <a:pt x="1668" y="1268"/>
                  </a:lnTo>
                  <a:lnTo>
                    <a:pt x="1636" y="1278"/>
                  </a:lnTo>
                  <a:lnTo>
                    <a:pt x="1650" y="1284"/>
                  </a:lnTo>
                  <a:lnTo>
                    <a:pt x="1636" y="1288"/>
                  </a:lnTo>
                  <a:lnTo>
                    <a:pt x="1628" y="1304"/>
                  </a:lnTo>
                  <a:lnTo>
                    <a:pt x="1626" y="1314"/>
                  </a:lnTo>
                  <a:lnTo>
                    <a:pt x="1620" y="1322"/>
                  </a:lnTo>
                  <a:lnTo>
                    <a:pt x="1606" y="1324"/>
                  </a:lnTo>
                  <a:lnTo>
                    <a:pt x="1582" y="1340"/>
                  </a:lnTo>
                  <a:lnTo>
                    <a:pt x="1546" y="1338"/>
                  </a:lnTo>
                  <a:lnTo>
                    <a:pt x="1538" y="1336"/>
                  </a:lnTo>
                  <a:lnTo>
                    <a:pt x="1508" y="1316"/>
                  </a:lnTo>
                  <a:lnTo>
                    <a:pt x="1514" y="1300"/>
                  </a:lnTo>
                  <a:lnTo>
                    <a:pt x="1512" y="1276"/>
                  </a:lnTo>
                  <a:lnTo>
                    <a:pt x="1512" y="1260"/>
                  </a:lnTo>
                  <a:lnTo>
                    <a:pt x="1506" y="1238"/>
                  </a:lnTo>
                  <a:lnTo>
                    <a:pt x="1490" y="1214"/>
                  </a:lnTo>
                  <a:lnTo>
                    <a:pt x="1474" y="1210"/>
                  </a:lnTo>
                  <a:lnTo>
                    <a:pt x="1460" y="1214"/>
                  </a:lnTo>
                  <a:lnTo>
                    <a:pt x="1440" y="1196"/>
                  </a:lnTo>
                  <a:lnTo>
                    <a:pt x="1410" y="1182"/>
                  </a:lnTo>
                  <a:lnTo>
                    <a:pt x="1374" y="1182"/>
                  </a:lnTo>
                  <a:lnTo>
                    <a:pt x="1372" y="1178"/>
                  </a:lnTo>
                  <a:lnTo>
                    <a:pt x="1378" y="1162"/>
                  </a:lnTo>
                  <a:lnTo>
                    <a:pt x="1398" y="1152"/>
                  </a:lnTo>
                  <a:lnTo>
                    <a:pt x="1422" y="1122"/>
                  </a:lnTo>
                  <a:lnTo>
                    <a:pt x="1440" y="1108"/>
                  </a:lnTo>
                  <a:lnTo>
                    <a:pt x="1500" y="1090"/>
                  </a:lnTo>
                  <a:lnTo>
                    <a:pt x="1508" y="1082"/>
                  </a:lnTo>
                  <a:lnTo>
                    <a:pt x="1498" y="1078"/>
                  </a:lnTo>
                  <a:lnTo>
                    <a:pt x="1494" y="1062"/>
                  </a:lnTo>
                  <a:lnTo>
                    <a:pt x="1476" y="1048"/>
                  </a:lnTo>
                  <a:lnTo>
                    <a:pt x="1466" y="1064"/>
                  </a:lnTo>
                  <a:lnTo>
                    <a:pt x="1442" y="1052"/>
                  </a:lnTo>
                  <a:lnTo>
                    <a:pt x="1440" y="1042"/>
                  </a:lnTo>
                  <a:lnTo>
                    <a:pt x="1420" y="1048"/>
                  </a:lnTo>
                  <a:lnTo>
                    <a:pt x="1418" y="1056"/>
                  </a:lnTo>
                  <a:lnTo>
                    <a:pt x="1404" y="1056"/>
                  </a:lnTo>
                  <a:lnTo>
                    <a:pt x="1354" y="1068"/>
                  </a:lnTo>
                  <a:lnTo>
                    <a:pt x="1316" y="1056"/>
                  </a:lnTo>
                  <a:lnTo>
                    <a:pt x="1300" y="1042"/>
                  </a:lnTo>
                  <a:lnTo>
                    <a:pt x="1286" y="1040"/>
                  </a:lnTo>
                  <a:lnTo>
                    <a:pt x="1260" y="1042"/>
                  </a:lnTo>
                  <a:lnTo>
                    <a:pt x="1256" y="1034"/>
                  </a:lnTo>
                  <a:lnTo>
                    <a:pt x="1282" y="1012"/>
                  </a:lnTo>
                  <a:lnTo>
                    <a:pt x="1278" y="1006"/>
                  </a:lnTo>
                  <a:lnTo>
                    <a:pt x="1240" y="1002"/>
                  </a:lnTo>
                  <a:lnTo>
                    <a:pt x="1228" y="998"/>
                  </a:lnTo>
                  <a:lnTo>
                    <a:pt x="1244" y="990"/>
                  </a:lnTo>
                  <a:lnTo>
                    <a:pt x="1302" y="996"/>
                  </a:lnTo>
                  <a:lnTo>
                    <a:pt x="1306" y="992"/>
                  </a:lnTo>
                  <a:lnTo>
                    <a:pt x="1300" y="986"/>
                  </a:lnTo>
                  <a:lnTo>
                    <a:pt x="1286" y="982"/>
                  </a:lnTo>
                  <a:lnTo>
                    <a:pt x="1268" y="964"/>
                  </a:lnTo>
                  <a:lnTo>
                    <a:pt x="1254" y="944"/>
                  </a:lnTo>
                  <a:lnTo>
                    <a:pt x="1250" y="960"/>
                  </a:lnTo>
                  <a:lnTo>
                    <a:pt x="1234" y="968"/>
                  </a:lnTo>
                  <a:lnTo>
                    <a:pt x="1214" y="974"/>
                  </a:lnTo>
                  <a:lnTo>
                    <a:pt x="1216" y="952"/>
                  </a:lnTo>
                  <a:lnTo>
                    <a:pt x="1204" y="962"/>
                  </a:lnTo>
                  <a:lnTo>
                    <a:pt x="1180" y="976"/>
                  </a:lnTo>
                  <a:lnTo>
                    <a:pt x="1144" y="984"/>
                  </a:lnTo>
                  <a:lnTo>
                    <a:pt x="1130" y="992"/>
                  </a:lnTo>
                  <a:lnTo>
                    <a:pt x="1114" y="996"/>
                  </a:lnTo>
                  <a:lnTo>
                    <a:pt x="1114" y="1014"/>
                  </a:lnTo>
                  <a:lnTo>
                    <a:pt x="1094" y="1052"/>
                  </a:lnTo>
                  <a:lnTo>
                    <a:pt x="1086" y="1050"/>
                  </a:lnTo>
                  <a:lnTo>
                    <a:pt x="1076" y="1032"/>
                  </a:lnTo>
                  <a:lnTo>
                    <a:pt x="1056" y="1030"/>
                  </a:lnTo>
                  <a:lnTo>
                    <a:pt x="1046" y="1020"/>
                  </a:lnTo>
                  <a:lnTo>
                    <a:pt x="1054" y="1034"/>
                  </a:lnTo>
                  <a:lnTo>
                    <a:pt x="1076" y="1050"/>
                  </a:lnTo>
                  <a:lnTo>
                    <a:pt x="1084" y="1074"/>
                  </a:lnTo>
                  <a:lnTo>
                    <a:pt x="1074" y="1098"/>
                  </a:lnTo>
                  <a:lnTo>
                    <a:pt x="1066" y="1110"/>
                  </a:lnTo>
                  <a:lnTo>
                    <a:pt x="1034" y="1112"/>
                  </a:lnTo>
                  <a:lnTo>
                    <a:pt x="1030" y="1122"/>
                  </a:lnTo>
                  <a:lnTo>
                    <a:pt x="1018" y="1128"/>
                  </a:lnTo>
                  <a:lnTo>
                    <a:pt x="1018" y="1144"/>
                  </a:lnTo>
                  <a:lnTo>
                    <a:pt x="1006" y="1138"/>
                  </a:lnTo>
                  <a:lnTo>
                    <a:pt x="1002" y="1118"/>
                  </a:lnTo>
                  <a:lnTo>
                    <a:pt x="996" y="1108"/>
                  </a:lnTo>
                  <a:lnTo>
                    <a:pt x="1002" y="1150"/>
                  </a:lnTo>
                  <a:lnTo>
                    <a:pt x="1012" y="1184"/>
                  </a:lnTo>
                  <a:lnTo>
                    <a:pt x="1004" y="1186"/>
                  </a:lnTo>
                  <a:lnTo>
                    <a:pt x="992" y="1180"/>
                  </a:lnTo>
                  <a:lnTo>
                    <a:pt x="972" y="1178"/>
                  </a:lnTo>
                  <a:lnTo>
                    <a:pt x="952" y="1186"/>
                  </a:lnTo>
                  <a:lnTo>
                    <a:pt x="918" y="1194"/>
                  </a:lnTo>
                  <a:lnTo>
                    <a:pt x="898" y="1210"/>
                  </a:lnTo>
                  <a:lnTo>
                    <a:pt x="874" y="1212"/>
                  </a:lnTo>
                  <a:lnTo>
                    <a:pt x="840" y="1176"/>
                  </a:lnTo>
                  <a:lnTo>
                    <a:pt x="820" y="1178"/>
                  </a:lnTo>
                  <a:lnTo>
                    <a:pt x="820" y="1172"/>
                  </a:lnTo>
                  <a:lnTo>
                    <a:pt x="840" y="1170"/>
                  </a:lnTo>
                  <a:lnTo>
                    <a:pt x="852" y="1158"/>
                  </a:lnTo>
                  <a:lnTo>
                    <a:pt x="850" y="1140"/>
                  </a:lnTo>
                  <a:lnTo>
                    <a:pt x="856" y="1124"/>
                  </a:lnTo>
                  <a:lnTo>
                    <a:pt x="872" y="1114"/>
                  </a:lnTo>
                  <a:lnTo>
                    <a:pt x="872" y="1098"/>
                  </a:lnTo>
                  <a:lnTo>
                    <a:pt x="882" y="1084"/>
                  </a:lnTo>
                  <a:lnTo>
                    <a:pt x="898" y="1076"/>
                  </a:lnTo>
                  <a:lnTo>
                    <a:pt x="896" y="1024"/>
                  </a:lnTo>
                  <a:lnTo>
                    <a:pt x="902" y="1008"/>
                  </a:lnTo>
                  <a:lnTo>
                    <a:pt x="918" y="1000"/>
                  </a:lnTo>
                  <a:lnTo>
                    <a:pt x="930" y="1016"/>
                  </a:lnTo>
                  <a:lnTo>
                    <a:pt x="944" y="1006"/>
                  </a:lnTo>
                  <a:lnTo>
                    <a:pt x="998" y="1018"/>
                  </a:lnTo>
                  <a:lnTo>
                    <a:pt x="1012" y="1008"/>
                  </a:lnTo>
                  <a:lnTo>
                    <a:pt x="1018" y="992"/>
                  </a:lnTo>
                  <a:lnTo>
                    <a:pt x="1008" y="976"/>
                  </a:lnTo>
                  <a:lnTo>
                    <a:pt x="1008" y="958"/>
                  </a:lnTo>
                  <a:lnTo>
                    <a:pt x="1002" y="942"/>
                  </a:lnTo>
                  <a:lnTo>
                    <a:pt x="992" y="928"/>
                  </a:lnTo>
                  <a:lnTo>
                    <a:pt x="956" y="912"/>
                  </a:lnTo>
                  <a:lnTo>
                    <a:pt x="936" y="882"/>
                  </a:lnTo>
                  <a:lnTo>
                    <a:pt x="938" y="866"/>
                  </a:lnTo>
                  <a:lnTo>
                    <a:pt x="930" y="850"/>
                  </a:lnTo>
                  <a:lnTo>
                    <a:pt x="912" y="848"/>
                  </a:lnTo>
                  <a:lnTo>
                    <a:pt x="900" y="832"/>
                  </a:lnTo>
                  <a:lnTo>
                    <a:pt x="884" y="822"/>
                  </a:lnTo>
                  <a:lnTo>
                    <a:pt x="886" y="788"/>
                  </a:lnTo>
                  <a:lnTo>
                    <a:pt x="884" y="772"/>
                  </a:lnTo>
                  <a:lnTo>
                    <a:pt x="880" y="754"/>
                  </a:lnTo>
                  <a:lnTo>
                    <a:pt x="870" y="740"/>
                  </a:lnTo>
                  <a:lnTo>
                    <a:pt x="852" y="744"/>
                  </a:lnTo>
                  <a:lnTo>
                    <a:pt x="822" y="722"/>
                  </a:lnTo>
                  <a:lnTo>
                    <a:pt x="804" y="716"/>
                  </a:lnTo>
                  <a:lnTo>
                    <a:pt x="770" y="724"/>
                  </a:lnTo>
                  <a:lnTo>
                    <a:pt x="752" y="718"/>
                  </a:lnTo>
                  <a:lnTo>
                    <a:pt x="704" y="688"/>
                  </a:lnTo>
                  <a:lnTo>
                    <a:pt x="688" y="680"/>
                  </a:lnTo>
                  <a:lnTo>
                    <a:pt x="650" y="670"/>
                  </a:lnTo>
                  <a:lnTo>
                    <a:pt x="616" y="682"/>
                  </a:lnTo>
                  <a:lnTo>
                    <a:pt x="598" y="684"/>
                  </a:lnTo>
                  <a:lnTo>
                    <a:pt x="580" y="680"/>
                  </a:lnTo>
                  <a:lnTo>
                    <a:pt x="566" y="690"/>
                  </a:lnTo>
                  <a:lnTo>
                    <a:pt x="556" y="71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76320" y="3275280"/>
              <a:ext cx="146520" cy="73080"/>
            </a:xfrm>
            <a:custGeom>
              <a:avLst/>
              <a:gdLst/>
              <a:ahLst/>
              <a:rect l="l" t="t" r="r" b="b"/>
              <a:pathLst>
                <a:path w="844" h="436">
                  <a:moveTo>
                    <a:pt x="844" y="260"/>
                  </a:moveTo>
                  <a:lnTo>
                    <a:pt x="830" y="274"/>
                  </a:lnTo>
                  <a:lnTo>
                    <a:pt x="806" y="272"/>
                  </a:lnTo>
                  <a:lnTo>
                    <a:pt x="794" y="286"/>
                  </a:lnTo>
                  <a:lnTo>
                    <a:pt x="784" y="302"/>
                  </a:lnTo>
                  <a:lnTo>
                    <a:pt x="766" y="308"/>
                  </a:lnTo>
                  <a:lnTo>
                    <a:pt x="762" y="316"/>
                  </a:lnTo>
                  <a:lnTo>
                    <a:pt x="762" y="342"/>
                  </a:lnTo>
                  <a:lnTo>
                    <a:pt x="752" y="360"/>
                  </a:lnTo>
                  <a:lnTo>
                    <a:pt x="734" y="364"/>
                  </a:lnTo>
                  <a:lnTo>
                    <a:pt x="736" y="378"/>
                  </a:lnTo>
                  <a:lnTo>
                    <a:pt x="708" y="398"/>
                  </a:lnTo>
                  <a:lnTo>
                    <a:pt x="676" y="402"/>
                  </a:lnTo>
                  <a:lnTo>
                    <a:pt x="662" y="392"/>
                  </a:lnTo>
                  <a:lnTo>
                    <a:pt x="646" y="392"/>
                  </a:lnTo>
                  <a:lnTo>
                    <a:pt x="634" y="412"/>
                  </a:lnTo>
                  <a:lnTo>
                    <a:pt x="624" y="436"/>
                  </a:lnTo>
                  <a:lnTo>
                    <a:pt x="624" y="436"/>
                  </a:lnTo>
                  <a:lnTo>
                    <a:pt x="620" y="408"/>
                  </a:lnTo>
                  <a:lnTo>
                    <a:pt x="600" y="388"/>
                  </a:lnTo>
                  <a:lnTo>
                    <a:pt x="522" y="394"/>
                  </a:lnTo>
                  <a:lnTo>
                    <a:pt x="490" y="368"/>
                  </a:lnTo>
                  <a:lnTo>
                    <a:pt x="470" y="360"/>
                  </a:lnTo>
                  <a:lnTo>
                    <a:pt x="394" y="358"/>
                  </a:lnTo>
                  <a:lnTo>
                    <a:pt x="382" y="376"/>
                  </a:lnTo>
                  <a:lnTo>
                    <a:pt x="378" y="396"/>
                  </a:lnTo>
                  <a:lnTo>
                    <a:pt x="358" y="412"/>
                  </a:lnTo>
                  <a:lnTo>
                    <a:pt x="338" y="420"/>
                  </a:lnTo>
                  <a:lnTo>
                    <a:pt x="314" y="422"/>
                  </a:lnTo>
                  <a:lnTo>
                    <a:pt x="288" y="420"/>
                  </a:lnTo>
                  <a:lnTo>
                    <a:pt x="270" y="410"/>
                  </a:lnTo>
                  <a:lnTo>
                    <a:pt x="242" y="400"/>
                  </a:lnTo>
                  <a:lnTo>
                    <a:pt x="230" y="388"/>
                  </a:lnTo>
                  <a:lnTo>
                    <a:pt x="172" y="348"/>
                  </a:lnTo>
                  <a:lnTo>
                    <a:pt x="148" y="322"/>
                  </a:lnTo>
                  <a:lnTo>
                    <a:pt x="82" y="278"/>
                  </a:lnTo>
                  <a:lnTo>
                    <a:pt x="58" y="252"/>
                  </a:lnTo>
                  <a:lnTo>
                    <a:pt x="56" y="216"/>
                  </a:lnTo>
                  <a:lnTo>
                    <a:pt x="48" y="192"/>
                  </a:lnTo>
                  <a:lnTo>
                    <a:pt x="22" y="182"/>
                  </a:lnTo>
                  <a:lnTo>
                    <a:pt x="2" y="162"/>
                  </a:lnTo>
                  <a:lnTo>
                    <a:pt x="0" y="144"/>
                  </a:lnTo>
                  <a:lnTo>
                    <a:pt x="2" y="136"/>
                  </a:lnTo>
                  <a:lnTo>
                    <a:pt x="38" y="164"/>
                  </a:lnTo>
                  <a:lnTo>
                    <a:pt x="44" y="162"/>
                  </a:lnTo>
                  <a:lnTo>
                    <a:pt x="52" y="136"/>
                  </a:lnTo>
                  <a:lnTo>
                    <a:pt x="86" y="122"/>
                  </a:lnTo>
                  <a:lnTo>
                    <a:pt x="124" y="110"/>
                  </a:lnTo>
                  <a:lnTo>
                    <a:pt x="160" y="94"/>
                  </a:lnTo>
                  <a:lnTo>
                    <a:pt x="172" y="72"/>
                  </a:lnTo>
                  <a:lnTo>
                    <a:pt x="254" y="44"/>
                  </a:lnTo>
                  <a:lnTo>
                    <a:pt x="258" y="0"/>
                  </a:lnTo>
                  <a:lnTo>
                    <a:pt x="280" y="4"/>
                  </a:lnTo>
                  <a:lnTo>
                    <a:pt x="296" y="28"/>
                  </a:lnTo>
                  <a:lnTo>
                    <a:pt x="314" y="46"/>
                  </a:lnTo>
                  <a:lnTo>
                    <a:pt x="328" y="44"/>
                  </a:lnTo>
                  <a:lnTo>
                    <a:pt x="344" y="52"/>
                  </a:lnTo>
                  <a:lnTo>
                    <a:pt x="372" y="22"/>
                  </a:lnTo>
                  <a:lnTo>
                    <a:pt x="396" y="32"/>
                  </a:lnTo>
                  <a:lnTo>
                    <a:pt x="410" y="52"/>
                  </a:lnTo>
                  <a:lnTo>
                    <a:pt x="426" y="50"/>
                  </a:lnTo>
                  <a:lnTo>
                    <a:pt x="474" y="58"/>
                  </a:lnTo>
                  <a:lnTo>
                    <a:pt x="496" y="80"/>
                  </a:lnTo>
                  <a:lnTo>
                    <a:pt x="522" y="84"/>
                  </a:lnTo>
                  <a:lnTo>
                    <a:pt x="524" y="88"/>
                  </a:lnTo>
                  <a:lnTo>
                    <a:pt x="524" y="92"/>
                  </a:lnTo>
                  <a:lnTo>
                    <a:pt x="516" y="114"/>
                  </a:lnTo>
                  <a:lnTo>
                    <a:pt x="562" y="150"/>
                  </a:lnTo>
                  <a:lnTo>
                    <a:pt x="578" y="156"/>
                  </a:lnTo>
                  <a:lnTo>
                    <a:pt x="602" y="140"/>
                  </a:lnTo>
                  <a:lnTo>
                    <a:pt x="594" y="128"/>
                  </a:lnTo>
                  <a:lnTo>
                    <a:pt x="596" y="116"/>
                  </a:lnTo>
                  <a:lnTo>
                    <a:pt x="650" y="134"/>
                  </a:lnTo>
                  <a:lnTo>
                    <a:pt x="694" y="138"/>
                  </a:lnTo>
                  <a:lnTo>
                    <a:pt x="700" y="168"/>
                  </a:lnTo>
                  <a:lnTo>
                    <a:pt x="720" y="182"/>
                  </a:lnTo>
                  <a:lnTo>
                    <a:pt x="732" y="178"/>
                  </a:lnTo>
                  <a:lnTo>
                    <a:pt x="752" y="188"/>
                  </a:lnTo>
                  <a:lnTo>
                    <a:pt x="800" y="244"/>
                  </a:lnTo>
                  <a:lnTo>
                    <a:pt x="844" y="26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55720" y="3374640"/>
              <a:ext cx="93600" cy="50760"/>
            </a:xfrm>
            <a:custGeom>
              <a:avLst/>
              <a:gdLst/>
              <a:ahLst/>
              <a:rect l="l" t="t" r="r" b="b"/>
              <a:pathLst>
                <a:path w="542" h="300">
                  <a:moveTo>
                    <a:pt x="126" y="300"/>
                  </a:moveTo>
                  <a:lnTo>
                    <a:pt x="118" y="278"/>
                  </a:lnTo>
                  <a:lnTo>
                    <a:pt x="100" y="274"/>
                  </a:lnTo>
                  <a:lnTo>
                    <a:pt x="94" y="250"/>
                  </a:lnTo>
                  <a:lnTo>
                    <a:pt x="94" y="216"/>
                  </a:lnTo>
                  <a:lnTo>
                    <a:pt x="86" y="212"/>
                  </a:lnTo>
                  <a:lnTo>
                    <a:pt x="46" y="212"/>
                  </a:lnTo>
                  <a:lnTo>
                    <a:pt x="22" y="248"/>
                  </a:lnTo>
                  <a:lnTo>
                    <a:pt x="8" y="256"/>
                  </a:lnTo>
                  <a:lnTo>
                    <a:pt x="0" y="252"/>
                  </a:lnTo>
                  <a:lnTo>
                    <a:pt x="0" y="204"/>
                  </a:lnTo>
                  <a:lnTo>
                    <a:pt x="8" y="178"/>
                  </a:lnTo>
                  <a:lnTo>
                    <a:pt x="18" y="170"/>
                  </a:lnTo>
                  <a:lnTo>
                    <a:pt x="26" y="156"/>
                  </a:lnTo>
                  <a:lnTo>
                    <a:pt x="40" y="148"/>
                  </a:lnTo>
                  <a:lnTo>
                    <a:pt x="44" y="142"/>
                  </a:lnTo>
                  <a:lnTo>
                    <a:pt x="48" y="120"/>
                  </a:lnTo>
                  <a:lnTo>
                    <a:pt x="62" y="102"/>
                  </a:lnTo>
                  <a:lnTo>
                    <a:pt x="112" y="50"/>
                  </a:lnTo>
                  <a:lnTo>
                    <a:pt x="104" y="38"/>
                  </a:lnTo>
                  <a:lnTo>
                    <a:pt x="112" y="24"/>
                  </a:lnTo>
                  <a:lnTo>
                    <a:pt x="152" y="28"/>
                  </a:lnTo>
                  <a:lnTo>
                    <a:pt x="166" y="20"/>
                  </a:lnTo>
                  <a:lnTo>
                    <a:pt x="182" y="8"/>
                  </a:lnTo>
                  <a:lnTo>
                    <a:pt x="200" y="20"/>
                  </a:lnTo>
                  <a:lnTo>
                    <a:pt x="278" y="12"/>
                  </a:lnTo>
                  <a:lnTo>
                    <a:pt x="334" y="0"/>
                  </a:lnTo>
                  <a:lnTo>
                    <a:pt x="380" y="10"/>
                  </a:lnTo>
                  <a:lnTo>
                    <a:pt x="420" y="28"/>
                  </a:lnTo>
                  <a:lnTo>
                    <a:pt x="438" y="44"/>
                  </a:lnTo>
                  <a:lnTo>
                    <a:pt x="430" y="64"/>
                  </a:lnTo>
                  <a:lnTo>
                    <a:pt x="428" y="84"/>
                  </a:lnTo>
                  <a:lnTo>
                    <a:pt x="448" y="108"/>
                  </a:lnTo>
                  <a:lnTo>
                    <a:pt x="462" y="118"/>
                  </a:lnTo>
                  <a:lnTo>
                    <a:pt x="486" y="128"/>
                  </a:lnTo>
                  <a:lnTo>
                    <a:pt x="508" y="130"/>
                  </a:lnTo>
                  <a:lnTo>
                    <a:pt x="524" y="120"/>
                  </a:lnTo>
                  <a:lnTo>
                    <a:pt x="542" y="132"/>
                  </a:lnTo>
                  <a:lnTo>
                    <a:pt x="536" y="156"/>
                  </a:lnTo>
                  <a:lnTo>
                    <a:pt x="538" y="170"/>
                  </a:lnTo>
                  <a:lnTo>
                    <a:pt x="528" y="176"/>
                  </a:lnTo>
                  <a:lnTo>
                    <a:pt x="506" y="176"/>
                  </a:lnTo>
                  <a:lnTo>
                    <a:pt x="502" y="192"/>
                  </a:lnTo>
                  <a:lnTo>
                    <a:pt x="506" y="206"/>
                  </a:lnTo>
                  <a:lnTo>
                    <a:pt x="512" y="218"/>
                  </a:lnTo>
                  <a:lnTo>
                    <a:pt x="508" y="228"/>
                  </a:lnTo>
                  <a:lnTo>
                    <a:pt x="462" y="218"/>
                  </a:lnTo>
                  <a:lnTo>
                    <a:pt x="436" y="218"/>
                  </a:lnTo>
                  <a:lnTo>
                    <a:pt x="422" y="206"/>
                  </a:lnTo>
                  <a:lnTo>
                    <a:pt x="404" y="200"/>
                  </a:lnTo>
                  <a:lnTo>
                    <a:pt x="400" y="222"/>
                  </a:lnTo>
                  <a:lnTo>
                    <a:pt x="378" y="264"/>
                  </a:lnTo>
                  <a:lnTo>
                    <a:pt x="374" y="284"/>
                  </a:lnTo>
                  <a:lnTo>
                    <a:pt x="370" y="294"/>
                  </a:lnTo>
                  <a:lnTo>
                    <a:pt x="354" y="284"/>
                  </a:lnTo>
                  <a:lnTo>
                    <a:pt x="340" y="268"/>
                  </a:lnTo>
                  <a:lnTo>
                    <a:pt x="312" y="250"/>
                  </a:lnTo>
                  <a:lnTo>
                    <a:pt x="298" y="210"/>
                  </a:lnTo>
                  <a:lnTo>
                    <a:pt x="272" y="222"/>
                  </a:lnTo>
                  <a:lnTo>
                    <a:pt x="260" y="238"/>
                  </a:lnTo>
                  <a:lnTo>
                    <a:pt x="260" y="258"/>
                  </a:lnTo>
                  <a:lnTo>
                    <a:pt x="252" y="268"/>
                  </a:lnTo>
                  <a:lnTo>
                    <a:pt x="230" y="288"/>
                  </a:lnTo>
                  <a:lnTo>
                    <a:pt x="200" y="286"/>
                  </a:lnTo>
                  <a:lnTo>
                    <a:pt x="144" y="300"/>
                  </a:lnTo>
                  <a:lnTo>
                    <a:pt x="126" y="30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85520" y="3267360"/>
              <a:ext cx="71640" cy="51840"/>
            </a:xfrm>
            <a:custGeom>
              <a:avLst/>
              <a:gdLst/>
              <a:ahLst/>
              <a:rect l="l" t="t" r="r" b="b"/>
              <a:pathLst>
                <a:path w="414" h="314">
                  <a:moveTo>
                    <a:pt x="356" y="312"/>
                  </a:moveTo>
                  <a:lnTo>
                    <a:pt x="338" y="314"/>
                  </a:lnTo>
                  <a:lnTo>
                    <a:pt x="314" y="310"/>
                  </a:lnTo>
                  <a:lnTo>
                    <a:pt x="296" y="296"/>
                  </a:lnTo>
                  <a:lnTo>
                    <a:pt x="270" y="284"/>
                  </a:lnTo>
                  <a:lnTo>
                    <a:pt x="274" y="272"/>
                  </a:lnTo>
                  <a:lnTo>
                    <a:pt x="264" y="268"/>
                  </a:lnTo>
                  <a:lnTo>
                    <a:pt x="262" y="220"/>
                  </a:lnTo>
                  <a:lnTo>
                    <a:pt x="250" y="220"/>
                  </a:lnTo>
                  <a:lnTo>
                    <a:pt x="236" y="236"/>
                  </a:lnTo>
                  <a:lnTo>
                    <a:pt x="226" y="250"/>
                  </a:lnTo>
                  <a:lnTo>
                    <a:pt x="204" y="252"/>
                  </a:lnTo>
                  <a:lnTo>
                    <a:pt x="182" y="244"/>
                  </a:lnTo>
                  <a:lnTo>
                    <a:pt x="176" y="212"/>
                  </a:lnTo>
                  <a:lnTo>
                    <a:pt x="170" y="196"/>
                  </a:lnTo>
                  <a:lnTo>
                    <a:pt x="158" y="186"/>
                  </a:lnTo>
                  <a:lnTo>
                    <a:pt x="130" y="178"/>
                  </a:lnTo>
                  <a:lnTo>
                    <a:pt x="98" y="162"/>
                  </a:lnTo>
                  <a:lnTo>
                    <a:pt x="76" y="156"/>
                  </a:lnTo>
                  <a:lnTo>
                    <a:pt x="56" y="118"/>
                  </a:lnTo>
                  <a:lnTo>
                    <a:pt x="32" y="122"/>
                  </a:lnTo>
                  <a:lnTo>
                    <a:pt x="6" y="110"/>
                  </a:lnTo>
                  <a:lnTo>
                    <a:pt x="0" y="94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50" y="30"/>
                  </a:lnTo>
                  <a:lnTo>
                    <a:pt x="72" y="20"/>
                  </a:lnTo>
                  <a:lnTo>
                    <a:pt x="86" y="18"/>
                  </a:lnTo>
                  <a:lnTo>
                    <a:pt x="86" y="20"/>
                  </a:lnTo>
                  <a:lnTo>
                    <a:pt x="124" y="38"/>
                  </a:lnTo>
                  <a:lnTo>
                    <a:pt x="166" y="26"/>
                  </a:lnTo>
                  <a:lnTo>
                    <a:pt x="198" y="8"/>
                  </a:lnTo>
                  <a:lnTo>
                    <a:pt x="224" y="2"/>
                  </a:lnTo>
                  <a:lnTo>
                    <a:pt x="258" y="0"/>
                  </a:lnTo>
                  <a:lnTo>
                    <a:pt x="270" y="12"/>
                  </a:lnTo>
                  <a:lnTo>
                    <a:pt x="276" y="12"/>
                  </a:lnTo>
                  <a:lnTo>
                    <a:pt x="282" y="24"/>
                  </a:lnTo>
                  <a:lnTo>
                    <a:pt x="300" y="34"/>
                  </a:lnTo>
                  <a:lnTo>
                    <a:pt x="320" y="34"/>
                  </a:lnTo>
                  <a:lnTo>
                    <a:pt x="338" y="46"/>
                  </a:lnTo>
                  <a:lnTo>
                    <a:pt x="340" y="64"/>
                  </a:lnTo>
                  <a:lnTo>
                    <a:pt x="338" y="86"/>
                  </a:lnTo>
                  <a:lnTo>
                    <a:pt x="342" y="106"/>
                  </a:lnTo>
                  <a:lnTo>
                    <a:pt x="360" y="118"/>
                  </a:lnTo>
                  <a:lnTo>
                    <a:pt x="386" y="118"/>
                  </a:lnTo>
                  <a:lnTo>
                    <a:pt x="396" y="130"/>
                  </a:lnTo>
                  <a:lnTo>
                    <a:pt x="400" y="150"/>
                  </a:lnTo>
                  <a:lnTo>
                    <a:pt x="414" y="168"/>
                  </a:lnTo>
                  <a:lnTo>
                    <a:pt x="414" y="184"/>
                  </a:lnTo>
                  <a:lnTo>
                    <a:pt x="394" y="216"/>
                  </a:lnTo>
                  <a:lnTo>
                    <a:pt x="378" y="216"/>
                  </a:lnTo>
                  <a:lnTo>
                    <a:pt x="358" y="232"/>
                  </a:lnTo>
                  <a:lnTo>
                    <a:pt x="346" y="256"/>
                  </a:lnTo>
                  <a:lnTo>
                    <a:pt x="356" y="282"/>
                  </a:lnTo>
                  <a:lnTo>
                    <a:pt x="356" y="31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59240" y="3520440"/>
              <a:ext cx="7560" cy="61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4" y="18"/>
                  </a:moveTo>
                  <a:lnTo>
                    <a:pt x="48" y="26"/>
                  </a:lnTo>
                  <a:lnTo>
                    <a:pt x="38" y="30"/>
                  </a:lnTo>
                  <a:lnTo>
                    <a:pt x="24" y="30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32" y="4"/>
                  </a:lnTo>
                  <a:lnTo>
                    <a:pt x="44" y="1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26320" y="3488040"/>
              <a:ext cx="276120" cy="219240"/>
            </a:xfrm>
            <a:custGeom>
              <a:avLst/>
              <a:gdLst/>
              <a:ahLst/>
              <a:rect l="l" t="t" r="r" b="b"/>
              <a:pathLst>
                <a:path w="1592" h="1284">
                  <a:moveTo>
                    <a:pt x="210" y="1094"/>
                  </a:moveTo>
                  <a:lnTo>
                    <a:pt x="202" y="1052"/>
                  </a:lnTo>
                  <a:lnTo>
                    <a:pt x="200" y="1024"/>
                  </a:lnTo>
                  <a:lnTo>
                    <a:pt x="220" y="1000"/>
                  </a:lnTo>
                  <a:lnTo>
                    <a:pt x="254" y="974"/>
                  </a:lnTo>
                  <a:lnTo>
                    <a:pt x="270" y="952"/>
                  </a:lnTo>
                  <a:lnTo>
                    <a:pt x="264" y="926"/>
                  </a:lnTo>
                  <a:lnTo>
                    <a:pt x="244" y="900"/>
                  </a:lnTo>
                  <a:lnTo>
                    <a:pt x="236" y="868"/>
                  </a:lnTo>
                  <a:lnTo>
                    <a:pt x="238" y="836"/>
                  </a:lnTo>
                  <a:lnTo>
                    <a:pt x="256" y="806"/>
                  </a:lnTo>
                  <a:lnTo>
                    <a:pt x="266" y="784"/>
                  </a:lnTo>
                  <a:lnTo>
                    <a:pt x="260" y="772"/>
                  </a:lnTo>
                  <a:lnTo>
                    <a:pt x="232" y="728"/>
                  </a:lnTo>
                  <a:lnTo>
                    <a:pt x="226" y="692"/>
                  </a:lnTo>
                  <a:lnTo>
                    <a:pt x="248" y="676"/>
                  </a:lnTo>
                  <a:lnTo>
                    <a:pt x="274" y="668"/>
                  </a:lnTo>
                  <a:lnTo>
                    <a:pt x="296" y="642"/>
                  </a:lnTo>
                  <a:lnTo>
                    <a:pt x="298" y="620"/>
                  </a:lnTo>
                  <a:lnTo>
                    <a:pt x="284" y="594"/>
                  </a:lnTo>
                  <a:lnTo>
                    <a:pt x="284" y="578"/>
                  </a:lnTo>
                  <a:lnTo>
                    <a:pt x="300" y="544"/>
                  </a:lnTo>
                  <a:lnTo>
                    <a:pt x="306" y="510"/>
                  </a:lnTo>
                  <a:lnTo>
                    <a:pt x="308" y="478"/>
                  </a:lnTo>
                  <a:lnTo>
                    <a:pt x="310" y="456"/>
                  </a:lnTo>
                  <a:lnTo>
                    <a:pt x="364" y="406"/>
                  </a:lnTo>
                  <a:lnTo>
                    <a:pt x="382" y="374"/>
                  </a:lnTo>
                  <a:lnTo>
                    <a:pt x="382" y="354"/>
                  </a:lnTo>
                  <a:lnTo>
                    <a:pt x="364" y="334"/>
                  </a:lnTo>
                  <a:lnTo>
                    <a:pt x="354" y="310"/>
                  </a:lnTo>
                  <a:lnTo>
                    <a:pt x="316" y="304"/>
                  </a:lnTo>
                  <a:lnTo>
                    <a:pt x="276" y="302"/>
                  </a:lnTo>
                  <a:lnTo>
                    <a:pt x="246" y="318"/>
                  </a:lnTo>
                  <a:lnTo>
                    <a:pt x="192" y="312"/>
                  </a:lnTo>
                  <a:lnTo>
                    <a:pt x="160" y="316"/>
                  </a:lnTo>
                  <a:lnTo>
                    <a:pt x="144" y="304"/>
                  </a:lnTo>
                  <a:lnTo>
                    <a:pt x="142" y="276"/>
                  </a:lnTo>
                  <a:lnTo>
                    <a:pt x="110" y="282"/>
                  </a:lnTo>
                  <a:lnTo>
                    <a:pt x="74" y="296"/>
                  </a:lnTo>
                  <a:lnTo>
                    <a:pt x="54" y="318"/>
                  </a:lnTo>
                  <a:lnTo>
                    <a:pt x="48" y="308"/>
                  </a:lnTo>
                  <a:lnTo>
                    <a:pt x="48" y="288"/>
                  </a:lnTo>
                  <a:lnTo>
                    <a:pt x="58" y="260"/>
                  </a:lnTo>
                  <a:lnTo>
                    <a:pt x="74" y="240"/>
                  </a:lnTo>
                  <a:lnTo>
                    <a:pt x="54" y="242"/>
                  </a:lnTo>
                  <a:lnTo>
                    <a:pt x="62" y="222"/>
                  </a:lnTo>
                  <a:lnTo>
                    <a:pt x="42" y="212"/>
                  </a:lnTo>
                  <a:lnTo>
                    <a:pt x="58" y="184"/>
                  </a:lnTo>
                  <a:lnTo>
                    <a:pt x="46" y="184"/>
                  </a:lnTo>
                  <a:lnTo>
                    <a:pt x="32" y="176"/>
                  </a:lnTo>
                  <a:lnTo>
                    <a:pt x="36" y="156"/>
                  </a:lnTo>
                  <a:lnTo>
                    <a:pt x="0" y="126"/>
                  </a:lnTo>
                  <a:lnTo>
                    <a:pt x="12" y="96"/>
                  </a:lnTo>
                  <a:lnTo>
                    <a:pt x="40" y="78"/>
                  </a:lnTo>
                  <a:lnTo>
                    <a:pt x="66" y="70"/>
                  </a:lnTo>
                  <a:lnTo>
                    <a:pt x="110" y="68"/>
                  </a:lnTo>
                  <a:lnTo>
                    <a:pt x="128" y="50"/>
                  </a:lnTo>
                  <a:lnTo>
                    <a:pt x="128" y="34"/>
                  </a:lnTo>
                  <a:lnTo>
                    <a:pt x="144" y="10"/>
                  </a:lnTo>
                  <a:lnTo>
                    <a:pt x="198" y="0"/>
                  </a:lnTo>
                  <a:lnTo>
                    <a:pt x="222" y="6"/>
                  </a:lnTo>
                  <a:lnTo>
                    <a:pt x="256" y="22"/>
                  </a:lnTo>
                  <a:lnTo>
                    <a:pt x="300" y="30"/>
                  </a:lnTo>
                  <a:lnTo>
                    <a:pt x="394" y="28"/>
                  </a:lnTo>
                  <a:lnTo>
                    <a:pt x="418" y="16"/>
                  </a:lnTo>
                  <a:lnTo>
                    <a:pt x="446" y="20"/>
                  </a:lnTo>
                  <a:lnTo>
                    <a:pt x="490" y="32"/>
                  </a:lnTo>
                  <a:lnTo>
                    <a:pt x="516" y="34"/>
                  </a:lnTo>
                  <a:lnTo>
                    <a:pt x="592" y="50"/>
                  </a:lnTo>
                  <a:lnTo>
                    <a:pt x="632" y="54"/>
                  </a:lnTo>
                  <a:lnTo>
                    <a:pt x="678" y="50"/>
                  </a:lnTo>
                  <a:lnTo>
                    <a:pt x="708" y="42"/>
                  </a:lnTo>
                  <a:lnTo>
                    <a:pt x="734" y="50"/>
                  </a:lnTo>
                  <a:lnTo>
                    <a:pt x="780" y="58"/>
                  </a:lnTo>
                  <a:lnTo>
                    <a:pt x="848" y="56"/>
                  </a:lnTo>
                  <a:lnTo>
                    <a:pt x="880" y="66"/>
                  </a:lnTo>
                  <a:lnTo>
                    <a:pt x="922" y="68"/>
                  </a:lnTo>
                  <a:lnTo>
                    <a:pt x="942" y="62"/>
                  </a:lnTo>
                  <a:lnTo>
                    <a:pt x="948" y="72"/>
                  </a:lnTo>
                  <a:lnTo>
                    <a:pt x="998" y="112"/>
                  </a:lnTo>
                  <a:lnTo>
                    <a:pt x="1018" y="122"/>
                  </a:lnTo>
                  <a:lnTo>
                    <a:pt x="1044" y="128"/>
                  </a:lnTo>
                  <a:lnTo>
                    <a:pt x="1070" y="142"/>
                  </a:lnTo>
                  <a:lnTo>
                    <a:pt x="1086" y="156"/>
                  </a:lnTo>
                  <a:lnTo>
                    <a:pt x="1192" y="184"/>
                  </a:lnTo>
                  <a:lnTo>
                    <a:pt x="1226" y="188"/>
                  </a:lnTo>
                  <a:lnTo>
                    <a:pt x="1242" y="184"/>
                  </a:lnTo>
                  <a:lnTo>
                    <a:pt x="1266" y="168"/>
                  </a:lnTo>
                  <a:lnTo>
                    <a:pt x="1284" y="164"/>
                  </a:lnTo>
                  <a:lnTo>
                    <a:pt x="1306" y="170"/>
                  </a:lnTo>
                  <a:lnTo>
                    <a:pt x="1338" y="192"/>
                  </a:lnTo>
                  <a:lnTo>
                    <a:pt x="1354" y="208"/>
                  </a:lnTo>
                  <a:lnTo>
                    <a:pt x="1362" y="222"/>
                  </a:lnTo>
                  <a:lnTo>
                    <a:pt x="1376" y="222"/>
                  </a:lnTo>
                  <a:lnTo>
                    <a:pt x="1386" y="218"/>
                  </a:lnTo>
                  <a:lnTo>
                    <a:pt x="1382" y="210"/>
                  </a:lnTo>
                  <a:lnTo>
                    <a:pt x="1408" y="228"/>
                  </a:lnTo>
                  <a:lnTo>
                    <a:pt x="1426" y="234"/>
                  </a:lnTo>
                  <a:lnTo>
                    <a:pt x="1492" y="230"/>
                  </a:lnTo>
                  <a:lnTo>
                    <a:pt x="1524" y="224"/>
                  </a:lnTo>
                  <a:lnTo>
                    <a:pt x="1554" y="222"/>
                  </a:lnTo>
                  <a:lnTo>
                    <a:pt x="1570" y="224"/>
                  </a:lnTo>
                  <a:lnTo>
                    <a:pt x="1586" y="232"/>
                  </a:lnTo>
                  <a:lnTo>
                    <a:pt x="1592" y="248"/>
                  </a:lnTo>
                  <a:lnTo>
                    <a:pt x="1572" y="258"/>
                  </a:lnTo>
                  <a:lnTo>
                    <a:pt x="1574" y="280"/>
                  </a:lnTo>
                  <a:lnTo>
                    <a:pt x="1584" y="300"/>
                  </a:lnTo>
                  <a:lnTo>
                    <a:pt x="1562" y="326"/>
                  </a:lnTo>
                  <a:lnTo>
                    <a:pt x="1474" y="382"/>
                  </a:lnTo>
                  <a:lnTo>
                    <a:pt x="1444" y="410"/>
                  </a:lnTo>
                  <a:lnTo>
                    <a:pt x="1306" y="462"/>
                  </a:lnTo>
                  <a:lnTo>
                    <a:pt x="1276" y="496"/>
                  </a:lnTo>
                  <a:lnTo>
                    <a:pt x="1276" y="512"/>
                  </a:lnTo>
                  <a:lnTo>
                    <a:pt x="1258" y="532"/>
                  </a:lnTo>
                  <a:lnTo>
                    <a:pt x="1228" y="568"/>
                  </a:lnTo>
                  <a:lnTo>
                    <a:pt x="1192" y="630"/>
                  </a:lnTo>
                  <a:lnTo>
                    <a:pt x="1156" y="690"/>
                  </a:lnTo>
                  <a:lnTo>
                    <a:pt x="1156" y="720"/>
                  </a:lnTo>
                  <a:lnTo>
                    <a:pt x="1128" y="736"/>
                  </a:lnTo>
                  <a:lnTo>
                    <a:pt x="1130" y="740"/>
                  </a:lnTo>
                  <a:lnTo>
                    <a:pt x="1156" y="754"/>
                  </a:lnTo>
                  <a:lnTo>
                    <a:pt x="1156" y="778"/>
                  </a:lnTo>
                  <a:lnTo>
                    <a:pt x="1156" y="794"/>
                  </a:lnTo>
                  <a:lnTo>
                    <a:pt x="1156" y="806"/>
                  </a:lnTo>
                  <a:lnTo>
                    <a:pt x="1156" y="814"/>
                  </a:lnTo>
                  <a:lnTo>
                    <a:pt x="1190" y="818"/>
                  </a:lnTo>
                  <a:lnTo>
                    <a:pt x="1200" y="834"/>
                  </a:lnTo>
                  <a:lnTo>
                    <a:pt x="1188" y="854"/>
                  </a:lnTo>
                  <a:lnTo>
                    <a:pt x="1156" y="880"/>
                  </a:lnTo>
                  <a:lnTo>
                    <a:pt x="1156" y="894"/>
                  </a:lnTo>
                  <a:lnTo>
                    <a:pt x="1120" y="912"/>
                  </a:lnTo>
                  <a:lnTo>
                    <a:pt x="1096" y="950"/>
                  </a:lnTo>
                  <a:lnTo>
                    <a:pt x="1090" y="974"/>
                  </a:lnTo>
                  <a:lnTo>
                    <a:pt x="1078" y="994"/>
                  </a:lnTo>
                  <a:lnTo>
                    <a:pt x="1072" y="1014"/>
                  </a:lnTo>
                  <a:lnTo>
                    <a:pt x="1078" y="1028"/>
                  </a:lnTo>
                  <a:lnTo>
                    <a:pt x="1002" y="1040"/>
                  </a:lnTo>
                  <a:lnTo>
                    <a:pt x="952" y="1084"/>
                  </a:lnTo>
                  <a:lnTo>
                    <a:pt x="936" y="1130"/>
                  </a:lnTo>
                  <a:lnTo>
                    <a:pt x="926" y="1150"/>
                  </a:lnTo>
                  <a:lnTo>
                    <a:pt x="914" y="1166"/>
                  </a:lnTo>
                  <a:lnTo>
                    <a:pt x="894" y="1168"/>
                  </a:lnTo>
                  <a:lnTo>
                    <a:pt x="866" y="1162"/>
                  </a:lnTo>
                  <a:lnTo>
                    <a:pt x="828" y="1178"/>
                  </a:lnTo>
                  <a:lnTo>
                    <a:pt x="798" y="1176"/>
                  </a:lnTo>
                  <a:lnTo>
                    <a:pt x="760" y="1168"/>
                  </a:lnTo>
                  <a:lnTo>
                    <a:pt x="722" y="1172"/>
                  </a:lnTo>
                  <a:lnTo>
                    <a:pt x="690" y="1168"/>
                  </a:lnTo>
                  <a:lnTo>
                    <a:pt x="604" y="1180"/>
                  </a:lnTo>
                  <a:lnTo>
                    <a:pt x="576" y="1210"/>
                  </a:lnTo>
                  <a:lnTo>
                    <a:pt x="546" y="1212"/>
                  </a:lnTo>
                  <a:lnTo>
                    <a:pt x="518" y="1224"/>
                  </a:lnTo>
                  <a:lnTo>
                    <a:pt x="496" y="1248"/>
                  </a:lnTo>
                  <a:lnTo>
                    <a:pt x="490" y="1262"/>
                  </a:lnTo>
                  <a:lnTo>
                    <a:pt x="478" y="1274"/>
                  </a:lnTo>
                  <a:lnTo>
                    <a:pt x="458" y="1284"/>
                  </a:lnTo>
                  <a:lnTo>
                    <a:pt x="418" y="1278"/>
                  </a:lnTo>
                  <a:lnTo>
                    <a:pt x="390" y="1256"/>
                  </a:lnTo>
                  <a:lnTo>
                    <a:pt x="364" y="1214"/>
                  </a:lnTo>
                  <a:lnTo>
                    <a:pt x="362" y="1192"/>
                  </a:lnTo>
                  <a:lnTo>
                    <a:pt x="344" y="1178"/>
                  </a:lnTo>
                  <a:lnTo>
                    <a:pt x="344" y="1152"/>
                  </a:lnTo>
                  <a:lnTo>
                    <a:pt x="342" y="1142"/>
                  </a:lnTo>
                  <a:lnTo>
                    <a:pt x="334" y="1132"/>
                  </a:lnTo>
                  <a:lnTo>
                    <a:pt x="314" y="1114"/>
                  </a:lnTo>
                  <a:lnTo>
                    <a:pt x="278" y="1094"/>
                  </a:lnTo>
                  <a:lnTo>
                    <a:pt x="262" y="1090"/>
                  </a:lnTo>
                  <a:lnTo>
                    <a:pt x="210" y="109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25680" y="3781080"/>
              <a:ext cx="29520" cy="113040"/>
            </a:xfrm>
            <a:custGeom>
              <a:avLst/>
              <a:gdLst/>
              <a:ahLst/>
              <a:rect l="l" t="t" r="r" b="b"/>
              <a:pathLst>
                <a:path w="172" h="664">
                  <a:moveTo>
                    <a:pt x="142" y="654"/>
                  </a:moveTo>
                  <a:lnTo>
                    <a:pt x="140" y="640"/>
                  </a:lnTo>
                  <a:lnTo>
                    <a:pt x="148" y="610"/>
                  </a:lnTo>
                  <a:lnTo>
                    <a:pt x="146" y="468"/>
                  </a:lnTo>
                  <a:lnTo>
                    <a:pt x="156" y="414"/>
                  </a:lnTo>
                  <a:lnTo>
                    <a:pt x="172" y="364"/>
                  </a:lnTo>
                  <a:lnTo>
                    <a:pt x="164" y="346"/>
                  </a:lnTo>
                  <a:lnTo>
                    <a:pt x="166" y="310"/>
                  </a:lnTo>
                  <a:lnTo>
                    <a:pt x="162" y="300"/>
                  </a:lnTo>
                  <a:lnTo>
                    <a:pt x="152" y="302"/>
                  </a:lnTo>
                  <a:lnTo>
                    <a:pt x="130" y="322"/>
                  </a:lnTo>
                  <a:lnTo>
                    <a:pt x="102" y="328"/>
                  </a:lnTo>
                  <a:lnTo>
                    <a:pt x="100" y="336"/>
                  </a:lnTo>
                  <a:lnTo>
                    <a:pt x="92" y="324"/>
                  </a:lnTo>
                  <a:lnTo>
                    <a:pt x="90" y="308"/>
                  </a:lnTo>
                  <a:lnTo>
                    <a:pt x="98" y="298"/>
                  </a:lnTo>
                  <a:lnTo>
                    <a:pt x="100" y="274"/>
                  </a:lnTo>
                  <a:lnTo>
                    <a:pt x="102" y="266"/>
                  </a:lnTo>
                  <a:lnTo>
                    <a:pt x="112" y="258"/>
                  </a:lnTo>
                  <a:lnTo>
                    <a:pt x="126" y="256"/>
                  </a:lnTo>
                  <a:lnTo>
                    <a:pt x="130" y="252"/>
                  </a:lnTo>
                  <a:lnTo>
                    <a:pt x="128" y="246"/>
                  </a:lnTo>
                  <a:lnTo>
                    <a:pt x="118" y="242"/>
                  </a:lnTo>
                  <a:lnTo>
                    <a:pt x="92" y="244"/>
                  </a:lnTo>
                  <a:lnTo>
                    <a:pt x="96" y="232"/>
                  </a:lnTo>
                  <a:lnTo>
                    <a:pt x="88" y="218"/>
                  </a:lnTo>
                  <a:lnTo>
                    <a:pt x="82" y="178"/>
                  </a:lnTo>
                  <a:lnTo>
                    <a:pt x="94" y="162"/>
                  </a:lnTo>
                  <a:lnTo>
                    <a:pt x="94" y="138"/>
                  </a:lnTo>
                  <a:lnTo>
                    <a:pt x="100" y="130"/>
                  </a:lnTo>
                  <a:lnTo>
                    <a:pt x="106" y="128"/>
                  </a:lnTo>
                  <a:lnTo>
                    <a:pt x="124" y="130"/>
                  </a:lnTo>
                  <a:lnTo>
                    <a:pt x="138" y="128"/>
                  </a:lnTo>
                  <a:lnTo>
                    <a:pt x="142" y="144"/>
                  </a:lnTo>
                  <a:lnTo>
                    <a:pt x="152" y="152"/>
                  </a:lnTo>
                  <a:lnTo>
                    <a:pt x="160" y="152"/>
                  </a:lnTo>
                  <a:lnTo>
                    <a:pt x="156" y="100"/>
                  </a:lnTo>
                  <a:lnTo>
                    <a:pt x="164" y="82"/>
                  </a:lnTo>
                  <a:lnTo>
                    <a:pt x="158" y="68"/>
                  </a:lnTo>
                  <a:lnTo>
                    <a:pt x="158" y="54"/>
                  </a:lnTo>
                  <a:lnTo>
                    <a:pt x="154" y="42"/>
                  </a:lnTo>
                  <a:lnTo>
                    <a:pt x="158" y="32"/>
                  </a:lnTo>
                  <a:lnTo>
                    <a:pt x="156" y="8"/>
                  </a:lnTo>
                  <a:lnTo>
                    <a:pt x="152" y="2"/>
                  </a:lnTo>
                  <a:lnTo>
                    <a:pt x="148" y="0"/>
                  </a:lnTo>
                  <a:lnTo>
                    <a:pt x="142" y="2"/>
                  </a:lnTo>
                  <a:lnTo>
                    <a:pt x="144" y="38"/>
                  </a:lnTo>
                  <a:lnTo>
                    <a:pt x="132" y="36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12" y="34"/>
                  </a:lnTo>
                  <a:lnTo>
                    <a:pt x="86" y="38"/>
                  </a:lnTo>
                  <a:lnTo>
                    <a:pt x="80" y="30"/>
                  </a:lnTo>
                  <a:lnTo>
                    <a:pt x="76" y="42"/>
                  </a:lnTo>
                  <a:lnTo>
                    <a:pt x="78" y="70"/>
                  </a:lnTo>
                  <a:lnTo>
                    <a:pt x="66" y="106"/>
                  </a:lnTo>
                  <a:lnTo>
                    <a:pt x="66" y="128"/>
                  </a:lnTo>
                  <a:lnTo>
                    <a:pt x="54" y="208"/>
                  </a:lnTo>
                  <a:lnTo>
                    <a:pt x="44" y="272"/>
                  </a:lnTo>
                  <a:lnTo>
                    <a:pt x="26" y="296"/>
                  </a:lnTo>
                  <a:lnTo>
                    <a:pt x="36" y="310"/>
                  </a:lnTo>
                  <a:lnTo>
                    <a:pt x="12" y="338"/>
                  </a:lnTo>
                  <a:lnTo>
                    <a:pt x="16" y="352"/>
                  </a:lnTo>
                  <a:lnTo>
                    <a:pt x="0" y="362"/>
                  </a:lnTo>
                  <a:lnTo>
                    <a:pt x="4" y="374"/>
                  </a:lnTo>
                  <a:lnTo>
                    <a:pt x="12" y="388"/>
                  </a:lnTo>
                  <a:lnTo>
                    <a:pt x="76" y="546"/>
                  </a:lnTo>
                  <a:lnTo>
                    <a:pt x="130" y="664"/>
                  </a:lnTo>
                  <a:lnTo>
                    <a:pt x="142" y="65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27200" y="3655440"/>
              <a:ext cx="241560" cy="240480"/>
            </a:xfrm>
            <a:custGeom>
              <a:avLst/>
              <a:gdLst/>
              <a:ahLst/>
              <a:rect l="l" t="t" r="r" b="b"/>
              <a:pathLst>
                <a:path w="1388" h="1408">
                  <a:moveTo>
                    <a:pt x="1388" y="1244"/>
                  </a:moveTo>
                  <a:lnTo>
                    <a:pt x="1376" y="1272"/>
                  </a:lnTo>
                  <a:lnTo>
                    <a:pt x="1352" y="1258"/>
                  </a:lnTo>
                  <a:lnTo>
                    <a:pt x="1326" y="1248"/>
                  </a:lnTo>
                  <a:lnTo>
                    <a:pt x="1322" y="1250"/>
                  </a:lnTo>
                  <a:lnTo>
                    <a:pt x="1316" y="1258"/>
                  </a:lnTo>
                  <a:lnTo>
                    <a:pt x="1286" y="1248"/>
                  </a:lnTo>
                  <a:lnTo>
                    <a:pt x="1252" y="1244"/>
                  </a:lnTo>
                  <a:lnTo>
                    <a:pt x="1218" y="1262"/>
                  </a:lnTo>
                  <a:lnTo>
                    <a:pt x="1194" y="1310"/>
                  </a:lnTo>
                  <a:lnTo>
                    <a:pt x="1180" y="1364"/>
                  </a:lnTo>
                  <a:lnTo>
                    <a:pt x="1146" y="1408"/>
                  </a:lnTo>
                  <a:lnTo>
                    <a:pt x="900" y="1398"/>
                  </a:lnTo>
                  <a:lnTo>
                    <a:pt x="736" y="1324"/>
                  </a:lnTo>
                  <a:lnTo>
                    <a:pt x="728" y="1316"/>
                  </a:lnTo>
                  <a:lnTo>
                    <a:pt x="714" y="1210"/>
                  </a:lnTo>
                  <a:lnTo>
                    <a:pt x="708" y="1204"/>
                  </a:lnTo>
                  <a:lnTo>
                    <a:pt x="636" y="1198"/>
                  </a:lnTo>
                  <a:lnTo>
                    <a:pt x="608" y="1148"/>
                  </a:lnTo>
                  <a:lnTo>
                    <a:pt x="592" y="1136"/>
                  </a:lnTo>
                  <a:lnTo>
                    <a:pt x="448" y="1082"/>
                  </a:lnTo>
                  <a:lnTo>
                    <a:pt x="278" y="962"/>
                  </a:lnTo>
                  <a:lnTo>
                    <a:pt x="66" y="906"/>
                  </a:lnTo>
                  <a:lnTo>
                    <a:pt x="66" y="906"/>
                  </a:lnTo>
                  <a:lnTo>
                    <a:pt x="0" y="712"/>
                  </a:lnTo>
                  <a:lnTo>
                    <a:pt x="94" y="632"/>
                  </a:lnTo>
                  <a:lnTo>
                    <a:pt x="124" y="606"/>
                  </a:lnTo>
                  <a:lnTo>
                    <a:pt x="158" y="592"/>
                  </a:lnTo>
                  <a:lnTo>
                    <a:pt x="208" y="558"/>
                  </a:lnTo>
                  <a:lnTo>
                    <a:pt x="234" y="538"/>
                  </a:lnTo>
                  <a:lnTo>
                    <a:pt x="242" y="528"/>
                  </a:lnTo>
                  <a:lnTo>
                    <a:pt x="270" y="516"/>
                  </a:lnTo>
                  <a:lnTo>
                    <a:pt x="284" y="452"/>
                  </a:lnTo>
                  <a:lnTo>
                    <a:pt x="278" y="360"/>
                  </a:lnTo>
                  <a:lnTo>
                    <a:pt x="256" y="182"/>
                  </a:lnTo>
                  <a:lnTo>
                    <a:pt x="326" y="152"/>
                  </a:lnTo>
                  <a:lnTo>
                    <a:pt x="358" y="78"/>
                  </a:lnTo>
                  <a:lnTo>
                    <a:pt x="390" y="52"/>
                  </a:lnTo>
                  <a:lnTo>
                    <a:pt x="438" y="0"/>
                  </a:lnTo>
                  <a:lnTo>
                    <a:pt x="492" y="18"/>
                  </a:lnTo>
                  <a:lnTo>
                    <a:pt x="564" y="20"/>
                  </a:lnTo>
                  <a:lnTo>
                    <a:pt x="606" y="16"/>
                  </a:lnTo>
                  <a:lnTo>
                    <a:pt x="634" y="44"/>
                  </a:lnTo>
                  <a:lnTo>
                    <a:pt x="670" y="46"/>
                  </a:lnTo>
                  <a:lnTo>
                    <a:pt x="686" y="28"/>
                  </a:lnTo>
                  <a:lnTo>
                    <a:pt x="710" y="108"/>
                  </a:lnTo>
                  <a:lnTo>
                    <a:pt x="742" y="150"/>
                  </a:lnTo>
                  <a:lnTo>
                    <a:pt x="776" y="172"/>
                  </a:lnTo>
                  <a:lnTo>
                    <a:pt x="802" y="228"/>
                  </a:lnTo>
                  <a:lnTo>
                    <a:pt x="830" y="254"/>
                  </a:lnTo>
                  <a:lnTo>
                    <a:pt x="888" y="266"/>
                  </a:lnTo>
                  <a:lnTo>
                    <a:pt x="922" y="268"/>
                  </a:lnTo>
                  <a:lnTo>
                    <a:pt x="910" y="286"/>
                  </a:lnTo>
                  <a:lnTo>
                    <a:pt x="904" y="320"/>
                  </a:lnTo>
                  <a:lnTo>
                    <a:pt x="924" y="368"/>
                  </a:lnTo>
                  <a:lnTo>
                    <a:pt x="906" y="396"/>
                  </a:lnTo>
                  <a:lnTo>
                    <a:pt x="884" y="450"/>
                  </a:lnTo>
                  <a:lnTo>
                    <a:pt x="888" y="470"/>
                  </a:lnTo>
                  <a:lnTo>
                    <a:pt x="870" y="478"/>
                  </a:lnTo>
                  <a:lnTo>
                    <a:pt x="864" y="496"/>
                  </a:lnTo>
                  <a:lnTo>
                    <a:pt x="866" y="562"/>
                  </a:lnTo>
                  <a:lnTo>
                    <a:pt x="860" y="578"/>
                  </a:lnTo>
                  <a:lnTo>
                    <a:pt x="854" y="584"/>
                  </a:lnTo>
                  <a:lnTo>
                    <a:pt x="864" y="622"/>
                  </a:lnTo>
                  <a:lnTo>
                    <a:pt x="882" y="636"/>
                  </a:lnTo>
                  <a:lnTo>
                    <a:pt x="902" y="634"/>
                  </a:lnTo>
                  <a:lnTo>
                    <a:pt x="916" y="654"/>
                  </a:lnTo>
                  <a:lnTo>
                    <a:pt x="934" y="670"/>
                  </a:lnTo>
                  <a:lnTo>
                    <a:pt x="956" y="704"/>
                  </a:lnTo>
                  <a:lnTo>
                    <a:pt x="962" y="732"/>
                  </a:lnTo>
                  <a:lnTo>
                    <a:pt x="994" y="750"/>
                  </a:lnTo>
                  <a:lnTo>
                    <a:pt x="1034" y="776"/>
                  </a:lnTo>
                  <a:lnTo>
                    <a:pt x="1070" y="804"/>
                  </a:lnTo>
                  <a:lnTo>
                    <a:pt x="1098" y="816"/>
                  </a:lnTo>
                  <a:lnTo>
                    <a:pt x="1132" y="824"/>
                  </a:lnTo>
                  <a:lnTo>
                    <a:pt x="1156" y="848"/>
                  </a:lnTo>
                  <a:lnTo>
                    <a:pt x="1180" y="888"/>
                  </a:lnTo>
                  <a:lnTo>
                    <a:pt x="1206" y="922"/>
                  </a:lnTo>
                  <a:lnTo>
                    <a:pt x="1224" y="958"/>
                  </a:lnTo>
                  <a:lnTo>
                    <a:pt x="1228" y="1030"/>
                  </a:lnTo>
                  <a:lnTo>
                    <a:pt x="1234" y="1084"/>
                  </a:lnTo>
                  <a:lnTo>
                    <a:pt x="1270" y="1102"/>
                  </a:lnTo>
                  <a:lnTo>
                    <a:pt x="1286" y="1154"/>
                  </a:lnTo>
                  <a:lnTo>
                    <a:pt x="1302" y="1178"/>
                  </a:lnTo>
                  <a:lnTo>
                    <a:pt x="1322" y="1196"/>
                  </a:lnTo>
                  <a:lnTo>
                    <a:pt x="1378" y="1236"/>
                  </a:lnTo>
                  <a:lnTo>
                    <a:pt x="1388" y="124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1120" y="3980520"/>
              <a:ext cx="20160" cy="47520"/>
            </a:xfrm>
            <a:custGeom>
              <a:avLst/>
              <a:gdLst/>
              <a:ahLst/>
              <a:rect l="l" t="t" r="r" b="b"/>
              <a:pathLst>
                <a:path w="120" h="280">
                  <a:moveTo>
                    <a:pt x="58" y="280"/>
                  </a:moveTo>
                  <a:lnTo>
                    <a:pt x="106" y="252"/>
                  </a:lnTo>
                  <a:lnTo>
                    <a:pt x="112" y="246"/>
                  </a:lnTo>
                  <a:lnTo>
                    <a:pt x="112" y="228"/>
                  </a:lnTo>
                  <a:lnTo>
                    <a:pt x="120" y="208"/>
                  </a:lnTo>
                  <a:lnTo>
                    <a:pt x="120" y="196"/>
                  </a:lnTo>
                  <a:lnTo>
                    <a:pt x="114" y="154"/>
                  </a:lnTo>
                  <a:lnTo>
                    <a:pt x="104" y="140"/>
                  </a:lnTo>
                  <a:lnTo>
                    <a:pt x="100" y="116"/>
                  </a:lnTo>
                  <a:lnTo>
                    <a:pt x="98" y="94"/>
                  </a:lnTo>
                  <a:lnTo>
                    <a:pt x="102" y="90"/>
                  </a:lnTo>
                  <a:lnTo>
                    <a:pt x="98" y="82"/>
                  </a:lnTo>
                  <a:lnTo>
                    <a:pt x="102" y="68"/>
                  </a:lnTo>
                  <a:lnTo>
                    <a:pt x="100" y="58"/>
                  </a:lnTo>
                  <a:lnTo>
                    <a:pt x="102" y="44"/>
                  </a:lnTo>
                  <a:lnTo>
                    <a:pt x="96" y="38"/>
                  </a:lnTo>
                  <a:lnTo>
                    <a:pt x="78" y="34"/>
                  </a:lnTo>
                  <a:lnTo>
                    <a:pt x="72" y="28"/>
                  </a:lnTo>
                  <a:lnTo>
                    <a:pt x="70" y="16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20" y="74"/>
                  </a:lnTo>
                  <a:lnTo>
                    <a:pt x="14" y="102"/>
                  </a:lnTo>
                  <a:lnTo>
                    <a:pt x="0" y="122"/>
                  </a:lnTo>
                  <a:lnTo>
                    <a:pt x="4" y="142"/>
                  </a:lnTo>
                  <a:lnTo>
                    <a:pt x="4" y="156"/>
                  </a:lnTo>
                  <a:lnTo>
                    <a:pt x="10" y="164"/>
                  </a:lnTo>
                  <a:lnTo>
                    <a:pt x="8" y="178"/>
                  </a:lnTo>
                  <a:lnTo>
                    <a:pt x="10" y="188"/>
                  </a:lnTo>
                  <a:lnTo>
                    <a:pt x="22" y="208"/>
                  </a:lnTo>
                  <a:lnTo>
                    <a:pt x="18" y="218"/>
                  </a:lnTo>
                  <a:lnTo>
                    <a:pt x="24" y="224"/>
                  </a:lnTo>
                  <a:lnTo>
                    <a:pt x="24" y="236"/>
                  </a:lnTo>
                  <a:lnTo>
                    <a:pt x="20" y="240"/>
                  </a:lnTo>
                  <a:lnTo>
                    <a:pt x="44" y="276"/>
                  </a:lnTo>
                  <a:lnTo>
                    <a:pt x="58" y="28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800" bIns="1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23880" y="4828680"/>
              <a:ext cx="234360" cy="275400"/>
            </a:xfrm>
            <a:custGeom>
              <a:avLst/>
              <a:gdLst/>
              <a:ahLst/>
              <a:rect l="l" t="t" r="r" b="b"/>
              <a:pathLst>
                <a:path w="1338" h="1614">
                  <a:moveTo>
                    <a:pt x="90" y="0"/>
                  </a:moveTo>
                  <a:lnTo>
                    <a:pt x="82" y="30"/>
                  </a:lnTo>
                  <a:lnTo>
                    <a:pt x="68" y="476"/>
                  </a:lnTo>
                  <a:lnTo>
                    <a:pt x="48" y="732"/>
                  </a:lnTo>
                  <a:lnTo>
                    <a:pt x="30" y="802"/>
                  </a:lnTo>
                  <a:lnTo>
                    <a:pt x="24" y="816"/>
                  </a:lnTo>
                  <a:lnTo>
                    <a:pt x="36" y="876"/>
                  </a:lnTo>
                  <a:lnTo>
                    <a:pt x="22" y="1018"/>
                  </a:lnTo>
                  <a:lnTo>
                    <a:pt x="0" y="1222"/>
                  </a:lnTo>
                  <a:lnTo>
                    <a:pt x="4" y="1272"/>
                  </a:lnTo>
                  <a:lnTo>
                    <a:pt x="36" y="1268"/>
                  </a:lnTo>
                  <a:lnTo>
                    <a:pt x="46" y="1280"/>
                  </a:lnTo>
                  <a:lnTo>
                    <a:pt x="66" y="1288"/>
                  </a:lnTo>
                  <a:lnTo>
                    <a:pt x="88" y="1290"/>
                  </a:lnTo>
                  <a:lnTo>
                    <a:pt x="114" y="1282"/>
                  </a:lnTo>
                  <a:lnTo>
                    <a:pt x="156" y="1282"/>
                  </a:lnTo>
                  <a:lnTo>
                    <a:pt x="168" y="1284"/>
                  </a:lnTo>
                  <a:lnTo>
                    <a:pt x="206" y="1304"/>
                  </a:lnTo>
                  <a:lnTo>
                    <a:pt x="222" y="1298"/>
                  </a:lnTo>
                  <a:lnTo>
                    <a:pt x="266" y="1266"/>
                  </a:lnTo>
                  <a:lnTo>
                    <a:pt x="296" y="1252"/>
                  </a:lnTo>
                  <a:lnTo>
                    <a:pt x="310" y="1232"/>
                  </a:lnTo>
                  <a:lnTo>
                    <a:pt x="304" y="1174"/>
                  </a:lnTo>
                  <a:lnTo>
                    <a:pt x="292" y="1146"/>
                  </a:lnTo>
                  <a:lnTo>
                    <a:pt x="278" y="1126"/>
                  </a:lnTo>
                  <a:lnTo>
                    <a:pt x="332" y="1110"/>
                  </a:lnTo>
                  <a:lnTo>
                    <a:pt x="350" y="1094"/>
                  </a:lnTo>
                  <a:lnTo>
                    <a:pt x="346" y="1078"/>
                  </a:lnTo>
                  <a:lnTo>
                    <a:pt x="362" y="1058"/>
                  </a:lnTo>
                  <a:lnTo>
                    <a:pt x="392" y="1064"/>
                  </a:lnTo>
                  <a:lnTo>
                    <a:pt x="414" y="1054"/>
                  </a:lnTo>
                  <a:lnTo>
                    <a:pt x="410" y="1024"/>
                  </a:lnTo>
                  <a:lnTo>
                    <a:pt x="408" y="972"/>
                  </a:lnTo>
                  <a:lnTo>
                    <a:pt x="426" y="990"/>
                  </a:lnTo>
                  <a:lnTo>
                    <a:pt x="456" y="1000"/>
                  </a:lnTo>
                  <a:lnTo>
                    <a:pt x="474" y="990"/>
                  </a:lnTo>
                  <a:lnTo>
                    <a:pt x="486" y="976"/>
                  </a:lnTo>
                  <a:lnTo>
                    <a:pt x="502" y="964"/>
                  </a:lnTo>
                  <a:lnTo>
                    <a:pt x="518" y="988"/>
                  </a:lnTo>
                  <a:lnTo>
                    <a:pt x="536" y="974"/>
                  </a:lnTo>
                  <a:lnTo>
                    <a:pt x="554" y="984"/>
                  </a:lnTo>
                  <a:lnTo>
                    <a:pt x="554" y="998"/>
                  </a:lnTo>
                  <a:lnTo>
                    <a:pt x="564" y="1010"/>
                  </a:lnTo>
                  <a:lnTo>
                    <a:pt x="582" y="1016"/>
                  </a:lnTo>
                  <a:lnTo>
                    <a:pt x="606" y="1036"/>
                  </a:lnTo>
                  <a:lnTo>
                    <a:pt x="620" y="1038"/>
                  </a:lnTo>
                  <a:lnTo>
                    <a:pt x="640" y="1060"/>
                  </a:lnTo>
                  <a:lnTo>
                    <a:pt x="666" y="1062"/>
                  </a:lnTo>
                  <a:lnTo>
                    <a:pt x="716" y="1086"/>
                  </a:lnTo>
                  <a:lnTo>
                    <a:pt x="742" y="1116"/>
                  </a:lnTo>
                  <a:lnTo>
                    <a:pt x="742" y="1162"/>
                  </a:lnTo>
                  <a:lnTo>
                    <a:pt x="770" y="1226"/>
                  </a:lnTo>
                  <a:lnTo>
                    <a:pt x="778" y="1272"/>
                  </a:lnTo>
                  <a:lnTo>
                    <a:pt x="826" y="1282"/>
                  </a:lnTo>
                  <a:lnTo>
                    <a:pt x="816" y="1310"/>
                  </a:lnTo>
                  <a:lnTo>
                    <a:pt x="818" y="1320"/>
                  </a:lnTo>
                  <a:lnTo>
                    <a:pt x="828" y="1344"/>
                  </a:lnTo>
                  <a:lnTo>
                    <a:pt x="846" y="1360"/>
                  </a:lnTo>
                  <a:lnTo>
                    <a:pt x="862" y="1380"/>
                  </a:lnTo>
                  <a:lnTo>
                    <a:pt x="878" y="1408"/>
                  </a:lnTo>
                  <a:lnTo>
                    <a:pt x="906" y="1476"/>
                  </a:lnTo>
                  <a:lnTo>
                    <a:pt x="918" y="1476"/>
                  </a:lnTo>
                  <a:lnTo>
                    <a:pt x="942" y="1496"/>
                  </a:lnTo>
                  <a:lnTo>
                    <a:pt x="970" y="1500"/>
                  </a:lnTo>
                  <a:lnTo>
                    <a:pt x="992" y="1508"/>
                  </a:lnTo>
                  <a:lnTo>
                    <a:pt x="1036" y="1510"/>
                  </a:lnTo>
                  <a:lnTo>
                    <a:pt x="1076" y="1528"/>
                  </a:lnTo>
                  <a:lnTo>
                    <a:pt x="1206" y="1560"/>
                  </a:lnTo>
                  <a:lnTo>
                    <a:pt x="1206" y="1572"/>
                  </a:lnTo>
                  <a:lnTo>
                    <a:pt x="1208" y="1596"/>
                  </a:lnTo>
                  <a:lnTo>
                    <a:pt x="1244" y="1614"/>
                  </a:lnTo>
                  <a:lnTo>
                    <a:pt x="1280" y="1600"/>
                  </a:lnTo>
                  <a:lnTo>
                    <a:pt x="1298" y="1578"/>
                  </a:lnTo>
                  <a:lnTo>
                    <a:pt x="1278" y="1556"/>
                  </a:lnTo>
                  <a:lnTo>
                    <a:pt x="1262" y="1550"/>
                  </a:lnTo>
                  <a:lnTo>
                    <a:pt x="1280" y="1548"/>
                  </a:lnTo>
                  <a:lnTo>
                    <a:pt x="1308" y="1552"/>
                  </a:lnTo>
                  <a:lnTo>
                    <a:pt x="1338" y="1542"/>
                  </a:lnTo>
                  <a:lnTo>
                    <a:pt x="1336" y="1526"/>
                  </a:lnTo>
                  <a:lnTo>
                    <a:pt x="1272" y="1510"/>
                  </a:lnTo>
                  <a:lnTo>
                    <a:pt x="1248" y="1496"/>
                  </a:lnTo>
                  <a:lnTo>
                    <a:pt x="1202" y="1456"/>
                  </a:lnTo>
                  <a:lnTo>
                    <a:pt x="1216" y="1430"/>
                  </a:lnTo>
                  <a:lnTo>
                    <a:pt x="1236" y="1416"/>
                  </a:lnTo>
                  <a:lnTo>
                    <a:pt x="1212" y="1396"/>
                  </a:lnTo>
                  <a:lnTo>
                    <a:pt x="1180" y="1388"/>
                  </a:lnTo>
                  <a:lnTo>
                    <a:pt x="1150" y="1388"/>
                  </a:lnTo>
                  <a:lnTo>
                    <a:pt x="1132" y="1364"/>
                  </a:lnTo>
                  <a:lnTo>
                    <a:pt x="1142" y="1330"/>
                  </a:lnTo>
                  <a:lnTo>
                    <a:pt x="1148" y="1296"/>
                  </a:lnTo>
                  <a:lnTo>
                    <a:pt x="1138" y="1282"/>
                  </a:lnTo>
                  <a:lnTo>
                    <a:pt x="1074" y="1290"/>
                  </a:lnTo>
                  <a:lnTo>
                    <a:pt x="1056" y="1272"/>
                  </a:lnTo>
                  <a:lnTo>
                    <a:pt x="1044" y="1214"/>
                  </a:lnTo>
                  <a:lnTo>
                    <a:pt x="1028" y="1194"/>
                  </a:lnTo>
                  <a:lnTo>
                    <a:pt x="1016" y="1166"/>
                  </a:lnTo>
                  <a:lnTo>
                    <a:pt x="1022" y="1120"/>
                  </a:lnTo>
                  <a:lnTo>
                    <a:pt x="1022" y="1098"/>
                  </a:lnTo>
                  <a:lnTo>
                    <a:pt x="1016" y="1088"/>
                  </a:lnTo>
                  <a:lnTo>
                    <a:pt x="1000" y="1084"/>
                  </a:lnTo>
                  <a:lnTo>
                    <a:pt x="992" y="1068"/>
                  </a:lnTo>
                  <a:lnTo>
                    <a:pt x="958" y="1028"/>
                  </a:lnTo>
                  <a:lnTo>
                    <a:pt x="934" y="982"/>
                  </a:lnTo>
                  <a:lnTo>
                    <a:pt x="914" y="970"/>
                  </a:lnTo>
                  <a:lnTo>
                    <a:pt x="904" y="924"/>
                  </a:lnTo>
                  <a:lnTo>
                    <a:pt x="900" y="884"/>
                  </a:lnTo>
                  <a:lnTo>
                    <a:pt x="890" y="856"/>
                  </a:lnTo>
                  <a:lnTo>
                    <a:pt x="906" y="838"/>
                  </a:lnTo>
                  <a:lnTo>
                    <a:pt x="938" y="838"/>
                  </a:lnTo>
                  <a:lnTo>
                    <a:pt x="968" y="834"/>
                  </a:lnTo>
                  <a:lnTo>
                    <a:pt x="990" y="822"/>
                  </a:lnTo>
                  <a:lnTo>
                    <a:pt x="1012" y="822"/>
                  </a:lnTo>
                  <a:lnTo>
                    <a:pt x="1020" y="770"/>
                  </a:lnTo>
                  <a:lnTo>
                    <a:pt x="1012" y="734"/>
                  </a:lnTo>
                  <a:lnTo>
                    <a:pt x="992" y="698"/>
                  </a:lnTo>
                  <a:lnTo>
                    <a:pt x="968" y="676"/>
                  </a:lnTo>
                  <a:lnTo>
                    <a:pt x="944" y="678"/>
                  </a:lnTo>
                  <a:lnTo>
                    <a:pt x="884" y="658"/>
                  </a:lnTo>
                  <a:lnTo>
                    <a:pt x="862" y="644"/>
                  </a:lnTo>
                  <a:lnTo>
                    <a:pt x="818" y="602"/>
                  </a:lnTo>
                  <a:lnTo>
                    <a:pt x="754" y="580"/>
                  </a:lnTo>
                  <a:lnTo>
                    <a:pt x="746" y="562"/>
                  </a:lnTo>
                  <a:lnTo>
                    <a:pt x="750" y="494"/>
                  </a:lnTo>
                  <a:lnTo>
                    <a:pt x="742" y="452"/>
                  </a:lnTo>
                  <a:lnTo>
                    <a:pt x="716" y="406"/>
                  </a:lnTo>
                  <a:lnTo>
                    <a:pt x="686" y="374"/>
                  </a:lnTo>
                  <a:lnTo>
                    <a:pt x="652" y="350"/>
                  </a:lnTo>
                  <a:lnTo>
                    <a:pt x="594" y="298"/>
                  </a:lnTo>
                  <a:lnTo>
                    <a:pt x="576" y="254"/>
                  </a:lnTo>
                  <a:lnTo>
                    <a:pt x="562" y="234"/>
                  </a:lnTo>
                  <a:lnTo>
                    <a:pt x="536" y="234"/>
                  </a:lnTo>
                  <a:lnTo>
                    <a:pt x="508" y="220"/>
                  </a:lnTo>
                  <a:lnTo>
                    <a:pt x="402" y="156"/>
                  </a:lnTo>
                  <a:lnTo>
                    <a:pt x="344" y="142"/>
                  </a:lnTo>
                  <a:lnTo>
                    <a:pt x="320" y="126"/>
                  </a:lnTo>
                  <a:lnTo>
                    <a:pt x="292" y="118"/>
                  </a:lnTo>
                  <a:lnTo>
                    <a:pt x="244" y="78"/>
                  </a:lnTo>
                  <a:lnTo>
                    <a:pt x="190" y="58"/>
                  </a:lnTo>
                  <a:lnTo>
                    <a:pt x="164" y="34"/>
                  </a:lnTo>
                  <a:lnTo>
                    <a:pt x="124" y="24"/>
                  </a:lnTo>
                  <a:lnTo>
                    <a:pt x="9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98320" y="4313160"/>
              <a:ext cx="187200" cy="156240"/>
            </a:xfrm>
            <a:custGeom>
              <a:avLst/>
              <a:gdLst/>
              <a:ahLst/>
              <a:rect l="l" t="t" r="r" b="b"/>
              <a:pathLst>
                <a:path w="1082" h="924">
                  <a:moveTo>
                    <a:pt x="766" y="0"/>
                  </a:moveTo>
                  <a:lnTo>
                    <a:pt x="680" y="4"/>
                  </a:lnTo>
                  <a:lnTo>
                    <a:pt x="630" y="24"/>
                  </a:lnTo>
                  <a:lnTo>
                    <a:pt x="608" y="38"/>
                  </a:lnTo>
                  <a:lnTo>
                    <a:pt x="570" y="74"/>
                  </a:lnTo>
                  <a:lnTo>
                    <a:pt x="476" y="148"/>
                  </a:lnTo>
                  <a:lnTo>
                    <a:pt x="442" y="194"/>
                  </a:lnTo>
                  <a:lnTo>
                    <a:pt x="394" y="234"/>
                  </a:lnTo>
                  <a:lnTo>
                    <a:pt x="296" y="270"/>
                  </a:lnTo>
                  <a:lnTo>
                    <a:pt x="264" y="278"/>
                  </a:lnTo>
                  <a:lnTo>
                    <a:pt x="234" y="280"/>
                  </a:lnTo>
                  <a:lnTo>
                    <a:pt x="216" y="288"/>
                  </a:lnTo>
                  <a:lnTo>
                    <a:pt x="194" y="304"/>
                  </a:lnTo>
                  <a:lnTo>
                    <a:pt x="182" y="322"/>
                  </a:lnTo>
                  <a:lnTo>
                    <a:pt x="170" y="356"/>
                  </a:lnTo>
                  <a:lnTo>
                    <a:pt x="160" y="398"/>
                  </a:lnTo>
                  <a:lnTo>
                    <a:pt x="140" y="456"/>
                  </a:lnTo>
                  <a:lnTo>
                    <a:pt x="122" y="486"/>
                  </a:lnTo>
                  <a:lnTo>
                    <a:pt x="76" y="520"/>
                  </a:lnTo>
                  <a:lnTo>
                    <a:pt x="54" y="548"/>
                  </a:lnTo>
                  <a:lnTo>
                    <a:pt x="42" y="562"/>
                  </a:lnTo>
                  <a:lnTo>
                    <a:pt x="32" y="588"/>
                  </a:lnTo>
                  <a:lnTo>
                    <a:pt x="26" y="618"/>
                  </a:lnTo>
                  <a:lnTo>
                    <a:pt x="4" y="672"/>
                  </a:lnTo>
                  <a:lnTo>
                    <a:pt x="0" y="704"/>
                  </a:lnTo>
                  <a:lnTo>
                    <a:pt x="0" y="744"/>
                  </a:lnTo>
                  <a:lnTo>
                    <a:pt x="4" y="780"/>
                  </a:lnTo>
                  <a:lnTo>
                    <a:pt x="8" y="780"/>
                  </a:lnTo>
                  <a:lnTo>
                    <a:pt x="12" y="784"/>
                  </a:lnTo>
                  <a:lnTo>
                    <a:pt x="12" y="800"/>
                  </a:lnTo>
                  <a:lnTo>
                    <a:pt x="16" y="806"/>
                  </a:lnTo>
                  <a:lnTo>
                    <a:pt x="20" y="808"/>
                  </a:lnTo>
                  <a:lnTo>
                    <a:pt x="30" y="826"/>
                  </a:lnTo>
                  <a:lnTo>
                    <a:pt x="36" y="830"/>
                  </a:lnTo>
                  <a:lnTo>
                    <a:pt x="40" y="838"/>
                  </a:lnTo>
                  <a:lnTo>
                    <a:pt x="40" y="854"/>
                  </a:lnTo>
                  <a:lnTo>
                    <a:pt x="48" y="854"/>
                  </a:lnTo>
                  <a:lnTo>
                    <a:pt x="58" y="864"/>
                  </a:lnTo>
                  <a:lnTo>
                    <a:pt x="60" y="876"/>
                  </a:lnTo>
                  <a:lnTo>
                    <a:pt x="78" y="886"/>
                  </a:lnTo>
                  <a:lnTo>
                    <a:pt x="80" y="884"/>
                  </a:lnTo>
                  <a:lnTo>
                    <a:pt x="92" y="884"/>
                  </a:lnTo>
                  <a:lnTo>
                    <a:pt x="94" y="876"/>
                  </a:lnTo>
                  <a:lnTo>
                    <a:pt x="100" y="876"/>
                  </a:lnTo>
                  <a:lnTo>
                    <a:pt x="102" y="888"/>
                  </a:lnTo>
                  <a:lnTo>
                    <a:pt x="122" y="900"/>
                  </a:lnTo>
                  <a:lnTo>
                    <a:pt x="130" y="890"/>
                  </a:lnTo>
                  <a:lnTo>
                    <a:pt x="138" y="872"/>
                  </a:lnTo>
                  <a:lnTo>
                    <a:pt x="152" y="870"/>
                  </a:lnTo>
                  <a:lnTo>
                    <a:pt x="172" y="860"/>
                  </a:lnTo>
                  <a:lnTo>
                    <a:pt x="206" y="852"/>
                  </a:lnTo>
                  <a:lnTo>
                    <a:pt x="230" y="840"/>
                  </a:lnTo>
                  <a:lnTo>
                    <a:pt x="248" y="844"/>
                  </a:lnTo>
                  <a:lnTo>
                    <a:pt x="278" y="856"/>
                  </a:lnTo>
                  <a:lnTo>
                    <a:pt x="290" y="844"/>
                  </a:lnTo>
                  <a:lnTo>
                    <a:pt x="296" y="844"/>
                  </a:lnTo>
                  <a:lnTo>
                    <a:pt x="310" y="872"/>
                  </a:lnTo>
                  <a:lnTo>
                    <a:pt x="322" y="876"/>
                  </a:lnTo>
                  <a:lnTo>
                    <a:pt x="324" y="890"/>
                  </a:lnTo>
                  <a:lnTo>
                    <a:pt x="338" y="920"/>
                  </a:lnTo>
                  <a:lnTo>
                    <a:pt x="344" y="924"/>
                  </a:lnTo>
                  <a:lnTo>
                    <a:pt x="360" y="924"/>
                  </a:lnTo>
                  <a:lnTo>
                    <a:pt x="368" y="918"/>
                  </a:lnTo>
                  <a:lnTo>
                    <a:pt x="358" y="896"/>
                  </a:lnTo>
                  <a:lnTo>
                    <a:pt x="356" y="880"/>
                  </a:lnTo>
                  <a:lnTo>
                    <a:pt x="358" y="846"/>
                  </a:lnTo>
                  <a:lnTo>
                    <a:pt x="350" y="820"/>
                  </a:lnTo>
                  <a:lnTo>
                    <a:pt x="354" y="782"/>
                  </a:lnTo>
                  <a:lnTo>
                    <a:pt x="344" y="778"/>
                  </a:lnTo>
                  <a:lnTo>
                    <a:pt x="346" y="754"/>
                  </a:lnTo>
                  <a:lnTo>
                    <a:pt x="338" y="746"/>
                  </a:lnTo>
                  <a:lnTo>
                    <a:pt x="330" y="720"/>
                  </a:lnTo>
                  <a:lnTo>
                    <a:pt x="330" y="698"/>
                  </a:lnTo>
                  <a:lnTo>
                    <a:pt x="342" y="672"/>
                  </a:lnTo>
                  <a:lnTo>
                    <a:pt x="388" y="664"/>
                  </a:lnTo>
                  <a:lnTo>
                    <a:pt x="414" y="664"/>
                  </a:lnTo>
                  <a:lnTo>
                    <a:pt x="444" y="670"/>
                  </a:lnTo>
                  <a:lnTo>
                    <a:pt x="516" y="668"/>
                  </a:lnTo>
                  <a:lnTo>
                    <a:pt x="586" y="684"/>
                  </a:lnTo>
                  <a:lnTo>
                    <a:pt x="630" y="684"/>
                  </a:lnTo>
                  <a:lnTo>
                    <a:pt x="638" y="680"/>
                  </a:lnTo>
                  <a:lnTo>
                    <a:pt x="672" y="658"/>
                  </a:lnTo>
                  <a:lnTo>
                    <a:pt x="714" y="650"/>
                  </a:lnTo>
                  <a:lnTo>
                    <a:pt x="716" y="652"/>
                  </a:lnTo>
                  <a:lnTo>
                    <a:pt x="804" y="666"/>
                  </a:lnTo>
                  <a:lnTo>
                    <a:pt x="816" y="684"/>
                  </a:lnTo>
                  <a:lnTo>
                    <a:pt x="824" y="682"/>
                  </a:lnTo>
                  <a:lnTo>
                    <a:pt x="828" y="674"/>
                  </a:lnTo>
                  <a:lnTo>
                    <a:pt x="868" y="674"/>
                  </a:lnTo>
                  <a:lnTo>
                    <a:pt x="870" y="672"/>
                  </a:lnTo>
                  <a:lnTo>
                    <a:pt x="880" y="660"/>
                  </a:lnTo>
                  <a:lnTo>
                    <a:pt x="890" y="660"/>
                  </a:lnTo>
                  <a:lnTo>
                    <a:pt x="892" y="644"/>
                  </a:lnTo>
                  <a:lnTo>
                    <a:pt x="902" y="634"/>
                  </a:lnTo>
                  <a:lnTo>
                    <a:pt x="904" y="628"/>
                  </a:lnTo>
                  <a:lnTo>
                    <a:pt x="908" y="624"/>
                  </a:lnTo>
                  <a:lnTo>
                    <a:pt x="920" y="626"/>
                  </a:lnTo>
                  <a:lnTo>
                    <a:pt x="940" y="590"/>
                  </a:lnTo>
                  <a:lnTo>
                    <a:pt x="946" y="586"/>
                  </a:lnTo>
                  <a:lnTo>
                    <a:pt x="962" y="586"/>
                  </a:lnTo>
                  <a:lnTo>
                    <a:pt x="982" y="596"/>
                  </a:lnTo>
                  <a:lnTo>
                    <a:pt x="1006" y="590"/>
                  </a:lnTo>
                  <a:lnTo>
                    <a:pt x="1022" y="596"/>
                  </a:lnTo>
                  <a:lnTo>
                    <a:pt x="1034" y="590"/>
                  </a:lnTo>
                  <a:lnTo>
                    <a:pt x="1066" y="554"/>
                  </a:lnTo>
                  <a:lnTo>
                    <a:pt x="1070" y="546"/>
                  </a:lnTo>
                  <a:lnTo>
                    <a:pt x="1068" y="542"/>
                  </a:lnTo>
                  <a:lnTo>
                    <a:pt x="1078" y="530"/>
                  </a:lnTo>
                  <a:lnTo>
                    <a:pt x="1082" y="516"/>
                  </a:lnTo>
                  <a:lnTo>
                    <a:pt x="1082" y="510"/>
                  </a:lnTo>
                  <a:lnTo>
                    <a:pt x="1082" y="512"/>
                  </a:lnTo>
                  <a:lnTo>
                    <a:pt x="1054" y="482"/>
                  </a:lnTo>
                  <a:lnTo>
                    <a:pt x="1038" y="458"/>
                  </a:lnTo>
                  <a:lnTo>
                    <a:pt x="1034" y="448"/>
                  </a:lnTo>
                  <a:lnTo>
                    <a:pt x="1038" y="438"/>
                  </a:lnTo>
                  <a:lnTo>
                    <a:pt x="1046" y="432"/>
                  </a:lnTo>
                  <a:lnTo>
                    <a:pt x="1060" y="436"/>
                  </a:lnTo>
                  <a:lnTo>
                    <a:pt x="1062" y="428"/>
                  </a:lnTo>
                  <a:lnTo>
                    <a:pt x="1060" y="420"/>
                  </a:lnTo>
                  <a:lnTo>
                    <a:pt x="1042" y="388"/>
                  </a:lnTo>
                  <a:lnTo>
                    <a:pt x="1028" y="380"/>
                  </a:lnTo>
                  <a:lnTo>
                    <a:pt x="1018" y="380"/>
                  </a:lnTo>
                  <a:lnTo>
                    <a:pt x="1004" y="396"/>
                  </a:lnTo>
                  <a:lnTo>
                    <a:pt x="992" y="400"/>
                  </a:lnTo>
                  <a:lnTo>
                    <a:pt x="982" y="400"/>
                  </a:lnTo>
                  <a:lnTo>
                    <a:pt x="954" y="392"/>
                  </a:lnTo>
                  <a:lnTo>
                    <a:pt x="936" y="380"/>
                  </a:lnTo>
                  <a:lnTo>
                    <a:pt x="908" y="342"/>
                  </a:lnTo>
                  <a:lnTo>
                    <a:pt x="898" y="322"/>
                  </a:lnTo>
                  <a:lnTo>
                    <a:pt x="882" y="280"/>
                  </a:lnTo>
                  <a:lnTo>
                    <a:pt x="866" y="252"/>
                  </a:lnTo>
                  <a:lnTo>
                    <a:pt x="822" y="208"/>
                  </a:lnTo>
                  <a:lnTo>
                    <a:pt x="790" y="166"/>
                  </a:lnTo>
                  <a:lnTo>
                    <a:pt x="784" y="144"/>
                  </a:lnTo>
                  <a:lnTo>
                    <a:pt x="784" y="118"/>
                  </a:lnTo>
                  <a:lnTo>
                    <a:pt x="782" y="110"/>
                  </a:lnTo>
                  <a:lnTo>
                    <a:pt x="740" y="86"/>
                  </a:lnTo>
                  <a:lnTo>
                    <a:pt x="740" y="78"/>
                  </a:lnTo>
                  <a:lnTo>
                    <a:pt x="740" y="48"/>
                  </a:lnTo>
                  <a:lnTo>
                    <a:pt x="740" y="14"/>
                  </a:lnTo>
                  <a:lnTo>
                    <a:pt x="76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54600" y="4376160"/>
              <a:ext cx="182520" cy="159120"/>
            </a:xfrm>
            <a:custGeom>
              <a:avLst/>
              <a:gdLst/>
              <a:ahLst/>
              <a:rect l="l" t="t" r="r" b="b"/>
              <a:pathLst>
                <a:path w="1044" h="930">
                  <a:moveTo>
                    <a:pt x="536" y="48"/>
                  </a:moveTo>
                  <a:lnTo>
                    <a:pt x="512" y="44"/>
                  </a:lnTo>
                  <a:lnTo>
                    <a:pt x="494" y="54"/>
                  </a:lnTo>
                  <a:lnTo>
                    <a:pt x="484" y="54"/>
                  </a:lnTo>
                  <a:lnTo>
                    <a:pt x="456" y="50"/>
                  </a:lnTo>
                  <a:lnTo>
                    <a:pt x="450" y="54"/>
                  </a:lnTo>
                  <a:lnTo>
                    <a:pt x="430" y="54"/>
                  </a:lnTo>
                  <a:lnTo>
                    <a:pt x="412" y="60"/>
                  </a:lnTo>
                  <a:lnTo>
                    <a:pt x="396" y="62"/>
                  </a:lnTo>
                  <a:lnTo>
                    <a:pt x="382" y="54"/>
                  </a:lnTo>
                  <a:lnTo>
                    <a:pt x="374" y="56"/>
                  </a:lnTo>
                  <a:lnTo>
                    <a:pt x="354" y="48"/>
                  </a:lnTo>
                  <a:lnTo>
                    <a:pt x="336" y="46"/>
                  </a:lnTo>
                  <a:lnTo>
                    <a:pt x="318" y="30"/>
                  </a:lnTo>
                  <a:lnTo>
                    <a:pt x="314" y="32"/>
                  </a:lnTo>
                  <a:lnTo>
                    <a:pt x="312" y="42"/>
                  </a:lnTo>
                  <a:lnTo>
                    <a:pt x="294" y="40"/>
                  </a:lnTo>
                  <a:lnTo>
                    <a:pt x="294" y="20"/>
                  </a:lnTo>
                  <a:lnTo>
                    <a:pt x="288" y="12"/>
                  </a:lnTo>
                  <a:lnTo>
                    <a:pt x="266" y="8"/>
                  </a:lnTo>
                  <a:lnTo>
                    <a:pt x="250" y="12"/>
                  </a:lnTo>
                  <a:lnTo>
                    <a:pt x="238" y="2"/>
                  </a:lnTo>
                  <a:lnTo>
                    <a:pt x="202" y="0"/>
                  </a:lnTo>
                  <a:lnTo>
                    <a:pt x="202" y="20"/>
                  </a:lnTo>
                  <a:lnTo>
                    <a:pt x="212" y="42"/>
                  </a:lnTo>
                  <a:lnTo>
                    <a:pt x="212" y="54"/>
                  </a:lnTo>
                  <a:lnTo>
                    <a:pt x="206" y="70"/>
                  </a:lnTo>
                  <a:lnTo>
                    <a:pt x="196" y="76"/>
                  </a:lnTo>
                  <a:lnTo>
                    <a:pt x="182" y="76"/>
                  </a:lnTo>
                  <a:lnTo>
                    <a:pt x="176" y="80"/>
                  </a:lnTo>
                  <a:lnTo>
                    <a:pt x="172" y="92"/>
                  </a:lnTo>
                  <a:lnTo>
                    <a:pt x="186" y="102"/>
                  </a:lnTo>
                  <a:lnTo>
                    <a:pt x="194" y="116"/>
                  </a:lnTo>
                  <a:lnTo>
                    <a:pt x="198" y="172"/>
                  </a:lnTo>
                  <a:lnTo>
                    <a:pt x="180" y="172"/>
                  </a:lnTo>
                  <a:lnTo>
                    <a:pt x="170" y="180"/>
                  </a:lnTo>
                  <a:lnTo>
                    <a:pt x="120" y="180"/>
                  </a:lnTo>
                  <a:lnTo>
                    <a:pt x="74" y="204"/>
                  </a:lnTo>
                  <a:lnTo>
                    <a:pt x="56" y="220"/>
                  </a:lnTo>
                  <a:lnTo>
                    <a:pt x="44" y="240"/>
                  </a:lnTo>
                  <a:lnTo>
                    <a:pt x="36" y="270"/>
                  </a:lnTo>
                  <a:lnTo>
                    <a:pt x="30" y="280"/>
                  </a:lnTo>
                  <a:lnTo>
                    <a:pt x="16" y="292"/>
                  </a:lnTo>
                  <a:lnTo>
                    <a:pt x="0" y="298"/>
                  </a:lnTo>
                  <a:lnTo>
                    <a:pt x="2" y="328"/>
                  </a:lnTo>
                  <a:lnTo>
                    <a:pt x="10" y="332"/>
                  </a:lnTo>
                  <a:lnTo>
                    <a:pt x="18" y="332"/>
                  </a:lnTo>
                  <a:lnTo>
                    <a:pt x="24" y="328"/>
                  </a:lnTo>
                  <a:lnTo>
                    <a:pt x="36" y="306"/>
                  </a:lnTo>
                  <a:lnTo>
                    <a:pt x="44" y="302"/>
                  </a:lnTo>
                  <a:lnTo>
                    <a:pt x="46" y="302"/>
                  </a:lnTo>
                  <a:lnTo>
                    <a:pt x="52" y="344"/>
                  </a:lnTo>
                  <a:lnTo>
                    <a:pt x="74" y="346"/>
                  </a:lnTo>
                  <a:lnTo>
                    <a:pt x="78" y="352"/>
                  </a:lnTo>
                  <a:lnTo>
                    <a:pt x="78" y="388"/>
                  </a:lnTo>
                  <a:lnTo>
                    <a:pt x="90" y="424"/>
                  </a:lnTo>
                  <a:lnTo>
                    <a:pt x="100" y="440"/>
                  </a:lnTo>
                  <a:lnTo>
                    <a:pt x="118" y="448"/>
                  </a:lnTo>
                  <a:lnTo>
                    <a:pt x="140" y="466"/>
                  </a:lnTo>
                  <a:lnTo>
                    <a:pt x="168" y="480"/>
                  </a:lnTo>
                  <a:lnTo>
                    <a:pt x="188" y="508"/>
                  </a:lnTo>
                  <a:lnTo>
                    <a:pt x="190" y="540"/>
                  </a:lnTo>
                  <a:lnTo>
                    <a:pt x="212" y="550"/>
                  </a:lnTo>
                  <a:lnTo>
                    <a:pt x="220" y="566"/>
                  </a:lnTo>
                  <a:lnTo>
                    <a:pt x="226" y="572"/>
                  </a:lnTo>
                  <a:lnTo>
                    <a:pt x="226" y="582"/>
                  </a:lnTo>
                  <a:lnTo>
                    <a:pt x="236" y="590"/>
                  </a:lnTo>
                  <a:lnTo>
                    <a:pt x="246" y="606"/>
                  </a:lnTo>
                  <a:lnTo>
                    <a:pt x="252" y="608"/>
                  </a:lnTo>
                  <a:lnTo>
                    <a:pt x="266" y="614"/>
                  </a:lnTo>
                  <a:lnTo>
                    <a:pt x="282" y="614"/>
                  </a:lnTo>
                  <a:lnTo>
                    <a:pt x="288" y="614"/>
                  </a:lnTo>
                  <a:lnTo>
                    <a:pt x="294" y="608"/>
                  </a:lnTo>
                  <a:lnTo>
                    <a:pt x="306" y="578"/>
                  </a:lnTo>
                  <a:lnTo>
                    <a:pt x="320" y="576"/>
                  </a:lnTo>
                  <a:lnTo>
                    <a:pt x="326" y="570"/>
                  </a:lnTo>
                  <a:lnTo>
                    <a:pt x="328" y="558"/>
                  </a:lnTo>
                  <a:lnTo>
                    <a:pt x="340" y="550"/>
                  </a:lnTo>
                  <a:lnTo>
                    <a:pt x="356" y="528"/>
                  </a:lnTo>
                  <a:lnTo>
                    <a:pt x="366" y="506"/>
                  </a:lnTo>
                  <a:lnTo>
                    <a:pt x="364" y="482"/>
                  </a:lnTo>
                  <a:lnTo>
                    <a:pt x="374" y="476"/>
                  </a:lnTo>
                  <a:lnTo>
                    <a:pt x="396" y="476"/>
                  </a:lnTo>
                  <a:lnTo>
                    <a:pt x="404" y="482"/>
                  </a:lnTo>
                  <a:lnTo>
                    <a:pt x="414" y="482"/>
                  </a:lnTo>
                  <a:lnTo>
                    <a:pt x="428" y="476"/>
                  </a:lnTo>
                  <a:lnTo>
                    <a:pt x="444" y="474"/>
                  </a:lnTo>
                  <a:lnTo>
                    <a:pt x="446" y="460"/>
                  </a:lnTo>
                  <a:lnTo>
                    <a:pt x="512" y="460"/>
                  </a:lnTo>
                  <a:lnTo>
                    <a:pt x="546" y="464"/>
                  </a:lnTo>
                  <a:lnTo>
                    <a:pt x="554" y="486"/>
                  </a:lnTo>
                  <a:lnTo>
                    <a:pt x="572" y="496"/>
                  </a:lnTo>
                  <a:lnTo>
                    <a:pt x="580" y="512"/>
                  </a:lnTo>
                  <a:lnTo>
                    <a:pt x="592" y="522"/>
                  </a:lnTo>
                  <a:lnTo>
                    <a:pt x="592" y="532"/>
                  </a:lnTo>
                  <a:lnTo>
                    <a:pt x="600" y="540"/>
                  </a:lnTo>
                  <a:lnTo>
                    <a:pt x="594" y="548"/>
                  </a:lnTo>
                  <a:lnTo>
                    <a:pt x="598" y="556"/>
                  </a:lnTo>
                  <a:lnTo>
                    <a:pt x="616" y="562"/>
                  </a:lnTo>
                  <a:lnTo>
                    <a:pt x="622" y="568"/>
                  </a:lnTo>
                  <a:lnTo>
                    <a:pt x="622" y="574"/>
                  </a:lnTo>
                  <a:lnTo>
                    <a:pt x="618" y="582"/>
                  </a:lnTo>
                  <a:lnTo>
                    <a:pt x="622" y="596"/>
                  </a:lnTo>
                  <a:lnTo>
                    <a:pt x="618" y="600"/>
                  </a:lnTo>
                  <a:lnTo>
                    <a:pt x="622" y="612"/>
                  </a:lnTo>
                  <a:lnTo>
                    <a:pt x="626" y="622"/>
                  </a:lnTo>
                  <a:lnTo>
                    <a:pt x="638" y="630"/>
                  </a:lnTo>
                  <a:lnTo>
                    <a:pt x="642" y="640"/>
                  </a:lnTo>
                  <a:lnTo>
                    <a:pt x="646" y="674"/>
                  </a:lnTo>
                  <a:lnTo>
                    <a:pt x="644" y="678"/>
                  </a:lnTo>
                  <a:lnTo>
                    <a:pt x="630" y="682"/>
                  </a:lnTo>
                  <a:lnTo>
                    <a:pt x="622" y="716"/>
                  </a:lnTo>
                  <a:lnTo>
                    <a:pt x="616" y="732"/>
                  </a:lnTo>
                  <a:lnTo>
                    <a:pt x="616" y="742"/>
                  </a:lnTo>
                  <a:lnTo>
                    <a:pt x="650" y="726"/>
                  </a:lnTo>
                  <a:lnTo>
                    <a:pt x="666" y="712"/>
                  </a:lnTo>
                  <a:lnTo>
                    <a:pt x="668" y="712"/>
                  </a:lnTo>
                  <a:lnTo>
                    <a:pt x="670" y="718"/>
                  </a:lnTo>
                  <a:lnTo>
                    <a:pt x="670" y="730"/>
                  </a:lnTo>
                  <a:lnTo>
                    <a:pt x="682" y="728"/>
                  </a:lnTo>
                  <a:lnTo>
                    <a:pt x="688" y="710"/>
                  </a:lnTo>
                  <a:lnTo>
                    <a:pt x="698" y="702"/>
                  </a:lnTo>
                  <a:lnTo>
                    <a:pt x="708" y="708"/>
                  </a:lnTo>
                  <a:lnTo>
                    <a:pt x="720" y="720"/>
                  </a:lnTo>
                  <a:lnTo>
                    <a:pt x="726" y="720"/>
                  </a:lnTo>
                  <a:lnTo>
                    <a:pt x="732" y="716"/>
                  </a:lnTo>
                  <a:lnTo>
                    <a:pt x="754" y="706"/>
                  </a:lnTo>
                  <a:lnTo>
                    <a:pt x="760" y="708"/>
                  </a:lnTo>
                  <a:lnTo>
                    <a:pt x="760" y="714"/>
                  </a:lnTo>
                  <a:lnTo>
                    <a:pt x="768" y="726"/>
                  </a:lnTo>
                  <a:lnTo>
                    <a:pt x="788" y="740"/>
                  </a:lnTo>
                  <a:lnTo>
                    <a:pt x="786" y="762"/>
                  </a:lnTo>
                  <a:lnTo>
                    <a:pt x="798" y="780"/>
                  </a:lnTo>
                  <a:lnTo>
                    <a:pt x="800" y="822"/>
                  </a:lnTo>
                  <a:lnTo>
                    <a:pt x="808" y="830"/>
                  </a:lnTo>
                  <a:lnTo>
                    <a:pt x="804" y="876"/>
                  </a:lnTo>
                  <a:lnTo>
                    <a:pt x="798" y="888"/>
                  </a:lnTo>
                  <a:lnTo>
                    <a:pt x="788" y="896"/>
                  </a:lnTo>
                  <a:lnTo>
                    <a:pt x="786" y="902"/>
                  </a:lnTo>
                  <a:lnTo>
                    <a:pt x="788" y="906"/>
                  </a:lnTo>
                  <a:lnTo>
                    <a:pt x="800" y="904"/>
                  </a:lnTo>
                  <a:lnTo>
                    <a:pt x="810" y="896"/>
                  </a:lnTo>
                  <a:lnTo>
                    <a:pt x="816" y="896"/>
                  </a:lnTo>
                  <a:lnTo>
                    <a:pt x="830" y="910"/>
                  </a:lnTo>
                  <a:lnTo>
                    <a:pt x="842" y="930"/>
                  </a:lnTo>
                  <a:lnTo>
                    <a:pt x="854" y="928"/>
                  </a:lnTo>
                  <a:lnTo>
                    <a:pt x="862" y="920"/>
                  </a:lnTo>
                  <a:lnTo>
                    <a:pt x="882" y="918"/>
                  </a:lnTo>
                  <a:lnTo>
                    <a:pt x="884" y="904"/>
                  </a:lnTo>
                  <a:lnTo>
                    <a:pt x="896" y="886"/>
                  </a:lnTo>
                  <a:lnTo>
                    <a:pt x="898" y="862"/>
                  </a:lnTo>
                  <a:lnTo>
                    <a:pt x="906" y="854"/>
                  </a:lnTo>
                  <a:lnTo>
                    <a:pt x="922" y="854"/>
                  </a:lnTo>
                  <a:lnTo>
                    <a:pt x="932" y="874"/>
                  </a:lnTo>
                  <a:lnTo>
                    <a:pt x="940" y="870"/>
                  </a:lnTo>
                  <a:lnTo>
                    <a:pt x="978" y="870"/>
                  </a:lnTo>
                  <a:lnTo>
                    <a:pt x="978" y="858"/>
                  </a:lnTo>
                  <a:lnTo>
                    <a:pt x="990" y="838"/>
                  </a:lnTo>
                  <a:lnTo>
                    <a:pt x="990" y="814"/>
                  </a:lnTo>
                  <a:lnTo>
                    <a:pt x="994" y="798"/>
                  </a:lnTo>
                  <a:lnTo>
                    <a:pt x="1004" y="788"/>
                  </a:lnTo>
                  <a:lnTo>
                    <a:pt x="1002" y="782"/>
                  </a:lnTo>
                  <a:lnTo>
                    <a:pt x="998" y="780"/>
                  </a:lnTo>
                  <a:lnTo>
                    <a:pt x="1000" y="774"/>
                  </a:lnTo>
                  <a:lnTo>
                    <a:pt x="998" y="764"/>
                  </a:lnTo>
                  <a:lnTo>
                    <a:pt x="988" y="762"/>
                  </a:lnTo>
                  <a:lnTo>
                    <a:pt x="970" y="762"/>
                  </a:lnTo>
                  <a:lnTo>
                    <a:pt x="966" y="756"/>
                  </a:lnTo>
                  <a:lnTo>
                    <a:pt x="972" y="742"/>
                  </a:lnTo>
                  <a:lnTo>
                    <a:pt x="970" y="726"/>
                  </a:lnTo>
                  <a:lnTo>
                    <a:pt x="966" y="724"/>
                  </a:lnTo>
                  <a:lnTo>
                    <a:pt x="966" y="720"/>
                  </a:lnTo>
                  <a:lnTo>
                    <a:pt x="986" y="712"/>
                  </a:lnTo>
                  <a:lnTo>
                    <a:pt x="1010" y="714"/>
                  </a:lnTo>
                  <a:lnTo>
                    <a:pt x="1018" y="724"/>
                  </a:lnTo>
                  <a:lnTo>
                    <a:pt x="1026" y="726"/>
                  </a:lnTo>
                  <a:lnTo>
                    <a:pt x="1034" y="724"/>
                  </a:lnTo>
                  <a:lnTo>
                    <a:pt x="1040" y="742"/>
                  </a:lnTo>
                  <a:lnTo>
                    <a:pt x="1044" y="742"/>
                  </a:lnTo>
                  <a:lnTo>
                    <a:pt x="1042" y="714"/>
                  </a:lnTo>
                  <a:lnTo>
                    <a:pt x="1044" y="698"/>
                  </a:lnTo>
                  <a:lnTo>
                    <a:pt x="1034" y="688"/>
                  </a:lnTo>
                  <a:lnTo>
                    <a:pt x="1034" y="670"/>
                  </a:lnTo>
                  <a:lnTo>
                    <a:pt x="1026" y="670"/>
                  </a:lnTo>
                  <a:lnTo>
                    <a:pt x="1018" y="664"/>
                  </a:lnTo>
                  <a:lnTo>
                    <a:pt x="1012" y="668"/>
                  </a:lnTo>
                  <a:lnTo>
                    <a:pt x="1022" y="638"/>
                  </a:lnTo>
                  <a:lnTo>
                    <a:pt x="1030" y="626"/>
                  </a:lnTo>
                  <a:lnTo>
                    <a:pt x="1036" y="622"/>
                  </a:lnTo>
                  <a:lnTo>
                    <a:pt x="1036" y="618"/>
                  </a:lnTo>
                  <a:lnTo>
                    <a:pt x="1026" y="602"/>
                  </a:lnTo>
                  <a:lnTo>
                    <a:pt x="1018" y="604"/>
                  </a:lnTo>
                  <a:lnTo>
                    <a:pt x="1022" y="564"/>
                  </a:lnTo>
                  <a:lnTo>
                    <a:pt x="1002" y="566"/>
                  </a:lnTo>
                  <a:lnTo>
                    <a:pt x="984" y="552"/>
                  </a:lnTo>
                  <a:lnTo>
                    <a:pt x="982" y="546"/>
                  </a:lnTo>
                  <a:lnTo>
                    <a:pt x="984" y="492"/>
                  </a:lnTo>
                  <a:lnTo>
                    <a:pt x="982" y="468"/>
                  </a:lnTo>
                  <a:lnTo>
                    <a:pt x="988" y="460"/>
                  </a:lnTo>
                  <a:lnTo>
                    <a:pt x="988" y="452"/>
                  </a:lnTo>
                  <a:lnTo>
                    <a:pt x="1006" y="432"/>
                  </a:lnTo>
                  <a:lnTo>
                    <a:pt x="1008" y="424"/>
                  </a:lnTo>
                  <a:lnTo>
                    <a:pt x="1008" y="414"/>
                  </a:lnTo>
                  <a:lnTo>
                    <a:pt x="1004" y="404"/>
                  </a:lnTo>
                  <a:lnTo>
                    <a:pt x="990" y="396"/>
                  </a:lnTo>
                  <a:lnTo>
                    <a:pt x="984" y="382"/>
                  </a:lnTo>
                  <a:lnTo>
                    <a:pt x="970" y="380"/>
                  </a:lnTo>
                  <a:lnTo>
                    <a:pt x="962" y="362"/>
                  </a:lnTo>
                  <a:lnTo>
                    <a:pt x="960" y="292"/>
                  </a:lnTo>
                  <a:lnTo>
                    <a:pt x="958" y="282"/>
                  </a:lnTo>
                  <a:lnTo>
                    <a:pt x="946" y="276"/>
                  </a:lnTo>
                  <a:lnTo>
                    <a:pt x="932" y="280"/>
                  </a:lnTo>
                  <a:lnTo>
                    <a:pt x="918" y="300"/>
                  </a:lnTo>
                  <a:lnTo>
                    <a:pt x="912" y="300"/>
                  </a:lnTo>
                  <a:lnTo>
                    <a:pt x="912" y="276"/>
                  </a:lnTo>
                  <a:lnTo>
                    <a:pt x="914" y="272"/>
                  </a:lnTo>
                  <a:lnTo>
                    <a:pt x="926" y="266"/>
                  </a:lnTo>
                  <a:lnTo>
                    <a:pt x="928" y="254"/>
                  </a:lnTo>
                  <a:lnTo>
                    <a:pt x="938" y="252"/>
                  </a:lnTo>
                  <a:lnTo>
                    <a:pt x="942" y="240"/>
                  </a:lnTo>
                  <a:lnTo>
                    <a:pt x="954" y="240"/>
                  </a:lnTo>
                  <a:lnTo>
                    <a:pt x="952" y="224"/>
                  </a:lnTo>
                  <a:lnTo>
                    <a:pt x="950" y="220"/>
                  </a:lnTo>
                  <a:lnTo>
                    <a:pt x="936" y="220"/>
                  </a:lnTo>
                  <a:lnTo>
                    <a:pt x="928" y="210"/>
                  </a:lnTo>
                  <a:lnTo>
                    <a:pt x="918" y="204"/>
                  </a:lnTo>
                  <a:lnTo>
                    <a:pt x="906" y="174"/>
                  </a:lnTo>
                  <a:lnTo>
                    <a:pt x="894" y="180"/>
                  </a:lnTo>
                  <a:lnTo>
                    <a:pt x="890" y="178"/>
                  </a:lnTo>
                  <a:lnTo>
                    <a:pt x="892" y="126"/>
                  </a:lnTo>
                  <a:lnTo>
                    <a:pt x="886" y="110"/>
                  </a:lnTo>
                  <a:lnTo>
                    <a:pt x="880" y="110"/>
                  </a:lnTo>
                  <a:lnTo>
                    <a:pt x="882" y="92"/>
                  </a:lnTo>
                  <a:lnTo>
                    <a:pt x="878" y="86"/>
                  </a:lnTo>
                  <a:lnTo>
                    <a:pt x="868" y="86"/>
                  </a:lnTo>
                  <a:lnTo>
                    <a:pt x="866" y="84"/>
                  </a:lnTo>
                  <a:lnTo>
                    <a:pt x="868" y="48"/>
                  </a:lnTo>
                  <a:lnTo>
                    <a:pt x="868" y="44"/>
                  </a:lnTo>
                  <a:lnTo>
                    <a:pt x="858" y="36"/>
                  </a:lnTo>
                  <a:lnTo>
                    <a:pt x="852" y="36"/>
                  </a:lnTo>
                  <a:lnTo>
                    <a:pt x="846" y="46"/>
                  </a:lnTo>
                  <a:lnTo>
                    <a:pt x="840" y="46"/>
                  </a:lnTo>
                  <a:lnTo>
                    <a:pt x="822" y="34"/>
                  </a:lnTo>
                  <a:lnTo>
                    <a:pt x="816" y="34"/>
                  </a:lnTo>
                  <a:lnTo>
                    <a:pt x="814" y="36"/>
                  </a:lnTo>
                  <a:lnTo>
                    <a:pt x="814" y="64"/>
                  </a:lnTo>
                  <a:lnTo>
                    <a:pt x="804" y="72"/>
                  </a:lnTo>
                  <a:lnTo>
                    <a:pt x="772" y="86"/>
                  </a:lnTo>
                  <a:lnTo>
                    <a:pt x="770" y="102"/>
                  </a:lnTo>
                  <a:lnTo>
                    <a:pt x="764" y="116"/>
                  </a:lnTo>
                  <a:lnTo>
                    <a:pt x="728" y="102"/>
                  </a:lnTo>
                  <a:lnTo>
                    <a:pt x="704" y="86"/>
                  </a:lnTo>
                  <a:lnTo>
                    <a:pt x="682" y="80"/>
                  </a:lnTo>
                  <a:lnTo>
                    <a:pt x="674" y="82"/>
                  </a:lnTo>
                  <a:lnTo>
                    <a:pt x="664" y="98"/>
                  </a:lnTo>
                  <a:lnTo>
                    <a:pt x="650" y="104"/>
                  </a:lnTo>
                  <a:lnTo>
                    <a:pt x="642" y="120"/>
                  </a:lnTo>
                  <a:lnTo>
                    <a:pt x="634" y="130"/>
                  </a:lnTo>
                  <a:lnTo>
                    <a:pt x="618" y="124"/>
                  </a:lnTo>
                  <a:lnTo>
                    <a:pt x="600" y="90"/>
                  </a:lnTo>
                  <a:lnTo>
                    <a:pt x="592" y="84"/>
                  </a:lnTo>
                  <a:lnTo>
                    <a:pt x="578" y="86"/>
                  </a:lnTo>
                  <a:lnTo>
                    <a:pt x="564" y="104"/>
                  </a:lnTo>
                  <a:lnTo>
                    <a:pt x="552" y="112"/>
                  </a:lnTo>
                  <a:lnTo>
                    <a:pt x="540" y="116"/>
                  </a:lnTo>
                  <a:lnTo>
                    <a:pt x="528" y="108"/>
                  </a:lnTo>
                  <a:lnTo>
                    <a:pt x="516" y="94"/>
                  </a:lnTo>
                  <a:lnTo>
                    <a:pt x="518" y="82"/>
                  </a:lnTo>
                  <a:lnTo>
                    <a:pt x="530" y="68"/>
                  </a:lnTo>
                  <a:lnTo>
                    <a:pt x="530" y="60"/>
                  </a:lnTo>
                  <a:lnTo>
                    <a:pt x="536" y="4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6400" y="3672360"/>
              <a:ext cx="93600" cy="200520"/>
            </a:xfrm>
            <a:custGeom>
              <a:avLst/>
              <a:gdLst/>
              <a:ahLst/>
              <a:rect l="l" t="t" r="r" b="b"/>
              <a:pathLst>
                <a:path w="538" h="1178">
                  <a:moveTo>
                    <a:pt x="286" y="1178"/>
                  </a:moveTo>
                  <a:lnTo>
                    <a:pt x="318" y="1174"/>
                  </a:lnTo>
                  <a:lnTo>
                    <a:pt x="346" y="1154"/>
                  </a:lnTo>
                  <a:lnTo>
                    <a:pt x="370" y="1130"/>
                  </a:lnTo>
                  <a:lnTo>
                    <a:pt x="384" y="1104"/>
                  </a:lnTo>
                  <a:lnTo>
                    <a:pt x="384" y="1078"/>
                  </a:lnTo>
                  <a:lnTo>
                    <a:pt x="368" y="1006"/>
                  </a:lnTo>
                  <a:lnTo>
                    <a:pt x="370" y="982"/>
                  </a:lnTo>
                  <a:lnTo>
                    <a:pt x="382" y="958"/>
                  </a:lnTo>
                  <a:lnTo>
                    <a:pt x="410" y="942"/>
                  </a:lnTo>
                  <a:lnTo>
                    <a:pt x="432" y="924"/>
                  </a:lnTo>
                  <a:lnTo>
                    <a:pt x="444" y="898"/>
                  </a:lnTo>
                  <a:lnTo>
                    <a:pt x="512" y="846"/>
                  </a:lnTo>
                  <a:lnTo>
                    <a:pt x="526" y="830"/>
                  </a:lnTo>
                  <a:lnTo>
                    <a:pt x="538" y="804"/>
                  </a:lnTo>
                  <a:lnTo>
                    <a:pt x="530" y="712"/>
                  </a:lnTo>
                  <a:lnTo>
                    <a:pt x="532" y="700"/>
                  </a:lnTo>
                  <a:lnTo>
                    <a:pt x="518" y="692"/>
                  </a:lnTo>
                  <a:lnTo>
                    <a:pt x="510" y="696"/>
                  </a:lnTo>
                  <a:lnTo>
                    <a:pt x="494" y="696"/>
                  </a:lnTo>
                  <a:lnTo>
                    <a:pt x="484" y="684"/>
                  </a:lnTo>
                  <a:lnTo>
                    <a:pt x="484" y="674"/>
                  </a:lnTo>
                  <a:lnTo>
                    <a:pt x="464" y="628"/>
                  </a:lnTo>
                  <a:lnTo>
                    <a:pt x="452" y="628"/>
                  </a:lnTo>
                  <a:lnTo>
                    <a:pt x="432" y="642"/>
                  </a:lnTo>
                  <a:lnTo>
                    <a:pt x="420" y="630"/>
                  </a:lnTo>
                  <a:lnTo>
                    <a:pt x="414" y="614"/>
                  </a:lnTo>
                  <a:lnTo>
                    <a:pt x="400" y="620"/>
                  </a:lnTo>
                  <a:lnTo>
                    <a:pt x="384" y="620"/>
                  </a:lnTo>
                  <a:lnTo>
                    <a:pt x="370" y="614"/>
                  </a:lnTo>
                  <a:lnTo>
                    <a:pt x="342" y="594"/>
                  </a:lnTo>
                  <a:lnTo>
                    <a:pt x="334" y="566"/>
                  </a:lnTo>
                  <a:lnTo>
                    <a:pt x="332" y="538"/>
                  </a:lnTo>
                  <a:lnTo>
                    <a:pt x="362" y="544"/>
                  </a:lnTo>
                  <a:lnTo>
                    <a:pt x="362" y="524"/>
                  </a:lnTo>
                  <a:lnTo>
                    <a:pt x="366" y="504"/>
                  </a:lnTo>
                  <a:lnTo>
                    <a:pt x="386" y="498"/>
                  </a:lnTo>
                  <a:lnTo>
                    <a:pt x="400" y="482"/>
                  </a:lnTo>
                  <a:lnTo>
                    <a:pt x="414" y="476"/>
                  </a:lnTo>
                  <a:lnTo>
                    <a:pt x="442" y="448"/>
                  </a:lnTo>
                  <a:lnTo>
                    <a:pt x="460" y="428"/>
                  </a:lnTo>
                  <a:lnTo>
                    <a:pt x="472" y="400"/>
                  </a:lnTo>
                  <a:lnTo>
                    <a:pt x="492" y="346"/>
                  </a:lnTo>
                  <a:lnTo>
                    <a:pt x="484" y="324"/>
                  </a:lnTo>
                  <a:lnTo>
                    <a:pt x="476" y="286"/>
                  </a:lnTo>
                  <a:lnTo>
                    <a:pt x="458" y="272"/>
                  </a:lnTo>
                  <a:lnTo>
                    <a:pt x="450" y="254"/>
                  </a:lnTo>
                  <a:lnTo>
                    <a:pt x="424" y="250"/>
                  </a:lnTo>
                  <a:lnTo>
                    <a:pt x="412" y="230"/>
                  </a:lnTo>
                  <a:lnTo>
                    <a:pt x="402" y="194"/>
                  </a:lnTo>
                  <a:lnTo>
                    <a:pt x="408" y="160"/>
                  </a:lnTo>
                  <a:lnTo>
                    <a:pt x="426" y="142"/>
                  </a:lnTo>
                  <a:lnTo>
                    <a:pt x="454" y="130"/>
                  </a:lnTo>
                  <a:lnTo>
                    <a:pt x="480" y="74"/>
                  </a:lnTo>
                  <a:lnTo>
                    <a:pt x="464" y="44"/>
                  </a:lnTo>
                  <a:lnTo>
                    <a:pt x="448" y="44"/>
                  </a:lnTo>
                  <a:lnTo>
                    <a:pt x="436" y="64"/>
                  </a:lnTo>
                  <a:lnTo>
                    <a:pt x="422" y="78"/>
                  </a:lnTo>
                  <a:lnTo>
                    <a:pt x="404" y="82"/>
                  </a:lnTo>
                  <a:lnTo>
                    <a:pt x="394" y="94"/>
                  </a:lnTo>
                  <a:lnTo>
                    <a:pt x="370" y="82"/>
                  </a:lnTo>
                  <a:lnTo>
                    <a:pt x="372" y="56"/>
                  </a:lnTo>
                  <a:lnTo>
                    <a:pt x="358" y="34"/>
                  </a:lnTo>
                  <a:lnTo>
                    <a:pt x="352" y="22"/>
                  </a:lnTo>
                  <a:lnTo>
                    <a:pt x="356" y="14"/>
                  </a:lnTo>
                  <a:lnTo>
                    <a:pt x="312" y="0"/>
                  </a:lnTo>
                  <a:lnTo>
                    <a:pt x="288" y="0"/>
                  </a:lnTo>
                  <a:lnTo>
                    <a:pt x="256" y="4"/>
                  </a:lnTo>
                  <a:lnTo>
                    <a:pt x="230" y="14"/>
                  </a:lnTo>
                  <a:lnTo>
                    <a:pt x="200" y="30"/>
                  </a:lnTo>
                  <a:lnTo>
                    <a:pt x="180" y="46"/>
                  </a:lnTo>
                  <a:lnTo>
                    <a:pt x="174" y="56"/>
                  </a:lnTo>
                  <a:lnTo>
                    <a:pt x="164" y="60"/>
                  </a:lnTo>
                  <a:lnTo>
                    <a:pt x="160" y="76"/>
                  </a:lnTo>
                  <a:lnTo>
                    <a:pt x="148" y="82"/>
                  </a:lnTo>
                  <a:lnTo>
                    <a:pt x="134" y="100"/>
                  </a:lnTo>
                  <a:lnTo>
                    <a:pt x="112" y="120"/>
                  </a:lnTo>
                  <a:lnTo>
                    <a:pt x="106" y="132"/>
                  </a:lnTo>
                  <a:lnTo>
                    <a:pt x="124" y="138"/>
                  </a:lnTo>
                  <a:lnTo>
                    <a:pt x="126" y="148"/>
                  </a:lnTo>
                  <a:lnTo>
                    <a:pt x="116" y="226"/>
                  </a:lnTo>
                  <a:lnTo>
                    <a:pt x="116" y="250"/>
                  </a:lnTo>
                  <a:lnTo>
                    <a:pt x="122" y="274"/>
                  </a:lnTo>
                  <a:lnTo>
                    <a:pt x="126" y="330"/>
                  </a:lnTo>
                  <a:lnTo>
                    <a:pt x="136" y="348"/>
                  </a:lnTo>
                  <a:lnTo>
                    <a:pt x="136" y="362"/>
                  </a:lnTo>
                  <a:lnTo>
                    <a:pt x="124" y="426"/>
                  </a:lnTo>
                  <a:lnTo>
                    <a:pt x="116" y="458"/>
                  </a:lnTo>
                  <a:lnTo>
                    <a:pt x="68" y="490"/>
                  </a:lnTo>
                  <a:lnTo>
                    <a:pt x="62" y="518"/>
                  </a:lnTo>
                  <a:lnTo>
                    <a:pt x="42" y="530"/>
                  </a:lnTo>
                  <a:lnTo>
                    <a:pt x="30" y="542"/>
                  </a:lnTo>
                  <a:lnTo>
                    <a:pt x="28" y="550"/>
                  </a:lnTo>
                  <a:lnTo>
                    <a:pt x="4" y="568"/>
                  </a:lnTo>
                  <a:lnTo>
                    <a:pt x="0" y="568"/>
                  </a:lnTo>
                  <a:lnTo>
                    <a:pt x="4" y="586"/>
                  </a:lnTo>
                  <a:lnTo>
                    <a:pt x="18" y="614"/>
                  </a:lnTo>
                  <a:lnTo>
                    <a:pt x="34" y="682"/>
                  </a:lnTo>
                  <a:lnTo>
                    <a:pt x="82" y="700"/>
                  </a:lnTo>
                  <a:lnTo>
                    <a:pt x="94" y="716"/>
                  </a:lnTo>
                  <a:lnTo>
                    <a:pt x="116" y="768"/>
                  </a:lnTo>
                  <a:lnTo>
                    <a:pt x="116" y="816"/>
                  </a:lnTo>
                  <a:lnTo>
                    <a:pt x="164" y="848"/>
                  </a:lnTo>
                  <a:lnTo>
                    <a:pt x="222" y="880"/>
                  </a:lnTo>
                  <a:lnTo>
                    <a:pt x="230" y="880"/>
                  </a:lnTo>
                  <a:lnTo>
                    <a:pt x="232" y="882"/>
                  </a:lnTo>
                  <a:lnTo>
                    <a:pt x="268" y="1070"/>
                  </a:lnTo>
                  <a:lnTo>
                    <a:pt x="282" y="1168"/>
                  </a:lnTo>
                  <a:lnTo>
                    <a:pt x="286" y="117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24560" y="4870080"/>
              <a:ext cx="24480" cy="41040"/>
            </a:xfrm>
            <a:custGeom>
              <a:avLst/>
              <a:gdLst/>
              <a:ahLst/>
              <a:rect l="l" t="t" r="r" b="b"/>
              <a:pathLst>
                <a:path w="144" h="242">
                  <a:moveTo>
                    <a:pt x="144" y="46"/>
                  </a:moveTo>
                  <a:lnTo>
                    <a:pt x="132" y="12"/>
                  </a:lnTo>
                  <a:lnTo>
                    <a:pt x="108" y="0"/>
                  </a:lnTo>
                  <a:lnTo>
                    <a:pt x="80" y="18"/>
                  </a:lnTo>
                  <a:lnTo>
                    <a:pt x="62" y="62"/>
                  </a:lnTo>
                  <a:lnTo>
                    <a:pt x="36" y="80"/>
                  </a:lnTo>
                  <a:lnTo>
                    <a:pt x="0" y="110"/>
                  </a:lnTo>
                  <a:lnTo>
                    <a:pt x="14" y="128"/>
                  </a:lnTo>
                  <a:lnTo>
                    <a:pt x="20" y="170"/>
                  </a:lnTo>
                  <a:lnTo>
                    <a:pt x="18" y="200"/>
                  </a:lnTo>
                  <a:lnTo>
                    <a:pt x="22" y="222"/>
                  </a:lnTo>
                  <a:lnTo>
                    <a:pt x="42" y="242"/>
                  </a:lnTo>
                  <a:lnTo>
                    <a:pt x="68" y="228"/>
                  </a:lnTo>
                  <a:lnTo>
                    <a:pt x="70" y="192"/>
                  </a:lnTo>
                  <a:lnTo>
                    <a:pt x="76" y="144"/>
                  </a:lnTo>
                  <a:lnTo>
                    <a:pt x="88" y="98"/>
                  </a:lnTo>
                  <a:lnTo>
                    <a:pt x="112" y="70"/>
                  </a:lnTo>
                  <a:lnTo>
                    <a:pt x="134" y="50"/>
                  </a:lnTo>
                  <a:lnTo>
                    <a:pt x="144" y="4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680" bIns="-46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85760" y="4425120"/>
              <a:ext cx="325800" cy="235800"/>
            </a:xfrm>
            <a:custGeom>
              <a:avLst/>
              <a:gdLst/>
              <a:ahLst/>
              <a:rect l="l" t="t" r="r" b="b"/>
              <a:pathLst>
                <a:path w="1876" h="1386">
                  <a:moveTo>
                    <a:pt x="1166" y="0"/>
                  </a:moveTo>
                  <a:lnTo>
                    <a:pt x="1136" y="6"/>
                  </a:lnTo>
                  <a:lnTo>
                    <a:pt x="1114" y="16"/>
                  </a:lnTo>
                  <a:lnTo>
                    <a:pt x="1076" y="20"/>
                  </a:lnTo>
                  <a:lnTo>
                    <a:pt x="1058" y="28"/>
                  </a:lnTo>
                  <a:lnTo>
                    <a:pt x="1044" y="46"/>
                  </a:lnTo>
                  <a:lnTo>
                    <a:pt x="1030" y="80"/>
                  </a:lnTo>
                  <a:lnTo>
                    <a:pt x="1032" y="128"/>
                  </a:lnTo>
                  <a:lnTo>
                    <a:pt x="1014" y="136"/>
                  </a:lnTo>
                  <a:lnTo>
                    <a:pt x="998" y="164"/>
                  </a:lnTo>
                  <a:lnTo>
                    <a:pt x="990" y="172"/>
                  </a:lnTo>
                  <a:lnTo>
                    <a:pt x="978" y="176"/>
                  </a:lnTo>
                  <a:lnTo>
                    <a:pt x="936" y="224"/>
                  </a:lnTo>
                  <a:lnTo>
                    <a:pt x="926" y="256"/>
                  </a:lnTo>
                  <a:lnTo>
                    <a:pt x="918" y="266"/>
                  </a:lnTo>
                  <a:lnTo>
                    <a:pt x="888" y="284"/>
                  </a:lnTo>
                  <a:lnTo>
                    <a:pt x="870" y="288"/>
                  </a:lnTo>
                  <a:lnTo>
                    <a:pt x="858" y="312"/>
                  </a:lnTo>
                  <a:lnTo>
                    <a:pt x="850" y="320"/>
                  </a:lnTo>
                  <a:lnTo>
                    <a:pt x="832" y="330"/>
                  </a:lnTo>
                  <a:lnTo>
                    <a:pt x="818" y="324"/>
                  </a:lnTo>
                  <a:lnTo>
                    <a:pt x="800" y="324"/>
                  </a:lnTo>
                  <a:lnTo>
                    <a:pt x="782" y="332"/>
                  </a:lnTo>
                  <a:lnTo>
                    <a:pt x="756" y="334"/>
                  </a:lnTo>
                  <a:lnTo>
                    <a:pt x="748" y="340"/>
                  </a:lnTo>
                  <a:lnTo>
                    <a:pt x="698" y="340"/>
                  </a:lnTo>
                  <a:lnTo>
                    <a:pt x="670" y="346"/>
                  </a:lnTo>
                  <a:lnTo>
                    <a:pt x="642" y="356"/>
                  </a:lnTo>
                  <a:lnTo>
                    <a:pt x="640" y="360"/>
                  </a:lnTo>
                  <a:lnTo>
                    <a:pt x="634" y="372"/>
                  </a:lnTo>
                  <a:lnTo>
                    <a:pt x="636" y="380"/>
                  </a:lnTo>
                  <a:lnTo>
                    <a:pt x="650" y="394"/>
                  </a:lnTo>
                  <a:lnTo>
                    <a:pt x="660" y="416"/>
                  </a:lnTo>
                  <a:lnTo>
                    <a:pt x="652" y="428"/>
                  </a:lnTo>
                  <a:lnTo>
                    <a:pt x="640" y="438"/>
                  </a:lnTo>
                  <a:lnTo>
                    <a:pt x="632" y="464"/>
                  </a:lnTo>
                  <a:lnTo>
                    <a:pt x="620" y="474"/>
                  </a:lnTo>
                  <a:lnTo>
                    <a:pt x="606" y="476"/>
                  </a:lnTo>
                  <a:lnTo>
                    <a:pt x="602" y="484"/>
                  </a:lnTo>
                  <a:lnTo>
                    <a:pt x="598" y="504"/>
                  </a:lnTo>
                  <a:lnTo>
                    <a:pt x="596" y="506"/>
                  </a:lnTo>
                  <a:lnTo>
                    <a:pt x="532" y="506"/>
                  </a:lnTo>
                  <a:lnTo>
                    <a:pt x="512" y="518"/>
                  </a:lnTo>
                  <a:lnTo>
                    <a:pt x="490" y="520"/>
                  </a:lnTo>
                  <a:lnTo>
                    <a:pt x="474" y="516"/>
                  </a:lnTo>
                  <a:lnTo>
                    <a:pt x="418" y="542"/>
                  </a:lnTo>
                  <a:lnTo>
                    <a:pt x="406" y="550"/>
                  </a:lnTo>
                  <a:lnTo>
                    <a:pt x="398" y="562"/>
                  </a:lnTo>
                  <a:lnTo>
                    <a:pt x="382" y="570"/>
                  </a:lnTo>
                  <a:lnTo>
                    <a:pt x="360" y="574"/>
                  </a:lnTo>
                  <a:lnTo>
                    <a:pt x="354" y="586"/>
                  </a:lnTo>
                  <a:lnTo>
                    <a:pt x="344" y="592"/>
                  </a:lnTo>
                  <a:lnTo>
                    <a:pt x="326" y="570"/>
                  </a:lnTo>
                  <a:lnTo>
                    <a:pt x="316" y="564"/>
                  </a:lnTo>
                  <a:lnTo>
                    <a:pt x="308" y="544"/>
                  </a:lnTo>
                  <a:lnTo>
                    <a:pt x="302" y="542"/>
                  </a:lnTo>
                  <a:lnTo>
                    <a:pt x="292" y="542"/>
                  </a:lnTo>
                  <a:lnTo>
                    <a:pt x="288" y="548"/>
                  </a:lnTo>
                  <a:lnTo>
                    <a:pt x="278" y="550"/>
                  </a:lnTo>
                  <a:lnTo>
                    <a:pt x="274" y="570"/>
                  </a:lnTo>
                  <a:lnTo>
                    <a:pt x="238" y="578"/>
                  </a:lnTo>
                  <a:lnTo>
                    <a:pt x="214" y="604"/>
                  </a:lnTo>
                  <a:lnTo>
                    <a:pt x="200" y="606"/>
                  </a:lnTo>
                  <a:lnTo>
                    <a:pt x="186" y="598"/>
                  </a:lnTo>
                  <a:lnTo>
                    <a:pt x="172" y="598"/>
                  </a:lnTo>
                  <a:lnTo>
                    <a:pt x="154" y="604"/>
                  </a:lnTo>
                  <a:lnTo>
                    <a:pt x="134" y="606"/>
                  </a:lnTo>
                  <a:lnTo>
                    <a:pt x="124" y="612"/>
                  </a:lnTo>
                  <a:lnTo>
                    <a:pt x="98" y="690"/>
                  </a:lnTo>
                  <a:lnTo>
                    <a:pt x="74" y="738"/>
                  </a:lnTo>
                  <a:lnTo>
                    <a:pt x="54" y="786"/>
                  </a:lnTo>
                  <a:lnTo>
                    <a:pt x="28" y="830"/>
                  </a:lnTo>
                  <a:lnTo>
                    <a:pt x="2" y="866"/>
                  </a:lnTo>
                  <a:lnTo>
                    <a:pt x="0" y="904"/>
                  </a:lnTo>
                  <a:lnTo>
                    <a:pt x="12" y="950"/>
                  </a:lnTo>
                  <a:lnTo>
                    <a:pt x="8" y="1002"/>
                  </a:lnTo>
                  <a:lnTo>
                    <a:pt x="12" y="1052"/>
                  </a:lnTo>
                  <a:lnTo>
                    <a:pt x="38" y="1108"/>
                  </a:lnTo>
                  <a:lnTo>
                    <a:pt x="62" y="1144"/>
                  </a:lnTo>
                  <a:lnTo>
                    <a:pt x="128" y="1284"/>
                  </a:lnTo>
                  <a:lnTo>
                    <a:pt x="156" y="1324"/>
                  </a:lnTo>
                  <a:lnTo>
                    <a:pt x="218" y="1386"/>
                  </a:lnTo>
                  <a:lnTo>
                    <a:pt x="236" y="1382"/>
                  </a:lnTo>
                  <a:lnTo>
                    <a:pt x="258" y="1342"/>
                  </a:lnTo>
                  <a:lnTo>
                    <a:pt x="302" y="1294"/>
                  </a:lnTo>
                  <a:lnTo>
                    <a:pt x="364" y="1248"/>
                  </a:lnTo>
                  <a:lnTo>
                    <a:pt x="414" y="1240"/>
                  </a:lnTo>
                  <a:lnTo>
                    <a:pt x="460" y="1268"/>
                  </a:lnTo>
                  <a:lnTo>
                    <a:pt x="502" y="1288"/>
                  </a:lnTo>
                  <a:lnTo>
                    <a:pt x="546" y="1276"/>
                  </a:lnTo>
                  <a:lnTo>
                    <a:pt x="584" y="1256"/>
                  </a:lnTo>
                  <a:lnTo>
                    <a:pt x="600" y="1240"/>
                  </a:lnTo>
                  <a:lnTo>
                    <a:pt x="634" y="1230"/>
                  </a:lnTo>
                  <a:lnTo>
                    <a:pt x="624" y="1208"/>
                  </a:lnTo>
                  <a:lnTo>
                    <a:pt x="628" y="1146"/>
                  </a:lnTo>
                  <a:lnTo>
                    <a:pt x="636" y="1102"/>
                  </a:lnTo>
                  <a:lnTo>
                    <a:pt x="656" y="1088"/>
                  </a:lnTo>
                  <a:lnTo>
                    <a:pt x="672" y="1042"/>
                  </a:lnTo>
                  <a:lnTo>
                    <a:pt x="688" y="1022"/>
                  </a:lnTo>
                  <a:lnTo>
                    <a:pt x="722" y="990"/>
                  </a:lnTo>
                  <a:lnTo>
                    <a:pt x="758" y="990"/>
                  </a:lnTo>
                  <a:lnTo>
                    <a:pt x="800" y="994"/>
                  </a:lnTo>
                  <a:lnTo>
                    <a:pt x="820" y="1022"/>
                  </a:lnTo>
                  <a:lnTo>
                    <a:pt x="828" y="1050"/>
                  </a:lnTo>
                  <a:lnTo>
                    <a:pt x="880" y="1108"/>
                  </a:lnTo>
                  <a:lnTo>
                    <a:pt x="900" y="1112"/>
                  </a:lnTo>
                  <a:lnTo>
                    <a:pt x="920" y="1088"/>
                  </a:lnTo>
                  <a:lnTo>
                    <a:pt x="956" y="1118"/>
                  </a:lnTo>
                  <a:lnTo>
                    <a:pt x="1016" y="1136"/>
                  </a:lnTo>
                  <a:lnTo>
                    <a:pt x="1148" y="1136"/>
                  </a:lnTo>
                  <a:lnTo>
                    <a:pt x="1168" y="1126"/>
                  </a:lnTo>
                  <a:lnTo>
                    <a:pt x="1172" y="1074"/>
                  </a:lnTo>
                  <a:lnTo>
                    <a:pt x="1208" y="1046"/>
                  </a:lnTo>
                  <a:lnTo>
                    <a:pt x="1256" y="1054"/>
                  </a:lnTo>
                  <a:lnTo>
                    <a:pt x="1280" y="1074"/>
                  </a:lnTo>
                  <a:lnTo>
                    <a:pt x="1328" y="1054"/>
                  </a:lnTo>
                  <a:lnTo>
                    <a:pt x="1356" y="1036"/>
                  </a:lnTo>
                  <a:lnTo>
                    <a:pt x="1424" y="1022"/>
                  </a:lnTo>
                  <a:lnTo>
                    <a:pt x="1452" y="1002"/>
                  </a:lnTo>
                  <a:lnTo>
                    <a:pt x="1466" y="1002"/>
                  </a:lnTo>
                  <a:lnTo>
                    <a:pt x="1472" y="1022"/>
                  </a:lnTo>
                  <a:lnTo>
                    <a:pt x="1468" y="1022"/>
                  </a:lnTo>
                  <a:lnTo>
                    <a:pt x="1488" y="1030"/>
                  </a:lnTo>
                  <a:lnTo>
                    <a:pt x="1508" y="1022"/>
                  </a:lnTo>
                  <a:lnTo>
                    <a:pt x="1540" y="1022"/>
                  </a:lnTo>
                  <a:lnTo>
                    <a:pt x="1546" y="984"/>
                  </a:lnTo>
                  <a:lnTo>
                    <a:pt x="1598" y="998"/>
                  </a:lnTo>
                  <a:lnTo>
                    <a:pt x="1660" y="988"/>
                  </a:lnTo>
                  <a:lnTo>
                    <a:pt x="1698" y="974"/>
                  </a:lnTo>
                  <a:lnTo>
                    <a:pt x="1736" y="1020"/>
                  </a:lnTo>
                  <a:lnTo>
                    <a:pt x="1752" y="998"/>
                  </a:lnTo>
                  <a:lnTo>
                    <a:pt x="1784" y="1020"/>
                  </a:lnTo>
                  <a:lnTo>
                    <a:pt x="1802" y="988"/>
                  </a:lnTo>
                  <a:lnTo>
                    <a:pt x="1876" y="988"/>
                  </a:lnTo>
                  <a:lnTo>
                    <a:pt x="1862" y="966"/>
                  </a:lnTo>
                  <a:lnTo>
                    <a:pt x="1856" y="932"/>
                  </a:lnTo>
                  <a:lnTo>
                    <a:pt x="1842" y="902"/>
                  </a:lnTo>
                  <a:lnTo>
                    <a:pt x="1764" y="842"/>
                  </a:lnTo>
                  <a:lnTo>
                    <a:pt x="1738" y="834"/>
                  </a:lnTo>
                  <a:lnTo>
                    <a:pt x="1734" y="800"/>
                  </a:lnTo>
                  <a:lnTo>
                    <a:pt x="1714" y="772"/>
                  </a:lnTo>
                  <a:lnTo>
                    <a:pt x="1704" y="738"/>
                  </a:lnTo>
                  <a:lnTo>
                    <a:pt x="1690" y="708"/>
                  </a:lnTo>
                  <a:lnTo>
                    <a:pt x="1662" y="688"/>
                  </a:lnTo>
                  <a:lnTo>
                    <a:pt x="1640" y="658"/>
                  </a:lnTo>
                  <a:lnTo>
                    <a:pt x="1590" y="622"/>
                  </a:lnTo>
                  <a:lnTo>
                    <a:pt x="1542" y="584"/>
                  </a:lnTo>
                  <a:lnTo>
                    <a:pt x="1526" y="550"/>
                  </a:lnTo>
                  <a:lnTo>
                    <a:pt x="1532" y="518"/>
                  </a:lnTo>
                  <a:lnTo>
                    <a:pt x="1526" y="506"/>
                  </a:lnTo>
                  <a:lnTo>
                    <a:pt x="1502" y="482"/>
                  </a:lnTo>
                  <a:lnTo>
                    <a:pt x="1478" y="464"/>
                  </a:lnTo>
                  <a:lnTo>
                    <a:pt x="1420" y="464"/>
                  </a:lnTo>
                  <a:lnTo>
                    <a:pt x="1392" y="448"/>
                  </a:lnTo>
                  <a:lnTo>
                    <a:pt x="1376" y="402"/>
                  </a:lnTo>
                  <a:lnTo>
                    <a:pt x="1342" y="392"/>
                  </a:lnTo>
                  <a:lnTo>
                    <a:pt x="1312" y="390"/>
                  </a:lnTo>
                  <a:lnTo>
                    <a:pt x="1286" y="360"/>
                  </a:lnTo>
                  <a:lnTo>
                    <a:pt x="1280" y="318"/>
                  </a:lnTo>
                  <a:lnTo>
                    <a:pt x="1284" y="268"/>
                  </a:lnTo>
                  <a:lnTo>
                    <a:pt x="1296" y="216"/>
                  </a:lnTo>
                  <a:lnTo>
                    <a:pt x="1282" y="168"/>
                  </a:lnTo>
                  <a:lnTo>
                    <a:pt x="1240" y="102"/>
                  </a:lnTo>
                  <a:lnTo>
                    <a:pt x="1194" y="44"/>
                  </a:lnTo>
                  <a:lnTo>
                    <a:pt x="116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61480" y="4371480"/>
              <a:ext cx="35640" cy="55080"/>
            </a:xfrm>
            <a:custGeom>
              <a:avLst/>
              <a:gdLst/>
              <a:ahLst/>
              <a:rect l="l" t="t" r="r" b="b"/>
              <a:pathLst>
                <a:path w="212" h="322">
                  <a:moveTo>
                    <a:pt x="158" y="0"/>
                  </a:moveTo>
                  <a:lnTo>
                    <a:pt x="116" y="36"/>
                  </a:lnTo>
                  <a:lnTo>
                    <a:pt x="78" y="56"/>
                  </a:lnTo>
                  <a:lnTo>
                    <a:pt x="66" y="76"/>
                  </a:lnTo>
                  <a:lnTo>
                    <a:pt x="50" y="90"/>
                  </a:lnTo>
                  <a:lnTo>
                    <a:pt x="42" y="158"/>
                  </a:lnTo>
                  <a:lnTo>
                    <a:pt x="36" y="192"/>
                  </a:lnTo>
                  <a:lnTo>
                    <a:pt x="22" y="230"/>
                  </a:lnTo>
                  <a:lnTo>
                    <a:pt x="2" y="260"/>
                  </a:lnTo>
                  <a:lnTo>
                    <a:pt x="0" y="268"/>
                  </a:lnTo>
                  <a:lnTo>
                    <a:pt x="6" y="296"/>
                  </a:lnTo>
                  <a:lnTo>
                    <a:pt x="24" y="318"/>
                  </a:lnTo>
                  <a:lnTo>
                    <a:pt x="54" y="318"/>
                  </a:lnTo>
                  <a:lnTo>
                    <a:pt x="68" y="314"/>
                  </a:lnTo>
                  <a:lnTo>
                    <a:pt x="82" y="320"/>
                  </a:lnTo>
                  <a:lnTo>
                    <a:pt x="86" y="318"/>
                  </a:lnTo>
                  <a:lnTo>
                    <a:pt x="90" y="308"/>
                  </a:lnTo>
                  <a:lnTo>
                    <a:pt x="122" y="294"/>
                  </a:lnTo>
                  <a:lnTo>
                    <a:pt x="134" y="298"/>
                  </a:lnTo>
                  <a:lnTo>
                    <a:pt x="158" y="320"/>
                  </a:lnTo>
                  <a:lnTo>
                    <a:pt x="158" y="322"/>
                  </a:lnTo>
                  <a:lnTo>
                    <a:pt x="164" y="306"/>
                  </a:lnTo>
                  <a:lnTo>
                    <a:pt x="188" y="268"/>
                  </a:lnTo>
                  <a:lnTo>
                    <a:pt x="198" y="232"/>
                  </a:lnTo>
                  <a:lnTo>
                    <a:pt x="202" y="228"/>
                  </a:lnTo>
                  <a:lnTo>
                    <a:pt x="198" y="220"/>
                  </a:lnTo>
                  <a:lnTo>
                    <a:pt x="190" y="218"/>
                  </a:lnTo>
                  <a:lnTo>
                    <a:pt x="186" y="210"/>
                  </a:lnTo>
                  <a:lnTo>
                    <a:pt x="166" y="214"/>
                  </a:lnTo>
                  <a:lnTo>
                    <a:pt x="144" y="212"/>
                  </a:lnTo>
                  <a:lnTo>
                    <a:pt x="124" y="218"/>
                  </a:lnTo>
                  <a:lnTo>
                    <a:pt x="120" y="228"/>
                  </a:lnTo>
                  <a:lnTo>
                    <a:pt x="114" y="230"/>
                  </a:lnTo>
                  <a:lnTo>
                    <a:pt x="106" y="228"/>
                  </a:lnTo>
                  <a:lnTo>
                    <a:pt x="96" y="216"/>
                  </a:lnTo>
                  <a:lnTo>
                    <a:pt x="100" y="210"/>
                  </a:lnTo>
                  <a:lnTo>
                    <a:pt x="114" y="216"/>
                  </a:lnTo>
                  <a:lnTo>
                    <a:pt x="120" y="214"/>
                  </a:lnTo>
                  <a:lnTo>
                    <a:pt x="122" y="202"/>
                  </a:lnTo>
                  <a:lnTo>
                    <a:pt x="136" y="180"/>
                  </a:lnTo>
                  <a:lnTo>
                    <a:pt x="144" y="174"/>
                  </a:lnTo>
                  <a:lnTo>
                    <a:pt x="156" y="174"/>
                  </a:lnTo>
                  <a:lnTo>
                    <a:pt x="168" y="154"/>
                  </a:lnTo>
                  <a:lnTo>
                    <a:pt x="194" y="148"/>
                  </a:lnTo>
                  <a:lnTo>
                    <a:pt x="210" y="134"/>
                  </a:lnTo>
                  <a:lnTo>
                    <a:pt x="212" y="116"/>
                  </a:lnTo>
                  <a:lnTo>
                    <a:pt x="202" y="70"/>
                  </a:lnTo>
                  <a:lnTo>
                    <a:pt x="200" y="60"/>
                  </a:lnTo>
                  <a:lnTo>
                    <a:pt x="186" y="50"/>
                  </a:lnTo>
                  <a:lnTo>
                    <a:pt x="174" y="26"/>
                  </a:lnTo>
                  <a:lnTo>
                    <a:pt x="162" y="14"/>
                  </a:lnTo>
                  <a:lnTo>
                    <a:pt x="158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360" bIns="9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50800" y="4771440"/>
              <a:ext cx="46800" cy="50760"/>
            </a:xfrm>
            <a:custGeom>
              <a:avLst/>
              <a:gdLst/>
              <a:ahLst/>
              <a:rect l="l" t="t" r="r" b="b"/>
              <a:pathLst>
                <a:path w="272" h="296">
                  <a:moveTo>
                    <a:pt x="18" y="284"/>
                  </a:moveTo>
                  <a:lnTo>
                    <a:pt x="20" y="286"/>
                  </a:lnTo>
                  <a:lnTo>
                    <a:pt x="20" y="258"/>
                  </a:lnTo>
                  <a:lnTo>
                    <a:pt x="34" y="248"/>
                  </a:lnTo>
                  <a:lnTo>
                    <a:pt x="46" y="248"/>
                  </a:lnTo>
                  <a:lnTo>
                    <a:pt x="50" y="250"/>
                  </a:lnTo>
                  <a:lnTo>
                    <a:pt x="58" y="266"/>
                  </a:lnTo>
                  <a:lnTo>
                    <a:pt x="68" y="294"/>
                  </a:lnTo>
                  <a:lnTo>
                    <a:pt x="74" y="296"/>
                  </a:lnTo>
                  <a:lnTo>
                    <a:pt x="90" y="294"/>
                  </a:lnTo>
                  <a:lnTo>
                    <a:pt x="104" y="286"/>
                  </a:lnTo>
                  <a:lnTo>
                    <a:pt x="124" y="284"/>
                  </a:lnTo>
                  <a:lnTo>
                    <a:pt x="134" y="272"/>
                  </a:lnTo>
                  <a:lnTo>
                    <a:pt x="136" y="246"/>
                  </a:lnTo>
                  <a:lnTo>
                    <a:pt x="138" y="236"/>
                  </a:lnTo>
                  <a:lnTo>
                    <a:pt x="144" y="228"/>
                  </a:lnTo>
                  <a:lnTo>
                    <a:pt x="170" y="230"/>
                  </a:lnTo>
                  <a:lnTo>
                    <a:pt x="204" y="218"/>
                  </a:lnTo>
                  <a:lnTo>
                    <a:pt x="216" y="218"/>
                  </a:lnTo>
                  <a:lnTo>
                    <a:pt x="216" y="220"/>
                  </a:lnTo>
                  <a:lnTo>
                    <a:pt x="228" y="224"/>
                  </a:lnTo>
                  <a:lnTo>
                    <a:pt x="236" y="232"/>
                  </a:lnTo>
                  <a:lnTo>
                    <a:pt x="262" y="186"/>
                  </a:lnTo>
                  <a:lnTo>
                    <a:pt x="272" y="158"/>
                  </a:lnTo>
                  <a:lnTo>
                    <a:pt x="268" y="134"/>
                  </a:lnTo>
                  <a:lnTo>
                    <a:pt x="254" y="86"/>
                  </a:lnTo>
                  <a:lnTo>
                    <a:pt x="224" y="22"/>
                  </a:lnTo>
                  <a:lnTo>
                    <a:pt x="210" y="0"/>
                  </a:lnTo>
                  <a:lnTo>
                    <a:pt x="198" y="10"/>
                  </a:lnTo>
                  <a:lnTo>
                    <a:pt x="178" y="16"/>
                  </a:lnTo>
                  <a:lnTo>
                    <a:pt x="168" y="28"/>
                  </a:lnTo>
                  <a:lnTo>
                    <a:pt x="152" y="60"/>
                  </a:lnTo>
                  <a:lnTo>
                    <a:pt x="130" y="64"/>
                  </a:lnTo>
                  <a:lnTo>
                    <a:pt x="114" y="58"/>
                  </a:lnTo>
                  <a:lnTo>
                    <a:pt x="102" y="48"/>
                  </a:lnTo>
                  <a:lnTo>
                    <a:pt x="94" y="54"/>
                  </a:lnTo>
                  <a:lnTo>
                    <a:pt x="76" y="74"/>
                  </a:lnTo>
                  <a:lnTo>
                    <a:pt x="56" y="110"/>
                  </a:lnTo>
                  <a:lnTo>
                    <a:pt x="38" y="154"/>
                  </a:lnTo>
                  <a:lnTo>
                    <a:pt x="28" y="186"/>
                  </a:lnTo>
                  <a:lnTo>
                    <a:pt x="2" y="230"/>
                  </a:lnTo>
                  <a:lnTo>
                    <a:pt x="0" y="254"/>
                  </a:lnTo>
                  <a:lnTo>
                    <a:pt x="2" y="262"/>
                  </a:lnTo>
                  <a:lnTo>
                    <a:pt x="18" y="28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5040" bIns="5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61600" y="5483520"/>
              <a:ext cx="29520" cy="42480"/>
            </a:xfrm>
            <a:custGeom>
              <a:avLst/>
              <a:gdLst/>
              <a:ahLst/>
              <a:rect l="l" t="t" r="r" b="b"/>
              <a:pathLst>
                <a:path w="172" h="252">
                  <a:moveTo>
                    <a:pt x="166" y="178"/>
                  </a:moveTo>
                  <a:lnTo>
                    <a:pt x="168" y="98"/>
                  </a:lnTo>
                  <a:lnTo>
                    <a:pt x="172" y="42"/>
                  </a:lnTo>
                  <a:lnTo>
                    <a:pt x="170" y="18"/>
                  </a:lnTo>
                  <a:lnTo>
                    <a:pt x="150" y="44"/>
                  </a:lnTo>
                  <a:lnTo>
                    <a:pt x="96" y="0"/>
                  </a:lnTo>
                  <a:lnTo>
                    <a:pt x="60" y="26"/>
                  </a:lnTo>
                  <a:lnTo>
                    <a:pt x="38" y="58"/>
                  </a:lnTo>
                  <a:lnTo>
                    <a:pt x="16" y="108"/>
                  </a:lnTo>
                  <a:lnTo>
                    <a:pt x="0" y="152"/>
                  </a:lnTo>
                  <a:lnTo>
                    <a:pt x="4" y="184"/>
                  </a:lnTo>
                  <a:lnTo>
                    <a:pt x="20" y="238"/>
                  </a:lnTo>
                  <a:lnTo>
                    <a:pt x="78" y="248"/>
                  </a:lnTo>
                  <a:lnTo>
                    <a:pt x="110" y="252"/>
                  </a:lnTo>
                  <a:lnTo>
                    <a:pt x="130" y="228"/>
                  </a:lnTo>
                  <a:lnTo>
                    <a:pt x="148" y="186"/>
                  </a:lnTo>
                  <a:lnTo>
                    <a:pt x="166" y="17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" bIns="-3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66560" y="5564520"/>
              <a:ext cx="54720" cy="59760"/>
            </a:xfrm>
            <a:custGeom>
              <a:avLst/>
              <a:gdLst/>
              <a:ahLst/>
              <a:rect l="l" t="t" r="r" b="b"/>
              <a:pathLst>
                <a:path w="324" h="352">
                  <a:moveTo>
                    <a:pt x="318" y="140"/>
                  </a:moveTo>
                  <a:lnTo>
                    <a:pt x="324" y="134"/>
                  </a:lnTo>
                  <a:lnTo>
                    <a:pt x="320" y="158"/>
                  </a:lnTo>
                  <a:lnTo>
                    <a:pt x="250" y="266"/>
                  </a:lnTo>
                  <a:lnTo>
                    <a:pt x="176" y="296"/>
                  </a:lnTo>
                  <a:lnTo>
                    <a:pt x="148" y="336"/>
                  </a:lnTo>
                  <a:lnTo>
                    <a:pt x="124" y="346"/>
                  </a:lnTo>
                  <a:lnTo>
                    <a:pt x="94" y="352"/>
                  </a:lnTo>
                  <a:lnTo>
                    <a:pt x="48" y="304"/>
                  </a:lnTo>
                  <a:lnTo>
                    <a:pt x="24" y="268"/>
                  </a:lnTo>
                  <a:lnTo>
                    <a:pt x="10" y="236"/>
                  </a:lnTo>
                  <a:lnTo>
                    <a:pt x="0" y="196"/>
                  </a:lnTo>
                  <a:lnTo>
                    <a:pt x="12" y="164"/>
                  </a:lnTo>
                  <a:lnTo>
                    <a:pt x="80" y="74"/>
                  </a:lnTo>
                  <a:lnTo>
                    <a:pt x="116" y="44"/>
                  </a:lnTo>
                  <a:lnTo>
                    <a:pt x="188" y="6"/>
                  </a:lnTo>
                  <a:lnTo>
                    <a:pt x="226" y="0"/>
                  </a:lnTo>
                  <a:lnTo>
                    <a:pt x="254" y="18"/>
                  </a:lnTo>
                  <a:lnTo>
                    <a:pt x="276" y="50"/>
                  </a:lnTo>
                  <a:lnTo>
                    <a:pt x="292" y="82"/>
                  </a:lnTo>
                  <a:lnTo>
                    <a:pt x="312" y="114"/>
                  </a:lnTo>
                  <a:lnTo>
                    <a:pt x="318" y="14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92720" y="3543480"/>
              <a:ext cx="82800" cy="69120"/>
            </a:xfrm>
            <a:custGeom>
              <a:avLst/>
              <a:gdLst/>
              <a:ahLst/>
              <a:rect l="l" t="t" r="r" b="b"/>
              <a:pathLst>
                <a:path w="472" h="410">
                  <a:moveTo>
                    <a:pt x="228" y="280"/>
                  </a:moveTo>
                  <a:lnTo>
                    <a:pt x="200" y="252"/>
                  </a:lnTo>
                  <a:lnTo>
                    <a:pt x="188" y="242"/>
                  </a:lnTo>
                  <a:lnTo>
                    <a:pt x="170" y="234"/>
                  </a:lnTo>
                  <a:lnTo>
                    <a:pt x="142" y="210"/>
                  </a:lnTo>
                  <a:lnTo>
                    <a:pt x="118" y="198"/>
                  </a:lnTo>
                  <a:lnTo>
                    <a:pt x="90" y="188"/>
                  </a:lnTo>
                  <a:lnTo>
                    <a:pt x="68" y="164"/>
                  </a:lnTo>
                  <a:lnTo>
                    <a:pt x="54" y="132"/>
                  </a:lnTo>
                  <a:lnTo>
                    <a:pt x="42" y="84"/>
                  </a:lnTo>
                  <a:lnTo>
                    <a:pt x="18" y="52"/>
                  </a:lnTo>
                  <a:lnTo>
                    <a:pt x="0" y="40"/>
                  </a:lnTo>
                  <a:lnTo>
                    <a:pt x="48" y="36"/>
                  </a:lnTo>
                  <a:lnTo>
                    <a:pt x="60" y="24"/>
                  </a:lnTo>
                  <a:lnTo>
                    <a:pt x="98" y="20"/>
                  </a:lnTo>
                  <a:lnTo>
                    <a:pt x="112" y="10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02" y="18"/>
                  </a:lnTo>
                  <a:lnTo>
                    <a:pt x="232" y="46"/>
                  </a:lnTo>
                  <a:lnTo>
                    <a:pt x="250" y="48"/>
                  </a:lnTo>
                  <a:lnTo>
                    <a:pt x="268" y="58"/>
                  </a:lnTo>
                  <a:lnTo>
                    <a:pt x="276" y="76"/>
                  </a:lnTo>
                  <a:lnTo>
                    <a:pt x="268" y="92"/>
                  </a:lnTo>
                  <a:lnTo>
                    <a:pt x="270" y="110"/>
                  </a:lnTo>
                  <a:lnTo>
                    <a:pt x="280" y="128"/>
                  </a:lnTo>
                  <a:lnTo>
                    <a:pt x="294" y="144"/>
                  </a:lnTo>
                  <a:lnTo>
                    <a:pt x="310" y="156"/>
                  </a:lnTo>
                  <a:lnTo>
                    <a:pt x="348" y="176"/>
                  </a:lnTo>
                  <a:lnTo>
                    <a:pt x="354" y="194"/>
                  </a:lnTo>
                  <a:lnTo>
                    <a:pt x="350" y="214"/>
                  </a:lnTo>
                  <a:lnTo>
                    <a:pt x="332" y="216"/>
                  </a:lnTo>
                  <a:lnTo>
                    <a:pt x="338" y="234"/>
                  </a:lnTo>
                  <a:lnTo>
                    <a:pt x="370" y="264"/>
                  </a:lnTo>
                  <a:lnTo>
                    <a:pt x="406" y="284"/>
                  </a:lnTo>
                  <a:lnTo>
                    <a:pt x="424" y="280"/>
                  </a:lnTo>
                  <a:lnTo>
                    <a:pt x="444" y="286"/>
                  </a:lnTo>
                  <a:lnTo>
                    <a:pt x="438" y="304"/>
                  </a:lnTo>
                  <a:lnTo>
                    <a:pt x="438" y="322"/>
                  </a:lnTo>
                  <a:lnTo>
                    <a:pt x="456" y="334"/>
                  </a:lnTo>
                  <a:lnTo>
                    <a:pt x="458" y="354"/>
                  </a:lnTo>
                  <a:lnTo>
                    <a:pt x="440" y="360"/>
                  </a:lnTo>
                  <a:lnTo>
                    <a:pt x="454" y="374"/>
                  </a:lnTo>
                  <a:lnTo>
                    <a:pt x="466" y="392"/>
                  </a:lnTo>
                  <a:lnTo>
                    <a:pt x="472" y="408"/>
                  </a:lnTo>
                  <a:lnTo>
                    <a:pt x="460" y="410"/>
                  </a:lnTo>
                  <a:lnTo>
                    <a:pt x="420" y="410"/>
                  </a:lnTo>
                  <a:lnTo>
                    <a:pt x="406" y="410"/>
                  </a:lnTo>
                  <a:lnTo>
                    <a:pt x="390" y="352"/>
                  </a:lnTo>
                  <a:lnTo>
                    <a:pt x="380" y="334"/>
                  </a:lnTo>
                  <a:lnTo>
                    <a:pt x="366" y="316"/>
                  </a:lnTo>
                  <a:lnTo>
                    <a:pt x="354" y="300"/>
                  </a:lnTo>
                  <a:lnTo>
                    <a:pt x="334" y="292"/>
                  </a:lnTo>
                  <a:lnTo>
                    <a:pt x="320" y="302"/>
                  </a:lnTo>
                  <a:lnTo>
                    <a:pt x="300" y="300"/>
                  </a:lnTo>
                  <a:lnTo>
                    <a:pt x="282" y="292"/>
                  </a:lnTo>
                  <a:lnTo>
                    <a:pt x="268" y="276"/>
                  </a:lnTo>
                  <a:lnTo>
                    <a:pt x="248" y="270"/>
                  </a:lnTo>
                  <a:lnTo>
                    <a:pt x="228" y="28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3400" bIns="23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01840" y="3566160"/>
              <a:ext cx="5760" cy="14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16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2" y="20"/>
                  </a:lnTo>
                  <a:lnTo>
                    <a:pt x="30" y="18"/>
                  </a:lnTo>
                  <a:lnTo>
                    <a:pt x="34" y="1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17160" y="3962160"/>
              <a:ext cx="293400" cy="355680"/>
            </a:xfrm>
            <a:custGeom>
              <a:avLst/>
              <a:gdLst/>
              <a:ahLst/>
              <a:rect l="l" t="t" r="r" b="b"/>
              <a:pathLst>
                <a:path w="1690" h="2084">
                  <a:moveTo>
                    <a:pt x="504" y="966"/>
                  </a:moveTo>
                  <a:lnTo>
                    <a:pt x="382" y="966"/>
                  </a:lnTo>
                  <a:lnTo>
                    <a:pt x="246" y="966"/>
                  </a:lnTo>
                  <a:lnTo>
                    <a:pt x="118" y="964"/>
                  </a:lnTo>
                  <a:lnTo>
                    <a:pt x="44" y="964"/>
                  </a:lnTo>
                  <a:lnTo>
                    <a:pt x="40" y="984"/>
                  </a:lnTo>
                  <a:lnTo>
                    <a:pt x="16" y="1004"/>
                  </a:lnTo>
                  <a:lnTo>
                    <a:pt x="6" y="1018"/>
                  </a:lnTo>
                  <a:lnTo>
                    <a:pt x="12" y="1016"/>
                  </a:lnTo>
                  <a:lnTo>
                    <a:pt x="0" y="1028"/>
                  </a:lnTo>
                  <a:lnTo>
                    <a:pt x="2" y="1036"/>
                  </a:lnTo>
                  <a:lnTo>
                    <a:pt x="2" y="1028"/>
                  </a:lnTo>
                  <a:lnTo>
                    <a:pt x="28" y="1020"/>
                  </a:lnTo>
                  <a:lnTo>
                    <a:pt x="34" y="1030"/>
                  </a:lnTo>
                  <a:lnTo>
                    <a:pt x="54" y="1094"/>
                  </a:lnTo>
                  <a:lnTo>
                    <a:pt x="58" y="1100"/>
                  </a:lnTo>
                  <a:lnTo>
                    <a:pt x="76" y="1094"/>
                  </a:lnTo>
                  <a:lnTo>
                    <a:pt x="100" y="1148"/>
                  </a:lnTo>
                  <a:lnTo>
                    <a:pt x="104" y="1162"/>
                  </a:lnTo>
                  <a:lnTo>
                    <a:pt x="102" y="1206"/>
                  </a:lnTo>
                  <a:lnTo>
                    <a:pt x="100" y="1230"/>
                  </a:lnTo>
                  <a:lnTo>
                    <a:pt x="82" y="1280"/>
                  </a:lnTo>
                  <a:lnTo>
                    <a:pt x="76" y="1288"/>
                  </a:lnTo>
                  <a:lnTo>
                    <a:pt x="64" y="1292"/>
                  </a:lnTo>
                  <a:lnTo>
                    <a:pt x="60" y="1304"/>
                  </a:lnTo>
                  <a:lnTo>
                    <a:pt x="104" y="1376"/>
                  </a:lnTo>
                  <a:lnTo>
                    <a:pt x="114" y="1416"/>
                  </a:lnTo>
                  <a:lnTo>
                    <a:pt x="116" y="1454"/>
                  </a:lnTo>
                  <a:lnTo>
                    <a:pt x="116" y="1490"/>
                  </a:lnTo>
                  <a:lnTo>
                    <a:pt x="112" y="1594"/>
                  </a:lnTo>
                  <a:lnTo>
                    <a:pt x="100" y="1638"/>
                  </a:lnTo>
                  <a:lnTo>
                    <a:pt x="58" y="1748"/>
                  </a:lnTo>
                  <a:lnTo>
                    <a:pt x="54" y="1772"/>
                  </a:lnTo>
                  <a:lnTo>
                    <a:pt x="38" y="1820"/>
                  </a:lnTo>
                  <a:lnTo>
                    <a:pt x="34" y="1856"/>
                  </a:lnTo>
                  <a:lnTo>
                    <a:pt x="38" y="1854"/>
                  </a:lnTo>
                  <a:lnTo>
                    <a:pt x="46" y="1844"/>
                  </a:lnTo>
                  <a:lnTo>
                    <a:pt x="58" y="1822"/>
                  </a:lnTo>
                  <a:lnTo>
                    <a:pt x="70" y="1784"/>
                  </a:lnTo>
                  <a:lnTo>
                    <a:pt x="80" y="1784"/>
                  </a:lnTo>
                  <a:lnTo>
                    <a:pt x="86" y="1780"/>
                  </a:lnTo>
                  <a:lnTo>
                    <a:pt x="106" y="1782"/>
                  </a:lnTo>
                  <a:lnTo>
                    <a:pt x="128" y="1782"/>
                  </a:lnTo>
                  <a:lnTo>
                    <a:pt x="152" y="1790"/>
                  </a:lnTo>
                  <a:lnTo>
                    <a:pt x="172" y="1788"/>
                  </a:lnTo>
                  <a:lnTo>
                    <a:pt x="178" y="1782"/>
                  </a:lnTo>
                  <a:lnTo>
                    <a:pt x="206" y="1774"/>
                  </a:lnTo>
                  <a:lnTo>
                    <a:pt x="230" y="1776"/>
                  </a:lnTo>
                  <a:lnTo>
                    <a:pt x="234" y="1774"/>
                  </a:lnTo>
                  <a:lnTo>
                    <a:pt x="236" y="1762"/>
                  </a:lnTo>
                  <a:lnTo>
                    <a:pt x="238" y="1762"/>
                  </a:lnTo>
                  <a:lnTo>
                    <a:pt x="254" y="1762"/>
                  </a:lnTo>
                  <a:lnTo>
                    <a:pt x="266" y="1758"/>
                  </a:lnTo>
                  <a:lnTo>
                    <a:pt x="284" y="1764"/>
                  </a:lnTo>
                  <a:lnTo>
                    <a:pt x="322" y="1766"/>
                  </a:lnTo>
                  <a:lnTo>
                    <a:pt x="328" y="1768"/>
                  </a:lnTo>
                  <a:lnTo>
                    <a:pt x="340" y="1764"/>
                  </a:lnTo>
                  <a:lnTo>
                    <a:pt x="346" y="1780"/>
                  </a:lnTo>
                  <a:lnTo>
                    <a:pt x="362" y="1782"/>
                  </a:lnTo>
                  <a:lnTo>
                    <a:pt x="388" y="1810"/>
                  </a:lnTo>
                  <a:lnTo>
                    <a:pt x="394" y="1830"/>
                  </a:lnTo>
                  <a:lnTo>
                    <a:pt x="410" y="1848"/>
                  </a:lnTo>
                  <a:lnTo>
                    <a:pt x="422" y="1848"/>
                  </a:lnTo>
                  <a:lnTo>
                    <a:pt x="436" y="1840"/>
                  </a:lnTo>
                  <a:lnTo>
                    <a:pt x="436" y="1854"/>
                  </a:lnTo>
                  <a:lnTo>
                    <a:pt x="446" y="1856"/>
                  </a:lnTo>
                  <a:lnTo>
                    <a:pt x="458" y="1848"/>
                  </a:lnTo>
                  <a:lnTo>
                    <a:pt x="466" y="1848"/>
                  </a:lnTo>
                  <a:lnTo>
                    <a:pt x="490" y="1888"/>
                  </a:lnTo>
                  <a:lnTo>
                    <a:pt x="500" y="1920"/>
                  </a:lnTo>
                  <a:lnTo>
                    <a:pt x="500" y="1930"/>
                  </a:lnTo>
                  <a:lnTo>
                    <a:pt x="512" y="1936"/>
                  </a:lnTo>
                  <a:lnTo>
                    <a:pt x="518" y="1948"/>
                  </a:lnTo>
                  <a:lnTo>
                    <a:pt x="520" y="1958"/>
                  </a:lnTo>
                  <a:lnTo>
                    <a:pt x="526" y="1960"/>
                  </a:lnTo>
                  <a:lnTo>
                    <a:pt x="534" y="1954"/>
                  </a:lnTo>
                  <a:lnTo>
                    <a:pt x="538" y="1956"/>
                  </a:lnTo>
                  <a:lnTo>
                    <a:pt x="542" y="1978"/>
                  </a:lnTo>
                  <a:lnTo>
                    <a:pt x="550" y="1982"/>
                  </a:lnTo>
                  <a:lnTo>
                    <a:pt x="556" y="1992"/>
                  </a:lnTo>
                  <a:lnTo>
                    <a:pt x="546" y="1996"/>
                  </a:lnTo>
                  <a:lnTo>
                    <a:pt x="546" y="1998"/>
                  </a:lnTo>
                  <a:lnTo>
                    <a:pt x="560" y="2004"/>
                  </a:lnTo>
                  <a:lnTo>
                    <a:pt x="564" y="2014"/>
                  </a:lnTo>
                  <a:lnTo>
                    <a:pt x="574" y="2022"/>
                  </a:lnTo>
                  <a:lnTo>
                    <a:pt x="584" y="2022"/>
                  </a:lnTo>
                  <a:lnTo>
                    <a:pt x="600" y="2030"/>
                  </a:lnTo>
                  <a:lnTo>
                    <a:pt x="608" y="2038"/>
                  </a:lnTo>
                  <a:lnTo>
                    <a:pt x="610" y="2056"/>
                  </a:lnTo>
                  <a:lnTo>
                    <a:pt x="614" y="2060"/>
                  </a:lnTo>
                  <a:lnTo>
                    <a:pt x="630" y="2066"/>
                  </a:lnTo>
                  <a:lnTo>
                    <a:pt x="648" y="2084"/>
                  </a:lnTo>
                  <a:lnTo>
                    <a:pt x="706" y="2018"/>
                  </a:lnTo>
                  <a:lnTo>
                    <a:pt x="726" y="1966"/>
                  </a:lnTo>
                  <a:lnTo>
                    <a:pt x="738" y="1930"/>
                  </a:lnTo>
                  <a:lnTo>
                    <a:pt x="752" y="1898"/>
                  </a:lnTo>
                  <a:lnTo>
                    <a:pt x="758" y="1896"/>
                  </a:lnTo>
                  <a:lnTo>
                    <a:pt x="766" y="1896"/>
                  </a:lnTo>
                  <a:lnTo>
                    <a:pt x="768" y="1900"/>
                  </a:lnTo>
                  <a:lnTo>
                    <a:pt x="782" y="1904"/>
                  </a:lnTo>
                  <a:lnTo>
                    <a:pt x="792" y="1914"/>
                  </a:lnTo>
                  <a:lnTo>
                    <a:pt x="802" y="1952"/>
                  </a:lnTo>
                  <a:lnTo>
                    <a:pt x="826" y="2008"/>
                  </a:lnTo>
                  <a:lnTo>
                    <a:pt x="866" y="2018"/>
                  </a:lnTo>
                  <a:lnTo>
                    <a:pt x="872" y="2018"/>
                  </a:lnTo>
                  <a:lnTo>
                    <a:pt x="938" y="1954"/>
                  </a:lnTo>
                  <a:lnTo>
                    <a:pt x="1164" y="1960"/>
                  </a:lnTo>
                  <a:lnTo>
                    <a:pt x="1348" y="1966"/>
                  </a:lnTo>
                  <a:lnTo>
                    <a:pt x="1536" y="1970"/>
                  </a:lnTo>
                  <a:lnTo>
                    <a:pt x="1584" y="1968"/>
                  </a:lnTo>
                  <a:lnTo>
                    <a:pt x="1616" y="1830"/>
                  </a:lnTo>
                  <a:lnTo>
                    <a:pt x="1560" y="1808"/>
                  </a:lnTo>
                  <a:lnTo>
                    <a:pt x="1546" y="1640"/>
                  </a:lnTo>
                  <a:lnTo>
                    <a:pt x="1532" y="1482"/>
                  </a:lnTo>
                  <a:lnTo>
                    <a:pt x="1520" y="1322"/>
                  </a:lnTo>
                  <a:lnTo>
                    <a:pt x="1506" y="1164"/>
                  </a:lnTo>
                  <a:lnTo>
                    <a:pt x="1496" y="1004"/>
                  </a:lnTo>
                  <a:lnTo>
                    <a:pt x="1482" y="846"/>
                  </a:lnTo>
                  <a:lnTo>
                    <a:pt x="1470" y="688"/>
                  </a:lnTo>
                  <a:lnTo>
                    <a:pt x="1460" y="528"/>
                  </a:lnTo>
                  <a:lnTo>
                    <a:pt x="1448" y="366"/>
                  </a:lnTo>
                  <a:lnTo>
                    <a:pt x="1690" y="366"/>
                  </a:lnTo>
                  <a:lnTo>
                    <a:pt x="1690" y="366"/>
                  </a:lnTo>
                  <a:lnTo>
                    <a:pt x="1500" y="228"/>
                  </a:lnTo>
                  <a:lnTo>
                    <a:pt x="1354" y="120"/>
                  </a:lnTo>
                  <a:lnTo>
                    <a:pt x="1190" y="0"/>
                  </a:lnTo>
                  <a:lnTo>
                    <a:pt x="1186" y="190"/>
                  </a:lnTo>
                  <a:lnTo>
                    <a:pt x="1054" y="190"/>
                  </a:lnTo>
                  <a:lnTo>
                    <a:pt x="920" y="190"/>
                  </a:lnTo>
                  <a:lnTo>
                    <a:pt x="786" y="188"/>
                  </a:lnTo>
                  <a:lnTo>
                    <a:pt x="742" y="188"/>
                  </a:lnTo>
                  <a:lnTo>
                    <a:pt x="738" y="352"/>
                  </a:lnTo>
                  <a:lnTo>
                    <a:pt x="732" y="514"/>
                  </a:lnTo>
                  <a:lnTo>
                    <a:pt x="730" y="616"/>
                  </a:lnTo>
                  <a:lnTo>
                    <a:pt x="678" y="632"/>
                  </a:lnTo>
                  <a:lnTo>
                    <a:pt x="634" y="638"/>
                  </a:lnTo>
                  <a:lnTo>
                    <a:pt x="594" y="654"/>
                  </a:lnTo>
                  <a:lnTo>
                    <a:pt x="582" y="662"/>
                  </a:lnTo>
                  <a:lnTo>
                    <a:pt x="572" y="676"/>
                  </a:lnTo>
                  <a:lnTo>
                    <a:pt x="556" y="708"/>
                  </a:lnTo>
                  <a:lnTo>
                    <a:pt x="554" y="734"/>
                  </a:lnTo>
                  <a:lnTo>
                    <a:pt x="554" y="806"/>
                  </a:lnTo>
                  <a:lnTo>
                    <a:pt x="560" y="864"/>
                  </a:lnTo>
                  <a:lnTo>
                    <a:pt x="562" y="920"/>
                  </a:lnTo>
                  <a:lnTo>
                    <a:pt x="568" y="968"/>
                  </a:lnTo>
                  <a:lnTo>
                    <a:pt x="504" y="96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66480" y="4978800"/>
              <a:ext cx="293400" cy="283680"/>
            </a:xfrm>
            <a:custGeom>
              <a:avLst/>
              <a:gdLst/>
              <a:ahLst/>
              <a:rect l="l" t="t" r="r" b="b"/>
              <a:pathLst>
                <a:path w="1692" h="1662">
                  <a:moveTo>
                    <a:pt x="2" y="1406"/>
                  </a:moveTo>
                  <a:lnTo>
                    <a:pt x="6" y="1296"/>
                  </a:lnTo>
                  <a:lnTo>
                    <a:pt x="10" y="1132"/>
                  </a:lnTo>
                  <a:lnTo>
                    <a:pt x="16" y="970"/>
                  </a:lnTo>
                  <a:lnTo>
                    <a:pt x="20" y="806"/>
                  </a:lnTo>
                  <a:lnTo>
                    <a:pt x="176" y="806"/>
                  </a:lnTo>
                  <a:lnTo>
                    <a:pt x="328" y="808"/>
                  </a:lnTo>
                  <a:lnTo>
                    <a:pt x="306" y="798"/>
                  </a:lnTo>
                  <a:lnTo>
                    <a:pt x="296" y="788"/>
                  </a:lnTo>
                  <a:lnTo>
                    <a:pt x="292" y="776"/>
                  </a:lnTo>
                  <a:lnTo>
                    <a:pt x="296" y="728"/>
                  </a:lnTo>
                  <a:lnTo>
                    <a:pt x="304" y="704"/>
                  </a:lnTo>
                  <a:lnTo>
                    <a:pt x="306" y="662"/>
                  </a:lnTo>
                  <a:lnTo>
                    <a:pt x="304" y="618"/>
                  </a:lnTo>
                  <a:lnTo>
                    <a:pt x="312" y="580"/>
                  </a:lnTo>
                  <a:lnTo>
                    <a:pt x="316" y="542"/>
                  </a:lnTo>
                  <a:lnTo>
                    <a:pt x="320" y="524"/>
                  </a:lnTo>
                  <a:lnTo>
                    <a:pt x="322" y="510"/>
                  </a:lnTo>
                  <a:lnTo>
                    <a:pt x="318" y="482"/>
                  </a:lnTo>
                  <a:lnTo>
                    <a:pt x="320" y="470"/>
                  </a:lnTo>
                  <a:lnTo>
                    <a:pt x="326" y="468"/>
                  </a:lnTo>
                  <a:lnTo>
                    <a:pt x="324" y="456"/>
                  </a:lnTo>
                  <a:lnTo>
                    <a:pt x="316" y="448"/>
                  </a:lnTo>
                  <a:lnTo>
                    <a:pt x="340" y="438"/>
                  </a:lnTo>
                  <a:lnTo>
                    <a:pt x="352" y="436"/>
                  </a:lnTo>
                  <a:lnTo>
                    <a:pt x="358" y="440"/>
                  </a:lnTo>
                  <a:lnTo>
                    <a:pt x="372" y="470"/>
                  </a:lnTo>
                  <a:lnTo>
                    <a:pt x="370" y="510"/>
                  </a:lnTo>
                  <a:lnTo>
                    <a:pt x="374" y="524"/>
                  </a:lnTo>
                  <a:lnTo>
                    <a:pt x="384" y="526"/>
                  </a:lnTo>
                  <a:lnTo>
                    <a:pt x="418" y="508"/>
                  </a:lnTo>
                  <a:lnTo>
                    <a:pt x="432" y="502"/>
                  </a:lnTo>
                  <a:lnTo>
                    <a:pt x="450" y="502"/>
                  </a:lnTo>
                  <a:lnTo>
                    <a:pt x="478" y="490"/>
                  </a:lnTo>
                  <a:lnTo>
                    <a:pt x="494" y="514"/>
                  </a:lnTo>
                  <a:lnTo>
                    <a:pt x="502" y="542"/>
                  </a:lnTo>
                  <a:lnTo>
                    <a:pt x="512" y="558"/>
                  </a:lnTo>
                  <a:lnTo>
                    <a:pt x="548" y="578"/>
                  </a:lnTo>
                  <a:lnTo>
                    <a:pt x="580" y="600"/>
                  </a:lnTo>
                  <a:lnTo>
                    <a:pt x="624" y="622"/>
                  </a:lnTo>
                  <a:lnTo>
                    <a:pt x="656" y="624"/>
                  </a:lnTo>
                  <a:lnTo>
                    <a:pt x="676" y="620"/>
                  </a:lnTo>
                  <a:lnTo>
                    <a:pt x="710" y="602"/>
                  </a:lnTo>
                  <a:lnTo>
                    <a:pt x="734" y="598"/>
                  </a:lnTo>
                  <a:lnTo>
                    <a:pt x="748" y="600"/>
                  </a:lnTo>
                  <a:lnTo>
                    <a:pt x="796" y="656"/>
                  </a:lnTo>
                  <a:lnTo>
                    <a:pt x="830" y="674"/>
                  </a:lnTo>
                  <a:lnTo>
                    <a:pt x="860" y="688"/>
                  </a:lnTo>
                  <a:lnTo>
                    <a:pt x="888" y="690"/>
                  </a:lnTo>
                  <a:lnTo>
                    <a:pt x="906" y="710"/>
                  </a:lnTo>
                  <a:lnTo>
                    <a:pt x="918" y="746"/>
                  </a:lnTo>
                  <a:lnTo>
                    <a:pt x="926" y="766"/>
                  </a:lnTo>
                  <a:lnTo>
                    <a:pt x="960" y="802"/>
                  </a:lnTo>
                  <a:lnTo>
                    <a:pt x="996" y="828"/>
                  </a:lnTo>
                  <a:lnTo>
                    <a:pt x="1018" y="840"/>
                  </a:lnTo>
                  <a:lnTo>
                    <a:pt x="1044" y="844"/>
                  </a:lnTo>
                  <a:lnTo>
                    <a:pt x="1054" y="844"/>
                  </a:lnTo>
                  <a:lnTo>
                    <a:pt x="1070" y="834"/>
                  </a:lnTo>
                  <a:lnTo>
                    <a:pt x="1078" y="834"/>
                  </a:lnTo>
                  <a:lnTo>
                    <a:pt x="1082" y="834"/>
                  </a:lnTo>
                  <a:lnTo>
                    <a:pt x="1094" y="858"/>
                  </a:lnTo>
                  <a:lnTo>
                    <a:pt x="1104" y="862"/>
                  </a:lnTo>
                  <a:lnTo>
                    <a:pt x="1114" y="862"/>
                  </a:lnTo>
                  <a:lnTo>
                    <a:pt x="1120" y="856"/>
                  </a:lnTo>
                  <a:lnTo>
                    <a:pt x="1120" y="834"/>
                  </a:lnTo>
                  <a:lnTo>
                    <a:pt x="1118" y="812"/>
                  </a:lnTo>
                  <a:lnTo>
                    <a:pt x="1118" y="704"/>
                  </a:lnTo>
                  <a:lnTo>
                    <a:pt x="1114" y="682"/>
                  </a:lnTo>
                  <a:lnTo>
                    <a:pt x="1100" y="678"/>
                  </a:lnTo>
                  <a:lnTo>
                    <a:pt x="1076" y="692"/>
                  </a:lnTo>
                  <a:lnTo>
                    <a:pt x="1048" y="686"/>
                  </a:lnTo>
                  <a:lnTo>
                    <a:pt x="1014" y="684"/>
                  </a:lnTo>
                  <a:lnTo>
                    <a:pt x="998" y="670"/>
                  </a:lnTo>
                  <a:lnTo>
                    <a:pt x="974" y="630"/>
                  </a:lnTo>
                  <a:lnTo>
                    <a:pt x="958" y="612"/>
                  </a:lnTo>
                  <a:lnTo>
                    <a:pt x="954" y="604"/>
                  </a:lnTo>
                  <a:lnTo>
                    <a:pt x="954" y="576"/>
                  </a:lnTo>
                  <a:lnTo>
                    <a:pt x="958" y="554"/>
                  </a:lnTo>
                  <a:lnTo>
                    <a:pt x="968" y="518"/>
                  </a:lnTo>
                  <a:lnTo>
                    <a:pt x="1010" y="400"/>
                  </a:lnTo>
                  <a:lnTo>
                    <a:pt x="1012" y="380"/>
                  </a:lnTo>
                  <a:lnTo>
                    <a:pt x="1018" y="304"/>
                  </a:lnTo>
                  <a:lnTo>
                    <a:pt x="1014" y="260"/>
                  </a:lnTo>
                  <a:lnTo>
                    <a:pt x="996" y="200"/>
                  </a:lnTo>
                  <a:lnTo>
                    <a:pt x="996" y="172"/>
                  </a:lnTo>
                  <a:lnTo>
                    <a:pt x="1004" y="160"/>
                  </a:lnTo>
                  <a:lnTo>
                    <a:pt x="1010" y="134"/>
                  </a:lnTo>
                  <a:lnTo>
                    <a:pt x="1024" y="112"/>
                  </a:lnTo>
                  <a:lnTo>
                    <a:pt x="1044" y="70"/>
                  </a:lnTo>
                  <a:lnTo>
                    <a:pt x="1050" y="62"/>
                  </a:lnTo>
                  <a:lnTo>
                    <a:pt x="1064" y="52"/>
                  </a:lnTo>
                  <a:lnTo>
                    <a:pt x="1070" y="52"/>
                  </a:lnTo>
                  <a:lnTo>
                    <a:pt x="1098" y="40"/>
                  </a:lnTo>
                  <a:lnTo>
                    <a:pt x="1258" y="0"/>
                  </a:lnTo>
                  <a:lnTo>
                    <a:pt x="1266" y="20"/>
                  </a:lnTo>
                  <a:lnTo>
                    <a:pt x="1262" y="40"/>
                  </a:lnTo>
                  <a:lnTo>
                    <a:pt x="1264" y="66"/>
                  </a:lnTo>
                  <a:lnTo>
                    <a:pt x="1274" y="72"/>
                  </a:lnTo>
                  <a:lnTo>
                    <a:pt x="1292" y="76"/>
                  </a:lnTo>
                  <a:lnTo>
                    <a:pt x="1320" y="104"/>
                  </a:lnTo>
                  <a:lnTo>
                    <a:pt x="1344" y="66"/>
                  </a:lnTo>
                  <a:lnTo>
                    <a:pt x="1360" y="64"/>
                  </a:lnTo>
                  <a:lnTo>
                    <a:pt x="1378" y="72"/>
                  </a:lnTo>
                  <a:lnTo>
                    <a:pt x="1404" y="98"/>
                  </a:lnTo>
                  <a:lnTo>
                    <a:pt x="1416" y="118"/>
                  </a:lnTo>
                  <a:lnTo>
                    <a:pt x="1434" y="132"/>
                  </a:lnTo>
                  <a:lnTo>
                    <a:pt x="1460" y="140"/>
                  </a:lnTo>
                  <a:lnTo>
                    <a:pt x="1530" y="178"/>
                  </a:lnTo>
                  <a:lnTo>
                    <a:pt x="1560" y="188"/>
                  </a:lnTo>
                  <a:lnTo>
                    <a:pt x="1588" y="190"/>
                  </a:lnTo>
                  <a:lnTo>
                    <a:pt x="1594" y="194"/>
                  </a:lnTo>
                  <a:lnTo>
                    <a:pt x="1604" y="210"/>
                  </a:lnTo>
                  <a:lnTo>
                    <a:pt x="1600" y="214"/>
                  </a:lnTo>
                  <a:lnTo>
                    <a:pt x="1598" y="230"/>
                  </a:lnTo>
                  <a:lnTo>
                    <a:pt x="1604" y="236"/>
                  </a:lnTo>
                  <a:lnTo>
                    <a:pt x="1608" y="254"/>
                  </a:lnTo>
                  <a:lnTo>
                    <a:pt x="1632" y="254"/>
                  </a:lnTo>
                  <a:lnTo>
                    <a:pt x="1648" y="280"/>
                  </a:lnTo>
                  <a:lnTo>
                    <a:pt x="1652" y="296"/>
                  </a:lnTo>
                  <a:lnTo>
                    <a:pt x="1658" y="328"/>
                  </a:lnTo>
                  <a:lnTo>
                    <a:pt x="1674" y="344"/>
                  </a:lnTo>
                  <a:lnTo>
                    <a:pt x="1680" y="400"/>
                  </a:lnTo>
                  <a:lnTo>
                    <a:pt x="1690" y="410"/>
                  </a:lnTo>
                  <a:lnTo>
                    <a:pt x="1692" y="426"/>
                  </a:lnTo>
                  <a:lnTo>
                    <a:pt x="1690" y="438"/>
                  </a:lnTo>
                  <a:lnTo>
                    <a:pt x="1668" y="454"/>
                  </a:lnTo>
                  <a:lnTo>
                    <a:pt x="1662" y="456"/>
                  </a:lnTo>
                  <a:lnTo>
                    <a:pt x="1652" y="464"/>
                  </a:lnTo>
                  <a:lnTo>
                    <a:pt x="1648" y="492"/>
                  </a:lnTo>
                  <a:lnTo>
                    <a:pt x="1648" y="518"/>
                  </a:lnTo>
                  <a:lnTo>
                    <a:pt x="1632" y="572"/>
                  </a:lnTo>
                  <a:lnTo>
                    <a:pt x="1634" y="596"/>
                  </a:lnTo>
                  <a:lnTo>
                    <a:pt x="1634" y="638"/>
                  </a:lnTo>
                  <a:lnTo>
                    <a:pt x="1626" y="684"/>
                  </a:lnTo>
                  <a:lnTo>
                    <a:pt x="1628" y="692"/>
                  </a:lnTo>
                  <a:lnTo>
                    <a:pt x="1638" y="706"/>
                  </a:lnTo>
                  <a:lnTo>
                    <a:pt x="1650" y="712"/>
                  </a:lnTo>
                  <a:lnTo>
                    <a:pt x="1654" y="732"/>
                  </a:lnTo>
                  <a:lnTo>
                    <a:pt x="1648" y="740"/>
                  </a:lnTo>
                  <a:lnTo>
                    <a:pt x="1624" y="744"/>
                  </a:lnTo>
                  <a:lnTo>
                    <a:pt x="1608" y="758"/>
                  </a:lnTo>
                  <a:lnTo>
                    <a:pt x="1594" y="762"/>
                  </a:lnTo>
                  <a:lnTo>
                    <a:pt x="1590" y="766"/>
                  </a:lnTo>
                  <a:lnTo>
                    <a:pt x="1582" y="810"/>
                  </a:lnTo>
                  <a:lnTo>
                    <a:pt x="1578" y="854"/>
                  </a:lnTo>
                  <a:lnTo>
                    <a:pt x="1562" y="898"/>
                  </a:lnTo>
                  <a:lnTo>
                    <a:pt x="1544" y="922"/>
                  </a:lnTo>
                  <a:lnTo>
                    <a:pt x="1540" y="932"/>
                  </a:lnTo>
                  <a:lnTo>
                    <a:pt x="1544" y="958"/>
                  </a:lnTo>
                  <a:lnTo>
                    <a:pt x="1558" y="964"/>
                  </a:lnTo>
                  <a:lnTo>
                    <a:pt x="1564" y="984"/>
                  </a:lnTo>
                  <a:lnTo>
                    <a:pt x="1586" y="982"/>
                  </a:lnTo>
                  <a:lnTo>
                    <a:pt x="1592" y="988"/>
                  </a:lnTo>
                  <a:lnTo>
                    <a:pt x="1594" y="992"/>
                  </a:lnTo>
                  <a:lnTo>
                    <a:pt x="1570" y="994"/>
                  </a:lnTo>
                  <a:lnTo>
                    <a:pt x="1138" y="1164"/>
                  </a:lnTo>
                  <a:lnTo>
                    <a:pt x="1154" y="1210"/>
                  </a:lnTo>
                  <a:lnTo>
                    <a:pt x="1160" y="1246"/>
                  </a:lnTo>
                  <a:lnTo>
                    <a:pt x="1172" y="1256"/>
                  </a:lnTo>
                  <a:lnTo>
                    <a:pt x="1168" y="1260"/>
                  </a:lnTo>
                  <a:lnTo>
                    <a:pt x="1150" y="1258"/>
                  </a:lnTo>
                  <a:lnTo>
                    <a:pt x="1128" y="1266"/>
                  </a:lnTo>
                  <a:lnTo>
                    <a:pt x="1112" y="1262"/>
                  </a:lnTo>
                  <a:lnTo>
                    <a:pt x="1098" y="1254"/>
                  </a:lnTo>
                  <a:lnTo>
                    <a:pt x="1088" y="1252"/>
                  </a:lnTo>
                  <a:lnTo>
                    <a:pt x="1056" y="1270"/>
                  </a:lnTo>
                  <a:lnTo>
                    <a:pt x="1014" y="1274"/>
                  </a:lnTo>
                  <a:lnTo>
                    <a:pt x="996" y="1286"/>
                  </a:lnTo>
                  <a:lnTo>
                    <a:pt x="978" y="1306"/>
                  </a:lnTo>
                  <a:lnTo>
                    <a:pt x="960" y="1308"/>
                  </a:lnTo>
                  <a:lnTo>
                    <a:pt x="946" y="1316"/>
                  </a:lnTo>
                  <a:lnTo>
                    <a:pt x="942" y="1336"/>
                  </a:lnTo>
                  <a:lnTo>
                    <a:pt x="940" y="1364"/>
                  </a:lnTo>
                  <a:lnTo>
                    <a:pt x="942" y="1376"/>
                  </a:lnTo>
                  <a:lnTo>
                    <a:pt x="938" y="1388"/>
                  </a:lnTo>
                  <a:lnTo>
                    <a:pt x="934" y="1404"/>
                  </a:lnTo>
                  <a:lnTo>
                    <a:pt x="932" y="1412"/>
                  </a:lnTo>
                  <a:lnTo>
                    <a:pt x="908" y="1414"/>
                  </a:lnTo>
                  <a:lnTo>
                    <a:pt x="880" y="1410"/>
                  </a:lnTo>
                  <a:lnTo>
                    <a:pt x="862" y="1416"/>
                  </a:lnTo>
                  <a:lnTo>
                    <a:pt x="856" y="1426"/>
                  </a:lnTo>
                  <a:lnTo>
                    <a:pt x="850" y="1428"/>
                  </a:lnTo>
                  <a:lnTo>
                    <a:pt x="830" y="1456"/>
                  </a:lnTo>
                  <a:lnTo>
                    <a:pt x="810" y="1454"/>
                  </a:lnTo>
                  <a:lnTo>
                    <a:pt x="798" y="1458"/>
                  </a:lnTo>
                  <a:lnTo>
                    <a:pt x="792" y="1464"/>
                  </a:lnTo>
                  <a:lnTo>
                    <a:pt x="786" y="1476"/>
                  </a:lnTo>
                  <a:lnTo>
                    <a:pt x="774" y="1482"/>
                  </a:lnTo>
                  <a:lnTo>
                    <a:pt x="758" y="1516"/>
                  </a:lnTo>
                  <a:lnTo>
                    <a:pt x="730" y="1546"/>
                  </a:lnTo>
                  <a:lnTo>
                    <a:pt x="724" y="1560"/>
                  </a:lnTo>
                  <a:lnTo>
                    <a:pt x="724" y="1578"/>
                  </a:lnTo>
                  <a:lnTo>
                    <a:pt x="712" y="1594"/>
                  </a:lnTo>
                  <a:lnTo>
                    <a:pt x="700" y="1602"/>
                  </a:lnTo>
                  <a:lnTo>
                    <a:pt x="684" y="1630"/>
                  </a:lnTo>
                  <a:lnTo>
                    <a:pt x="668" y="1652"/>
                  </a:lnTo>
                  <a:lnTo>
                    <a:pt x="654" y="1650"/>
                  </a:lnTo>
                  <a:lnTo>
                    <a:pt x="634" y="1662"/>
                  </a:lnTo>
                  <a:lnTo>
                    <a:pt x="624" y="1656"/>
                  </a:lnTo>
                  <a:lnTo>
                    <a:pt x="620" y="1642"/>
                  </a:lnTo>
                  <a:lnTo>
                    <a:pt x="608" y="1636"/>
                  </a:lnTo>
                  <a:lnTo>
                    <a:pt x="588" y="1638"/>
                  </a:lnTo>
                  <a:lnTo>
                    <a:pt x="576" y="1636"/>
                  </a:lnTo>
                  <a:lnTo>
                    <a:pt x="532" y="1644"/>
                  </a:lnTo>
                  <a:lnTo>
                    <a:pt x="496" y="1628"/>
                  </a:lnTo>
                  <a:lnTo>
                    <a:pt x="450" y="1634"/>
                  </a:lnTo>
                  <a:lnTo>
                    <a:pt x="440" y="1630"/>
                  </a:lnTo>
                  <a:lnTo>
                    <a:pt x="432" y="1622"/>
                  </a:lnTo>
                  <a:lnTo>
                    <a:pt x="416" y="1614"/>
                  </a:lnTo>
                  <a:lnTo>
                    <a:pt x="396" y="1576"/>
                  </a:lnTo>
                  <a:lnTo>
                    <a:pt x="386" y="1568"/>
                  </a:lnTo>
                  <a:lnTo>
                    <a:pt x="350" y="1558"/>
                  </a:lnTo>
                  <a:lnTo>
                    <a:pt x="296" y="1558"/>
                  </a:lnTo>
                  <a:lnTo>
                    <a:pt x="290" y="1548"/>
                  </a:lnTo>
                  <a:lnTo>
                    <a:pt x="178" y="1578"/>
                  </a:lnTo>
                  <a:lnTo>
                    <a:pt x="160" y="1584"/>
                  </a:lnTo>
                  <a:lnTo>
                    <a:pt x="140" y="1570"/>
                  </a:lnTo>
                  <a:lnTo>
                    <a:pt x="130" y="1550"/>
                  </a:lnTo>
                  <a:lnTo>
                    <a:pt x="108" y="1538"/>
                  </a:lnTo>
                  <a:lnTo>
                    <a:pt x="98" y="1524"/>
                  </a:lnTo>
                  <a:lnTo>
                    <a:pt x="74" y="1500"/>
                  </a:lnTo>
                  <a:lnTo>
                    <a:pt x="58" y="1476"/>
                  </a:lnTo>
                  <a:lnTo>
                    <a:pt x="26" y="1452"/>
                  </a:lnTo>
                  <a:lnTo>
                    <a:pt x="18" y="1430"/>
                  </a:lnTo>
                  <a:lnTo>
                    <a:pt x="0" y="1412"/>
                  </a:lnTo>
                  <a:lnTo>
                    <a:pt x="2" y="140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86680" y="4196880"/>
              <a:ext cx="36000" cy="16560"/>
            </a:xfrm>
            <a:custGeom>
              <a:avLst/>
              <a:gdLst/>
              <a:ahLst/>
              <a:rect l="l" t="t" r="r" b="b"/>
              <a:pathLst>
                <a:path w="206" h="98">
                  <a:moveTo>
                    <a:pt x="198" y="14"/>
                  </a:moveTo>
                  <a:lnTo>
                    <a:pt x="206" y="32"/>
                  </a:lnTo>
                  <a:lnTo>
                    <a:pt x="206" y="58"/>
                  </a:lnTo>
                  <a:lnTo>
                    <a:pt x="184" y="78"/>
                  </a:lnTo>
                  <a:lnTo>
                    <a:pt x="170" y="88"/>
                  </a:lnTo>
                  <a:lnTo>
                    <a:pt x="122" y="98"/>
                  </a:lnTo>
                  <a:lnTo>
                    <a:pt x="92" y="98"/>
                  </a:lnTo>
                  <a:lnTo>
                    <a:pt x="62" y="92"/>
                  </a:lnTo>
                  <a:lnTo>
                    <a:pt x="16" y="94"/>
                  </a:lnTo>
                  <a:lnTo>
                    <a:pt x="12" y="92"/>
                  </a:lnTo>
                  <a:lnTo>
                    <a:pt x="10" y="60"/>
                  </a:lnTo>
                  <a:lnTo>
                    <a:pt x="0" y="36"/>
                  </a:lnTo>
                  <a:lnTo>
                    <a:pt x="2" y="12"/>
                  </a:lnTo>
                  <a:lnTo>
                    <a:pt x="18" y="0"/>
                  </a:lnTo>
                  <a:lnTo>
                    <a:pt x="176" y="4"/>
                  </a:lnTo>
                  <a:lnTo>
                    <a:pt x="190" y="6"/>
                  </a:lnTo>
                  <a:lnTo>
                    <a:pt x="198" y="10"/>
                  </a:lnTo>
                  <a:lnTo>
                    <a:pt x="198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20960" y="4353120"/>
              <a:ext cx="2880" cy="57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10" y="0"/>
                  </a:moveTo>
                  <a:lnTo>
                    <a:pt x="2" y="4"/>
                  </a:lnTo>
                  <a:lnTo>
                    <a:pt x="0" y="40"/>
                  </a:lnTo>
                  <a:lnTo>
                    <a:pt x="6" y="32"/>
                  </a:lnTo>
                  <a:lnTo>
                    <a:pt x="1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11600" y="4258080"/>
              <a:ext cx="15480" cy="1368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60" y="0"/>
                  </a:moveTo>
                  <a:lnTo>
                    <a:pt x="50" y="2"/>
                  </a:lnTo>
                  <a:lnTo>
                    <a:pt x="40" y="26"/>
                  </a:lnTo>
                  <a:lnTo>
                    <a:pt x="12" y="22"/>
                  </a:lnTo>
                  <a:lnTo>
                    <a:pt x="0" y="54"/>
                  </a:lnTo>
                  <a:lnTo>
                    <a:pt x="0" y="82"/>
                  </a:lnTo>
                  <a:lnTo>
                    <a:pt x="20" y="86"/>
                  </a:lnTo>
                  <a:lnTo>
                    <a:pt x="32" y="54"/>
                  </a:lnTo>
                  <a:lnTo>
                    <a:pt x="38" y="48"/>
                  </a:lnTo>
                  <a:lnTo>
                    <a:pt x="60" y="48"/>
                  </a:lnTo>
                  <a:lnTo>
                    <a:pt x="80" y="38"/>
                  </a:lnTo>
                  <a:lnTo>
                    <a:pt x="78" y="28"/>
                  </a:lnTo>
                  <a:lnTo>
                    <a:pt x="64" y="20"/>
                  </a:lnTo>
                  <a:lnTo>
                    <a:pt x="6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61640" y="5440320"/>
              <a:ext cx="2520" cy="28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4" y="0"/>
                  </a:moveTo>
                  <a:lnTo>
                    <a:pt x="2" y="0"/>
                  </a:lnTo>
                  <a:lnTo>
                    <a:pt x="0" y="16"/>
                  </a:lnTo>
                  <a:lnTo>
                    <a:pt x="4" y="24"/>
                  </a:lnTo>
                  <a:lnTo>
                    <a:pt x="16" y="20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42920" y="5493960"/>
              <a:ext cx="1080" cy="46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4" y="2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0" y="18"/>
                  </a:lnTo>
                  <a:lnTo>
                    <a:pt x="4" y="2"/>
                  </a:lnTo>
                </a:path>
              </a:pathLst>
            </a:custGeom>
            <a:solidFill>
              <a:srgbClr val="33c733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040" bIns="-41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01080" y="3945240"/>
              <a:ext cx="35640" cy="103680"/>
            </a:xfrm>
            <a:custGeom>
              <a:avLst/>
              <a:gdLst/>
              <a:ahLst/>
              <a:rect l="l" t="t" r="r" b="b"/>
              <a:pathLst>
                <a:path w="206" h="614">
                  <a:moveTo>
                    <a:pt x="90" y="0"/>
                  </a:moveTo>
                  <a:lnTo>
                    <a:pt x="112" y="10"/>
                  </a:lnTo>
                  <a:lnTo>
                    <a:pt x="126" y="22"/>
                  </a:lnTo>
                  <a:lnTo>
                    <a:pt x="138" y="22"/>
                  </a:lnTo>
                  <a:lnTo>
                    <a:pt x="148" y="26"/>
                  </a:lnTo>
                  <a:lnTo>
                    <a:pt x="160" y="40"/>
                  </a:lnTo>
                  <a:lnTo>
                    <a:pt x="162" y="52"/>
                  </a:lnTo>
                  <a:lnTo>
                    <a:pt x="162" y="76"/>
                  </a:lnTo>
                  <a:lnTo>
                    <a:pt x="168" y="96"/>
                  </a:lnTo>
                  <a:lnTo>
                    <a:pt x="178" y="120"/>
                  </a:lnTo>
                  <a:lnTo>
                    <a:pt x="182" y="150"/>
                  </a:lnTo>
                  <a:lnTo>
                    <a:pt x="180" y="208"/>
                  </a:lnTo>
                  <a:lnTo>
                    <a:pt x="196" y="286"/>
                  </a:lnTo>
                  <a:lnTo>
                    <a:pt x="206" y="348"/>
                  </a:lnTo>
                  <a:lnTo>
                    <a:pt x="204" y="404"/>
                  </a:lnTo>
                  <a:lnTo>
                    <a:pt x="196" y="462"/>
                  </a:lnTo>
                  <a:lnTo>
                    <a:pt x="188" y="490"/>
                  </a:lnTo>
                  <a:lnTo>
                    <a:pt x="186" y="520"/>
                  </a:lnTo>
                  <a:lnTo>
                    <a:pt x="196" y="614"/>
                  </a:lnTo>
                  <a:lnTo>
                    <a:pt x="184" y="606"/>
                  </a:lnTo>
                  <a:lnTo>
                    <a:pt x="162" y="564"/>
                  </a:lnTo>
                  <a:lnTo>
                    <a:pt x="134" y="528"/>
                  </a:lnTo>
                  <a:lnTo>
                    <a:pt x="102" y="508"/>
                  </a:lnTo>
                  <a:lnTo>
                    <a:pt x="64" y="462"/>
                  </a:lnTo>
                  <a:lnTo>
                    <a:pt x="28" y="380"/>
                  </a:lnTo>
                  <a:lnTo>
                    <a:pt x="6" y="320"/>
                  </a:lnTo>
                  <a:lnTo>
                    <a:pt x="0" y="290"/>
                  </a:lnTo>
                  <a:lnTo>
                    <a:pt x="4" y="240"/>
                  </a:lnTo>
                  <a:lnTo>
                    <a:pt x="40" y="56"/>
                  </a:lnTo>
                  <a:lnTo>
                    <a:pt x="72" y="22"/>
                  </a:lnTo>
                  <a:lnTo>
                    <a:pt x="78" y="8"/>
                  </a:lnTo>
                  <a:lnTo>
                    <a:pt x="9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65000" y="4044960"/>
              <a:ext cx="6120" cy="612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24" y="0"/>
                  </a:moveTo>
                  <a:lnTo>
                    <a:pt x="16" y="10"/>
                  </a:lnTo>
                  <a:lnTo>
                    <a:pt x="4" y="14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8" y="24"/>
                  </a:lnTo>
                  <a:lnTo>
                    <a:pt x="24" y="34"/>
                  </a:lnTo>
                  <a:lnTo>
                    <a:pt x="26" y="32"/>
                  </a:lnTo>
                  <a:lnTo>
                    <a:pt x="20" y="16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72920" y="4046400"/>
              <a:ext cx="2880" cy="25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0" y="8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20" y="14"/>
                  </a:lnTo>
                  <a:lnTo>
                    <a:pt x="18" y="6"/>
                  </a:lnTo>
                  <a:lnTo>
                    <a:pt x="1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200" bIns="-432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72760" y="3711960"/>
              <a:ext cx="49680" cy="32040"/>
            </a:xfrm>
            <a:custGeom>
              <a:avLst/>
              <a:gdLst/>
              <a:ahLst/>
              <a:rect l="l" t="t" r="r" b="b"/>
              <a:pathLst>
                <a:path w="288" h="194">
                  <a:moveTo>
                    <a:pt x="212" y="42"/>
                  </a:moveTo>
                  <a:lnTo>
                    <a:pt x="244" y="28"/>
                  </a:lnTo>
                  <a:lnTo>
                    <a:pt x="256" y="14"/>
                  </a:lnTo>
                  <a:lnTo>
                    <a:pt x="278" y="2"/>
                  </a:lnTo>
                  <a:lnTo>
                    <a:pt x="288" y="0"/>
                  </a:lnTo>
                  <a:lnTo>
                    <a:pt x="284" y="22"/>
                  </a:lnTo>
                  <a:lnTo>
                    <a:pt x="268" y="46"/>
                  </a:lnTo>
                  <a:lnTo>
                    <a:pt x="250" y="52"/>
                  </a:lnTo>
                  <a:lnTo>
                    <a:pt x="230" y="96"/>
                  </a:lnTo>
                  <a:lnTo>
                    <a:pt x="236" y="112"/>
                  </a:lnTo>
                  <a:lnTo>
                    <a:pt x="224" y="132"/>
                  </a:lnTo>
                  <a:lnTo>
                    <a:pt x="196" y="138"/>
                  </a:lnTo>
                  <a:lnTo>
                    <a:pt x="172" y="166"/>
                  </a:lnTo>
                  <a:lnTo>
                    <a:pt x="134" y="174"/>
                  </a:lnTo>
                  <a:lnTo>
                    <a:pt x="112" y="194"/>
                  </a:lnTo>
                  <a:lnTo>
                    <a:pt x="68" y="190"/>
                  </a:lnTo>
                  <a:lnTo>
                    <a:pt x="36" y="174"/>
                  </a:lnTo>
                  <a:lnTo>
                    <a:pt x="14" y="148"/>
                  </a:lnTo>
                  <a:lnTo>
                    <a:pt x="0" y="122"/>
                  </a:lnTo>
                  <a:lnTo>
                    <a:pt x="28" y="110"/>
                  </a:lnTo>
                  <a:lnTo>
                    <a:pt x="48" y="98"/>
                  </a:lnTo>
                  <a:lnTo>
                    <a:pt x="72" y="94"/>
                  </a:lnTo>
                  <a:lnTo>
                    <a:pt x="86" y="88"/>
                  </a:lnTo>
                  <a:lnTo>
                    <a:pt x="86" y="66"/>
                  </a:lnTo>
                  <a:lnTo>
                    <a:pt x="96" y="68"/>
                  </a:lnTo>
                  <a:lnTo>
                    <a:pt x="144" y="66"/>
                  </a:lnTo>
                  <a:lnTo>
                    <a:pt x="212" y="4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65280" y="4116600"/>
              <a:ext cx="52920" cy="61200"/>
            </a:xfrm>
            <a:custGeom>
              <a:avLst/>
              <a:gdLst/>
              <a:ahLst/>
              <a:rect l="l" t="t" r="r" b="b"/>
              <a:pathLst>
                <a:path w="304" h="360">
                  <a:moveTo>
                    <a:pt x="224" y="18"/>
                  </a:moveTo>
                  <a:lnTo>
                    <a:pt x="218" y="16"/>
                  </a:lnTo>
                  <a:lnTo>
                    <a:pt x="228" y="0"/>
                  </a:lnTo>
                  <a:lnTo>
                    <a:pt x="250" y="16"/>
                  </a:lnTo>
                  <a:lnTo>
                    <a:pt x="278" y="22"/>
                  </a:lnTo>
                  <a:lnTo>
                    <a:pt x="296" y="60"/>
                  </a:lnTo>
                  <a:lnTo>
                    <a:pt x="304" y="84"/>
                  </a:lnTo>
                  <a:lnTo>
                    <a:pt x="286" y="114"/>
                  </a:lnTo>
                  <a:lnTo>
                    <a:pt x="272" y="190"/>
                  </a:lnTo>
                  <a:lnTo>
                    <a:pt x="270" y="246"/>
                  </a:lnTo>
                  <a:lnTo>
                    <a:pt x="254" y="266"/>
                  </a:lnTo>
                  <a:lnTo>
                    <a:pt x="230" y="312"/>
                  </a:lnTo>
                  <a:lnTo>
                    <a:pt x="204" y="322"/>
                  </a:lnTo>
                  <a:lnTo>
                    <a:pt x="192" y="360"/>
                  </a:lnTo>
                  <a:lnTo>
                    <a:pt x="178" y="358"/>
                  </a:lnTo>
                  <a:lnTo>
                    <a:pt x="162" y="346"/>
                  </a:lnTo>
                  <a:lnTo>
                    <a:pt x="60" y="316"/>
                  </a:lnTo>
                  <a:lnTo>
                    <a:pt x="30" y="278"/>
                  </a:lnTo>
                  <a:lnTo>
                    <a:pt x="0" y="164"/>
                  </a:lnTo>
                  <a:lnTo>
                    <a:pt x="12" y="150"/>
                  </a:lnTo>
                  <a:lnTo>
                    <a:pt x="34" y="108"/>
                  </a:lnTo>
                  <a:lnTo>
                    <a:pt x="54" y="84"/>
                  </a:lnTo>
                  <a:lnTo>
                    <a:pt x="54" y="72"/>
                  </a:lnTo>
                  <a:lnTo>
                    <a:pt x="68" y="56"/>
                  </a:lnTo>
                  <a:lnTo>
                    <a:pt x="94" y="38"/>
                  </a:lnTo>
                  <a:lnTo>
                    <a:pt x="166" y="32"/>
                  </a:lnTo>
                  <a:lnTo>
                    <a:pt x="180" y="14"/>
                  </a:lnTo>
                  <a:lnTo>
                    <a:pt x="200" y="16"/>
                  </a:lnTo>
                  <a:lnTo>
                    <a:pt x="212" y="14"/>
                  </a:lnTo>
                  <a:lnTo>
                    <a:pt x="224" y="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5480" bIns="154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29760" y="3922200"/>
              <a:ext cx="15480" cy="16920"/>
            </a:xfrm>
            <a:custGeom>
              <a:avLst/>
              <a:gdLst/>
              <a:ahLst/>
              <a:rect l="l" t="t" r="r" b="b"/>
              <a:pathLst>
                <a:path w="96" h="92">
                  <a:moveTo>
                    <a:pt x="86" y="0"/>
                  </a:moveTo>
                  <a:lnTo>
                    <a:pt x="76" y="0"/>
                  </a:lnTo>
                  <a:lnTo>
                    <a:pt x="54" y="18"/>
                  </a:lnTo>
                  <a:lnTo>
                    <a:pt x="28" y="32"/>
                  </a:lnTo>
                  <a:lnTo>
                    <a:pt x="0" y="40"/>
                  </a:lnTo>
                  <a:lnTo>
                    <a:pt x="4" y="70"/>
                  </a:lnTo>
                  <a:lnTo>
                    <a:pt x="24" y="92"/>
                  </a:lnTo>
                  <a:lnTo>
                    <a:pt x="50" y="80"/>
                  </a:lnTo>
                  <a:lnTo>
                    <a:pt x="62" y="42"/>
                  </a:lnTo>
                  <a:lnTo>
                    <a:pt x="86" y="24"/>
                  </a:lnTo>
                  <a:lnTo>
                    <a:pt x="96" y="10"/>
                  </a:lnTo>
                  <a:lnTo>
                    <a:pt x="92" y="4"/>
                  </a:lnTo>
                  <a:lnTo>
                    <a:pt x="8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0" bIns="-28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53160" y="3934440"/>
              <a:ext cx="9360" cy="1188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20" y="0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10" y="72"/>
                  </a:lnTo>
                  <a:lnTo>
                    <a:pt x="30" y="70"/>
                  </a:lnTo>
                  <a:lnTo>
                    <a:pt x="46" y="62"/>
                  </a:lnTo>
                  <a:lnTo>
                    <a:pt x="52" y="52"/>
                  </a:lnTo>
                  <a:lnTo>
                    <a:pt x="56" y="44"/>
                  </a:lnTo>
                  <a:lnTo>
                    <a:pt x="56" y="18"/>
                  </a:lnTo>
                  <a:lnTo>
                    <a:pt x="52" y="10"/>
                  </a:lnTo>
                  <a:lnTo>
                    <a:pt x="2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87360" y="3919320"/>
              <a:ext cx="12600" cy="16560"/>
            </a:xfrm>
            <a:custGeom>
              <a:avLst/>
              <a:gdLst/>
              <a:ahLst/>
              <a:rect l="l" t="t" r="r" b="b"/>
              <a:pathLst>
                <a:path w="74" h="106">
                  <a:moveTo>
                    <a:pt x="74" y="4"/>
                  </a:moveTo>
                  <a:lnTo>
                    <a:pt x="72" y="0"/>
                  </a:lnTo>
                  <a:lnTo>
                    <a:pt x="60" y="0"/>
                  </a:lnTo>
                  <a:lnTo>
                    <a:pt x="48" y="24"/>
                  </a:lnTo>
                  <a:lnTo>
                    <a:pt x="40" y="44"/>
                  </a:lnTo>
                  <a:lnTo>
                    <a:pt x="18" y="80"/>
                  </a:lnTo>
                  <a:lnTo>
                    <a:pt x="18" y="94"/>
                  </a:lnTo>
                  <a:lnTo>
                    <a:pt x="0" y="106"/>
                  </a:lnTo>
                  <a:lnTo>
                    <a:pt x="50" y="86"/>
                  </a:lnTo>
                  <a:lnTo>
                    <a:pt x="64" y="68"/>
                  </a:lnTo>
                  <a:lnTo>
                    <a:pt x="72" y="46"/>
                  </a:lnTo>
                  <a:lnTo>
                    <a:pt x="74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01400" y="3905280"/>
              <a:ext cx="9360" cy="9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56" y="2"/>
                  </a:moveTo>
                  <a:lnTo>
                    <a:pt x="46" y="0"/>
                  </a:lnTo>
                  <a:lnTo>
                    <a:pt x="40" y="12"/>
                  </a:lnTo>
                  <a:lnTo>
                    <a:pt x="14" y="28"/>
                  </a:lnTo>
                  <a:lnTo>
                    <a:pt x="4" y="40"/>
                  </a:lnTo>
                  <a:lnTo>
                    <a:pt x="0" y="54"/>
                  </a:lnTo>
                  <a:lnTo>
                    <a:pt x="26" y="46"/>
                  </a:lnTo>
                  <a:lnTo>
                    <a:pt x="38" y="38"/>
                  </a:lnTo>
                  <a:lnTo>
                    <a:pt x="48" y="24"/>
                  </a:lnTo>
                  <a:lnTo>
                    <a:pt x="56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07560" y="4691880"/>
              <a:ext cx="2880" cy="612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0" y="0"/>
                  </a:moveTo>
                  <a:lnTo>
                    <a:pt x="16" y="0"/>
                  </a:lnTo>
                  <a:lnTo>
                    <a:pt x="18" y="16"/>
                  </a:lnTo>
                  <a:lnTo>
                    <a:pt x="8" y="34"/>
                  </a:lnTo>
                  <a:lnTo>
                    <a:pt x="2" y="36"/>
                  </a:lnTo>
                  <a:lnTo>
                    <a:pt x="0" y="6"/>
                  </a:lnTo>
                  <a:lnTo>
                    <a:pt x="2" y="2"/>
                  </a:lnTo>
                  <a:lnTo>
                    <a:pt x="1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87400" y="4728960"/>
              <a:ext cx="9000" cy="1044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26" y="0"/>
                  </a:moveTo>
                  <a:lnTo>
                    <a:pt x="36" y="2"/>
                  </a:lnTo>
                  <a:lnTo>
                    <a:pt x="42" y="6"/>
                  </a:lnTo>
                  <a:lnTo>
                    <a:pt x="46" y="28"/>
                  </a:lnTo>
                  <a:lnTo>
                    <a:pt x="24" y="58"/>
                  </a:lnTo>
                  <a:lnTo>
                    <a:pt x="18" y="58"/>
                  </a:lnTo>
                  <a:lnTo>
                    <a:pt x="4" y="48"/>
                  </a:lnTo>
                  <a:lnTo>
                    <a:pt x="0" y="26"/>
                  </a:lnTo>
                  <a:lnTo>
                    <a:pt x="4" y="14"/>
                  </a:lnTo>
                  <a:lnTo>
                    <a:pt x="12" y="6"/>
                  </a:lnTo>
                  <a:lnTo>
                    <a:pt x="2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78520" y="3092760"/>
              <a:ext cx="1202040" cy="1020960"/>
            </a:xfrm>
            <a:custGeom>
              <a:avLst/>
              <a:gdLst/>
              <a:ahLst/>
              <a:rect l="l" t="t" r="r" b="b"/>
              <a:pathLst>
                <a:path w="6924" h="5982">
                  <a:moveTo>
                    <a:pt x="6346" y="5544"/>
                  </a:moveTo>
                  <a:lnTo>
                    <a:pt x="6342" y="5562"/>
                  </a:lnTo>
                  <a:lnTo>
                    <a:pt x="6336" y="5556"/>
                  </a:lnTo>
                  <a:lnTo>
                    <a:pt x="6332" y="5546"/>
                  </a:lnTo>
                  <a:lnTo>
                    <a:pt x="6318" y="5534"/>
                  </a:lnTo>
                  <a:lnTo>
                    <a:pt x="6300" y="5542"/>
                  </a:lnTo>
                  <a:lnTo>
                    <a:pt x="6298" y="5546"/>
                  </a:lnTo>
                  <a:lnTo>
                    <a:pt x="6296" y="5546"/>
                  </a:lnTo>
                  <a:lnTo>
                    <a:pt x="6298" y="5552"/>
                  </a:lnTo>
                  <a:lnTo>
                    <a:pt x="6314" y="5570"/>
                  </a:lnTo>
                  <a:lnTo>
                    <a:pt x="6304" y="5576"/>
                  </a:lnTo>
                  <a:lnTo>
                    <a:pt x="6274" y="5584"/>
                  </a:lnTo>
                  <a:lnTo>
                    <a:pt x="6268" y="5568"/>
                  </a:lnTo>
                  <a:lnTo>
                    <a:pt x="6268" y="5562"/>
                  </a:lnTo>
                  <a:lnTo>
                    <a:pt x="6258" y="5546"/>
                  </a:lnTo>
                  <a:lnTo>
                    <a:pt x="6224" y="5524"/>
                  </a:lnTo>
                  <a:lnTo>
                    <a:pt x="6202" y="5516"/>
                  </a:lnTo>
                  <a:lnTo>
                    <a:pt x="6190" y="5498"/>
                  </a:lnTo>
                  <a:lnTo>
                    <a:pt x="6196" y="5536"/>
                  </a:lnTo>
                  <a:lnTo>
                    <a:pt x="6206" y="5568"/>
                  </a:lnTo>
                  <a:lnTo>
                    <a:pt x="6214" y="5590"/>
                  </a:lnTo>
                  <a:lnTo>
                    <a:pt x="6216" y="5600"/>
                  </a:lnTo>
                  <a:lnTo>
                    <a:pt x="6208" y="5606"/>
                  </a:lnTo>
                  <a:lnTo>
                    <a:pt x="6200" y="5604"/>
                  </a:lnTo>
                  <a:lnTo>
                    <a:pt x="6170" y="5574"/>
                  </a:lnTo>
                  <a:lnTo>
                    <a:pt x="6146" y="5558"/>
                  </a:lnTo>
                  <a:lnTo>
                    <a:pt x="6134" y="5538"/>
                  </a:lnTo>
                  <a:lnTo>
                    <a:pt x="6134" y="5592"/>
                  </a:lnTo>
                  <a:lnTo>
                    <a:pt x="6140" y="5616"/>
                  </a:lnTo>
                  <a:lnTo>
                    <a:pt x="6146" y="5630"/>
                  </a:lnTo>
                  <a:lnTo>
                    <a:pt x="6154" y="5658"/>
                  </a:lnTo>
                  <a:lnTo>
                    <a:pt x="6150" y="5666"/>
                  </a:lnTo>
                  <a:lnTo>
                    <a:pt x="6136" y="5662"/>
                  </a:lnTo>
                  <a:lnTo>
                    <a:pt x="6104" y="5686"/>
                  </a:lnTo>
                  <a:lnTo>
                    <a:pt x="6078" y="5690"/>
                  </a:lnTo>
                  <a:lnTo>
                    <a:pt x="6066" y="5704"/>
                  </a:lnTo>
                  <a:lnTo>
                    <a:pt x="6042" y="5704"/>
                  </a:lnTo>
                  <a:lnTo>
                    <a:pt x="6032" y="5696"/>
                  </a:lnTo>
                  <a:lnTo>
                    <a:pt x="6008" y="5704"/>
                  </a:lnTo>
                  <a:lnTo>
                    <a:pt x="5990" y="5734"/>
                  </a:lnTo>
                  <a:lnTo>
                    <a:pt x="5966" y="5744"/>
                  </a:lnTo>
                  <a:lnTo>
                    <a:pt x="5934" y="5752"/>
                  </a:lnTo>
                  <a:lnTo>
                    <a:pt x="5910" y="5748"/>
                  </a:lnTo>
                  <a:lnTo>
                    <a:pt x="5906" y="5760"/>
                  </a:lnTo>
                  <a:lnTo>
                    <a:pt x="5886" y="5774"/>
                  </a:lnTo>
                  <a:lnTo>
                    <a:pt x="5854" y="5790"/>
                  </a:lnTo>
                  <a:lnTo>
                    <a:pt x="5828" y="5780"/>
                  </a:lnTo>
                  <a:lnTo>
                    <a:pt x="5820" y="5864"/>
                  </a:lnTo>
                  <a:lnTo>
                    <a:pt x="5850" y="5898"/>
                  </a:lnTo>
                  <a:lnTo>
                    <a:pt x="5864" y="5922"/>
                  </a:lnTo>
                  <a:lnTo>
                    <a:pt x="5872" y="5958"/>
                  </a:lnTo>
                  <a:lnTo>
                    <a:pt x="5838" y="5982"/>
                  </a:lnTo>
                  <a:lnTo>
                    <a:pt x="5806" y="5962"/>
                  </a:lnTo>
                  <a:lnTo>
                    <a:pt x="5744" y="5870"/>
                  </a:lnTo>
                  <a:lnTo>
                    <a:pt x="5734" y="5848"/>
                  </a:lnTo>
                  <a:lnTo>
                    <a:pt x="5734" y="5838"/>
                  </a:lnTo>
                  <a:lnTo>
                    <a:pt x="5734" y="5772"/>
                  </a:lnTo>
                  <a:lnTo>
                    <a:pt x="5718" y="5748"/>
                  </a:lnTo>
                  <a:lnTo>
                    <a:pt x="5704" y="5758"/>
                  </a:lnTo>
                  <a:lnTo>
                    <a:pt x="5684" y="5780"/>
                  </a:lnTo>
                  <a:lnTo>
                    <a:pt x="5658" y="5782"/>
                  </a:lnTo>
                  <a:lnTo>
                    <a:pt x="5642" y="5768"/>
                  </a:lnTo>
                  <a:lnTo>
                    <a:pt x="5636" y="5754"/>
                  </a:lnTo>
                  <a:lnTo>
                    <a:pt x="5584" y="5738"/>
                  </a:lnTo>
                  <a:lnTo>
                    <a:pt x="5562" y="5730"/>
                  </a:lnTo>
                  <a:lnTo>
                    <a:pt x="5552" y="5732"/>
                  </a:lnTo>
                  <a:lnTo>
                    <a:pt x="5548" y="5758"/>
                  </a:lnTo>
                  <a:lnTo>
                    <a:pt x="5526" y="5766"/>
                  </a:lnTo>
                  <a:lnTo>
                    <a:pt x="5532" y="5786"/>
                  </a:lnTo>
                  <a:lnTo>
                    <a:pt x="5516" y="5754"/>
                  </a:lnTo>
                  <a:lnTo>
                    <a:pt x="5506" y="5766"/>
                  </a:lnTo>
                  <a:lnTo>
                    <a:pt x="5488" y="5778"/>
                  </a:lnTo>
                  <a:lnTo>
                    <a:pt x="5466" y="5764"/>
                  </a:lnTo>
                  <a:lnTo>
                    <a:pt x="5422" y="5768"/>
                  </a:lnTo>
                  <a:lnTo>
                    <a:pt x="5392" y="5762"/>
                  </a:lnTo>
                  <a:lnTo>
                    <a:pt x="5378" y="5748"/>
                  </a:lnTo>
                  <a:lnTo>
                    <a:pt x="5308" y="5708"/>
                  </a:lnTo>
                  <a:lnTo>
                    <a:pt x="5280" y="5674"/>
                  </a:lnTo>
                  <a:lnTo>
                    <a:pt x="5258" y="5628"/>
                  </a:lnTo>
                  <a:lnTo>
                    <a:pt x="5258" y="5580"/>
                  </a:lnTo>
                  <a:lnTo>
                    <a:pt x="5238" y="5552"/>
                  </a:lnTo>
                  <a:lnTo>
                    <a:pt x="5192" y="5552"/>
                  </a:lnTo>
                  <a:lnTo>
                    <a:pt x="5154" y="5544"/>
                  </a:lnTo>
                  <a:lnTo>
                    <a:pt x="5112" y="5524"/>
                  </a:lnTo>
                  <a:lnTo>
                    <a:pt x="5072" y="5496"/>
                  </a:lnTo>
                  <a:lnTo>
                    <a:pt x="5032" y="5484"/>
                  </a:lnTo>
                  <a:lnTo>
                    <a:pt x="5014" y="5488"/>
                  </a:lnTo>
                  <a:lnTo>
                    <a:pt x="4998" y="5522"/>
                  </a:lnTo>
                  <a:lnTo>
                    <a:pt x="4980" y="5544"/>
                  </a:lnTo>
                  <a:lnTo>
                    <a:pt x="4950" y="5568"/>
                  </a:lnTo>
                  <a:lnTo>
                    <a:pt x="4934" y="5576"/>
                  </a:lnTo>
                  <a:lnTo>
                    <a:pt x="4910" y="5566"/>
                  </a:lnTo>
                  <a:lnTo>
                    <a:pt x="4894" y="5592"/>
                  </a:lnTo>
                  <a:lnTo>
                    <a:pt x="4874" y="5606"/>
                  </a:lnTo>
                  <a:lnTo>
                    <a:pt x="4860" y="5588"/>
                  </a:lnTo>
                  <a:lnTo>
                    <a:pt x="4830" y="5600"/>
                  </a:lnTo>
                  <a:lnTo>
                    <a:pt x="4810" y="5586"/>
                  </a:lnTo>
                  <a:lnTo>
                    <a:pt x="4796" y="5592"/>
                  </a:lnTo>
                  <a:lnTo>
                    <a:pt x="4766" y="5620"/>
                  </a:lnTo>
                  <a:lnTo>
                    <a:pt x="4750" y="5618"/>
                  </a:lnTo>
                  <a:lnTo>
                    <a:pt x="4728" y="5598"/>
                  </a:lnTo>
                  <a:lnTo>
                    <a:pt x="4692" y="5592"/>
                  </a:lnTo>
                  <a:lnTo>
                    <a:pt x="4682" y="5586"/>
                  </a:lnTo>
                  <a:lnTo>
                    <a:pt x="4676" y="5592"/>
                  </a:lnTo>
                  <a:lnTo>
                    <a:pt x="4672" y="5610"/>
                  </a:lnTo>
                  <a:lnTo>
                    <a:pt x="4662" y="5634"/>
                  </a:lnTo>
                  <a:lnTo>
                    <a:pt x="4664" y="5644"/>
                  </a:lnTo>
                  <a:lnTo>
                    <a:pt x="4644" y="5636"/>
                  </a:lnTo>
                  <a:lnTo>
                    <a:pt x="4642" y="5628"/>
                  </a:lnTo>
                  <a:lnTo>
                    <a:pt x="4590" y="5624"/>
                  </a:lnTo>
                  <a:lnTo>
                    <a:pt x="4576" y="5650"/>
                  </a:lnTo>
                  <a:lnTo>
                    <a:pt x="4582" y="5686"/>
                  </a:lnTo>
                  <a:lnTo>
                    <a:pt x="4598" y="5738"/>
                  </a:lnTo>
                  <a:lnTo>
                    <a:pt x="4628" y="5788"/>
                  </a:lnTo>
                  <a:lnTo>
                    <a:pt x="4634" y="5832"/>
                  </a:lnTo>
                  <a:lnTo>
                    <a:pt x="4626" y="5840"/>
                  </a:lnTo>
                  <a:lnTo>
                    <a:pt x="4580" y="5858"/>
                  </a:lnTo>
                  <a:lnTo>
                    <a:pt x="4546" y="5780"/>
                  </a:lnTo>
                  <a:lnTo>
                    <a:pt x="4538" y="5760"/>
                  </a:lnTo>
                  <a:lnTo>
                    <a:pt x="4508" y="5756"/>
                  </a:lnTo>
                  <a:lnTo>
                    <a:pt x="4478" y="5794"/>
                  </a:lnTo>
                  <a:lnTo>
                    <a:pt x="4430" y="5804"/>
                  </a:lnTo>
                  <a:lnTo>
                    <a:pt x="4372" y="5752"/>
                  </a:lnTo>
                  <a:lnTo>
                    <a:pt x="4358" y="5718"/>
                  </a:lnTo>
                  <a:lnTo>
                    <a:pt x="4308" y="5700"/>
                  </a:lnTo>
                  <a:lnTo>
                    <a:pt x="4268" y="5694"/>
                  </a:lnTo>
                  <a:lnTo>
                    <a:pt x="4264" y="5636"/>
                  </a:lnTo>
                  <a:lnTo>
                    <a:pt x="4260" y="5554"/>
                  </a:lnTo>
                  <a:lnTo>
                    <a:pt x="4214" y="5530"/>
                  </a:lnTo>
                  <a:lnTo>
                    <a:pt x="4174" y="5502"/>
                  </a:lnTo>
                  <a:lnTo>
                    <a:pt x="4156" y="5442"/>
                  </a:lnTo>
                  <a:lnTo>
                    <a:pt x="4130" y="5400"/>
                  </a:lnTo>
                  <a:lnTo>
                    <a:pt x="4122" y="5368"/>
                  </a:lnTo>
                  <a:lnTo>
                    <a:pt x="4074" y="5370"/>
                  </a:lnTo>
                  <a:lnTo>
                    <a:pt x="4028" y="5376"/>
                  </a:lnTo>
                  <a:lnTo>
                    <a:pt x="4008" y="5398"/>
                  </a:lnTo>
                  <a:lnTo>
                    <a:pt x="3982" y="5438"/>
                  </a:lnTo>
                  <a:lnTo>
                    <a:pt x="3966" y="5424"/>
                  </a:lnTo>
                  <a:lnTo>
                    <a:pt x="3978" y="5370"/>
                  </a:lnTo>
                  <a:lnTo>
                    <a:pt x="3976" y="5344"/>
                  </a:lnTo>
                  <a:lnTo>
                    <a:pt x="3954" y="5300"/>
                  </a:lnTo>
                  <a:lnTo>
                    <a:pt x="3958" y="5260"/>
                  </a:lnTo>
                  <a:lnTo>
                    <a:pt x="3952" y="5200"/>
                  </a:lnTo>
                  <a:lnTo>
                    <a:pt x="3970" y="5168"/>
                  </a:lnTo>
                  <a:lnTo>
                    <a:pt x="3972" y="5138"/>
                  </a:lnTo>
                  <a:lnTo>
                    <a:pt x="3988" y="5130"/>
                  </a:lnTo>
                  <a:lnTo>
                    <a:pt x="4000" y="5096"/>
                  </a:lnTo>
                  <a:lnTo>
                    <a:pt x="4004" y="5018"/>
                  </a:lnTo>
                  <a:lnTo>
                    <a:pt x="3996" y="4990"/>
                  </a:lnTo>
                  <a:lnTo>
                    <a:pt x="3982" y="4908"/>
                  </a:lnTo>
                  <a:lnTo>
                    <a:pt x="3960" y="4848"/>
                  </a:lnTo>
                  <a:lnTo>
                    <a:pt x="3916" y="4756"/>
                  </a:lnTo>
                  <a:lnTo>
                    <a:pt x="3876" y="4756"/>
                  </a:lnTo>
                  <a:lnTo>
                    <a:pt x="3856" y="4732"/>
                  </a:lnTo>
                  <a:lnTo>
                    <a:pt x="3834" y="4682"/>
                  </a:lnTo>
                  <a:lnTo>
                    <a:pt x="3792" y="4646"/>
                  </a:lnTo>
                  <a:lnTo>
                    <a:pt x="3756" y="4630"/>
                  </a:lnTo>
                  <a:lnTo>
                    <a:pt x="3748" y="4628"/>
                  </a:lnTo>
                  <a:lnTo>
                    <a:pt x="3744" y="4644"/>
                  </a:lnTo>
                  <a:lnTo>
                    <a:pt x="3724" y="4656"/>
                  </a:lnTo>
                  <a:lnTo>
                    <a:pt x="3704" y="4622"/>
                  </a:lnTo>
                  <a:lnTo>
                    <a:pt x="3674" y="4612"/>
                  </a:lnTo>
                  <a:lnTo>
                    <a:pt x="3640" y="4614"/>
                  </a:lnTo>
                  <a:lnTo>
                    <a:pt x="3614" y="4602"/>
                  </a:lnTo>
                  <a:lnTo>
                    <a:pt x="3568" y="4604"/>
                  </a:lnTo>
                  <a:lnTo>
                    <a:pt x="3564" y="4562"/>
                  </a:lnTo>
                  <a:lnTo>
                    <a:pt x="3552" y="4520"/>
                  </a:lnTo>
                  <a:lnTo>
                    <a:pt x="3520" y="4512"/>
                  </a:lnTo>
                  <a:lnTo>
                    <a:pt x="3504" y="4482"/>
                  </a:lnTo>
                  <a:lnTo>
                    <a:pt x="3504" y="4462"/>
                  </a:lnTo>
                  <a:lnTo>
                    <a:pt x="3466" y="4430"/>
                  </a:lnTo>
                  <a:lnTo>
                    <a:pt x="3440" y="4440"/>
                  </a:lnTo>
                  <a:lnTo>
                    <a:pt x="3414" y="4468"/>
                  </a:lnTo>
                  <a:lnTo>
                    <a:pt x="3384" y="4482"/>
                  </a:lnTo>
                  <a:lnTo>
                    <a:pt x="3336" y="4486"/>
                  </a:lnTo>
                  <a:lnTo>
                    <a:pt x="3316" y="4484"/>
                  </a:lnTo>
                  <a:lnTo>
                    <a:pt x="3292" y="4470"/>
                  </a:lnTo>
                  <a:lnTo>
                    <a:pt x="3282" y="4468"/>
                  </a:lnTo>
                  <a:lnTo>
                    <a:pt x="3262" y="4484"/>
                  </a:lnTo>
                  <a:lnTo>
                    <a:pt x="3246" y="4502"/>
                  </a:lnTo>
                  <a:lnTo>
                    <a:pt x="3240" y="4534"/>
                  </a:lnTo>
                  <a:lnTo>
                    <a:pt x="3206" y="4584"/>
                  </a:lnTo>
                  <a:lnTo>
                    <a:pt x="3174" y="4596"/>
                  </a:lnTo>
                  <a:lnTo>
                    <a:pt x="3152" y="4642"/>
                  </a:lnTo>
                  <a:lnTo>
                    <a:pt x="3134" y="4666"/>
                  </a:lnTo>
                  <a:lnTo>
                    <a:pt x="3102" y="4686"/>
                  </a:lnTo>
                  <a:lnTo>
                    <a:pt x="3078" y="4714"/>
                  </a:lnTo>
                  <a:lnTo>
                    <a:pt x="3014" y="4732"/>
                  </a:lnTo>
                  <a:lnTo>
                    <a:pt x="2978" y="4750"/>
                  </a:lnTo>
                  <a:lnTo>
                    <a:pt x="2982" y="4756"/>
                  </a:lnTo>
                  <a:lnTo>
                    <a:pt x="2978" y="4750"/>
                  </a:lnTo>
                  <a:lnTo>
                    <a:pt x="2942" y="4730"/>
                  </a:lnTo>
                  <a:lnTo>
                    <a:pt x="2932" y="4720"/>
                  </a:lnTo>
                  <a:lnTo>
                    <a:pt x="2922" y="4716"/>
                  </a:lnTo>
                  <a:lnTo>
                    <a:pt x="2892" y="4728"/>
                  </a:lnTo>
                  <a:lnTo>
                    <a:pt x="2878" y="4728"/>
                  </a:lnTo>
                  <a:lnTo>
                    <a:pt x="2842" y="4718"/>
                  </a:lnTo>
                  <a:lnTo>
                    <a:pt x="2802" y="4714"/>
                  </a:lnTo>
                  <a:lnTo>
                    <a:pt x="2780" y="4700"/>
                  </a:lnTo>
                  <a:lnTo>
                    <a:pt x="2778" y="4694"/>
                  </a:lnTo>
                  <a:lnTo>
                    <a:pt x="2764" y="4678"/>
                  </a:lnTo>
                  <a:lnTo>
                    <a:pt x="2748" y="4674"/>
                  </a:lnTo>
                  <a:lnTo>
                    <a:pt x="2714" y="4680"/>
                  </a:lnTo>
                  <a:lnTo>
                    <a:pt x="2690" y="4694"/>
                  </a:lnTo>
                  <a:lnTo>
                    <a:pt x="2670" y="4726"/>
                  </a:lnTo>
                  <a:lnTo>
                    <a:pt x="2658" y="4774"/>
                  </a:lnTo>
                  <a:lnTo>
                    <a:pt x="2622" y="4834"/>
                  </a:lnTo>
                  <a:lnTo>
                    <a:pt x="2624" y="4848"/>
                  </a:lnTo>
                  <a:lnTo>
                    <a:pt x="2610" y="4850"/>
                  </a:lnTo>
                  <a:lnTo>
                    <a:pt x="2600" y="4844"/>
                  </a:lnTo>
                  <a:lnTo>
                    <a:pt x="2594" y="4836"/>
                  </a:lnTo>
                  <a:lnTo>
                    <a:pt x="2588" y="4816"/>
                  </a:lnTo>
                  <a:lnTo>
                    <a:pt x="2586" y="4778"/>
                  </a:lnTo>
                  <a:lnTo>
                    <a:pt x="2584" y="4762"/>
                  </a:lnTo>
                  <a:lnTo>
                    <a:pt x="2570" y="4736"/>
                  </a:lnTo>
                  <a:lnTo>
                    <a:pt x="2562" y="4726"/>
                  </a:lnTo>
                  <a:lnTo>
                    <a:pt x="2550" y="4720"/>
                  </a:lnTo>
                  <a:lnTo>
                    <a:pt x="2538" y="4722"/>
                  </a:lnTo>
                  <a:lnTo>
                    <a:pt x="2522" y="4742"/>
                  </a:lnTo>
                  <a:lnTo>
                    <a:pt x="2504" y="4742"/>
                  </a:lnTo>
                  <a:lnTo>
                    <a:pt x="2484" y="4754"/>
                  </a:lnTo>
                  <a:lnTo>
                    <a:pt x="2484" y="4758"/>
                  </a:lnTo>
                  <a:lnTo>
                    <a:pt x="2474" y="4752"/>
                  </a:lnTo>
                  <a:lnTo>
                    <a:pt x="2456" y="4758"/>
                  </a:lnTo>
                  <a:lnTo>
                    <a:pt x="2448" y="4782"/>
                  </a:lnTo>
                  <a:lnTo>
                    <a:pt x="2438" y="4782"/>
                  </a:lnTo>
                  <a:lnTo>
                    <a:pt x="2402" y="4774"/>
                  </a:lnTo>
                  <a:lnTo>
                    <a:pt x="2386" y="4780"/>
                  </a:lnTo>
                  <a:lnTo>
                    <a:pt x="2376" y="4780"/>
                  </a:lnTo>
                  <a:lnTo>
                    <a:pt x="2356" y="4768"/>
                  </a:lnTo>
                  <a:lnTo>
                    <a:pt x="2330" y="4762"/>
                  </a:lnTo>
                  <a:lnTo>
                    <a:pt x="2308" y="4744"/>
                  </a:lnTo>
                  <a:lnTo>
                    <a:pt x="2284" y="4742"/>
                  </a:lnTo>
                  <a:lnTo>
                    <a:pt x="2274" y="4748"/>
                  </a:lnTo>
                  <a:lnTo>
                    <a:pt x="2270" y="4766"/>
                  </a:lnTo>
                  <a:lnTo>
                    <a:pt x="2264" y="4768"/>
                  </a:lnTo>
                  <a:lnTo>
                    <a:pt x="2248" y="4762"/>
                  </a:lnTo>
                  <a:lnTo>
                    <a:pt x="2236" y="4768"/>
                  </a:lnTo>
                  <a:lnTo>
                    <a:pt x="2216" y="4756"/>
                  </a:lnTo>
                  <a:lnTo>
                    <a:pt x="2210" y="4764"/>
                  </a:lnTo>
                  <a:lnTo>
                    <a:pt x="2196" y="4768"/>
                  </a:lnTo>
                  <a:lnTo>
                    <a:pt x="2184" y="4762"/>
                  </a:lnTo>
                  <a:lnTo>
                    <a:pt x="2170" y="4746"/>
                  </a:lnTo>
                  <a:lnTo>
                    <a:pt x="2166" y="4734"/>
                  </a:lnTo>
                  <a:lnTo>
                    <a:pt x="2148" y="4718"/>
                  </a:lnTo>
                  <a:lnTo>
                    <a:pt x="2126" y="4714"/>
                  </a:lnTo>
                  <a:lnTo>
                    <a:pt x="2110" y="4720"/>
                  </a:lnTo>
                  <a:lnTo>
                    <a:pt x="2068" y="4696"/>
                  </a:lnTo>
                  <a:lnTo>
                    <a:pt x="2060" y="4680"/>
                  </a:lnTo>
                  <a:lnTo>
                    <a:pt x="2056" y="4642"/>
                  </a:lnTo>
                  <a:lnTo>
                    <a:pt x="2050" y="4638"/>
                  </a:lnTo>
                  <a:lnTo>
                    <a:pt x="2040" y="4650"/>
                  </a:lnTo>
                  <a:lnTo>
                    <a:pt x="2030" y="4652"/>
                  </a:lnTo>
                  <a:lnTo>
                    <a:pt x="2006" y="4652"/>
                  </a:lnTo>
                  <a:lnTo>
                    <a:pt x="1988" y="4644"/>
                  </a:lnTo>
                  <a:lnTo>
                    <a:pt x="1974" y="4646"/>
                  </a:lnTo>
                  <a:lnTo>
                    <a:pt x="1958" y="4638"/>
                  </a:lnTo>
                  <a:lnTo>
                    <a:pt x="1946" y="4638"/>
                  </a:lnTo>
                  <a:lnTo>
                    <a:pt x="1938" y="4630"/>
                  </a:lnTo>
                  <a:lnTo>
                    <a:pt x="1928" y="4614"/>
                  </a:lnTo>
                  <a:lnTo>
                    <a:pt x="1916" y="4622"/>
                  </a:lnTo>
                  <a:lnTo>
                    <a:pt x="1912" y="4612"/>
                  </a:lnTo>
                  <a:lnTo>
                    <a:pt x="1908" y="4578"/>
                  </a:lnTo>
                  <a:lnTo>
                    <a:pt x="1900" y="4560"/>
                  </a:lnTo>
                  <a:lnTo>
                    <a:pt x="1906" y="4544"/>
                  </a:lnTo>
                  <a:lnTo>
                    <a:pt x="1898" y="4538"/>
                  </a:lnTo>
                  <a:lnTo>
                    <a:pt x="1882" y="4534"/>
                  </a:lnTo>
                  <a:lnTo>
                    <a:pt x="1868" y="4536"/>
                  </a:lnTo>
                  <a:lnTo>
                    <a:pt x="1858" y="4536"/>
                  </a:lnTo>
                  <a:lnTo>
                    <a:pt x="1852" y="4546"/>
                  </a:lnTo>
                  <a:lnTo>
                    <a:pt x="1854" y="4552"/>
                  </a:lnTo>
                  <a:lnTo>
                    <a:pt x="1846" y="4564"/>
                  </a:lnTo>
                  <a:lnTo>
                    <a:pt x="1840" y="4564"/>
                  </a:lnTo>
                  <a:lnTo>
                    <a:pt x="1832" y="4580"/>
                  </a:lnTo>
                  <a:lnTo>
                    <a:pt x="1822" y="4578"/>
                  </a:lnTo>
                  <a:lnTo>
                    <a:pt x="1808" y="4572"/>
                  </a:lnTo>
                  <a:lnTo>
                    <a:pt x="1796" y="4562"/>
                  </a:lnTo>
                  <a:lnTo>
                    <a:pt x="1778" y="4514"/>
                  </a:lnTo>
                  <a:lnTo>
                    <a:pt x="1756" y="4490"/>
                  </a:lnTo>
                  <a:lnTo>
                    <a:pt x="1722" y="4464"/>
                  </a:lnTo>
                  <a:lnTo>
                    <a:pt x="1686" y="4454"/>
                  </a:lnTo>
                  <a:lnTo>
                    <a:pt x="1658" y="4432"/>
                  </a:lnTo>
                  <a:lnTo>
                    <a:pt x="1634" y="4408"/>
                  </a:lnTo>
                  <a:lnTo>
                    <a:pt x="1622" y="4402"/>
                  </a:lnTo>
                  <a:lnTo>
                    <a:pt x="1568" y="4388"/>
                  </a:lnTo>
                  <a:lnTo>
                    <a:pt x="1522" y="4380"/>
                  </a:lnTo>
                  <a:lnTo>
                    <a:pt x="1514" y="4376"/>
                  </a:lnTo>
                  <a:lnTo>
                    <a:pt x="1474" y="4372"/>
                  </a:lnTo>
                  <a:lnTo>
                    <a:pt x="1470" y="4374"/>
                  </a:lnTo>
                  <a:lnTo>
                    <a:pt x="1470" y="4378"/>
                  </a:lnTo>
                  <a:lnTo>
                    <a:pt x="1474" y="4394"/>
                  </a:lnTo>
                  <a:lnTo>
                    <a:pt x="1468" y="4406"/>
                  </a:lnTo>
                  <a:lnTo>
                    <a:pt x="1472" y="4412"/>
                  </a:lnTo>
                  <a:lnTo>
                    <a:pt x="1472" y="4420"/>
                  </a:lnTo>
                  <a:lnTo>
                    <a:pt x="1448" y="4404"/>
                  </a:lnTo>
                  <a:lnTo>
                    <a:pt x="1436" y="4390"/>
                  </a:lnTo>
                  <a:lnTo>
                    <a:pt x="1430" y="4386"/>
                  </a:lnTo>
                  <a:lnTo>
                    <a:pt x="1422" y="4382"/>
                  </a:lnTo>
                  <a:lnTo>
                    <a:pt x="1376" y="4370"/>
                  </a:lnTo>
                  <a:lnTo>
                    <a:pt x="1368" y="4364"/>
                  </a:lnTo>
                  <a:lnTo>
                    <a:pt x="1354" y="4348"/>
                  </a:lnTo>
                  <a:lnTo>
                    <a:pt x="1342" y="4348"/>
                  </a:lnTo>
                  <a:lnTo>
                    <a:pt x="1306" y="4322"/>
                  </a:lnTo>
                  <a:lnTo>
                    <a:pt x="1290" y="4320"/>
                  </a:lnTo>
                  <a:lnTo>
                    <a:pt x="1272" y="4312"/>
                  </a:lnTo>
                  <a:lnTo>
                    <a:pt x="1266" y="4302"/>
                  </a:lnTo>
                  <a:lnTo>
                    <a:pt x="1262" y="4292"/>
                  </a:lnTo>
                  <a:lnTo>
                    <a:pt x="1254" y="4282"/>
                  </a:lnTo>
                  <a:lnTo>
                    <a:pt x="1242" y="4282"/>
                  </a:lnTo>
                  <a:lnTo>
                    <a:pt x="1236" y="4274"/>
                  </a:lnTo>
                  <a:lnTo>
                    <a:pt x="1224" y="4270"/>
                  </a:lnTo>
                  <a:lnTo>
                    <a:pt x="1206" y="4280"/>
                  </a:lnTo>
                  <a:lnTo>
                    <a:pt x="1202" y="4276"/>
                  </a:lnTo>
                  <a:lnTo>
                    <a:pt x="1194" y="4260"/>
                  </a:lnTo>
                  <a:lnTo>
                    <a:pt x="1188" y="4256"/>
                  </a:lnTo>
                  <a:lnTo>
                    <a:pt x="1180" y="4254"/>
                  </a:lnTo>
                  <a:lnTo>
                    <a:pt x="1172" y="4256"/>
                  </a:lnTo>
                  <a:lnTo>
                    <a:pt x="1150" y="4256"/>
                  </a:lnTo>
                  <a:lnTo>
                    <a:pt x="1140" y="4260"/>
                  </a:lnTo>
                  <a:lnTo>
                    <a:pt x="1128" y="4270"/>
                  </a:lnTo>
                  <a:lnTo>
                    <a:pt x="1120" y="4270"/>
                  </a:lnTo>
                  <a:lnTo>
                    <a:pt x="1114" y="4264"/>
                  </a:lnTo>
                  <a:lnTo>
                    <a:pt x="1110" y="4236"/>
                  </a:lnTo>
                  <a:lnTo>
                    <a:pt x="1094" y="4226"/>
                  </a:lnTo>
                  <a:lnTo>
                    <a:pt x="1082" y="4212"/>
                  </a:lnTo>
                  <a:lnTo>
                    <a:pt x="1078" y="4204"/>
                  </a:lnTo>
                  <a:lnTo>
                    <a:pt x="1062" y="4190"/>
                  </a:lnTo>
                  <a:lnTo>
                    <a:pt x="1060" y="4180"/>
                  </a:lnTo>
                  <a:lnTo>
                    <a:pt x="1060" y="4156"/>
                  </a:lnTo>
                  <a:lnTo>
                    <a:pt x="1048" y="4142"/>
                  </a:lnTo>
                  <a:lnTo>
                    <a:pt x="1046" y="4132"/>
                  </a:lnTo>
                  <a:lnTo>
                    <a:pt x="1042" y="4114"/>
                  </a:lnTo>
                  <a:lnTo>
                    <a:pt x="1044" y="4096"/>
                  </a:lnTo>
                  <a:lnTo>
                    <a:pt x="1018" y="4070"/>
                  </a:lnTo>
                  <a:lnTo>
                    <a:pt x="994" y="4052"/>
                  </a:lnTo>
                  <a:lnTo>
                    <a:pt x="986" y="4022"/>
                  </a:lnTo>
                  <a:lnTo>
                    <a:pt x="976" y="4004"/>
                  </a:lnTo>
                  <a:lnTo>
                    <a:pt x="976" y="3996"/>
                  </a:lnTo>
                  <a:lnTo>
                    <a:pt x="1002" y="3992"/>
                  </a:lnTo>
                  <a:lnTo>
                    <a:pt x="1006" y="3980"/>
                  </a:lnTo>
                  <a:lnTo>
                    <a:pt x="1010" y="3984"/>
                  </a:lnTo>
                  <a:lnTo>
                    <a:pt x="1018" y="4004"/>
                  </a:lnTo>
                  <a:lnTo>
                    <a:pt x="1028" y="4014"/>
                  </a:lnTo>
                  <a:lnTo>
                    <a:pt x="1036" y="4020"/>
                  </a:lnTo>
                  <a:lnTo>
                    <a:pt x="1054" y="4028"/>
                  </a:lnTo>
                  <a:lnTo>
                    <a:pt x="1060" y="4026"/>
                  </a:lnTo>
                  <a:lnTo>
                    <a:pt x="1064" y="4020"/>
                  </a:lnTo>
                  <a:lnTo>
                    <a:pt x="1074" y="4022"/>
                  </a:lnTo>
                  <a:lnTo>
                    <a:pt x="1072" y="4008"/>
                  </a:lnTo>
                  <a:lnTo>
                    <a:pt x="1080" y="4000"/>
                  </a:lnTo>
                  <a:lnTo>
                    <a:pt x="1084" y="3986"/>
                  </a:lnTo>
                  <a:lnTo>
                    <a:pt x="1088" y="3986"/>
                  </a:lnTo>
                  <a:lnTo>
                    <a:pt x="1100" y="3996"/>
                  </a:lnTo>
                  <a:lnTo>
                    <a:pt x="1106" y="3996"/>
                  </a:lnTo>
                  <a:lnTo>
                    <a:pt x="1118" y="3966"/>
                  </a:lnTo>
                  <a:lnTo>
                    <a:pt x="1116" y="3958"/>
                  </a:lnTo>
                  <a:lnTo>
                    <a:pt x="1104" y="3944"/>
                  </a:lnTo>
                  <a:lnTo>
                    <a:pt x="1082" y="3922"/>
                  </a:lnTo>
                  <a:lnTo>
                    <a:pt x="1076" y="3910"/>
                  </a:lnTo>
                  <a:lnTo>
                    <a:pt x="1078" y="3902"/>
                  </a:lnTo>
                  <a:lnTo>
                    <a:pt x="1074" y="3890"/>
                  </a:lnTo>
                  <a:lnTo>
                    <a:pt x="1044" y="3880"/>
                  </a:lnTo>
                  <a:lnTo>
                    <a:pt x="1034" y="3882"/>
                  </a:lnTo>
                  <a:lnTo>
                    <a:pt x="1028" y="3874"/>
                  </a:lnTo>
                  <a:lnTo>
                    <a:pt x="1002" y="3854"/>
                  </a:lnTo>
                  <a:lnTo>
                    <a:pt x="992" y="3816"/>
                  </a:lnTo>
                  <a:lnTo>
                    <a:pt x="1002" y="3812"/>
                  </a:lnTo>
                  <a:lnTo>
                    <a:pt x="994" y="3798"/>
                  </a:lnTo>
                  <a:lnTo>
                    <a:pt x="992" y="3788"/>
                  </a:lnTo>
                  <a:lnTo>
                    <a:pt x="994" y="3786"/>
                  </a:lnTo>
                  <a:lnTo>
                    <a:pt x="972" y="3766"/>
                  </a:lnTo>
                  <a:lnTo>
                    <a:pt x="970" y="3750"/>
                  </a:lnTo>
                  <a:lnTo>
                    <a:pt x="970" y="3748"/>
                  </a:lnTo>
                  <a:lnTo>
                    <a:pt x="994" y="3748"/>
                  </a:lnTo>
                  <a:lnTo>
                    <a:pt x="1000" y="3738"/>
                  </a:lnTo>
                  <a:lnTo>
                    <a:pt x="1028" y="3744"/>
                  </a:lnTo>
                  <a:lnTo>
                    <a:pt x="1034" y="3740"/>
                  </a:lnTo>
                  <a:lnTo>
                    <a:pt x="1042" y="3724"/>
                  </a:lnTo>
                  <a:lnTo>
                    <a:pt x="1044" y="3700"/>
                  </a:lnTo>
                  <a:lnTo>
                    <a:pt x="1036" y="3672"/>
                  </a:lnTo>
                  <a:lnTo>
                    <a:pt x="1058" y="3666"/>
                  </a:lnTo>
                  <a:lnTo>
                    <a:pt x="1060" y="3664"/>
                  </a:lnTo>
                  <a:lnTo>
                    <a:pt x="1054" y="3658"/>
                  </a:lnTo>
                  <a:lnTo>
                    <a:pt x="1052" y="3648"/>
                  </a:lnTo>
                  <a:lnTo>
                    <a:pt x="1060" y="3640"/>
                  </a:lnTo>
                  <a:lnTo>
                    <a:pt x="1058" y="3632"/>
                  </a:lnTo>
                  <a:lnTo>
                    <a:pt x="1064" y="3624"/>
                  </a:lnTo>
                  <a:lnTo>
                    <a:pt x="1078" y="3610"/>
                  </a:lnTo>
                  <a:lnTo>
                    <a:pt x="1074" y="3594"/>
                  </a:lnTo>
                  <a:lnTo>
                    <a:pt x="1082" y="3580"/>
                  </a:lnTo>
                  <a:lnTo>
                    <a:pt x="1072" y="3532"/>
                  </a:lnTo>
                  <a:lnTo>
                    <a:pt x="1076" y="3524"/>
                  </a:lnTo>
                  <a:lnTo>
                    <a:pt x="1070" y="3502"/>
                  </a:lnTo>
                  <a:lnTo>
                    <a:pt x="1080" y="3486"/>
                  </a:lnTo>
                  <a:lnTo>
                    <a:pt x="1076" y="3476"/>
                  </a:lnTo>
                  <a:lnTo>
                    <a:pt x="1068" y="3470"/>
                  </a:lnTo>
                  <a:lnTo>
                    <a:pt x="1058" y="3470"/>
                  </a:lnTo>
                  <a:lnTo>
                    <a:pt x="1046" y="3492"/>
                  </a:lnTo>
                  <a:lnTo>
                    <a:pt x="1042" y="3494"/>
                  </a:lnTo>
                  <a:lnTo>
                    <a:pt x="1030" y="3484"/>
                  </a:lnTo>
                  <a:lnTo>
                    <a:pt x="1018" y="3456"/>
                  </a:lnTo>
                  <a:lnTo>
                    <a:pt x="1008" y="3466"/>
                  </a:lnTo>
                  <a:lnTo>
                    <a:pt x="1000" y="3466"/>
                  </a:lnTo>
                  <a:lnTo>
                    <a:pt x="990" y="3454"/>
                  </a:lnTo>
                  <a:lnTo>
                    <a:pt x="984" y="3454"/>
                  </a:lnTo>
                  <a:lnTo>
                    <a:pt x="976" y="3450"/>
                  </a:lnTo>
                  <a:lnTo>
                    <a:pt x="966" y="3424"/>
                  </a:lnTo>
                  <a:lnTo>
                    <a:pt x="956" y="3422"/>
                  </a:lnTo>
                  <a:lnTo>
                    <a:pt x="952" y="3416"/>
                  </a:lnTo>
                  <a:lnTo>
                    <a:pt x="944" y="3414"/>
                  </a:lnTo>
                  <a:lnTo>
                    <a:pt x="936" y="3414"/>
                  </a:lnTo>
                  <a:lnTo>
                    <a:pt x="924" y="3402"/>
                  </a:lnTo>
                  <a:lnTo>
                    <a:pt x="916" y="3398"/>
                  </a:lnTo>
                  <a:lnTo>
                    <a:pt x="908" y="3400"/>
                  </a:lnTo>
                  <a:lnTo>
                    <a:pt x="900" y="3406"/>
                  </a:lnTo>
                  <a:lnTo>
                    <a:pt x="886" y="3408"/>
                  </a:lnTo>
                  <a:lnTo>
                    <a:pt x="876" y="3416"/>
                  </a:lnTo>
                  <a:lnTo>
                    <a:pt x="842" y="3418"/>
                  </a:lnTo>
                  <a:lnTo>
                    <a:pt x="826" y="3440"/>
                  </a:lnTo>
                  <a:lnTo>
                    <a:pt x="802" y="3454"/>
                  </a:lnTo>
                  <a:lnTo>
                    <a:pt x="790" y="3468"/>
                  </a:lnTo>
                  <a:lnTo>
                    <a:pt x="784" y="3484"/>
                  </a:lnTo>
                  <a:lnTo>
                    <a:pt x="770" y="3486"/>
                  </a:lnTo>
                  <a:lnTo>
                    <a:pt x="766" y="3498"/>
                  </a:lnTo>
                  <a:lnTo>
                    <a:pt x="748" y="3492"/>
                  </a:lnTo>
                  <a:lnTo>
                    <a:pt x="736" y="3500"/>
                  </a:lnTo>
                  <a:lnTo>
                    <a:pt x="726" y="3500"/>
                  </a:lnTo>
                  <a:lnTo>
                    <a:pt x="700" y="3500"/>
                  </a:lnTo>
                  <a:lnTo>
                    <a:pt x="678" y="3488"/>
                  </a:lnTo>
                  <a:lnTo>
                    <a:pt x="664" y="3490"/>
                  </a:lnTo>
                  <a:lnTo>
                    <a:pt x="642" y="3478"/>
                  </a:lnTo>
                  <a:lnTo>
                    <a:pt x="596" y="3464"/>
                  </a:lnTo>
                  <a:lnTo>
                    <a:pt x="568" y="3450"/>
                  </a:lnTo>
                  <a:lnTo>
                    <a:pt x="564" y="3434"/>
                  </a:lnTo>
                  <a:lnTo>
                    <a:pt x="558" y="3426"/>
                  </a:lnTo>
                  <a:lnTo>
                    <a:pt x="550" y="3428"/>
                  </a:lnTo>
                  <a:lnTo>
                    <a:pt x="542" y="3438"/>
                  </a:lnTo>
                  <a:lnTo>
                    <a:pt x="534" y="3438"/>
                  </a:lnTo>
                  <a:lnTo>
                    <a:pt x="522" y="3444"/>
                  </a:lnTo>
                  <a:lnTo>
                    <a:pt x="514" y="3442"/>
                  </a:lnTo>
                  <a:lnTo>
                    <a:pt x="490" y="3414"/>
                  </a:lnTo>
                  <a:lnTo>
                    <a:pt x="472" y="3408"/>
                  </a:lnTo>
                  <a:lnTo>
                    <a:pt x="464" y="3400"/>
                  </a:lnTo>
                  <a:lnTo>
                    <a:pt x="464" y="3394"/>
                  </a:lnTo>
                  <a:lnTo>
                    <a:pt x="474" y="3390"/>
                  </a:lnTo>
                  <a:lnTo>
                    <a:pt x="474" y="3382"/>
                  </a:lnTo>
                  <a:lnTo>
                    <a:pt x="468" y="3368"/>
                  </a:lnTo>
                  <a:lnTo>
                    <a:pt x="460" y="3364"/>
                  </a:lnTo>
                  <a:lnTo>
                    <a:pt x="460" y="3346"/>
                  </a:lnTo>
                  <a:lnTo>
                    <a:pt x="456" y="3330"/>
                  </a:lnTo>
                  <a:lnTo>
                    <a:pt x="444" y="3318"/>
                  </a:lnTo>
                  <a:lnTo>
                    <a:pt x="426" y="3302"/>
                  </a:lnTo>
                  <a:lnTo>
                    <a:pt x="394" y="3282"/>
                  </a:lnTo>
                  <a:lnTo>
                    <a:pt x="384" y="3286"/>
                  </a:lnTo>
                  <a:lnTo>
                    <a:pt x="372" y="3298"/>
                  </a:lnTo>
                  <a:lnTo>
                    <a:pt x="368" y="3294"/>
                  </a:lnTo>
                  <a:lnTo>
                    <a:pt x="360" y="3262"/>
                  </a:lnTo>
                  <a:lnTo>
                    <a:pt x="350" y="3256"/>
                  </a:lnTo>
                  <a:lnTo>
                    <a:pt x="336" y="3262"/>
                  </a:lnTo>
                  <a:lnTo>
                    <a:pt x="320" y="3254"/>
                  </a:lnTo>
                  <a:lnTo>
                    <a:pt x="312" y="3254"/>
                  </a:lnTo>
                  <a:lnTo>
                    <a:pt x="282" y="3262"/>
                  </a:lnTo>
                  <a:lnTo>
                    <a:pt x="254" y="3254"/>
                  </a:lnTo>
                  <a:lnTo>
                    <a:pt x="254" y="3248"/>
                  </a:lnTo>
                  <a:lnTo>
                    <a:pt x="246" y="3238"/>
                  </a:lnTo>
                  <a:lnTo>
                    <a:pt x="230" y="3232"/>
                  </a:lnTo>
                  <a:lnTo>
                    <a:pt x="222" y="3224"/>
                  </a:lnTo>
                  <a:lnTo>
                    <a:pt x="236" y="3204"/>
                  </a:lnTo>
                  <a:lnTo>
                    <a:pt x="244" y="3200"/>
                  </a:lnTo>
                  <a:lnTo>
                    <a:pt x="256" y="3206"/>
                  </a:lnTo>
                  <a:lnTo>
                    <a:pt x="264" y="3204"/>
                  </a:lnTo>
                  <a:lnTo>
                    <a:pt x="256" y="3206"/>
                  </a:lnTo>
                  <a:lnTo>
                    <a:pt x="278" y="3208"/>
                  </a:lnTo>
                  <a:lnTo>
                    <a:pt x="284" y="3206"/>
                  </a:lnTo>
                  <a:lnTo>
                    <a:pt x="256" y="3118"/>
                  </a:lnTo>
                  <a:lnTo>
                    <a:pt x="214" y="3060"/>
                  </a:lnTo>
                  <a:lnTo>
                    <a:pt x="198" y="3010"/>
                  </a:lnTo>
                  <a:lnTo>
                    <a:pt x="172" y="2984"/>
                  </a:lnTo>
                  <a:lnTo>
                    <a:pt x="130" y="2982"/>
                  </a:lnTo>
                  <a:lnTo>
                    <a:pt x="86" y="2998"/>
                  </a:lnTo>
                  <a:lnTo>
                    <a:pt x="56" y="2984"/>
                  </a:lnTo>
                  <a:lnTo>
                    <a:pt x="30" y="2940"/>
                  </a:lnTo>
                  <a:lnTo>
                    <a:pt x="12" y="2892"/>
                  </a:lnTo>
                  <a:lnTo>
                    <a:pt x="12" y="2810"/>
                  </a:lnTo>
                  <a:lnTo>
                    <a:pt x="0" y="2782"/>
                  </a:lnTo>
                  <a:lnTo>
                    <a:pt x="6" y="2736"/>
                  </a:lnTo>
                  <a:lnTo>
                    <a:pt x="68" y="2700"/>
                  </a:lnTo>
                  <a:lnTo>
                    <a:pt x="76" y="2686"/>
                  </a:lnTo>
                  <a:lnTo>
                    <a:pt x="92" y="2686"/>
                  </a:lnTo>
                  <a:lnTo>
                    <a:pt x="94" y="2650"/>
                  </a:lnTo>
                  <a:lnTo>
                    <a:pt x="122" y="2656"/>
                  </a:lnTo>
                  <a:lnTo>
                    <a:pt x="150" y="2640"/>
                  </a:lnTo>
                  <a:lnTo>
                    <a:pt x="176" y="2644"/>
                  </a:lnTo>
                  <a:lnTo>
                    <a:pt x="200" y="2672"/>
                  </a:lnTo>
                  <a:lnTo>
                    <a:pt x="226" y="2674"/>
                  </a:lnTo>
                  <a:lnTo>
                    <a:pt x="262" y="2666"/>
                  </a:lnTo>
                  <a:lnTo>
                    <a:pt x="284" y="2666"/>
                  </a:lnTo>
                  <a:lnTo>
                    <a:pt x="308" y="2640"/>
                  </a:lnTo>
                  <a:lnTo>
                    <a:pt x="306" y="2598"/>
                  </a:lnTo>
                  <a:lnTo>
                    <a:pt x="320" y="2570"/>
                  </a:lnTo>
                  <a:lnTo>
                    <a:pt x="352" y="2556"/>
                  </a:lnTo>
                  <a:lnTo>
                    <a:pt x="394" y="2552"/>
                  </a:lnTo>
                  <a:lnTo>
                    <a:pt x="454" y="2538"/>
                  </a:lnTo>
                  <a:lnTo>
                    <a:pt x="478" y="2524"/>
                  </a:lnTo>
                  <a:lnTo>
                    <a:pt x="484" y="2492"/>
                  </a:lnTo>
                  <a:lnTo>
                    <a:pt x="506" y="2456"/>
                  </a:lnTo>
                  <a:lnTo>
                    <a:pt x="572" y="2408"/>
                  </a:lnTo>
                  <a:lnTo>
                    <a:pt x="646" y="2374"/>
                  </a:lnTo>
                  <a:lnTo>
                    <a:pt x="662" y="2356"/>
                  </a:lnTo>
                  <a:lnTo>
                    <a:pt x="666" y="2324"/>
                  </a:lnTo>
                  <a:lnTo>
                    <a:pt x="640" y="2258"/>
                  </a:lnTo>
                  <a:lnTo>
                    <a:pt x="636" y="2232"/>
                  </a:lnTo>
                  <a:lnTo>
                    <a:pt x="644" y="2210"/>
                  </a:lnTo>
                  <a:lnTo>
                    <a:pt x="630" y="2180"/>
                  </a:lnTo>
                  <a:lnTo>
                    <a:pt x="652" y="2158"/>
                  </a:lnTo>
                  <a:lnTo>
                    <a:pt x="638" y="2124"/>
                  </a:lnTo>
                  <a:lnTo>
                    <a:pt x="594" y="2062"/>
                  </a:lnTo>
                  <a:lnTo>
                    <a:pt x="568" y="2034"/>
                  </a:lnTo>
                  <a:lnTo>
                    <a:pt x="546" y="2004"/>
                  </a:lnTo>
                  <a:lnTo>
                    <a:pt x="502" y="1920"/>
                  </a:lnTo>
                  <a:lnTo>
                    <a:pt x="472" y="1888"/>
                  </a:lnTo>
                  <a:lnTo>
                    <a:pt x="446" y="1870"/>
                  </a:lnTo>
                  <a:lnTo>
                    <a:pt x="460" y="1854"/>
                  </a:lnTo>
                  <a:lnTo>
                    <a:pt x="498" y="1834"/>
                  </a:lnTo>
                  <a:lnTo>
                    <a:pt x="538" y="1828"/>
                  </a:lnTo>
                  <a:lnTo>
                    <a:pt x="578" y="1808"/>
                  </a:lnTo>
                  <a:lnTo>
                    <a:pt x="698" y="1794"/>
                  </a:lnTo>
                  <a:lnTo>
                    <a:pt x="710" y="1784"/>
                  </a:lnTo>
                  <a:lnTo>
                    <a:pt x="680" y="1746"/>
                  </a:lnTo>
                  <a:lnTo>
                    <a:pt x="660" y="1712"/>
                  </a:lnTo>
                  <a:lnTo>
                    <a:pt x="650" y="1668"/>
                  </a:lnTo>
                  <a:lnTo>
                    <a:pt x="642" y="1616"/>
                  </a:lnTo>
                  <a:lnTo>
                    <a:pt x="644" y="1556"/>
                  </a:lnTo>
                  <a:lnTo>
                    <a:pt x="636" y="1500"/>
                  </a:lnTo>
                  <a:lnTo>
                    <a:pt x="640" y="1452"/>
                  </a:lnTo>
                  <a:lnTo>
                    <a:pt x="692" y="1450"/>
                  </a:lnTo>
                  <a:lnTo>
                    <a:pt x="720" y="1466"/>
                  </a:lnTo>
                  <a:lnTo>
                    <a:pt x="766" y="1476"/>
                  </a:lnTo>
                  <a:lnTo>
                    <a:pt x="838" y="1462"/>
                  </a:lnTo>
                  <a:lnTo>
                    <a:pt x="868" y="1482"/>
                  </a:lnTo>
                  <a:lnTo>
                    <a:pt x="894" y="1496"/>
                  </a:lnTo>
                  <a:lnTo>
                    <a:pt x="914" y="1468"/>
                  </a:lnTo>
                  <a:lnTo>
                    <a:pt x="958" y="1450"/>
                  </a:lnTo>
                  <a:lnTo>
                    <a:pt x="928" y="1370"/>
                  </a:lnTo>
                  <a:lnTo>
                    <a:pt x="900" y="1324"/>
                  </a:lnTo>
                  <a:lnTo>
                    <a:pt x="886" y="1272"/>
                  </a:lnTo>
                  <a:lnTo>
                    <a:pt x="888" y="1226"/>
                  </a:lnTo>
                  <a:lnTo>
                    <a:pt x="924" y="1226"/>
                  </a:lnTo>
                  <a:lnTo>
                    <a:pt x="962" y="1212"/>
                  </a:lnTo>
                  <a:lnTo>
                    <a:pt x="980" y="1176"/>
                  </a:lnTo>
                  <a:lnTo>
                    <a:pt x="982" y="1134"/>
                  </a:lnTo>
                  <a:lnTo>
                    <a:pt x="1042" y="1146"/>
                  </a:lnTo>
                  <a:lnTo>
                    <a:pt x="1060" y="1112"/>
                  </a:lnTo>
                  <a:lnTo>
                    <a:pt x="1070" y="1110"/>
                  </a:lnTo>
                  <a:lnTo>
                    <a:pt x="1074" y="1118"/>
                  </a:lnTo>
                  <a:lnTo>
                    <a:pt x="1094" y="1140"/>
                  </a:lnTo>
                  <a:lnTo>
                    <a:pt x="1142" y="1190"/>
                  </a:lnTo>
                  <a:lnTo>
                    <a:pt x="1232" y="1236"/>
                  </a:lnTo>
                  <a:lnTo>
                    <a:pt x="1274" y="1278"/>
                  </a:lnTo>
                  <a:lnTo>
                    <a:pt x="1318" y="1298"/>
                  </a:lnTo>
                  <a:lnTo>
                    <a:pt x="1324" y="1274"/>
                  </a:lnTo>
                  <a:lnTo>
                    <a:pt x="1362" y="1278"/>
                  </a:lnTo>
                  <a:lnTo>
                    <a:pt x="1400" y="1294"/>
                  </a:lnTo>
                  <a:lnTo>
                    <a:pt x="1440" y="1296"/>
                  </a:lnTo>
                  <a:lnTo>
                    <a:pt x="1476" y="1330"/>
                  </a:lnTo>
                  <a:lnTo>
                    <a:pt x="1516" y="1372"/>
                  </a:lnTo>
                  <a:lnTo>
                    <a:pt x="1554" y="1410"/>
                  </a:lnTo>
                  <a:lnTo>
                    <a:pt x="1626" y="1498"/>
                  </a:lnTo>
                  <a:lnTo>
                    <a:pt x="1656" y="1558"/>
                  </a:lnTo>
                  <a:lnTo>
                    <a:pt x="1684" y="1600"/>
                  </a:lnTo>
                  <a:lnTo>
                    <a:pt x="1702" y="1642"/>
                  </a:lnTo>
                  <a:lnTo>
                    <a:pt x="1702" y="1680"/>
                  </a:lnTo>
                  <a:lnTo>
                    <a:pt x="1714" y="1712"/>
                  </a:lnTo>
                  <a:lnTo>
                    <a:pt x="1740" y="1726"/>
                  </a:lnTo>
                  <a:lnTo>
                    <a:pt x="1780" y="1736"/>
                  </a:lnTo>
                  <a:lnTo>
                    <a:pt x="1852" y="1742"/>
                  </a:lnTo>
                  <a:lnTo>
                    <a:pt x="1936" y="1760"/>
                  </a:lnTo>
                  <a:lnTo>
                    <a:pt x="1960" y="1760"/>
                  </a:lnTo>
                  <a:lnTo>
                    <a:pt x="1984" y="1748"/>
                  </a:lnTo>
                  <a:lnTo>
                    <a:pt x="2010" y="1744"/>
                  </a:lnTo>
                  <a:lnTo>
                    <a:pt x="2044" y="1756"/>
                  </a:lnTo>
                  <a:lnTo>
                    <a:pt x="2120" y="1774"/>
                  </a:lnTo>
                  <a:lnTo>
                    <a:pt x="2162" y="1794"/>
                  </a:lnTo>
                  <a:lnTo>
                    <a:pt x="2210" y="1810"/>
                  </a:lnTo>
                  <a:lnTo>
                    <a:pt x="2288" y="1826"/>
                  </a:lnTo>
                  <a:lnTo>
                    <a:pt x="2326" y="1844"/>
                  </a:lnTo>
                  <a:lnTo>
                    <a:pt x="2354" y="1846"/>
                  </a:lnTo>
                  <a:lnTo>
                    <a:pt x="2394" y="1876"/>
                  </a:lnTo>
                  <a:lnTo>
                    <a:pt x="2438" y="1914"/>
                  </a:lnTo>
                  <a:lnTo>
                    <a:pt x="2476" y="1958"/>
                  </a:lnTo>
                  <a:lnTo>
                    <a:pt x="2522" y="2002"/>
                  </a:lnTo>
                  <a:lnTo>
                    <a:pt x="2566" y="2032"/>
                  </a:lnTo>
                  <a:lnTo>
                    <a:pt x="2614" y="2068"/>
                  </a:lnTo>
                  <a:lnTo>
                    <a:pt x="2664" y="2096"/>
                  </a:lnTo>
                  <a:lnTo>
                    <a:pt x="2702" y="2110"/>
                  </a:lnTo>
                  <a:lnTo>
                    <a:pt x="2746" y="2106"/>
                  </a:lnTo>
                  <a:lnTo>
                    <a:pt x="3068" y="2062"/>
                  </a:lnTo>
                  <a:lnTo>
                    <a:pt x="3104" y="2050"/>
                  </a:lnTo>
                  <a:lnTo>
                    <a:pt x="3146" y="2054"/>
                  </a:lnTo>
                  <a:lnTo>
                    <a:pt x="3234" y="2074"/>
                  </a:lnTo>
                  <a:lnTo>
                    <a:pt x="3260" y="2084"/>
                  </a:lnTo>
                  <a:lnTo>
                    <a:pt x="3292" y="2104"/>
                  </a:lnTo>
                  <a:lnTo>
                    <a:pt x="3342" y="2134"/>
                  </a:lnTo>
                  <a:lnTo>
                    <a:pt x="3404" y="2156"/>
                  </a:lnTo>
                  <a:lnTo>
                    <a:pt x="3490" y="2172"/>
                  </a:lnTo>
                  <a:lnTo>
                    <a:pt x="3544" y="2192"/>
                  </a:lnTo>
                  <a:lnTo>
                    <a:pt x="3602" y="2206"/>
                  </a:lnTo>
                  <a:lnTo>
                    <a:pt x="3666" y="2206"/>
                  </a:lnTo>
                  <a:lnTo>
                    <a:pt x="3682" y="2210"/>
                  </a:lnTo>
                  <a:lnTo>
                    <a:pt x="3716" y="2228"/>
                  </a:lnTo>
                  <a:lnTo>
                    <a:pt x="3748" y="2236"/>
                  </a:lnTo>
                  <a:lnTo>
                    <a:pt x="3768" y="2230"/>
                  </a:lnTo>
                  <a:lnTo>
                    <a:pt x="3794" y="2192"/>
                  </a:lnTo>
                  <a:lnTo>
                    <a:pt x="3846" y="2162"/>
                  </a:lnTo>
                  <a:lnTo>
                    <a:pt x="3872" y="2154"/>
                  </a:lnTo>
                  <a:lnTo>
                    <a:pt x="3894" y="2142"/>
                  </a:lnTo>
                  <a:lnTo>
                    <a:pt x="3900" y="2118"/>
                  </a:lnTo>
                  <a:lnTo>
                    <a:pt x="3920" y="2108"/>
                  </a:lnTo>
                  <a:lnTo>
                    <a:pt x="3996" y="2088"/>
                  </a:lnTo>
                  <a:lnTo>
                    <a:pt x="4024" y="2064"/>
                  </a:lnTo>
                  <a:lnTo>
                    <a:pt x="4084" y="2064"/>
                  </a:lnTo>
                  <a:lnTo>
                    <a:pt x="4112" y="2048"/>
                  </a:lnTo>
                  <a:lnTo>
                    <a:pt x="4184" y="2062"/>
                  </a:lnTo>
                  <a:lnTo>
                    <a:pt x="4192" y="2054"/>
                  </a:lnTo>
                  <a:lnTo>
                    <a:pt x="4252" y="2046"/>
                  </a:lnTo>
                  <a:lnTo>
                    <a:pt x="4304" y="2014"/>
                  </a:lnTo>
                  <a:lnTo>
                    <a:pt x="4324" y="1990"/>
                  </a:lnTo>
                  <a:lnTo>
                    <a:pt x="4350" y="1954"/>
                  </a:lnTo>
                  <a:lnTo>
                    <a:pt x="4352" y="1918"/>
                  </a:lnTo>
                  <a:lnTo>
                    <a:pt x="4414" y="1792"/>
                  </a:lnTo>
                  <a:lnTo>
                    <a:pt x="4392" y="1762"/>
                  </a:lnTo>
                  <a:lnTo>
                    <a:pt x="4306" y="1700"/>
                  </a:lnTo>
                  <a:lnTo>
                    <a:pt x="4294" y="1666"/>
                  </a:lnTo>
                  <a:lnTo>
                    <a:pt x="4296" y="1618"/>
                  </a:lnTo>
                  <a:lnTo>
                    <a:pt x="4292" y="1580"/>
                  </a:lnTo>
                  <a:lnTo>
                    <a:pt x="4330" y="1560"/>
                  </a:lnTo>
                  <a:lnTo>
                    <a:pt x="4370" y="1570"/>
                  </a:lnTo>
                  <a:lnTo>
                    <a:pt x="4414" y="1596"/>
                  </a:lnTo>
                  <a:lnTo>
                    <a:pt x="4464" y="1602"/>
                  </a:lnTo>
                  <a:lnTo>
                    <a:pt x="4504" y="1598"/>
                  </a:lnTo>
                  <a:lnTo>
                    <a:pt x="4540" y="1556"/>
                  </a:lnTo>
                  <a:lnTo>
                    <a:pt x="4552" y="1504"/>
                  </a:lnTo>
                  <a:lnTo>
                    <a:pt x="4568" y="1454"/>
                  </a:lnTo>
                  <a:lnTo>
                    <a:pt x="4590" y="1450"/>
                  </a:lnTo>
                  <a:lnTo>
                    <a:pt x="4616" y="1450"/>
                  </a:lnTo>
                  <a:lnTo>
                    <a:pt x="4630" y="1444"/>
                  </a:lnTo>
                  <a:lnTo>
                    <a:pt x="4652" y="1414"/>
                  </a:lnTo>
                  <a:lnTo>
                    <a:pt x="4682" y="1284"/>
                  </a:lnTo>
                  <a:lnTo>
                    <a:pt x="4694" y="1246"/>
                  </a:lnTo>
                  <a:lnTo>
                    <a:pt x="4734" y="1234"/>
                  </a:lnTo>
                  <a:lnTo>
                    <a:pt x="4790" y="1232"/>
                  </a:lnTo>
                  <a:lnTo>
                    <a:pt x="4836" y="1220"/>
                  </a:lnTo>
                  <a:lnTo>
                    <a:pt x="4880" y="1202"/>
                  </a:lnTo>
                  <a:lnTo>
                    <a:pt x="4930" y="1212"/>
                  </a:lnTo>
                  <a:lnTo>
                    <a:pt x="4970" y="1210"/>
                  </a:lnTo>
                  <a:lnTo>
                    <a:pt x="4982" y="1198"/>
                  </a:lnTo>
                  <a:lnTo>
                    <a:pt x="4960" y="1170"/>
                  </a:lnTo>
                  <a:lnTo>
                    <a:pt x="4922" y="1154"/>
                  </a:lnTo>
                  <a:lnTo>
                    <a:pt x="4908" y="1136"/>
                  </a:lnTo>
                  <a:lnTo>
                    <a:pt x="4892" y="1106"/>
                  </a:lnTo>
                  <a:lnTo>
                    <a:pt x="4860" y="1078"/>
                  </a:lnTo>
                  <a:lnTo>
                    <a:pt x="4764" y="1034"/>
                  </a:lnTo>
                  <a:lnTo>
                    <a:pt x="4716" y="1004"/>
                  </a:lnTo>
                  <a:lnTo>
                    <a:pt x="4684" y="978"/>
                  </a:lnTo>
                  <a:lnTo>
                    <a:pt x="4656" y="1028"/>
                  </a:lnTo>
                  <a:lnTo>
                    <a:pt x="4634" y="1058"/>
                  </a:lnTo>
                  <a:lnTo>
                    <a:pt x="4594" y="1078"/>
                  </a:lnTo>
                  <a:lnTo>
                    <a:pt x="4540" y="1086"/>
                  </a:lnTo>
                  <a:lnTo>
                    <a:pt x="4444" y="1076"/>
                  </a:lnTo>
                  <a:lnTo>
                    <a:pt x="4406" y="1046"/>
                  </a:lnTo>
                  <a:lnTo>
                    <a:pt x="4370" y="1004"/>
                  </a:lnTo>
                  <a:lnTo>
                    <a:pt x="4340" y="958"/>
                  </a:lnTo>
                  <a:lnTo>
                    <a:pt x="4334" y="920"/>
                  </a:lnTo>
                  <a:lnTo>
                    <a:pt x="4312" y="880"/>
                  </a:lnTo>
                  <a:lnTo>
                    <a:pt x="4282" y="844"/>
                  </a:lnTo>
                  <a:lnTo>
                    <a:pt x="4260" y="814"/>
                  </a:lnTo>
                  <a:lnTo>
                    <a:pt x="4256" y="796"/>
                  </a:lnTo>
                  <a:lnTo>
                    <a:pt x="4260" y="762"/>
                  </a:lnTo>
                  <a:lnTo>
                    <a:pt x="4250" y="700"/>
                  </a:lnTo>
                  <a:lnTo>
                    <a:pt x="4258" y="682"/>
                  </a:lnTo>
                  <a:lnTo>
                    <a:pt x="4252" y="674"/>
                  </a:lnTo>
                  <a:lnTo>
                    <a:pt x="4276" y="676"/>
                  </a:lnTo>
                  <a:lnTo>
                    <a:pt x="4318" y="692"/>
                  </a:lnTo>
                  <a:lnTo>
                    <a:pt x="4398" y="706"/>
                  </a:lnTo>
                  <a:lnTo>
                    <a:pt x="4464" y="726"/>
                  </a:lnTo>
                  <a:lnTo>
                    <a:pt x="4486" y="718"/>
                  </a:lnTo>
                  <a:lnTo>
                    <a:pt x="4500" y="694"/>
                  </a:lnTo>
                  <a:lnTo>
                    <a:pt x="4558" y="620"/>
                  </a:lnTo>
                  <a:lnTo>
                    <a:pt x="4550" y="606"/>
                  </a:lnTo>
                  <a:lnTo>
                    <a:pt x="4528" y="582"/>
                  </a:lnTo>
                  <a:lnTo>
                    <a:pt x="4518" y="556"/>
                  </a:lnTo>
                  <a:lnTo>
                    <a:pt x="4518" y="528"/>
                  </a:lnTo>
                  <a:lnTo>
                    <a:pt x="4516" y="504"/>
                  </a:lnTo>
                  <a:lnTo>
                    <a:pt x="4490" y="446"/>
                  </a:lnTo>
                  <a:lnTo>
                    <a:pt x="4468" y="402"/>
                  </a:lnTo>
                  <a:lnTo>
                    <a:pt x="4456" y="366"/>
                  </a:lnTo>
                  <a:lnTo>
                    <a:pt x="4478" y="342"/>
                  </a:lnTo>
                  <a:lnTo>
                    <a:pt x="4488" y="286"/>
                  </a:lnTo>
                  <a:lnTo>
                    <a:pt x="4480" y="276"/>
                  </a:lnTo>
                  <a:lnTo>
                    <a:pt x="4456" y="258"/>
                  </a:lnTo>
                  <a:lnTo>
                    <a:pt x="4418" y="204"/>
                  </a:lnTo>
                  <a:lnTo>
                    <a:pt x="4402" y="200"/>
                  </a:lnTo>
                  <a:lnTo>
                    <a:pt x="4382" y="202"/>
                  </a:lnTo>
                  <a:lnTo>
                    <a:pt x="4350" y="216"/>
                  </a:lnTo>
                  <a:lnTo>
                    <a:pt x="4336" y="206"/>
                  </a:lnTo>
                  <a:lnTo>
                    <a:pt x="4326" y="180"/>
                  </a:lnTo>
                  <a:lnTo>
                    <a:pt x="4340" y="132"/>
                  </a:lnTo>
                  <a:lnTo>
                    <a:pt x="4338" y="108"/>
                  </a:lnTo>
                  <a:lnTo>
                    <a:pt x="4350" y="82"/>
                  </a:lnTo>
                  <a:lnTo>
                    <a:pt x="4408" y="62"/>
                  </a:lnTo>
                  <a:lnTo>
                    <a:pt x="4468" y="28"/>
                  </a:lnTo>
                  <a:lnTo>
                    <a:pt x="4518" y="24"/>
                  </a:lnTo>
                  <a:lnTo>
                    <a:pt x="4576" y="4"/>
                  </a:lnTo>
                  <a:lnTo>
                    <a:pt x="4600" y="0"/>
                  </a:lnTo>
                  <a:lnTo>
                    <a:pt x="4650" y="14"/>
                  </a:lnTo>
                  <a:lnTo>
                    <a:pt x="4702" y="32"/>
                  </a:lnTo>
                  <a:lnTo>
                    <a:pt x="4740" y="52"/>
                  </a:lnTo>
                  <a:lnTo>
                    <a:pt x="4778" y="56"/>
                  </a:lnTo>
                  <a:lnTo>
                    <a:pt x="4810" y="46"/>
                  </a:lnTo>
                  <a:lnTo>
                    <a:pt x="4848" y="50"/>
                  </a:lnTo>
                  <a:lnTo>
                    <a:pt x="4886" y="58"/>
                  </a:lnTo>
                  <a:lnTo>
                    <a:pt x="4920" y="82"/>
                  </a:lnTo>
                  <a:lnTo>
                    <a:pt x="4974" y="114"/>
                  </a:lnTo>
                  <a:lnTo>
                    <a:pt x="4992" y="136"/>
                  </a:lnTo>
                  <a:lnTo>
                    <a:pt x="5020" y="150"/>
                  </a:lnTo>
                  <a:lnTo>
                    <a:pt x="5048" y="160"/>
                  </a:lnTo>
                  <a:lnTo>
                    <a:pt x="5064" y="174"/>
                  </a:lnTo>
                  <a:lnTo>
                    <a:pt x="5058" y="164"/>
                  </a:lnTo>
                  <a:lnTo>
                    <a:pt x="5084" y="190"/>
                  </a:lnTo>
                  <a:lnTo>
                    <a:pt x="5116" y="216"/>
                  </a:lnTo>
                  <a:lnTo>
                    <a:pt x="5152" y="256"/>
                  </a:lnTo>
                  <a:lnTo>
                    <a:pt x="5196" y="288"/>
                  </a:lnTo>
                  <a:lnTo>
                    <a:pt x="5232" y="320"/>
                  </a:lnTo>
                  <a:lnTo>
                    <a:pt x="5336" y="392"/>
                  </a:lnTo>
                  <a:lnTo>
                    <a:pt x="5412" y="474"/>
                  </a:lnTo>
                  <a:lnTo>
                    <a:pt x="5458" y="508"/>
                  </a:lnTo>
                  <a:lnTo>
                    <a:pt x="5464" y="518"/>
                  </a:lnTo>
                  <a:lnTo>
                    <a:pt x="5468" y="518"/>
                  </a:lnTo>
                  <a:lnTo>
                    <a:pt x="5502" y="556"/>
                  </a:lnTo>
                  <a:lnTo>
                    <a:pt x="5536" y="600"/>
                  </a:lnTo>
                  <a:lnTo>
                    <a:pt x="5576" y="618"/>
                  </a:lnTo>
                  <a:lnTo>
                    <a:pt x="5626" y="618"/>
                  </a:lnTo>
                  <a:lnTo>
                    <a:pt x="5656" y="598"/>
                  </a:lnTo>
                  <a:lnTo>
                    <a:pt x="5702" y="608"/>
                  </a:lnTo>
                  <a:lnTo>
                    <a:pt x="5744" y="610"/>
                  </a:lnTo>
                  <a:lnTo>
                    <a:pt x="5792" y="622"/>
                  </a:lnTo>
                  <a:lnTo>
                    <a:pt x="5902" y="674"/>
                  </a:lnTo>
                  <a:lnTo>
                    <a:pt x="5944" y="686"/>
                  </a:lnTo>
                  <a:lnTo>
                    <a:pt x="5968" y="684"/>
                  </a:lnTo>
                  <a:lnTo>
                    <a:pt x="5994" y="700"/>
                  </a:lnTo>
                  <a:lnTo>
                    <a:pt x="6000" y="708"/>
                  </a:lnTo>
                  <a:lnTo>
                    <a:pt x="6002" y="708"/>
                  </a:lnTo>
                  <a:lnTo>
                    <a:pt x="6028" y="740"/>
                  </a:lnTo>
                  <a:lnTo>
                    <a:pt x="6060" y="758"/>
                  </a:lnTo>
                  <a:lnTo>
                    <a:pt x="6080" y="792"/>
                  </a:lnTo>
                  <a:lnTo>
                    <a:pt x="6112" y="828"/>
                  </a:lnTo>
                  <a:lnTo>
                    <a:pt x="6158" y="858"/>
                  </a:lnTo>
                  <a:lnTo>
                    <a:pt x="6192" y="886"/>
                  </a:lnTo>
                  <a:lnTo>
                    <a:pt x="6228" y="880"/>
                  </a:lnTo>
                  <a:lnTo>
                    <a:pt x="6276" y="886"/>
                  </a:lnTo>
                  <a:lnTo>
                    <a:pt x="6308" y="878"/>
                  </a:lnTo>
                  <a:lnTo>
                    <a:pt x="6350" y="838"/>
                  </a:lnTo>
                  <a:lnTo>
                    <a:pt x="6380" y="784"/>
                  </a:lnTo>
                  <a:lnTo>
                    <a:pt x="6416" y="778"/>
                  </a:lnTo>
                  <a:lnTo>
                    <a:pt x="6454" y="730"/>
                  </a:lnTo>
                  <a:lnTo>
                    <a:pt x="6504" y="706"/>
                  </a:lnTo>
                  <a:lnTo>
                    <a:pt x="6508" y="710"/>
                  </a:lnTo>
                  <a:lnTo>
                    <a:pt x="6514" y="742"/>
                  </a:lnTo>
                  <a:lnTo>
                    <a:pt x="6546" y="782"/>
                  </a:lnTo>
                  <a:lnTo>
                    <a:pt x="6584" y="816"/>
                  </a:lnTo>
                  <a:lnTo>
                    <a:pt x="6612" y="856"/>
                  </a:lnTo>
                  <a:lnTo>
                    <a:pt x="6604" y="882"/>
                  </a:lnTo>
                  <a:lnTo>
                    <a:pt x="6600" y="914"/>
                  </a:lnTo>
                  <a:lnTo>
                    <a:pt x="6624" y="958"/>
                  </a:lnTo>
                  <a:lnTo>
                    <a:pt x="6654" y="1036"/>
                  </a:lnTo>
                  <a:lnTo>
                    <a:pt x="6704" y="1126"/>
                  </a:lnTo>
                  <a:lnTo>
                    <a:pt x="6728" y="1216"/>
                  </a:lnTo>
                  <a:lnTo>
                    <a:pt x="6728" y="1260"/>
                  </a:lnTo>
                  <a:lnTo>
                    <a:pt x="6752" y="1308"/>
                  </a:lnTo>
                  <a:lnTo>
                    <a:pt x="6742" y="1332"/>
                  </a:lnTo>
                  <a:lnTo>
                    <a:pt x="6724" y="1324"/>
                  </a:lnTo>
                  <a:lnTo>
                    <a:pt x="6600" y="1308"/>
                  </a:lnTo>
                  <a:lnTo>
                    <a:pt x="6584" y="1328"/>
                  </a:lnTo>
                  <a:lnTo>
                    <a:pt x="6562" y="1414"/>
                  </a:lnTo>
                  <a:lnTo>
                    <a:pt x="6602" y="1444"/>
                  </a:lnTo>
                  <a:lnTo>
                    <a:pt x="6660" y="1506"/>
                  </a:lnTo>
                  <a:lnTo>
                    <a:pt x="6750" y="1642"/>
                  </a:lnTo>
                  <a:lnTo>
                    <a:pt x="6756" y="1704"/>
                  </a:lnTo>
                  <a:lnTo>
                    <a:pt x="6738" y="1748"/>
                  </a:lnTo>
                  <a:lnTo>
                    <a:pt x="6768" y="1790"/>
                  </a:lnTo>
                  <a:lnTo>
                    <a:pt x="6748" y="1790"/>
                  </a:lnTo>
                  <a:lnTo>
                    <a:pt x="6706" y="1756"/>
                  </a:lnTo>
                  <a:lnTo>
                    <a:pt x="6666" y="1734"/>
                  </a:lnTo>
                  <a:lnTo>
                    <a:pt x="6658" y="1754"/>
                  </a:lnTo>
                  <a:lnTo>
                    <a:pt x="6672" y="1804"/>
                  </a:lnTo>
                  <a:lnTo>
                    <a:pt x="6676" y="1846"/>
                  </a:lnTo>
                  <a:lnTo>
                    <a:pt x="6644" y="1908"/>
                  </a:lnTo>
                  <a:lnTo>
                    <a:pt x="6600" y="1926"/>
                  </a:lnTo>
                  <a:lnTo>
                    <a:pt x="6558" y="1932"/>
                  </a:lnTo>
                  <a:lnTo>
                    <a:pt x="6558" y="1952"/>
                  </a:lnTo>
                  <a:lnTo>
                    <a:pt x="6620" y="2028"/>
                  </a:lnTo>
                  <a:lnTo>
                    <a:pt x="6534" y="2046"/>
                  </a:lnTo>
                  <a:lnTo>
                    <a:pt x="6488" y="2028"/>
                  </a:lnTo>
                  <a:lnTo>
                    <a:pt x="6442" y="2020"/>
                  </a:lnTo>
                  <a:lnTo>
                    <a:pt x="6428" y="2046"/>
                  </a:lnTo>
                  <a:lnTo>
                    <a:pt x="6418" y="2120"/>
                  </a:lnTo>
                  <a:lnTo>
                    <a:pt x="6400" y="2160"/>
                  </a:lnTo>
                  <a:lnTo>
                    <a:pt x="6344" y="2220"/>
                  </a:lnTo>
                  <a:lnTo>
                    <a:pt x="6318" y="2240"/>
                  </a:lnTo>
                  <a:lnTo>
                    <a:pt x="6308" y="2334"/>
                  </a:lnTo>
                  <a:lnTo>
                    <a:pt x="6310" y="2342"/>
                  </a:lnTo>
                  <a:lnTo>
                    <a:pt x="6300" y="2354"/>
                  </a:lnTo>
                  <a:lnTo>
                    <a:pt x="6288" y="2362"/>
                  </a:lnTo>
                  <a:lnTo>
                    <a:pt x="6264" y="2366"/>
                  </a:lnTo>
                  <a:lnTo>
                    <a:pt x="6224" y="2386"/>
                  </a:lnTo>
                  <a:lnTo>
                    <a:pt x="6202" y="2372"/>
                  </a:lnTo>
                  <a:lnTo>
                    <a:pt x="6198" y="2384"/>
                  </a:lnTo>
                  <a:lnTo>
                    <a:pt x="6180" y="2412"/>
                  </a:lnTo>
                  <a:lnTo>
                    <a:pt x="6120" y="2456"/>
                  </a:lnTo>
                  <a:lnTo>
                    <a:pt x="6114" y="2480"/>
                  </a:lnTo>
                  <a:lnTo>
                    <a:pt x="6116" y="2512"/>
                  </a:lnTo>
                  <a:lnTo>
                    <a:pt x="6102" y="2536"/>
                  </a:lnTo>
                  <a:lnTo>
                    <a:pt x="6082" y="2538"/>
                  </a:lnTo>
                  <a:lnTo>
                    <a:pt x="6076" y="2554"/>
                  </a:lnTo>
                  <a:lnTo>
                    <a:pt x="6048" y="2582"/>
                  </a:lnTo>
                  <a:lnTo>
                    <a:pt x="6028" y="2572"/>
                  </a:lnTo>
                  <a:lnTo>
                    <a:pt x="6032" y="2540"/>
                  </a:lnTo>
                  <a:lnTo>
                    <a:pt x="6058" y="2526"/>
                  </a:lnTo>
                  <a:lnTo>
                    <a:pt x="6052" y="2498"/>
                  </a:lnTo>
                  <a:lnTo>
                    <a:pt x="6044" y="2468"/>
                  </a:lnTo>
                  <a:lnTo>
                    <a:pt x="6022" y="2462"/>
                  </a:lnTo>
                  <a:lnTo>
                    <a:pt x="5996" y="2446"/>
                  </a:lnTo>
                  <a:lnTo>
                    <a:pt x="5978" y="2444"/>
                  </a:lnTo>
                  <a:lnTo>
                    <a:pt x="5992" y="2428"/>
                  </a:lnTo>
                  <a:lnTo>
                    <a:pt x="5980" y="2398"/>
                  </a:lnTo>
                  <a:lnTo>
                    <a:pt x="5994" y="2378"/>
                  </a:lnTo>
                  <a:lnTo>
                    <a:pt x="6000" y="2300"/>
                  </a:lnTo>
                  <a:lnTo>
                    <a:pt x="5998" y="2266"/>
                  </a:lnTo>
                  <a:lnTo>
                    <a:pt x="5982" y="2248"/>
                  </a:lnTo>
                  <a:lnTo>
                    <a:pt x="5936" y="2216"/>
                  </a:lnTo>
                  <a:lnTo>
                    <a:pt x="5910" y="2186"/>
                  </a:lnTo>
                  <a:lnTo>
                    <a:pt x="5890" y="2170"/>
                  </a:lnTo>
                  <a:lnTo>
                    <a:pt x="5888" y="2188"/>
                  </a:lnTo>
                  <a:lnTo>
                    <a:pt x="5838" y="2196"/>
                  </a:lnTo>
                  <a:lnTo>
                    <a:pt x="5824" y="2206"/>
                  </a:lnTo>
                  <a:lnTo>
                    <a:pt x="5810" y="2252"/>
                  </a:lnTo>
                  <a:lnTo>
                    <a:pt x="5804" y="2292"/>
                  </a:lnTo>
                  <a:lnTo>
                    <a:pt x="5808" y="2322"/>
                  </a:lnTo>
                  <a:lnTo>
                    <a:pt x="5806" y="2336"/>
                  </a:lnTo>
                  <a:lnTo>
                    <a:pt x="5764" y="2370"/>
                  </a:lnTo>
                  <a:lnTo>
                    <a:pt x="5742" y="2406"/>
                  </a:lnTo>
                  <a:lnTo>
                    <a:pt x="5728" y="2416"/>
                  </a:lnTo>
                  <a:lnTo>
                    <a:pt x="5732" y="2450"/>
                  </a:lnTo>
                  <a:lnTo>
                    <a:pt x="5744" y="2486"/>
                  </a:lnTo>
                  <a:lnTo>
                    <a:pt x="5736" y="2510"/>
                  </a:lnTo>
                  <a:lnTo>
                    <a:pt x="5724" y="2528"/>
                  </a:lnTo>
                  <a:lnTo>
                    <a:pt x="5694" y="2536"/>
                  </a:lnTo>
                  <a:lnTo>
                    <a:pt x="5674" y="2548"/>
                  </a:lnTo>
                  <a:lnTo>
                    <a:pt x="5650" y="2550"/>
                  </a:lnTo>
                  <a:lnTo>
                    <a:pt x="5630" y="2542"/>
                  </a:lnTo>
                  <a:lnTo>
                    <a:pt x="5600" y="2540"/>
                  </a:lnTo>
                  <a:lnTo>
                    <a:pt x="5592" y="2566"/>
                  </a:lnTo>
                  <a:lnTo>
                    <a:pt x="5604" y="2618"/>
                  </a:lnTo>
                  <a:lnTo>
                    <a:pt x="5618" y="2662"/>
                  </a:lnTo>
                  <a:lnTo>
                    <a:pt x="5684" y="2708"/>
                  </a:lnTo>
                  <a:lnTo>
                    <a:pt x="5706" y="2728"/>
                  </a:lnTo>
                  <a:lnTo>
                    <a:pt x="5730" y="2738"/>
                  </a:lnTo>
                  <a:lnTo>
                    <a:pt x="5746" y="2736"/>
                  </a:lnTo>
                  <a:lnTo>
                    <a:pt x="5766" y="2754"/>
                  </a:lnTo>
                  <a:lnTo>
                    <a:pt x="5786" y="2752"/>
                  </a:lnTo>
                  <a:lnTo>
                    <a:pt x="5812" y="2780"/>
                  </a:lnTo>
                  <a:lnTo>
                    <a:pt x="5846" y="2798"/>
                  </a:lnTo>
                  <a:lnTo>
                    <a:pt x="5860" y="2818"/>
                  </a:lnTo>
                  <a:lnTo>
                    <a:pt x="5874" y="2844"/>
                  </a:lnTo>
                  <a:lnTo>
                    <a:pt x="5908" y="2872"/>
                  </a:lnTo>
                  <a:lnTo>
                    <a:pt x="5984" y="2894"/>
                  </a:lnTo>
                  <a:lnTo>
                    <a:pt x="6012" y="2886"/>
                  </a:lnTo>
                  <a:lnTo>
                    <a:pt x="6018" y="2842"/>
                  </a:lnTo>
                  <a:lnTo>
                    <a:pt x="6032" y="2818"/>
                  </a:lnTo>
                  <a:lnTo>
                    <a:pt x="6036" y="2790"/>
                  </a:lnTo>
                  <a:lnTo>
                    <a:pt x="6072" y="2758"/>
                  </a:lnTo>
                  <a:lnTo>
                    <a:pt x="6086" y="2752"/>
                  </a:lnTo>
                  <a:lnTo>
                    <a:pt x="6128" y="2780"/>
                  </a:lnTo>
                  <a:lnTo>
                    <a:pt x="6154" y="2792"/>
                  </a:lnTo>
                  <a:lnTo>
                    <a:pt x="6180" y="2794"/>
                  </a:lnTo>
                  <a:lnTo>
                    <a:pt x="6208" y="2814"/>
                  </a:lnTo>
                  <a:lnTo>
                    <a:pt x="6228" y="2814"/>
                  </a:lnTo>
                  <a:lnTo>
                    <a:pt x="6254" y="2808"/>
                  </a:lnTo>
                  <a:lnTo>
                    <a:pt x="6266" y="2792"/>
                  </a:lnTo>
                  <a:lnTo>
                    <a:pt x="6304" y="2806"/>
                  </a:lnTo>
                  <a:lnTo>
                    <a:pt x="6334" y="2808"/>
                  </a:lnTo>
                  <a:lnTo>
                    <a:pt x="6346" y="2812"/>
                  </a:lnTo>
                  <a:lnTo>
                    <a:pt x="6358" y="2848"/>
                  </a:lnTo>
                  <a:lnTo>
                    <a:pt x="6358" y="2872"/>
                  </a:lnTo>
                  <a:lnTo>
                    <a:pt x="6364" y="2884"/>
                  </a:lnTo>
                  <a:lnTo>
                    <a:pt x="6358" y="2916"/>
                  </a:lnTo>
                  <a:lnTo>
                    <a:pt x="6346" y="2910"/>
                  </a:lnTo>
                  <a:lnTo>
                    <a:pt x="6322" y="2884"/>
                  </a:lnTo>
                  <a:lnTo>
                    <a:pt x="6314" y="2896"/>
                  </a:lnTo>
                  <a:lnTo>
                    <a:pt x="6298" y="2890"/>
                  </a:lnTo>
                  <a:lnTo>
                    <a:pt x="6290" y="2908"/>
                  </a:lnTo>
                  <a:lnTo>
                    <a:pt x="6286" y="2932"/>
                  </a:lnTo>
                  <a:lnTo>
                    <a:pt x="6240" y="2944"/>
                  </a:lnTo>
                  <a:lnTo>
                    <a:pt x="6222" y="2964"/>
                  </a:lnTo>
                  <a:lnTo>
                    <a:pt x="6194" y="2966"/>
                  </a:lnTo>
                  <a:lnTo>
                    <a:pt x="6218" y="2998"/>
                  </a:lnTo>
                  <a:lnTo>
                    <a:pt x="6210" y="3000"/>
                  </a:lnTo>
                  <a:lnTo>
                    <a:pt x="6206" y="3014"/>
                  </a:lnTo>
                  <a:lnTo>
                    <a:pt x="6212" y="3060"/>
                  </a:lnTo>
                  <a:lnTo>
                    <a:pt x="6190" y="3066"/>
                  </a:lnTo>
                  <a:lnTo>
                    <a:pt x="6168" y="3038"/>
                  </a:lnTo>
                  <a:lnTo>
                    <a:pt x="6146" y="3040"/>
                  </a:lnTo>
                  <a:lnTo>
                    <a:pt x="6142" y="3064"/>
                  </a:lnTo>
                  <a:lnTo>
                    <a:pt x="6170" y="3086"/>
                  </a:lnTo>
                  <a:lnTo>
                    <a:pt x="6172" y="3108"/>
                  </a:lnTo>
                  <a:lnTo>
                    <a:pt x="6166" y="3134"/>
                  </a:lnTo>
                  <a:lnTo>
                    <a:pt x="6140" y="3164"/>
                  </a:lnTo>
                  <a:lnTo>
                    <a:pt x="6142" y="3200"/>
                  </a:lnTo>
                  <a:lnTo>
                    <a:pt x="6136" y="3250"/>
                  </a:lnTo>
                  <a:lnTo>
                    <a:pt x="6138" y="3294"/>
                  </a:lnTo>
                  <a:lnTo>
                    <a:pt x="6152" y="3316"/>
                  </a:lnTo>
                  <a:lnTo>
                    <a:pt x="6182" y="3322"/>
                  </a:lnTo>
                  <a:lnTo>
                    <a:pt x="6214" y="3342"/>
                  </a:lnTo>
                  <a:lnTo>
                    <a:pt x="6312" y="3380"/>
                  </a:lnTo>
                  <a:lnTo>
                    <a:pt x="6340" y="3404"/>
                  </a:lnTo>
                  <a:lnTo>
                    <a:pt x="6372" y="3448"/>
                  </a:lnTo>
                  <a:lnTo>
                    <a:pt x="6400" y="3474"/>
                  </a:lnTo>
                  <a:lnTo>
                    <a:pt x="6470" y="3580"/>
                  </a:lnTo>
                  <a:lnTo>
                    <a:pt x="6504" y="3618"/>
                  </a:lnTo>
                  <a:lnTo>
                    <a:pt x="6536" y="3664"/>
                  </a:lnTo>
                  <a:lnTo>
                    <a:pt x="6574" y="3700"/>
                  </a:lnTo>
                  <a:lnTo>
                    <a:pt x="6612" y="3714"/>
                  </a:lnTo>
                  <a:lnTo>
                    <a:pt x="6628" y="3742"/>
                  </a:lnTo>
                  <a:lnTo>
                    <a:pt x="6688" y="3786"/>
                  </a:lnTo>
                  <a:lnTo>
                    <a:pt x="6738" y="3834"/>
                  </a:lnTo>
                  <a:lnTo>
                    <a:pt x="6742" y="3842"/>
                  </a:lnTo>
                  <a:lnTo>
                    <a:pt x="6686" y="3822"/>
                  </a:lnTo>
                  <a:lnTo>
                    <a:pt x="6648" y="3812"/>
                  </a:lnTo>
                  <a:lnTo>
                    <a:pt x="6620" y="3812"/>
                  </a:lnTo>
                  <a:lnTo>
                    <a:pt x="6580" y="3792"/>
                  </a:lnTo>
                  <a:lnTo>
                    <a:pt x="6544" y="3782"/>
                  </a:lnTo>
                  <a:lnTo>
                    <a:pt x="6488" y="3802"/>
                  </a:lnTo>
                  <a:lnTo>
                    <a:pt x="6494" y="3818"/>
                  </a:lnTo>
                  <a:lnTo>
                    <a:pt x="6550" y="3798"/>
                  </a:lnTo>
                  <a:lnTo>
                    <a:pt x="6566" y="3808"/>
                  </a:lnTo>
                  <a:lnTo>
                    <a:pt x="6582" y="3830"/>
                  </a:lnTo>
                  <a:lnTo>
                    <a:pt x="6610" y="3832"/>
                  </a:lnTo>
                  <a:lnTo>
                    <a:pt x="6650" y="3854"/>
                  </a:lnTo>
                  <a:lnTo>
                    <a:pt x="6690" y="3886"/>
                  </a:lnTo>
                  <a:lnTo>
                    <a:pt x="6716" y="3898"/>
                  </a:lnTo>
                  <a:lnTo>
                    <a:pt x="6732" y="3904"/>
                  </a:lnTo>
                  <a:lnTo>
                    <a:pt x="6764" y="3932"/>
                  </a:lnTo>
                  <a:lnTo>
                    <a:pt x="6798" y="3968"/>
                  </a:lnTo>
                  <a:lnTo>
                    <a:pt x="6802" y="3982"/>
                  </a:lnTo>
                  <a:lnTo>
                    <a:pt x="6768" y="3986"/>
                  </a:lnTo>
                  <a:lnTo>
                    <a:pt x="6756" y="4018"/>
                  </a:lnTo>
                  <a:lnTo>
                    <a:pt x="6734" y="4030"/>
                  </a:lnTo>
                  <a:lnTo>
                    <a:pt x="6722" y="4044"/>
                  </a:lnTo>
                  <a:lnTo>
                    <a:pt x="6720" y="4060"/>
                  </a:lnTo>
                  <a:lnTo>
                    <a:pt x="6700" y="4084"/>
                  </a:lnTo>
                  <a:lnTo>
                    <a:pt x="6662" y="4086"/>
                  </a:lnTo>
                  <a:lnTo>
                    <a:pt x="6638" y="4092"/>
                  </a:lnTo>
                  <a:lnTo>
                    <a:pt x="6620" y="4112"/>
                  </a:lnTo>
                  <a:lnTo>
                    <a:pt x="6646" y="4104"/>
                  </a:lnTo>
                  <a:lnTo>
                    <a:pt x="6680" y="4114"/>
                  </a:lnTo>
                  <a:lnTo>
                    <a:pt x="6714" y="4128"/>
                  </a:lnTo>
                  <a:lnTo>
                    <a:pt x="6752" y="4098"/>
                  </a:lnTo>
                  <a:lnTo>
                    <a:pt x="6776" y="4104"/>
                  </a:lnTo>
                  <a:lnTo>
                    <a:pt x="6806" y="4124"/>
                  </a:lnTo>
                  <a:lnTo>
                    <a:pt x="6820" y="4142"/>
                  </a:lnTo>
                  <a:lnTo>
                    <a:pt x="6836" y="4148"/>
                  </a:lnTo>
                  <a:lnTo>
                    <a:pt x="6858" y="4156"/>
                  </a:lnTo>
                  <a:lnTo>
                    <a:pt x="6876" y="4154"/>
                  </a:lnTo>
                  <a:lnTo>
                    <a:pt x="6890" y="4160"/>
                  </a:lnTo>
                  <a:lnTo>
                    <a:pt x="6882" y="4172"/>
                  </a:lnTo>
                  <a:lnTo>
                    <a:pt x="6864" y="4218"/>
                  </a:lnTo>
                  <a:lnTo>
                    <a:pt x="6848" y="4234"/>
                  </a:lnTo>
                  <a:lnTo>
                    <a:pt x="6858" y="4236"/>
                  </a:lnTo>
                  <a:lnTo>
                    <a:pt x="6886" y="4212"/>
                  </a:lnTo>
                  <a:lnTo>
                    <a:pt x="6904" y="4252"/>
                  </a:lnTo>
                  <a:lnTo>
                    <a:pt x="6912" y="4280"/>
                  </a:lnTo>
                  <a:lnTo>
                    <a:pt x="6904" y="4270"/>
                  </a:lnTo>
                  <a:lnTo>
                    <a:pt x="6896" y="4280"/>
                  </a:lnTo>
                  <a:lnTo>
                    <a:pt x="6870" y="4292"/>
                  </a:lnTo>
                  <a:lnTo>
                    <a:pt x="6872" y="4300"/>
                  </a:lnTo>
                  <a:lnTo>
                    <a:pt x="6898" y="4330"/>
                  </a:lnTo>
                  <a:lnTo>
                    <a:pt x="6908" y="4370"/>
                  </a:lnTo>
                  <a:lnTo>
                    <a:pt x="6902" y="4384"/>
                  </a:lnTo>
                  <a:lnTo>
                    <a:pt x="6924" y="4434"/>
                  </a:lnTo>
                  <a:lnTo>
                    <a:pt x="6924" y="4478"/>
                  </a:lnTo>
                  <a:lnTo>
                    <a:pt x="6910" y="4472"/>
                  </a:lnTo>
                  <a:lnTo>
                    <a:pt x="6892" y="4452"/>
                  </a:lnTo>
                  <a:lnTo>
                    <a:pt x="6882" y="4464"/>
                  </a:lnTo>
                  <a:lnTo>
                    <a:pt x="6878" y="4498"/>
                  </a:lnTo>
                  <a:lnTo>
                    <a:pt x="6870" y="4522"/>
                  </a:lnTo>
                  <a:lnTo>
                    <a:pt x="6866" y="4546"/>
                  </a:lnTo>
                  <a:lnTo>
                    <a:pt x="6860" y="4560"/>
                  </a:lnTo>
                  <a:lnTo>
                    <a:pt x="6860" y="4578"/>
                  </a:lnTo>
                  <a:lnTo>
                    <a:pt x="6860" y="4600"/>
                  </a:lnTo>
                  <a:lnTo>
                    <a:pt x="6866" y="4620"/>
                  </a:lnTo>
                  <a:lnTo>
                    <a:pt x="6868" y="4650"/>
                  </a:lnTo>
                  <a:lnTo>
                    <a:pt x="6862" y="4676"/>
                  </a:lnTo>
                  <a:lnTo>
                    <a:pt x="6852" y="4688"/>
                  </a:lnTo>
                  <a:lnTo>
                    <a:pt x="6840" y="4720"/>
                  </a:lnTo>
                  <a:lnTo>
                    <a:pt x="6848" y="4762"/>
                  </a:lnTo>
                  <a:lnTo>
                    <a:pt x="6840" y="4782"/>
                  </a:lnTo>
                  <a:lnTo>
                    <a:pt x="6834" y="4778"/>
                  </a:lnTo>
                  <a:lnTo>
                    <a:pt x="6816" y="4736"/>
                  </a:lnTo>
                  <a:lnTo>
                    <a:pt x="6796" y="4742"/>
                  </a:lnTo>
                  <a:lnTo>
                    <a:pt x="6784" y="4762"/>
                  </a:lnTo>
                  <a:lnTo>
                    <a:pt x="6822" y="4810"/>
                  </a:lnTo>
                  <a:lnTo>
                    <a:pt x="6828" y="4822"/>
                  </a:lnTo>
                  <a:lnTo>
                    <a:pt x="6828" y="4870"/>
                  </a:lnTo>
                  <a:lnTo>
                    <a:pt x="6836" y="4886"/>
                  </a:lnTo>
                  <a:lnTo>
                    <a:pt x="6838" y="4902"/>
                  </a:lnTo>
                  <a:lnTo>
                    <a:pt x="6838" y="4922"/>
                  </a:lnTo>
                  <a:lnTo>
                    <a:pt x="6836" y="4932"/>
                  </a:lnTo>
                  <a:lnTo>
                    <a:pt x="6828" y="4936"/>
                  </a:lnTo>
                  <a:lnTo>
                    <a:pt x="6834" y="4954"/>
                  </a:lnTo>
                  <a:lnTo>
                    <a:pt x="6846" y="4978"/>
                  </a:lnTo>
                  <a:lnTo>
                    <a:pt x="6844" y="4988"/>
                  </a:lnTo>
                  <a:lnTo>
                    <a:pt x="6830" y="4980"/>
                  </a:lnTo>
                  <a:lnTo>
                    <a:pt x="6816" y="4980"/>
                  </a:lnTo>
                  <a:lnTo>
                    <a:pt x="6810" y="4996"/>
                  </a:lnTo>
                  <a:lnTo>
                    <a:pt x="6824" y="5018"/>
                  </a:lnTo>
                  <a:lnTo>
                    <a:pt x="6818" y="5036"/>
                  </a:lnTo>
                  <a:lnTo>
                    <a:pt x="6806" y="5028"/>
                  </a:lnTo>
                  <a:lnTo>
                    <a:pt x="6794" y="5034"/>
                  </a:lnTo>
                  <a:lnTo>
                    <a:pt x="6794" y="5080"/>
                  </a:lnTo>
                  <a:lnTo>
                    <a:pt x="6782" y="5096"/>
                  </a:lnTo>
                  <a:lnTo>
                    <a:pt x="6788" y="5126"/>
                  </a:lnTo>
                  <a:lnTo>
                    <a:pt x="6778" y="5144"/>
                  </a:lnTo>
                  <a:lnTo>
                    <a:pt x="6740" y="5154"/>
                  </a:lnTo>
                  <a:lnTo>
                    <a:pt x="6720" y="5148"/>
                  </a:lnTo>
                  <a:lnTo>
                    <a:pt x="6706" y="5170"/>
                  </a:lnTo>
                  <a:lnTo>
                    <a:pt x="6710" y="5180"/>
                  </a:lnTo>
                  <a:lnTo>
                    <a:pt x="6724" y="5194"/>
                  </a:lnTo>
                  <a:lnTo>
                    <a:pt x="6724" y="5224"/>
                  </a:lnTo>
                  <a:lnTo>
                    <a:pt x="6702" y="5266"/>
                  </a:lnTo>
                  <a:lnTo>
                    <a:pt x="6690" y="5266"/>
                  </a:lnTo>
                  <a:lnTo>
                    <a:pt x="6694" y="5304"/>
                  </a:lnTo>
                  <a:lnTo>
                    <a:pt x="6680" y="5280"/>
                  </a:lnTo>
                  <a:lnTo>
                    <a:pt x="6672" y="5294"/>
                  </a:lnTo>
                  <a:lnTo>
                    <a:pt x="6676" y="5320"/>
                  </a:lnTo>
                  <a:lnTo>
                    <a:pt x="6666" y="5312"/>
                  </a:lnTo>
                  <a:lnTo>
                    <a:pt x="6656" y="5314"/>
                  </a:lnTo>
                  <a:lnTo>
                    <a:pt x="6640" y="5338"/>
                  </a:lnTo>
                  <a:lnTo>
                    <a:pt x="6628" y="5334"/>
                  </a:lnTo>
                  <a:lnTo>
                    <a:pt x="6612" y="5342"/>
                  </a:lnTo>
                  <a:lnTo>
                    <a:pt x="6602" y="5374"/>
                  </a:lnTo>
                  <a:lnTo>
                    <a:pt x="6600" y="5396"/>
                  </a:lnTo>
                  <a:lnTo>
                    <a:pt x="6592" y="5414"/>
                  </a:lnTo>
                  <a:lnTo>
                    <a:pt x="6590" y="5432"/>
                  </a:lnTo>
                  <a:lnTo>
                    <a:pt x="6572" y="5452"/>
                  </a:lnTo>
                  <a:lnTo>
                    <a:pt x="6538" y="5474"/>
                  </a:lnTo>
                  <a:lnTo>
                    <a:pt x="6514" y="5492"/>
                  </a:lnTo>
                  <a:lnTo>
                    <a:pt x="6492" y="5488"/>
                  </a:lnTo>
                  <a:lnTo>
                    <a:pt x="6476" y="5482"/>
                  </a:lnTo>
                  <a:lnTo>
                    <a:pt x="6468" y="5496"/>
                  </a:lnTo>
                  <a:lnTo>
                    <a:pt x="6470" y="5508"/>
                  </a:lnTo>
                  <a:lnTo>
                    <a:pt x="6456" y="5514"/>
                  </a:lnTo>
                  <a:lnTo>
                    <a:pt x="6440" y="5508"/>
                  </a:lnTo>
                  <a:lnTo>
                    <a:pt x="6434" y="5492"/>
                  </a:lnTo>
                  <a:lnTo>
                    <a:pt x="6412" y="5484"/>
                  </a:lnTo>
                  <a:lnTo>
                    <a:pt x="6394" y="5504"/>
                  </a:lnTo>
                  <a:lnTo>
                    <a:pt x="6388" y="5530"/>
                  </a:lnTo>
                  <a:lnTo>
                    <a:pt x="6372" y="5532"/>
                  </a:lnTo>
                  <a:lnTo>
                    <a:pt x="6360" y="5514"/>
                  </a:lnTo>
                  <a:lnTo>
                    <a:pt x="6356" y="5500"/>
                  </a:lnTo>
                  <a:lnTo>
                    <a:pt x="6338" y="5512"/>
                  </a:lnTo>
                  <a:lnTo>
                    <a:pt x="6346" y="5542"/>
                  </a:lnTo>
                  <a:lnTo>
                    <a:pt x="6346" y="554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72480" y="4609080"/>
              <a:ext cx="196560" cy="266400"/>
            </a:xfrm>
            <a:custGeom>
              <a:avLst/>
              <a:gdLst/>
              <a:ahLst/>
              <a:rect l="l" t="t" r="r" b="b"/>
              <a:pathLst>
                <a:path w="1136" h="1564">
                  <a:moveTo>
                    <a:pt x="1016" y="796"/>
                  </a:moveTo>
                  <a:lnTo>
                    <a:pt x="1016" y="632"/>
                  </a:lnTo>
                  <a:lnTo>
                    <a:pt x="1016" y="466"/>
                  </a:lnTo>
                  <a:lnTo>
                    <a:pt x="1014" y="302"/>
                  </a:lnTo>
                  <a:lnTo>
                    <a:pt x="1024" y="296"/>
                  </a:lnTo>
                  <a:lnTo>
                    <a:pt x="1078" y="228"/>
                  </a:lnTo>
                  <a:lnTo>
                    <a:pt x="1132" y="128"/>
                  </a:lnTo>
                  <a:lnTo>
                    <a:pt x="1136" y="112"/>
                  </a:lnTo>
                  <a:lnTo>
                    <a:pt x="1124" y="114"/>
                  </a:lnTo>
                  <a:lnTo>
                    <a:pt x="1098" y="110"/>
                  </a:lnTo>
                  <a:lnTo>
                    <a:pt x="1064" y="116"/>
                  </a:lnTo>
                  <a:lnTo>
                    <a:pt x="978" y="64"/>
                  </a:lnTo>
                  <a:lnTo>
                    <a:pt x="928" y="76"/>
                  </a:lnTo>
                  <a:lnTo>
                    <a:pt x="878" y="96"/>
                  </a:lnTo>
                  <a:lnTo>
                    <a:pt x="838" y="146"/>
                  </a:lnTo>
                  <a:lnTo>
                    <a:pt x="776" y="184"/>
                  </a:lnTo>
                  <a:lnTo>
                    <a:pt x="714" y="182"/>
                  </a:lnTo>
                  <a:lnTo>
                    <a:pt x="654" y="164"/>
                  </a:lnTo>
                  <a:lnTo>
                    <a:pt x="612" y="162"/>
                  </a:lnTo>
                  <a:lnTo>
                    <a:pt x="560" y="142"/>
                  </a:lnTo>
                  <a:lnTo>
                    <a:pt x="528" y="106"/>
                  </a:lnTo>
                  <a:lnTo>
                    <a:pt x="430" y="34"/>
                  </a:lnTo>
                  <a:lnTo>
                    <a:pt x="384" y="10"/>
                  </a:lnTo>
                  <a:lnTo>
                    <a:pt x="344" y="6"/>
                  </a:lnTo>
                  <a:lnTo>
                    <a:pt x="302" y="12"/>
                  </a:lnTo>
                  <a:lnTo>
                    <a:pt x="268" y="0"/>
                  </a:lnTo>
                  <a:lnTo>
                    <a:pt x="214" y="8"/>
                  </a:lnTo>
                  <a:lnTo>
                    <a:pt x="176" y="8"/>
                  </a:lnTo>
                  <a:lnTo>
                    <a:pt x="100" y="0"/>
                  </a:lnTo>
                  <a:lnTo>
                    <a:pt x="70" y="4"/>
                  </a:lnTo>
                  <a:lnTo>
                    <a:pt x="40" y="24"/>
                  </a:lnTo>
                  <a:lnTo>
                    <a:pt x="0" y="88"/>
                  </a:lnTo>
                  <a:lnTo>
                    <a:pt x="6" y="92"/>
                  </a:lnTo>
                  <a:lnTo>
                    <a:pt x="12" y="100"/>
                  </a:lnTo>
                  <a:lnTo>
                    <a:pt x="46" y="106"/>
                  </a:lnTo>
                  <a:lnTo>
                    <a:pt x="50" y="112"/>
                  </a:lnTo>
                  <a:lnTo>
                    <a:pt x="50" y="134"/>
                  </a:lnTo>
                  <a:lnTo>
                    <a:pt x="54" y="140"/>
                  </a:lnTo>
                  <a:lnTo>
                    <a:pt x="62" y="148"/>
                  </a:lnTo>
                  <a:lnTo>
                    <a:pt x="74" y="230"/>
                  </a:lnTo>
                  <a:lnTo>
                    <a:pt x="82" y="250"/>
                  </a:lnTo>
                  <a:lnTo>
                    <a:pt x="94" y="266"/>
                  </a:lnTo>
                  <a:lnTo>
                    <a:pt x="110" y="278"/>
                  </a:lnTo>
                  <a:lnTo>
                    <a:pt x="124" y="284"/>
                  </a:lnTo>
                  <a:lnTo>
                    <a:pt x="142" y="310"/>
                  </a:lnTo>
                  <a:lnTo>
                    <a:pt x="148" y="332"/>
                  </a:lnTo>
                  <a:lnTo>
                    <a:pt x="148" y="386"/>
                  </a:lnTo>
                  <a:lnTo>
                    <a:pt x="154" y="420"/>
                  </a:lnTo>
                  <a:lnTo>
                    <a:pt x="152" y="480"/>
                  </a:lnTo>
                  <a:lnTo>
                    <a:pt x="144" y="524"/>
                  </a:lnTo>
                  <a:lnTo>
                    <a:pt x="126" y="560"/>
                  </a:lnTo>
                  <a:lnTo>
                    <a:pt x="102" y="594"/>
                  </a:lnTo>
                  <a:lnTo>
                    <a:pt x="98" y="606"/>
                  </a:lnTo>
                  <a:lnTo>
                    <a:pt x="72" y="638"/>
                  </a:lnTo>
                  <a:lnTo>
                    <a:pt x="26" y="724"/>
                  </a:lnTo>
                  <a:lnTo>
                    <a:pt x="12" y="740"/>
                  </a:lnTo>
                  <a:lnTo>
                    <a:pt x="8" y="786"/>
                  </a:lnTo>
                  <a:lnTo>
                    <a:pt x="28" y="814"/>
                  </a:lnTo>
                  <a:lnTo>
                    <a:pt x="36" y="840"/>
                  </a:lnTo>
                  <a:lnTo>
                    <a:pt x="54" y="836"/>
                  </a:lnTo>
                  <a:lnTo>
                    <a:pt x="70" y="826"/>
                  </a:lnTo>
                  <a:lnTo>
                    <a:pt x="98" y="822"/>
                  </a:lnTo>
                  <a:lnTo>
                    <a:pt x="124" y="824"/>
                  </a:lnTo>
                  <a:lnTo>
                    <a:pt x="124" y="838"/>
                  </a:lnTo>
                  <a:lnTo>
                    <a:pt x="94" y="852"/>
                  </a:lnTo>
                  <a:lnTo>
                    <a:pt x="72" y="872"/>
                  </a:lnTo>
                  <a:lnTo>
                    <a:pt x="44" y="872"/>
                  </a:lnTo>
                  <a:lnTo>
                    <a:pt x="24" y="914"/>
                  </a:lnTo>
                  <a:lnTo>
                    <a:pt x="44" y="940"/>
                  </a:lnTo>
                  <a:lnTo>
                    <a:pt x="542" y="1290"/>
                  </a:lnTo>
                  <a:lnTo>
                    <a:pt x="548" y="1306"/>
                  </a:lnTo>
                  <a:lnTo>
                    <a:pt x="550" y="1328"/>
                  </a:lnTo>
                  <a:lnTo>
                    <a:pt x="560" y="1388"/>
                  </a:lnTo>
                  <a:lnTo>
                    <a:pt x="572" y="1422"/>
                  </a:lnTo>
                  <a:lnTo>
                    <a:pt x="770" y="1564"/>
                  </a:lnTo>
                  <a:lnTo>
                    <a:pt x="798" y="1550"/>
                  </a:lnTo>
                  <a:lnTo>
                    <a:pt x="808" y="1538"/>
                  </a:lnTo>
                  <a:lnTo>
                    <a:pt x="820" y="1514"/>
                  </a:lnTo>
                  <a:lnTo>
                    <a:pt x="830" y="1488"/>
                  </a:lnTo>
                  <a:lnTo>
                    <a:pt x="846" y="1440"/>
                  </a:lnTo>
                  <a:lnTo>
                    <a:pt x="868" y="1396"/>
                  </a:lnTo>
                  <a:lnTo>
                    <a:pt x="896" y="1332"/>
                  </a:lnTo>
                  <a:lnTo>
                    <a:pt x="906" y="1282"/>
                  </a:lnTo>
                  <a:lnTo>
                    <a:pt x="924" y="1238"/>
                  </a:lnTo>
                  <a:lnTo>
                    <a:pt x="936" y="1220"/>
                  </a:lnTo>
                  <a:lnTo>
                    <a:pt x="944" y="1214"/>
                  </a:lnTo>
                  <a:lnTo>
                    <a:pt x="992" y="1186"/>
                  </a:lnTo>
                  <a:lnTo>
                    <a:pt x="994" y="1166"/>
                  </a:lnTo>
                  <a:lnTo>
                    <a:pt x="1000" y="1148"/>
                  </a:lnTo>
                  <a:lnTo>
                    <a:pt x="1018" y="1122"/>
                  </a:lnTo>
                  <a:lnTo>
                    <a:pt x="1034" y="1112"/>
                  </a:lnTo>
                  <a:lnTo>
                    <a:pt x="1056" y="1110"/>
                  </a:lnTo>
                  <a:lnTo>
                    <a:pt x="1086" y="1076"/>
                  </a:lnTo>
                  <a:lnTo>
                    <a:pt x="1094" y="1058"/>
                  </a:lnTo>
                  <a:lnTo>
                    <a:pt x="1092" y="1044"/>
                  </a:lnTo>
                  <a:lnTo>
                    <a:pt x="1032" y="958"/>
                  </a:lnTo>
                  <a:lnTo>
                    <a:pt x="1016" y="930"/>
                  </a:lnTo>
                  <a:lnTo>
                    <a:pt x="1016" y="79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42920" y="3410280"/>
              <a:ext cx="408960" cy="234360"/>
            </a:xfrm>
            <a:custGeom>
              <a:avLst/>
              <a:gdLst/>
              <a:ahLst/>
              <a:rect l="l" t="t" r="r" b="b"/>
              <a:pathLst>
                <a:path w="2360" h="1380">
                  <a:moveTo>
                    <a:pt x="0" y="120"/>
                  </a:moveTo>
                  <a:lnTo>
                    <a:pt x="44" y="276"/>
                  </a:lnTo>
                  <a:lnTo>
                    <a:pt x="88" y="440"/>
                  </a:lnTo>
                  <a:lnTo>
                    <a:pt x="128" y="590"/>
                  </a:lnTo>
                  <a:lnTo>
                    <a:pt x="166" y="732"/>
                  </a:lnTo>
                  <a:lnTo>
                    <a:pt x="294" y="746"/>
                  </a:lnTo>
                  <a:lnTo>
                    <a:pt x="308" y="736"/>
                  </a:lnTo>
                  <a:lnTo>
                    <a:pt x="288" y="702"/>
                  </a:lnTo>
                  <a:lnTo>
                    <a:pt x="284" y="684"/>
                  </a:lnTo>
                  <a:lnTo>
                    <a:pt x="264" y="648"/>
                  </a:lnTo>
                  <a:lnTo>
                    <a:pt x="268" y="630"/>
                  </a:lnTo>
                  <a:lnTo>
                    <a:pt x="280" y="620"/>
                  </a:lnTo>
                  <a:lnTo>
                    <a:pt x="286" y="602"/>
                  </a:lnTo>
                  <a:lnTo>
                    <a:pt x="294" y="588"/>
                  </a:lnTo>
                  <a:lnTo>
                    <a:pt x="312" y="582"/>
                  </a:lnTo>
                  <a:lnTo>
                    <a:pt x="348" y="580"/>
                  </a:lnTo>
                  <a:lnTo>
                    <a:pt x="364" y="572"/>
                  </a:lnTo>
                  <a:lnTo>
                    <a:pt x="368" y="556"/>
                  </a:lnTo>
                  <a:lnTo>
                    <a:pt x="362" y="538"/>
                  </a:lnTo>
                  <a:lnTo>
                    <a:pt x="374" y="528"/>
                  </a:lnTo>
                  <a:lnTo>
                    <a:pt x="410" y="548"/>
                  </a:lnTo>
                  <a:lnTo>
                    <a:pt x="430" y="552"/>
                  </a:lnTo>
                  <a:lnTo>
                    <a:pt x="418" y="536"/>
                  </a:lnTo>
                  <a:lnTo>
                    <a:pt x="404" y="522"/>
                  </a:lnTo>
                  <a:lnTo>
                    <a:pt x="386" y="508"/>
                  </a:lnTo>
                  <a:lnTo>
                    <a:pt x="400" y="498"/>
                  </a:lnTo>
                  <a:lnTo>
                    <a:pt x="418" y="500"/>
                  </a:lnTo>
                  <a:lnTo>
                    <a:pt x="430" y="488"/>
                  </a:lnTo>
                  <a:lnTo>
                    <a:pt x="428" y="474"/>
                  </a:lnTo>
                  <a:lnTo>
                    <a:pt x="490" y="520"/>
                  </a:lnTo>
                  <a:lnTo>
                    <a:pt x="526" y="540"/>
                  </a:lnTo>
                  <a:lnTo>
                    <a:pt x="544" y="552"/>
                  </a:lnTo>
                  <a:lnTo>
                    <a:pt x="564" y="558"/>
                  </a:lnTo>
                  <a:lnTo>
                    <a:pt x="582" y="554"/>
                  </a:lnTo>
                  <a:lnTo>
                    <a:pt x="620" y="560"/>
                  </a:lnTo>
                  <a:lnTo>
                    <a:pt x="636" y="576"/>
                  </a:lnTo>
                  <a:lnTo>
                    <a:pt x="636" y="594"/>
                  </a:lnTo>
                  <a:lnTo>
                    <a:pt x="642" y="612"/>
                  </a:lnTo>
                  <a:lnTo>
                    <a:pt x="658" y="624"/>
                  </a:lnTo>
                  <a:lnTo>
                    <a:pt x="678" y="632"/>
                  </a:lnTo>
                  <a:lnTo>
                    <a:pt x="662" y="640"/>
                  </a:lnTo>
                  <a:lnTo>
                    <a:pt x="666" y="660"/>
                  </a:lnTo>
                  <a:lnTo>
                    <a:pt x="674" y="678"/>
                  </a:lnTo>
                  <a:lnTo>
                    <a:pt x="672" y="696"/>
                  </a:lnTo>
                  <a:lnTo>
                    <a:pt x="688" y="710"/>
                  </a:lnTo>
                  <a:lnTo>
                    <a:pt x="728" y="728"/>
                  </a:lnTo>
                  <a:lnTo>
                    <a:pt x="770" y="732"/>
                  </a:lnTo>
                  <a:lnTo>
                    <a:pt x="788" y="730"/>
                  </a:lnTo>
                  <a:lnTo>
                    <a:pt x="846" y="740"/>
                  </a:lnTo>
                  <a:lnTo>
                    <a:pt x="862" y="732"/>
                  </a:lnTo>
                  <a:lnTo>
                    <a:pt x="858" y="714"/>
                  </a:lnTo>
                  <a:lnTo>
                    <a:pt x="872" y="706"/>
                  </a:lnTo>
                  <a:lnTo>
                    <a:pt x="892" y="716"/>
                  </a:lnTo>
                  <a:lnTo>
                    <a:pt x="926" y="740"/>
                  </a:lnTo>
                  <a:lnTo>
                    <a:pt x="942" y="754"/>
                  </a:lnTo>
                  <a:lnTo>
                    <a:pt x="954" y="772"/>
                  </a:lnTo>
                  <a:lnTo>
                    <a:pt x="966" y="810"/>
                  </a:lnTo>
                  <a:lnTo>
                    <a:pt x="980" y="826"/>
                  </a:lnTo>
                  <a:lnTo>
                    <a:pt x="1000" y="836"/>
                  </a:lnTo>
                  <a:lnTo>
                    <a:pt x="1016" y="850"/>
                  </a:lnTo>
                  <a:lnTo>
                    <a:pt x="1036" y="888"/>
                  </a:lnTo>
                  <a:lnTo>
                    <a:pt x="1040" y="906"/>
                  </a:lnTo>
                  <a:lnTo>
                    <a:pt x="1066" y="942"/>
                  </a:lnTo>
                  <a:lnTo>
                    <a:pt x="1080" y="958"/>
                  </a:lnTo>
                  <a:lnTo>
                    <a:pt x="1216" y="1024"/>
                  </a:lnTo>
                  <a:lnTo>
                    <a:pt x="1282" y="1080"/>
                  </a:lnTo>
                  <a:lnTo>
                    <a:pt x="1300" y="1090"/>
                  </a:lnTo>
                  <a:lnTo>
                    <a:pt x="1340" y="1092"/>
                  </a:lnTo>
                  <a:lnTo>
                    <a:pt x="1380" y="1112"/>
                  </a:lnTo>
                  <a:lnTo>
                    <a:pt x="1434" y="1148"/>
                  </a:lnTo>
                  <a:lnTo>
                    <a:pt x="1502" y="1202"/>
                  </a:lnTo>
                  <a:lnTo>
                    <a:pt x="1520" y="1214"/>
                  </a:lnTo>
                  <a:lnTo>
                    <a:pt x="1540" y="1216"/>
                  </a:lnTo>
                  <a:lnTo>
                    <a:pt x="1554" y="1206"/>
                  </a:lnTo>
                  <a:lnTo>
                    <a:pt x="1572" y="1204"/>
                  </a:lnTo>
                  <a:lnTo>
                    <a:pt x="1630" y="1222"/>
                  </a:lnTo>
                  <a:lnTo>
                    <a:pt x="1646" y="1238"/>
                  </a:lnTo>
                  <a:lnTo>
                    <a:pt x="1666" y="1246"/>
                  </a:lnTo>
                  <a:lnTo>
                    <a:pt x="1684" y="1258"/>
                  </a:lnTo>
                  <a:lnTo>
                    <a:pt x="1682" y="1278"/>
                  </a:lnTo>
                  <a:lnTo>
                    <a:pt x="1676" y="1296"/>
                  </a:lnTo>
                  <a:lnTo>
                    <a:pt x="1686" y="1336"/>
                  </a:lnTo>
                  <a:lnTo>
                    <a:pt x="1696" y="1356"/>
                  </a:lnTo>
                  <a:lnTo>
                    <a:pt x="1698" y="1370"/>
                  </a:lnTo>
                  <a:lnTo>
                    <a:pt x="1698" y="1370"/>
                  </a:lnTo>
                  <a:lnTo>
                    <a:pt x="1764" y="1362"/>
                  </a:lnTo>
                  <a:lnTo>
                    <a:pt x="1784" y="1370"/>
                  </a:lnTo>
                  <a:lnTo>
                    <a:pt x="1802" y="1380"/>
                  </a:lnTo>
                  <a:lnTo>
                    <a:pt x="1824" y="1372"/>
                  </a:lnTo>
                  <a:lnTo>
                    <a:pt x="1854" y="1376"/>
                  </a:lnTo>
                  <a:lnTo>
                    <a:pt x="1854" y="1376"/>
                  </a:lnTo>
                  <a:lnTo>
                    <a:pt x="1864" y="1368"/>
                  </a:lnTo>
                  <a:lnTo>
                    <a:pt x="1858" y="1352"/>
                  </a:lnTo>
                  <a:lnTo>
                    <a:pt x="1850" y="1334"/>
                  </a:lnTo>
                  <a:lnTo>
                    <a:pt x="1856" y="1302"/>
                  </a:lnTo>
                  <a:lnTo>
                    <a:pt x="1870" y="1272"/>
                  </a:lnTo>
                  <a:lnTo>
                    <a:pt x="1872" y="1256"/>
                  </a:lnTo>
                  <a:lnTo>
                    <a:pt x="1886" y="1246"/>
                  </a:lnTo>
                  <a:lnTo>
                    <a:pt x="1892" y="1232"/>
                  </a:lnTo>
                  <a:lnTo>
                    <a:pt x="1894" y="1214"/>
                  </a:lnTo>
                  <a:lnTo>
                    <a:pt x="1886" y="1198"/>
                  </a:lnTo>
                  <a:lnTo>
                    <a:pt x="1866" y="1186"/>
                  </a:lnTo>
                  <a:lnTo>
                    <a:pt x="1850" y="1170"/>
                  </a:lnTo>
                  <a:lnTo>
                    <a:pt x="1828" y="1132"/>
                  </a:lnTo>
                  <a:lnTo>
                    <a:pt x="1832" y="1114"/>
                  </a:lnTo>
                  <a:lnTo>
                    <a:pt x="1830" y="1094"/>
                  </a:lnTo>
                  <a:lnTo>
                    <a:pt x="1820" y="1076"/>
                  </a:lnTo>
                  <a:lnTo>
                    <a:pt x="1800" y="1066"/>
                  </a:lnTo>
                  <a:lnTo>
                    <a:pt x="1782" y="1070"/>
                  </a:lnTo>
                  <a:lnTo>
                    <a:pt x="1762" y="1066"/>
                  </a:lnTo>
                  <a:lnTo>
                    <a:pt x="1750" y="1048"/>
                  </a:lnTo>
                  <a:lnTo>
                    <a:pt x="1728" y="1038"/>
                  </a:lnTo>
                  <a:lnTo>
                    <a:pt x="1710" y="1022"/>
                  </a:lnTo>
                  <a:lnTo>
                    <a:pt x="1724" y="1012"/>
                  </a:lnTo>
                  <a:lnTo>
                    <a:pt x="1714" y="992"/>
                  </a:lnTo>
                  <a:lnTo>
                    <a:pt x="1720" y="976"/>
                  </a:lnTo>
                  <a:lnTo>
                    <a:pt x="1736" y="966"/>
                  </a:lnTo>
                  <a:lnTo>
                    <a:pt x="1752" y="962"/>
                  </a:lnTo>
                  <a:lnTo>
                    <a:pt x="1770" y="976"/>
                  </a:lnTo>
                  <a:lnTo>
                    <a:pt x="1790" y="978"/>
                  </a:lnTo>
                  <a:lnTo>
                    <a:pt x="1826" y="976"/>
                  </a:lnTo>
                  <a:lnTo>
                    <a:pt x="1842" y="966"/>
                  </a:lnTo>
                  <a:lnTo>
                    <a:pt x="1852" y="914"/>
                  </a:lnTo>
                  <a:lnTo>
                    <a:pt x="1848" y="894"/>
                  </a:lnTo>
                  <a:lnTo>
                    <a:pt x="1862" y="884"/>
                  </a:lnTo>
                  <a:lnTo>
                    <a:pt x="1898" y="876"/>
                  </a:lnTo>
                  <a:lnTo>
                    <a:pt x="1906" y="864"/>
                  </a:lnTo>
                  <a:lnTo>
                    <a:pt x="1908" y="844"/>
                  </a:lnTo>
                  <a:lnTo>
                    <a:pt x="1900" y="826"/>
                  </a:lnTo>
                  <a:lnTo>
                    <a:pt x="1886" y="810"/>
                  </a:lnTo>
                  <a:lnTo>
                    <a:pt x="1898" y="798"/>
                  </a:lnTo>
                  <a:lnTo>
                    <a:pt x="1894" y="778"/>
                  </a:lnTo>
                  <a:lnTo>
                    <a:pt x="1908" y="768"/>
                  </a:lnTo>
                  <a:lnTo>
                    <a:pt x="1926" y="780"/>
                  </a:lnTo>
                  <a:lnTo>
                    <a:pt x="1944" y="778"/>
                  </a:lnTo>
                  <a:lnTo>
                    <a:pt x="1968" y="756"/>
                  </a:lnTo>
                  <a:lnTo>
                    <a:pt x="1996" y="738"/>
                  </a:lnTo>
                  <a:lnTo>
                    <a:pt x="2000" y="720"/>
                  </a:lnTo>
                  <a:lnTo>
                    <a:pt x="2010" y="708"/>
                  </a:lnTo>
                  <a:lnTo>
                    <a:pt x="2030" y="708"/>
                  </a:lnTo>
                  <a:lnTo>
                    <a:pt x="2038" y="726"/>
                  </a:lnTo>
                  <a:lnTo>
                    <a:pt x="2054" y="742"/>
                  </a:lnTo>
                  <a:lnTo>
                    <a:pt x="2064" y="760"/>
                  </a:lnTo>
                  <a:lnTo>
                    <a:pt x="2058" y="776"/>
                  </a:lnTo>
                  <a:lnTo>
                    <a:pt x="2044" y="786"/>
                  </a:lnTo>
                  <a:lnTo>
                    <a:pt x="2036" y="800"/>
                  </a:lnTo>
                  <a:lnTo>
                    <a:pt x="2058" y="836"/>
                  </a:lnTo>
                  <a:lnTo>
                    <a:pt x="2072" y="852"/>
                  </a:lnTo>
                  <a:lnTo>
                    <a:pt x="2090" y="848"/>
                  </a:lnTo>
                  <a:lnTo>
                    <a:pt x="2104" y="840"/>
                  </a:lnTo>
                  <a:lnTo>
                    <a:pt x="2114" y="838"/>
                  </a:lnTo>
                  <a:lnTo>
                    <a:pt x="2142" y="836"/>
                  </a:lnTo>
                  <a:lnTo>
                    <a:pt x="2160" y="836"/>
                  </a:lnTo>
                  <a:lnTo>
                    <a:pt x="2200" y="848"/>
                  </a:lnTo>
                  <a:lnTo>
                    <a:pt x="2234" y="840"/>
                  </a:lnTo>
                  <a:lnTo>
                    <a:pt x="2246" y="828"/>
                  </a:lnTo>
                  <a:lnTo>
                    <a:pt x="2248" y="810"/>
                  </a:lnTo>
                  <a:lnTo>
                    <a:pt x="2262" y="800"/>
                  </a:lnTo>
                  <a:lnTo>
                    <a:pt x="2280" y="798"/>
                  </a:lnTo>
                  <a:lnTo>
                    <a:pt x="2288" y="784"/>
                  </a:lnTo>
                  <a:lnTo>
                    <a:pt x="2306" y="790"/>
                  </a:lnTo>
                  <a:lnTo>
                    <a:pt x="2320" y="778"/>
                  </a:lnTo>
                  <a:lnTo>
                    <a:pt x="2322" y="760"/>
                  </a:lnTo>
                  <a:lnTo>
                    <a:pt x="2354" y="746"/>
                  </a:lnTo>
                  <a:lnTo>
                    <a:pt x="2360" y="732"/>
                  </a:lnTo>
                  <a:lnTo>
                    <a:pt x="2342" y="724"/>
                  </a:lnTo>
                  <a:lnTo>
                    <a:pt x="2326" y="728"/>
                  </a:lnTo>
                  <a:lnTo>
                    <a:pt x="2286" y="720"/>
                  </a:lnTo>
                  <a:lnTo>
                    <a:pt x="2250" y="696"/>
                  </a:lnTo>
                  <a:lnTo>
                    <a:pt x="2232" y="700"/>
                  </a:lnTo>
                  <a:lnTo>
                    <a:pt x="2214" y="688"/>
                  </a:lnTo>
                  <a:lnTo>
                    <a:pt x="2174" y="668"/>
                  </a:lnTo>
                  <a:lnTo>
                    <a:pt x="2170" y="648"/>
                  </a:lnTo>
                  <a:lnTo>
                    <a:pt x="2152" y="634"/>
                  </a:lnTo>
                  <a:lnTo>
                    <a:pt x="2134" y="624"/>
                  </a:lnTo>
                  <a:lnTo>
                    <a:pt x="2132" y="662"/>
                  </a:lnTo>
                  <a:lnTo>
                    <a:pt x="2122" y="674"/>
                  </a:lnTo>
                  <a:lnTo>
                    <a:pt x="2120" y="692"/>
                  </a:lnTo>
                  <a:lnTo>
                    <a:pt x="2102" y="692"/>
                  </a:lnTo>
                  <a:lnTo>
                    <a:pt x="2042" y="672"/>
                  </a:lnTo>
                  <a:lnTo>
                    <a:pt x="2012" y="640"/>
                  </a:lnTo>
                  <a:lnTo>
                    <a:pt x="1998" y="650"/>
                  </a:lnTo>
                  <a:lnTo>
                    <a:pt x="1980" y="638"/>
                  </a:lnTo>
                  <a:lnTo>
                    <a:pt x="1960" y="634"/>
                  </a:lnTo>
                  <a:lnTo>
                    <a:pt x="1956" y="614"/>
                  </a:lnTo>
                  <a:lnTo>
                    <a:pt x="1982" y="592"/>
                  </a:lnTo>
                  <a:lnTo>
                    <a:pt x="2002" y="564"/>
                  </a:lnTo>
                  <a:lnTo>
                    <a:pt x="2014" y="534"/>
                  </a:lnTo>
                  <a:lnTo>
                    <a:pt x="2044" y="516"/>
                  </a:lnTo>
                  <a:lnTo>
                    <a:pt x="2034" y="498"/>
                  </a:lnTo>
                  <a:lnTo>
                    <a:pt x="1990" y="486"/>
                  </a:lnTo>
                  <a:lnTo>
                    <a:pt x="1990" y="504"/>
                  </a:lnTo>
                  <a:lnTo>
                    <a:pt x="1976" y="534"/>
                  </a:lnTo>
                  <a:lnTo>
                    <a:pt x="1960" y="540"/>
                  </a:lnTo>
                  <a:lnTo>
                    <a:pt x="1940" y="536"/>
                  </a:lnTo>
                  <a:lnTo>
                    <a:pt x="1938" y="572"/>
                  </a:lnTo>
                  <a:lnTo>
                    <a:pt x="1928" y="584"/>
                  </a:lnTo>
                  <a:lnTo>
                    <a:pt x="1884" y="608"/>
                  </a:lnTo>
                  <a:lnTo>
                    <a:pt x="1856" y="630"/>
                  </a:lnTo>
                  <a:lnTo>
                    <a:pt x="1850" y="644"/>
                  </a:lnTo>
                  <a:lnTo>
                    <a:pt x="1834" y="652"/>
                  </a:lnTo>
                  <a:lnTo>
                    <a:pt x="1822" y="664"/>
                  </a:lnTo>
                  <a:lnTo>
                    <a:pt x="1818" y="682"/>
                  </a:lnTo>
                  <a:lnTo>
                    <a:pt x="1818" y="700"/>
                  </a:lnTo>
                  <a:lnTo>
                    <a:pt x="1808" y="712"/>
                  </a:lnTo>
                  <a:lnTo>
                    <a:pt x="1794" y="722"/>
                  </a:lnTo>
                  <a:lnTo>
                    <a:pt x="1774" y="718"/>
                  </a:lnTo>
                  <a:lnTo>
                    <a:pt x="1736" y="704"/>
                  </a:lnTo>
                  <a:lnTo>
                    <a:pt x="1714" y="700"/>
                  </a:lnTo>
                  <a:lnTo>
                    <a:pt x="1676" y="684"/>
                  </a:lnTo>
                  <a:lnTo>
                    <a:pt x="1550" y="702"/>
                  </a:lnTo>
                  <a:lnTo>
                    <a:pt x="1494" y="596"/>
                  </a:lnTo>
                  <a:lnTo>
                    <a:pt x="1416" y="584"/>
                  </a:lnTo>
                  <a:lnTo>
                    <a:pt x="1402" y="554"/>
                  </a:lnTo>
                  <a:lnTo>
                    <a:pt x="1392" y="516"/>
                  </a:lnTo>
                  <a:lnTo>
                    <a:pt x="1408" y="514"/>
                  </a:lnTo>
                  <a:lnTo>
                    <a:pt x="1376" y="416"/>
                  </a:lnTo>
                  <a:lnTo>
                    <a:pt x="1346" y="420"/>
                  </a:lnTo>
                  <a:lnTo>
                    <a:pt x="1282" y="346"/>
                  </a:lnTo>
                  <a:lnTo>
                    <a:pt x="1248" y="324"/>
                  </a:lnTo>
                  <a:lnTo>
                    <a:pt x="1228" y="316"/>
                  </a:lnTo>
                  <a:lnTo>
                    <a:pt x="1192" y="296"/>
                  </a:lnTo>
                  <a:lnTo>
                    <a:pt x="1176" y="282"/>
                  </a:lnTo>
                  <a:lnTo>
                    <a:pt x="1148" y="298"/>
                  </a:lnTo>
                  <a:lnTo>
                    <a:pt x="974" y="302"/>
                  </a:lnTo>
                  <a:lnTo>
                    <a:pt x="822" y="336"/>
                  </a:lnTo>
                  <a:lnTo>
                    <a:pt x="738" y="276"/>
                  </a:lnTo>
                  <a:lnTo>
                    <a:pt x="608" y="174"/>
                  </a:lnTo>
                  <a:lnTo>
                    <a:pt x="506" y="104"/>
                  </a:lnTo>
                  <a:lnTo>
                    <a:pt x="468" y="84"/>
                  </a:lnTo>
                  <a:lnTo>
                    <a:pt x="414" y="52"/>
                  </a:lnTo>
                  <a:lnTo>
                    <a:pt x="360" y="24"/>
                  </a:lnTo>
                  <a:lnTo>
                    <a:pt x="284" y="0"/>
                  </a:lnTo>
                  <a:lnTo>
                    <a:pt x="0" y="12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17880" y="3472920"/>
              <a:ext cx="137160" cy="81360"/>
            </a:xfrm>
            <a:custGeom>
              <a:avLst/>
              <a:gdLst/>
              <a:ahLst/>
              <a:rect l="l" t="t" r="r" b="b"/>
              <a:pathLst>
                <a:path w="794" h="482">
                  <a:moveTo>
                    <a:pt x="116" y="470"/>
                  </a:moveTo>
                  <a:lnTo>
                    <a:pt x="112" y="430"/>
                  </a:lnTo>
                  <a:lnTo>
                    <a:pt x="90" y="362"/>
                  </a:lnTo>
                  <a:lnTo>
                    <a:pt x="32" y="320"/>
                  </a:lnTo>
                  <a:lnTo>
                    <a:pt x="26" y="264"/>
                  </a:lnTo>
                  <a:lnTo>
                    <a:pt x="48" y="206"/>
                  </a:lnTo>
                  <a:lnTo>
                    <a:pt x="72" y="180"/>
                  </a:lnTo>
                  <a:lnTo>
                    <a:pt x="34" y="144"/>
                  </a:lnTo>
                  <a:lnTo>
                    <a:pt x="10" y="110"/>
                  </a:lnTo>
                  <a:lnTo>
                    <a:pt x="0" y="64"/>
                  </a:lnTo>
                  <a:lnTo>
                    <a:pt x="2" y="16"/>
                  </a:lnTo>
                  <a:lnTo>
                    <a:pt x="38" y="0"/>
                  </a:lnTo>
                  <a:lnTo>
                    <a:pt x="68" y="8"/>
                  </a:lnTo>
                  <a:lnTo>
                    <a:pt x="56" y="40"/>
                  </a:lnTo>
                  <a:lnTo>
                    <a:pt x="84" y="60"/>
                  </a:lnTo>
                  <a:lnTo>
                    <a:pt x="114" y="60"/>
                  </a:lnTo>
                  <a:lnTo>
                    <a:pt x="194" y="66"/>
                  </a:lnTo>
                  <a:lnTo>
                    <a:pt x="290" y="66"/>
                  </a:lnTo>
                  <a:lnTo>
                    <a:pt x="392" y="80"/>
                  </a:lnTo>
                  <a:lnTo>
                    <a:pt x="430" y="70"/>
                  </a:lnTo>
                  <a:lnTo>
                    <a:pt x="468" y="42"/>
                  </a:lnTo>
                  <a:lnTo>
                    <a:pt x="516" y="18"/>
                  </a:lnTo>
                  <a:lnTo>
                    <a:pt x="572" y="0"/>
                  </a:lnTo>
                  <a:lnTo>
                    <a:pt x="616" y="0"/>
                  </a:lnTo>
                  <a:lnTo>
                    <a:pt x="632" y="12"/>
                  </a:lnTo>
                  <a:lnTo>
                    <a:pt x="702" y="28"/>
                  </a:lnTo>
                  <a:lnTo>
                    <a:pt x="754" y="60"/>
                  </a:lnTo>
                  <a:lnTo>
                    <a:pt x="794" y="56"/>
                  </a:lnTo>
                  <a:lnTo>
                    <a:pt x="792" y="90"/>
                  </a:lnTo>
                  <a:lnTo>
                    <a:pt x="784" y="116"/>
                  </a:lnTo>
                  <a:lnTo>
                    <a:pt x="742" y="128"/>
                  </a:lnTo>
                  <a:lnTo>
                    <a:pt x="718" y="160"/>
                  </a:lnTo>
                  <a:lnTo>
                    <a:pt x="726" y="228"/>
                  </a:lnTo>
                  <a:lnTo>
                    <a:pt x="706" y="234"/>
                  </a:lnTo>
                  <a:lnTo>
                    <a:pt x="702" y="248"/>
                  </a:lnTo>
                  <a:lnTo>
                    <a:pt x="680" y="270"/>
                  </a:lnTo>
                  <a:lnTo>
                    <a:pt x="688" y="280"/>
                  </a:lnTo>
                  <a:lnTo>
                    <a:pt x="700" y="282"/>
                  </a:lnTo>
                  <a:lnTo>
                    <a:pt x="712" y="298"/>
                  </a:lnTo>
                  <a:lnTo>
                    <a:pt x="722" y="322"/>
                  </a:lnTo>
                  <a:lnTo>
                    <a:pt x="752" y="354"/>
                  </a:lnTo>
                  <a:lnTo>
                    <a:pt x="756" y="370"/>
                  </a:lnTo>
                  <a:lnTo>
                    <a:pt x="736" y="366"/>
                  </a:lnTo>
                  <a:lnTo>
                    <a:pt x="684" y="374"/>
                  </a:lnTo>
                  <a:lnTo>
                    <a:pt x="640" y="354"/>
                  </a:lnTo>
                  <a:lnTo>
                    <a:pt x="596" y="372"/>
                  </a:lnTo>
                  <a:lnTo>
                    <a:pt x="564" y="378"/>
                  </a:lnTo>
                  <a:lnTo>
                    <a:pt x="544" y="394"/>
                  </a:lnTo>
                  <a:lnTo>
                    <a:pt x="518" y="396"/>
                  </a:lnTo>
                  <a:lnTo>
                    <a:pt x="518" y="442"/>
                  </a:lnTo>
                  <a:lnTo>
                    <a:pt x="490" y="470"/>
                  </a:lnTo>
                  <a:lnTo>
                    <a:pt x="444" y="482"/>
                  </a:lnTo>
                  <a:lnTo>
                    <a:pt x="358" y="454"/>
                  </a:lnTo>
                  <a:lnTo>
                    <a:pt x="334" y="434"/>
                  </a:lnTo>
                  <a:lnTo>
                    <a:pt x="306" y="434"/>
                  </a:lnTo>
                  <a:lnTo>
                    <a:pt x="238" y="458"/>
                  </a:lnTo>
                  <a:lnTo>
                    <a:pt x="184" y="458"/>
                  </a:lnTo>
                  <a:lnTo>
                    <a:pt x="146" y="468"/>
                  </a:lnTo>
                  <a:lnTo>
                    <a:pt x="116" y="47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640" bIns="356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41840" y="3443760"/>
              <a:ext cx="6120" cy="75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8" y="0"/>
                  </a:moveTo>
                  <a:lnTo>
                    <a:pt x="16" y="20"/>
                  </a:lnTo>
                  <a:lnTo>
                    <a:pt x="34" y="32"/>
                  </a:lnTo>
                  <a:lnTo>
                    <a:pt x="38" y="42"/>
                  </a:lnTo>
                  <a:lnTo>
                    <a:pt x="20" y="34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4" y="6"/>
                  </a:lnTo>
                  <a:lnTo>
                    <a:pt x="8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37160" y="3445200"/>
              <a:ext cx="6120" cy="1512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" y="6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8"/>
                  </a:lnTo>
                  <a:lnTo>
                    <a:pt x="10" y="22"/>
                  </a:lnTo>
                  <a:lnTo>
                    <a:pt x="14" y="36"/>
                  </a:lnTo>
                  <a:lnTo>
                    <a:pt x="16" y="58"/>
                  </a:lnTo>
                  <a:lnTo>
                    <a:pt x="28" y="86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12" y="36"/>
                  </a:lnTo>
                  <a:lnTo>
                    <a:pt x="10" y="26"/>
                  </a:lnTo>
                  <a:lnTo>
                    <a:pt x="2" y="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86840" y="3495960"/>
              <a:ext cx="9000" cy="2520"/>
            </a:xfrm>
            <a:custGeom>
              <a:avLst/>
              <a:gdLst/>
              <a:ahLst/>
              <a:rect l="l" t="t" r="r" b="b"/>
              <a:pathLst>
                <a:path w="58" h="20">
                  <a:moveTo>
                    <a:pt x="0" y="2"/>
                  </a:moveTo>
                  <a:lnTo>
                    <a:pt x="6" y="0"/>
                  </a:lnTo>
                  <a:lnTo>
                    <a:pt x="36" y="4"/>
                  </a:lnTo>
                  <a:lnTo>
                    <a:pt x="54" y="12"/>
                  </a:lnTo>
                  <a:lnTo>
                    <a:pt x="58" y="14"/>
                  </a:lnTo>
                  <a:lnTo>
                    <a:pt x="56" y="18"/>
                  </a:lnTo>
                  <a:lnTo>
                    <a:pt x="32" y="20"/>
                  </a:lnTo>
                  <a:lnTo>
                    <a:pt x="8" y="18"/>
                  </a:lnTo>
                  <a:lnTo>
                    <a:pt x="0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0" bIns="-432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94760" y="3506400"/>
              <a:ext cx="9000" cy="2880"/>
            </a:xfrm>
            <a:custGeom>
              <a:avLst/>
              <a:gdLst/>
              <a:ahLst/>
              <a:rect l="l" t="t" r="r" b="b"/>
              <a:pathLst>
                <a:path w="58" h="12">
                  <a:moveTo>
                    <a:pt x="0" y="4"/>
                  </a:moveTo>
                  <a:lnTo>
                    <a:pt x="4" y="0"/>
                  </a:lnTo>
                  <a:lnTo>
                    <a:pt x="46" y="0"/>
                  </a:lnTo>
                  <a:lnTo>
                    <a:pt x="56" y="2"/>
                  </a:lnTo>
                  <a:lnTo>
                    <a:pt x="58" y="10"/>
                  </a:lnTo>
                  <a:lnTo>
                    <a:pt x="2" y="12"/>
                  </a:lnTo>
                  <a:lnTo>
                    <a:pt x="0" y="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840" bIns="-428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4120" y="3504960"/>
              <a:ext cx="31320" cy="15120"/>
            </a:xfrm>
            <a:custGeom>
              <a:avLst/>
              <a:gdLst/>
              <a:ahLst/>
              <a:rect l="l" t="t" r="r" b="b"/>
              <a:pathLst>
                <a:path w="182" h="94">
                  <a:moveTo>
                    <a:pt x="182" y="94"/>
                  </a:moveTo>
                  <a:lnTo>
                    <a:pt x="108" y="44"/>
                  </a:lnTo>
                  <a:lnTo>
                    <a:pt x="68" y="38"/>
                  </a:lnTo>
                  <a:lnTo>
                    <a:pt x="30" y="1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34" y="6"/>
                  </a:lnTo>
                  <a:lnTo>
                    <a:pt x="48" y="20"/>
                  </a:lnTo>
                  <a:lnTo>
                    <a:pt x="60" y="22"/>
                  </a:lnTo>
                  <a:lnTo>
                    <a:pt x="76" y="12"/>
                  </a:lnTo>
                  <a:lnTo>
                    <a:pt x="92" y="14"/>
                  </a:lnTo>
                  <a:lnTo>
                    <a:pt x="94" y="24"/>
                  </a:lnTo>
                  <a:lnTo>
                    <a:pt x="114" y="38"/>
                  </a:lnTo>
                  <a:lnTo>
                    <a:pt x="128" y="42"/>
                  </a:lnTo>
                  <a:lnTo>
                    <a:pt x="152" y="62"/>
                  </a:lnTo>
                  <a:lnTo>
                    <a:pt x="170" y="64"/>
                  </a:lnTo>
                  <a:lnTo>
                    <a:pt x="170" y="74"/>
                  </a:lnTo>
                  <a:lnTo>
                    <a:pt x="182" y="76"/>
                  </a:lnTo>
                  <a:lnTo>
                    <a:pt x="182" y="9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21680" y="3403800"/>
              <a:ext cx="126360" cy="102240"/>
            </a:xfrm>
            <a:custGeom>
              <a:avLst/>
              <a:gdLst/>
              <a:ahLst/>
              <a:rect l="l" t="t" r="r" b="b"/>
              <a:pathLst>
                <a:path w="736" h="602">
                  <a:moveTo>
                    <a:pt x="640" y="104"/>
                  </a:moveTo>
                  <a:lnTo>
                    <a:pt x="612" y="120"/>
                  </a:lnTo>
                  <a:lnTo>
                    <a:pt x="584" y="130"/>
                  </a:lnTo>
                  <a:lnTo>
                    <a:pt x="544" y="132"/>
                  </a:lnTo>
                  <a:lnTo>
                    <a:pt x="508" y="112"/>
                  </a:lnTo>
                  <a:lnTo>
                    <a:pt x="482" y="104"/>
                  </a:lnTo>
                  <a:lnTo>
                    <a:pt x="454" y="72"/>
                  </a:lnTo>
                  <a:lnTo>
                    <a:pt x="420" y="58"/>
                  </a:lnTo>
                  <a:lnTo>
                    <a:pt x="394" y="26"/>
                  </a:lnTo>
                  <a:lnTo>
                    <a:pt x="368" y="14"/>
                  </a:lnTo>
                  <a:lnTo>
                    <a:pt x="364" y="10"/>
                  </a:lnTo>
                  <a:lnTo>
                    <a:pt x="358" y="14"/>
                  </a:lnTo>
                  <a:lnTo>
                    <a:pt x="336" y="2"/>
                  </a:lnTo>
                  <a:lnTo>
                    <a:pt x="328" y="0"/>
                  </a:lnTo>
                  <a:lnTo>
                    <a:pt x="320" y="8"/>
                  </a:lnTo>
                  <a:lnTo>
                    <a:pt x="320" y="18"/>
                  </a:lnTo>
                  <a:lnTo>
                    <a:pt x="326" y="32"/>
                  </a:lnTo>
                  <a:lnTo>
                    <a:pt x="326" y="34"/>
                  </a:lnTo>
                  <a:lnTo>
                    <a:pt x="318" y="32"/>
                  </a:lnTo>
                  <a:lnTo>
                    <a:pt x="302" y="32"/>
                  </a:lnTo>
                  <a:lnTo>
                    <a:pt x="302" y="42"/>
                  </a:lnTo>
                  <a:lnTo>
                    <a:pt x="294" y="48"/>
                  </a:lnTo>
                  <a:lnTo>
                    <a:pt x="250" y="62"/>
                  </a:lnTo>
                  <a:lnTo>
                    <a:pt x="244" y="74"/>
                  </a:lnTo>
                  <a:lnTo>
                    <a:pt x="246" y="82"/>
                  </a:lnTo>
                  <a:lnTo>
                    <a:pt x="262" y="96"/>
                  </a:lnTo>
                  <a:lnTo>
                    <a:pt x="262" y="120"/>
                  </a:lnTo>
                  <a:lnTo>
                    <a:pt x="254" y="136"/>
                  </a:lnTo>
                  <a:lnTo>
                    <a:pt x="234" y="138"/>
                  </a:lnTo>
                  <a:lnTo>
                    <a:pt x="212" y="158"/>
                  </a:lnTo>
                  <a:lnTo>
                    <a:pt x="220" y="168"/>
                  </a:lnTo>
                  <a:lnTo>
                    <a:pt x="212" y="180"/>
                  </a:lnTo>
                  <a:lnTo>
                    <a:pt x="216" y="206"/>
                  </a:lnTo>
                  <a:lnTo>
                    <a:pt x="206" y="214"/>
                  </a:lnTo>
                  <a:lnTo>
                    <a:pt x="198" y="214"/>
                  </a:lnTo>
                  <a:lnTo>
                    <a:pt x="186" y="202"/>
                  </a:lnTo>
                  <a:lnTo>
                    <a:pt x="176" y="200"/>
                  </a:lnTo>
                  <a:lnTo>
                    <a:pt x="172" y="196"/>
                  </a:lnTo>
                  <a:lnTo>
                    <a:pt x="166" y="194"/>
                  </a:lnTo>
                  <a:lnTo>
                    <a:pt x="166" y="204"/>
                  </a:lnTo>
                  <a:lnTo>
                    <a:pt x="156" y="206"/>
                  </a:lnTo>
                  <a:lnTo>
                    <a:pt x="128" y="164"/>
                  </a:lnTo>
                  <a:lnTo>
                    <a:pt x="120" y="164"/>
                  </a:lnTo>
                  <a:lnTo>
                    <a:pt x="106" y="198"/>
                  </a:lnTo>
                  <a:lnTo>
                    <a:pt x="68" y="198"/>
                  </a:lnTo>
                  <a:lnTo>
                    <a:pt x="54" y="188"/>
                  </a:lnTo>
                  <a:lnTo>
                    <a:pt x="50" y="200"/>
                  </a:lnTo>
                  <a:lnTo>
                    <a:pt x="18" y="200"/>
                  </a:lnTo>
                  <a:lnTo>
                    <a:pt x="0" y="188"/>
                  </a:lnTo>
                  <a:lnTo>
                    <a:pt x="10" y="234"/>
                  </a:lnTo>
                  <a:lnTo>
                    <a:pt x="44" y="292"/>
                  </a:lnTo>
                  <a:lnTo>
                    <a:pt x="56" y="298"/>
                  </a:lnTo>
                  <a:lnTo>
                    <a:pt x="68" y="296"/>
                  </a:lnTo>
                  <a:lnTo>
                    <a:pt x="90" y="254"/>
                  </a:lnTo>
                  <a:lnTo>
                    <a:pt x="102" y="214"/>
                  </a:lnTo>
                  <a:lnTo>
                    <a:pt x="132" y="222"/>
                  </a:lnTo>
                  <a:lnTo>
                    <a:pt x="152" y="244"/>
                  </a:lnTo>
                  <a:lnTo>
                    <a:pt x="160" y="244"/>
                  </a:lnTo>
                  <a:lnTo>
                    <a:pt x="170" y="256"/>
                  </a:lnTo>
                  <a:lnTo>
                    <a:pt x="178" y="278"/>
                  </a:lnTo>
                  <a:lnTo>
                    <a:pt x="180" y="310"/>
                  </a:lnTo>
                  <a:lnTo>
                    <a:pt x="200" y="346"/>
                  </a:lnTo>
                  <a:lnTo>
                    <a:pt x="250" y="380"/>
                  </a:lnTo>
                  <a:lnTo>
                    <a:pt x="228" y="386"/>
                  </a:lnTo>
                  <a:lnTo>
                    <a:pt x="222" y="396"/>
                  </a:lnTo>
                  <a:lnTo>
                    <a:pt x="224" y="408"/>
                  </a:lnTo>
                  <a:lnTo>
                    <a:pt x="250" y="440"/>
                  </a:lnTo>
                  <a:lnTo>
                    <a:pt x="276" y="454"/>
                  </a:lnTo>
                  <a:lnTo>
                    <a:pt x="292" y="468"/>
                  </a:lnTo>
                  <a:lnTo>
                    <a:pt x="318" y="480"/>
                  </a:lnTo>
                  <a:lnTo>
                    <a:pt x="330" y="500"/>
                  </a:lnTo>
                  <a:lnTo>
                    <a:pt x="336" y="516"/>
                  </a:lnTo>
                  <a:lnTo>
                    <a:pt x="376" y="514"/>
                  </a:lnTo>
                  <a:lnTo>
                    <a:pt x="404" y="518"/>
                  </a:lnTo>
                  <a:lnTo>
                    <a:pt x="446" y="532"/>
                  </a:lnTo>
                  <a:lnTo>
                    <a:pt x="482" y="556"/>
                  </a:lnTo>
                  <a:lnTo>
                    <a:pt x="514" y="588"/>
                  </a:lnTo>
                  <a:lnTo>
                    <a:pt x="534" y="602"/>
                  </a:lnTo>
                  <a:lnTo>
                    <a:pt x="550" y="592"/>
                  </a:lnTo>
                  <a:lnTo>
                    <a:pt x="494" y="538"/>
                  </a:lnTo>
                  <a:lnTo>
                    <a:pt x="488" y="514"/>
                  </a:lnTo>
                  <a:lnTo>
                    <a:pt x="478" y="504"/>
                  </a:lnTo>
                  <a:lnTo>
                    <a:pt x="466" y="500"/>
                  </a:lnTo>
                  <a:lnTo>
                    <a:pt x="416" y="456"/>
                  </a:lnTo>
                  <a:lnTo>
                    <a:pt x="414" y="444"/>
                  </a:lnTo>
                  <a:lnTo>
                    <a:pt x="390" y="416"/>
                  </a:lnTo>
                  <a:lnTo>
                    <a:pt x="374" y="412"/>
                  </a:lnTo>
                  <a:lnTo>
                    <a:pt x="352" y="382"/>
                  </a:lnTo>
                  <a:lnTo>
                    <a:pt x="342" y="382"/>
                  </a:lnTo>
                  <a:lnTo>
                    <a:pt x="342" y="366"/>
                  </a:lnTo>
                  <a:lnTo>
                    <a:pt x="346" y="362"/>
                  </a:lnTo>
                  <a:lnTo>
                    <a:pt x="336" y="350"/>
                  </a:lnTo>
                  <a:lnTo>
                    <a:pt x="336" y="338"/>
                  </a:lnTo>
                  <a:lnTo>
                    <a:pt x="322" y="324"/>
                  </a:lnTo>
                  <a:lnTo>
                    <a:pt x="310" y="298"/>
                  </a:lnTo>
                  <a:lnTo>
                    <a:pt x="300" y="296"/>
                  </a:lnTo>
                  <a:lnTo>
                    <a:pt x="282" y="282"/>
                  </a:lnTo>
                  <a:lnTo>
                    <a:pt x="282" y="276"/>
                  </a:lnTo>
                  <a:lnTo>
                    <a:pt x="290" y="272"/>
                  </a:lnTo>
                  <a:lnTo>
                    <a:pt x="286" y="262"/>
                  </a:lnTo>
                  <a:lnTo>
                    <a:pt x="284" y="222"/>
                  </a:lnTo>
                  <a:lnTo>
                    <a:pt x="296" y="208"/>
                  </a:lnTo>
                  <a:lnTo>
                    <a:pt x="316" y="212"/>
                  </a:lnTo>
                  <a:lnTo>
                    <a:pt x="318" y="218"/>
                  </a:lnTo>
                  <a:lnTo>
                    <a:pt x="350" y="248"/>
                  </a:lnTo>
                  <a:lnTo>
                    <a:pt x="356" y="250"/>
                  </a:lnTo>
                  <a:lnTo>
                    <a:pt x="376" y="212"/>
                  </a:lnTo>
                  <a:lnTo>
                    <a:pt x="418" y="216"/>
                  </a:lnTo>
                  <a:lnTo>
                    <a:pt x="426" y="204"/>
                  </a:lnTo>
                  <a:lnTo>
                    <a:pt x="428" y="204"/>
                  </a:lnTo>
                  <a:lnTo>
                    <a:pt x="458" y="224"/>
                  </a:lnTo>
                  <a:lnTo>
                    <a:pt x="468" y="224"/>
                  </a:lnTo>
                  <a:lnTo>
                    <a:pt x="472" y="218"/>
                  </a:lnTo>
                  <a:lnTo>
                    <a:pt x="482" y="226"/>
                  </a:lnTo>
                  <a:lnTo>
                    <a:pt x="516" y="230"/>
                  </a:lnTo>
                  <a:lnTo>
                    <a:pt x="520" y="226"/>
                  </a:lnTo>
                  <a:lnTo>
                    <a:pt x="524" y="226"/>
                  </a:lnTo>
                  <a:lnTo>
                    <a:pt x="544" y="242"/>
                  </a:lnTo>
                  <a:lnTo>
                    <a:pt x="550" y="240"/>
                  </a:lnTo>
                  <a:lnTo>
                    <a:pt x="562" y="226"/>
                  </a:lnTo>
                  <a:lnTo>
                    <a:pt x="570" y="226"/>
                  </a:lnTo>
                  <a:lnTo>
                    <a:pt x="580" y="236"/>
                  </a:lnTo>
                  <a:lnTo>
                    <a:pt x="586" y="238"/>
                  </a:lnTo>
                  <a:lnTo>
                    <a:pt x="592" y="228"/>
                  </a:lnTo>
                  <a:lnTo>
                    <a:pt x="618" y="232"/>
                  </a:lnTo>
                  <a:lnTo>
                    <a:pt x="628" y="244"/>
                  </a:lnTo>
                  <a:lnTo>
                    <a:pt x="632" y="240"/>
                  </a:lnTo>
                  <a:lnTo>
                    <a:pt x="632" y="234"/>
                  </a:lnTo>
                  <a:lnTo>
                    <a:pt x="648" y="236"/>
                  </a:lnTo>
                  <a:lnTo>
                    <a:pt x="664" y="252"/>
                  </a:lnTo>
                  <a:lnTo>
                    <a:pt x="662" y="262"/>
                  </a:lnTo>
                  <a:lnTo>
                    <a:pt x="664" y="266"/>
                  </a:lnTo>
                  <a:lnTo>
                    <a:pt x="676" y="274"/>
                  </a:lnTo>
                  <a:lnTo>
                    <a:pt x="696" y="274"/>
                  </a:lnTo>
                  <a:lnTo>
                    <a:pt x="708" y="264"/>
                  </a:lnTo>
                  <a:lnTo>
                    <a:pt x="710" y="254"/>
                  </a:lnTo>
                  <a:lnTo>
                    <a:pt x="704" y="250"/>
                  </a:lnTo>
                  <a:lnTo>
                    <a:pt x="700" y="230"/>
                  </a:lnTo>
                  <a:lnTo>
                    <a:pt x="704" y="224"/>
                  </a:lnTo>
                  <a:lnTo>
                    <a:pt x="706" y="212"/>
                  </a:lnTo>
                  <a:lnTo>
                    <a:pt x="710" y="212"/>
                  </a:lnTo>
                  <a:lnTo>
                    <a:pt x="720" y="214"/>
                  </a:lnTo>
                  <a:lnTo>
                    <a:pt x="728" y="216"/>
                  </a:lnTo>
                  <a:lnTo>
                    <a:pt x="736" y="210"/>
                  </a:lnTo>
                  <a:lnTo>
                    <a:pt x="736" y="206"/>
                  </a:lnTo>
                  <a:lnTo>
                    <a:pt x="730" y="204"/>
                  </a:lnTo>
                  <a:lnTo>
                    <a:pt x="720" y="204"/>
                  </a:lnTo>
                  <a:lnTo>
                    <a:pt x="712" y="200"/>
                  </a:lnTo>
                  <a:lnTo>
                    <a:pt x="700" y="202"/>
                  </a:lnTo>
                  <a:lnTo>
                    <a:pt x="694" y="196"/>
                  </a:lnTo>
                  <a:lnTo>
                    <a:pt x="690" y="192"/>
                  </a:lnTo>
                  <a:lnTo>
                    <a:pt x="680" y="192"/>
                  </a:lnTo>
                  <a:lnTo>
                    <a:pt x="678" y="188"/>
                  </a:lnTo>
                  <a:lnTo>
                    <a:pt x="678" y="184"/>
                  </a:lnTo>
                  <a:lnTo>
                    <a:pt x="680" y="178"/>
                  </a:lnTo>
                  <a:lnTo>
                    <a:pt x="676" y="174"/>
                  </a:lnTo>
                  <a:lnTo>
                    <a:pt x="678" y="168"/>
                  </a:lnTo>
                  <a:lnTo>
                    <a:pt x="682" y="168"/>
                  </a:lnTo>
                  <a:lnTo>
                    <a:pt x="686" y="164"/>
                  </a:lnTo>
                  <a:lnTo>
                    <a:pt x="686" y="162"/>
                  </a:lnTo>
                  <a:lnTo>
                    <a:pt x="678" y="156"/>
                  </a:lnTo>
                  <a:lnTo>
                    <a:pt x="674" y="156"/>
                  </a:lnTo>
                  <a:lnTo>
                    <a:pt x="668" y="162"/>
                  </a:lnTo>
                  <a:lnTo>
                    <a:pt x="662" y="158"/>
                  </a:lnTo>
                  <a:lnTo>
                    <a:pt x="660" y="152"/>
                  </a:lnTo>
                  <a:lnTo>
                    <a:pt x="666" y="144"/>
                  </a:lnTo>
                  <a:lnTo>
                    <a:pt x="664" y="136"/>
                  </a:lnTo>
                  <a:lnTo>
                    <a:pt x="658" y="132"/>
                  </a:lnTo>
                  <a:lnTo>
                    <a:pt x="662" y="126"/>
                  </a:lnTo>
                  <a:lnTo>
                    <a:pt x="660" y="120"/>
                  </a:lnTo>
                  <a:lnTo>
                    <a:pt x="640" y="10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55600" y="3515760"/>
              <a:ext cx="42120" cy="85680"/>
            </a:xfrm>
            <a:custGeom>
              <a:avLst/>
              <a:gdLst/>
              <a:ahLst/>
              <a:rect l="l" t="t" r="r" b="b"/>
              <a:pathLst>
                <a:path w="242" h="498">
                  <a:moveTo>
                    <a:pt x="140" y="498"/>
                  </a:moveTo>
                  <a:lnTo>
                    <a:pt x="118" y="488"/>
                  </a:lnTo>
                  <a:lnTo>
                    <a:pt x="112" y="462"/>
                  </a:lnTo>
                  <a:lnTo>
                    <a:pt x="94" y="440"/>
                  </a:lnTo>
                  <a:lnTo>
                    <a:pt x="52" y="424"/>
                  </a:lnTo>
                  <a:lnTo>
                    <a:pt x="28" y="390"/>
                  </a:lnTo>
                  <a:lnTo>
                    <a:pt x="16" y="368"/>
                  </a:lnTo>
                  <a:lnTo>
                    <a:pt x="34" y="372"/>
                  </a:lnTo>
                  <a:lnTo>
                    <a:pt x="32" y="352"/>
                  </a:lnTo>
                  <a:lnTo>
                    <a:pt x="20" y="320"/>
                  </a:lnTo>
                  <a:lnTo>
                    <a:pt x="26" y="290"/>
                  </a:lnTo>
                  <a:lnTo>
                    <a:pt x="30" y="284"/>
                  </a:lnTo>
                  <a:lnTo>
                    <a:pt x="26" y="262"/>
                  </a:lnTo>
                  <a:lnTo>
                    <a:pt x="30" y="242"/>
                  </a:lnTo>
                  <a:lnTo>
                    <a:pt x="18" y="216"/>
                  </a:lnTo>
                  <a:lnTo>
                    <a:pt x="32" y="146"/>
                  </a:lnTo>
                  <a:lnTo>
                    <a:pt x="20" y="134"/>
                  </a:lnTo>
                  <a:lnTo>
                    <a:pt x="0" y="130"/>
                  </a:lnTo>
                  <a:lnTo>
                    <a:pt x="10" y="94"/>
                  </a:lnTo>
                  <a:lnTo>
                    <a:pt x="2" y="68"/>
                  </a:lnTo>
                  <a:lnTo>
                    <a:pt x="10" y="36"/>
                  </a:lnTo>
                  <a:lnTo>
                    <a:pt x="26" y="22"/>
                  </a:lnTo>
                  <a:lnTo>
                    <a:pt x="38" y="0"/>
                  </a:lnTo>
                  <a:lnTo>
                    <a:pt x="58" y="16"/>
                  </a:lnTo>
                  <a:lnTo>
                    <a:pt x="90" y="20"/>
                  </a:lnTo>
                  <a:lnTo>
                    <a:pt x="108" y="46"/>
                  </a:lnTo>
                  <a:lnTo>
                    <a:pt x="132" y="54"/>
                  </a:lnTo>
                  <a:lnTo>
                    <a:pt x="162" y="90"/>
                  </a:lnTo>
                  <a:lnTo>
                    <a:pt x="158" y="174"/>
                  </a:lnTo>
                  <a:lnTo>
                    <a:pt x="164" y="212"/>
                  </a:lnTo>
                  <a:lnTo>
                    <a:pt x="188" y="258"/>
                  </a:lnTo>
                  <a:lnTo>
                    <a:pt x="232" y="298"/>
                  </a:lnTo>
                  <a:lnTo>
                    <a:pt x="238" y="322"/>
                  </a:lnTo>
                  <a:lnTo>
                    <a:pt x="242" y="354"/>
                  </a:lnTo>
                  <a:lnTo>
                    <a:pt x="214" y="382"/>
                  </a:lnTo>
                  <a:lnTo>
                    <a:pt x="198" y="422"/>
                  </a:lnTo>
                  <a:lnTo>
                    <a:pt x="176" y="440"/>
                  </a:lnTo>
                  <a:lnTo>
                    <a:pt x="172" y="466"/>
                  </a:lnTo>
                  <a:lnTo>
                    <a:pt x="162" y="482"/>
                  </a:lnTo>
                  <a:lnTo>
                    <a:pt x="144" y="498"/>
                  </a:lnTo>
                  <a:lnTo>
                    <a:pt x="140" y="49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65120" y="4494240"/>
              <a:ext cx="4680" cy="9360"/>
            </a:xfrm>
            <a:custGeom>
              <a:avLst/>
              <a:gdLst/>
              <a:ahLst/>
              <a:rect l="l" t="t" r="r" b="b"/>
              <a:pathLst>
                <a:path w="24" h="56">
                  <a:moveTo>
                    <a:pt x="8" y="6"/>
                  </a:moveTo>
                  <a:lnTo>
                    <a:pt x="0" y="8"/>
                  </a:lnTo>
                  <a:lnTo>
                    <a:pt x="4" y="38"/>
                  </a:lnTo>
                  <a:lnTo>
                    <a:pt x="12" y="56"/>
                  </a:lnTo>
                  <a:lnTo>
                    <a:pt x="24" y="40"/>
                  </a:lnTo>
                  <a:lnTo>
                    <a:pt x="24" y="18"/>
                  </a:lnTo>
                  <a:lnTo>
                    <a:pt x="12" y="0"/>
                  </a:lnTo>
                  <a:lnTo>
                    <a:pt x="8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04280" y="4107600"/>
              <a:ext cx="212400" cy="461160"/>
            </a:xfrm>
            <a:custGeom>
              <a:avLst/>
              <a:gdLst/>
              <a:ahLst/>
              <a:rect l="l" t="t" r="r" b="b"/>
              <a:pathLst>
                <a:path w="1216" h="2692">
                  <a:moveTo>
                    <a:pt x="276" y="0"/>
                  </a:moveTo>
                  <a:lnTo>
                    <a:pt x="262" y="8"/>
                  </a:lnTo>
                  <a:lnTo>
                    <a:pt x="254" y="34"/>
                  </a:lnTo>
                  <a:lnTo>
                    <a:pt x="248" y="74"/>
                  </a:lnTo>
                  <a:lnTo>
                    <a:pt x="214" y="86"/>
                  </a:lnTo>
                  <a:lnTo>
                    <a:pt x="196" y="100"/>
                  </a:lnTo>
                  <a:lnTo>
                    <a:pt x="166" y="138"/>
                  </a:lnTo>
                  <a:lnTo>
                    <a:pt x="144" y="156"/>
                  </a:lnTo>
                  <a:lnTo>
                    <a:pt x="122" y="194"/>
                  </a:lnTo>
                  <a:lnTo>
                    <a:pt x="96" y="206"/>
                  </a:lnTo>
                  <a:lnTo>
                    <a:pt x="50" y="208"/>
                  </a:lnTo>
                  <a:lnTo>
                    <a:pt x="18" y="216"/>
                  </a:lnTo>
                  <a:lnTo>
                    <a:pt x="6" y="338"/>
                  </a:lnTo>
                  <a:lnTo>
                    <a:pt x="8" y="374"/>
                  </a:lnTo>
                  <a:lnTo>
                    <a:pt x="18" y="406"/>
                  </a:lnTo>
                  <a:lnTo>
                    <a:pt x="0" y="428"/>
                  </a:lnTo>
                  <a:lnTo>
                    <a:pt x="6" y="448"/>
                  </a:lnTo>
                  <a:lnTo>
                    <a:pt x="30" y="500"/>
                  </a:lnTo>
                  <a:lnTo>
                    <a:pt x="72" y="572"/>
                  </a:lnTo>
                  <a:lnTo>
                    <a:pt x="140" y="624"/>
                  </a:lnTo>
                  <a:lnTo>
                    <a:pt x="166" y="654"/>
                  </a:lnTo>
                  <a:lnTo>
                    <a:pt x="180" y="704"/>
                  </a:lnTo>
                  <a:lnTo>
                    <a:pt x="186" y="752"/>
                  </a:lnTo>
                  <a:lnTo>
                    <a:pt x="198" y="790"/>
                  </a:lnTo>
                  <a:lnTo>
                    <a:pt x="224" y="792"/>
                  </a:lnTo>
                  <a:lnTo>
                    <a:pt x="238" y="822"/>
                  </a:lnTo>
                  <a:lnTo>
                    <a:pt x="226" y="842"/>
                  </a:lnTo>
                  <a:lnTo>
                    <a:pt x="218" y="884"/>
                  </a:lnTo>
                  <a:lnTo>
                    <a:pt x="216" y="914"/>
                  </a:lnTo>
                  <a:lnTo>
                    <a:pt x="220" y="950"/>
                  </a:lnTo>
                  <a:lnTo>
                    <a:pt x="214" y="966"/>
                  </a:lnTo>
                  <a:lnTo>
                    <a:pt x="196" y="988"/>
                  </a:lnTo>
                  <a:lnTo>
                    <a:pt x="190" y="1014"/>
                  </a:lnTo>
                  <a:lnTo>
                    <a:pt x="194" y="1058"/>
                  </a:lnTo>
                  <a:lnTo>
                    <a:pt x="218" y="1110"/>
                  </a:lnTo>
                  <a:lnTo>
                    <a:pt x="272" y="1150"/>
                  </a:lnTo>
                  <a:lnTo>
                    <a:pt x="330" y="1212"/>
                  </a:lnTo>
                  <a:lnTo>
                    <a:pt x="338" y="1230"/>
                  </a:lnTo>
                  <a:lnTo>
                    <a:pt x="346" y="1256"/>
                  </a:lnTo>
                  <a:lnTo>
                    <a:pt x="368" y="1364"/>
                  </a:lnTo>
                  <a:lnTo>
                    <a:pt x="392" y="1422"/>
                  </a:lnTo>
                  <a:lnTo>
                    <a:pt x="396" y="1426"/>
                  </a:lnTo>
                  <a:lnTo>
                    <a:pt x="416" y="1476"/>
                  </a:lnTo>
                  <a:lnTo>
                    <a:pt x="468" y="1582"/>
                  </a:lnTo>
                  <a:lnTo>
                    <a:pt x="468" y="1606"/>
                  </a:lnTo>
                  <a:lnTo>
                    <a:pt x="430" y="1700"/>
                  </a:lnTo>
                  <a:lnTo>
                    <a:pt x="406" y="1728"/>
                  </a:lnTo>
                  <a:lnTo>
                    <a:pt x="392" y="1766"/>
                  </a:lnTo>
                  <a:lnTo>
                    <a:pt x="390" y="1812"/>
                  </a:lnTo>
                  <a:lnTo>
                    <a:pt x="382" y="1856"/>
                  </a:lnTo>
                  <a:lnTo>
                    <a:pt x="372" y="1880"/>
                  </a:lnTo>
                  <a:lnTo>
                    <a:pt x="370" y="1892"/>
                  </a:lnTo>
                  <a:lnTo>
                    <a:pt x="362" y="1928"/>
                  </a:lnTo>
                  <a:lnTo>
                    <a:pt x="362" y="1956"/>
                  </a:lnTo>
                  <a:lnTo>
                    <a:pt x="340" y="2106"/>
                  </a:lnTo>
                  <a:lnTo>
                    <a:pt x="340" y="2162"/>
                  </a:lnTo>
                  <a:lnTo>
                    <a:pt x="344" y="2210"/>
                  </a:lnTo>
                  <a:lnTo>
                    <a:pt x="356" y="2240"/>
                  </a:lnTo>
                  <a:lnTo>
                    <a:pt x="406" y="2234"/>
                  </a:lnTo>
                  <a:lnTo>
                    <a:pt x="464" y="2304"/>
                  </a:lnTo>
                  <a:lnTo>
                    <a:pt x="480" y="2314"/>
                  </a:lnTo>
                  <a:lnTo>
                    <a:pt x="524" y="2384"/>
                  </a:lnTo>
                  <a:lnTo>
                    <a:pt x="556" y="2418"/>
                  </a:lnTo>
                  <a:lnTo>
                    <a:pt x="574" y="2462"/>
                  </a:lnTo>
                  <a:lnTo>
                    <a:pt x="652" y="2556"/>
                  </a:lnTo>
                  <a:lnTo>
                    <a:pt x="636" y="2508"/>
                  </a:lnTo>
                  <a:lnTo>
                    <a:pt x="668" y="2508"/>
                  </a:lnTo>
                  <a:lnTo>
                    <a:pt x="690" y="2538"/>
                  </a:lnTo>
                  <a:lnTo>
                    <a:pt x="736" y="2544"/>
                  </a:lnTo>
                  <a:lnTo>
                    <a:pt x="760" y="2552"/>
                  </a:lnTo>
                  <a:lnTo>
                    <a:pt x="790" y="2600"/>
                  </a:lnTo>
                  <a:lnTo>
                    <a:pt x="786" y="2654"/>
                  </a:lnTo>
                  <a:lnTo>
                    <a:pt x="800" y="2692"/>
                  </a:lnTo>
                  <a:lnTo>
                    <a:pt x="858" y="2640"/>
                  </a:lnTo>
                  <a:lnTo>
                    <a:pt x="886" y="2644"/>
                  </a:lnTo>
                  <a:lnTo>
                    <a:pt x="914" y="2640"/>
                  </a:lnTo>
                  <a:lnTo>
                    <a:pt x="930" y="2598"/>
                  </a:lnTo>
                  <a:lnTo>
                    <a:pt x="904" y="2556"/>
                  </a:lnTo>
                  <a:lnTo>
                    <a:pt x="870" y="2510"/>
                  </a:lnTo>
                  <a:lnTo>
                    <a:pt x="830" y="2474"/>
                  </a:lnTo>
                  <a:lnTo>
                    <a:pt x="740" y="2458"/>
                  </a:lnTo>
                  <a:lnTo>
                    <a:pt x="702" y="2410"/>
                  </a:lnTo>
                  <a:lnTo>
                    <a:pt x="686" y="2398"/>
                  </a:lnTo>
                  <a:lnTo>
                    <a:pt x="672" y="2364"/>
                  </a:lnTo>
                  <a:lnTo>
                    <a:pt x="644" y="2250"/>
                  </a:lnTo>
                  <a:lnTo>
                    <a:pt x="626" y="2218"/>
                  </a:lnTo>
                  <a:lnTo>
                    <a:pt x="600" y="2188"/>
                  </a:lnTo>
                  <a:lnTo>
                    <a:pt x="582" y="2142"/>
                  </a:lnTo>
                  <a:lnTo>
                    <a:pt x="574" y="2088"/>
                  </a:lnTo>
                  <a:lnTo>
                    <a:pt x="556" y="2054"/>
                  </a:lnTo>
                  <a:lnTo>
                    <a:pt x="530" y="2048"/>
                  </a:lnTo>
                  <a:lnTo>
                    <a:pt x="498" y="2064"/>
                  </a:lnTo>
                  <a:lnTo>
                    <a:pt x="472" y="2056"/>
                  </a:lnTo>
                  <a:lnTo>
                    <a:pt x="462" y="2028"/>
                  </a:lnTo>
                  <a:lnTo>
                    <a:pt x="450" y="1974"/>
                  </a:lnTo>
                  <a:lnTo>
                    <a:pt x="440" y="1920"/>
                  </a:lnTo>
                  <a:lnTo>
                    <a:pt x="434" y="1874"/>
                  </a:lnTo>
                  <a:lnTo>
                    <a:pt x="438" y="1854"/>
                  </a:lnTo>
                  <a:lnTo>
                    <a:pt x="448" y="1826"/>
                  </a:lnTo>
                  <a:lnTo>
                    <a:pt x="448" y="1792"/>
                  </a:lnTo>
                  <a:lnTo>
                    <a:pt x="458" y="1778"/>
                  </a:lnTo>
                  <a:lnTo>
                    <a:pt x="468" y="1744"/>
                  </a:lnTo>
                  <a:lnTo>
                    <a:pt x="464" y="1710"/>
                  </a:lnTo>
                  <a:lnTo>
                    <a:pt x="474" y="1624"/>
                  </a:lnTo>
                  <a:lnTo>
                    <a:pt x="488" y="1576"/>
                  </a:lnTo>
                  <a:lnTo>
                    <a:pt x="504" y="1532"/>
                  </a:lnTo>
                  <a:lnTo>
                    <a:pt x="500" y="1478"/>
                  </a:lnTo>
                  <a:lnTo>
                    <a:pt x="498" y="1374"/>
                  </a:lnTo>
                  <a:lnTo>
                    <a:pt x="480" y="1302"/>
                  </a:lnTo>
                  <a:lnTo>
                    <a:pt x="510" y="1284"/>
                  </a:lnTo>
                  <a:lnTo>
                    <a:pt x="550" y="1280"/>
                  </a:lnTo>
                  <a:lnTo>
                    <a:pt x="558" y="1280"/>
                  </a:lnTo>
                  <a:lnTo>
                    <a:pt x="576" y="1284"/>
                  </a:lnTo>
                  <a:lnTo>
                    <a:pt x="606" y="1292"/>
                  </a:lnTo>
                  <a:lnTo>
                    <a:pt x="616" y="1310"/>
                  </a:lnTo>
                  <a:lnTo>
                    <a:pt x="626" y="1424"/>
                  </a:lnTo>
                  <a:lnTo>
                    <a:pt x="638" y="1446"/>
                  </a:lnTo>
                  <a:lnTo>
                    <a:pt x="648" y="1448"/>
                  </a:lnTo>
                  <a:lnTo>
                    <a:pt x="638" y="1438"/>
                  </a:lnTo>
                  <a:lnTo>
                    <a:pt x="652" y="1434"/>
                  </a:lnTo>
                  <a:lnTo>
                    <a:pt x="714" y="1440"/>
                  </a:lnTo>
                  <a:lnTo>
                    <a:pt x="738" y="1432"/>
                  </a:lnTo>
                  <a:lnTo>
                    <a:pt x="766" y="1440"/>
                  </a:lnTo>
                  <a:lnTo>
                    <a:pt x="818" y="1488"/>
                  </a:lnTo>
                  <a:lnTo>
                    <a:pt x="840" y="1516"/>
                  </a:lnTo>
                  <a:lnTo>
                    <a:pt x="860" y="1526"/>
                  </a:lnTo>
                  <a:lnTo>
                    <a:pt x="874" y="1538"/>
                  </a:lnTo>
                  <a:lnTo>
                    <a:pt x="878" y="1532"/>
                  </a:lnTo>
                  <a:lnTo>
                    <a:pt x="892" y="1540"/>
                  </a:lnTo>
                  <a:lnTo>
                    <a:pt x="922" y="1602"/>
                  </a:lnTo>
                  <a:lnTo>
                    <a:pt x="940" y="1616"/>
                  </a:lnTo>
                  <a:lnTo>
                    <a:pt x="942" y="1596"/>
                  </a:lnTo>
                  <a:lnTo>
                    <a:pt x="938" y="1568"/>
                  </a:lnTo>
                  <a:lnTo>
                    <a:pt x="914" y="1522"/>
                  </a:lnTo>
                  <a:lnTo>
                    <a:pt x="892" y="1480"/>
                  </a:lnTo>
                  <a:lnTo>
                    <a:pt x="850" y="1442"/>
                  </a:lnTo>
                  <a:lnTo>
                    <a:pt x="822" y="1372"/>
                  </a:lnTo>
                  <a:lnTo>
                    <a:pt x="812" y="1338"/>
                  </a:lnTo>
                  <a:lnTo>
                    <a:pt x="808" y="1280"/>
                  </a:lnTo>
                  <a:lnTo>
                    <a:pt x="824" y="1264"/>
                  </a:lnTo>
                  <a:lnTo>
                    <a:pt x="834" y="1230"/>
                  </a:lnTo>
                  <a:lnTo>
                    <a:pt x="850" y="1218"/>
                  </a:lnTo>
                  <a:lnTo>
                    <a:pt x="878" y="1154"/>
                  </a:lnTo>
                  <a:lnTo>
                    <a:pt x="890" y="1132"/>
                  </a:lnTo>
                  <a:lnTo>
                    <a:pt x="910" y="1122"/>
                  </a:lnTo>
                  <a:lnTo>
                    <a:pt x="980" y="1126"/>
                  </a:lnTo>
                  <a:lnTo>
                    <a:pt x="1024" y="1134"/>
                  </a:lnTo>
                  <a:lnTo>
                    <a:pt x="1068" y="1126"/>
                  </a:lnTo>
                  <a:lnTo>
                    <a:pt x="1140" y="1120"/>
                  </a:lnTo>
                  <a:lnTo>
                    <a:pt x="1168" y="1150"/>
                  </a:lnTo>
                  <a:lnTo>
                    <a:pt x="1192" y="1134"/>
                  </a:lnTo>
                  <a:lnTo>
                    <a:pt x="1190" y="1120"/>
                  </a:lnTo>
                  <a:lnTo>
                    <a:pt x="1202" y="1120"/>
                  </a:lnTo>
                  <a:lnTo>
                    <a:pt x="1216" y="1086"/>
                  </a:lnTo>
                  <a:lnTo>
                    <a:pt x="1194" y="950"/>
                  </a:lnTo>
                  <a:lnTo>
                    <a:pt x="1196" y="920"/>
                  </a:lnTo>
                  <a:lnTo>
                    <a:pt x="1188" y="888"/>
                  </a:lnTo>
                  <a:lnTo>
                    <a:pt x="1182" y="870"/>
                  </a:lnTo>
                  <a:lnTo>
                    <a:pt x="1166" y="852"/>
                  </a:lnTo>
                  <a:lnTo>
                    <a:pt x="1142" y="834"/>
                  </a:lnTo>
                  <a:lnTo>
                    <a:pt x="1132" y="814"/>
                  </a:lnTo>
                  <a:lnTo>
                    <a:pt x="1108" y="810"/>
                  </a:lnTo>
                  <a:lnTo>
                    <a:pt x="1084" y="792"/>
                  </a:lnTo>
                  <a:lnTo>
                    <a:pt x="1062" y="764"/>
                  </a:lnTo>
                  <a:lnTo>
                    <a:pt x="1044" y="728"/>
                  </a:lnTo>
                  <a:lnTo>
                    <a:pt x="1034" y="652"/>
                  </a:lnTo>
                  <a:lnTo>
                    <a:pt x="1022" y="610"/>
                  </a:lnTo>
                  <a:lnTo>
                    <a:pt x="1006" y="570"/>
                  </a:lnTo>
                  <a:lnTo>
                    <a:pt x="986" y="540"/>
                  </a:lnTo>
                  <a:lnTo>
                    <a:pt x="968" y="526"/>
                  </a:lnTo>
                  <a:lnTo>
                    <a:pt x="956" y="504"/>
                  </a:lnTo>
                  <a:lnTo>
                    <a:pt x="932" y="492"/>
                  </a:lnTo>
                  <a:lnTo>
                    <a:pt x="910" y="470"/>
                  </a:lnTo>
                  <a:lnTo>
                    <a:pt x="892" y="444"/>
                  </a:lnTo>
                  <a:lnTo>
                    <a:pt x="852" y="400"/>
                  </a:lnTo>
                  <a:lnTo>
                    <a:pt x="820" y="400"/>
                  </a:lnTo>
                  <a:lnTo>
                    <a:pt x="792" y="402"/>
                  </a:lnTo>
                  <a:lnTo>
                    <a:pt x="766" y="410"/>
                  </a:lnTo>
                  <a:lnTo>
                    <a:pt x="764" y="444"/>
                  </a:lnTo>
                  <a:lnTo>
                    <a:pt x="756" y="460"/>
                  </a:lnTo>
                  <a:lnTo>
                    <a:pt x="736" y="468"/>
                  </a:lnTo>
                  <a:lnTo>
                    <a:pt x="708" y="490"/>
                  </a:lnTo>
                  <a:lnTo>
                    <a:pt x="688" y="492"/>
                  </a:lnTo>
                  <a:lnTo>
                    <a:pt x="664" y="474"/>
                  </a:lnTo>
                  <a:lnTo>
                    <a:pt x="642" y="442"/>
                  </a:lnTo>
                  <a:lnTo>
                    <a:pt x="620" y="436"/>
                  </a:lnTo>
                  <a:lnTo>
                    <a:pt x="598" y="444"/>
                  </a:lnTo>
                  <a:lnTo>
                    <a:pt x="568" y="460"/>
                  </a:lnTo>
                  <a:lnTo>
                    <a:pt x="546" y="500"/>
                  </a:lnTo>
                  <a:lnTo>
                    <a:pt x="518" y="518"/>
                  </a:lnTo>
                  <a:lnTo>
                    <a:pt x="504" y="546"/>
                  </a:lnTo>
                  <a:lnTo>
                    <a:pt x="492" y="558"/>
                  </a:lnTo>
                  <a:lnTo>
                    <a:pt x="492" y="542"/>
                  </a:lnTo>
                  <a:lnTo>
                    <a:pt x="476" y="504"/>
                  </a:lnTo>
                  <a:lnTo>
                    <a:pt x="480" y="458"/>
                  </a:lnTo>
                  <a:lnTo>
                    <a:pt x="472" y="380"/>
                  </a:lnTo>
                  <a:lnTo>
                    <a:pt x="476" y="346"/>
                  </a:lnTo>
                  <a:lnTo>
                    <a:pt x="470" y="320"/>
                  </a:lnTo>
                  <a:lnTo>
                    <a:pt x="468" y="296"/>
                  </a:lnTo>
                  <a:lnTo>
                    <a:pt x="448" y="246"/>
                  </a:lnTo>
                  <a:lnTo>
                    <a:pt x="446" y="192"/>
                  </a:lnTo>
                  <a:lnTo>
                    <a:pt x="434" y="180"/>
                  </a:lnTo>
                  <a:lnTo>
                    <a:pt x="384" y="184"/>
                  </a:lnTo>
                  <a:lnTo>
                    <a:pt x="368" y="182"/>
                  </a:lnTo>
                  <a:lnTo>
                    <a:pt x="360" y="176"/>
                  </a:lnTo>
                  <a:lnTo>
                    <a:pt x="348" y="118"/>
                  </a:lnTo>
                  <a:lnTo>
                    <a:pt x="332" y="76"/>
                  </a:lnTo>
                  <a:lnTo>
                    <a:pt x="310" y="48"/>
                  </a:lnTo>
                  <a:lnTo>
                    <a:pt x="296" y="36"/>
                  </a:lnTo>
                  <a:lnTo>
                    <a:pt x="282" y="40"/>
                  </a:lnTo>
                  <a:lnTo>
                    <a:pt x="274" y="24"/>
                  </a:lnTo>
                  <a:lnTo>
                    <a:pt x="270" y="2"/>
                  </a:lnTo>
                  <a:lnTo>
                    <a:pt x="27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44800" y="3116880"/>
              <a:ext cx="118440" cy="73440"/>
            </a:xfrm>
            <a:custGeom>
              <a:avLst/>
              <a:gdLst/>
              <a:ahLst/>
              <a:rect l="l" t="t" r="r" b="b"/>
              <a:pathLst>
                <a:path w="682" h="430">
                  <a:moveTo>
                    <a:pt x="0" y="70"/>
                  </a:moveTo>
                  <a:lnTo>
                    <a:pt x="10" y="106"/>
                  </a:lnTo>
                  <a:lnTo>
                    <a:pt x="14" y="130"/>
                  </a:lnTo>
                  <a:lnTo>
                    <a:pt x="20" y="142"/>
                  </a:lnTo>
                  <a:lnTo>
                    <a:pt x="10" y="102"/>
                  </a:lnTo>
                  <a:lnTo>
                    <a:pt x="14" y="118"/>
                  </a:lnTo>
                  <a:lnTo>
                    <a:pt x="22" y="132"/>
                  </a:lnTo>
                  <a:lnTo>
                    <a:pt x="38" y="170"/>
                  </a:lnTo>
                  <a:lnTo>
                    <a:pt x="40" y="184"/>
                  </a:lnTo>
                  <a:lnTo>
                    <a:pt x="40" y="198"/>
                  </a:lnTo>
                  <a:lnTo>
                    <a:pt x="44" y="198"/>
                  </a:lnTo>
                  <a:lnTo>
                    <a:pt x="50" y="210"/>
                  </a:lnTo>
                  <a:lnTo>
                    <a:pt x="70" y="206"/>
                  </a:lnTo>
                  <a:lnTo>
                    <a:pt x="84" y="216"/>
                  </a:lnTo>
                  <a:lnTo>
                    <a:pt x="102" y="218"/>
                  </a:lnTo>
                  <a:lnTo>
                    <a:pt x="116" y="228"/>
                  </a:lnTo>
                  <a:lnTo>
                    <a:pt x="132" y="232"/>
                  </a:lnTo>
                  <a:lnTo>
                    <a:pt x="166" y="236"/>
                  </a:lnTo>
                  <a:lnTo>
                    <a:pt x="200" y="232"/>
                  </a:lnTo>
                  <a:lnTo>
                    <a:pt x="216" y="240"/>
                  </a:lnTo>
                  <a:lnTo>
                    <a:pt x="244" y="280"/>
                  </a:lnTo>
                  <a:lnTo>
                    <a:pt x="236" y="308"/>
                  </a:lnTo>
                  <a:lnTo>
                    <a:pt x="240" y="338"/>
                  </a:lnTo>
                  <a:lnTo>
                    <a:pt x="248" y="356"/>
                  </a:lnTo>
                  <a:lnTo>
                    <a:pt x="282" y="368"/>
                  </a:lnTo>
                  <a:lnTo>
                    <a:pt x="322" y="390"/>
                  </a:lnTo>
                  <a:lnTo>
                    <a:pt x="336" y="412"/>
                  </a:lnTo>
                  <a:lnTo>
                    <a:pt x="338" y="424"/>
                  </a:lnTo>
                  <a:lnTo>
                    <a:pt x="372" y="430"/>
                  </a:lnTo>
                  <a:lnTo>
                    <a:pt x="404" y="424"/>
                  </a:lnTo>
                  <a:lnTo>
                    <a:pt x="438" y="428"/>
                  </a:lnTo>
                  <a:lnTo>
                    <a:pt x="452" y="420"/>
                  </a:lnTo>
                  <a:lnTo>
                    <a:pt x="464" y="412"/>
                  </a:lnTo>
                  <a:lnTo>
                    <a:pt x="480" y="418"/>
                  </a:lnTo>
                  <a:lnTo>
                    <a:pt x="498" y="416"/>
                  </a:lnTo>
                  <a:lnTo>
                    <a:pt x="486" y="390"/>
                  </a:lnTo>
                  <a:lnTo>
                    <a:pt x="500" y="384"/>
                  </a:lnTo>
                  <a:lnTo>
                    <a:pt x="516" y="384"/>
                  </a:lnTo>
                  <a:lnTo>
                    <a:pt x="526" y="372"/>
                  </a:lnTo>
                  <a:lnTo>
                    <a:pt x="540" y="364"/>
                  </a:lnTo>
                  <a:lnTo>
                    <a:pt x="558" y="368"/>
                  </a:lnTo>
                  <a:lnTo>
                    <a:pt x="568" y="380"/>
                  </a:lnTo>
                  <a:lnTo>
                    <a:pt x="586" y="388"/>
                  </a:lnTo>
                  <a:lnTo>
                    <a:pt x="600" y="382"/>
                  </a:lnTo>
                  <a:lnTo>
                    <a:pt x="596" y="368"/>
                  </a:lnTo>
                  <a:lnTo>
                    <a:pt x="582" y="356"/>
                  </a:lnTo>
                  <a:lnTo>
                    <a:pt x="574" y="344"/>
                  </a:lnTo>
                  <a:lnTo>
                    <a:pt x="574" y="328"/>
                  </a:lnTo>
                  <a:lnTo>
                    <a:pt x="588" y="304"/>
                  </a:lnTo>
                  <a:lnTo>
                    <a:pt x="586" y="290"/>
                  </a:lnTo>
                  <a:lnTo>
                    <a:pt x="588" y="274"/>
                  </a:lnTo>
                  <a:lnTo>
                    <a:pt x="586" y="260"/>
                  </a:lnTo>
                  <a:lnTo>
                    <a:pt x="588" y="246"/>
                  </a:lnTo>
                  <a:lnTo>
                    <a:pt x="600" y="238"/>
                  </a:lnTo>
                  <a:lnTo>
                    <a:pt x="618" y="236"/>
                  </a:lnTo>
                  <a:lnTo>
                    <a:pt x="628" y="226"/>
                  </a:lnTo>
                  <a:lnTo>
                    <a:pt x="642" y="220"/>
                  </a:lnTo>
                  <a:lnTo>
                    <a:pt x="668" y="220"/>
                  </a:lnTo>
                  <a:lnTo>
                    <a:pt x="682" y="186"/>
                  </a:lnTo>
                  <a:lnTo>
                    <a:pt x="666" y="180"/>
                  </a:lnTo>
                  <a:lnTo>
                    <a:pt x="648" y="180"/>
                  </a:lnTo>
                  <a:lnTo>
                    <a:pt x="644" y="166"/>
                  </a:lnTo>
                  <a:lnTo>
                    <a:pt x="644" y="152"/>
                  </a:lnTo>
                  <a:lnTo>
                    <a:pt x="658" y="146"/>
                  </a:lnTo>
                  <a:lnTo>
                    <a:pt x="668" y="136"/>
                  </a:lnTo>
                  <a:lnTo>
                    <a:pt x="666" y="132"/>
                  </a:lnTo>
                  <a:lnTo>
                    <a:pt x="666" y="130"/>
                  </a:lnTo>
                  <a:lnTo>
                    <a:pt x="650" y="124"/>
                  </a:lnTo>
                  <a:lnTo>
                    <a:pt x="634" y="118"/>
                  </a:lnTo>
                  <a:lnTo>
                    <a:pt x="588" y="80"/>
                  </a:lnTo>
                  <a:lnTo>
                    <a:pt x="528" y="50"/>
                  </a:lnTo>
                  <a:lnTo>
                    <a:pt x="494" y="52"/>
                  </a:lnTo>
                  <a:lnTo>
                    <a:pt x="478" y="46"/>
                  </a:lnTo>
                  <a:lnTo>
                    <a:pt x="452" y="10"/>
                  </a:lnTo>
                  <a:lnTo>
                    <a:pt x="438" y="0"/>
                  </a:lnTo>
                  <a:lnTo>
                    <a:pt x="424" y="4"/>
                  </a:lnTo>
                  <a:lnTo>
                    <a:pt x="402" y="26"/>
                  </a:lnTo>
                  <a:lnTo>
                    <a:pt x="372" y="32"/>
                  </a:lnTo>
                  <a:lnTo>
                    <a:pt x="304" y="12"/>
                  </a:lnTo>
                  <a:lnTo>
                    <a:pt x="288" y="14"/>
                  </a:lnTo>
                  <a:lnTo>
                    <a:pt x="254" y="10"/>
                  </a:lnTo>
                  <a:lnTo>
                    <a:pt x="238" y="14"/>
                  </a:lnTo>
                  <a:lnTo>
                    <a:pt x="222" y="12"/>
                  </a:lnTo>
                  <a:lnTo>
                    <a:pt x="208" y="18"/>
                  </a:lnTo>
                  <a:lnTo>
                    <a:pt x="190" y="18"/>
                  </a:lnTo>
                  <a:lnTo>
                    <a:pt x="174" y="10"/>
                  </a:lnTo>
                  <a:lnTo>
                    <a:pt x="158" y="10"/>
                  </a:lnTo>
                  <a:lnTo>
                    <a:pt x="124" y="12"/>
                  </a:lnTo>
                  <a:lnTo>
                    <a:pt x="78" y="26"/>
                  </a:lnTo>
                  <a:lnTo>
                    <a:pt x="50" y="40"/>
                  </a:lnTo>
                  <a:lnTo>
                    <a:pt x="34" y="64"/>
                  </a:lnTo>
                  <a:lnTo>
                    <a:pt x="22" y="72"/>
                  </a:lnTo>
                  <a:lnTo>
                    <a:pt x="0" y="7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720" bIns="27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7840" y="3051360"/>
              <a:ext cx="36000" cy="30600"/>
            </a:xfrm>
            <a:custGeom>
              <a:avLst/>
              <a:gdLst/>
              <a:ahLst/>
              <a:rect l="l" t="t" r="r" b="b"/>
              <a:pathLst>
                <a:path w="212" h="182">
                  <a:moveTo>
                    <a:pt x="168" y="36"/>
                  </a:moveTo>
                  <a:lnTo>
                    <a:pt x="194" y="32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196" y="50"/>
                  </a:lnTo>
                  <a:lnTo>
                    <a:pt x="162" y="78"/>
                  </a:lnTo>
                  <a:lnTo>
                    <a:pt x="134" y="96"/>
                  </a:lnTo>
                  <a:lnTo>
                    <a:pt x="110" y="118"/>
                  </a:lnTo>
                  <a:lnTo>
                    <a:pt x="80" y="150"/>
                  </a:lnTo>
                  <a:lnTo>
                    <a:pt x="46" y="174"/>
                  </a:lnTo>
                  <a:lnTo>
                    <a:pt x="48" y="164"/>
                  </a:lnTo>
                  <a:lnTo>
                    <a:pt x="36" y="158"/>
                  </a:lnTo>
                  <a:lnTo>
                    <a:pt x="30" y="162"/>
                  </a:lnTo>
                  <a:lnTo>
                    <a:pt x="0" y="182"/>
                  </a:lnTo>
                  <a:lnTo>
                    <a:pt x="8" y="170"/>
                  </a:lnTo>
                  <a:lnTo>
                    <a:pt x="6" y="160"/>
                  </a:lnTo>
                  <a:lnTo>
                    <a:pt x="18" y="140"/>
                  </a:lnTo>
                  <a:lnTo>
                    <a:pt x="18" y="146"/>
                  </a:lnTo>
                  <a:lnTo>
                    <a:pt x="38" y="140"/>
                  </a:lnTo>
                  <a:lnTo>
                    <a:pt x="46" y="124"/>
                  </a:lnTo>
                  <a:lnTo>
                    <a:pt x="30" y="118"/>
                  </a:lnTo>
                  <a:lnTo>
                    <a:pt x="24" y="110"/>
                  </a:lnTo>
                  <a:lnTo>
                    <a:pt x="22" y="98"/>
                  </a:lnTo>
                  <a:lnTo>
                    <a:pt x="50" y="42"/>
                  </a:lnTo>
                  <a:lnTo>
                    <a:pt x="46" y="36"/>
                  </a:lnTo>
                  <a:lnTo>
                    <a:pt x="80" y="0"/>
                  </a:lnTo>
                  <a:lnTo>
                    <a:pt x="122" y="8"/>
                  </a:lnTo>
                  <a:lnTo>
                    <a:pt x="124" y="12"/>
                  </a:lnTo>
                  <a:lnTo>
                    <a:pt x="104" y="30"/>
                  </a:lnTo>
                  <a:lnTo>
                    <a:pt x="94" y="40"/>
                  </a:lnTo>
                  <a:lnTo>
                    <a:pt x="110" y="30"/>
                  </a:lnTo>
                  <a:lnTo>
                    <a:pt x="132" y="22"/>
                  </a:lnTo>
                  <a:lnTo>
                    <a:pt x="148" y="18"/>
                  </a:lnTo>
                  <a:lnTo>
                    <a:pt x="140" y="40"/>
                  </a:lnTo>
                  <a:lnTo>
                    <a:pt x="116" y="70"/>
                  </a:lnTo>
                  <a:lnTo>
                    <a:pt x="104" y="72"/>
                  </a:lnTo>
                  <a:lnTo>
                    <a:pt x="54" y="88"/>
                  </a:lnTo>
                  <a:lnTo>
                    <a:pt x="74" y="90"/>
                  </a:lnTo>
                  <a:lnTo>
                    <a:pt x="60" y="102"/>
                  </a:lnTo>
                  <a:lnTo>
                    <a:pt x="74" y="104"/>
                  </a:lnTo>
                  <a:lnTo>
                    <a:pt x="100" y="90"/>
                  </a:lnTo>
                  <a:lnTo>
                    <a:pt x="116" y="80"/>
                  </a:lnTo>
                  <a:lnTo>
                    <a:pt x="144" y="60"/>
                  </a:lnTo>
                  <a:lnTo>
                    <a:pt x="164" y="38"/>
                  </a:lnTo>
                  <a:lnTo>
                    <a:pt x="168" y="3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99920" y="3078720"/>
              <a:ext cx="18720" cy="33480"/>
            </a:xfrm>
            <a:custGeom>
              <a:avLst/>
              <a:gdLst/>
              <a:ahLst/>
              <a:rect l="l" t="t" r="r" b="b"/>
              <a:pathLst>
                <a:path w="116" h="200">
                  <a:moveTo>
                    <a:pt x="6" y="90"/>
                  </a:moveTo>
                  <a:lnTo>
                    <a:pt x="12" y="76"/>
                  </a:lnTo>
                  <a:lnTo>
                    <a:pt x="40" y="50"/>
                  </a:lnTo>
                  <a:lnTo>
                    <a:pt x="16" y="62"/>
                  </a:lnTo>
                  <a:lnTo>
                    <a:pt x="16" y="54"/>
                  </a:lnTo>
                  <a:lnTo>
                    <a:pt x="26" y="48"/>
                  </a:lnTo>
                  <a:lnTo>
                    <a:pt x="44" y="36"/>
                  </a:lnTo>
                  <a:lnTo>
                    <a:pt x="28" y="28"/>
                  </a:lnTo>
                  <a:lnTo>
                    <a:pt x="76" y="16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108" y="32"/>
                  </a:lnTo>
                  <a:lnTo>
                    <a:pt x="82" y="32"/>
                  </a:lnTo>
                  <a:lnTo>
                    <a:pt x="78" y="36"/>
                  </a:lnTo>
                  <a:lnTo>
                    <a:pt x="96" y="46"/>
                  </a:lnTo>
                  <a:lnTo>
                    <a:pt x="88" y="58"/>
                  </a:lnTo>
                  <a:lnTo>
                    <a:pt x="72" y="68"/>
                  </a:lnTo>
                  <a:lnTo>
                    <a:pt x="64" y="62"/>
                  </a:lnTo>
                  <a:lnTo>
                    <a:pt x="54" y="66"/>
                  </a:lnTo>
                  <a:lnTo>
                    <a:pt x="40" y="84"/>
                  </a:lnTo>
                  <a:lnTo>
                    <a:pt x="30" y="86"/>
                  </a:lnTo>
                  <a:lnTo>
                    <a:pt x="24" y="98"/>
                  </a:lnTo>
                  <a:lnTo>
                    <a:pt x="18" y="118"/>
                  </a:lnTo>
                  <a:lnTo>
                    <a:pt x="38" y="126"/>
                  </a:lnTo>
                  <a:lnTo>
                    <a:pt x="32" y="138"/>
                  </a:lnTo>
                  <a:lnTo>
                    <a:pt x="38" y="140"/>
                  </a:lnTo>
                  <a:lnTo>
                    <a:pt x="32" y="158"/>
                  </a:lnTo>
                  <a:lnTo>
                    <a:pt x="24" y="190"/>
                  </a:lnTo>
                  <a:lnTo>
                    <a:pt x="16" y="198"/>
                  </a:lnTo>
                  <a:lnTo>
                    <a:pt x="12" y="200"/>
                  </a:lnTo>
                  <a:lnTo>
                    <a:pt x="8" y="172"/>
                  </a:lnTo>
                  <a:lnTo>
                    <a:pt x="0" y="150"/>
                  </a:lnTo>
                  <a:lnTo>
                    <a:pt x="4" y="144"/>
                  </a:lnTo>
                  <a:lnTo>
                    <a:pt x="8" y="142"/>
                  </a:lnTo>
                  <a:lnTo>
                    <a:pt x="14" y="134"/>
                  </a:lnTo>
                  <a:lnTo>
                    <a:pt x="8" y="132"/>
                  </a:lnTo>
                  <a:lnTo>
                    <a:pt x="6" y="118"/>
                  </a:lnTo>
                  <a:lnTo>
                    <a:pt x="8" y="92"/>
                  </a:lnTo>
                  <a:lnTo>
                    <a:pt x="6" y="9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60760" y="3058920"/>
              <a:ext cx="6120" cy="5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20"/>
                  </a:moveTo>
                  <a:lnTo>
                    <a:pt x="16" y="8"/>
                  </a:lnTo>
                  <a:lnTo>
                    <a:pt x="38" y="0"/>
                  </a:lnTo>
                  <a:lnTo>
                    <a:pt x="40" y="16"/>
                  </a:lnTo>
                  <a:lnTo>
                    <a:pt x="34" y="30"/>
                  </a:lnTo>
                  <a:lnTo>
                    <a:pt x="12" y="40"/>
                  </a:lnTo>
                  <a:lnTo>
                    <a:pt x="6" y="24"/>
                  </a:lnTo>
                  <a:lnTo>
                    <a:pt x="0" y="2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51760" y="3071160"/>
              <a:ext cx="7560" cy="1512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6" y="0"/>
                  </a:moveTo>
                  <a:lnTo>
                    <a:pt x="26" y="14"/>
                  </a:lnTo>
                  <a:lnTo>
                    <a:pt x="36" y="32"/>
                  </a:lnTo>
                  <a:lnTo>
                    <a:pt x="36" y="42"/>
                  </a:lnTo>
                  <a:lnTo>
                    <a:pt x="24" y="74"/>
                  </a:lnTo>
                  <a:lnTo>
                    <a:pt x="14" y="86"/>
                  </a:lnTo>
                  <a:lnTo>
                    <a:pt x="8" y="86"/>
                  </a:lnTo>
                  <a:lnTo>
                    <a:pt x="10" y="54"/>
                  </a:lnTo>
                  <a:lnTo>
                    <a:pt x="2" y="44"/>
                  </a:lnTo>
                  <a:lnTo>
                    <a:pt x="4" y="32"/>
                  </a:lnTo>
                  <a:lnTo>
                    <a:pt x="0" y="20"/>
                  </a:lnTo>
                  <a:lnTo>
                    <a:pt x="6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60760" y="3065040"/>
              <a:ext cx="6120" cy="21240"/>
            </a:xfrm>
            <a:custGeom>
              <a:avLst/>
              <a:gdLst/>
              <a:ahLst/>
              <a:rect l="l" t="t" r="r" b="b"/>
              <a:pathLst>
                <a:path w="44" h="124">
                  <a:moveTo>
                    <a:pt x="40" y="48"/>
                  </a:moveTo>
                  <a:lnTo>
                    <a:pt x="44" y="46"/>
                  </a:lnTo>
                  <a:lnTo>
                    <a:pt x="42" y="56"/>
                  </a:lnTo>
                  <a:lnTo>
                    <a:pt x="44" y="66"/>
                  </a:lnTo>
                  <a:lnTo>
                    <a:pt x="42" y="84"/>
                  </a:lnTo>
                  <a:lnTo>
                    <a:pt x="18" y="114"/>
                  </a:lnTo>
                  <a:lnTo>
                    <a:pt x="0" y="124"/>
                  </a:lnTo>
                  <a:lnTo>
                    <a:pt x="18" y="70"/>
                  </a:lnTo>
                  <a:lnTo>
                    <a:pt x="20" y="42"/>
                  </a:lnTo>
                  <a:lnTo>
                    <a:pt x="22" y="36"/>
                  </a:lnTo>
                  <a:lnTo>
                    <a:pt x="32" y="26"/>
                  </a:lnTo>
                  <a:lnTo>
                    <a:pt x="24" y="22"/>
                  </a:lnTo>
                  <a:lnTo>
                    <a:pt x="26" y="6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18"/>
                  </a:lnTo>
                  <a:lnTo>
                    <a:pt x="40" y="4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53200" y="3097080"/>
              <a:ext cx="6120" cy="90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4" y="0"/>
                  </a:moveTo>
                  <a:lnTo>
                    <a:pt x="28" y="2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18" y="38"/>
                  </a:lnTo>
                  <a:lnTo>
                    <a:pt x="4" y="54"/>
                  </a:lnTo>
                  <a:lnTo>
                    <a:pt x="0" y="50"/>
                  </a:lnTo>
                  <a:lnTo>
                    <a:pt x="2" y="40"/>
                  </a:lnTo>
                  <a:lnTo>
                    <a:pt x="8" y="16"/>
                  </a:lnTo>
                  <a:lnTo>
                    <a:pt x="24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18640" y="3155760"/>
              <a:ext cx="54360" cy="83880"/>
            </a:xfrm>
            <a:custGeom>
              <a:avLst/>
              <a:gdLst/>
              <a:ahLst/>
              <a:rect l="l" t="t" r="r" b="b"/>
              <a:pathLst>
                <a:path w="314" h="490">
                  <a:moveTo>
                    <a:pt x="68" y="88"/>
                  </a:moveTo>
                  <a:lnTo>
                    <a:pt x="74" y="86"/>
                  </a:lnTo>
                  <a:lnTo>
                    <a:pt x="72" y="90"/>
                  </a:lnTo>
                  <a:lnTo>
                    <a:pt x="76" y="88"/>
                  </a:lnTo>
                  <a:lnTo>
                    <a:pt x="86" y="66"/>
                  </a:lnTo>
                  <a:lnTo>
                    <a:pt x="100" y="50"/>
                  </a:lnTo>
                  <a:lnTo>
                    <a:pt x="60" y="42"/>
                  </a:lnTo>
                  <a:lnTo>
                    <a:pt x="58" y="30"/>
                  </a:lnTo>
                  <a:lnTo>
                    <a:pt x="40" y="42"/>
                  </a:lnTo>
                  <a:lnTo>
                    <a:pt x="26" y="54"/>
                  </a:lnTo>
                  <a:lnTo>
                    <a:pt x="16" y="44"/>
                  </a:lnTo>
                  <a:lnTo>
                    <a:pt x="14" y="32"/>
                  </a:lnTo>
                  <a:lnTo>
                    <a:pt x="24" y="20"/>
                  </a:lnTo>
                  <a:lnTo>
                    <a:pt x="36" y="10"/>
                  </a:lnTo>
                  <a:lnTo>
                    <a:pt x="56" y="0"/>
                  </a:lnTo>
                  <a:lnTo>
                    <a:pt x="76" y="2"/>
                  </a:lnTo>
                  <a:lnTo>
                    <a:pt x="94" y="10"/>
                  </a:lnTo>
                  <a:lnTo>
                    <a:pt x="104" y="22"/>
                  </a:lnTo>
                  <a:lnTo>
                    <a:pt x="120" y="28"/>
                  </a:lnTo>
                  <a:lnTo>
                    <a:pt x="126" y="44"/>
                  </a:lnTo>
                  <a:lnTo>
                    <a:pt x="172" y="78"/>
                  </a:lnTo>
                  <a:lnTo>
                    <a:pt x="222" y="100"/>
                  </a:lnTo>
                  <a:lnTo>
                    <a:pt x="240" y="114"/>
                  </a:lnTo>
                  <a:lnTo>
                    <a:pt x="268" y="122"/>
                  </a:lnTo>
                  <a:lnTo>
                    <a:pt x="272" y="130"/>
                  </a:lnTo>
                  <a:lnTo>
                    <a:pt x="270" y="144"/>
                  </a:lnTo>
                  <a:lnTo>
                    <a:pt x="258" y="162"/>
                  </a:lnTo>
                  <a:lnTo>
                    <a:pt x="268" y="234"/>
                  </a:lnTo>
                  <a:lnTo>
                    <a:pt x="266" y="240"/>
                  </a:lnTo>
                  <a:lnTo>
                    <a:pt x="256" y="250"/>
                  </a:lnTo>
                  <a:lnTo>
                    <a:pt x="252" y="262"/>
                  </a:lnTo>
                  <a:lnTo>
                    <a:pt x="252" y="272"/>
                  </a:lnTo>
                  <a:lnTo>
                    <a:pt x="264" y="294"/>
                  </a:lnTo>
                  <a:lnTo>
                    <a:pt x="276" y="304"/>
                  </a:lnTo>
                  <a:lnTo>
                    <a:pt x="292" y="308"/>
                  </a:lnTo>
                  <a:lnTo>
                    <a:pt x="296" y="318"/>
                  </a:lnTo>
                  <a:lnTo>
                    <a:pt x="306" y="324"/>
                  </a:lnTo>
                  <a:lnTo>
                    <a:pt x="314" y="358"/>
                  </a:lnTo>
                  <a:lnTo>
                    <a:pt x="306" y="376"/>
                  </a:lnTo>
                  <a:lnTo>
                    <a:pt x="300" y="406"/>
                  </a:lnTo>
                  <a:lnTo>
                    <a:pt x="294" y="416"/>
                  </a:lnTo>
                  <a:lnTo>
                    <a:pt x="286" y="438"/>
                  </a:lnTo>
                  <a:lnTo>
                    <a:pt x="284" y="448"/>
                  </a:lnTo>
                  <a:lnTo>
                    <a:pt x="298" y="436"/>
                  </a:lnTo>
                  <a:lnTo>
                    <a:pt x="292" y="466"/>
                  </a:lnTo>
                  <a:lnTo>
                    <a:pt x="284" y="468"/>
                  </a:lnTo>
                  <a:lnTo>
                    <a:pt x="272" y="480"/>
                  </a:lnTo>
                  <a:lnTo>
                    <a:pt x="248" y="490"/>
                  </a:lnTo>
                  <a:lnTo>
                    <a:pt x="234" y="488"/>
                  </a:lnTo>
                  <a:lnTo>
                    <a:pt x="208" y="470"/>
                  </a:lnTo>
                  <a:lnTo>
                    <a:pt x="188" y="446"/>
                  </a:lnTo>
                  <a:lnTo>
                    <a:pt x="190" y="440"/>
                  </a:lnTo>
                  <a:lnTo>
                    <a:pt x="184" y="436"/>
                  </a:lnTo>
                  <a:lnTo>
                    <a:pt x="166" y="440"/>
                  </a:lnTo>
                  <a:lnTo>
                    <a:pt x="148" y="424"/>
                  </a:lnTo>
                  <a:lnTo>
                    <a:pt x="154" y="414"/>
                  </a:lnTo>
                  <a:lnTo>
                    <a:pt x="168" y="404"/>
                  </a:lnTo>
                  <a:lnTo>
                    <a:pt x="182" y="394"/>
                  </a:lnTo>
                  <a:lnTo>
                    <a:pt x="174" y="396"/>
                  </a:lnTo>
                  <a:lnTo>
                    <a:pt x="160" y="408"/>
                  </a:lnTo>
                  <a:lnTo>
                    <a:pt x="144" y="410"/>
                  </a:lnTo>
                  <a:lnTo>
                    <a:pt x="136" y="394"/>
                  </a:lnTo>
                  <a:lnTo>
                    <a:pt x="138" y="384"/>
                  </a:lnTo>
                  <a:lnTo>
                    <a:pt x="146" y="372"/>
                  </a:lnTo>
                  <a:lnTo>
                    <a:pt x="158" y="370"/>
                  </a:lnTo>
                  <a:lnTo>
                    <a:pt x="178" y="360"/>
                  </a:lnTo>
                  <a:lnTo>
                    <a:pt x="168" y="358"/>
                  </a:lnTo>
                  <a:lnTo>
                    <a:pt x="160" y="348"/>
                  </a:lnTo>
                  <a:lnTo>
                    <a:pt x="140" y="360"/>
                  </a:lnTo>
                  <a:lnTo>
                    <a:pt x="130" y="354"/>
                  </a:lnTo>
                  <a:lnTo>
                    <a:pt x="100" y="358"/>
                  </a:lnTo>
                  <a:lnTo>
                    <a:pt x="92" y="338"/>
                  </a:lnTo>
                  <a:lnTo>
                    <a:pt x="100" y="340"/>
                  </a:lnTo>
                  <a:lnTo>
                    <a:pt x="122" y="340"/>
                  </a:lnTo>
                  <a:lnTo>
                    <a:pt x="126" y="324"/>
                  </a:lnTo>
                  <a:lnTo>
                    <a:pt x="120" y="302"/>
                  </a:lnTo>
                  <a:lnTo>
                    <a:pt x="100" y="296"/>
                  </a:lnTo>
                  <a:lnTo>
                    <a:pt x="104" y="284"/>
                  </a:lnTo>
                  <a:lnTo>
                    <a:pt x="90" y="272"/>
                  </a:lnTo>
                  <a:lnTo>
                    <a:pt x="66" y="272"/>
                  </a:lnTo>
                  <a:lnTo>
                    <a:pt x="60" y="268"/>
                  </a:lnTo>
                  <a:lnTo>
                    <a:pt x="68" y="244"/>
                  </a:lnTo>
                  <a:lnTo>
                    <a:pt x="84" y="238"/>
                  </a:lnTo>
                  <a:lnTo>
                    <a:pt x="108" y="242"/>
                  </a:lnTo>
                  <a:lnTo>
                    <a:pt x="138" y="234"/>
                  </a:lnTo>
                  <a:lnTo>
                    <a:pt x="126" y="222"/>
                  </a:lnTo>
                  <a:lnTo>
                    <a:pt x="104" y="224"/>
                  </a:lnTo>
                  <a:lnTo>
                    <a:pt x="104" y="218"/>
                  </a:lnTo>
                  <a:lnTo>
                    <a:pt x="108" y="206"/>
                  </a:lnTo>
                  <a:lnTo>
                    <a:pt x="88" y="216"/>
                  </a:lnTo>
                  <a:lnTo>
                    <a:pt x="94" y="196"/>
                  </a:lnTo>
                  <a:lnTo>
                    <a:pt x="86" y="180"/>
                  </a:lnTo>
                  <a:lnTo>
                    <a:pt x="76" y="182"/>
                  </a:lnTo>
                  <a:lnTo>
                    <a:pt x="78" y="172"/>
                  </a:lnTo>
                  <a:lnTo>
                    <a:pt x="54" y="184"/>
                  </a:lnTo>
                  <a:lnTo>
                    <a:pt x="48" y="170"/>
                  </a:lnTo>
                  <a:lnTo>
                    <a:pt x="64" y="152"/>
                  </a:lnTo>
                  <a:lnTo>
                    <a:pt x="80" y="142"/>
                  </a:lnTo>
                  <a:lnTo>
                    <a:pt x="74" y="142"/>
                  </a:lnTo>
                  <a:lnTo>
                    <a:pt x="68" y="130"/>
                  </a:lnTo>
                  <a:lnTo>
                    <a:pt x="44" y="150"/>
                  </a:lnTo>
                  <a:lnTo>
                    <a:pt x="46" y="126"/>
                  </a:lnTo>
                  <a:lnTo>
                    <a:pt x="36" y="128"/>
                  </a:lnTo>
                  <a:lnTo>
                    <a:pt x="30" y="122"/>
                  </a:lnTo>
                  <a:lnTo>
                    <a:pt x="8" y="136"/>
                  </a:lnTo>
                  <a:lnTo>
                    <a:pt x="0" y="132"/>
                  </a:lnTo>
                  <a:lnTo>
                    <a:pt x="2" y="124"/>
                  </a:lnTo>
                  <a:lnTo>
                    <a:pt x="14" y="114"/>
                  </a:lnTo>
                  <a:lnTo>
                    <a:pt x="28" y="100"/>
                  </a:lnTo>
                  <a:lnTo>
                    <a:pt x="20" y="90"/>
                  </a:lnTo>
                  <a:lnTo>
                    <a:pt x="30" y="76"/>
                  </a:lnTo>
                  <a:lnTo>
                    <a:pt x="54" y="72"/>
                  </a:lnTo>
                  <a:lnTo>
                    <a:pt x="68" y="76"/>
                  </a:lnTo>
                  <a:lnTo>
                    <a:pt x="68" y="8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82240" y="3279960"/>
              <a:ext cx="46440" cy="27360"/>
            </a:xfrm>
            <a:custGeom>
              <a:avLst/>
              <a:gdLst/>
              <a:ahLst/>
              <a:rect l="l" t="t" r="r" b="b"/>
              <a:pathLst>
                <a:path w="280" h="158">
                  <a:moveTo>
                    <a:pt x="72" y="10"/>
                  </a:moveTo>
                  <a:lnTo>
                    <a:pt x="104" y="26"/>
                  </a:lnTo>
                  <a:lnTo>
                    <a:pt x="134" y="32"/>
                  </a:lnTo>
                  <a:lnTo>
                    <a:pt x="208" y="66"/>
                  </a:lnTo>
                  <a:lnTo>
                    <a:pt x="234" y="100"/>
                  </a:lnTo>
                  <a:lnTo>
                    <a:pt x="256" y="106"/>
                  </a:lnTo>
                  <a:lnTo>
                    <a:pt x="262" y="110"/>
                  </a:lnTo>
                  <a:lnTo>
                    <a:pt x="274" y="110"/>
                  </a:lnTo>
                  <a:lnTo>
                    <a:pt x="278" y="118"/>
                  </a:lnTo>
                  <a:lnTo>
                    <a:pt x="276" y="130"/>
                  </a:lnTo>
                  <a:lnTo>
                    <a:pt x="280" y="140"/>
                  </a:lnTo>
                  <a:lnTo>
                    <a:pt x="280" y="152"/>
                  </a:lnTo>
                  <a:lnTo>
                    <a:pt x="262" y="158"/>
                  </a:lnTo>
                  <a:lnTo>
                    <a:pt x="210" y="158"/>
                  </a:lnTo>
                  <a:lnTo>
                    <a:pt x="182" y="148"/>
                  </a:lnTo>
                  <a:lnTo>
                    <a:pt x="154" y="144"/>
                  </a:lnTo>
                  <a:lnTo>
                    <a:pt x="134" y="132"/>
                  </a:lnTo>
                  <a:lnTo>
                    <a:pt x="112" y="124"/>
                  </a:lnTo>
                  <a:lnTo>
                    <a:pt x="90" y="110"/>
                  </a:lnTo>
                  <a:lnTo>
                    <a:pt x="78" y="92"/>
                  </a:lnTo>
                  <a:lnTo>
                    <a:pt x="80" y="68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4" y="4"/>
                  </a:lnTo>
                  <a:lnTo>
                    <a:pt x="34" y="0"/>
                  </a:lnTo>
                  <a:lnTo>
                    <a:pt x="58" y="4"/>
                  </a:lnTo>
                  <a:lnTo>
                    <a:pt x="72" y="1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22280" y="3368880"/>
              <a:ext cx="2880" cy="900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16" y="0"/>
                  </a:moveTo>
                  <a:lnTo>
                    <a:pt x="10" y="2"/>
                  </a:lnTo>
                  <a:lnTo>
                    <a:pt x="8" y="8"/>
                  </a:lnTo>
                  <a:lnTo>
                    <a:pt x="0" y="56"/>
                  </a:lnTo>
                  <a:lnTo>
                    <a:pt x="10" y="48"/>
                  </a:lnTo>
                  <a:lnTo>
                    <a:pt x="22" y="8"/>
                  </a:lnTo>
                  <a:lnTo>
                    <a:pt x="16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72800" y="3426840"/>
              <a:ext cx="6120" cy="612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0"/>
                  </a:moveTo>
                  <a:lnTo>
                    <a:pt x="12" y="8"/>
                  </a:lnTo>
                  <a:lnTo>
                    <a:pt x="6" y="20"/>
                  </a:lnTo>
                  <a:lnTo>
                    <a:pt x="0" y="34"/>
                  </a:lnTo>
                  <a:lnTo>
                    <a:pt x="12" y="24"/>
                  </a:lnTo>
                  <a:lnTo>
                    <a:pt x="20" y="24"/>
                  </a:lnTo>
                  <a:lnTo>
                    <a:pt x="26" y="14"/>
                  </a:lnTo>
                  <a:lnTo>
                    <a:pt x="30" y="4"/>
                  </a:lnTo>
                  <a:lnTo>
                    <a:pt x="22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66480" y="3238560"/>
              <a:ext cx="140400" cy="146880"/>
            </a:xfrm>
            <a:custGeom>
              <a:avLst/>
              <a:gdLst/>
              <a:ahLst/>
              <a:rect l="l" t="t" r="r" b="b"/>
              <a:pathLst>
                <a:path w="806" h="858">
                  <a:moveTo>
                    <a:pt x="582" y="20"/>
                  </a:moveTo>
                  <a:lnTo>
                    <a:pt x="554" y="28"/>
                  </a:lnTo>
                  <a:lnTo>
                    <a:pt x="522" y="42"/>
                  </a:lnTo>
                  <a:lnTo>
                    <a:pt x="514" y="58"/>
                  </a:lnTo>
                  <a:lnTo>
                    <a:pt x="502" y="68"/>
                  </a:lnTo>
                  <a:lnTo>
                    <a:pt x="494" y="78"/>
                  </a:lnTo>
                  <a:lnTo>
                    <a:pt x="482" y="82"/>
                  </a:lnTo>
                  <a:lnTo>
                    <a:pt x="480" y="86"/>
                  </a:lnTo>
                  <a:lnTo>
                    <a:pt x="464" y="92"/>
                  </a:lnTo>
                  <a:lnTo>
                    <a:pt x="458" y="110"/>
                  </a:lnTo>
                  <a:lnTo>
                    <a:pt x="450" y="124"/>
                  </a:lnTo>
                  <a:lnTo>
                    <a:pt x="434" y="136"/>
                  </a:lnTo>
                  <a:lnTo>
                    <a:pt x="414" y="142"/>
                  </a:lnTo>
                  <a:lnTo>
                    <a:pt x="400" y="150"/>
                  </a:lnTo>
                  <a:lnTo>
                    <a:pt x="414" y="164"/>
                  </a:lnTo>
                  <a:lnTo>
                    <a:pt x="394" y="176"/>
                  </a:lnTo>
                  <a:lnTo>
                    <a:pt x="366" y="222"/>
                  </a:lnTo>
                  <a:lnTo>
                    <a:pt x="366" y="226"/>
                  </a:lnTo>
                  <a:lnTo>
                    <a:pt x="378" y="240"/>
                  </a:lnTo>
                  <a:lnTo>
                    <a:pt x="336" y="250"/>
                  </a:lnTo>
                  <a:lnTo>
                    <a:pt x="330" y="260"/>
                  </a:lnTo>
                  <a:lnTo>
                    <a:pt x="288" y="308"/>
                  </a:lnTo>
                  <a:lnTo>
                    <a:pt x="280" y="330"/>
                  </a:lnTo>
                  <a:lnTo>
                    <a:pt x="282" y="336"/>
                  </a:lnTo>
                  <a:lnTo>
                    <a:pt x="278" y="346"/>
                  </a:lnTo>
                  <a:lnTo>
                    <a:pt x="262" y="344"/>
                  </a:lnTo>
                  <a:lnTo>
                    <a:pt x="236" y="366"/>
                  </a:lnTo>
                  <a:lnTo>
                    <a:pt x="222" y="384"/>
                  </a:lnTo>
                  <a:lnTo>
                    <a:pt x="224" y="392"/>
                  </a:lnTo>
                  <a:lnTo>
                    <a:pt x="238" y="394"/>
                  </a:lnTo>
                  <a:lnTo>
                    <a:pt x="238" y="402"/>
                  </a:lnTo>
                  <a:lnTo>
                    <a:pt x="230" y="410"/>
                  </a:lnTo>
                  <a:lnTo>
                    <a:pt x="230" y="424"/>
                  </a:lnTo>
                  <a:lnTo>
                    <a:pt x="192" y="416"/>
                  </a:lnTo>
                  <a:lnTo>
                    <a:pt x="138" y="488"/>
                  </a:lnTo>
                  <a:lnTo>
                    <a:pt x="118" y="498"/>
                  </a:lnTo>
                  <a:lnTo>
                    <a:pt x="114" y="482"/>
                  </a:lnTo>
                  <a:lnTo>
                    <a:pt x="92" y="492"/>
                  </a:lnTo>
                  <a:lnTo>
                    <a:pt x="70" y="504"/>
                  </a:lnTo>
                  <a:lnTo>
                    <a:pt x="66" y="512"/>
                  </a:lnTo>
                  <a:lnTo>
                    <a:pt x="120" y="508"/>
                  </a:lnTo>
                  <a:lnTo>
                    <a:pt x="140" y="512"/>
                  </a:lnTo>
                  <a:lnTo>
                    <a:pt x="146" y="528"/>
                  </a:lnTo>
                  <a:lnTo>
                    <a:pt x="62" y="580"/>
                  </a:lnTo>
                  <a:lnTo>
                    <a:pt x="14" y="614"/>
                  </a:lnTo>
                  <a:lnTo>
                    <a:pt x="0" y="646"/>
                  </a:lnTo>
                  <a:lnTo>
                    <a:pt x="6" y="666"/>
                  </a:lnTo>
                  <a:lnTo>
                    <a:pt x="32" y="672"/>
                  </a:lnTo>
                  <a:lnTo>
                    <a:pt x="80" y="664"/>
                  </a:lnTo>
                  <a:lnTo>
                    <a:pt x="152" y="656"/>
                  </a:lnTo>
                  <a:lnTo>
                    <a:pt x="198" y="664"/>
                  </a:lnTo>
                  <a:lnTo>
                    <a:pt x="226" y="666"/>
                  </a:lnTo>
                  <a:lnTo>
                    <a:pt x="242" y="676"/>
                  </a:lnTo>
                  <a:lnTo>
                    <a:pt x="306" y="680"/>
                  </a:lnTo>
                  <a:lnTo>
                    <a:pt x="340" y="674"/>
                  </a:lnTo>
                  <a:lnTo>
                    <a:pt x="380" y="670"/>
                  </a:lnTo>
                  <a:lnTo>
                    <a:pt x="400" y="656"/>
                  </a:lnTo>
                  <a:lnTo>
                    <a:pt x="440" y="640"/>
                  </a:lnTo>
                  <a:lnTo>
                    <a:pt x="428" y="662"/>
                  </a:lnTo>
                  <a:lnTo>
                    <a:pt x="424" y="676"/>
                  </a:lnTo>
                  <a:lnTo>
                    <a:pt x="390" y="688"/>
                  </a:lnTo>
                  <a:lnTo>
                    <a:pt x="380" y="698"/>
                  </a:lnTo>
                  <a:lnTo>
                    <a:pt x="404" y="698"/>
                  </a:lnTo>
                  <a:lnTo>
                    <a:pt x="406" y="706"/>
                  </a:lnTo>
                  <a:lnTo>
                    <a:pt x="456" y="702"/>
                  </a:lnTo>
                  <a:lnTo>
                    <a:pt x="488" y="672"/>
                  </a:lnTo>
                  <a:lnTo>
                    <a:pt x="504" y="680"/>
                  </a:lnTo>
                  <a:lnTo>
                    <a:pt x="536" y="682"/>
                  </a:lnTo>
                  <a:lnTo>
                    <a:pt x="544" y="688"/>
                  </a:lnTo>
                  <a:lnTo>
                    <a:pt x="508" y="706"/>
                  </a:lnTo>
                  <a:lnTo>
                    <a:pt x="480" y="724"/>
                  </a:lnTo>
                  <a:lnTo>
                    <a:pt x="442" y="762"/>
                  </a:lnTo>
                  <a:lnTo>
                    <a:pt x="408" y="770"/>
                  </a:lnTo>
                  <a:lnTo>
                    <a:pt x="388" y="776"/>
                  </a:lnTo>
                  <a:lnTo>
                    <a:pt x="380" y="796"/>
                  </a:lnTo>
                  <a:lnTo>
                    <a:pt x="400" y="802"/>
                  </a:lnTo>
                  <a:lnTo>
                    <a:pt x="434" y="798"/>
                  </a:lnTo>
                  <a:lnTo>
                    <a:pt x="460" y="790"/>
                  </a:lnTo>
                  <a:lnTo>
                    <a:pt x="490" y="758"/>
                  </a:lnTo>
                  <a:lnTo>
                    <a:pt x="532" y="724"/>
                  </a:lnTo>
                  <a:lnTo>
                    <a:pt x="572" y="712"/>
                  </a:lnTo>
                  <a:lnTo>
                    <a:pt x="578" y="718"/>
                  </a:lnTo>
                  <a:lnTo>
                    <a:pt x="634" y="632"/>
                  </a:lnTo>
                  <a:lnTo>
                    <a:pt x="652" y="634"/>
                  </a:lnTo>
                  <a:lnTo>
                    <a:pt x="648" y="658"/>
                  </a:lnTo>
                  <a:lnTo>
                    <a:pt x="646" y="696"/>
                  </a:lnTo>
                  <a:lnTo>
                    <a:pt x="642" y="732"/>
                  </a:lnTo>
                  <a:lnTo>
                    <a:pt x="610" y="774"/>
                  </a:lnTo>
                  <a:lnTo>
                    <a:pt x="594" y="812"/>
                  </a:lnTo>
                  <a:lnTo>
                    <a:pt x="608" y="818"/>
                  </a:lnTo>
                  <a:lnTo>
                    <a:pt x="668" y="762"/>
                  </a:lnTo>
                  <a:lnTo>
                    <a:pt x="676" y="772"/>
                  </a:lnTo>
                  <a:lnTo>
                    <a:pt x="660" y="798"/>
                  </a:lnTo>
                  <a:lnTo>
                    <a:pt x="656" y="818"/>
                  </a:lnTo>
                  <a:lnTo>
                    <a:pt x="650" y="838"/>
                  </a:lnTo>
                  <a:lnTo>
                    <a:pt x="656" y="858"/>
                  </a:lnTo>
                  <a:lnTo>
                    <a:pt x="684" y="840"/>
                  </a:lnTo>
                  <a:lnTo>
                    <a:pt x="712" y="848"/>
                  </a:lnTo>
                  <a:lnTo>
                    <a:pt x="740" y="808"/>
                  </a:lnTo>
                  <a:lnTo>
                    <a:pt x="764" y="760"/>
                  </a:lnTo>
                  <a:lnTo>
                    <a:pt x="790" y="720"/>
                  </a:lnTo>
                  <a:lnTo>
                    <a:pt x="804" y="676"/>
                  </a:lnTo>
                  <a:lnTo>
                    <a:pt x="794" y="670"/>
                  </a:lnTo>
                  <a:lnTo>
                    <a:pt x="750" y="718"/>
                  </a:lnTo>
                  <a:lnTo>
                    <a:pt x="742" y="704"/>
                  </a:lnTo>
                  <a:lnTo>
                    <a:pt x="750" y="672"/>
                  </a:lnTo>
                  <a:lnTo>
                    <a:pt x="770" y="642"/>
                  </a:lnTo>
                  <a:lnTo>
                    <a:pt x="786" y="620"/>
                  </a:lnTo>
                  <a:lnTo>
                    <a:pt x="800" y="610"/>
                  </a:lnTo>
                  <a:lnTo>
                    <a:pt x="806" y="594"/>
                  </a:lnTo>
                  <a:lnTo>
                    <a:pt x="752" y="622"/>
                  </a:lnTo>
                  <a:lnTo>
                    <a:pt x="722" y="654"/>
                  </a:lnTo>
                  <a:lnTo>
                    <a:pt x="702" y="680"/>
                  </a:lnTo>
                  <a:lnTo>
                    <a:pt x="690" y="682"/>
                  </a:lnTo>
                  <a:lnTo>
                    <a:pt x="680" y="674"/>
                  </a:lnTo>
                  <a:lnTo>
                    <a:pt x="676" y="658"/>
                  </a:lnTo>
                  <a:lnTo>
                    <a:pt x="688" y="644"/>
                  </a:lnTo>
                  <a:lnTo>
                    <a:pt x="702" y="618"/>
                  </a:lnTo>
                  <a:lnTo>
                    <a:pt x="698" y="616"/>
                  </a:lnTo>
                  <a:lnTo>
                    <a:pt x="698" y="604"/>
                  </a:lnTo>
                  <a:lnTo>
                    <a:pt x="686" y="586"/>
                  </a:lnTo>
                  <a:lnTo>
                    <a:pt x="736" y="572"/>
                  </a:lnTo>
                  <a:lnTo>
                    <a:pt x="758" y="552"/>
                  </a:lnTo>
                  <a:lnTo>
                    <a:pt x="780" y="546"/>
                  </a:lnTo>
                  <a:lnTo>
                    <a:pt x="802" y="524"/>
                  </a:lnTo>
                  <a:lnTo>
                    <a:pt x="800" y="512"/>
                  </a:lnTo>
                  <a:lnTo>
                    <a:pt x="734" y="536"/>
                  </a:lnTo>
                  <a:lnTo>
                    <a:pt x="722" y="534"/>
                  </a:lnTo>
                  <a:lnTo>
                    <a:pt x="688" y="546"/>
                  </a:lnTo>
                  <a:lnTo>
                    <a:pt x="684" y="536"/>
                  </a:lnTo>
                  <a:lnTo>
                    <a:pt x="704" y="520"/>
                  </a:lnTo>
                  <a:lnTo>
                    <a:pt x="726" y="496"/>
                  </a:lnTo>
                  <a:lnTo>
                    <a:pt x="720" y="484"/>
                  </a:lnTo>
                  <a:lnTo>
                    <a:pt x="708" y="482"/>
                  </a:lnTo>
                  <a:lnTo>
                    <a:pt x="730" y="454"/>
                  </a:lnTo>
                  <a:lnTo>
                    <a:pt x="762" y="432"/>
                  </a:lnTo>
                  <a:lnTo>
                    <a:pt x="786" y="404"/>
                  </a:lnTo>
                  <a:lnTo>
                    <a:pt x="786" y="394"/>
                  </a:lnTo>
                  <a:lnTo>
                    <a:pt x="774" y="392"/>
                  </a:lnTo>
                  <a:lnTo>
                    <a:pt x="736" y="378"/>
                  </a:lnTo>
                  <a:lnTo>
                    <a:pt x="694" y="382"/>
                  </a:lnTo>
                  <a:lnTo>
                    <a:pt x="682" y="366"/>
                  </a:lnTo>
                  <a:lnTo>
                    <a:pt x="588" y="400"/>
                  </a:lnTo>
                  <a:lnTo>
                    <a:pt x="564" y="400"/>
                  </a:lnTo>
                  <a:lnTo>
                    <a:pt x="596" y="364"/>
                  </a:lnTo>
                  <a:lnTo>
                    <a:pt x="602" y="350"/>
                  </a:lnTo>
                  <a:lnTo>
                    <a:pt x="576" y="362"/>
                  </a:lnTo>
                  <a:lnTo>
                    <a:pt x="568" y="372"/>
                  </a:lnTo>
                  <a:lnTo>
                    <a:pt x="558" y="366"/>
                  </a:lnTo>
                  <a:lnTo>
                    <a:pt x="512" y="360"/>
                  </a:lnTo>
                  <a:lnTo>
                    <a:pt x="522" y="334"/>
                  </a:lnTo>
                  <a:lnTo>
                    <a:pt x="502" y="326"/>
                  </a:lnTo>
                  <a:lnTo>
                    <a:pt x="534" y="306"/>
                  </a:lnTo>
                  <a:lnTo>
                    <a:pt x="580" y="290"/>
                  </a:lnTo>
                  <a:lnTo>
                    <a:pt x="564" y="282"/>
                  </a:lnTo>
                  <a:lnTo>
                    <a:pt x="512" y="276"/>
                  </a:lnTo>
                  <a:lnTo>
                    <a:pt x="524" y="254"/>
                  </a:lnTo>
                  <a:lnTo>
                    <a:pt x="510" y="252"/>
                  </a:lnTo>
                  <a:lnTo>
                    <a:pt x="476" y="284"/>
                  </a:lnTo>
                  <a:lnTo>
                    <a:pt x="444" y="306"/>
                  </a:lnTo>
                  <a:lnTo>
                    <a:pt x="416" y="332"/>
                  </a:lnTo>
                  <a:lnTo>
                    <a:pt x="416" y="308"/>
                  </a:lnTo>
                  <a:lnTo>
                    <a:pt x="432" y="286"/>
                  </a:lnTo>
                  <a:lnTo>
                    <a:pt x="440" y="260"/>
                  </a:lnTo>
                  <a:lnTo>
                    <a:pt x="474" y="232"/>
                  </a:lnTo>
                  <a:lnTo>
                    <a:pt x="502" y="198"/>
                  </a:lnTo>
                  <a:lnTo>
                    <a:pt x="532" y="172"/>
                  </a:lnTo>
                  <a:lnTo>
                    <a:pt x="542" y="154"/>
                  </a:lnTo>
                  <a:lnTo>
                    <a:pt x="542" y="140"/>
                  </a:lnTo>
                  <a:lnTo>
                    <a:pt x="552" y="120"/>
                  </a:lnTo>
                  <a:lnTo>
                    <a:pt x="558" y="134"/>
                  </a:lnTo>
                  <a:lnTo>
                    <a:pt x="584" y="122"/>
                  </a:lnTo>
                  <a:lnTo>
                    <a:pt x="614" y="78"/>
                  </a:lnTo>
                  <a:lnTo>
                    <a:pt x="600" y="62"/>
                  </a:lnTo>
                  <a:lnTo>
                    <a:pt x="608" y="46"/>
                  </a:lnTo>
                  <a:lnTo>
                    <a:pt x="636" y="46"/>
                  </a:lnTo>
                  <a:lnTo>
                    <a:pt x="664" y="16"/>
                  </a:lnTo>
                  <a:lnTo>
                    <a:pt x="668" y="0"/>
                  </a:lnTo>
                  <a:lnTo>
                    <a:pt x="644" y="12"/>
                  </a:lnTo>
                  <a:lnTo>
                    <a:pt x="636" y="6"/>
                  </a:lnTo>
                  <a:lnTo>
                    <a:pt x="614" y="8"/>
                  </a:lnTo>
                  <a:lnTo>
                    <a:pt x="582" y="2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35880" y="2625120"/>
              <a:ext cx="32400" cy="18360"/>
            </a:xfrm>
            <a:custGeom>
              <a:avLst/>
              <a:gdLst/>
              <a:ahLst/>
              <a:rect l="l" t="t" r="r" b="b"/>
              <a:pathLst>
                <a:path w="194" h="104">
                  <a:moveTo>
                    <a:pt x="62" y="50"/>
                  </a:moveTo>
                  <a:lnTo>
                    <a:pt x="66" y="54"/>
                  </a:lnTo>
                  <a:lnTo>
                    <a:pt x="76" y="50"/>
                  </a:lnTo>
                  <a:lnTo>
                    <a:pt x="78" y="38"/>
                  </a:lnTo>
                  <a:lnTo>
                    <a:pt x="86" y="40"/>
                  </a:lnTo>
                  <a:lnTo>
                    <a:pt x="88" y="46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18" y="44"/>
                  </a:lnTo>
                  <a:lnTo>
                    <a:pt x="134" y="36"/>
                  </a:lnTo>
                  <a:lnTo>
                    <a:pt x="122" y="38"/>
                  </a:lnTo>
                  <a:lnTo>
                    <a:pt x="120" y="34"/>
                  </a:lnTo>
                  <a:lnTo>
                    <a:pt x="132" y="30"/>
                  </a:lnTo>
                  <a:lnTo>
                    <a:pt x="158" y="18"/>
                  </a:lnTo>
                  <a:lnTo>
                    <a:pt x="160" y="10"/>
                  </a:lnTo>
                  <a:lnTo>
                    <a:pt x="170" y="2"/>
                  </a:lnTo>
                  <a:lnTo>
                    <a:pt x="178" y="0"/>
                  </a:lnTo>
                  <a:lnTo>
                    <a:pt x="168" y="10"/>
                  </a:lnTo>
                  <a:lnTo>
                    <a:pt x="174" y="18"/>
                  </a:lnTo>
                  <a:lnTo>
                    <a:pt x="162" y="26"/>
                  </a:lnTo>
                  <a:lnTo>
                    <a:pt x="160" y="32"/>
                  </a:lnTo>
                  <a:lnTo>
                    <a:pt x="164" y="38"/>
                  </a:lnTo>
                  <a:lnTo>
                    <a:pt x="194" y="28"/>
                  </a:lnTo>
                  <a:lnTo>
                    <a:pt x="194" y="36"/>
                  </a:lnTo>
                  <a:lnTo>
                    <a:pt x="178" y="46"/>
                  </a:lnTo>
                  <a:lnTo>
                    <a:pt x="164" y="54"/>
                  </a:lnTo>
                  <a:lnTo>
                    <a:pt x="142" y="60"/>
                  </a:lnTo>
                  <a:lnTo>
                    <a:pt x="68" y="90"/>
                  </a:lnTo>
                  <a:lnTo>
                    <a:pt x="24" y="104"/>
                  </a:lnTo>
                  <a:lnTo>
                    <a:pt x="10" y="98"/>
                  </a:lnTo>
                  <a:lnTo>
                    <a:pt x="4" y="100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8" y="92"/>
                  </a:lnTo>
                  <a:lnTo>
                    <a:pt x="20" y="96"/>
                  </a:lnTo>
                  <a:lnTo>
                    <a:pt x="40" y="90"/>
                  </a:lnTo>
                  <a:lnTo>
                    <a:pt x="60" y="80"/>
                  </a:lnTo>
                  <a:lnTo>
                    <a:pt x="26" y="88"/>
                  </a:lnTo>
                  <a:lnTo>
                    <a:pt x="20" y="76"/>
                  </a:lnTo>
                  <a:lnTo>
                    <a:pt x="30" y="62"/>
                  </a:lnTo>
                  <a:lnTo>
                    <a:pt x="42" y="50"/>
                  </a:lnTo>
                  <a:lnTo>
                    <a:pt x="40" y="46"/>
                  </a:lnTo>
                  <a:lnTo>
                    <a:pt x="44" y="4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2" y="5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7360" bIns="-273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22920" y="2634120"/>
              <a:ext cx="9360" cy="1224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28" y="2"/>
                  </a:moveTo>
                  <a:lnTo>
                    <a:pt x="26" y="2"/>
                  </a:lnTo>
                  <a:lnTo>
                    <a:pt x="18" y="6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0" y="36"/>
                  </a:lnTo>
                  <a:lnTo>
                    <a:pt x="14" y="40"/>
                  </a:lnTo>
                  <a:lnTo>
                    <a:pt x="14" y="52"/>
                  </a:lnTo>
                  <a:lnTo>
                    <a:pt x="28" y="54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6" y="64"/>
                  </a:lnTo>
                  <a:lnTo>
                    <a:pt x="46" y="58"/>
                  </a:lnTo>
                  <a:lnTo>
                    <a:pt x="48" y="44"/>
                  </a:lnTo>
                  <a:lnTo>
                    <a:pt x="38" y="32"/>
                  </a:lnTo>
                  <a:lnTo>
                    <a:pt x="50" y="26"/>
                  </a:lnTo>
                  <a:lnTo>
                    <a:pt x="38" y="16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8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50560" y="3362400"/>
              <a:ext cx="46800" cy="33480"/>
            </a:xfrm>
            <a:custGeom>
              <a:avLst/>
              <a:gdLst/>
              <a:ahLst/>
              <a:rect l="l" t="t" r="r" b="b"/>
              <a:pathLst>
                <a:path w="264" h="194">
                  <a:moveTo>
                    <a:pt x="218" y="148"/>
                  </a:moveTo>
                  <a:lnTo>
                    <a:pt x="234" y="132"/>
                  </a:lnTo>
                  <a:lnTo>
                    <a:pt x="260" y="128"/>
                  </a:lnTo>
                  <a:lnTo>
                    <a:pt x="264" y="116"/>
                  </a:lnTo>
                  <a:lnTo>
                    <a:pt x="210" y="112"/>
                  </a:lnTo>
                  <a:lnTo>
                    <a:pt x="152" y="122"/>
                  </a:lnTo>
                  <a:lnTo>
                    <a:pt x="132" y="110"/>
                  </a:lnTo>
                  <a:lnTo>
                    <a:pt x="98" y="98"/>
                  </a:lnTo>
                  <a:lnTo>
                    <a:pt x="74" y="92"/>
                  </a:lnTo>
                  <a:lnTo>
                    <a:pt x="60" y="98"/>
                  </a:lnTo>
                  <a:lnTo>
                    <a:pt x="50" y="90"/>
                  </a:lnTo>
                  <a:lnTo>
                    <a:pt x="44" y="62"/>
                  </a:lnTo>
                  <a:lnTo>
                    <a:pt x="36" y="50"/>
                  </a:lnTo>
                  <a:lnTo>
                    <a:pt x="56" y="28"/>
                  </a:lnTo>
                  <a:lnTo>
                    <a:pt x="68" y="0"/>
                  </a:lnTo>
                  <a:lnTo>
                    <a:pt x="60" y="8"/>
                  </a:lnTo>
                  <a:lnTo>
                    <a:pt x="6" y="44"/>
                  </a:lnTo>
                  <a:lnTo>
                    <a:pt x="0" y="68"/>
                  </a:lnTo>
                  <a:lnTo>
                    <a:pt x="26" y="82"/>
                  </a:lnTo>
                  <a:lnTo>
                    <a:pt x="20" y="96"/>
                  </a:lnTo>
                  <a:lnTo>
                    <a:pt x="28" y="114"/>
                  </a:lnTo>
                  <a:lnTo>
                    <a:pt x="52" y="118"/>
                  </a:lnTo>
                  <a:lnTo>
                    <a:pt x="54" y="136"/>
                  </a:lnTo>
                  <a:lnTo>
                    <a:pt x="76" y="148"/>
                  </a:lnTo>
                  <a:lnTo>
                    <a:pt x="98" y="156"/>
                  </a:lnTo>
                  <a:lnTo>
                    <a:pt x="116" y="158"/>
                  </a:lnTo>
                  <a:lnTo>
                    <a:pt x="122" y="148"/>
                  </a:lnTo>
                  <a:lnTo>
                    <a:pt x="130" y="146"/>
                  </a:lnTo>
                  <a:lnTo>
                    <a:pt x="144" y="156"/>
                  </a:lnTo>
                  <a:lnTo>
                    <a:pt x="140" y="172"/>
                  </a:lnTo>
                  <a:lnTo>
                    <a:pt x="144" y="182"/>
                  </a:lnTo>
                  <a:lnTo>
                    <a:pt x="166" y="194"/>
                  </a:lnTo>
                  <a:lnTo>
                    <a:pt x="194" y="188"/>
                  </a:lnTo>
                  <a:lnTo>
                    <a:pt x="194" y="182"/>
                  </a:lnTo>
                  <a:lnTo>
                    <a:pt x="204" y="154"/>
                  </a:lnTo>
                  <a:lnTo>
                    <a:pt x="218" y="14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360520" y="2342520"/>
              <a:ext cx="1168920" cy="841320"/>
              <a:chOff x="2360520" y="2342520"/>
              <a:chExt cx="1168920" cy="841320"/>
            </a:xfrm>
          </p:grpSpPr>
          <p:sp>
            <p:nvSpPr>
              <p:cNvPr id="604" name=""/>
              <p:cNvSpPr/>
              <p:nvPr/>
            </p:nvSpPr>
            <p:spPr>
              <a:xfrm>
                <a:off x="3023640" y="290628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60" h="38">
                    <a:moveTo>
                      <a:pt x="6" y="0"/>
                    </a:moveTo>
                    <a:lnTo>
                      <a:pt x="14" y="0"/>
                    </a:lnTo>
                    <a:lnTo>
                      <a:pt x="24" y="6"/>
                    </a:lnTo>
                    <a:lnTo>
                      <a:pt x="48" y="12"/>
                    </a:lnTo>
                    <a:lnTo>
                      <a:pt x="60" y="26"/>
                    </a:lnTo>
                    <a:lnTo>
                      <a:pt x="50" y="34"/>
                    </a:lnTo>
                    <a:lnTo>
                      <a:pt x="26" y="38"/>
                    </a:lnTo>
                    <a:lnTo>
                      <a:pt x="12" y="30"/>
                    </a:lnTo>
                    <a:lnTo>
                      <a:pt x="4" y="18"/>
                    </a:lnTo>
                    <a:lnTo>
                      <a:pt x="0" y="4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669040" y="2676240"/>
                <a:ext cx="66240" cy="41400"/>
              </a:xfrm>
              <a:custGeom>
                <a:avLst/>
                <a:gdLst/>
                <a:ahLst/>
                <a:rect l="l" t="t" r="r" b="b"/>
                <a:pathLst>
                  <a:path w="382" h="240">
                    <a:moveTo>
                      <a:pt x="324" y="64"/>
                    </a:moveTo>
                    <a:lnTo>
                      <a:pt x="324" y="44"/>
                    </a:lnTo>
                    <a:lnTo>
                      <a:pt x="320" y="40"/>
                    </a:lnTo>
                    <a:lnTo>
                      <a:pt x="306" y="38"/>
                    </a:lnTo>
                    <a:lnTo>
                      <a:pt x="318" y="30"/>
                    </a:lnTo>
                    <a:lnTo>
                      <a:pt x="320" y="22"/>
                    </a:lnTo>
                    <a:lnTo>
                      <a:pt x="306" y="18"/>
                    </a:lnTo>
                    <a:lnTo>
                      <a:pt x="308" y="8"/>
                    </a:lnTo>
                    <a:lnTo>
                      <a:pt x="298" y="0"/>
                    </a:lnTo>
                    <a:lnTo>
                      <a:pt x="284" y="0"/>
                    </a:lnTo>
                    <a:lnTo>
                      <a:pt x="270" y="12"/>
                    </a:lnTo>
                    <a:lnTo>
                      <a:pt x="244" y="20"/>
                    </a:lnTo>
                    <a:lnTo>
                      <a:pt x="208" y="42"/>
                    </a:lnTo>
                    <a:lnTo>
                      <a:pt x="212" y="52"/>
                    </a:lnTo>
                    <a:lnTo>
                      <a:pt x="206" y="56"/>
                    </a:lnTo>
                    <a:lnTo>
                      <a:pt x="204" y="50"/>
                    </a:lnTo>
                    <a:lnTo>
                      <a:pt x="188" y="48"/>
                    </a:lnTo>
                    <a:lnTo>
                      <a:pt x="176" y="54"/>
                    </a:lnTo>
                    <a:lnTo>
                      <a:pt x="172" y="58"/>
                    </a:lnTo>
                    <a:lnTo>
                      <a:pt x="162" y="70"/>
                    </a:lnTo>
                    <a:lnTo>
                      <a:pt x="154" y="88"/>
                    </a:lnTo>
                    <a:lnTo>
                      <a:pt x="134" y="96"/>
                    </a:lnTo>
                    <a:lnTo>
                      <a:pt x="120" y="106"/>
                    </a:lnTo>
                    <a:lnTo>
                      <a:pt x="108" y="106"/>
                    </a:lnTo>
                    <a:lnTo>
                      <a:pt x="74" y="112"/>
                    </a:lnTo>
                    <a:lnTo>
                      <a:pt x="50" y="112"/>
                    </a:lnTo>
                    <a:lnTo>
                      <a:pt x="30" y="116"/>
                    </a:lnTo>
                    <a:lnTo>
                      <a:pt x="14" y="128"/>
                    </a:lnTo>
                    <a:lnTo>
                      <a:pt x="0" y="144"/>
                    </a:lnTo>
                    <a:lnTo>
                      <a:pt x="6" y="156"/>
                    </a:lnTo>
                    <a:lnTo>
                      <a:pt x="20" y="164"/>
                    </a:lnTo>
                    <a:lnTo>
                      <a:pt x="28" y="154"/>
                    </a:lnTo>
                    <a:lnTo>
                      <a:pt x="42" y="148"/>
                    </a:lnTo>
                    <a:lnTo>
                      <a:pt x="54" y="148"/>
                    </a:lnTo>
                    <a:lnTo>
                      <a:pt x="64" y="156"/>
                    </a:lnTo>
                    <a:lnTo>
                      <a:pt x="60" y="166"/>
                    </a:lnTo>
                    <a:lnTo>
                      <a:pt x="70" y="170"/>
                    </a:lnTo>
                    <a:lnTo>
                      <a:pt x="70" y="176"/>
                    </a:lnTo>
                    <a:lnTo>
                      <a:pt x="82" y="172"/>
                    </a:lnTo>
                    <a:lnTo>
                      <a:pt x="92" y="168"/>
                    </a:lnTo>
                    <a:lnTo>
                      <a:pt x="100" y="176"/>
                    </a:lnTo>
                    <a:lnTo>
                      <a:pt x="92" y="184"/>
                    </a:lnTo>
                    <a:lnTo>
                      <a:pt x="100" y="188"/>
                    </a:lnTo>
                    <a:lnTo>
                      <a:pt x="122" y="188"/>
                    </a:lnTo>
                    <a:lnTo>
                      <a:pt x="124" y="206"/>
                    </a:lnTo>
                    <a:lnTo>
                      <a:pt x="136" y="212"/>
                    </a:lnTo>
                    <a:lnTo>
                      <a:pt x="162" y="220"/>
                    </a:lnTo>
                    <a:lnTo>
                      <a:pt x="166" y="224"/>
                    </a:lnTo>
                    <a:lnTo>
                      <a:pt x="176" y="216"/>
                    </a:lnTo>
                    <a:lnTo>
                      <a:pt x="180" y="216"/>
                    </a:lnTo>
                    <a:lnTo>
                      <a:pt x="196" y="230"/>
                    </a:lnTo>
                    <a:lnTo>
                      <a:pt x="214" y="240"/>
                    </a:lnTo>
                    <a:lnTo>
                      <a:pt x="234" y="236"/>
                    </a:lnTo>
                    <a:lnTo>
                      <a:pt x="270" y="216"/>
                    </a:lnTo>
                    <a:lnTo>
                      <a:pt x="284" y="216"/>
                    </a:lnTo>
                    <a:lnTo>
                      <a:pt x="322" y="202"/>
                    </a:lnTo>
                    <a:lnTo>
                      <a:pt x="336" y="202"/>
                    </a:lnTo>
                    <a:lnTo>
                      <a:pt x="330" y="210"/>
                    </a:lnTo>
                    <a:lnTo>
                      <a:pt x="344" y="208"/>
                    </a:lnTo>
                    <a:lnTo>
                      <a:pt x="368" y="200"/>
                    </a:lnTo>
                    <a:lnTo>
                      <a:pt x="382" y="190"/>
                    </a:lnTo>
                    <a:lnTo>
                      <a:pt x="376" y="188"/>
                    </a:lnTo>
                    <a:lnTo>
                      <a:pt x="350" y="192"/>
                    </a:lnTo>
                    <a:lnTo>
                      <a:pt x="344" y="174"/>
                    </a:lnTo>
                    <a:lnTo>
                      <a:pt x="346" y="162"/>
                    </a:lnTo>
                    <a:lnTo>
                      <a:pt x="354" y="152"/>
                    </a:lnTo>
                    <a:lnTo>
                      <a:pt x="356" y="126"/>
                    </a:lnTo>
                    <a:lnTo>
                      <a:pt x="344" y="114"/>
                    </a:lnTo>
                    <a:lnTo>
                      <a:pt x="346" y="104"/>
                    </a:lnTo>
                    <a:lnTo>
                      <a:pt x="324" y="70"/>
                    </a:lnTo>
                    <a:lnTo>
                      <a:pt x="324" y="6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63280" y="3168000"/>
                <a:ext cx="23040" cy="15840"/>
              </a:xfrm>
              <a:custGeom>
                <a:avLst/>
                <a:gdLst/>
                <a:ahLst/>
                <a:rect l="l" t="t" r="r" b="b"/>
                <a:pathLst>
                  <a:path w="134" h="96">
                    <a:moveTo>
                      <a:pt x="22" y="8"/>
                    </a:moveTo>
                    <a:lnTo>
                      <a:pt x="82" y="0"/>
                    </a:lnTo>
                    <a:lnTo>
                      <a:pt x="104" y="14"/>
                    </a:lnTo>
                    <a:lnTo>
                      <a:pt x="126" y="16"/>
                    </a:lnTo>
                    <a:lnTo>
                      <a:pt x="134" y="28"/>
                    </a:lnTo>
                    <a:lnTo>
                      <a:pt x="134" y="48"/>
                    </a:lnTo>
                    <a:lnTo>
                      <a:pt x="128" y="66"/>
                    </a:lnTo>
                    <a:lnTo>
                      <a:pt x="128" y="88"/>
                    </a:lnTo>
                    <a:lnTo>
                      <a:pt x="122" y="96"/>
                    </a:lnTo>
                    <a:lnTo>
                      <a:pt x="110" y="84"/>
                    </a:lnTo>
                    <a:lnTo>
                      <a:pt x="88" y="82"/>
                    </a:lnTo>
                    <a:lnTo>
                      <a:pt x="58" y="50"/>
                    </a:lnTo>
                    <a:lnTo>
                      <a:pt x="24" y="42"/>
                    </a:lnTo>
                    <a:lnTo>
                      <a:pt x="0" y="28"/>
                    </a:lnTo>
                    <a:lnTo>
                      <a:pt x="22" y="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60520" y="2521440"/>
                <a:ext cx="202320" cy="86400"/>
              </a:xfrm>
              <a:custGeom>
                <a:avLst/>
                <a:gdLst/>
                <a:ahLst/>
                <a:rect l="l" t="t" r="r" b="b"/>
                <a:pathLst>
                  <a:path w="1164" h="512">
                    <a:moveTo>
                      <a:pt x="532" y="68"/>
                    </a:moveTo>
                    <a:lnTo>
                      <a:pt x="530" y="78"/>
                    </a:lnTo>
                    <a:lnTo>
                      <a:pt x="534" y="84"/>
                    </a:lnTo>
                    <a:lnTo>
                      <a:pt x="530" y="92"/>
                    </a:lnTo>
                    <a:lnTo>
                      <a:pt x="506" y="102"/>
                    </a:lnTo>
                    <a:lnTo>
                      <a:pt x="466" y="122"/>
                    </a:lnTo>
                    <a:lnTo>
                      <a:pt x="452" y="128"/>
                    </a:lnTo>
                    <a:lnTo>
                      <a:pt x="430" y="134"/>
                    </a:lnTo>
                    <a:lnTo>
                      <a:pt x="424" y="138"/>
                    </a:lnTo>
                    <a:lnTo>
                      <a:pt x="408" y="146"/>
                    </a:lnTo>
                    <a:lnTo>
                      <a:pt x="396" y="148"/>
                    </a:lnTo>
                    <a:lnTo>
                      <a:pt x="378" y="160"/>
                    </a:lnTo>
                    <a:lnTo>
                      <a:pt x="370" y="166"/>
                    </a:lnTo>
                    <a:lnTo>
                      <a:pt x="344" y="174"/>
                    </a:lnTo>
                    <a:lnTo>
                      <a:pt x="340" y="180"/>
                    </a:lnTo>
                    <a:lnTo>
                      <a:pt x="332" y="184"/>
                    </a:lnTo>
                    <a:lnTo>
                      <a:pt x="318" y="190"/>
                    </a:lnTo>
                    <a:lnTo>
                      <a:pt x="306" y="192"/>
                    </a:lnTo>
                    <a:lnTo>
                      <a:pt x="298" y="200"/>
                    </a:lnTo>
                    <a:lnTo>
                      <a:pt x="308" y="200"/>
                    </a:lnTo>
                    <a:lnTo>
                      <a:pt x="306" y="206"/>
                    </a:lnTo>
                    <a:lnTo>
                      <a:pt x="312" y="212"/>
                    </a:lnTo>
                    <a:lnTo>
                      <a:pt x="306" y="216"/>
                    </a:lnTo>
                    <a:lnTo>
                      <a:pt x="298" y="220"/>
                    </a:lnTo>
                    <a:lnTo>
                      <a:pt x="258" y="224"/>
                    </a:lnTo>
                    <a:lnTo>
                      <a:pt x="250" y="220"/>
                    </a:lnTo>
                    <a:lnTo>
                      <a:pt x="240" y="226"/>
                    </a:lnTo>
                    <a:lnTo>
                      <a:pt x="236" y="232"/>
                    </a:lnTo>
                    <a:lnTo>
                      <a:pt x="236" y="236"/>
                    </a:lnTo>
                    <a:lnTo>
                      <a:pt x="224" y="246"/>
                    </a:lnTo>
                    <a:lnTo>
                      <a:pt x="224" y="246"/>
                    </a:lnTo>
                    <a:lnTo>
                      <a:pt x="216" y="252"/>
                    </a:lnTo>
                    <a:lnTo>
                      <a:pt x="196" y="264"/>
                    </a:lnTo>
                    <a:lnTo>
                      <a:pt x="206" y="262"/>
                    </a:lnTo>
                    <a:lnTo>
                      <a:pt x="198" y="270"/>
                    </a:lnTo>
                    <a:lnTo>
                      <a:pt x="184" y="272"/>
                    </a:lnTo>
                    <a:lnTo>
                      <a:pt x="168" y="278"/>
                    </a:lnTo>
                    <a:lnTo>
                      <a:pt x="172" y="284"/>
                    </a:lnTo>
                    <a:lnTo>
                      <a:pt x="160" y="286"/>
                    </a:lnTo>
                    <a:lnTo>
                      <a:pt x="152" y="282"/>
                    </a:lnTo>
                    <a:lnTo>
                      <a:pt x="132" y="292"/>
                    </a:lnTo>
                    <a:lnTo>
                      <a:pt x="118" y="302"/>
                    </a:lnTo>
                    <a:lnTo>
                      <a:pt x="104" y="304"/>
                    </a:lnTo>
                    <a:lnTo>
                      <a:pt x="100" y="310"/>
                    </a:lnTo>
                    <a:lnTo>
                      <a:pt x="104" y="318"/>
                    </a:lnTo>
                    <a:lnTo>
                      <a:pt x="72" y="320"/>
                    </a:lnTo>
                    <a:lnTo>
                      <a:pt x="76" y="322"/>
                    </a:lnTo>
                    <a:lnTo>
                      <a:pt x="68" y="328"/>
                    </a:lnTo>
                    <a:lnTo>
                      <a:pt x="64" y="326"/>
                    </a:lnTo>
                    <a:lnTo>
                      <a:pt x="50" y="334"/>
                    </a:lnTo>
                    <a:lnTo>
                      <a:pt x="44" y="340"/>
                    </a:lnTo>
                    <a:lnTo>
                      <a:pt x="48" y="342"/>
                    </a:lnTo>
                    <a:lnTo>
                      <a:pt x="20" y="356"/>
                    </a:lnTo>
                    <a:lnTo>
                      <a:pt x="4" y="356"/>
                    </a:lnTo>
                    <a:lnTo>
                      <a:pt x="0" y="364"/>
                    </a:lnTo>
                    <a:lnTo>
                      <a:pt x="52" y="360"/>
                    </a:lnTo>
                    <a:lnTo>
                      <a:pt x="74" y="366"/>
                    </a:lnTo>
                    <a:lnTo>
                      <a:pt x="72" y="372"/>
                    </a:lnTo>
                    <a:lnTo>
                      <a:pt x="62" y="368"/>
                    </a:lnTo>
                    <a:lnTo>
                      <a:pt x="56" y="372"/>
                    </a:lnTo>
                    <a:lnTo>
                      <a:pt x="70" y="384"/>
                    </a:lnTo>
                    <a:lnTo>
                      <a:pt x="72" y="392"/>
                    </a:lnTo>
                    <a:lnTo>
                      <a:pt x="86" y="382"/>
                    </a:lnTo>
                    <a:lnTo>
                      <a:pt x="94" y="384"/>
                    </a:lnTo>
                    <a:lnTo>
                      <a:pt x="84" y="394"/>
                    </a:lnTo>
                    <a:lnTo>
                      <a:pt x="110" y="406"/>
                    </a:lnTo>
                    <a:lnTo>
                      <a:pt x="110" y="426"/>
                    </a:lnTo>
                    <a:lnTo>
                      <a:pt x="100" y="440"/>
                    </a:lnTo>
                    <a:lnTo>
                      <a:pt x="100" y="450"/>
                    </a:lnTo>
                    <a:lnTo>
                      <a:pt x="70" y="494"/>
                    </a:lnTo>
                    <a:lnTo>
                      <a:pt x="68" y="512"/>
                    </a:lnTo>
                    <a:lnTo>
                      <a:pt x="88" y="512"/>
                    </a:lnTo>
                    <a:lnTo>
                      <a:pt x="140" y="496"/>
                    </a:lnTo>
                    <a:lnTo>
                      <a:pt x="164" y="494"/>
                    </a:lnTo>
                    <a:lnTo>
                      <a:pt x="218" y="480"/>
                    </a:lnTo>
                    <a:lnTo>
                      <a:pt x="242" y="472"/>
                    </a:lnTo>
                    <a:lnTo>
                      <a:pt x="264" y="462"/>
                    </a:lnTo>
                    <a:lnTo>
                      <a:pt x="270" y="470"/>
                    </a:lnTo>
                    <a:lnTo>
                      <a:pt x="268" y="474"/>
                    </a:lnTo>
                    <a:lnTo>
                      <a:pt x="258" y="480"/>
                    </a:lnTo>
                    <a:lnTo>
                      <a:pt x="274" y="482"/>
                    </a:lnTo>
                    <a:lnTo>
                      <a:pt x="288" y="482"/>
                    </a:lnTo>
                    <a:lnTo>
                      <a:pt x="304" y="476"/>
                    </a:lnTo>
                    <a:lnTo>
                      <a:pt x="316" y="468"/>
                    </a:lnTo>
                    <a:lnTo>
                      <a:pt x="314" y="478"/>
                    </a:lnTo>
                    <a:lnTo>
                      <a:pt x="320" y="478"/>
                    </a:lnTo>
                    <a:lnTo>
                      <a:pt x="332" y="476"/>
                    </a:lnTo>
                    <a:lnTo>
                      <a:pt x="362" y="468"/>
                    </a:lnTo>
                    <a:lnTo>
                      <a:pt x="388" y="456"/>
                    </a:lnTo>
                    <a:lnTo>
                      <a:pt x="402" y="446"/>
                    </a:lnTo>
                    <a:lnTo>
                      <a:pt x="412" y="440"/>
                    </a:lnTo>
                    <a:lnTo>
                      <a:pt x="414" y="434"/>
                    </a:lnTo>
                    <a:lnTo>
                      <a:pt x="442" y="412"/>
                    </a:lnTo>
                    <a:lnTo>
                      <a:pt x="448" y="404"/>
                    </a:lnTo>
                    <a:lnTo>
                      <a:pt x="498" y="384"/>
                    </a:lnTo>
                    <a:lnTo>
                      <a:pt x="514" y="372"/>
                    </a:lnTo>
                    <a:lnTo>
                      <a:pt x="528" y="362"/>
                    </a:lnTo>
                    <a:lnTo>
                      <a:pt x="534" y="360"/>
                    </a:lnTo>
                    <a:lnTo>
                      <a:pt x="542" y="370"/>
                    </a:lnTo>
                    <a:lnTo>
                      <a:pt x="564" y="364"/>
                    </a:lnTo>
                    <a:lnTo>
                      <a:pt x="582" y="362"/>
                    </a:lnTo>
                    <a:lnTo>
                      <a:pt x="616" y="356"/>
                    </a:lnTo>
                    <a:lnTo>
                      <a:pt x="642" y="340"/>
                    </a:lnTo>
                    <a:lnTo>
                      <a:pt x="668" y="326"/>
                    </a:lnTo>
                    <a:lnTo>
                      <a:pt x="680" y="314"/>
                    </a:lnTo>
                    <a:lnTo>
                      <a:pt x="704" y="308"/>
                    </a:lnTo>
                    <a:lnTo>
                      <a:pt x="730" y="302"/>
                    </a:lnTo>
                    <a:lnTo>
                      <a:pt x="760" y="300"/>
                    </a:lnTo>
                    <a:lnTo>
                      <a:pt x="786" y="290"/>
                    </a:lnTo>
                    <a:lnTo>
                      <a:pt x="832" y="284"/>
                    </a:lnTo>
                    <a:lnTo>
                      <a:pt x="886" y="270"/>
                    </a:lnTo>
                    <a:lnTo>
                      <a:pt x="912" y="266"/>
                    </a:lnTo>
                    <a:lnTo>
                      <a:pt x="930" y="260"/>
                    </a:lnTo>
                    <a:lnTo>
                      <a:pt x="1006" y="244"/>
                    </a:lnTo>
                    <a:lnTo>
                      <a:pt x="1074" y="236"/>
                    </a:lnTo>
                    <a:lnTo>
                      <a:pt x="1146" y="218"/>
                    </a:lnTo>
                    <a:lnTo>
                      <a:pt x="1164" y="202"/>
                    </a:lnTo>
                    <a:lnTo>
                      <a:pt x="1158" y="198"/>
                    </a:lnTo>
                    <a:lnTo>
                      <a:pt x="1156" y="182"/>
                    </a:lnTo>
                    <a:lnTo>
                      <a:pt x="1148" y="178"/>
                    </a:lnTo>
                    <a:lnTo>
                      <a:pt x="1144" y="156"/>
                    </a:lnTo>
                    <a:lnTo>
                      <a:pt x="1130" y="136"/>
                    </a:lnTo>
                    <a:lnTo>
                      <a:pt x="1132" y="128"/>
                    </a:lnTo>
                    <a:lnTo>
                      <a:pt x="1124" y="108"/>
                    </a:lnTo>
                    <a:lnTo>
                      <a:pt x="1118" y="100"/>
                    </a:lnTo>
                    <a:lnTo>
                      <a:pt x="1112" y="84"/>
                    </a:lnTo>
                    <a:lnTo>
                      <a:pt x="1060" y="72"/>
                    </a:lnTo>
                    <a:lnTo>
                      <a:pt x="1004" y="76"/>
                    </a:lnTo>
                    <a:lnTo>
                      <a:pt x="990" y="80"/>
                    </a:lnTo>
                    <a:lnTo>
                      <a:pt x="980" y="86"/>
                    </a:lnTo>
                    <a:lnTo>
                      <a:pt x="980" y="94"/>
                    </a:lnTo>
                    <a:lnTo>
                      <a:pt x="964" y="100"/>
                    </a:lnTo>
                    <a:lnTo>
                      <a:pt x="954" y="106"/>
                    </a:lnTo>
                    <a:lnTo>
                      <a:pt x="932" y="110"/>
                    </a:lnTo>
                    <a:lnTo>
                      <a:pt x="938" y="100"/>
                    </a:lnTo>
                    <a:lnTo>
                      <a:pt x="954" y="96"/>
                    </a:lnTo>
                    <a:lnTo>
                      <a:pt x="970" y="84"/>
                    </a:lnTo>
                    <a:lnTo>
                      <a:pt x="974" y="78"/>
                    </a:lnTo>
                    <a:lnTo>
                      <a:pt x="956" y="74"/>
                    </a:lnTo>
                    <a:lnTo>
                      <a:pt x="940" y="78"/>
                    </a:lnTo>
                    <a:lnTo>
                      <a:pt x="936" y="82"/>
                    </a:lnTo>
                    <a:lnTo>
                      <a:pt x="920" y="84"/>
                    </a:lnTo>
                    <a:lnTo>
                      <a:pt x="894" y="98"/>
                    </a:lnTo>
                    <a:lnTo>
                      <a:pt x="900" y="92"/>
                    </a:lnTo>
                    <a:lnTo>
                      <a:pt x="910" y="82"/>
                    </a:lnTo>
                    <a:lnTo>
                      <a:pt x="936" y="74"/>
                    </a:lnTo>
                    <a:lnTo>
                      <a:pt x="900" y="50"/>
                    </a:lnTo>
                    <a:lnTo>
                      <a:pt x="896" y="34"/>
                    </a:lnTo>
                    <a:lnTo>
                      <a:pt x="886" y="26"/>
                    </a:lnTo>
                    <a:lnTo>
                      <a:pt x="894" y="18"/>
                    </a:lnTo>
                    <a:lnTo>
                      <a:pt x="858" y="4"/>
                    </a:lnTo>
                    <a:lnTo>
                      <a:pt x="838" y="4"/>
                    </a:lnTo>
                    <a:lnTo>
                      <a:pt x="818" y="10"/>
                    </a:lnTo>
                    <a:lnTo>
                      <a:pt x="806" y="6"/>
                    </a:lnTo>
                    <a:lnTo>
                      <a:pt x="776" y="8"/>
                    </a:lnTo>
                    <a:lnTo>
                      <a:pt x="718" y="4"/>
                    </a:lnTo>
                    <a:lnTo>
                      <a:pt x="712" y="8"/>
                    </a:lnTo>
                    <a:lnTo>
                      <a:pt x="704" y="16"/>
                    </a:lnTo>
                    <a:lnTo>
                      <a:pt x="694" y="24"/>
                    </a:lnTo>
                    <a:lnTo>
                      <a:pt x="698" y="16"/>
                    </a:lnTo>
                    <a:lnTo>
                      <a:pt x="696" y="14"/>
                    </a:lnTo>
                    <a:lnTo>
                      <a:pt x="704" y="6"/>
                    </a:lnTo>
                    <a:lnTo>
                      <a:pt x="700" y="2"/>
                    </a:lnTo>
                    <a:lnTo>
                      <a:pt x="684" y="10"/>
                    </a:lnTo>
                    <a:lnTo>
                      <a:pt x="682" y="8"/>
                    </a:lnTo>
                    <a:lnTo>
                      <a:pt x="684" y="2"/>
                    </a:lnTo>
                    <a:lnTo>
                      <a:pt x="660" y="2"/>
                    </a:lnTo>
                    <a:lnTo>
                      <a:pt x="656" y="6"/>
                    </a:lnTo>
                    <a:lnTo>
                      <a:pt x="638" y="0"/>
                    </a:lnTo>
                    <a:lnTo>
                      <a:pt x="628" y="0"/>
                    </a:lnTo>
                    <a:lnTo>
                      <a:pt x="620" y="6"/>
                    </a:lnTo>
                    <a:lnTo>
                      <a:pt x="598" y="4"/>
                    </a:lnTo>
                    <a:lnTo>
                      <a:pt x="572" y="6"/>
                    </a:lnTo>
                    <a:lnTo>
                      <a:pt x="576" y="10"/>
                    </a:lnTo>
                    <a:lnTo>
                      <a:pt x="564" y="24"/>
                    </a:lnTo>
                    <a:lnTo>
                      <a:pt x="574" y="34"/>
                    </a:lnTo>
                    <a:lnTo>
                      <a:pt x="556" y="38"/>
                    </a:lnTo>
                    <a:lnTo>
                      <a:pt x="544" y="44"/>
                    </a:lnTo>
                    <a:lnTo>
                      <a:pt x="532" y="6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18480" y="2562480"/>
                <a:ext cx="264960" cy="137520"/>
              </a:xfrm>
              <a:custGeom>
                <a:avLst/>
                <a:gdLst/>
                <a:ahLst/>
                <a:rect l="l" t="t" r="r" b="b"/>
                <a:pathLst>
                  <a:path w="1520" h="804">
                    <a:moveTo>
                      <a:pt x="124" y="624"/>
                    </a:moveTo>
                    <a:lnTo>
                      <a:pt x="110" y="630"/>
                    </a:lnTo>
                    <a:lnTo>
                      <a:pt x="76" y="626"/>
                    </a:lnTo>
                    <a:lnTo>
                      <a:pt x="70" y="618"/>
                    </a:lnTo>
                    <a:lnTo>
                      <a:pt x="38" y="612"/>
                    </a:lnTo>
                    <a:lnTo>
                      <a:pt x="6" y="582"/>
                    </a:lnTo>
                    <a:lnTo>
                      <a:pt x="18" y="572"/>
                    </a:lnTo>
                    <a:lnTo>
                      <a:pt x="4" y="566"/>
                    </a:lnTo>
                    <a:lnTo>
                      <a:pt x="0" y="558"/>
                    </a:lnTo>
                    <a:lnTo>
                      <a:pt x="16" y="538"/>
                    </a:lnTo>
                    <a:lnTo>
                      <a:pt x="10" y="528"/>
                    </a:lnTo>
                    <a:lnTo>
                      <a:pt x="12" y="520"/>
                    </a:lnTo>
                    <a:lnTo>
                      <a:pt x="22" y="498"/>
                    </a:lnTo>
                    <a:lnTo>
                      <a:pt x="30" y="488"/>
                    </a:lnTo>
                    <a:lnTo>
                      <a:pt x="74" y="480"/>
                    </a:lnTo>
                    <a:lnTo>
                      <a:pt x="188" y="468"/>
                    </a:lnTo>
                    <a:lnTo>
                      <a:pt x="262" y="466"/>
                    </a:lnTo>
                    <a:lnTo>
                      <a:pt x="300" y="468"/>
                    </a:lnTo>
                    <a:lnTo>
                      <a:pt x="340" y="464"/>
                    </a:lnTo>
                    <a:lnTo>
                      <a:pt x="360" y="464"/>
                    </a:lnTo>
                    <a:lnTo>
                      <a:pt x="376" y="472"/>
                    </a:lnTo>
                    <a:lnTo>
                      <a:pt x="434" y="482"/>
                    </a:lnTo>
                    <a:lnTo>
                      <a:pt x="460" y="492"/>
                    </a:lnTo>
                    <a:lnTo>
                      <a:pt x="490" y="494"/>
                    </a:lnTo>
                    <a:lnTo>
                      <a:pt x="518" y="484"/>
                    </a:lnTo>
                    <a:lnTo>
                      <a:pt x="520" y="476"/>
                    </a:lnTo>
                    <a:lnTo>
                      <a:pt x="526" y="472"/>
                    </a:lnTo>
                    <a:lnTo>
                      <a:pt x="532" y="480"/>
                    </a:lnTo>
                    <a:lnTo>
                      <a:pt x="548" y="480"/>
                    </a:lnTo>
                    <a:lnTo>
                      <a:pt x="552" y="474"/>
                    </a:lnTo>
                    <a:lnTo>
                      <a:pt x="552" y="464"/>
                    </a:lnTo>
                    <a:lnTo>
                      <a:pt x="544" y="458"/>
                    </a:lnTo>
                    <a:lnTo>
                      <a:pt x="516" y="452"/>
                    </a:lnTo>
                    <a:lnTo>
                      <a:pt x="518" y="444"/>
                    </a:lnTo>
                    <a:lnTo>
                      <a:pt x="500" y="442"/>
                    </a:lnTo>
                    <a:lnTo>
                      <a:pt x="484" y="434"/>
                    </a:lnTo>
                    <a:lnTo>
                      <a:pt x="482" y="426"/>
                    </a:lnTo>
                    <a:lnTo>
                      <a:pt x="460" y="422"/>
                    </a:lnTo>
                    <a:lnTo>
                      <a:pt x="448" y="422"/>
                    </a:lnTo>
                    <a:lnTo>
                      <a:pt x="442" y="414"/>
                    </a:lnTo>
                    <a:lnTo>
                      <a:pt x="384" y="416"/>
                    </a:lnTo>
                    <a:lnTo>
                      <a:pt x="282" y="424"/>
                    </a:lnTo>
                    <a:lnTo>
                      <a:pt x="276" y="418"/>
                    </a:lnTo>
                    <a:lnTo>
                      <a:pt x="252" y="416"/>
                    </a:lnTo>
                    <a:lnTo>
                      <a:pt x="240" y="410"/>
                    </a:lnTo>
                    <a:lnTo>
                      <a:pt x="242" y="402"/>
                    </a:lnTo>
                    <a:lnTo>
                      <a:pt x="174" y="404"/>
                    </a:lnTo>
                    <a:lnTo>
                      <a:pt x="156" y="390"/>
                    </a:lnTo>
                    <a:lnTo>
                      <a:pt x="126" y="390"/>
                    </a:lnTo>
                    <a:lnTo>
                      <a:pt x="128" y="386"/>
                    </a:lnTo>
                    <a:lnTo>
                      <a:pt x="134" y="382"/>
                    </a:lnTo>
                    <a:lnTo>
                      <a:pt x="118" y="374"/>
                    </a:lnTo>
                    <a:lnTo>
                      <a:pt x="116" y="360"/>
                    </a:lnTo>
                    <a:lnTo>
                      <a:pt x="118" y="340"/>
                    </a:lnTo>
                    <a:lnTo>
                      <a:pt x="128" y="326"/>
                    </a:lnTo>
                    <a:lnTo>
                      <a:pt x="182" y="310"/>
                    </a:lnTo>
                    <a:lnTo>
                      <a:pt x="224" y="304"/>
                    </a:lnTo>
                    <a:lnTo>
                      <a:pt x="258" y="306"/>
                    </a:lnTo>
                    <a:lnTo>
                      <a:pt x="292" y="302"/>
                    </a:lnTo>
                    <a:lnTo>
                      <a:pt x="338" y="292"/>
                    </a:lnTo>
                    <a:lnTo>
                      <a:pt x="374" y="290"/>
                    </a:lnTo>
                    <a:lnTo>
                      <a:pt x="368" y="294"/>
                    </a:lnTo>
                    <a:lnTo>
                      <a:pt x="374" y="296"/>
                    </a:lnTo>
                    <a:lnTo>
                      <a:pt x="396" y="296"/>
                    </a:lnTo>
                    <a:lnTo>
                      <a:pt x="410" y="294"/>
                    </a:lnTo>
                    <a:lnTo>
                      <a:pt x="410" y="290"/>
                    </a:lnTo>
                    <a:lnTo>
                      <a:pt x="386" y="284"/>
                    </a:lnTo>
                    <a:lnTo>
                      <a:pt x="410" y="278"/>
                    </a:lnTo>
                    <a:lnTo>
                      <a:pt x="432" y="278"/>
                    </a:lnTo>
                    <a:lnTo>
                      <a:pt x="446" y="274"/>
                    </a:lnTo>
                    <a:lnTo>
                      <a:pt x="452" y="270"/>
                    </a:lnTo>
                    <a:lnTo>
                      <a:pt x="348" y="270"/>
                    </a:lnTo>
                    <a:lnTo>
                      <a:pt x="326" y="274"/>
                    </a:lnTo>
                    <a:lnTo>
                      <a:pt x="308" y="272"/>
                    </a:lnTo>
                    <a:lnTo>
                      <a:pt x="294" y="276"/>
                    </a:lnTo>
                    <a:lnTo>
                      <a:pt x="282" y="274"/>
                    </a:lnTo>
                    <a:lnTo>
                      <a:pt x="276" y="272"/>
                    </a:lnTo>
                    <a:lnTo>
                      <a:pt x="280" y="268"/>
                    </a:lnTo>
                    <a:lnTo>
                      <a:pt x="268" y="264"/>
                    </a:lnTo>
                    <a:lnTo>
                      <a:pt x="258" y="266"/>
                    </a:lnTo>
                    <a:lnTo>
                      <a:pt x="264" y="270"/>
                    </a:lnTo>
                    <a:lnTo>
                      <a:pt x="258" y="274"/>
                    </a:lnTo>
                    <a:lnTo>
                      <a:pt x="234" y="272"/>
                    </a:lnTo>
                    <a:lnTo>
                      <a:pt x="224" y="276"/>
                    </a:lnTo>
                    <a:lnTo>
                      <a:pt x="202" y="276"/>
                    </a:lnTo>
                    <a:lnTo>
                      <a:pt x="198" y="270"/>
                    </a:lnTo>
                    <a:lnTo>
                      <a:pt x="206" y="262"/>
                    </a:lnTo>
                    <a:lnTo>
                      <a:pt x="218" y="254"/>
                    </a:lnTo>
                    <a:lnTo>
                      <a:pt x="232" y="252"/>
                    </a:lnTo>
                    <a:lnTo>
                      <a:pt x="258" y="254"/>
                    </a:lnTo>
                    <a:lnTo>
                      <a:pt x="278" y="234"/>
                    </a:lnTo>
                    <a:lnTo>
                      <a:pt x="252" y="234"/>
                    </a:lnTo>
                    <a:lnTo>
                      <a:pt x="224" y="240"/>
                    </a:lnTo>
                    <a:lnTo>
                      <a:pt x="218" y="236"/>
                    </a:lnTo>
                    <a:lnTo>
                      <a:pt x="226" y="230"/>
                    </a:lnTo>
                    <a:lnTo>
                      <a:pt x="220" y="226"/>
                    </a:lnTo>
                    <a:lnTo>
                      <a:pt x="182" y="228"/>
                    </a:lnTo>
                    <a:lnTo>
                      <a:pt x="192" y="218"/>
                    </a:lnTo>
                    <a:lnTo>
                      <a:pt x="198" y="206"/>
                    </a:lnTo>
                    <a:lnTo>
                      <a:pt x="214" y="190"/>
                    </a:lnTo>
                    <a:lnTo>
                      <a:pt x="240" y="178"/>
                    </a:lnTo>
                    <a:lnTo>
                      <a:pt x="288" y="162"/>
                    </a:lnTo>
                    <a:lnTo>
                      <a:pt x="320" y="148"/>
                    </a:lnTo>
                    <a:lnTo>
                      <a:pt x="358" y="144"/>
                    </a:lnTo>
                    <a:lnTo>
                      <a:pt x="366" y="138"/>
                    </a:lnTo>
                    <a:lnTo>
                      <a:pt x="370" y="132"/>
                    </a:lnTo>
                    <a:lnTo>
                      <a:pt x="372" y="126"/>
                    </a:lnTo>
                    <a:lnTo>
                      <a:pt x="352" y="124"/>
                    </a:lnTo>
                    <a:lnTo>
                      <a:pt x="354" y="118"/>
                    </a:lnTo>
                    <a:lnTo>
                      <a:pt x="370" y="104"/>
                    </a:lnTo>
                    <a:lnTo>
                      <a:pt x="390" y="94"/>
                    </a:lnTo>
                    <a:lnTo>
                      <a:pt x="420" y="82"/>
                    </a:lnTo>
                    <a:lnTo>
                      <a:pt x="522" y="52"/>
                    </a:lnTo>
                    <a:lnTo>
                      <a:pt x="602" y="38"/>
                    </a:lnTo>
                    <a:lnTo>
                      <a:pt x="620" y="32"/>
                    </a:lnTo>
                    <a:lnTo>
                      <a:pt x="640" y="32"/>
                    </a:lnTo>
                    <a:lnTo>
                      <a:pt x="660" y="24"/>
                    </a:lnTo>
                    <a:lnTo>
                      <a:pt x="686" y="24"/>
                    </a:lnTo>
                    <a:lnTo>
                      <a:pt x="750" y="12"/>
                    </a:lnTo>
                    <a:lnTo>
                      <a:pt x="838" y="0"/>
                    </a:lnTo>
                    <a:lnTo>
                      <a:pt x="856" y="4"/>
                    </a:lnTo>
                    <a:lnTo>
                      <a:pt x="854" y="10"/>
                    </a:lnTo>
                    <a:lnTo>
                      <a:pt x="860" y="14"/>
                    </a:lnTo>
                    <a:lnTo>
                      <a:pt x="854" y="20"/>
                    </a:lnTo>
                    <a:lnTo>
                      <a:pt x="856" y="28"/>
                    </a:lnTo>
                    <a:lnTo>
                      <a:pt x="848" y="40"/>
                    </a:lnTo>
                    <a:lnTo>
                      <a:pt x="824" y="62"/>
                    </a:lnTo>
                    <a:lnTo>
                      <a:pt x="800" y="82"/>
                    </a:lnTo>
                    <a:lnTo>
                      <a:pt x="776" y="86"/>
                    </a:lnTo>
                    <a:lnTo>
                      <a:pt x="760" y="92"/>
                    </a:lnTo>
                    <a:lnTo>
                      <a:pt x="752" y="98"/>
                    </a:lnTo>
                    <a:lnTo>
                      <a:pt x="748" y="100"/>
                    </a:lnTo>
                    <a:lnTo>
                      <a:pt x="738" y="106"/>
                    </a:lnTo>
                    <a:lnTo>
                      <a:pt x="714" y="108"/>
                    </a:lnTo>
                    <a:lnTo>
                      <a:pt x="706" y="112"/>
                    </a:lnTo>
                    <a:lnTo>
                      <a:pt x="708" y="120"/>
                    </a:lnTo>
                    <a:lnTo>
                      <a:pt x="766" y="106"/>
                    </a:lnTo>
                    <a:lnTo>
                      <a:pt x="776" y="108"/>
                    </a:lnTo>
                    <a:lnTo>
                      <a:pt x="770" y="116"/>
                    </a:lnTo>
                    <a:lnTo>
                      <a:pt x="804" y="112"/>
                    </a:lnTo>
                    <a:lnTo>
                      <a:pt x="824" y="102"/>
                    </a:lnTo>
                    <a:lnTo>
                      <a:pt x="820" y="98"/>
                    </a:lnTo>
                    <a:lnTo>
                      <a:pt x="832" y="86"/>
                    </a:lnTo>
                    <a:lnTo>
                      <a:pt x="854" y="76"/>
                    </a:lnTo>
                    <a:lnTo>
                      <a:pt x="872" y="72"/>
                    </a:lnTo>
                    <a:lnTo>
                      <a:pt x="880" y="66"/>
                    </a:lnTo>
                    <a:lnTo>
                      <a:pt x="892" y="62"/>
                    </a:lnTo>
                    <a:lnTo>
                      <a:pt x="916" y="62"/>
                    </a:lnTo>
                    <a:lnTo>
                      <a:pt x="940" y="82"/>
                    </a:lnTo>
                    <a:lnTo>
                      <a:pt x="978" y="94"/>
                    </a:lnTo>
                    <a:lnTo>
                      <a:pt x="980" y="104"/>
                    </a:lnTo>
                    <a:lnTo>
                      <a:pt x="992" y="110"/>
                    </a:lnTo>
                    <a:lnTo>
                      <a:pt x="998" y="118"/>
                    </a:lnTo>
                    <a:lnTo>
                      <a:pt x="1000" y="130"/>
                    </a:lnTo>
                    <a:lnTo>
                      <a:pt x="986" y="146"/>
                    </a:lnTo>
                    <a:lnTo>
                      <a:pt x="934" y="164"/>
                    </a:lnTo>
                    <a:lnTo>
                      <a:pt x="888" y="178"/>
                    </a:lnTo>
                    <a:lnTo>
                      <a:pt x="884" y="180"/>
                    </a:lnTo>
                    <a:lnTo>
                      <a:pt x="914" y="178"/>
                    </a:lnTo>
                    <a:lnTo>
                      <a:pt x="944" y="168"/>
                    </a:lnTo>
                    <a:lnTo>
                      <a:pt x="966" y="164"/>
                    </a:lnTo>
                    <a:lnTo>
                      <a:pt x="958" y="170"/>
                    </a:lnTo>
                    <a:lnTo>
                      <a:pt x="938" y="180"/>
                    </a:lnTo>
                    <a:lnTo>
                      <a:pt x="952" y="186"/>
                    </a:lnTo>
                    <a:lnTo>
                      <a:pt x="962" y="182"/>
                    </a:lnTo>
                    <a:lnTo>
                      <a:pt x="986" y="166"/>
                    </a:lnTo>
                    <a:lnTo>
                      <a:pt x="994" y="160"/>
                    </a:lnTo>
                    <a:lnTo>
                      <a:pt x="1006" y="158"/>
                    </a:lnTo>
                    <a:lnTo>
                      <a:pt x="1026" y="150"/>
                    </a:lnTo>
                    <a:lnTo>
                      <a:pt x="1040" y="154"/>
                    </a:lnTo>
                    <a:lnTo>
                      <a:pt x="1054" y="154"/>
                    </a:lnTo>
                    <a:lnTo>
                      <a:pt x="1060" y="168"/>
                    </a:lnTo>
                    <a:lnTo>
                      <a:pt x="1070" y="164"/>
                    </a:lnTo>
                    <a:lnTo>
                      <a:pt x="1074" y="156"/>
                    </a:lnTo>
                    <a:lnTo>
                      <a:pt x="1072" y="154"/>
                    </a:lnTo>
                    <a:lnTo>
                      <a:pt x="1078" y="152"/>
                    </a:lnTo>
                    <a:lnTo>
                      <a:pt x="1084" y="160"/>
                    </a:lnTo>
                    <a:lnTo>
                      <a:pt x="1094" y="158"/>
                    </a:lnTo>
                    <a:lnTo>
                      <a:pt x="1102" y="148"/>
                    </a:lnTo>
                    <a:lnTo>
                      <a:pt x="1090" y="140"/>
                    </a:lnTo>
                    <a:lnTo>
                      <a:pt x="1094" y="136"/>
                    </a:lnTo>
                    <a:lnTo>
                      <a:pt x="1100" y="134"/>
                    </a:lnTo>
                    <a:lnTo>
                      <a:pt x="1108" y="144"/>
                    </a:lnTo>
                    <a:lnTo>
                      <a:pt x="1124" y="138"/>
                    </a:lnTo>
                    <a:lnTo>
                      <a:pt x="1118" y="120"/>
                    </a:lnTo>
                    <a:lnTo>
                      <a:pt x="1110" y="116"/>
                    </a:lnTo>
                    <a:lnTo>
                      <a:pt x="1110" y="106"/>
                    </a:lnTo>
                    <a:lnTo>
                      <a:pt x="1114" y="94"/>
                    </a:lnTo>
                    <a:lnTo>
                      <a:pt x="1122" y="88"/>
                    </a:lnTo>
                    <a:lnTo>
                      <a:pt x="1134" y="88"/>
                    </a:lnTo>
                    <a:lnTo>
                      <a:pt x="1158" y="94"/>
                    </a:lnTo>
                    <a:lnTo>
                      <a:pt x="1168" y="98"/>
                    </a:lnTo>
                    <a:lnTo>
                      <a:pt x="1162" y="108"/>
                    </a:lnTo>
                    <a:lnTo>
                      <a:pt x="1182" y="108"/>
                    </a:lnTo>
                    <a:lnTo>
                      <a:pt x="1174" y="114"/>
                    </a:lnTo>
                    <a:lnTo>
                      <a:pt x="1172" y="128"/>
                    </a:lnTo>
                    <a:lnTo>
                      <a:pt x="1180" y="134"/>
                    </a:lnTo>
                    <a:lnTo>
                      <a:pt x="1190" y="132"/>
                    </a:lnTo>
                    <a:lnTo>
                      <a:pt x="1196" y="138"/>
                    </a:lnTo>
                    <a:lnTo>
                      <a:pt x="1192" y="142"/>
                    </a:lnTo>
                    <a:lnTo>
                      <a:pt x="1198" y="148"/>
                    </a:lnTo>
                    <a:lnTo>
                      <a:pt x="1192" y="152"/>
                    </a:lnTo>
                    <a:lnTo>
                      <a:pt x="1184" y="154"/>
                    </a:lnTo>
                    <a:lnTo>
                      <a:pt x="1198" y="160"/>
                    </a:lnTo>
                    <a:lnTo>
                      <a:pt x="1194" y="172"/>
                    </a:lnTo>
                    <a:lnTo>
                      <a:pt x="1164" y="200"/>
                    </a:lnTo>
                    <a:lnTo>
                      <a:pt x="1156" y="208"/>
                    </a:lnTo>
                    <a:lnTo>
                      <a:pt x="1152" y="216"/>
                    </a:lnTo>
                    <a:lnTo>
                      <a:pt x="1152" y="224"/>
                    </a:lnTo>
                    <a:lnTo>
                      <a:pt x="1128" y="250"/>
                    </a:lnTo>
                    <a:lnTo>
                      <a:pt x="1136" y="266"/>
                    </a:lnTo>
                    <a:lnTo>
                      <a:pt x="1110" y="278"/>
                    </a:lnTo>
                    <a:lnTo>
                      <a:pt x="1090" y="298"/>
                    </a:lnTo>
                    <a:lnTo>
                      <a:pt x="1098" y="300"/>
                    </a:lnTo>
                    <a:lnTo>
                      <a:pt x="1100" y="312"/>
                    </a:lnTo>
                    <a:lnTo>
                      <a:pt x="1110" y="312"/>
                    </a:lnTo>
                    <a:lnTo>
                      <a:pt x="1122" y="306"/>
                    </a:lnTo>
                    <a:lnTo>
                      <a:pt x="1136" y="304"/>
                    </a:lnTo>
                    <a:lnTo>
                      <a:pt x="1148" y="302"/>
                    </a:lnTo>
                    <a:lnTo>
                      <a:pt x="1168" y="294"/>
                    </a:lnTo>
                    <a:lnTo>
                      <a:pt x="1180" y="286"/>
                    </a:lnTo>
                    <a:lnTo>
                      <a:pt x="1198" y="284"/>
                    </a:lnTo>
                    <a:lnTo>
                      <a:pt x="1202" y="278"/>
                    </a:lnTo>
                    <a:lnTo>
                      <a:pt x="1200" y="262"/>
                    </a:lnTo>
                    <a:lnTo>
                      <a:pt x="1206" y="250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26" y="220"/>
                    </a:lnTo>
                    <a:lnTo>
                      <a:pt x="1236" y="208"/>
                    </a:lnTo>
                    <a:lnTo>
                      <a:pt x="1244" y="206"/>
                    </a:lnTo>
                    <a:lnTo>
                      <a:pt x="1248" y="200"/>
                    </a:lnTo>
                    <a:lnTo>
                      <a:pt x="1258" y="190"/>
                    </a:lnTo>
                    <a:lnTo>
                      <a:pt x="1258" y="184"/>
                    </a:lnTo>
                    <a:lnTo>
                      <a:pt x="1276" y="166"/>
                    </a:lnTo>
                    <a:lnTo>
                      <a:pt x="1290" y="150"/>
                    </a:lnTo>
                    <a:lnTo>
                      <a:pt x="1298" y="134"/>
                    </a:lnTo>
                    <a:lnTo>
                      <a:pt x="1318" y="106"/>
                    </a:lnTo>
                    <a:lnTo>
                      <a:pt x="1320" y="100"/>
                    </a:lnTo>
                    <a:lnTo>
                      <a:pt x="1326" y="100"/>
                    </a:lnTo>
                    <a:lnTo>
                      <a:pt x="1338" y="90"/>
                    </a:lnTo>
                    <a:lnTo>
                      <a:pt x="1332" y="90"/>
                    </a:lnTo>
                    <a:lnTo>
                      <a:pt x="1336" y="80"/>
                    </a:lnTo>
                    <a:lnTo>
                      <a:pt x="1348" y="76"/>
                    </a:lnTo>
                    <a:lnTo>
                      <a:pt x="1362" y="78"/>
                    </a:lnTo>
                    <a:lnTo>
                      <a:pt x="1372" y="74"/>
                    </a:lnTo>
                    <a:lnTo>
                      <a:pt x="1364" y="62"/>
                    </a:lnTo>
                    <a:lnTo>
                      <a:pt x="1372" y="56"/>
                    </a:lnTo>
                    <a:lnTo>
                      <a:pt x="1378" y="58"/>
                    </a:lnTo>
                    <a:lnTo>
                      <a:pt x="1384" y="52"/>
                    </a:lnTo>
                    <a:lnTo>
                      <a:pt x="1394" y="52"/>
                    </a:lnTo>
                    <a:lnTo>
                      <a:pt x="1420" y="62"/>
                    </a:lnTo>
                    <a:lnTo>
                      <a:pt x="1416" y="66"/>
                    </a:lnTo>
                    <a:lnTo>
                      <a:pt x="1428" y="84"/>
                    </a:lnTo>
                    <a:lnTo>
                      <a:pt x="1446" y="90"/>
                    </a:lnTo>
                    <a:lnTo>
                      <a:pt x="1450" y="90"/>
                    </a:lnTo>
                    <a:lnTo>
                      <a:pt x="1458" y="84"/>
                    </a:lnTo>
                    <a:lnTo>
                      <a:pt x="1452" y="82"/>
                    </a:lnTo>
                    <a:lnTo>
                      <a:pt x="1456" y="74"/>
                    </a:lnTo>
                    <a:lnTo>
                      <a:pt x="1460" y="70"/>
                    </a:lnTo>
                    <a:lnTo>
                      <a:pt x="1470" y="70"/>
                    </a:lnTo>
                    <a:lnTo>
                      <a:pt x="1482" y="76"/>
                    </a:lnTo>
                    <a:lnTo>
                      <a:pt x="1480" y="80"/>
                    </a:lnTo>
                    <a:lnTo>
                      <a:pt x="1488" y="84"/>
                    </a:lnTo>
                    <a:lnTo>
                      <a:pt x="1480" y="98"/>
                    </a:lnTo>
                    <a:lnTo>
                      <a:pt x="1482" y="106"/>
                    </a:lnTo>
                    <a:lnTo>
                      <a:pt x="1506" y="120"/>
                    </a:lnTo>
                    <a:lnTo>
                      <a:pt x="1500" y="126"/>
                    </a:lnTo>
                    <a:lnTo>
                      <a:pt x="1512" y="134"/>
                    </a:lnTo>
                    <a:lnTo>
                      <a:pt x="1516" y="142"/>
                    </a:lnTo>
                    <a:lnTo>
                      <a:pt x="1516" y="148"/>
                    </a:lnTo>
                    <a:lnTo>
                      <a:pt x="1520" y="154"/>
                    </a:lnTo>
                    <a:lnTo>
                      <a:pt x="1516" y="160"/>
                    </a:lnTo>
                    <a:lnTo>
                      <a:pt x="1494" y="170"/>
                    </a:lnTo>
                    <a:lnTo>
                      <a:pt x="1504" y="170"/>
                    </a:lnTo>
                    <a:lnTo>
                      <a:pt x="1496" y="186"/>
                    </a:lnTo>
                    <a:lnTo>
                      <a:pt x="1486" y="196"/>
                    </a:lnTo>
                    <a:lnTo>
                      <a:pt x="1480" y="200"/>
                    </a:lnTo>
                    <a:lnTo>
                      <a:pt x="1478" y="208"/>
                    </a:lnTo>
                    <a:lnTo>
                      <a:pt x="1470" y="218"/>
                    </a:lnTo>
                    <a:lnTo>
                      <a:pt x="1458" y="240"/>
                    </a:lnTo>
                    <a:lnTo>
                      <a:pt x="1420" y="280"/>
                    </a:lnTo>
                    <a:lnTo>
                      <a:pt x="1422" y="284"/>
                    </a:lnTo>
                    <a:lnTo>
                      <a:pt x="1408" y="304"/>
                    </a:lnTo>
                    <a:lnTo>
                      <a:pt x="1414" y="324"/>
                    </a:lnTo>
                    <a:lnTo>
                      <a:pt x="1414" y="336"/>
                    </a:lnTo>
                    <a:lnTo>
                      <a:pt x="1408" y="352"/>
                    </a:lnTo>
                    <a:lnTo>
                      <a:pt x="1398" y="358"/>
                    </a:lnTo>
                    <a:lnTo>
                      <a:pt x="1396" y="364"/>
                    </a:lnTo>
                    <a:lnTo>
                      <a:pt x="1382" y="380"/>
                    </a:lnTo>
                    <a:lnTo>
                      <a:pt x="1380" y="378"/>
                    </a:lnTo>
                    <a:lnTo>
                      <a:pt x="1364" y="384"/>
                    </a:lnTo>
                    <a:lnTo>
                      <a:pt x="1342" y="408"/>
                    </a:lnTo>
                    <a:lnTo>
                      <a:pt x="1324" y="418"/>
                    </a:lnTo>
                    <a:lnTo>
                      <a:pt x="1318" y="430"/>
                    </a:lnTo>
                    <a:lnTo>
                      <a:pt x="1330" y="442"/>
                    </a:lnTo>
                    <a:lnTo>
                      <a:pt x="1328" y="450"/>
                    </a:lnTo>
                    <a:lnTo>
                      <a:pt x="1326" y="478"/>
                    </a:lnTo>
                    <a:lnTo>
                      <a:pt x="1348" y="484"/>
                    </a:lnTo>
                    <a:lnTo>
                      <a:pt x="1342" y="504"/>
                    </a:lnTo>
                    <a:lnTo>
                      <a:pt x="1348" y="508"/>
                    </a:lnTo>
                    <a:lnTo>
                      <a:pt x="1364" y="512"/>
                    </a:lnTo>
                    <a:lnTo>
                      <a:pt x="1368" y="518"/>
                    </a:lnTo>
                    <a:lnTo>
                      <a:pt x="1378" y="516"/>
                    </a:lnTo>
                    <a:lnTo>
                      <a:pt x="1386" y="508"/>
                    </a:lnTo>
                    <a:lnTo>
                      <a:pt x="1394" y="504"/>
                    </a:lnTo>
                    <a:lnTo>
                      <a:pt x="1408" y="510"/>
                    </a:lnTo>
                    <a:lnTo>
                      <a:pt x="1412" y="516"/>
                    </a:lnTo>
                    <a:lnTo>
                      <a:pt x="1400" y="524"/>
                    </a:lnTo>
                    <a:lnTo>
                      <a:pt x="1428" y="564"/>
                    </a:lnTo>
                    <a:lnTo>
                      <a:pt x="1438" y="572"/>
                    </a:lnTo>
                    <a:lnTo>
                      <a:pt x="1458" y="574"/>
                    </a:lnTo>
                    <a:lnTo>
                      <a:pt x="1458" y="580"/>
                    </a:lnTo>
                    <a:lnTo>
                      <a:pt x="1448" y="588"/>
                    </a:lnTo>
                    <a:lnTo>
                      <a:pt x="1442" y="598"/>
                    </a:lnTo>
                    <a:lnTo>
                      <a:pt x="1454" y="600"/>
                    </a:lnTo>
                    <a:lnTo>
                      <a:pt x="1470" y="596"/>
                    </a:lnTo>
                    <a:lnTo>
                      <a:pt x="1470" y="602"/>
                    </a:lnTo>
                    <a:lnTo>
                      <a:pt x="1486" y="600"/>
                    </a:lnTo>
                    <a:lnTo>
                      <a:pt x="1492" y="602"/>
                    </a:lnTo>
                    <a:lnTo>
                      <a:pt x="1478" y="626"/>
                    </a:lnTo>
                    <a:lnTo>
                      <a:pt x="1458" y="638"/>
                    </a:lnTo>
                    <a:lnTo>
                      <a:pt x="1438" y="662"/>
                    </a:lnTo>
                    <a:lnTo>
                      <a:pt x="1418" y="676"/>
                    </a:lnTo>
                    <a:lnTo>
                      <a:pt x="1404" y="678"/>
                    </a:lnTo>
                    <a:lnTo>
                      <a:pt x="1394" y="674"/>
                    </a:lnTo>
                    <a:lnTo>
                      <a:pt x="1396" y="654"/>
                    </a:lnTo>
                    <a:lnTo>
                      <a:pt x="1416" y="632"/>
                    </a:lnTo>
                    <a:lnTo>
                      <a:pt x="1386" y="652"/>
                    </a:lnTo>
                    <a:lnTo>
                      <a:pt x="1364" y="672"/>
                    </a:lnTo>
                    <a:lnTo>
                      <a:pt x="1356" y="676"/>
                    </a:lnTo>
                    <a:lnTo>
                      <a:pt x="1360" y="664"/>
                    </a:lnTo>
                    <a:lnTo>
                      <a:pt x="1354" y="660"/>
                    </a:lnTo>
                    <a:lnTo>
                      <a:pt x="1342" y="666"/>
                    </a:lnTo>
                    <a:lnTo>
                      <a:pt x="1342" y="656"/>
                    </a:lnTo>
                    <a:lnTo>
                      <a:pt x="1348" y="642"/>
                    </a:lnTo>
                    <a:lnTo>
                      <a:pt x="1360" y="630"/>
                    </a:lnTo>
                    <a:lnTo>
                      <a:pt x="1348" y="636"/>
                    </a:lnTo>
                    <a:lnTo>
                      <a:pt x="1336" y="638"/>
                    </a:lnTo>
                    <a:lnTo>
                      <a:pt x="1340" y="634"/>
                    </a:lnTo>
                    <a:lnTo>
                      <a:pt x="1314" y="646"/>
                    </a:lnTo>
                    <a:lnTo>
                      <a:pt x="1310" y="646"/>
                    </a:lnTo>
                    <a:lnTo>
                      <a:pt x="1282" y="652"/>
                    </a:lnTo>
                    <a:lnTo>
                      <a:pt x="1276" y="660"/>
                    </a:lnTo>
                    <a:lnTo>
                      <a:pt x="1282" y="660"/>
                    </a:lnTo>
                    <a:lnTo>
                      <a:pt x="1262" y="684"/>
                    </a:lnTo>
                    <a:lnTo>
                      <a:pt x="1248" y="686"/>
                    </a:lnTo>
                    <a:lnTo>
                      <a:pt x="1242" y="680"/>
                    </a:lnTo>
                    <a:lnTo>
                      <a:pt x="1222" y="676"/>
                    </a:lnTo>
                    <a:lnTo>
                      <a:pt x="1208" y="678"/>
                    </a:lnTo>
                    <a:lnTo>
                      <a:pt x="1202" y="682"/>
                    </a:lnTo>
                    <a:lnTo>
                      <a:pt x="1200" y="694"/>
                    </a:lnTo>
                    <a:lnTo>
                      <a:pt x="1194" y="702"/>
                    </a:lnTo>
                    <a:lnTo>
                      <a:pt x="1176" y="718"/>
                    </a:lnTo>
                    <a:lnTo>
                      <a:pt x="1170" y="726"/>
                    </a:lnTo>
                    <a:lnTo>
                      <a:pt x="1206" y="708"/>
                    </a:lnTo>
                    <a:lnTo>
                      <a:pt x="1236" y="700"/>
                    </a:lnTo>
                    <a:lnTo>
                      <a:pt x="1250" y="692"/>
                    </a:lnTo>
                    <a:lnTo>
                      <a:pt x="1290" y="694"/>
                    </a:lnTo>
                    <a:lnTo>
                      <a:pt x="1288" y="700"/>
                    </a:lnTo>
                    <a:lnTo>
                      <a:pt x="1300" y="706"/>
                    </a:lnTo>
                    <a:lnTo>
                      <a:pt x="1288" y="710"/>
                    </a:lnTo>
                    <a:lnTo>
                      <a:pt x="1278" y="718"/>
                    </a:lnTo>
                    <a:lnTo>
                      <a:pt x="1264" y="724"/>
                    </a:lnTo>
                    <a:lnTo>
                      <a:pt x="1260" y="728"/>
                    </a:lnTo>
                    <a:lnTo>
                      <a:pt x="1254" y="726"/>
                    </a:lnTo>
                    <a:lnTo>
                      <a:pt x="1244" y="732"/>
                    </a:lnTo>
                    <a:lnTo>
                      <a:pt x="1240" y="742"/>
                    </a:lnTo>
                    <a:lnTo>
                      <a:pt x="1250" y="744"/>
                    </a:lnTo>
                    <a:lnTo>
                      <a:pt x="1264" y="734"/>
                    </a:lnTo>
                    <a:lnTo>
                      <a:pt x="1276" y="742"/>
                    </a:lnTo>
                    <a:lnTo>
                      <a:pt x="1296" y="746"/>
                    </a:lnTo>
                    <a:lnTo>
                      <a:pt x="1290" y="756"/>
                    </a:lnTo>
                    <a:lnTo>
                      <a:pt x="1278" y="766"/>
                    </a:lnTo>
                    <a:lnTo>
                      <a:pt x="1266" y="766"/>
                    </a:lnTo>
                    <a:lnTo>
                      <a:pt x="1266" y="762"/>
                    </a:lnTo>
                    <a:lnTo>
                      <a:pt x="1256" y="770"/>
                    </a:lnTo>
                    <a:lnTo>
                      <a:pt x="1240" y="776"/>
                    </a:lnTo>
                    <a:lnTo>
                      <a:pt x="1234" y="782"/>
                    </a:lnTo>
                    <a:lnTo>
                      <a:pt x="1224" y="780"/>
                    </a:lnTo>
                    <a:lnTo>
                      <a:pt x="1184" y="784"/>
                    </a:lnTo>
                    <a:lnTo>
                      <a:pt x="1170" y="794"/>
                    </a:lnTo>
                    <a:lnTo>
                      <a:pt x="1148" y="792"/>
                    </a:lnTo>
                    <a:lnTo>
                      <a:pt x="1142" y="788"/>
                    </a:lnTo>
                    <a:lnTo>
                      <a:pt x="1130" y="796"/>
                    </a:lnTo>
                    <a:lnTo>
                      <a:pt x="1118" y="798"/>
                    </a:lnTo>
                    <a:lnTo>
                      <a:pt x="1108" y="804"/>
                    </a:lnTo>
                    <a:lnTo>
                      <a:pt x="1102" y="796"/>
                    </a:lnTo>
                    <a:lnTo>
                      <a:pt x="1070" y="800"/>
                    </a:lnTo>
                    <a:lnTo>
                      <a:pt x="1034" y="790"/>
                    </a:lnTo>
                    <a:lnTo>
                      <a:pt x="1034" y="782"/>
                    </a:lnTo>
                    <a:lnTo>
                      <a:pt x="1010" y="774"/>
                    </a:lnTo>
                    <a:lnTo>
                      <a:pt x="1008" y="766"/>
                    </a:lnTo>
                    <a:lnTo>
                      <a:pt x="994" y="766"/>
                    </a:lnTo>
                    <a:lnTo>
                      <a:pt x="978" y="774"/>
                    </a:lnTo>
                    <a:lnTo>
                      <a:pt x="940" y="766"/>
                    </a:lnTo>
                    <a:lnTo>
                      <a:pt x="926" y="758"/>
                    </a:lnTo>
                    <a:lnTo>
                      <a:pt x="930" y="752"/>
                    </a:lnTo>
                    <a:lnTo>
                      <a:pt x="972" y="736"/>
                    </a:lnTo>
                    <a:lnTo>
                      <a:pt x="970" y="730"/>
                    </a:lnTo>
                    <a:lnTo>
                      <a:pt x="952" y="732"/>
                    </a:lnTo>
                    <a:lnTo>
                      <a:pt x="926" y="728"/>
                    </a:lnTo>
                    <a:lnTo>
                      <a:pt x="930" y="722"/>
                    </a:lnTo>
                    <a:lnTo>
                      <a:pt x="912" y="716"/>
                    </a:lnTo>
                    <a:lnTo>
                      <a:pt x="900" y="716"/>
                    </a:lnTo>
                    <a:lnTo>
                      <a:pt x="866" y="708"/>
                    </a:lnTo>
                    <a:lnTo>
                      <a:pt x="872" y="700"/>
                    </a:lnTo>
                    <a:lnTo>
                      <a:pt x="886" y="692"/>
                    </a:lnTo>
                    <a:lnTo>
                      <a:pt x="898" y="676"/>
                    </a:lnTo>
                    <a:lnTo>
                      <a:pt x="902" y="664"/>
                    </a:lnTo>
                    <a:lnTo>
                      <a:pt x="890" y="658"/>
                    </a:lnTo>
                    <a:lnTo>
                      <a:pt x="876" y="666"/>
                    </a:lnTo>
                    <a:lnTo>
                      <a:pt x="860" y="674"/>
                    </a:lnTo>
                    <a:lnTo>
                      <a:pt x="832" y="676"/>
                    </a:lnTo>
                    <a:lnTo>
                      <a:pt x="822" y="696"/>
                    </a:lnTo>
                    <a:lnTo>
                      <a:pt x="812" y="704"/>
                    </a:lnTo>
                    <a:lnTo>
                      <a:pt x="790" y="710"/>
                    </a:lnTo>
                    <a:lnTo>
                      <a:pt x="740" y="732"/>
                    </a:lnTo>
                    <a:lnTo>
                      <a:pt x="690" y="736"/>
                    </a:lnTo>
                    <a:lnTo>
                      <a:pt x="624" y="728"/>
                    </a:lnTo>
                    <a:lnTo>
                      <a:pt x="628" y="734"/>
                    </a:lnTo>
                    <a:lnTo>
                      <a:pt x="594" y="750"/>
                    </a:lnTo>
                    <a:lnTo>
                      <a:pt x="556" y="760"/>
                    </a:lnTo>
                    <a:lnTo>
                      <a:pt x="522" y="764"/>
                    </a:lnTo>
                    <a:lnTo>
                      <a:pt x="492" y="770"/>
                    </a:lnTo>
                    <a:lnTo>
                      <a:pt x="458" y="772"/>
                    </a:lnTo>
                    <a:lnTo>
                      <a:pt x="450" y="766"/>
                    </a:lnTo>
                    <a:lnTo>
                      <a:pt x="422" y="770"/>
                    </a:lnTo>
                    <a:lnTo>
                      <a:pt x="402" y="764"/>
                    </a:lnTo>
                    <a:lnTo>
                      <a:pt x="384" y="768"/>
                    </a:lnTo>
                    <a:lnTo>
                      <a:pt x="382" y="760"/>
                    </a:lnTo>
                    <a:lnTo>
                      <a:pt x="352" y="764"/>
                    </a:lnTo>
                    <a:lnTo>
                      <a:pt x="326" y="764"/>
                    </a:lnTo>
                    <a:lnTo>
                      <a:pt x="318" y="766"/>
                    </a:lnTo>
                    <a:lnTo>
                      <a:pt x="330" y="768"/>
                    </a:lnTo>
                    <a:lnTo>
                      <a:pt x="324" y="774"/>
                    </a:lnTo>
                    <a:lnTo>
                      <a:pt x="302" y="772"/>
                    </a:lnTo>
                    <a:lnTo>
                      <a:pt x="258" y="774"/>
                    </a:lnTo>
                    <a:lnTo>
                      <a:pt x="252" y="768"/>
                    </a:lnTo>
                    <a:lnTo>
                      <a:pt x="224" y="766"/>
                    </a:lnTo>
                    <a:lnTo>
                      <a:pt x="136" y="764"/>
                    </a:lnTo>
                    <a:lnTo>
                      <a:pt x="144" y="760"/>
                    </a:lnTo>
                    <a:lnTo>
                      <a:pt x="170" y="752"/>
                    </a:lnTo>
                    <a:lnTo>
                      <a:pt x="152" y="738"/>
                    </a:lnTo>
                    <a:lnTo>
                      <a:pt x="156" y="722"/>
                    </a:lnTo>
                    <a:lnTo>
                      <a:pt x="162" y="708"/>
                    </a:lnTo>
                    <a:lnTo>
                      <a:pt x="166" y="696"/>
                    </a:lnTo>
                    <a:lnTo>
                      <a:pt x="182" y="680"/>
                    </a:lnTo>
                    <a:lnTo>
                      <a:pt x="200" y="670"/>
                    </a:lnTo>
                    <a:lnTo>
                      <a:pt x="204" y="666"/>
                    </a:lnTo>
                    <a:lnTo>
                      <a:pt x="196" y="660"/>
                    </a:lnTo>
                    <a:lnTo>
                      <a:pt x="200" y="656"/>
                    </a:lnTo>
                    <a:lnTo>
                      <a:pt x="200" y="648"/>
                    </a:lnTo>
                    <a:lnTo>
                      <a:pt x="192" y="640"/>
                    </a:lnTo>
                    <a:lnTo>
                      <a:pt x="198" y="634"/>
                    </a:lnTo>
                    <a:lnTo>
                      <a:pt x="176" y="628"/>
                    </a:lnTo>
                    <a:lnTo>
                      <a:pt x="124" y="62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678400" y="2562480"/>
                <a:ext cx="37800" cy="24120"/>
              </a:xfrm>
              <a:custGeom>
                <a:avLst/>
                <a:gdLst/>
                <a:ahLst/>
                <a:rect l="l" t="t" r="r" b="b"/>
                <a:pathLst>
                  <a:path w="224" h="138">
                    <a:moveTo>
                      <a:pt x="110" y="110"/>
                    </a:moveTo>
                    <a:lnTo>
                      <a:pt x="116" y="104"/>
                    </a:lnTo>
                    <a:lnTo>
                      <a:pt x="132" y="96"/>
                    </a:lnTo>
                    <a:lnTo>
                      <a:pt x="160" y="84"/>
                    </a:lnTo>
                    <a:lnTo>
                      <a:pt x="184" y="70"/>
                    </a:lnTo>
                    <a:lnTo>
                      <a:pt x="202" y="56"/>
                    </a:lnTo>
                    <a:lnTo>
                      <a:pt x="214" y="46"/>
                    </a:lnTo>
                    <a:lnTo>
                      <a:pt x="224" y="40"/>
                    </a:lnTo>
                    <a:lnTo>
                      <a:pt x="224" y="32"/>
                    </a:lnTo>
                    <a:lnTo>
                      <a:pt x="214" y="30"/>
                    </a:lnTo>
                    <a:lnTo>
                      <a:pt x="216" y="20"/>
                    </a:lnTo>
                    <a:lnTo>
                      <a:pt x="196" y="6"/>
                    </a:lnTo>
                    <a:lnTo>
                      <a:pt x="182" y="4"/>
                    </a:lnTo>
                    <a:lnTo>
                      <a:pt x="148" y="6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42" y="18"/>
                    </a:lnTo>
                    <a:lnTo>
                      <a:pt x="10" y="30"/>
                    </a:lnTo>
                    <a:lnTo>
                      <a:pt x="0" y="38"/>
                    </a:lnTo>
                    <a:lnTo>
                      <a:pt x="26" y="52"/>
                    </a:lnTo>
                    <a:lnTo>
                      <a:pt x="28" y="60"/>
                    </a:lnTo>
                    <a:lnTo>
                      <a:pt x="36" y="70"/>
                    </a:lnTo>
                    <a:lnTo>
                      <a:pt x="36" y="86"/>
                    </a:lnTo>
                    <a:lnTo>
                      <a:pt x="40" y="92"/>
                    </a:lnTo>
                    <a:lnTo>
                      <a:pt x="42" y="106"/>
                    </a:lnTo>
                    <a:lnTo>
                      <a:pt x="36" y="114"/>
                    </a:lnTo>
                    <a:lnTo>
                      <a:pt x="46" y="138"/>
                    </a:lnTo>
                    <a:lnTo>
                      <a:pt x="52" y="136"/>
                    </a:lnTo>
                    <a:lnTo>
                      <a:pt x="56" y="132"/>
                    </a:lnTo>
                    <a:lnTo>
                      <a:pt x="66" y="132"/>
                    </a:lnTo>
                    <a:lnTo>
                      <a:pt x="90" y="122"/>
                    </a:lnTo>
                    <a:lnTo>
                      <a:pt x="104" y="116"/>
                    </a:lnTo>
                    <a:lnTo>
                      <a:pt x="110" y="1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20520" y="2566800"/>
                <a:ext cx="109800" cy="72000"/>
              </a:xfrm>
              <a:custGeom>
                <a:avLst/>
                <a:gdLst/>
                <a:ahLst/>
                <a:rect l="l" t="t" r="r" b="b"/>
                <a:pathLst>
                  <a:path w="632" h="424">
                    <a:moveTo>
                      <a:pt x="100" y="314"/>
                    </a:moveTo>
                    <a:lnTo>
                      <a:pt x="96" y="310"/>
                    </a:lnTo>
                    <a:lnTo>
                      <a:pt x="100" y="292"/>
                    </a:lnTo>
                    <a:lnTo>
                      <a:pt x="106" y="286"/>
                    </a:lnTo>
                    <a:lnTo>
                      <a:pt x="102" y="278"/>
                    </a:lnTo>
                    <a:lnTo>
                      <a:pt x="94" y="276"/>
                    </a:lnTo>
                    <a:lnTo>
                      <a:pt x="70" y="280"/>
                    </a:lnTo>
                    <a:lnTo>
                      <a:pt x="74" y="268"/>
                    </a:lnTo>
                    <a:lnTo>
                      <a:pt x="72" y="256"/>
                    </a:lnTo>
                    <a:lnTo>
                      <a:pt x="62" y="256"/>
                    </a:lnTo>
                    <a:lnTo>
                      <a:pt x="52" y="264"/>
                    </a:lnTo>
                    <a:lnTo>
                      <a:pt x="16" y="258"/>
                    </a:lnTo>
                    <a:lnTo>
                      <a:pt x="24" y="244"/>
                    </a:lnTo>
                    <a:lnTo>
                      <a:pt x="18" y="234"/>
                    </a:lnTo>
                    <a:lnTo>
                      <a:pt x="22" y="228"/>
                    </a:lnTo>
                    <a:lnTo>
                      <a:pt x="6" y="212"/>
                    </a:lnTo>
                    <a:lnTo>
                      <a:pt x="8" y="204"/>
                    </a:lnTo>
                    <a:lnTo>
                      <a:pt x="0" y="184"/>
                    </a:lnTo>
                    <a:lnTo>
                      <a:pt x="14" y="168"/>
                    </a:lnTo>
                    <a:lnTo>
                      <a:pt x="36" y="150"/>
                    </a:lnTo>
                    <a:lnTo>
                      <a:pt x="54" y="138"/>
                    </a:lnTo>
                    <a:lnTo>
                      <a:pt x="76" y="132"/>
                    </a:lnTo>
                    <a:lnTo>
                      <a:pt x="98" y="132"/>
                    </a:lnTo>
                    <a:lnTo>
                      <a:pt x="102" y="142"/>
                    </a:lnTo>
                    <a:lnTo>
                      <a:pt x="110" y="146"/>
                    </a:lnTo>
                    <a:lnTo>
                      <a:pt x="110" y="148"/>
                    </a:lnTo>
                    <a:lnTo>
                      <a:pt x="100" y="154"/>
                    </a:lnTo>
                    <a:lnTo>
                      <a:pt x="104" y="160"/>
                    </a:lnTo>
                    <a:lnTo>
                      <a:pt x="118" y="164"/>
                    </a:lnTo>
                    <a:lnTo>
                      <a:pt x="120" y="168"/>
                    </a:lnTo>
                    <a:lnTo>
                      <a:pt x="112" y="178"/>
                    </a:lnTo>
                    <a:lnTo>
                      <a:pt x="114" y="184"/>
                    </a:lnTo>
                    <a:lnTo>
                      <a:pt x="110" y="192"/>
                    </a:lnTo>
                    <a:lnTo>
                      <a:pt x="138" y="196"/>
                    </a:lnTo>
                    <a:lnTo>
                      <a:pt x="152" y="192"/>
                    </a:lnTo>
                    <a:lnTo>
                      <a:pt x="160" y="188"/>
                    </a:lnTo>
                    <a:lnTo>
                      <a:pt x="168" y="192"/>
                    </a:lnTo>
                    <a:lnTo>
                      <a:pt x="182" y="190"/>
                    </a:lnTo>
                    <a:lnTo>
                      <a:pt x="210" y="180"/>
                    </a:lnTo>
                    <a:lnTo>
                      <a:pt x="210" y="172"/>
                    </a:lnTo>
                    <a:lnTo>
                      <a:pt x="222" y="158"/>
                    </a:lnTo>
                    <a:lnTo>
                      <a:pt x="228" y="158"/>
                    </a:lnTo>
                    <a:lnTo>
                      <a:pt x="230" y="168"/>
                    </a:lnTo>
                    <a:lnTo>
                      <a:pt x="238" y="166"/>
                    </a:lnTo>
                    <a:lnTo>
                      <a:pt x="250" y="154"/>
                    </a:lnTo>
                    <a:lnTo>
                      <a:pt x="250" y="148"/>
                    </a:lnTo>
                    <a:lnTo>
                      <a:pt x="236" y="146"/>
                    </a:lnTo>
                    <a:lnTo>
                      <a:pt x="242" y="136"/>
                    </a:lnTo>
                    <a:lnTo>
                      <a:pt x="236" y="134"/>
                    </a:lnTo>
                    <a:lnTo>
                      <a:pt x="248" y="122"/>
                    </a:lnTo>
                    <a:lnTo>
                      <a:pt x="256" y="112"/>
                    </a:lnTo>
                    <a:lnTo>
                      <a:pt x="260" y="110"/>
                    </a:lnTo>
                    <a:lnTo>
                      <a:pt x="276" y="110"/>
                    </a:lnTo>
                    <a:lnTo>
                      <a:pt x="290" y="122"/>
                    </a:lnTo>
                    <a:lnTo>
                      <a:pt x="298" y="118"/>
                    </a:lnTo>
                    <a:lnTo>
                      <a:pt x="292" y="90"/>
                    </a:lnTo>
                    <a:lnTo>
                      <a:pt x="282" y="92"/>
                    </a:lnTo>
                    <a:lnTo>
                      <a:pt x="272" y="100"/>
                    </a:lnTo>
                    <a:lnTo>
                      <a:pt x="254" y="102"/>
                    </a:lnTo>
                    <a:lnTo>
                      <a:pt x="236" y="102"/>
                    </a:lnTo>
                    <a:lnTo>
                      <a:pt x="220" y="92"/>
                    </a:lnTo>
                    <a:lnTo>
                      <a:pt x="222" y="78"/>
                    </a:lnTo>
                    <a:lnTo>
                      <a:pt x="212" y="76"/>
                    </a:lnTo>
                    <a:lnTo>
                      <a:pt x="220" y="62"/>
                    </a:lnTo>
                    <a:lnTo>
                      <a:pt x="232" y="54"/>
                    </a:lnTo>
                    <a:lnTo>
                      <a:pt x="262" y="56"/>
                    </a:lnTo>
                    <a:lnTo>
                      <a:pt x="268" y="62"/>
                    </a:lnTo>
                    <a:lnTo>
                      <a:pt x="266" y="68"/>
                    </a:lnTo>
                    <a:lnTo>
                      <a:pt x="276" y="74"/>
                    </a:lnTo>
                    <a:lnTo>
                      <a:pt x="284" y="70"/>
                    </a:lnTo>
                    <a:lnTo>
                      <a:pt x="288" y="58"/>
                    </a:lnTo>
                    <a:lnTo>
                      <a:pt x="296" y="52"/>
                    </a:lnTo>
                    <a:lnTo>
                      <a:pt x="278" y="48"/>
                    </a:lnTo>
                    <a:lnTo>
                      <a:pt x="276" y="40"/>
                    </a:lnTo>
                    <a:lnTo>
                      <a:pt x="264" y="38"/>
                    </a:lnTo>
                    <a:lnTo>
                      <a:pt x="268" y="28"/>
                    </a:lnTo>
                    <a:lnTo>
                      <a:pt x="296" y="18"/>
                    </a:lnTo>
                    <a:lnTo>
                      <a:pt x="332" y="12"/>
                    </a:lnTo>
                    <a:lnTo>
                      <a:pt x="336" y="18"/>
                    </a:lnTo>
                    <a:lnTo>
                      <a:pt x="352" y="22"/>
                    </a:lnTo>
                    <a:lnTo>
                      <a:pt x="362" y="30"/>
                    </a:lnTo>
                    <a:lnTo>
                      <a:pt x="370" y="24"/>
                    </a:lnTo>
                    <a:lnTo>
                      <a:pt x="376" y="18"/>
                    </a:lnTo>
                    <a:lnTo>
                      <a:pt x="360" y="12"/>
                    </a:lnTo>
                    <a:lnTo>
                      <a:pt x="360" y="6"/>
                    </a:lnTo>
                    <a:lnTo>
                      <a:pt x="380" y="2"/>
                    </a:lnTo>
                    <a:lnTo>
                      <a:pt x="400" y="0"/>
                    </a:lnTo>
                    <a:lnTo>
                      <a:pt x="404" y="4"/>
                    </a:lnTo>
                    <a:lnTo>
                      <a:pt x="406" y="18"/>
                    </a:lnTo>
                    <a:lnTo>
                      <a:pt x="418" y="20"/>
                    </a:lnTo>
                    <a:lnTo>
                      <a:pt x="430" y="28"/>
                    </a:lnTo>
                    <a:lnTo>
                      <a:pt x="442" y="34"/>
                    </a:lnTo>
                    <a:lnTo>
                      <a:pt x="462" y="34"/>
                    </a:lnTo>
                    <a:lnTo>
                      <a:pt x="468" y="36"/>
                    </a:lnTo>
                    <a:lnTo>
                      <a:pt x="510" y="34"/>
                    </a:lnTo>
                    <a:lnTo>
                      <a:pt x="576" y="20"/>
                    </a:lnTo>
                    <a:lnTo>
                      <a:pt x="620" y="18"/>
                    </a:lnTo>
                    <a:lnTo>
                      <a:pt x="618" y="24"/>
                    </a:lnTo>
                    <a:lnTo>
                      <a:pt x="624" y="38"/>
                    </a:lnTo>
                    <a:lnTo>
                      <a:pt x="632" y="42"/>
                    </a:lnTo>
                    <a:lnTo>
                      <a:pt x="610" y="60"/>
                    </a:lnTo>
                    <a:lnTo>
                      <a:pt x="584" y="70"/>
                    </a:lnTo>
                    <a:lnTo>
                      <a:pt x="562" y="70"/>
                    </a:lnTo>
                    <a:lnTo>
                      <a:pt x="552" y="76"/>
                    </a:lnTo>
                    <a:lnTo>
                      <a:pt x="556" y="76"/>
                    </a:lnTo>
                    <a:lnTo>
                      <a:pt x="566" y="86"/>
                    </a:lnTo>
                    <a:lnTo>
                      <a:pt x="562" y="94"/>
                    </a:lnTo>
                    <a:lnTo>
                      <a:pt x="546" y="108"/>
                    </a:lnTo>
                    <a:lnTo>
                      <a:pt x="544" y="104"/>
                    </a:lnTo>
                    <a:lnTo>
                      <a:pt x="524" y="106"/>
                    </a:lnTo>
                    <a:lnTo>
                      <a:pt x="482" y="118"/>
                    </a:lnTo>
                    <a:lnTo>
                      <a:pt x="452" y="132"/>
                    </a:lnTo>
                    <a:lnTo>
                      <a:pt x="436" y="138"/>
                    </a:lnTo>
                    <a:lnTo>
                      <a:pt x="420" y="144"/>
                    </a:lnTo>
                    <a:lnTo>
                      <a:pt x="402" y="150"/>
                    </a:lnTo>
                    <a:lnTo>
                      <a:pt x="390" y="160"/>
                    </a:lnTo>
                    <a:lnTo>
                      <a:pt x="382" y="170"/>
                    </a:lnTo>
                    <a:lnTo>
                      <a:pt x="436" y="152"/>
                    </a:lnTo>
                    <a:lnTo>
                      <a:pt x="462" y="150"/>
                    </a:lnTo>
                    <a:lnTo>
                      <a:pt x="472" y="156"/>
                    </a:lnTo>
                    <a:lnTo>
                      <a:pt x="480" y="172"/>
                    </a:lnTo>
                    <a:lnTo>
                      <a:pt x="470" y="182"/>
                    </a:lnTo>
                    <a:lnTo>
                      <a:pt x="472" y="184"/>
                    </a:lnTo>
                    <a:lnTo>
                      <a:pt x="466" y="194"/>
                    </a:lnTo>
                    <a:lnTo>
                      <a:pt x="474" y="196"/>
                    </a:lnTo>
                    <a:lnTo>
                      <a:pt x="474" y="200"/>
                    </a:lnTo>
                    <a:lnTo>
                      <a:pt x="470" y="206"/>
                    </a:lnTo>
                    <a:lnTo>
                      <a:pt x="456" y="214"/>
                    </a:lnTo>
                    <a:lnTo>
                      <a:pt x="448" y="222"/>
                    </a:lnTo>
                    <a:lnTo>
                      <a:pt x="480" y="214"/>
                    </a:lnTo>
                    <a:lnTo>
                      <a:pt x="496" y="214"/>
                    </a:lnTo>
                    <a:lnTo>
                      <a:pt x="510" y="204"/>
                    </a:lnTo>
                    <a:lnTo>
                      <a:pt x="510" y="214"/>
                    </a:lnTo>
                    <a:lnTo>
                      <a:pt x="502" y="222"/>
                    </a:lnTo>
                    <a:lnTo>
                      <a:pt x="502" y="226"/>
                    </a:lnTo>
                    <a:lnTo>
                      <a:pt x="492" y="250"/>
                    </a:lnTo>
                    <a:lnTo>
                      <a:pt x="484" y="258"/>
                    </a:lnTo>
                    <a:lnTo>
                      <a:pt x="476" y="264"/>
                    </a:lnTo>
                    <a:lnTo>
                      <a:pt x="452" y="270"/>
                    </a:lnTo>
                    <a:lnTo>
                      <a:pt x="444" y="272"/>
                    </a:lnTo>
                    <a:lnTo>
                      <a:pt x="442" y="284"/>
                    </a:lnTo>
                    <a:lnTo>
                      <a:pt x="438" y="292"/>
                    </a:lnTo>
                    <a:lnTo>
                      <a:pt x="428" y="304"/>
                    </a:lnTo>
                    <a:lnTo>
                      <a:pt x="420" y="310"/>
                    </a:lnTo>
                    <a:lnTo>
                      <a:pt x="400" y="320"/>
                    </a:lnTo>
                    <a:lnTo>
                      <a:pt x="414" y="318"/>
                    </a:lnTo>
                    <a:lnTo>
                      <a:pt x="412" y="326"/>
                    </a:lnTo>
                    <a:lnTo>
                      <a:pt x="402" y="336"/>
                    </a:lnTo>
                    <a:lnTo>
                      <a:pt x="390" y="348"/>
                    </a:lnTo>
                    <a:lnTo>
                      <a:pt x="382" y="350"/>
                    </a:lnTo>
                    <a:lnTo>
                      <a:pt x="380" y="346"/>
                    </a:lnTo>
                    <a:lnTo>
                      <a:pt x="354" y="352"/>
                    </a:lnTo>
                    <a:lnTo>
                      <a:pt x="334" y="368"/>
                    </a:lnTo>
                    <a:lnTo>
                      <a:pt x="282" y="382"/>
                    </a:lnTo>
                    <a:lnTo>
                      <a:pt x="266" y="374"/>
                    </a:lnTo>
                    <a:lnTo>
                      <a:pt x="234" y="374"/>
                    </a:lnTo>
                    <a:lnTo>
                      <a:pt x="220" y="370"/>
                    </a:lnTo>
                    <a:lnTo>
                      <a:pt x="212" y="376"/>
                    </a:lnTo>
                    <a:lnTo>
                      <a:pt x="216" y="392"/>
                    </a:lnTo>
                    <a:lnTo>
                      <a:pt x="208" y="402"/>
                    </a:lnTo>
                    <a:lnTo>
                      <a:pt x="170" y="410"/>
                    </a:lnTo>
                    <a:lnTo>
                      <a:pt x="160" y="418"/>
                    </a:lnTo>
                    <a:lnTo>
                      <a:pt x="140" y="424"/>
                    </a:lnTo>
                    <a:lnTo>
                      <a:pt x="126" y="424"/>
                    </a:lnTo>
                    <a:lnTo>
                      <a:pt x="132" y="404"/>
                    </a:lnTo>
                    <a:lnTo>
                      <a:pt x="120" y="404"/>
                    </a:lnTo>
                    <a:lnTo>
                      <a:pt x="106" y="412"/>
                    </a:lnTo>
                    <a:lnTo>
                      <a:pt x="94" y="410"/>
                    </a:lnTo>
                    <a:lnTo>
                      <a:pt x="102" y="392"/>
                    </a:lnTo>
                    <a:lnTo>
                      <a:pt x="116" y="370"/>
                    </a:lnTo>
                    <a:lnTo>
                      <a:pt x="114" y="362"/>
                    </a:lnTo>
                    <a:lnTo>
                      <a:pt x="120" y="346"/>
                    </a:lnTo>
                    <a:lnTo>
                      <a:pt x="118" y="334"/>
                    </a:lnTo>
                    <a:lnTo>
                      <a:pt x="104" y="324"/>
                    </a:lnTo>
                    <a:lnTo>
                      <a:pt x="100" y="31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08720" y="258948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46" y="28"/>
                    </a:moveTo>
                    <a:lnTo>
                      <a:pt x="60" y="22"/>
                    </a:lnTo>
                    <a:lnTo>
                      <a:pt x="66" y="12"/>
                    </a:lnTo>
                    <a:lnTo>
                      <a:pt x="60" y="4"/>
                    </a:lnTo>
                    <a:lnTo>
                      <a:pt x="54" y="0"/>
                    </a:lnTo>
                    <a:lnTo>
                      <a:pt x="12" y="12"/>
                    </a:lnTo>
                    <a:lnTo>
                      <a:pt x="6" y="20"/>
                    </a:lnTo>
                    <a:lnTo>
                      <a:pt x="0" y="44"/>
                    </a:lnTo>
                    <a:lnTo>
                      <a:pt x="20" y="42"/>
                    </a:lnTo>
                    <a:lnTo>
                      <a:pt x="34" y="36"/>
                    </a:lnTo>
                    <a:lnTo>
                      <a:pt x="44" y="3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99360" y="256428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164" h="40">
                    <a:moveTo>
                      <a:pt x="56" y="38"/>
                    </a:moveTo>
                    <a:lnTo>
                      <a:pt x="88" y="34"/>
                    </a:lnTo>
                    <a:lnTo>
                      <a:pt x="122" y="24"/>
                    </a:lnTo>
                    <a:lnTo>
                      <a:pt x="144" y="16"/>
                    </a:lnTo>
                    <a:lnTo>
                      <a:pt x="158" y="8"/>
                    </a:lnTo>
                    <a:lnTo>
                      <a:pt x="164" y="0"/>
                    </a:lnTo>
                    <a:lnTo>
                      <a:pt x="146" y="0"/>
                    </a:lnTo>
                    <a:lnTo>
                      <a:pt x="90" y="8"/>
                    </a:lnTo>
                    <a:lnTo>
                      <a:pt x="68" y="8"/>
                    </a:lnTo>
                    <a:lnTo>
                      <a:pt x="46" y="14"/>
                    </a:lnTo>
                    <a:lnTo>
                      <a:pt x="38" y="18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0" y="34"/>
                    </a:lnTo>
                    <a:lnTo>
                      <a:pt x="28" y="30"/>
                    </a:lnTo>
                    <a:lnTo>
                      <a:pt x="34" y="32"/>
                    </a:lnTo>
                    <a:lnTo>
                      <a:pt x="30" y="40"/>
                    </a:lnTo>
                    <a:lnTo>
                      <a:pt x="46" y="36"/>
                    </a:lnTo>
                    <a:lnTo>
                      <a:pt x="48" y="38"/>
                    </a:lnTo>
                    <a:lnTo>
                      <a:pt x="56" y="3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876760" y="252144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110" h="44">
                    <a:moveTo>
                      <a:pt x="80" y="14"/>
                    </a:moveTo>
                    <a:lnTo>
                      <a:pt x="80" y="12"/>
                    </a:lnTo>
                    <a:lnTo>
                      <a:pt x="60" y="20"/>
                    </a:lnTo>
                    <a:lnTo>
                      <a:pt x="52" y="24"/>
                    </a:lnTo>
                    <a:lnTo>
                      <a:pt x="50" y="28"/>
                    </a:lnTo>
                    <a:lnTo>
                      <a:pt x="42" y="34"/>
                    </a:lnTo>
                    <a:lnTo>
                      <a:pt x="28" y="34"/>
                    </a:lnTo>
                    <a:lnTo>
                      <a:pt x="28" y="40"/>
                    </a:lnTo>
                    <a:lnTo>
                      <a:pt x="18" y="44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8" y="34"/>
                    </a:lnTo>
                    <a:lnTo>
                      <a:pt x="4" y="30"/>
                    </a:lnTo>
                    <a:lnTo>
                      <a:pt x="8" y="22"/>
                    </a:lnTo>
                    <a:lnTo>
                      <a:pt x="44" y="12"/>
                    </a:lnTo>
                    <a:lnTo>
                      <a:pt x="50" y="14"/>
                    </a:lnTo>
                    <a:lnTo>
                      <a:pt x="64" y="12"/>
                    </a:lnTo>
                    <a:lnTo>
                      <a:pt x="74" y="10"/>
                    </a:lnTo>
                    <a:lnTo>
                      <a:pt x="92" y="0"/>
                    </a:lnTo>
                    <a:lnTo>
                      <a:pt x="110" y="12"/>
                    </a:lnTo>
                    <a:lnTo>
                      <a:pt x="104" y="24"/>
                    </a:lnTo>
                    <a:lnTo>
                      <a:pt x="80" y="34"/>
                    </a:lnTo>
                    <a:lnTo>
                      <a:pt x="80" y="28"/>
                    </a:lnTo>
                    <a:lnTo>
                      <a:pt x="72" y="24"/>
                    </a:lnTo>
                    <a:lnTo>
                      <a:pt x="80" y="1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800440" y="2493360"/>
                <a:ext cx="95040" cy="43920"/>
              </a:xfrm>
              <a:custGeom>
                <a:avLst/>
                <a:gdLst/>
                <a:ahLst/>
                <a:rect l="l" t="t" r="r" b="b"/>
                <a:pathLst>
                  <a:path w="548" h="262">
                    <a:moveTo>
                      <a:pt x="478" y="116"/>
                    </a:moveTo>
                    <a:lnTo>
                      <a:pt x="478" y="118"/>
                    </a:lnTo>
                    <a:lnTo>
                      <a:pt x="474" y="120"/>
                    </a:lnTo>
                    <a:lnTo>
                      <a:pt x="470" y="124"/>
                    </a:lnTo>
                    <a:lnTo>
                      <a:pt x="468" y="128"/>
                    </a:lnTo>
                    <a:lnTo>
                      <a:pt x="458" y="136"/>
                    </a:lnTo>
                    <a:lnTo>
                      <a:pt x="430" y="142"/>
                    </a:lnTo>
                    <a:lnTo>
                      <a:pt x="422" y="148"/>
                    </a:lnTo>
                    <a:lnTo>
                      <a:pt x="446" y="154"/>
                    </a:lnTo>
                    <a:lnTo>
                      <a:pt x="454" y="152"/>
                    </a:lnTo>
                    <a:lnTo>
                      <a:pt x="448" y="162"/>
                    </a:lnTo>
                    <a:lnTo>
                      <a:pt x="436" y="172"/>
                    </a:lnTo>
                    <a:lnTo>
                      <a:pt x="412" y="192"/>
                    </a:lnTo>
                    <a:lnTo>
                      <a:pt x="404" y="206"/>
                    </a:lnTo>
                    <a:lnTo>
                      <a:pt x="414" y="182"/>
                    </a:lnTo>
                    <a:lnTo>
                      <a:pt x="414" y="174"/>
                    </a:lnTo>
                    <a:lnTo>
                      <a:pt x="410" y="172"/>
                    </a:lnTo>
                    <a:lnTo>
                      <a:pt x="402" y="174"/>
                    </a:lnTo>
                    <a:lnTo>
                      <a:pt x="392" y="172"/>
                    </a:lnTo>
                    <a:lnTo>
                      <a:pt x="382" y="176"/>
                    </a:lnTo>
                    <a:lnTo>
                      <a:pt x="390" y="180"/>
                    </a:lnTo>
                    <a:lnTo>
                      <a:pt x="386" y="188"/>
                    </a:lnTo>
                    <a:lnTo>
                      <a:pt x="382" y="190"/>
                    </a:lnTo>
                    <a:lnTo>
                      <a:pt x="382" y="184"/>
                    </a:lnTo>
                    <a:lnTo>
                      <a:pt x="368" y="186"/>
                    </a:lnTo>
                    <a:lnTo>
                      <a:pt x="360" y="190"/>
                    </a:lnTo>
                    <a:lnTo>
                      <a:pt x="366" y="198"/>
                    </a:lnTo>
                    <a:lnTo>
                      <a:pt x="358" y="198"/>
                    </a:lnTo>
                    <a:lnTo>
                      <a:pt x="352" y="202"/>
                    </a:lnTo>
                    <a:lnTo>
                      <a:pt x="350" y="206"/>
                    </a:lnTo>
                    <a:lnTo>
                      <a:pt x="346" y="206"/>
                    </a:lnTo>
                    <a:lnTo>
                      <a:pt x="344" y="202"/>
                    </a:lnTo>
                    <a:lnTo>
                      <a:pt x="324" y="212"/>
                    </a:lnTo>
                    <a:lnTo>
                      <a:pt x="322" y="216"/>
                    </a:lnTo>
                    <a:lnTo>
                      <a:pt x="332" y="216"/>
                    </a:lnTo>
                    <a:lnTo>
                      <a:pt x="334" y="240"/>
                    </a:lnTo>
                    <a:lnTo>
                      <a:pt x="332" y="246"/>
                    </a:lnTo>
                    <a:lnTo>
                      <a:pt x="322" y="248"/>
                    </a:lnTo>
                    <a:lnTo>
                      <a:pt x="316" y="244"/>
                    </a:lnTo>
                    <a:lnTo>
                      <a:pt x="316" y="236"/>
                    </a:lnTo>
                    <a:lnTo>
                      <a:pt x="312" y="234"/>
                    </a:lnTo>
                    <a:lnTo>
                      <a:pt x="304" y="234"/>
                    </a:lnTo>
                    <a:lnTo>
                      <a:pt x="298" y="240"/>
                    </a:lnTo>
                    <a:lnTo>
                      <a:pt x="296" y="244"/>
                    </a:lnTo>
                    <a:lnTo>
                      <a:pt x="294" y="248"/>
                    </a:lnTo>
                    <a:lnTo>
                      <a:pt x="294" y="254"/>
                    </a:lnTo>
                    <a:lnTo>
                      <a:pt x="288" y="262"/>
                    </a:lnTo>
                    <a:lnTo>
                      <a:pt x="246" y="262"/>
                    </a:lnTo>
                    <a:lnTo>
                      <a:pt x="250" y="256"/>
                    </a:lnTo>
                    <a:lnTo>
                      <a:pt x="228" y="260"/>
                    </a:lnTo>
                    <a:lnTo>
                      <a:pt x="218" y="260"/>
                    </a:lnTo>
                    <a:lnTo>
                      <a:pt x="216" y="256"/>
                    </a:lnTo>
                    <a:lnTo>
                      <a:pt x="224" y="250"/>
                    </a:lnTo>
                    <a:lnTo>
                      <a:pt x="214" y="252"/>
                    </a:lnTo>
                    <a:lnTo>
                      <a:pt x="202" y="258"/>
                    </a:lnTo>
                    <a:lnTo>
                      <a:pt x="188" y="256"/>
                    </a:lnTo>
                    <a:lnTo>
                      <a:pt x="196" y="248"/>
                    </a:lnTo>
                    <a:lnTo>
                      <a:pt x="186" y="254"/>
                    </a:lnTo>
                    <a:lnTo>
                      <a:pt x="172" y="256"/>
                    </a:lnTo>
                    <a:lnTo>
                      <a:pt x="172" y="248"/>
                    </a:lnTo>
                    <a:lnTo>
                      <a:pt x="186" y="240"/>
                    </a:lnTo>
                    <a:lnTo>
                      <a:pt x="148" y="260"/>
                    </a:lnTo>
                    <a:lnTo>
                      <a:pt x="110" y="256"/>
                    </a:lnTo>
                    <a:lnTo>
                      <a:pt x="96" y="250"/>
                    </a:lnTo>
                    <a:lnTo>
                      <a:pt x="92" y="244"/>
                    </a:lnTo>
                    <a:lnTo>
                      <a:pt x="110" y="224"/>
                    </a:lnTo>
                    <a:lnTo>
                      <a:pt x="110" y="218"/>
                    </a:lnTo>
                    <a:lnTo>
                      <a:pt x="116" y="216"/>
                    </a:lnTo>
                    <a:lnTo>
                      <a:pt x="150" y="218"/>
                    </a:lnTo>
                    <a:lnTo>
                      <a:pt x="160" y="216"/>
                    </a:lnTo>
                    <a:lnTo>
                      <a:pt x="140" y="212"/>
                    </a:lnTo>
                    <a:lnTo>
                      <a:pt x="158" y="202"/>
                    </a:lnTo>
                    <a:lnTo>
                      <a:pt x="128" y="204"/>
                    </a:lnTo>
                    <a:lnTo>
                      <a:pt x="130" y="196"/>
                    </a:lnTo>
                    <a:lnTo>
                      <a:pt x="154" y="192"/>
                    </a:lnTo>
                    <a:lnTo>
                      <a:pt x="142" y="182"/>
                    </a:lnTo>
                    <a:lnTo>
                      <a:pt x="172" y="180"/>
                    </a:lnTo>
                    <a:lnTo>
                      <a:pt x="184" y="184"/>
                    </a:lnTo>
                    <a:lnTo>
                      <a:pt x="194" y="180"/>
                    </a:lnTo>
                    <a:lnTo>
                      <a:pt x="190" y="178"/>
                    </a:lnTo>
                    <a:lnTo>
                      <a:pt x="224" y="178"/>
                    </a:lnTo>
                    <a:lnTo>
                      <a:pt x="230" y="174"/>
                    </a:lnTo>
                    <a:lnTo>
                      <a:pt x="194" y="174"/>
                    </a:lnTo>
                    <a:lnTo>
                      <a:pt x="222" y="170"/>
                    </a:lnTo>
                    <a:lnTo>
                      <a:pt x="220" y="166"/>
                    </a:lnTo>
                    <a:lnTo>
                      <a:pt x="230" y="164"/>
                    </a:lnTo>
                    <a:lnTo>
                      <a:pt x="254" y="162"/>
                    </a:lnTo>
                    <a:lnTo>
                      <a:pt x="256" y="158"/>
                    </a:lnTo>
                    <a:lnTo>
                      <a:pt x="252" y="154"/>
                    </a:lnTo>
                    <a:lnTo>
                      <a:pt x="260" y="148"/>
                    </a:lnTo>
                    <a:lnTo>
                      <a:pt x="320" y="148"/>
                    </a:lnTo>
                    <a:lnTo>
                      <a:pt x="336" y="146"/>
                    </a:lnTo>
                    <a:lnTo>
                      <a:pt x="336" y="142"/>
                    </a:lnTo>
                    <a:lnTo>
                      <a:pt x="324" y="146"/>
                    </a:lnTo>
                    <a:lnTo>
                      <a:pt x="280" y="144"/>
                    </a:lnTo>
                    <a:lnTo>
                      <a:pt x="278" y="142"/>
                    </a:lnTo>
                    <a:lnTo>
                      <a:pt x="262" y="146"/>
                    </a:lnTo>
                    <a:lnTo>
                      <a:pt x="248" y="144"/>
                    </a:lnTo>
                    <a:lnTo>
                      <a:pt x="214" y="148"/>
                    </a:lnTo>
                    <a:lnTo>
                      <a:pt x="206" y="146"/>
                    </a:lnTo>
                    <a:lnTo>
                      <a:pt x="140" y="152"/>
                    </a:lnTo>
                    <a:lnTo>
                      <a:pt x="112" y="148"/>
                    </a:lnTo>
                    <a:lnTo>
                      <a:pt x="98" y="154"/>
                    </a:lnTo>
                    <a:lnTo>
                      <a:pt x="92" y="148"/>
                    </a:lnTo>
                    <a:lnTo>
                      <a:pt x="70" y="154"/>
                    </a:lnTo>
                    <a:lnTo>
                      <a:pt x="32" y="154"/>
                    </a:lnTo>
                    <a:lnTo>
                      <a:pt x="14" y="158"/>
                    </a:lnTo>
                    <a:lnTo>
                      <a:pt x="0" y="152"/>
                    </a:lnTo>
                    <a:lnTo>
                      <a:pt x="4" y="142"/>
                    </a:lnTo>
                    <a:lnTo>
                      <a:pt x="18" y="142"/>
                    </a:lnTo>
                    <a:lnTo>
                      <a:pt x="22" y="136"/>
                    </a:lnTo>
                    <a:lnTo>
                      <a:pt x="32" y="130"/>
                    </a:lnTo>
                    <a:lnTo>
                      <a:pt x="46" y="128"/>
                    </a:lnTo>
                    <a:lnTo>
                      <a:pt x="72" y="136"/>
                    </a:lnTo>
                    <a:lnTo>
                      <a:pt x="74" y="130"/>
                    </a:lnTo>
                    <a:lnTo>
                      <a:pt x="68" y="126"/>
                    </a:lnTo>
                    <a:lnTo>
                      <a:pt x="80" y="122"/>
                    </a:lnTo>
                    <a:lnTo>
                      <a:pt x="70" y="120"/>
                    </a:lnTo>
                    <a:lnTo>
                      <a:pt x="82" y="112"/>
                    </a:lnTo>
                    <a:lnTo>
                      <a:pt x="108" y="106"/>
                    </a:lnTo>
                    <a:lnTo>
                      <a:pt x="118" y="106"/>
                    </a:lnTo>
                    <a:lnTo>
                      <a:pt x="134" y="120"/>
                    </a:lnTo>
                    <a:lnTo>
                      <a:pt x="134" y="126"/>
                    </a:lnTo>
                    <a:lnTo>
                      <a:pt x="154" y="126"/>
                    </a:lnTo>
                    <a:lnTo>
                      <a:pt x="160" y="118"/>
                    </a:lnTo>
                    <a:lnTo>
                      <a:pt x="162" y="114"/>
                    </a:lnTo>
                    <a:lnTo>
                      <a:pt x="148" y="104"/>
                    </a:lnTo>
                    <a:lnTo>
                      <a:pt x="160" y="98"/>
                    </a:lnTo>
                    <a:lnTo>
                      <a:pt x="180" y="92"/>
                    </a:lnTo>
                    <a:lnTo>
                      <a:pt x="184" y="88"/>
                    </a:lnTo>
                    <a:lnTo>
                      <a:pt x="142" y="92"/>
                    </a:lnTo>
                    <a:lnTo>
                      <a:pt x="148" y="84"/>
                    </a:lnTo>
                    <a:lnTo>
                      <a:pt x="148" y="74"/>
                    </a:lnTo>
                    <a:lnTo>
                      <a:pt x="158" y="66"/>
                    </a:lnTo>
                    <a:lnTo>
                      <a:pt x="172" y="58"/>
                    </a:lnTo>
                    <a:lnTo>
                      <a:pt x="150" y="56"/>
                    </a:lnTo>
                    <a:lnTo>
                      <a:pt x="162" y="46"/>
                    </a:lnTo>
                    <a:lnTo>
                      <a:pt x="168" y="40"/>
                    </a:lnTo>
                    <a:lnTo>
                      <a:pt x="198" y="28"/>
                    </a:lnTo>
                    <a:lnTo>
                      <a:pt x="196" y="28"/>
                    </a:lnTo>
                    <a:lnTo>
                      <a:pt x="208" y="22"/>
                    </a:lnTo>
                    <a:lnTo>
                      <a:pt x="222" y="20"/>
                    </a:lnTo>
                    <a:lnTo>
                      <a:pt x="246" y="26"/>
                    </a:lnTo>
                    <a:lnTo>
                      <a:pt x="252" y="26"/>
                    </a:lnTo>
                    <a:lnTo>
                      <a:pt x="254" y="30"/>
                    </a:lnTo>
                    <a:lnTo>
                      <a:pt x="246" y="38"/>
                    </a:lnTo>
                    <a:lnTo>
                      <a:pt x="252" y="38"/>
                    </a:lnTo>
                    <a:lnTo>
                      <a:pt x="262" y="44"/>
                    </a:lnTo>
                    <a:lnTo>
                      <a:pt x="242" y="52"/>
                    </a:lnTo>
                    <a:lnTo>
                      <a:pt x="254" y="74"/>
                    </a:lnTo>
                    <a:lnTo>
                      <a:pt x="250" y="76"/>
                    </a:lnTo>
                    <a:lnTo>
                      <a:pt x="252" y="80"/>
                    </a:lnTo>
                    <a:lnTo>
                      <a:pt x="264" y="78"/>
                    </a:lnTo>
                    <a:lnTo>
                      <a:pt x="272" y="80"/>
                    </a:lnTo>
                    <a:lnTo>
                      <a:pt x="256" y="86"/>
                    </a:lnTo>
                    <a:lnTo>
                      <a:pt x="268" y="92"/>
                    </a:lnTo>
                    <a:lnTo>
                      <a:pt x="280" y="106"/>
                    </a:lnTo>
                    <a:lnTo>
                      <a:pt x="296" y="108"/>
                    </a:lnTo>
                    <a:lnTo>
                      <a:pt x="312" y="104"/>
                    </a:lnTo>
                    <a:lnTo>
                      <a:pt x="316" y="102"/>
                    </a:lnTo>
                    <a:lnTo>
                      <a:pt x="300" y="102"/>
                    </a:lnTo>
                    <a:lnTo>
                      <a:pt x="300" y="92"/>
                    </a:lnTo>
                    <a:lnTo>
                      <a:pt x="304" y="72"/>
                    </a:lnTo>
                    <a:lnTo>
                      <a:pt x="330" y="72"/>
                    </a:lnTo>
                    <a:lnTo>
                      <a:pt x="328" y="66"/>
                    </a:lnTo>
                    <a:lnTo>
                      <a:pt x="292" y="66"/>
                    </a:lnTo>
                    <a:lnTo>
                      <a:pt x="286" y="58"/>
                    </a:lnTo>
                    <a:lnTo>
                      <a:pt x="296" y="56"/>
                    </a:lnTo>
                    <a:lnTo>
                      <a:pt x="312" y="58"/>
                    </a:lnTo>
                    <a:lnTo>
                      <a:pt x="322" y="52"/>
                    </a:lnTo>
                    <a:lnTo>
                      <a:pt x="334" y="52"/>
                    </a:lnTo>
                    <a:lnTo>
                      <a:pt x="326" y="50"/>
                    </a:lnTo>
                    <a:lnTo>
                      <a:pt x="322" y="42"/>
                    </a:lnTo>
                    <a:lnTo>
                      <a:pt x="298" y="40"/>
                    </a:lnTo>
                    <a:lnTo>
                      <a:pt x="290" y="34"/>
                    </a:lnTo>
                    <a:lnTo>
                      <a:pt x="288" y="20"/>
                    </a:lnTo>
                    <a:lnTo>
                      <a:pt x="294" y="16"/>
                    </a:lnTo>
                    <a:lnTo>
                      <a:pt x="310" y="16"/>
                    </a:lnTo>
                    <a:lnTo>
                      <a:pt x="328" y="6"/>
                    </a:lnTo>
                    <a:lnTo>
                      <a:pt x="362" y="0"/>
                    </a:lnTo>
                    <a:lnTo>
                      <a:pt x="394" y="4"/>
                    </a:lnTo>
                    <a:lnTo>
                      <a:pt x="418" y="4"/>
                    </a:lnTo>
                    <a:lnTo>
                      <a:pt x="418" y="10"/>
                    </a:lnTo>
                    <a:lnTo>
                      <a:pt x="426" y="18"/>
                    </a:lnTo>
                    <a:lnTo>
                      <a:pt x="450" y="26"/>
                    </a:lnTo>
                    <a:lnTo>
                      <a:pt x="440" y="32"/>
                    </a:lnTo>
                    <a:lnTo>
                      <a:pt x="438" y="36"/>
                    </a:lnTo>
                    <a:lnTo>
                      <a:pt x="446" y="32"/>
                    </a:lnTo>
                    <a:lnTo>
                      <a:pt x="458" y="36"/>
                    </a:lnTo>
                    <a:lnTo>
                      <a:pt x="470" y="30"/>
                    </a:lnTo>
                    <a:lnTo>
                      <a:pt x="472" y="18"/>
                    </a:lnTo>
                    <a:lnTo>
                      <a:pt x="482" y="14"/>
                    </a:lnTo>
                    <a:lnTo>
                      <a:pt x="502" y="18"/>
                    </a:lnTo>
                    <a:lnTo>
                      <a:pt x="516" y="10"/>
                    </a:lnTo>
                    <a:lnTo>
                      <a:pt x="496" y="4"/>
                    </a:lnTo>
                    <a:lnTo>
                      <a:pt x="522" y="6"/>
                    </a:lnTo>
                    <a:lnTo>
                      <a:pt x="524" y="14"/>
                    </a:lnTo>
                    <a:lnTo>
                      <a:pt x="534" y="22"/>
                    </a:lnTo>
                    <a:lnTo>
                      <a:pt x="516" y="20"/>
                    </a:lnTo>
                    <a:lnTo>
                      <a:pt x="518" y="24"/>
                    </a:lnTo>
                    <a:lnTo>
                      <a:pt x="542" y="30"/>
                    </a:lnTo>
                    <a:lnTo>
                      <a:pt x="548" y="42"/>
                    </a:lnTo>
                    <a:lnTo>
                      <a:pt x="540" y="50"/>
                    </a:lnTo>
                    <a:lnTo>
                      <a:pt x="528" y="58"/>
                    </a:lnTo>
                    <a:lnTo>
                      <a:pt x="516" y="68"/>
                    </a:lnTo>
                    <a:lnTo>
                      <a:pt x="516" y="82"/>
                    </a:lnTo>
                    <a:lnTo>
                      <a:pt x="508" y="92"/>
                    </a:lnTo>
                    <a:lnTo>
                      <a:pt x="494" y="100"/>
                    </a:lnTo>
                    <a:lnTo>
                      <a:pt x="490" y="104"/>
                    </a:lnTo>
                    <a:lnTo>
                      <a:pt x="482" y="108"/>
                    </a:lnTo>
                    <a:lnTo>
                      <a:pt x="478" y="11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940840" y="2437200"/>
                <a:ext cx="48600" cy="30600"/>
              </a:xfrm>
              <a:custGeom>
                <a:avLst/>
                <a:gdLst/>
                <a:ahLst/>
                <a:rect l="l" t="t" r="r" b="b"/>
                <a:pathLst>
                  <a:path w="282" h="182">
                    <a:moveTo>
                      <a:pt x="188" y="164"/>
                    </a:moveTo>
                    <a:lnTo>
                      <a:pt x="172" y="162"/>
                    </a:lnTo>
                    <a:lnTo>
                      <a:pt x="106" y="170"/>
                    </a:lnTo>
                    <a:lnTo>
                      <a:pt x="88" y="170"/>
                    </a:lnTo>
                    <a:lnTo>
                      <a:pt x="78" y="160"/>
                    </a:lnTo>
                    <a:lnTo>
                      <a:pt x="44" y="168"/>
                    </a:lnTo>
                    <a:lnTo>
                      <a:pt x="50" y="168"/>
                    </a:lnTo>
                    <a:lnTo>
                      <a:pt x="52" y="170"/>
                    </a:lnTo>
                    <a:lnTo>
                      <a:pt x="50" y="172"/>
                    </a:lnTo>
                    <a:lnTo>
                      <a:pt x="24" y="182"/>
                    </a:lnTo>
                    <a:lnTo>
                      <a:pt x="0" y="176"/>
                    </a:lnTo>
                    <a:lnTo>
                      <a:pt x="0" y="170"/>
                    </a:lnTo>
                    <a:lnTo>
                      <a:pt x="26" y="160"/>
                    </a:lnTo>
                    <a:lnTo>
                      <a:pt x="0" y="130"/>
                    </a:lnTo>
                    <a:lnTo>
                      <a:pt x="14" y="124"/>
                    </a:lnTo>
                    <a:lnTo>
                      <a:pt x="68" y="128"/>
                    </a:lnTo>
                    <a:lnTo>
                      <a:pt x="90" y="124"/>
                    </a:lnTo>
                    <a:lnTo>
                      <a:pt x="82" y="122"/>
                    </a:lnTo>
                    <a:lnTo>
                      <a:pt x="92" y="116"/>
                    </a:lnTo>
                    <a:lnTo>
                      <a:pt x="58" y="104"/>
                    </a:lnTo>
                    <a:lnTo>
                      <a:pt x="44" y="106"/>
                    </a:lnTo>
                    <a:lnTo>
                      <a:pt x="24" y="100"/>
                    </a:lnTo>
                    <a:lnTo>
                      <a:pt x="22" y="96"/>
                    </a:lnTo>
                    <a:lnTo>
                      <a:pt x="38" y="94"/>
                    </a:lnTo>
                    <a:lnTo>
                      <a:pt x="40" y="88"/>
                    </a:lnTo>
                    <a:lnTo>
                      <a:pt x="28" y="86"/>
                    </a:lnTo>
                    <a:lnTo>
                      <a:pt x="36" y="74"/>
                    </a:lnTo>
                    <a:lnTo>
                      <a:pt x="48" y="68"/>
                    </a:lnTo>
                    <a:lnTo>
                      <a:pt x="38" y="66"/>
                    </a:lnTo>
                    <a:lnTo>
                      <a:pt x="36" y="50"/>
                    </a:lnTo>
                    <a:lnTo>
                      <a:pt x="60" y="46"/>
                    </a:lnTo>
                    <a:lnTo>
                      <a:pt x="70" y="42"/>
                    </a:lnTo>
                    <a:lnTo>
                      <a:pt x="74" y="36"/>
                    </a:lnTo>
                    <a:lnTo>
                      <a:pt x="68" y="32"/>
                    </a:lnTo>
                    <a:lnTo>
                      <a:pt x="72" y="24"/>
                    </a:lnTo>
                    <a:lnTo>
                      <a:pt x="74" y="22"/>
                    </a:lnTo>
                    <a:lnTo>
                      <a:pt x="84" y="12"/>
                    </a:lnTo>
                    <a:lnTo>
                      <a:pt x="90" y="10"/>
                    </a:lnTo>
                    <a:lnTo>
                      <a:pt x="94" y="6"/>
                    </a:lnTo>
                    <a:lnTo>
                      <a:pt x="128" y="0"/>
                    </a:lnTo>
                    <a:lnTo>
                      <a:pt x="166" y="6"/>
                    </a:lnTo>
                    <a:lnTo>
                      <a:pt x="202" y="30"/>
                    </a:lnTo>
                    <a:lnTo>
                      <a:pt x="216" y="32"/>
                    </a:lnTo>
                    <a:lnTo>
                      <a:pt x="226" y="42"/>
                    </a:lnTo>
                    <a:lnTo>
                      <a:pt x="234" y="44"/>
                    </a:lnTo>
                    <a:lnTo>
                      <a:pt x="236" y="48"/>
                    </a:lnTo>
                    <a:lnTo>
                      <a:pt x="224" y="56"/>
                    </a:lnTo>
                    <a:lnTo>
                      <a:pt x="218" y="60"/>
                    </a:lnTo>
                    <a:lnTo>
                      <a:pt x="210" y="66"/>
                    </a:lnTo>
                    <a:lnTo>
                      <a:pt x="226" y="68"/>
                    </a:lnTo>
                    <a:lnTo>
                      <a:pt x="252" y="66"/>
                    </a:lnTo>
                    <a:lnTo>
                      <a:pt x="276" y="78"/>
                    </a:lnTo>
                    <a:lnTo>
                      <a:pt x="282" y="96"/>
                    </a:lnTo>
                    <a:lnTo>
                      <a:pt x="278" y="100"/>
                    </a:lnTo>
                    <a:lnTo>
                      <a:pt x="274" y="104"/>
                    </a:lnTo>
                    <a:lnTo>
                      <a:pt x="252" y="110"/>
                    </a:lnTo>
                    <a:lnTo>
                      <a:pt x="224" y="134"/>
                    </a:lnTo>
                    <a:lnTo>
                      <a:pt x="222" y="138"/>
                    </a:lnTo>
                    <a:lnTo>
                      <a:pt x="224" y="136"/>
                    </a:lnTo>
                    <a:lnTo>
                      <a:pt x="230" y="140"/>
                    </a:lnTo>
                    <a:lnTo>
                      <a:pt x="232" y="144"/>
                    </a:lnTo>
                    <a:lnTo>
                      <a:pt x="220" y="154"/>
                    </a:lnTo>
                    <a:lnTo>
                      <a:pt x="202" y="162"/>
                    </a:lnTo>
                    <a:lnTo>
                      <a:pt x="196" y="166"/>
                    </a:lnTo>
                    <a:lnTo>
                      <a:pt x="190" y="168"/>
                    </a:lnTo>
                    <a:lnTo>
                      <a:pt x="188" y="16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55160" y="2419920"/>
                <a:ext cx="77040" cy="43920"/>
              </a:xfrm>
              <a:custGeom>
                <a:avLst/>
                <a:gdLst/>
                <a:ahLst/>
                <a:rect l="l" t="t" r="r" b="b"/>
                <a:pathLst>
                  <a:path w="446" h="254">
                    <a:moveTo>
                      <a:pt x="430" y="112"/>
                    </a:moveTo>
                    <a:lnTo>
                      <a:pt x="428" y="112"/>
                    </a:lnTo>
                    <a:lnTo>
                      <a:pt x="430" y="122"/>
                    </a:lnTo>
                    <a:lnTo>
                      <a:pt x="440" y="120"/>
                    </a:lnTo>
                    <a:lnTo>
                      <a:pt x="444" y="120"/>
                    </a:lnTo>
                    <a:lnTo>
                      <a:pt x="446" y="124"/>
                    </a:lnTo>
                    <a:lnTo>
                      <a:pt x="440" y="130"/>
                    </a:lnTo>
                    <a:lnTo>
                      <a:pt x="430" y="132"/>
                    </a:lnTo>
                    <a:lnTo>
                      <a:pt x="422" y="140"/>
                    </a:lnTo>
                    <a:lnTo>
                      <a:pt x="394" y="150"/>
                    </a:lnTo>
                    <a:lnTo>
                      <a:pt x="390" y="158"/>
                    </a:lnTo>
                    <a:lnTo>
                      <a:pt x="376" y="168"/>
                    </a:lnTo>
                    <a:lnTo>
                      <a:pt x="392" y="174"/>
                    </a:lnTo>
                    <a:lnTo>
                      <a:pt x="386" y="184"/>
                    </a:lnTo>
                    <a:lnTo>
                      <a:pt x="396" y="218"/>
                    </a:lnTo>
                    <a:lnTo>
                      <a:pt x="368" y="232"/>
                    </a:lnTo>
                    <a:lnTo>
                      <a:pt x="362" y="240"/>
                    </a:lnTo>
                    <a:lnTo>
                      <a:pt x="346" y="248"/>
                    </a:lnTo>
                    <a:lnTo>
                      <a:pt x="318" y="250"/>
                    </a:lnTo>
                    <a:lnTo>
                      <a:pt x="300" y="248"/>
                    </a:lnTo>
                    <a:lnTo>
                      <a:pt x="286" y="250"/>
                    </a:lnTo>
                    <a:lnTo>
                      <a:pt x="274" y="254"/>
                    </a:lnTo>
                    <a:lnTo>
                      <a:pt x="264" y="246"/>
                    </a:lnTo>
                    <a:lnTo>
                      <a:pt x="254" y="246"/>
                    </a:lnTo>
                    <a:lnTo>
                      <a:pt x="242" y="234"/>
                    </a:lnTo>
                    <a:lnTo>
                      <a:pt x="248" y="226"/>
                    </a:lnTo>
                    <a:lnTo>
                      <a:pt x="250" y="214"/>
                    </a:lnTo>
                    <a:lnTo>
                      <a:pt x="264" y="200"/>
                    </a:lnTo>
                    <a:lnTo>
                      <a:pt x="258" y="190"/>
                    </a:lnTo>
                    <a:lnTo>
                      <a:pt x="264" y="184"/>
                    </a:lnTo>
                    <a:lnTo>
                      <a:pt x="260" y="184"/>
                    </a:lnTo>
                    <a:lnTo>
                      <a:pt x="252" y="186"/>
                    </a:lnTo>
                    <a:lnTo>
                      <a:pt x="232" y="184"/>
                    </a:lnTo>
                    <a:lnTo>
                      <a:pt x="236" y="180"/>
                    </a:lnTo>
                    <a:lnTo>
                      <a:pt x="236" y="174"/>
                    </a:lnTo>
                    <a:lnTo>
                      <a:pt x="202" y="168"/>
                    </a:lnTo>
                    <a:lnTo>
                      <a:pt x="186" y="166"/>
                    </a:lnTo>
                    <a:lnTo>
                      <a:pt x="164" y="170"/>
                    </a:lnTo>
                    <a:lnTo>
                      <a:pt x="152" y="168"/>
                    </a:lnTo>
                    <a:lnTo>
                      <a:pt x="142" y="162"/>
                    </a:lnTo>
                    <a:lnTo>
                      <a:pt x="148" y="156"/>
                    </a:lnTo>
                    <a:lnTo>
                      <a:pt x="156" y="150"/>
                    </a:lnTo>
                    <a:lnTo>
                      <a:pt x="102" y="156"/>
                    </a:lnTo>
                    <a:lnTo>
                      <a:pt x="88" y="156"/>
                    </a:lnTo>
                    <a:lnTo>
                      <a:pt x="70" y="162"/>
                    </a:lnTo>
                    <a:lnTo>
                      <a:pt x="56" y="166"/>
                    </a:lnTo>
                    <a:lnTo>
                      <a:pt x="24" y="162"/>
                    </a:lnTo>
                    <a:lnTo>
                      <a:pt x="2" y="150"/>
                    </a:lnTo>
                    <a:lnTo>
                      <a:pt x="0" y="136"/>
                    </a:lnTo>
                    <a:lnTo>
                      <a:pt x="6" y="128"/>
                    </a:lnTo>
                    <a:lnTo>
                      <a:pt x="16" y="118"/>
                    </a:lnTo>
                    <a:lnTo>
                      <a:pt x="30" y="114"/>
                    </a:lnTo>
                    <a:lnTo>
                      <a:pt x="56" y="114"/>
                    </a:lnTo>
                    <a:lnTo>
                      <a:pt x="86" y="126"/>
                    </a:lnTo>
                    <a:lnTo>
                      <a:pt x="120" y="130"/>
                    </a:lnTo>
                    <a:lnTo>
                      <a:pt x="132" y="122"/>
                    </a:lnTo>
                    <a:lnTo>
                      <a:pt x="148" y="116"/>
                    </a:lnTo>
                    <a:lnTo>
                      <a:pt x="106" y="110"/>
                    </a:lnTo>
                    <a:lnTo>
                      <a:pt x="114" y="106"/>
                    </a:lnTo>
                    <a:lnTo>
                      <a:pt x="150" y="102"/>
                    </a:lnTo>
                    <a:lnTo>
                      <a:pt x="162" y="96"/>
                    </a:lnTo>
                    <a:lnTo>
                      <a:pt x="172" y="90"/>
                    </a:lnTo>
                    <a:lnTo>
                      <a:pt x="140" y="92"/>
                    </a:lnTo>
                    <a:lnTo>
                      <a:pt x="146" y="86"/>
                    </a:lnTo>
                    <a:lnTo>
                      <a:pt x="140" y="84"/>
                    </a:lnTo>
                    <a:lnTo>
                      <a:pt x="126" y="90"/>
                    </a:lnTo>
                    <a:lnTo>
                      <a:pt x="116" y="88"/>
                    </a:lnTo>
                    <a:lnTo>
                      <a:pt x="124" y="78"/>
                    </a:lnTo>
                    <a:lnTo>
                      <a:pt x="140" y="76"/>
                    </a:lnTo>
                    <a:lnTo>
                      <a:pt x="148" y="72"/>
                    </a:lnTo>
                    <a:lnTo>
                      <a:pt x="156" y="68"/>
                    </a:lnTo>
                    <a:lnTo>
                      <a:pt x="162" y="60"/>
                    </a:lnTo>
                    <a:lnTo>
                      <a:pt x="160" y="56"/>
                    </a:lnTo>
                    <a:lnTo>
                      <a:pt x="150" y="54"/>
                    </a:lnTo>
                    <a:lnTo>
                      <a:pt x="138" y="58"/>
                    </a:lnTo>
                    <a:lnTo>
                      <a:pt x="124" y="60"/>
                    </a:lnTo>
                    <a:lnTo>
                      <a:pt x="88" y="76"/>
                    </a:lnTo>
                    <a:lnTo>
                      <a:pt x="64" y="78"/>
                    </a:lnTo>
                    <a:lnTo>
                      <a:pt x="64" y="72"/>
                    </a:lnTo>
                    <a:lnTo>
                      <a:pt x="76" y="70"/>
                    </a:lnTo>
                    <a:lnTo>
                      <a:pt x="108" y="54"/>
                    </a:lnTo>
                    <a:lnTo>
                      <a:pt x="118" y="46"/>
                    </a:lnTo>
                    <a:lnTo>
                      <a:pt x="104" y="44"/>
                    </a:lnTo>
                    <a:lnTo>
                      <a:pt x="66" y="48"/>
                    </a:lnTo>
                    <a:lnTo>
                      <a:pt x="52" y="46"/>
                    </a:lnTo>
                    <a:lnTo>
                      <a:pt x="52" y="44"/>
                    </a:lnTo>
                    <a:lnTo>
                      <a:pt x="74" y="20"/>
                    </a:lnTo>
                    <a:lnTo>
                      <a:pt x="106" y="2"/>
                    </a:lnTo>
                    <a:lnTo>
                      <a:pt x="114" y="0"/>
                    </a:lnTo>
                    <a:lnTo>
                      <a:pt x="126" y="6"/>
                    </a:lnTo>
                    <a:lnTo>
                      <a:pt x="184" y="4"/>
                    </a:lnTo>
                    <a:lnTo>
                      <a:pt x="222" y="0"/>
                    </a:lnTo>
                    <a:lnTo>
                      <a:pt x="234" y="2"/>
                    </a:lnTo>
                    <a:lnTo>
                      <a:pt x="246" y="8"/>
                    </a:lnTo>
                    <a:lnTo>
                      <a:pt x="246" y="10"/>
                    </a:lnTo>
                    <a:lnTo>
                      <a:pt x="232" y="14"/>
                    </a:lnTo>
                    <a:lnTo>
                      <a:pt x="254" y="12"/>
                    </a:lnTo>
                    <a:lnTo>
                      <a:pt x="272" y="14"/>
                    </a:lnTo>
                    <a:lnTo>
                      <a:pt x="270" y="22"/>
                    </a:lnTo>
                    <a:lnTo>
                      <a:pt x="226" y="52"/>
                    </a:lnTo>
                    <a:lnTo>
                      <a:pt x="234" y="64"/>
                    </a:lnTo>
                    <a:lnTo>
                      <a:pt x="244" y="58"/>
                    </a:lnTo>
                    <a:lnTo>
                      <a:pt x="252" y="54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308" y="30"/>
                    </a:lnTo>
                    <a:lnTo>
                      <a:pt x="322" y="30"/>
                    </a:lnTo>
                    <a:lnTo>
                      <a:pt x="340" y="36"/>
                    </a:lnTo>
                    <a:lnTo>
                      <a:pt x="342" y="46"/>
                    </a:lnTo>
                    <a:lnTo>
                      <a:pt x="350" y="50"/>
                    </a:lnTo>
                    <a:lnTo>
                      <a:pt x="346" y="54"/>
                    </a:lnTo>
                    <a:lnTo>
                      <a:pt x="342" y="58"/>
                    </a:lnTo>
                    <a:lnTo>
                      <a:pt x="358" y="56"/>
                    </a:lnTo>
                    <a:lnTo>
                      <a:pt x="366" y="50"/>
                    </a:lnTo>
                    <a:lnTo>
                      <a:pt x="374" y="56"/>
                    </a:lnTo>
                    <a:lnTo>
                      <a:pt x="366" y="64"/>
                    </a:lnTo>
                    <a:lnTo>
                      <a:pt x="348" y="74"/>
                    </a:lnTo>
                    <a:lnTo>
                      <a:pt x="342" y="78"/>
                    </a:lnTo>
                    <a:lnTo>
                      <a:pt x="350" y="82"/>
                    </a:lnTo>
                    <a:lnTo>
                      <a:pt x="346" y="86"/>
                    </a:lnTo>
                    <a:lnTo>
                      <a:pt x="348" y="86"/>
                    </a:lnTo>
                    <a:lnTo>
                      <a:pt x="364" y="82"/>
                    </a:lnTo>
                    <a:lnTo>
                      <a:pt x="388" y="80"/>
                    </a:lnTo>
                    <a:lnTo>
                      <a:pt x="400" y="78"/>
                    </a:lnTo>
                    <a:lnTo>
                      <a:pt x="430" y="92"/>
                    </a:lnTo>
                    <a:lnTo>
                      <a:pt x="428" y="102"/>
                    </a:lnTo>
                    <a:lnTo>
                      <a:pt x="414" y="108"/>
                    </a:lnTo>
                    <a:lnTo>
                      <a:pt x="412" y="110"/>
                    </a:lnTo>
                    <a:lnTo>
                      <a:pt x="430" y="11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69920" y="2457000"/>
                <a:ext cx="20160" cy="648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58" y="2"/>
                    </a:moveTo>
                    <a:lnTo>
                      <a:pt x="78" y="0"/>
                    </a:lnTo>
                    <a:lnTo>
                      <a:pt x="114" y="22"/>
                    </a:lnTo>
                    <a:lnTo>
                      <a:pt x="114" y="30"/>
                    </a:lnTo>
                    <a:lnTo>
                      <a:pt x="86" y="26"/>
                    </a:lnTo>
                    <a:lnTo>
                      <a:pt x="64" y="28"/>
                    </a:lnTo>
                    <a:lnTo>
                      <a:pt x="48" y="32"/>
                    </a:lnTo>
                    <a:lnTo>
                      <a:pt x="16" y="30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4" y="4"/>
                    </a:lnTo>
                    <a:lnTo>
                      <a:pt x="36" y="0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14480" y="2458440"/>
                <a:ext cx="14760" cy="18720"/>
              </a:xfrm>
              <a:custGeom>
                <a:avLst/>
                <a:gdLst/>
                <a:ahLst/>
                <a:rect l="l" t="t" r="r" b="b"/>
                <a:pathLst>
                  <a:path w="86" h="108">
                    <a:moveTo>
                      <a:pt x="78" y="34"/>
                    </a:moveTo>
                    <a:lnTo>
                      <a:pt x="76" y="44"/>
                    </a:lnTo>
                    <a:lnTo>
                      <a:pt x="64" y="52"/>
                    </a:lnTo>
                    <a:lnTo>
                      <a:pt x="62" y="54"/>
                    </a:lnTo>
                    <a:lnTo>
                      <a:pt x="78" y="60"/>
                    </a:lnTo>
                    <a:lnTo>
                      <a:pt x="76" y="64"/>
                    </a:lnTo>
                    <a:lnTo>
                      <a:pt x="86" y="76"/>
                    </a:lnTo>
                    <a:lnTo>
                      <a:pt x="76" y="82"/>
                    </a:lnTo>
                    <a:lnTo>
                      <a:pt x="78" y="88"/>
                    </a:lnTo>
                    <a:lnTo>
                      <a:pt x="72" y="96"/>
                    </a:lnTo>
                    <a:lnTo>
                      <a:pt x="58" y="102"/>
                    </a:lnTo>
                    <a:lnTo>
                      <a:pt x="46" y="102"/>
                    </a:lnTo>
                    <a:lnTo>
                      <a:pt x="32" y="108"/>
                    </a:lnTo>
                    <a:lnTo>
                      <a:pt x="14" y="94"/>
                    </a:lnTo>
                    <a:lnTo>
                      <a:pt x="0" y="94"/>
                    </a:lnTo>
                    <a:lnTo>
                      <a:pt x="6" y="86"/>
                    </a:lnTo>
                    <a:lnTo>
                      <a:pt x="6" y="74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32" y="16"/>
                    </a:lnTo>
                    <a:lnTo>
                      <a:pt x="30" y="6"/>
                    </a:lnTo>
                    <a:lnTo>
                      <a:pt x="38" y="0"/>
                    </a:lnTo>
                    <a:lnTo>
                      <a:pt x="42" y="4"/>
                    </a:lnTo>
                    <a:lnTo>
                      <a:pt x="66" y="6"/>
                    </a:lnTo>
                    <a:lnTo>
                      <a:pt x="72" y="14"/>
                    </a:lnTo>
                    <a:lnTo>
                      <a:pt x="70" y="20"/>
                    </a:lnTo>
                    <a:lnTo>
                      <a:pt x="78" y="24"/>
                    </a:lnTo>
                    <a:lnTo>
                      <a:pt x="78" y="28"/>
                    </a:lnTo>
                    <a:lnTo>
                      <a:pt x="74" y="34"/>
                    </a:lnTo>
                    <a:lnTo>
                      <a:pt x="78" y="3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00440" y="248940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10" h="56">
                    <a:moveTo>
                      <a:pt x="70" y="10"/>
                    </a:moveTo>
                    <a:lnTo>
                      <a:pt x="74" y="12"/>
                    </a:lnTo>
                    <a:lnTo>
                      <a:pt x="84" y="8"/>
                    </a:lnTo>
                    <a:lnTo>
                      <a:pt x="96" y="18"/>
                    </a:lnTo>
                    <a:lnTo>
                      <a:pt x="90" y="26"/>
                    </a:lnTo>
                    <a:lnTo>
                      <a:pt x="104" y="32"/>
                    </a:lnTo>
                    <a:lnTo>
                      <a:pt x="110" y="46"/>
                    </a:lnTo>
                    <a:lnTo>
                      <a:pt x="92" y="54"/>
                    </a:lnTo>
                    <a:lnTo>
                      <a:pt x="48" y="56"/>
                    </a:lnTo>
                    <a:lnTo>
                      <a:pt x="0" y="50"/>
                    </a:lnTo>
                    <a:lnTo>
                      <a:pt x="0" y="36"/>
                    </a:lnTo>
                    <a:lnTo>
                      <a:pt x="10" y="32"/>
                    </a:lnTo>
                    <a:lnTo>
                      <a:pt x="26" y="20"/>
                    </a:lnTo>
                    <a:lnTo>
                      <a:pt x="12" y="24"/>
                    </a:lnTo>
                    <a:lnTo>
                      <a:pt x="10" y="24"/>
                    </a:lnTo>
                    <a:lnTo>
                      <a:pt x="16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32" y="4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80" y="8"/>
                    </a:lnTo>
                    <a:lnTo>
                      <a:pt x="70" y="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92520" y="2498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148" y="4"/>
                    </a:moveTo>
                    <a:lnTo>
                      <a:pt x="170" y="6"/>
                    </a:lnTo>
                    <a:lnTo>
                      <a:pt x="168" y="12"/>
                    </a:lnTo>
                    <a:lnTo>
                      <a:pt x="172" y="18"/>
                    </a:lnTo>
                    <a:lnTo>
                      <a:pt x="160" y="28"/>
                    </a:lnTo>
                    <a:lnTo>
                      <a:pt x="146" y="34"/>
                    </a:lnTo>
                    <a:lnTo>
                      <a:pt x="102" y="40"/>
                    </a:lnTo>
                    <a:lnTo>
                      <a:pt x="80" y="42"/>
                    </a:lnTo>
                    <a:lnTo>
                      <a:pt x="32" y="40"/>
                    </a:lnTo>
                    <a:lnTo>
                      <a:pt x="28" y="38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16" y="36"/>
                    </a:lnTo>
                    <a:lnTo>
                      <a:pt x="12" y="30"/>
                    </a:lnTo>
                    <a:lnTo>
                      <a:pt x="0" y="28"/>
                    </a:lnTo>
                    <a:lnTo>
                      <a:pt x="6" y="18"/>
                    </a:lnTo>
                    <a:lnTo>
                      <a:pt x="16" y="14"/>
                    </a:lnTo>
                    <a:lnTo>
                      <a:pt x="24" y="8"/>
                    </a:lnTo>
                    <a:lnTo>
                      <a:pt x="58" y="8"/>
                    </a:lnTo>
                    <a:lnTo>
                      <a:pt x="144" y="0"/>
                    </a:lnTo>
                    <a:lnTo>
                      <a:pt x="148" y="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93600" y="2505240"/>
                <a:ext cx="25560" cy="3600"/>
              </a:xfrm>
              <a:custGeom>
                <a:avLst/>
                <a:gdLst/>
                <a:ahLst/>
                <a:rect l="l" t="t" r="r" b="b"/>
                <a:pathLst>
                  <a:path w="152" h="22">
                    <a:moveTo>
                      <a:pt x="98" y="2"/>
                    </a:moveTo>
                    <a:lnTo>
                      <a:pt x="134" y="0"/>
                    </a:lnTo>
                    <a:lnTo>
                      <a:pt x="152" y="4"/>
                    </a:lnTo>
                    <a:lnTo>
                      <a:pt x="142" y="12"/>
                    </a:lnTo>
                    <a:lnTo>
                      <a:pt x="126" y="16"/>
                    </a:lnTo>
                    <a:lnTo>
                      <a:pt x="58" y="22"/>
                    </a:lnTo>
                    <a:lnTo>
                      <a:pt x="0" y="22"/>
                    </a:lnTo>
                    <a:lnTo>
                      <a:pt x="10" y="14"/>
                    </a:lnTo>
                    <a:lnTo>
                      <a:pt x="98" y="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96480" y="2508120"/>
                <a:ext cx="23040" cy="5040"/>
              </a:xfrm>
              <a:custGeom>
                <a:avLst/>
                <a:gdLst/>
                <a:ahLst/>
                <a:rect l="l" t="t" r="r" b="b"/>
                <a:pathLst>
                  <a:path w="132" h="34">
                    <a:moveTo>
                      <a:pt x="52" y="10"/>
                    </a:moveTo>
                    <a:lnTo>
                      <a:pt x="64" y="6"/>
                    </a:lnTo>
                    <a:lnTo>
                      <a:pt x="130" y="0"/>
                    </a:lnTo>
                    <a:lnTo>
                      <a:pt x="132" y="10"/>
                    </a:lnTo>
                    <a:lnTo>
                      <a:pt x="98" y="18"/>
                    </a:lnTo>
                    <a:lnTo>
                      <a:pt x="82" y="24"/>
                    </a:lnTo>
                    <a:lnTo>
                      <a:pt x="62" y="34"/>
                    </a:lnTo>
                    <a:lnTo>
                      <a:pt x="48" y="30"/>
                    </a:lnTo>
                    <a:lnTo>
                      <a:pt x="18" y="34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6" y="24"/>
                    </a:lnTo>
                    <a:lnTo>
                      <a:pt x="32" y="14"/>
                    </a:lnTo>
                    <a:lnTo>
                      <a:pt x="44" y="10"/>
                    </a:lnTo>
                    <a:lnTo>
                      <a:pt x="52" y="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57240" y="2521440"/>
                <a:ext cx="21600" cy="9360"/>
              </a:xfrm>
              <a:custGeom>
                <a:avLst/>
                <a:gdLst/>
                <a:ahLst/>
                <a:rect l="l" t="t" r="r" b="b"/>
                <a:pathLst>
                  <a:path w="122" h="60">
                    <a:moveTo>
                      <a:pt x="116" y="0"/>
                    </a:moveTo>
                    <a:lnTo>
                      <a:pt x="122" y="4"/>
                    </a:lnTo>
                    <a:lnTo>
                      <a:pt x="118" y="12"/>
                    </a:lnTo>
                    <a:lnTo>
                      <a:pt x="120" y="18"/>
                    </a:lnTo>
                    <a:lnTo>
                      <a:pt x="110" y="36"/>
                    </a:lnTo>
                    <a:lnTo>
                      <a:pt x="108" y="46"/>
                    </a:lnTo>
                    <a:lnTo>
                      <a:pt x="82" y="54"/>
                    </a:lnTo>
                    <a:lnTo>
                      <a:pt x="42" y="60"/>
                    </a:lnTo>
                    <a:lnTo>
                      <a:pt x="8" y="52"/>
                    </a:lnTo>
                    <a:lnTo>
                      <a:pt x="0" y="44"/>
                    </a:lnTo>
                    <a:lnTo>
                      <a:pt x="6" y="36"/>
                    </a:lnTo>
                    <a:lnTo>
                      <a:pt x="44" y="18"/>
                    </a:lnTo>
                    <a:lnTo>
                      <a:pt x="74" y="0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84440" y="2480040"/>
                <a:ext cx="184680" cy="57240"/>
              </a:xfrm>
              <a:custGeom>
                <a:avLst/>
                <a:gdLst/>
                <a:ahLst/>
                <a:rect l="l" t="t" r="r" b="b"/>
                <a:pathLst>
                  <a:path w="1068" h="336">
                    <a:moveTo>
                      <a:pt x="824" y="44"/>
                    </a:moveTo>
                    <a:lnTo>
                      <a:pt x="828" y="42"/>
                    </a:lnTo>
                    <a:lnTo>
                      <a:pt x="826" y="44"/>
                    </a:lnTo>
                    <a:lnTo>
                      <a:pt x="844" y="44"/>
                    </a:lnTo>
                    <a:lnTo>
                      <a:pt x="860" y="38"/>
                    </a:lnTo>
                    <a:lnTo>
                      <a:pt x="870" y="32"/>
                    </a:lnTo>
                    <a:lnTo>
                      <a:pt x="934" y="2"/>
                    </a:lnTo>
                    <a:lnTo>
                      <a:pt x="950" y="0"/>
                    </a:lnTo>
                    <a:lnTo>
                      <a:pt x="966" y="2"/>
                    </a:lnTo>
                    <a:lnTo>
                      <a:pt x="986" y="0"/>
                    </a:lnTo>
                    <a:lnTo>
                      <a:pt x="986" y="18"/>
                    </a:lnTo>
                    <a:lnTo>
                      <a:pt x="978" y="24"/>
                    </a:lnTo>
                    <a:lnTo>
                      <a:pt x="954" y="32"/>
                    </a:lnTo>
                    <a:lnTo>
                      <a:pt x="948" y="40"/>
                    </a:lnTo>
                    <a:lnTo>
                      <a:pt x="952" y="44"/>
                    </a:lnTo>
                    <a:lnTo>
                      <a:pt x="944" y="50"/>
                    </a:lnTo>
                    <a:lnTo>
                      <a:pt x="932" y="62"/>
                    </a:lnTo>
                    <a:lnTo>
                      <a:pt x="932" y="64"/>
                    </a:lnTo>
                    <a:lnTo>
                      <a:pt x="942" y="66"/>
                    </a:lnTo>
                    <a:lnTo>
                      <a:pt x="948" y="80"/>
                    </a:lnTo>
                    <a:lnTo>
                      <a:pt x="942" y="86"/>
                    </a:lnTo>
                    <a:lnTo>
                      <a:pt x="932" y="92"/>
                    </a:lnTo>
                    <a:lnTo>
                      <a:pt x="932" y="96"/>
                    </a:lnTo>
                    <a:lnTo>
                      <a:pt x="914" y="100"/>
                    </a:lnTo>
                    <a:lnTo>
                      <a:pt x="886" y="112"/>
                    </a:lnTo>
                    <a:lnTo>
                      <a:pt x="866" y="116"/>
                    </a:lnTo>
                    <a:lnTo>
                      <a:pt x="880" y="120"/>
                    </a:lnTo>
                    <a:lnTo>
                      <a:pt x="918" y="120"/>
                    </a:lnTo>
                    <a:lnTo>
                      <a:pt x="930" y="134"/>
                    </a:lnTo>
                    <a:lnTo>
                      <a:pt x="908" y="146"/>
                    </a:lnTo>
                    <a:lnTo>
                      <a:pt x="896" y="144"/>
                    </a:lnTo>
                    <a:lnTo>
                      <a:pt x="868" y="156"/>
                    </a:lnTo>
                    <a:lnTo>
                      <a:pt x="864" y="164"/>
                    </a:lnTo>
                    <a:lnTo>
                      <a:pt x="894" y="150"/>
                    </a:lnTo>
                    <a:lnTo>
                      <a:pt x="908" y="148"/>
                    </a:lnTo>
                    <a:lnTo>
                      <a:pt x="926" y="148"/>
                    </a:lnTo>
                    <a:lnTo>
                      <a:pt x="950" y="152"/>
                    </a:lnTo>
                    <a:lnTo>
                      <a:pt x="934" y="186"/>
                    </a:lnTo>
                    <a:lnTo>
                      <a:pt x="962" y="170"/>
                    </a:lnTo>
                    <a:lnTo>
                      <a:pt x="968" y="170"/>
                    </a:lnTo>
                    <a:lnTo>
                      <a:pt x="966" y="166"/>
                    </a:lnTo>
                    <a:lnTo>
                      <a:pt x="982" y="146"/>
                    </a:lnTo>
                    <a:lnTo>
                      <a:pt x="998" y="140"/>
                    </a:lnTo>
                    <a:lnTo>
                      <a:pt x="1014" y="132"/>
                    </a:lnTo>
                    <a:lnTo>
                      <a:pt x="1054" y="140"/>
                    </a:lnTo>
                    <a:lnTo>
                      <a:pt x="1068" y="158"/>
                    </a:lnTo>
                    <a:lnTo>
                      <a:pt x="1062" y="180"/>
                    </a:lnTo>
                    <a:lnTo>
                      <a:pt x="1052" y="190"/>
                    </a:lnTo>
                    <a:lnTo>
                      <a:pt x="1050" y="194"/>
                    </a:lnTo>
                    <a:lnTo>
                      <a:pt x="1038" y="204"/>
                    </a:lnTo>
                    <a:lnTo>
                      <a:pt x="1022" y="214"/>
                    </a:lnTo>
                    <a:lnTo>
                      <a:pt x="1000" y="220"/>
                    </a:lnTo>
                    <a:lnTo>
                      <a:pt x="958" y="250"/>
                    </a:lnTo>
                    <a:lnTo>
                      <a:pt x="942" y="256"/>
                    </a:lnTo>
                    <a:lnTo>
                      <a:pt x="912" y="276"/>
                    </a:lnTo>
                    <a:lnTo>
                      <a:pt x="886" y="288"/>
                    </a:lnTo>
                    <a:lnTo>
                      <a:pt x="860" y="286"/>
                    </a:lnTo>
                    <a:lnTo>
                      <a:pt x="844" y="288"/>
                    </a:lnTo>
                    <a:lnTo>
                      <a:pt x="818" y="298"/>
                    </a:lnTo>
                    <a:lnTo>
                      <a:pt x="776" y="298"/>
                    </a:lnTo>
                    <a:lnTo>
                      <a:pt x="760" y="292"/>
                    </a:lnTo>
                    <a:lnTo>
                      <a:pt x="754" y="286"/>
                    </a:lnTo>
                    <a:lnTo>
                      <a:pt x="752" y="280"/>
                    </a:lnTo>
                    <a:lnTo>
                      <a:pt x="764" y="270"/>
                    </a:lnTo>
                    <a:lnTo>
                      <a:pt x="708" y="288"/>
                    </a:lnTo>
                    <a:lnTo>
                      <a:pt x="684" y="286"/>
                    </a:lnTo>
                    <a:lnTo>
                      <a:pt x="660" y="282"/>
                    </a:lnTo>
                    <a:lnTo>
                      <a:pt x="682" y="276"/>
                    </a:lnTo>
                    <a:lnTo>
                      <a:pt x="680" y="266"/>
                    </a:lnTo>
                    <a:lnTo>
                      <a:pt x="688" y="260"/>
                    </a:lnTo>
                    <a:lnTo>
                      <a:pt x="672" y="262"/>
                    </a:lnTo>
                    <a:lnTo>
                      <a:pt x="658" y="270"/>
                    </a:lnTo>
                    <a:lnTo>
                      <a:pt x="636" y="276"/>
                    </a:lnTo>
                    <a:lnTo>
                      <a:pt x="616" y="278"/>
                    </a:lnTo>
                    <a:lnTo>
                      <a:pt x="588" y="286"/>
                    </a:lnTo>
                    <a:lnTo>
                      <a:pt x="546" y="288"/>
                    </a:lnTo>
                    <a:lnTo>
                      <a:pt x="530" y="286"/>
                    </a:lnTo>
                    <a:lnTo>
                      <a:pt x="476" y="294"/>
                    </a:lnTo>
                    <a:lnTo>
                      <a:pt x="470" y="302"/>
                    </a:lnTo>
                    <a:lnTo>
                      <a:pt x="458" y="308"/>
                    </a:lnTo>
                    <a:lnTo>
                      <a:pt x="442" y="310"/>
                    </a:lnTo>
                    <a:lnTo>
                      <a:pt x="438" y="312"/>
                    </a:lnTo>
                    <a:lnTo>
                      <a:pt x="402" y="318"/>
                    </a:lnTo>
                    <a:lnTo>
                      <a:pt x="388" y="318"/>
                    </a:lnTo>
                    <a:lnTo>
                      <a:pt x="382" y="322"/>
                    </a:lnTo>
                    <a:lnTo>
                      <a:pt x="358" y="322"/>
                    </a:lnTo>
                    <a:lnTo>
                      <a:pt x="338" y="328"/>
                    </a:lnTo>
                    <a:lnTo>
                      <a:pt x="286" y="334"/>
                    </a:lnTo>
                    <a:lnTo>
                      <a:pt x="250" y="336"/>
                    </a:lnTo>
                    <a:lnTo>
                      <a:pt x="186" y="328"/>
                    </a:lnTo>
                    <a:lnTo>
                      <a:pt x="158" y="310"/>
                    </a:lnTo>
                    <a:lnTo>
                      <a:pt x="150" y="296"/>
                    </a:lnTo>
                    <a:lnTo>
                      <a:pt x="148" y="286"/>
                    </a:lnTo>
                    <a:lnTo>
                      <a:pt x="152" y="282"/>
                    </a:lnTo>
                    <a:lnTo>
                      <a:pt x="170" y="274"/>
                    </a:lnTo>
                    <a:lnTo>
                      <a:pt x="192" y="268"/>
                    </a:lnTo>
                    <a:lnTo>
                      <a:pt x="204" y="268"/>
                    </a:lnTo>
                    <a:lnTo>
                      <a:pt x="230" y="264"/>
                    </a:lnTo>
                    <a:lnTo>
                      <a:pt x="250" y="264"/>
                    </a:lnTo>
                    <a:lnTo>
                      <a:pt x="254" y="268"/>
                    </a:lnTo>
                    <a:lnTo>
                      <a:pt x="264" y="268"/>
                    </a:lnTo>
                    <a:lnTo>
                      <a:pt x="280" y="264"/>
                    </a:lnTo>
                    <a:lnTo>
                      <a:pt x="288" y="258"/>
                    </a:lnTo>
                    <a:lnTo>
                      <a:pt x="318" y="246"/>
                    </a:lnTo>
                    <a:lnTo>
                      <a:pt x="396" y="248"/>
                    </a:lnTo>
                    <a:lnTo>
                      <a:pt x="412" y="252"/>
                    </a:lnTo>
                    <a:lnTo>
                      <a:pt x="406" y="260"/>
                    </a:lnTo>
                    <a:lnTo>
                      <a:pt x="422" y="260"/>
                    </a:lnTo>
                    <a:lnTo>
                      <a:pt x="446" y="250"/>
                    </a:lnTo>
                    <a:lnTo>
                      <a:pt x="466" y="246"/>
                    </a:lnTo>
                    <a:lnTo>
                      <a:pt x="486" y="238"/>
                    </a:lnTo>
                    <a:lnTo>
                      <a:pt x="512" y="232"/>
                    </a:lnTo>
                    <a:lnTo>
                      <a:pt x="528" y="224"/>
                    </a:lnTo>
                    <a:lnTo>
                      <a:pt x="534" y="218"/>
                    </a:lnTo>
                    <a:lnTo>
                      <a:pt x="518" y="216"/>
                    </a:lnTo>
                    <a:lnTo>
                      <a:pt x="482" y="230"/>
                    </a:lnTo>
                    <a:lnTo>
                      <a:pt x="466" y="228"/>
                    </a:lnTo>
                    <a:lnTo>
                      <a:pt x="402" y="230"/>
                    </a:lnTo>
                    <a:lnTo>
                      <a:pt x="406" y="222"/>
                    </a:lnTo>
                    <a:lnTo>
                      <a:pt x="420" y="214"/>
                    </a:lnTo>
                    <a:lnTo>
                      <a:pt x="390" y="220"/>
                    </a:lnTo>
                    <a:lnTo>
                      <a:pt x="400" y="210"/>
                    </a:lnTo>
                    <a:lnTo>
                      <a:pt x="396" y="208"/>
                    </a:lnTo>
                    <a:lnTo>
                      <a:pt x="376" y="222"/>
                    </a:lnTo>
                    <a:lnTo>
                      <a:pt x="352" y="230"/>
                    </a:lnTo>
                    <a:lnTo>
                      <a:pt x="334" y="230"/>
                    </a:lnTo>
                    <a:lnTo>
                      <a:pt x="338" y="222"/>
                    </a:lnTo>
                    <a:lnTo>
                      <a:pt x="314" y="230"/>
                    </a:lnTo>
                    <a:lnTo>
                      <a:pt x="290" y="232"/>
                    </a:lnTo>
                    <a:lnTo>
                      <a:pt x="256" y="236"/>
                    </a:lnTo>
                    <a:lnTo>
                      <a:pt x="258" y="228"/>
                    </a:lnTo>
                    <a:lnTo>
                      <a:pt x="264" y="222"/>
                    </a:lnTo>
                    <a:lnTo>
                      <a:pt x="298" y="212"/>
                    </a:lnTo>
                    <a:lnTo>
                      <a:pt x="292" y="212"/>
                    </a:lnTo>
                    <a:lnTo>
                      <a:pt x="302" y="202"/>
                    </a:lnTo>
                    <a:lnTo>
                      <a:pt x="320" y="188"/>
                    </a:lnTo>
                    <a:lnTo>
                      <a:pt x="348" y="184"/>
                    </a:lnTo>
                    <a:lnTo>
                      <a:pt x="370" y="178"/>
                    </a:lnTo>
                    <a:lnTo>
                      <a:pt x="360" y="178"/>
                    </a:lnTo>
                    <a:lnTo>
                      <a:pt x="340" y="182"/>
                    </a:lnTo>
                    <a:lnTo>
                      <a:pt x="316" y="176"/>
                    </a:lnTo>
                    <a:lnTo>
                      <a:pt x="272" y="204"/>
                    </a:lnTo>
                    <a:lnTo>
                      <a:pt x="260" y="204"/>
                    </a:lnTo>
                    <a:lnTo>
                      <a:pt x="266" y="192"/>
                    </a:lnTo>
                    <a:lnTo>
                      <a:pt x="256" y="188"/>
                    </a:lnTo>
                    <a:lnTo>
                      <a:pt x="240" y="200"/>
                    </a:lnTo>
                    <a:lnTo>
                      <a:pt x="242" y="210"/>
                    </a:lnTo>
                    <a:lnTo>
                      <a:pt x="224" y="222"/>
                    </a:lnTo>
                    <a:lnTo>
                      <a:pt x="214" y="224"/>
                    </a:lnTo>
                    <a:lnTo>
                      <a:pt x="174" y="236"/>
                    </a:lnTo>
                    <a:lnTo>
                      <a:pt x="158" y="232"/>
                    </a:lnTo>
                    <a:lnTo>
                      <a:pt x="166" y="220"/>
                    </a:lnTo>
                    <a:lnTo>
                      <a:pt x="180" y="206"/>
                    </a:lnTo>
                    <a:lnTo>
                      <a:pt x="152" y="212"/>
                    </a:lnTo>
                    <a:lnTo>
                      <a:pt x="138" y="210"/>
                    </a:lnTo>
                    <a:lnTo>
                      <a:pt x="126" y="222"/>
                    </a:lnTo>
                    <a:lnTo>
                      <a:pt x="112" y="232"/>
                    </a:lnTo>
                    <a:lnTo>
                      <a:pt x="96" y="228"/>
                    </a:lnTo>
                    <a:lnTo>
                      <a:pt x="80" y="214"/>
                    </a:lnTo>
                    <a:lnTo>
                      <a:pt x="96" y="206"/>
                    </a:lnTo>
                    <a:lnTo>
                      <a:pt x="90" y="202"/>
                    </a:lnTo>
                    <a:lnTo>
                      <a:pt x="102" y="192"/>
                    </a:lnTo>
                    <a:lnTo>
                      <a:pt x="80" y="194"/>
                    </a:lnTo>
                    <a:lnTo>
                      <a:pt x="58" y="202"/>
                    </a:lnTo>
                    <a:lnTo>
                      <a:pt x="18" y="194"/>
                    </a:lnTo>
                    <a:lnTo>
                      <a:pt x="4" y="186"/>
                    </a:lnTo>
                    <a:lnTo>
                      <a:pt x="0" y="174"/>
                    </a:lnTo>
                    <a:lnTo>
                      <a:pt x="10" y="170"/>
                    </a:lnTo>
                    <a:lnTo>
                      <a:pt x="46" y="154"/>
                    </a:lnTo>
                    <a:lnTo>
                      <a:pt x="74" y="144"/>
                    </a:lnTo>
                    <a:lnTo>
                      <a:pt x="116" y="146"/>
                    </a:lnTo>
                    <a:lnTo>
                      <a:pt x="166" y="152"/>
                    </a:lnTo>
                    <a:lnTo>
                      <a:pt x="178" y="152"/>
                    </a:lnTo>
                    <a:lnTo>
                      <a:pt x="208" y="142"/>
                    </a:lnTo>
                    <a:lnTo>
                      <a:pt x="256" y="136"/>
                    </a:lnTo>
                    <a:lnTo>
                      <a:pt x="284" y="124"/>
                    </a:lnTo>
                    <a:lnTo>
                      <a:pt x="248" y="132"/>
                    </a:lnTo>
                    <a:lnTo>
                      <a:pt x="214" y="132"/>
                    </a:lnTo>
                    <a:lnTo>
                      <a:pt x="184" y="138"/>
                    </a:lnTo>
                    <a:lnTo>
                      <a:pt x="140" y="140"/>
                    </a:lnTo>
                    <a:lnTo>
                      <a:pt x="88" y="132"/>
                    </a:lnTo>
                    <a:lnTo>
                      <a:pt x="108" y="118"/>
                    </a:lnTo>
                    <a:lnTo>
                      <a:pt x="144" y="102"/>
                    </a:lnTo>
                    <a:lnTo>
                      <a:pt x="210" y="106"/>
                    </a:lnTo>
                    <a:lnTo>
                      <a:pt x="256" y="102"/>
                    </a:lnTo>
                    <a:lnTo>
                      <a:pt x="316" y="104"/>
                    </a:lnTo>
                    <a:lnTo>
                      <a:pt x="348" y="96"/>
                    </a:lnTo>
                    <a:lnTo>
                      <a:pt x="308" y="100"/>
                    </a:lnTo>
                    <a:lnTo>
                      <a:pt x="188" y="96"/>
                    </a:lnTo>
                    <a:lnTo>
                      <a:pt x="182" y="90"/>
                    </a:lnTo>
                    <a:lnTo>
                      <a:pt x="194" y="82"/>
                    </a:lnTo>
                    <a:lnTo>
                      <a:pt x="210" y="74"/>
                    </a:lnTo>
                    <a:lnTo>
                      <a:pt x="224" y="74"/>
                    </a:lnTo>
                    <a:lnTo>
                      <a:pt x="226" y="68"/>
                    </a:lnTo>
                    <a:lnTo>
                      <a:pt x="222" y="62"/>
                    </a:lnTo>
                    <a:lnTo>
                      <a:pt x="256" y="50"/>
                    </a:lnTo>
                    <a:lnTo>
                      <a:pt x="284" y="46"/>
                    </a:lnTo>
                    <a:lnTo>
                      <a:pt x="318" y="52"/>
                    </a:lnTo>
                    <a:lnTo>
                      <a:pt x="342" y="52"/>
                    </a:lnTo>
                    <a:lnTo>
                      <a:pt x="388" y="62"/>
                    </a:lnTo>
                    <a:lnTo>
                      <a:pt x="400" y="60"/>
                    </a:lnTo>
                    <a:lnTo>
                      <a:pt x="386" y="58"/>
                    </a:lnTo>
                    <a:lnTo>
                      <a:pt x="384" y="50"/>
                    </a:lnTo>
                    <a:lnTo>
                      <a:pt x="326" y="42"/>
                    </a:lnTo>
                    <a:lnTo>
                      <a:pt x="324" y="34"/>
                    </a:lnTo>
                    <a:lnTo>
                      <a:pt x="356" y="18"/>
                    </a:lnTo>
                    <a:lnTo>
                      <a:pt x="386" y="12"/>
                    </a:lnTo>
                    <a:lnTo>
                      <a:pt x="420" y="14"/>
                    </a:lnTo>
                    <a:lnTo>
                      <a:pt x="442" y="10"/>
                    </a:lnTo>
                    <a:lnTo>
                      <a:pt x="468" y="12"/>
                    </a:lnTo>
                    <a:lnTo>
                      <a:pt x="484" y="16"/>
                    </a:lnTo>
                    <a:lnTo>
                      <a:pt x="488" y="26"/>
                    </a:lnTo>
                    <a:lnTo>
                      <a:pt x="472" y="38"/>
                    </a:lnTo>
                    <a:lnTo>
                      <a:pt x="462" y="42"/>
                    </a:lnTo>
                    <a:lnTo>
                      <a:pt x="450" y="58"/>
                    </a:lnTo>
                    <a:lnTo>
                      <a:pt x="488" y="62"/>
                    </a:lnTo>
                    <a:lnTo>
                      <a:pt x="518" y="56"/>
                    </a:lnTo>
                    <a:lnTo>
                      <a:pt x="552" y="58"/>
                    </a:lnTo>
                    <a:lnTo>
                      <a:pt x="544" y="68"/>
                    </a:lnTo>
                    <a:lnTo>
                      <a:pt x="572" y="72"/>
                    </a:lnTo>
                    <a:lnTo>
                      <a:pt x="560" y="90"/>
                    </a:lnTo>
                    <a:lnTo>
                      <a:pt x="566" y="106"/>
                    </a:lnTo>
                    <a:lnTo>
                      <a:pt x="580" y="108"/>
                    </a:lnTo>
                    <a:lnTo>
                      <a:pt x="584" y="114"/>
                    </a:lnTo>
                    <a:lnTo>
                      <a:pt x="546" y="122"/>
                    </a:lnTo>
                    <a:lnTo>
                      <a:pt x="534" y="128"/>
                    </a:lnTo>
                    <a:lnTo>
                      <a:pt x="548" y="132"/>
                    </a:lnTo>
                    <a:lnTo>
                      <a:pt x="590" y="128"/>
                    </a:lnTo>
                    <a:lnTo>
                      <a:pt x="588" y="132"/>
                    </a:lnTo>
                    <a:lnTo>
                      <a:pt x="588" y="136"/>
                    </a:lnTo>
                    <a:lnTo>
                      <a:pt x="582" y="144"/>
                    </a:lnTo>
                    <a:lnTo>
                      <a:pt x="566" y="148"/>
                    </a:lnTo>
                    <a:lnTo>
                      <a:pt x="574" y="148"/>
                    </a:lnTo>
                    <a:lnTo>
                      <a:pt x="568" y="160"/>
                    </a:lnTo>
                    <a:lnTo>
                      <a:pt x="554" y="170"/>
                    </a:lnTo>
                    <a:lnTo>
                      <a:pt x="556" y="178"/>
                    </a:lnTo>
                    <a:lnTo>
                      <a:pt x="568" y="180"/>
                    </a:lnTo>
                    <a:lnTo>
                      <a:pt x="580" y="180"/>
                    </a:lnTo>
                    <a:lnTo>
                      <a:pt x="590" y="176"/>
                    </a:lnTo>
                    <a:lnTo>
                      <a:pt x="598" y="178"/>
                    </a:lnTo>
                    <a:lnTo>
                      <a:pt x="626" y="178"/>
                    </a:lnTo>
                    <a:lnTo>
                      <a:pt x="628" y="184"/>
                    </a:lnTo>
                    <a:lnTo>
                      <a:pt x="658" y="184"/>
                    </a:lnTo>
                    <a:lnTo>
                      <a:pt x="724" y="196"/>
                    </a:lnTo>
                    <a:lnTo>
                      <a:pt x="740" y="196"/>
                    </a:lnTo>
                    <a:lnTo>
                      <a:pt x="758" y="184"/>
                    </a:lnTo>
                    <a:lnTo>
                      <a:pt x="776" y="170"/>
                    </a:lnTo>
                    <a:lnTo>
                      <a:pt x="768" y="158"/>
                    </a:lnTo>
                    <a:lnTo>
                      <a:pt x="768" y="148"/>
                    </a:lnTo>
                    <a:lnTo>
                      <a:pt x="748" y="148"/>
                    </a:lnTo>
                    <a:lnTo>
                      <a:pt x="744" y="144"/>
                    </a:lnTo>
                    <a:lnTo>
                      <a:pt x="748" y="136"/>
                    </a:lnTo>
                    <a:lnTo>
                      <a:pt x="728" y="140"/>
                    </a:lnTo>
                    <a:lnTo>
                      <a:pt x="728" y="134"/>
                    </a:lnTo>
                    <a:lnTo>
                      <a:pt x="772" y="126"/>
                    </a:lnTo>
                    <a:lnTo>
                      <a:pt x="784" y="120"/>
                    </a:lnTo>
                    <a:lnTo>
                      <a:pt x="802" y="120"/>
                    </a:lnTo>
                    <a:lnTo>
                      <a:pt x="816" y="100"/>
                    </a:lnTo>
                    <a:lnTo>
                      <a:pt x="814" y="92"/>
                    </a:lnTo>
                    <a:lnTo>
                      <a:pt x="804" y="90"/>
                    </a:lnTo>
                    <a:lnTo>
                      <a:pt x="804" y="84"/>
                    </a:lnTo>
                    <a:lnTo>
                      <a:pt x="786" y="80"/>
                    </a:lnTo>
                    <a:lnTo>
                      <a:pt x="772" y="66"/>
                    </a:lnTo>
                    <a:lnTo>
                      <a:pt x="776" y="60"/>
                    </a:lnTo>
                    <a:lnTo>
                      <a:pt x="784" y="54"/>
                    </a:lnTo>
                    <a:lnTo>
                      <a:pt x="784" y="48"/>
                    </a:lnTo>
                    <a:lnTo>
                      <a:pt x="808" y="48"/>
                    </a:lnTo>
                    <a:lnTo>
                      <a:pt x="824" y="4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573640" y="2487960"/>
                <a:ext cx="39240" cy="13320"/>
              </a:xfrm>
              <a:custGeom>
                <a:avLst/>
                <a:gdLst/>
                <a:ahLst/>
                <a:rect l="l" t="t" r="r" b="b"/>
                <a:pathLst>
                  <a:path w="228" h="82">
                    <a:moveTo>
                      <a:pt x="180" y="8"/>
                    </a:moveTo>
                    <a:lnTo>
                      <a:pt x="162" y="12"/>
                    </a:lnTo>
                    <a:lnTo>
                      <a:pt x="168" y="10"/>
                    </a:lnTo>
                    <a:lnTo>
                      <a:pt x="180" y="8"/>
                    </a:lnTo>
                    <a:lnTo>
                      <a:pt x="198" y="2"/>
                    </a:lnTo>
                    <a:lnTo>
                      <a:pt x="218" y="0"/>
                    </a:lnTo>
                    <a:lnTo>
                      <a:pt x="228" y="2"/>
                    </a:lnTo>
                    <a:lnTo>
                      <a:pt x="214" y="12"/>
                    </a:lnTo>
                    <a:lnTo>
                      <a:pt x="162" y="36"/>
                    </a:lnTo>
                    <a:lnTo>
                      <a:pt x="154" y="40"/>
                    </a:lnTo>
                    <a:lnTo>
                      <a:pt x="140" y="46"/>
                    </a:lnTo>
                    <a:lnTo>
                      <a:pt x="118" y="58"/>
                    </a:lnTo>
                    <a:lnTo>
                      <a:pt x="84" y="72"/>
                    </a:lnTo>
                    <a:lnTo>
                      <a:pt x="48" y="82"/>
                    </a:lnTo>
                    <a:lnTo>
                      <a:pt x="22" y="82"/>
                    </a:lnTo>
                    <a:lnTo>
                      <a:pt x="22" y="74"/>
                    </a:lnTo>
                    <a:lnTo>
                      <a:pt x="0" y="64"/>
                    </a:lnTo>
                    <a:lnTo>
                      <a:pt x="8" y="52"/>
                    </a:lnTo>
                    <a:lnTo>
                      <a:pt x="20" y="46"/>
                    </a:lnTo>
                    <a:lnTo>
                      <a:pt x="52" y="40"/>
                    </a:lnTo>
                    <a:lnTo>
                      <a:pt x="124" y="18"/>
                    </a:lnTo>
                    <a:lnTo>
                      <a:pt x="150" y="16"/>
                    </a:lnTo>
                    <a:lnTo>
                      <a:pt x="164" y="10"/>
                    </a:lnTo>
                    <a:lnTo>
                      <a:pt x="180" y="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539800" y="2453400"/>
                <a:ext cx="138600" cy="38520"/>
              </a:xfrm>
              <a:custGeom>
                <a:avLst/>
                <a:gdLst/>
                <a:ahLst/>
                <a:rect l="l" t="t" r="r" b="b"/>
                <a:pathLst>
                  <a:path w="796" h="226">
                    <a:moveTo>
                      <a:pt x="394" y="56"/>
                    </a:moveTo>
                    <a:lnTo>
                      <a:pt x="396" y="56"/>
                    </a:lnTo>
                    <a:lnTo>
                      <a:pt x="408" y="52"/>
                    </a:lnTo>
                    <a:lnTo>
                      <a:pt x="422" y="50"/>
                    </a:lnTo>
                    <a:lnTo>
                      <a:pt x="438" y="42"/>
                    </a:lnTo>
                    <a:lnTo>
                      <a:pt x="454" y="38"/>
                    </a:lnTo>
                    <a:lnTo>
                      <a:pt x="466" y="38"/>
                    </a:lnTo>
                    <a:lnTo>
                      <a:pt x="476" y="34"/>
                    </a:lnTo>
                    <a:lnTo>
                      <a:pt x="502" y="26"/>
                    </a:lnTo>
                    <a:lnTo>
                      <a:pt x="514" y="18"/>
                    </a:lnTo>
                    <a:lnTo>
                      <a:pt x="548" y="18"/>
                    </a:lnTo>
                    <a:lnTo>
                      <a:pt x="560" y="14"/>
                    </a:lnTo>
                    <a:lnTo>
                      <a:pt x="570" y="16"/>
                    </a:lnTo>
                    <a:lnTo>
                      <a:pt x="572" y="20"/>
                    </a:lnTo>
                    <a:lnTo>
                      <a:pt x="582" y="18"/>
                    </a:lnTo>
                    <a:lnTo>
                      <a:pt x="602" y="20"/>
                    </a:lnTo>
                    <a:lnTo>
                      <a:pt x="612" y="16"/>
                    </a:lnTo>
                    <a:lnTo>
                      <a:pt x="624" y="16"/>
                    </a:lnTo>
                    <a:lnTo>
                      <a:pt x="610" y="26"/>
                    </a:lnTo>
                    <a:lnTo>
                      <a:pt x="602" y="36"/>
                    </a:lnTo>
                    <a:lnTo>
                      <a:pt x="612" y="34"/>
                    </a:lnTo>
                    <a:lnTo>
                      <a:pt x="618" y="24"/>
                    </a:lnTo>
                    <a:lnTo>
                      <a:pt x="632" y="20"/>
                    </a:lnTo>
                    <a:lnTo>
                      <a:pt x="636" y="28"/>
                    </a:lnTo>
                    <a:lnTo>
                      <a:pt x="648" y="32"/>
                    </a:lnTo>
                    <a:lnTo>
                      <a:pt x="660" y="34"/>
                    </a:lnTo>
                    <a:lnTo>
                      <a:pt x="664" y="28"/>
                    </a:lnTo>
                    <a:lnTo>
                      <a:pt x="682" y="32"/>
                    </a:lnTo>
                    <a:lnTo>
                      <a:pt x="706" y="26"/>
                    </a:lnTo>
                    <a:lnTo>
                      <a:pt x="710" y="22"/>
                    </a:lnTo>
                    <a:lnTo>
                      <a:pt x="698" y="24"/>
                    </a:lnTo>
                    <a:lnTo>
                      <a:pt x="692" y="18"/>
                    </a:lnTo>
                    <a:lnTo>
                      <a:pt x="694" y="10"/>
                    </a:lnTo>
                    <a:lnTo>
                      <a:pt x="712" y="8"/>
                    </a:lnTo>
                    <a:lnTo>
                      <a:pt x="728" y="2"/>
                    </a:lnTo>
                    <a:lnTo>
                      <a:pt x="760" y="0"/>
                    </a:lnTo>
                    <a:lnTo>
                      <a:pt x="776" y="14"/>
                    </a:lnTo>
                    <a:lnTo>
                      <a:pt x="774" y="16"/>
                    </a:lnTo>
                    <a:lnTo>
                      <a:pt x="786" y="26"/>
                    </a:lnTo>
                    <a:lnTo>
                      <a:pt x="796" y="40"/>
                    </a:lnTo>
                    <a:lnTo>
                      <a:pt x="790" y="46"/>
                    </a:lnTo>
                    <a:lnTo>
                      <a:pt x="782" y="48"/>
                    </a:lnTo>
                    <a:lnTo>
                      <a:pt x="760" y="50"/>
                    </a:lnTo>
                    <a:lnTo>
                      <a:pt x="750" y="54"/>
                    </a:lnTo>
                    <a:lnTo>
                      <a:pt x="710" y="54"/>
                    </a:lnTo>
                    <a:lnTo>
                      <a:pt x="694" y="58"/>
                    </a:lnTo>
                    <a:lnTo>
                      <a:pt x="686" y="64"/>
                    </a:lnTo>
                    <a:lnTo>
                      <a:pt x="684" y="70"/>
                    </a:lnTo>
                    <a:lnTo>
                      <a:pt x="694" y="92"/>
                    </a:lnTo>
                    <a:lnTo>
                      <a:pt x="686" y="98"/>
                    </a:lnTo>
                    <a:lnTo>
                      <a:pt x="674" y="98"/>
                    </a:lnTo>
                    <a:lnTo>
                      <a:pt x="670" y="92"/>
                    </a:lnTo>
                    <a:lnTo>
                      <a:pt x="652" y="96"/>
                    </a:lnTo>
                    <a:lnTo>
                      <a:pt x="644" y="104"/>
                    </a:lnTo>
                    <a:lnTo>
                      <a:pt x="656" y="106"/>
                    </a:lnTo>
                    <a:lnTo>
                      <a:pt x="650" y="112"/>
                    </a:lnTo>
                    <a:lnTo>
                      <a:pt x="652" y="116"/>
                    </a:lnTo>
                    <a:lnTo>
                      <a:pt x="642" y="128"/>
                    </a:lnTo>
                    <a:lnTo>
                      <a:pt x="622" y="136"/>
                    </a:lnTo>
                    <a:lnTo>
                      <a:pt x="588" y="142"/>
                    </a:lnTo>
                    <a:lnTo>
                      <a:pt x="550" y="140"/>
                    </a:lnTo>
                    <a:lnTo>
                      <a:pt x="536" y="144"/>
                    </a:lnTo>
                    <a:lnTo>
                      <a:pt x="520" y="152"/>
                    </a:lnTo>
                    <a:lnTo>
                      <a:pt x="500" y="170"/>
                    </a:lnTo>
                    <a:lnTo>
                      <a:pt x="482" y="180"/>
                    </a:lnTo>
                    <a:lnTo>
                      <a:pt x="458" y="182"/>
                    </a:lnTo>
                    <a:lnTo>
                      <a:pt x="444" y="178"/>
                    </a:lnTo>
                    <a:lnTo>
                      <a:pt x="442" y="152"/>
                    </a:lnTo>
                    <a:lnTo>
                      <a:pt x="456" y="142"/>
                    </a:lnTo>
                    <a:lnTo>
                      <a:pt x="472" y="132"/>
                    </a:lnTo>
                    <a:lnTo>
                      <a:pt x="486" y="122"/>
                    </a:lnTo>
                    <a:lnTo>
                      <a:pt x="516" y="108"/>
                    </a:lnTo>
                    <a:lnTo>
                      <a:pt x="528" y="100"/>
                    </a:lnTo>
                    <a:lnTo>
                      <a:pt x="518" y="98"/>
                    </a:lnTo>
                    <a:lnTo>
                      <a:pt x="498" y="104"/>
                    </a:lnTo>
                    <a:lnTo>
                      <a:pt x="480" y="100"/>
                    </a:lnTo>
                    <a:lnTo>
                      <a:pt x="468" y="106"/>
                    </a:lnTo>
                    <a:lnTo>
                      <a:pt x="464" y="110"/>
                    </a:lnTo>
                    <a:lnTo>
                      <a:pt x="448" y="114"/>
                    </a:lnTo>
                    <a:lnTo>
                      <a:pt x="452" y="118"/>
                    </a:lnTo>
                    <a:lnTo>
                      <a:pt x="434" y="134"/>
                    </a:lnTo>
                    <a:lnTo>
                      <a:pt x="410" y="140"/>
                    </a:lnTo>
                    <a:lnTo>
                      <a:pt x="408" y="130"/>
                    </a:lnTo>
                    <a:lnTo>
                      <a:pt x="398" y="128"/>
                    </a:lnTo>
                    <a:lnTo>
                      <a:pt x="392" y="132"/>
                    </a:lnTo>
                    <a:lnTo>
                      <a:pt x="378" y="138"/>
                    </a:lnTo>
                    <a:lnTo>
                      <a:pt x="380" y="142"/>
                    </a:lnTo>
                    <a:lnTo>
                      <a:pt x="390" y="146"/>
                    </a:lnTo>
                    <a:lnTo>
                      <a:pt x="380" y="162"/>
                    </a:lnTo>
                    <a:lnTo>
                      <a:pt x="366" y="168"/>
                    </a:lnTo>
                    <a:lnTo>
                      <a:pt x="340" y="172"/>
                    </a:lnTo>
                    <a:lnTo>
                      <a:pt x="318" y="186"/>
                    </a:lnTo>
                    <a:lnTo>
                      <a:pt x="306" y="192"/>
                    </a:lnTo>
                    <a:lnTo>
                      <a:pt x="304" y="190"/>
                    </a:lnTo>
                    <a:lnTo>
                      <a:pt x="292" y="192"/>
                    </a:lnTo>
                    <a:lnTo>
                      <a:pt x="298" y="178"/>
                    </a:lnTo>
                    <a:lnTo>
                      <a:pt x="302" y="166"/>
                    </a:lnTo>
                    <a:lnTo>
                      <a:pt x="314" y="154"/>
                    </a:lnTo>
                    <a:lnTo>
                      <a:pt x="302" y="158"/>
                    </a:lnTo>
                    <a:lnTo>
                      <a:pt x="296" y="154"/>
                    </a:lnTo>
                    <a:lnTo>
                      <a:pt x="286" y="160"/>
                    </a:lnTo>
                    <a:lnTo>
                      <a:pt x="274" y="170"/>
                    </a:lnTo>
                    <a:lnTo>
                      <a:pt x="274" y="176"/>
                    </a:lnTo>
                    <a:lnTo>
                      <a:pt x="258" y="182"/>
                    </a:lnTo>
                    <a:lnTo>
                      <a:pt x="266" y="184"/>
                    </a:lnTo>
                    <a:lnTo>
                      <a:pt x="234" y="188"/>
                    </a:lnTo>
                    <a:lnTo>
                      <a:pt x="244" y="194"/>
                    </a:lnTo>
                    <a:lnTo>
                      <a:pt x="240" y="204"/>
                    </a:lnTo>
                    <a:lnTo>
                      <a:pt x="236" y="210"/>
                    </a:lnTo>
                    <a:lnTo>
                      <a:pt x="226" y="208"/>
                    </a:lnTo>
                    <a:lnTo>
                      <a:pt x="206" y="220"/>
                    </a:lnTo>
                    <a:lnTo>
                      <a:pt x="190" y="222"/>
                    </a:lnTo>
                    <a:lnTo>
                      <a:pt x="178" y="220"/>
                    </a:lnTo>
                    <a:lnTo>
                      <a:pt x="176" y="210"/>
                    </a:lnTo>
                    <a:lnTo>
                      <a:pt x="160" y="220"/>
                    </a:lnTo>
                    <a:lnTo>
                      <a:pt x="146" y="226"/>
                    </a:lnTo>
                    <a:lnTo>
                      <a:pt x="150" y="214"/>
                    </a:lnTo>
                    <a:lnTo>
                      <a:pt x="170" y="198"/>
                    </a:lnTo>
                    <a:lnTo>
                      <a:pt x="160" y="196"/>
                    </a:lnTo>
                    <a:lnTo>
                      <a:pt x="162" y="184"/>
                    </a:lnTo>
                    <a:lnTo>
                      <a:pt x="178" y="178"/>
                    </a:lnTo>
                    <a:lnTo>
                      <a:pt x="184" y="170"/>
                    </a:lnTo>
                    <a:lnTo>
                      <a:pt x="188" y="164"/>
                    </a:lnTo>
                    <a:lnTo>
                      <a:pt x="164" y="170"/>
                    </a:lnTo>
                    <a:lnTo>
                      <a:pt x="144" y="182"/>
                    </a:lnTo>
                    <a:lnTo>
                      <a:pt x="136" y="188"/>
                    </a:lnTo>
                    <a:lnTo>
                      <a:pt x="102" y="202"/>
                    </a:lnTo>
                    <a:lnTo>
                      <a:pt x="100" y="194"/>
                    </a:lnTo>
                    <a:lnTo>
                      <a:pt x="74" y="182"/>
                    </a:lnTo>
                    <a:lnTo>
                      <a:pt x="78" y="178"/>
                    </a:lnTo>
                    <a:lnTo>
                      <a:pt x="88" y="174"/>
                    </a:lnTo>
                    <a:lnTo>
                      <a:pt x="98" y="166"/>
                    </a:lnTo>
                    <a:lnTo>
                      <a:pt x="68" y="180"/>
                    </a:lnTo>
                    <a:lnTo>
                      <a:pt x="54" y="182"/>
                    </a:lnTo>
                    <a:lnTo>
                      <a:pt x="30" y="192"/>
                    </a:lnTo>
                    <a:lnTo>
                      <a:pt x="4" y="194"/>
                    </a:lnTo>
                    <a:lnTo>
                      <a:pt x="0" y="186"/>
                    </a:lnTo>
                    <a:lnTo>
                      <a:pt x="6" y="182"/>
                    </a:lnTo>
                    <a:lnTo>
                      <a:pt x="52" y="162"/>
                    </a:lnTo>
                    <a:lnTo>
                      <a:pt x="44" y="158"/>
                    </a:lnTo>
                    <a:lnTo>
                      <a:pt x="8" y="166"/>
                    </a:lnTo>
                    <a:lnTo>
                      <a:pt x="22" y="154"/>
                    </a:lnTo>
                    <a:lnTo>
                      <a:pt x="38" y="148"/>
                    </a:lnTo>
                    <a:lnTo>
                      <a:pt x="58" y="144"/>
                    </a:lnTo>
                    <a:lnTo>
                      <a:pt x="80" y="130"/>
                    </a:lnTo>
                    <a:lnTo>
                      <a:pt x="100" y="128"/>
                    </a:lnTo>
                    <a:lnTo>
                      <a:pt x="110" y="124"/>
                    </a:lnTo>
                    <a:lnTo>
                      <a:pt x="128" y="122"/>
                    </a:lnTo>
                    <a:lnTo>
                      <a:pt x="140" y="122"/>
                    </a:lnTo>
                    <a:lnTo>
                      <a:pt x="150" y="128"/>
                    </a:lnTo>
                    <a:lnTo>
                      <a:pt x="160" y="126"/>
                    </a:lnTo>
                    <a:lnTo>
                      <a:pt x="168" y="128"/>
                    </a:lnTo>
                    <a:lnTo>
                      <a:pt x="210" y="110"/>
                    </a:lnTo>
                    <a:lnTo>
                      <a:pt x="228" y="106"/>
                    </a:lnTo>
                    <a:lnTo>
                      <a:pt x="234" y="102"/>
                    </a:lnTo>
                    <a:lnTo>
                      <a:pt x="246" y="92"/>
                    </a:lnTo>
                    <a:lnTo>
                      <a:pt x="246" y="98"/>
                    </a:lnTo>
                    <a:lnTo>
                      <a:pt x="256" y="98"/>
                    </a:lnTo>
                    <a:lnTo>
                      <a:pt x="276" y="94"/>
                    </a:lnTo>
                    <a:lnTo>
                      <a:pt x="288" y="90"/>
                    </a:lnTo>
                    <a:lnTo>
                      <a:pt x="298" y="90"/>
                    </a:lnTo>
                    <a:lnTo>
                      <a:pt x="332" y="80"/>
                    </a:lnTo>
                    <a:lnTo>
                      <a:pt x="354" y="78"/>
                    </a:lnTo>
                    <a:lnTo>
                      <a:pt x="344" y="76"/>
                    </a:lnTo>
                    <a:lnTo>
                      <a:pt x="374" y="64"/>
                    </a:lnTo>
                    <a:lnTo>
                      <a:pt x="384" y="58"/>
                    </a:lnTo>
                    <a:lnTo>
                      <a:pt x="394" y="5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671560" y="247212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100" h="26">
                    <a:moveTo>
                      <a:pt x="76" y="0"/>
                    </a:moveTo>
                    <a:lnTo>
                      <a:pt x="90" y="2"/>
                    </a:lnTo>
                    <a:lnTo>
                      <a:pt x="100" y="16"/>
                    </a:lnTo>
                    <a:lnTo>
                      <a:pt x="94" y="20"/>
                    </a:lnTo>
                    <a:lnTo>
                      <a:pt x="82" y="26"/>
                    </a:lnTo>
                    <a:lnTo>
                      <a:pt x="44" y="26"/>
                    </a:lnTo>
                    <a:lnTo>
                      <a:pt x="4" y="18"/>
                    </a:lnTo>
                    <a:lnTo>
                      <a:pt x="0" y="8"/>
                    </a:lnTo>
                    <a:lnTo>
                      <a:pt x="10" y="2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15120" y="2446560"/>
                <a:ext cx="63720" cy="16920"/>
              </a:xfrm>
              <a:custGeom>
                <a:avLst/>
                <a:gdLst/>
                <a:ahLst/>
                <a:rect l="l" t="t" r="r" b="b"/>
                <a:pathLst>
                  <a:path w="366" h="102">
                    <a:moveTo>
                      <a:pt x="190" y="0"/>
                    </a:moveTo>
                    <a:lnTo>
                      <a:pt x="198" y="4"/>
                    </a:lnTo>
                    <a:lnTo>
                      <a:pt x="200" y="2"/>
                    </a:lnTo>
                    <a:lnTo>
                      <a:pt x="220" y="0"/>
                    </a:lnTo>
                    <a:lnTo>
                      <a:pt x="268" y="0"/>
                    </a:lnTo>
                    <a:lnTo>
                      <a:pt x="266" y="4"/>
                    </a:lnTo>
                    <a:lnTo>
                      <a:pt x="276" y="6"/>
                    </a:lnTo>
                    <a:lnTo>
                      <a:pt x="296" y="0"/>
                    </a:lnTo>
                    <a:lnTo>
                      <a:pt x="336" y="0"/>
                    </a:lnTo>
                    <a:lnTo>
                      <a:pt x="366" y="8"/>
                    </a:lnTo>
                    <a:lnTo>
                      <a:pt x="362" y="14"/>
                    </a:lnTo>
                    <a:lnTo>
                      <a:pt x="348" y="24"/>
                    </a:lnTo>
                    <a:lnTo>
                      <a:pt x="332" y="28"/>
                    </a:lnTo>
                    <a:lnTo>
                      <a:pt x="262" y="32"/>
                    </a:lnTo>
                    <a:lnTo>
                      <a:pt x="244" y="30"/>
                    </a:lnTo>
                    <a:lnTo>
                      <a:pt x="236" y="32"/>
                    </a:lnTo>
                    <a:lnTo>
                      <a:pt x="224" y="34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84" y="38"/>
                    </a:lnTo>
                    <a:lnTo>
                      <a:pt x="186" y="42"/>
                    </a:lnTo>
                    <a:lnTo>
                      <a:pt x="178" y="48"/>
                    </a:lnTo>
                    <a:lnTo>
                      <a:pt x="194" y="44"/>
                    </a:lnTo>
                    <a:lnTo>
                      <a:pt x="192" y="48"/>
                    </a:lnTo>
                    <a:lnTo>
                      <a:pt x="178" y="52"/>
                    </a:lnTo>
                    <a:lnTo>
                      <a:pt x="204" y="46"/>
                    </a:lnTo>
                    <a:lnTo>
                      <a:pt x="212" y="48"/>
                    </a:lnTo>
                    <a:lnTo>
                      <a:pt x="204" y="54"/>
                    </a:lnTo>
                    <a:lnTo>
                      <a:pt x="212" y="52"/>
                    </a:lnTo>
                    <a:lnTo>
                      <a:pt x="224" y="46"/>
                    </a:lnTo>
                    <a:lnTo>
                      <a:pt x="234" y="42"/>
                    </a:lnTo>
                    <a:lnTo>
                      <a:pt x="234" y="48"/>
                    </a:lnTo>
                    <a:lnTo>
                      <a:pt x="246" y="50"/>
                    </a:lnTo>
                    <a:lnTo>
                      <a:pt x="276" y="50"/>
                    </a:lnTo>
                    <a:lnTo>
                      <a:pt x="262" y="66"/>
                    </a:lnTo>
                    <a:lnTo>
                      <a:pt x="232" y="86"/>
                    </a:lnTo>
                    <a:lnTo>
                      <a:pt x="220" y="90"/>
                    </a:lnTo>
                    <a:lnTo>
                      <a:pt x="206" y="92"/>
                    </a:lnTo>
                    <a:lnTo>
                      <a:pt x="146" y="96"/>
                    </a:lnTo>
                    <a:lnTo>
                      <a:pt x="138" y="92"/>
                    </a:lnTo>
                    <a:lnTo>
                      <a:pt x="64" y="102"/>
                    </a:lnTo>
                    <a:lnTo>
                      <a:pt x="46" y="100"/>
                    </a:lnTo>
                    <a:lnTo>
                      <a:pt x="32" y="96"/>
                    </a:lnTo>
                    <a:lnTo>
                      <a:pt x="32" y="88"/>
                    </a:lnTo>
                    <a:lnTo>
                      <a:pt x="38" y="82"/>
                    </a:lnTo>
                    <a:lnTo>
                      <a:pt x="4" y="74"/>
                    </a:lnTo>
                    <a:lnTo>
                      <a:pt x="0" y="66"/>
                    </a:lnTo>
                    <a:lnTo>
                      <a:pt x="10" y="58"/>
                    </a:lnTo>
                    <a:lnTo>
                      <a:pt x="18" y="56"/>
                    </a:lnTo>
                    <a:lnTo>
                      <a:pt x="22" y="48"/>
                    </a:lnTo>
                    <a:lnTo>
                      <a:pt x="34" y="40"/>
                    </a:lnTo>
                    <a:lnTo>
                      <a:pt x="38" y="28"/>
                    </a:lnTo>
                    <a:lnTo>
                      <a:pt x="60" y="16"/>
                    </a:lnTo>
                    <a:lnTo>
                      <a:pt x="68" y="14"/>
                    </a:lnTo>
                    <a:lnTo>
                      <a:pt x="108" y="12"/>
                    </a:lnTo>
                    <a:lnTo>
                      <a:pt x="122" y="8"/>
                    </a:lnTo>
                    <a:lnTo>
                      <a:pt x="138" y="6"/>
                    </a:lnTo>
                    <a:lnTo>
                      <a:pt x="148" y="8"/>
                    </a:lnTo>
                    <a:lnTo>
                      <a:pt x="168" y="2"/>
                    </a:lnTo>
                    <a:lnTo>
                      <a:pt x="180" y="2"/>
                    </a:lnTo>
                    <a:lnTo>
                      <a:pt x="19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03960" y="2442600"/>
                <a:ext cx="14760" cy="900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10" y="12"/>
                    </a:moveTo>
                    <a:lnTo>
                      <a:pt x="22" y="10"/>
                    </a:lnTo>
                    <a:lnTo>
                      <a:pt x="26" y="14"/>
                    </a:lnTo>
                    <a:lnTo>
                      <a:pt x="32" y="8"/>
                    </a:lnTo>
                    <a:lnTo>
                      <a:pt x="42" y="4"/>
                    </a:lnTo>
                    <a:lnTo>
                      <a:pt x="70" y="0"/>
                    </a:lnTo>
                    <a:lnTo>
                      <a:pt x="70" y="4"/>
                    </a:lnTo>
                    <a:lnTo>
                      <a:pt x="64" y="8"/>
                    </a:lnTo>
                    <a:lnTo>
                      <a:pt x="60" y="14"/>
                    </a:lnTo>
                    <a:lnTo>
                      <a:pt x="86" y="34"/>
                    </a:lnTo>
                    <a:lnTo>
                      <a:pt x="80" y="44"/>
                    </a:lnTo>
                    <a:lnTo>
                      <a:pt x="62" y="50"/>
                    </a:lnTo>
                    <a:lnTo>
                      <a:pt x="18" y="52"/>
                    </a:lnTo>
                    <a:lnTo>
                      <a:pt x="8" y="42"/>
                    </a:lnTo>
                    <a:lnTo>
                      <a:pt x="8" y="28"/>
                    </a:lnTo>
                    <a:lnTo>
                      <a:pt x="0" y="26"/>
                    </a:lnTo>
                    <a:lnTo>
                      <a:pt x="4" y="18"/>
                    </a:lnTo>
                    <a:lnTo>
                      <a:pt x="0" y="12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39600" y="2428920"/>
                <a:ext cx="56880" cy="11880"/>
              </a:xfrm>
              <a:custGeom>
                <a:avLst/>
                <a:gdLst/>
                <a:ahLst/>
                <a:rect l="l" t="t" r="r" b="b"/>
                <a:pathLst>
                  <a:path w="332" h="72">
                    <a:moveTo>
                      <a:pt x="312" y="20"/>
                    </a:moveTo>
                    <a:lnTo>
                      <a:pt x="316" y="20"/>
                    </a:lnTo>
                    <a:lnTo>
                      <a:pt x="312" y="28"/>
                    </a:lnTo>
                    <a:lnTo>
                      <a:pt x="332" y="30"/>
                    </a:lnTo>
                    <a:lnTo>
                      <a:pt x="328" y="36"/>
                    </a:lnTo>
                    <a:lnTo>
                      <a:pt x="332" y="40"/>
                    </a:lnTo>
                    <a:lnTo>
                      <a:pt x="328" y="46"/>
                    </a:lnTo>
                    <a:lnTo>
                      <a:pt x="326" y="50"/>
                    </a:lnTo>
                    <a:lnTo>
                      <a:pt x="312" y="60"/>
                    </a:lnTo>
                    <a:lnTo>
                      <a:pt x="298" y="68"/>
                    </a:lnTo>
                    <a:lnTo>
                      <a:pt x="284" y="72"/>
                    </a:lnTo>
                    <a:lnTo>
                      <a:pt x="264" y="72"/>
                    </a:lnTo>
                    <a:lnTo>
                      <a:pt x="256" y="68"/>
                    </a:lnTo>
                    <a:lnTo>
                      <a:pt x="210" y="70"/>
                    </a:lnTo>
                    <a:lnTo>
                      <a:pt x="198" y="68"/>
                    </a:lnTo>
                    <a:lnTo>
                      <a:pt x="188" y="54"/>
                    </a:lnTo>
                    <a:lnTo>
                      <a:pt x="176" y="52"/>
                    </a:lnTo>
                    <a:lnTo>
                      <a:pt x="176" y="46"/>
                    </a:lnTo>
                    <a:lnTo>
                      <a:pt x="166" y="48"/>
                    </a:lnTo>
                    <a:lnTo>
                      <a:pt x="166" y="44"/>
                    </a:lnTo>
                    <a:lnTo>
                      <a:pt x="156" y="52"/>
                    </a:lnTo>
                    <a:lnTo>
                      <a:pt x="154" y="58"/>
                    </a:lnTo>
                    <a:lnTo>
                      <a:pt x="144" y="58"/>
                    </a:lnTo>
                    <a:lnTo>
                      <a:pt x="140" y="64"/>
                    </a:lnTo>
                    <a:lnTo>
                      <a:pt x="108" y="64"/>
                    </a:lnTo>
                    <a:lnTo>
                      <a:pt x="112" y="52"/>
                    </a:lnTo>
                    <a:lnTo>
                      <a:pt x="92" y="48"/>
                    </a:lnTo>
                    <a:lnTo>
                      <a:pt x="92" y="42"/>
                    </a:lnTo>
                    <a:lnTo>
                      <a:pt x="80" y="42"/>
                    </a:lnTo>
                    <a:lnTo>
                      <a:pt x="78" y="46"/>
                    </a:lnTo>
                    <a:lnTo>
                      <a:pt x="76" y="48"/>
                    </a:lnTo>
                    <a:lnTo>
                      <a:pt x="66" y="46"/>
                    </a:lnTo>
                    <a:lnTo>
                      <a:pt x="46" y="48"/>
                    </a:lnTo>
                    <a:lnTo>
                      <a:pt x="40" y="54"/>
                    </a:lnTo>
                    <a:lnTo>
                      <a:pt x="32" y="58"/>
                    </a:lnTo>
                    <a:lnTo>
                      <a:pt x="34" y="54"/>
                    </a:lnTo>
                    <a:lnTo>
                      <a:pt x="10" y="56"/>
                    </a:lnTo>
                    <a:lnTo>
                      <a:pt x="4" y="54"/>
                    </a:lnTo>
                    <a:lnTo>
                      <a:pt x="8" y="48"/>
                    </a:lnTo>
                    <a:lnTo>
                      <a:pt x="0" y="48"/>
                    </a:lnTo>
                    <a:lnTo>
                      <a:pt x="28" y="34"/>
                    </a:lnTo>
                    <a:lnTo>
                      <a:pt x="60" y="28"/>
                    </a:lnTo>
                    <a:lnTo>
                      <a:pt x="62" y="32"/>
                    </a:lnTo>
                    <a:lnTo>
                      <a:pt x="74" y="32"/>
                    </a:lnTo>
                    <a:lnTo>
                      <a:pt x="78" y="28"/>
                    </a:lnTo>
                    <a:lnTo>
                      <a:pt x="112" y="22"/>
                    </a:lnTo>
                    <a:lnTo>
                      <a:pt x="160" y="22"/>
                    </a:lnTo>
                    <a:lnTo>
                      <a:pt x="194" y="18"/>
                    </a:lnTo>
                    <a:lnTo>
                      <a:pt x="228" y="6"/>
                    </a:lnTo>
                    <a:lnTo>
                      <a:pt x="228" y="10"/>
                    </a:lnTo>
                    <a:lnTo>
                      <a:pt x="272" y="0"/>
                    </a:lnTo>
                    <a:lnTo>
                      <a:pt x="298" y="0"/>
                    </a:lnTo>
                    <a:lnTo>
                      <a:pt x="300" y="4"/>
                    </a:lnTo>
                    <a:lnTo>
                      <a:pt x="296" y="8"/>
                    </a:lnTo>
                    <a:lnTo>
                      <a:pt x="302" y="8"/>
                    </a:lnTo>
                    <a:lnTo>
                      <a:pt x="300" y="14"/>
                    </a:lnTo>
                    <a:lnTo>
                      <a:pt x="316" y="16"/>
                    </a:lnTo>
                    <a:lnTo>
                      <a:pt x="312" y="2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969280" y="2405160"/>
                <a:ext cx="21600" cy="13320"/>
              </a:xfrm>
              <a:custGeom>
                <a:avLst/>
                <a:gdLst/>
                <a:ahLst/>
                <a:rect l="l" t="t" r="r" b="b"/>
                <a:pathLst>
                  <a:path w="122" h="74">
                    <a:moveTo>
                      <a:pt x="72" y="2"/>
                    </a:moveTo>
                    <a:lnTo>
                      <a:pt x="76" y="0"/>
                    </a:lnTo>
                    <a:lnTo>
                      <a:pt x="82" y="8"/>
                    </a:lnTo>
                    <a:lnTo>
                      <a:pt x="98" y="6"/>
                    </a:lnTo>
                    <a:lnTo>
                      <a:pt x="118" y="8"/>
                    </a:lnTo>
                    <a:lnTo>
                      <a:pt x="122" y="12"/>
                    </a:lnTo>
                    <a:lnTo>
                      <a:pt x="114" y="18"/>
                    </a:lnTo>
                    <a:lnTo>
                      <a:pt x="110" y="28"/>
                    </a:lnTo>
                    <a:lnTo>
                      <a:pt x="94" y="42"/>
                    </a:lnTo>
                    <a:lnTo>
                      <a:pt x="88" y="50"/>
                    </a:lnTo>
                    <a:lnTo>
                      <a:pt x="68" y="62"/>
                    </a:lnTo>
                    <a:lnTo>
                      <a:pt x="46" y="74"/>
                    </a:lnTo>
                    <a:lnTo>
                      <a:pt x="38" y="70"/>
                    </a:lnTo>
                    <a:lnTo>
                      <a:pt x="30" y="52"/>
                    </a:lnTo>
                    <a:lnTo>
                      <a:pt x="36" y="48"/>
                    </a:lnTo>
                    <a:lnTo>
                      <a:pt x="42" y="42"/>
                    </a:lnTo>
                    <a:lnTo>
                      <a:pt x="36" y="38"/>
                    </a:lnTo>
                    <a:lnTo>
                      <a:pt x="0" y="34"/>
                    </a:lnTo>
                    <a:lnTo>
                      <a:pt x="22" y="18"/>
                    </a:lnTo>
                    <a:lnTo>
                      <a:pt x="32" y="10"/>
                    </a:lnTo>
                    <a:lnTo>
                      <a:pt x="52" y="4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11400" y="2376720"/>
                <a:ext cx="134280" cy="88200"/>
              </a:xfrm>
              <a:custGeom>
                <a:avLst/>
                <a:gdLst/>
                <a:ahLst/>
                <a:rect l="l" t="t" r="r" b="b"/>
                <a:pathLst>
                  <a:path w="774" h="518">
                    <a:moveTo>
                      <a:pt x="208" y="112"/>
                    </a:moveTo>
                    <a:lnTo>
                      <a:pt x="222" y="114"/>
                    </a:lnTo>
                    <a:lnTo>
                      <a:pt x="248" y="114"/>
                    </a:lnTo>
                    <a:lnTo>
                      <a:pt x="252" y="120"/>
                    </a:lnTo>
                    <a:lnTo>
                      <a:pt x="290" y="122"/>
                    </a:lnTo>
                    <a:lnTo>
                      <a:pt x="316" y="128"/>
                    </a:lnTo>
                    <a:lnTo>
                      <a:pt x="322" y="122"/>
                    </a:lnTo>
                    <a:lnTo>
                      <a:pt x="322" y="118"/>
                    </a:lnTo>
                    <a:lnTo>
                      <a:pt x="282" y="114"/>
                    </a:lnTo>
                    <a:lnTo>
                      <a:pt x="288" y="104"/>
                    </a:lnTo>
                    <a:lnTo>
                      <a:pt x="322" y="106"/>
                    </a:lnTo>
                    <a:lnTo>
                      <a:pt x="348" y="104"/>
                    </a:lnTo>
                    <a:lnTo>
                      <a:pt x="342" y="98"/>
                    </a:lnTo>
                    <a:lnTo>
                      <a:pt x="328" y="100"/>
                    </a:lnTo>
                    <a:lnTo>
                      <a:pt x="328" y="96"/>
                    </a:lnTo>
                    <a:lnTo>
                      <a:pt x="302" y="98"/>
                    </a:lnTo>
                    <a:lnTo>
                      <a:pt x="276" y="92"/>
                    </a:lnTo>
                    <a:lnTo>
                      <a:pt x="276" y="88"/>
                    </a:lnTo>
                    <a:lnTo>
                      <a:pt x="280" y="86"/>
                    </a:lnTo>
                    <a:lnTo>
                      <a:pt x="296" y="82"/>
                    </a:lnTo>
                    <a:lnTo>
                      <a:pt x="260" y="84"/>
                    </a:lnTo>
                    <a:lnTo>
                      <a:pt x="258" y="80"/>
                    </a:lnTo>
                    <a:lnTo>
                      <a:pt x="264" y="76"/>
                    </a:lnTo>
                    <a:lnTo>
                      <a:pt x="286" y="72"/>
                    </a:lnTo>
                    <a:lnTo>
                      <a:pt x="272" y="70"/>
                    </a:lnTo>
                    <a:lnTo>
                      <a:pt x="282" y="62"/>
                    </a:lnTo>
                    <a:lnTo>
                      <a:pt x="284" y="58"/>
                    </a:lnTo>
                    <a:lnTo>
                      <a:pt x="302" y="52"/>
                    </a:lnTo>
                    <a:lnTo>
                      <a:pt x="320" y="52"/>
                    </a:lnTo>
                    <a:lnTo>
                      <a:pt x="324" y="48"/>
                    </a:lnTo>
                    <a:lnTo>
                      <a:pt x="326" y="50"/>
                    </a:lnTo>
                    <a:lnTo>
                      <a:pt x="350" y="54"/>
                    </a:lnTo>
                    <a:lnTo>
                      <a:pt x="346" y="58"/>
                    </a:lnTo>
                    <a:lnTo>
                      <a:pt x="348" y="60"/>
                    </a:lnTo>
                    <a:lnTo>
                      <a:pt x="344" y="62"/>
                    </a:lnTo>
                    <a:lnTo>
                      <a:pt x="348" y="62"/>
                    </a:lnTo>
                    <a:lnTo>
                      <a:pt x="360" y="58"/>
                    </a:lnTo>
                    <a:lnTo>
                      <a:pt x="372" y="60"/>
                    </a:lnTo>
                    <a:lnTo>
                      <a:pt x="378" y="56"/>
                    </a:lnTo>
                    <a:lnTo>
                      <a:pt x="384" y="56"/>
                    </a:lnTo>
                    <a:lnTo>
                      <a:pt x="392" y="56"/>
                    </a:lnTo>
                    <a:lnTo>
                      <a:pt x="396" y="54"/>
                    </a:lnTo>
                    <a:lnTo>
                      <a:pt x="382" y="52"/>
                    </a:lnTo>
                    <a:lnTo>
                      <a:pt x="386" y="50"/>
                    </a:lnTo>
                    <a:lnTo>
                      <a:pt x="378" y="48"/>
                    </a:lnTo>
                    <a:lnTo>
                      <a:pt x="376" y="42"/>
                    </a:lnTo>
                    <a:lnTo>
                      <a:pt x="392" y="48"/>
                    </a:lnTo>
                    <a:lnTo>
                      <a:pt x="404" y="46"/>
                    </a:lnTo>
                    <a:lnTo>
                      <a:pt x="438" y="50"/>
                    </a:lnTo>
                    <a:lnTo>
                      <a:pt x="470" y="46"/>
                    </a:lnTo>
                    <a:lnTo>
                      <a:pt x="486" y="40"/>
                    </a:lnTo>
                    <a:lnTo>
                      <a:pt x="486" y="38"/>
                    </a:lnTo>
                    <a:lnTo>
                      <a:pt x="492" y="34"/>
                    </a:lnTo>
                    <a:lnTo>
                      <a:pt x="476" y="34"/>
                    </a:lnTo>
                    <a:lnTo>
                      <a:pt x="472" y="30"/>
                    </a:lnTo>
                    <a:lnTo>
                      <a:pt x="454" y="26"/>
                    </a:lnTo>
                    <a:lnTo>
                      <a:pt x="446" y="30"/>
                    </a:lnTo>
                    <a:lnTo>
                      <a:pt x="412" y="32"/>
                    </a:lnTo>
                    <a:lnTo>
                      <a:pt x="404" y="28"/>
                    </a:lnTo>
                    <a:lnTo>
                      <a:pt x="396" y="30"/>
                    </a:lnTo>
                    <a:lnTo>
                      <a:pt x="370" y="24"/>
                    </a:lnTo>
                    <a:lnTo>
                      <a:pt x="370" y="18"/>
                    </a:lnTo>
                    <a:lnTo>
                      <a:pt x="376" y="14"/>
                    </a:lnTo>
                    <a:lnTo>
                      <a:pt x="382" y="12"/>
                    </a:lnTo>
                    <a:lnTo>
                      <a:pt x="382" y="10"/>
                    </a:lnTo>
                    <a:lnTo>
                      <a:pt x="368" y="8"/>
                    </a:lnTo>
                    <a:lnTo>
                      <a:pt x="372" y="6"/>
                    </a:lnTo>
                    <a:lnTo>
                      <a:pt x="382" y="2"/>
                    </a:lnTo>
                    <a:lnTo>
                      <a:pt x="406" y="0"/>
                    </a:lnTo>
                    <a:lnTo>
                      <a:pt x="410" y="4"/>
                    </a:lnTo>
                    <a:lnTo>
                      <a:pt x="448" y="14"/>
                    </a:lnTo>
                    <a:lnTo>
                      <a:pt x="456" y="12"/>
                    </a:lnTo>
                    <a:lnTo>
                      <a:pt x="456" y="2"/>
                    </a:lnTo>
                    <a:lnTo>
                      <a:pt x="480" y="2"/>
                    </a:lnTo>
                    <a:lnTo>
                      <a:pt x="506" y="14"/>
                    </a:lnTo>
                    <a:lnTo>
                      <a:pt x="538" y="22"/>
                    </a:lnTo>
                    <a:lnTo>
                      <a:pt x="546" y="24"/>
                    </a:lnTo>
                    <a:lnTo>
                      <a:pt x="544" y="30"/>
                    </a:lnTo>
                    <a:lnTo>
                      <a:pt x="556" y="36"/>
                    </a:lnTo>
                    <a:lnTo>
                      <a:pt x="564" y="46"/>
                    </a:lnTo>
                    <a:lnTo>
                      <a:pt x="552" y="56"/>
                    </a:lnTo>
                    <a:lnTo>
                      <a:pt x="548" y="58"/>
                    </a:lnTo>
                    <a:lnTo>
                      <a:pt x="546" y="60"/>
                    </a:lnTo>
                    <a:lnTo>
                      <a:pt x="552" y="68"/>
                    </a:lnTo>
                    <a:lnTo>
                      <a:pt x="546" y="80"/>
                    </a:lnTo>
                    <a:lnTo>
                      <a:pt x="548" y="86"/>
                    </a:lnTo>
                    <a:lnTo>
                      <a:pt x="552" y="88"/>
                    </a:lnTo>
                    <a:lnTo>
                      <a:pt x="552" y="92"/>
                    </a:lnTo>
                    <a:lnTo>
                      <a:pt x="548" y="94"/>
                    </a:lnTo>
                    <a:lnTo>
                      <a:pt x="550" y="100"/>
                    </a:lnTo>
                    <a:lnTo>
                      <a:pt x="542" y="108"/>
                    </a:lnTo>
                    <a:lnTo>
                      <a:pt x="542" y="112"/>
                    </a:lnTo>
                    <a:lnTo>
                      <a:pt x="554" y="114"/>
                    </a:lnTo>
                    <a:lnTo>
                      <a:pt x="554" y="128"/>
                    </a:lnTo>
                    <a:lnTo>
                      <a:pt x="534" y="138"/>
                    </a:lnTo>
                    <a:lnTo>
                      <a:pt x="528" y="140"/>
                    </a:lnTo>
                    <a:lnTo>
                      <a:pt x="528" y="142"/>
                    </a:lnTo>
                    <a:lnTo>
                      <a:pt x="544" y="134"/>
                    </a:lnTo>
                    <a:lnTo>
                      <a:pt x="556" y="132"/>
                    </a:lnTo>
                    <a:lnTo>
                      <a:pt x="554" y="138"/>
                    </a:lnTo>
                    <a:lnTo>
                      <a:pt x="582" y="140"/>
                    </a:lnTo>
                    <a:lnTo>
                      <a:pt x="594" y="148"/>
                    </a:lnTo>
                    <a:lnTo>
                      <a:pt x="606" y="148"/>
                    </a:lnTo>
                    <a:lnTo>
                      <a:pt x="608" y="144"/>
                    </a:lnTo>
                    <a:lnTo>
                      <a:pt x="624" y="144"/>
                    </a:lnTo>
                    <a:lnTo>
                      <a:pt x="636" y="144"/>
                    </a:lnTo>
                    <a:lnTo>
                      <a:pt x="648" y="152"/>
                    </a:lnTo>
                    <a:lnTo>
                      <a:pt x="648" y="160"/>
                    </a:lnTo>
                    <a:lnTo>
                      <a:pt x="644" y="164"/>
                    </a:lnTo>
                    <a:lnTo>
                      <a:pt x="628" y="168"/>
                    </a:lnTo>
                    <a:lnTo>
                      <a:pt x="634" y="172"/>
                    </a:lnTo>
                    <a:lnTo>
                      <a:pt x="630" y="178"/>
                    </a:lnTo>
                    <a:lnTo>
                      <a:pt x="622" y="182"/>
                    </a:lnTo>
                    <a:lnTo>
                      <a:pt x="608" y="196"/>
                    </a:lnTo>
                    <a:lnTo>
                      <a:pt x="620" y="216"/>
                    </a:lnTo>
                    <a:lnTo>
                      <a:pt x="632" y="218"/>
                    </a:lnTo>
                    <a:lnTo>
                      <a:pt x="638" y="214"/>
                    </a:lnTo>
                    <a:lnTo>
                      <a:pt x="656" y="216"/>
                    </a:lnTo>
                    <a:lnTo>
                      <a:pt x="658" y="212"/>
                    </a:lnTo>
                    <a:lnTo>
                      <a:pt x="660" y="210"/>
                    </a:lnTo>
                    <a:lnTo>
                      <a:pt x="658" y="206"/>
                    </a:lnTo>
                    <a:lnTo>
                      <a:pt x="662" y="202"/>
                    </a:lnTo>
                    <a:lnTo>
                      <a:pt x="650" y="188"/>
                    </a:lnTo>
                    <a:lnTo>
                      <a:pt x="664" y="174"/>
                    </a:lnTo>
                    <a:lnTo>
                      <a:pt x="684" y="166"/>
                    </a:lnTo>
                    <a:lnTo>
                      <a:pt x="724" y="170"/>
                    </a:lnTo>
                    <a:lnTo>
                      <a:pt x="738" y="178"/>
                    </a:lnTo>
                    <a:lnTo>
                      <a:pt x="728" y="186"/>
                    </a:lnTo>
                    <a:lnTo>
                      <a:pt x="724" y="196"/>
                    </a:lnTo>
                    <a:lnTo>
                      <a:pt x="714" y="206"/>
                    </a:lnTo>
                    <a:lnTo>
                      <a:pt x="704" y="206"/>
                    </a:lnTo>
                    <a:lnTo>
                      <a:pt x="698" y="210"/>
                    </a:lnTo>
                    <a:lnTo>
                      <a:pt x="678" y="214"/>
                    </a:lnTo>
                    <a:lnTo>
                      <a:pt x="670" y="214"/>
                    </a:lnTo>
                    <a:lnTo>
                      <a:pt x="666" y="218"/>
                    </a:lnTo>
                    <a:lnTo>
                      <a:pt x="672" y="220"/>
                    </a:lnTo>
                    <a:lnTo>
                      <a:pt x="694" y="218"/>
                    </a:lnTo>
                    <a:lnTo>
                      <a:pt x="716" y="226"/>
                    </a:lnTo>
                    <a:lnTo>
                      <a:pt x="710" y="242"/>
                    </a:lnTo>
                    <a:lnTo>
                      <a:pt x="690" y="246"/>
                    </a:lnTo>
                    <a:lnTo>
                      <a:pt x="688" y="248"/>
                    </a:lnTo>
                    <a:lnTo>
                      <a:pt x="712" y="246"/>
                    </a:lnTo>
                    <a:lnTo>
                      <a:pt x="710" y="250"/>
                    </a:lnTo>
                    <a:lnTo>
                      <a:pt x="684" y="262"/>
                    </a:lnTo>
                    <a:lnTo>
                      <a:pt x="656" y="280"/>
                    </a:lnTo>
                    <a:lnTo>
                      <a:pt x="638" y="282"/>
                    </a:lnTo>
                    <a:lnTo>
                      <a:pt x="624" y="288"/>
                    </a:lnTo>
                    <a:lnTo>
                      <a:pt x="616" y="294"/>
                    </a:lnTo>
                    <a:lnTo>
                      <a:pt x="624" y="294"/>
                    </a:lnTo>
                    <a:lnTo>
                      <a:pt x="648" y="286"/>
                    </a:lnTo>
                    <a:lnTo>
                      <a:pt x="662" y="286"/>
                    </a:lnTo>
                    <a:lnTo>
                      <a:pt x="688" y="280"/>
                    </a:lnTo>
                    <a:lnTo>
                      <a:pt x="694" y="282"/>
                    </a:lnTo>
                    <a:lnTo>
                      <a:pt x="706" y="286"/>
                    </a:lnTo>
                    <a:lnTo>
                      <a:pt x="710" y="298"/>
                    </a:lnTo>
                    <a:lnTo>
                      <a:pt x="718" y="302"/>
                    </a:lnTo>
                    <a:lnTo>
                      <a:pt x="714" y="308"/>
                    </a:lnTo>
                    <a:lnTo>
                      <a:pt x="710" y="312"/>
                    </a:lnTo>
                    <a:lnTo>
                      <a:pt x="706" y="318"/>
                    </a:lnTo>
                    <a:lnTo>
                      <a:pt x="694" y="322"/>
                    </a:lnTo>
                    <a:lnTo>
                      <a:pt x="692" y="326"/>
                    </a:lnTo>
                    <a:lnTo>
                      <a:pt x="712" y="320"/>
                    </a:lnTo>
                    <a:lnTo>
                      <a:pt x="720" y="316"/>
                    </a:lnTo>
                    <a:lnTo>
                      <a:pt x="726" y="310"/>
                    </a:lnTo>
                    <a:lnTo>
                      <a:pt x="736" y="306"/>
                    </a:lnTo>
                    <a:lnTo>
                      <a:pt x="740" y="302"/>
                    </a:lnTo>
                    <a:lnTo>
                      <a:pt x="754" y="300"/>
                    </a:lnTo>
                    <a:lnTo>
                      <a:pt x="756" y="314"/>
                    </a:lnTo>
                    <a:lnTo>
                      <a:pt x="770" y="326"/>
                    </a:lnTo>
                    <a:lnTo>
                      <a:pt x="766" y="334"/>
                    </a:lnTo>
                    <a:lnTo>
                      <a:pt x="774" y="340"/>
                    </a:lnTo>
                    <a:lnTo>
                      <a:pt x="774" y="346"/>
                    </a:lnTo>
                    <a:lnTo>
                      <a:pt x="758" y="358"/>
                    </a:lnTo>
                    <a:lnTo>
                      <a:pt x="686" y="376"/>
                    </a:lnTo>
                    <a:lnTo>
                      <a:pt x="600" y="384"/>
                    </a:lnTo>
                    <a:lnTo>
                      <a:pt x="590" y="392"/>
                    </a:lnTo>
                    <a:lnTo>
                      <a:pt x="592" y="394"/>
                    </a:lnTo>
                    <a:lnTo>
                      <a:pt x="562" y="404"/>
                    </a:lnTo>
                    <a:lnTo>
                      <a:pt x="574" y="388"/>
                    </a:lnTo>
                    <a:lnTo>
                      <a:pt x="564" y="382"/>
                    </a:lnTo>
                    <a:lnTo>
                      <a:pt x="556" y="388"/>
                    </a:lnTo>
                    <a:lnTo>
                      <a:pt x="538" y="412"/>
                    </a:lnTo>
                    <a:lnTo>
                      <a:pt x="508" y="422"/>
                    </a:lnTo>
                    <a:lnTo>
                      <a:pt x="468" y="442"/>
                    </a:lnTo>
                    <a:lnTo>
                      <a:pt x="458" y="444"/>
                    </a:lnTo>
                    <a:lnTo>
                      <a:pt x="448" y="426"/>
                    </a:lnTo>
                    <a:lnTo>
                      <a:pt x="456" y="416"/>
                    </a:lnTo>
                    <a:lnTo>
                      <a:pt x="470" y="402"/>
                    </a:lnTo>
                    <a:lnTo>
                      <a:pt x="470" y="394"/>
                    </a:lnTo>
                    <a:lnTo>
                      <a:pt x="484" y="382"/>
                    </a:lnTo>
                    <a:lnTo>
                      <a:pt x="494" y="376"/>
                    </a:lnTo>
                    <a:lnTo>
                      <a:pt x="498" y="372"/>
                    </a:lnTo>
                    <a:lnTo>
                      <a:pt x="492" y="374"/>
                    </a:lnTo>
                    <a:lnTo>
                      <a:pt x="470" y="388"/>
                    </a:lnTo>
                    <a:lnTo>
                      <a:pt x="452" y="398"/>
                    </a:lnTo>
                    <a:lnTo>
                      <a:pt x="442" y="408"/>
                    </a:lnTo>
                    <a:lnTo>
                      <a:pt x="434" y="414"/>
                    </a:lnTo>
                    <a:lnTo>
                      <a:pt x="426" y="422"/>
                    </a:lnTo>
                    <a:lnTo>
                      <a:pt x="422" y="434"/>
                    </a:lnTo>
                    <a:lnTo>
                      <a:pt x="414" y="440"/>
                    </a:lnTo>
                    <a:lnTo>
                      <a:pt x="424" y="446"/>
                    </a:lnTo>
                    <a:lnTo>
                      <a:pt x="418" y="456"/>
                    </a:lnTo>
                    <a:lnTo>
                      <a:pt x="406" y="466"/>
                    </a:lnTo>
                    <a:lnTo>
                      <a:pt x="400" y="472"/>
                    </a:lnTo>
                    <a:lnTo>
                      <a:pt x="380" y="470"/>
                    </a:lnTo>
                    <a:lnTo>
                      <a:pt x="382" y="462"/>
                    </a:lnTo>
                    <a:lnTo>
                      <a:pt x="374" y="450"/>
                    </a:lnTo>
                    <a:lnTo>
                      <a:pt x="376" y="444"/>
                    </a:lnTo>
                    <a:lnTo>
                      <a:pt x="372" y="444"/>
                    </a:lnTo>
                    <a:lnTo>
                      <a:pt x="356" y="454"/>
                    </a:lnTo>
                    <a:lnTo>
                      <a:pt x="348" y="462"/>
                    </a:lnTo>
                    <a:lnTo>
                      <a:pt x="356" y="482"/>
                    </a:lnTo>
                    <a:lnTo>
                      <a:pt x="316" y="510"/>
                    </a:lnTo>
                    <a:lnTo>
                      <a:pt x="304" y="518"/>
                    </a:lnTo>
                    <a:lnTo>
                      <a:pt x="294" y="516"/>
                    </a:lnTo>
                    <a:lnTo>
                      <a:pt x="286" y="508"/>
                    </a:lnTo>
                    <a:lnTo>
                      <a:pt x="286" y="486"/>
                    </a:lnTo>
                    <a:lnTo>
                      <a:pt x="288" y="480"/>
                    </a:lnTo>
                    <a:lnTo>
                      <a:pt x="268" y="468"/>
                    </a:lnTo>
                    <a:lnTo>
                      <a:pt x="266" y="462"/>
                    </a:lnTo>
                    <a:lnTo>
                      <a:pt x="268" y="446"/>
                    </a:lnTo>
                    <a:lnTo>
                      <a:pt x="266" y="442"/>
                    </a:lnTo>
                    <a:lnTo>
                      <a:pt x="260" y="444"/>
                    </a:lnTo>
                    <a:lnTo>
                      <a:pt x="246" y="454"/>
                    </a:lnTo>
                    <a:lnTo>
                      <a:pt x="250" y="472"/>
                    </a:lnTo>
                    <a:lnTo>
                      <a:pt x="248" y="478"/>
                    </a:lnTo>
                    <a:lnTo>
                      <a:pt x="254" y="488"/>
                    </a:lnTo>
                    <a:lnTo>
                      <a:pt x="254" y="514"/>
                    </a:lnTo>
                    <a:lnTo>
                      <a:pt x="248" y="518"/>
                    </a:lnTo>
                    <a:lnTo>
                      <a:pt x="248" y="510"/>
                    </a:lnTo>
                    <a:lnTo>
                      <a:pt x="234" y="504"/>
                    </a:lnTo>
                    <a:lnTo>
                      <a:pt x="232" y="494"/>
                    </a:lnTo>
                    <a:lnTo>
                      <a:pt x="216" y="490"/>
                    </a:lnTo>
                    <a:lnTo>
                      <a:pt x="178" y="488"/>
                    </a:lnTo>
                    <a:lnTo>
                      <a:pt x="180" y="496"/>
                    </a:lnTo>
                    <a:lnTo>
                      <a:pt x="200" y="502"/>
                    </a:lnTo>
                    <a:lnTo>
                      <a:pt x="194" y="512"/>
                    </a:lnTo>
                    <a:lnTo>
                      <a:pt x="186" y="518"/>
                    </a:lnTo>
                    <a:lnTo>
                      <a:pt x="138" y="514"/>
                    </a:lnTo>
                    <a:lnTo>
                      <a:pt x="112" y="508"/>
                    </a:lnTo>
                    <a:lnTo>
                      <a:pt x="88" y="504"/>
                    </a:lnTo>
                    <a:lnTo>
                      <a:pt x="82" y="498"/>
                    </a:lnTo>
                    <a:lnTo>
                      <a:pt x="56" y="496"/>
                    </a:lnTo>
                    <a:lnTo>
                      <a:pt x="56" y="488"/>
                    </a:lnTo>
                    <a:lnTo>
                      <a:pt x="50" y="482"/>
                    </a:lnTo>
                    <a:lnTo>
                      <a:pt x="64" y="478"/>
                    </a:lnTo>
                    <a:lnTo>
                      <a:pt x="66" y="474"/>
                    </a:lnTo>
                    <a:lnTo>
                      <a:pt x="64" y="472"/>
                    </a:lnTo>
                    <a:lnTo>
                      <a:pt x="56" y="478"/>
                    </a:lnTo>
                    <a:lnTo>
                      <a:pt x="44" y="478"/>
                    </a:lnTo>
                    <a:lnTo>
                      <a:pt x="38" y="476"/>
                    </a:lnTo>
                    <a:lnTo>
                      <a:pt x="36" y="468"/>
                    </a:lnTo>
                    <a:lnTo>
                      <a:pt x="28" y="464"/>
                    </a:lnTo>
                    <a:lnTo>
                      <a:pt x="28" y="456"/>
                    </a:lnTo>
                    <a:lnTo>
                      <a:pt x="36" y="448"/>
                    </a:lnTo>
                    <a:lnTo>
                      <a:pt x="126" y="448"/>
                    </a:lnTo>
                    <a:lnTo>
                      <a:pt x="138" y="444"/>
                    </a:lnTo>
                    <a:lnTo>
                      <a:pt x="86" y="432"/>
                    </a:lnTo>
                    <a:lnTo>
                      <a:pt x="80" y="428"/>
                    </a:lnTo>
                    <a:lnTo>
                      <a:pt x="44" y="430"/>
                    </a:lnTo>
                    <a:lnTo>
                      <a:pt x="42" y="424"/>
                    </a:lnTo>
                    <a:lnTo>
                      <a:pt x="42" y="420"/>
                    </a:lnTo>
                    <a:lnTo>
                      <a:pt x="50" y="416"/>
                    </a:lnTo>
                    <a:lnTo>
                      <a:pt x="40" y="416"/>
                    </a:lnTo>
                    <a:lnTo>
                      <a:pt x="40" y="408"/>
                    </a:lnTo>
                    <a:lnTo>
                      <a:pt x="44" y="400"/>
                    </a:lnTo>
                    <a:lnTo>
                      <a:pt x="54" y="400"/>
                    </a:lnTo>
                    <a:lnTo>
                      <a:pt x="60" y="404"/>
                    </a:lnTo>
                    <a:lnTo>
                      <a:pt x="90" y="406"/>
                    </a:lnTo>
                    <a:lnTo>
                      <a:pt x="94" y="400"/>
                    </a:lnTo>
                    <a:lnTo>
                      <a:pt x="74" y="390"/>
                    </a:lnTo>
                    <a:lnTo>
                      <a:pt x="46" y="390"/>
                    </a:lnTo>
                    <a:lnTo>
                      <a:pt x="48" y="380"/>
                    </a:lnTo>
                    <a:lnTo>
                      <a:pt x="44" y="370"/>
                    </a:lnTo>
                    <a:lnTo>
                      <a:pt x="48" y="364"/>
                    </a:lnTo>
                    <a:lnTo>
                      <a:pt x="72" y="358"/>
                    </a:lnTo>
                    <a:lnTo>
                      <a:pt x="96" y="356"/>
                    </a:lnTo>
                    <a:lnTo>
                      <a:pt x="140" y="342"/>
                    </a:lnTo>
                    <a:lnTo>
                      <a:pt x="240" y="344"/>
                    </a:lnTo>
                    <a:lnTo>
                      <a:pt x="292" y="342"/>
                    </a:lnTo>
                    <a:lnTo>
                      <a:pt x="346" y="342"/>
                    </a:lnTo>
                    <a:lnTo>
                      <a:pt x="350" y="342"/>
                    </a:lnTo>
                    <a:lnTo>
                      <a:pt x="372" y="332"/>
                    </a:lnTo>
                    <a:lnTo>
                      <a:pt x="350" y="336"/>
                    </a:lnTo>
                    <a:lnTo>
                      <a:pt x="284" y="334"/>
                    </a:lnTo>
                    <a:lnTo>
                      <a:pt x="270" y="338"/>
                    </a:lnTo>
                    <a:lnTo>
                      <a:pt x="226" y="336"/>
                    </a:lnTo>
                    <a:lnTo>
                      <a:pt x="210" y="332"/>
                    </a:lnTo>
                    <a:lnTo>
                      <a:pt x="206" y="328"/>
                    </a:lnTo>
                    <a:lnTo>
                      <a:pt x="212" y="324"/>
                    </a:lnTo>
                    <a:lnTo>
                      <a:pt x="226" y="324"/>
                    </a:lnTo>
                    <a:lnTo>
                      <a:pt x="234" y="322"/>
                    </a:lnTo>
                    <a:lnTo>
                      <a:pt x="286" y="324"/>
                    </a:lnTo>
                    <a:lnTo>
                      <a:pt x="308" y="322"/>
                    </a:lnTo>
                    <a:lnTo>
                      <a:pt x="316" y="320"/>
                    </a:lnTo>
                    <a:lnTo>
                      <a:pt x="316" y="318"/>
                    </a:lnTo>
                    <a:lnTo>
                      <a:pt x="248" y="318"/>
                    </a:lnTo>
                    <a:lnTo>
                      <a:pt x="234" y="312"/>
                    </a:lnTo>
                    <a:lnTo>
                      <a:pt x="248" y="304"/>
                    </a:lnTo>
                    <a:lnTo>
                      <a:pt x="208" y="306"/>
                    </a:lnTo>
                    <a:lnTo>
                      <a:pt x="206" y="306"/>
                    </a:lnTo>
                    <a:lnTo>
                      <a:pt x="198" y="312"/>
                    </a:lnTo>
                    <a:lnTo>
                      <a:pt x="170" y="314"/>
                    </a:lnTo>
                    <a:lnTo>
                      <a:pt x="166" y="312"/>
                    </a:lnTo>
                    <a:lnTo>
                      <a:pt x="190" y="298"/>
                    </a:lnTo>
                    <a:lnTo>
                      <a:pt x="194" y="294"/>
                    </a:lnTo>
                    <a:lnTo>
                      <a:pt x="182" y="298"/>
                    </a:lnTo>
                    <a:lnTo>
                      <a:pt x="170" y="306"/>
                    </a:lnTo>
                    <a:lnTo>
                      <a:pt x="152" y="310"/>
                    </a:lnTo>
                    <a:lnTo>
                      <a:pt x="138" y="318"/>
                    </a:lnTo>
                    <a:lnTo>
                      <a:pt x="118" y="324"/>
                    </a:lnTo>
                    <a:lnTo>
                      <a:pt x="106" y="324"/>
                    </a:lnTo>
                    <a:lnTo>
                      <a:pt x="104" y="318"/>
                    </a:lnTo>
                    <a:lnTo>
                      <a:pt x="98" y="318"/>
                    </a:lnTo>
                    <a:lnTo>
                      <a:pt x="108" y="310"/>
                    </a:lnTo>
                    <a:lnTo>
                      <a:pt x="116" y="306"/>
                    </a:lnTo>
                    <a:lnTo>
                      <a:pt x="138" y="302"/>
                    </a:lnTo>
                    <a:lnTo>
                      <a:pt x="126" y="302"/>
                    </a:lnTo>
                    <a:lnTo>
                      <a:pt x="104" y="294"/>
                    </a:lnTo>
                    <a:lnTo>
                      <a:pt x="88" y="300"/>
                    </a:lnTo>
                    <a:lnTo>
                      <a:pt x="86" y="304"/>
                    </a:lnTo>
                    <a:lnTo>
                      <a:pt x="80" y="308"/>
                    </a:lnTo>
                    <a:lnTo>
                      <a:pt x="64" y="308"/>
                    </a:lnTo>
                    <a:lnTo>
                      <a:pt x="44" y="314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36" y="304"/>
                    </a:lnTo>
                    <a:lnTo>
                      <a:pt x="34" y="300"/>
                    </a:lnTo>
                    <a:lnTo>
                      <a:pt x="38" y="294"/>
                    </a:lnTo>
                    <a:lnTo>
                      <a:pt x="20" y="296"/>
                    </a:lnTo>
                    <a:lnTo>
                      <a:pt x="20" y="292"/>
                    </a:lnTo>
                    <a:lnTo>
                      <a:pt x="8" y="292"/>
                    </a:lnTo>
                    <a:lnTo>
                      <a:pt x="0" y="286"/>
                    </a:lnTo>
                    <a:lnTo>
                      <a:pt x="8" y="280"/>
                    </a:lnTo>
                    <a:lnTo>
                      <a:pt x="8" y="278"/>
                    </a:lnTo>
                    <a:lnTo>
                      <a:pt x="16" y="274"/>
                    </a:lnTo>
                    <a:lnTo>
                      <a:pt x="28" y="270"/>
                    </a:lnTo>
                    <a:lnTo>
                      <a:pt x="48" y="276"/>
                    </a:lnTo>
                    <a:lnTo>
                      <a:pt x="72" y="274"/>
                    </a:lnTo>
                    <a:lnTo>
                      <a:pt x="78" y="272"/>
                    </a:lnTo>
                    <a:lnTo>
                      <a:pt x="110" y="274"/>
                    </a:lnTo>
                    <a:lnTo>
                      <a:pt x="140" y="268"/>
                    </a:lnTo>
                    <a:lnTo>
                      <a:pt x="160" y="256"/>
                    </a:lnTo>
                    <a:lnTo>
                      <a:pt x="120" y="266"/>
                    </a:lnTo>
                    <a:lnTo>
                      <a:pt x="102" y="260"/>
                    </a:lnTo>
                    <a:lnTo>
                      <a:pt x="58" y="260"/>
                    </a:lnTo>
                    <a:lnTo>
                      <a:pt x="56" y="256"/>
                    </a:lnTo>
                    <a:lnTo>
                      <a:pt x="36" y="248"/>
                    </a:lnTo>
                    <a:lnTo>
                      <a:pt x="32" y="230"/>
                    </a:lnTo>
                    <a:lnTo>
                      <a:pt x="26" y="222"/>
                    </a:lnTo>
                    <a:lnTo>
                      <a:pt x="32" y="220"/>
                    </a:lnTo>
                    <a:lnTo>
                      <a:pt x="22" y="216"/>
                    </a:lnTo>
                    <a:lnTo>
                      <a:pt x="54" y="216"/>
                    </a:lnTo>
                    <a:lnTo>
                      <a:pt x="62" y="212"/>
                    </a:lnTo>
                    <a:lnTo>
                      <a:pt x="62" y="210"/>
                    </a:lnTo>
                    <a:lnTo>
                      <a:pt x="38" y="204"/>
                    </a:lnTo>
                    <a:lnTo>
                      <a:pt x="40" y="198"/>
                    </a:lnTo>
                    <a:lnTo>
                      <a:pt x="48" y="194"/>
                    </a:lnTo>
                    <a:lnTo>
                      <a:pt x="78" y="190"/>
                    </a:lnTo>
                    <a:lnTo>
                      <a:pt x="48" y="190"/>
                    </a:lnTo>
                    <a:lnTo>
                      <a:pt x="48" y="182"/>
                    </a:lnTo>
                    <a:lnTo>
                      <a:pt x="56" y="174"/>
                    </a:lnTo>
                    <a:lnTo>
                      <a:pt x="78" y="174"/>
                    </a:lnTo>
                    <a:lnTo>
                      <a:pt x="104" y="182"/>
                    </a:lnTo>
                    <a:lnTo>
                      <a:pt x="112" y="188"/>
                    </a:lnTo>
                    <a:lnTo>
                      <a:pt x="108" y="192"/>
                    </a:lnTo>
                    <a:lnTo>
                      <a:pt x="132" y="200"/>
                    </a:lnTo>
                    <a:lnTo>
                      <a:pt x="138" y="198"/>
                    </a:lnTo>
                    <a:lnTo>
                      <a:pt x="144" y="202"/>
                    </a:lnTo>
                    <a:lnTo>
                      <a:pt x="168" y="200"/>
                    </a:lnTo>
                    <a:lnTo>
                      <a:pt x="182" y="204"/>
                    </a:lnTo>
                    <a:lnTo>
                      <a:pt x="188" y="212"/>
                    </a:lnTo>
                    <a:lnTo>
                      <a:pt x="190" y="208"/>
                    </a:lnTo>
                    <a:lnTo>
                      <a:pt x="184" y="198"/>
                    </a:lnTo>
                    <a:lnTo>
                      <a:pt x="188" y="192"/>
                    </a:lnTo>
                    <a:lnTo>
                      <a:pt x="202" y="188"/>
                    </a:lnTo>
                    <a:lnTo>
                      <a:pt x="252" y="186"/>
                    </a:lnTo>
                    <a:lnTo>
                      <a:pt x="248" y="184"/>
                    </a:lnTo>
                    <a:lnTo>
                      <a:pt x="226" y="182"/>
                    </a:lnTo>
                    <a:lnTo>
                      <a:pt x="222" y="180"/>
                    </a:lnTo>
                    <a:lnTo>
                      <a:pt x="224" y="176"/>
                    </a:lnTo>
                    <a:lnTo>
                      <a:pt x="218" y="174"/>
                    </a:lnTo>
                    <a:lnTo>
                      <a:pt x="192" y="184"/>
                    </a:lnTo>
                    <a:lnTo>
                      <a:pt x="150" y="190"/>
                    </a:lnTo>
                    <a:lnTo>
                      <a:pt x="124" y="176"/>
                    </a:lnTo>
                    <a:lnTo>
                      <a:pt x="148" y="172"/>
                    </a:lnTo>
                    <a:lnTo>
                      <a:pt x="126" y="174"/>
                    </a:lnTo>
                    <a:lnTo>
                      <a:pt x="148" y="172"/>
                    </a:lnTo>
                    <a:lnTo>
                      <a:pt x="172" y="176"/>
                    </a:lnTo>
                    <a:lnTo>
                      <a:pt x="192" y="166"/>
                    </a:lnTo>
                    <a:lnTo>
                      <a:pt x="162" y="170"/>
                    </a:lnTo>
                    <a:lnTo>
                      <a:pt x="154" y="162"/>
                    </a:lnTo>
                    <a:lnTo>
                      <a:pt x="148" y="162"/>
                    </a:lnTo>
                    <a:lnTo>
                      <a:pt x="136" y="168"/>
                    </a:lnTo>
                    <a:lnTo>
                      <a:pt x="110" y="170"/>
                    </a:lnTo>
                    <a:lnTo>
                      <a:pt x="116" y="164"/>
                    </a:lnTo>
                    <a:lnTo>
                      <a:pt x="86" y="158"/>
                    </a:lnTo>
                    <a:lnTo>
                      <a:pt x="90" y="154"/>
                    </a:lnTo>
                    <a:lnTo>
                      <a:pt x="96" y="150"/>
                    </a:lnTo>
                    <a:lnTo>
                      <a:pt x="84" y="144"/>
                    </a:lnTo>
                    <a:lnTo>
                      <a:pt x="86" y="142"/>
                    </a:lnTo>
                    <a:lnTo>
                      <a:pt x="104" y="140"/>
                    </a:lnTo>
                    <a:lnTo>
                      <a:pt x="114" y="142"/>
                    </a:lnTo>
                    <a:lnTo>
                      <a:pt x="126" y="138"/>
                    </a:lnTo>
                    <a:lnTo>
                      <a:pt x="136" y="140"/>
                    </a:lnTo>
                    <a:lnTo>
                      <a:pt x="154" y="142"/>
                    </a:lnTo>
                    <a:lnTo>
                      <a:pt x="142" y="128"/>
                    </a:lnTo>
                    <a:lnTo>
                      <a:pt x="148" y="124"/>
                    </a:lnTo>
                    <a:lnTo>
                      <a:pt x="154" y="124"/>
                    </a:lnTo>
                    <a:lnTo>
                      <a:pt x="166" y="116"/>
                    </a:lnTo>
                    <a:lnTo>
                      <a:pt x="164" y="110"/>
                    </a:lnTo>
                    <a:lnTo>
                      <a:pt x="208" y="11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948760" y="2467800"/>
                <a:ext cx="42120" cy="11880"/>
              </a:xfrm>
              <a:custGeom>
                <a:avLst/>
                <a:gdLst/>
                <a:ahLst/>
                <a:rect l="l" t="t" r="r" b="b"/>
                <a:pathLst>
                  <a:path w="238" h="70">
                    <a:moveTo>
                      <a:pt x="108" y="10"/>
                    </a:moveTo>
                    <a:lnTo>
                      <a:pt x="116" y="14"/>
                    </a:lnTo>
                    <a:lnTo>
                      <a:pt x="126" y="10"/>
                    </a:lnTo>
                    <a:lnTo>
                      <a:pt x="150" y="10"/>
                    </a:lnTo>
                    <a:lnTo>
                      <a:pt x="148" y="14"/>
                    </a:lnTo>
                    <a:lnTo>
                      <a:pt x="164" y="18"/>
                    </a:lnTo>
                    <a:lnTo>
                      <a:pt x="172" y="16"/>
                    </a:lnTo>
                    <a:lnTo>
                      <a:pt x="190" y="24"/>
                    </a:lnTo>
                    <a:lnTo>
                      <a:pt x="206" y="24"/>
                    </a:lnTo>
                    <a:lnTo>
                      <a:pt x="220" y="18"/>
                    </a:lnTo>
                    <a:lnTo>
                      <a:pt x="224" y="24"/>
                    </a:lnTo>
                    <a:lnTo>
                      <a:pt x="238" y="28"/>
                    </a:lnTo>
                    <a:lnTo>
                      <a:pt x="236" y="38"/>
                    </a:lnTo>
                    <a:lnTo>
                      <a:pt x="230" y="40"/>
                    </a:lnTo>
                    <a:lnTo>
                      <a:pt x="212" y="42"/>
                    </a:lnTo>
                    <a:lnTo>
                      <a:pt x="206" y="44"/>
                    </a:lnTo>
                    <a:lnTo>
                      <a:pt x="206" y="48"/>
                    </a:lnTo>
                    <a:lnTo>
                      <a:pt x="202" y="52"/>
                    </a:lnTo>
                    <a:lnTo>
                      <a:pt x="190" y="60"/>
                    </a:lnTo>
                    <a:lnTo>
                      <a:pt x="190" y="64"/>
                    </a:lnTo>
                    <a:lnTo>
                      <a:pt x="176" y="70"/>
                    </a:lnTo>
                    <a:lnTo>
                      <a:pt x="146" y="70"/>
                    </a:lnTo>
                    <a:lnTo>
                      <a:pt x="118" y="66"/>
                    </a:lnTo>
                    <a:lnTo>
                      <a:pt x="116" y="60"/>
                    </a:lnTo>
                    <a:lnTo>
                      <a:pt x="88" y="60"/>
                    </a:lnTo>
                    <a:lnTo>
                      <a:pt x="88" y="58"/>
                    </a:lnTo>
                    <a:lnTo>
                      <a:pt x="62" y="60"/>
                    </a:lnTo>
                    <a:lnTo>
                      <a:pt x="64" y="58"/>
                    </a:lnTo>
                    <a:lnTo>
                      <a:pt x="52" y="54"/>
                    </a:lnTo>
                    <a:lnTo>
                      <a:pt x="22" y="52"/>
                    </a:lnTo>
                    <a:lnTo>
                      <a:pt x="16" y="44"/>
                    </a:lnTo>
                    <a:lnTo>
                      <a:pt x="4" y="44"/>
                    </a:lnTo>
                    <a:lnTo>
                      <a:pt x="0" y="34"/>
                    </a:lnTo>
                    <a:lnTo>
                      <a:pt x="2" y="26"/>
                    </a:lnTo>
                    <a:lnTo>
                      <a:pt x="6" y="22"/>
                    </a:lnTo>
                    <a:lnTo>
                      <a:pt x="2" y="20"/>
                    </a:lnTo>
                    <a:lnTo>
                      <a:pt x="14" y="14"/>
                    </a:lnTo>
                    <a:lnTo>
                      <a:pt x="34" y="10"/>
                    </a:lnTo>
                    <a:lnTo>
                      <a:pt x="64" y="8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84" y="8"/>
                    </a:lnTo>
                    <a:lnTo>
                      <a:pt x="92" y="8"/>
                    </a:lnTo>
                    <a:lnTo>
                      <a:pt x="96" y="12"/>
                    </a:lnTo>
                    <a:lnTo>
                      <a:pt x="108" y="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13480" y="2485440"/>
                <a:ext cx="212040" cy="83880"/>
              </a:xfrm>
              <a:custGeom>
                <a:avLst/>
                <a:gdLst/>
                <a:ahLst/>
                <a:rect l="l" t="t" r="r" b="b"/>
                <a:pathLst>
                  <a:path w="1220" h="490">
                    <a:moveTo>
                      <a:pt x="204" y="16"/>
                    </a:moveTo>
                    <a:lnTo>
                      <a:pt x="190" y="16"/>
                    </a:lnTo>
                    <a:lnTo>
                      <a:pt x="168" y="4"/>
                    </a:lnTo>
                    <a:lnTo>
                      <a:pt x="142" y="0"/>
                    </a:lnTo>
                    <a:lnTo>
                      <a:pt x="86" y="4"/>
                    </a:lnTo>
                    <a:lnTo>
                      <a:pt x="80" y="10"/>
                    </a:lnTo>
                    <a:lnTo>
                      <a:pt x="66" y="14"/>
                    </a:lnTo>
                    <a:lnTo>
                      <a:pt x="48" y="12"/>
                    </a:lnTo>
                    <a:lnTo>
                      <a:pt x="46" y="16"/>
                    </a:lnTo>
                    <a:lnTo>
                      <a:pt x="38" y="20"/>
                    </a:lnTo>
                    <a:lnTo>
                      <a:pt x="36" y="26"/>
                    </a:lnTo>
                    <a:lnTo>
                      <a:pt x="48" y="30"/>
                    </a:lnTo>
                    <a:lnTo>
                      <a:pt x="54" y="40"/>
                    </a:lnTo>
                    <a:lnTo>
                      <a:pt x="58" y="44"/>
                    </a:lnTo>
                    <a:lnTo>
                      <a:pt x="58" y="48"/>
                    </a:lnTo>
                    <a:lnTo>
                      <a:pt x="36" y="46"/>
                    </a:lnTo>
                    <a:lnTo>
                      <a:pt x="22" y="36"/>
                    </a:lnTo>
                    <a:lnTo>
                      <a:pt x="14" y="38"/>
                    </a:lnTo>
                    <a:lnTo>
                      <a:pt x="0" y="48"/>
                    </a:lnTo>
                    <a:lnTo>
                      <a:pt x="4" y="52"/>
                    </a:lnTo>
                    <a:lnTo>
                      <a:pt x="28" y="56"/>
                    </a:lnTo>
                    <a:lnTo>
                      <a:pt x="24" y="62"/>
                    </a:lnTo>
                    <a:lnTo>
                      <a:pt x="34" y="68"/>
                    </a:lnTo>
                    <a:lnTo>
                      <a:pt x="40" y="66"/>
                    </a:lnTo>
                    <a:lnTo>
                      <a:pt x="38" y="78"/>
                    </a:lnTo>
                    <a:lnTo>
                      <a:pt x="50" y="78"/>
                    </a:lnTo>
                    <a:lnTo>
                      <a:pt x="46" y="110"/>
                    </a:lnTo>
                    <a:lnTo>
                      <a:pt x="74" y="114"/>
                    </a:lnTo>
                    <a:lnTo>
                      <a:pt x="82" y="120"/>
                    </a:lnTo>
                    <a:lnTo>
                      <a:pt x="76" y="142"/>
                    </a:lnTo>
                    <a:lnTo>
                      <a:pt x="90" y="132"/>
                    </a:lnTo>
                    <a:lnTo>
                      <a:pt x="92" y="138"/>
                    </a:lnTo>
                    <a:lnTo>
                      <a:pt x="162" y="148"/>
                    </a:lnTo>
                    <a:lnTo>
                      <a:pt x="172" y="148"/>
                    </a:lnTo>
                    <a:lnTo>
                      <a:pt x="164" y="144"/>
                    </a:lnTo>
                    <a:lnTo>
                      <a:pt x="170" y="140"/>
                    </a:lnTo>
                    <a:lnTo>
                      <a:pt x="182" y="138"/>
                    </a:lnTo>
                    <a:lnTo>
                      <a:pt x="182" y="140"/>
                    </a:lnTo>
                    <a:lnTo>
                      <a:pt x="198" y="138"/>
                    </a:lnTo>
                    <a:lnTo>
                      <a:pt x="210" y="134"/>
                    </a:lnTo>
                    <a:lnTo>
                      <a:pt x="216" y="132"/>
                    </a:lnTo>
                    <a:lnTo>
                      <a:pt x="224" y="128"/>
                    </a:lnTo>
                    <a:lnTo>
                      <a:pt x="236" y="134"/>
                    </a:lnTo>
                    <a:lnTo>
                      <a:pt x="228" y="148"/>
                    </a:lnTo>
                    <a:lnTo>
                      <a:pt x="228" y="158"/>
                    </a:lnTo>
                    <a:lnTo>
                      <a:pt x="230" y="168"/>
                    </a:lnTo>
                    <a:lnTo>
                      <a:pt x="222" y="184"/>
                    </a:lnTo>
                    <a:lnTo>
                      <a:pt x="212" y="194"/>
                    </a:lnTo>
                    <a:lnTo>
                      <a:pt x="216" y="198"/>
                    </a:lnTo>
                    <a:lnTo>
                      <a:pt x="222" y="210"/>
                    </a:lnTo>
                    <a:lnTo>
                      <a:pt x="224" y="224"/>
                    </a:lnTo>
                    <a:lnTo>
                      <a:pt x="212" y="238"/>
                    </a:lnTo>
                    <a:lnTo>
                      <a:pt x="204" y="252"/>
                    </a:lnTo>
                    <a:lnTo>
                      <a:pt x="208" y="258"/>
                    </a:lnTo>
                    <a:lnTo>
                      <a:pt x="180" y="266"/>
                    </a:lnTo>
                    <a:lnTo>
                      <a:pt x="138" y="286"/>
                    </a:lnTo>
                    <a:lnTo>
                      <a:pt x="144" y="290"/>
                    </a:lnTo>
                    <a:lnTo>
                      <a:pt x="118" y="306"/>
                    </a:lnTo>
                    <a:lnTo>
                      <a:pt x="108" y="316"/>
                    </a:lnTo>
                    <a:lnTo>
                      <a:pt x="106" y="328"/>
                    </a:lnTo>
                    <a:lnTo>
                      <a:pt x="140" y="328"/>
                    </a:lnTo>
                    <a:lnTo>
                      <a:pt x="124" y="338"/>
                    </a:lnTo>
                    <a:lnTo>
                      <a:pt x="104" y="350"/>
                    </a:lnTo>
                    <a:lnTo>
                      <a:pt x="90" y="370"/>
                    </a:lnTo>
                    <a:lnTo>
                      <a:pt x="82" y="378"/>
                    </a:lnTo>
                    <a:lnTo>
                      <a:pt x="90" y="390"/>
                    </a:lnTo>
                    <a:lnTo>
                      <a:pt x="112" y="396"/>
                    </a:lnTo>
                    <a:lnTo>
                      <a:pt x="100" y="398"/>
                    </a:lnTo>
                    <a:lnTo>
                      <a:pt x="96" y="404"/>
                    </a:lnTo>
                    <a:lnTo>
                      <a:pt x="100" y="410"/>
                    </a:lnTo>
                    <a:lnTo>
                      <a:pt x="130" y="410"/>
                    </a:lnTo>
                    <a:lnTo>
                      <a:pt x="144" y="396"/>
                    </a:lnTo>
                    <a:lnTo>
                      <a:pt x="154" y="394"/>
                    </a:lnTo>
                    <a:lnTo>
                      <a:pt x="190" y="384"/>
                    </a:lnTo>
                    <a:lnTo>
                      <a:pt x="160" y="398"/>
                    </a:lnTo>
                    <a:lnTo>
                      <a:pt x="168" y="418"/>
                    </a:lnTo>
                    <a:lnTo>
                      <a:pt x="188" y="396"/>
                    </a:lnTo>
                    <a:lnTo>
                      <a:pt x="184" y="418"/>
                    </a:lnTo>
                    <a:lnTo>
                      <a:pt x="202" y="418"/>
                    </a:lnTo>
                    <a:lnTo>
                      <a:pt x="188" y="426"/>
                    </a:lnTo>
                    <a:lnTo>
                      <a:pt x="202" y="428"/>
                    </a:lnTo>
                    <a:lnTo>
                      <a:pt x="214" y="424"/>
                    </a:lnTo>
                    <a:lnTo>
                      <a:pt x="208" y="434"/>
                    </a:lnTo>
                    <a:lnTo>
                      <a:pt x="250" y="440"/>
                    </a:lnTo>
                    <a:lnTo>
                      <a:pt x="296" y="424"/>
                    </a:lnTo>
                    <a:lnTo>
                      <a:pt x="298" y="420"/>
                    </a:lnTo>
                    <a:lnTo>
                      <a:pt x="288" y="410"/>
                    </a:lnTo>
                    <a:lnTo>
                      <a:pt x="300" y="402"/>
                    </a:lnTo>
                    <a:lnTo>
                      <a:pt x="296" y="402"/>
                    </a:lnTo>
                    <a:lnTo>
                      <a:pt x="310" y="400"/>
                    </a:lnTo>
                    <a:lnTo>
                      <a:pt x="318" y="404"/>
                    </a:lnTo>
                    <a:lnTo>
                      <a:pt x="326" y="394"/>
                    </a:lnTo>
                    <a:lnTo>
                      <a:pt x="322" y="412"/>
                    </a:lnTo>
                    <a:lnTo>
                      <a:pt x="324" y="420"/>
                    </a:lnTo>
                    <a:lnTo>
                      <a:pt x="352" y="406"/>
                    </a:lnTo>
                    <a:lnTo>
                      <a:pt x="362" y="396"/>
                    </a:lnTo>
                    <a:lnTo>
                      <a:pt x="368" y="398"/>
                    </a:lnTo>
                    <a:lnTo>
                      <a:pt x="376" y="406"/>
                    </a:lnTo>
                    <a:lnTo>
                      <a:pt x="370" y="414"/>
                    </a:lnTo>
                    <a:lnTo>
                      <a:pt x="348" y="430"/>
                    </a:lnTo>
                    <a:lnTo>
                      <a:pt x="330" y="448"/>
                    </a:lnTo>
                    <a:lnTo>
                      <a:pt x="350" y="454"/>
                    </a:lnTo>
                    <a:lnTo>
                      <a:pt x="366" y="450"/>
                    </a:lnTo>
                    <a:lnTo>
                      <a:pt x="378" y="458"/>
                    </a:lnTo>
                    <a:lnTo>
                      <a:pt x="394" y="452"/>
                    </a:lnTo>
                    <a:lnTo>
                      <a:pt x="394" y="460"/>
                    </a:lnTo>
                    <a:lnTo>
                      <a:pt x="428" y="458"/>
                    </a:lnTo>
                    <a:lnTo>
                      <a:pt x="438" y="448"/>
                    </a:lnTo>
                    <a:lnTo>
                      <a:pt x="450" y="448"/>
                    </a:lnTo>
                    <a:lnTo>
                      <a:pt x="438" y="458"/>
                    </a:lnTo>
                    <a:lnTo>
                      <a:pt x="452" y="462"/>
                    </a:lnTo>
                    <a:lnTo>
                      <a:pt x="482" y="464"/>
                    </a:lnTo>
                    <a:lnTo>
                      <a:pt x="496" y="462"/>
                    </a:lnTo>
                    <a:lnTo>
                      <a:pt x="498" y="456"/>
                    </a:lnTo>
                    <a:lnTo>
                      <a:pt x="498" y="444"/>
                    </a:lnTo>
                    <a:lnTo>
                      <a:pt x="496" y="456"/>
                    </a:lnTo>
                    <a:lnTo>
                      <a:pt x="512" y="464"/>
                    </a:lnTo>
                    <a:lnTo>
                      <a:pt x="530" y="458"/>
                    </a:lnTo>
                    <a:lnTo>
                      <a:pt x="544" y="448"/>
                    </a:lnTo>
                    <a:lnTo>
                      <a:pt x="546" y="458"/>
                    </a:lnTo>
                    <a:lnTo>
                      <a:pt x="544" y="468"/>
                    </a:lnTo>
                    <a:lnTo>
                      <a:pt x="576" y="468"/>
                    </a:lnTo>
                    <a:lnTo>
                      <a:pt x="596" y="458"/>
                    </a:lnTo>
                    <a:lnTo>
                      <a:pt x="614" y="438"/>
                    </a:lnTo>
                    <a:lnTo>
                      <a:pt x="612" y="464"/>
                    </a:lnTo>
                    <a:lnTo>
                      <a:pt x="620" y="468"/>
                    </a:lnTo>
                    <a:lnTo>
                      <a:pt x="630" y="462"/>
                    </a:lnTo>
                    <a:lnTo>
                      <a:pt x="650" y="456"/>
                    </a:lnTo>
                    <a:lnTo>
                      <a:pt x="656" y="444"/>
                    </a:lnTo>
                    <a:lnTo>
                      <a:pt x="664" y="436"/>
                    </a:lnTo>
                    <a:lnTo>
                      <a:pt x="656" y="448"/>
                    </a:lnTo>
                    <a:lnTo>
                      <a:pt x="650" y="466"/>
                    </a:lnTo>
                    <a:lnTo>
                      <a:pt x="688" y="468"/>
                    </a:lnTo>
                    <a:lnTo>
                      <a:pt x="768" y="464"/>
                    </a:lnTo>
                    <a:lnTo>
                      <a:pt x="822" y="438"/>
                    </a:lnTo>
                    <a:lnTo>
                      <a:pt x="812" y="428"/>
                    </a:lnTo>
                    <a:lnTo>
                      <a:pt x="814" y="416"/>
                    </a:lnTo>
                    <a:lnTo>
                      <a:pt x="812" y="410"/>
                    </a:lnTo>
                    <a:lnTo>
                      <a:pt x="824" y="416"/>
                    </a:lnTo>
                    <a:lnTo>
                      <a:pt x="828" y="428"/>
                    </a:lnTo>
                    <a:lnTo>
                      <a:pt x="844" y="428"/>
                    </a:lnTo>
                    <a:lnTo>
                      <a:pt x="838" y="440"/>
                    </a:lnTo>
                    <a:lnTo>
                      <a:pt x="820" y="460"/>
                    </a:lnTo>
                    <a:lnTo>
                      <a:pt x="832" y="480"/>
                    </a:lnTo>
                    <a:lnTo>
                      <a:pt x="852" y="478"/>
                    </a:lnTo>
                    <a:lnTo>
                      <a:pt x="862" y="472"/>
                    </a:lnTo>
                    <a:lnTo>
                      <a:pt x="866" y="480"/>
                    </a:lnTo>
                    <a:lnTo>
                      <a:pt x="882" y="488"/>
                    </a:lnTo>
                    <a:lnTo>
                      <a:pt x="902" y="490"/>
                    </a:lnTo>
                    <a:lnTo>
                      <a:pt x="928" y="482"/>
                    </a:lnTo>
                    <a:lnTo>
                      <a:pt x="968" y="478"/>
                    </a:lnTo>
                    <a:lnTo>
                      <a:pt x="1020" y="482"/>
                    </a:lnTo>
                    <a:lnTo>
                      <a:pt x="1042" y="476"/>
                    </a:lnTo>
                    <a:lnTo>
                      <a:pt x="1062" y="478"/>
                    </a:lnTo>
                    <a:lnTo>
                      <a:pt x="1080" y="456"/>
                    </a:lnTo>
                    <a:lnTo>
                      <a:pt x="1078" y="450"/>
                    </a:lnTo>
                    <a:lnTo>
                      <a:pt x="1086" y="446"/>
                    </a:lnTo>
                    <a:lnTo>
                      <a:pt x="1084" y="436"/>
                    </a:lnTo>
                    <a:lnTo>
                      <a:pt x="1072" y="424"/>
                    </a:lnTo>
                    <a:lnTo>
                      <a:pt x="1092" y="404"/>
                    </a:lnTo>
                    <a:lnTo>
                      <a:pt x="1108" y="400"/>
                    </a:lnTo>
                    <a:lnTo>
                      <a:pt x="1130" y="394"/>
                    </a:lnTo>
                    <a:lnTo>
                      <a:pt x="1148" y="386"/>
                    </a:lnTo>
                    <a:lnTo>
                      <a:pt x="1172" y="380"/>
                    </a:lnTo>
                    <a:lnTo>
                      <a:pt x="1200" y="370"/>
                    </a:lnTo>
                    <a:lnTo>
                      <a:pt x="1220" y="342"/>
                    </a:lnTo>
                    <a:lnTo>
                      <a:pt x="1220" y="340"/>
                    </a:lnTo>
                    <a:lnTo>
                      <a:pt x="1208" y="340"/>
                    </a:lnTo>
                    <a:lnTo>
                      <a:pt x="1208" y="334"/>
                    </a:lnTo>
                    <a:lnTo>
                      <a:pt x="1214" y="328"/>
                    </a:lnTo>
                    <a:lnTo>
                      <a:pt x="1174" y="330"/>
                    </a:lnTo>
                    <a:lnTo>
                      <a:pt x="1164" y="326"/>
                    </a:lnTo>
                    <a:lnTo>
                      <a:pt x="1184" y="322"/>
                    </a:lnTo>
                    <a:lnTo>
                      <a:pt x="1188" y="316"/>
                    </a:lnTo>
                    <a:lnTo>
                      <a:pt x="1188" y="312"/>
                    </a:lnTo>
                    <a:lnTo>
                      <a:pt x="1170" y="302"/>
                    </a:lnTo>
                    <a:lnTo>
                      <a:pt x="1148" y="304"/>
                    </a:lnTo>
                    <a:lnTo>
                      <a:pt x="1122" y="298"/>
                    </a:lnTo>
                    <a:lnTo>
                      <a:pt x="1134" y="284"/>
                    </a:lnTo>
                    <a:lnTo>
                      <a:pt x="1134" y="278"/>
                    </a:lnTo>
                    <a:lnTo>
                      <a:pt x="1124" y="280"/>
                    </a:lnTo>
                    <a:lnTo>
                      <a:pt x="1050" y="266"/>
                    </a:lnTo>
                    <a:lnTo>
                      <a:pt x="1012" y="268"/>
                    </a:lnTo>
                    <a:lnTo>
                      <a:pt x="972" y="278"/>
                    </a:lnTo>
                    <a:lnTo>
                      <a:pt x="950" y="274"/>
                    </a:lnTo>
                    <a:lnTo>
                      <a:pt x="950" y="268"/>
                    </a:lnTo>
                    <a:lnTo>
                      <a:pt x="936" y="270"/>
                    </a:lnTo>
                    <a:lnTo>
                      <a:pt x="926" y="264"/>
                    </a:lnTo>
                    <a:lnTo>
                      <a:pt x="914" y="264"/>
                    </a:lnTo>
                    <a:lnTo>
                      <a:pt x="898" y="270"/>
                    </a:lnTo>
                    <a:lnTo>
                      <a:pt x="844" y="278"/>
                    </a:lnTo>
                    <a:lnTo>
                      <a:pt x="830" y="282"/>
                    </a:lnTo>
                    <a:lnTo>
                      <a:pt x="828" y="288"/>
                    </a:lnTo>
                    <a:lnTo>
                      <a:pt x="830" y="290"/>
                    </a:lnTo>
                    <a:lnTo>
                      <a:pt x="804" y="284"/>
                    </a:lnTo>
                    <a:lnTo>
                      <a:pt x="786" y="286"/>
                    </a:lnTo>
                    <a:lnTo>
                      <a:pt x="770" y="294"/>
                    </a:lnTo>
                    <a:lnTo>
                      <a:pt x="768" y="290"/>
                    </a:lnTo>
                    <a:lnTo>
                      <a:pt x="762" y="302"/>
                    </a:lnTo>
                    <a:lnTo>
                      <a:pt x="758" y="306"/>
                    </a:lnTo>
                    <a:lnTo>
                      <a:pt x="758" y="302"/>
                    </a:lnTo>
                    <a:lnTo>
                      <a:pt x="744" y="296"/>
                    </a:lnTo>
                    <a:lnTo>
                      <a:pt x="744" y="290"/>
                    </a:lnTo>
                    <a:lnTo>
                      <a:pt x="720" y="298"/>
                    </a:lnTo>
                    <a:lnTo>
                      <a:pt x="706" y="296"/>
                    </a:lnTo>
                    <a:lnTo>
                      <a:pt x="676" y="302"/>
                    </a:lnTo>
                    <a:lnTo>
                      <a:pt x="672" y="306"/>
                    </a:lnTo>
                    <a:lnTo>
                      <a:pt x="684" y="314"/>
                    </a:lnTo>
                    <a:lnTo>
                      <a:pt x="708" y="320"/>
                    </a:lnTo>
                    <a:lnTo>
                      <a:pt x="706" y="326"/>
                    </a:lnTo>
                    <a:lnTo>
                      <a:pt x="692" y="322"/>
                    </a:lnTo>
                    <a:lnTo>
                      <a:pt x="660" y="318"/>
                    </a:lnTo>
                    <a:lnTo>
                      <a:pt x="606" y="326"/>
                    </a:lnTo>
                    <a:lnTo>
                      <a:pt x="602" y="322"/>
                    </a:lnTo>
                    <a:lnTo>
                      <a:pt x="634" y="318"/>
                    </a:lnTo>
                    <a:lnTo>
                      <a:pt x="630" y="312"/>
                    </a:lnTo>
                    <a:lnTo>
                      <a:pt x="602" y="302"/>
                    </a:lnTo>
                    <a:lnTo>
                      <a:pt x="598" y="290"/>
                    </a:lnTo>
                    <a:lnTo>
                      <a:pt x="578" y="282"/>
                    </a:lnTo>
                    <a:lnTo>
                      <a:pt x="560" y="290"/>
                    </a:lnTo>
                    <a:lnTo>
                      <a:pt x="552" y="298"/>
                    </a:lnTo>
                    <a:lnTo>
                      <a:pt x="542" y="306"/>
                    </a:lnTo>
                    <a:lnTo>
                      <a:pt x="548" y="288"/>
                    </a:lnTo>
                    <a:lnTo>
                      <a:pt x="546" y="284"/>
                    </a:lnTo>
                    <a:lnTo>
                      <a:pt x="522" y="290"/>
                    </a:lnTo>
                    <a:lnTo>
                      <a:pt x="514" y="296"/>
                    </a:lnTo>
                    <a:lnTo>
                      <a:pt x="500" y="302"/>
                    </a:lnTo>
                    <a:lnTo>
                      <a:pt x="488" y="300"/>
                    </a:lnTo>
                    <a:lnTo>
                      <a:pt x="502" y="292"/>
                    </a:lnTo>
                    <a:lnTo>
                      <a:pt x="502" y="288"/>
                    </a:lnTo>
                    <a:lnTo>
                      <a:pt x="496" y="280"/>
                    </a:lnTo>
                    <a:lnTo>
                      <a:pt x="496" y="274"/>
                    </a:lnTo>
                    <a:lnTo>
                      <a:pt x="486" y="266"/>
                    </a:lnTo>
                    <a:lnTo>
                      <a:pt x="468" y="272"/>
                    </a:lnTo>
                    <a:lnTo>
                      <a:pt x="456" y="278"/>
                    </a:lnTo>
                    <a:lnTo>
                      <a:pt x="448" y="298"/>
                    </a:lnTo>
                    <a:lnTo>
                      <a:pt x="428" y="306"/>
                    </a:lnTo>
                    <a:lnTo>
                      <a:pt x="428" y="298"/>
                    </a:lnTo>
                    <a:lnTo>
                      <a:pt x="436" y="282"/>
                    </a:lnTo>
                    <a:lnTo>
                      <a:pt x="418" y="274"/>
                    </a:lnTo>
                    <a:lnTo>
                      <a:pt x="400" y="282"/>
                    </a:lnTo>
                    <a:lnTo>
                      <a:pt x="394" y="280"/>
                    </a:lnTo>
                    <a:lnTo>
                      <a:pt x="394" y="278"/>
                    </a:lnTo>
                    <a:lnTo>
                      <a:pt x="402" y="274"/>
                    </a:lnTo>
                    <a:lnTo>
                      <a:pt x="386" y="276"/>
                    </a:lnTo>
                    <a:lnTo>
                      <a:pt x="394" y="270"/>
                    </a:lnTo>
                    <a:lnTo>
                      <a:pt x="426" y="270"/>
                    </a:lnTo>
                    <a:lnTo>
                      <a:pt x="458" y="248"/>
                    </a:lnTo>
                    <a:lnTo>
                      <a:pt x="452" y="246"/>
                    </a:lnTo>
                    <a:lnTo>
                      <a:pt x="454" y="236"/>
                    </a:lnTo>
                    <a:lnTo>
                      <a:pt x="428" y="240"/>
                    </a:lnTo>
                    <a:lnTo>
                      <a:pt x="412" y="236"/>
                    </a:lnTo>
                    <a:lnTo>
                      <a:pt x="430" y="230"/>
                    </a:lnTo>
                    <a:lnTo>
                      <a:pt x="428" y="216"/>
                    </a:lnTo>
                    <a:lnTo>
                      <a:pt x="424" y="212"/>
                    </a:lnTo>
                    <a:lnTo>
                      <a:pt x="410" y="220"/>
                    </a:lnTo>
                    <a:lnTo>
                      <a:pt x="402" y="220"/>
                    </a:lnTo>
                    <a:lnTo>
                      <a:pt x="396" y="216"/>
                    </a:lnTo>
                    <a:lnTo>
                      <a:pt x="372" y="222"/>
                    </a:lnTo>
                    <a:lnTo>
                      <a:pt x="382" y="212"/>
                    </a:lnTo>
                    <a:lnTo>
                      <a:pt x="368" y="214"/>
                    </a:lnTo>
                    <a:lnTo>
                      <a:pt x="358" y="212"/>
                    </a:lnTo>
                    <a:lnTo>
                      <a:pt x="360" y="210"/>
                    </a:lnTo>
                    <a:lnTo>
                      <a:pt x="342" y="220"/>
                    </a:lnTo>
                    <a:lnTo>
                      <a:pt x="298" y="234"/>
                    </a:lnTo>
                    <a:lnTo>
                      <a:pt x="314" y="218"/>
                    </a:lnTo>
                    <a:lnTo>
                      <a:pt x="330" y="216"/>
                    </a:lnTo>
                    <a:lnTo>
                      <a:pt x="336" y="212"/>
                    </a:lnTo>
                    <a:lnTo>
                      <a:pt x="334" y="206"/>
                    </a:lnTo>
                    <a:lnTo>
                      <a:pt x="402" y="204"/>
                    </a:lnTo>
                    <a:lnTo>
                      <a:pt x="392" y="198"/>
                    </a:lnTo>
                    <a:lnTo>
                      <a:pt x="370" y="198"/>
                    </a:lnTo>
                    <a:lnTo>
                      <a:pt x="366" y="192"/>
                    </a:lnTo>
                    <a:lnTo>
                      <a:pt x="372" y="192"/>
                    </a:lnTo>
                    <a:lnTo>
                      <a:pt x="376" y="190"/>
                    </a:lnTo>
                    <a:lnTo>
                      <a:pt x="368" y="188"/>
                    </a:lnTo>
                    <a:lnTo>
                      <a:pt x="368" y="184"/>
                    </a:lnTo>
                    <a:lnTo>
                      <a:pt x="354" y="176"/>
                    </a:lnTo>
                    <a:lnTo>
                      <a:pt x="328" y="174"/>
                    </a:lnTo>
                    <a:lnTo>
                      <a:pt x="354" y="166"/>
                    </a:lnTo>
                    <a:lnTo>
                      <a:pt x="344" y="164"/>
                    </a:lnTo>
                    <a:lnTo>
                      <a:pt x="352" y="160"/>
                    </a:lnTo>
                    <a:lnTo>
                      <a:pt x="362" y="172"/>
                    </a:lnTo>
                    <a:lnTo>
                      <a:pt x="382" y="178"/>
                    </a:lnTo>
                    <a:lnTo>
                      <a:pt x="398" y="178"/>
                    </a:lnTo>
                    <a:lnTo>
                      <a:pt x="408" y="188"/>
                    </a:lnTo>
                    <a:lnTo>
                      <a:pt x="418" y="188"/>
                    </a:lnTo>
                    <a:lnTo>
                      <a:pt x="410" y="182"/>
                    </a:lnTo>
                    <a:lnTo>
                      <a:pt x="428" y="182"/>
                    </a:lnTo>
                    <a:lnTo>
                      <a:pt x="468" y="190"/>
                    </a:lnTo>
                    <a:lnTo>
                      <a:pt x="490" y="190"/>
                    </a:lnTo>
                    <a:lnTo>
                      <a:pt x="520" y="182"/>
                    </a:lnTo>
                    <a:lnTo>
                      <a:pt x="538" y="172"/>
                    </a:lnTo>
                    <a:lnTo>
                      <a:pt x="542" y="162"/>
                    </a:lnTo>
                    <a:lnTo>
                      <a:pt x="514" y="162"/>
                    </a:lnTo>
                    <a:lnTo>
                      <a:pt x="494" y="158"/>
                    </a:lnTo>
                    <a:lnTo>
                      <a:pt x="466" y="144"/>
                    </a:lnTo>
                    <a:lnTo>
                      <a:pt x="456" y="142"/>
                    </a:lnTo>
                    <a:lnTo>
                      <a:pt x="446" y="146"/>
                    </a:lnTo>
                    <a:lnTo>
                      <a:pt x="444" y="140"/>
                    </a:lnTo>
                    <a:lnTo>
                      <a:pt x="426" y="130"/>
                    </a:lnTo>
                    <a:lnTo>
                      <a:pt x="386" y="126"/>
                    </a:lnTo>
                    <a:lnTo>
                      <a:pt x="386" y="122"/>
                    </a:lnTo>
                    <a:lnTo>
                      <a:pt x="390" y="118"/>
                    </a:lnTo>
                    <a:lnTo>
                      <a:pt x="424" y="124"/>
                    </a:lnTo>
                    <a:lnTo>
                      <a:pt x="434" y="120"/>
                    </a:lnTo>
                    <a:lnTo>
                      <a:pt x="436" y="126"/>
                    </a:lnTo>
                    <a:lnTo>
                      <a:pt x="444" y="130"/>
                    </a:lnTo>
                    <a:lnTo>
                      <a:pt x="456" y="132"/>
                    </a:lnTo>
                    <a:lnTo>
                      <a:pt x="470" y="132"/>
                    </a:lnTo>
                    <a:lnTo>
                      <a:pt x="470" y="126"/>
                    </a:lnTo>
                    <a:lnTo>
                      <a:pt x="476" y="118"/>
                    </a:lnTo>
                    <a:lnTo>
                      <a:pt x="474" y="114"/>
                    </a:lnTo>
                    <a:lnTo>
                      <a:pt x="448" y="98"/>
                    </a:lnTo>
                    <a:lnTo>
                      <a:pt x="436" y="94"/>
                    </a:lnTo>
                    <a:lnTo>
                      <a:pt x="430" y="90"/>
                    </a:lnTo>
                    <a:lnTo>
                      <a:pt x="430" y="86"/>
                    </a:lnTo>
                    <a:lnTo>
                      <a:pt x="418" y="84"/>
                    </a:lnTo>
                    <a:lnTo>
                      <a:pt x="414" y="88"/>
                    </a:lnTo>
                    <a:lnTo>
                      <a:pt x="378" y="90"/>
                    </a:lnTo>
                    <a:lnTo>
                      <a:pt x="356" y="98"/>
                    </a:lnTo>
                    <a:lnTo>
                      <a:pt x="334" y="98"/>
                    </a:lnTo>
                    <a:lnTo>
                      <a:pt x="330" y="92"/>
                    </a:lnTo>
                    <a:lnTo>
                      <a:pt x="312" y="98"/>
                    </a:lnTo>
                    <a:lnTo>
                      <a:pt x="282" y="94"/>
                    </a:lnTo>
                    <a:lnTo>
                      <a:pt x="236" y="112"/>
                    </a:lnTo>
                    <a:lnTo>
                      <a:pt x="208" y="118"/>
                    </a:lnTo>
                    <a:lnTo>
                      <a:pt x="218" y="112"/>
                    </a:lnTo>
                    <a:lnTo>
                      <a:pt x="222" y="108"/>
                    </a:lnTo>
                    <a:lnTo>
                      <a:pt x="254" y="94"/>
                    </a:lnTo>
                    <a:lnTo>
                      <a:pt x="260" y="86"/>
                    </a:lnTo>
                    <a:lnTo>
                      <a:pt x="286" y="70"/>
                    </a:lnTo>
                    <a:lnTo>
                      <a:pt x="282" y="68"/>
                    </a:lnTo>
                    <a:lnTo>
                      <a:pt x="288" y="60"/>
                    </a:lnTo>
                    <a:lnTo>
                      <a:pt x="284" y="54"/>
                    </a:lnTo>
                    <a:lnTo>
                      <a:pt x="286" y="36"/>
                    </a:lnTo>
                    <a:lnTo>
                      <a:pt x="270" y="36"/>
                    </a:lnTo>
                    <a:lnTo>
                      <a:pt x="268" y="30"/>
                    </a:lnTo>
                    <a:lnTo>
                      <a:pt x="256" y="36"/>
                    </a:lnTo>
                    <a:lnTo>
                      <a:pt x="232" y="38"/>
                    </a:lnTo>
                    <a:lnTo>
                      <a:pt x="230" y="30"/>
                    </a:lnTo>
                    <a:lnTo>
                      <a:pt x="204" y="1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132360" y="2526480"/>
                <a:ext cx="14760" cy="936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88" y="8"/>
                    </a:moveTo>
                    <a:lnTo>
                      <a:pt x="90" y="10"/>
                    </a:lnTo>
                    <a:lnTo>
                      <a:pt x="80" y="16"/>
                    </a:lnTo>
                    <a:lnTo>
                      <a:pt x="60" y="30"/>
                    </a:lnTo>
                    <a:lnTo>
                      <a:pt x="68" y="36"/>
                    </a:lnTo>
                    <a:lnTo>
                      <a:pt x="70" y="46"/>
                    </a:lnTo>
                    <a:lnTo>
                      <a:pt x="34" y="46"/>
                    </a:lnTo>
                    <a:lnTo>
                      <a:pt x="30" y="50"/>
                    </a:lnTo>
                    <a:lnTo>
                      <a:pt x="22" y="52"/>
                    </a:lnTo>
                    <a:lnTo>
                      <a:pt x="0" y="44"/>
                    </a:lnTo>
                    <a:lnTo>
                      <a:pt x="18" y="34"/>
                    </a:lnTo>
                    <a:lnTo>
                      <a:pt x="22" y="28"/>
                    </a:lnTo>
                    <a:lnTo>
                      <a:pt x="52" y="14"/>
                    </a:lnTo>
                    <a:lnTo>
                      <a:pt x="58" y="8"/>
                    </a:lnTo>
                    <a:lnTo>
                      <a:pt x="66" y="4"/>
                    </a:lnTo>
                    <a:lnTo>
                      <a:pt x="68" y="2"/>
                    </a:lnTo>
                    <a:lnTo>
                      <a:pt x="78" y="0"/>
                    </a:lnTo>
                    <a:lnTo>
                      <a:pt x="88" y="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103920" y="2556000"/>
                <a:ext cx="14760" cy="540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56" y="28"/>
                    </a:moveTo>
                    <a:lnTo>
                      <a:pt x="70" y="28"/>
                    </a:lnTo>
                    <a:lnTo>
                      <a:pt x="86" y="22"/>
                    </a:lnTo>
                    <a:lnTo>
                      <a:pt x="76" y="14"/>
                    </a:lnTo>
                    <a:lnTo>
                      <a:pt x="80" y="4"/>
                    </a:lnTo>
                    <a:lnTo>
                      <a:pt x="84" y="0"/>
                    </a:lnTo>
                    <a:lnTo>
                      <a:pt x="50" y="0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14" y="6"/>
                    </a:lnTo>
                    <a:lnTo>
                      <a:pt x="0" y="12"/>
                    </a:lnTo>
                    <a:lnTo>
                      <a:pt x="2" y="26"/>
                    </a:lnTo>
                    <a:lnTo>
                      <a:pt x="10" y="32"/>
                    </a:lnTo>
                    <a:lnTo>
                      <a:pt x="32" y="32"/>
                    </a:lnTo>
                    <a:lnTo>
                      <a:pt x="56" y="2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875320" y="2524320"/>
                <a:ext cx="44640" cy="29160"/>
              </a:xfrm>
              <a:custGeom>
                <a:avLst/>
                <a:gdLst/>
                <a:ahLst/>
                <a:rect l="l" t="t" r="r" b="b"/>
                <a:pathLst>
                  <a:path w="264" h="172">
                    <a:moveTo>
                      <a:pt x="214" y="6"/>
                    </a:moveTo>
                    <a:lnTo>
                      <a:pt x="216" y="0"/>
                    </a:lnTo>
                    <a:lnTo>
                      <a:pt x="210" y="10"/>
                    </a:lnTo>
                    <a:lnTo>
                      <a:pt x="232" y="18"/>
                    </a:lnTo>
                    <a:lnTo>
                      <a:pt x="240" y="28"/>
                    </a:lnTo>
                    <a:lnTo>
                      <a:pt x="250" y="32"/>
                    </a:lnTo>
                    <a:lnTo>
                      <a:pt x="242" y="38"/>
                    </a:lnTo>
                    <a:lnTo>
                      <a:pt x="252" y="40"/>
                    </a:lnTo>
                    <a:lnTo>
                      <a:pt x="252" y="48"/>
                    </a:lnTo>
                    <a:lnTo>
                      <a:pt x="234" y="60"/>
                    </a:lnTo>
                    <a:lnTo>
                      <a:pt x="258" y="52"/>
                    </a:lnTo>
                    <a:lnTo>
                      <a:pt x="260" y="62"/>
                    </a:lnTo>
                    <a:lnTo>
                      <a:pt x="256" y="66"/>
                    </a:lnTo>
                    <a:lnTo>
                      <a:pt x="262" y="72"/>
                    </a:lnTo>
                    <a:lnTo>
                      <a:pt x="264" y="80"/>
                    </a:lnTo>
                    <a:lnTo>
                      <a:pt x="252" y="86"/>
                    </a:lnTo>
                    <a:lnTo>
                      <a:pt x="248" y="96"/>
                    </a:lnTo>
                    <a:lnTo>
                      <a:pt x="226" y="112"/>
                    </a:lnTo>
                    <a:lnTo>
                      <a:pt x="210" y="140"/>
                    </a:lnTo>
                    <a:lnTo>
                      <a:pt x="186" y="162"/>
                    </a:lnTo>
                    <a:lnTo>
                      <a:pt x="174" y="168"/>
                    </a:lnTo>
                    <a:lnTo>
                      <a:pt x="156" y="172"/>
                    </a:lnTo>
                    <a:lnTo>
                      <a:pt x="138" y="170"/>
                    </a:lnTo>
                    <a:lnTo>
                      <a:pt x="114" y="172"/>
                    </a:lnTo>
                    <a:lnTo>
                      <a:pt x="98" y="168"/>
                    </a:lnTo>
                    <a:lnTo>
                      <a:pt x="76" y="168"/>
                    </a:lnTo>
                    <a:lnTo>
                      <a:pt x="68" y="160"/>
                    </a:lnTo>
                    <a:lnTo>
                      <a:pt x="70" y="154"/>
                    </a:lnTo>
                    <a:lnTo>
                      <a:pt x="62" y="150"/>
                    </a:lnTo>
                    <a:lnTo>
                      <a:pt x="64" y="144"/>
                    </a:lnTo>
                    <a:lnTo>
                      <a:pt x="62" y="134"/>
                    </a:lnTo>
                    <a:lnTo>
                      <a:pt x="52" y="132"/>
                    </a:lnTo>
                    <a:lnTo>
                      <a:pt x="44" y="136"/>
                    </a:lnTo>
                    <a:lnTo>
                      <a:pt x="42" y="140"/>
                    </a:lnTo>
                    <a:lnTo>
                      <a:pt x="36" y="140"/>
                    </a:lnTo>
                    <a:lnTo>
                      <a:pt x="34" y="136"/>
                    </a:lnTo>
                    <a:lnTo>
                      <a:pt x="40" y="128"/>
                    </a:lnTo>
                    <a:lnTo>
                      <a:pt x="40" y="126"/>
                    </a:lnTo>
                    <a:lnTo>
                      <a:pt x="30" y="124"/>
                    </a:lnTo>
                    <a:lnTo>
                      <a:pt x="22" y="128"/>
                    </a:lnTo>
                    <a:lnTo>
                      <a:pt x="16" y="124"/>
                    </a:lnTo>
                    <a:lnTo>
                      <a:pt x="18" y="110"/>
                    </a:lnTo>
                    <a:lnTo>
                      <a:pt x="24" y="104"/>
                    </a:lnTo>
                    <a:lnTo>
                      <a:pt x="36" y="98"/>
                    </a:lnTo>
                    <a:lnTo>
                      <a:pt x="28" y="100"/>
                    </a:lnTo>
                    <a:lnTo>
                      <a:pt x="30" y="92"/>
                    </a:lnTo>
                    <a:lnTo>
                      <a:pt x="8" y="106"/>
                    </a:lnTo>
                    <a:lnTo>
                      <a:pt x="0" y="106"/>
                    </a:lnTo>
                    <a:lnTo>
                      <a:pt x="6" y="98"/>
                    </a:lnTo>
                    <a:lnTo>
                      <a:pt x="0" y="94"/>
                    </a:lnTo>
                    <a:lnTo>
                      <a:pt x="8" y="80"/>
                    </a:lnTo>
                    <a:lnTo>
                      <a:pt x="14" y="72"/>
                    </a:lnTo>
                    <a:lnTo>
                      <a:pt x="20" y="66"/>
                    </a:lnTo>
                    <a:lnTo>
                      <a:pt x="30" y="66"/>
                    </a:lnTo>
                    <a:lnTo>
                      <a:pt x="38" y="64"/>
                    </a:lnTo>
                    <a:lnTo>
                      <a:pt x="40" y="58"/>
                    </a:lnTo>
                    <a:lnTo>
                      <a:pt x="48" y="56"/>
                    </a:lnTo>
                    <a:lnTo>
                      <a:pt x="70" y="54"/>
                    </a:lnTo>
                    <a:lnTo>
                      <a:pt x="90" y="52"/>
                    </a:lnTo>
                    <a:lnTo>
                      <a:pt x="92" y="48"/>
                    </a:lnTo>
                    <a:lnTo>
                      <a:pt x="80" y="46"/>
                    </a:lnTo>
                    <a:lnTo>
                      <a:pt x="84" y="42"/>
                    </a:lnTo>
                    <a:lnTo>
                      <a:pt x="100" y="36"/>
                    </a:lnTo>
                    <a:lnTo>
                      <a:pt x="96" y="40"/>
                    </a:lnTo>
                    <a:lnTo>
                      <a:pt x="110" y="40"/>
                    </a:lnTo>
                    <a:lnTo>
                      <a:pt x="118" y="32"/>
                    </a:lnTo>
                    <a:lnTo>
                      <a:pt x="104" y="30"/>
                    </a:lnTo>
                    <a:lnTo>
                      <a:pt x="86" y="36"/>
                    </a:lnTo>
                    <a:lnTo>
                      <a:pt x="90" y="30"/>
                    </a:lnTo>
                    <a:lnTo>
                      <a:pt x="104" y="26"/>
                    </a:lnTo>
                    <a:lnTo>
                      <a:pt x="124" y="32"/>
                    </a:lnTo>
                    <a:lnTo>
                      <a:pt x="128" y="26"/>
                    </a:lnTo>
                    <a:lnTo>
                      <a:pt x="134" y="16"/>
                    </a:lnTo>
                    <a:lnTo>
                      <a:pt x="186" y="2"/>
                    </a:lnTo>
                    <a:lnTo>
                      <a:pt x="206" y="2"/>
                    </a:lnTo>
                    <a:lnTo>
                      <a:pt x="214" y="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54360" y="2801880"/>
                <a:ext cx="124920" cy="77400"/>
              </a:xfrm>
              <a:custGeom>
                <a:avLst/>
                <a:gdLst/>
                <a:ahLst/>
                <a:rect l="l" t="t" r="r" b="b"/>
                <a:pathLst>
                  <a:path w="722" h="452">
                    <a:moveTo>
                      <a:pt x="388" y="16"/>
                    </a:moveTo>
                    <a:lnTo>
                      <a:pt x="414" y="2"/>
                    </a:lnTo>
                    <a:lnTo>
                      <a:pt x="424" y="0"/>
                    </a:lnTo>
                    <a:lnTo>
                      <a:pt x="418" y="14"/>
                    </a:lnTo>
                    <a:lnTo>
                      <a:pt x="440" y="14"/>
                    </a:lnTo>
                    <a:lnTo>
                      <a:pt x="434" y="36"/>
                    </a:lnTo>
                    <a:lnTo>
                      <a:pt x="440" y="50"/>
                    </a:lnTo>
                    <a:lnTo>
                      <a:pt x="422" y="62"/>
                    </a:lnTo>
                    <a:lnTo>
                      <a:pt x="418" y="80"/>
                    </a:lnTo>
                    <a:lnTo>
                      <a:pt x="406" y="104"/>
                    </a:lnTo>
                    <a:lnTo>
                      <a:pt x="416" y="110"/>
                    </a:lnTo>
                    <a:lnTo>
                      <a:pt x="438" y="92"/>
                    </a:lnTo>
                    <a:lnTo>
                      <a:pt x="464" y="78"/>
                    </a:lnTo>
                    <a:lnTo>
                      <a:pt x="476" y="80"/>
                    </a:lnTo>
                    <a:lnTo>
                      <a:pt x="488" y="94"/>
                    </a:lnTo>
                    <a:lnTo>
                      <a:pt x="500" y="100"/>
                    </a:lnTo>
                    <a:lnTo>
                      <a:pt x="482" y="120"/>
                    </a:lnTo>
                    <a:lnTo>
                      <a:pt x="496" y="130"/>
                    </a:lnTo>
                    <a:lnTo>
                      <a:pt x="544" y="140"/>
                    </a:lnTo>
                    <a:lnTo>
                      <a:pt x="540" y="150"/>
                    </a:lnTo>
                    <a:lnTo>
                      <a:pt x="540" y="160"/>
                    </a:lnTo>
                    <a:lnTo>
                      <a:pt x="546" y="176"/>
                    </a:lnTo>
                    <a:lnTo>
                      <a:pt x="564" y="184"/>
                    </a:lnTo>
                    <a:lnTo>
                      <a:pt x="572" y="200"/>
                    </a:lnTo>
                    <a:lnTo>
                      <a:pt x="588" y="210"/>
                    </a:lnTo>
                    <a:lnTo>
                      <a:pt x="606" y="208"/>
                    </a:lnTo>
                    <a:lnTo>
                      <a:pt x="620" y="222"/>
                    </a:lnTo>
                    <a:lnTo>
                      <a:pt x="632" y="226"/>
                    </a:lnTo>
                    <a:lnTo>
                      <a:pt x="630" y="242"/>
                    </a:lnTo>
                    <a:lnTo>
                      <a:pt x="634" y="256"/>
                    </a:lnTo>
                    <a:lnTo>
                      <a:pt x="614" y="296"/>
                    </a:lnTo>
                    <a:lnTo>
                      <a:pt x="618" y="308"/>
                    </a:lnTo>
                    <a:lnTo>
                      <a:pt x="600" y="324"/>
                    </a:lnTo>
                    <a:lnTo>
                      <a:pt x="606" y="332"/>
                    </a:lnTo>
                    <a:lnTo>
                      <a:pt x="628" y="328"/>
                    </a:lnTo>
                    <a:lnTo>
                      <a:pt x="642" y="330"/>
                    </a:lnTo>
                    <a:lnTo>
                      <a:pt x="644" y="336"/>
                    </a:lnTo>
                    <a:lnTo>
                      <a:pt x="678" y="318"/>
                    </a:lnTo>
                    <a:lnTo>
                      <a:pt x="692" y="326"/>
                    </a:lnTo>
                    <a:lnTo>
                      <a:pt x="692" y="340"/>
                    </a:lnTo>
                    <a:lnTo>
                      <a:pt x="700" y="346"/>
                    </a:lnTo>
                    <a:lnTo>
                      <a:pt x="694" y="360"/>
                    </a:lnTo>
                    <a:lnTo>
                      <a:pt x="686" y="366"/>
                    </a:lnTo>
                    <a:lnTo>
                      <a:pt x="722" y="376"/>
                    </a:lnTo>
                    <a:lnTo>
                      <a:pt x="718" y="386"/>
                    </a:lnTo>
                    <a:lnTo>
                      <a:pt x="700" y="386"/>
                    </a:lnTo>
                    <a:lnTo>
                      <a:pt x="656" y="406"/>
                    </a:lnTo>
                    <a:lnTo>
                      <a:pt x="636" y="412"/>
                    </a:lnTo>
                    <a:lnTo>
                      <a:pt x="610" y="426"/>
                    </a:lnTo>
                    <a:lnTo>
                      <a:pt x="594" y="428"/>
                    </a:lnTo>
                    <a:lnTo>
                      <a:pt x="572" y="418"/>
                    </a:lnTo>
                    <a:lnTo>
                      <a:pt x="566" y="410"/>
                    </a:lnTo>
                    <a:lnTo>
                      <a:pt x="568" y="404"/>
                    </a:lnTo>
                    <a:lnTo>
                      <a:pt x="552" y="408"/>
                    </a:lnTo>
                    <a:lnTo>
                      <a:pt x="552" y="396"/>
                    </a:lnTo>
                    <a:lnTo>
                      <a:pt x="540" y="390"/>
                    </a:lnTo>
                    <a:lnTo>
                      <a:pt x="526" y="388"/>
                    </a:lnTo>
                    <a:lnTo>
                      <a:pt x="520" y="380"/>
                    </a:lnTo>
                    <a:lnTo>
                      <a:pt x="506" y="386"/>
                    </a:lnTo>
                    <a:lnTo>
                      <a:pt x="486" y="382"/>
                    </a:lnTo>
                    <a:lnTo>
                      <a:pt x="488" y="372"/>
                    </a:lnTo>
                    <a:lnTo>
                      <a:pt x="506" y="358"/>
                    </a:lnTo>
                    <a:lnTo>
                      <a:pt x="512" y="344"/>
                    </a:lnTo>
                    <a:lnTo>
                      <a:pt x="502" y="338"/>
                    </a:lnTo>
                    <a:lnTo>
                      <a:pt x="470" y="328"/>
                    </a:lnTo>
                    <a:lnTo>
                      <a:pt x="464" y="330"/>
                    </a:lnTo>
                    <a:lnTo>
                      <a:pt x="460" y="336"/>
                    </a:lnTo>
                    <a:lnTo>
                      <a:pt x="448" y="328"/>
                    </a:lnTo>
                    <a:lnTo>
                      <a:pt x="468" y="312"/>
                    </a:lnTo>
                    <a:lnTo>
                      <a:pt x="486" y="304"/>
                    </a:lnTo>
                    <a:lnTo>
                      <a:pt x="484" y="300"/>
                    </a:lnTo>
                    <a:lnTo>
                      <a:pt x="442" y="302"/>
                    </a:lnTo>
                    <a:lnTo>
                      <a:pt x="410" y="310"/>
                    </a:lnTo>
                    <a:lnTo>
                      <a:pt x="404" y="318"/>
                    </a:lnTo>
                    <a:lnTo>
                      <a:pt x="384" y="340"/>
                    </a:lnTo>
                    <a:lnTo>
                      <a:pt x="384" y="348"/>
                    </a:lnTo>
                    <a:lnTo>
                      <a:pt x="372" y="362"/>
                    </a:lnTo>
                    <a:lnTo>
                      <a:pt x="358" y="362"/>
                    </a:lnTo>
                    <a:lnTo>
                      <a:pt x="346" y="370"/>
                    </a:lnTo>
                    <a:lnTo>
                      <a:pt x="330" y="372"/>
                    </a:lnTo>
                    <a:lnTo>
                      <a:pt x="320" y="382"/>
                    </a:lnTo>
                    <a:lnTo>
                      <a:pt x="304" y="390"/>
                    </a:lnTo>
                    <a:lnTo>
                      <a:pt x="290" y="388"/>
                    </a:lnTo>
                    <a:lnTo>
                      <a:pt x="266" y="400"/>
                    </a:lnTo>
                    <a:lnTo>
                      <a:pt x="252" y="412"/>
                    </a:lnTo>
                    <a:lnTo>
                      <a:pt x="244" y="410"/>
                    </a:lnTo>
                    <a:lnTo>
                      <a:pt x="244" y="414"/>
                    </a:lnTo>
                    <a:lnTo>
                      <a:pt x="230" y="424"/>
                    </a:lnTo>
                    <a:lnTo>
                      <a:pt x="208" y="436"/>
                    </a:lnTo>
                    <a:lnTo>
                      <a:pt x="140" y="452"/>
                    </a:lnTo>
                    <a:lnTo>
                      <a:pt x="138" y="446"/>
                    </a:lnTo>
                    <a:lnTo>
                      <a:pt x="120" y="450"/>
                    </a:lnTo>
                    <a:lnTo>
                      <a:pt x="122" y="426"/>
                    </a:lnTo>
                    <a:lnTo>
                      <a:pt x="138" y="396"/>
                    </a:lnTo>
                    <a:lnTo>
                      <a:pt x="158" y="370"/>
                    </a:lnTo>
                    <a:lnTo>
                      <a:pt x="158" y="360"/>
                    </a:lnTo>
                    <a:lnTo>
                      <a:pt x="172" y="340"/>
                    </a:lnTo>
                    <a:lnTo>
                      <a:pt x="176" y="328"/>
                    </a:lnTo>
                    <a:lnTo>
                      <a:pt x="164" y="334"/>
                    </a:lnTo>
                    <a:lnTo>
                      <a:pt x="146" y="356"/>
                    </a:lnTo>
                    <a:lnTo>
                      <a:pt x="132" y="356"/>
                    </a:lnTo>
                    <a:lnTo>
                      <a:pt x="116" y="362"/>
                    </a:lnTo>
                    <a:lnTo>
                      <a:pt x="88" y="360"/>
                    </a:lnTo>
                    <a:lnTo>
                      <a:pt x="82" y="356"/>
                    </a:lnTo>
                    <a:lnTo>
                      <a:pt x="70" y="356"/>
                    </a:lnTo>
                    <a:lnTo>
                      <a:pt x="36" y="368"/>
                    </a:lnTo>
                    <a:lnTo>
                      <a:pt x="4" y="372"/>
                    </a:lnTo>
                    <a:lnTo>
                      <a:pt x="0" y="364"/>
                    </a:lnTo>
                    <a:lnTo>
                      <a:pt x="6" y="350"/>
                    </a:lnTo>
                    <a:lnTo>
                      <a:pt x="50" y="316"/>
                    </a:lnTo>
                    <a:lnTo>
                      <a:pt x="72" y="306"/>
                    </a:lnTo>
                    <a:lnTo>
                      <a:pt x="98" y="304"/>
                    </a:lnTo>
                    <a:lnTo>
                      <a:pt x="154" y="276"/>
                    </a:lnTo>
                    <a:lnTo>
                      <a:pt x="164" y="262"/>
                    </a:lnTo>
                    <a:lnTo>
                      <a:pt x="162" y="254"/>
                    </a:lnTo>
                    <a:lnTo>
                      <a:pt x="182" y="222"/>
                    </a:lnTo>
                    <a:lnTo>
                      <a:pt x="186" y="212"/>
                    </a:lnTo>
                    <a:lnTo>
                      <a:pt x="204" y="192"/>
                    </a:lnTo>
                    <a:lnTo>
                      <a:pt x="230" y="172"/>
                    </a:lnTo>
                    <a:lnTo>
                      <a:pt x="248" y="152"/>
                    </a:lnTo>
                    <a:lnTo>
                      <a:pt x="252" y="148"/>
                    </a:lnTo>
                    <a:lnTo>
                      <a:pt x="264" y="134"/>
                    </a:lnTo>
                    <a:lnTo>
                      <a:pt x="304" y="86"/>
                    </a:lnTo>
                    <a:lnTo>
                      <a:pt x="314" y="70"/>
                    </a:lnTo>
                    <a:lnTo>
                      <a:pt x="330" y="56"/>
                    </a:lnTo>
                    <a:lnTo>
                      <a:pt x="354" y="34"/>
                    </a:lnTo>
                    <a:lnTo>
                      <a:pt x="374" y="22"/>
                    </a:lnTo>
                    <a:lnTo>
                      <a:pt x="388" y="1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49400" y="279648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62" h="88">
                    <a:moveTo>
                      <a:pt x="44" y="28"/>
                    </a:moveTo>
                    <a:lnTo>
                      <a:pt x="48" y="34"/>
                    </a:lnTo>
                    <a:lnTo>
                      <a:pt x="54" y="36"/>
                    </a:lnTo>
                    <a:lnTo>
                      <a:pt x="48" y="48"/>
                    </a:lnTo>
                    <a:lnTo>
                      <a:pt x="44" y="62"/>
                    </a:lnTo>
                    <a:lnTo>
                      <a:pt x="48" y="72"/>
                    </a:lnTo>
                    <a:lnTo>
                      <a:pt x="62" y="78"/>
                    </a:lnTo>
                    <a:lnTo>
                      <a:pt x="58" y="88"/>
                    </a:lnTo>
                    <a:lnTo>
                      <a:pt x="20" y="82"/>
                    </a:lnTo>
                    <a:lnTo>
                      <a:pt x="18" y="70"/>
                    </a:lnTo>
                    <a:lnTo>
                      <a:pt x="4" y="54"/>
                    </a:lnTo>
                    <a:lnTo>
                      <a:pt x="8" y="44"/>
                    </a:lnTo>
                    <a:lnTo>
                      <a:pt x="8" y="24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32" y="8"/>
                    </a:lnTo>
                    <a:lnTo>
                      <a:pt x="44" y="2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997720" y="2744280"/>
                <a:ext cx="47160" cy="30600"/>
              </a:xfrm>
              <a:custGeom>
                <a:avLst/>
                <a:gdLst/>
                <a:ahLst/>
                <a:rect l="l" t="t" r="r" b="b"/>
                <a:pathLst>
                  <a:path w="270" h="180">
                    <a:moveTo>
                      <a:pt x="176" y="4"/>
                    </a:moveTo>
                    <a:lnTo>
                      <a:pt x="186" y="0"/>
                    </a:lnTo>
                    <a:lnTo>
                      <a:pt x="186" y="6"/>
                    </a:lnTo>
                    <a:lnTo>
                      <a:pt x="192" y="14"/>
                    </a:lnTo>
                    <a:lnTo>
                      <a:pt x="216" y="6"/>
                    </a:lnTo>
                    <a:lnTo>
                      <a:pt x="234" y="8"/>
                    </a:lnTo>
                    <a:lnTo>
                      <a:pt x="234" y="22"/>
                    </a:lnTo>
                    <a:lnTo>
                      <a:pt x="248" y="26"/>
                    </a:lnTo>
                    <a:lnTo>
                      <a:pt x="268" y="24"/>
                    </a:lnTo>
                    <a:lnTo>
                      <a:pt x="270" y="44"/>
                    </a:lnTo>
                    <a:lnTo>
                      <a:pt x="260" y="62"/>
                    </a:lnTo>
                    <a:lnTo>
                      <a:pt x="240" y="88"/>
                    </a:lnTo>
                    <a:lnTo>
                      <a:pt x="230" y="116"/>
                    </a:lnTo>
                    <a:lnTo>
                      <a:pt x="206" y="140"/>
                    </a:lnTo>
                    <a:lnTo>
                      <a:pt x="166" y="162"/>
                    </a:lnTo>
                    <a:lnTo>
                      <a:pt x="128" y="174"/>
                    </a:lnTo>
                    <a:lnTo>
                      <a:pt x="34" y="180"/>
                    </a:lnTo>
                    <a:lnTo>
                      <a:pt x="26" y="176"/>
                    </a:lnTo>
                    <a:lnTo>
                      <a:pt x="2" y="168"/>
                    </a:lnTo>
                    <a:lnTo>
                      <a:pt x="0" y="142"/>
                    </a:lnTo>
                    <a:lnTo>
                      <a:pt x="8" y="116"/>
                    </a:lnTo>
                    <a:lnTo>
                      <a:pt x="20" y="94"/>
                    </a:lnTo>
                    <a:lnTo>
                      <a:pt x="38" y="74"/>
                    </a:lnTo>
                    <a:lnTo>
                      <a:pt x="56" y="64"/>
                    </a:lnTo>
                    <a:lnTo>
                      <a:pt x="78" y="46"/>
                    </a:lnTo>
                    <a:lnTo>
                      <a:pt x="106" y="26"/>
                    </a:lnTo>
                    <a:lnTo>
                      <a:pt x="134" y="10"/>
                    </a:lnTo>
                    <a:lnTo>
                      <a:pt x="158" y="10"/>
                    </a:lnTo>
                    <a:lnTo>
                      <a:pt x="176" y="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48120" y="2751120"/>
                <a:ext cx="17280" cy="11880"/>
              </a:xfrm>
              <a:custGeom>
                <a:avLst/>
                <a:gdLst/>
                <a:ahLst/>
                <a:rect l="l" t="t" r="r" b="b"/>
                <a:pathLst>
                  <a:path w="108" h="72">
                    <a:moveTo>
                      <a:pt x="8" y="22"/>
                    </a:moveTo>
                    <a:lnTo>
                      <a:pt x="22" y="14"/>
                    </a:lnTo>
                    <a:lnTo>
                      <a:pt x="40" y="12"/>
                    </a:lnTo>
                    <a:lnTo>
                      <a:pt x="66" y="0"/>
                    </a:lnTo>
                    <a:lnTo>
                      <a:pt x="62" y="14"/>
                    </a:lnTo>
                    <a:lnTo>
                      <a:pt x="92" y="28"/>
                    </a:lnTo>
                    <a:lnTo>
                      <a:pt x="108" y="32"/>
                    </a:lnTo>
                    <a:lnTo>
                      <a:pt x="106" y="62"/>
                    </a:lnTo>
                    <a:lnTo>
                      <a:pt x="80" y="72"/>
                    </a:lnTo>
                    <a:lnTo>
                      <a:pt x="50" y="62"/>
                    </a:lnTo>
                    <a:lnTo>
                      <a:pt x="16" y="60"/>
                    </a:lnTo>
                    <a:lnTo>
                      <a:pt x="0" y="42"/>
                    </a:lnTo>
                    <a:lnTo>
                      <a:pt x="8" y="2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89440" y="2713680"/>
                <a:ext cx="27360" cy="11520"/>
              </a:xfrm>
              <a:custGeom>
                <a:avLst/>
                <a:gdLst/>
                <a:ahLst/>
                <a:rect l="l" t="t" r="r" b="b"/>
                <a:pathLst>
                  <a:path w="156" h="72">
                    <a:moveTo>
                      <a:pt x="112" y="34"/>
                    </a:moveTo>
                    <a:lnTo>
                      <a:pt x="98" y="40"/>
                    </a:lnTo>
                    <a:lnTo>
                      <a:pt x="66" y="64"/>
                    </a:lnTo>
                    <a:lnTo>
                      <a:pt x="42" y="72"/>
                    </a:lnTo>
                    <a:lnTo>
                      <a:pt x="0" y="72"/>
                    </a:lnTo>
                    <a:lnTo>
                      <a:pt x="8" y="62"/>
                    </a:lnTo>
                    <a:lnTo>
                      <a:pt x="40" y="44"/>
                    </a:lnTo>
                    <a:lnTo>
                      <a:pt x="66" y="38"/>
                    </a:lnTo>
                    <a:lnTo>
                      <a:pt x="104" y="18"/>
                    </a:lnTo>
                    <a:lnTo>
                      <a:pt x="122" y="4"/>
                    </a:lnTo>
                    <a:lnTo>
                      <a:pt x="130" y="0"/>
                    </a:lnTo>
                    <a:lnTo>
                      <a:pt x="150" y="0"/>
                    </a:lnTo>
                    <a:lnTo>
                      <a:pt x="156" y="4"/>
                    </a:lnTo>
                    <a:lnTo>
                      <a:pt x="144" y="20"/>
                    </a:lnTo>
                    <a:lnTo>
                      <a:pt x="134" y="26"/>
                    </a:lnTo>
                    <a:lnTo>
                      <a:pt x="124" y="26"/>
                    </a:lnTo>
                    <a:lnTo>
                      <a:pt x="112" y="3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89440" y="270036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34" y="0"/>
                    </a:moveTo>
                    <a:lnTo>
                      <a:pt x="36" y="6"/>
                    </a:lnTo>
                    <a:lnTo>
                      <a:pt x="44" y="10"/>
                    </a:lnTo>
                    <a:lnTo>
                      <a:pt x="52" y="12"/>
                    </a:lnTo>
                    <a:lnTo>
                      <a:pt x="70" y="4"/>
                    </a:lnTo>
                    <a:lnTo>
                      <a:pt x="82" y="2"/>
                    </a:lnTo>
                    <a:lnTo>
                      <a:pt x="96" y="6"/>
                    </a:lnTo>
                    <a:lnTo>
                      <a:pt x="102" y="14"/>
                    </a:lnTo>
                    <a:lnTo>
                      <a:pt x="88" y="28"/>
                    </a:lnTo>
                    <a:lnTo>
                      <a:pt x="42" y="34"/>
                    </a:lnTo>
                    <a:lnTo>
                      <a:pt x="32" y="26"/>
                    </a:lnTo>
                    <a:lnTo>
                      <a:pt x="14" y="52"/>
                    </a:lnTo>
                    <a:lnTo>
                      <a:pt x="0" y="28"/>
                    </a:lnTo>
                    <a:lnTo>
                      <a:pt x="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01240" y="2879640"/>
                <a:ext cx="14760" cy="1044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6" y="10"/>
                    </a:moveTo>
                    <a:lnTo>
                      <a:pt x="0" y="10"/>
                    </a:lnTo>
                    <a:lnTo>
                      <a:pt x="8" y="4"/>
                    </a:lnTo>
                    <a:lnTo>
                      <a:pt x="40" y="0"/>
                    </a:lnTo>
                    <a:lnTo>
                      <a:pt x="62" y="2"/>
                    </a:lnTo>
                    <a:lnTo>
                      <a:pt x="68" y="10"/>
                    </a:lnTo>
                    <a:lnTo>
                      <a:pt x="84" y="10"/>
                    </a:lnTo>
                    <a:lnTo>
                      <a:pt x="90" y="24"/>
                    </a:lnTo>
                    <a:lnTo>
                      <a:pt x="84" y="46"/>
                    </a:lnTo>
                    <a:lnTo>
                      <a:pt x="40" y="66"/>
                    </a:lnTo>
                    <a:lnTo>
                      <a:pt x="6" y="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25720" y="2872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4" y="0"/>
                    </a:moveTo>
                    <a:lnTo>
                      <a:pt x="16" y="6"/>
                    </a:lnTo>
                    <a:lnTo>
                      <a:pt x="36" y="12"/>
                    </a:lnTo>
                    <a:lnTo>
                      <a:pt x="56" y="24"/>
                    </a:lnTo>
                    <a:lnTo>
                      <a:pt x="58" y="32"/>
                    </a:lnTo>
                    <a:lnTo>
                      <a:pt x="50" y="52"/>
                    </a:lnTo>
                    <a:lnTo>
                      <a:pt x="30" y="50"/>
                    </a:lnTo>
                    <a:lnTo>
                      <a:pt x="12" y="40"/>
                    </a:lnTo>
                    <a:lnTo>
                      <a:pt x="0" y="2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10320" y="2342520"/>
                <a:ext cx="519120" cy="182880"/>
              </a:xfrm>
              <a:custGeom>
                <a:avLst/>
                <a:gdLst/>
                <a:ahLst/>
                <a:rect l="l" t="t" r="r" b="b"/>
                <a:pathLst>
                  <a:path w="2988" h="1072">
                    <a:moveTo>
                      <a:pt x="2918" y="124"/>
                    </a:moveTo>
                    <a:lnTo>
                      <a:pt x="2898" y="122"/>
                    </a:lnTo>
                    <a:lnTo>
                      <a:pt x="2880" y="128"/>
                    </a:lnTo>
                    <a:lnTo>
                      <a:pt x="2876" y="124"/>
                    </a:lnTo>
                    <a:lnTo>
                      <a:pt x="2832" y="136"/>
                    </a:lnTo>
                    <a:lnTo>
                      <a:pt x="2846" y="128"/>
                    </a:lnTo>
                    <a:lnTo>
                      <a:pt x="2852" y="124"/>
                    </a:lnTo>
                    <a:lnTo>
                      <a:pt x="2862" y="116"/>
                    </a:lnTo>
                    <a:lnTo>
                      <a:pt x="2874" y="112"/>
                    </a:lnTo>
                    <a:lnTo>
                      <a:pt x="2846" y="104"/>
                    </a:lnTo>
                    <a:lnTo>
                      <a:pt x="2844" y="98"/>
                    </a:lnTo>
                    <a:lnTo>
                      <a:pt x="2846" y="94"/>
                    </a:lnTo>
                    <a:lnTo>
                      <a:pt x="2828" y="82"/>
                    </a:lnTo>
                    <a:lnTo>
                      <a:pt x="2848" y="80"/>
                    </a:lnTo>
                    <a:lnTo>
                      <a:pt x="2856" y="72"/>
                    </a:lnTo>
                    <a:lnTo>
                      <a:pt x="2856" y="64"/>
                    </a:lnTo>
                    <a:lnTo>
                      <a:pt x="2824" y="64"/>
                    </a:lnTo>
                    <a:lnTo>
                      <a:pt x="2786" y="74"/>
                    </a:lnTo>
                    <a:lnTo>
                      <a:pt x="2768" y="68"/>
                    </a:lnTo>
                    <a:lnTo>
                      <a:pt x="2772" y="58"/>
                    </a:lnTo>
                    <a:lnTo>
                      <a:pt x="2766" y="58"/>
                    </a:lnTo>
                    <a:lnTo>
                      <a:pt x="2772" y="54"/>
                    </a:lnTo>
                    <a:lnTo>
                      <a:pt x="2772" y="50"/>
                    </a:lnTo>
                    <a:lnTo>
                      <a:pt x="2752" y="52"/>
                    </a:lnTo>
                    <a:lnTo>
                      <a:pt x="2740" y="56"/>
                    </a:lnTo>
                    <a:lnTo>
                      <a:pt x="2750" y="58"/>
                    </a:lnTo>
                    <a:lnTo>
                      <a:pt x="2712" y="66"/>
                    </a:lnTo>
                    <a:lnTo>
                      <a:pt x="2722" y="76"/>
                    </a:lnTo>
                    <a:lnTo>
                      <a:pt x="2712" y="80"/>
                    </a:lnTo>
                    <a:lnTo>
                      <a:pt x="2708" y="72"/>
                    </a:lnTo>
                    <a:lnTo>
                      <a:pt x="2698" y="66"/>
                    </a:lnTo>
                    <a:lnTo>
                      <a:pt x="2704" y="60"/>
                    </a:lnTo>
                    <a:lnTo>
                      <a:pt x="2690" y="60"/>
                    </a:lnTo>
                    <a:lnTo>
                      <a:pt x="2644" y="66"/>
                    </a:lnTo>
                    <a:lnTo>
                      <a:pt x="2592" y="76"/>
                    </a:lnTo>
                    <a:lnTo>
                      <a:pt x="2552" y="80"/>
                    </a:lnTo>
                    <a:lnTo>
                      <a:pt x="2518" y="86"/>
                    </a:lnTo>
                    <a:lnTo>
                      <a:pt x="2438" y="90"/>
                    </a:lnTo>
                    <a:lnTo>
                      <a:pt x="2460" y="80"/>
                    </a:lnTo>
                    <a:lnTo>
                      <a:pt x="2598" y="60"/>
                    </a:lnTo>
                    <a:lnTo>
                      <a:pt x="2624" y="56"/>
                    </a:lnTo>
                    <a:lnTo>
                      <a:pt x="2650" y="42"/>
                    </a:lnTo>
                    <a:lnTo>
                      <a:pt x="2592" y="38"/>
                    </a:lnTo>
                    <a:lnTo>
                      <a:pt x="2574" y="38"/>
                    </a:lnTo>
                    <a:lnTo>
                      <a:pt x="2552" y="32"/>
                    </a:lnTo>
                    <a:lnTo>
                      <a:pt x="2524" y="34"/>
                    </a:lnTo>
                    <a:lnTo>
                      <a:pt x="2494" y="26"/>
                    </a:lnTo>
                    <a:lnTo>
                      <a:pt x="2450" y="30"/>
                    </a:lnTo>
                    <a:lnTo>
                      <a:pt x="2446" y="34"/>
                    </a:lnTo>
                    <a:lnTo>
                      <a:pt x="2444" y="24"/>
                    </a:lnTo>
                    <a:lnTo>
                      <a:pt x="2428" y="20"/>
                    </a:lnTo>
                    <a:lnTo>
                      <a:pt x="2402" y="24"/>
                    </a:lnTo>
                    <a:lnTo>
                      <a:pt x="2396" y="16"/>
                    </a:lnTo>
                    <a:lnTo>
                      <a:pt x="2392" y="8"/>
                    </a:lnTo>
                    <a:lnTo>
                      <a:pt x="2352" y="6"/>
                    </a:lnTo>
                    <a:lnTo>
                      <a:pt x="2280" y="12"/>
                    </a:lnTo>
                    <a:lnTo>
                      <a:pt x="2266" y="22"/>
                    </a:lnTo>
                    <a:lnTo>
                      <a:pt x="2248" y="16"/>
                    </a:lnTo>
                    <a:lnTo>
                      <a:pt x="2264" y="8"/>
                    </a:lnTo>
                    <a:lnTo>
                      <a:pt x="2230" y="2"/>
                    </a:lnTo>
                    <a:lnTo>
                      <a:pt x="2204" y="4"/>
                    </a:lnTo>
                    <a:lnTo>
                      <a:pt x="2170" y="2"/>
                    </a:lnTo>
                    <a:lnTo>
                      <a:pt x="2124" y="16"/>
                    </a:lnTo>
                    <a:lnTo>
                      <a:pt x="2104" y="26"/>
                    </a:lnTo>
                    <a:lnTo>
                      <a:pt x="2100" y="38"/>
                    </a:lnTo>
                    <a:lnTo>
                      <a:pt x="2106" y="48"/>
                    </a:lnTo>
                    <a:lnTo>
                      <a:pt x="2116" y="56"/>
                    </a:lnTo>
                    <a:lnTo>
                      <a:pt x="2092" y="50"/>
                    </a:lnTo>
                    <a:lnTo>
                      <a:pt x="2068" y="28"/>
                    </a:lnTo>
                    <a:lnTo>
                      <a:pt x="2064" y="18"/>
                    </a:lnTo>
                    <a:lnTo>
                      <a:pt x="2052" y="10"/>
                    </a:lnTo>
                    <a:lnTo>
                      <a:pt x="2026" y="6"/>
                    </a:lnTo>
                    <a:lnTo>
                      <a:pt x="1984" y="6"/>
                    </a:lnTo>
                    <a:lnTo>
                      <a:pt x="1940" y="0"/>
                    </a:lnTo>
                    <a:lnTo>
                      <a:pt x="1886" y="6"/>
                    </a:lnTo>
                    <a:lnTo>
                      <a:pt x="1830" y="4"/>
                    </a:lnTo>
                    <a:lnTo>
                      <a:pt x="1826" y="10"/>
                    </a:lnTo>
                    <a:lnTo>
                      <a:pt x="1844" y="18"/>
                    </a:lnTo>
                    <a:lnTo>
                      <a:pt x="1874" y="42"/>
                    </a:lnTo>
                    <a:lnTo>
                      <a:pt x="1890" y="44"/>
                    </a:lnTo>
                    <a:lnTo>
                      <a:pt x="1882" y="48"/>
                    </a:lnTo>
                    <a:lnTo>
                      <a:pt x="1882" y="56"/>
                    </a:lnTo>
                    <a:lnTo>
                      <a:pt x="1928" y="80"/>
                    </a:lnTo>
                    <a:lnTo>
                      <a:pt x="1854" y="98"/>
                    </a:lnTo>
                    <a:lnTo>
                      <a:pt x="1860" y="90"/>
                    </a:lnTo>
                    <a:lnTo>
                      <a:pt x="1880" y="82"/>
                    </a:lnTo>
                    <a:lnTo>
                      <a:pt x="1880" y="72"/>
                    </a:lnTo>
                    <a:lnTo>
                      <a:pt x="1850" y="54"/>
                    </a:lnTo>
                    <a:lnTo>
                      <a:pt x="1850" y="46"/>
                    </a:lnTo>
                    <a:lnTo>
                      <a:pt x="1838" y="36"/>
                    </a:lnTo>
                    <a:lnTo>
                      <a:pt x="1834" y="26"/>
                    </a:lnTo>
                    <a:lnTo>
                      <a:pt x="1786" y="14"/>
                    </a:lnTo>
                    <a:lnTo>
                      <a:pt x="1770" y="16"/>
                    </a:lnTo>
                    <a:lnTo>
                      <a:pt x="1764" y="22"/>
                    </a:lnTo>
                    <a:lnTo>
                      <a:pt x="1752" y="22"/>
                    </a:lnTo>
                    <a:lnTo>
                      <a:pt x="1746" y="26"/>
                    </a:lnTo>
                    <a:lnTo>
                      <a:pt x="1732" y="26"/>
                    </a:lnTo>
                    <a:lnTo>
                      <a:pt x="1732" y="14"/>
                    </a:lnTo>
                    <a:lnTo>
                      <a:pt x="1718" y="10"/>
                    </a:lnTo>
                    <a:lnTo>
                      <a:pt x="1700" y="18"/>
                    </a:lnTo>
                    <a:lnTo>
                      <a:pt x="1692" y="18"/>
                    </a:lnTo>
                    <a:lnTo>
                      <a:pt x="1698" y="8"/>
                    </a:lnTo>
                    <a:lnTo>
                      <a:pt x="1686" y="4"/>
                    </a:lnTo>
                    <a:lnTo>
                      <a:pt x="1640" y="6"/>
                    </a:lnTo>
                    <a:lnTo>
                      <a:pt x="1602" y="14"/>
                    </a:lnTo>
                    <a:lnTo>
                      <a:pt x="1610" y="20"/>
                    </a:lnTo>
                    <a:lnTo>
                      <a:pt x="1626" y="22"/>
                    </a:lnTo>
                    <a:lnTo>
                      <a:pt x="1626" y="24"/>
                    </a:lnTo>
                    <a:lnTo>
                      <a:pt x="1612" y="32"/>
                    </a:lnTo>
                    <a:lnTo>
                      <a:pt x="1616" y="40"/>
                    </a:lnTo>
                    <a:lnTo>
                      <a:pt x="1644" y="48"/>
                    </a:lnTo>
                    <a:lnTo>
                      <a:pt x="1602" y="44"/>
                    </a:lnTo>
                    <a:lnTo>
                      <a:pt x="1596" y="52"/>
                    </a:lnTo>
                    <a:lnTo>
                      <a:pt x="1578" y="32"/>
                    </a:lnTo>
                    <a:lnTo>
                      <a:pt x="1516" y="24"/>
                    </a:lnTo>
                    <a:lnTo>
                      <a:pt x="1504" y="28"/>
                    </a:lnTo>
                    <a:lnTo>
                      <a:pt x="1514" y="36"/>
                    </a:lnTo>
                    <a:lnTo>
                      <a:pt x="1516" y="44"/>
                    </a:lnTo>
                    <a:lnTo>
                      <a:pt x="1528" y="56"/>
                    </a:lnTo>
                    <a:lnTo>
                      <a:pt x="1538" y="58"/>
                    </a:lnTo>
                    <a:lnTo>
                      <a:pt x="1536" y="64"/>
                    </a:lnTo>
                    <a:lnTo>
                      <a:pt x="1536" y="76"/>
                    </a:lnTo>
                    <a:lnTo>
                      <a:pt x="1520" y="78"/>
                    </a:lnTo>
                    <a:lnTo>
                      <a:pt x="1480" y="56"/>
                    </a:lnTo>
                    <a:lnTo>
                      <a:pt x="1436" y="48"/>
                    </a:lnTo>
                    <a:lnTo>
                      <a:pt x="1416" y="50"/>
                    </a:lnTo>
                    <a:lnTo>
                      <a:pt x="1404" y="56"/>
                    </a:lnTo>
                    <a:lnTo>
                      <a:pt x="1406" y="60"/>
                    </a:lnTo>
                    <a:lnTo>
                      <a:pt x="1418" y="66"/>
                    </a:lnTo>
                    <a:lnTo>
                      <a:pt x="1442" y="70"/>
                    </a:lnTo>
                    <a:lnTo>
                      <a:pt x="1448" y="74"/>
                    </a:lnTo>
                    <a:lnTo>
                      <a:pt x="1388" y="70"/>
                    </a:lnTo>
                    <a:lnTo>
                      <a:pt x="1362" y="80"/>
                    </a:lnTo>
                    <a:lnTo>
                      <a:pt x="1356" y="88"/>
                    </a:lnTo>
                    <a:lnTo>
                      <a:pt x="1356" y="98"/>
                    </a:lnTo>
                    <a:lnTo>
                      <a:pt x="1412" y="120"/>
                    </a:lnTo>
                    <a:lnTo>
                      <a:pt x="1452" y="132"/>
                    </a:lnTo>
                    <a:lnTo>
                      <a:pt x="1470" y="132"/>
                    </a:lnTo>
                    <a:lnTo>
                      <a:pt x="1450" y="142"/>
                    </a:lnTo>
                    <a:lnTo>
                      <a:pt x="1462" y="156"/>
                    </a:lnTo>
                    <a:lnTo>
                      <a:pt x="1412" y="142"/>
                    </a:lnTo>
                    <a:lnTo>
                      <a:pt x="1384" y="128"/>
                    </a:lnTo>
                    <a:lnTo>
                      <a:pt x="1348" y="104"/>
                    </a:lnTo>
                    <a:lnTo>
                      <a:pt x="1318" y="102"/>
                    </a:lnTo>
                    <a:lnTo>
                      <a:pt x="1310" y="108"/>
                    </a:lnTo>
                    <a:lnTo>
                      <a:pt x="1314" y="128"/>
                    </a:lnTo>
                    <a:lnTo>
                      <a:pt x="1338" y="132"/>
                    </a:lnTo>
                    <a:lnTo>
                      <a:pt x="1288" y="130"/>
                    </a:lnTo>
                    <a:lnTo>
                      <a:pt x="1300" y="120"/>
                    </a:lnTo>
                    <a:lnTo>
                      <a:pt x="1302" y="112"/>
                    </a:lnTo>
                    <a:lnTo>
                      <a:pt x="1296" y="104"/>
                    </a:lnTo>
                    <a:lnTo>
                      <a:pt x="1298" y="96"/>
                    </a:lnTo>
                    <a:lnTo>
                      <a:pt x="1274" y="88"/>
                    </a:lnTo>
                    <a:lnTo>
                      <a:pt x="1260" y="86"/>
                    </a:lnTo>
                    <a:lnTo>
                      <a:pt x="1242" y="90"/>
                    </a:lnTo>
                    <a:lnTo>
                      <a:pt x="1224" y="80"/>
                    </a:lnTo>
                    <a:lnTo>
                      <a:pt x="1228" y="74"/>
                    </a:lnTo>
                    <a:lnTo>
                      <a:pt x="1240" y="72"/>
                    </a:lnTo>
                    <a:lnTo>
                      <a:pt x="1198" y="66"/>
                    </a:lnTo>
                    <a:lnTo>
                      <a:pt x="1160" y="68"/>
                    </a:lnTo>
                    <a:lnTo>
                      <a:pt x="1142" y="72"/>
                    </a:lnTo>
                    <a:lnTo>
                      <a:pt x="1154" y="76"/>
                    </a:lnTo>
                    <a:lnTo>
                      <a:pt x="1154" y="80"/>
                    </a:lnTo>
                    <a:lnTo>
                      <a:pt x="1152" y="84"/>
                    </a:lnTo>
                    <a:lnTo>
                      <a:pt x="1158" y="88"/>
                    </a:lnTo>
                    <a:lnTo>
                      <a:pt x="1150" y="92"/>
                    </a:lnTo>
                    <a:lnTo>
                      <a:pt x="1146" y="96"/>
                    </a:lnTo>
                    <a:lnTo>
                      <a:pt x="1100" y="98"/>
                    </a:lnTo>
                    <a:lnTo>
                      <a:pt x="1066" y="96"/>
                    </a:lnTo>
                    <a:lnTo>
                      <a:pt x="1054" y="100"/>
                    </a:lnTo>
                    <a:lnTo>
                      <a:pt x="1048" y="106"/>
                    </a:lnTo>
                    <a:lnTo>
                      <a:pt x="1062" y="114"/>
                    </a:lnTo>
                    <a:lnTo>
                      <a:pt x="1086" y="114"/>
                    </a:lnTo>
                    <a:lnTo>
                      <a:pt x="1136" y="130"/>
                    </a:lnTo>
                    <a:lnTo>
                      <a:pt x="1176" y="134"/>
                    </a:lnTo>
                    <a:lnTo>
                      <a:pt x="1162" y="136"/>
                    </a:lnTo>
                    <a:lnTo>
                      <a:pt x="1156" y="146"/>
                    </a:lnTo>
                    <a:lnTo>
                      <a:pt x="1142" y="136"/>
                    </a:lnTo>
                    <a:lnTo>
                      <a:pt x="1118" y="134"/>
                    </a:lnTo>
                    <a:lnTo>
                      <a:pt x="1108" y="140"/>
                    </a:lnTo>
                    <a:lnTo>
                      <a:pt x="1110" y="150"/>
                    </a:lnTo>
                    <a:lnTo>
                      <a:pt x="1092" y="130"/>
                    </a:lnTo>
                    <a:lnTo>
                      <a:pt x="1072" y="124"/>
                    </a:lnTo>
                    <a:lnTo>
                      <a:pt x="1034" y="124"/>
                    </a:lnTo>
                    <a:lnTo>
                      <a:pt x="1030" y="130"/>
                    </a:lnTo>
                    <a:lnTo>
                      <a:pt x="1014" y="132"/>
                    </a:lnTo>
                    <a:lnTo>
                      <a:pt x="1018" y="142"/>
                    </a:lnTo>
                    <a:lnTo>
                      <a:pt x="1010" y="142"/>
                    </a:lnTo>
                    <a:lnTo>
                      <a:pt x="1006" y="132"/>
                    </a:lnTo>
                    <a:lnTo>
                      <a:pt x="1014" y="124"/>
                    </a:lnTo>
                    <a:lnTo>
                      <a:pt x="1010" y="122"/>
                    </a:lnTo>
                    <a:lnTo>
                      <a:pt x="988" y="116"/>
                    </a:lnTo>
                    <a:lnTo>
                      <a:pt x="976" y="116"/>
                    </a:lnTo>
                    <a:lnTo>
                      <a:pt x="970" y="112"/>
                    </a:lnTo>
                    <a:lnTo>
                      <a:pt x="948" y="112"/>
                    </a:lnTo>
                    <a:lnTo>
                      <a:pt x="934" y="114"/>
                    </a:lnTo>
                    <a:lnTo>
                      <a:pt x="912" y="116"/>
                    </a:lnTo>
                    <a:lnTo>
                      <a:pt x="888" y="122"/>
                    </a:lnTo>
                    <a:lnTo>
                      <a:pt x="858" y="128"/>
                    </a:lnTo>
                    <a:lnTo>
                      <a:pt x="854" y="132"/>
                    </a:lnTo>
                    <a:lnTo>
                      <a:pt x="860" y="138"/>
                    </a:lnTo>
                    <a:lnTo>
                      <a:pt x="860" y="146"/>
                    </a:lnTo>
                    <a:lnTo>
                      <a:pt x="842" y="134"/>
                    </a:lnTo>
                    <a:lnTo>
                      <a:pt x="822" y="154"/>
                    </a:lnTo>
                    <a:lnTo>
                      <a:pt x="812" y="142"/>
                    </a:lnTo>
                    <a:lnTo>
                      <a:pt x="814" y="136"/>
                    </a:lnTo>
                    <a:lnTo>
                      <a:pt x="802" y="134"/>
                    </a:lnTo>
                    <a:lnTo>
                      <a:pt x="766" y="134"/>
                    </a:lnTo>
                    <a:lnTo>
                      <a:pt x="724" y="140"/>
                    </a:lnTo>
                    <a:lnTo>
                      <a:pt x="712" y="148"/>
                    </a:lnTo>
                    <a:lnTo>
                      <a:pt x="700" y="150"/>
                    </a:lnTo>
                    <a:lnTo>
                      <a:pt x="690" y="148"/>
                    </a:lnTo>
                    <a:lnTo>
                      <a:pt x="658" y="154"/>
                    </a:lnTo>
                    <a:lnTo>
                      <a:pt x="648" y="162"/>
                    </a:lnTo>
                    <a:lnTo>
                      <a:pt x="622" y="170"/>
                    </a:lnTo>
                    <a:lnTo>
                      <a:pt x="654" y="178"/>
                    </a:lnTo>
                    <a:lnTo>
                      <a:pt x="656" y="182"/>
                    </a:lnTo>
                    <a:lnTo>
                      <a:pt x="652" y="186"/>
                    </a:lnTo>
                    <a:lnTo>
                      <a:pt x="654" y="188"/>
                    </a:lnTo>
                    <a:lnTo>
                      <a:pt x="694" y="184"/>
                    </a:lnTo>
                    <a:lnTo>
                      <a:pt x="692" y="186"/>
                    </a:lnTo>
                    <a:lnTo>
                      <a:pt x="726" y="174"/>
                    </a:lnTo>
                    <a:lnTo>
                      <a:pt x="742" y="174"/>
                    </a:lnTo>
                    <a:lnTo>
                      <a:pt x="752" y="178"/>
                    </a:lnTo>
                    <a:lnTo>
                      <a:pt x="764" y="172"/>
                    </a:lnTo>
                    <a:lnTo>
                      <a:pt x="774" y="170"/>
                    </a:lnTo>
                    <a:lnTo>
                      <a:pt x="768" y="176"/>
                    </a:lnTo>
                    <a:lnTo>
                      <a:pt x="778" y="182"/>
                    </a:lnTo>
                    <a:lnTo>
                      <a:pt x="808" y="184"/>
                    </a:lnTo>
                    <a:lnTo>
                      <a:pt x="756" y="192"/>
                    </a:lnTo>
                    <a:lnTo>
                      <a:pt x="686" y="208"/>
                    </a:lnTo>
                    <a:lnTo>
                      <a:pt x="704" y="216"/>
                    </a:lnTo>
                    <a:lnTo>
                      <a:pt x="702" y="220"/>
                    </a:lnTo>
                    <a:lnTo>
                      <a:pt x="824" y="202"/>
                    </a:lnTo>
                    <a:lnTo>
                      <a:pt x="898" y="194"/>
                    </a:lnTo>
                    <a:lnTo>
                      <a:pt x="902" y="198"/>
                    </a:lnTo>
                    <a:lnTo>
                      <a:pt x="940" y="202"/>
                    </a:lnTo>
                    <a:lnTo>
                      <a:pt x="946" y="206"/>
                    </a:lnTo>
                    <a:lnTo>
                      <a:pt x="998" y="206"/>
                    </a:lnTo>
                    <a:lnTo>
                      <a:pt x="1008" y="208"/>
                    </a:lnTo>
                    <a:lnTo>
                      <a:pt x="978" y="214"/>
                    </a:lnTo>
                    <a:lnTo>
                      <a:pt x="902" y="202"/>
                    </a:lnTo>
                    <a:lnTo>
                      <a:pt x="886" y="204"/>
                    </a:lnTo>
                    <a:lnTo>
                      <a:pt x="856" y="206"/>
                    </a:lnTo>
                    <a:lnTo>
                      <a:pt x="766" y="224"/>
                    </a:lnTo>
                    <a:lnTo>
                      <a:pt x="738" y="226"/>
                    </a:lnTo>
                    <a:lnTo>
                      <a:pt x="732" y="230"/>
                    </a:lnTo>
                    <a:lnTo>
                      <a:pt x="762" y="238"/>
                    </a:lnTo>
                    <a:lnTo>
                      <a:pt x="796" y="242"/>
                    </a:lnTo>
                    <a:lnTo>
                      <a:pt x="774" y="246"/>
                    </a:lnTo>
                    <a:lnTo>
                      <a:pt x="706" y="244"/>
                    </a:lnTo>
                    <a:lnTo>
                      <a:pt x="694" y="252"/>
                    </a:lnTo>
                    <a:lnTo>
                      <a:pt x="690" y="258"/>
                    </a:lnTo>
                    <a:lnTo>
                      <a:pt x="684" y="264"/>
                    </a:lnTo>
                    <a:lnTo>
                      <a:pt x="688" y="272"/>
                    </a:lnTo>
                    <a:lnTo>
                      <a:pt x="702" y="276"/>
                    </a:lnTo>
                    <a:lnTo>
                      <a:pt x="724" y="278"/>
                    </a:lnTo>
                    <a:lnTo>
                      <a:pt x="764" y="274"/>
                    </a:lnTo>
                    <a:lnTo>
                      <a:pt x="878" y="278"/>
                    </a:lnTo>
                    <a:lnTo>
                      <a:pt x="946" y="274"/>
                    </a:lnTo>
                    <a:lnTo>
                      <a:pt x="1002" y="260"/>
                    </a:lnTo>
                    <a:lnTo>
                      <a:pt x="1116" y="252"/>
                    </a:lnTo>
                    <a:lnTo>
                      <a:pt x="1108" y="256"/>
                    </a:lnTo>
                    <a:lnTo>
                      <a:pt x="1086" y="262"/>
                    </a:lnTo>
                    <a:lnTo>
                      <a:pt x="1054" y="266"/>
                    </a:lnTo>
                    <a:lnTo>
                      <a:pt x="992" y="278"/>
                    </a:lnTo>
                    <a:lnTo>
                      <a:pt x="988" y="282"/>
                    </a:lnTo>
                    <a:lnTo>
                      <a:pt x="920" y="290"/>
                    </a:lnTo>
                    <a:lnTo>
                      <a:pt x="860" y="292"/>
                    </a:lnTo>
                    <a:lnTo>
                      <a:pt x="822" y="286"/>
                    </a:lnTo>
                    <a:lnTo>
                      <a:pt x="780" y="284"/>
                    </a:lnTo>
                    <a:lnTo>
                      <a:pt x="762" y="288"/>
                    </a:lnTo>
                    <a:lnTo>
                      <a:pt x="716" y="290"/>
                    </a:lnTo>
                    <a:lnTo>
                      <a:pt x="708" y="294"/>
                    </a:lnTo>
                    <a:lnTo>
                      <a:pt x="696" y="296"/>
                    </a:lnTo>
                    <a:lnTo>
                      <a:pt x="710" y="308"/>
                    </a:lnTo>
                    <a:lnTo>
                      <a:pt x="726" y="310"/>
                    </a:lnTo>
                    <a:lnTo>
                      <a:pt x="744" y="318"/>
                    </a:lnTo>
                    <a:lnTo>
                      <a:pt x="752" y="332"/>
                    </a:lnTo>
                    <a:lnTo>
                      <a:pt x="784" y="340"/>
                    </a:lnTo>
                    <a:lnTo>
                      <a:pt x="798" y="350"/>
                    </a:lnTo>
                    <a:lnTo>
                      <a:pt x="818" y="352"/>
                    </a:lnTo>
                    <a:lnTo>
                      <a:pt x="838" y="348"/>
                    </a:lnTo>
                    <a:lnTo>
                      <a:pt x="848" y="340"/>
                    </a:lnTo>
                    <a:lnTo>
                      <a:pt x="860" y="334"/>
                    </a:lnTo>
                    <a:lnTo>
                      <a:pt x="876" y="330"/>
                    </a:lnTo>
                    <a:lnTo>
                      <a:pt x="898" y="318"/>
                    </a:lnTo>
                    <a:lnTo>
                      <a:pt x="916" y="310"/>
                    </a:lnTo>
                    <a:lnTo>
                      <a:pt x="934" y="304"/>
                    </a:lnTo>
                    <a:lnTo>
                      <a:pt x="962" y="300"/>
                    </a:lnTo>
                    <a:lnTo>
                      <a:pt x="970" y="296"/>
                    </a:lnTo>
                    <a:lnTo>
                      <a:pt x="1008" y="288"/>
                    </a:lnTo>
                    <a:lnTo>
                      <a:pt x="1042" y="290"/>
                    </a:lnTo>
                    <a:lnTo>
                      <a:pt x="1110" y="286"/>
                    </a:lnTo>
                    <a:lnTo>
                      <a:pt x="1130" y="288"/>
                    </a:lnTo>
                    <a:lnTo>
                      <a:pt x="1268" y="286"/>
                    </a:lnTo>
                    <a:lnTo>
                      <a:pt x="1224" y="292"/>
                    </a:lnTo>
                    <a:lnTo>
                      <a:pt x="1180" y="290"/>
                    </a:lnTo>
                    <a:lnTo>
                      <a:pt x="1140" y="296"/>
                    </a:lnTo>
                    <a:lnTo>
                      <a:pt x="1124" y="294"/>
                    </a:lnTo>
                    <a:lnTo>
                      <a:pt x="1100" y="296"/>
                    </a:lnTo>
                    <a:lnTo>
                      <a:pt x="1052" y="294"/>
                    </a:lnTo>
                    <a:lnTo>
                      <a:pt x="1002" y="302"/>
                    </a:lnTo>
                    <a:lnTo>
                      <a:pt x="988" y="300"/>
                    </a:lnTo>
                    <a:lnTo>
                      <a:pt x="986" y="304"/>
                    </a:lnTo>
                    <a:lnTo>
                      <a:pt x="968" y="308"/>
                    </a:lnTo>
                    <a:lnTo>
                      <a:pt x="966" y="310"/>
                    </a:lnTo>
                    <a:lnTo>
                      <a:pt x="956" y="312"/>
                    </a:lnTo>
                    <a:lnTo>
                      <a:pt x="952" y="316"/>
                    </a:lnTo>
                    <a:lnTo>
                      <a:pt x="932" y="320"/>
                    </a:lnTo>
                    <a:lnTo>
                      <a:pt x="918" y="326"/>
                    </a:lnTo>
                    <a:lnTo>
                      <a:pt x="908" y="328"/>
                    </a:lnTo>
                    <a:lnTo>
                      <a:pt x="892" y="340"/>
                    </a:lnTo>
                    <a:lnTo>
                      <a:pt x="880" y="342"/>
                    </a:lnTo>
                    <a:lnTo>
                      <a:pt x="876" y="348"/>
                    </a:lnTo>
                    <a:lnTo>
                      <a:pt x="866" y="352"/>
                    </a:lnTo>
                    <a:lnTo>
                      <a:pt x="866" y="356"/>
                    </a:lnTo>
                    <a:lnTo>
                      <a:pt x="892" y="364"/>
                    </a:lnTo>
                    <a:lnTo>
                      <a:pt x="914" y="368"/>
                    </a:lnTo>
                    <a:lnTo>
                      <a:pt x="924" y="364"/>
                    </a:lnTo>
                    <a:lnTo>
                      <a:pt x="936" y="364"/>
                    </a:lnTo>
                    <a:lnTo>
                      <a:pt x="946" y="358"/>
                    </a:lnTo>
                    <a:lnTo>
                      <a:pt x="960" y="356"/>
                    </a:lnTo>
                    <a:lnTo>
                      <a:pt x="960" y="358"/>
                    </a:lnTo>
                    <a:lnTo>
                      <a:pt x="932" y="368"/>
                    </a:lnTo>
                    <a:lnTo>
                      <a:pt x="934" y="370"/>
                    </a:lnTo>
                    <a:lnTo>
                      <a:pt x="956" y="372"/>
                    </a:lnTo>
                    <a:lnTo>
                      <a:pt x="962" y="376"/>
                    </a:lnTo>
                    <a:lnTo>
                      <a:pt x="1006" y="378"/>
                    </a:lnTo>
                    <a:lnTo>
                      <a:pt x="1014" y="376"/>
                    </a:lnTo>
                    <a:lnTo>
                      <a:pt x="1018" y="374"/>
                    </a:lnTo>
                    <a:lnTo>
                      <a:pt x="1038" y="364"/>
                    </a:lnTo>
                    <a:lnTo>
                      <a:pt x="1040" y="360"/>
                    </a:lnTo>
                    <a:lnTo>
                      <a:pt x="1036" y="358"/>
                    </a:lnTo>
                    <a:lnTo>
                      <a:pt x="1040" y="354"/>
                    </a:lnTo>
                    <a:lnTo>
                      <a:pt x="1046" y="348"/>
                    </a:lnTo>
                    <a:lnTo>
                      <a:pt x="1074" y="344"/>
                    </a:lnTo>
                    <a:lnTo>
                      <a:pt x="1098" y="334"/>
                    </a:lnTo>
                    <a:lnTo>
                      <a:pt x="1102" y="334"/>
                    </a:lnTo>
                    <a:lnTo>
                      <a:pt x="1090" y="340"/>
                    </a:lnTo>
                    <a:lnTo>
                      <a:pt x="1086" y="344"/>
                    </a:lnTo>
                    <a:lnTo>
                      <a:pt x="1074" y="344"/>
                    </a:lnTo>
                    <a:lnTo>
                      <a:pt x="1062" y="352"/>
                    </a:lnTo>
                    <a:lnTo>
                      <a:pt x="1060" y="356"/>
                    </a:lnTo>
                    <a:lnTo>
                      <a:pt x="1066" y="360"/>
                    </a:lnTo>
                    <a:lnTo>
                      <a:pt x="1090" y="358"/>
                    </a:lnTo>
                    <a:lnTo>
                      <a:pt x="1096" y="356"/>
                    </a:lnTo>
                    <a:lnTo>
                      <a:pt x="1104" y="354"/>
                    </a:lnTo>
                    <a:lnTo>
                      <a:pt x="1134" y="350"/>
                    </a:lnTo>
                    <a:lnTo>
                      <a:pt x="1172" y="342"/>
                    </a:lnTo>
                    <a:lnTo>
                      <a:pt x="1196" y="334"/>
                    </a:lnTo>
                    <a:lnTo>
                      <a:pt x="1200" y="330"/>
                    </a:lnTo>
                    <a:lnTo>
                      <a:pt x="1192" y="326"/>
                    </a:lnTo>
                    <a:lnTo>
                      <a:pt x="1210" y="324"/>
                    </a:lnTo>
                    <a:lnTo>
                      <a:pt x="1228" y="318"/>
                    </a:lnTo>
                    <a:lnTo>
                      <a:pt x="1216" y="326"/>
                    </a:lnTo>
                    <a:lnTo>
                      <a:pt x="1218" y="328"/>
                    </a:lnTo>
                    <a:lnTo>
                      <a:pt x="1208" y="334"/>
                    </a:lnTo>
                    <a:lnTo>
                      <a:pt x="1208" y="338"/>
                    </a:lnTo>
                    <a:lnTo>
                      <a:pt x="1232" y="336"/>
                    </a:lnTo>
                    <a:lnTo>
                      <a:pt x="1182" y="346"/>
                    </a:lnTo>
                    <a:lnTo>
                      <a:pt x="1164" y="352"/>
                    </a:lnTo>
                    <a:lnTo>
                      <a:pt x="1160" y="356"/>
                    </a:lnTo>
                    <a:lnTo>
                      <a:pt x="1124" y="356"/>
                    </a:lnTo>
                    <a:lnTo>
                      <a:pt x="1092" y="360"/>
                    </a:lnTo>
                    <a:lnTo>
                      <a:pt x="1088" y="364"/>
                    </a:lnTo>
                    <a:lnTo>
                      <a:pt x="1076" y="366"/>
                    </a:lnTo>
                    <a:lnTo>
                      <a:pt x="1070" y="372"/>
                    </a:lnTo>
                    <a:lnTo>
                      <a:pt x="1074" y="380"/>
                    </a:lnTo>
                    <a:lnTo>
                      <a:pt x="1084" y="382"/>
                    </a:lnTo>
                    <a:lnTo>
                      <a:pt x="1184" y="376"/>
                    </a:lnTo>
                    <a:lnTo>
                      <a:pt x="1284" y="360"/>
                    </a:lnTo>
                    <a:lnTo>
                      <a:pt x="1380" y="340"/>
                    </a:lnTo>
                    <a:lnTo>
                      <a:pt x="1390" y="338"/>
                    </a:lnTo>
                    <a:lnTo>
                      <a:pt x="1396" y="332"/>
                    </a:lnTo>
                    <a:lnTo>
                      <a:pt x="1420" y="324"/>
                    </a:lnTo>
                    <a:lnTo>
                      <a:pt x="1424" y="320"/>
                    </a:lnTo>
                    <a:lnTo>
                      <a:pt x="1416" y="318"/>
                    </a:lnTo>
                    <a:lnTo>
                      <a:pt x="1412" y="322"/>
                    </a:lnTo>
                    <a:lnTo>
                      <a:pt x="1408" y="320"/>
                    </a:lnTo>
                    <a:lnTo>
                      <a:pt x="1426" y="308"/>
                    </a:lnTo>
                    <a:lnTo>
                      <a:pt x="1438" y="302"/>
                    </a:lnTo>
                    <a:lnTo>
                      <a:pt x="1422" y="286"/>
                    </a:lnTo>
                    <a:lnTo>
                      <a:pt x="1424" y="282"/>
                    </a:lnTo>
                    <a:lnTo>
                      <a:pt x="1432" y="282"/>
                    </a:lnTo>
                    <a:lnTo>
                      <a:pt x="1432" y="288"/>
                    </a:lnTo>
                    <a:lnTo>
                      <a:pt x="1456" y="300"/>
                    </a:lnTo>
                    <a:lnTo>
                      <a:pt x="1472" y="296"/>
                    </a:lnTo>
                    <a:lnTo>
                      <a:pt x="1474" y="294"/>
                    </a:lnTo>
                    <a:lnTo>
                      <a:pt x="1472" y="294"/>
                    </a:lnTo>
                    <a:lnTo>
                      <a:pt x="1492" y="282"/>
                    </a:lnTo>
                    <a:lnTo>
                      <a:pt x="1532" y="268"/>
                    </a:lnTo>
                    <a:lnTo>
                      <a:pt x="1650" y="244"/>
                    </a:lnTo>
                    <a:lnTo>
                      <a:pt x="1654" y="244"/>
                    </a:lnTo>
                    <a:lnTo>
                      <a:pt x="1630" y="254"/>
                    </a:lnTo>
                    <a:lnTo>
                      <a:pt x="1550" y="272"/>
                    </a:lnTo>
                    <a:lnTo>
                      <a:pt x="1538" y="276"/>
                    </a:lnTo>
                    <a:lnTo>
                      <a:pt x="1524" y="286"/>
                    </a:lnTo>
                    <a:lnTo>
                      <a:pt x="1506" y="286"/>
                    </a:lnTo>
                    <a:lnTo>
                      <a:pt x="1496" y="292"/>
                    </a:lnTo>
                    <a:lnTo>
                      <a:pt x="1486" y="302"/>
                    </a:lnTo>
                    <a:lnTo>
                      <a:pt x="1440" y="318"/>
                    </a:lnTo>
                    <a:lnTo>
                      <a:pt x="1430" y="334"/>
                    </a:lnTo>
                    <a:lnTo>
                      <a:pt x="1436" y="336"/>
                    </a:lnTo>
                    <a:lnTo>
                      <a:pt x="1554" y="332"/>
                    </a:lnTo>
                    <a:lnTo>
                      <a:pt x="1618" y="340"/>
                    </a:lnTo>
                    <a:lnTo>
                      <a:pt x="1742" y="332"/>
                    </a:lnTo>
                    <a:lnTo>
                      <a:pt x="1740" y="334"/>
                    </a:lnTo>
                    <a:lnTo>
                      <a:pt x="1722" y="336"/>
                    </a:lnTo>
                    <a:lnTo>
                      <a:pt x="1690" y="336"/>
                    </a:lnTo>
                    <a:lnTo>
                      <a:pt x="1686" y="338"/>
                    </a:lnTo>
                    <a:lnTo>
                      <a:pt x="1684" y="342"/>
                    </a:lnTo>
                    <a:lnTo>
                      <a:pt x="1682" y="344"/>
                    </a:lnTo>
                    <a:lnTo>
                      <a:pt x="1666" y="340"/>
                    </a:lnTo>
                    <a:lnTo>
                      <a:pt x="1646" y="342"/>
                    </a:lnTo>
                    <a:lnTo>
                      <a:pt x="1642" y="344"/>
                    </a:lnTo>
                    <a:lnTo>
                      <a:pt x="1644" y="346"/>
                    </a:lnTo>
                    <a:lnTo>
                      <a:pt x="1644" y="350"/>
                    </a:lnTo>
                    <a:lnTo>
                      <a:pt x="1640" y="354"/>
                    </a:lnTo>
                    <a:lnTo>
                      <a:pt x="1632" y="354"/>
                    </a:lnTo>
                    <a:lnTo>
                      <a:pt x="1618" y="348"/>
                    </a:lnTo>
                    <a:lnTo>
                      <a:pt x="1586" y="348"/>
                    </a:lnTo>
                    <a:lnTo>
                      <a:pt x="1562" y="344"/>
                    </a:lnTo>
                    <a:lnTo>
                      <a:pt x="1554" y="346"/>
                    </a:lnTo>
                    <a:lnTo>
                      <a:pt x="1550" y="350"/>
                    </a:lnTo>
                    <a:lnTo>
                      <a:pt x="1544" y="350"/>
                    </a:lnTo>
                    <a:lnTo>
                      <a:pt x="1542" y="348"/>
                    </a:lnTo>
                    <a:lnTo>
                      <a:pt x="1516" y="346"/>
                    </a:lnTo>
                    <a:lnTo>
                      <a:pt x="1438" y="352"/>
                    </a:lnTo>
                    <a:lnTo>
                      <a:pt x="1396" y="358"/>
                    </a:lnTo>
                    <a:lnTo>
                      <a:pt x="1364" y="366"/>
                    </a:lnTo>
                    <a:lnTo>
                      <a:pt x="1342" y="366"/>
                    </a:lnTo>
                    <a:lnTo>
                      <a:pt x="1316" y="374"/>
                    </a:lnTo>
                    <a:lnTo>
                      <a:pt x="1328" y="376"/>
                    </a:lnTo>
                    <a:lnTo>
                      <a:pt x="1410" y="372"/>
                    </a:lnTo>
                    <a:lnTo>
                      <a:pt x="1422" y="376"/>
                    </a:lnTo>
                    <a:lnTo>
                      <a:pt x="1472" y="380"/>
                    </a:lnTo>
                    <a:lnTo>
                      <a:pt x="1472" y="382"/>
                    </a:lnTo>
                    <a:lnTo>
                      <a:pt x="1464" y="382"/>
                    </a:lnTo>
                    <a:lnTo>
                      <a:pt x="1380" y="382"/>
                    </a:lnTo>
                    <a:lnTo>
                      <a:pt x="1326" y="386"/>
                    </a:lnTo>
                    <a:lnTo>
                      <a:pt x="1296" y="384"/>
                    </a:lnTo>
                    <a:lnTo>
                      <a:pt x="1278" y="390"/>
                    </a:lnTo>
                    <a:lnTo>
                      <a:pt x="1296" y="396"/>
                    </a:lnTo>
                    <a:lnTo>
                      <a:pt x="1296" y="396"/>
                    </a:lnTo>
                    <a:lnTo>
                      <a:pt x="1290" y="398"/>
                    </a:lnTo>
                    <a:lnTo>
                      <a:pt x="1274" y="396"/>
                    </a:lnTo>
                    <a:lnTo>
                      <a:pt x="1264" y="398"/>
                    </a:lnTo>
                    <a:lnTo>
                      <a:pt x="1220" y="396"/>
                    </a:lnTo>
                    <a:lnTo>
                      <a:pt x="1174" y="402"/>
                    </a:lnTo>
                    <a:lnTo>
                      <a:pt x="1140" y="398"/>
                    </a:lnTo>
                    <a:lnTo>
                      <a:pt x="1096" y="404"/>
                    </a:lnTo>
                    <a:lnTo>
                      <a:pt x="1054" y="404"/>
                    </a:lnTo>
                    <a:lnTo>
                      <a:pt x="1048" y="408"/>
                    </a:lnTo>
                    <a:lnTo>
                      <a:pt x="1082" y="446"/>
                    </a:lnTo>
                    <a:lnTo>
                      <a:pt x="1076" y="452"/>
                    </a:lnTo>
                    <a:lnTo>
                      <a:pt x="1078" y="456"/>
                    </a:lnTo>
                    <a:lnTo>
                      <a:pt x="1128" y="474"/>
                    </a:lnTo>
                    <a:lnTo>
                      <a:pt x="1124" y="476"/>
                    </a:lnTo>
                    <a:lnTo>
                      <a:pt x="1104" y="478"/>
                    </a:lnTo>
                    <a:lnTo>
                      <a:pt x="1106" y="482"/>
                    </a:lnTo>
                    <a:lnTo>
                      <a:pt x="1098" y="494"/>
                    </a:lnTo>
                    <a:lnTo>
                      <a:pt x="1090" y="502"/>
                    </a:lnTo>
                    <a:lnTo>
                      <a:pt x="1096" y="502"/>
                    </a:lnTo>
                    <a:lnTo>
                      <a:pt x="1094" y="506"/>
                    </a:lnTo>
                    <a:lnTo>
                      <a:pt x="1096" y="510"/>
                    </a:lnTo>
                    <a:lnTo>
                      <a:pt x="1122" y="514"/>
                    </a:lnTo>
                    <a:lnTo>
                      <a:pt x="1140" y="524"/>
                    </a:lnTo>
                    <a:lnTo>
                      <a:pt x="1196" y="518"/>
                    </a:lnTo>
                    <a:lnTo>
                      <a:pt x="1212" y="520"/>
                    </a:lnTo>
                    <a:lnTo>
                      <a:pt x="1212" y="522"/>
                    </a:lnTo>
                    <a:lnTo>
                      <a:pt x="1204" y="526"/>
                    </a:lnTo>
                    <a:lnTo>
                      <a:pt x="1190" y="526"/>
                    </a:lnTo>
                    <a:lnTo>
                      <a:pt x="1136" y="530"/>
                    </a:lnTo>
                    <a:lnTo>
                      <a:pt x="1130" y="534"/>
                    </a:lnTo>
                    <a:lnTo>
                      <a:pt x="1126" y="538"/>
                    </a:lnTo>
                    <a:lnTo>
                      <a:pt x="1128" y="540"/>
                    </a:lnTo>
                    <a:lnTo>
                      <a:pt x="1124" y="540"/>
                    </a:lnTo>
                    <a:lnTo>
                      <a:pt x="1088" y="526"/>
                    </a:lnTo>
                    <a:lnTo>
                      <a:pt x="1072" y="524"/>
                    </a:lnTo>
                    <a:lnTo>
                      <a:pt x="1054" y="528"/>
                    </a:lnTo>
                    <a:lnTo>
                      <a:pt x="1066" y="514"/>
                    </a:lnTo>
                    <a:lnTo>
                      <a:pt x="1056" y="512"/>
                    </a:lnTo>
                    <a:lnTo>
                      <a:pt x="1056" y="508"/>
                    </a:lnTo>
                    <a:lnTo>
                      <a:pt x="1060" y="502"/>
                    </a:lnTo>
                    <a:lnTo>
                      <a:pt x="1054" y="498"/>
                    </a:lnTo>
                    <a:lnTo>
                      <a:pt x="1062" y="490"/>
                    </a:lnTo>
                    <a:lnTo>
                      <a:pt x="994" y="416"/>
                    </a:lnTo>
                    <a:lnTo>
                      <a:pt x="984" y="412"/>
                    </a:lnTo>
                    <a:lnTo>
                      <a:pt x="960" y="408"/>
                    </a:lnTo>
                    <a:lnTo>
                      <a:pt x="932" y="406"/>
                    </a:lnTo>
                    <a:lnTo>
                      <a:pt x="910" y="410"/>
                    </a:lnTo>
                    <a:lnTo>
                      <a:pt x="874" y="392"/>
                    </a:lnTo>
                    <a:lnTo>
                      <a:pt x="832" y="392"/>
                    </a:lnTo>
                    <a:lnTo>
                      <a:pt x="818" y="392"/>
                    </a:lnTo>
                    <a:lnTo>
                      <a:pt x="806" y="398"/>
                    </a:lnTo>
                    <a:lnTo>
                      <a:pt x="784" y="410"/>
                    </a:lnTo>
                    <a:lnTo>
                      <a:pt x="774" y="420"/>
                    </a:lnTo>
                    <a:lnTo>
                      <a:pt x="766" y="428"/>
                    </a:lnTo>
                    <a:lnTo>
                      <a:pt x="764" y="436"/>
                    </a:lnTo>
                    <a:lnTo>
                      <a:pt x="830" y="450"/>
                    </a:lnTo>
                    <a:lnTo>
                      <a:pt x="840" y="456"/>
                    </a:lnTo>
                    <a:lnTo>
                      <a:pt x="838" y="458"/>
                    </a:lnTo>
                    <a:lnTo>
                      <a:pt x="832" y="460"/>
                    </a:lnTo>
                    <a:lnTo>
                      <a:pt x="790" y="450"/>
                    </a:lnTo>
                    <a:lnTo>
                      <a:pt x="782" y="446"/>
                    </a:lnTo>
                    <a:lnTo>
                      <a:pt x="770" y="444"/>
                    </a:lnTo>
                    <a:lnTo>
                      <a:pt x="760" y="444"/>
                    </a:lnTo>
                    <a:lnTo>
                      <a:pt x="742" y="464"/>
                    </a:lnTo>
                    <a:lnTo>
                      <a:pt x="740" y="468"/>
                    </a:lnTo>
                    <a:lnTo>
                      <a:pt x="748" y="474"/>
                    </a:lnTo>
                    <a:lnTo>
                      <a:pt x="774" y="484"/>
                    </a:lnTo>
                    <a:lnTo>
                      <a:pt x="792" y="486"/>
                    </a:lnTo>
                    <a:lnTo>
                      <a:pt x="816" y="500"/>
                    </a:lnTo>
                    <a:lnTo>
                      <a:pt x="816" y="506"/>
                    </a:lnTo>
                    <a:lnTo>
                      <a:pt x="810" y="516"/>
                    </a:lnTo>
                    <a:lnTo>
                      <a:pt x="812" y="522"/>
                    </a:lnTo>
                    <a:lnTo>
                      <a:pt x="830" y="540"/>
                    </a:lnTo>
                    <a:lnTo>
                      <a:pt x="828" y="544"/>
                    </a:lnTo>
                    <a:lnTo>
                      <a:pt x="820" y="552"/>
                    </a:lnTo>
                    <a:lnTo>
                      <a:pt x="820" y="556"/>
                    </a:lnTo>
                    <a:lnTo>
                      <a:pt x="816" y="562"/>
                    </a:lnTo>
                    <a:lnTo>
                      <a:pt x="812" y="564"/>
                    </a:lnTo>
                    <a:lnTo>
                      <a:pt x="812" y="570"/>
                    </a:lnTo>
                    <a:lnTo>
                      <a:pt x="810" y="578"/>
                    </a:lnTo>
                    <a:lnTo>
                      <a:pt x="832" y="578"/>
                    </a:lnTo>
                    <a:lnTo>
                      <a:pt x="844" y="572"/>
                    </a:lnTo>
                    <a:lnTo>
                      <a:pt x="836" y="578"/>
                    </a:lnTo>
                    <a:lnTo>
                      <a:pt x="824" y="582"/>
                    </a:lnTo>
                    <a:lnTo>
                      <a:pt x="832" y="592"/>
                    </a:lnTo>
                    <a:lnTo>
                      <a:pt x="844" y="592"/>
                    </a:lnTo>
                    <a:lnTo>
                      <a:pt x="840" y="600"/>
                    </a:lnTo>
                    <a:lnTo>
                      <a:pt x="844" y="606"/>
                    </a:lnTo>
                    <a:lnTo>
                      <a:pt x="864" y="606"/>
                    </a:lnTo>
                    <a:lnTo>
                      <a:pt x="848" y="610"/>
                    </a:lnTo>
                    <a:lnTo>
                      <a:pt x="824" y="608"/>
                    </a:lnTo>
                    <a:lnTo>
                      <a:pt x="810" y="604"/>
                    </a:lnTo>
                    <a:lnTo>
                      <a:pt x="804" y="594"/>
                    </a:lnTo>
                    <a:lnTo>
                      <a:pt x="786" y="592"/>
                    </a:lnTo>
                    <a:lnTo>
                      <a:pt x="782" y="586"/>
                    </a:lnTo>
                    <a:lnTo>
                      <a:pt x="772" y="586"/>
                    </a:lnTo>
                    <a:lnTo>
                      <a:pt x="754" y="594"/>
                    </a:lnTo>
                    <a:lnTo>
                      <a:pt x="750" y="602"/>
                    </a:lnTo>
                    <a:lnTo>
                      <a:pt x="764" y="606"/>
                    </a:lnTo>
                    <a:lnTo>
                      <a:pt x="780" y="618"/>
                    </a:lnTo>
                    <a:lnTo>
                      <a:pt x="860" y="626"/>
                    </a:lnTo>
                    <a:lnTo>
                      <a:pt x="886" y="636"/>
                    </a:lnTo>
                    <a:lnTo>
                      <a:pt x="930" y="636"/>
                    </a:lnTo>
                    <a:lnTo>
                      <a:pt x="936" y="636"/>
                    </a:lnTo>
                    <a:lnTo>
                      <a:pt x="942" y="632"/>
                    </a:lnTo>
                    <a:lnTo>
                      <a:pt x="952" y="632"/>
                    </a:lnTo>
                    <a:lnTo>
                      <a:pt x="982" y="622"/>
                    </a:lnTo>
                    <a:lnTo>
                      <a:pt x="996" y="622"/>
                    </a:lnTo>
                    <a:lnTo>
                      <a:pt x="994" y="624"/>
                    </a:lnTo>
                    <a:lnTo>
                      <a:pt x="974" y="632"/>
                    </a:lnTo>
                    <a:lnTo>
                      <a:pt x="962" y="640"/>
                    </a:lnTo>
                    <a:lnTo>
                      <a:pt x="964" y="644"/>
                    </a:lnTo>
                    <a:lnTo>
                      <a:pt x="950" y="648"/>
                    </a:lnTo>
                    <a:lnTo>
                      <a:pt x="946" y="648"/>
                    </a:lnTo>
                    <a:lnTo>
                      <a:pt x="938" y="650"/>
                    </a:lnTo>
                    <a:lnTo>
                      <a:pt x="930" y="652"/>
                    </a:lnTo>
                    <a:lnTo>
                      <a:pt x="924" y="644"/>
                    </a:lnTo>
                    <a:lnTo>
                      <a:pt x="908" y="646"/>
                    </a:lnTo>
                    <a:lnTo>
                      <a:pt x="848" y="640"/>
                    </a:lnTo>
                    <a:lnTo>
                      <a:pt x="834" y="644"/>
                    </a:lnTo>
                    <a:lnTo>
                      <a:pt x="836" y="650"/>
                    </a:lnTo>
                    <a:lnTo>
                      <a:pt x="848" y="656"/>
                    </a:lnTo>
                    <a:lnTo>
                      <a:pt x="860" y="658"/>
                    </a:lnTo>
                    <a:lnTo>
                      <a:pt x="862" y="662"/>
                    </a:lnTo>
                    <a:lnTo>
                      <a:pt x="902" y="664"/>
                    </a:lnTo>
                    <a:lnTo>
                      <a:pt x="892" y="668"/>
                    </a:lnTo>
                    <a:lnTo>
                      <a:pt x="874" y="666"/>
                    </a:lnTo>
                    <a:lnTo>
                      <a:pt x="876" y="684"/>
                    </a:lnTo>
                    <a:lnTo>
                      <a:pt x="870" y="688"/>
                    </a:lnTo>
                    <a:lnTo>
                      <a:pt x="848" y="680"/>
                    </a:lnTo>
                    <a:lnTo>
                      <a:pt x="850" y="674"/>
                    </a:lnTo>
                    <a:lnTo>
                      <a:pt x="844" y="664"/>
                    </a:lnTo>
                    <a:lnTo>
                      <a:pt x="828" y="664"/>
                    </a:lnTo>
                    <a:lnTo>
                      <a:pt x="792" y="634"/>
                    </a:lnTo>
                    <a:lnTo>
                      <a:pt x="734" y="626"/>
                    </a:lnTo>
                    <a:lnTo>
                      <a:pt x="704" y="616"/>
                    </a:lnTo>
                    <a:lnTo>
                      <a:pt x="688" y="618"/>
                    </a:lnTo>
                    <a:lnTo>
                      <a:pt x="684" y="622"/>
                    </a:lnTo>
                    <a:lnTo>
                      <a:pt x="666" y="628"/>
                    </a:lnTo>
                    <a:lnTo>
                      <a:pt x="562" y="628"/>
                    </a:lnTo>
                    <a:lnTo>
                      <a:pt x="552" y="632"/>
                    </a:lnTo>
                    <a:lnTo>
                      <a:pt x="538" y="636"/>
                    </a:lnTo>
                    <a:lnTo>
                      <a:pt x="518" y="648"/>
                    </a:lnTo>
                    <a:lnTo>
                      <a:pt x="502" y="660"/>
                    </a:lnTo>
                    <a:lnTo>
                      <a:pt x="514" y="664"/>
                    </a:lnTo>
                    <a:lnTo>
                      <a:pt x="506" y="666"/>
                    </a:lnTo>
                    <a:lnTo>
                      <a:pt x="476" y="668"/>
                    </a:lnTo>
                    <a:lnTo>
                      <a:pt x="460" y="674"/>
                    </a:lnTo>
                    <a:lnTo>
                      <a:pt x="434" y="686"/>
                    </a:lnTo>
                    <a:lnTo>
                      <a:pt x="436" y="694"/>
                    </a:lnTo>
                    <a:lnTo>
                      <a:pt x="430" y="702"/>
                    </a:lnTo>
                    <a:lnTo>
                      <a:pt x="430" y="706"/>
                    </a:lnTo>
                    <a:lnTo>
                      <a:pt x="418" y="714"/>
                    </a:lnTo>
                    <a:lnTo>
                      <a:pt x="416" y="718"/>
                    </a:lnTo>
                    <a:lnTo>
                      <a:pt x="432" y="716"/>
                    </a:lnTo>
                    <a:lnTo>
                      <a:pt x="448" y="720"/>
                    </a:lnTo>
                    <a:lnTo>
                      <a:pt x="428" y="722"/>
                    </a:lnTo>
                    <a:lnTo>
                      <a:pt x="412" y="726"/>
                    </a:lnTo>
                    <a:lnTo>
                      <a:pt x="404" y="730"/>
                    </a:lnTo>
                    <a:lnTo>
                      <a:pt x="406" y="730"/>
                    </a:lnTo>
                    <a:lnTo>
                      <a:pt x="440" y="736"/>
                    </a:lnTo>
                    <a:lnTo>
                      <a:pt x="484" y="732"/>
                    </a:lnTo>
                    <a:lnTo>
                      <a:pt x="504" y="722"/>
                    </a:lnTo>
                    <a:lnTo>
                      <a:pt x="514" y="722"/>
                    </a:lnTo>
                    <a:lnTo>
                      <a:pt x="522" y="720"/>
                    </a:lnTo>
                    <a:lnTo>
                      <a:pt x="534" y="714"/>
                    </a:lnTo>
                    <a:lnTo>
                      <a:pt x="540" y="708"/>
                    </a:lnTo>
                    <a:lnTo>
                      <a:pt x="566" y="700"/>
                    </a:lnTo>
                    <a:lnTo>
                      <a:pt x="562" y="704"/>
                    </a:lnTo>
                    <a:lnTo>
                      <a:pt x="544" y="716"/>
                    </a:lnTo>
                    <a:lnTo>
                      <a:pt x="508" y="730"/>
                    </a:lnTo>
                    <a:lnTo>
                      <a:pt x="508" y="734"/>
                    </a:lnTo>
                    <a:lnTo>
                      <a:pt x="502" y="738"/>
                    </a:lnTo>
                    <a:lnTo>
                      <a:pt x="502" y="742"/>
                    </a:lnTo>
                    <a:lnTo>
                      <a:pt x="508" y="746"/>
                    </a:lnTo>
                    <a:lnTo>
                      <a:pt x="552" y="740"/>
                    </a:lnTo>
                    <a:lnTo>
                      <a:pt x="558" y="744"/>
                    </a:lnTo>
                    <a:lnTo>
                      <a:pt x="572" y="740"/>
                    </a:lnTo>
                    <a:lnTo>
                      <a:pt x="606" y="726"/>
                    </a:lnTo>
                    <a:lnTo>
                      <a:pt x="618" y="718"/>
                    </a:lnTo>
                    <a:lnTo>
                      <a:pt x="632" y="712"/>
                    </a:lnTo>
                    <a:lnTo>
                      <a:pt x="650" y="696"/>
                    </a:lnTo>
                    <a:lnTo>
                      <a:pt x="664" y="690"/>
                    </a:lnTo>
                    <a:lnTo>
                      <a:pt x="672" y="682"/>
                    </a:lnTo>
                    <a:lnTo>
                      <a:pt x="696" y="672"/>
                    </a:lnTo>
                    <a:lnTo>
                      <a:pt x="668" y="686"/>
                    </a:lnTo>
                    <a:lnTo>
                      <a:pt x="650" y="704"/>
                    </a:lnTo>
                    <a:lnTo>
                      <a:pt x="650" y="708"/>
                    </a:lnTo>
                    <a:lnTo>
                      <a:pt x="656" y="708"/>
                    </a:lnTo>
                    <a:lnTo>
                      <a:pt x="668" y="706"/>
                    </a:lnTo>
                    <a:lnTo>
                      <a:pt x="662" y="710"/>
                    </a:lnTo>
                    <a:lnTo>
                      <a:pt x="640" y="716"/>
                    </a:lnTo>
                    <a:lnTo>
                      <a:pt x="630" y="720"/>
                    </a:lnTo>
                    <a:lnTo>
                      <a:pt x="620" y="730"/>
                    </a:lnTo>
                    <a:lnTo>
                      <a:pt x="620" y="734"/>
                    </a:lnTo>
                    <a:lnTo>
                      <a:pt x="646" y="732"/>
                    </a:lnTo>
                    <a:lnTo>
                      <a:pt x="660" y="734"/>
                    </a:lnTo>
                    <a:lnTo>
                      <a:pt x="668" y="736"/>
                    </a:lnTo>
                    <a:lnTo>
                      <a:pt x="668" y="740"/>
                    </a:lnTo>
                    <a:lnTo>
                      <a:pt x="680" y="738"/>
                    </a:lnTo>
                    <a:lnTo>
                      <a:pt x="676" y="742"/>
                    </a:lnTo>
                    <a:lnTo>
                      <a:pt x="666" y="746"/>
                    </a:lnTo>
                    <a:lnTo>
                      <a:pt x="636" y="738"/>
                    </a:lnTo>
                    <a:lnTo>
                      <a:pt x="600" y="740"/>
                    </a:lnTo>
                    <a:lnTo>
                      <a:pt x="586" y="744"/>
                    </a:lnTo>
                    <a:lnTo>
                      <a:pt x="584" y="748"/>
                    </a:lnTo>
                    <a:lnTo>
                      <a:pt x="576" y="752"/>
                    </a:lnTo>
                    <a:lnTo>
                      <a:pt x="592" y="756"/>
                    </a:lnTo>
                    <a:lnTo>
                      <a:pt x="574" y="760"/>
                    </a:lnTo>
                    <a:lnTo>
                      <a:pt x="556" y="756"/>
                    </a:lnTo>
                    <a:lnTo>
                      <a:pt x="546" y="756"/>
                    </a:lnTo>
                    <a:lnTo>
                      <a:pt x="506" y="768"/>
                    </a:lnTo>
                    <a:lnTo>
                      <a:pt x="506" y="772"/>
                    </a:lnTo>
                    <a:lnTo>
                      <a:pt x="512" y="772"/>
                    </a:lnTo>
                    <a:lnTo>
                      <a:pt x="514" y="778"/>
                    </a:lnTo>
                    <a:lnTo>
                      <a:pt x="534" y="774"/>
                    </a:lnTo>
                    <a:lnTo>
                      <a:pt x="570" y="776"/>
                    </a:lnTo>
                    <a:lnTo>
                      <a:pt x="582" y="772"/>
                    </a:lnTo>
                    <a:lnTo>
                      <a:pt x="586" y="774"/>
                    </a:lnTo>
                    <a:lnTo>
                      <a:pt x="586" y="778"/>
                    </a:lnTo>
                    <a:lnTo>
                      <a:pt x="576" y="778"/>
                    </a:lnTo>
                    <a:lnTo>
                      <a:pt x="558" y="782"/>
                    </a:lnTo>
                    <a:lnTo>
                      <a:pt x="560" y="780"/>
                    </a:lnTo>
                    <a:lnTo>
                      <a:pt x="556" y="780"/>
                    </a:lnTo>
                    <a:lnTo>
                      <a:pt x="528" y="780"/>
                    </a:lnTo>
                    <a:lnTo>
                      <a:pt x="524" y="782"/>
                    </a:lnTo>
                    <a:lnTo>
                      <a:pt x="520" y="784"/>
                    </a:lnTo>
                    <a:lnTo>
                      <a:pt x="518" y="788"/>
                    </a:lnTo>
                    <a:lnTo>
                      <a:pt x="550" y="786"/>
                    </a:lnTo>
                    <a:lnTo>
                      <a:pt x="530" y="792"/>
                    </a:lnTo>
                    <a:lnTo>
                      <a:pt x="518" y="800"/>
                    </a:lnTo>
                    <a:lnTo>
                      <a:pt x="514" y="802"/>
                    </a:lnTo>
                    <a:lnTo>
                      <a:pt x="512" y="812"/>
                    </a:lnTo>
                    <a:lnTo>
                      <a:pt x="530" y="820"/>
                    </a:lnTo>
                    <a:lnTo>
                      <a:pt x="556" y="810"/>
                    </a:lnTo>
                    <a:lnTo>
                      <a:pt x="564" y="802"/>
                    </a:lnTo>
                    <a:lnTo>
                      <a:pt x="572" y="800"/>
                    </a:lnTo>
                    <a:lnTo>
                      <a:pt x="566" y="810"/>
                    </a:lnTo>
                    <a:lnTo>
                      <a:pt x="536" y="824"/>
                    </a:lnTo>
                    <a:lnTo>
                      <a:pt x="530" y="834"/>
                    </a:lnTo>
                    <a:lnTo>
                      <a:pt x="550" y="836"/>
                    </a:lnTo>
                    <a:lnTo>
                      <a:pt x="574" y="836"/>
                    </a:lnTo>
                    <a:lnTo>
                      <a:pt x="602" y="842"/>
                    </a:lnTo>
                    <a:lnTo>
                      <a:pt x="634" y="838"/>
                    </a:lnTo>
                    <a:lnTo>
                      <a:pt x="658" y="830"/>
                    </a:lnTo>
                    <a:lnTo>
                      <a:pt x="684" y="814"/>
                    </a:lnTo>
                    <a:lnTo>
                      <a:pt x="706" y="804"/>
                    </a:lnTo>
                    <a:lnTo>
                      <a:pt x="722" y="796"/>
                    </a:lnTo>
                    <a:lnTo>
                      <a:pt x="748" y="782"/>
                    </a:lnTo>
                    <a:lnTo>
                      <a:pt x="754" y="774"/>
                    </a:lnTo>
                    <a:lnTo>
                      <a:pt x="764" y="768"/>
                    </a:lnTo>
                    <a:lnTo>
                      <a:pt x="778" y="764"/>
                    </a:lnTo>
                    <a:lnTo>
                      <a:pt x="794" y="766"/>
                    </a:lnTo>
                    <a:lnTo>
                      <a:pt x="768" y="774"/>
                    </a:lnTo>
                    <a:lnTo>
                      <a:pt x="762" y="784"/>
                    </a:lnTo>
                    <a:lnTo>
                      <a:pt x="742" y="796"/>
                    </a:lnTo>
                    <a:lnTo>
                      <a:pt x="710" y="810"/>
                    </a:lnTo>
                    <a:lnTo>
                      <a:pt x="704" y="816"/>
                    </a:lnTo>
                    <a:lnTo>
                      <a:pt x="690" y="822"/>
                    </a:lnTo>
                    <a:lnTo>
                      <a:pt x="648" y="838"/>
                    </a:lnTo>
                    <a:lnTo>
                      <a:pt x="644" y="840"/>
                    </a:lnTo>
                    <a:lnTo>
                      <a:pt x="608" y="848"/>
                    </a:lnTo>
                    <a:lnTo>
                      <a:pt x="606" y="854"/>
                    </a:lnTo>
                    <a:lnTo>
                      <a:pt x="606" y="856"/>
                    </a:lnTo>
                    <a:lnTo>
                      <a:pt x="618" y="860"/>
                    </a:lnTo>
                    <a:lnTo>
                      <a:pt x="616" y="862"/>
                    </a:lnTo>
                    <a:lnTo>
                      <a:pt x="604" y="864"/>
                    </a:lnTo>
                    <a:lnTo>
                      <a:pt x="584" y="860"/>
                    </a:lnTo>
                    <a:lnTo>
                      <a:pt x="578" y="854"/>
                    </a:lnTo>
                    <a:lnTo>
                      <a:pt x="534" y="854"/>
                    </a:lnTo>
                    <a:lnTo>
                      <a:pt x="536" y="862"/>
                    </a:lnTo>
                    <a:lnTo>
                      <a:pt x="536" y="866"/>
                    </a:lnTo>
                    <a:lnTo>
                      <a:pt x="530" y="870"/>
                    </a:lnTo>
                    <a:lnTo>
                      <a:pt x="518" y="870"/>
                    </a:lnTo>
                    <a:lnTo>
                      <a:pt x="498" y="856"/>
                    </a:lnTo>
                    <a:lnTo>
                      <a:pt x="468" y="852"/>
                    </a:lnTo>
                    <a:lnTo>
                      <a:pt x="448" y="842"/>
                    </a:lnTo>
                    <a:lnTo>
                      <a:pt x="442" y="844"/>
                    </a:lnTo>
                    <a:lnTo>
                      <a:pt x="448" y="838"/>
                    </a:lnTo>
                    <a:lnTo>
                      <a:pt x="446" y="834"/>
                    </a:lnTo>
                    <a:lnTo>
                      <a:pt x="454" y="822"/>
                    </a:lnTo>
                    <a:lnTo>
                      <a:pt x="450" y="814"/>
                    </a:lnTo>
                    <a:lnTo>
                      <a:pt x="452" y="804"/>
                    </a:lnTo>
                    <a:lnTo>
                      <a:pt x="448" y="800"/>
                    </a:lnTo>
                    <a:lnTo>
                      <a:pt x="452" y="794"/>
                    </a:lnTo>
                    <a:lnTo>
                      <a:pt x="440" y="776"/>
                    </a:lnTo>
                    <a:lnTo>
                      <a:pt x="374" y="766"/>
                    </a:lnTo>
                    <a:lnTo>
                      <a:pt x="320" y="774"/>
                    </a:lnTo>
                    <a:lnTo>
                      <a:pt x="310" y="772"/>
                    </a:lnTo>
                    <a:lnTo>
                      <a:pt x="296" y="778"/>
                    </a:lnTo>
                    <a:lnTo>
                      <a:pt x="286" y="778"/>
                    </a:lnTo>
                    <a:lnTo>
                      <a:pt x="282" y="784"/>
                    </a:lnTo>
                    <a:lnTo>
                      <a:pt x="278" y="786"/>
                    </a:lnTo>
                    <a:lnTo>
                      <a:pt x="280" y="788"/>
                    </a:lnTo>
                    <a:lnTo>
                      <a:pt x="264" y="802"/>
                    </a:lnTo>
                    <a:lnTo>
                      <a:pt x="280" y="814"/>
                    </a:lnTo>
                    <a:lnTo>
                      <a:pt x="278" y="816"/>
                    </a:lnTo>
                    <a:lnTo>
                      <a:pt x="286" y="826"/>
                    </a:lnTo>
                    <a:lnTo>
                      <a:pt x="286" y="828"/>
                    </a:lnTo>
                    <a:lnTo>
                      <a:pt x="272" y="840"/>
                    </a:lnTo>
                    <a:lnTo>
                      <a:pt x="272" y="846"/>
                    </a:lnTo>
                    <a:lnTo>
                      <a:pt x="270" y="850"/>
                    </a:lnTo>
                    <a:lnTo>
                      <a:pt x="290" y="856"/>
                    </a:lnTo>
                    <a:lnTo>
                      <a:pt x="312" y="850"/>
                    </a:lnTo>
                    <a:lnTo>
                      <a:pt x="330" y="852"/>
                    </a:lnTo>
                    <a:lnTo>
                      <a:pt x="328" y="856"/>
                    </a:lnTo>
                    <a:lnTo>
                      <a:pt x="294" y="862"/>
                    </a:lnTo>
                    <a:lnTo>
                      <a:pt x="292" y="864"/>
                    </a:lnTo>
                    <a:lnTo>
                      <a:pt x="310" y="866"/>
                    </a:lnTo>
                    <a:lnTo>
                      <a:pt x="306" y="870"/>
                    </a:lnTo>
                    <a:lnTo>
                      <a:pt x="288" y="872"/>
                    </a:lnTo>
                    <a:lnTo>
                      <a:pt x="284" y="876"/>
                    </a:lnTo>
                    <a:lnTo>
                      <a:pt x="282" y="880"/>
                    </a:lnTo>
                    <a:lnTo>
                      <a:pt x="292" y="878"/>
                    </a:lnTo>
                    <a:lnTo>
                      <a:pt x="314" y="882"/>
                    </a:lnTo>
                    <a:lnTo>
                      <a:pt x="304" y="886"/>
                    </a:lnTo>
                    <a:lnTo>
                      <a:pt x="298" y="890"/>
                    </a:lnTo>
                    <a:lnTo>
                      <a:pt x="286" y="884"/>
                    </a:lnTo>
                    <a:lnTo>
                      <a:pt x="288" y="880"/>
                    </a:lnTo>
                    <a:lnTo>
                      <a:pt x="260" y="882"/>
                    </a:lnTo>
                    <a:lnTo>
                      <a:pt x="250" y="886"/>
                    </a:lnTo>
                    <a:lnTo>
                      <a:pt x="252" y="892"/>
                    </a:lnTo>
                    <a:lnTo>
                      <a:pt x="232" y="892"/>
                    </a:lnTo>
                    <a:lnTo>
                      <a:pt x="234" y="888"/>
                    </a:lnTo>
                    <a:lnTo>
                      <a:pt x="230" y="888"/>
                    </a:lnTo>
                    <a:lnTo>
                      <a:pt x="212" y="892"/>
                    </a:lnTo>
                    <a:lnTo>
                      <a:pt x="204" y="888"/>
                    </a:lnTo>
                    <a:lnTo>
                      <a:pt x="188" y="886"/>
                    </a:lnTo>
                    <a:lnTo>
                      <a:pt x="182" y="886"/>
                    </a:lnTo>
                    <a:lnTo>
                      <a:pt x="172" y="894"/>
                    </a:lnTo>
                    <a:lnTo>
                      <a:pt x="154" y="896"/>
                    </a:lnTo>
                    <a:lnTo>
                      <a:pt x="140" y="898"/>
                    </a:lnTo>
                    <a:lnTo>
                      <a:pt x="128" y="904"/>
                    </a:lnTo>
                    <a:lnTo>
                      <a:pt x="60" y="918"/>
                    </a:lnTo>
                    <a:lnTo>
                      <a:pt x="38" y="932"/>
                    </a:lnTo>
                    <a:lnTo>
                      <a:pt x="34" y="938"/>
                    </a:lnTo>
                    <a:lnTo>
                      <a:pt x="22" y="950"/>
                    </a:lnTo>
                    <a:lnTo>
                      <a:pt x="10" y="958"/>
                    </a:lnTo>
                    <a:lnTo>
                      <a:pt x="0" y="962"/>
                    </a:lnTo>
                    <a:lnTo>
                      <a:pt x="8" y="986"/>
                    </a:lnTo>
                    <a:lnTo>
                      <a:pt x="16" y="988"/>
                    </a:lnTo>
                    <a:lnTo>
                      <a:pt x="48" y="978"/>
                    </a:lnTo>
                    <a:lnTo>
                      <a:pt x="62" y="966"/>
                    </a:lnTo>
                    <a:lnTo>
                      <a:pt x="50" y="986"/>
                    </a:lnTo>
                    <a:lnTo>
                      <a:pt x="78" y="970"/>
                    </a:lnTo>
                    <a:lnTo>
                      <a:pt x="96" y="938"/>
                    </a:lnTo>
                    <a:lnTo>
                      <a:pt x="114" y="932"/>
                    </a:lnTo>
                    <a:lnTo>
                      <a:pt x="106" y="944"/>
                    </a:lnTo>
                    <a:lnTo>
                      <a:pt x="84" y="966"/>
                    </a:lnTo>
                    <a:lnTo>
                      <a:pt x="66" y="992"/>
                    </a:lnTo>
                    <a:lnTo>
                      <a:pt x="92" y="996"/>
                    </a:lnTo>
                    <a:lnTo>
                      <a:pt x="94" y="1004"/>
                    </a:lnTo>
                    <a:lnTo>
                      <a:pt x="120" y="1002"/>
                    </a:lnTo>
                    <a:lnTo>
                      <a:pt x="140" y="990"/>
                    </a:lnTo>
                    <a:lnTo>
                      <a:pt x="150" y="976"/>
                    </a:lnTo>
                    <a:lnTo>
                      <a:pt x="148" y="988"/>
                    </a:lnTo>
                    <a:lnTo>
                      <a:pt x="162" y="998"/>
                    </a:lnTo>
                    <a:lnTo>
                      <a:pt x="164" y="1006"/>
                    </a:lnTo>
                    <a:lnTo>
                      <a:pt x="182" y="1008"/>
                    </a:lnTo>
                    <a:lnTo>
                      <a:pt x="200" y="996"/>
                    </a:lnTo>
                    <a:lnTo>
                      <a:pt x="224" y="990"/>
                    </a:lnTo>
                    <a:lnTo>
                      <a:pt x="240" y="972"/>
                    </a:lnTo>
                    <a:lnTo>
                      <a:pt x="240" y="980"/>
                    </a:lnTo>
                    <a:lnTo>
                      <a:pt x="232" y="992"/>
                    </a:lnTo>
                    <a:lnTo>
                      <a:pt x="212" y="1004"/>
                    </a:lnTo>
                    <a:lnTo>
                      <a:pt x="210" y="1008"/>
                    </a:lnTo>
                    <a:lnTo>
                      <a:pt x="250" y="1018"/>
                    </a:lnTo>
                    <a:lnTo>
                      <a:pt x="224" y="990"/>
                    </a:lnTo>
                    <a:lnTo>
                      <a:pt x="240" y="972"/>
                    </a:lnTo>
                    <a:lnTo>
                      <a:pt x="240" y="980"/>
                    </a:lnTo>
                    <a:lnTo>
                      <a:pt x="232" y="992"/>
                    </a:lnTo>
                    <a:lnTo>
                      <a:pt x="212" y="1004"/>
                    </a:lnTo>
                    <a:lnTo>
                      <a:pt x="210" y="1008"/>
                    </a:lnTo>
                    <a:lnTo>
                      <a:pt x="250" y="1018"/>
                    </a:lnTo>
                    <a:lnTo>
                      <a:pt x="260" y="1024"/>
                    </a:lnTo>
                    <a:lnTo>
                      <a:pt x="294" y="1028"/>
                    </a:lnTo>
                    <a:lnTo>
                      <a:pt x="292" y="1034"/>
                    </a:lnTo>
                    <a:lnTo>
                      <a:pt x="366" y="1034"/>
                    </a:lnTo>
                    <a:lnTo>
                      <a:pt x="348" y="1002"/>
                    </a:lnTo>
                    <a:lnTo>
                      <a:pt x="358" y="986"/>
                    </a:lnTo>
                    <a:lnTo>
                      <a:pt x="360" y="1008"/>
                    </a:lnTo>
                    <a:lnTo>
                      <a:pt x="380" y="1010"/>
                    </a:lnTo>
                    <a:lnTo>
                      <a:pt x="416" y="1000"/>
                    </a:lnTo>
                    <a:lnTo>
                      <a:pt x="434" y="978"/>
                    </a:lnTo>
                    <a:lnTo>
                      <a:pt x="446" y="1008"/>
                    </a:lnTo>
                    <a:lnTo>
                      <a:pt x="470" y="1018"/>
                    </a:lnTo>
                    <a:lnTo>
                      <a:pt x="494" y="1014"/>
                    </a:lnTo>
                    <a:lnTo>
                      <a:pt x="512" y="996"/>
                    </a:lnTo>
                    <a:lnTo>
                      <a:pt x="516" y="972"/>
                    </a:lnTo>
                    <a:lnTo>
                      <a:pt x="520" y="964"/>
                    </a:lnTo>
                    <a:lnTo>
                      <a:pt x="522" y="974"/>
                    </a:lnTo>
                    <a:lnTo>
                      <a:pt x="512" y="1018"/>
                    </a:lnTo>
                    <a:lnTo>
                      <a:pt x="526" y="1028"/>
                    </a:lnTo>
                    <a:lnTo>
                      <a:pt x="572" y="1026"/>
                    </a:lnTo>
                    <a:lnTo>
                      <a:pt x="596" y="1008"/>
                    </a:lnTo>
                    <a:lnTo>
                      <a:pt x="596" y="996"/>
                    </a:lnTo>
                    <a:lnTo>
                      <a:pt x="588" y="980"/>
                    </a:lnTo>
                    <a:lnTo>
                      <a:pt x="596" y="986"/>
                    </a:lnTo>
                    <a:lnTo>
                      <a:pt x="620" y="990"/>
                    </a:lnTo>
                    <a:lnTo>
                      <a:pt x="618" y="994"/>
                    </a:lnTo>
                    <a:lnTo>
                      <a:pt x="610" y="1006"/>
                    </a:lnTo>
                    <a:lnTo>
                      <a:pt x="612" y="1016"/>
                    </a:lnTo>
                    <a:lnTo>
                      <a:pt x="640" y="1020"/>
                    </a:lnTo>
                    <a:lnTo>
                      <a:pt x="668" y="1016"/>
                    </a:lnTo>
                    <a:lnTo>
                      <a:pt x="682" y="1018"/>
                    </a:lnTo>
                    <a:lnTo>
                      <a:pt x="686" y="1028"/>
                    </a:lnTo>
                    <a:lnTo>
                      <a:pt x="678" y="1040"/>
                    </a:lnTo>
                    <a:lnTo>
                      <a:pt x="656" y="1054"/>
                    </a:lnTo>
                    <a:lnTo>
                      <a:pt x="642" y="1062"/>
                    </a:lnTo>
                    <a:lnTo>
                      <a:pt x="642" y="1072"/>
                    </a:lnTo>
                    <a:lnTo>
                      <a:pt x="722" y="1060"/>
                    </a:lnTo>
                    <a:lnTo>
                      <a:pt x="768" y="1056"/>
                    </a:lnTo>
                    <a:lnTo>
                      <a:pt x="808" y="1044"/>
                    </a:lnTo>
                    <a:lnTo>
                      <a:pt x="864" y="1016"/>
                    </a:lnTo>
                    <a:lnTo>
                      <a:pt x="854" y="1038"/>
                    </a:lnTo>
                    <a:lnTo>
                      <a:pt x="896" y="1030"/>
                    </a:lnTo>
                    <a:lnTo>
                      <a:pt x="912" y="1018"/>
                    </a:lnTo>
                    <a:lnTo>
                      <a:pt x="946" y="1014"/>
                    </a:lnTo>
                    <a:lnTo>
                      <a:pt x="958" y="1006"/>
                    </a:lnTo>
                    <a:lnTo>
                      <a:pt x="976" y="988"/>
                    </a:lnTo>
                    <a:lnTo>
                      <a:pt x="988" y="968"/>
                    </a:lnTo>
                    <a:lnTo>
                      <a:pt x="984" y="954"/>
                    </a:lnTo>
                    <a:lnTo>
                      <a:pt x="952" y="958"/>
                    </a:lnTo>
                    <a:lnTo>
                      <a:pt x="926" y="966"/>
                    </a:lnTo>
                    <a:lnTo>
                      <a:pt x="908" y="976"/>
                    </a:lnTo>
                    <a:lnTo>
                      <a:pt x="892" y="972"/>
                    </a:lnTo>
                    <a:lnTo>
                      <a:pt x="904" y="962"/>
                    </a:lnTo>
                    <a:lnTo>
                      <a:pt x="878" y="952"/>
                    </a:lnTo>
                    <a:lnTo>
                      <a:pt x="886" y="948"/>
                    </a:lnTo>
                    <a:lnTo>
                      <a:pt x="898" y="944"/>
                    </a:lnTo>
                    <a:lnTo>
                      <a:pt x="920" y="942"/>
                    </a:lnTo>
                    <a:lnTo>
                      <a:pt x="934" y="932"/>
                    </a:lnTo>
                    <a:lnTo>
                      <a:pt x="934" y="928"/>
                    </a:lnTo>
                    <a:lnTo>
                      <a:pt x="932" y="916"/>
                    </a:lnTo>
                    <a:lnTo>
                      <a:pt x="912" y="914"/>
                    </a:lnTo>
                    <a:lnTo>
                      <a:pt x="886" y="912"/>
                    </a:lnTo>
                    <a:lnTo>
                      <a:pt x="830" y="930"/>
                    </a:lnTo>
                    <a:lnTo>
                      <a:pt x="822" y="928"/>
                    </a:lnTo>
                    <a:lnTo>
                      <a:pt x="850" y="918"/>
                    </a:lnTo>
                    <a:lnTo>
                      <a:pt x="854" y="910"/>
                    </a:lnTo>
                    <a:lnTo>
                      <a:pt x="794" y="902"/>
                    </a:lnTo>
                    <a:lnTo>
                      <a:pt x="760" y="902"/>
                    </a:lnTo>
                    <a:lnTo>
                      <a:pt x="704" y="922"/>
                    </a:lnTo>
                    <a:lnTo>
                      <a:pt x="706" y="912"/>
                    </a:lnTo>
                    <a:lnTo>
                      <a:pt x="712" y="900"/>
                    </a:lnTo>
                    <a:lnTo>
                      <a:pt x="710" y="894"/>
                    </a:lnTo>
                    <a:lnTo>
                      <a:pt x="730" y="896"/>
                    </a:lnTo>
                    <a:lnTo>
                      <a:pt x="780" y="892"/>
                    </a:lnTo>
                    <a:lnTo>
                      <a:pt x="784" y="886"/>
                    </a:lnTo>
                    <a:lnTo>
                      <a:pt x="764" y="878"/>
                    </a:lnTo>
                    <a:lnTo>
                      <a:pt x="768" y="868"/>
                    </a:lnTo>
                    <a:lnTo>
                      <a:pt x="774" y="862"/>
                    </a:lnTo>
                    <a:lnTo>
                      <a:pt x="800" y="884"/>
                    </a:lnTo>
                    <a:lnTo>
                      <a:pt x="834" y="898"/>
                    </a:lnTo>
                    <a:lnTo>
                      <a:pt x="954" y="904"/>
                    </a:lnTo>
                    <a:lnTo>
                      <a:pt x="972" y="896"/>
                    </a:lnTo>
                    <a:lnTo>
                      <a:pt x="982" y="898"/>
                    </a:lnTo>
                    <a:lnTo>
                      <a:pt x="976" y="904"/>
                    </a:lnTo>
                    <a:lnTo>
                      <a:pt x="976" y="904"/>
                    </a:lnTo>
                    <a:lnTo>
                      <a:pt x="1028" y="896"/>
                    </a:lnTo>
                    <a:lnTo>
                      <a:pt x="1064" y="878"/>
                    </a:lnTo>
                    <a:lnTo>
                      <a:pt x="1074" y="870"/>
                    </a:lnTo>
                    <a:lnTo>
                      <a:pt x="1076" y="864"/>
                    </a:lnTo>
                    <a:lnTo>
                      <a:pt x="1106" y="862"/>
                    </a:lnTo>
                    <a:lnTo>
                      <a:pt x="1110" y="856"/>
                    </a:lnTo>
                    <a:lnTo>
                      <a:pt x="1092" y="844"/>
                    </a:lnTo>
                    <a:lnTo>
                      <a:pt x="1096" y="838"/>
                    </a:lnTo>
                    <a:lnTo>
                      <a:pt x="1104" y="832"/>
                    </a:lnTo>
                    <a:lnTo>
                      <a:pt x="1104" y="822"/>
                    </a:lnTo>
                    <a:lnTo>
                      <a:pt x="1096" y="818"/>
                    </a:lnTo>
                    <a:lnTo>
                      <a:pt x="1100" y="816"/>
                    </a:lnTo>
                    <a:lnTo>
                      <a:pt x="1106" y="810"/>
                    </a:lnTo>
                    <a:lnTo>
                      <a:pt x="1106" y="804"/>
                    </a:lnTo>
                    <a:lnTo>
                      <a:pt x="1110" y="798"/>
                    </a:lnTo>
                    <a:lnTo>
                      <a:pt x="1124" y="804"/>
                    </a:lnTo>
                    <a:lnTo>
                      <a:pt x="1192" y="808"/>
                    </a:lnTo>
                    <a:lnTo>
                      <a:pt x="1196" y="814"/>
                    </a:lnTo>
                    <a:lnTo>
                      <a:pt x="1228" y="812"/>
                    </a:lnTo>
                    <a:lnTo>
                      <a:pt x="1270" y="798"/>
                    </a:lnTo>
                    <a:lnTo>
                      <a:pt x="1290" y="804"/>
                    </a:lnTo>
                    <a:lnTo>
                      <a:pt x="1290" y="810"/>
                    </a:lnTo>
                    <a:lnTo>
                      <a:pt x="1324" y="796"/>
                    </a:lnTo>
                    <a:lnTo>
                      <a:pt x="1326" y="794"/>
                    </a:lnTo>
                    <a:lnTo>
                      <a:pt x="1344" y="786"/>
                    </a:lnTo>
                    <a:lnTo>
                      <a:pt x="1270" y="776"/>
                    </a:lnTo>
                    <a:lnTo>
                      <a:pt x="1242" y="768"/>
                    </a:lnTo>
                    <a:lnTo>
                      <a:pt x="1274" y="762"/>
                    </a:lnTo>
                    <a:lnTo>
                      <a:pt x="1302" y="764"/>
                    </a:lnTo>
                    <a:lnTo>
                      <a:pt x="1346" y="774"/>
                    </a:lnTo>
                    <a:lnTo>
                      <a:pt x="1378" y="760"/>
                    </a:lnTo>
                    <a:lnTo>
                      <a:pt x="1410" y="756"/>
                    </a:lnTo>
                    <a:lnTo>
                      <a:pt x="1418" y="750"/>
                    </a:lnTo>
                    <a:lnTo>
                      <a:pt x="1412" y="740"/>
                    </a:lnTo>
                    <a:lnTo>
                      <a:pt x="1398" y="734"/>
                    </a:lnTo>
                    <a:lnTo>
                      <a:pt x="1366" y="730"/>
                    </a:lnTo>
                    <a:lnTo>
                      <a:pt x="1352" y="722"/>
                    </a:lnTo>
                    <a:lnTo>
                      <a:pt x="1334" y="720"/>
                    </a:lnTo>
                    <a:lnTo>
                      <a:pt x="1348" y="718"/>
                    </a:lnTo>
                    <a:lnTo>
                      <a:pt x="1372" y="720"/>
                    </a:lnTo>
                    <a:lnTo>
                      <a:pt x="1426" y="722"/>
                    </a:lnTo>
                    <a:lnTo>
                      <a:pt x="1446" y="720"/>
                    </a:lnTo>
                    <a:lnTo>
                      <a:pt x="1458" y="714"/>
                    </a:lnTo>
                    <a:lnTo>
                      <a:pt x="1486" y="710"/>
                    </a:lnTo>
                    <a:lnTo>
                      <a:pt x="1478" y="704"/>
                    </a:lnTo>
                    <a:lnTo>
                      <a:pt x="1484" y="698"/>
                    </a:lnTo>
                    <a:lnTo>
                      <a:pt x="1494" y="694"/>
                    </a:lnTo>
                    <a:lnTo>
                      <a:pt x="1500" y="684"/>
                    </a:lnTo>
                    <a:lnTo>
                      <a:pt x="1506" y="672"/>
                    </a:lnTo>
                    <a:lnTo>
                      <a:pt x="1494" y="666"/>
                    </a:lnTo>
                    <a:lnTo>
                      <a:pt x="1458" y="658"/>
                    </a:lnTo>
                    <a:lnTo>
                      <a:pt x="1398" y="658"/>
                    </a:lnTo>
                    <a:lnTo>
                      <a:pt x="1402" y="654"/>
                    </a:lnTo>
                    <a:lnTo>
                      <a:pt x="1426" y="652"/>
                    </a:lnTo>
                    <a:lnTo>
                      <a:pt x="1440" y="648"/>
                    </a:lnTo>
                    <a:lnTo>
                      <a:pt x="1444" y="646"/>
                    </a:lnTo>
                    <a:lnTo>
                      <a:pt x="1438" y="640"/>
                    </a:lnTo>
                    <a:lnTo>
                      <a:pt x="1334" y="638"/>
                    </a:lnTo>
                    <a:lnTo>
                      <a:pt x="1312" y="640"/>
                    </a:lnTo>
                    <a:lnTo>
                      <a:pt x="1292" y="646"/>
                    </a:lnTo>
                    <a:lnTo>
                      <a:pt x="1280" y="646"/>
                    </a:lnTo>
                    <a:lnTo>
                      <a:pt x="1300" y="638"/>
                    </a:lnTo>
                    <a:lnTo>
                      <a:pt x="1310" y="632"/>
                    </a:lnTo>
                    <a:lnTo>
                      <a:pt x="1294" y="630"/>
                    </a:lnTo>
                    <a:lnTo>
                      <a:pt x="1294" y="626"/>
                    </a:lnTo>
                    <a:lnTo>
                      <a:pt x="1326" y="630"/>
                    </a:lnTo>
                    <a:lnTo>
                      <a:pt x="1396" y="626"/>
                    </a:lnTo>
                    <a:lnTo>
                      <a:pt x="1432" y="630"/>
                    </a:lnTo>
                    <a:lnTo>
                      <a:pt x="1436" y="626"/>
                    </a:lnTo>
                    <a:lnTo>
                      <a:pt x="1408" y="618"/>
                    </a:lnTo>
                    <a:lnTo>
                      <a:pt x="1318" y="612"/>
                    </a:lnTo>
                    <a:lnTo>
                      <a:pt x="1308" y="608"/>
                    </a:lnTo>
                    <a:lnTo>
                      <a:pt x="1330" y="608"/>
                    </a:lnTo>
                    <a:lnTo>
                      <a:pt x="1396" y="610"/>
                    </a:lnTo>
                    <a:lnTo>
                      <a:pt x="1416" y="606"/>
                    </a:lnTo>
                    <a:lnTo>
                      <a:pt x="1438" y="608"/>
                    </a:lnTo>
                    <a:lnTo>
                      <a:pt x="1460" y="612"/>
                    </a:lnTo>
                    <a:lnTo>
                      <a:pt x="1464" y="618"/>
                    </a:lnTo>
                    <a:lnTo>
                      <a:pt x="1456" y="624"/>
                    </a:lnTo>
                    <a:lnTo>
                      <a:pt x="1458" y="632"/>
                    </a:lnTo>
                    <a:lnTo>
                      <a:pt x="1470" y="636"/>
                    </a:lnTo>
                    <a:lnTo>
                      <a:pt x="1540" y="644"/>
                    </a:lnTo>
                    <a:lnTo>
                      <a:pt x="1552" y="642"/>
                    </a:lnTo>
                    <a:lnTo>
                      <a:pt x="1560" y="636"/>
                    </a:lnTo>
                    <a:lnTo>
                      <a:pt x="1564" y="628"/>
                    </a:lnTo>
                    <a:lnTo>
                      <a:pt x="1552" y="618"/>
                    </a:lnTo>
                    <a:lnTo>
                      <a:pt x="1576" y="610"/>
                    </a:lnTo>
                    <a:lnTo>
                      <a:pt x="1568" y="606"/>
                    </a:lnTo>
                    <a:lnTo>
                      <a:pt x="1472" y="602"/>
                    </a:lnTo>
                    <a:lnTo>
                      <a:pt x="1468" y="598"/>
                    </a:lnTo>
                    <a:lnTo>
                      <a:pt x="1380" y="598"/>
                    </a:lnTo>
                    <a:lnTo>
                      <a:pt x="1340" y="600"/>
                    </a:lnTo>
                    <a:lnTo>
                      <a:pt x="1356" y="596"/>
                    </a:lnTo>
                    <a:lnTo>
                      <a:pt x="1362" y="594"/>
                    </a:lnTo>
                    <a:lnTo>
                      <a:pt x="1334" y="588"/>
                    </a:lnTo>
                    <a:lnTo>
                      <a:pt x="1326" y="584"/>
                    </a:lnTo>
                    <a:lnTo>
                      <a:pt x="1352" y="582"/>
                    </a:lnTo>
                    <a:lnTo>
                      <a:pt x="1386" y="586"/>
                    </a:lnTo>
                    <a:lnTo>
                      <a:pt x="1390" y="572"/>
                    </a:lnTo>
                    <a:lnTo>
                      <a:pt x="1384" y="568"/>
                    </a:lnTo>
                    <a:lnTo>
                      <a:pt x="1396" y="566"/>
                    </a:lnTo>
                    <a:lnTo>
                      <a:pt x="1400" y="570"/>
                    </a:lnTo>
                    <a:lnTo>
                      <a:pt x="1400" y="578"/>
                    </a:lnTo>
                    <a:lnTo>
                      <a:pt x="1412" y="582"/>
                    </a:lnTo>
                    <a:lnTo>
                      <a:pt x="1478" y="588"/>
                    </a:lnTo>
                    <a:lnTo>
                      <a:pt x="1486" y="584"/>
                    </a:lnTo>
                    <a:lnTo>
                      <a:pt x="1476" y="576"/>
                    </a:lnTo>
                    <a:lnTo>
                      <a:pt x="1476" y="572"/>
                    </a:lnTo>
                    <a:lnTo>
                      <a:pt x="1412" y="564"/>
                    </a:lnTo>
                    <a:lnTo>
                      <a:pt x="1406" y="556"/>
                    </a:lnTo>
                    <a:lnTo>
                      <a:pt x="1418" y="556"/>
                    </a:lnTo>
                    <a:lnTo>
                      <a:pt x="1464" y="562"/>
                    </a:lnTo>
                    <a:lnTo>
                      <a:pt x="1510" y="578"/>
                    </a:lnTo>
                    <a:lnTo>
                      <a:pt x="1550" y="584"/>
                    </a:lnTo>
                    <a:lnTo>
                      <a:pt x="1566" y="580"/>
                    </a:lnTo>
                    <a:lnTo>
                      <a:pt x="1568" y="570"/>
                    </a:lnTo>
                    <a:lnTo>
                      <a:pt x="1582" y="574"/>
                    </a:lnTo>
                    <a:lnTo>
                      <a:pt x="1622" y="578"/>
                    </a:lnTo>
                    <a:lnTo>
                      <a:pt x="1640" y="572"/>
                    </a:lnTo>
                    <a:lnTo>
                      <a:pt x="1642" y="566"/>
                    </a:lnTo>
                    <a:lnTo>
                      <a:pt x="1648" y="568"/>
                    </a:lnTo>
                    <a:lnTo>
                      <a:pt x="1660" y="562"/>
                    </a:lnTo>
                    <a:lnTo>
                      <a:pt x="1662" y="570"/>
                    </a:lnTo>
                    <a:lnTo>
                      <a:pt x="1686" y="568"/>
                    </a:lnTo>
                    <a:lnTo>
                      <a:pt x="1698" y="560"/>
                    </a:lnTo>
                    <a:lnTo>
                      <a:pt x="1704" y="552"/>
                    </a:lnTo>
                    <a:lnTo>
                      <a:pt x="1704" y="542"/>
                    </a:lnTo>
                    <a:lnTo>
                      <a:pt x="1706" y="534"/>
                    </a:lnTo>
                    <a:lnTo>
                      <a:pt x="1628" y="526"/>
                    </a:lnTo>
                    <a:lnTo>
                      <a:pt x="1640" y="518"/>
                    </a:lnTo>
                    <a:lnTo>
                      <a:pt x="1668" y="518"/>
                    </a:lnTo>
                    <a:lnTo>
                      <a:pt x="1692" y="524"/>
                    </a:lnTo>
                    <a:lnTo>
                      <a:pt x="1730" y="530"/>
                    </a:lnTo>
                    <a:lnTo>
                      <a:pt x="1722" y="536"/>
                    </a:lnTo>
                    <a:lnTo>
                      <a:pt x="1720" y="542"/>
                    </a:lnTo>
                    <a:lnTo>
                      <a:pt x="1738" y="548"/>
                    </a:lnTo>
                    <a:lnTo>
                      <a:pt x="1758" y="546"/>
                    </a:lnTo>
                    <a:lnTo>
                      <a:pt x="1756" y="550"/>
                    </a:lnTo>
                    <a:lnTo>
                      <a:pt x="1792" y="548"/>
                    </a:lnTo>
                    <a:lnTo>
                      <a:pt x="1824" y="550"/>
                    </a:lnTo>
                    <a:lnTo>
                      <a:pt x="1842" y="546"/>
                    </a:lnTo>
                    <a:lnTo>
                      <a:pt x="1860" y="546"/>
                    </a:lnTo>
                    <a:lnTo>
                      <a:pt x="1908" y="526"/>
                    </a:lnTo>
                    <a:lnTo>
                      <a:pt x="1896" y="524"/>
                    </a:lnTo>
                    <a:lnTo>
                      <a:pt x="1872" y="524"/>
                    </a:lnTo>
                    <a:lnTo>
                      <a:pt x="1880" y="518"/>
                    </a:lnTo>
                    <a:lnTo>
                      <a:pt x="1900" y="510"/>
                    </a:lnTo>
                    <a:lnTo>
                      <a:pt x="1934" y="508"/>
                    </a:lnTo>
                    <a:lnTo>
                      <a:pt x="1942" y="504"/>
                    </a:lnTo>
                    <a:lnTo>
                      <a:pt x="1968" y="498"/>
                    </a:lnTo>
                    <a:lnTo>
                      <a:pt x="1974" y="492"/>
                    </a:lnTo>
                    <a:lnTo>
                      <a:pt x="1948" y="486"/>
                    </a:lnTo>
                    <a:lnTo>
                      <a:pt x="1864" y="492"/>
                    </a:lnTo>
                    <a:lnTo>
                      <a:pt x="1828" y="492"/>
                    </a:lnTo>
                    <a:lnTo>
                      <a:pt x="1848" y="488"/>
                    </a:lnTo>
                    <a:lnTo>
                      <a:pt x="1860" y="480"/>
                    </a:lnTo>
                    <a:lnTo>
                      <a:pt x="1870" y="484"/>
                    </a:lnTo>
                    <a:lnTo>
                      <a:pt x="1904" y="484"/>
                    </a:lnTo>
                    <a:lnTo>
                      <a:pt x="1972" y="474"/>
                    </a:lnTo>
                    <a:lnTo>
                      <a:pt x="2024" y="478"/>
                    </a:lnTo>
                    <a:lnTo>
                      <a:pt x="2032" y="472"/>
                    </a:lnTo>
                    <a:lnTo>
                      <a:pt x="2026" y="464"/>
                    </a:lnTo>
                    <a:lnTo>
                      <a:pt x="2008" y="456"/>
                    </a:lnTo>
                    <a:lnTo>
                      <a:pt x="2010" y="448"/>
                    </a:lnTo>
                    <a:lnTo>
                      <a:pt x="2024" y="438"/>
                    </a:lnTo>
                    <a:lnTo>
                      <a:pt x="2034" y="434"/>
                    </a:lnTo>
                    <a:lnTo>
                      <a:pt x="2032" y="440"/>
                    </a:lnTo>
                    <a:lnTo>
                      <a:pt x="2024" y="448"/>
                    </a:lnTo>
                    <a:lnTo>
                      <a:pt x="2024" y="454"/>
                    </a:lnTo>
                    <a:lnTo>
                      <a:pt x="2058" y="456"/>
                    </a:lnTo>
                    <a:lnTo>
                      <a:pt x="2098" y="450"/>
                    </a:lnTo>
                    <a:lnTo>
                      <a:pt x="2114" y="438"/>
                    </a:lnTo>
                    <a:lnTo>
                      <a:pt x="2132" y="430"/>
                    </a:lnTo>
                    <a:lnTo>
                      <a:pt x="2154" y="416"/>
                    </a:lnTo>
                    <a:lnTo>
                      <a:pt x="2212" y="400"/>
                    </a:lnTo>
                    <a:lnTo>
                      <a:pt x="2226" y="394"/>
                    </a:lnTo>
                    <a:lnTo>
                      <a:pt x="2244" y="388"/>
                    </a:lnTo>
                    <a:lnTo>
                      <a:pt x="2270" y="388"/>
                    </a:lnTo>
                    <a:lnTo>
                      <a:pt x="2290" y="380"/>
                    </a:lnTo>
                    <a:lnTo>
                      <a:pt x="2330" y="370"/>
                    </a:lnTo>
                    <a:lnTo>
                      <a:pt x="2330" y="368"/>
                    </a:lnTo>
                    <a:lnTo>
                      <a:pt x="2336" y="366"/>
                    </a:lnTo>
                    <a:lnTo>
                      <a:pt x="2378" y="360"/>
                    </a:lnTo>
                    <a:lnTo>
                      <a:pt x="2396" y="352"/>
                    </a:lnTo>
                    <a:lnTo>
                      <a:pt x="2428" y="344"/>
                    </a:lnTo>
                    <a:lnTo>
                      <a:pt x="2438" y="338"/>
                    </a:lnTo>
                    <a:lnTo>
                      <a:pt x="2482" y="322"/>
                    </a:lnTo>
                    <a:lnTo>
                      <a:pt x="2508" y="320"/>
                    </a:lnTo>
                    <a:lnTo>
                      <a:pt x="2592" y="302"/>
                    </a:lnTo>
                    <a:lnTo>
                      <a:pt x="2622" y="292"/>
                    </a:lnTo>
                    <a:lnTo>
                      <a:pt x="2638" y="278"/>
                    </a:lnTo>
                    <a:lnTo>
                      <a:pt x="2638" y="274"/>
                    </a:lnTo>
                    <a:lnTo>
                      <a:pt x="2604" y="274"/>
                    </a:lnTo>
                    <a:lnTo>
                      <a:pt x="2548" y="278"/>
                    </a:lnTo>
                    <a:lnTo>
                      <a:pt x="2444" y="294"/>
                    </a:lnTo>
                    <a:lnTo>
                      <a:pt x="2378" y="298"/>
                    </a:lnTo>
                    <a:lnTo>
                      <a:pt x="2240" y="318"/>
                    </a:lnTo>
                    <a:lnTo>
                      <a:pt x="2220" y="316"/>
                    </a:lnTo>
                    <a:lnTo>
                      <a:pt x="2146" y="334"/>
                    </a:lnTo>
                    <a:lnTo>
                      <a:pt x="2148" y="330"/>
                    </a:lnTo>
                    <a:lnTo>
                      <a:pt x="2166" y="324"/>
                    </a:lnTo>
                    <a:lnTo>
                      <a:pt x="2110" y="324"/>
                    </a:lnTo>
                    <a:lnTo>
                      <a:pt x="2102" y="316"/>
                    </a:lnTo>
                    <a:lnTo>
                      <a:pt x="2162" y="320"/>
                    </a:lnTo>
                    <a:lnTo>
                      <a:pt x="2184" y="314"/>
                    </a:lnTo>
                    <a:lnTo>
                      <a:pt x="2196" y="308"/>
                    </a:lnTo>
                    <a:lnTo>
                      <a:pt x="2200" y="304"/>
                    </a:lnTo>
                    <a:lnTo>
                      <a:pt x="2202" y="304"/>
                    </a:lnTo>
                    <a:lnTo>
                      <a:pt x="2224" y="310"/>
                    </a:lnTo>
                    <a:lnTo>
                      <a:pt x="2242" y="310"/>
                    </a:lnTo>
                    <a:lnTo>
                      <a:pt x="2448" y="270"/>
                    </a:lnTo>
                    <a:lnTo>
                      <a:pt x="2444" y="268"/>
                    </a:lnTo>
                    <a:lnTo>
                      <a:pt x="2414" y="266"/>
                    </a:lnTo>
                    <a:lnTo>
                      <a:pt x="2368" y="268"/>
                    </a:lnTo>
                    <a:lnTo>
                      <a:pt x="2324" y="266"/>
                    </a:lnTo>
                    <a:lnTo>
                      <a:pt x="2290" y="268"/>
                    </a:lnTo>
                    <a:lnTo>
                      <a:pt x="2292" y="264"/>
                    </a:lnTo>
                    <a:lnTo>
                      <a:pt x="2298" y="258"/>
                    </a:lnTo>
                    <a:lnTo>
                      <a:pt x="2322" y="262"/>
                    </a:lnTo>
                    <a:lnTo>
                      <a:pt x="2328" y="258"/>
                    </a:lnTo>
                    <a:lnTo>
                      <a:pt x="2304" y="242"/>
                    </a:lnTo>
                    <a:lnTo>
                      <a:pt x="2296" y="232"/>
                    </a:lnTo>
                    <a:lnTo>
                      <a:pt x="2326" y="250"/>
                    </a:lnTo>
                    <a:lnTo>
                      <a:pt x="2346" y="258"/>
                    </a:lnTo>
                    <a:lnTo>
                      <a:pt x="2378" y="254"/>
                    </a:lnTo>
                    <a:lnTo>
                      <a:pt x="2370" y="250"/>
                    </a:lnTo>
                    <a:lnTo>
                      <a:pt x="2438" y="256"/>
                    </a:lnTo>
                    <a:lnTo>
                      <a:pt x="2488" y="252"/>
                    </a:lnTo>
                    <a:lnTo>
                      <a:pt x="2504" y="256"/>
                    </a:lnTo>
                    <a:lnTo>
                      <a:pt x="2536" y="254"/>
                    </a:lnTo>
                    <a:lnTo>
                      <a:pt x="2548" y="256"/>
                    </a:lnTo>
                    <a:lnTo>
                      <a:pt x="2586" y="250"/>
                    </a:lnTo>
                    <a:lnTo>
                      <a:pt x="2546" y="248"/>
                    </a:lnTo>
                    <a:lnTo>
                      <a:pt x="2562" y="244"/>
                    </a:lnTo>
                    <a:lnTo>
                      <a:pt x="2626" y="240"/>
                    </a:lnTo>
                    <a:lnTo>
                      <a:pt x="2632" y="244"/>
                    </a:lnTo>
                    <a:lnTo>
                      <a:pt x="2648" y="248"/>
                    </a:lnTo>
                    <a:lnTo>
                      <a:pt x="2678" y="244"/>
                    </a:lnTo>
                    <a:lnTo>
                      <a:pt x="2682" y="238"/>
                    </a:lnTo>
                    <a:lnTo>
                      <a:pt x="2682" y="236"/>
                    </a:lnTo>
                    <a:lnTo>
                      <a:pt x="2696" y="242"/>
                    </a:lnTo>
                    <a:lnTo>
                      <a:pt x="2702" y="240"/>
                    </a:lnTo>
                    <a:lnTo>
                      <a:pt x="2732" y="230"/>
                    </a:lnTo>
                    <a:lnTo>
                      <a:pt x="2794" y="222"/>
                    </a:lnTo>
                    <a:lnTo>
                      <a:pt x="2820" y="216"/>
                    </a:lnTo>
                    <a:lnTo>
                      <a:pt x="2836" y="208"/>
                    </a:lnTo>
                    <a:lnTo>
                      <a:pt x="2878" y="202"/>
                    </a:lnTo>
                    <a:lnTo>
                      <a:pt x="2904" y="188"/>
                    </a:lnTo>
                    <a:lnTo>
                      <a:pt x="2956" y="178"/>
                    </a:lnTo>
                    <a:lnTo>
                      <a:pt x="2964" y="174"/>
                    </a:lnTo>
                    <a:lnTo>
                      <a:pt x="2984" y="160"/>
                    </a:lnTo>
                    <a:lnTo>
                      <a:pt x="2988" y="152"/>
                    </a:lnTo>
                    <a:lnTo>
                      <a:pt x="2980" y="138"/>
                    </a:lnTo>
                    <a:lnTo>
                      <a:pt x="2968" y="134"/>
                    </a:lnTo>
                    <a:lnTo>
                      <a:pt x="2924" y="130"/>
                    </a:lnTo>
                    <a:lnTo>
                      <a:pt x="2914" y="126"/>
                    </a:lnTo>
                    <a:lnTo>
                      <a:pt x="2918" y="12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60360" y="2590920"/>
                <a:ext cx="63720" cy="29160"/>
              </a:xfrm>
              <a:custGeom>
                <a:avLst/>
                <a:gdLst/>
                <a:ahLst/>
                <a:rect l="l" t="t" r="r" b="b"/>
                <a:pathLst>
                  <a:path w="368" h="168">
                    <a:moveTo>
                      <a:pt x="210" y="24"/>
                    </a:moveTo>
                    <a:lnTo>
                      <a:pt x="242" y="22"/>
                    </a:lnTo>
                    <a:lnTo>
                      <a:pt x="274" y="26"/>
                    </a:lnTo>
                    <a:lnTo>
                      <a:pt x="336" y="54"/>
                    </a:lnTo>
                    <a:lnTo>
                      <a:pt x="340" y="66"/>
                    </a:lnTo>
                    <a:lnTo>
                      <a:pt x="336" y="74"/>
                    </a:lnTo>
                    <a:lnTo>
                      <a:pt x="340" y="86"/>
                    </a:lnTo>
                    <a:lnTo>
                      <a:pt x="352" y="92"/>
                    </a:lnTo>
                    <a:lnTo>
                      <a:pt x="358" y="120"/>
                    </a:lnTo>
                    <a:lnTo>
                      <a:pt x="368" y="130"/>
                    </a:lnTo>
                    <a:lnTo>
                      <a:pt x="362" y="138"/>
                    </a:lnTo>
                    <a:lnTo>
                      <a:pt x="358" y="148"/>
                    </a:lnTo>
                    <a:lnTo>
                      <a:pt x="366" y="158"/>
                    </a:lnTo>
                    <a:lnTo>
                      <a:pt x="344" y="168"/>
                    </a:lnTo>
                    <a:lnTo>
                      <a:pt x="314" y="168"/>
                    </a:lnTo>
                    <a:lnTo>
                      <a:pt x="278" y="162"/>
                    </a:lnTo>
                    <a:lnTo>
                      <a:pt x="240" y="150"/>
                    </a:lnTo>
                    <a:lnTo>
                      <a:pt x="180" y="146"/>
                    </a:lnTo>
                    <a:lnTo>
                      <a:pt x="100" y="164"/>
                    </a:lnTo>
                    <a:lnTo>
                      <a:pt x="58" y="166"/>
                    </a:lnTo>
                    <a:lnTo>
                      <a:pt x="32" y="156"/>
                    </a:lnTo>
                    <a:lnTo>
                      <a:pt x="16" y="142"/>
                    </a:lnTo>
                    <a:lnTo>
                      <a:pt x="20" y="124"/>
                    </a:lnTo>
                    <a:lnTo>
                      <a:pt x="44" y="86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6" y="40"/>
                    </a:lnTo>
                    <a:lnTo>
                      <a:pt x="28" y="36"/>
                    </a:lnTo>
                    <a:lnTo>
                      <a:pt x="46" y="14"/>
                    </a:lnTo>
                    <a:lnTo>
                      <a:pt x="70" y="0"/>
                    </a:lnTo>
                    <a:lnTo>
                      <a:pt x="92" y="0"/>
                    </a:lnTo>
                    <a:lnTo>
                      <a:pt x="108" y="10"/>
                    </a:lnTo>
                    <a:lnTo>
                      <a:pt x="122" y="8"/>
                    </a:lnTo>
                    <a:lnTo>
                      <a:pt x="152" y="20"/>
                    </a:lnTo>
                    <a:lnTo>
                      <a:pt x="194" y="28"/>
                    </a:lnTo>
                    <a:lnTo>
                      <a:pt x="210" y="2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84600" y="2888640"/>
                <a:ext cx="45720" cy="22680"/>
              </a:xfrm>
              <a:custGeom>
                <a:avLst/>
                <a:gdLst/>
                <a:ahLst/>
                <a:rect l="l" t="t" r="r" b="b"/>
                <a:pathLst>
                  <a:path w="266" h="134">
                    <a:moveTo>
                      <a:pt x="220" y="2"/>
                    </a:moveTo>
                    <a:lnTo>
                      <a:pt x="150" y="18"/>
                    </a:lnTo>
                    <a:lnTo>
                      <a:pt x="122" y="30"/>
                    </a:lnTo>
                    <a:lnTo>
                      <a:pt x="94" y="48"/>
                    </a:lnTo>
                    <a:lnTo>
                      <a:pt x="68" y="70"/>
                    </a:lnTo>
                    <a:lnTo>
                      <a:pt x="18" y="106"/>
                    </a:lnTo>
                    <a:lnTo>
                      <a:pt x="0" y="128"/>
                    </a:lnTo>
                    <a:lnTo>
                      <a:pt x="10" y="134"/>
                    </a:lnTo>
                    <a:lnTo>
                      <a:pt x="48" y="120"/>
                    </a:lnTo>
                    <a:lnTo>
                      <a:pt x="72" y="120"/>
                    </a:lnTo>
                    <a:lnTo>
                      <a:pt x="94" y="108"/>
                    </a:lnTo>
                    <a:lnTo>
                      <a:pt x="126" y="102"/>
                    </a:lnTo>
                    <a:lnTo>
                      <a:pt x="134" y="86"/>
                    </a:lnTo>
                    <a:lnTo>
                      <a:pt x="154" y="72"/>
                    </a:lnTo>
                    <a:lnTo>
                      <a:pt x="174" y="68"/>
                    </a:lnTo>
                    <a:lnTo>
                      <a:pt x="234" y="46"/>
                    </a:lnTo>
                    <a:lnTo>
                      <a:pt x="248" y="30"/>
                    </a:lnTo>
                    <a:lnTo>
                      <a:pt x="262" y="20"/>
                    </a:lnTo>
                    <a:lnTo>
                      <a:pt x="266" y="12"/>
                    </a:lnTo>
                    <a:lnTo>
                      <a:pt x="244" y="0"/>
                    </a:lnTo>
                    <a:lnTo>
                      <a:pt x="220" y="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40040" y="2908800"/>
                <a:ext cx="25560" cy="22680"/>
              </a:xfrm>
              <a:custGeom>
                <a:avLst/>
                <a:gdLst/>
                <a:ahLst/>
                <a:rect l="l" t="t" r="r" b="b"/>
                <a:pathLst>
                  <a:path w="150" h="134">
                    <a:moveTo>
                      <a:pt x="90" y="0"/>
                    </a:moveTo>
                    <a:lnTo>
                      <a:pt x="90" y="2"/>
                    </a:lnTo>
                    <a:lnTo>
                      <a:pt x="78" y="2"/>
                    </a:lnTo>
                    <a:lnTo>
                      <a:pt x="72" y="10"/>
                    </a:lnTo>
                    <a:lnTo>
                      <a:pt x="60" y="14"/>
                    </a:lnTo>
                    <a:lnTo>
                      <a:pt x="48" y="26"/>
                    </a:lnTo>
                    <a:lnTo>
                      <a:pt x="32" y="48"/>
                    </a:lnTo>
                    <a:lnTo>
                      <a:pt x="12" y="72"/>
                    </a:lnTo>
                    <a:lnTo>
                      <a:pt x="0" y="92"/>
                    </a:lnTo>
                    <a:lnTo>
                      <a:pt x="12" y="100"/>
                    </a:lnTo>
                    <a:lnTo>
                      <a:pt x="18" y="112"/>
                    </a:lnTo>
                    <a:lnTo>
                      <a:pt x="16" y="130"/>
                    </a:lnTo>
                    <a:lnTo>
                      <a:pt x="28" y="134"/>
                    </a:lnTo>
                    <a:lnTo>
                      <a:pt x="48" y="118"/>
                    </a:lnTo>
                    <a:lnTo>
                      <a:pt x="56" y="104"/>
                    </a:lnTo>
                    <a:lnTo>
                      <a:pt x="94" y="76"/>
                    </a:lnTo>
                    <a:lnTo>
                      <a:pt x="122" y="50"/>
                    </a:lnTo>
                    <a:lnTo>
                      <a:pt x="142" y="28"/>
                    </a:lnTo>
                    <a:lnTo>
                      <a:pt x="150" y="16"/>
                    </a:lnTo>
                    <a:lnTo>
                      <a:pt x="140" y="6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035880" y="297180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26" y="18"/>
                    </a:moveTo>
                    <a:lnTo>
                      <a:pt x="22" y="12"/>
                    </a:lnTo>
                    <a:lnTo>
                      <a:pt x="0" y="46"/>
                    </a:lnTo>
                    <a:lnTo>
                      <a:pt x="4" y="50"/>
                    </a:lnTo>
                    <a:lnTo>
                      <a:pt x="28" y="40"/>
                    </a:lnTo>
                    <a:lnTo>
                      <a:pt x="44" y="38"/>
                    </a:lnTo>
                    <a:lnTo>
                      <a:pt x="66" y="22"/>
                    </a:lnTo>
                    <a:lnTo>
                      <a:pt x="72" y="2"/>
                    </a:lnTo>
                    <a:lnTo>
                      <a:pt x="52" y="0"/>
                    </a:lnTo>
                    <a:lnTo>
                      <a:pt x="38" y="6"/>
                    </a:lnTo>
                    <a:lnTo>
                      <a:pt x="26" y="1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105000" y="2942280"/>
                <a:ext cx="14760" cy="1044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58" y="4"/>
                    </a:moveTo>
                    <a:lnTo>
                      <a:pt x="62" y="0"/>
                    </a:lnTo>
                    <a:lnTo>
                      <a:pt x="70" y="8"/>
                    </a:lnTo>
                    <a:lnTo>
                      <a:pt x="72" y="20"/>
                    </a:lnTo>
                    <a:lnTo>
                      <a:pt x="82" y="20"/>
                    </a:lnTo>
                    <a:lnTo>
                      <a:pt x="86" y="24"/>
                    </a:lnTo>
                    <a:lnTo>
                      <a:pt x="64" y="58"/>
                    </a:lnTo>
                    <a:lnTo>
                      <a:pt x="48" y="64"/>
                    </a:lnTo>
                    <a:lnTo>
                      <a:pt x="30" y="56"/>
                    </a:lnTo>
                    <a:lnTo>
                      <a:pt x="34" y="42"/>
                    </a:lnTo>
                    <a:lnTo>
                      <a:pt x="24" y="42"/>
                    </a:lnTo>
                    <a:lnTo>
                      <a:pt x="18" y="26"/>
                    </a:lnTo>
                    <a:lnTo>
                      <a:pt x="0" y="26"/>
                    </a:lnTo>
                    <a:lnTo>
                      <a:pt x="8" y="12"/>
                    </a:lnTo>
                    <a:lnTo>
                      <a:pt x="32" y="4"/>
                    </a:lnTo>
                    <a:lnTo>
                      <a:pt x="58" y="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72800" y="2583000"/>
                <a:ext cx="380520" cy="353880"/>
              </a:xfrm>
              <a:custGeom>
                <a:avLst/>
                <a:gdLst/>
                <a:ahLst/>
                <a:rect l="l" t="t" r="r" b="b"/>
                <a:pathLst>
                  <a:path w="2184" h="2070">
                    <a:moveTo>
                      <a:pt x="864" y="1856"/>
                    </a:moveTo>
                    <a:lnTo>
                      <a:pt x="890" y="1862"/>
                    </a:lnTo>
                    <a:lnTo>
                      <a:pt x="918" y="1876"/>
                    </a:lnTo>
                    <a:lnTo>
                      <a:pt x="916" y="1884"/>
                    </a:lnTo>
                    <a:lnTo>
                      <a:pt x="928" y="1886"/>
                    </a:lnTo>
                    <a:lnTo>
                      <a:pt x="944" y="1900"/>
                    </a:lnTo>
                    <a:lnTo>
                      <a:pt x="968" y="1892"/>
                    </a:lnTo>
                    <a:lnTo>
                      <a:pt x="994" y="1874"/>
                    </a:lnTo>
                    <a:lnTo>
                      <a:pt x="994" y="1882"/>
                    </a:lnTo>
                    <a:lnTo>
                      <a:pt x="980" y="1900"/>
                    </a:lnTo>
                    <a:lnTo>
                      <a:pt x="992" y="1906"/>
                    </a:lnTo>
                    <a:lnTo>
                      <a:pt x="1006" y="1896"/>
                    </a:lnTo>
                    <a:lnTo>
                      <a:pt x="1022" y="1900"/>
                    </a:lnTo>
                    <a:lnTo>
                      <a:pt x="1036" y="1896"/>
                    </a:lnTo>
                    <a:lnTo>
                      <a:pt x="1024" y="1910"/>
                    </a:lnTo>
                    <a:lnTo>
                      <a:pt x="1022" y="1924"/>
                    </a:lnTo>
                    <a:lnTo>
                      <a:pt x="1034" y="1924"/>
                    </a:lnTo>
                    <a:lnTo>
                      <a:pt x="1038" y="1932"/>
                    </a:lnTo>
                    <a:lnTo>
                      <a:pt x="1032" y="1946"/>
                    </a:lnTo>
                    <a:lnTo>
                      <a:pt x="1040" y="1966"/>
                    </a:lnTo>
                    <a:lnTo>
                      <a:pt x="1058" y="1972"/>
                    </a:lnTo>
                    <a:lnTo>
                      <a:pt x="1076" y="1956"/>
                    </a:lnTo>
                    <a:lnTo>
                      <a:pt x="1068" y="1972"/>
                    </a:lnTo>
                    <a:lnTo>
                      <a:pt x="1078" y="1978"/>
                    </a:lnTo>
                    <a:lnTo>
                      <a:pt x="1080" y="1988"/>
                    </a:lnTo>
                    <a:lnTo>
                      <a:pt x="1098" y="1996"/>
                    </a:lnTo>
                    <a:lnTo>
                      <a:pt x="1114" y="1994"/>
                    </a:lnTo>
                    <a:lnTo>
                      <a:pt x="1126" y="2006"/>
                    </a:lnTo>
                    <a:lnTo>
                      <a:pt x="1166" y="2008"/>
                    </a:lnTo>
                    <a:lnTo>
                      <a:pt x="1168" y="2020"/>
                    </a:lnTo>
                    <a:lnTo>
                      <a:pt x="1180" y="2034"/>
                    </a:lnTo>
                    <a:lnTo>
                      <a:pt x="1188" y="2038"/>
                    </a:lnTo>
                    <a:lnTo>
                      <a:pt x="1216" y="2038"/>
                    </a:lnTo>
                    <a:lnTo>
                      <a:pt x="1244" y="2026"/>
                    </a:lnTo>
                    <a:lnTo>
                      <a:pt x="1274" y="2070"/>
                    </a:lnTo>
                    <a:lnTo>
                      <a:pt x="1312" y="2068"/>
                    </a:lnTo>
                    <a:lnTo>
                      <a:pt x="1314" y="2056"/>
                    </a:lnTo>
                    <a:lnTo>
                      <a:pt x="1308" y="2044"/>
                    </a:lnTo>
                    <a:lnTo>
                      <a:pt x="1312" y="2034"/>
                    </a:lnTo>
                    <a:lnTo>
                      <a:pt x="1324" y="2026"/>
                    </a:lnTo>
                    <a:lnTo>
                      <a:pt x="1336" y="2010"/>
                    </a:lnTo>
                    <a:lnTo>
                      <a:pt x="1336" y="1996"/>
                    </a:lnTo>
                    <a:lnTo>
                      <a:pt x="1318" y="1966"/>
                    </a:lnTo>
                    <a:lnTo>
                      <a:pt x="1296" y="1946"/>
                    </a:lnTo>
                    <a:lnTo>
                      <a:pt x="1290" y="1932"/>
                    </a:lnTo>
                    <a:lnTo>
                      <a:pt x="1276" y="1926"/>
                    </a:lnTo>
                    <a:lnTo>
                      <a:pt x="1256" y="1904"/>
                    </a:lnTo>
                    <a:lnTo>
                      <a:pt x="1256" y="1888"/>
                    </a:lnTo>
                    <a:lnTo>
                      <a:pt x="1236" y="1874"/>
                    </a:lnTo>
                    <a:lnTo>
                      <a:pt x="1244" y="1858"/>
                    </a:lnTo>
                    <a:lnTo>
                      <a:pt x="1224" y="1860"/>
                    </a:lnTo>
                    <a:lnTo>
                      <a:pt x="1224" y="1842"/>
                    </a:lnTo>
                    <a:lnTo>
                      <a:pt x="1220" y="1836"/>
                    </a:lnTo>
                    <a:lnTo>
                      <a:pt x="1212" y="1840"/>
                    </a:lnTo>
                    <a:lnTo>
                      <a:pt x="1208" y="1836"/>
                    </a:lnTo>
                    <a:lnTo>
                      <a:pt x="1190" y="1792"/>
                    </a:lnTo>
                    <a:lnTo>
                      <a:pt x="1178" y="1778"/>
                    </a:lnTo>
                    <a:lnTo>
                      <a:pt x="1174" y="1748"/>
                    </a:lnTo>
                    <a:lnTo>
                      <a:pt x="1200" y="1744"/>
                    </a:lnTo>
                    <a:lnTo>
                      <a:pt x="1222" y="1762"/>
                    </a:lnTo>
                    <a:lnTo>
                      <a:pt x="1242" y="1794"/>
                    </a:lnTo>
                    <a:lnTo>
                      <a:pt x="1266" y="1800"/>
                    </a:lnTo>
                    <a:lnTo>
                      <a:pt x="1268" y="1784"/>
                    </a:lnTo>
                    <a:lnTo>
                      <a:pt x="1288" y="1782"/>
                    </a:lnTo>
                    <a:lnTo>
                      <a:pt x="1304" y="1832"/>
                    </a:lnTo>
                    <a:lnTo>
                      <a:pt x="1318" y="1842"/>
                    </a:lnTo>
                    <a:lnTo>
                      <a:pt x="1338" y="1844"/>
                    </a:lnTo>
                    <a:lnTo>
                      <a:pt x="1336" y="1874"/>
                    </a:lnTo>
                    <a:lnTo>
                      <a:pt x="1394" y="1878"/>
                    </a:lnTo>
                    <a:lnTo>
                      <a:pt x="1406" y="1902"/>
                    </a:lnTo>
                    <a:lnTo>
                      <a:pt x="1420" y="1890"/>
                    </a:lnTo>
                    <a:lnTo>
                      <a:pt x="1430" y="1898"/>
                    </a:lnTo>
                    <a:lnTo>
                      <a:pt x="1444" y="1904"/>
                    </a:lnTo>
                    <a:lnTo>
                      <a:pt x="1460" y="1892"/>
                    </a:lnTo>
                    <a:lnTo>
                      <a:pt x="1466" y="1896"/>
                    </a:lnTo>
                    <a:lnTo>
                      <a:pt x="1464" y="1904"/>
                    </a:lnTo>
                    <a:lnTo>
                      <a:pt x="1468" y="1920"/>
                    </a:lnTo>
                    <a:lnTo>
                      <a:pt x="1486" y="1916"/>
                    </a:lnTo>
                    <a:lnTo>
                      <a:pt x="1482" y="1924"/>
                    </a:lnTo>
                    <a:lnTo>
                      <a:pt x="1468" y="1936"/>
                    </a:lnTo>
                    <a:lnTo>
                      <a:pt x="1464" y="1944"/>
                    </a:lnTo>
                    <a:lnTo>
                      <a:pt x="1482" y="1954"/>
                    </a:lnTo>
                    <a:lnTo>
                      <a:pt x="1484" y="1966"/>
                    </a:lnTo>
                    <a:lnTo>
                      <a:pt x="1500" y="1964"/>
                    </a:lnTo>
                    <a:lnTo>
                      <a:pt x="1496" y="1954"/>
                    </a:lnTo>
                    <a:lnTo>
                      <a:pt x="1500" y="1944"/>
                    </a:lnTo>
                    <a:lnTo>
                      <a:pt x="1498" y="1920"/>
                    </a:lnTo>
                    <a:lnTo>
                      <a:pt x="1500" y="1910"/>
                    </a:lnTo>
                    <a:lnTo>
                      <a:pt x="1512" y="1900"/>
                    </a:lnTo>
                    <a:lnTo>
                      <a:pt x="1528" y="1904"/>
                    </a:lnTo>
                    <a:lnTo>
                      <a:pt x="1534" y="1916"/>
                    </a:lnTo>
                    <a:lnTo>
                      <a:pt x="1552" y="1920"/>
                    </a:lnTo>
                    <a:lnTo>
                      <a:pt x="1564" y="1910"/>
                    </a:lnTo>
                    <a:lnTo>
                      <a:pt x="1564" y="1900"/>
                    </a:lnTo>
                    <a:lnTo>
                      <a:pt x="1558" y="1898"/>
                    </a:lnTo>
                    <a:lnTo>
                      <a:pt x="1560" y="1892"/>
                    </a:lnTo>
                    <a:lnTo>
                      <a:pt x="1554" y="1888"/>
                    </a:lnTo>
                    <a:lnTo>
                      <a:pt x="1534" y="1890"/>
                    </a:lnTo>
                    <a:lnTo>
                      <a:pt x="1534" y="1864"/>
                    </a:lnTo>
                    <a:lnTo>
                      <a:pt x="1532" y="1848"/>
                    </a:lnTo>
                    <a:lnTo>
                      <a:pt x="1540" y="1836"/>
                    </a:lnTo>
                    <a:lnTo>
                      <a:pt x="1554" y="1814"/>
                    </a:lnTo>
                    <a:lnTo>
                      <a:pt x="1568" y="1828"/>
                    </a:lnTo>
                    <a:lnTo>
                      <a:pt x="1582" y="1846"/>
                    </a:lnTo>
                    <a:lnTo>
                      <a:pt x="1588" y="1840"/>
                    </a:lnTo>
                    <a:lnTo>
                      <a:pt x="1592" y="1820"/>
                    </a:lnTo>
                    <a:lnTo>
                      <a:pt x="1602" y="1816"/>
                    </a:lnTo>
                    <a:lnTo>
                      <a:pt x="1616" y="1790"/>
                    </a:lnTo>
                    <a:lnTo>
                      <a:pt x="1626" y="1776"/>
                    </a:lnTo>
                    <a:lnTo>
                      <a:pt x="1624" y="1760"/>
                    </a:lnTo>
                    <a:lnTo>
                      <a:pt x="1636" y="1722"/>
                    </a:lnTo>
                    <a:lnTo>
                      <a:pt x="1612" y="1720"/>
                    </a:lnTo>
                    <a:lnTo>
                      <a:pt x="1592" y="1708"/>
                    </a:lnTo>
                    <a:lnTo>
                      <a:pt x="1584" y="1698"/>
                    </a:lnTo>
                    <a:lnTo>
                      <a:pt x="1596" y="1674"/>
                    </a:lnTo>
                    <a:lnTo>
                      <a:pt x="1620" y="1670"/>
                    </a:lnTo>
                    <a:lnTo>
                      <a:pt x="1640" y="1648"/>
                    </a:lnTo>
                    <a:lnTo>
                      <a:pt x="1644" y="1628"/>
                    </a:lnTo>
                    <a:lnTo>
                      <a:pt x="1618" y="1632"/>
                    </a:lnTo>
                    <a:lnTo>
                      <a:pt x="1626" y="1620"/>
                    </a:lnTo>
                    <a:lnTo>
                      <a:pt x="1626" y="1610"/>
                    </a:lnTo>
                    <a:lnTo>
                      <a:pt x="1620" y="1606"/>
                    </a:lnTo>
                    <a:lnTo>
                      <a:pt x="1582" y="1622"/>
                    </a:lnTo>
                    <a:lnTo>
                      <a:pt x="1596" y="1594"/>
                    </a:lnTo>
                    <a:lnTo>
                      <a:pt x="1602" y="1578"/>
                    </a:lnTo>
                    <a:lnTo>
                      <a:pt x="1580" y="1576"/>
                    </a:lnTo>
                    <a:lnTo>
                      <a:pt x="1540" y="1592"/>
                    </a:lnTo>
                    <a:lnTo>
                      <a:pt x="1530" y="1584"/>
                    </a:lnTo>
                    <a:lnTo>
                      <a:pt x="1564" y="1564"/>
                    </a:lnTo>
                    <a:lnTo>
                      <a:pt x="1548" y="1564"/>
                    </a:lnTo>
                    <a:lnTo>
                      <a:pt x="1528" y="1558"/>
                    </a:lnTo>
                    <a:lnTo>
                      <a:pt x="1512" y="1560"/>
                    </a:lnTo>
                    <a:lnTo>
                      <a:pt x="1492" y="1582"/>
                    </a:lnTo>
                    <a:lnTo>
                      <a:pt x="1496" y="1558"/>
                    </a:lnTo>
                    <a:lnTo>
                      <a:pt x="1492" y="1540"/>
                    </a:lnTo>
                    <a:lnTo>
                      <a:pt x="1496" y="1532"/>
                    </a:lnTo>
                    <a:lnTo>
                      <a:pt x="1498" y="1518"/>
                    </a:lnTo>
                    <a:lnTo>
                      <a:pt x="1476" y="1510"/>
                    </a:lnTo>
                    <a:lnTo>
                      <a:pt x="1480" y="1504"/>
                    </a:lnTo>
                    <a:lnTo>
                      <a:pt x="1492" y="1494"/>
                    </a:lnTo>
                    <a:lnTo>
                      <a:pt x="1486" y="1484"/>
                    </a:lnTo>
                    <a:lnTo>
                      <a:pt x="1500" y="1482"/>
                    </a:lnTo>
                    <a:lnTo>
                      <a:pt x="1490" y="1468"/>
                    </a:lnTo>
                    <a:lnTo>
                      <a:pt x="1494" y="1458"/>
                    </a:lnTo>
                    <a:lnTo>
                      <a:pt x="1508" y="1446"/>
                    </a:lnTo>
                    <a:lnTo>
                      <a:pt x="1484" y="1438"/>
                    </a:lnTo>
                    <a:lnTo>
                      <a:pt x="1442" y="1448"/>
                    </a:lnTo>
                    <a:lnTo>
                      <a:pt x="1442" y="1442"/>
                    </a:lnTo>
                    <a:lnTo>
                      <a:pt x="1462" y="1422"/>
                    </a:lnTo>
                    <a:lnTo>
                      <a:pt x="1470" y="1398"/>
                    </a:lnTo>
                    <a:lnTo>
                      <a:pt x="1486" y="1396"/>
                    </a:lnTo>
                    <a:lnTo>
                      <a:pt x="1494" y="1400"/>
                    </a:lnTo>
                    <a:lnTo>
                      <a:pt x="1530" y="1392"/>
                    </a:lnTo>
                    <a:lnTo>
                      <a:pt x="1552" y="1392"/>
                    </a:lnTo>
                    <a:lnTo>
                      <a:pt x="1552" y="1370"/>
                    </a:lnTo>
                    <a:lnTo>
                      <a:pt x="1534" y="1352"/>
                    </a:lnTo>
                    <a:lnTo>
                      <a:pt x="1502" y="1344"/>
                    </a:lnTo>
                    <a:lnTo>
                      <a:pt x="1492" y="1336"/>
                    </a:lnTo>
                    <a:lnTo>
                      <a:pt x="1494" y="1314"/>
                    </a:lnTo>
                    <a:lnTo>
                      <a:pt x="1524" y="1316"/>
                    </a:lnTo>
                    <a:lnTo>
                      <a:pt x="1524" y="1304"/>
                    </a:lnTo>
                    <a:lnTo>
                      <a:pt x="1540" y="1302"/>
                    </a:lnTo>
                    <a:lnTo>
                      <a:pt x="1566" y="1332"/>
                    </a:lnTo>
                    <a:lnTo>
                      <a:pt x="1578" y="1332"/>
                    </a:lnTo>
                    <a:lnTo>
                      <a:pt x="1576" y="1308"/>
                    </a:lnTo>
                    <a:lnTo>
                      <a:pt x="1592" y="1310"/>
                    </a:lnTo>
                    <a:lnTo>
                      <a:pt x="1574" y="1294"/>
                    </a:lnTo>
                    <a:lnTo>
                      <a:pt x="1594" y="1282"/>
                    </a:lnTo>
                    <a:lnTo>
                      <a:pt x="1608" y="1296"/>
                    </a:lnTo>
                    <a:lnTo>
                      <a:pt x="1630" y="1298"/>
                    </a:lnTo>
                    <a:lnTo>
                      <a:pt x="1620" y="1320"/>
                    </a:lnTo>
                    <a:lnTo>
                      <a:pt x="1604" y="1330"/>
                    </a:lnTo>
                    <a:lnTo>
                      <a:pt x="1628" y="1336"/>
                    </a:lnTo>
                    <a:lnTo>
                      <a:pt x="1666" y="1364"/>
                    </a:lnTo>
                    <a:lnTo>
                      <a:pt x="1684" y="1372"/>
                    </a:lnTo>
                    <a:lnTo>
                      <a:pt x="1678" y="1398"/>
                    </a:lnTo>
                    <a:lnTo>
                      <a:pt x="1708" y="1400"/>
                    </a:lnTo>
                    <a:lnTo>
                      <a:pt x="1734" y="1394"/>
                    </a:lnTo>
                    <a:lnTo>
                      <a:pt x="1716" y="1416"/>
                    </a:lnTo>
                    <a:lnTo>
                      <a:pt x="1708" y="1444"/>
                    </a:lnTo>
                    <a:lnTo>
                      <a:pt x="1708" y="1454"/>
                    </a:lnTo>
                    <a:lnTo>
                      <a:pt x="1726" y="1490"/>
                    </a:lnTo>
                    <a:lnTo>
                      <a:pt x="1758" y="1480"/>
                    </a:lnTo>
                    <a:lnTo>
                      <a:pt x="1756" y="1494"/>
                    </a:lnTo>
                    <a:lnTo>
                      <a:pt x="1732" y="1512"/>
                    </a:lnTo>
                    <a:lnTo>
                      <a:pt x="1740" y="1534"/>
                    </a:lnTo>
                    <a:lnTo>
                      <a:pt x="1778" y="1524"/>
                    </a:lnTo>
                    <a:lnTo>
                      <a:pt x="1776" y="1554"/>
                    </a:lnTo>
                    <a:lnTo>
                      <a:pt x="1804" y="1546"/>
                    </a:lnTo>
                    <a:lnTo>
                      <a:pt x="1802" y="1560"/>
                    </a:lnTo>
                    <a:lnTo>
                      <a:pt x="1804" y="1576"/>
                    </a:lnTo>
                    <a:lnTo>
                      <a:pt x="1816" y="1584"/>
                    </a:lnTo>
                    <a:lnTo>
                      <a:pt x="1842" y="1554"/>
                    </a:lnTo>
                    <a:lnTo>
                      <a:pt x="1852" y="1538"/>
                    </a:lnTo>
                    <a:lnTo>
                      <a:pt x="1868" y="1522"/>
                    </a:lnTo>
                    <a:lnTo>
                      <a:pt x="1886" y="1520"/>
                    </a:lnTo>
                    <a:lnTo>
                      <a:pt x="1892" y="1496"/>
                    </a:lnTo>
                    <a:lnTo>
                      <a:pt x="1894" y="1460"/>
                    </a:lnTo>
                    <a:lnTo>
                      <a:pt x="1904" y="1444"/>
                    </a:lnTo>
                    <a:lnTo>
                      <a:pt x="1934" y="1472"/>
                    </a:lnTo>
                    <a:lnTo>
                      <a:pt x="1960" y="1476"/>
                    </a:lnTo>
                    <a:lnTo>
                      <a:pt x="1970" y="1462"/>
                    </a:lnTo>
                    <a:lnTo>
                      <a:pt x="1986" y="1450"/>
                    </a:lnTo>
                    <a:lnTo>
                      <a:pt x="2010" y="1444"/>
                    </a:lnTo>
                    <a:lnTo>
                      <a:pt x="2026" y="1414"/>
                    </a:lnTo>
                    <a:lnTo>
                      <a:pt x="2062" y="1408"/>
                    </a:lnTo>
                    <a:lnTo>
                      <a:pt x="2054" y="1392"/>
                    </a:lnTo>
                    <a:lnTo>
                      <a:pt x="2014" y="1394"/>
                    </a:lnTo>
                    <a:lnTo>
                      <a:pt x="2028" y="1378"/>
                    </a:lnTo>
                    <a:lnTo>
                      <a:pt x="2048" y="1380"/>
                    </a:lnTo>
                    <a:lnTo>
                      <a:pt x="2062" y="1364"/>
                    </a:lnTo>
                    <a:lnTo>
                      <a:pt x="2034" y="1356"/>
                    </a:lnTo>
                    <a:lnTo>
                      <a:pt x="2062" y="1350"/>
                    </a:lnTo>
                    <a:lnTo>
                      <a:pt x="2094" y="1370"/>
                    </a:lnTo>
                    <a:lnTo>
                      <a:pt x="2118" y="1372"/>
                    </a:lnTo>
                    <a:lnTo>
                      <a:pt x="2134" y="1362"/>
                    </a:lnTo>
                    <a:lnTo>
                      <a:pt x="2124" y="1346"/>
                    </a:lnTo>
                    <a:lnTo>
                      <a:pt x="2132" y="1340"/>
                    </a:lnTo>
                    <a:lnTo>
                      <a:pt x="2144" y="1328"/>
                    </a:lnTo>
                    <a:lnTo>
                      <a:pt x="2164" y="1326"/>
                    </a:lnTo>
                    <a:lnTo>
                      <a:pt x="2184" y="1312"/>
                    </a:lnTo>
                    <a:lnTo>
                      <a:pt x="2180" y="1292"/>
                    </a:lnTo>
                    <a:lnTo>
                      <a:pt x="2160" y="1266"/>
                    </a:lnTo>
                    <a:lnTo>
                      <a:pt x="2142" y="1258"/>
                    </a:lnTo>
                    <a:lnTo>
                      <a:pt x="2134" y="1248"/>
                    </a:lnTo>
                    <a:lnTo>
                      <a:pt x="2110" y="1250"/>
                    </a:lnTo>
                    <a:lnTo>
                      <a:pt x="2094" y="1244"/>
                    </a:lnTo>
                    <a:lnTo>
                      <a:pt x="2064" y="1246"/>
                    </a:lnTo>
                    <a:lnTo>
                      <a:pt x="2016" y="1258"/>
                    </a:lnTo>
                    <a:lnTo>
                      <a:pt x="2046" y="1220"/>
                    </a:lnTo>
                    <a:lnTo>
                      <a:pt x="2072" y="1206"/>
                    </a:lnTo>
                    <a:lnTo>
                      <a:pt x="2078" y="1194"/>
                    </a:lnTo>
                    <a:lnTo>
                      <a:pt x="2058" y="1192"/>
                    </a:lnTo>
                    <a:lnTo>
                      <a:pt x="2042" y="1198"/>
                    </a:lnTo>
                    <a:lnTo>
                      <a:pt x="1982" y="1202"/>
                    </a:lnTo>
                    <a:lnTo>
                      <a:pt x="1958" y="1200"/>
                    </a:lnTo>
                    <a:lnTo>
                      <a:pt x="1978" y="1192"/>
                    </a:lnTo>
                    <a:lnTo>
                      <a:pt x="1960" y="1186"/>
                    </a:lnTo>
                    <a:lnTo>
                      <a:pt x="1972" y="1180"/>
                    </a:lnTo>
                    <a:lnTo>
                      <a:pt x="1996" y="1180"/>
                    </a:lnTo>
                    <a:lnTo>
                      <a:pt x="2002" y="1168"/>
                    </a:lnTo>
                    <a:lnTo>
                      <a:pt x="1996" y="1126"/>
                    </a:lnTo>
                    <a:lnTo>
                      <a:pt x="1990" y="1110"/>
                    </a:lnTo>
                    <a:lnTo>
                      <a:pt x="1982" y="1104"/>
                    </a:lnTo>
                    <a:lnTo>
                      <a:pt x="1970" y="1096"/>
                    </a:lnTo>
                    <a:lnTo>
                      <a:pt x="1928" y="1100"/>
                    </a:lnTo>
                    <a:lnTo>
                      <a:pt x="1924" y="1092"/>
                    </a:lnTo>
                    <a:lnTo>
                      <a:pt x="1936" y="1080"/>
                    </a:lnTo>
                    <a:lnTo>
                      <a:pt x="1948" y="1074"/>
                    </a:lnTo>
                    <a:lnTo>
                      <a:pt x="1958" y="1058"/>
                    </a:lnTo>
                    <a:lnTo>
                      <a:pt x="1920" y="1062"/>
                    </a:lnTo>
                    <a:lnTo>
                      <a:pt x="1882" y="1062"/>
                    </a:lnTo>
                    <a:lnTo>
                      <a:pt x="1850" y="1078"/>
                    </a:lnTo>
                    <a:lnTo>
                      <a:pt x="1846" y="1064"/>
                    </a:lnTo>
                    <a:lnTo>
                      <a:pt x="1830" y="1058"/>
                    </a:lnTo>
                    <a:lnTo>
                      <a:pt x="1840" y="1048"/>
                    </a:lnTo>
                    <a:lnTo>
                      <a:pt x="1860" y="1042"/>
                    </a:lnTo>
                    <a:lnTo>
                      <a:pt x="1858" y="1022"/>
                    </a:lnTo>
                    <a:lnTo>
                      <a:pt x="1820" y="1026"/>
                    </a:lnTo>
                    <a:lnTo>
                      <a:pt x="1796" y="1026"/>
                    </a:lnTo>
                    <a:lnTo>
                      <a:pt x="1792" y="1018"/>
                    </a:lnTo>
                    <a:lnTo>
                      <a:pt x="1812" y="1006"/>
                    </a:lnTo>
                    <a:lnTo>
                      <a:pt x="1824" y="994"/>
                    </a:lnTo>
                    <a:lnTo>
                      <a:pt x="1812" y="986"/>
                    </a:lnTo>
                    <a:lnTo>
                      <a:pt x="1768" y="978"/>
                    </a:lnTo>
                    <a:lnTo>
                      <a:pt x="1712" y="964"/>
                    </a:lnTo>
                    <a:lnTo>
                      <a:pt x="1694" y="956"/>
                    </a:lnTo>
                    <a:lnTo>
                      <a:pt x="1690" y="946"/>
                    </a:lnTo>
                    <a:lnTo>
                      <a:pt x="1720" y="948"/>
                    </a:lnTo>
                    <a:lnTo>
                      <a:pt x="1728" y="938"/>
                    </a:lnTo>
                    <a:lnTo>
                      <a:pt x="1760" y="938"/>
                    </a:lnTo>
                    <a:lnTo>
                      <a:pt x="1748" y="928"/>
                    </a:lnTo>
                    <a:lnTo>
                      <a:pt x="1754" y="922"/>
                    </a:lnTo>
                    <a:lnTo>
                      <a:pt x="1736" y="902"/>
                    </a:lnTo>
                    <a:lnTo>
                      <a:pt x="1744" y="890"/>
                    </a:lnTo>
                    <a:lnTo>
                      <a:pt x="1776" y="894"/>
                    </a:lnTo>
                    <a:lnTo>
                      <a:pt x="1784" y="886"/>
                    </a:lnTo>
                    <a:lnTo>
                      <a:pt x="1772" y="874"/>
                    </a:lnTo>
                    <a:lnTo>
                      <a:pt x="1750" y="860"/>
                    </a:lnTo>
                    <a:lnTo>
                      <a:pt x="1724" y="860"/>
                    </a:lnTo>
                    <a:lnTo>
                      <a:pt x="1728" y="852"/>
                    </a:lnTo>
                    <a:lnTo>
                      <a:pt x="1756" y="848"/>
                    </a:lnTo>
                    <a:lnTo>
                      <a:pt x="1762" y="854"/>
                    </a:lnTo>
                    <a:lnTo>
                      <a:pt x="1778" y="850"/>
                    </a:lnTo>
                    <a:lnTo>
                      <a:pt x="1784" y="838"/>
                    </a:lnTo>
                    <a:lnTo>
                      <a:pt x="1828" y="864"/>
                    </a:lnTo>
                    <a:lnTo>
                      <a:pt x="1856" y="864"/>
                    </a:lnTo>
                    <a:lnTo>
                      <a:pt x="1888" y="858"/>
                    </a:lnTo>
                    <a:lnTo>
                      <a:pt x="1910" y="866"/>
                    </a:lnTo>
                    <a:lnTo>
                      <a:pt x="1924" y="858"/>
                    </a:lnTo>
                    <a:lnTo>
                      <a:pt x="1930" y="848"/>
                    </a:lnTo>
                    <a:lnTo>
                      <a:pt x="1916" y="832"/>
                    </a:lnTo>
                    <a:lnTo>
                      <a:pt x="1894" y="818"/>
                    </a:lnTo>
                    <a:lnTo>
                      <a:pt x="1860" y="812"/>
                    </a:lnTo>
                    <a:lnTo>
                      <a:pt x="1824" y="812"/>
                    </a:lnTo>
                    <a:lnTo>
                      <a:pt x="1802" y="802"/>
                    </a:lnTo>
                    <a:lnTo>
                      <a:pt x="1786" y="814"/>
                    </a:lnTo>
                    <a:lnTo>
                      <a:pt x="1770" y="794"/>
                    </a:lnTo>
                    <a:lnTo>
                      <a:pt x="1754" y="784"/>
                    </a:lnTo>
                    <a:lnTo>
                      <a:pt x="1734" y="792"/>
                    </a:lnTo>
                    <a:lnTo>
                      <a:pt x="1764" y="774"/>
                    </a:lnTo>
                    <a:lnTo>
                      <a:pt x="1798" y="778"/>
                    </a:lnTo>
                    <a:lnTo>
                      <a:pt x="1826" y="772"/>
                    </a:lnTo>
                    <a:lnTo>
                      <a:pt x="1848" y="760"/>
                    </a:lnTo>
                    <a:lnTo>
                      <a:pt x="1876" y="758"/>
                    </a:lnTo>
                    <a:lnTo>
                      <a:pt x="1904" y="770"/>
                    </a:lnTo>
                    <a:lnTo>
                      <a:pt x="1930" y="752"/>
                    </a:lnTo>
                    <a:lnTo>
                      <a:pt x="1930" y="738"/>
                    </a:lnTo>
                    <a:lnTo>
                      <a:pt x="1900" y="682"/>
                    </a:lnTo>
                    <a:lnTo>
                      <a:pt x="1874" y="672"/>
                    </a:lnTo>
                    <a:lnTo>
                      <a:pt x="1852" y="686"/>
                    </a:lnTo>
                    <a:lnTo>
                      <a:pt x="1846" y="702"/>
                    </a:lnTo>
                    <a:lnTo>
                      <a:pt x="1812" y="712"/>
                    </a:lnTo>
                    <a:lnTo>
                      <a:pt x="1788" y="726"/>
                    </a:lnTo>
                    <a:lnTo>
                      <a:pt x="1760" y="722"/>
                    </a:lnTo>
                    <a:lnTo>
                      <a:pt x="1806" y="700"/>
                    </a:lnTo>
                    <a:lnTo>
                      <a:pt x="1814" y="686"/>
                    </a:lnTo>
                    <a:lnTo>
                      <a:pt x="1752" y="686"/>
                    </a:lnTo>
                    <a:lnTo>
                      <a:pt x="1726" y="694"/>
                    </a:lnTo>
                    <a:lnTo>
                      <a:pt x="1722" y="686"/>
                    </a:lnTo>
                    <a:lnTo>
                      <a:pt x="1754" y="674"/>
                    </a:lnTo>
                    <a:lnTo>
                      <a:pt x="1814" y="664"/>
                    </a:lnTo>
                    <a:lnTo>
                      <a:pt x="1842" y="642"/>
                    </a:lnTo>
                    <a:lnTo>
                      <a:pt x="1850" y="656"/>
                    </a:lnTo>
                    <a:lnTo>
                      <a:pt x="1862" y="644"/>
                    </a:lnTo>
                    <a:lnTo>
                      <a:pt x="1874" y="622"/>
                    </a:lnTo>
                    <a:lnTo>
                      <a:pt x="1824" y="606"/>
                    </a:lnTo>
                    <a:lnTo>
                      <a:pt x="1812" y="596"/>
                    </a:lnTo>
                    <a:lnTo>
                      <a:pt x="1794" y="590"/>
                    </a:lnTo>
                    <a:lnTo>
                      <a:pt x="1756" y="594"/>
                    </a:lnTo>
                    <a:lnTo>
                      <a:pt x="1724" y="610"/>
                    </a:lnTo>
                    <a:lnTo>
                      <a:pt x="1712" y="614"/>
                    </a:lnTo>
                    <a:lnTo>
                      <a:pt x="1686" y="626"/>
                    </a:lnTo>
                    <a:lnTo>
                      <a:pt x="1690" y="620"/>
                    </a:lnTo>
                    <a:lnTo>
                      <a:pt x="1710" y="604"/>
                    </a:lnTo>
                    <a:lnTo>
                      <a:pt x="1740" y="592"/>
                    </a:lnTo>
                    <a:lnTo>
                      <a:pt x="1768" y="574"/>
                    </a:lnTo>
                    <a:lnTo>
                      <a:pt x="1752" y="576"/>
                    </a:lnTo>
                    <a:lnTo>
                      <a:pt x="1726" y="584"/>
                    </a:lnTo>
                    <a:lnTo>
                      <a:pt x="1698" y="588"/>
                    </a:lnTo>
                    <a:lnTo>
                      <a:pt x="1658" y="602"/>
                    </a:lnTo>
                    <a:lnTo>
                      <a:pt x="1666" y="590"/>
                    </a:lnTo>
                    <a:lnTo>
                      <a:pt x="1688" y="580"/>
                    </a:lnTo>
                    <a:lnTo>
                      <a:pt x="1718" y="556"/>
                    </a:lnTo>
                    <a:lnTo>
                      <a:pt x="1724" y="538"/>
                    </a:lnTo>
                    <a:lnTo>
                      <a:pt x="1706" y="534"/>
                    </a:lnTo>
                    <a:lnTo>
                      <a:pt x="1672" y="546"/>
                    </a:lnTo>
                    <a:lnTo>
                      <a:pt x="1642" y="548"/>
                    </a:lnTo>
                    <a:lnTo>
                      <a:pt x="1636" y="536"/>
                    </a:lnTo>
                    <a:lnTo>
                      <a:pt x="1590" y="528"/>
                    </a:lnTo>
                    <a:lnTo>
                      <a:pt x="1642" y="524"/>
                    </a:lnTo>
                    <a:lnTo>
                      <a:pt x="1666" y="528"/>
                    </a:lnTo>
                    <a:lnTo>
                      <a:pt x="1686" y="516"/>
                    </a:lnTo>
                    <a:lnTo>
                      <a:pt x="1704" y="504"/>
                    </a:lnTo>
                    <a:lnTo>
                      <a:pt x="1708" y="484"/>
                    </a:lnTo>
                    <a:lnTo>
                      <a:pt x="1700" y="460"/>
                    </a:lnTo>
                    <a:lnTo>
                      <a:pt x="1644" y="438"/>
                    </a:lnTo>
                    <a:lnTo>
                      <a:pt x="1624" y="418"/>
                    </a:lnTo>
                    <a:lnTo>
                      <a:pt x="1620" y="418"/>
                    </a:lnTo>
                    <a:lnTo>
                      <a:pt x="1602" y="434"/>
                    </a:lnTo>
                    <a:lnTo>
                      <a:pt x="1574" y="446"/>
                    </a:lnTo>
                    <a:lnTo>
                      <a:pt x="1556" y="438"/>
                    </a:lnTo>
                    <a:lnTo>
                      <a:pt x="1532" y="442"/>
                    </a:lnTo>
                    <a:lnTo>
                      <a:pt x="1522" y="470"/>
                    </a:lnTo>
                    <a:lnTo>
                      <a:pt x="1512" y="480"/>
                    </a:lnTo>
                    <a:lnTo>
                      <a:pt x="1518" y="472"/>
                    </a:lnTo>
                    <a:lnTo>
                      <a:pt x="1494" y="474"/>
                    </a:lnTo>
                    <a:lnTo>
                      <a:pt x="1496" y="468"/>
                    </a:lnTo>
                    <a:lnTo>
                      <a:pt x="1490" y="458"/>
                    </a:lnTo>
                    <a:lnTo>
                      <a:pt x="1508" y="436"/>
                    </a:lnTo>
                    <a:lnTo>
                      <a:pt x="1492" y="434"/>
                    </a:lnTo>
                    <a:lnTo>
                      <a:pt x="1456" y="452"/>
                    </a:lnTo>
                    <a:lnTo>
                      <a:pt x="1496" y="426"/>
                    </a:lnTo>
                    <a:lnTo>
                      <a:pt x="1540" y="404"/>
                    </a:lnTo>
                    <a:lnTo>
                      <a:pt x="1542" y="398"/>
                    </a:lnTo>
                    <a:lnTo>
                      <a:pt x="1492" y="402"/>
                    </a:lnTo>
                    <a:lnTo>
                      <a:pt x="1466" y="400"/>
                    </a:lnTo>
                    <a:lnTo>
                      <a:pt x="1428" y="418"/>
                    </a:lnTo>
                    <a:lnTo>
                      <a:pt x="1410" y="422"/>
                    </a:lnTo>
                    <a:lnTo>
                      <a:pt x="1426" y="404"/>
                    </a:lnTo>
                    <a:lnTo>
                      <a:pt x="1392" y="412"/>
                    </a:lnTo>
                    <a:lnTo>
                      <a:pt x="1434" y="396"/>
                    </a:lnTo>
                    <a:lnTo>
                      <a:pt x="1470" y="386"/>
                    </a:lnTo>
                    <a:lnTo>
                      <a:pt x="1490" y="374"/>
                    </a:lnTo>
                    <a:lnTo>
                      <a:pt x="1500" y="354"/>
                    </a:lnTo>
                    <a:lnTo>
                      <a:pt x="1468" y="346"/>
                    </a:lnTo>
                    <a:lnTo>
                      <a:pt x="1434" y="346"/>
                    </a:lnTo>
                    <a:lnTo>
                      <a:pt x="1430" y="338"/>
                    </a:lnTo>
                    <a:lnTo>
                      <a:pt x="1458" y="324"/>
                    </a:lnTo>
                    <a:lnTo>
                      <a:pt x="1464" y="310"/>
                    </a:lnTo>
                    <a:lnTo>
                      <a:pt x="1464" y="288"/>
                    </a:lnTo>
                    <a:lnTo>
                      <a:pt x="1452" y="280"/>
                    </a:lnTo>
                    <a:lnTo>
                      <a:pt x="1464" y="274"/>
                    </a:lnTo>
                    <a:lnTo>
                      <a:pt x="1436" y="262"/>
                    </a:lnTo>
                    <a:lnTo>
                      <a:pt x="1404" y="260"/>
                    </a:lnTo>
                    <a:lnTo>
                      <a:pt x="1328" y="228"/>
                    </a:lnTo>
                    <a:lnTo>
                      <a:pt x="1286" y="224"/>
                    </a:lnTo>
                    <a:lnTo>
                      <a:pt x="1230" y="232"/>
                    </a:lnTo>
                    <a:lnTo>
                      <a:pt x="1176" y="250"/>
                    </a:lnTo>
                    <a:lnTo>
                      <a:pt x="1160" y="268"/>
                    </a:lnTo>
                    <a:lnTo>
                      <a:pt x="1176" y="284"/>
                    </a:lnTo>
                    <a:lnTo>
                      <a:pt x="1152" y="286"/>
                    </a:lnTo>
                    <a:lnTo>
                      <a:pt x="1126" y="284"/>
                    </a:lnTo>
                    <a:lnTo>
                      <a:pt x="1098" y="298"/>
                    </a:lnTo>
                    <a:lnTo>
                      <a:pt x="1086" y="272"/>
                    </a:lnTo>
                    <a:lnTo>
                      <a:pt x="1054" y="284"/>
                    </a:lnTo>
                    <a:lnTo>
                      <a:pt x="1042" y="278"/>
                    </a:lnTo>
                    <a:lnTo>
                      <a:pt x="1054" y="264"/>
                    </a:lnTo>
                    <a:lnTo>
                      <a:pt x="1060" y="248"/>
                    </a:lnTo>
                    <a:lnTo>
                      <a:pt x="1024" y="270"/>
                    </a:lnTo>
                    <a:lnTo>
                      <a:pt x="1020" y="276"/>
                    </a:lnTo>
                    <a:lnTo>
                      <a:pt x="996" y="296"/>
                    </a:lnTo>
                    <a:lnTo>
                      <a:pt x="982" y="294"/>
                    </a:lnTo>
                    <a:lnTo>
                      <a:pt x="964" y="308"/>
                    </a:lnTo>
                    <a:lnTo>
                      <a:pt x="926" y="328"/>
                    </a:lnTo>
                    <a:lnTo>
                      <a:pt x="892" y="338"/>
                    </a:lnTo>
                    <a:lnTo>
                      <a:pt x="902" y="328"/>
                    </a:lnTo>
                    <a:lnTo>
                      <a:pt x="898" y="318"/>
                    </a:lnTo>
                    <a:lnTo>
                      <a:pt x="914" y="308"/>
                    </a:lnTo>
                    <a:lnTo>
                      <a:pt x="934" y="314"/>
                    </a:lnTo>
                    <a:lnTo>
                      <a:pt x="940" y="310"/>
                    </a:lnTo>
                    <a:lnTo>
                      <a:pt x="936" y="298"/>
                    </a:lnTo>
                    <a:lnTo>
                      <a:pt x="926" y="298"/>
                    </a:lnTo>
                    <a:lnTo>
                      <a:pt x="952" y="278"/>
                    </a:lnTo>
                    <a:lnTo>
                      <a:pt x="974" y="264"/>
                    </a:lnTo>
                    <a:lnTo>
                      <a:pt x="1018" y="228"/>
                    </a:lnTo>
                    <a:lnTo>
                      <a:pt x="1042" y="212"/>
                    </a:lnTo>
                    <a:lnTo>
                      <a:pt x="1028" y="196"/>
                    </a:lnTo>
                    <a:lnTo>
                      <a:pt x="1028" y="178"/>
                    </a:lnTo>
                    <a:lnTo>
                      <a:pt x="1032" y="170"/>
                    </a:lnTo>
                    <a:lnTo>
                      <a:pt x="1052" y="166"/>
                    </a:lnTo>
                    <a:lnTo>
                      <a:pt x="1062" y="154"/>
                    </a:lnTo>
                    <a:lnTo>
                      <a:pt x="1058" y="144"/>
                    </a:lnTo>
                    <a:lnTo>
                      <a:pt x="1042" y="130"/>
                    </a:lnTo>
                    <a:lnTo>
                      <a:pt x="1014" y="122"/>
                    </a:lnTo>
                    <a:lnTo>
                      <a:pt x="1046" y="110"/>
                    </a:lnTo>
                    <a:lnTo>
                      <a:pt x="1072" y="68"/>
                    </a:lnTo>
                    <a:lnTo>
                      <a:pt x="1068" y="56"/>
                    </a:lnTo>
                    <a:lnTo>
                      <a:pt x="1068" y="46"/>
                    </a:lnTo>
                    <a:lnTo>
                      <a:pt x="982" y="44"/>
                    </a:lnTo>
                    <a:lnTo>
                      <a:pt x="958" y="40"/>
                    </a:lnTo>
                    <a:lnTo>
                      <a:pt x="936" y="46"/>
                    </a:lnTo>
                    <a:lnTo>
                      <a:pt x="914" y="48"/>
                    </a:lnTo>
                    <a:lnTo>
                      <a:pt x="874" y="56"/>
                    </a:lnTo>
                    <a:lnTo>
                      <a:pt x="830" y="70"/>
                    </a:lnTo>
                    <a:lnTo>
                      <a:pt x="844" y="84"/>
                    </a:lnTo>
                    <a:lnTo>
                      <a:pt x="824" y="100"/>
                    </a:lnTo>
                    <a:lnTo>
                      <a:pt x="826" y="90"/>
                    </a:lnTo>
                    <a:lnTo>
                      <a:pt x="824" y="80"/>
                    </a:lnTo>
                    <a:lnTo>
                      <a:pt x="804" y="72"/>
                    </a:lnTo>
                    <a:lnTo>
                      <a:pt x="770" y="78"/>
                    </a:lnTo>
                    <a:lnTo>
                      <a:pt x="758" y="88"/>
                    </a:lnTo>
                    <a:lnTo>
                      <a:pt x="754" y="110"/>
                    </a:lnTo>
                    <a:lnTo>
                      <a:pt x="742" y="104"/>
                    </a:lnTo>
                    <a:lnTo>
                      <a:pt x="736" y="86"/>
                    </a:lnTo>
                    <a:lnTo>
                      <a:pt x="712" y="88"/>
                    </a:lnTo>
                    <a:lnTo>
                      <a:pt x="692" y="102"/>
                    </a:lnTo>
                    <a:lnTo>
                      <a:pt x="700" y="116"/>
                    </a:lnTo>
                    <a:lnTo>
                      <a:pt x="778" y="142"/>
                    </a:lnTo>
                    <a:lnTo>
                      <a:pt x="770" y="146"/>
                    </a:lnTo>
                    <a:lnTo>
                      <a:pt x="744" y="142"/>
                    </a:lnTo>
                    <a:lnTo>
                      <a:pt x="666" y="120"/>
                    </a:lnTo>
                    <a:lnTo>
                      <a:pt x="656" y="128"/>
                    </a:lnTo>
                    <a:lnTo>
                      <a:pt x="648" y="126"/>
                    </a:lnTo>
                    <a:lnTo>
                      <a:pt x="634" y="128"/>
                    </a:lnTo>
                    <a:lnTo>
                      <a:pt x="644" y="136"/>
                    </a:lnTo>
                    <a:lnTo>
                      <a:pt x="666" y="140"/>
                    </a:lnTo>
                    <a:lnTo>
                      <a:pt x="682" y="158"/>
                    </a:lnTo>
                    <a:lnTo>
                      <a:pt x="704" y="166"/>
                    </a:lnTo>
                    <a:lnTo>
                      <a:pt x="724" y="184"/>
                    </a:lnTo>
                    <a:lnTo>
                      <a:pt x="702" y="184"/>
                    </a:lnTo>
                    <a:lnTo>
                      <a:pt x="660" y="154"/>
                    </a:lnTo>
                    <a:lnTo>
                      <a:pt x="626" y="146"/>
                    </a:lnTo>
                    <a:lnTo>
                      <a:pt x="606" y="146"/>
                    </a:lnTo>
                    <a:lnTo>
                      <a:pt x="592" y="154"/>
                    </a:lnTo>
                    <a:lnTo>
                      <a:pt x="570" y="180"/>
                    </a:lnTo>
                    <a:lnTo>
                      <a:pt x="566" y="204"/>
                    </a:lnTo>
                    <a:lnTo>
                      <a:pt x="552" y="212"/>
                    </a:lnTo>
                    <a:lnTo>
                      <a:pt x="550" y="226"/>
                    </a:lnTo>
                    <a:lnTo>
                      <a:pt x="572" y="240"/>
                    </a:lnTo>
                    <a:lnTo>
                      <a:pt x="588" y="240"/>
                    </a:lnTo>
                    <a:lnTo>
                      <a:pt x="602" y="236"/>
                    </a:lnTo>
                    <a:lnTo>
                      <a:pt x="604" y="240"/>
                    </a:lnTo>
                    <a:lnTo>
                      <a:pt x="582" y="256"/>
                    </a:lnTo>
                    <a:lnTo>
                      <a:pt x="558" y="264"/>
                    </a:lnTo>
                    <a:lnTo>
                      <a:pt x="530" y="260"/>
                    </a:lnTo>
                    <a:lnTo>
                      <a:pt x="512" y="272"/>
                    </a:lnTo>
                    <a:lnTo>
                      <a:pt x="502" y="282"/>
                    </a:lnTo>
                    <a:lnTo>
                      <a:pt x="452" y="296"/>
                    </a:lnTo>
                    <a:lnTo>
                      <a:pt x="450" y="306"/>
                    </a:lnTo>
                    <a:lnTo>
                      <a:pt x="468" y="316"/>
                    </a:lnTo>
                    <a:lnTo>
                      <a:pt x="456" y="332"/>
                    </a:lnTo>
                    <a:lnTo>
                      <a:pt x="464" y="350"/>
                    </a:lnTo>
                    <a:lnTo>
                      <a:pt x="494" y="358"/>
                    </a:lnTo>
                    <a:lnTo>
                      <a:pt x="518" y="360"/>
                    </a:lnTo>
                    <a:lnTo>
                      <a:pt x="512" y="374"/>
                    </a:lnTo>
                    <a:lnTo>
                      <a:pt x="488" y="394"/>
                    </a:lnTo>
                    <a:lnTo>
                      <a:pt x="484" y="398"/>
                    </a:lnTo>
                    <a:lnTo>
                      <a:pt x="472" y="406"/>
                    </a:lnTo>
                    <a:lnTo>
                      <a:pt x="462" y="420"/>
                    </a:lnTo>
                    <a:lnTo>
                      <a:pt x="448" y="434"/>
                    </a:lnTo>
                    <a:lnTo>
                      <a:pt x="432" y="452"/>
                    </a:lnTo>
                    <a:lnTo>
                      <a:pt x="404" y="472"/>
                    </a:lnTo>
                    <a:lnTo>
                      <a:pt x="400" y="464"/>
                    </a:lnTo>
                    <a:lnTo>
                      <a:pt x="418" y="448"/>
                    </a:lnTo>
                    <a:lnTo>
                      <a:pt x="430" y="438"/>
                    </a:lnTo>
                    <a:lnTo>
                      <a:pt x="428" y="434"/>
                    </a:lnTo>
                    <a:lnTo>
                      <a:pt x="414" y="436"/>
                    </a:lnTo>
                    <a:lnTo>
                      <a:pt x="390" y="432"/>
                    </a:lnTo>
                    <a:lnTo>
                      <a:pt x="366" y="434"/>
                    </a:lnTo>
                    <a:lnTo>
                      <a:pt x="336" y="438"/>
                    </a:lnTo>
                    <a:lnTo>
                      <a:pt x="292" y="454"/>
                    </a:lnTo>
                    <a:lnTo>
                      <a:pt x="264" y="450"/>
                    </a:lnTo>
                    <a:lnTo>
                      <a:pt x="318" y="436"/>
                    </a:lnTo>
                    <a:lnTo>
                      <a:pt x="350" y="424"/>
                    </a:lnTo>
                    <a:lnTo>
                      <a:pt x="394" y="420"/>
                    </a:lnTo>
                    <a:lnTo>
                      <a:pt x="406" y="416"/>
                    </a:lnTo>
                    <a:lnTo>
                      <a:pt x="428" y="412"/>
                    </a:lnTo>
                    <a:lnTo>
                      <a:pt x="448" y="416"/>
                    </a:lnTo>
                    <a:lnTo>
                      <a:pt x="454" y="410"/>
                    </a:lnTo>
                    <a:lnTo>
                      <a:pt x="458" y="396"/>
                    </a:lnTo>
                    <a:lnTo>
                      <a:pt x="458" y="388"/>
                    </a:lnTo>
                    <a:lnTo>
                      <a:pt x="432" y="382"/>
                    </a:lnTo>
                    <a:lnTo>
                      <a:pt x="406" y="310"/>
                    </a:lnTo>
                    <a:lnTo>
                      <a:pt x="412" y="284"/>
                    </a:lnTo>
                    <a:lnTo>
                      <a:pt x="434" y="258"/>
                    </a:lnTo>
                    <a:lnTo>
                      <a:pt x="472" y="232"/>
                    </a:lnTo>
                    <a:lnTo>
                      <a:pt x="476" y="212"/>
                    </a:lnTo>
                    <a:lnTo>
                      <a:pt x="472" y="190"/>
                    </a:lnTo>
                    <a:lnTo>
                      <a:pt x="498" y="164"/>
                    </a:lnTo>
                    <a:lnTo>
                      <a:pt x="560" y="128"/>
                    </a:lnTo>
                    <a:lnTo>
                      <a:pt x="590" y="104"/>
                    </a:lnTo>
                    <a:lnTo>
                      <a:pt x="624" y="86"/>
                    </a:lnTo>
                    <a:lnTo>
                      <a:pt x="654" y="74"/>
                    </a:lnTo>
                    <a:lnTo>
                      <a:pt x="686" y="58"/>
                    </a:lnTo>
                    <a:lnTo>
                      <a:pt x="750" y="38"/>
                    </a:lnTo>
                    <a:lnTo>
                      <a:pt x="774" y="28"/>
                    </a:lnTo>
                    <a:lnTo>
                      <a:pt x="778" y="26"/>
                    </a:lnTo>
                    <a:lnTo>
                      <a:pt x="770" y="22"/>
                    </a:lnTo>
                    <a:lnTo>
                      <a:pt x="762" y="14"/>
                    </a:lnTo>
                    <a:lnTo>
                      <a:pt x="668" y="0"/>
                    </a:lnTo>
                    <a:lnTo>
                      <a:pt x="644" y="0"/>
                    </a:lnTo>
                    <a:lnTo>
                      <a:pt x="562" y="10"/>
                    </a:lnTo>
                    <a:lnTo>
                      <a:pt x="496" y="24"/>
                    </a:lnTo>
                    <a:lnTo>
                      <a:pt x="418" y="50"/>
                    </a:lnTo>
                    <a:lnTo>
                      <a:pt x="390" y="70"/>
                    </a:lnTo>
                    <a:lnTo>
                      <a:pt x="358" y="82"/>
                    </a:lnTo>
                    <a:lnTo>
                      <a:pt x="344" y="86"/>
                    </a:lnTo>
                    <a:lnTo>
                      <a:pt x="326" y="94"/>
                    </a:lnTo>
                    <a:lnTo>
                      <a:pt x="308" y="106"/>
                    </a:lnTo>
                    <a:lnTo>
                      <a:pt x="308" y="118"/>
                    </a:lnTo>
                    <a:lnTo>
                      <a:pt x="282" y="126"/>
                    </a:lnTo>
                    <a:lnTo>
                      <a:pt x="260" y="148"/>
                    </a:lnTo>
                    <a:lnTo>
                      <a:pt x="272" y="154"/>
                    </a:lnTo>
                    <a:lnTo>
                      <a:pt x="242" y="152"/>
                    </a:lnTo>
                    <a:lnTo>
                      <a:pt x="216" y="174"/>
                    </a:lnTo>
                    <a:lnTo>
                      <a:pt x="198" y="176"/>
                    </a:lnTo>
                    <a:lnTo>
                      <a:pt x="178" y="198"/>
                    </a:lnTo>
                    <a:lnTo>
                      <a:pt x="156" y="210"/>
                    </a:lnTo>
                    <a:lnTo>
                      <a:pt x="136" y="242"/>
                    </a:lnTo>
                    <a:lnTo>
                      <a:pt x="158" y="244"/>
                    </a:lnTo>
                    <a:lnTo>
                      <a:pt x="138" y="248"/>
                    </a:lnTo>
                    <a:lnTo>
                      <a:pt x="110" y="258"/>
                    </a:lnTo>
                    <a:lnTo>
                      <a:pt x="86" y="272"/>
                    </a:lnTo>
                    <a:lnTo>
                      <a:pt x="80" y="294"/>
                    </a:lnTo>
                    <a:lnTo>
                      <a:pt x="80" y="306"/>
                    </a:lnTo>
                    <a:lnTo>
                      <a:pt x="50" y="322"/>
                    </a:lnTo>
                    <a:lnTo>
                      <a:pt x="18" y="360"/>
                    </a:lnTo>
                    <a:lnTo>
                      <a:pt x="16" y="372"/>
                    </a:lnTo>
                    <a:lnTo>
                      <a:pt x="18" y="378"/>
                    </a:lnTo>
                    <a:lnTo>
                      <a:pt x="90" y="396"/>
                    </a:lnTo>
                    <a:lnTo>
                      <a:pt x="170" y="406"/>
                    </a:lnTo>
                    <a:lnTo>
                      <a:pt x="178" y="420"/>
                    </a:lnTo>
                    <a:lnTo>
                      <a:pt x="194" y="438"/>
                    </a:lnTo>
                    <a:lnTo>
                      <a:pt x="216" y="450"/>
                    </a:lnTo>
                    <a:lnTo>
                      <a:pt x="156" y="458"/>
                    </a:lnTo>
                    <a:lnTo>
                      <a:pt x="114" y="454"/>
                    </a:lnTo>
                    <a:lnTo>
                      <a:pt x="76" y="434"/>
                    </a:lnTo>
                    <a:lnTo>
                      <a:pt x="44" y="430"/>
                    </a:lnTo>
                    <a:lnTo>
                      <a:pt x="20" y="422"/>
                    </a:lnTo>
                    <a:lnTo>
                      <a:pt x="26" y="434"/>
                    </a:lnTo>
                    <a:lnTo>
                      <a:pt x="0" y="450"/>
                    </a:lnTo>
                    <a:lnTo>
                      <a:pt x="6" y="466"/>
                    </a:lnTo>
                    <a:lnTo>
                      <a:pt x="4" y="494"/>
                    </a:lnTo>
                    <a:lnTo>
                      <a:pt x="18" y="522"/>
                    </a:lnTo>
                    <a:lnTo>
                      <a:pt x="58" y="548"/>
                    </a:lnTo>
                    <a:lnTo>
                      <a:pt x="36" y="550"/>
                    </a:lnTo>
                    <a:lnTo>
                      <a:pt x="62" y="558"/>
                    </a:lnTo>
                    <a:lnTo>
                      <a:pt x="70" y="554"/>
                    </a:lnTo>
                    <a:lnTo>
                      <a:pt x="94" y="554"/>
                    </a:lnTo>
                    <a:lnTo>
                      <a:pt x="134" y="562"/>
                    </a:lnTo>
                    <a:lnTo>
                      <a:pt x="168" y="560"/>
                    </a:lnTo>
                    <a:lnTo>
                      <a:pt x="198" y="540"/>
                    </a:lnTo>
                    <a:lnTo>
                      <a:pt x="180" y="568"/>
                    </a:lnTo>
                    <a:lnTo>
                      <a:pt x="182" y="592"/>
                    </a:lnTo>
                    <a:lnTo>
                      <a:pt x="198" y="610"/>
                    </a:lnTo>
                    <a:lnTo>
                      <a:pt x="236" y="622"/>
                    </a:lnTo>
                    <a:lnTo>
                      <a:pt x="256" y="624"/>
                    </a:lnTo>
                    <a:lnTo>
                      <a:pt x="238" y="612"/>
                    </a:lnTo>
                    <a:lnTo>
                      <a:pt x="266" y="610"/>
                    </a:lnTo>
                    <a:lnTo>
                      <a:pt x="302" y="624"/>
                    </a:lnTo>
                    <a:lnTo>
                      <a:pt x="382" y="640"/>
                    </a:lnTo>
                    <a:lnTo>
                      <a:pt x="400" y="648"/>
                    </a:lnTo>
                    <a:lnTo>
                      <a:pt x="408" y="642"/>
                    </a:lnTo>
                    <a:lnTo>
                      <a:pt x="456" y="634"/>
                    </a:lnTo>
                    <a:lnTo>
                      <a:pt x="498" y="662"/>
                    </a:lnTo>
                    <a:lnTo>
                      <a:pt x="522" y="664"/>
                    </a:lnTo>
                    <a:lnTo>
                      <a:pt x="524" y="670"/>
                    </a:lnTo>
                    <a:lnTo>
                      <a:pt x="536" y="662"/>
                    </a:lnTo>
                    <a:lnTo>
                      <a:pt x="534" y="664"/>
                    </a:lnTo>
                    <a:lnTo>
                      <a:pt x="540" y="672"/>
                    </a:lnTo>
                    <a:lnTo>
                      <a:pt x="566" y="656"/>
                    </a:lnTo>
                    <a:lnTo>
                      <a:pt x="592" y="652"/>
                    </a:lnTo>
                    <a:lnTo>
                      <a:pt x="610" y="662"/>
                    </a:lnTo>
                    <a:lnTo>
                      <a:pt x="614" y="686"/>
                    </a:lnTo>
                    <a:lnTo>
                      <a:pt x="632" y="688"/>
                    </a:lnTo>
                    <a:lnTo>
                      <a:pt x="632" y="674"/>
                    </a:lnTo>
                    <a:lnTo>
                      <a:pt x="620" y="646"/>
                    </a:lnTo>
                    <a:lnTo>
                      <a:pt x="590" y="636"/>
                    </a:lnTo>
                    <a:lnTo>
                      <a:pt x="606" y="624"/>
                    </a:lnTo>
                    <a:lnTo>
                      <a:pt x="682" y="646"/>
                    </a:lnTo>
                    <a:lnTo>
                      <a:pt x="698" y="654"/>
                    </a:lnTo>
                    <a:lnTo>
                      <a:pt x="726" y="650"/>
                    </a:lnTo>
                    <a:lnTo>
                      <a:pt x="732" y="656"/>
                    </a:lnTo>
                    <a:lnTo>
                      <a:pt x="744" y="656"/>
                    </a:lnTo>
                    <a:lnTo>
                      <a:pt x="744" y="684"/>
                    </a:lnTo>
                    <a:lnTo>
                      <a:pt x="796" y="678"/>
                    </a:lnTo>
                    <a:lnTo>
                      <a:pt x="836" y="678"/>
                    </a:lnTo>
                    <a:lnTo>
                      <a:pt x="856" y="668"/>
                    </a:lnTo>
                    <a:lnTo>
                      <a:pt x="866" y="640"/>
                    </a:lnTo>
                    <a:lnTo>
                      <a:pt x="866" y="604"/>
                    </a:lnTo>
                    <a:lnTo>
                      <a:pt x="842" y="604"/>
                    </a:lnTo>
                    <a:lnTo>
                      <a:pt x="830" y="596"/>
                    </a:lnTo>
                    <a:lnTo>
                      <a:pt x="858" y="584"/>
                    </a:lnTo>
                    <a:lnTo>
                      <a:pt x="898" y="596"/>
                    </a:lnTo>
                    <a:lnTo>
                      <a:pt x="930" y="634"/>
                    </a:lnTo>
                    <a:lnTo>
                      <a:pt x="946" y="624"/>
                    </a:lnTo>
                    <a:lnTo>
                      <a:pt x="960" y="634"/>
                    </a:lnTo>
                    <a:lnTo>
                      <a:pt x="984" y="632"/>
                    </a:lnTo>
                    <a:lnTo>
                      <a:pt x="942" y="696"/>
                    </a:lnTo>
                    <a:lnTo>
                      <a:pt x="950" y="706"/>
                    </a:lnTo>
                    <a:lnTo>
                      <a:pt x="974" y="690"/>
                    </a:lnTo>
                    <a:lnTo>
                      <a:pt x="984" y="700"/>
                    </a:lnTo>
                    <a:lnTo>
                      <a:pt x="1006" y="700"/>
                    </a:lnTo>
                    <a:lnTo>
                      <a:pt x="1008" y="708"/>
                    </a:lnTo>
                    <a:lnTo>
                      <a:pt x="996" y="722"/>
                    </a:lnTo>
                    <a:lnTo>
                      <a:pt x="970" y="730"/>
                    </a:lnTo>
                    <a:lnTo>
                      <a:pt x="988" y="732"/>
                    </a:lnTo>
                    <a:lnTo>
                      <a:pt x="1004" y="742"/>
                    </a:lnTo>
                    <a:lnTo>
                      <a:pt x="1014" y="758"/>
                    </a:lnTo>
                    <a:lnTo>
                      <a:pt x="1052" y="796"/>
                    </a:lnTo>
                    <a:lnTo>
                      <a:pt x="1046" y="820"/>
                    </a:lnTo>
                    <a:lnTo>
                      <a:pt x="998" y="838"/>
                    </a:lnTo>
                    <a:lnTo>
                      <a:pt x="966" y="830"/>
                    </a:lnTo>
                    <a:lnTo>
                      <a:pt x="942" y="828"/>
                    </a:lnTo>
                    <a:lnTo>
                      <a:pt x="932" y="856"/>
                    </a:lnTo>
                    <a:lnTo>
                      <a:pt x="906" y="892"/>
                    </a:lnTo>
                    <a:lnTo>
                      <a:pt x="944" y="886"/>
                    </a:lnTo>
                    <a:lnTo>
                      <a:pt x="1012" y="868"/>
                    </a:lnTo>
                    <a:lnTo>
                      <a:pt x="1034" y="852"/>
                    </a:lnTo>
                    <a:lnTo>
                      <a:pt x="1054" y="858"/>
                    </a:lnTo>
                    <a:lnTo>
                      <a:pt x="1094" y="844"/>
                    </a:lnTo>
                    <a:lnTo>
                      <a:pt x="1132" y="842"/>
                    </a:lnTo>
                    <a:lnTo>
                      <a:pt x="1162" y="848"/>
                    </a:lnTo>
                    <a:lnTo>
                      <a:pt x="1100" y="856"/>
                    </a:lnTo>
                    <a:lnTo>
                      <a:pt x="1106" y="860"/>
                    </a:lnTo>
                    <a:lnTo>
                      <a:pt x="1086" y="876"/>
                    </a:lnTo>
                    <a:lnTo>
                      <a:pt x="1104" y="910"/>
                    </a:lnTo>
                    <a:lnTo>
                      <a:pt x="1118" y="926"/>
                    </a:lnTo>
                    <a:lnTo>
                      <a:pt x="1130" y="922"/>
                    </a:lnTo>
                    <a:lnTo>
                      <a:pt x="1128" y="906"/>
                    </a:lnTo>
                    <a:lnTo>
                      <a:pt x="1136" y="896"/>
                    </a:lnTo>
                    <a:lnTo>
                      <a:pt x="1166" y="904"/>
                    </a:lnTo>
                    <a:lnTo>
                      <a:pt x="1138" y="944"/>
                    </a:lnTo>
                    <a:lnTo>
                      <a:pt x="1136" y="962"/>
                    </a:lnTo>
                    <a:lnTo>
                      <a:pt x="1158" y="978"/>
                    </a:lnTo>
                    <a:lnTo>
                      <a:pt x="1184" y="970"/>
                    </a:lnTo>
                    <a:lnTo>
                      <a:pt x="1194" y="998"/>
                    </a:lnTo>
                    <a:lnTo>
                      <a:pt x="1182" y="1024"/>
                    </a:lnTo>
                    <a:lnTo>
                      <a:pt x="1180" y="1044"/>
                    </a:lnTo>
                    <a:lnTo>
                      <a:pt x="1186" y="1054"/>
                    </a:lnTo>
                    <a:lnTo>
                      <a:pt x="1172" y="1082"/>
                    </a:lnTo>
                    <a:lnTo>
                      <a:pt x="1176" y="1098"/>
                    </a:lnTo>
                    <a:lnTo>
                      <a:pt x="1164" y="1120"/>
                    </a:lnTo>
                    <a:lnTo>
                      <a:pt x="1160" y="1140"/>
                    </a:lnTo>
                    <a:lnTo>
                      <a:pt x="1168" y="1144"/>
                    </a:lnTo>
                    <a:lnTo>
                      <a:pt x="1150" y="1160"/>
                    </a:lnTo>
                    <a:lnTo>
                      <a:pt x="1126" y="1172"/>
                    </a:lnTo>
                    <a:lnTo>
                      <a:pt x="1098" y="1178"/>
                    </a:lnTo>
                    <a:lnTo>
                      <a:pt x="1076" y="1188"/>
                    </a:lnTo>
                    <a:lnTo>
                      <a:pt x="1050" y="1230"/>
                    </a:lnTo>
                    <a:lnTo>
                      <a:pt x="1040" y="1234"/>
                    </a:lnTo>
                    <a:lnTo>
                      <a:pt x="1012" y="1238"/>
                    </a:lnTo>
                    <a:lnTo>
                      <a:pt x="978" y="1258"/>
                    </a:lnTo>
                    <a:lnTo>
                      <a:pt x="938" y="1270"/>
                    </a:lnTo>
                    <a:lnTo>
                      <a:pt x="900" y="1292"/>
                    </a:lnTo>
                    <a:lnTo>
                      <a:pt x="850" y="1314"/>
                    </a:lnTo>
                    <a:lnTo>
                      <a:pt x="846" y="1328"/>
                    </a:lnTo>
                    <a:lnTo>
                      <a:pt x="852" y="1356"/>
                    </a:lnTo>
                    <a:lnTo>
                      <a:pt x="870" y="1378"/>
                    </a:lnTo>
                    <a:lnTo>
                      <a:pt x="866" y="1400"/>
                    </a:lnTo>
                    <a:lnTo>
                      <a:pt x="878" y="1406"/>
                    </a:lnTo>
                    <a:lnTo>
                      <a:pt x="860" y="1436"/>
                    </a:lnTo>
                    <a:lnTo>
                      <a:pt x="834" y="1422"/>
                    </a:lnTo>
                    <a:lnTo>
                      <a:pt x="828" y="1428"/>
                    </a:lnTo>
                    <a:lnTo>
                      <a:pt x="808" y="1418"/>
                    </a:lnTo>
                    <a:lnTo>
                      <a:pt x="798" y="1428"/>
                    </a:lnTo>
                    <a:lnTo>
                      <a:pt x="780" y="1430"/>
                    </a:lnTo>
                    <a:lnTo>
                      <a:pt x="744" y="1442"/>
                    </a:lnTo>
                    <a:lnTo>
                      <a:pt x="700" y="1438"/>
                    </a:lnTo>
                    <a:lnTo>
                      <a:pt x="686" y="1454"/>
                    </a:lnTo>
                    <a:lnTo>
                      <a:pt x="666" y="1458"/>
                    </a:lnTo>
                    <a:lnTo>
                      <a:pt x="642" y="1444"/>
                    </a:lnTo>
                    <a:lnTo>
                      <a:pt x="588" y="1444"/>
                    </a:lnTo>
                    <a:lnTo>
                      <a:pt x="556" y="1430"/>
                    </a:lnTo>
                    <a:lnTo>
                      <a:pt x="532" y="1430"/>
                    </a:lnTo>
                    <a:lnTo>
                      <a:pt x="512" y="1424"/>
                    </a:lnTo>
                    <a:lnTo>
                      <a:pt x="506" y="1414"/>
                    </a:lnTo>
                    <a:lnTo>
                      <a:pt x="484" y="1414"/>
                    </a:lnTo>
                    <a:lnTo>
                      <a:pt x="488" y="1430"/>
                    </a:lnTo>
                    <a:lnTo>
                      <a:pt x="470" y="1428"/>
                    </a:lnTo>
                    <a:lnTo>
                      <a:pt x="456" y="1458"/>
                    </a:lnTo>
                    <a:lnTo>
                      <a:pt x="430" y="1462"/>
                    </a:lnTo>
                    <a:lnTo>
                      <a:pt x="384" y="1480"/>
                    </a:lnTo>
                    <a:lnTo>
                      <a:pt x="356" y="1498"/>
                    </a:lnTo>
                    <a:lnTo>
                      <a:pt x="340" y="1520"/>
                    </a:lnTo>
                    <a:lnTo>
                      <a:pt x="328" y="1538"/>
                    </a:lnTo>
                    <a:lnTo>
                      <a:pt x="330" y="1566"/>
                    </a:lnTo>
                    <a:lnTo>
                      <a:pt x="342" y="1584"/>
                    </a:lnTo>
                    <a:lnTo>
                      <a:pt x="358" y="1584"/>
                    </a:lnTo>
                    <a:lnTo>
                      <a:pt x="370" y="1606"/>
                    </a:lnTo>
                    <a:lnTo>
                      <a:pt x="386" y="1604"/>
                    </a:lnTo>
                    <a:lnTo>
                      <a:pt x="418" y="1614"/>
                    </a:lnTo>
                    <a:lnTo>
                      <a:pt x="424" y="1620"/>
                    </a:lnTo>
                    <a:lnTo>
                      <a:pt x="432" y="1616"/>
                    </a:lnTo>
                    <a:lnTo>
                      <a:pt x="478" y="1610"/>
                    </a:lnTo>
                    <a:lnTo>
                      <a:pt x="480" y="1600"/>
                    </a:lnTo>
                    <a:lnTo>
                      <a:pt x="514" y="1598"/>
                    </a:lnTo>
                    <a:lnTo>
                      <a:pt x="528" y="1596"/>
                    </a:lnTo>
                    <a:lnTo>
                      <a:pt x="540" y="1582"/>
                    </a:lnTo>
                    <a:lnTo>
                      <a:pt x="540" y="1568"/>
                    </a:lnTo>
                    <a:lnTo>
                      <a:pt x="566" y="1564"/>
                    </a:lnTo>
                    <a:lnTo>
                      <a:pt x="592" y="1564"/>
                    </a:lnTo>
                    <a:lnTo>
                      <a:pt x="594" y="1576"/>
                    </a:lnTo>
                    <a:lnTo>
                      <a:pt x="592" y="1590"/>
                    </a:lnTo>
                    <a:lnTo>
                      <a:pt x="636" y="1596"/>
                    </a:lnTo>
                    <a:lnTo>
                      <a:pt x="650" y="1600"/>
                    </a:lnTo>
                    <a:lnTo>
                      <a:pt x="658" y="1586"/>
                    </a:lnTo>
                    <a:lnTo>
                      <a:pt x="676" y="1578"/>
                    </a:lnTo>
                    <a:lnTo>
                      <a:pt x="676" y="1586"/>
                    </a:lnTo>
                    <a:lnTo>
                      <a:pt x="672" y="1562"/>
                    </a:lnTo>
                    <a:lnTo>
                      <a:pt x="652" y="1554"/>
                    </a:lnTo>
                    <a:lnTo>
                      <a:pt x="662" y="1536"/>
                    </a:lnTo>
                    <a:lnTo>
                      <a:pt x="686" y="1532"/>
                    </a:lnTo>
                    <a:lnTo>
                      <a:pt x="700" y="1526"/>
                    </a:lnTo>
                    <a:lnTo>
                      <a:pt x="690" y="1542"/>
                    </a:lnTo>
                    <a:lnTo>
                      <a:pt x="686" y="1554"/>
                    </a:lnTo>
                    <a:lnTo>
                      <a:pt x="706" y="1544"/>
                    </a:lnTo>
                    <a:lnTo>
                      <a:pt x="702" y="1556"/>
                    </a:lnTo>
                    <a:lnTo>
                      <a:pt x="712" y="1566"/>
                    </a:lnTo>
                    <a:lnTo>
                      <a:pt x="726" y="1560"/>
                    </a:lnTo>
                    <a:lnTo>
                      <a:pt x="746" y="1558"/>
                    </a:lnTo>
                    <a:lnTo>
                      <a:pt x="752" y="1560"/>
                    </a:lnTo>
                    <a:lnTo>
                      <a:pt x="758" y="1578"/>
                    </a:lnTo>
                    <a:lnTo>
                      <a:pt x="776" y="1572"/>
                    </a:lnTo>
                    <a:lnTo>
                      <a:pt x="788" y="1576"/>
                    </a:lnTo>
                    <a:lnTo>
                      <a:pt x="792" y="1588"/>
                    </a:lnTo>
                    <a:lnTo>
                      <a:pt x="780" y="1596"/>
                    </a:lnTo>
                    <a:lnTo>
                      <a:pt x="774" y="1612"/>
                    </a:lnTo>
                    <a:lnTo>
                      <a:pt x="772" y="1626"/>
                    </a:lnTo>
                    <a:lnTo>
                      <a:pt x="784" y="1622"/>
                    </a:lnTo>
                    <a:lnTo>
                      <a:pt x="794" y="1646"/>
                    </a:lnTo>
                    <a:lnTo>
                      <a:pt x="792" y="1658"/>
                    </a:lnTo>
                    <a:lnTo>
                      <a:pt x="782" y="1668"/>
                    </a:lnTo>
                    <a:lnTo>
                      <a:pt x="784" y="1672"/>
                    </a:lnTo>
                    <a:lnTo>
                      <a:pt x="780" y="1686"/>
                    </a:lnTo>
                    <a:lnTo>
                      <a:pt x="796" y="1682"/>
                    </a:lnTo>
                    <a:lnTo>
                      <a:pt x="802" y="1688"/>
                    </a:lnTo>
                    <a:lnTo>
                      <a:pt x="804" y="1710"/>
                    </a:lnTo>
                    <a:lnTo>
                      <a:pt x="812" y="1714"/>
                    </a:lnTo>
                    <a:lnTo>
                      <a:pt x="830" y="1706"/>
                    </a:lnTo>
                    <a:lnTo>
                      <a:pt x="838" y="1710"/>
                    </a:lnTo>
                    <a:lnTo>
                      <a:pt x="830" y="1720"/>
                    </a:lnTo>
                    <a:lnTo>
                      <a:pt x="834" y="1734"/>
                    </a:lnTo>
                    <a:lnTo>
                      <a:pt x="846" y="1738"/>
                    </a:lnTo>
                    <a:lnTo>
                      <a:pt x="854" y="1726"/>
                    </a:lnTo>
                    <a:lnTo>
                      <a:pt x="874" y="1710"/>
                    </a:lnTo>
                    <a:lnTo>
                      <a:pt x="884" y="1734"/>
                    </a:lnTo>
                    <a:lnTo>
                      <a:pt x="894" y="1740"/>
                    </a:lnTo>
                    <a:lnTo>
                      <a:pt x="892" y="1752"/>
                    </a:lnTo>
                    <a:lnTo>
                      <a:pt x="914" y="1752"/>
                    </a:lnTo>
                    <a:lnTo>
                      <a:pt x="876" y="1774"/>
                    </a:lnTo>
                    <a:lnTo>
                      <a:pt x="842" y="1778"/>
                    </a:lnTo>
                    <a:lnTo>
                      <a:pt x="832" y="1760"/>
                    </a:lnTo>
                    <a:lnTo>
                      <a:pt x="830" y="1780"/>
                    </a:lnTo>
                    <a:lnTo>
                      <a:pt x="836" y="1826"/>
                    </a:lnTo>
                    <a:lnTo>
                      <a:pt x="852" y="1832"/>
                    </a:lnTo>
                    <a:lnTo>
                      <a:pt x="864" y="1850"/>
                    </a:lnTo>
                    <a:lnTo>
                      <a:pt x="864" y="185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44360" y="2490480"/>
                <a:ext cx="18720" cy="3960"/>
              </a:xfrm>
              <a:custGeom>
                <a:avLst/>
                <a:gdLst/>
                <a:ahLst/>
                <a:rect l="l" t="t" r="r" b="b"/>
                <a:pathLst>
                  <a:path w="112" h="28">
                    <a:moveTo>
                      <a:pt x="80" y="2"/>
                    </a:moveTo>
                    <a:lnTo>
                      <a:pt x="104" y="0"/>
                    </a:lnTo>
                    <a:lnTo>
                      <a:pt x="112" y="8"/>
                    </a:lnTo>
                    <a:lnTo>
                      <a:pt x="76" y="18"/>
                    </a:lnTo>
                    <a:lnTo>
                      <a:pt x="26" y="28"/>
                    </a:lnTo>
                    <a:lnTo>
                      <a:pt x="0" y="22"/>
                    </a:lnTo>
                    <a:lnTo>
                      <a:pt x="6" y="18"/>
                    </a:lnTo>
                    <a:lnTo>
                      <a:pt x="28" y="14"/>
                    </a:lnTo>
                    <a:lnTo>
                      <a:pt x="66" y="4"/>
                    </a:lnTo>
                    <a:lnTo>
                      <a:pt x="80" y="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45440" y="2733840"/>
                <a:ext cx="14760" cy="14400"/>
              </a:xfrm>
              <a:custGeom>
                <a:avLst/>
                <a:gdLst/>
                <a:ahLst/>
                <a:rect l="l" t="t" r="r" b="b"/>
                <a:pathLst>
                  <a:path w="82" h="90">
                    <a:moveTo>
                      <a:pt x="78" y="10"/>
                    </a:moveTo>
                    <a:lnTo>
                      <a:pt x="82" y="10"/>
                    </a:lnTo>
                    <a:lnTo>
                      <a:pt x="70" y="34"/>
                    </a:lnTo>
                    <a:lnTo>
                      <a:pt x="44" y="74"/>
                    </a:lnTo>
                    <a:lnTo>
                      <a:pt x="22" y="90"/>
                    </a:lnTo>
                    <a:lnTo>
                      <a:pt x="10" y="88"/>
                    </a:lnTo>
                    <a:lnTo>
                      <a:pt x="0" y="70"/>
                    </a:lnTo>
                    <a:lnTo>
                      <a:pt x="20" y="40"/>
                    </a:lnTo>
                    <a:lnTo>
                      <a:pt x="46" y="12"/>
                    </a:lnTo>
                    <a:lnTo>
                      <a:pt x="70" y="0"/>
                    </a:lnTo>
                    <a:lnTo>
                      <a:pt x="78" y="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55600" y="290340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76" y="8"/>
                    </a:moveTo>
                    <a:lnTo>
                      <a:pt x="78" y="0"/>
                    </a:lnTo>
                    <a:lnTo>
                      <a:pt x="80" y="4"/>
                    </a:lnTo>
                    <a:lnTo>
                      <a:pt x="78" y="12"/>
                    </a:lnTo>
                    <a:lnTo>
                      <a:pt x="66" y="16"/>
                    </a:lnTo>
                    <a:lnTo>
                      <a:pt x="46" y="18"/>
                    </a:lnTo>
                    <a:lnTo>
                      <a:pt x="10" y="10"/>
                    </a:lnTo>
                    <a:lnTo>
                      <a:pt x="0" y="4"/>
                    </a:lnTo>
                    <a:lnTo>
                      <a:pt x="16" y="0"/>
                    </a:lnTo>
                    <a:lnTo>
                      <a:pt x="30" y="4"/>
                    </a:lnTo>
                    <a:lnTo>
                      <a:pt x="70" y="2"/>
                    </a:lnTo>
                    <a:lnTo>
                      <a:pt x="76" y="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93560" y="3182760"/>
                <a:ext cx="360" cy="1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745280" y="2614320"/>
              <a:ext cx="1450440" cy="879840"/>
            </a:xfrm>
            <a:custGeom>
              <a:avLst/>
              <a:gdLst/>
              <a:ahLst/>
              <a:rect l="l" t="t" r="r" b="b"/>
              <a:pathLst>
                <a:path w="8342" h="5150">
                  <a:moveTo>
                    <a:pt x="8266" y="3542"/>
                  </a:moveTo>
                  <a:lnTo>
                    <a:pt x="8282" y="3558"/>
                  </a:lnTo>
                  <a:lnTo>
                    <a:pt x="8290" y="3570"/>
                  </a:lnTo>
                  <a:lnTo>
                    <a:pt x="8262" y="3590"/>
                  </a:lnTo>
                  <a:lnTo>
                    <a:pt x="8232" y="3616"/>
                  </a:lnTo>
                  <a:lnTo>
                    <a:pt x="8184" y="3636"/>
                  </a:lnTo>
                  <a:lnTo>
                    <a:pt x="8138" y="3674"/>
                  </a:lnTo>
                  <a:lnTo>
                    <a:pt x="8114" y="3676"/>
                  </a:lnTo>
                  <a:lnTo>
                    <a:pt x="8102" y="3684"/>
                  </a:lnTo>
                  <a:lnTo>
                    <a:pt x="8070" y="3682"/>
                  </a:lnTo>
                  <a:lnTo>
                    <a:pt x="8024" y="3680"/>
                  </a:lnTo>
                  <a:lnTo>
                    <a:pt x="7988" y="3692"/>
                  </a:lnTo>
                  <a:lnTo>
                    <a:pt x="7918" y="3700"/>
                  </a:lnTo>
                  <a:lnTo>
                    <a:pt x="7888" y="3716"/>
                  </a:lnTo>
                  <a:lnTo>
                    <a:pt x="7854" y="3746"/>
                  </a:lnTo>
                  <a:lnTo>
                    <a:pt x="7842" y="3742"/>
                  </a:lnTo>
                  <a:lnTo>
                    <a:pt x="7802" y="3782"/>
                  </a:lnTo>
                  <a:lnTo>
                    <a:pt x="7750" y="3824"/>
                  </a:lnTo>
                  <a:lnTo>
                    <a:pt x="7722" y="3836"/>
                  </a:lnTo>
                  <a:lnTo>
                    <a:pt x="7688" y="3862"/>
                  </a:lnTo>
                  <a:lnTo>
                    <a:pt x="7664" y="3872"/>
                  </a:lnTo>
                  <a:lnTo>
                    <a:pt x="7650" y="3872"/>
                  </a:lnTo>
                  <a:lnTo>
                    <a:pt x="7644" y="3862"/>
                  </a:lnTo>
                  <a:lnTo>
                    <a:pt x="7660" y="3840"/>
                  </a:lnTo>
                  <a:lnTo>
                    <a:pt x="7646" y="3844"/>
                  </a:lnTo>
                  <a:lnTo>
                    <a:pt x="7624" y="3866"/>
                  </a:lnTo>
                  <a:lnTo>
                    <a:pt x="7532" y="3872"/>
                  </a:lnTo>
                  <a:lnTo>
                    <a:pt x="7470" y="3890"/>
                  </a:lnTo>
                  <a:lnTo>
                    <a:pt x="7458" y="3886"/>
                  </a:lnTo>
                  <a:lnTo>
                    <a:pt x="7460" y="3874"/>
                  </a:lnTo>
                  <a:lnTo>
                    <a:pt x="7444" y="3862"/>
                  </a:lnTo>
                  <a:lnTo>
                    <a:pt x="7408" y="3856"/>
                  </a:lnTo>
                  <a:lnTo>
                    <a:pt x="7312" y="3850"/>
                  </a:lnTo>
                  <a:lnTo>
                    <a:pt x="7276" y="3856"/>
                  </a:lnTo>
                  <a:lnTo>
                    <a:pt x="7210" y="3842"/>
                  </a:lnTo>
                  <a:lnTo>
                    <a:pt x="7194" y="3842"/>
                  </a:lnTo>
                  <a:lnTo>
                    <a:pt x="7144" y="3834"/>
                  </a:lnTo>
                  <a:lnTo>
                    <a:pt x="7080" y="3844"/>
                  </a:lnTo>
                  <a:lnTo>
                    <a:pt x="7060" y="3838"/>
                  </a:lnTo>
                  <a:lnTo>
                    <a:pt x="7034" y="3836"/>
                  </a:lnTo>
                  <a:lnTo>
                    <a:pt x="6996" y="3840"/>
                  </a:lnTo>
                  <a:lnTo>
                    <a:pt x="6968" y="3834"/>
                  </a:lnTo>
                  <a:lnTo>
                    <a:pt x="6948" y="3842"/>
                  </a:lnTo>
                  <a:lnTo>
                    <a:pt x="6920" y="3840"/>
                  </a:lnTo>
                  <a:lnTo>
                    <a:pt x="6908" y="3844"/>
                  </a:lnTo>
                  <a:lnTo>
                    <a:pt x="6898" y="3860"/>
                  </a:lnTo>
                  <a:lnTo>
                    <a:pt x="6880" y="3854"/>
                  </a:lnTo>
                  <a:lnTo>
                    <a:pt x="6868" y="3862"/>
                  </a:lnTo>
                  <a:lnTo>
                    <a:pt x="6852" y="3868"/>
                  </a:lnTo>
                  <a:lnTo>
                    <a:pt x="6832" y="3882"/>
                  </a:lnTo>
                  <a:lnTo>
                    <a:pt x="6802" y="3908"/>
                  </a:lnTo>
                  <a:lnTo>
                    <a:pt x="6778" y="3942"/>
                  </a:lnTo>
                  <a:lnTo>
                    <a:pt x="6746" y="3982"/>
                  </a:lnTo>
                  <a:lnTo>
                    <a:pt x="6738" y="3986"/>
                  </a:lnTo>
                  <a:lnTo>
                    <a:pt x="6652" y="3986"/>
                  </a:lnTo>
                  <a:lnTo>
                    <a:pt x="6618" y="4008"/>
                  </a:lnTo>
                  <a:lnTo>
                    <a:pt x="6606" y="4008"/>
                  </a:lnTo>
                  <a:lnTo>
                    <a:pt x="6602" y="4018"/>
                  </a:lnTo>
                  <a:lnTo>
                    <a:pt x="6548" y="4052"/>
                  </a:lnTo>
                  <a:lnTo>
                    <a:pt x="6522" y="4060"/>
                  </a:lnTo>
                  <a:lnTo>
                    <a:pt x="6426" y="4148"/>
                  </a:lnTo>
                  <a:lnTo>
                    <a:pt x="6394" y="4166"/>
                  </a:lnTo>
                  <a:lnTo>
                    <a:pt x="6370" y="4168"/>
                  </a:lnTo>
                  <a:lnTo>
                    <a:pt x="6360" y="4200"/>
                  </a:lnTo>
                  <a:lnTo>
                    <a:pt x="6278" y="4284"/>
                  </a:lnTo>
                  <a:lnTo>
                    <a:pt x="6268" y="4284"/>
                  </a:lnTo>
                  <a:lnTo>
                    <a:pt x="6202" y="4328"/>
                  </a:lnTo>
                  <a:lnTo>
                    <a:pt x="6124" y="4382"/>
                  </a:lnTo>
                  <a:lnTo>
                    <a:pt x="6122" y="4386"/>
                  </a:lnTo>
                  <a:lnTo>
                    <a:pt x="6154" y="4380"/>
                  </a:lnTo>
                  <a:lnTo>
                    <a:pt x="6182" y="4368"/>
                  </a:lnTo>
                  <a:lnTo>
                    <a:pt x="6186" y="4360"/>
                  </a:lnTo>
                  <a:lnTo>
                    <a:pt x="6202" y="4354"/>
                  </a:lnTo>
                  <a:lnTo>
                    <a:pt x="6246" y="4322"/>
                  </a:lnTo>
                  <a:lnTo>
                    <a:pt x="6278" y="4292"/>
                  </a:lnTo>
                  <a:lnTo>
                    <a:pt x="6308" y="4276"/>
                  </a:lnTo>
                  <a:lnTo>
                    <a:pt x="6336" y="4254"/>
                  </a:lnTo>
                  <a:lnTo>
                    <a:pt x="6384" y="4204"/>
                  </a:lnTo>
                  <a:lnTo>
                    <a:pt x="6412" y="4188"/>
                  </a:lnTo>
                  <a:lnTo>
                    <a:pt x="6478" y="4144"/>
                  </a:lnTo>
                  <a:lnTo>
                    <a:pt x="6494" y="4136"/>
                  </a:lnTo>
                  <a:lnTo>
                    <a:pt x="6516" y="4134"/>
                  </a:lnTo>
                  <a:lnTo>
                    <a:pt x="6538" y="4118"/>
                  </a:lnTo>
                  <a:lnTo>
                    <a:pt x="6568" y="4104"/>
                  </a:lnTo>
                  <a:lnTo>
                    <a:pt x="6598" y="4096"/>
                  </a:lnTo>
                  <a:lnTo>
                    <a:pt x="6682" y="4058"/>
                  </a:lnTo>
                  <a:lnTo>
                    <a:pt x="6818" y="4018"/>
                  </a:lnTo>
                  <a:lnTo>
                    <a:pt x="6890" y="4006"/>
                  </a:lnTo>
                  <a:lnTo>
                    <a:pt x="6918" y="4008"/>
                  </a:lnTo>
                  <a:lnTo>
                    <a:pt x="6944" y="4006"/>
                  </a:lnTo>
                  <a:lnTo>
                    <a:pt x="7004" y="4014"/>
                  </a:lnTo>
                  <a:lnTo>
                    <a:pt x="7052" y="4040"/>
                  </a:lnTo>
                  <a:lnTo>
                    <a:pt x="7074" y="4060"/>
                  </a:lnTo>
                  <a:lnTo>
                    <a:pt x="7080" y="4092"/>
                  </a:lnTo>
                  <a:lnTo>
                    <a:pt x="7066" y="4084"/>
                  </a:lnTo>
                  <a:lnTo>
                    <a:pt x="7060" y="4088"/>
                  </a:lnTo>
                  <a:lnTo>
                    <a:pt x="7068" y="4106"/>
                  </a:lnTo>
                  <a:lnTo>
                    <a:pt x="7056" y="4138"/>
                  </a:lnTo>
                  <a:lnTo>
                    <a:pt x="7026" y="4158"/>
                  </a:lnTo>
                  <a:lnTo>
                    <a:pt x="6956" y="4196"/>
                  </a:lnTo>
                  <a:lnTo>
                    <a:pt x="6914" y="4212"/>
                  </a:lnTo>
                  <a:lnTo>
                    <a:pt x="6876" y="4208"/>
                  </a:lnTo>
                  <a:lnTo>
                    <a:pt x="6846" y="4190"/>
                  </a:lnTo>
                  <a:lnTo>
                    <a:pt x="6796" y="4196"/>
                  </a:lnTo>
                  <a:lnTo>
                    <a:pt x="6760" y="4206"/>
                  </a:lnTo>
                  <a:lnTo>
                    <a:pt x="6750" y="4212"/>
                  </a:lnTo>
                  <a:lnTo>
                    <a:pt x="6782" y="4212"/>
                  </a:lnTo>
                  <a:lnTo>
                    <a:pt x="6834" y="4234"/>
                  </a:lnTo>
                  <a:lnTo>
                    <a:pt x="6834" y="4260"/>
                  </a:lnTo>
                  <a:lnTo>
                    <a:pt x="6842" y="4272"/>
                  </a:lnTo>
                  <a:lnTo>
                    <a:pt x="6918" y="4242"/>
                  </a:lnTo>
                  <a:lnTo>
                    <a:pt x="6926" y="4246"/>
                  </a:lnTo>
                  <a:lnTo>
                    <a:pt x="6920" y="4254"/>
                  </a:lnTo>
                  <a:lnTo>
                    <a:pt x="6938" y="4258"/>
                  </a:lnTo>
                  <a:lnTo>
                    <a:pt x="6948" y="4268"/>
                  </a:lnTo>
                  <a:lnTo>
                    <a:pt x="6938" y="4290"/>
                  </a:lnTo>
                  <a:lnTo>
                    <a:pt x="6900" y="4340"/>
                  </a:lnTo>
                  <a:lnTo>
                    <a:pt x="6852" y="4372"/>
                  </a:lnTo>
                  <a:lnTo>
                    <a:pt x="6850" y="4378"/>
                  </a:lnTo>
                  <a:lnTo>
                    <a:pt x="6870" y="4374"/>
                  </a:lnTo>
                  <a:lnTo>
                    <a:pt x="6900" y="4382"/>
                  </a:lnTo>
                  <a:lnTo>
                    <a:pt x="6882" y="4426"/>
                  </a:lnTo>
                  <a:lnTo>
                    <a:pt x="6880" y="4442"/>
                  </a:lnTo>
                  <a:lnTo>
                    <a:pt x="6884" y="4462"/>
                  </a:lnTo>
                  <a:lnTo>
                    <a:pt x="6884" y="4484"/>
                  </a:lnTo>
                  <a:lnTo>
                    <a:pt x="6888" y="4500"/>
                  </a:lnTo>
                  <a:lnTo>
                    <a:pt x="6900" y="4512"/>
                  </a:lnTo>
                  <a:lnTo>
                    <a:pt x="6894" y="4520"/>
                  </a:lnTo>
                  <a:lnTo>
                    <a:pt x="6930" y="4526"/>
                  </a:lnTo>
                  <a:lnTo>
                    <a:pt x="6972" y="4548"/>
                  </a:lnTo>
                  <a:lnTo>
                    <a:pt x="6978" y="4556"/>
                  </a:lnTo>
                  <a:lnTo>
                    <a:pt x="6954" y="4566"/>
                  </a:lnTo>
                  <a:lnTo>
                    <a:pt x="6946" y="4580"/>
                  </a:lnTo>
                  <a:lnTo>
                    <a:pt x="6964" y="4586"/>
                  </a:lnTo>
                  <a:lnTo>
                    <a:pt x="6988" y="4590"/>
                  </a:lnTo>
                  <a:lnTo>
                    <a:pt x="7020" y="4606"/>
                  </a:lnTo>
                  <a:lnTo>
                    <a:pt x="7078" y="4616"/>
                  </a:lnTo>
                  <a:lnTo>
                    <a:pt x="7082" y="4632"/>
                  </a:lnTo>
                  <a:lnTo>
                    <a:pt x="7132" y="4628"/>
                  </a:lnTo>
                  <a:lnTo>
                    <a:pt x="7186" y="4600"/>
                  </a:lnTo>
                  <a:lnTo>
                    <a:pt x="7190" y="4622"/>
                  </a:lnTo>
                  <a:lnTo>
                    <a:pt x="7180" y="4640"/>
                  </a:lnTo>
                  <a:lnTo>
                    <a:pt x="7194" y="4638"/>
                  </a:lnTo>
                  <a:lnTo>
                    <a:pt x="7214" y="4642"/>
                  </a:lnTo>
                  <a:lnTo>
                    <a:pt x="7240" y="4640"/>
                  </a:lnTo>
                  <a:lnTo>
                    <a:pt x="7250" y="4658"/>
                  </a:lnTo>
                  <a:lnTo>
                    <a:pt x="7254" y="4670"/>
                  </a:lnTo>
                  <a:lnTo>
                    <a:pt x="7238" y="4678"/>
                  </a:lnTo>
                  <a:lnTo>
                    <a:pt x="7232" y="4690"/>
                  </a:lnTo>
                  <a:lnTo>
                    <a:pt x="7266" y="4694"/>
                  </a:lnTo>
                  <a:lnTo>
                    <a:pt x="7274" y="4700"/>
                  </a:lnTo>
                  <a:lnTo>
                    <a:pt x="7256" y="4710"/>
                  </a:lnTo>
                  <a:lnTo>
                    <a:pt x="7234" y="4708"/>
                  </a:lnTo>
                  <a:lnTo>
                    <a:pt x="7210" y="4720"/>
                  </a:lnTo>
                  <a:lnTo>
                    <a:pt x="7194" y="4714"/>
                  </a:lnTo>
                  <a:lnTo>
                    <a:pt x="7160" y="4732"/>
                  </a:lnTo>
                  <a:lnTo>
                    <a:pt x="7108" y="4748"/>
                  </a:lnTo>
                  <a:lnTo>
                    <a:pt x="7084" y="4762"/>
                  </a:lnTo>
                  <a:lnTo>
                    <a:pt x="7072" y="4762"/>
                  </a:lnTo>
                  <a:lnTo>
                    <a:pt x="7062" y="4774"/>
                  </a:lnTo>
                  <a:lnTo>
                    <a:pt x="7042" y="4772"/>
                  </a:lnTo>
                  <a:lnTo>
                    <a:pt x="7014" y="4788"/>
                  </a:lnTo>
                  <a:lnTo>
                    <a:pt x="6988" y="4790"/>
                  </a:lnTo>
                  <a:lnTo>
                    <a:pt x="6986" y="4786"/>
                  </a:lnTo>
                  <a:lnTo>
                    <a:pt x="6968" y="4792"/>
                  </a:lnTo>
                  <a:lnTo>
                    <a:pt x="6948" y="4802"/>
                  </a:lnTo>
                  <a:lnTo>
                    <a:pt x="6922" y="4788"/>
                  </a:lnTo>
                  <a:lnTo>
                    <a:pt x="6920" y="4820"/>
                  </a:lnTo>
                  <a:lnTo>
                    <a:pt x="6914" y="4830"/>
                  </a:lnTo>
                  <a:lnTo>
                    <a:pt x="6886" y="4828"/>
                  </a:lnTo>
                  <a:lnTo>
                    <a:pt x="6878" y="4810"/>
                  </a:lnTo>
                  <a:lnTo>
                    <a:pt x="6880" y="4798"/>
                  </a:lnTo>
                  <a:lnTo>
                    <a:pt x="6852" y="4828"/>
                  </a:lnTo>
                  <a:lnTo>
                    <a:pt x="6850" y="4808"/>
                  </a:lnTo>
                  <a:lnTo>
                    <a:pt x="6830" y="4828"/>
                  </a:lnTo>
                  <a:lnTo>
                    <a:pt x="6816" y="4860"/>
                  </a:lnTo>
                  <a:lnTo>
                    <a:pt x="6788" y="4876"/>
                  </a:lnTo>
                  <a:lnTo>
                    <a:pt x="6746" y="4910"/>
                  </a:lnTo>
                  <a:lnTo>
                    <a:pt x="6736" y="4922"/>
                  </a:lnTo>
                  <a:lnTo>
                    <a:pt x="6708" y="4934"/>
                  </a:lnTo>
                  <a:lnTo>
                    <a:pt x="6686" y="4960"/>
                  </a:lnTo>
                  <a:lnTo>
                    <a:pt x="6670" y="4950"/>
                  </a:lnTo>
                  <a:lnTo>
                    <a:pt x="6656" y="4956"/>
                  </a:lnTo>
                  <a:lnTo>
                    <a:pt x="6644" y="4980"/>
                  </a:lnTo>
                  <a:lnTo>
                    <a:pt x="6628" y="4990"/>
                  </a:lnTo>
                  <a:lnTo>
                    <a:pt x="6618" y="4990"/>
                  </a:lnTo>
                  <a:lnTo>
                    <a:pt x="6598" y="4980"/>
                  </a:lnTo>
                  <a:lnTo>
                    <a:pt x="6596" y="4950"/>
                  </a:lnTo>
                  <a:lnTo>
                    <a:pt x="6588" y="4934"/>
                  </a:lnTo>
                  <a:lnTo>
                    <a:pt x="6570" y="4932"/>
                  </a:lnTo>
                  <a:lnTo>
                    <a:pt x="6570" y="4900"/>
                  </a:lnTo>
                  <a:lnTo>
                    <a:pt x="6578" y="4866"/>
                  </a:lnTo>
                  <a:lnTo>
                    <a:pt x="6592" y="4840"/>
                  </a:lnTo>
                  <a:lnTo>
                    <a:pt x="6634" y="4800"/>
                  </a:lnTo>
                  <a:lnTo>
                    <a:pt x="6618" y="4812"/>
                  </a:lnTo>
                  <a:lnTo>
                    <a:pt x="6588" y="4826"/>
                  </a:lnTo>
                  <a:lnTo>
                    <a:pt x="6600" y="4808"/>
                  </a:lnTo>
                  <a:lnTo>
                    <a:pt x="6642" y="4784"/>
                  </a:lnTo>
                  <a:lnTo>
                    <a:pt x="6658" y="4788"/>
                  </a:lnTo>
                  <a:lnTo>
                    <a:pt x="6684" y="4776"/>
                  </a:lnTo>
                  <a:lnTo>
                    <a:pt x="6686" y="4764"/>
                  </a:lnTo>
                  <a:lnTo>
                    <a:pt x="6752" y="4730"/>
                  </a:lnTo>
                  <a:lnTo>
                    <a:pt x="6814" y="4700"/>
                  </a:lnTo>
                  <a:lnTo>
                    <a:pt x="6850" y="4686"/>
                  </a:lnTo>
                  <a:lnTo>
                    <a:pt x="6856" y="4696"/>
                  </a:lnTo>
                  <a:lnTo>
                    <a:pt x="6854" y="4712"/>
                  </a:lnTo>
                  <a:lnTo>
                    <a:pt x="6872" y="4724"/>
                  </a:lnTo>
                  <a:lnTo>
                    <a:pt x="6900" y="4702"/>
                  </a:lnTo>
                  <a:lnTo>
                    <a:pt x="6926" y="4692"/>
                  </a:lnTo>
                  <a:lnTo>
                    <a:pt x="6982" y="4688"/>
                  </a:lnTo>
                  <a:lnTo>
                    <a:pt x="6988" y="4674"/>
                  </a:lnTo>
                  <a:lnTo>
                    <a:pt x="6956" y="4672"/>
                  </a:lnTo>
                  <a:lnTo>
                    <a:pt x="6920" y="4676"/>
                  </a:lnTo>
                  <a:lnTo>
                    <a:pt x="6868" y="4664"/>
                  </a:lnTo>
                  <a:lnTo>
                    <a:pt x="6834" y="4676"/>
                  </a:lnTo>
                  <a:lnTo>
                    <a:pt x="6808" y="4678"/>
                  </a:lnTo>
                  <a:lnTo>
                    <a:pt x="6812" y="4654"/>
                  </a:lnTo>
                  <a:lnTo>
                    <a:pt x="6850" y="4632"/>
                  </a:lnTo>
                  <a:lnTo>
                    <a:pt x="6888" y="4600"/>
                  </a:lnTo>
                  <a:lnTo>
                    <a:pt x="6870" y="4600"/>
                  </a:lnTo>
                  <a:lnTo>
                    <a:pt x="6868" y="4582"/>
                  </a:lnTo>
                  <a:lnTo>
                    <a:pt x="6836" y="4620"/>
                  </a:lnTo>
                  <a:lnTo>
                    <a:pt x="6808" y="4624"/>
                  </a:lnTo>
                  <a:lnTo>
                    <a:pt x="6718" y="4676"/>
                  </a:lnTo>
                  <a:lnTo>
                    <a:pt x="6692" y="4686"/>
                  </a:lnTo>
                  <a:lnTo>
                    <a:pt x="6668" y="4688"/>
                  </a:lnTo>
                  <a:lnTo>
                    <a:pt x="6654" y="4682"/>
                  </a:lnTo>
                  <a:lnTo>
                    <a:pt x="6634" y="4696"/>
                  </a:lnTo>
                  <a:lnTo>
                    <a:pt x="6612" y="4706"/>
                  </a:lnTo>
                  <a:lnTo>
                    <a:pt x="6560" y="4710"/>
                  </a:lnTo>
                  <a:lnTo>
                    <a:pt x="6548" y="4708"/>
                  </a:lnTo>
                  <a:lnTo>
                    <a:pt x="6538" y="4700"/>
                  </a:lnTo>
                  <a:lnTo>
                    <a:pt x="6518" y="4694"/>
                  </a:lnTo>
                  <a:lnTo>
                    <a:pt x="6512" y="4700"/>
                  </a:lnTo>
                  <a:lnTo>
                    <a:pt x="6502" y="4700"/>
                  </a:lnTo>
                  <a:lnTo>
                    <a:pt x="6484" y="4696"/>
                  </a:lnTo>
                  <a:lnTo>
                    <a:pt x="6468" y="4684"/>
                  </a:lnTo>
                  <a:lnTo>
                    <a:pt x="6466" y="4672"/>
                  </a:lnTo>
                  <a:lnTo>
                    <a:pt x="6468" y="4662"/>
                  </a:lnTo>
                  <a:lnTo>
                    <a:pt x="6478" y="4626"/>
                  </a:lnTo>
                  <a:lnTo>
                    <a:pt x="6452" y="4610"/>
                  </a:lnTo>
                  <a:lnTo>
                    <a:pt x="6494" y="4486"/>
                  </a:lnTo>
                  <a:lnTo>
                    <a:pt x="6534" y="4378"/>
                  </a:lnTo>
                  <a:lnTo>
                    <a:pt x="6496" y="4322"/>
                  </a:lnTo>
                  <a:lnTo>
                    <a:pt x="6480" y="4320"/>
                  </a:lnTo>
                  <a:lnTo>
                    <a:pt x="6456" y="4342"/>
                  </a:lnTo>
                  <a:lnTo>
                    <a:pt x="6414" y="4348"/>
                  </a:lnTo>
                  <a:lnTo>
                    <a:pt x="6390" y="4338"/>
                  </a:lnTo>
                  <a:lnTo>
                    <a:pt x="6390" y="4330"/>
                  </a:lnTo>
                  <a:lnTo>
                    <a:pt x="6388" y="4316"/>
                  </a:lnTo>
                  <a:lnTo>
                    <a:pt x="6376" y="4302"/>
                  </a:lnTo>
                  <a:lnTo>
                    <a:pt x="6366" y="4300"/>
                  </a:lnTo>
                  <a:lnTo>
                    <a:pt x="6348" y="4308"/>
                  </a:lnTo>
                  <a:lnTo>
                    <a:pt x="6252" y="4398"/>
                  </a:lnTo>
                  <a:lnTo>
                    <a:pt x="6224" y="4448"/>
                  </a:lnTo>
                  <a:lnTo>
                    <a:pt x="6202" y="4476"/>
                  </a:lnTo>
                  <a:lnTo>
                    <a:pt x="6194" y="4488"/>
                  </a:lnTo>
                  <a:lnTo>
                    <a:pt x="6178" y="4504"/>
                  </a:lnTo>
                  <a:lnTo>
                    <a:pt x="6164" y="4522"/>
                  </a:lnTo>
                  <a:lnTo>
                    <a:pt x="6130" y="4598"/>
                  </a:lnTo>
                  <a:lnTo>
                    <a:pt x="6124" y="4604"/>
                  </a:lnTo>
                  <a:lnTo>
                    <a:pt x="6104" y="4614"/>
                  </a:lnTo>
                  <a:lnTo>
                    <a:pt x="6094" y="4624"/>
                  </a:lnTo>
                  <a:lnTo>
                    <a:pt x="6088" y="4634"/>
                  </a:lnTo>
                  <a:lnTo>
                    <a:pt x="6086" y="4648"/>
                  </a:lnTo>
                  <a:lnTo>
                    <a:pt x="6084" y="4652"/>
                  </a:lnTo>
                  <a:lnTo>
                    <a:pt x="6070" y="4646"/>
                  </a:lnTo>
                  <a:lnTo>
                    <a:pt x="6066" y="4646"/>
                  </a:lnTo>
                  <a:lnTo>
                    <a:pt x="6062" y="4662"/>
                  </a:lnTo>
                  <a:lnTo>
                    <a:pt x="6042" y="4650"/>
                  </a:lnTo>
                  <a:lnTo>
                    <a:pt x="6020" y="4656"/>
                  </a:lnTo>
                  <a:lnTo>
                    <a:pt x="6010" y="4660"/>
                  </a:lnTo>
                  <a:lnTo>
                    <a:pt x="5984" y="4662"/>
                  </a:lnTo>
                  <a:lnTo>
                    <a:pt x="5972" y="4670"/>
                  </a:lnTo>
                  <a:lnTo>
                    <a:pt x="5946" y="4704"/>
                  </a:lnTo>
                  <a:lnTo>
                    <a:pt x="5942" y="4704"/>
                  </a:lnTo>
                  <a:lnTo>
                    <a:pt x="5722" y="4692"/>
                  </a:lnTo>
                  <a:lnTo>
                    <a:pt x="5554" y="4684"/>
                  </a:lnTo>
                  <a:lnTo>
                    <a:pt x="5522" y="4682"/>
                  </a:lnTo>
                  <a:lnTo>
                    <a:pt x="5472" y="4712"/>
                  </a:lnTo>
                  <a:lnTo>
                    <a:pt x="5422" y="4734"/>
                  </a:lnTo>
                  <a:lnTo>
                    <a:pt x="5408" y="4748"/>
                  </a:lnTo>
                  <a:lnTo>
                    <a:pt x="5408" y="4748"/>
                  </a:lnTo>
                  <a:lnTo>
                    <a:pt x="5364" y="4780"/>
                  </a:lnTo>
                  <a:lnTo>
                    <a:pt x="5334" y="4784"/>
                  </a:lnTo>
                  <a:lnTo>
                    <a:pt x="5252" y="4812"/>
                  </a:lnTo>
                  <a:lnTo>
                    <a:pt x="5228" y="4822"/>
                  </a:lnTo>
                  <a:lnTo>
                    <a:pt x="5228" y="4808"/>
                  </a:lnTo>
                  <a:lnTo>
                    <a:pt x="5220" y="4806"/>
                  </a:lnTo>
                  <a:lnTo>
                    <a:pt x="5198" y="4808"/>
                  </a:lnTo>
                  <a:lnTo>
                    <a:pt x="5192" y="4816"/>
                  </a:lnTo>
                  <a:lnTo>
                    <a:pt x="5204" y="4816"/>
                  </a:lnTo>
                  <a:lnTo>
                    <a:pt x="5208" y="4842"/>
                  </a:lnTo>
                  <a:lnTo>
                    <a:pt x="5206" y="4852"/>
                  </a:lnTo>
                  <a:lnTo>
                    <a:pt x="5184" y="4856"/>
                  </a:lnTo>
                  <a:lnTo>
                    <a:pt x="5180" y="4844"/>
                  </a:lnTo>
                  <a:lnTo>
                    <a:pt x="5156" y="4842"/>
                  </a:lnTo>
                  <a:lnTo>
                    <a:pt x="5142" y="4836"/>
                  </a:lnTo>
                  <a:lnTo>
                    <a:pt x="5114" y="4832"/>
                  </a:lnTo>
                  <a:lnTo>
                    <a:pt x="5074" y="4832"/>
                  </a:lnTo>
                  <a:lnTo>
                    <a:pt x="4932" y="4864"/>
                  </a:lnTo>
                  <a:lnTo>
                    <a:pt x="4890" y="4886"/>
                  </a:lnTo>
                  <a:lnTo>
                    <a:pt x="4870" y="4900"/>
                  </a:lnTo>
                  <a:lnTo>
                    <a:pt x="4860" y="4912"/>
                  </a:lnTo>
                  <a:lnTo>
                    <a:pt x="4822" y="4940"/>
                  </a:lnTo>
                  <a:lnTo>
                    <a:pt x="4868" y="4960"/>
                  </a:lnTo>
                  <a:lnTo>
                    <a:pt x="4886" y="4956"/>
                  </a:lnTo>
                  <a:lnTo>
                    <a:pt x="4912" y="4954"/>
                  </a:lnTo>
                  <a:lnTo>
                    <a:pt x="4910" y="4976"/>
                  </a:lnTo>
                  <a:lnTo>
                    <a:pt x="4912" y="4994"/>
                  </a:lnTo>
                  <a:lnTo>
                    <a:pt x="4908" y="5024"/>
                  </a:lnTo>
                  <a:lnTo>
                    <a:pt x="4860" y="5012"/>
                  </a:lnTo>
                  <a:lnTo>
                    <a:pt x="4844" y="5012"/>
                  </a:lnTo>
                  <a:lnTo>
                    <a:pt x="4818" y="5012"/>
                  </a:lnTo>
                  <a:lnTo>
                    <a:pt x="4806" y="5012"/>
                  </a:lnTo>
                  <a:lnTo>
                    <a:pt x="4762" y="5018"/>
                  </a:lnTo>
                  <a:lnTo>
                    <a:pt x="4730" y="5028"/>
                  </a:lnTo>
                  <a:lnTo>
                    <a:pt x="4682" y="5058"/>
                  </a:lnTo>
                  <a:lnTo>
                    <a:pt x="4660" y="5048"/>
                  </a:lnTo>
                  <a:lnTo>
                    <a:pt x="4616" y="5036"/>
                  </a:lnTo>
                  <a:lnTo>
                    <a:pt x="4568" y="5048"/>
                  </a:lnTo>
                  <a:lnTo>
                    <a:pt x="4554" y="5054"/>
                  </a:lnTo>
                  <a:lnTo>
                    <a:pt x="4540" y="5062"/>
                  </a:lnTo>
                  <a:lnTo>
                    <a:pt x="4510" y="5096"/>
                  </a:lnTo>
                  <a:lnTo>
                    <a:pt x="4504" y="5092"/>
                  </a:lnTo>
                  <a:lnTo>
                    <a:pt x="4474" y="5100"/>
                  </a:lnTo>
                  <a:lnTo>
                    <a:pt x="4456" y="5114"/>
                  </a:lnTo>
                  <a:lnTo>
                    <a:pt x="4426" y="5126"/>
                  </a:lnTo>
                  <a:lnTo>
                    <a:pt x="4408" y="5138"/>
                  </a:lnTo>
                  <a:lnTo>
                    <a:pt x="4402" y="5150"/>
                  </a:lnTo>
                  <a:lnTo>
                    <a:pt x="4372" y="5140"/>
                  </a:lnTo>
                  <a:lnTo>
                    <a:pt x="4358" y="5144"/>
                  </a:lnTo>
                  <a:lnTo>
                    <a:pt x="4322" y="5140"/>
                  </a:lnTo>
                  <a:lnTo>
                    <a:pt x="4334" y="5112"/>
                  </a:lnTo>
                  <a:lnTo>
                    <a:pt x="4354" y="5086"/>
                  </a:lnTo>
                  <a:lnTo>
                    <a:pt x="4372" y="5074"/>
                  </a:lnTo>
                  <a:lnTo>
                    <a:pt x="4374" y="5084"/>
                  </a:lnTo>
                  <a:lnTo>
                    <a:pt x="4394" y="5090"/>
                  </a:lnTo>
                  <a:lnTo>
                    <a:pt x="4416" y="5088"/>
                  </a:lnTo>
                  <a:lnTo>
                    <a:pt x="4426" y="5084"/>
                  </a:lnTo>
                  <a:lnTo>
                    <a:pt x="4432" y="5076"/>
                  </a:lnTo>
                  <a:lnTo>
                    <a:pt x="4438" y="5066"/>
                  </a:lnTo>
                  <a:lnTo>
                    <a:pt x="4438" y="5060"/>
                  </a:lnTo>
                  <a:lnTo>
                    <a:pt x="4430" y="5052"/>
                  </a:lnTo>
                  <a:lnTo>
                    <a:pt x="4434" y="5036"/>
                  </a:lnTo>
                  <a:lnTo>
                    <a:pt x="4434" y="5036"/>
                  </a:lnTo>
                  <a:lnTo>
                    <a:pt x="4476" y="4974"/>
                  </a:lnTo>
                  <a:lnTo>
                    <a:pt x="4484" y="4956"/>
                  </a:lnTo>
                  <a:lnTo>
                    <a:pt x="4504" y="4958"/>
                  </a:lnTo>
                  <a:lnTo>
                    <a:pt x="4520" y="4948"/>
                  </a:lnTo>
                  <a:lnTo>
                    <a:pt x="4530" y="4936"/>
                  </a:lnTo>
                  <a:lnTo>
                    <a:pt x="4550" y="4934"/>
                  </a:lnTo>
                  <a:lnTo>
                    <a:pt x="4578" y="4914"/>
                  </a:lnTo>
                  <a:lnTo>
                    <a:pt x="4602" y="4878"/>
                  </a:lnTo>
                  <a:lnTo>
                    <a:pt x="4614" y="4842"/>
                  </a:lnTo>
                  <a:lnTo>
                    <a:pt x="4624" y="4804"/>
                  </a:lnTo>
                  <a:lnTo>
                    <a:pt x="4636" y="4778"/>
                  </a:lnTo>
                  <a:lnTo>
                    <a:pt x="4702" y="4716"/>
                  </a:lnTo>
                  <a:lnTo>
                    <a:pt x="4718" y="4698"/>
                  </a:lnTo>
                  <a:lnTo>
                    <a:pt x="4726" y="4682"/>
                  </a:lnTo>
                  <a:lnTo>
                    <a:pt x="4732" y="4666"/>
                  </a:lnTo>
                  <a:lnTo>
                    <a:pt x="4736" y="4638"/>
                  </a:lnTo>
                  <a:lnTo>
                    <a:pt x="4736" y="4608"/>
                  </a:lnTo>
                  <a:lnTo>
                    <a:pt x="4730" y="4604"/>
                  </a:lnTo>
                  <a:lnTo>
                    <a:pt x="4730" y="4592"/>
                  </a:lnTo>
                  <a:lnTo>
                    <a:pt x="4734" y="4586"/>
                  </a:lnTo>
                  <a:lnTo>
                    <a:pt x="4766" y="4596"/>
                  </a:lnTo>
                  <a:lnTo>
                    <a:pt x="4760" y="4626"/>
                  </a:lnTo>
                  <a:lnTo>
                    <a:pt x="4762" y="4654"/>
                  </a:lnTo>
                  <a:lnTo>
                    <a:pt x="4766" y="4656"/>
                  </a:lnTo>
                  <a:lnTo>
                    <a:pt x="4778" y="4648"/>
                  </a:lnTo>
                  <a:lnTo>
                    <a:pt x="4788" y="4642"/>
                  </a:lnTo>
                  <a:lnTo>
                    <a:pt x="4770" y="4674"/>
                  </a:lnTo>
                  <a:lnTo>
                    <a:pt x="4780" y="4674"/>
                  </a:lnTo>
                  <a:lnTo>
                    <a:pt x="4776" y="4692"/>
                  </a:lnTo>
                  <a:lnTo>
                    <a:pt x="4772" y="4706"/>
                  </a:lnTo>
                  <a:lnTo>
                    <a:pt x="4796" y="4688"/>
                  </a:lnTo>
                  <a:lnTo>
                    <a:pt x="4804" y="4686"/>
                  </a:lnTo>
                  <a:lnTo>
                    <a:pt x="4806" y="4704"/>
                  </a:lnTo>
                  <a:lnTo>
                    <a:pt x="4816" y="4712"/>
                  </a:lnTo>
                  <a:lnTo>
                    <a:pt x="4838" y="4724"/>
                  </a:lnTo>
                  <a:lnTo>
                    <a:pt x="4870" y="4724"/>
                  </a:lnTo>
                  <a:lnTo>
                    <a:pt x="4886" y="4712"/>
                  </a:lnTo>
                  <a:lnTo>
                    <a:pt x="4890" y="4700"/>
                  </a:lnTo>
                  <a:lnTo>
                    <a:pt x="4888" y="4678"/>
                  </a:lnTo>
                  <a:lnTo>
                    <a:pt x="4894" y="4670"/>
                  </a:lnTo>
                  <a:lnTo>
                    <a:pt x="4902" y="4668"/>
                  </a:lnTo>
                  <a:lnTo>
                    <a:pt x="4910" y="4682"/>
                  </a:lnTo>
                  <a:lnTo>
                    <a:pt x="4928" y="4682"/>
                  </a:lnTo>
                  <a:lnTo>
                    <a:pt x="4938" y="4678"/>
                  </a:lnTo>
                  <a:lnTo>
                    <a:pt x="4940" y="4674"/>
                  </a:lnTo>
                  <a:lnTo>
                    <a:pt x="4938" y="4666"/>
                  </a:lnTo>
                  <a:lnTo>
                    <a:pt x="4938" y="4662"/>
                  </a:lnTo>
                  <a:lnTo>
                    <a:pt x="4922" y="4650"/>
                  </a:lnTo>
                  <a:lnTo>
                    <a:pt x="4914" y="4624"/>
                  </a:lnTo>
                  <a:lnTo>
                    <a:pt x="4924" y="4618"/>
                  </a:lnTo>
                  <a:lnTo>
                    <a:pt x="4926" y="4598"/>
                  </a:lnTo>
                  <a:lnTo>
                    <a:pt x="4934" y="4582"/>
                  </a:lnTo>
                  <a:lnTo>
                    <a:pt x="4920" y="4580"/>
                  </a:lnTo>
                  <a:lnTo>
                    <a:pt x="4908" y="4572"/>
                  </a:lnTo>
                  <a:lnTo>
                    <a:pt x="4904" y="4556"/>
                  </a:lnTo>
                  <a:lnTo>
                    <a:pt x="4890" y="4538"/>
                  </a:lnTo>
                  <a:lnTo>
                    <a:pt x="4896" y="4496"/>
                  </a:lnTo>
                  <a:lnTo>
                    <a:pt x="4878" y="4484"/>
                  </a:lnTo>
                  <a:lnTo>
                    <a:pt x="4860" y="4476"/>
                  </a:lnTo>
                  <a:lnTo>
                    <a:pt x="4820" y="4468"/>
                  </a:lnTo>
                  <a:lnTo>
                    <a:pt x="4790" y="4472"/>
                  </a:lnTo>
                  <a:lnTo>
                    <a:pt x="4792" y="4460"/>
                  </a:lnTo>
                  <a:lnTo>
                    <a:pt x="4796" y="4450"/>
                  </a:lnTo>
                  <a:lnTo>
                    <a:pt x="4766" y="4452"/>
                  </a:lnTo>
                  <a:lnTo>
                    <a:pt x="4738" y="4446"/>
                  </a:lnTo>
                  <a:lnTo>
                    <a:pt x="4702" y="4436"/>
                  </a:lnTo>
                  <a:lnTo>
                    <a:pt x="4692" y="4430"/>
                  </a:lnTo>
                  <a:lnTo>
                    <a:pt x="4684" y="4432"/>
                  </a:lnTo>
                  <a:lnTo>
                    <a:pt x="4670" y="4430"/>
                  </a:lnTo>
                  <a:lnTo>
                    <a:pt x="4662" y="4420"/>
                  </a:lnTo>
                  <a:lnTo>
                    <a:pt x="4634" y="4424"/>
                  </a:lnTo>
                  <a:lnTo>
                    <a:pt x="4624" y="4428"/>
                  </a:lnTo>
                  <a:lnTo>
                    <a:pt x="4612" y="4424"/>
                  </a:lnTo>
                  <a:lnTo>
                    <a:pt x="4550" y="4392"/>
                  </a:lnTo>
                  <a:lnTo>
                    <a:pt x="4522" y="4392"/>
                  </a:lnTo>
                  <a:lnTo>
                    <a:pt x="4506" y="4396"/>
                  </a:lnTo>
                  <a:lnTo>
                    <a:pt x="4514" y="4380"/>
                  </a:lnTo>
                  <a:lnTo>
                    <a:pt x="4508" y="4348"/>
                  </a:lnTo>
                  <a:lnTo>
                    <a:pt x="4506" y="4342"/>
                  </a:lnTo>
                  <a:lnTo>
                    <a:pt x="4500" y="4344"/>
                  </a:lnTo>
                  <a:lnTo>
                    <a:pt x="4496" y="4350"/>
                  </a:lnTo>
                  <a:lnTo>
                    <a:pt x="4492" y="4362"/>
                  </a:lnTo>
                  <a:lnTo>
                    <a:pt x="4474" y="4360"/>
                  </a:lnTo>
                  <a:lnTo>
                    <a:pt x="4480" y="4360"/>
                  </a:lnTo>
                  <a:lnTo>
                    <a:pt x="4482" y="4356"/>
                  </a:lnTo>
                  <a:lnTo>
                    <a:pt x="4476" y="4354"/>
                  </a:lnTo>
                  <a:lnTo>
                    <a:pt x="4482" y="4338"/>
                  </a:lnTo>
                  <a:lnTo>
                    <a:pt x="4498" y="4320"/>
                  </a:lnTo>
                  <a:lnTo>
                    <a:pt x="4488" y="4322"/>
                  </a:lnTo>
                  <a:lnTo>
                    <a:pt x="4492" y="4310"/>
                  </a:lnTo>
                  <a:lnTo>
                    <a:pt x="4512" y="4294"/>
                  </a:lnTo>
                  <a:lnTo>
                    <a:pt x="4490" y="4278"/>
                  </a:lnTo>
                  <a:lnTo>
                    <a:pt x="4496" y="4248"/>
                  </a:lnTo>
                  <a:lnTo>
                    <a:pt x="4522" y="4214"/>
                  </a:lnTo>
                  <a:lnTo>
                    <a:pt x="4506" y="4174"/>
                  </a:lnTo>
                  <a:lnTo>
                    <a:pt x="4506" y="4158"/>
                  </a:lnTo>
                  <a:lnTo>
                    <a:pt x="4528" y="4122"/>
                  </a:lnTo>
                  <a:lnTo>
                    <a:pt x="4546" y="4100"/>
                  </a:lnTo>
                  <a:lnTo>
                    <a:pt x="4490" y="4106"/>
                  </a:lnTo>
                  <a:lnTo>
                    <a:pt x="4442" y="4104"/>
                  </a:lnTo>
                  <a:lnTo>
                    <a:pt x="4426" y="4084"/>
                  </a:lnTo>
                  <a:lnTo>
                    <a:pt x="4426" y="4016"/>
                  </a:lnTo>
                  <a:lnTo>
                    <a:pt x="4430" y="3980"/>
                  </a:lnTo>
                  <a:lnTo>
                    <a:pt x="4426" y="3964"/>
                  </a:lnTo>
                  <a:lnTo>
                    <a:pt x="4408" y="3962"/>
                  </a:lnTo>
                  <a:lnTo>
                    <a:pt x="4386" y="3950"/>
                  </a:lnTo>
                  <a:lnTo>
                    <a:pt x="4354" y="3948"/>
                  </a:lnTo>
                  <a:lnTo>
                    <a:pt x="4314" y="4030"/>
                  </a:lnTo>
                  <a:lnTo>
                    <a:pt x="4318" y="3934"/>
                  </a:lnTo>
                  <a:lnTo>
                    <a:pt x="4256" y="3904"/>
                  </a:lnTo>
                  <a:lnTo>
                    <a:pt x="4242" y="3910"/>
                  </a:lnTo>
                  <a:lnTo>
                    <a:pt x="4236" y="3916"/>
                  </a:lnTo>
                  <a:lnTo>
                    <a:pt x="4218" y="3958"/>
                  </a:lnTo>
                  <a:lnTo>
                    <a:pt x="4210" y="3964"/>
                  </a:lnTo>
                  <a:lnTo>
                    <a:pt x="4186" y="3974"/>
                  </a:lnTo>
                  <a:lnTo>
                    <a:pt x="4166" y="3992"/>
                  </a:lnTo>
                  <a:lnTo>
                    <a:pt x="4156" y="3998"/>
                  </a:lnTo>
                  <a:lnTo>
                    <a:pt x="4158" y="3982"/>
                  </a:lnTo>
                  <a:lnTo>
                    <a:pt x="4180" y="3962"/>
                  </a:lnTo>
                  <a:lnTo>
                    <a:pt x="4196" y="3944"/>
                  </a:lnTo>
                  <a:lnTo>
                    <a:pt x="4198" y="3934"/>
                  </a:lnTo>
                  <a:lnTo>
                    <a:pt x="4180" y="3950"/>
                  </a:lnTo>
                  <a:lnTo>
                    <a:pt x="4134" y="3998"/>
                  </a:lnTo>
                  <a:lnTo>
                    <a:pt x="4124" y="4006"/>
                  </a:lnTo>
                  <a:lnTo>
                    <a:pt x="4108" y="4010"/>
                  </a:lnTo>
                  <a:lnTo>
                    <a:pt x="4112" y="3992"/>
                  </a:lnTo>
                  <a:lnTo>
                    <a:pt x="4124" y="3970"/>
                  </a:lnTo>
                  <a:lnTo>
                    <a:pt x="4078" y="4000"/>
                  </a:lnTo>
                  <a:lnTo>
                    <a:pt x="4050" y="4032"/>
                  </a:lnTo>
                  <a:lnTo>
                    <a:pt x="4036" y="4038"/>
                  </a:lnTo>
                  <a:lnTo>
                    <a:pt x="4028" y="4048"/>
                  </a:lnTo>
                  <a:lnTo>
                    <a:pt x="3972" y="4066"/>
                  </a:lnTo>
                  <a:lnTo>
                    <a:pt x="3962" y="4064"/>
                  </a:lnTo>
                  <a:lnTo>
                    <a:pt x="3938" y="4048"/>
                  </a:lnTo>
                  <a:lnTo>
                    <a:pt x="3884" y="4042"/>
                  </a:lnTo>
                  <a:lnTo>
                    <a:pt x="3854" y="4028"/>
                  </a:lnTo>
                  <a:lnTo>
                    <a:pt x="3832" y="4028"/>
                  </a:lnTo>
                  <a:lnTo>
                    <a:pt x="3798" y="4040"/>
                  </a:lnTo>
                  <a:lnTo>
                    <a:pt x="3784" y="4040"/>
                  </a:lnTo>
                  <a:lnTo>
                    <a:pt x="3764" y="4026"/>
                  </a:lnTo>
                  <a:lnTo>
                    <a:pt x="3758" y="4004"/>
                  </a:lnTo>
                  <a:lnTo>
                    <a:pt x="3736" y="3996"/>
                  </a:lnTo>
                  <a:lnTo>
                    <a:pt x="3726" y="3982"/>
                  </a:lnTo>
                  <a:lnTo>
                    <a:pt x="3710" y="3974"/>
                  </a:lnTo>
                  <a:lnTo>
                    <a:pt x="3702" y="3968"/>
                  </a:lnTo>
                  <a:lnTo>
                    <a:pt x="3698" y="3952"/>
                  </a:lnTo>
                  <a:lnTo>
                    <a:pt x="3684" y="3940"/>
                  </a:lnTo>
                  <a:lnTo>
                    <a:pt x="3668" y="3930"/>
                  </a:lnTo>
                  <a:lnTo>
                    <a:pt x="3614" y="3922"/>
                  </a:lnTo>
                  <a:lnTo>
                    <a:pt x="3592" y="3932"/>
                  </a:lnTo>
                  <a:lnTo>
                    <a:pt x="3568" y="3932"/>
                  </a:lnTo>
                  <a:lnTo>
                    <a:pt x="3556" y="3924"/>
                  </a:lnTo>
                  <a:lnTo>
                    <a:pt x="3556" y="3922"/>
                  </a:lnTo>
                  <a:lnTo>
                    <a:pt x="3554" y="3916"/>
                  </a:lnTo>
                  <a:lnTo>
                    <a:pt x="3532" y="3908"/>
                  </a:lnTo>
                  <a:lnTo>
                    <a:pt x="3524" y="3900"/>
                  </a:lnTo>
                  <a:lnTo>
                    <a:pt x="3502" y="3902"/>
                  </a:lnTo>
                  <a:lnTo>
                    <a:pt x="3492" y="3902"/>
                  </a:lnTo>
                  <a:lnTo>
                    <a:pt x="3490" y="3898"/>
                  </a:lnTo>
                  <a:lnTo>
                    <a:pt x="3472" y="3898"/>
                  </a:lnTo>
                  <a:lnTo>
                    <a:pt x="3478" y="3854"/>
                  </a:lnTo>
                  <a:lnTo>
                    <a:pt x="3476" y="3850"/>
                  </a:lnTo>
                  <a:lnTo>
                    <a:pt x="3486" y="3782"/>
                  </a:lnTo>
                  <a:lnTo>
                    <a:pt x="3472" y="3778"/>
                  </a:lnTo>
                  <a:lnTo>
                    <a:pt x="3464" y="3778"/>
                  </a:lnTo>
                  <a:lnTo>
                    <a:pt x="3424" y="3852"/>
                  </a:lnTo>
                  <a:lnTo>
                    <a:pt x="3296" y="3842"/>
                  </a:lnTo>
                  <a:lnTo>
                    <a:pt x="3180" y="3834"/>
                  </a:lnTo>
                  <a:lnTo>
                    <a:pt x="3156" y="3832"/>
                  </a:lnTo>
                  <a:lnTo>
                    <a:pt x="3058" y="3824"/>
                  </a:lnTo>
                  <a:lnTo>
                    <a:pt x="2956" y="3816"/>
                  </a:lnTo>
                  <a:lnTo>
                    <a:pt x="2844" y="3808"/>
                  </a:lnTo>
                  <a:lnTo>
                    <a:pt x="2736" y="3798"/>
                  </a:lnTo>
                  <a:lnTo>
                    <a:pt x="2700" y="3796"/>
                  </a:lnTo>
                  <a:lnTo>
                    <a:pt x="2392" y="3770"/>
                  </a:lnTo>
                  <a:lnTo>
                    <a:pt x="2300" y="3762"/>
                  </a:lnTo>
                  <a:lnTo>
                    <a:pt x="2188" y="3752"/>
                  </a:lnTo>
                  <a:lnTo>
                    <a:pt x="2084" y="3744"/>
                  </a:lnTo>
                  <a:lnTo>
                    <a:pt x="1988" y="3734"/>
                  </a:lnTo>
                  <a:lnTo>
                    <a:pt x="1886" y="3726"/>
                  </a:lnTo>
                  <a:lnTo>
                    <a:pt x="1774" y="3716"/>
                  </a:lnTo>
                  <a:lnTo>
                    <a:pt x="1706" y="3710"/>
                  </a:lnTo>
                  <a:lnTo>
                    <a:pt x="1604" y="3700"/>
                  </a:lnTo>
                  <a:lnTo>
                    <a:pt x="1492" y="3690"/>
                  </a:lnTo>
                  <a:lnTo>
                    <a:pt x="1388" y="3680"/>
                  </a:lnTo>
                  <a:lnTo>
                    <a:pt x="1244" y="3666"/>
                  </a:lnTo>
                  <a:lnTo>
                    <a:pt x="1018" y="3644"/>
                  </a:lnTo>
                  <a:lnTo>
                    <a:pt x="908" y="3634"/>
                  </a:lnTo>
                  <a:lnTo>
                    <a:pt x="800" y="3624"/>
                  </a:lnTo>
                  <a:lnTo>
                    <a:pt x="704" y="3614"/>
                  </a:lnTo>
                  <a:lnTo>
                    <a:pt x="606" y="3604"/>
                  </a:lnTo>
                  <a:lnTo>
                    <a:pt x="496" y="3592"/>
                  </a:lnTo>
                  <a:lnTo>
                    <a:pt x="392" y="3582"/>
                  </a:lnTo>
                  <a:lnTo>
                    <a:pt x="264" y="3568"/>
                  </a:lnTo>
                  <a:lnTo>
                    <a:pt x="270" y="3558"/>
                  </a:lnTo>
                  <a:lnTo>
                    <a:pt x="262" y="3548"/>
                  </a:lnTo>
                  <a:lnTo>
                    <a:pt x="250" y="3550"/>
                  </a:lnTo>
                  <a:lnTo>
                    <a:pt x="250" y="3544"/>
                  </a:lnTo>
                  <a:lnTo>
                    <a:pt x="258" y="3538"/>
                  </a:lnTo>
                  <a:lnTo>
                    <a:pt x="288" y="3530"/>
                  </a:lnTo>
                  <a:lnTo>
                    <a:pt x="308" y="3538"/>
                  </a:lnTo>
                  <a:lnTo>
                    <a:pt x="316" y="3526"/>
                  </a:lnTo>
                  <a:lnTo>
                    <a:pt x="310" y="3524"/>
                  </a:lnTo>
                  <a:lnTo>
                    <a:pt x="312" y="3518"/>
                  </a:lnTo>
                  <a:lnTo>
                    <a:pt x="310" y="3514"/>
                  </a:lnTo>
                  <a:lnTo>
                    <a:pt x="278" y="3520"/>
                  </a:lnTo>
                  <a:lnTo>
                    <a:pt x="256" y="3514"/>
                  </a:lnTo>
                  <a:lnTo>
                    <a:pt x="258" y="3508"/>
                  </a:lnTo>
                  <a:lnTo>
                    <a:pt x="262" y="3506"/>
                  </a:lnTo>
                  <a:lnTo>
                    <a:pt x="264" y="3496"/>
                  </a:lnTo>
                  <a:lnTo>
                    <a:pt x="268" y="3490"/>
                  </a:lnTo>
                  <a:lnTo>
                    <a:pt x="276" y="3486"/>
                  </a:lnTo>
                  <a:lnTo>
                    <a:pt x="312" y="3438"/>
                  </a:lnTo>
                  <a:lnTo>
                    <a:pt x="306" y="3434"/>
                  </a:lnTo>
                  <a:lnTo>
                    <a:pt x="296" y="3444"/>
                  </a:lnTo>
                  <a:lnTo>
                    <a:pt x="266" y="3460"/>
                  </a:lnTo>
                  <a:lnTo>
                    <a:pt x="238" y="3480"/>
                  </a:lnTo>
                  <a:lnTo>
                    <a:pt x="230" y="3476"/>
                  </a:lnTo>
                  <a:lnTo>
                    <a:pt x="236" y="3460"/>
                  </a:lnTo>
                  <a:lnTo>
                    <a:pt x="240" y="3454"/>
                  </a:lnTo>
                  <a:lnTo>
                    <a:pt x="262" y="3432"/>
                  </a:lnTo>
                  <a:lnTo>
                    <a:pt x="248" y="3432"/>
                  </a:lnTo>
                  <a:lnTo>
                    <a:pt x="256" y="3420"/>
                  </a:lnTo>
                  <a:lnTo>
                    <a:pt x="250" y="3420"/>
                  </a:lnTo>
                  <a:lnTo>
                    <a:pt x="254" y="3408"/>
                  </a:lnTo>
                  <a:lnTo>
                    <a:pt x="260" y="3400"/>
                  </a:lnTo>
                  <a:lnTo>
                    <a:pt x="260" y="3388"/>
                  </a:lnTo>
                  <a:lnTo>
                    <a:pt x="266" y="3372"/>
                  </a:lnTo>
                  <a:lnTo>
                    <a:pt x="260" y="3374"/>
                  </a:lnTo>
                  <a:lnTo>
                    <a:pt x="252" y="3392"/>
                  </a:lnTo>
                  <a:lnTo>
                    <a:pt x="244" y="3402"/>
                  </a:lnTo>
                  <a:lnTo>
                    <a:pt x="244" y="3384"/>
                  </a:lnTo>
                  <a:lnTo>
                    <a:pt x="222" y="3402"/>
                  </a:lnTo>
                  <a:lnTo>
                    <a:pt x="210" y="3408"/>
                  </a:lnTo>
                  <a:lnTo>
                    <a:pt x="186" y="3404"/>
                  </a:lnTo>
                  <a:lnTo>
                    <a:pt x="178" y="3388"/>
                  </a:lnTo>
                  <a:lnTo>
                    <a:pt x="178" y="3378"/>
                  </a:lnTo>
                  <a:lnTo>
                    <a:pt x="176" y="3364"/>
                  </a:lnTo>
                  <a:lnTo>
                    <a:pt x="180" y="3354"/>
                  </a:lnTo>
                  <a:lnTo>
                    <a:pt x="206" y="3342"/>
                  </a:lnTo>
                  <a:lnTo>
                    <a:pt x="214" y="3336"/>
                  </a:lnTo>
                  <a:lnTo>
                    <a:pt x="222" y="3322"/>
                  </a:lnTo>
                  <a:lnTo>
                    <a:pt x="224" y="3312"/>
                  </a:lnTo>
                  <a:lnTo>
                    <a:pt x="242" y="3298"/>
                  </a:lnTo>
                  <a:lnTo>
                    <a:pt x="236" y="3294"/>
                  </a:lnTo>
                  <a:lnTo>
                    <a:pt x="216" y="3302"/>
                  </a:lnTo>
                  <a:lnTo>
                    <a:pt x="202" y="3302"/>
                  </a:lnTo>
                  <a:lnTo>
                    <a:pt x="204" y="3292"/>
                  </a:lnTo>
                  <a:lnTo>
                    <a:pt x="214" y="3272"/>
                  </a:lnTo>
                  <a:lnTo>
                    <a:pt x="208" y="3272"/>
                  </a:lnTo>
                  <a:lnTo>
                    <a:pt x="176" y="3282"/>
                  </a:lnTo>
                  <a:lnTo>
                    <a:pt x="160" y="3272"/>
                  </a:lnTo>
                  <a:lnTo>
                    <a:pt x="148" y="3276"/>
                  </a:lnTo>
                  <a:lnTo>
                    <a:pt x="144" y="3262"/>
                  </a:lnTo>
                  <a:lnTo>
                    <a:pt x="134" y="3270"/>
                  </a:lnTo>
                  <a:lnTo>
                    <a:pt x="122" y="3276"/>
                  </a:lnTo>
                  <a:lnTo>
                    <a:pt x="118" y="3268"/>
                  </a:lnTo>
                  <a:lnTo>
                    <a:pt x="64" y="3256"/>
                  </a:lnTo>
                  <a:lnTo>
                    <a:pt x="62" y="3250"/>
                  </a:lnTo>
                  <a:lnTo>
                    <a:pt x="124" y="3242"/>
                  </a:lnTo>
                  <a:lnTo>
                    <a:pt x="134" y="3234"/>
                  </a:lnTo>
                  <a:lnTo>
                    <a:pt x="112" y="3232"/>
                  </a:lnTo>
                  <a:lnTo>
                    <a:pt x="130" y="3214"/>
                  </a:lnTo>
                  <a:lnTo>
                    <a:pt x="118" y="3202"/>
                  </a:lnTo>
                  <a:lnTo>
                    <a:pt x="106" y="3200"/>
                  </a:lnTo>
                  <a:lnTo>
                    <a:pt x="110" y="3198"/>
                  </a:lnTo>
                  <a:lnTo>
                    <a:pt x="122" y="3200"/>
                  </a:lnTo>
                  <a:lnTo>
                    <a:pt x="136" y="3196"/>
                  </a:lnTo>
                  <a:lnTo>
                    <a:pt x="136" y="3182"/>
                  </a:lnTo>
                  <a:lnTo>
                    <a:pt x="106" y="3174"/>
                  </a:lnTo>
                  <a:lnTo>
                    <a:pt x="84" y="3186"/>
                  </a:lnTo>
                  <a:lnTo>
                    <a:pt x="82" y="3178"/>
                  </a:lnTo>
                  <a:lnTo>
                    <a:pt x="48" y="3170"/>
                  </a:lnTo>
                  <a:lnTo>
                    <a:pt x="40" y="3180"/>
                  </a:lnTo>
                  <a:lnTo>
                    <a:pt x="40" y="3186"/>
                  </a:lnTo>
                  <a:lnTo>
                    <a:pt x="28" y="3188"/>
                  </a:lnTo>
                  <a:lnTo>
                    <a:pt x="2" y="3162"/>
                  </a:lnTo>
                  <a:lnTo>
                    <a:pt x="0" y="3140"/>
                  </a:lnTo>
                  <a:lnTo>
                    <a:pt x="4" y="3128"/>
                  </a:lnTo>
                  <a:lnTo>
                    <a:pt x="14" y="3116"/>
                  </a:lnTo>
                  <a:lnTo>
                    <a:pt x="28" y="3112"/>
                  </a:lnTo>
                  <a:lnTo>
                    <a:pt x="40" y="3114"/>
                  </a:lnTo>
                  <a:lnTo>
                    <a:pt x="56" y="3112"/>
                  </a:lnTo>
                  <a:lnTo>
                    <a:pt x="58" y="3102"/>
                  </a:lnTo>
                  <a:lnTo>
                    <a:pt x="52" y="3098"/>
                  </a:lnTo>
                  <a:lnTo>
                    <a:pt x="28" y="3100"/>
                  </a:lnTo>
                  <a:lnTo>
                    <a:pt x="38" y="3090"/>
                  </a:lnTo>
                  <a:lnTo>
                    <a:pt x="66" y="3082"/>
                  </a:lnTo>
                  <a:lnTo>
                    <a:pt x="84" y="3088"/>
                  </a:lnTo>
                  <a:lnTo>
                    <a:pt x="96" y="3084"/>
                  </a:lnTo>
                  <a:lnTo>
                    <a:pt x="80" y="3074"/>
                  </a:lnTo>
                  <a:lnTo>
                    <a:pt x="84" y="3066"/>
                  </a:lnTo>
                  <a:lnTo>
                    <a:pt x="108" y="3052"/>
                  </a:lnTo>
                  <a:lnTo>
                    <a:pt x="108" y="3034"/>
                  </a:lnTo>
                  <a:lnTo>
                    <a:pt x="70" y="3056"/>
                  </a:lnTo>
                  <a:lnTo>
                    <a:pt x="56" y="3058"/>
                  </a:lnTo>
                  <a:lnTo>
                    <a:pt x="54" y="3056"/>
                  </a:lnTo>
                  <a:lnTo>
                    <a:pt x="62" y="3040"/>
                  </a:lnTo>
                  <a:lnTo>
                    <a:pt x="78" y="3018"/>
                  </a:lnTo>
                  <a:lnTo>
                    <a:pt x="104" y="2994"/>
                  </a:lnTo>
                  <a:lnTo>
                    <a:pt x="102" y="2990"/>
                  </a:lnTo>
                  <a:lnTo>
                    <a:pt x="102" y="2984"/>
                  </a:lnTo>
                  <a:lnTo>
                    <a:pt x="112" y="2974"/>
                  </a:lnTo>
                  <a:lnTo>
                    <a:pt x="134" y="2954"/>
                  </a:lnTo>
                  <a:lnTo>
                    <a:pt x="142" y="2942"/>
                  </a:lnTo>
                  <a:lnTo>
                    <a:pt x="138" y="2938"/>
                  </a:lnTo>
                  <a:lnTo>
                    <a:pt x="150" y="2924"/>
                  </a:lnTo>
                  <a:lnTo>
                    <a:pt x="152" y="2914"/>
                  </a:lnTo>
                  <a:lnTo>
                    <a:pt x="122" y="2924"/>
                  </a:lnTo>
                  <a:lnTo>
                    <a:pt x="104" y="2924"/>
                  </a:lnTo>
                  <a:lnTo>
                    <a:pt x="114" y="2914"/>
                  </a:lnTo>
                  <a:lnTo>
                    <a:pt x="120" y="2910"/>
                  </a:lnTo>
                  <a:lnTo>
                    <a:pt x="128" y="2902"/>
                  </a:lnTo>
                  <a:lnTo>
                    <a:pt x="132" y="2892"/>
                  </a:lnTo>
                  <a:lnTo>
                    <a:pt x="120" y="2890"/>
                  </a:lnTo>
                  <a:lnTo>
                    <a:pt x="96" y="2894"/>
                  </a:lnTo>
                  <a:lnTo>
                    <a:pt x="78" y="2888"/>
                  </a:lnTo>
                  <a:lnTo>
                    <a:pt x="78" y="2884"/>
                  </a:lnTo>
                  <a:lnTo>
                    <a:pt x="96" y="2856"/>
                  </a:lnTo>
                  <a:lnTo>
                    <a:pt x="88" y="2850"/>
                  </a:lnTo>
                  <a:lnTo>
                    <a:pt x="92" y="2828"/>
                  </a:lnTo>
                  <a:lnTo>
                    <a:pt x="100" y="2818"/>
                  </a:lnTo>
                  <a:lnTo>
                    <a:pt x="102" y="2804"/>
                  </a:lnTo>
                  <a:lnTo>
                    <a:pt x="126" y="2784"/>
                  </a:lnTo>
                  <a:lnTo>
                    <a:pt x="140" y="2776"/>
                  </a:lnTo>
                  <a:lnTo>
                    <a:pt x="160" y="2752"/>
                  </a:lnTo>
                  <a:lnTo>
                    <a:pt x="176" y="2732"/>
                  </a:lnTo>
                  <a:lnTo>
                    <a:pt x="178" y="2728"/>
                  </a:lnTo>
                  <a:lnTo>
                    <a:pt x="176" y="2722"/>
                  </a:lnTo>
                  <a:lnTo>
                    <a:pt x="156" y="2728"/>
                  </a:lnTo>
                  <a:lnTo>
                    <a:pt x="152" y="2732"/>
                  </a:lnTo>
                  <a:lnTo>
                    <a:pt x="150" y="2730"/>
                  </a:lnTo>
                  <a:lnTo>
                    <a:pt x="152" y="2724"/>
                  </a:lnTo>
                  <a:lnTo>
                    <a:pt x="148" y="2724"/>
                  </a:lnTo>
                  <a:lnTo>
                    <a:pt x="144" y="2690"/>
                  </a:lnTo>
                  <a:lnTo>
                    <a:pt x="150" y="2672"/>
                  </a:lnTo>
                  <a:lnTo>
                    <a:pt x="150" y="2660"/>
                  </a:lnTo>
                  <a:lnTo>
                    <a:pt x="142" y="2634"/>
                  </a:lnTo>
                  <a:lnTo>
                    <a:pt x="144" y="2626"/>
                  </a:lnTo>
                  <a:lnTo>
                    <a:pt x="160" y="2612"/>
                  </a:lnTo>
                  <a:lnTo>
                    <a:pt x="176" y="2604"/>
                  </a:lnTo>
                  <a:lnTo>
                    <a:pt x="190" y="2600"/>
                  </a:lnTo>
                  <a:lnTo>
                    <a:pt x="196" y="2590"/>
                  </a:lnTo>
                  <a:lnTo>
                    <a:pt x="168" y="2588"/>
                  </a:lnTo>
                  <a:lnTo>
                    <a:pt x="162" y="2584"/>
                  </a:lnTo>
                  <a:lnTo>
                    <a:pt x="170" y="2558"/>
                  </a:lnTo>
                  <a:lnTo>
                    <a:pt x="168" y="2552"/>
                  </a:lnTo>
                  <a:lnTo>
                    <a:pt x="190" y="2528"/>
                  </a:lnTo>
                  <a:lnTo>
                    <a:pt x="208" y="2518"/>
                  </a:lnTo>
                  <a:lnTo>
                    <a:pt x="224" y="2508"/>
                  </a:lnTo>
                  <a:lnTo>
                    <a:pt x="238" y="2504"/>
                  </a:lnTo>
                  <a:lnTo>
                    <a:pt x="240" y="2516"/>
                  </a:lnTo>
                  <a:lnTo>
                    <a:pt x="248" y="2510"/>
                  </a:lnTo>
                  <a:lnTo>
                    <a:pt x="250" y="2498"/>
                  </a:lnTo>
                  <a:lnTo>
                    <a:pt x="258" y="2490"/>
                  </a:lnTo>
                  <a:lnTo>
                    <a:pt x="280" y="2474"/>
                  </a:lnTo>
                  <a:lnTo>
                    <a:pt x="292" y="2468"/>
                  </a:lnTo>
                  <a:lnTo>
                    <a:pt x="300" y="2462"/>
                  </a:lnTo>
                  <a:lnTo>
                    <a:pt x="306" y="2450"/>
                  </a:lnTo>
                  <a:lnTo>
                    <a:pt x="300" y="2448"/>
                  </a:lnTo>
                  <a:lnTo>
                    <a:pt x="314" y="2438"/>
                  </a:lnTo>
                  <a:lnTo>
                    <a:pt x="324" y="2432"/>
                  </a:lnTo>
                  <a:lnTo>
                    <a:pt x="338" y="2422"/>
                  </a:lnTo>
                  <a:lnTo>
                    <a:pt x="346" y="2414"/>
                  </a:lnTo>
                  <a:lnTo>
                    <a:pt x="362" y="2384"/>
                  </a:lnTo>
                  <a:lnTo>
                    <a:pt x="404" y="2338"/>
                  </a:lnTo>
                  <a:lnTo>
                    <a:pt x="432" y="2314"/>
                  </a:lnTo>
                  <a:lnTo>
                    <a:pt x="444" y="2306"/>
                  </a:lnTo>
                  <a:lnTo>
                    <a:pt x="448" y="2302"/>
                  </a:lnTo>
                  <a:lnTo>
                    <a:pt x="452" y="2290"/>
                  </a:lnTo>
                  <a:lnTo>
                    <a:pt x="452" y="2282"/>
                  </a:lnTo>
                  <a:lnTo>
                    <a:pt x="426" y="2270"/>
                  </a:lnTo>
                  <a:lnTo>
                    <a:pt x="426" y="2258"/>
                  </a:lnTo>
                  <a:lnTo>
                    <a:pt x="408" y="2218"/>
                  </a:lnTo>
                  <a:lnTo>
                    <a:pt x="358" y="2194"/>
                  </a:lnTo>
                  <a:lnTo>
                    <a:pt x="348" y="2178"/>
                  </a:lnTo>
                  <a:lnTo>
                    <a:pt x="348" y="2168"/>
                  </a:lnTo>
                  <a:lnTo>
                    <a:pt x="354" y="2152"/>
                  </a:lnTo>
                  <a:lnTo>
                    <a:pt x="372" y="2122"/>
                  </a:lnTo>
                  <a:lnTo>
                    <a:pt x="378" y="2116"/>
                  </a:lnTo>
                  <a:lnTo>
                    <a:pt x="382" y="2104"/>
                  </a:lnTo>
                  <a:lnTo>
                    <a:pt x="378" y="2088"/>
                  </a:lnTo>
                  <a:lnTo>
                    <a:pt x="384" y="2078"/>
                  </a:lnTo>
                  <a:lnTo>
                    <a:pt x="394" y="2072"/>
                  </a:lnTo>
                  <a:lnTo>
                    <a:pt x="400" y="2066"/>
                  </a:lnTo>
                  <a:lnTo>
                    <a:pt x="404" y="2052"/>
                  </a:lnTo>
                  <a:lnTo>
                    <a:pt x="410" y="2020"/>
                  </a:lnTo>
                  <a:lnTo>
                    <a:pt x="426" y="1990"/>
                  </a:lnTo>
                  <a:lnTo>
                    <a:pt x="420" y="1990"/>
                  </a:lnTo>
                  <a:lnTo>
                    <a:pt x="422" y="1984"/>
                  </a:lnTo>
                  <a:lnTo>
                    <a:pt x="442" y="1954"/>
                  </a:lnTo>
                  <a:lnTo>
                    <a:pt x="460" y="1876"/>
                  </a:lnTo>
                  <a:lnTo>
                    <a:pt x="474" y="1842"/>
                  </a:lnTo>
                  <a:lnTo>
                    <a:pt x="490" y="1808"/>
                  </a:lnTo>
                  <a:lnTo>
                    <a:pt x="490" y="1788"/>
                  </a:lnTo>
                  <a:lnTo>
                    <a:pt x="466" y="1768"/>
                  </a:lnTo>
                  <a:lnTo>
                    <a:pt x="470" y="1758"/>
                  </a:lnTo>
                  <a:lnTo>
                    <a:pt x="476" y="1754"/>
                  </a:lnTo>
                  <a:lnTo>
                    <a:pt x="492" y="1730"/>
                  </a:lnTo>
                  <a:lnTo>
                    <a:pt x="488" y="1710"/>
                  </a:lnTo>
                  <a:lnTo>
                    <a:pt x="496" y="1696"/>
                  </a:lnTo>
                  <a:lnTo>
                    <a:pt x="504" y="1672"/>
                  </a:lnTo>
                  <a:lnTo>
                    <a:pt x="514" y="1654"/>
                  </a:lnTo>
                  <a:lnTo>
                    <a:pt x="506" y="1654"/>
                  </a:lnTo>
                  <a:lnTo>
                    <a:pt x="506" y="1646"/>
                  </a:lnTo>
                  <a:lnTo>
                    <a:pt x="518" y="1618"/>
                  </a:lnTo>
                  <a:lnTo>
                    <a:pt x="520" y="1606"/>
                  </a:lnTo>
                  <a:lnTo>
                    <a:pt x="512" y="1604"/>
                  </a:lnTo>
                  <a:lnTo>
                    <a:pt x="446" y="1624"/>
                  </a:lnTo>
                  <a:lnTo>
                    <a:pt x="400" y="1628"/>
                  </a:lnTo>
                  <a:lnTo>
                    <a:pt x="382" y="1636"/>
                  </a:lnTo>
                  <a:lnTo>
                    <a:pt x="362" y="1654"/>
                  </a:lnTo>
                  <a:lnTo>
                    <a:pt x="352" y="1658"/>
                  </a:lnTo>
                  <a:lnTo>
                    <a:pt x="336" y="1662"/>
                  </a:lnTo>
                  <a:lnTo>
                    <a:pt x="326" y="1668"/>
                  </a:lnTo>
                  <a:lnTo>
                    <a:pt x="312" y="1678"/>
                  </a:lnTo>
                  <a:lnTo>
                    <a:pt x="292" y="1692"/>
                  </a:lnTo>
                  <a:lnTo>
                    <a:pt x="256" y="1694"/>
                  </a:lnTo>
                  <a:lnTo>
                    <a:pt x="206" y="1712"/>
                  </a:lnTo>
                  <a:lnTo>
                    <a:pt x="174" y="1718"/>
                  </a:lnTo>
                  <a:lnTo>
                    <a:pt x="174" y="1714"/>
                  </a:lnTo>
                  <a:lnTo>
                    <a:pt x="180" y="1708"/>
                  </a:lnTo>
                  <a:lnTo>
                    <a:pt x="182" y="1698"/>
                  </a:lnTo>
                  <a:lnTo>
                    <a:pt x="204" y="1660"/>
                  </a:lnTo>
                  <a:lnTo>
                    <a:pt x="196" y="1636"/>
                  </a:lnTo>
                  <a:lnTo>
                    <a:pt x="248" y="1618"/>
                  </a:lnTo>
                  <a:lnTo>
                    <a:pt x="252" y="1612"/>
                  </a:lnTo>
                  <a:lnTo>
                    <a:pt x="240" y="1592"/>
                  </a:lnTo>
                  <a:lnTo>
                    <a:pt x="240" y="1612"/>
                  </a:lnTo>
                  <a:lnTo>
                    <a:pt x="228" y="1620"/>
                  </a:lnTo>
                  <a:lnTo>
                    <a:pt x="214" y="1612"/>
                  </a:lnTo>
                  <a:lnTo>
                    <a:pt x="196" y="1624"/>
                  </a:lnTo>
                  <a:lnTo>
                    <a:pt x="198" y="1616"/>
                  </a:lnTo>
                  <a:lnTo>
                    <a:pt x="204" y="1560"/>
                  </a:lnTo>
                  <a:lnTo>
                    <a:pt x="212" y="1542"/>
                  </a:lnTo>
                  <a:lnTo>
                    <a:pt x="208" y="1522"/>
                  </a:lnTo>
                  <a:lnTo>
                    <a:pt x="206" y="1512"/>
                  </a:lnTo>
                  <a:lnTo>
                    <a:pt x="214" y="1512"/>
                  </a:lnTo>
                  <a:lnTo>
                    <a:pt x="222" y="1504"/>
                  </a:lnTo>
                  <a:lnTo>
                    <a:pt x="258" y="1472"/>
                  </a:lnTo>
                  <a:lnTo>
                    <a:pt x="200" y="1464"/>
                  </a:lnTo>
                  <a:lnTo>
                    <a:pt x="154" y="1484"/>
                  </a:lnTo>
                  <a:lnTo>
                    <a:pt x="148" y="1480"/>
                  </a:lnTo>
                  <a:lnTo>
                    <a:pt x="140" y="1460"/>
                  </a:lnTo>
                  <a:lnTo>
                    <a:pt x="98" y="1472"/>
                  </a:lnTo>
                  <a:lnTo>
                    <a:pt x="84" y="1450"/>
                  </a:lnTo>
                  <a:lnTo>
                    <a:pt x="142" y="1398"/>
                  </a:lnTo>
                  <a:lnTo>
                    <a:pt x="316" y="1244"/>
                  </a:lnTo>
                  <a:lnTo>
                    <a:pt x="484" y="1098"/>
                  </a:lnTo>
                  <a:lnTo>
                    <a:pt x="638" y="968"/>
                  </a:lnTo>
                  <a:lnTo>
                    <a:pt x="804" y="830"/>
                  </a:lnTo>
                  <a:lnTo>
                    <a:pt x="988" y="682"/>
                  </a:lnTo>
                  <a:lnTo>
                    <a:pt x="1166" y="540"/>
                  </a:lnTo>
                  <a:lnTo>
                    <a:pt x="1328" y="414"/>
                  </a:lnTo>
                  <a:lnTo>
                    <a:pt x="1502" y="280"/>
                  </a:lnTo>
                  <a:lnTo>
                    <a:pt x="1696" y="136"/>
                  </a:lnTo>
                  <a:lnTo>
                    <a:pt x="1880" y="0"/>
                  </a:lnTo>
                  <a:lnTo>
                    <a:pt x="1880" y="2"/>
                  </a:lnTo>
                  <a:lnTo>
                    <a:pt x="1886" y="10"/>
                  </a:lnTo>
                  <a:lnTo>
                    <a:pt x="1898" y="14"/>
                  </a:lnTo>
                  <a:lnTo>
                    <a:pt x="1958" y="22"/>
                  </a:lnTo>
                  <a:lnTo>
                    <a:pt x="1968" y="26"/>
                  </a:lnTo>
                  <a:lnTo>
                    <a:pt x="1964" y="32"/>
                  </a:lnTo>
                  <a:lnTo>
                    <a:pt x="1988" y="38"/>
                  </a:lnTo>
                  <a:lnTo>
                    <a:pt x="1992" y="58"/>
                  </a:lnTo>
                  <a:lnTo>
                    <a:pt x="1980" y="96"/>
                  </a:lnTo>
                  <a:lnTo>
                    <a:pt x="1992" y="98"/>
                  </a:lnTo>
                  <a:lnTo>
                    <a:pt x="1992" y="102"/>
                  </a:lnTo>
                  <a:lnTo>
                    <a:pt x="2004" y="96"/>
                  </a:lnTo>
                  <a:lnTo>
                    <a:pt x="1998" y="106"/>
                  </a:lnTo>
                  <a:lnTo>
                    <a:pt x="1998" y="118"/>
                  </a:lnTo>
                  <a:lnTo>
                    <a:pt x="2002" y="130"/>
                  </a:lnTo>
                  <a:lnTo>
                    <a:pt x="2010" y="138"/>
                  </a:lnTo>
                  <a:lnTo>
                    <a:pt x="2012" y="152"/>
                  </a:lnTo>
                  <a:lnTo>
                    <a:pt x="2024" y="152"/>
                  </a:lnTo>
                  <a:lnTo>
                    <a:pt x="2042" y="158"/>
                  </a:lnTo>
                  <a:lnTo>
                    <a:pt x="2054" y="168"/>
                  </a:lnTo>
                  <a:lnTo>
                    <a:pt x="2066" y="172"/>
                  </a:lnTo>
                  <a:lnTo>
                    <a:pt x="2076" y="170"/>
                  </a:lnTo>
                  <a:lnTo>
                    <a:pt x="2080" y="174"/>
                  </a:lnTo>
                  <a:lnTo>
                    <a:pt x="2086" y="170"/>
                  </a:lnTo>
                  <a:lnTo>
                    <a:pt x="2090" y="162"/>
                  </a:lnTo>
                  <a:lnTo>
                    <a:pt x="2102" y="168"/>
                  </a:lnTo>
                  <a:lnTo>
                    <a:pt x="2112" y="174"/>
                  </a:lnTo>
                  <a:lnTo>
                    <a:pt x="2114" y="180"/>
                  </a:lnTo>
                  <a:lnTo>
                    <a:pt x="2124" y="182"/>
                  </a:lnTo>
                  <a:lnTo>
                    <a:pt x="2130" y="192"/>
                  </a:lnTo>
                  <a:lnTo>
                    <a:pt x="2134" y="218"/>
                  </a:lnTo>
                  <a:lnTo>
                    <a:pt x="2148" y="220"/>
                  </a:lnTo>
                  <a:lnTo>
                    <a:pt x="2154" y="222"/>
                  </a:lnTo>
                  <a:lnTo>
                    <a:pt x="2158" y="214"/>
                  </a:lnTo>
                  <a:lnTo>
                    <a:pt x="2158" y="200"/>
                  </a:lnTo>
                  <a:lnTo>
                    <a:pt x="2166" y="188"/>
                  </a:lnTo>
                  <a:lnTo>
                    <a:pt x="2166" y="182"/>
                  </a:lnTo>
                  <a:lnTo>
                    <a:pt x="2180" y="180"/>
                  </a:lnTo>
                  <a:lnTo>
                    <a:pt x="2196" y="190"/>
                  </a:lnTo>
                  <a:lnTo>
                    <a:pt x="2212" y="190"/>
                  </a:lnTo>
                  <a:lnTo>
                    <a:pt x="2224" y="192"/>
                  </a:lnTo>
                  <a:lnTo>
                    <a:pt x="2228" y="200"/>
                  </a:lnTo>
                  <a:lnTo>
                    <a:pt x="2212" y="214"/>
                  </a:lnTo>
                  <a:lnTo>
                    <a:pt x="2210" y="222"/>
                  </a:lnTo>
                  <a:lnTo>
                    <a:pt x="2216" y="240"/>
                  </a:lnTo>
                  <a:lnTo>
                    <a:pt x="2212" y="246"/>
                  </a:lnTo>
                  <a:lnTo>
                    <a:pt x="2232" y="238"/>
                  </a:lnTo>
                  <a:lnTo>
                    <a:pt x="2248" y="222"/>
                  </a:lnTo>
                  <a:lnTo>
                    <a:pt x="2248" y="216"/>
                  </a:lnTo>
                  <a:lnTo>
                    <a:pt x="2262" y="180"/>
                  </a:lnTo>
                  <a:lnTo>
                    <a:pt x="2268" y="172"/>
                  </a:lnTo>
                  <a:lnTo>
                    <a:pt x="2274" y="166"/>
                  </a:lnTo>
                  <a:lnTo>
                    <a:pt x="2300" y="160"/>
                  </a:lnTo>
                  <a:lnTo>
                    <a:pt x="2330" y="150"/>
                  </a:lnTo>
                  <a:lnTo>
                    <a:pt x="2366" y="142"/>
                  </a:lnTo>
                  <a:lnTo>
                    <a:pt x="2388" y="134"/>
                  </a:lnTo>
                  <a:lnTo>
                    <a:pt x="2396" y="136"/>
                  </a:lnTo>
                  <a:lnTo>
                    <a:pt x="2410" y="130"/>
                  </a:lnTo>
                  <a:lnTo>
                    <a:pt x="2448" y="130"/>
                  </a:lnTo>
                  <a:lnTo>
                    <a:pt x="2466" y="128"/>
                  </a:lnTo>
                  <a:lnTo>
                    <a:pt x="2490" y="122"/>
                  </a:lnTo>
                  <a:lnTo>
                    <a:pt x="2518" y="100"/>
                  </a:lnTo>
                  <a:lnTo>
                    <a:pt x="2536" y="96"/>
                  </a:lnTo>
                  <a:lnTo>
                    <a:pt x="2536" y="100"/>
                  </a:lnTo>
                  <a:lnTo>
                    <a:pt x="2544" y="100"/>
                  </a:lnTo>
                  <a:lnTo>
                    <a:pt x="2558" y="92"/>
                  </a:lnTo>
                  <a:lnTo>
                    <a:pt x="2576" y="86"/>
                  </a:lnTo>
                  <a:lnTo>
                    <a:pt x="2586" y="88"/>
                  </a:lnTo>
                  <a:lnTo>
                    <a:pt x="2580" y="92"/>
                  </a:lnTo>
                  <a:lnTo>
                    <a:pt x="2602" y="94"/>
                  </a:lnTo>
                  <a:lnTo>
                    <a:pt x="2620" y="90"/>
                  </a:lnTo>
                  <a:lnTo>
                    <a:pt x="2628" y="86"/>
                  </a:lnTo>
                  <a:lnTo>
                    <a:pt x="2644" y="86"/>
                  </a:lnTo>
                  <a:lnTo>
                    <a:pt x="2694" y="76"/>
                  </a:lnTo>
                  <a:lnTo>
                    <a:pt x="2708" y="66"/>
                  </a:lnTo>
                  <a:lnTo>
                    <a:pt x="2728" y="74"/>
                  </a:lnTo>
                  <a:lnTo>
                    <a:pt x="2752" y="66"/>
                  </a:lnTo>
                  <a:lnTo>
                    <a:pt x="2766" y="58"/>
                  </a:lnTo>
                  <a:lnTo>
                    <a:pt x="2782" y="52"/>
                  </a:lnTo>
                  <a:lnTo>
                    <a:pt x="2810" y="48"/>
                  </a:lnTo>
                  <a:lnTo>
                    <a:pt x="2826" y="44"/>
                  </a:lnTo>
                  <a:lnTo>
                    <a:pt x="2832" y="52"/>
                  </a:lnTo>
                  <a:lnTo>
                    <a:pt x="2844" y="54"/>
                  </a:lnTo>
                  <a:lnTo>
                    <a:pt x="2844" y="60"/>
                  </a:lnTo>
                  <a:lnTo>
                    <a:pt x="2864" y="58"/>
                  </a:lnTo>
                  <a:lnTo>
                    <a:pt x="2884" y="50"/>
                  </a:lnTo>
                  <a:lnTo>
                    <a:pt x="2894" y="42"/>
                  </a:lnTo>
                  <a:lnTo>
                    <a:pt x="2912" y="38"/>
                  </a:lnTo>
                  <a:lnTo>
                    <a:pt x="2906" y="46"/>
                  </a:lnTo>
                  <a:lnTo>
                    <a:pt x="2908" y="54"/>
                  </a:lnTo>
                  <a:lnTo>
                    <a:pt x="2898" y="68"/>
                  </a:lnTo>
                  <a:lnTo>
                    <a:pt x="2888" y="70"/>
                  </a:lnTo>
                  <a:lnTo>
                    <a:pt x="2864" y="78"/>
                  </a:lnTo>
                  <a:lnTo>
                    <a:pt x="2772" y="98"/>
                  </a:lnTo>
                  <a:lnTo>
                    <a:pt x="2742" y="108"/>
                  </a:lnTo>
                  <a:lnTo>
                    <a:pt x="2720" y="112"/>
                  </a:lnTo>
                  <a:lnTo>
                    <a:pt x="2672" y="128"/>
                  </a:lnTo>
                  <a:lnTo>
                    <a:pt x="2656" y="120"/>
                  </a:lnTo>
                  <a:lnTo>
                    <a:pt x="2590" y="124"/>
                  </a:lnTo>
                  <a:lnTo>
                    <a:pt x="2562" y="132"/>
                  </a:lnTo>
                  <a:lnTo>
                    <a:pt x="2546" y="140"/>
                  </a:lnTo>
                  <a:lnTo>
                    <a:pt x="2558" y="140"/>
                  </a:lnTo>
                  <a:lnTo>
                    <a:pt x="2518" y="150"/>
                  </a:lnTo>
                  <a:lnTo>
                    <a:pt x="2502" y="158"/>
                  </a:lnTo>
                  <a:lnTo>
                    <a:pt x="2498" y="156"/>
                  </a:lnTo>
                  <a:lnTo>
                    <a:pt x="2478" y="164"/>
                  </a:lnTo>
                  <a:lnTo>
                    <a:pt x="2462" y="172"/>
                  </a:lnTo>
                  <a:lnTo>
                    <a:pt x="2470" y="164"/>
                  </a:lnTo>
                  <a:lnTo>
                    <a:pt x="2466" y="160"/>
                  </a:lnTo>
                  <a:lnTo>
                    <a:pt x="2424" y="176"/>
                  </a:lnTo>
                  <a:lnTo>
                    <a:pt x="2412" y="186"/>
                  </a:lnTo>
                  <a:lnTo>
                    <a:pt x="2426" y="186"/>
                  </a:lnTo>
                  <a:lnTo>
                    <a:pt x="2450" y="178"/>
                  </a:lnTo>
                  <a:lnTo>
                    <a:pt x="2502" y="174"/>
                  </a:lnTo>
                  <a:lnTo>
                    <a:pt x="2562" y="156"/>
                  </a:lnTo>
                  <a:lnTo>
                    <a:pt x="2568" y="152"/>
                  </a:lnTo>
                  <a:lnTo>
                    <a:pt x="2568" y="146"/>
                  </a:lnTo>
                  <a:lnTo>
                    <a:pt x="2576" y="144"/>
                  </a:lnTo>
                  <a:lnTo>
                    <a:pt x="2594" y="140"/>
                  </a:lnTo>
                  <a:lnTo>
                    <a:pt x="2598" y="144"/>
                  </a:lnTo>
                  <a:lnTo>
                    <a:pt x="2582" y="156"/>
                  </a:lnTo>
                  <a:lnTo>
                    <a:pt x="2608" y="146"/>
                  </a:lnTo>
                  <a:lnTo>
                    <a:pt x="2598" y="156"/>
                  </a:lnTo>
                  <a:lnTo>
                    <a:pt x="2632" y="142"/>
                  </a:lnTo>
                  <a:lnTo>
                    <a:pt x="2650" y="140"/>
                  </a:lnTo>
                  <a:lnTo>
                    <a:pt x="2650" y="148"/>
                  </a:lnTo>
                  <a:lnTo>
                    <a:pt x="2632" y="162"/>
                  </a:lnTo>
                  <a:lnTo>
                    <a:pt x="2600" y="182"/>
                  </a:lnTo>
                  <a:lnTo>
                    <a:pt x="2674" y="150"/>
                  </a:lnTo>
                  <a:lnTo>
                    <a:pt x="2734" y="126"/>
                  </a:lnTo>
                  <a:lnTo>
                    <a:pt x="2750" y="116"/>
                  </a:lnTo>
                  <a:lnTo>
                    <a:pt x="2772" y="116"/>
                  </a:lnTo>
                  <a:lnTo>
                    <a:pt x="2796" y="112"/>
                  </a:lnTo>
                  <a:lnTo>
                    <a:pt x="2824" y="104"/>
                  </a:lnTo>
                  <a:lnTo>
                    <a:pt x="2878" y="100"/>
                  </a:lnTo>
                  <a:lnTo>
                    <a:pt x="2924" y="88"/>
                  </a:lnTo>
                  <a:lnTo>
                    <a:pt x="2898" y="106"/>
                  </a:lnTo>
                  <a:lnTo>
                    <a:pt x="2892" y="104"/>
                  </a:lnTo>
                  <a:lnTo>
                    <a:pt x="2868" y="116"/>
                  </a:lnTo>
                  <a:lnTo>
                    <a:pt x="2854" y="124"/>
                  </a:lnTo>
                  <a:lnTo>
                    <a:pt x="2908" y="116"/>
                  </a:lnTo>
                  <a:lnTo>
                    <a:pt x="2936" y="104"/>
                  </a:lnTo>
                  <a:lnTo>
                    <a:pt x="2964" y="96"/>
                  </a:lnTo>
                  <a:lnTo>
                    <a:pt x="2988" y="84"/>
                  </a:lnTo>
                  <a:lnTo>
                    <a:pt x="2992" y="76"/>
                  </a:lnTo>
                  <a:lnTo>
                    <a:pt x="3006" y="72"/>
                  </a:lnTo>
                  <a:lnTo>
                    <a:pt x="3060" y="66"/>
                  </a:lnTo>
                  <a:lnTo>
                    <a:pt x="3076" y="60"/>
                  </a:lnTo>
                  <a:lnTo>
                    <a:pt x="3060" y="54"/>
                  </a:lnTo>
                  <a:lnTo>
                    <a:pt x="3056" y="46"/>
                  </a:lnTo>
                  <a:lnTo>
                    <a:pt x="3064" y="42"/>
                  </a:lnTo>
                  <a:lnTo>
                    <a:pt x="3076" y="34"/>
                  </a:lnTo>
                  <a:lnTo>
                    <a:pt x="3080" y="28"/>
                  </a:lnTo>
                  <a:lnTo>
                    <a:pt x="3060" y="30"/>
                  </a:lnTo>
                  <a:lnTo>
                    <a:pt x="3072" y="22"/>
                  </a:lnTo>
                  <a:lnTo>
                    <a:pt x="3090" y="14"/>
                  </a:lnTo>
                  <a:lnTo>
                    <a:pt x="3102" y="10"/>
                  </a:lnTo>
                  <a:lnTo>
                    <a:pt x="3114" y="18"/>
                  </a:lnTo>
                  <a:lnTo>
                    <a:pt x="3120" y="54"/>
                  </a:lnTo>
                  <a:lnTo>
                    <a:pt x="3114" y="68"/>
                  </a:lnTo>
                  <a:lnTo>
                    <a:pt x="3086" y="94"/>
                  </a:lnTo>
                  <a:lnTo>
                    <a:pt x="3084" y="108"/>
                  </a:lnTo>
                  <a:lnTo>
                    <a:pt x="3056" y="148"/>
                  </a:lnTo>
                  <a:lnTo>
                    <a:pt x="3050" y="162"/>
                  </a:lnTo>
                  <a:lnTo>
                    <a:pt x="3058" y="170"/>
                  </a:lnTo>
                  <a:lnTo>
                    <a:pt x="3050" y="186"/>
                  </a:lnTo>
                  <a:lnTo>
                    <a:pt x="3054" y="186"/>
                  </a:lnTo>
                  <a:lnTo>
                    <a:pt x="3060" y="204"/>
                  </a:lnTo>
                  <a:lnTo>
                    <a:pt x="3072" y="210"/>
                  </a:lnTo>
                  <a:lnTo>
                    <a:pt x="3106" y="214"/>
                  </a:lnTo>
                  <a:lnTo>
                    <a:pt x="3108" y="210"/>
                  </a:lnTo>
                  <a:lnTo>
                    <a:pt x="3116" y="208"/>
                  </a:lnTo>
                  <a:lnTo>
                    <a:pt x="3134" y="210"/>
                  </a:lnTo>
                  <a:lnTo>
                    <a:pt x="3140" y="204"/>
                  </a:lnTo>
                  <a:lnTo>
                    <a:pt x="3132" y="200"/>
                  </a:lnTo>
                  <a:lnTo>
                    <a:pt x="3098" y="202"/>
                  </a:lnTo>
                  <a:lnTo>
                    <a:pt x="3116" y="192"/>
                  </a:lnTo>
                  <a:lnTo>
                    <a:pt x="3142" y="192"/>
                  </a:lnTo>
                  <a:lnTo>
                    <a:pt x="3158" y="190"/>
                  </a:lnTo>
                  <a:lnTo>
                    <a:pt x="3152" y="190"/>
                  </a:lnTo>
                  <a:lnTo>
                    <a:pt x="3152" y="172"/>
                  </a:lnTo>
                  <a:lnTo>
                    <a:pt x="3168" y="168"/>
                  </a:lnTo>
                  <a:lnTo>
                    <a:pt x="3196" y="164"/>
                  </a:lnTo>
                  <a:lnTo>
                    <a:pt x="3204" y="158"/>
                  </a:lnTo>
                  <a:lnTo>
                    <a:pt x="3194" y="154"/>
                  </a:lnTo>
                  <a:lnTo>
                    <a:pt x="3208" y="142"/>
                  </a:lnTo>
                  <a:lnTo>
                    <a:pt x="3204" y="152"/>
                  </a:lnTo>
                  <a:lnTo>
                    <a:pt x="3254" y="134"/>
                  </a:lnTo>
                  <a:lnTo>
                    <a:pt x="3272" y="124"/>
                  </a:lnTo>
                  <a:lnTo>
                    <a:pt x="3270" y="122"/>
                  </a:lnTo>
                  <a:lnTo>
                    <a:pt x="3254" y="124"/>
                  </a:lnTo>
                  <a:lnTo>
                    <a:pt x="3238" y="132"/>
                  </a:lnTo>
                  <a:lnTo>
                    <a:pt x="3236" y="128"/>
                  </a:lnTo>
                  <a:lnTo>
                    <a:pt x="3246" y="118"/>
                  </a:lnTo>
                  <a:lnTo>
                    <a:pt x="3258" y="112"/>
                  </a:lnTo>
                  <a:lnTo>
                    <a:pt x="3264" y="116"/>
                  </a:lnTo>
                  <a:lnTo>
                    <a:pt x="3284" y="116"/>
                  </a:lnTo>
                  <a:lnTo>
                    <a:pt x="3288" y="118"/>
                  </a:lnTo>
                  <a:lnTo>
                    <a:pt x="3280" y="130"/>
                  </a:lnTo>
                  <a:lnTo>
                    <a:pt x="3296" y="122"/>
                  </a:lnTo>
                  <a:lnTo>
                    <a:pt x="3310" y="122"/>
                  </a:lnTo>
                  <a:lnTo>
                    <a:pt x="3316" y="116"/>
                  </a:lnTo>
                  <a:lnTo>
                    <a:pt x="3306" y="112"/>
                  </a:lnTo>
                  <a:lnTo>
                    <a:pt x="3304" y="106"/>
                  </a:lnTo>
                  <a:lnTo>
                    <a:pt x="3330" y="106"/>
                  </a:lnTo>
                  <a:lnTo>
                    <a:pt x="3324" y="112"/>
                  </a:lnTo>
                  <a:lnTo>
                    <a:pt x="3322" y="118"/>
                  </a:lnTo>
                  <a:lnTo>
                    <a:pt x="3302" y="132"/>
                  </a:lnTo>
                  <a:lnTo>
                    <a:pt x="3272" y="156"/>
                  </a:lnTo>
                  <a:lnTo>
                    <a:pt x="3260" y="162"/>
                  </a:lnTo>
                  <a:lnTo>
                    <a:pt x="3254" y="168"/>
                  </a:lnTo>
                  <a:lnTo>
                    <a:pt x="3256" y="174"/>
                  </a:lnTo>
                  <a:lnTo>
                    <a:pt x="3274" y="170"/>
                  </a:lnTo>
                  <a:lnTo>
                    <a:pt x="3288" y="174"/>
                  </a:lnTo>
                  <a:lnTo>
                    <a:pt x="3220" y="204"/>
                  </a:lnTo>
                  <a:lnTo>
                    <a:pt x="3198" y="216"/>
                  </a:lnTo>
                  <a:lnTo>
                    <a:pt x="3206" y="206"/>
                  </a:lnTo>
                  <a:lnTo>
                    <a:pt x="3190" y="216"/>
                  </a:lnTo>
                  <a:lnTo>
                    <a:pt x="3184" y="222"/>
                  </a:lnTo>
                  <a:lnTo>
                    <a:pt x="3214" y="230"/>
                  </a:lnTo>
                  <a:lnTo>
                    <a:pt x="3234" y="224"/>
                  </a:lnTo>
                  <a:lnTo>
                    <a:pt x="3238" y="228"/>
                  </a:lnTo>
                  <a:lnTo>
                    <a:pt x="3262" y="232"/>
                  </a:lnTo>
                  <a:lnTo>
                    <a:pt x="3282" y="228"/>
                  </a:lnTo>
                  <a:lnTo>
                    <a:pt x="3296" y="218"/>
                  </a:lnTo>
                  <a:lnTo>
                    <a:pt x="3322" y="212"/>
                  </a:lnTo>
                  <a:lnTo>
                    <a:pt x="3336" y="200"/>
                  </a:lnTo>
                  <a:lnTo>
                    <a:pt x="3362" y="186"/>
                  </a:lnTo>
                  <a:lnTo>
                    <a:pt x="3386" y="168"/>
                  </a:lnTo>
                  <a:lnTo>
                    <a:pt x="3400" y="170"/>
                  </a:lnTo>
                  <a:lnTo>
                    <a:pt x="3428" y="166"/>
                  </a:lnTo>
                  <a:lnTo>
                    <a:pt x="3440" y="174"/>
                  </a:lnTo>
                  <a:lnTo>
                    <a:pt x="3454" y="174"/>
                  </a:lnTo>
                  <a:lnTo>
                    <a:pt x="3464" y="176"/>
                  </a:lnTo>
                  <a:lnTo>
                    <a:pt x="3462" y="180"/>
                  </a:lnTo>
                  <a:lnTo>
                    <a:pt x="3498" y="182"/>
                  </a:lnTo>
                  <a:lnTo>
                    <a:pt x="3526" y="192"/>
                  </a:lnTo>
                  <a:lnTo>
                    <a:pt x="3546" y="220"/>
                  </a:lnTo>
                  <a:lnTo>
                    <a:pt x="3546" y="250"/>
                  </a:lnTo>
                  <a:lnTo>
                    <a:pt x="3564" y="264"/>
                  </a:lnTo>
                  <a:lnTo>
                    <a:pt x="3592" y="270"/>
                  </a:lnTo>
                  <a:lnTo>
                    <a:pt x="3600" y="278"/>
                  </a:lnTo>
                  <a:lnTo>
                    <a:pt x="3620" y="280"/>
                  </a:lnTo>
                  <a:lnTo>
                    <a:pt x="3640" y="292"/>
                  </a:lnTo>
                  <a:lnTo>
                    <a:pt x="3654" y="292"/>
                  </a:lnTo>
                  <a:lnTo>
                    <a:pt x="3664" y="298"/>
                  </a:lnTo>
                  <a:lnTo>
                    <a:pt x="3662" y="310"/>
                  </a:lnTo>
                  <a:lnTo>
                    <a:pt x="3670" y="322"/>
                  </a:lnTo>
                  <a:lnTo>
                    <a:pt x="3688" y="328"/>
                  </a:lnTo>
                  <a:lnTo>
                    <a:pt x="3710" y="350"/>
                  </a:lnTo>
                  <a:lnTo>
                    <a:pt x="3738" y="354"/>
                  </a:lnTo>
                  <a:lnTo>
                    <a:pt x="3744" y="360"/>
                  </a:lnTo>
                  <a:lnTo>
                    <a:pt x="3758" y="366"/>
                  </a:lnTo>
                  <a:lnTo>
                    <a:pt x="3760" y="360"/>
                  </a:lnTo>
                  <a:lnTo>
                    <a:pt x="3804" y="372"/>
                  </a:lnTo>
                  <a:lnTo>
                    <a:pt x="3824" y="372"/>
                  </a:lnTo>
                  <a:lnTo>
                    <a:pt x="3828" y="386"/>
                  </a:lnTo>
                  <a:lnTo>
                    <a:pt x="3842" y="378"/>
                  </a:lnTo>
                  <a:lnTo>
                    <a:pt x="3832" y="358"/>
                  </a:lnTo>
                  <a:lnTo>
                    <a:pt x="3856" y="358"/>
                  </a:lnTo>
                  <a:lnTo>
                    <a:pt x="3862" y="364"/>
                  </a:lnTo>
                  <a:lnTo>
                    <a:pt x="3876" y="366"/>
                  </a:lnTo>
                  <a:lnTo>
                    <a:pt x="3882" y="360"/>
                  </a:lnTo>
                  <a:lnTo>
                    <a:pt x="3920" y="372"/>
                  </a:lnTo>
                  <a:lnTo>
                    <a:pt x="3906" y="376"/>
                  </a:lnTo>
                  <a:lnTo>
                    <a:pt x="3920" y="386"/>
                  </a:lnTo>
                  <a:lnTo>
                    <a:pt x="3914" y="396"/>
                  </a:lnTo>
                  <a:lnTo>
                    <a:pt x="3934" y="392"/>
                  </a:lnTo>
                  <a:lnTo>
                    <a:pt x="3924" y="402"/>
                  </a:lnTo>
                  <a:lnTo>
                    <a:pt x="3942" y="416"/>
                  </a:lnTo>
                  <a:lnTo>
                    <a:pt x="3942" y="436"/>
                  </a:lnTo>
                  <a:lnTo>
                    <a:pt x="3944" y="444"/>
                  </a:lnTo>
                  <a:lnTo>
                    <a:pt x="3920" y="466"/>
                  </a:lnTo>
                  <a:lnTo>
                    <a:pt x="3944" y="458"/>
                  </a:lnTo>
                  <a:lnTo>
                    <a:pt x="3932" y="470"/>
                  </a:lnTo>
                  <a:lnTo>
                    <a:pt x="3916" y="480"/>
                  </a:lnTo>
                  <a:lnTo>
                    <a:pt x="3918" y="486"/>
                  </a:lnTo>
                  <a:lnTo>
                    <a:pt x="3904" y="484"/>
                  </a:lnTo>
                  <a:lnTo>
                    <a:pt x="3890" y="490"/>
                  </a:lnTo>
                  <a:lnTo>
                    <a:pt x="3878" y="492"/>
                  </a:lnTo>
                  <a:lnTo>
                    <a:pt x="3882" y="482"/>
                  </a:lnTo>
                  <a:lnTo>
                    <a:pt x="3854" y="484"/>
                  </a:lnTo>
                  <a:lnTo>
                    <a:pt x="3828" y="476"/>
                  </a:lnTo>
                  <a:lnTo>
                    <a:pt x="3840" y="486"/>
                  </a:lnTo>
                  <a:lnTo>
                    <a:pt x="3818" y="494"/>
                  </a:lnTo>
                  <a:lnTo>
                    <a:pt x="3790" y="488"/>
                  </a:lnTo>
                  <a:lnTo>
                    <a:pt x="3790" y="494"/>
                  </a:lnTo>
                  <a:lnTo>
                    <a:pt x="3776" y="500"/>
                  </a:lnTo>
                  <a:lnTo>
                    <a:pt x="3760" y="516"/>
                  </a:lnTo>
                  <a:lnTo>
                    <a:pt x="3724" y="522"/>
                  </a:lnTo>
                  <a:lnTo>
                    <a:pt x="3728" y="530"/>
                  </a:lnTo>
                  <a:lnTo>
                    <a:pt x="3734" y="532"/>
                  </a:lnTo>
                  <a:lnTo>
                    <a:pt x="3750" y="530"/>
                  </a:lnTo>
                  <a:lnTo>
                    <a:pt x="3732" y="536"/>
                  </a:lnTo>
                  <a:lnTo>
                    <a:pt x="3752" y="544"/>
                  </a:lnTo>
                  <a:lnTo>
                    <a:pt x="3772" y="560"/>
                  </a:lnTo>
                  <a:lnTo>
                    <a:pt x="3788" y="554"/>
                  </a:lnTo>
                  <a:lnTo>
                    <a:pt x="3796" y="558"/>
                  </a:lnTo>
                  <a:lnTo>
                    <a:pt x="3798" y="564"/>
                  </a:lnTo>
                  <a:lnTo>
                    <a:pt x="3818" y="566"/>
                  </a:lnTo>
                  <a:lnTo>
                    <a:pt x="3834" y="572"/>
                  </a:lnTo>
                  <a:lnTo>
                    <a:pt x="3868" y="574"/>
                  </a:lnTo>
                  <a:lnTo>
                    <a:pt x="3886" y="582"/>
                  </a:lnTo>
                  <a:lnTo>
                    <a:pt x="3920" y="580"/>
                  </a:lnTo>
                  <a:lnTo>
                    <a:pt x="3914" y="582"/>
                  </a:lnTo>
                  <a:lnTo>
                    <a:pt x="3932" y="588"/>
                  </a:lnTo>
                  <a:lnTo>
                    <a:pt x="3974" y="590"/>
                  </a:lnTo>
                  <a:lnTo>
                    <a:pt x="3986" y="582"/>
                  </a:lnTo>
                  <a:lnTo>
                    <a:pt x="4018" y="586"/>
                  </a:lnTo>
                  <a:lnTo>
                    <a:pt x="4004" y="594"/>
                  </a:lnTo>
                  <a:lnTo>
                    <a:pt x="4022" y="594"/>
                  </a:lnTo>
                  <a:lnTo>
                    <a:pt x="4016" y="588"/>
                  </a:lnTo>
                  <a:lnTo>
                    <a:pt x="4038" y="582"/>
                  </a:lnTo>
                  <a:lnTo>
                    <a:pt x="4034" y="590"/>
                  </a:lnTo>
                  <a:lnTo>
                    <a:pt x="4050" y="594"/>
                  </a:lnTo>
                  <a:lnTo>
                    <a:pt x="4058" y="590"/>
                  </a:lnTo>
                  <a:lnTo>
                    <a:pt x="4068" y="592"/>
                  </a:lnTo>
                  <a:lnTo>
                    <a:pt x="4094" y="574"/>
                  </a:lnTo>
                  <a:lnTo>
                    <a:pt x="4116" y="574"/>
                  </a:lnTo>
                  <a:lnTo>
                    <a:pt x="4092" y="594"/>
                  </a:lnTo>
                  <a:lnTo>
                    <a:pt x="4110" y="594"/>
                  </a:lnTo>
                  <a:lnTo>
                    <a:pt x="4128" y="590"/>
                  </a:lnTo>
                  <a:lnTo>
                    <a:pt x="4168" y="572"/>
                  </a:lnTo>
                  <a:lnTo>
                    <a:pt x="4194" y="566"/>
                  </a:lnTo>
                  <a:lnTo>
                    <a:pt x="4214" y="568"/>
                  </a:lnTo>
                  <a:lnTo>
                    <a:pt x="4232" y="558"/>
                  </a:lnTo>
                  <a:lnTo>
                    <a:pt x="4232" y="574"/>
                  </a:lnTo>
                  <a:lnTo>
                    <a:pt x="4218" y="582"/>
                  </a:lnTo>
                  <a:lnTo>
                    <a:pt x="4226" y="586"/>
                  </a:lnTo>
                  <a:lnTo>
                    <a:pt x="4234" y="582"/>
                  </a:lnTo>
                  <a:lnTo>
                    <a:pt x="4230" y="592"/>
                  </a:lnTo>
                  <a:lnTo>
                    <a:pt x="4230" y="598"/>
                  </a:lnTo>
                  <a:lnTo>
                    <a:pt x="4222" y="606"/>
                  </a:lnTo>
                  <a:lnTo>
                    <a:pt x="4216" y="606"/>
                  </a:lnTo>
                  <a:lnTo>
                    <a:pt x="4240" y="614"/>
                  </a:lnTo>
                  <a:lnTo>
                    <a:pt x="4244" y="608"/>
                  </a:lnTo>
                  <a:lnTo>
                    <a:pt x="4290" y="612"/>
                  </a:lnTo>
                  <a:lnTo>
                    <a:pt x="4278" y="622"/>
                  </a:lnTo>
                  <a:lnTo>
                    <a:pt x="4274" y="628"/>
                  </a:lnTo>
                  <a:lnTo>
                    <a:pt x="4266" y="634"/>
                  </a:lnTo>
                  <a:lnTo>
                    <a:pt x="4264" y="644"/>
                  </a:lnTo>
                  <a:lnTo>
                    <a:pt x="4246" y="658"/>
                  </a:lnTo>
                  <a:lnTo>
                    <a:pt x="4248" y="668"/>
                  </a:lnTo>
                  <a:lnTo>
                    <a:pt x="4254" y="660"/>
                  </a:lnTo>
                  <a:lnTo>
                    <a:pt x="4252" y="666"/>
                  </a:lnTo>
                  <a:lnTo>
                    <a:pt x="4272" y="654"/>
                  </a:lnTo>
                  <a:lnTo>
                    <a:pt x="4296" y="632"/>
                  </a:lnTo>
                  <a:lnTo>
                    <a:pt x="4302" y="636"/>
                  </a:lnTo>
                  <a:lnTo>
                    <a:pt x="4290" y="646"/>
                  </a:lnTo>
                  <a:lnTo>
                    <a:pt x="4298" y="648"/>
                  </a:lnTo>
                  <a:lnTo>
                    <a:pt x="4282" y="658"/>
                  </a:lnTo>
                  <a:lnTo>
                    <a:pt x="4270" y="670"/>
                  </a:lnTo>
                  <a:lnTo>
                    <a:pt x="4280" y="674"/>
                  </a:lnTo>
                  <a:lnTo>
                    <a:pt x="4296" y="666"/>
                  </a:lnTo>
                  <a:lnTo>
                    <a:pt x="4292" y="686"/>
                  </a:lnTo>
                  <a:lnTo>
                    <a:pt x="4306" y="688"/>
                  </a:lnTo>
                  <a:lnTo>
                    <a:pt x="4304" y="698"/>
                  </a:lnTo>
                  <a:lnTo>
                    <a:pt x="4294" y="720"/>
                  </a:lnTo>
                  <a:lnTo>
                    <a:pt x="4272" y="730"/>
                  </a:lnTo>
                  <a:lnTo>
                    <a:pt x="4262" y="724"/>
                  </a:lnTo>
                  <a:lnTo>
                    <a:pt x="4240" y="730"/>
                  </a:lnTo>
                  <a:lnTo>
                    <a:pt x="4236" y="726"/>
                  </a:lnTo>
                  <a:lnTo>
                    <a:pt x="4230" y="738"/>
                  </a:lnTo>
                  <a:lnTo>
                    <a:pt x="4232" y="758"/>
                  </a:lnTo>
                  <a:lnTo>
                    <a:pt x="4234" y="776"/>
                  </a:lnTo>
                  <a:lnTo>
                    <a:pt x="4242" y="782"/>
                  </a:lnTo>
                  <a:lnTo>
                    <a:pt x="4266" y="760"/>
                  </a:lnTo>
                  <a:lnTo>
                    <a:pt x="4276" y="758"/>
                  </a:lnTo>
                  <a:lnTo>
                    <a:pt x="4284" y="766"/>
                  </a:lnTo>
                  <a:lnTo>
                    <a:pt x="4308" y="756"/>
                  </a:lnTo>
                  <a:lnTo>
                    <a:pt x="4322" y="760"/>
                  </a:lnTo>
                  <a:lnTo>
                    <a:pt x="4324" y="736"/>
                  </a:lnTo>
                  <a:lnTo>
                    <a:pt x="4348" y="728"/>
                  </a:lnTo>
                  <a:lnTo>
                    <a:pt x="4348" y="726"/>
                  </a:lnTo>
                  <a:lnTo>
                    <a:pt x="4336" y="724"/>
                  </a:lnTo>
                  <a:lnTo>
                    <a:pt x="4338" y="710"/>
                  </a:lnTo>
                  <a:lnTo>
                    <a:pt x="4348" y="692"/>
                  </a:lnTo>
                  <a:lnTo>
                    <a:pt x="4346" y="678"/>
                  </a:lnTo>
                  <a:lnTo>
                    <a:pt x="4358" y="674"/>
                  </a:lnTo>
                  <a:lnTo>
                    <a:pt x="4376" y="656"/>
                  </a:lnTo>
                  <a:lnTo>
                    <a:pt x="4374" y="650"/>
                  </a:lnTo>
                  <a:lnTo>
                    <a:pt x="4382" y="642"/>
                  </a:lnTo>
                  <a:lnTo>
                    <a:pt x="4366" y="630"/>
                  </a:lnTo>
                  <a:lnTo>
                    <a:pt x="4368" y="620"/>
                  </a:lnTo>
                  <a:lnTo>
                    <a:pt x="4400" y="602"/>
                  </a:lnTo>
                  <a:lnTo>
                    <a:pt x="4408" y="604"/>
                  </a:lnTo>
                  <a:lnTo>
                    <a:pt x="4422" y="598"/>
                  </a:lnTo>
                  <a:lnTo>
                    <a:pt x="4434" y="594"/>
                  </a:lnTo>
                  <a:lnTo>
                    <a:pt x="4424" y="590"/>
                  </a:lnTo>
                  <a:lnTo>
                    <a:pt x="4450" y="574"/>
                  </a:lnTo>
                  <a:lnTo>
                    <a:pt x="4474" y="578"/>
                  </a:lnTo>
                  <a:lnTo>
                    <a:pt x="4502" y="570"/>
                  </a:lnTo>
                  <a:lnTo>
                    <a:pt x="4510" y="566"/>
                  </a:lnTo>
                  <a:lnTo>
                    <a:pt x="4504" y="572"/>
                  </a:lnTo>
                  <a:lnTo>
                    <a:pt x="4544" y="572"/>
                  </a:lnTo>
                  <a:lnTo>
                    <a:pt x="4554" y="560"/>
                  </a:lnTo>
                  <a:lnTo>
                    <a:pt x="4572" y="558"/>
                  </a:lnTo>
                  <a:lnTo>
                    <a:pt x="4588" y="560"/>
                  </a:lnTo>
                  <a:lnTo>
                    <a:pt x="4604" y="544"/>
                  </a:lnTo>
                  <a:lnTo>
                    <a:pt x="4614" y="540"/>
                  </a:lnTo>
                  <a:lnTo>
                    <a:pt x="4606" y="554"/>
                  </a:lnTo>
                  <a:lnTo>
                    <a:pt x="4634" y="536"/>
                  </a:lnTo>
                  <a:lnTo>
                    <a:pt x="4648" y="530"/>
                  </a:lnTo>
                  <a:lnTo>
                    <a:pt x="4654" y="520"/>
                  </a:lnTo>
                  <a:lnTo>
                    <a:pt x="4684" y="516"/>
                  </a:lnTo>
                  <a:lnTo>
                    <a:pt x="4676" y="512"/>
                  </a:lnTo>
                  <a:lnTo>
                    <a:pt x="4698" y="506"/>
                  </a:lnTo>
                  <a:lnTo>
                    <a:pt x="4708" y="496"/>
                  </a:lnTo>
                  <a:lnTo>
                    <a:pt x="4690" y="498"/>
                  </a:lnTo>
                  <a:lnTo>
                    <a:pt x="4692" y="494"/>
                  </a:lnTo>
                  <a:lnTo>
                    <a:pt x="4626" y="502"/>
                  </a:lnTo>
                  <a:lnTo>
                    <a:pt x="4628" y="514"/>
                  </a:lnTo>
                  <a:lnTo>
                    <a:pt x="4598" y="514"/>
                  </a:lnTo>
                  <a:lnTo>
                    <a:pt x="4594" y="532"/>
                  </a:lnTo>
                  <a:lnTo>
                    <a:pt x="4604" y="524"/>
                  </a:lnTo>
                  <a:lnTo>
                    <a:pt x="4586" y="544"/>
                  </a:lnTo>
                  <a:lnTo>
                    <a:pt x="4576" y="548"/>
                  </a:lnTo>
                  <a:lnTo>
                    <a:pt x="4576" y="542"/>
                  </a:lnTo>
                  <a:lnTo>
                    <a:pt x="4584" y="538"/>
                  </a:lnTo>
                  <a:lnTo>
                    <a:pt x="4574" y="538"/>
                  </a:lnTo>
                  <a:lnTo>
                    <a:pt x="4580" y="532"/>
                  </a:lnTo>
                  <a:lnTo>
                    <a:pt x="4562" y="530"/>
                  </a:lnTo>
                  <a:lnTo>
                    <a:pt x="4550" y="532"/>
                  </a:lnTo>
                  <a:lnTo>
                    <a:pt x="4530" y="544"/>
                  </a:lnTo>
                  <a:lnTo>
                    <a:pt x="4530" y="536"/>
                  </a:lnTo>
                  <a:lnTo>
                    <a:pt x="4510" y="532"/>
                  </a:lnTo>
                  <a:lnTo>
                    <a:pt x="4508" y="528"/>
                  </a:lnTo>
                  <a:lnTo>
                    <a:pt x="4482" y="530"/>
                  </a:lnTo>
                  <a:lnTo>
                    <a:pt x="4466" y="534"/>
                  </a:lnTo>
                  <a:lnTo>
                    <a:pt x="4462" y="544"/>
                  </a:lnTo>
                  <a:lnTo>
                    <a:pt x="4474" y="546"/>
                  </a:lnTo>
                  <a:lnTo>
                    <a:pt x="4468" y="552"/>
                  </a:lnTo>
                  <a:lnTo>
                    <a:pt x="4472" y="556"/>
                  </a:lnTo>
                  <a:lnTo>
                    <a:pt x="4454" y="556"/>
                  </a:lnTo>
                  <a:lnTo>
                    <a:pt x="4434" y="562"/>
                  </a:lnTo>
                  <a:lnTo>
                    <a:pt x="4428" y="558"/>
                  </a:lnTo>
                  <a:lnTo>
                    <a:pt x="4444" y="554"/>
                  </a:lnTo>
                  <a:lnTo>
                    <a:pt x="4410" y="554"/>
                  </a:lnTo>
                  <a:lnTo>
                    <a:pt x="4416" y="548"/>
                  </a:lnTo>
                  <a:lnTo>
                    <a:pt x="4398" y="550"/>
                  </a:lnTo>
                  <a:lnTo>
                    <a:pt x="4412" y="542"/>
                  </a:lnTo>
                  <a:lnTo>
                    <a:pt x="4396" y="540"/>
                  </a:lnTo>
                  <a:lnTo>
                    <a:pt x="4408" y="534"/>
                  </a:lnTo>
                  <a:lnTo>
                    <a:pt x="4382" y="536"/>
                  </a:lnTo>
                  <a:lnTo>
                    <a:pt x="4382" y="530"/>
                  </a:lnTo>
                  <a:lnTo>
                    <a:pt x="4396" y="520"/>
                  </a:lnTo>
                  <a:lnTo>
                    <a:pt x="4430" y="504"/>
                  </a:lnTo>
                  <a:lnTo>
                    <a:pt x="4436" y="498"/>
                  </a:lnTo>
                  <a:lnTo>
                    <a:pt x="4464" y="482"/>
                  </a:lnTo>
                  <a:lnTo>
                    <a:pt x="4482" y="478"/>
                  </a:lnTo>
                  <a:lnTo>
                    <a:pt x="4540" y="480"/>
                  </a:lnTo>
                  <a:lnTo>
                    <a:pt x="4588" y="470"/>
                  </a:lnTo>
                  <a:lnTo>
                    <a:pt x="4618" y="468"/>
                  </a:lnTo>
                  <a:lnTo>
                    <a:pt x="4638" y="458"/>
                  </a:lnTo>
                  <a:lnTo>
                    <a:pt x="4668" y="456"/>
                  </a:lnTo>
                  <a:lnTo>
                    <a:pt x="4680" y="448"/>
                  </a:lnTo>
                  <a:lnTo>
                    <a:pt x="4698" y="452"/>
                  </a:lnTo>
                  <a:lnTo>
                    <a:pt x="4724" y="444"/>
                  </a:lnTo>
                  <a:lnTo>
                    <a:pt x="4732" y="452"/>
                  </a:lnTo>
                  <a:lnTo>
                    <a:pt x="4732" y="458"/>
                  </a:lnTo>
                  <a:lnTo>
                    <a:pt x="4744" y="460"/>
                  </a:lnTo>
                  <a:lnTo>
                    <a:pt x="4734" y="474"/>
                  </a:lnTo>
                  <a:lnTo>
                    <a:pt x="4748" y="486"/>
                  </a:lnTo>
                  <a:lnTo>
                    <a:pt x="4730" y="492"/>
                  </a:lnTo>
                  <a:lnTo>
                    <a:pt x="4732" y="502"/>
                  </a:lnTo>
                  <a:lnTo>
                    <a:pt x="4726" y="514"/>
                  </a:lnTo>
                  <a:lnTo>
                    <a:pt x="4736" y="520"/>
                  </a:lnTo>
                  <a:lnTo>
                    <a:pt x="4730" y="526"/>
                  </a:lnTo>
                  <a:lnTo>
                    <a:pt x="4714" y="524"/>
                  </a:lnTo>
                  <a:lnTo>
                    <a:pt x="4702" y="526"/>
                  </a:lnTo>
                  <a:lnTo>
                    <a:pt x="4696" y="532"/>
                  </a:lnTo>
                  <a:lnTo>
                    <a:pt x="4708" y="532"/>
                  </a:lnTo>
                  <a:lnTo>
                    <a:pt x="4712" y="544"/>
                  </a:lnTo>
                  <a:lnTo>
                    <a:pt x="4720" y="548"/>
                  </a:lnTo>
                  <a:lnTo>
                    <a:pt x="4716" y="554"/>
                  </a:lnTo>
                  <a:lnTo>
                    <a:pt x="4722" y="566"/>
                  </a:lnTo>
                  <a:lnTo>
                    <a:pt x="4748" y="574"/>
                  </a:lnTo>
                  <a:lnTo>
                    <a:pt x="4744" y="574"/>
                  </a:lnTo>
                  <a:lnTo>
                    <a:pt x="4736" y="586"/>
                  </a:lnTo>
                  <a:lnTo>
                    <a:pt x="4726" y="596"/>
                  </a:lnTo>
                  <a:lnTo>
                    <a:pt x="4734" y="604"/>
                  </a:lnTo>
                  <a:lnTo>
                    <a:pt x="4748" y="604"/>
                  </a:lnTo>
                  <a:lnTo>
                    <a:pt x="4766" y="612"/>
                  </a:lnTo>
                  <a:lnTo>
                    <a:pt x="4788" y="608"/>
                  </a:lnTo>
                  <a:lnTo>
                    <a:pt x="4798" y="614"/>
                  </a:lnTo>
                  <a:lnTo>
                    <a:pt x="4806" y="604"/>
                  </a:lnTo>
                  <a:lnTo>
                    <a:pt x="4814" y="610"/>
                  </a:lnTo>
                  <a:lnTo>
                    <a:pt x="4830" y="602"/>
                  </a:lnTo>
                  <a:lnTo>
                    <a:pt x="4842" y="590"/>
                  </a:lnTo>
                  <a:lnTo>
                    <a:pt x="4862" y="602"/>
                  </a:lnTo>
                  <a:lnTo>
                    <a:pt x="4844" y="620"/>
                  </a:lnTo>
                  <a:lnTo>
                    <a:pt x="4854" y="638"/>
                  </a:lnTo>
                  <a:lnTo>
                    <a:pt x="4862" y="646"/>
                  </a:lnTo>
                  <a:lnTo>
                    <a:pt x="4858" y="666"/>
                  </a:lnTo>
                  <a:lnTo>
                    <a:pt x="4872" y="666"/>
                  </a:lnTo>
                  <a:lnTo>
                    <a:pt x="4886" y="682"/>
                  </a:lnTo>
                  <a:lnTo>
                    <a:pt x="4898" y="682"/>
                  </a:lnTo>
                  <a:lnTo>
                    <a:pt x="4908" y="672"/>
                  </a:lnTo>
                  <a:lnTo>
                    <a:pt x="4920" y="674"/>
                  </a:lnTo>
                  <a:lnTo>
                    <a:pt x="4928" y="672"/>
                  </a:lnTo>
                  <a:lnTo>
                    <a:pt x="4934" y="680"/>
                  </a:lnTo>
                  <a:lnTo>
                    <a:pt x="4944" y="676"/>
                  </a:lnTo>
                  <a:lnTo>
                    <a:pt x="4958" y="686"/>
                  </a:lnTo>
                  <a:lnTo>
                    <a:pt x="5000" y="678"/>
                  </a:lnTo>
                  <a:lnTo>
                    <a:pt x="5030" y="688"/>
                  </a:lnTo>
                  <a:lnTo>
                    <a:pt x="5064" y="684"/>
                  </a:lnTo>
                  <a:lnTo>
                    <a:pt x="5092" y="670"/>
                  </a:lnTo>
                  <a:lnTo>
                    <a:pt x="5148" y="684"/>
                  </a:lnTo>
                  <a:lnTo>
                    <a:pt x="5166" y="682"/>
                  </a:lnTo>
                  <a:lnTo>
                    <a:pt x="5176" y="698"/>
                  </a:lnTo>
                  <a:lnTo>
                    <a:pt x="5184" y="696"/>
                  </a:lnTo>
                  <a:lnTo>
                    <a:pt x="5198" y="694"/>
                  </a:lnTo>
                  <a:lnTo>
                    <a:pt x="5192" y="702"/>
                  </a:lnTo>
                  <a:lnTo>
                    <a:pt x="5234" y="698"/>
                  </a:lnTo>
                  <a:lnTo>
                    <a:pt x="5260" y="700"/>
                  </a:lnTo>
                  <a:lnTo>
                    <a:pt x="5256" y="686"/>
                  </a:lnTo>
                  <a:lnTo>
                    <a:pt x="5262" y="680"/>
                  </a:lnTo>
                  <a:lnTo>
                    <a:pt x="5258" y="668"/>
                  </a:lnTo>
                  <a:lnTo>
                    <a:pt x="5262" y="658"/>
                  </a:lnTo>
                  <a:lnTo>
                    <a:pt x="5278" y="650"/>
                  </a:lnTo>
                  <a:lnTo>
                    <a:pt x="5288" y="650"/>
                  </a:lnTo>
                  <a:lnTo>
                    <a:pt x="5290" y="654"/>
                  </a:lnTo>
                  <a:lnTo>
                    <a:pt x="5288" y="666"/>
                  </a:lnTo>
                  <a:lnTo>
                    <a:pt x="5292" y="674"/>
                  </a:lnTo>
                  <a:lnTo>
                    <a:pt x="5280" y="688"/>
                  </a:lnTo>
                  <a:lnTo>
                    <a:pt x="5282" y="702"/>
                  </a:lnTo>
                  <a:lnTo>
                    <a:pt x="5294" y="706"/>
                  </a:lnTo>
                  <a:lnTo>
                    <a:pt x="5292" y="718"/>
                  </a:lnTo>
                  <a:lnTo>
                    <a:pt x="5312" y="724"/>
                  </a:lnTo>
                  <a:lnTo>
                    <a:pt x="5316" y="732"/>
                  </a:lnTo>
                  <a:lnTo>
                    <a:pt x="5338" y="732"/>
                  </a:lnTo>
                  <a:lnTo>
                    <a:pt x="5364" y="722"/>
                  </a:lnTo>
                  <a:lnTo>
                    <a:pt x="5396" y="682"/>
                  </a:lnTo>
                  <a:lnTo>
                    <a:pt x="5388" y="682"/>
                  </a:lnTo>
                  <a:lnTo>
                    <a:pt x="5378" y="690"/>
                  </a:lnTo>
                  <a:lnTo>
                    <a:pt x="5364" y="690"/>
                  </a:lnTo>
                  <a:lnTo>
                    <a:pt x="5372" y="680"/>
                  </a:lnTo>
                  <a:lnTo>
                    <a:pt x="5370" y="674"/>
                  </a:lnTo>
                  <a:lnTo>
                    <a:pt x="5332" y="672"/>
                  </a:lnTo>
                  <a:lnTo>
                    <a:pt x="5316" y="682"/>
                  </a:lnTo>
                  <a:lnTo>
                    <a:pt x="5316" y="684"/>
                  </a:lnTo>
                  <a:lnTo>
                    <a:pt x="5310" y="696"/>
                  </a:lnTo>
                  <a:lnTo>
                    <a:pt x="5300" y="690"/>
                  </a:lnTo>
                  <a:lnTo>
                    <a:pt x="5308" y="668"/>
                  </a:lnTo>
                  <a:lnTo>
                    <a:pt x="5304" y="654"/>
                  </a:lnTo>
                  <a:lnTo>
                    <a:pt x="5306" y="642"/>
                  </a:lnTo>
                  <a:lnTo>
                    <a:pt x="5314" y="648"/>
                  </a:lnTo>
                  <a:lnTo>
                    <a:pt x="5328" y="634"/>
                  </a:lnTo>
                  <a:lnTo>
                    <a:pt x="5318" y="622"/>
                  </a:lnTo>
                  <a:lnTo>
                    <a:pt x="5324" y="616"/>
                  </a:lnTo>
                  <a:lnTo>
                    <a:pt x="5320" y="598"/>
                  </a:lnTo>
                  <a:lnTo>
                    <a:pt x="5334" y="598"/>
                  </a:lnTo>
                  <a:lnTo>
                    <a:pt x="5334" y="610"/>
                  </a:lnTo>
                  <a:lnTo>
                    <a:pt x="5346" y="604"/>
                  </a:lnTo>
                  <a:lnTo>
                    <a:pt x="5352" y="600"/>
                  </a:lnTo>
                  <a:lnTo>
                    <a:pt x="5370" y="602"/>
                  </a:lnTo>
                  <a:lnTo>
                    <a:pt x="5368" y="608"/>
                  </a:lnTo>
                  <a:lnTo>
                    <a:pt x="5408" y="608"/>
                  </a:lnTo>
                  <a:lnTo>
                    <a:pt x="5410" y="604"/>
                  </a:lnTo>
                  <a:lnTo>
                    <a:pt x="5400" y="582"/>
                  </a:lnTo>
                  <a:lnTo>
                    <a:pt x="5416" y="578"/>
                  </a:lnTo>
                  <a:lnTo>
                    <a:pt x="5434" y="584"/>
                  </a:lnTo>
                  <a:lnTo>
                    <a:pt x="5430" y="592"/>
                  </a:lnTo>
                  <a:lnTo>
                    <a:pt x="5436" y="606"/>
                  </a:lnTo>
                  <a:lnTo>
                    <a:pt x="5442" y="590"/>
                  </a:lnTo>
                  <a:lnTo>
                    <a:pt x="5464" y="594"/>
                  </a:lnTo>
                  <a:lnTo>
                    <a:pt x="5462" y="610"/>
                  </a:lnTo>
                  <a:lnTo>
                    <a:pt x="5480" y="620"/>
                  </a:lnTo>
                  <a:lnTo>
                    <a:pt x="5462" y="628"/>
                  </a:lnTo>
                  <a:lnTo>
                    <a:pt x="5470" y="634"/>
                  </a:lnTo>
                  <a:lnTo>
                    <a:pt x="5506" y="628"/>
                  </a:lnTo>
                  <a:lnTo>
                    <a:pt x="5498" y="636"/>
                  </a:lnTo>
                  <a:lnTo>
                    <a:pt x="5482" y="646"/>
                  </a:lnTo>
                  <a:lnTo>
                    <a:pt x="5470" y="658"/>
                  </a:lnTo>
                  <a:lnTo>
                    <a:pt x="5452" y="664"/>
                  </a:lnTo>
                  <a:lnTo>
                    <a:pt x="5454" y="672"/>
                  </a:lnTo>
                  <a:lnTo>
                    <a:pt x="5472" y="668"/>
                  </a:lnTo>
                  <a:lnTo>
                    <a:pt x="5472" y="676"/>
                  </a:lnTo>
                  <a:lnTo>
                    <a:pt x="5490" y="654"/>
                  </a:lnTo>
                  <a:lnTo>
                    <a:pt x="5544" y="642"/>
                  </a:lnTo>
                  <a:lnTo>
                    <a:pt x="5546" y="642"/>
                  </a:lnTo>
                  <a:lnTo>
                    <a:pt x="5534" y="652"/>
                  </a:lnTo>
                  <a:lnTo>
                    <a:pt x="5526" y="666"/>
                  </a:lnTo>
                  <a:lnTo>
                    <a:pt x="5506" y="684"/>
                  </a:lnTo>
                  <a:lnTo>
                    <a:pt x="5484" y="698"/>
                  </a:lnTo>
                  <a:lnTo>
                    <a:pt x="5464" y="718"/>
                  </a:lnTo>
                  <a:lnTo>
                    <a:pt x="5462" y="736"/>
                  </a:lnTo>
                  <a:lnTo>
                    <a:pt x="5416" y="748"/>
                  </a:lnTo>
                  <a:lnTo>
                    <a:pt x="5408" y="768"/>
                  </a:lnTo>
                  <a:lnTo>
                    <a:pt x="5436" y="768"/>
                  </a:lnTo>
                  <a:lnTo>
                    <a:pt x="5412" y="796"/>
                  </a:lnTo>
                  <a:lnTo>
                    <a:pt x="5454" y="780"/>
                  </a:lnTo>
                  <a:lnTo>
                    <a:pt x="5454" y="790"/>
                  </a:lnTo>
                  <a:lnTo>
                    <a:pt x="5478" y="780"/>
                  </a:lnTo>
                  <a:lnTo>
                    <a:pt x="5470" y="792"/>
                  </a:lnTo>
                  <a:lnTo>
                    <a:pt x="5454" y="798"/>
                  </a:lnTo>
                  <a:lnTo>
                    <a:pt x="5452" y="808"/>
                  </a:lnTo>
                  <a:lnTo>
                    <a:pt x="5470" y="812"/>
                  </a:lnTo>
                  <a:lnTo>
                    <a:pt x="5494" y="792"/>
                  </a:lnTo>
                  <a:lnTo>
                    <a:pt x="5502" y="774"/>
                  </a:lnTo>
                  <a:lnTo>
                    <a:pt x="5518" y="756"/>
                  </a:lnTo>
                  <a:lnTo>
                    <a:pt x="5524" y="740"/>
                  </a:lnTo>
                  <a:lnTo>
                    <a:pt x="5508" y="728"/>
                  </a:lnTo>
                  <a:lnTo>
                    <a:pt x="5514" y="722"/>
                  </a:lnTo>
                  <a:lnTo>
                    <a:pt x="5556" y="688"/>
                  </a:lnTo>
                  <a:lnTo>
                    <a:pt x="5556" y="682"/>
                  </a:lnTo>
                  <a:lnTo>
                    <a:pt x="5560" y="670"/>
                  </a:lnTo>
                  <a:lnTo>
                    <a:pt x="5570" y="672"/>
                  </a:lnTo>
                  <a:lnTo>
                    <a:pt x="5580" y="670"/>
                  </a:lnTo>
                  <a:lnTo>
                    <a:pt x="5586" y="674"/>
                  </a:lnTo>
                  <a:lnTo>
                    <a:pt x="5584" y="678"/>
                  </a:lnTo>
                  <a:lnTo>
                    <a:pt x="5594" y="676"/>
                  </a:lnTo>
                  <a:lnTo>
                    <a:pt x="5612" y="676"/>
                  </a:lnTo>
                  <a:lnTo>
                    <a:pt x="5628" y="686"/>
                  </a:lnTo>
                  <a:lnTo>
                    <a:pt x="5640" y="682"/>
                  </a:lnTo>
                  <a:lnTo>
                    <a:pt x="5660" y="670"/>
                  </a:lnTo>
                  <a:lnTo>
                    <a:pt x="5674" y="664"/>
                  </a:lnTo>
                  <a:lnTo>
                    <a:pt x="5704" y="658"/>
                  </a:lnTo>
                  <a:lnTo>
                    <a:pt x="5714" y="648"/>
                  </a:lnTo>
                  <a:lnTo>
                    <a:pt x="5738" y="630"/>
                  </a:lnTo>
                  <a:lnTo>
                    <a:pt x="5798" y="614"/>
                  </a:lnTo>
                  <a:lnTo>
                    <a:pt x="5820" y="604"/>
                  </a:lnTo>
                  <a:lnTo>
                    <a:pt x="5804" y="598"/>
                  </a:lnTo>
                  <a:lnTo>
                    <a:pt x="5828" y="576"/>
                  </a:lnTo>
                  <a:lnTo>
                    <a:pt x="5838" y="562"/>
                  </a:lnTo>
                  <a:lnTo>
                    <a:pt x="5846" y="546"/>
                  </a:lnTo>
                  <a:lnTo>
                    <a:pt x="5832" y="536"/>
                  </a:lnTo>
                  <a:lnTo>
                    <a:pt x="5822" y="544"/>
                  </a:lnTo>
                  <a:lnTo>
                    <a:pt x="5812" y="552"/>
                  </a:lnTo>
                  <a:lnTo>
                    <a:pt x="5802" y="562"/>
                  </a:lnTo>
                  <a:lnTo>
                    <a:pt x="5816" y="558"/>
                  </a:lnTo>
                  <a:lnTo>
                    <a:pt x="5830" y="552"/>
                  </a:lnTo>
                  <a:lnTo>
                    <a:pt x="5788" y="576"/>
                  </a:lnTo>
                  <a:lnTo>
                    <a:pt x="5748" y="580"/>
                  </a:lnTo>
                  <a:lnTo>
                    <a:pt x="5730" y="574"/>
                  </a:lnTo>
                  <a:lnTo>
                    <a:pt x="5744" y="566"/>
                  </a:lnTo>
                  <a:lnTo>
                    <a:pt x="5766" y="542"/>
                  </a:lnTo>
                  <a:lnTo>
                    <a:pt x="5776" y="540"/>
                  </a:lnTo>
                  <a:lnTo>
                    <a:pt x="5788" y="542"/>
                  </a:lnTo>
                  <a:lnTo>
                    <a:pt x="5820" y="522"/>
                  </a:lnTo>
                  <a:lnTo>
                    <a:pt x="5828" y="512"/>
                  </a:lnTo>
                  <a:lnTo>
                    <a:pt x="5814" y="514"/>
                  </a:lnTo>
                  <a:lnTo>
                    <a:pt x="5818" y="512"/>
                  </a:lnTo>
                  <a:lnTo>
                    <a:pt x="5832" y="498"/>
                  </a:lnTo>
                  <a:lnTo>
                    <a:pt x="5860" y="482"/>
                  </a:lnTo>
                  <a:lnTo>
                    <a:pt x="5898" y="476"/>
                  </a:lnTo>
                  <a:lnTo>
                    <a:pt x="5908" y="472"/>
                  </a:lnTo>
                  <a:lnTo>
                    <a:pt x="5884" y="488"/>
                  </a:lnTo>
                  <a:lnTo>
                    <a:pt x="5868" y="504"/>
                  </a:lnTo>
                  <a:lnTo>
                    <a:pt x="5868" y="512"/>
                  </a:lnTo>
                  <a:lnTo>
                    <a:pt x="5896" y="498"/>
                  </a:lnTo>
                  <a:lnTo>
                    <a:pt x="5918" y="482"/>
                  </a:lnTo>
                  <a:lnTo>
                    <a:pt x="5928" y="460"/>
                  </a:lnTo>
                  <a:lnTo>
                    <a:pt x="5910" y="458"/>
                  </a:lnTo>
                  <a:lnTo>
                    <a:pt x="5876" y="468"/>
                  </a:lnTo>
                  <a:lnTo>
                    <a:pt x="5856" y="464"/>
                  </a:lnTo>
                  <a:lnTo>
                    <a:pt x="5856" y="436"/>
                  </a:lnTo>
                  <a:lnTo>
                    <a:pt x="5852" y="430"/>
                  </a:lnTo>
                  <a:lnTo>
                    <a:pt x="5846" y="438"/>
                  </a:lnTo>
                  <a:lnTo>
                    <a:pt x="5834" y="442"/>
                  </a:lnTo>
                  <a:lnTo>
                    <a:pt x="5826" y="434"/>
                  </a:lnTo>
                  <a:lnTo>
                    <a:pt x="5830" y="430"/>
                  </a:lnTo>
                  <a:lnTo>
                    <a:pt x="5810" y="420"/>
                  </a:lnTo>
                  <a:lnTo>
                    <a:pt x="5812" y="412"/>
                  </a:lnTo>
                  <a:lnTo>
                    <a:pt x="5818" y="406"/>
                  </a:lnTo>
                  <a:lnTo>
                    <a:pt x="5772" y="406"/>
                  </a:lnTo>
                  <a:lnTo>
                    <a:pt x="5758" y="394"/>
                  </a:lnTo>
                  <a:lnTo>
                    <a:pt x="5758" y="386"/>
                  </a:lnTo>
                  <a:lnTo>
                    <a:pt x="5772" y="380"/>
                  </a:lnTo>
                  <a:lnTo>
                    <a:pt x="5750" y="368"/>
                  </a:lnTo>
                  <a:lnTo>
                    <a:pt x="5754" y="360"/>
                  </a:lnTo>
                  <a:lnTo>
                    <a:pt x="5748" y="348"/>
                  </a:lnTo>
                  <a:lnTo>
                    <a:pt x="5770" y="320"/>
                  </a:lnTo>
                  <a:lnTo>
                    <a:pt x="5782" y="308"/>
                  </a:lnTo>
                  <a:lnTo>
                    <a:pt x="5792" y="298"/>
                  </a:lnTo>
                  <a:lnTo>
                    <a:pt x="5806" y="294"/>
                  </a:lnTo>
                  <a:lnTo>
                    <a:pt x="5812" y="294"/>
                  </a:lnTo>
                  <a:lnTo>
                    <a:pt x="5852" y="270"/>
                  </a:lnTo>
                  <a:lnTo>
                    <a:pt x="5856" y="272"/>
                  </a:lnTo>
                  <a:lnTo>
                    <a:pt x="5856" y="278"/>
                  </a:lnTo>
                  <a:lnTo>
                    <a:pt x="5866" y="272"/>
                  </a:lnTo>
                  <a:lnTo>
                    <a:pt x="5880" y="260"/>
                  </a:lnTo>
                  <a:lnTo>
                    <a:pt x="5868" y="264"/>
                  </a:lnTo>
                  <a:lnTo>
                    <a:pt x="5874" y="240"/>
                  </a:lnTo>
                  <a:lnTo>
                    <a:pt x="5868" y="228"/>
                  </a:lnTo>
                  <a:lnTo>
                    <a:pt x="5878" y="220"/>
                  </a:lnTo>
                  <a:lnTo>
                    <a:pt x="5892" y="206"/>
                  </a:lnTo>
                  <a:lnTo>
                    <a:pt x="5914" y="194"/>
                  </a:lnTo>
                  <a:lnTo>
                    <a:pt x="5910" y="194"/>
                  </a:lnTo>
                  <a:lnTo>
                    <a:pt x="5920" y="184"/>
                  </a:lnTo>
                  <a:lnTo>
                    <a:pt x="5930" y="176"/>
                  </a:lnTo>
                  <a:lnTo>
                    <a:pt x="5944" y="162"/>
                  </a:lnTo>
                  <a:lnTo>
                    <a:pt x="5952" y="158"/>
                  </a:lnTo>
                  <a:lnTo>
                    <a:pt x="5960" y="160"/>
                  </a:lnTo>
                  <a:lnTo>
                    <a:pt x="5966" y="158"/>
                  </a:lnTo>
                  <a:lnTo>
                    <a:pt x="5974" y="150"/>
                  </a:lnTo>
                  <a:lnTo>
                    <a:pt x="5990" y="144"/>
                  </a:lnTo>
                  <a:lnTo>
                    <a:pt x="6000" y="170"/>
                  </a:lnTo>
                  <a:lnTo>
                    <a:pt x="6008" y="168"/>
                  </a:lnTo>
                  <a:lnTo>
                    <a:pt x="6026" y="154"/>
                  </a:lnTo>
                  <a:lnTo>
                    <a:pt x="6040" y="134"/>
                  </a:lnTo>
                  <a:lnTo>
                    <a:pt x="6032" y="132"/>
                  </a:lnTo>
                  <a:lnTo>
                    <a:pt x="6026" y="126"/>
                  </a:lnTo>
                  <a:lnTo>
                    <a:pt x="6034" y="116"/>
                  </a:lnTo>
                  <a:lnTo>
                    <a:pt x="6060" y="102"/>
                  </a:lnTo>
                  <a:lnTo>
                    <a:pt x="6098" y="90"/>
                  </a:lnTo>
                  <a:lnTo>
                    <a:pt x="6112" y="82"/>
                  </a:lnTo>
                  <a:lnTo>
                    <a:pt x="6120" y="74"/>
                  </a:lnTo>
                  <a:lnTo>
                    <a:pt x="6140" y="62"/>
                  </a:lnTo>
                  <a:lnTo>
                    <a:pt x="6158" y="60"/>
                  </a:lnTo>
                  <a:lnTo>
                    <a:pt x="6170" y="64"/>
                  </a:lnTo>
                  <a:lnTo>
                    <a:pt x="6188" y="62"/>
                  </a:lnTo>
                  <a:lnTo>
                    <a:pt x="6196" y="74"/>
                  </a:lnTo>
                  <a:lnTo>
                    <a:pt x="6188" y="80"/>
                  </a:lnTo>
                  <a:lnTo>
                    <a:pt x="6178" y="84"/>
                  </a:lnTo>
                  <a:lnTo>
                    <a:pt x="6168" y="92"/>
                  </a:lnTo>
                  <a:lnTo>
                    <a:pt x="6166" y="98"/>
                  </a:lnTo>
                  <a:lnTo>
                    <a:pt x="6184" y="92"/>
                  </a:lnTo>
                  <a:lnTo>
                    <a:pt x="6170" y="110"/>
                  </a:lnTo>
                  <a:lnTo>
                    <a:pt x="6192" y="102"/>
                  </a:lnTo>
                  <a:lnTo>
                    <a:pt x="6204" y="94"/>
                  </a:lnTo>
                  <a:lnTo>
                    <a:pt x="6208" y="106"/>
                  </a:lnTo>
                  <a:lnTo>
                    <a:pt x="6242" y="102"/>
                  </a:lnTo>
                  <a:lnTo>
                    <a:pt x="6232" y="112"/>
                  </a:lnTo>
                  <a:lnTo>
                    <a:pt x="6216" y="124"/>
                  </a:lnTo>
                  <a:lnTo>
                    <a:pt x="6212" y="136"/>
                  </a:lnTo>
                  <a:lnTo>
                    <a:pt x="6228" y="140"/>
                  </a:lnTo>
                  <a:lnTo>
                    <a:pt x="6238" y="180"/>
                  </a:lnTo>
                  <a:lnTo>
                    <a:pt x="6220" y="210"/>
                  </a:lnTo>
                  <a:lnTo>
                    <a:pt x="6204" y="228"/>
                  </a:lnTo>
                  <a:lnTo>
                    <a:pt x="6184" y="250"/>
                  </a:lnTo>
                  <a:lnTo>
                    <a:pt x="6180" y="248"/>
                  </a:lnTo>
                  <a:lnTo>
                    <a:pt x="6172" y="258"/>
                  </a:lnTo>
                  <a:lnTo>
                    <a:pt x="6188" y="262"/>
                  </a:lnTo>
                  <a:lnTo>
                    <a:pt x="6176" y="282"/>
                  </a:lnTo>
                  <a:lnTo>
                    <a:pt x="6202" y="282"/>
                  </a:lnTo>
                  <a:lnTo>
                    <a:pt x="6206" y="292"/>
                  </a:lnTo>
                  <a:lnTo>
                    <a:pt x="6196" y="306"/>
                  </a:lnTo>
                  <a:lnTo>
                    <a:pt x="6192" y="312"/>
                  </a:lnTo>
                  <a:lnTo>
                    <a:pt x="6194" y="328"/>
                  </a:lnTo>
                  <a:lnTo>
                    <a:pt x="6190" y="338"/>
                  </a:lnTo>
                  <a:lnTo>
                    <a:pt x="6184" y="348"/>
                  </a:lnTo>
                  <a:lnTo>
                    <a:pt x="6188" y="348"/>
                  </a:lnTo>
                  <a:lnTo>
                    <a:pt x="6202" y="342"/>
                  </a:lnTo>
                  <a:lnTo>
                    <a:pt x="6208" y="338"/>
                  </a:lnTo>
                  <a:lnTo>
                    <a:pt x="6212" y="344"/>
                  </a:lnTo>
                  <a:lnTo>
                    <a:pt x="6202" y="362"/>
                  </a:lnTo>
                  <a:lnTo>
                    <a:pt x="6210" y="366"/>
                  </a:lnTo>
                  <a:lnTo>
                    <a:pt x="6210" y="374"/>
                  </a:lnTo>
                  <a:lnTo>
                    <a:pt x="6176" y="376"/>
                  </a:lnTo>
                  <a:lnTo>
                    <a:pt x="6146" y="362"/>
                  </a:lnTo>
                  <a:lnTo>
                    <a:pt x="6134" y="362"/>
                  </a:lnTo>
                  <a:lnTo>
                    <a:pt x="6134" y="366"/>
                  </a:lnTo>
                  <a:lnTo>
                    <a:pt x="6128" y="372"/>
                  </a:lnTo>
                  <a:lnTo>
                    <a:pt x="6118" y="376"/>
                  </a:lnTo>
                  <a:lnTo>
                    <a:pt x="6116" y="378"/>
                  </a:lnTo>
                  <a:lnTo>
                    <a:pt x="6146" y="384"/>
                  </a:lnTo>
                  <a:lnTo>
                    <a:pt x="6146" y="398"/>
                  </a:lnTo>
                  <a:lnTo>
                    <a:pt x="6132" y="406"/>
                  </a:lnTo>
                  <a:lnTo>
                    <a:pt x="6112" y="414"/>
                  </a:lnTo>
                  <a:lnTo>
                    <a:pt x="6102" y="414"/>
                  </a:lnTo>
                  <a:lnTo>
                    <a:pt x="6086" y="418"/>
                  </a:lnTo>
                  <a:lnTo>
                    <a:pt x="6076" y="418"/>
                  </a:lnTo>
                  <a:lnTo>
                    <a:pt x="6068" y="424"/>
                  </a:lnTo>
                  <a:lnTo>
                    <a:pt x="6048" y="428"/>
                  </a:lnTo>
                  <a:lnTo>
                    <a:pt x="6048" y="436"/>
                  </a:lnTo>
                  <a:lnTo>
                    <a:pt x="6042" y="440"/>
                  </a:lnTo>
                  <a:lnTo>
                    <a:pt x="6074" y="442"/>
                  </a:lnTo>
                  <a:lnTo>
                    <a:pt x="6076" y="450"/>
                  </a:lnTo>
                  <a:lnTo>
                    <a:pt x="6074" y="464"/>
                  </a:lnTo>
                  <a:lnTo>
                    <a:pt x="6090" y="474"/>
                  </a:lnTo>
                  <a:lnTo>
                    <a:pt x="6114" y="472"/>
                  </a:lnTo>
                  <a:lnTo>
                    <a:pt x="6144" y="458"/>
                  </a:lnTo>
                  <a:lnTo>
                    <a:pt x="6158" y="458"/>
                  </a:lnTo>
                  <a:lnTo>
                    <a:pt x="6154" y="464"/>
                  </a:lnTo>
                  <a:lnTo>
                    <a:pt x="6138" y="472"/>
                  </a:lnTo>
                  <a:lnTo>
                    <a:pt x="6150" y="470"/>
                  </a:lnTo>
                  <a:lnTo>
                    <a:pt x="6152" y="482"/>
                  </a:lnTo>
                  <a:lnTo>
                    <a:pt x="6162" y="480"/>
                  </a:lnTo>
                  <a:lnTo>
                    <a:pt x="6170" y="486"/>
                  </a:lnTo>
                  <a:lnTo>
                    <a:pt x="6186" y="478"/>
                  </a:lnTo>
                  <a:lnTo>
                    <a:pt x="6176" y="494"/>
                  </a:lnTo>
                  <a:lnTo>
                    <a:pt x="6162" y="506"/>
                  </a:lnTo>
                  <a:lnTo>
                    <a:pt x="6150" y="512"/>
                  </a:lnTo>
                  <a:lnTo>
                    <a:pt x="6142" y="502"/>
                  </a:lnTo>
                  <a:lnTo>
                    <a:pt x="6128" y="504"/>
                  </a:lnTo>
                  <a:lnTo>
                    <a:pt x="6118" y="500"/>
                  </a:lnTo>
                  <a:lnTo>
                    <a:pt x="6128" y="540"/>
                  </a:lnTo>
                  <a:lnTo>
                    <a:pt x="6140" y="544"/>
                  </a:lnTo>
                  <a:lnTo>
                    <a:pt x="6134" y="554"/>
                  </a:lnTo>
                  <a:lnTo>
                    <a:pt x="6138" y="572"/>
                  </a:lnTo>
                  <a:lnTo>
                    <a:pt x="6132" y="576"/>
                  </a:lnTo>
                  <a:lnTo>
                    <a:pt x="6132" y="594"/>
                  </a:lnTo>
                  <a:lnTo>
                    <a:pt x="6112" y="612"/>
                  </a:lnTo>
                  <a:lnTo>
                    <a:pt x="6096" y="630"/>
                  </a:lnTo>
                  <a:lnTo>
                    <a:pt x="6084" y="640"/>
                  </a:lnTo>
                  <a:lnTo>
                    <a:pt x="6078" y="658"/>
                  </a:lnTo>
                  <a:lnTo>
                    <a:pt x="6080" y="666"/>
                  </a:lnTo>
                  <a:lnTo>
                    <a:pt x="6078" y="676"/>
                  </a:lnTo>
                  <a:lnTo>
                    <a:pt x="6098" y="668"/>
                  </a:lnTo>
                  <a:lnTo>
                    <a:pt x="6136" y="646"/>
                  </a:lnTo>
                  <a:lnTo>
                    <a:pt x="6152" y="626"/>
                  </a:lnTo>
                  <a:lnTo>
                    <a:pt x="6160" y="620"/>
                  </a:lnTo>
                  <a:lnTo>
                    <a:pt x="6164" y="616"/>
                  </a:lnTo>
                  <a:lnTo>
                    <a:pt x="6176" y="616"/>
                  </a:lnTo>
                  <a:lnTo>
                    <a:pt x="6194" y="598"/>
                  </a:lnTo>
                  <a:lnTo>
                    <a:pt x="6206" y="578"/>
                  </a:lnTo>
                  <a:lnTo>
                    <a:pt x="6218" y="562"/>
                  </a:lnTo>
                  <a:lnTo>
                    <a:pt x="6252" y="548"/>
                  </a:lnTo>
                  <a:lnTo>
                    <a:pt x="6280" y="530"/>
                  </a:lnTo>
                  <a:lnTo>
                    <a:pt x="6304" y="526"/>
                  </a:lnTo>
                  <a:lnTo>
                    <a:pt x="6324" y="530"/>
                  </a:lnTo>
                  <a:lnTo>
                    <a:pt x="6316" y="550"/>
                  </a:lnTo>
                  <a:lnTo>
                    <a:pt x="6322" y="570"/>
                  </a:lnTo>
                  <a:lnTo>
                    <a:pt x="6348" y="600"/>
                  </a:lnTo>
                  <a:lnTo>
                    <a:pt x="6346" y="614"/>
                  </a:lnTo>
                  <a:lnTo>
                    <a:pt x="6324" y="654"/>
                  </a:lnTo>
                  <a:lnTo>
                    <a:pt x="6320" y="676"/>
                  </a:lnTo>
                  <a:lnTo>
                    <a:pt x="6306" y="696"/>
                  </a:lnTo>
                  <a:lnTo>
                    <a:pt x="6286" y="702"/>
                  </a:lnTo>
                  <a:lnTo>
                    <a:pt x="6272" y="698"/>
                  </a:lnTo>
                  <a:lnTo>
                    <a:pt x="6272" y="692"/>
                  </a:lnTo>
                  <a:lnTo>
                    <a:pt x="6286" y="674"/>
                  </a:lnTo>
                  <a:lnTo>
                    <a:pt x="6250" y="698"/>
                  </a:lnTo>
                  <a:lnTo>
                    <a:pt x="6240" y="718"/>
                  </a:lnTo>
                  <a:lnTo>
                    <a:pt x="6220" y="734"/>
                  </a:lnTo>
                  <a:lnTo>
                    <a:pt x="6210" y="746"/>
                  </a:lnTo>
                  <a:lnTo>
                    <a:pt x="6210" y="772"/>
                  </a:lnTo>
                  <a:lnTo>
                    <a:pt x="6208" y="788"/>
                  </a:lnTo>
                  <a:lnTo>
                    <a:pt x="6212" y="804"/>
                  </a:lnTo>
                  <a:lnTo>
                    <a:pt x="6212" y="856"/>
                  </a:lnTo>
                  <a:lnTo>
                    <a:pt x="6220" y="862"/>
                  </a:lnTo>
                  <a:lnTo>
                    <a:pt x="6224" y="872"/>
                  </a:lnTo>
                  <a:lnTo>
                    <a:pt x="6246" y="868"/>
                  </a:lnTo>
                  <a:lnTo>
                    <a:pt x="6254" y="858"/>
                  </a:lnTo>
                  <a:lnTo>
                    <a:pt x="6270" y="846"/>
                  </a:lnTo>
                  <a:lnTo>
                    <a:pt x="6288" y="840"/>
                  </a:lnTo>
                  <a:lnTo>
                    <a:pt x="6292" y="846"/>
                  </a:lnTo>
                  <a:lnTo>
                    <a:pt x="6304" y="840"/>
                  </a:lnTo>
                  <a:lnTo>
                    <a:pt x="6304" y="846"/>
                  </a:lnTo>
                  <a:lnTo>
                    <a:pt x="6314" y="848"/>
                  </a:lnTo>
                  <a:lnTo>
                    <a:pt x="6340" y="824"/>
                  </a:lnTo>
                  <a:lnTo>
                    <a:pt x="6356" y="802"/>
                  </a:lnTo>
                  <a:lnTo>
                    <a:pt x="6364" y="796"/>
                  </a:lnTo>
                  <a:lnTo>
                    <a:pt x="6396" y="774"/>
                  </a:lnTo>
                  <a:lnTo>
                    <a:pt x="6428" y="760"/>
                  </a:lnTo>
                  <a:lnTo>
                    <a:pt x="6476" y="726"/>
                  </a:lnTo>
                  <a:lnTo>
                    <a:pt x="6488" y="710"/>
                  </a:lnTo>
                  <a:lnTo>
                    <a:pt x="6504" y="702"/>
                  </a:lnTo>
                  <a:lnTo>
                    <a:pt x="6542" y="660"/>
                  </a:lnTo>
                  <a:lnTo>
                    <a:pt x="6546" y="652"/>
                  </a:lnTo>
                  <a:lnTo>
                    <a:pt x="6562" y="644"/>
                  </a:lnTo>
                  <a:lnTo>
                    <a:pt x="6584" y="644"/>
                  </a:lnTo>
                  <a:lnTo>
                    <a:pt x="6594" y="638"/>
                  </a:lnTo>
                  <a:lnTo>
                    <a:pt x="6600" y="640"/>
                  </a:lnTo>
                  <a:lnTo>
                    <a:pt x="6622" y="636"/>
                  </a:lnTo>
                  <a:lnTo>
                    <a:pt x="6640" y="642"/>
                  </a:lnTo>
                  <a:lnTo>
                    <a:pt x="6658" y="640"/>
                  </a:lnTo>
                  <a:lnTo>
                    <a:pt x="6654" y="636"/>
                  </a:lnTo>
                  <a:lnTo>
                    <a:pt x="6634" y="630"/>
                  </a:lnTo>
                  <a:lnTo>
                    <a:pt x="6632" y="622"/>
                  </a:lnTo>
                  <a:lnTo>
                    <a:pt x="6644" y="618"/>
                  </a:lnTo>
                  <a:lnTo>
                    <a:pt x="6644" y="610"/>
                  </a:lnTo>
                  <a:lnTo>
                    <a:pt x="6658" y="612"/>
                  </a:lnTo>
                  <a:lnTo>
                    <a:pt x="6664" y="604"/>
                  </a:lnTo>
                  <a:lnTo>
                    <a:pt x="6674" y="602"/>
                  </a:lnTo>
                  <a:lnTo>
                    <a:pt x="6690" y="606"/>
                  </a:lnTo>
                  <a:lnTo>
                    <a:pt x="6694" y="596"/>
                  </a:lnTo>
                  <a:lnTo>
                    <a:pt x="6682" y="594"/>
                  </a:lnTo>
                  <a:lnTo>
                    <a:pt x="6676" y="584"/>
                  </a:lnTo>
                  <a:lnTo>
                    <a:pt x="6656" y="578"/>
                  </a:lnTo>
                  <a:lnTo>
                    <a:pt x="6652" y="566"/>
                  </a:lnTo>
                  <a:lnTo>
                    <a:pt x="6656" y="552"/>
                  </a:lnTo>
                  <a:lnTo>
                    <a:pt x="6664" y="540"/>
                  </a:lnTo>
                  <a:lnTo>
                    <a:pt x="6672" y="536"/>
                  </a:lnTo>
                  <a:lnTo>
                    <a:pt x="6680" y="518"/>
                  </a:lnTo>
                  <a:lnTo>
                    <a:pt x="6690" y="508"/>
                  </a:lnTo>
                  <a:lnTo>
                    <a:pt x="6696" y="494"/>
                  </a:lnTo>
                  <a:lnTo>
                    <a:pt x="6702" y="490"/>
                  </a:lnTo>
                  <a:lnTo>
                    <a:pt x="6714" y="478"/>
                  </a:lnTo>
                  <a:lnTo>
                    <a:pt x="6722" y="468"/>
                  </a:lnTo>
                  <a:lnTo>
                    <a:pt x="6750" y="474"/>
                  </a:lnTo>
                  <a:lnTo>
                    <a:pt x="6770" y="468"/>
                  </a:lnTo>
                  <a:lnTo>
                    <a:pt x="6808" y="468"/>
                  </a:lnTo>
                  <a:lnTo>
                    <a:pt x="6836" y="476"/>
                  </a:lnTo>
                  <a:lnTo>
                    <a:pt x="6844" y="488"/>
                  </a:lnTo>
                  <a:lnTo>
                    <a:pt x="6874" y="504"/>
                  </a:lnTo>
                  <a:lnTo>
                    <a:pt x="6918" y="504"/>
                  </a:lnTo>
                  <a:lnTo>
                    <a:pt x="6926" y="508"/>
                  </a:lnTo>
                  <a:lnTo>
                    <a:pt x="6946" y="508"/>
                  </a:lnTo>
                  <a:lnTo>
                    <a:pt x="6964" y="504"/>
                  </a:lnTo>
                  <a:lnTo>
                    <a:pt x="6966" y="512"/>
                  </a:lnTo>
                  <a:lnTo>
                    <a:pt x="6952" y="530"/>
                  </a:lnTo>
                  <a:lnTo>
                    <a:pt x="6948" y="538"/>
                  </a:lnTo>
                  <a:lnTo>
                    <a:pt x="6930" y="542"/>
                  </a:lnTo>
                  <a:lnTo>
                    <a:pt x="6944" y="544"/>
                  </a:lnTo>
                  <a:lnTo>
                    <a:pt x="6948" y="560"/>
                  </a:lnTo>
                  <a:lnTo>
                    <a:pt x="6952" y="576"/>
                  </a:lnTo>
                  <a:lnTo>
                    <a:pt x="6940" y="582"/>
                  </a:lnTo>
                  <a:lnTo>
                    <a:pt x="6942" y="584"/>
                  </a:lnTo>
                  <a:lnTo>
                    <a:pt x="6992" y="584"/>
                  </a:lnTo>
                  <a:lnTo>
                    <a:pt x="7002" y="594"/>
                  </a:lnTo>
                  <a:lnTo>
                    <a:pt x="7018" y="598"/>
                  </a:lnTo>
                  <a:lnTo>
                    <a:pt x="7014" y="608"/>
                  </a:lnTo>
                  <a:lnTo>
                    <a:pt x="6986" y="622"/>
                  </a:lnTo>
                  <a:lnTo>
                    <a:pt x="6948" y="632"/>
                  </a:lnTo>
                  <a:lnTo>
                    <a:pt x="6928" y="646"/>
                  </a:lnTo>
                  <a:lnTo>
                    <a:pt x="6980" y="654"/>
                  </a:lnTo>
                  <a:lnTo>
                    <a:pt x="6978" y="668"/>
                  </a:lnTo>
                  <a:lnTo>
                    <a:pt x="6966" y="684"/>
                  </a:lnTo>
                  <a:lnTo>
                    <a:pt x="6950" y="692"/>
                  </a:lnTo>
                  <a:lnTo>
                    <a:pt x="6922" y="700"/>
                  </a:lnTo>
                  <a:lnTo>
                    <a:pt x="6910" y="700"/>
                  </a:lnTo>
                  <a:lnTo>
                    <a:pt x="6890" y="712"/>
                  </a:lnTo>
                  <a:lnTo>
                    <a:pt x="6878" y="720"/>
                  </a:lnTo>
                  <a:lnTo>
                    <a:pt x="6874" y="712"/>
                  </a:lnTo>
                  <a:lnTo>
                    <a:pt x="6878" y="696"/>
                  </a:lnTo>
                  <a:lnTo>
                    <a:pt x="6864" y="698"/>
                  </a:lnTo>
                  <a:lnTo>
                    <a:pt x="6852" y="704"/>
                  </a:lnTo>
                  <a:lnTo>
                    <a:pt x="6834" y="696"/>
                  </a:lnTo>
                  <a:lnTo>
                    <a:pt x="6824" y="706"/>
                  </a:lnTo>
                  <a:lnTo>
                    <a:pt x="6830" y="728"/>
                  </a:lnTo>
                  <a:lnTo>
                    <a:pt x="6820" y="732"/>
                  </a:lnTo>
                  <a:lnTo>
                    <a:pt x="6818" y="736"/>
                  </a:lnTo>
                  <a:lnTo>
                    <a:pt x="6828" y="738"/>
                  </a:lnTo>
                  <a:lnTo>
                    <a:pt x="6820" y="748"/>
                  </a:lnTo>
                  <a:lnTo>
                    <a:pt x="6812" y="756"/>
                  </a:lnTo>
                  <a:lnTo>
                    <a:pt x="6850" y="748"/>
                  </a:lnTo>
                  <a:lnTo>
                    <a:pt x="6828" y="766"/>
                  </a:lnTo>
                  <a:lnTo>
                    <a:pt x="6810" y="784"/>
                  </a:lnTo>
                  <a:lnTo>
                    <a:pt x="6802" y="800"/>
                  </a:lnTo>
                  <a:lnTo>
                    <a:pt x="6816" y="844"/>
                  </a:lnTo>
                  <a:lnTo>
                    <a:pt x="6828" y="858"/>
                  </a:lnTo>
                  <a:lnTo>
                    <a:pt x="6828" y="872"/>
                  </a:lnTo>
                  <a:lnTo>
                    <a:pt x="6824" y="880"/>
                  </a:lnTo>
                  <a:lnTo>
                    <a:pt x="6810" y="886"/>
                  </a:lnTo>
                  <a:lnTo>
                    <a:pt x="6798" y="904"/>
                  </a:lnTo>
                  <a:lnTo>
                    <a:pt x="6798" y="914"/>
                  </a:lnTo>
                  <a:lnTo>
                    <a:pt x="6782" y="924"/>
                  </a:lnTo>
                  <a:lnTo>
                    <a:pt x="6774" y="934"/>
                  </a:lnTo>
                  <a:lnTo>
                    <a:pt x="6744" y="938"/>
                  </a:lnTo>
                  <a:lnTo>
                    <a:pt x="6728" y="944"/>
                  </a:lnTo>
                  <a:lnTo>
                    <a:pt x="6698" y="958"/>
                  </a:lnTo>
                  <a:lnTo>
                    <a:pt x="6688" y="968"/>
                  </a:lnTo>
                  <a:lnTo>
                    <a:pt x="6672" y="980"/>
                  </a:lnTo>
                  <a:lnTo>
                    <a:pt x="6600" y="1010"/>
                  </a:lnTo>
                  <a:lnTo>
                    <a:pt x="6564" y="1012"/>
                  </a:lnTo>
                  <a:lnTo>
                    <a:pt x="6548" y="1024"/>
                  </a:lnTo>
                  <a:lnTo>
                    <a:pt x="6518" y="1038"/>
                  </a:lnTo>
                  <a:lnTo>
                    <a:pt x="6506" y="1036"/>
                  </a:lnTo>
                  <a:lnTo>
                    <a:pt x="6502" y="1032"/>
                  </a:lnTo>
                  <a:lnTo>
                    <a:pt x="6502" y="1022"/>
                  </a:lnTo>
                  <a:lnTo>
                    <a:pt x="6482" y="996"/>
                  </a:lnTo>
                  <a:lnTo>
                    <a:pt x="6478" y="980"/>
                  </a:lnTo>
                  <a:lnTo>
                    <a:pt x="6460" y="988"/>
                  </a:lnTo>
                  <a:lnTo>
                    <a:pt x="6454" y="1000"/>
                  </a:lnTo>
                  <a:lnTo>
                    <a:pt x="6460" y="1022"/>
                  </a:lnTo>
                  <a:lnTo>
                    <a:pt x="6452" y="1040"/>
                  </a:lnTo>
                  <a:lnTo>
                    <a:pt x="6448" y="1060"/>
                  </a:lnTo>
                  <a:lnTo>
                    <a:pt x="6444" y="1068"/>
                  </a:lnTo>
                  <a:lnTo>
                    <a:pt x="6446" y="1060"/>
                  </a:lnTo>
                  <a:lnTo>
                    <a:pt x="6426" y="1058"/>
                  </a:lnTo>
                  <a:lnTo>
                    <a:pt x="6416" y="1040"/>
                  </a:lnTo>
                  <a:lnTo>
                    <a:pt x="6404" y="1032"/>
                  </a:lnTo>
                  <a:lnTo>
                    <a:pt x="6404" y="1030"/>
                  </a:lnTo>
                  <a:lnTo>
                    <a:pt x="6396" y="1028"/>
                  </a:lnTo>
                  <a:lnTo>
                    <a:pt x="6376" y="1058"/>
                  </a:lnTo>
                  <a:lnTo>
                    <a:pt x="6352" y="1048"/>
                  </a:lnTo>
                  <a:lnTo>
                    <a:pt x="6338" y="1048"/>
                  </a:lnTo>
                  <a:lnTo>
                    <a:pt x="6326" y="1038"/>
                  </a:lnTo>
                  <a:lnTo>
                    <a:pt x="6318" y="1044"/>
                  </a:lnTo>
                  <a:lnTo>
                    <a:pt x="6336" y="992"/>
                  </a:lnTo>
                  <a:lnTo>
                    <a:pt x="6322" y="988"/>
                  </a:lnTo>
                  <a:lnTo>
                    <a:pt x="6278" y="1004"/>
                  </a:lnTo>
                  <a:lnTo>
                    <a:pt x="6280" y="1000"/>
                  </a:lnTo>
                  <a:lnTo>
                    <a:pt x="6266" y="1000"/>
                  </a:lnTo>
                  <a:lnTo>
                    <a:pt x="6226" y="984"/>
                  </a:lnTo>
                  <a:lnTo>
                    <a:pt x="6200" y="996"/>
                  </a:lnTo>
                  <a:lnTo>
                    <a:pt x="6196" y="1002"/>
                  </a:lnTo>
                  <a:lnTo>
                    <a:pt x="6186" y="1004"/>
                  </a:lnTo>
                  <a:lnTo>
                    <a:pt x="6184" y="1016"/>
                  </a:lnTo>
                  <a:lnTo>
                    <a:pt x="6214" y="1034"/>
                  </a:lnTo>
                  <a:lnTo>
                    <a:pt x="6228" y="1036"/>
                  </a:lnTo>
                  <a:lnTo>
                    <a:pt x="6230" y="1046"/>
                  </a:lnTo>
                  <a:lnTo>
                    <a:pt x="6220" y="1058"/>
                  </a:lnTo>
                  <a:lnTo>
                    <a:pt x="6210" y="1070"/>
                  </a:lnTo>
                  <a:lnTo>
                    <a:pt x="6200" y="1074"/>
                  </a:lnTo>
                  <a:lnTo>
                    <a:pt x="6196" y="1080"/>
                  </a:lnTo>
                  <a:lnTo>
                    <a:pt x="6184" y="1088"/>
                  </a:lnTo>
                  <a:lnTo>
                    <a:pt x="6166" y="1094"/>
                  </a:lnTo>
                  <a:lnTo>
                    <a:pt x="6138" y="1114"/>
                  </a:lnTo>
                  <a:lnTo>
                    <a:pt x="6118" y="1124"/>
                  </a:lnTo>
                  <a:lnTo>
                    <a:pt x="6100" y="1132"/>
                  </a:lnTo>
                  <a:lnTo>
                    <a:pt x="6090" y="1140"/>
                  </a:lnTo>
                  <a:lnTo>
                    <a:pt x="6064" y="1146"/>
                  </a:lnTo>
                  <a:lnTo>
                    <a:pt x="6036" y="1166"/>
                  </a:lnTo>
                  <a:lnTo>
                    <a:pt x="6024" y="1174"/>
                  </a:lnTo>
                  <a:lnTo>
                    <a:pt x="6004" y="1174"/>
                  </a:lnTo>
                  <a:lnTo>
                    <a:pt x="5934" y="1174"/>
                  </a:lnTo>
                  <a:lnTo>
                    <a:pt x="5936" y="1164"/>
                  </a:lnTo>
                  <a:lnTo>
                    <a:pt x="5934" y="1150"/>
                  </a:lnTo>
                  <a:lnTo>
                    <a:pt x="5906" y="1114"/>
                  </a:lnTo>
                  <a:lnTo>
                    <a:pt x="5906" y="1110"/>
                  </a:lnTo>
                  <a:lnTo>
                    <a:pt x="5876" y="1098"/>
                  </a:lnTo>
                  <a:lnTo>
                    <a:pt x="5854" y="1074"/>
                  </a:lnTo>
                  <a:lnTo>
                    <a:pt x="5842" y="1072"/>
                  </a:lnTo>
                  <a:lnTo>
                    <a:pt x="5824" y="1076"/>
                  </a:lnTo>
                  <a:lnTo>
                    <a:pt x="5800" y="1068"/>
                  </a:lnTo>
                  <a:lnTo>
                    <a:pt x="5780" y="1082"/>
                  </a:lnTo>
                  <a:lnTo>
                    <a:pt x="5804" y="1098"/>
                  </a:lnTo>
                  <a:lnTo>
                    <a:pt x="5812" y="1118"/>
                  </a:lnTo>
                  <a:lnTo>
                    <a:pt x="5816" y="1144"/>
                  </a:lnTo>
                  <a:lnTo>
                    <a:pt x="5832" y="1166"/>
                  </a:lnTo>
                  <a:lnTo>
                    <a:pt x="5878" y="1174"/>
                  </a:lnTo>
                  <a:lnTo>
                    <a:pt x="5912" y="1190"/>
                  </a:lnTo>
                  <a:lnTo>
                    <a:pt x="5932" y="1186"/>
                  </a:lnTo>
                  <a:lnTo>
                    <a:pt x="5974" y="1190"/>
                  </a:lnTo>
                  <a:lnTo>
                    <a:pt x="6016" y="1198"/>
                  </a:lnTo>
                  <a:lnTo>
                    <a:pt x="6014" y="1204"/>
                  </a:lnTo>
                  <a:lnTo>
                    <a:pt x="6024" y="1204"/>
                  </a:lnTo>
                  <a:lnTo>
                    <a:pt x="6006" y="1220"/>
                  </a:lnTo>
                  <a:lnTo>
                    <a:pt x="5992" y="1230"/>
                  </a:lnTo>
                  <a:lnTo>
                    <a:pt x="5982" y="1240"/>
                  </a:lnTo>
                  <a:lnTo>
                    <a:pt x="5954" y="1254"/>
                  </a:lnTo>
                  <a:lnTo>
                    <a:pt x="5928" y="1278"/>
                  </a:lnTo>
                  <a:lnTo>
                    <a:pt x="5912" y="1282"/>
                  </a:lnTo>
                  <a:lnTo>
                    <a:pt x="5882" y="1306"/>
                  </a:lnTo>
                  <a:lnTo>
                    <a:pt x="5852" y="1312"/>
                  </a:lnTo>
                  <a:lnTo>
                    <a:pt x="5838" y="1332"/>
                  </a:lnTo>
                  <a:lnTo>
                    <a:pt x="5824" y="1340"/>
                  </a:lnTo>
                  <a:lnTo>
                    <a:pt x="5786" y="1366"/>
                  </a:lnTo>
                  <a:lnTo>
                    <a:pt x="5780" y="1362"/>
                  </a:lnTo>
                  <a:lnTo>
                    <a:pt x="5748" y="1378"/>
                  </a:lnTo>
                  <a:lnTo>
                    <a:pt x="5708" y="1388"/>
                  </a:lnTo>
                  <a:lnTo>
                    <a:pt x="5676" y="1378"/>
                  </a:lnTo>
                  <a:lnTo>
                    <a:pt x="5662" y="1388"/>
                  </a:lnTo>
                  <a:lnTo>
                    <a:pt x="5640" y="1366"/>
                  </a:lnTo>
                  <a:lnTo>
                    <a:pt x="5634" y="1370"/>
                  </a:lnTo>
                  <a:lnTo>
                    <a:pt x="5630" y="1378"/>
                  </a:lnTo>
                  <a:lnTo>
                    <a:pt x="5630" y="1362"/>
                  </a:lnTo>
                  <a:lnTo>
                    <a:pt x="5620" y="1364"/>
                  </a:lnTo>
                  <a:lnTo>
                    <a:pt x="5612" y="1356"/>
                  </a:lnTo>
                  <a:lnTo>
                    <a:pt x="5606" y="1354"/>
                  </a:lnTo>
                  <a:lnTo>
                    <a:pt x="5602" y="1364"/>
                  </a:lnTo>
                  <a:lnTo>
                    <a:pt x="5594" y="1376"/>
                  </a:lnTo>
                  <a:lnTo>
                    <a:pt x="5590" y="1388"/>
                  </a:lnTo>
                  <a:lnTo>
                    <a:pt x="5586" y="1390"/>
                  </a:lnTo>
                  <a:lnTo>
                    <a:pt x="5578" y="1390"/>
                  </a:lnTo>
                  <a:lnTo>
                    <a:pt x="5570" y="1382"/>
                  </a:lnTo>
                  <a:lnTo>
                    <a:pt x="5556" y="1398"/>
                  </a:lnTo>
                  <a:lnTo>
                    <a:pt x="5558" y="1408"/>
                  </a:lnTo>
                  <a:lnTo>
                    <a:pt x="5548" y="1414"/>
                  </a:lnTo>
                  <a:lnTo>
                    <a:pt x="5528" y="1432"/>
                  </a:lnTo>
                  <a:lnTo>
                    <a:pt x="5512" y="1440"/>
                  </a:lnTo>
                  <a:lnTo>
                    <a:pt x="5498" y="1440"/>
                  </a:lnTo>
                  <a:lnTo>
                    <a:pt x="5488" y="1448"/>
                  </a:lnTo>
                  <a:lnTo>
                    <a:pt x="5476" y="1450"/>
                  </a:lnTo>
                  <a:lnTo>
                    <a:pt x="5468" y="1446"/>
                  </a:lnTo>
                  <a:lnTo>
                    <a:pt x="5452" y="1458"/>
                  </a:lnTo>
                  <a:lnTo>
                    <a:pt x="5450" y="1446"/>
                  </a:lnTo>
                  <a:lnTo>
                    <a:pt x="5442" y="1442"/>
                  </a:lnTo>
                  <a:lnTo>
                    <a:pt x="5438" y="1432"/>
                  </a:lnTo>
                  <a:lnTo>
                    <a:pt x="5418" y="1424"/>
                  </a:lnTo>
                  <a:lnTo>
                    <a:pt x="5408" y="1410"/>
                  </a:lnTo>
                  <a:lnTo>
                    <a:pt x="5396" y="1412"/>
                  </a:lnTo>
                  <a:lnTo>
                    <a:pt x="5404" y="1394"/>
                  </a:lnTo>
                  <a:lnTo>
                    <a:pt x="5382" y="1406"/>
                  </a:lnTo>
                  <a:lnTo>
                    <a:pt x="5362" y="1406"/>
                  </a:lnTo>
                  <a:lnTo>
                    <a:pt x="5360" y="1398"/>
                  </a:lnTo>
                  <a:lnTo>
                    <a:pt x="5350" y="1402"/>
                  </a:lnTo>
                  <a:lnTo>
                    <a:pt x="5332" y="1400"/>
                  </a:lnTo>
                  <a:lnTo>
                    <a:pt x="5302" y="1386"/>
                  </a:lnTo>
                  <a:lnTo>
                    <a:pt x="5300" y="1378"/>
                  </a:lnTo>
                  <a:lnTo>
                    <a:pt x="5242" y="1342"/>
                  </a:lnTo>
                  <a:lnTo>
                    <a:pt x="5234" y="1346"/>
                  </a:lnTo>
                  <a:lnTo>
                    <a:pt x="5210" y="1360"/>
                  </a:lnTo>
                  <a:lnTo>
                    <a:pt x="5208" y="1370"/>
                  </a:lnTo>
                  <a:lnTo>
                    <a:pt x="5218" y="1380"/>
                  </a:lnTo>
                  <a:lnTo>
                    <a:pt x="5234" y="1376"/>
                  </a:lnTo>
                  <a:lnTo>
                    <a:pt x="5236" y="1370"/>
                  </a:lnTo>
                  <a:lnTo>
                    <a:pt x="5244" y="1362"/>
                  </a:lnTo>
                  <a:lnTo>
                    <a:pt x="5250" y="1374"/>
                  </a:lnTo>
                  <a:lnTo>
                    <a:pt x="5274" y="1382"/>
                  </a:lnTo>
                  <a:lnTo>
                    <a:pt x="5290" y="1392"/>
                  </a:lnTo>
                  <a:lnTo>
                    <a:pt x="5290" y="1400"/>
                  </a:lnTo>
                  <a:lnTo>
                    <a:pt x="5286" y="1406"/>
                  </a:lnTo>
                  <a:lnTo>
                    <a:pt x="5304" y="1398"/>
                  </a:lnTo>
                  <a:lnTo>
                    <a:pt x="5332" y="1408"/>
                  </a:lnTo>
                  <a:lnTo>
                    <a:pt x="5330" y="1416"/>
                  </a:lnTo>
                  <a:lnTo>
                    <a:pt x="5310" y="1422"/>
                  </a:lnTo>
                  <a:lnTo>
                    <a:pt x="5298" y="1430"/>
                  </a:lnTo>
                  <a:lnTo>
                    <a:pt x="5308" y="1432"/>
                  </a:lnTo>
                  <a:lnTo>
                    <a:pt x="5322" y="1422"/>
                  </a:lnTo>
                  <a:lnTo>
                    <a:pt x="5342" y="1416"/>
                  </a:lnTo>
                  <a:lnTo>
                    <a:pt x="5364" y="1414"/>
                  </a:lnTo>
                  <a:lnTo>
                    <a:pt x="5376" y="1420"/>
                  </a:lnTo>
                  <a:lnTo>
                    <a:pt x="5374" y="1430"/>
                  </a:lnTo>
                  <a:lnTo>
                    <a:pt x="5384" y="1446"/>
                  </a:lnTo>
                  <a:lnTo>
                    <a:pt x="5406" y="1452"/>
                  </a:lnTo>
                  <a:lnTo>
                    <a:pt x="5404" y="1460"/>
                  </a:lnTo>
                  <a:lnTo>
                    <a:pt x="5424" y="1458"/>
                  </a:lnTo>
                  <a:lnTo>
                    <a:pt x="5424" y="1464"/>
                  </a:lnTo>
                  <a:lnTo>
                    <a:pt x="5416" y="1470"/>
                  </a:lnTo>
                  <a:lnTo>
                    <a:pt x="5422" y="1484"/>
                  </a:lnTo>
                  <a:lnTo>
                    <a:pt x="5420" y="1492"/>
                  </a:lnTo>
                  <a:lnTo>
                    <a:pt x="5406" y="1524"/>
                  </a:lnTo>
                  <a:lnTo>
                    <a:pt x="5394" y="1540"/>
                  </a:lnTo>
                  <a:lnTo>
                    <a:pt x="5382" y="1548"/>
                  </a:lnTo>
                  <a:lnTo>
                    <a:pt x="5368" y="1556"/>
                  </a:lnTo>
                  <a:lnTo>
                    <a:pt x="5326" y="1554"/>
                  </a:lnTo>
                  <a:lnTo>
                    <a:pt x="5308" y="1562"/>
                  </a:lnTo>
                  <a:lnTo>
                    <a:pt x="5290" y="1564"/>
                  </a:lnTo>
                  <a:lnTo>
                    <a:pt x="5268" y="1564"/>
                  </a:lnTo>
                  <a:lnTo>
                    <a:pt x="5226" y="1558"/>
                  </a:lnTo>
                  <a:lnTo>
                    <a:pt x="5208" y="1562"/>
                  </a:lnTo>
                  <a:lnTo>
                    <a:pt x="5192" y="1554"/>
                  </a:lnTo>
                  <a:lnTo>
                    <a:pt x="5178" y="1564"/>
                  </a:lnTo>
                  <a:lnTo>
                    <a:pt x="5178" y="1586"/>
                  </a:lnTo>
                  <a:lnTo>
                    <a:pt x="5210" y="1586"/>
                  </a:lnTo>
                  <a:lnTo>
                    <a:pt x="5208" y="1596"/>
                  </a:lnTo>
                  <a:lnTo>
                    <a:pt x="5180" y="1600"/>
                  </a:lnTo>
                  <a:lnTo>
                    <a:pt x="5168" y="1594"/>
                  </a:lnTo>
                  <a:lnTo>
                    <a:pt x="5144" y="1594"/>
                  </a:lnTo>
                  <a:lnTo>
                    <a:pt x="5118" y="1620"/>
                  </a:lnTo>
                  <a:lnTo>
                    <a:pt x="5106" y="1636"/>
                  </a:lnTo>
                  <a:lnTo>
                    <a:pt x="5084" y="1678"/>
                  </a:lnTo>
                  <a:lnTo>
                    <a:pt x="5074" y="1650"/>
                  </a:lnTo>
                  <a:lnTo>
                    <a:pt x="5058" y="1652"/>
                  </a:lnTo>
                  <a:lnTo>
                    <a:pt x="5052" y="1662"/>
                  </a:lnTo>
                  <a:lnTo>
                    <a:pt x="5032" y="1670"/>
                  </a:lnTo>
                  <a:lnTo>
                    <a:pt x="5026" y="1680"/>
                  </a:lnTo>
                  <a:lnTo>
                    <a:pt x="5010" y="1690"/>
                  </a:lnTo>
                  <a:lnTo>
                    <a:pt x="5004" y="1696"/>
                  </a:lnTo>
                  <a:lnTo>
                    <a:pt x="4974" y="1694"/>
                  </a:lnTo>
                  <a:lnTo>
                    <a:pt x="4970" y="1710"/>
                  </a:lnTo>
                  <a:lnTo>
                    <a:pt x="4974" y="1716"/>
                  </a:lnTo>
                  <a:lnTo>
                    <a:pt x="4936" y="1742"/>
                  </a:lnTo>
                  <a:lnTo>
                    <a:pt x="4880" y="1760"/>
                  </a:lnTo>
                  <a:lnTo>
                    <a:pt x="4860" y="1772"/>
                  </a:lnTo>
                  <a:lnTo>
                    <a:pt x="4814" y="1770"/>
                  </a:lnTo>
                  <a:lnTo>
                    <a:pt x="4800" y="1776"/>
                  </a:lnTo>
                  <a:lnTo>
                    <a:pt x="4822" y="1802"/>
                  </a:lnTo>
                  <a:lnTo>
                    <a:pt x="4816" y="1812"/>
                  </a:lnTo>
                  <a:lnTo>
                    <a:pt x="4798" y="1828"/>
                  </a:lnTo>
                  <a:lnTo>
                    <a:pt x="4782" y="1848"/>
                  </a:lnTo>
                  <a:lnTo>
                    <a:pt x="4768" y="1858"/>
                  </a:lnTo>
                  <a:lnTo>
                    <a:pt x="4746" y="1862"/>
                  </a:lnTo>
                  <a:lnTo>
                    <a:pt x="4720" y="1900"/>
                  </a:lnTo>
                  <a:lnTo>
                    <a:pt x="4702" y="1912"/>
                  </a:lnTo>
                  <a:lnTo>
                    <a:pt x="4686" y="1914"/>
                  </a:lnTo>
                  <a:lnTo>
                    <a:pt x="4678" y="1920"/>
                  </a:lnTo>
                  <a:lnTo>
                    <a:pt x="4666" y="1946"/>
                  </a:lnTo>
                  <a:lnTo>
                    <a:pt x="4634" y="1986"/>
                  </a:lnTo>
                  <a:lnTo>
                    <a:pt x="4624" y="2000"/>
                  </a:lnTo>
                  <a:lnTo>
                    <a:pt x="4580" y="2050"/>
                  </a:lnTo>
                  <a:lnTo>
                    <a:pt x="4550" y="2092"/>
                  </a:lnTo>
                  <a:lnTo>
                    <a:pt x="4536" y="2118"/>
                  </a:lnTo>
                  <a:lnTo>
                    <a:pt x="4524" y="2132"/>
                  </a:lnTo>
                  <a:lnTo>
                    <a:pt x="4486" y="2158"/>
                  </a:lnTo>
                  <a:lnTo>
                    <a:pt x="4502" y="2164"/>
                  </a:lnTo>
                  <a:lnTo>
                    <a:pt x="4498" y="2180"/>
                  </a:lnTo>
                  <a:lnTo>
                    <a:pt x="4498" y="2200"/>
                  </a:lnTo>
                  <a:lnTo>
                    <a:pt x="4506" y="2210"/>
                  </a:lnTo>
                  <a:lnTo>
                    <a:pt x="4508" y="2210"/>
                  </a:lnTo>
                  <a:lnTo>
                    <a:pt x="4522" y="2204"/>
                  </a:lnTo>
                  <a:lnTo>
                    <a:pt x="4518" y="2216"/>
                  </a:lnTo>
                  <a:lnTo>
                    <a:pt x="4496" y="2252"/>
                  </a:lnTo>
                  <a:lnTo>
                    <a:pt x="4508" y="2244"/>
                  </a:lnTo>
                  <a:lnTo>
                    <a:pt x="4532" y="2210"/>
                  </a:lnTo>
                  <a:lnTo>
                    <a:pt x="4540" y="2206"/>
                  </a:lnTo>
                  <a:lnTo>
                    <a:pt x="4594" y="2210"/>
                  </a:lnTo>
                  <a:lnTo>
                    <a:pt x="4602" y="2218"/>
                  </a:lnTo>
                  <a:lnTo>
                    <a:pt x="4616" y="2218"/>
                  </a:lnTo>
                  <a:lnTo>
                    <a:pt x="4626" y="2216"/>
                  </a:lnTo>
                  <a:lnTo>
                    <a:pt x="4636" y="2224"/>
                  </a:lnTo>
                  <a:lnTo>
                    <a:pt x="4636" y="2236"/>
                  </a:lnTo>
                  <a:lnTo>
                    <a:pt x="4616" y="2278"/>
                  </a:lnTo>
                  <a:lnTo>
                    <a:pt x="4604" y="2350"/>
                  </a:lnTo>
                  <a:lnTo>
                    <a:pt x="4582" y="2384"/>
                  </a:lnTo>
                  <a:lnTo>
                    <a:pt x="4568" y="2408"/>
                  </a:lnTo>
                  <a:lnTo>
                    <a:pt x="4574" y="2440"/>
                  </a:lnTo>
                  <a:lnTo>
                    <a:pt x="4550" y="2482"/>
                  </a:lnTo>
                  <a:lnTo>
                    <a:pt x="4538" y="2498"/>
                  </a:lnTo>
                  <a:lnTo>
                    <a:pt x="4522" y="2512"/>
                  </a:lnTo>
                  <a:lnTo>
                    <a:pt x="4502" y="2522"/>
                  </a:lnTo>
                  <a:lnTo>
                    <a:pt x="4484" y="2528"/>
                  </a:lnTo>
                  <a:lnTo>
                    <a:pt x="4484" y="2534"/>
                  </a:lnTo>
                  <a:lnTo>
                    <a:pt x="4536" y="2516"/>
                  </a:lnTo>
                  <a:lnTo>
                    <a:pt x="4528" y="2530"/>
                  </a:lnTo>
                  <a:lnTo>
                    <a:pt x="4536" y="2532"/>
                  </a:lnTo>
                  <a:lnTo>
                    <a:pt x="4580" y="2514"/>
                  </a:lnTo>
                  <a:lnTo>
                    <a:pt x="4696" y="2486"/>
                  </a:lnTo>
                  <a:lnTo>
                    <a:pt x="4734" y="2498"/>
                  </a:lnTo>
                  <a:lnTo>
                    <a:pt x="4740" y="2510"/>
                  </a:lnTo>
                  <a:lnTo>
                    <a:pt x="4756" y="2522"/>
                  </a:lnTo>
                  <a:lnTo>
                    <a:pt x="4758" y="2536"/>
                  </a:lnTo>
                  <a:lnTo>
                    <a:pt x="4784" y="2550"/>
                  </a:lnTo>
                  <a:lnTo>
                    <a:pt x="4820" y="2576"/>
                  </a:lnTo>
                  <a:lnTo>
                    <a:pt x="4860" y="2580"/>
                  </a:lnTo>
                  <a:lnTo>
                    <a:pt x="4866" y="2586"/>
                  </a:lnTo>
                  <a:lnTo>
                    <a:pt x="4916" y="2636"/>
                  </a:lnTo>
                  <a:lnTo>
                    <a:pt x="4938" y="2648"/>
                  </a:lnTo>
                  <a:lnTo>
                    <a:pt x="4948" y="2702"/>
                  </a:lnTo>
                  <a:lnTo>
                    <a:pt x="4950" y="2714"/>
                  </a:lnTo>
                  <a:lnTo>
                    <a:pt x="4942" y="2726"/>
                  </a:lnTo>
                  <a:lnTo>
                    <a:pt x="4948" y="2734"/>
                  </a:lnTo>
                  <a:lnTo>
                    <a:pt x="4960" y="2730"/>
                  </a:lnTo>
                  <a:lnTo>
                    <a:pt x="4970" y="2734"/>
                  </a:lnTo>
                  <a:lnTo>
                    <a:pt x="4972" y="2742"/>
                  </a:lnTo>
                  <a:lnTo>
                    <a:pt x="4984" y="2746"/>
                  </a:lnTo>
                  <a:lnTo>
                    <a:pt x="5004" y="2744"/>
                  </a:lnTo>
                  <a:lnTo>
                    <a:pt x="5016" y="2748"/>
                  </a:lnTo>
                  <a:lnTo>
                    <a:pt x="5032" y="2768"/>
                  </a:lnTo>
                  <a:lnTo>
                    <a:pt x="5100" y="2796"/>
                  </a:lnTo>
                  <a:lnTo>
                    <a:pt x="5116" y="2814"/>
                  </a:lnTo>
                  <a:lnTo>
                    <a:pt x="5114" y="2828"/>
                  </a:lnTo>
                  <a:lnTo>
                    <a:pt x="5138" y="2846"/>
                  </a:lnTo>
                  <a:lnTo>
                    <a:pt x="5132" y="2858"/>
                  </a:lnTo>
                  <a:lnTo>
                    <a:pt x="5106" y="2882"/>
                  </a:lnTo>
                  <a:lnTo>
                    <a:pt x="5088" y="2904"/>
                  </a:lnTo>
                  <a:lnTo>
                    <a:pt x="5050" y="2938"/>
                  </a:lnTo>
                  <a:lnTo>
                    <a:pt x="5096" y="2904"/>
                  </a:lnTo>
                  <a:lnTo>
                    <a:pt x="5116" y="2882"/>
                  </a:lnTo>
                  <a:lnTo>
                    <a:pt x="5136" y="2868"/>
                  </a:lnTo>
                  <a:lnTo>
                    <a:pt x="5250" y="2874"/>
                  </a:lnTo>
                  <a:lnTo>
                    <a:pt x="5300" y="2888"/>
                  </a:lnTo>
                  <a:lnTo>
                    <a:pt x="5344" y="2886"/>
                  </a:lnTo>
                  <a:lnTo>
                    <a:pt x="5356" y="2890"/>
                  </a:lnTo>
                  <a:lnTo>
                    <a:pt x="5370" y="2884"/>
                  </a:lnTo>
                  <a:lnTo>
                    <a:pt x="5390" y="2888"/>
                  </a:lnTo>
                  <a:lnTo>
                    <a:pt x="5388" y="2902"/>
                  </a:lnTo>
                  <a:lnTo>
                    <a:pt x="5406" y="2900"/>
                  </a:lnTo>
                  <a:lnTo>
                    <a:pt x="5422" y="2908"/>
                  </a:lnTo>
                  <a:lnTo>
                    <a:pt x="5432" y="2920"/>
                  </a:lnTo>
                  <a:lnTo>
                    <a:pt x="5448" y="2912"/>
                  </a:lnTo>
                  <a:lnTo>
                    <a:pt x="5434" y="2958"/>
                  </a:lnTo>
                  <a:lnTo>
                    <a:pt x="5398" y="3016"/>
                  </a:lnTo>
                  <a:lnTo>
                    <a:pt x="5372" y="3050"/>
                  </a:lnTo>
                  <a:lnTo>
                    <a:pt x="5352" y="3082"/>
                  </a:lnTo>
                  <a:lnTo>
                    <a:pt x="5352" y="3102"/>
                  </a:lnTo>
                  <a:lnTo>
                    <a:pt x="5348" y="3124"/>
                  </a:lnTo>
                  <a:lnTo>
                    <a:pt x="5326" y="3164"/>
                  </a:lnTo>
                  <a:lnTo>
                    <a:pt x="5300" y="3226"/>
                  </a:lnTo>
                  <a:lnTo>
                    <a:pt x="5282" y="3240"/>
                  </a:lnTo>
                  <a:lnTo>
                    <a:pt x="5260" y="3276"/>
                  </a:lnTo>
                  <a:lnTo>
                    <a:pt x="5264" y="3290"/>
                  </a:lnTo>
                  <a:lnTo>
                    <a:pt x="5270" y="3296"/>
                  </a:lnTo>
                  <a:lnTo>
                    <a:pt x="5268" y="3310"/>
                  </a:lnTo>
                  <a:lnTo>
                    <a:pt x="5276" y="3330"/>
                  </a:lnTo>
                  <a:lnTo>
                    <a:pt x="5290" y="3340"/>
                  </a:lnTo>
                  <a:lnTo>
                    <a:pt x="5300" y="3356"/>
                  </a:lnTo>
                  <a:lnTo>
                    <a:pt x="5298" y="3376"/>
                  </a:lnTo>
                  <a:lnTo>
                    <a:pt x="5304" y="3398"/>
                  </a:lnTo>
                  <a:lnTo>
                    <a:pt x="5302" y="3402"/>
                  </a:lnTo>
                  <a:lnTo>
                    <a:pt x="5274" y="3404"/>
                  </a:lnTo>
                  <a:lnTo>
                    <a:pt x="5220" y="3422"/>
                  </a:lnTo>
                  <a:lnTo>
                    <a:pt x="5204" y="3432"/>
                  </a:lnTo>
                  <a:lnTo>
                    <a:pt x="5204" y="3434"/>
                  </a:lnTo>
                  <a:lnTo>
                    <a:pt x="5280" y="3422"/>
                  </a:lnTo>
                  <a:lnTo>
                    <a:pt x="5300" y="3424"/>
                  </a:lnTo>
                  <a:lnTo>
                    <a:pt x="5312" y="3434"/>
                  </a:lnTo>
                  <a:lnTo>
                    <a:pt x="5344" y="3492"/>
                  </a:lnTo>
                  <a:lnTo>
                    <a:pt x="5346" y="3510"/>
                  </a:lnTo>
                  <a:lnTo>
                    <a:pt x="5338" y="3548"/>
                  </a:lnTo>
                  <a:lnTo>
                    <a:pt x="5324" y="3562"/>
                  </a:lnTo>
                  <a:lnTo>
                    <a:pt x="5246" y="3614"/>
                  </a:lnTo>
                  <a:lnTo>
                    <a:pt x="5316" y="3580"/>
                  </a:lnTo>
                  <a:lnTo>
                    <a:pt x="5332" y="3568"/>
                  </a:lnTo>
                  <a:lnTo>
                    <a:pt x="5344" y="3568"/>
                  </a:lnTo>
                  <a:lnTo>
                    <a:pt x="5360" y="3590"/>
                  </a:lnTo>
                  <a:lnTo>
                    <a:pt x="5376" y="3594"/>
                  </a:lnTo>
                  <a:lnTo>
                    <a:pt x="5396" y="3618"/>
                  </a:lnTo>
                  <a:lnTo>
                    <a:pt x="5406" y="3616"/>
                  </a:lnTo>
                  <a:lnTo>
                    <a:pt x="5424" y="3562"/>
                  </a:lnTo>
                  <a:lnTo>
                    <a:pt x="5434" y="3550"/>
                  </a:lnTo>
                  <a:lnTo>
                    <a:pt x="5452" y="3550"/>
                  </a:lnTo>
                  <a:lnTo>
                    <a:pt x="5458" y="3540"/>
                  </a:lnTo>
                  <a:lnTo>
                    <a:pt x="5466" y="3526"/>
                  </a:lnTo>
                  <a:lnTo>
                    <a:pt x="5486" y="3522"/>
                  </a:lnTo>
                  <a:lnTo>
                    <a:pt x="5500" y="3524"/>
                  </a:lnTo>
                  <a:lnTo>
                    <a:pt x="5494" y="3534"/>
                  </a:lnTo>
                  <a:lnTo>
                    <a:pt x="5514" y="3552"/>
                  </a:lnTo>
                  <a:lnTo>
                    <a:pt x="5502" y="3592"/>
                  </a:lnTo>
                  <a:lnTo>
                    <a:pt x="5518" y="3588"/>
                  </a:lnTo>
                  <a:lnTo>
                    <a:pt x="5536" y="3578"/>
                  </a:lnTo>
                  <a:lnTo>
                    <a:pt x="5542" y="3568"/>
                  </a:lnTo>
                  <a:lnTo>
                    <a:pt x="5554" y="3560"/>
                  </a:lnTo>
                  <a:lnTo>
                    <a:pt x="5562" y="3546"/>
                  </a:lnTo>
                  <a:lnTo>
                    <a:pt x="5550" y="3538"/>
                  </a:lnTo>
                  <a:lnTo>
                    <a:pt x="5540" y="3506"/>
                  </a:lnTo>
                  <a:lnTo>
                    <a:pt x="5542" y="3492"/>
                  </a:lnTo>
                  <a:lnTo>
                    <a:pt x="5570" y="3490"/>
                  </a:lnTo>
                  <a:lnTo>
                    <a:pt x="5576" y="3480"/>
                  </a:lnTo>
                  <a:lnTo>
                    <a:pt x="5598" y="3472"/>
                  </a:lnTo>
                  <a:lnTo>
                    <a:pt x="5616" y="3452"/>
                  </a:lnTo>
                  <a:lnTo>
                    <a:pt x="5632" y="3440"/>
                  </a:lnTo>
                  <a:lnTo>
                    <a:pt x="5648" y="3432"/>
                  </a:lnTo>
                  <a:lnTo>
                    <a:pt x="5686" y="3438"/>
                  </a:lnTo>
                  <a:lnTo>
                    <a:pt x="5702" y="3432"/>
                  </a:lnTo>
                  <a:lnTo>
                    <a:pt x="5706" y="3426"/>
                  </a:lnTo>
                  <a:lnTo>
                    <a:pt x="5672" y="3428"/>
                  </a:lnTo>
                  <a:lnTo>
                    <a:pt x="5656" y="3426"/>
                  </a:lnTo>
                  <a:lnTo>
                    <a:pt x="5644" y="3414"/>
                  </a:lnTo>
                  <a:lnTo>
                    <a:pt x="5648" y="3396"/>
                  </a:lnTo>
                  <a:lnTo>
                    <a:pt x="5648" y="3386"/>
                  </a:lnTo>
                  <a:lnTo>
                    <a:pt x="5636" y="3380"/>
                  </a:lnTo>
                  <a:lnTo>
                    <a:pt x="5640" y="3346"/>
                  </a:lnTo>
                  <a:lnTo>
                    <a:pt x="5650" y="3338"/>
                  </a:lnTo>
                  <a:lnTo>
                    <a:pt x="5656" y="3328"/>
                  </a:lnTo>
                  <a:lnTo>
                    <a:pt x="5650" y="3322"/>
                  </a:lnTo>
                  <a:lnTo>
                    <a:pt x="5682" y="3240"/>
                  </a:lnTo>
                  <a:lnTo>
                    <a:pt x="5686" y="3222"/>
                  </a:lnTo>
                  <a:lnTo>
                    <a:pt x="5708" y="3174"/>
                  </a:lnTo>
                  <a:lnTo>
                    <a:pt x="5720" y="3158"/>
                  </a:lnTo>
                  <a:lnTo>
                    <a:pt x="5724" y="3136"/>
                  </a:lnTo>
                  <a:lnTo>
                    <a:pt x="5726" y="3118"/>
                  </a:lnTo>
                  <a:lnTo>
                    <a:pt x="5720" y="3098"/>
                  </a:lnTo>
                  <a:lnTo>
                    <a:pt x="5718" y="3050"/>
                  </a:lnTo>
                  <a:lnTo>
                    <a:pt x="5714" y="3038"/>
                  </a:lnTo>
                  <a:lnTo>
                    <a:pt x="5702" y="3032"/>
                  </a:lnTo>
                  <a:lnTo>
                    <a:pt x="5694" y="3028"/>
                  </a:lnTo>
                  <a:lnTo>
                    <a:pt x="5740" y="3016"/>
                  </a:lnTo>
                  <a:lnTo>
                    <a:pt x="5810" y="2988"/>
                  </a:lnTo>
                  <a:lnTo>
                    <a:pt x="5846" y="2976"/>
                  </a:lnTo>
                  <a:lnTo>
                    <a:pt x="5920" y="2942"/>
                  </a:lnTo>
                  <a:lnTo>
                    <a:pt x="5954" y="2930"/>
                  </a:lnTo>
                  <a:lnTo>
                    <a:pt x="5996" y="2908"/>
                  </a:lnTo>
                  <a:lnTo>
                    <a:pt x="6036" y="2884"/>
                  </a:lnTo>
                  <a:lnTo>
                    <a:pt x="6000" y="2900"/>
                  </a:lnTo>
                  <a:lnTo>
                    <a:pt x="6050" y="2864"/>
                  </a:lnTo>
                  <a:lnTo>
                    <a:pt x="6128" y="2804"/>
                  </a:lnTo>
                  <a:lnTo>
                    <a:pt x="6152" y="2780"/>
                  </a:lnTo>
                  <a:lnTo>
                    <a:pt x="6166" y="2772"/>
                  </a:lnTo>
                  <a:lnTo>
                    <a:pt x="6182" y="2776"/>
                  </a:lnTo>
                  <a:lnTo>
                    <a:pt x="6192" y="2788"/>
                  </a:lnTo>
                  <a:lnTo>
                    <a:pt x="6218" y="2782"/>
                  </a:lnTo>
                  <a:lnTo>
                    <a:pt x="6230" y="2768"/>
                  </a:lnTo>
                  <a:lnTo>
                    <a:pt x="6220" y="2766"/>
                  </a:lnTo>
                  <a:lnTo>
                    <a:pt x="6230" y="2724"/>
                  </a:lnTo>
                  <a:lnTo>
                    <a:pt x="6228" y="2714"/>
                  </a:lnTo>
                  <a:lnTo>
                    <a:pt x="6192" y="2748"/>
                  </a:lnTo>
                  <a:lnTo>
                    <a:pt x="6178" y="2762"/>
                  </a:lnTo>
                  <a:lnTo>
                    <a:pt x="6176" y="2756"/>
                  </a:lnTo>
                  <a:lnTo>
                    <a:pt x="6194" y="2718"/>
                  </a:lnTo>
                  <a:lnTo>
                    <a:pt x="6210" y="2676"/>
                  </a:lnTo>
                  <a:lnTo>
                    <a:pt x="6220" y="2642"/>
                  </a:lnTo>
                  <a:lnTo>
                    <a:pt x="6218" y="2632"/>
                  </a:lnTo>
                  <a:lnTo>
                    <a:pt x="6220" y="2620"/>
                  </a:lnTo>
                  <a:lnTo>
                    <a:pt x="6236" y="2586"/>
                  </a:lnTo>
                  <a:lnTo>
                    <a:pt x="6244" y="2528"/>
                  </a:lnTo>
                  <a:lnTo>
                    <a:pt x="6256" y="2476"/>
                  </a:lnTo>
                  <a:lnTo>
                    <a:pt x="6262" y="2456"/>
                  </a:lnTo>
                  <a:lnTo>
                    <a:pt x="6262" y="2432"/>
                  </a:lnTo>
                  <a:lnTo>
                    <a:pt x="6266" y="2424"/>
                  </a:lnTo>
                  <a:lnTo>
                    <a:pt x="6266" y="2418"/>
                  </a:lnTo>
                  <a:lnTo>
                    <a:pt x="6248" y="2418"/>
                  </a:lnTo>
                  <a:lnTo>
                    <a:pt x="6220" y="2398"/>
                  </a:lnTo>
                  <a:lnTo>
                    <a:pt x="6216" y="2388"/>
                  </a:lnTo>
                  <a:lnTo>
                    <a:pt x="6190" y="2360"/>
                  </a:lnTo>
                  <a:lnTo>
                    <a:pt x="6176" y="2334"/>
                  </a:lnTo>
                  <a:lnTo>
                    <a:pt x="6176" y="2322"/>
                  </a:lnTo>
                  <a:lnTo>
                    <a:pt x="6186" y="2316"/>
                  </a:lnTo>
                  <a:lnTo>
                    <a:pt x="6188" y="2304"/>
                  </a:lnTo>
                  <a:lnTo>
                    <a:pt x="6196" y="2288"/>
                  </a:lnTo>
                  <a:lnTo>
                    <a:pt x="6206" y="2276"/>
                  </a:lnTo>
                  <a:lnTo>
                    <a:pt x="6220" y="2274"/>
                  </a:lnTo>
                  <a:lnTo>
                    <a:pt x="6254" y="2260"/>
                  </a:lnTo>
                  <a:lnTo>
                    <a:pt x="6290" y="2262"/>
                  </a:lnTo>
                  <a:lnTo>
                    <a:pt x="6302" y="2254"/>
                  </a:lnTo>
                  <a:lnTo>
                    <a:pt x="6334" y="2252"/>
                  </a:lnTo>
                  <a:lnTo>
                    <a:pt x="6346" y="2232"/>
                  </a:lnTo>
                  <a:lnTo>
                    <a:pt x="6338" y="2226"/>
                  </a:lnTo>
                  <a:lnTo>
                    <a:pt x="6346" y="2210"/>
                  </a:lnTo>
                  <a:lnTo>
                    <a:pt x="6368" y="2192"/>
                  </a:lnTo>
                  <a:lnTo>
                    <a:pt x="6390" y="2200"/>
                  </a:lnTo>
                  <a:lnTo>
                    <a:pt x="6394" y="2208"/>
                  </a:lnTo>
                  <a:lnTo>
                    <a:pt x="6438" y="2202"/>
                  </a:lnTo>
                  <a:lnTo>
                    <a:pt x="6410" y="2194"/>
                  </a:lnTo>
                  <a:lnTo>
                    <a:pt x="6406" y="2182"/>
                  </a:lnTo>
                  <a:lnTo>
                    <a:pt x="6418" y="2166"/>
                  </a:lnTo>
                  <a:lnTo>
                    <a:pt x="6426" y="2156"/>
                  </a:lnTo>
                  <a:lnTo>
                    <a:pt x="6434" y="2158"/>
                  </a:lnTo>
                  <a:lnTo>
                    <a:pt x="6460" y="2136"/>
                  </a:lnTo>
                  <a:lnTo>
                    <a:pt x="6444" y="2142"/>
                  </a:lnTo>
                  <a:lnTo>
                    <a:pt x="6402" y="2134"/>
                  </a:lnTo>
                  <a:lnTo>
                    <a:pt x="6410" y="2120"/>
                  </a:lnTo>
                  <a:lnTo>
                    <a:pt x="6420" y="2124"/>
                  </a:lnTo>
                  <a:lnTo>
                    <a:pt x="6434" y="2120"/>
                  </a:lnTo>
                  <a:lnTo>
                    <a:pt x="6444" y="2106"/>
                  </a:lnTo>
                  <a:lnTo>
                    <a:pt x="6440" y="2090"/>
                  </a:lnTo>
                  <a:lnTo>
                    <a:pt x="6438" y="2090"/>
                  </a:lnTo>
                  <a:lnTo>
                    <a:pt x="6436" y="2062"/>
                  </a:lnTo>
                  <a:lnTo>
                    <a:pt x="6462" y="2034"/>
                  </a:lnTo>
                  <a:lnTo>
                    <a:pt x="6452" y="2030"/>
                  </a:lnTo>
                  <a:lnTo>
                    <a:pt x="6458" y="2018"/>
                  </a:lnTo>
                  <a:lnTo>
                    <a:pt x="6498" y="2012"/>
                  </a:lnTo>
                  <a:lnTo>
                    <a:pt x="6498" y="2010"/>
                  </a:lnTo>
                  <a:lnTo>
                    <a:pt x="6480" y="2008"/>
                  </a:lnTo>
                  <a:lnTo>
                    <a:pt x="6474" y="2002"/>
                  </a:lnTo>
                  <a:lnTo>
                    <a:pt x="6454" y="2006"/>
                  </a:lnTo>
                  <a:lnTo>
                    <a:pt x="6442" y="2002"/>
                  </a:lnTo>
                  <a:lnTo>
                    <a:pt x="6436" y="1990"/>
                  </a:lnTo>
                  <a:lnTo>
                    <a:pt x="6446" y="1972"/>
                  </a:lnTo>
                  <a:lnTo>
                    <a:pt x="6480" y="1950"/>
                  </a:lnTo>
                  <a:lnTo>
                    <a:pt x="6504" y="1924"/>
                  </a:lnTo>
                  <a:lnTo>
                    <a:pt x="6522" y="1916"/>
                  </a:lnTo>
                  <a:lnTo>
                    <a:pt x="6532" y="1898"/>
                  </a:lnTo>
                  <a:lnTo>
                    <a:pt x="6540" y="1896"/>
                  </a:lnTo>
                  <a:lnTo>
                    <a:pt x="6556" y="1886"/>
                  </a:lnTo>
                  <a:lnTo>
                    <a:pt x="6566" y="1872"/>
                  </a:lnTo>
                  <a:lnTo>
                    <a:pt x="6582" y="1870"/>
                  </a:lnTo>
                  <a:lnTo>
                    <a:pt x="6600" y="1844"/>
                  </a:lnTo>
                  <a:lnTo>
                    <a:pt x="6586" y="1854"/>
                  </a:lnTo>
                  <a:lnTo>
                    <a:pt x="6568" y="1856"/>
                  </a:lnTo>
                  <a:lnTo>
                    <a:pt x="6560" y="1848"/>
                  </a:lnTo>
                  <a:lnTo>
                    <a:pt x="6546" y="1844"/>
                  </a:lnTo>
                  <a:lnTo>
                    <a:pt x="6538" y="1830"/>
                  </a:lnTo>
                  <a:lnTo>
                    <a:pt x="6544" y="1812"/>
                  </a:lnTo>
                  <a:lnTo>
                    <a:pt x="6544" y="1798"/>
                  </a:lnTo>
                  <a:lnTo>
                    <a:pt x="6554" y="1776"/>
                  </a:lnTo>
                  <a:lnTo>
                    <a:pt x="6566" y="1758"/>
                  </a:lnTo>
                  <a:lnTo>
                    <a:pt x="6572" y="1752"/>
                  </a:lnTo>
                  <a:lnTo>
                    <a:pt x="6598" y="1744"/>
                  </a:lnTo>
                  <a:lnTo>
                    <a:pt x="6636" y="1718"/>
                  </a:lnTo>
                  <a:lnTo>
                    <a:pt x="6662" y="1706"/>
                  </a:lnTo>
                  <a:lnTo>
                    <a:pt x="6676" y="1702"/>
                  </a:lnTo>
                  <a:lnTo>
                    <a:pt x="6670" y="1712"/>
                  </a:lnTo>
                  <a:lnTo>
                    <a:pt x="6690" y="1712"/>
                  </a:lnTo>
                  <a:lnTo>
                    <a:pt x="6736" y="1716"/>
                  </a:lnTo>
                  <a:lnTo>
                    <a:pt x="6786" y="1732"/>
                  </a:lnTo>
                  <a:lnTo>
                    <a:pt x="6792" y="1738"/>
                  </a:lnTo>
                  <a:lnTo>
                    <a:pt x="6792" y="1742"/>
                  </a:lnTo>
                  <a:lnTo>
                    <a:pt x="6806" y="1748"/>
                  </a:lnTo>
                  <a:lnTo>
                    <a:pt x="6836" y="1754"/>
                  </a:lnTo>
                  <a:lnTo>
                    <a:pt x="6846" y="1760"/>
                  </a:lnTo>
                  <a:lnTo>
                    <a:pt x="6834" y="1772"/>
                  </a:lnTo>
                  <a:lnTo>
                    <a:pt x="6836" y="1774"/>
                  </a:lnTo>
                  <a:lnTo>
                    <a:pt x="6862" y="1766"/>
                  </a:lnTo>
                  <a:lnTo>
                    <a:pt x="6892" y="1766"/>
                  </a:lnTo>
                  <a:lnTo>
                    <a:pt x="6896" y="1776"/>
                  </a:lnTo>
                  <a:lnTo>
                    <a:pt x="6884" y="1786"/>
                  </a:lnTo>
                  <a:lnTo>
                    <a:pt x="6922" y="1788"/>
                  </a:lnTo>
                  <a:lnTo>
                    <a:pt x="6922" y="1780"/>
                  </a:lnTo>
                  <a:lnTo>
                    <a:pt x="6936" y="1772"/>
                  </a:lnTo>
                  <a:lnTo>
                    <a:pt x="7010" y="1760"/>
                  </a:lnTo>
                  <a:lnTo>
                    <a:pt x="7042" y="1744"/>
                  </a:lnTo>
                  <a:lnTo>
                    <a:pt x="7092" y="1772"/>
                  </a:lnTo>
                  <a:lnTo>
                    <a:pt x="7098" y="1790"/>
                  </a:lnTo>
                  <a:lnTo>
                    <a:pt x="7120" y="1802"/>
                  </a:lnTo>
                  <a:lnTo>
                    <a:pt x="7138" y="1804"/>
                  </a:lnTo>
                  <a:lnTo>
                    <a:pt x="7138" y="1812"/>
                  </a:lnTo>
                  <a:lnTo>
                    <a:pt x="7134" y="1824"/>
                  </a:lnTo>
                  <a:lnTo>
                    <a:pt x="7090" y="1860"/>
                  </a:lnTo>
                  <a:lnTo>
                    <a:pt x="7098" y="1856"/>
                  </a:lnTo>
                  <a:lnTo>
                    <a:pt x="7112" y="1860"/>
                  </a:lnTo>
                  <a:lnTo>
                    <a:pt x="7120" y="1854"/>
                  </a:lnTo>
                  <a:lnTo>
                    <a:pt x="7128" y="1840"/>
                  </a:lnTo>
                  <a:lnTo>
                    <a:pt x="7140" y="1838"/>
                  </a:lnTo>
                  <a:lnTo>
                    <a:pt x="7154" y="1846"/>
                  </a:lnTo>
                  <a:lnTo>
                    <a:pt x="7144" y="1868"/>
                  </a:lnTo>
                  <a:lnTo>
                    <a:pt x="7150" y="1880"/>
                  </a:lnTo>
                  <a:lnTo>
                    <a:pt x="7150" y="1890"/>
                  </a:lnTo>
                  <a:lnTo>
                    <a:pt x="7130" y="1896"/>
                  </a:lnTo>
                  <a:lnTo>
                    <a:pt x="7126" y="1908"/>
                  </a:lnTo>
                  <a:lnTo>
                    <a:pt x="7148" y="1904"/>
                  </a:lnTo>
                  <a:lnTo>
                    <a:pt x="7160" y="1894"/>
                  </a:lnTo>
                  <a:lnTo>
                    <a:pt x="7176" y="1892"/>
                  </a:lnTo>
                  <a:lnTo>
                    <a:pt x="7190" y="1896"/>
                  </a:lnTo>
                  <a:lnTo>
                    <a:pt x="7196" y="1904"/>
                  </a:lnTo>
                  <a:lnTo>
                    <a:pt x="7184" y="1916"/>
                  </a:lnTo>
                  <a:lnTo>
                    <a:pt x="7172" y="1918"/>
                  </a:lnTo>
                  <a:lnTo>
                    <a:pt x="7156" y="1926"/>
                  </a:lnTo>
                  <a:lnTo>
                    <a:pt x="7148" y="1940"/>
                  </a:lnTo>
                  <a:lnTo>
                    <a:pt x="7148" y="1948"/>
                  </a:lnTo>
                  <a:lnTo>
                    <a:pt x="7152" y="1958"/>
                  </a:lnTo>
                  <a:lnTo>
                    <a:pt x="7168" y="1962"/>
                  </a:lnTo>
                  <a:lnTo>
                    <a:pt x="7156" y="1972"/>
                  </a:lnTo>
                  <a:lnTo>
                    <a:pt x="7156" y="1978"/>
                  </a:lnTo>
                  <a:lnTo>
                    <a:pt x="7192" y="1976"/>
                  </a:lnTo>
                  <a:lnTo>
                    <a:pt x="7210" y="1978"/>
                  </a:lnTo>
                  <a:lnTo>
                    <a:pt x="7208" y="1994"/>
                  </a:lnTo>
                  <a:lnTo>
                    <a:pt x="7212" y="2008"/>
                  </a:lnTo>
                  <a:lnTo>
                    <a:pt x="7230" y="1998"/>
                  </a:lnTo>
                  <a:lnTo>
                    <a:pt x="7256" y="2006"/>
                  </a:lnTo>
                  <a:lnTo>
                    <a:pt x="7284" y="2000"/>
                  </a:lnTo>
                  <a:lnTo>
                    <a:pt x="7290" y="2010"/>
                  </a:lnTo>
                  <a:lnTo>
                    <a:pt x="7288" y="2020"/>
                  </a:lnTo>
                  <a:lnTo>
                    <a:pt x="7280" y="2032"/>
                  </a:lnTo>
                  <a:lnTo>
                    <a:pt x="7290" y="2034"/>
                  </a:lnTo>
                  <a:lnTo>
                    <a:pt x="7336" y="2022"/>
                  </a:lnTo>
                  <a:lnTo>
                    <a:pt x="7340" y="2010"/>
                  </a:lnTo>
                  <a:lnTo>
                    <a:pt x="7356" y="2006"/>
                  </a:lnTo>
                  <a:lnTo>
                    <a:pt x="7364" y="2032"/>
                  </a:lnTo>
                  <a:lnTo>
                    <a:pt x="7360" y="2042"/>
                  </a:lnTo>
                  <a:lnTo>
                    <a:pt x="7354" y="2048"/>
                  </a:lnTo>
                  <a:lnTo>
                    <a:pt x="7340" y="2058"/>
                  </a:lnTo>
                  <a:lnTo>
                    <a:pt x="7318" y="2068"/>
                  </a:lnTo>
                  <a:lnTo>
                    <a:pt x="7312" y="2080"/>
                  </a:lnTo>
                  <a:lnTo>
                    <a:pt x="7302" y="2094"/>
                  </a:lnTo>
                  <a:lnTo>
                    <a:pt x="7298" y="2106"/>
                  </a:lnTo>
                  <a:lnTo>
                    <a:pt x="7292" y="2116"/>
                  </a:lnTo>
                  <a:lnTo>
                    <a:pt x="7300" y="2118"/>
                  </a:lnTo>
                  <a:lnTo>
                    <a:pt x="7292" y="2140"/>
                  </a:lnTo>
                  <a:lnTo>
                    <a:pt x="7296" y="2168"/>
                  </a:lnTo>
                  <a:lnTo>
                    <a:pt x="7268" y="2170"/>
                  </a:lnTo>
                  <a:lnTo>
                    <a:pt x="7262" y="2176"/>
                  </a:lnTo>
                  <a:lnTo>
                    <a:pt x="7252" y="2180"/>
                  </a:lnTo>
                  <a:lnTo>
                    <a:pt x="7228" y="2180"/>
                  </a:lnTo>
                  <a:lnTo>
                    <a:pt x="7214" y="2174"/>
                  </a:lnTo>
                  <a:lnTo>
                    <a:pt x="7178" y="2174"/>
                  </a:lnTo>
                  <a:lnTo>
                    <a:pt x="7148" y="2170"/>
                  </a:lnTo>
                  <a:lnTo>
                    <a:pt x="7132" y="2158"/>
                  </a:lnTo>
                  <a:lnTo>
                    <a:pt x="7110" y="2158"/>
                  </a:lnTo>
                  <a:lnTo>
                    <a:pt x="7098" y="2164"/>
                  </a:lnTo>
                  <a:lnTo>
                    <a:pt x="7134" y="2170"/>
                  </a:lnTo>
                  <a:lnTo>
                    <a:pt x="7160" y="2188"/>
                  </a:lnTo>
                  <a:lnTo>
                    <a:pt x="7232" y="2190"/>
                  </a:lnTo>
                  <a:lnTo>
                    <a:pt x="7252" y="2198"/>
                  </a:lnTo>
                  <a:lnTo>
                    <a:pt x="7268" y="2216"/>
                  </a:lnTo>
                  <a:lnTo>
                    <a:pt x="7264" y="2232"/>
                  </a:lnTo>
                  <a:lnTo>
                    <a:pt x="7258" y="2236"/>
                  </a:lnTo>
                  <a:lnTo>
                    <a:pt x="7258" y="2244"/>
                  </a:lnTo>
                  <a:lnTo>
                    <a:pt x="7206" y="2292"/>
                  </a:lnTo>
                  <a:lnTo>
                    <a:pt x="7210" y="2296"/>
                  </a:lnTo>
                  <a:lnTo>
                    <a:pt x="7244" y="2292"/>
                  </a:lnTo>
                  <a:lnTo>
                    <a:pt x="7252" y="2300"/>
                  </a:lnTo>
                  <a:lnTo>
                    <a:pt x="7244" y="2306"/>
                  </a:lnTo>
                  <a:lnTo>
                    <a:pt x="7214" y="2320"/>
                  </a:lnTo>
                  <a:lnTo>
                    <a:pt x="7212" y="2328"/>
                  </a:lnTo>
                  <a:lnTo>
                    <a:pt x="7232" y="2328"/>
                  </a:lnTo>
                  <a:lnTo>
                    <a:pt x="7234" y="2340"/>
                  </a:lnTo>
                  <a:lnTo>
                    <a:pt x="7228" y="2348"/>
                  </a:lnTo>
                  <a:lnTo>
                    <a:pt x="7222" y="2352"/>
                  </a:lnTo>
                  <a:lnTo>
                    <a:pt x="7214" y="2352"/>
                  </a:lnTo>
                  <a:lnTo>
                    <a:pt x="7214" y="2346"/>
                  </a:lnTo>
                  <a:lnTo>
                    <a:pt x="7196" y="2358"/>
                  </a:lnTo>
                  <a:lnTo>
                    <a:pt x="7166" y="2374"/>
                  </a:lnTo>
                  <a:lnTo>
                    <a:pt x="7168" y="2356"/>
                  </a:lnTo>
                  <a:lnTo>
                    <a:pt x="7160" y="2346"/>
                  </a:lnTo>
                  <a:lnTo>
                    <a:pt x="7140" y="2348"/>
                  </a:lnTo>
                  <a:lnTo>
                    <a:pt x="7142" y="2368"/>
                  </a:lnTo>
                  <a:lnTo>
                    <a:pt x="7136" y="2378"/>
                  </a:lnTo>
                  <a:lnTo>
                    <a:pt x="7094" y="2382"/>
                  </a:lnTo>
                  <a:lnTo>
                    <a:pt x="7102" y="2390"/>
                  </a:lnTo>
                  <a:lnTo>
                    <a:pt x="7120" y="2392"/>
                  </a:lnTo>
                  <a:lnTo>
                    <a:pt x="7132" y="2394"/>
                  </a:lnTo>
                  <a:lnTo>
                    <a:pt x="7138" y="2406"/>
                  </a:lnTo>
                  <a:lnTo>
                    <a:pt x="7186" y="2382"/>
                  </a:lnTo>
                  <a:lnTo>
                    <a:pt x="7204" y="2374"/>
                  </a:lnTo>
                  <a:lnTo>
                    <a:pt x="7232" y="2376"/>
                  </a:lnTo>
                  <a:lnTo>
                    <a:pt x="7256" y="2370"/>
                  </a:lnTo>
                  <a:lnTo>
                    <a:pt x="7284" y="2370"/>
                  </a:lnTo>
                  <a:lnTo>
                    <a:pt x="7298" y="2378"/>
                  </a:lnTo>
                  <a:lnTo>
                    <a:pt x="7294" y="2416"/>
                  </a:lnTo>
                  <a:lnTo>
                    <a:pt x="7298" y="2426"/>
                  </a:lnTo>
                  <a:lnTo>
                    <a:pt x="7290" y="2450"/>
                  </a:lnTo>
                  <a:lnTo>
                    <a:pt x="7258" y="2498"/>
                  </a:lnTo>
                  <a:lnTo>
                    <a:pt x="7218" y="2516"/>
                  </a:lnTo>
                  <a:lnTo>
                    <a:pt x="7126" y="2546"/>
                  </a:lnTo>
                  <a:lnTo>
                    <a:pt x="7198" y="2528"/>
                  </a:lnTo>
                  <a:lnTo>
                    <a:pt x="7252" y="2506"/>
                  </a:lnTo>
                  <a:lnTo>
                    <a:pt x="7276" y="2484"/>
                  </a:lnTo>
                  <a:lnTo>
                    <a:pt x="7310" y="2442"/>
                  </a:lnTo>
                  <a:lnTo>
                    <a:pt x="7334" y="2424"/>
                  </a:lnTo>
                  <a:lnTo>
                    <a:pt x="7318" y="2456"/>
                  </a:lnTo>
                  <a:lnTo>
                    <a:pt x="7310" y="2468"/>
                  </a:lnTo>
                  <a:lnTo>
                    <a:pt x="7336" y="2450"/>
                  </a:lnTo>
                  <a:lnTo>
                    <a:pt x="7334" y="2466"/>
                  </a:lnTo>
                  <a:lnTo>
                    <a:pt x="7324" y="2478"/>
                  </a:lnTo>
                  <a:lnTo>
                    <a:pt x="7314" y="2504"/>
                  </a:lnTo>
                  <a:lnTo>
                    <a:pt x="7316" y="2510"/>
                  </a:lnTo>
                  <a:lnTo>
                    <a:pt x="7342" y="2484"/>
                  </a:lnTo>
                  <a:lnTo>
                    <a:pt x="7418" y="2456"/>
                  </a:lnTo>
                  <a:lnTo>
                    <a:pt x="7464" y="2450"/>
                  </a:lnTo>
                  <a:lnTo>
                    <a:pt x="7478" y="2428"/>
                  </a:lnTo>
                  <a:lnTo>
                    <a:pt x="7500" y="2408"/>
                  </a:lnTo>
                  <a:lnTo>
                    <a:pt x="7518" y="2394"/>
                  </a:lnTo>
                  <a:lnTo>
                    <a:pt x="7528" y="2408"/>
                  </a:lnTo>
                  <a:lnTo>
                    <a:pt x="7548" y="2418"/>
                  </a:lnTo>
                  <a:lnTo>
                    <a:pt x="7548" y="2436"/>
                  </a:lnTo>
                  <a:lnTo>
                    <a:pt x="7526" y="2464"/>
                  </a:lnTo>
                  <a:lnTo>
                    <a:pt x="7538" y="2454"/>
                  </a:lnTo>
                  <a:lnTo>
                    <a:pt x="7570" y="2422"/>
                  </a:lnTo>
                  <a:lnTo>
                    <a:pt x="7564" y="2406"/>
                  </a:lnTo>
                  <a:lnTo>
                    <a:pt x="7556" y="2394"/>
                  </a:lnTo>
                  <a:lnTo>
                    <a:pt x="7554" y="2382"/>
                  </a:lnTo>
                  <a:lnTo>
                    <a:pt x="7568" y="2396"/>
                  </a:lnTo>
                  <a:lnTo>
                    <a:pt x="7578" y="2392"/>
                  </a:lnTo>
                  <a:lnTo>
                    <a:pt x="7594" y="2384"/>
                  </a:lnTo>
                  <a:lnTo>
                    <a:pt x="7588" y="2380"/>
                  </a:lnTo>
                  <a:lnTo>
                    <a:pt x="7598" y="2364"/>
                  </a:lnTo>
                  <a:lnTo>
                    <a:pt x="7614" y="2366"/>
                  </a:lnTo>
                  <a:lnTo>
                    <a:pt x="7632" y="2344"/>
                  </a:lnTo>
                  <a:lnTo>
                    <a:pt x="7630" y="2324"/>
                  </a:lnTo>
                  <a:lnTo>
                    <a:pt x="7638" y="2334"/>
                  </a:lnTo>
                  <a:lnTo>
                    <a:pt x="7654" y="2320"/>
                  </a:lnTo>
                  <a:lnTo>
                    <a:pt x="7672" y="2314"/>
                  </a:lnTo>
                  <a:lnTo>
                    <a:pt x="7678" y="2302"/>
                  </a:lnTo>
                  <a:lnTo>
                    <a:pt x="7698" y="2294"/>
                  </a:lnTo>
                  <a:lnTo>
                    <a:pt x="7692" y="2276"/>
                  </a:lnTo>
                  <a:lnTo>
                    <a:pt x="7684" y="2262"/>
                  </a:lnTo>
                  <a:lnTo>
                    <a:pt x="7680" y="2248"/>
                  </a:lnTo>
                  <a:lnTo>
                    <a:pt x="7700" y="2230"/>
                  </a:lnTo>
                  <a:lnTo>
                    <a:pt x="7744" y="2196"/>
                  </a:lnTo>
                  <a:lnTo>
                    <a:pt x="7762" y="2190"/>
                  </a:lnTo>
                  <a:lnTo>
                    <a:pt x="7784" y="2178"/>
                  </a:lnTo>
                  <a:lnTo>
                    <a:pt x="7784" y="2174"/>
                  </a:lnTo>
                  <a:lnTo>
                    <a:pt x="7802" y="2158"/>
                  </a:lnTo>
                  <a:lnTo>
                    <a:pt x="7820" y="2158"/>
                  </a:lnTo>
                  <a:lnTo>
                    <a:pt x="7836" y="2162"/>
                  </a:lnTo>
                  <a:lnTo>
                    <a:pt x="7838" y="2170"/>
                  </a:lnTo>
                  <a:lnTo>
                    <a:pt x="7826" y="2178"/>
                  </a:lnTo>
                  <a:lnTo>
                    <a:pt x="7840" y="2182"/>
                  </a:lnTo>
                  <a:lnTo>
                    <a:pt x="7832" y="2194"/>
                  </a:lnTo>
                  <a:lnTo>
                    <a:pt x="7832" y="2206"/>
                  </a:lnTo>
                  <a:lnTo>
                    <a:pt x="7824" y="2224"/>
                  </a:lnTo>
                  <a:lnTo>
                    <a:pt x="7808" y="2234"/>
                  </a:lnTo>
                  <a:lnTo>
                    <a:pt x="7828" y="2226"/>
                  </a:lnTo>
                  <a:lnTo>
                    <a:pt x="7836" y="2234"/>
                  </a:lnTo>
                  <a:lnTo>
                    <a:pt x="7818" y="2270"/>
                  </a:lnTo>
                  <a:lnTo>
                    <a:pt x="7840" y="2272"/>
                  </a:lnTo>
                  <a:lnTo>
                    <a:pt x="7828" y="2276"/>
                  </a:lnTo>
                  <a:lnTo>
                    <a:pt x="7824" y="2288"/>
                  </a:lnTo>
                  <a:lnTo>
                    <a:pt x="7846" y="2286"/>
                  </a:lnTo>
                  <a:lnTo>
                    <a:pt x="7862" y="2294"/>
                  </a:lnTo>
                  <a:lnTo>
                    <a:pt x="7848" y="2306"/>
                  </a:lnTo>
                  <a:lnTo>
                    <a:pt x="7826" y="2316"/>
                  </a:lnTo>
                  <a:lnTo>
                    <a:pt x="7846" y="2320"/>
                  </a:lnTo>
                  <a:lnTo>
                    <a:pt x="7846" y="2334"/>
                  </a:lnTo>
                  <a:lnTo>
                    <a:pt x="7860" y="2320"/>
                  </a:lnTo>
                  <a:lnTo>
                    <a:pt x="7870" y="2324"/>
                  </a:lnTo>
                  <a:lnTo>
                    <a:pt x="7860" y="2344"/>
                  </a:lnTo>
                  <a:lnTo>
                    <a:pt x="7874" y="2338"/>
                  </a:lnTo>
                  <a:lnTo>
                    <a:pt x="7882" y="2344"/>
                  </a:lnTo>
                  <a:lnTo>
                    <a:pt x="7872" y="2360"/>
                  </a:lnTo>
                  <a:lnTo>
                    <a:pt x="7844" y="2370"/>
                  </a:lnTo>
                  <a:lnTo>
                    <a:pt x="7804" y="2366"/>
                  </a:lnTo>
                  <a:lnTo>
                    <a:pt x="7776" y="2376"/>
                  </a:lnTo>
                  <a:lnTo>
                    <a:pt x="7766" y="2384"/>
                  </a:lnTo>
                  <a:lnTo>
                    <a:pt x="7790" y="2374"/>
                  </a:lnTo>
                  <a:lnTo>
                    <a:pt x="7798" y="2380"/>
                  </a:lnTo>
                  <a:lnTo>
                    <a:pt x="7814" y="2376"/>
                  </a:lnTo>
                  <a:lnTo>
                    <a:pt x="7846" y="2378"/>
                  </a:lnTo>
                  <a:lnTo>
                    <a:pt x="7880" y="2372"/>
                  </a:lnTo>
                  <a:lnTo>
                    <a:pt x="7886" y="2374"/>
                  </a:lnTo>
                  <a:lnTo>
                    <a:pt x="7872" y="2392"/>
                  </a:lnTo>
                  <a:lnTo>
                    <a:pt x="7876" y="2394"/>
                  </a:lnTo>
                  <a:lnTo>
                    <a:pt x="7870" y="2406"/>
                  </a:lnTo>
                  <a:lnTo>
                    <a:pt x="7860" y="2420"/>
                  </a:lnTo>
                  <a:lnTo>
                    <a:pt x="7872" y="2416"/>
                  </a:lnTo>
                  <a:lnTo>
                    <a:pt x="7894" y="2420"/>
                  </a:lnTo>
                  <a:lnTo>
                    <a:pt x="7882" y="2436"/>
                  </a:lnTo>
                  <a:lnTo>
                    <a:pt x="7882" y="2442"/>
                  </a:lnTo>
                  <a:lnTo>
                    <a:pt x="7894" y="2446"/>
                  </a:lnTo>
                  <a:lnTo>
                    <a:pt x="7888" y="2454"/>
                  </a:lnTo>
                  <a:lnTo>
                    <a:pt x="7868" y="2460"/>
                  </a:lnTo>
                  <a:lnTo>
                    <a:pt x="7838" y="2462"/>
                  </a:lnTo>
                  <a:lnTo>
                    <a:pt x="7826" y="2454"/>
                  </a:lnTo>
                  <a:lnTo>
                    <a:pt x="7812" y="2458"/>
                  </a:lnTo>
                  <a:lnTo>
                    <a:pt x="7808" y="2468"/>
                  </a:lnTo>
                  <a:lnTo>
                    <a:pt x="7816" y="2472"/>
                  </a:lnTo>
                  <a:lnTo>
                    <a:pt x="7838" y="2470"/>
                  </a:lnTo>
                  <a:lnTo>
                    <a:pt x="7874" y="2474"/>
                  </a:lnTo>
                  <a:lnTo>
                    <a:pt x="7908" y="2474"/>
                  </a:lnTo>
                  <a:lnTo>
                    <a:pt x="7906" y="2492"/>
                  </a:lnTo>
                  <a:lnTo>
                    <a:pt x="7890" y="2498"/>
                  </a:lnTo>
                  <a:lnTo>
                    <a:pt x="7878" y="2508"/>
                  </a:lnTo>
                  <a:lnTo>
                    <a:pt x="7886" y="2512"/>
                  </a:lnTo>
                  <a:lnTo>
                    <a:pt x="7870" y="2520"/>
                  </a:lnTo>
                  <a:lnTo>
                    <a:pt x="7842" y="2524"/>
                  </a:lnTo>
                  <a:lnTo>
                    <a:pt x="7810" y="2546"/>
                  </a:lnTo>
                  <a:lnTo>
                    <a:pt x="7828" y="2546"/>
                  </a:lnTo>
                  <a:lnTo>
                    <a:pt x="7850" y="2536"/>
                  </a:lnTo>
                  <a:lnTo>
                    <a:pt x="7872" y="2536"/>
                  </a:lnTo>
                  <a:lnTo>
                    <a:pt x="7890" y="2528"/>
                  </a:lnTo>
                  <a:lnTo>
                    <a:pt x="7902" y="2554"/>
                  </a:lnTo>
                  <a:lnTo>
                    <a:pt x="7890" y="2554"/>
                  </a:lnTo>
                  <a:lnTo>
                    <a:pt x="7874" y="2566"/>
                  </a:lnTo>
                  <a:lnTo>
                    <a:pt x="7868" y="2576"/>
                  </a:lnTo>
                  <a:lnTo>
                    <a:pt x="7894" y="2568"/>
                  </a:lnTo>
                  <a:lnTo>
                    <a:pt x="7906" y="2574"/>
                  </a:lnTo>
                  <a:lnTo>
                    <a:pt x="7904" y="2580"/>
                  </a:lnTo>
                  <a:lnTo>
                    <a:pt x="7916" y="2598"/>
                  </a:lnTo>
                  <a:lnTo>
                    <a:pt x="7928" y="2608"/>
                  </a:lnTo>
                  <a:lnTo>
                    <a:pt x="7928" y="2624"/>
                  </a:lnTo>
                  <a:lnTo>
                    <a:pt x="7880" y="2646"/>
                  </a:lnTo>
                  <a:lnTo>
                    <a:pt x="7858" y="2644"/>
                  </a:lnTo>
                  <a:lnTo>
                    <a:pt x="7852" y="2654"/>
                  </a:lnTo>
                  <a:lnTo>
                    <a:pt x="7908" y="2656"/>
                  </a:lnTo>
                  <a:lnTo>
                    <a:pt x="7916" y="2672"/>
                  </a:lnTo>
                  <a:lnTo>
                    <a:pt x="7900" y="2688"/>
                  </a:lnTo>
                  <a:lnTo>
                    <a:pt x="7940" y="2702"/>
                  </a:lnTo>
                  <a:lnTo>
                    <a:pt x="7938" y="2726"/>
                  </a:lnTo>
                  <a:lnTo>
                    <a:pt x="7910" y="2740"/>
                  </a:lnTo>
                  <a:lnTo>
                    <a:pt x="7880" y="2758"/>
                  </a:lnTo>
                  <a:lnTo>
                    <a:pt x="7878" y="2780"/>
                  </a:lnTo>
                  <a:lnTo>
                    <a:pt x="7862" y="2782"/>
                  </a:lnTo>
                  <a:lnTo>
                    <a:pt x="7816" y="2754"/>
                  </a:lnTo>
                  <a:lnTo>
                    <a:pt x="7806" y="2764"/>
                  </a:lnTo>
                  <a:lnTo>
                    <a:pt x="7832" y="2772"/>
                  </a:lnTo>
                  <a:lnTo>
                    <a:pt x="7830" y="2778"/>
                  </a:lnTo>
                  <a:lnTo>
                    <a:pt x="7764" y="2780"/>
                  </a:lnTo>
                  <a:lnTo>
                    <a:pt x="7744" y="2782"/>
                  </a:lnTo>
                  <a:lnTo>
                    <a:pt x="7774" y="2790"/>
                  </a:lnTo>
                  <a:lnTo>
                    <a:pt x="7842" y="2792"/>
                  </a:lnTo>
                  <a:lnTo>
                    <a:pt x="7866" y="2798"/>
                  </a:lnTo>
                  <a:lnTo>
                    <a:pt x="7868" y="2804"/>
                  </a:lnTo>
                  <a:lnTo>
                    <a:pt x="7848" y="2806"/>
                  </a:lnTo>
                  <a:lnTo>
                    <a:pt x="7832" y="2816"/>
                  </a:lnTo>
                  <a:lnTo>
                    <a:pt x="7832" y="2822"/>
                  </a:lnTo>
                  <a:lnTo>
                    <a:pt x="7852" y="2840"/>
                  </a:lnTo>
                  <a:lnTo>
                    <a:pt x="7852" y="2850"/>
                  </a:lnTo>
                  <a:lnTo>
                    <a:pt x="7834" y="2846"/>
                  </a:lnTo>
                  <a:lnTo>
                    <a:pt x="7820" y="2862"/>
                  </a:lnTo>
                  <a:lnTo>
                    <a:pt x="7888" y="2862"/>
                  </a:lnTo>
                  <a:lnTo>
                    <a:pt x="7880" y="2898"/>
                  </a:lnTo>
                  <a:lnTo>
                    <a:pt x="7886" y="2906"/>
                  </a:lnTo>
                  <a:lnTo>
                    <a:pt x="7870" y="2916"/>
                  </a:lnTo>
                  <a:lnTo>
                    <a:pt x="7930" y="2924"/>
                  </a:lnTo>
                  <a:lnTo>
                    <a:pt x="7940" y="2934"/>
                  </a:lnTo>
                  <a:lnTo>
                    <a:pt x="7936" y="2952"/>
                  </a:lnTo>
                  <a:lnTo>
                    <a:pt x="7952" y="2944"/>
                  </a:lnTo>
                  <a:lnTo>
                    <a:pt x="7972" y="2944"/>
                  </a:lnTo>
                  <a:lnTo>
                    <a:pt x="7964" y="2962"/>
                  </a:lnTo>
                  <a:lnTo>
                    <a:pt x="7954" y="2974"/>
                  </a:lnTo>
                  <a:lnTo>
                    <a:pt x="7960" y="2984"/>
                  </a:lnTo>
                  <a:lnTo>
                    <a:pt x="7958" y="3000"/>
                  </a:lnTo>
                  <a:lnTo>
                    <a:pt x="7928" y="3018"/>
                  </a:lnTo>
                  <a:lnTo>
                    <a:pt x="7926" y="3026"/>
                  </a:lnTo>
                  <a:lnTo>
                    <a:pt x="7956" y="3014"/>
                  </a:lnTo>
                  <a:lnTo>
                    <a:pt x="7978" y="3034"/>
                  </a:lnTo>
                  <a:lnTo>
                    <a:pt x="7992" y="3026"/>
                  </a:lnTo>
                  <a:lnTo>
                    <a:pt x="8014" y="3018"/>
                  </a:lnTo>
                  <a:lnTo>
                    <a:pt x="8012" y="3034"/>
                  </a:lnTo>
                  <a:lnTo>
                    <a:pt x="8030" y="3040"/>
                  </a:lnTo>
                  <a:lnTo>
                    <a:pt x="7984" y="3092"/>
                  </a:lnTo>
                  <a:lnTo>
                    <a:pt x="8006" y="3082"/>
                  </a:lnTo>
                  <a:lnTo>
                    <a:pt x="8042" y="3052"/>
                  </a:lnTo>
                  <a:lnTo>
                    <a:pt x="8068" y="3042"/>
                  </a:lnTo>
                  <a:lnTo>
                    <a:pt x="8056" y="3064"/>
                  </a:lnTo>
                  <a:lnTo>
                    <a:pt x="8062" y="3064"/>
                  </a:lnTo>
                  <a:lnTo>
                    <a:pt x="8080" y="3054"/>
                  </a:lnTo>
                  <a:lnTo>
                    <a:pt x="8076" y="3074"/>
                  </a:lnTo>
                  <a:lnTo>
                    <a:pt x="8076" y="3090"/>
                  </a:lnTo>
                  <a:lnTo>
                    <a:pt x="8086" y="3100"/>
                  </a:lnTo>
                  <a:lnTo>
                    <a:pt x="8110" y="3108"/>
                  </a:lnTo>
                  <a:lnTo>
                    <a:pt x="8132" y="3120"/>
                  </a:lnTo>
                  <a:lnTo>
                    <a:pt x="8150" y="3116"/>
                  </a:lnTo>
                  <a:lnTo>
                    <a:pt x="8154" y="3102"/>
                  </a:lnTo>
                  <a:lnTo>
                    <a:pt x="8178" y="3090"/>
                  </a:lnTo>
                  <a:lnTo>
                    <a:pt x="8186" y="3108"/>
                  </a:lnTo>
                  <a:lnTo>
                    <a:pt x="8176" y="3122"/>
                  </a:lnTo>
                  <a:lnTo>
                    <a:pt x="8198" y="3128"/>
                  </a:lnTo>
                  <a:lnTo>
                    <a:pt x="8208" y="3138"/>
                  </a:lnTo>
                  <a:lnTo>
                    <a:pt x="8222" y="3140"/>
                  </a:lnTo>
                  <a:lnTo>
                    <a:pt x="8226" y="3158"/>
                  </a:lnTo>
                  <a:lnTo>
                    <a:pt x="8210" y="3168"/>
                  </a:lnTo>
                  <a:lnTo>
                    <a:pt x="8208" y="3178"/>
                  </a:lnTo>
                  <a:lnTo>
                    <a:pt x="8204" y="3182"/>
                  </a:lnTo>
                  <a:lnTo>
                    <a:pt x="8184" y="3186"/>
                  </a:lnTo>
                  <a:lnTo>
                    <a:pt x="8172" y="3182"/>
                  </a:lnTo>
                  <a:lnTo>
                    <a:pt x="8156" y="3182"/>
                  </a:lnTo>
                  <a:lnTo>
                    <a:pt x="8124" y="3192"/>
                  </a:lnTo>
                  <a:lnTo>
                    <a:pt x="8112" y="3196"/>
                  </a:lnTo>
                  <a:lnTo>
                    <a:pt x="8110" y="3200"/>
                  </a:lnTo>
                  <a:lnTo>
                    <a:pt x="8072" y="3216"/>
                  </a:lnTo>
                  <a:lnTo>
                    <a:pt x="8006" y="3220"/>
                  </a:lnTo>
                  <a:lnTo>
                    <a:pt x="7968" y="3230"/>
                  </a:lnTo>
                  <a:lnTo>
                    <a:pt x="7944" y="3244"/>
                  </a:lnTo>
                  <a:lnTo>
                    <a:pt x="7972" y="3244"/>
                  </a:lnTo>
                  <a:lnTo>
                    <a:pt x="8004" y="3238"/>
                  </a:lnTo>
                  <a:lnTo>
                    <a:pt x="8038" y="3224"/>
                  </a:lnTo>
                  <a:lnTo>
                    <a:pt x="8048" y="3228"/>
                  </a:lnTo>
                  <a:lnTo>
                    <a:pt x="7968" y="3254"/>
                  </a:lnTo>
                  <a:lnTo>
                    <a:pt x="7932" y="3262"/>
                  </a:lnTo>
                  <a:lnTo>
                    <a:pt x="7902" y="3260"/>
                  </a:lnTo>
                  <a:lnTo>
                    <a:pt x="7852" y="3302"/>
                  </a:lnTo>
                  <a:lnTo>
                    <a:pt x="7830" y="3294"/>
                  </a:lnTo>
                  <a:lnTo>
                    <a:pt x="7812" y="3278"/>
                  </a:lnTo>
                  <a:lnTo>
                    <a:pt x="7788" y="3270"/>
                  </a:lnTo>
                  <a:lnTo>
                    <a:pt x="7756" y="3270"/>
                  </a:lnTo>
                  <a:lnTo>
                    <a:pt x="7754" y="3286"/>
                  </a:lnTo>
                  <a:lnTo>
                    <a:pt x="7788" y="3292"/>
                  </a:lnTo>
                  <a:lnTo>
                    <a:pt x="7816" y="3304"/>
                  </a:lnTo>
                  <a:lnTo>
                    <a:pt x="7832" y="3318"/>
                  </a:lnTo>
                  <a:lnTo>
                    <a:pt x="7810" y="3364"/>
                  </a:lnTo>
                  <a:lnTo>
                    <a:pt x="7836" y="3354"/>
                  </a:lnTo>
                  <a:lnTo>
                    <a:pt x="7872" y="3338"/>
                  </a:lnTo>
                  <a:lnTo>
                    <a:pt x="7888" y="3324"/>
                  </a:lnTo>
                  <a:lnTo>
                    <a:pt x="7916" y="3310"/>
                  </a:lnTo>
                  <a:lnTo>
                    <a:pt x="7950" y="3292"/>
                  </a:lnTo>
                  <a:lnTo>
                    <a:pt x="7990" y="3280"/>
                  </a:lnTo>
                  <a:lnTo>
                    <a:pt x="8020" y="3258"/>
                  </a:lnTo>
                  <a:lnTo>
                    <a:pt x="8048" y="3246"/>
                  </a:lnTo>
                  <a:lnTo>
                    <a:pt x="8114" y="3234"/>
                  </a:lnTo>
                  <a:lnTo>
                    <a:pt x="8144" y="3242"/>
                  </a:lnTo>
                  <a:lnTo>
                    <a:pt x="8160" y="3238"/>
                  </a:lnTo>
                  <a:lnTo>
                    <a:pt x="8144" y="3230"/>
                  </a:lnTo>
                  <a:lnTo>
                    <a:pt x="8116" y="3222"/>
                  </a:lnTo>
                  <a:lnTo>
                    <a:pt x="8078" y="3228"/>
                  </a:lnTo>
                  <a:lnTo>
                    <a:pt x="8100" y="3220"/>
                  </a:lnTo>
                  <a:lnTo>
                    <a:pt x="8140" y="3216"/>
                  </a:lnTo>
                  <a:lnTo>
                    <a:pt x="8194" y="3222"/>
                  </a:lnTo>
                  <a:lnTo>
                    <a:pt x="8216" y="3222"/>
                  </a:lnTo>
                  <a:lnTo>
                    <a:pt x="8220" y="3232"/>
                  </a:lnTo>
                  <a:lnTo>
                    <a:pt x="8208" y="3250"/>
                  </a:lnTo>
                  <a:lnTo>
                    <a:pt x="8208" y="3268"/>
                  </a:lnTo>
                  <a:lnTo>
                    <a:pt x="8202" y="3290"/>
                  </a:lnTo>
                  <a:lnTo>
                    <a:pt x="8182" y="3308"/>
                  </a:lnTo>
                  <a:lnTo>
                    <a:pt x="8174" y="3324"/>
                  </a:lnTo>
                  <a:lnTo>
                    <a:pt x="8168" y="3356"/>
                  </a:lnTo>
                  <a:lnTo>
                    <a:pt x="8172" y="3354"/>
                  </a:lnTo>
                  <a:lnTo>
                    <a:pt x="8216" y="3306"/>
                  </a:lnTo>
                  <a:lnTo>
                    <a:pt x="8238" y="3296"/>
                  </a:lnTo>
                  <a:lnTo>
                    <a:pt x="8266" y="3294"/>
                  </a:lnTo>
                  <a:lnTo>
                    <a:pt x="8280" y="3300"/>
                  </a:lnTo>
                  <a:lnTo>
                    <a:pt x="8270" y="3310"/>
                  </a:lnTo>
                  <a:lnTo>
                    <a:pt x="8336" y="3334"/>
                  </a:lnTo>
                  <a:lnTo>
                    <a:pt x="8334" y="3342"/>
                  </a:lnTo>
                  <a:lnTo>
                    <a:pt x="8320" y="3348"/>
                  </a:lnTo>
                  <a:lnTo>
                    <a:pt x="8326" y="3366"/>
                  </a:lnTo>
                  <a:lnTo>
                    <a:pt x="8336" y="3372"/>
                  </a:lnTo>
                  <a:lnTo>
                    <a:pt x="8334" y="3384"/>
                  </a:lnTo>
                  <a:lnTo>
                    <a:pt x="8342" y="3388"/>
                  </a:lnTo>
                  <a:lnTo>
                    <a:pt x="8338" y="3404"/>
                  </a:lnTo>
                  <a:lnTo>
                    <a:pt x="8324" y="3408"/>
                  </a:lnTo>
                  <a:lnTo>
                    <a:pt x="8312" y="3416"/>
                  </a:lnTo>
                  <a:lnTo>
                    <a:pt x="8268" y="3398"/>
                  </a:lnTo>
                  <a:lnTo>
                    <a:pt x="8278" y="3422"/>
                  </a:lnTo>
                  <a:lnTo>
                    <a:pt x="8288" y="3426"/>
                  </a:lnTo>
                  <a:lnTo>
                    <a:pt x="8304" y="3426"/>
                  </a:lnTo>
                  <a:lnTo>
                    <a:pt x="8306" y="3452"/>
                  </a:lnTo>
                  <a:lnTo>
                    <a:pt x="8292" y="3460"/>
                  </a:lnTo>
                  <a:lnTo>
                    <a:pt x="8292" y="3464"/>
                  </a:lnTo>
                  <a:lnTo>
                    <a:pt x="8300" y="3492"/>
                  </a:lnTo>
                  <a:lnTo>
                    <a:pt x="8300" y="3496"/>
                  </a:lnTo>
                  <a:lnTo>
                    <a:pt x="8280" y="3492"/>
                  </a:lnTo>
                  <a:lnTo>
                    <a:pt x="8268" y="3504"/>
                  </a:lnTo>
                  <a:lnTo>
                    <a:pt x="8300" y="3514"/>
                  </a:lnTo>
                  <a:lnTo>
                    <a:pt x="8304" y="3538"/>
                  </a:lnTo>
                  <a:lnTo>
                    <a:pt x="8274" y="3534"/>
                  </a:lnTo>
                  <a:lnTo>
                    <a:pt x="8260" y="3528"/>
                  </a:lnTo>
                  <a:lnTo>
                    <a:pt x="8266" y="354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03840" y="3368880"/>
              <a:ext cx="36000" cy="39600"/>
            </a:xfrm>
            <a:custGeom>
              <a:avLst/>
              <a:gdLst/>
              <a:ahLst/>
              <a:rect l="l" t="t" r="r" b="b"/>
              <a:pathLst>
                <a:path w="214" h="242">
                  <a:moveTo>
                    <a:pt x="214" y="142"/>
                  </a:moveTo>
                  <a:lnTo>
                    <a:pt x="198" y="130"/>
                  </a:lnTo>
                  <a:lnTo>
                    <a:pt x="172" y="156"/>
                  </a:lnTo>
                  <a:lnTo>
                    <a:pt x="176" y="136"/>
                  </a:lnTo>
                  <a:lnTo>
                    <a:pt x="126" y="156"/>
                  </a:lnTo>
                  <a:lnTo>
                    <a:pt x="116" y="152"/>
                  </a:lnTo>
                  <a:lnTo>
                    <a:pt x="150" y="122"/>
                  </a:lnTo>
                  <a:lnTo>
                    <a:pt x="140" y="118"/>
                  </a:lnTo>
                  <a:lnTo>
                    <a:pt x="168" y="82"/>
                  </a:lnTo>
                  <a:lnTo>
                    <a:pt x="192" y="32"/>
                  </a:lnTo>
                  <a:lnTo>
                    <a:pt x="194" y="12"/>
                  </a:lnTo>
                  <a:lnTo>
                    <a:pt x="190" y="6"/>
                  </a:lnTo>
                  <a:lnTo>
                    <a:pt x="178" y="0"/>
                  </a:lnTo>
                  <a:lnTo>
                    <a:pt x="170" y="8"/>
                  </a:lnTo>
                  <a:lnTo>
                    <a:pt x="166" y="0"/>
                  </a:lnTo>
                  <a:lnTo>
                    <a:pt x="156" y="20"/>
                  </a:lnTo>
                  <a:lnTo>
                    <a:pt x="112" y="60"/>
                  </a:lnTo>
                  <a:lnTo>
                    <a:pt x="88" y="92"/>
                  </a:lnTo>
                  <a:lnTo>
                    <a:pt x="72" y="108"/>
                  </a:lnTo>
                  <a:lnTo>
                    <a:pt x="32" y="144"/>
                  </a:lnTo>
                  <a:lnTo>
                    <a:pt x="24" y="160"/>
                  </a:lnTo>
                  <a:lnTo>
                    <a:pt x="6" y="188"/>
                  </a:lnTo>
                  <a:lnTo>
                    <a:pt x="0" y="204"/>
                  </a:lnTo>
                  <a:lnTo>
                    <a:pt x="8" y="218"/>
                  </a:lnTo>
                  <a:lnTo>
                    <a:pt x="10" y="234"/>
                  </a:lnTo>
                  <a:lnTo>
                    <a:pt x="30" y="242"/>
                  </a:lnTo>
                  <a:lnTo>
                    <a:pt x="66" y="232"/>
                  </a:lnTo>
                  <a:lnTo>
                    <a:pt x="108" y="236"/>
                  </a:lnTo>
                  <a:lnTo>
                    <a:pt x="154" y="216"/>
                  </a:lnTo>
                  <a:lnTo>
                    <a:pt x="166" y="204"/>
                  </a:lnTo>
                  <a:lnTo>
                    <a:pt x="188" y="190"/>
                  </a:lnTo>
                  <a:lnTo>
                    <a:pt x="210" y="182"/>
                  </a:lnTo>
                  <a:lnTo>
                    <a:pt x="214" y="174"/>
                  </a:lnTo>
                  <a:lnTo>
                    <a:pt x="204" y="170"/>
                  </a:lnTo>
                  <a:lnTo>
                    <a:pt x="214" y="14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14240" y="2491560"/>
              <a:ext cx="42120" cy="16920"/>
            </a:xfrm>
            <a:custGeom>
              <a:avLst/>
              <a:gdLst/>
              <a:ahLst/>
              <a:rect l="l" t="t" r="r" b="b"/>
              <a:pathLst>
                <a:path w="242" h="92">
                  <a:moveTo>
                    <a:pt x="140" y="0"/>
                  </a:moveTo>
                  <a:lnTo>
                    <a:pt x="144" y="2"/>
                  </a:lnTo>
                  <a:lnTo>
                    <a:pt x="166" y="2"/>
                  </a:lnTo>
                  <a:lnTo>
                    <a:pt x="170" y="10"/>
                  </a:lnTo>
                  <a:lnTo>
                    <a:pt x="198" y="8"/>
                  </a:lnTo>
                  <a:lnTo>
                    <a:pt x="202" y="10"/>
                  </a:lnTo>
                  <a:lnTo>
                    <a:pt x="212" y="8"/>
                  </a:lnTo>
                  <a:lnTo>
                    <a:pt x="220" y="20"/>
                  </a:lnTo>
                  <a:lnTo>
                    <a:pt x="242" y="34"/>
                  </a:lnTo>
                  <a:lnTo>
                    <a:pt x="242" y="38"/>
                  </a:lnTo>
                  <a:lnTo>
                    <a:pt x="234" y="40"/>
                  </a:lnTo>
                  <a:lnTo>
                    <a:pt x="228" y="44"/>
                  </a:lnTo>
                  <a:lnTo>
                    <a:pt x="228" y="68"/>
                  </a:lnTo>
                  <a:lnTo>
                    <a:pt x="214" y="78"/>
                  </a:lnTo>
                  <a:lnTo>
                    <a:pt x="196" y="84"/>
                  </a:lnTo>
                  <a:lnTo>
                    <a:pt x="152" y="90"/>
                  </a:lnTo>
                  <a:lnTo>
                    <a:pt x="64" y="90"/>
                  </a:lnTo>
                  <a:lnTo>
                    <a:pt x="42" y="92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0" y="7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0" bIns="-288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53400" y="3831480"/>
              <a:ext cx="4320" cy="93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2" y="24"/>
                  </a:moveTo>
                  <a:lnTo>
                    <a:pt x="6" y="1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4" y="52"/>
                  </a:lnTo>
                  <a:lnTo>
                    <a:pt x="0" y="28"/>
                  </a:lnTo>
                  <a:lnTo>
                    <a:pt x="2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14240" y="3859560"/>
              <a:ext cx="5760" cy="1008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10" y="60"/>
                  </a:moveTo>
                  <a:lnTo>
                    <a:pt x="4" y="60"/>
                  </a:lnTo>
                  <a:lnTo>
                    <a:pt x="6" y="54"/>
                  </a:lnTo>
                  <a:lnTo>
                    <a:pt x="2" y="52"/>
                  </a:lnTo>
                  <a:lnTo>
                    <a:pt x="0" y="40"/>
                  </a:lnTo>
                  <a:lnTo>
                    <a:pt x="8" y="32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20" y="46"/>
                  </a:lnTo>
                  <a:lnTo>
                    <a:pt x="12" y="62"/>
                  </a:lnTo>
                  <a:lnTo>
                    <a:pt x="10" y="6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640" bIns="-356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670040" y="3827160"/>
              <a:ext cx="6120" cy="1692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30" y="98"/>
                  </a:moveTo>
                  <a:lnTo>
                    <a:pt x="16" y="100"/>
                  </a:lnTo>
                  <a:lnTo>
                    <a:pt x="16" y="76"/>
                  </a:lnTo>
                  <a:lnTo>
                    <a:pt x="4" y="40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0" y="8"/>
                  </a:lnTo>
                  <a:lnTo>
                    <a:pt x="14" y="22"/>
                  </a:lnTo>
                  <a:lnTo>
                    <a:pt x="20" y="50"/>
                  </a:lnTo>
                  <a:lnTo>
                    <a:pt x="30" y="62"/>
                  </a:lnTo>
                  <a:lnTo>
                    <a:pt x="24" y="78"/>
                  </a:lnTo>
                  <a:lnTo>
                    <a:pt x="32" y="90"/>
                  </a:lnTo>
                  <a:lnTo>
                    <a:pt x="30" y="9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0" bIns="-28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87680" y="3837960"/>
              <a:ext cx="7560" cy="1188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14" y="30"/>
                  </a:moveTo>
                  <a:lnTo>
                    <a:pt x="28" y="0"/>
                  </a:lnTo>
                  <a:lnTo>
                    <a:pt x="38" y="2"/>
                  </a:lnTo>
                  <a:lnTo>
                    <a:pt x="42" y="6"/>
                  </a:lnTo>
                  <a:lnTo>
                    <a:pt x="42" y="40"/>
                  </a:lnTo>
                  <a:lnTo>
                    <a:pt x="30" y="74"/>
                  </a:lnTo>
                  <a:lnTo>
                    <a:pt x="6" y="72"/>
                  </a:lnTo>
                  <a:lnTo>
                    <a:pt x="0" y="66"/>
                  </a:lnTo>
                  <a:lnTo>
                    <a:pt x="0" y="48"/>
                  </a:lnTo>
                  <a:lnTo>
                    <a:pt x="14" y="3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1240" y="3972960"/>
              <a:ext cx="6120" cy="900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0" y="2"/>
                  </a:moveTo>
                  <a:lnTo>
                    <a:pt x="28" y="0"/>
                  </a:lnTo>
                  <a:lnTo>
                    <a:pt x="20" y="30"/>
                  </a:lnTo>
                  <a:lnTo>
                    <a:pt x="14" y="42"/>
                  </a:lnTo>
                  <a:lnTo>
                    <a:pt x="6" y="46"/>
                  </a:lnTo>
                  <a:lnTo>
                    <a:pt x="0" y="38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20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16880" y="4123080"/>
              <a:ext cx="7560" cy="75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44" y="0"/>
                  </a:moveTo>
                  <a:lnTo>
                    <a:pt x="26" y="2"/>
                  </a:lnTo>
                  <a:lnTo>
                    <a:pt x="2" y="32"/>
                  </a:lnTo>
                  <a:lnTo>
                    <a:pt x="0" y="48"/>
                  </a:lnTo>
                  <a:lnTo>
                    <a:pt x="24" y="32"/>
                  </a:lnTo>
                  <a:lnTo>
                    <a:pt x="4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49440" y="3943440"/>
              <a:ext cx="23040" cy="7560"/>
            </a:xfrm>
            <a:custGeom>
              <a:avLst/>
              <a:gdLst/>
              <a:ahLst/>
              <a:rect l="l" t="t" r="r" b="b"/>
              <a:pathLst>
                <a:path w="142" h="50">
                  <a:moveTo>
                    <a:pt x="130" y="6"/>
                  </a:moveTo>
                  <a:lnTo>
                    <a:pt x="126" y="4"/>
                  </a:lnTo>
                  <a:lnTo>
                    <a:pt x="128" y="12"/>
                  </a:lnTo>
                  <a:lnTo>
                    <a:pt x="132" y="14"/>
                  </a:lnTo>
                  <a:lnTo>
                    <a:pt x="142" y="26"/>
                  </a:lnTo>
                  <a:lnTo>
                    <a:pt x="140" y="50"/>
                  </a:lnTo>
                  <a:lnTo>
                    <a:pt x="132" y="34"/>
                  </a:lnTo>
                  <a:lnTo>
                    <a:pt x="118" y="24"/>
                  </a:lnTo>
                  <a:lnTo>
                    <a:pt x="98" y="26"/>
                  </a:lnTo>
                  <a:lnTo>
                    <a:pt x="36" y="46"/>
                  </a:lnTo>
                  <a:lnTo>
                    <a:pt x="4" y="42"/>
                  </a:lnTo>
                  <a:lnTo>
                    <a:pt x="0" y="22"/>
                  </a:lnTo>
                  <a:lnTo>
                    <a:pt x="38" y="20"/>
                  </a:lnTo>
                  <a:lnTo>
                    <a:pt x="96" y="0"/>
                  </a:lnTo>
                  <a:lnTo>
                    <a:pt x="116" y="0"/>
                  </a:lnTo>
                  <a:lnTo>
                    <a:pt x="130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84000" y="3951360"/>
              <a:ext cx="10800" cy="21240"/>
            </a:xfrm>
            <a:custGeom>
              <a:avLst/>
              <a:gdLst/>
              <a:ahLst/>
              <a:rect l="l" t="t" r="r" b="b"/>
              <a:pathLst>
                <a:path w="56" h="116">
                  <a:moveTo>
                    <a:pt x="42" y="42"/>
                  </a:moveTo>
                  <a:lnTo>
                    <a:pt x="56" y="4"/>
                  </a:lnTo>
                  <a:lnTo>
                    <a:pt x="50" y="32"/>
                  </a:lnTo>
                  <a:lnTo>
                    <a:pt x="26" y="72"/>
                  </a:lnTo>
                  <a:lnTo>
                    <a:pt x="10" y="116"/>
                  </a:lnTo>
                  <a:lnTo>
                    <a:pt x="0" y="86"/>
                  </a:lnTo>
                  <a:lnTo>
                    <a:pt x="8" y="80"/>
                  </a:lnTo>
                  <a:lnTo>
                    <a:pt x="12" y="68"/>
                  </a:lnTo>
                  <a:lnTo>
                    <a:pt x="16" y="48"/>
                  </a:lnTo>
                  <a:lnTo>
                    <a:pt x="36" y="4"/>
                  </a:lnTo>
                  <a:lnTo>
                    <a:pt x="42" y="0"/>
                  </a:lnTo>
                  <a:lnTo>
                    <a:pt x="46" y="22"/>
                  </a:lnTo>
                  <a:lnTo>
                    <a:pt x="42" y="4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4480" bIns="-244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72840" y="3995640"/>
              <a:ext cx="6120" cy="144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24" y="12"/>
                  </a:moveTo>
                  <a:lnTo>
                    <a:pt x="34" y="4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24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0880" y="3992760"/>
              <a:ext cx="12600" cy="24480"/>
            </a:xfrm>
            <a:custGeom>
              <a:avLst/>
              <a:gdLst/>
              <a:ahLst/>
              <a:rect l="l" t="t" r="r" b="b"/>
              <a:pathLst>
                <a:path w="78" h="148">
                  <a:moveTo>
                    <a:pt x="54" y="24"/>
                  </a:moveTo>
                  <a:lnTo>
                    <a:pt x="60" y="26"/>
                  </a:lnTo>
                  <a:lnTo>
                    <a:pt x="60" y="42"/>
                  </a:lnTo>
                  <a:lnTo>
                    <a:pt x="78" y="84"/>
                  </a:lnTo>
                  <a:lnTo>
                    <a:pt x="70" y="124"/>
                  </a:lnTo>
                  <a:lnTo>
                    <a:pt x="64" y="138"/>
                  </a:lnTo>
                  <a:lnTo>
                    <a:pt x="50" y="146"/>
                  </a:lnTo>
                  <a:lnTo>
                    <a:pt x="32" y="148"/>
                  </a:lnTo>
                  <a:lnTo>
                    <a:pt x="18" y="124"/>
                  </a:lnTo>
                  <a:lnTo>
                    <a:pt x="0" y="106"/>
                  </a:lnTo>
                  <a:lnTo>
                    <a:pt x="0" y="84"/>
                  </a:lnTo>
                  <a:lnTo>
                    <a:pt x="22" y="42"/>
                  </a:lnTo>
                  <a:lnTo>
                    <a:pt x="30" y="20"/>
                  </a:lnTo>
                  <a:lnTo>
                    <a:pt x="30" y="4"/>
                  </a:lnTo>
                  <a:lnTo>
                    <a:pt x="54" y="0"/>
                  </a:lnTo>
                  <a:lnTo>
                    <a:pt x="54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240" bIns="-21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60600" y="4021920"/>
              <a:ext cx="2880" cy="1188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36"/>
                  </a:moveTo>
                  <a:lnTo>
                    <a:pt x="28" y="0"/>
                  </a:lnTo>
                  <a:lnTo>
                    <a:pt x="26" y="60"/>
                  </a:lnTo>
                  <a:lnTo>
                    <a:pt x="18" y="74"/>
                  </a:lnTo>
                  <a:lnTo>
                    <a:pt x="2" y="66"/>
                  </a:lnTo>
                  <a:lnTo>
                    <a:pt x="0" y="3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00920" y="3992760"/>
              <a:ext cx="2880" cy="15120"/>
            </a:xfrm>
            <a:custGeom>
              <a:avLst/>
              <a:gdLst/>
              <a:ahLst/>
              <a:rect l="l" t="t" r="r" b="b"/>
              <a:pathLst>
                <a:path w="30" h="98">
                  <a:moveTo>
                    <a:pt x="28" y="12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14" y="98"/>
                  </a:lnTo>
                  <a:lnTo>
                    <a:pt x="0" y="82"/>
                  </a:lnTo>
                  <a:lnTo>
                    <a:pt x="0" y="62"/>
                  </a:lnTo>
                  <a:lnTo>
                    <a:pt x="12" y="50"/>
                  </a:lnTo>
                  <a:lnTo>
                    <a:pt x="28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600" bIns="-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13520" y="4006440"/>
              <a:ext cx="5760" cy="18360"/>
            </a:xfrm>
            <a:custGeom>
              <a:avLst/>
              <a:gdLst/>
              <a:ahLst/>
              <a:rect l="l" t="t" r="r" b="b"/>
              <a:pathLst>
                <a:path w="44" h="108">
                  <a:moveTo>
                    <a:pt x="36" y="76"/>
                  </a:moveTo>
                  <a:lnTo>
                    <a:pt x="44" y="74"/>
                  </a:lnTo>
                  <a:lnTo>
                    <a:pt x="44" y="106"/>
                  </a:lnTo>
                  <a:lnTo>
                    <a:pt x="32" y="108"/>
                  </a:lnTo>
                  <a:lnTo>
                    <a:pt x="18" y="104"/>
                  </a:lnTo>
                  <a:lnTo>
                    <a:pt x="28" y="80"/>
                  </a:lnTo>
                  <a:lnTo>
                    <a:pt x="16" y="38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18"/>
                  </a:lnTo>
                  <a:lnTo>
                    <a:pt x="36" y="7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360" bIns="-27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6920" y="4024800"/>
              <a:ext cx="4320" cy="61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6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16" y="26"/>
                  </a:lnTo>
                  <a:lnTo>
                    <a:pt x="28" y="0"/>
                  </a:lnTo>
                  <a:lnTo>
                    <a:pt x="1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8200" y="4041720"/>
              <a:ext cx="6120" cy="21240"/>
            </a:xfrm>
            <a:custGeom>
              <a:avLst/>
              <a:gdLst/>
              <a:ahLst/>
              <a:rect l="l" t="t" r="r" b="b"/>
              <a:pathLst>
                <a:path w="32" h="120">
                  <a:moveTo>
                    <a:pt x="0" y="0"/>
                  </a:moveTo>
                  <a:lnTo>
                    <a:pt x="4" y="8"/>
                  </a:lnTo>
                  <a:lnTo>
                    <a:pt x="8" y="52"/>
                  </a:lnTo>
                  <a:lnTo>
                    <a:pt x="12" y="70"/>
                  </a:lnTo>
                  <a:lnTo>
                    <a:pt x="28" y="76"/>
                  </a:lnTo>
                  <a:lnTo>
                    <a:pt x="32" y="104"/>
                  </a:lnTo>
                  <a:lnTo>
                    <a:pt x="30" y="120"/>
                  </a:lnTo>
                  <a:lnTo>
                    <a:pt x="24" y="98"/>
                  </a:lnTo>
                  <a:lnTo>
                    <a:pt x="8" y="82"/>
                  </a:lnTo>
                  <a:lnTo>
                    <a:pt x="4" y="60"/>
                  </a:lnTo>
                  <a:lnTo>
                    <a:pt x="6" y="22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4480" bIns="-244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35120" y="4065120"/>
              <a:ext cx="10800" cy="18000"/>
            </a:xfrm>
            <a:custGeom>
              <a:avLst/>
              <a:gdLst/>
              <a:ahLst/>
              <a:rect l="l" t="t" r="r" b="b"/>
              <a:pathLst>
                <a:path w="60" h="112">
                  <a:moveTo>
                    <a:pt x="38" y="38"/>
                  </a:moveTo>
                  <a:lnTo>
                    <a:pt x="40" y="26"/>
                  </a:lnTo>
                  <a:lnTo>
                    <a:pt x="40" y="30"/>
                  </a:lnTo>
                  <a:lnTo>
                    <a:pt x="36" y="26"/>
                  </a:lnTo>
                  <a:lnTo>
                    <a:pt x="10" y="2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6" y="0"/>
                  </a:lnTo>
                  <a:lnTo>
                    <a:pt x="20" y="8"/>
                  </a:lnTo>
                  <a:lnTo>
                    <a:pt x="34" y="22"/>
                  </a:lnTo>
                  <a:lnTo>
                    <a:pt x="52" y="22"/>
                  </a:lnTo>
                  <a:lnTo>
                    <a:pt x="60" y="34"/>
                  </a:lnTo>
                  <a:lnTo>
                    <a:pt x="56" y="60"/>
                  </a:lnTo>
                  <a:lnTo>
                    <a:pt x="30" y="90"/>
                  </a:lnTo>
                  <a:lnTo>
                    <a:pt x="2" y="112"/>
                  </a:lnTo>
                  <a:lnTo>
                    <a:pt x="0" y="94"/>
                  </a:lnTo>
                  <a:lnTo>
                    <a:pt x="40" y="52"/>
                  </a:lnTo>
                  <a:lnTo>
                    <a:pt x="38" y="3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720" bIns="-27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63560" y="4077000"/>
              <a:ext cx="7560" cy="2880"/>
            </a:xfrm>
            <a:custGeom>
              <a:avLst/>
              <a:gdLst/>
              <a:ahLst/>
              <a:rect l="l" t="t" r="r" b="b"/>
              <a:pathLst>
                <a:path w="50" h="18">
                  <a:moveTo>
                    <a:pt x="50" y="18"/>
                  </a:moveTo>
                  <a:lnTo>
                    <a:pt x="46" y="2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22" y="8"/>
                  </a:lnTo>
                  <a:lnTo>
                    <a:pt x="38" y="18"/>
                  </a:lnTo>
                  <a:lnTo>
                    <a:pt x="50" y="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7240" y="4089240"/>
              <a:ext cx="20520" cy="936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26" y="10"/>
                  </a:moveTo>
                  <a:lnTo>
                    <a:pt x="44" y="0"/>
                  </a:lnTo>
                  <a:lnTo>
                    <a:pt x="54" y="12"/>
                  </a:lnTo>
                  <a:lnTo>
                    <a:pt x="86" y="32"/>
                  </a:lnTo>
                  <a:lnTo>
                    <a:pt x="104" y="50"/>
                  </a:lnTo>
                  <a:lnTo>
                    <a:pt x="106" y="54"/>
                  </a:lnTo>
                  <a:lnTo>
                    <a:pt x="90" y="50"/>
                  </a:lnTo>
                  <a:lnTo>
                    <a:pt x="66" y="28"/>
                  </a:lnTo>
                  <a:lnTo>
                    <a:pt x="48" y="18"/>
                  </a:lnTo>
                  <a:lnTo>
                    <a:pt x="18" y="36"/>
                  </a:lnTo>
                  <a:lnTo>
                    <a:pt x="0" y="38"/>
                  </a:lnTo>
                  <a:lnTo>
                    <a:pt x="8" y="24"/>
                  </a:lnTo>
                  <a:lnTo>
                    <a:pt x="26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44840" y="4107600"/>
              <a:ext cx="15480" cy="1188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96" y="0"/>
                  </a:moveTo>
                  <a:lnTo>
                    <a:pt x="94" y="0"/>
                  </a:lnTo>
                  <a:lnTo>
                    <a:pt x="88" y="30"/>
                  </a:lnTo>
                  <a:lnTo>
                    <a:pt x="80" y="54"/>
                  </a:lnTo>
                  <a:lnTo>
                    <a:pt x="58" y="68"/>
                  </a:lnTo>
                  <a:lnTo>
                    <a:pt x="0" y="74"/>
                  </a:lnTo>
                  <a:lnTo>
                    <a:pt x="6" y="38"/>
                  </a:lnTo>
                  <a:lnTo>
                    <a:pt x="36" y="24"/>
                  </a:lnTo>
                  <a:lnTo>
                    <a:pt x="56" y="34"/>
                  </a:lnTo>
                  <a:lnTo>
                    <a:pt x="9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58800" y="4018680"/>
              <a:ext cx="4680" cy="61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24" y="0"/>
                  </a:moveTo>
                  <a:lnTo>
                    <a:pt x="2" y="28"/>
                  </a:lnTo>
                  <a:lnTo>
                    <a:pt x="0" y="40"/>
                  </a:lnTo>
                  <a:lnTo>
                    <a:pt x="18" y="30"/>
                  </a:lnTo>
                  <a:lnTo>
                    <a:pt x="36" y="6"/>
                  </a:lnTo>
                  <a:lnTo>
                    <a:pt x="2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67920" y="6252840"/>
              <a:ext cx="10800" cy="7560"/>
            </a:xfrm>
            <a:custGeom>
              <a:avLst/>
              <a:gdLst/>
              <a:ahLst/>
              <a:rect l="l" t="t" r="r" b="b"/>
              <a:pathLst>
                <a:path w="64" h="48">
                  <a:moveTo>
                    <a:pt x="44" y="20"/>
                  </a:moveTo>
                  <a:lnTo>
                    <a:pt x="48" y="16"/>
                  </a:lnTo>
                  <a:lnTo>
                    <a:pt x="50" y="20"/>
                  </a:lnTo>
                  <a:lnTo>
                    <a:pt x="60" y="22"/>
                  </a:lnTo>
                  <a:lnTo>
                    <a:pt x="64" y="42"/>
                  </a:lnTo>
                  <a:lnTo>
                    <a:pt x="58" y="48"/>
                  </a:lnTo>
                  <a:lnTo>
                    <a:pt x="42" y="44"/>
                  </a:lnTo>
                  <a:lnTo>
                    <a:pt x="10" y="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0" y="4"/>
                  </a:lnTo>
                  <a:lnTo>
                    <a:pt x="8" y="14"/>
                  </a:lnTo>
                  <a:lnTo>
                    <a:pt x="16" y="26"/>
                  </a:lnTo>
                  <a:lnTo>
                    <a:pt x="24" y="30"/>
                  </a:lnTo>
                  <a:lnTo>
                    <a:pt x="22" y="24"/>
                  </a:lnTo>
                  <a:lnTo>
                    <a:pt x="24" y="18"/>
                  </a:lnTo>
                  <a:lnTo>
                    <a:pt x="36" y="16"/>
                  </a:lnTo>
                  <a:lnTo>
                    <a:pt x="44" y="2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77280" y="6242040"/>
              <a:ext cx="29160" cy="2592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44" y="4"/>
                  </a:moveTo>
                  <a:lnTo>
                    <a:pt x="146" y="0"/>
                  </a:lnTo>
                  <a:lnTo>
                    <a:pt x="150" y="4"/>
                  </a:lnTo>
                  <a:lnTo>
                    <a:pt x="162" y="6"/>
                  </a:lnTo>
                  <a:lnTo>
                    <a:pt x="168" y="16"/>
                  </a:lnTo>
                  <a:lnTo>
                    <a:pt x="164" y="22"/>
                  </a:lnTo>
                  <a:lnTo>
                    <a:pt x="164" y="36"/>
                  </a:lnTo>
                  <a:lnTo>
                    <a:pt x="154" y="42"/>
                  </a:lnTo>
                  <a:lnTo>
                    <a:pt x="142" y="76"/>
                  </a:lnTo>
                  <a:lnTo>
                    <a:pt x="134" y="82"/>
                  </a:lnTo>
                  <a:lnTo>
                    <a:pt x="128" y="102"/>
                  </a:lnTo>
                  <a:lnTo>
                    <a:pt x="116" y="106"/>
                  </a:lnTo>
                  <a:lnTo>
                    <a:pt x="106" y="104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80" y="110"/>
                  </a:lnTo>
                  <a:lnTo>
                    <a:pt x="88" y="126"/>
                  </a:lnTo>
                  <a:lnTo>
                    <a:pt x="78" y="136"/>
                  </a:lnTo>
                  <a:lnTo>
                    <a:pt x="70" y="136"/>
                  </a:lnTo>
                  <a:lnTo>
                    <a:pt x="54" y="150"/>
                  </a:lnTo>
                  <a:lnTo>
                    <a:pt x="40" y="134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34" y="142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22" y="116"/>
                  </a:lnTo>
                  <a:lnTo>
                    <a:pt x="18" y="106"/>
                  </a:lnTo>
                  <a:lnTo>
                    <a:pt x="30" y="108"/>
                  </a:lnTo>
                  <a:lnTo>
                    <a:pt x="48" y="108"/>
                  </a:lnTo>
                  <a:lnTo>
                    <a:pt x="56" y="100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8" y="80"/>
                  </a:lnTo>
                  <a:lnTo>
                    <a:pt x="62" y="84"/>
                  </a:lnTo>
                  <a:lnTo>
                    <a:pt x="64" y="64"/>
                  </a:lnTo>
                  <a:lnTo>
                    <a:pt x="86" y="60"/>
                  </a:lnTo>
                  <a:lnTo>
                    <a:pt x="46" y="32"/>
                  </a:lnTo>
                  <a:lnTo>
                    <a:pt x="30" y="34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4"/>
                  </a:lnTo>
                  <a:lnTo>
                    <a:pt x="22" y="18"/>
                  </a:lnTo>
                  <a:lnTo>
                    <a:pt x="10" y="16"/>
                  </a:lnTo>
                  <a:lnTo>
                    <a:pt x="2" y="4"/>
                  </a:lnTo>
                  <a:lnTo>
                    <a:pt x="30" y="16"/>
                  </a:lnTo>
                  <a:lnTo>
                    <a:pt x="64" y="22"/>
                  </a:lnTo>
                  <a:lnTo>
                    <a:pt x="78" y="12"/>
                  </a:lnTo>
                  <a:lnTo>
                    <a:pt x="122" y="18"/>
                  </a:lnTo>
                  <a:lnTo>
                    <a:pt x="148" y="16"/>
                  </a:lnTo>
                  <a:lnTo>
                    <a:pt x="144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9800" bIns="-19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03920" y="6239160"/>
              <a:ext cx="34200" cy="31680"/>
            </a:xfrm>
            <a:custGeom>
              <a:avLst/>
              <a:gdLst/>
              <a:ahLst/>
              <a:rect l="l" t="t" r="r" b="b"/>
              <a:pathLst>
                <a:path w="198" h="180">
                  <a:moveTo>
                    <a:pt x="186" y="74"/>
                  </a:moveTo>
                  <a:lnTo>
                    <a:pt x="178" y="74"/>
                  </a:lnTo>
                  <a:lnTo>
                    <a:pt x="166" y="88"/>
                  </a:lnTo>
                  <a:lnTo>
                    <a:pt x="152" y="96"/>
                  </a:lnTo>
                  <a:lnTo>
                    <a:pt x="118" y="100"/>
                  </a:lnTo>
                  <a:lnTo>
                    <a:pt x="90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116" y="124"/>
                  </a:lnTo>
                  <a:lnTo>
                    <a:pt x="124" y="138"/>
                  </a:lnTo>
                  <a:lnTo>
                    <a:pt x="102" y="128"/>
                  </a:lnTo>
                  <a:lnTo>
                    <a:pt x="84" y="130"/>
                  </a:lnTo>
                  <a:lnTo>
                    <a:pt x="76" y="126"/>
                  </a:lnTo>
                  <a:lnTo>
                    <a:pt x="70" y="126"/>
                  </a:lnTo>
                  <a:lnTo>
                    <a:pt x="76" y="150"/>
                  </a:lnTo>
                  <a:lnTo>
                    <a:pt x="88" y="154"/>
                  </a:lnTo>
                  <a:lnTo>
                    <a:pt x="92" y="160"/>
                  </a:lnTo>
                  <a:lnTo>
                    <a:pt x="68" y="160"/>
                  </a:lnTo>
                  <a:lnTo>
                    <a:pt x="48" y="148"/>
                  </a:lnTo>
                  <a:lnTo>
                    <a:pt x="48" y="162"/>
                  </a:lnTo>
                  <a:lnTo>
                    <a:pt x="52" y="180"/>
                  </a:lnTo>
                  <a:lnTo>
                    <a:pt x="38" y="174"/>
                  </a:lnTo>
                  <a:lnTo>
                    <a:pt x="8" y="150"/>
                  </a:lnTo>
                  <a:lnTo>
                    <a:pt x="4" y="140"/>
                  </a:lnTo>
                  <a:lnTo>
                    <a:pt x="0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6" y="84"/>
                  </a:lnTo>
                  <a:lnTo>
                    <a:pt x="28" y="72"/>
                  </a:lnTo>
                  <a:lnTo>
                    <a:pt x="42" y="72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0" y="78"/>
                  </a:lnTo>
                  <a:lnTo>
                    <a:pt x="42" y="52"/>
                  </a:lnTo>
                  <a:lnTo>
                    <a:pt x="28" y="26"/>
                  </a:lnTo>
                  <a:lnTo>
                    <a:pt x="36" y="22"/>
                  </a:lnTo>
                  <a:lnTo>
                    <a:pt x="46" y="22"/>
                  </a:lnTo>
                  <a:lnTo>
                    <a:pt x="46" y="6"/>
                  </a:lnTo>
                  <a:lnTo>
                    <a:pt x="52" y="0"/>
                  </a:lnTo>
                  <a:lnTo>
                    <a:pt x="70" y="4"/>
                  </a:lnTo>
                  <a:lnTo>
                    <a:pt x="88" y="0"/>
                  </a:lnTo>
                  <a:lnTo>
                    <a:pt x="122" y="24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86" y="34"/>
                  </a:lnTo>
                  <a:lnTo>
                    <a:pt x="186" y="38"/>
                  </a:lnTo>
                  <a:lnTo>
                    <a:pt x="174" y="38"/>
                  </a:lnTo>
                  <a:lnTo>
                    <a:pt x="176" y="44"/>
                  </a:lnTo>
                  <a:lnTo>
                    <a:pt x="186" y="48"/>
                  </a:lnTo>
                  <a:lnTo>
                    <a:pt x="198" y="58"/>
                  </a:lnTo>
                  <a:lnTo>
                    <a:pt x="196" y="64"/>
                  </a:lnTo>
                  <a:lnTo>
                    <a:pt x="186" y="7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040" bIns="-14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53400" y="3831480"/>
              <a:ext cx="4320" cy="93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2" y="24"/>
                  </a:moveTo>
                  <a:lnTo>
                    <a:pt x="6" y="1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4" y="52"/>
                  </a:lnTo>
                  <a:lnTo>
                    <a:pt x="0" y="28"/>
                  </a:lnTo>
                  <a:lnTo>
                    <a:pt x="2" y="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28320" y="5545800"/>
              <a:ext cx="1440" cy="14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50000" y="5524920"/>
              <a:ext cx="1440" cy="25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200" bIns="-432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280320" y="2341440"/>
              <a:ext cx="934920" cy="765000"/>
              <a:chOff x="3280320" y="2341440"/>
              <a:chExt cx="934920" cy="765000"/>
            </a:xfrm>
          </p:grpSpPr>
          <p:sp>
            <p:nvSpPr>
              <p:cNvPr id="687" name=""/>
              <p:cNvSpPr/>
              <p:nvPr/>
            </p:nvSpPr>
            <p:spPr>
              <a:xfrm>
                <a:off x="3886560" y="2832480"/>
                <a:ext cx="195120" cy="89280"/>
              </a:xfrm>
              <a:custGeom>
                <a:avLst/>
                <a:gdLst/>
                <a:ahLst/>
                <a:rect l="l" t="t" r="r" b="b"/>
                <a:pathLst>
                  <a:path w="1126" h="528">
                    <a:moveTo>
                      <a:pt x="418" y="498"/>
                    </a:moveTo>
                    <a:lnTo>
                      <a:pt x="412" y="502"/>
                    </a:lnTo>
                    <a:lnTo>
                      <a:pt x="398" y="492"/>
                    </a:lnTo>
                    <a:lnTo>
                      <a:pt x="382" y="488"/>
                    </a:lnTo>
                    <a:lnTo>
                      <a:pt x="366" y="472"/>
                    </a:lnTo>
                    <a:lnTo>
                      <a:pt x="332" y="454"/>
                    </a:lnTo>
                    <a:lnTo>
                      <a:pt x="296" y="442"/>
                    </a:lnTo>
                    <a:lnTo>
                      <a:pt x="270" y="448"/>
                    </a:lnTo>
                    <a:lnTo>
                      <a:pt x="236" y="442"/>
                    </a:lnTo>
                    <a:lnTo>
                      <a:pt x="224" y="446"/>
                    </a:lnTo>
                    <a:lnTo>
                      <a:pt x="204" y="446"/>
                    </a:lnTo>
                    <a:lnTo>
                      <a:pt x="172" y="444"/>
                    </a:lnTo>
                    <a:lnTo>
                      <a:pt x="156" y="452"/>
                    </a:lnTo>
                    <a:lnTo>
                      <a:pt x="140" y="448"/>
                    </a:lnTo>
                    <a:lnTo>
                      <a:pt x="146" y="424"/>
                    </a:lnTo>
                    <a:lnTo>
                      <a:pt x="142" y="406"/>
                    </a:lnTo>
                    <a:lnTo>
                      <a:pt x="168" y="420"/>
                    </a:lnTo>
                    <a:lnTo>
                      <a:pt x="180" y="408"/>
                    </a:lnTo>
                    <a:lnTo>
                      <a:pt x="212" y="400"/>
                    </a:lnTo>
                    <a:lnTo>
                      <a:pt x="242" y="388"/>
                    </a:lnTo>
                    <a:lnTo>
                      <a:pt x="248" y="360"/>
                    </a:lnTo>
                    <a:lnTo>
                      <a:pt x="210" y="366"/>
                    </a:lnTo>
                    <a:lnTo>
                      <a:pt x="232" y="354"/>
                    </a:lnTo>
                    <a:lnTo>
                      <a:pt x="236" y="346"/>
                    </a:lnTo>
                    <a:lnTo>
                      <a:pt x="236" y="336"/>
                    </a:lnTo>
                    <a:lnTo>
                      <a:pt x="256" y="322"/>
                    </a:lnTo>
                    <a:lnTo>
                      <a:pt x="236" y="324"/>
                    </a:lnTo>
                    <a:lnTo>
                      <a:pt x="220" y="338"/>
                    </a:lnTo>
                    <a:lnTo>
                      <a:pt x="212" y="330"/>
                    </a:lnTo>
                    <a:lnTo>
                      <a:pt x="210" y="322"/>
                    </a:lnTo>
                    <a:lnTo>
                      <a:pt x="200" y="322"/>
                    </a:lnTo>
                    <a:lnTo>
                      <a:pt x="198" y="316"/>
                    </a:lnTo>
                    <a:lnTo>
                      <a:pt x="200" y="304"/>
                    </a:lnTo>
                    <a:lnTo>
                      <a:pt x="196" y="282"/>
                    </a:lnTo>
                    <a:lnTo>
                      <a:pt x="182" y="278"/>
                    </a:lnTo>
                    <a:lnTo>
                      <a:pt x="156" y="286"/>
                    </a:lnTo>
                    <a:lnTo>
                      <a:pt x="148" y="278"/>
                    </a:lnTo>
                    <a:lnTo>
                      <a:pt x="132" y="276"/>
                    </a:lnTo>
                    <a:lnTo>
                      <a:pt x="108" y="276"/>
                    </a:lnTo>
                    <a:lnTo>
                      <a:pt x="88" y="280"/>
                    </a:lnTo>
                    <a:lnTo>
                      <a:pt x="68" y="288"/>
                    </a:lnTo>
                    <a:lnTo>
                      <a:pt x="46" y="292"/>
                    </a:lnTo>
                    <a:lnTo>
                      <a:pt x="38" y="284"/>
                    </a:lnTo>
                    <a:lnTo>
                      <a:pt x="44" y="266"/>
                    </a:lnTo>
                    <a:lnTo>
                      <a:pt x="70" y="266"/>
                    </a:lnTo>
                    <a:lnTo>
                      <a:pt x="106" y="260"/>
                    </a:lnTo>
                    <a:lnTo>
                      <a:pt x="120" y="252"/>
                    </a:lnTo>
                    <a:lnTo>
                      <a:pt x="144" y="252"/>
                    </a:lnTo>
                    <a:lnTo>
                      <a:pt x="166" y="240"/>
                    </a:lnTo>
                    <a:lnTo>
                      <a:pt x="176" y="250"/>
                    </a:lnTo>
                    <a:lnTo>
                      <a:pt x="194" y="238"/>
                    </a:lnTo>
                    <a:lnTo>
                      <a:pt x="214" y="244"/>
                    </a:lnTo>
                    <a:lnTo>
                      <a:pt x="256" y="246"/>
                    </a:lnTo>
                    <a:lnTo>
                      <a:pt x="278" y="216"/>
                    </a:lnTo>
                    <a:lnTo>
                      <a:pt x="264" y="220"/>
                    </a:lnTo>
                    <a:lnTo>
                      <a:pt x="250" y="234"/>
                    </a:lnTo>
                    <a:lnTo>
                      <a:pt x="238" y="228"/>
                    </a:lnTo>
                    <a:lnTo>
                      <a:pt x="198" y="222"/>
                    </a:lnTo>
                    <a:lnTo>
                      <a:pt x="200" y="212"/>
                    </a:lnTo>
                    <a:lnTo>
                      <a:pt x="214" y="202"/>
                    </a:lnTo>
                    <a:lnTo>
                      <a:pt x="228" y="200"/>
                    </a:lnTo>
                    <a:lnTo>
                      <a:pt x="240" y="192"/>
                    </a:lnTo>
                    <a:lnTo>
                      <a:pt x="276" y="176"/>
                    </a:lnTo>
                    <a:lnTo>
                      <a:pt x="276" y="174"/>
                    </a:lnTo>
                    <a:lnTo>
                      <a:pt x="258" y="164"/>
                    </a:lnTo>
                    <a:lnTo>
                      <a:pt x="246" y="172"/>
                    </a:lnTo>
                    <a:lnTo>
                      <a:pt x="232" y="172"/>
                    </a:lnTo>
                    <a:lnTo>
                      <a:pt x="232" y="164"/>
                    </a:lnTo>
                    <a:lnTo>
                      <a:pt x="226" y="158"/>
                    </a:lnTo>
                    <a:lnTo>
                      <a:pt x="224" y="162"/>
                    </a:lnTo>
                    <a:lnTo>
                      <a:pt x="220" y="152"/>
                    </a:lnTo>
                    <a:lnTo>
                      <a:pt x="212" y="150"/>
                    </a:lnTo>
                    <a:lnTo>
                      <a:pt x="172" y="146"/>
                    </a:lnTo>
                    <a:lnTo>
                      <a:pt x="156" y="150"/>
                    </a:lnTo>
                    <a:lnTo>
                      <a:pt x="134" y="164"/>
                    </a:lnTo>
                    <a:lnTo>
                      <a:pt x="120" y="164"/>
                    </a:lnTo>
                    <a:lnTo>
                      <a:pt x="88" y="174"/>
                    </a:lnTo>
                    <a:lnTo>
                      <a:pt x="76" y="174"/>
                    </a:lnTo>
                    <a:lnTo>
                      <a:pt x="46" y="160"/>
                    </a:lnTo>
                    <a:lnTo>
                      <a:pt x="0" y="168"/>
                    </a:lnTo>
                    <a:lnTo>
                      <a:pt x="8" y="154"/>
                    </a:lnTo>
                    <a:lnTo>
                      <a:pt x="20" y="140"/>
                    </a:lnTo>
                    <a:lnTo>
                      <a:pt x="30" y="148"/>
                    </a:lnTo>
                    <a:lnTo>
                      <a:pt x="66" y="160"/>
                    </a:lnTo>
                    <a:lnTo>
                      <a:pt x="82" y="152"/>
                    </a:lnTo>
                    <a:lnTo>
                      <a:pt x="62" y="146"/>
                    </a:lnTo>
                    <a:lnTo>
                      <a:pt x="70" y="144"/>
                    </a:lnTo>
                    <a:lnTo>
                      <a:pt x="74" y="134"/>
                    </a:lnTo>
                    <a:lnTo>
                      <a:pt x="56" y="128"/>
                    </a:lnTo>
                    <a:lnTo>
                      <a:pt x="48" y="108"/>
                    </a:lnTo>
                    <a:lnTo>
                      <a:pt x="90" y="124"/>
                    </a:lnTo>
                    <a:lnTo>
                      <a:pt x="104" y="140"/>
                    </a:lnTo>
                    <a:lnTo>
                      <a:pt x="138" y="136"/>
                    </a:lnTo>
                    <a:lnTo>
                      <a:pt x="124" y="130"/>
                    </a:lnTo>
                    <a:lnTo>
                      <a:pt x="136" y="124"/>
                    </a:lnTo>
                    <a:lnTo>
                      <a:pt x="140" y="114"/>
                    </a:lnTo>
                    <a:lnTo>
                      <a:pt x="104" y="118"/>
                    </a:lnTo>
                    <a:lnTo>
                      <a:pt x="88" y="104"/>
                    </a:lnTo>
                    <a:lnTo>
                      <a:pt x="90" y="100"/>
                    </a:lnTo>
                    <a:lnTo>
                      <a:pt x="112" y="98"/>
                    </a:lnTo>
                    <a:lnTo>
                      <a:pt x="98" y="86"/>
                    </a:lnTo>
                    <a:lnTo>
                      <a:pt x="88" y="70"/>
                    </a:lnTo>
                    <a:lnTo>
                      <a:pt x="88" y="74"/>
                    </a:lnTo>
                    <a:lnTo>
                      <a:pt x="114" y="82"/>
                    </a:lnTo>
                    <a:lnTo>
                      <a:pt x="118" y="78"/>
                    </a:lnTo>
                    <a:lnTo>
                      <a:pt x="108" y="62"/>
                    </a:lnTo>
                    <a:lnTo>
                      <a:pt x="126" y="70"/>
                    </a:lnTo>
                    <a:lnTo>
                      <a:pt x="116" y="54"/>
                    </a:lnTo>
                    <a:lnTo>
                      <a:pt x="130" y="50"/>
                    </a:lnTo>
                    <a:lnTo>
                      <a:pt x="164" y="62"/>
                    </a:lnTo>
                    <a:lnTo>
                      <a:pt x="162" y="82"/>
                    </a:lnTo>
                    <a:lnTo>
                      <a:pt x="166" y="84"/>
                    </a:lnTo>
                    <a:lnTo>
                      <a:pt x="178" y="88"/>
                    </a:lnTo>
                    <a:lnTo>
                      <a:pt x="192" y="78"/>
                    </a:lnTo>
                    <a:lnTo>
                      <a:pt x="204" y="90"/>
                    </a:lnTo>
                    <a:lnTo>
                      <a:pt x="206" y="106"/>
                    </a:lnTo>
                    <a:lnTo>
                      <a:pt x="216" y="92"/>
                    </a:lnTo>
                    <a:lnTo>
                      <a:pt x="224" y="108"/>
                    </a:lnTo>
                    <a:lnTo>
                      <a:pt x="238" y="90"/>
                    </a:lnTo>
                    <a:lnTo>
                      <a:pt x="228" y="74"/>
                    </a:lnTo>
                    <a:lnTo>
                      <a:pt x="232" y="66"/>
                    </a:lnTo>
                    <a:lnTo>
                      <a:pt x="202" y="56"/>
                    </a:lnTo>
                    <a:lnTo>
                      <a:pt x="188" y="46"/>
                    </a:lnTo>
                    <a:lnTo>
                      <a:pt x="202" y="32"/>
                    </a:lnTo>
                    <a:lnTo>
                      <a:pt x="216" y="42"/>
                    </a:lnTo>
                    <a:lnTo>
                      <a:pt x="226" y="42"/>
                    </a:lnTo>
                    <a:lnTo>
                      <a:pt x="234" y="38"/>
                    </a:lnTo>
                    <a:lnTo>
                      <a:pt x="218" y="28"/>
                    </a:lnTo>
                    <a:lnTo>
                      <a:pt x="216" y="22"/>
                    </a:lnTo>
                    <a:lnTo>
                      <a:pt x="204" y="22"/>
                    </a:lnTo>
                    <a:lnTo>
                      <a:pt x="184" y="28"/>
                    </a:lnTo>
                    <a:lnTo>
                      <a:pt x="170" y="24"/>
                    </a:lnTo>
                    <a:lnTo>
                      <a:pt x="170" y="22"/>
                    </a:lnTo>
                    <a:lnTo>
                      <a:pt x="178" y="14"/>
                    </a:lnTo>
                    <a:lnTo>
                      <a:pt x="176" y="2"/>
                    </a:lnTo>
                    <a:lnTo>
                      <a:pt x="194" y="6"/>
                    </a:lnTo>
                    <a:lnTo>
                      <a:pt x="194" y="0"/>
                    </a:lnTo>
                    <a:lnTo>
                      <a:pt x="210" y="12"/>
                    </a:lnTo>
                    <a:lnTo>
                      <a:pt x="222" y="8"/>
                    </a:lnTo>
                    <a:lnTo>
                      <a:pt x="234" y="14"/>
                    </a:lnTo>
                    <a:lnTo>
                      <a:pt x="242" y="10"/>
                    </a:lnTo>
                    <a:lnTo>
                      <a:pt x="256" y="34"/>
                    </a:lnTo>
                    <a:lnTo>
                      <a:pt x="284" y="38"/>
                    </a:lnTo>
                    <a:lnTo>
                      <a:pt x="290" y="52"/>
                    </a:lnTo>
                    <a:lnTo>
                      <a:pt x="308" y="68"/>
                    </a:lnTo>
                    <a:lnTo>
                      <a:pt x="328" y="72"/>
                    </a:lnTo>
                    <a:lnTo>
                      <a:pt x="340" y="82"/>
                    </a:lnTo>
                    <a:lnTo>
                      <a:pt x="320" y="90"/>
                    </a:lnTo>
                    <a:lnTo>
                      <a:pt x="340" y="100"/>
                    </a:lnTo>
                    <a:lnTo>
                      <a:pt x="338" y="118"/>
                    </a:lnTo>
                    <a:lnTo>
                      <a:pt x="328" y="122"/>
                    </a:lnTo>
                    <a:lnTo>
                      <a:pt x="324" y="130"/>
                    </a:lnTo>
                    <a:lnTo>
                      <a:pt x="316" y="136"/>
                    </a:lnTo>
                    <a:lnTo>
                      <a:pt x="294" y="126"/>
                    </a:lnTo>
                    <a:lnTo>
                      <a:pt x="298" y="140"/>
                    </a:lnTo>
                    <a:lnTo>
                      <a:pt x="320" y="148"/>
                    </a:lnTo>
                    <a:lnTo>
                      <a:pt x="318" y="160"/>
                    </a:lnTo>
                    <a:lnTo>
                      <a:pt x="330" y="152"/>
                    </a:lnTo>
                    <a:lnTo>
                      <a:pt x="332" y="170"/>
                    </a:lnTo>
                    <a:lnTo>
                      <a:pt x="320" y="176"/>
                    </a:lnTo>
                    <a:lnTo>
                      <a:pt x="336" y="182"/>
                    </a:lnTo>
                    <a:lnTo>
                      <a:pt x="338" y="192"/>
                    </a:lnTo>
                    <a:lnTo>
                      <a:pt x="334" y="214"/>
                    </a:lnTo>
                    <a:lnTo>
                      <a:pt x="350" y="198"/>
                    </a:lnTo>
                    <a:lnTo>
                      <a:pt x="354" y="184"/>
                    </a:lnTo>
                    <a:lnTo>
                      <a:pt x="376" y="184"/>
                    </a:lnTo>
                    <a:lnTo>
                      <a:pt x="380" y="154"/>
                    </a:lnTo>
                    <a:lnTo>
                      <a:pt x="392" y="140"/>
                    </a:lnTo>
                    <a:lnTo>
                      <a:pt x="408" y="142"/>
                    </a:lnTo>
                    <a:lnTo>
                      <a:pt x="410" y="154"/>
                    </a:lnTo>
                    <a:lnTo>
                      <a:pt x="418" y="168"/>
                    </a:lnTo>
                    <a:lnTo>
                      <a:pt x="432" y="156"/>
                    </a:lnTo>
                    <a:lnTo>
                      <a:pt x="442" y="136"/>
                    </a:lnTo>
                    <a:lnTo>
                      <a:pt x="448" y="116"/>
                    </a:lnTo>
                    <a:lnTo>
                      <a:pt x="442" y="86"/>
                    </a:lnTo>
                    <a:lnTo>
                      <a:pt x="444" y="70"/>
                    </a:lnTo>
                    <a:lnTo>
                      <a:pt x="456" y="66"/>
                    </a:lnTo>
                    <a:lnTo>
                      <a:pt x="466" y="68"/>
                    </a:lnTo>
                    <a:lnTo>
                      <a:pt x="492" y="90"/>
                    </a:lnTo>
                    <a:lnTo>
                      <a:pt x="508" y="116"/>
                    </a:lnTo>
                    <a:lnTo>
                      <a:pt x="510" y="130"/>
                    </a:lnTo>
                    <a:lnTo>
                      <a:pt x="524" y="130"/>
                    </a:lnTo>
                    <a:lnTo>
                      <a:pt x="534" y="126"/>
                    </a:lnTo>
                    <a:lnTo>
                      <a:pt x="542" y="106"/>
                    </a:lnTo>
                    <a:lnTo>
                      <a:pt x="542" y="92"/>
                    </a:lnTo>
                    <a:lnTo>
                      <a:pt x="540" y="80"/>
                    </a:lnTo>
                    <a:lnTo>
                      <a:pt x="562" y="74"/>
                    </a:lnTo>
                    <a:lnTo>
                      <a:pt x="574" y="78"/>
                    </a:lnTo>
                    <a:lnTo>
                      <a:pt x="586" y="64"/>
                    </a:lnTo>
                    <a:lnTo>
                      <a:pt x="616" y="56"/>
                    </a:lnTo>
                    <a:lnTo>
                      <a:pt x="614" y="68"/>
                    </a:lnTo>
                    <a:lnTo>
                      <a:pt x="616" y="66"/>
                    </a:lnTo>
                    <a:lnTo>
                      <a:pt x="622" y="74"/>
                    </a:lnTo>
                    <a:lnTo>
                      <a:pt x="632" y="78"/>
                    </a:lnTo>
                    <a:lnTo>
                      <a:pt x="636" y="94"/>
                    </a:lnTo>
                    <a:lnTo>
                      <a:pt x="648" y="104"/>
                    </a:lnTo>
                    <a:lnTo>
                      <a:pt x="658" y="118"/>
                    </a:lnTo>
                    <a:lnTo>
                      <a:pt x="660" y="138"/>
                    </a:lnTo>
                    <a:lnTo>
                      <a:pt x="664" y="146"/>
                    </a:lnTo>
                    <a:lnTo>
                      <a:pt x="672" y="128"/>
                    </a:lnTo>
                    <a:lnTo>
                      <a:pt x="674" y="110"/>
                    </a:lnTo>
                    <a:lnTo>
                      <a:pt x="672" y="100"/>
                    </a:lnTo>
                    <a:lnTo>
                      <a:pt x="660" y="74"/>
                    </a:lnTo>
                    <a:lnTo>
                      <a:pt x="662" y="62"/>
                    </a:lnTo>
                    <a:lnTo>
                      <a:pt x="670" y="58"/>
                    </a:lnTo>
                    <a:lnTo>
                      <a:pt x="690" y="62"/>
                    </a:lnTo>
                    <a:lnTo>
                      <a:pt x="708" y="72"/>
                    </a:lnTo>
                    <a:lnTo>
                      <a:pt x="720" y="88"/>
                    </a:lnTo>
                    <a:lnTo>
                      <a:pt x="738" y="88"/>
                    </a:lnTo>
                    <a:lnTo>
                      <a:pt x="748" y="80"/>
                    </a:lnTo>
                    <a:lnTo>
                      <a:pt x="760" y="70"/>
                    </a:lnTo>
                    <a:lnTo>
                      <a:pt x="760" y="60"/>
                    </a:lnTo>
                    <a:lnTo>
                      <a:pt x="786" y="58"/>
                    </a:lnTo>
                    <a:lnTo>
                      <a:pt x="788" y="70"/>
                    </a:lnTo>
                    <a:lnTo>
                      <a:pt x="808" y="72"/>
                    </a:lnTo>
                    <a:lnTo>
                      <a:pt x="826" y="66"/>
                    </a:lnTo>
                    <a:lnTo>
                      <a:pt x="846" y="64"/>
                    </a:lnTo>
                    <a:lnTo>
                      <a:pt x="850" y="38"/>
                    </a:lnTo>
                    <a:lnTo>
                      <a:pt x="848" y="22"/>
                    </a:lnTo>
                    <a:lnTo>
                      <a:pt x="842" y="10"/>
                    </a:lnTo>
                    <a:lnTo>
                      <a:pt x="864" y="12"/>
                    </a:lnTo>
                    <a:lnTo>
                      <a:pt x="878" y="2"/>
                    </a:lnTo>
                    <a:lnTo>
                      <a:pt x="892" y="2"/>
                    </a:lnTo>
                    <a:lnTo>
                      <a:pt x="898" y="18"/>
                    </a:lnTo>
                    <a:lnTo>
                      <a:pt x="920" y="26"/>
                    </a:lnTo>
                    <a:lnTo>
                      <a:pt x="920" y="40"/>
                    </a:lnTo>
                    <a:lnTo>
                      <a:pt x="916" y="48"/>
                    </a:lnTo>
                    <a:lnTo>
                      <a:pt x="944" y="64"/>
                    </a:lnTo>
                    <a:lnTo>
                      <a:pt x="954" y="64"/>
                    </a:lnTo>
                    <a:lnTo>
                      <a:pt x="960" y="58"/>
                    </a:lnTo>
                    <a:lnTo>
                      <a:pt x="958" y="48"/>
                    </a:lnTo>
                    <a:lnTo>
                      <a:pt x="988" y="48"/>
                    </a:lnTo>
                    <a:lnTo>
                      <a:pt x="1000" y="32"/>
                    </a:lnTo>
                    <a:lnTo>
                      <a:pt x="1012" y="28"/>
                    </a:lnTo>
                    <a:lnTo>
                      <a:pt x="1036" y="28"/>
                    </a:lnTo>
                    <a:lnTo>
                      <a:pt x="1044" y="34"/>
                    </a:lnTo>
                    <a:lnTo>
                      <a:pt x="1016" y="40"/>
                    </a:lnTo>
                    <a:lnTo>
                      <a:pt x="978" y="76"/>
                    </a:lnTo>
                    <a:lnTo>
                      <a:pt x="982" y="88"/>
                    </a:lnTo>
                    <a:lnTo>
                      <a:pt x="992" y="92"/>
                    </a:lnTo>
                    <a:lnTo>
                      <a:pt x="1020" y="82"/>
                    </a:lnTo>
                    <a:lnTo>
                      <a:pt x="1024" y="106"/>
                    </a:lnTo>
                    <a:lnTo>
                      <a:pt x="1012" y="126"/>
                    </a:lnTo>
                    <a:lnTo>
                      <a:pt x="1010" y="140"/>
                    </a:lnTo>
                    <a:lnTo>
                      <a:pt x="1056" y="136"/>
                    </a:lnTo>
                    <a:lnTo>
                      <a:pt x="1052" y="148"/>
                    </a:lnTo>
                    <a:lnTo>
                      <a:pt x="1054" y="158"/>
                    </a:lnTo>
                    <a:lnTo>
                      <a:pt x="1082" y="166"/>
                    </a:lnTo>
                    <a:lnTo>
                      <a:pt x="1088" y="148"/>
                    </a:lnTo>
                    <a:lnTo>
                      <a:pt x="1096" y="154"/>
                    </a:lnTo>
                    <a:lnTo>
                      <a:pt x="1112" y="188"/>
                    </a:lnTo>
                    <a:lnTo>
                      <a:pt x="1108" y="204"/>
                    </a:lnTo>
                    <a:lnTo>
                      <a:pt x="1094" y="212"/>
                    </a:lnTo>
                    <a:lnTo>
                      <a:pt x="1106" y="230"/>
                    </a:lnTo>
                    <a:lnTo>
                      <a:pt x="1120" y="230"/>
                    </a:lnTo>
                    <a:lnTo>
                      <a:pt x="1126" y="222"/>
                    </a:lnTo>
                    <a:lnTo>
                      <a:pt x="1124" y="244"/>
                    </a:lnTo>
                    <a:lnTo>
                      <a:pt x="1116" y="260"/>
                    </a:lnTo>
                    <a:lnTo>
                      <a:pt x="1100" y="264"/>
                    </a:lnTo>
                    <a:lnTo>
                      <a:pt x="1098" y="278"/>
                    </a:lnTo>
                    <a:lnTo>
                      <a:pt x="1090" y="282"/>
                    </a:lnTo>
                    <a:lnTo>
                      <a:pt x="1076" y="294"/>
                    </a:lnTo>
                    <a:lnTo>
                      <a:pt x="1036" y="302"/>
                    </a:lnTo>
                    <a:lnTo>
                      <a:pt x="1034" y="312"/>
                    </a:lnTo>
                    <a:lnTo>
                      <a:pt x="1018" y="312"/>
                    </a:lnTo>
                    <a:lnTo>
                      <a:pt x="1022" y="316"/>
                    </a:lnTo>
                    <a:lnTo>
                      <a:pt x="1010" y="324"/>
                    </a:lnTo>
                    <a:lnTo>
                      <a:pt x="1024" y="326"/>
                    </a:lnTo>
                    <a:lnTo>
                      <a:pt x="1046" y="316"/>
                    </a:lnTo>
                    <a:lnTo>
                      <a:pt x="1022" y="346"/>
                    </a:lnTo>
                    <a:lnTo>
                      <a:pt x="1002" y="364"/>
                    </a:lnTo>
                    <a:lnTo>
                      <a:pt x="976" y="370"/>
                    </a:lnTo>
                    <a:lnTo>
                      <a:pt x="966" y="386"/>
                    </a:lnTo>
                    <a:lnTo>
                      <a:pt x="944" y="374"/>
                    </a:lnTo>
                    <a:lnTo>
                      <a:pt x="946" y="366"/>
                    </a:lnTo>
                    <a:lnTo>
                      <a:pt x="936" y="356"/>
                    </a:lnTo>
                    <a:lnTo>
                      <a:pt x="922" y="356"/>
                    </a:lnTo>
                    <a:lnTo>
                      <a:pt x="916" y="374"/>
                    </a:lnTo>
                    <a:lnTo>
                      <a:pt x="890" y="388"/>
                    </a:lnTo>
                    <a:lnTo>
                      <a:pt x="878" y="398"/>
                    </a:lnTo>
                    <a:lnTo>
                      <a:pt x="844" y="418"/>
                    </a:lnTo>
                    <a:lnTo>
                      <a:pt x="810" y="436"/>
                    </a:lnTo>
                    <a:lnTo>
                      <a:pt x="784" y="446"/>
                    </a:lnTo>
                    <a:lnTo>
                      <a:pt x="758" y="442"/>
                    </a:lnTo>
                    <a:lnTo>
                      <a:pt x="738" y="448"/>
                    </a:lnTo>
                    <a:lnTo>
                      <a:pt x="734" y="440"/>
                    </a:lnTo>
                    <a:lnTo>
                      <a:pt x="722" y="446"/>
                    </a:lnTo>
                    <a:lnTo>
                      <a:pt x="714" y="452"/>
                    </a:lnTo>
                    <a:lnTo>
                      <a:pt x="710" y="464"/>
                    </a:lnTo>
                    <a:lnTo>
                      <a:pt x="680" y="470"/>
                    </a:lnTo>
                    <a:lnTo>
                      <a:pt x="620" y="510"/>
                    </a:lnTo>
                    <a:lnTo>
                      <a:pt x="572" y="520"/>
                    </a:lnTo>
                    <a:lnTo>
                      <a:pt x="556" y="528"/>
                    </a:lnTo>
                    <a:lnTo>
                      <a:pt x="528" y="520"/>
                    </a:lnTo>
                    <a:lnTo>
                      <a:pt x="514" y="526"/>
                    </a:lnTo>
                    <a:lnTo>
                      <a:pt x="494" y="514"/>
                    </a:lnTo>
                    <a:lnTo>
                      <a:pt x="472" y="512"/>
                    </a:lnTo>
                    <a:lnTo>
                      <a:pt x="438" y="498"/>
                    </a:lnTo>
                    <a:lnTo>
                      <a:pt x="418" y="49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186440" y="296100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40" y="10"/>
                    </a:moveTo>
                    <a:lnTo>
                      <a:pt x="32" y="6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6" y="10"/>
                    </a:lnTo>
                    <a:lnTo>
                      <a:pt x="18" y="14"/>
                    </a:lnTo>
                    <a:lnTo>
                      <a:pt x="32" y="14"/>
                    </a:lnTo>
                    <a:lnTo>
                      <a:pt x="40" y="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190760" y="29556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2" h="54">
                    <a:moveTo>
                      <a:pt x="50" y="54"/>
                    </a:moveTo>
                    <a:lnTo>
                      <a:pt x="52" y="54"/>
                    </a:lnTo>
                    <a:lnTo>
                      <a:pt x="52" y="40"/>
                    </a:lnTo>
                    <a:lnTo>
                      <a:pt x="46" y="28"/>
                    </a:lnTo>
                    <a:lnTo>
                      <a:pt x="28" y="10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2" y="28"/>
                    </a:lnTo>
                    <a:lnTo>
                      <a:pt x="38" y="40"/>
                    </a:lnTo>
                    <a:lnTo>
                      <a:pt x="36" y="52"/>
                    </a:lnTo>
                    <a:lnTo>
                      <a:pt x="40" y="54"/>
                    </a:lnTo>
                    <a:lnTo>
                      <a:pt x="50" y="5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196160" y="295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34" y="42"/>
                    </a:moveTo>
                    <a:lnTo>
                      <a:pt x="44" y="38"/>
                    </a:lnTo>
                    <a:lnTo>
                      <a:pt x="42" y="34"/>
                    </a:lnTo>
                    <a:lnTo>
                      <a:pt x="26" y="14"/>
                    </a:lnTo>
                    <a:lnTo>
                      <a:pt x="18" y="1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4" y="14"/>
                    </a:lnTo>
                    <a:lnTo>
                      <a:pt x="14" y="22"/>
                    </a:lnTo>
                    <a:lnTo>
                      <a:pt x="26" y="38"/>
                    </a:lnTo>
                    <a:lnTo>
                      <a:pt x="34" y="4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201560" y="295560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2" y="6"/>
                    </a:moveTo>
                    <a:lnTo>
                      <a:pt x="26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12" y="22"/>
                    </a:lnTo>
                    <a:lnTo>
                      <a:pt x="18" y="20"/>
                    </a:lnTo>
                    <a:lnTo>
                      <a:pt x="22" y="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198680" y="29674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2" y="22"/>
                    </a:moveTo>
                    <a:lnTo>
                      <a:pt x="24" y="10"/>
                    </a:lnTo>
                    <a:lnTo>
                      <a:pt x="22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6" y="12"/>
                    </a:lnTo>
                    <a:lnTo>
                      <a:pt x="14" y="22"/>
                    </a:lnTo>
                    <a:lnTo>
                      <a:pt x="20" y="24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196160" y="297432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6" y="4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6" y="42"/>
                    </a:lnTo>
                    <a:lnTo>
                      <a:pt x="20" y="38"/>
                    </a:lnTo>
                    <a:lnTo>
                      <a:pt x="22" y="30"/>
                    </a:lnTo>
                    <a:lnTo>
                      <a:pt x="20" y="2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189320" y="306648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96" y="0"/>
                    </a:moveTo>
                    <a:lnTo>
                      <a:pt x="84" y="2"/>
                    </a:lnTo>
                    <a:lnTo>
                      <a:pt x="60" y="12"/>
                    </a:lnTo>
                    <a:lnTo>
                      <a:pt x="32" y="30"/>
                    </a:lnTo>
                    <a:lnTo>
                      <a:pt x="32" y="36"/>
                    </a:lnTo>
                    <a:lnTo>
                      <a:pt x="34" y="46"/>
                    </a:lnTo>
                    <a:lnTo>
                      <a:pt x="22" y="48"/>
                    </a:lnTo>
                    <a:lnTo>
                      <a:pt x="8" y="40"/>
                    </a:lnTo>
                    <a:lnTo>
                      <a:pt x="0" y="56"/>
                    </a:lnTo>
                    <a:lnTo>
                      <a:pt x="0" y="78"/>
                    </a:lnTo>
                    <a:lnTo>
                      <a:pt x="12" y="92"/>
                    </a:lnTo>
                    <a:lnTo>
                      <a:pt x="2" y="102"/>
                    </a:lnTo>
                    <a:lnTo>
                      <a:pt x="0" y="106"/>
                    </a:lnTo>
                    <a:lnTo>
                      <a:pt x="4" y="116"/>
                    </a:lnTo>
                    <a:lnTo>
                      <a:pt x="26" y="108"/>
                    </a:lnTo>
                    <a:lnTo>
                      <a:pt x="26" y="100"/>
                    </a:lnTo>
                    <a:lnTo>
                      <a:pt x="36" y="96"/>
                    </a:lnTo>
                    <a:lnTo>
                      <a:pt x="44" y="86"/>
                    </a:lnTo>
                    <a:lnTo>
                      <a:pt x="58" y="88"/>
                    </a:lnTo>
                    <a:lnTo>
                      <a:pt x="74" y="76"/>
                    </a:lnTo>
                    <a:lnTo>
                      <a:pt x="78" y="66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80" y="46"/>
                    </a:lnTo>
                    <a:lnTo>
                      <a:pt x="90" y="44"/>
                    </a:lnTo>
                    <a:lnTo>
                      <a:pt x="100" y="38"/>
                    </a:lnTo>
                    <a:lnTo>
                      <a:pt x="96" y="38"/>
                    </a:lnTo>
                    <a:lnTo>
                      <a:pt x="90" y="32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181400" y="308916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6"/>
                    </a:moveTo>
                    <a:lnTo>
                      <a:pt x="48" y="2"/>
                    </a:lnTo>
                    <a:lnTo>
                      <a:pt x="36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16" y="20"/>
                    </a:lnTo>
                    <a:lnTo>
                      <a:pt x="38" y="22"/>
                    </a:lnTo>
                    <a:lnTo>
                      <a:pt x="42" y="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196160" y="30877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110" h="106">
                    <a:moveTo>
                      <a:pt x="46" y="0"/>
                    </a:moveTo>
                    <a:lnTo>
                      <a:pt x="42" y="0"/>
                    </a:lnTo>
                    <a:lnTo>
                      <a:pt x="34" y="34"/>
                    </a:lnTo>
                    <a:lnTo>
                      <a:pt x="18" y="20"/>
                    </a:lnTo>
                    <a:lnTo>
                      <a:pt x="6" y="34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22" y="54"/>
                    </a:lnTo>
                    <a:lnTo>
                      <a:pt x="30" y="74"/>
                    </a:lnTo>
                    <a:lnTo>
                      <a:pt x="42" y="82"/>
                    </a:lnTo>
                    <a:lnTo>
                      <a:pt x="42" y="92"/>
                    </a:lnTo>
                    <a:lnTo>
                      <a:pt x="84" y="88"/>
                    </a:lnTo>
                    <a:lnTo>
                      <a:pt x="84" y="106"/>
                    </a:lnTo>
                    <a:lnTo>
                      <a:pt x="96" y="102"/>
                    </a:lnTo>
                    <a:lnTo>
                      <a:pt x="110" y="78"/>
                    </a:lnTo>
                    <a:lnTo>
                      <a:pt x="82" y="74"/>
                    </a:lnTo>
                    <a:lnTo>
                      <a:pt x="76" y="68"/>
                    </a:lnTo>
                    <a:lnTo>
                      <a:pt x="76" y="50"/>
                    </a:lnTo>
                    <a:lnTo>
                      <a:pt x="62" y="34"/>
                    </a:lnTo>
                    <a:lnTo>
                      <a:pt x="62" y="24"/>
                    </a:lnTo>
                    <a:lnTo>
                      <a:pt x="58" y="12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175640" y="270180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72" y="14"/>
                    </a:moveTo>
                    <a:lnTo>
                      <a:pt x="58" y="24"/>
                    </a:lnTo>
                    <a:lnTo>
                      <a:pt x="14" y="40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6" y="50"/>
                    </a:lnTo>
                    <a:lnTo>
                      <a:pt x="24" y="42"/>
                    </a:lnTo>
                    <a:lnTo>
                      <a:pt x="88" y="28"/>
                    </a:lnTo>
                    <a:lnTo>
                      <a:pt x="106" y="14"/>
                    </a:lnTo>
                    <a:lnTo>
                      <a:pt x="112" y="0"/>
                    </a:lnTo>
                    <a:lnTo>
                      <a:pt x="88" y="0"/>
                    </a:lnTo>
                    <a:lnTo>
                      <a:pt x="72" y="1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697920" y="2364120"/>
                <a:ext cx="36360" cy="18720"/>
              </a:xfrm>
              <a:custGeom>
                <a:avLst/>
                <a:gdLst/>
                <a:ahLst/>
                <a:rect l="l" t="t" r="r" b="b"/>
                <a:pathLst>
                  <a:path w="206" h="108">
                    <a:moveTo>
                      <a:pt x="0" y="6"/>
                    </a:moveTo>
                    <a:lnTo>
                      <a:pt x="44" y="2"/>
                    </a:lnTo>
                    <a:lnTo>
                      <a:pt x="62" y="6"/>
                    </a:lnTo>
                    <a:lnTo>
                      <a:pt x="70" y="0"/>
                    </a:lnTo>
                    <a:lnTo>
                      <a:pt x="112" y="4"/>
                    </a:lnTo>
                    <a:lnTo>
                      <a:pt x="180" y="30"/>
                    </a:lnTo>
                    <a:lnTo>
                      <a:pt x="180" y="36"/>
                    </a:lnTo>
                    <a:lnTo>
                      <a:pt x="186" y="42"/>
                    </a:lnTo>
                    <a:lnTo>
                      <a:pt x="200" y="46"/>
                    </a:lnTo>
                    <a:lnTo>
                      <a:pt x="206" y="54"/>
                    </a:lnTo>
                    <a:lnTo>
                      <a:pt x="204" y="60"/>
                    </a:lnTo>
                    <a:lnTo>
                      <a:pt x="160" y="72"/>
                    </a:lnTo>
                    <a:lnTo>
                      <a:pt x="146" y="80"/>
                    </a:lnTo>
                    <a:lnTo>
                      <a:pt x="146" y="86"/>
                    </a:lnTo>
                    <a:lnTo>
                      <a:pt x="158" y="100"/>
                    </a:lnTo>
                    <a:lnTo>
                      <a:pt x="152" y="106"/>
                    </a:lnTo>
                    <a:lnTo>
                      <a:pt x="140" y="108"/>
                    </a:lnTo>
                    <a:lnTo>
                      <a:pt x="128" y="102"/>
                    </a:lnTo>
                    <a:lnTo>
                      <a:pt x="126" y="92"/>
                    </a:lnTo>
                    <a:lnTo>
                      <a:pt x="120" y="84"/>
                    </a:lnTo>
                    <a:lnTo>
                      <a:pt x="58" y="62"/>
                    </a:lnTo>
                    <a:lnTo>
                      <a:pt x="32" y="48"/>
                    </a:lnTo>
                    <a:lnTo>
                      <a:pt x="24" y="42"/>
                    </a:lnTo>
                    <a:lnTo>
                      <a:pt x="24" y="30"/>
                    </a:lnTo>
                    <a:lnTo>
                      <a:pt x="10" y="14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12680" y="2353320"/>
                <a:ext cx="20160" cy="6480"/>
              </a:xfrm>
              <a:custGeom>
                <a:avLst/>
                <a:gdLst/>
                <a:ahLst/>
                <a:rect l="l" t="t" r="r" b="b"/>
                <a:pathLst>
                  <a:path w="120" h="38">
                    <a:moveTo>
                      <a:pt x="0" y="18"/>
                    </a:moveTo>
                    <a:lnTo>
                      <a:pt x="28" y="20"/>
                    </a:lnTo>
                    <a:lnTo>
                      <a:pt x="52" y="28"/>
                    </a:lnTo>
                    <a:lnTo>
                      <a:pt x="54" y="22"/>
                    </a:lnTo>
                    <a:lnTo>
                      <a:pt x="42" y="16"/>
                    </a:lnTo>
                    <a:lnTo>
                      <a:pt x="18" y="14"/>
                    </a:lnTo>
                    <a:lnTo>
                      <a:pt x="18" y="10"/>
                    </a:lnTo>
                    <a:lnTo>
                      <a:pt x="30" y="4"/>
                    </a:lnTo>
                    <a:lnTo>
                      <a:pt x="50" y="4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74" y="4"/>
                    </a:lnTo>
                    <a:lnTo>
                      <a:pt x="88" y="12"/>
                    </a:lnTo>
                    <a:lnTo>
                      <a:pt x="120" y="24"/>
                    </a:lnTo>
                    <a:lnTo>
                      <a:pt x="120" y="38"/>
                    </a:lnTo>
                    <a:lnTo>
                      <a:pt x="28" y="34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794400" y="234684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118" h="46">
                    <a:moveTo>
                      <a:pt x="14" y="0"/>
                    </a:moveTo>
                    <a:lnTo>
                      <a:pt x="62" y="18"/>
                    </a:lnTo>
                    <a:lnTo>
                      <a:pt x="82" y="30"/>
                    </a:lnTo>
                    <a:lnTo>
                      <a:pt x="110" y="36"/>
                    </a:lnTo>
                    <a:lnTo>
                      <a:pt x="118" y="44"/>
                    </a:lnTo>
                    <a:lnTo>
                      <a:pt x="110" y="46"/>
                    </a:lnTo>
                    <a:lnTo>
                      <a:pt x="66" y="38"/>
                    </a:lnTo>
                    <a:lnTo>
                      <a:pt x="48" y="22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10" y="4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43880" y="2384280"/>
                <a:ext cx="16200" cy="9000"/>
              </a:xfrm>
              <a:custGeom>
                <a:avLst/>
                <a:gdLst/>
                <a:ahLst/>
                <a:rect l="l" t="t" r="r" b="b"/>
                <a:pathLst>
                  <a:path w="92" h="54">
                    <a:moveTo>
                      <a:pt x="22" y="0"/>
                    </a:moveTo>
                    <a:lnTo>
                      <a:pt x="32" y="2"/>
                    </a:lnTo>
                    <a:lnTo>
                      <a:pt x="40" y="14"/>
                    </a:lnTo>
                    <a:lnTo>
                      <a:pt x="62" y="26"/>
                    </a:lnTo>
                    <a:lnTo>
                      <a:pt x="76" y="30"/>
                    </a:lnTo>
                    <a:lnTo>
                      <a:pt x="80" y="40"/>
                    </a:lnTo>
                    <a:lnTo>
                      <a:pt x="92" y="48"/>
                    </a:lnTo>
                    <a:lnTo>
                      <a:pt x="92" y="54"/>
                    </a:lnTo>
                    <a:lnTo>
                      <a:pt x="54" y="52"/>
                    </a:lnTo>
                    <a:lnTo>
                      <a:pt x="24" y="30"/>
                    </a:lnTo>
                    <a:lnTo>
                      <a:pt x="10" y="24"/>
                    </a:lnTo>
                    <a:lnTo>
                      <a:pt x="0" y="14"/>
                    </a:lnTo>
                    <a:lnTo>
                      <a:pt x="8" y="4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66920" y="239472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0" y="4"/>
                    </a:moveTo>
                    <a:lnTo>
                      <a:pt x="16" y="0"/>
                    </a:lnTo>
                    <a:lnTo>
                      <a:pt x="32" y="2"/>
                    </a:lnTo>
                    <a:lnTo>
                      <a:pt x="56" y="14"/>
                    </a:lnTo>
                    <a:lnTo>
                      <a:pt x="64" y="22"/>
                    </a:lnTo>
                    <a:lnTo>
                      <a:pt x="62" y="26"/>
                    </a:lnTo>
                    <a:lnTo>
                      <a:pt x="48" y="2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71240" y="2469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6" y="2"/>
                    </a:moveTo>
                    <a:lnTo>
                      <a:pt x="34" y="0"/>
                    </a:lnTo>
                    <a:lnTo>
                      <a:pt x="42" y="12"/>
                    </a:lnTo>
                    <a:lnTo>
                      <a:pt x="38" y="18"/>
                    </a:lnTo>
                    <a:lnTo>
                      <a:pt x="30" y="20"/>
                    </a:lnTo>
                    <a:lnTo>
                      <a:pt x="32" y="26"/>
                    </a:lnTo>
                    <a:lnTo>
                      <a:pt x="26" y="30"/>
                    </a:lnTo>
                    <a:lnTo>
                      <a:pt x="16" y="28"/>
                    </a:lnTo>
                    <a:lnTo>
                      <a:pt x="8" y="36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4" y="16"/>
                    </a:lnTo>
                    <a:lnTo>
                      <a:pt x="26" y="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061880" y="250704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38" y="0"/>
                    </a:moveTo>
                    <a:lnTo>
                      <a:pt x="44" y="0"/>
                    </a:lnTo>
                    <a:lnTo>
                      <a:pt x="52" y="8"/>
                    </a:lnTo>
                    <a:lnTo>
                      <a:pt x="40" y="30"/>
                    </a:lnTo>
                    <a:lnTo>
                      <a:pt x="28" y="38"/>
                    </a:lnTo>
                    <a:lnTo>
                      <a:pt x="0" y="42"/>
                    </a:lnTo>
                    <a:lnTo>
                      <a:pt x="2" y="28"/>
                    </a:lnTo>
                    <a:lnTo>
                      <a:pt x="16" y="14"/>
                    </a:lnTo>
                    <a:lnTo>
                      <a:pt x="26" y="4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407400" y="2707200"/>
                <a:ext cx="48600" cy="29160"/>
              </a:xfrm>
              <a:custGeom>
                <a:avLst/>
                <a:gdLst/>
                <a:ahLst/>
                <a:rect l="l" t="t" r="r" b="b"/>
                <a:pathLst>
                  <a:path w="288" h="174">
                    <a:moveTo>
                      <a:pt x="106" y="0"/>
                    </a:moveTo>
                    <a:lnTo>
                      <a:pt x="134" y="10"/>
                    </a:lnTo>
                    <a:lnTo>
                      <a:pt x="166" y="14"/>
                    </a:lnTo>
                    <a:lnTo>
                      <a:pt x="202" y="28"/>
                    </a:lnTo>
                    <a:lnTo>
                      <a:pt x="236" y="88"/>
                    </a:lnTo>
                    <a:lnTo>
                      <a:pt x="270" y="96"/>
                    </a:lnTo>
                    <a:lnTo>
                      <a:pt x="288" y="110"/>
                    </a:lnTo>
                    <a:lnTo>
                      <a:pt x="278" y="128"/>
                    </a:lnTo>
                    <a:lnTo>
                      <a:pt x="270" y="138"/>
                    </a:lnTo>
                    <a:lnTo>
                      <a:pt x="236" y="156"/>
                    </a:lnTo>
                    <a:lnTo>
                      <a:pt x="124" y="172"/>
                    </a:lnTo>
                    <a:lnTo>
                      <a:pt x="92" y="174"/>
                    </a:lnTo>
                    <a:lnTo>
                      <a:pt x="76" y="172"/>
                    </a:lnTo>
                    <a:lnTo>
                      <a:pt x="48" y="156"/>
                    </a:lnTo>
                    <a:lnTo>
                      <a:pt x="54" y="146"/>
                    </a:lnTo>
                    <a:lnTo>
                      <a:pt x="76" y="146"/>
                    </a:lnTo>
                    <a:lnTo>
                      <a:pt x="98" y="150"/>
                    </a:lnTo>
                    <a:lnTo>
                      <a:pt x="118" y="146"/>
                    </a:lnTo>
                    <a:lnTo>
                      <a:pt x="124" y="138"/>
                    </a:lnTo>
                    <a:lnTo>
                      <a:pt x="106" y="144"/>
                    </a:lnTo>
                    <a:lnTo>
                      <a:pt x="106" y="136"/>
                    </a:lnTo>
                    <a:lnTo>
                      <a:pt x="86" y="134"/>
                    </a:lnTo>
                    <a:lnTo>
                      <a:pt x="92" y="122"/>
                    </a:lnTo>
                    <a:lnTo>
                      <a:pt x="68" y="130"/>
                    </a:lnTo>
                    <a:lnTo>
                      <a:pt x="30" y="128"/>
                    </a:lnTo>
                    <a:lnTo>
                      <a:pt x="0" y="118"/>
                    </a:lnTo>
                    <a:lnTo>
                      <a:pt x="4" y="104"/>
                    </a:lnTo>
                    <a:lnTo>
                      <a:pt x="24" y="100"/>
                    </a:lnTo>
                    <a:lnTo>
                      <a:pt x="50" y="108"/>
                    </a:lnTo>
                    <a:lnTo>
                      <a:pt x="36" y="92"/>
                    </a:lnTo>
                    <a:lnTo>
                      <a:pt x="14" y="76"/>
                    </a:lnTo>
                    <a:lnTo>
                      <a:pt x="26" y="70"/>
                    </a:lnTo>
                    <a:lnTo>
                      <a:pt x="78" y="70"/>
                    </a:lnTo>
                    <a:lnTo>
                      <a:pt x="60" y="58"/>
                    </a:lnTo>
                    <a:lnTo>
                      <a:pt x="50" y="32"/>
                    </a:lnTo>
                    <a:lnTo>
                      <a:pt x="60" y="12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039920" y="2540160"/>
                <a:ext cx="5400" cy="22680"/>
              </a:xfrm>
              <a:custGeom>
                <a:avLst/>
                <a:gdLst/>
                <a:ahLst/>
                <a:rect l="l" t="t" r="r" b="b"/>
                <a:pathLst>
                  <a:path w="36" h="132">
                    <a:moveTo>
                      <a:pt x="34" y="36"/>
                    </a:moveTo>
                    <a:lnTo>
                      <a:pt x="24" y="96"/>
                    </a:lnTo>
                    <a:lnTo>
                      <a:pt x="26" y="114"/>
                    </a:lnTo>
                    <a:lnTo>
                      <a:pt x="22" y="132"/>
                    </a:lnTo>
                    <a:lnTo>
                      <a:pt x="20" y="124"/>
                    </a:lnTo>
                    <a:lnTo>
                      <a:pt x="18" y="114"/>
                    </a:lnTo>
                    <a:lnTo>
                      <a:pt x="18" y="98"/>
                    </a:lnTo>
                    <a:lnTo>
                      <a:pt x="14" y="80"/>
                    </a:lnTo>
                    <a:lnTo>
                      <a:pt x="16" y="66"/>
                    </a:lnTo>
                    <a:lnTo>
                      <a:pt x="4" y="48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28" y="24"/>
                    </a:lnTo>
                    <a:lnTo>
                      <a:pt x="14" y="22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30" y="12"/>
                    </a:lnTo>
                    <a:lnTo>
                      <a:pt x="36" y="24"/>
                    </a:lnTo>
                    <a:lnTo>
                      <a:pt x="34" y="3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34520" y="2579040"/>
                <a:ext cx="23040" cy="13320"/>
              </a:xfrm>
              <a:custGeom>
                <a:avLst/>
                <a:gdLst/>
                <a:ahLst/>
                <a:rect l="l" t="t" r="r" b="b"/>
                <a:pathLst>
                  <a:path w="128" h="78">
                    <a:moveTo>
                      <a:pt x="90" y="14"/>
                    </a:moveTo>
                    <a:lnTo>
                      <a:pt x="90" y="20"/>
                    </a:lnTo>
                    <a:lnTo>
                      <a:pt x="74" y="26"/>
                    </a:lnTo>
                    <a:lnTo>
                      <a:pt x="70" y="32"/>
                    </a:lnTo>
                    <a:lnTo>
                      <a:pt x="72" y="38"/>
                    </a:lnTo>
                    <a:lnTo>
                      <a:pt x="86" y="52"/>
                    </a:lnTo>
                    <a:lnTo>
                      <a:pt x="104" y="52"/>
                    </a:lnTo>
                    <a:lnTo>
                      <a:pt x="114" y="44"/>
                    </a:lnTo>
                    <a:lnTo>
                      <a:pt x="128" y="44"/>
                    </a:lnTo>
                    <a:lnTo>
                      <a:pt x="128" y="56"/>
                    </a:lnTo>
                    <a:lnTo>
                      <a:pt x="122" y="68"/>
                    </a:lnTo>
                    <a:lnTo>
                      <a:pt x="110" y="78"/>
                    </a:lnTo>
                    <a:lnTo>
                      <a:pt x="82" y="64"/>
                    </a:lnTo>
                    <a:lnTo>
                      <a:pt x="34" y="72"/>
                    </a:lnTo>
                    <a:lnTo>
                      <a:pt x="20" y="66"/>
                    </a:lnTo>
                    <a:lnTo>
                      <a:pt x="2" y="68"/>
                    </a:lnTo>
                    <a:lnTo>
                      <a:pt x="0" y="52"/>
                    </a:lnTo>
                    <a:lnTo>
                      <a:pt x="8" y="24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38" y="6"/>
                    </a:lnTo>
                    <a:lnTo>
                      <a:pt x="48" y="14"/>
                    </a:lnTo>
                    <a:lnTo>
                      <a:pt x="68" y="12"/>
                    </a:lnTo>
                    <a:lnTo>
                      <a:pt x="74" y="0"/>
                    </a:lnTo>
                    <a:lnTo>
                      <a:pt x="86" y="0"/>
                    </a:lnTo>
                    <a:lnTo>
                      <a:pt x="90" y="1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981600" y="2606040"/>
                <a:ext cx="28440" cy="9000"/>
              </a:xfrm>
              <a:custGeom>
                <a:avLst/>
                <a:gdLst/>
                <a:ahLst/>
                <a:rect l="l" t="t" r="r" b="b"/>
                <a:pathLst>
                  <a:path w="162" h="58">
                    <a:moveTo>
                      <a:pt x="28" y="10"/>
                    </a:moveTo>
                    <a:lnTo>
                      <a:pt x="6" y="24"/>
                    </a:lnTo>
                    <a:lnTo>
                      <a:pt x="0" y="38"/>
                    </a:lnTo>
                    <a:lnTo>
                      <a:pt x="12" y="46"/>
                    </a:lnTo>
                    <a:lnTo>
                      <a:pt x="50" y="52"/>
                    </a:lnTo>
                    <a:lnTo>
                      <a:pt x="68" y="58"/>
                    </a:lnTo>
                    <a:lnTo>
                      <a:pt x="150" y="52"/>
                    </a:lnTo>
                    <a:lnTo>
                      <a:pt x="162" y="40"/>
                    </a:lnTo>
                    <a:lnTo>
                      <a:pt x="140" y="32"/>
                    </a:lnTo>
                    <a:lnTo>
                      <a:pt x="142" y="18"/>
                    </a:lnTo>
                    <a:lnTo>
                      <a:pt x="134" y="6"/>
                    </a:lnTo>
                    <a:lnTo>
                      <a:pt x="72" y="0"/>
                    </a:lnTo>
                    <a:lnTo>
                      <a:pt x="48" y="4"/>
                    </a:lnTo>
                    <a:lnTo>
                      <a:pt x="28" y="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916440" y="2633760"/>
                <a:ext cx="43200" cy="11880"/>
              </a:xfrm>
              <a:custGeom>
                <a:avLst/>
                <a:gdLst/>
                <a:ahLst/>
                <a:rect l="l" t="t" r="r" b="b"/>
                <a:pathLst>
                  <a:path w="246" h="70">
                    <a:moveTo>
                      <a:pt x="6" y="34"/>
                    </a:moveTo>
                    <a:lnTo>
                      <a:pt x="0" y="48"/>
                    </a:lnTo>
                    <a:lnTo>
                      <a:pt x="66" y="58"/>
                    </a:lnTo>
                    <a:lnTo>
                      <a:pt x="118" y="70"/>
                    </a:lnTo>
                    <a:lnTo>
                      <a:pt x="140" y="68"/>
                    </a:lnTo>
                    <a:lnTo>
                      <a:pt x="160" y="62"/>
                    </a:lnTo>
                    <a:lnTo>
                      <a:pt x="218" y="60"/>
                    </a:lnTo>
                    <a:lnTo>
                      <a:pt x="240" y="56"/>
                    </a:lnTo>
                    <a:lnTo>
                      <a:pt x="246" y="48"/>
                    </a:lnTo>
                    <a:lnTo>
                      <a:pt x="160" y="40"/>
                    </a:lnTo>
                    <a:lnTo>
                      <a:pt x="78" y="22"/>
                    </a:lnTo>
                    <a:lnTo>
                      <a:pt x="128" y="22"/>
                    </a:lnTo>
                    <a:lnTo>
                      <a:pt x="166" y="34"/>
                    </a:lnTo>
                    <a:lnTo>
                      <a:pt x="214" y="38"/>
                    </a:lnTo>
                    <a:lnTo>
                      <a:pt x="214" y="32"/>
                    </a:lnTo>
                    <a:lnTo>
                      <a:pt x="166" y="14"/>
                    </a:lnTo>
                    <a:lnTo>
                      <a:pt x="138" y="8"/>
                    </a:lnTo>
                    <a:lnTo>
                      <a:pt x="66" y="0"/>
                    </a:lnTo>
                    <a:lnTo>
                      <a:pt x="6" y="3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33000" y="2644200"/>
                <a:ext cx="40320" cy="10800"/>
              </a:xfrm>
              <a:custGeom>
                <a:avLst/>
                <a:gdLst/>
                <a:ahLst/>
                <a:rect l="l" t="t" r="r" b="b"/>
                <a:pathLst>
                  <a:path w="234" h="60">
                    <a:moveTo>
                      <a:pt x="234" y="30"/>
                    </a:moveTo>
                    <a:lnTo>
                      <a:pt x="216" y="36"/>
                    </a:lnTo>
                    <a:lnTo>
                      <a:pt x="212" y="42"/>
                    </a:lnTo>
                    <a:lnTo>
                      <a:pt x="230" y="56"/>
                    </a:lnTo>
                    <a:lnTo>
                      <a:pt x="206" y="60"/>
                    </a:lnTo>
                    <a:lnTo>
                      <a:pt x="168" y="56"/>
                    </a:lnTo>
                    <a:lnTo>
                      <a:pt x="168" y="50"/>
                    </a:lnTo>
                    <a:lnTo>
                      <a:pt x="142" y="32"/>
                    </a:lnTo>
                    <a:lnTo>
                      <a:pt x="84" y="28"/>
                    </a:lnTo>
                    <a:lnTo>
                      <a:pt x="4" y="20"/>
                    </a:lnTo>
                    <a:lnTo>
                      <a:pt x="0" y="10"/>
                    </a:lnTo>
                    <a:lnTo>
                      <a:pt x="124" y="0"/>
                    </a:lnTo>
                    <a:lnTo>
                      <a:pt x="140" y="6"/>
                    </a:lnTo>
                    <a:lnTo>
                      <a:pt x="160" y="6"/>
                    </a:lnTo>
                    <a:lnTo>
                      <a:pt x="180" y="12"/>
                    </a:lnTo>
                    <a:lnTo>
                      <a:pt x="196" y="12"/>
                    </a:lnTo>
                    <a:lnTo>
                      <a:pt x="234" y="26"/>
                    </a:lnTo>
                    <a:lnTo>
                      <a:pt x="234" y="3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33000" y="2648520"/>
                <a:ext cx="37800" cy="22680"/>
              </a:xfrm>
              <a:custGeom>
                <a:avLst/>
                <a:gdLst/>
                <a:ahLst/>
                <a:rect l="l" t="t" r="r" b="b"/>
                <a:pathLst>
                  <a:path w="222" h="132">
                    <a:moveTo>
                      <a:pt x="134" y="28"/>
                    </a:moveTo>
                    <a:lnTo>
                      <a:pt x="154" y="44"/>
                    </a:lnTo>
                    <a:lnTo>
                      <a:pt x="190" y="54"/>
                    </a:lnTo>
                    <a:lnTo>
                      <a:pt x="204" y="66"/>
                    </a:lnTo>
                    <a:lnTo>
                      <a:pt x="220" y="66"/>
                    </a:lnTo>
                    <a:lnTo>
                      <a:pt x="222" y="86"/>
                    </a:lnTo>
                    <a:lnTo>
                      <a:pt x="202" y="84"/>
                    </a:lnTo>
                    <a:lnTo>
                      <a:pt x="192" y="78"/>
                    </a:lnTo>
                    <a:lnTo>
                      <a:pt x="164" y="78"/>
                    </a:lnTo>
                    <a:lnTo>
                      <a:pt x="146" y="86"/>
                    </a:lnTo>
                    <a:lnTo>
                      <a:pt x="168" y="96"/>
                    </a:lnTo>
                    <a:lnTo>
                      <a:pt x="178" y="106"/>
                    </a:lnTo>
                    <a:lnTo>
                      <a:pt x="196" y="108"/>
                    </a:lnTo>
                    <a:lnTo>
                      <a:pt x="190" y="130"/>
                    </a:lnTo>
                    <a:lnTo>
                      <a:pt x="178" y="132"/>
                    </a:lnTo>
                    <a:lnTo>
                      <a:pt x="162" y="124"/>
                    </a:lnTo>
                    <a:lnTo>
                      <a:pt x="162" y="114"/>
                    </a:lnTo>
                    <a:lnTo>
                      <a:pt x="140" y="120"/>
                    </a:lnTo>
                    <a:lnTo>
                      <a:pt x="108" y="92"/>
                    </a:lnTo>
                    <a:lnTo>
                      <a:pt x="38" y="70"/>
                    </a:lnTo>
                    <a:lnTo>
                      <a:pt x="30" y="56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6" y="0"/>
                    </a:lnTo>
                    <a:lnTo>
                      <a:pt x="84" y="8"/>
                    </a:lnTo>
                    <a:lnTo>
                      <a:pt x="98" y="6"/>
                    </a:lnTo>
                    <a:lnTo>
                      <a:pt x="124" y="16"/>
                    </a:lnTo>
                    <a:lnTo>
                      <a:pt x="134" y="2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859560" y="2700720"/>
                <a:ext cx="46080" cy="16920"/>
              </a:xfrm>
              <a:custGeom>
                <a:avLst/>
                <a:gdLst/>
                <a:ahLst/>
                <a:rect l="l" t="t" r="r" b="b"/>
                <a:pathLst>
                  <a:path w="266" h="98">
                    <a:moveTo>
                      <a:pt x="266" y="30"/>
                    </a:moveTo>
                    <a:lnTo>
                      <a:pt x="262" y="50"/>
                    </a:lnTo>
                    <a:lnTo>
                      <a:pt x="262" y="68"/>
                    </a:lnTo>
                    <a:lnTo>
                      <a:pt x="238" y="78"/>
                    </a:lnTo>
                    <a:lnTo>
                      <a:pt x="220" y="78"/>
                    </a:lnTo>
                    <a:lnTo>
                      <a:pt x="208" y="76"/>
                    </a:lnTo>
                    <a:lnTo>
                      <a:pt x="198" y="84"/>
                    </a:lnTo>
                    <a:lnTo>
                      <a:pt x="166" y="78"/>
                    </a:lnTo>
                    <a:lnTo>
                      <a:pt x="136" y="84"/>
                    </a:lnTo>
                    <a:lnTo>
                      <a:pt x="54" y="94"/>
                    </a:lnTo>
                    <a:lnTo>
                      <a:pt x="16" y="98"/>
                    </a:lnTo>
                    <a:lnTo>
                      <a:pt x="0" y="96"/>
                    </a:lnTo>
                    <a:lnTo>
                      <a:pt x="6" y="78"/>
                    </a:lnTo>
                    <a:lnTo>
                      <a:pt x="14" y="66"/>
                    </a:lnTo>
                    <a:lnTo>
                      <a:pt x="52" y="52"/>
                    </a:lnTo>
                    <a:lnTo>
                      <a:pt x="94" y="36"/>
                    </a:lnTo>
                    <a:lnTo>
                      <a:pt x="104" y="30"/>
                    </a:lnTo>
                    <a:lnTo>
                      <a:pt x="176" y="20"/>
                    </a:lnTo>
                    <a:lnTo>
                      <a:pt x="204" y="8"/>
                    </a:lnTo>
                    <a:lnTo>
                      <a:pt x="230" y="0"/>
                    </a:lnTo>
                    <a:lnTo>
                      <a:pt x="234" y="6"/>
                    </a:lnTo>
                    <a:lnTo>
                      <a:pt x="262" y="22"/>
                    </a:lnTo>
                    <a:lnTo>
                      <a:pt x="266" y="3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280320" y="2341440"/>
                <a:ext cx="882000" cy="664560"/>
              </a:xfrm>
              <a:custGeom>
                <a:avLst/>
                <a:gdLst/>
                <a:ahLst/>
                <a:rect l="l" t="t" r="r" b="b"/>
                <a:pathLst>
                  <a:path w="5082" h="3894">
                    <a:moveTo>
                      <a:pt x="3050" y="96"/>
                    </a:moveTo>
                    <a:lnTo>
                      <a:pt x="3062" y="94"/>
                    </a:lnTo>
                    <a:lnTo>
                      <a:pt x="3118" y="94"/>
                    </a:lnTo>
                    <a:lnTo>
                      <a:pt x="3144" y="92"/>
                    </a:lnTo>
                    <a:lnTo>
                      <a:pt x="3170" y="96"/>
                    </a:lnTo>
                    <a:lnTo>
                      <a:pt x="3172" y="94"/>
                    </a:lnTo>
                    <a:lnTo>
                      <a:pt x="3154" y="90"/>
                    </a:lnTo>
                    <a:lnTo>
                      <a:pt x="3080" y="88"/>
                    </a:lnTo>
                    <a:lnTo>
                      <a:pt x="3080" y="84"/>
                    </a:lnTo>
                    <a:lnTo>
                      <a:pt x="3134" y="78"/>
                    </a:lnTo>
                    <a:lnTo>
                      <a:pt x="3196" y="76"/>
                    </a:lnTo>
                    <a:lnTo>
                      <a:pt x="3202" y="72"/>
                    </a:lnTo>
                    <a:lnTo>
                      <a:pt x="3162" y="70"/>
                    </a:lnTo>
                    <a:lnTo>
                      <a:pt x="3146" y="66"/>
                    </a:lnTo>
                    <a:lnTo>
                      <a:pt x="3148" y="62"/>
                    </a:lnTo>
                    <a:lnTo>
                      <a:pt x="3090" y="58"/>
                    </a:lnTo>
                    <a:lnTo>
                      <a:pt x="3082" y="54"/>
                    </a:lnTo>
                    <a:lnTo>
                      <a:pt x="3084" y="50"/>
                    </a:lnTo>
                    <a:lnTo>
                      <a:pt x="3092" y="46"/>
                    </a:lnTo>
                    <a:lnTo>
                      <a:pt x="3094" y="42"/>
                    </a:lnTo>
                    <a:lnTo>
                      <a:pt x="3090" y="32"/>
                    </a:lnTo>
                    <a:lnTo>
                      <a:pt x="3106" y="30"/>
                    </a:lnTo>
                    <a:lnTo>
                      <a:pt x="3098" y="26"/>
                    </a:lnTo>
                    <a:lnTo>
                      <a:pt x="3104" y="22"/>
                    </a:lnTo>
                    <a:lnTo>
                      <a:pt x="3168" y="32"/>
                    </a:lnTo>
                    <a:lnTo>
                      <a:pt x="3154" y="24"/>
                    </a:lnTo>
                    <a:lnTo>
                      <a:pt x="3166" y="14"/>
                    </a:lnTo>
                    <a:lnTo>
                      <a:pt x="3186" y="10"/>
                    </a:lnTo>
                    <a:lnTo>
                      <a:pt x="3196" y="12"/>
                    </a:lnTo>
                    <a:lnTo>
                      <a:pt x="3198" y="16"/>
                    </a:lnTo>
                    <a:lnTo>
                      <a:pt x="3230" y="22"/>
                    </a:lnTo>
                    <a:lnTo>
                      <a:pt x="3252" y="34"/>
                    </a:lnTo>
                    <a:lnTo>
                      <a:pt x="3268" y="38"/>
                    </a:lnTo>
                    <a:lnTo>
                      <a:pt x="3272" y="38"/>
                    </a:lnTo>
                    <a:lnTo>
                      <a:pt x="3272" y="34"/>
                    </a:lnTo>
                    <a:lnTo>
                      <a:pt x="3258" y="30"/>
                    </a:lnTo>
                    <a:lnTo>
                      <a:pt x="3258" y="24"/>
                    </a:lnTo>
                    <a:lnTo>
                      <a:pt x="3262" y="24"/>
                    </a:lnTo>
                    <a:lnTo>
                      <a:pt x="3260" y="20"/>
                    </a:lnTo>
                    <a:lnTo>
                      <a:pt x="3246" y="14"/>
                    </a:lnTo>
                    <a:lnTo>
                      <a:pt x="3246" y="10"/>
                    </a:lnTo>
                    <a:lnTo>
                      <a:pt x="3260" y="6"/>
                    </a:lnTo>
                    <a:lnTo>
                      <a:pt x="3288" y="4"/>
                    </a:lnTo>
                    <a:lnTo>
                      <a:pt x="3362" y="8"/>
                    </a:lnTo>
                    <a:lnTo>
                      <a:pt x="3388" y="0"/>
                    </a:lnTo>
                    <a:lnTo>
                      <a:pt x="3408" y="0"/>
                    </a:lnTo>
                    <a:lnTo>
                      <a:pt x="3418" y="8"/>
                    </a:lnTo>
                    <a:lnTo>
                      <a:pt x="3418" y="4"/>
                    </a:lnTo>
                    <a:lnTo>
                      <a:pt x="3428" y="6"/>
                    </a:lnTo>
                    <a:lnTo>
                      <a:pt x="3450" y="22"/>
                    </a:lnTo>
                    <a:lnTo>
                      <a:pt x="3456" y="16"/>
                    </a:lnTo>
                    <a:lnTo>
                      <a:pt x="3450" y="6"/>
                    </a:lnTo>
                    <a:lnTo>
                      <a:pt x="3488" y="0"/>
                    </a:lnTo>
                    <a:lnTo>
                      <a:pt x="3562" y="0"/>
                    </a:lnTo>
                    <a:lnTo>
                      <a:pt x="3574" y="6"/>
                    </a:lnTo>
                    <a:lnTo>
                      <a:pt x="3612" y="2"/>
                    </a:lnTo>
                    <a:lnTo>
                      <a:pt x="3644" y="10"/>
                    </a:lnTo>
                    <a:lnTo>
                      <a:pt x="3706" y="6"/>
                    </a:lnTo>
                    <a:lnTo>
                      <a:pt x="3786" y="16"/>
                    </a:lnTo>
                    <a:lnTo>
                      <a:pt x="3786" y="24"/>
                    </a:lnTo>
                    <a:lnTo>
                      <a:pt x="3808" y="26"/>
                    </a:lnTo>
                    <a:lnTo>
                      <a:pt x="3802" y="22"/>
                    </a:lnTo>
                    <a:lnTo>
                      <a:pt x="3834" y="22"/>
                    </a:lnTo>
                    <a:lnTo>
                      <a:pt x="3840" y="24"/>
                    </a:lnTo>
                    <a:lnTo>
                      <a:pt x="3812" y="26"/>
                    </a:lnTo>
                    <a:lnTo>
                      <a:pt x="3824" y="38"/>
                    </a:lnTo>
                    <a:lnTo>
                      <a:pt x="3858" y="38"/>
                    </a:lnTo>
                    <a:lnTo>
                      <a:pt x="3880" y="36"/>
                    </a:lnTo>
                    <a:lnTo>
                      <a:pt x="3852" y="32"/>
                    </a:lnTo>
                    <a:lnTo>
                      <a:pt x="3906" y="28"/>
                    </a:lnTo>
                    <a:lnTo>
                      <a:pt x="3996" y="38"/>
                    </a:lnTo>
                    <a:lnTo>
                      <a:pt x="4048" y="50"/>
                    </a:lnTo>
                    <a:lnTo>
                      <a:pt x="4058" y="58"/>
                    </a:lnTo>
                    <a:lnTo>
                      <a:pt x="4048" y="66"/>
                    </a:lnTo>
                    <a:lnTo>
                      <a:pt x="4022" y="76"/>
                    </a:lnTo>
                    <a:lnTo>
                      <a:pt x="3934" y="86"/>
                    </a:lnTo>
                    <a:lnTo>
                      <a:pt x="3770" y="76"/>
                    </a:lnTo>
                    <a:lnTo>
                      <a:pt x="3676" y="78"/>
                    </a:lnTo>
                    <a:lnTo>
                      <a:pt x="3566" y="94"/>
                    </a:lnTo>
                    <a:lnTo>
                      <a:pt x="3536" y="90"/>
                    </a:lnTo>
                    <a:lnTo>
                      <a:pt x="3466" y="74"/>
                    </a:lnTo>
                    <a:lnTo>
                      <a:pt x="3458" y="80"/>
                    </a:lnTo>
                    <a:lnTo>
                      <a:pt x="3498" y="86"/>
                    </a:lnTo>
                    <a:lnTo>
                      <a:pt x="3518" y="92"/>
                    </a:lnTo>
                    <a:lnTo>
                      <a:pt x="3520" y="96"/>
                    </a:lnTo>
                    <a:lnTo>
                      <a:pt x="3466" y="104"/>
                    </a:lnTo>
                    <a:lnTo>
                      <a:pt x="3438" y="102"/>
                    </a:lnTo>
                    <a:lnTo>
                      <a:pt x="3406" y="110"/>
                    </a:lnTo>
                    <a:lnTo>
                      <a:pt x="3298" y="114"/>
                    </a:lnTo>
                    <a:lnTo>
                      <a:pt x="3316" y="118"/>
                    </a:lnTo>
                    <a:lnTo>
                      <a:pt x="3306" y="122"/>
                    </a:lnTo>
                    <a:lnTo>
                      <a:pt x="3306" y="130"/>
                    </a:lnTo>
                    <a:lnTo>
                      <a:pt x="3314" y="130"/>
                    </a:lnTo>
                    <a:lnTo>
                      <a:pt x="3322" y="124"/>
                    </a:lnTo>
                    <a:lnTo>
                      <a:pt x="3346" y="118"/>
                    </a:lnTo>
                    <a:lnTo>
                      <a:pt x="3368" y="114"/>
                    </a:lnTo>
                    <a:lnTo>
                      <a:pt x="3408" y="118"/>
                    </a:lnTo>
                    <a:lnTo>
                      <a:pt x="3410" y="126"/>
                    </a:lnTo>
                    <a:lnTo>
                      <a:pt x="3404" y="134"/>
                    </a:lnTo>
                    <a:lnTo>
                      <a:pt x="3418" y="132"/>
                    </a:lnTo>
                    <a:lnTo>
                      <a:pt x="3422" y="120"/>
                    </a:lnTo>
                    <a:lnTo>
                      <a:pt x="3432" y="114"/>
                    </a:lnTo>
                    <a:lnTo>
                      <a:pt x="3454" y="110"/>
                    </a:lnTo>
                    <a:lnTo>
                      <a:pt x="3562" y="108"/>
                    </a:lnTo>
                    <a:lnTo>
                      <a:pt x="3566" y="116"/>
                    </a:lnTo>
                    <a:lnTo>
                      <a:pt x="3576" y="118"/>
                    </a:lnTo>
                    <a:lnTo>
                      <a:pt x="3592" y="104"/>
                    </a:lnTo>
                    <a:lnTo>
                      <a:pt x="3616" y="100"/>
                    </a:lnTo>
                    <a:lnTo>
                      <a:pt x="3644" y="94"/>
                    </a:lnTo>
                    <a:lnTo>
                      <a:pt x="3668" y="94"/>
                    </a:lnTo>
                    <a:lnTo>
                      <a:pt x="3690" y="88"/>
                    </a:lnTo>
                    <a:lnTo>
                      <a:pt x="3724" y="86"/>
                    </a:lnTo>
                    <a:lnTo>
                      <a:pt x="3838" y="96"/>
                    </a:lnTo>
                    <a:lnTo>
                      <a:pt x="3836" y="100"/>
                    </a:lnTo>
                    <a:lnTo>
                      <a:pt x="3828" y="106"/>
                    </a:lnTo>
                    <a:lnTo>
                      <a:pt x="3850" y="102"/>
                    </a:lnTo>
                    <a:lnTo>
                      <a:pt x="3862" y="98"/>
                    </a:lnTo>
                    <a:lnTo>
                      <a:pt x="3956" y="102"/>
                    </a:lnTo>
                    <a:lnTo>
                      <a:pt x="3978" y="100"/>
                    </a:lnTo>
                    <a:lnTo>
                      <a:pt x="4032" y="90"/>
                    </a:lnTo>
                    <a:lnTo>
                      <a:pt x="4094" y="88"/>
                    </a:lnTo>
                    <a:lnTo>
                      <a:pt x="4120" y="94"/>
                    </a:lnTo>
                    <a:lnTo>
                      <a:pt x="4108" y="98"/>
                    </a:lnTo>
                    <a:lnTo>
                      <a:pt x="4108" y="106"/>
                    </a:lnTo>
                    <a:lnTo>
                      <a:pt x="4122" y="114"/>
                    </a:lnTo>
                    <a:lnTo>
                      <a:pt x="4116" y="120"/>
                    </a:lnTo>
                    <a:lnTo>
                      <a:pt x="4100" y="126"/>
                    </a:lnTo>
                    <a:lnTo>
                      <a:pt x="4058" y="134"/>
                    </a:lnTo>
                    <a:lnTo>
                      <a:pt x="4076" y="134"/>
                    </a:lnTo>
                    <a:lnTo>
                      <a:pt x="4066" y="142"/>
                    </a:lnTo>
                    <a:lnTo>
                      <a:pt x="3996" y="152"/>
                    </a:lnTo>
                    <a:lnTo>
                      <a:pt x="4066" y="150"/>
                    </a:lnTo>
                    <a:lnTo>
                      <a:pt x="4076" y="144"/>
                    </a:lnTo>
                    <a:lnTo>
                      <a:pt x="4136" y="134"/>
                    </a:lnTo>
                    <a:lnTo>
                      <a:pt x="4162" y="134"/>
                    </a:lnTo>
                    <a:lnTo>
                      <a:pt x="4182" y="132"/>
                    </a:lnTo>
                    <a:lnTo>
                      <a:pt x="4178" y="138"/>
                    </a:lnTo>
                    <a:lnTo>
                      <a:pt x="4182" y="144"/>
                    </a:lnTo>
                    <a:lnTo>
                      <a:pt x="4178" y="148"/>
                    </a:lnTo>
                    <a:lnTo>
                      <a:pt x="4180" y="154"/>
                    </a:lnTo>
                    <a:lnTo>
                      <a:pt x="4216" y="142"/>
                    </a:lnTo>
                    <a:lnTo>
                      <a:pt x="4228" y="142"/>
                    </a:lnTo>
                    <a:lnTo>
                      <a:pt x="4258" y="152"/>
                    </a:lnTo>
                    <a:lnTo>
                      <a:pt x="4276" y="154"/>
                    </a:lnTo>
                    <a:lnTo>
                      <a:pt x="4294" y="148"/>
                    </a:lnTo>
                    <a:lnTo>
                      <a:pt x="4302" y="154"/>
                    </a:lnTo>
                    <a:lnTo>
                      <a:pt x="4316" y="156"/>
                    </a:lnTo>
                    <a:lnTo>
                      <a:pt x="4370" y="174"/>
                    </a:lnTo>
                    <a:lnTo>
                      <a:pt x="4380" y="180"/>
                    </a:lnTo>
                    <a:lnTo>
                      <a:pt x="4376" y="186"/>
                    </a:lnTo>
                    <a:lnTo>
                      <a:pt x="4372" y="190"/>
                    </a:lnTo>
                    <a:lnTo>
                      <a:pt x="4358" y="190"/>
                    </a:lnTo>
                    <a:lnTo>
                      <a:pt x="4340" y="198"/>
                    </a:lnTo>
                    <a:lnTo>
                      <a:pt x="4296" y="208"/>
                    </a:lnTo>
                    <a:lnTo>
                      <a:pt x="4298" y="216"/>
                    </a:lnTo>
                    <a:lnTo>
                      <a:pt x="4284" y="222"/>
                    </a:lnTo>
                    <a:lnTo>
                      <a:pt x="4256" y="228"/>
                    </a:lnTo>
                    <a:lnTo>
                      <a:pt x="4202" y="234"/>
                    </a:lnTo>
                    <a:lnTo>
                      <a:pt x="4162" y="234"/>
                    </a:lnTo>
                    <a:lnTo>
                      <a:pt x="4122" y="240"/>
                    </a:lnTo>
                    <a:lnTo>
                      <a:pt x="4098" y="248"/>
                    </a:lnTo>
                    <a:lnTo>
                      <a:pt x="4042" y="254"/>
                    </a:lnTo>
                    <a:lnTo>
                      <a:pt x="3972" y="254"/>
                    </a:lnTo>
                    <a:lnTo>
                      <a:pt x="3904" y="248"/>
                    </a:lnTo>
                    <a:lnTo>
                      <a:pt x="3816" y="244"/>
                    </a:lnTo>
                    <a:lnTo>
                      <a:pt x="3700" y="252"/>
                    </a:lnTo>
                    <a:lnTo>
                      <a:pt x="3662" y="252"/>
                    </a:lnTo>
                    <a:lnTo>
                      <a:pt x="3638" y="244"/>
                    </a:lnTo>
                    <a:lnTo>
                      <a:pt x="3606" y="240"/>
                    </a:lnTo>
                    <a:lnTo>
                      <a:pt x="3536" y="240"/>
                    </a:lnTo>
                    <a:lnTo>
                      <a:pt x="3554" y="244"/>
                    </a:lnTo>
                    <a:lnTo>
                      <a:pt x="3614" y="246"/>
                    </a:lnTo>
                    <a:lnTo>
                      <a:pt x="3644" y="254"/>
                    </a:lnTo>
                    <a:lnTo>
                      <a:pt x="3644" y="262"/>
                    </a:lnTo>
                    <a:lnTo>
                      <a:pt x="3582" y="272"/>
                    </a:lnTo>
                    <a:lnTo>
                      <a:pt x="3532" y="274"/>
                    </a:lnTo>
                    <a:lnTo>
                      <a:pt x="3428" y="294"/>
                    </a:lnTo>
                    <a:lnTo>
                      <a:pt x="3416" y="306"/>
                    </a:lnTo>
                    <a:lnTo>
                      <a:pt x="3416" y="326"/>
                    </a:lnTo>
                    <a:lnTo>
                      <a:pt x="3460" y="320"/>
                    </a:lnTo>
                    <a:lnTo>
                      <a:pt x="3490" y="308"/>
                    </a:lnTo>
                    <a:lnTo>
                      <a:pt x="3526" y="300"/>
                    </a:lnTo>
                    <a:lnTo>
                      <a:pt x="3652" y="286"/>
                    </a:lnTo>
                    <a:lnTo>
                      <a:pt x="3670" y="286"/>
                    </a:lnTo>
                    <a:lnTo>
                      <a:pt x="3664" y="296"/>
                    </a:lnTo>
                    <a:lnTo>
                      <a:pt x="3690" y="288"/>
                    </a:lnTo>
                    <a:lnTo>
                      <a:pt x="3700" y="282"/>
                    </a:lnTo>
                    <a:lnTo>
                      <a:pt x="3752" y="278"/>
                    </a:lnTo>
                    <a:lnTo>
                      <a:pt x="3808" y="276"/>
                    </a:lnTo>
                    <a:lnTo>
                      <a:pt x="3998" y="280"/>
                    </a:lnTo>
                    <a:lnTo>
                      <a:pt x="4002" y="284"/>
                    </a:lnTo>
                    <a:lnTo>
                      <a:pt x="4032" y="290"/>
                    </a:lnTo>
                    <a:lnTo>
                      <a:pt x="4030" y="308"/>
                    </a:lnTo>
                    <a:lnTo>
                      <a:pt x="4010" y="322"/>
                    </a:lnTo>
                    <a:lnTo>
                      <a:pt x="3932" y="338"/>
                    </a:lnTo>
                    <a:lnTo>
                      <a:pt x="3898" y="348"/>
                    </a:lnTo>
                    <a:lnTo>
                      <a:pt x="3862" y="354"/>
                    </a:lnTo>
                    <a:lnTo>
                      <a:pt x="3848" y="366"/>
                    </a:lnTo>
                    <a:lnTo>
                      <a:pt x="3866" y="372"/>
                    </a:lnTo>
                    <a:lnTo>
                      <a:pt x="3888" y="372"/>
                    </a:lnTo>
                    <a:lnTo>
                      <a:pt x="3934" y="358"/>
                    </a:lnTo>
                    <a:lnTo>
                      <a:pt x="4050" y="338"/>
                    </a:lnTo>
                    <a:lnTo>
                      <a:pt x="4054" y="332"/>
                    </a:lnTo>
                    <a:lnTo>
                      <a:pt x="4086" y="326"/>
                    </a:lnTo>
                    <a:lnTo>
                      <a:pt x="4126" y="328"/>
                    </a:lnTo>
                    <a:lnTo>
                      <a:pt x="4142" y="322"/>
                    </a:lnTo>
                    <a:lnTo>
                      <a:pt x="4132" y="316"/>
                    </a:lnTo>
                    <a:lnTo>
                      <a:pt x="4134" y="302"/>
                    </a:lnTo>
                    <a:lnTo>
                      <a:pt x="4132" y="292"/>
                    </a:lnTo>
                    <a:lnTo>
                      <a:pt x="4138" y="284"/>
                    </a:lnTo>
                    <a:lnTo>
                      <a:pt x="4158" y="280"/>
                    </a:lnTo>
                    <a:lnTo>
                      <a:pt x="4212" y="272"/>
                    </a:lnTo>
                    <a:lnTo>
                      <a:pt x="4286" y="272"/>
                    </a:lnTo>
                    <a:lnTo>
                      <a:pt x="4290" y="274"/>
                    </a:lnTo>
                    <a:lnTo>
                      <a:pt x="4308" y="294"/>
                    </a:lnTo>
                    <a:lnTo>
                      <a:pt x="4308" y="310"/>
                    </a:lnTo>
                    <a:lnTo>
                      <a:pt x="4300" y="330"/>
                    </a:lnTo>
                    <a:lnTo>
                      <a:pt x="4298" y="342"/>
                    </a:lnTo>
                    <a:lnTo>
                      <a:pt x="4292" y="354"/>
                    </a:lnTo>
                    <a:lnTo>
                      <a:pt x="4284" y="366"/>
                    </a:lnTo>
                    <a:lnTo>
                      <a:pt x="4274" y="374"/>
                    </a:lnTo>
                    <a:lnTo>
                      <a:pt x="4256" y="390"/>
                    </a:lnTo>
                    <a:lnTo>
                      <a:pt x="4240" y="396"/>
                    </a:lnTo>
                    <a:lnTo>
                      <a:pt x="4214" y="398"/>
                    </a:lnTo>
                    <a:lnTo>
                      <a:pt x="4188" y="406"/>
                    </a:lnTo>
                    <a:lnTo>
                      <a:pt x="4200" y="408"/>
                    </a:lnTo>
                    <a:lnTo>
                      <a:pt x="4208" y="404"/>
                    </a:lnTo>
                    <a:lnTo>
                      <a:pt x="4228" y="404"/>
                    </a:lnTo>
                    <a:lnTo>
                      <a:pt x="4186" y="438"/>
                    </a:lnTo>
                    <a:lnTo>
                      <a:pt x="4148" y="458"/>
                    </a:lnTo>
                    <a:lnTo>
                      <a:pt x="4126" y="486"/>
                    </a:lnTo>
                    <a:lnTo>
                      <a:pt x="4094" y="500"/>
                    </a:lnTo>
                    <a:lnTo>
                      <a:pt x="4100" y="504"/>
                    </a:lnTo>
                    <a:lnTo>
                      <a:pt x="4078" y="516"/>
                    </a:lnTo>
                    <a:lnTo>
                      <a:pt x="4060" y="530"/>
                    </a:lnTo>
                    <a:lnTo>
                      <a:pt x="4054" y="538"/>
                    </a:lnTo>
                    <a:lnTo>
                      <a:pt x="4058" y="538"/>
                    </a:lnTo>
                    <a:lnTo>
                      <a:pt x="4098" y="518"/>
                    </a:lnTo>
                    <a:lnTo>
                      <a:pt x="4116" y="512"/>
                    </a:lnTo>
                    <a:lnTo>
                      <a:pt x="4150" y="496"/>
                    </a:lnTo>
                    <a:lnTo>
                      <a:pt x="4150" y="490"/>
                    </a:lnTo>
                    <a:lnTo>
                      <a:pt x="4172" y="474"/>
                    </a:lnTo>
                    <a:lnTo>
                      <a:pt x="4162" y="472"/>
                    </a:lnTo>
                    <a:lnTo>
                      <a:pt x="4164" y="468"/>
                    </a:lnTo>
                    <a:lnTo>
                      <a:pt x="4218" y="454"/>
                    </a:lnTo>
                    <a:lnTo>
                      <a:pt x="4262" y="426"/>
                    </a:lnTo>
                    <a:lnTo>
                      <a:pt x="4316" y="406"/>
                    </a:lnTo>
                    <a:lnTo>
                      <a:pt x="4344" y="388"/>
                    </a:lnTo>
                    <a:lnTo>
                      <a:pt x="4350" y="380"/>
                    </a:lnTo>
                    <a:lnTo>
                      <a:pt x="4390" y="362"/>
                    </a:lnTo>
                    <a:lnTo>
                      <a:pt x="4416" y="352"/>
                    </a:lnTo>
                    <a:lnTo>
                      <a:pt x="4466" y="340"/>
                    </a:lnTo>
                    <a:lnTo>
                      <a:pt x="4450" y="348"/>
                    </a:lnTo>
                    <a:lnTo>
                      <a:pt x="4446" y="358"/>
                    </a:lnTo>
                    <a:lnTo>
                      <a:pt x="4452" y="364"/>
                    </a:lnTo>
                    <a:lnTo>
                      <a:pt x="4448" y="368"/>
                    </a:lnTo>
                    <a:lnTo>
                      <a:pt x="4450" y="378"/>
                    </a:lnTo>
                    <a:lnTo>
                      <a:pt x="4484" y="372"/>
                    </a:lnTo>
                    <a:lnTo>
                      <a:pt x="4486" y="366"/>
                    </a:lnTo>
                    <a:lnTo>
                      <a:pt x="4500" y="360"/>
                    </a:lnTo>
                    <a:lnTo>
                      <a:pt x="4550" y="362"/>
                    </a:lnTo>
                    <a:lnTo>
                      <a:pt x="4566" y="372"/>
                    </a:lnTo>
                    <a:lnTo>
                      <a:pt x="4568" y="364"/>
                    </a:lnTo>
                    <a:lnTo>
                      <a:pt x="4606" y="374"/>
                    </a:lnTo>
                    <a:lnTo>
                      <a:pt x="4622" y="374"/>
                    </a:lnTo>
                    <a:lnTo>
                      <a:pt x="4622" y="366"/>
                    </a:lnTo>
                    <a:lnTo>
                      <a:pt x="4618" y="360"/>
                    </a:lnTo>
                    <a:lnTo>
                      <a:pt x="4628" y="356"/>
                    </a:lnTo>
                    <a:lnTo>
                      <a:pt x="4642" y="362"/>
                    </a:lnTo>
                    <a:lnTo>
                      <a:pt x="4638" y="354"/>
                    </a:lnTo>
                    <a:lnTo>
                      <a:pt x="4658" y="354"/>
                    </a:lnTo>
                    <a:lnTo>
                      <a:pt x="4640" y="344"/>
                    </a:lnTo>
                    <a:lnTo>
                      <a:pt x="4648" y="340"/>
                    </a:lnTo>
                    <a:lnTo>
                      <a:pt x="4638" y="332"/>
                    </a:lnTo>
                    <a:lnTo>
                      <a:pt x="4666" y="332"/>
                    </a:lnTo>
                    <a:lnTo>
                      <a:pt x="4680" y="338"/>
                    </a:lnTo>
                    <a:lnTo>
                      <a:pt x="4670" y="332"/>
                    </a:lnTo>
                    <a:lnTo>
                      <a:pt x="4676" y="322"/>
                    </a:lnTo>
                    <a:lnTo>
                      <a:pt x="4682" y="312"/>
                    </a:lnTo>
                    <a:lnTo>
                      <a:pt x="4692" y="314"/>
                    </a:lnTo>
                    <a:lnTo>
                      <a:pt x="4700" y="308"/>
                    </a:lnTo>
                    <a:lnTo>
                      <a:pt x="4710" y="312"/>
                    </a:lnTo>
                    <a:lnTo>
                      <a:pt x="4730" y="304"/>
                    </a:lnTo>
                    <a:lnTo>
                      <a:pt x="4774" y="306"/>
                    </a:lnTo>
                    <a:lnTo>
                      <a:pt x="4792" y="302"/>
                    </a:lnTo>
                    <a:lnTo>
                      <a:pt x="4834" y="306"/>
                    </a:lnTo>
                    <a:lnTo>
                      <a:pt x="4868" y="300"/>
                    </a:lnTo>
                    <a:lnTo>
                      <a:pt x="4900" y="304"/>
                    </a:lnTo>
                    <a:lnTo>
                      <a:pt x="4946" y="316"/>
                    </a:lnTo>
                    <a:lnTo>
                      <a:pt x="4996" y="320"/>
                    </a:lnTo>
                    <a:lnTo>
                      <a:pt x="5034" y="330"/>
                    </a:lnTo>
                    <a:lnTo>
                      <a:pt x="5050" y="340"/>
                    </a:lnTo>
                    <a:lnTo>
                      <a:pt x="5078" y="350"/>
                    </a:lnTo>
                    <a:lnTo>
                      <a:pt x="5082" y="358"/>
                    </a:lnTo>
                    <a:lnTo>
                      <a:pt x="5058" y="370"/>
                    </a:lnTo>
                    <a:lnTo>
                      <a:pt x="5010" y="388"/>
                    </a:lnTo>
                    <a:lnTo>
                      <a:pt x="5000" y="398"/>
                    </a:lnTo>
                    <a:lnTo>
                      <a:pt x="4992" y="404"/>
                    </a:lnTo>
                    <a:lnTo>
                      <a:pt x="4966" y="406"/>
                    </a:lnTo>
                    <a:lnTo>
                      <a:pt x="4960" y="416"/>
                    </a:lnTo>
                    <a:lnTo>
                      <a:pt x="4936" y="426"/>
                    </a:lnTo>
                    <a:lnTo>
                      <a:pt x="4936" y="430"/>
                    </a:lnTo>
                    <a:lnTo>
                      <a:pt x="4926" y="434"/>
                    </a:lnTo>
                    <a:lnTo>
                      <a:pt x="4862" y="432"/>
                    </a:lnTo>
                    <a:lnTo>
                      <a:pt x="4850" y="438"/>
                    </a:lnTo>
                    <a:lnTo>
                      <a:pt x="4850" y="444"/>
                    </a:lnTo>
                    <a:lnTo>
                      <a:pt x="4852" y="450"/>
                    </a:lnTo>
                    <a:lnTo>
                      <a:pt x="4868" y="456"/>
                    </a:lnTo>
                    <a:lnTo>
                      <a:pt x="4874" y="468"/>
                    </a:lnTo>
                    <a:lnTo>
                      <a:pt x="4860" y="478"/>
                    </a:lnTo>
                    <a:lnTo>
                      <a:pt x="4798" y="480"/>
                    </a:lnTo>
                    <a:lnTo>
                      <a:pt x="4776" y="484"/>
                    </a:lnTo>
                    <a:lnTo>
                      <a:pt x="4772" y="486"/>
                    </a:lnTo>
                    <a:lnTo>
                      <a:pt x="4772" y="490"/>
                    </a:lnTo>
                    <a:lnTo>
                      <a:pt x="4768" y="496"/>
                    </a:lnTo>
                    <a:lnTo>
                      <a:pt x="4744" y="502"/>
                    </a:lnTo>
                    <a:lnTo>
                      <a:pt x="4636" y="494"/>
                    </a:lnTo>
                    <a:lnTo>
                      <a:pt x="4620" y="486"/>
                    </a:lnTo>
                    <a:lnTo>
                      <a:pt x="4606" y="492"/>
                    </a:lnTo>
                    <a:lnTo>
                      <a:pt x="4602" y="500"/>
                    </a:lnTo>
                    <a:lnTo>
                      <a:pt x="4572" y="506"/>
                    </a:lnTo>
                    <a:lnTo>
                      <a:pt x="4564" y="512"/>
                    </a:lnTo>
                    <a:lnTo>
                      <a:pt x="4544" y="514"/>
                    </a:lnTo>
                    <a:lnTo>
                      <a:pt x="4450" y="502"/>
                    </a:lnTo>
                    <a:lnTo>
                      <a:pt x="4408" y="510"/>
                    </a:lnTo>
                    <a:lnTo>
                      <a:pt x="4396" y="518"/>
                    </a:lnTo>
                    <a:lnTo>
                      <a:pt x="4334" y="522"/>
                    </a:lnTo>
                    <a:lnTo>
                      <a:pt x="4352" y="526"/>
                    </a:lnTo>
                    <a:lnTo>
                      <a:pt x="4372" y="526"/>
                    </a:lnTo>
                    <a:lnTo>
                      <a:pt x="4378" y="534"/>
                    </a:lnTo>
                    <a:lnTo>
                      <a:pt x="4418" y="522"/>
                    </a:lnTo>
                    <a:lnTo>
                      <a:pt x="4430" y="514"/>
                    </a:lnTo>
                    <a:lnTo>
                      <a:pt x="4452" y="510"/>
                    </a:lnTo>
                    <a:lnTo>
                      <a:pt x="4508" y="522"/>
                    </a:lnTo>
                    <a:lnTo>
                      <a:pt x="4556" y="526"/>
                    </a:lnTo>
                    <a:lnTo>
                      <a:pt x="4620" y="522"/>
                    </a:lnTo>
                    <a:lnTo>
                      <a:pt x="4632" y="516"/>
                    </a:lnTo>
                    <a:lnTo>
                      <a:pt x="4668" y="518"/>
                    </a:lnTo>
                    <a:lnTo>
                      <a:pt x="4692" y="524"/>
                    </a:lnTo>
                    <a:lnTo>
                      <a:pt x="4744" y="530"/>
                    </a:lnTo>
                    <a:lnTo>
                      <a:pt x="4744" y="536"/>
                    </a:lnTo>
                    <a:lnTo>
                      <a:pt x="4732" y="546"/>
                    </a:lnTo>
                    <a:lnTo>
                      <a:pt x="4716" y="554"/>
                    </a:lnTo>
                    <a:lnTo>
                      <a:pt x="4694" y="554"/>
                    </a:lnTo>
                    <a:lnTo>
                      <a:pt x="4702" y="564"/>
                    </a:lnTo>
                    <a:lnTo>
                      <a:pt x="4692" y="572"/>
                    </a:lnTo>
                    <a:lnTo>
                      <a:pt x="4672" y="580"/>
                    </a:lnTo>
                    <a:lnTo>
                      <a:pt x="4566" y="582"/>
                    </a:lnTo>
                    <a:lnTo>
                      <a:pt x="4514" y="578"/>
                    </a:lnTo>
                    <a:lnTo>
                      <a:pt x="4476" y="572"/>
                    </a:lnTo>
                    <a:lnTo>
                      <a:pt x="4448" y="570"/>
                    </a:lnTo>
                    <a:lnTo>
                      <a:pt x="4418" y="592"/>
                    </a:lnTo>
                    <a:lnTo>
                      <a:pt x="4390" y="600"/>
                    </a:lnTo>
                    <a:lnTo>
                      <a:pt x="4400" y="602"/>
                    </a:lnTo>
                    <a:lnTo>
                      <a:pt x="4388" y="612"/>
                    </a:lnTo>
                    <a:lnTo>
                      <a:pt x="4394" y="618"/>
                    </a:lnTo>
                    <a:lnTo>
                      <a:pt x="4392" y="626"/>
                    </a:lnTo>
                    <a:lnTo>
                      <a:pt x="4376" y="640"/>
                    </a:lnTo>
                    <a:lnTo>
                      <a:pt x="4390" y="642"/>
                    </a:lnTo>
                    <a:lnTo>
                      <a:pt x="4400" y="658"/>
                    </a:lnTo>
                    <a:lnTo>
                      <a:pt x="4430" y="650"/>
                    </a:lnTo>
                    <a:lnTo>
                      <a:pt x="4412" y="648"/>
                    </a:lnTo>
                    <a:lnTo>
                      <a:pt x="4414" y="640"/>
                    </a:lnTo>
                    <a:lnTo>
                      <a:pt x="4426" y="628"/>
                    </a:lnTo>
                    <a:lnTo>
                      <a:pt x="4458" y="616"/>
                    </a:lnTo>
                    <a:lnTo>
                      <a:pt x="4476" y="610"/>
                    </a:lnTo>
                    <a:lnTo>
                      <a:pt x="4504" y="606"/>
                    </a:lnTo>
                    <a:lnTo>
                      <a:pt x="4536" y="606"/>
                    </a:lnTo>
                    <a:lnTo>
                      <a:pt x="4556" y="600"/>
                    </a:lnTo>
                    <a:lnTo>
                      <a:pt x="4592" y="596"/>
                    </a:lnTo>
                    <a:lnTo>
                      <a:pt x="4616" y="598"/>
                    </a:lnTo>
                    <a:lnTo>
                      <a:pt x="4634" y="606"/>
                    </a:lnTo>
                    <a:lnTo>
                      <a:pt x="4628" y="616"/>
                    </a:lnTo>
                    <a:lnTo>
                      <a:pt x="4622" y="620"/>
                    </a:lnTo>
                    <a:lnTo>
                      <a:pt x="4616" y="628"/>
                    </a:lnTo>
                    <a:lnTo>
                      <a:pt x="4600" y="638"/>
                    </a:lnTo>
                    <a:lnTo>
                      <a:pt x="4594" y="646"/>
                    </a:lnTo>
                    <a:lnTo>
                      <a:pt x="4572" y="658"/>
                    </a:lnTo>
                    <a:lnTo>
                      <a:pt x="4534" y="664"/>
                    </a:lnTo>
                    <a:lnTo>
                      <a:pt x="4484" y="656"/>
                    </a:lnTo>
                    <a:lnTo>
                      <a:pt x="4470" y="660"/>
                    </a:lnTo>
                    <a:lnTo>
                      <a:pt x="4454" y="672"/>
                    </a:lnTo>
                    <a:lnTo>
                      <a:pt x="4440" y="700"/>
                    </a:lnTo>
                    <a:lnTo>
                      <a:pt x="4430" y="710"/>
                    </a:lnTo>
                    <a:lnTo>
                      <a:pt x="4438" y="714"/>
                    </a:lnTo>
                    <a:lnTo>
                      <a:pt x="4430" y="732"/>
                    </a:lnTo>
                    <a:lnTo>
                      <a:pt x="4412" y="746"/>
                    </a:lnTo>
                    <a:lnTo>
                      <a:pt x="4410" y="760"/>
                    </a:lnTo>
                    <a:lnTo>
                      <a:pt x="4430" y="744"/>
                    </a:lnTo>
                    <a:lnTo>
                      <a:pt x="4438" y="732"/>
                    </a:lnTo>
                    <a:lnTo>
                      <a:pt x="4476" y="734"/>
                    </a:lnTo>
                    <a:lnTo>
                      <a:pt x="4466" y="748"/>
                    </a:lnTo>
                    <a:lnTo>
                      <a:pt x="4458" y="752"/>
                    </a:lnTo>
                    <a:lnTo>
                      <a:pt x="4462" y="742"/>
                    </a:lnTo>
                    <a:lnTo>
                      <a:pt x="4446" y="744"/>
                    </a:lnTo>
                    <a:lnTo>
                      <a:pt x="4432" y="752"/>
                    </a:lnTo>
                    <a:lnTo>
                      <a:pt x="4432" y="766"/>
                    </a:lnTo>
                    <a:lnTo>
                      <a:pt x="4424" y="766"/>
                    </a:lnTo>
                    <a:lnTo>
                      <a:pt x="4424" y="762"/>
                    </a:lnTo>
                    <a:lnTo>
                      <a:pt x="4406" y="768"/>
                    </a:lnTo>
                    <a:lnTo>
                      <a:pt x="4402" y="764"/>
                    </a:lnTo>
                    <a:lnTo>
                      <a:pt x="4398" y="780"/>
                    </a:lnTo>
                    <a:lnTo>
                      <a:pt x="4400" y="792"/>
                    </a:lnTo>
                    <a:lnTo>
                      <a:pt x="4400" y="802"/>
                    </a:lnTo>
                    <a:lnTo>
                      <a:pt x="4370" y="812"/>
                    </a:lnTo>
                    <a:lnTo>
                      <a:pt x="4344" y="808"/>
                    </a:lnTo>
                    <a:lnTo>
                      <a:pt x="4312" y="818"/>
                    </a:lnTo>
                    <a:lnTo>
                      <a:pt x="4300" y="816"/>
                    </a:lnTo>
                    <a:lnTo>
                      <a:pt x="4292" y="820"/>
                    </a:lnTo>
                    <a:lnTo>
                      <a:pt x="4296" y="826"/>
                    </a:lnTo>
                    <a:lnTo>
                      <a:pt x="4294" y="834"/>
                    </a:lnTo>
                    <a:lnTo>
                      <a:pt x="4292" y="842"/>
                    </a:lnTo>
                    <a:lnTo>
                      <a:pt x="4272" y="842"/>
                    </a:lnTo>
                    <a:lnTo>
                      <a:pt x="4276" y="848"/>
                    </a:lnTo>
                    <a:lnTo>
                      <a:pt x="4302" y="846"/>
                    </a:lnTo>
                    <a:lnTo>
                      <a:pt x="4292" y="856"/>
                    </a:lnTo>
                    <a:lnTo>
                      <a:pt x="4266" y="884"/>
                    </a:lnTo>
                    <a:lnTo>
                      <a:pt x="4256" y="904"/>
                    </a:lnTo>
                    <a:lnTo>
                      <a:pt x="4246" y="924"/>
                    </a:lnTo>
                    <a:lnTo>
                      <a:pt x="4250" y="932"/>
                    </a:lnTo>
                    <a:lnTo>
                      <a:pt x="4246" y="940"/>
                    </a:lnTo>
                    <a:lnTo>
                      <a:pt x="4224" y="950"/>
                    </a:lnTo>
                    <a:lnTo>
                      <a:pt x="4216" y="960"/>
                    </a:lnTo>
                    <a:lnTo>
                      <a:pt x="4210" y="976"/>
                    </a:lnTo>
                    <a:lnTo>
                      <a:pt x="4190" y="992"/>
                    </a:lnTo>
                    <a:lnTo>
                      <a:pt x="4202" y="1006"/>
                    </a:lnTo>
                    <a:lnTo>
                      <a:pt x="4222" y="1004"/>
                    </a:lnTo>
                    <a:lnTo>
                      <a:pt x="4272" y="960"/>
                    </a:lnTo>
                    <a:lnTo>
                      <a:pt x="4290" y="954"/>
                    </a:lnTo>
                    <a:lnTo>
                      <a:pt x="4304" y="960"/>
                    </a:lnTo>
                    <a:lnTo>
                      <a:pt x="4304" y="968"/>
                    </a:lnTo>
                    <a:lnTo>
                      <a:pt x="4326" y="976"/>
                    </a:lnTo>
                    <a:lnTo>
                      <a:pt x="4412" y="996"/>
                    </a:lnTo>
                    <a:lnTo>
                      <a:pt x="4426" y="1004"/>
                    </a:lnTo>
                    <a:lnTo>
                      <a:pt x="4426" y="1018"/>
                    </a:lnTo>
                    <a:lnTo>
                      <a:pt x="4402" y="1024"/>
                    </a:lnTo>
                    <a:lnTo>
                      <a:pt x="4360" y="1002"/>
                    </a:lnTo>
                    <a:lnTo>
                      <a:pt x="4320" y="1002"/>
                    </a:lnTo>
                    <a:lnTo>
                      <a:pt x="4298" y="996"/>
                    </a:lnTo>
                    <a:lnTo>
                      <a:pt x="4280" y="1008"/>
                    </a:lnTo>
                    <a:lnTo>
                      <a:pt x="4284" y="1014"/>
                    </a:lnTo>
                    <a:lnTo>
                      <a:pt x="4324" y="1028"/>
                    </a:lnTo>
                    <a:lnTo>
                      <a:pt x="4298" y="1026"/>
                    </a:lnTo>
                    <a:lnTo>
                      <a:pt x="4296" y="1034"/>
                    </a:lnTo>
                    <a:lnTo>
                      <a:pt x="4280" y="1036"/>
                    </a:lnTo>
                    <a:lnTo>
                      <a:pt x="4316" y="1044"/>
                    </a:lnTo>
                    <a:lnTo>
                      <a:pt x="4318" y="1050"/>
                    </a:lnTo>
                    <a:lnTo>
                      <a:pt x="4286" y="1052"/>
                    </a:lnTo>
                    <a:lnTo>
                      <a:pt x="4356" y="1056"/>
                    </a:lnTo>
                    <a:lnTo>
                      <a:pt x="4386" y="1066"/>
                    </a:lnTo>
                    <a:lnTo>
                      <a:pt x="4384" y="1078"/>
                    </a:lnTo>
                    <a:lnTo>
                      <a:pt x="4404" y="1080"/>
                    </a:lnTo>
                    <a:lnTo>
                      <a:pt x="4414" y="1080"/>
                    </a:lnTo>
                    <a:lnTo>
                      <a:pt x="4414" y="1066"/>
                    </a:lnTo>
                    <a:lnTo>
                      <a:pt x="4430" y="1058"/>
                    </a:lnTo>
                    <a:lnTo>
                      <a:pt x="4464" y="1070"/>
                    </a:lnTo>
                    <a:lnTo>
                      <a:pt x="4474" y="1068"/>
                    </a:lnTo>
                    <a:lnTo>
                      <a:pt x="4478" y="1070"/>
                    </a:lnTo>
                    <a:lnTo>
                      <a:pt x="4480" y="1102"/>
                    </a:lnTo>
                    <a:lnTo>
                      <a:pt x="4476" y="1122"/>
                    </a:lnTo>
                    <a:lnTo>
                      <a:pt x="4474" y="1130"/>
                    </a:lnTo>
                    <a:lnTo>
                      <a:pt x="4468" y="1138"/>
                    </a:lnTo>
                    <a:lnTo>
                      <a:pt x="4466" y="1144"/>
                    </a:lnTo>
                    <a:lnTo>
                      <a:pt x="4446" y="1156"/>
                    </a:lnTo>
                    <a:lnTo>
                      <a:pt x="4382" y="1146"/>
                    </a:lnTo>
                    <a:lnTo>
                      <a:pt x="4340" y="1134"/>
                    </a:lnTo>
                    <a:lnTo>
                      <a:pt x="4278" y="1126"/>
                    </a:lnTo>
                    <a:lnTo>
                      <a:pt x="4174" y="1124"/>
                    </a:lnTo>
                    <a:lnTo>
                      <a:pt x="4254" y="1134"/>
                    </a:lnTo>
                    <a:lnTo>
                      <a:pt x="4260" y="1136"/>
                    </a:lnTo>
                    <a:lnTo>
                      <a:pt x="4242" y="1142"/>
                    </a:lnTo>
                    <a:lnTo>
                      <a:pt x="4186" y="1138"/>
                    </a:lnTo>
                    <a:lnTo>
                      <a:pt x="4174" y="1142"/>
                    </a:lnTo>
                    <a:lnTo>
                      <a:pt x="4244" y="1152"/>
                    </a:lnTo>
                    <a:lnTo>
                      <a:pt x="4206" y="1156"/>
                    </a:lnTo>
                    <a:lnTo>
                      <a:pt x="4190" y="1166"/>
                    </a:lnTo>
                    <a:lnTo>
                      <a:pt x="4160" y="1176"/>
                    </a:lnTo>
                    <a:lnTo>
                      <a:pt x="4150" y="1162"/>
                    </a:lnTo>
                    <a:lnTo>
                      <a:pt x="4132" y="1150"/>
                    </a:lnTo>
                    <a:lnTo>
                      <a:pt x="4106" y="1152"/>
                    </a:lnTo>
                    <a:lnTo>
                      <a:pt x="4102" y="1160"/>
                    </a:lnTo>
                    <a:lnTo>
                      <a:pt x="4080" y="1168"/>
                    </a:lnTo>
                    <a:lnTo>
                      <a:pt x="4090" y="1186"/>
                    </a:lnTo>
                    <a:lnTo>
                      <a:pt x="4088" y="1196"/>
                    </a:lnTo>
                    <a:lnTo>
                      <a:pt x="4106" y="1186"/>
                    </a:lnTo>
                    <a:lnTo>
                      <a:pt x="4116" y="1188"/>
                    </a:lnTo>
                    <a:lnTo>
                      <a:pt x="4122" y="1196"/>
                    </a:lnTo>
                    <a:lnTo>
                      <a:pt x="4146" y="1200"/>
                    </a:lnTo>
                    <a:lnTo>
                      <a:pt x="4132" y="1206"/>
                    </a:lnTo>
                    <a:lnTo>
                      <a:pt x="4146" y="1212"/>
                    </a:lnTo>
                    <a:lnTo>
                      <a:pt x="4092" y="1206"/>
                    </a:lnTo>
                    <a:lnTo>
                      <a:pt x="4078" y="1210"/>
                    </a:lnTo>
                    <a:lnTo>
                      <a:pt x="4102" y="1218"/>
                    </a:lnTo>
                    <a:lnTo>
                      <a:pt x="4156" y="1216"/>
                    </a:lnTo>
                    <a:lnTo>
                      <a:pt x="4158" y="1224"/>
                    </a:lnTo>
                    <a:lnTo>
                      <a:pt x="4154" y="1228"/>
                    </a:lnTo>
                    <a:lnTo>
                      <a:pt x="4152" y="1238"/>
                    </a:lnTo>
                    <a:lnTo>
                      <a:pt x="4148" y="1246"/>
                    </a:lnTo>
                    <a:lnTo>
                      <a:pt x="4168" y="1248"/>
                    </a:lnTo>
                    <a:lnTo>
                      <a:pt x="4172" y="1254"/>
                    </a:lnTo>
                    <a:lnTo>
                      <a:pt x="4196" y="1258"/>
                    </a:lnTo>
                    <a:lnTo>
                      <a:pt x="4188" y="1242"/>
                    </a:lnTo>
                    <a:lnTo>
                      <a:pt x="4202" y="1248"/>
                    </a:lnTo>
                    <a:lnTo>
                      <a:pt x="4218" y="1260"/>
                    </a:lnTo>
                    <a:lnTo>
                      <a:pt x="4238" y="1262"/>
                    </a:lnTo>
                    <a:lnTo>
                      <a:pt x="4206" y="1238"/>
                    </a:lnTo>
                    <a:lnTo>
                      <a:pt x="4244" y="1252"/>
                    </a:lnTo>
                    <a:lnTo>
                      <a:pt x="4278" y="1248"/>
                    </a:lnTo>
                    <a:lnTo>
                      <a:pt x="4300" y="1252"/>
                    </a:lnTo>
                    <a:lnTo>
                      <a:pt x="4308" y="1272"/>
                    </a:lnTo>
                    <a:lnTo>
                      <a:pt x="4306" y="1280"/>
                    </a:lnTo>
                    <a:lnTo>
                      <a:pt x="4284" y="1280"/>
                    </a:lnTo>
                    <a:lnTo>
                      <a:pt x="4262" y="1286"/>
                    </a:lnTo>
                    <a:lnTo>
                      <a:pt x="4234" y="1288"/>
                    </a:lnTo>
                    <a:lnTo>
                      <a:pt x="4196" y="1288"/>
                    </a:lnTo>
                    <a:lnTo>
                      <a:pt x="4194" y="1294"/>
                    </a:lnTo>
                    <a:lnTo>
                      <a:pt x="4224" y="1296"/>
                    </a:lnTo>
                    <a:lnTo>
                      <a:pt x="4240" y="1304"/>
                    </a:lnTo>
                    <a:lnTo>
                      <a:pt x="4256" y="1306"/>
                    </a:lnTo>
                    <a:lnTo>
                      <a:pt x="4278" y="1304"/>
                    </a:lnTo>
                    <a:lnTo>
                      <a:pt x="4296" y="1314"/>
                    </a:lnTo>
                    <a:lnTo>
                      <a:pt x="4316" y="1334"/>
                    </a:lnTo>
                    <a:lnTo>
                      <a:pt x="4312" y="1356"/>
                    </a:lnTo>
                    <a:lnTo>
                      <a:pt x="4314" y="1382"/>
                    </a:lnTo>
                    <a:lnTo>
                      <a:pt x="4310" y="1406"/>
                    </a:lnTo>
                    <a:lnTo>
                      <a:pt x="4294" y="1430"/>
                    </a:lnTo>
                    <a:lnTo>
                      <a:pt x="4278" y="1434"/>
                    </a:lnTo>
                    <a:lnTo>
                      <a:pt x="4258" y="1428"/>
                    </a:lnTo>
                    <a:lnTo>
                      <a:pt x="4256" y="1410"/>
                    </a:lnTo>
                    <a:lnTo>
                      <a:pt x="4246" y="1398"/>
                    </a:lnTo>
                    <a:lnTo>
                      <a:pt x="4106" y="1358"/>
                    </a:lnTo>
                    <a:lnTo>
                      <a:pt x="4134" y="1374"/>
                    </a:lnTo>
                    <a:lnTo>
                      <a:pt x="4080" y="1372"/>
                    </a:lnTo>
                    <a:lnTo>
                      <a:pt x="4098" y="1380"/>
                    </a:lnTo>
                    <a:lnTo>
                      <a:pt x="4136" y="1382"/>
                    </a:lnTo>
                    <a:lnTo>
                      <a:pt x="4154" y="1398"/>
                    </a:lnTo>
                    <a:lnTo>
                      <a:pt x="4200" y="1420"/>
                    </a:lnTo>
                    <a:lnTo>
                      <a:pt x="4202" y="1432"/>
                    </a:lnTo>
                    <a:lnTo>
                      <a:pt x="4180" y="1430"/>
                    </a:lnTo>
                    <a:lnTo>
                      <a:pt x="4136" y="1438"/>
                    </a:lnTo>
                    <a:lnTo>
                      <a:pt x="4110" y="1454"/>
                    </a:lnTo>
                    <a:lnTo>
                      <a:pt x="4132" y="1452"/>
                    </a:lnTo>
                    <a:lnTo>
                      <a:pt x="4158" y="1444"/>
                    </a:lnTo>
                    <a:lnTo>
                      <a:pt x="4176" y="1444"/>
                    </a:lnTo>
                    <a:lnTo>
                      <a:pt x="4188" y="1452"/>
                    </a:lnTo>
                    <a:lnTo>
                      <a:pt x="4184" y="1462"/>
                    </a:lnTo>
                    <a:lnTo>
                      <a:pt x="4176" y="1478"/>
                    </a:lnTo>
                    <a:lnTo>
                      <a:pt x="4176" y="1492"/>
                    </a:lnTo>
                    <a:lnTo>
                      <a:pt x="4168" y="1504"/>
                    </a:lnTo>
                    <a:lnTo>
                      <a:pt x="4148" y="1508"/>
                    </a:lnTo>
                    <a:lnTo>
                      <a:pt x="4150" y="1510"/>
                    </a:lnTo>
                    <a:lnTo>
                      <a:pt x="4180" y="1510"/>
                    </a:lnTo>
                    <a:lnTo>
                      <a:pt x="4224" y="1514"/>
                    </a:lnTo>
                    <a:lnTo>
                      <a:pt x="4246" y="1522"/>
                    </a:lnTo>
                    <a:lnTo>
                      <a:pt x="4286" y="1512"/>
                    </a:lnTo>
                    <a:lnTo>
                      <a:pt x="4294" y="1530"/>
                    </a:lnTo>
                    <a:lnTo>
                      <a:pt x="4310" y="1540"/>
                    </a:lnTo>
                    <a:lnTo>
                      <a:pt x="4312" y="1552"/>
                    </a:lnTo>
                    <a:lnTo>
                      <a:pt x="4264" y="1584"/>
                    </a:lnTo>
                    <a:lnTo>
                      <a:pt x="4222" y="1578"/>
                    </a:lnTo>
                    <a:lnTo>
                      <a:pt x="4210" y="1566"/>
                    </a:lnTo>
                    <a:lnTo>
                      <a:pt x="4202" y="1550"/>
                    </a:lnTo>
                    <a:lnTo>
                      <a:pt x="4182" y="1544"/>
                    </a:lnTo>
                    <a:lnTo>
                      <a:pt x="4156" y="1544"/>
                    </a:lnTo>
                    <a:lnTo>
                      <a:pt x="4124" y="1540"/>
                    </a:lnTo>
                    <a:lnTo>
                      <a:pt x="4082" y="1542"/>
                    </a:lnTo>
                    <a:lnTo>
                      <a:pt x="4068" y="1532"/>
                    </a:lnTo>
                    <a:lnTo>
                      <a:pt x="4050" y="1528"/>
                    </a:lnTo>
                    <a:lnTo>
                      <a:pt x="4056" y="1548"/>
                    </a:lnTo>
                    <a:lnTo>
                      <a:pt x="4056" y="1560"/>
                    </a:lnTo>
                    <a:lnTo>
                      <a:pt x="4002" y="1570"/>
                    </a:lnTo>
                    <a:lnTo>
                      <a:pt x="4034" y="1572"/>
                    </a:lnTo>
                    <a:lnTo>
                      <a:pt x="4034" y="1582"/>
                    </a:lnTo>
                    <a:lnTo>
                      <a:pt x="4014" y="1592"/>
                    </a:lnTo>
                    <a:lnTo>
                      <a:pt x="4014" y="1604"/>
                    </a:lnTo>
                    <a:lnTo>
                      <a:pt x="4004" y="1606"/>
                    </a:lnTo>
                    <a:lnTo>
                      <a:pt x="4002" y="1612"/>
                    </a:lnTo>
                    <a:lnTo>
                      <a:pt x="4030" y="1618"/>
                    </a:lnTo>
                    <a:lnTo>
                      <a:pt x="4070" y="1614"/>
                    </a:lnTo>
                    <a:lnTo>
                      <a:pt x="4086" y="1624"/>
                    </a:lnTo>
                    <a:lnTo>
                      <a:pt x="4110" y="1630"/>
                    </a:lnTo>
                    <a:lnTo>
                      <a:pt x="4162" y="1640"/>
                    </a:lnTo>
                    <a:lnTo>
                      <a:pt x="4180" y="1648"/>
                    </a:lnTo>
                    <a:lnTo>
                      <a:pt x="4178" y="1654"/>
                    </a:lnTo>
                    <a:lnTo>
                      <a:pt x="4162" y="1668"/>
                    </a:lnTo>
                    <a:lnTo>
                      <a:pt x="4154" y="1694"/>
                    </a:lnTo>
                    <a:lnTo>
                      <a:pt x="4156" y="1704"/>
                    </a:lnTo>
                    <a:lnTo>
                      <a:pt x="4140" y="1712"/>
                    </a:lnTo>
                    <a:lnTo>
                      <a:pt x="4102" y="1712"/>
                    </a:lnTo>
                    <a:lnTo>
                      <a:pt x="4072" y="1704"/>
                    </a:lnTo>
                    <a:lnTo>
                      <a:pt x="4038" y="1722"/>
                    </a:lnTo>
                    <a:lnTo>
                      <a:pt x="4008" y="1728"/>
                    </a:lnTo>
                    <a:lnTo>
                      <a:pt x="3996" y="1742"/>
                    </a:lnTo>
                    <a:lnTo>
                      <a:pt x="3972" y="1742"/>
                    </a:lnTo>
                    <a:lnTo>
                      <a:pt x="3920" y="1728"/>
                    </a:lnTo>
                    <a:lnTo>
                      <a:pt x="3866" y="1698"/>
                    </a:lnTo>
                    <a:lnTo>
                      <a:pt x="3842" y="1678"/>
                    </a:lnTo>
                    <a:lnTo>
                      <a:pt x="3844" y="1654"/>
                    </a:lnTo>
                    <a:lnTo>
                      <a:pt x="3828" y="1652"/>
                    </a:lnTo>
                    <a:lnTo>
                      <a:pt x="3812" y="1656"/>
                    </a:lnTo>
                    <a:lnTo>
                      <a:pt x="3798" y="1688"/>
                    </a:lnTo>
                    <a:lnTo>
                      <a:pt x="3782" y="1686"/>
                    </a:lnTo>
                    <a:lnTo>
                      <a:pt x="3754" y="1674"/>
                    </a:lnTo>
                    <a:lnTo>
                      <a:pt x="3756" y="1692"/>
                    </a:lnTo>
                    <a:lnTo>
                      <a:pt x="3760" y="1700"/>
                    </a:lnTo>
                    <a:lnTo>
                      <a:pt x="3710" y="1712"/>
                    </a:lnTo>
                    <a:lnTo>
                      <a:pt x="3696" y="1724"/>
                    </a:lnTo>
                    <a:lnTo>
                      <a:pt x="3656" y="1740"/>
                    </a:lnTo>
                    <a:lnTo>
                      <a:pt x="3624" y="1738"/>
                    </a:lnTo>
                    <a:lnTo>
                      <a:pt x="3602" y="1724"/>
                    </a:lnTo>
                    <a:lnTo>
                      <a:pt x="3564" y="1728"/>
                    </a:lnTo>
                    <a:lnTo>
                      <a:pt x="3602" y="1738"/>
                    </a:lnTo>
                    <a:lnTo>
                      <a:pt x="3584" y="1748"/>
                    </a:lnTo>
                    <a:lnTo>
                      <a:pt x="3552" y="1754"/>
                    </a:lnTo>
                    <a:lnTo>
                      <a:pt x="3564" y="1762"/>
                    </a:lnTo>
                    <a:lnTo>
                      <a:pt x="3590" y="1752"/>
                    </a:lnTo>
                    <a:lnTo>
                      <a:pt x="3632" y="1748"/>
                    </a:lnTo>
                    <a:lnTo>
                      <a:pt x="3658" y="1756"/>
                    </a:lnTo>
                    <a:lnTo>
                      <a:pt x="3674" y="1768"/>
                    </a:lnTo>
                    <a:lnTo>
                      <a:pt x="3710" y="1770"/>
                    </a:lnTo>
                    <a:lnTo>
                      <a:pt x="3726" y="1776"/>
                    </a:lnTo>
                    <a:lnTo>
                      <a:pt x="3700" y="1796"/>
                    </a:lnTo>
                    <a:lnTo>
                      <a:pt x="3670" y="1800"/>
                    </a:lnTo>
                    <a:lnTo>
                      <a:pt x="3644" y="1810"/>
                    </a:lnTo>
                    <a:lnTo>
                      <a:pt x="3610" y="1814"/>
                    </a:lnTo>
                    <a:lnTo>
                      <a:pt x="3562" y="1810"/>
                    </a:lnTo>
                    <a:lnTo>
                      <a:pt x="3574" y="1820"/>
                    </a:lnTo>
                    <a:lnTo>
                      <a:pt x="3562" y="1822"/>
                    </a:lnTo>
                    <a:lnTo>
                      <a:pt x="3548" y="1828"/>
                    </a:lnTo>
                    <a:lnTo>
                      <a:pt x="3584" y="1826"/>
                    </a:lnTo>
                    <a:lnTo>
                      <a:pt x="3580" y="1844"/>
                    </a:lnTo>
                    <a:lnTo>
                      <a:pt x="3584" y="1842"/>
                    </a:lnTo>
                    <a:lnTo>
                      <a:pt x="3612" y="1828"/>
                    </a:lnTo>
                    <a:lnTo>
                      <a:pt x="3648" y="1816"/>
                    </a:lnTo>
                    <a:lnTo>
                      <a:pt x="3676" y="1814"/>
                    </a:lnTo>
                    <a:lnTo>
                      <a:pt x="3730" y="1834"/>
                    </a:lnTo>
                    <a:lnTo>
                      <a:pt x="3730" y="1854"/>
                    </a:lnTo>
                    <a:lnTo>
                      <a:pt x="3726" y="1868"/>
                    </a:lnTo>
                    <a:lnTo>
                      <a:pt x="3698" y="1874"/>
                    </a:lnTo>
                    <a:lnTo>
                      <a:pt x="3652" y="1876"/>
                    </a:lnTo>
                    <a:lnTo>
                      <a:pt x="3650" y="1882"/>
                    </a:lnTo>
                    <a:lnTo>
                      <a:pt x="3668" y="1888"/>
                    </a:lnTo>
                    <a:lnTo>
                      <a:pt x="3658" y="1904"/>
                    </a:lnTo>
                    <a:lnTo>
                      <a:pt x="3646" y="1918"/>
                    </a:lnTo>
                    <a:lnTo>
                      <a:pt x="3642" y="1932"/>
                    </a:lnTo>
                    <a:lnTo>
                      <a:pt x="3660" y="1918"/>
                    </a:lnTo>
                    <a:lnTo>
                      <a:pt x="3672" y="1898"/>
                    </a:lnTo>
                    <a:lnTo>
                      <a:pt x="3688" y="1886"/>
                    </a:lnTo>
                    <a:lnTo>
                      <a:pt x="3718" y="1878"/>
                    </a:lnTo>
                    <a:lnTo>
                      <a:pt x="3734" y="1880"/>
                    </a:lnTo>
                    <a:lnTo>
                      <a:pt x="3790" y="1908"/>
                    </a:lnTo>
                    <a:lnTo>
                      <a:pt x="3804" y="1920"/>
                    </a:lnTo>
                    <a:lnTo>
                      <a:pt x="3806" y="1930"/>
                    </a:lnTo>
                    <a:lnTo>
                      <a:pt x="3852" y="1940"/>
                    </a:lnTo>
                    <a:lnTo>
                      <a:pt x="3856" y="1954"/>
                    </a:lnTo>
                    <a:lnTo>
                      <a:pt x="3910" y="1966"/>
                    </a:lnTo>
                    <a:lnTo>
                      <a:pt x="3894" y="1980"/>
                    </a:lnTo>
                    <a:lnTo>
                      <a:pt x="3886" y="1988"/>
                    </a:lnTo>
                    <a:lnTo>
                      <a:pt x="3862" y="2002"/>
                    </a:lnTo>
                    <a:lnTo>
                      <a:pt x="3844" y="2022"/>
                    </a:lnTo>
                    <a:lnTo>
                      <a:pt x="3856" y="2020"/>
                    </a:lnTo>
                    <a:lnTo>
                      <a:pt x="3876" y="2004"/>
                    </a:lnTo>
                    <a:lnTo>
                      <a:pt x="3914" y="1990"/>
                    </a:lnTo>
                    <a:lnTo>
                      <a:pt x="3910" y="2004"/>
                    </a:lnTo>
                    <a:lnTo>
                      <a:pt x="3892" y="2022"/>
                    </a:lnTo>
                    <a:lnTo>
                      <a:pt x="3904" y="2020"/>
                    </a:lnTo>
                    <a:lnTo>
                      <a:pt x="3922" y="2006"/>
                    </a:lnTo>
                    <a:lnTo>
                      <a:pt x="3936" y="2000"/>
                    </a:lnTo>
                    <a:lnTo>
                      <a:pt x="3952" y="2000"/>
                    </a:lnTo>
                    <a:lnTo>
                      <a:pt x="3942" y="2014"/>
                    </a:lnTo>
                    <a:lnTo>
                      <a:pt x="3896" y="2044"/>
                    </a:lnTo>
                    <a:lnTo>
                      <a:pt x="3890" y="2072"/>
                    </a:lnTo>
                    <a:lnTo>
                      <a:pt x="3904" y="2070"/>
                    </a:lnTo>
                    <a:lnTo>
                      <a:pt x="3922" y="2046"/>
                    </a:lnTo>
                    <a:lnTo>
                      <a:pt x="3934" y="2048"/>
                    </a:lnTo>
                    <a:lnTo>
                      <a:pt x="3960" y="2036"/>
                    </a:lnTo>
                    <a:lnTo>
                      <a:pt x="3972" y="2040"/>
                    </a:lnTo>
                    <a:lnTo>
                      <a:pt x="3964" y="2068"/>
                    </a:lnTo>
                    <a:lnTo>
                      <a:pt x="3954" y="2074"/>
                    </a:lnTo>
                    <a:lnTo>
                      <a:pt x="3958" y="2086"/>
                    </a:lnTo>
                    <a:lnTo>
                      <a:pt x="3952" y="2104"/>
                    </a:lnTo>
                    <a:lnTo>
                      <a:pt x="3928" y="2110"/>
                    </a:lnTo>
                    <a:lnTo>
                      <a:pt x="3948" y="2110"/>
                    </a:lnTo>
                    <a:lnTo>
                      <a:pt x="3956" y="2120"/>
                    </a:lnTo>
                    <a:lnTo>
                      <a:pt x="3950" y="2128"/>
                    </a:lnTo>
                    <a:lnTo>
                      <a:pt x="3952" y="2146"/>
                    </a:lnTo>
                    <a:lnTo>
                      <a:pt x="3940" y="2152"/>
                    </a:lnTo>
                    <a:lnTo>
                      <a:pt x="3950" y="2170"/>
                    </a:lnTo>
                    <a:lnTo>
                      <a:pt x="3944" y="2188"/>
                    </a:lnTo>
                    <a:lnTo>
                      <a:pt x="3958" y="2192"/>
                    </a:lnTo>
                    <a:lnTo>
                      <a:pt x="3952" y="2210"/>
                    </a:lnTo>
                    <a:lnTo>
                      <a:pt x="3926" y="2216"/>
                    </a:lnTo>
                    <a:lnTo>
                      <a:pt x="3916" y="2202"/>
                    </a:lnTo>
                    <a:lnTo>
                      <a:pt x="3886" y="2206"/>
                    </a:lnTo>
                    <a:lnTo>
                      <a:pt x="3884" y="2182"/>
                    </a:lnTo>
                    <a:lnTo>
                      <a:pt x="3886" y="2152"/>
                    </a:lnTo>
                    <a:lnTo>
                      <a:pt x="3874" y="2150"/>
                    </a:lnTo>
                    <a:lnTo>
                      <a:pt x="3866" y="2168"/>
                    </a:lnTo>
                    <a:lnTo>
                      <a:pt x="3856" y="2212"/>
                    </a:lnTo>
                    <a:lnTo>
                      <a:pt x="3818" y="2216"/>
                    </a:lnTo>
                    <a:lnTo>
                      <a:pt x="3778" y="2204"/>
                    </a:lnTo>
                    <a:lnTo>
                      <a:pt x="3746" y="2186"/>
                    </a:lnTo>
                    <a:lnTo>
                      <a:pt x="3728" y="2160"/>
                    </a:lnTo>
                    <a:lnTo>
                      <a:pt x="3722" y="2128"/>
                    </a:lnTo>
                    <a:lnTo>
                      <a:pt x="3724" y="2104"/>
                    </a:lnTo>
                    <a:lnTo>
                      <a:pt x="3700" y="2086"/>
                    </a:lnTo>
                    <a:lnTo>
                      <a:pt x="3698" y="2068"/>
                    </a:lnTo>
                    <a:lnTo>
                      <a:pt x="3686" y="2060"/>
                    </a:lnTo>
                    <a:lnTo>
                      <a:pt x="3652" y="2062"/>
                    </a:lnTo>
                    <a:lnTo>
                      <a:pt x="3630" y="2042"/>
                    </a:lnTo>
                    <a:lnTo>
                      <a:pt x="3600" y="2022"/>
                    </a:lnTo>
                    <a:lnTo>
                      <a:pt x="3568" y="2018"/>
                    </a:lnTo>
                    <a:lnTo>
                      <a:pt x="3546" y="2010"/>
                    </a:lnTo>
                    <a:lnTo>
                      <a:pt x="3522" y="2018"/>
                    </a:lnTo>
                    <a:lnTo>
                      <a:pt x="3494" y="2014"/>
                    </a:lnTo>
                    <a:lnTo>
                      <a:pt x="3472" y="1992"/>
                    </a:lnTo>
                    <a:lnTo>
                      <a:pt x="3434" y="1974"/>
                    </a:lnTo>
                    <a:lnTo>
                      <a:pt x="3434" y="1988"/>
                    </a:lnTo>
                    <a:lnTo>
                      <a:pt x="3438" y="2002"/>
                    </a:lnTo>
                    <a:lnTo>
                      <a:pt x="3412" y="2006"/>
                    </a:lnTo>
                    <a:lnTo>
                      <a:pt x="3440" y="2012"/>
                    </a:lnTo>
                    <a:lnTo>
                      <a:pt x="3458" y="2020"/>
                    </a:lnTo>
                    <a:lnTo>
                      <a:pt x="3450" y="2032"/>
                    </a:lnTo>
                    <a:lnTo>
                      <a:pt x="3482" y="2024"/>
                    </a:lnTo>
                    <a:lnTo>
                      <a:pt x="3514" y="2036"/>
                    </a:lnTo>
                    <a:lnTo>
                      <a:pt x="3542" y="2032"/>
                    </a:lnTo>
                    <a:lnTo>
                      <a:pt x="3586" y="2036"/>
                    </a:lnTo>
                    <a:lnTo>
                      <a:pt x="3606" y="2052"/>
                    </a:lnTo>
                    <a:lnTo>
                      <a:pt x="3604" y="2078"/>
                    </a:lnTo>
                    <a:lnTo>
                      <a:pt x="3580" y="2068"/>
                    </a:lnTo>
                    <a:lnTo>
                      <a:pt x="3586" y="2084"/>
                    </a:lnTo>
                    <a:lnTo>
                      <a:pt x="3558" y="2100"/>
                    </a:lnTo>
                    <a:lnTo>
                      <a:pt x="3492" y="2120"/>
                    </a:lnTo>
                    <a:lnTo>
                      <a:pt x="3420" y="2118"/>
                    </a:lnTo>
                    <a:lnTo>
                      <a:pt x="3398" y="2102"/>
                    </a:lnTo>
                    <a:lnTo>
                      <a:pt x="3390" y="2122"/>
                    </a:lnTo>
                    <a:lnTo>
                      <a:pt x="3372" y="2116"/>
                    </a:lnTo>
                    <a:lnTo>
                      <a:pt x="3340" y="2118"/>
                    </a:lnTo>
                    <a:lnTo>
                      <a:pt x="3334" y="2126"/>
                    </a:lnTo>
                    <a:lnTo>
                      <a:pt x="3352" y="2144"/>
                    </a:lnTo>
                    <a:lnTo>
                      <a:pt x="3330" y="2170"/>
                    </a:lnTo>
                    <a:lnTo>
                      <a:pt x="3312" y="2184"/>
                    </a:lnTo>
                    <a:lnTo>
                      <a:pt x="3252" y="2196"/>
                    </a:lnTo>
                    <a:lnTo>
                      <a:pt x="3280" y="2198"/>
                    </a:lnTo>
                    <a:lnTo>
                      <a:pt x="3298" y="2210"/>
                    </a:lnTo>
                    <a:lnTo>
                      <a:pt x="3346" y="2214"/>
                    </a:lnTo>
                    <a:lnTo>
                      <a:pt x="3440" y="2206"/>
                    </a:lnTo>
                    <a:lnTo>
                      <a:pt x="3468" y="2210"/>
                    </a:lnTo>
                    <a:lnTo>
                      <a:pt x="3478" y="2224"/>
                    </a:lnTo>
                    <a:lnTo>
                      <a:pt x="3452" y="2230"/>
                    </a:lnTo>
                    <a:lnTo>
                      <a:pt x="3418" y="2230"/>
                    </a:lnTo>
                    <a:lnTo>
                      <a:pt x="3360" y="2254"/>
                    </a:lnTo>
                    <a:lnTo>
                      <a:pt x="3330" y="2262"/>
                    </a:lnTo>
                    <a:lnTo>
                      <a:pt x="3304" y="2252"/>
                    </a:lnTo>
                    <a:lnTo>
                      <a:pt x="3266" y="2268"/>
                    </a:lnTo>
                    <a:lnTo>
                      <a:pt x="3328" y="2274"/>
                    </a:lnTo>
                    <a:lnTo>
                      <a:pt x="3388" y="2276"/>
                    </a:lnTo>
                    <a:lnTo>
                      <a:pt x="3410" y="2250"/>
                    </a:lnTo>
                    <a:lnTo>
                      <a:pt x="3454" y="2240"/>
                    </a:lnTo>
                    <a:lnTo>
                      <a:pt x="3486" y="2250"/>
                    </a:lnTo>
                    <a:lnTo>
                      <a:pt x="3514" y="2238"/>
                    </a:lnTo>
                    <a:lnTo>
                      <a:pt x="3584" y="2218"/>
                    </a:lnTo>
                    <a:lnTo>
                      <a:pt x="3592" y="2234"/>
                    </a:lnTo>
                    <a:lnTo>
                      <a:pt x="3612" y="2226"/>
                    </a:lnTo>
                    <a:lnTo>
                      <a:pt x="3630" y="2224"/>
                    </a:lnTo>
                    <a:lnTo>
                      <a:pt x="3626" y="2236"/>
                    </a:lnTo>
                    <a:lnTo>
                      <a:pt x="3638" y="2234"/>
                    </a:lnTo>
                    <a:lnTo>
                      <a:pt x="3734" y="2266"/>
                    </a:lnTo>
                    <a:lnTo>
                      <a:pt x="3822" y="2274"/>
                    </a:lnTo>
                    <a:lnTo>
                      <a:pt x="3850" y="2274"/>
                    </a:lnTo>
                    <a:lnTo>
                      <a:pt x="3896" y="2262"/>
                    </a:lnTo>
                    <a:lnTo>
                      <a:pt x="3900" y="2262"/>
                    </a:lnTo>
                    <a:lnTo>
                      <a:pt x="3888" y="2278"/>
                    </a:lnTo>
                    <a:lnTo>
                      <a:pt x="3862" y="2298"/>
                    </a:lnTo>
                    <a:lnTo>
                      <a:pt x="3854" y="2290"/>
                    </a:lnTo>
                    <a:lnTo>
                      <a:pt x="3842" y="2298"/>
                    </a:lnTo>
                    <a:lnTo>
                      <a:pt x="3830" y="2298"/>
                    </a:lnTo>
                    <a:lnTo>
                      <a:pt x="3818" y="2294"/>
                    </a:lnTo>
                    <a:lnTo>
                      <a:pt x="3808" y="2300"/>
                    </a:lnTo>
                    <a:lnTo>
                      <a:pt x="3792" y="2298"/>
                    </a:lnTo>
                    <a:lnTo>
                      <a:pt x="3790" y="2306"/>
                    </a:lnTo>
                    <a:lnTo>
                      <a:pt x="3778" y="2308"/>
                    </a:lnTo>
                    <a:lnTo>
                      <a:pt x="3782" y="2314"/>
                    </a:lnTo>
                    <a:lnTo>
                      <a:pt x="3794" y="2316"/>
                    </a:lnTo>
                    <a:lnTo>
                      <a:pt x="3800" y="2322"/>
                    </a:lnTo>
                    <a:lnTo>
                      <a:pt x="3772" y="2310"/>
                    </a:lnTo>
                    <a:lnTo>
                      <a:pt x="3766" y="2320"/>
                    </a:lnTo>
                    <a:lnTo>
                      <a:pt x="3732" y="2324"/>
                    </a:lnTo>
                    <a:lnTo>
                      <a:pt x="3710" y="2330"/>
                    </a:lnTo>
                    <a:lnTo>
                      <a:pt x="3728" y="2344"/>
                    </a:lnTo>
                    <a:lnTo>
                      <a:pt x="3718" y="2346"/>
                    </a:lnTo>
                    <a:lnTo>
                      <a:pt x="3724" y="2352"/>
                    </a:lnTo>
                    <a:lnTo>
                      <a:pt x="3714" y="2362"/>
                    </a:lnTo>
                    <a:lnTo>
                      <a:pt x="3700" y="2356"/>
                    </a:lnTo>
                    <a:lnTo>
                      <a:pt x="3692" y="2350"/>
                    </a:lnTo>
                    <a:lnTo>
                      <a:pt x="3684" y="2354"/>
                    </a:lnTo>
                    <a:lnTo>
                      <a:pt x="3668" y="2352"/>
                    </a:lnTo>
                    <a:lnTo>
                      <a:pt x="3658" y="2358"/>
                    </a:lnTo>
                    <a:lnTo>
                      <a:pt x="3672" y="2362"/>
                    </a:lnTo>
                    <a:lnTo>
                      <a:pt x="3678" y="2372"/>
                    </a:lnTo>
                    <a:lnTo>
                      <a:pt x="3666" y="2370"/>
                    </a:lnTo>
                    <a:lnTo>
                      <a:pt x="3674" y="2382"/>
                    </a:lnTo>
                    <a:lnTo>
                      <a:pt x="3652" y="2374"/>
                    </a:lnTo>
                    <a:lnTo>
                      <a:pt x="3652" y="2382"/>
                    </a:lnTo>
                    <a:lnTo>
                      <a:pt x="3626" y="2388"/>
                    </a:lnTo>
                    <a:lnTo>
                      <a:pt x="3624" y="2398"/>
                    </a:lnTo>
                    <a:lnTo>
                      <a:pt x="3604" y="2402"/>
                    </a:lnTo>
                    <a:lnTo>
                      <a:pt x="3598" y="2408"/>
                    </a:lnTo>
                    <a:lnTo>
                      <a:pt x="3608" y="2408"/>
                    </a:lnTo>
                    <a:lnTo>
                      <a:pt x="3600" y="2412"/>
                    </a:lnTo>
                    <a:lnTo>
                      <a:pt x="3590" y="2406"/>
                    </a:lnTo>
                    <a:lnTo>
                      <a:pt x="3574" y="2402"/>
                    </a:lnTo>
                    <a:lnTo>
                      <a:pt x="3552" y="2412"/>
                    </a:lnTo>
                    <a:lnTo>
                      <a:pt x="3576" y="2418"/>
                    </a:lnTo>
                    <a:lnTo>
                      <a:pt x="3574" y="2424"/>
                    </a:lnTo>
                    <a:lnTo>
                      <a:pt x="3572" y="2428"/>
                    </a:lnTo>
                    <a:lnTo>
                      <a:pt x="3572" y="2436"/>
                    </a:lnTo>
                    <a:lnTo>
                      <a:pt x="3558" y="2430"/>
                    </a:lnTo>
                    <a:lnTo>
                      <a:pt x="3546" y="2432"/>
                    </a:lnTo>
                    <a:lnTo>
                      <a:pt x="3546" y="2444"/>
                    </a:lnTo>
                    <a:lnTo>
                      <a:pt x="3516" y="2434"/>
                    </a:lnTo>
                    <a:lnTo>
                      <a:pt x="3514" y="2442"/>
                    </a:lnTo>
                    <a:lnTo>
                      <a:pt x="3518" y="2450"/>
                    </a:lnTo>
                    <a:lnTo>
                      <a:pt x="3528" y="2454"/>
                    </a:lnTo>
                    <a:lnTo>
                      <a:pt x="3512" y="2454"/>
                    </a:lnTo>
                    <a:lnTo>
                      <a:pt x="3500" y="2470"/>
                    </a:lnTo>
                    <a:lnTo>
                      <a:pt x="3486" y="2470"/>
                    </a:lnTo>
                    <a:lnTo>
                      <a:pt x="3482" y="2476"/>
                    </a:lnTo>
                    <a:lnTo>
                      <a:pt x="3476" y="2482"/>
                    </a:lnTo>
                    <a:lnTo>
                      <a:pt x="3440" y="2486"/>
                    </a:lnTo>
                    <a:lnTo>
                      <a:pt x="3434" y="2494"/>
                    </a:lnTo>
                    <a:lnTo>
                      <a:pt x="3434" y="2500"/>
                    </a:lnTo>
                    <a:lnTo>
                      <a:pt x="3410" y="2500"/>
                    </a:lnTo>
                    <a:lnTo>
                      <a:pt x="3404" y="2504"/>
                    </a:lnTo>
                    <a:lnTo>
                      <a:pt x="3400" y="2496"/>
                    </a:lnTo>
                    <a:lnTo>
                      <a:pt x="3376" y="2500"/>
                    </a:lnTo>
                    <a:lnTo>
                      <a:pt x="3368" y="2504"/>
                    </a:lnTo>
                    <a:lnTo>
                      <a:pt x="3362" y="2518"/>
                    </a:lnTo>
                    <a:lnTo>
                      <a:pt x="3352" y="2512"/>
                    </a:lnTo>
                    <a:lnTo>
                      <a:pt x="3338" y="2514"/>
                    </a:lnTo>
                    <a:lnTo>
                      <a:pt x="3334" y="2516"/>
                    </a:lnTo>
                    <a:lnTo>
                      <a:pt x="3330" y="2524"/>
                    </a:lnTo>
                    <a:lnTo>
                      <a:pt x="3322" y="2526"/>
                    </a:lnTo>
                    <a:lnTo>
                      <a:pt x="3314" y="2518"/>
                    </a:lnTo>
                    <a:lnTo>
                      <a:pt x="3302" y="2520"/>
                    </a:lnTo>
                    <a:lnTo>
                      <a:pt x="3290" y="2522"/>
                    </a:lnTo>
                    <a:lnTo>
                      <a:pt x="3290" y="2532"/>
                    </a:lnTo>
                    <a:lnTo>
                      <a:pt x="3280" y="2534"/>
                    </a:lnTo>
                    <a:lnTo>
                      <a:pt x="3276" y="2524"/>
                    </a:lnTo>
                    <a:lnTo>
                      <a:pt x="3262" y="2518"/>
                    </a:lnTo>
                    <a:lnTo>
                      <a:pt x="3256" y="2532"/>
                    </a:lnTo>
                    <a:lnTo>
                      <a:pt x="3244" y="2534"/>
                    </a:lnTo>
                    <a:lnTo>
                      <a:pt x="3230" y="2528"/>
                    </a:lnTo>
                    <a:lnTo>
                      <a:pt x="3226" y="2540"/>
                    </a:lnTo>
                    <a:lnTo>
                      <a:pt x="3214" y="2534"/>
                    </a:lnTo>
                    <a:lnTo>
                      <a:pt x="3190" y="2546"/>
                    </a:lnTo>
                    <a:lnTo>
                      <a:pt x="3142" y="2548"/>
                    </a:lnTo>
                    <a:lnTo>
                      <a:pt x="3136" y="2560"/>
                    </a:lnTo>
                    <a:lnTo>
                      <a:pt x="3122" y="2554"/>
                    </a:lnTo>
                    <a:lnTo>
                      <a:pt x="3116" y="2560"/>
                    </a:lnTo>
                    <a:lnTo>
                      <a:pt x="3108" y="2566"/>
                    </a:lnTo>
                    <a:lnTo>
                      <a:pt x="3102" y="2566"/>
                    </a:lnTo>
                    <a:lnTo>
                      <a:pt x="3084" y="2554"/>
                    </a:lnTo>
                    <a:lnTo>
                      <a:pt x="3076" y="2540"/>
                    </a:lnTo>
                    <a:lnTo>
                      <a:pt x="3070" y="2540"/>
                    </a:lnTo>
                    <a:lnTo>
                      <a:pt x="3058" y="2542"/>
                    </a:lnTo>
                    <a:lnTo>
                      <a:pt x="3052" y="2552"/>
                    </a:lnTo>
                    <a:lnTo>
                      <a:pt x="3054" y="2568"/>
                    </a:lnTo>
                    <a:lnTo>
                      <a:pt x="3036" y="2562"/>
                    </a:lnTo>
                    <a:lnTo>
                      <a:pt x="3030" y="2568"/>
                    </a:lnTo>
                    <a:lnTo>
                      <a:pt x="3042" y="2580"/>
                    </a:lnTo>
                    <a:lnTo>
                      <a:pt x="3026" y="2590"/>
                    </a:lnTo>
                    <a:lnTo>
                      <a:pt x="3012" y="2578"/>
                    </a:lnTo>
                    <a:lnTo>
                      <a:pt x="3014" y="2566"/>
                    </a:lnTo>
                    <a:lnTo>
                      <a:pt x="2992" y="2564"/>
                    </a:lnTo>
                    <a:lnTo>
                      <a:pt x="2982" y="2560"/>
                    </a:lnTo>
                    <a:lnTo>
                      <a:pt x="2978" y="2574"/>
                    </a:lnTo>
                    <a:lnTo>
                      <a:pt x="2998" y="2580"/>
                    </a:lnTo>
                    <a:lnTo>
                      <a:pt x="2996" y="2594"/>
                    </a:lnTo>
                    <a:lnTo>
                      <a:pt x="2980" y="2594"/>
                    </a:lnTo>
                    <a:lnTo>
                      <a:pt x="2950" y="2578"/>
                    </a:lnTo>
                    <a:lnTo>
                      <a:pt x="2950" y="2574"/>
                    </a:lnTo>
                    <a:lnTo>
                      <a:pt x="2940" y="2574"/>
                    </a:lnTo>
                    <a:lnTo>
                      <a:pt x="2940" y="2580"/>
                    </a:lnTo>
                    <a:lnTo>
                      <a:pt x="2936" y="2584"/>
                    </a:lnTo>
                    <a:lnTo>
                      <a:pt x="2946" y="2598"/>
                    </a:lnTo>
                    <a:lnTo>
                      <a:pt x="2920" y="2588"/>
                    </a:lnTo>
                    <a:lnTo>
                      <a:pt x="2902" y="2588"/>
                    </a:lnTo>
                    <a:lnTo>
                      <a:pt x="2882" y="2596"/>
                    </a:lnTo>
                    <a:lnTo>
                      <a:pt x="2886" y="2588"/>
                    </a:lnTo>
                    <a:lnTo>
                      <a:pt x="2868" y="2580"/>
                    </a:lnTo>
                    <a:lnTo>
                      <a:pt x="2868" y="2566"/>
                    </a:lnTo>
                    <a:lnTo>
                      <a:pt x="2882" y="2570"/>
                    </a:lnTo>
                    <a:lnTo>
                      <a:pt x="2890" y="2560"/>
                    </a:lnTo>
                    <a:lnTo>
                      <a:pt x="2856" y="2554"/>
                    </a:lnTo>
                    <a:lnTo>
                      <a:pt x="2856" y="2546"/>
                    </a:lnTo>
                    <a:lnTo>
                      <a:pt x="2850" y="2536"/>
                    </a:lnTo>
                    <a:lnTo>
                      <a:pt x="2850" y="2524"/>
                    </a:lnTo>
                    <a:lnTo>
                      <a:pt x="2846" y="2520"/>
                    </a:lnTo>
                    <a:lnTo>
                      <a:pt x="2832" y="2534"/>
                    </a:lnTo>
                    <a:lnTo>
                      <a:pt x="2832" y="2522"/>
                    </a:lnTo>
                    <a:lnTo>
                      <a:pt x="2834" y="2508"/>
                    </a:lnTo>
                    <a:lnTo>
                      <a:pt x="2820" y="2496"/>
                    </a:lnTo>
                    <a:lnTo>
                      <a:pt x="2822" y="2508"/>
                    </a:lnTo>
                    <a:lnTo>
                      <a:pt x="2798" y="2510"/>
                    </a:lnTo>
                    <a:lnTo>
                      <a:pt x="2798" y="2518"/>
                    </a:lnTo>
                    <a:lnTo>
                      <a:pt x="2816" y="2540"/>
                    </a:lnTo>
                    <a:lnTo>
                      <a:pt x="2826" y="2564"/>
                    </a:lnTo>
                    <a:lnTo>
                      <a:pt x="2812" y="2566"/>
                    </a:lnTo>
                    <a:lnTo>
                      <a:pt x="2842" y="2580"/>
                    </a:lnTo>
                    <a:lnTo>
                      <a:pt x="2848" y="2590"/>
                    </a:lnTo>
                    <a:lnTo>
                      <a:pt x="2832" y="2594"/>
                    </a:lnTo>
                    <a:lnTo>
                      <a:pt x="2830" y="2608"/>
                    </a:lnTo>
                    <a:lnTo>
                      <a:pt x="2824" y="2612"/>
                    </a:lnTo>
                    <a:lnTo>
                      <a:pt x="2818" y="2622"/>
                    </a:lnTo>
                    <a:lnTo>
                      <a:pt x="2814" y="2618"/>
                    </a:lnTo>
                    <a:lnTo>
                      <a:pt x="2800" y="2624"/>
                    </a:lnTo>
                    <a:lnTo>
                      <a:pt x="2794" y="2614"/>
                    </a:lnTo>
                    <a:lnTo>
                      <a:pt x="2778" y="2624"/>
                    </a:lnTo>
                    <a:lnTo>
                      <a:pt x="2778" y="2630"/>
                    </a:lnTo>
                    <a:lnTo>
                      <a:pt x="2752" y="2646"/>
                    </a:lnTo>
                    <a:lnTo>
                      <a:pt x="2728" y="2654"/>
                    </a:lnTo>
                    <a:lnTo>
                      <a:pt x="2710" y="2648"/>
                    </a:lnTo>
                    <a:lnTo>
                      <a:pt x="2712" y="2660"/>
                    </a:lnTo>
                    <a:lnTo>
                      <a:pt x="2708" y="2672"/>
                    </a:lnTo>
                    <a:lnTo>
                      <a:pt x="2692" y="2674"/>
                    </a:lnTo>
                    <a:lnTo>
                      <a:pt x="2678" y="2694"/>
                    </a:lnTo>
                    <a:lnTo>
                      <a:pt x="2676" y="2704"/>
                    </a:lnTo>
                    <a:lnTo>
                      <a:pt x="2660" y="2704"/>
                    </a:lnTo>
                    <a:lnTo>
                      <a:pt x="2666" y="2710"/>
                    </a:lnTo>
                    <a:lnTo>
                      <a:pt x="2664" y="2724"/>
                    </a:lnTo>
                    <a:lnTo>
                      <a:pt x="2660" y="2726"/>
                    </a:lnTo>
                    <a:lnTo>
                      <a:pt x="2646" y="2754"/>
                    </a:lnTo>
                    <a:lnTo>
                      <a:pt x="2620" y="2762"/>
                    </a:lnTo>
                    <a:lnTo>
                      <a:pt x="2614" y="2770"/>
                    </a:lnTo>
                    <a:lnTo>
                      <a:pt x="2598" y="2776"/>
                    </a:lnTo>
                    <a:lnTo>
                      <a:pt x="2596" y="2780"/>
                    </a:lnTo>
                    <a:lnTo>
                      <a:pt x="2600" y="2796"/>
                    </a:lnTo>
                    <a:lnTo>
                      <a:pt x="2588" y="2790"/>
                    </a:lnTo>
                    <a:lnTo>
                      <a:pt x="2588" y="2798"/>
                    </a:lnTo>
                    <a:lnTo>
                      <a:pt x="2580" y="2798"/>
                    </a:lnTo>
                    <a:lnTo>
                      <a:pt x="2580" y="2802"/>
                    </a:lnTo>
                    <a:lnTo>
                      <a:pt x="2570" y="2812"/>
                    </a:lnTo>
                    <a:lnTo>
                      <a:pt x="2562" y="2826"/>
                    </a:lnTo>
                    <a:lnTo>
                      <a:pt x="2562" y="2810"/>
                    </a:lnTo>
                    <a:lnTo>
                      <a:pt x="2550" y="2822"/>
                    </a:lnTo>
                    <a:lnTo>
                      <a:pt x="2548" y="2804"/>
                    </a:lnTo>
                    <a:lnTo>
                      <a:pt x="2534" y="2820"/>
                    </a:lnTo>
                    <a:lnTo>
                      <a:pt x="2522" y="2842"/>
                    </a:lnTo>
                    <a:lnTo>
                      <a:pt x="2512" y="2850"/>
                    </a:lnTo>
                    <a:lnTo>
                      <a:pt x="2508" y="2862"/>
                    </a:lnTo>
                    <a:lnTo>
                      <a:pt x="2498" y="2868"/>
                    </a:lnTo>
                    <a:lnTo>
                      <a:pt x="2486" y="2868"/>
                    </a:lnTo>
                    <a:lnTo>
                      <a:pt x="2474" y="2874"/>
                    </a:lnTo>
                    <a:lnTo>
                      <a:pt x="2466" y="2870"/>
                    </a:lnTo>
                    <a:lnTo>
                      <a:pt x="2466" y="2854"/>
                    </a:lnTo>
                    <a:lnTo>
                      <a:pt x="2446" y="2870"/>
                    </a:lnTo>
                    <a:lnTo>
                      <a:pt x="2456" y="2884"/>
                    </a:lnTo>
                    <a:lnTo>
                      <a:pt x="2442" y="2884"/>
                    </a:lnTo>
                    <a:lnTo>
                      <a:pt x="2406" y="2872"/>
                    </a:lnTo>
                    <a:lnTo>
                      <a:pt x="2390" y="2854"/>
                    </a:lnTo>
                    <a:lnTo>
                      <a:pt x="2384" y="2866"/>
                    </a:lnTo>
                    <a:lnTo>
                      <a:pt x="2386" y="2876"/>
                    </a:lnTo>
                    <a:lnTo>
                      <a:pt x="2396" y="2888"/>
                    </a:lnTo>
                    <a:lnTo>
                      <a:pt x="2386" y="2900"/>
                    </a:lnTo>
                    <a:lnTo>
                      <a:pt x="2382" y="2914"/>
                    </a:lnTo>
                    <a:lnTo>
                      <a:pt x="2366" y="2908"/>
                    </a:lnTo>
                    <a:lnTo>
                      <a:pt x="2352" y="2926"/>
                    </a:lnTo>
                    <a:lnTo>
                      <a:pt x="2344" y="2940"/>
                    </a:lnTo>
                    <a:lnTo>
                      <a:pt x="2334" y="2930"/>
                    </a:lnTo>
                    <a:lnTo>
                      <a:pt x="2326" y="2936"/>
                    </a:lnTo>
                    <a:lnTo>
                      <a:pt x="2320" y="2930"/>
                    </a:lnTo>
                    <a:lnTo>
                      <a:pt x="2310" y="2934"/>
                    </a:lnTo>
                    <a:lnTo>
                      <a:pt x="2320" y="2916"/>
                    </a:lnTo>
                    <a:lnTo>
                      <a:pt x="2306" y="2916"/>
                    </a:lnTo>
                    <a:lnTo>
                      <a:pt x="2292" y="2932"/>
                    </a:lnTo>
                    <a:lnTo>
                      <a:pt x="2276" y="2952"/>
                    </a:lnTo>
                    <a:lnTo>
                      <a:pt x="2272" y="2938"/>
                    </a:lnTo>
                    <a:lnTo>
                      <a:pt x="2254" y="2940"/>
                    </a:lnTo>
                    <a:lnTo>
                      <a:pt x="2248" y="2918"/>
                    </a:lnTo>
                    <a:lnTo>
                      <a:pt x="2234" y="2906"/>
                    </a:lnTo>
                    <a:lnTo>
                      <a:pt x="2226" y="2922"/>
                    </a:lnTo>
                    <a:lnTo>
                      <a:pt x="2224" y="2936"/>
                    </a:lnTo>
                    <a:lnTo>
                      <a:pt x="2208" y="2930"/>
                    </a:lnTo>
                    <a:lnTo>
                      <a:pt x="2222" y="2942"/>
                    </a:lnTo>
                    <a:lnTo>
                      <a:pt x="2214" y="2952"/>
                    </a:lnTo>
                    <a:lnTo>
                      <a:pt x="2198" y="2940"/>
                    </a:lnTo>
                    <a:lnTo>
                      <a:pt x="2186" y="2936"/>
                    </a:lnTo>
                    <a:lnTo>
                      <a:pt x="2174" y="2936"/>
                    </a:lnTo>
                    <a:lnTo>
                      <a:pt x="2172" y="2930"/>
                    </a:lnTo>
                    <a:lnTo>
                      <a:pt x="2172" y="2926"/>
                    </a:lnTo>
                    <a:lnTo>
                      <a:pt x="2170" y="2918"/>
                    </a:lnTo>
                    <a:lnTo>
                      <a:pt x="2192" y="2906"/>
                    </a:lnTo>
                    <a:lnTo>
                      <a:pt x="2198" y="2892"/>
                    </a:lnTo>
                    <a:lnTo>
                      <a:pt x="2252" y="2868"/>
                    </a:lnTo>
                    <a:lnTo>
                      <a:pt x="2226" y="2870"/>
                    </a:lnTo>
                    <a:lnTo>
                      <a:pt x="2216" y="2866"/>
                    </a:lnTo>
                    <a:lnTo>
                      <a:pt x="2202" y="2870"/>
                    </a:lnTo>
                    <a:lnTo>
                      <a:pt x="2188" y="2850"/>
                    </a:lnTo>
                    <a:lnTo>
                      <a:pt x="2174" y="2866"/>
                    </a:lnTo>
                    <a:lnTo>
                      <a:pt x="2160" y="2858"/>
                    </a:lnTo>
                    <a:lnTo>
                      <a:pt x="2162" y="2866"/>
                    </a:lnTo>
                    <a:lnTo>
                      <a:pt x="2182" y="2880"/>
                    </a:lnTo>
                    <a:lnTo>
                      <a:pt x="2170" y="2880"/>
                    </a:lnTo>
                    <a:lnTo>
                      <a:pt x="2160" y="2886"/>
                    </a:lnTo>
                    <a:lnTo>
                      <a:pt x="2162" y="2894"/>
                    </a:lnTo>
                    <a:lnTo>
                      <a:pt x="2136" y="2900"/>
                    </a:lnTo>
                    <a:lnTo>
                      <a:pt x="2150" y="2912"/>
                    </a:lnTo>
                    <a:lnTo>
                      <a:pt x="2142" y="2928"/>
                    </a:lnTo>
                    <a:lnTo>
                      <a:pt x="2132" y="2928"/>
                    </a:lnTo>
                    <a:lnTo>
                      <a:pt x="2124" y="2924"/>
                    </a:lnTo>
                    <a:lnTo>
                      <a:pt x="2120" y="2934"/>
                    </a:lnTo>
                    <a:lnTo>
                      <a:pt x="2106" y="2918"/>
                    </a:lnTo>
                    <a:lnTo>
                      <a:pt x="2094" y="2938"/>
                    </a:lnTo>
                    <a:lnTo>
                      <a:pt x="2104" y="2948"/>
                    </a:lnTo>
                    <a:lnTo>
                      <a:pt x="2114" y="2948"/>
                    </a:lnTo>
                    <a:lnTo>
                      <a:pt x="2120" y="2952"/>
                    </a:lnTo>
                    <a:lnTo>
                      <a:pt x="2116" y="2956"/>
                    </a:lnTo>
                    <a:lnTo>
                      <a:pt x="2116" y="2968"/>
                    </a:lnTo>
                    <a:lnTo>
                      <a:pt x="2106" y="2968"/>
                    </a:lnTo>
                    <a:lnTo>
                      <a:pt x="2100" y="2980"/>
                    </a:lnTo>
                    <a:lnTo>
                      <a:pt x="2080" y="2972"/>
                    </a:lnTo>
                    <a:lnTo>
                      <a:pt x="2052" y="2972"/>
                    </a:lnTo>
                    <a:lnTo>
                      <a:pt x="2062" y="2984"/>
                    </a:lnTo>
                    <a:lnTo>
                      <a:pt x="2032" y="2984"/>
                    </a:lnTo>
                    <a:lnTo>
                      <a:pt x="2016" y="2988"/>
                    </a:lnTo>
                    <a:lnTo>
                      <a:pt x="2014" y="2978"/>
                    </a:lnTo>
                    <a:lnTo>
                      <a:pt x="2000" y="2968"/>
                    </a:lnTo>
                    <a:lnTo>
                      <a:pt x="1982" y="2988"/>
                    </a:lnTo>
                    <a:lnTo>
                      <a:pt x="1968" y="2986"/>
                    </a:lnTo>
                    <a:lnTo>
                      <a:pt x="1968" y="2974"/>
                    </a:lnTo>
                    <a:lnTo>
                      <a:pt x="1956" y="2970"/>
                    </a:lnTo>
                    <a:lnTo>
                      <a:pt x="1934" y="2994"/>
                    </a:lnTo>
                    <a:lnTo>
                      <a:pt x="1924" y="2988"/>
                    </a:lnTo>
                    <a:lnTo>
                      <a:pt x="1914" y="2994"/>
                    </a:lnTo>
                    <a:lnTo>
                      <a:pt x="1898" y="2996"/>
                    </a:lnTo>
                    <a:lnTo>
                      <a:pt x="1922" y="3008"/>
                    </a:lnTo>
                    <a:lnTo>
                      <a:pt x="1922" y="3018"/>
                    </a:lnTo>
                    <a:lnTo>
                      <a:pt x="1918" y="3026"/>
                    </a:lnTo>
                    <a:lnTo>
                      <a:pt x="1924" y="3036"/>
                    </a:lnTo>
                    <a:lnTo>
                      <a:pt x="1894" y="3056"/>
                    </a:lnTo>
                    <a:lnTo>
                      <a:pt x="1890" y="3066"/>
                    </a:lnTo>
                    <a:lnTo>
                      <a:pt x="1874" y="3076"/>
                    </a:lnTo>
                    <a:lnTo>
                      <a:pt x="1864" y="3066"/>
                    </a:lnTo>
                    <a:lnTo>
                      <a:pt x="1852" y="3072"/>
                    </a:lnTo>
                    <a:lnTo>
                      <a:pt x="1844" y="3062"/>
                    </a:lnTo>
                    <a:lnTo>
                      <a:pt x="1830" y="3058"/>
                    </a:lnTo>
                    <a:lnTo>
                      <a:pt x="1824" y="3074"/>
                    </a:lnTo>
                    <a:lnTo>
                      <a:pt x="1814" y="3066"/>
                    </a:lnTo>
                    <a:lnTo>
                      <a:pt x="1794" y="3068"/>
                    </a:lnTo>
                    <a:lnTo>
                      <a:pt x="1784" y="3060"/>
                    </a:lnTo>
                    <a:lnTo>
                      <a:pt x="1756" y="3090"/>
                    </a:lnTo>
                    <a:lnTo>
                      <a:pt x="1778" y="3086"/>
                    </a:lnTo>
                    <a:lnTo>
                      <a:pt x="1776" y="3100"/>
                    </a:lnTo>
                    <a:lnTo>
                      <a:pt x="1786" y="3108"/>
                    </a:lnTo>
                    <a:lnTo>
                      <a:pt x="1790" y="3126"/>
                    </a:lnTo>
                    <a:lnTo>
                      <a:pt x="1802" y="3138"/>
                    </a:lnTo>
                    <a:lnTo>
                      <a:pt x="1800" y="3166"/>
                    </a:lnTo>
                    <a:lnTo>
                      <a:pt x="1812" y="3176"/>
                    </a:lnTo>
                    <a:lnTo>
                      <a:pt x="1826" y="3180"/>
                    </a:lnTo>
                    <a:lnTo>
                      <a:pt x="1818" y="3188"/>
                    </a:lnTo>
                    <a:lnTo>
                      <a:pt x="1802" y="3180"/>
                    </a:lnTo>
                    <a:lnTo>
                      <a:pt x="1768" y="3178"/>
                    </a:lnTo>
                    <a:lnTo>
                      <a:pt x="1718" y="3194"/>
                    </a:lnTo>
                    <a:lnTo>
                      <a:pt x="1702" y="3192"/>
                    </a:lnTo>
                    <a:lnTo>
                      <a:pt x="1702" y="3210"/>
                    </a:lnTo>
                    <a:lnTo>
                      <a:pt x="1772" y="3218"/>
                    </a:lnTo>
                    <a:lnTo>
                      <a:pt x="1778" y="3230"/>
                    </a:lnTo>
                    <a:lnTo>
                      <a:pt x="1772" y="3236"/>
                    </a:lnTo>
                    <a:lnTo>
                      <a:pt x="1760" y="3242"/>
                    </a:lnTo>
                    <a:lnTo>
                      <a:pt x="1770" y="3286"/>
                    </a:lnTo>
                    <a:lnTo>
                      <a:pt x="1738" y="3288"/>
                    </a:lnTo>
                    <a:lnTo>
                      <a:pt x="1684" y="3274"/>
                    </a:lnTo>
                    <a:lnTo>
                      <a:pt x="1680" y="3282"/>
                    </a:lnTo>
                    <a:lnTo>
                      <a:pt x="1740" y="3296"/>
                    </a:lnTo>
                    <a:lnTo>
                      <a:pt x="1744" y="3304"/>
                    </a:lnTo>
                    <a:lnTo>
                      <a:pt x="1738" y="3318"/>
                    </a:lnTo>
                    <a:lnTo>
                      <a:pt x="1728" y="3320"/>
                    </a:lnTo>
                    <a:lnTo>
                      <a:pt x="1720" y="3336"/>
                    </a:lnTo>
                    <a:lnTo>
                      <a:pt x="1716" y="3340"/>
                    </a:lnTo>
                    <a:lnTo>
                      <a:pt x="1700" y="3344"/>
                    </a:lnTo>
                    <a:lnTo>
                      <a:pt x="1688" y="3338"/>
                    </a:lnTo>
                    <a:lnTo>
                      <a:pt x="1686" y="3348"/>
                    </a:lnTo>
                    <a:lnTo>
                      <a:pt x="1692" y="3356"/>
                    </a:lnTo>
                    <a:lnTo>
                      <a:pt x="1674" y="3358"/>
                    </a:lnTo>
                    <a:lnTo>
                      <a:pt x="1674" y="3370"/>
                    </a:lnTo>
                    <a:lnTo>
                      <a:pt x="1656" y="3368"/>
                    </a:lnTo>
                    <a:lnTo>
                      <a:pt x="1638" y="3354"/>
                    </a:lnTo>
                    <a:lnTo>
                      <a:pt x="1636" y="3360"/>
                    </a:lnTo>
                    <a:lnTo>
                      <a:pt x="1644" y="3368"/>
                    </a:lnTo>
                    <a:lnTo>
                      <a:pt x="1638" y="3374"/>
                    </a:lnTo>
                    <a:lnTo>
                      <a:pt x="1626" y="3376"/>
                    </a:lnTo>
                    <a:lnTo>
                      <a:pt x="1626" y="3386"/>
                    </a:lnTo>
                    <a:lnTo>
                      <a:pt x="1650" y="3390"/>
                    </a:lnTo>
                    <a:lnTo>
                      <a:pt x="1646" y="3400"/>
                    </a:lnTo>
                    <a:lnTo>
                      <a:pt x="1608" y="3396"/>
                    </a:lnTo>
                    <a:lnTo>
                      <a:pt x="1598" y="3392"/>
                    </a:lnTo>
                    <a:lnTo>
                      <a:pt x="1588" y="3382"/>
                    </a:lnTo>
                    <a:lnTo>
                      <a:pt x="1576" y="3382"/>
                    </a:lnTo>
                    <a:lnTo>
                      <a:pt x="1590" y="3396"/>
                    </a:lnTo>
                    <a:lnTo>
                      <a:pt x="1614" y="3410"/>
                    </a:lnTo>
                    <a:lnTo>
                      <a:pt x="1632" y="3408"/>
                    </a:lnTo>
                    <a:lnTo>
                      <a:pt x="1628" y="3424"/>
                    </a:lnTo>
                    <a:lnTo>
                      <a:pt x="1612" y="3424"/>
                    </a:lnTo>
                    <a:lnTo>
                      <a:pt x="1600" y="3434"/>
                    </a:lnTo>
                    <a:lnTo>
                      <a:pt x="1560" y="3440"/>
                    </a:lnTo>
                    <a:lnTo>
                      <a:pt x="1546" y="3438"/>
                    </a:lnTo>
                    <a:lnTo>
                      <a:pt x="1540" y="3434"/>
                    </a:lnTo>
                    <a:lnTo>
                      <a:pt x="1526" y="3436"/>
                    </a:lnTo>
                    <a:lnTo>
                      <a:pt x="1518" y="3440"/>
                    </a:lnTo>
                    <a:lnTo>
                      <a:pt x="1514" y="3450"/>
                    </a:lnTo>
                    <a:lnTo>
                      <a:pt x="1508" y="3454"/>
                    </a:lnTo>
                    <a:lnTo>
                      <a:pt x="1476" y="3460"/>
                    </a:lnTo>
                    <a:lnTo>
                      <a:pt x="1508" y="3470"/>
                    </a:lnTo>
                    <a:lnTo>
                      <a:pt x="1510" y="3492"/>
                    </a:lnTo>
                    <a:lnTo>
                      <a:pt x="1506" y="3498"/>
                    </a:lnTo>
                    <a:lnTo>
                      <a:pt x="1516" y="3504"/>
                    </a:lnTo>
                    <a:lnTo>
                      <a:pt x="1502" y="3566"/>
                    </a:lnTo>
                    <a:lnTo>
                      <a:pt x="1512" y="3572"/>
                    </a:lnTo>
                    <a:lnTo>
                      <a:pt x="1512" y="3584"/>
                    </a:lnTo>
                    <a:lnTo>
                      <a:pt x="1500" y="3600"/>
                    </a:lnTo>
                    <a:lnTo>
                      <a:pt x="1504" y="3608"/>
                    </a:lnTo>
                    <a:lnTo>
                      <a:pt x="1490" y="3616"/>
                    </a:lnTo>
                    <a:lnTo>
                      <a:pt x="1456" y="3648"/>
                    </a:lnTo>
                    <a:lnTo>
                      <a:pt x="1446" y="3660"/>
                    </a:lnTo>
                    <a:lnTo>
                      <a:pt x="1458" y="3662"/>
                    </a:lnTo>
                    <a:lnTo>
                      <a:pt x="1442" y="3676"/>
                    </a:lnTo>
                    <a:lnTo>
                      <a:pt x="1422" y="3686"/>
                    </a:lnTo>
                    <a:lnTo>
                      <a:pt x="1414" y="3692"/>
                    </a:lnTo>
                    <a:lnTo>
                      <a:pt x="1420" y="3696"/>
                    </a:lnTo>
                    <a:lnTo>
                      <a:pt x="1416" y="3706"/>
                    </a:lnTo>
                    <a:lnTo>
                      <a:pt x="1394" y="3744"/>
                    </a:lnTo>
                    <a:lnTo>
                      <a:pt x="1382" y="3752"/>
                    </a:lnTo>
                    <a:lnTo>
                      <a:pt x="1376" y="3764"/>
                    </a:lnTo>
                    <a:lnTo>
                      <a:pt x="1366" y="3782"/>
                    </a:lnTo>
                    <a:lnTo>
                      <a:pt x="1360" y="3808"/>
                    </a:lnTo>
                    <a:lnTo>
                      <a:pt x="1348" y="3814"/>
                    </a:lnTo>
                    <a:lnTo>
                      <a:pt x="1332" y="3814"/>
                    </a:lnTo>
                    <a:lnTo>
                      <a:pt x="1324" y="3820"/>
                    </a:lnTo>
                    <a:lnTo>
                      <a:pt x="1308" y="3820"/>
                    </a:lnTo>
                    <a:lnTo>
                      <a:pt x="1272" y="3812"/>
                    </a:lnTo>
                    <a:lnTo>
                      <a:pt x="1302" y="3832"/>
                    </a:lnTo>
                    <a:lnTo>
                      <a:pt x="1312" y="3834"/>
                    </a:lnTo>
                    <a:lnTo>
                      <a:pt x="1316" y="3848"/>
                    </a:lnTo>
                    <a:lnTo>
                      <a:pt x="1316" y="3862"/>
                    </a:lnTo>
                    <a:lnTo>
                      <a:pt x="1310" y="3870"/>
                    </a:lnTo>
                    <a:lnTo>
                      <a:pt x="1314" y="3880"/>
                    </a:lnTo>
                    <a:lnTo>
                      <a:pt x="1312" y="3882"/>
                    </a:lnTo>
                    <a:lnTo>
                      <a:pt x="1274" y="3882"/>
                    </a:lnTo>
                    <a:lnTo>
                      <a:pt x="1210" y="3876"/>
                    </a:lnTo>
                    <a:lnTo>
                      <a:pt x="1210" y="3862"/>
                    </a:lnTo>
                    <a:lnTo>
                      <a:pt x="1214" y="3854"/>
                    </a:lnTo>
                    <a:lnTo>
                      <a:pt x="1198" y="3868"/>
                    </a:lnTo>
                    <a:lnTo>
                      <a:pt x="1162" y="3890"/>
                    </a:lnTo>
                    <a:lnTo>
                      <a:pt x="1134" y="3894"/>
                    </a:lnTo>
                    <a:lnTo>
                      <a:pt x="1122" y="3880"/>
                    </a:lnTo>
                    <a:lnTo>
                      <a:pt x="1100" y="3880"/>
                    </a:lnTo>
                    <a:lnTo>
                      <a:pt x="1094" y="3878"/>
                    </a:lnTo>
                    <a:lnTo>
                      <a:pt x="1092" y="3866"/>
                    </a:lnTo>
                    <a:lnTo>
                      <a:pt x="1088" y="3866"/>
                    </a:lnTo>
                    <a:lnTo>
                      <a:pt x="1092" y="3858"/>
                    </a:lnTo>
                    <a:lnTo>
                      <a:pt x="1108" y="3844"/>
                    </a:lnTo>
                    <a:lnTo>
                      <a:pt x="1120" y="3838"/>
                    </a:lnTo>
                    <a:lnTo>
                      <a:pt x="1134" y="3812"/>
                    </a:lnTo>
                    <a:lnTo>
                      <a:pt x="1138" y="3804"/>
                    </a:lnTo>
                    <a:lnTo>
                      <a:pt x="1116" y="3818"/>
                    </a:lnTo>
                    <a:lnTo>
                      <a:pt x="1094" y="3824"/>
                    </a:lnTo>
                    <a:lnTo>
                      <a:pt x="1092" y="3818"/>
                    </a:lnTo>
                    <a:lnTo>
                      <a:pt x="1106" y="3798"/>
                    </a:lnTo>
                    <a:lnTo>
                      <a:pt x="1110" y="3786"/>
                    </a:lnTo>
                    <a:lnTo>
                      <a:pt x="1102" y="3786"/>
                    </a:lnTo>
                    <a:lnTo>
                      <a:pt x="1092" y="3792"/>
                    </a:lnTo>
                    <a:lnTo>
                      <a:pt x="1076" y="3808"/>
                    </a:lnTo>
                    <a:lnTo>
                      <a:pt x="1064" y="3816"/>
                    </a:lnTo>
                    <a:lnTo>
                      <a:pt x="1064" y="3808"/>
                    </a:lnTo>
                    <a:lnTo>
                      <a:pt x="1060" y="3800"/>
                    </a:lnTo>
                    <a:lnTo>
                      <a:pt x="1060" y="3786"/>
                    </a:lnTo>
                    <a:lnTo>
                      <a:pt x="1054" y="3780"/>
                    </a:lnTo>
                    <a:lnTo>
                      <a:pt x="1068" y="3768"/>
                    </a:lnTo>
                    <a:lnTo>
                      <a:pt x="1098" y="3756"/>
                    </a:lnTo>
                    <a:lnTo>
                      <a:pt x="1110" y="3742"/>
                    </a:lnTo>
                    <a:lnTo>
                      <a:pt x="1104" y="3736"/>
                    </a:lnTo>
                    <a:lnTo>
                      <a:pt x="1086" y="3752"/>
                    </a:lnTo>
                    <a:lnTo>
                      <a:pt x="1060" y="3764"/>
                    </a:lnTo>
                    <a:lnTo>
                      <a:pt x="1044" y="3762"/>
                    </a:lnTo>
                    <a:lnTo>
                      <a:pt x="1024" y="3770"/>
                    </a:lnTo>
                    <a:lnTo>
                      <a:pt x="1016" y="3772"/>
                    </a:lnTo>
                    <a:lnTo>
                      <a:pt x="1008" y="3768"/>
                    </a:lnTo>
                    <a:lnTo>
                      <a:pt x="1036" y="3756"/>
                    </a:lnTo>
                    <a:lnTo>
                      <a:pt x="1022" y="3756"/>
                    </a:lnTo>
                    <a:lnTo>
                      <a:pt x="1076" y="3738"/>
                    </a:lnTo>
                    <a:lnTo>
                      <a:pt x="1084" y="3732"/>
                    </a:lnTo>
                    <a:lnTo>
                      <a:pt x="1052" y="3738"/>
                    </a:lnTo>
                    <a:lnTo>
                      <a:pt x="1040" y="3734"/>
                    </a:lnTo>
                    <a:lnTo>
                      <a:pt x="1046" y="3726"/>
                    </a:lnTo>
                    <a:lnTo>
                      <a:pt x="1056" y="3716"/>
                    </a:lnTo>
                    <a:lnTo>
                      <a:pt x="1020" y="3724"/>
                    </a:lnTo>
                    <a:lnTo>
                      <a:pt x="1018" y="3718"/>
                    </a:lnTo>
                    <a:lnTo>
                      <a:pt x="972" y="3734"/>
                    </a:lnTo>
                    <a:lnTo>
                      <a:pt x="926" y="3730"/>
                    </a:lnTo>
                    <a:lnTo>
                      <a:pt x="910" y="3732"/>
                    </a:lnTo>
                    <a:lnTo>
                      <a:pt x="890" y="3726"/>
                    </a:lnTo>
                    <a:lnTo>
                      <a:pt x="886" y="3728"/>
                    </a:lnTo>
                    <a:lnTo>
                      <a:pt x="882" y="3732"/>
                    </a:lnTo>
                    <a:lnTo>
                      <a:pt x="886" y="3746"/>
                    </a:lnTo>
                    <a:lnTo>
                      <a:pt x="838" y="3748"/>
                    </a:lnTo>
                    <a:lnTo>
                      <a:pt x="824" y="3744"/>
                    </a:lnTo>
                    <a:lnTo>
                      <a:pt x="802" y="3748"/>
                    </a:lnTo>
                    <a:lnTo>
                      <a:pt x="814" y="3740"/>
                    </a:lnTo>
                    <a:lnTo>
                      <a:pt x="836" y="3732"/>
                    </a:lnTo>
                    <a:lnTo>
                      <a:pt x="872" y="3716"/>
                    </a:lnTo>
                    <a:lnTo>
                      <a:pt x="876" y="3712"/>
                    </a:lnTo>
                    <a:lnTo>
                      <a:pt x="872" y="3708"/>
                    </a:lnTo>
                    <a:lnTo>
                      <a:pt x="862" y="3710"/>
                    </a:lnTo>
                    <a:lnTo>
                      <a:pt x="848" y="3700"/>
                    </a:lnTo>
                    <a:lnTo>
                      <a:pt x="830" y="3698"/>
                    </a:lnTo>
                    <a:lnTo>
                      <a:pt x="828" y="3696"/>
                    </a:lnTo>
                    <a:lnTo>
                      <a:pt x="826" y="3684"/>
                    </a:lnTo>
                    <a:lnTo>
                      <a:pt x="822" y="3678"/>
                    </a:lnTo>
                    <a:lnTo>
                      <a:pt x="796" y="3684"/>
                    </a:lnTo>
                    <a:lnTo>
                      <a:pt x="790" y="3682"/>
                    </a:lnTo>
                    <a:lnTo>
                      <a:pt x="780" y="3672"/>
                    </a:lnTo>
                    <a:lnTo>
                      <a:pt x="786" y="3660"/>
                    </a:lnTo>
                    <a:lnTo>
                      <a:pt x="792" y="3654"/>
                    </a:lnTo>
                    <a:lnTo>
                      <a:pt x="786" y="3652"/>
                    </a:lnTo>
                    <a:lnTo>
                      <a:pt x="764" y="3650"/>
                    </a:lnTo>
                    <a:lnTo>
                      <a:pt x="750" y="3654"/>
                    </a:lnTo>
                    <a:lnTo>
                      <a:pt x="744" y="3648"/>
                    </a:lnTo>
                    <a:lnTo>
                      <a:pt x="836" y="3630"/>
                    </a:lnTo>
                    <a:lnTo>
                      <a:pt x="820" y="3622"/>
                    </a:lnTo>
                    <a:lnTo>
                      <a:pt x="806" y="3622"/>
                    </a:lnTo>
                    <a:lnTo>
                      <a:pt x="768" y="3634"/>
                    </a:lnTo>
                    <a:lnTo>
                      <a:pt x="748" y="3638"/>
                    </a:lnTo>
                    <a:lnTo>
                      <a:pt x="730" y="3626"/>
                    </a:lnTo>
                    <a:lnTo>
                      <a:pt x="726" y="3620"/>
                    </a:lnTo>
                    <a:lnTo>
                      <a:pt x="756" y="3612"/>
                    </a:lnTo>
                    <a:lnTo>
                      <a:pt x="770" y="3602"/>
                    </a:lnTo>
                    <a:lnTo>
                      <a:pt x="756" y="3598"/>
                    </a:lnTo>
                    <a:lnTo>
                      <a:pt x="760" y="3592"/>
                    </a:lnTo>
                    <a:lnTo>
                      <a:pt x="746" y="3584"/>
                    </a:lnTo>
                    <a:lnTo>
                      <a:pt x="738" y="3570"/>
                    </a:lnTo>
                    <a:lnTo>
                      <a:pt x="738" y="3562"/>
                    </a:lnTo>
                    <a:lnTo>
                      <a:pt x="756" y="3552"/>
                    </a:lnTo>
                    <a:lnTo>
                      <a:pt x="790" y="3540"/>
                    </a:lnTo>
                    <a:lnTo>
                      <a:pt x="792" y="3530"/>
                    </a:lnTo>
                    <a:lnTo>
                      <a:pt x="784" y="3526"/>
                    </a:lnTo>
                    <a:lnTo>
                      <a:pt x="742" y="3544"/>
                    </a:lnTo>
                    <a:lnTo>
                      <a:pt x="716" y="3546"/>
                    </a:lnTo>
                    <a:lnTo>
                      <a:pt x="718" y="3538"/>
                    </a:lnTo>
                    <a:lnTo>
                      <a:pt x="712" y="3530"/>
                    </a:lnTo>
                    <a:lnTo>
                      <a:pt x="730" y="3526"/>
                    </a:lnTo>
                    <a:lnTo>
                      <a:pt x="748" y="3522"/>
                    </a:lnTo>
                    <a:lnTo>
                      <a:pt x="728" y="3522"/>
                    </a:lnTo>
                    <a:lnTo>
                      <a:pt x="724" y="3512"/>
                    </a:lnTo>
                    <a:lnTo>
                      <a:pt x="744" y="3506"/>
                    </a:lnTo>
                    <a:lnTo>
                      <a:pt x="728" y="3504"/>
                    </a:lnTo>
                    <a:lnTo>
                      <a:pt x="710" y="3498"/>
                    </a:lnTo>
                    <a:lnTo>
                      <a:pt x="714" y="3484"/>
                    </a:lnTo>
                    <a:lnTo>
                      <a:pt x="726" y="3474"/>
                    </a:lnTo>
                    <a:lnTo>
                      <a:pt x="712" y="3466"/>
                    </a:lnTo>
                    <a:lnTo>
                      <a:pt x="694" y="3464"/>
                    </a:lnTo>
                    <a:lnTo>
                      <a:pt x="690" y="3454"/>
                    </a:lnTo>
                    <a:lnTo>
                      <a:pt x="698" y="3434"/>
                    </a:lnTo>
                    <a:lnTo>
                      <a:pt x="720" y="3412"/>
                    </a:lnTo>
                    <a:lnTo>
                      <a:pt x="710" y="3412"/>
                    </a:lnTo>
                    <a:lnTo>
                      <a:pt x="694" y="3422"/>
                    </a:lnTo>
                    <a:lnTo>
                      <a:pt x="694" y="3410"/>
                    </a:lnTo>
                    <a:lnTo>
                      <a:pt x="690" y="3398"/>
                    </a:lnTo>
                    <a:lnTo>
                      <a:pt x="696" y="3380"/>
                    </a:lnTo>
                    <a:lnTo>
                      <a:pt x="666" y="3374"/>
                    </a:lnTo>
                    <a:lnTo>
                      <a:pt x="666" y="3368"/>
                    </a:lnTo>
                    <a:lnTo>
                      <a:pt x="668" y="3362"/>
                    </a:lnTo>
                    <a:lnTo>
                      <a:pt x="660" y="3360"/>
                    </a:lnTo>
                    <a:lnTo>
                      <a:pt x="646" y="3326"/>
                    </a:lnTo>
                    <a:lnTo>
                      <a:pt x="650" y="3298"/>
                    </a:lnTo>
                    <a:lnTo>
                      <a:pt x="640" y="3302"/>
                    </a:lnTo>
                    <a:lnTo>
                      <a:pt x="638" y="3290"/>
                    </a:lnTo>
                    <a:lnTo>
                      <a:pt x="630" y="3266"/>
                    </a:lnTo>
                    <a:lnTo>
                      <a:pt x="656" y="3248"/>
                    </a:lnTo>
                    <a:lnTo>
                      <a:pt x="634" y="3250"/>
                    </a:lnTo>
                    <a:lnTo>
                      <a:pt x="652" y="3218"/>
                    </a:lnTo>
                    <a:lnTo>
                      <a:pt x="654" y="3190"/>
                    </a:lnTo>
                    <a:lnTo>
                      <a:pt x="662" y="3176"/>
                    </a:lnTo>
                    <a:lnTo>
                      <a:pt x="692" y="3176"/>
                    </a:lnTo>
                    <a:lnTo>
                      <a:pt x="718" y="3168"/>
                    </a:lnTo>
                    <a:lnTo>
                      <a:pt x="732" y="3148"/>
                    </a:lnTo>
                    <a:lnTo>
                      <a:pt x="758" y="3144"/>
                    </a:lnTo>
                    <a:lnTo>
                      <a:pt x="816" y="3132"/>
                    </a:lnTo>
                    <a:lnTo>
                      <a:pt x="782" y="3130"/>
                    </a:lnTo>
                    <a:lnTo>
                      <a:pt x="762" y="3116"/>
                    </a:lnTo>
                    <a:lnTo>
                      <a:pt x="768" y="3104"/>
                    </a:lnTo>
                    <a:lnTo>
                      <a:pt x="792" y="3094"/>
                    </a:lnTo>
                    <a:lnTo>
                      <a:pt x="844" y="3104"/>
                    </a:lnTo>
                    <a:lnTo>
                      <a:pt x="838" y="3084"/>
                    </a:lnTo>
                    <a:lnTo>
                      <a:pt x="818" y="3086"/>
                    </a:lnTo>
                    <a:lnTo>
                      <a:pt x="788" y="3072"/>
                    </a:lnTo>
                    <a:lnTo>
                      <a:pt x="764" y="3092"/>
                    </a:lnTo>
                    <a:lnTo>
                      <a:pt x="736" y="3096"/>
                    </a:lnTo>
                    <a:lnTo>
                      <a:pt x="724" y="3092"/>
                    </a:lnTo>
                    <a:lnTo>
                      <a:pt x="682" y="3128"/>
                    </a:lnTo>
                    <a:lnTo>
                      <a:pt x="650" y="3158"/>
                    </a:lnTo>
                    <a:lnTo>
                      <a:pt x="622" y="3156"/>
                    </a:lnTo>
                    <a:lnTo>
                      <a:pt x="608" y="3162"/>
                    </a:lnTo>
                    <a:lnTo>
                      <a:pt x="610" y="3142"/>
                    </a:lnTo>
                    <a:lnTo>
                      <a:pt x="618" y="3126"/>
                    </a:lnTo>
                    <a:lnTo>
                      <a:pt x="626" y="3110"/>
                    </a:lnTo>
                    <a:lnTo>
                      <a:pt x="634" y="3094"/>
                    </a:lnTo>
                    <a:lnTo>
                      <a:pt x="642" y="3082"/>
                    </a:lnTo>
                    <a:lnTo>
                      <a:pt x="672" y="3066"/>
                    </a:lnTo>
                    <a:lnTo>
                      <a:pt x="662" y="3062"/>
                    </a:lnTo>
                    <a:lnTo>
                      <a:pt x="664" y="3058"/>
                    </a:lnTo>
                    <a:lnTo>
                      <a:pt x="648" y="3068"/>
                    </a:lnTo>
                    <a:lnTo>
                      <a:pt x="648" y="3050"/>
                    </a:lnTo>
                    <a:lnTo>
                      <a:pt x="654" y="3036"/>
                    </a:lnTo>
                    <a:lnTo>
                      <a:pt x="640" y="3028"/>
                    </a:lnTo>
                    <a:lnTo>
                      <a:pt x="652" y="3008"/>
                    </a:lnTo>
                    <a:lnTo>
                      <a:pt x="662" y="3004"/>
                    </a:lnTo>
                    <a:lnTo>
                      <a:pt x="666" y="2984"/>
                    </a:lnTo>
                    <a:lnTo>
                      <a:pt x="638" y="3002"/>
                    </a:lnTo>
                    <a:lnTo>
                      <a:pt x="638" y="2984"/>
                    </a:lnTo>
                    <a:lnTo>
                      <a:pt x="678" y="2964"/>
                    </a:lnTo>
                    <a:lnTo>
                      <a:pt x="658" y="2964"/>
                    </a:lnTo>
                    <a:lnTo>
                      <a:pt x="662" y="2952"/>
                    </a:lnTo>
                    <a:lnTo>
                      <a:pt x="632" y="2950"/>
                    </a:lnTo>
                    <a:lnTo>
                      <a:pt x="646" y="2912"/>
                    </a:lnTo>
                    <a:lnTo>
                      <a:pt x="628" y="2918"/>
                    </a:lnTo>
                    <a:lnTo>
                      <a:pt x="600" y="2922"/>
                    </a:lnTo>
                    <a:lnTo>
                      <a:pt x="618" y="2908"/>
                    </a:lnTo>
                    <a:lnTo>
                      <a:pt x="618" y="2900"/>
                    </a:lnTo>
                    <a:lnTo>
                      <a:pt x="634" y="2888"/>
                    </a:lnTo>
                    <a:lnTo>
                      <a:pt x="648" y="2882"/>
                    </a:lnTo>
                    <a:lnTo>
                      <a:pt x="614" y="2892"/>
                    </a:lnTo>
                    <a:lnTo>
                      <a:pt x="616" y="2882"/>
                    </a:lnTo>
                    <a:lnTo>
                      <a:pt x="592" y="2874"/>
                    </a:lnTo>
                    <a:lnTo>
                      <a:pt x="600" y="2862"/>
                    </a:lnTo>
                    <a:lnTo>
                      <a:pt x="658" y="2836"/>
                    </a:lnTo>
                    <a:lnTo>
                      <a:pt x="636" y="2840"/>
                    </a:lnTo>
                    <a:lnTo>
                      <a:pt x="612" y="2838"/>
                    </a:lnTo>
                    <a:lnTo>
                      <a:pt x="600" y="2832"/>
                    </a:lnTo>
                    <a:lnTo>
                      <a:pt x="628" y="2818"/>
                    </a:lnTo>
                    <a:lnTo>
                      <a:pt x="604" y="2816"/>
                    </a:lnTo>
                    <a:lnTo>
                      <a:pt x="606" y="2806"/>
                    </a:lnTo>
                    <a:lnTo>
                      <a:pt x="610" y="2788"/>
                    </a:lnTo>
                    <a:lnTo>
                      <a:pt x="626" y="2774"/>
                    </a:lnTo>
                    <a:lnTo>
                      <a:pt x="660" y="2780"/>
                    </a:lnTo>
                    <a:lnTo>
                      <a:pt x="642" y="2760"/>
                    </a:lnTo>
                    <a:lnTo>
                      <a:pt x="672" y="2744"/>
                    </a:lnTo>
                    <a:lnTo>
                      <a:pt x="686" y="2740"/>
                    </a:lnTo>
                    <a:lnTo>
                      <a:pt x="702" y="2716"/>
                    </a:lnTo>
                    <a:lnTo>
                      <a:pt x="670" y="2712"/>
                    </a:lnTo>
                    <a:lnTo>
                      <a:pt x="642" y="2714"/>
                    </a:lnTo>
                    <a:lnTo>
                      <a:pt x="654" y="2700"/>
                    </a:lnTo>
                    <a:lnTo>
                      <a:pt x="628" y="2682"/>
                    </a:lnTo>
                    <a:lnTo>
                      <a:pt x="642" y="2654"/>
                    </a:lnTo>
                    <a:lnTo>
                      <a:pt x="656" y="2642"/>
                    </a:lnTo>
                    <a:lnTo>
                      <a:pt x="670" y="2638"/>
                    </a:lnTo>
                    <a:lnTo>
                      <a:pt x="670" y="2624"/>
                    </a:lnTo>
                    <a:lnTo>
                      <a:pt x="716" y="2608"/>
                    </a:lnTo>
                    <a:lnTo>
                      <a:pt x="704" y="2612"/>
                    </a:lnTo>
                    <a:lnTo>
                      <a:pt x="690" y="2602"/>
                    </a:lnTo>
                    <a:lnTo>
                      <a:pt x="716" y="2586"/>
                    </a:lnTo>
                    <a:lnTo>
                      <a:pt x="712" y="2584"/>
                    </a:lnTo>
                    <a:lnTo>
                      <a:pt x="722" y="2566"/>
                    </a:lnTo>
                    <a:lnTo>
                      <a:pt x="726" y="2550"/>
                    </a:lnTo>
                    <a:lnTo>
                      <a:pt x="756" y="2540"/>
                    </a:lnTo>
                    <a:lnTo>
                      <a:pt x="780" y="2542"/>
                    </a:lnTo>
                    <a:lnTo>
                      <a:pt x="768" y="2528"/>
                    </a:lnTo>
                    <a:lnTo>
                      <a:pt x="794" y="2538"/>
                    </a:lnTo>
                    <a:lnTo>
                      <a:pt x="806" y="2534"/>
                    </a:lnTo>
                    <a:lnTo>
                      <a:pt x="786" y="2514"/>
                    </a:lnTo>
                    <a:lnTo>
                      <a:pt x="756" y="2512"/>
                    </a:lnTo>
                    <a:lnTo>
                      <a:pt x="772" y="2506"/>
                    </a:lnTo>
                    <a:lnTo>
                      <a:pt x="808" y="2516"/>
                    </a:lnTo>
                    <a:lnTo>
                      <a:pt x="810" y="2510"/>
                    </a:lnTo>
                    <a:lnTo>
                      <a:pt x="836" y="2506"/>
                    </a:lnTo>
                    <a:lnTo>
                      <a:pt x="900" y="2530"/>
                    </a:lnTo>
                    <a:lnTo>
                      <a:pt x="930" y="2530"/>
                    </a:lnTo>
                    <a:lnTo>
                      <a:pt x="964" y="2524"/>
                    </a:lnTo>
                    <a:lnTo>
                      <a:pt x="980" y="2530"/>
                    </a:lnTo>
                    <a:lnTo>
                      <a:pt x="992" y="2524"/>
                    </a:lnTo>
                    <a:lnTo>
                      <a:pt x="968" y="2514"/>
                    </a:lnTo>
                    <a:lnTo>
                      <a:pt x="966" y="2504"/>
                    </a:lnTo>
                    <a:lnTo>
                      <a:pt x="988" y="2508"/>
                    </a:lnTo>
                    <a:lnTo>
                      <a:pt x="952" y="2492"/>
                    </a:lnTo>
                    <a:lnTo>
                      <a:pt x="982" y="2484"/>
                    </a:lnTo>
                    <a:lnTo>
                      <a:pt x="998" y="2472"/>
                    </a:lnTo>
                    <a:lnTo>
                      <a:pt x="994" y="2468"/>
                    </a:lnTo>
                    <a:lnTo>
                      <a:pt x="960" y="2466"/>
                    </a:lnTo>
                    <a:lnTo>
                      <a:pt x="968" y="2486"/>
                    </a:lnTo>
                    <a:lnTo>
                      <a:pt x="864" y="2500"/>
                    </a:lnTo>
                    <a:lnTo>
                      <a:pt x="848" y="2490"/>
                    </a:lnTo>
                    <a:lnTo>
                      <a:pt x="822" y="2496"/>
                    </a:lnTo>
                    <a:lnTo>
                      <a:pt x="822" y="2482"/>
                    </a:lnTo>
                    <a:lnTo>
                      <a:pt x="826" y="2482"/>
                    </a:lnTo>
                    <a:lnTo>
                      <a:pt x="824" y="2470"/>
                    </a:lnTo>
                    <a:lnTo>
                      <a:pt x="860" y="2452"/>
                    </a:lnTo>
                    <a:lnTo>
                      <a:pt x="872" y="2444"/>
                    </a:lnTo>
                    <a:lnTo>
                      <a:pt x="916" y="2438"/>
                    </a:lnTo>
                    <a:lnTo>
                      <a:pt x="940" y="2440"/>
                    </a:lnTo>
                    <a:lnTo>
                      <a:pt x="966" y="2450"/>
                    </a:lnTo>
                    <a:lnTo>
                      <a:pt x="1008" y="2444"/>
                    </a:lnTo>
                    <a:lnTo>
                      <a:pt x="1028" y="2424"/>
                    </a:lnTo>
                    <a:lnTo>
                      <a:pt x="1040" y="2416"/>
                    </a:lnTo>
                    <a:lnTo>
                      <a:pt x="1016" y="2416"/>
                    </a:lnTo>
                    <a:lnTo>
                      <a:pt x="1012" y="2410"/>
                    </a:lnTo>
                    <a:lnTo>
                      <a:pt x="1040" y="2396"/>
                    </a:lnTo>
                    <a:lnTo>
                      <a:pt x="1032" y="2386"/>
                    </a:lnTo>
                    <a:lnTo>
                      <a:pt x="1038" y="2372"/>
                    </a:lnTo>
                    <a:lnTo>
                      <a:pt x="1048" y="2356"/>
                    </a:lnTo>
                    <a:lnTo>
                      <a:pt x="1066" y="2348"/>
                    </a:lnTo>
                    <a:lnTo>
                      <a:pt x="1086" y="2352"/>
                    </a:lnTo>
                    <a:lnTo>
                      <a:pt x="1092" y="2368"/>
                    </a:lnTo>
                    <a:lnTo>
                      <a:pt x="1116" y="2366"/>
                    </a:lnTo>
                    <a:lnTo>
                      <a:pt x="1106" y="2354"/>
                    </a:lnTo>
                    <a:lnTo>
                      <a:pt x="1140" y="2344"/>
                    </a:lnTo>
                    <a:lnTo>
                      <a:pt x="1136" y="2326"/>
                    </a:lnTo>
                    <a:lnTo>
                      <a:pt x="1098" y="2340"/>
                    </a:lnTo>
                    <a:lnTo>
                      <a:pt x="1078" y="2326"/>
                    </a:lnTo>
                    <a:lnTo>
                      <a:pt x="1092" y="2300"/>
                    </a:lnTo>
                    <a:lnTo>
                      <a:pt x="1118" y="2294"/>
                    </a:lnTo>
                    <a:lnTo>
                      <a:pt x="1116" y="2288"/>
                    </a:lnTo>
                    <a:lnTo>
                      <a:pt x="1118" y="2272"/>
                    </a:lnTo>
                    <a:lnTo>
                      <a:pt x="1142" y="2266"/>
                    </a:lnTo>
                    <a:lnTo>
                      <a:pt x="1144" y="2248"/>
                    </a:lnTo>
                    <a:lnTo>
                      <a:pt x="1178" y="2242"/>
                    </a:lnTo>
                    <a:lnTo>
                      <a:pt x="1176" y="2226"/>
                    </a:lnTo>
                    <a:lnTo>
                      <a:pt x="1188" y="2210"/>
                    </a:lnTo>
                    <a:lnTo>
                      <a:pt x="1132" y="2210"/>
                    </a:lnTo>
                    <a:lnTo>
                      <a:pt x="1126" y="2204"/>
                    </a:lnTo>
                    <a:lnTo>
                      <a:pt x="1102" y="2200"/>
                    </a:lnTo>
                    <a:lnTo>
                      <a:pt x="1084" y="2206"/>
                    </a:lnTo>
                    <a:lnTo>
                      <a:pt x="1004" y="2192"/>
                    </a:lnTo>
                    <a:lnTo>
                      <a:pt x="976" y="2160"/>
                    </a:lnTo>
                    <a:lnTo>
                      <a:pt x="928" y="2144"/>
                    </a:lnTo>
                    <a:lnTo>
                      <a:pt x="886" y="2134"/>
                    </a:lnTo>
                    <a:lnTo>
                      <a:pt x="854" y="2082"/>
                    </a:lnTo>
                    <a:lnTo>
                      <a:pt x="884" y="2066"/>
                    </a:lnTo>
                    <a:lnTo>
                      <a:pt x="914" y="2064"/>
                    </a:lnTo>
                    <a:lnTo>
                      <a:pt x="1016" y="2078"/>
                    </a:lnTo>
                    <a:lnTo>
                      <a:pt x="1046" y="2094"/>
                    </a:lnTo>
                    <a:lnTo>
                      <a:pt x="1100" y="2134"/>
                    </a:lnTo>
                    <a:lnTo>
                      <a:pt x="1140" y="2146"/>
                    </a:lnTo>
                    <a:lnTo>
                      <a:pt x="1186" y="2154"/>
                    </a:lnTo>
                    <a:lnTo>
                      <a:pt x="1198" y="2142"/>
                    </a:lnTo>
                    <a:lnTo>
                      <a:pt x="1196" y="2130"/>
                    </a:lnTo>
                    <a:lnTo>
                      <a:pt x="1158" y="2138"/>
                    </a:lnTo>
                    <a:lnTo>
                      <a:pt x="1148" y="2126"/>
                    </a:lnTo>
                    <a:lnTo>
                      <a:pt x="1150" y="2110"/>
                    </a:lnTo>
                    <a:lnTo>
                      <a:pt x="1174" y="2118"/>
                    </a:lnTo>
                    <a:lnTo>
                      <a:pt x="1174" y="2108"/>
                    </a:lnTo>
                    <a:lnTo>
                      <a:pt x="1194" y="2106"/>
                    </a:lnTo>
                    <a:lnTo>
                      <a:pt x="1198" y="2098"/>
                    </a:lnTo>
                    <a:lnTo>
                      <a:pt x="1176" y="2086"/>
                    </a:lnTo>
                    <a:lnTo>
                      <a:pt x="1210" y="2096"/>
                    </a:lnTo>
                    <a:lnTo>
                      <a:pt x="1206" y="2080"/>
                    </a:lnTo>
                    <a:lnTo>
                      <a:pt x="1192" y="2064"/>
                    </a:lnTo>
                    <a:lnTo>
                      <a:pt x="1144" y="2048"/>
                    </a:lnTo>
                    <a:lnTo>
                      <a:pt x="1126" y="2030"/>
                    </a:lnTo>
                    <a:lnTo>
                      <a:pt x="1168" y="2046"/>
                    </a:lnTo>
                    <a:lnTo>
                      <a:pt x="1176" y="2038"/>
                    </a:lnTo>
                    <a:lnTo>
                      <a:pt x="1168" y="2030"/>
                    </a:lnTo>
                    <a:lnTo>
                      <a:pt x="1182" y="2016"/>
                    </a:lnTo>
                    <a:lnTo>
                      <a:pt x="1104" y="2020"/>
                    </a:lnTo>
                    <a:lnTo>
                      <a:pt x="1170" y="1986"/>
                    </a:lnTo>
                    <a:lnTo>
                      <a:pt x="1076" y="2012"/>
                    </a:lnTo>
                    <a:lnTo>
                      <a:pt x="1100" y="1996"/>
                    </a:lnTo>
                    <a:lnTo>
                      <a:pt x="1118" y="1978"/>
                    </a:lnTo>
                    <a:lnTo>
                      <a:pt x="1158" y="1966"/>
                    </a:lnTo>
                    <a:lnTo>
                      <a:pt x="1096" y="1974"/>
                    </a:lnTo>
                    <a:lnTo>
                      <a:pt x="1054" y="1968"/>
                    </a:lnTo>
                    <a:lnTo>
                      <a:pt x="1080" y="1954"/>
                    </a:lnTo>
                    <a:lnTo>
                      <a:pt x="1148" y="1946"/>
                    </a:lnTo>
                    <a:lnTo>
                      <a:pt x="1178" y="1930"/>
                    </a:lnTo>
                    <a:lnTo>
                      <a:pt x="1108" y="1934"/>
                    </a:lnTo>
                    <a:lnTo>
                      <a:pt x="1092" y="1932"/>
                    </a:lnTo>
                    <a:lnTo>
                      <a:pt x="1094" y="1928"/>
                    </a:lnTo>
                    <a:lnTo>
                      <a:pt x="1064" y="1920"/>
                    </a:lnTo>
                    <a:lnTo>
                      <a:pt x="1074" y="1906"/>
                    </a:lnTo>
                    <a:lnTo>
                      <a:pt x="1098" y="1888"/>
                    </a:lnTo>
                    <a:lnTo>
                      <a:pt x="1064" y="1902"/>
                    </a:lnTo>
                    <a:lnTo>
                      <a:pt x="1054" y="1884"/>
                    </a:lnTo>
                    <a:lnTo>
                      <a:pt x="1052" y="1868"/>
                    </a:lnTo>
                    <a:lnTo>
                      <a:pt x="1034" y="1898"/>
                    </a:lnTo>
                    <a:lnTo>
                      <a:pt x="1000" y="1908"/>
                    </a:lnTo>
                    <a:lnTo>
                      <a:pt x="1000" y="1916"/>
                    </a:lnTo>
                    <a:lnTo>
                      <a:pt x="986" y="1924"/>
                    </a:lnTo>
                    <a:lnTo>
                      <a:pt x="974" y="1916"/>
                    </a:lnTo>
                    <a:lnTo>
                      <a:pt x="962" y="1928"/>
                    </a:lnTo>
                    <a:lnTo>
                      <a:pt x="974" y="1940"/>
                    </a:lnTo>
                    <a:lnTo>
                      <a:pt x="964" y="1956"/>
                    </a:lnTo>
                    <a:lnTo>
                      <a:pt x="906" y="1970"/>
                    </a:lnTo>
                    <a:lnTo>
                      <a:pt x="876" y="1962"/>
                    </a:lnTo>
                    <a:lnTo>
                      <a:pt x="858" y="1946"/>
                    </a:lnTo>
                    <a:lnTo>
                      <a:pt x="834" y="1958"/>
                    </a:lnTo>
                    <a:lnTo>
                      <a:pt x="822" y="1928"/>
                    </a:lnTo>
                    <a:lnTo>
                      <a:pt x="822" y="1914"/>
                    </a:lnTo>
                    <a:lnTo>
                      <a:pt x="846" y="1898"/>
                    </a:lnTo>
                    <a:lnTo>
                      <a:pt x="878" y="1892"/>
                    </a:lnTo>
                    <a:lnTo>
                      <a:pt x="932" y="1868"/>
                    </a:lnTo>
                    <a:lnTo>
                      <a:pt x="890" y="1874"/>
                    </a:lnTo>
                    <a:lnTo>
                      <a:pt x="872" y="1856"/>
                    </a:lnTo>
                    <a:lnTo>
                      <a:pt x="898" y="1850"/>
                    </a:lnTo>
                    <a:lnTo>
                      <a:pt x="930" y="1834"/>
                    </a:lnTo>
                    <a:lnTo>
                      <a:pt x="942" y="1826"/>
                    </a:lnTo>
                    <a:lnTo>
                      <a:pt x="958" y="1812"/>
                    </a:lnTo>
                    <a:lnTo>
                      <a:pt x="972" y="1804"/>
                    </a:lnTo>
                    <a:lnTo>
                      <a:pt x="972" y="1790"/>
                    </a:lnTo>
                    <a:lnTo>
                      <a:pt x="990" y="1786"/>
                    </a:lnTo>
                    <a:lnTo>
                      <a:pt x="994" y="1772"/>
                    </a:lnTo>
                    <a:lnTo>
                      <a:pt x="1000" y="1758"/>
                    </a:lnTo>
                    <a:lnTo>
                      <a:pt x="1008" y="1744"/>
                    </a:lnTo>
                    <a:lnTo>
                      <a:pt x="1020" y="1740"/>
                    </a:lnTo>
                    <a:lnTo>
                      <a:pt x="1032" y="1724"/>
                    </a:lnTo>
                    <a:lnTo>
                      <a:pt x="1026" y="1708"/>
                    </a:lnTo>
                    <a:lnTo>
                      <a:pt x="1000" y="1698"/>
                    </a:lnTo>
                    <a:lnTo>
                      <a:pt x="950" y="1688"/>
                    </a:lnTo>
                    <a:lnTo>
                      <a:pt x="970" y="1682"/>
                    </a:lnTo>
                    <a:lnTo>
                      <a:pt x="984" y="1670"/>
                    </a:lnTo>
                    <a:lnTo>
                      <a:pt x="1004" y="1666"/>
                    </a:lnTo>
                    <a:lnTo>
                      <a:pt x="990" y="1656"/>
                    </a:lnTo>
                    <a:lnTo>
                      <a:pt x="1000" y="1646"/>
                    </a:lnTo>
                    <a:lnTo>
                      <a:pt x="1010" y="1638"/>
                    </a:lnTo>
                    <a:lnTo>
                      <a:pt x="1028" y="1632"/>
                    </a:lnTo>
                    <a:lnTo>
                      <a:pt x="994" y="1640"/>
                    </a:lnTo>
                    <a:lnTo>
                      <a:pt x="980" y="1640"/>
                    </a:lnTo>
                    <a:lnTo>
                      <a:pt x="1000" y="1622"/>
                    </a:lnTo>
                    <a:lnTo>
                      <a:pt x="1002" y="1614"/>
                    </a:lnTo>
                    <a:lnTo>
                      <a:pt x="1002" y="1608"/>
                    </a:lnTo>
                    <a:lnTo>
                      <a:pt x="970" y="1592"/>
                    </a:lnTo>
                    <a:lnTo>
                      <a:pt x="974" y="1584"/>
                    </a:lnTo>
                    <a:lnTo>
                      <a:pt x="982" y="1576"/>
                    </a:lnTo>
                    <a:lnTo>
                      <a:pt x="996" y="1580"/>
                    </a:lnTo>
                    <a:lnTo>
                      <a:pt x="996" y="1574"/>
                    </a:lnTo>
                    <a:lnTo>
                      <a:pt x="1010" y="1556"/>
                    </a:lnTo>
                    <a:lnTo>
                      <a:pt x="988" y="1538"/>
                    </a:lnTo>
                    <a:lnTo>
                      <a:pt x="1008" y="1528"/>
                    </a:lnTo>
                    <a:lnTo>
                      <a:pt x="1002" y="1522"/>
                    </a:lnTo>
                    <a:lnTo>
                      <a:pt x="980" y="1524"/>
                    </a:lnTo>
                    <a:lnTo>
                      <a:pt x="996" y="1502"/>
                    </a:lnTo>
                    <a:lnTo>
                      <a:pt x="1010" y="1488"/>
                    </a:lnTo>
                    <a:lnTo>
                      <a:pt x="1010" y="1484"/>
                    </a:lnTo>
                    <a:lnTo>
                      <a:pt x="978" y="1472"/>
                    </a:lnTo>
                    <a:lnTo>
                      <a:pt x="1014" y="1474"/>
                    </a:lnTo>
                    <a:lnTo>
                      <a:pt x="1016" y="1462"/>
                    </a:lnTo>
                    <a:lnTo>
                      <a:pt x="998" y="1462"/>
                    </a:lnTo>
                    <a:lnTo>
                      <a:pt x="970" y="1458"/>
                    </a:lnTo>
                    <a:lnTo>
                      <a:pt x="1012" y="1452"/>
                    </a:lnTo>
                    <a:lnTo>
                      <a:pt x="1026" y="1450"/>
                    </a:lnTo>
                    <a:lnTo>
                      <a:pt x="998" y="1416"/>
                    </a:lnTo>
                    <a:lnTo>
                      <a:pt x="978" y="1412"/>
                    </a:lnTo>
                    <a:lnTo>
                      <a:pt x="976" y="1402"/>
                    </a:lnTo>
                    <a:lnTo>
                      <a:pt x="986" y="1396"/>
                    </a:lnTo>
                    <a:lnTo>
                      <a:pt x="1002" y="1392"/>
                    </a:lnTo>
                    <a:lnTo>
                      <a:pt x="1002" y="1386"/>
                    </a:lnTo>
                    <a:lnTo>
                      <a:pt x="934" y="1352"/>
                    </a:lnTo>
                    <a:lnTo>
                      <a:pt x="926" y="1340"/>
                    </a:lnTo>
                    <a:lnTo>
                      <a:pt x="932" y="1324"/>
                    </a:lnTo>
                    <a:lnTo>
                      <a:pt x="924" y="1308"/>
                    </a:lnTo>
                    <a:lnTo>
                      <a:pt x="928" y="1304"/>
                    </a:lnTo>
                    <a:lnTo>
                      <a:pt x="930" y="1292"/>
                    </a:lnTo>
                    <a:lnTo>
                      <a:pt x="908" y="1302"/>
                    </a:lnTo>
                    <a:lnTo>
                      <a:pt x="920" y="1292"/>
                    </a:lnTo>
                    <a:lnTo>
                      <a:pt x="944" y="1278"/>
                    </a:lnTo>
                    <a:lnTo>
                      <a:pt x="950" y="1270"/>
                    </a:lnTo>
                    <a:lnTo>
                      <a:pt x="946" y="1268"/>
                    </a:lnTo>
                    <a:lnTo>
                      <a:pt x="950" y="1258"/>
                    </a:lnTo>
                    <a:lnTo>
                      <a:pt x="944" y="1248"/>
                    </a:lnTo>
                    <a:lnTo>
                      <a:pt x="944" y="1238"/>
                    </a:lnTo>
                    <a:lnTo>
                      <a:pt x="916" y="1240"/>
                    </a:lnTo>
                    <a:lnTo>
                      <a:pt x="908" y="1234"/>
                    </a:lnTo>
                    <a:lnTo>
                      <a:pt x="900" y="1232"/>
                    </a:lnTo>
                    <a:lnTo>
                      <a:pt x="900" y="1216"/>
                    </a:lnTo>
                    <a:lnTo>
                      <a:pt x="872" y="1226"/>
                    </a:lnTo>
                    <a:lnTo>
                      <a:pt x="850" y="1226"/>
                    </a:lnTo>
                    <a:lnTo>
                      <a:pt x="866" y="1208"/>
                    </a:lnTo>
                    <a:lnTo>
                      <a:pt x="866" y="1200"/>
                    </a:lnTo>
                    <a:lnTo>
                      <a:pt x="850" y="1202"/>
                    </a:lnTo>
                    <a:lnTo>
                      <a:pt x="828" y="1194"/>
                    </a:lnTo>
                    <a:lnTo>
                      <a:pt x="800" y="1176"/>
                    </a:lnTo>
                    <a:lnTo>
                      <a:pt x="798" y="1176"/>
                    </a:lnTo>
                    <a:lnTo>
                      <a:pt x="788" y="1192"/>
                    </a:lnTo>
                    <a:lnTo>
                      <a:pt x="790" y="1186"/>
                    </a:lnTo>
                    <a:lnTo>
                      <a:pt x="782" y="1182"/>
                    </a:lnTo>
                    <a:lnTo>
                      <a:pt x="780" y="1166"/>
                    </a:lnTo>
                    <a:lnTo>
                      <a:pt x="690" y="1148"/>
                    </a:lnTo>
                    <a:lnTo>
                      <a:pt x="674" y="1146"/>
                    </a:lnTo>
                    <a:lnTo>
                      <a:pt x="662" y="1150"/>
                    </a:lnTo>
                    <a:lnTo>
                      <a:pt x="646" y="1144"/>
                    </a:lnTo>
                    <a:lnTo>
                      <a:pt x="642" y="1130"/>
                    </a:lnTo>
                    <a:lnTo>
                      <a:pt x="614" y="1124"/>
                    </a:lnTo>
                    <a:lnTo>
                      <a:pt x="580" y="1144"/>
                    </a:lnTo>
                    <a:lnTo>
                      <a:pt x="544" y="1154"/>
                    </a:lnTo>
                    <a:lnTo>
                      <a:pt x="534" y="1142"/>
                    </a:lnTo>
                    <a:lnTo>
                      <a:pt x="544" y="1128"/>
                    </a:lnTo>
                    <a:lnTo>
                      <a:pt x="518" y="1132"/>
                    </a:lnTo>
                    <a:lnTo>
                      <a:pt x="494" y="1142"/>
                    </a:lnTo>
                    <a:lnTo>
                      <a:pt x="480" y="1152"/>
                    </a:lnTo>
                    <a:lnTo>
                      <a:pt x="470" y="1148"/>
                    </a:lnTo>
                    <a:lnTo>
                      <a:pt x="446" y="1152"/>
                    </a:lnTo>
                    <a:lnTo>
                      <a:pt x="420" y="1166"/>
                    </a:lnTo>
                    <a:lnTo>
                      <a:pt x="400" y="1172"/>
                    </a:lnTo>
                    <a:lnTo>
                      <a:pt x="382" y="1158"/>
                    </a:lnTo>
                    <a:lnTo>
                      <a:pt x="398" y="1140"/>
                    </a:lnTo>
                    <a:lnTo>
                      <a:pt x="414" y="1130"/>
                    </a:lnTo>
                    <a:lnTo>
                      <a:pt x="374" y="1122"/>
                    </a:lnTo>
                    <a:lnTo>
                      <a:pt x="350" y="1134"/>
                    </a:lnTo>
                    <a:lnTo>
                      <a:pt x="336" y="1150"/>
                    </a:lnTo>
                    <a:lnTo>
                      <a:pt x="320" y="1146"/>
                    </a:lnTo>
                    <a:lnTo>
                      <a:pt x="306" y="1126"/>
                    </a:lnTo>
                    <a:lnTo>
                      <a:pt x="288" y="1126"/>
                    </a:lnTo>
                    <a:lnTo>
                      <a:pt x="254" y="1140"/>
                    </a:lnTo>
                    <a:lnTo>
                      <a:pt x="274" y="1148"/>
                    </a:lnTo>
                    <a:lnTo>
                      <a:pt x="300" y="1188"/>
                    </a:lnTo>
                    <a:lnTo>
                      <a:pt x="264" y="1176"/>
                    </a:lnTo>
                    <a:lnTo>
                      <a:pt x="226" y="1170"/>
                    </a:lnTo>
                    <a:lnTo>
                      <a:pt x="206" y="1162"/>
                    </a:lnTo>
                    <a:lnTo>
                      <a:pt x="162" y="1154"/>
                    </a:lnTo>
                    <a:lnTo>
                      <a:pt x="122" y="1128"/>
                    </a:lnTo>
                    <a:lnTo>
                      <a:pt x="114" y="1114"/>
                    </a:lnTo>
                    <a:lnTo>
                      <a:pt x="98" y="1102"/>
                    </a:lnTo>
                    <a:lnTo>
                      <a:pt x="90" y="1088"/>
                    </a:lnTo>
                    <a:lnTo>
                      <a:pt x="164" y="1064"/>
                    </a:lnTo>
                    <a:lnTo>
                      <a:pt x="196" y="1066"/>
                    </a:lnTo>
                    <a:lnTo>
                      <a:pt x="230" y="1056"/>
                    </a:lnTo>
                    <a:lnTo>
                      <a:pt x="238" y="1048"/>
                    </a:lnTo>
                    <a:lnTo>
                      <a:pt x="194" y="1050"/>
                    </a:lnTo>
                    <a:lnTo>
                      <a:pt x="150" y="1044"/>
                    </a:lnTo>
                    <a:lnTo>
                      <a:pt x="102" y="1030"/>
                    </a:lnTo>
                    <a:lnTo>
                      <a:pt x="104" y="1014"/>
                    </a:lnTo>
                    <a:lnTo>
                      <a:pt x="152" y="990"/>
                    </a:lnTo>
                    <a:lnTo>
                      <a:pt x="144" y="986"/>
                    </a:lnTo>
                    <a:lnTo>
                      <a:pt x="82" y="1020"/>
                    </a:lnTo>
                    <a:lnTo>
                      <a:pt x="50" y="1022"/>
                    </a:lnTo>
                    <a:lnTo>
                      <a:pt x="32" y="1012"/>
                    </a:lnTo>
                    <a:lnTo>
                      <a:pt x="40" y="1004"/>
                    </a:lnTo>
                    <a:lnTo>
                      <a:pt x="40" y="998"/>
                    </a:lnTo>
                    <a:lnTo>
                      <a:pt x="12" y="988"/>
                    </a:lnTo>
                    <a:lnTo>
                      <a:pt x="0" y="988"/>
                    </a:lnTo>
                    <a:lnTo>
                      <a:pt x="16" y="982"/>
                    </a:lnTo>
                    <a:lnTo>
                      <a:pt x="56" y="964"/>
                    </a:lnTo>
                    <a:lnTo>
                      <a:pt x="78" y="962"/>
                    </a:lnTo>
                    <a:lnTo>
                      <a:pt x="80" y="956"/>
                    </a:lnTo>
                    <a:lnTo>
                      <a:pt x="130" y="950"/>
                    </a:lnTo>
                    <a:lnTo>
                      <a:pt x="212" y="956"/>
                    </a:lnTo>
                    <a:lnTo>
                      <a:pt x="290" y="968"/>
                    </a:lnTo>
                    <a:lnTo>
                      <a:pt x="340" y="964"/>
                    </a:lnTo>
                    <a:lnTo>
                      <a:pt x="420" y="978"/>
                    </a:lnTo>
                    <a:lnTo>
                      <a:pt x="436" y="984"/>
                    </a:lnTo>
                    <a:lnTo>
                      <a:pt x="452" y="984"/>
                    </a:lnTo>
                    <a:lnTo>
                      <a:pt x="462" y="976"/>
                    </a:lnTo>
                    <a:lnTo>
                      <a:pt x="492" y="974"/>
                    </a:lnTo>
                    <a:lnTo>
                      <a:pt x="504" y="968"/>
                    </a:lnTo>
                    <a:lnTo>
                      <a:pt x="510" y="964"/>
                    </a:lnTo>
                    <a:lnTo>
                      <a:pt x="508" y="960"/>
                    </a:lnTo>
                    <a:lnTo>
                      <a:pt x="468" y="948"/>
                    </a:lnTo>
                    <a:lnTo>
                      <a:pt x="466" y="940"/>
                    </a:lnTo>
                    <a:lnTo>
                      <a:pt x="466" y="932"/>
                    </a:lnTo>
                    <a:lnTo>
                      <a:pt x="484" y="926"/>
                    </a:lnTo>
                    <a:lnTo>
                      <a:pt x="508" y="930"/>
                    </a:lnTo>
                    <a:lnTo>
                      <a:pt x="524" y="924"/>
                    </a:lnTo>
                    <a:lnTo>
                      <a:pt x="538" y="912"/>
                    </a:lnTo>
                    <a:lnTo>
                      <a:pt x="524" y="906"/>
                    </a:lnTo>
                    <a:lnTo>
                      <a:pt x="528" y="896"/>
                    </a:lnTo>
                    <a:lnTo>
                      <a:pt x="524" y="890"/>
                    </a:lnTo>
                    <a:lnTo>
                      <a:pt x="502" y="892"/>
                    </a:lnTo>
                    <a:lnTo>
                      <a:pt x="486" y="898"/>
                    </a:lnTo>
                    <a:lnTo>
                      <a:pt x="474" y="900"/>
                    </a:lnTo>
                    <a:lnTo>
                      <a:pt x="468" y="894"/>
                    </a:lnTo>
                    <a:lnTo>
                      <a:pt x="494" y="890"/>
                    </a:lnTo>
                    <a:lnTo>
                      <a:pt x="502" y="882"/>
                    </a:lnTo>
                    <a:lnTo>
                      <a:pt x="486" y="884"/>
                    </a:lnTo>
                    <a:lnTo>
                      <a:pt x="454" y="892"/>
                    </a:lnTo>
                    <a:lnTo>
                      <a:pt x="422" y="906"/>
                    </a:lnTo>
                    <a:lnTo>
                      <a:pt x="380" y="908"/>
                    </a:lnTo>
                    <a:lnTo>
                      <a:pt x="334" y="906"/>
                    </a:lnTo>
                    <a:lnTo>
                      <a:pt x="334" y="896"/>
                    </a:lnTo>
                    <a:lnTo>
                      <a:pt x="322" y="884"/>
                    </a:lnTo>
                    <a:lnTo>
                      <a:pt x="306" y="884"/>
                    </a:lnTo>
                    <a:lnTo>
                      <a:pt x="308" y="900"/>
                    </a:lnTo>
                    <a:lnTo>
                      <a:pt x="298" y="908"/>
                    </a:lnTo>
                    <a:lnTo>
                      <a:pt x="260" y="914"/>
                    </a:lnTo>
                    <a:lnTo>
                      <a:pt x="236" y="912"/>
                    </a:lnTo>
                    <a:lnTo>
                      <a:pt x="186" y="898"/>
                    </a:lnTo>
                    <a:lnTo>
                      <a:pt x="186" y="888"/>
                    </a:lnTo>
                    <a:lnTo>
                      <a:pt x="236" y="878"/>
                    </a:lnTo>
                    <a:lnTo>
                      <a:pt x="240" y="872"/>
                    </a:lnTo>
                    <a:lnTo>
                      <a:pt x="206" y="878"/>
                    </a:lnTo>
                    <a:lnTo>
                      <a:pt x="158" y="876"/>
                    </a:lnTo>
                    <a:lnTo>
                      <a:pt x="176" y="864"/>
                    </a:lnTo>
                    <a:lnTo>
                      <a:pt x="218" y="850"/>
                    </a:lnTo>
                    <a:lnTo>
                      <a:pt x="152" y="856"/>
                    </a:lnTo>
                    <a:lnTo>
                      <a:pt x="118" y="856"/>
                    </a:lnTo>
                    <a:lnTo>
                      <a:pt x="116" y="848"/>
                    </a:lnTo>
                    <a:lnTo>
                      <a:pt x="128" y="842"/>
                    </a:lnTo>
                    <a:lnTo>
                      <a:pt x="106" y="840"/>
                    </a:lnTo>
                    <a:lnTo>
                      <a:pt x="94" y="834"/>
                    </a:lnTo>
                    <a:lnTo>
                      <a:pt x="82" y="834"/>
                    </a:lnTo>
                    <a:lnTo>
                      <a:pt x="60" y="828"/>
                    </a:lnTo>
                    <a:lnTo>
                      <a:pt x="58" y="824"/>
                    </a:lnTo>
                    <a:lnTo>
                      <a:pt x="64" y="816"/>
                    </a:lnTo>
                    <a:lnTo>
                      <a:pt x="64" y="808"/>
                    </a:lnTo>
                    <a:lnTo>
                      <a:pt x="46" y="804"/>
                    </a:lnTo>
                    <a:lnTo>
                      <a:pt x="32" y="794"/>
                    </a:lnTo>
                    <a:lnTo>
                      <a:pt x="30" y="788"/>
                    </a:lnTo>
                    <a:lnTo>
                      <a:pt x="46" y="786"/>
                    </a:lnTo>
                    <a:lnTo>
                      <a:pt x="60" y="776"/>
                    </a:lnTo>
                    <a:lnTo>
                      <a:pt x="62" y="772"/>
                    </a:lnTo>
                    <a:lnTo>
                      <a:pt x="82" y="770"/>
                    </a:lnTo>
                    <a:lnTo>
                      <a:pt x="58" y="766"/>
                    </a:lnTo>
                    <a:lnTo>
                      <a:pt x="60" y="760"/>
                    </a:lnTo>
                    <a:lnTo>
                      <a:pt x="84" y="750"/>
                    </a:lnTo>
                    <a:lnTo>
                      <a:pt x="86" y="746"/>
                    </a:lnTo>
                    <a:lnTo>
                      <a:pt x="98" y="738"/>
                    </a:lnTo>
                    <a:lnTo>
                      <a:pt x="122" y="732"/>
                    </a:lnTo>
                    <a:lnTo>
                      <a:pt x="162" y="728"/>
                    </a:lnTo>
                    <a:lnTo>
                      <a:pt x="182" y="722"/>
                    </a:lnTo>
                    <a:lnTo>
                      <a:pt x="216" y="718"/>
                    </a:lnTo>
                    <a:lnTo>
                      <a:pt x="238" y="726"/>
                    </a:lnTo>
                    <a:lnTo>
                      <a:pt x="266" y="708"/>
                    </a:lnTo>
                    <a:lnTo>
                      <a:pt x="308" y="704"/>
                    </a:lnTo>
                    <a:lnTo>
                      <a:pt x="332" y="698"/>
                    </a:lnTo>
                    <a:lnTo>
                      <a:pt x="376" y="698"/>
                    </a:lnTo>
                    <a:lnTo>
                      <a:pt x="386" y="696"/>
                    </a:lnTo>
                    <a:lnTo>
                      <a:pt x="394" y="690"/>
                    </a:lnTo>
                    <a:lnTo>
                      <a:pt x="408" y="690"/>
                    </a:lnTo>
                    <a:lnTo>
                      <a:pt x="428" y="694"/>
                    </a:lnTo>
                    <a:lnTo>
                      <a:pt x="436" y="686"/>
                    </a:lnTo>
                    <a:lnTo>
                      <a:pt x="416" y="682"/>
                    </a:lnTo>
                    <a:lnTo>
                      <a:pt x="412" y="676"/>
                    </a:lnTo>
                    <a:lnTo>
                      <a:pt x="428" y="672"/>
                    </a:lnTo>
                    <a:lnTo>
                      <a:pt x="474" y="662"/>
                    </a:lnTo>
                    <a:lnTo>
                      <a:pt x="524" y="660"/>
                    </a:lnTo>
                    <a:lnTo>
                      <a:pt x="538" y="664"/>
                    </a:lnTo>
                    <a:lnTo>
                      <a:pt x="544" y="658"/>
                    </a:lnTo>
                    <a:lnTo>
                      <a:pt x="602" y="652"/>
                    </a:lnTo>
                    <a:lnTo>
                      <a:pt x="608" y="664"/>
                    </a:lnTo>
                    <a:lnTo>
                      <a:pt x="630" y="660"/>
                    </a:lnTo>
                    <a:lnTo>
                      <a:pt x="652" y="666"/>
                    </a:lnTo>
                    <a:lnTo>
                      <a:pt x="670" y="666"/>
                    </a:lnTo>
                    <a:lnTo>
                      <a:pt x="674" y="670"/>
                    </a:lnTo>
                    <a:lnTo>
                      <a:pt x="690" y="666"/>
                    </a:lnTo>
                    <a:lnTo>
                      <a:pt x="706" y="656"/>
                    </a:lnTo>
                    <a:lnTo>
                      <a:pt x="756" y="634"/>
                    </a:lnTo>
                    <a:lnTo>
                      <a:pt x="776" y="630"/>
                    </a:lnTo>
                    <a:lnTo>
                      <a:pt x="794" y="618"/>
                    </a:lnTo>
                    <a:lnTo>
                      <a:pt x="832" y="606"/>
                    </a:lnTo>
                    <a:lnTo>
                      <a:pt x="834" y="600"/>
                    </a:lnTo>
                    <a:lnTo>
                      <a:pt x="840" y="592"/>
                    </a:lnTo>
                    <a:lnTo>
                      <a:pt x="840" y="584"/>
                    </a:lnTo>
                    <a:lnTo>
                      <a:pt x="834" y="576"/>
                    </a:lnTo>
                    <a:lnTo>
                      <a:pt x="824" y="570"/>
                    </a:lnTo>
                    <a:lnTo>
                      <a:pt x="846" y="554"/>
                    </a:lnTo>
                    <a:lnTo>
                      <a:pt x="866" y="558"/>
                    </a:lnTo>
                    <a:lnTo>
                      <a:pt x="888" y="558"/>
                    </a:lnTo>
                    <a:lnTo>
                      <a:pt x="906" y="550"/>
                    </a:lnTo>
                    <a:lnTo>
                      <a:pt x="898" y="538"/>
                    </a:lnTo>
                    <a:lnTo>
                      <a:pt x="880" y="538"/>
                    </a:lnTo>
                    <a:lnTo>
                      <a:pt x="866" y="532"/>
                    </a:lnTo>
                    <a:lnTo>
                      <a:pt x="928" y="518"/>
                    </a:lnTo>
                    <a:lnTo>
                      <a:pt x="950" y="508"/>
                    </a:lnTo>
                    <a:lnTo>
                      <a:pt x="970" y="510"/>
                    </a:lnTo>
                    <a:lnTo>
                      <a:pt x="990" y="508"/>
                    </a:lnTo>
                    <a:lnTo>
                      <a:pt x="970" y="504"/>
                    </a:lnTo>
                    <a:lnTo>
                      <a:pt x="964" y="498"/>
                    </a:lnTo>
                    <a:lnTo>
                      <a:pt x="968" y="490"/>
                    </a:lnTo>
                    <a:lnTo>
                      <a:pt x="976" y="486"/>
                    </a:lnTo>
                    <a:lnTo>
                      <a:pt x="968" y="484"/>
                    </a:lnTo>
                    <a:lnTo>
                      <a:pt x="948" y="500"/>
                    </a:lnTo>
                    <a:lnTo>
                      <a:pt x="932" y="508"/>
                    </a:lnTo>
                    <a:lnTo>
                      <a:pt x="916" y="512"/>
                    </a:lnTo>
                    <a:lnTo>
                      <a:pt x="874" y="516"/>
                    </a:lnTo>
                    <a:lnTo>
                      <a:pt x="862" y="514"/>
                    </a:lnTo>
                    <a:lnTo>
                      <a:pt x="858" y="510"/>
                    </a:lnTo>
                    <a:lnTo>
                      <a:pt x="842" y="518"/>
                    </a:lnTo>
                    <a:lnTo>
                      <a:pt x="796" y="528"/>
                    </a:lnTo>
                    <a:lnTo>
                      <a:pt x="774" y="506"/>
                    </a:lnTo>
                    <a:lnTo>
                      <a:pt x="722" y="512"/>
                    </a:lnTo>
                    <a:lnTo>
                      <a:pt x="714" y="508"/>
                    </a:lnTo>
                    <a:lnTo>
                      <a:pt x="710" y="500"/>
                    </a:lnTo>
                    <a:lnTo>
                      <a:pt x="698" y="496"/>
                    </a:lnTo>
                    <a:lnTo>
                      <a:pt x="692" y="492"/>
                    </a:lnTo>
                    <a:lnTo>
                      <a:pt x="696" y="482"/>
                    </a:lnTo>
                    <a:lnTo>
                      <a:pt x="700" y="480"/>
                    </a:lnTo>
                    <a:lnTo>
                      <a:pt x="706" y="472"/>
                    </a:lnTo>
                    <a:lnTo>
                      <a:pt x="706" y="466"/>
                    </a:lnTo>
                    <a:lnTo>
                      <a:pt x="712" y="462"/>
                    </a:lnTo>
                    <a:lnTo>
                      <a:pt x="776" y="452"/>
                    </a:lnTo>
                    <a:lnTo>
                      <a:pt x="804" y="440"/>
                    </a:lnTo>
                    <a:lnTo>
                      <a:pt x="802" y="432"/>
                    </a:lnTo>
                    <a:lnTo>
                      <a:pt x="814" y="428"/>
                    </a:lnTo>
                    <a:lnTo>
                      <a:pt x="828" y="428"/>
                    </a:lnTo>
                    <a:lnTo>
                      <a:pt x="874" y="418"/>
                    </a:lnTo>
                    <a:lnTo>
                      <a:pt x="890" y="418"/>
                    </a:lnTo>
                    <a:lnTo>
                      <a:pt x="910" y="428"/>
                    </a:lnTo>
                    <a:lnTo>
                      <a:pt x="918" y="422"/>
                    </a:lnTo>
                    <a:lnTo>
                      <a:pt x="906" y="418"/>
                    </a:lnTo>
                    <a:lnTo>
                      <a:pt x="902" y="412"/>
                    </a:lnTo>
                    <a:lnTo>
                      <a:pt x="910" y="406"/>
                    </a:lnTo>
                    <a:lnTo>
                      <a:pt x="962" y="394"/>
                    </a:lnTo>
                    <a:lnTo>
                      <a:pt x="966" y="388"/>
                    </a:lnTo>
                    <a:lnTo>
                      <a:pt x="982" y="384"/>
                    </a:lnTo>
                    <a:lnTo>
                      <a:pt x="996" y="378"/>
                    </a:lnTo>
                    <a:lnTo>
                      <a:pt x="996" y="370"/>
                    </a:lnTo>
                    <a:lnTo>
                      <a:pt x="1012" y="366"/>
                    </a:lnTo>
                    <a:lnTo>
                      <a:pt x="1034" y="362"/>
                    </a:lnTo>
                    <a:lnTo>
                      <a:pt x="1048" y="358"/>
                    </a:lnTo>
                    <a:lnTo>
                      <a:pt x="1062" y="350"/>
                    </a:lnTo>
                    <a:lnTo>
                      <a:pt x="1076" y="344"/>
                    </a:lnTo>
                    <a:lnTo>
                      <a:pt x="1094" y="344"/>
                    </a:lnTo>
                    <a:lnTo>
                      <a:pt x="1128" y="334"/>
                    </a:lnTo>
                    <a:lnTo>
                      <a:pt x="1144" y="336"/>
                    </a:lnTo>
                    <a:lnTo>
                      <a:pt x="1196" y="344"/>
                    </a:lnTo>
                    <a:lnTo>
                      <a:pt x="1200" y="352"/>
                    </a:lnTo>
                    <a:lnTo>
                      <a:pt x="1226" y="360"/>
                    </a:lnTo>
                    <a:lnTo>
                      <a:pt x="1276" y="348"/>
                    </a:lnTo>
                    <a:lnTo>
                      <a:pt x="1280" y="342"/>
                    </a:lnTo>
                    <a:lnTo>
                      <a:pt x="1278" y="326"/>
                    </a:lnTo>
                    <a:lnTo>
                      <a:pt x="1280" y="324"/>
                    </a:lnTo>
                    <a:lnTo>
                      <a:pt x="1284" y="314"/>
                    </a:lnTo>
                    <a:lnTo>
                      <a:pt x="1304" y="308"/>
                    </a:lnTo>
                    <a:lnTo>
                      <a:pt x="1322" y="300"/>
                    </a:lnTo>
                    <a:lnTo>
                      <a:pt x="1332" y="292"/>
                    </a:lnTo>
                    <a:lnTo>
                      <a:pt x="1320" y="288"/>
                    </a:lnTo>
                    <a:lnTo>
                      <a:pt x="1316" y="284"/>
                    </a:lnTo>
                    <a:lnTo>
                      <a:pt x="1318" y="280"/>
                    </a:lnTo>
                    <a:lnTo>
                      <a:pt x="1316" y="272"/>
                    </a:lnTo>
                    <a:lnTo>
                      <a:pt x="1308" y="270"/>
                    </a:lnTo>
                    <a:lnTo>
                      <a:pt x="1308" y="262"/>
                    </a:lnTo>
                    <a:lnTo>
                      <a:pt x="1314" y="256"/>
                    </a:lnTo>
                    <a:lnTo>
                      <a:pt x="1324" y="248"/>
                    </a:lnTo>
                    <a:lnTo>
                      <a:pt x="1338" y="242"/>
                    </a:lnTo>
                    <a:lnTo>
                      <a:pt x="1422" y="228"/>
                    </a:lnTo>
                    <a:lnTo>
                      <a:pt x="1500" y="242"/>
                    </a:lnTo>
                    <a:lnTo>
                      <a:pt x="1510" y="252"/>
                    </a:lnTo>
                    <a:lnTo>
                      <a:pt x="1504" y="264"/>
                    </a:lnTo>
                    <a:lnTo>
                      <a:pt x="1504" y="272"/>
                    </a:lnTo>
                    <a:lnTo>
                      <a:pt x="1514" y="280"/>
                    </a:lnTo>
                    <a:lnTo>
                      <a:pt x="1540" y="288"/>
                    </a:lnTo>
                    <a:lnTo>
                      <a:pt x="1572" y="296"/>
                    </a:lnTo>
                    <a:lnTo>
                      <a:pt x="1594" y="310"/>
                    </a:lnTo>
                    <a:lnTo>
                      <a:pt x="1590" y="316"/>
                    </a:lnTo>
                    <a:lnTo>
                      <a:pt x="1598" y="320"/>
                    </a:lnTo>
                    <a:lnTo>
                      <a:pt x="1608" y="314"/>
                    </a:lnTo>
                    <a:lnTo>
                      <a:pt x="1606" y="308"/>
                    </a:lnTo>
                    <a:lnTo>
                      <a:pt x="1608" y="296"/>
                    </a:lnTo>
                    <a:lnTo>
                      <a:pt x="1564" y="282"/>
                    </a:lnTo>
                    <a:lnTo>
                      <a:pt x="1564" y="274"/>
                    </a:lnTo>
                    <a:lnTo>
                      <a:pt x="1550" y="276"/>
                    </a:lnTo>
                    <a:lnTo>
                      <a:pt x="1544" y="248"/>
                    </a:lnTo>
                    <a:lnTo>
                      <a:pt x="1536" y="240"/>
                    </a:lnTo>
                    <a:lnTo>
                      <a:pt x="1524" y="232"/>
                    </a:lnTo>
                    <a:lnTo>
                      <a:pt x="1510" y="230"/>
                    </a:lnTo>
                    <a:lnTo>
                      <a:pt x="1484" y="220"/>
                    </a:lnTo>
                    <a:lnTo>
                      <a:pt x="1500" y="216"/>
                    </a:lnTo>
                    <a:lnTo>
                      <a:pt x="1538" y="208"/>
                    </a:lnTo>
                    <a:lnTo>
                      <a:pt x="1576" y="204"/>
                    </a:lnTo>
                    <a:lnTo>
                      <a:pt x="1674" y="198"/>
                    </a:lnTo>
                    <a:lnTo>
                      <a:pt x="1720" y="190"/>
                    </a:lnTo>
                    <a:lnTo>
                      <a:pt x="1732" y="192"/>
                    </a:lnTo>
                    <a:lnTo>
                      <a:pt x="1730" y="196"/>
                    </a:lnTo>
                    <a:lnTo>
                      <a:pt x="1742" y="192"/>
                    </a:lnTo>
                    <a:lnTo>
                      <a:pt x="1752" y="186"/>
                    </a:lnTo>
                    <a:lnTo>
                      <a:pt x="1780" y="184"/>
                    </a:lnTo>
                    <a:lnTo>
                      <a:pt x="1798" y="188"/>
                    </a:lnTo>
                    <a:lnTo>
                      <a:pt x="1800" y="182"/>
                    </a:lnTo>
                    <a:lnTo>
                      <a:pt x="1866" y="170"/>
                    </a:lnTo>
                    <a:lnTo>
                      <a:pt x="1886" y="172"/>
                    </a:lnTo>
                    <a:lnTo>
                      <a:pt x="1898" y="174"/>
                    </a:lnTo>
                    <a:lnTo>
                      <a:pt x="1902" y="186"/>
                    </a:lnTo>
                    <a:lnTo>
                      <a:pt x="1908" y="190"/>
                    </a:lnTo>
                    <a:lnTo>
                      <a:pt x="1924" y="210"/>
                    </a:lnTo>
                    <a:lnTo>
                      <a:pt x="1920" y="234"/>
                    </a:lnTo>
                    <a:lnTo>
                      <a:pt x="1926" y="242"/>
                    </a:lnTo>
                    <a:lnTo>
                      <a:pt x="1922" y="250"/>
                    </a:lnTo>
                    <a:lnTo>
                      <a:pt x="1912" y="260"/>
                    </a:lnTo>
                    <a:lnTo>
                      <a:pt x="1882" y="288"/>
                    </a:lnTo>
                    <a:lnTo>
                      <a:pt x="1876" y="296"/>
                    </a:lnTo>
                    <a:lnTo>
                      <a:pt x="1874" y="306"/>
                    </a:lnTo>
                    <a:lnTo>
                      <a:pt x="1884" y="306"/>
                    </a:lnTo>
                    <a:lnTo>
                      <a:pt x="1902" y="300"/>
                    </a:lnTo>
                    <a:lnTo>
                      <a:pt x="1910" y="280"/>
                    </a:lnTo>
                    <a:lnTo>
                      <a:pt x="1936" y="272"/>
                    </a:lnTo>
                    <a:lnTo>
                      <a:pt x="1956" y="260"/>
                    </a:lnTo>
                    <a:lnTo>
                      <a:pt x="1966" y="250"/>
                    </a:lnTo>
                    <a:lnTo>
                      <a:pt x="1972" y="232"/>
                    </a:lnTo>
                    <a:lnTo>
                      <a:pt x="2030" y="246"/>
                    </a:lnTo>
                    <a:lnTo>
                      <a:pt x="2066" y="250"/>
                    </a:lnTo>
                    <a:lnTo>
                      <a:pt x="2112" y="274"/>
                    </a:lnTo>
                    <a:lnTo>
                      <a:pt x="2160" y="288"/>
                    </a:lnTo>
                    <a:lnTo>
                      <a:pt x="2158" y="282"/>
                    </a:lnTo>
                    <a:lnTo>
                      <a:pt x="2132" y="270"/>
                    </a:lnTo>
                    <a:lnTo>
                      <a:pt x="2104" y="248"/>
                    </a:lnTo>
                    <a:lnTo>
                      <a:pt x="2160" y="254"/>
                    </a:lnTo>
                    <a:lnTo>
                      <a:pt x="2174" y="260"/>
                    </a:lnTo>
                    <a:lnTo>
                      <a:pt x="2190" y="260"/>
                    </a:lnTo>
                    <a:lnTo>
                      <a:pt x="2210" y="256"/>
                    </a:lnTo>
                    <a:lnTo>
                      <a:pt x="2210" y="248"/>
                    </a:lnTo>
                    <a:lnTo>
                      <a:pt x="2182" y="240"/>
                    </a:lnTo>
                    <a:lnTo>
                      <a:pt x="2174" y="230"/>
                    </a:lnTo>
                    <a:lnTo>
                      <a:pt x="2170" y="222"/>
                    </a:lnTo>
                    <a:lnTo>
                      <a:pt x="2146" y="202"/>
                    </a:lnTo>
                    <a:lnTo>
                      <a:pt x="2148" y="194"/>
                    </a:lnTo>
                    <a:lnTo>
                      <a:pt x="2154" y="180"/>
                    </a:lnTo>
                    <a:lnTo>
                      <a:pt x="2156" y="174"/>
                    </a:lnTo>
                    <a:lnTo>
                      <a:pt x="2144" y="156"/>
                    </a:lnTo>
                    <a:lnTo>
                      <a:pt x="2152" y="152"/>
                    </a:lnTo>
                    <a:lnTo>
                      <a:pt x="2204" y="152"/>
                    </a:lnTo>
                    <a:lnTo>
                      <a:pt x="2272" y="158"/>
                    </a:lnTo>
                    <a:lnTo>
                      <a:pt x="2288" y="162"/>
                    </a:lnTo>
                    <a:lnTo>
                      <a:pt x="2302" y="170"/>
                    </a:lnTo>
                    <a:lnTo>
                      <a:pt x="2302" y="180"/>
                    </a:lnTo>
                    <a:lnTo>
                      <a:pt x="2350" y="194"/>
                    </a:lnTo>
                    <a:lnTo>
                      <a:pt x="2372" y="204"/>
                    </a:lnTo>
                    <a:lnTo>
                      <a:pt x="2368" y="216"/>
                    </a:lnTo>
                    <a:lnTo>
                      <a:pt x="2444" y="228"/>
                    </a:lnTo>
                    <a:lnTo>
                      <a:pt x="2468" y="238"/>
                    </a:lnTo>
                    <a:lnTo>
                      <a:pt x="2476" y="248"/>
                    </a:lnTo>
                    <a:lnTo>
                      <a:pt x="2476" y="254"/>
                    </a:lnTo>
                    <a:lnTo>
                      <a:pt x="2500" y="268"/>
                    </a:lnTo>
                    <a:lnTo>
                      <a:pt x="2536" y="284"/>
                    </a:lnTo>
                    <a:lnTo>
                      <a:pt x="2558" y="290"/>
                    </a:lnTo>
                    <a:lnTo>
                      <a:pt x="2564" y="284"/>
                    </a:lnTo>
                    <a:lnTo>
                      <a:pt x="2590" y="282"/>
                    </a:lnTo>
                    <a:lnTo>
                      <a:pt x="2594" y="274"/>
                    </a:lnTo>
                    <a:lnTo>
                      <a:pt x="2566" y="262"/>
                    </a:lnTo>
                    <a:lnTo>
                      <a:pt x="2554" y="246"/>
                    </a:lnTo>
                    <a:lnTo>
                      <a:pt x="2588" y="236"/>
                    </a:lnTo>
                    <a:lnTo>
                      <a:pt x="2620" y="236"/>
                    </a:lnTo>
                    <a:lnTo>
                      <a:pt x="2654" y="242"/>
                    </a:lnTo>
                    <a:lnTo>
                      <a:pt x="2608" y="230"/>
                    </a:lnTo>
                    <a:lnTo>
                      <a:pt x="2588" y="230"/>
                    </a:lnTo>
                    <a:lnTo>
                      <a:pt x="2580" y="226"/>
                    </a:lnTo>
                    <a:lnTo>
                      <a:pt x="2576" y="220"/>
                    </a:lnTo>
                    <a:lnTo>
                      <a:pt x="2604" y="204"/>
                    </a:lnTo>
                    <a:lnTo>
                      <a:pt x="2624" y="198"/>
                    </a:lnTo>
                    <a:lnTo>
                      <a:pt x="2656" y="200"/>
                    </a:lnTo>
                    <a:lnTo>
                      <a:pt x="2714" y="212"/>
                    </a:lnTo>
                    <a:lnTo>
                      <a:pt x="2730" y="218"/>
                    </a:lnTo>
                    <a:lnTo>
                      <a:pt x="2750" y="216"/>
                    </a:lnTo>
                    <a:lnTo>
                      <a:pt x="2746" y="212"/>
                    </a:lnTo>
                    <a:lnTo>
                      <a:pt x="2728" y="208"/>
                    </a:lnTo>
                    <a:lnTo>
                      <a:pt x="2688" y="204"/>
                    </a:lnTo>
                    <a:lnTo>
                      <a:pt x="2660" y="194"/>
                    </a:lnTo>
                    <a:lnTo>
                      <a:pt x="2672" y="186"/>
                    </a:lnTo>
                    <a:lnTo>
                      <a:pt x="2632" y="170"/>
                    </a:lnTo>
                    <a:lnTo>
                      <a:pt x="2614" y="152"/>
                    </a:lnTo>
                    <a:lnTo>
                      <a:pt x="2602" y="150"/>
                    </a:lnTo>
                    <a:lnTo>
                      <a:pt x="2596" y="142"/>
                    </a:lnTo>
                    <a:lnTo>
                      <a:pt x="2578" y="136"/>
                    </a:lnTo>
                    <a:lnTo>
                      <a:pt x="2564" y="126"/>
                    </a:lnTo>
                    <a:lnTo>
                      <a:pt x="2570" y="120"/>
                    </a:lnTo>
                    <a:lnTo>
                      <a:pt x="2796" y="126"/>
                    </a:lnTo>
                    <a:lnTo>
                      <a:pt x="2812" y="132"/>
                    </a:lnTo>
                    <a:lnTo>
                      <a:pt x="2824" y="142"/>
                    </a:lnTo>
                    <a:lnTo>
                      <a:pt x="2814" y="164"/>
                    </a:lnTo>
                    <a:lnTo>
                      <a:pt x="2812" y="176"/>
                    </a:lnTo>
                    <a:lnTo>
                      <a:pt x="2824" y="174"/>
                    </a:lnTo>
                    <a:lnTo>
                      <a:pt x="2828" y="170"/>
                    </a:lnTo>
                    <a:lnTo>
                      <a:pt x="2832" y="156"/>
                    </a:lnTo>
                    <a:lnTo>
                      <a:pt x="2832" y="150"/>
                    </a:lnTo>
                    <a:lnTo>
                      <a:pt x="2836" y="140"/>
                    </a:lnTo>
                    <a:lnTo>
                      <a:pt x="2832" y="134"/>
                    </a:lnTo>
                    <a:lnTo>
                      <a:pt x="2842" y="130"/>
                    </a:lnTo>
                    <a:lnTo>
                      <a:pt x="2864" y="134"/>
                    </a:lnTo>
                    <a:lnTo>
                      <a:pt x="2894" y="148"/>
                    </a:lnTo>
                    <a:lnTo>
                      <a:pt x="2912" y="162"/>
                    </a:lnTo>
                    <a:lnTo>
                      <a:pt x="2930" y="166"/>
                    </a:lnTo>
                    <a:lnTo>
                      <a:pt x="2940" y="176"/>
                    </a:lnTo>
                    <a:lnTo>
                      <a:pt x="2940" y="184"/>
                    </a:lnTo>
                    <a:lnTo>
                      <a:pt x="2952" y="190"/>
                    </a:lnTo>
                    <a:lnTo>
                      <a:pt x="2954" y="184"/>
                    </a:lnTo>
                    <a:lnTo>
                      <a:pt x="2964" y="176"/>
                    </a:lnTo>
                    <a:lnTo>
                      <a:pt x="2952" y="166"/>
                    </a:lnTo>
                    <a:lnTo>
                      <a:pt x="2964" y="160"/>
                    </a:lnTo>
                    <a:lnTo>
                      <a:pt x="2964" y="154"/>
                    </a:lnTo>
                    <a:lnTo>
                      <a:pt x="2968" y="148"/>
                    </a:lnTo>
                    <a:lnTo>
                      <a:pt x="2930" y="138"/>
                    </a:lnTo>
                    <a:lnTo>
                      <a:pt x="2912" y="136"/>
                    </a:lnTo>
                    <a:lnTo>
                      <a:pt x="2892" y="126"/>
                    </a:lnTo>
                    <a:lnTo>
                      <a:pt x="2806" y="112"/>
                    </a:lnTo>
                    <a:lnTo>
                      <a:pt x="2652" y="110"/>
                    </a:lnTo>
                    <a:lnTo>
                      <a:pt x="2636" y="104"/>
                    </a:lnTo>
                    <a:lnTo>
                      <a:pt x="2630" y="98"/>
                    </a:lnTo>
                    <a:lnTo>
                      <a:pt x="2642" y="92"/>
                    </a:lnTo>
                    <a:lnTo>
                      <a:pt x="2690" y="102"/>
                    </a:lnTo>
                    <a:lnTo>
                      <a:pt x="2742" y="102"/>
                    </a:lnTo>
                    <a:lnTo>
                      <a:pt x="2734" y="98"/>
                    </a:lnTo>
                    <a:lnTo>
                      <a:pt x="2686" y="98"/>
                    </a:lnTo>
                    <a:lnTo>
                      <a:pt x="2614" y="80"/>
                    </a:lnTo>
                    <a:lnTo>
                      <a:pt x="2622" y="76"/>
                    </a:lnTo>
                    <a:lnTo>
                      <a:pt x="2602" y="74"/>
                    </a:lnTo>
                    <a:lnTo>
                      <a:pt x="2600" y="66"/>
                    </a:lnTo>
                    <a:lnTo>
                      <a:pt x="2614" y="60"/>
                    </a:lnTo>
                    <a:lnTo>
                      <a:pt x="2618" y="64"/>
                    </a:lnTo>
                    <a:lnTo>
                      <a:pt x="2640" y="60"/>
                    </a:lnTo>
                    <a:lnTo>
                      <a:pt x="2642" y="64"/>
                    </a:lnTo>
                    <a:lnTo>
                      <a:pt x="2660" y="72"/>
                    </a:lnTo>
                    <a:lnTo>
                      <a:pt x="2658" y="62"/>
                    </a:lnTo>
                    <a:lnTo>
                      <a:pt x="2668" y="58"/>
                    </a:lnTo>
                    <a:lnTo>
                      <a:pt x="2690" y="60"/>
                    </a:lnTo>
                    <a:lnTo>
                      <a:pt x="2726" y="66"/>
                    </a:lnTo>
                    <a:lnTo>
                      <a:pt x="2736" y="74"/>
                    </a:lnTo>
                    <a:lnTo>
                      <a:pt x="2746" y="72"/>
                    </a:lnTo>
                    <a:lnTo>
                      <a:pt x="2740" y="66"/>
                    </a:lnTo>
                    <a:lnTo>
                      <a:pt x="2768" y="68"/>
                    </a:lnTo>
                    <a:lnTo>
                      <a:pt x="2786" y="74"/>
                    </a:lnTo>
                    <a:lnTo>
                      <a:pt x="2756" y="60"/>
                    </a:lnTo>
                    <a:lnTo>
                      <a:pt x="2734" y="60"/>
                    </a:lnTo>
                    <a:lnTo>
                      <a:pt x="2720" y="54"/>
                    </a:lnTo>
                    <a:lnTo>
                      <a:pt x="2744" y="50"/>
                    </a:lnTo>
                    <a:lnTo>
                      <a:pt x="2768" y="54"/>
                    </a:lnTo>
                    <a:lnTo>
                      <a:pt x="2784" y="50"/>
                    </a:lnTo>
                    <a:lnTo>
                      <a:pt x="2774" y="48"/>
                    </a:lnTo>
                    <a:lnTo>
                      <a:pt x="2784" y="42"/>
                    </a:lnTo>
                    <a:lnTo>
                      <a:pt x="2808" y="42"/>
                    </a:lnTo>
                    <a:lnTo>
                      <a:pt x="2824" y="50"/>
                    </a:lnTo>
                    <a:lnTo>
                      <a:pt x="2842" y="50"/>
                    </a:lnTo>
                    <a:lnTo>
                      <a:pt x="2862" y="54"/>
                    </a:lnTo>
                    <a:lnTo>
                      <a:pt x="2870" y="60"/>
                    </a:lnTo>
                    <a:lnTo>
                      <a:pt x="2870" y="62"/>
                    </a:lnTo>
                    <a:lnTo>
                      <a:pt x="2858" y="66"/>
                    </a:lnTo>
                    <a:lnTo>
                      <a:pt x="2850" y="74"/>
                    </a:lnTo>
                    <a:lnTo>
                      <a:pt x="2890" y="72"/>
                    </a:lnTo>
                    <a:lnTo>
                      <a:pt x="2922" y="84"/>
                    </a:lnTo>
                    <a:lnTo>
                      <a:pt x="2946" y="98"/>
                    </a:lnTo>
                    <a:lnTo>
                      <a:pt x="2980" y="102"/>
                    </a:lnTo>
                    <a:lnTo>
                      <a:pt x="3028" y="102"/>
                    </a:lnTo>
                    <a:lnTo>
                      <a:pt x="3048" y="120"/>
                    </a:lnTo>
                    <a:lnTo>
                      <a:pt x="3056" y="130"/>
                    </a:lnTo>
                    <a:lnTo>
                      <a:pt x="3068" y="134"/>
                    </a:lnTo>
                    <a:lnTo>
                      <a:pt x="3078" y="124"/>
                    </a:lnTo>
                    <a:lnTo>
                      <a:pt x="3062" y="124"/>
                    </a:lnTo>
                    <a:lnTo>
                      <a:pt x="3052" y="110"/>
                    </a:lnTo>
                    <a:lnTo>
                      <a:pt x="3044" y="104"/>
                    </a:lnTo>
                    <a:lnTo>
                      <a:pt x="3050" y="9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782160" y="23522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0" y="0"/>
                    </a:moveTo>
                    <a:lnTo>
                      <a:pt x="38" y="2"/>
                    </a:lnTo>
                    <a:lnTo>
                      <a:pt x="52" y="16"/>
                    </a:lnTo>
                    <a:lnTo>
                      <a:pt x="82" y="24"/>
                    </a:lnTo>
                    <a:lnTo>
                      <a:pt x="100" y="34"/>
                    </a:lnTo>
                    <a:lnTo>
                      <a:pt x="84" y="36"/>
                    </a:lnTo>
                    <a:lnTo>
                      <a:pt x="62" y="32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793320" y="23522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82" h="36">
                    <a:moveTo>
                      <a:pt x="0" y="6"/>
                    </a:moveTo>
                    <a:lnTo>
                      <a:pt x="2" y="0"/>
                    </a:lnTo>
                    <a:lnTo>
                      <a:pt x="32" y="4"/>
                    </a:lnTo>
                    <a:lnTo>
                      <a:pt x="82" y="20"/>
                    </a:lnTo>
                    <a:lnTo>
                      <a:pt x="76" y="26"/>
                    </a:lnTo>
                    <a:lnTo>
                      <a:pt x="58" y="36"/>
                    </a:lnTo>
                    <a:lnTo>
                      <a:pt x="28" y="20"/>
                    </a:lnTo>
                    <a:lnTo>
                      <a:pt x="6" y="14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049640" y="2440440"/>
                <a:ext cx="12240" cy="5040"/>
              </a:xfrm>
              <a:custGeom>
                <a:avLst/>
                <a:gdLst/>
                <a:ahLst/>
                <a:rect l="l" t="t" r="r" b="b"/>
                <a:pathLst>
                  <a:path w="74" h="34">
                    <a:moveTo>
                      <a:pt x="34" y="0"/>
                    </a:moveTo>
                    <a:lnTo>
                      <a:pt x="40" y="4"/>
                    </a:lnTo>
                    <a:lnTo>
                      <a:pt x="74" y="12"/>
                    </a:lnTo>
                    <a:lnTo>
                      <a:pt x="70" y="18"/>
                    </a:lnTo>
                    <a:lnTo>
                      <a:pt x="46" y="22"/>
                    </a:lnTo>
                    <a:lnTo>
                      <a:pt x="0" y="34"/>
                    </a:lnTo>
                    <a:lnTo>
                      <a:pt x="2" y="20"/>
                    </a:lnTo>
                    <a:lnTo>
                      <a:pt x="10" y="8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322080" y="2500200"/>
                <a:ext cx="42120" cy="7920"/>
              </a:xfrm>
              <a:custGeom>
                <a:avLst/>
                <a:gdLst/>
                <a:ahLst/>
                <a:rect l="l" t="t" r="r" b="b"/>
                <a:pathLst>
                  <a:path w="244" h="42">
                    <a:moveTo>
                      <a:pt x="0" y="16"/>
                    </a:moveTo>
                    <a:lnTo>
                      <a:pt x="0" y="14"/>
                    </a:lnTo>
                    <a:lnTo>
                      <a:pt x="32" y="8"/>
                    </a:lnTo>
                    <a:lnTo>
                      <a:pt x="58" y="0"/>
                    </a:lnTo>
                    <a:lnTo>
                      <a:pt x="156" y="0"/>
                    </a:lnTo>
                    <a:lnTo>
                      <a:pt x="190" y="6"/>
                    </a:lnTo>
                    <a:lnTo>
                      <a:pt x="204" y="12"/>
                    </a:lnTo>
                    <a:lnTo>
                      <a:pt x="208" y="20"/>
                    </a:lnTo>
                    <a:lnTo>
                      <a:pt x="244" y="30"/>
                    </a:lnTo>
                    <a:lnTo>
                      <a:pt x="244" y="34"/>
                    </a:lnTo>
                    <a:lnTo>
                      <a:pt x="218" y="40"/>
                    </a:lnTo>
                    <a:lnTo>
                      <a:pt x="172" y="42"/>
                    </a:lnTo>
                    <a:lnTo>
                      <a:pt x="94" y="26"/>
                    </a:lnTo>
                    <a:lnTo>
                      <a:pt x="62" y="28"/>
                    </a:lnTo>
                    <a:lnTo>
                      <a:pt x="38" y="2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486240" y="3008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12" y="0"/>
                    </a:moveTo>
                    <a:lnTo>
                      <a:pt x="2" y="34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8" y="20"/>
                    </a:lnTo>
                    <a:lnTo>
                      <a:pt x="40" y="16"/>
                    </a:lnTo>
                    <a:lnTo>
                      <a:pt x="44" y="10"/>
                    </a:lnTo>
                    <a:lnTo>
                      <a:pt x="2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490200" y="3004920"/>
                <a:ext cx="14760" cy="360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88" y="10"/>
                    </a:moveTo>
                    <a:lnTo>
                      <a:pt x="80" y="12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8" y="22"/>
                    </a:lnTo>
                    <a:lnTo>
                      <a:pt x="24" y="24"/>
                    </a:lnTo>
                    <a:lnTo>
                      <a:pt x="44" y="24"/>
                    </a:lnTo>
                    <a:lnTo>
                      <a:pt x="46" y="18"/>
                    </a:lnTo>
                    <a:lnTo>
                      <a:pt x="52" y="12"/>
                    </a:lnTo>
                    <a:lnTo>
                      <a:pt x="80" y="14"/>
                    </a:lnTo>
                    <a:lnTo>
                      <a:pt x="88" y="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620520" y="2372040"/>
                <a:ext cx="23040" cy="10440"/>
              </a:xfrm>
              <a:custGeom>
                <a:avLst/>
                <a:gdLst/>
                <a:ahLst/>
                <a:rect l="l" t="t" r="r" b="b"/>
                <a:pathLst>
                  <a:path w="134" h="64">
                    <a:moveTo>
                      <a:pt x="26" y="0"/>
                    </a:moveTo>
                    <a:lnTo>
                      <a:pt x="60" y="10"/>
                    </a:lnTo>
                    <a:lnTo>
                      <a:pt x="56" y="16"/>
                    </a:lnTo>
                    <a:lnTo>
                      <a:pt x="56" y="22"/>
                    </a:lnTo>
                    <a:lnTo>
                      <a:pt x="90" y="34"/>
                    </a:lnTo>
                    <a:lnTo>
                      <a:pt x="110" y="48"/>
                    </a:lnTo>
                    <a:lnTo>
                      <a:pt x="134" y="60"/>
                    </a:lnTo>
                    <a:lnTo>
                      <a:pt x="132" y="62"/>
                    </a:lnTo>
                    <a:lnTo>
                      <a:pt x="112" y="64"/>
                    </a:lnTo>
                    <a:lnTo>
                      <a:pt x="86" y="62"/>
                    </a:lnTo>
                    <a:lnTo>
                      <a:pt x="58" y="56"/>
                    </a:lnTo>
                    <a:lnTo>
                      <a:pt x="36" y="44"/>
                    </a:lnTo>
                    <a:lnTo>
                      <a:pt x="14" y="38"/>
                    </a:lnTo>
                    <a:lnTo>
                      <a:pt x="4" y="32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14" y="2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4649400" y="3094200"/>
              <a:ext cx="10800" cy="32040"/>
            </a:xfrm>
            <a:custGeom>
              <a:avLst/>
              <a:gdLst/>
              <a:ahLst/>
              <a:rect l="l" t="t" r="r" b="b"/>
              <a:pathLst>
                <a:path w="58" h="186">
                  <a:moveTo>
                    <a:pt x="0" y="186"/>
                  </a:moveTo>
                  <a:lnTo>
                    <a:pt x="14" y="170"/>
                  </a:lnTo>
                  <a:lnTo>
                    <a:pt x="22" y="150"/>
                  </a:lnTo>
                  <a:lnTo>
                    <a:pt x="26" y="120"/>
                  </a:lnTo>
                  <a:lnTo>
                    <a:pt x="42" y="68"/>
                  </a:lnTo>
                  <a:lnTo>
                    <a:pt x="52" y="16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48" y="10"/>
                  </a:lnTo>
                  <a:lnTo>
                    <a:pt x="42" y="22"/>
                  </a:lnTo>
                  <a:lnTo>
                    <a:pt x="28" y="76"/>
                  </a:lnTo>
                  <a:lnTo>
                    <a:pt x="18" y="90"/>
                  </a:lnTo>
                  <a:lnTo>
                    <a:pt x="4" y="120"/>
                  </a:lnTo>
                  <a:lnTo>
                    <a:pt x="0" y="146"/>
                  </a:lnTo>
                  <a:lnTo>
                    <a:pt x="0" y="18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80720" y="3078720"/>
              <a:ext cx="15480" cy="27360"/>
            </a:xfrm>
            <a:custGeom>
              <a:avLst/>
              <a:gdLst/>
              <a:ahLst/>
              <a:rect l="l" t="t" r="r" b="b"/>
              <a:pathLst>
                <a:path w="88" h="166">
                  <a:moveTo>
                    <a:pt x="8" y="166"/>
                  </a:moveTo>
                  <a:lnTo>
                    <a:pt x="22" y="160"/>
                  </a:lnTo>
                  <a:lnTo>
                    <a:pt x="36" y="134"/>
                  </a:lnTo>
                  <a:lnTo>
                    <a:pt x="64" y="108"/>
                  </a:lnTo>
                  <a:lnTo>
                    <a:pt x="64" y="102"/>
                  </a:lnTo>
                  <a:lnTo>
                    <a:pt x="84" y="86"/>
                  </a:lnTo>
                  <a:lnTo>
                    <a:pt x="78" y="72"/>
                  </a:lnTo>
                  <a:lnTo>
                    <a:pt x="72" y="38"/>
                  </a:lnTo>
                  <a:lnTo>
                    <a:pt x="76" y="30"/>
                  </a:lnTo>
                  <a:lnTo>
                    <a:pt x="88" y="24"/>
                  </a:lnTo>
                  <a:lnTo>
                    <a:pt x="86" y="4"/>
                  </a:lnTo>
                  <a:lnTo>
                    <a:pt x="74" y="0"/>
                  </a:lnTo>
                  <a:lnTo>
                    <a:pt x="62" y="12"/>
                  </a:lnTo>
                  <a:lnTo>
                    <a:pt x="46" y="6"/>
                  </a:lnTo>
                  <a:lnTo>
                    <a:pt x="10" y="46"/>
                  </a:lnTo>
                  <a:lnTo>
                    <a:pt x="2" y="64"/>
                  </a:lnTo>
                  <a:lnTo>
                    <a:pt x="0" y="80"/>
                  </a:lnTo>
                  <a:lnTo>
                    <a:pt x="2" y="94"/>
                  </a:lnTo>
                  <a:lnTo>
                    <a:pt x="0" y="110"/>
                  </a:lnTo>
                  <a:lnTo>
                    <a:pt x="0" y="120"/>
                  </a:lnTo>
                  <a:lnTo>
                    <a:pt x="8" y="128"/>
                  </a:lnTo>
                  <a:lnTo>
                    <a:pt x="8" y="142"/>
                  </a:lnTo>
                  <a:lnTo>
                    <a:pt x="20" y="142"/>
                  </a:lnTo>
                  <a:lnTo>
                    <a:pt x="18" y="152"/>
                  </a:lnTo>
                  <a:lnTo>
                    <a:pt x="8" y="16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24760" y="3215520"/>
              <a:ext cx="6120" cy="900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32" y="18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24" y="20"/>
                  </a:lnTo>
                  <a:lnTo>
                    <a:pt x="6" y="38"/>
                  </a:lnTo>
                  <a:lnTo>
                    <a:pt x="0" y="54"/>
                  </a:lnTo>
                  <a:lnTo>
                    <a:pt x="16" y="44"/>
                  </a:lnTo>
                  <a:lnTo>
                    <a:pt x="24" y="26"/>
                  </a:lnTo>
                  <a:lnTo>
                    <a:pt x="32" y="1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410360" y="3258360"/>
              <a:ext cx="6120" cy="10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4" y="6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34" y="16"/>
                  </a:lnTo>
                  <a:lnTo>
                    <a:pt x="38" y="22"/>
                  </a:lnTo>
                  <a:lnTo>
                    <a:pt x="4" y="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06040" y="3258360"/>
              <a:ext cx="6120" cy="28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4"/>
                  </a:moveTo>
                  <a:lnTo>
                    <a:pt x="10" y="0"/>
                  </a:lnTo>
                  <a:lnTo>
                    <a:pt x="30" y="8"/>
                  </a:lnTo>
                  <a:lnTo>
                    <a:pt x="32" y="14"/>
                  </a:lnTo>
                  <a:lnTo>
                    <a:pt x="0" y="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02800" y="3264480"/>
              <a:ext cx="1440" cy="25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2" y="0"/>
                  </a:moveTo>
                  <a:lnTo>
                    <a:pt x="0" y="16"/>
                  </a:ln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2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16560" y="3506400"/>
              <a:ext cx="21600" cy="49320"/>
            </a:xfrm>
            <a:custGeom>
              <a:avLst/>
              <a:gdLst/>
              <a:ahLst/>
              <a:rect l="l" t="t" r="r" b="b"/>
              <a:pathLst>
                <a:path w="120" h="278">
                  <a:moveTo>
                    <a:pt x="88" y="0"/>
                  </a:moveTo>
                  <a:lnTo>
                    <a:pt x="100" y="6"/>
                  </a:lnTo>
                  <a:lnTo>
                    <a:pt x="106" y="74"/>
                  </a:lnTo>
                  <a:lnTo>
                    <a:pt x="120" y="134"/>
                  </a:lnTo>
                  <a:lnTo>
                    <a:pt x="118" y="160"/>
                  </a:lnTo>
                  <a:lnTo>
                    <a:pt x="110" y="180"/>
                  </a:lnTo>
                  <a:lnTo>
                    <a:pt x="108" y="204"/>
                  </a:lnTo>
                  <a:lnTo>
                    <a:pt x="98" y="236"/>
                  </a:lnTo>
                  <a:lnTo>
                    <a:pt x="84" y="264"/>
                  </a:lnTo>
                  <a:lnTo>
                    <a:pt x="84" y="278"/>
                  </a:lnTo>
                  <a:lnTo>
                    <a:pt x="72" y="260"/>
                  </a:lnTo>
                  <a:lnTo>
                    <a:pt x="58" y="258"/>
                  </a:lnTo>
                  <a:lnTo>
                    <a:pt x="42" y="248"/>
                  </a:lnTo>
                  <a:lnTo>
                    <a:pt x="36" y="236"/>
                  </a:lnTo>
                  <a:lnTo>
                    <a:pt x="36" y="216"/>
                  </a:lnTo>
                  <a:lnTo>
                    <a:pt x="20" y="212"/>
                  </a:lnTo>
                  <a:lnTo>
                    <a:pt x="16" y="198"/>
                  </a:lnTo>
                  <a:lnTo>
                    <a:pt x="10" y="148"/>
                  </a:lnTo>
                  <a:lnTo>
                    <a:pt x="2" y="136"/>
                  </a:lnTo>
                  <a:lnTo>
                    <a:pt x="0" y="102"/>
                  </a:lnTo>
                  <a:lnTo>
                    <a:pt x="10" y="72"/>
                  </a:lnTo>
                  <a:lnTo>
                    <a:pt x="20" y="74"/>
                  </a:lnTo>
                  <a:lnTo>
                    <a:pt x="36" y="68"/>
                  </a:lnTo>
                  <a:lnTo>
                    <a:pt x="60" y="48"/>
                  </a:lnTo>
                  <a:lnTo>
                    <a:pt x="80" y="42"/>
                  </a:lnTo>
                  <a:lnTo>
                    <a:pt x="86" y="32"/>
                  </a:lnTo>
                  <a:lnTo>
                    <a:pt x="88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14200" y="4034160"/>
              <a:ext cx="6120" cy="468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22"/>
                  </a:moveTo>
                  <a:lnTo>
                    <a:pt x="20" y="26"/>
                  </a:lnTo>
                  <a:lnTo>
                    <a:pt x="26" y="20"/>
                  </a:lnTo>
                  <a:lnTo>
                    <a:pt x="34" y="26"/>
                  </a:lnTo>
                  <a:lnTo>
                    <a:pt x="38" y="16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4" y="4"/>
                  </a:lnTo>
                  <a:lnTo>
                    <a:pt x="18" y="0"/>
                  </a:lnTo>
                  <a:lnTo>
                    <a:pt x="4" y="6"/>
                  </a:lnTo>
                  <a:lnTo>
                    <a:pt x="0" y="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040" bIns="-41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76960" y="4345560"/>
              <a:ext cx="2880" cy="25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8" y="2"/>
                  </a:moveTo>
                  <a:lnTo>
                    <a:pt x="2" y="6"/>
                  </a:lnTo>
                  <a:lnTo>
                    <a:pt x="0" y="16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8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200" bIns="-432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76960" y="4337640"/>
              <a:ext cx="1080" cy="28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2"/>
                  </a:moveTo>
                  <a:lnTo>
                    <a:pt x="8" y="14"/>
                  </a:lnTo>
                  <a:lnTo>
                    <a:pt x="12" y="22"/>
                  </a:lnTo>
                  <a:lnTo>
                    <a:pt x="16" y="16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9400" y="4294800"/>
              <a:ext cx="1080" cy="43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4" y="22"/>
                  </a:moveTo>
                  <a:lnTo>
                    <a:pt x="6" y="2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4" y="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54320" y="4380840"/>
              <a:ext cx="6120" cy="900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2" y="4"/>
                  </a:moveTo>
                  <a:lnTo>
                    <a:pt x="26" y="10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24" y="50"/>
                  </a:lnTo>
                  <a:lnTo>
                    <a:pt x="34" y="44"/>
                  </a:lnTo>
                  <a:lnTo>
                    <a:pt x="34" y="20"/>
                  </a:lnTo>
                  <a:lnTo>
                    <a:pt x="22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52880" y="4383720"/>
              <a:ext cx="1080" cy="75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2" y="2"/>
                  </a:moveTo>
                  <a:lnTo>
                    <a:pt x="0" y="6"/>
                  </a:lnTo>
                  <a:lnTo>
                    <a:pt x="0" y="50"/>
                  </a:lnTo>
                  <a:lnTo>
                    <a:pt x="6" y="34"/>
                  </a:lnTo>
                  <a:lnTo>
                    <a:pt x="8" y="0"/>
                  </a:lnTo>
                  <a:lnTo>
                    <a:pt x="2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751440" y="4354560"/>
              <a:ext cx="2520" cy="10440"/>
            </a:xfrm>
            <a:custGeom>
              <a:avLst/>
              <a:gdLst/>
              <a:ahLst/>
              <a:rect l="l" t="t" r="r" b="b"/>
              <a:pathLst>
                <a:path w="20" h="56">
                  <a:moveTo>
                    <a:pt x="0" y="0"/>
                  </a:moveTo>
                  <a:lnTo>
                    <a:pt x="6" y="44"/>
                  </a:lnTo>
                  <a:lnTo>
                    <a:pt x="10" y="56"/>
                  </a:lnTo>
                  <a:lnTo>
                    <a:pt x="20" y="44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32040" y="4383720"/>
              <a:ext cx="51120" cy="94680"/>
            </a:xfrm>
            <a:custGeom>
              <a:avLst/>
              <a:gdLst/>
              <a:ahLst/>
              <a:rect l="l" t="t" r="r" b="b"/>
              <a:pathLst>
                <a:path w="288" h="554">
                  <a:moveTo>
                    <a:pt x="246" y="8"/>
                  </a:moveTo>
                  <a:lnTo>
                    <a:pt x="252" y="0"/>
                  </a:lnTo>
                  <a:lnTo>
                    <a:pt x="256" y="6"/>
                  </a:lnTo>
                  <a:lnTo>
                    <a:pt x="264" y="50"/>
                  </a:lnTo>
                  <a:lnTo>
                    <a:pt x="270" y="62"/>
                  </a:lnTo>
                  <a:lnTo>
                    <a:pt x="266" y="80"/>
                  </a:lnTo>
                  <a:lnTo>
                    <a:pt x="270" y="106"/>
                  </a:lnTo>
                  <a:lnTo>
                    <a:pt x="288" y="154"/>
                  </a:lnTo>
                  <a:lnTo>
                    <a:pt x="286" y="176"/>
                  </a:lnTo>
                  <a:lnTo>
                    <a:pt x="264" y="198"/>
                  </a:lnTo>
                  <a:lnTo>
                    <a:pt x="252" y="228"/>
                  </a:lnTo>
                  <a:lnTo>
                    <a:pt x="234" y="254"/>
                  </a:lnTo>
                  <a:lnTo>
                    <a:pt x="210" y="268"/>
                  </a:lnTo>
                  <a:lnTo>
                    <a:pt x="194" y="284"/>
                  </a:lnTo>
                  <a:lnTo>
                    <a:pt x="190" y="332"/>
                  </a:lnTo>
                  <a:lnTo>
                    <a:pt x="166" y="374"/>
                  </a:lnTo>
                  <a:lnTo>
                    <a:pt x="116" y="438"/>
                  </a:lnTo>
                  <a:lnTo>
                    <a:pt x="90" y="480"/>
                  </a:lnTo>
                  <a:lnTo>
                    <a:pt x="70" y="504"/>
                  </a:lnTo>
                  <a:lnTo>
                    <a:pt x="48" y="512"/>
                  </a:lnTo>
                  <a:lnTo>
                    <a:pt x="34" y="536"/>
                  </a:lnTo>
                  <a:lnTo>
                    <a:pt x="20" y="554"/>
                  </a:lnTo>
                  <a:lnTo>
                    <a:pt x="0" y="550"/>
                  </a:lnTo>
                  <a:lnTo>
                    <a:pt x="4" y="508"/>
                  </a:lnTo>
                  <a:lnTo>
                    <a:pt x="18" y="464"/>
                  </a:lnTo>
                  <a:lnTo>
                    <a:pt x="34" y="440"/>
                  </a:lnTo>
                  <a:lnTo>
                    <a:pt x="68" y="404"/>
                  </a:lnTo>
                  <a:lnTo>
                    <a:pt x="82" y="398"/>
                  </a:lnTo>
                  <a:lnTo>
                    <a:pt x="150" y="286"/>
                  </a:lnTo>
                  <a:lnTo>
                    <a:pt x="168" y="252"/>
                  </a:lnTo>
                  <a:lnTo>
                    <a:pt x="180" y="242"/>
                  </a:lnTo>
                  <a:lnTo>
                    <a:pt x="192" y="208"/>
                  </a:lnTo>
                  <a:lnTo>
                    <a:pt x="210" y="188"/>
                  </a:lnTo>
                  <a:lnTo>
                    <a:pt x="228" y="178"/>
                  </a:lnTo>
                  <a:lnTo>
                    <a:pt x="240" y="134"/>
                  </a:lnTo>
                  <a:lnTo>
                    <a:pt x="234" y="98"/>
                  </a:lnTo>
                  <a:lnTo>
                    <a:pt x="242" y="114"/>
                  </a:lnTo>
                  <a:lnTo>
                    <a:pt x="250" y="104"/>
                  </a:lnTo>
                  <a:lnTo>
                    <a:pt x="246" y="92"/>
                  </a:lnTo>
                  <a:lnTo>
                    <a:pt x="232" y="80"/>
                  </a:lnTo>
                  <a:lnTo>
                    <a:pt x="238" y="70"/>
                  </a:lnTo>
                  <a:lnTo>
                    <a:pt x="242" y="44"/>
                  </a:lnTo>
                  <a:lnTo>
                    <a:pt x="240" y="16"/>
                  </a:lnTo>
                  <a:lnTo>
                    <a:pt x="246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83520" y="4365360"/>
              <a:ext cx="4680" cy="756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0" y="0"/>
                  </a:moveTo>
                  <a:lnTo>
                    <a:pt x="20" y="12"/>
                  </a:lnTo>
                  <a:lnTo>
                    <a:pt x="28" y="24"/>
                  </a:lnTo>
                  <a:lnTo>
                    <a:pt x="30" y="34"/>
                  </a:lnTo>
                  <a:lnTo>
                    <a:pt x="24" y="42"/>
                  </a:lnTo>
                  <a:lnTo>
                    <a:pt x="14" y="34"/>
                  </a:lnTo>
                  <a:lnTo>
                    <a:pt x="2" y="8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282080" y="4354560"/>
              <a:ext cx="9000" cy="9000"/>
            </a:xfrm>
            <a:custGeom>
              <a:avLst/>
              <a:gdLst/>
              <a:ahLst/>
              <a:rect l="l" t="t" r="r" b="b"/>
              <a:pathLst>
                <a:path w="58" h="50">
                  <a:moveTo>
                    <a:pt x="2" y="0"/>
                  </a:moveTo>
                  <a:lnTo>
                    <a:pt x="0" y="2"/>
                  </a:lnTo>
                  <a:lnTo>
                    <a:pt x="24" y="24"/>
                  </a:lnTo>
                  <a:lnTo>
                    <a:pt x="44" y="22"/>
                  </a:lnTo>
                  <a:lnTo>
                    <a:pt x="56" y="38"/>
                  </a:lnTo>
                  <a:lnTo>
                    <a:pt x="58" y="46"/>
                  </a:lnTo>
                  <a:lnTo>
                    <a:pt x="38" y="50"/>
                  </a:lnTo>
                  <a:lnTo>
                    <a:pt x="22" y="38"/>
                  </a:lnTo>
                  <a:lnTo>
                    <a:pt x="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86760" y="4316400"/>
              <a:ext cx="34200" cy="39600"/>
            </a:xfrm>
            <a:custGeom>
              <a:avLst/>
              <a:gdLst/>
              <a:ahLst/>
              <a:rect l="l" t="t" r="r" b="b"/>
              <a:pathLst>
                <a:path w="198" h="238">
                  <a:moveTo>
                    <a:pt x="4" y="14"/>
                  </a:moveTo>
                  <a:lnTo>
                    <a:pt x="0" y="4"/>
                  </a:lnTo>
                  <a:lnTo>
                    <a:pt x="10" y="2"/>
                  </a:lnTo>
                  <a:lnTo>
                    <a:pt x="80" y="0"/>
                  </a:lnTo>
                  <a:lnTo>
                    <a:pt x="94" y="4"/>
                  </a:lnTo>
                  <a:lnTo>
                    <a:pt x="120" y="10"/>
                  </a:lnTo>
                  <a:lnTo>
                    <a:pt x="146" y="34"/>
                  </a:lnTo>
                  <a:lnTo>
                    <a:pt x="160" y="54"/>
                  </a:lnTo>
                  <a:lnTo>
                    <a:pt x="170" y="56"/>
                  </a:lnTo>
                  <a:lnTo>
                    <a:pt x="180" y="94"/>
                  </a:lnTo>
                  <a:lnTo>
                    <a:pt x="184" y="128"/>
                  </a:lnTo>
                  <a:lnTo>
                    <a:pt x="198" y="164"/>
                  </a:lnTo>
                  <a:lnTo>
                    <a:pt x="190" y="178"/>
                  </a:lnTo>
                  <a:lnTo>
                    <a:pt x="194" y="204"/>
                  </a:lnTo>
                  <a:lnTo>
                    <a:pt x="164" y="238"/>
                  </a:lnTo>
                  <a:lnTo>
                    <a:pt x="148" y="212"/>
                  </a:lnTo>
                  <a:lnTo>
                    <a:pt x="124" y="190"/>
                  </a:lnTo>
                  <a:lnTo>
                    <a:pt x="86" y="122"/>
                  </a:lnTo>
                  <a:lnTo>
                    <a:pt x="76" y="82"/>
                  </a:lnTo>
                  <a:lnTo>
                    <a:pt x="58" y="54"/>
                  </a:lnTo>
                  <a:lnTo>
                    <a:pt x="38" y="44"/>
                  </a:lnTo>
                  <a:lnTo>
                    <a:pt x="26" y="18"/>
                  </a:lnTo>
                  <a:lnTo>
                    <a:pt x="12" y="12"/>
                  </a:lnTo>
                  <a:lnTo>
                    <a:pt x="4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6120" bIns="-61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55440" y="4155480"/>
              <a:ext cx="128160" cy="190080"/>
            </a:xfrm>
            <a:custGeom>
              <a:avLst/>
              <a:gdLst/>
              <a:ahLst/>
              <a:rect l="l" t="t" r="r" b="b"/>
              <a:pathLst>
                <a:path w="734" h="1108">
                  <a:moveTo>
                    <a:pt x="250" y="22"/>
                  </a:moveTo>
                  <a:lnTo>
                    <a:pt x="260" y="32"/>
                  </a:lnTo>
                  <a:lnTo>
                    <a:pt x="264" y="44"/>
                  </a:lnTo>
                  <a:lnTo>
                    <a:pt x="260" y="62"/>
                  </a:lnTo>
                  <a:lnTo>
                    <a:pt x="258" y="98"/>
                  </a:lnTo>
                  <a:lnTo>
                    <a:pt x="262" y="132"/>
                  </a:lnTo>
                  <a:lnTo>
                    <a:pt x="280" y="204"/>
                  </a:lnTo>
                  <a:lnTo>
                    <a:pt x="298" y="224"/>
                  </a:lnTo>
                  <a:lnTo>
                    <a:pt x="310" y="232"/>
                  </a:lnTo>
                  <a:lnTo>
                    <a:pt x="322" y="250"/>
                  </a:lnTo>
                  <a:lnTo>
                    <a:pt x="338" y="268"/>
                  </a:lnTo>
                  <a:lnTo>
                    <a:pt x="346" y="300"/>
                  </a:lnTo>
                  <a:lnTo>
                    <a:pt x="342" y="342"/>
                  </a:lnTo>
                  <a:lnTo>
                    <a:pt x="336" y="382"/>
                  </a:lnTo>
                  <a:lnTo>
                    <a:pt x="338" y="416"/>
                  </a:lnTo>
                  <a:lnTo>
                    <a:pt x="330" y="450"/>
                  </a:lnTo>
                  <a:lnTo>
                    <a:pt x="320" y="466"/>
                  </a:lnTo>
                  <a:lnTo>
                    <a:pt x="314" y="458"/>
                  </a:lnTo>
                  <a:lnTo>
                    <a:pt x="296" y="476"/>
                  </a:lnTo>
                  <a:lnTo>
                    <a:pt x="282" y="496"/>
                  </a:lnTo>
                  <a:lnTo>
                    <a:pt x="274" y="526"/>
                  </a:lnTo>
                  <a:lnTo>
                    <a:pt x="278" y="556"/>
                  </a:lnTo>
                  <a:lnTo>
                    <a:pt x="274" y="590"/>
                  </a:lnTo>
                  <a:lnTo>
                    <a:pt x="260" y="604"/>
                  </a:lnTo>
                  <a:lnTo>
                    <a:pt x="268" y="634"/>
                  </a:lnTo>
                  <a:lnTo>
                    <a:pt x="286" y="668"/>
                  </a:lnTo>
                  <a:lnTo>
                    <a:pt x="304" y="696"/>
                  </a:lnTo>
                  <a:lnTo>
                    <a:pt x="320" y="714"/>
                  </a:lnTo>
                  <a:lnTo>
                    <a:pt x="316" y="730"/>
                  </a:lnTo>
                  <a:lnTo>
                    <a:pt x="324" y="766"/>
                  </a:lnTo>
                  <a:lnTo>
                    <a:pt x="340" y="792"/>
                  </a:lnTo>
                  <a:lnTo>
                    <a:pt x="348" y="820"/>
                  </a:lnTo>
                  <a:lnTo>
                    <a:pt x="394" y="862"/>
                  </a:lnTo>
                  <a:lnTo>
                    <a:pt x="408" y="862"/>
                  </a:lnTo>
                  <a:lnTo>
                    <a:pt x="426" y="852"/>
                  </a:lnTo>
                  <a:lnTo>
                    <a:pt x="420" y="838"/>
                  </a:lnTo>
                  <a:lnTo>
                    <a:pt x="416" y="806"/>
                  </a:lnTo>
                  <a:lnTo>
                    <a:pt x="424" y="812"/>
                  </a:lnTo>
                  <a:lnTo>
                    <a:pt x="442" y="786"/>
                  </a:lnTo>
                  <a:lnTo>
                    <a:pt x="470" y="788"/>
                  </a:lnTo>
                  <a:lnTo>
                    <a:pt x="480" y="776"/>
                  </a:lnTo>
                  <a:lnTo>
                    <a:pt x="500" y="784"/>
                  </a:lnTo>
                  <a:lnTo>
                    <a:pt x="520" y="806"/>
                  </a:lnTo>
                  <a:lnTo>
                    <a:pt x="540" y="840"/>
                  </a:lnTo>
                  <a:lnTo>
                    <a:pt x="550" y="872"/>
                  </a:lnTo>
                  <a:lnTo>
                    <a:pt x="564" y="886"/>
                  </a:lnTo>
                  <a:lnTo>
                    <a:pt x="576" y="866"/>
                  </a:lnTo>
                  <a:lnTo>
                    <a:pt x="566" y="830"/>
                  </a:lnTo>
                  <a:lnTo>
                    <a:pt x="582" y="836"/>
                  </a:lnTo>
                  <a:lnTo>
                    <a:pt x="590" y="842"/>
                  </a:lnTo>
                  <a:lnTo>
                    <a:pt x="616" y="850"/>
                  </a:lnTo>
                  <a:lnTo>
                    <a:pt x="656" y="870"/>
                  </a:lnTo>
                  <a:lnTo>
                    <a:pt x="666" y="886"/>
                  </a:lnTo>
                  <a:lnTo>
                    <a:pt x="644" y="890"/>
                  </a:lnTo>
                  <a:lnTo>
                    <a:pt x="628" y="914"/>
                  </a:lnTo>
                  <a:lnTo>
                    <a:pt x="638" y="940"/>
                  </a:lnTo>
                  <a:lnTo>
                    <a:pt x="658" y="958"/>
                  </a:lnTo>
                  <a:lnTo>
                    <a:pt x="674" y="962"/>
                  </a:lnTo>
                  <a:lnTo>
                    <a:pt x="672" y="990"/>
                  </a:lnTo>
                  <a:lnTo>
                    <a:pt x="676" y="1000"/>
                  </a:lnTo>
                  <a:lnTo>
                    <a:pt x="690" y="1000"/>
                  </a:lnTo>
                  <a:lnTo>
                    <a:pt x="694" y="1010"/>
                  </a:lnTo>
                  <a:lnTo>
                    <a:pt x="710" y="1014"/>
                  </a:lnTo>
                  <a:lnTo>
                    <a:pt x="722" y="1028"/>
                  </a:lnTo>
                  <a:lnTo>
                    <a:pt x="734" y="1090"/>
                  </a:lnTo>
                  <a:lnTo>
                    <a:pt x="724" y="1108"/>
                  </a:lnTo>
                  <a:lnTo>
                    <a:pt x="702" y="1086"/>
                  </a:lnTo>
                  <a:lnTo>
                    <a:pt x="690" y="1060"/>
                  </a:lnTo>
                  <a:lnTo>
                    <a:pt x="704" y="1042"/>
                  </a:lnTo>
                  <a:lnTo>
                    <a:pt x="692" y="1040"/>
                  </a:lnTo>
                  <a:lnTo>
                    <a:pt x="662" y="1042"/>
                  </a:lnTo>
                  <a:lnTo>
                    <a:pt x="632" y="1016"/>
                  </a:lnTo>
                  <a:lnTo>
                    <a:pt x="612" y="1008"/>
                  </a:lnTo>
                  <a:lnTo>
                    <a:pt x="594" y="972"/>
                  </a:lnTo>
                  <a:lnTo>
                    <a:pt x="574" y="944"/>
                  </a:lnTo>
                  <a:lnTo>
                    <a:pt x="544" y="926"/>
                  </a:lnTo>
                  <a:lnTo>
                    <a:pt x="526" y="910"/>
                  </a:lnTo>
                  <a:lnTo>
                    <a:pt x="520" y="896"/>
                  </a:lnTo>
                  <a:lnTo>
                    <a:pt x="490" y="868"/>
                  </a:lnTo>
                  <a:lnTo>
                    <a:pt x="462" y="858"/>
                  </a:lnTo>
                  <a:lnTo>
                    <a:pt x="472" y="902"/>
                  </a:lnTo>
                  <a:lnTo>
                    <a:pt x="512" y="974"/>
                  </a:lnTo>
                  <a:lnTo>
                    <a:pt x="514" y="986"/>
                  </a:lnTo>
                  <a:lnTo>
                    <a:pt x="500" y="984"/>
                  </a:lnTo>
                  <a:lnTo>
                    <a:pt x="478" y="946"/>
                  </a:lnTo>
                  <a:lnTo>
                    <a:pt x="450" y="924"/>
                  </a:lnTo>
                  <a:lnTo>
                    <a:pt x="408" y="878"/>
                  </a:lnTo>
                  <a:lnTo>
                    <a:pt x="382" y="864"/>
                  </a:lnTo>
                  <a:lnTo>
                    <a:pt x="364" y="858"/>
                  </a:lnTo>
                  <a:lnTo>
                    <a:pt x="336" y="864"/>
                  </a:lnTo>
                  <a:lnTo>
                    <a:pt x="328" y="898"/>
                  </a:lnTo>
                  <a:lnTo>
                    <a:pt x="310" y="914"/>
                  </a:lnTo>
                  <a:lnTo>
                    <a:pt x="288" y="918"/>
                  </a:lnTo>
                  <a:lnTo>
                    <a:pt x="272" y="898"/>
                  </a:lnTo>
                  <a:lnTo>
                    <a:pt x="252" y="894"/>
                  </a:lnTo>
                  <a:lnTo>
                    <a:pt x="230" y="874"/>
                  </a:lnTo>
                  <a:lnTo>
                    <a:pt x="218" y="888"/>
                  </a:lnTo>
                  <a:lnTo>
                    <a:pt x="204" y="858"/>
                  </a:lnTo>
                  <a:lnTo>
                    <a:pt x="194" y="824"/>
                  </a:lnTo>
                  <a:lnTo>
                    <a:pt x="198" y="798"/>
                  </a:lnTo>
                  <a:lnTo>
                    <a:pt x="212" y="774"/>
                  </a:lnTo>
                  <a:lnTo>
                    <a:pt x="220" y="748"/>
                  </a:lnTo>
                  <a:lnTo>
                    <a:pt x="216" y="726"/>
                  </a:lnTo>
                  <a:lnTo>
                    <a:pt x="196" y="710"/>
                  </a:lnTo>
                  <a:lnTo>
                    <a:pt x="172" y="710"/>
                  </a:lnTo>
                  <a:lnTo>
                    <a:pt x="178" y="756"/>
                  </a:lnTo>
                  <a:lnTo>
                    <a:pt x="174" y="772"/>
                  </a:lnTo>
                  <a:lnTo>
                    <a:pt x="148" y="744"/>
                  </a:lnTo>
                  <a:lnTo>
                    <a:pt x="128" y="710"/>
                  </a:lnTo>
                  <a:lnTo>
                    <a:pt x="110" y="710"/>
                  </a:lnTo>
                  <a:lnTo>
                    <a:pt x="86" y="656"/>
                  </a:lnTo>
                  <a:lnTo>
                    <a:pt x="70" y="610"/>
                  </a:lnTo>
                  <a:lnTo>
                    <a:pt x="20" y="502"/>
                  </a:lnTo>
                  <a:lnTo>
                    <a:pt x="0" y="446"/>
                  </a:lnTo>
                  <a:lnTo>
                    <a:pt x="0" y="434"/>
                  </a:lnTo>
                  <a:lnTo>
                    <a:pt x="24" y="442"/>
                  </a:lnTo>
                  <a:lnTo>
                    <a:pt x="54" y="472"/>
                  </a:lnTo>
                  <a:lnTo>
                    <a:pt x="82" y="460"/>
                  </a:lnTo>
                  <a:lnTo>
                    <a:pt x="56" y="362"/>
                  </a:lnTo>
                  <a:lnTo>
                    <a:pt x="50" y="314"/>
                  </a:lnTo>
                  <a:lnTo>
                    <a:pt x="50" y="266"/>
                  </a:lnTo>
                  <a:lnTo>
                    <a:pt x="38" y="210"/>
                  </a:lnTo>
                  <a:lnTo>
                    <a:pt x="26" y="172"/>
                  </a:lnTo>
                  <a:lnTo>
                    <a:pt x="18" y="128"/>
                  </a:lnTo>
                  <a:lnTo>
                    <a:pt x="10" y="56"/>
                  </a:lnTo>
                  <a:lnTo>
                    <a:pt x="18" y="26"/>
                  </a:lnTo>
                  <a:lnTo>
                    <a:pt x="28" y="0"/>
                  </a:lnTo>
                  <a:lnTo>
                    <a:pt x="44" y="2"/>
                  </a:lnTo>
                  <a:lnTo>
                    <a:pt x="74" y="0"/>
                  </a:lnTo>
                  <a:lnTo>
                    <a:pt x="108" y="10"/>
                  </a:lnTo>
                  <a:lnTo>
                    <a:pt x="172" y="48"/>
                  </a:lnTo>
                  <a:lnTo>
                    <a:pt x="202" y="48"/>
                  </a:lnTo>
                  <a:lnTo>
                    <a:pt x="218" y="40"/>
                  </a:lnTo>
                  <a:lnTo>
                    <a:pt x="214" y="4"/>
                  </a:lnTo>
                  <a:lnTo>
                    <a:pt x="232" y="2"/>
                  </a:lnTo>
                  <a:lnTo>
                    <a:pt x="250" y="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15200" y="4264200"/>
              <a:ext cx="4320" cy="13320"/>
            </a:xfrm>
            <a:custGeom>
              <a:avLst/>
              <a:gdLst/>
              <a:ahLst/>
              <a:rect l="l" t="t" r="r" b="b"/>
              <a:pathLst>
                <a:path w="30" h="74">
                  <a:moveTo>
                    <a:pt x="2" y="14"/>
                  </a:moveTo>
                  <a:lnTo>
                    <a:pt x="0" y="0"/>
                  </a:lnTo>
                  <a:lnTo>
                    <a:pt x="16" y="6"/>
                  </a:lnTo>
                  <a:lnTo>
                    <a:pt x="30" y="70"/>
                  </a:lnTo>
                  <a:lnTo>
                    <a:pt x="20" y="74"/>
                  </a:lnTo>
                  <a:lnTo>
                    <a:pt x="2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0" bIns="-32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22760" y="4313160"/>
              <a:ext cx="7560" cy="1044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10" y="40"/>
                  </a:moveTo>
                  <a:lnTo>
                    <a:pt x="2" y="32"/>
                  </a:lnTo>
                  <a:lnTo>
                    <a:pt x="0" y="6"/>
                  </a:lnTo>
                  <a:lnTo>
                    <a:pt x="26" y="0"/>
                  </a:lnTo>
                  <a:lnTo>
                    <a:pt x="36" y="10"/>
                  </a:lnTo>
                  <a:lnTo>
                    <a:pt x="44" y="28"/>
                  </a:lnTo>
                  <a:lnTo>
                    <a:pt x="44" y="60"/>
                  </a:lnTo>
                  <a:lnTo>
                    <a:pt x="28" y="62"/>
                  </a:lnTo>
                  <a:lnTo>
                    <a:pt x="10" y="4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32120" y="4342320"/>
              <a:ext cx="4320" cy="1512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0" y="3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0" y="76"/>
                  </a:lnTo>
                  <a:lnTo>
                    <a:pt x="16" y="90"/>
                  </a:lnTo>
                  <a:lnTo>
                    <a:pt x="6" y="68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600" bIns="-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42920" y="4347000"/>
              <a:ext cx="6120" cy="43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4" y="20"/>
                  </a:lnTo>
                  <a:lnTo>
                    <a:pt x="36" y="30"/>
                  </a:lnTo>
                  <a:lnTo>
                    <a:pt x="4" y="22"/>
                  </a:lnTo>
                  <a:lnTo>
                    <a:pt x="0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54080" y="4323960"/>
              <a:ext cx="9000" cy="1332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0" y="4"/>
                  </a:moveTo>
                  <a:lnTo>
                    <a:pt x="6" y="0"/>
                  </a:lnTo>
                  <a:lnTo>
                    <a:pt x="10" y="12"/>
                  </a:lnTo>
                  <a:lnTo>
                    <a:pt x="30" y="36"/>
                  </a:lnTo>
                  <a:lnTo>
                    <a:pt x="44" y="44"/>
                  </a:lnTo>
                  <a:lnTo>
                    <a:pt x="56" y="62"/>
                  </a:lnTo>
                  <a:lnTo>
                    <a:pt x="60" y="72"/>
                  </a:lnTo>
                  <a:lnTo>
                    <a:pt x="54" y="66"/>
                  </a:lnTo>
                  <a:lnTo>
                    <a:pt x="42" y="64"/>
                  </a:lnTo>
                  <a:lnTo>
                    <a:pt x="2" y="14"/>
                  </a:lnTo>
                  <a:lnTo>
                    <a:pt x="0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0" bIns="-32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72800" y="4339440"/>
              <a:ext cx="2880" cy="756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6"/>
                  </a:moveTo>
                  <a:lnTo>
                    <a:pt x="4" y="0"/>
                  </a:lnTo>
                  <a:lnTo>
                    <a:pt x="16" y="28"/>
                  </a:lnTo>
                  <a:lnTo>
                    <a:pt x="20" y="44"/>
                  </a:lnTo>
                  <a:lnTo>
                    <a:pt x="16" y="46"/>
                  </a:lnTo>
                  <a:lnTo>
                    <a:pt x="0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63080" y="4343760"/>
              <a:ext cx="23040" cy="24480"/>
            </a:xfrm>
            <a:custGeom>
              <a:avLst/>
              <a:gdLst/>
              <a:ahLst/>
              <a:rect l="l" t="t" r="r" b="b"/>
              <a:pathLst>
                <a:path w="136" h="146">
                  <a:moveTo>
                    <a:pt x="0" y="0"/>
                  </a:moveTo>
                  <a:lnTo>
                    <a:pt x="10" y="6"/>
                  </a:lnTo>
                  <a:lnTo>
                    <a:pt x="16" y="14"/>
                  </a:lnTo>
                  <a:lnTo>
                    <a:pt x="22" y="18"/>
                  </a:lnTo>
                  <a:lnTo>
                    <a:pt x="34" y="18"/>
                  </a:lnTo>
                  <a:lnTo>
                    <a:pt x="120" y="94"/>
                  </a:lnTo>
                  <a:lnTo>
                    <a:pt x="130" y="116"/>
                  </a:lnTo>
                  <a:lnTo>
                    <a:pt x="136" y="146"/>
                  </a:lnTo>
                  <a:lnTo>
                    <a:pt x="110" y="136"/>
                  </a:lnTo>
                  <a:lnTo>
                    <a:pt x="84" y="116"/>
                  </a:lnTo>
                  <a:lnTo>
                    <a:pt x="62" y="82"/>
                  </a:lnTo>
                  <a:lnTo>
                    <a:pt x="50" y="72"/>
                  </a:lnTo>
                  <a:lnTo>
                    <a:pt x="34" y="88"/>
                  </a:lnTo>
                  <a:lnTo>
                    <a:pt x="20" y="110"/>
                  </a:lnTo>
                  <a:lnTo>
                    <a:pt x="12" y="104"/>
                  </a:lnTo>
                  <a:lnTo>
                    <a:pt x="10" y="60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240" bIns="-21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89720" y="4340880"/>
              <a:ext cx="42120" cy="48960"/>
            </a:xfrm>
            <a:custGeom>
              <a:avLst/>
              <a:gdLst/>
              <a:ahLst/>
              <a:rect l="l" t="t" r="r" b="b"/>
              <a:pathLst>
                <a:path w="244" h="284">
                  <a:moveTo>
                    <a:pt x="0" y="16"/>
                  </a:moveTo>
                  <a:lnTo>
                    <a:pt x="6" y="14"/>
                  </a:lnTo>
                  <a:lnTo>
                    <a:pt x="66" y="16"/>
                  </a:lnTo>
                  <a:lnTo>
                    <a:pt x="94" y="0"/>
                  </a:lnTo>
                  <a:lnTo>
                    <a:pt x="110" y="4"/>
                  </a:lnTo>
                  <a:lnTo>
                    <a:pt x="134" y="18"/>
                  </a:lnTo>
                  <a:lnTo>
                    <a:pt x="148" y="46"/>
                  </a:lnTo>
                  <a:lnTo>
                    <a:pt x="174" y="66"/>
                  </a:lnTo>
                  <a:lnTo>
                    <a:pt x="180" y="104"/>
                  </a:lnTo>
                  <a:lnTo>
                    <a:pt x="186" y="154"/>
                  </a:lnTo>
                  <a:lnTo>
                    <a:pt x="194" y="188"/>
                  </a:lnTo>
                  <a:lnTo>
                    <a:pt x="224" y="254"/>
                  </a:lnTo>
                  <a:lnTo>
                    <a:pt x="244" y="282"/>
                  </a:lnTo>
                  <a:lnTo>
                    <a:pt x="204" y="284"/>
                  </a:lnTo>
                  <a:lnTo>
                    <a:pt x="174" y="274"/>
                  </a:lnTo>
                  <a:lnTo>
                    <a:pt x="158" y="240"/>
                  </a:lnTo>
                  <a:lnTo>
                    <a:pt x="142" y="232"/>
                  </a:lnTo>
                  <a:lnTo>
                    <a:pt x="122" y="212"/>
                  </a:lnTo>
                  <a:lnTo>
                    <a:pt x="118" y="196"/>
                  </a:lnTo>
                  <a:lnTo>
                    <a:pt x="120" y="170"/>
                  </a:lnTo>
                  <a:lnTo>
                    <a:pt x="114" y="160"/>
                  </a:lnTo>
                  <a:lnTo>
                    <a:pt x="66" y="108"/>
                  </a:lnTo>
                  <a:lnTo>
                    <a:pt x="46" y="98"/>
                  </a:lnTo>
                  <a:lnTo>
                    <a:pt x="24" y="72"/>
                  </a:lnTo>
                  <a:lnTo>
                    <a:pt x="2" y="24"/>
                  </a:lnTo>
                  <a:lnTo>
                    <a:pt x="0" y="1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40" bIns="3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33560" y="4365360"/>
              <a:ext cx="32760" cy="47520"/>
            </a:xfrm>
            <a:custGeom>
              <a:avLst/>
              <a:gdLst/>
              <a:ahLst/>
              <a:rect l="l" t="t" r="r" b="b"/>
              <a:pathLst>
                <a:path w="182" h="278">
                  <a:moveTo>
                    <a:pt x="0" y="4"/>
                  </a:moveTo>
                  <a:lnTo>
                    <a:pt x="6" y="0"/>
                  </a:lnTo>
                  <a:lnTo>
                    <a:pt x="30" y="6"/>
                  </a:lnTo>
                  <a:lnTo>
                    <a:pt x="68" y="36"/>
                  </a:lnTo>
                  <a:lnTo>
                    <a:pt x="78" y="56"/>
                  </a:lnTo>
                  <a:lnTo>
                    <a:pt x="94" y="60"/>
                  </a:lnTo>
                  <a:lnTo>
                    <a:pt x="136" y="60"/>
                  </a:lnTo>
                  <a:lnTo>
                    <a:pt x="144" y="72"/>
                  </a:lnTo>
                  <a:lnTo>
                    <a:pt x="166" y="64"/>
                  </a:lnTo>
                  <a:lnTo>
                    <a:pt x="174" y="66"/>
                  </a:lnTo>
                  <a:lnTo>
                    <a:pt x="182" y="106"/>
                  </a:lnTo>
                  <a:lnTo>
                    <a:pt x="178" y="144"/>
                  </a:lnTo>
                  <a:lnTo>
                    <a:pt x="160" y="162"/>
                  </a:lnTo>
                  <a:lnTo>
                    <a:pt x="146" y="196"/>
                  </a:lnTo>
                  <a:lnTo>
                    <a:pt x="128" y="216"/>
                  </a:lnTo>
                  <a:lnTo>
                    <a:pt x="116" y="226"/>
                  </a:lnTo>
                  <a:lnTo>
                    <a:pt x="96" y="230"/>
                  </a:lnTo>
                  <a:lnTo>
                    <a:pt x="66" y="248"/>
                  </a:lnTo>
                  <a:lnTo>
                    <a:pt x="52" y="278"/>
                  </a:lnTo>
                  <a:lnTo>
                    <a:pt x="38" y="240"/>
                  </a:lnTo>
                  <a:lnTo>
                    <a:pt x="32" y="198"/>
                  </a:lnTo>
                  <a:lnTo>
                    <a:pt x="34" y="152"/>
                  </a:lnTo>
                  <a:lnTo>
                    <a:pt x="26" y="60"/>
                  </a:lnTo>
                  <a:lnTo>
                    <a:pt x="20" y="40"/>
                  </a:lnTo>
                  <a:lnTo>
                    <a:pt x="4" y="22"/>
                  </a:lnTo>
                  <a:lnTo>
                    <a:pt x="0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800" bIns="1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55520" y="4404960"/>
              <a:ext cx="2880" cy="612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2" y="0"/>
                  </a:moveTo>
                  <a:lnTo>
                    <a:pt x="18" y="4"/>
                  </a:lnTo>
                  <a:lnTo>
                    <a:pt x="20" y="32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0" y="20"/>
                  </a:lnTo>
                  <a:lnTo>
                    <a:pt x="2" y="6"/>
                  </a:lnTo>
                  <a:lnTo>
                    <a:pt x="1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57320" y="4394520"/>
              <a:ext cx="21240" cy="61200"/>
            </a:xfrm>
            <a:custGeom>
              <a:avLst/>
              <a:gdLst/>
              <a:ahLst/>
              <a:rect l="l" t="t" r="r" b="b"/>
              <a:pathLst>
                <a:path w="130" h="358">
                  <a:moveTo>
                    <a:pt x="46" y="26"/>
                  </a:moveTo>
                  <a:lnTo>
                    <a:pt x="70" y="0"/>
                  </a:lnTo>
                  <a:lnTo>
                    <a:pt x="80" y="6"/>
                  </a:lnTo>
                  <a:lnTo>
                    <a:pt x="122" y="16"/>
                  </a:lnTo>
                  <a:lnTo>
                    <a:pt x="128" y="44"/>
                  </a:lnTo>
                  <a:lnTo>
                    <a:pt x="130" y="84"/>
                  </a:lnTo>
                  <a:lnTo>
                    <a:pt x="118" y="98"/>
                  </a:lnTo>
                  <a:lnTo>
                    <a:pt x="120" y="138"/>
                  </a:lnTo>
                  <a:lnTo>
                    <a:pt x="104" y="208"/>
                  </a:lnTo>
                  <a:lnTo>
                    <a:pt x="108" y="252"/>
                  </a:lnTo>
                  <a:lnTo>
                    <a:pt x="114" y="278"/>
                  </a:lnTo>
                  <a:lnTo>
                    <a:pt x="124" y="300"/>
                  </a:lnTo>
                  <a:lnTo>
                    <a:pt x="126" y="340"/>
                  </a:lnTo>
                  <a:lnTo>
                    <a:pt x="106" y="358"/>
                  </a:lnTo>
                  <a:lnTo>
                    <a:pt x="80" y="330"/>
                  </a:lnTo>
                  <a:lnTo>
                    <a:pt x="60" y="300"/>
                  </a:lnTo>
                  <a:lnTo>
                    <a:pt x="42" y="290"/>
                  </a:lnTo>
                  <a:lnTo>
                    <a:pt x="20" y="268"/>
                  </a:lnTo>
                  <a:lnTo>
                    <a:pt x="0" y="236"/>
                  </a:lnTo>
                  <a:lnTo>
                    <a:pt x="2" y="192"/>
                  </a:lnTo>
                  <a:lnTo>
                    <a:pt x="40" y="172"/>
                  </a:lnTo>
                  <a:lnTo>
                    <a:pt x="44" y="144"/>
                  </a:lnTo>
                  <a:lnTo>
                    <a:pt x="38" y="86"/>
                  </a:lnTo>
                  <a:lnTo>
                    <a:pt x="44" y="34"/>
                  </a:lnTo>
                  <a:lnTo>
                    <a:pt x="46" y="2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5480" bIns="154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396200" y="4368600"/>
              <a:ext cx="4320" cy="756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0" y="12"/>
                  </a:moveTo>
                  <a:lnTo>
                    <a:pt x="0" y="0"/>
                  </a:lnTo>
                  <a:lnTo>
                    <a:pt x="18" y="12"/>
                  </a:lnTo>
                  <a:lnTo>
                    <a:pt x="22" y="26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16" y="42"/>
                  </a:lnTo>
                  <a:lnTo>
                    <a:pt x="0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394400" y="4376160"/>
              <a:ext cx="28080" cy="45720"/>
            </a:xfrm>
            <a:custGeom>
              <a:avLst/>
              <a:gdLst/>
              <a:ahLst/>
              <a:rect l="l" t="t" r="r" b="b"/>
              <a:pathLst>
                <a:path w="168" h="270">
                  <a:moveTo>
                    <a:pt x="0" y="0"/>
                  </a:moveTo>
                  <a:lnTo>
                    <a:pt x="10" y="16"/>
                  </a:lnTo>
                  <a:lnTo>
                    <a:pt x="20" y="28"/>
                  </a:lnTo>
                  <a:lnTo>
                    <a:pt x="32" y="20"/>
                  </a:lnTo>
                  <a:lnTo>
                    <a:pt x="46" y="30"/>
                  </a:lnTo>
                  <a:lnTo>
                    <a:pt x="82" y="24"/>
                  </a:lnTo>
                  <a:lnTo>
                    <a:pt x="106" y="60"/>
                  </a:lnTo>
                  <a:lnTo>
                    <a:pt x="120" y="142"/>
                  </a:lnTo>
                  <a:lnTo>
                    <a:pt x="136" y="172"/>
                  </a:lnTo>
                  <a:lnTo>
                    <a:pt x="154" y="212"/>
                  </a:lnTo>
                  <a:lnTo>
                    <a:pt x="168" y="230"/>
                  </a:lnTo>
                  <a:lnTo>
                    <a:pt x="150" y="242"/>
                  </a:lnTo>
                  <a:lnTo>
                    <a:pt x="134" y="234"/>
                  </a:lnTo>
                  <a:lnTo>
                    <a:pt x="136" y="270"/>
                  </a:lnTo>
                  <a:lnTo>
                    <a:pt x="116" y="262"/>
                  </a:lnTo>
                  <a:lnTo>
                    <a:pt x="98" y="228"/>
                  </a:lnTo>
                  <a:lnTo>
                    <a:pt x="86" y="144"/>
                  </a:lnTo>
                  <a:lnTo>
                    <a:pt x="66" y="104"/>
                  </a:lnTo>
                  <a:lnTo>
                    <a:pt x="40" y="116"/>
                  </a:lnTo>
                  <a:lnTo>
                    <a:pt x="26" y="78"/>
                  </a:lnTo>
                  <a:lnTo>
                    <a:pt x="16" y="34"/>
                  </a:lnTo>
                  <a:lnTo>
                    <a:pt x="6" y="20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30400" y="4408200"/>
              <a:ext cx="6120" cy="2016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4" y="58"/>
                  </a:moveTo>
                  <a:lnTo>
                    <a:pt x="0" y="32"/>
                  </a:lnTo>
                  <a:lnTo>
                    <a:pt x="6" y="0"/>
                  </a:lnTo>
                  <a:lnTo>
                    <a:pt x="16" y="16"/>
                  </a:lnTo>
                  <a:lnTo>
                    <a:pt x="36" y="114"/>
                  </a:lnTo>
                  <a:lnTo>
                    <a:pt x="32" y="122"/>
                  </a:lnTo>
                  <a:lnTo>
                    <a:pt x="24" y="98"/>
                  </a:lnTo>
                  <a:lnTo>
                    <a:pt x="12" y="80"/>
                  </a:lnTo>
                  <a:lnTo>
                    <a:pt x="4" y="5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560" bIns="-255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43000" y="4423320"/>
              <a:ext cx="4320" cy="612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0" y="0"/>
                  </a:moveTo>
                  <a:lnTo>
                    <a:pt x="16" y="26"/>
                  </a:lnTo>
                  <a:lnTo>
                    <a:pt x="20" y="40"/>
                  </a:lnTo>
                  <a:lnTo>
                    <a:pt x="14" y="36"/>
                  </a:lnTo>
                  <a:lnTo>
                    <a:pt x="2" y="22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78920" y="4385160"/>
              <a:ext cx="12600" cy="56520"/>
            </a:xfrm>
            <a:custGeom>
              <a:avLst/>
              <a:gdLst/>
              <a:ahLst/>
              <a:rect l="l" t="t" r="r" b="b"/>
              <a:pathLst>
                <a:path w="78" h="334">
                  <a:moveTo>
                    <a:pt x="54" y="4"/>
                  </a:moveTo>
                  <a:lnTo>
                    <a:pt x="58" y="0"/>
                  </a:lnTo>
                  <a:lnTo>
                    <a:pt x="62" y="14"/>
                  </a:lnTo>
                  <a:lnTo>
                    <a:pt x="62" y="36"/>
                  </a:lnTo>
                  <a:lnTo>
                    <a:pt x="76" y="112"/>
                  </a:lnTo>
                  <a:lnTo>
                    <a:pt x="78" y="160"/>
                  </a:lnTo>
                  <a:lnTo>
                    <a:pt x="52" y="194"/>
                  </a:lnTo>
                  <a:lnTo>
                    <a:pt x="36" y="254"/>
                  </a:lnTo>
                  <a:lnTo>
                    <a:pt x="30" y="290"/>
                  </a:lnTo>
                  <a:lnTo>
                    <a:pt x="24" y="324"/>
                  </a:lnTo>
                  <a:lnTo>
                    <a:pt x="16" y="334"/>
                  </a:lnTo>
                  <a:lnTo>
                    <a:pt x="4" y="298"/>
                  </a:lnTo>
                  <a:lnTo>
                    <a:pt x="0" y="260"/>
                  </a:lnTo>
                  <a:lnTo>
                    <a:pt x="10" y="194"/>
                  </a:lnTo>
                  <a:lnTo>
                    <a:pt x="28" y="138"/>
                  </a:lnTo>
                  <a:lnTo>
                    <a:pt x="40" y="72"/>
                  </a:lnTo>
                  <a:lnTo>
                    <a:pt x="46" y="16"/>
                  </a:lnTo>
                  <a:lnTo>
                    <a:pt x="54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800" bIns="10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89720" y="4419000"/>
              <a:ext cx="18720" cy="1836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0" y="60"/>
                  </a:moveTo>
                  <a:lnTo>
                    <a:pt x="0" y="58"/>
                  </a:lnTo>
                  <a:lnTo>
                    <a:pt x="8" y="54"/>
                  </a:lnTo>
                  <a:lnTo>
                    <a:pt x="20" y="40"/>
                  </a:lnTo>
                  <a:lnTo>
                    <a:pt x="28" y="18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98" y="8"/>
                  </a:lnTo>
                  <a:lnTo>
                    <a:pt x="104" y="48"/>
                  </a:lnTo>
                  <a:lnTo>
                    <a:pt x="100" y="58"/>
                  </a:lnTo>
                  <a:lnTo>
                    <a:pt x="104" y="80"/>
                  </a:lnTo>
                  <a:lnTo>
                    <a:pt x="100" y="92"/>
                  </a:lnTo>
                  <a:lnTo>
                    <a:pt x="66" y="106"/>
                  </a:lnTo>
                  <a:lnTo>
                    <a:pt x="26" y="104"/>
                  </a:lnTo>
                  <a:lnTo>
                    <a:pt x="16" y="92"/>
                  </a:lnTo>
                  <a:lnTo>
                    <a:pt x="0" y="6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360" bIns="-27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54080" y="4431240"/>
              <a:ext cx="113760" cy="132120"/>
            </a:xfrm>
            <a:custGeom>
              <a:avLst/>
              <a:gdLst/>
              <a:ahLst/>
              <a:rect l="l" t="t" r="r" b="b"/>
              <a:pathLst>
                <a:path w="660" h="776">
                  <a:moveTo>
                    <a:pt x="440" y="6"/>
                  </a:moveTo>
                  <a:lnTo>
                    <a:pt x="438" y="0"/>
                  </a:lnTo>
                  <a:lnTo>
                    <a:pt x="466" y="2"/>
                  </a:lnTo>
                  <a:lnTo>
                    <a:pt x="488" y="34"/>
                  </a:lnTo>
                  <a:lnTo>
                    <a:pt x="508" y="46"/>
                  </a:lnTo>
                  <a:lnTo>
                    <a:pt x="538" y="86"/>
                  </a:lnTo>
                  <a:lnTo>
                    <a:pt x="552" y="88"/>
                  </a:lnTo>
                  <a:lnTo>
                    <a:pt x="566" y="114"/>
                  </a:lnTo>
                  <a:lnTo>
                    <a:pt x="588" y="156"/>
                  </a:lnTo>
                  <a:lnTo>
                    <a:pt x="592" y="176"/>
                  </a:lnTo>
                  <a:lnTo>
                    <a:pt x="572" y="214"/>
                  </a:lnTo>
                  <a:lnTo>
                    <a:pt x="600" y="234"/>
                  </a:lnTo>
                  <a:lnTo>
                    <a:pt x="606" y="276"/>
                  </a:lnTo>
                  <a:lnTo>
                    <a:pt x="618" y="290"/>
                  </a:lnTo>
                  <a:lnTo>
                    <a:pt x="630" y="352"/>
                  </a:lnTo>
                  <a:lnTo>
                    <a:pt x="642" y="376"/>
                  </a:lnTo>
                  <a:lnTo>
                    <a:pt x="656" y="418"/>
                  </a:lnTo>
                  <a:lnTo>
                    <a:pt x="660" y="482"/>
                  </a:lnTo>
                  <a:lnTo>
                    <a:pt x="650" y="508"/>
                  </a:lnTo>
                  <a:lnTo>
                    <a:pt x="636" y="518"/>
                  </a:lnTo>
                  <a:lnTo>
                    <a:pt x="626" y="546"/>
                  </a:lnTo>
                  <a:lnTo>
                    <a:pt x="632" y="630"/>
                  </a:lnTo>
                  <a:lnTo>
                    <a:pt x="612" y="610"/>
                  </a:lnTo>
                  <a:lnTo>
                    <a:pt x="598" y="566"/>
                  </a:lnTo>
                  <a:lnTo>
                    <a:pt x="592" y="512"/>
                  </a:lnTo>
                  <a:lnTo>
                    <a:pt x="576" y="486"/>
                  </a:lnTo>
                  <a:lnTo>
                    <a:pt x="560" y="454"/>
                  </a:lnTo>
                  <a:lnTo>
                    <a:pt x="550" y="446"/>
                  </a:lnTo>
                  <a:lnTo>
                    <a:pt x="538" y="462"/>
                  </a:lnTo>
                  <a:lnTo>
                    <a:pt x="508" y="542"/>
                  </a:lnTo>
                  <a:lnTo>
                    <a:pt x="506" y="586"/>
                  </a:lnTo>
                  <a:lnTo>
                    <a:pt x="526" y="610"/>
                  </a:lnTo>
                  <a:lnTo>
                    <a:pt x="542" y="644"/>
                  </a:lnTo>
                  <a:lnTo>
                    <a:pt x="556" y="684"/>
                  </a:lnTo>
                  <a:lnTo>
                    <a:pt x="554" y="706"/>
                  </a:lnTo>
                  <a:lnTo>
                    <a:pt x="530" y="776"/>
                  </a:lnTo>
                  <a:lnTo>
                    <a:pt x="510" y="762"/>
                  </a:lnTo>
                  <a:lnTo>
                    <a:pt x="498" y="720"/>
                  </a:lnTo>
                  <a:lnTo>
                    <a:pt x="494" y="698"/>
                  </a:lnTo>
                  <a:lnTo>
                    <a:pt x="474" y="718"/>
                  </a:lnTo>
                  <a:lnTo>
                    <a:pt x="448" y="726"/>
                  </a:lnTo>
                  <a:lnTo>
                    <a:pt x="424" y="718"/>
                  </a:lnTo>
                  <a:lnTo>
                    <a:pt x="364" y="680"/>
                  </a:lnTo>
                  <a:lnTo>
                    <a:pt x="340" y="648"/>
                  </a:lnTo>
                  <a:lnTo>
                    <a:pt x="324" y="620"/>
                  </a:lnTo>
                  <a:lnTo>
                    <a:pt x="318" y="586"/>
                  </a:lnTo>
                  <a:lnTo>
                    <a:pt x="308" y="558"/>
                  </a:lnTo>
                  <a:lnTo>
                    <a:pt x="296" y="514"/>
                  </a:lnTo>
                  <a:lnTo>
                    <a:pt x="322" y="460"/>
                  </a:lnTo>
                  <a:lnTo>
                    <a:pt x="318" y="434"/>
                  </a:lnTo>
                  <a:lnTo>
                    <a:pt x="296" y="400"/>
                  </a:lnTo>
                  <a:lnTo>
                    <a:pt x="262" y="372"/>
                  </a:lnTo>
                  <a:lnTo>
                    <a:pt x="236" y="358"/>
                  </a:lnTo>
                  <a:lnTo>
                    <a:pt x="218" y="360"/>
                  </a:lnTo>
                  <a:lnTo>
                    <a:pt x="204" y="412"/>
                  </a:lnTo>
                  <a:lnTo>
                    <a:pt x="204" y="432"/>
                  </a:lnTo>
                  <a:lnTo>
                    <a:pt x="186" y="420"/>
                  </a:lnTo>
                  <a:lnTo>
                    <a:pt x="170" y="420"/>
                  </a:lnTo>
                  <a:lnTo>
                    <a:pt x="168" y="396"/>
                  </a:lnTo>
                  <a:lnTo>
                    <a:pt x="138" y="436"/>
                  </a:lnTo>
                  <a:lnTo>
                    <a:pt x="136" y="458"/>
                  </a:lnTo>
                  <a:lnTo>
                    <a:pt x="122" y="426"/>
                  </a:lnTo>
                  <a:lnTo>
                    <a:pt x="112" y="388"/>
                  </a:lnTo>
                  <a:lnTo>
                    <a:pt x="92" y="388"/>
                  </a:lnTo>
                  <a:lnTo>
                    <a:pt x="66" y="432"/>
                  </a:lnTo>
                  <a:lnTo>
                    <a:pt x="44" y="532"/>
                  </a:lnTo>
                  <a:lnTo>
                    <a:pt x="30" y="538"/>
                  </a:lnTo>
                  <a:lnTo>
                    <a:pt x="14" y="536"/>
                  </a:lnTo>
                  <a:lnTo>
                    <a:pt x="0" y="498"/>
                  </a:lnTo>
                  <a:lnTo>
                    <a:pt x="12" y="422"/>
                  </a:lnTo>
                  <a:lnTo>
                    <a:pt x="16" y="364"/>
                  </a:lnTo>
                  <a:lnTo>
                    <a:pt x="38" y="328"/>
                  </a:lnTo>
                  <a:lnTo>
                    <a:pt x="116" y="298"/>
                  </a:lnTo>
                  <a:lnTo>
                    <a:pt x="122" y="268"/>
                  </a:lnTo>
                  <a:lnTo>
                    <a:pt x="138" y="242"/>
                  </a:lnTo>
                  <a:lnTo>
                    <a:pt x="162" y="222"/>
                  </a:lnTo>
                  <a:lnTo>
                    <a:pt x="176" y="200"/>
                  </a:lnTo>
                  <a:lnTo>
                    <a:pt x="228" y="224"/>
                  </a:lnTo>
                  <a:lnTo>
                    <a:pt x="246" y="266"/>
                  </a:lnTo>
                  <a:lnTo>
                    <a:pt x="238" y="328"/>
                  </a:lnTo>
                  <a:lnTo>
                    <a:pt x="292" y="294"/>
                  </a:lnTo>
                  <a:lnTo>
                    <a:pt x="306" y="238"/>
                  </a:lnTo>
                  <a:lnTo>
                    <a:pt x="330" y="220"/>
                  </a:lnTo>
                  <a:lnTo>
                    <a:pt x="350" y="228"/>
                  </a:lnTo>
                  <a:lnTo>
                    <a:pt x="362" y="206"/>
                  </a:lnTo>
                  <a:lnTo>
                    <a:pt x="362" y="170"/>
                  </a:lnTo>
                  <a:lnTo>
                    <a:pt x="372" y="148"/>
                  </a:lnTo>
                  <a:lnTo>
                    <a:pt x="404" y="162"/>
                  </a:lnTo>
                  <a:lnTo>
                    <a:pt x="432" y="140"/>
                  </a:lnTo>
                  <a:lnTo>
                    <a:pt x="452" y="148"/>
                  </a:lnTo>
                  <a:lnTo>
                    <a:pt x="464" y="134"/>
                  </a:lnTo>
                  <a:lnTo>
                    <a:pt x="462" y="88"/>
                  </a:lnTo>
                  <a:lnTo>
                    <a:pt x="444" y="26"/>
                  </a:lnTo>
                  <a:lnTo>
                    <a:pt x="440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52280" y="4530960"/>
              <a:ext cx="12600" cy="7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0" y="16"/>
                  </a:moveTo>
                  <a:lnTo>
                    <a:pt x="14" y="0"/>
                  </a:lnTo>
                  <a:lnTo>
                    <a:pt x="32" y="0"/>
                  </a:lnTo>
                  <a:lnTo>
                    <a:pt x="60" y="12"/>
                  </a:lnTo>
                  <a:lnTo>
                    <a:pt x="70" y="22"/>
                  </a:lnTo>
                  <a:lnTo>
                    <a:pt x="52" y="46"/>
                  </a:lnTo>
                  <a:lnTo>
                    <a:pt x="28" y="50"/>
                  </a:lnTo>
                  <a:lnTo>
                    <a:pt x="12" y="34"/>
                  </a:lnTo>
                  <a:lnTo>
                    <a:pt x="0" y="1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32120" y="4552560"/>
              <a:ext cx="12240" cy="576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0" y="32"/>
                  </a:moveTo>
                  <a:lnTo>
                    <a:pt x="0" y="20"/>
                  </a:lnTo>
                  <a:lnTo>
                    <a:pt x="2" y="8"/>
                  </a:lnTo>
                  <a:lnTo>
                    <a:pt x="20" y="0"/>
                  </a:lnTo>
                  <a:lnTo>
                    <a:pt x="68" y="16"/>
                  </a:lnTo>
                  <a:lnTo>
                    <a:pt x="58" y="42"/>
                  </a:lnTo>
                  <a:lnTo>
                    <a:pt x="34" y="28"/>
                  </a:lnTo>
                  <a:lnTo>
                    <a:pt x="14" y="34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05480" y="4576680"/>
              <a:ext cx="10800" cy="7560"/>
            </a:xfrm>
            <a:custGeom>
              <a:avLst/>
              <a:gdLst/>
              <a:ahLst/>
              <a:rect l="l" t="t" r="r" b="b"/>
              <a:pathLst>
                <a:path w="56" h="50">
                  <a:moveTo>
                    <a:pt x="4" y="50"/>
                  </a:moveTo>
                  <a:lnTo>
                    <a:pt x="0" y="42"/>
                  </a:lnTo>
                  <a:lnTo>
                    <a:pt x="6" y="22"/>
                  </a:lnTo>
                  <a:lnTo>
                    <a:pt x="14" y="12"/>
                  </a:lnTo>
                  <a:lnTo>
                    <a:pt x="32" y="0"/>
                  </a:lnTo>
                  <a:lnTo>
                    <a:pt x="50" y="6"/>
                  </a:lnTo>
                  <a:lnTo>
                    <a:pt x="56" y="20"/>
                  </a:lnTo>
                  <a:lnTo>
                    <a:pt x="18" y="38"/>
                  </a:lnTo>
                  <a:lnTo>
                    <a:pt x="4" y="5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6960600" y="5098320"/>
              <a:ext cx="996840" cy="1059120"/>
              <a:chOff x="6960600" y="5098320"/>
              <a:chExt cx="996840" cy="1059120"/>
            </a:xfrm>
          </p:grpSpPr>
          <p:sp>
            <p:nvSpPr>
              <p:cNvPr id="762" name=""/>
              <p:cNvSpPr/>
              <p:nvPr/>
            </p:nvSpPr>
            <p:spPr>
              <a:xfrm>
                <a:off x="7941240" y="5576040"/>
                <a:ext cx="16200" cy="30240"/>
              </a:xfrm>
              <a:custGeom>
                <a:avLst/>
                <a:gdLst/>
                <a:ahLst/>
                <a:rect l="l" t="t" r="r" b="b"/>
                <a:pathLst>
                  <a:path w="96" h="180">
                    <a:moveTo>
                      <a:pt x="88" y="10"/>
                    </a:moveTo>
                    <a:lnTo>
                      <a:pt x="96" y="0"/>
                    </a:lnTo>
                    <a:lnTo>
                      <a:pt x="96" y="48"/>
                    </a:lnTo>
                    <a:lnTo>
                      <a:pt x="76" y="94"/>
                    </a:lnTo>
                    <a:lnTo>
                      <a:pt x="22" y="158"/>
                    </a:lnTo>
                    <a:lnTo>
                      <a:pt x="8" y="180"/>
                    </a:lnTo>
                    <a:lnTo>
                      <a:pt x="0" y="180"/>
                    </a:lnTo>
                    <a:lnTo>
                      <a:pt x="12" y="144"/>
                    </a:lnTo>
                    <a:lnTo>
                      <a:pt x="36" y="90"/>
                    </a:lnTo>
                    <a:lnTo>
                      <a:pt x="64" y="66"/>
                    </a:lnTo>
                    <a:lnTo>
                      <a:pt x="84" y="36"/>
                    </a:lnTo>
                    <a:lnTo>
                      <a:pt x="88" y="1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480" bIns="-15480" anchor="t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921080" y="56613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26" y="0"/>
                    </a:moveTo>
                    <a:lnTo>
                      <a:pt x="36" y="0"/>
                    </a:lnTo>
                    <a:lnTo>
                      <a:pt x="32" y="14"/>
                    </a:lnTo>
                    <a:lnTo>
                      <a:pt x="18" y="36"/>
                    </a:lnTo>
                    <a:lnTo>
                      <a:pt x="2" y="54"/>
                    </a:lnTo>
                    <a:lnTo>
                      <a:pt x="0" y="48"/>
                    </a:lnTo>
                    <a:lnTo>
                      <a:pt x="12" y="18"/>
                    </a:lnTo>
                    <a:lnTo>
                      <a:pt x="26" y="0"/>
                    </a:lnTo>
                    <a:lnTo>
                      <a:pt x="12" y="1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360" bIns="-36360" anchor="t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60600" y="5098320"/>
                <a:ext cx="980640" cy="921960"/>
              </a:xfrm>
              <a:custGeom>
                <a:avLst/>
                <a:gdLst/>
                <a:ahLst/>
                <a:rect l="l" t="t" r="r" b="b"/>
                <a:pathLst>
                  <a:path w="5652" h="5400">
                    <a:moveTo>
                      <a:pt x="634" y="1920"/>
                    </a:moveTo>
                    <a:lnTo>
                      <a:pt x="654" y="1904"/>
                    </a:lnTo>
                    <a:lnTo>
                      <a:pt x="638" y="1952"/>
                    </a:lnTo>
                    <a:lnTo>
                      <a:pt x="634" y="1962"/>
                    </a:lnTo>
                    <a:lnTo>
                      <a:pt x="626" y="1974"/>
                    </a:lnTo>
                    <a:lnTo>
                      <a:pt x="620" y="1988"/>
                    </a:lnTo>
                    <a:lnTo>
                      <a:pt x="626" y="1996"/>
                    </a:lnTo>
                    <a:lnTo>
                      <a:pt x="618" y="2018"/>
                    </a:lnTo>
                    <a:lnTo>
                      <a:pt x="608" y="2034"/>
                    </a:lnTo>
                    <a:lnTo>
                      <a:pt x="618" y="2040"/>
                    </a:lnTo>
                    <a:lnTo>
                      <a:pt x="646" y="2020"/>
                    </a:lnTo>
                    <a:lnTo>
                      <a:pt x="668" y="1978"/>
                    </a:lnTo>
                    <a:lnTo>
                      <a:pt x="706" y="1930"/>
                    </a:lnTo>
                    <a:lnTo>
                      <a:pt x="726" y="1922"/>
                    </a:lnTo>
                    <a:lnTo>
                      <a:pt x="750" y="1908"/>
                    </a:lnTo>
                    <a:lnTo>
                      <a:pt x="768" y="1902"/>
                    </a:lnTo>
                    <a:lnTo>
                      <a:pt x="792" y="1882"/>
                    </a:lnTo>
                    <a:lnTo>
                      <a:pt x="844" y="1874"/>
                    </a:lnTo>
                    <a:lnTo>
                      <a:pt x="864" y="1848"/>
                    </a:lnTo>
                    <a:lnTo>
                      <a:pt x="888" y="1826"/>
                    </a:lnTo>
                    <a:lnTo>
                      <a:pt x="910" y="1814"/>
                    </a:lnTo>
                    <a:lnTo>
                      <a:pt x="934" y="1782"/>
                    </a:lnTo>
                    <a:lnTo>
                      <a:pt x="976" y="1764"/>
                    </a:lnTo>
                    <a:lnTo>
                      <a:pt x="994" y="1750"/>
                    </a:lnTo>
                    <a:lnTo>
                      <a:pt x="1016" y="1738"/>
                    </a:lnTo>
                    <a:lnTo>
                      <a:pt x="1070" y="1702"/>
                    </a:lnTo>
                    <a:lnTo>
                      <a:pt x="1080" y="1700"/>
                    </a:lnTo>
                    <a:lnTo>
                      <a:pt x="1084" y="1708"/>
                    </a:lnTo>
                    <a:lnTo>
                      <a:pt x="1124" y="1712"/>
                    </a:lnTo>
                    <a:lnTo>
                      <a:pt x="1142" y="1724"/>
                    </a:lnTo>
                    <a:lnTo>
                      <a:pt x="1166" y="1728"/>
                    </a:lnTo>
                    <a:lnTo>
                      <a:pt x="1190" y="1724"/>
                    </a:lnTo>
                    <a:lnTo>
                      <a:pt x="1214" y="1718"/>
                    </a:lnTo>
                    <a:lnTo>
                      <a:pt x="1246" y="1690"/>
                    </a:lnTo>
                    <a:lnTo>
                      <a:pt x="1276" y="1674"/>
                    </a:lnTo>
                    <a:lnTo>
                      <a:pt x="1302" y="1668"/>
                    </a:lnTo>
                    <a:lnTo>
                      <a:pt x="1330" y="1668"/>
                    </a:lnTo>
                    <a:lnTo>
                      <a:pt x="1356" y="1662"/>
                    </a:lnTo>
                    <a:lnTo>
                      <a:pt x="1426" y="1604"/>
                    </a:lnTo>
                    <a:lnTo>
                      <a:pt x="1462" y="1604"/>
                    </a:lnTo>
                    <a:lnTo>
                      <a:pt x="1482" y="1622"/>
                    </a:lnTo>
                    <a:lnTo>
                      <a:pt x="1516" y="1606"/>
                    </a:lnTo>
                    <a:lnTo>
                      <a:pt x="1548" y="1608"/>
                    </a:lnTo>
                    <a:lnTo>
                      <a:pt x="1572" y="1604"/>
                    </a:lnTo>
                    <a:lnTo>
                      <a:pt x="1602" y="1584"/>
                    </a:lnTo>
                    <a:lnTo>
                      <a:pt x="1666" y="1572"/>
                    </a:lnTo>
                    <a:lnTo>
                      <a:pt x="1700" y="1556"/>
                    </a:lnTo>
                    <a:lnTo>
                      <a:pt x="1724" y="1540"/>
                    </a:lnTo>
                    <a:lnTo>
                      <a:pt x="1800" y="1476"/>
                    </a:lnTo>
                    <a:lnTo>
                      <a:pt x="1812" y="1456"/>
                    </a:lnTo>
                    <a:lnTo>
                      <a:pt x="1822" y="1424"/>
                    </a:lnTo>
                    <a:lnTo>
                      <a:pt x="1852" y="1388"/>
                    </a:lnTo>
                    <a:lnTo>
                      <a:pt x="1860" y="1376"/>
                    </a:lnTo>
                    <a:lnTo>
                      <a:pt x="1868" y="1354"/>
                    </a:lnTo>
                    <a:lnTo>
                      <a:pt x="1884" y="1356"/>
                    </a:lnTo>
                    <a:lnTo>
                      <a:pt x="1954" y="1290"/>
                    </a:lnTo>
                    <a:lnTo>
                      <a:pt x="1966" y="1274"/>
                    </a:lnTo>
                    <a:lnTo>
                      <a:pt x="1958" y="1266"/>
                    </a:lnTo>
                    <a:lnTo>
                      <a:pt x="1962" y="1168"/>
                    </a:lnTo>
                    <a:lnTo>
                      <a:pt x="1974" y="1128"/>
                    </a:lnTo>
                    <a:lnTo>
                      <a:pt x="2004" y="1090"/>
                    </a:lnTo>
                    <a:lnTo>
                      <a:pt x="2018" y="1080"/>
                    </a:lnTo>
                    <a:lnTo>
                      <a:pt x="2032" y="1082"/>
                    </a:lnTo>
                    <a:lnTo>
                      <a:pt x="2046" y="1058"/>
                    </a:lnTo>
                    <a:lnTo>
                      <a:pt x="2072" y="1036"/>
                    </a:lnTo>
                    <a:lnTo>
                      <a:pt x="2082" y="1036"/>
                    </a:lnTo>
                    <a:lnTo>
                      <a:pt x="2084" y="1018"/>
                    </a:lnTo>
                    <a:lnTo>
                      <a:pt x="2102" y="984"/>
                    </a:lnTo>
                    <a:lnTo>
                      <a:pt x="2110" y="980"/>
                    </a:lnTo>
                    <a:lnTo>
                      <a:pt x="2108" y="1012"/>
                    </a:lnTo>
                    <a:lnTo>
                      <a:pt x="2114" y="1032"/>
                    </a:lnTo>
                    <a:lnTo>
                      <a:pt x="2120" y="1084"/>
                    </a:lnTo>
                    <a:lnTo>
                      <a:pt x="2126" y="1126"/>
                    </a:lnTo>
                    <a:lnTo>
                      <a:pt x="2136" y="1150"/>
                    </a:lnTo>
                    <a:lnTo>
                      <a:pt x="2140" y="1178"/>
                    </a:lnTo>
                    <a:lnTo>
                      <a:pt x="2148" y="1194"/>
                    </a:lnTo>
                    <a:lnTo>
                      <a:pt x="2166" y="1158"/>
                    </a:lnTo>
                    <a:lnTo>
                      <a:pt x="2180" y="1110"/>
                    </a:lnTo>
                    <a:lnTo>
                      <a:pt x="2184" y="1112"/>
                    </a:lnTo>
                    <a:lnTo>
                      <a:pt x="2204" y="1108"/>
                    </a:lnTo>
                    <a:lnTo>
                      <a:pt x="2210" y="1068"/>
                    </a:lnTo>
                    <a:lnTo>
                      <a:pt x="2200" y="1030"/>
                    </a:lnTo>
                    <a:lnTo>
                      <a:pt x="2188" y="1014"/>
                    </a:lnTo>
                    <a:lnTo>
                      <a:pt x="2198" y="1000"/>
                    </a:lnTo>
                    <a:lnTo>
                      <a:pt x="2206" y="946"/>
                    </a:lnTo>
                    <a:lnTo>
                      <a:pt x="2222" y="932"/>
                    </a:lnTo>
                    <a:lnTo>
                      <a:pt x="2246" y="950"/>
                    </a:lnTo>
                    <a:lnTo>
                      <a:pt x="2268" y="944"/>
                    </a:lnTo>
                    <a:lnTo>
                      <a:pt x="2286" y="998"/>
                    </a:lnTo>
                    <a:lnTo>
                      <a:pt x="2326" y="1010"/>
                    </a:lnTo>
                    <a:lnTo>
                      <a:pt x="2338" y="986"/>
                    </a:lnTo>
                    <a:lnTo>
                      <a:pt x="2318" y="970"/>
                    </a:lnTo>
                    <a:lnTo>
                      <a:pt x="2332" y="932"/>
                    </a:lnTo>
                    <a:lnTo>
                      <a:pt x="2366" y="898"/>
                    </a:lnTo>
                    <a:lnTo>
                      <a:pt x="2376" y="880"/>
                    </a:lnTo>
                    <a:lnTo>
                      <a:pt x="2376" y="824"/>
                    </a:lnTo>
                    <a:lnTo>
                      <a:pt x="2392" y="804"/>
                    </a:lnTo>
                    <a:lnTo>
                      <a:pt x="2414" y="798"/>
                    </a:lnTo>
                    <a:lnTo>
                      <a:pt x="2438" y="818"/>
                    </a:lnTo>
                    <a:lnTo>
                      <a:pt x="2446" y="810"/>
                    </a:lnTo>
                    <a:lnTo>
                      <a:pt x="2440" y="770"/>
                    </a:lnTo>
                    <a:lnTo>
                      <a:pt x="2446" y="750"/>
                    </a:lnTo>
                    <a:lnTo>
                      <a:pt x="2460" y="734"/>
                    </a:lnTo>
                    <a:lnTo>
                      <a:pt x="2502" y="756"/>
                    </a:lnTo>
                    <a:lnTo>
                      <a:pt x="2504" y="740"/>
                    </a:lnTo>
                    <a:lnTo>
                      <a:pt x="2496" y="706"/>
                    </a:lnTo>
                    <a:lnTo>
                      <a:pt x="2502" y="666"/>
                    </a:lnTo>
                    <a:lnTo>
                      <a:pt x="2526" y="654"/>
                    </a:lnTo>
                    <a:lnTo>
                      <a:pt x="2540" y="654"/>
                    </a:lnTo>
                    <a:lnTo>
                      <a:pt x="2558" y="646"/>
                    </a:lnTo>
                    <a:lnTo>
                      <a:pt x="2582" y="646"/>
                    </a:lnTo>
                    <a:lnTo>
                      <a:pt x="2580" y="672"/>
                    </a:lnTo>
                    <a:lnTo>
                      <a:pt x="2596" y="664"/>
                    </a:lnTo>
                    <a:lnTo>
                      <a:pt x="2618" y="644"/>
                    </a:lnTo>
                    <a:lnTo>
                      <a:pt x="2638" y="606"/>
                    </a:lnTo>
                    <a:lnTo>
                      <a:pt x="2642" y="588"/>
                    </a:lnTo>
                    <a:lnTo>
                      <a:pt x="2632" y="564"/>
                    </a:lnTo>
                    <a:lnTo>
                      <a:pt x="2644" y="544"/>
                    </a:lnTo>
                    <a:lnTo>
                      <a:pt x="2652" y="564"/>
                    </a:lnTo>
                    <a:lnTo>
                      <a:pt x="2652" y="592"/>
                    </a:lnTo>
                    <a:lnTo>
                      <a:pt x="2670" y="580"/>
                    </a:lnTo>
                    <a:lnTo>
                      <a:pt x="2682" y="560"/>
                    </a:lnTo>
                    <a:lnTo>
                      <a:pt x="2688" y="564"/>
                    </a:lnTo>
                    <a:lnTo>
                      <a:pt x="2688" y="580"/>
                    </a:lnTo>
                    <a:lnTo>
                      <a:pt x="2704" y="578"/>
                    </a:lnTo>
                    <a:lnTo>
                      <a:pt x="2738" y="558"/>
                    </a:lnTo>
                    <a:lnTo>
                      <a:pt x="2750" y="546"/>
                    </a:lnTo>
                    <a:lnTo>
                      <a:pt x="2748" y="522"/>
                    </a:lnTo>
                    <a:lnTo>
                      <a:pt x="2770" y="518"/>
                    </a:lnTo>
                    <a:lnTo>
                      <a:pt x="2776" y="526"/>
                    </a:lnTo>
                    <a:lnTo>
                      <a:pt x="2796" y="540"/>
                    </a:lnTo>
                    <a:lnTo>
                      <a:pt x="2820" y="540"/>
                    </a:lnTo>
                    <a:lnTo>
                      <a:pt x="2842" y="562"/>
                    </a:lnTo>
                    <a:lnTo>
                      <a:pt x="2858" y="584"/>
                    </a:lnTo>
                    <a:lnTo>
                      <a:pt x="2884" y="660"/>
                    </a:lnTo>
                    <a:lnTo>
                      <a:pt x="2912" y="696"/>
                    </a:lnTo>
                    <a:lnTo>
                      <a:pt x="2892" y="750"/>
                    </a:lnTo>
                    <a:lnTo>
                      <a:pt x="2884" y="786"/>
                    </a:lnTo>
                    <a:lnTo>
                      <a:pt x="2886" y="794"/>
                    </a:lnTo>
                    <a:lnTo>
                      <a:pt x="2890" y="800"/>
                    </a:lnTo>
                    <a:lnTo>
                      <a:pt x="2896" y="790"/>
                    </a:lnTo>
                    <a:lnTo>
                      <a:pt x="2906" y="766"/>
                    </a:lnTo>
                    <a:lnTo>
                      <a:pt x="2906" y="756"/>
                    </a:lnTo>
                    <a:lnTo>
                      <a:pt x="2922" y="740"/>
                    </a:lnTo>
                    <a:lnTo>
                      <a:pt x="2930" y="742"/>
                    </a:lnTo>
                    <a:lnTo>
                      <a:pt x="2934" y="736"/>
                    </a:lnTo>
                    <a:lnTo>
                      <a:pt x="2950" y="742"/>
                    </a:lnTo>
                    <a:lnTo>
                      <a:pt x="2952" y="720"/>
                    </a:lnTo>
                    <a:lnTo>
                      <a:pt x="2964" y="714"/>
                    </a:lnTo>
                    <a:lnTo>
                      <a:pt x="2986" y="726"/>
                    </a:lnTo>
                    <a:lnTo>
                      <a:pt x="3018" y="726"/>
                    </a:lnTo>
                    <a:lnTo>
                      <a:pt x="3050" y="720"/>
                    </a:lnTo>
                    <a:lnTo>
                      <a:pt x="3064" y="736"/>
                    </a:lnTo>
                    <a:lnTo>
                      <a:pt x="3096" y="798"/>
                    </a:lnTo>
                    <a:lnTo>
                      <a:pt x="3108" y="794"/>
                    </a:lnTo>
                    <a:lnTo>
                      <a:pt x="3110" y="780"/>
                    </a:lnTo>
                    <a:lnTo>
                      <a:pt x="3112" y="742"/>
                    </a:lnTo>
                    <a:lnTo>
                      <a:pt x="3134" y="730"/>
                    </a:lnTo>
                    <a:lnTo>
                      <a:pt x="3136" y="724"/>
                    </a:lnTo>
                    <a:lnTo>
                      <a:pt x="3112" y="676"/>
                    </a:lnTo>
                    <a:lnTo>
                      <a:pt x="3098" y="634"/>
                    </a:lnTo>
                    <a:lnTo>
                      <a:pt x="3122" y="582"/>
                    </a:lnTo>
                    <a:lnTo>
                      <a:pt x="3128" y="588"/>
                    </a:lnTo>
                    <a:lnTo>
                      <a:pt x="3142" y="580"/>
                    </a:lnTo>
                    <a:lnTo>
                      <a:pt x="3180" y="526"/>
                    </a:lnTo>
                    <a:lnTo>
                      <a:pt x="3186" y="500"/>
                    </a:lnTo>
                    <a:lnTo>
                      <a:pt x="3202" y="478"/>
                    </a:lnTo>
                    <a:lnTo>
                      <a:pt x="3218" y="486"/>
                    </a:lnTo>
                    <a:lnTo>
                      <a:pt x="3244" y="486"/>
                    </a:lnTo>
                    <a:lnTo>
                      <a:pt x="3266" y="464"/>
                    </a:lnTo>
                    <a:lnTo>
                      <a:pt x="3272" y="424"/>
                    </a:lnTo>
                    <a:lnTo>
                      <a:pt x="3250" y="426"/>
                    </a:lnTo>
                    <a:lnTo>
                      <a:pt x="3258" y="406"/>
                    </a:lnTo>
                    <a:lnTo>
                      <a:pt x="3266" y="372"/>
                    </a:lnTo>
                    <a:lnTo>
                      <a:pt x="3284" y="338"/>
                    </a:lnTo>
                    <a:lnTo>
                      <a:pt x="3308" y="332"/>
                    </a:lnTo>
                    <a:lnTo>
                      <a:pt x="3332" y="320"/>
                    </a:lnTo>
                    <a:lnTo>
                      <a:pt x="3342" y="294"/>
                    </a:lnTo>
                    <a:lnTo>
                      <a:pt x="3362" y="300"/>
                    </a:lnTo>
                    <a:lnTo>
                      <a:pt x="3376" y="316"/>
                    </a:lnTo>
                    <a:lnTo>
                      <a:pt x="3382" y="340"/>
                    </a:lnTo>
                    <a:lnTo>
                      <a:pt x="3390" y="316"/>
                    </a:lnTo>
                    <a:lnTo>
                      <a:pt x="3380" y="282"/>
                    </a:lnTo>
                    <a:lnTo>
                      <a:pt x="3390" y="276"/>
                    </a:lnTo>
                    <a:lnTo>
                      <a:pt x="3410" y="250"/>
                    </a:lnTo>
                    <a:lnTo>
                      <a:pt x="3440" y="266"/>
                    </a:lnTo>
                    <a:lnTo>
                      <a:pt x="3446" y="248"/>
                    </a:lnTo>
                    <a:lnTo>
                      <a:pt x="3476" y="258"/>
                    </a:lnTo>
                    <a:lnTo>
                      <a:pt x="3508" y="254"/>
                    </a:lnTo>
                    <a:lnTo>
                      <a:pt x="3532" y="264"/>
                    </a:lnTo>
                    <a:lnTo>
                      <a:pt x="3554" y="264"/>
                    </a:lnTo>
                    <a:lnTo>
                      <a:pt x="3608" y="242"/>
                    </a:lnTo>
                    <a:lnTo>
                      <a:pt x="3634" y="226"/>
                    </a:lnTo>
                    <a:lnTo>
                      <a:pt x="3646" y="144"/>
                    </a:lnTo>
                    <a:lnTo>
                      <a:pt x="3634" y="122"/>
                    </a:lnTo>
                    <a:lnTo>
                      <a:pt x="3608" y="118"/>
                    </a:lnTo>
                    <a:lnTo>
                      <a:pt x="3588" y="124"/>
                    </a:lnTo>
                    <a:lnTo>
                      <a:pt x="3572" y="104"/>
                    </a:lnTo>
                    <a:lnTo>
                      <a:pt x="3562" y="84"/>
                    </a:lnTo>
                    <a:lnTo>
                      <a:pt x="3542" y="70"/>
                    </a:lnTo>
                    <a:lnTo>
                      <a:pt x="3544" y="66"/>
                    </a:lnTo>
                    <a:lnTo>
                      <a:pt x="3552" y="64"/>
                    </a:lnTo>
                    <a:lnTo>
                      <a:pt x="3562" y="70"/>
                    </a:lnTo>
                    <a:lnTo>
                      <a:pt x="3568" y="56"/>
                    </a:lnTo>
                    <a:lnTo>
                      <a:pt x="3578" y="46"/>
                    </a:lnTo>
                    <a:lnTo>
                      <a:pt x="3584" y="60"/>
                    </a:lnTo>
                    <a:lnTo>
                      <a:pt x="3582" y="108"/>
                    </a:lnTo>
                    <a:lnTo>
                      <a:pt x="3598" y="86"/>
                    </a:lnTo>
                    <a:lnTo>
                      <a:pt x="3602" y="56"/>
                    </a:lnTo>
                    <a:lnTo>
                      <a:pt x="3614" y="54"/>
                    </a:lnTo>
                    <a:lnTo>
                      <a:pt x="3620" y="68"/>
                    </a:lnTo>
                    <a:lnTo>
                      <a:pt x="3634" y="66"/>
                    </a:lnTo>
                    <a:lnTo>
                      <a:pt x="3638" y="86"/>
                    </a:lnTo>
                    <a:lnTo>
                      <a:pt x="3646" y="102"/>
                    </a:lnTo>
                    <a:lnTo>
                      <a:pt x="3664" y="126"/>
                    </a:lnTo>
                    <a:lnTo>
                      <a:pt x="3674" y="102"/>
                    </a:lnTo>
                    <a:lnTo>
                      <a:pt x="3688" y="98"/>
                    </a:lnTo>
                    <a:lnTo>
                      <a:pt x="3698" y="108"/>
                    </a:lnTo>
                    <a:lnTo>
                      <a:pt x="3702" y="132"/>
                    </a:lnTo>
                    <a:lnTo>
                      <a:pt x="3716" y="158"/>
                    </a:lnTo>
                    <a:lnTo>
                      <a:pt x="3752" y="172"/>
                    </a:lnTo>
                    <a:lnTo>
                      <a:pt x="3762" y="170"/>
                    </a:lnTo>
                    <a:lnTo>
                      <a:pt x="3772" y="174"/>
                    </a:lnTo>
                    <a:lnTo>
                      <a:pt x="3780" y="184"/>
                    </a:lnTo>
                    <a:lnTo>
                      <a:pt x="3800" y="168"/>
                    </a:lnTo>
                    <a:lnTo>
                      <a:pt x="3810" y="166"/>
                    </a:lnTo>
                    <a:lnTo>
                      <a:pt x="3806" y="188"/>
                    </a:lnTo>
                    <a:lnTo>
                      <a:pt x="3818" y="196"/>
                    </a:lnTo>
                    <a:lnTo>
                      <a:pt x="3840" y="200"/>
                    </a:lnTo>
                    <a:lnTo>
                      <a:pt x="3862" y="224"/>
                    </a:lnTo>
                    <a:lnTo>
                      <a:pt x="3886" y="220"/>
                    </a:lnTo>
                    <a:lnTo>
                      <a:pt x="3904" y="232"/>
                    </a:lnTo>
                    <a:lnTo>
                      <a:pt x="3930" y="218"/>
                    </a:lnTo>
                    <a:lnTo>
                      <a:pt x="3936" y="218"/>
                    </a:lnTo>
                    <a:lnTo>
                      <a:pt x="3946" y="242"/>
                    </a:lnTo>
                    <a:lnTo>
                      <a:pt x="3974" y="244"/>
                    </a:lnTo>
                    <a:lnTo>
                      <a:pt x="3984" y="254"/>
                    </a:lnTo>
                    <a:lnTo>
                      <a:pt x="3992" y="274"/>
                    </a:lnTo>
                    <a:lnTo>
                      <a:pt x="4030" y="238"/>
                    </a:lnTo>
                    <a:lnTo>
                      <a:pt x="4042" y="232"/>
                    </a:lnTo>
                    <a:lnTo>
                      <a:pt x="4052" y="226"/>
                    </a:lnTo>
                    <a:lnTo>
                      <a:pt x="4078" y="230"/>
                    </a:lnTo>
                    <a:lnTo>
                      <a:pt x="4106" y="216"/>
                    </a:lnTo>
                    <a:lnTo>
                      <a:pt x="4086" y="252"/>
                    </a:lnTo>
                    <a:lnTo>
                      <a:pt x="4088" y="262"/>
                    </a:lnTo>
                    <a:lnTo>
                      <a:pt x="4094" y="266"/>
                    </a:lnTo>
                    <a:lnTo>
                      <a:pt x="4110" y="250"/>
                    </a:lnTo>
                    <a:lnTo>
                      <a:pt x="4112" y="260"/>
                    </a:lnTo>
                    <a:lnTo>
                      <a:pt x="4098" y="318"/>
                    </a:lnTo>
                    <a:lnTo>
                      <a:pt x="4098" y="330"/>
                    </a:lnTo>
                    <a:lnTo>
                      <a:pt x="4124" y="320"/>
                    </a:lnTo>
                    <a:lnTo>
                      <a:pt x="4146" y="282"/>
                    </a:lnTo>
                    <a:lnTo>
                      <a:pt x="4144" y="274"/>
                    </a:lnTo>
                    <a:lnTo>
                      <a:pt x="4152" y="242"/>
                    </a:lnTo>
                    <a:lnTo>
                      <a:pt x="4184" y="214"/>
                    </a:lnTo>
                    <a:lnTo>
                      <a:pt x="4190" y="224"/>
                    </a:lnTo>
                    <a:lnTo>
                      <a:pt x="4192" y="240"/>
                    </a:lnTo>
                    <a:lnTo>
                      <a:pt x="4186" y="292"/>
                    </a:lnTo>
                    <a:lnTo>
                      <a:pt x="4210" y="274"/>
                    </a:lnTo>
                    <a:lnTo>
                      <a:pt x="4226" y="272"/>
                    </a:lnTo>
                    <a:lnTo>
                      <a:pt x="4236" y="290"/>
                    </a:lnTo>
                    <a:lnTo>
                      <a:pt x="4226" y="304"/>
                    </a:lnTo>
                    <a:lnTo>
                      <a:pt x="4210" y="336"/>
                    </a:lnTo>
                    <a:lnTo>
                      <a:pt x="4190" y="370"/>
                    </a:lnTo>
                    <a:lnTo>
                      <a:pt x="4176" y="380"/>
                    </a:lnTo>
                    <a:lnTo>
                      <a:pt x="4166" y="378"/>
                    </a:lnTo>
                    <a:lnTo>
                      <a:pt x="4160" y="388"/>
                    </a:lnTo>
                    <a:lnTo>
                      <a:pt x="4168" y="418"/>
                    </a:lnTo>
                    <a:lnTo>
                      <a:pt x="4144" y="456"/>
                    </a:lnTo>
                    <a:lnTo>
                      <a:pt x="4132" y="464"/>
                    </a:lnTo>
                    <a:lnTo>
                      <a:pt x="4112" y="458"/>
                    </a:lnTo>
                    <a:lnTo>
                      <a:pt x="4110" y="438"/>
                    </a:lnTo>
                    <a:lnTo>
                      <a:pt x="4096" y="458"/>
                    </a:lnTo>
                    <a:lnTo>
                      <a:pt x="4092" y="490"/>
                    </a:lnTo>
                    <a:lnTo>
                      <a:pt x="4094" y="504"/>
                    </a:lnTo>
                    <a:lnTo>
                      <a:pt x="4088" y="492"/>
                    </a:lnTo>
                    <a:lnTo>
                      <a:pt x="4080" y="466"/>
                    </a:lnTo>
                    <a:lnTo>
                      <a:pt x="4070" y="464"/>
                    </a:lnTo>
                    <a:lnTo>
                      <a:pt x="4056" y="504"/>
                    </a:lnTo>
                    <a:lnTo>
                      <a:pt x="4042" y="534"/>
                    </a:lnTo>
                    <a:lnTo>
                      <a:pt x="4038" y="554"/>
                    </a:lnTo>
                    <a:lnTo>
                      <a:pt x="4064" y="546"/>
                    </a:lnTo>
                    <a:lnTo>
                      <a:pt x="4038" y="608"/>
                    </a:lnTo>
                    <a:lnTo>
                      <a:pt x="4036" y="622"/>
                    </a:lnTo>
                    <a:lnTo>
                      <a:pt x="3996" y="686"/>
                    </a:lnTo>
                    <a:lnTo>
                      <a:pt x="3980" y="724"/>
                    </a:lnTo>
                    <a:lnTo>
                      <a:pt x="3972" y="734"/>
                    </a:lnTo>
                    <a:lnTo>
                      <a:pt x="3956" y="756"/>
                    </a:lnTo>
                    <a:lnTo>
                      <a:pt x="3948" y="790"/>
                    </a:lnTo>
                    <a:lnTo>
                      <a:pt x="3960" y="804"/>
                    </a:lnTo>
                    <a:lnTo>
                      <a:pt x="3964" y="828"/>
                    </a:lnTo>
                    <a:lnTo>
                      <a:pt x="3986" y="822"/>
                    </a:lnTo>
                    <a:lnTo>
                      <a:pt x="4002" y="850"/>
                    </a:lnTo>
                    <a:lnTo>
                      <a:pt x="4036" y="872"/>
                    </a:lnTo>
                    <a:lnTo>
                      <a:pt x="4034" y="906"/>
                    </a:lnTo>
                    <a:lnTo>
                      <a:pt x="4036" y="936"/>
                    </a:lnTo>
                    <a:lnTo>
                      <a:pt x="4024" y="982"/>
                    </a:lnTo>
                    <a:lnTo>
                      <a:pt x="4054" y="960"/>
                    </a:lnTo>
                    <a:lnTo>
                      <a:pt x="4106" y="980"/>
                    </a:lnTo>
                    <a:lnTo>
                      <a:pt x="4140" y="980"/>
                    </a:lnTo>
                    <a:lnTo>
                      <a:pt x="4144" y="1006"/>
                    </a:lnTo>
                    <a:lnTo>
                      <a:pt x="4166" y="1028"/>
                    </a:lnTo>
                    <a:lnTo>
                      <a:pt x="4188" y="1046"/>
                    </a:lnTo>
                    <a:lnTo>
                      <a:pt x="4206" y="1066"/>
                    </a:lnTo>
                    <a:lnTo>
                      <a:pt x="4216" y="1092"/>
                    </a:lnTo>
                    <a:lnTo>
                      <a:pt x="4232" y="1118"/>
                    </a:lnTo>
                    <a:lnTo>
                      <a:pt x="4250" y="1124"/>
                    </a:lnTo>
                    <a:lnTo>
                      <a:pt x="4264" y="1138"/>
                    </a:lnTo>
                    <a:lnTo>
                      <a:pt x="4330" y="1164"/>
                    </a:lnTo>
                    <a:lnTo>
                      <a:pt x="4348" y="1190"/>
                    </a:lnTo>
                    <a:lnTo>
                      <a:pt x="4346" y="1226"/>
                    </a:lnTo>
                    <a:lnTo>
                      <a:pt x="4352" y="1248"/>
                    </a:lnTo>
                    <a:lnTo>
                      <a:pt x="4412" y="1320"/>
                    </a:lnTo>
                    <a:lnTo>
                      <a:pt x="4444" y="1342"/>
                    </a:lnTo>
                    <a:lnTo>
                      <a:pt x="4478" y="1334"/>
                    </a:lnTo>
                    <a:lnTo>
                      <a:pt x="4510" y="1320"/>
                    </a:lnTo>
                    <a:lnTo>
                      <a:pt x="4558" y="1304"/>
                    </a:lnTo>
                    <a:lnTo>
                      <a:pt x="4574" y="1282"/>
                    </a:lnTo>
                    <a:lnTo>
                      <a:pt x="4604" y="1212"/>
                    </a:lnTo>
                    <a:lnTo>
                      <a:pt x="4658" y="1132"/>
                    </a:lnTo>
                    <a:lnTo>
                      <a:pt x="4724" y="982"/>
                    </a:lnTo>
                    <a:lnTo>
                      <a:pt x="4750" y="924"/>
                    </a:lnTo>
                    <a:lnTo>
                      <a:pt x="4774" y="884"/>
                    </a:lnTo>
                    <a:lnTo>
                      <a:pt x="4790" y="844"/>
                    </a:lnTo>
                    <a:lnTo>
                      <a:pt x="4798" y="792"/>
                    </a:lnTo>
                    <a:lnTo>
                      <a:pt x="4798" y="728"/>
                    </a:lnTo>
                    <a:lnTo>
                      <a:pt x="4816" y="676"/>
                    </a:lnTo>
                    <a:lnTo>
                      <a:pt x="4834" y="564"/>
                    </a:lnTo>
                    <a:lnTo>
                      <a:pt x="4870" y="498"/>
                    </a:lnTo>
                    <a:lnTo>
                      <a:pt x="4880" y="440"/>
                    </a:lnTo>
                    <a:lnTo>
                      <a:pt x="4900" y="404"/>
                    </a:lnTo>
                    <a:lnTo>
                      <a:pt x="4910" y="370"/>
                    </a:lnTo>
                    <a:lnTo>
                      <a:pt x="4890" y="364"/>
                    </a:lnTo>
                    <a:lnTo>
                      <a:pt x="4902" y="324"/>
                    </a:lnTo>
                    <a:lnTo>
                      <a:pt x="4924" y="262"/>
                    </a:lnTo>
                    <a:lnTo>
                      <a:pt x="4954" y="250"/>
                    </a:lnTo>
                    <a:lnTo>
                      <a:pt x="4972" y="220"/>
                    </a:lnTo>
                    <a:lnTo>
                      <a:pt x="4994" y="156"/>
                    </a:lnTo>
                    <a:lnTo>
                      <a:pt x="5036" y="104"/>
                    </a:lnTo>
                    <a:lnTo>
                      <a:pt x="5044" y="54"/>
                    </a:lnTo>
                    <a:lnTo>
                      <a:pt x="5044" y="50"/>
                    </a:lnTo>
                    <a:lnTo>
                      <a:pt x="5058" y="38"/>
                    </a:lnTo>
                    <a:lnTo>
                      <a:pt x="5072" y="36"/>
                    </a:lnTo>
                    <a:lnTo>
                      <a:pt x="5096" y="18"/>
                    </a:lnTo>
                    <a:lnTo>
                      <a:pt x="5110" y="0"/>
                    </a:lnTo>
                    <a:lnTo>
                      <a:pt x="5122" y="10"/>
                    </a:lnTo>
                    <a:lnTo>
                      <a:pt x="5118" y="28"/>
                    </a:lnTo>
                    <a:lnTo>
                      <a:pt x="5120" y="56"/>
                    </a:lnTo>
                    <a:lnTo>
                      <a:pt x="5114" y="58"/>
                    </a:lnTo>
                    <a:lnTo>
                      <a:pt x="5114" y="62"/>
                    </a:lnTo>
                    <a:lnTo>
                      <a:pt x="5112" y="110"/>
                    </a:lnTo>
                    <a:lnTo>
                      <a:pt x="5096" y="204"/>
                    </a:lnTo>
                    <a:lnTo>
                      <a:pt x="5096" y="238"/>
                    </a:lnTo>
                    <a:lnTo>
                      <a:pt x="5124" y="238"/>
                    </a:lnTo>
                    <a:lnTo>
                      <a:pt x="5126" y="262"/>
                    </a:lnTo>
                    <a:lnTo>
                      <a:pt x="5112" y="310"/>
                    </a:lnTo>
                    <a:lnTo>
                      <a:pt x="5124" y="328"/>
                    </a:lnTo>
                    <a:lnTo>
                      <a:pt x="5128" y="364"/>
                    </a:lnTo>
                    <a:lnTo>
                      <a:pt x="5138" y="378"/>
                    </a:lnTo>
                    <a:lnTo>
                      <a:pt x="5130" y="426"/>
                    </a:lnTo>
                    <a:lnTo>
                      <a:pt x="5140" y="436"/>
                    </a:lnTo>
                    <a:lnTo>
                      <a:pt x="5136" y="488"/>
                    </a:lnTo>
                    <a:lnTo>
                      <a:pt x="5138" y="530"/>
                    </a:lnTo>
                    <a:lnTo>
                      <a:pt x="5120" y="600"/>
                    </a:lnTo>
                    <a:lnTo>
                      <a:pt x="5124" y="630"/>
                    </a:lnTo>
                    <a:lnTo>
                      <a:pt x="5120" y="662"/>
                    </a:lnTo>
                    <a:lnTo>
                      <a:pt x="5124" y="698"/>
                    </a:lnTo>
                    <a:lnTo>
                      <a:pt x="5136" y="726"/>
                    </a:lnTo>
                    <a:lnTo>
                      <a:pt x="5156" y="740"/>
                    </a:lnTo>
                    <a:lnTo>
                      <a:pt x="5196" y="706"/>
                    </a:lnTo>
                    <a:lnTo>
                      <a:pt x="5222" y="694"/>
                    </a:lnTo>
                    <a:lnTo>
                      <a:pt x="5242" y="702"/>
                    </a:lnTo>
                    <a:lnTo>
                      <a:pt x="5248" y="756"/>
                    </a:lnTo>
                    <a:lnTo>
                      <a:pt x="5268" y="772"/>
                    </a:lnTo>
                    <a:lnTo>
                      <a:pt x="5280" y="806"/>
                    </a:lnTo>
                    <a:lnTo>
                      <a:pt x="5296" y="822"/>
                    </a:lnTo>
                    <a:lnTo>
                      <a:pt x="5312" y="852"/>
                    </a:lnTo>
                    <a:lnTo>
                      <a:pt x="5298" y="886"/>
                    </a:lnTo>
                    <a:lnTo>
                      <a:pt x="5300" y="908"/>
                    </a:lnTo>
                    <a:lnTo>
                      <a:pt x="5280" y="972"/>
                    </a:lnTo>
                    <a:lnTo>
                      <a:pt x="5280" y="1006"/>
                    </a:lnTo>
                    <a:lnTo>
                      <a:pt x="5274" y="1034"/>
                    </a:lnTo>
                    <a:lnTo>
                      <a:pt x="5276" y="1064"/>
                    </a:lnTo>
                    <a:lnTo>
                      <a:pt x="5264" y="1120"/>
                    </a:lnTo>
                    <a:lnTo>
                      <a:pt x="5262" y="1160"/>
                    </a:lnTo>
                    <a:lnTo>
                      <a:pt x="5276" y="1222"/>
                    </a:lnTo>
                    <a:lnTo>
                      <a:pt x="5296" y="1222"/>
                    </a:lnTo>
                    <a:lnTo>
                      <a:pt x="5288" y="1266"/>
                    </a:lnTo>
                    <a:lnTo>
                      <a:pt x="5290" y="1334"/>
                    </a:lnTo>
                    <a:lnTo>
                      <a:pt x="5284" y="1372"/>
                    </a:lnTo>
                    <a:lnTo>
                      <a:pt x="5270" y="1428"/>
                    </a:lnTo>
                    <a:lnTo>
                      <a:pt x="5258" y="1452"/>
                    </a:lnTo>
                    <a:lnTo>
                      <a:pt x="5246" y="1484"/>
                    </a:lnTo>
                    <a:lnTo>
                      <a:pt x="5242" y="1522"/>
                    </a:lnTo>
                    <a:lnTo>
                      <a:pt x="5252" y="1542"/>
                    </a:lnTo>
                    <a:lnTo>
                      <a:pt x="5264" y="1546"/>
                    </a:lnTo>
                    <a:lnTo>
                      <a:pt x="5256" y="1564"/>
                    </a:lnTo>
                    <a:lnTo>
                      <a:pt x="5266" y="1552"/>
                    </a:lnTo>
                    <a:lnTo>
                      <a:pt x="5264" y="1560"/>
                    </a:lnTo>
                    <a:lnTo>
                      <a:pt x="5256" y="1574"/>
                    </a:lnTo>
                    <a:lnTo>
                      <a:pt x="5256" y="1582"/>
                    </a:lnTo>
                    <a:lnTo>
                      <a:pt x="5250" y="1602"/>
                    </a:lnTo>
                    <a:lnTo>
                      <a:pt x="5248" y="1636"/>
                    </a:lnTo>
                    <a:lnTo>
                      <a:pt x="5276" y="1652"/>
                    </a:lnTo>
                    <a:lnTo>
                      <a:pt x="5280" y="1674"/>
                    </a:lnTo>
                    <a:lnTo>
                      <a:pt x="5300" y="1690"/>
                    </a:lnTo>
                    <a:lnTo>
                      <a:pt x="5344" y="1708"/>
                    </a:lnTo>
                    <a:lnTo>
                      <a:pt x="5354" y="1708"/>
                    </a:lnTo>
                    <a:lnTo>
                      <a:pt x="5372" y="1694"/>
                    </a:lnTo>
                    <a:lnTo>
                      <a:pt x="5364" y="1750"/>
                    </a:lnTo>
                    <a:lnTo>
                      <a:pt x="5362" y="1780"/>
                    </a:lnTo>
                    <a:lnTo>
                      <a:pt x="5372" y="1794"/>
                    </a:lnTo>
                    <a:lnTo>
                      <a:pt x="5398" y="1786"/>
                    </a:lnTo>
                    <a:lnTo>
                      <a:pt x="5412" y="1806"/>
                    </a:lnTo>
                    <a:lnTo>
                      <a:pt x="5434" y="1814"/>
                    </a:lnTo>
                    <a:lnTo>
                      <a:pt x="5438" y="1842"/>
                    </a:lnTo>
                    <a:lnTo>
                      <a:pt x="5446" y="1864"/>
                    </a:lnTo>
                    <a:lnTo>
                      <a:pt x="5466" y="1850"/>
                    </a:lnTo>
                    <a:lnTo>
                      <a:pt x="5472" y="1864"/>
                    </a:lnTo>
                    <a:lnTo>
                      <a:pt x="5494" y="1890"/>
                    </a:lnTo>
                    <a:lnTo>
                      <a:pt x="5500" y="1906"/>
                    </a:lnTo>
                    <a:lnTo>
                      <a:pt x="5494" y="1944"/>
                    </a:lnTo>
                    <a:lnTo>
                      <a:pt x="5478" y="1936"/>
                    </a:lnTo>
                    <a:lnTo>
                      <a:pt x="5460" y="1976"/>
                    </a:lnTo>
                    <a:lnTo>
                      <a:pt x="5468" y="1998"/>
                    </a:lnTo>
                    <a:lnTo>
                      <a:pt x="5490" y="2004"/>
                    </a:lnTo>
                    <a:lnTo>
                      <a:pt x="5490" y="2022"/>
                    </a:lnTo>
                    <a:lnTo>
                      <a:pt x="5498" y="2052"/>
                    </a:lnTo>
                    <a:lnTo>
                      <a:pt x="5492" y="2084"/>
                    </a:lnTo>
                    <a:lnTo>
                      <a:pt x="5492" y="2104"/>
                    </a:lnTo>
                    <a:lnTo>
                      <a:pt x="5488" y="2126"/>
                    </a:lnTo>
                    <a:lnTo>
                      <a:pt x="5504" y="2132"/>
                    </a:lnTo>
                    <a:lnTo>
                      <a:pt x="5498" y="2156"/>
                    </a:lnTo>
                    <a:lnTo>
                      <a:pt x="5468" y="2242"/>
                    </a:lnTo>
                    <a:lnTo>
                      <a:pt x="5468" y="2260"/>
                    </a:lnTo>
                    <a:lnTo>
                      <a:pt x="5462" y="2286"/>
                    </a:lnTo>
                    <a:lnTo>
                      <a:pt x="5466" y="2300"/>
                    </a:lnTo>
                    <a:lnTo>
                      <a:pt x="5462" y="2328"/>
                    </a:lnTo>
                    <a:lnTo>
                      <a:pt x="5468" y="2330"/>
                    </a:lnTo>
                    <a:lnTo>
                      <a:pt x="5480" y="2324"/>
                    </a:lnTo>
                    <a:lnTo>
                      <a:pt x="5496" y="2326"/>
                    </a:lnTo>
                    <a:lnTo>
                      <a:pt x="5514" y="2276"/>
                    </a:lnTo>
                    <a:lnTo>
                      <a:pt x="5536" y="2262"/>
                    </a:lnTo>
                    <a:lnTo>
                      <a:pt x="5530" y="2294"/>
                    </a:lnTo>
                    <a:lnTo>
                      <a:pt x="5540" y="2310"/>
                    </a:lnTo>
                    <a:lnTo>
                      <a:pt x="5560" y="2330"/>
                    </a:lnTo>
                    <a:lnTo>
                      <a:pt x="5570" y="2354"/>
                    </a:lnTo>
                    <a:lnTo>
                      <a:pt x="5596" y="2304"/>
                    </a:lnTo>
                    <a:lnTo>
                      <a:pt x="5600" y="2318"/>
                    </a:lnTo>
                    <a:lnTo>
                      <a:pt x="5594" y="2338"/>
                    </a:lnTo>
                    <a:lnTo>
                      <a:pt x="5596" y="2350"/>
                    </a:lnTo>
                    <a:lnTo>
                      <a:pt x="5584" y="2402"/>
                    </a:lnTo>
                    <a:lnTo>
                      <a:pt x="5550" y="2498"/>
                    </a:lnTo>
                    <a:lnTo>
                      <a:pt x="5540" y="2542"/>
                    </a:lnTo>
                    <a:lnTo>
                      <a:pt x="5550" y="2566"/>
                    </a:lnTo>
                    <a:lnTo>
                      <a:pt x="5554" y="2592"/>
                    </a:lnTo>
                    <a:lnTo>
                      <a:pt x="5572" y="2636"/>
                    </a:lnTo>
                    <a:lnTo>
                      <a:pt x="5604" y="2638"/>
                    </a:lnTo>
                    <a:lnTo>
                      <a:pt x="5614" y="2658"/>
                    </a:lnTo>
                    <a:lnTo>
                      <a:pt x="5618" y="2686"/>
                    </a:lnTo>
                    <a:lnTo>
                      <a:pt x="5618" y="2722"/>
                    </a:lnTo>
                    <a:lnTo>
                      <a:pt x="5614" y="2742"/>
                    </a:lnTo>
                    <a:lnTo>
                      <a:pt x="5624" y="2768"/>
                    </a:lnTo>
                    <a:lnTo>
                      <a:pt x="5644" y="2782"/>
                    </a:lnTo>
                    <a:lnTo>
                      <a:pt x="5638" y="2792"/>
                    </a:lnTo>
                    <a:lnTo>
                      <a:pt x="5644" y="2854"/>
                    </a:lnTo>
                    <a:lnTo>
                      <a:pt x="5632" y="2874"/>
                    </a:lnTo>
                    <a:lnTo>
                      <a:pt x="5652" y="2892"/>
                    </a:lnTo>
                    <a:lnTo>
                      <a:pt x="5648" y="2920"/>
                    </a:lnTo>
                    <a:lnTo>
                      <a:pt x="5626" y="2978"/>
                    </a:lnTo>
                    <a:lnTo>
                      <a:pt x="5624" y="3008"/>
                    </a:lnTo>
                    <a:lnTo>
                      <a:pt x="5624" y="3024"/>
                    </a:lnTo>
                    <a:lnTo>
                      <a:pt x="5642" y="3006"/>
                    </a:lnTo>
                    <a:lnTo>
                      <a:pt x="5624" y="3054"/>
                    </a:lnTo>
                    <a:lnTo>
                      <a:pt x="5594" y="3102"/>
                    </a:lnTo>
                    <a:lnTo>
                      <a:pt x="5586" y="3134"/>
                    </a:lnTo>
                    <a:lnTo>
                      <a:pt x="5550" y="3222"/>
                    </a:lnTo>
                    <a:lnTo>
                      <a:pt x="5546" y="3252"/>
                    </a:lnTo>
                    <a:lnTo>
                      <a:pt x="5540" y="3242"/>
                    </a:lnTo>
                    <a:lnTo>
                      <a:pt x="5524" y="3264"/>
                    </a:lnTo>
                    <a:lnTo>
                      <a:pt x="5522" y="3276"/>
                    </a:lnTo>
                    <a:lnTo>
                      <a:pt x="5514" y="3296"/>
                    </a:lnTo>
                    <a:lnTo>
                      <a:pt x="5516" y="3312"/>
                    </a:lnTo>
                    <a:lnTo>
                      <a:pt x="5504" y="3348"/>
                    </a:lnTo>
                    <a:lnTo>
                      <a:pt x="5496" y="3402"/>
                    </a:lnTo>
                    <a:lnTo>
                      <a:pt x="5474" y="3490"/>
                    </a:lnTo>
                    <a:lnTo>
                      <a:pt x="5434" y="3572"/>
                    </a:lnTo>
                    <a:lnTo>
                      <a:pt x="5402" y="3620"/>
                    </a:lnTo>
                    <a:lnTo>
                      <a:pt x="5382" y="3642"/>
                    </a:lnTo>
                    <a:lnTo>
                      <a:pt x="5344" y="3692"/>
                    </a:lnTo>
                    <a:lnTo>
                      <a:pt x="5308" y="3752"/>
                    </a:lnTo>
                    <a:lnTo>
                      <a:pt x="5244" y="3846"/>
                    </a:lnTo>
                    <a:lnTo>
                      <a:pt x="5236" y="3852"/>
                    </a:lnTo>
                    <a:lnTo>
                      <a:pt x="5186" y="3908"/>
                    </a:lnTo>
                    <a:lnTo>
                      <a:pt x="5152" y="3962"/>
                    </a:lnTo>
                    <a:lnTo>
                      <a:pt x="5126" y="4018"/>
                    </a:lnTo>
                    <a:lnTo>
                      <a:pt x="5108" y="4036"/>
                    </a:lnTo>
                    <a:lnTo>
                      <a:pt x="5096" y="4056"/>
                    </a:lnTo>
                    <a:lnTo>
                      <a:pt x="4998" y="4164"/>
                    </a:lnTo>
                    <a:lnTo>
                      <a:pt x="4978" y="4180"/>
                    </a:lnTo>
                    <a:lnTo>
                      <a:pt x="4954" y="4202"/>
                    </a:lnTo>
                    <a:lnTo>
                      <a:pt x="4930" y="4220"/>
                    </a:lnTo>
                    <a:lnTo>
                      <a:pt x="4918" y="4240"/>
                    </a:lnTo>
                    <a:lnTo>
                      <a:pt x="4914" y="4258"/>
                    </a:lnTo>
                    <a:lnTo>
                      <a:pt x="4894" y="4274"/>
                    </a:lnTo>
                    <a:lnTo>
                      <a:pt x="4854" y="4300"/>
                    </a:lnTo>
                    <a:lnTo>
                      <a:pt x="4836" y="4300"/>
                    </a:lnTo>
                    <a:lnTo>
                      <a:pt x="4828" y="4310"/>
                    </a:lnTo>
                    <a:lnTo>
                      <a:pt x="4834" y="4320"/>
                    </a:lnTo>
                    <a:lnTo>
                      <a:pt x="4804" y="4326"/>
                    </a:lnTo>
                    <a:lnTo>
                      <a:pt x="4782" y="4334"/>
                    </a:lnTo>
                    <a:lnTo>
                      <a:pt x="4762" y="4358"/>
                    </a:lnTo>
                    <a:lnTo>
                      <a:pt x="4734" y="4380"/>
                    </a:lnTo>
                    <a:lnTo>
                      <a:pt x="4694" y="4422"/>
                    </a:lnTo>
                    <a:lnTo>
                      <a:pt x="4660" y="4450"/>
                    </a:lnTo>
                    <a:lnTo>
                      <a:pt x="4644" y="4450"/>
                    </a:lnTo>
                    <a:lnTo>
                      <a:pt x="4634" y="4454"/>
                    </a:lnTo>
                    <a:lnTo>
                      <a:pt x="4624" y="4466"/>
                    </a:lnTo>
                    <a:lnTo>
                      <a:pt x="4634" y="4474"/>
                    </a:lnTo>
                    <a:lnTo>
                      <a:pt x="4612" y="4512"/>
                    </a:lnTo>
                    <a:lnTo>
                      <a:pt x="4580" y="4542"/>
                    </a:lnTo>
                    <a:lnTo>
                      <a:pt x="4572" y="4544"/>
                    </a:lnTo>
                    <a:lnTo>
                      <a:pt x="4554" y="4568"/>
                    </a:lnTo>
                    <a:lnTo>
                      <a:pt x="4516" y="4596"/>
                    </a:lnTo>
                    <a:lnTo>
                      <a:pt x="4408" y="4722"/>
                    </a:lnTo>
                    <a:lnTo>
                      <a:pt x="4388" y="4750"/>
                    </a:lnTo>
                    <a:lnTo>
                      <a:pt x="4382" y="4730"/>
                    </a:lnTo>
                    <a:lnTo>
                      <a:pt x="4332" y="4782"/>
                    </a:lnTo>
                    <a:lnTo>
                      <a:pt x="4308" y="4798"/>
                    </a:lnTo>
                    <a:lnTo>
                      <a:pt x="4284" y="4826"/>
                    </a:lnTo>
                    <a:lnTo>
                      <a:pt x="4274" y="4830"/>
                    </a:lnTo>
                    <a:lnTo>
                      <a:pt x="4256" y="4848"/>
                    </a:lnTo>
                    <a:lnTo>
                      <a:pt x="4226" y="4888"/>
                    </a:lnTo>
                    <a:lnTo>
                      <a:pt x="4188" y="4934"/>
                    </a:lnTo>
                    <a:lnTo>
                      <a:pt x="4182" y="4956"/>
                    </a:lnTo>
                    <a:lnTo>
                      <a:pt x="4168" y="4966"/>
                    </a:lnTo>
                    <a:lnTo>
                      <a:pt x="4144" y="4998"/>
                    </a:lnTo>
                    <a:lnTo>
                      <a:pt x="4104" y="5036"/>
                    </a:lnTo>
                    <a:lnTo>
                      <a:pt x="4082" y="5062"/>
                    </a:lnTo>
                    <a:lnTo>
                      <a:pt x="4072" y="5078"/>
                    </a:lnTo>
                    <a:lnTo>
                      <a:pt x="4062" y="5104"/>
                    </a:lnTo>
                    <a:lnTo>
                      <a:pt x="4044" y="5134"/>
                    </a:lnTo>
                    <a:lnTo>
                      <a:pt x="4024" y="5156"/>
                    </a:lnTo>
                    <a:lnTo>
                      <a:pt x="4008" y="5172"/>
                    </a:lnTo>
                    <a:lnTo>
                      <a:pt x="3998" y="5160"/>
                    </a:lnTo>
                    <a:lnTo>
                      <a:pt x="3988" y="5160"/>
                    </a:lnTo>
                    <a:lnTo>
                      <a:pt x="3962" y="5194"/>
                    </a:lnTo>
                    <a:lnTo>
                      <a:pt x="3908" y="5204"/>
                    </a:lnTo>
                    <a:lnTo>
                      <a:pt x="3786" y="5192"/>
                    </a:lnTo>
                    <a:lnTo>
                      <a:pt x="3752" y="5200"/>
                    </a:lnTo>
                    <a:lnTo>
                      <a:pt x="3682" y="5224"/>
                    </a:lnTo>
                    <a:lnTo>
                      <a:pt x="3648" y="5244"/>
                    </a:lnTo>
                    <a:lnTo>
                      <a:pt x="3602" y="5266"/>
                    </a:lnTo>
                    <a:lnTo>
                      <a:pt x="3574" y="5284"/>
                    </a:lnTo>
                    <a:lnTo>
                      <a:pt x="3558" y="5298"/>
                    </a:lnTo>
                    <a:lnTo>
                      <a:pt x="3518" y="5314"/>
                    </a:lnTo>
                    <a:lnTo>
                      <a:pt x="3496" y="5328"/>
                    </a:lnTo>
                    <a:lnTo>
                      <a:pt x="3496" y="5316"/>
                    </a:lnTo>
                    <a:lnTo>
                      <a:pt x="3458" y="5324"/>
                    </a:lnTo>
                    <a:lnTo>
                      <a:pt x="3444" y="5320"/>
                    </a:lnTo>
                    <a:lnTo>
                      <a:pt x="3432" y="5322"/>
                    </a:lnTo>
                    <a:lnTo>
                      <a:pt x="3414" y="5346"/>
                    </a:lnTo>
                    <a:lnTo>
                      <a:pt x="3412" y="5358"/>
                    </a:lnTo>
                    <a:lnTo>
                      <a:pt x="3432" y="5344"/>
                    </a:lnTo>
                    <a:lnTo>
                      <a:pt x="3454" y="5334"/>
                    </a:lnTo>
                    <a:lnTo>
                      <a:pt x="3464" y="5334"/>
                    </a:lnTo>
                    <a:lnTo>
                      <a:pt x="3436" y="5362"/>
                    </a:lnTo>
                    <a:lnTo>
                      <a:pt x="3416" y="5388"/>
                    </a:lnTo>
                    <a:lnTo>
                      <a:pt x="3396" y="5400"/>
                    </a:lnTo>
                    <a:lnTo>
                      <a:pt x="3398" y="5350"/>
                    </a:lnTo>
                    <a:lnTo>
                      <a:pt x="3390" y="5350"/>
                    </a:lnTo>
                    <a:lnTo>
                      <a:pt x="3378" y="5338"/>
                    </a:lnTo>
                    <a:lnTo>
                      <a:pt x="3384" y="5312"/>
                    </a:lnTo>
                    <a:lnTo>
                      <a:pt x="3360" y="5308"/>
                    </a:lnTo>
                    <a:lnTo>
                      <a:pt x="3358" y="5286"/>
                    </a:lnTo>
                    <a:lnTo>
                      <a:pt x="3366" y="5270"/>
                    </a:lnTo>
                    <a:lnTo>
                      <a:pt x="3390" y="5242"/>
                    </a:lnTo>
                    <a:lnTo>
                      <a:pt x="3388" y="5224"/>
                    </a:lnTo>
                    <a:lnTo>
                      <a:pt x="3344" y="5246"/>
                    </a:lnTo>
                    <a:lnTo>
                      <a:pt x="3318" y="5252"/>
                    </a:lnTo>
                    <a:lnTo>
                      <a:pt x="3300" y="5238"/>
                    </a:lnTo>
                    <a:lnTo>
                      <a:pt x="3300" y="5224"/>
                    </a:lnTo>
                    <a:lnTo>
                      <a:pt x="3330" y="5228"/>
                    </a:lnTo>
                    <a:lnTo>
                      <a:pt x="3354" y="5200"/>
                    </a:lnTo>
                    <a:lnTo>
                      <a:pt x="3374" y="5164"/>
                    </a:lnTo>
                    <a:lnTo>
                      <a:pt x="3362" y="5150"/>
                    </a:lnTo>
                    <a:lnTo>
                      <a:pt x="3306" y="5178"/>
                    </a:lnTo>
                    <a:lnTo>
                      <a:pt x="3282" y="5178"/>
                    </a:lnTo>
                    <a:lnTo>
                      <a:pt x="3298" y="5204"/>
                    </a:lnTo>
                    <a:lnTo>
                      <a:pt x="3294" y="5212"/>
                    </a:lnTo>
                    <a:lnTo>
                      <a:pt x="3272" y="5212"/>
                    </a:lnTo>
                    <a:lnTo>
                      <a:pt x="3240" y="5224"/>
                    </a:lnTo>
                    <a:lnTo>
                      <a:pt x="3202" y="5244"/>
                    </a:lnTo>
                    <a:lnTo>
                      <a:pt x="3156" y="5278"/>
                    </a:lnTo>
                    <a:lnTo>
                      <a:pt x="3104" y="5296"/>
                    </a:lnTo>
                    <a:lnTo>
                      <a:pt x="3068" y="5302"/>
                    </a:lnTo>
                    <a:lnTo>
                      <a:pt x="3068" y="5286"/>
                    </a:lnTo>
                    <a:lnTo>
                      <a:pt x="3040" y="5258"/>
                    </a:lnTo>
                    <a:lnTo>
                      <a:pt x="3020" y="5222"/>
                    </a:lnTo>
                    <a:lnTo>
                      <a:pt x="3006" y="5210"/>
                    </a:lnTo>
                    <a:lnTo>
                      <a:pt x="2978" y="5202"/>
                    </a:lnTo>
                    <a:lnTo>
                      <a:pt x="2944" y="5178"/>
                    </a:lnTo>
                    <a:lnTo>
                      <a:pt x="2924" y="5180"/>
                    </a:lnTo>
                    <a:lnTo>
                      <a:pt x="2894" y="5194"/>
                    </a:lnTo>
                    <a:lnTo>
                      <a:pt x="2896" y="5162"/>
                    </a:lnTo>
                    <a:lnTo>
                      <a:pt x="2874" y="5130"/>
                    </a:lnTo>
                    <a:lnTo>
                      <a:pt x="2836" y="5120"/>
                    </a:lnTo>
                    <a:lnTo>
                      <a:pt x="2818" y="5096"/>
                    </a:lnTo>
                    <a:lnTo>
                      <a:pt x="2814" y="5064"/>
                    </a:lnTo>
                    <a:lnTo>
                      <a:pt x="2822" y="5028"/>
                    </a:lnTo>
                    <a:lnTo>
                      <a:pt x="2812" y="5008"/>
                    </a:lnTo>
                    <a:lnTo>
                      <a:pt x="2832" y="4924"/>
                    </a:lnTo>
                    <a:lnTo>
                      <a:pt x="2840" y="4910"/>
                    </a:lnTo>
                    <a:lnTo>
                      <a:pt x="2866" y="4884"/>
                    </a:lnTo>
                    <a:lnTo>
                      <a:pt x="2890" y="4848"/>
                    </a:lnTo>
                    <a:lnTo>
                      <a:pt x="2912" y="4770"/>
                    </a:lnTo>
                    <a:lnTo>
                      <a:pt x="2910" y="4680"/>
                    </a:lnTo>
                    <a:lnTo>
                      <a:pt x="2952" y="4638"/>
                    </a:lnTo>
                    <a:lnTo>
                      <a:pt x="2952" y="4630"/>
                    </a:lnTo>
                    <a:lnTo>
                      <a:pt x="2918" y="4632"/>
                    </a:lnTo>
                    <a:lnTo>
                      <a:pt x="2870" y="4648"/>
                    </a:lnTo>
                    <a:lnTo>
                      <a:pt x="2824" y="4662"/>
                    </a:lnTo>
                    <a:lnTo>
                      <a:pt x="2798" y="4664"/>
                    </a:lnTo>
                    <a:lnTo>
                      <a:pt x="2786" y="4654"/>
                    </a:lnTo>
                    <a:lnTo>
                      <a:pt x="2820" y="4628"/>
                    </a:lnTo>
                    <a:lnTo>
                      <a:pt x="2862" y="4586"/>
                    </a:lnTo>
                    <a:lnTo>
                      <a:pt x="2894" y="4544"/>
                    </a:lnTo>
                    <a:lnTo>
                      <a:pt x="2918" y="4500"/>
                    </a:lnTo>
                    <a:lnTo>
                      <a:pt x="2930" y="4450"/>
                    </a:lnTo>
                    <a:lnTo>
                      <a:pt x="2930" y="4416"/>
                    </a:lnTo>
                    <a:lnTo>
                      <a:pt x="2922" y="4396"/>
                    </a:lnTo>
                    <a:lnTo>
                      <a:pt x="2860" y="4458"/>
                    </a:lnTo>
                    <a:lnTo>
                      <a:pt x="2838" y="4492"/>
                    </a:lnTo>
                    <a:lnTo>
                      <a:pt x="2812" y="4524"/>
                    </a:lnTo>
                    <a:lnTo>
                      <a:pt x="2790" y="4558"/>
                    </a:lnTo>
                    <a:lnTo>
                      <a:pt x="2782" y="4564"/>
                    </a:lnTo>
                    <a:lnTo>
                      <a:pt x="2764" y="4556"/>
                    </a:lnTo>
                    <a:lnTo>
                      <a:pt x="2732" y="4570"/>
                    </a:lnTo>
                    <a:lnTo>
                      <a:pt x="2704" y="4566"/>
                    </a:lnTo>
                    <a:lnTo>
                      <a:pt x="2672" y="4582"/>
                    </a:lnTo>
                    <a:lnTo>
                      <a:pt x="2668" y="4562"/>
                    </a:lnTo>
                    <a:lnTo>
                      <a:pt x="2708" y="4512"/>
                    </a:lnTo>
                    <a:lnTo>
                      <a:pt x="2738" y="4520"/>
                    </a:lnTo>
                    <a:lnTo>
                      <a:pt x="2772" y="4504"/>
                    </a:lnTo>
                    <a:lnTo>
                      <a:pt x="2800" y="4466"/>
                    </a:lnTo>
                    <a:lnTo>
                      <a:pt x="2820" y="4434"/>
                    </a:lnTo>
                    <a:lnTo>
                      <a:pt x="2818" y="4430"/>
                    </a:lnTo>
                    <a:lnTo>
                      <a:pt x="2822" y="4420"/>
                    </a:lnTo>
                    <a:lnTo>
                      <a:pt x="2834" y="4402"/>
                    </a:lnTo>
                    <a:lnTo>
                      <a:pt x="2848" y="4378"/>
                    </a:lnTo>
                    <a:lnTo>
                      <a:pt x="2880" y="4346"/>
                    </a:lnTo>
                    <a:lnTo>
                      <a:pt x="2918" y="4302"/>
                    </a:lnTo>
                    <a:lnTo>
                      <a:pt x="2936" y="4294"/>
                    </a:lnTo>
                    <a:lnTo>
                      <a:pt x="2964" y="4266"/>
                    </a:lnTo>
                    <a:lnTo>
                      <a:pt x="3004" y="4198"/>
                    </a:lnTo>
                    <a:lnTo>
                      <a:pt x="3014" y="4202"/>
                    </a:lnTo>
                    <a:lnTo>
                      <a:pt x="3022" y="4182"/>
                    </a:lnTo>
                    <a:lnTo>
                      <a:pt x="3026" y="4160"/>
                    </a:lnTo>
                    <a:lnTo>
                      <a:pt x="3040" y="4134"/>
                    </a:lnTo>
                    <a:lnTo>
                      <a:pt x="3034" y="4126"/>
                    </a:lnTo>
                    <a:lnTo>
                      <a:pt x="3050" y="4094"/>
                    </a:lnTo>
                    <a:lnTo>
                      <a:pt x="3046" y="4080"/>
                    </a:lnTo>
                    <a:lnTo>
                      <a:pt x="3026" y="4104"/>
                    </a:lnTo>
                    <a:lnTo>
                      <a:pt x="3000" y="4160"/>
                    </a:lnTo>
                    <a:lnTo>
                      <a:pt x="2986" y="4162"/>
                    </a:lnTo>
                    <a:lnTo>
                      <a:pt x="2950" y="4194"/>
                    </a:lnTo>
                    <a:lnTo>
                      <a:pt x="2924" y="4224"/>
                    </a:lnTo>
                    <a:lnTo>
                      <a:pt x="2890" y="4254"/>
                    </a:lnTo>
                    <a:lnTo>
                      <a:pt x="2878" y="4274"/>
                    </a:lnTo>
                    <a:lnTo>
                      <a:pt x="2854" y="4296"/>
                    </a:lnTo>
                    <a:lnTo>
                      <a:pt x="2830" y="4292"/>
                    </a:lnTo>
                    <a:lnTo>
                      <a:pt x="2818" y="4296"/>
                    </a:lnTo>
                    <a:lnTo>
                      <a:pt x="2806" y="4310"/>
                    </a:lnTo>
                    <a:lnTo>
                      <a:pt x="2766" y="4326"/>
                    </a:lnTo>
                    <a:lnTo>
                      <a:pt x="2744" y="4342"/>
                    </a:lnTo>
                    <a:lnTo>
                      <a:pt x="2724" y="4348"/>
                    </a:lnTo>
                    <a:lnTo>
                      <a:pt x="2688" y="4388"/>
                    </a:lnTo>
                    <a:lnTo>
                      <a:pt x="2646" y="4420"/>
                    </a:lnTo>
                    <a:lnTo>
                      <a:pt x="2612" y="4440"/>
                    </a:lnTo>
                    <a:lnTo>
                      <a:pt x="2586" y="4472"/>
                    </a:lnTo>
                    <a:lnTo>
                      <a:pt x="2600" y="4472"/>
                    </a:lnTo>
                    <a:lnTo>
                      <a:pt x="2572" y="4520"/>
                    </a:lnTo>
                    <a:lnTo>
                      <a:pt x="2568" y="4502"/>
                    </a:lnTo>
                    <a:lnTo>
                      <a:pt x="2548" y="4508"/>
                    </a:lnTo>
                    <a:lnTo>
                      <a:pt x="2546" y="4472"/>
                    </a:lnTo>
                    <a:lnTo>
                      <a:pt x="2530" y="4456"/>
                    </a:lnTo>
                    <a:lnTo>
                      <a:pt x="2528" y="4434"/>
                    </a:lnTo>
                    <a:lnTo>
                      <a:pt x="2510" y="4432"/>
                    </a:lnTo>
                    <a:lnTo>
                      <a:pt x="2522" y="4404"/>
                    </a:lnTo>
                    <a:lnTo>
                      <a:pt x="2542" y="4440"/>
                    </a:lnTo>
                    <a:lnTo>
                      <a:pt x="2560" y="4416"/>
                    </a:lnTo>
                    <a:lnTo>
                      <a:pt x="2574" y="4376"/>
                    </a:lnTo>
                    <a:lnTo>
                      <a:pt x="2570" y="4356"/>
                    </a:lnTo>
                    <a:lnTo>
                      <a:pt x="2586" y="4316"/>
                    </a:lnTo>
                    <a:lnTo>
                      <a:pt x="2588" y="4282"/>
                    </a:lnTo>
                    <a:lnTo>
                      <a:pt x="2576" y="4260"/>
                    </a:lnTo>
                    <a:lnTo>
                      <a:pt x="2592" y="4210"/>
                    </a:lnTo>
                    <a:lnTo>
                      <a:pt x="2590" y="4196"/>
                    </a:lnTo>
                    <a:lnTo>
                      <a:pt x="2592" y="4170"/>
                    </a:lnTo>
                    <a:lnTo>
                      <a:pt x="2578" y="4174"/>
                    </a:lnTo>
                    <a:lnTo>
                      <a:pt x="2558" y="4158"/>
                    </a:lnTo>
                    <a:lnTo>
                      <a:pt x="2544" y="4140"/>
                    </a:lnTo>
                    <a:lnTo>
                      <a:pt x="2542" y="4114"/>
                    </a:lnTo>
                    <a:lnTo>
                      <a:pt x="2556" y="4084"/>
                    </a:lnTo>
                    <a:lnTo>
                      <a:pt x="2566" y="4088"/>
                    </a:lnTo>
                    <a:lnTo>
                      <a:pt x="2592" y="4048"/>
                    </a:lnTo>
                    <a:lnTo>
                      <a:pt x="2550" y="4028"/>
                    </a:lnTo>
                    <a:lnTo>
                      <a:pt x="2530" y="3962"/>
                    </a:lnTo>
                    <a:lnTo>
                      <a:pt x="2520" y="3954"/>
                    </a:lnTo>
                    <a:lnTo>
                      <a:pt x="2514" y="3978"/>
                    </a:lnTo>
                    <a:lnTo>
                      <a:pt x="2494" y="3972"/>
                    </a:lnTo>
                    <a:lnTo>
                      <a:pt x="2478" y="3952"/>
                    </a:lnTo>
                    <a:lnTo>
                      <a:pt x="2442" y="3918"/>
                    </a:lnTo>
                    <a:lnTo>
                      <a:pt x="2426" y="3920"/>
                    </a:lnTo>
                    <a:lnTo>
                      <a:pt x="2398" y="3934"/>
                    </a:lnTo>
                    <a:lnTo>
                      <a:pt x="2394" y="3932"/>
                    </a:lnTo>
                    <a:lnTo>
                      <a:pt x="2382" y="3922"/>
                    </a:lnTo>
                    <a:lnTo>
                      <a:pt x="2350" y="3848"/>
                    </a:lnTo>
                    <a:lnTo>
                      <a:pt x="2328" y="3836"/>
                    </a:lnTo>
                    <a:lnTo>
                      <a:pt x="2304" y="3828"/>
                    </a:lnTo>
                    <a:lnTo>
                      <a:pt x="2256" y="3822"/>
                    </a:lnTo>
                    <a:lnTo>
                      <a:pt x="2172" y="3828"/>
                    </a:lnTo>
                    <a:lnTo>
                      <a:pt x="2076" y="3816"/>
                    </a:lnTo>
                    <a:lnTo>
                      <a:pt x="2030" y="3814"/>
                    </a:lnTo>
                    <a:lnTo>
                      <a:pt x="1912" y="3860"/>
                    </a:lnTo>
                    <a:lnTo>
                      <a:pt x="1846" y="3896"/>
                    </a:lnTo>
                    <a:lnTo>
                      <a:pt x="1784" y="3896"/>
                    </a:lnTo>
                    <a:lnTo>
                      <a:pt x="1736" y="3912"/>
                    </a:lnTo>
                    <a:lnTo>
                      <a:pt x="1684" y="3918"/>
                    </a:lnTo>
                    <a:lnTo>
                      <a:pt x="1602" y="3910"/>
                    </a:lnTo>
                    <a:lnTo>
                      <a:pt x="1576" y="3898"/>
                    </a:lnTo>
                    <a:lnTo>
                      <a:pt x="1538" y="3906"/>
                    </a:lnTo>
                    <a:lnTo>
                      <a:pt x="1502" y="3930"/>
                    </a:lnTo>
                    <a:lnTo>
                      <a:pt x="1420" y="3966"/>
                    </a:lnTo>
                    <a:lnTo>
                      <a:pt x="1374" y="3976"/>
                    </a:lnTo>
                    <a:lnTo>
                      <a:pt x="1346" y="3994"/>
                    </a:lnTo>
                    <a:lnTo>
                      <a:pt x="1322" y="4002"/>
                    </a:lnTo>
                    <a:lnTo>
                      <a:pt x="1294" y="4004"/>
                    </a:lnTo>
                    <a:lnTo>
                      <a:pt x="1254" y="4022"/>
                    </a:lnTo>
                    <a:lnTo>
                      <a:pt x="1226" y="4054"/>
                    </a:lnTo>
                    <a:lnTo>
                      <a:pt x="1198" y="4094"/>
                    </a:lnTo>
                    <a:lnTo>
                      <a:pt x="1178" y="4108"/>
                    </a:lnTo>
                    <a:lnTo>
                      <a:pt x="1152" y="4134"/>
                    </a:lnTo>
                    <a:lnTo>
                      <a:pt x="1132" y="4156"/>
                    </a:lnTo>
                    <a:lnTo>
                      <a:pt x="1080" y="4168"/>
                    </a:lnTo>
                    <a:lnTo>
                      <a:pt x="1060" y="4166"/>
                    </a:lnTo>
                    <a:lnTo>
                      <a:pt x="1042" y="4154"/>
                    </a:lnTo>
                    <a:lnTo>
                      <a:pt x="990" y="4158"/>
                    </a:lnTo>
                    <a:lnTo>
                      <a:pt x="930" y="4168"/>
                    </a:lnTo>
                    <a:lnTo>
                      <a:pt x="926" y="4150"/>
                    </a:lnTo>
                    <a:lnTo>
                      <a:pt x="918" y="4140"/>
                    </a:lnTo>
                    <a:lnTo>
                      <a:pt x="902" y="4146"/>
                    </a:lnTo>
                    <a:lnTo>
                      <a:pt x="862" y="4148"/>
                    </a:lnTo>
                    <a:lnTo>
                      <a:pt x="828" y="4134"/>
                    </a:lnTo>
                    <a:lnTo>
                      <a:pt x="800" y="4132"/>
                    </a:lnTo>
                    <a:lnTo>
                      <a:pt x="752" y="4150"/>
                    </a:lnTo>
                    <a:lnTo>
                      <a:pt x="654" y="4138"/>
                    </a:lnTo>
                    <a:lnTo>
                      <a:pt x="622" y="4150"/>
                    </a:lnTo>
                    <a:lnTo>
                      <a:pt x="588" y="4170"/>
                    </a:lnTo>
                    <a:lnTo>
                      <a:pt x="568" y="4190"/>
                    </a:lnTo>
                    <a:lnTo>
                      <a:pt x="566" y="4204"/>
                    </a:lnTo>
                    <a:lnTo>
                      <a:pt x="562" y="4206"/>
                    </a:lnTo>
                    <a:lnTo>
                      <a:pt x="538" y="4222"/>
                    </a:lnTo>
                    <a:lnTo>
                      <a:pt x="508" y="4228"/>
                    </a:lnTo>
                    <a:lnTo>
                      <a:pt x="466" y="4230"/>
                    </a:lnTo>
                    <a:lnTo>
                      <a:pt x="418" y="4254"/>
                    </a:lnTo>
                    <a:lnTo>
                      <a:pt x="386" y="4278"/>
                    </a:lnTo>
                    <a:lnTo>
                      <a:pt x="366" y="4296"/>
                    </a:lnTo>
                    <a:lnTo>
                      <a:pt x="340" y="4312"/>
                    </a:lnTo>
                    <a:lnTo>
                      <a:pt x="318" y="4318"/>
                    </a:lnTo>
                    <a:lnTo>
                      <a:pt x="302" y="4304"/>
                    </a:lnTo>
                    <a:lnTo>
                      <a:pt x="286" y="4332"/>
                    </a:lnTo>
                    <a:lnTo>
                      <a:pt x="272" y="4322"/>
                    </a:lnTo>
                    <a:lnTo>
                      <a:pt x="248" y="4330"/>
                    </a:lnTo>
                    <a:lnTo>
                      <a:pt x="242" y="4308"/>
                    </a:lnTo>
                    <a:lnTo>
                      <a:pt x="164" y="4308"/>
                    </a:lnTo>
                    <a:lnTo>
                      <a:pt x="130" y="4300"/>
                    </a:lnTo>
                    <a:lnTo>
                      <a:pt x="124" y="4278"/>
                    </a:lnTo>
                    <a:lnTo>
                      <a:pt x="106" y="4268"/>
                    </a:lnTo>
                    <a:lnTo>
                      <a:pt x="106" y="4270"/>
                    </a:lnTo>
                    <a:lnTo>
                      <a:pt x="82" y="4266"/>
                    </a:lnTo>
                    <a:lnTo>
                      <a:pt x="66" y="4222"/>
                    </a:lnTo>
                    <a:lnTo>
                      <a:pt x="60" y="4196"/>
                    </a:lnTo>
                    <a:lnTo>
                      <a:pt x="44" y="4170"/>
                    </a:lnTo>
                    <a:lnTo>
                      <a:pt x="28" y="4158"/>
                    </a:lnTo>
                    <a:lnTo>
                      <a:pt x="0" y="4150"/>
                    </a:lnTo>
                    <a:lnTo>
                      <a:pt x="30" y="4068"/>
                    </a:lnTo>
                    <a:lnTo>
                      <a:pt x="48" y="4034"/>
                    </a:lnTo>
                    <a:lnTo>
                      <a:pt x="50" y="4032"/>
                    </a:lnTo>
                    <a:lnTo>
                      <a:pt x="68" y="4044"/>
                    </a:lnTo>
                    <a:lnTo>
                      <a:pt x="92" y="4042"/>
                    </a:lnTo>
                    <a:lnTo>
                      <a:pt x="134" y="3998"/>
                    </a:lnTo>
                    <a:lnTo>
                      <a:pt x="166" y="3962"/>
                    </a:lnTo>
                    <a:lnTo>
                      <a:pt x="178" y="3934"/>
                    </a:lnTo>
                    <a:lnTo>
                      <a:pt x="182" y="3900"/>
                    </a:lnTo>
                    <a:lnTo>
                      <a:pt x="198" y="3860"/>
                    </a:lnTo>
                    <a:lnTo>
                      <a:pt x="194" y="3876"/>
                    </a:lnTo>
                    <a:lnTo>
                      <a:pt x="216" y="3846"/>
                    </a:lnTo>
                    <a:lnTo>
                      <a:pt x="236" y="3788"/>
                    </a:lnTo>
                    <a:lnTo>
                      <a:pt x="262" y="3740"/>
                    </a:lnTo>
                    <a:lnTo>
                      <a:pt x="272" y="3700"/>
                    </a:lnTo>
                    <a:lnTo>
                      <a:pt x="274" y="3594"/>
                    </a:lnTo>
                    <a:lnTo>
                      <a:pt x="282" y="3560"/>
                    </a:lnTo>
                    <a:lnTo>
                      <a:pt x="276" y="3540"/>
                    </a:lnTo>
                    <a:lnTo>
                      <a:pt x="272" y="3508"/>
                    </a:lnTo>
                    <a:lnTo>
                      <a:pt x="276" y="3458"/>
                    </a:lnTo>
                    <a:lnTo>
                      <a:pt x="294" y="3384"/>
                    </a:lnTo>
                    <a:lnTo>
                      <a:pt x="328" y="3294"/>
                    </a:lnTo>
                    <a:lnTo>
                      <a:pt x="332" y="3258"/>
                    </a:lnTo>
                    <a:lnTo>
                      <a:pt x="322" y="3176"/>
                    </a:lnTo>
                    <a:lnTo>
                      <a:pt x="332" y="3136"/>
                    </a:lnTo>
                    <a:lnTo>
                      <a:pt x="322" y="3094"/>
                    </a:lnTo>
                    <a:lnTo>
                      <a:pt x="316" y="3028"/>
                    </a:lnTo>
                    <a:lnTo>
                      <a:pt x="334" y="2970"/>
                    </a:lnTo>
                    <a:lnTo>
                      <a:pt x="336" y="2916"/>
                    </a:lnTo>
                    <a:lnTo>
                      <a:pt x="340" y="2858"/>
                    </a:lnTo>
                    <a:lnTo>
                      <a:pt x="320" y="2834"/>
                    </a:lnTo>
                    <a:lnTo>
                      <a:pt x="308" y="2802"/>
                    </a:lnTo>
                    <a:lnTo>
                      <a:pt x="300" y="2776"/>
                    </a:lnTo>
                    <a:lnTo>
                      <a:pt x="304" y="2748"/>
                    </a:lnTo>
                    <a:lnTo>
                      <a:pt x="294" y="2734"/>
                    </a:lnTo>
                    <a:lnTo>
                      <a:pt x="292" y="2704"/>
                    </a:lnTo>
                    <a:lnTo>
                      <a:pt x="300" y="2688"/>
                    </a:lnTo>
                    <a:lnTo>
                      <a:pt x="300" y="2702"/>
                    </a:lnTo>
                    <a:lnTo>
                      <a:pt x="312" y="2704"/>
                    </a:lnTo>
                    <a:lnTo>
                      <a:pt x="318" y="2712"/>
                    </a:lnTo>
                    <a:lnTo>
                      <a:pt x="318" y="2732"/>
                    </a:lnTo>
                    <a:lnTo>
                      <a:pt x="312" y="2762"/>
                    </a:lnTo>
                    <a:lnTo>
                      <a:pt x="326" y="2756"/>
                    </a:lnTo>
                    <a:lnTo>
                      <a:pt x="326" y="2774"/>
                    </a:lnTo>
                    <a:lnTo>
                      <a:pt x="342" y="2778"/>
                    </a:lnTo>
                    <a:lnTo>
                      <a:pt x="360" y="2762"/>
                    </a:lnTo>
                    <a:lnTo>
                      <a:pt x="366" y="2736"/>
                    </a:lnTo>
                    <a:lnTo>
                      <a:pt x="352" y="2708"/>
                    </a:lnTo>
                    <a:lnTo>
                      <a:pt x="352" y="2620"/>
                    </a:lnTo>
                    <a:lnTo>
                      <a:pt x="362" y="2590"/>
                    </a:lnTo>
                    <a:lnTo>
                      <a:pt x="368" y="2600"/>
                    </a:lnTo>
                    <a:lnTo>
                      <a:pt x="370" y="2634"/>
                    </a:lnTo>
                    <a:lnTo>
                      <a:pt x="358" y="2704"/>
                    </a:lnTo>
                    <a:lnTo>
                      <a:pt x="388" y="2676"/>
                    </a:lnTo>
                    <a:lnTo>
                      <a:pt x="386" y="2702"/>
                    </a:lnTo>
                    <a:lnTo>
                      <a:pt x="378" y="2736"/>
                    </a:lnTo>
                    <a:lnTo>
                      <a:pt x="394" y="2742"/>
                    </a:lnTo>
                    <a:lnTo>
                      <a:pt x="416" y="2720"/>
                    </a:lnTo>
                    <a:lnTo>
                      <a:pt x="434" y="2682"/>
                    </a:lnTo>
                    <a:lnTo>
                      <a:pt x="448" y="2628"/>
                    </a:lnTo>
                    <a:lnTo>
                      <a:pt x="436" y="2606"/>
                    </a:lnTo>
                    <a:lnTo>
                      <a:pt x="432" y="2570"/>
                    </a:lnTo>
                    <a:lnTo>
                      <a:pt x="424" y="2578"/>
                    </a:lnTo>
                    <a:lnTo>
                      <a:pt x="434" y="2556"/>
                    </a:lnTo>
                    <a:lnTo>
                      <a:pt x="428" y="2520"/>
                    </a:lnTo>
                    <a:lnTo>
                      <a:pt x="426" y="2466"/>
                    </a:lnTo>
                    <a:lnTo>
                      <a:pt x="414" y="2384"/>
                    </a:lnTo>
                    <a:lnTo>
                      <a:pt x="442" y="2294"/>
                    </a:lnTo>
                    <a:lnTo>
                      <a:pt x="462" y="2264"/>
                    </a:lnTo>
                    <a:lnTo>
                      <a:pt x="510" y="2224"/>
                    </a:lnTo>
                    <a:lnTo>
                      <a:pt x="522" y="2194"/>
                    </a:lnTo>
                    <a:lnTo>
                      <a:pt x="528" y="2168"/>
                    </a:lnTo>
                    <a:lnTo>
                      <a:pt x="548" y="2108"/>
                    </a:lnTo>
                    <a:lnTo>
                      <a:pt x="540" y="2068"/>
                    </a:lnTo>
                    <a:lnTo>
                      <a:pt x="572" y="2000"/>
                    </a:lnTo>
                    <a:lnTo>
                      <a:pt x="592" y="1976"/>
                    </a:lnTo>
                    <a:lnTo>
                      <a:pt x="620" y="1930"/>
                    </a:lnTo>
                    <a:lnTo>
                      <a:pt x="634" y="19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grpSp>
            <p:nvGrpSpPr>
              <p:cNvPr id="765" name=""/>
              <p:cNvGrpSpPr/>
              <p:nvPr/>
            </p:nvGrpSpPr>
            <p:grpSpPr>
              <a:xfrm>
                <a:off x="7404840" y="5106240"/>
                <a:ext cx="331200" cy="1051200"/>
                <a:chOff x="7404840" y="5106240"/>
                <a:chExt cx="331200" cy="105120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7530840" y="5111280"/>
                  <a:ext cx="11880" cy="12960"/>
                </a:xfrm>
                <a:custGeom>
                  <a:avLst/>
                  <a:gdLst/>
                  <a:ahLst/>
                  <a:rect l="l" t="t" r="r" b="b"/>
                  <a:pathLst>
                    <a:path w="66" h="80">
                      <a:moveTo>
                        <a:pt x="8" y="78"/>
                      </a:moveTo>
                      <a:lnTo>
                        <a:pt x="0" y="80"/>
                      </a:lnTo>
                      <a:lnTo>
                        <a:pt x="0" y="52"/>
                      </a:lnTo>
                      <a:lnTo>
                        <a:pt x="8" y="48"/>
                      </a:lnTo>
                      <a:lnTo>
                        <a:pt x="16" y="20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0" y="30"/>
                      </a:lnTo>
                      <a:lnTo>
                        <a:pt x="46" y="50"/>
                      </a:lnTo>
                      <a:lnTo>
                        <a:pt x="66" y="78"/>
                      </a:lnTo>
                      <a:lnTo>
                        <a:pt x="8" y="78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7540560" y="5106240"/>
                  <a:ext cx="25560" cy="20880"/>
                </a:xfrm>
                <a:custGeom>
                  <a:avLst/>
                  <a:gdLst/>
                  <a:ahLst/>
                  <a:rect l="l" t="t" r="r" b="b"/>
                  <a:pathLst>
                    <a:path w="152" h="126">
                      <a:moveTo>
                        <a:pt x="0" y="0"/>
                      </a:moveTo>
                      <a:lnTo>
                        <a:pt x="6" y="10"/>
                      </a:lnTo>
                      <a:lnTo>
                        <a:pt x="18" y="18"/>
                      </a:lnTo>
                      <a:lnTo>
                        <a:pt x="26" y="32"/>
                      </a:lnTo>
                      <a:lnTo>
                        <a:pt x="46" y="42"/>
                      </a:lnTo>
                      <a:lnTo>
                        <a:pt x="84" y="30"/>
                      </a:lnTo>
                      <a:lnTo>
                        <a:pt x="96" y="34"/>
                      </a:lnTo>
                      <a:lnTo>
                        <a:pt x="132" y="4"/>
                      </a:lnTo>
                      <a:lnTo>
                        <a:pt x="144" y="10"/>
                      </a:lnTo>
                      <a:lnTo>
                        <a:pt x="152" y="30"/>
                      </a:lnTo>
                      <a:lnTo>
                        <a:pt x="152" y="66"/>
                      </a:lnTo>
                      <a:lnTo>
                        <a:pt x="126" y="98"/>
                      </a:lnTo>
                      <a:lnTo>
                        <a:pt x="82" y="126"/>
                      </a:lnTo>
                      <a:lnTo>
                        <a:pt x="62" y="124"/>
                      </a:lnTo>
                      <a:lnTo>
                        <a:pt x="48" y="106"/>
                      </a:lnTo>
                      <a:lnTo>
                        <a:pt x="14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7689960" y="5106240"/>
                  <a:ext cx="6480" cy="12960"/>
                </a:xfrm>
                <a:custGeom>
                  <a:avLst/>
                  <a:gdLst/>
                  <a:ahLst/>
                  <a:rect l="l" t="t" r="r" b="b"/>
                  <a:pathLst>
                    <a:path w="42" h="78">
                      <a:moveTo>
                        <a:pt x="6" y="78"/>
                      </a:moveTo>
                      <a:lnTo>
                        <a:pt x="0" y="78"/>
                      </a:lnTo>
                      <a:lnTo>
                        <a:pt x="10" y="36"/>
                      </a:lnTo>
                      <a:lnTo>
                        <a:pt x="32" y="4"/>
                      </a:lnTo>
                      <a:lnTo>
                        <a:pt x="42" y="0"/>
                      </a:lnTo>
                      <a:lnTo>
                        <a:pt x="38" y="26"/>
                      </a:lnTo>
                      <a:lnTo>
                        <a:pt x="18" y="54"/>
                      </a:lnTo>
                      <a:lnTo>
                        <a:pt x="6" y="78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672320" y="5192640"/>
                  <a:ext cx="12240" cy="1872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6" y="12"/>
                      </a:moveTo>
                      <a:lnTo>
                        <a:pt x="24" y="12"/>
                      </a:lnTo>
                      <a:lnTo>
                        <a:pt x="26" y="24"/>
                      </a:lnTo>
                      <a:lnTo>
                        <a:pt x="42" y="0"/>
                      </a:lnTo>
                      <a:lnTo>
                        <a:pt x="44" y="28"/>
                      </a:lnTo>
                      <a:lnTo>
                        <a:pt x="66" y="10"/>
                      </a:lnTo>
                      <a:lnTo>
                        <a:pt x="58" y="86"/>
                      </a:lnTo>
                      <a:lnTo>
                        <a:pt x="64" y="100"/>
                      </a:lnTo>
                      <a:lnTo>
                        <a:pt x="38" y="110"/>
                      </a:lnTo>
                      <a:lnTo>
                        <a:pt x="8" y="108"/>
                      </a:lnTo>
                      <a:lnTo>
                        <a:pt x="0" y="82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722360" y="528228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62" y="6"/>
                      </a:moveTo>
                      <a:lnTo>
                        <a:pt x="72" y="12"/>
                      </a:lnTo>
                      <a:lnTo>
                        <a:pt x="84" y="30"/>
                      </a:lnTo>
                      <a:lnTo>
                        <a:pt x="72" y="30"/>
                      </a:lnTo>
                      <a:lnTo>
                        <a:pt x="46" y="40"/>
                      </a:lnTo>
                      <a:lnTo>
                        <a:pt x="44" y="50"/>
                      </a:lnTo>
                      <a:lnTo>
                        <a:pt x="32" y="60"/>
                      </a:lnTo>
                      <a:lnTo>
                        <a:pt x="4" y="68"/>
                      </a:lnTo>
                      <a:lnTo>
                        <a:pt x="0" y="42"/>
                      </a:lnTo>
                      <a:lnTo>
                        <a:pt x="20" y="20"/>
                      </a:lnTo>
                      <a:lnTo>
                        <a:pt x="34" y="16"/>
                      </a:lnTo>
                      <a:lnTo>
                        <a:pt x="48" y="0"/>
                      </a:lnTo>
                      <a:lnTo>
                        <a:pt x="62" y="6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404840" y="5889240"/>
                  <a:ext cx="32040" cy="14760"/>
                </a:xfrm>
                <a:custGeom>
                  <a:avLst/>
                  <a:gdLst/>
                  <a:ahLst/>
                  <a:rect l="l" t="t" r="r" b="b"/>
                  <a:pathLst>
                    <a:path w="192" h="90">
                      <a:moveTo>
                        <a:pt x="10" y="32"/>
                      </a:moveTo>
                      <a:lnTo>
                        <a:pt x="20" y="24"/>
                      </a:lnTo>
                      <a:lnTo>
                        <a:pt x="54" y="14"/>
                      </a:lnTo>
                      <a:lnTo>
                        <a:pt x="126" y="0"/>
                      </a:lnTo>
                      <a:lnTo>
                        <a:pt x="154" y="12"/>
                      </a:lnTo>
                      <a:lnTo>
                        <a:pt x="144" y="32"/>
                      </a:lnTo>
                      <a:lnTo>
                        <a:pt x="172" y="46"/>
                      </a:lnTo>
                      <a:lnTo>
                        <a:pt x="190" y="46"/>
                      </a:lnTo>
                      <a:lnTo>
                        <a:pt x="192" y="70"/>
                      </a:lnTo>
                      <a:lnTo>
                        <a:pt x="166" y="64"/>
                      </a:lnTo>
                      <a:lnTo>
                        <a:pt x="134" y="64"/>
                      </a:lnTo>
                      <a:lnTo>
                        <a:pt x="124" y="78"/>
                      </a:lnTo>
                      <a:lnTo>
                        <a:pt x="98" y="90"/>
                      </a:lnTo>
                      <a:lnTo>
                        <a:pt x="80" y="80"/>
                      </a:lnTo>
                      <a:lnTo>
                        <a:pt x="28" y="76"/>
                      </a:lnTo>
                      <a:lnTo>
                        <a:pt x="0" y="72"/>
                      </a:lnTo>
                      <a:lnTo>
                        <a:pt x="2" y="42"/>
                      </a:lnTo>
                      <a:lnTo>
                        <a:pt x="10" y="32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559280" y="6042600"/>
                  <a:ext cx="10800" cy="15840"/>
                </a:xfrm>
                <a:custGeom>
                  <a:avLst/>
                  <a:gdLst/>
                  <a:ahLst/>
                  <a:rect l="l" t="t" r="r" b="b"/>
                  <a:pathLst>
                    <a:path w="60" h="100">
                      <a:moveTo>
                        <a:pt x="36" y="8"/>
                      </a:moveTo>
                      <a:lnTo>
                        <a:pt x="50" y="0"/>
                      </a:lnTo>
                      <a:lnTo>
                        <a:pt x="60" y="42"/>
                      </a:lnTo>
                      <a:lnTo>
                        <a:pt x="44" y="76"/>
                      </a:lnTo>
                      <a:lnTo>
                        <a:pt x="30" y="90"/>
                      </a:lnTo>
                      <a:lnTo>
                        <a:pt x="0" y="100"/>
                      </a:lnTo>
                      <a:lnTo>
                        <a:pt x="18" y="68"/>
                      </a:lnTo>
                      <a:lnTo>
                        <a:pt x="26" y="38"/>
                      </a:lnTo>
                      <a:lnTo>
                        <a:pt x="22" y="20"/>
                      </a:lnTo>
                      <a:lnTo>
                        <a:pt x="36" y="8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556760" y="6061320"/>
                  <a:ext cx="8280" cy="3600"/>
                </a:xfrm>
                <a:custGeom>
                  <a:avLst/>
                  <a:gdLst/>
                  <a:ahLst/>
                  <a:rect l="l" t="t" r="r" b="b"/>
                  <a:pathLst>
                    <a:path w="48" h="26">
                      <a:moveTo>
                        <a:pt x="0" y="14"/>
                      </a:moveTo>
                      <a:lnTo>
                        <a:pt x="2" y="4"/>
                      </a:lnTo>
                      <a:lnTo>
                        <a:pt x="40" y="0"/>
                      </a:lnTo>
                      <a:lnTo>
                        <a:pt x="48" y="6"/>
                      </a:lnTo>
                      <a:lnTo>
                        <a:pt x="40" y="24"/>
                      </a:lnTo>
                      <a:lnTo>
                        <a:pt x="22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43720" y="6062760"/>
                  <a:ext cx="103320" cy="94680"/>
                </a:xfrm>
                <a:custGeom>
                  <a:avLst/>
                  <a:gdLst/>
                  <a:ahLst/>
                  <a:rect l="l" t="t" r="r" b="b"/>
                  <a:pathLst>
                    <a:path w="592" h="554">
                      <a:moveTo>
                        <a:pt x="220" y="0"/>
                      </a:moveTo>
                      <a:lnTo>
                        <a:pt x="220" y="8"/>
                      </a:lnTo>
                      <a:lnTo>
                        <a:pt x="232" y="18"/>
                      </a:lnTo>
                      <a:lnTo>
                        <a:pt x="238" y="32"/>
                      </a:lnTo>
                      <a:lnTo>
                        <a:pt x="258" y="26"/>
                      </a:lnTo>
                      <a:lnTo>
                        <a:pt x="268" y="26"/>
                      </a:lnTo>
                      <a:lnTo>
                        <a:pt x="286" y="44"/>
                      </a:lnTo>
                      <a:lnTo>
                        <a:pt x="306" y="96"/>
                      </a:lnTo>
                      <a:lnTo>
                        <a:pt x="366" y="116"/>
                      </a:lnTo>
                      <a:lnTo>
                        <a:pt x="378" y="116"/>
                      </a:lnTo>
                      <a:lnTo>
                        <a:pt x="416" y="100"/>
                      </a:lnTo>
                      <a:lnTo>
                        <a:pt x="444" y="92"/>
                      </a:lnTo>
                      <a:lnTo>
                        <a:pt x="464" y="98"/>
                      </a:lnTo>
                      <a:lnTo>
                        <a:pt x="492" y="96"/>
                      </a:lnTo>
                      <a:lnTo>
                        <a:pt x="536" y="70"/>
                      </a:lnTo>
                      <a:lnTo>
                        <a:pt x="544" y="78"/>
                      </a:lnTo>
                      <a:lnTo>
                        <a:pt x="556" y="86"/>
                      </a:lnTo>
                      <a:lnTo>
                        <a:pt x="580" y="64"/>
                      </a:lnTo>
                      <a:lnTo>
                        <a:pt x="592" y="74"/>
                      </a:lnTo>
                      <a:lnTo>
                        <a:pt x="590" y="104"/>
                      </a:lnTo>
                      <a:lnTo>
                        <a:pt x="558" y="160"/>
                      </a:lnTo>
                      <a:lnTo>
                        <a:pt x="542" y="186"/>
                      </a:lnTo>
                      <a:lnTo>
                        <a:pt x="518" y="212"/>
                      </a:lnTo>
                      <a:lnTo>
                        <a:pt x="482" y="262"/>
                      </a:lnTo>
                      <a:lnTo>
                        <a:pt x="452" y="306"/>
                      </a:lnTo>
                      <a:lnTo>
                        <a:pt x="448" y="320"/>
                      </a:lnTo>
                      <a:lnTo>
                        <a:pt x="418" y="352"/>
                      </a:lnTo>
                      <a:lnTo>
                        <a:pt x="438" y="326"/>
                      </a:lnTo>
                      <a:lnTo>
                        <a:pt x="452" y="304"/>
                      </a:lnTo>
                      <a:lnTo>
                        <a:pt x="458" y="286"/>
                      </a:lnTo>
                      <a:lnTo>
                        <a:pt x="446" y="298"/>
                      </a:lnTo>
                      <a:lnTo>
                        <a:pt x="390" y="340"/>
                      </a:lnTo>
                      <a:lnTo>
                        <a:pt x="364" y="376"/>
                      </a:lnTo>
                      <a:lnTo>
                        <a:pt x="352" y="378"/>
                      </a:lnTo>
                      <a:lnTo>
                        <a:pt x="314" y="422"/>
                      </a:lnTo>
                      <a:lnTo>
                        <a:pt x="298" y="432"/>
                      </a:lnTo>
                      <a:lnTo>
                        <a:pt x="284" y="428"/>
                      </a:lnTo>
                      <a:lnTo>
                        <a:pt x="270" y="418"/>
                      </a:lnTo>
                      <a:lnTo>
                        <a:pt x="258" y="428"/>
                      </a:lnTo>
                      <a:lnTo>
                        <a:pt x="242" y="448"/>
                      </a:lnTo>
                      <a:lnTo>
                        <a:pt x="220" y="466"/>
                      </a:lnTo>
                      <a:lnTo>
                        <a:pt x="198" y="474"/>
                      </a:lnTo>
                      <a:lnTo>
                        <a:pt x="174" y="498"/>
                      </a:lnTo>
                      <a:lnTo>
                        <a:pt x="176" y="484"/>
                      </a:lnTo>
                      <a:lnTo>
                        <a:pt x="168" y="476"/>
                      </a:lnTo>
                      <a:lnTo>
                        <a:pt x="150" y="488"/>
                      </a:lnTo>
                      <a:lnTo>
                        <a:pt x="126" y="512"/>
                      </a:lnTo>
                      <a:lnTo>
                        <a:pt x="110" y="532"/>
                      </a:lnTo>
                      <a:lnTo>
                        <a:pt x="78" y="552"/>
                      </a:lnTo>
                      <a:lnTo>
                        <a:pt x="64" y="554"/>
                      </a:lnTo>
                      <a:lnTo>
                        <a:pt x="62" y="538"/>
                      </a:lnTo>
                      <a:lnTo>
                        <a:pt x="50" y="532"/>
                      </a:lnTo>
                      <a:lnTo>
                        <a:pt x="36" y="538"/>
                      </a:lnTo>
                      <a:lnTo>
                        <a:pt x="20" y="526"/>
                      </a:lnTo>
                      <a:lnTo>
                        <a:pt x="0" y="522"/>
                      </a:lnTo>
                      <a:lnTo>
                        <a:pt x="4" y="508"/>
                      </a:lnTo>
                      <a:lnTo>
                        <a:pt x="22" y="504"/>
                      </a:lnTo>
                      <a:lnTo>
                        <a:pt x="42" y="490"/>
                      </a:lnTo>
                      <a:lnTo>
                        <a:pt x="22" y="486"/>
                      </a:lnTo>
                      <a:lnTo>
                        <a:pt x="12" y="472"/>
                      </a:lnTo>
                      <a:lnTo>
                        <a:pt x="28" y="416"/>
                      </a:lnTo>
                      <a:lnTo>
                        <a:pt x="24" y="394"/>
                      </a:lnTo>
                      <a:lnTo>
                        <a:pt x="28" y="378"/>
                      </a:lnTo>
                      <a:lnTo>
                        <a:pt x="80" y="270"/>
                      </a:lnTo>
                      <a:lnTo>
                        <a:pt x="68" y="326"/>
                      </a:lnTo>
                      <a:lnTo>
                        <a:pt x="102" y="300"/>
                      </a:lnTo>
                      <a:lnTo>
                        <a:pt x="96" y="286"/>
                      </a:lnTo>
                      <a:lnTo>
                        <a:pt x="106" y="232"/>
                      </a:lnTo>
                      <a:lnTo>
                        <a:pt x="148" y="98"/>
                      </a:lnTo>
                      <a:lnTo>
                        <a:pt x="178" y="62"/>
                      </a:lnTo>
                      <a:lnTo>
                        <a:pt x="220" y="0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5" name=""/>
            <p:cNvGrpSpPr/>
            <p:nvPr/>
          </p:nvGrpSpPr>
          <p:grpSpPr>
            <a:xfrm>
              <a:off x="7605360" y="5944680"/>
              <a:ext cx="624240" cy="485640"/>
              <a:chOff x="7605360" y="5944680"/>
              <a:chExt cx="624240" cy="485640"/>
            </a:xfrm>
          </p:grpSpPr>
          <p:sp>
            <p:nvSpPr>
              <p:cNvPr id="776" name=""/>
              <p:cNvSpPr/>
              <p:nvPr/>
            </p:nvSpPr>
            <p:spPr>
              <a:xfrm>
                <a:off x="7605360" y="64184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82" y="6"/>
                    </a:moveTo>
                    <a:lnTo>
                      <a:pt x="78" y="14"/>
                    </a:lnTo>
                    <a:lnTo>
                      <a:pt x="46" y="42"/>
                    </a:lnTo>
                    <a:lnTo>
                      <a:pt x="38" y="54"/>
                    </a:lnTo>
                    <a:lnTo>
                      <a:pt x="38" y="48"/>
                    </a:lnTo>
                    <a:lnTo>
                      <a:pt x="26" y="50"/>
                    </a:lnTo>
                    <a:lnTo>
                      <a:pt x="20" y="54"/>
                    </a:lnTo>
                    <a:lnTo>
                      <a:pt x="20" y="56"/>
                    </a:lnTo>
                    <a:lnTo>
                      <a:pt x="10" y="66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16" y="44"/>
                    </a:lnTo>
                    <a:lnTo>
                      <a:pt x="18" y="38"/>
                    </a:lnTo>
                    <a:lnTo>
                      <a:pt x="32" y="28"/>
                    </a:lnTo>
                    <a:lnTo>
                      <a:pt x="54" y="18"/>
                    </a:lnTo>
                    <a:lnTo>
                      <a:pt x="84" y="0"/>
                    </a:lnTo>
                    <a:lnTo>
                      <a:pt x="82" y="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840" bIns="-3384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46120" y="6311880"/>
                <a:ext cx="24480" cy="15480"/>
              </a:xfrm>
              <a:custGeom>
                <a:avLst/>
                <a:gdLst/>
                <a:ahLst/>
                <a:rect l="l" t="t" r="r" b="b"/>
                <a:pathLst>
                  <a:path w="142" h="100">
                    <a:moveTo>
                      <a:pt x="132" y="8"/>
                    </a:moveTo>
                    <a:lnTo>
                      <a:pt x="142" y="2"/>
                    </a:lnTo>
                    <a:lnTo>
                      <a:pt x="134" y="12"/>
                    </a:lnTo>
                    <a:lnTo>
                      <a:pt x="128" y="32"/>
                    </a:lnTo>
                    <a:lnTo>
                      <a:pt x="122" y="40"/>
                    </a:lnTo>
                    <a:lnTo>
                      <a:pt x="102" y="44"/>
                    </a:lnTo>
                    <a:lnTo>
                      <a:pt x="112" y="54"/>
                    </a:lnTo>
                    <a:lnTo>
                      <a:pt x="94" y="70"/>
                    </a:lnTo>
                    <a:lnTo>
                      <a:pt x="84" y="72"/>
                    </a:lnTo>
                    <a:lnTo>
                      <a:pt x="64" y="82"/>
                    </a:lnTo>
                    <a:lnTo>
                      <a:pt x="48" y="86"/>
                    </a:lnTo>
                    <a:lnTo>
                      <a:pt x="50" y="76"/>
                    </a:lnTo>
                    <a:lnTo>
                      <a:pt x="38" y="78"/>
                    </a:lnTo>
                    <a:lnTo>
                      <a:pt x="4" y="100"/>
                    </a:lnTo>
                    <a:lnTo>
                      <a:pt x="0" y="94"/>
                    </a:lnTo>
                    <a:lnTo>
                      <a:pt x="6" y="84"/>
                    </a:lnTo>
                    <a:lnTo>
                      <a:pt x="34" y="62"/>
                    </a:lnTo>
                    <a:lnTo>
                      <a:pt x="60" y="48"/>
                    </a:lnTo>
                    <a:lnTo>
                      <a:pt x="92" y="24"/>
                    </a:lnTo>
                    <a:lnTo>
                      <a:pt x="118" y="0"/>
                    </a:lnTo>
                    <a:lnTo>
                      <a:pt x="126" y="0"/>
                    </a:lnTo>
                    <a:lnTo>
                      <a:pt x="132" y="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0240" bIns="-3024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64120" y="6139440"/>
                <a:ext cx="289080" cy="174600"/>
              </a:xfrm>
              <a:custGeom>
                <a:avLst/>
                <a:gdLst/>
                <a:ahLst/>
                <a:rect l="l" t="t" r="r" b="b"/>
                <a:pathLst>
                  <a:path w="1660" h="1026">
                    <a:moveTo>
                      <a:pt x="1438" y="78"/>
                    </a:moveTo>
                    <a:lnTo>
                      <a:pt x="1440" y="80"/>
                    </a:lnTo>
                    <a:lnTo>
                      <a:pt x="1472" y="46"/>
                    </a:lnTo>
                    <a:lnTo>
                      <a:pt x="1500" y="34"/>
                    </a:lnTo>
                    <a:lnTo>
                      <a:pt x="1538" y="14"/>
                    </a:lnTo>
                    <a:lnTo>
                      <a:pt x="1548" y="12"/>
                    </a:lnTo>
                    <a:lnTo>
                      <a:pt x="1558" y="6"/>
                    </a:lnTo>
                    <a:lnTo>
                      <a:pt x="1572" y="0"/>
                    </a:lnTo>
                    <a:lnTo>
                      <a:pt x="1568" y="10"/>
                    </a:lnTo>
                    <a:lnTo>
                      <a:pt x="1544" y="38"/>
                    </a:lnTo>
                    <a:lnTo>
                      <a:pt x="1538" y="56"/>
                    </a:lnTo>
                    <a:lnTo>
                      <a:pt x="1546" y="62"/>
                    </a:lnTo>
                    <a:lnTo>
                      <a:pt x="1558" y="62"/>
                    </a:lnTo>
                    <a:lnTo>
                      <a:pt x="1554" y="78"/>
                    </a:lnTo>
                    <a:lnTo>
                      <a:pt x="1514" y="122"/>
                    </a:lnTo>
                    <a:lnTo>
                      <a:pt x="1504" y="140"/>
                    </a:lnTo>
                    <a:lnTo>
                      <a:pt x="1508" y="152"/>
                    </a:lnTo>
                    <a:lnTo>
                      <a:pt x="1562" y="126"/>
                    </a:lnTo>
                    <a:lnTo>
                      <a:pt x="1580" y="122"/>
                    </a:lnTo>
                    <a:lnTo>
                      <a:pt x="1602" y="110"/>
                    </a:lnTo>
                    <a:lnTo>
                      <a:pt x="1634" y="98"/>
                    </a:lnTo>
                    <a:lnTo>
                      <a:pt x="1646" y="96"/>
                    </a:lnTo>
                    <a:lnTo>
                      <a:pt x="1646" y="100"/>
                    </a:lnTo>
                    <a:lnTo>
                      <a:pt x="1622" y="112"/>
                    </a:lnTo>
                    <a:lnTo>
                      <a:pt x="1622" y="118"/>
                    </a:lnTo>
                    <a:lnTo>
                      <a:pt x="1608" y="136"/>
                    </a:lnTo>
                    <a:lnTo>
                      <a:pt x="1580" y="160"/>
                    </a:lnTo>
                    <a:lnTo>
                      <a:pt x="1612" y="148"/>
                    </a:lnTo>
                    <a:lnTo>
                      <a:pt x="1618" y="134"/>
                    </a:lnTo>
                    <a:lnTo>
                      <a:pt x="1646" y="114"/>
                    </a:lnTo>
                    <a:lnTo>
                      <a:pt x="1660" y="114"/>
                    </a:lnTo>
                    <a:lnTo>
                      <a:pt x="1652" y="134"/>
                    </a:lnTo>
                    <a:lnTo>
                      <a:pt x="1612" y="158"/>
                    </a:lnTo>
                    <a:lnTo>
                      <a:pt x="1616" y="160"/>
                    </a:lnTo>
                    <a:lnTo>
                      <a:pt x="1608" y="178"/>
                    </a:lnTo>
                    <a:lnTo>
                      <a:pt x="1576" y="204"/>
                    </a:lnTo>
                    <a:lnTo>
                      <a:pt x="1548" y="250"/>
                    </a:lnTo>
                    <a:lnTo>
                      <a:pt x="1530" y="266"/>
                    </a:lnTo>
                    <a:lnTo>
                      <a:pt x="1480" y="296"/>
                    </a:lnTo>
                    <a:lnTo>
                      <a:pt x="1460" y="312"/>
                    </a:lnTo>
                    <a:lnTo>
                      <a:pt x="1428" y="334"/>
                    </a:lnTo>
                    <a:lnTo>
                      <a:pt x="1414" y="334"/>
                    </a:lnTo>
                    <a:lnTo>
                      <a:pt x="1402" y="344"/>
                    </a:lnTo>
                    <a:lnTo>
                      <a:pt x="1352" y="370"/>
                    </a:lnTo>
                    <a:lnTo>
                      <a:pt x="1266" y="432"/>
                    </a:lnTo>
                    <a:lnTo>
                      <a:pt x="1242" y="444"/>
                    </a:lnTo>
                    <a:lnTo>
                      <a:pt x="1230" y="446"/>
                    </a:lnTo>
                    <a:lnTo>
                      <a:pt x="1212" y="458"/>
                    </a:lnTo>
                    <a:lnTo>
                      <a:pt x="1168" y="472"/>
                    </a:lnTo>
                    <a:lnTo>
                      <a:pt x="1158" y="480"/>
                    </a:lnTo>
                    <a:lnTo>
                      <a:pt x="1096" y="538"/>
                    </a:lnTo>
                    <a:lnTo>
                      <a:pt x="1068" y="562"/>
                    </a:lnTo>
                    <a:lnTo>
                      <a:pt x="1080" y="574"/>
                    </a:lnTo>
                    <a:lnTo>
                      <a:pt x="1084" y="586"/>
                    </a:lnTo>
                    <a:lnTo>
                      <a:pt x="1070" y="606"/>
                    </a:lnTo>
                    <a:lnTo>
                      <a:pt x="1058" y="614"/>
                    </a:lnTo>
                    <a:lnTo>
                      <a:pt x="1064" y="598"/>
                    </a:lnTo>
                    <a:lnTo>
                      <a:pt x="1048" y="612"/>
                    </a:lnTo>
                    <a:lnTo>
                      <a:pt x="1024" y="586"/>
                    </a:lnTo>
                    <a:lnTo>
                      <a:pt x="1018" y="576"/>
                    </a:lnTo>
                    <a:lnTo>
                      <a:pt x="1010" y="578"/>
                    </a:lnTo>
                    <a:lnTo>
                      <a:pt x="994" y="594"/>
                    </a:lnTo>
                    <a:lnTo>
                      <a:pt x="980" y="602"/>
                    </a:lnTo>
                    <a:lnTo>
                      <a:pt x="978" y="592"/>
                    </a:lnTo>
                    <a:lnTo>
                      <a:pt x="974" y="590"/>
                    </a:lnTo>
                    <a:lnTo>
                      <a:pt x="958" y="602"/>
                    </a:lnTo>
                    <a:lnTo>
                      <a:pt x="914" y="614"/>
                    </a:lnTo>
                    <a:lnTo>
                      <a:pt x="880" y="626"/>
                    </a:lnTo>
                    <a:lnTo>
                      <a:pt x="872" y="622"/>
                    </a:lnTo>
                    <a:lnTo>
                      <a:pt x="882" y="608"/>
                    </a:lnTo>
                    <a:lnTo>
                      <a:pt x="874" y="606"/>
                    </a:lnTo>
                    <a:lnTo>
                      <a:pt x="854" y="626"/>
                    </a:lnTo>
                    <a:lnTo>
                      <a:pt x="820" y="654"/>
                    </a:lnTo>
                    <a:lnTo>
                      <a:pt x="778" y="682"/>
                    </a:lnTo>
                    <a:lnTo>
                      <a:pt x="748" y="708"/>
                    </a:lnTo>
                    <a:lnTo>
                      <a:pt x="704" y="750"/>
                    </a:lnTo>
                    <a:lnTo>
                      <a:pt x="686" y="756"/>
                    </a:lnTo>
                    <a:lnTo>
                      <a:pt x="660" y="784"/>
                    </a:lnTo>
                    <a:lnTo>
                      <a:pt x="616" y="808"/>
                    </a:lnTo>
                    <a:lnTo>
                      <a:pt x="582" y="836"/>
                    </a:lnTo>
                    <a:lnTo>
                      <a:pt x="564" y="856"/>
                    </a:lnTo>
                    <a:lnTo>
                      <a:pt x="528" y="876"/>
                    </a:lnTo>
                    <a:lnTo>
                      <a:pt x="502" y="888"/>
                    </a:lnTo>
                    <a:lnTo>
                      <a:pt x="490" y="898"/>
                    </a:lnTo>
                    <a:lnTo>
                      <a:pt x="472" y="916"/>
                    </a:lnTo>
                    <a:lnTo>
                      <a:pt x="458" y="922"/>
                    </a:lnTo>
                    <a:lnTo>
                      <a:pt x="464" y="926"/>
                    </a:lnTo>
                    <a:lnTo>
                      <a:pt x="444" y="942"/>
                    </a:lnTo>
                    <a:lnTo>
                      <a:pt x="430" y="938"/>
                    </a:lnTo>
                    <a:lnTo>
                      <a:pt x="402" y="948"/>
                    </a:lnTo>
                    <a:lnTo>
                      <a:pt x="352" y="974"/>
                    </a:lnTo>
                    <a:lnTo>
                      <a:pt x="308" y="982"/>
                    </a:lnTo>
                    <a:lnTo>
                      <a:pt x="298" y="986"/>
                    </a:lnTo>
                    <a:lnTo>
                      <a:pt x="286" y="994"/>
                    </a:lnTo>
                    <a:lnTo>
                      <a:pt x="274" y="996"/>
                    </a:lnTo>
                    <a:lnTo>
                      <a:pt x="254" y="1012"/>
                    </a:lnTo>
                    <a:lnTo>
                      <a:pt x="238" y="1016"/>
                    </a:lnTo>
                    <a:lnTo>
                      <a:pt x="186" y="1024"/>
                    </a:lnTo>
                    <a:lnTo>
                      <a:pt x="180" y="1022"/>
                    </a:lnTo>
                    <a:lnTo>
                      <a:pt x="150" y="1026"/>
                    </a:lnTo>
                    <a:lnTo>
                      <a:pt x="146" y="1018"/>
                    </a:lnTo>
                    <a:lnTo>
                      <a:pt x="162" y="998"/>
                    </a:lnTo>
                    <a:lnTo>
                      <a:pt x="156" y="996"/>
                    </a:lnTo>
                    <a:lnTo>
                      <a:pt x="136" y="1002"/>
                    </a:lnTo>
                    <a:lnTo>
                      <a:pt x="120" y="1004"/>
                    </a:lnTo>
                    <a:lnTo>
                      <a:pt x="116" y="1000"/>
                    </a:lnTo>
                    <a:lnTo>
                      <a:pt x="120" y="994"/>
                    </a:lnTo>
                    <a:lnTo>
                      <a:pt x="104" y="998"/>
                    </a:lnTo>
                    <a:lnTo>
                      <a:pt x="112" y="986"/>
                    </a:lnTo>
                    <a:lnTo>
                      <a:pt x="126" y="972"/>
                    </a:lnTo>
                    <a:lnTo>
                      <a:pt x="116" y="972"/>
                    </a:lnTo>
                    <a:lnTo>
                      <a:pt x="112" y="962"/>
                    </a:lnTo>
                    <a:lnTo>
                      <a:pt x="78" y="954"/>
                    </a:lnTo>
                    <a:lnTo>
                      <a:pt x="98" y="926"/>
                    </a:lnTo>
                    <a:lnTo>
                      <a:pt x="98" y="914"/>
                    </a:lnTo>
                    <a:lnTo>
                      <a:pt x="84" y="908"/>
                    </a:lnTo>
                    <a:lnTo>
                      <a:pt x="56" y="920"/>
                    </a:lnTo>
                    <a:lnTo>
                      <a:pt x="34" y="922"/>
                    </a:lnTo>
                    <a:lnTo>
                      <a:pt x="2" y="908"/>
                    </a:lnTo>
                    <a:lnTo>
                      <a:pt x="0" y="894"/>
                    </a:lnTo>
                    <a:lnTo>
                      <a:pt x="22" y="880"/>
                    </a:lnTo>
                    <a:lnTo>
                      <a:pt x="46" y="868"/>
                    </a:lnTo>
                    <a:lnTo>
                      <a:pt x="66" y="854"/>
                    </a:lnTo>
                    <a:lnTo>
                      <a:pt x="22" y="876"/>
                    </a:lnTo>
                    <a:lnTo>
                      <a:pt x="14" y="876"/>
                    </a:lnTo>
                    <a:lnTo>
                      <a:pt x="46" y="852"/>
                    </a:lnTo>
                    <a:lnTo>
                      <a:pt x="48" y="850"/>
                    </a:lnTo>
                    <a:lnTo>
                      <a:pt x="34" y="856"/>
                    </a:lnTo>
                    <a:lnTo>
                      <a:pt x="16" y="856"/>
                    </a:lnTo>
                    <a:lnTo>
                      <a:pt x="26" y="842"/>
                    </a:lnTo>
                    <a:lnTo>
                      <a:pt x="44" y="832"/>
                    </a:lnTo>
                    <a:lnTo>
                      <a:pt x="76" y="828"/>
                    </a:lnTo>
                    <a:lnTo>
                      <a:pt x="102" y="818"/>
                    </a:lnTo>
                    <a:lnTo>
                      <a:pt x="98" y="814"/>
                    </a:lnTo>
                    <a:lnTo>
                      <a:pt x="102" y="808"/>
                    </a:lnTo>
                    <a:lnTo>
                      <a:pt x="116" y="802"/>
                    </a:lnTo>
                    <a:lnTo>
                      <a:pt x="136" y="788"/>
                    </a:lnTo>
                    <a:lnTo>
                      <a:pt x="126" y="788"/>
                    </a:lnTo>
                    <a:lnTo>
                      <a:pt x="120" y="782"/>
                    </a:lnTo>
                    <a:lnTo>
                      <a:pt x="132" y="768"/>
                    </a:lnTo>
                    <a:lnTo>
                      <a:pt x="144" y="770"/>
                    </a:lnTo>
                    <a:lnTo>
                      <a:pt x="160" y="760"/>
                    </a:lnTo>
                    <a:lnTo>
                      <a:pt x="160" y="754"/>
                    </a:lnTo>
                    <a:lnTo>
                      <a:pt x="168" y="744"/>
                    </a:lnTo>
                    <a:lnTo>
                      <a:pt x="178" y="746"/>
                    </a:lnTo>
                    <a:lnTo>
                      <a:pt x="176" y="754"/>
                    </a:lnTo>
                    <a:lnTo>
                      <a:pt x="188" y="752"/>
                    </a:lnTo>
                    <a:lnTo>
                      <a:pt x="194" y="754"/>
                    </a:lnTo>
                    <a:lnTo>
                      <a:pt x="202" y="750"/>
                    </a:lnTo>
                    <a:lnTo>
                      <a:pt x="208" y="744"/>
                    </a:lnTo>
                    <a:lnTo>
                      <a:pt x="200" y="742"/>
                    </a:lnTo>
                    <a:lnTo>
                      <a:pt x="202" y="732"/>
                    </a:lnTo>
                    <a:lnTo>
                      <a:pt x="246" y="692"/>
                    </a:lnTo>
                    <a:lnTo>
                      <a:pt x="276" y="680"/>
                    </a:lnTo>
                    <a:lnTo>
                      <a:pt x="284" y="678"/>
                    </a:lnTo>
                    <a:lnTo>
                      <a:pt x="282" y="688"/>
                    </a:lnTo>
                    <a:lnTo>
                      <a:pt x="270" y="702"/>
                    </a:lnTo>
                    <a:lnTo>
                      <a:pt x="270" y="706"/>
                    </a:lnTo>
                    <a:lnTo>
                      <a:pt x="276" y="706"/>
                    </a:lnTo>
                    <a:lnTo>
                      <a:pt x="288" y="700"/>
                    </a:lnTo>
                    <a:lnTo>
                      <a:pt x="304" y="676"/>
                    </a:lnTo>
                    <a:lnTo>
                      <a:pt x="316" y="668"/>
                    </a:lnTo>
                    <a:lnTo>
                      <a:pt x="324" y="666"/>
                    </a:lnTo>
                    <a:lnTo>
                      <a:pt x="352" y="644"/>
                    </a:lnTo>
                    <a:lnTo>
                      <a:pt x="374" y="642"/>
                    </a:lnTo>
                    <a:lnTo>
                      <a:pt x="398" y="630"/>
                    </a:lnTo>
                    <a:lnTo>
                      <a:pt x="424" y="606"/>
                    </a:lnTo>
                    <a:lnTo>
                      <a:pt x="450" y="592"/>
                    </a:lnTo>
                    <a:lnTo>
                      <a:pt x="470" y="584"/>
                    </a:lnTo>
                    <a:lnTo>
                      <a:pt x="510" y="552"/>
                    </a:lnTo>
                    <a:lnTo>
                      <a:pt x="520" y="552"/>
                    </a:lnTo>
                    <a:lnTo>
                      <a:pt x="540" y="544"/>
                    </a:lnTo>
                    <a:lnTo>
                      <a:pt x="552" y="546"/>
                    </a:lnTo>
                    <a:lnTo>
                      <a:pt x="576" y="540"/>
                    </a:lnTo>
                    <a:lnTo>
                      <a:pt x="590" y="544"/>
                    </a:lnTo>
                    <a:lnTo>
                      <a:pt x="612" y="540"/>
                    </a:lnTo>
                    <a:lnTo>
                      <a:pt x="638" y="532"/>
                    </a:lnTo>
                    <a:lnTo>
                      <a:pt x="694" y="506"/>
                    </a:lnTo>
                    <a:lnTo>
                      <a:pt x="742" y="490"/>
                    </a:lnTo>
                    <a:lnTo>
                      <a:pt x="810" y="462"/>
                    </a:lnTo>
                    <a:lnTo>
                      <a:pt x="856" y="448"/>
                    </a:lnTo>
                    <a:lnTo>
                      <a:pt x="876" y="428"/>
                    </a:lnTo>
                    <a:lnTo>
                      <a:pt x="920" y="408"/>
                    </a:lnTo>
                    <a:lnTo>
                      <a:pt x="938" y="402"/>
                    </a:lnTo>
                    <a:lnTo>
                      <a:pt x="952" y="402"/>
                    </a:lnTo>
                    <a:lnTo>
                      <a:pt x="986" y="390"/>
                    </a:lnTo>
                    <a:lnTo>
                      <a:pt x="1014" y="376"/>
                    </a:lnTo>
                    <a:lnTo>
                      <a:pt x="1086" y="334"/>
                    </a:lnTo>
                    <a:lnTo>
                      <a:pt x="1136" y="290"/>
                    </a:lnTo>
                    <a:lnTo>
                      <a:pt x="1192" y="240"/>
                    </a:lnTo>
                    <a:lnTo>
                      <a:pt x="1230" y="212"/>
                    </a:lnTo>
                    <a:lnTo>
                      <a:pt x="1294" y="186"/>
                    </a:lnTo>
                    <a:lnTo>
                      <a:pt x="1310" y="184"/>
                    </a:lnTo>
                    <a:lnTo>
                      <a:pt x="1332" y="168"/>
                    </a:lnTo>
                    <a:lnTo>
                      <a:pt x="1372" y="140"/>
                    </a:lnTo>
                    <a:lnTo>
                      <a:pt x="1438" y="7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054640" y="5944680"/>
                <a:ext cx="174960" cy="234720"/>
              </a:xfrm>
              <a:custGeom>
                <a:avLst/>
                <a:gdLst/>
                <a:ahLst/>
                <a:rect l="l" t="t" r="r" b="b"/>
                <a:pathLst>
                  <a:path w="1012" h="1378">
                    <a:moveTo>
                      <a:pt x="24" y="1300"/>
                    </a:moveTo>
                    <a:lnTo>
                      <a:pt x="62" y="1278"/>
                    </a:lnTo>
                    <a:lnTo>
                      <a:pt x="94" y="1252"/>
                    </a:lnTo>
                    <a:lnTo>
                      <a:pt x="124" y="1236"/>
                    </a:lnTo>
                    <a:lnTo>
                      <a:pt x="162" y="1210"/>
                    </a:lnTo>
                    <a:lnTo>
                      <a:pt x="196" y="1176"/>
                    </a:lnTo>
                    <a:lnTo>
                      <a:pt x="224" y="1154"/>
                    </a:lnTo>
                    <a:lnTo>
                      <a:pt x="244" y="1132"/>
                    </a:lnTo>
                    <a:lnTo>
                      <a:pt x="252" y="1112"/>
                    </a:lnTo>
                    <a:lnTo>
                      <a:pt x="260" y="1064"/>
                    </a:lnTo>
                    <a:lnTo>
                      <a:pt x="240" y="1056"/>
                    </a:lnTo>
                    <a:lnTo>
                      <a:pt x="230" y="1034"/>
                    </a:lnTo>
                    <a:lnTo>
                      <a:pt x="232" y="986"/>
                    </a:lnTo>
                    <a:lnTo>
                      <a:pt x="214" y="978"/>
                    </a:lnTo>
                    <a:lnTo>
                      <a:pt x="220" y="944"/>
                    </a:lnTo>
                    <a:lnTo>
                      <a:pt x="248" y="912"/>
                    </a:lnTo>
                    <a:lnTo>
                      <a:pt x="290" y="892"/>
                    </a:lnTo>
                    <a:lnTo>
                      <a:pt x="322" y="880"/>
                    </a:lnTo>
                    <a:lnTo>
                      <a:pt x="358" y="874"/>
                    </a:lnTo>
                    <a:lnTo>
                      <a:pt x="396" y="852"/>
                    </a:lnTo>
                    <a:lnTo>
                      <a:pt x="436" y="816"/>
                    </a:lnTo>
                    <a:lnTo>
                      <a:pt x="488" y="758"/>
                    </a:lnTo>
                    <a:lnTo>
                      <a:pt x="520" y="730"/>
                    </a:lnTo>
                    <a:lnTo>
                      <a:pt x="532" y="734"/>
                    </a:lnTo>
                    <a:lnTo>
                      <a:pt x="542" y="726"/>
                    </a:lnTo>
                    <a:lnTo>
                      <a:pt x="564" y="700"/>
                    </a:lnTo>
                    <a:lnTo>
                      <a:pt x="580" y="676"/>
                    </a:lnTo>
                    <a:lnTo>
                      <a:pt x="600" y="666"/>
                    </a:lnTo>
                    <a:lnTo>
                      <a:pt x="602" y="654"/>
                    </a:lnTo>
                    <a:lnTo>
                      <a:pt x="626" y="618"/>
                    </a:lnTo>
                    <a:lnTo>
                      <a:pt x="656" y="586"/>
                    </a:lnTo>
                    <a:lnTo>
                      <a:pt x="644" y="590"/>
                    </a:lnTo>
                    <a:lnTo>
                      <a:pt x="646" y="562"/>
                    </a:lnTo>
                    <a:lnTo>
                      <a:pt x="654" y="546"/>
                    </a:lnTo>
                    <a:lnTo>
                      <a:pt x="670" y="544"/>
                    </a:lnTo>
                    <a:lnTo>
                      <a:pt x="684" y="536"/>
                    </a:lnTo>
                    <a:lnTo>
                      <a:pt x="694" y="526"/>
                    </a:lnTo>
                    <a:lnTo>
                      <a:pt x="702" y="516"/>
                    </a:lnTo>
                    <a:lnTo>
                      <a:pt x="694" y="510"/>
                    </a:lnTo>
                    <a:lnTo>
                      <a:pt x="668" y="514"/>
                    </a:lnTo>
                    <a:lnTo>
                      <a:pt x="692" y="452"/>
                    </a:lnTo>
                    <a:lnTo>
                      <a:pt x="710" y="414"/>
                    </a:lnTo>
                    <a:lnTo>
                      <a:pt x="700" y="446"/>
                    </a:lnTo>
                    <a:lnTo>
                      <a:pt x="714" y="438"/>
                    </a:lnTo>
                    <a:lnTo>
                      <a:pt x="744" y="404"/>
                    </a:lnTo>
                    <a:lnTo>
                      <a:pt x="734" y="402"/>
                    </a:lnTo>
                    <a:lnTo>
                      <a:pt x="732" y="394"/>
                    </a:lnTo>
                    <a:lnTo>
                      <a:pt x="744" y="386"/>
                    </a:lnTo>
                    <a:lnTo>
                      <a:pt x="768" y="356"/>
                    </a:lnTo>
                    <a:lnTo>
                      <a:pt x="764" y="348"/>
                    </a:lnTo>
                    <a:lnTo>
                      <a:pt x="752" y="358"/>
                    </a:lnTo>
                    <a:lnTo>
                      <a:pt x="740" y="352"/>
                    </a:lnTo>
                    <a:lnTo>
                      <a:pt x="726" y="366"/>
                    </a:lnTo>
                    <a:lnTo>
                      <a:pt x="712" y="388"/>
                    </a:lnTo>
                    <a:lnTo>
                      <a:pt x="732" y="324"/>
                    </a:lnTo>
                    <a:lnTo>
                      <a:pt x="742" y="254"/>
                    </a:lnTo>
                    <a:lnTo>
                      <a:pt x="752" y="226"/>
                    </a:lnTo>
                    <a:lnTo>
                      <a:pt x="758" y="214"/>
                    </a:lnTo>
                    <a:lnTo>
                      <a:pt x="780" y="202"/>
                    </a:lnTo>
                    <a:lnTo>
                      <a:pt x="802" y="182"/>
                    </a:lnTo>
                    <a:lnTo>
                      <a:pt x="802" y="174"/>
                    </a:lnTo>
                    <a:lnTo>
                      <a:pt x="788" y="188"/>
                    </a:lnTo>
                    <a:lnTo>
                      <a:pt x="760" y="202"/>
                    </a:lnTo>
                    <a:lnTo>
                      <a:pt x="762" y="176"/>
                    </a:lnTo>
                    <a:lnTo>
                      <a:pt x="774" y="146"/>
                    </a:lnTo>
                    <a:lnTo>
                      <a:pt x="790" y="130"/>
                    </a:lnTo>
                    <a:lnTo>
                      <a:pt x="806" y="102"/>
                    </a:lnTo>
                    <a:lnTo>
                      <a:pt x="820" y="38"/>
                    </a:lnTo>
                    <a:lnTo>
                      <a:pt x="822" y="18"/>
                    </a:lnTo>
                    <a:lnTo>
                      <a:pt x="826" y="4"/>
                    </a:lnTo>
                    <a:lnTo>
                      <a:pt x="848" y="2"/>
                    </a:lnTo>
                    <a:lnTo>
                      <a:pt x="854" y="0"/>
                    </a:lnTo>
                    <a:lnTo>
                      <a:pt x="860" y="4"/>
                    </a:lnTo>
                    <a:lnTo>
                      <a:pt x="840" y="34"/>
                    </a:lnTo>
                    <a:lnTo>
                      <a:pt x="826" y="68"/>
                    </a:lnTo>
                    <a:lnTo>
                      <a:pt x="816" y="86"/>
                    </a:lnTo>
                    <a:lnTo>
                      <a:pt x="812" y="106"/>
                    </a:lnTo>
                    <a:lnTo>
                      <a:pt x="828" y="100"/>
                    </a:lnTo>
                    <a:lnTo>
                      <a:pt x="848" y="88"/>
                    </a:lnTo>
                    <a:lnTo>
                      <a:pt x="846" y="94"/>
                    </a:lnTo>
                    <a:lnTo>
                      <a:pt x="834" y="108"/>
                    </a:lnTo>
                    <a:lnTo>
                      <a:pt x="860" y="110"/>
                    </a:lnTo>
                    <a:lnTo>
                      <a:pt x="862" y="126"/>
                    </a:lnTo>
                    <a:lnTo>
                      <a:pt x="874" y="132"/>
                    </a:lnTo>
                    <a:lnTo>
                      <a:pt x="886" y="132"/>
                    </a:lnTo>
                    <a:lnTo>
                      <a:pt x="890" y="160"/>
                    </a:lnTo>
                    <a:lnTo>
                      <a:pt x="866" y="166"/>
                    </a:lnTo>
                    <a:lnTo>
                      <a:pt x="874" y="194"/>
                    </a:lnTo>
                    <a:lnTo>
                      <a:pt x="886" y="182"/>
                    </a:lnTo>
                    <a:lnTo>
                      <a:pt x="888" y="194"/>
                    </a:lnTo>
                    <a:lnTo>
                      <a:pt x="878" y="210"/>
                    </a:lnTo>
                    <a:lnTo>
                      <a:pt x="870" y="228"/>
                    </a:lnTo>
                    <a:lnTo>
                      <a:pt x="870" y="254"/>
                    </a:lnTo>
                    <a:lnTo>
                      <a:pt x="866" y="266"/>
                    </a:lnTo>
                    <a:lnTo>
                      <a:pt x="854" y="280"/>
                    </a:lnTo>
                    <a:lnTo>
                      <a:pt x="842" y="304"/>
                    </a:lnTo>
                    <a:lnTo>
                      <a:pt x="842" y="296"/>
                    </a:lnTo>
                    <a:lnTo>
                      <a:pt x="834" y="280"/>
                    </a:lnTo>
                    <a:lnTo>
                      <a:pt x="824" y="280"/>
                    </a:lnTo>
                    <a:lnTo>
                      <a:pt x="810" y="300"/>
                    </a:lnTo>
                    <a:lnTo>
                      <a:pt x="812" y="304"/>
                    </a:lnTo>
                    <a:lnTo>
                      <a:pt x="818" y="304"/>
                    </a:lnTo>
                    <a:lnTo>
                      <a:pt x="818" y="312"/>
                    </a:lnTo>
                    <a:lnTo>
                      <a:pt x="806" y="336"/>
                    </a:lnTo>
                    <a:lnTo>
                      <a:pt x="806" y="356"/>
                    </a:lnTo>
                    <a:lnTo>
                      <a:pt x="796" y="392"/>
                    </a:lnTo>
                    <a:lnTo>
                      <a:pt x="790" y="416"/>
                    </a:lnTo>
                    <a:lnTo>
                      <a:pt x="766" y="432"/>
                    </a:lnTo>
                    <a:lnTo>
                      <a:pt x="746" y="452"/>
                    </a:lnTo>
                    <a:lnTo>
                      <a:pt x="748" y="462"/>
                    </a:lnTo>
                    <a:lnTo>
                      <a:pt x="732" y="482"/>
                    </a:lnTo>
                    <a:lnTo>
                      <a:pt x="722" y="484"/>
                    </a:lnTo>
                    <a:lnTo>
                      <a:pt x="706" y="492"/>
                    </a:lnTo>
                    <a:lnTo>
                      <a:pt x="706" y="498"/>
                    </a:lnTo>
                    <a:lnTo>
                      <a:pt x="712" y="500"/>
                    </a:lnTo>
                    <a:lnTo>
                      <a:pt x="712" y="514"/>
                    </a:lnTo>
                    <a:lnTo>
                      <a:pt x="726" y="516"/>
                    </a:lnTo>
                    <a:lnTo>
                      <a:pt x="738" y="512"/>
                    </a:lnTo>
                    <a:lnTo>
                      <a:pt x="752" y="512"/>
                    </a:lnTo>
                    <a:lnTo>
                      <a:pt x="758" y="520"/>
                    </a:lnTo>
                    <a:lnTo>
                      <a:pt x="742" y="544"/>
                    </a:lnTo>
                    <a:lnTo>
                      <a:pt x="728" y="564"/>
                    </a:lnTo>
                    <a:lnTo>
                      <a:pt x="736" y="574"/>
                    </a:lnTo>
                    <a:lnTo>
                      <a:pt x="758" y="560"/>
                    </a:lnTo>
                    <a:lnTo>
                      <a:pt x="814" y="490"/>
                    </a:lnTo>
                    <a:lnTo>
                      <a:pt x="824" y="474"/>
                    </a:lnTo>
                    <a:lnTo>
                      <a:pt x="832" y="446"/>
                    </a:lnTo>
                    <a:lnTo>
                      <a:pt x="842" y="446"/>
                    </a:lnTo>
                    <a:lnTo>
                      <a:pt x="836" y="464"/>
                    </a:lnTo>
                    <a:lnTo>
                      <a:pt x="856" y="480"/>
                    </a:lnTo>
                    <a:lnTo>
                      <a:pt x="832" y="508"/>
                    </a:lnTo>
                    <a:lnTo>
                      <a:pt x="834" y="512"/>
                    </a:lnTo>
                    <a:lnTo>
                      <a:pt x="816" y="536"/>
                    </a:lnTo>
                    <a:lnTo>
                      <a:pt x="808" y="552"/>
                    </a:lnTo>
                    <a:lnTo>
                      <a:pt x="786" y="576"/>
                    </a:lnTo>
                    <a:lnTo>
                      <a:pt x="774" y="596"/>
                    </a:lnTo>
                    <a:lnTo>
                      <a:pt x="772" y="608"/>
                    </a:lnTo>
                    <a:lnTo>
                      <a:pt x="764" y="626"/>
                    </a:lnTo>
                    <a:lnTo>
                      <a:pt x="744" y="656"/>
                    </a:lnTo>
                    <a:lnTo>
                      <a:pt x="746" y="674"/>
                    </a:lnTo>
                    <a:lnTo>
                      <a:pt x="764" y="676"/>
                    </a:lnTo>
                    <a:lnTo>
                      <a:pt x="768" y="704"/>
                    </a:lnTo>
                    <a:lnTo>
                      <a:pt x="806" y="734"/>
                    </a:lnTo>
                    <a:lnTo>
                      <a:pt x="810" y="750"/>
                    </a:lnTo>
                    <a:lnTo>
                      <a:pt x="828" y="758"/>
                    </a:lnTo>
                    <a:lnTo>
                      <a:pt x="852" y="742"/>
                    </a:lnTo>
                    <a:lnTo>
                      <a:pt x="860" y="744"/>
                    </a:lnTo>
                    <a:lnTo>
                      <a:pt x="902" y="718"/>
                    </a:lnTo>
                    <a:lnTo>
                      <a:pt x="916" y="712"/>
                    </a:lnTo>
                    <a:lnTo>
                      <a:pt x="936" y="700"/>
                    </a:lnTo>
                    <a:lnTo>
                      <a:pt x="962" y="692"/>
                    </a:lnTo>
                    <a:lnTo>
                      <a:pt x="976" y="686"/>
                    </a:lnTo>
                    <a:lnTo>
                      <a:pt x="990" y="682"/>
                    </a:lnTo>
                    <a:lnTo>
                      <a:pt x="1004" y="690"/>
                    </a:lnTo>
                    <a:lnTo>
                      <a:pt x="1012" y="718"/>
                    </a:lnTo>
                    <a:lnTo>
                      <a:pt x="978" y="754"/>
                    </a:lnTo>
                    <a:lnTo>
                      <a:pt x="938" y="790"/>
                    </a:lnTo>
                    <a:lnTo>
                      <a:pt x="900" y="834"/>
                    </a:lnTo>
                    <a:lnTo>
                      <a:pt x="890" y="842"/>
                    </a:lnTo>
                    <a:lnTo>
                      <a:pt x="876" y="860"/>
                    </a:lnTo>
                    <a:lnTo>
                      <a:pt x="850" y="882"/>
                    </a:lnTo>
                    <a:lnTo>
                      <a:pt x="818" y="896"/>
                    </a:lnTo>
                    <a:lnTo>
                      <a:pt x="794" y="900"/>
                    </a:lnTo>
                    <a:lnTo>
                      <a:pt x="758" y="936"/>
                    </a:lnTo>
                    <a:lnTo>
                      <a:pt x="746" y="946"/>
                    </a:lnTo>
                    <a:lnTo>
                      <a:pt x="728" y="968"/>
                    </a:lnTo>
                    <a:lnTo>
                      <a:pt x="730" y="974"/>
                    </a:lnTo>
                    <a:lnTo>
                      <a:pt x="722" y="984"/>
                    </a:lnTo>
                    <a:lnTo>
                      <a:pt x="694" y="1000"/>
                    </a:lnTo>
                    <a:lnTo>
                      <a:pt x="716" y="968"/>
                    </a:lnTo>
                    <a:lnTo>
                      <a:pt x="712" y="962"/>
                    </a:lnTo>
                    <a:lnTo>
                      <a:pt x="698" y="960"/>
                    </a:lnTo>
                    <a:lnTo>
                      <a:pt x="678" y="962"/>
                    </a:lnTo>
                    <a:lnTo>
                      <a:pt x="664" y="958"/>
                    </a:lnTo>
                    <a:lnTo>
                      <a:pt x="646" y="962"/>
                    </a:lnTo>
                    <a:lnTo>
                      <a:pt x="624" y="974"/>
                    </a:lnTo>
                    <a:lnTo>
                      <a:pt x="540" y="1024"/>
                    </a:lnTo>
                    <a:lnTo>
                      <a:pt x="532" y="1036"/>
                    </a:lnTo>
                    <a:lnTo>
                      <a:pt x="538" y="1034"/>
                    </a:lnTo>
                    <a:lnTo>
                      <a:pt x="526" y="1056"/>
                    </a:lnTo>
                    <a:lnTo>
                      <a:pt x="528" y="1068"/>
                    </a:lnTo>
                    <a:lnTo>
                      <a:pt x="506" y="1090"/>
                    </a:lnTo>
                    <a:lnTo>
                      <a:pt x="468" y="1118"/>
                    </a:lnTo>
                    <a:lnTo>
                      <a:pt x="386" y="1176"/>
                    </a:lnTo>
                    <a:lnTo>
                      <a:pt x="364" y="1194"/>
                    </a:lnTo>
                    <a:lnTo>
                      <a:pt x="306" y="1228"/>
                    </a:lnTo>
                    <a:lnTo>
                      <a:pt x="180" y="1314"/>
                    </a:lnTo>
                    <a:lnTo>
                      <a:pt x="120" y="1350"/>
                    </a:lnTo>
                    <a:lnTo>
                      <a:pt x="58" y="1372"/>
                    </a:lnTo>
                    <a:lnTo>
                      <a:pt x="32" y="1378"/>
                    </a:lnTo>
                    <a:lnTo>
                      <a:pt x="36" y="1358"/>
                    </a:lnTo>
                    <a:lnTo>
                      <a:pt x="42" y="1340"/>
                    </a:lnTo>
                    <a:lnTo>
                      <a:pt x="0" y="1332"/>
                    </a:lnTo>
                    <a:lnTo>
                      <a:pt x="12" y="1312"/>
                    </a:lnTo>
                    <a:lnTo>
                      <a:pt x="24" y="130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7666200" y="4492800"/>
              <a:ext cx="2880" cy="104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4" y="6"/>
                  </a:moveTo>
                  <a:lnTo>
                    <a:pt x="16" y="0"/>
                  </a:lnTo>
                  <a:lnTo>
                    <a:pt x="20" y="36"/>
                  </a:lnTo>
                  <a:lnTo>
                    <a:pt x="18" y="58"/>
                  </a:lnTo>
                  <a:lnTo>
                    <a:pt x="8" y="66"/>
                  </a:lnTo>
                  <a:lnTo>
                    <a:pt x="0" y="46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4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6120" y="4428360"/>
              <a:ext cx="1080" cy="25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0"/>
                  </a:moveTo>
                  <a:lnTo>
                    <a:pt x="8" y="2"/>
                  </a:lnTo>
                  <a:lnTo>
                    <a:pt x="10" y="10"/>
                  </a:lnTo>
                  <a:lnTo>
                    <a:pt x="4" y="14"/>
                  </a:lnTo>
                  <a:lnTo>
                    <a:pt x="0" y="8"/>
                  </a:lnTo>
                  <a:lnTo>
                    <a:pt x="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200" bIns="-432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101800" y="4500360"/>
              <a:ext cx="360" cy="1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0"/>
                  </a:lnTo>
                  <a:lnTo>
                    <a:pt x="0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640" bIns="-446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43920" y="4550760"/>
              <a:ext cx="1440" cy="1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8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4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172000" y="4912560"/>
              <a:ext cx="1440" cy="118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2" y="4"/>
                  </a:moveTo>
                  <a:lnTo>
                    <a:pt x="6" y="0"/>
                  </a:lnTo>
                  <a:lnTo>
                    <a:pt x="10" y="30"/>
                  </a:lnTo>
                  <a:lnTo>
                    <a:pt x="8" y="80"/>
                  </a:lnTo>
                  <a:lnTo>
                    <a:pt x="0" y="44"/>
                  </a:lnTo>
                  <a:lnTo>
                    <a:pt x="2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175240" y="4928040"/>
              <a:ext cx="24840" cy="48960"/>
            </a:xfrm>
            <a:custGeom>
              <a:avLst/>
              <a:gdLst/>
              <a:ahLst/>
              <a:rect l="l" t="t" r="r" b="b"/>
              <a:pathLst>
                <a:path w="152" h="284">
                  <a:moveTo>
                    <a:pt x="4" y="0"/>
                  </a:moveTo>
                  <a:lnTo>
                    <a:pt x="18" y="8"/>
                  </a:lnTo>
                  <a:lnTo>
                    <a:pt x="40" y="14"/>
                  </a:lnTo>
                  <a:lnTo>
                    <a:pt x="70" y="82"/>
                  </a:lnTo>
                  <a:lnTo>
                    <a:pt x="102" y="142"/>
                  </a:lnTo>
                  <a:lnTo>
                    <a:pt x="150" y="206"/>
                  </a:lnTo>
                  <a:lnTo>
                    <a:pt x="152" y="256"/>
                  </a:lnTo>
                  <a:lnTo>
                    <a:pt x="144" y="268"/>
                  </a:lnTo>
                  <a:lnTo>
                    <a:pt x="126" y="282"/>
                  </a:lnTo>
                  <a:lnTo>
                    <a:pt x="104" y="284"/>
                  </a:lnTo>
                  <a:lnTo>
                    <a:pt x="82" y="278"/>
                  </a:lnTo>
                  <a:lnTo>
                    <a:pt x="60" y="248"/>
                  </a:lnTo>
                  <a:lnTo>
                    <a:pt x="52" y="216"/>
                  </a:lnTo>
                  <a:lnTo>
                    <a:pt x="56" y="166"/>
                  </a:lnTo>
                  <a:lnTo>
                    <a:pt x="36" y="146"/>
                  </a:lnTo>
                  <a:lnTo>
                    <a:pt x="14" y="110"/>
                  </a:lnTo>
                  <a:lnTo>
                    <a:pt x="2" y="70"/>
                  </a:lnTo>
                  <a:lnTo>
                    <a:pt x="0" y="38"/>
                  </a:lnTo>
                  <a:lnTo>
                    <a:pt x="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40" bIns="3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14480" y="4968000"/>
              <a:ext cx="21240" cy="25920"/>
            </a:xfrm>
            <a:custGeom>
              <a:avLst/>
              <a:gdLst/>
              <a:ahLst/>
              <a:rect l="l" t="t" r="r" b="b"/>
              <a:pathLst>
                <a:path w="128" h="154">
                  <a:moveTo>
                    <a:pt x="0" y="10"/>
                  </a:moveTo>
                  <a:lnTo>
                    <a:pt x="12" y="0"/>
                  </a:lnTo>
                  <a:lnTo>
                    <a:pt x="26" y="28"/>
                  </a:lnTo>
                  <a:lnTo>
                    <a:pt x="38" y="42"/>
                  </a:lnTo>
                  <a:lnTo>
                    <a:pt x="64" y="48"/>
                  </a:lnTo>
                  <a:lnTo>
                    <a:pt x="70" y="68"/>
                  </a:lnTo>
                  <a:lnTo>
                    <a:pt x="78" y="88"/>
                  </a:lnTo>
                  <a:lnTo>
                    <a:pt x="102" y="100"/>
                  </a:lnTo>
                  <a:lnTo>
                    <a:pt x="110" y="118"/>
                  </a:lnTo>
                  <a:lnTo>
                    <a:pt x="126" y="126"/>
                  </a:lnTo>
                  <a:lnTo>
                    <a:pt x="128" y="150"/>
                  </a:lnTo>
                  <a:lnTo>
                    <a:pt x="104" y="154"/>
                  </a:lnTo>
                  <a:lnTo>
                    <a:pt x="80" y="132"/>
                  </a:lnTo>
                  <a:lnTo>
                    <a:pt x="52" y="120"/>
                  </a:lnTo>
                  <a:lnTo>
                    <a:pt x="24" y="70"/>
                  </a:lnTo>
                  <a:lnTo>
                    <a:pt x="0" y="1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9800" bIns="-19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209440" y="5000040"/>
              <a:ext cx="6120" cy="13680"/>
            </a:xfrm>
            <a:custGeom>
              <a:avLst/>
              <a:gdLst/>
              <a:ahLst/>
              <a:rect l="l" t="t" r="r" b="b"/>
              <a:pathLst>
                <a:path w="30" h="78">
                  <a:moveTo>
                    <a:pt x="6" y="0"/>
                  </a:moveTo>
                  <a:lnTo>
                    <a:pt x="18" y="8"/>
                  </a:lnTo>
                  <a:lnTo>
                    <a:pt x="26" y="26"/>
                  </a:lnTo>
                  <a:lnTo>
                    <a:pt x="30" y="44"/>
                  </a:lnTo>
                  <a:lnTo>
                    <a:pt x="18" y="78"/>
                  </a:lnTo>
                  <a:lnTo>
                    <a:pt x="2" y="34"/>
                  </a:lnTo>
                  <a:lnTo>
                    <a:pt x="0" y="10"/>
                  </a:lnTo>
                  <a:lnTo>
                    <a:pt x="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20600" y="5010840"/>
              <a:ext cx="4320" cy="936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18" y="14"/>
                  </a:moveTo>
                  <a:lnTo>
                    <a:pt x="24" y="26"/>
                  </a:lnTo>
                  <a:lnTo>
                    <a:pt x="20" y="54"/>
                  </a:lnTo>
                  <a:lnTo>
                    <a:pt x="6" y="60"/>
                  </a:lnTo>
                  <a:lnTo>
                    <a:pt x="0" y="32"/>
                  </a:lnTo>
                  <a:lnTo>
                    <a:pt x="2" y="0"/>
                  </a:lnTo>
                  <a:lnTo>
                    <a:pt x="12" y="2"/>
                  </a:lnTo>
                  <a:lnTo>
                    <a:pt x="18" y="1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226720" y="5016960"/>
              <a:ext cx="12240" cy="18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44"/>
                  </a:moveTo>
                  <a:lnTo>
                    <a:pt x="0" y="32"/>
                  </a:lnTo>
                  <a:lnTo>
                    <a:pt x="6" y="8"/>
                  </a:lnTo>
                  <a:lnTo>
                    <a:pt x="24" y="0"/>
                  </a:lnTo>
                  <a:lnTo>
                    <a:pt x="40" y="0"/>
                  </a:lnTo>
                  <a:lnTo>
                    <a:pt x="48" y="38"/>
                  </a:lnTo>
                  <a:lnTo>
                    <a:pt x="70" y="60"/>
                  </a:lnTo>
                  <a:lnTo>
                    <a:pt x="72" y="108"/>
                  </a:lnTo>
                  <a:lnTo>
                    <a:pt x="56" y="108"/>
                  </a:lnTo>
                  <a:lnTo>
                    <a:pt x="28" y="54"/>
                  </a:lnTo>
                  <a:lnTo>
                    <a:pt x="8" y="58"/>
                  </a:lnTo>
                  <a:lnTo>
                    <a:pt x="0" y="4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360" bIns="-27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223480" y="5032440"/>
              <a:ext cx="2880" cy="6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2" y="28"/>
                  </a:moveTo>
                  <a:lnTo>
                    <a:pt x="0" y="12"/>
                  </a:lnTo>
                  <a:lnTo>
                    <a:pt x="6" y="4"/>
                  </a:lnTo>
                  <a:lnTo>
                    <a:pt x="16" y="0"/>
                  </a:lnTo>
                  <a:lnTo>
                    <a:pt x="16" y="30"/>
                  </a:lnTo>
                  <a:lnTo>
                    <a:pt x="12" y="38"/>
                  </a:lnTo>
                  <a:lnTo>
                    <a:pt x="2" y="2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239320" y="5036760"/>
              <a:ext cx="4320" cy="46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4" y="18"/>
                  </a:moveTo>
                  <a:lnTo>
                    <a:pt x="0" y="14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6" y="14"/>
                  </a:lnTo>
                  <a:lnTo>
                    <a:pt x="22" y="26"/>
                  </a:lnTo>
                  <a:lnTo>
                    <a:pt x="12" y="32"/>
                  </a:lnTo>
                  <a:lnTo>
                    <a:pt x="4" y="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040" bIns="-41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16080" y="5328360"/>
              <a:ext cx="9000" cy="151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22" y="16"/>
                  </a:moveTo>
                  <a:lnTo>
                    <a:pt x="26" y="12"/>
                  </a:lnTo>
                  <a:lnTo>
                    <a:pt x="48" y="0"/>
                  </a:lnTo>
                  <a:lnTo>
                    <a:pt x="46" y="26"/>
                  </a:lnTo>
                  <a:lnTo>
                    <a:pt x="52" y="54"/>
                  </a:lnTo>
                  <a:lnTo>
                    <a:pt x="46" y="76"/>
                  </a:lnTo>
                  <a:lnTo>
                    <a:pt x="28" y="88"/>
                  </a:lnTo>
                  <a:lnTo>
                    <a:pt x="0" y="90"/>
                  </a:lnTo>
                  <a:lnTo>
                    <a:pt x="0" y="62"/>
                  </a:lnTo>
                  <a:lnTo>
                    <a:pt x="12" y="30"/>
                  </a:lnTo>
                  <a:lnTo>
                    <a:pt x="22" y="1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600" bIns="-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11120" y="4526280"/>
              <a:ext cx="7560" cy="432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6" y="6"/>
                  </a:moveTo>
                  <a:lnTo>
                    <a:pt x="44" y="8"/>
                  </a:lnTo>
                  <a:lnTo>
                    <a:pt x="32" y="0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20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46" y="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16120" y="4883400"/>
              <a:ext cx="4320" cy="16920"/>
            </a:xfrm>
            <a:custGeom>
              <a:avLst/>
              <a:gdLst/>
              <a:ahLst/>
              <a:rect l="l" t="t" r="r" b="b"/>
              <a:pathLst>
                <a:path w="26" h="90">
                  <a:moveTo>
                    <a:pt x="22" y="28"/>
                  </a:moveTo>
                  <a:lnTo>
                    <a:pt x="26" y="54"/>
                  </a:lnTo>
                  <a:lnTo>
                    <a:pt x="14" y="90"/>
                  </a:lnTo>
                  <a:lnTo>
                    <a:pt x="0" y="78"/>
                  </a:lnTo>
                  <a:lnTo>
                    <a:pt x="4" y="38"/>
                  </a:lnTo>
                  <a:lnTo>
                    <a:pt x="2" y="0"/>
                  </a:lnTo>
                  <a:lnTo>
                    <a:pt x="10" y="6"/>
                  </a:lnTo>
                  <a:lnTo>
                    <a:pt x="20" y="0"/>
                  </a:lnTo>
                  <a:lnTo>
                    <a:pt x="22" y="34"/>
                  </a:lnTo>
                  <a:lnTo>
                    <a:pt x="22" y="2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0" bIns="-288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03880" y="4909680"/>
              <a:ext cx="7560" cy="20160"/>
            </a:xfrm>
            <a:custGeom>
              <a:avLst/>
              <a:gdLst/>
              <a:ahLst/>
              <a:rect l="l" t="t" r="r" b="b"/>
              <a:pathLst>
                <a:path w="40" h="118">
                  <a:moveTo>
                    <a:pt x="14" y="0"/>
                  </a:moveTo>
                  <a:lnTo>
                    <a:pt x="14" y="30"/>
                  </a:lnTo>
                  <a:lnTo>
                    <a:pt x="18" y="66"/>
                  </a:lnTo>
                  <a:lnTo>
                    <a:pt x="26" y="78"/>
                  </a:lnTo>
                  <a:lnTo>
                    <a:pt x="34" y="80"/>
                  </a:lnTo>
                  <a:lnTo>
                    <a:pt x="40" y="118"/>
                  </a:lnTo>
                  <a:lnTo>
                    <a:pt x="6" y="88"/>
                  </a:lnTo>
                  <a:lnTo>
                    <a:pt x="0" y="26"/>
                  </a:lnTo>
                  <a:lnTo>
                    <a:pt x="8" y="4"/>
                  </a:lnTo>
                  <a:lnTo>
                    <a:pt x="1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560" bIns="-255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13120" y="4386960"/>
              <a:ext cx="9000" cy="1080"/>
            </a:xfrm>
            <a:custGeom>
              <a:avLst/>
              <a:gdLst/>
              <a:ahLst/>
              <a:rect l="l" t="t" r="r" b="b"/>
              <a:pathLst>
                <a:path w="50" h="18">
                  <a:moveTo>
                    <a:pt x="16" y="12"/>
                  </a:moveTo>
                  <a:lnTo>
                    <a:pt x="20" y="10"/>
                  </a:lnTo>
                  <a:lnTo>
                    <a:pt x="28" y="16"/>
                  </a:lnTo>
                  <a:lnTo>
                    <a:pt x="32" y="14"/>
                  </a:lnTo>
                  <a:lnTo>
                    <a:pt x="42" y="18"/>
                  </a:lnTo>
                  <a:lnTo>
                    <a:pt x="50" y="10"/>
                  </a:lnTo>
                  <a:lnTo>
                    <a:pt x="46" y="4"/>
                  </a:lnTo>
                  <a:lnTo>
                    <a:pt x="30" y="6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6"/>
                  </a:lnTo>
                  <a:lnTo>
                    <a:pt x="16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640" bIns="-446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44080" y="4372920"/>
              <a:ext cx="26280" cy="11880"/>
            </a:xfrm>
            <a:custGeom>
              <a:avLst/>
              <a:gdLst/>
              <a:ahLst/>
              <a:rect l="l" t="t" r="r" b="b"/>
              <a:pathLst>
                <a:path w="154" h="74">
                  <a:moveTo>
                    <a:pt x="140" y="20"/>
                  </a:moveTo>
                  <a:lnTo>
                    <a:pt x="154" y="20"/>
                  </a:lnTo>
                  <a:lnTo>
                    <a:pt x="152" y="30"/>
                  </a:lnTo>
                  <a:lnTo>
                    <a:pt x="136" y="52"/>
                  </a:lnTo>
                  <a:lnTo>
                    <a:pt x="112" y="58"/>
                  </a:lnTo>
                  <a:lnTo>
                    <a:pt x="86" y="74"/>
                  </a:lnTo>
                  <a:lnTo>
                    <a:pt x="26" y="62"/>
                  </a:lnTo>
                  <a:lnTo>
                    <a:pt x="0" y="38"/>
                  </a:lnTo>
                  <a:lnTo>
                    <a:pt x="6" y="6"/>
                  </a:lnTo>
                  <a:lnTo>
                    <a:pt x="22" y="0"/>
                  </a:lnTo>
                  <a:lnTo>
                    <a:pt x="44" y="20"/>
                  </a:lnTo>
                  <a:lnTo>
                    <a:pt x="66" y="20"/>
                  </a:lnTo>
                  <a:lnTo>
                    <a:pt x="86" y="8"/>
                  </a:lnTo>
                  <a:lnTo>
                    <a:pt x="140" y="2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840" bIns="-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12760" y="6424560"/>
              <a:ext cx="4320" cy="144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14" y="2"/>
                  </a:moveTo>
                  <a:lnTo>
                    <a:pt x="24" y="0"/>
                  </a:lnTo>
                  <a:lnTo>
                    <a:pt x="26" y="8"/>
                  </a:lnTo>
                  <a:lnTo>
                    <a:pt x="28" y="16"/>
                  </a:lnTo>
                  <a:lnTo>
                    <a:pt x="16" y="16"/>
                  </a:ln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58160" y="6495120"/>
              <a:ext cx="16920" cy="432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26" y="0"/>
                  </a:moveTo>
                  <a:lnTo>
                    <a:pt x="60" y="0"/>
                  </a:lnTo>
                  <a:lnTo>
                    <a:pt x="90" y="16"/>
                  </a:lnTo>
                  <a:lnTo>
                    <a:pt x="106" y="28"/>
                  </a:lnTo>
                  <a:lnTo>
                    <a:pt x="108" y="32"/>
                  </a:lnTo>
                  <a:lnTo>
                    <a:pt x="74" y="24"/>
                  </a:lnTo>
                  <a:lnTo>
                    <a:pt x="48" y="24"/>
                  </a:lnTo>
                  <a:lnTo>
                    <a:pt x="32" y="10"/>
                  </a:lnTo>
                  <a:lnTo>
                    <a:pt x="12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85000" y="6518160"/>
              <a:ext cx="17280" cy="6120"/>
            </a:xfrm>
            <a:custGeom>
              <a:avLst/>
              <a:gdLst/>
              <a:ahLst/>
              <a:rect l="l" t="t" r="r" b="b"/>
              <a:pathLst>
                <a:path w="98" h="40">
                  <a:moveTo>
                    <a:pt x="98" y="8"/>
                  </a:moveTo>
                  <a:lnTo>
                    <a:pt x="98" y="12"/>
                  </a:lnTo>
                  <a:lnTo>
                    <a:pt x="96" y="16"/>
                  </a:lnTo>
                  <a:lnTo>
                    <a:pt x="76" y="18"/>
                  </a:lnTo>
                  <a:lnTo>
                    <a:pt x="50" y="28"/>
                  </a:lnTo>
                  <a:lnTo>
                    <a:pt x="36" y="40"/>
                  </a:lnTo>
                  <a:lnTo>
                    <a:pt x="18" y="36"/>
                  </a:lnTo>
                  <a:lnTo>
                    <a:pt x="0" y="14"/>
                  </a:lnTo>
                  <a:lnTo>
                    <a:pt x="10" y="6"/>
                  </a:lnTo>
                  <a:lnTo>
                    <a:pt x="42" y="2"/>
                  </a:lnTo>
                  <a:lnTo>
                    <a:pt x="78" y="0"/>
                  </a:lnTo>
                  <a:lnTo>
                    <a:pt x="92" y="4"/>
                  </a:lnTo>
                  <a:lnTo>
                    <a:pt x="98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7254000" y="3207600"/>
              <a:ext cx="250920" cy="765000"/>
              <a:chOff x="7254000" y="3207600"/>
              <a:chExt cx="250920" cy="765000"/>
            </a:xfrm>
          </p:grpSpPr>
          <p:sp>
            <p:nvSpPr>
              <p:cNvPr id="802" name=""/>
              <p:cNvSpPr/>
              <p:nvPr/>
            </p:nvSpPr>
            <p:spPr>
              <a:xfrm>
                <a:off x="7274160" y="365220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0" y="0"/>
                    </a:moveTo>
                    <a:lnTo>
                      <a:pt x="2" y="26"/>
                    </a:lnTo>
                    <a:lnTo>
                      <a:pt x="14" y="42"/>
                    </a:lnTo>
                    <a:lnTo>
                      <a:pt x="20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240" bIns="-3924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271640" y="36414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0" y="0"/>
                    </a:moveTo>
                    <a:lnTo>
                      <a:pt x="16" y="12"/>
                    </a:lnTo>
                    <a:lnTo>
                      <a:pt x="30" y="38"/>
                    </a:lnTo>
                    <a:lnTo>
                      <a:pt x="36" y="62"/>
                    </a:lnTo>
                    <a:lnTo>
                      <a:pt x="20" y="46"/>
                    </a:lnTo>
                    <a:lnTo>
                      <a:pt x="4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4920" bIns="-3492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254000" y="35492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2" y="0"/>
                    </a:moveTo>
                    <a:lnTo>
                      <a:pt x="0" y="10"/>
                    </a:lnTo>
                    <a:lnTo>
                      <a:pt x="0" y="12"/>
                    </a:lnTo>
                    <a:lnTo>
                      <a:pt x="8" y="16"/>
                    </a:lnTo>
                    <a:lnTo>
                      <a:pt x="14" y="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3200" bIns="-4320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316640" y="3283560"/>
                <a:ext cx="129600" cy="126720"/>
              </a:xfrm>
              <a:custGeom>
                <a:avLst/>
                <a:gdLst/>
                <a:ahLst/>
                <a:rect l="l" t="t" r="r" b="b"/>
                <a:pathLst>
                  <a:path w="744" h="744">
                    <a:moveTo>
                      <a:pt x="550" y="200"/>
                    </a:moveTo>
                    <a:lnTo>
                      <a:pt x="556" y="162"/>
                    </a:lnTo>
                    <a:lnTo>
                      <a:pt x="572" y="170"/>
                    </a:lnTo>
                    <a:lnTo>
                      <a:pt x="588" y="208"/>
                    </a:lnTo>
                    <a:lnTo>
                      <a:pt x="600" y="250"/>
                    </a:lnTo>
                    <a:lnTo>
                      <a:pt x="630" y="278"/>
                    </a:lnTo>
                    <a:lnTo>
                      <a:pt x="660" y="290"/>
                    </a:lnTo>
                    <a:lnTo>
                      <a:pt x="688" y="324"/>
                    </a:lnTo>
                    <a:lnTo>
                      <a:pt x="714" y="322"/>
                    </a:lnTo>
                    <a:lnTo>
                      <a:pt x="734" y="306"/>
                    </a:lnTo>
                    <a:lnTo>
                      <a:pt x="744" y="334"/>
                    </a:lnTo>
                    <a:lnTo>
                      <a:pt x="722" y="358"/>
                    </a:lnTo>
                    <a:lnTo>
                      <a:pt x="710" y="388"/>
                    </a:lnTo>
                    <a:lnTo>
                      <a:pt x="694" y="394"/>
                    </a:lnTo>
                    <a:lnTo>
                      <a:pt x="676" y="388"/>
                    </a:lnTo>
                    <a:lnTo>
                      <a:pt x="678" y="410"/>
                    </a:lnTo>
                    <a:lnTo>
                      <a:pt x="636" y="408"/>
                    </a:lnTo>
                    <a:lnTo>
                      <a:pt x="608" y="418"/>
                    </a:lnTo>
                    <a:lnTo>
                      <a:pt x="592" y="442"/>
                    </a:lnTo>
                    <a:lnTo>
                      <a:pt x="594" y="492"/>
                    </a:lnTo>
                    <a:lnTo>
                      <a:pt x="606" y="538"/>
                    </a:lnTo>
                    <a:lnTo>
                      <a:pt x="630" y="582"/>
                    </a:lnTo>
                    <a:lnTo>
                      <a:pt x="632" y="606"/>
                    </a:lnTo>
                    <a:lnTo>
                      <a:pt x="540" y="566"/>
                    </a:lnTo>
                    <a:lnTo>
                      <a:pt x="486" y="552"/>
                    </a:lnTo>
                    <a:lnTo>
                      <a:pt x="394" y="518"/>
                    </a:lnTo>
                    <a:lnTo>
                      <a:pt x="356" y="518"/>
                    </a:lnTo>
                    <a:lnTo>
                      <a:pt x="340" y="536"/>
                    </a:lnTo>
                    <a:lnTo>
                      <a:pt x="334" y="558"/>
                    </a:lnTo>
                    <a:lnTo>
                      <a:pt x="308" y="558"/>
                    </a:lnTo>
                    <a:lnTo>
                      <a:pt x="268" y="538"/>
                    </a:lnTo>
                    <a:lnTo>
                      <a:pt x="236" y="544"/>
                    </a:lnTo>
                    <a:lnTo>
                      <a:pt x="242" y="578"/>
                    </a:lnTo>
                    <a:lnTo>
                      <a:pt x="274" y="606"/>
                    </a:lnTo>
                    <a:lnTo>
                      <a:pt x="340" y="624"/>
                    </a:lnTo>
                    <a:lnTo>
                      <a:pt x="404" y="656"/>
                    </a:lnTo>
                    <a:lnTo>
                      <a:pt x="408" y="674"/>
                    </a:lnTo>
                    <a:lnTo>
                      <a:pt x="380" y="676"/>
                    </a:lnTo>
                    <a:lnTo>
                      <a:pt x="362" y="680"/>
                    </a:lnTo>
                    <a:lnTo>
                      <a:pt x="352" y="696"/>
                    </a:lnTo>
                    <a:lnTo>
                      <a:pt x="354" y="718"/>
                    </a:lnTo>
                    <a:lnTo>
                      <a:pt x="340" y="744"/>
                    </a:lnTo>
                    <a:lnTo>
                      <a:pt x="322" y="740"/>
                    </a:lnTo>
                    <a:lnTo>
                      <a:pt x="298" y="716"/>
                    </a:lnTo>
                    <a:lnTo>
                      <a:pt x="260" y="640"/>
                    </a:lnTo>
                    <a:lnTo>
                      <a:pt x="194" y="604"/>
                    </a:lnTo>
                    <a:lnTo>
                      <a:pt x="160" y="548"/>
                    </a:lnTo>
                    <a:lnTo>
                      <a:pt x="162" y="520"/>
                    </a:lnTo>
                    <a:lnTo>
                      <a:pt x="176" y="502"/>
                    </a:lnTo>
                    <a:lnTo>
                      <a:pt x="180" y="472"/>
                    </a:lnTo>
                    <a:lnTo>
                      <a:pt x="166" y="444"/>
                    </a:lnTo>
                    <a:lnTo>
                      <a:pt x="142" y="426"/>
                    </a:lnTo>
                    <a:lnTo>
                      <a:pt x="130" y="404"/>
                    </a:lnTo>
                    <a:lnTo>
                      <a:pt x="162" y="408"/>
                    </a:lnTo>
                    <a:lnTo>
                      <a:pt x="196" y="416"/>
                    </a:lnTo>
                    <a:lnTo>
                      <a:pt x="240" y="410"/>
                    </a:lnTo>
                    <a:lnTo>
                      <a:pt x="232" y="374"/>
                    </a:lnTo>
                    <a:lnTo>
                      <a:pt x="204" y="344"/>
                    </a:lnTo>
                    <a:lnTo>
                      <a:pt x="184" y="316"/>
                    </a:lnTo>
                    <a:lnTo>
                      <a:pt x="186" y="296"/>
                    </a:lnTo>
                    <a:lnTo>
                      <a:pt x="170" y="254"/>
                    </a:lnTo>
                    <a:lnTo>
                      <a:pt x="138" y="208"/>
                    </a:lnTo>
                    <a:lnTo>
                      <a:pt x="96" y="132"/>
                    </a:lnTo>
                    <a:lnTo>
                      <a:pt x="16" y="58"/>
                    </a:lnTo>
                    <a:lnTo>
                      <a:pt x="0" y="36"/>
                    </a:lnTo>
                    <a:lnTo>
                      <a:pt x="4" y="8"/>
                    </a:lnTo>
                    <a:lnTo>
                      <a:pt x="10" y="0"/>
                    </a:lnTo>
                    <a:lnTo>
                      <a:pt x="36" y="14"/>
                    </a:lnTo>
                    <a:lnTo>
                      <a:pt x="54" y="28"/>
                    </a:lnTo>
                    <a:lnTo>
                      <a:pt x="86" y="42"/>
                    </a:lnTo>
                    <a:lnTo>
                      <a:pt x="192" y="112"/>
                    </a:lnTo>
                    <a:lnTo>
                      <a:pt x="270" y="154"/>
                    </a:lnTo>
                    <a:lnTo>
                      <a:pt x="342" y="186"/>
                    </a:lnTo>
                    <a:lnTo>
                      <a:pt x="410" y="206"/>
                    </a:lnTo>
                    <a:lnTo>
                      <a:pt x="466" y="214"/>
                    </a:lnTo>
                    <a:lnTo>
                      <a:pt x="490" y="228"/>
                    </a:lnTo>
                    <a:lnTo>
                      <a:pt x="522" y="236"/>
                    </a:lnTo>
                    <a:lnTo>
                      <a:pt x="542" y="226"/>
                    </a:lnTo>
                    <a:lnTo>
                      <a:pt x="550" y="20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08360" y="32929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4" y="2"/>
                    </a:moveTo>
                    <a:lnTo>
                      <a:pt x="0" y="14"/>
                    </a:lnTo>
                    <a:lnTo>
                      <a:pt x="22" y="24"/>
                    </a:lnTo>
                    <a:lnTo>
                      <a:pt x="34" y="26"/>
                    </a:lnTo>
                    <a:lnTo>
                      <a:pt x="18" y="0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2120" bIns="-4212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11240" y="3406320"/>
                <a:ext cx="193680" cy="258840"/>
              </a:xfrm>
              <a:custGeom>
                <a:avLst/>
                <a:gdLst/>
                <a:ahLst/>
                <a:rect l="l" t="t" r="r" b="b"/>
                <a:pathLst>
                  <a:path w="1106" h="1512">
                    <a:moveTo>
                      <a:pt x="482" y="14"/>
                    </a:moveTo>
                    <a:lnTo>
                      <a:pt x="512" y="8"/>
                    </a:lnTo>
                    <a:lnTo>
                      <a:pt x="530" y="24"/>
                    </a:lnTo>
                    <a:lnTo>
                      <a:pt x="568" y="84"/>
                    </a:lnTo>
                    <a:lnTo>
                      <a:pt x="598" y="124"/>
                    </a:lnTo>
                    <a:lnTo>
                      <a:pt x="636" y="162"/>
                    </a:lnTo>
                    <a:lnTo>
                      <a:pt x="680" y="192"/>
                    </a:lnTo>
                    <a:lnTo>
                      <a:pt x="716" y="226"/>
                    </a:lnTo>
                    <a:lnTo>
                      <a:pt x="772" y="280"/>
                    </a:lnTo>
                    <a:lnTo>
                      <a:pt x="826" y="340"/>
                    </a:lnTo>
                    <a:lnTo>
                      <a:pt x="840" y="366"/>
                    </a:lnTo>
                    <a:lnTo>
                      <a:pt x="844" y="386"/>
                    </a:lnTo>
                    <a:lnTo>
                      <a:pt x="860" y="414"/>
                    </a:lnTo>
                    <a:lnTo>
                      <a:pt x="860" y="436"/>
                    </a:lnTo>
                    <a:lnTo>
                      <a:pt x="846" y="440"/>
                    </a:lnTo>
                    <a:lnTo>
                      <a:pt x="874" y="516"/>
                    </a:lnTo>
                    <a:lnTo>
                      <a:pt x="898" y="556"/>
                    </a:lnTo>
                    <a:lnTo>
                      <a:pt x="868" y="556"/>
                    </a:lnTo>
                    <a:lnTo>
                      <a:pt x="854" y="584"/>
                    </a:lnTo>
                    <a:lnTo>
                      <a:pt x="872" y="632"/>
                    </a:lnTo>
                    <a:lnTo>
                      <a:pt x="906" y="680"/>
                    </a:lnTo>
                    <a:lnTo>
                      <a:pt x="938" y="718"/>
                    </a:lnTo>
                    <a:lnTo>
                      <a:pt x="972" y="774"/>
                    </a:lnTo>
                    <a:lnTo>
                      <a:pt x="996" y="808"/>
                    </a:lnTo>
                    <a:lnTo>
                      <a:pt x="986" y="834"/>
                    </a:lnTo>
                    <a:lnTo>
                      <a:pt x="1000" y="890"/>
                    </a:lnTo>
                    <a:lnTo>
                      <a:pt x="1022" y="940"/>
                    </a:lnTo>
                    <a:lnTo>
                      <a:pt x="1056" y="998"/>
                    </a:lnTo>
                    <a:lnTo>
                      <a:pt x="1090" y="1024"/>
                    </a:lnTo>
                    <a:lnTo>
                      <a:pt x="1104" y="1042"/>
                    </a:lnTo>
                    <a:lnTo>
                      <a:pt x="1094" y="1060"/>
                    </a:lnTo>
                    <a:lnTo>
                      <a:pt x="1098" y="1106"/>
                    </a:lnTo>
                    <a:lnTo>
                      <a:pt x="1106" y="1144"/>
                    </a:lnTo>
                    <a:lnTo>
                      <a:pt x="1076" y="1204"/>
                    </a:lnTo>
                    <a:lnTo>
                      <a:pt x="1056" y="1178"/>
                    </a:lnTo>
                    <a:lnTo>
                      <a:pt x="1026" y="1112"/>
                    </a:lnTo>
                    <a:lnTo>
                      <a:pt x="1028" y="1088"/>
                    </a:lnTo>
                    <a:lnTo>
                      <a:pt x="1020" y="1064"/>
                    </a:lnTo>
                    <a:lnTo>
                      <a:pt x="992" y="1066"/>
                    </a:lnTo>
                    <a:lnTo>
                      <a:pt x="1002" y="1098"/>
                    </a:lnTo>
                    <a:lnTo>
                      <a:pt x="1006" y="1126"/>
                    </a:lnTo>
                    <a:lnTo>
                      <a:pt x="1020" y="1154"/>
                    </a:lnTo>
                    <a:lnTo>
                      <a:pt x="994" y="1140"/>
                    </a:lnTo>
                    <a:lnTo>
                      <a:pt x="962" y="1138"/>
                    </a:lnTo>
                    <a:lnTo>
                      <a:pt x="962" y="1168"/>
                    </a:lnTo>
                    <a:lnTo>
                      <a:pt x="992" y="1238"/>
                    </a:lnTo>
                    <a:lnTo>
                      <a:pt x="988" y="1260"/>
                    </a:lnTo>
                    <a:lnTo>
                      <a:pt x="970" y="1260"/>
                    </a:lnTo>
                    <a:lnTo>
                      <a:pt x="940" y="1216"/>
                    </a:lnTo>
                    <a:lnTo>
                      <a:pt x="928" y="1186"/>
                    </a:lnTo>
                    <a:lnTo>
                      <a:pt x="906" y="1184"/>
                    </a:lnTo>
                    <a:lnTo>
                      <a:pt x="898" y="1210"/>
                    </a:lnTo>
                    <a:lnTo>
                      <a:pt x="894" y="1242"/>
                    </a:lnTo>
                    <a:lnTo>
                      <a:pt x="900" y="1276"/>
                    </a:lnTo>
                    <a:lnTo>
                      <a:pt x="898" y="1282"/>
                    </a:lnTo>
                    <a:lnTo>
                      <a:pt x="852" y="1276"/>
                    </a:lnTo>
                    <a:lnTo>
                      <a:pt x="786" y="1280"/>
                    </a:lnTo>
                    <a:lnTo>
                      <a:pt x="760" y="1296"/>
                    </a:lnTo>
                    <a:lnTo>
                      <a:pt x="760" y="1280"/>
                    </a:lnTo>
                    <a:lnTo>
                      <a:pt x="766" y="1266"/>
                    </a:lnTo>
                    <a:lnTo>
                      <a:pt x="736" y="1260"/>
                    </a:lnTo>
                    <a:lnTo>
                      <a:pt x="722" y="1252"/>
                    </a:lnTo>
                    <a:lnTo>
                      <a:pt x="726" y="1268"/>
                    </a:lnTo>
                    <a:lnTo>
                      <a:pt x="698" y="1250"/>
                    </a:lnTo>
                    <a:lnTo>
                      <a:pt x="678" y="1214"/>
                    </a:lnTo>
                    <a:lnTo>
                      <a:pt x="670" y="1222"/>
                    </a:lnTo>
                    <a:lnTo>
                      <a:pt x="680" y="1290"/>
                    </a:lnTo>
                    <a:lnTo>
                      <a:pt x="742" y="1324"/>
                    </a:lnTo>
                    <a:lnTo>
                      <a:pt x="766" y="1366"/>
                    </a:lnTo>
                    <a:lnTo>
                      <a:pt x="740" y="1352"/>
                    </a:lnTo>
                    <a:lnTo>
                      <a:pt x="732" y="1362"/>
                    </a:lnTo>
                    <a:lnTo>
                      <a:pt x="716" y="1368"/>
                    </a:lnTo>
                    <a:lnTo>
                      <a:pt x="706" y="1380"/>
                    </a:lnTo>
                    <a:lnTo>
                      <a:pt x="704" y="1398"/>
                    </a:lnTo>
                    <a:lnTo>
                      <a:pt x="708" y="1410"/>
                    </a:lnTo>
                    <a:lnTo>
                      <a:pt x="712" y="1492"/>
                    </a:lnTo>
                    <a:lnTo>
                      <a:pt x="696" y="1512"/>
                    </a:lnTo>
                    <a:lnTo>
                      <a:pt x="652" y="1496"/>
                    </a:lnTo>
                    <a:lnTo>
                      <a:pt x="624" y="1470"/>
                    </a:lnTo>
                    <a:lnTo>
                      <a:pt x="592" y="1454"/>
                    </a:lnTo>
                    <a:lnTo>
                      <a:pt x="568" y="1424"/>
                    </a:lnTo>
                    <a:lnTo>
                      <a:pt x="542" y="1372"/>
                    </a:lnTo>
                    <a:lnTo>
                      <a:pt x="546" y="1358"/>
                    </a:lnTo>
                    <a:lnTo>
                      <a:pt x="544" y="1314"/>
                    </a:lnTo>
                    <a:lnTo>
                      <a:pt x="540" y="1300"/>
                    </a:lnTo>
                    <a:lnTo>
                      <a:pt x="532" y="1296"/>
                    </a:lnTo>
                    <a:lnTo>
                      <a:pt x="496" y="1310"/>
                    </a:lnTo>
                    <a:lnTo>
                      <a:pt x="460" y="1300"/>
                    </a:lnTo>
                    <a:lnTo>
                      <a:pt x="426" y="1294"/>
                    </a:lnTo>
                    <a:lnTo>
                      <a:pt x="398" y="1298"/>
                    </a:lnTo>
                    <a:lnTo>
                      <a:pt x="386" y="1326"/>
                    </a:lnTo>
                    <a:lnTo>
                      <a:pt x="362" y="1358"/>
                    </a:lnTo>
                    <a:lnTo>
                      <a:pt x="342" y="1348"/>
                    </a:lnTo>
                    <a:lnTo>
                      <a:pt x="326" y="1356"/>
                    </a:lnTo>
                    <a:lnTo>
                      <a:pt x="314" y="1360"/>
                    </a:lnTo>
                    <a:lnTo>
                      <a:pt x="298" y="1374"/>
                    </a:lnTo>
                    <a:lnTo>
                      <a:pt x="284" y="1376"/>
                    </a:lnTo>
                    <a:lnTo>
                      <a:pt x="274" y="1388"/>
                    </a:lnTo>
                    <a:lnTo>
                      <a:pt x="222" y="1414"/>
                    </a:lnTo>
                    <a:lnTo>
                      <a:pt x="196" y="1396"/>
                    </a:lnTo>
                    <a:lnTo>
                      <a:pt x="184" y="1404"/>
                    </a:lnTo>
                    <a:lnTo>
                      <a:pt x="198" y="1474"/>
                    </a:lnTo>
                    <a:lnTo>
                      <a:pt x="188" y="1478"/>
                    </a:lnTo>
                    <a:lnTo>
                      <a:pt x="154" y="1470"/>
                    </a:lnTo>
                    <a:lnTo>
                      <a:pt x="124" y="1458"/>
                    </a:lnTo>
                    <a:lnTo>
                      <a:pt x="106" y="1470"/>
                    </a:lnTo>
                    <a:lnTo>
                      <a:pt x="88" y="147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8" y="1468"/>
                    </a:lnTo>
                    <a:lnTo>
                      <a:pt x="8" y="1430"/>
                    </a:lnTo>
                    <a:lnTo>
                      <a:pt x="0" y="1410"/>
                    </a:lnTo>
                    <a:lnTo>
                      <a:pt x="48" y="1388"/>
                    </a:lnTo>
                    <a:lnTo>
                      <a:pt x="56" y="1358"/>
                    </a:lnTo>
                    <a:lnTo>
                      <a:pt x="68" y="1334"/>
                    </a:lnTo>
                    <a:lnTo>
                      <a:pt x="94" y="1306"/>
                    </a:lnTo>
                    <a:lnTo>
                      <a:pt x="98" y="1264"/>
                    </a:lnTo>
                    <a:lnTo>
                      <a:pt x="114" y="1236"/>
                    </a:lnTo>
                    <a:lnTo>
                      <a:pt x="114" y="1198"/>
                    </a:lnTo>
                    <a:lnTo>
                      <a:pt x="128" y="1176"/>
                    </a:lnTo>
                    <a:lnTo>
                      <a:pt x="150" y="1162"/>
                    </a:lnTo>
                    <a:lnTo>
                      <a:pt x="198" y="1172"/>
                    </a:lnTo>
                    <a:lnTo>
                      <a:pt x="238" y="1164"/>
                    </a:lnTo>
                    <a:lnTo>
                      <a:pt x="274" y="1162"/>
                    </a:lnTo>
                    <a:lnTo>
                      <a:pt x="350" y="1128"/>
                    </a:lnTo>
                    <a:lnTo>
                      <a:pt x="368" y="1124"/>
                    </a:lnTo>
                    <a:lnTo>
                      <a:pt x="386" y="1112"/>
                    </a:lnTo>
                    <a:lnTo>
                      <a:pt x="408" y="1108"/>
                    </a:lnTo>
                    <a:lnTo>
                      <a:pt x="420" y="1136"/>
                    </a:lnTo>
                    <a:lnTo>
                      <a:pt x="482" y="1144"/>
                    </a:lnTo>
                    <a:lnTo>
                      <a:pt x="490" y="1140"/>
                    </a:lnTo>
                    <a:lnTo>
                      <a:pt x="494" y="1126"/>
                    </a:lnTo>
                    <a:lnTo>
                      <a:pt x="510" y="1102"/>
                    </a:lnTo>
                    <a:lnTo>
                      <a:pt x="462" y="1014"/>
                    </a:lnTo>
                    <a:lnTo>
                      <a:pt x="476" y="972"/>
                    </a:lnTo>
                    <a:lnTo>
                      <a:pt x="480" y="924"/>
                    </a:lnTo>
                    <a:lnTo>
                      <a:pt x="468" y="868"/>
                    </a:lnTo>
                    <a:lnTo>
                      <a:pt x="446" y="830"/>
                    </a:lnTo>
                    <a:lnTo>
                      <a:pt x="434" y="798"/>
                    </a:lnTo>
                    <a:lnTo>
                      <a:pt x="458" y="766"/>
                    </a:lnTo>
                    <a:lnTo>
                      <a:pt x="480" y="768"/>
                    </a:lnTo>
                    <a:lnTo>
                      <a:pt x="490" y="794"/>
                    </a:lnTo>
                    <a:lnTo>
                      <a:pt x="480" y="806"/>
                    </a:lnTo>
                    <a:lnTo>
                      <a:pt x="474" y="830"/>
                    </a:lnTo>
                    <a:lnTo>
                      <a:pt x="476" y="838"/>
                    </a:lnTo>
                    <a:lnTo>
                      <a:pt x="504" y="868"/>
                    </a:lnTo>
                    <a:lnTo>
                      <a:pt x="522" y="900"/>
                    </a:lnTo>
                    <a:lnTo>
                      <a:pt x="536" y="900"/>
                    </a:lnTo>
                    <a:lnTo>
                      <a:pt x="560" y="892"/>
                    </a:lnTo>
                    <a:lnTo>
                      <a:pt x="564" y="862"/>
                    </a:lnTo>
                    <a:lnTo>
                      <a:pt x="584" y="842"/>
                    </a:lnTo>
                    <a:lnTo>
                      <a:pt x="612" y="822"/>
                    </a:lnTo>
                    <a:lnTo>
                      <a:pt x="630" y="784"/>
                    </a:lnTo>
                    <a:lnTo>
                      <a:pt x="638" y="750"/>
                    </a:lnTo>
                    <a:lnTo>
                      <a:pt x="634" y="712"/>
                    </a:lnTo>
                    <a:lnTo>
                      <a:pt x="634" y="676"/>
                    </a:lnTo>
                    <a:lnTo>
                      <a:pt x="650" y="648"/>
                    </a:lnTo>
                    <a:lnTo>
                      <a:pt x="660" y="648"/>
                    </a:lnTo>
                    <a:lnTo>
                      <a:pt x="660" y="614"/>
                    </a:lnTo>
                    <a:lnTo>
                      <a:pt x="646" y="586"/>
                    </a:lnTo>
                    <a:lnTo>
                      <a:pt x="636" y="562"/>
                    </a:lnTo>
                    <a:lnTo>
                      <a:pt x="624" y="486"/>
                    </a:lnTo>
                    <a:lnTo>
                      <a:pt x="614" y="456"/>
                    </a:lnTo>
                    <a:lnTo>
                      <a:pt x="600" y="426"/>
                    </a:lnTo>
                    <a:lnTo>
                      <a:pt x="594" y="396"/>
                    </a:lnTo>
                    <a:lnTo>
                      <a:pt x="578" y="358"/>
                    </a:lnTo>
                    <a:lnTo>
                      <a:pt x="552" y="318"/>
                    </a:lnTo>
                    <a:lnTo>
                      <a:pt x="526" y="302"/>
                    </a:lnTo>
                    <a:lnTo>
                      <a:pt x="492" y="294"/>
                    </a:lnTo>
                    <a:lnTo>
                      <a:pt x="496" y="280"/>
                    </a:lnTo>
                    <a:lnTo>
                      <a:pt x="494" y="240"/>
                    </a:lnTo>
                    <a:lnTo>
                      <a:pt x="440" y="164"/>
                    </a:lnTo>
                    <a:lnTo>
                      <a:pt x="436" y="142"/>
                    </a:lnTo>
                    <a:lnTo>
                      <a:pt x="448" y="130"/>
                    </a:lnTo>
                    <a:lnTo>
                      <a:pt x="424" y="88"/>
                    </a:lnTo>
                    <a:lnTo>
                      <a:pt x="418" y="68"/>
                    </a:lnTo>
                    <a:lnTo>
                      <a:pt x="428" y="56"/>
                    </a:lnTo>
                    <a:lnTo>
                      <a:pt x="454" y="74"/>
                    </a:lnTo>
                    <a:lnTo>
                      <a:pt x="488" y="106"/>
                    </a:lnTo>
                    <a:lnTo>
                      <a:pt x="506" y="120"/>
                    </a:lnTo>
                    <a:lnTo>
                      <a:pt x="504" y="96"/>
                    </a:lnTo>
                    <a:lnTo>
                      <a:pt x="526" y="100"/>
                    </a:lnTo>
                    <a:lnTo>
                      <a:pt x="538" y="98"/>
                    </a:lnTo>
                    <a:lnTo>
                      <a:pt x="530" y="62"/>
                    </a:lnTo>
                    <a:lnTo>
                      <a:pt x="512" y="34"/>
                    </a:lnTo>
                    <a:lnTo>
                      <a:pt x="506" y="52"/>
                    </a:lnTo>
                    <a:lnTo>
                      <a:pt x="484" y="64"/>
                    </a:lnTo>
                    <a:lnTo>
                      <a:pt x="456" y="38"/>
                    </a:lnTo>
                    <a:lnTo>
                      <a:pt x="444" y="6"/>
                    </a:lnTo>
                    <a:lnTo>
                      <a:pt x="452" y="0"/>
                    </a:lnTo>
                    <a:lnTo>
                      <a:pt x="482" y="1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404120" y="3510360"/>
                <a:ext cx="8280" cy="14760"/>
              </a:xfrm>
              <a:custGeom>
                <a:avLst/>
                <a:gdLst/>
                <a:ahLst/>
                <a:rect l="l" t="t" r="r" b="b"/>
                <a:pathLst>
                  <a:path w="52" h="88">
                    <a:moveTo>
                      <a:pt x="10" y="0"/>
                    </a:moveTo>
                    <a:lnTo>
                      <a:pt x="28" y="32"/>
                    </a:lnTo>
                    <a:lnTo>
                      <a:pt x="38" y="38"/>
                    </a:lnTo>
                    <a:lnTo>
                      <a:pt x="52" y="84"/>
                    </a:lnTo>
                    <a:lnTo>
                      <a:pt x="34" y="88"/>
                    </a:lnTo>
                    <a:lnTo>
                      <a:pt x="12" y="62"/>
                    </a:lnTo>
                    <a:lnTo>
                      <a:pt x="0" y="1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0960" bIns="-3096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53720" y="3641400"/>
                <a:ext cx="50400" cy="53280"/>
              </a:xfrm>
              <a:custGeom>
                <a:avLst/>
                <a:gdLst/>
                <a:ahLst/>
                <a:rect l="l" t="t" r="r" b="b"/>
                <a:pathLst>
                  <a:path w="284" h="312">
                    <a:moveTo>
                      <a:pt x="270" y="192"/>
                    </a:moveTo>
                    <a:lnTo>
                      <a:pt x="232" y="174"/>
                    </a:lnTo>
                    <a:lnTo>
                      <a:pt x="192" y="164"/>
                    </a:lnTo>
                    <a:lnTo>
                      <a:pt x="168" y="176"/>
                    </a:lnTo>
                    <a:lnTo>
                      <a:pt x="154" y="196"/>
                    </a:lnTo>
                    <a:lnTo>
                      <a:pt x="158" y="232"/>
                    </a:lnTo>
                    <a:lnTo>
                      <a:pt x="156" y="276"/>
                    </a:lnTo>
                    <a:lnTo>
                      <a:pt x="168" y="306"/>
                    </a:lnTo>
                    <a:lnTo>
                      <a:pt x="148" y="312"/>
                    </a:lnTo>
                    <a:lnTo>
                      <a:pt x="118" y="294"/>
                    </a:lnTo>
                    <a:lnTo>
                      <a:pt x="102" y="280"/>
                    </a:lnTo>
                    <a:lnTo>
                      <a:pt x="68" y="246"/>
                    </a:lnTo>
                    <a:lnTo>
                      <a:pt x="62" y="230"/>
                    </a:lnTo>
                    <a:lnTo>
                      <a:pt x="44" y="210"/>
                    </a:lnTo>
                    <a:lnTo>
                      <a:pt x="20" y="196"/>
                    </a:lnTo>
                    <a:lnTo>
                      <a:pt x="0" y="198"/>
                    </a:lnTo>
                    <a:lnTo>
                      <a:pt x="16" y="164"/>
                    </a:lnTo>
                    <a:lnTo>
                      <a:pt x="28" y="78"/>
                    </a:lnTo>
                    <a:lnTo>
                      <a:pt x="56" y="82"/>
                    </a:lnTo>
                    <a:lnTo>
                      <a:pt x="78" y="90"/>
                    </a:lnTo>
                    <a:lnTo>
                      <a:pt x="100" y="82"/>
                    </a:lnTo>
                    <a:lnTo>
                      <a:pt x="118" y="66"/>
                    </a:lnTo>
                    <a:lnTo>
                      <a:pt x="114" y="42"/>
                    </a:lnTo>
                    <a:lnTo>
                      <a:pt x="126" y="6"/>
                    </a:lnTo>
                    <a:lnTo>
                      <a:pt x="142" y="0"/>
                    </a:lnTo>
                    <a:lnTo>
                      <a:pt x="172" y="6"/>
                    </a:lnTo>
                    <a:lnTo>
                      <a:pt x="204" y="20"/>
                    </a:lnTo>
                    <a:lnTo>
                      <a:pt x="226" y="20"/>
                    </a:lnTo>
                    <a:lnTo>
                      <a:pt x="272" y="86"/>
                    </a:lnTo>
                    <a:lnTo>
                      <a:pt x="284" y="90"/>
                    </a:lnTo>
                    <a:lnTo>
                      <a:pt x="280" y="116"/>
                    </a:lnTo>
                    <a:lnTo>
                      <a:pt x="272" y="124"/>
                    </a:lnTo>
                    <a:lnTo>
                      <a:pt x="268" y="144"/>
                    </a:lnTo>
                    <a:lnTo>
                      <a:pt x="272" y="172"/>
                    </a:lnTo>
                    <a:lnTo>
                      <a:pt x="270" y="19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396200" y="363204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4" y="0"/>
                    </a:moveTo>
                    <a:lnTo>
                      <a:pt x="0" y="38"/>
                    </a:lnTo>
                    <a:lnTo>
                      <a:pt x="2" y="70"/>
                    </a:lnTo>
                    <a:lnTo>
                      <a:pt x="18" y="74"/>
                    </a:lnTo>
                    <a:lnTo>
                      <a:pt x="28" y="64"/>
                    </a:lnTo>
                    <a:lnTo>
                      <a:pt x="14" y="3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4200" bIns="-3420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300440" y="3661560"/>
                <a:ext cx="65520" cy="89280"/>
              </a:xfrm>
              <a:custGeom>
                <a:avLst/>
                <a:gdLst/>
                <a:ahLst/>
                <a:rect l="l" t="t" r="r" b="b"/>
                <a:pathLst>
                  <a:path w="374" h="526">
                    <a:moveTo>
                      <a:pt x="90" y="4"/>
                    </a:moveTo>
                    <a:lnTo>
                      <a:pt x="96" y="2"/>
                    </a:lnTo>
                    <a:lnTo>
                      <a:pt x="84" y="0"/>
                    </a:lnTo>
                    <a:lnTo>
                      <a:pt x="68" y="12"/>
                    </a:lnTo>
                    <a:lnTo>
                      <a:pt x="60" y="36"/>
                    </a:lnTo>
                    <a:lnTo>
                      <a:pt x="62" y="66"/>
                    </a:lnTo>
                    <a:lnTo>
                      <a:pt x="44" y="66"/>
                    </a:lnTo>
                    <a:lnTo>
                      <a:pt x="40" y="86"/>
                    </a:lnTo>
                    <a:lnTo>
                      <a:pt x="26" y="96"/>
                    </a:lnTo>
                    <a:lnTo>
                      <a:pt x="12" y="88"/>
                    </a:lnTo>
                    <a:lnTo>
                      <a:pt x="4" y="102"/>
                    </a:lnTo>
                    <a:lnTo>
                      <a:pt x="0" y="144"/>
                    </a:lnTo>
                    <a:lnTo>
                      <a:pt x="34" y="164"/>
                    </a:lnTo>
                    <a:lnTo>
                      <a:pt x="58" y="184"/>
                    </a:lnTo>
                    <a:lnTo>
                      <a:pt x="70" y="206"/>
                    </a:lnTo>
                    <a:lnTo>
                      <a:pt x="46" y="180"/>
                    </a:lnTo>
                    <a:lnTo>
                      <a:pt x="28" y="180"/>
                    </a:lnTo>
                    <a:lnTo>
                      <a:pt x="74" y="254"/>
                    </a:lnTo>
                    <a:lnTo>
                      <a:pt x="78" y="236"/>
                    </a:lnTo>
                    <a:lnTo>
                      <a:pt x="102" y="224"/>
                    </a:lnTo>
                    <a:lnTo>
                      <a:pt x="132" y="236"/>
                    </a:lnTo>
                    <a:lnTo>
                      <a:pt x="132" y="212"/>
                    </a:lnTo>
                    <a:lnTo>
                      <a:pt x="112" y="202"/>
                    </a:lnTo>
                    <a:lnTo>
                      <a:pt x="98" y="188"/>
                    </a:lnTo>
                    <a:lnTo>
                      <a:pt x="82" y="154"/>
                    </a:lnTo>
                    <a:lnTo>
                      <a:pt x="88" y="142"/>
                    </a:lnTo>
                    <a:lnTo>
                      <a:pt x="120" y="178"/>
                    </a:lnTo>
                    <a:lnTo>
                      <a:pt x="152" y="208"/>
                    </a:lnTo>
                    <a:lnTo>
                      <a:pt x="168" y="238"/>
                    </a:lnTo>
                    <a:lnTo>
                      <a:pt x="176" y="242"/>
                    </a:lnTo>
                    <a:lnTo>
                      <a:pt x="192" y="278"/>
                    </a:lnTo>
                    <a:lnTo>
                      <a:pt x="198" y="316"/>
                    </a:lnTo>
                    <a:lnTo>
                      <a:pt x="190" y="332"/>
                    </a:lnTo>
                    <a:lnTo>
                      <a:pt x="190" y="362"/>
                    </a:lnTo>
                    <a:lnTo>
                      <a:pt x="208" y="404"/>
                    </a:lnTo>
                    <a:lnTo>
                      <a:pt x="236" y="448"/>
                    </a:lnTo>
                    <a:lnTo>
                      <a:pt x="242" y="474"/>
                    </a:lnTo>
                    <a:lnTo>
                      <a:pt x="264" y="490"/>
                    </a:lnTo>
                    <a:lnTo>
                      <a:pt x="306" y="506"/>
                    </a:lnTo>
                    <a:lnTo>
                      <a:pt x="294" y="466"/>
                    </a:lnTo>
                    <a:lnTo>
                      <a:pt x="268" y="434"/>
                    </a:lnTo>
                    <a:lnTo>
                      <a:pt x="264" y="408"/>
                    </a:lnTo>
                    <a:lnTo>
                      <a:pt x="288" y="414"/>
                    </a:lnTo>
                    <a:lnTo>
                      <a:pt x="282" y="424"/>
                    </a:lnTo>
                    <a:lnTo>
                      <a:pt x="290" y="446"/>
                    </a:lnTo>
                    <a:lnTo>
                      <a:pt x="314" y="482"/>
                    </a:lnTo>
                    <a:lnTo>
                      <a:pt x="334" y="526"/>
                    </a:lnTo>
                    <a:lnTo>
                      <a:pt x="348" y="518"/>
                    </a:lnTo>
                    <a:lnTo>
                      <a:pt x="360" y="496"/>
                    </a:lnTo>
                    <a:lnTo>
                      <a:pt x="348" y="470"/>
                    </a:lnTo>
                    <a:lnTo>
                      <a:pt x="356" y="444"/>
                    </a:lnTo>
                    <a:lnTo>
                      <a:pt x="374" y="452"/>
                    </a:lnTo>
                    <a:lnTo>
                      <a:pt x="370" y="406"/>
                    </a:lnTo>
                    <a:lnTo>
                      <a:pt x="344" y="316"/>
                    </a:lnTo>
                    <a:lnTo>
                      <a:pt x="334" y="266"/>
                    </a:lnTo>
                    <a:lnTo>
                      <a:pt x="334" y="234"/>
                    </a:lnTo>
                    <a:lnTo>
                      <a:pt x="336" y="202"/>
                    </a:lnTo>
                    <a:lnTo>
                      <a:pt x="334" y="178"/>
                    </a:lnTo>
                    <a:lnTo>
                      <a:pt x="318" y="150"/>
                    </a:lnTo>
                    <a:lnTo>
                      <a:pt x="288" y="120"/>
                    </a:lnTo>
                    <a:lnTo>
                      <a:pt x="254" y="114"/>
                    </a:lnTo>
                    <a:lnTo>
                      <a:pt x="242" y="98"/>
                    </a:lnTo>
                    <a:lnTo>
                      <a:pt x="234" y="58"/>
                    </a:lnTo>
                    <a:lnTo>
                      <a:pt x="218" y="40"/>
                    </a:lnTo>
                    <a:lnTo>
                      <a:pt x="202" y="50"/>
                    </a:lnTo>
                    <a:lnTo>
                      <a:pt x="166" y="54"/>
                    </a:lnTo>
                    <a:lnTo>
                      <a:pt x="124" y="22"/>
                    </a:lnTo>
                    <a:lnTo>
                      <a:pt x="114" y="6"/>
                    </a:lnTo>
                    <a:lnTo>
                      <a:pt x="90" y="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3560" bIns="4356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322400" y="370692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0"/>
                    </a:moveTo>
                    <a:lnTo>
                      <a:pt x="2" y="22"/>
                    </a:lnTo>
                    <a:lnTo>
                      <a:pt x="14" y="48"/>
                    </a:lnTo>
                    <a:lnTo>
                      <a:pt x="24" y="60"/>
                    </a:lnTo>
                    <a:lnTo>
                      <a:pt x="1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6720" bIns="-3672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368480" y="37576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16" y="24"/>
                    </a:moveTo>
                    <a:lnTo>
                      <a:pt x="0" y="0"/>
                    </a:lnTo>
                    <a:lnTo>
                      <a:pt x="4" y="24"/>
                    </a:lnTo>
                    <a:lnTo>
                      <a:pt x="12" y="66"/>
                    </a:lnTo>
                    <a:lnTo>
                      <a:pt x="26" y="78"/>
                    </a:lnTo>
                    <a:lnTo>
                      <a:pt x="16" y="2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400" bIns="-3240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360560" y="376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8" y="1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38"/>
                    </a:lnTo>
                    <a:lnTo>
                      <a:pt x="40" y="40"/>
                    </a:lnTo>
                    <a:lnTo>
                      <a:pt x="28" y="14"/>
                    </a:lnTo>
                    <a:lnTo>
                      <a:pt x="8" y="1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240" bIns="-3924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286760" y="37015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14" y="0"/>
                    </a:moveTo>
                    <a:lnTo>
                      <a:pt x="0" y="12"/>
                    </a:lnTo>
                    <a:lnTo>
                      <a:pt x="12" y="36"/>
                    </a:lnTo>
                    <a:lnTo>
                      <a:pt x="28" y="26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0320" bIns="-4032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290720" y="369108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16" y="12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6"/>
                    </a:lnTo>
                    <a:lnTo>
                      <a:pt x="16" y="42"/>
                    </a:lnTo>
                    <a:lnTo>
                      <a:pt x="22" y="24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8160" bIns="-3816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92160" y="366552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0"/>
                    </a:moveTo>
                    <a:lnTo>
                      <a:pt x="2" y="14"/>
                    </a:lnTo>
                    <a:lnTo>
                      <a:pt x="12" y="26"/>
                    </a:lnTo>
                    <a:lnTo>
                      <a:pt x="1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2120" bIns="-4212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78480" y="39672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0" y="0"/>
                    </a:moveTo>
                    <a:lnTo>
                      <a:pt x="10" y="2"/>
                    </a:lnTo>
                    <a:lnTo>
                      <a:pt x="20" y="8"/>
                    </a:lnTo>
                    <a:lnTo>
                      <a:pt x="24" y="22"/>
                    </a:lnTo>
                    <a:lnTo>
                      <a:pt x="22" y="26"/>
                    </a:lnTo>
                    <a:lnTo>
                      <a:pt x="8" y="28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0320" bIns="-4032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286760" y="396468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6" y="22"/>
                    </a:moveTo>
                    <a:lnTo>
                      <a:pt x="0" y="18"/>
                    </a:lnTo>
                    <a:lnTo>
                      <a:pt x="12" y="8"/>
                    </a:lnTo>
                    <a:lnTo>
                      <a:pt x="16" y="0"/>
                    </a:lnTo>
                    <a:lnTo>
                      <a:pt x="22" y="10"/>
                    </a:lnTo>
                    <a:lnTo>
                      <a:pt x="22" y="26"/>
                    </a:lnTo>
                    <a:lnTo>
                      <a:pt x="14" y="36"/>
                    </a:lnTo>
                    <a:lnTo>
                      <a:pt x="6" y="22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0680" bIns="-4068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349400" y="388440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44" h="138">
                    <a:moveTo>
                      <a:pt x="4" y="68"/>
                    </a:moveTo>
                    <a:lnTo>
                      <a:pt x="10" y="54"/>
                    </a:lnTo>
                    <a:lnTo>
                      <a:pt x="2" y="32"/>
                    </a:lnTo>
                    <a:lnTo>
                      <a:pt x="16" y="36"/>
                    </a:lnTo>
                    <a:lnTo>
                      <a:pt x="30" y="16"/>
                    </a:lnTo>
                    <a:lnTo>
                      <a:pt x="32" y="0"/>
                    </a:lnTo>
                    <a:lnTo>
                      <a:pt x="42" y="22"/>
                    </a:lnTo>
                    <a:lnTo>
                      <a:pt x="44" y="52"/>
                    </a:lnTo>
                    <a:lnTo>
                      <a:pt x="32" y="64"/>
                    </a:lnTo>
                    <a:lnTo>
                      <a:pt x="22" y="92"/>
                    </a:lnTo>
                    <a:lnTo>
                      <a:pt x="24" y="98"/>
                    </a:lnTo>
                    <a:lnTo>
                      <a:pt x="20" y="114"/>
                    </a:lnTo>
                    <a:lnTo>
                      <a:pt x="24" y="128"/>
                    </a:lnTo>
                    <a:lnTo>
                      <a:pt x="22" y="138"/>
                    </a:lnTo>
                    <a:lnTo>
                      <a:pt x="6" y="116"/>
                    </a:lnTo>
                    <a:lnTo>
                      <a:pt x="0" y="84"/>
                    </a:lnTo>
                    <a:lnTo>
                      <a:pt x="4" y="6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1960" bIns="-2196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357680" y="385092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16" y="24"/>
                    </a:moveTo>
                    <a:lnTo>
                      <a:pt x="24" y="36"/>
                    </a:lnTo>
                    <a:lnTo>
                      <a:pt x="20" y="40"/>
                    </a:lnTo>
                    <a:lnTo>
                      <a:pt x="10" y="30"/>
                    </a:lnTo>
                    <a:lnTo>
                      <a:pt x="4" y="16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16" y="2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240" bIns="-3924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360560" y="383112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12" y="18"/>
                    </a:moveTo>
                    <a:lnTo>
                      <a:pt x="30" y="0"/>
                    </a:lnTo>
                    <a:lnTo>
                      <a:pt x="36" y="4"/>
                    </a:lnTo>
                    <a:lnTo>
                      <a:pt x="42" y="24"/>
                    </a:lnTo>
                    <a:lnTo>
                      <a:pt x="34" y="34"/>
                    </a:lnTo>
                    <a:lnTo>
                      <a:pt x="30" y="52"/>
                    </a:lnTo>
                    <a:lnTo>
                      <a:pt x="24" y="62"/>
                    </a:lnTo>
                    <a:lnTo>
                      <a:pt x="20" y="60"/>
                    </a:lnTo>
                    <a:lnTo>
                      <a:pt x="10" y="52"/>
                    </a:lnTo>
                    <a:lnTo>
                      <a:pt x="0" y="36"/>
                    </a:lnTo>
                    <a:lnTo>
                      <a:pt x="6" y="20"/>
                    </a:lnTo>
                    <a:lnTo>
                      <a:pt x="12" y="18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5280" bIns="-3528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309800" y="395244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8" y="4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12" y="10"/>
                    </a:lnTo>
                    <a:lnTo>
                      <a:pt x="26" y="14"/>
                    </a:lnTo>
                    <a:lnTo>
                      <a:pt x="30" y="22"/>
                    </a:lnTo>
                    <a:lnTo>
                      <a:pt x="22" y="30"/>
                    </a:lnTo>
                    <a:lnTo>
                      <a:pt x="12" y="20"/>
                    </a:lnTo>
                    <a:lnTo>
                      <a:pt x="8" y="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0320" bIns="-4032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71080" y="32076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28" h="68">
                    <a:moveTo>
                      <a:pt x="10" y="0"/>
                    </a:moveTo>
                    <a:lnTo>
                      <a:pt x="26" y="18"/>
                    </a:lnTo>
                    <a:lnTo>
                      <a:pt x="28" y="50"/>
                    </a:lnTo>
                    <a:lnTo>
                      <a:pt x="24" y="68"/>
                    </a:lnTo>
                    <a:lnTo>
                      <a:pt x="10" y="64"/>
                    </a:lnTo>
                    <a:lnTo>
                      <a:pt x="6" y="42"/>
                    </a:lnTo>
                    <a:lnTo>
                      <a:pt x="10" y="28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4920" bIns="-3492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460280" y="323820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40" h="130">
                    <a:moveTo>
                      <a:pt x="34" y="14"/>
                    </a:moveTo>
                    <a:lnTo>
                      <a:pt x="40" y="24"/>
                    </a:lnTo>
                    <a:lnTo>
                      <a:pt x="38" y="94"/>
                    </a:lnTo>
                    <a:lnTo>
                      <a:pt x="30" y="122"/>
                    </a:lnTo>
                    <a:lnTo>
                      <a:pt x="18" y="130"/>
                    </a:lnTo>
                    <a:lnTo>
                      <a:pt x="0" y="102"/>
                    </a:lnTo>
                    <a:lnTo>
                      <a:pt x="0" y="44"/>
                    </a:lnTo>
                    <a:lnTo>
                      <a:pt x="12" y="4"/>
                    </a:lnTo>
                    <a:lnTo>
                      <a:pt x="20" y="0"/>
                    </a:lnTo>
                    <a:lnTo>
                      <a:pt x="34" y="14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3040" bIns="-2304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438320" y="3264840"/>
                <a:ext cx="17640" cy="36000"/>
              </a:xfrm>
              <a:custGeom>
                <a:avLst/>
                <a:gdLst/>
                <a:ahLst/>
                <a:rect l="l" t="t" r="r" b="b"/>
                <a:pathLst>
                  <a:path w="100" h="216">
                    <a:moveTo>
                      <a:pt x="96" y="20"/>
                    </a:moveTo>
                    <a:lnTo>
                      <a:pt x="92" y="12"/>
                    </a:lnTo>
                    <a:lnTo>
                      <a:pt x="100" y="24"/>
                    </a:lnTo>
                    <a:lnTo>
                      <a:pt x="86" y="46"/>
                    </a:lnTo>
                    <a:lnTo>
                      <a:pt x="58" y="114"/>
                    </a:lnTo>
                    <a:lnTo>
                      <a:pt x="44" y="114"/>
                    </a:lnTo>
                    <a:lnTo>
                      <a:pt x="40" y="128"/>
                    </a:lnTo>
                    <a:lnTo>
                      <a:pt x="46" y="154"/>
                    </a:lnTo>
                    <a:lnTo>
                      <a:pt x="38" y="180"/>
                    </a:lnTo>
                    <a:lnTo>
                      <a:pt x="38" y="214"/>
                    </a:lnTo>
                    <a:lnTo>
                      <a:pt x="22" y="216"/>
                    </a:lnTo>
                    <a:lnTo>
                      <a:pt x="14" y="200"/>
                    </a:lnTo>
                    <a:lnTo>
                      <a:pt x="12" y="178"/>
                    </a:lnTo>
                    <a:lnTo>
                      <a:pt x="0" y="156"/>
                    </a:lnTo>
                    <a:lnTo>
                      <a:pt x="6" y="150"/>
                    </a:lnTo>
                    <a:lnTo>
                      <a:pt x="2" y="110"/>
                    </a:lnTo>
                    <a:lnTo>
                      <a:pt x="2" y="88"/>
                    </a:lnTo>
                    <a:lnTo>
                      <a:pt x="10" y="78"/>
                    </a:lnTo>
                    <a:lnTo>
                      <a:pt x="0" y="54"/>
                    </a:lnTo>
                    <a:lnTo>
                      <a:pt x="10" y="44"/>
                    </a:lnTo>
                    <a:lnTo>
                      <a:pt x="20" y="50"/>
                    </a:lnTo>
                    <a:lnTo>
                      <a:pt x="36" y="62"/>
                    </a:lnTo>
                    <a:lnTo>
                      <a:pt x="46" y="54"/>
                    </a:lnTo>
                    <a:lnTo>
                      <a:pt x="52" y="32"/>
                    </a:lnTo>
                    <a:lnTo>
                      <a:pt x="52" y="6"/>
                    </a:lnTo>
                    <a:lnTo>
                      <a:pt x="68" y="0"/>
                    </a:lnTo>
                    <a:lnTo>
                      <a:pt x="82" y="4"/>
                    </a:lnTo>
                    <a:lnTo>
                      <a:pt x="96" y="2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9720" bIns="-972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452000" y="33199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14" y="0"/>
                    </a:moveTo>
                    <a:lnTo>
                      <a:pt x="26" y="4"/>
                    </a:lnTo>
                    <a:lnTo>
                      <a:pt x="26" y="16"/>
                    </a:lnTo>
                    <a:lnTo>
                      <a:pt x="16" y="30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0680" bIns="-4068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424640" y="3302280"/>
                <a:ext cx="8280" cy="26640"/>
              </a:xfrm>
              <a:custGeom>
                <a:avLst/>
                <a:gdLst/>
                <a:ahLst/>
                <a:rect l="l" t="t" r="r" b="b"/>
                <a:pathLst>
                  <a:path w="50" h="154">
                    <a:moveTo>
                      <a:pt x="6" y="6"/>
                    </a:moveTo>
                    <a:lnTo>
                      <a:pt x="4" y="0"/>
                    </a:lnTo>
                    <a:lnTo>
                      <a:pt x="30" y="12"/>
                    </a:lnTo>
                    <a:lnTo>
                      <a:pt x="50" y="28"/>
                    </a:lnTo>
                    <a:lnTo>
                      <a:pt x="46" y="40"/>
                    </a:lnTo>
                    <a:lnTo>
                      <a:pt x="42" y="128"/>
                    </a:lnTo>
                    <a:lnTo>
                      <a:pt x="46" y="154"/>
                    </a:lnTo>
                    <a:lnTo>
                      <a:pt x="20" y="132"/>
                    </a:lnTo>
                    <a:lnTo>
                      <a:pt x="14" y="38"/>
                    </a:lnTo>
                    <a:lnTo>
                      <a:pt x="0" y="10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ff990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9080" bIns="-19080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4930560" y="2414880"/>
              <a:ext cx="60840" cy="13320"/>
            </a:xfrm>
            <a:custGeom>
              <a:avLst/>
              <a:gdLst/>
              <a:ahLst/>
              <a:rect l="l" t="t" r="r" b="b"/>
              <a:pathLst>
                <a:path w="358" h="76">
                  <a:moveTo>
                    <a:pt x="158" y="0"/>
                  </a:moveTo>
                  <a:lnTo>
                    <a:pt x="128" y="6"/>
                  </a:lnTo>
                  <a:lnTo>
                    <a:pt x="102" y="16"/>
                  </a:lnTo>
                  <a:lnTo>
                    <a:pt x="104" y="18"/>
                  </a:lnTo>
                  <a:lnTo>
                    <a:pt x="72" y="22"/>
                  </a:lnTo>
                  <a:lnTo>
                    <a:pt x="64" y="28"/>
                  </a:lnTo>
                  <a:lnTo>
                    <a:pt x="48" y="28"/>
                  </a:lnTo>
                  <a:lnTo>
                    <a:pt x="42" y="32"/>
                  </a:lnTo>
                  <a:lnTo>
                    <a:pt x="30" y="30"/>
                  </a:lnTo>
                  <a:lnTo>
                    <a:pt x="14" y="34"/>
                  </a:lnTo>
                  <a:lnTo>
                    <a:pt x="14" y="38"/>
                  </a:lnTo>
                  <a:lnTo>
                    <a:pt x="6" y="40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0" y="48"/>
                  </a:lnTo>
                  <a:lnTo>
                    <a:pt x="6" y="50"/>
                  </a:lnTo>
                  <a:lnTo>
                    <a:pt x="4" y="52"/>
                  </a:lnTo>
                  <a:lnTo>
                    <a:pt x="10" y="52"/>
                  </a:lnTo>
                  <a:lnTo>
                    <a:pt x="10" y="56"/>
                  </a:lnTo>
                  <a:lnTo>
                    <a:pt x="6" y="56"/>
                  </a:lnTo>
                  <a:lnTo>
                    <a:pt x="12" y="58"/>
                  </a:lnTo>
                  <a:lnTo>
                    <a:pt x="8" y="62"/>
                  </a:lnTo>
                  <a:lnTo>
                    <a:pt x="16" y="64"/>
                  </a:lnTo>
                  <a:lnTo>
                    <a:pt x="38" y="60"/>
                  </a:lnTo>
                  <a:lnTo>
                    <a:pt x="68" y="62"/>
                  </a:lnTo>
                  <a:lnTo>
                    <a:pt x="80" y="64"/>
                  </a:lnTo>
                  <a:lnTo>
                    <a:pt x="82" y="70"/>
                  </a:lnTo>
                  <a:lnTo>
                    <a:pt x="86" y="72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4" y="62"/>
                  </a:lnTo>
                  <a:lnTo>
                    <a:pt x="104" y="64"/>
                  </a:lnTo>
                  <a:lnTo>
                    <a:pt x="130" y="62"/>
                  </a:lnTo>
                  <a:lnTo>
                    <a:pt x="140" y="68"/>
                  </a:lnTo>
                  <a:lnTo>
                    <a:pt x="148" y="68"/>
                  </a:lnTo>
                  <a:lnTo>
                    <a:pt x="156" y="76"/>
                  </a:lnTo>
                  <a:lnTo>
                    <a:pt x="162" y="76"/>
                  </a:lnTo>
                  <a:lnTo>
                    <a:pt x="166" y="74"/>
                  </a:lnTo>
                  <a:lnTo>
                    <a:pt x="164" y="70"/>
                  </a:lnTo>
                  <a:lnTo>
                    <a:pt x="172" y="70"/>
                  </a:lnTo>
                  <a:lnTo>
                    <a:pt x="158" y="62"/>
                  </a:lnTo>
                  <a:lnTo>
                    <a:pt x="154" y="58"/>
                  </a:lnTo>
                  <a:lnTo>
                    <a:pt x="160" y="58"/>
                  </a:lnTo>
                  <a:lnTo>
                    <a:pt x="160" y="54"/>
                  </a:lnTo>
                  <a:lnTo>
                    <a:pt x="136" y="50"/>
                  </a:lnTo>
                  <a:lnTo>
                    <a:pt x="134" y="46"/>
                  </a:lnTo>
                  <a:lnTo>
                    <a:pt x="136" y="42"/>
                  </a:lnTo>
                  <a:lnTo>
                    <a:pt x="132" y="36"/>
                  </a:lnTo>
                  <a:lnTo>
                    <a:pt x="154" y="32"/>
                  </a:lnTo>
                  <a:lnTo>
                    <a:pt x="154" y="26"/>
                  </a:lnTo>
                  <a:lnTo>
                    <a:pt x="150" y="24"/>
                  </a:lnTo>
                  <a:lnTo>
                    <a:pt x="162" y="26"/>
                  </a:lnTo>
                  <a:lnTo>
                    <a:pt x="164" y="20"/>
                  </a:lnTo>
                  <a:lnTo>
                    <a:pt x="250" y="18"/>
                  </a:lnTo>
                  <a:lnTo>
                    <a:pt x="270" y="26"/>
                  </a:lnTo>
                  <a:lnTo>
                    <a:pt x="278" y="26"/>
                  </a:lnTo>
                  <a:lnTo>
                    <a:pt x="282" y="30"/>
                  </a:lnTo>
                  <a:lnTo>
                    <a:pt x="296" y="32"/>
                  </a:lnTo>
                  <a:lnTo>
                    <a:pt x="320" y="30"/>
                  </a:lnTo>
                  <a:lnTo>
                    <a:pt x="326" y="32"/>
                  </a:lnTo>
                  <a:lnTo>
                    <a:pt x="358" y="26"/>
                  </a:lnTo>
                  <a:lnTo>
                    <a:pt x="358" y="24"/>
                  </a:lnTo>
                  <a:lnTo>
                    <a:pt x="350" y="22"/>
                  </a:lnTo>
                  <a:lnTo>
                    <a:pt x="288" y="10"/>
                  </a:lnTo>
                  <a:lnTo>
                    <a:pt x="270" y="6"/>
                  </a:lnTo>
                  <a:lnTo>
                    <a:pt x="250" y="6"/>
                  </a:lnTo>
                  <a:lnTo>
                    <a:pt x="214" y="2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0" y="6"/>
                  </a:lnTo>
                  <a:lnTo>
                    <a:pt x="158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0" bIns="-32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63680" y="2412000"/>
              <a:ext cx="66600" cy="27360"/>
            </a:xfrm>
            <a:custGeom>
              <a:avLst/>
              <a:gdLst/>
              <a:ahLst/>
              <a:rect l="l" t="t" r="r" b="b"/>
              <a:pathLst>
                <a:path w="382" h="160">
                  <a:moveTo>
                    <a:pt x="302" y="2"/>
                  </a:moveTo>
                  <a:lnTo>
                    <a:pt x="294" y="8"/>
                  </a:lnTo>
                  <a:lnTo>
                    <a:pt x="262" y="12"/>
                  </a:lnTo>
                  <a:lnTo>
                    <a:pt x="268" y="4"/>
                  </a:lnTo>
                  <a:lnTo>
                    <a:pt x="264" y="0"/>
                  </a:lnTo>
                  <a:lnTo>
                    <a:pt x="264" y="4"/>
                  </a:lnTo>
                  <a:lnTo>
                    <a:pt x="256" y="6"/>
                  </a:lnTo>
                  <a:lnTo>
                    <a:pt x="238" y="8"/>
                  </a:lnTo>
                  <a:lnTo>
                    <a:pt x="238" y="4"/>
                  </a:lnTo>
                  <a:lnTo>
                    <a:pt x="236" y="2"/>
                  </a:lnTo>
                  <a:lnTo>
                    <a:pt x="214" y="6"/>
                  </a:lnTo>
                  <a:lnTo>
                    <a:pt x="210" y="8"/>
                  </a:lnTo>
                  <a:lnTo>
                    <a:pt x="220" y="10"/>
                  </a:lnTo>
                  <a:lnTo>
                    <a:pt x="214" y="14"/>
                  </a:lnTo>
                  <a:lnTo>
                    <a:pt x="238" y="14"/>
                  </a:lnTo>
                  <a:lnTo>
                    <a:pt x="256" y="22"/>
                  </a:lnTo>
                  <a:lnTo>
                    <a:pt x="252" y="26"/>
                  </a:lnTo>
                  <a:lnTo>
                    <a:pt x="218" y="28"/>
                  </a:lnTo>
                  <a:lnTo>
                    <a:pt x="212" y="30"/>
                  </a:lnTo>
                  <a:lnTo>
                    <a:pt x="212" y="32"/>
                  </a:lnTo>
                  <a:lnTo>
                    <a:pt x="214" y="36"/>
                  </a:lnTo>
                  <a:lnTo>
                    <a:pt x="204" y="34"/>
                  </a:lnTo>
                  <a:lnTo>
                    <a:pt x="200" y="40"/>
                  </a:lnTo>
                  <a:lnTo>
                    <a:pt x="204" y="42"/>
                  </a:lnTo>
                  <a:lnTo>
                    <a:pt x="194" y="42"/>
                  </a:lnTo>
                  <a:lnTo>
                    <a:pt x="194" y="44"/>
                  </a:lnTo>
                  <a:lnTo>
                    <a:pt x="198" y="40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194" y="42"/>
                  </a:lnTo>
                  <a:lnTo>
                    <a:pt x="174" y="50"/>
                  </a:lnTo>
                  <a:lnTo>
                    <a:pt x="152" y="50"/>
                  </a:lnTo>
                  <a:lnTo>
                    <a:pt x="134" y="54"/>
                  </a:lnTo>
                  <a:lnTo>
                    <a:pt x="126" y="5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60" y="52"/>
                  </a:lnTo>
                  <a:lnTo>
                    <a:pt x="40" y="48"/>
                  </a:lnTo>
                  <a:lnTo>
                    <a:pt x="32" y="52"/>
                  </a:lnTo>
                  <a:lnTo>
                    <a:pt x="18" y="50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  <a:lnTo>
                    <a:pt x="0" y="68"/>
                  </a:lnTo>
                  <a:lnTo>
                    <a:pt x="4" y="72"/>
                  </a:lnTo>
                  <a:lnTo>
                    <a:pt x="32" y="68"/>
                  </a:lnTo>
                  <a:lnTo>
                    <a:pt x="34" y="70"/>
                  </a:lnTo>
                  <a:lnTo>
                    <a:pt x="48" y="68"/>
                  </a:lnTo>
                  <a:lnTo>
                    <a:pt x="70" y="74"/>
                  </a:lnTo>
                  <a:lnTo>
                    <a:pt x="72" y="76"/>
                  </a:lnTo>
                  <a:lnTo>
                    <a:pt x="68" y="82"/>
                  </a:lnTo>
                  <a:lnTo>
                    <a:pt x="90" y="82"/>
                  </a:lnTo>
                  <a:lnTo>
                    <a:pt x="90" y="86"/>
                  </a:lnTo>
                  <a:lnTo>
                    <a:pt x="98" y="86"/>
                  </a:lnTo>
                  <a:lnTo>
                    <a:pt x="102" y="92"/>
                  </a:lnTo>
                  <a:lnTo>
                    <a:pt x="88" y="92"/>
                  </a:lnTo>
                  <a:lnTo>
                    <a:pt x="70" y="88"/>
                  </a:lnTo>
                  <a:lnTo>
                    <a:pt x="68" y="92"/>
                  </a:lnTo>
                  <a:lnTo>
                    <a:pt x="50" y="94"/>
                  </a:lnTo>
                  <a:lnTo>
                    <a:pt x="52" y="98"/>
                  </a:lnTo>
                  <a:lnTo>
                    <a:pt x="44" y="98"/>
                  </a:lnTo>
                  <a:lnTo>
                    <a:pt x="44" y="100"/>
                  </a:lnTo>
                  <a:lnTo>
                    <a:pt x="46" y="104"/>
                  </a:lnTo>
                  <a:lnTo>
                    <a:pt x="38" y="102"/>
                  </a:lnTo>
                  <a:lnTo>
                    <a:pt x="32" y="108"/>
                  </a:lnTo>
                  <a:lnTo>
                    <a:pt x="38" y="116"/>
                  </a:lnTo>
                  <a:lnTo>
                    <a:pt x="32" y="116"/>
                  </a:lnTo>
                  <a:lnTo>
                    <a:pt x="32" y="118"/>
                  </a:lnTo>
                  <a:lnTo>
                    <a:pt x="52" y="122"/>
                  </a:lnTo>
                  <a:lnTo>
                    <a:pt x="52" y="126"/>
                  </a:lnTo>
                  <a:lnTo>
                    <a:pt x="64" y="124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6" y="134"/>
                  </a:lnTo>
                  <a:lnTo>
                    <a:pt x="72" y="136"/>
                  </a:lnTo>
                  <a:lnTo>
                    <a:pt x="102" y="132"/>
                  </a:lnTo>
                  <a:lnTo>
                    <a:pt x="106" y="126"/>
                  </a:lnTo>
                  <a:lnTo>
                    <a:pt x="120" y="122"/>
                  </a:lnTo>
                  <a:lnTo>
                    <a:pt x="124" y="124"/>
                  </a:lnTo>
                  <a:lnTo>
                    <a:pt x="126" y="128"/>
                  </a:lnTo>
                  <a:lnTo>
                    <a:pt x="126" y="132"/>
                  </a:lnTo>
                  <a:lnTo>
                    <a:pt x="134" y="128"/>
                  </a:lnTo>
                  <a:lnTo>
                    <a:pt x="138" y="130"/>
                  </a:lnTo>
                  <a:lnTo>
                    <a:pt x="144" y="138"/>
                  </a:lnTo>
                  <a:lnTo>
                    <a:pt x="128" y="144"/>
                  </a:lnTo>
                  <a:lnTo>
                    <a:pt x="130" y="150"/>
                  </a:lnTo>
                  <a:lnTo>
                    <a:pt x="136" y="160"/>
                  </a:lnTo>
                  <a:lnTo>
                    <a:pt x="154" y="154"/>
                  </a:lnTo>
                  <a:lnTo>
                    <a:pt x="160" y="148"/>
                  </a:lnTo>
                  <a:lnTo>
                    <a:pt x="158" y="144"/>
                  </a:lnTo>
                  <a:lnTo>
                    <a:pt x="158" y="142"/>
                  </a:lnTo>
                  <a:lnTo>
                    <a:pt x="162" y="142"/>
                  </a:lnTo>
                  <a:lnTo>
                    <a:pt x="168" y="144"/>
                  </a:lnTo>
                  <a:lnTo>
                    <a:pt x="170" y="148"/>
                  </a:lnTo>
                  <a:lnTo>
                    <a:pt x="182" y="146"/>
                  </a:lnTo>
                  <a:lnTo>
                    <a:pt x="182" y="144"/>
                  </a:lnTo>
                  <a:lnTo>
                    <a:pt x="186" y="142"/>
                  </a:lnTo>
                  <a:lnTo>
                    <a:pt x="178" y="138"/>
                  </a:lnTo>
                  <a:lnTo>
                    <a:pt x="174" y="130"/>
                  </a:lnTo>
                  <a:lnTo>
                    <a:pt x="176" y="130"/>
                  </a:lnTo>
                  <a:lnTo>
                    <a:pt x="182" y="130"/>
                  </a:lnTo>
                  <a:lnTo>
                    <a:pt x="190" y="134"/>
                  </a:lnTo>
                  <a:lnTo>
                    <a:pt x="196" y="132"/>
                  </a:lnTo>
                  <a:lnTo>
                    <a:pt x="204" y="136"/>
                  </a:lnTo>
                  <a:lnTo>
                    <a:pt x="206" y="134"/>
                  </a:lnTo>
                  <a:lnTo>
                    <a:pt x="200" y="128"/>
                  </a:lnTo>
                  <a:lnTo>
                    <a:pt x="208" y="126"/>
                  </a:lnTo>
                  <a:lnTo>
                    <a:pt x="214" y="130"/>
                  </a:lnTo>
                  <a:lnTo>
                    <a:pt x="222" y="126"/>
                  </a:lnTo>
                  <a:lnTo>
                    <a:pt x="222" y="122"/>
                  </a:lnTo>
                  <a:lnTo>
                    <a:pt x="212" y="120"/>
                  </a:lnTo>
                  <a:lnTo>
                    <a:pt x="214" y="116"/>
                  </a:lnTo>
                  <a:lnTo>
                    <a:pt x="208" y="112"/>
                  </a:lnTo>
                  <a:lnTo>
                    <a:pt x="218" y="114"/>
                  </a:lnTo>
                  <a:lnTo>
                    <a:pt x="218" y="112"/>
                  </a:lnTo>
                  <a:lnTo>
                    <a:pt x="200" y="102"/>
                  </a:lnTo>
                  <a:lnTo>
                    <a:pt x="184" y="100"/>
                  </a:lnTo>
                  <a:lnTo>
                    <a:pt x="180" y="96"/>
                  </a:lnTo>
                  <a:lnTo>
                    <a:pt x="178" y="94"/>
                  </a:lnTo>
                  <a:lnTo>
                    <a:pt x="210" y="92"/>
                  </a:lnTo>
                  <a:lnTo>
                    <a:pt x="216" y="96"/>
                  </a:lnTo>
                  <a:lnTo>
                    <a:pt x="232" y="94"/>
                  </a:lnTo>
                  <a:lnTo>
                    <a:pt x="240" y="96"/>
                  </a:lnTo>
                  <a:lnTo>
                    <a:pt x="246" y="94"/>
                  </a:lnTo>
                  <a:lnTo>
                    <a:pt x="264" y="94"/>
                  </a:lnTo>
                  <a:lnTo>
                    <a:pt x="266" y="92"/>
                  </a:lnTo>
                  <a:lnTo>
                    <a:pt x="274" y="96"/>
                  </a:lnTo>
                  <a:lnTo>
                    <a:pt x="292" y="94"/>
                  </a:lnTo>
                  <a:lnTo>
                    <a:pt x="298" y="94"/>
                  </a:lnTo>
                  <a:lnTo>
                    <a:pt x="292" y="90"/>
                  </a:lnTo>
                  <a:lnTo>
                    <a:pt x="300" y="92"/>
                  </a:lnTo>
                  <a:lnTo>
                    <a:pt x="304" y="88"/>
                  </a:lnTo>
                  <a:lnTo>
                    <a:pt x="300" y="84"/>
                  </a:lnTo>
                  <a:lnTo>
                    <a:pt x="304" y="82"/>
                  </a:lnTo>
                  <a:lnTo>
                    <a:pt x="300" y="76"/>
                  </a:lnTo>
                  <a:lnTo>
                    <a:pt x="270" y="74"/>
                  </a:lnTo>
                  <a:lnTo>
                    <a:pt x="266" y="72"/>
                  </a:lnTo>
                  <a:lnTo>
                    <a:pt x="266" y="68"/>
                  </a:lnTo>
                  <a:lnTo>
                    <a:pt x="292" y="62"/>
                  </a:lnTo>
                  <a:lnTo>
                    <a:pt x="292" y="60"/>
                  </a:lnTo>
                  <a:lnTo>
                    <a:pt x="354" y="62"/>
                  </a:lnTo>
                  <a:lnTo>
                    <a:pt x="352" y="60"/>
                  </a:lnTo>
                  <a:lnTo>
                    <a:pt x="364" y="54"/>
                  </a:lnTo>
                  <a:lnTo>
                    <a:pt x="374" y="56"/>
                  </a:lnTo>
                  <a:lnTo>
                    <a:pt x="374" y="50"/>
                  </a:lnTo>
                  <a:lnTo>
                    <a:pt x="380" y="48"/>
                  </a:lnTo>
                  <a:lnTo>
                    <a:pt x="378" y="42"/>
                  </a:lnTo>
                  <a:lnTo>
                    <a:pt x="382" y="40"/>
                  </a:lnTo>
                  <a:lnTo>
                    <a:pt x="378" y="32"/>
                  </a:lnTo>
                  <a:lnTo>
                    <a:pt x="364" y="30"/>
                  </a:lnTo>
                  <a:lnTo>
                    <a:pt x="356" y="24"/>
                  </a:lnTo>
                  <a:lnTo>
                    <a:pt x="326" y="26"/>
                  </a:lnTo>
                  <a:lnTo>
                    <a:pt x="292" y="36"/>
                  </a:lnTo>
                  <a:lnTo>
                    <a:pt x="276" y="34"/>
                  </a:lnTo>
                  <a:lnTo>
                    <a:pt x="274" y="30"/>
                  </a:lnTo>
                  <a:lnTo>
                    <a:pt x="274" y="22"/>
                  </a:lnTo>
                  <a:lnTo>
                    <a:pt x="314" y="14"/>
                  </a:lnTo>
                  <a:lnTo>
                    <a:pt x="308" y="8"/>
                  </a:lnTo>
                  <a:lnTo>
                    <a:pt x="312" y="2"/>
                  </a:lnTo>
                  <a:lnTo>
                    <a:pt x="304" y="0"/>
                  </a:lnTo>
                  <a:lnTo>
                    <a:pt x="302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8360" bIns="-18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46120" y="2427120"/>
              <a:ext cx="18720" cy="6120"/>
            </a:xfrm>
            <a:custGeom>
              <a:avLst/>
              <a:gdLst/>
              <a:ahLst/>
              <a:rect l="l" t="t" r="r" b="b"/>
              <a:pathLst>
                <a:path w="106" h="42">
                  <a:moveTo>
                    <a:pt x="38" y="2"/>
                  </a:moveTo>
                  <a:lnTo>
                    <a:pt x="42" y="0"/>
                  </a:lnTo>
                  <a:lnTo>
                    <a:pt x="48" y="4"/>
                  </a:lnTo>
                  <a:lnTo>
                    <a:pt x="68" y="4"/>
                  </a:lnTo>
                  <a:lnTo>
                    <a:pt x="70" y="8"/>
                  </a:lnTo>
                  <a:lnTo>
                    <a:pt x="90" y="14"/>
                  </a:lnTo>
                  <a:lnTo>
                    <a:pt x="92" y="18"/>
                  </a:lnTo>
                  <a:lnTo>
                    <a:pt x="106" y="20"/>
                  </a:lnTo>
                  <a:lnTo>
                    <a:pt x="106" y="30"/>
                  </a:lnTo>
                  <a:lnTo>
                    <a:pt x="86" y="32"/>
                  </a:lnTo>
                  <a:lnTo>
                    <a:pt x="94" y="34"/>
                  </a:lnTo>
                  <a:lnTo>
                    <a:pt x="96" y="40"/>
                  </a:lnTo>
                  <a:lnTo>
                    <a:pt x="86" y="36"/>
                  </a:lnTo>
                  <a:lnTo>
                    <a:pt x="70" y="40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8" y="42"/>
                  </a:lnTo>
                  <a:lnTo>
                    <a:pt x="36" y="40"/>
                  </a:lnTo>
                  <a:lnTo>
                    <a:pt x="32" y="40"/>
                  </a:lnTo>
                  <a:lnTo>
                    <a:pt x="32" y="36"/>
                  </a:lnTo>
                  <a:lnTo>
                    <a:pt x="22" y="36"/>
                  </a:lnTo>
                  <a:lnTo>
                    <a:pt x="0" y="28"/>
                  </a:lnTo>
                  <a:lnTo>
                    <a:pt x="32" y="20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34" y="4"/>
                  </a:lnTo>
                  <a:lnTo>
                    <a:pt x="38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94720" y="2425680"/>
              <a:ext cx="16920" cy="756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64" y="2"/>
                  </a:moveTo>
                  <a:lnTo>
                    <a:pt x="50" y="2"/>
                  </a:lnTo>
                  <a:lnTo>
                    <a:pt x="52" y="6"/>
                  </a:lnTo>
                  <a:lnTo>
                    <a:pt x="58" y="8"/>
                  </a:lnTo>
                  <a:lnTo>
                    <a:pt x="50" y="10"/>
                  </a:lnTo>
                  <a:lnTo>
                    <a:pt x="4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8" y="18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10" y="32"/>
                  </a:lnTo>
                  <a:lnTo>
                    <a:pt x="16" y="40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30" y="46"/>
                  </a:lnTo>
                  <a:lnTo>
                    <a:pt x="44" y="48"/>
                  </a:lnTo>
                  <a:lnTo>
                    <a:pt x="52" y="44"/>
                  </a:lnTo>
                  <a:lnTo>
                    <a:pt x="60" y="50"/>
                  </a:lnTo>
                  <a:lnTo>
                    <a:pt x="66" y="50"/>
                  </a:lnTo>
                  <a:lnTo>
                    <a:pt x="78" y="46"/>
                  </a:lnTo>
                  <a:lnTo>
                    <a:pt x="84" y="50"/>
                  </a:lnTo>
                  <a:lnTo>
                    <a:pt x="108" y="48"/>
                  </a:lnTo>
                  <a:lnTo>
                    <a:pt x="108" y="46"/>
                  </a:lnTo>
                  <a:lnTo>
                    <a:pt x="96" y="40"/>
                  </a:lnTo>
                  <a:lnTo>
                    <a:pt x="94" y="36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100" y="18"/>
                  </a:lnTo>
                  <a:lnTo>
                    <a:pt x="96" y="16"/>
                  </a:lnTo>
                  <a:lnTo>
                    <a:pt x="98" y="12"/>
                  </a:lnTo>
                  <a:lnTo>
                    <a:pt x="96" y="8"/>
                  </a:lnTo>
                  <a:lnTo>
                    <a:pt x="88" y="4"/>
                  </a:lnTo>
                  <a:lnTo>
                    <a:pt x="68" y="0"/>
                  </a:lnTo>
                  <a:lnTo>
                    <a:pt x="64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8160" bIns="-38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06960" y="2421000"/>
              <a:ext cx="29520" cy="12240"/>
            </a:xfrm>
            <a:custGeom>
              <a:avLst/>
              <a:gdLst/>
              <a:ahLst/>
              <a:rect l="l" t="t" r="r" b="b"/>
              <a:pathLst>
                <a:path w="172" h="66">
                  <a:moveTo>
                    <a:pt x="76" y="0"/>
                  </a:moveTo>
                  <a:lnTo>
                    <a:pt x="68" y="2"/>
                  </a:lnTo>
                  <a:lnTo>
                    <a:pt x="60" y="0"/>
                  </a:lnTo>
                  <a:lnTo>
                    <a:pt x="54" y="6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14" y="12"/>
                  </a:lnTo>
                  <a:lnTo>
                    <a:pt x="18" y="18"/>
                  </a:lnTo>
                  <a:lnTo>
                    <a:pt x="30" y="22"/>
                  </a:lnTo>
                  <a:lnTo>
                    <a:pt x="32" y="26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2" y="48"/>
                  </a:lnTo>
                  <a:lnTo>
                    <a:pt x="32" y="54"/>
                  </a:lnTo>
                  <a:lnTo>
                    <a:pt x="62" y="62"/>
                  </a:lnTo>
                  <a:lnTo>
                    <a:pt x="64" y="66"/>
                  </a:lnTo>
                  <a:lnTo>
                    <a:pt x="92" y="66"/>
                  </a:lnTo>
                  <a:lnTo>
                    <a:pt x="94" y="64"/>
                  </a:lnTo>
                  <a:lnTo>
                    <a:pt x="88" y="58"/>
                  </a:lnTo>
                  <a:lnTo>
                    <a:pt x="82" y="56"/>
                  </a:lnTo>
                  <a:lnTo>
                    <a:pt x="68" y="46"/>
                  </a:lnTo>
                  <a:lnTo>
                    <a:pt x="92" y="40"/>
                  </a:lnTo>
                  <a:lnTo>
                    <a:pt x="116" y="26"/>
                  </a:lnTo>
                  <a:lnTo>
                    <a:pt x="154" y="24"/>
                  </a:lnTo>
                  <a:lnTo>
                    <a:pt x="162" y="28"/>
                  </a:lnTo>
                  <a:lnTo>
                    <a:pt x="170" y="24"/>
                  </a:lnTo>
                  <a:lnTo>
                    <a:pt x="172" y="22"/>
                  </a:lnTo>
                  <a:lnTo>
                    <a:pt x="168" y="18"/>
                  </a:lnTo>
                  <a:lnTo>
                    <a:pt x="102" y="8"/>
                  </a:lnTo>
                  <a:lnTo>
                    <a:pt x="98" y="6"/>
                  </a:lnTo>
                  <a:lnTo>
                    <a:pt x="76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480" bIns="-334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36840" y="2431800"/>
              <a:ext cx="15480" cy="6120"/>
            </a:xfrm>
            <a:custGeom>
              <a:avLst/>
              <a:gdLst/>
              <a:ahLst/>
              <a:rect l="l" t="t" r="r" b="b"/>
              <a:pathLst>
                <a:path w="98" h="32">
                  <a:moveTo>
                    <a:pt x="44" y="0"/>
                  </a:moveTo>
                  <a:lnTo>
                    <a:pt x="40" y="4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8" y="28"/>
                  </a:lnTo>
                  <a:lnTo>
                    <a:pt x="32" y="24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50" y="30"/>
                  </a:lnTo>
                  <a:lnTo>
                    <a:pt x="56" y="32"/>
                  </a:lnTo>
                  <a:lnTo>
                    <a:pt x="86" y="28"/>
                  </a:lnTo>
                  <a:lnTo>
                    <a:pt x="78" y="24"/>
                  </a:lnTo>
                  <a:lnTo>
                    <a:pt x="96" y="24"/>
                  </a:lnTo>
                  <a:lnTo>
                    <a:pt x="98" y="20"/>
                  </a:lnTo>
                  <a:lnTo>
                    <a:pt x="92" y="18"/>
                  </a:lnTo>
                  <a:lnTo>
                    <a:pt x="82" y="8"/>
                  </a:lnTo>
                  <a:lnTo>
                    <a:pt x="44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35400" y="2408760"/>
              <a:ext cx="35640" cy="13680"/>
            </a:xfrm>
            <a:custGeom>
              <a:avLst/>
              <a:gdLst/>
              <a:ahLst/>
              <a:rect l="l" t="t" r="r" b="b"/>
              <a:pathLst>
                <a:path w="216" h="90">
                  <a:moveTo>
                    <a:pt x="68" y="20"/>
                  </a:moveTo>
                  <a:lnTo>
                    <a:pt x="20" y="16"/>
                  </a:lnTo>
                  <a:lnTo>
                    <a:pt x="4" y="24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10" y="40"/>
                  </a:lnTo>
                  <a:lnTo>
                    <a:pt x="0" y="50"/>
                  </a:lnTo>
                  <a:lnTo>
                    <a:pt x="0" y="66"/>
                  </a:lnTo>
                  <a:lnTo>
                    <a:pt x="8" y="68"/>
                  </a:lnTo>
                  <a:lnTo>
                    <a:pt x="22" y="82"/>
                  </a:lnTo>
                  <a:lnTo>
                    <a:pt x="34" y="84"/>
                  </a:lnTo>
                  <a:lnTo>
                    <a:pt x="38" y="88"/>
                  </a:lnTo>
                  <a:lnTo>
                    <a:pt x="50" y="90"/>
                  </a:lnTo>
                  <a:lnTo>
                    <a:pt x="76" y="86"/>
                  </a:lnTo>
                  <a:lnTo>
                    <a:pt x="94" y="88"/>
                  </a:lnTo>
                  <a:lnTo>
                    <a:pt x="94" y="86"/>
                  </a:lnTo>
                  <a:lnTo>
                    <a:pt x="102" y="86"/>
                  </a:lnTo>
                  <a:lnTo>
                    <a:pt x="130" y="88"/>
                  </a:lnTo>
                  <a:lnTo>
                    <a:pt x="146" y="86"/>
                  </a:lnTo>
                  <a:lnTo>
                    <a:pt x="160" y="90"/>
                  </a:lnTo>
                  <a:lnTo>
                    <a:pt x="194" y="82"/>
                  </a:lnTo>
                  <a:lnTo>
                    <a:pt x="190" y="78"/>
                  </a:lnTo>
                  <a:lnTo>
                    <a:pt x="180" y="70"/>
                  </a:lnTo>
                  <a:lnTo>
                    <a:pt x="172" y="62"/>
                  </a:lnTo>
                  <a:lnTo>
                    <a:pt x="158" y="54"/>
                  </a:lnTo>
                  <a:lnTo>
                    <a:pt x="144" y="50"/>
                  </a:lnTo>
                  <a:lnTo>
                    <a:pt x="138" y="48"/>
                  </a:lnTo>
                  <a:lnTo>
                    <a:pt x="138" y="40"/>
                  </a:lnTo>
                  <a:lnTo>
                    <a:pt x="150" y="36"/>
                  </a:lnTo>
                  <a:lnTo>
                    <a:pt x="170" y="34"/>
                  </a:lnTo>
                  <a:lnTo>
                    <a:pt x="194" y="36"/>
                  </a:lnTo>
                  <a:lnTo>
                    <a:pt x="216" y="30"/>
                  </a:lnTo>
                  <a:lnTo>
                    <a:pt x="208" y="22"/>
                  </a:lnTo>
                  <a:lnTo>
                    <a:pt x="200" y="20"/>
                  </a:lnTo>
                  <a:lnTo>
                    <a:pt x="194" y="12"/>
                  </a:lnTo>
                  <a:lnTo>
                    <a:pt x="184" y="8"/>
                  </a:lnTo>
                  <a:lnTo>
                    <a:pt x="178" y="4"/>
                  </a:lnTo>
                  <a:lnTo>
                    <a:pt x="166" y="0"/>
                  </a:lnTo>
                  <a:lnTo>
                    <a:pt x="152" y="2"/>
                  </a:lnTo>
                  <a:lnTo>
                    <a:pt x="148" y="8"/>
                  </a:lnTo>
                  <a:lnTo>
                    <a:pt x="130" y="16"/>
                  </a:lnTo>
                  <a:lnTo>
                    <a:pt x="100" y="14"/>
                  </a:lnTo>
                  <a:lnTo>
                    <a:pt x="84" y="20"/>
                  </a:lnTo>
                  <a:lnTo>
                    <a:pt x="68" y="2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36840" y="2402640"/>
              <a:ext cx="20160" cy="6120"/>
            </a:xfrm>
            <a:custGeom>
              <a:avLst/>
              <a:gdLst/>
              <a:ahLst/>
              <a:rect l="l" t="t" r="r" b="b"/>
              <a:pathLst>
                <a:path w="106" h="36">
                  <a:moveTo>
                    <a:pt x="52" y="0"/>
                  </a:moveTo>
                  <a:lnTo>
                    <a:pt x="54" y="6"/>
                  </a:lnTo>
                  <a:lnTo>
                    <a:pt x="20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0" y="30"/>
                  </a:lnTo>
                  <a:lnTo>
                    <a:pt x="60" y="32"/>
                  </a:lnTo>
                  <a:lnTo>
                    <a:pt x="68" y="36"/>
                  </a:lnTo>
                  <a:lnTo>
                    <a:pt x="96" y="28"/>
                  </a:lnTo>
                  <a:lnTo>
                    <a:pt x="106" y="22"/>
                  </a:lnTo>
                  <a:lnTo>
                    <a:pt x="106" y="16"/>
                  </a:lnTo>
                  <a:lnTo>
                    <a:pt x="88" y="14"/>
                  </a:lnTo>
                  <a:lnTo>
                    <a:pt x="82" y="10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52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67800" y="2393280"/>
              <a:ext cx="42120" cy="16560"/>
            </a:xfrm>
            <a:custGeom>
              <a:avLst/>
              <a:gdLst/>
              <a:ahLst/>
              <a:rect l="l" t="t" r="r" b="b"/>
              <a:pathLst>
                <a:path w="236" h="108">
                  <a:moveTo>
                    <a:pt x="46" y="20"/>
                  </a:moveTo>
                  <a:lnTo>
                    <a:pt x="22" y="3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22" y="60"/>
                  </a:lnTo>
                  <a:lnTo>
                    <a:pt x="24" y="68"/>
                  </a:lnTo>
                  <a:lnTo>
                    <a:pt x="18" y="72"/>
                  </a:lnTo>
                  <a:lnTo>
                    <a:pt x="12" y="74"/>
                  </a:lnTo>
                  <a:lnTo>
                    <a:pt x="8" y="80"/>
                  </a:lnTo>
                  <a:lnTo>
                    <a:pt x="66" y="94"/>
                  </a:lnTo>
                  <a:lnTo>
                    <a:pt x="68" y="98"/>
                  </a:lnTo>
                  <a:lnTo>
                    <a:pt x="90" y="102"/>
                  </a:lnTo>
                  <a:lnTo>
                    <a:pt x="100" y="108"/>
                  </a:lnTo>
                  <a:lnTo>
                    <a:pt x="108" y="100"/>
                  </a:lnTo>
                  <a:lnTo>
                    <a:pt x="108" y="94"/>
                  </a:lnTo>
                  <a:lnTo>
                    <a:pt x="116" y="94"/>
                  </a:lnTo>
                  <a:lnTo>
                    <a:pt x="116" y="90"/>
                  </a:lnTo>
                  <a:lnTo>
                    <a:pt x="114" y="86"/>
                  </a:lnTo>
                  <a:lnTo>
                    <a:pt x="126" y="84"/>
                  </a:lnTo>
                  <a:lnTo>
                    <a:pt x="124" y="80"/>
                  </a:lnTo>
                  <a:lnTo>
                    <a:pt x="136" y="70"/>
                  </a:lnTo>
                  <a:lnTo>
                    <a:pt x="184" y="64"/>
                  </a:lnTo>
                  <a:lnTo>
                    <a:pt x="196" y="66"/>
                  </a:lnTo>
                  <a:lnTo>
                    <a:pt x="202" y="70"/>
                  </a:lnTo>
                  <a:lnTo>
                    <a:pt x="236" y="64"/>
                  </a:lnTo>
                  <a:lnTo>
                    <a:pt x="198" y="54"/>
                  </a:lnTo>
                  <a:lnTo>
                    <a:pt x="190" y="44"/>
                  </a:lnTo>
                  <a:lnTo>
                    <a:pt x="178" y="44"/>
                  </a:lnTo>
                  <a:lnTo>
                    <a:pt x="174" y="42"/>
                  </a:lnTo>
                  <a:lnTo>
                    <a:pt x="152" y="34"/>
                  </a:lnTo>
                  <a:lnTo>
                    <a:pt x="156" y="22"/>
                  </a:lnTo>
                  <a:lnTo>
                    <a:pt x="148" y="12"/>
                  </a:lnTo>
                  <a:lnTo>
                    <a:pt x="150" y="6"/>
                  </a:lnTo>
                  <a:lnTo>
                    <a:pt x="138" y="4"/>
                  </a:lnTo>
                  <a:lnTo>
                    <a:pt x="126" y="4"/>
                  </a:lnTo>
                  <a:lnTo>
                    <a:pt x="116" y="0"/>
                  </a:lnTo>
                  <a:lnTo>
                    <a:pt x="88" y="2"/>
                  </a:lnTo>
                  <a:lnTo>
                    <a:pt x="54" y="18"/>
                  </a:lnTo>
                  <a:lnTo>
                    <a:pt x="46" y="2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52320" y="2383920"/>
              <a:ext cx="17280" cy="2880"/>
            </a:xfrm>
            <a:custGeom>
              <a:avLst/>
              <a:gdLst/>
              <a:ahLst/>
              <a:rect l="l" t="t" r="r" b="b"/>
              <a:pathLst>
                <a:path w="102" h="22">
                  <a:moveTo>
                    <a:pt x="88" y="8"/>
                  </a:moveTo>
                  <a:lnTo>
                    <a:pt x="92" y="8"/>
                  </a:lnTo>
                  <a:lnTo>
                    <a:pt x="102" y="14"/>
                  </a:lnTo>
                  <a:lnTo>
                    <a:pt x="102" y="18"/>
                  </a:lnTo>
                  <a:lnTo>
                    <a:pt x="98" y="20"/>
                  </a:lnTo>
                  <a:lnTo>
                    <a:pt x="76" y="22"/>
                  </a:lnTo>
                  <a:lnTo>
                    <a:pt x="52" y="18"/>
                  </a:lnTo>
                  <a:lnTo>
                    <a:pt x="34" y="12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0" y="4"/>
                  </a:lnTo>
                  <a:lnTo>
                    <a:pt x="22" y="10"/>
                  </a:lnTo>
                  <a:lnTo>
                    <a:pt x="26" y="4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56" y="2"/>
                  </a:lnTo>
                  <a:lnTo>
                    <a:pt x="68" y="0"/>
                  </a:lnTo>
                  <a:lnTo>
                    <a:pt x="88" y="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094720" y="2383920"/>
              <a:ext cx="14040" cy="468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34" y="4"/>
                  </a:moveTo>
                  <a:lnTo>
                    <a:pt x="14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32" y="30"/>
                  </a:lnTo>
                  <a:lnTo>
                    <a:pt x="80" y="24"/>
                  </a:lnTo>
                  <a:lnTo>
                    <a:pt x="86" y="16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68" y="0"/>
                  </a:lnTo>
                  <a:lnTo>
                    <a:pt x="34" y="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040" bIns="-41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083560" y="2392200"/>
              <a:ext cx="21600" cy="576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4" y="0"/>
                  </a:moveTo>
                  <a:lnTo>
                    <a:pt x="48" y="0"/>
                  </a:lnTo>
                  <a:lnTo>
                    <a:pt x="1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70" y="26"/>
                  </a:lnTo>
                  <a:lnTo>
                    <a:pt x="72" y="28"/>
                  </a:lnTo>
                  <a:lnTo>
                    <a:pt x="86" y="28"/>
                  </a:lnTo>
                  <a:lnTo>
                    <a:pt x="92" y="32"/>
                  </a:lnTo>
                  <a:lnTo>
                    <a:pt x="118" y="26"/>
                  </a:lnTo>
                  <a:lnTo>
                    <a:pt x="130" y="16"/>
                  </a:lnTo>
                  <a:lnTo>
                    <a:pt x="116" y="16"/>
                  </a:lnTo>
                  <a:lnTo>
                    <a:pt x="72" y="0"/>
                  </a:lnTo>
                  <a:lnTo>
                    <a:pt x="64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71320" y="2396520"/>
              <a:ext cx="29520" cy="5760"/>
            </a:xfrm>
            <a:custGeom>
              <a:avLst/>
              <a:gdLst/>
              <a:ahLst/>
              <a:rect l="l" t="t" r="r" b="b"/>
              <a:pathLst>
                <a:path w="178" h="38">
                  <a:moveTo>
                    <a:pt x="72" y="2"/>
                  </a:moveTo>
                  <a:lnTo>
                    <a:pt x="60" y="2"/>
                  </a:lnTo>
                  <a:lnTo>
                    <a:pt x="62" y="8"/>
                  </a:lnTo>
                  <a:lnTo>
                    <a:pt x="72" y="10"/>
                  </a:lnTo>
                  <a:lnTo>
                    <a:pt x="70" y="12"/>
                  </a:lnTo>
                  <a:lnTo>
                    <a:pt x="70" y="16"/>
                  </a:lnTo>
                  <a:lnTo>
                    <a:pt x="80" y="18"/>
                  </a:lnTo>
                  <a:lnTo>
                    <a:pt x="72" y="18"/>
                  </a:lnTo>
                  <a:lnTo>
                    <a:pt x="78" y="26"/>
                  </a:lnTo>
                  <a:lnTo>
                    <a:pt x="70" y="28"/>
                  </a:lnTo>
                  <a:lnTo>
                    <a:pt x="62" y="24"/>
                  </a:lnTo>
                  <a:lnTo>
                    <a:pt x="56" y="26"/>
                  </a:lnTo>
                  <a:lnTo>
                    <a:pt x="46" y="24"/>
                  </a:lnTo>
                  <a:lnTo>
                    <a:pt x="38" y="26"/>
                  </a:lnTo>
                  <a:lnTo>
                    <a:pt x="22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8" y="34"/>
                  </a:lnTo>
                  <a:lnTo>
                    <a:pt x="32" y="38"/>
                  </a:lnTo>
                  <a:lnTo>
                    <a:pt x="64" y="34"/>
                  </a:lnTo>
                  <a:lnTo>
                    <a:pt x="66" y="34"/>
                  </a:lnTo>
                  <a:lnTo>
                    <a:pt x="70" y="38"/>
                  </a:lnTo>
                  <a:lnTo>
                    <a:pt x="72" y="38"/>
                  </a:lnTo>
                  <a:lnTo>
                    <a:pt x="94" y="36"/>
                  </a:lnTo>
                  <a:lnTo>
                    <a:pt x="88" y="32"/>
                  </a:lnTo>
                  <a:lnTo>
                    <a:pt x="90" y="32"/>
                  </a:lnTo>
                  <a:lnTo>
                    <a:pt x="120" y="24"/>
                  </a:lnTo>
                  <a:lnTo>
                    <a:pt x="120" y="26"/>
                  </a:lnTo>
                  <a:lnTo>
                    <a:pt x="146" y="24"/>
                  </a:lnTo>
                  <a:lnTo>
                    <a:pt x="166" y="14"/>
                  </a:lnTo>
                  <a:lnTo>
                    <a:pt x="178" y="16"/>
                  </a:lnTo>
                  <a:lnTo>
                    <a:pt x="174" y="10"/>
                  </a:lnTo>
                  <a:lnTo>
                    <a:pt x="168" y="8"/>
                  </a:lnTo>
                  <a:lnTo>
                    <a:pt x="156" y="8"/>
                  </a:lnTo>
                  <a:lnTo>
                    <a:pt x="152" y="10"/>
                  </a:lnTo>
                  <a:lnTo>
                    <a:pt x="138" y="10"/>
                  </a:lnTo>
                  <a:lnTo>
                    <a:pt x="130" y="10"/>
                  </a:lnTo>
                  <a:lnTo>
                    <a:pt x="128" y="8"/>
                  </a:lnTo>
                  <a:lnTo>
                    <a:pt x="106" y="6"/>
                  </a:lnTo>
                  <a:lnTo>
                    <a:pt x="90" y="0"/>
                  </a:lnTo>
                  <a:lnTo>
                    <a:pt x="72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0200" y="2408760"/>
              <a:ext cx="14040" cy="6120"/>
            </a:xfrm>
            <a:custGeom>
              <a:avLst/>
              <a:gdLst/>
              <a:ahLst/>
              <a:rect l="l" t="t" r="r" b="b"/>
              <a:pathLst>
                <a:path w="78" h="26">
                  <a:moveTo>
                    <a:pt x="64" y="2"/>
                  </a:moveTo>
                  <a:lnTo>
                    <a:pt x="66" y="0"/>
                  </a:lnTo>
                  <a:lnTo>
                    <a:pt x="68" y="4"/>
                  </a:lnTo>
                  <a:lnTo>
                    <a:pt x="68" y="6"/>
                  </a:lnTo>
                  <a:lnTo>
                    <a:pt x="74" y="8"/>
                  </a:lnTo>
                  <a:lnTo>
                    <a:pt x="78" y="12"/>
                  </a:lnTo>
                  <a:lnTo>
                    <a:pt x="60" y="26"/>
                  </a:lnTo>
                  <a:lnTo>
                    <a:pt x="32" y="24"/>
                  </a:lnTo>
                  <a:lnTo>
                    <a:pt x="0" y="18"/>
                  </a:lnTo>
                  <a:lnTo>
                    <a:pt x="20" y="8"/>
                  </a:lnTo>
                  <a:lnTo>
                    <a:pt x="32" y="8"/>
                  </a:lnTo>
                  <a:lnTo>
                    <a:pt x="36" y="4"/>
                  </a:lnTo>
                  <a:lnTo>
                    <a:pt x="64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80320" y="2414880"/>
              <a:ext cx="20520" cy="432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48" y="2"/>
                  </a:moveTo>
                  <a:lnTo>
                    <a:pt x="40" y="6"/>
                  </a:lnTo>
                  <a:lnTo>
                    <a:pt x="24" y="4"/>
                  </a:lnTo>
                  <a:lnTo>
                    <a:pt x="22" y="8"/>
                  </a:lnTo>
                  <a:lnTo>
                    <a:pt x="0" y="12"/>
                  </a:lnTo>
                  <a:lnTo>
                    <a:pt x="16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8" y="22"/>
                  </a:lnTo>
                  <a:lnTo>
                    <a:pt x="32" y="24"/>
                  </a:lnTo>
                  <a:lnTo>
                    <a:pt x="70" y="18"/>
                  </a:lnTo>
                  <a:lnTo>
                    <a:pt x="78" y="22"/>
                  </a:lnTo>
                  <a:lnTo>
                    <a:pt x="96" y="22"/>
                  </a:lnTo>
                  <a:lnTo>
                    <a:pt x="120" y="14"/>
                  </a:lnTo>
                  <a:lnTo>
                    <a:pt x="116" y="8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2" y="4"/>
                  </a:lnTo>
                  <a:lnTo>
                    <a:pt x="82" y="0"/>
                  </a:lnTo>
                  <a:lnTo>
                    <a:pt x="48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58720" y="2412000"/>
              <a:ext cx="24480" cy="4320"/>
            </a:xfrm>
            <a:custGeom>
              <a:avLst/>
              <a:gdLst/>
              <a:ahLst/>
              <a:rect l="l" t="t" r="r" b="b"/>
              <a:pathLst>
                <a:path w="148" h="28">
                  <a:moveTo>
                    <a:pt x="44" y="2"/>
                  </a:moveTo>
                  <a:lnTo>
                    <a:pt x="0" y="4"/>
                  </a:lnTo>
                  <a:lnTo>
                    <a:pt x="8" y="10"/>
                  </a:lnTo>
                  <a:lnTo>
                    <a:pt x="12" y="18"/>
                  </a:lnTo>
                  <a:lnTo>
                    <a:pt x="44" y="16"/>
                  </a:lnTo>
                  <a:lnTo>
                    <a:pt x="58" y="20"/>
                  </a:lnTo>
                  <a:lnTo>
                    <a:pt x="58" y="26"/>
                  </a:lnTo>
                  <a:lnTo>
                    <a:pt x="82" y="28"/>
                  </a:lnTo>
                  <a:lnTo>
                    <a:pt x="92" y="24"/>
                  </a:lnTo>
                  <a:lnTo>
                    <a:pt x="114" y="26"/>
                  </a:lnTo>
                  <a:lnTo>
                    <a:pt x="122" y="20"/>
                  </a:lnTo>
                  <a:lnTo>
                    <a:pt x="142" y="18"/>
                  </a:lnTo>
                  <a:lnTo>
                    <a:pt x="148" y="14"/>
                  </a:lnTo>
                  <a:lnTo>
                    <a:pt x="138" y="14"/>
                  </a:lnTo>
                  <a:lnTo>
                    <a:pt x="132" y="10"/>
                  </a:lnTo>
                  <a:lnTo>
                    <a:pt x="126" y="14"/>
                  </a:lnTo>
                  <a:lnTo>
                    <a:pt x="102" y="12"/>
                  </a:lnTo>
                  <a:lnTo>
                    <a:pt x="108" y="8"/>
                  </a:lnTo>
                  <a:lnTo>
                    <a:pt x="106" y="6"/>
                  </a:lnTo>
                  <a:lnTo>
                    <a:pt x="102" y="4"/>
                  </a:lnTo>
                  <a:lnTo>
                    <a:pt x="80" y="10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70" y="0"/>
                  </a:lnTo>
                  <a:lnTo>
                    <a:pt x="44" y="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61600" y="2407320"/>
              <a:ext cx="46800" cy="9000"/>
            </a:xfrm>
            <a:custGeom>
              <a:avLst/>
              <a:gdLst/>
              <a:ahLst/>
              <a:rect l="l" t="t" r="r" b="b"/>
              <a:pathLst>
                <a:path w="274" h="56">
                  <a:moveTo>
                    <a:pt x="114" y="10"/>
                  </a:moveTo>
                  <a:lnTo>
                    <a:pt x="98" y="4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14" y="2"/>
                  </a:lnTo>
                  <a:lnTo>
                    <a:pt x="8" y="2"/>
                  </a:lnTo>
                  <a:lnTo>
                    <a:pt x="6" y="12"/>
                  </a:lnTo>
                  <a:lnTo>
                    <a:pt x="0" y="14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36" y="22"/>
                  </a:lnTo>
                  <a:lnTo>
                    <a:pt x="78" y="20"/>
                  </a:lnTo>
                  <a:lnTo>
                    <a:pt x="84" y="22"/>
                  </a:lnTo>
                  <a:lnTo>
                    <a:pt x="84" y="26"/>
                  </a:lnTo>
                  <a:lnTo>
                    <a:pt x="94" y="28"/>
                  </a:lnTo>
                  <a:lnTo>
                    <a:pt x="108" y="24"/>
                  </a:lnTo>
                  <a:lnTo>
                    <a:pt x="118" y="30"/>
                  </a:lnTo>
                  <a:lnTo>
                    <a:pt x="124" y="36"/>
                  </a:lnTo>
                  <a:lnTo>
                    <a:pt x="176" y="40"/>
                  </a:lnTo>
                  <a:lnTo>
                    <a:pt x="186" y="44"/>
                  </a:lnTo>
                  <a:lnTo>
                    <a:pt x="196" y="40"/>
                  </a:lnTo>
                  <a:lnTo>
                    <a:pt x="202" y="44"/>
                  </a:lnTo>
                  <a:lnTo>
                    <a:pt x="206" y="48"/>
                  </a:lnTo>
                  <a:lnTo>
                    <a:pt x="218" y="48"/>
                  </a:lnTo>
                  <a:lnTo>
                    <a:pt x="222" y="52"/>
                  </a:lnTo>
                  <a:lnTo>
                    <a:pt x="228" y="54"/>
                  </a:lnTo>
                  <a:lnTo>
                    <a:pt x="234" y="56"/>
                  </a:lnTo>
                  <a:lnTo>
                    <a:pt x="270" y="54"/>
                  </a:lnTo>
                  <a:lnTo>
                    <a:pt x="274" y="48"/>
                  </a:lnTo>
                  <a:lnTo>
                    <a:pt x="272" y="40"/>
                  </a:lnTo>
                  <a:lnTo>
                    <a:pt x="256" y="38"/>
                  </a:lnTo>
                  <a:lnTo>
                    <a:pt x="250" y="34"/>
                  </a:lnTo>
                  <a:lnTo>
                    <a:pt x="214" y="24"/>
                  </a:lnTo>
                  <a:lnTo>
                    <a:pt x="180" y="18"/>
                  </a:lnTo>
                  <a:lnTo>
                    <a:pt x="152" y="16"/>
                  </a:lnTo>
                  <a:lnTo>
                    <a:pt x="150" y="14"/>
                  </a:lnTo>
                  <a:lnTo>
                    <a:pt x="152" y="10"/>
                  </a:lnTo>
                  <a:lnTo>
                    <a:pt x="136" y="6"/>
                  </a:lnTo>
                  <a:lnTo>
                    <a:pt x="114" y="1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720" bIns="-367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83560" y="2405520"/>
              <a:ext cx="27720" cy="61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56" y="4"/>
                  </a:moveTo>
                  <a:lnTo>
                    <a:pt x="36" y="4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76" y="22"/>
                  </a:lnTo>
                  <a:lnTo>
                    <a:pt x="120" y="38"/>
                  </a:lnTo>
                  <a:lnTo>
                    <a:pt x="136" y="38"/>
                  </a:lnTo>
                  <a:lnTo>
                    <a:pt x="138" y="42"/>
                  </a:lnTo>
                  <a:lnTo>
                    <a:pt x="156" y="42"/>
                  </a:lnTo>
                  <a:lnTo>
                    <a:pt x="168" y="32"/>
                  </a:lnTo>
                  <a:lnTo>
                    <a:pt x="166" y="28"/>
                  </a:lnTo>
                  <a:lnTo>
                    <a:pt x="148" y="28"/>
                  </a:lnTo>
                  <a:lnTo>
                    <a:pt x="134" y="20"/>
                  </a:lnTo>
                  <a:lnTo>
                    <a:pt x="56" y="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60240" y="2620440"/>
              <a:ext cx="117000" cy="79560"/>
            </a:xfrm>
            <a:custGeom>
              <a:avLst/>
              <a:gdLst/>
              <a:ahLst/>
              <a:rect l="l" t="t" r="r" b="b"/>
              <a:pathLst>
                <a:path w="672" h="466">
                  <a:moveTo>
                    <a:pt x="96" y="22"/>
                  </a:moveTo>
                  <a:lnTo>
                    <a:pt x="98" y="20"/>
                  </a:lnTo>
                  <a:lnTo>
                    <a:pt x="142" y="22"/>
                  </a:lnTo>
                  <a:lnTo>
                    <a:pt x="150" y="14"/>
                  </a:lnTo>
                  <a:lnTo>
                    <a:pt x="186" y="0"/>
                  </a:lnTo>
                  <a:lnTo>
                    <a:pt x="208" y="0"/>
                  </a:lnTo>
                  <a:lnTo>
                    <a:pt x="230" y="8"/>
                  </a:lnTo>
                  <a:lnTo>
                    <a:pt x="246" y="12"/>
                  </a:lnTo>
                  <a:lnTo>
                    <a:pt x="270" y="12"/>
                  </a:lnTo>
                  <a:lnTo>
                    <a:pt x="316" y="24"/>
                  </a:lnTo>
                  <a:lnTo>
                    <a:pt x="336" y="24"/>
                  </a:lnTo>
                  <a:lnTo>
                    <a:pt x="354" y="34"/>
                  </a:lnTo>
                  <a:lnTo>
                    <a:pt x="362" y="42"/>
                  </a:lnTo>
                  <a:lnTo>
                    <a:pt x="310" y="52"/>
                  </a:lnTo>
                  <a:lnTo>
                    <a:pt x="358" y="54"/>
                  </a:lnTo>
                  <a:lnTo>
                    <a:pt x="354" y="60"/>
                  </a:lnTo>
                  <a:lnTo>
                    <a:pt x="334" y="60"/>
                  </a:lnTo>
                  <a:lnTo>
                    <a:pt x="302" y="72"/>
                  </a:lnTo>
                  <a:lnTo>
                    <a:pt x="324" y="74"/>
                  </a:lnTo>
                  <a:lnTo>
                    <a:pt x="354" y="66"/>
                  </a:lnTo>
                  <a:lnTo>
                    <a:pt x="360" y="78"/>
                  </a:lnTo>
                  <a:lnTo>
                    <a:pt x="358" y="86"/>
                  </a:lnTo>
                  <a:lnTo>
                    <a:pt x="348" y="94"/>
                  </a:lnTo>
                  <a:lnTo>
                    <a:pt x="334" y="96"/>
                  </a:lnTo>
                  <a:lnTo>
                    <a:pt x="302" y="96"/>
                  </a:lnTo>
                  <a:lnTo>
                    <a:pt x="302" y="104"/>
                  </a:lnTo>
                  <a:lnTo>
                    <a:pt x="328" y="102"/>
                  </a:lnTo>
                  <a:lnTo>
                    <a:pt x="340" y="112"/>
                  </a:lnTo>
                  <a:lnTo>
                    <a:pt x="332" y="124"/>
                  </a:lnTo>
                  <a:lnTo>
                    <a:pt x="336" y="138"/>
                  </a:lnTo>
                  <a:lnTo>
                    <a:pt x="324" y="134"/>
                  </a:lnTo>
                  <a:lnTo>
                    <a:pt x="320" y="140"/>
                  </a:lnTo>
                  <a:lnTo>
                    <a:pt x="328" y="144"/>
                  </a:lnTo>
                  <a:lnTo>
                    <a:pt x="332" y="154"/>
                  </a:lnTo>
                  <a:lnTo>
                    <a:pt x="322" y="156"/>
                  </a:lnTo>
                  <a:lnTo>
                    <a:pt x="328" y="166"/>
                  </a:lnTo>
                  <a:lnTo>
                    <a:pt x="332" y="178"/>
                  </a:lnTo>
                  <a:lnTo>
                    <a:pt x="342" y="190"/>
                  </a:lnTo>
                  <a:lnTo>
                    <a:pt x="354" y="198"/>
                  </a:lnTo>
                  <a:lnTo>
                    <a:pt x="358" y="208"/>
                  </a:lnTo>
                  <a:lnTo>
                    <a:pt x="358" y="228"/>
                  </a:lnTo>
                  <a:lnTo>
                    <a:pt x="364" y="238"/>
                  </a:lnTo>
                  <a:lnTo>
                    <a:pt x="374" y="244"/>
                  </a:lnTo>
                  <a:lnTo>
                    <a:pt x="400" y="280"/>
                  </a:lnTo>
                  <a:lnTo>
                    <a:pt x="416" y="298"/>
                  </a:lnTo>
                  <a:lnTo>
                    <a:pt x="426" y="306"/>
                  </a:lnTo>
                  <a:lnTo>
                    <a:pt x="446" y="318"/>
                  </a:lnTo>
                  <a:lnTo>
                    <a:pt x="470" y="336"/>
                  </a:lnTo>
                  <a:lnTo>
                    <a:pt x="480" y="344"/>
                  </a:lnTo>
                  <a:lnTo>
                    <a:pt x="488" y="356"/>
                  </a:lnTo>
                  <a:lnTo>
                    <a:pt x="544" y="386"/>
                  </a:lnTo>
                  <a:lnTo>
                    <a:pt x="568" y="394"/>
                  </a:lnTo>
                  <a:lnTo>
                    <a:pt x="582" y="398"/>
                  </a:lnTo>
                  <a:lnTo>
                    <a:pt x="604" y="408"/>
                  </a:lnTo>
                  <a:lnTo>
                    <a:pt x="640" y="420"/>
                  </a:lnTo>
                  <a:lnTo>
                    <a:pt x="648" y="418"/>
                  </a:lnTo>
                  <a:lnTo>
                    <a:pt x="672" y="428"/>
                  </a:lnTo>
                  <a:lnTo>
                    <a:pt x="662" y="430"/>
                  </a:lnTo>
                  <a:lnTo>
                    <a:pt x="666" y="440"/>
                  </a:lnTo>
                  <a:lnTo>
                    <a:pt x="652" y="446"/>
                  </a:lnTo>
                  <a:lnTo>
                    <a:pt x="616" y="444"/>
                  </a:lnTo>
                  <a:lnTo>
                    <a:pt x="610" y="450"/>
                  </a:lnTo>
                  <a:lnTo>
                    <a:pt x="652" y="454"/>
                  </a:lnTo>
                  <a:lnTo>
                    <a:pt x="640" y="456"/>
                  </a:lnTo>
                  <a:lnTo>
                    <a:pt x="640" y="466"/>
                  </a:lnTo>
                  <a:lnTo>
                    <a:pt x="624" y="460"/>
                  </a:lnTo>
                  <a:lnTo>
                    <a:pt x="590" y="444"/>
                  </a:lnTo>
                  <a:lnTo>
                    <a:pt x="580" y="440"/>
                  </a:lnTo>
                  <a:lnTo>
                    <a:pt x="578" y="428"/>
                  </a:lnTo>
                  <a:lnTo>
                    <a:pt x="564" y="434"/>
                  </a:lnTo>
                  <a:lnTo>
                    <a:pt x="548" y="436"/>
                  </a:lnTo>
                  <a:lnTo>
                    <a:pt x="544" y="442"/>
                  </a:lnTo>
                  <a:lnTo>
                    <a:pt x="550" y="448"/>
                  </a:lnTo>
                  <a:lnTo>
                    <a:pt x="562" y="450"/>
                  </a:lnTo>
                  <a:lnTo>
                    <a:pt x="568" y="446"/>
                  </a:lnTo>
                  <a:lnTo>
                    <a:pt x="576" y="458"/>
                  </a:lnTo>
                  <a:lnTo>
                    <a:pt x="554" y="460"/>
                  </a:lnTo>
                  <a:lnTo>
                    <a:pt x="532" y="452"/>
                  </a:lnTo>
                  <a:lnTo>
                    <a:pt x="522" y="452"/>
                  </a:lnTo>
                  <a:lnTo>
                    <a:pt x="532" y="460"/>
                  </a:lnTo>
                  <a:lnTo>
                    <a:pt x="520" y="456"/>
                  </a:lnTo>
                  <a:lnTo>
                    <a:pt x="504" y="444"/>
                  </a:lnTo>
                  <a:lnTo>
                    <a:pt x="488" y="444"/>
                  </a:lnTo>
                  <a:lnTo>
                    <a:pt x="472" y="440"/>
                  </a:lnTo>
                  <a:lnTo>
                    <a:pt x="472" y="450"/>
                  </a:lnTo>
                  <a:lnTo>
                    <a:pt x="464" y="448"/>
                  </a:lnTo>
                  <a:lnTo>
                    <a:pt x="462" y="452"/>
                  </a:lnTo>
                  <a:lnTo>
                    <a:pt x="466" y="464"/>
                  </a:lnTo>
                  <a:lnTo>
                    <a:pt x="456" y="464"/>
                  </a:lnTo>
                  <a:lnTo>
                    <a:pt x="410" y="446"/>
                  </a:lnTo>
                  <a:lnTo>
                    <a:pt x="400" y="438"/>
                  </a:lnTo>
                  <a:lnTo>
                    <a:pt x="418" y="438"/>
                  </a:lnTo>
                  <a:lnTo>
                    <a:pt x="416" y="432"/>
                  </a:lnTo>
                  <a:lnTo>
                    <a:pt x="386" y="432"/>
                  </a:lnTo>
                  <a:lnTo>
                    <a:pt x="352" y="442"/>
                  </a:lnTo>
                  <a:lnTo>
                    <a:pt x="340" y="440"/>
                  </a:lnTo>
                  <a:lnTo>
                    <a:pt x="326" y="430"/>
                  </a:lnTo>
                  <a:lnTo>
                    <a:pt x="320" y="436"/>
                  </a:lnTo>
                  <a:lnTo>
                    <a:pt x="308" y="432"/>
                  </a:lnTo>
                  <a:lnTo>
                    <a:pt x="302" y="428"/>
                  </a:lnTo>
                  <a:lnTo>
                    <a:pt x="296" y="420"/>
                  </a:lnTo>
                  <a:lnTo>
                    <a:pt x="292" y="408"/>
                  </a:lnTo>
                  <a:lnTo>
                    <a:pt x="288" y="402"/>
                  </a:lnTo>
                  <a:lnTo>
                    <a:pt x="278" y="394"/>
                  </a:lnTo>
                  <a:lnTo>
                    <a:pt x="282" y="392"/>
                  </a:lnTo>
                  <a:lnTo>
                    <a:pt x="306" y="396"/>
                  </a:lnTo>
                  <a:lnTo>
                    <a:pt x="308" y="392"/>
                  </a:lnTo>
                  <a:lnTo>
                    <a:pt x="296" y="384"/>
                  </a:lnTo>
                  <a:lnTo>
                    <a:pt x="314" y="388"/>
                  </a:lnTo>
                  <a:lnTo>
                    <a:pt x="332" y="386"/>
                  </a:lnTo>
                  <a:lnTo>
                    <a:pt x="334" y="382"/>
                  </a:lnTo>
                  <a:lnTo>
                    <a:pt x="310" y="380"/>
                  </a:lnTo>
                  <a:lnTo>
                    <a:pt x="316" y="374"/>
                  </a:lnTo>
                  <a:lnTo>
                    <a:pt x="302" y="370"/>
                  </a:lnTo>
                  <a:lnTo>
                    <a:pt x="270" y="368"/>
                  </a:lnTo>
                  <a:lnTo>
                    <a:pt x="250" y="360"/>
                  </a:lnTo>
                  <a:lnTo>
                    <a:pt x="246" y="352"/>
                  </a:lnTo>
                  <a:lnTo>
                    <a:pt x="254" y="354"/>
                  </a:lnTo>
                  <a:lnTo>
                    <a:pt x="250" y="344"/>
                  </a:lnTo>
                  <a:lnTo>
                    <a:pt x="270" y="320"/>
                  </a:lnTo>
                  <a:lnTo>
                    <a:pt x="252" y="330"/>
                  </a:lnTo>
                  <a:lnTo>
                    <a:pt x="244" y="346"/>
                  </a:lnTo>
                  <a:lnTo>
                    <a:pt x="236" y="354"/>
                  </a:lnTo>
                  <a:lnTo>
                    <a:pt x="228" y="338"/>
                  </a:lnTo>
                  <a:lnTo>
                    <a:pt x="220" y="330"/>
                  </a:lnTo>
                  <a:lnTo>
                    <a:pt x="216" y="320"/>
                  </a:lnTo>
                  <a:lnTo>
                    <a:pt x="216" y="312"/>
                  </a:lnTo>
                  <a:lnTo>
                    <a:pt x="202" y="324"/>
                  </a:lnTo>
                  <a:lnTo>
                    <a:pt x="186" y="318"/>
                  </a:lnTo>
                  <a:lnTo>
                    <a:pt x="184" y="328"/>
                  </a:lnTo>
                  <a:lnTo>
                    <a:pt x="172" y="324"/>
                  </a:lnTo>
                  <a:lnTo>
                    <a:pt x="168" y="330"/>
                  </a:lnTo>
                  <a:lnTo>
                    <a:pt x="156" y="318"/>
                  </a:lnTo>
                  <a:lnTo>
                    <a:pt x="150" y="304"/>
                  </a:lnTo>
                  <a:lnTo>
                    <a:pt x="132" y="298"/>
                  </a:lnTo>
                  <a:lnTo>
                    <a:pt x="126" y="312"/>
                  </a:lnTo>
                  <a:lnTo>
                    <a:pt x="130" y="324"/>
                  </a:lnTo>
                  <a:lnTo>
                    <a:pt x="114" y="310"/>
                  </a:lnTo>
                  <a:lnTo>
                    <a:pt x="108" y="316"/>
                  </a:lnTo>
                  <a:lnTo>
                    <a:pt x="112" y="326"/>
                  </a:lnTo>
                  <a:lnTo>
                    <a:pt x="90" y="326"/>
                  </a:lnTo>
                  <a:lnTo>
                    <a:pt x="80" y="326"/>
                  </a:lnTo>
                  <a:lnTo>
                    <a:pt x="72" y="322"/>
                  </a:lnTo>
                  <a:lnTo>
                    <a:pt x="60" y="320"/>
                  </a:lnTo>
                  <a:lnTo>
                    <a:pt x="46" y="312"/>
                  </a:lnTo>
                  <a:lnTo>
                    <a:pt x="24" y="292"/>
                  </a:lnTo>
                  <a:lnTo>
                    <a:pt x="14" y="278"/>
                  </a:lnTo>
                  <a:lnTo>
                    <a:pt x="8" y="266"/>
                  </a:lnTo>
                  <a:lnTo>
                    <a:pt x="6" y="254"/>
                  </a:lnTo>
                  <a:lnTo>
                    <a:pt x="0" y="242"/>
                  </a:lnTo>
                  <a:lnTo>
                    <a:pt x="2" y="232"/>
                  </a:lnTo>
                  <a:lnTo>
                    <a:pt x="22" y="222"/>
                  </a:lnTo>
                  <a:lnTo>
                    <a:pt x="34" y="228"/>
                  </a:lnTo>
                  <a:lnTo>
                    <a:pt x="42" y="222"/>
                  </a:lnTo>
                  <a:lnTo>
                    <a:pt x="56" y="220"/>
                  </a:lnTo>
                  <a:lnTo>
                    <a:pt x="60" y="228"/>
                  </a:lnTo>
                  <a:lnTo>
                    <a:pt x="72" y="234"/>
                  </a:lnTo>
                  <a:lnTo>
                    <a:pt x="74" y="226"/>
                  </a:lnTo>
                  <a:lnTo>
                    <a:pt x="72" y="216"/>
                  </a:lnTo>
                  <a:lnTo>
                    <a:pt x="78" y="214"/>
                  </a:lnTo>
                  <a:lnTo>
                    <a:pt x="68" y="192"/>
                  </a:lnTo>
                  <a:lnTo>
                    <a:pt x="80" y="192"/>
                  </a:lnTo>
                  <a:lnTo>
                    <a:pt x="78" y="184"/>
                  </a:lnTo>
                  <a:lnTo>
                    <a:pt x="68" y="176"/>
                  </a:lnTo>
                  <a:lnTo>
                    <a:pt x="80" y="174"/>
                  </a:lnTo>
                  <a:lnTo>
                    <a:pt x="74" y="162"/>
                  </a:lnTo>
                  <a:lnTo>
                    <a:pt x="80" y="160"/>
                  </a:lnTo>
                  <a:lnTo>
                    <a:pt x="82" y="152"/>
                  </a:lnTo>
                  <a:lnTo>
                    <a:pt x="90" y="144"/>
                  </a:lnTo>
                  <a:lnTo>
                    <a:pt x="90" y="140"/>
                  </a:lnTo>
                  <a:lnTo>
                    <a:pt x="76" y="148"/>
                  </a:lnTo>
                  <a:lnTo>
                    <a:pt x="66" y="142"/>
                  </a:lnTo>
                  <a:lnTo>
                    <a:pt x="70" y="132"/>
                  </a:lnTo>
                  <a:lnTo>
                    <a:pt x="56" y="134"/>
                  </a:lnTo>
                  <a:lnTo>
                    <a:pt x="22" y="120"/>
                  </a:lnTo>
                  <a:lnTo>
                    <a:pt x="22" y="106"/>
                  </a:lnTo>
                  <a:lnTo>
                    <a:pt x="42" y="92"/>
                  </a:lnTo>
                  <a:lnTo>
                    <a:pt x="60" y="86"/>
                  </a:lnTo>
                  <a:lnTo>
                    <a:pt x="74" y="90"/>
                  </a:lnTo>
                  <a:lnTo>
                    <a:pt x="90" y="82"/>
                  </a:lnTo>
                  <a:lnTo>
                    <a:pt x="76" y="82"/>
                  </a:lnTo>
                  <a:lnTo>
                    <a:pt x="64" y="78"/>
                  </a:lnTo>
                  <a:lnTo>
                    <a:pt x="68" y="72"/>
                  </a:lnTo>
                  <a:lnTo>
                    <a:pt x="78" y="70"/>
                  </a:lnTo>
                  <a:lnTo>
                    <a:pt x="72" y="64"/>
                  </a:lnTo>
                  <a:lnTo>
                    <a:pt x="60" y="60"/>
                  </a:lnTo>
                  <a:lnTo>
                    <a:pt x="54" y="52"/>
                  </a:lnTo>
                  <a:lnTo>
                    <a:pt x="74" y="32"/>
                  </a:lnTo>
                  <a:lnTo>
                    <a:pt x="96" y="2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67800" y="2511360"/>
              <a:ext cx="182520" cy="113400"/>
            </a:xfrm>
            <a:custGeom>
              <a:avLst/>
              <a:gdLst/>
              <a:ahLst/>
              <a:rect l="l" t="t" r="r" b="b"/>
              <a:pathLst>
                <a:path w="1052" h="650">
                  <a:moveTo>
                    <a:pt x="4" y="572"/>
                  </a:moveTo>
                  <a:lnTo>
                    <a:pt x="0" y="568"/>
                  </a:lnTo>
                  <a:lnTo>
                    <a:pt x="10" y="572"/>
                  </a:lnTo>
                  <a:lnTo>
                    <a:pt x="30" y="568"/>
                  </a:lnTo>
                  <a:lnTo>
                    <a:pt x="44" y="550"/>
                  </a:lnTo>
                  <a:lnTo>
                    <a:pt x="86" y="540"/>
                  </a:lnTo>
                  <a:lnTo>
                    <a:pt x="74" y="536"/>
                  </a:lnTo>
                  <a:lnTo>
                    <a:pt x="76" y="522"/>
                  </a:lnTo>
                  <a:lnTo>
                    <a:pt x="96" y="508"/>
                  </a:lnTo>
                  <a:lnTo>
                    <a:pt x="118" y="514"/>
                  </a:lnTo>
                  <a:lnTo>
                    <a:pt x="140" y="514"/>
                  </a:lnTo>
                  <a:lnTo>
                    <a:pt x="168" y="522"/>
                  </a:lnTo>
                  <a:lnTo>
                    <a:pt x="198" y="524"/>
                  </a:lnTo>
                  <a:lnTo>
                    <a:pt x="176" y="514"/>
                  </a:lnTo>
                  <a:lnTo>
                    <a:pt x="106" y="504"/>
                  </a:lnTo>
                  <a:lnTo>
                    <a:pt x="88" y="494"/>
                  </a:lnTo>
                  <a:lnTo>
                    <a:pt x="104" y="496"/>
                  </a:lnTo>
                  <a:lnTo>
                    <a:pt x="130" y="492"/>
                  </a:lnTo>
                  <a:lnTo>
                    <a:pt x="134" y="484"/>
                  </a:lnTo>
                  <a:lnTo>
                    <a:pt x="88" y="474"/>
                  </a:lnTo>
                  <a:lnTo>
                    <a:pt x="88" y="468"/>
                  </a:lnTo>
                  <a:lnTo>
                    <a:pt x="142" y="464"/>
                  </a:lnTo>
                  <a:lnTo>
                    <a:pt x="152" y="460"/>
                  </a:lnTo>
                  <a:lnTo>
                    <a:pt x="138" y="454"/>
                  </a:lnTo>
                  <a:lnTo>
                    <a:pt x="118" y="450"/>
                  </a:lnTo>
                  <a:lnTo>
                    <a:pt x="104" y="446"/>
                  </a:lnTo>
                  <a:lnTo>
                    <a:pt x="92" y="438"/>
                  </a:lnTo>
                  <a:lnTo>
                    <a:pt x="86" y="428"/>
                  </a:lnTo>
                  <a:lnTo>
                    <a:pt x="90" y="424"/>
                  </a:lnTo>
                  <a:lnTo>
                    <a:pt x="102" y="430"/>
                  </a:lnTo>
                  <a:lnTo>
                    <a:pt x="130" y="418"/>
                  </a:lnTo>
                  <a:lnTo>
                    <a:pt x="168" y="420"/>
                  </a:lnTo>
                  <a:lnTo>
                    <a:pt x="184" y="414"/>
                  </a:lnTo>
                  <a:lnTo>
                    <a:pt x="168" y="416"/>
                  </a:lnTo>
                  <a:lnTo>
                    <a:pt x="154" y="414"/>
                  </a:lnTo>
                  <a:lnTo>
                    <a:pt x="140" y="404"/>
                  </a:lnTo>
                  <a:lnTo>
                    <a:pt x="120" y="402"/>
                  </a:lnTo>
                  <a:lnTo>
                    <a:pt x="92" y="406"/>
                  </a:lnTo>
                  <a:lnTo>
                    <a:pt x="82" y="400"/>
                  </a:lnTo>
                  <a:lnTo>
                    <a:pt x="92" y="392"/>
                  </a:lnTo>
                  <a:lnTo>
                    <a:pt x="96" y="374"/>
                  </a:lnTo>
                  <a:lnTo>
                    <a:pt x="88" y="374"/>
                  </a:lnTo>
                  <a:lnTo>
                    <a:pt x="84" y="370"/>
                  </a:lnTo>
                  <a:lnTo>
                    <a:pt x="74" y="364"/>
                  </a:lnTo>
                  <a:lnTo>
                    <a:pt x="66" y="374"/>
                  </a:lnTo>
                  <a:lnTo>
                    <a:pt x="58" y="364"/>
                  </a:lnTo>
                  <a:lnTo>
                    <a:pt x="46" y="360"/>
                  </a:lnTo>
                  <a:lnTo>
                    <a:pt x="52" y="350"/>
                  </a:lnTo>
                  <a:lnTo>
                    <a:pt x="46" y="348"/>
                  </a:lnTo>
                  <a:lnTo>
                    <a:pt x="50" y="338"/>
                  </a:lnTo>
                  <a:lnTo>
                    <a:pt x="78" y="338"/>
                  </a:lnTo>
                  <a:lnTo>
                    <a:pt x="86" y="350"/>
                  </a:lnTo>
                  <a:lnTo>
                    <a:pt x="100" y="354"/>
                  </a:lnTo>
                  <a:lnTo>
                    <a:pt x="128" y="342"/>
                  </a:lnTo>
                  <a:lnTo>
                    <a:pt x="136" y="330"/>
                  </a:lnTo>
                  <a:lnTo>
                    <a:pt x="134" y="318"/>
                  </a:lnTo>
                  <a:lnTo>
                    <a:pt x="158" y="310"/>
                  </a:lnTo>
                  <a:lnTo>
                    <a:pt x="200" y="312"/>
                  </a:lnTo>
                  <a:lnTo>
                    <a:pt x="222" y="294"/>
                  </a:lnTo>
                  <a:lnTo>
                    <a:pt x="220" y="286"/>
                  </a:lnTo>
                  <a:lnTo>
                    <a:pt x="208" y="278"/>
                  </a:lnTo>
                  <a:lnTo>
                    <a:pt x="220" y="272"/>
                  </a:lnTo>
                  <a:lnTo>
                    <a:pt x="212" y="262"/>
                  </a:lnTo>
                  <a:lnTo>
                    <a:pt x="230" y="252"/>
                  </a:lnTo>
                  <a:lnTo>
                    <a:pt x="248" y="254"/>
                  </a:lnTo>
                  <a:lnTo>
                    <a:pt x="258" y="248"/>
                  </a:lnTo>
                  <a:lnTo>
                    <a:pt x="250" y="244"/>
                  </a:lnTo>
                  <a:lnTo>
                    <a:pt x="250" y="228"/>
                  </a:lnTo>
                  <a:lnTo>
                    <a:pt x="258" y="222"/>
                  </a:lnTo>
                  <a:lnTo>
                    <a:pt x="288" y="210"/>
                  </a:lnTo>
                  <a:lnTo>
                    <a:pt x="332" y="198"/>
                  </a:lnTo>
                  <a:lnTo>
                    <a:pt x="340" y="192"/>
                  </a:lnTo>
                  <a:lnTo>
                    <a:pt x="338" y="184"/>
                  </a:lnTo>
                  <a:lnTo>
                    <a:pt x="342" y="176"/>
                  </a:lnTo>
                  <a:lnTo>
                    <a:pt x="370" y="164"/>
                  </a:lnTo>
                  <a:lnTo>
                    <a:pt x="390" y="166"/>
                  </a:lnTo>
                  <a:lnTo>
                    <a:pt x="386" y="174"/>
                  </a:lnTo>
                  <a:lnTo>
                    <a:pt x="386" y="188"/>
                  </a:lnTo>
                  <a:lnTo>
                    <a:pt x="400" y="188"/>
                  </a:lnTo>
                  <a:lnTo>
                    <a:pt x="402" y="180"/>
                  </a:lnTo>
                  <a:lnTo>
                    <a:pt x="428" y="172"/>
                  </a:lnTo>
                  <a:lnTo>
                    <a:pt x="430" y="164"/>
                  </a:lnTo>
                  <a:lnTo>
                    <a:pt x="416" y="160"/>
                  </a:lnTo>
                  <a:lnTo>
                    <a:pt x="406" y="152"/>
                  </a:lnTo>
                  <a:lnTo>
                    <a:pt x="398" y="142"/>
                  </a:lnTo>
                  <a:lnTo>
                    <a:pt x="410" y="142"/>
                  </a:lnTo>
                  <a:lnTo>
                    <a:pt x="412" y="136"/>
                  </a:lnTo>
                  <a:lnTo>
                    <a:pt x="402" y="134"/>
                  </a:lnTo>
                  <a:lnTo>
                    <a:pt x="430" y="128"/>
                  </a:lnTo>
                  <a:lnTo>
                    <a:pt x="438" y="134"/>
                  </a:lnTo>
                  <a:lnTo>
                    <a:pt x="508" y="134"/>
                  </a:lnTo>
                  <a:lnTo>
                    <a:pt x="518" y="148"/>
                  </a:lnTo>
                  <a:lnTo>
                    <a:pt x="536" y="152"/>
                  </a:lnTo>
                  <a:lnTo>
                    <a:pt x="544" y="142"/>
                  </a:lnTo>
                  <a:lnTo>
                    <a:pt x="566" y="146"/>
                  </a:lnTo>
                  <a:lnTo>
                    <a:pt x="620" y="120"/>
                  </a:lnTo>
                  <a:lnTo>
                    <a:pt x="636" y="120"/>
                  </a:lnTo>
                  <a:lnTo>
                    <a:pt x="644" y="124"/>
                  </a:lnTo>
                  <a:lnTo>
                    <a:pt x="650" y="126"/>
                  </a:lnTo>
                  <a:lnTo>
                    <a:pt x="662" y="124"/>
                  </a:lnTo>
                  <a:lnTo>
                    <a:pt x="666" y="120"/>
                  </a:lnTo>
                  <a:lnTo>
                    <a:pt x="678" y="120"/>
                  </a:lnTo>
                  <a:lnTo>
                    <a:pt x="680" y="114"/>
                  </a:lnTo>
                  <a:lnTo>
                    <a:pt x="692" y="112"/>
                  </a:lnTo>
                  <a:lnTo>
                    <a:pt x="712" y="94"/>
                  </a:lnTo>
                  <a:lnTo>
                    <a:pt x="740" y="94"/>
                  </a:lnTo>
                  <a:lnTo>
                    <a:pt x="744" y="90"/>
                  </a:lnTo>
                  <a:lnTo>
                    <a:pt x="744" y="78"/>
                  </a:lnTo>
                  <a:lnTo>
                    <a:pt x="762" y="82"/>
                  </a:lnTo>
                  <a:lnTo>
                    <a:pt x="772" y="80"/>
                  </a:lnTo>
                  <a:lnTo>
                    <a:pt x="778" y="74"/>
                  </a:lnTo>
                  <a:lnTo>
                    <a:pt x="760" y="54"/>
                  </a:lnTo>
                  <a:lnTo>
                    <a:pt x="760" y="46"/>
                  </a:lnTo>
                  <a:lnTo>
                    <a:pt x="774" y="42"/>
                  </a:lnTo>
                  <a:lnTo>
                    <a:pt x="784" y="32"/>
                  </a:lnTo>
                  <a:lnTo>
                    <a:pt x="796" y="32"/>
                  </a:lnTo>
                  <a:lnTo>
                    <a:pt x="806" y="22"/>
                  </a:lnTo>
                  <a:lnTo>
                    <a:pt x="808" y="14"/>
                  </a:lnTo>
                  <a:lnTo>
                    <a:pt x="830" y="18"/>
                  </a:lnTo>
                  <a:lnTo>
                    <a:pt x="858" y="2"/>
                  </a:lnTo>
                  <a:lnTo>
                    <a:pt x="906" y="0"/>
                  </a:lnTo>
                  <a:lnTo>
                    <a:pt x="956" y="4"/>
                  </a:lnTo>
                  <a:lnTo>
                    <a:pt x="972" y="10"/>
                  </a:lnTo>
                  <a:lnTo>
                    <a:pt x="984" y="16"/>
                  </a:lnTo>
                  <a:lnTo>
                    <a:pt x="1000" y="20"/>
                  </a:lnTo>
                  <a:lnTo>
                    <a:pt x="1004" y="28"/>
                  </a:lnTo>
                  <a:lnTo>
                    <a:pt x="1034" y="46"/>
                  </a:lnTo>
                  <a:lnTo>
                    <a:pt x="1038" y="54"/>
                  </a:lnTo>
                  <a:lnTo>
                    <a:pt x="1028" y="58"/>
                  </a:lnTo>
                  <a:lnTo>
                    <a:pt x="1030" y="72"/>
                  </a:lnTo>
                  <a:lnTo>
                    <a:pt x="1052" y="72"/>
                  </a:lnTo>
                  <a:lnTo>
                    <a:pt x="1052" y="76"/>
                  </a:lnTo>
                  <a:lnTo>
                    <a:pt x="1038" y="82"/>
                  </a:lnTo>
                  <a:lnTo>
                    <a:pt x="1030" y="92"/>
                  </a:lnTo>
                  <a:lnTo>
                    <a:pt x="1018" y="118"/>
                  </a:lnTo>
                  <a:lnTo>
                    <a:pt x="1034" y="126"/>
                  </a:lnTo>
                  <a:lnTo>
                    <a:pt x="1004" y="122"/>
                  </a:lnTo>
                  <a:lnTo>
                    <a:pt x="992" y="122"/>
                  </a:lnTo>
                  <a:lnTo>
                    <a:pt x="980" y="126"/>
                  </a:lnTo>
                  <a:lnTo>
                    <a:pt x="938" y="154"/>
                  </a:lnTo>
                  <a:lnTo>
                    <a:pt x="910" y="162"/>
                  </a:lnTo>
                  <a:lnTo>
                    <a:pt x="894" y="164"/>
                  </a:lnTo>
                  <a:lnTo>
                    <a:pt x="868" y="174"/>
                  </a:lnTo>
                  <a:lnTo>
                    <a:pt x="848" y="172"/>
                  </a:lnTo>
                  <a:lnTo>
                    <a:pt x="820" y="178"/>
                  </a:lnTo>
                  <a:lnTo>
                    <a:pt x="812" y="184"/>
                  </a:lnTo>
                  <a:lnTo>
                    <a:pt x="814" y="192"/>
                  </a:lnTo>
                  <a:lnTo>
                    <a:pt x="802" y="200"/>
                  </a:lnTo>
                  <a:lnTo>
                    <a:pt x="788" y="192"/>
                  </a:lnTo>
                  <a:lnTo>
                    <a:pt x="782" y="204"/>
                  </a:lnTo>
                  <a:lnTo>
                    <a:pt x="712" y="234"/>
                  </a:lnTo>
                  <a:lnTo>
                    <a:pt x="702" y="232"/>
                  </a:lnTo>
                  <a:lnTo>
                    <a:pt x="682" y="220"/>
                  </a:lnTo>
                  <a:lnTo>
                    <a:pt x="674" y="222"/>
                  </a:lnTo>
                  <a:lnTo>
                    <a:pt x="682" y="230"/>
                  </a:lnTo>
                  <a:lnTo>
                    <a:pt x="678" y="234"/>
                  </a:lnTo>
                  <a:lnTo>
                    <a:pt x="678" y="240"/>
                  </a:lnTo>
                  <a:lnTo>
                    <a:pt x="648" y="266"/>
                  </a:lnTo>
                  <a:lnTo>
                    <a:pt x="614" y="272"/>
                  </a:lnTo>
                  <a:lnTo>
                    <a:pt x="610" y="286"/>
                  </a:lnTo>
                  <a:lnTo>
                    <a:pt x="598" y="278"/>
                  </a:lnTo>
                  <a:lnTo>
                    <a:pt x="584" y="306"/>
                  </a:lnTo>
                  <a:lnTo>
                    <a:pt x="558" y="334"/>
                  </a:lnTo>
                  <a:lnTo>
                    <a:pt x="518" y="340"/>
                  </a:lnTo>
                  <a:lnTo>
                    <a:pt x="514" y="344"/>
                  </a:lnTo>
                  <a:lnTo>
                    <a:pt x="508" y="338"/>
                  </a:lnTo>
                  <a:lnTo>
                    <a:pt x="490" y="340"/>
                  </a:lnTo>
                  <a:lnTo>
                    <a:pt x="480" y="336"/>
                  </a:lnTo>
                  <a:lnTo>
                    <a:pt x="478" y="348"/>
                  </a:lnTo>
                  <a:lnTo>
                    <a:pt x="494" y="354"/>
                  </a:lnTo>
                  <a:lnTo>
                    <a:pt x="506" y="354"/>
                  </a:lnTo>
                  <a:lnTo>
                    <a:pt x="516" y="362"/>
                  </a:lnTo>
                  <a:lnTo>
                    <a:pt x="488" y="384"/>
                  </a:lnTo>
                  <a:lnTo>
                    <a:pt x="496" y="392"/>
                  </a:lnTo>
                  <a:lnTo>
                    <a:pt x="494" y="400"/>
                  </a:lnTo>
                  <a:lnTo>
                    <a:pt x="468" y="404"/>
                  </a:lnTo>
                  <a:lnTo>
                    <a:pt x="448" y="398"/>
                  </a:lnTo>
                  <a:lnTo>
                    <a:pt x="422" y="394"/>
                  </a:lnTo>
                  <a:lnTo>
                    <a:pt x="430" y="398"/>
                  </a:lnTo>
                  <a:lnTo>
                    <a:pt x="456" y="410"/>
                  </a:lnTo>
                  <a:lnTo>
                    <a:pt x="482" y="426"/>
                  </a:lnTo>
                  <a:lnTo>
                    <a:pt x="412" y="408"/>
                  </a:lnTo>
                  <a:lnTo>
                    <a:pt x="398" y="412"/>
                  </a:lnTo>
                  <a:lnTo>
                    <a:pt x="402" y="416"/>
                  </a:lnTo>
                  <a:lnTo>
                    <a:pt x="402" y="420"/>
                  </a:lnTo>
                  <a:lnTo>
                    <a:pt x="416" y="430"/>
                  </a:lnTo>
                  <a:lnTo>
                    <a:pt x="426" y="434"/>
                  </a:lnTo>
                  <a:lnTo>
                    <a:pt x="406" y="430"/>
                  </a:lnTo>
                  <a:lnTo>
                    <a:pt x="406" y="434"/>
                  </a:lnTo>
                  <a:lnTo>
                    <a:pt x="422" y="446"/>
                  </a:lnTo>
                  <a:lnTo>
                    <a:pt x="418" y="452"/>
                  </a:lnTo>
                  <a:lnTo>
                    <a:pt x="406" y="452"/>
                  </a:lnTo>
                  <a:lnTo>
                    <a:pt x="394" y="446"/>
                  </a:lnTo>
                  <a:lnTo>
                    <a:pt x="338" y="430"/>
                  </a:lnTo>
                  <a:lnTo>
                    <a:pt x="340" y="438"/>
                  </a:lnTo>
                  <a:lnTo>
                    <a:pt x="366" y="446"/>
                  </a:lnTo>
                  <a:lnTo>
                    <a:pt x="384" y="458"/>
                  </a:lnTo>
                  <a:lnTo>
                    <a:pt x="406" y="472"/>
                  </a:lnTo>
                  <a:lnTo>
                    <a:pt x="412" y="480"/>
                  </a:lnTo>
                  <a:lnTo>
                    <a:pt x="404" y="480"/>
                  </a:lnTo>
                  <a:lnTo>
                    <a:pt x="404" y="486"/>
                  </a:lnTo>
                  <a:lnTo>
                    <a:pt x="406" y="494"/>
                  </a:lnTo>
                  <a:lnTo>
                    <a:pt x="392" y="488"/>
                  </a:lnTo>
                  <a:lnTo>
                    <a:pt x="388" y="488"/>
                  </a:lnTo>
                  <a:lnTo>
                    <a:pt x="396" y="498"/>
                  </a:lnTo>
                  <a:lnTo>
                    <a:pt x="402" y="502"/>
                  </a:lnTo>
                  <a:lnTo>
                    <a:pt x="396" y="506"/>
                  </a:lnTo>
                  <a:lnTo>
                    <a:pt x="378" y="498"/>
                  </a:lnTo>
                  <a:lnTo>
                    <a:pt x="380" y="508"/>
                  </a:lnTo>
                  <a:lnTo>
                    <a:pt x="390" y="520"/>
                  </a:lnTo>
                  <a:lnTo>
                    <a:pt x="380" y="522"/>
                  </a:lnTo>
                  <a:lnTo>
                    <a:pt x="368" y="516"/>
                  </a:lnTo>
                  <a:lnTo>
                    <a:pt x="356" y="516"/>
                  </a:lnTo>
                  <a:lnTo>
                    <a:pt x="344" y="504"/>
                  </a:lnTo>
                  <a:lnTo>
                    <a:pt x="306" y="482"/>
                  </a:lnTo>
                  <a:lnTo>
                    <a:pt x="306" y="498"/>
                  </a:lnTo>
                  <a:lnTo>
                    <a:pt x="316" y="510"/>
                  </a:lnTo>
                  <a:lnTo>
                    <a:pt x="298" y="514"/>
                  </a:lnTo>
                  <a:lnTo>
                    <a:pt x="328" y="520"/>
                  </a:lnTo>
                  <a:lnTo>
                    <a:pt x="342" y="524"/>
                  </a:lnTo>
                  <a:lnTo>
                    <a:pt x="348" y="532"/>
                  </a:lnTo>
                  <a:lnTo>
                    <a:pt x="364" y="536"/>
                  </a:lnTo>
                  <a:lnTo>
                    <a:pt x="358" y="540"/>
                  </a:lnTo>
                  <a:lnTo>
                    <a:pt x="366" y="546"/>
                  </a:lnTo>
                  <a:lnTo>
                    <a:pt x="370" y="552"/>
                  </a:lnTo>
                  <a:lnTo>
                    <a:pt x="372" y="564"/>
                  </a:lnTo>
                  <a:lnTo>
                    <a:pt x="358" y="564"/>
                  </a:lnTo>
                  <a:lnTo>
                    <a:pt x="342" y="552"/>
                  </a:lnTo>
                  <a:lnTo>
                    <a:pt x="330" y="550"/>
                  </a:lnTo>
                  <a:lnTo>
                    <a:pt x="288" y="548"/>
                  </a:lnTo>
                  <a:lnTo>
                    <a:pt x="274" y="552"/>
                  </a:lnTo>
                  <a:lnTo>
                    <a:pt x="292" y="558"/>
                  </a:lnTo>
                  <a:lnTo>
                    <a:pt x="316" y="558"/>
                  </a:lnTo>
                  <a:lnTo>
                    <a:pt x="350" y="576"/>
                  </a:lnTo>
                  <a:lnTo>
                    <a:pt x="360" y="584"/>
                  </a:lnTo>
                  <a:lnTo>
                    <a:pt x="358" y="590"/>
                  </a:lnTo>
                  <a:lnTo>
                    <a:pt x="350" y="592"/>
                  </a:lnTo>
                  <a:lnTo>
                    <a:pt x="350" y="598"/>
                  </a:lnTo>
                  <a:lnTo>
                    <a:pt x="328" y="592"/>
                  </a:lnTo>
                  <a:lnTo>
                    <a:pt x="314" y="582"/>
                  </a:lnTo>
                  <a:lnTo>
                    <a:pt x="296" y="580"/>
                  </a:lnTo>
                  <a:lnTo>
                    <a:pt x="312" y="594"/>
                  </a:lnTo>
                  <a:lnTo>
                    <a:pt x="324" y="604"/>
                  </a:lnTo>
                  <a:lnTo>
                    <a:pt x="340" y="610"/>
                  </a:lnTo>
                  <a:lnTo>
                    <a:pt x="348" y="616"/>
                  </a:lnTo>
                  <a:lnTo>
                    <a:pt x="338" y="624"/>
                  </a:lnTo>
                  <a:lnTo>
                    <a:pt x="336" y="636"/>
                  </a:lnTo>
                  <a:lnTo>
                    <a:pt x="328" y="636"/>
                  </a:lnTo>
                  <a:lnTo>
                    <a:pt x="322" y="650"/>
                  </a:lnTo>
                  <a:lnTo>
                    <a:pt x="308" y="648"/>
                  </a:lnTo>
                  <a:lnTo>
                    <a:pt x="294" y="644"/>
                  </a:lnTo>
                  <a:lnTo>
                    <a:pt x="266" y="646"/>
                  </a:lnTo>
                  <a:lnTo>
                    <a:pt x="228" y="638"/>
                  </a:lnTo>
                  <a:lnTo>
                    <a:pt x="200" y="636"/>
                  </a:lnTo>
                  <a:lnTo>
                    <a:pt x="166" y="626"/>
                  </a:lnTo>
                  <a:lnTo>
                    <a:pt x="134" y="628"/>
                  </a:lnTo>
                  <a:lnTo>
                    <a:pt x="104" y="642"/>
                  </a:lnTo>
                  <a:lnTo>
                    <a:pt x="80" y="642"/>
                  </a:lnTo>
                  <a:lnTo>
                    <a:pt x="94" y="632"/>
                  </a:lnTo>
                  <a:lnTo>
                    <a:pt x="98" y="626"/>
                  </a:lnTo>
                  <a:lnTo>
                    <a:pt x="86" y="626"/>
                  </a:lnTo>
                  <a:lnTo>
                    <a:pt x="82" y="616"/>
                  </a:lnTo>
                  <a:lnTo>
                    <a:pt x="86" y="608"/>
                  </a:lnTo>
                  <a:lnTo>
                    <a:pt x="108" y="594"/>
                  </a:lnTo>
                  <a:lnTo>
                    <a:pt x="122" y="594"/>
                  </a:lnTo>
                  <a:lnTo>
                    <a:pt x="140" y="586"/>
                  </a:lnTo>
                  <a:lnTo>
                    <a:pt x="136" y="582"/>
                  </a:lnTo>
                  <a:lnTo>
                    <a:pt x="120" y="578"/>
                  </a:lnTo>
                  <a:lnTo>
                    <a:pt x="116" y="584"/>
                  </a:lnTo>
                  <a:lnTo>
                    <a:pt x="98" y="586"/>
                  </a:lnTo>
                  <a:lnTo>
                    <a:pt x="86" y="598"/>
                  </a:lnTo>
                  <a:lnTo>
                    <a:pt x="48" y="598"/>
                  </a:lnTo>
                  <a:lnTo>
                    <a:pt x="40" y="590"/>
                  </a:lnTo>
                  <a:lnTo>
                    <a:pt x="18" y="584"/>
                  </a:lnTo>
                  <a:lnTo>
                    <a:pt x="4" y="57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82200" y="2678400"/>
              <a:ext cx="20160" cy="1368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2" y="12"/>
                  </a:moveTo>
                  <a:lnTo>
                    <a:pt x="0" y="8"/>
                  </a:lnTo>
                  <a:lnTo>
                    <a:pt x="22" y="0"/>
                  </a:lnTo>
                  <a:lnTo>
                    <a:pt x="40" y="4"/>
                  </a:lnTo>
                  <a:lnTo>
                    <a:pt x="60" y="14"/>
                  </a:lnTo>
                  <a:lnTo>
                    <a:pt x="62" y="8"/>
                  </a:lnTo>
                  <a:lnTo>
                    <a:pt x="92" y="26"/>
                  </a:lnTo>
                  <a:lnTo>
                    <a:pt x="98" y="36"/>
                  </a:lnTo>
                  <a:lnTo>
                    <a:pt x="102" y="48"/>
                  </a:lnTo>
                  <a:lnTo>
                    <a:pt x="100" y="52"/>
                  </a:lnTo>
                  <a:lnTo>
                    <a:pt x="106" y="62"/>
                  </a:lnTo>
                  <a:lnTo>
                    <a:pt x="116" y="74"/>
                  </a:lnTo>
                  <a:lnTo>
                    <a:pt x="112" y="76"/>
                  </a:lnTo>
                  <a:lnTo>
                    <a:pt x="88" y="54"/>
                  </a:lnTo>
                  <a:lnTo>
                    <a:pt x="70" y="42"/>
                  </a:lnTo>
                  <a:lnTo>
                    <a:pt x="52" y="24"/>
                  </a:lnTo>
                  <a:lnTo>
                    <a:pt x="12" y="18"/>
                  </a:lnTo>
                  <a:lnTo>
                    <a:pt x="2" y="1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040" bIns="-320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42960" y="2733840"/>
              <a:ext cx="35640" cy="24120"/>
            </a:xfrm>
            <a:custGeom>
              <a:avLst/>
              <a:gdLst/>
              <a:ahLst/>
              <a:rect l="l" t="t" r="r" b="b"/>
              <a:pathLst>
                <a:path w="208" h="138">
                  <a:moveTo>
                    <a:pt x="20" y="10"/>
                  </a:moveTo>
                  <a:lnTo>
                    <a:pt x="24" y="6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152" y="36"/>
                  </a:lnTo>
                  <a:lnTo>
                    <a:pt x="170" y="52"/>
                  </a:lnTo>
                  <a:lnTo>
                    <a:pt x="178" y="52"/>
                  </a:lnTo>
                  <a:lnTo>
                    <a:pt x="170" y="32"/>
                  </a:lnTo>
                  <a:lnTo>
                    <a:pt x="184" y="48"/>
                  </a:lnTo>
                  <a:lnTo>
                    <a:pt x="204" y="64"/>
                  </a:lnTo>
                  <a:lnTo>
                    <a:pt x="208" y="80"/>
                  </a:lnTo>
                  <a:lnTo>
                    <a:pt x="190" y="64"/>
                  </a:lnTo>
                  <a:lnTo>
                    <a:pt x="176" y="78"/>
                  </a:lnTo>
                  <a:lnTo>
                    <a:pt x="154" y="112"/>
                  </a:lnTo>
                  <a:lnTo>
                    <a:pt x="134" y="120"/>
                  </a:lnTo>
                  <a:lnTo>
                    <a:pt x="118" y="122"/>
                  </a:lnTo>
                  <a:lnTo>
                    <a:pt x="108" y="134"/>
                  </a:lnTo>
                  <a:lnTo>
                    <a:pt x="90" y="136"/>
                  </a:lnTo>
                  <a:lnTo>
                    <a:pt x="78" y="128"/>
                  </a:lnTo>
                  <a:lnTo>
                    <a:pt x="76" y="138"/>
                  </a:lnTo>
                  <a:lnTo>
                    <a:pt x="58" y="130"/>
                  </a:lnTo>
                  <a:lnTo>
                    <a:pt x="40" y="116"/>
                  </a:lnTo>
                  <a:lnTo>
                    <a:pt x="30" y="116"/>
                  </a:lnTo>
                  <a:lnTo>
                    <a:pt x="34" y="130"/>
                  </a:lnTo>
                  <a:lnTo>
                    <a:pt x="42" y="138"/>
                  </a:lnTo>
                  <a:lnTo>
                    <a:pt x="26" y="128"/>
                  </a:lnTo>
                  <a:lnTo>
                    <a:pt x="16" y="116"/>
                  </a:lnTo>
                  <a:lnTo>
                    <a:pt x="16" y="102"/>
                  </a:lnTo>
                  <a:lnTo>
                    <a:pt x="2" y="62"/>
                  </a:lnTo>
                  <a:lnTo>
                    <a:pt x="0" y="46"/>
                  </a:lnTo>
                  <a:lnTo>
                    <a:pt x="12" y="20"/>
                  </a:lnTo>
                  <a:lnTo>
                    <a:pt x="20" y="1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600" bIns="-21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299200" y="2700000"/>
              <a:ext cx="40320" cy="19800"/>
            </a:xfrm>
            <a:custGeom>
              <a:avLst/>
              <a:gdLst/>
              <a:ahLst/>
              <a:rect l="l" t="t" r="r" b="b"/>
              <a:pathLst>
                <a:path w="234" h="120">
                  <a:moveTo>
                    <a:pt x="48" y="78"/>
                  </a:moveTo>
                  <a:lnTo>
                    <a:pt x="44" y="78"/>
                  </a:lnTo>
                  <a:lnTo>
                    <a:pt x="24" y="58"/>
                  </a:lnTo>
                  <a:lnTo>
                    <a:pt x="20" y="52"/>
                  </a:lnTo>
                  <a:lnTo>
                    <a:pt x="10" y="48"/>
                  </a:lnTo>
                  <a:lnTo>
                    <a:pt x="0" y="38"/>
                  </a:lnTo>
                  <a:lnTo>
                    <a:pt x="18" y="42"/>
                  </a:lnTo>
                  <a:lnTo>
                    <a:pt x="34" y="40"/>
                  </a:lnTo>
                  <a:lnTo>
                    <a:pt x="4" y="28"/>
                  </a:lnTo>
                  <a:lnTo>
                    <a:pt x="10" y="26"/>
                  </a:lnTo>
                  <a:lnTo>
                    <a:pt x="14" y="16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52" y="16"/>
                  </a:lnTo>
                  <a:lnTo>
                    <a:pt x="72" y="22"/>
                  </a:lnTo>
                  <a:lnTo>
                    <a:pt x="90" y="36"/>
                  </a:lnTo>
                  <a:lnTo>
                    <a:pt x="122" y="44"/>
                  </a:lnTo>
                  <a:lnTo>
                    <a:pt x="154" y="58"/>
                  </a:lnTo>
                  <a:lnTo>
                    <a:pt x="222" y="94"/>
                  </a:lnTo>
                  <a:lnTo>
                    <a:pt x="234" y="104"/>
                  </a:lnTo>
                  <a:lnTo>
                    <a:pt x="228" y="120"/>
                  </a:lnTo>
                  <a:lnTo>
                    <a:pt x="212" y="114"/>
                  </a:lnTo>
                  <a:lnTo>
                    <a:pt x="198" y="114"/>
                  </a:lnTo>
                  <a:lnTo>
                    <a:pt x="192" y="120"/>
                  </a:lnTo>
                  <a:lnTo>
                    <a:pt x="174" y="120"/>
                  </a:lnTo>
                  <a:lnTo>
                    <a:pt x="146" y="112"/>
                  </a:lnTo>
                  <a:lnTo>
                    <a:pt x="146" y="102"/>
                  </a:lnTo>
                  <a:lnTo>
                    <a:pt x="126" y="96"/>
                  </a:lnTo>
                  <a:lnTo>
                    <a:pt x="108" y="96"/>
                  </a:lnTo>
                  <a:lnTo>
                    <a:pt x="72" y="84"/>
                  </a:lnTo>
                  <a:lnTo>
                    <a:pt x="86" y="96"/>
                  </a:lnTo>
                  <a:lnTo>
                    <a:pt x="106" y="108"/>
                  </a:lnTo>
                  <a:lnTo>
                    <a:pt x="106" y="114"/>
                  </a:lnTo>
                  <a:lnTo>
                    <a:pt x="80" y="96"/>
                  </a:lnTo>
                  <a:lnTo>
                    <a:pt x="48" y="7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920" bIns="-2592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5397480" y="2378160"/>
              <a:ext cx="2413800" cy="890280"/>
              <a:chOff x="5397480" y="2378160"/>
              <a:chExt cx="2413800" cy="890280"/>
            </a:xfrm>
          </p:grpSpPr>
          <p:sp>
            <p:nvSpPr>
              <p:cNvPr id="853" name=""/>
              <p:cNvSpPr/>
              <p:nvPr/>
            </p:nvSpPr>
            <p:spPr>
              <a:xfrm>
                <a:off x="7095240" y="3021480"/>
                <a:ext cx="237960" cy="246960"/>
              </a:xfrm>
              <a:custGeom>
                <a:avLst/>
                <a:gdLst/>
                <a:ahLst/>
                <a:rect l="l" t="t" r="r" b="b"/>
                <a:pathLst>
                  <a:path w="1370" h="1442">
                    <a:moveTo>
                      <a:pt x="14" y="4"/>
                    </a:moveTo>
                    <a:lnTo>
                      <a:pt x="18" y="0"/>
                    </a:lnTo>
                    <a:lnTo>
                      <a:pt x="36" y="4"/>
                    </a:lnTo>
                    <a:lnTo>
                      <a:pt x="80" y="34"/>
                    </a:lnTo>
                    <a:lnTo>
                      <a:pt x="152" y="102"/>
                    </a:lnTo>
                    <a:lnTo>
                      <a:pt x="192" y="136"/>
                    </a:lnTo>
                    <a:lnTo>
                      <a:pt x="274" y="194"/>
                    </a:lnTo>
                    <a:lnTo>
                      <a:pt x="338" y="250"/>
                    </a:lnTo>
                    <a:lnTo>
                      <a:pt x="378" y="290"/>
                    </a:lnTo>
                    <a:lnTo>
                      <a:pt x="408" y="332"/>
                    </a:lnTo>
                    <a:lnTo>
                      <a:pt x="404" y="342"/>
                    </a:lnTo>
                    <a:lnTo>
                      <a:pt x="438" y="376"/>
                    </a:lnTo>
                    <a:lnTo>
                      <a:pt x="478" y="410"/>
                    </a:lnTo>
                    <a:lnTo>
                      <a:pt x="508" y="438"/>
                    </a:lnTo>
                    <a:lnTo>
                      <a:pt x="532" y="466"/>
                    </a:lnTo>
                    <a:lnTo>
                      <a:pt x="538" y="462"/>
                    </a:lnTo>
                    <a:lnTo>
                      <a:pt x="578" y="492"/>
                    </a:lnTo>
                    <a:lnTo>
                      <a:pt x="612" y="522"/>
                    </a:lnTo>
                    <a:lnTo>
                      <a:pt x="622" y="530"/>
                    </a:lnTo>
                    <a:lnTo>
                      <a:pt x="736" y="626"/>
                    </a:lnTo>
                    <a:lnTo>
                      <a:pt x="890" y="748"/>
                    </a:lnTo>
                    <a:lnTo>
                      <a:pt x="928" y="784"/>
                    </a:lnTo>
                    <a:lnTo>
                      <a:pt x="976" y="822"/>
                    </a:lnTo>
                    <a:lnTo>
                      <a:pt x="1012" y="852"/>
                    </a:lnTo>
                    <a:lnTo>
                      <a:pt x="1052" y="878"/>
                    </a:lnTo>
                    <a:lnTo>
                      <a:pt x="1098" y="902"/>
                    </a:lnTo>
                    <a:lnTo>
                      <a:pt x="1120" y="922"/>
                    </a:lnTo>
                    <a:lnTo>
                      <a:pt x="1020" y="864"/>
                    </a:lnTo>
                    <a:lnTo>
                      <a:pt x="976" y="848"/>
                    </a:lnTo>
                    <a:lnTo>
                      <a:pt x="932" y="836"/>
                    </a:lnTo>
                    <a:lnTo>
                      <a:pt x="898" y="834"/>
                    </a:lnTo>
                    <a:lnTo>
                      <a:pt x="878" y="842"/>
                    </a:lnTo>
                    <a:lnTo>
                      <a:pt x="870" y="866"/>
                    </a:lnTo>
                    <a:lnTo>
                      <a:pt x="894" y="904"/>
                    </a:lnTo>
                    <a:lnTo>
                      <a:pt x="916" y="938"/>
                    </a:lnTo>
                    <a:lnTo>
                      <a:pt x="934" y="976"/>
                    </a:lnTo>
                    <a:lnTo>
                      <a:pt x="986" y="1062"/>
                    </a:lnTo>
                    <a:lnTo>
                      <a:pt x="1012" y="1102"/>
                    </a:lnTo>
                    <a:lnTo>
                      <a:pt x="1048" y="1142"/>
                    </a:lnTo>
                    <a:lnTo>
                      <a:pt x="1092" y="1174"/>
                    </a:lnTo>
                    <a:lnTo>
                      <a:pt x="1162" y="1214"/>
                    </a:lnTo>
                    <a:lnTo>
                      <a:pt x="1188" y="1242"/>
                    </a:lnTo>
                    <a:lnTo>
                      <a:pt x="1212" y="1260"/>
                    </a:lnTo>
                    <a:lnTo>
                      <a:pt x="1236" y="1272"/>
                    </a:lnTo>
                    <a:lnTo>
                      <a:pt x="1262" y="1282"/>
                    </a:lnTo>
                    <a:lnTo>
                      <a:pt x="1264" y="1276"/>
                    </a:lnTo>
                    <a:lnTo>
                      <a:pt x="1276" y="1284"/>
                    </a:lnTo>
                    <a:lnTo>
                      <a:pt x="1336" y="1342"/>
                    </a:lnTo>
                    <a:lnTo>
                      <a:pt x="1360" y="1376"/>
                    </a:lnTo>
                    <a:lnTo>
                      <a:pt x="1370" y="1404"/>
                    </a:lnTo>
                    <a:lnTo>
                      <a:pt x="1290" y="1324"/>
                    </a:lnTo>
                    <a:lnTo>
                      <a:pt x="1216" y="1304"/>
                    </a:lnTo>
                    <a:lnTo>
                      <a:pt x="1188" y="1306"/>
                    </a:lnTo>
                    <a:lnTo>
                      <a:pt x="1188" y="1334"/>
                    </a:lnTo>
                    <a:lnTo>
                      <a:pt x="1228" y="1408"/>
                    </a:lnTo>
                    <a:lnTo>
                      <a:pt x="1242" y="1442"/>
                    </a:lnTo>
                    <a:lnTo>
                      <a:pt x="1204" y="1430"/>
                    </a:lnTo>
                    <a:lnTo>
                      <a:pt x="1156" y="1376"/>
                    </a:lnTo>
                    <a:lnTo>
                      <a:pt x="1112" y="1324"/>
                    </a:lnTo>
                    <a:lnTo>
                      <a:pt x="1048" y="1230"/>
                    </a:lnTo>
                    <a:lnTo>
                      <a:pt x="956" y="1106"/>
                    </a:lnTo>
                    <a:lnTo>
                      <a:pt x="950" y="1080"/>
                    </a:lnTo>
                    <a:lnTo>
                      <a:pt x="920" y="1048"/>
                    </a:lnTo>
                    <a:lnTo>
                      <a:pt x="874" y="1014"/>
                    </a:lnTo>
                    <a:lnTo>
                      <a:pt x="822" y="968"/>
                    </a:lnTo>
                    <a:lnTo>
                      <a:pt x="786" y="926"/>
                    </a:lnTo>
                    <a:lnTo>
                      <a:pt x="768" y="894"/>
                    </a:lnTo>
                    <a:lnTo>
                      <a:pt x="712" y="814"/>
                    </a:lnTo>
                    <a:lnTo>
                      <a:pt x="658" y="752"/>
                    </a:lnTo>
                    <a:lnTo>
                      <a:pt x="662" y="746"/>
                    </a:lnTo>
                    <a:lnTo>
                      <a:pt x="646" y="736"/>
                    </a:lnTo>
                    <a:lnTo>
                      <a:pt x="626" y="712"/>
                    </a:lnTo>
                    <a:lnTo>
                      <a:pt x="598" y="682"/>
                    </a:lnTo>
                    <a:lnTo>
                      <a:pt x="570" y="660"/>
                    </a:lnTo>
                    <a:lnTo>
                      <a:pt x="538" y="624"/>
                    </a:lnTo>
                    <a:lnTo>
                      <a:pt x="490" y="558"/>
                    </a:lnTo>
                    <a:lnTo>
                      <a:pt x="468" y="534"/>
                    </a:lnTo>
                    <a:lnTo>
                      <a:pt x="408" y="490"/>
                    </a:lnTo>
                    <a:lnTo>
                      <a:pt x="372" y="472"/>
                    </a:lnTo>
                    <a:lnTo>
                      <a:pt x="348" y="462"/>
                    </a:lnTo>
                    <a:lnTo>
                      <a:pt x="338" y="450"/>
                    </a:lnTo>
                    <a:lnTo>
                      <a:pt x="314" y="428"/>
                    </a:lnTo>
                    <a:lnTo>
                      <a:pt x="274" y="390"/>
                    </a:lnTo>
                    <a:lnTo>
                      <a:pt x="242" y="358"/>
                    </a:lnTo>
                    <a:lnTo>
                      <a:pt x="210" y="300"/>
                    </a:lnTo>
                    <a:lnTo>
                      <a:pt x="154" y="238"/>
                    </a:lnTo>
                    <a:lnTo>
                      <a:pt x="124" y="206"/>
                    </a:lnTo>
                    <a:lnTo>
                      <a:pt x="98" y="184"/>
                    </a:lnTo>
                    <a:lnTo>
                      <a:pt x="86" y="160"/>
                    </a:lnTo>
                    <a:lnTo>
                      <a:pt x="96" y="148"/>
                    </a:lnTo>
                    <a:lnTo>
                      <a:pt x="110" y="150"/>
                    </a:lnTo>
                    <a:lnTo>
                      <a:pt x="136" y="160"/>
                    </a:lnTo>
                    <a:lnTo>
                      <a:pt x="154" y="156"/>
                    </a:lnTo>
                    <a:lnTo>
                      <a:pt x="148" y="144"/>
                    </a:lnTo>
                    <a:lnTo>
                      <a:pt x="134" y="134"/>
                    </a:lnTo>
                    <a:lnTo>
                      <a:pt x="124" y="118"/>
                    </a:lnTo>
                    <a:lnTo>
                      <a:pt x="134" y="118"/>
                    </a:lnTo>
                    <a:lnTo>
                      <a:pt x="134" y="112"/>
                    </a:lnTo>
                    <a:lnTo>
                      <a:pt x="102" y="90"/>
                    </a:lnTo>
                    <a:lnTo>
                      <a:pt x="64" y="60"/>
                    </a:lnTo>
                    <a:lnTo>
                      <a:pt x="14" y="30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efeb57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2c5d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5397480" y="2378160"/>
                <a:ext cx="2413800" cy="775440"/>
                <a:chOff x="5397480" y="2378160"/>
                <a:chExt cx="2413800" cy="77544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7642800" y="29750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98" h="40">
                      <a:moveTo>
                        <a:pt x="6" y="20"/>
                      </a:moveTo>
                      <a:lnTo>
                        <a:pt x="0" y="20"/>
                      </a:lnTo>
                      <a:lnTo>
                        <a:pt x="10" y="10"/>
                      </a:lnTo>
                      <a:lnTo>
                        <a:pt x="6" y="2"/>
                      </a:lnTo>
                      <a:lnTo>
                        <a:pt x="28" y="2"/>
                      </a:lnTo>
                      <a:lnTo>
                        <a:pt x="34" y="0"/>
                      </a:lnTo>
                      <a:lnTo>
                        <a:pt x="56" y="0"/>
                      </a:lnTo>
                      <a:lnTo>
                        <a:pt x="66" y="8"/>
                      </a:lnTo>
                      <a:lnTo>
                        <a:pt x="74" y="4"/>
                      </a:lnTo>
                      <a:lnTo>
                        <a:pt x="98" y="14"/>
                      </a:lnTo>
                      <a:lnTo>
                        <a:pt x="98" y="26"/>
                      </a:lnTo>
                      <a:lnTo>
                        <a:pt x="86" y="32"/>
                      </a:lnTo>
                      <a:lnTo>
                        <a:pt x="84" y="40"/>
                      </a:lnTo>
                      <a:lnTo>
                        <a:pt x="70" y="34"/>
                      </a:lnTo>
                      <a:lnTo>
                        <a:pt x="60" y="30"/>
                      </a:lnTo>
                      <a:lnTo>
                        <a:pt x="46" y="18"/>
                      </a:lnTo>
                      <a:lnTo>
                        <a:pt x="44" y="24"/>
                      </a:lnTo>
                      <a:lnTo>
                        <a:pt x="24" y="24"/>
                      </a:lnTo>
                      <a:lnTo>
                        <a:pt x="8" y="22"/>
                      </a:lnTo>
                      <a:lnTo>
                        <a:pt x="6" y="2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754400" y="29826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46" h="66">
                      <a:moveTo>
                        <a:pt x="6" y="10"/>
                      </a:moveTo>
                      <a:lnTo>
                        <a:pt x="0" y="0"/>
                      </a:lnTo>
                      <a:lnTo>
                        <a:pt x="26" y="20"/>
                      </a:lnTo>
                      <a:lnTo>
                        <a:pt x="38" y="34"/>
                      </a:lnTo>
                      <a:lnTo>
                        <a:pt x="46" y="38"/>
                      </a:lnTo>
                      <a:lnTo>
                        <a:pt x="34" y="48"/>
                      </a:lnTo>
                      <a:lnTo>
                        <a:pt x="42" y="66"/>
                      </a:lnTo>
                      <a:lnTo>
                        <a:pt x="22" y="54"/>
                      </a:lnTo>
                      <a:lnTo>
                        <a:pt x="18" y="26"/>
                      </a:lnTo>
                      <a:lnTo>
                        <a:pt x="6" y="1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788240" y="2991960"/>
                  <a:ext cx="23040" cy="7920"/>
                </a:xfrm>
                <a:custGeom>
                  <a:avLst/>
                  <a:gdLst/>
                  <a:ahLst/>
                  <a:rect l="l" t="t" r="r" b="b"/>
                  <a:pathLst>
                    <a:path w="134" h="42">
                      <a:moveTo>
                        <a:pt x="4" y="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34" y="6"/>
                      </a:lnTo>
                      <a:lnTo>
                        <a:pt x="90" y="24"/>
                      </a:lnTo>
                      <a:lnTo>
                        <a:pt x="118" y="28"/>
                      </a:lnTo>
                      <a:lnTo>
                        <a:pt x="134" y="38"/>
                      </a:lnTo>
                      <a:lnTo>
                        <a:pt x="124" y="42"/>
                      </a:lnTo>
                      <a:lnTo>
                        <a:pt x="110" y="40"/>
                      </a:lnTo>
                      <a:lnTo>
                        <a:pt x="50" y="20"/>
                      </a:lnTo>
                      <a:lnTo>
                        <a:pt x="10" y="10"/>
                      </a:lnTo>
                      <a:lnTo>
                        <a:pt x="4" y="4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790040" y="2980440"/>
                  <a:ext cx="6480" cy="3600"/>
                </a:xfrm>
                <a:custGeom>
                  <a:avLst/>
                  <a:gdLst/>
                  <a:ahLst/>
                  <a:rect l="l" t="t" r="r" b="b"/>
                  <a:pathLst>
                    <a:path w="38" h="24">
                      <a:moveTo>
                        <a:pt x="0" y="0"/>
                      </a:moveTo>
                      <a:lnTo>
                        <a:pt x="22" y="6"/>
                      </a:lnTo>
                      <a:lnTo>
                        <a:pt x="32" y="12"/>
                      </a:lnTo>
                      <a:lnTo>
                        <a:pt x="38" y="22"/>
                      </a:lnTo>
                      <a:lnTo>
                        <a:pt x="28" y="24"/>
                      </a:lnTo>
                      <a:lnTo>
                        <a:pt x="1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013880" y="2491560"/>
                  <a:ext cx="25560" cy="18360"/>
                </a:xfrm>
                <a:custGeom>
                  <a:avLst/>
                  <a:gdLst/>
                  <a:ahLst/>
                  <a:rect l="l" t="t" r="r" b="b"/>
                  <a:pathLst>
                    <a:path w="152" h="104">
                      <a:moveTo>
                        <a:pt x="152" y="70"/>
                      </a:moveTo>
                      <a:lnTo>
                        <a:pt x="142" y="70"/>
                      </a:lnTo>
                      <a:lnTo>
                        <a:pt x="140" y="76"/>
                      </a:lnTo>
                      <a:lnTo>
                        <a:pt x="142" y="82"/>
                      </a:lnTo>
                      <a:lnTo>
                        <a:pt x="152" y="90"/>
                      </a:lnTo>
                      <a:lnTo>
                        <a:pt x="128" y="98"/>
                      </a:lnTo>
                      <a:lnTo>
                        <a:pt x="118" y="94"/>
                      </a:lnTo>
                      <a:lnTo>
                        <a:pt x="106" y="104"/>
                      </a:lnTo>
                      <a:lnTo>
                        <a:pt x="92" y="98"/>
                      </a:lnTo>
                      <a:lnTo>
                        <a:pt x="54" y="90"/>
                      </a:lnTo>
                      <a:lnTo>
                        <a:pt x="34" y="82"/>
                      </a:lnTo>
                      <a:lnTo>
                        <a:pt x="20" y="72"/>
                      </a:lnTo>
                      <a:lnTo>
                        <a:pt x="24" y="66"/>
                      </a:lnTo>
                      <a:lnTo>
                        <a:pt x="10" y="56"/>
                      </a:lnTo>
                      <a:lnTo>
                        <a:pt x="8" y="38"/>
                      </a:lnTo>
                      <a:lnTo>
                        <a:pt x="2" y="30"/>
                      </a:lnTo>
                      <a:lnTo>
                        <a:pt x="0" y="16"/>
                      </a:lnTo>
                      <a:lnTo>
                        <a:pt x="8" y="14"/>
                      </a:lnTo>
                      <a:lnTo>
                        <a:pt x="0" y="6"/>
                      </a:lnTo>
                      <a:lnTo>
                        <a:pt x="12" y="0"/>
                      </a:lnTo>
                      <a:lnTo>
                        <a:pt x="152" y="70"/>
                      </a:lnTo>
                      <a:close/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986160" y="301104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104" h="94">
                      <a:moveTo>
                        <a:pt x="30" y="70"/>
                      </a:moveTo>
                      <a:lnTo>
                        <a:pt x="40" y="86"/>
                      </a:lnTo>
                      <a:lnTo>
                        <a:pt x="36" y="70"/>
                      </a:lnTo>
                      <a:lnTo>
                        <a:pt x="58" y="78"/>
                      </a:lnTo>
                      <a:lnTo>
                        <a:pt x="86" y="92"/>
                      </a:lnTo>
                      <a:lnTo>
                        <a:pt x="102" y="94"/>
                      </a:lnTo>
                      <a:lnTo>
                        <a:pt x="104" y="78"/>
                      </a:lnTo>
                      <a:lnTo>
                        <a:pt x="100" y="62"/>
                      </a:lnTo>
                      <a:lnTo>
                        <a:pt x="82" y="36"/>
                      </a:lnTo>
                      <a:lnTo>
                        <a:pt x="80" y="22"/>
                      </a:lnTo>
                      <a:lnTo>
                        <a:pt x="46" y="8"/>
                      </a:lnTo>
                      <a:lnTo>
                        <a:pt x="0" y="0"/>
                      </a:lnTo>
                      <a:lnTo>
                        <a:pt x="28" y="46"/>
                      </a:lnTo>
                      <a:lnTo>
                        <a:pt x="30" y="7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296480" y="2830680"/>
                  <a:ext cx="16200" cy="226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24" y="2"/>
                      </a:moveTo>
                      <a:lnTo>
                        <a:pt x="28" y="16"/>
                      </a:lnTo>
                      <a:lnTo>
                        <a:pt x="0" y="38"/>
                      </a:lnTo>
                      <a:lnTo>
                        <a:pt x="4" y="50"/>
                      </a:lnTo>
                      <a:lnTo>
                        <a:pt x="20" y="50"/>
                      </a:lnTo>
                      <a:lnTo>
                        <a:pt x="42" y="74"/>
                      </a:lnTo>
                      <a:lnTo>
                        <a:pt x="82" y="134"/>
                      </a:lnTo>
                      <a:lnTo>
                        <a:pt x="78" y="96"/>
                      </a:lnTo>
                      <a:lnTo>
                        <a:pt x="80" y="72"/>
                      </a:lnTo>
                      <a:lnTo>
                        <a:pt x="96" y="54"/>
                      </a:lnTo>
                      <a:lnTo>
                        <a:pt x="90" y="34"/>
                      </a:lnTo>
                      <a:lnTo>
                        <a:pt x="54" y="10"/>
                      </a:lnTo>
                      <a:lnTo>
                        <a:pt x="32" y="0"/>
                      </a:lnTo>
                      <a:lnTo>
                        <a:pt x="24" y="2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443000" y="308556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26" h="44">
                      <a:moveTo>
                        <a:pt x="8" y="10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4" y="36"/>
                      </a:lnTo>
                      <a:lnTo>
                        <a:pt x="14" y="44"/>
                      </a:lnTo>
                      <a:lnTo>
                        <a:pt x="26" y="40"/>
                      </a:lnTo>
                      <a:lnTo>
                        <a:pt x="18" y="22"/>
                      </a:lnTo>
                      <a:lnTo>
                        <a:pt x="8" y="1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440480" y="3091320"/>
                  <a:ext cx="10440" cy="22680"/>
                </a:xfrm>
                <a:custGeom>
                  <a:avLst/>
                  <a:gdLst/>
                  <a:ahLst/>
                  <a:rect l="l" t="t" r="r" b="b"/>
                  <a:pathLst>
                    <a:path w="64" h="130">
                      <a:moveTo>
                        <a:pt x="0" y="0"/>
                      </a:moveTo>
                      <a:lnTo>
                        <a:pt x="2" y="16"/>
                      </a:lnTo>
                      <a:lnTo>
                        <a:pt x="18" y="54"/>
                      </a:lnTo>
                      <a:lnTo>
                        <a:pt x="18" y="66"/>
                      </a:lnTo>
                      <a:lnTo>
                        <a:pt x="8" y="72"/>
                      </a:lnTo>
                      <a:lnTo>
                        <a:pt x="8" y="86"/>
                      </a:lnTo>
                      <a:lnTo>
                        <a:pt x="0" y="86"/>
                      </a:lnTo>
                      <a:lnTo>
                        <a:pt x="2" y="98"/>
                      </a:lnTo>
                      <a:lnTo>
                        <a:pt x="32" y="126"/>
                      </a:lnTo>
                      <a:lnTo>
                        <a:pt x="44" y="130"/>
                      </a:lnTo>
                      <a:lnTo>
                        <a:pt x="50" y="98"/>
                      </a:lnTo>
                      <a:lnTo>
                        <a:pt x="64" y="90"/>
                      </a:lnTo>
                      <a:lnTo>
                        <a:pt x="58" y="66"/>
                      </a:lnTo>
                      <a:lnTo>
                        <a:pt x="50" y="50"/>
                      </a:lnTo>
                      <a:lnTo>
                        <a:pt x="46" y="32"/>
                      </a:lnTo>
                      <a:lnTo>
                        <a:pt x="28" y="14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49840" y="312552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38" h="60">
                      <a:moveTo>
                        <a:pt x="0" y="0"/>
                      </a:moveTo>
                      <a:lnTo>
                        <a:pt x="22" y="46"/>
                      </a:lnTo>
                      <a:lnTo>
                        <a:pt x="32" y="60"/>
                      </a:lnTo>
                      <a:lnTo>
                        <a:pt x="38" y="50"/>
                      </a:lnTo>
                      <a:lnTo>
                        <a:pt x="24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459560" y="3150000"/>
                  <a:ext cx="3960" cy="360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0"/>
                      </a:moveTo>
                      <a:lnTo>
                        <a:pt x="16" y="28"/>
                      </a:lnTo>
                      <a:lnTo>
                        <a:pt x="20" y="18"/>
                      </a:lnTo>
                      <a:lnTo>
                        <a:pt x="1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458120" y="2932200"/>
                  <a:ext cx="30960" cy="14400"/>
                </a:xfrm>
                <a:custGeom>
                  <a:avLst/>
                  <a:gdLst/>
                  <a:ahLst/>
                  <a:rect l="l" t="t" r="r" b="b"/>
                  <a:pathLst>
                    <a:path w="184" h="92">
                      <a:moveTo>
                        <a:pt x="12" y="0"/>
                      </a:moveTo>
                      <a:lnTo>
                        <a:pt x="40" y="2"/>
                      </a:lnTo>
                      <a:lnTo>
                        <a:pt x="40" y="4"/>
                      </a:lnTo>
                      <a:lnTo>
                        <a:pt x="56" y="16"/>
                      </a:lnTo>
                      <a:lnTo>
                        <a:pt x="70" y="24"/>
                      </a:lnTo>
                      <a:lnTo>
                        <a:pt x="82" y="30"/>
                      </a:lnTo>
                      <a:lnTo>
                        <a:pt x="94" y="40"/>
                      </a:lnTo>
                      <a:lnTo>
                        <a:pt x="118" y="52"/>
                      </a:lnTo>
                      <a:lnTo>
                        <a:pt x="142" y="60"/>
                      </a:lnTo>
                      <a:lnTo>
                        <a:pt x="184" y="82"/>
                      </a:lnTo>
                      <a:lnTo>
                        <a:pt x="180" y="92"/>
                      </a:lnTo>
                      <a:lnTo>
                        <a:pt x="148" y="78"/>
                      </a:lnTo>
                      <a:lnTo>
                        <a:pt x="126" y="72"/>
                      </a:lnTo>
                      <a:lnTo>
                        <a:pt x="48" y="30"/>
                      </a:lnTo>
                      <a:lnTo>
                        <a:pt x="8" y="12"/>
                      </a:lnTo>
                      <a:lnTo>
                        <a:pt x="0" y="4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496280" y="2940120"/>
                  <a:ext cx="21600" cy="7920"/>
                </a:xfrm>
                <a:custGeom>
                  <a:avLst/>
                  <a:gdLst/>
                  <a:ahLst/>
                  <a:rect l="l" t="t" r="r" b="b"/>
                  <a:pathLst>
                    <a:path w="122" h="50">
                      <a:moveTo>
                        <a:pt x="0" y="0"/>
                      </a:moveTo>
                      <a:lnTo>
                        <a:pt x="10" y="2"/>
                      </a:lnTo>
                      <a:lnTo>
                        <a:pt x="60" y="28"/>
                      </a:lnTo>
                      <a:lnTo>
                        <a:pt x="62" y="22"/>
                      </a:lnTo>
                      <a:lnTo>
                        <a:pt x="86" y="30"/>
                      </a:lnTo>
                      <a:lnTo>
                        <a:pt x="122" y="46"/>
                      </a:lnTo>
                      <a:lnTo>
                        <a:pt x="120" y="50"/>
                      </a:lnTo>
                      <a:lnTo>
                        <a:pt x="82" y="32"/>
                      </a:lnTo>
                      <a:lnTo>
                        <a:pt x="60" y="28"/>
                      </a:lnTo>
                      <a:lnTo>
                        <a:pt x="5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397480" y="2396880"/>
                  <a:ext cx="17640" cy="5040"/>
                </a:xfrm>
                <a:custGeom>
                  <a:avLst/>
                  <a:gdLst/>
                  <a:ahLst/>
                  <a:rect l="l" t="t" r="r" b="b"/>
                  <a:pathLst>
                    <a:path w="108" h="26">
                      <a:moveTo>
                        <a:pt x="16" y="6"/>
                      </a:moveTo>
                      <a:lnTo>
                        <a:pt x="28" y="0"/>
                      </a:lnTo>
                      <a:lnTo>
                        <a:pt x="108" y="12"/>
                      </a:lnTo>
                      <a:lnTo>
                        <a:pt x="108" y="14"/>
                      </a:lnTo>
                      <a:lnTo>
                        <a:pt x="100" y="18"/>
                      </a:lnTo>
                      <a:lnTo>
                        <a:pt x="78" y="24"/>
                      </a:lnTo>
                      <a:lnTo>
                        <a:pt x="30" y="26"/>
                      </a:lnTo>
                      <a:lnTo>
                        <a:pt x="6" y="20"/>
                      </a:lnTo>
                      <a:lnTo>
                        <a:pt x="0" y="14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565960" y="2411280"/>
                  <a:ext cx="39240" cy="10440"/>
                </a:xfrm>
                <a:custGeom>
                  <a:avLst/>
                  <a:gdLst/>
                  <a:ahLst/>
                  <a:rect l="l" t="t" r="r" b="b"/>
                  <a:pathLst>
                    <a:path w="228" h="66">
                      <a:moveTo>
                        <a:pt x="30" y="14"/>
                      </a:moveTo>
                      <a:lnTo>
                        <a:pt x="0" y="6"/>
                      </a:lnTo>
                      <a:lnTo>
                        <a:pt x="30" y="6"/>
                      </a:lnTo>
                      <a:lnTo>
                        <a:pt x="54" y="0"/>
                      </a:lnTo>
                      <a:lnTo>
                        <a:pt x="64" y="4"/>
                      </a:lnTo>
                      <a:lnTo>
                        <a:pt x="90" y="8"/>
                      </a:lnTo>
                      <a:lnTo>
                        <a:pt x="170" y="10"/>
                      </a:lnTo>
                      <a:lnTo>
                        <a:pt x="220" y="18"/>
                      </a:lnTo>
                      <a:lnTo>
                        <a:pt x="228" y="20"/>
                      </a:lnTo>
                      <a:lnTo>
                        <a:pt x="226" y="30"/>
                      </a:lnTo>
                      <a:lnTo>
                        <a:pt x="218" y="32"/>
                      </a:lnTo>
                      <a:lnTo>
                        <a:pt x="198" y="52"/>
                      </a:lnTo>
                      <a:lnTo>
                        <a:pt x="174" y="58"/>
                      </a:lnTo>
                      <a:lnTo>
                        <a:pt x="156" y="56"/>
                      </a:lnTo>
                      <a:lnTo>
                        <a:pt x="144" y="58"/>
                      </a:lnTo>
                      <a:lnTo>
                        <a:pt x="124" y="66"/>
                      </a:lnTo>
                      <a:lnTo>
                        <a:pt x="78" y="58"/>
                      </a:lnTo>
                      <a:lnTo>
                        <a:pt x="76" y="54"/>
                      </a:lnTo>
                      <a:lnTo>
                        <a:pt x="98" y="54"/>
                      </a:lnTo>
                      <a:lnTo>
                        <a:pt x="118" y="58"/>
                      </a:lnTo>
                      <a:lnTo>
                        <a:pt x="126" y="52"/>
                      </a:lnTo>
                      <a:lnTo>
                        <a:pt x="146" y="54"/>
                      </a:lnTo>
                      <a:lnTo>
                        <a:pt x="144" y="50"/>
                      </a:lnTo>
                      <a:lnTo>
                        <a:pt x="114" y="44"/>
                      </a:lnTo>
                      <a:lnTo>
                        <a:pt x="58" y="40"/>
                      </a:lnTo>
                      <a:lnTo>
                        <a:pt x="66" y="36"/>
                      </a:lnTo>
                      <a:lnTo>
                        <a:pt x="52" y="28"/>
                      </a:lnTo>
                      <a:lnTo>
                        <a:pt x="30" y="26"/>
                      </a:lnTo>
                      <a:lnTo>
                        <a:pt x="24" y="20"/>
                      </a:lnTo>
                      <a:lnTo>
                        <a:pt x="30" y="14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521320" y="2381760"/>
                  <a:ext cx="23040" cy="3600"/>
                </a:xfrm>
                <a:custGeom>
                  <a:avLst/>
                  <a:gdLst/>
                  <a:ahLst/>
                  <a:rect l="l" t="t" r="r" b="b"/>
                  <a:pathLst>
                    <a:path w="132" h="28">
                      <a:moveTo>
                        <a:pt x="60" y="0"/>
                      </a:moveTo>
                      <a:lnTo>
                        <a:pt x="102" y="2"/>
                      </a:lnTo>
                      <a:lnTo>
                        <a:pt x="126" y="8"/>
                      </a:lnTo>
                      <a:lnTo>
                        <a:pt x="132" y="14"/>
                      </a:lnTo>
                      <a:lnTo>
                        <a:pt x="118" y="22"/>
                      </a:lnTo>
                      <a:lnTo>
                        <a:pt x="94" y="28"/>
                      </a:lnTo>
                      <a:lnTo>
                        <a:pt x="52" y="28"/>
                      </a:lnTo>
                      <a:lnTo>
                        <a:pt x="18" y="24"/>
                      </a:lnTo>
                      <a:lnTo>
                        <a:pt x="6" y="18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52" y="4"/>
                      </a:lnTo>
                      <a:lnTo>
                        <a:pt x="60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563080" y="2378160"/>
                  <a:ext cx="77400" cy="33120"/>
                </a:xfrm>
                <a:custGeom>
                  <a:avLst/>
                  <a:gdLst/>
                  <a:ahLst/>
                  <a:rect l="l" t="t" r="r" b="b"/>
                  <a:pathLst>
                    <a:path w="442" h="196">
                      <a:moveTo>
                        <a:pt x="126" y="26"/>
                      </a:moveTo>
                      <a:lnTo>
                        <a:pt x="134" y="16"/>
                      </a:lnTo>
                      <a:lnTo>
                        <a:pt x="116" y="8"/>
                      </a:lnTo>
                      <a:lnTo>
                        <a:pt x="144" y="4"/>
                      </a:lnTo>
                      <a:lnTo>
                        <a:pt x="150" y="0"/>
                      </a:lnTo>
                      <a:lnTo>
                        <a:pt x="192" y="10"/>
                      </a:lnTo>
                      <a:lnTo>
                        <a:pt x="218" y="22"/>
                      </a:lnTo>
                      <a:lnTo>
                        <a:pt x="238" y="28"/>
                      </a:lnTo>
                      <a:lnTo>
                        <a:pt x="262" y="40"/>
                      </a:lnTo>
                      <a:lnTo>
                        <a:pt x="296" y="52"/>
                      </a:lnTo>
                      <a:lnTo>
                        <a:pt x="346" y="62"/>
                      </a:lnTo>
                      <a:lnTo>
                        <a:pt x="354" y="60"/>
                      </a:lnTo>
                      <a:lnTo>
                        <a:pt x="378" y="70"/>
                      </a:lnTo>
                      <a:lnTo>
                        <a:pt x="386" y="78"/>
                      </a:lnTo>
                      <a:lnTo>
                        <a:pt x="402" y="74"/>
                      </a:lnTo>
                      <a:lnTo>
                        <a:pt x="410" y="76"/>
                      </a:lnTo>
                      <a:lnTo>
                        <a:pt x="390" y="84"/>
                      </a:lnTo>
                      <a:lnTo>
                        <a:pt x="390" y="88"/>
                      </a:lnTo>
                      <a:lnTo>
                        <a:pt x="374" y="90"/>
                      </a:lnTo>
                      <a:lnTo>
                        <a:pt x="376" y="96"/>
                      </a:lnTo>
                      <a:lnTo>
                        <a:pt x="382" y="100"/>
                      </a:lnTo>
                      <a:lnTo>
                        <a:pt x="394" y="114"/>
                      </a:lnTo>
                      <a:lnTo>
                        <a:pt x="398" y="122"/>
                      </a:lnTo>
                      <a:lnTo>
                        <a:pt x="416" y="120"/>
                      </a:lnTo>
                      <a:lnTo>
                        <a:pt x="424" y="124"/>
                      </a:lnTo>
                      <a:lnTo>
                        <a:pt x="426" y="130"/>
                      </a:lnTo>
                      <a:lnTo>
                        <a:pt x="436" y="130"/>
                      </a:lnTo>
                      <a:lnTo>
                        <a:pt x="442" y="136"/>
                      </a:lnTo>
                      <a:lnTo>
                        <a:pt x="442" y="140"/>
                      </a:lnTo>
                      <a:lnTo>
                        <a:pt x="436" y="146"/>
                      </a:lnTo>
                      <a:lnTo>
                        <a:pt x="404" y="146"/>
                      </a:lnTo>
                      <a:lnTo>
                        <a:pt x="344" y="154"/>
                      </a:lnTo>
                      <a:lnTo>
                        <a:pt x="290" y="174"/>
                      </a:lnTo>
                      <a:lnTo>
                        <a:pt x="290" y="182"/>
                      </a:lnTo>
                      <a:lnTo>
                        <a:pt x="256" y="188"/>
                      </a:lnTo>
                      <a:lnTo>
                        <a:pt x="246" y="194"/>
                      </a:lnTo>
                      <a:lnTo>
                        <a:pt x="232" y="196"/>
                      </a:lnTo>
                      <a:lnTo>
                        <a:pt x="216" y="194"/>
                      </a:lnTo>
                      <a:lnTo>
                        <a:pt x="202" y="196"/>
                      </a:lnTo>
                      <a:lnTo>
                        <a:pt x="160" y="188"/>
                      </a:lnTo>
                      <a:lnTo>
                        <a:pt x="146" y="180"/>
                      </a:lnTo>
                      <a:lnTo>
                        <a:pt x="108" y="180"/>
                      </a:lnTo>
                      <a:lnTo>
                        <a:pt x="70" y="176"/>
                      </a:lnTo>
                      <a:lnTo>
                        <a:pt x="70" y="168"/>
                      </a:lnTo>
                      <a:lnTo>
                        <a:pt x="74" y="164"/>
                      </a:lnTo>
                      <a:lnTo>
                        <a:pt x="54" y="164"/>
                      </a:lnTo>
                      <a:lnTo>
                        <a:pt x="36" y="160"/>
                      </a:lnTo>
                      <a:lnTo>
                        <a:pt x="20" y="160"/>
                      </a:lnTo>
                      <a:lnTo>
                        <a:pt x="20" y="166"/>
                      </a:lnTo>
                      <a:lnTo>
                        <a:pt x="8" y="170"/>
                      </a:lnTo>
                      <a:lnTo>
                        <a:pt x="0" y="162"/>
                      </a:lnTo>
                      <a:lnTo>
                        <a:pt x="4" y="152"/>
                      </a:lnTo>
                      <a:lnTo>
                        <a:pt x="28" y="148"/>
                      </a:lnTo>
                      <a:lnTo>
                        <a:pt x="30" y="144"/>
                      </a:lnTo>
                      <a:lnTo>
                        <a:pt x="18" y="146"/>
                      </a:lnTo>
                      <a:lnTo>
                        <a:pt x="8" y="140"/>
                      </a:lnTo>
                      <a:lnTo>
                        <a:pt x="32" y="136"/>
                      </a:lnTo>
                      <a:lnTo>
                        <a:pt x="60" y="124"/>
                      </a:lnTo>
                      <a:lnTo>
                        <a:pt x="54" y="120"/>
                      </a:lnTo>
                      <a:lnTo>
                        <a:pt x="56" y="110"/>
                      </a:lnTo>
                      <a:lnTo>
                        <a:pt x="38" y="104"/>
                      </a:lnTo>
                      <a:lnTo>
                        <a:pt x="30" y="106"/>
                      </a:lnTo>
                      <a:lnTo>
                        <a:pt x="20" y="100"/>
                      </a:lnTo>
                      <a:lnTo>
                        <a:pt x="14" y="96"/>
                      </a:lnTo>
                      <a:lnTo>
                        <a:pt x="12" y="86"/>
                      </a:lnTo>
                      <a:lnTo>
                        <a:pt x="34" y="72"/>
                      </a:lnTo>
                      <a:lnTo>
                        <a:pt x="34" y="68"/>
                      </a:lnTo>
                      <a:lnTo>
                        <a:pt x="30" y="62"/>
                      </a:lnTo>
                      <a:lnTo>
                        <a:pt x="68" y="54"/>
                      </a:lnTo>
                      <a:lnTo>
                        <a:pt x="82" y="46"/>
                      </a:lnTo>
                      <a:lnTo>
                        <a:pt x="132" y="44"/>
                      </a:lnTo>
                      <a:lnTo>
                        <a:pt x="136" y="36"/>
                      </a:lnTo>
                      <a:lnTo>
                        <a:pt x="128" y="30"/>
                      </a:lnTo>
                      <a:lnTo>
                        <a:pt x="126" y="26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604120" y="2404800"/>
                  <a:ext cx="109800" cy="36000"/>
                </a:xfrm>
                <a:custGeom>
                  <a:avLst/>
                  <a:gdLst/>
                  <a:ahLst/>
                  <a:rect l="l" t="t" r="r" b="b"/>
                  <a:pathLst>
                    <a:path w="636" h="210">
                      <a:moveTo>
                        <a:pt x="80" y="34"/>
                      </a:moveTo>
                      <a:lnTo>
                        <a:pt x="84" y="32"/>
                      </a:lnTo>
                      <a:lnTo>
                        <a:pt x="76" y="26"/>
                      </a:lnTo>
                      <a:lnTo>
                        <a:pt x="72" y="24"/>
                      </a:lnTo>
                      <a:lnTo>
                        <a:pt x="106" y="30"/>
                      </a:lnTo>
                      <a:lnTo>
                        <a:pt x="114" y="28"/>
                      </a:lnTo>
                      <a:lnTo>
                        <a:pt x="106" y="24"/>
                      </a:lnTo>
                      <a:lnTo>
                        <a:pt x="122" y="16"/>
                      </a:lnTo>
                      <a:lnTo>
                        <a:pt x="200" y="6"/>
                      </a:lnTo>
                      <a:lnTo>
                        <a:pt x="230" y="4"/>
                      </a:lnTo>
                      <a:lnTo>
                        <a:pt x="230" y="2"/>
                      </a:lnTo>
                      <a:lnTo>
                        <a:pt x="246" y="0"/>
                      </a:lnTo>
                      <a:lnTo>
                        <a:pt x="284" y="12"/>
                      </a:lnTo>
                      <a:lnTo>
                        <a:pt x="298" y="12"/>
                      </a:lnTo>
                      <a:lnTo>
                        <a:pt x="318" y="18"/>
                      </a:lnTo>
                      <a:lnTo>
                        <a:pt x="328" y="22"/>
                      </a:lnTo>
                      <a:lnTo>
                        <a:pt x="342" y="38"/>
                      </a:lnTo>
                      <a:lnTo>
                        <a:pt x="316" y="46"/>
                      </a:lnTo>
                      <a:lnTo>
                        <a:pt x="328" y="56"/>
                      </a:lnTo>
                      <a:lnTo>
                        <a:pt x="314" y="56"/>
                      </a:lnTo>
                      <a:lnTo>
                        <a:pt x="284" y="72"/>
                      </a:lnTo>
                      <a:lnTo>
                        <a:pt x="304" y="72"/>
                      </a:lnTo>
                      <a:lnTo>
                        <a:pt x="318" y="62"/>
                      </a:lnTo>
                      <a:lnTo>
                        <a:pt x="336" y="60"/>
                      </a:lnTo>
                      <a:lnTo>
                        <a:pt x="344" y="46"/>
                      </a:lnTo>
                      <a:lnTo>
                        <a:pt x="364" y="36"/>
                      </a:lnTo>
                      <a:lnTo>
                        <a:pt x="352" y="22"/>
                      </a:lnTo>
                      <a:lnTo>
                        <a:pt x="340" y="20"/>
                      </a:lnTo>
                      <a:lnTo>
                        <a:pt x="336" y="16"/>
                      </a:lnTo>
                      <a:lnTo>
                        <a:pt x="342" y="12"/>
                      </a:lnTo>
                      <a:lnTo>
                        <a:pt x="378" y="14"/>
                      </a:lnTo>
                      <a:lnTo>
                        <a:pt x="380" y="18"/>
                      </a:lnTo>
                      <a:lnTo>
                        <a:pt x="388" y="20"/>
                      </a:lnTo>
                      <a:lnTo>
                        <a:pt x="410" y="14"/>
                      </a:lnTo>
                      <a:lnTo>
                        <a:pt x="432" y="18"/>
                      </a:lnTo>
                      <a:lnTo>
                        <a:pt x="440" y="24"/>
                      </a:lnTo>
                      <a:lnTo>
                        <a:pt x="484" y="38"/>
                      </a:lnTo>
                      <a:lnTo>
                        <a:pt x="490" y="44"/>
                      </a:lnTo>
                      <a:lnTo>
                        <a:pt x="496" y="42"/>
                      </a:lnTo>
                      <a:lnTo>
                        <a:pt x="502" y="48"/>
                      </a:lnTo>
                      <a:lnTo>
                        <a:pt x="504" y="56"/>
                      </a:lnTo>
                      <a:lnTo>
                        <a:pt x="512" y="64"/>
                      </a:lnTo>
                      <a:lnTo>
                        <a:pt x="530" y="62"/>
                      </a:lnTo>
                      <a:lnTo>
                        <a:pt x="542" y="64"/>
                      </a:lnTo>
                      <a:lnTo>
                        <a:pt x="522" y="68"/>
                      </a:lnTo>
                      <a:lnTo>
                        <a:pt x="530" y="80"/>
                      </a:lnTo>
                      <a:lnTo>
                        <a:pt x="528" y="86"/>
                      </a:lnTo>
                      <a:lnTo>
                        <a:pt x="534" y="92"/>
                      </a:lnTo>
                      <a:lnTo>
                        <a:pt x="532" y="94"/>
                      </a:lnTo>
                      <a:lnTo>
                        <a:pt x="548" y="108"/>
                      </a:lnTo>
                      <a:lnTo>
                        <a:pt x="564" y="120"/>
                      </a:lnTo>
                      <a:lnTo>
                        <a:pt x="566" y="128"/>
                      </a:lnTo>
                      <a:lnTo>
                        <a:pt x="508" y="122"/>
                      </a:lnTo>
                      <a:lnTo>
                        <a:pt x="522" y="132"/>
                      </a:lnTo>
                      <a:lnTo>
                        <a:pt x="562" y="144"/>
                      </a:lnTo>
                      <a:lnTo>
                        <a:pt x="578" y="146"/>
                      </a:lnTo>
                      <a:lnTo>
                        <a:pt x="582" y="152"/>
                      </a:lnTo>
                      <a:lnTo>
                        <a:pt x="612" y="160"/>
                      </a:lnTo>
                      <a:lnTo>
                        <a:pt x="622" y="170"/>
                      </a:lnTo>
                      <a:lnTo>
                        <a:pt x="624" y="176"/>
                      </a:lnTo>
                      <a:lnTo>
                        <a:pt x="636" y="184"/>
                      </a:lnTo>
                      <a:lnTo>
                        <a:pt x="626" y="190"/>
                      </a:lnTo>
                      <a:lnTo>
                        <a:pt x="610" y="194"/>
                      </a:lnTo>
                      <a:lnTo>
                        <a:pt x="618" y="202"/>
                      </a:lnTo>
                      <a:lnTo>
                        <a:pt x="598" y="202"/>
                      </a:lnTo>
                      <a:lnTo>
                        <a:pt x="588" y="208"/>
                      </a:lnTo>
                      <a:lnTo>
                        <a:pt x="498" y="210"/>
                      </a:lnTo>
                      <a:lnTo>
                        <a:pt x="484" y="204"/>
                      </a:lnTo>
                      <a:lnTo>
                        <a:pt x="472" y="200"/>
                      </a:lnTo>
                      <a:lnTo>
                        <a:pt x="438" y="198"/>
                      </a:lnTo>
                      <a:lnTo>
                        <a:pt x="424" y="192"/>
                      </a:lnTo>
                      <a:lnTo>
                        <a:pt x="358" y="188"/>
                      </a:lnTo>
                      <a:lnTo>
                        <a:pt x="352" y="182"/>
                      </a:lnTo>
                      <a:lnTo>
                        <a:pt x="336" y="182"/>
                      </a:lnTo>
                      <a:lnTo>
                        <a:pt x="324" y="186"/>
                      </a:lnTo>
                      <a:lnTo>
                        <a:pt x="314" y="182"/>
                      </a:lnTo>
                      <a:lnTo>
                        <a:pt x="296" y="166"/>
                      </a:lnTo>
                      <a:lnTo>
                        <a:pt x="284" y="160"/>
                      </a:lnTo>
                      <a:lnTo>
                        <a:pt x="278" y="174"/>
                      </a:lnTo>
                      <a:lnTo>
                        <a:pt x="258" y="188"/>
                      </a:lnTo>
                      <a:lnTo>
                        <a:pt x="244" y="182"/>
                      </a:lnTo>
                      <a:lnTo>
                        <a:pt x="220" y="176"/>
                      </a:lnTo>
                      <a:lnTo>
                        <a:pt x="202" y="166"/>
                      </a:lnTo>
                      <a:lnTo>
                        <a:pt x="176" y="162"/>
                      </a:lnTo>
                      <a:lnTo>
                        <a:pt x="162" y="156"/>
                      </a:lnTo>
                      <a:lnTo>
                        <a:pt x="150" y="148"/>
                      </a:lnTo>
                      <a:lnTo>
                        <a:pt x="136" y="134"/>
                      </a:lnTo>
                      <a:lnTo>
                        <a:pt x="128" y="128"/>
                      </a:lnTo>
                      <a:lnTo>
                        <a:pt x="116" y="122"/>
                      </a:lnTo>
                      <a:lnTo>
                        <a:pt x="112" y="118"/>
                      </a:lnTo>
                      <a:lnTo>
                        <a:pt x="100" y="118"/>
                      </a:lnTo>
                      <a:lnTo>
                        <a:pt x="90" y="124"/>
                      </a:lnTo>
                      <a:lnTo>
                        <a:pt x="82" y="120"/>
                      </a:lnTo>
                      <a:lnTo>
                        <a:pt x="74" y="118"/>
                      </a:lnTo>
                      <a:lnTo>
                        <a:pt x="66" y="120"/>
                      </a:lnTo>
                      <a:lnTo>
                        <a:pt x="46" y="112"/>
                      </a:lnTo>
                      <a:lnTo>
                        <a:pt x="36" y="116"/>
                      </a:lnTo>
                      <a:lnTo>
                        <a:pt x="38" y="120"/>
                      </a:lnTo>
                      <a:lnTo>
                        <a:pt x="44" y="124"/>
                      </a:lnTo>
                      <a:lnTo>
                        <a:pt x="42" y="128"/>
                      </a:lnTo>
                      <a:lnTo>
                        <a:pt x="26" y="118"/>
                      </a:lnTo>
                      <a:lnTo>
                        <a:pt x="0" y="112"/>
                      </a:lnTo>
                      <a:lnTo>
                        <a:pt x="26" y="114"/>
                      </a:lnTo>
                      <a:lnTo>
                        <a:pt x="50" y="92"/>
                      </a:lnTo>
                      <a:lnTo>
                        <a:pt x="44" y="86"/>
                      </a:lnTo>
                      <a:lnTo>
                        <a:pt x="46" y="80"/>
                      </a:lnTo>
                      <a:lnTo>
                        <a:pt x="76" y="74"/>
                      </a:lnTo>
                      <a:lnTo>
                        <a:pt x="86" y="68"/>
                      </a:lnTo>
                      <a:lnTo>
                        <a:pt x="82" y="64"/>
                      </a:lnTo>
                      <a:lnTo>
                        <a:pt x="66" y="62"/>
                      </a:lnTo>
                      <a:lnTo>
                        <a:pt x="52" y="54"/>
                      </a:lnTo>
                      <a:lnTo>
                        <a:pt x="52" y="46"/>
                      </a:lnTo>
                      <a:lnTo>
                        <a:pt x="64" y="36"/>
                      </a:lnTo>
                      <a:lnTo>
                        <a:pt x="80" y="34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725080" y="2419560"/>
                  <a:ext cx="77040" cy="41040"/>
                </a:xfrm>
                <a:custGeom>
                  <a:avLst/>
                  <a:gdLst/>
                  <a:ahLst/>
                  <a:rect l="l" t="t" r="r" b="b"/>
                  <a:pathLst>
                    <a:path w="446" h="240">
                      <a:moveTo>
                        <a:pt x="32" y="164"/>
                      </a:moveTo>
                      <a:lnTo>
                        <a:pt x="36" y="158"/>
                      </a:lnTo>
                      <a:lnTo>
                        <a:pt x="32" y="154"/>
                      </a:lnTo>
                      <a:lnTo>
                        <a:pt x="26" y="136"/>
                      </a:lnTo>
                      <a:lnTo>
                        <a:pt x="18" y="130"/>
                      </a:lnTo>
                      <a:lnTo>
                        <a:pt x="16" y="106"/>
                      </a:lnTo>
                      <a:lnTo>
                        <a:pt x="50" y="114"/>
                      </a:lnTo>
                      <a:lnTo>
                        <a:pt x="66" y="112"/>
                      </a:lnTo>
                      <a:lnTo>
                        <a:pt x="32" y="104"/>
                      </a:lnTo>
                      <a:lnTo>
                        <a:pt x="12" y="86"/>
                      </a:lnTo>
                      <a:lnTo>
                        <a:pt x="2" y="76"/>
                      </a:lnTo>
                      <a:lnTo>
                        <a:pt x="10" y="68"/>
                      </a:lnTo>
                      <a:lnTo>
                        <a:pt x="20" y="68"/>
                      </a:lnTo>
                      <a:lnTo>
                        <a:pt x="10" y="66"/>
                      </a:lnTo>
                      <a:lnTo>
                        <a:pt x="2" y="60"/>
                      </a:lnTo>
                      <a:lnTo>
                        <a:pt x="6" y="54"/>
                      </a:lnTo>
                      <a:lnTo>
                        <a:pt x="18" y="52"/>
                      </a:lnTo>
                      <a:lnTo>
                        <a:pt x="8" y="52"/>
                      </a:lnTo>
                      <a:lnTo>
                        <a:pt x="0" y="44"/>
                      </a:lnTo>
                      <a:lnTo>
                        <a:pt x="14" y="32"/>
                      </a:lnTo>
                      <a:lnTo>
                        <a:pt x="12" y="26"/>
                      </a:lnTo>
                      <a:lnTo>
                        <a:pt x="0" y="20"/>
                      </a:lnTo>
                      <a:lnTo>
                        <a:pt x="6" y="16"/>
                      </a:lnTo>
                      <a:lnTo>
                        <a:pt x="24" y="24"/>
                      </a:lnTo>
                      <a:lnTo>
                        <a:pt x="38" y="32"/>
                      </a:lnTo>
                      <a:lnTo>
                        <a:pt x="62" y="34"/>
                      </a:lnTo>
                      <a:lnTo>
                        <a:pt x="58" y="26"/>
                      </a:lnTo>
                      <a:lnTo>
                        <a:pt x="34" y="10"/>
                      </a:lnTo>
                      <a:lnTo>
                        <a:pt x="42" y="0"/>
                      </a:lnTo>
                      <a:lnTo>
                        <a:pt x="86" y="4"/>
                      </a:lnTo>
                      <a:lnTo>
                        <a:pt x="102" y="18"/>
                      </a:lnTo>
                      <a:lnTo>
                        <a:pt x="100" y="12"/>
                      </a:lnTo>
                      <a:lnTo>
                        <a:pt x="102" y="10"/>
                      </a:lnTo>
                      <a:lnTo>
                        <a:pt x="116" y="12"/>
                      </a:lnTo>
                      <a:lnTo>
                        <a:pt x="124" y="18"/>
                      </a:lnTo>
                      <a:lnTo>
                        <a:pt x="126" y="36"/>
                      </a:lnTo>
                      <a:lnTo>
                        <a:pt x="140" y="46"/>
                      </a:lnTo>
                      <a:lnTo>
                        <a:pt x="144" y="54"/>
                      </a:lnTo>
                      <a:lnTo>
                        <a:pt x="154" y="60"/>
                      </a:lnTo>
                      <a:lnTo>
                        <a:pt x="162" y="50"/>
                      </a:lnTo>
                      <a:lnTo>
                        <a:pt x="164" y="40"/>
                      </a:lnTo>
                      <a:lnTo>
                        <a:pt x="152" y="30"/>
                      </a:lnTo>
                      <a:lnTo>
                        <a:pt x="158" y="28"/>
                      </a:lnTo>
                      <a:lnTo>
                        <a:pt x="182" y="34"/>
                      </a:lnTo>
                      <a:lnTo>
                        <a:pt x="194" y="42"/>
                      </a:lnTo>
                      <a:lnTo>
                        <a:pt x="200" y="44"/>
                      </a:lnTo>
                      <a:lnTo>
                        <a:pt x="202" y="38"/>
                      </a:lnTo>
                      <a:lnTo>
                        <a:pt x="198" y="30"/>
                      </a:lnTo>
                      <a:lnTo>
                        <a:pt x="214" y="32"/>
                      </a:lnTo>
                      <a:lnTo>
                        <a:pt x="230" y="40"/>
                      </a:lnTo>
                      <a:lnTo>
                        <a:pt x="236" y="48"/>
                      </a:lnTo>
                      <a:lnTo>
                        <a:pt x="242" y="52"/>
                      </a:lnTo>
                      <a:lnTo>
                        <a:pt x="260" y="58"/>
                      </a:lnTo>
                      <a:lnTo>
                        <a:pt x="266" y="58"/>
                      </a:lnTo>
                      <a:lnTo>
                        <a:pt x="256" y="52"/>
                      </a:lnTo>
                      <a:lnTo>
                        <a:pt x="262" y="46"/>
                      </a:lnTo>
                      <a:lnTo>
                        <a:pt x="284" y="60"/>
                      </a:lnTo>
                      <a:lnTo>
                        <a:pt x="314" y="72"/>
                      </a:lnTo>
                      <a:lnTo>
                        <a:pt x="374" y="80"/>
                      </a:lnTo>
                      <a:lnTo>
                        <a:pt x="390" y="86"/>
                      </a:lnTo>
                      <a:lnTo>
                        <a:pt x="408" y="98"/>
                      </a:lnTo>
                      <a:lnTo>
                        <a:pt x="418" y="106"/>
                      </a:lnTo>
                      <a:lnTo>
                        <a:pt x="422" y="112"/>
                      </a:lnTo>
                      <a:lnTo>
                        <a:pt x="434" y="120"/>
                      </a:lnTo>
                      <a:lnTo>
                        <a:pt x="446" y="130"/>
                      </a:lnTo>
                      <a:lnTo>
                        <a:pt x="444" y="150"/>
                      </a:lnTo>
                      <a:lnTo>
                        <a:pt x="436" y="158"/>
                      </a:lnTo>
                      <a:lnTo>
                        <a:pt x="424" y="154"/>
                      </a:lnTo>
                      <a:lnTo>
                        <a:pt x="398" y="160"/>
                      </a:lnTo>
                      <a:lnTo>
                        <a:pt x="360" y="176"/>
                      </a:lnTo>
                      <a:lnTo>
                        <a:pt x="336" y="176"/>
                      </a:lnTo>
                      <a:lnTo>
                        <a:pt x="324" y="180"/>
                      </a:lnTo>
                      <a:lnTo>
                        <a:pt x="308" y="180"/>
                      </a:lnTo>
                      <a:lnTo>
                        <a:pt x="302" y="180"/>
                      </a:lnTo>
                      <a:lnTo>
                        <a:pt x="306" y="186"/>
                      </a:lnTo>
                      <a:lnTo>
                        <a:pt x="298" y="190"/>
                      </a:lnTo>
                      <a:lnTo>
                        <a:pt x="266" y="182"/>
                      </a:lnTo>
                      <a:lnTo>
                        <a:pt x="234" y="190"/>
                      </a:lnTo>
                      <a:lnTo>
                        <a:pt x="220" y="186"/>
                      </a:lnTo>
                      <a:lnTo>
                        <a:pt x="210" y="190"/>
                      </a:lnTo>
                      <a:lnTo>
                        <a:pt x="162" y="194"/>
                      </a:lnTo>
                      <a:lnTo>
                        <a:pt x="164" y="204"/>
                      </a:lnTo>
                      <a:lnTo>
                        <a:pt x="158" y="206"/>
                      </a:lnTo>
                      <a:lnTo>
                        <a:pt x="156" y="216"/>
                      </a:lnTo>
                      <a:lnTo>
                        <a:pt x="128" y="224"/>
                      </a:lnTo>
                      <a:lnTo>
                        <a:pt x="118" y="232"/>
                      </a:lnTo>
                      <a:lnTo>
                        <a:pt x="116" y="240"/>
                      </a:lnTo>
                      <a:lnTo>
                        <a:pt x="74" y="240"/>
                      </a:lnTo>
                      <a:lnTo>
                        <a:pt x="72" y="236"/>
                      </a:lnTo>
                      <a:lnTo>
                        <a:pt x="72" y="230"/>
                      </a:lnTo>
                      <a:lnTo>
                        <a:pt x="64" y="222"/>
                      </a:lnTo>
                      <a:lnTo>
                        <a:pt x="52" y="228"/>
                      </a:lnTo>
                      <a:lnTo>
                        <a:pt x="40" y="212"/>
                      </a:lnTo>
                      <a:lnTo>
                        <a:pt x="38" y="206"/>
                      </a:lnTo>
                      <a:lnTo>
                        <a:pt x="48" y="172"/>
                      </a:lnTo>
                      <a:lnTo>
                        <a:pt x="38" y="170"/>
                      </a:lnTo>
                      <a:lnTo>
                        <a:pt x="32" y="164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343560" y="2509920"/>
                  <a:ext cx="23040" cy="7920"/>
                </a:xfrm>
                <a:custGeom>
                  <a:avLst/>
                  <a:gdLst/>
                  <a:ahLst/>
                  <a:rect l="l" t="t" r="r" b="b"/>
                  <a:pathLst>
                    <a:path w="136" h="46">
                      <a:moveTo>
                        <a:pt x="82" y="22"/>
                      </a:moveTo>
                      <a:lnTo>
                        <a:pt x="94" y="26"/>
                      </a:lnTo>
                      <a:lnTo>
                        <a:pt x="108" y="28"/>
                      </a:lnTo>
                      <a:lnTo>
                        <a:pt x="124" y="34"/>
                      </a:lnTo>
                      <a:lnTo>
                        <a:pt x="136" y="46"/>
                      </a:lnTo>
                      <a:lnTo>
                        <a:pt x="122" y="46"/>
                      </a:lnTo>
                      <a:lnTo>
                        <a:pt x="98" y="36"/>
                      </a:lnTo>
                      <a:lnTo>
                        <a:pt x="68" y="28"/>
                      </a:lnTo>
                      <a:lnTo>
                        <a:pt x="48" y="20"/>
                      </a:lnTo>
                      <a:lnTo>
                        <a:pt x="12" y="1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38" y="12"/>
                      </a:lnTo>
                      <a:lnTo>
                        <a:pt x="80" y="22"/>
                      </a:lnTo>
                      <a:lnTo>
                        <a:pt x="82" y="22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286320" y="2471400"/>
                  <a:ext cx="20520" cy="11520"/>
                </a:xfrm>
                <a:custGeom>
                  <a:avLst/>
                  <a:gdLst/>
                  <a:ahLst/>
                  <a:rect l="l" t="t" r="r" b="b"/>
                  <a:pathLst>
                    <a:path w="122" h="70">
                      <a:moveTo>
                        <a:pt x="88" y="38"/>
                      </a:moveTo>
                      <a:lnTo>
                        <a:pt x="96" y="48"/>
                      </a:lnTo>
                      <a:lnTo>
                        <a:pt x="96" y="52"/>
                      </a:lnTo>
                      <a:lnTo>
                        <a:pt x="120" y="62"/>
                      </a:lnTo>
                      <a:lnTo>
                        <a:pt x="122" y="70"/>
                      </a:lnTo>
                      <a:lnTo>
                        <a:pt x="98" y="66"/>
                      </a:lnTo>
                      <a:lnTo>
                        <a:pt x="82" y="60"/>
                      </a:lnTo>
                      <a:lnTo>
                        <a:pt x="78" y="54"/>
                      </a:lnTo>
                      <a:lnTo>
                        <a:pt x="66" y="50"/>
                      </a:lnTo>
                      <a:lnTo>
                        <a:pt x="62" y="44"/>
                      </a:lnTo>
                      <a:lnTo>
                        <a:pt x="46" y="32"/>
                      </a:lnTo>
                      <a:lnTo>
                        <a:pt x="30" y="22"/>
                      </a:lnTo>
                      <a:lnTo>
                        <a:pt x="22" y="14"/>
                      </a:lnTo>
                      <a:lnTo>
                        <a:pt x="0" y="0"/>
                      </a:lnTo>
                      <a:lnTo>
                        <a:pt x="16" y="8"/>
                      </a:lnTo>
                      <a:lnTo>
                        <a:pt x="30" y="12"/>
                      </a:lnTo>
                      <a:lnTo>
                        <a:pt x="54" y="22"/>
                      </a:lnTo>
                      <a:lnTo>
                        <a:pt x="74" y="28"/>
                      </a:lnTo>
                      <a:lnTo>
                        <a:pt x="84" y="28"/>
                      </a:lnTo>
                      <a:lnTo>
                        <a:pt x="88" y="38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304320" y="2458080"/>
                  <a:ext cx="116640" cy="36000"/>
                </a:xfrm>
                <a:custGeom>
                  <a:avLst/>
                  <a:gdLst/>
                  <a:ahLst/>
                  <a:rect l="l" t="t" r="r" b="b"/>
                  <a:pathLst>
                    <a:path w="674" h="212">
                      <a:moveTo>
                        <a:pt x="226" y="44"/>
                      </a:moveTo>
                      <a:lnTo>
                        <a:pt x="230" y="44"/>
                      </a:lnTo>
                      <a:lnTo>
                        <a:pt x="238" y="50"/>
                      </a:lnTo>
                      <a:lnTo>
                        <a:pt x="238" y="44"/>
                      </a:lnTo>
                      <a:lnTo>
                        <a:pt x="264" y="44"/>
                      </a:lnTo>
                      <a:lnTo>
                        <a:pt x="270" y="50"/>
                      </a:lnTo>
                      <a:lnTo>
                        <a:pt x="276" y="52"/>
                      </a:lnTo>
                      <a:lnTo>
                        <a:pt x="280" y="62"/>
                      </a:lnTo>
                      <a:lnTo>
                        <a:pt x="286" y="62"/>
                      </a:lnTo>
                      <a:lnTo>
                        <a:pt x="290" y="66"/>
                      </a:lnTo>
                      <a:lnTo>
                        <a:pt x="300" y="72"/>
                      </a:lnTo>
                      <a:lnTo>
                        <a:pt x="308" y="68"/>
                      </a:lnTo>
                      <a:lnTo>
                        <a:pt x="322" y="72"/>
                      </a:lnTo>
                      <a:lnTo>
                        <a:pt x="324" y="68"/>
                      </a:lnTo>
                      <a:lnTo>
                        <a:pt x="340" y="68"/>
                      </a:lnTo>
                      <a:lnTo>
                        <a:pt x="340" y="66"/>
                      </a:lnTo>
                      <a:lnTo>
                        <a:pt x="316" y="50"/>
                      </a:lnTo>
                      <a:lnTo>
                        <a:pt x="316" y="46"/>
                      </a:lnTo>
                      <a:lnTo>
                        <a:pt x="296" y="40"/>
                      </a:lnTo>
                      <a:lnTo>
                        <a:pt x="262" y="20"/>
                      </a:lnTo>
                      <a:lnTo>
                        <a:pt x="252" y="12"/>
                      </a:lnTo>
                      <a:lnTo>
                        <a:pt x="252" y="4"/>
                      </a:lnTo>
                      <a:lnTo>
                        <a:pt x="258" y="0"/>
                      </a:lnTo>
                      <a:lnTo>
                        <a:pt x="310" y="8"/>
                      </a:lnTo>
                      <a:lnTo>
                        <a:pt x="366" y="22"/>
                      </a:lnTo>
                      <a:lnTo>
                        <a:pt x="378" y="28"/>
                      </a:lnTo>
                      <a:lnTo>
                        <a:pt x="408" y="40"/>
                      </a:lnTo>
                      <a:lnTo>
                        <a:pt x="422" y="38"/>
                      </a:lnTo>
                      <a:lnTo>
                        <a:pt x="438" y="40"/>
                      </a:lnTo>
                      <a:lnTo>
                        <a:pt x="450" y="48"/>
                      </a:lnTo>
                      <a:lnTo>
                        <a:pt x="456" y="56"/>
                      </a:lnTo>
                      <a:lnTo>
                        <a:pt x="466" y="64"/>
                      </a:lnTo>
                      <a:lnTo>
                        <a:pt x="472" y="72"/>
                      </a:lnTo>
                      <a:lnTo>
                        <a:pt x="472" y="78"/>
                      </a:lnTo>
                      <a:lnTo>
                        <a:pt x="480" y="84"/>
                      </a:lnTo>
                      <a:lnTo>
                        <a:pt x="488" y="92"/>
                      </a:lnTo>
                      <a:lnTo>
                        <a:pt x="502" y="98"/>
                      </a:lnTo>
                      <a:lnTo>
                        <a:pt x="550" y="116"/>
                      </a:lnTo>
                      <a:lnTo>
                        <a:pt x="588" y="128"/>
                      </a:lnTo>
                      <a:lnTo>
                        <a:pt x="622" y="128"/>
                      </a:lnTo>
                      <a:lnTo>
                        <a:pt x="660" y="134"/>
                      </a:lnTo>
                      <a:lnTo>
                        <a:pt x="672" y="138"/>
                      </a:lnTo>
                      <a:lnTo>
                        <a:pt x="674" y="140"/>
                      </a:lnTo>
                      <a:lnTo>
                        <a:pt x="652" y="148"/>
                      </a:lnTo>
                      <a:lnTo>
                        <a:pt x="606" y="144"/>
                      </a:lnTo>
                      <a:lnTo>
                        <a:pt x="612" y="150"/>
                      </a:lnTo>
                      <a:lnTo>
                        <a:pt x="620" y="156"/>
                      </a:lnTo>
                      <a:lnTo>
                        <a:pt x="612" y="162"/>
                      </a:lnTo>
                      <a:lnTo>
                        <a:pt x="552" y="146"/>
                      </a:lnTo>
                      <a:lnTo>
                        <a:pt x="560" y="146"/>
                      </a:lnTo>
                      <a:lnTo>
                        <a:pt x="552" y="138"/>
                      </a:lnTo>
                      <a:lnTo>
                        <a:pt x="528" y="134"/>
                      </a:lnTo>
                      <a:lnTo>
                        <a:pt x="528" y="148"/>
                      </a:lnTo>
                      <a:lnTo>
                        <a:pt x="500" y="158"/>
                      </a:lnTo>
                      <a:lnTo>
                        <a:pt x="490" y="164"/>
                      </a:lnTo>
                      <a:lnTo>
                        <a:pt x="486" y="176"/>
                      </a:lnTo>
                      <a:lnTo>
                        <a:pt x="456" y="188"/>
                      </a:lnTo>
                      <a:lnTo>
                        <a:pt x="444" y="188"/>
                      </a:lnTo>
                      <a:lnTo>
                        <a:pt x="422" y="184"/>
                      </a:lnTo>
                      <a:lnTo>
                        <a:pt x="434" y="184"/>
                      </a:lnTo>
                      <a:lnTo>
                        <a:pt x="438" y="178"/>
                      </a:lnTo>
                      <a:lnTo>
                        <a:pt x="418" y="176"/>
                      </a:lnTo>
                      <a:lnTo>
                        <a:pt x="394" y="168"/>
                      </a:lnTo>
                      <a:lnTo>
                        <a:pt x="372" y="154"/>
                      </a:lnTo>
                      <a:lnTo>
                        <a:pt x="364" y="162"/>
                      </a:lnTo>
                      <a:lnTo>
                        <a:pt x="384" y="178"/>
                      </a:lnTo>
                      <a:lnTo>
                        <a:pt x="392" y="174"/>
                      </a:lnTo>
                      <a:lnTo>
                        <a:pt x="398" y="184"/>
                      </a:lnTo>
                      <a:lnTo>
                        <a:pt x="416" y="200"/>
                      </a:lnTo>
                      <a:lnTo>
                        <a:pt x="418" y="208"/>
                      </a:lnTo>
                      <a:lnTo>
                        <a:pt x="408" y="212"/>
                      </a:lnTo>
                      <a:lnTo>
                        <a:pt x="374" y="208"/>
                      </a:lnTo>
                      <a:lnTo>
                        <a:pt x="338" y="210"/>
                      </a:lnTo>
                      <a:lnTo>
                        <a:pt x="298" y="204"/>
                      </a:lnTo>
                      <a:lnTo>
                        <a:pt x="268" y="192"/>
                      </a:lnTo>
                      <a:lnTo>
                        <a:pt x="228" y="174"/>
                      </a:lnTo>
                      <a:lnTo>
                        <a:pt x="214" y="178"/>
                      </a:lnTo>
                      <a:lnTo>
                        <a:pt x="156" y="168"/>
                      </a:lnTo>
                      <a:lnTo>
                        <a:pt x="132" y="156"/>
                      </a:lnTo>
                      <a:lnTo>
                        <a:pt x="92" y="140"/>
                      </a:lnTo>
                      <a:lnTo>
                        <a:pt x="100" y="134"/>
                      </a:lnTo>
                      <a:lnTo>
                        <a:pt x="118" y="138"/>
                      </a:lnTo>
                      <a:lnTo>
                        <a:pt x="130" y="132"/>
                      </a:lnTo>
                      <a:lnTo>
                        <a:pt x="112" y="124"/>
                      </a:lnTo>
                      <a:lnTo>
                        <a:pt x="102" y="128"/>
                      </a:lnTo>
                      <a:lnTo>
                        <a:pt x="94" y="126"/>
                      </a:lnTo>
                      <a:lnTo>
                        <a:pt x="92" y="122"/>
                      </a:lnTo>
                      <a:lnTo>
                        <a:pt x="104" y="122"/>
                      </a:lnTo>
                      <a:lnTo>
                        <a:pt x="90" y="114"/>
                      </a:lnTo>
                      <a:lnTo>
                        <a:pt x="66" y="110"/>
                      </a:lnTo>
                      <a:lnTo>
                        <a:pt x="46" y="104"/>
                      </a:lnTo>
                      <a:lnTo>
                        <a:pt x="48" y="102"/>
                      </a:lnTo>
                      <a:lnTo>
                        <a:pt x="72" y="108"/>
                      </a:lnTo>
                      <a:lnTo>
                        <a:pt x="68" y="104"/>
                      </a:lnTo>
                      <a:lnTo>
                        <a:pt x="60" y="96"/>
                      </a:lnTo>
                      <a:lnTo>
                        <a:pt x="44" y="90"/>
                      </a:lnTo>
                      <a:lnTo>
                        <a:pt x="28" y="80"/>
                      </a:lnTo>
                      <a:lnTo>
                        <a:pt x="32" y="74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34" y="62"/>
                      </a:lnTo>
                      <a:lnTo>
                        <a:pt x="34" y="66"/>
                      </a:lnTo>
                      <a:lnTo>
                        <a:pt x="22" y="64"/>
                      </a:lnTo>
                      <a:lnTo>
                        <a:pt x="2" y="54"/>
                      </a:lnTo>
                      <a:lnTo>
                        <a:pt x="0" y="50"/>
                      </a:lnTo>
                      <a:lnTo>
                        <a:pt x="2" y="44"/>
                      </a:lnTo>
                      <a:lnTo>
                        <a:pt x="12" y="44"/>
                      </a:lnTo>
                      <a:lnTo>
                        <a:pt x="36" y="34"/>
                      </a:lnTo>
                      <a:lnTo>
                        <a:pt x="26" y="16"/>
                      </a:lnTo>
                      <a:lnTo>
                        <a:pt x="34" y="18"/>
                      </a:lnTo>
                      <a:lnTo>
                        <a:pt x="48" y="4"/>
                      </a:lnTo>
                      <a:lnTo>
                        <a:pt x="64" y="0"/>
                      </a:lnTo>
                      <a:lnTo>
                        <a:pt x="70" y="0"/>
                      </a:lnTo>
                      <a:lnTo>
                        <a:pt x="74" y="8"/>
                      </a:lnTo>
                      <a:lnTo>
                        <a:pt x="88" y="14"/>
                      </a:lnTo>
                      <a:lnTo>
                        <a:pt x="152" y="28"/>
                      </a:lnTo>
                      <a:lnTo>
                        <a:pt x="162" y="30"/>
                      </a:lnTo>
                      <a:lnTo>
                        <a:pt x="172" y="26"/>
                      </a:lnTo>
                      <a:lnTo>
                        <a:pt x="182" y="32"/>
                      </a:lnTo>
                      <a:lnTo>
                        <a:pt x="198" y="34"/>
                      </a:lnTo>
                      <a:lnTo>
                        <a:pt x="200" y="40"/>
                      </a:lnTo>
                      <a:lnTo>
                        <a:pt x="214" y="46"/>
                      </a:lnTo>
                      <a:lnTo>
                        <a:pt x="226" y="44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348960" y="2456640"/>
                  <a:ext cx="79920" cy="22680"/>
                </a:xfrm>
                <a:custGeom>
                  <a:avLst/>
                  <a:gdLst/>
                  <a:ahLst/>
                  <a:rect l="l" t="t" r="r" b="b"/>
                  <a:pathLst>
                    <a:path w="458" h="134">
                      <a:moveTo>
                        <a:pt x="0" y="0"/>
                      </a:moveTo>
                      <a:lnTo>
                        <a:pt x="30" y="2"/>
                      </a:lnTo>
                      <a:lnTo>
                        <a:pt x="74" y="14"/>
                      </a:lnTo>
                      <a:lnTo>
                        <a:pt x="94" y="16"/>
                      </a:lnTo>
                      <a:lnTo>
                        <a:pt x="132" y="28"/>
                      </a:lnTo>
                      <a:lnTo>
                        <a:pt x="150" y="30"/>
                      </a:lnTo>
                      <a:lnTo>
                        <a:pt x="188" y="30"/>
                      </a:lnTo>
                      <a:lnTo>
                        <a:pt x="200" y="20"/>
                      </a:lnTo>
                      <a:lnTo>
                        <a:pt x="210" y="16"/>
                      </a:lnTo>
                      <a:lnTo>
                        <a:pt x="246" y="18"/>
                      </a:lnTo>
                      <a:lnTo>
                        <a:pt x="290" y="32"/>
                      </a:lnTo>
                      <a:lnTo>
                        <a:pt x="320" y="34"/>
                      </a:lnTo>
                      <a:lnTo>
                        <a:pt x="352" y="38"/>
                      </a:lnTo>
                      <a:lnTo>
                        <a:pt x="386" y="42"/>
                      </a:lnTo>
                      <a:lnTo>
                        <a:pt x="422" y="50"/>
                      </a:lnTo>
                      <a:lnTo>
                        <a:pt x="432" y="50"/>
                      </a:lnTo>
                      <a:lnTo>
                        <a:pt x="442" y="54"/>
                      </a:lnTo>
                      <a:lnTo>
                        <a:pt x="416" y="56"/>
                      </a:lnTo>
                      <a:lnTo>
                        <a:pt x="406" y="60"/>
                      </a:lnTo>
                      <a:lnTo>
                        <a:pt x="410" y="64"/>
                      </a:lnTo>
                      <a:lnTo>
                        <a:pt x="398" y="68"/>
                      </a:lnTo>
                      <a:lnTo>
                        <a:pt x="406" y="70"/>
                      </a:lnTo>
                      <a:lnTo>
                        <a:pt x="412" y="76"/>
                      </a:lnTo>
                      <a:lnTo>
                        <a:pt x="426" y="84"/>
                      </a:lnTo>
                      <a:lnTo>
                        <a:pt x="444" y="90"/>
                      </a:lnTo>
                      <a:lnTo>
                        <a:pt x="444" y="96"/>
                      </a:lnTo>
                      <a:lnTo>
                        <a:pt x="458" y="106"/>
                      </a:lnTo>
                      <a:lnTo>
                        <a:pt x="448" y="114"/>
                      </a:lnTo>
                      <a:lnTo>
                        <a:pt x="450" y="120"/>
                      </a:lnTo>
                      <a:lnTo>
                        <a:pt x="432" y="134"/>
                      </a:lnTo>
                      <a:lnTo>
                        <a:pt x="412" y="130"/>
                      </a:lnTo>
                      <a:lnTo>
                        <a:pt x="356" y="132"/>
                      </a:lnTo>
                      <a:lnTo>
                        <a:pt x="324" y="126"/>
                      </a:lnTo>
                      <a:lnTo>
                        <a:pt x="236" y="94"/>
                      </a:lnTo>
                      <a:lnTo>
                        <a:pt x="220" y="82"/>
                      </a:lnTo>
                      <a:lnTo>
                        <a:pt x="198" y="56"/>
                      </a:lnTo>
                      <a:lnTo>
                        <a:pt x="180" y="40"/>
                      </a:lnTo>
                      <a:lnTo>
                        <a:pt x="168" y="42"/>
                      </a:lnTo>
                      <a:lnTo>
                        <a:pt x="152" y="36"/>
                      </a:lnTo>
                      <a:lnTo>
                        <a:pt x="40" y="10"/>
                      </a:lnTo>
                      <a:lnTo>
                        <a:pt x="24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434640" y="2463480"/>
                  <a:ext cx="83880" cy="14760"/>
                </a:xfrm>
                <a:custGeom>
                  <a:avLst/>
                  <a:gdLst/>
                  <a:ahLst/>
                  <a:rect l="l" t="t" r="r" b="b"/>
                  <a:pathLst>
                    <a:path w="482" h="86">
                      <a:moveTo>
                        <a:pt x="0" y="0"/>
                      </a:moveTo>
                      <a:lnTo>
                        <a:pt x="16" y="4"/>
                      </a:lnTo>
                      <a:lnTo>
                        <a:pt x="30" y="4"/>
                      </a:lnTo>
                      <a:lnTo>
                        <a:pt x="44" y="6"/>
                      </a:lnTo>
                      <a:lnTo>
                        <a:pt x="56" y="12"/>
                      </a:lnTo>
                      <a:lnTo>
                        <a:pt x="74" y="12"/>
                      </a:lnTo>
                      <a:lnTo>
                        <a:pt x="98" y="14"/>
                      </a:lnTo>
                      <a:lnTo>
                        <a:pt x="120" y="12"/>
                      </a:lnTo>
                      <a:lnTo>
                        <a:pt x="126" y="8"/>
                      </a:lnTo>
                      <a:lnTo>
                        <a:pt x="206" y="6"/>
                      </a:lnTo>
                      <a:lnTo>
                        <a:pt x="218" y="10"/>
                      </a:lnTo>
                      <a:lnTo>
                        <a:pt x="208" y="12"/>
                      </a:lnTo>
                      <a:lnTo>
                        <a:pt x="214" y="16"/>
                      </a:lnTo>
                      <a:lnTo>
                        <a:pt x="210" y="24"/>
                      </a:lnTo>
                      <a:lnTo>
                        <a:pt x="236" y="20"/>
                      </a:lnTo>
                      <a:lnTo>
                        <a:pt x="270" y="18"/>
                      </a:lnTo>
                      <a:lnTo>
                        <a:pt x="276" y="12"/>
                      </a:lnTo>
                      <a:lnTo>
                        <a:pt x="288" y="12"/>
                      </a:lnTo>
                      <a:lnTo>
                        <a:pt x="308" y="14"/>
                      </a:lnTo>
                      <a:lnTo>
                        <a:pt x="326" y="20"/>
                      </a:lnTo>
                      <a:lnTo>
                        <a:pt x="348" y="14"/>
                      </a:lnTo>
                      <a:lnTo>
                        <a:pt x="368" y="14"/>
                      </a:lnTo>
                      <a:lnTo>
                        <a:pt x="390" y="20"/>
                      </a:lnTo>
                      <a:lnTo>
                        <a:pt x="452" y="20"/>
                      </a:lnTo>
                      <a:lnTo>
                        <a:pt x="448" y="26"/>
                      </a:lnTo>
                      <a:lnTo>
                        <a:pt x="478" y="44"/>
                      </a:lnTo>
                      <a:lnTo>
                        <a:pt x="482" y="58"/>
                      </a:lnTo>
                      <a:lnTo>
                        <a:pt x="458" y="78"/>
                      </a:lnTo>
                      <a:lnTo>
                        <a:pt x="448" y="82"/>
                      </a:lnTo>
                      <a:lnTo>
                        <a:pt x="430" y="78"/>
                      </a:lnTo>
                      <a:lnTo>
                        <a:pt x="428" y="82"/>
                      </a:lnTo>
                      <a:lnTo>
                        <a:pt x="416" y="82"/>
                      </a:lnTo>
                      <a:lnTo>
                        <a:pt x="398" y="76"/>
                      </a:lnTo>
                      <a:lnTo>
                        <a:pt x="408" y="84"/>
                      </a:lnTo>
                      <a:lnTo>
                        <a:pt x="392" y="86"/>
                      </a:lnTo>
                      <a:lnTo>
                        <a:pt x="366" y="84"/>
                      </a:lnTo>
                      <a:lnTo>
                        <a:pt x="336" y="78"/>
                      </a:lnTo>
                      <a:lnTo>
                        <a:pt x="316" y="80"/>
                      </a:lnTo>
                      <a:lnTo>
                        <a:pt x="292" y="80"/>
                      </a:lnTo>
                      <a:lnTo>
                        <a:pt x="268" y="74"/>
                      </a:lnTo>
                      <a:lnTo>
                        <a:pt x="250" y="72"/>
                      </a:lnTo>
                      <a:lnTo>
                        <a:pt x="224" y="66"/>
                      </a:lnTo>
                      <a:lnTo>
                        <a:pt x="194" y="66"/>
                      </a:lnTo>
                      <a:lnTo>
                        <a:pt x="170" y="62"/>
                      </a:lnTo>
                      <a:lnTo>
                        <a:pt x="140" y="44"/>
                      </a:lnTo>
                      <a:lnTo>
                        <a:pt x="106" y="36"/>
                      </a:lnTo>
                      <a:lnTo>
                        <a:pt x="80" y="26"/>
                      </a:lnTo>
                      <a:lnTo>
                        <a:pt x="24" y="1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405840" y="2500920"/>
                  <a:ext cx="17640" cy="10440"/>
                </a:xfrm>
                <a:custGeom>
                  <a:avLst/>
                  <a:gdLst/>
                  <a:ahLst/>
                  <a:rect l="l" t="t" r="r" b="b"/>
                  <a:pathLst>
                    <a:path w="104" h="58">
                      <a:moveTo>
                        <a:pt x="80" y="20"/>
                      </a:moveTo>
                      <a:lnTo>
                        <a:pt x="64" y="8"/>
                      </a:lnTo>
                      <a:lnTo>
                        <a:pt x="42" y="2"/>
                      </a:lnTo>
                      <a:lnTo>
                        <a:pt x="12" y="0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10" y="24"/>
                      </a:lnTo>
                      <a:lnTo>
                        <a:pt x="48" y="46"/>
                      </a:lnTo>
                      <a:lnTo>
                        <a:pt x="62" y="54"/>
                      </a:lnTo>
                      <a:lnTo>
                        <a:pt x="98" y="58"/>
                      </a:lnTo>
                      <a:lnTo>
                        <a:pt x="104" y="58"/>
                      </a:lnTo>
                      <a:lnTo>
                        <a:pt x="90" y="56"/>
                      </a:lnTo>
                      <a:lnTo>
                        <a:pt x="80" y="52"/>
                      </a:lnTo>
                      <a:lnTo>
                        <a:pt x="100" y="48"/>
                      </a:lnTo>
                      <a:lnTo>
                        <a:pt x="94" y="42"/>
                      </a:lnTo>
                      <a:lnTo>
                        <a:pt x="100" y="38"/>
                      </a:lnTo>
                      <a:lnTo>
                        <a:pt x="98" y="30"/>
                      </a:lnTo>
                      <a:lnTo>
                        <a:pt x="100" y="26"/>
                      </a:lnTo>
                      <a:lnTo>
                        <a:pt x="86" y="26"/>
                      </a:lnTo>
                      <a:lnTo>
                        <a:pt x="80" y="2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427800" y="2508840"/>
                  <a:ext cx="59760" cy="15840"/>
                </a:xfrm>
                <a:custGeom>
                  <a:avLst/>
                  <a:gdLst/>
                  <a:ahLst/>
                  <a:rect l="l" t="t" r="r" b="b"/>
                  <a:pathLst>
                    <a:path w="344" h="96">
                      <a:moveTo>
                        <a:pt x="34" y="8"/>
                      </a:moveTo>
                      <a:lnTo>
                        <a:pt x="50" y="2"/>
                      </a:lnTo>
                      <a:lnTo>
                        <a:pt x="74" y="0"/>
                      </a:lnTo>
                      <a:lnTo>
                        <a:pt x="94" y="0"/>
                      </a:lnTo>
                      <a:lnTo>
                        <a:pt x="120" y="6"/>
                      </a:lnTo>
                      <a:lnTo>
                        <a:pt x="134" y="6"/>
                      </a:lnTo>
                      <a:lnTo>
                        <a:pt x="172" y="16"/>
                      </a:lnTo>
                      <a:lnTo>
                        <a:pt x="214" y="24"/>
                      </a:lnTo>
                      <a:lnTo>
                        <a:pt x="266" y="42"/>
                      </a:lnTo>
                      <a:lnTo>
                        <a:pt x="288" y="52"/>
                      </a:lnTo>
                      <a:lnTo>
                        <a:pt x="310" y="66"/>
                      </a:lnTo>
                      <a:lnTo>
                        <a:pt x="332" y="76"/>
                      </a:lnTo>
                      <a:lnTo>
                        <a:pt x="344" y="82"/>
                      </a:lnTo>
                      <a:lnTo>
                        <a:pt x="324" y="82"/>
                      </a:lnTo>
                      <a:lnTo>
                        <a:pt x="318" y="86"/>
                      </a:lnTo>
                      <a:lnTo>
                        <a:pt x="298" y="88"/>
                      </a:lnTo>
                      <a:lnTo>
                        <a:pt x="270" y="84"/>
                      </a:lnTo>
                      <a:lnTo>
                        <a:pt x="234" y="90"/>
                      </a:lnTo>
                      <a:lnTo>
                        <a:pt x="202" y="86"/>
                      </a:lnTo>
                      <a:lnTo>
                        <a:pt x="182" y="82"/>
                      </a:lnTo>
                      <a:lnTo>
                        <a:pt x="166" y="86"/>
                      </a:lnTo>
                      <a:lnTo>
                        <a:pt x="138" y="86"/>
                      </a:lnTo>
                      <a:lnTo>
                        <a:pt x="102" y="80"/>
                      </a:lnTo>
                      <a:lnTo>
                        <a:pt x="70" y="80"/>
                      </a:lnTo>
                      <a:lnTo>
                        <a:pt x="48" y="96"/>
                      </a:lnTo>
                      <a:lnTo>
                        <a:pt x="32" y="96"/>
                      </a:lnTo>
                      <a:lnTo>
                        <a:pt x="2" y="88"/>
                      </a:lnTo>
                      <a:lnTo>
                        <a:pt x="6" y="82"/>
                      </a:lnTo>
                      <a:lnTo>
                        <a:pt x="44" y="76"/>
                      </a:lnTo>
                      <a:lnTo>
                        <a:pt x="42" y="70"/>
                      </a:lnTo>
                      <a:lnTo>
                        <a:pt x="34" y="56"/>
                      </a:lnTo>
                      <a:lnTo>
                        <a:pt x="16" y="32"/>
                      </a:lnTo>
                      <a:lnTo>
                        <a:pt x="4" y="24"/>
                      </a:lnTo>
                      <a:lnTo>
                        <a:pt x="0" y="16"/>
                      </a:lnTo>
                      <a:lnTo>
                        <a:pt x="34" y="8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828400" y="2446200"/>
                  <a:ext cx="16200" cy="3600"/>
                </a:xfrm>
                <a:custGeom>
                  <a:avLst/>
                  <a:gdLst/>
                  <a:ahLst/>
                  <a:rect l="l" t="t" r="r" b="b"/>
                  <a:pathLst>
                    <a:path w="96" h="22">
                      <a:moveTo>
                        <a:pt x="26" y="2"/>
                      </a:moveTo>
                      <a:lnTo>
                        <a:pt x="50" y="8"/>
                      </a:lnTo>
                      <a:lnTo>
                        <a:pt x="60" y="0"/>
                      </a:lnTo>
                      <a:lnTo>
                        <a:pt x="70" y="0"/>
                      </a:lnTo>
                      <a:lnTo>
                        <a:pt x="78" y="4"/>
                      </a:lnTo>
                      <a:lnTo>
                        <a:pt x="88" y="2"/>
                      </a:lnTo>
                      <a:lnTo>
                        <a:pt x="96" y="6"/>
                      </a:lnTo>
                      <a:lnTo>
                        <a:pt x="92" y="14"/>
                      </a:lnTo>
                      <a:lnTo>
                        <a:pt x="96" y="22"/>
                      </a:lnTo>
                      <a:lnTo>
                        <a:pt x="84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14" y="12"/>
                      </a:lnTo>
                      <a:lnTo>
                        <a:pt x="14" y="6"/>
                      </a:lnTo>
                      <a:lnTo>
                        <a:pt x="26" y="2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17800" y="2486160"/>
                  <a:ext cx="6480" cy="360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16" y="0"/>
                      </a:moveTo>
                      <a:lnTo>
                        <a:pt x="14" y="0"/>
                      </a:lnTo>
                      <a:lnTo>
                        <a:pt x="18" y="6"/>
                      </a:lnTo>
                      <a:lnTo>
                        <a:pt x="26" y="10"/>
                      </a:lnTo>
                      <a:lnTo>
                        <a:pt x="32" y="14"/>
                      </a:lnTo>
                      <a:lnTo>
                        <a:pt x="40" y="16"/>
                      </a:lnTo>
                      <a:lnTo>
                        <a:pt x="44" y="22"/>
                      </a:lnTo>
                      <a:lnTo>
                        <a:pt x="40" y="26"/>
                      </a:lnTo>
                      <a:lnTo>
                        <a:pt x="26" y="24"/>
                      </a:lnTo>
                      <a:lnTo>
                        <a:pt x="26" y="28"/>
                      </a:lnTo>
                      <a:lnTo>
                        <a:pt x="16" y="26"/>
                      </a:lnTo>
                      <a:lnTo>
                        <a:pt x="2" y="16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727600" y="2505960"/>
                  <a:ext cx="21600" cy="3600"/>
                </a:xfrm>
                <a:custGeom>
                  <a:avLst/>
                  <a:gdLst/>
                  <a:ahLst/>
                  <a:rect l="l" t="t" r="r" b="b"/>
                  <a:pathLst>
                    <a:path w="120" h="26">
                      <a:moveTo>
                        <a:pt x="82" y="2"/>
                      </a:moveTo>
                      <a:lnTo>
                        <a:pt x="84" y="6"/>
                      </a:lnTo>
                      <a:lnTo>
                        <a:pt x="88" y="12"/>
                      </a:lnTo>
                      <a:lnTo>
                        <a:pt x="96" y="16"/>
                      </a:lnTo>
                      <a:lnTo>
                        <a:pt x="98" y="20"/>
                      </a:lnTo>
                      <a:lnTo>
                        <a:pt x="104" y="26"/>
                      </a:lnTo>
                      <a:lnTo>
                        <a:pt x="56" y="26"/>
                      </a:lnTo>
                      <a:lnTo>
                        <a:pt x="32" y="22"/>
                      </a:lnTo>
                      <a:lnTo>
                        <a:pt x="12" y="18"/>
                      </a:lnTo>
                      <a:lnTo>
                        <a:pt x="0" y="12"/>
                      </a:lnTo>
                      <a:lnTo>
                        <a:pt x="6" y="10"/>
                      </a:lnTo>
                      <a:lnTo>
                        <a:pt x="16" y="12"/>
                      </a:lnTo>
                      <a:lnTo>
                        <a:pt x="22" y="16"/>
                      </a:lnTo>
                      <a:lnTo>
                        <a:pt x="22" y="10"/>
                      </a:lnTo>
                      <a:lnTo>
                        <a:pt x="26" y="10"/>
                      </a:lnTo>
                      <a:lnTo>
                        <a:pt x="30" y="2"/>
                      </a:lnTo>
                      <a:lnTo>
                        <a:pt x="64" y="10"/>
                      </a:lnTo>
                      <a:lnTo>
                        <a:pt x="76" y="0"/>
                      </a:lnTo>
                      <a:lnTo>
                        <a:pt x="90" y="2"/>
                      </a:lnTo>
                      <a:lnTo>
                        <a:pt x="104" y="4"/>
                      </a:lnTo>
                      <a:lnTo>
                        <a:pt x="112" y="8"/>
                      </a:lnTo>
                      <a:lnTo>
                        <a:pt x="120" y="20"/>
                      </a:lnTo>
                      <a:lnTo>
                        <a:pt x="112" y="14"/>
                      </a:lnTo>
                      <a:lnTo>
                        <a:pt x="102" y="8"/>
                      </a:lnTo>
                      <a:lnTo>
                        <a:pt x="82" y="2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708520" y="2483280"/>
                  <a:ext cx="13320" cy="7920"/>
                </a:xfrm>
                <a:custGeom>
                  <a:avLst/>
                  <a:gdLst/>
                  <a:ahLst/>
                  <a:rect l="l" t="t" r="r" b="b"/>
                  <a:pathLst>
                    <a:path w="80" h="48">
                      <a:moveTo>
                        <a:pt x="76" y="22"/>
                      </a:moveTo>
                      <a:lnTo>
                        <a:pt x="78" y="24"/>
                      </a:lnTo>
                      <a:lnTo>
                        <a:pt x="68" y="40"/>
                      </a:lnTo>
                      <a:lnTo>
                        <a:pt x="54" y="48"/>
                      </a:lnTo>
                      <a:lnTo>
                        <a:pt x="48" y="46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4" y="36"/>
                      </a:lnTo>
                      <a:lnTo>
                        <a:pt x="50" y="32"/>
                      </a:lnTo>
                      <a:lnTo>
                        <a:pt x="34" y="40"/>
                      </a:lnTo>
                      <a:lnTo>
                        <a:pt x="8" y="44"/>
                      </a:lnTo>
                      <a:lnTo>
                        <a:pt x="0" y="42"/>
                      </a:lnTo>
                      <a:lnTo>
                        <a:pt x="12" y="28"/>
                      </a:lnTo>
                      <a:lnTo>
                        <a:pt x="22" y="26"/>
                      </a:lnTo>
                      <a:lnTo>
                        <a:pt x="44" y="14"/>
                      </a:lnTo>
                      <a:lnTo>
                        <a:pt x="52" y="0"/>
                      </a:lnTo>
                      <a:lnTo>
                        <a:pt x="70" y="8"/>
                      </a:lnTo>
                      <a:lnTo>
                        <a:pt x="76" y="14"/>
                      </a:lnTo>
                      <a:lnTo>
                        <a:pt x="80" y="22"/>
                      </a:lnTo>
                      <a:lnTo>
                        <a:pt x="80" y="24"/>
                      </a:lnTo>
                      <a:lnTo>
                        <a:pt x="76" y="22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012000" y="2534400"/>
                  <a:ext cx="28080" cy="10440"/>
                </a:xfrm>
                <a:custGeom>
                  <a:avLst/>
                  <a:gdLst/>
                  <a:ahLst/>
                  <a:rect l="l" t="t" r="r" b="b"/>
                  <a:pathLst>
                    <a:path w="162" h="64">
                      <a:moveTo>
                        <a:pt x="94" y="0"/>
                      </a:moveTo>
                      <a:lnTo>
                        <a:pt x="114" y="6"/>
                      </a:lnTo>
                      <a:lnTo>
                        <a:pt x="126" y="4"/>
                      </a:lnTo>
                      <a:lnTo>
                        <a:pt x="134" y="8"/>
                      </a:lnTo>
                      <a:lnTo>
                        <a:pt x="154" y="26"/>
                      </a:lnTo>
                      <a:lnTo>
                        <a:pt x="162" y="44"/>
                      </a:lnTo>
                      <a:lnTo>
                        <a:pt x="156" y="50"/>
                      </a:lnTo>
                      <a:lnTo>
                        <a:pt x="148" y="64"/>
                      </a:lnTo>
                      <a:lnTo>
                        <a:pt x="110" y="60"/>
                      </a:lnTo>
                      <a:lnTo>
                        <a:pt x="94" y="62"/>
                      </a:lnTo>
                      <a:lnTo>
                        <a:pt x="62" y="52"/>
                      </a:lnTo>
                      <a:lnTo>
                        <a:pt x="26" y="50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16" y="36"/>
                      </a:lnTo>
                      <a:lnTo>
                        <a:pt x="28" y="34"/>
                      </a:lnTo>
                      <a:lnTo>
                        <a:pt x="32" y="30"/>
                      </a:lnTo>
                      <a:lnTo>
                        <a:pt x="30" y="22"/>
                      </a:lnTo>
                      <a:lnTo>
                        <a:pt x="20" y="16"/>
                      </a:lnTo>
                      <a:lnTo>
                        <a:pt x="8" y="8"/>
                      </a:lnTo>
                      <a:lnTo>
                        <a:pt x="6" y="2"/>
                      </a:lnTo>
                      <a:lnTo>
                        <a:pt x="60" y="4"/>
                      </a:lnTo>
                      <a:lnTo>
                        <a:pt x="80" y="4"/>
                      </a:lnTo>
                      <a:lnTo>
                        <a:pt x="94" y="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456600" y="2571480"/>
                  <a:ext cx="18720" cy="3960"/>
                </a:xfrm>
                <a:custGeom>
                  <a:avLst/>
                  <a:gdLst/>
                  <a:ahLst/>
                  <a:rect l="l" t="t" r="r" b="b"/>
                  <a:pathLst>
                    <a:path w="108" h="24">
                      <a:moveTo>
                        <a:pt x="14" y="2"/>
                      </a:moveTo>
                      <a:lnTo>
                        <a:pt x="36" y="8"/>
                      </a:lnTo>
                      <a:lnTo>
                        <a:pt x="44" y="8"/>
                      </a:lnTo>
                      <a:lnTo>
                        <a:pt x="44" y="4"/>
                      </a:lnTo>
                      <a:lnTo>
                        <a:pt x="92" y="0"/>
                      </a:lnTo>
                      <a:lnTo>
                        <a:pt x="106" y="6"/>
                      </a:lnTo>
                      <a:lnTo>
                        <a:pt x="108" y="22"/>
                      </a:lnTo>
                      <a:lnTo>
                        <a:pt x="92" y="20"/>
                      </a:lnTo>
                      <a:lnTo>
                        <a:pt x="86" y="24"/>
                      </a:lnTo>
                      <a:lnTo>
                        <a:pt x="8" y="16"/>
                      </a:lnTo>
                      <a:lnTo>
                        <a:pt x="0" y="14"/>
                      </a:lnTo>
                      <a:lnTo>
                        <a:pt x="12" y="10"/>
                      </a:lnTo>
                      <a:lnTo>
                        <a:pt x="14" y="2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475320" y="2568600"/>
                  <a:ext cx="14760" cy="9360"/>
                </a:xfrm>
                <a:custGeom>
                  <a:avLst/>
                  <a:gdLst/>
                  <a:ahLst/>
                  <a:rect l="l" t="t" r="r" b="b"/>
                  <a:pathLst>
                    <a:path w="90" h="52">
                      <a:moveTo>
                        <a:pt x="4" y="24"/>
                      </a:moveTo>
                      <a:lnTo>
                        <a:pt x="10" y="14"/>
                      </a:lnTo>
                      <a:lnTo>
                        <a:pt x="16" y="14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18" y="2"/>
                      </a:lnTo>
                      <a:lnTo>
                        <a:pt x="26" y="0"/>
                      </a:lnTo>
                      <a:lnTo>
                        <a:pt x="44" y="2"/>
                      </a:lnTo>
                      <a:lnTo>
                        <a:pt x="66" y="8"/>
                      </a:lnTo>
                      <a:lnTo>
                        <a:pt x="82" y="20"/>
                      </a:lnTo>
                      <a:lnTo>
                        <a:pt x="88" y="24"/>
                      </a:lnTo>
                      <a:lnTo>
                        <a:pt x="90" y="28"/>
                      </a:lnTo>
                      <a:lnTo>
                        <a:pt x="82" y="46"/>
                      </a:lnTo>
                      <a:lnTo>
                        <a:pt x="62" y="46"/>
                      </a:lnTo>
                      <a:lnTo>
                        <a:pt x="50" y="52"/>
                      </a:lnTo>
                      <a:lnTo>
                        <a:pt x="34" y="48"/>
                      </a:lnTo>
                      <a:lnTo>
                        <a:pt x="26" y="50"/>
                      </a:lnTo>
                      <a:lnTo>
                        <a:pt x="16" y="44"/>
                      </a:lnTo>
                      <a:lnTo>
                        <a:pt x="14" y="32"/>
                      </a:lnTo>
                      <a:lnTo>
                        <a:pt x="6" y="26"/>
                      </a:lnTo>
                      <a:lnTo>
                        <a:pt x="0" y="22"/>
                      </a:lnTo>
                      <a:lnTo>
                        <a:pt x="4" y="24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460560" y="2544840"/>
                  <a:ext cx="23040" cy="9360"/>
                </a:xfrm>
                <a:custGeom>
                  <a:avLst/>
                  <a:gdLst/>
                  <a:ahLst/>
                  <a:rect l="l" t="t" r="r" b="b"/>
                  <a:pathLst>
                    <a:path w="126" h="58">
                      <a:moveTo>
                        <a:pt x="42" y="10"/>
                      </a:moveTo>
                      <a:lnTo>
                        <a:pt x="60" y="10"/>
                      </a:lnTo>
                      <a:lnTo>
                        <a:pt x="94" y="0"/>
                      </a:lnTo>
                      <a:lnTo>
                        <a:pt x="98" y="2"/>
                      </a:lnTo>
                      <a:lnTo>
                        <a:pt x="106" y="8"/>
                      </a:lnTo>
                      <a:lnTo>
                        <a:pt x="114" y="20"/>
                      </a:lnTo>
                      <a:lnTo>
                        <a:pt x="122" y="28"/>
                      </a:lnTo>
                      <a:lnTo>
                        <a:pt x="126" y="36"/>
                      </a:lnTo>
                      <a:lnTo>
                        <a:pt x="116" y="30"/>
                      </a:lnTo>
                      <a:lnTo>
                        <a:pt x="102" y="20"/>
                      </a:lnTo>
                      <a:lnTo>
                        <a:pt x="118" y="42"/>
                      </a:lnTo>
                      <a:lnTo>
                        <a:pt x="104" y="42"/>
                      </a:lnTo>
                      <a:lnTo>
                        <a:pt x="82" y="38"/>
                      </a:lnTo>
                      <a:lnTo>
                        <a:pt x="82" y="48"/>
                      </a:lnTo>
                      <a:lnTo>
                        <a:pt x="58" y="50"/>
                      </a:lnTo>
                      <a:lnTo>
                        <a:pt x="62" y="54"/>
                      </a:lnTo>
                      <a:lnTo>
                        <a:pt x="58" y="58"/>
                      </a:lnTo>
                      <a:lnTo>
                        <a:pt x="24" y="48"/>
                      </a:lnTo>
                      <a:lnTo>
                        <a:pt x="22" y="42"/>
                      </a:lnTo>
                      <a:lnTo>
                        <a:pt x="30" y="40"/>
                      </a:lnTo>
                      <a:lnTo>
                        <a:pt x="16" y="32"/>
                      </a:lnTo>
                      <a:lnTo>
                        <a:pt x="14" y="28"/>
                      </a:lnTo>
                      <a:lnTo>
                        <a:pt x="22" y="26"/>
                      </a:lnTo>
                      <a:lnTo>
                        <a:pt x="14" y="20"/>
                      </a:lnTo>
                      <a:lnTo>
                        <a:pt x="0" y="12"/>
                      </a:lnTo>
                      <a:lnTo>
                        <a:pt x="6" y="8"/>
                      </a:lnTo>
                      <a:lnTo>
                        <a:pt x="30" y="6"/>
                      </a:lnTo>
                      <a:lnTo>
                        <a:pt x="38" y="6"/>
                      </a:lnTo>
                      <a:lnTo>
                        <a:pt x="42" y="1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933240" y="2550240"/>
                  <a:ext cx="34200" cy="10440"/>
                </a:xfrm>
                <a:custGeom>
                  <a:avLst/>
                  <a:gdLst/>
                  <a:ahLst/>
                  <a:rect l="l" t="t" r="r" b="b"/>
                  <a:pathLst>
                    <a:path w="192" h="60">
                      <a:moveTo>
                        <a:pt x="8" y="10"/>
                      </a:moveTo>
                      <a:lnTo>
                        <a:pt x="10" y="2"/>
                      </a:lnTo>
                      <a:lnTo>
                        <a:pt x="28" y="0"/>
                      </a:lnTo>
                      <a:lnTo>
                        <a:pt x="58" y="6"/>
                      </a:lnTo>
                      <a:lnTo>
                        <a:pt x="130" y="14"/>
                      </a:lnTo>
                      <a:lnTo>
                        <a:pt x="150" y="22"/>
                      </a:lnTo>
                      <a:lnTo>
                        <a:pt x="162" y="30"/>
                      </a:lnTo>
                      <a:lnTo>
                        <a:pt x="158" y="32"/>
                      </a:lnTo>
                      <a:lnTo>
                        <a:pt x="182" y="46"/>
                      </a:lnTo>
                      <a:lnTo>
                        <a:pt x="192" y="56"/>
                      </a:lnTo>
                      <a:lnTo>
                        <a:pt x="184" y="60"/>
                      </a:lnTo>
                      <a:lnTo>
                        <a:pt x="132" y="58"/>
                      </a:lnTo>
                      <a:lnTo>
                        <a:pt x="106" y="50"/>
                      </a:lnTo>
                      <a:lnTo>
                        <a:pt x="84" y="46"/>
                      </a:lnTo>
                      <a:lnTo>
                        <a:pt x="60" y="38"/>
                      </a:lnTo>
                      <a:lnTo>
                        <a:pt x="36" y="36"/>
                      </a:lnTo>
                      <a:lnTo>
                        <a:pt x="12" y="28"/>
                      </a:lnTo>
                      <a:lnTo>
                        <a:pt x="0" y="16"/>
                      </a:lnTo>
                      <a:lnTo>
                        <a:pt x="8" y="10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429880" y="2606400"/>
                  <a:ext cx="23040" cy="11880"/>
                </a:xfrm>
                <a:custGeom>
                  <a:avLst/>
                  <a:gdLst/>
                  <a:ahLst/>
                  <a:rect l="l" t="t" r="r" b="b"/>
                  <a:pathLst>
                    <a:path w="132" h="74">
                      <a:moveTo>
                        <a:pt x="30" y="74"/>
                      </a:moveTo>
                      <a:lnTo>
                        <a:pt x="20" y="74"/>
                      </a:lnTo>
                      <a:lnTo>
                        <a:pt x="20" y="56"/>
                      </a:lnTo>
                      <a:lnTo>
                        <a:pt x="12" y="44"/>
                      </a:lnTo>
                      <a:lnTo>
                        <a:pt x="0" y="32"/>
                      </a:lnTo>
                      <a:lnTo>
                        <a:pt x="2" y="6"/>
                      </a:lnTo>
                      <a:lnTo>
                        <a:pt x="30" y="0"/>
                      </a:lnTo>
                      <a:lnTo>
                        <a:pt x="58" y="4"/>
                      </a:lnTo>
                      <a:lnTo>
                        <a:pt x="74" y="12"/>
                      </a:lnTo>
                      <a:lnTo>
                        <a:pt x="78" y="34"/>
                      </a:lnTo>
                      <a:lnTo>
                        <a:pt x="118" y="34"/>
                      </a:lnTo>
                      <a:lnTo>
                        <a:pt x="132" y="42"/>
                      </a:lnTo>
                      <a:lnTo>
                        <a:pt x="112" y="48"/>
                      </a:lnTo>
                      <a:lnTo>
                        <a:pt x="104" y="60"/>
                      </a:lnTo>
                      <a:lnTo>
                        <a:pt x="74" y="58"/>
                      </a:lnTo>
                      <a:lnTo>
                        <a:pt x="50" y="70"/>
                      </a:lnTo>
                      <a:lnTo>
                        <a:pt x="36" y="58"/>
                      </a:lnTo>
                      <a:lnTo>
                        <a:pt x="36" y="74"/>
                      </a:lnTo>
                      <a:lnTo>
                        <a:pt x="30" y="74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496480" y="261288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12" y="0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50" y="12"/>
                      </a:lnTo>
                      <a:lnTo>
                        <a:pt x="54" y="28"/>
                      </a:lnTo>
                      <a:lnTo>
                        <a:pt x="62" y="38"/>
                      </a:lnTo>
                      <a:lnTo>
                        <a:pt x="8" y="2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569920" y="2610360"/>
                  <a:ext cx="14760" cy="9360"/>
                </a:xfrm>
                <a:custGeom>
                  <a:avLst/>
                  <a:gdLst/>
                  <a:ahLst/>
                  <a:rect l="l" t="t" r="r" b="b"/>
                  <a:pathLst>
                    <a:path w="86" h="60">
                      <a:moveTo>
                        <a:pt x="26" y="4"/>
                      </a:moveTo>
                      <a:lnTo>
                        <a:pt x="30" y="14"/>
                      </a:lnTo>
                      <a:lnTo>
                        <a:pt x="60" y="24"/>
                      </a:lnTo>
                      <a:lnTo>
                        <a:pt x="76" y="42"/>
                      </a:lnTo>
                      <a:lnTo>
                        <a:pt x="86" y="54"/>
                      </a:lnTo>
                      <a:lnTo>
                        <a:pt x="82" y="60"/>
                      </a:lnTo>
                      <a:lnTo>
                        <a:pt x="68" y="54"/>
                      </a:lnTo>
                      <a:lnTo>
                        <a:pt x="44" y="56"/>
                      </a:lnTo>
                      <a:lnTo>
                        <a:pt x="18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12" y="0"/>
                      </a:lnTo>
                      <a:lnTo>
                        <a:pt x="26" y="4"/>
                      </a:lnTo>
                      <a:lnTo>
                        <a:pt x="26" y="4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553720" y="262512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04" h="60">
                      <a:moveTo>
                        <a:pt x="12" y="14"/>
                      </a:moveTo>
                      <a:lnTo>
                        <a:pt x="20" y="10"/>
                      </a:lnTo>
                      <a:lnTo>
                        <a:pt x="22" y="0"/>
                      </a:lnTo>
                      <a:lnTo>
                        <a:pt x="80" y="4"/>
                      </a:lnTo>
                      <a:lnTo>
                        <a:pt x="98" y="12"/>
                      </a:lnTo>
                      <a:lnTo>
                        <a:pt x="104" y="26"/>
                      </a:lnTo>
                      <a:lnTo>
                        <a:pt x="92" y="32"/>
                      </a:lnTo>
                      <a:lnTo>
                        <a:pt x="84" y="46"/>
                      </a:lnTo>
                      <a:lnTo>
                        <a:pt x="14" y="60"/>
                      </a:lnTo>
                      <a:lnTo>
                        <a:pt x="2" y="50"/>
                      </a:lnTo>
                      <a:lnTo>
                        <a:pt x="0" y="36"/>
                      </a:lnTo>
                      <a:lnTo>
                        <a:pt x="12" y="14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552280" y="2539440"/>
                  <a:ext cx="13320" cy="9360"/>
                </a:xfrm>
                <a:custGeom>
                  <a:avLst/>
                  <a:gdLst/>
                  <a:ahLst/>
                  <a:rect l="l" t="t" r="r" b="b"/>
                  <a:pathLst>
                    <a:path w="76" h="52">
                      <a:moveTo>
                        <a:pt x="60" y="16"/>
                      </a:moveTo>
                      <a:lnTo>
                        <a:pt x="66" y="18"/>
                      </a:lnTo>
                      <a:lnTo>
                        <a:pt x="76" y="26"/>
                      </a:lnTo>
                      <a:lnTo>
                        <a:pt x="60" y="26"/>
                      </a:lnTo>
                      <a:lnTo>
                        <a:pt x="62" y="36"/>
                      </a:lnTo>
                      <a:lnTo>
                        <a:pt x="76" y="52"/>
                      </a:lnTo>
                      <a:lnTo>
                        <a:pt x="60" y="44"/>
                      </a:lnTo>
                      <a:lnTo>
                        <a:pt x="44" y="28"/>
                      </a:lnTo>
                      <a:lnTo>
                        <a:pt x="40" y="32"/>
                      </a:lnTo>
                      <a:lnTo>
                        <a:pt x="26" y="26"/>
                      </a:lnTo>
                      <a:lnTo>
                        <a:pt x="16" y="24"/>
                      </a:lnTo>
                      <a:lnTo>
                        <a:pt x="22" y="34"/>
                      </a:lnTo>
                      <a:lnTo>
                        <a:pt x="46" y="52"/>
                      </a:lnTo>
                      <a:lnTo>
                        <a:pt x="6" y="26"/>
                      </a:lnTo>
                      <a:lnTo>
                        <a:pt x="0" y="18"/>
                      </a:lnTo>
                      <a:lnTo>
                        <a:pt x="8" y="10"/>
                      </a:lnTo>
                      <a:lnTo>
                        <a:pt x="16" y="16"/>
                      </a:lnTo>
                      <a:lnTo>
                        <a:pt x="26" y="20"/>
                      </a:lnTo>
                      <a:lnTo>
                        <a:pt x="28" y="14"/>
                      </a:lnTo>
                      <a:lnTo>
                        <a:pt x="30" y="4"/>
                      </a:lnTo>
                      <a:lnTo>
                        <a:pt x="18" y="6"/>
                      </a:lnTo>
                      <a:lnTo>
                        <a:pt x="18" y="2"/>
                      </a:lnTo>
                      <a:lnTo>
                        <a:pt x="36" y="0"/>
                      </a:lnTo>
                      <a:lnTo>
                        <a:pt x="54" y="4"/>
                      </a:lnTo>
                      <a:lnTo>
                        <a:pt x="50" y="10"/>
                      </a:lnTo>
                      <a:lnTo>
                        <a:pt x="60" y="16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552280" y="2789280"/>
                  <a:ext cx="21600" cy="11880"/>
                </a:xfrm>
                <a:custGeom>
                  <a:avLst/>
                  <a:gdLst/>
                  <a:ahLst/>
                  <a:rect l="l" t="t" r="r" b="b"/>
                  <a:pathLst>
                    <a:path w="122" h="64">
                      <a:moveTo>
                        <a:pt x="0" y="42"/>
                      </a:moveTo>
                      <a:lnTo>
                        <a:pt x="32" y="36"/>
                      </a:lnTo>
                      <a:lnTo>
                        <a:pt x="56" y="10"/>
                      </a:lnTo>
                      <a:lnTo>
                        <a:pt x="88" y="0"/>
                      </a:lnTo>
                      <a:lnTo>
                        <a:pt x="96" y="6"/>
                      </a:lnTo>
                      <a:lnTo>
                        <a:pt x="122" y="32"/>
                      </a:lnTo>
                      <a:lnTo>
                        <a:pt x="96" y="32"/>
                      </a:lnTo>
                      <a:lnTo>
                        <a:pt x="88" y="44"/>
                      </a:lnTo>
                      <a:lnTo>
                        <a:pt x="60" y="62"/>
                      </a:lnTo>
                      <a:lnTo>
                        <a:pt x="44" y="64"/>
                      </a:lnTo>
                      <a:lnTo>
                        <a:pt x="22" y="56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676120" y="2675520"/>
                  <a:ext cx="12240" cy="10800"/>
                </a:xfrm>
                <a:custGeom>
                  <a:avLst/>
                  <a:gdLst/>
                  <a:ahLst/>
                  <a:rect l="l" t="t" r="r" b="b"/>
                  <a:pathLst>
                    <a:path w="72" h="58">
                      <a:moveTo>
                        <a:pt x="8" y="22"/>
                      </a:moveTo>
                      <a:lnTo>
                        <a:pt x="0" y="8"/>
                      </a:lnTo>
                      <a:lnTo>
                        <a:pt x="4" y="2"/>
                      </a:lnTo>
                      <a:lnTo>
                        <a:pt x="14" y="0"/>
                      </a:lnTo>
                      <a:lnTo>
                        <a:pt x="46" y="22"/>
                      </a:lnTo>
                      <a:lnTo>
                        <a:pt x="72" y="44"/>
                      </a:lnTo>
                      <a:lnTo>
                        <a:pt x="66" y="58"/>
                      </a:lnTo>
                      <a:lnTo>
                        <a:pt x="50" y="54"/>
                      </a:lnTo>
                      <a:lnTo>
                        <a:pt x="38" y="48"/>
                      </a:lnTo>
                      <a:lnTo>
                        <a:pt x="28" y="40"/>
                      </a:lnTo>
                      <a:lnTo>
                        <a:pt x="12" y="28"/>
                      </a:lnTo>
                      <a:lnTo>
                        <a:pt x="8" y="22"/>
                      </a:lnTo>
                    </a:path>
                  </a:pathLst>
                </a:custGeom>
                <a:solidFill>
                  <a:srgbClr val="efeb57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2c5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7" name=""/>
            <p:cNvSpPr/>
            <p:nvPr/>
          </p:nvSpPr>
          <p:spPr>
            <a:xfrm>
              <a:off x="4115520" y="3158280"/>
              <a:ext cx="88560" cy="107280"/>
            </a:xfrm>
            <a:custGeom>
              <a:avLst/>
              <a:gdLst/>
              <a:ahLst/>
              <a:rect l="l" t="t" r="r" b="b"/>
              <a:pathLst>
                <a:path w="514" h="630">
                  <a:moveTo>
                    <a:pt x="502" y="208"/>
                  </a:moveTo>
                  <a:lnTo>
                    <a:pt x="498" y="200"/>
                  </a:lnTo>
                  <a:lnTo>
                    <a:pt x="498" y="174"/>
                  </a:lnTo>
                  <a:lnTo>
                    <a:pt x="496" y="160"/>
                  </a:lnTo>
                  <a:lnTo>
                    <a:pt x="466" y="134"/>
                  </a:lnTo>
                  <a:lnTo>
                    <a:pt x="402" y="148"/>
                  </a:lnTo>
                  <a:lnTo>
                    <a:pt x="388" y="168"/>
                  </a:lnTo>
                  <a:lnTo>
                    <a:pt x="362" y="188"/>
                  </a:lnTo>
                  <a:lnTo>
                    <a:pt x="338" y="178"/>
                  </a:lnTo>
                  <a:lnTo>
                    <a:pt x="324" y="146"/>
                  </a:lnTo>
                  <a:lnTo>
                    <a:pt x="290" y="126"/>
                  </a:lnTo>
                  <a:lnTo>
                    <a:pt x="316" y="112"/>
                  </a:lnTo>
                  <a:lnTo>
                    <a:pt x="316" y="88"/>
                  </a:lnTo>
                  <a:lnTo>
                    <a:pt x="338" y="86"/>
                  </a:lnTo>
                  <a:lnTo>
                    <a:pt x="350" y="70"/>
                  </a:lnTo>
                  <a:lnTo>
                    <a:pt x="354" y="48"/>
                  </a:lnTo>
                  <a:lnTo>
                    <a:pt x="358" y="40"/>
                  </a:lnTo>
                  <a:lnTo>
                    <a:pt x="354" y="4"/>
                  </a:lnTo>
                  <a:lnTo>
                    <a:pt x="352" y="0"/>
                  </a:lnTo>
                  <a:lnTo>
                    <a:pt x="340" y="2"/>
                  </a:lnTo>
                  <a:lnTo>
                    <a:pt x="318" y="12"/>
                  </a:lnTo>
                  <a:lnTo>
                    <a:pt x="312" y="6"/>
                  </a:lnTo>
                  <a:lnTo>
                    <a:pt x="288" y="18"/>
                  </a:lnTo>
                  <a:lnTo>
                    <a:pt x="270" y="32"/>
                  </a:lnTo>
                  <a:lnTo>
                    <a:pt x="260" y="34"/>
                  </a:lnTo>
                  <a:lnTo>
                    <a:pt x="252" y="52"/>
                  </a:lnTo>
                  <a:lnTo>
                    <a:pt x="258" y="60"/>
                  </a:lnTo>
                  <a:lnTo>
                    <a:pt x="254" y="64"/>
                  </a:lnTo>
                  <a:lnTo>
                    <a:pt x="240" y="78"/>
                  </a:lnTo>
                  <a:lnTo>
                    <a:pt x="214" y="92"/>
                  </a:lnTo>
                  <a:lnTo>
                    <a:pt x="220" y="104"/>
                  </a:lnTo>
                  <a:lnTo>
                    <a:pt x="238" y="104"/>
                  </a:lnTo>
                  <a:lnTo>
                    <a:pt x="248" y="106"/>
                  </a:lnTo>
                  <a:lnTo>
                    <a:pt x="260" y="104"/>
                  </a:lnTo>
                  <a:lnTo>
                    <a:pt x="280" y="104"/>
                  </a:lnTo>
                  <a:lnTo>
                    <a:pt x="280" y="112"/>
                  </a:lnTo>
                  <a:lnTo>
                    <a:pt x="272" y="126"/>
                  </a:lnTo>
                  <a:lnTo>
                    <a:pt x="234" y="148"/>
                  </a:lnTo>
                  <a:lnTo>
                    <a:pt x="234" y="154"/>
                  </a:lnTo>
                  <a:lnTo>
                    <a:pt x="232" y="166"/>
                  </a:lnTo>
                  <a:lnTo>
                    <a:pt x="200" y="166"/>
                  </a:lnTo>
                  <a:lnTo>
                    <a:pt x="160" y="170"/>
                  </a:lnTo>
                  <a:lnTo>
                    <a:pt x="154" y="158"/>
                  </a:lnTo>
                  <a:lnTo>
                    <a:pt x="100" y="154"/>
                  </a:lnTo>
                  <a:lnTo>
                    <a:pt x="88" y="168"/>
                  </a:lnTo>
                  <a:lnTo>
                    <a:pt x="76" y="184"/>
                  </a:lnTo>
                  <a:lnTo>
                    <a:pt x="82" y="212"/>
                  </a:lnTo>
                  <a:lnTo>
                    <a:pt x="70" y="208"/>
                  </a:lnTo>
                  <a:lnTo>
                    <a:pt x="50" y="212"/>
                  </a:lnTo>
                  <a:lnTo>
                    <a:pt x="64" y="226"/>
                  </a:lnTo>
                  <a:lnTo>
                    <a:pt x="110" y="230"/>
                  </a:lnTo>
                  <a:lnTo>
                    <a:pt x="112" y="242"/>
                  </a:lnTo>
                  <a:lnTo>
                    <a:pt x="78" y="258"/>
                  </a:lnTo>
                  <a:lnTo>
                    <a:pt x="70" y="272"/>
                  </a:lnTo>
                  <a:lnTo>
                    <a:pt x="52" y="282"/>
                  </a:lnTo>
                  <a:lnTo>
                    <a:pt x="50" y="296"/>
                  </a:lnTo>
                  <a:lnTo>
                    <a:pt x="64" y="308"/>
                  </a:lnTo>
                  <a:lnTo>
                    <a:pt x="74" y="310"/>
                  </a:lnTo>
                  <a:lnTo>
                    <a:pt x="74" y="320"/>
                  </a:lnTo>
                  <a:lnTo>
                    <a:pt x="100" y="320"/>
                  </a:lnTo>
                  <a:lnTo>
                    <a:pt x="104" y="332"/>
                  </a:lnTo>
                  <a:lnTo>
                    <a:pt x="174" y="334"/>
                  </a:lnTo>
                  <a:lnTo>
                    <a:pt x="180" y="344"/>
                  </a:lnTo>
                  <a:lnTo>
                    <a:pt x="170" y="350"/>
                  </a:lnTo>
                  <a:lnTo>
                    <a:pt x="142" y="362"/>
                  </a:lnTo>
                  <a:lnTo>
                    <a:pt x="126" y="376"/>
                  </a:lnTo>
                  <a:lnTo>
                    <a:pt x="120" y="402"/>
                  </a:lnTo>
                  <a:lnTo>
                    <a:pt x="110" y="420"/>
                  </a:lnTo>
                  <a:lnTo>
                    <a:pt x="74" y="446"/>
                  </a:lnTo>
                  <a:lnTo>
                    <a:pt x="146" y="438"/>
                  </a:lnTo>
                  <a:lnTo>
                    <a:pt x="182" y="408"/>
                  </a:lnTo>
                  <a:lnTo>
                    <a:pt x="182" y="430"/>
                  </a:lnTo>
                  <a:lnTo>
                    <a:pt x="200" y="432"/>
                  </a:lnTo>
                  <a:lnTo>
                    <a:pt x="200" y="436"/>
                  </a:lnTo>
                  <a:lnTo>
                    <a:pt x="128" y="450"/>
                  </a:lnTo>
                  <a:lnTo>
                    <a:pt x="94" y="452"/>
                  </a:lnTo>
                  <a:lnTo>
                    <a:pt x="68" y="484"/>
                  </a:lnTo>
                  <a:lnTo>
                    <a:pt x="66" y="496"/>
                  </a:lnTo>
                  <a:lnTo>
                    <a:pt x="60" y="502"/>
                  </a:lnTo>
                  <a:lnTo>
                    <a:pt x="46" y="500"/>
                  </a:lnTo>
                  <a:lnTo>
                    <a:pt x="34" y="504"/>
                  </a:lnTo>
                  <a:lnTo>
                    <a:pt x="20" y="502"/>
                  </a:lnTo>
                  <a:lnTo>
                    <a:pt x="6" y="512"/>
                  </a:lnTo>
                  <a:lnTo>
                    <a:pt x="0" y="528"/>
                  </a:lnTo>
                  <a:lnTo>
                    <a:pt x="54" y="522"/>
                  </a:lnTo>
                  <a:lnTo>
                    <a:pt x="56" y="532"/>
                  </a:lnTo>
                  <a:lnTo>
                    <a:pt x="28" y="542"/>
                  </a:lnTo>
                  <a:lnTo>
                    <a:pt x="10" y="562"/>
                  </a:lnTo>
                  <a:lnTo>
                    <a:pt x="6" y="572"/>
                  </a:lnTo>
                  <a:lnTo>
                    <a:pt x="20" y="572"/>
                  </a:lnTo>
                  <a:lnTo>
                    <a:pt x="26" y="582"/>
                  </a:lnTo>
                  <a:lnTo>
                    <a:pt x="30" y="582"/>
                  </a:lnTo>
                  <a:lnTo>
                    <a:pt x="80" y="568"/>
                  </a:lnTo>
                  <a:lnTo>
                    <a:pt x="80" y="580"/>
                  </a:lnTo>
                  <a:lnTo>
                    <a:pt x="60" y="588"/>
                  </a:lnTo>
                  <a:lnTo>
                    <a:pt x="30" y="610"/>
                  </a:lnTo>
                  <a:lnTo>
                    <a:pt x="40" y="610"/>
                  </a:lnTo>
                  <a:lnTo>
                    <a:pt x="94" y="592"/>
                  </a:lnTo>
                  <a:lnTo>
                    <a:pt x="98" y="598"/>
                  </a:lnTo>
                  <a:lnTo>
                    <a:pt x="92" y="610"/>
                  </a:lnTo>
                  <a:lnTo>
                    <a:pt x="80" y="610"/>
                  </a:lnTo>
                  <a:lnTo>
                    <a:pt x="66" y="618"/>
                  </a:lnTo>
                  <a:lnTo>
                    <a:pt x="70" y="622"/>
                  </a:lnTo>
                  <a:lnTo>
                    <a:pt x="70" y="630"/>
                  </a:lnTo>
                  <a:lnTo>
                    <a:pt x="90" y="622"/>
                  </a:lnTo>
                  <a:lnTo>
                    <a:pt x="106" y="620"/>
                  </a:lnTo>
                  <a:lnTo>
                    <a:pt x="114" y="624"/>
                  </a:lnTo>
                  <a:lnTo>
                    <a:pt x="124" y="626"/>
                  </a:lnTo>
                  <a:lnTo>
                    <a:pt x="142" y="616"/>
                  </a:lnTo>
                  <a:lnTo>
                    <a:pt x="154" y="618"/>
                  </a:lnTo>
                  <a:lnTo>
                    <a:pt x="216" y="600"/>
                  </a:lnTo>
                  <a:lnTo>
                    <a:pt x="234" y="588"/>
                  </a:lnTo>
                  <a:lnTo>
                    <a:pt x="236" y="576"/>
                  </a:lnTo>
                  <a:lnTo>
                    <a:pt x="236" y="562"/>
                  </a:lnTo>
                  <a:lnTo>
                    <a:pt x="244" y="564"/>
                  </a:lnTo>
                  <a:lnTo>
                    <a:pt x="248" y="576"/>
                  </a:lnTo>
                  <a:lnTo>
                    <a:pt x="256" y="578"/>
                  </a:lnTo>
                  <a:lnTo>
                    <a:pt x="284" y="568"/>
                  </a:lnTo>
                  <a:lnTo>
                    <a:pt x="292" y="556"/>
                  </a:lnTo>
                  <a:lnTo>
                    <a:pt x="312" y="558"/>
                  </a:lnTo>
                  <a:lnTo>
                    <a:pt x="320" y="550"/>
                  </a:lnTo>
                  <a:lnTo>
                    <a:pt x="326" y="536"/>
                  </a:lnTo>
                  <a:lnTo>
                    <a:pt x="332" y="528"/>
                  </a:lnTo>
                  <a:lnTo>
                    <a:pt x="384" y="520"/>
                  </a:lnTo>
                  <a:lnTo>
                    <a:pt x="410" y="512"/>
                  </a:lnTo>
                  <a:lnTo>
                    <a:pt x="438" y="512"/>
                  </a:lnTo>
                  <a:lnTo>
                    <a:pt x="454" y="518"/>
                  </a:lnTo>
                  <a:lnTo>
                    <a:pt x="468" y="518"/>
                  </a:lnTo>
                  <a:lnTo>
                    <a:pt x="476" y="506"/>
                  </a:lnTo>
                  <a:lnTo>
                    <a:pt x="468" y="488"/>
                  </a:lnTo>
                  <a:lnTo>
                    <a:pt x="484" y="454"/>
                  </a:lnTo>
                  <a:lnTo>
                    <a:pt x="492" y="428"/>
                  </a:lnTo>
                  <a:lnTo>
                    <a:pt x="506" y="406"/>
                  </a:lnTo>
                  <a:lnTo>
                    <a:pt x="512" y="390"/>
                  </a:lnTo>
                  <a:lnTo>
                    <a:pt x="508" y="354"/>
                  </a:lnTo>
                  <a:lnTo>
                    <a:pt x="500" y="320"/>
                  </a:lnTo>
                  <a:lnTo>
                    <a:pt x="508" y="316"/>
                  </a:lnTo>
                  <a:lnTo>
                    <a:pt x="514" y="288"/>
                  </a:lnTo>
                  <a:lnTo>
                    <a:pt x="488" y="228"/>
                  </a:lnTo>
                  <a:lnTo>
                    <a:pt x="490" y="214"/>
                  </a:lnTo>
                  <a:lnTo>
                    <a:pt x="502" y="20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39960" y="2759760"/>
              <a:ext cx="215280" cy="393840"/>
            </a:xfrm>
            <a:custGeom>
              <a:avLst/>
              <a:gdLst/>
              <a:ahLst/>
              <a:rect l="l" t="t" r="r" b="b"/>
              <a:pathLst>
                <a:path w="1238" h="2306">
                  <a:moveTo>
                    <a:pt x="12" y="1684"/>
                  </a:moveTo>
                  <a:lnTo>
                    <a:pt x="0" y="1704"/>
                  </a:lnTo>
                  <a:lnTo>
                    <a:pt x="2" y="1720"/>
                  </a:lnTo>
                  <a:lnTo>
                    <a:pt x="18" y="1786"/>
                  </a:lnTo>
                  <a:lnTo>
                    <a:pt x="22" y="1794"/>
                  </a:lnTo>
                  <a:lnTo>
                    <a:pt x="32" y="1796"/>
                  </a:lnTo>
                  <a:lnTo>
                    <a:pt x="36" y="1804"/>
                  </a:lnTo>
                  <a:lnTo>
                    <a:pt x="38" y="1816"/>
                  </a:lnTo>
                  <a:lnTo>
                    <a:pt x="36" y="1822"/>
                  </a:lnTo>
                  <a:lnTo>
                    <a:pt x="48" y="1810"/>
                  </a:lnTo>
                  <a:lnTo>
                    <a:pt x="50" y="1798"/>
                  </a:lnTo>
                  <a:lnTo>
                    <a:pt x="60" y="1804"/>
                  </a:lnTo>
                  <a:lnTo>
                    <a:pt x="54" y="1820"/>
                  </a:lnTo>
                  <a:lnTo>
                    <a:pt x="64" y="1820"/>
                  </a:lnTo>
                  <a:lnTo>
                    <a:pt x="68" y="1824"/>
                  </a:lnTo>
                  <a:lnTo>
                    <a:pt x="58" y="1830"/>
                  </a:lnTo>
                  <a:lnTo>
                    <a:pt x="44" y="1846"/>
                  </a:lnTo>
                  <a:lnTo>
                    <a:pt x="78" y="1856"/>
                  </a:lnTo>
                  <a:lnTo>
                    <a:pt x="86" y="1872"/>
                  </a:lnTo>
                  <a:lnTo>
                    <a:pt x="82" y="1898"/>
                  </a:lnTo>
                  <a:lnTo>
                    <a:pt x="104" y="1894"/>
                  </a:lnTo>
                  <a:lnTo>
                    <a:pt x="110" y="1912"/>
                  </a:lnTo>
                  <a:lnTo>
                    <a:pt x="98" y="1928"/>
                  </a:lnTo>
                  <a:lnTo>
                    <a:pt x="106" y="1952"/>
                  </a:lnTo>
                  <a:lnTo>
                    <a:pt x="104" y="1972"/>
                  </a:lnTo>
                  <a:lnTo>
                    <a:pt x="122" y="1972"/>
                  </a:lnTo>
                  <a:lnTo>
                    <a:pt x="134" y="1994"/>
                  </a:lnTo>
                  <a:lnTo>
                    <a:pt x="140" y="2014"/>
                  </a:lnTo>
                  <a:lnTo>
                    <a:pt x="156" y="2044"/>
                  </a:lnTo>
                  <a:lnTo>
                    <a:pt x="180" y="2060"/>
                  </a:lnTo>
                  <a:lnTo>
                    <a:pt x="192" y="2080"/>
                  </a:lnTo>
                  <a:lnTo>
                    <a:pt x="218" y="2092"/>
                  </a:lnTo>
                  <a:lnTo>
                    <a:pt x="234" y="2110"/>
                  </a:lnTo>
                  <a:lnTo>
                    <a:pt x="236" y="2124"/>
                  </a:lnTo>
                  <a:lnTo>
                    <a:pt x="222" y="2130"/>
                  </a:lnTo>
                  <a:lnTo>
                    <a:pt x="208" y="2128"/>
                  </a:lnTo>
                  <a:lnTo>
                    <a:pt x="204" y="2134"/>
                  </a:lnTo>
                  <a:lnTo>
                    <a:pt x="222" y="2162"/>
                  </a:lnTo>
                  <a:lnTo>
                    <a:pt x="206" y="2160"/>
                  </a:lnTo>
                  <a:lnTo>
                    <a:pt x="190" y="2154"/>
                  </a:lnTo>
                  <a:lnTo>
                    <a:pt x="190" y="2166"/>
                  </a:lnTo>
                  <a:lnTo>
                    <a:pt x="228" y="2224"/>
                  </a:lnTo>
                  <a:lnTo>
                    <a:pt x="246" y="2244"/>
                  </a:lnTo>
                  <a:lnTo>
                    <a:pt x="256" y="2260"/>
                  </a:lnTo>
                  <a:lnTo>
                    <a:pt x="250" y="2270"/>
                  </a:lnTo>
                  <a:lnTo>
                    <a:pt x="250" y="2290"/>
                  </a:lnTo>
                  <a:lnTo>
                    <a:pt x="244" y="2292"/>
                  </a:lnTo>
                  <a:lnTo>
                    <a:pt x="242" y="2302"/>
                  </a:lnTo>
                  <a:lnTo>
                    <a:pt x="268" y="2300"/>
                  </a:lnTo>
                  <a:lnTo>
                    <a:pt x="292" y="2306"/>
                  </a:lnTo>
                  <a:lnTo>
                    <a:pt x="330" y="2294"/>
                  </a:lnTo>
                  <a:lnTo>
                    <a:pt x="366" y="2292"/>
                  </a:lnTo>
                  <a:lnTo>
                    <a:pt x="388" y="2300"/>
                  </a:lnTo>
                  <a:lnTo>
                    <a:pt x="398" y="2294"/>
                  </a:lnTo>
                  <a:lnTo>
                    <a:pt x="404" y="2270"/>
                  </a:lnTo>
                  <a:lnTo>
                    <a:pt x="394" y="2232"/>
                  </a:lnTo>
                  <a:lnTo>
                    <a:pt x="402" y="2208"/>
                  </a:lnTo>
                  <a:lnTo>
                    <a:pt x="412" y="2188"/>
                  </a:lnTo>
                  <a:lnTo>
                    <a:pt x="434" y="2194"/>
                  </a:lnTo>
                  <a:lnTo>
                    <a:pt x="440" y="2176"/>
                  </a:lnTo>
                  <a:lnTo>
                    <a:pt x="462" y="2164"/>
                  </a:lnTo>
                  <a:lnTo>
                    <a:pt x="492" y="2166"/>
                  </a:lnTo>
                  <a:lnTo>
                    <a:pt x="510" y="2170"/>
                  </a:lnTo>
                  <a:lnTo>
                    <a:pt x="532" y="2166"/>
                  </a:lnTo>
                  <a:lnTo>
                    <a:pt x="558" y="2172"/>
                  </a:lnTo>
                  <a:lnTo>
                    <a:pt x="582" y="2172"/>
                  </a:lnTo>
                  <a:lnTo>
                    <a:pt x="590" y="2138"/>
                  </a:lnTo>
                  <a:lnTo>
                    <a:pt x="604" y="2100"/>
                  </a:lnTo>
                  <a:lnTo>
                    <a:pt x="620" y="2070"/>
                  </a:lnTo>
                  <a:lnTo>
                    <a:pt x="618" y="2036"/>
                  </a:lnTo>
                  <a:lnTo>
                    <a:pt x="626" y="2014"/>
                  </a:lnTo>
                  <a:lnTo>
                    <a:pt x="620" y="1990"/>
                  </a:lnTo>
                  <a:lnTo>
                    <a:pt x="626" y="1970"/>
                  </a:lnTo>
                  <a:lnTo>
                    <a:pt x="636" y="1954"/>
                  </a:lnTo>
                  <a:lnTo>
                    <a:pt x="632" y="1936"/>
                  </a:lnTo>
                  <a:lnTo>
                    <a:pt x="622" y="1924"/>
                  </a:lnTo>
                  <a:lnTo>
                    <a:pt x="634" y="1908"/>
                  </a:lnTo>
                  <a:lnTo>
                    <a:pt x="628" y="1892"/>
                  </a:lnTo>
                  <a:lnTo>
                    <a:pt x="616" y="1882"/>
                  </a:lnTo>
                  <a:lnTo>
                    <a:pt x="614" y="1874"/>
                  </a:lnTo>
                  <a:lnTo>
                    <a:pt x="616" y="1866"/>
                  </a:lnTo>
                  <a:lnTo>
                    <a:pt x="628" y="1872"/>
                  </a:lnTo>
                  <a:lnTo>
                    <a:pt x="638" y="1870"/>
                  </a:lnTo>
                  <a:lnTo>
                    <a:pt x="630" y="1860"/>
                  </a:lnTo>
                  <a:lnTo>
                    <a:pt x="632" y="1852"/>
                  </a:lnTo>
                  <a:lnTo>
                    <a:pt x="636" y="1842"/>
                  </a:lnTo>
                  <a:lnTo>
                    <a:pt x="634" y="1834"/>
                  </a:lnTo>
                  <a:lnTo>
                    <a:pt x="636" y="1808"/>
                  </a:lnTo>
                  <a:lnTo>
                    <a:pt x="632" y="1800"/>
                  </a:lnTo>
                  <a:lnTo>
                    <a:pt x="614" y="1790"/>
                  </a:lnTo>
                  <a:lnTo>
                    <a:pt x="594" y="1782"/>
                  </a:lnTo>
                  <a:lnTo>
                    <a:pt x="600" y="1780"/>
                  </a:lnTo>
                  <a:lnTo>
                    <a:pt x="618" y="1784"/>
                  </a:lnTo>
                  <a:lnTo>
                    <a:pt x="638" y="1782"/>
                  </a:lnTo>
                  <a:lnTo>
                    <a:pt x="642" y="1774"/>
                  </a:lnTo>
                  <a:lnTo>
                    <a:pt x="620" y="1760"/>
                  </a:lnTo>
                  <a:lnTo>
                    <a:pt x="562" y="1754"/>
                  </a:lnTo>
                  <a:lnTo>
                    <a:pt x="566" y="1750"/>
                  </a:lnTo>
                  <a:lnTo>
                    <a:pt x="612" y="1746"/>
                  </a:lnTo>
                  <a:lnTo>
                    <a:pt x="638" y="1752"/>
                  </a:lnTo>
                  <a:lnTo>
                    <a:pt x="652" y="1746"/>
                  </a:lnTo>
                  <a:lnTo>
                    <a:pt x="654" y="1732"/>
                  </a:lnTo>
                  <a:lnTo>
                    <a:pt x="680" y="1730"/>
                  </a:lnTo>
                  <a:lnTo>
                    <a:pt x="702" y="1712"/>
                  </a:lnTo>
                  <a:lnTo>
                    <a:pt x="712" y="1700"/>
                  </a:lnTo>
                  <a:lnTo>
                    <a:pt x="710" y="1682"/>
                  </a:lnTo>
                  <a:lnTo>
                    <a:pt x="726" y="1684"/>
                  </a:lnTo>
                  <a:lnTo>
                    <a:pt x="728" y="1704"/>
                  </a:lnTo>
                  <a:lnTo>
                    <a:pt x="752" y="1702"/>
                  </a:lnTo>
                  <a:lnTo>
                    <a:pt x="764" y="1682"/>
                  </a:lnTo>
                  <a:lnTo>
                    <a:pt x="792" y="1662"/>
                  </a:lnTo>
                  <a:lnTo>
                    <a:pt x="782" y="1642"/>
                  </a:lnTo>
                  <a:lnTo>
                    <a:pt x="794" y="1650"/>
                  </a:lnTo>
                  <a:lnTo>
                    <a:pt x="806" y="1650"/>
                  </a:lnTo>
                  <a:lnTo>
                    <a:pt x="806" y="1640"/>
                  </a:lnTo>
                  <a:lnTo>
                    <a:pt x="816" y="1632"/>
                  </a:lnTo>
                  <a:lnTo>
                    <a:pt x="814" y="1624"/>
                  </a:lnTo>
                  <a:lnTo>
                    <a:pt x="710" y="1644"/>
                  </a:lnTo>
                  <a:lnTo>
                    <a:pt x="684" y="1640"/>
                  </a:lnTo>
                  <a:lnTo>
                    <a:pt x="676" y="1646"/>
                  </a:lnTo>
                  <a:lnTo>
                    <a:pt x="670" y="1636"/>
                  </a:lnTo>
                  <a:lnTo>
                    <a:pt x="656" y="1628"/>
                  </a:lnTo>
                  <a:lnTo>
                    <a:pt x="606" y="1612"/>
                  </a:lnTo>
                  <a:lnTo>
                    <a:pt x="578" y="1616"/>
                  </a:lnTo>
                  <a:lnTo>
                    <a:pt x="566" y="1612"/>
                  </a:lnTo>
                  <a:lnTo>
                    <a:pt x="576" y="1606"/>
                  </a:lnTo>
                  <a:lnTo>
                    <a:pt x="584" y="1596"/>
                  </a:lnTo>
                  <a:lnTo>
                    <a:pt x="598" y="1598"/>
                  </a:lnTo>
                  <a:lnTo>
                    <a:pt x="612" y="1594"/>
                  </a:lnTo>
                  <a:lnTo>
                    <a:pt x="638" y="1596"/>
                  </a:lnTo>
                  <a:lnTo>
                    <a:pt x="640" y="1596"/>
                  </a:lnTo>
                  <a:lnTo>
                    <a:pt x="662" y="1610"/>
                  </a:lnTo>
                  <a:lnTo>
                    <a:pt x="674" y="1604"/>
                  </a:lnTo>
                  <a:lnTo>
                    <a:pt x="674" y="1598"/>
                  </a:lnTo>
                  <a:lnTo>
                    <a:pt x="690" y="1606"/>
                  </a:lnTo>
                  <a:lnTo>
                    <a:pt x="706" y="1612"/>
                  </a:lnTo>
                  <a:lnTo>
                    <a:pt x="710" y="1602"/>
                  </a:lnTo>
                  <a:lnTo>
                    <a:pt x="716" y="1606"/>
                  </a:lnTo>
                  <a:lnTo>
                    <a:pt x="728" y="1622"/>
                  </a:lnTo>
                  <a:lnTo>
                    <a:pt x="744" y="1626"/>
                  </a:lnTo>
                  <a:lnTo>
                    <a:pt x="806" y="1600"/>
                  </a:lnTo>
                  <a:lnTo>
                    <a:pt x="824" y="1570"/>
                  </a:lnTo>
                  <a:lnTo>
                    <a:pt x="832" y="1564"/>
                  </a:lnTo>
                  <a:lnTo>
                    <a:pt x="836" y="1538"/>
                  </a:lnTo>
                  <a:lnTo>
                    <a:pt x="820" y="1514"/>
                  </a:lnTo>
                  <a:lnTo>
                    <a:pt x="794" y="1500"/>
                  </a:lnTo>
                  <a:lnTo>
                    <a:pt x="772" y="1478"/>
                  </a:lnTo>
                  <a:lnTo>
                    <a:pt x="788" y="1478"/>
                  </a:lnTo>
                  <a:lnTo>
                    <a:pt x="786" y="1472"/>
                  </a:lnTo>
                  <a:lnTo>
                    <a:pt x="740" y="1458"/>
                  </a:lnTo>
                  <a:lnTo>
                    <a:pt x="736" y="1442"/>
                  </a:lnTo>
                  <a:lnTo>
                    <a:pt x="726" y="1428"/>
                  </a:lnTo>
                  <a:lnTo>
                    <a:pt x="692" y="1432"/>
                  </a:lnTo>
                  <a:lnTo>
                    <a:pt x="682" y="1424"/>
                  </a:lnTo>
                  <a:lnTo>
                    <a:pt x="678" y="1416"/>
                  </a:lnTo>
                  <a:lnTo>
                    <a:pt x="670" y="1416"/>
                  </a:lnTo>
                  <a:lnTo>
                    <a:pt x="670" y="1422"/>
                  </a:lnTo>
                  <a:lnTo>
                    <a:pt x="662" y="1450"/>
                  </a:lnTo>
                  <a:lnTo>
                    <a:pt x="648" y="1468"/>
                  </a:lnTo>
                  <a:lnTo>
                    <a:pt x="614" y="1490"/>
                  </a:lnTo>
                  <a:lnTo>
                    <a:pt x="602" y="1498"/>
                  </a:lnTo>
                  <a:lnTo>
                    <a:pt x="584" y="1498"/>
                  </a:lnTo>
                  <a:lnTo>
                    <a:pt x="560" y="1502"/>
                  </a:lnTo>
                  <a:lnTo>
                    <a:pt x="544" y="1500"/>
                  </a:lnTo>
                  <a:lnTo>
                    <a:pt x="560" y="1490"/>
                  </a:lnTo>
                  <a:lnTo>
                    <a:pt x="584" y="1486"/>
                  </a:lnTo>
                  <a:lnTo>
                    <a:pt x="600" y="1472"/>
                  </a:lnTo>
                  <a:lnTo>
                    <a:pt x="620" y="1466"/>
                  </a:lnTo>
                  <a:lnTo>
                    <a:pt x="650" y="1442"/>
                  </a:lnTo>
                  <a:lnTo>
                    <a:pt x="654" y="1426"/>
                  </a:lnTo>
                  <a:lnTo>
                    <a:pt x="652" y="1408"/>
                  </a:lnTo>
                  <a:lnTo>
                    <a:pt x="634" y="1404"/>
                  </a:lnTo>
                  <a:lnTo>
                    <a:pt x="640" y="1394"/>
                  </a:lnTo>
                  <a:lnTo>
                    <a:pt x="640" y="1378"/>
                  </a:lnTo>
                  <a:lnTo>
                    <a:pt x="632" y="1364"/>
                  </a:lnTo>
                  <a:lnTo>
                    <a:pt x="620" y="1324"/>
                  </a:lnTo>
                  <a:lnTo>
                    <a:pt x="620" y="1296"/>
                  </a:lnTo>
                  <a:lnTo>
                    <a:pt x="608" y="1264"/>
                  </a:lnTo>
                  <a:lnTo>
                    <a:pt x="608" y="1254"/>
                  </a:lnTo>
                  <a:lnTo>
                    <a:pt x="612" y="1242"/>
                  </a:lnTo>
                  <a:lnTo>
                    <a:pt x="610" y="1234"/>
                  </a:lnTo>
                  <a:lnTo>
                    <a:pt x="642" y="1246"/>
                  </a:lnTo>
                  <a:lnTo>
                    <a:pt x="640" y="1232"/>
                  </a:lnTo>
                  <a:lnTo>
                    <a:pt x="628" y="1202"/>
                  </a:lnTo>
                  <a:lnTo>
                    <a:pt x="632" y="1172"/>
                  </a:lnTo>
                  <a:lnTo>
                    <a:pt x="640" y="1146"/>
                  </a:lnTo>
                  <a:lnTo>
                    <a:pt x="624" y="1132"/>
                  </a:lnTo>
                  <a:lnTo>
                    <a:pt x="616" y="1120"/>
                  </a:lnTo>
                  <a:lnTo>
                    <a:pt x="616" y="1100"/>
                  </a:lnTo>
                  <a:lnTo>
                    <a:pt x="648" y="1112"/>
                  </a:lnTo>
                  <a:lnTo>
                    <a:pt x="650" y="1108"/>
                  </a:lnTo>
                  <a:lnTo>
                    <a:pt x="658" y="1104"/>
                  </a:lnTo>
                  <a:lnTo>
                    <a:pt x="668" y="1092"/>
                  </a:lnTo>
                  <a:lnTo>
                    <a:pt x="668" y="1086"/>
                  </a:lnTo>
                  <a:lnTo>
                    <a:pt x="664" y="1082"/>
                  </a:lnTo>
                  <a:lnTo>
                    <a:pt x="666" y="1060"/>
                  </a:lnTo>
                  <a:lnTo>
                    <a:pt x="656" y="1044"/>
                  </a:lnTo>
                  <a:lnTo>
                    <a:pt x="656" y="1032"/>
                  </a:lnTo>
                  <a:lnTo>
                    <a:pt x="662" y="1046"/>
                  </a:lnTo>
                  <a:lnTo>
                    <a:pt x="682" y="1056"/>
                  </a:lnTo>
                  <a:lnTo>
                    <a:pt x="688" y="1054"/>
                  </a:lnTo>
                  <a:lnTo>
                    <a:pt x="696" y="1040"/>
                  </a:lnTo>
                  <a:lnTo>
                    <a:pt x="710" y="1046"/>
                  </a:lnTo>
                  <a:lnTo>
                    <a:pt x="710" y="1034"/>
                  </a:lnTo>
                  <a:lnTo>
                    <a:pt x="718" y="1028"/>
                  </a:lnTo>
                  <a:lnTo>
                    <a:pt x="696" y="1020"/>
                  </a:lnTo>
                  <a:lnTo>
                    <a:pt x="710" y="1020"/>
                  </a:lnTo>
                  <a:lnTo>
                    <a:pt x="726" y="1012"/>
                  </a:lnTo>
                  <a:lnTo>
                    <a:pt x="724" y="1006"/>
                  </a:lnTo>
                  <a:lnTo>
                    <a:pt x="738" y="1000"/>
                  </a:lnTo>
                  <a:lnTo>
                    <a:pt x="738" y="986"/>
                  </a:lnTo>
                  <a:lnTo>
                    <a:pt x="748" y="984"/>
                  </a:lnTo>
                  <a:lnTo>
                    <a:pt x="748" y="966"/>
                  </a:lnTo>
                  <a:lnTo>
                    <a:pt x="760" y="964"/>
                  </a:lnTo>
                  <a:lnTo>
                    <a:pt x="780" y="968"/>
                  </a:lnTo>
                  <a:lnTo>
                    <a:pt x="802" y="954"/>
                  </a:lnTo>
                  <a:lnTo>
                    <a:pt x="806" y="940"/>
                  </a:lnTo>
                  <a:lnTo>
                    <a:pt x="830" y="924"/>
                  </a:lnTo>
                  <a:lnTo>
                    <a:pt x="846" y="932"/>
                  </a:lnTo>
                  <a:lnTo>
                    <a:pt x="864" y="922"/>
                  </a:lnTo>
                  <a:lnTo>
                    <a:pt x="868" y="908"/>
                  </a:lnTo>
                  <a:lnTo>
                    <a:pt x="880" y="900"/>
                  </a:lnTo>
                  <a:lnTo>
                    <a:pt x="896" y="904"/>
                  </a:lnTo>
                  <a:lnTo>
                    <a:pt x="902" y="896"/>
                  </a:lnTo>
                  <a:lnTo>
                    <a:pt x="924" y="888"/>
                  </a:lnTo>
                  <a:lnTo>
                    <a:pt x="934" y="874"/>
                  </a:lnTo>
                  <a:lnTo>
                    <a:pt x="944" y="870"/>
                  </a:lnTo>
                  <a:lnTo>
                    <a:pt x="956" y="848"/>
                  </a:lnTo>
                  <a:lnTo>
                    <a:pt x="958" y="836"/>
                  </a:lnTo>
                  <a:lnTo>
                    <a:pt x="978" y="818"/>
                  </a:lnTo>
                  <a:lnTo>
                    <a:pt x="986" y="800"/>
                  </a:lnTo>
                  <a:lnTo>
                    <a:pt x="996" y="784"/>
                  </a:lnTo>
                  <a:lnTo>
                    <a:pt x="1004" y="776"/>
                  </a:lnTo>
                  <a:lnTo>
                    <a:pt x="1008" y="784"/>
                  </a:lnTo>
                  <a:lnTo>
                    <a:pt x="1008" y="796"/>
                  </a:lnTo>
                  <a:lnTo>
                    <a:pt x="1022" y="778"/>
                  </a:lnTo>
                  <a:lnTo>
                    <a:pt x="1024" y="772"/>
                  </a:lnTo>
                  <a:lnTo>
                    <a:pt x="1012" y="766"/>
                  </a:lnTo>
                  <a:lnTo>
                    <a:pt x="1010" y="758"/>
                  </a:lnTo>
                  <a:lnTo>
                    <a:pt x="980" y="738"/>
                  </a:lnTo>
                  <a:lnTo>
                    <a:pt x="974" y="730"/>
                  </a:lnTo>
                  <a:lnTo>
                    <a:pt x="978" y="728"/>
                  </a:lnTo>
                  <a:lnTo>
                    <a:pt x="974" y="720"/>
                  </a:lnTo>
                  <a:lnTo>
                    <a:pt x="964" y="712"/>
                  </a:lnTo>
                  <a:lnTo>
                    <a:pt x="964" y="708"/>
                  </a:lnTo>
                  <a:lnTo>
                    <a:pt x="972" y="702"/>
                  </a:lnTo>
                  <a:lnTo>
                    <a:pt x="972" y="694"/>
                  </a:lnTo>
                  <a:lnTo>
                    <a:pt x="988" y="688"/>
                  </a:lnTo>
                  <a:lnTo>
                    <a:pt x="1000" y="656"/>
                  </a:lnTo>
                  <a:lnTo>
                    <a:pt x="1002" y="646"/>
                  </a:lnTo>
                  <a:lnTo>
                    <a:pt x="978" y="624"/>
                  </a:lnTo>
                  <a:lnTo>
                    <a:pt x="980" y="622"/>
                  </a:lnTo>
                  <a:lnTo>
                    <a:pt x="1000" y="612"/>
                  </a:lnTo>
                  <a:lnTo>
                    <a:pt x="998" y="602"/>
                  </a:lnTo>
                  <a:lnTo>
                    <a:pt x="1006" y="600"/>
                  </a:lnTo>
                  <a:lnTo>
                    <a:pt x="1024" y="606"/>
                  </a:lnTo>
                  <a:lnTo>
                    <a:pt x="1028" y="604"/>
                  </a:lnTo>
                  <a:lnTo>
                    <a:pt x="1030" y="594"/>
                  </a:lnTo>
                  <a:lnTo>
                    <a:pt x="1022" y="590"/>
                  </a:lnTo>
                  <a:lnTo>
                    <a:pt x="1040" y="588"/>
                  </a:lnTo>
                  <a:lnTo>
                    <a:pt x="1042" y="580"/>
                  </a:lnTo>
                  <a:lnTo>
                    <a:pt x="1018" y="560"/>
                  </a:lnTo>
                  <a:lnTo>
                    <a:pt x="1016" y="556"/>
                  </a:lnTo>
                  <a:lnTo>
                    <a:pt x="1040" y="566"/>
                  </a:lnTo>
                  <a:lnTo>
                    <a:pt x="1050" y="576"/>
                  </a:lnTo>
                  <a:lnTo>
                    <a:pt x="1058" y="576"/>
                  </a:lnTo>
                  <a:lnTo>
                    <a:pt x="1052" y="556"/>
                  </a:lnTo>
                  <a:lnTo>
                    <a:pt x="1054" y="558"/>
                  </a:lnTo>
                  <a:lnTo>
                    <a:pt x="1062" y="556"/>
                  </a:lnTo>
                  <a:lnTo>
                    <a:pt x="1060" y="528"/>
                  </a:lnTo>
                  <a:lnTo>
                    <a:pt x="1066" y="528"/>
                  </a:lnTo>
                  <a:lnTo>
                    <a:pt x="1074" y="528"/>
                  </a:lnTo>
                  <a:lnTo>
                    <a:pt x="1074" y="534"/>
                  </a:lnTo>
                  <a:lnTo>
                    <a:pt x="1082" y="540"/>
                  </a:lnTo>
                  <a:lnTo>
                    <a:pt x="1092" y="542"/>
                  </a:lnTo>
                  <a:lnTo>
                    <a:pt x="1098" y="526"/>
                  </a:lnTo>
                  <a:lnTo>
                    <a:pt x="1108" y="532"/>
                  </a:lnTo>
                  <a:lnTo>
                    <a:pt x="1122" y="544"/>
                  </a:lnTo>
                  <a:lnTo>
                    <a:pt x="1128" y="544"/>
                  </a:lnTo>
                  <a:lnTo>
                    <a:pt x="1140" y="550"/>
                  </a:lnTo>
                  <a:lnTo>
                    <a:pt x="1146" y="534"/>
                  </a:lnTo>
                  <a:lnTo>
                    <a:pt x="1194" y="532"/>
                  </a:lnTo>
                  <a:lnTo>
                    <a:pt x="1212" y="538"/>
                  </a:lnTo>
                  <a:lnTo>
                    <a:pt x="1226" y="548"/>
                  </a:lnTo>
                  <a:lnTo>
                    <a:pt x="1232" y="536"/>
                  </a:lnTo>
                  <a:lnTo>
                    <a:pt x="1238" y="534"/>
                  </a:lnTo>
                  <a:lnTo>
                    <a:pt x="1232" y="518"/>
                  </a:lnTo>
                  <a:lnTo>
                    <a:pt x="1196" y="478"/>
                  </a:lnTo>
                  <a:lnTo>
                    <a:pt x="1184" y="452"/>
                  </a:lnTo>
                  <a:lnTo>
                    <a:pt x="1188" y="430"/>
                  </a:lnTo>
                  <a:lnTo>
                    <a:pt x="1200" y="412"/>
                  </a:lnTo>
                  <a:lnTo>
                    <a:pt x="1200" y="402"/>
                  </a:lnTo>
                  <a:lnTo>
                    <a:pt x="1196" y="386"/>
                  </a:lnTo>
                  <a:lnTo>
                    <a:pt x="1146" y="332"/>
                  </a:lnTo>
                  <a:lnTo>
                    <a:pt x="1138" y="312"/>
                  </a:lnTo>
                  <a:lnTo>
                    <a:pt x="1144" y="288"/>
                  </a:lnTo>
                  <a:lnTo>
                    <a:pt x="1138" y="270"/>
                  </a:lnTo>
                  <a:lnTo>
                    <a:pt x="1128" y="262"/>
                  </a:lnTo>
                  <a:lnTo>
                    <a:pt x="1120" y="246"/>
                  </a:lnTo>
                  <a:lnTo>
                    <a:pt x="1116" y="222"/>
                  </a:lnTo>
                  <a:lnTo>
                    <a:pt x="1116" y="202"/>
                  </a:lnTo>
                  <a:lnTo>
                    <a:pt x="1122" y="188"/>
                  </a:lnTo>
                  <a:lnTo>
                    <a:pt x="1116" y="180"/>
                  </a:lnTo>
                  <a:lnTo>
                    <a:pt x="1044" y="116"/>
                  </a:lnTo>
                  <a:lnTo>
                    <a:pt x="1008" y="98"/>
                  </a:lnTo>
                  <a:lnTo>
                    <a:pt x="942" y="88"/>
                  </a:lnTo>
                  <a:lnTo>
                    <a:pt x="880" y="54"/>
                  </a:lnTo>
                  <a:lnTo>
                    <a:pt x="798" y="4"/>
                  </a:lnTo>
                  <a:lnTo>
                    <a:pt x="792" y="0"/>
                  </a:lnTo>
                  <a:lnTo>
                    <a:pt x="788" y="0"/>
                  </a:lnTo>
                  <a:lnTo>
                    <a:pt x="746" y="0"/>
                  </a:lnTo>
                  <a:lnTo>
                    <a:pt x="738" y="4"/>
                  </a:lnTo>
                  <a:lnTo>
                    <a:pt x="742" y="14"/>
                  </a:lnTo>
                  <a:lnTo>
                    <a:pt x="750" y="20"/>
                  </a:lnTo>
                  <a:lnTo>
                    <a:pt x="756" y="32"/>
                  </a:lnTo>
                  <a:lnTo>
                    <a:pt x="754" y="42"/>
                  </a:lnTo>
                  <a:lnTo>
                    <a:pt x="748" y="48"/>
                  </a:lnTo>
                  <a:lnTo>
                    <a:pt x="744" y="64"/>
                  </a:lnTo>
                  <a:lnTo>
                    <a:pt x="734" y="76"/>
                  </a:lnTo>
                  <a:lnTo>
                    <a:pt x="738" y="88"/>
                  </a:lnTo>
                  <a:lnTo>
                    <a:pt x="758" y="98"/>
                  </a:lnTo>
                  <a:lnTo>
                    <a:pt x="748" y="108"/>
                  </a:lnTo>
                  <a:lnTo>
                    <a:pt x="732" y="110"/>
                  </a:lnTo>
                  <a:lnTo>
                    <a:pt x="652" y="94"/>
                  </a:lnTo>
                  <a:lnTo>
                    <a:pt x="596" y="92"/>
                  </a:lnTo>
                  <a:lnTo>
                    <a:pt x="580" y="94"/>
                  </a:lnTo>
                  <a:lnTo>
                    <a:pt x="570" y="98"/>
                  </a:lnTo>
                  <a:lnTo>
                    <a:pt x="564" y="110"/>
                  </a:lnTo>
                  <a:lnTo>
                    <a:pt x="570" y="136"/>
                  </a:lnTo>
                  <a:lnTo>
                    <a:pt x="570" y="146"/>
                  </a:lnTo>
                  <a:lnTo>
                    <a:pt x="564" y="170"/>
                  </a:lnTo>
                  <a:lnTo>
                    <a:pt x="550" y="190"/>
                  </a:lnTo>
                  <a:lnTo>
                    <a:pt x="542" y="188"/>
                  </a:lnTo>
                  <a:lnTo>
                    <a:pt x="522" y="174"/>
                  </a:lnTo>
                  <a:lnTo>
                    <a:pt x="498" y="166"/>
                  </a:lnTo>
                  <a:lnTo>
                    <a:pt x="478" y="170"/>
                  </a:lnTo>
                  <a:lnTo>
                    <a:pt x="446" y="192"/>
                  </a:lnTo>
                  <a:lnTo>
                    <a:pt x="434" y="206"/>
                  </a:lnTo>
                  <a:lnTo>
                    <a:pt x="428" y="226"/>
                  </a:lnTo>
                  <a:lnTo>
                    <a:pt x="428" y="240"/>
                  </a:lnTo>
                  <a:lnTo>
                    <a:pt x="418" y="252"/>
                  </a:lnTo>
                  <a:lnTo>
                    <a:pt x="396" y="274"/>
                  </a:lnTo>
                  <a:lnTo>
                    <a:pt x="392" y="290"/>
                  </a:lnTo>
                  <a:lnTo>
                    <a:pt x="418" y="316"/>
                  </a:lnTo>
                  <a:lnTo>
                    <a:pt x="424" y="332"/>
                  </a:lnTo>
                  <a:lnTo>
                    <a:pt x="422" y="342"/>
                  </a:lnTo>
                  <a:lnTo>
                    <a:pt x="412" y="356"/>
                  </a:lnTo>
                  <a:lnTo>
                    <a:pt x="390" y="372"/>
                  </a:lnTo>
                  <a:lnTo>
                    <a:pt x="380" y="390"/>
                  </a:lnTo>
                  <a:lnTo>
                    <a:pt x="340" y="428"/>
                  </a:lnTo>
                  <a:lnTo>
                    <a:pt x="332" y="446"/>
                  </a:lnTo>
                  <a:lnTo>
                    <a:pt x="330" y="472"/>
                  </a:lnTo>
                  <a:lnTo>
                    <a:pt x="324" y="486"/>
                  </a:lnTo>
                  <a:lnTo>
                    <a:pt x="294" y="504"/>
                  </a:lnTo>
                  <a:lnTo>
                    <a:pt x="272" y="504"/>
                  </a:lnTo>
                  <a:lnTo>
                    <a:pt x="260" y="510"/>
                  </a:lnTo>
                  <a:lnTo>
                    <a:pt x="264" y="528"/>
                  </a:lnTo>
                  <a:lnTo>
                    <a:pt x="268" y="556"/>
                  </a:lnTo>
                  <a:lnTo>
                    <a:pt x="270" y="592"/>
                  </a:lnTo>
                  <a:lnTo>
                    <a:pt x="260" y="656"/>
                  </a:lnTo>
                  <a:lnTo>
                    <a:pt x="234" y="704"/>
                  </a:lnTo>
                  <a:lnTo>
                    <a:pt x="202" y="746"/>
                  </a:lnTo>
                  <a:lnTo>
                    <a:pt x="206" y="760"/>
                  </a:lnTo>
                  <a:lnTo>
                    <a:pt x="236" y="780"/>
                  </a:lnTo>
                  <a:lnTo>
                    <a:pt x="250" y="794"/>
                  </a:lnTo>
                  <a:lnTo>
                    <a:pt x="252" y="820"/>
                  </a:lnTo>
                  <a:lnTo>
                    <a:pt x="248" y="836"/>
                  </a:lnTo>
                  <a:lnTo>
                    <a:pt x="232" y="854"/>
                  </a:lnTo>
                  <a:lnTo>
                    <a:pt x="204" y="852"/>
                  </a:lnTo>
                  <a:lnTo>
                    <a:pt x="170" y="848"/>
                  </a:lnTo>
                  <a:lnTo>
                    <a:pt x="130" y="856"/>
                  </a:lnTo>
                  <a:lnTo>
                    <a:pt x="98" y="872"/>
                  </a:lnTo>
                  <a:lnTo>
                    <a:pt x="56" y="914"/>
                  </a:lnTo>
                  <a:lnTo>
                    <a:pt x="46" y="934"/>
                  </a:lnTo>
                  <a:lnTo>
                    <a:pt x="40" y="962"/>
                  </a:lnTo>
                  <a:lnTo>
                    <a:pt x="48" y="986"/>
                  </a:lnTo>
                  <a:lnTo>
                    <a:pt x="64" y="1004"/>
                  </a:lnTo>
                  <a:lnTo>
                    <a:pt x="74" y="1012"/>
                  </a:lnTo>
                  <a:lnTo>
                    <a:pt x="62" y="1026"/>
                  </a:lnTo>
                  <a:lnTo>
                    <a:pt x="60" y="1044"/>
                  </a:lnTo>
                  <a:lnTo>
                    <a:pt x="56" y="1056"/>
                  </a:lnTo>
                  <a:lnTo>
                    <a:pt x="58" y="1084"/>
                  </a:lnTo>
                  <a:lnTo>
                    <a:pt x="54" y="1096"/>
                  </a:lnTo>
                  <a:lnTo>
                    <a:pt x="56" y="1114"/>
                  </a:lnTo>
                  <a:lnTo>
                    <a:pt x="62" y="1118"/>
                  </a:lnTo>
                  <a:lnTo>
                    <a:pt x="72" y="1140"/>
                  </a:lnTo>
                  <a:lnTo>
                    <a:pt x="74" y="1200"/>
                  </a:lnTo>
                  <a:lnTo>
                    <a:pt x="80" y="1230"/>
                  </a:lnTo>
                  <a:lnTo>
                    <a:pt x="100" y="1252"/>
                  </a:lnTo>
                  <a:lnTo>
                    <a:pt x="142" y="1274"/>
                  </a:lnTo>
                  <a:lnTo>
                    <a:pt x="150" y="1304"/>
                  </a:lnTo>
                  <a:lnTo>
                    <a:pt x="142" y="1332"/>
                  </a:lnTo>
                  <a:lnTo>
                    <a:pt x="122" y="1348"/>
                  </a:lnTo>
                  <a:lnTo>
                    <a:pt x="94" y="1358"/>
                  </a:lnTo>
                  <a:lnTo>
                    <a:pt x="90" y="1368"/>
                  </a:lnTo>
                  <a:lnTo>
                    <a:pt x="112" y="1386"/>
                  </a:lnTo>
                  <a:lnTo>
                    <a:pt x="134" y="1436"/>
                  </a:lnTo>
                  <a:lnTo>
                    <a:pt x="122" y="1482"/>
                  </a:lnTo>
                  <a:lnTo>
                    <a:pt x="132" y="1494"/>
                  </a:lnTo>
                  <a:lnTo>
                    <a:pt x="130" y="1518"/>
                  </a:lnTo>
                  <a:lnTo>
                    <a:pt x="120" y="1534"/>
                  </a:lnTo>
                  <a:lnTo>
                    <a:pt x="66" y="1550"/>
                  </a:lnTo>
                  <a:lnTo>
                    <a:pt x="68" y="1572"/>
                  </a:lnTo>
                  <a:lnTo>
                    <a:pt x="46" y="1606"/>
                  </a:lnTo>
                  <a:lnTo>
                    <a:pt x="50" y="1630"/>
                  </a:lnTo>
                  <a:lnTo>
                    <a:pt x="60" y="1650"/>
                  </a:lnTo>
                  <a:lnTo>
                    <a:pt x="50" y="1710"/>
                  </a:lnTo>
                  <a:lnTo>
                    <a:pt x="34" y="1718"/>
                  </a:lnTo>
                  <a:lnTo>
                    <a:pt x="24" y="1704"/>
                  </a:lnTo>
                  <a:lnTo>
                    <a:pt x="20" y="1726"/>
                  </a:lnTo>
                  <a:lnTo>
                    <a:pt x="18" y="1690"/>
                  </a:lnTo>
                  <a:lnTo>
                    <a:pt x="12" y="1684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893120" y="3345480"/>
              <a:ext cx="79560" cy="85680"/>
            </a:xfrm>
            <a:custGeom>
              <a:avLst/>
              <a:gdLst/>
              <a:ahLst/>
              <a:rect l="l" t="t" r="r" b="b"/>
              <a:pathLst>
                <a:path w="462" h="500">
                  <a:moveTo>
                    <a:pt x="264" y="500"/>
                  </a:moveTo>
                  <a:lnTo>
                    <a:pt x="258" y="468"/>
                  </a:lnTo>
                  <a:lnTo>
                    <a:pt x="252" y="444"/>
                  </a:lnTo>
                  <a:lnTo>
                    <a:pt x="242" y="418"/>
                  </a:lnTo>
                  <a:lnTo>
                    <a:pt x="244" y="382"/>
                  </a:lnTo>
                  <a:lnTo>
                    <a:pt x="238" y="342"/>
                  </a:lnTo>
                  <a:lnTo>
                    <a:pt x="216" y="280"/>
                  </a:lnTo>
                  <a:lnTo>
                    <a:pt x="186" y="238"/>
                  </a:lnTo>
                  <a:lnTo>
                    <a:pt x="148" y="194"/>
                  </a:lnTo>
                  <a:lnTo>
                    <a:pt x="116" y="152"/>
                  </a:lnTo>
                  <a:lnTo>
                    <a:pt x="104" y="116"/>
                  </a:lnTo>
                  <a:lnTo>
                    <a:pt x="80" y="88"/>
                  </a:lnTo>
                  <a:lnTo>
                    <a:pt x="48" y="62"/>
                  </a:lnTo>
                  <a:lnTo>
                    <a:pt x="16" y="42"/>
                  </a:lnTo>
                  <a:lnTo>
                    <a:pt x="0" y="42"/>
                  </a:lnTo>
                  <a:lnTo>
                    <a:pt x="10" y="20"/>
                  </a:lnTo>
                  <a:lnTo>
                    <a:pt x="24" y="10"/>
                  </a:lnTo>
                  <a:lnTo>
                    <a:pt x="42" y="14"/>
                  </a:lnTo>
                  <a:lnTo>
                    <a:pt x="60" y="12"/>
                  </a:lnTo>
                  <a:lnTo>
                    <a:pt x="94" y="0"/>
                  </a:lnTo>
                  <a:lnTo>
                    <a:pt x="132" y="10"/>
                  </a:lnTo>
                  <a:lnTo>
                    <a:pt x="148" y="16"/>
                  </a:lnTo>
                  <a:lnTo>
                    <a:pt x="196" y="48"/>
                  </a:lnTo>
                  <a:lnTo>
                    <a:pt x="214" y="54"/>
                  </a:lnTo>
                  <a:lnTo>
                    <a:pt x="248" y="46"/>
                  </a:lnTo>
                  <a:lnTo>
                    <a:pt x="266" y="50"/>
                  </a:lnTo>
                  <a:lnTo>
                    <a:pt x="296" y="74"/>
                  </a:lnTo>
                  <a:lnTo>
                    <a:pt x="314" y="70"/>
                  </a:lnTo>
                  <a:lnTo>
                    <a:pt x="324" y="84"/>
                  </a:lnTo>
                  <a:lnTo>
                    <a:pt x="328" y="102"/>
                  </a:lnTo>
                  <a:lnTo>
                    <a:pt x="330" y="118"/>
                  </a:lnTo>
                  <a:lnTo>
                    <a:pt x="328" y="152"/>
                  </a:lnTo>
                  <a:lnTo>
                    <a:pt x="344" y="162"/>
                  </a:lnTo>
                  <a:lnTo>
                    <a:pt x="356" y="176"/>
                  </a:lnTo>
                  <a:lnTo>
                    <a:pt x="374" y="180"/>
                  </a:lnTo>
                  <a:lnTo>
                    <a:pt x="382" y="194"/>
                  </a:lnTo>
                  <a:lnTo>
                    <a:pt x="380" y="212"/>
                  </a:lnTo>
                  <a:lnTo>
                    <a:pt x="400" y="242"/>
                  </a:lnTo>
                  <a:lnTo>
                    <a:pt x="436" y="258"/>
                  </a:lnTo>
                  <a:lnTo>
                    <a:pt x="446" y="272"/>
                  </a:lnTo>
                  <a:lnTo>
                    <a:pt x="452" y="288"/>
                  </a:lnTo>
                  <a:lnTo>
                    <a:pt x="452" y="306"/>
                  </a:lnTo>
                  <a:lnTo>
                    <a:pt x="462" y="322"/>
                  </a:lnTo>
                  <a:lnTo>
                    <a:pt x="456" y="338"/>
                  </a:lnTo>
                  <a:lnTo>
                    <a:pt x="442" y="348"/>
                  </a:lnTo>
                  <a:lnTo>
                    <a:pt x="388" y="336"/>
                  </a:lnTo>
                  <a:lnTo>
                    <a:pt x="374" y="344"/>
                  </a:lnTo>
                  <a:lnTo>
                    <a:pt x="362" y="330"/>
                  </a:lnTo>
                  <a:lnTo>
                    <a:pt x="346" y="338"/>
                  </a:lnTo>
                  <a:lnTo>
                    <a:pt x="340" y="354"/>
                  </a:lnTo>
                  <a:lnTo>
                    <a:pt x="342" y="406"/>
                  </a:lnTo>
                  <a:lnTo>
                    <a:pt x="326" y="414"/>
                  </a:lnTo>
                  <a:lnTo>
                    <a:pt x="316" y="428"/>
                  </a:lnTo>
                  <a:lnTo>
                    <a:pt x="316" y="444"/>
                  </a:lnTo>
                  <a:lnTo>
                    <a:pt x="300" y="454"/>
                  </a:lnTo>
                  <a:lnTo>
                    <a:pt x="294" y="470"/>
                  </a:lnTo>
                  <a:lnTo>
                    <a:pt x="296" y="488"/>
                  </a:lnTo>
                  <a:lnTo>
                    <a:pt x="284" y="500"/>
                  </a:lnTo>
                  <a:lnTo>
                    <a:pt x="264" y="50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29520" y="3335040"/>
              <a:ext cx="162000" cy="73080"/>
            </a:xfrm>
            <a:custGeom>
              <a:avLst/>
              <a:gdLst/>
              <a:ahLst/>
              <a:rect l="l" t="t" r="r" b="b"/>
              <a:pathLst>
                <a:path w="936" h="428">
                  <a:moveTo>
                    <a:pt x="514" y="42"/>
                  </a:moveTo>
                  <a:lnTo>
                    <a:pt x="512" y="58"/>
                  </a:lnTo>
                  <a:lnTo>
                    <a:pt x="474" y="74"/>
                  </a:lnTo>
                  <a:lnTo>
                    <a:pt x="466" y="92"/>
                  </a:lnTo>
                  <a:lnTo>
                    <a:pt x="462" y="110"/>
                  </a:lnTo>
                  <a:lnTo>
                    <a:pt x="412" y="130"/>
                  </a:lnTo>
                  <a:lnTo>
                    <a:pt x="404" y="154"/>
                  </a:lnTo>
                  <a:lnTo>
                    <a:pt x="408" y="186"/>
                  </a:lnTo>
                  <a:lnTo>
                    <a:pt x="426" y="220"/>
                  </a:lnTo>
                  <a:lnTo>
                    <a:pt x="428" y="236"/>
                  </a:lnTo>
                  <a:lnTo>
                    <a:pt x="410" y="242"/>
                  </a:lnTo>
                  <a:lnTo>
                    <a:pt x="400" y="226"/>
                  </a:lnTo>
                  <a:lnTo>
                    <a:pt x="368" y="228"/>
                  </a:lnTo>
                  <a:lnTo>
                    <a:pt x="342" y="220"/>
                  </a:lnTo>
                  <a:lnTo>
                    <a:pt x="332" y="230"/>
                  </a:lnTo>
                  <a:lnTo>
                    <a:pt x="258" y="240"/>
                  </a:lnTo>
                  <a:lnTo>
                    <a:pt x="216" y="266"/>
                  </a:lnTo>
                  <a:lnTo>
                    <a:pt x="186" y="266"/>
                  </a:lnTo>
                  <a:lnTo>
                    <a:pt x="156" y="250"/>
                  </a:lnTo>
                  <a:lnTo>
                    <a:pt x="130" y="248"/>
                  </a:lnTo>
                  <a:lnTo>
                    <a:pt x="116" y="262"/>
                  </a:lnTo>
                  <a:lnTo>
                    <a:pt x="110" y="276"/>
                  </a:lnTo>
                  <a:lnTo>
                    <a:pt x="98" y="282"/>
                  </a:lnTo>
                  <a:lnTo>
                    <a:pt x="76" y="272"/>
                  </a:lnTo>
                  <a:lnTo>
                    <a:pt x="64" y="254"/>
                  </a:lnTo>
                  <a:lnTo>
                    <a:pt x="44" y="250"/>
                  </a:lnTo>
                  <a:lnTo>
                    <a:pt x="22" y="252"/>
                  </a:lnTo>
                  <a:lnTo>
                    <a:pt x="0" y="260"/>
                  </a:lnTo>
                  <a:lnTo>
                    <a:pt x="18" y="276"/>
                  </a:lnTo>
                  <a:lnTo>
                    <a:pt x="34" y="286"/>
                  </a:lnTo>
                  <a:lnTo>
                    <a:pt x="40" y="302"/>
                  </a:lnTo>
                  <a:lnTo>
                    <a:pt x="40" y="324"/>
                  </a:lnTo>
                  <a:lnTo>
                    <a:pt x="28" y="340"/>
                  </a:lnTo>
                  <a:lnTo>
                    <a:pt x="42" y="350"/>
                  </a:lnTo>
                  <a:lnTo>
                    <a:pt x="66" y="360"/>
                  </a:lnTo>
                  <a:lnTo>
                    <a:pt x="88" y="362"/>
                  </a:lnTo>
                  <a:lnTo>
                    <a:pt x="104" y="352"/>
                  </a:lnTo>
                  <a:lnTo>
                    <a:pt x="122" y="364"/>
                  </a:lnTo>
                  <a:lnTo>
                    <a:pt x="152" y="372"/>
                  </a:lnTo>
                  <a:lnTo>
                    <a:pt x="160" y="370"/>
                  </a:lnTo>
                  <a:lnTo>
                    <a:pt x="196" y="360"/>
                  </a:lnTo>
                  <a:lnTo>
                    <a:pt x="238" y="344"/>
                  </a:lnTo>
                  <a:lnTo>
                    <a:pt x="280" y="340"/>
                  </a:lnTo>
                  <a:lnTo>
                    <a:pt x="302" y="336"/>
                  </a:lnTo>
                  <a:lnTo>
                    <a:pt x="314" y="328"/>
                  </a:lnTo>
                  <a:lnTo>
                    <a:pt x="326" y="326"/>
                  </a:lnTo>
                  <a:lnTo>
                    <a:pt x="332" y="330"/>
                  </a:lnTo>
                  <a:lnTo>
                    <a:pt x="332" y="340"/>
                  </a:lnTo>
                  <a:lnTo>
                    <a:pt x="338" y="358"/>
                  </a:lnTo>
                  <a:lnTo>
                    <a:pt x="348" y="372"/>
                  </a:lnTo>
                  <a:lnTo>
                    <a:pt x="376" y="388"/>
                  </a:lnTo>
                  <a:lnTo>
                    <a:pt x="384" y="390"/>
                  </a:lnTo>
                  <a:lnTo>
                    <a:pt x="408" y="404"/>
                  </a:lnTo>
                  <a:lnTo>
                    <a:pt x="478" y="410"/>
                  </a:lnTo>
                  <a:lnTo>
                    <a:pt x="508" y="422"/>
                  </a:lnTo>
                  <a:lnTo>
                    <a:pt x="528" y="422"/>
                  </a:lnTo>
                  <a:lnTo>
                    <a:pt x="564" y="422"/>
                  </a:lnTo>
                  <a:lnTo>
                    <a:pt x="632" y="428"/>
                  </a:lnTo>
                  <a:lnTo>
                    <a:pt x="650" y="416"/>
                  </a:lnTo>
                  <a:lnTo>
                    <a:pt x="666" y="394"/>
                  </a:lnTo>
                  <a:lnTo>
                    <a:pt x="696" y="386"/>
                  </a:lnTo>
                  <a:lnTo>
                    <a:pt x="740" y="394"/>
                  </a:lnTo>
                  <a:lnTo>
                    <a:pt x="750" y="376"/>
                  </a:lnTo>
                  <a:lnTo>
                    <a:pt x="760" y="376"/>
                  </a:lnTo>
                  <a:lnTo>
                    <a:pt x="800" y="380"/>
                  </a:lnTo>
                  <a:lnTo>
                    <a:pt x="802" y="364"/>
                  </a:lnTo>
                  <a:lnTo>
                    <a:pt x="820" y="354"/>
                  </a:lnTo>
                  <a:lnTo>
                    <a:pt x="842" y="332"/>
                  </a:lnTo>
                  <a:lnTo>
                    <a:pt x="866" y="326"/>
                  </a:lnTo>
                  <a:lnTo>
                    <a:pt x="860" y="302"/>
                  </a:lnTo>
                  <a:lnTo>
                    <a:pt x="860" y="282"/>
                  </a:lnTo>
                  <a:lnTo>
                    <a:pt x="876" y="244"/>
                  </a:lnTo>
                  <a:lnTo>
                    <a:pt x="860" y="228"/>
                  </a:lnTo>
                  <a:lnTo>
                    <a:pt x="868" y="212"/>
                  </a:lnTo>
                  <a:lnTo>
                    <a:pt x="926" y="210"/>
                  </a:lnTo>
                  <a:lnTo>
                    <a:pt x="936" y="192"/>
                  </a:lnTo>
                  <a:lnTo>
                    <a:pt x="932" y="152"/>
                  </a:lnTo>
                  <a:lnTo>
                    <a:pt x="912" y="124"/>
                  </a:lnTo>
                  <a:lnTo>
                    <a:pt x="896" y="80"/>
                  </a:lnTo>
                  <a:lnTo>
                    <a:pt x="896" y="80"/>
                  </a:lnTo>
                  <a:lnTo>
                    <a:pt x="892" y="52"/>
                  </a:lnTo>
                  <a:lnTo>
                    <a:pt x="874" y="30"/>
                  </a:lnTo>
                  <a:lnTo>
                    <a:pt x="794" y="38"/>
                  </a:lnTo>
                  <a:lnTo>
                    <a:pt x="762" y="12"/>
                  </a:lnTo>
                  <a:lnTo>
                    <a:pt x="742" y="4"/>
                  </a:lnTo>
                  <a:lnTo>
                    <a:pt x="666" y="0"/>
                  </a:lnTo>
                  <a:lnTo>
                    <a:pt x="654" y="20"/>
                  </a:lnTo>
                  <a:lnTo>
                    <a:pt x="650" y="40"/>
                  </a:lnTo>
                  <a:lnTo>
                    <a:pt x="630" y="56"/>
                  </a:lnTo>
                  <a:lnTo>
                    <a:pt x="610" y="64"/>
                  </a:lnTo>
                  <a:lnTo>
                    <a:pt x="586" y="66"/>
                  </a:lnTo>
                  <a:lnTo>
                    <a:pt x="560" y="64"/>
                  </a:lnTo>
                  <a:lnTo>
                    <a:pt x="542" y="54"/>
                  </a:lnTo>
                  <a:lnTo>
                    <a:pt x="514" y="4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01360" y="3209040"/>
              <a:ext cx="69840" cy="78120"/>
            </a:xfrm>
            <a:custGeom>
              <a:avLst/>
              <a:gdLst/>
              <a:ahLst/>
              <a:rect l="l" t="t" r="r" b="b"/>
              <a:pathLst>
                <a:path w="412" h="450">
                  <a:moveTo>
                    <a:pt x="300" y="450"/>
                  </a:moveTo>
                  <a:lnTo>
                    <a:pt x="274" y="450"/>
                  </a:lnTo>
                  <a:lnTo>
                    <a:pt x="256" y="438"/>
                  </a:lnTo>
                  <a:lnTo>
                    <a:pt x="252" y="418"/>
                  </a:lnTo>
                  <a:lnTo>
                    <a:pt x="254" y="396"/>
                  </a:lnTo>
                  <a:lnTo>
                    <a:pt x="252" y="376"/>
                  </a:lnTo>
                  <a:lnTo>
                    <a:pt x="234" y="366"/>
                  </a:lnTo>
                  <a:lnTo>
                    <a:pt x="214" y="364"/>
                  </a:lnTo>
                  <a:lnTo>
                    <a:pt x="196" y="356"/>
                  </a:lnTo>
                  <a:lnTo>
                    <a:pt x="190" y="344"/>
                  </a:lnTo>
                  <a:lnTo>
                    <a:pt x="184" y="344"/>
                  </a:lnTo>
                  <a:lnTo>
                    <a:pt x="172" y="332"/>
                  </a:lnTo>
                  <a:lnTo>
                    <a:pt x="138" y="334"/>
                  </a:lnTo>
                  <a:lnTo>
                    <a:pt x="112" y="340"/>
                  </a:lnTo>
                  <a:lnTo>
                    <a:pt x="80" y="358"/>
                  </a:lnTo>
                  <a:lnTo>
                    <a:pt x="38" y="370"/>
                  </a:lnTo>
                  <a:lnTo>
                    <a:pt x="2" y="352"/>
                  </a:lnTo>
                  <a:lnTo>
                    <a:pt x="0" y="350"/>
                  </a:lnTo>
                  <a:lnTo>
                    <a:pt x="6" y="346"/>
                  </a:lnTo>
                  <a:lnTo>
                    <a:pt x="22" y="346"/>
                  </a:lnTo>
                  <a:lnTo>
                    <a:pt x="44" y="358"/>
                  </a:lnTo>
                  <a:lnTo>
                    <a:pt x="64" y="348"/>
                  </a:lnTo>
                  <a:lnTo>
                    <a:pt x="82" y="348"/>
                  </a:lnTo>
                  <a:lnTo>
                    <a:pt x="90" y="342"/>
                  </a:lnTo>
                  <a:lnTo>
                    <a:pt x="74" y="340"/>
                  </a:lnTo>
                  <a:lnTo>
                    <a:pt x="54" y="342"/>
                  </a:lnTo>
                  <a:lnTo>
                    <a:pt x="42" y="338"/>
                  </a:lnTo>
                  <a:lnTo>
                    <a:pt x="48" y="324"/>
                  </a:lnTo>
                  <a:lnTo>
                    <a:pt x="94" y="314"/>
                  </a:lnTo>
                  <a:lnTo>
                    <a:pt x="116" y="304"/>
                  </a:lnTo>
                  <a:lnTo>
                    <a:pt x="154" y="296"/>
                  </a:lnTo>
                  <a:lnTo>
                    <a:pt x="166" y="288"/>
                  </a:lnTo>
                  <a:lnTo>
                    <a:pt x="158" y="282"/>
                  </a:lnTo>
                  <a:lnTo>
                    <a:pt x="130" y="292"/>
                  </a:lnTo>
                  <a:lnTo>
                    <a:pt x="110" y="290"/>
                  </a:lnTo>
                  <a:lnTo>
                    <a:pt x="94" y="284"/>
                  </a:lnTo>
                  <a:lnTo>
                    <a:pt x="80" y="274"/>
                  </a:lnTo>
                  <a:lnTo>
                    <a:pt x="80" y="256"/>
                  </a:lnTo>
                  <a:lnTo>
                    <a:pt x="82" y="246"/>
                  </a:lnTo>
                  <a:lnTo>
                    <a:pt x="128" y="198"/>
                  </a:lnTo>
                  <a:lnTo>
                    <a:pt x="142" y="128"/>
                  </a:lnTo>
                  <a:lnTo>
                    <a:pt x="154" y="96"/>
                  </a:lnTo>
                  <a:lnTo>
                    <a:pt x="174" y="90"/>
                  </a:lnTo>
                  <a:lnTo>
                    <a:pt x="182" y="104"/>
                  </a:lnTo>
                  <a:lnTo>
                    <a:pt x="196" y="114"/>
                  </a:lnTo>
                  <a:lnTo>
                    <a:pt x="196" y="120"/>
                  </a:lnTo>
                  <a:lnTo>
                    <a:pt x="196" y="124"/>
                  </a:lnTo>
                  <a:lnTo>
                    <a:pt x="178" y="128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176" y="168"/>
                  </a:lnTo>
                  <a:lnTo>
                    <a:pt x="176" y="174"/>
                  </a:lnTo>
                  <a:lnTo>
                    <a:pt x="188" y="184"/>
                  </a:lnTo>
                  <a:lnTo>
                    <a:pt x="210" y="192"/>
                  </a:lnTo>
                  <a:lnTo>
                    <a:pt x="222" y="192"/>
                  </a:lnTo>
                  <a:lnTo>
                    <a:pt x="226" y="188"/>
                  </a:lnTo>
                  <a:lnTo>
                    <a:pt x="222" y="172"/>
                  </a:lnTo>
                  <a:lnTo>
                    <a:pt x="212" y="162"/>
                  </a:lnTo>
                  <a:lnTo>
                    <a:pt x="210" y="154"/>
                  </a:lnTo>
                  <a:lnTo>
                    <a:pt x="220" y="150"/>
                  </a:lnTo>
                  <a:lnTo>
                    <a:pt x="232" y="140"/>
                  </a:lnTo>
                  <a:lnTo>
                    <a:pt x="234" y="120"/>
                  </a:lnTo>
                  <a:lnTo>
                    <a:pt x="242" y="96"/>
                  </a:lnTo>
                  <a:lnTo>
                    <a:pt x="236" y="94"/>
                  </a:lnTo>
                  <a:lnTo>
                    <a:pt x="222" y="94"/>
                  </a:lnTo>
                  <a:lnTo>
                    <a:pt x="218" y="88"/>
                  </a:lnTo>
                  <a:lnTo>
                    <a:pt x="214" y="56"/>
                  </a:lnTo>
                  <a:lnTo>
                    <a:pt x="216" y="48"/>
                  </a:lnTo>
                  <a:lnTo>
                    <a:pt x="224" y="34"/>
                  </a:lnTo>
                  <a:lnTo>
                    <a:pt x="242" y="20"/>
                  </a:lnTo>
                  <a:lnTo>
                    <a:pt x="264" y="10"/>
                  </a:lnTo>
                  <a:lnTo>
                    <a:pt x="288" y="6"/>
                  </a:lnTo>
                  <a:lnTo>
                    <a:pt x="314" y="12"/>
                  </a:lnTo>
                  <a:lnTo>
                    <a:pt x="338" y="2"/>
                  </a:lnTo>
                  <a:lnTo>
                    <a:pt x="364" y="0"/>
                  </a:lnTo>
                  <a:lnTo>
                    <a:pt x="384" y="4"/>
                  </a:lnTo>
                  <a:lnTo>
                    <a:pt x="402" y="18"/>
                  </a:lnTo>
                  <a:lnTo>
                    <a:pt x="412" y="28"/>
                  </a:lnTo>
                  <a:lnTo>
                    <a:pt x="394" y="114"/>
                  </a:lnTo>
                  <a:lnTo>
                    <a:pt x="362" y="132"/>
                  </a:lnTo>
                  <a:lnTo>
                    <a:pt x="368" y="150"/>
                  </a:lnTo>
                  <a:lnTo>
                    <a:pt x="408" y="166"/>
                  </a:lnTo>
                  <a:lnTo>
                    <a:pt x="406" y="186"/>
                  </a:lnTo>
                  <a:lnTo>
                    <a:pt x="390" y="206"/>
                  </a:lnTo>
                  <a:lnTo>
                    <a:pt x="370" y="218"/>
                  </a:lnTo>
                  <a:lnTo>
                    <a:pt x="366" y="240"/>
                  </a:lnTo>
                  <a:lnTo>
                    <a:pt x="358" y="260"/>
                  </a:lnTo>
                  <a:lnTo>
                    <a:pt x="340" y="264"/>
                  </a:lnTo>
                  <a:lnTo>
                    <a:pt x="312" y="254"/>
                  </a:lnTo>
                  <a:lnTo>
                    <a:pt x="290" y="254"/>
                  </a:lnTo>
                  <a:lnTo>
                    <a:pt x="290" y="270"/>
                  </a:lnTo>
                  <a:lnTo>
                    <a:pt x="298" y="298"/>
                  </a:lnTo>
                  <a:lnTo>
                    <a:pt x="302" y="316"/>
                  </a:lnTo>
                  <a:lnTo>
                    <a:pt x="300" y="340"/>
                  </a:lnTo>
                  <a:lnTo>
                    <a:pt x="302" y="376"/>
                  </a:lnTo>
                  <a:lnTo>
                    <a:pt x="288" y="390"/>
                  </a:lnTo>
                  <a:lnTo>
                    <a:pt x="288" y="404"/>
                  </a:lnTo>
                  <a:lnTo>
                    <a:pt x="298" y="438"/>
                  </a:lnTo>
                  <a:lnTo>
                    <a:pt x="300" y="45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28200" y="3278160"/>
              <a:ext cx="268200" cy="249840"/>
            </a:xfrm>
            <a:custGeom>
              <a:avLst/>
              <a:gdLst/>
              <a:ahLst/>
              <a:rect l="l" t="t" r="r" b="b"/>
              <a:pathLst>
                <a:path w="1546" h="1470">
                  <a:moveTo>
                    <a:pt x="904" y="0"/>
                  </a:moveTo>
                  <a:lnTo>
                    <a:pt x="894" y="6"/>
                  </a:lnTo>
                  <a:lnTo>
                    <a:pt x="846" y="14"/>
                  </a:lnTo>
                  <a:lnTo>
                    <a:pt x="790" y="32"/>
                  </a:lnTo>
                  <a:lnTo>
                    <a:pt x="776" y="68"/>
                  </a:lnTo>
                  <a:lnTo>
                    <a:pt x="768" y="128"/>
                  </a:lnTo>
                  <a:lnTo>
                    <a:pt x="778" y="136"/>
                  </a:lnTo>
                  <a:lnTo>
                    <a:pt x="774" y="148"/>
                  </a:lnTo>
                  <a:lnTo>
                    <a:pt x="748" y="174"/>
                  </a:lnTo>
                  <a:lnTo>
                    <a:pt x="718" y="194"/>
                  </a:lnTo>
                  <a:lnTo>
                    <a:pt x="648" y="214"/>
                  </a:lnTo>
                  <a:lnTo>
                    <a:pt x="614" y="234"/>
                  </a:lnTo>
                  <a:lnTo>
                    <a:pt x="600" y="258"/>
                  </a:lnTo>
                  <a:lnTo>
                    <a:pt x="602" y="268"/>
                  </a:lnTo>
                  <a:lnTo>
                    <a:pt x="634" y="270"/>
                  </a:lnTo>
                  <a:lnTo>
                    <a:pt x="646" y="274"/>
                  </a:lnTo>
                  <a:lnTo>
                    <a:pt x="642" y="280"/>
                  </a:lnTo>
                  <a:lnTo>
                    <a:pt x="596" y="284"/>
                  </a:lnTo>
                  <a:lnTo>
                    <a:pt x="566" y="300"/>
                  </a:lnTo>
                  <a:lnTo>
                    <a:pt x="566" y="302"/>
                  </a:lnTo>
                  <a:lnTo>
                    <a:pt x="532" y="302"/>
                  </a:lnTo>
                  <a:lnTo>
                    <a:pt x="500" y="296"/>
                  </a:lnTo>
                  <a:lnTo>
                    <a:pt x="466" y="290"/>
                  </a:lnTo>
                  <a:lnTo>
                    <a:pt x="454" y="292"/>
                  </a:lnTo>
                  <a:lnTo>
                    <a:pt x="426" y="260"/>
                  </a:lnTo>
                  <a:lnTo>
                    <a:pt x="430" y="242"/>
                  </a:lnTo>
                  <a:lnTo>
                    <a:pt x="422" y="238"/>
                  </a:lnTo>
                  <a:lnTo>
                    <a:pt x="376" y="242"/>
                  </a:lnTo>
                  <a:lnTo>
                    <a:pt x="354" y="234"/>
                  </a:lnTo>
                  <a:lnTo>
                    <a:pt x="358" y="276"/>
                  </a:lnTo>
                  <a:lnTo>
                    <a:pt x="364" y="292"/>
                  </a:lnTo>
                  <a:lnTo>
                    <a:pt x="378" y="302"/>
                  </a:lnTo>
                  <a:lnTo>
                    <a:pt x="390" y="350"/>
                  </a:lnTo>
                  <a:lnTo>
                    <a:pt x="390" y="374"/>
                  </a:lnTo>
                  <a:lnTo>
                    <a:pt x="396" y="398"/>
                  </a:lnTo>
                  <a:lnTo>
                    <a:pt x="412" y="408"/>
                  </a:lnTo>
                  <a:lnTo>
                    <a:pt x="402" y="416"/>
                  </a:lnTo>
                  <a:lnTo>
                    <a:pt x="376" y="418"/>
                  </a:lnTo>
                  <a:lnTo>
                    <a:pt x="368" y="410"/>
                  </a:lnTo>
                  <a:lnTo>
                    <a:pt x="360" y="406"/>
                  </a:lnTo>
                  <a:lnTo>
                    <a:pt x="342" y="410"/>
                  </a:lnTo>
                  <a:lnTo>
                    <a:pt x="326" y="416"/>
                  </a:lnTo>
                  <a:lnTo>
                    <a:pt x="306" y="414"/>
                  </a:lnTo>
                  <a:lnTo>
                    <a:pt x="266" y="426"/>
                  </a:lnTo>
                  <a:lnTo>
                    <a:pt x="212" y="382"/>
                  </a:lnTo>
                  <a:lnTo>
                    <a:pt x="172" y="384"/>
                  </a:lnTo>
                  <a:lnTo>
                    <a:pt x="162" y="382"/>
                  </a:lnTo>
                  <a:lnTo>
                    <a:pt x="150" y="388"/>
                  </a:lnTo>
                  <a:lnTo>
                    <a:pt x="148" y="398"/>
                  </a:lnTo>
                  <a:lnTo>
                    <a:pt x="116" y="406"/>
                  </a:lnTo>
                  <a:lnTo>
                    <a:pt x="96" y="406"/>
                  </a:lnTo>
                  <a:lnTo>
                    <a:pt x="60" y="412"/>
                  </a:lnTo>
                  <a:lnTo>
                    <a:pt x="10" y="434"/>
                  </a:lnTo>
                  <a:lnTo>
                    <a:pt x="2" y="454"/>
                  </a:lnTo>
                  <a:lnTo>
                    <a:pt x="0" y="464"/>
                  </a:lnTo>
                  <a:lnTo>
                    <a:pt x="48" y="458"/>
                  </a:lnTo>
                  <a:lnTo>
                    <a:pt x="42" y="470"/>
                  </a:lnTo>
                  <a:lnTo>
                    <a:pt x="30" y="470"/>
                  </a:lnTo>
                  <a:lnTo>
                    <a:pt x="20" y="482"/>
                  </a:lnTo>
                  <a:lnTo>
                    <a:pt x="24" y="492"/>
                  </a:lnTo>
                  <a:lnTo>
                    <a:pt x="42" y="490"/>
                  </a:lnTo>
                  <a:lnTo>
                    <a:pt x="64" y="490"/>
                  </a:lnTo>
                  <a:lnTo>
                    <a:pt x="58" y="506"/>
                  </a:lnTo>
                  <a:lnTo>
                    <a:pt x="12" y="514"/>
                  </a:lnTo>
                  <a:lnTo>
                    <a:pt x="24" y="524"/>
                  </a:lnTo>
                  <a:lnTo>
                    <a:pt x="52" y="534"/>
                  </a:lnTo>
                  <a:lnTo>
                    <a:pt x="52" y="554"/>
                  </a:lnTo>
                  <a:lnTo>
                    <a:pt x="76" y="558"/>
                  </a:lnTo>
                  <a:lnTo>
                    <a:pt x="76" y="546"/>
                  </a:lnTo>
                  <a:lnTo>
                    <a:pt x="96" y="544"/>
                  </a:lnTo>
                  <a:lnTo>
                    <a:pt x="164" y="568"/>
                  </a:lnTo>
                  <a:lnTo>
                    <a:pt x="186" y="580"/>
                  </a:lnTo>
                  <a:lnTo>
                    <a:pt x="192" y="592"/>
                  </a:lnTo>
                  <a:lnTo>
                    <a:pt x="204" y="596"/>
                  </a:lnTo>
                  <a:lnTo>
                    <a:pt x="230" y="588"/>
                  </a:lnTo>
                  <a:lnTo>
                    <a:pt x="248" y="592"/>
                  </a:lnTo>
                  <a:lnTo>
                    <a:pt x="236" y="600"/>
                  </a:lnTo>
                  <a:lnTo>
                    <a:pt x="262" y="610"/>
                  </a:lnTo>
                  <a:lnTo>
                    <a:pt x="278" y="600"/>
                  </a:lnTo>
                  <a:lnTo>
                    <a:pt x="284" y="604"/>
                  </a:lnTo>
                  <a:lnTo>
                    <a:pt x="280" y="640"/>
                  </a:lnTo>
                  <a:lnTo>
                    <a:pt x="312" y="646"/>
                  </a:lnTo>
                  <a:lnTo>
                    <a:pt x="344" y="640"/>
                  </a:lnTo>
                  <a:lnTo>
                    <a:pt x="368" y="648"/>
                  </a:lnTo>
                  <a:lnTo>
                    <a:pt x="330" y="660"/>
                  </a:lnTo>
                  <a:lnTo>
                    <a:pt x="330" y="670"/>
                  </a:lnTo>
                  <a:lnTo>
                    <a:pt x="344" y="686"/>
                  </a:lnTo>
                  <a:lnTo>
                    <a:pt x="334" y="702"/>
                  </a:lnTo>
                  <a:lnTo>
                    <a:pt x="320" y="690"/>
                  </a:lnTo>
                  <a:lnTo>
                    <a:pt x="320" y="708"/>
                  </a:lnTo>
                  <a:lnTo>
                    <a:pt x="344" y="732"/>
                  </a:lnTo>
                  <a:lnTo>
                    <a:pt x="358" y="754"/>
                  </a:lnTo>
                  <a:lnTo>
                    <a:pt x="364" y="770"/>
                  </a:lnTo>
                  <a:lnTo>
                    <a:pt x="392" y="788"/>
                  </a:lnTo>
                  <a:lnTo>
                    <a:pt x="420" y="802"/>
                  </a:lnTo>
                  <a:lnTo>
                    <a:pt x="452" y="812"/>
                  </a:lnTo>
                  <a:lnTo>
                    <a:pt x="446" y="826"/>
                  </a:lnTo>
                  <a:lnTo>
                    <a:pt x="456" y="844"/>
                  </a:lnTo>
                  <a:lnTo>
                    <a:pt x="456" y="872"/>
                  </a:lnTo>
                  <a:lnTo>
                    <a:pt x="442" y="896"/>
                  </a:lnTo>
                  <a:lnTo>
                    <a:pt x="450" y="918"/>
                  </a:lnTo>
                  <a:lnTo>
                    <a:pt x="474" y="932"/>
                  </a:lnTo>
                  <a:lnTo>
                    <a:pt x="492" y="954"/>
                  </a:lnTo>
                  <a:lnTo>
                    <a:pt x="498" y="982"/>
                  </a:lnTo>
                  <a:lnTo>
                    <a:pt x="492" y="972"/>
                  </a:lnTo>
                  <a:lnTo>
                    <a:pt x="458" y="936"/>
                  </a:lnTo>
                  <a:lnTo>
                    <a:pt x="452" y="954"/>
                  </a:lnTo>
                  <a:lnTo>
                    <a:pt x="450" y="990"/>
                  </a:lnTo>
                  <a:lnTo>
                    <a:pt x="440" y="1062"/>
                  </a:lnTo>
                  <a:lnTo>
                    <a:pt x="438" y="1084"/>
                  </a:lnTo>
                  <a:lnTo>
                    <a:pt x="450" y="1066"/>
                  </a:lnTo>
                  <a:lnTo>
                    <a:pt x="458" y="1082"/>
                  </a:lnTo>
                  <a:lnTo>
                    <a:pt x="454" y="1088"/>
                  </a:lnTo>
                  <a:lnTo>
                    <a:pt x="438" y="1102"/>
                  </a:lnTo>
                  <a:lnTo>
                    <a:pt x="436" y="1128"/>
                  </a:lnTo>
                  <a:lnTo>
                    <a:pt x="410" y="1260"/>
                  </a:lnTo>
                  <a:lnTo>
                    <a:pt x="400" y="1284"/>
                  </a:lnTo>
                  <a:lnTo>
                    <a:pt x="376" y="1300"/>
                  </a:lnTo>
                  <a:lnTo>
                    <a:pt x="352" y="1298"/>
                  </a:lnTo>
                  <a:lnTo>
                    <a:pt x="358" y="1308"/>
                  </a:lnTo>
                  <a:lnTo>
                    <a:pt x="408" y="1348"/>
                  </a:lnTo>
                  <a:lnTo>
                    <a:pt x="428" y="1358"/>
                  </a:lnTo>
                  <a:lnTo>
                    <a:pt x="454" y="1364"/>
                  </a:lnTo>
                  <a:lnTo>
                    <a:pt x="480" y="1378"/>
                  </a:lnTo>
                  <a:lnTo>
                    <a:pt x="496" y="1392"/>
                  </a:lnTo>
                  <a:lnTo>
                    <a:pt x="602" y="1420"/>
                  </a:lnTo>
                  <a:lnTo>
                    <a:pt x="636" y="1424"/>
                  </a:lnTo>
                  <a:lnTo>
                    <a:pt x="652" y="1420"/>
                  </a:lnTo>
                  <a:lnTo>
                    <a:pt x="676" y="1404"/>
                  </a:lnTo>
                  <a:lnTo>
                    <a:pt x="694" y="1400"/>
                  </a:lnTo>
                  <a:lnTo>
                    <a:pt x="716" y="1406"/>
                  </a:lnTo>
                  <a:lnTo>
                    <a:pt x="748" y="1428"/>
                  </a:lnTo>
                  <a:lnTo>
                    <a:pt x="780" y="1432"/>
                  </a:lnTo>
                  <a:lnTo>
                    <a:pt x="792" y="1446"/>
                  </a:lnTo>
                  <a:lnTo>
                    <a:pt x="818" y="1464"/>
                  </a:lnTo>
                  <a:lnTo>
                    <a:pt x="836" y="1470"/>
                  </a:lnTo>
                  <a:lnTo>
                    <a:pt x="902" y="1464"/>
                  </a:lnTo>
                  <a:lnTo>
                    <a:pt x="934" y="1460"/>
                  </a:lnTo>
                  <a:lnTo>
                    <a:pt x="964" y="1458"/>
                  </a:lnTo>
                  <a:lnTo>
                    <a:pt x="980" y="1460"/>
                  </a:lnTo>
                  <a:lnTo>
                    <a:pt x="974" y="1396"/>
                  </a:lnTo>
                  <a:lnTo>
                    <a:pt x="964" y="1386"/>
                  </a:lnTo>
                  <a:lnTo>
                    <a:pt x="970" y="1352"/>
                  </a:lnTo>
                  <a:lnTo>
                    <a:pt x="982" y="1328"/>
                  </a:lnTo>
                  <a:lnTo>
                    <a:pt x="1028" y="1310"/>
                  </a:lnTo>
                  <a:lnTo>
                    <a:pt x="1052" y="1294"/>
                  </a:lnTo>
                  <a:lnTo>
                    <a:pt x="1064" y="1282"/>
                  </a:lnTo>
                  <a:lnTo>
                    <a:pt x="1086" y="1270"/>
                  </a:lnTo>
                  <a:lnTo>
                    <a:pt x="1098" y="1270"/>
                  </a:lnTo>
                  <a:lnTo>
                    <a:pt x="1106" y="1278"/>
                  </a:lnTo>
                  <a:lnTo>
                    <a:pt x="1142" y="1284"/>
                  </a:lnTo>
                  <a:lnTo>
                    <a:pt x="1148" y="1288"/>
                  </a:lnTo>
                  <a:lnTo>
                    <a:pt x="1154" y="1296"/>
                  </a:lnTo>
                  <a:lnTo>
                    <a:pt x="1166" y="1296"/>
                  </a:lnTo>
                  <a:lnTo>
                    <a:pt x="1194" y="1302"/>
                  </a:lnTo>
                  <a:lnTo>
                    <a:pt x="1198" y="1294"/>
                  </a:lnTo>
                  <a:lnTo>
                    <a:pt x="1218" y="1294"/>
                  </a:lnTo>
                  <a:lnTo>
                    <a:pt x="1226" y="1300"/>
                  </a:lnTo>
                  <a:lnTo>
                    <a:pt x="1242" y="1300"/>
                  </a:lnTo>
                  <a:lnTo>
                    <a:pt x="1256" y="1306"/>
                  </a:lnTo>
                  <a:lnTo>
                    <a:pt x="1260" y="1316"/>
                  </a:lnTo>
                  <a:lnTo>
                    <a:pt x="1270" y="1320"/>
                  </a:lnTo>
                  <a:lnTo>
                    <a:pt x="1296" y="1322"/>
                  </a:lnTo>
                  <a:lnTo>
                    <a:pt x="1318" y="1340"/>
                  </a:lnTo>
                  <a:lnTo>
                    <a:pt x="1354" y="1342"/>
                  </a:lnTo>
                  <a:lnTo>
                    <a:pt x="1408" y="1320"/>
                  </a:lnTo>
                  <a:lnTo>
                    <a:pt x="1414" y="1314"/>
                  </a:lnTo>
                  <a:lnTo>
                    <a:pt x="1414" y="1300"/>
                  </a:lnTo>
                  <a:lnTo>
                    <a:pt x="1434" y="1284"/>
                  </a:lnTo>
                  <a:lnTo>
                    <a:pt x="1460" y="1260"/>
                  </a:lnTo>
                  <a:lnTo>
                    <a:pt x="1474" y="1252"/>
                  </a:lnTo>
                  <a:lnTo>
                    <a:pt x="1476" y="1242"/>
                  </a:lnTo>
                  <a:lnTo>
                    <a:pt x="1520" y="1222"/>
                  </a:lnTo>
                  <a:lnTo>
                    <a:pt x="1522" y="1218"/>
                  </a:lnTo>
                  <a:lnTo>
                    <a:pt x="1520" y="1210"/>
                  </a:lnTo>
                  <a:lnTo>
                    <a:pt x="1524" y="1194"/>
                  </a:lnTo>
                  <a:lnTo>
                    <a:pt x="1522" y="1176"/>
                  </a:lnTo>
                  <a:lnTo>
                    <a:pt x="1514" y="1158"/>
                  </a:lnTo>
                  <a:lnTo>
                    <a:pt x="1458" y="1152"/>
                  </a:lnTo>
                  <a:lnTo>
                    <a:pt x="1444" y="1134"/>
                  </a:lnTo>
                  <a:lnTo>
                    <a:pt x="1436" y="1110"/>
                  </a:lnTo>
                  <a:lnTo>
                    <a:pt x="1434" y="1086"/>
                  </a:lnTo>
                  <a:lnTo>
                    <a:pt x="1438" y="1064"/>
                  </a:lnTo>
                  <a:lnTo>
                    <a:pt x="1434" y="1048"/>
                  </a:lnTo>
                  <a:lnTo>
                    <a:pt x="1416" y="1040"/>
                  </a:lnTo>
                  <a:lnTo>
                    <a:pt x="1412" y="1032"/>
                  </a:lnTo>
                  <a:lnTo>
                    <a:pt x="1410" y="1022"/>
                  </a:lnTo>
                  <a:lnTo>
                    <a:pt x="1412" y="1002"/>
                  </a:lnTo>
                  <a:lnTo>
                    <a:pt x="1424" y="988"/>
                  </a:lnTo>
                  <a:lnTo>
                    <a:pt x="1448" y="972"/>
                  </a:lnTo>
                  <a:lnTo>
                    <a:pt x="1442" y="952"/>
                  </a:lnTo>
                  <a:lnTo>
                    <a:pt x="1416" y="896"/>
                  </a:lnTo>
                  <a:lnTo>
                    <a:pt x="1414" y="884"/>
                  </a:lnTo>
                  <a:lnTo>
                    <a:pt x="1414" y="874"/>
                  </a:lnTo>
                  <a:lnTo>
                    <a:pt x="1438" y="872"/>
                  </a:lnTo>
                  <a:lnTo>
                    <a:pt x="1430" y="850"/>
                  </a:lnTo>
                  <a:lnTo>
                    <a:pt x="1412" y="846"/>
                  </a:lnTo>
                  <a:lnTo>
                    <a:pt x="1406" y="822"/>
                  </a:lnTo>
                  <a:lnTo>
                    <a:pt x="1406" y="786"/>
                  </a:lnTo>
                  <a:lnTo>
                    <a:pt x="1398" y="782"/>
                  </a:lnTo>
                  <a:lnTo>
                    <a:pt x="1358" y="784"/>
                  </a:lnTo>
                  <a:lnTo>
                    <a:pt x="1334" y="820"/>
                  </a:lnTo>
                  <a:lnTo>
                    <a:pt x="1320" y="828"/>
                  </a:lnTo>
                  <a:lnTo>
                    <a:pt x="1312" y="824"/>
                  </a:lnTo>
                  <a:lnTo>
                    <a:pt x="1312" y="776"/>
                  </a:lnTo>
                  <a:lnTo>
                    <a:pt x="1320" y="750"/>
                  </a:lnTo>
                  <a:lnTo>
                    <a:pt x="1330" y="742"/>
                  </a:lnTo>
                  <a:lnTo>
                    <a:pt x="1338" y="728"/>
                  </a:lnTo>
                  <a:lnTo>
                    <a:pt x="1352" y="720"/>
                  </a:lnTo>
                  <a:lnTo>
                    <a:pt x="1356" y="714"/>
                  </a:lnTo>
                  <a:lnTo>
                    <a:pt x="1360" y="692"/>
                  </a:lnTo>
                  <a:lnTo>
                    <a:pt x="1374" y="674"/>
                  </a:lnTo>
                  <a:lnTo>
                    <a:pt x="1424" y="622"/>
                  </a:lnTo>
                  <a:lnTo>
                    <a:pt x="1416" y="610"/>
                  </a:lnTo>
                  <a:lnTo>
                    <a:pt x="1424" y="596"/>
                  </a:lnTo>
                  <a:lnTo>
                    <a:pt x="1464" y="600"/>
                  </a:lnTo>
                  <a:lnTo>
                    <a:pt x="1478" y="592"/>
                  </a:lnTo>
                  <a:lnTo>
                    <a:pt x="1494" y="580"/>
                  </a:lnTo>
                  <a:lnTo>
                    <a:pt x="1490" y="574"/>
                  </a:lnTo>
                  <a:lnTo>
                    <a:pt x="1486" y="554"/>
                  </a:lnTo>
                  <a:lnTo>
                    <a:pt x="1486" y="496"/>
                  </a:lnTo>
                  <a:lnTo>
                    <a:pt x="1502" y="446"/>
                  </a:lnTo>
                  <a:lnTo>
                    <a:pt x="1506" y="422"/>
                  </a:lnTo>
                  <a:lnTo>
                    <a:pt x="1542" y="374"/>
                  </a:lnTo>
                  <a:lnTo>
                    <a:pt x="1546" y="352"/>
                  </a:lnTo>
                  <a:lnTo>
                    <a:pt x="1516" y="340"/>
                  </a:lnTo>
                  <a:lnTo>
                    <a:pt x="1426" y="316"/>
                  </a:lnTo>
                  <a:lnTo>
                    <a:pt x="1382" y="312"/>
                  </a:lnTo>
                  <a:lnTo>
                    <a:pt x="1368" y="292"/>
                  </a:lnTo>
                  <a:lnTo>
                    <a:pt x="1354" y="276"/>
                  </a:lnTo>
                  <a:lnTo>
                    <a:pt x="1324" y="256"/>
                  </a:lnTo>
                  <a:lnTo>
                    <a:pt x="1296" y="258"/>
                  </a:lnTo>
                  <a:lnTo>
                    <a:pt x="1260" y="248"/>
                  </a:lnTo>
                  <a:lnTo>
                    <a:pt x="1242" y="252"/>
                  </a:lnTo>
                  <a:lnTo>
                    <a:pt x="1218" y="248"/>
                  </a:lnTo>
                  <a:lnTo>
                    <a:pt x="1200" y="234"/>
                  </a:lnTo>
                  <a:lnTo>
                    <a:pt x="1174" y="222"/>
                  </a:lnTo>
                  <a:lnTo>
                    <a:pt x="1178" y="210"/>
                  </a:lnTo>
                  <a:lnTo>
                    <a:pt x="1168" y="206"/>
                  </a:lnTo>
                  <a:lnTo>
                    <a:pt x="1166" y="158"/>
                  </a:lnTo>
                  <a:lnTo>
                    <a:pt x="1154" y="158"/>
                  </a:lnTo>
                  <a:lnTo>
                    <a:pt x="1140" y="174"/>
                  </a:lnTo>
                  <a:lnTo>
                    <a:pt x="1130" y="188"/>
                  </a:lnTo>
                  <a:lnTo>
                    <a:pt x="1108" y="188"/>
                  </a:lnTo>
                  <a:lnTo>
                    <a:pt x="1086" y="182"/>
                  </a:lnTo>
                  <a:lnTo>
                    <a:pt x="1080" y="150"/>
                  </a:lnTo>
                  <a:lnTo>
                    <a:pt x="1074" y="134"/>
                  </a:lnTo>
                  <a:lnTo>
                    <a:pt x="1062" y="124"/>
                  </a:lnTo>
                  <a:lnTo>
                    <a:pt x="1034" y="116"/>
                  </a:lnTo>
                  <a:lnTo>
                    <a:pt x="1002" y="100"/>
                  </a:lnTo>
                  <a:lnTo>
                    <a:pt x="980" y="94"/>
                  </a:lnTo>
                  <a:lnTo>
                    <a:pt x="960" y="56"/>
                  </a:lnTo>
                  <a:lnTo>
                    <a:pt x="936" y="60"/>
                  </a:lnTo>
                  <a:lnTo>
                    <a:pt x="910" y="48"/>
                  </a:lnTo>
                  <a:lnTo>
                    <a:pt x="904" y="32"/>
                  </a:lnTo>
                  <a:lnTo>
                    <a:pt x="904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16960" y="3535560"/>
              <a:ext cx="74880" cy="144000"/>
            </a:xfrm>
            <a:custGeom>
              <a:avLst/>
              <a:gdLst/>
              <a:ahLst/>
              <a:rect l="l" t="t" r="r" b="b"/>
              <a:pathLst>
                <a:path w="432" h="844">
                  <a:moveTo>
                    <a:pt x="260" y="818"/>
                  </a:moveTo>
                  <a:lnTo>
                    <a:pt x="252" y="776"/>
                  </a:lnTo>
                  <a:lnTo>
                    <a:pt x="250" y="748"/>
                  </a:lnTo>
                  <a:lnTo>
                    <a:pt x="270" y="724"/>
                  </a:lnTo>
                  <a:lnTo>
                    <a:pt x="304" y="698"/>
                  </a:lnTo>
                  <a:lnTo>
                    <a:pt x="320" y="676"/>
                  </a:lnTo>
                  <a:lnTo>
                    <a:pt x="314" y="650"/>
                  </a:lnTo>
                  <a:lnTo>
                    <a:pt x="294" y="624"/>
                  </a:lnTo>
                  <a:lnTo>
                    <a:pt x="286" y="592"/>
                  </a:lnTo>
                  <a:lnTo>
                    <a:pt x="288" y="560"/>
                  </a:lnTo>
                  <a:lnTo>
                    <a:pt x="306" y="530"/>
                  </a:lnTo>
                  <a:lnTo>
                    <a:pt x="316" y="508"/>
                  </a:lnTo>
                  <a:lnTo>
                    <a:pt x="310" y="496"/>
                  </a:lnTo>
                  <a:lnTo>
                    <a:pt x="282" y="452"/>
                  </a:lnTo>
                  <a:lnTo>
                    <a:pt x="276" y="416"/>
                  </a:lnTo>
                  <a:lnTo>
                    <a:pt x="298" y="400"/>
                  </a:lnTo>
                  <a:lnTo>
                    <a:pt x="324" y="392"/>
                  </a:lnTo>
                  <a:lnTo>
                    <a:pt x="346" y="366"/>
                  </a:lnTo>
                  <a:lnTo>
                    <a:pt x="348" y="342"/>
                  </a:lnTo>
                  <a:lnTo>
                    <a:pt x="334" y="318"/>
                  </a:lnTo>
                  <a:lnTo>
                    <a:pt x="334" y="302"/>
                  </a:lnTo>
                  <a:lnTo>
                    <a:pt x="350" y="268"/>
                  </a:lnTo>
                  <a:lnTo>
                    <a:pt x="356" y="234"/>
                  </a:lnTo>
                  <a:lnTo>
                    <a:pt x="358" y="202"/>
                  </a:lnTo>
                  <a:lnTo>
                    <a:pt x="360" y="180"/>
                  </a:lnTo>
                  <a:lnTo>
                    <a:pt x="414" y="130"/>
                  </a:lnTo>
                  <a:lnTo>
                    <a:pt x="432" y="96"/>
                  </a:lnTo>
                  <a:lnTo>
                    <a:pt x="432" y="78"/>
                  </a:lnTo>
                  <a:lnTo>
                    <a:pt x="414" y="58"/>
                  </a:lnTo>
                  <a:lnTo>
                    <a:pt x="404" y="34"/>
                  </a:lnTo>
                  <a:lnTo>
                    <a:pt x="366" y="28"/>
                  </a:lnTo>
                  <a:lnTo>
                    <a:pt x="326" y="26"/>
                  </a:lnTo>
                  <a:lnTo>
                    <a:pt x="296" y="42"/>
                  </a:lnTo>
                  <a:lnTo>
                    <a:pt x="240" y="36"/>
                  </a:lnTo>
                  <a:lnTo>
                    <a:pt x="210" y="38"/>
                  </a:lnTo>
                  <a:lnTo>
                    <a:pt x="194" y="28"/>
                  </a:lnTo>
                  <a:lnTo>
                    <a:pt x="192" y="0"/>
                  </a:lnTo>
                  <a:lnTo>
                    <a:pt x="160" y="6"/>
                  </a:lnTo>
                  <a:lnTo>
                    <a:pt x="124" y="20"/>
                  </a:lnTo>
                  <a:lnTo>
                    <a:pt x="104" y="42"/>
                  </a:lnTo>
                  <a:lnTo>
                    <a:pt x="120" y="146"/>
                  </a:lnTo>
                  <a:lnTo>
                    <a:pt x="124" y="170"/>
                  </a:lnTo>
                  <a:lnTo>
                    <a:pt x="114" y="188"/>
                  </a:lnTo>
                  <a:lnTo>
                    <a:pt x="102" y="240"/>
                  </a:lnTo>
                  <a:lnTo>
                    <a:pt x="94" y="260"/>
                  </a:lnTo>
                  <a:lnTo>
                    <a:pt x="86" y="300"/>
                  </a:lnTo>
                  <a:lnTo>
                    <a:pt x="82" y="334"/>
                  </a:lnTo>
                  <a:lnTo>
                    <a:pt x="74" y="358"/>
                  </a:lnTo>
                  <a:lnTo>
                    <a:pt x="58" y="402"/>
                  </a:lnTo>
                  <a:lnTo>
                    <a:pt x="44" y="430"/>
                  </a:lnTo>
                  <a:lnTo>
                    <a:pt x="14" y="472"/>
                  </a:lnTo>
                  <a:lnTo>
                    <a:pt x="12" y="514"/>
                  </a:lnTo>
                  <a:lnTo>
                    <a:pt x="0" y="550"/>
                  </a:lnTo>
                  <a:lnTo>
                    <a:pt x="2" y="556"/>
                  </a:lnTo>
                  <a:lnTo>
                    <a:pt x="22" y="570"/>
                  </a:lnTo>
                  <a:lnTo>
                    <a:pt x="42" y="608"/>
                  </a:lnTo>
                  <a:lnTo>
                    <a:pt x="60" y="600"/>
                  </a:lnTo>
                  <a:lnTo>
                    <a:pt x="94" y="594"/>
                  </a:lnTo>
                  <a:lnTo>
                    <a:pt x="92" y="604"/>
                  </a:lnTo>
                  <a:lnTo>
                    <a:pt x="84" y="616"/>
                  </a:lnTo>
                  <a:lnTo>
                    <a:pt x="86" y="652"/>
                  </a:lnTo>
                  <a:lnTo>
                    <a:pt x="78" y="682"/>
                  </a:lnTo>
                  <a:lnTo>
                    <a:pt x="82" y="698"/>
                  </a:lnTo>
                  <a:lnTo>
                    <a:pt x="80" y="752"/>
                  </a:lnTo>
                  <a:lnTo>
                    <a:pt x="76" y="774"/>
                  </a:lnTo>
                  <a:lnTo>
                    <a:pt x="60" y="806"/>
                  </a:lnTo>
                  <a:lnTo>
                    <a:pt x="58" y="832"/>
                  </a:lnTo>
                  <a:lnTo>
                    <a:pt x="66" y="842"/>
                  </a:lnTo>
                  <a:lnTo>
                    <a:pt x="92" y="834"/>
                  </a:lnTo>
                  <a:lnTo>
                    <a:pt x="120" y="834"/>
                  </a:lnTo>
                  <a:lnTo>
                    <a:pt x="152" y="836"/>
                  </a:lnTo>
                  <a:lnTo>
                    <a:pt x="172" y="844"/>
                  </a:lnTo>
                  <a:lnTo>
                    <a:pt x="198" y="844"/>
                  </a:lnTo>
                  <a:lnTo>
                    <a:pt x="220" y="836"/>
                  </a:lnTo>
                  <a:lnTo>
                    <a:pt x="238" y="824"/>
                  </a:lnTo>
                  <a:lnTo>
                    <a:pt x="260" y="81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16520" y="3526560"/>
              <a:ext cx="429480" cy="179280"/>
            </a:xfrm>
            <a:custGeom>
              <a:avLst/>
              <a:gdLst/>
              <a:ahLst/>
              <a:rect l="l" t="t" r="r" b="b"/>
              <a:pathLst>
                <a:path w="2480" h="1050">
                  <a:moveTo>
                    <a:pt x="1356" y="1012"/>
                  </a:moveTo>
                  <a:lnTo>
                    <a:pt x="1340" y="978"/>
                  </a:lnTo>
                  <a:lnTo>
                    <a:pt x="1344" y="938"/>
                  </a:lnTo>
                  <a:lnTo>
                    <a:pt x="1366" y="924"/>
                  </a:lnTo>
                  <a:lnTo>
                    <a:pt x="1374" y="900"/>
                  </a:lnTo>
                  <a:lnTo>
                    <a:pt x="1348" y="880"/>
                  </a:lnTo>
                  <a:lnTo>
                    <a:pt x="1310" y="898"/>
                  </a:lnTo>
                  <a:lnTo>
                    <a:pt x="1308" y="924"/>
                  </a:lnTo>
                  <a:lnTo>
                    <a:pt x="1290" y="932"/>
                  </a:lnTo>
                  <a:lnTo>
                    <a:pt x="1258" y="928"/>
                  </a:lnTo>
                  <a:lnTo>
                    <a:pt x="1230" y="908"/>
                  </a:lnTo>
                  <a:lnTo>
                    <a:pt x="1210" y="896"/>
                  </a:lnTo>
                  <a:lnTo>
                    <a:pt x="1192" y="890"/>
                  </a:lnTo>
                  <a:lnTo>
                    <a:pt x="1176" y="892"/>
                  </a:lnTo>
                  <a:lnTo>
                    <a:pt x="1150" y="904"/>
                  </a:lnTo>
                  <a:lnTo>
                    <a:pt x="1112" y="950"/>
                  </a:lnTo>
                  <a:lnTo>
                    <a:pt x="1106" y="972"/>
                  </a:lnTo>
                  <a:lnTo>
                    <a:pt x="1082" y="976"/>
                  </a:lnTo>
                  <a:lnTo>
                    <a:pt x="1066" y="994"/>
                  </a:lnTo>
                  <a:lnTo>
                    <a:pt x="1042" y="1004"/>
                  </a:lnTo>
                  <a:lnTo>
                    <a:pt x="1016" y="1002"/>
                  </a:lnTo>
                  <a:lnTo>
                    <a:pt x="970" y="1016"/>
                  </a:lnTo>
                  <a:lnTo>
                    <a:pt x="950" y="1026"/>
                  </a:lnTo>
                  <a:lnTo>
                    <a:pt x="904" y="1012"/>
                  </a:lnTo>
                  <a:lnTo>
                    <a:pt x="876" y="986"/>
                  </a:lnTo>
                  <a:lnTo>
                    <a:pt x="864" y="966"/>
                  </a:lnTo>
                  <a:lnTo>
                    <a:pt x="848" y="954"/>
                  </a:lnTo>
                  <a:lnTo>
                    <a:pt x="822" y="940"/>
                  </a:lnTo>
                  <a:lnTo>
                    <a:pt x="758" y="910"/>
                  </a:lnTo>
                  <a:lnTo>
                    <a:pt x="726" y="892"/>
                  </a:lnTo>
                  <a:lnTo>
                    <a:pt x="686" y="886"/>
                  </a:lnTo>
                  <a:lnTo>
                    <a:pt x="662" y="892"/>
                  </a:lnTo>
                  <a:lnTo>
                    <a:pt x="644" y="892"/>
                  </a:lnTo>
                  <a:lnTo>
                    <a:pt x="638" y="912"/>
                  </a:lnTo>
                  <a:lnTo>
                    <a:pt x="642" y="944"/>
                  </a:lnTo>
                  <a:lnTo>
                    <a:pt x="636" y="954"/>
                  </a:lnTo>
                  <a:lnTo>
                    <a:pt x="636" y="982"/>
                  </a:lnTo>
                  <a:lnTo>
                    <a:pt x="588" y="996"/>
                  </a:lnTo>
                  <a:lnTo>
                    <a:pt x="556" y="1010"/>
                  </a:lnTo>
                  <a:lnTo>
                    <a:pt x="530" y="1010"/>
                  </a:lnTo>
                  <a:lnTo>
                    <a:pt x="506" y="1004"/>
                  </a:lnTo>
                  <a:lnTo>
                    <a:pt x="482" y="992"/>
                  </a:lnTo>
                  <a:lnTo>
                    <a:pt x="458" y="968"/>
                  </a:lnTo>
                  <a:lnTo>
                    <a:pt x="446" y="934"/>
                  </a:lnTo>
                  <a:lnTo>
                    <a:pt x="444" y="924"/>
                  </a:lnTo>
                  <a:lnTo>
                    <a:pt x="426" y="914"/>
                  </a:lnTo>
                  <a:lnTo>
                    <a:pt x="422" y="924"/>
                  </a:lnTo>
                  <a:lnTo>
                    <a:pt x="424" y="934"/>
                  </a:lnTo>
                  <a:lnTo>
                    <a:pt x="416" y="934"/>
                  </a:lnTo>
                  <a:lnTo>
                    <a:pt x="394" y="920"/>
                  </a:lnTo>
                  <a:lnTo>
                    <a:pt x="378" y="902"/>
                  </a:lnTo>
                  <a:lnTo>
                    <a:pt x="372" y="902"/>
                  </a:lnTo>
                  <a:lnTo>
                    <a:pt x="336" y="906"/>
                  </a:lnTo>
                  <a:lnTo>
                    <a:pt x="332" y="920"/>
                  </a:lnTo>
                  <a:lnTo>
                    <a:pt x="312" y="936"/>
                  </a:lnTo>
                  <a:lnTo>
                    <a:pt x="306" y="936"/>
                  </a:lnTo>
                  <a:lnTo>
                    <a:pt x="312" y="918"/>
                  </a:lnTo>
                  <a:lnTo>
                    <a:pt x="308" y="910"/>
                  </a:lnTo>
                  <a:lnTo>
                    <a:pt x="228" y="934"/>
                  </a:lnTo>
                  <a:lnTo>
                    <a:pt x="238" y="916"/>
                  </a:lnTo>
                  <a:lnTo>
                    <a:pt x="260" y="902"/>
                  </a:lnTo>
                  <a:lnTo>
                    <a:pt x="292" y="902"/>
                  </a:lnTo>
                  <a:lnTo>
                    <a:pt x="308" y="892"/>
                  </a:lnTo>
                  <a:lnTo>
                    <a:pt x="312" y="886"/>
                  </a:lnTo>
                  <a:lnTo>
                    <a:pt x="330" y="876"/>
                  </a:lnTo>
                  <a:lnTo>
                    <a:pt x="336" y="862"/>
                  </a:lnTo>
                  <a:lnTo>
                    <a:pt x="318" y="860"/>
                  </a:lnTo>
                  <a:lnTo>
                    <a:pt x="270" y="872"/>
                  </a:lnTo>
                  <a:lnTo>
                    <a:pt x="212" y="874"/>
                  </a:lnTo>
                  <a:lnTo>
                    <a:pt x="206" y="860"/>
                  </a:lnTo>
                  <a:lnTo>
                    <a:pt x="232" y="834"/>
                  </a:lnTo>
                  <a:lnTo>
                    <a:pt x="212" y="814"/>
                  </a:lnTo>
                  <a:lnTo>
                    <a:pt x="202" y="810"/>
                  </a:lnTo>
                  <a:lnTo>
                    <a:pt x="190" y="806"/>
                  </a:lnTo>
                  <a:lnTo>
                    <a:pt x="190" y="788"/>
                  </a:lnTo>
                  <a:lnTo>
                    <a:pt x="202" y="778"/>
                  </a:lnTo>
                  <a:lnTo>
                    <a:pt x="206" y="766"/>
                  </a:lnTo>
                  <a:lnTo>
                    <a:pt x="190" y="768"/>
                  </a:lnTo>
                  <a:lnTo>
                    <a:pt x="174" y="774"/>
                  </a:lnTo>
                  <a:lnTo>
                    <a:pt x="160" y="758"/>
                  </a:lnTo>
                  <a:lnTo>
                    <a:pt x="174" y="748"/>
                  </a:lnTo>
                  <a:lnTo>
                    <a:pt x="176" y="726"/>
                  </a:lnTo>
                  <a:lnTo>
                    <a:pt x="162" y="704"/>
                  </a:lnTo>
                  <a:lnTo>
                    <a:pt x="146" y="692"/>
                  </a:lnTo>
                  <a:lnTo>
                    <a:pt x="114" y="686"/>
                  </a:lnTo>
                  <a:lnTo>
                    <a:pt x="96" y="672"/>
                  </a:lnTo>
                  <a:lnTo>
                    <a:pt x="74" y="678"/>
                  </a:lnTo>
                  <a:lnTo>
                    <a:pt x="62" y="672"/>
                  </a:lnTo>
                  <a:lnTo>
                    <a:pt x="48" y="658"/>
                  </a:lnTo>
                  <a:lnTo>
                    <a:pt x="46" y="650"/>
                  </a:lnTo>
                  <a:lnTo>
                    <a:pt x="60" y="644"/>
                  </a:lnTo>
                  <a:lnTo>
                    <a:pt x="60" y="622"/>
                  </a:lnTo>
                  <a:lnTo>
                    <a:pt x="56" y="608"/>
                  </a:lnTo>
                  <a:lnTo>
                    <a:pt x="60" y="594"/>
                  </a:lnTo>
                  <a:lnTo>
                    <a:pt x="70" y="598"/>
                  </a:lnTo>
                  <a:lnTo>
                    <a:pt x="88" y="636"/>
                  </a:lnTo>
                  <a:lnTo>
                    <a:pt x="104" y="640"/>
                  </a:lnTo>
                  <a:lnTo>
                    <a:pt x="122" y="634"/>
                  </a:lnTo>
                  <a:lnTo>
                    <a:pt x="152" y="634"/>
                  </a:lnTo>
                  <a:lnTo>
                    <a:pt x="146" y="628"/>
                  </a:lnTo>
                  <a:lnTo>
                    <a:pt x="118" y="618"/>
                  </a:lnTo>
                  <a:lnTo>
                    <a:pt x="104" y="596"/>
                  </a:lnTo>
                  <a:lnTo>
                    <a:pt x="106" y="578"/>
                  </a:lnTo>
                  <a:lnTo>
                    <a:pt x="124" y="562"/>
                  </a:lnTo>
                  <a:lnTo>
                    <a:pt x="116" y="548"/>
                  </a:lnTo>
                  <a:lnTo>
                    <a:pt x="102" y="534"/>
                  </a:lnTo>
                  <a:lnTo>
                    <a:pt x="100" y="520"/>
                  </a:lnTo>
                  <a:lnTo>
                    <a:pt x="84" y="500"/>
                  </a:lnTo>
                  <a:lnTo>
                    <a:pt x="84" y="474"/>
                  </a:lnTo>
                  <a:lnTo>
                    <a:pt x="102" y="452"/>
                  </a:lnTo>
                  <a:lnTo>
                    <a:pt x="96" y="442"/>
                  </a:lnTo>
                  <a:lnTo>
                    <a:pt x="60" y="452"/>
                  </a:lnTo>
                  <a:lnTo>
                    <a:pt x="2" y="452"/>
                  </a:lnTo>
                  <a:lnTo>
                    <a:pt x="0" y="442"/>
                  </a:lnTo>
                  <a:lnTo>
                    <a:pt x="2" y="392"/>
                  </a:lnTo>
                  <a:lnTo>
                    <a:pt x="10" y="370"/>
                  </a:lnTo>
                  <a:lnTo>
                    <a:pt x="22" y="366"/>
                  </a:lnTo>
                  <a:lnTo>
                    <a:pt x="34" y="340"/>
                  </a:lnTo>
                  <a:lnTo>
                    <a:pt x="52" y="324"/>
                  </a:lnTo>
                  <a:lnTo>
                    <a:pt x="66" y="302"/>
                  </a:lnTo>
                  <a:lnTo>
                    <a:pt x="96" y="302"/>
                  </a:lnTo>
                  <a:lnTo>
                    <a:pt x="130" y="290"/>
                  </a:lnTo>
                  <a:lnTo>
                    <a:pt x="144" y="304"/>
                  </a:lnTo>
                  <a:lnTo>
                    <a:pt x="172" y="312"/>
                  </a:lnTo>
                  <a:lnTo>
                    <a:pt x="198" y="310"/>
                  </a:lnTo>
                  <a:lnTo>
                    <a:pt x="186" y="276"/>
                  </a:lnTo>
                  <a:lnTo>
                    <a:pt x="206" y="280"/>
                  </a:lnTo>
                  <a:lnTo>
                    <a:pt x="222" y="286"/>
                  </a:lnTo>
                  <a:lnTo>
                    <a:pt x="222" y="300"/>
                  </a:lnTo>
                  <a:lnTo>
                    <a:pt x="238" y="300"/>
                  </a:lnTo>
                  <a:lnTo>
                    <a:pt x="268" y="294"/>
                  </a:lnTo>
                  <a:lnTo>
                    <a:pt x="332" y="296"/>
                  </a:lnTo>
                  <a:lnTo>
                    <a:pt x="362" y="292"/>
                  </a:lnTo>
                  <a:lnTo>
                    <a:pt x="356" y="276"/>
                  </a:lnTo>
                  <a:lnTo>
                    <a:pt x="336" y="272"/>
                  </a:lnTo>
                  <a:lnTo>
                    <a:pt x="332" y="262"/>
                  </a:lnTo>
                  <a:lnTo>
                    <a:pt x="354" y="254"/>
                  </a:lnTo>
                  <a:lnTo>
                    <a:pt x="456" y="244"/>
                  </a:lnTo>
                  <a:lnTo>
                    <a:pt x="454" y="234"/>
                  </a:lnTo>
                  <a:lnTo>
                    <a:pt x="434" y="230"/>
                  </a:lnTo>
                  <a:lnTo>
                    <a:pt x="422" y="234"/>
                  </a:lnTo>
                  <a:lnTo>
                    <a:pt x="390" y="232"/>
                  </a:lnTo>
                  <a:lnTo>
                    <a:pt x="382" y="222"/>
                  </a:lnTo>
                  <a:lnTo>
                    <a:pt x="370" y="220"/>
                  </a:lnTo>
                  <a:lnTo>
                    <a:pt x="364" y="204"/>
                  </a:lnTo>
                  <a:lnTo>
                    <a:pt x="350" y="196"/>
                  </a:lnTo>
                  <a:lnTo>
                    <a:pt x="352" y="182"/>
                  </a:lnTo>
                  <a:lnTo>
                    <a:pt x="364" y="156"/>
                  </a:lnTo>
                  <a:lnTo>
                    <a:pt x="368" y="164"/>
                  </a:lnTo>
                  <a:lnTo>
                    <a:pt x="388" y="164"/>
                  </a:lnTo>
                  <a:lnTo>
                    <a:pt x="420" y="172"/>
                  </a:lnTo>
                  <a:lnTo>
                    <a:pt x="508" y="168"/>
                  </a:lnTo>
                  <a:lnTo>
                    <a:pt x="534" y="174"/>
                  </a:lnTo>
                  <a:lnTo>
                    <a:pt x="552" y="182"/>
                  </a:lnTo>
                  <a:lnTo>
                    <a:pt x="562" y="180"/>
                  </a:lnTo>
                  <a:lnTo>
                    <a:pt x="612" y="186"/>
                  </a:lnTo>
                  <a:lnTo>
                    <a:pt x="642" y="170"/>
                  </a:lnTo>
                  <a:lnTo>
                    <a:pt x="654" y="140"/>
                  </a:lnTo>
                  <a:lnTo>
                    <a:pt x="680" y="124"/>
                  </a:lnTo>
                  <a:lnTo>
                    <a:pt x="704" y="100"/>
                  </a:lnTo>
                  <a:lnTo>
                    <a:pt x="734" y="88"/>
                  </a:lnTo>
                  <a:lnTo>
                    <a:pt x="754" y="68"/>
                  </a:lnTo>
                  <a:lnTo>
                    <a:pt x="782" y="50"/>
                  </a:lnTo>
                  <a:lnTo>
                    <a:pt x="838" y="24"/>
                  </a:lnTo>
                  <a:lnTo>
                    <a:pt x="878" y="18"/>
                  </a:lnTo>
                  <a:lnTo>
                    <a:pt x="914" y="16"/>
                  </a:lnTo>
                  <a:lnTo>
                    <a:pt x="968" y="20"/>
                  </a:lnTo>
                  <a:lnTo>
                    <a:pt x="1052" y="16"/>
                  </a:lnTo>
                  <a:lnTo>
                    <a:pt x="1078" y="2"/>
                  </a:lnTo>
                  <a:lnTo>
                    <a:pt x="1094" y="0"/>
                  </a:lnTo>
                  <a:lnTo>
                    <a:pt x="1108" y="4"/>
                  </a:lnTo>
                  <a:lnTo>
                    <a:pt x="1112" y="22"/>
                  </a:lnTo>
                  <a:lnTo>
                    <a:pt x="1134" y="48"/>
                  </a:lnTo>
                  <a:lnTo>
                    <a:pt x="1170" y="64"/>
                  </a:lnTo>
                  <a:lnTo>
                    <a:pt x="1202" y="76"/>
                  </a:lnTo>
                  <a:lnTo>
                    <a:pt x="1228" y="56"/>
                  </a:lnTo>
                  <a:lnTo>
                    <a:pt x="1248" y="82"/>
                  </a:lnTo>
                  <a:lnTo>
                    <a:pt x="1274" y="130"/>
                  </a:lnTo>
                  <a:lnTo>
                    <a:pt x="1338" y="134"/>
                  </a:lnTo>
                  <a:lnTo>
                    <a:pt x="1428" y="178"/>
                  </a:lnTo>
                  <a:lnTo>
                    <a:pt x="1440" y="168"/>
                  </a:lnTo>
                  <a:lnTo>
                    <a:pt x="1454" y="162"/>
                  </a:lnTo>
                  <a:lnTo>
                    <a:pt x="1506" y="186"/>
                  </a:lnTo>
                  <a:lnTo>
                    <a:pt x="1556" y="180"/>
                  </a:lnTo>
                  <a:lnTo>
                    <a:pt x="1592" y="164"/>
                  </a:lnTo>
                  <a:lnTo>
                    <a:pt x="1658" y="154"/>
                  </a:lnTo>
                  <a:lnTo>
                    <a:pt x="1742" y="170"/>
                  </a:lnTo>
                  <a:lnTo>
                    <a:pt x="1790" y="166"/>
                  </a:lnTo>
                  <a:lnTo>
                    <a:pt x="1874" y="98"/>
                  </a:lnTo>
                  <a:lnTo>
                    <a:pt x="1910" y="72"/>
                  </a:lnTo>
                  <a:lnTo>
                    <a:pt x="1916" y="60"/>
                  </a:lnTo>
                  <a:lnTo>
                    <a:pt x="1932" y="74"/>
                  </a:lnTo>
                  <a:lnTo>
                    <a:pt x="1954" y="74"/>
                  </a:lnTo>
                  <a:lnTo>
                    <a:pt x="1980" y="66"/>
                  </a:lnTo>
                  <a:lnTo>
                    <a:pt x="2026" y="78"/>
                  </a:lnTo>
                  <a:lnTo>
                    <a:pt x="2042" y="78"/>
                  </a:lnTo>
                  <a:lnTo>
                    <a:pt x="2050" y="58"/>
                  </a:lnTo>
                  <a:lnTo>
                    <a:pt x="2058" y="52"/>
                  </a:lnTo>
                  <a:lnTo>
                    <a:pt x="2078" y="58"/>
                  </a:lnTo>
                  <a:lnTo>
                    <a:pt x="2102" y="74"/>
                  </a:lnTo>
                  <a:lnTo>
                    <a:pt x="2134" y="108"/>
                  </a:lnTo>
                  <a:lnTo>
                    <a:pt x="2148" y="112"/>
                  </a:lnTo>
                  <a:lnTo>
                    <a:pt x="2172" y="134"/>
                  </a:lnTo>
                  <a:lnTo>
                    <a:pt x="2190" y="146"/>
                  </a:lnTo>
                  <a:lnTo>
                    <a:pt x="2214" y="178"/>
                  </a:lnTo>
                  <a:lnTo>
                    <a:pt x="2226" y="226"/>
                  </a:lnTo>
                  <a:lnTo>
                    <a:pt x="2240" y="258"/>
                  </a:lnTo>
                  <a:lnTo>
                    <a:pt x="2262" y="282"/>
                  </a:lnTo>
                  <a:lnTo>
                    <a:pt x="2290" y="292"/>
                  </a:lnTo>
                  <a:lnTo>
                    <a:pt x="2314" y="304"/>
                  </a:lnTo>
                  <a:lnTo>
                    <a:pt x="2342" y="328"/>
                  </a:lnTo>
                  <a:lnTo>
                    <a:pt x="2360" y="336"/>
                  </a:lnTo>
                  <a:lnTo>
                    <a:pt x="2372" y="346"/>
                  </a:lnTo>
                  <a:lnTo>
                    <a:pt x="2358" y="390"/>
                  </a:lnTo>
                  <a:lnTo>
                    <a:pt x="2358" y="404"/>
                  </a:lnTo>
                  <a:lnTo>
                    <a:pt x="2328" y="426"/>
                  </a:lnTo>
                  <a:lnTo>
                    <a:pt x="2334" y="446"/>
                  </a:lnTo>
                  <a:lnTo>
                    <a:pt x="2358" y="486"/>
                  </a:lnTo>
                  <a:lnTo>
                    <a:pt x="2376" y="552"/>
                  </a:lnTo>
                  <a:lnTo>
                    <a:pt x="2382" y="594"/>
                  </a:lnTo>
                  <a:lnTo>
                    <a:pt x="2394" y="632"/>
                  </a:lnTo>
                  <a:lnTo>
                    <a:pt x="2396" y="682"/>
                  </a:lnTo>
                  <a:lnTo>
                    <a:pt x="2432" y="700"/>
                  </a:lnTo>
                  <a:lnTo>
                    <a:pt x="2468" y="742"/>
                  </a:lnTo>
                  <a:lnTo>
                    <a:pt x="2480" y="782"/>
                  </a:lnTo>
                  <a:lnTo>
                    <a:pt x="2464" y="800"/>
                  </a:lnTo>
                  <a:lnTo>
                    <a:pt x="2428" y="798"/>
                  </a:lnTo>
                  <a:lnTo>
                    <a:pt x="2400" y="770"/>
                  </a:lnTo>
                  <a:lnTo>
                    <a:pt x="2358" y="774"/>
                  </a:lnTo>
                  <a:lnTo>
                    <a:pt x="2288" y="772"/>
                  </a:lnTo>
                  <a:lnTo>
                    <a:pt x="2232" y="754"/>
                  </a:lnTo>
                  <a:lnTo>
                    <a:pt x="2184" y="806"/>
                  </a:lnTo>
                  <a:lnTo>
                    <a:pt x="2162" y="808"/>
                  </a:lnTo>
                  <a:lnTo>
                    <a:pt x="2160" y="804"/>
                  </a:lnTo>
                  <a:lnTo>
                    <a:pt x="2158" y="790"/>
                  </a:lnTo>
                  <a:lnTo>
                    <a:pt x="2148" y="786"/>
                  </a:lnTo>
                  <a:lnTo>
                    <a:pt x="2140" y="780"/>
                  </a:lnTo>
                  <a:lnTo>
                    <a:pt x="2124" y="798"/>
                  </a:lnTo>
                  <a:lnTo>
                    <a:pt x="2086" y="818"/>
                  </a:lnTo>
                  <a:lnTo>
                    <a:pt x="2000" y="824"/>
                  </a:lnTo>
                  <a:lnTo>
                    <a:pt x="1976" y="816"/>
                  </a:lnTo>
                  <a:lnTo>
                    <a:pt x="1958" y="818"/>
                  </a:lnTo>
                  <a:lnTo>
                    <a:pt x="1920" y="830"/>
                  </a:lnTo>
                  <a:lnTo>
                    <a:pt x="1900" y="850"/>
                  </a:lnTo>
                  <a:lnTo>
                    <a:pt x="1882" y="862"/>
                  </a:lnTo>
                  <a:lnTo>
                    <a:pt x="1854" y="870"/>
                  </a:lnTo>
                  <a:lnTo>
                    <a:pt x="1842" y="880"/>
                  </a:lnTo>
                  <a:lnTo>
                    <a:pt x="1768" y="898"/>
                  </a:lnTo>
                  <a:lnTo>
                    <a:pt x="1700" y="890"/>
                  </a:lnTo>
                  <a:lnTo>
                    <a:pt x="1668" y="864"/>
                  </a:lnTo>
                  <a:lnTo>
                    <a:pt x="1650" y="860"/>
                  </a:lnTo>
                  <a:lnTo>
                    <a:pt x="1618" y="862"/>
                  </a:lnTo>
                  <a:lnTo>
                    <a:pt x="1598" y="878"/>
                  </a:lnTo>
                  <a:lnTo>
                    <a:pt x="1566" y="894"/>
                  </a:lnTo>
                  <a:lnTo>
                    <a:pt x="1550" y="898"/>
                  </a:lnTo>
                  <a:lnTo>
                    <a:pt x="1540" y="908"/>
                  </a:lnTo>
                  <a:lnTo>
                    <a:pt x="1504" y="902"/>
                  </a:lnTo>
                  <a:lnTo>
                    <a:pt x="1486" y="908"/>
                  </a:lnTo>
                  <a:lnTo>
                    <a:pt x="1482" y="902"/>
                  </a:lnTo>
                  <a:lnTo>
                    <a:pt x="1480" y="896"/>
                  </a:lnTo>
                  <a:lnTo>
                    <a:pt x="1480" y="894"/>
                  </a:lnTo>
                  <a:lnTo>
                    <a:pt x="1478" y="892"/>
                  </a:lnTo>
                  <a:lnTo>
                    <a:pt x="1466" y="886"/>
                  </a:lnTo>
                  <a:lnTo>
                    <a:pt x="1444" y="884"/>
                  </a:lnTo>
                  <a:lnTo>
                    <a:pt x="1430" y="878"/>
                  </a:lnTo>
                  <a:lnTo>
                    <a:pt x="1422" y="904"/>
                  </a:lnTo>
                  <a:lnTo>
                    <a:pt x="1420" y="908"/>
                  </a:lnTo>
                  <a:lnTo>
                    <a:pt x="1422" y="918"/>
                  </a:lnTo>
                  <a:lnTo>
                    <a:pt x="1420" y="940"/>
                  </a:lnTo>
                  <a:lnTo>
                    <a:pt x="1446" y="970"/>
                  </a:lnTo>
                  <a:lnTo>
                    <a:pt x="1448" y="978"/>
                  </a:lnTo>
                  <a:lnTo>
                    <a:pt x="1444" y="980"/>
                  </a:lnTo>
                  <a:lnTo>
                    <a:pt x="1424" y="980"/>
                  </a:lnTo>
                  <a:lnTo>
                    <a:pt x="1406" y="988"/>
                  </a:lnTo>
                  <a:lnTo>
                    <a:pt x="1406" y="996"/>
                  </a:lnTo>
                  <a:lnTo>
                    <a:pt x="1408" y="1018"/>
                  </a:lnTo>
                  <a:lnTo>
                    <a:pt x="1398" y="1032"/>
                  </a:lnTo>
                  <a:lnTo>
                    <a:pt x="1388" y="1034"/>
                  </a:lnTo>
                  <a:lnTo>
                    <a:pt x="1384" y="1050"/>
                  </a:lnTo>
                  <a:lnTo>
                    <a:pt x="1368" y="1040"/>
                  </a:lnTo>
                  <a:lnTo>
                    <a:pt x="1362" y="1030"/>
                  </a:lnTo>
                  <a:lnTo>
                    <a:pt x="1352" y="1030"/>
                  </a:lnTo>
                  <a:lnTo>
                    <a:pt x="1356" y="1012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27000" y="3868560"/>
              <a:ext cx="43560" cy="4284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250" y="258"/>
                  </a:moveTo>
                  <a:lnTo>
                    <a:pt x="238" y="224"/>
                  </a:lnTo>
                  <a:lnTo>
                    <a:pt x="232" y="220"/>
                  </a:lnTo>
                  <a:lnTo>
                    <a:pt x="218" y="196"/>
                  </a:lnTo>
                  <a:lnTo>
                    <a:pt x="196" y="140"/>
                  </a:lnTo>
                  <a:lnTo>
                    <a:pt x="174" y="128"/>
                  </a:lnTo>
                  <a:lnTo>
                    <a:pt x="148" y="128"/>
                  </a:lnTo>
                  <a:lnTo>
                    <a:pt x="150" y="112"/>
                  </a:lnTo>
                  <a:lnTo>
                    <a:pt x="156" y="106"/>
                  </a:lnTo>
                  <a:lnTo>
                    <a:pt x="170" y="96"/>
                  </a:lnTo>
                  <a:lnTo>
                    <a:pt x="198" y="88"/>
                  </a:lnTo>
                  <a:lnTo>
                    <a:pt x="214" y="68"/>
                  </a:lnTo>
                  <a:lnTo>
                    <a:pt x="212" y="58"/>
                  </a:lnTo>
                  <a:lnTo>
                    <a:pt x="204" y="50"/>
                  </a:lnTo>
                  <a:lnTo>
                    <a:pt x="174" y="28"/>
                  </a:lnTo>
                  <a:lnTo>
                    <a:pt x="168" y="16"/>
                  </a:lnTo>
                  <a:lnTo>
                    <a:pt x="172" y="14"/>
                  </a:lnTo>
                  <a:lnTo>
                    <a:pt x="140" y="4"/>
                  </a:lnTo>
                  <a:lnTo>
                    <a:pt x="106" y="0"/>
                  </a:lnTo>
                  <a:lnTo>
                    <a:pt x="72" y="18"/>
                  </a:lnTo>
                  <a:lnTo>
                    <a:pt x="48" y="66"/>
                  </a:lnTo>
                  <a:lnTo>
                    <a:pt x="34" y="120"/>
                  </a:lnTo>
                  <a:lnTo>
                    <a:pt x="0" y="164"/>
                  </a:lnTo>
                  <a:lnTo>
                    <a:pt x="10" y="172"/>
                  </a:lnTo>
                  <a:lnTo>
                    <a:pt x="66" y="180"/>
                  </a:lnTo>
                  <a:lnTo>
                    <a:pt x="118" y="198"/>
                  </a:lnTo>
                  <a:lnTo>
                    <a:pt x="138" y="216"/>
                  </a:lnTo>
                  <a:lnTo>
                    <a:pt x="168" y="258"/>
                  </a:lnTo>
                  <a:lnTo>
                    <a:pt x="250" y="25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" bIns="-28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550480" y="3980520"/>
              <a:ext cx="124560" cy="105480"/>
            </a:xfrm>
            <a:custGeom>
              <a:avLst/>
              <a:gdLst/>
              <a:ahLst/>
              <a:rect l="l" t="t" r="r" b="b"/>
              <a:pathLst>
                <a:path w="718" h="616">
                  <a:moveTo>
                    <a:pt x="618" y="580"/>
                  </a:moveTo>
                  <a:lnTo>
                    <a:pt x="596" y="616"/>
                  </a:lnTo>
                  <a:lnTo>
                    <a:pt x="168" y="538"/>
                  </a:lnTo>
                  <a:lnTo>
                    <a:pt x="110" y="398"/>
                  </a:lnTo>
                  <a:lnTo>
                    <a:pt x="16" y="318"/>
                  </a:lnTo>
                  <a:lnTo>
                    <a:pt x="0" y="276"/>
                  </a:lnTo>
                  <a:lnTo>
                    <a:pt x="50" y="250"/>
                  </a:lnTo>
                  <a:lnTo>
                    <a:pt x="42" y="266"/>
                  </a:lnTo>
                  <a:lnTo>
                    <a:pt x="46" y="276"/>
                  </a:lnTo>
                  <a:lnTo>
                    <a:pt x="54" y="282"/>
                  </a:lnTo>
                  <a:lnTo>
                    <a:pt x="48" y="296"/>
                  </a:lnTo>
                  <a:lnTo>
                    <a:pt x="50" y="318"/>
                  </a:lnTo>
                  <a:lnTo>
                    <a:pt x="70" y="314"/>
                  </a:lnTo>
                  <a:lnTo>
                    <a:pt x="84" y="324"/>
                  </a:lnTo>
                  <a:lnTo>
                    <a:pt x="94" y="316"/>
                  </a:lnTo>
                  <a:lnTo>
                    <a:pt x="96" y="316"/>
                  </a:lnTo>
                  <a:lnTo>
                    <a:pt x="104" y="348"/>
                  </a:lnTo>
                  <a:lnTo>
                    <a:pt x="120" y="358"/>
                  </a:lnTo>
                  <a:lnTo>
                    <a:pt x="152" y="364"/>
                  </a:lnTo>
                  <a:lnTo>
                    <a:pt x="190" y="362"/>
                  </a:lnTo>
                  <a:lnTo>
                    <a:pt x="200" y="360"/>
                  </a:lnTo>
                  <a:lnTo>
                    <a:pt x="210" y="344"/>
                  </a:lnTo>
                  <a:lnTo>
                    <a:pt x="232" y="328"/>
                  </a:lnTo>
                  <a:lnTo>
                    <a:pt x="288" y="332"/>
                  </a:lnTo>
                  <a:lnTo>
                    <a:pt x="312" y="342"/>
                  </a:lnTo>
                  <a:lnTo>
                    <a:pt x="328" y="342"/>
                  </a:lnTo>
                  <a:lnTo>
                    <a:pt x="354" y="350"/>
                  </a:lnTo>
                  <a:lnTo>
                    <a:pt x="414" y="344"/>
                  </a:lnTo>
                  <a:lnTo>
                    <a:pt x="426" y="334"/>
                  </a:lnTo>
                  <a:lnTo>
                    <a:pt x="436" y="318"/>
                  </a:lnTo>
                  <a:lnTo>
                    <a:pt x="456" y="310"/>
                  </a:lnTo>
                  <a:lnTo>
                    <a:pt x="460" y="302"/>
                  </a:lnTo>
                  <a:lnTo>
                    <a:pt x="474" y="300"/>
                  </a:lnTo>
                  <a:lnTo>
                    <a:pt x="476" y="292"/>
                  </a:lnTo>
                  <a:lnTo>
                    <a:pt x="468" y="284"/>
                  </a:lnTo>
                  <a:lnTo>
                    <a:pt x="468" y="280"/>
                  </a:lnTo>
                  <a:lnTo>
                    <a:pt x="466" y="276"/>
                  </a:lnTo>
                  <a:lnTo>
                    <a:pt x="486" y="274"/>
                  </a:lnTo>
                  <a:lnTo>
                    <a:pt x="484" y="268"/>
                  </a:lnTo>
                  <a:lnTo>
                    <a:pt x="492" y="262"/>
                  </a:lnTo>
                  <a:lnTo>
                    <a:pt x="488" y="250"/>
                  </a:lnTo>
                  <a:lnTo>
                    <a:pt x="496" y="240"/>
                  </a:lnTo>
                  <a:lnTo>
                    <a:pt x="494" y="230"/>
                  </a:lnTo>
                  <a:lnTo>
                    <a:pt x="502" y="220"/>
                  </a:lnTo>
                  <a:lnTo>
                    <a:pt x="524" y="208"/>
                  </a:lnTo>
                  <a:lnTo>
                    <a:pt x="528" y="188"/>
                  </a:lnTo>
                  <a:lnTo>
                    <a:pt x="536" y="182"/>
                  </a:lnTo>
                  <a:lnTo>
                    <a:pt x="542" y="170"/>
                  </a:lnTo>
                  <a:lnTo>
                    <a:pt x="560" y="152"/>
                  </a:lnTo>
                  <a:lnTo>
                    <a:pt x="568" y="138"/>
                  </a:lnTo>
                  <a:lnTo>
                    <a:pt x="578" y="130"/>
                  </a:lnTo>
                  <a:lnTo>
                    <a:pt x="580" y="124"/>
                  </a:lnTo>
                  <a:lnTo>
                    <a:pt x="584" y="122"/>
                  </a:lnTo>
                  <a:lnTo>
                    <a:pt x="584" y="114"/>
                  </a:lnTo>
                  <a:lnTo>
                    <a:pt x="594" y="98"/>
                  </a:lnTo>
                  <a:lnTo>
                    <a:pt x="594" y="92"/>
                  </a:lnTo>
                  <a:lnTo>
                    <a:pt x="600" y="88"/>
                  </a:lnTo>
                  <a:lnTo>
                    <a:pt x="600" y="80"/>
                  </a:lnTo>
                  <a:lnTo>
                    <a:pt x="622" y="62"/>
                  </a:lnTo>
                  <a:lnTo>
                    <a:pt x="644" y="28"/>
                  </a:lnTo>
                  <a:lnTo>
                    <a:pt x="650" y="0"/>
                  </a:lnTo>
                  <a:lnTo>
                    <a:pt x="656" y="10"/>
                  </a:lnTo>
                  <a:lnTo>
                    <a:pt x="662" y="28"/>
                  </a:lnTo>
                  <a:lnTo>
                    <a:pt x="660" y="34"/>
                  </a:lnTo>
                  <a:lnTo>
                    <a:pt x="666" y="44"/>
                  </a:lnTo>
                  <a:lnTo>
                    <a:pt x="664" y="60"/>
                  </a:lnTo>
                  <a:lnTo>
                    <a:pt x="670" y="64"/>
                  </a:lnTo>
                  <a:lnTo>
                    <a:pt x="690" y="68"/>
                  </a:lnTo>
                  <a:lnTo>
                    <a:pt x="700" y="86"/>
                  </a:lnTo>
                  <a:lnTo>
                    <a:pt x="712" y="180"/>
                  </a:lnTo>
                  <a:lnTo>
                    <a:pt x="718" y="204"/>
                  </a:lnTo>
                  <a:lnTo>
                    <a:pt x="636" y="208"/>
                  </a:lnTo>
                  <a:lnTo>
                    <a:pt x="696" y="340"/>
                  </a:lnTo>
                  <a:lnTo>
                    <a:pt x="618" y="374"/>
                  </a:lnTo>
                  <a:lnTo>
                    <a:pt x="618" y="58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72640" y="4188960"/>
              <a:ext cx="252720" cy="186840"/>
            </a:xfrm>
            <a:custGeom>
              <a:avLst/>
              <a:gdLst/>
              <a:ahLst/>
              <a:rect l="l" t="t" r="r" b="b"/>
              <a:pathLst>
                <a:path w="1454" h="1102">
                  <a:moveTo>
                    <a:pt x="1454" y="408"/>
                  </a:moveTo>
                  <a:lnTo>
                    <a:pt x="1408" y="432"/>
                  </a:lnTo>
                  <a:lnTo>
                    <a:pt x="1382" y="456"/>
                  </a:lnTo>
                  <a:lnTo>
                    <a:pt x="1364" y="482"/>
                  </a:lnTo>
                  <a:lnTo>
                    <a:pt x="1350" y="528"/>
                  </a:lnTo>
                  <a:lnTo>
                    <a:pt x="1358" y="548"/>
                  </a:lnTo>
                  <a:lnTo>
                    <a:pt x="1362" y="572"/>
                  </a:lnTo>
                  <a:lnTo>
                    <a:pt x="1362" y="578"/>
                  </a:lnTo>
                  <a:lnTo>
                    <a:pt x="1356" y="586"/>
                  </a:lnTo>
                  <a:lnTo>
                    <a:pt x="1348" y="590"/>
                  </a:lnTo>
                  <a:lnTo>
                    <a:pt x="1330" y="586"/>
                  </a:lnTo>
                  <a:lnTo>
                    <a:pt x="1316" y="596"/>
                  </a:lnTo>
                  <a:lnTo>
                    <a:pt x="1280" y="608"/>
                  </a:lnTo>
                  <a:lnTo>
                    <a:pt x="1258" y="638"/>
                  </a:lnTo>
                  <a:lnTo>
                    <a:pt x="1230" y="652"/>
                  </a:lnTo>
                  <a:lnTo>
                    <a:pt x="1192" y="658"/>
                  </a:lnTo>
                  <a:lnTo>
                    <a:pt x="1170" y="666"/>
                  </a:lnTo>
                  <a:lnTo>
                    <a:pt x="1136" y="686"/>
                  </a:lnTo>
                  <a:lnTo>
                    <a:pt x="1112" y="694"/>
                  </a:lnTo>
                  <a:lnTo>
                    <a:pt x="1062" y="720"/>
                  </a:lnTo>
                  <a:lnTo>
                    <a:pt x="1036" y="724"/>
                  </a:lnTo>
                  <a:lnTo>
                    <a:pt x="992" y="734"/>
                  </a:lnTo>
                  <a:lnTo>
                    <a:pt x="950" y="758"/>
                  </a:lnTo>
                  <a:lnTo>
                    <a:pt x="928" y="774"/>
                  </a:lnTo>
                  <a:lnTo>
                    <a:pt x="920" y="798"/>
                  </a:lnTo>
                  <a:lnTo>
                    <a:pt x="910" y="818"/>
                  </a:lnTo>
                  <a:lnTo>
                    <a:pt x="882" y="852"/>
                  </a:lnTo>
                  <a:lnTo>
                    <a:pt x="872" y="860"/>
                  </a:lnTo>
                  <a:lnTo>
                    <a:pt x="866" y="868"/>
                  </a:lnTo>
                  <a:lnTo>
                    <a:pt x="856" y="874"/>
                  </a:lnTo>
                  <a:lnTo>
                    <a:pt x="790" y="870"/>
                  </a:lnTo>
                  <a:lnTo>
                    <a:pt x="756" y="876"/>
                  </a:lnTo>
                  <a:lnTo>
                    <a:pt x="730" y="898"/>
                  </a:lnTo>
                  <a:lnTo>
                    <a:pt x="716" y="920"/>
                  </a:lnTo>
                  <a:lnTo>
                    <a:pt x="678" y="946"/>
                  </a:lnTo>
                  <a:lnTo>
                    <a:pt x="662" y="950"/>
                  </a:lnTo>
                  <a:lnTo>
                    <a:pt x="614" y="968"/>
                  </a:lnTo>
                  <a:lnTo>
                    <a:pt x="588" y="972"/>
                  </a:lnTo>
                  <a:lnTo>
                    <a:pt x="558" y="964"/>
                  </a:lnTo>
                  <a:lnTo>
                    <a:pt x="528" y="970"/>
                  </a:lnTo>
                  <a:lnTo>
                    <a:pt x="506" y="968"/>
                  </a:lnTo>
                  <a:lnTo>
                    <a:pt x="474" y="972"/>
                  </a:lnTo>
                  <a:lnTo>
                    <a:pt x="450" y="992"/>
                  </a:lnTo>
                  <a:lnTo>
                    <a:pt x="432" y="1030"/>
                  </a:lnTo>
                  <a:lnTo>
                    <a:pt x="378" y="1062"/>
                  </a:lnTo>
                  <a:lnTo>
                    <a:pt x="352" y="1080"/>
                  </a:lnTo>
                  <a:lnTo>
                    <a:pt x="292" y="1082"/>
                  </a:lnTo>
                  <a:lnTo>
                    <a:pt x="254" y="1098"/>
                  </a:lnTo>
                  <a:lnTo>
                    <a:pt x="234" y="1096"/>
                  </a:lnTo>
                  <a:lnTo>
                    <a:pt x="214" y="1102"/>
                  </a:lnTo>
                  <a:lnTo>
                    <a:pt x="186" y="1088"/>
                  </a:lnTo>
                  <a:lnTo>
                    <a:pt x="154" y="1090"/>
                  </a:lnTo>
                  <a:lnTo>
                    <a:pt x="140" y="1046"/>
                  </a:lnTo>
                  <a:lnTo>
                    <a:pt x="112" y="1008"/>
                  </a:lnTo>
                  <a:lnTo>
                    <a:pt x="106" y="926"/>
                  </a:lnTo>
                  <a:lnTo>
                    <a:pt x="102" y="900"/>
                  </a:lnTo>
                  <a:lnTo>
                    <a:pt x="86" y="884"/>
                  </a:lnTo>
                  <a:lnTo>
                    <a:pt x="78" y="862"/>
                  </a:lnTo>
                  <a:lnTo>
                    <a:pt x="66" y="812"/>
                  </a:lnTo>
                  <a:lnTo>
                    <a:pt x="56" y="756"/>
                  </a:lnTo>
                  <a:lnTo>
                    <a:pt x="48" y="732"/>
                  </a:lnTo>
                  <a:lnTo>
                    <a:pt x="40" y="718"/>
                  </a:lnTo>
                  <a:lnTo>
                    <a:pt x="38" y="692"/>
                  </a:lnTo>
                  <a:lnTo>
                    <a:pt x="12" y="656"/>
                  </a:lnTo>
                  <a:lnTo>
                    <a:pt x="4" y="648"/>
                  </a:lnTo>
                  <a:lnTo>
                    <a:pt x="10" y="642"/>
                  </a:lnTo>
                  <a:lnTo>
                    <a:pt x="16" y="644"/>
                  </a:lnTo>
                  <a:lnTo>
                    <a:pt x="16" y="632"/>
                  </a:lnTo>
                  <a:lnTo>
                    <a:pt x="10" y="620"/>
                  </a:lnTo>
                  <a:lnTo>
                    <a:pt x="8" y="592"/>
                  </a:lnTo>
                  <a:lnTo>
                    <a:pt x="2" y="576"/>
                  </a:lnTo>
                  <a:lnTo>
                    <a:pt x="18" y="560"/>
                  </a:lnTo>
                  <a:lnTo>
                    <a:pt x="20" y="548"/>
                  </a:lnTo>
                  <a:lnTo>
                    <a:pt x="12" y="498"/>
                  </a:lnTo>
                  <a:lnTo>
                    <a:pt x="6" y="466"/>
                  </a:lnTo>
                  <a:lnTo>
                    <a:pt x="0" y="458"/>
                  </a:lnTo>
                  <a:lnTo>
                    <a:pt x="28" y="446"/>
                  </a:lnTo>
                  <a:lnTo>
                    <a:pt x="40" y="432"/>
                  </a:lnTo>
                  <a:lnTo>
                    <a:pt x="42" y="406"/>
                  </a:lnTo>
                  <a:lnTo>
                    <a:pt x="56" y="392"/>
                  </a:lnTo>
                  <a:lnTo>
                    <a:pt x="78" y="382"/>
                  </a:lnTo>
                  <a:lnTo>
                    <a:pt x="84" y="362"/>
                  </a:lnTo>
                  <a:lnTo>
                    <a:pt x="98" y="348"/>
                  </a:lnTo>
                  <a:lnTo>
                    <a:pt x="154" y="342"/>
                  </a:lnTo>
                  <a:lnTo>
                    <a:pt x="240" y="304"/>
                  </a:lnTo>
                  <a:lnTo>
                    <a:pt x="506" y="406"/>
                  </a:lnTo>
                  <a:lnTo>
                    <a:pt x="520" y="592"/>
                  </a:lnTo>
                  <a:lnTo>
                    <a:pt x="834" y="128"/>
                  </a:lnTo>
                  <a:lnTo>
                    <a:pt x="1268" y="0"/>
                  </a:lnTo>
                  <a:lnTo>
                    <a:pt x="1454" y="40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58200" y="3646440"/>
              <a:ext cx="346320" cy="395280"/>
            </a:xfrm>
            <a:custGeom>
              <a:avLst/>
              <a:gdLst/>
              <a:ahLst/>
              <a:rect l="l" t="t" r="r" b="b"/>
              <a:pathLst>
                <a:path w="1988" h="2316">
                  <a:moveTo>
                    <a:pt x="242" y="2096"/>
                  </a:moveTo>
                  <a:lnTo>
                    <a:pt x="236" y="2052"/>
                  </a:lnTo>
                  <a:lnTo>
                    <a:pt x="238" y="2018"/>
                  </a:lnTo>
                  <a:lnTo>
                    <a:pt x="250" y="1934"/>
                  </a:lnTo>
                  <a:lnTo>
                    <a:pt x="268" y="1900"/>
                  </a:lnTo>
                  <a:lnTo>
                    <a:pt x="294" y="1870"/>
                  </a:lnTo>
                  <a:lnTo>
                    <a:pt x="324" y="1856"/>
                  </a:lnTo>
                  <a:lnTo>
                    <a:pt x="358" y="1836"/>
                  </a:lnTo>
                  <a:lnTo>
                    <a:pt x="388" y="1832"/>
                  </a:lnTo>
                  <a:lnTo>
                    <a:pt x="416" y="1792"/>
                  </a:lnTo>
                  <a:lnTo>
                    <a:pt x="420" y="1778"/>
                  </a:lnTo>
                  <a:lnTo>
                    <a:pt x="412" y="1748"/>
                  </a:lnTo>
                  <a:lnTo>
                    <a:pt x="396" y="1736"/>
                  </a:lnTo>
                  <a:lnTo>
                    <a:pt x="346" y="1726"/>
                  </a:lnTo>
                  <a:lnTo>
                    <a:pt x="342" y="1686"/>
                  </a:lnTo>
                  <a:lnTo>
                    <a:pt x="330" y="1644"/>
                  </a:lnTo>
                  <a:lnTo>
                    <a:pt x="306" y="1574"/>
                  </a:lnTo>
                  <a:lnTo>
                    <a:pt x="288" y="1556"/>
                  </a:lnTo>
                  <a:lnTo>
                    <a:pt x="218" y="1534"/>
                  </a:lnTo>
                  <a:lnTo>
                    <a:pt x="174" y="1512"/>
                  </a:lnTo>
                  <a:lnTo>
                    <a:pt x="138" y="1486"/>
                  </a:lnTo>
                  <a:lnTo>
                    <a:pt x="64" y="1370"/>
                  </a:lnTo>
                  <a:lnTo>
                    <a:pt x="24" y="1336"/>
                  </a:lnTo>
                  <a:lnTo>
                    <a:pt x="0" y="1310"/>
                  </a:lnTo>
                  <a:lnTo>
                    <a:pt x="6" y="1296"/>
                  </a:lnTo>
                  <a:lnTo>
                    <a:pt x="6" y="1296"/>
                  </a:lnTo>
                  <a:lnTo>
                    <a:pt x="160" y="1338"/>
                  </a:lnTo>
                  <a:lnTo>
                    <a:pt x="210" y="1362"/>
                  </a:lnTo>
                  <a:lnTo>
                    <a:pt x="228" y="1366"/>
                  </a:lnTo>
                  <a:lnTo>
                    <a:pt x="238" y="1362"/>
                  </a:lnTo>
                  <a:lnTo>
                    <a:pt x="246" y="1354"/>
                  </a:lnTo>
                  <a:lnTo>
                    <a:pt x="252" y="1352"/>
                  </a:lnTo>
                  <a:lnTo>
                    <a:pt x="278" y="1352"/>
                  </a:lnTo>
                  <a:lnTo>
                    <a:pt x="296" y="1346"/>
                  </a:lnTo>
                  <a:lnTo>
                    <a:pt x="326" y="1348"/>
                  </a:lnTo>
                  <a:lnTo>
                    <a:pt x="360" y="1340"/>
                  </a:lnTo>
                  <a:lnTo>
                    <a:pt x="404" y="1340"/>
                  </a:lnTo>
                  <a:lnTo>
                    <a:pt x="446" y="1358"/>
                  </a:lnTo>
                  <a:lnTo>
                    <a:pt x="454" y="1350"/>
                  </a:lnTo>
                  <a:lnTo>
                    <a:pt x="458" y="1338"/>
                  </a:lnTo>
                  <a:lnTo>
                    <a:pt x="464" y="1330"/>
                  </a:lnTo>
                  <a:lnTo>
                    <a:pt x="480" y="1322"/>
                  </a:lnTo>
                  <a:lnTo>
                    <a:pt x="512" y="1322"/>
                  </a:lnTo>
                  <a:lnTo>
                    <a:pt x="574" y="1326"/>
                  </a:lnTo>
                  <a:lnTo>
                    <a:pt x="614" y="1314"/>
                  </a:lnTo>
                  <a:lnTo>
                    <a:pt x="658" y="1290"/>
                  </a:lnTo>
                  <a:lnTo>
                    <a:pt x="718" y="1276"/>
                  </a:lnTo>
                  <a:lnTo>
                    <a:pt x="734" y="1258"/>
                  </a:lnTo>
                  <a:lnTo>
                    <a:pt x="730" y="1240"/>
                  </a:lnTo>
                  <a:lnTo>
                    <a:pt x="722" y="1232"/>
                  </a:lnTo>
                  <a:lnTo>
                    <a:pt x="718" y="1222"/>
                  </a:lnTo>
                  <a:lnTo>
                    <a:pt x="716" y="1170"/>
                  </a:lnTo>
                  <a:lnTo>
                    <a:pt x="704" y="1136"/>
                  </a:lnTo>
                  <a:lnTo>
                    <a:pt x="704" y="1096"/>
                  </a:lnTo>
                  <a:lnTo>
                    <a:pt x="710" y="1078"/>
                  </a:lnTo>
                  <a:lnTo>
                    <a:pt x="734" y="1054"/>
                  </a:lnTo>
                  <a:lnTo>
                    <a:pt x="742" y="1026"/>
                  </a:lnTo>
                  <a:lnTo>
                    <a:pt x="756" y="1014"/>
                  </a:lnTo>
                  <a:lnTo>
                    <a:pt x="768" y="1020"/>
                  </a:lnTo>
                  <a:lnTo>
                    <a:pt x="770" y="1030"/>
                  </a:lnTo>
                  <a:lnTo>
                    <a:pt x="798" y="1030"/>
                  </a:lnTo>
                  <a:lnTo>
                    <a:pt x="822" y="1026"/>
                  </a:lnTo>
                  <a:lnTo>
                    <a:pt x="846" y="1016"/>
                  </a:lnTo>
                  <a:lnTo>
                    <a:pt x="866" y="1014"/>
                  </a:lnTo>
                  <a:lnTo>
                    <a:pt x="870" y="1006"/>
                  </a:lnTo>
                  <a:lnTo>
                    <a:pt x="870" y="998"/>
                  </a:lnTo>
                  <a:lnTo>
                    <a:pt x="848" y="992"/>
                  </a:lnTo>
                  <a:lnTo>
                    <a:pt x="844" y="988"/>
                  </a:lnTo>
                  <a:lnTo>
                    <a:pt x="852" y="976"/>
                  </a:lnTo>
                  <a:lnTo>
                    <a:pt x="886" y="954"/>
                  </a:lnTo>
                  <a:lnTo>
                    <a:pt x="892" y="940"/>
                  </a:lnTo>
                  <a:lnTo>
                    <a:pt x="900" y="934"/>
                  </a:lnTo>
                  <a:lnTo>
                    <a:pt x="916" y="934"/>
                  </a:lnTo>
                  <a:lnTo>
                    <a:pt x="960" y="944"/>
                  </a:lnTo>
                  <a:lnTo>
                    <a:pt x="956" y="938"/>
                  </a:lnTo>
                  <a:lnTo>
                    <a:pt x="946" y="934"/>
                  </a:lnTo>
                  <a:lnTo>
                    <a:pt x="950" y="924"/>
                  </a:lnTo>
                  <a:lnTo>
                    <a:pt x="958" y="924"/>
                  </a:lnTo>
                  <a:lnTo>
                    <a:pt x="980" y="936"/>
                  </a:lnTo>
                  <a:lnTo>
                    <a:pt x="986" y="948"/>
                  </a:lnTo>
                  <a:lnTo>
                    <a:pt x="994" y="956"/>
                  </a:lnTo>
                  <a:lnTo>
                    <a:pt x="1010" y="962"/>
                  </a:lnTo>
                  <a:lnTo>
                    <a:pt x="1016" y="960"/>
                  </a:lnTo>
                  <a:lnTo>
                    <a:pt x="1050" y="906"/>
                  </a:lnTo>
                  <a:lnTo>
                    <a:pt x="1048" y="896"/>
                  </a:lnTo>
                  <a:lnTo>
                    <a:pt x="1036" y="866"/>
                  </a:lnTo>
                  <a:lnTo>
                    <a:pt x="1022" y="820"/>
                  </a:lnTo>
                  <a:lnTo>
                    <a:pt x="1022" y="810"/>
                  </a:lnTo>
                  <a:lnTo>
                    <a:pt x="1026" y="796"/>
                  </a:lnTo>
                  <a:lnTo>
                    <a:pt x="1032" y="784"/>
                  </a:lnTo>
                  <a:lnTo>
                    <a:pt x="1038" y="782"/>
                  </a:lnTo>
                  <a:lnTo>
                    <a:pt x="1038" y="772"/>
                  </a:lnTo>
                  <a:lnTo>
                    <a:pt x="1030" y="756"/>
                  </a:lnTo>
                  <a:lnTo>
                    <a:pt x="1030" y="744"/>
                  </a:lnTo>
                  <a:lnTo>
                    <a:pt x="1042" y="736"/>
                  </a:lnTo>
                  <a:lnTo>
                    <a:pt x="1036" y="700"/>
                  </a:lnTo>
                  <a:lnTo>
                    <a:pt x="1062" y="690"/>
                  </a:lnTo>
                  <a:lnTo>
                    <a:pt x="1084" y="692"/>
                  </a:lnTo>
                  <a:lnTo>
                    <a:pt x="1102" y="672"/>
                  </a:lnTo>
                  <a:lnTo>
                    <a:pt x="1116" y="664"/>
                  </a:lnTo>
                  <a:lnTo>
                    <a:pt x="1124" y="648"/>
                  </a:lnTo>
                  <a:lnTo>
                    <a:pt x="1122" y="638"/>
                  </a:lnTo>
                  <a:lnTo>
                    <a:pt x="1108" y="626"/>
                  </a:lnTo>
                  <a:lnTo>
                    <a:pt x="1086" y="586"/>
                  </a:lnTo>
                  <a:lnTo>
                    <a:pt x="1076" y="584"/>
                  </a:lnTo>
                  <a:lnTo>
                    <a:pt x="1054" y="562"/>
                  </a:lnTo>
                  <a:lnTo>
                    <a:pt x="1048" y="552"/>
                  </a:lnTo>
                  <a:lnTo>
                    <a:pt x="1050" y="538"/>
                  </a:lnTo>
                  <a:lnTo>
                    <a:pt x="1056" y="532"/>
                  </a:lnTo>
                  <a:lnTo>
                    <a:pt x="1070" y="534"/>
                  </a:lnTo>
                  <a:lnTo>
                    <a:pt x="1118" y="546"/>
                  </a:lnTo>
                  <a:lnTo>
                    <a:pt x="1144" y="546"/>
                  </a:lnTo>
                  <a:lnTo>
                    <a:pt x="1168" y="538"/>
                  </a:lnTo>
                  <a:lnTo>
                    <a:pt x="1182" y="528"/>
                  </a:lnTo>
                  <a:lnTo>
                    <a:pt x="1194" y="502"/>
                  </a:lnTo>
                  <a:lnTo>
                    <a:pt x="1190" y="486"/>
                  </a:lnTo>
                  <a:lnTo>
                    <a:pt x="1194" y="476"/>
                  </a:lnTo>
                  <a:lnTo>
                    <a:pt x="1184" y="468"/>
                  </a:lnTo>
                  <a:lnTo>
                    <a:pt x="1172" y="464"/>
                  </a:lnTo>
                  <a:lnTo>
                    <a:pt x="1166" y="446"/>
                  </a:lnTo>
                  <a:lnTo>
                    <a:pt x="1172" y="436"/>
                  </a:lnTo>
                  <a:lnTo>
                    <a:pt x="1176" y="416"/>
                  </a:lnTo>
                  <a:lnTo>
                    <a:pt x="1186" y="396"/>
                  </a:lnTo>
                  <a:lnTo>
                    <a:pt x="1202" y="378"/>
                  </a:lnTo>
                  <a:lnTo>
                    <a:pt x="1212" y="360"/>
                  </a:lnTo>
                  <a:lnTo>
                    <a:pt x="1216" y="338"/>
                  </a:lnTo>
                  <a:lnTo>
                    <a:pt x="1212" y="324"/>
                  </a:lnTo>
                  <a:lnTo>
                    <a:pt x="1206" y="314"/>
                  </a:lnTo>
                  <a:lnTo>
                    <a:pt x="1202" y="308"/>
                  </a:lnTo>
                  <a:lnTo>
                    <a:pt x="1206" y="286"/>
                  </a:lnTo>
                  <a:lnTo>
                    <a:pt x="1206" y="280"/>
                  </a:lnTo>
                  <a:lnTo>
                    <a:pt x="1188" y="258"/>
                  </a:lnTo>
                  <a:lnTo>
                    <a:pt x="1170" y="224"/>
                  </a:lnTo>
                  <a:lnTo>
                    <a:pt x="1150" y="204"/>
                  </a:lnTo>
                  <a:lnTo>
                    <a:pt x="1126" y="192"/>
                  </a:lnTo>
                  <a:lnTo>
                    <a:pt x="1120" y="186"/>
                  </a:lnTo>
                  <a:lnTo>
                    <a:pt x="1120" y="172"/>
                  </a:lnTo>
                  <a:lnTo>
                    <a:pt x="1124" y="160"/>
                  </a:lnTo>
                  <a:lnTo>
                    <a:pt x="1156" y="126"/>
                  </a:lnTo>
                  <a:lnTo>
                    <a:pt x="1154" y="114"/>
                  </a:lnTo>
                  <a:lnTo>
                    <a:pt x="1154" y="110"/>
                  </a:lnTo>
                  <a:lnTo>
                    <a:pt x="1168" y="110"/>
                  </a:lnTo>
                  <a:lnTo>
                    <a:pt x="1180" y="116"/>
                  </a:lnTo>
                  <a:lnTo>
                    <a:pt x="1188" y="114"/>
                  </a:lnTo>
                  <a:lnTo>
                    <a:pt x="1182" y="102"/>
                  </a:lnTo>
                  <a:lnTo>
                    <a:pt x="1184" y="96"/>
                  </a:lnTo>
                  <a:lnTo>
                    <a:pt x="1204" y="90"/>
                  </a:lnTo>
                  <a:lnTo>
                    <a:pt x="1210" y="82"/>
                  </a:lnTo>
                  <a:lnTo>
                    <a:pt x="1208" y="72"/>
                  </a:lnTo>
                  <a:lnTo>
                    <a:pt x="1218" y="70"/>
                  </a:lnTo>
                  <a:lnTo>
                    <a:pt x="1226" y="62"/>
                  </a:lnTo>
                  <a:lnTo>
                    <a:pt x="1246" y="60"/>
                  </a:lnTo>
                  <a:lnTo>
                    <a:pt x="1264" y="44"/>
                  </a:lnTo>
                  <a:lnTo>
                    <a:pt x="1280" y="42"/>
                  </a:lnTo>
                  <a:lnTo>
                    <a:pt x="1300" y="30"/>
                  </a:lnTo>
                  <a:lnTo>
                    <a:pt x="1310" y="32"/>
                  </a:lnTo>
                  <a:lnTo>
                    <a:pt x="1392" y="22"/>
                  </a:lnTo>
                  <a:lnTo>
                    <a:pt x="1400" y="24"/>
                  </a:lnTo>
                  <a:lnTo>
                    <a:pt x="1416" y="22"/>
                  </a:lnTo>
                  <a:lnTo>
                    <a:pt x="1454" y="32"/>
                  </a:lnTo>
                  <a:lnTo>
                    <a:pt x="1464" y="30"/>
                  </a:lnTo>
                  <a:lnTo>
                    <a:pt x="1476" y="18"/>
                  </a:lnTo>
                  <a:lnTo>
                    <a:pt x="1482" y="18"/>
                  </a:lnTo>
                  <a:lnTo>
                    <a:pt x="1492" y="10"/>
                  </a:lnTo>
                  <a:lnTo>
                    <a:pt x="1516" y="12"/>
                  </a:lnTo>
                  <a:lnTo>
                    <a:pt x="1516" y="0"/>
                  </a:lnTo>
                  <a:lnTo>
                    <a:pt x="1516" y="6"/>
                  </a:lnTo>
                  <a:lnTo>
                    <a:pt x="1544" y="14"/>
                  </a:lnTo>
                  <a:lnTo>
                    <a:pt x="1574" y="6"/>
                  </a:lnTo>
                  <a:lnTo>
                    <a:pt x="1582" y="6"/>
                  </a:lnTo>
                  <a:lnTo>
                    <a:pt x="1598" y="14"/>
                  </a:lnTo>
                  <a:lnTo>
                    <a:pt x="1612" y="8"/>
                  </a:lnTo>
                  <a:lnTo>
                    <a:pt x="1622" y="14"/>
                  </a:lnTo>
                  <a:lnTo>
                    <a:pt x="1630" y="46"/>
                  </a:lnTo>
                  <a:lnTo>
                    <a:pt x="1634" y="50"/>
                  </a:lnTo>
                  <a:lnTo>
                    <a:pt x="1646" y="38"/>
                  </a:lnTo>
                  <a:lnTo>
                    <a:pt x="1656" y="34"/>
                  </a:lnTo>
                  <a:lnTo>
                    <a:pt x="1688" y="54"/>
                  </a:lnTo>
                  <a:lnTo>
                    <a:pt x="1706" y="70"/>
                  </a:lnTo>
                  <a:lnTo>
                    <a:pt x="1718" y="82"/>
                  </a:lnTo>
                  <a:lnTo>
                    <a:pt x="1722" y="98"/>
                  </a:lnTo>
                  <a:lnTo>
                    <a:pt x="1722" y="116"/>
                  </a:lnTo>
                  <a:lnTo>
                    <a:pt x="1730" y="120"/>
                  </a:lnTo>
                  <a:lnTo>
                    <a:pt x="1736" y="134"/>
                  </a:lnTo>
                  <a:lnTo>
                    <a:pt x="1736" y="142"/>
                  </a:lnTo>
                  <a:lnTo>
                    <a:pt x="1726" y="146"/>
                  </a:lnTo>
                  <a:lnTo>
                    <a:pt x="1726" y="152"/>
                  </a:lnTo>
                  <a:lnTo>
                    <a:pt x="1734" y="160"/>
                  </a:lnTo>
                  <a:lnTo>
                    <a:pt x="1752" y="166"/>
                  </a:lnTo>
                  <a:lnTo>
                    <a:pt x="1776" y="194"/>
                  </a:lnTo>
                  <a:lnTo>
                    <a:pt x="1784" y="196"/>
                  </a:lnTo>
                  <a:lnTo>
                    <a:pt x="1796" y="190"/>
                  </a:lnTo>
                  <a:lnTo>
                    <a:pt x="1804" y="190"/>
                  </a:lnTo>
                  <a:lnTo>
                    <a:pt x="1812" y="180"/>
                  </a:lnTo>
                  <a:lnTo>
                    <a:pt x="1820" y="178"/>
                  </a:lnTo>
                  <a:lnTo>
                    <a:pt x="1826" y="186"/>
                  </a:lnTo>
                  <a:lnTo>
                    <a:pt x="1830" y="202"/>
                  </a:lnTo>
                  <a:lnTo>
                    <a:pt x="1858" y="216"/>
                  </a:lnTo>
                  <a:lnTo>
                    <a:pt x="1904" y="230"/>
                  </a:lnTo>
                  <a:lnTo>
                    <a:pt x="1926" y="242"/>
                  </a:lnTo>
                  <a:lnTo>
                    <a:pt x="1940" y="240"/>
                  </a:lnTo>
                  <a:lnTo>
                    <a:pt x="1962" y="252"/>
                  </a:lnTo>
                  <a:lnTo>
                    <a:pt x="1988" y="252"/>
                  </a:lnTo>
                  <a:lnTo>
                    <a:pt x="1924" y="320"/>
                  </a:lnTo>
                  <a:lnTo>
                    <a:pt x="1920" y="334"/>
                  </a:lnTo>
                  <a:lnTo>
                    <a:pt x="1926" y="340"/>
                  </a:lnTo>
                  <a:lnTo>
                    <a:pt x="1928" y="348"/>
                  </a:lnTo>
                  <a:lnTo>
                    <a:pt x="1924" y="370"/>
                  </a:lnTo>
                  <a:lnTo>
                    <a:pt x="1918" y="380"/>
                  </a:lnTo>
                  <a:lnTo>
                    <a:pt x="1910" y="378"/>
                  </a:lnTo>
                  <a:lnTo>
                    <a:pt x="1898" y="368"/>
                  </a:lnTo>
                  <a:lnTo>
                    <a:pt x="1854" y="374"/>
                  </a:lnTo>
                  <a:lnTo>
                    <a:pt x="1850" y="376"/>
                  </a:lnTo>
                  <a:lnTo>
                    <a:pt x="1844" y="392"/>
                  </a:lnTo>
                  <a:lnTo>
                    <a:pt x="1838" y="398"/>
                  </a:lnTo>
                  <a:lnTo>
                    <a:pt x="1824" y="398"/>
                  </a:lnTo>
                  <a:lnTo>
                    <a:pt x="1804" y="392"/>
                  </a:lnTo>
                  <a:lnTo>
                    <a:pt x="1796" y="398"/>
                  </a:lnTo>
                  <a:lnTo>
                    <a:pt x="1794" y="408"/>
                  </a:lnTo>
                  <a:lnTo>
                    <a:pt x="1788" y="416"/>
                  </a:lnTo>
                  <a:lnTo>
                    <a:pt x="1780" y="418"/>
                  </a:lnTo>
                  <a:lnTo>
                    <a:pt x="1768" y="416"/>
                  </a:lnTo>
                  <a:lnTo>
                    <a:pt x="1760" y="420"/>
                  </a:lnTo>
                  <a:lnTo>
                    <a:pt x="1748" y="412"/>
                  </a:lnTo>
                  <a:lnTo>
                    <a:pt x="1718" y="416"/>
                  </a:lnTo>
                  <a:lnTo>
                    <a:pt x="1706" y="410"/>
                  </a:lnTo>
                  <a:lnTo>
                    <a:pt x="1692" y="412"/>
                  </a:lnTo>
                  <a:lnTo>
                    <a:pt x="1652" y="390"/>
                  </a:lnTo>
                  <a:lnTo>
                    <a:pt x="1626" y="386"/>
                  </a:lnTo>
                  <a:lnTo>
                    <a:pt x="1578" y="370"/>
                  </a:lnTo>
                  <a:lnTo>
                    <a:pt x="1568" y="374"/>
                  </a:lnTo>
                  <a:lnTo>
                    <a:pt x="1562" y="386"/>
                  </a:lnTo>
                  <a:lnTo>
                    <a:pt x="1544" y="384"/>
                  </a:lnTo>
                  <a:lnTo>
                    <a:pt x="1536" y="386"/>
                  </a:lnTo>
                  <a:lnTo>
                    <a:pt x="1534" y="394"/>
                  </a:lnTo>
                  <a:lnTo>
                    <a:pt x="1538" y="414"/>
                  </a:lnTo>
                  <a:lnTo>
                    <a:pt x="1528" y="454"/>
                  </a:lnTo>
                  <a:lnTo>
                    <a:pt x="1532" y="458"/>
                  </a:lnTo>
                  <a:lnTo>
                    <a:pt x="1552" y="456"/>
                  </a:lnTo>
                  <a:lnTo>
                    <a:pt x="1562" y="470"/>
                  </a:lnTo>
                  <a:lnTo>
                    <a:pt x="1564" y="478"/>
                  </a:lnTo>
                  <a:lnTo>
                    <a:pt x="1556" y="486"/>
                  </a:lnTo>
                  <a:lnTo>
                    <a:pt x="1552" y="490"/>
                  </a:lnTo>
                  <a:lnTo>
                    <a:pt x="1554" y="500"/>
                  </a:lnTo>
                  <a:lnTo>
                    <a:pt x="1562" y="508"/>
                  </a:lnTo>
                  <a:lnTo>
                    <a:pt x="1570" y="512"/>
                  </a:lnTo>
                  <a:lnTo>
                    <a:pt x="1596" y="508"/>
                  </a:lnTo>
                  <a:lnTo>
                    <a:pt x="1604" y="512"/>
                  </a:lnTo>
                  <a:lnTo>
                    <a:pt x="1610" y="522"/>
                  </a:lnTo>
                  <a:lnTo>
                    <a:pt x="1610" y="528"/>
                  </a:lnTo>
                  <a:lnTo>
                    <a:pt x="1602" y="538"/>
                  </a:lnTo>
                  <a:lnTo>
                    <a:pt x="1588" y="546"/>
                  </a:lnTo>
                  <a:lnTo>
                    <a:pt x="1588" y="560"/>
                  </a:lnTo>
                  <a:lnTo>
                    <a:pt x="1626" y="590"/>
                  </a:lnTo>
                  <a:lnTo>
                    <a:pt x="1632" y="608"/>
                  </a:lnTo>
                  <a:lnTo>
                    <a:pt x="1632" y="618"/>
                  </a:lnTo>
                  <a:lnTo>
                    <a:pt x="1606" y="646"/>
                  </a:lnTo>
                  <a:lnTo>
                    <a:pt x="1606" y="652"/>
                  </a:lnTo>
                  <a:lnTo>
                    <a:pt x="1628" y="662"/>
                  </a:lnTo>
                  <a:lnTo>
                    <a:pt x="1644" y="684"/>
                  </a:lnTo>
                  <a:lnTo>
                    <a:pt x="1672" y="698"/>
                  </a:lnTo>
                  <a:lnTo>
                    <a:pt x="1676" y="720"/>
                  </a:lnTo>
                  <a:lnTo>
                    <a:pt x="1692" y="722"/>
                  </a:lnTo>
                  <a:lnTo>
                    <a:pt x="1702" y="730"/>
                  </a:lnTo>
                  <a:lnTo>
                    <a:pt x="1714" y="724"/>
                  </a:lnTo>
                  <a:lnTo>
                    <a:pt x="1726" y="728"/>
                  </a:lnTo>
                  <a:lnTo>
                    <a:pt x="1730" y="740"/>
                  </a:lnTo>
                  <a:lnTo>
                    <a:pt x="1732" y="756"/>
                  </a:lnTo>
                  <a:lnTo>
                    <a:pt x="1744" y="778"/>
                  </a:lnTo>
                  <a:lnTo>
                    <a:pt x="1748" y="780"/>
                  </a:lnTo>
                  <a:lnTo>
                    <a:pt x="1794" y="782"/>
                  </a:lnTo>
                  <a:lnTo>
                    <a:pt x="1808" y="790"/>
                  </a:lnTo>
                  <a:lnTo>
                    <a:pt x="1818" y="788"/>
                  </a:lnTo>
                  <a:lnTo>
                    <a:pt x="1836" y="806"/>
                  </a:lnTo>
                  <a:lnTo>
                    <a:pt x="1840" y="820"/>
                  </a:lnTo>
                  <a:lnTo>
                    <a:pt x="1846" y="830"/>
                  </a:lnTo>
                  <a:lnTo>
                    <a:pt x="1836" y="842"/>
                  </a:lnTo>
                  <a:lnTo>
                    <a:pt x="1836" y="854"/>
                  </a:lnTo>
                  <a:lnTo>
                    <a:pt x="1818" y="858"/>
                  </a:lnTo>
                  <a:lnTo>
                    <a:pt x="1810" y="858"/>
                  </a:lnTo>
                  <a:lnTo>
                    <a:pt x="1802" y="854"/>
                  </a:lnTo>
                  <a:lnTo>
                    <a:pt x="1790" y="858"/>
                  </a:lnTo>
                  <a:lnTo>
                    <a:pt x="1786" y="864"/>
                  </a:lnTo>
                  <a:lnTo>
                    <a:pt x="1762" y="880"/>
                  </a:lnTo>
                  <a:lnTo>
                    <a:pt x="1758" y="900"/>
                  </a:lnTo>
                  <a:lnTo>
                    <a:pt x="1764" y="928"/>
                  </a:lnTo>
                  <a:lnTo>
                    <a:pt x="1780" y="944"/>
                  </a:lnTo>
                  <a:lnTo>
                    <a:pt x="1782" y="958"/>
                  </a:lnTo>
                  <a:lnTo>
                    <a:pt x="1786" y="960"/>
                  </a:lnTo>
                  <a:lnTo>
                    <a:pt x="1794" y="968"/>
                  </a:lnTo>
                  <a:lnTo>
                    <a:pt x="1792" y="976"/>
                  </a:lnTo>
                  <a:lnTo>
                    <a:pt x="1782" y="988"/>
                  </a:lnTo>
                  <a:lnTo>
                    <a:pt x="1782" y="1004"/>
                  </a:lnTo>
                  <a:lnTo>
                    <a:pt x="1786" y="1012"/>
                  </a:lnTo>
                  <a:lnTo>
                    <a:pt x="1790" y="1014"/>
                  </a:lnTo>
                  <a:lnTo>
                    <a:pt x="1816" y="1014"/>
                  </a:lnTo>
                  <a:lnTo>
                    <a:pt x="1826" y="1032"/>
                  </a:lnTo>
                  <a:lnTo>
                    <a:pt x="1822" y="1038"/>
                  </a:lnTo>
                  <a:lnTo>
                    <a:pt x="1814" y="1040"/>
                  </a:lnTo>
                  <a:lnTo>
                    <a:pt x="1804" y="1038"/>
                  </a:lnTo>
                  <a:lnTo>
                    <a:pt x="1796" y="1032"/>
                  </a:lnTo>
                  <a:lnTo>
                    <a:pt x="1794" y="1050"/>
                  </a:lnTo>
                  <a:lnTo>
                    <a:pt x="1764" y="1066"/>
                  </a:lnTo>
                  <a:lnTo>
                    <a:pt x="1748" y="1110"/>
                  </a:lnTo>
                  <a:lnTo>
                    <a:pt x="1736" y="1118"/>
                  </a:lnTo>
                  <a:lnTo>
                    <a:pt x="1728" y="1134"/>
                  </a:lnTo>
                  <a:lnTo>
                    <a:pt x="1722" y="1148"/>
                  </a:lnTo>
                  <a:lnTo>
                    <a:pt x="1722" y="1166"/>
                  </a:lnTo>
                  <a:lnTo>
                    <a:pt x="1732" y="1188"/>
                  </a:lnTo>
                  <a:lnTo>
                    <a:pt x="1728" y="1208"/>
                  </a:lnTo>
                  <a:lnTo>
                    <a:pt x="1710" y="1222"/>
                  </a:lnTo>
                  <a:lnTo>
                    <a:pt x="1692" y="1226"/>
                  </a:lnTo>
                  <a:lnTo>
                    <a:pt x="1680" y="1238"/>
                  </a:lnTo>
                  <a:lnTo>
                    <a:pt x="1672" y="1262"/>
                  </a:lnTo>
                  <a:lnTo>
                    <a:pt x="1672" y="1294"/>
                  </a:lnTo>
                  <a:lnTo>
                    <a:pt x="1664" y="1322"/>
                  </a:lnTo>
                  <a:lnTo>
                    <a:pt x="1640" y="1388"/>
                  </a:lnTo>
                  <a:lnTo>
                    <a:pt x="1630" y="1404"/>
                  </a:lnTo>
                  <a:lnTo>
                    <a:pt x="1604" y="1424"/>
                  </a:lnTo>
                  <a:lnTo>
                    <a:pt x="1584" y="1452"/>
                  </a:lnTo>
                  <a:lnTo>
                    <a:pt x="1576" y="1468"/>
                  </a:lnTo>
                  <a:lnTo>
                    <a:pt x="1562" y="1512"/>
                  </a:lnTo>
                  <a:lnTo>
                    <a:pt x="1550" y="1540"/>
                  </a:lnTo>
                  <a:lnTo>
                    <a:pt x="1540" y="1580"/>
                  </a:lnTo>
                  <a:lnTo>
                    <a:pt x="1530" y="1590"/>
                  </a:lnTo>
                  <a:lnTo>
                    <a:pt x="1520" y="1594"/>
                  </a:lnTo>
                  <a:lnTo>
                    <a:pt x="1466" y="1594"/>
                  </a:lnTo>
                  <a:lnTo>
                    <a:pt x="1456" y="1596"/>
                  </a:lnTo>
                  <a:lnTo>
                    <a:pt x="1438" y="1608"/>
                  </a:lnTo>
                  <a:lnTo>
                    <a:pt x="1430" y="1624"/>
                  </a:lnTo>
                  <a:lnTo>
                    <a:pt x="1420" y="1628"/>
                  </a:lnTo>
                  <a:lnTo>
                    <a:pt x="1412" y="1622"/>
                  </a:lnTo>
                  <a:lnTo>
                    <a:pt x="1404" y="1608"/>
                  </a:lnTo>
                  <a:lnTo>
                    <a:pt x="1376" y="1574"/>
                  </a:lnTo>
                  <a:lnTo>
                    <a:pt x="1366" y="1568"/>
                  </a:lnTo>
                  <a:lnTo>
                    <a:pt x="1358" y="1568"/>
                  </a:lnTo>
                  <a:lnTo>
                    <a:pt x="1340" y="1594"/>
                  </a:lnTo>
                  <a:lnTo>
                    <a:pt x="1334" y="1614"/>
                  </a:lnTo>
                  <a:lnTo>
                    <a:pt x="1312" y="1640"/>
                  </a:lnTo>
                  <a:lnTo>
                    <a:pt x="1286" y="1692"/>
                  </a:lnTo>
                  <a:lnTo>
                    <a:pt x="1272" y="1714"/>
                  </a:lnTo>
                  <a:lnTo>
                    <a:pt x="1268" y="1732"/>
                  </a:lnTo>
                  <a:lnTo>
                    <a:pt x="1268" y="1784"/>
                  </a:lnTo>
                  <a:lnTo>
                    <a:pt x="1272" y="1798"/>
                  </a:lnTo>
                  <a:lnTo>
                    <a:pt x="1282" y="1810"/>
                  </a:lnTo>
                  <a:lnTo>
                    <a:pt x="1298" y="1822"/>
                  </a:lnTo>
                  <a:lnTo>
                    <a:pt x="1314" y="1818"/>
                  </a:lnTo>
                  <a:lnTo>
                    <a:pt x="1332" y="1824"/>
                  </a:lnTo>
                  <a:lnTo>
                    <a:pt x="1360" y="1824"/>
                  </a:lnTo>
                  <a:lnTo>
                    <a:pt x="1366" y="1826"/>
                  </a:lnTo>
                  <a:lnTo>
                    <a:pt x="1378" y="1838"/>
                  </a:lnTo>
                  <a:lnTo>
                    <a:pt x="1382" y="1848"/>
                  </a:lnTo>
                  <a:lnTo>
                    <a:pt x="1384" y="1862"/>
                  </a:lnTo>
                  <a:lnTo>
                    <a:pt x="1380" y="1918"/>
                  </a:lnTo>
                  <a:lnTo>
                    <a:pt x="1382" y="1932"/>
                  </a:lnTo>
                  <a:lnTo>
                    <a:pt x="1388" y="1944"/>
                  </a:lnTo>
                  <a:lnTo>
                    <a:pt x="1420" y="1974"/>
                  </a:lnTo>
                  <a:lnTo>
                    <a:pt x="1430" y="1978"/>
                  </a:lnTo>
                  <a:lnTo>
                    <a:pt x="1450" y="1970"/>
                  </a:lnTo>
                  <a:lnTo>
                    <a:pt x="1458" y="1972"/>
                  </a:lnTo>
                  <a:lnTo>
                    <a:pt x="1464" y="1980"/>
                  </a:lnTo>
                  <a:lnTo>
                    <a:pt x="1470" y="2012"/>
                  </a:lnTo>
                  <a:lnTo>
                    <a:pt x="1478" y="2034"/>
                  </a:lnTo>
                  <a:lnTo>
                    <a:pt x="1494" y="2054"/>
                  </a:lnTo>
                  <a:lnTo>
                    <a:pt x="1504" y="2076"/>
                  </a:lnTo>
                  <a:lnTo>
                    <a:pt x="1520" y="2094"/>
                  </a:lnTo>
                  <a:lnTo>
                    <a:pt x="1536" y="2108"/>
                  </a:lnTo>
                  <a:lnTo>
                    <a:pt x="1540" y="2114"/>
                  </a:lnTo>
                  <a:lnTo>
                    <a:pt x="1550" y="2126"/>
                  </a:lnTo>
                  <a:lnTo>
                    <a:pt x="1554" y="2136"/>
                  </a:lnTo>
                  <a:lnTo>
                    <a:pt x="1544" y="2144"/>
                  </a:lnTo>
                  <a:lnTo>
                    <a:pt x="1544" y="2150"/>
                  </a:lnTo>
                  <a:lnTo>
                    <a:pt x="1550" y="2178"/>
                  </a:lnTo>
                  <a:lnTo>
                    <a:pt x="1550" y="2186"/>
                  </a:lnTo>
                  <a:lnTo>
                    <a:pt x="1566" y="2190"/>
                  </a:lnTo>
                  <a:lnTo>
                    <a:pt x="1568" y="2198"/>
                  </a:lnTo>
                  <a:lnTo>
                    <a:pt x="1552" y="2200"/>
                  </a:lnTo>
                  <a:lnTo>
                    <a:pt x="1540" y="2208"/>
                  </a:lnTo>
                  <a:lnTo>
                    <a:pt x="1540" y="2218"/>
                  </a:lnTo>
                  <a:lnTo>
                    <a:pt x="1534" y="2222"/>
                  </a:lnTo>
                  <a:lnTo>
                    <a:pt x="1524" y="2222"/>
                  </a:lnTo>
                  <a:lnTo>
                    <a:pt x="1508" y="2220"/>
                  </a:lnTo>
                  <a:lnTo>
                    <a:pt x="1502" y="2216"/>
                  </a:lnTo>
                  <a:lnTo>
                    <a:pt x="1500" y="2210"/>
                  </a:lnTo>
                  <a:lnTo>
                    <a:pt x="1500" y="2194"/>
                  </a:lnTo>
                  <a:lnTo>
                    <a:pt x="1498" y="2190"/>
                  </a:lnTo>
                  <a:lnTo>
                    <a:pt x="1480" y="2188"/>
                  </a:lnTo>
                  <a:lnTo>
                    <a:pt x="1468" y="2196"/>
                  </a:lnTo>
                  <a:lnTo>
                    <a:pt x="1440" y="2208"/>
                  </a:lnTo>
                  <a:lnTo>
                    <a:pt x="1436" y="2230"/>
                  </a:lnTo>
                  <a:lnTo>
                    <a:pt x="1432" y="2234"/>
                  </a:lnTo>
                  <a:lnTo>
                    <a:pt x="1426" y="2234"/>
                  </a:lnTo>
                  <a:lnTo>
                    <a:pt x="1388" y="2234"/>
                  </a:lnTo>
                  <a:lnTo>
                    <a:pt x="1364" y="2214"/>
                  </a:lnTo>
                  <a:lnTo>
                    <a:pt x="1350" y="2222"/>
                  </a:lnTo>
                  <a:lnTo>
                    <a:pt x="1340" y="2216"/>
                  </a:lnTo>
                  <a:lnTo>
                    <a:pt x="1308" y="2218"/>
                  </a:lnTo>
                  <a:lnTo>
                    <a:pt x="1300" y="2218"/>
                  </a:lnTo>
                  <a:lnTo>
                    <a:pt x="1286" y="2220"/>
                  </a:lnTo>
                  <a:lnTo>
                    <a:pt x="1274" y="2216"/>
                  </a:lnTo>
                  <a:lnTo>
                    <a:pt x="1272" y="2222"/>
                  </a:lnTo>
                  <a:lnTo>
                    <a:pt x="1268" y="2222"/>
                  </a:lnTo>
                  <a:lnTo>
                    <a:pt x="1260" y="2208"/>
                  </a:lnTo>
                  <a:lnTo>
                    <a:pt x="1254" y="2206"/>
                  </a:lnTo>
                  <a:lnTo>
                    <a:pt x="1252" y="2220"/>
                  </a:lnTo>
                  <a:lnTo>
                    <a:pt x="1262" y="2270"/>
                  </a:lnTo>
                  <a:lnTo>
                    <a:pt x="1212" y="2272"/>
                  </a:lnTo>
                  <a:lnTo>
                    <a:pt x="1204" y="2276"/>
                  </a:lnTo>
                  <a:lnTo>
                    <a:pt x="1190" y="2272"/>
                  </a:lnTo>
                  <a:lnTo>
                    <a:pt x="1190" y="2288"/>
                  </a:lnTo>
                  <a:lnTo>
                    <a:pt x="1184" y="2290"/>
                  </a:lnTo>
                  <a:lnTo>
                    <a:pt x="1182" y="2302"/>
                  </a:lnTo>
                  <a:lnTo>
                    <a:pt x="1172" y="2314"/>
                  </a:lnTo>
                  <a:lnTo>
                    <a:pt x="1160" y="2316"/>
                  </a:lnTo>
                  <a:lnTo>
                    <a:pt x="1126" y="2302"/>
                  </a:lnTo>
                  <a:lnTo>
                    <a:pt x="1096" y="2300"/>
                  </a:lnTo>
                  <a:lnTo>
                    <a:pt x="1088" y="2292"/>
                  </a:lnTo>
                  <a:lnTo>
                    <a:pt x="1080" y="2274"/>
                  </a:lnTo>
                  <a:lnTo>
                    <a:pt x="1074" y="2266"/>
                  </a:lnTo>
                  <a:lnTo>
                    <a:pt x="1060" y="2252"/>
                  </a:lnTo>
                  <a:lnTo>
                    <a:pt x="1042" y="2220"/>
                  </a:lnTo>
                  <a:lnTo>
                    <a:pt x="1018" y="2170"/>
                  </a:lnTo>
                  <a:lnTo>
                    <a:pt x="1012" y="2152"/>
                  </a:lnTo>
                  <a:lnTo>
                    <a:pt x="1002" y="2152"/>
                  </a:lnTo>
                  <a:lnTo>
                    <a:pt x="974" y="2142"/>
                  </a:lnTo>
                  <a:lnTo>
                    <a:pt x="954" y="2132"/>
                  </a:lnTo>
                  <a:lnTo>
                    <a:pt x="934" y="2074"/>
                  </a:lnTo>
                  <a:lnTo>
                    <a:pt x="924" y="2060"/>
                  </a:lnTo>
                  <a:lnTo>
                    <a:pt x="904" y="2044"/>
                  </a:lnTo>
                  <a:lnTo>
                    <a:pt x="886" y="2034"/>
                  </a:lnTo>
                  <a:lnTo>
                    <a:pt x="860" y="2030"/>
                  </a:lnTo>
                  <a:lnTo>
                    <a:pt x="810" y="2044"/>
                  </a:lnTo>
                  <a:lnTo>
                    <a:pt x="760" y="2044"/>
                  </a:lnTo>
                  <a:lnTo>
                    <a:pt x="726" y="2062"/>
                  </a:lnTo>
                  <a:lnTo>
                    <a:pt x="702" y="2056"/>
                  </a:lnTo>
                  <a:lnTo>
                    <a:pt x="664" y="2052"/>
                  </a:lnTo>
                  <a:lnTo>
                    <a:pt x="652" y="2088"/>
                  </a:lnTo>
                  <a:lnTo>
                    <a:pt x="636" y="2070"/>
                  </a:lnTo>
                  <a:lnTo>
                    <a:pt x="606" y="2070"/>
                  </a:lnTo>
                  <a:lnTo>
                    <a:pt x="580" y="2050"/>
                  </a:lnTo>
                  <a:lnTo>
                    <a:pt x="546" y="2056"/>
                  </a:lnTo>
                  <a:lnTo>
                    <a:pt x="512" y="2052"/>
                  </a:lnTo>
                  <a:lnTo>
                    <a:pt x="496" y="2076"/>
                  </a:lnTo>
                  <a:lnTo>
                    <a:pt x="464" y="2080"/>
                  </a:lnTo>
                  <a:lnTo>
                    <a:pt x="390" y="2072"/>
                  </a:lnTo>
                  <a:lnTo>
                    <a:pt x="364" y="2076"/>
                  </a:lnTo>
                  <a:lnTo>
                    <a:pt x="330" y="2096"/>
                  </a:lnTo>
                  <a:lnTo>
                    <a:pt x="310" y="2084"/>
                  </a:lnTo>
                  <a:lnTo>
                    <a:pt x="292" y="2104"/>
                  </a:lnTo>
                  <a:lnTo>
                    <a:pt x="274" y="2106"/>
                  </a:lnTo>
                  <a:lnTo>
                    <a:pt x="260" y="2116"/>
                  </a:lnTo>
                  <a:lnTo>
                    <a:pt x="252" y="2098"/>
                  </a:lnTo>
                  <a:lnTo>
                    <a:pt x="242" y="2096"/>
                  </a:lnTo>
                </a:path>
              </a:pathLst>
            </a:custGeom>
            <a:solidFill>
              <a:srgbClr val="000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13560" y="2462400"/>
              <a:ext cx="2635560" cy="1082520"/>
            </a:xfrm>
            <a:custGeom>
              <a:avLst/>
              <a:gdLst/>
              <a:ahLst/>
              <a:rect l="l" t="t" r="r" b="b"/>
              <a:pathLst>
                <a:path w="15164" h="6330">
                  <a:moveTo>
                    <a:pt x="4866" y="1762"/>
                  </a:moveTo>
                  <a:lnTo>
                    <a:pt x="4878" y="1770"/>
                  </a:lnTo>
                  <a:lnTo>
                    <a:pt x="4918" y="1768"/>
                  </a:lnTo>
                  <a:lnTo>
                    <a:pt x="4944" y="1770"/>
                  </a:lnTo>
                  <a:lnTo>
                    <a:pt x="4984" y="1762"/>
                  </a:lnTo>
                  <a:lnTo>
                    <a:pt x="4986" y="1756"/>
                  </a:lnTo>
                  <a:lnTo>
                    <a:pt x="4942" y="1746"/>
                  </a:lnTo>
                  <a:lnTo>
                    <a:pt x="4912" y="1748"/>
                  </a:lnTo>
                  <a:lnTo>
                    <a:pt x="4870" y="1740"/>
                  </a:lnTo>
                  <a:lnTo>
                    <a:pt x="4850" y="1744"/>
                  </a:lnTo>
                  <a:lnTo>
                    <a:pt x="4838" y="1734"/>
                  </a:lnTo>
                  <a:lnTo>
                    <a:pt x="4820" y="1712"/>
                  </a:lnTo>
                  <a:lnTo>
                    <a:pt x="4802" y="1686"/>
                  </a:lnTo>
                  <a:lnTo>
                    <a:pt x="4802" y="1672"/>
                  </a:lnTo>
                  <a:lnTo>
                    <a:pt x="4812" y="1662"/>
                  </a:lnTo>
                  <a:lnTo>
                    <a:pt x="4836" y="1658"/>
                  </a:lnTo>
                  <a:lnTo>
                    <a:pt x="4840" y="1648"/>
                  </a:lnTo>
                  <a:lnTo>
                    <a:pt x="4830" y="1636"/>
                  </a:lnTo>
                  <a:lnTo>
                    <a:pt x="4822" y="1634"/>
                  </a:lnTo>
                  <a:lnTo>
                    <a:pt x="4760" y="1594"/>
                  </a:lnTo>
                  <a:lnTo>
                    <a:pt x="4754" y="1582"/>
                  </a:lnTo>
                  <a:lnTo>
                    <a:pt x="4742" y="1564"/>
                  </a:lnTo>
                  <a:lnTo>
                    <a:pt x="4726" y="1554"/>
                  </a:lnTo>
                  <a:lnTo>
                    <a:pt x="4686" y="1546"/>
                  </a:lnTo>
                  <a:lnTo>
                    <a:pt x="4632" y="1532"/>
                  </a:lnTo>
                  <a:lnTo>
                    <a:pt x="4606" y="1522"/>
                  </a:lnTo>
                  <a:lnTo>
                    <a:pt x="4536" y="1506"/>
                  </a:lnTo>
                  <a:lnTo>
                    <a:pt x="4496" y="1508"/>
                  </a:lnTo>
                  <a:lnTo>
                    <a:pt x="4466" y="1526"/>
                  </a:lnTo>
                  <a:lnTo>
                    <a:pt x="4466" y="1536"/>
                  </a:lnTo>
                  <a:lnTo>
                    <a:pt x="4438" y="1534"/>
                  </a:lnTo>
                  <a:lnTo>
                    <a:pt x="4412" y="1530"/>
                  </a:lnTo>
                  <a:lnTo>
                    <a:pt x="4392" y="1532"/>
                  </a:lnTo>
                  <a:lnTo>
                    <a:pt x="4368" y="1538"/>
                  </a:lnTo>
                  <a:lnTo>
                    <a:pt x="4348" y="1538"/>
                  </a:lnTo>
                  <a:lnTo>
                    <a:pt x="4322" y="1522"/>
                  </a:lnTo>
                  <a:lnTo>
                    <a:pt x="4316" y="1512"/>
                  </a:lnTo>
                  <a:lnTo>
                    <a:pt x="4316" y="1494"/>
                  </a:lnTo>
                  <a:lnTo>
                    <a:pt x="4310" y="1478"/>
                  </a:lnTo>
                  <a:lnTo>
                    <a:pt x="4282" y="1458"/>
                  </a:lnTo>
                  <a:lnTo>
                    <a:pt x="4244" y="1434"/>
                  </a:lnTo>
                  <a:lnTo>
                    <a:pt x="4234" y="1412"/>
                  </a:lnTo>
                  <a:lnTo>
                    <a:pt x="4230" y="1400"/>
                  </a:lnTo>
                  <a:lnTo>
                    <a:pt x="4234" y="1388"/>
                  </a:lnTo>
                  <a:lnTo>
                    <a:pt x="4222" y="1372"/>
                  </a:lnTo>
                  <a:lnTo>
                    <a:pt x="4216" y="1358"/>
                  </a:lnTo>
                  <a:lnTo>
                    <a:pt x="4228" y="1338"/>
                  </a:lnTo>
                  <a:lnTo>
                    <a:pt x="4226" y="1330"/>
                  </a:lnTo>
                  <a:lnTo>
                    <a:pt x="4226" y="1308"/>
                  </a:lnTo>
                  <a:lnTo>
                    <a:pt x="4218" y="1288"/>
                  </a:lnTo>
                  <a:lnTo>
                    <a:pt x="4212" y="1278"/>
                  </a:lnTo>
                  <a:lnTo>
                    <a:pt x="4182" y="1258"/>
                  </a:lnTo>
                  <a:lnTo>
                    <a:pt x="4144" y="1238"/>
                  </a:lnTo>
                  <a:lnTo>
                    <a:pt x="4114" y="1208"/>
                  </a:lnTo>
                  <a:lnTo>
                    <a:pt x="4086" y="1190"/>
                  </a:lnTo>
                  <a:lnTo>
                    <a:pt x="4050" y="1170"/>
                  </a:lnTo>
                  <a:lnTo>
                    <a:pt x="4000" y="1152"/>
                  </a:lnTo>
                  <a:lnTo>
                    <a:pt x="3994" y="1142"/>
                  </a:lnTo>
                  <a:lnTo>
                    <a:pt x="4010" y="1126"/>
                  </a:lnTo>
                  <a:lnTo>
                    <a:pt x="4008" y="1114"/>
                  </a:lnTo>
                  <a:lnTo>
                    <a:pt x="4004" y="1106"/>
                  </a:lnTo>
                  <a:lnTo>
                    <a:pt x="3992" y="1094"/>
                  </a:lnTo>
                  <a:lnTo>
                    <a:pt x="4026" y="1070"/>
                  </a:lnTo>
                  <a:lnTo>
                    <a:pt x="4054" y="1060"/>
                  </a:lnTo>
                  <a:lnTo>
                    <a:pt x="4086" y="1028"/>
                  </a:lnTo>
                  <a:lnTo>
                    <a:pt x="4090" y="1014"/>
                  </a:lnTo>
                  <a:lnTo>
                    <a:pt x="4060" y="974"/>
                  </a:lnTo>
                  <a:lnTo>
                    <a:pt x="4040" y="956"/>
                  </a:lnTo>
                  <a:lnTo>
                    <a:pt x="4016" y="938"/>
                  </a:lnTo>
                  <a:lnTo>
                    <a:pt x="4006" y="928"/>
                  </a:lnTo>
                  <a:lnTo>
                    <a:pt x="4026" y="920"/>
                  </a:lnTo>
                  <a:lnTo>
                    <a:pt x="4040" y="928"/>
                  </a:lnTo>
                  <a:lnTo>
                    <a:pt x="4076" y="942"/>
                  </a:lnTo>
                  <a:lnTo>
                    <a:pt x="4080" y="950"/>
                  </a:lnTo>
                  <a:lnTo>
                    <a:pt x="4090" y="958"/>
                  </a:lnTo>
                  <a:lnTo>
                    <a:pt x="4114" y="970"/>
                  </a:lnTo>
                  <a:lnTo>
                    <a:pt x="4104" y="976"/>
                  </a:lnTo>
                  <a:lnTo>
                    <a:pt x="4118" y="990"/>
                  </a:lnTo>
                  <a:lnTo>
                    <a:pt x="4148" y="1014"/>
                  </a:lnTo>
                  <a:lnTo>
                    <a:pt x="4150" y="1050"/>
                  </a:lnTo>
                  <a:lnTo>
                    <a:pt x="4142" y="1058"/>
                  </a:lnTo>
                  <a:lnTo>
                    <a:pt x="4162" y="1068"/>
                  </a:lnTo>
                  <a:lnTo>
                    <a:pt x="4170" y="1090"/>
                  </a:lnTo>
                  <a:lnTo>
                    <a:pt x="4178" y="1100"/>
                  </a:lnTo>
                  <a:lnTo>
                    <a:pt x="4210" y="1120"/>
                  </a:lnTo>
                  <a:lnTo>
                    <a:pt x="4226" y="1138"/>
                  </a:lnTo>
                  <a:lnTo>
                    <a:pt x="4226" y="1144"/>
                  </a:lnTo>
                  <a:lnTo>
                    <a:pt x="4206" y="1148"/>
                  </a:lnTo>
                  <a:lnTo>
                    <a:pt x="4204" y="1152"/>
                  </a:lnTo>
                  <a:lnTo>
                    <a:pt x="4232" y="1164"/>
                  </a:lnTo>
                  <a:lnTo>
                    <a:pt x="4252" y="1170"/>
                  </a:lnTo>
                  <a:lnTo>
                    <a:pt x="4312" y="1178"/>
                  </a:lnTo>
                  <a:lnTo>
                    <a:pt x="4372" y="1178"/>
                  </a:lnTo>
                  <a:lnTo>
                    <a:pt x="4392" y="1182"/>
                  </a:lnTo>
                  <a:lnTo>
                    <a:pt x="4454" y="1182"/>
                  </a:lnTo>
                  <a:lnTo>
                    <a:pt x="4476" y="1190"/>
                  </a:lnTo>
                  <a:lnTo>
                    <a:pt x="4488" y="1200"/>
                  </a:lnTo>
                  <a:lnTo>
                    <a:pt x="4508" y="1206"/>
                  </a:lnTo>
                  <a:lnTo>
                    <a:pt x="4528" y="1210"/>
                  </a:lnTo>
                  <a:lnTo>
                    <a:pt x="4554" y="1210"/>
                  </a:lnTo>
                  <a:lnTo>
                    <a:pt x="4548" y="1202"/>
                  </a:lnTo>
                  <a:lnTo>
                    <a:pt x="4516" y="1188"/>
                  </a:lnTo>
                  <a:lnTo>
                    <a:pt x="4492" y="1160"/>
                  </a:lnTo>
                  <a:lnTo>
                    <a:pt x="4476" y="1164"/>
                  </a:lnTo>
                  <a:lnTo>
                    <a:pt x="4464" y="1158"/>
                  </a:lnTo>
                  <a:lnTo>
                    <a:pt x="4458" y="1144"/>
                  </a:lnTo>
                  <a:lnTo>
                    <a:pt x="4448" y="1154"/>
                  </a:lnTo>
                  <a:lnTo>
                    <a:pt x="4436" y="1160"/>
                  </a:lnTo>
                  <a:lnTo>
                    <a:pt x="4422" y="1156"/>
                  </a:lnTo>
                  <a:lnTo>
                    <a:pt x="4408" y="1154"/>
                  </a:lnTo>
                  <a:lnTo>
                    <a:pt x="4382" y="1144"/>
                  </a:lnTo>
                  <a:lnTo>
                    <a:pt x="4356" y="1140"/>
                  </a:lnTo>
                  <a:lnTo>
                    <a:pt x="4306" y="1124"/>
                  </a:lnTo>
                  <a:lnTo>
                    <a:pt x="4296" y="1124"/>
                  </a:lnTo>
                  <a:lnTo>
                    <a:pt x="4282" y="1112"/>
                  </a:lnTo>
                  <a:lnTo>
                    <a:pt x="4262" y="1098"/>
                  </a:lnTo>
                  <a:lnTo>
                    <a:pt x="4242" y="1080"/>
                  </a:lnTo>
                  <a:lnTo>
                    <a:pt x="4226" y="1074"/>
                  </a:lnTo>
                  <a:lnTo>
                    <a:pt x="4234" y="1060"/>
                  </a:lnTo>
                  <a:lnTo>
                    <a:pt x="4250" y="1058"/>
                  </a:lnTo>
                  <a:lnTo>
                    <a:pt x="4278" y="1072"/>
                  </a:lnTo>
                  <a:lnTo>
                    <a:pt x="4314" y="1084"/>
                  </a:lnTo>
                  <a:lnTo>
                    <a:pt x="4324" y="1098"/>
                  </a:lnTo>
                  <a:lnTo>
                    <a:pt x="4352" y="1092"/>
                  </a:lnTo>
                  <a:lnTo>
                    <a:pt x="4370" y="1078"/>
                  </a:lnTo>
                  <a:lnTo>
                    <a:pt x="4396" y="1070"/>
                  </a:lnTo>
                  <a:lnTo>
                    <a:pt x="4406" y="1058"/>
                  </a:lnTo>
                  <a:lnTo>
                    <a:pt x="4404" y="1046"/>
                  </a:lnTo>
                  <a:lnTo>
                    <a:pt x="4374" y="1036"/>
                  </a:lnTo>
                  <a:lnTo>
                    <a:pt x="4328" y="1038"/>
                  </a:lnTo>
                  <a:lnTo>
                    <a:pt x="4322" y="1020"/>
                  </a:lnTo>
                  <a:lnTo>
                    <a:pt x="4350" y="1008"/>
                  </a:lnTo>
                  <a:lnTo>
                    <a:pt x="4360" y="988"/>
                  </a:lnTo>
                  <a:lnTo>
                    <a:pt x="4384" y="984"/>
                  </a:lnTo>
                  <a:lnTo>
                    <a:pt x="4468" y="980"/>
                  </a:lnTo>
                  <a:lnTo>
                    <a:pt x="4520" y="990"/>
                  </a:lnTo>
                  <a:lnTo>
                    <a:pt x="4540" y="998"/>
                  </a:lnTo>
                  <a:lnTo>
                    <a:pt x="4590" y="1012"/>
                  </a:lnTo>
                  <a:lnTo>
                    <a:pt x="4640" y="1020"/>
                  </a:lnTo>
                  <a:lnTo>
                    <a:pt x="4646" y="1028"/>
                  </a:lnTo>
                  <a:lnTo>
                    <a:pt x="4658" y="1034"/>
                  </a:lnTo>
                  <a:lnTo>
                    <a:pt x="4690" y="1048"/>
                  </a:lnTo>
                  <a:lnTo>
                    <a:pt x="4712" y="1060"/>
                  </a:lnTo>
                  <a:lnTo>
                    <a:pt x="4714" y="1058"/>
                  </a:lnTo>
                  <a:lnTo>
                    <a:pt x="4742" y="1068"/>
                  </a:lnTo>
                  <a:lnTo>
                    <a:pt x="4774" y="1074"/>
                  </a:lnTo>
                  <a:lnTo>
                    <a:pt x="4818" y="1066"/>
                  </a:lnTo>
                  <a:lnTo>
                    <a:pt x="4856" y="1054"/>
                  </a:lnTo>
                  <a:lnTo>
                    <a:pt x="4906" y="1066"/>
                  </a:lnTo>
                  <a:lnTo>
                    <a:pt x="4916" y="1082"/>
                  </a:lnTo>
                  <a:lnTo>
                    <a:pt x="4904" y="1086"/>
                  </a:lnTo>
                  <a:lnTo>
                    <a:pt x="4908" y="1096"/>
                  </a:lnTo>
                  <a:lnTo>
                    <a:pt x="4916" y="1108"/>
                  </a:lnTo>
                  <a:lnTo>
                    <a:pt x="4918" y="1114"/>
                  </a:lnTo>
                  <a:lnTo>
                    <a:pt x="4878" y="1138"/>
                  </a:lnTo>
                  <a:lnTo>
                    <a:pt x="4876" y="1150"/>
                  </a:lnTo>
                  <a:lnTo>
                    <a:pt x="4886" y="1160"/>
                  </a:lnTo>
                  <a:lnTo>
                    <a:pt x="4902" y="1176"/>
                  </a:lnTo>
                  <a:lnTo>
                    <a:pt x="4908" y="1188"/>
                  </a:lnTo>
                  <a:lnTo>
                    <a:pt x="4930" y="1218"/>
                  </a:lnTo>
                  <a:lnTo>
                    <a:pt x="4942" y="1222"/>
                  </a:lnTo>
                  <a:lnTo>
                    <a:pt x="4950" y="1252"/>
                  </a:lnTo>
                  <a:lnTo>
                    <a:pt x="4986" y="1298"/>
                  </a:lnTo>
                  <a:lnTo>
                    <a:pt x="4998" y="1310"/>
                  </a:lnTo>
                  <a:lnTo>
                    <a:pt x="5024" y="1320"/>
                  </a:lnTo>
                  <a:lnTo>
                    <a:pt x="5054" y="1320"/>
                  </a:lnTo>
                  <a:lnTo>
                    <a:pt x="5104" y="1326"/>
                  </a:lnTo>
                  <a:lnTo>
                    <a:pt x="5100" y="1316"/>
                  </a:lnTo>
                  <a:lnTo>
                    <a:pt x="5072" y="1298"/>
                  </a:lnTo>
                  <a:lnTo>
                    <a:pt x="5068" y="1290"/>
                  </a:lnTo>
                  <a:lnTo>
                    <a:pt x="5084" y="1292"/>
                  </a:lnTo>
                  <a:lnTo>
                    <a:pt x="5100" y="1288"/>
                  </a:lnTo>
                  <a:lnTo>
                    <a:pt x="5106" y="1272"/>
                  </a:lnTo>
                  <a:lnTo>
                    <a:pt x="5104" y="1258"/>
                  </a:lnTo>
                  <a:lnTo>
                    <a:pt x="5092" y="1244"/>
                  </a:lnTo>
                  <a:lnTo>
                    <a:pt x="5076" y="1226"/>
                  </a:lnTo>
                  <a:lnTo>
                    <a:pt x="5056" y="1212"/>
                  </a:lnTo>
                  <a:lnTo>
                    <a:pt x="5024" y="1182"/>
                  </a:lnTo>
                  <a:lnTo>
                    <a:pt x="4982" y="1162"/>
                  </a:lnTo>
                  <a:lnTo>
                    <a:pt x="4974" y="1150"/>
                  </a:lnTo>
                  <a:lnTo>
                    <a:pt x="4958" y="1136"/>
                  </a:lnTo>
                  <a:lnTo>
                    <a:pt x="4958" y="1120"/>
                  </a:lnTo>
                  <a:lnTo>
                    <a:pt x="4948" y="1104"/>
                  </a:lnTo>
                  <a:lnTo>
                    <a:pt x="4958" y="1094"/>
                  </a:lnTo>
                  <a:lnTo>
                    <a:pt x="4950" y="1076"/>
                  </a:lnTo>
                  <a:lnTo>
                    <a:pt x="4944" y="1066"/>
                  </a:lnTo>
                  <a:lnTo>
                    <a:pt x="4916" y="1050"/>
                  </a:lnTo>
                  <a:lnTo>
                    <a:pt x="4900" y="1036"/>
                  </a:lnTo>
                  <a:lnTo>
                    <a:pt x="4900" y="1044"/>
                  </a:lnTo>
                  <a:lnTo>
                    <a:pt x="4880" y="1038"/>
                  </a:lnTo>
                  <a:lnTo>
                    <a:pt x="4842" y="1034"/>
                  </a:lnTo>
                  <a:lnTo>
                    <a:pt x="4822" y="1030"/>
                  </a:lnTo>
                  <a:lnTo>
                    <a:pt x="4800" y="1016"/>
                  </a:lnTo>
                  <a:lnTo>
                    <a:pt x="4784" y="1010"/>
                  </a:lnTo>
                  <a:lnTo>
                    <a:pt x="4764" y="1010"/>
                  </a:lnTo>
                  <a:lnTo>
                    <a:pt x="4768" y="1004"/>
                  </a:lnTo>
                  <a:lnTo>
                    <a:pt x="4766" y="994"/>
                  </a:lnTo>
                  <a:lnTo>
                    <a:pt x="4746" y="980"/>
                  </a:lnTo>
                  <a:lnTo>
                    <a:pt x="4734" y="980"/>
                  </a:lnTo>
                  <a:lnTo>
                    <a:pt x="4702" y="972"/>
                  </a:lnTo>
                  <a:lnTo>
                    <a:pt x="4662" y="972"/>
                  </a:lnTo>
                  <a:lnTo>
                    <a:pt x="4636" y="970"/>
                  </a:lnTo>
                  <a:lnTo>
                    <a:pt x="4602" y="956"/>
                  </a:lnTo>
                  <a:lnTo>
                    <a:pt x="4588" y="948"/>
                  </a:lnTo>
                  <a:lnTo>
                    <a:pt x="4576" y="932"/>
                  </a:lnTo>
                  <a:lnTo>
                    <a:pt x="4562" y="926"/>
                  </a:lnTo>
                  <a:lnTo>
                    <a:pt x="4550" y="912"/>
                  </a:lnTo>
                  <a:lnTo>
                    <a:pt x="4546" y="898"/>
                  </a:lnTo>
                  <a:lnTo>
                    <a:pt x="4548" y="892"/>
                  </a:lnTo>
                  <a:lnTo>
                    <a:pt x="4544" y="886"/>
                  </a:lnTo>
                  <a:lnTo>
                    <a:pt x="4546" y="880"/>
                  </a:lnTo>
                  <a:lnTo>
                    <a:pt x="4534" y="876"/>
                  </a:lnTo>
                  <a:lnTo>
                    <a:pt x="4510" y="858"/>
                  </a:lnTo>
                  <a:lnTo>
                    <a:pt x="4506" y="860"/>
                  </a:lnTo>
                  <a:lnTo>
                    <a:pt x="4492" y="856"/>
                  </a:lnTo>
                  <a:lnTo>
                    <a:pt x="4490" y="852"/>
                  </a:lnTo>
                  <a:lnTo>
                    <a:pt x="4454" y="840"/>
                  </a:lnTo>
                  <a:lnTo>
                    <a:pt x="4466" y="832"/>
                  </a:lnTo>
                  <a:lnTo>
                    <a:pt x="4462" y="824"/>
                  </a:lnTo>
                  <a:lnTo>
                    <a:pt x="4446" y="824"/>
                  </a:lnTo>
                  <a:lnTo>
                    <a:pt x="4434" y="816"/>
                  </a:lnTo>
                  <a:lnTo>
                    <a:pt x="4434" y="810"/>
                  </a:lnTo>
                  <a:lnTo>
                    <a:pt x="4450" y="814"/>
                  </a:lnTo>
                  <a:lnTo>
                    <a:pt x="4446" y="808"/>
                  </a:lnTo>
                  <a:lnTo>
                    <a:pt x="4458" y="798"/>
                  </a:lnTo>
                  <a:lnTo>
                    <a:pt x="4458" y="792"/>
                  </a:lnTo>
                  <a:lnTo>
                    <a:pt x="4450" y="790"/>
                  </a:lnTo>
                  <a:lnTo>
                    <a:pt x="4450" y="796"/>
                  </a:lnTo>
                  <a:lnTo>
                    <a:pt x="4446" y="796"/>
                  </a:lnTo>
                  <a:lnTo>
                    <a:pt x="4434" y="790"/>
                  </a:lnTo>
                  <a:lnTo>
                    <a:pt x="4426" y="782"/>
                  </a:lnTo>
                  <a:lnTo>
                    <a:pt x="4448" y="776"/>
                  </a:lnTo>
                  <a:lnTo>
                    <a:pt x="4448" y="774"/>
                  </a:lnTo>
                  <a:lnTo>
                    <a:pt x="4458" y="768"/>
                  </a:lnTo>
                  <a:lnTo>
                    <a:pt x="4480" y="772"/>
                  </a:lnTo>
                  <a:lnTo>
                    <a:pt x="4484" y="770"/>
                  </a:lnTo>
                  <a:lnTo>
                    <a:pt x="4480" y="766"/>
                  </a:lnTo>
                  <a:lnTo>
                    <a:pt x="4530" y="754"/>
                  </a:lnTo>
                  <a:lnTo>
                    <a:pt x="4560" y="754"/>
                  </a:lnTo>
                  <a:lnTo>
                    <a:pt x="4588" y="748"/>
                  </a:lnTo>
                  <a:lnTo>
                    <a:pt x="4606" y="752"/>
                  </a:lnTo>
                  <a:lnTo>
                    <a:pt x="4676" y="742"/>
                  </a:lnTo>
                  <a:lnTo>
                    <a:pt x="4706" y="734"/>
                  </a:lnTo>
                  <a:lnTo>
                    <a:pt x="4744" y="728"/>
                  </a:lnTo>
                  <a:lnTo>
                    <a:pt x="4758" y="722"/>
                  </a:lnTo>
                  <a:lnTo>
                    <a:pt x="4764" y="722"/>
                  </a:lnTo>
                  <a:lnTo>
                    <a:pt x="4772" y="728"/>
                  </a:lnTo>
                  <a:lnTo>
                    <a:pt x="4804" y="730"/>
                  </a:lnTo>
                  <a:lnTo>
                    <a:pt x="4816" y="718"/>
                  </a:lnTo>
                  <a:lnTo>
                    <a:pt x="4814" y="712"/>
                  </a:lnTo>
                  <a:lnTo>
                    <a:pt x="4824" y="708"/>
                  </a:lnTo>
                  <a:lnTo>
                    <a:pt x="4844" y="708"/>
                  </a:lnTo>
                  <a:lnTo>
                    <a:pt x="4858" y="700"/>
                  </a:lnTo>
                  <a:lnTo>
                    <a:pt x="4892" y="696"/>
                  </a:lnTo>
                  <a:lnTo>
                    <a:pt x="4902" y="690"/>
                  </a:lnTo>
                  <a:lnTo>
                    <a:pt x="4900" y="686"/>
                  </a:lnTo>
                  <a:lnTo>
                    <a:pt x="4888" y="684"/>
                  </a:lnTo>
                  <a:lnTo>
                    <a:pt x="4882" y="680"/>
                  </a:lnTo>
                  <a:lnTo>
                    <a:pt x="4888" y="676"/>
                  </a:lnTo>
                  <a:lnTo>
                    <a:pt x="4878" y="670"/>
                  </a:lnTo>
                  <a:lnTo>
                    <a:pt x="4876" y="668"/>
                  </a:lnTo>
                  <a:lnTo>
                    <a:pt x="4898" y="670"/>
                  </a:lnTo>
                  <a:lnTo>
                    <a:pt x="4902" y="664"/>
                  </a:lnTo>
                  <a:lnTo>
                    <a:pt x="4890" y="662"/>
                  </a:lnTo>
                  <a:lnTo>
                    <a:pt x="4878" y="656"/>
                  </a:lnTo>
                  <a:lnTo>
                    <a:pt x="4854" y="636"/>
                  </a:lnTo>
                  <a:lnTo>
                    <a:pt x="4790" y="632"/>
                  </a:lnTo>
                  <a:lnTo>
                    <a:pt x="4776" y="628"/>
                  </a:lnTo>
                  <a:lnTo>
                    <a:pt x="4768" y="620"/>
                  </a:lnTo>
                  <a:lnTo>
                    <a:pt x="4770" y="616"/>
                  </a:lnTo>
                  <a:lnTo>
                    <a:pt x="4784" y="614"/>
                  </a:lnTo>
                  <a:lnTo>
                    <a:pt x="4776" y="610"/>
                  </a:lnTo>
                  <a:lnTo>
                    <a:pt x="4790" y="604"/>
                  </a:lnTo>
                  <a:lnTo>
                    <a:pt x="4794" y="600"/>
                  </a:lnTo>
                  <a:lnTo>
                    <a:pt x="4814" y="602"/>
                  </a:lnTo>
                  <a:lnTo>
                    <a:pt x="4816" y="598"/>
                  </a:lnTo>
                  <a:lnTo>
                    <a:pt x="4808" y="596"/>
                  </a:lnTo>
                  <a:lnTo>
                    <a:pt x="4802" y="590"/>
                  </a:lnTo>
                  <a:lnTo>
                    <a:pt x="4806" y="588"/>
                  </a:lnTo>
                  <a:lnTo>
                    <a:pt x="4780" y="584"/>
                  </a:lnTo>
                  <a:lnTo>
                    <a:pt x="4766" y="578"/>
                  </a:lnTo>
                  <a:lnTo>
                    <a:pt x="4718" y="578"/>
                  </a:lnTo>
                  <a:lnTo>
                    <a:pt x="4714" y="574"/>
                  </a:lnTo>
                  <a:lnTo>
                    <a:pt x="4718" y="572"/>
                  </a:lnTo>
                  <a:lnTo>
                    <a:pt x="4708" y="566"/>
                  </a:lnTo>
                  <a:lnTo>
                    <a:pt x="4724" y="558"/>
                  </a:lnTo>
                  <a:lnTo>
                    <a:pt x="4708" y="548"/>
                  </a:lnTo>
                  <a:lnTo>
                    <a:pt x="4708" y="546"/>
                  </a:lnTo>
                  <a:lnTo>
                    <a:pt x="4738" y="552"/>
                  </a:lnTo>
                  <a:lnTo>
                    <a:pt x="4748" y="558"/>
                  </a:lnTo>
                  <a:lnTo>
                    <a:pt x="4774" y="562"/>
                  </a:lnTo>
                  <a:lnTo>
                    <a:pt x="4800" y="574"/>
                  </a:lnTo>
                  <a:lnTo>
                    <a:pt x="4806" y="570"/>
                  </a:lnTo>
                  <a:lnTo>
                    <a:pt x="4792" y="564"/>
                  </a:lnTo>
                  <a:lnTo>
                    <a:pt x="4788" y="554"/>
                  </a:lnTo>
                  <a:lnTo>
                    <a:pt x="4798" y="554"/>
                  </a:lnTo>
                  <a:lnTo>
                    <a:pt x="4798" y="542"/>
                  </a:lnTo>
                  <a:lnTo>
                    <a:pt x="4802" y="536"/>
                  </a:lnTo>
                  <a:lnTo>
                    <a:pt x="4800" y="524"/>
                  </a:lnTo>
                  <a:lnTo>
                    <a:pt x="4792" y="520"/>
                  </a:lnTo>
                  <a:lnTo>
                    <a:pt x="4802" y="514"/>
                  </a:lnTo>
                  <a:lnTo>
                    <a:pt x="4808" y="518"/>
                  </a:lnTo>
                  <a:lnTo>
                    <a:pt x="4820" y="520"/>
                  </a:lnTo>
                  <a:lnTo>
                    <a:pt x="4828" y="512"/>
                  </a:lnTo>
                  <a:lnTo>
                    <a:pt x="4830" y="506"/>
                  </a:lnTo>
                  <a:lnTo>
                    <a:pt x="4796" y="508"/>
                  </a:lnTo>
                  <a:lnTo>
                    <a:pt x="4764" y="504"/>
                  </a:lnTo>
                  <a:lnTo>
                    <a:pt x="4750" y="500"/>
                  </a:lnTo>
                  <a:lnTo>
                    <a:pt x="4754" y="496"/>
                  </a:lnTo>
                  <a:lnTo>
                    <a:pt x="4764" y="492"/>
                  </a:lnTo>
                  <a:lnTo>
                    <a:pt x="4800" y="490"/>
                  </a:lnTo>
                  <a:lnTo>
                    <a:pt x="4814" y="492"/>
                  </a:lnTo>
                  <a:lnTo>
                    <a:pt x="4828" y="498"/>
                  </a:lnTo>
                  <a:lnTo>
                    <a:pt x="4844" y="492"/>
                  </a:lnTo>
                  <a:lnTo>
                    <a:pt x="4846" y="488"/>
                  </a:lnTo>
                  <a:lnTo>
                    <a:pt x="4840" y="484"/>
                  </a:lnTo>
                  <a:lnTo>
                    <a:pt x="4838" y="480"/>
                  </a:lnTo>
                  <a:lnTo>
                    <a:pt x="4850" y="472"/>
                  </a:lnTo>
                  <a:lnTo>
                    <a:pt x="4854" y="458"/>
                  </a:lnTo>
                  <a:lnTo>
                    <a:pt x="4866" y="454"/>
                  </a:lnTo>
                  <a:lnTo>
                    <a:pt x="4864" y="448"/>
                  </a:lnTo>
                  <a:lnTo>
                    <a:pt x="4886" y="444"/>
                  </a:lnTo>
                  <a:lnTo>
                    <a:pt x="4880" y="440"/>
                  </a:lnTo>
                  <a:lnTo>
                    <a:pt x="4870" y="440"/>
                  </a:lnTo>
                  <a:lnTo>
                    <a:pt x="4870" y="436"/>
                  </a:lnTo>
                  <a:lnTo>
                    <a:pt x="4886" y="434"/>
                  </a:lnTo>
                  <a:lnTo>
                    <a:pt x="4890" y="426"/>
                  </a:lnTo>
                  <a:lnTo>
                    <a:pt x="4924" y="434"/>
                  </a:lnTo>
                  <a:lnTo>
                    <a:pt x="4936" y="424"/>
                  </a:lnTo>
                  <a:lnTo>
                    <a:pt x="4962" y="418"/>
                  </a:lnTo>
                  <a:lnTo>
                    <a:pt x="4936" y="414"/>
                  </a:lnTo>
                  <a:lnTo>
                    <a:pt x="4950" y="402"/>
                  </a:lnTo>
                  <a:lnTo>
                    <a:pt x="4978" y="400"/>
                  </a:lnTo>
                  <a:lnTo>
                    <a:pt x="4998" y="390"/>
                  </a:lnTo>
                  <a:lnTo>
                    <a:pt x="5024" y="394"/>
                  </a:lnTo>
                  <a:lnTo>
                    <a:pt x="5038" y="386"/>
                  </a:lnTo>
                  <a:lnTo>
                    <a:pt x="5058" y="386"/>
                  </a:lnTo>
                  <a:lnTo>
                    <a:pt x="5060" y="388"/>
                  </a:lnTo>
                  <a:lnTo>
                    <a:pt x="5052" y="380"/>
                  </a:lnTo>
                  <a:lnTo>
                    <a:pt x="5050" y="374"/>
                  </a:lnTo>
                  <a:lnTo>
                    <a:pt x="5056" y="376"/>
                  </a:lnTo>
                  <a:lnTo>
                    <a:pt x="5098" y="368"/>
                  </a:lnTo>
                  <a:lnTo>
                    <a:pt x="5178" y="344"/>
                  </a:lnTo>
                  <a:lnTo>
                    <a:pt x="5180" y="336"/>
                  </a:lnTo>
                  <a:lnTo>
                    <a:pt x="5172" y="332"/>
                  </a:lnTo>
                  <a:lnTo>
                    <a:pt x="5170" y="328"/>
                  </a:lnTo>
                  <a:lnTo>
                    <a:pt x="5160" y="332"/>
                  </a:lnTo>
                  <a:lnTo>
                    <a:pt x="5164" y="336"/>
                  </a:lnTo>
                  <a:lnTo>
                    <a:pt x="5166" y="338"/>
                  </a:lnTo>
                  <a:lnTo>
                    <a:pt x="5156" y="334"/>
                  </a:lnTo>
                  <a:lnTo>
                    <a:pt x="5144" y="326"/>
                  </a:lnTo>
                  <a:lnTo>
                    <a:pt x="5122" y="334"/>
                  </a:lnTo>
                  <a:lnTo>
                    <a:pt x="5114" y="332"/>
                  </a:lnTo>
                  <a:lnTo>
                    <a:pt x="5102" y="320"/>
                  </a:lnTo>
                  <a:lnTo>
                    <a:pt x="5106" y="318"/>
                  </a:lnTo>
                  <a:lnTo>
                    <a:pt x="5120" y="324"/>
                  </a:lnTo>
                  <a:lnTo>
                    <a:pt x="5132" y="314"/>
                  </a:lnTo>
                  <a:lnTo>
                    <a:pt x="5140" y="312"/>
                  </a:lnTo>
                  <a:lnTo>
                    <a:pt x="5140" y="318"/>
                  </a:lnTo>
                  <a:lnTo>
                    <a:pt x="5146" y="320"/>
                  </a:lnTo>
                  <a:lnTo>
                    <a:pt x="5180" y="314"/>
                  </a:lnTo>
                  <a:lnTo>
                    <a:pt x="5178" y="310"/>
                  </a:lnTo>
                  <a:lnTo>
                    <a:pt x="5164" y="308"/>
                  </a:lnTo>
                  <a:lnTo>
                    <a:pt x="5162" y="304"/>
                  </a:lnTo>
                  <a:lnTo>
                    <a:pt x="5202" y="302"/>
                  </a:lnTo>
                  <a:lnTo>
                    <a:pt x="5222" y="308"/>
                  </a:lnTo>
                  <a:lnTo>
                    <a:pt x="5230" y="300"/>
                  </a:lnTo>
                  <a:lnTo>
                    <a:pt x="5230" y="296"/>
                  </a:lnTo>
                  <a:lnTo>
                    <a:pt x="5284" y="298"/>
                  </a:lnTo>
                  <a:lnTo>
                    <a:pt x="5280" y="294"/>
                  </a:lnTo>
                  <a:lnTo>
                    <a:pt x="5284" y="290"/>
                  </a:lnTo>
                  <a:lnTo>
                    <a:pt x="5326" y="286"/>
                  </a:lnTo>
                  <a:lnTo>
                    <a:pt x="5358" y="292"/>
                  </a:lnTo>
                  <a:lnTo>
                    <a:pt x="5366" y="308"/>
                  </a:lnTo>
                  <a:lnTo>
                    <a:pt x="5352" y="326"/>
                  </a:lnTo>
                  <a:lnTo>
                    <a:pt x="5362" y="328"/>
                  </a:lnTo>
                  <a:lnTo>
                    <a:pt x="5372" y="326"/>
                  </a:lnTo>
                  <a:lnTo>
                    <a:pt x="5372" y="314"/>
                  </a:lnTo>
                  <a:lnTo>
                    <a:pt x="5396" y="310"/>
                  </a:lnTo>
                  <a:lnTo>
                    <a:pt x="5398" y="304"/>
                  </a:lnTo>
                  <a:lnTo>
                    <a:pt x="5406" y="308"/>
                  </a:lnTo>
                  <a:lnTo>
                    <a:pt x="5422" y="308"/>
                  </a:lnTo>
                  <a:lnTo>
                    <a:pt x="5424" y="314"/>
                  </a:lnTo>
                  <a:lnTo>
                    <a:pt x="5420" y="324"/>
                  </a:lnTo>
                  <a:lnTo>
                    <a:pt x="5426" y="324"/>
                  </a:lnTo>
                  <a:lnTo>
                    <a:pt x="5438" y="316"/>
                  </a:lnTo>
                  <a:lnTo>
                    <a:pt x="5450" y="316"/>
                  </a:lnTo>
                  <a:lnTo>
                    <a:pt x="5452" y="302"/>
                  </a:lnTo>
                  <a:lnTo>
                    <a:pt x="5460" y="300"/>
                  </a:lnTo>
                  <a:lnTo>
                    <a:pt x="5464" y="302"/>
                  </a:lnTo>
                  <a:lnTo>
                    <a:pt x="5472" y="312"/>
                  </a:lnTo>
                  <a:lnTo>
                    <a:pt x="5488" y="300"/>
                  </a:lnTo>
                  <a:lnTo>
                    <a:pt x="5508" y="302"/>
                  </a:lnTo>
                  <a:lnTo>
                    <a:pt x="5514" y="300"/>
                  </a:lnTo>
                  <a:lnTo>
                    <a:pt x="5508" y="294"/>
                  </a:lnTo>
                  <a:lnTo>
                    <a:pt x="5500" y="292"/>
                  </a:lnTo>
                  <a:lnTo>
                    <a:pt x="5488" y="292"/>
                  </a:lnTo>
                  <a:lnTo>
                    <a:pt x="5488" y="284"/>
                  </a:lnTo>
                  <a:lnTo>
                    <a:pt x="5504" y="282"/>
                  </a:lnTo>
                  <a:lnTo>
                    <a:pt x="5512" y="286"/>
                  </a:lnTo>
                  <a:lnTo>
                    <a:pt x="5520" y="284"/>
                  </a:lnTo>
                  <a:lnTo>
                    <a:pt x="5516" y="280"/>
                  </a:lnTo>
                  <a:lnTo>
                    <a:pt x="5502" y="272"/>
                  </a:lnTo>
                  <a:lnTo>
                    <a:pt x="5536" y="252"/>
                  </a:lnTo>
                  <a:lnTo>
                    <a:pt x="5546" y="252"/>
                  </a:lnTo>
                  <a:lnTo>
                    <a:pt x="5554" y="258"/>
                  </a:lnTo>
                  <a:lnTo>
                    <a:pt x="5576" y="254"/>
                  </a:lnTo>
                  <a:lnTo>
                    <a:pt x="5584" y="258"/>
                  </a:lnTo>
                  <a:lnTo>
                    <a:pt x="5586" y="264"/>
                  </a:lnTo>
                  <a:lnTo>
                    <a:pt x="5590" y="268"/>
                  </a:lnTo>
                  <a:lnTo>
                    <a:pt x="5620" y="268"/>
                  </a:lnTo>
                  <a:lnTo>
                    <a:pt x="5630" y="270"/>
                  </a:lnTo>
                  <a:lnTo>
                    <a:pt x="5638" y="278"/>
                  </a:lnTo>
                  <a:lnTo>
                    <a:pt x="5660" y="282"/>
                  </a:lnTo>
                  <a:lnTo>
                    <a:pt x="5658" y="274"/>
                  </a:lnTo>
                  <a:lnTo>
                    <a:pt x="5644" y="260"/>
                  </a:lnTo>
                  <a:lnTo>
                    <a:pt x="5642" y="252"/>
                  </a:lnTo>
                  <a:lnTo>
                    <a:pt x="5634" y="246"/>
                  </a:lnTo>
                  <a:lnTo>
                    <a:pt x="5620" y="244"/>
                  </a:lnTo>
                  <a:lnTo>
                    <a:pt x="5594" y="246"/>
                  </a:lnTo>
                  <a:lnTo>
                    <a:pt x="5590" y="242"/>
                  </a:lnTo>
                  <a:lnTo>
                    <a:pt x="5572" y="236"/>
                  </a:lnTo>
                  <a:lnTo>
                    <a:pt x="5556" y="236"/>
                  </a:lnTo>
                  <a:lnTo>
                    <a:pt x="5544" y="228"/>
                  </a:lnTo>
                  <a:lnTo>
                    <a:pt x="5530" y="226"/>
                  </a:lnTo>
                  <a:lnTo>
                    <a:pt x="5528" y="222"/>
                  </a:lnTo>
                  <a:lnTo>
                    <a:pt x="5518" y="218"/>
                  </a:lnTo>
                  <a:lnTo>
                    <a:pt x="5596" y="218"/>
                  </a:lnTo>
                  <a:lnTo>
                    <a:pt x="5612" y="212"/>
                  </a:lnTo>
                  <a:lnTo>
                    <a:pt x="5642" y="212"/>
                  </a:lnTo>
                  <a:lnTo>
                    <a:pt x="5660" y="206"/>
                  </a:lnTo>
                  <a:lnTo>
                    <a:pt x="5692" y="194"/>
                  </a:lnTo>
                  <a:lnTo>
                    <a:pt x="5692" y="192"/>
                  </a:lnTo>
                  <a:lnTo>
                    <a:pt x="5684" y="190"/>
                  </a:lnTo>
                  <a:lnTo>
                    <a:pt x="5666" y="174"/>
                  </a:lnTo>
                  <a:lnTo>
                    <a:pt x="5676" y="180"/>
                  </a:lnTo>
                  <a:lnTo>
                    <a:pt x="5694" y="180"/>
                  </a:lnTo>
                  <a:lnTo>
                    <a:pt x="5692" y="176"/>
                  </a:lnTo>
                  <a:lnTo>
                    <a:pt x="5680" y="174"/>
                  </a:lnTo>
                  <a:lnTo>
                    <a:pt x="5666" y="164"/>
                  </a:lnTo>
                  <a:lnTo>
                    <a:pt x="5642" y="164"/>
                  </a:lnTo>
                  <a:lnTo>
                    <a:pt x="5632" y="160"/>
                  </a:lnTo>
                  <a:lnTo>
                    <a:pt x="5626" y="154"/>
                  </a:lnTo>
                  <a:lnTo>
                    <a:pt x="5620" y="152"/>
                  </a:lnTo>
                  <a:lnTo>
                    <a:pt x="5620" y="140"/>
                  </a:lnTo>
                  <a:lnTo>
                    <a:pt x="5616" y="134"/>
                  </a:lnTo>
                  <a:lnTo>
                    <a:pt x="5626" y="134"/>
                  </a:lnTo>
                  <a:lnTo>
                    <a:pt x="5624" y="128"/>
                  </a:lnTo>
                  <a:lnTo>
                    <a:pt x="5618" y="124"/>
                  </a:lnTo>
                  <a:lnTo>
                    <a:pt x="5614" y="118"/>
                  </a:lnTo>
                  <a:lnTo>
                    <a:pt x="5616" y="110"/>
                  </a:lnTo>
                  <a:lnTo>
                    <a:pt x="5624" y="88"/>
                  </a:lnTo>
                  <a:lnTo>
                    <a:pt x="5622" y="84"/>
                  </a:lnTo>
                  <a:lnTo>
                    <a:pt x="5640" y="72"/>
                  </a:lnTo>
                  <a:lnTo>
                    <a:pt x="5638" y="64"/>
                  </a:lnTo>
                  <a:lnTo>
                    <a:pt x="5646" y="38"/>
                  </a:lnTo>
                  <a:lnTo>
                    <a:pt x="5660" y="26"/>
                  </a:lnTo>
                  <a:lnTo>
                    <a:pt x="5656" y="18"/>
                  </a:lnTo>
                  <a:lnTo>
                    <a:pt x="5692" y="18"/>
                  </a:lnTo>
                  <a:lnTo>
                    <a:pt x="5700" y="16"/>
                  </a:lnTo>
                  <a:lnTo>
                    <a:pt x="5700" y="10"/>
                  </a:lnTo>
                  <a:lnTo>
                    <a:pt x="5714" y="2"/>
                  </a:lnTo>
                  <a:lnTo>
                    <a:pt x="5728" y="0"/>
                  </a:lnTo>
                  <a:lnTo>
                    <a:pt x="5742" y="2"/>
                  </a:lnTo>
                  <a:lnTo>
                    <a:pt x="5746" y="4"/>
                  </a:lnTo>
                  <a:lnTo>
                    <a:pt x="5752" y="6"/>
                  </a:lnTo>
                  <a:lnTo>
                    <a:pt x="5760" y="8"/>
                  </a:lnTo>
                  <a:lnTo>
                    <a:pt x="5764" y="0"/>
                  </a:lnTo>
                  <a:lnTo>
                    <a:pt x="5806" y="14"/>
                  </a:lnTo>
                  <a:lnTo>
                    <a:pt x="5836" y="20"/>
                  </a:lnTo>
                  <a:lnTo>
                    <a:pt x="5862" y="20"/>
                  </a:lnTo>
                  <a:lnTo>
                    <a:pt x="5864" y="14"/>
                  </a:lnTo>
                  <a:lnTo>
                    <a:pt x="5880" y="16"/>
                  </a:lnTo>
                  <a:lnTo>
                    <a:pt x="5922" y="36"/>
                  </a:lnTo>
                  <a:lnTo>
                    <a:pt x="5942" y="44"/>
                  </a:lnTo>
                  <a:lnTo>
                    <a:pt x="5926" y="42"/>
                  </a:lnTo>
                  <a:lnTo>
                    <a:pt x="5906" y="44"/>
                  </a:lnTo>
                  <a:lnTo>
                    <a:pt x="5912" y="48"/>
                  </a:lnTo>
                  <a:lnTo>
                    <a:pt x="5912" y="60"/>
                  </a:lnTo>
                  <a:lnTo>
                    <a:pt x="5898" y="62"/>
                  </a:lnTo>
                  <a:lnTo>
                    <a:pt x="5888" y="70"/>
                  </a:lnTo>
                  <a:lnTo>
                    <a:pt x="5882" y="96"/>
                  </a:lnTo>
                  <a:lnTo>
                    <a:pt x="5874" y="98"/>
                  </a:lnTo>
                  <a:lnTo>
                    <a:pt x="5870" y="112"/>
                  </a:lnTo>
                  <a:lnTo>
                    <a:pt x="5928" y="88"/>
                  </a:lnTo>
                  <a:lnTo>
                    <a:pt x="5958" y="88"/>
                  </a:lnTo>
                  <a:lnTo>
                    <a:pt x="5952" y="76"/>
                  </a:lnTo>
                  <a:lnTo>
                    <a:pt x="5964" y="84"/>
                  </a:lnTo>
                  <a:lnTo>
                    <a:pt x="5970" y="94"/>
                  </a:lnTo>
                  <a:lnTo>
                    <a:pt x="5986" y="86"/>
                  </a:lnTo>
                  <a:lnTo>
                    <a:pt x="6004" y="92"/>
                  </a:lnTo>
                  <a:lnTo>
                    <a:pt x="6008" y="86"/>
                  </a:lnTo>
                  <a:lnTo>
                    <a:pt x="6020" y="84"/>
                  </a:lnTo>
                  <a:lnTo>
                    <a:pt x="6036" y="86"/>
                  </a:lnTo>
                  <a:lnTo>
                    <a:pt x="6050" y="92"/>
                  </a:lnTo>
                  <a:lnTo>
                    <a:pt x="6056" y="88"/>
                  </a:lnTo>
                  <a:lnTo>
                    <a:pt x="6098" y="90"/>
                  </a:lnTo>
                  <a:lnTo>
                    <a:pt x="6098" y="94"/>
                  </a:lnTo>
                  <a:lnTo>
                    <a:pt x="6106" y="98"/>
                  </a:lnTo>
                  <a:lnTo>
                    <a:pt x="6116" y="100"/>
                  </a:lnTo>
                  <a:lnTo>
                    <a:pt x="6120" y="104"/>
                  </a:lnTo>
                  <a:lnTo>
                    <a:pt x="6110" y="104"/>
                  </a:lnTo>
                  <a:lnTo>
                    <a:pt x="6110" y="106"/>
                  </a:lnTo>
                  <a:lnTo>
                    <a:pt x="6118" y="110"/>
                  </a:lnTo>
                  <a:lnTo>
                    <a:pt x="6126" y="110"/>
                  </a:lnTo>
                  <a:lnTo>
                    <a:pt x="6128" y="126"/>
                  </a:lnTo>
                  <a:lnTo>
                    <a:pt x="6110" y="130"/>
                  </a:lnTo>
                  <a:lnTo>
                    <a:pt x="6114" y="138"/>
                  </a:lnTo>
                  <a:lnTo>
                    <a:pt x="6110" y="144"/>
                  </a:lnTo>
                  <a:lnTo>
                    <a:pt x="6118" y="164"/>
                  </a:lnTo>
                  <a:lnTo>
                    <a:pt x="6110" y="162"/>
                  </a:lnTo>
                  <a:lnTo>
                    <a:pt x="6094" y="172"/>
                  </a:lnTo>
                  <a:lnTo>
                    <a:pt x="6098" y="172"/>
                  </a:lnTo>
                  <a:lnTo>
                    <a:pt x="6102" y="176"/>
                  </a:lnTo>
                  <a:lnTo>
                    <a:pt x="6130" y="172"/>
                  </a:lnTo>
                  <a:lnTo>
                    <a:pt x="6154" y="174"/>
                  </a:lnTo>
                  <a:lnTo>
                    <a:pt x="6162" y="170"/>
                  </a:lnTo>
                  <a:lnTo>
                    <a:pt x="6196" y="168"/>
                  </a:lnTo>
                  <a:lnTo>
                    <a:pt x="6192" y="162"/>
                  </a:lnTo>
                  <a:lnTo>
                    <a:pt x="6200" y="162"/>
                  </a:lnTo>
                  <a:lnTo>
                    <a:pt x="6212" y="158"/>
                  </a:lnTo>
                  <a:lnTo>
                    <a:pt x="6212" y="150"/>
                  </a:lnTo>
                  <a:lnTo>
                    <a:pt x="6204" y="144"/>
                  </a:lnTo>
                  <a:lnTo>
                    <a:pt x="6214" y="142"/>
                  </a:lnTo>
                  <a:lnTo>
                    <a:pt x="6216" y="136"/>
                  </a:lnTo>
                  <a:lnTo>
                    <a:pt x="6202" y="138"/>
                  </a:lnTo>
                  <a:lnTo>
                    <a:pt x="6202" y="134"/>
                  </a:lnTo>
                  <a:lnTo>
                    <a:pt x="6196" y="126"/>
                  </a:lnTo>
                  <a:lnTo>
                    <a:pt x="6210" y="124"/>
                  </a:lnTo>
                  <a:lnTo>
                    <a:pt x="6208" y="120"/>
                  </a:lnTo>
                  <a:lnTo>
                    <a:pt x="6218" y="118"/>
                  </a:lnTo>
                  <a:lnTo>
                    <a:pt x="6224" y="122"/>
                  </a:lnTo>
                  <a:lnTo>
                    <a:pt x="6220" y="124"/>
                  </a:lnTo>
                  <a:lnTo>
                    <a:pt x="6224" y="130"/>
                  </a:lnTo>
                  <a:lnTo>
                    <a:pt x="6232" y="124"/>
                  </a:lnTo>
                  <a:lnTo>
                    <a:pt x="6244" y="126"/>
                  </a:lnTo>
                  <a:lnTo>
                    <a:pt x="6280" y="120"/>
                  </a:lnTo>
                  <a:lnTo>
                    <a:pt x="6292" y="120"/>
                  </a:lnTo>
                  <a:lnTo>
                    <a:pt x="6300" y="112"/>
                  </a:lnTo>
                  <a:lnTo>
                    <a:pt x="6342" y="122"/>
                  </a:lnTo>
                  <a:lnTo>
                    <a:pt x="6354" y="118"/>
                  </a:lnTo>
                  <a:lnTo>
                    <a:pt x="6364" y="120"/>
                  </a:lnTo>
                  <a:lnTo>
                    <a:pt x="6378" y="108"/>
                  </a:lnTo>
                  <a:lnTo>
                    <a:pt x="6422" y="108"/>
                  </a:lnTo>
                  <a:lnTo>
                    <a:pt x="6442" y="104"/>
                  </a:lnTo>
                  <a:lnTo>
                    <a:pt x="6450" y="112"/>
                  </a:lnTo>
                  <a:lnTo>
                    <a:pt x="6460" y="116"/>
                  </a:lnTo>
                  <a:lnTo>
                    <a:pt x="6464" y="110"/>
                  </a:lnTo>
                  <a:lnTo>
                    <a:pt x="6478" y="112"/>
                  </a:lnTo>
                  <a:lnTo>
                    <a:pt x="6490" y="116"/>
                  </a:lnTo>
                  <a:lnTo>
                    <a:pt x="6490" y="120"/>
                  </a:lnTo>
                  <a:lnTo>
                    <a:pt x="6526" y="124"/>
                  </a:lnTo>
                  <a:lnTo>
                    <a:pt x="6566" y="138"/>
                  </a:lnTo>
                  <a:lnTo>
                    <a:pt x="6576" y="146"/>
                  </a:lnTo>
                  <a:lnTo>
                    <a:pt x="6584" y="142"/>
                  </a:lnTo>
                  <a:lnTo>
                    <a:pt x="6642" y="156"/>
                  </a:lnTo>
                  <a:lnTo>
                    <a:pt x="6644" y="160"/>
                  </a:lnTo>
                  <a:lnTo>
                    <a:pt x="6650" y="168"/>
                  </a:lnTo>
                  <a:lnTo>
                    <a:pt x="6644" y="170"/>
                  </a:lnTo>
                  <a:lnTo>
                    <a:pt x="6668" y="178"/>
                  </a:lnTo>
                  <a:lnTo>
                    <a:pt x="6694" y="190"/>
                  </a:lnTo>
                  <a:lnTo>
                    <a:pt x="6700" y="188"/>
                  </a:lnTo>
                  <a:lnTo>
                    <a:pt x="6696" y="184"/>
                  </a:lnTo>
                  <a:lnTo>
                    <a:pt x="6702" y="178"/>
                  </a:lnTo>
                  <a:lnTo>
                    <a:pt x="6684" y="170"/>
                  </a:lnTo>
                  <a:lnTo>
                    <a:pt x="6694" y="164"/>
                  </a:lnTo>
                  <a:lnTo>
                    <a:pt x="6740" y="182"/>
                  </a:lnTo>
                  <a:lnTo>
                    <a:pt x="6746" y="190"/>
                  </a:lnTo>
                  <a:lnTo>
                    <a:pt x="6776" y="208"/>
                  </a:lnTo>
                  <a:lnTo>
                    <a:pt x="6790" y="208"/>
                  </a:lnTo>
                  <a:lnTo>
                    <a:pt x="6798" y="206"/>
                  </a:lnTo>
                  <a:lnTo>
                    <a:pt x="6810" y="214"/>
                  </a:lnTo>
                  <a:lnTo>
                    <a:pt x="6824" y="224"/>
                  </a:lnTo>
                  <a:lnTo>
                    <a:pt x="6838" y="250"/>
                  </a:lnTo>
                  <a:lnTo>
                    <a:pt x="6838" y="258"/>
                  </a:lnTo>
                  <a:lnTo>
                    <a:pt x="6830" y="260"/>
                  </a:lnTo>
                  <a:lnTo>
                    <a:pt x="6826" y="248"/>
                  </a:lnTo>
                  <a:lnTo>
                    <a:pt x="6764" y="240"/>
                  </a:lnTo>
                  <a:lnTo>
                    <a:pt x="6724" y="228"/>
                  </a:lnTo>
                  <a:lnTo>
                    <a:pt x="6710" y="228"/>
                  </a:lnTo>
                  <a:lnTo>
                    <a:pt x="6712" y="232"/>
                  </a:lnTo>
                  <a:lnTo>
                    <a:pt x="6730" y="238"/>
                  </a:lnTo>
                  <a:lnTo>
                    <a:pt x="6758" y="244"/>
                  </a:lnTo>
                  <a:lnTo>
                    <a:pt x="6758" y="248"/>
                  </a:lnTo>
                  <a:lnTo>
                    <a:pt x="6776" y="256"/>
                  </a:lnTo>
                  <a:lnTo>
                    <a:pt x="6778" y="258"/>
                  </a:lnTo>
                  <a:lnTo>
                    <a:pt x="6794" y="264"/>
                  </a:lnTo>
                  <a:lnTo>
                    <a:pt x="6796" y="260"/>
                  </a:lnTo>
                  <a:lnTo>
                    <a:pt x="6790" y="254"/>
                  </a:lnTo>
                  <a:lnTo>
                    <a:pt x="6804" y="252"/>
                  </a:lnTo>
                  <a:lnTo>
                    <a:pt x="6818" y="260"/>
                  </a:lnTo>
                  <a:lnTo>
                    <a:pt x="6848" y="268"/>
                  </a:lnTo>
                  <a:lnTo>
                    <a:pt x="6866" y="266"/>
                  </a:lnTo>
                  <a:lnTo>
                    <a:pt x="6884" y="280"/>
                  </a:lnTo>
                  <a:lnTo>
                    <a:pt x="6868" y="278"/>
                  </a:lnTo>
                  <a:lnTo>
                    <a:pt x="6886" y="286"/>
                  </a:lnTo>
                  <a:lnTo>
                    <a:pt x="6890" y="288"/>
                  </a:lnTo>
                  <a:lnTo>
                    <a:pt x="6906" y="300"/>
                  </a:lnTo>
                  <a:lnTo>
                    <a:pt x="6902" y="306"/>
                  </a:lnTo>
                  <a:lnTo>
                    <a:pt x="6906" y="312"/>
                  </a:lnTo>
                  <a:lnTo>
                    <a:pt x="6900" y="322"/>
                  </a:lnTo>
                  <a:lnTo>
                    <a:pt x="6902" y="326"/>
                  </a:lnTo>
                  <a:lnTo>
                    <a:pt x="6908" y="334"/>
                  </a:lnTo>
                  <a:lnTo>
                    <a:pt x="6908" y="344"/>
                  </a:lnTo>
                  <a:lnTo>
                    <a:pt x="6894" y="344"/>
                  </a:lnTo>
                  <a:lnTo>
                    <a:pt x="6888" y="352"/>
                  </a:lnTo>
                  <a:lnTo>
                    <a:pt x="6900" y="354"/>
                  </a:lnTo>
                  <a:lnTo>
                    <a:pt x="6898" y="360"/>
                  </a:lnTo>
                  <a:lnTo>
                    <a:pt x="6890" y="362"/>
                  </a:lnTo>
                  <a:lnTo>
                    <a:pt x="6888" y="370"/>
                  </a:lnTo>
                  <a:lnTo>
                    <a:pt x="6882" y="362"/>
                  </a:lnTo>
                  <a:lnTo>
                    <a:pt x="6860" y="374"/>
                  </a:lnTo>
                  <a:lnTo>
                    <a:pt x="6860" y="378"/>
                  </a:lnTo>
                  <a:lnTo>
                    <a:pt x="6884" y="380"/>
                  </a:lnTo>
                  <a:lnTo>
                    <a:pt x="6848" y="392"/>
                  </a:lnTo>
                  <a:lnTo>
                    <a:pt x="6864" y="398"/>
                  </a:lnTo>
                  <a:lnTo>
                    <a:pt x="6864" y="404"/>
                  </a:lnTo>
                  <a:lnTo>
                    <a:pt x="6870" y="410"/>
                  </a:lnTo>
                  <a:lnTo>
                    <a:pt x="6836" y="406"/>
                  </a:lnTo>
                  <a:lnTo>
                    <a:pt x="6826" y="418"/>
                  </a:lnTo>
                  <a:lnTo>
                    <a:pt x="6818" y="418"/>
                  </a:lnTo>
                  <a:lnTo>
                    <a:pt x="6824" y="430"/>
                  </a:lnTo>
                  <a:lnTo>
                    <a:pt x="6812" y="434"/>
                  </a:lnTo>
                  <a:lnTo>
                    <a:pt x="6804" y="432"/>
                  </a:lnTo>
                  <a:lnTo>
                    <a:pt x="6796" y="434"/>
                  </a:lnTo>
                  <a:lnTo>
                    <a:pt x="6804" y="434"/>
                  </a:lnTo>
                  <a:lnTo>
                    <a:pt x="6800" y="442"/>
                  </a:lnTo>
                  <a:lnTo>
                    <a:pt x="6786" y="444"/>
                  </a:lnTo>
                  <a:lnTo>
                    <a:pt x="6788" y="450"/>
                  </a:lnTo>
                  <a:lnTo>
                    <a:pt x="6794" y="454"/>
                  </a:lnTo>
                  <a:lnTo>
                    <a:pt x="6780" y="472"/>
                  </a:lnTo>
                  <a:lnTo>
                    <a:pt x="6788" y="488"/>
                  </a:lnTo>
                  <a:lnTo>
                    <a:pt x="6788" y="498"/>
                  </a:lnTo>
                  <a:lnTo>
                    <a:pt x="6780" y="510"/>
                  </a:lnTo>
                  <a:lnTo>
                    <a:pt x="6762" y="516"/>
                  </a:lnTo>
                  <a:lnTo>
                    <a:pt x="6744" y="542"/>
                  </a:lnTo>
                  <a:lnTo>
                    <a:pt x="6752" y="554"/>
                  </a:lnTo>
                  <a:lnTo>
                    <a:pt x="6750" y="564"/>
                  </a:lnTo>
                  <a:lnTo>
                    <a:pt x="6754" y="598"/>
                  </a:lnTo>
                  <a:lnTo>
                    <a:pt x="6738" y="592"/>
                  </a:lnTo>
                  <a:lnTo>
                    <a:pt x="6726" y="596"/>
                  </a:lnTo>
                  <a:lnTo>
                    <a:pt x="6666" y="602"/>
                  </a:lnTo>
                  <a:lnTo>
                    <a:pt x="6678" y="616"/>
                  </a:lnTo>
                  <a:lnTo>
                    <a:pt x="6676" y="636"/>
                  </a:lnTo>
                  <a:lnTo>
                    <a:pt x="6684" y="648"/>
                  </a:lnTo>
                  <a:lnTo>
                    <a:pt x="6656" y="658"/>
                  </a:lnTo>
                  <a:lnTo>
                    <a:pt x="6640" y="658"/>
                  </a:lnTo>
                  <a:lnTo>
                    <a:pt x="6642" y="670"/>
                  </a:lnTo>
                  <a:lnTo>
                    <a:pt x="6646" y="678"/>
                  </a:lnTo>
                  <a:lnTo>
                    <a:pt x="6650" y="684"/>
                  </a:lnTo>
                  <a:lnTo>
                    <a:pt x="6648" y="690"/>
                  </a:lnTo>
                  <a:lnTo>
                    <a:pt x="6654" y="720"/>
                  </a:lnTo>
                  <a:lnTo>
                    <a:pt x="6652" y="730"/>
                  </a:lnTo>
                  <a:lnTo>
                    <a:pt x="6642" y="742"/>
                  </a:lnTo>
                  <a:lnTo>
                    <a:pt x="6622" y="742"/>
                  </a:lnTo>
                  <a:lnTo>
                    <a:pt x="6610" y="750"/>
                  </a:lnTo>
                  <a:lnTo>
                    <a:pt x="6610" y="756"/>
                  </a:lnTo>
                  <a:lnTo>
                    <a:pt x="6600" y="760"/>
                  </a:lnTo>
                  <a:lnTo>
                    <a:pt x="6584" y="780"/>
                  </a:lnTo>
                  <a:lnTo>
                    <a:pt x="6592" y="786"/>
                  </a:lnTo>
                  <a:lnTo>
                    <a:pt x="6604" y="788"/>
                  </a:lnTo>
                  <a:lnTo>
                    <a:pt x="6602" y="782"/>
                  </a:lnTo>
                  <a:lnTo>
                    <a:pt x="6618" y="776"/>
                  </a:lnTo>
                  <a:lnTo>
                    <a:pt x="6626" y="778"/>
                  </a:lnTo>
                  <a:lnTo>
                    <a:pt x="6624" y="782"/>
                  </a:lnTo>
                  <a:lnTo>
                    <a:pt x="6630" y="766"/>
                  </a:lnTo>
                  <a:lnTo>
                    <a:pt x="6640" y="756"/>
                  </a:lnTo>
                  <a:lnTo>
                    <a:pt x="6652" y="746"/>
                  </a:lnTo>
                  <a:lnTo>
                    <a:pt x="6668" y="744"/>
                  </a:lnTo>
                  <a:lnTo>
                    <a:pt x="6678" y="738"/>
                  </a:lnTo>
                  <a:lnTo>
                    <a:pt x="6676" y="726"/>
                  </a:lnTo>
                  <a:lnTo>
                    <a:pt x="6682" y="722"/>
                  </a:lnTo>
                  <a:lnTo>
                    <a:pt x="6686" y="712"/>
                  </a:lnTo>
                  <a:lnTo>
                    <a:pt x="6704" y="716"/>
                  </a:lnTo>
                  <a:lnTo>
                    <a:pt x="6748" y="722"/>
                  </a:lnTo>
                  <a:lnTo>
                    <a:pt x="6766" y="722"/>
                  </a:lnTo>
                  <a:lnTo>
                    <a:pt x="6774" y="718"/>
                  </a:lnTo>
                  <a:lnTo>
                    <a:pt x="6706" y="708"/>
                  </a:lnTo>
                  <a:lnTo>
                    <a:pt x="6680" y="694"/>
                  </a:lnTo>
                  <a:lnTo>
                    <a:pt x="6666" y="684"/>
                  </a:lnTo>
                  <a:lnTo>
                    <a:pt x="6676" y="676"/>
                  </a:lnTo>
                  <a:lnTo>
                    <a:pt x="6724" y="678"/>
                  </a:lnTo>
                  <a:lnTo>
                    <a:pt x="6730" y="670"/>
                  </a:lnTo>
                  <a:lnTo>
                    <a:pt x="6776" y="670"/>
                  </a:lnTo>
                  <a:lnTo>
                    <a:pt x="6784" y="670"/>
                  </a:lnTo>
                  <a:lnTo>
                    <a:pt x="6798" y="654"/>
                  </a:lnTo>
                  <a:lnTo>
                    <a:pt x="6830" y="654"/>
                  </a:lnTo>
                  <a:lnTo>
                    <a:pt x="6820" y="648"/>
                  </a:lnTo>
                  <a:lnTo>
                    <a:pt x="6814" y="642"/>
                  </a:lnTo>
                  <a:lnTo>
                    <a:pt x="6832" y="640"/>
                  </a:lnTo>
                  <a:lnTo>
                    <a:pt x="6876" y="626"/>
                  </a:lnTo>
                  <a:lnTo>
                    <a:pt x="6874" y="620"/>
                  </a:lnTo>
                  <a:lnTo>
                    <a:pt x="6866" y="614"/>
                  </a:lnTo>
                  <a:lnTo>
                    <a:pt x="6880" y="618"/>
                  </a:lnTo>
                  <a:lnTo>
                    <a:pt x="6884" y="616"/>
                  </a:lnTo>
                  <a:lnTo>
                    <a:pt x="6844" y="600"/>
                  </a:lnTo>
                  <a:lnTo>
                    <a:pt x="6890" y="614"/>
                  </a:lnTo>
                  <a:lnTo>
                    <a:pt x="6908" y="612"/>
                  </a:lnTo>
                  <a:lnTo>
                    <a:pt x="6926" y="592"/>
                  </a:lnTo>
                  <a:lnTo>
                    <a:pt x="6934" y="594"/>
                  </a:lnTo>
                  <a:lnTo>
                    <a:pt x="6932" y="582"/>
                  </a:lnTo>
                  <a:lnTo>
                    <a:pt x="6966" y="568"/>
                  </a:lnTo>
                  <a:lnTo>
                    <a:pt x="6940" y="554"/>
                  </a:lnTo>
                  <a:lnTo>
                    <a:pt x="6922" y="552"/>
                  </a:lnTo>
                  <a:lnTo>
                    <a:pt x="6922" y="560"/>
                  </a:lnTo>
                  <a:lnTo>
                    <a:pt x="6910" y="564"/>
                  </a:lnTo>
                  <a:lnTo>
                    <a:pt x="6908" y="572"/>
                  </a:lnTo>
                  <a:lnTo>
                    <a:pt x="6880" y="576"/>
                  </a:lnTo>
                  <a:lnTo>
                    <a:pt x="6866" y="572"/>
                  </a:lnTo>
                  <a:lnTo>
                    <a:pt x="6872" y="578"/>
                  </a:lnTo>
                  <a:lnTo>
                    <a:pt x="6882" y="580"/>
                  </a:lnTo>
                  <a:lnTo>
                    <a:pt x="6876" y="584"/>
                  </a:lnTo>
                  <a:lnTo>
                    <a:pt x="6854" y="576"/>
                  </a:lnTo>
                  <a:lnTo>
                    <a:pt x="6834" y="564"/>
                  </a:lnTo>
                  <a:lnTo>
                    <a:pt x="6828" y="556"/>
                  </a:lnTo>
                  <a:lnTo>
                    <a:pt x="6832" y="538"/>
                  </a:lnTo>
                  <a:lnTo>
                    <a:pt x="6824" y="526"/>
                  </a:lnTo>
                  <a:lnTo>
                    <a:pt x="6838" y="520"/>
                  </a:lnTo>
                  <a:lnTo>
                    <a:pt x="6858" y="516"/>
                  </a:lnTo>
                  <a:lnTo>
                    <a:pt x="6882" y="522"/>
                  </a:lnTo>
                  <a:lnTo>
                    <a:pt x="6902" y="524"/>
                  </a:lnTo>
                  <a:lnTo>
                    <a:pt x="6920" y="532"/>
                  </a:lnTo>
                  <a:lnTo>
                    <a:pt x="6922" y="528"/>
                  </a:lnTo>
                  <a:lnTo>
                    <a:pt x="6918" y="522"/>
                  </a:lnTo>
                  <a:lnTo>
                    <a:pt x="6920" y="514"/>
                  </a:lnTo>
                  <a:lnTo>
                    <a:pt x="6952" y="504"/>
                  </a:lnTo>
                  <a:lnTo>
                    <a:pt x="6956" y="510"/>
                  </a:lnTo>
                  <a:lnTo>
                    <a:pt x="6954" y="522"/>
                  </a:lnTo>
                  <a:lnTo>
                    <a:pt x="6942" y="514"/>
                  </a:lnTo>
                  <a:lnTo>
                    <a:pt x="6946" y="524"/>
                  </a:lnTo>
                  <a:lnTo>
                    <a:pt x="6958" y="534"/>
                  </a:lnTo>
                  <a:lnTo>
                    <a:pt x="6976" y="544"/>
                  </a:lnTo>
                  <a:lnTo>
                    <a:pt x="7022" y="554"/>
                  </a:lnTo>
                  <a:lnTo>
                    <a:pt x="7030" y="558"/>
                  </a:lnTo>
                  <a:lnTo>
                    <a:pt x="7042" y="554"/>
                  </a:lnTo>
                  <a:lnTo>
                    <a:pt x="7090" y="552"/>
                  </a:lnTo>
                  <a:lnTo>
                    <a:pt x="7110" y="546"/>
                  </a:lnTo>
                  <a:lnTo>
                    <a:pt x="7108" y="534"/>
                  </a:lnTo>
                  <a:lnTo>
                    <a:pt x="7094" y="520"/>
                  </a:lnTo>
                  <a:lnTo>
                    <a:pt x="7062" y="500"/>
                  </a:lnTo>
                  <a:lnTo>
                    <a:pt x="7102" y="518"/>
                  </a:lnTo>
                  <a:lnTo>
                    <a:pt x="7126" y="528"/>
                  </a:lnTo>
                  <a:lnTo>
                    <a:pt x="7144" y="540"/>
                  </a:lnTo>
                  <a:lnTo>
                    <a:pt x="7158" y="544"/>
                  </a:lnTo>
                  <a:lnTo>
                    <a:pt x="7176" y="554"/>
                  </a:lnTo>
                  <a:lnTo>
                    <a:pt x="7190" y="564"/>
                  </a:lnTo>
                  <a:lnTo>
                    <a:pt x="7198" y="586"/>
                  </a:lnTo>
                  <a:lnTo>
                    <a:pt x="7212" y="592"/>
                  </a:lnTo>
                  <a:lnTo>
                    <a:pt x="7218" y="600"/>
                  </a:lnTo>
                  <a:lnTo>
                    <a:pt x="7244" y="600"/>
                  </a:lnTo>
                  <a:lnTo>
                    <a:pt x="7248" y="610"/>
                  </a:lnTo>
                  <a:lnTo>
                    <a:pt x="7226" y="610"/>
                  </a:lnTo>
                  <a:lnTo>
                    <a:pt x="7226" y="616"/>
                  </a:lnTo>
                  <a:lnTo>
                    <a:pt x="7256" y="618"/>
                  </a:lnTo>
                  <a:lnTo>
                    <a:pt x="7272" y="602"/>
                  </a:lnTo>
                  <a:lnTo>
                    <a:pt x="7274" y="598"/>
                  </a:lnTo>
                  <a:lnTo>
                    <a:pt x="7260" y="588"/>
                  </a:lnTo>
                  <a:lnTo>
                    <a:pt x="7214" y="572"/>
                  </a:lnTo>
                  <a:lnTo>
                    <a:pt x="7254" y="556"/>
                  </a:lnTo>
                  <a:lnTo>
                    <a:pt x="7290" y="554"/>
                  </a:lnTo>
                  <a:lnTo>
                    <a:pt x="7310" y="550"/>
                  </a:lnTo>
                  <a:lnTo>
                    <a:pt x="7338" y="538"/>
                  </a:lnTo>
                  <a:lnTo>
                    <a:pt x="7330" y="532"/>
                  </a:lnTo>
                  <a:lnTo>
                    <a:pt x="7352" y="526"/>
                  </a:lnTo>
                  <a:lnTo>
                    <a:pt x="7386" y="526"/>
                  </a:lnTo>
                  <a:lnTo>
                    <a:pt x="7420" y="530"/>
                  </a:lnTo>
                  <a:lnTo>
                    <a:pt x="7440" y="528"/>
                  </a:lnTo>
                  <a:lnTo>
                    <a:pt x="7464" y="530"/>
                  </a:lnTo>
                  <a:lnTo>
                    <a:pt x="7478" y="528"/>
                  </a:lnTo>
                  <a:lnTo>
                    <a:pt x="7506" y="532"/>
                  </a:lnTo>
                  <a:lnTo>
                    <a:pt x="7546" y="532"/>
                  </a:lnTo>
                  <a:lnTo>
                    <a:pt x="7568" y="526"/>
                  </a:lnTo>
                  <a:lnTo>
                    <a:pt x="7590" y="530"/>
                  </a:lnTo>
                  <a:lnTo>
                    <a:pt x="7630" y="526"/>
                  </a:lnTo>
                  <a:lnTo>
                    <a:pt x="7646" y="528"/>
                  </a:lnTo>
                  <a:lnTo>
                    <a:pt x="7658" y="534"/>
                  </a:lnTo>
                  <a:lnTo>
                    <a:pt x="7648" y="536"/>
                  </a:lnTo>
                  <a:lnTo>
                    <a:pt x="7652" y="540"/>
                  </a:lnTo>
                  <a:lnTo>
                    <a:pt x="7636" y="540"/>
                  </a:lnTo>
                  <a:lnTo>
                    <a:pt x="7628" y="546"/>
                  </a:lnTo>
                  <a:lnTo>
                    <a:pt x="7634" y="552"/>
                  </a:lnTo>
                  <a:lnTo>
                    <a:pt x="7650" y="562"/>
                  </a:lnTo>
                  <a:lnTo>
                    <a:pt x="7652" y="566"/>
                  </a:lnTo>
                  <a:lnTo>
                    <a:pt x="7658" y="570"/>
                  </a:lnTo>
                  <a:lnTo>
                    <a:pt x="7666" y="576"/>
                  </a:lnTo>
                  <a:lnTo>
                    <a:pt x="7680" y="582"/>
                  </a:lnTo>
                  <a:lnTo>
                    <a:pt x="7738" y="590"/>
                  </a:lnTo>
                  <a:lnTo>
                    <a:pt x="7770" y="592"/>
                  </a:lnTo>
                  <a:lnTo>
                    <a:pt x="7834" y="602"/>
                  </a:lnTo>
                  <a:lnTo>
                    <a:pt x="7832" y="598"/>
                  </a:lnTo>
                  <a:lnTo>
                    <a:pt x="7824" y="592"/>
                  </a:lnTo>
                  <a:lnTo>
                    <a:pt x="7838" y="592"/>
                  </a:lnTo>
                  <a:lnTo>
                    <a:pt x="7888" y="592"/>
                  </a:lnTo>
                  <a:lnTo>
                    <a:pt x="7930" y="598"/>
                  </a:lnTo>
                  <a:lnTo>
                    <a:pt x="7932" y="594"/>
                  </a:lnTo>
                  <a:lnTo>
                    <a:pt x="7964" y="586"/>
                  </a:lnTo>
                  <a:lnTo>
                    <a:pt x="7976" y="586"/>
                  </a:lnTo>
                  <a:lnTo>
                    <a:pt x="7998" y="588"/>
                  </a:lnTo>
                  <a:lnTo>
                    <a:pt x="8016" y="582"/>
                  </a:lnTo>
                  <a:lnTo>
                    <a:pt x="8028" y="586"/>
                  </a:lnTo>
                  <a:lnTo>
                    <a:pt x="8026" y="580"/>
                  </a:lnTo>
                  <a:lnTo>
                    <a:pt x="8040" y="582"/>
                  </a:lnTo>
                  <a:lnTo>
                    <a:pt x="8050" y="570"/>
                  </a:lnTo>
                  <a:lnTo>
                    <a:pt x="8086" y="562"/>
                  </a:lnTo>
                  <a:lnTo>
                    <a:pt x="8088" y="554"/>
                  </a:lnTo>
                  <a:lnTo>
                    <a:pt x="8086" y="548"/>
                  </a:lnTo>
                  <a:lnTo>
                    <a:pt x="8036" y="524"/>
                  </a:lnTo>
                  <a:lnTo>
                    <a:pt x="8016" y="512"/>
                  </a:lnTo>
                  <a:lnTo>
                    <a:pt x="8012" y="510"/>
                  </a:lnTo>
                  <a:lnTo>
                    <a:pt x="8010" y="504"/>
                  </a:lnTo>
                  <a:lnTo>
                    <a:pt x="8002" y="502"/>
                  </a:lnTo>
                  <a:lnTo>
                    <a:pt x="7972" y="470"/>
                  </a:lnTo>
                  <a:lnTo>
                    <a:pt x="7958" y="456"/>
                  </a:lnTo>
                  <a:lnTo>
                    <a:pt x="7954" y="452"/>
                  </a:lnTo>
                  <a:lnTo>
                    <a:pt x="7984" y="462"/>
                  </a:lnTo>
                  <a:lnTo>
                    <a:pt x="8008" y="462"/>
                  </a:lnTo>
                  <a:lnTo>
                    <a:pt x="8008" y="458"/>
                  </a:lnTo>
                  <a:lnTo>
                    <a:pt x="7996" y="450"/>
                  </a:lnTo>
                  <a:lnTo>
                    <a:pt x="7988" y="444"/>
                  </a:lnTo>
                  <a:lnTo>
                    <a:pt x="7984" y="440"/>
                  </a:lnTo>
                  <a:lnTo>
                    <a:pt x="7994" y="438"/>
                  </a:lnTo>
                  <a:lnTo>
                    <a:pt x="8020" y="444"/>
                  </a:lnTo>
                  <a:lnTo>
                    <a:pt x="8052" y="442"/>
                  </a:lnTo>
                  <a:lnTo>
                    <a:pt x="8070" y="446"/>
                  </a:lnTo>
                  <a:lnTo>
                    <a:pt x="8076" y="444"/>
                  </a:lnTo>
                  <a:lnTo>
                    <a:pt x="8108" y="452"/>
                  </a:lnTo>
                  <a:lnTo>
                    <a:pt x="8106" y="448"/>
                  </a:lnTo>
                  <a:lnTo>
                    <a:pt x="8116" y="450"/>
                  </a:lnTo>
                  <a:lnTo>
                    <a:pt x="8128" y="456"/>
                  </a:lnTo>
                  <a:lnTo>
                    <a:pt x="8136" y="462"/>
                  </a:lnTo>
                  <a:lnTo>
                    <a:pt x="8158" y="466"/>
                  </a:lnTo>
                  <a:lnTo>
                    <a:pt x="8154" y="458"/>
                  </a:lnTo>
                  <a:lnTo>
                    <a:pt x="8168" y="464"/>
                  </a:lnTo>
                  <a:lnTo>
                    <a:pt x="8172" y="460"/>
                  </a:lnTo>
                  <a:lnTo>
                    <a:pt x="8192" y="466"/>
                  </a:lnTo>
                  <a:lnTo>
                    <a:pt x="8200" y="462"/>
                  </a:lnTo>
                  <a:lnTo>
                    <a:pt x="8220" y="464"/>
                  </a:lnTo>
                  <a:lnTo>
                    <a:pt x="8224" y="460"/>
                  </a:lnTo>
                  <a:lnTo>
                    <a:pt x="8272" y="474"/>
                  </a:lnTo>
                  <a:lnTo>
                    <a:pt x="8278" y="478"/>
                  </a:lnTo>
                  <a:lnTo>
                    <a:pt x="8286" y="480"/>
                  </a:lnTo>
                  <a:lnTo>
                    <a:pt x="8290" y="470"/>
                  </a:lnTo>
                  <a:lnTo>
                    <a:pt x="8300" y="468"/>
                  </a:lnTo>
                  <a:lnTo>
                    <a:pt x="8294" y="462"/>
                  </a:lnTo>
                  <a:lnTo>
                    <a:pt x="8296" y="456"/>
                  </a:lnTo>
                  <a:lnTo>
                    <a:pt x="8328" y="462"/>
                  </a:lnTo>
                  <a:lnTo>
                    <a:pt x="8354" y="460"/>
                  </a:lnTo>
                  <a:lnTo>
                    <a:pt x="8364" y="456"/>
                  </a:lnTo>
                  <a:lnTo>
                    <a:pt x="8396" y="458"/>
                  </a:lnTo>
                  <a:lnTo>
                    <a:pt x="8414" y="464"/>
                  </a:lnTo>
                  <a:lnTo>
                    <a:pt x="8414" y="468"/>
                  </a:lnTo>
                  <a:lnTo>
                    <a:pt x="8424" y="470"/>
                  </a:lnTo>
                  <a:lnTo>
                    <a:pt x="8442" y="470"/>
                  </a:lnTo>
                  <a:lnTo>
                    <a:pt x="8454" y="474"/>
                  </a:lnTo>
                  <a:lnTo>
                    <a:pt x="8458" y="480"/>
                  </a:lnTo>
                  <a:lnTo>
                    <a:pt x="8506" y="488"/>
                  </a:lnTo>
                  <a:lnTo>
                    <a:pt x="8514" y="492"/>
                  </a:lnTo>
                  <a:lnTo>
                    <a:pt x="8536" y="498"/>
                  </a:lnTo>
                  <a:lnTo>
                    <a:pt x="8554" y="506"/>
                  </a:lnTo>
                  <a:lnTo>
                    <a:pt x="8586" y="512"/>
                  </a:lnTo>
                  <a:lnTo>
                    <a:pt x="8594" y="516"/>
                  </a:lnTo>
                  <a:lnTo>
                    <a:pt x="8602" y="518"/>
                  </a:lnTo>
                  <a:lnTo>
                    <a:pt x="8604" y="522"/>
                  </a:lnTo>
                  <a:lnTo>
                    <a:pt x="8612" y="530"/>
                  </a:lnTo>
                  <a:lnTo>
                    <a:pt x="8612" y="532"/>
                  </a:lnTo>
                  <a:lnTo>
                    <a:pt x="8604" y="534"/>
                  </a:lnTo>
                  <a:lnTo>
                    <a:pt x="8616" y="540"/>
                  </a:lnTo>
                  <a:lnTo>
                    <a:pt x="8622" y="546"/>
                  </a:lnTo>
                  <a:lnTo>
                    <a:pt x="8630" y="552"/>
                  </a:lnTo>
                  <a:lnTo>
                    <a:pt x="8638" y="552"/>
                  </a:lnTo>
                  <a:lnTo>
                    <a:pt x="8636" y="554"/>
                  </a:lnTo>
                  <a:lnTo>
                    <a:pt x="8652" y="566"/>
                  </a:lnTo>
                  <a:lnTo>
                    <a:pt x="8646" y="570"/>
                  </a:lnTo>
                  <a:lnTo>
                    <a:pt x="8654" y="578"/>
                  </a:lnTo>
                  <a:lnTo>
                    <a:pt x="8676" y="582"/>
                  </a:lnTo>
                  <a:lnTo>
                    <a:pt x="8674" y="592"/>
                  </a:lnTo>
                  <a:lnTo>
                    <a:pt x="8678" y="596"/>
                  </a:lnTo>
                  <a:lnTo>
                    <a:pt x="8726" y="604"/>
                  </a:lnTo>
                  <a:lnTo>
                    <a:pt x="8734" y="622"/>
                  </a:lnTo>
                  <a:lnTo>
                    <a:pt x="8744" y="630"/>
                  </a:lnTo>
                  <a:lnTo>
                    <a:pt x="8752" y="632"/>
                  </a:lnTo>
                  <a:lnTo>
                    <a:pt x="8750" y="636"/>
                  </a:lnTo>
                  <a:lnTo>
                    <a:pt x="8754" y="640"/>
                  </a:lnTo>
                  <a:lnTo>
                    <a:pt x="8762" y="638"/>
                  </a:lnTo>
                  <a:lnTo>
                    <a:pt x="8760" y="644"/>
                  </a:lnTo>
                  <a:lnTo>
                    <a:pt x="8750" y="650"/>
                  </a:lnTo>
                  <a:lnTo>
                    <a:pt x="8754" y="656"/>
                  </a:lnTo>
                  <a:lnTo>
                    <a:pt x="8764" y="660"/>
                  </a:lnTo>
                  <a:lnTo>
                    <a:pt x="8758" y="660"/>
                  </a:lnTo>
                  <a:lnTo>
                    <a:pt x="8746" y="658"/>
                  </a:lnTo>
                  <a:lnTo>
                    <a:pt x="8748" y="686"/>
                  </a:lnTo>
                  <a:lnTo>
                    <a:pt x="8768" y="700"/>
                  </a:lnTo>
                  <a:lnTo>
                    <a:pt x="8778" y="704"/>
                  </a:lnTo>
                  <a:lnTo>
                    <a:pt x="8788" y="706"/>
                  </a:lnTo>
                  <a:lnTo>
                    <a:pt x="8800" y="714"/>
                  </a:lnTo>
                  <a:lnTo>
                    <a:pt x="8806" y="722"/>
                  </a:lnTo>
                  <a:lnTo>
                    <a:pt x="8824" y="726"/>
                  </a:lnTo>
                  <a:lnTo>
                    <a:pt x="8830" y="720"/>
                  </a:lnTo>
                  <a:lnTo>
                    <a:pt x="8828" y="716"/>
                  </a:lnTo>
                  <a:lnTo>
                    <a:pt x="8846" y="726"/>
                  </a:lnTo>
                  <a:lnTo>
                    <a:pt x="8858" y="732"/>
                  </a:lnTo>
                  <a:lnTo>
                    <a:pt x="8872" y="742"/>
                  </a:lnTo>
                  <a:lnTo>
                    <a:pt x="8880" y="744"/>
                  </a:lnTo>
                  <a:lnTo>
                    <a:pt x="8900" y="756"/>
                  </a:lnTo>
                  <a:lnTo>
                    <a:pt x="8928" y="768"/>
                  </a:lnTo>
                  <a:lnTo>
                    <a:pt x="8936" y="774"/>
                  </a:lnTo>
                  <a:lnTo>
                    <a:pt x="8936" y="770"/>
                  </a:lnTo>
                  <a:lnTo>
                    <a:pt x="8952" y="772"/>
                  </a:lnTo>
                  <a:lnTo>
                    <a:pt x="8972" y="784"/>
                  </a:lnTo>
                  <a:lnTo>
                    <a:pt x="8988" y="792"/>
                  </a:lnTo>
                  <a:lnTo>
                    <a:pt x="9002" y="796"/>
                  </a:lnTo>
                  <a:lnTo>
                    <a:pt x="9012" y="800"/>
                  </a:lnTo>
                  <a:lnTo>
                    <a:pt x="9014" y="794"/>
                  </a:lnTo>
                  <a:lnTo>
                    <a:pt x="9040" y="802"/>
                  </a:lnTo>
                  <a:lnTo>
                    <a:pt x="9048" y="808"/>
                  </a:lnTo>
                  <a:lnTo>
                    <a:pt x="9064" y="814"/>
                  </a:lnTo>
                  <a:lnTo>
                    <a:pt x="9082" y="818"/>
                  </a:lnTo>
                  <a:lnTo>
                    <a:pt x="9092" y="814"/>
                  </a:lnTo>
                  <a:lnTo>
                    <a:pt x="9110" y="822"/>
                  </a:lnTo>
                  <a:lnTo>
                    <a:pt x="9120" y="818"/>
                  </a:lnTo>
                  <a:lnTo>
                    <a:pt x="9106" y="806"/>
                  </a:lnTo>
                  <a:lnTo>
                    <a:pt x="9116" y="808"/>
                  </a:lnTo>
                  <a:lnTo>
                    <a:pt x="9168" y="836"/>
                  </a:lnTo>
                  <a:lnTo>
                    <a:pt x="9192" y="838"/>
                  </a:lnTo>
                  <a:lnTo>
                    <a:pt x="9182" y="826"/>
                  </a:lnTo>
                  <a:lnTo>
                    <a:pt x="9182" y="812"/>
                  </a:lnTo>
                  <a:lnTo>
                    <a:pt x="9164" y="796"/>
                  </a:lnTo>
                  <a:lnTo>
                    <a:pt x="9164" y="788"/>
                  </a:lnTo>
                  <a:lnTo>
                    <a:pt x="9152" y="766"/>
                  </a:lnTo>
                  <a:lnTo>
                    <a:pt x="9158" y="762"/>
                  </a:lnTo>
                  <a:lnTo>
                    <a:pt x="9116" y="732"/>
                  </a:lnTo>
                  <a:lnTo>
                    <a:pt x="9106" y="720"/>
                  </a:lnTo>
                  <a:lnTo>
                    <a:pt x="9088" y="706"/>
                  </a:lnTo>
                  <a:lnTo>
                    <a:pt x="9082" y="692"/>
                  </a:lnTo>
                  <a:lnTo>
                    <a:pt x="9058" y="652"/>
                  </a:lnTo>
                  <a:lnTo>
                    <a:pt x="9052" y="640"/>
                  </a:lnTo>
                  <a:lnTo>
                    <a:pt x="9056" y="636"/>
                  </a:lnTo>
                  <a:lnTo>
                    <a:pt x="9062" y="640"/>
                  </a:lnTo>
                  <a:lnTo>
                    <a:pt x="9080" y="650"/>
                  </a:lnTo>
                  <a:lnTo>
                    <a:pt x="9114" y="668"/>
                  </a:lnTo>
                  <a:lnTo>
                    <a:pt x="9140" y="674"/>
                  </a:lnTo>
                  <a:lnTo>
                    <a:pt x="9182" y="692"/>
                  </a:lnTo>
                  <a:lnTo>
                    <a:pt x="9200" y="696"/>
                  </a:lnTo>
                  <a:lnTo>
                    <a:pt x="9242" y="710"/>
                  </a:lnTo>
                  <a:lnTo>
                    <a:pt x="9258" y="710"/>
                  </a:lnTo>
                  <a:lnTo>
                    <a:pt x="9270" y="704"/>
                  </a:lnTo>
                  <a:lnTo>
                    <a:pt x="9316" y="702"/>
                  </a:lnTo>
                  <a:lnTo>
                    <a:pt x="9318" y="698"/>
                  </a:lnTo>
                  <a:lnTo>
                    <a:pt x="9350" y="710"/>
                  </a:lnTo>
                  <a:lnTo>
                    <a:pt x="9344" y="704"/>
                  </a:lnTo>
                  <a:lnTo>
                    <a:pt x="9324" y="692"/>
                  </a:lnTo>
                  <a:lnTo>
                    <a:pt x="9316" y="684"/>
                  </a:lnTo>
                  <a:lnTo>
                    <a:pt x="9310" y="666"/>
                  </a:lnTo>
                  <a:lnTo>
                    <a:pt x="9350" y="658"/>
                  </a:lnTo>
                  <a:lnTo>
                    <a:pt x="9376" y="662"/>
                  </a:lnTo>
                  <a:lnTo>
                    <a:pt x="9390" y="660"/>
                  </a:lnTo>
                  <a:lnTo>
                    <a:pt x="9408" y="666"/>
                  </a:lnTo>
                  <a:lnTo>
                    <a:pt x="9440" y="668"/>
                  </a:lnTo>
                  <a:lnTo>
                    <a:pt x="9456" y="666"/>
                  </a:lnTo>
                  <a:lnTo>
                    <a:pt x="9522" y="678"/>
                  </a:lnTo>
                  <a:lnTo>
                    <a:pt x="9532" y="676"/>
                  </a:lnTo>
                  <a:lnTo>
                    <a:pt x="9552" y="680"/>
                  </a:lnTo>
                  <a:lnTo>
                    <a:pt x="9572" y="690"/>
                  </a:lnTo>
                  <a:lnTo>
                    <a:pt x="9586" y="690"/>
                  </a:lnTo>
                  <a:lnTo>
                    <a:pt x="9598" y="698"/>
                  </a:lnTo>
                  <a:lnTo>
                    <a:pt x="9612" y="702"/>
                  </a:lnTo>
                  <a:lnTo>
                    <a:pt x="9624" y="702"/>
                  </a:lnTo>
                  <a:lnTo>
                    <a:pt x="9642" y="706"/>
                  </a:lnTo>
                  <a:lnTo>
                    <a:pt x="9640" y="700"/>
                  </a:lnTo>
                  <a:lnTo>
                    <a:pt x="9660" y="698"/>
                  </a:lnTo>
                  <a:lnTo>
                    <a:pt x="9650" y="688"/>
                  </a:lnTo>
                  <a:lnTo>
                    <a:pt x="9654" y="680"/>
                  </a:lnTo>
                  <a:lnTo>
                    <a:pt x="9652" y="672"/>
                  </a:lnTo>
                  <a:lnTo>
                    <a:pt x="9662" y="656"/>
                  </a:lnTo>
                  <a:lnTo>
                    <a:pt x="9670" y="660"/>
                  </a:lnTo>
                  <a:lnTo>
                    <a:pt x="9668" y="652"/>
                  </a:lnTo>
                  <a:lnTo>
                    <a:pt x="9696" y="654"/>
                  </a:lnTo>
                  <a:lnTo>
                    <a:pt x="9684" y="638"/>
                  </a:lnTo>
                  <a:lnTo>
                    <a:pt x="9728" y="644"/>
                  </a:lnTo>
                  <a:lnTo>
                    <a:pt x="9740" y="642"/>
                  </a:lnTo>
                  <a:lnTo>
                    <a:pt x="9734" y="634"/>
                  </a:lnTo>
                  <a:lnTo>
                    <a:pt x="9720" y="624"/>
                  </a:lnTo>
                  <a:lnTo>
                    <a:pt x="9708" y="620"/>
                  </a:lnTo>
                  <a:lnTo>
                    <a:pt x="9684" y="612"/>
                  </a:lnTo>
                  <a:lnTo>
                    <a:pt x="9660" y="602"/>
                  </a:lnTo>
                  <a:lnTo>
                    <a:pt x="9634" y="586"/>
                  </a:lnTo>
                  <a:lnTo>
                    <a:pt x="9648" y="584"/>
                  </a:lnTo>
                  <a:lnTo>
                    <a:pt x="9636" y="576"/>
                  </a:lnTo>
                  <a:lnTo>
                    <a:pt x="9610" y="566"/>
                  </a:lnTo>
                  <a:lnTo>
                    <a:pt x="9604" y="560"/>
                  </a:lnTo>
                  <a:lnTo>
                    <a:pt x="9600" y="548"/>
                  </a:lnTo>
                  <a:lnTo>
                    <a:pt x="9604" y="536"/>
                  </a:lnTo>
                  <a:lnTo>
                    <a:pt x="9618" y="532"/>
                  </a:lnTo>
                  <a:lnTo>
                    <a:pt x="9616" y="522"/>
                  </a:lnTo>
                  <a:lnTo>
                    <a:pt x="9612" y="510"/>
                  </a:lnTo>
                  <a:lnTo>
                    <a:pt x="9588" y="490"/>
                  </a:lnTo>
                  <a:lnTo>
                    <a:pt x="9586" y="482"/>
                  </a:lnTo>
                  <a:lnTo>
                    <a:pt x="9590" y="472"/>
                  </a:lnTo>
                  <a:lnTo>
                    <a:pt x="9596" y="468"/>
                  </a:lnTo>
                  <a:lnTo>
                    <a:pt x="9572" y="460"/>
                  </a:lnTo>
                  <a:lnTo>
                    <a:pt x="9560" y="452"/>
                  </a:lnTo>
                  <a:lnTo>
                    <a:pt x="9534" y="448"/>
                  </a:lnTo>
                  <a:lnTo>
                    <a:pt x="9528" y="442"/>
                  </a:lnTo>
                  <a:lnTo>
                    <a:pt x="9528" y="432"/>
                  </a:lnTo>
                  <a:lnTo>
                    <a:pt x="9540" y="432"/>
                  </a:lnTo>
                  <a:lnTo>
                    <a:pt x="9554" y="432"/>
                  </a:lnTo>
                  <a:lnTo>
                    <a:pt x="9576" y="434"/>
                  </a:lnTo>
                  <a:lnTo>
                    <a:pt x="9590" y="438"/>
                  </a:lnTo>
                  <a:lnTo>
                    <a:pt x="9610" y="442"/>
                  </a:lnTo>
                  <a:lnTo>
                    <a:pt x="9692" y="438"/>
                  </a:lnTo>
                  <a:lnTo>
                    <a:pt x="9756" y="428"/>
                  </a:lnTo>
                  <a:lnTo>
                    <a:pt x="9780" y="430"/>
                  </a:lnTo>
                  <a:lnTo>
                    <a:pt x="9840" y="424"/>
                  </a:lnTo>
                  <a:lnTo>
                    <a:pt x="9890" y="430"/>
                  </a:lnTo>
                  <a:lnTo>
                    <a:pt x="9954" y="426"/>
                  </a:lnTo>
                  <a:lnTo>
                    <a:pt x="9960" y="424"/>
                  </a:lnTo>
                  <a:lnTo>
                    <a:pt x="10016" y="438"/>
                  </a:lnTo>
                  <a:lnTo>
                    <a:pt x="10038" y="434"/>
                  </a:lnTo>
                  <a:lnTo>
                    <a:pt x="10070" y="440"/>
                  </a:lnTo>
                  <a:lnTo>
                    <a:pt x="10110" y="440"/>
                  </a:lnTo>
                  <a:lnTo>
                    <a:pt x="10118" y="436"/>
                  </a:lnTo>
                  <a:lnTo>
                    <a:pt x="10156" y="430"/>
                  </a:lnTo>
                  <a:lnTo>
                    <a:pt x="10172" y="430"/>
                  </a:lnTo>
                  <a:lnTo>
                    <a:pt x="10184" y="432"/>
                  </a:lnTo>
                  <a:lnTo>
                    <a:pt x="10182" y="430"/>
                  </a:lnTo>
                  <a:lnTo>
                    <a:pt x="10204" y="424"/>
                  </a:lnTo>
                  <a:lnTo>
                    <a:pt x="10244" y="428"/>
                  </a:lnTo>
                  <a:lnTo>
                    <a:pt x="10260" y="432"/>
                  </a:lnTo>
                  <a:lnTo>
                    <a:pt x="10284" y="430"/>
                  </a:lnTo>
                  <a:lnTo>
                    <a:pt x="10308" y="434"/>
                  </a:lnTo>
                  <a:lnTo>
                    <a:pt x="10350" y="440"/>
                  </a:lnTo>
                  <a:lnTo>
                    <a:pt x="10412" y="464"/>
                  </a:lnTo>
                  <a:lnTo>
                    <a:pt x="10424" y="472"/>
                  </a:lnTo>
                  <a:lnTo>
                    <a:pt x="10438" y="480"/>
                  </a:lnTo>
                  <a:lnTo>
                    <a:pt x="10428" y="490"/>
                  </a:lnTo>
                  <a:lnTo>
                    <a:pt x="10410" y="484"/>
                  </a:lnTo>
                  <a:lnTo>
                    <a:pt x="10382" y="480"/>
                  </a:lnTo>
                  <a:lnTo>
                    <a:pt x="10378" y="484"/>
                  </a:lnTo>
                  <a:lnTo>
                    <a:pt x="10386" y="510"/>
                  </a:lnTo>
                  <a:lnTo>
                    <a:pt x="10396" y="516"/>
                  </a:lnTo>
                  <a:lnTo>
                    <a:pt x="10398" y="512"/>
                  </a:lnTo>
                  <a:lnTo>
                    <a:pt x="10424" y="512"/>
                  </a:lnTo>
                  <a:lnTo>
                    <a:pt x="10438" y="516"/>
                  </a:lnTo>
                  <a:lnTo>
                    <a:pt x="10452" y="512"/>
                  </a:lnTo>
                  <a:lnTo>
                    <a:pt x="10450" y="506"/>
                  </a:lnTo>
                  <a:lnTo>
                    <a:pt x="10488" y="510"/>
                  </a:lnTo>
                  <a:lnTo>
                    <a:pt x="10500" y="510"/>
                  </a:lnTo>
                  <a:lnTo>
                    <a:pt x="10524" y="520"/>
                  </a:lnTo>
                  <a:lnTo>
                    <a:pt x="10562" y="526"/>
                  </a:lnTo>
                  <a:lnTo>
                    <a:pt x="10572" y="530"/>
                  </a:lnTo>
                  <a:lnTo>
                    <a:pt x="10590" y="538"/>
                  </a:lnTo>
                  <a:lnTo>
                    <a:pt x="10604" y="536"/>
                  </a:lnTo>
                  <a:lnTo>
                    <a:pt x="10620" y="528"/>
                  </a:lnTo>
                  <a:lnTo>
                    <a:pt x="10646" y="520"/>
                  </a:lnTo>
                  <a:lnTo>
                    <a:pt x="10660" y="528"/>
                  </a:lnTo>
                  <a:lnTo>
                    <a:pt x="10674" y="532"/>
                  </a:lnTo>
                  <a:lnTo>
                    <a:pt x="10766" y="552"/>
                  </a:lnTo>
                  <a:lnTo>
                    <a:pt x="10780" y="564"/>
                  </a:lnTo>
                  <a:lnTo>
                    <a:pt x="10784" y="574"/>
                  </a:lnTo>
                  <a:lnTo>
                    <a:pt x="10762" y="584"/>
                  </a:lnTo>
                  <a:lnTo>
                    <a:pt x="10776" y="588"/>
                  </a:lnTo>
                  <a:lnTo>
                    <a:pt x="10796" y="586"/>
                  </a:lnTo>
                  <a:lnTo>
                    <a:pt x="10844" y="596"/>
                  </a:lnTo>
                  <a:lnTo>
                    <a:pt x="10864" y="602"/>
                  </a:lnTo>
                  <a:lnTo>
                    <a:pt x="10864" y="594"/>
                  </a:lnTo>
                  <a:lnTo>
                    <a:pt x="10882" y="592"/>
                  </a:lnTo>
                  <a:lnTo>
                    <a:pt x="10898" y="576"/>
                  </a:lnTo>
                  <a:lnTo>
                    <a:pt x="10912" y="576"/>
                  </a:lnTo>
                  <a:lnTo>
                    <a:pt x="10920" y="572"/>
                  </a:lnTo>
                  <a:lnTo>
                    <a:pt x="10946" y="568"/>
                  </a:lnTo>
                  <a:lnTo>
                    <a:pt x="10966" y="568"/>
                  </a:lnTo>
                  <a:lnTo>
                    <a:pt x="10978" y="562"/>
                  </a:lnTo>
                  <a:lnTo>
                    <a:pt x="10980" y="554"/>
                  </a:lnTo>
                  <a:lnTo>
                    <a:pt x="10986" y="552"/>
                  </a:lnTo>
                  <a:lnTo>
                    <a:pt x="11032" y="552"/>
                  </a:lnTo>
                  <a:lnTo>
                    <a:pt x="11048" y="548"/>
                  </a:lnTo>
                  <a:lnTo>
                    <a:pt x="11048" y="542"/>
                  </a:lnTo>
                  <a:lnTo>
                    <a:pt x="11082" y="538"/>
                  </a:lnTo>
                  <a:lnTo>
                    <a:pt x="11084" y="534"/>
                  </a:lnTo>
                  <a:lnTo>
                    <a:pt x="11098" y="530"/>
                  </a:lnTo>
                  <a:lnTo>
                    <a:pt x="11134" y="526"/>
                  </a:lnTo>
                  <a:lnTo>
                    <a:pt x="11158" y="516"/>
                  </a:lnTo>
                  <a:lnTo>
                    <a:pt x="11198" y="512"/>
                  </a:lnTo>
                  <a:lnTo>
                    <a:pt x="11222" y="514"/>
                  </a:lnTo>
                  <a:lnTo>
                    <a:pt x="11282" y="508"/>
                  </a:lnTo>
                  <a:lnTo>
                    <a:pt x="11304" y="510"/>
                  </a:lnTo>
                  <a:lnTo>
                    <a:pt x="11330" y="516"/>
                  </a:lnTo>
                  <a:lnTo>
                    <a:pt x="11350" y="518"/>
                  </a:lnTo>
                  <a:lnTo>
                    <a:pt x="11388" y="530"/>
                  </a:lnTo>
                  <a:lnTo>
                    <a:pt x="11404" y="534"/>
                  </a:lnTo>
                  <a:lnTo>
                    <a:pt x="11434" y="542"/>
                  </a:lnTo>
                  <a:lnTo>
                    <a:pt x="11464" y="550"/>
                  </a:lnTo>
                  <a:lnTo>
                    <a:pt x="11470" y="554"/>
                  </a:lnTo>
                  <a:lnTo>
                    <a:pt x="11512" y="568"/>
                  </a:lnTo>
                  <a:lnTo>
                    <a:pt x="11522" y="574"/>
                  </a:lnTo>
                  <a:lnTo>
                    <a:pt x="11540" y="584"/>
                  </a:lnTo>
                  <a:lnTo>
                    <a:pt x="11556" y="594"/>
                  </a:lnTo>
                  <a:lnTo>
                    <a:pt x="11614" y="650"/>
                  </a:lnTo>
                  <a:lnTo>
                    <a:pt x="11626" y="658"/>
                  </a:lnTo>
                  <a:lnTo>
                    <a:pt x="11654" y="656"/>
                  </a:lnTo>
                  <a:lnTo>
                    <a:pt x="11674" y="664"/>
                  </a:lnTo>
                  <a:lnTo>
                    <a:pt x="11692" y="660"/>
                  </a:lnTo>
                  <a:lnTo>
                    <a:pt x="11704" y="658"/>
                  </a:lnTo>
                  <a:lnTo>
                    <a:pt x="11730" y="662"/>
                  </a:lnTo>
                  <a:lnTo>
                    <a:pt x="11752" y="666"/>
                  </a:lnTo>
                  <a:lnTo>
                    <a:pt x="11782" y="676"/>
                  </a:lnTo>
                  <a:lnTo>
                    <a:pt x="11792" y="676"/>
                  </a:lnTo>
                  <a:lnTo>
                    <a:pt x="11800" y="672"/>
                  </a:lnTo>
                  <a:lnTo>
                    <a:pt x="11818" y="680"/>
                  </a:lnTo>
                  <a:lnTo>
                    <a:pt x="11842" y="696"/>
                  </a:lnTo>
                  <a:lnTo>
                    <a:pt x="11856" y="696"/>
                  </a:lnTo>
                  <a:lnTo>
                    <a:pt x="11854" y="684"/>
                  </a:lnTo>
                  <a:lnTo>
                    <a:pt x="11844" y="672"/>
                  </a:lnTo>
                  <a:lnTo>
                    <a:pt x="11868" y="668"/>
                  </a:lnTo>
                  <a:lnTo>
                    <a:pt x="11848" y="652"/>
                  </a:lnTo>
                  <a:lnTo>
                    <a:pt x="11860" y="652"/>
                  </a:lnTo>
                  <a:lnTo>
                    <a:pt x="11854" y="644"/>
                  </a:lnTo>
                  <a:lnTo>
                    <a:pt x="11854" y="638"/>
                  </a:lnTo>
                  <a:lnTo>
                    <a:pt x="11862" y="636"/>
                  </a:lnTo>
                  <a:lnTo>
                    <a:pt x="11892" y="638"/>
                  </a:lnTo>
                  <a:lnTo>
                    <a:pt x="11904" y="626"/>
                  </a:lnTo>
                  <a:lnTo>
                    <a:pt x="11950" y="622"/>
                  </a:lnTo>
                  <a:lnTo>
                    <a:pt x="11960" y="606"/>
                  </a:lnTo>
                  <a:lnTo>
                    <a:pt x="12016" y="626"/>
                  </a:lnTo>
                  <a:lnTo>
                    <a:pt x="12050" y="630"/>
                  </a:lnTo>
                  <a:lnTo>
                    <a:pt x="12080" y="624"/>
                  </a:lnTo>
                  <a:lnTo>
                    <a:pt x="12086" y="624"/>
                  </a:lnTo>
                  <a:lnTo>
                    <a:pt x="12084" y="620"/>
                  </a:lnTo>
                  <a:lnTo>
                    <a:pt x="12096" y="616"/>
                  </a:lnTo>
                  <a:lnTo>
                    <a:pt x="12144" y="610"/>
                  </a:lnTo>
                  <a:lnTo>
                    <a:pt x="12194" y="618"/>
                  </a:lnTo>
                  <a:lnTo>
                    <a:pt x="12222" y="612"/>
                  </a:lnTo>
                  <a:lnTo>
                    <a:pt x="12236" y="612"/>
                  </a:lnTo>
                  <a:lnTo>
                    <a:pt x="12244" y="608"/>
                  </a:lnTo>
                  <a:lnTo>
                    <a:pt x="12230" y="570"/>
                  </a:lnTo>
                  <a:lnTo>
                    <a:pt x="12230" y="564"/>
                  </a:lnTo>
                  <a:lnTo>
                    <a:pt x="12236" y="560"/>
                  </a:lnTo>
                  <a:lnTo>
                    <a:pt x="12266" y="564"/>
                  </a:lnTo>
                  <a:lnTo>
                    <a:pt x="12274" y="568"/>
                  </a:lnTo>
                  <a:lnTo>
                    <a:pt x="12268" y="572"/>
                  </a:lnTo>
                  <a:lnTo>
                    <a:pt x="12280" y="580"/>
                  </a:lnTo>
                  <a:lnTo>
                    <a:pt x="12314" y="582"/>
                  </a:lnTo>
                  <a:lnTo>
                    <a:pt x="12334" y="590"/>
                  </a:lnTo>
                  <a:lnTo>
                    <a:pt x="12378" y="618"/>
                  </a:lnTo>
                  <a:lnTo>
                    <a:pt x="12390" y="624"/>
                  </a:lnTo>
                  <a:lnTo>
                    <a:pt x="12404" y="630"/>
                  </a:lnTo>
                  <a:lnTo>
                    <a:pt x="12422" y="634"/>
                  </a:lnTo>
                  <a:lnTo>
                    <a:pt x="12458" y="630"/>
                  </a:lnTo>
                  <a:lnTo>
                    <a:pt x="12480" y="634"/>
                  </a:lnTo>
                  <a:lnTo>
                    <a:pt x="12490" y="638"/>
                  </a:lnTo>
                  <a:lnTo>
                    <a:pt x="12526" y="644"/>
                  </a:lnTo>
                  <a:lnTo>
                    <a:pt x="12552" y="652"/>
                  </a:lnTo>
                  <a:lnTo>
                    <a:pt x="12594" y="670"/>
                  </a:lnTo>
                  <a:lnTo>
                    <a:pt x="12612" y="672"/>
                  </a:lnTo>
                  <a:lnTo>
                    <a:pt x="12644" y="668"/>
                  </a:lnTo>
                  <a:lnTo>
                    <a:pt x="12652" y="652"/>
                  </a:lnTo>
                  <a:lnTo>
                    <a:pt x="12634" y="610"/>
                  </a:lnTo>
                  <a:lnTo>
                    <a:pt x="12594" y="592"/>
                  </a:lnTo>
                  <a:lnTo>
                    <a:pt x="12578" y="584"/>
                  </a:lnTo>
                  <a:lnTo>
                    <a:pt x="12562" y="580"/>
                  </a:lnTo>
                  <a:lnTo>
                    <a:pt x="12492" y="552"/>
                  </a:lnTo>
                  <a:lnTo>
                    <a:pt x="12442" y="552"/>
                  </a:lnTo>
                  <a:lnTo>
                    <a:pt x="12430" y="540"/>
                  </a:lnTo>
                  <a:lnTo>
                    <a:pt x="12444" y="530"/>
                  </a:lnTo>
                  <a:lnTo>
                    <a:pt x="12412" y="512"/>
                  </a:lnTo>
                  <a:lnTo>
                    <a:pt x="12392" y="504"/>
                  </a:lnTo>
                  <a:lnTo>
                    <a:pt x="12376" y="494"/>
                  </a:lnTo>
                  <a:lnTo>
                    <a:pt x="12380" y="486"/>
                  </a:lnTo>
                  <a:lnTo>
                    <a:pt x="12414" y="480"/>
                  </a:lnTo>
                  <a:lnTo>
                    <a:pt x="12528" y="478"/>
                  </a:lnTo>
                  <a:lnTo>
                    <a:pt x="12536" y="474"/>
                  </a:lnTo>
                  <a:lnTo>
                    <a:pt x="12592" y="480"/>
                  </a:lnTo>
                  <a:lnTo>
                    <a:pt x="12616" y="480"/>
                  </a:lnTo>
                  <a:lnTo>
                    <a:pt x="12622" y="472"/>
                  </a:lnTo>
                  <a:lnTo>
                    <a:pt x="12656" y="468"/>
                  </a:lnTo>
                  <a:lnTo>
                    <a:pt x="12668" y="462"/>
                  </a:lnTo>
                  <a:lnTo>
                    <a:pt x="12694" y="462"/>
                  </a:lnTo>
                  <a:lnTo>
                    <a:pt x="12716" y="464"/>
                  </a:lnTo>
                  <a:lnTo>
                    <a:pt x="12730" y="458"/>
                  </a:lnTo>
                  <a:lnTo>
                    <a:pt x="12730" y="454"/>
                  </a:lnTo>
                  <a:lnTo>
                    <a:pt x="12798" y="442"/>
                  </a:lnTo>
                  <a:lnTo>
                    <a:pt x="12816" y="440"/>
                  </a:lnTo>
                  <a:lnTo>
                    <a:pt x="12898" y="456"/>
                  </a:lnTo>
                  <a:lnTo>
                    <a:pt x="12918" y="456"/>
                  </a:lnTo>
                  <a:lnTo>
                    <a:pt x="12958" y="458"/>
                  </a:lnTo>
                  <a:lnTo>
                    <a:pt x="12966" y="454"/>
                  </a:lnTo>
                  <a:lnTo>
                    <a:pt x="13010" y="464"/>
                  </a:lnTo>
                  <a:lnTo>
                    <a:pt x="13084" y="470"/>
                  </a:lnTo>
                  <a:lnTo>
                    <a:pt x="13086" y="466"/>
                  </a:lnTo>
                  <a:lnTo>
                    <a:pt x="13110" y="474"/>
                  </a:lnTo>
                  <a:lnTo>
                    <a:pt x="13132" y="474"/>
                  </a:lnTo>
                  <a:lnTo>
                    <a:pt x="13184" y="480"/>
                  </a:lnTo>
                  <a:lnTo>
                    <a:pt x="13324" y="510"/>
                  </a:lnTo>
                  <a:lnTo>
                    <a:pt x="13546" y="632"/>
                  </a:lnTo>
                  <a:lnTo>
                    <a:pt x="14032" y="902"/>
                  </a:lnTo>
                  <a:lnTo>
                    <a:pt x="14256" y="1032"/>
                  </a:lnTo>
                  <a:lnTo>
                    <a:pt x="14258" y="1042"/>
                  </a:lnTo>
                  <a:lnTo>
                    <a:pt x="14278" y="1076"/>
                  </a:lnTo>
                  <a:lnTo>
                    <a:pt x="14264" y="1084"/>
                  </a:lnTo>
                  <a:lnTo>
                    <a:pt x="14258" y="1096"/>
                  </a:lnTo>
                  <a:lnTo>
                    <a:pt x="14268" y="1112"/>
                  </a:lnTo>
                  <a:lnTo>
                    <a:pt x="14268" y="1124"/>
                  </a:lnTo>
                  <a:lnTo>
                    <a:pt x="14256" y="1118"/>
                  </a:lnTo>
                  <a:lnTo>
                    <a:pt x="14246" y="1108"/>
                  </a:lnTo>
                  <a:lnTo>
                    <a:pt x="14228" y="1116"/>
                  </a:lnTo>
                  <a:lnTo>
                    <a:pt x="14208" y="1110"/>
                  </a:lnTo>
                  <a:lnTo>
                    <a:pt x="14202" y="1106"/>
                  </a:lnTo>
                  <a:lnTo>
                    <a:pt x="14204" y="1116"/>
                  </a:lnTo>
                  <a:lnTo>
                    <a:pt x="14168" y="1116"/>
                  </a:lnTo>
                  <a:lnTo>
                    <a:pt x="14140" y="1110"/>
                  </a:lnTo>
                  <a:lnTo>
                    <a:pt x="14144" y="1122"/>
                  </a:lnTo>
                  <a:lnTo>
                    <a:pt x="14164" y="1136"/>
                  </a:lnTo>
                  <a:lnTo>
                    <a:pt x="14180" y="1146"/>
                  </a:lnTo>
                  <a:lnTo>
                    <a:pt x="14206" y="1160"/>
                  </a:lnTo>
                  <a:lnTo>
                    <a:pt x="14240" y="1170"/>
                  </a:lnTo>
                  <a:lnTo>
                    <a:pt x="14260" y="1170"/>
                  </a:lnTo>
                  <a:lnTo>
                    <a:pt x="14288" y="1178"/>
                  </a:lnTo>
                  <a:lnTo>
                    <a:pt x="14314" y="1180"/>
                  </a:lnTo>
                  <a:lnTo>
                    <a:pt x="14314" y="1174"/>
                  </a:lnTo>
                  <a:lnTo>
                    <a:pt x="14300" y="1160"/>
                  </a:lnTo>
                  <a:lnTo>
                    <a:pt x="14354" y="1182"/>
                  </a:lnTo>
                  <a:lnTo>
                    <a:pt x="14384" y="1198"/>
                  </a:lnTo>
                  <a:lnTo>
                    <a:pt x="14374" y="1194"/>
                  </a:lnTo>
                  <a:lnTo>
                    <a:pt x="14366" y="1202"/>
                  </a:lnTo>
                  <a:lnTo>
                    <a:pt x="14380" y="1208"/>
                  </a:lnTo>
                  <a:lnTo>
                    <a:pt x="14414" y="1218"/>
                  </a:lnTo>
                  <a:lnTo>
                    <a:pt x="14416" y="1208"/>
                  </a:lnTo>
                  <a:lnTo>
                    <a:pt x="14498" y="1252"/>
                  </a:lnTo>
                  <a:lnTo>
                    <a:pt x="14514" y="1260"/>
                  </a:lnTo>
                  <a:lnTo>
                    <a:pt x="14558" y="1284"/>
                  </a:lnTo>
                  <a:lnTo>
                    <a:pt x="14600" y="1300"/>
                  </a:lnTo>
                  <a:lnTo>
                    <a:pt x="14634" y="1310"/>
                  </a:lnTo>
                  <a:lnTo>
                    <a:pt x="14646" y="1308"/>
                  </a:lnTo>
                  <a:lnTo>
                    <a:pt x="14686" y="1324"/>
                  </a:lnTo>
                  <a:lnTo>
                    <a:pt x="14684" y="1332"/>
                  </a:lnTo>
                  <a:lnTo>
                    <a:pt x="14666" y="1332"/>
                  </a:lnTo>
                  <a:lnTo>
                    <a:pt x="14664" y="1338"/>
                  </a:lnTo>
                  <a:lnTo>
                    <a:pt x="14660" y="1340"/>
                  </a:lnTo>
                  <a:lnTo>
                    <a:pt x="14674" y="1346"/>
                  </a:lnTo>
                  <a:lnTo>
                    <a:pt x="14684" y="1350"/>
                  </a:lnTo>
                  <a:lnTo>
                    <a:pt x="14714" y="1352"/>
                  </a:lnTo>
                  <a:lnTo>
                    <a:pt x="14744" y="1358"/>
                  </a:lnTo>
                  <a:lnTo>
                    <a:pt x="14768" y="1370"/>
                  </a:lnTo>
                  <a:lnTo>
                    <a:pt x="14792" y="1388"/>
                  </a:lnTo>
                  <a:lnTo>
                    <a:pt x="14816" y="1418"/>
                  </a:lnTo>
                  <a:lnTo>
                    <a:pt x="14806" y="1420"/>
                  </a:lnTo>
                  <a:lnTo>
                    <a:pt x="14826" y="1438"/>
                  </a:lnTo>
                  <a:lnTo>
                    <a:pt x="14826" y="1442"/>
                  </a:lnTo>
                  <a:lnTo>
                    <a:pt x="14792" y="1440"/>
                  </a:lnTo>
                  <a:lnTo>
                    <a:pt x="14752" y="1432"/>
                  </a:lnTo>
                  <a:lnTo>
                    <a:pt x="14722" y="1426"/>
                  </a:lnTo>
                  <a:lnTo>
                    <a:pt x="14696" y="1424"/>
                  </a:lnTo>
                  <a:lnTo>
                    <a:pt x="14680" y="1426"/>
                  </a:lnTo>
                  <a:lnTo>
                    <a:pt x="14658" y="1420"/>
                  </a:lnTo>
                  <a:lnTo>
                    <a:pt x="14636" y="1412"/>
                  </a:lnTo>
                  <a:lnTo>
                    <a:pt x="14630" y="1414"/>
                  </a:lnTo>
                  <a:lnTo>
                    <a:pt x="14646" y="1420"/>
                  </a:lnTo>
                  <a:lnTo>
                    <a:pt x="14662" y="1428"/>
                  </a:lnTo>
                  <a:lnTo>
                    <a:pt x="14646" y="1432"/>
                  </a:lnTo>
                  <a:lnTo>
                    <a:pt x="14634" y="1428"/>
                  </a:lnTo>
                  <a:lnTo>
                    <a:pt x="14624" y="1422"/>
                  </a:lnTo>
                  <a:lnTo>
                    <a:pt x="14618" y="1422"/>
                  </a:lnTo>
                  <a:lnTo>
                    <a:pt x="14592" y="1412"/>
                  </a:lnTo>
                  <a:lnTo>
                    <a:pt x="14562" y="1400"/>
                  </a:lnTo>
                  <a:lnTo>
                    <a:pt x="14546" y="1394"/>
                  </a:lnTo>
                  <a:lnTo>
                    <a:pt x="14548" y="1400"/>
                  </a:lnTo>
                  <a:lnTo>
                    <a:pt x="14568" y="1410"/>
                  </a:lnTo>
                  <a:lnTo>
                    <a:pt x="14610" y="1428"/>
                  </a:lnTo>
                  <a:lnTo>
                    <a:pt x="14622" y="1430"/>
                  </a:lnTo>
                  <a:lnTo>
                    <a:pt x="14632" y="1434"/>
                  </a:lnTo>
                  <a:lnTo>
                    <a:pt x="14634" y="1440"/>
                  </a:lnTo>
                  <a:lnTo>
                    <a:pt x="14612" y="1458"/>
                  </a:lnTo>
                  <a:lnTo>
                    <a:pt x="14614" y="1504"/>
                  </a:lnTo>
                  <a:lnTo>
                    <a:pt x="14608" y="1516"/>
                  </a:lnTo>
                  <a:lnTo>
                    <a:pt x="14600" y="1518"/>
                  </a:lnTo>
                  <a:lnTo>
                    <a:pt x="14590" y="1540"/>
                  </a:lnTo>
                  <a:lnTo>
                    <a:pt x="14584" y="1542"/>
                  </a:lnTo>
                  <a:lnTo>
                    <a:pt x="14574" y="1534"/>
                  </a:lnTo>
                  <a:lnTo>
                    <a:pt x="14568" y="1528"/>
                  </a:lnTo>
                  <a:lnTo>
                    <a:pt x="14558" y="1532"/>
                  </a:lnTo>
                  <a:lnTo>
                    <a:pt x="14574" y="1542"/>
                  </a:lnTo>
                  <a:lnTo>
                    <a:pt x="14584" y="1550"/>
                  </a:lnTo>
                  <a:lnTo>
                    <a:pt x="14592" y="1560"/>
                  </a:lnTo>
                  <a:lnTo>
                    <a:pt x="14584" y="1574"/>
                  </a:lnTo>
                  <a:lnTo>
                    <a:pt x="14588" y="1586"/>
                  </a:lnTo>
                  <a:lnTo>
                    <a:pt x="14566" y="1604"/>
                  </a:lnTo>
                  <a:lnTo>
                    <a:pt x="14572" y="1626"/>
                  </a:lnTo>
                  <a:lnTo>
                    <a:pt x="14568" y="1630"/>
                  </a:lnTo>
                  <a:lnTo>
                    <a:pt x="14558" y="1630"/>
                  </a:lnTo>
                  <a:lnTo>
                    <a:pt x="14534" y="1620"/>
                  </a:lnTo>
                  <a:lnTo>
                    <a:pt x="14524" y="1620"/>
                  </a:lnTo>
                  <a:lnTo>
                    <a:pt x="14532" y="1630"/>
                  </a:lnTo>
                  <a:lnTo>
                    <a:pt x="14554" y="1646"/>
                  </a:lnTo>
                  <a:lnTo>
                    <a:pt x="14562" y="1654"/>
                  </a:lnTo>
                  <a:lnTo>
                    <a:pt x="14558" y="1656"/>
                  </a:lnTo>
                  <a:lnTo>
                    <a:pt x="14566" y="1666"/>
                  </a:lnTo>
                  <a:lnTo>
                    <a:pt x="14570" y="1674"/>
                  </a:lnTo>
                  <a:lnTo>
                    <a:pt x="14568" y="1682"/>
                  </a:lnTo>
                  <a:lnTo>
                    <a:pt x="14560" y="1682"/>
                  </a:lnTo>
                  <a:lnTo>
                    <a:pt x="14542" y="1678"/>
                  </a:lnTo>
                  <a:lnTo>
                    <a:pt x="14544" y="1684"/>
                  </a:lnTo>
                  <a:lnTo>
                    <a:pt x="14570" y="1696"/>
                  </a:lnTo>
                  <a:lnTo>
                    <a:pt x="14576" y="1702"/>
                  </a:lnTo>
                  <a:lnTo>
                    <a:pt x="14572" y="1704"/>
                  </a:lnTo>
                  <a:lnTo>
                    <a:pt x="14572" y="1718"/>
                  </a:lnTo>
                  <a:lnTo>
                    <a:pt x="14554" y="1720"/>
                  </a:lnTo>
                  <a:lnTo>
                    <a:pt x="14570" y="1726"/>
                  </a:lnTo>
                  <a:lnTo>
                    <a:pt x="14592" y="1744"/>
                  </a:lnTo>
                  <a:lnTo>
                    <a:pt x="14592" y="1750"/>
                  </a:lnTo>
                  <a:lnTo>
                    <a:pt x="14578" y="1750"/>
                  </a:lnTo>
                  <a:lnTo>
                    <a:pt x="14552" y="1742"/>
                  </a:lnTo>
                  <a:lnTo>
                    <a:pt x="14560" y="1750"/>
                  </a:lnTo>
                  <a:lnTo>
                    <a:pt x="14576" y="1754"/>
                  </a:lnTo>
                  <a:lnTo>
                    <a:pt x="14588" y="1762"/>
                  </a:lnTo>
                  <a:lnTo>
                    <a:pt x="14594" y="1766"/>
                  </a:lnTo>
                  <a:lnTo>
                    <a:pt x="14588" y="1770"/>
                  </a:lnTo>
                  <a:lnTo>
                    <a:pt x="14590" y="1778"/>
                  </a:lnTo>
                  <a:lnTo>
                    <a:pt x="14580" y="1782"/>
                  </a:lnTo>
                  <a:lnTo>
                    <a:pt x="14580" y="1794"/>
                  </a:lnTo>
                  <a:lnTo>
                    <a:pt x="14590" y="1800"/>
                  </a:lnTo>
                  <a:lnTo>
                    <a:pt x="14584" y="1804"/>
                  </a:lnTo>
                  <a:lnTo>
                    <a:pt x="14600" y="1832"/>
                  </a:lnTo>
                  <a:lnTo>
                    <a:pt x="14592" y="1834"/>
                  </a:lnTo>
                  <a:lnTo>
                    <a:pt x="14574" y="1830"/>
                  </a:lnTo>
                  <a:lnTo>
                    <a:pt x="14584" y="1842"/>
                  </a:lnTo>
                  <a:lnTo>
                    <a:pt x="14578" y="1844"/>
                  </a:lnTo>
                  <a:lnTo>
                    <a:pt x="14576" y="1860"/>
                  </a:lnTo>
                  <a:lnTo>
                    <a:pt x="14570" y="1866"/>
                  </a:lnTo>
                  <a:lnTo>
                    <a:pt x="14578" y="1870"/>
                  </a:lnTo>
                  <a:lnTo>
                    <a:pt x="14590" y="1878"/>
                  </a:lnTo>
                  <a:lnTo>
                    <a:pt x="14624" y="1916"/>
                  </a:lnTo>
                  <a:lnTo>
                    <a:pt x="14656" y="1940"/>
                  </a:lnTo>
                  <a:lnTo>
                    <a:pt x="14658" y="1946"/>
                  </a:lnTo>
                  <a:lnTo>
                    <a:pt x="14632" y="1944"/>
                  </a:lnTo>
                  <a:lnTo>
                    <a:pt x="14620" y="1936"/>
                  </a:lnTo>
                  <a:lnTo>
                    <a:pt x="14528" y="1902"/>
                  </a:lnTo>
                  <a:lnTo>
                    <a:pt x="14498" y="1886"/>
                  </a:lnTo>
                  <a:lnTo>
                    <a:pt x="14458" y="1876"/>
                  </a:lnTo>
                  <a:lnTo>
                    <a:pt x="14430" y="1872"/>
                  </a:lnTo>
                  <a:lnTo>
                    <a:pt x="14402" y="1872"/>
                  </a:lnTo>
                  <a:lnTo>
                    <a:pt x="14352" y="1878"/>
                  </a:lnTo>
                  <a:lnTo>
                    <a:pt x="14344" y="1882"/>
                  </a:lnTo>
                  <a:lnTo>
                    <a:pt x="14328" y="1878"/>
                  </a:lnTo>
                  <a:lnTo>
                    <a:pt x="14330" y="1890"/>
                  </a:lnTo>
                  <a:lnTo>
                    <a:pt x="14316" y="1896"/>
                  </a:lnTo>
                  <a:lnTo>
                    <a:pt x="14314" y="1918"/>
                  </a:lnTo>
                  <a:lnTo>
                    <a:pt x="14300" y="1924"/>
                  </a:lnTo>
                  <a:lnTo>
                    <a:pt x="14302" y="1938"/>
                  </a:lnTo>
                  <a:lnTo>
                    <a:pt x="14276" y="1930"/>
                  </a:lnTo>
                  <a:lnTo>
                    <a:pt x="14278" y="1936"/>
                  </a:lnTo>
                  <a:lnTo>
                    <a:pt x="14300" y="1950"/>
                  </a:lnTo>
                  <a:lnTo>
                    <a:pt x="14308" y="1958"/>
                  </a:lnTo>
                  <a:lnTo>
                    <a:pt x="14318" y="2006"/>
                  </a:lnTo>
                  <a:lnTo>
                    <a:pt x="14332" y="2036"/>
                  </a:lnTo>
                  <a:lnTo>
                    <a:pt x="14326" y="2036"/>
                  </a:lnTo>
                  <a:lnTo>
                    <a:pt x="14316" y="2030"/>
                  </a:lnTo>
                  <a:lnTo>
                    <a:pt x="14310" y="2022"/>
                  </a:lnTo>
                  <a:lnTo>
                    <a:pt x="14300" y="2012"/>
                  </a:lnTo>
                  <a:lnTo>
                    <a:pt x="14284" y="2000"/>
                  </a:lnTo>
                  <a:lnTo>
                    <a:pt x="14262" y="1976"/>
                  </a:lnTo>
                  <a:lnTo>
                    <a:pt x="14220" y="1952"/>
                  </a:lnTo>
                  <a:lnTo>
                    <a:pt x="14214" y="1940"/>
                  </a:lnTo>
                  <a:lnTo>
                    <a:pt x="14198" y="1932"/>
                  </a:lnTo>
                  <a:lnTo>
                    <a:pt x="14182" y="1926"/>
                  </a:lnTo>
                  <a:lnTo>
                    <a:pt x="14184" y="1938"/>
                  </a:lnTo>
                  <a:lnTo>
                    <a:pt x="14196" y="1960"/>
                  </a:lnTo>
                  <a:lnTo>
                    <a:pt x="14196" y="1972"/>
                  </a:lnTo>
                  <a:lnTo>
                    <a:pt x="14178" y="1984"/>
                  </a:lnTo>
                  <a:lnTo>
                    <a:pt x="14176" y="1992"/>
                  </a:lnTo>
                  <a:lnTo>
                    <a:pt x="14184" y="2012"/>
                  </a:lnTo>
                  <a:lnTo>
                    <a:pt x="14208" y="2030"/>
                  </a:lnTo>
                  <a:lnTo>
                    <a:pt x="14234" y="2054"/>
                  </a:lnTo>
                  <a:lnTo>
                    <a:pt x="14212" y="2056"/>
                  </a:lnTo>
                  <a:lnTo>
                    <a:pt x="14180" y="2038"/>
                  </a:lnTo>
                  <a:lnTo>
                    <a:pt x="14146" y="2026"/>
                  </a:lnTo>
                  <a:lnTo>
                    <a:pt x="14142" y="2042"/>
                  </a:lnTo>
                  <a:lnTo>
                    <a:pt x="14152" y="2062"/>
                  </a:lnTo>
                  <a:lnTo>
                    <a:pt x="14128" y="2048"/>
                  </a:lnTo>
                  <a:lnTo>
                    <a:pt x="14106" y="2044"/>
                  </a:lnTo>
                  <a:lnTo>
                    <a:pt x="14104" y="2062"/>
                  </a:lnTo>
                  <a:lnTo>
                    <a:pt x="14094" y="2070"/>
                  </a:lnTo>
                  <a:lnTo>
                    <a:pt x="14098" y="2082"/>
                  </a:lnTo>
                  <a:lnTo>
                    <a:pt x="14118" y="2098"/>
                  </a:lnTo>
                  <a:lnTo>
                    <a:pt x="14128" y="2118"/>
                  </a:lnTo>
                  <a:lnTo>
                    <a:pt x="14152" y="2138"/>
                  </a:lnTo>
                  <a:lnTo>
                    <a:pt x="14184" y="2156"/>
                  </a:lnTo>
                  <a:lnTo>
                    <a:pt x="14188" y="2166"/>
                  </a:lnTo>
                  <a:lnTo>
                    <a:pt x="14184" y="2176"/>
                  </a:lnTo>
                  <a:lnTo>
                    <a:pt x="14200" y="2186"/>
                  </a:lnTo>
                  <a:lnTo>
                    <a:pt x="14218" y="2198"/>
                  </a:lnTo>
                  <a:lnTo>
                    <a:pt x="14194" y="2194"/>
                  </a:lnTo>
                  <a:lnTo>
                    <a:pt x="14198" y="2204"/>
                  </a:lnTo>
                  <a:lnTo>
                    <a:pt x="14220" y="2218"/>
                  </a:lnTo>
                  <a:lnTo>
                    <a:pt x="14234" y="2240"/>
                  </a:lnTo>
                  <a:lnTo>
                    <a:pt x="14242" y="2268"/>
                  </a:lnTo>
                  <a:lnTo>
                    <a:pt x="14258" y="2300"/>
                  </a:lnTo>
                  <a:lnTo>
                    <a:pt x="14276" y="2324"/>
                  </a:lnTo>
                  <a:lnTo>
                    <a:pt x="14300" y="2354"/>
                  </a:lnTo>
                  <a:lnTo>
                    <a:pt x="14318" y="2374"/>
                  </a:lnTo>
                  <a:lnTo>
                    <a:pt x="14352" y="2402"/>
                  </a:lnTo>
                  <a:lnTo>
                    <a:pt x="14380" y="2418"/>
                  </a:lnTo>
                  <a:lnTo>
                    <a:pt x="14402" y="2424"/>
                  </a:lnTo>
                  <a:lnTo>
                    <a:pt x="14420" y="2426"/>
                  </a:lnTo>
                  <a:lnTo>
                    <a:pt x="14416" y="2418"/>
                  </a:lnTo>
                  <a:lnTo>
                    <a:pt x="14394" y="2396"/>
                  </a:lnTo>
                  <a:lnTo>
                    <a:pt x="14408" y="2388"/>
                  </a:lnTo>
                  <a:lnTo>
                    <a:pt x="14492" y="2406"/>
                  </a:lnTo>
                  <a:lnTo>
                    <a:pt x="14514" y="2420"/>
                  </a:lnTo>
                  <a:lnTo>
                    <a:pt x="14534" y="2454"/>
                  </a:lnTo>
                  <a:lnTo>
                    <a:pt x="14534" y="2474"/>
                  </a:lnTo>
                  <a:lnTo>
                    <a:pt x="14548" y="2492"/>
                  </a:lnTo>
                  <a:lnTo>
                    <a:pt x="14568" y="2510"/>
                  </a:lnTo>
                  <a:lnTo>
                    <a:pt x="14616" y="2544"/>
                  </a:lnTo>
                  <a:lnTo>
                    <a:pt x="14660" y="2580"/>
                  </a:lnTo>
                  <a:lnTo>
                    <a:pt x="14670" y="2584"/>
                  </a:lnTo>
                  <a:lnTo>
                    <a:pt x="14692" y="2576"/>
                  </a:lnTo>
                  <a:lnTo>
                    <a:pt x="14718" y="2588"/>
                  </a:lnTo>
                  <a:lnTo>
                    <a:pt x="14796" y="2644"/>
                  </a:lnTo>
                  <a:lnTo>
                    <a:pt x="14816" y="2664"/>
                  </a:lnTo>
                  <a:lnTo>
                    <a:pt x="14830" y="2692"/>
                  </a:lnTo>
                  <a:lnTo>
                    <a:pt x="14824" y="2694"/>
                  </a:lnTo>
                  <a:lnTo>
                    <a:pt x="14802" y="2690"/>
                  </a:lnTo>
                  <a:lnTo>
                    <a:pt x="14746" y="2660"/>
                  </a:lnTo>
                  <a:lnTo>
                    <a:pt x="14736" y="2646"/>
                  </a:lnTo>
                  <a:lnTo>
                    <a:pt x="14738" y="2636"/>
                  </a:lnTo>
                  <a:lnTo>
                    <a:pt x="14726" y="2614"/>
                  </a:lnTo>
                  <a:lnTo>
                    <a:pt x="14714" y="2608"/>
                  </a:lnTo>
                  <a:lnTo>
                    <a:pt x="14718" y="2622"/>
                  </a:lnTo>
                  <a:lnTo>
                    <a:pt x="14696" y="2632"/>
                  </a:lnTo>
                  <a:lnTo>
                    <a:pt x="14680" y="2646"/>
                  </a:lnTo>
                  <a:lnTo>
                    <a:pt x="14692" y="2654"/>
                  </a:lnTo>
                  <a:lnTo>
                    <a:pt x="14708" y="2660"/>
                  </a:lnTo>
                  <a:lnTo>
                    <a:pt x="14730" y="2674"/>
                  </a:lnTo>
                  <a:lnTo>
                    <a:pt x="14722" y="2696"/>
                  </a:lnTo>
                  <a:lnTo>
                    <a:pt x="14736" y="2720"/>
                  </a:lnTo>
                  <a:lnTo>
                    <a:pt x="14754" y="2744"/>
                  </a:lnTo>
                  <a:lnTo>
                    <a:pt x="14768" y="2766"/>
                  </a:lnTo>
                  <a:lnTo>
                    <a:pt x="14796" y="2796"/>
                  </a:lnTo>
                  <a:lnTo>
                    <a:pt x="14820" y="2816"/>
                  </a:lnTo>
                  <a:lnTo>
                    <a:pt x="14846" y="2836"/>
                  </a:lnTo>
                  <a:lnTo>
                    <a:pt x="14886" y="2862"/>
                  </a:lnTo>
                  <a:lnTo>
                    <a:pt x="14976" y="2902"/>
                  </a:lnTo>
                  <a:lnTo>
                    <a:pt x="14988" y="2920"/>
                  </a:lnTo>
                  <a:lnTo>
                    <a:pt x="14992" y="2952"/>
                  </a:lnTo>
                  <a:lnTo>
                    <a:pt x="14980" y="2962"/>
                  </a:lnTo>
                  <a:lnTo>
                    <a:pt x="14958" y="2966"/>
                  </a:lnTo>
                  <a:lnTo>
                    <a:pt x="14930" y="2952"/>
                  </a:lnTo>
                  <a:lnTo>
                    <a:pt x="14908" y="2962"/>
                  </a:lnTo>
                  <a:lnTo>
                    <a:pt x="14898" y="2988"/>
                  </a:lnTo>
                  <a:lnTo>
                    <a:pt x="14902" y="3042"/>
                  </a:lnTo>
                  <a:lnTo>
                    <a:pt x="14910" y="3070"/>
                  </a:lnTo>
                  <a:lnTo>
                    <a:pt x="14942" y="3098"/>
                  </a:lnTo>
                  <a:lnTo>
                    <a:pt x="15014" y="3164"/>
                  </a:lnTo>
                  <a:lnTo>
                    <a:pt x="15044" y="3186"/>
                  </a:lnTo>
                  <a:lnTo>
                    <a:pt x="15064" y="3198"/>
                  </a:lnTo>
                  <a:lnTo>
                    <a:pt x="15080" y="3210"/>
                  </a:lnTo>
                  <a:lnTo>
                    <a:pt x="15036" y="3202"/>
                  </a:lnTo>
                  <a:lnTo>
                    <a:pt x="15012" y="3226"/>
                  </a:lnTo>
                  <a:lnTo>
                    <a:pt x="15006" y="3252"/>
                  </a:lnTo>
                  <a:lnTo>
                    <a:pt x="15010" y="3274"/>
                  </a:lnTo>
                  <a:lnTo>
                    <a:pt x="14992" y="3266"/>
                  </a:lnTo>
                  <a:lnTo>
                    <a:pt x="14980" y="3268"/>
                  </a:lnTo>
                  <a:lnTo>
                    <a:pt x="14988" y="3284"/>
                  </a:lnTo>
                  <a:lnTo>
                    <a:pt x="15004" y="3290"/>
                  </a:lnTo>
                  <a:lnTo>
                    <a:pt x="15028" y="3318"/>
                  </a:lnTo>
                  <a:lnTo>
                    <a:pt x="15036" y="3334"/>
                  </a:lnTo>
                  <a:lnTo>
                    <a:pt x="15076" y="3366"/>
                  </a:lnTo>
                  <a:lnTo>
                    <a:pt x="15096" y="3390"/>
                  </a:lnTo>
                  <a:lnTo>
                    <a:pt x="15136" y="3452"/>
                  </a:lnTo>
                  <a:lnTo>
                    <a:pt x="15148" y="3508"/>
                  </a:lnTo>
                  <a:lnTo>
                    <a:pt x="15144" y="3526"/>
                  </a:lnTo>
                  <a:lnTo>
                    <a:pt x="15156" y="3556"/>
                  </a:lnTo>
                  <a:lnTo>
                    <a:pt x="15164" y="3584"/>
                  </a:lnTo>
                  <a:lnTo>
                    <a:pt x="15160" y="3608"/>
                  </a:lnTo>
                  <a:lnTo>
                    <a:pt x="15164" y="3640"/>
                  </a:lnTo>
                  <a:lnTo>
                    <a:pt x="15134" y="3616"/>
                  </a:lnTo>
                  <a:lnTo>
                    <a:pt x="15070" y="3572"/>
                  </a:lnTo>
                  <a:lnTo>
                    <a:pt x="15026" y="3534"/>
                  </a:lnTo>
                  <a:lnTo>
                    <a:pt x="14938" y="3448"/>
                  </a:lnTo>
                  <a:lnTo>
                    <a:pt x="14882" y="3408"/>
                  </a:lnTo>
                  <a:lnTo>
                    <a:pt x="14826" y="3372"/>
                  </a:lnTo>
                  <a:lnTo>
                    <a:pt x="14768" y="3328"/>
                  </a:lnTo>
                  <a:lnTo>
                    <a:pt x="14718" y="3288"/>
                  </a:lnTo>
                  <a:lnTo>
                    <a:pt x="14666" y="3240"/>
                  </a:lnTo>
                  <a:lnTo>
                    <a:pt x="14614" y="3204"/>
                  </a:lnTo>
                  <a:lnTo>
                    <a:pt x="14534" y="3142"/>
                  </a:lnTo>
                  <a:lnTo>
                    <a:pt x="14524" y="3136"/>
                  </a:lnTo>
                  <a:lnTo>
                    <a:pt x="14510" y="3128"/>
                  </a:lnTo>
                  <a:lnTo>
                    <a:pt x="14422" y="3058"/>
                  </a:lnTo>
                  <a:lnTo>
                    <a:pt x="14388" y="3032"/>
                  </a:lnTo>
                  <a:lnTo>
                    <a:pt x="14330" y="2982"/>
                  </a:lnTo>
                  <a:lnTo>
                    <a:pt x="14284" y="2946"/>
                  </a:lnTo>
                  <a:lnTo>
                    <a:pt x="14236" y="2906"/>
                  </a:lnTo>
                  <a:lnTo>
                    <a:pt x="14146" y="2824"/>
                  </a:lnTo>
                  <a:lnTo>
                    <a:pt x="14070" y="2736"/>
                  </a:lnTo>
                  <a:lnTo>
                    <a:pt x="14034" y="2696"/>
                  </a:lnTo>
                  <a:lnTo>
                    <a:pt x="14022" y="2674"/>
                  </a:lnTo>
                  <a:lnTo>
                    <a:pt x="14030" y="2658"/>
                  </a:lnTo>
                  <a:lnTo>
                    <a:pt x="14030" y="2636"/>
                  </a:lnTo>
                  <a:lnTo>
                    <a:pt x="14038" y="2616"/>
                  </a:lnTo>
                  <a:lnTo>
                    <a:pt x="13982" y="2548"/>
                  </a:lnTo>
                  <a:lnTo>
                    <a:pt x="13942" y="2520"/>
                  </a:lnTo>
                  <a:lnTo>
                    <a:pt x="13910" y="2502"/>
                  </a:lnTo>
                  <a:lnTo>
                    <a:pt x="13924" y="2496"/>
                  </a:lnTo>
                  <a:lnTo>
                    <a:pt x="13968" y="2498"/>
                  </a:lnTo>
                  <a:lnTo>
                    <a:pt x="13964" y="2478"/>
                  </a:lnTo>
                  <a:lnTo>
                    <a:pt x="13956" y="2460"/>
                  </a:lnTo>
                  <a:lnTo>
                    <a:pt x="13986" y="2456"/>
                  </a:lnTo>
                  <a:lnTo>
                    <a:pt x="13998" y="2436"/>
                  </a:lnTo>
                  <a:lnTo>
                    <a:pt x="13988" y="2404"/>
                  </a:lnTo>
                  <a:lnTo>
                    <a:pt x="13982" y="2374"/>
                  </a:lnTo>
                  <a:lnTo>
                    <a:pt x="13982" y="2352"/>
                  </a:lnTo>
                  <a:lnTo>
                    <a:pt x="13970" y="2322"/>
                  </a:lnTo>
                  <a:lnTo>
                    <a:pt x="13958" y="2280"/>
                  </a:lnTo>
                  <a:lnTo>
                    <a:pt x="13926" y="2254"/>
                  </a:lnTo>
                  <a:lnTo>
                    <a:pt x="13910" y="2210"/>
                  </a:lnTo>
                  <a:lnTo>
                    <a:pt x="13916" y="2200"/>
                  </a:lnTo>
                  <a:lnTo>
                    <a:pt x="13892" y="2172"/>
                  </a:lnTo>
                  <a:lnTo>
                    <a:pt x="13908" y="2144"/>
                  </a:lnTo>
                  <a:lnTo>
                    <a:pt x="13886" y="2090"/>
                  </a:lnTo>
                  <a:lnTo>
                    <a:pt x="13878" y="2064"/>
                  </a:lnTo>
                  <a:lnTo>
                    <a:pt x="13876" y="2046"/>
                  </a:lnTo>
                  <a:lnTo>
                    <a:pt x="13862" y="2028"/>
                  </a:lnTo>
                  <a:lnTo>
                    <a:pt x="13838" y="2010"/>
                  </a:lnTo>
                  <a:lnTo>
                    <a:pt x="13836" y="2002"/>
                  </a:lnTo>
                  <a:lnTo>
                    <a:pt x="13854" y="1978"/>
                  </a:lnTo>
                  <a:lnTo>
                    <a:pt x="13874" y="1974"/>
                  </a:lnTo>
                  <a:lnTo>
                    <a:pt x="13862" y="1946"/>
                  </a:lnTo>
                  <a:lnTo>
                    <a:pt x="13872" y="1936"/>
                  </a:lnTo>
                  <a:lnTo>
                    <a:pt x="13892" y="1936"/>
                  </a:lnTo>
                  <a:lnTo>
                    <a:pt x="13898" y="1924"/>
                  </a:lnTo>
                  <a:lnTo>
                    <a:pt x="13896" y="1910"/>
                  </a:lnTo>
                  <a:lnTo>
                    <a:pt x="13884" y="1900"/>
                  </a:lnTo>
                  <a:lnTo>
                    <a:pt x="13860" y="1894"/>
                  </a:lnTo>
                  <a:lnTo>
                    <a:pt x="13840" y="1878"/>
                  </a:lnTo>
                  <a:lnTo>
                    <a:pt x="13830" y="1870"/>
                  </a:lnTo>
                  <a:lnTo>
                    <a:pt x="13834" y="1862"/>
                  </a:lnTo>
                  <a:lnTo>
                    <a:pt x="13830" y="1848"/>
                  </a:lnTo>
                  <a:lnTo>
                    <a:pt x="13806" y="1832"/>
                  </a:lnTo>
                  <a:lnTo>
                    <a:pt x="13792" y="1824"/>
                  </a:lnTo>
                  <a:lnTo>
                    <a:pt x="13770" y="1810"/>
                  </a:lnTo>
                  <a:lnTo>
                    <a:pt x="13758" y="1800"/>
                  </a:lnTo>
                  <a:lnTo>
                    <a:pt x="13754" y="1782"/>
                  </a:lnTo>
                  <a:lnTo>
                    <a:pt x="13706" y="1746"/>
                  </a:lnTo>
                  <a:lnTo>
                    <a:pt x="13684" y="1730"/>
                  </a:lnTo>
                  <a:lnTo>
                    <a:pt x="13676" y="1718"/>
                  </a:lnTo>
                  <a:lnTo>
                    <a:pt x="13652" y="1698"/>
                  </a:lnTo>
                  <a:lnTo>
                    <a:pt x="13646" y="1682"/>
                  </a:lnTo>
                  <a:lnTo>
                    <a:pt x="13648" y="1656"/>
                  </a:lnTo>
                  <a:lnTo>
                    <a:pt x="13670" y="1658"/>
                  </a:lnTo>
                  <a:lnTo>
                    <a:pt x="13656" y="1640"/>
                  </a:lnTo>
                  <a:lnTo>
                    <a:pt x="13604" y="1626"/>
                  </a:lnTo>
                  <a:lnTo>
                    <a:pt x="13576" y="1624"/>
                  </a:lnTo>
                  <a:lnTo>
                    <a:pt x="13536" y="1658"/>
                  </a:lnTo>
                  <a:lnTo>
                    <a:pt x="13538" y="1678"/>
                  </a:lnTo>
                  <a:lnTo>
                    <a:pt x="13552" y="1692"/>
                  </a:lnTo>
                  <a:lnTo>
                    <a:pt x="13568" y="1704"/>
                  </a:lnTo>
                  <a:lnTo>
                    <a:pt x="13582" y="1728"/>
                  </a:lnTo>
                  <a:lnTo>
                    <a:pt x="13598" y="1738"/>
                  </a:lnTo>
                  <a:lnTo>
                    <a:pt x="13624" y="1760"/>
                  </a:lnTo>
                  <a:lnTo>
                    <a:pt x="13644" y="1780"/>
                  </a:lnTo>
                  <a:lnTo>
                    <a:pt x="13668" y="1792"/>
                  </a:lnTo>
                  <a:lnTo>
                    <a:pt x="13688" y="1792"/>
                  </a:lnTo>
                  <a:lnTo>
                    <a:pt x="13708" y="1818"/>
                  </a:lnTo>
                  <a:lnTo>
                    <a:pt x="13698" y="1822"/>
                  </a:lnTo>
                  <a:lnTo>
                    <a:pt x="13680" y="1812"/>
                  </a:lnTo>
                  <a:lnTo>
                    <a:pt x="13664" y="1800"/>
                  </a:lnTo>
                  <a:lnTo>
                    <a:pt x="13646" y="1796"/>
                  </a:lnTo>
                  <a:lnTo>
                    <a:pt x="13656" y="1808"/>
                  </a:lnTo>
                  <a:lnTo>
                    <a:pt x="13654" y="1814"/>
                  </a:lnTo>
                  <a:lnTo>
                    <a:pt x="13632" y="1820"/>
                  </a:lnTo>
                  <a:lnTo>
                    <a:pt x="13648" y="1860"/>
                  </a:lnTo>
                  <a:lnTo>
                    <a:pt x="13644" y="1874"/>
                  </a:lnTo>
                  <a:lnTo>
                    <a:pt x="13652" y="1896"/>
                  </a:lnTo>
                  <a:lnTo>
                    <a:pt x="13650" y="1908"/>
                  </a:lnTo>
                  <a:lnTo>
                    <a:pt x="13676" y="1982"/>
                  </a:lnTo>
                  <a:lnTo>
                    <a:pt x="13660" y="1984"/>
                  </a:lnTo>
                  <a:lnTo>
                    <a:pt x="13662" y="2006"/>
                  </a:lnTo>
                  <a:lnTo>
                    <a:pt x="13658" y="2014"/>
                  </a:lnTo>
                  <a:lnTo>
                    <a:pt x="13636" y="2000"/>
                  </a:lnTo>
                  <a:lnTo>
                    <a:pt x="13614" y="1976"/>
                  </a:lnTo>
                  <a:lnTo>
                    <a:pt x="13586" y="1940"/>
                  </a:lnTo>
                  <a:lnTo>
                    <a:pt x="13572" y="1948"/>
                  </a:lnTo>
                  <a:lnTo>
                    <a:pt x="13562" y="1960"/>
                  </a:lnTo>
                  <a:lnTo>
                    <a:pt x="13548" y="1956"/>
                  </a:lnTo>
                  <a:lnTo>
                    <a:pt x="13538" y="1948"/>
                  </a:lnTo>
                  <a:lnTo>
                    <a:pt x="13538" y="1940"/>
                  </a:lnTo>
                  <a:lnTo>
                    <a:pt x="13526" y="1928"/>
                  </a:lnTo>
                  <a:lnTo>
                    <a:pt x="13502" y="1918"/>
                  </a:lnTo>
                  <a:lnTo>
                    <a:pt x="13480" y="1902"/>
                  </a:lnTo>
                  <a:lnTo>
                    <a:pt x="13472" y="1888"/>
                  </a:lnTo>
                  <a:lnTo>
                    <a:pt x="13460" y="1872"/>
                  </a:lnTo>
                  <a:lnTo>
                    <a:pt x="13460" y="1860"/>
                  </a:lnTo>
                  <a:lnTo>
                    <a:pt x="13388" y="1796"/>
                  </a:lnTo>
                  <a:lnTo>
                    <a:pt x="13390" y="1826"/>
                  </a:lnTo>
                  <a:lnTo>
                    <a:pt x="13398" y="1844"/>
                  </a:lnTo>
                  <a:lnTo>
                    <a:pt x="13376" y="1850"/>
                  </a:lnTo>
                  <a:lnTo>
                    <a:pt x="13350" y="1836"/>
                  </a:lnTo>
                  <a:lnTo>
                    <a:pt x="13326" y="1828"/>
                  </a:lnTo>
                  <a:lnTo>
                    <a:pt x="13290" y="1820"/>
                  </a:lnTo>
                  <a:lnTo>
                    <a:pt x="13276" y="1822"/>
                  </a:lnTo>
                  <a:lnTo>
                    <a:pt x="13284" y="1830"/>
                  </a:lnTo>
                  <a:lnTo>
                    <a:pt x="13280" y="1838"/>
                  </a:lnTo>
                  <a:lnTo>
                    <a:pt x="13232" y="1860"/>
                  </a:lnTo>
                  <a:lnTo>
                    <a:pt x="13186" y="1864"/>
                  </a:lnTo>
                  <a:lnTo>
                    <a:pt x="13184" y="1878"/>
                  </a:lnTo>
                  <a:lnTo>
                    <a:pt x="13174" y="1886"/>
                  </a:lnTo>
                  <a:lnTo>
                    <a:pt x="13180" y="1916"/>
                  </a:lnTo>
                  <a:lnTo>
                    <a:pt x="13176" y="1930"/>
                  </a:lnTo>
                  <a:lnTo>
                    <a:pt x="13214" y="1966"/>
                  </a:lnTo>
                  <a:lnTo>
                    <a:pt x="13212" y="1980"/>
                  </a:lnTo>
                  <a:lnTo>
                    <a:pt x="13224" y="2022"/>
                  </a:lnTo>
                  <a:lnTo>
                    <a:pt x="13232" y="2036"/>
                  </a:lnTo>
                  <a:lnTo>
                    <a:pt x="13248" y="2048"/>
                  </a:lnTo>
                  <a:lnTo>
                    <a:pt x="13250" y="2106"/>
                  </a:lnTo>
                  <a:lnTo>
                    <a:pt x="13240" y="2118"/>
                  </a:lnTo>
                  <a:lnTo>
                    <a:pt x="13242" y="2138"/>
                  </a:lnTo>
                  <a:lnTo>
                    <a:pt x="13254" y="2152"/>
                  </a:lnTo>
                  <a:lnTo>
                    <a:pt x="13264" y="2172"/>
                  </a:lnTo>
                  <a:lnTo>
                    <a:pt x="13296" y="2220"/>
                  </a:lnTo>
                  <a:lnTo>
                    <a:pt x="13292" y="2220"/>
                  </a:lnTo>
                  <a:lnTo>
                    <a:pt x="13272" y="2214"/>
                  </a:lnTo>
                  <a:lnTo>
                    <a:pt x="13274" y="2222"/>
                  </a:lnTo>
                  <a:lnTo>
                    <a:pt x="13330" y="2254"/>
                  </a:lnTo>
                  <a:lnTo>
                    <a:pt x="13332" y="2266"/>
                  </a:lnTo>
                  <a:lnTo>
                    <a:pt x="13344" y="2276"/>
                  </a:lnTo>
                  <a:lnTo>
                    <a:pt x="13372" y="2266"/>
                  </a:lnTo>
                  <a:lnTo>
                    <a:pt x="13424" y="2274"/>
                  </a:lnTo>
                  <a:lnTo>
                    <a:pt x="13454" y="2286"/>
                  </a:lnTo>
                  <a:lnTo>
                    <a:pt x="13476" y="2300"/>
                  </a:lnTo>
                  <a:lnTo>
                    <a:pt x="13488" y="2312"/>
                  </a:lnTo>
                  <a:lnTo>
                    <a:pt x="13472" y="2316"/>
                  </a:lnTo>
                  <a:lnTo>
                    <a:pt x="13474" y="2324"/>
                  </a:lnTo>
                  <a:lnTo>
                    <a:pt x="13456" y="2320"/>
                  </a:lnTo>
                  <a:lnTo>
                    <a:pt x="13430" y="2322"/>
                  </a:lnTo>
                  <a:lnTo>
                    <a:pt x="13440" y="2336"/>
                  </a:lnTo>
                  <a:lnTo>
                    <a:pt x="13428" y="2344"/>
                  </a:lnTo>
                  <a:lnTo>
                    <a:pt x="13410" y="2346"/>
                  </a:lnTo>
                  <a:lnTo>
                    <a:pt x="13380" y="2334"/>
                  </a:lnTo>
                  <a:lnTo>
                    <a:pt x="13344" y="2330"/>
                  </a:lnTo>
                  <a:lnTo>
                    <a:pt x="13336" y="2342"/>
                  </a:lnTo>
                  <a:lnTo>
                    <a:pt x="13346" y="2354"/>
                  </a:lnTo>
                  <a:lnTo>
                    <a:pt x="13328" y="2362"/>
                  </a:lnTo>
                  <a:lnTo>
                    <a:pt x="13336" y="2378"/>
                  </a:lnTo>
                  <a:lnTo>
                    <a:pt x="13334" y="2388"/>
                  </a:lnTo>
                  <a:lnTo>
                    <a:pt x="13304" y="2384"/>
                  </a:lnTo>
                  <a:lnTo>
                    <a:pt x="13278" y="2374"/>
                  </a:lnTo>
                  <a:lnTo>
                    <a:pt x="13270" y="2384"/>
                  </a:lnTo>
                  <a:lnTo>
                    <a:pt x="13278" y="2402"/>
                  </a:lnTo>
                  <a:lnTo>
                    <a:pt x="13262" y="2412"/>
                  </a:lnTo>
                  <a:lnTo>
                    <a:pt x="13242" y="2418"/>
                  </a:lnTo>
                  <a:lnTo>
                    <a:pt x="13212" y="2420"/>
                  </a:lnTo>
                  <a:lnTo>
                    <a:pt x="13152" y="2394"/>
                  </a:lnTo>
                  <a:lnTo>
                    <a:pt x="13140" y="2384"/>
                  </a:lnTo>
                  <a:lnTo>
                    <a:pt x="13150" y="2374"/>
                  </a:lnTo>
                  <a:lnTo>
                    <a:pt x="13188" y="2370"/>
                  </a:lnTo>
                  <a:lnTo>
                    <a:pt x="13212" y="2362"/>
                  </a:lnTo>
                  <a:lnTo>
                    <a:pt x="13222" y="2352"/>
                  </a:lnTo>
                  <a:lnTo>
                    <a:pt x="13204" y="2342"/>
                  </a:lnTo>
                  <a:lnTo>
                    <a:pt x="13164" y="2340"/>
                  </a:lnTo>
                  <a:lnTo>
                    <a:pt x="13138" y="2326"/>
                  </a:lnTo>
                  <a:lnTo>
                    <a:pt x="13104" y="2314"/>
                  </a:lnTo>
                  <a:lnTo>
                    <a:pt x="13078" y="2306"/>
                  </a:lnTo>
                  <a:lnTo>
                    <a:pt x="13048" y="2306"/>
                  </a:lnTo>
                  <a:lnTo>
                    <a:pt x="13038" y="2312"/>
                  </a:lnTo>
                  <a:lnTo>
                    <a:pt x="13052" y="2332"/>
                  </a:lnTo>
                  <a:lnTo>
                    <a:pt x="13030" y="2330"/>
                  </a:lnTo>
                  <a:lnTo>
                    <a:pt x="13022" y="2324"/>
                  </a:lnTo>
                  <a:lnTo>
                    <a:pt x="12982" y="2314"/>
                  </a:lnTo>
                  <a:lnTo>
                    <a:pt x="12966" y="2318"/>
                  </a:lnTo>
                  <a:lnTo>
                    <a:pt x="12892" y="2308"/>
                  </a:lnTo>
                  <a:lnTo>
                    <a:pt x="12864" y="2308"/>
                  </a:lnTo>
                  <a:lnTo>
                    <a:pt x="12846" y="2312"/>
                  </a:lnTo>
                  <a:lnTo>
                    <a:pt x="12840" y="2326"/>
                  </a:lnTo>
                  <a:lnTo>
                    <a:pt x="12848" y="2336"/>
                  </a:lnTo>
                  <a:lnTo>
                    <a:pt x="12870" y="2346"/>
                  </a:lnTo>
                  <a:lnTo>
                    <a:pt x="12882" y="2354"/>
                  </a:lnTo>
                  <a:lnTo>
                    <a:pt x="12862" y="2358"/>
                  </a:lnTo>
                  <a:lnTo>
                    <a:pt x="12854" y="2368"/>
                  </a:lnTo>
                  <a:lnTo>
                    <a:pt x="12878" y="2378"/>
                  </a:lnTo>
                  <a:lnTo>
                    <a:pt x="12884" y="2378"/>
                  </a:lnTo>
                  <a:lnTo>
                    <a:pt x="12900" y="2392"/>
                  </a:lnTo>
                  <a:lnTo>
                    <a:pt x="12884" y="2400"/>
                  </a:lnTo>
                  <a:lnTo>
                    <a:pt x="12872" y="2400"/>
                  </a:lnTo>
                  <a:lnTo>
                    <a:pt x="12854" y="2390"/>
                  </a:lnTo>
                  <a:lnTo>
                    <a:pt x="12828" y="2380"/>
                  </a:lnTo>
                  <a:lnTo>
                    <a:pt x="12792" y="2384"/>
                  </a:lnTo>
                  <a:lnTo>
                    <a:pt x="12786" y="2392"/>
                  </a:lnTo>
                  <a:lnTo>
                    <a:pt x="12800" y="2406"/>
                  </a:lnTo>
                  <a:lnTo>
                    <a:pt x="12774" y="2412"/>
                  </a:lnTo>
                  <a:lnTo>
                    <a:pt x="12640" y="2394"/>
                  </a:lnTo>
                  <a:lnTo>
                    <a:pt x="12636" y="2400"/>
                  </a:lnTo>
                  <a:lnTo>
                    <a:pt x="12668" y="2432"/>
                  </a:lnTo>
                  <a:lnTo>
                    <a:pt x="12672" y="2440"/>
                  </a:lnTo>
                  <a:lnTo>
                    <a:pt x="12658" y="2448"/>
                  </a:lnTo>
                  <a:lnTo>
                    <a:pt x="12644" y="2446"/>
                  </a:lnTo>
                  <a:lnTo>
                    <a:pt x="12622" y="2436"/>
                  </a:lnTo>
                  <a:lnTo>
                    <a:pt x="12600" y="2416"/>
                  </a:lnTo>
                  <a:lnTo>
                    <a:pt x="12588" y="2418"/>
                  </a:lnTo>
                  <a:lnTo>
                    <a:pt x="12560" y="2416"/>
                  </a:lnTo>
                  <a:lnTo>
                    <a:pt x="12542" y="2420"/>
                  </a:lnTo>
                  <a:lnTo>
                    <a:pt x="12524" y="2420"/>
                  </a:lnTo>
                  <a:lnTo>
                    <a:pt x="12496" y="2428"/>
                  </a:lnTo>
                  <a:lnTo>
                    <a:pt x="12434" y="2438"/>
                  </a:lnTo>
                  <a:lnTo>
                    <a:pt x="12348" y="2460"/>
                  </a:lnTo>
                  <a:lnTo>
                    <a:pt x="12320" y="2488"/>
                  </a:lnTo>
                  <a:lnTo>
                    <a:pt x="12314" y="2512"/>
                  </a:lnTo>
                  <a:lnTo>
                    <a:pt x="12310" y="2542"/>
                  </a:lnTo>
                  <a:lnTo>
                    <a:pt x="12322" y="2572"/>
                  </a:lnTo>
                  <a:lnTo>
                    <a:pt x="12328" y="2602"/>
                  </a:lnTo>
                  <a:lnTo>
                    <a:pt x="12314" y="2662"/>
                  </a:lnTo>
                  <a:lnTo>
                    <a:pt x="12320" y="2696"/>
                  </a:lnTo>
                  <a:lnTo>
                    <a:pt x="12340" y="2720"/>
                  </a:lnTo>
                  <a:lnTo>
                    <a:pt x="12352" y="2748"/>
                  </a:lnTo>
                  <a:lnTo>
                    <a:pt x="12344" y="2762"/>
                  </a:lnTo>
                  <a:lnTo>
                    <a:pt x="12340" y="2782"/>
                  </a:lnTo>
                  <a:lnTo>
                    <a:pt x="12330" y="2780"/>
                  </a:lnTo>
                  <a:lnTo>
                    <a:pt x="12344" y="2808"/>
                  </a:lnTo>
                  <a:lnTo>
                    <a:pt x="12344" y="2846"/>
                  </a:lnTo>
                  <a:lnTo>
                    <a:pt x="12326" y="2846"/>
                  </a:lnTo>
                  <a:lnTo>
                    <a:pt x="12334" y="2886"/>
                  </a:lnTo>
                  <a:lnTo>
                    <a:pt x="12328" y="2912"/>
                  </a:lnTo>
                  <a:lnTo>
                    <a:pt x="12340" y="2936"/>
                  </a:lnTo>
                  <a:lnTo>
                    <a:pt x="12326" y="2934"/>
                  </a:lnTo>
                  <a:lnTo>
                    <a:pt x="12336" y="2950"/>
                  </a:lnTo>
                  <a:lnTo>
                    <a:pt x="12338" y="2968"/>
                  </a:lnTo>
                  <a:lnTo>
                    <a:pt x="12336" y="2980"/>
                  </a:lnTo>
                  <a:lnTo>
                    <a:pt x="12348" y="2992"/>
                  </a:lnTo>
                  <a:lnTo>
                    <a:pt x="12356" y="3010"/>
                  </a:lnTo>
                  <a:lnTo>
                    <a:pt x="12350" y="3022"/>
                  </a:lnTo>
                  <a:lnTo>
                    <a:pt x="12362" y="3054"/>
                  </a:lnTo>
                  <a:lnTo>
                    <a:pt x="12350" y="3144"/>
                  </a:lnTo>
                  <a:lnTo>
                    <a:pt x="12344" y="3158"/>
                  </a:lnTo>
                  <a:lnTo>
                    <a:pt x="12336" y="3162"/>
                  </a:lnTo>
                  <a:lnTo>
                    <a:pt x="12334" y="3174"/>
                  </a:lnTo>
                  <a:lnTo>
                    <a:pt x="12344" y="3202"/>
                  </a:lnTo>
                  <a:lnTo>
                    <a:pt x="12334" y="3234"/>
                  </a:lnTo>
                  <a:lnTo>
                    <a:pt x="12326" y="3242"/>
                  </a:lnTo>
                  <a:lnTo>
                    <a:pt x="12312" y="3286"/>
                  </a:lnTo>
                  <a:lnTo>
                    <a:pt x="12326" y="3312"/>
                  </a:lnTo>
                  <a:lnTo>
                    <a:pt x="12334" y="3322"/>
                  </a:lnTo>
                  <a:lnTo>
                    <a:pt x="12382" y="3332"/>
                  </a:lnTo>
                  <a:lnTo>
                    <a:pt x="12416" y="3346"/>
                  </a:lnTo>
                  <a:lnTo>
                    <a:pt x="12458" y="3338"/>
                  </a:lnTo>
                  <a:lnTo>
                    <a:pt x="12490" y="3320"/>
                  </a:lnTo>
                  <a:lnTo>
                    <a:pt x="12512" y="3322"/>
                  </a:lnTo>
                  <a:lnTo>
                    <a:pt x="12532" y="3338"/>
                  </a:lnTo>
                  <a:lnTo>
                    <a:pt x="12552" y="3362"/>
                  </a:lnTo>
                  <a:lnTo>
                    <a:pt x="12562" y="3368"/>
                  </a:lnTo>
                  <a:lnTo>
                    <a:pt x="12574" y="3384"/>
                  </a:lnTo>
                  <a:lnTo>
                    <a:pt x="12592" y="3406"/>
                  </a:lnTo>
                  <a:lnTo>
                    <a:pt x="12606" y="3426"/>
                  </a:lnTo>
                  <a:lnTo>
                    <a:pt x="12638" y="3460"/>
                  </a:lnTo>
                  <a:lnTo>
                    <a:pt x="12648" y="3464"/>
                  </a:lnTo>
                  <a:lnTo>
                    <a:pt x="12644" y="3450"/>
                  </a:lnTo>
                  <a:lnTo>
                    <a:pt x="12660" y="3446"/>
                  </a:lnTo>
                  <a:lnTo>
                    <a:pt x="12660" y="3428"/>
                  </a:lnTo>
                  <a:lnTo>
                    <a:pt x="12654" y="3414"/>
                  </a:lnTo>
                  <a:lnTo>
                    <a:pt x="12628" y="3398"/>
                  </a:lnTo>
                  <a:lnTo>
                    <a:pt x="12618" y="3382"/>
                  </a:lnTo>
                  <a:lnTo>
                    <a:pt x="12626" y="3368"/>
                  </a:lnTo>
                  <a:lnTo>
                    <a:pt x="12654" y="3362"/>
                  </a:lnTo>
                  <a:lnTo>
                    <a:pt x="12660" y="3372"/>
                  </a:lnTo>
                  <a:lnTo>
                    <a:pt x="12662" y="3392"/>
                  </a:lnTo>
                  <a:lnTo>
                    <a:pt x="12652" y="3398"/>
                  </a:lnTo>
                  <a:lnTo>
                    <a:pt x="12680" y="3414"/>
                  </a:lnTo>
                  <a:lnTo>
                    <a:pt x="12706" y="3420"/>
                  </a:lnTo>
                  <a:lnTo>
                    <a:pt x="12722" y="3434"/>
                  </a:lnTo>
                  <a:lnTo>
                    <a:pt x="12728" y="3454"/>
                  </a:lnTo>
                  <a:lnTo>
                    <a:pt x="12728" y="3470"/>
                  </a:lnTo>
                  <a:lnTo>
                    <a:pt x="12716" y="3478"/>
                  </a:lnTo>
                  <a:lnTo>
                    <a:pt x="12726" y="3486"/>
                  </a:lnTo>
                  <a:lnTo>
                    <a:pt x="12758" y="3486"/>
                  </a:lnTo>
                  <a:lnTo>
                    <a:pt x="12784" y="3472"/>
                  </a:lnTo>
                  <a:lnTo>
                    <a:pt x="12800" y="3456"/>
                  </a:lnTo>
                  <a:lnTo>
                    <a:pt x="12796" y="3412"/>
                  </a:lnTo>
                  <a:lnTo>
                    <a:pt x="12820" y="3428"/>
                  </a:lnTo>
                  <a:lnTo>
                    <a:pt x="12830" y="3458"/>
                  </a:lnTo>
                  <a:lnTo>
                    <a:pt x="12848" y="3484"/>
                  </a:lnTo>
                  <a:lnTo>
                    <a:pt x="12858" y="3470"/>
                  </a:lnTo>
                  <a:lnTo>
                    <a:pt x="12836" y="3430"/>
                  </a:lnTo>
                  <a:lnTo>
                    <a:pt x="12814" y="3402"/>
                  </a:lnTo>
                  <a:lnTo>
                    <a:pt x="12804" y="3384"/>
                  </a:lnTo>
                  <a:lnTo>
                    <a:pt x="12798" y="3384"/>
                  </a:lnTo>
                  <a:lnTo>
                    <a:pt x="12764" y="3348"/>
                  </a:lnTo>
                  <a:lnTo>
                    <a:pt x="12818" y="3358"/>
                  </a:lnTo>
                  <a:lnTo>
                    <a:pt x="12838" y="3356"/>
                  </a:lnTo>
                  <a:lnTo>
                    <a:pt x="12856" y="3340"/>
                  </a:lnTo>
                  <a:lnTo>
                    <a:pt x="12870" y="3338"/>
                  </a:lnTo>
                  <a:lnTo>
                    <a:pt x="12874" y="3338"/>
                  </a:lnTo>
                  <a:lnTo>
                    <a:pt x="12884" y="3346"/>
                  </a:lnTo>
                  <a:lnTo>
                    <a:pt x="12898" y="3354"/>
                  </a:lnTo>
                  <a:lnTo>
                    <a:pt x="12920" y="3358"/>
                  </a:lnTo>
                  <a:lnTo>
                    <a:pt x="12950" y="3370"/>
                  </a:lnTo>
                  <a:lnTo>
                    <a:pt x="12976" y="3382"/>
                  </a:lnTo>
                  <a:lnTo>
                    <a:pt x="12998" y="3404"/>
                  </a:lnTo>
                  <a:lnTo>
                    <a:pt x="13014" y="3414"/>
                  </a:lnTo>
                  <a:lnTo>
                    <a:pt x="13050" y="3428"/>
                  </a:lnTo>
                  <a:lnTo>
                    <a:pt x="13092" y="3446"/>
                  </a:lnTo>
                  <a:lnTo>
                    <a:pt x="13174" y="3472"/>
                  </a:lnTo>
                  <a:lnTo>
                    <a:pt x="13192" y="3474"/>
                  </a:lnTo>
                  <a:lnTo>
                    <a:pt x="13212" y="3494"/>
                  </a:lnTo>
                  <a:lnTo>
                    <a:pt x="13216" y="3518"/>
                  </a:lnTo>
                  <a:lnTo>
                    <a:pt x="13214" y="3524"/>
                  </a:lnTo>
                  <a:lnTo>
                    <a:pt x="13158" y="3508"/>
                  </a:lnTo>
                  <a:lnTo>
                    <a:pt x="13144" y="3512"/>
                  </a:lnTo>
                  <a:lnTo>
                    <a:pt x="13124" y="3512"/>
                  </a:lnTo>
                  <a:lnTo>
                    <a:pt x="13084" y="3498"/>
                  </a:lnTo>
                  <a:lnTo>
                    <a:pt x="13058" y="3500"/>
                  </a:lnTo>
                  <a:lnTo>
                    <a:pt x="13058" y="3514"/>
                  </a:lnTo>
                  <a:lnTo>
                    <a:pt x="13072" y="3510"/>
                  </a:lnTo>
                  <a:lnTo>
                    <a:pt x="13104" y="3514"/>
                  </a:lnTo>
                  <a:lnTo>
                    <a:pt x="13144" y="3526"/>
                  </a:lnTo>
                  <a:lnTo>
                    <a:pt x="13162" y="3522"/>
                  </a:lnTo>
                  <a:lnTo>
                    <a:pt x="13200" y="3538"/>
                  </a:lnTo>
                  <a:lnTo>
                    <a:pt x="13230" y="3548"/>
                  </a:lnTo>
                  <a:lnTo>
                    <a:pt x="13258" y="3568"/>
                  </a:lnTo>
                  <a:lnTo>
                    <a:pt x="13286" y="3592"/>
                  </a:lnTo>
                  <a:lnTo>
                    <a:pt x="13304" y="3628"/>
                  </a:lnTo>
                  <a:lnTo>
                    <a:pt x="13378" y="3664"/>
                  </a:lnTo>
                  <a:lnTo>
                    <a:pt x="13388" y="3688"/>
                  </a:lnTo>
                  <a:lnTo>
                    <a:pt x="13406" y="3708"/>
                  </a:lnTo>
                  <a:lnTo>
                    <a:pt x="13408" y="3724"/>
                  </a:lnTo>
                  <a:lnTo>
                    <a:pt x="13418" y="3746"/>
                  </a:lnTo>
                  <a:lnTo>
                    <a:pt x="13412" y="3756"/>
                  </a:lnTo>
                  <a:lnTo>
                    <a:pt x="13422" y="3798"/>
                  </a:lnTo>
                  <a:lnTo>
                    <a:pt x="13436" y="3808"/>
                  </a:lnTo>
                  <a:lnTo>
                    <a:pt x="13436" y="3818"/>
                  </a:lnTo>
                  <a:lnTo>
                    <a:pt x="13442" y="3828"/>
                  </a:lnTo>
                  <a:lnTo>
                    <a:pt x="13438" y="3832"/>
                  </a:lnTo>
                  <a:lnTo>
                    <a:pt x="13470" y="3872"/>
                  </a:lnTo>
                  <a:lnTo>
                    <a:pt x="13488" y="3900"/>
                  </a:lnTo>
                  <a:lnTo>
                    <a:pt x="13496" y="3922"/>
                  </a:lnTo>
                  <a:lnTo>
                    <a:pt x="13532" y="3964"/>
                  </a:lnTo>
                  <a:lnTo>
                    <a:pt x="13592" y="4016"/>
                  </a:lnTo>
                  <a:lnTo>
                    <a:pt x="13606" y="4024"/>
                  </a:lnTo>
                  <a:lnTo>
                    <a:pt x="13618" y="4038"/>
                  </a:lnTo>
                  <a:lnTo>
                    <a:pt x="13624" y="4062"/>
                  </a:lnTo>
                  <a:lnTo>
                    <a:pt x="13688" y="4130"/>
                  </a:lnTo>
                  <a:lnTo>
                    <a:pt x="13702" y="4150"/>
                  </a:lnTo>
                  <a:lnTo>
                    <a:pt x="13720" y="4192"/>
                  </a:lnTo>
                  <a:lnTo>
                    <a:pt x="13736" y="4216"/>
                  </a:lnTo>
                  <a:lnTo>
                    <a:pt x="13756" y="4236"/>
                  </a:lnTo>
                  <a:lnTo>
                    <a:pt x="13770" y="4262"/>
                  </a:lnTo>
                  <a:lnTo>
                    <a:pt x="13806" y="4314"/>
                  </a:lnTo>
                  <a:lnTo>
                    <a:pt x="13804" y="4334"/>
                  </a:lnTo>
                  <a:lnTo>
                    <a:pt x="13798" y="4344"/>
                  </a:lnTo>
                  <a:lnTo>
                    <a:pt x="13804" y="4358"/>
                  </a:lnTo>
                  <a:lnTo>
                    <a:pt x="13804" y="4388"/>
                  </a:lnTo>
                  <a:lnTo>
                    <a:pt x="13802" y="4438"/>
                  </a:lnTo>
                  <a:lnTo>
                    <a:pt x="13820" y="4506"/>
                  </a:lnTo>
                  <a:lnTo>
                    <a:pt x="13820" y="4564"/>
                  </a:lnTo>
                  <a:lnTo>
                    <a:pt x="13828" y="4596"/>
                  </a:lnTo>
                  <a:lnTo>
                    <a:pt x="13868" y="4676"/>
                  </a:lnTo>
                  <a:lnTo>
                    <a:pt x="13886" y="4742"/>
                  </a:lnTo>
                  <a:lnTo>
                    <a:pt x="13888" y="4752"/>
                  </a:lnTo>
                  <a:lnTo>
                    <a:pt x="13882" y="4778"/>
                  </a:lnTo>
                  <a:lnTo>
                    <a:pt x="13892" y="4808"/>
                  </a:lnTo>
                  <a:lnTo>
                    <a:pt x="13882" y="4942"/>
                  </a:lnTo>
                  <a:lnTo>
                    <a:pt x="13888" y="4982"/>
                  </a:lnTo>
                  <a:lnTo>
                    <a:pt x="13884" y="5000"/>
                  </a:lnTo>
                  <a:lnTo>
                    <a:pt x="13894" y="5058"/>
                  </a:lnTo>
                  <a:lnTo>
                    <a:pt x="13882" y="5076"/>
                  </a:lnTo>
                  <a:lnTo>
                    <a:pt x="13878" y="5100"/>
                  </a:lnTo>
                  <a:lnTo>
                    <a:pt x="13880" y="5128"/>
                  </a:lnTo>
                  <a:lnTo>
                    <a:pt x="13892" y="5148"/>
                  </a:lnTo>
                  <a:lnTo>
                    <a:pt x="13896" y="5198"/>
                  </a:lnTo>
                  <a:lnTo>
                    <a:pt x="13900" y="5230"/>
                  </a:lnTo>
                  <a:lnTo>
                    <a:pt x="13894" y="5266"/>
                  </a:lnTo>
                  <a:lnTo>
                    <a:pt x="13852" y="5346"/>
                  </a:lnTo>
                  <a:lnTo>
                    <a:pt x="13842" y="5378"/>
                  </a:lnTo>
                  <a:lnTo>
                    <a:pt x="13826" y="5392"/>
                  </a:lnTo>
                  <a:lnTo>
                    <a:pt x="13812" y="5394"/>
                  </a:lnTo>
                  <a:lnTo>
                    <a:pt x="13774" y="5418"/>
                  </a:lnTo>
                  <a:lnTo>
                    <a:pt x="13746" y="5416"/>
                  </a:lnTo>
                  <a:lnTo>
                    <a:pt x="13726" y="5410"/>
                  </a:lnTo>
                  <a:lnTo>
                    <a:pt x="13720" y="5412"/>
                  </a:lnTo>
                  <a:lnTo>
                    <a:pt x="13690" y="5398"/>
                  </a:lnTo>
                  <a:lnTo>
                    <a:pt x="13664" y="5396"/>
                  </a:lnTo>
                  <a:lnTo>
                    <a:pt x="13646" y="5400"/>
                  </a:lnTo>
                  <a:lnTo>
                    <a:pt x="13636" y="5392"/>
                  </a:lnTo>
                  <a:lnTo>
                    <a:pt x="13620" y="5368"/>
                  </a:lnTo>
                  <a:lnTo>
                    <a:pt x="13610" y="5348"/>
                  </a:lnTo>
                  <a:lnTo>
                    <a:pt x="13598" y="5330"/>
                  </a:lnTo>
                  <a:lnTo>
                    <a:pt x="13590" y="5338"/>
                  </a:lnTo>
                  <a:lnTo>
                    <a:pt x="13578" y="5362"/>
                  </a:lnTo>
                  <a:lnTo>
                    <a:pt x="13562" y="5352"/>
                  </a:lnTo>
                  <a:lnTo>
                    <a:pt x="13558" y="5328"/>
                  </a:lnTo>
                  <a:lnTo>
                    <a:pt x="13538" y="5326"/>
                  </a:lnTo>
                  <a:lnTo>
                    <a:pt x="13520" y="5306"/>
                  </a:lnTo>
                  <a:lnTo>
                    <a:pt x="13542" y="5362"/>
                  </a:lnTo>
                  <a:lnTo>
                    <a:pt x="13538" y="5396"/>
                  </a:lnTo>
                  <a:lnTo>
                    <a:pt x="13544" y="5416"/>
                  </a:lnTo>
                  <a:lnTo>
                    <a:pt x="13538" y="5432"/>
                  </a:lnTo>
                  <a:lnTo>
                    <a:pt x="13542" y="5456"/>
                  </a:lnTo>
                  <a:lnTo>
                    <a:pt x="13496" y="5458"/>
                  </a:lnTo>
                  <a:lnTo>
                    <a:pt x="13480" y="5466"/>
                  </a:lnTo>
                  <a:lnTo>
                    <a:pt x="13494" y="5476"/>
                  </a:lnTo>
                  <a:lnTo>
                    <a:pt x="13512" y="5494"/>
                  </a:lnTo>
                  <a:lnTo>
                    <a:pt x="13500" y="5504"/>
                  </a:lnTo>
                  <a:lnTo>
                    <a:pt x="13480" y="5486"/>
                  </a:lnTo>
                  <a:lnTo>
                    <a:pt x="13470" y="5472"/>
                  </a:lnTo>
                  <a:lnTo>
                    <a:pt x="13440" y="5430"/>
                  </a:lnTo>
                  <a:lnTo>
                    <a:pt x="13458" y="5386"/>
                  </a:lnTo>
                  <a:lnTo>
                    <a:pt x="13452" y="5324"/>
                  </a:lnTo>
                  <a:lnTo>
                    <a:pt x="13362" y="5188"/>
                  </a:lnTo>
                  <a:lnTo>
                    <a:pt x="13304" y="5126"/>
                  </a:lnTo>
                  <a:lnTo>
                    <a:pt x="13264" y="5096"/>
                  </a:lnTo>
                  <a:lnTo>
                    <a:pt x="13286" y="5010"/>
                  </a:lnTo>
                  <a:lnTo>
                    <a:pt x="13302" y="4990"/>
                  </a:lnTo>
                  <a:lnTo>
                    <a:pt x="13426" y="5006"/>
                  </a:lnTo>
                  <a:lnTo>
                    <a:pt x="13444" y="5014"/>
                  </a:lnTo>
                  <a:lnTo>
                    <a:pt x="13454" y="4990"/>
                  </a:lnTo>
                  <a:lnTo>
                    <a:pt x="13430" y="4942"/>
                  </a:lnTo>
                  <a:lnTo>
                    <a:pt x="13430" y="4898"/>
                  </a:lnTo>
                  <a:lnTo>
                    <a:pt x="13406" y="4808"/>
                  </a:lnTo>
                  <a:lnTo>
                    <a:pt x="13356" y="4718"/>
                  </a:lnTo>
                  <a:lnTo>
                    <a:pt x="13326" y="4640"/>
                  </a:lnTo>
                  <a:lnTo>
                    <a:pt x="13302" y="4596"/>
                  </a:lnTo>
                  <a:lnTo>
                    <a:pt x="13306" y="4564"/>
                  </a:lnTo>
                  <a:lnTo>
                    <a:pt x="13314" y="4538"/>
                  </a:lnTo>
                  <a:lnTo>
                    <a:pt x="13286" y="4498"/>
                  </a:lnTo>
                  <a:lnTo>
                    <a:pt x="13248" y="4464"/>
                  </a:lnTo>
                  <a:lnTo>
                    <a:pt x="13216" y="4424"/>
                  </a:lnTo>
                  <a:lnTo>
                    <a:pt x="13210" y="4392"/>
                  </a:lnTo>
                  <a:lnTo>
                    <a:pt x="13206" y="4388"/>
                  </a:lnTo>
                  <a:lnTo>
                    <a:pt x="13156" y="4412"/>
                  </a:lnTo>
                  <a:lnTo>
                    <a:pt x="13118" y="4460"/>
                  </a:lnTo>
                  <a:lnTo>
                    <a:pt x="13082" y="4466"/>
                  </a:lnTo>
                  <a:lnTo>
                    <a:pt x="13052" y="4520"/>
                  </a:lnTo>
                  <a:lnTo>
                    <a:pt x="13010" y="4560"/>
                  </a:lnTo>
                  <a:lnTo>
                    <a:pt x="12978" y="4568"/>
                  </a:lnTo>
                  <a:lnTo>
                    <a:pt x="12930" y="4562"/>
                  </a:lnTo>
                  <a:lnTo>
                    <a:pt x="12894" y="4568"/>
                  </a:lnTo>
                  <a:lnTo>
                    <a:pt x="12860" y="4540"/>
                  </a:lnTo>
                  <a:lnTo>
                    <a:pt x="12814" y="4510"/>
                  </a:lnTo>
                  <a:lnTo>
                    <a:pt x="12782" y="4474"/>
                  </a:lnTo>
                  <a:lnTo>
                    <a:pt x="12762" y="4440"/>
                  </a:lnTo>
                  <a:lnTo>
                    <a:pt x="12730" y="4422"/>
                  </a:lnTo>
                  <a:lnTo>
                    <a:pt x="12704" y="4390"/>
                  </a:lnTo>
                  <a:lnTo>
                    <a:pt x="12702" y="4390"/>
                  </a:lnTo>
                  <a:lnTo>
                    <a:pt x="12696" y="4382"/>
                  </a:lnTo>
                  <a:lnTo>
                    <a:pt x="12670" y="4366"/>
                  </a:lnTo>
                  <a:lnTo>
                    <a:pt x="12646" y="4368"/>
                  </a:lnTo>
                  <a:lnTo>
                    <a:pt x="12604" y="4356"/>
                  </a:lnTo>
                  <a:lnTo>
                    <a:pt x="12494" y="4304"/>
                  </a:lnTo>
                  <a:lnTo>
                    <a:pt x="12446" y="4292"/>
                  </a:lnTo>
                  <a:lnTo>
                    <a:pt x="12404" y="4290"/>
                  </a:lnTo>
                  <a:lnTo>
                    <a:pt x="12358" y="4280"/>
                  </a:lnTo>
                  <a:lnTo>
                    <a:pt x="12328" y="4300"/>
                  </a:lnTo>
                  <a:lnTo>
                    <a:pt x="12278" y="4300"/>
                  </a:lnTo>
                  <a:lnTo>
                    <a:pt x="12238" y="4282"/>
                  </a:lnTo>
                  <a:lnTo>
                    <a:pt x="12204" y="4238"/>
                  </a:lnTo>
                  <a:lnTo>
                    <a:pt x="12170" y="4200"/>
                  </a:lnTo>
                  <a:lnTo>
                    <a:pt x="12166" y="4200"/>
                  </a:lnTo>
                  <a:lnTo>
                    <a:pt x="12160" y="4190"/>
                  </a:lnTo>
                  <a:lnTo>
                    <a:pt x="12114" y="4156"/>
                  </a:lnTo>
                  <a:lnTo>
                    <a:pt x="12038" y="4074"/>
                  </a:lnTo>
                  <a:lnTo>
                    <a:pt x="11934" y="4002"/>
                  </a:lnTo>
                  <a:lnTo>
                    <a:pt x="11898" y="3970"/>
                  </a:lnTo>
                  <a:lnTo>
                    <a:pt x="11854" y="3938"/>
                  </a:lnTo>
                  <a:lnTo>
                    <a:pt x="11818" y="3898"/>
                  </a:lnTo>
                  <a:lnTo>
                    <a:pt x="11786" y="3872"/>
                  </a:lnTo>
                  <a:lnTo>
                    <a:pt x="11760" y="3846"/>
                  </a:lnTo>
                  <a:lnTo>
                    <a:pt x="11766" y="3856"/>
                  </a:lnTo>
                  <a:lnTo>
                    <a:pt x="11750" y="3842"/>
                  </a:lnTo>
                  <a:lnTo>
                    <a:pt x="11722" y="3832"/>
                  </a:lnTo>
                  <a:lnTo>
                    <a:pt x="11694" y="3818"/>
                  </a:lnTo>
                  <a:lnTo>
                    <a:pt x="11676" y="3796"/>
                  </a:lnTo>
                  <a:lnTo>
                    <a:pt x="11622" y="3764"/>
                  </a:lnTo>
                  <a:lnTo>
                    <a:pt x="11588" y="3740"/>
                  </a:lnTo>
                  <a:lnTo>
                    <a:pt x="11550" y="3732"/>
                  </a:lnTo>
                  <a:lnTo>
                    <a:pt x="11512" y="3728"/>
                  </a:lnTo>
                  <a:lnTo>
                    <a:pt x="11480" y="3738"/>
                  </a:lnTo>
                  <a:lnTo>
                    <a:pt x="11442" y="3734"/>
                  </a:lnTo>
                  <a:lnTo>
                    <a:pt x="11404" y="3714"/>
                  </a:lnTo>
                  <a:lnTo>
                    <a:pt x="11352" y="3696"/>
                  </a:lnTo>
                  <a:lnTo>
                    <a:pt x="11302" y="3682"/>
                  </a:lnTo>
                  <a:lnTo>
                    <a:pt x="11278" y="3686"/>
                  </a:lnTo>
                  <a:lnTo>
                    <a:pt x="11220" y="3706"/>
                  </a:lnTo>
                  <a:lnTo>
                    <a:pt x="11170" y="3710"/>
                  </a:lnTo>
                  <a:lnTo>
                    <a:pt x="11110" y="3744"/>
                  </a:lnTo>
                  <a:lnTo>
                    <a:pt x="11052" y="3764"/>
                  </a:lnTo>
                  <a:lnTo>
                    <a:pt x="11040" y="3790"/>
                  </a:lnTo>
                  <a:lnTo>
                    <a:pt x="11042" y="3814"/>
                  </a:lnTo>
                  <a:lnTo>
                    <a:pt x="11028" y="3862"/>
                  </a:lnTo>
                  <a:lnTo>
                    <a:pt x="11038" y="3888"/>
                  </a:lnTo>
                  <a:lnTo>
                    <a:pt x="11052" y="3898"/>
                  </a:lnTo>
                  <a:lnTo>
                    <a:pt x="11084" y="3884"/>
                  </a:lnTo>
                  <a:lnTo>
                    <a:pt x="11104" y="3882"/>
                  </a:lnTo>
                  <a:lnTo>
                    <a:pt x="11120" y="3886"/>
                  </a:lnTo>
                  <a:lnTo>
                    <a:pt x="11158" y="3940"/>
                  </a:lnTo>
                  <a:lnTo>
                    <a:pt x="11182" y="3958"/>
                  </a:lnTo>
                  <a:lnTo>
                    <a:pt x="11190" y="3968"/>
                  </a:lnTo>
                  <a:lnTo>
                    <a:pt x="11180" y="4024"/>
                  </a:lnTo>
                  <a:lnTo>
                    <a:pt x="11158" y="4048"/>
                  </a:lnTo>
                  <a:lnTo>
                    <a:pt x="11170" y="4084"/>
                  </a:lnTo>
                  <a:lnTo>
                    <a:pt x="11192" y="4128"/>
                  </a:lnTo>
                  <a:lnTo>
                    <a:pt x="11218" y="4186"/>
                  </a:lnTo>
                  <a:lnTo>
                    <a:pt x="11220" y="4210"/>
                  </a:lnTo>
                  <a:lnTo>
                    <a:pt x="11220" y="4238"/>
                  </a:lnTo>
                  <a:lnTo>
                    <a:pt x="11230" y="4264"/>
                  </a:lnTo>
                  <a:lnTo>
                    <a:pt x="11252" y="4288"/>
                  </a:lnTo>
                  <a:lnTo>
                    <a:pt x="11260" y="4302"/>
                  </a:lnTo>
                  <a:lnTo>
                    <a:pt x="11202" y="4376"/>
                  </a:lnTo>
                  <a:lnTo>
                    <a:pt x="11188" y="4400"/>
                  </a:lnTo>
                  <a:lnTo>
                    <a:pt x="11166" y="4408"/>
                  </a:lnTo>
                  <a:lnTo>
                    <a:pt x="11100" y="4388"/>
                  </a:lnTo>
                  <a:lnTo>
                    <a:pt x="11020" y="4374"/>
                  </a:lnTo>
                  <a:lnTo>
                    <a:pt x="10978" y="4358"/>
                  </a:lnTo>
                  <a:lnTo>
                    <a:pt x="10954" y="4356"/>
                  </a:lnTo>
                  <a:lnTo>
                    <a:pt x="10954" y="4356"/>
                  </a:lnTo>
                  <a:lnTo>
                    <a:pt x="10938" y="4352"/>
                  </a:lnTo>
                  <a:lnTo>
                    <a:pt x="10920" y="4368"/>
                  </a:lnTo>
                  <a:lnTo>
                    <a:pt x="10890" y="4380"/>
                  </a:lnTo>
                  <a:lnTo>
                    <a:pt x="10840" y="4376"/>
                  </a:lnTo>
                  <a:lnTo>
                    <a:pt x="10784" y="4352"/>
                  </a:lnTo>
                  <a:lnTo>
                    <a:pt x="10720" y="4336"/>
                  </a:lnTo>
                  <a:lnTo>
                    <a:pt x="10680" y="4356"/>
                  </a:lnTo>
                  <a:lnTo>
                    <a:pt x="10652" y="4394"/>
                  </a:lnTo>
                  <a:lnTo>
                    <a:pt x="10618" y="4462"/>
                  </a:lnTo>
                  <a:lnTo>
                    <a:pt x="10566" y="4476"/>
                  </a:lnTo>
                  <a:lnTo>
                    <a:pt x="10504" y="4498"/>
                  </a:lnTo>
                  <a:lnTo>
                    <a:pt x="10418" y="4548"/>
                  </a:lnTo>
                  <a:lnTo>
                    <a:pt x="10368" y="4536"/>
                  </a:lnTo>
                  <a:lnTo>
                    <a:pt x="10318" y="4544"/>
                  </a:lnTo>
                  <a:lnTo>
                    <a:pt x="10280" y="4544"/>
                  </a:lnTo>
                  <a:lnTo>
                    <a:pt x="10220" y="4532"/>
                  </a:lnTo>
                  <a:lnTo>
                    <a:pt x="10148" y="4530"/>
                  </a:lnTo>
                  <a:lnTo>
                    <a:pt x="10072" y="4504"/>
                  </a:lnTo>
                  <a:lnTo>
                    <a:pt x="10018" y="4464"/>
                  </a:lnTo>
                  <a:lnTo>
                    <a:pt x="9964" y="4452"/>
                  </a:lnTo>
                  <a:lnTo>
                    <a:pt x="9912" y="4444"/>
                  </a:lnTo>
                  <a:lnTo>
                    <a:pt x="9852" y="4422"/>
                  </a:lnTo>
                  <a:lnTo>
                    <a:pt x="9832" y="4414"/>
                  </a:lnTo>
                  <a:lnTo>
                    <a:pt x="9828" y="4414"/>
                  </a:lnTo>
                  <a:lnTo>
                    <a:pt x="9792" y="4394"/>
                  </a:lnTo>
                  <a:lnTo>
                    <a:pt x="9672" y="4366"/>
                  </a:lnTo>
                  <a:lnTo>
                    <a:pt x="9602" y="4358"/>
                  </a:lnTo>
                  <a:lnTo>
                    <a:pt x="9562" y="4386"/>
                  </a:lnTo>
                  <a:lnTo>
                    <a:pt x="9524" y="4420"/>
                  </a:lnTo>
                  <a:lnTo>
                    <a:pt x="9474" y="4436"/>
                  </a:lnTo>
                  <a:lnTo>
                    <a:pt x="9392" y="4422"/>
                  </a:lnTo>
                  <a:lnTo>
                    <a:pt x="9324" y="4394"/>
                  </a:lnTo>
                  <a:lnTo>
                    <a:pt x="9276" y="4368"/>
                  </a:lnTo>
                  <a:lnTo>
                    <a:pt x="9264" y="4368"/>
                  </a:lnTo>
                  <a:lnTo>
                    <a:pt x="9240" y="4328"/>
                  </a:lnTo>
                  <a:lnTo>
                    <a:pt x="9194" y="4272"/>
                  </a:lnTo>
                  <a:lnTo>
                    <a:pt x="9154" y="4240"/>
                  </a:lnTo>
                  <a:lnTo>
                    <a:pt x="9110" y="4232"/>
                  </a:lnTo>
                  <a:lnTo>
                    <a:pt x="9056" y="4230"/>
                  </a:lnTo>
                  <a:lnTo>
                    <a:pt x="9002" y="4222"/>
                  </a:lnTo>
                  <a:lnTo>
                    <a:pt x="8962" y="4196"/>
                  </a:lnTo>
                  <a:lnTo>
                    <a:pt x="8874" y="4184"/>
                  </a:lnTo>
                  <a:lnTo>
                    <a:pt x="8830" y="4164"/>
                  </a:lnTo>
                  <a:lnTo>
                    <a:pt x="8784" y="4156"/>
                  </a:lnTo>
                  <a:lnTo>
                    <a:pt x="8758" y="4162"/>
                  </a:lnTo>
                  <a:lnTo>
                    <a:pt x="8754" y="4194"/>
                  </a:lnTo>
                  <a:lnTo>
                    <a:pt x="8734" y="4226"/>
                  </a:lnTo>
                  <a:lnTo>
                    <a:pt x="8722" y="4258"/>
                  </a:lnTo>
                  <a:lnTo>
                    <a:pt x="8706" y="4290"/>
                  </a:lnTo>
                  <a:lnTo>
                    <a:pt x="8724" y="4324"/>
                  </a:lnTo>
                  <a:lnTo>
                    <a:pt x="8752" y="4360"/>
                  </a:lnTo>
                  <a:lnTo>
                    <a:pt x="8790" y="4386"/>
                  </a:lnTo>
                  <a:lnTo>
                    <a:pt x="8810" y="4418"/>
                  </a:lnTo>
                  <a:lnTo>
                    <a:pt x="8808" y="4452"/>
                  </a:lnTo>
                  <a:lnTo>
                    <a:pt x="8820" y="4482"/>
                  </a:lnTo>
                  <a:lnTo>
                    <a:pt x="8840" y="4502"/>
                  </a:lnTo>
                  <a:lnTo>
                    <a:pt x="8850" y="4518"/>
                  </a:lnTo>
                  <a:lnTo>
                    <a:pt x="8836" y="4532"/>
                  </a:lnTo>
                  <a:lnTo>
                    <a:pt x="8762" y="4546"/>
                  </a:lnTo>
                  <a:lnTo>
                    <a:pt x="8668" y="4552"/>
                  </a:lnTo>
                  <a:lnTo>
                    <a:pt x="8630" y="4540"/>
                  </a:lnTo>
                  <a:lnTo>
                    <a:pt x="8542" y="4564"/>
                  </a:lnTo>
                  <a:lnTo>
                    <a:pt x="8502" y="4562"/>
                  </a:lnTo>
                  <a:lnTo>
                    <a:pt x="8484" y="4548"/>
                  </a:lnTo>
                  <a:lnTo>
                    <a:pt x="8386" y="4492"/>
                  </a:lnTo>
                  <a:lnTo>
                    <a:pt x="8346" y="4490"/>
                  </a:lnTo>
                  <a:lnTo>
                    <a:pt x="8304" y="4498"/>
                  </a:lnTo>
                  <a:lnTo>
                    <a:pt x="8270" y="4508"/>
                  </a:lnTo>
                  <a:lnTo>
                    <a:pt x="8230" y="4488"/>
                  </a:lnTo>
                  <a:lnTo>
                    <a:pt x="8188" y="4478"/>
                  </a:lnTo>
                  <a:lnTo>
                    <a:pt x="8138" y="4474"/>
                  </a:lnTo>
                  <a:lnTo>
                    <a:pt x="8094" y="4482"/>
                  </a:lnTo>
                  <a:lnTo>
                    <a:pt x="8052" y="4508"/>
                  </a:lnTo>
                  <a:lnTo>
                    <a:pt x="7980" y="4538"/>
                  </a:lnTo>
                  <a:lnTo>
                    <a:pt x="7948" y="4584"/>
                  </a:lnTo>
                  <a:lnTo>
                    <a:pt x="7910" y="4614"/>
                  </a:lnTo>
                  <a:lnTo>
                    <a:pt x="7886" y="4648"/>
                  </a:lnTo>
                  <a:lnTo>
                    <a:pt x="7856" y="4678"/>
                  </a:lnTo>
                  <a:lnTo>
                    <a:pt x="7824" y="4690"/>
                  </a:lnTo>
                  <a:lnTo>
                    <a:pt x="7792" y="4708"/>
                  </a:lnTo>
                  <a:lnTo>
                    <a:pt x="7776" y="4746"/>
                  </a:lnTo>
                  <a:lnTo>
                    <a:pt x="7772" y="4792"/>
                  </a:lnTo>
                  <a:lnTo>
                    <a:pt x="7772" y="4792"/>
                  </a:lnTo>
                  <a:lnTo>
                    <a:pt x="7762" y="4794"/>
                  </a:lnTo>
                  <a:lnTo>
                    <a:pt x="7744" y="4828"/>
                  </a:lnTo>
                  <a:lnTo>
                    <a:pt x="7684" y="4816"/>
                  </a:lnTo>
                  <a:lnTo>
                    <a:pt x="7684" y="4816"/>
                  </a:lnTo>
                  <a:lnTo>
                    <a:pt x="7682" y="4762"/>
                  </a:lnTo>
                  <a:lnTo>
                    <a:pt x="7668" y="4748"/>
                  </a:lnTo>
                  <a:lnTo>
                    <a:pt x="7648" y="4738"/>
                  </a:lnTo>
                  <a:lnTo>
                    <a:pt x="7618" y="4712"/>
                  </a:lnTo>
                  <a:lnTo>
                    <a:pt x="7600" y="4702"/>
                  </a:lnTo>
                  <a:lnTo>
                    <a:pt x="7584" y="4690"/>
                  </a:lnTo>
                  <a:lnTo>
                    <a:pt x="7572" y="4672"/>
                  </a:lnTo>
                  <a:lnTo>
                    <a:pt x="7546" y="4686"/>
                  </a:lnTo>
                  <a:lnTo>
                    <a:pt x="7542" y="4700"/>
                  </a:lnTo>
                  <a:lnTo>
                    <a:pt x="7542" y="4716"/>
                  </a:lnTo>
                  <a:lnTo>
                    <a:pt x="7526" y="4716"/>
                  </a:lnTo>
                  <a:lnTo>
                    <a:pt x="7506" y="4714"/>
                  </a:lnTo>
                  <a:lnTo>
                    <a:pt x="7486" y="4710"/>
                  </a:lnTo>
                  <a:lnTo>
                    <a:pt x="7468" y="4702"/>
                  </a:lnTo>
                  <a:lnTo>
                    <a:pt x="7430" y="4700"/>
                  </a:lnTo>
                  <a:lnTo>
                    <a:pt x="7412" y="4694"/>
                  </a:lnTo>
                  <a:lnTo>
                    <a:pt x="7384" y="4664"/>
                  </a:lnTo>
                  <a:lnTo>
                    <a:pt x="7366" y="4654"/>
                  </a:lnTo>
                  <a:lnTo>
                    <a:pt x="7348" y="4648"/>
                  </a:lnTo>
                  <a:lnTo>
                    <a:pt x="7340" y="4632"/>
                  </a:lnTo>
                  <a:lnTo>
                    <a:pt x="7326" y="4620"/>
                  </a:lnTo>
                  <a:lnTo>
                    <a:pt x="7270" y="4600"/>
                  </a:lnTo>
                  <a:lnTo>
                    <a:pt x="7252" y="4598"/>
                  </a:lnTo>
                  <a:lnTo>
                    <a:pt x="7236" y="4584"/>
                  </a:lnTo>
                  <a:lnTo>
                    <a:pt x="7226" y="4570"/>
                  </a:lnTo>
                  <a:lnTo>
                    <a:pt x="7222" y="4552"/>
                  </a:lnTo>
                  <a:lnTo>
                    <a:pt x="7208" y="4538"/>
                  </a:lnTo>
                  <a:lnTo>
                    <a:pt x="7190" y="4534"/>
                  </a:lnTo>
                  <a:lnTo>
                    <a:pt x="7156" y="4510"/>
                  </a:lnTo>
                  <a:lnTo>
                    <a:pt x="7136" y="4504"/>
                  </a:lnTo>
                  <a:lnTo>
                    <a:pt x="7122" y="4492"/>
                  </a:lnTo>
                  <a:lnTo>
                    <a:pt x="7102" y="4484"/>
                  </a:lnTo>
                  <a:lnTo>
                    <a:pt x="7066" y="4476"/>
                  </a:lnTo>
                  <a:lnTo>
                    <a:pt x="7056" y="4486"/>
                  </a:lnTo>
                  <a:lnTo>
                    <a:pt x="7056" y="4502"/>
                  </a:lnTo>
                  <a:lnTo>
                    <a:pt x="7040" y="4504"/>
                  </a:lnTo>
                  <a:lnTo>
                    <a:pt x="7022" y="4502"/>
                  </a:lnTo>
                  <a:lnTo>
                    <a:pt x="7016" y="4516"/>
                  </a:lnTo>
                  <a:lnTo>
                    <a:pt x="7018" y="4530"/>
                  </a:lnTo>
                  <a:lnTo>
                    <a:pt x="6982" y="4530"/>
                  </a:lnTo>
                  <a:lnTo>
                    <a:pt x="6970" y="4538"/>
                  </a:lnTo>
                  <a:lnTo>
                    <a:pt x="6930" y="4530"/>
                  </a:lnTo>
                  <a:lnTo>
                    <a:pt x="6880" y="4538"/>
                  </a:lnTo>
                  <a:lnTo>
                    <a:pt x="6858" y="4512"/>
                  </a:lnTo>
                  <a:lnTo>
                    <a:pt x="6844" y="4512"/>
                  </a:lnTo>
                  <a:lnTo>
                    <a:pt x="6830" y="4498"/>
                  </a:lnTo>
                  <a:lnTo>
                    <a:pt x="6830" y="4484"/>
                  </a:lnTo>
                  <a:lnTo>
                    <a:pt x="6792" y="4468"/>
                  </a:lnTo>
                  <a:lnTo>
                    <a:pt x="6774" y="4466"/>
                  </a:lnTo>
                  <a:lnTo>
                    <a:pt x="6756" y="4454"/>
                  </a:lnTo>
                  <a:lnTo>
                    <a:pt x="6740" y="4458"/>
                  </a:lnTo>
                  <a:lnTo>
                    <a:pt x="6732" y="4486"/>
                  </a:lnTo>
                  <a:lnTo>
                    <a:pt x="6738" y="4500"/>
                  </a:lnTo>
                  <a:lnTo>
                    <a:pt x="6740" y="4516"/>
                  </a:lnTo>
                  <a:lnTo>
                    <a:pt x="6720" y="4540"/>
                  </a:lnTo>
                  <a:lnTo>
                    <a:pt x="6268" y="4138"/>
                  </a:lnTo>
                  <a:lnTo>
                    <a:pt x="6060" y="4026"/>
                  </a:lnTo>
                  <a:lnTo>
                    <a:pt x="6048" y="4022"/>
                  </a:lnTo>
                  <a:lnTo>
                    <a:pt x="6036" y="4010"/>
                  </a:lnTo>
                  <a:lnTo>
                    <a:pt x="6032" y="3996"/>
                  </a:lnTo>
                  <a:lnTo>
                    <a:pt x="6048" y="3996"/>
                  </a:lnTo>
                  <a:lnTo>
                    <a:pt x="6062" y="3990"/>
                  </a:lnTo>
                  <a:lnTo>
                    <a:pt x="6064" y="3976"/>
                  </a:lnTo>
                  <a:lnTo>
                    <a:pt x="6056" y="3962"/>
                  </a:lnTo>
                  <a:lnTo>
                    <a:pt x="6042" y="3950"/>
                  </a:lnTo>
                  <a:lnTo>
                    <a:pt x="6022" y="3966"/>
                  </a:lnTo>
                  <a:lnTo>
                    <a:pt x="5990" y="3970"/>
                  </a:lnTo>
                  <a:lnTo>
                    <a:pt x="5988" y="3984"/>
                  </a:lnTo>
                  <a:lnTo>
                    <a:pt x="5976" y="3990"/>
                  </a:lnTo>
                  <a:lnTo>
                    <a:pt x="5944" y="3998"/>
                  </a:lnTo>
                  <a:lnTo>
                    <a:pt x="5926" y="3998"/>
                  </a:lnTo>
                  <a:lnTo>
                    <a:pt x="5918" y="4006"/>
                  </a:lnTo>
                  <a:lnTo>
                    <a:pt x="5918" y="4034"/>
                  </a:lnTo>
                  <a:lnTo>
                    <a:pt x="5902" y="4056"/>
                  </a:lnTo>
                  <a:lnTo>
                    <a:pt x="5872" y="4062"/>
                  </a:lnTo>
                  <a:lnTo>
                    <a:pt x="5860" y="4086"/>
                  </a:lnTo>
                  <a:lnTo>
                    <a:pt x="5844" y="4086"/>
                  </a:lnTo>
                  <a:lnTo>
                    <a:pt x="5840" y="4100"/>
                  </a:lnTo>
                  <a:lnTo>
                    <a:pt x="5852" y="4112"/>
                  </a:lnTo>
                  <a:lnTo>
                    <a:pt x="5834" y="4114"/>
                  </a:lnTo>
                  <a:lnTo>
                    <a:pt x="5818" y="4104"/>
                  </a:lnTo>
                  <a:lnTo>
                    <a:pt x="5802" y="4106"/>
                  </a:lnTo>
                  <a:lnTo>
                    <a:pt x="5784" y="4102"/>
                  </a:lnTo>
                  <a:lnTo>
                    <a:pt x="5758" y="4114"/>
                  </a:lnTo>
                  <a:lnTo>
                    <a:pt x="5752" y="4126"/>
                  </a:lnTo>
                  <a:lnTo>
                    <a:pt x="5736" y="4128"/>
                  </a:lnTo>
                  <a:lnTo>
                    <a:pt x="5722" y="4116"/>
                  </a:lnTo>
                  <a:lnTo>
                    <a:pt x="5712" y="4102"/>
                  </a:lnTo>
                  <a:lnTo>
                    <a:pt x="5710" y="4088"/>
                  </a:lnTo>
                  <a:lnTo>
                    <a:pt x="5714" y="4074"/>
                  </a:lnTo>
                  <a:lnTo>
                    <a:pt x="5724" y="4064"/>
                  </a:lnTo>
                  <a:lnTo>
                    <a:pt x="5738" y="4060"/>
                  </a:lnTo>
                  <a:lnTo>
                    <a:pt x="5732" y="4044"/>
                  </a:lnTo>
                  <a:lnTo>
                    <a:pt x="5722" y="4030"/>
                  </a:lnTo>
                  <a:lnTo>
                    <a:pt x="5708" y="4038"/>
                  </a:lnTo>
                  <a:lnTo>
                    <a:pt x="5706" y="4050"/>
                  </a:lnTo>
                  <a:lnTo>
                    <a:pt x="5690" y="4052"/>
                  </a:lnTo>
                  <a:lnTo>
                    <a:pt x="5672" y="4046"/>
                  </a:lnTo>
                  <a:lnTo>
                    <a:pt x="5654" y="4036"/>
                  </a:lnTo>
                  <a:lnTo>
                    <a:pt x="5636" y="4028"/>
                  </a:lnTo>
                  <a:lnTo>
                    <a:pt x="5600" y="4024"/>
                  </a:lnTo>
                  <a:lnTo>
                    <a:pt x="5588" y="4032"/>
                  </a:lnTo>
                  <a:lnTo>
                    <a:pt x="5604" y="4042"/>
                  </a:lnTo>
                  <a:lnTo>
                    <a:pt x="5616" y="4056"/>
                  </a:lnTo>
                  <a:lnTo>
                    <a:pt x="5580" y="4054"/>
                  </a:lnTo>
                  <a:lnTo>
                    <a:pt x="5576" y="4040"/>
                  </a:lnTo>
                  <a:lnTo>
                    <a:pt x="5576" y="4024"/>
                  </a:lnTo>
                  <a:lnTo>
                    <a:pt x="5560" y="4016"/>
                  </a:lnTo>
                  <a:lnTo>
                    <a:pt x="5548" y="4000"/>
                  </a:lnTo>
                  <a:lnTo>
                    <a:pt x="5536" y="3988"/>
                  </a:lnTo>
                  <a:lnTo>
                    <a:pt x="5518" y="3986"/>
                  </a:lnTo>
                  <a:lnTo>
                    <a:pt x="5524" y="4000"/>
                  </a:lnTo>
                  <a:lnTo>
                    <a:pt x="5526" y="4016"/>
                  </a:lnTo>
                  <a:lnTo>
                    <a:pt x="5510" y="4012"/>
                  </a:lnTo>
                  <a:lnTo>
                    <a:pt x="5494" y="4014"/>
                  </a:lnTo>
                  <a:lnTo>
                    <a:pt x="5494" y="4030"/>
                  </a:lnTo>
                  <a:lnTo>
                    <a:pt x="5478" y="4032"/>
                  </a:lnTo>
                  <a:lnTo>
                    <a:pt x="5460" y="4024"/>
                  </a:lnTo>
                  <a:lnTo>
                    <a:pt x="5430" y="4034"/>
                  </a:lnTo>
                  <a:lnTo>
                    <a:pt x="5420" y="4020"/>
                  </a:lnTo>
                  <a:lnTo>
                    <a:pt x="5404" y="4008"/>
                  </a:lnTo>
                  <a:lnTo>
                    <a:pt x="5412" y="3996"/>
                  </a:lnTo>
                  <a:lnTo>
                    <a:pt x="5414" y="3984"/>
                  </a:lnTo>
                  <a:lnTo>
                    <a:pt x="5398" y="3954"/>
                  </a:lnTo>
                  <a:lnTo>
                    <a:pt x="5402" y="3942"/>
                  </a:lnTo>
                  <a:lnTo>
                    <a:pt x="5368" y="3924"/>
                  </a:lnTo>
                  <a:lnTo>
                    <a:pt x="5356" y="3910"/>
                  </a:lnTo>
                  <a:lnTo>
                    <a:pt x="5352" y="3896"/>
                  </a:lnTo>
                  <a:lnTo>
                    <a:pt x="5336" y="3868"/>
                  </a:lnTo>
                  <a:lnTo>
                    <a:pt x="5322" y="3856"/>
                  </a:lnTo>
                  <a:lnTo>
                    <a:pt x="5306" y="3846"/>
                  </a:lnTo>
                  <a:lnTo>
                    <a:pt x="5288" y="3842"/>
                  </a:lnTo>
                  <a:lnTo>
                    <a:pt x="5256" y="3848"/>
                  </a:lnTo>
                  <a:lnTo>
                    <a:pt x="5248" y="3858"/>
                  </a:lnTo>
                  <a:lnTo>
                    <a:pt x="5236" y="3866"/>
                  </a:lnTo>
                  <a:lnTo>
                    <a:pt x="5202" y="3850"/>
                  </a:lnTo>
                  <a:lnTo>
                    <a:pt x="5188" y="3840"/>
                  </a:lnTo>
                  <a:lnTo>
                    <a:pt x="5168" y="3836"/>
                  </a:lnTo>
                  <a:lnTo>
                    <a:pt x="5154" y="3840"/>
                  </a:lnTo>
                  <a:lnTo>
                    <a:pt x="5136" y="3836"/>
                  </a:lnTo>
                  <a:lnTo>
                    <a:pt x="5120" y="3840"/>
                  </a:lnTo>
                  <a:lnTo>
                    <a:pt x="5104" y="3830"/>
                  </a:lnTo>
                  <a:lnTo>
                    <a:pt x="5088" y="3832"/>
                  </a:lnTo>
                  <a:lnTo>
                    <a:pt x="5084" y="3844"/>
                  </a:lnTo>
                  <a:lnTo>
                    <a:pt x="5068" y="3846"/>
                  </a:lnTo>
                  <a:lnTo>
                    <a:pt x="5058" y="3854"/>
                  </a:lnTo>
                  <a:lnTo>
                    <a:pt x="5054" y="3866"/>
                  </a:lnTo>
                  <a:lnTo>
                    <a:pt x="5040" y="3870"/>
                  </a:lnTo>
                  <a:lnTo>
                    <a:pt x="5022" y="3870"/>
                  </a:lnTo>
                  <a:lnTo>
                    <a:pt x="5026" y="3884"/>
                  </a:lnTo>
                  <a:lnTo>
                    <a:pt x="5034" y="3898"/>
                  </a:lnTo>
                  <a:lnTo>
                    <a:pt x="5030" y="3908"/>
                  </a:lnTo>
                  <a:lnTo>
                    <a:pt x="5016" y="3914"/>
                  </a:lnTo>
                  <a:lnTo>
                    <a:pt x="4998" y="3914"/>
                  </a:lnTo>
                  <a:lnTo>
                    <a:pt x="4990" y="3924"/>
                  </a:lnTo>
                  <a:lnTo>
                    <a:pt x="4936" y="3942"/>
                  </a:lnTo>
                  <a:lnTo>
                    <a:pt x="4874" y="3952"/>
                  </a:lnTo>
                  <a:lnTo>
                    <a:pt x="4804" y="3974"/>
                  </a:lnTo>
                  <a:lnTo>
                    <a:pt x="4806" y="3972"/>
                  </a:lnTo>
                  <a:lnTo>
                    <a:pt x="4772" y="3984"/>
                  </a:lnTo>
                  <a:lnTo>
                    <a:pt x="4754" y="3978"/>
                  </a:lnTo>
                  <a:lnTo>
                    <a:pt x="4738" y="3982"/>
                  </a:lnTo>
                  <a:lnTo>
                    <a:pt x="4726" y="3990"/>
                  </a:lnTo>
                  <a:lnTo>
                    <a:pt x="4724" y="4004"/>
                  </a:lnTo>
                  <a:lnTo>
                    <a:pt x="4728" y="4018"/>
                  </a:lnTo>
                  <a:lnTo>
                    <a:pt x="4724" y="4032"/>
                  </a:lnTo>
                  <a:lnTo>
                    <a:pt x="4706" y="4028"/>
                  </a:lnTo>
                  <a:lnTo>
                    <a:pt x="4690" y="4030"/>
                  </a:lnTo>
                  <a:lnTo>
                    <a:pt x="4676" y="4036"/>
                  </a:lnTo>
                  <a:lnTo>
                    <a:pt x="4660" y="4036"/>
                  </a:lnTo>
                  <a:lnTo>
                    <a:pt x="4650" y="4046"/>
                  </a:lnTo>
                  <a:lnTo>
                    <a:pt x="4620" y="4054"/>
                  </a:lnTo>
                  <a:lnTo>
                    <a:pt x="4620" y="4068"/>
                  </a:lnTo>
                  <a:lnTo>
                    <a:pt x="4602" y="4070"/>
                  </a:lnTo>
                  <a:lnTo>
                    <a:pt x="4586" y="4060"/>
                  </a:lnTo>
                  <a:lnTo>
                    <a:pt x="4568" y="4056"/>
                  </a:lnTo>
                  <a:lnTo>
                    <a:pt x="4548" y="4076"/>
                  </a:lnTo>
                  <a:lnTo>
                    <a:pt x="4534" y="4080"/>
                  </a:lnTo>
                  <a:lnTo>
                    <a:pt x="4524" y="4092"/>
                  </a:lnTo>
                  <a:lnTo>
                    <a:pt x="4490" y="4092"/>
                  </a:lnTo>
                  <a:lnTo>
                    <a:pt x="4476" y="4096"/>
                  </a:lnTo>
                  <a:lnTo>
                    <a:pt x="4464" y="4120"/>
                  </a:lnTo>
                  <a:lnTo>
                    <a:pt x="4450" y="4110"/>
                  </a:lnTo>
                  <a:lnTo>
                    <a:pt x="4398" y="4110"/>
                  </a:lnTo>
                  <a:lnTo>
                    <a:pt x="4384" y="4116"/>
                  </a:lnTo>
                  <a:lnTo>
                    <a:pt x="4366" y="4114"/>
                  </a:lnTo>
                  <a:lnTo>
                    <a:pt x="4350" y="4118"/>
                  </a:lnTo>
                  <a:lnTo>
                    <a:pt x="4336" y="4106"/>
                  </a:lnTo>
                  <a:lnTo>
                    <a:pt x="4318" y="4106"/>
                  </a:lnTo>
                  <a:lnTo>
                    <a:pt x="4314" y="4120"/>
                  </a:lnTo>
                  <a:lnTo>
                    <a:pt x="4280" y="4122"/>
                  </a:lnTo>
                  <a:lnTo>
                    <a:pt x="4312" y="4142"/>
                  </a:lnTo>
                  <a:lnTo>
                    <a:pt x="4306" y="4154"/>
                  </a:lnTo>
                  <a:lnTo>
                    <a:pt x="4306" y="4168"/>
                  </a:lnTo>
                  <a:lnTo>
                    <a:pt x="4312" y="4184"/>
                  </a:lnTo>
                  <a:lnTo>
                    <a:pt x="4346" y="4182"/>
                  </a:lnTo>
                  <a:lnTo>
                    <a:pt x="4356" y="4174"/>
                  </a:lnTo>
                  <a:lnTo>
                    <a:pt x="4372" y="4182"/>
                  </a:lnTo>
                  <a:lnTo>
                    <a:pt x="4370" y="4196"/>
                  </a:lnTo>
                  <a:lnTo>
                    <a:pt x="4356" y="4202"/>
                  </a:lnTo>
                  <a:lnTo>
                    <a:pt x="4338" y="4202"/>
                  </a:lnTo>
                  <a:lnTo>
                    <a:pt x="4342" y="4218"/>
                  </a:lnTo>
                  <a:lnTo>
                    <a:pt x="4356" y="4230"/>
                  </a:lnTo>
                  <a:lnTo>
                    <a:pt x="4426" y="4236"/>
                  </a:lnTo>
                  <a:lnTo>
                    <a:pt x="4462" y="4248"/>
                  </a:lnTo>
                  <a:lnTo>
                    <a:pt x="4476" y="4260"/>
                  </a:lnTo>
                  <a:lnTo>
                    <a:pt x="4474" y="4276"/>
                  </a:lnTo>
                  <a:lnTo>
                    <a:pt x="4460" y="4280"/>
                  </a:lnTo>
                  <a:lnTo>
                    <a:pt x="4426" y="4282"/>
                  </a:lnTo>
                  <a:lnTo>
                    <a:pt x="4408" y="4280"/>
                  </a:lnTo>
                  <a:lnTo>
                    <a:pt x="4392" y="4284"/>
                  </a:lnTo>
                  <a:lnTo>
                    <a:pt x="4374" y="4280"/>
                  </a:lnTo>
                  <a:lnTo>
                    <a:pt x="4356" y="4284"/>
                  </a:lnTo>
                  <a:lnTo>
                    <a:pt x="4350" y="4294"/>
                  </a:lnTo>
                  <a:lnTo>
                    <a:pt x="4350" y="4308"/>
                  </a:lnTo>
                  <a:lnTo>
                    <a:pt x="4340" y="4320"/>
                  </a:lnTo>
                  <a:lnTo>
                    <a:pt x="4326" y="4326"/>
                  </a:lnTo>
                  <a:lnTo>
                    <a:pt x="4384" y="4376"/>
                  </a:lnTo>
                  <a:lnTo>
                    <a:pt x="4388" y="4390"/>
                  </a:lnTo>
                  <a:lnTo>
                    <a:pt x="4384" y="4404"/>
                  </a:lnTo>
                  <a:lnTo>
                    <a:pt x="4360" y="4422"/>
                  </a:lnTo>
                  <a:lnTo>
                    <a:pt x="4332" y="4434"/>
                  </a:lnTo>
                  <a:lnTo>
                    <a:pt x="4312" y="4454"/>
                  </a:lnTo>
                  <a:lnTo>
                    <a:pt x="4298" y="4460"/>
                  </a:lnTo>
                  <a:lnTo>
                    <a:pt x="4302" y="4476"/>
                  </a:lnTo>
                  <a:lnTo>
                    <a:pt x="4338" y="4480"/>
                  </a:lnTo>
                  <a:lnTo>
                    <a:pt x="4352" y="4492"/>
                  </a:lnTo>
                  <a:lnTo>
                    <a:pt x="4356" y="4508"/>
                  </a:lnTo>
                  <a:lnTo>
                    <a:pt x="4374" y="4514"/>
                  </a:lnTo>
                  <a:lnTo>
                    <a:pt x="4412" y="4518"/>
                  </a:lnTo>
                  <a:lnTo>
                    <a:pt x="4424" y="4528"/>
                  </a:lnTo>
                  <a:lnTo>
                    <a:pt x="4442" y="4542"/>
                  </a:lnTo>
                  <a:lnTo>
                    <a:pt x="4478" y="4544"/>
                  </a:lnTo>
                  <a:lnTo>
                    <a:pt x="4506" y="4544"/>
                  </a:lnTo>
                  <a:lnTo>
                    <a:pt x="4514" y="4550"/>
                  </a:lnTo>
                  <a:lnTo>
                    <a:pt x="4530" y="4562"/>
                  </a:lnTo>
                  <a:lnTo>
                    <a:pt x="4528" y="4576"/>
                  </a:lnTo>
                  <a:lnTo>
                    <a:pt x="4528" y="4650"/>
                  </a:lnTo>
                  <a:lnTo>
                    <a:pt x="4498" y="4664"/>
                  </a:lnTo>
                  <a:lnTo>
                    <a:pt x="4488" y="4674"/>
                  </a:lnTo>
                  <a:lnTo>
                    <a:pt x="4456" y="4680"/>
                  </a:lnTo>
                  <a:lnTo>
                    <a:pt x="4420" y="4682"/>
                  </a:lnTo>
                  <a:lnTo>
                    <a:pt x="4390" y="4658"/>
                  </a:lnTo>
                  <a:lnTo>
                    <a:pt x="4372" y="4652"/>
                  </a:lnTo>
                  <a:lnTo>
                    <a:pt x="4366" y="4666"/>
                  </a:lnTo>
                  <a:lnTo>
                    <a:pt x="4360" y="4696"/>
                  </a:lnTo>
                  <a:lnTo>
                    <a:pt x="4350" y="4706"/>
                  </a:lnTo>
                  <a:lnTo>
                    <a:pt x="4314" y="4710"/>
                  </a:lnTo>
                  <a:lnTo>
                    <a:pt x="4300" y="4688"/>
                  </a:lnTo>
                  <a:lnTo>
                    <a:pt x="4302" y="4688"/>
                  </a:lnTo>
                  <a:lnTo>
                    <a:pt x="4268" y="4684"/>
                  </a:lnTo>
                  <a:lnTo>
                    <a:pt x="4234" y="4688"/>
                  </a:lnTo>
                  <a:lnTo>
                    <a:pt x="4218" y="4676"/>
                  </a:lnTo>
                  <a:lnTo>
                    <a:pt x="4202" y="4666"/>
                  </a:lnTo>
                  <a:lnTo>
                    <a:pt x="4188" y="4634"/>
                  </a:lnTo>
                  <a:lnTo>
                    <a:pt x="4174" y="4622"/>
                  </a:lnTo>
                  <a:lnTo>
                    <a:pt x="4138" y="4614"/>
                  </a:lnTo>
                  <a:lnTo>
                    <a:pt x="4124" y="4620"/>
                  </a:lnTo>
                  <a:lnTo>
                    <a:pt x="4090" y="4622"/>
                  </a:lnTo>
                  <a:lnTo>
                    <a:pt x="4088" y="4638"/>
                  </a:lnTo>
                  <a:lnTo>
                    <a:pt x="4062" y="4654"/>
                  </a:lnTo>
                  <a:lnTo>
                    <a:pt x="4030" y="4634"/>
                  </a:lnTo>
                  <a:lnTo>
                    <a:pt x="4012" y="4626"/>
                  </a:lnTo>
                  <a:lnTo>
                    <a:pt x="4000" y="4634"/>
                  </a:lnTo>
                  <a:lnTo>
                    <a:pt x="3982" y="4632"/>
                  </a:lnTo>
                  <a:lnTo>
                    <a:pt x="3964" y="4634"/>
                  </a:lnTo>
                  <a:lnTo>
                    <a:pt x="3968" y="4648"/>
                  </a:lnTo>
                  <a:lnTo>
                    <a:pt x="3950" y="4644"/>
                  </a:lnTo>
                  <a:lnTo>
                    <a:pt x="3934" y="4648"/>
                  </a:lnTo>
                  <a:lnTo>
                    <a:pt x="3924" y="4658"/>
                  </a:lnTo>
                  <a:lnTo>
                    <a:pt x="3912" y="4666"/>
                  </a:lnTo>
                  <a:lnTo>
                    <a:pt x="3918" y="4682"/>
                  </a:lnTo>
                  <a:lnTo>
                    <a:pt x="3884" y="4712"/>
                  </a:lnTo>
                  <a:lnTo>
                    <a:pt x="3868" y="4716"/>
                  </a:lnTo>
                  <a:lnTo>
                    <a:pt x="3832" y="4702"/>
                  </a:lnTo>
                  <a:lnTo>
                    <a:pt x="3796" y="4692"/>
                  </a:lnTo>
                  <a:lnTo>
                    <a:pt x="3778" y="4682"/>
                  </a:lnTo>
                  <a:lnTo>
                    <a:pt x="3768" y="4668"/>
                  </a:lnTo>
                  <a:lnTo>
                    <a:pt x="3752" y="4658"/>
                  </a:lnTo>
                  <a:lnTo>
                    <a:pt x="3740" y="4644"/>
                  </a:lnTo>
                  <a:lnTo>
                    <a:pt x="3724" y="4646"/>
                  </a:lnTo>
                  <a:lnTo>
                    <a:pt x="3718" y="4658"/>
                  </a:lnTo>
                  <a:lnTo>
                    <a:pt x="3730" y="4672"/>
                  </a:lnTo>
                  <a:lnTo>
                    <a:pt x="3734" y="4688"/>
                  </a:lnTo>
                  <a:lnTo>
                    <a:pt x="3742" y="4704"/>
                  </a:lnTo>
                  <a:lnTo>
                    <a:pt x="3746" y="4718"/>
                  </a:lnTo>
                  <a:lnTo>
                    <a:pt x="3732" y="4724"/>
                  </a:lnTo>
                  <a:lnTo>
                    <a:pt x="3718" y="4712"/>
                  </a:lnTo>
                  <a:lnTo>
                    <a:pt x="3710" y="4696"/>
                  </a:lnTo>
                  <a:lnTo>
                    <a:pt x="3708" y="4680"/>
                  </a:lnTo>
                  <a:lnTo>
                    <a:pt x="3676" y="4658"/>
                  </a:lnTo>
                  <a:lnTo>
                    <a:pt x="3666" y="4642"/>
                  </a:lnTo>
                  <a:lnTo>
                    <a:pt x="3652" y="4632"/>
                  </a:lnTo>
                  <a:lnTo>
                    <a:pt x="3598" y="4608"/>
                  </a:lnTo>
                  <a:lnTo>
                    <a:pt x="3576" y="4580"/>
                  </a:lnTo>
                  <a:lnTo>
                    <a:pt x="3562" y="4570"/>
                  </a:lnTo>
                  <a:lnTo>
                    <a:pt x="3544" y="4562"/>
                  </a:lnTo>
                  <a:lnTo>
                    <a:pt x="3526" y="4562"/>
                  </a:lnTo>
                  <a:lnTo>
                    <a:pt x="3494" y="4570"/>
                  </a:lnTo>
                  <a:lnTo>
                    <a:pt x="3476" y="4566"/>
                  </a:lnTo>
                  <a:lnTo>
                    <a:pt x="3460" y="4566"/>
                  </a:lnTo>
                  <a:lnTo>
                    <a:pt x="3444" y="4572"/>
                  </a:lnTo>
                  <a:lnTo>
                    <a:pt x="3430" y="4562"/>
                  </a:lnTo>
                  <a:lnTo>
                    <a:pt x="3408" y="4532"/>
                  </a:lnTo>
                  <a:lnTo>
                    <a:pt x="3392" y="4532"/>
                  </a:lnTo>
                  <a:lnTo>
                    <a:pt x="3378" y="4540"/>
                  </a:lnTo>
                  <a:lnTo>
                    <a:pt x="3360" y="4538"/>
                  </a:lnTo>
                  <a:lnTo>
                    <a:pt x="3354" y="4552"/>
                  </a:lnTo>
                  <a:lnTo>
                    <a:pt x="3354" y="4568"/>
                  </a:lnTo>
                  <a:lnTo>
                    <a:pt x="3348" y="4582"/>
                  </a:lnTo>
                  <a:lnTo>
                    <a:pt x="3334" y="4570"/>
                  </a:lnTo>
                  <a:lnTo>
                    <a:pt x="3302" y="4578"/>
                  </a:lnTo>
                  <a:lnTo>
                    <a:pt x="3290" y="4564"/>
                  </a:lnTo>
                  <a:lnTo>
                    <a:pt x="3282" y="4550"/>
                  </a:lnTo>
                  <a:lnTo>
                    <a:pt x="3246" y="4550"/>
                  </a:lnTo>
                  <a:lnTo>
                    <a:pt x="3218" y="4560"/>
                  </a:lnTo>
                  <a:lnTo>
                    <a:pt x="3206" y="4570"/>
                  </a:lnTo>
                  <a:lnTo>
                    <a:pt x="3206" y="4586"/>
                  </a:lnTo>
                  <a:lnTo>
                    <a:pt x="3200" y="4598"/>
                  </a:lnTo>
                  <a:lnTo>
                    <a:pt x="3188" y="4608"/>
                  </a:lnTo>
                  <a:lnTo>
                    <a:pt x="3180" y="4620"/>
                  </a:lnTo>
                  <a:lnTo>
                    <a:pt x="3164" y="4624"/>
                  </a:lnTo>
                  <a:lnTo>
                    <a:pt x="3152" y="4632"/>
                  </a:lnTo>
                  <a:lnTo>
                    <a:pt x="3144" y="4646"/>
                  </a:lnTo>
                  <a:lnTo>
                    <a:pt x="3130" y="4652"/>
                  </a:lnTo>
                  <a:lnTo>
                    <a:pt x="3112" y="4650"/>
                  </a:lnTo>
                  <a:lnTo>
                    <a:pt x="3096" y="4654"/>
                  </a:lnTo>
                  <a:lnTo>
                    <a:pt x="3102" y="4670"/>
                  </a:lnTo>
                  <a:lnTo>
                    <a:pt x="3104" y="4686"/>
                  </a:lnTo>
                  <a:lnTo>
                    <a:pt x="3098" y="4698"/>
                  </a:lnTo>
                  <a:lnTo>
                    <a:pt x="3084" y="4706"/>
                  </a:lnTo>
                  <a:lnTo>
                    <a:pt x="3050" y="4736"/>
                  </a:lnTo>
                  <a:lnTo>
                    <a:pt x="3034" y="4742"/>
                  </a:lnTo>
                  <a:lnTo>
                    <a:pt x="3016" y="4740"/>
                  </a:lnTo>
                  <a:lnTo>
                    <a:pt x="3040" y="4768"/>
                  </a:lnTo>
                  <a:lnTo>
                    <a:pt x="3062" y="4814"/>
                  </a:lnTo>
                  <a:lnTo>
                    <a:pt x="3074" y="4828"/>
                  </a:lnTo>
                  <a:lnTo>
                    <a:pt x="3084" y="4844"/>
                  </a:lnTo>
                  <a:lnTo>
                    <a:pt x="3036" y="4882"/>
                  </a:lnTo>
                  <a:lnTo>
                    <a:pt x="3018" y="4878"/>
                  </a:lnTo>
                  <a:lnTo>
                    <a:pt x="2958" y="4806"/>
                  </a:lnTo>
                  <a:lnTo>
                    <a:pt x="2926" y="4788"/>
                  </a:lnTo>
                  <a:lnTo>
                    <a:pt x="2916" y="4772"/>
                  </a:lnTo>
                  <a:lnTo>
                    <a:pt x="2898" y="4764"/>
                  </a:lnTo>
                  <a:lnTo>
                    <a:pt x="2890" y="4778"/>
                  </a:lnTo>
                  <a:lnTo>
                    <a:pt x="2888" y="4792"/>
                  </a:lnTo>
                  <a:lnTo>
                    <a:pt x="2892" y="4808"/>
                  </a:lnTo>
                  <a:lnTo>
                    <a:pt x="2890" y="4824"/>
                  </a:lnTo>
                  <a:lnTo>
                    <a:pt x="2898" y="4838"/>
                  </a:lnTo>
                  <a:lnTo>
                    <a:pt x="2890" y="4852"/>
                  </a:lnTo>
                  <a:lnTo>
                    <a:pt x="2864" y="4870"/>
                  </a:lnTo>
                  <a:lnTo>
                    <a:pt x="2868" y="4962"/>
                  </a:lnTo>
                  <a:lnTo>
                    <a:pt x="2898" y="4982"/>
                  </a:lnTo>
                  <a:lnTo>
                    <a:pt x="2908" y="4998"/>
                  </a:lnTo>
                  <a:lnTo>
                    <a:pt x="2902" y="5012"/>
                  </a:lnTo>
                  <a:lnTo>
                    <a:pt x="2876" y="5030"/>
                  </a:lnTo>
                  <a:lnTo>
                    <a:pt x="2874" y="5118"/>
                  </a:lnTo>
                  <a:lnTo>
                    <a:pt x="2942" y="5136"/>
                  </a:lnTo>
                  <a:lnTo>
                    <a:pt x="2950" y="5152"/>
                  </a:lnTo>
                  <a:lnTo>
                    <a:pt x="2962" y="5166"/>
                  </a:lnTo>
                  <a:lnTo>
                    <a:pt x="2956" y="5180"/>
                  </a:lnTo>
                  <a:lnTo>
                    <a:pt x="2968" y="5194"/>
                  </a:lnTo>
                  <a:lnTo>
                    <a:pt x="2976" y="5210"/>
                  </a:lnTo>
                  <a:lnTo>
                    <a:pt x="3008" y="5236"/>
                  </a:lnTo>
                  <a:lnTo>
                    <a:pt x="3006" y="5216"/>
                  </a:lnTo>
                  <a:lnTo>
                    <a:pt x="3038" y="5224"/>
                  </a:lnTo>
                  <a:lnTo>
                    <a:pt x="3074" y="5216"/>
                  </a:lnTo>
                  <a:lnTo>
                    <a:pt x="3092" y="5216"/>
                  </a:lnTo>
                  <a:lnTo>
                    <a:pt x="3108" y="5228"/>
                  </a:lnTo>
                  <a:lnTo>
                    <a:pt x="3120" y="5242"/>
                  </a:lnTo>
                  <a:lnTo>
                    <a:pt x="3130" y="5258"/>
                  </a:lnTo>
                  <a:lnTo>
                    <a:pt x="3144" y="5272"/>
                  </a:lnTo>
                  <a:lnTo>
                    <a:pt x="3162" y="5276"/>
                  </a:lnTo>
                  <a:lnTo>
                    <a:pt x="3212" y="5394"/>
                  </a:lnTo>
                  <a:lnTo>
                    <a:pt x="3186" y="5402"/>
                  </a:lnTo>
                  <a:lnTo>
                    <a:pt x="3164" y="5392"/>
                  </a:lnTo>
                  <a:lnTo>
                    <a:pt x="3148" y="5396"/>
                  </a:lnTo>
                  <a:lnTo>
                    <a:pt x="3150" y="5414"/>
                  </a:lnTo>
                  <a:lnTo>
                    <a:pt x="3138" y="5428"/>
                  </a:lnTo>
                  <a:lnTo>
                    <a:pt x="3150" y="5440"/>
                  </a:lnTo>
                  <a:lnTo>
                    <a:pt x="3166" y="5448"/>
                  </a:lnTo>
                  <a:lnTo>
                    <a:pt x="3184" y="5446"/>
                  </a:lnTo>
                  <a:lnTo>
                    <a:pt x="3202" y="5452"/>
                  </a:lnTo>
                  <a:lnTo>
                    <a:pt x="3214" y="5466"/>
                  </a:lnTo>
                  <a:lnTo>
                    <a:pt x="3230" y="5470"/>
                  </a:lnTo>
                  <a:lnTo>
                    <a:pt x="3220" y="5478"/>
                  </a:lnTo>
                  <a:lnTo>
                    <a:pt x="3206" y="5540"/>
                  </a:lnTo>
                  <a:lnTo>
                    <a:pt x="3196" y="5540"/>
                  </a:lnTo>
                  <a:lnTo>
                    <a:pt x="3186" y="5546"/>
                  </a:lnTo>
                  <a:lnTo>
                    <a:pt x="3168" y="5546"/>
                  </a:lnTo>
                  <a:lnTo>
                    <a:pt x="3150" y="5516"/>
                  </a:lnTo>
                  <a:lnTo>
                    <a:pt x="3132" y="5492"/>
                  </a:lnTo>
                  <a:lnTo>
                    <a:pt x="3128" y="5476"/>
                  </a:lnTo>
                  <a:lnTo>
                    <a:pt x="3106" y="5476"/>
                  </a:lnTo>
                  <a:lnTo>
                    <a:pt x="3076" y="5468"/>
                  </a:lnTo>
                  <a:lnTo>
                    <a:pt x="3106" y="5502"/>
                  </a:lnTo>
                  <a:lnTo>
                    <a:pt x="3110" y="5528"/>
                  </a:lnTo>
                  <a:lnTo>
                    <a:pt x="3112" y="5572"/>
                  </a:lnTo>
                  <a:lnTo>
                    <a:pt x="3092" y="5566"/>
                  </a:lnTo>
                  <a:lnTo>
                    <a:pt x="3098" y="5644"/>
                  </a:lnTo>
                  <a:lnTo>
                    <a:pt x="3080" y="5664"/>
                  </a:lnTo>
                  <a:lnTo>
                    <a:pt x="3080" y="5684"/>
                  </a:lnTo>
                  <a:lnTo>
                    <a:pt x="3078" y="5690"/>
                  </a:lnTo>
                  <a:lnTo>
                    <a:pt x="3070" y="5690"/>
                  </a:lnTo>
                  <a:lnTo>
                    <a:pt x="3058" y="5712"/>
                  </a:lnTo>
                  <a:lnTo>
                    <a:pt x="3062" y="5738"/>
                  </a:lnTo>
                  <a:lnTo>
                    <a:pt x="3050" y="5768"/>
                  </a:lnTo>
                  <a:lnTo>
                    <a:pt x="3066" y="5800"/>
                  </a:lnTo>
                  <a:lnTo>
                    <a:pt x="3090" y="5798"/>
                  </a:lnTo>
                  <a:lnTo>
                    <a:pt x="3128" y="5838"/>
                  </a:lnTo>
                  <a:lnTo>
                    <a:pt x="3158" y="5874"/>
                  </a:lnTo>
                  <a:lnTo>
                    <a:pt x="3172" y="5912"/>
                  </a:lnTo>
                  <a:lnTo>
                    <a:pt x="3182" y="5926"/>
                  </a:lnTo>
                  <a:lnTo>
                    <a:pt x="3192" y="5878"/>
                  </a:lnTo>
                  <a:lnTo>
                    <a:pt x="3204" y="5908"/>
                  </a:lnTo>
                  <a:lnTo>
                    <a:pt x="3202" y="5968"/>
                  </a:lnTo>
                  <a:lnTo>
                    <a:pt x="3212" y="6016"/>
                  </a:lnTo>
                  <a:lnTo>
                    <a:pt x="3228" y="6046"/>
                  </a:lnTo>
                  <a:lnTo>
                    <a:pt x="3256" y="6072"/>
                  </a:lnTo>
                  <a:lnTo>
                    <a:pt x="3312" y="6144"/>
                  </a:lnTo>
                  <a:lnTo>
                    <a:pt x="3356" y="6206"/>
                  </a:lnTo>
                  <a:lnTo>
                    <a:pt x="3380" y="6218"/>
                  </a:lnTo>
                  <a:lnTo>
                    <a:pt x="3372" y="6240"/>
                  </a:lnTo>
                  <a:lnTo>
                    <a:pt x="3370" y="6258"/>
                  </a:lnTo>
                  <a:lnTo>
                    <a:pt x="3354" y="6266"/>
                  </a:lnTo>
                  <a:lnTo>
                    <a:pt x="3340" y="6278"/>
                  </a:lnTo>
                  <a:lnTo>
                    <a:pt x="3334" y="6314"/>
                  </a:lnTo>
                  <a:lnTo>
                    <a:pt x="3324" y="6326"/>
                  </a:lnTo>
                  <a:lnTo>
                    <a:pt x="3306" y="6330"/>
                  </a:lnTo>
                  <a:lnTo>
                    <a:pt x="3268" y="6324"/>
                  </a:lnTo>
                  <a:lnTo>
                    <a:pt x="3248" y="6326"/>
                  </a:lnTo>
                  <a:lnTo>
                    <a:pt x="3236" y="6308"/>
                  </a:lnTo>
                  <a:lnTo>
                    <a:pt x="3218" y="6272"/>
                  </a:lnTo>
                  <a:lnTo>
                    <a:pt x="3200" y="6272"/>
                  </a:lnTo>
                  <a:lnTo>
                    <a:pt x="3186" y="6256"/>
                  </a:lnTo>
                  <a:lnTo>
                    <a:pt x="3156" y="6230"/>
                  </a:lnTo>
                  <a:lnTo>
                    <a:pt x="3138" y="6232"/>
                  </a:lnTo>
                  <a:lnTo>
                    <a:pt x="3116" y="6220"/>
                  </a:lnTo>
                  <a:lnTo>
                    <a:pt x="3102" y="6212"/>
                  </a:lnTo>
                  <a:lnTo>
                    <a:pt x="3084" y="6202"/>
                  </a:lnTo>
                  <a:lnTo>
                    <a:pt x="3048" y="6192"/>
                  </a:lnTo>
                  <a:lnTo>
                    <a:pt x="3012" y="6170"/>
                  </a:lnTo>
                  <a:lnTo>
                    <a:pt x="3014" y="6134"/>
                  </a:lnTo>
                  <a:lnTo>
                    <a:pt x="3004" y="6118"/>
                  </a:lnTo>
                  <a:lnTo>
                    <a:pt x="2984" y="6110"/>
                  </a:lnTo>
                  <a:lnTo>
                    <a:pt x="2966" y="6110"/>
                  </a:lnTo>
                  <a:lnTo>
                    <a:pt x="2948" y="6104"/>
                  </a:lnTo>
                  <a:lnTo>
                    <a:pt x="2934" y="6088"/>
                  </a:lnTo>
                  <a:lnTo>
                    <a:pt x="2896" y="6084"/>
                  </a:lnTo>
                  <a:lnTo>
                    <a:pt x="2878" y="6088"/>
                  </a:lnTo>
                  <a:lnTo>
                    <a:pt x="2862" y="6076"/>
                  </a:lnTo>
                  <a:lnTo>
                    <a:pt x="2844" y="6080"/>
                  </a:lnTo>
                  <a:lnTo>
                    <a:pt x="2812" y="6094"/>
                  </a:lnTo>
                  <a:lnTo>
                    <a:pt x="2800" y="6104"/>
                  </a:lnTo>
                  <a:lnTo>
                    <a:pt x="2782" y="6110"/>
                  </a:lnTo>
                  <a:lnTo>
                    <a:pt x="2764" y="6102"/>
                  </a:lnTo>
                  <a:lnTo>
                    <a:pt x="2754" y="6084"/>
                  </a:lnTo>
                  <a:lnTo>
                    <a:pt x="2654" y="6034"/>
                  </a:lnTo>
                  <a:lnTo>
                    <a:pt x="2644" y="6024"/>
                  </a:lnTo>
                  <a:lnTo>
                    <a:pt x="2626" y="6014"/>
                  </a:lnTo>
                  <a:lnTo>
                    <a:pt x="2590" y="6014"/>
                  </a:lnTo>
                  <a:lnTo>
                    <a:pt x="2550" y="6004"/>
                  </a:lnTo>
                  <a:lnTo>
                    <a:pt x="2496" y="6012"/>
                  </a:lnTo>
                  <a:lnTo>
                    <a:pt x="2474" y="6010"/>
                  </a:lnTo>
                  <a:lnTo>
                    <a:pt x="2418" y="5990"/>
                  </a:lnTo>
                  <a:lnTo>
                    <a:pt x="2382" y="5982"/>
                  </a:lnTo>
                  <a:lnTo>
                    <a:pt x="2366" y="5972"/>
                  </a:lnTo>
                  <a:lnTo>
                    <a:pt x="2328" y="5962"/>
                  </a:lnTo>
                  <a:lnTo>
                    <a:pt x="2310" y="5964"/>
                  </a:lnTo>
                  <a:lnTo>
                    <a:pt x="2292" y="5958"/>
                  </a:lnTo>
                  <a:lnTo>
                    <a:pt x="2272" y="5962"/>
                  </a:lnTo>
                  <a:lnTo>
                    <a:pt x="2240" y="5974"/>
                  </a:lnTo>
                  <a:lnTo>
                    <a:pt x="2206" y="5948"/>
                  </a:lnTo>
                  <a:lnTo>
                    <a:pt x="2186" y="5944"/>
                  </a:lnTo>
                  <a:lnTo>
                    <a:pt x="2168" y="5926"/>
                  </a:lnTo>
                  <a:lnTo>
                    <a:pt x="2146" y="5900"/>
                  </a:lnTo>
                  <a:lnTo>
                    <a:pt x="2080" y="5856"/>
                  </a:lnTo>
                  <a:lnTo>
                    <a:pt x="1974" y="5816"/>
                  </a:lnTo>
                  <a:lnTo>
                    <a:pt x="1934" y="5790"/>
                  </a:lnTo>
                  <a:lnTo>
                    <a:pt x="1920" y="5774"/>
                  </a:lnTo>
                  <a:lnTo>
                    <a:pt x="1912" y="5784"/>
                  </a:lnTo>
                  <a:lnTo>
                    <a:pt x="1888" y="5782"/>
                  </a:lnTo>
                  <a:lnTo>
                    <a:pt x="1862" y="5758"/>
                  </a:lnTo>
                  <a:lnTo>
                    <a:pt x="1844" y="5728"/>
                  </a:lnTo>
                  <a:lnTo>
                    <a:pt x="1812" y="5708"/>
                  </a:lnTo>
                  <a:lnTo>
                    <a:pt x="1780" y="5696"/>
                  </a:lnTo>
                  <a:lnTo>
                    <a:pt x="1802" y="5686"/>
                  </a:lnTo>
                  <a:lnTo>
                    <a:pt x="1798" y="5672"/>
                  </a:lnTo>
                  <a:lnTo>
                    <a:pt x="1806" y="5662"/>
                  </a:lnTo>
                  <a:lnTo>
                    <a:pt x="1840" y="5666"/>
                  </a:lnTo>
                  <a:lnTo>
                    <a:pt x="1870" y="5664"/>
                  </a:lnTo>
                  <a:lnTo>
                    <a:pt x="1884" y="5624"/>
                  </a:lnTo>
                  <a:lnTo>
                    <a:pt x="1900" y="5596"/>
                  </a:lnTo>
                  <a:lnTo>
                    <a:pt x="1920" y="5556"/>
                  </a:lnTo>
                  <a:lnTo>
                    <a:pt x="1934" y="5558"/>
                  </a:lnTo>
                  <a:lnTo>
                    <a:pt x="1944" y="5534"/>
                  </a:lnTo>
                  <a:lnTo>
                    <a:pt x="1976" y="5544"/>
                  </a:lnTo>
                  <a:lnTo>
                    <a:pt x="1982" y="5540"/>
                  </a:lnTo>
                  <a:lnTo>
                    <a:pt x="1954" y="5520"/>
                  </a:lnTo>
                  <a:lnTo>
                    <a:pt x="1928" y="5492"/>
                  </a:lnTo>
                  <a:lnTo>
                    <a:pt x="1898" y="5484"/>
                  </a:lnTo>
                  <a:lnTo>
                    <a:pt x="1874" y="5466"/>
                  </a:lnTo>
                  <a:lnTo>
                    <a:pt x="1876" y="5446"/>
                  </a:lnTo>
                  <a:lnTo>
                    <a:pt x="1932" y="5436"/>
                  </a:lnTo>
                  <a:lnTo>
                    <a:pt x="1956" y="5442"/>
                  </a:lnTo>
                  <a:lnTo>
                    <a:pt x="1966" y="5436"/>
                  </a:lnTo>
                  <a:lnTo>
                    <a:pt x="1954" y="5426"/>
                  </a:lnTo>
                  <a:lnTo>
                    <a:pt x="1950" y="5416"/>
                  </a:lnTo>
                  <a:lnTo>
                    <a:pt x="1974" y="5406"/>
                  </a:lnTo>
                  <a:lnTo>
                    <a:pt x="2006" y="5384"/>
                  </a:lnTo>
                  <a:lnTo>
                    <a:pt x="2030" y="5376"/>
                  </a:lnTo>
                  <a:lnTo>
                    <a:pt x="2052" y="5374"/>
                  </a:lnTo>
                  <a:lnTo>
                    <a:pt x="2054" y="5364"/>
                  </a:lnTo>
                  <a:lnTo>
                    <a:pt x="2046" y="5358"/>
                  </a:lnTo>
                  <a:lnTo>
                    <a:pt x="2028" y="5356"/>
                  </a:lnTo>
                  <a:lnTo>
                    <a:pt x="2024" y="5342"/>
                  </a:lnTo>
                  <a:lnTo>
                    <a:pt x="2010" y="5338"/>
                  </a:lnTo>
                  <a:lnTo>
                    <a:pt x="1980" y="5346"/>
                  </a:lnTo>
                  <a:lnTo>
                    <a:pt x="1964" y="5356"/>
                  </a:lnTo>
                  <a:lnTo>
                    <a:pt x="1944" y="5354"/>
                  </a:lnTo>
                  <a:lnTo>
                    <a:pt x="1914" y="5364"/>
                  </a:lnTo>
                  <a:lnTo>
                    <a:pt x="1908" y="5334"/>
                  </a:lnTo>
                  <a:lnTo>
                    <a:pt x="1902" y="5316"/>
                  </a:lnTo>
                  <a:lnTo>
                    <a:pt x="1912" y="5286"/>
                  </a:lnTo>
                  <a:lnTo>
                    <a:pt x="1944" y="5272"/>
                  </a:lnTo>
                  <a:lnTo>
                    <a:pt x="1958" y="5242"/>
                  </a:lnTo>
                  <a:lnTo>
                    <a:pt x="1968" y="5232"/>
                  </a:lnTo>
                  <a:lnTo>
                    <a:pt x="2004" y="5248"/>
                  </a:lnTo>
                  <a:lnTo>
                    <a:pt x="2020" y="5244"/>
                  </a:lnTo>
                  <a:lnTo>
                    <a:pt x="2058" y="5250"/>
                  </a:lnTo>
                  <a:lnTo>
                    <a:pt x="2074" y="5242"/>
                  </a:lnTo>
                  <a:lnTo>
                    <a:pt x="2078" y="5194"/>
                  </a:lnTo>
                  <a:lnTo>
                    <a:pt x="2078" y="5160"/>
                  </a:lnTo>
                  <a:lnTo>
                    <a:pt x="2060" y="5152"/>
                  </a:lnTo>
                  <a:lnTo>
                    <a:pt x="2062" y="5136"/>
                  </a:lnTo>
                  <a:lnTo>
                    <a:pt x="2052" y="5120"/>
                  </a:lnTo>
                  <a:lnTo>
                    <a:pt x="2038" y="5108"/>
                  </a:lnTo>
                  <a:lnTo>
                    <a:pt x="2036" y="5092"/>
                  </a:lnTo>
                  <a:lnTo>
                    <a:pt x="2040" y="5078"/>
                  </a:lnTo>
                  <a:lnTo>
                    <a:pt x="2074" y="5068"/>
                  </a:lnTo>
                  <a:lnTo>
                    <a:pt x="2060" y="5054"/>
                  </a:lnTo>
                  <a:lnTo>
                    <a:pt x="2042" y="5052"/>
                  </a:lnTo>
                  <a:lnTo>
                    <a:pt x="2028" y="5038"/>
                  </a:lnTo>
                  <a:lnTo>
                    <a:pt x="2060" y="5030"/>
                  </a:lnTo>
                  <a:lnTo>
                    <a:pt x="2072" y="5000"/>
                  </a:lnTo>
                  <a:lnTo>
                    <a:pt x="2044" y="4954"/>
                  </a:lnTo>
                  <a:lnTo>
                    <a:pt x="2058" y="4946"/>
                  </a:lnTo>
                  <a:lnTo>
                    <a:pt x="2042" y="4938"/>
                  </a:lnTo>
                  <a:lnTo>
                    <a:pt x="2024" y="4938"/>
                  </a:lnTo>
                  <a:lnTo>
                    <a:pt x="2004" y="4936"/>
                  </a:lnTo>
                  <a:lnTo>
                    <a:pt x="1974" y="4916"/>
                  </a:lnTo>
                  <a:lnTo>
                    <a:pt x="1956" y="4916"/>
                  </a:lnTo>
                  <a:lnTo>
                    <a:pt x="1922" y="4898"/>
                  </a:lnTo>
                  <a:lnTo>
                    <a:pt x="1888" y="4902"/>
                  </a:lnTo>
                  <a:lnTo>
                    <a:pt x="1874" y="4890"/>
                  </a:lnTo>
                  <a:lnTo>
                    <a:pt x="1856" y="4884"/>
                  </a:lnTo>
                  <a:lnTo>
                    <a:pt x="1838" y="4882"/>
                  </a:lnTo>
                  <a:lnTo>
                    <a:pt x="1824" y="4870"/>
                  </a:lnTo>
                  <a:lnTo>
                    <a:pt x="1806" y="4868"/>
                  </a:lnTo>
                  <a:lnTo>
                    <a:pt x="1802" y="4884"/>
                  </a:lnTo>
                  <a:lnTo>
                    <a:pt x="1784" y="4886"/>
                  </a:lnTo>
                  <a:lnTo>
                    <a:pt x="1756" y="4862"/>
                  </a:lnTo>
                  <a:lnTo>
                    <a:pt x="1722" y="4820"/>
                  </a:lnTo>
                  <a:lnTo>
                    <a:pt x="1708" y="4806"/>
                  </a:lnTo>
                  <a:lnTo>
                    <a:pt x="1690" y="4802"/>
                  </a:lnTo>
                  <a:lnTo>
                    <a:pt x="1662" y="4818"/>
                  </a:lnTo>
                  <a:lnTo>
                    <a:pt x="1610" y="4834"/>
                  </a:lnTo>
                  <a:lnTo>
                    <a:pt x="1594" y="4826"/>
                  </a:lnTo>
                  <a:lnTo>
                    <a:pt x="1576" y="4832"/>
                  </a:lnTo>
                  <a:lnTo>
                    <a:pt x="1548" y="4812"/>
                  </a:lnTo>
                  <a:lnTo>
                    <a:pt x="1530" y="4808"/>
                  </a:lnTo>
                  <a:lnTo>
                    <a:pt x="1512" y="4812"/>
                  </a:lnTo>
                  <a:lnTo>
                    <a:pt x="1498" y="4820"/>
                  </a:lnTo>
                  <a:lnTo>
                    <a:pt x="1480" y="4812"/>
                  </a:lnTo>
                  <a:lnTo>
                    <a:pt x="1464" y="4802"/>
                  </a:lnTo>
                  <a:lnTo>
                    <a:pt x="1456" y="4786"/>
                  </a:lnTo>
                  <a:lnTo>
                    <a:pt x="1458" y="4772"/>
                  </a:lnTo>
                  <a:lnTo>
                    <a:pt x="1430" y="4720"/>
                  </a:lnTo>
                  <a:lnTo>
                    <a:pt x="1404" y="4696"/>
                  </a:lnTo>
                  <a:lnTo>
                    <a:pt x="1394" y="4682"/>
                  </a:lnTo>
                  <a:lnTo>
                    <a:pt x="1376" y="4682"/>
                  </a:lnTo>
                  <a:lnTo>
                    <a:pt x="1362" y="4688"/>
                  </a:lnTo>
                  <a:lnTo>
                    <a:pt x="1324" y="4682"/>
                  </a:lnTo>
                  <a:lnTo>
                    <a:pt x="1306" y="4676"/>
                  </a:lnTo>
                  <a:lnTo>
                    <a:pt x="1290" y="4666"/>
                  </a:lnTo>
                  <a:lnTo>
                    <a:pt x="1274" y="4636"/>
                  </a:lnTo>
                  <a:lnTo>
                    <a:pt x="1272" y="4622"/>
                  </a:lnTo>
                  <a:lnTo>
                    <a:pt x="1262" y="4608"/>
                  </a:lnTo>
                  <a:lnTo>
                    <a:pt x="1278" y="4606"/>
                  </a:lnTo>
                  <a:lnTo>
                    <a:pt x="1294" y="4598"/>
                  </a:lnTo>
                  <a:lnTo>
                    <a:pt x="1290" y="4580"/>
                  </a:lnTo>
                  <a:lnTo>
                    <a:pt x="1278" y="4568"/>
                  </a:lnTo>
                  <a:lnTo>
                    <a:pt x="1246" y="4548"/>
                  </a:lnTo>
                  <a:lnTo>
                    <a:pt x="1242" y="4532"/>
                  </a:lnTo>
                  <a:lnTo>
                    <a:pt x="1232" y="4518"/>
                  </a:lnTo>
                  <a:lnTo>
                    <a:pt x="1200" y="4500"/>
                  </a:lnTo>
                  <a:lnTo>
                    <a:pt x="1168" y="4508"/>
                  </a:lnTo>
                  <a:lnTo>
                    <a:pt x="1132" y="4504"/>
                  </a:lnTo>
                  <a:lnTo>
                    <a:pt x="1100" y="4514"/>
                  </a:lnTo>
                  <a:lnTo>
                    <a:pt x="1082" y="4514"/>
                  </a:lnTo>
                  <a:lnTo>
                    <a:pt x="1044" y="4508"/>
                  </a:lnTo>
                  <a:lnTo>
                    <a:pt x="1032" y="4518"/>
                  </a:lnTo>
                  <a:lnTo>
                    <a:pt x="1030" y="4534"/>
                  </a:lnTo>
                  <a:lnTo>
                    <a:pt x="1020" y="4546"/>
                  </a:lnTo>
                  <a:lnTo>
                    <a:pt x="1006" y="4554"/>
                  </a:lnTo>
                  <a:lnTo>
                    <a:pt x="990" y="4550"/>
                  </a:lnTo>
                  <a:lnTo>
                    <a:pt x="974" y="4540"/>
                  </a:lnTo>
                  <a:lnTo>
                    <a:pt x="976" y="4540"/>
                  </a:lnTo>
                  <a:lnTo>
                    <a:pt x="956" y="4498"/>
                  </a:lnTo>
                  <a:lnTo>
                    <a:pt x="956" y="4484"/>
                  </a:lnTo>
                  <a:lnTo>
                    <a:pt x="946" y="4470"/>
                  </a:lnTo>
                  <a:lnTo>
                    <a:pt x="930" y="4462"/>
                  </a:lnTo>
                  <a:lnTo>
                    <a:pt x="930" y="4448"/>
                  </a:lnTo>
                  <a:lnTo>
                    <a:pt x="918" y="4436"/>
                  </a:lnTo>
                  <a:lnTo>
                    <a:pt x="920" y="4422"/>
                  </a:lnTo>
                  <a:lnTo>
                    <a:pt x="912" y="4408"/>
                  </a:lnTo>
                  <a:lnTo>
                    <a:pt x="884" y="4390"/>
                  </a:lnTo>
                  <a:lnTo>
                    <a:pt x="880" y="4374"/>
                  </a:lnTo>
                  <a:lnTo>
                    <a:pt x="894" y="4368"/>
                  </a:lnTo>
                  <a:lnTo>
                    <a:pt x="894" y="4354"/>
                  </a:lnTo>
                  <a:lnTo>
                    <a:pt x="908" y="4348"/>
                  </a:lnTo>
                  <a:lnTo>
                    <a:pt x="924" y="4348"/>
                  </a:lnTo>
                  <a:lnTo>
                    <a:pt x="954" y="4366"/>
                  </a:lnTo>
                  <a:lnTo>
                    <a:pt x="990" y="4370"/>
                  </a:lnTo>
                  <a:lnTo>
                    <a:pt x="1004" y="4362"/>
                  </a:lnTo>
                  <a:lnTo>
                    <a:pt x="1026" y="4342"/>
                  </a:lnTo>
                  <a:lnTo>
                    <a:pt x="1034" y="4330"/>
                  </a:lnTo>
                  <a:lnTo>
                    <a:pt x="1046" y="4320"/>
                  </a:lnTo>
                  <a:lnTo>
                    <a:pt x="1040" y="4294"/>
                  </a:lnTo>
                  <a:lnTo>
                    <a:pt x="1018" y="4292"/>
                  </a:lnTo>
                  <a:lnTo>
                    <a:pt x="1006" y="4282"/>
                  </a:lnTo>
                  <a:lnTo>
                    <a:pt x="1008" y="4268"/>
                  </a:lnTo>
                  <a:lnTo>
                    <a:pt x="992" y="4264"/>
                  </a:lnTo>
                  <a:lnTo>
                    <a:pt x="976" y="4254"/>
                  </a:lnTo>
                  <a:lnTo>
                    <a:pt x="926" y="4262"/>
                  </a:lnTo>
                  <a:lnTo>
                    <a:pt x="916" y="4248"/>
                  </a:lnTo>
                  <a:lnTo>
                    <a:pt x="916" y="4234"/>
                  </a:lnTo>
                  <a:lnTo>
                    <a:pt x="910" y="4220"/>
                  </a:lnTo>
                  <a:lnTo>
                    <a:pt x="898" y="4208"/>
                  </a:lnTo>
                  <a:lnTo>
                    <a:pt x="864" y="4194"/>
                  </a:lnTo>
                  <a:lnTo>
                    <a:pt x="852" y="4182"/>
                  </a:lnTo>
                  <a:lnTo>
                    <a:pt x="822" y="4144"/>
                  </a:lnTo>
                  <a:lnTo>
                    <a:pt x="806" y="4116"/>
                  </a:lnTo>
                  <a:lnTo>
                    <a:pt x="778" y="4096"/>
                  </a:lnTo>
                  <a:lnTo>
                    <a:pt x="770" y="4084"/>
                  </a:lnTo>
                  <a:lnTo>
                    <a:pt x="772" y="4070"/>
                  </a:lnTo>
                  <a:lnTo>
                    <a:pt x="784" y="4060"/>
                  </a:lnTo>
                  <a:lnTo>
                    <a:pt x="786" y="4046"/>
                  </a:lnTo>
                  <a:lnTo>
                    <a:pt x="786" y="4032"/>
                  </a:lnTo>
                  <a:lnTo>
                    <a:pt x="778" y="4020"/>
                  </a:lnTo>
                  <a:lnTo>
                    <a:pt x="766" y="4008"/>
                  </a:lnTo>
                  <a:lnTo>
                    <a:pt x="762" y="3994"/>
                  </a:lnTo>
                  <a:lnTo>
                    <a:pt x="764" y="3980"/>
                  </a:lnTo>
                  <a:lnTo>
                    <a:pt x="758" y="3960"/>
                  </a:lnTo>
                  <a:lnTo>
                    <a:pt x="742" y="3960"/>
                  </a:lnTo>
                  <a:lnTo>
                    <a:pt x="716" y="3938"/>
                  </a:lnTo>
                  <a:lnTo>
                    <a:pt x="704" y="3928"/>
                  </a:lnTo>
                  <a:lnTo>
                    <a:pt x="688" y="3920"/>
                  </a:lnTo>
                  <a:lnTo>
                    <a:pt x="670" y="3918"/>
                  </a:lnTo>
                  <a:lnTo>
                    <a:pt x="638" y="3922"/>
                  </a:lnTo>
                  <a:lnTo>
                    <a:pt x="628" y="3930"/>
                  </a:lnTo>
                  <a:lnTo>
                    <a:pt x="612" y="3932"/>
                  </a:lnTo>
                  <a:lnTo>
                    <a:pt x="584" y="3948"/>
                  </a:lnTo>
                  <a:lnTo>
                    <a:pt x="582" y="3912"/>
                  </a:lnTo>
                  <a:lnTo>
                    <a:pt x="554" y="3898"/>
                  </a:lnTo>
                  <a:lnTo>
                    <a:pt x="536" y="3896"/>
                  </a:lnTo>
                  <a:lnTo>
                    <a:pt x="504" y="3900"/>
                  </a:lnTo>
                  <a:lnTo>
                    <a:pt x="492" y="3888"/>
                  </a:lnTo>
                  <a:lnTo>
                    <a:pt x="476" y="3884"/>
                  </a:lnTo>
                  <a:lnTo>
                    <a:pt x="444" y="3888"/>
                  </a:lnTo>
                  <a:lnTo>
                    <a:pt x="436" y="3876"/>
                  </a:lnTo>
                  <a:lnTo>
                    <a:pt x="436" y="3862"/>
                  </a:lnTo>
                  <a:lnTo>
                    <a:pt x="430" y="3834"/>
                  </a:lnTo>
                  <a:lnTo>
                    <a:pt x="420" y="3822"/>
                  </a:lnTo>
                  <a:lnTo>
                    <a:pt x="414" y="3808"/>
                  </a:lnTo>
                  <a:lnTo>
                    <a:pt x="380" y="3772"/>
                  </a:lnTo>
                  <a:lnTo>
                    <a:pt x="378" y="3760"/>
                  </a:lnTo>
                  <a:lnTo>
                    <a:pt x="362" y="3752"/>
                  </a:lnTo>
                  <a:lnTo>
                    <a:pt x="344" y="3748"/>
                  </a:lnTo>
                  <a:lnTo>
                    <a:pt x="348" y="3734"/>
                  </a:lnTo>
                  <a:lnTo>
                    <a:pt x="352" y="3696"/>
                  </a:lnTo>
                  <a:lnTo>
                    <a:pt x="348" y="3682"/>
                  </a:lnTo>
                  <a:lnTo>
                    <a:pt x="336" y="3670"/>
                  </a:lnTo>
                  <a:lnTo>
                    <a:pt x="320" y="3664"/>
                  </a:lnTo>
                  <a:lnTo>
                    <a:pt x="312" y="3652"/>
                  </a:lnTo>
                  <a:lnTo>
                    <a:pt x="298" y="3642"/>
                  </a:lnTo>
                  <a:lnTo>
                    <a:pt x="292" y="3630"/>
                  </a:lnTo>
                  <a:lnTo>
                    <a:pt x="300" y="3604"/>
                  </a:lnTo>
                  <a:lnTo>
                    <a:pt x="308" y="3592"/>
                  </a:lnTo>
                  <a:lnTo>
                    <a:pt x="302" y="3568"/>
                  </a:lnTo>
                  <a:lnTo>
                    <a:pt x="322" y="3580"/>
                  </a:lnTo>
                  <a:lnTo>
                    <a:pt x="342" y="3598"/>
                  </a:lnTo>
                  <a:lnTo>
                    <a:pt x="362" y="3598"/>
                  </a:lnTo>
                  <a:lnTo>
                    <a:pt x="360" y="3572"/>
                  </a:lnTo>
                  <a:lnTo>
                    <a:pt x="334" y="3544"/>
                  </a:lnTo>
                  <a:lnTo>
                    <a:pt x="306" y="3548"/>
                  </a:lnTo>
                  <a:lnTo>
                    <a:pt x="288" y="3546"/>
                  </a:lnTo>
                  <a:lnTo>
                    <a:pt x="278" y="3534"/>
                  </a:lnTo>
                  <a:lnTo>
                    <a:pt x="282" y="3522"/>
                  </a:lnTo>
                  <a:lnTo>
                    <a:pt x="290" y="3516"/>
                  </a:lnTo>
                  <a:lnTo>
                    <a:pt x="306" y="3502"/>
                  </a:lnTo>
                  <a:lnTo>
                    <a:pt x="308" y="3490"/>
                  </a:lnTo>
                  <a:lnTo>
                    <a:pt x="306" y="3480"/>
                  </a:lnTo>
                  <a:lnTo>
                    <a:pt x="300" y="3472"/>
                  </a:lnTo>
                  <a:lnTo>
                    <a:pt x="294" y="3462"/>
                  </a:lnTo>
                  <a:lnTo>
                    <a:pt x="294" y="3434"/>
                  </a:lnTo>
                  <a:lnTo>
                    <a:pt x="282" y="3412"/>
                  </a:lnTo>
                  <a:lnTo>
                    <a:pt x="292" y="3390"/>
                  </a:lnTo>
                  <a:lnTo>
                    <a:pt x="304" y="3366"/>
                  </a:lnTo>
                  <a:lnTo>
                    <a:pt x="322" y="3348"/>
                  </a:lnTo>
                  <a:lnTo>
                    <a:pt x="328" y="3336"/>
                  </a:lnTo>
                  <a:lnTo>
                    <a:pt x="320" y="3324"/>
                  </a:lnTo>
                  <a:lnTo>
                    <a:pt x="306" y="3314"/>
                  </a:lnTo>
                  <a:lnTo>
                    <a:pt x="294" y="3312"/>
                  </a:lnTo>
                  <a:lnTo>
                    <a:pt x="284" y="3288"/>
                  </a:lnTo>
                  <a:lnTo>
                    <a:pt x="288" y="3274"/>
                  </a:lnTo>
                  <a:lnTo>
                    <a:pt x="304" y="3280"/>
                  </a:lnTo>
                  <a:lnTo>
                    <a:pt x="316" y="3290"/>
                  </a:lnTo>
                  <a:lnTo>
                    <a:pt x="328" y="3284"/>
                  </a:lnTo>
                  <a:lnTo>
                    <a:pt x="332" y="3268"/>
                  </a:lnTo>
                  <a:lnTo>
                    <a:pt x="344" y="3264"/>
                  </a:lnTo>
                  <a:lnTo>
                    <a:pt x="362" y="3272"/>
                  </a:lnTo>
                  <a:lnTo>
                    <a:pt x="386" y="3258"/>
                  </a:lnTo>
                  <a:lnTo>
                    <a:pt x="392" y="3246"/>
                  </a:lnTo>
                  <a:lnTo>
                    <a:pt x="400" y="3236"/>
                  </a:lnTo>
                  <a:lnTo>
                    <a:pt x="438" y="3238"/>
                  </a:lnTo>
                  <a:lnTo>
                    <a:pt x="494" y="3248"/>
                  </a:lnTo>
                  <a:lnTo>
                    <a:pt x="510" y="3248"/>
                  </a:lnTo>
                  <a:lnTo>
                    <a:pt x="522" y="3240"/>
                  </a:lnTo>
                  <a:lnTo>
                    <a:pt x="518" y="3234"/>
                  </a:lnTo>
                  <a:lnTo>
                    <a:pt x="502" y="3232"/>
                  </a:lnTo>
                  <a:lnTo>
                    <a:pt x="490" y="3226"/>
                  </a:lnTo>
                  <a:lnTo>
                    <a:pt x="488" y="3212"/>
                  </a:lnTo>
                  <a:lnTo>
                    <a:pt x="466" y="3202"/>
                  </a:lnTo>
                  <a:lnTo>
                    <a:pt x="444" y="3196"/>
                  </a:lnTo>
                  <a:lnTo>
                    <a:pt x="408" y="3204"/>
                  </a:lnTo>
                  <a:lnTo>
                    <a:pt x="386" y="3204"/>
                  </a:lnTo>
                  <a:lnTo>
                    <a:pt x="348" y="3184"/>
                  </a:lnTo>
                  <a:lnTo>
                    <a:pt x="334" y="3178"/>
                  </a:lnTo>
                  <a:lnTo>
                    <a:pt x="324" y="3178"/>
                  </a:lnTo>
                  <a:lnTo>
                    <a:pt x="312" y="3166"/>
                  </a:lnTo>
                  <a:lnTo>
                    <a:pt x="306" y="3142"/>
                  </a:lnTo>
                  <a:lnTo>
                    <a:pt x="316" y="3146"/>
                  </a:lnTo>
                  <a:lnTo>
                    <a:pt x="326" y="3156"/>
                  </a:lnTo>
                  <a:lnTo>
                    <a:pt x="322" y="3130"/>
                  </a:lnTo>
                  <a:lnTo>
                    <a:pt x="324" y="3122"/>
                  </a:lnTo>
                  <a:lnTo>
                    <a:pt x="320" y="3112"/>
                  </a:lnTo>
                  <a:lnTo>
                    <a:pt x="286" y="3128"/>
                  </a:lnTo>
                  <a:lnTo>
                    <a:pt x="266" y="3146"/>
                  </a:lnTo>
                  <a:lnTo>
                    <a:pt x="218" y="3142"/>
                  </a:lnTo>
                  <a:lnTo>
                    <a:pt x="218" y="3142"/>
                  </a:lnTo>
                  <a:lnTo>
                    <a:pt x="282" y="3098"/>
                  </a:lnTo>
                  <a:lnTo>
                    <a:pt x="364" y="3024"/>
                  </a:lnTo>
                  <a:lnTo>
                    <a:pt x="426" y="2960"/>
                  </a:lnTo>
                  <a:lnTo>
                    <a:pt x="506" y="2858"/>
                  </a:lnTo>
                  <a:lnTo>
                    <a:pt x="524" y="2830"/>
                  </a:lnTo>
                  <a:lnTo>
                    <a:pt x="544" y="2774"/>
                  </a:lnTo>
                  <a:lnTo>
                    <a:pt x="532" y="2720"/>
                  </a:lnTo>
                  <a:lnTo>
                    <a:pt x="524" y="2728"/>
                  </a:lnTo>
                  <a:lnTo>
                    <a:pt x="500" y="2704"/>
                  </a:lnTo>
                  <a:lnTo>
                    <a:pt x="486" y="2682"/>
                  </a:lnTo>
                  <a:lnTo>
                    <a:pt x="420" y="2652"/>
                  </a:lnTo>
                  <a:lnTo>
                    <a:pt x="402" y="2636"/>
                  </a:lnTo>
                  <a:lnTo>
                    <a:pt x="382" y="2610"/>
                  </a:lnTo>
                  <a:lnTo>
                    <a:pt x="386" y="2588"/>
                  </a:lnTo>
                  <a:lnTo>
                    <a:pt x="400" y="2568"/>
                  </a:lnTo>
                  <a:lnTo>
                    <a:pt x="406" y="2542"/>
                  </a:lnTo>
                  <a:lnTo>
                    <a:pt x="398" y="2518"/>
                  </a:lnTo>
                  <a:lnTo>
                    <a:pt x="362" y="2500"/>
                  </a:lnTo>
                  <a:lnTo>
                    <a:pt x="344" y="2476"/>
                  </a:lnTo>
                  <a:lnTo>
                    <a:pt x="340" y="2450"/>
                  </a:lnTo>
                  <a:lnTo>
                    <a:pt x="320" y="2428"/>
                  </a:lnTo>
                  <a:lnTo>
                    <a:pt x="288" y="2424"/>
                  </a:lnTo>
                  <a:lnTo>
                    <a:pt x="282" y="2398"/>
                  </a:lnTo>
                  <a:lnTo>
                    <a:pt x="288" y="2382"/>
                  </a:lnTo>
                  <a:lnTo>
                    <a:pt x="280" y="2358"/>
                  </a:lnTo>
                  <a:lnTo>
                    <a:pt x="272" y="2346"/>
                  </a:lnTo>
                  <a:lnTo>
                    <a:pt x="274" y="2326"/>
                  </a:lnTo>
                  <a:lnTo>
                    <a:pt x="272" y="2298"/>
                  </a:lnTo>
                  <a:lnTo>
                    <a:pt x="294" y="2280"/>
                  </a:lnTo>
                  <a:lnTo>
                    <a:pt x="288" y="2262"/>
                  </a:lnTo>
                  <a:lnTo>
                    <a:pt x="278" y="2242"/>
                  </a:lnTo>
                  <a:lnTo>
                    <a:pt x="246" y="2198"/>
                  </a:lnTo>
                  <a:lnTo>
                    <a:pt x="210" y="2168"/>
                  </a:lnTo>
                  <a:lnTo>
                    <a:pt x="200" y="2144"/>
                  </a:lnTo>
                  <a:lnTo>
                    <a:pt x="182" y="2124"/>
                  </a:lnTo>
                  <a:lnTo>
                    <a:pt x="158" y="2100"/>
                  </a:lnTo>
                  <a:lnTo>
                    <a:pt x="150" y="2074"/>
                  </a:lnTo>
                  <a:lnTo>
                    <a:pt x="158" y="2060"/>
                  </a:lnTo>
                  <a:lnTo>
                    <a:pt x="178" y="2006"/>
                  </a:lnTo>
                  <a:lnTo>
                    <a:pt x="200" y="1964"/>
                  </a:lnTo>
                  <a:lnTo>
                    <a:pt x="188" y="1938"/>
                  </a:lnTo>
                  <a:lnTo>
                    <a:pt x="166" y="1922"/>
                  </a:lnTo>
                  <a:lnTo>
                    <a:pt x="120" y="1878"/>
                  </a:lnTo>
                  <a:lnTo>
                    <a:pt x="90" y="1870"/>
                  </a:lnTo>
                  <a:lnTo>
                    <a:pt x="64" y="1868"/>
                  </a:lnTo>
                  <a:lnTo>
                    <a:pt x="46" y="1862"/>
                  </a:lnTo>
                  <a:lnTo>
                    <a:pt x="34" y="1852"/>
                  </a:lnTo>
                  <a:lnTo>
                    <a:pt x="20" y="1832"/>
                  </a:lnTo>
                  <a:lnTo>
                    <a:pt x="8" y="1802"/>
                  </a:lnTo>
                  <a:lnTo>
                    <a:pt x="8" y="1792"/>
                  </a:lnTo>
                  <a:lnTo>
                    <a:pt x="20" y="1760"/>
                  </a:lnTo>
                  <a:lnTo>
                    <a:pt x="18" y="1756"/>
                  </a:lnTo>
                  <a:lnTo>
                    <a:pt x="0" y="1750"/>
                  </a:lnTo>
                  <a:lnTo>
                    <a:pt x="46" y="1718"/>
                  </a:lnTo>
                  <a:lnTo>
                    <a:pt x="46" y="1718"/>
                  </a:lnTo>
                  <a:lnTo>
                    <a:pt x="52" y="1716"/>
                  </a:lnTo>
                  <a:lnTo>
                    <a:pt x="64" y="1708"/>
                  </a:lnTo>
                  <a:lnTo>
                    <a:pt x="66" y="1704"/>
                  </a:lnTo>
                  <a:lnTo>
                    <a:pt x="64" y="1692"/>
                  </a:lnTo>
                  <a:lnTo>
                    <a:pt x="66" y="1686"/>
                  </a:lnTo>
                  <a:lnTo>
                    <a:pt x="118" y="1664"/>
                  </a:lnTo>
                  <a:lnTo>
                    <a:pt x="128" y="1656"/>
                  </a:lnTo>
                  <a:lnTo>
                    <a:pt x="130" y="1624"/>
                  </a:lnTo>
                  <a:lnTo>
                    <a:pt x="172" y="1638"/>
                  </a:lnTo>
                  <a:lnTo>
                    <a:pt x="192" y="1634"/>
                  </a:lnTo>
                  <a:lnTo>
                    <a:pt x="196" y="1628"/>
                  </a:lnTo>
                  <a:lnTo>
                    <a:pt x="200" y="1614"/>
                  </a:lnTo>
                  <a:lnTo>
                    <a:pt x="196" y="1602"/>
                  </a:lnTo>
                  <a:lnTo>
                    <a:pt x="192" y="1598"/>
                  </a:lnTo>
                  <a:lnTo>
                    <a:pt x="192" y="1598"/>
                  </a:lnTo>
                  <a:lnTo>
                    <a:pt x="194" y="1596"/>
                  </a:lnTo>
                  <a:lnTo>
                    <a:pt x="232" y="1604"/>
                  </a:lnTo>
                  <a:lnTo>
                    <a:pt x="254" y="1618"/>
                  </a:lnTo>
                  <a:lnTo>
                    <a:pt x="270" y="1616"/>
                  </a:lnTo>
                  <a:lnTo>
                    <a:pt x="276" y="1610"/>
                  </a:lnTo>
                  <a:lnTo>
                    <a:pt x="270" y="1598"/>
                  </a:lnTo>
                  <a:lnTo>
                    <a:pt x="270" y="1590"/>
                  </a:lnTo>
                  <a:lnTo>
                    <a:pt x="280" y="1594"/>
                  </a:lnTo>
                  <a:lnTo>
                    <a:pt x="294" y="1592"/>
                  </a:lnTo>
                  <a:lnTo>
                    <a:pt x="290" y="1576"/>
                  </a:lnTo>
                  <a:lnTo>
                    <a:pt x="278" y="1568"/>
                  </a:lnTo>
                  <a:lnTo>
                    <a:pt x="310" y="1574"/>
                  </a:lnTo>
                  <a:lnTo>
                    <a:pt x="338" y="1582"/>
                  </a:lnTo>
                  <a:lnTo>
                    <a:pt x="342" y="1588"/>
                  </a:lnTo>
                  <a:lnTo>
                    <a:pt x="356" y="1594"/>
                  </a:lnTo>
                  <a:lnTo>
                    <a:pt x="370" y="1592"/>
                  </a:lnTo>
                  <a:lnTo>
                    <a:pt x="404" y="1598"/>
                  </a:lnTo>
                  <a:lnTo>
                    <a:pt x="404" y="1610"/>
                  </a:lnTo>
                  <a:lnTo>
                    <a:pt x="394" y="1626"/>
                  </a:lnTo>
                  <a:lnTo>
                    <a:pt x="378" y="1624"/>
                  </a:lnTo>
                  <a:lnTo>
                    <a:pt x="358" y="1624"/>
                  </a:lnTo>
                  <a:lnTo>
                    <a:pt x="346" y="1618"/>
                  </a:lnTo>
                  <a:lnTo>
                    <a:pt x="336" y="1618"/>
                  </a:lnTo>
                  <a:lnTo>
                    <a:pt x="324" y="1614"/>
                  </a:lnTo>
                  <a:lnTo>
                    <a:pt x="312" y="1600"/>
                  </a:lnTo>
                  <a:lnTo>
                    <a:pt x="310" y="1632"/>
                  </a:lnTo>
                  <a:lnTo>
                    <a:pt x="338" y="1630"/>
                  </a:lnTo>
                  <a:lnTo>
                    <a:pt x="346" y="1636"/>
                  </a:lnTo>
                  <a:lnTo>
                    <a:pt x="350" y="1644"/>
                  </a:lnTo>
                  <a:lnTo>
                    <a:pt x="346" y="1652"/>
                  </a:lnTo>
                  <a:lnTo>
                    <a:pt x="372" y="1644"/>
                  </a:lnTo>
                  <a:lnTo>
                    <a:pt x="386" y="1644"/>
                  </a:lnTo>
                  <a:lnTo>
                    <a:pt x="392" y="1646"/>
                  </a:lnTo>
                  <a:lnTo>
                    <a:pt x="392" y="1656"/>
                  </a:lnTo>
                  <a:lnTo>
                    <a:pt x="408" y="1648"/>
                  </a:lnTo>
                  <a:lnTo>
                    <a:pt x="406" y="1670"/>
                  </a:lnTo>
                  <a:lnTo>
                    <a:pt x="436" y="1652"/>
                  </a:lnTo>
                  <a:lnTo>
                    <a:pt x="440" y="1656"/>
                  </a:lnTo>
                  <a:lnTo>
                    <a:pt x="440" y="1668"/>
                  </a:lnTo>
                  <a:lnTo>
                    <a:pt x="450" y="1674"/>
                  </a:lnTo>
                  <a:lnTo>
                    <a:pt x="458" y="1684"/>
                  </a:lnTo>
                  <a:lnTo>
                    <a:pt x="470" y="1676"/>
                  </a:lnTo>
                  <a:lnTo>
                    <a:pt x="498" y="1674"/>
                  </a:lnTo>
                  <a:lnTo>
                    <a:pt x="504" y="1666"/>
                  </a:lnTo>
                  <a:lnTo>
                    <a:pt x="532" y="1672"/>
                  </a:lnTo>
                  <a:lnTo>
                    <a:pt x="596" y="1680"/>
                  </a:lnTo>
                  <a:lnTo>
                    <a:pt x="630" y="1688"/>
                  </a:lnTo>
                  <a:lnTo>
                    <a:pt x="640" y="1688"/>
                  </a:lnTo>
                  <a:lnTo>
                    <a:pt x="644" y="1682"/>
                  </a:lnTo>
                  <a:lnTo>
                    <a:pt x="636" y="1678"/>
                  </a:lnTo>
                  <a:lnTo>
                    <a:pt x="700" y="1684"/>
                  </a:lnTo>
                  <a:lnTo>
                    <a:pt x="712" y="1690"/>
                  </a:lnTo>
                  <a:lnTo>
                    <a:pt x="778" y="1708"/>
                  </a:lnTo>
                  <a:lnTo>
                    <a:pt x="798" y="1720"/>
                  </a:lnTo>
                  <a:lnTo>
                    <a:pt x="848" y="1738"/>
                  </a:lnTo>
                  <a:lnTo>
                    <a:pt x="864" y="1748"/>
                  </a:lnTo>
                  <a:lnTo>
                    <a:pt x="900" y="1762"/>
                  </a:lnTo>
                  <a:lnTo>
                    <a:pt x="966" y="1794"/>
                  </a:lnTo>
                  <a:lnTo>
                    <a:pt x="982" y="1806"/>
                  </a:lnTo>
                  <a:lnTo>
                    <a:pt x="988" y="1814"/>
                  </a:lnTo>
                  <a:lnTo>
                    <a:pt x="1006" y="1826"/>
                  </a:lnTo>
                  <a:lnTo>
                    <a:pt x="1046" y="1830"/>
                  </a:lnTo>
                  <a:lnTo>
                    <a:pt x="1026" y="1812"/>
                  </a:lnTo>
                  <a:lnTo>
                    <a:pt x="1054" y="1828"/>
                  </a:lnTo>
                  <a:lnTo>
                    <a:pt x="1066" y="1842"/>
                  </a:lnTo>
                  <a:lnTo>
                    <a:pt x="1074" y="1848"/>
                  </a:lnTo>
                  <a:lnTo>
                    <a:pt x="1074" y="1838"/>
                  </a:lnTo>
                  <a:lnTo>
                    <a:pt x="1094" y="1850"/>
                  </a:lnTo>
                  <a:lnTo>
                    <a:pt x="1142" y="1866"/>
                  </a:lnTo>
                  <a:lnTo>
                    <a:pt x="1154" y="1862"/>
                  </a:lnTo>
                  <a:lnTo>
                    <a:pt x="1142" y="1848"/>
                  </a:lnTo>
                  <a:lnTo>
                    <a:pt x="1156" y="1854"/>
                  </a:lnTo>
                  <a:lnTo>
                    <a:pt x="1168" y="1858"/>
                  </a:lnTo>
                  <a:lnTo>
                    <a:pt x="1178" y="1868"/>
                  </a:lnTo>
                  <a:lnTo>
                    <a:pt x="1206" y="1884"/>
                  </a:lnTo>
                  <a:lnTo>
                    <a:pt x="1218" y="1890"/>
                  </a:lnTo>
                  <a:lnTo>
                    <a:pt x="1220" y="1900"/>
                  </a:lnTo>
                  <a:lnTo>
                    <a:pt x="1238" y="1910"/>
                  </a:lnTo>
                  <a:lnTo>
                    <a:pt x="1246" y="1904"/>
                  </a:lnTo>
                  <a:lnTo>
                    <a:pt x="1270" y="1912"/>
                  </a:lnTo>
                  <a:lnTo>
                    <a:pt x="1294" y="1926"/>
                  </a:lnTo>
                  <a:lnTo>
                    <a:pt x="1306" y="1952"/>
                  </a:lnTo>
                  <a:lnTo>
                    <a:pt x="1320" y="1968"/>
                  </a:lnTo>
                  <a:lnTo>
                    <a:pt x="1330" y="1994"/>
                  </a:lnTo>
                  <a:lnTo>
                    <a:pt x="1338" y="2000"/>
                  </a:lnTo>
                  <a:lnTo>
                    <a:pt x="1356" y="2006"/>
                  </a:lnTo>
                  <a:lnTo>
                    <a:pt x="1360" y="2032"/>
                  </a:lnTo>
                  <a:lnTo>
                    <a:pt x="1354" y="2064"/>
                  </a:lnTo>
                  <a:lnTo>
                    <a:pt x="1330" y="2106"/>
                  </a:lnTo>
                  <a:lnTo>
                    <a:pt x="1304" y="2132"/>
                  </a:lnTo>
                  <a:lnTo>
                    <a:pt x="1290" y="2140"/>
                  </a:lnTo>
                  <a:lnTo>
                    <a:pt x="1276" y="2154"/>
                  </a:lnTo>
                  <a:lnTo>
                    <a:pt x="1202" y="2182"/>
                  </a:lnTo>
                  <a:lnTo>
                    <a:pt x="1182" y="2184"/>
                  </a:lnTo>
                  <a:lnTo>
                    <a:pt x="1160" y="2192"/>
                  </a:lnTo>
                  <a:lnTo>
                    <a:pt x="1070" y="2192"/>
                  </a:lnTo>
                  <a:lnTo>
                    <a:pt x="1032" y="2188"/>
                  </a:lnTo>
                  <a:lnTo>
                    <a:pt x="1012" y="2176"/>
                  </a:lnTo>
                  <a:lnTo>
                    <a:pt x="962" y="2164"/>
                  </a:lnTo>
                  <a:lnTo>
                    <a:pt x="908" y="2164"/>
                  </a:lnTo>
                  <a:lnTo>
                    <a:pt x="880" y="2156"/>
                  </a:lnTo>
                  <a:lnTo>
                    <a:pt x="816" y="2146"/>
                  </a:lnTo>
                  <a:lnTo>
                    <a:pt x="798" y="2136"/>
                  </a:lnTo>
                  <a:lnTo>
                    <a:pt x="774" y="2136"/>
                  </a:lnTo>
                  <a:lnTo>
                    <a:pt x="760" y="2124"/>
                  </a:lnTo>
                  <a:lnTo>
                    <a:pt x="726" y="2120"/>
                  </a:lnTo>
                  <a:lnTo>
                    <a:pt x="700" y="2126"/>
                  </a:lnTo>
                  <a:lnTo>
                    <a:pt x="688" y="2112"/>
                  </a:lnTo>
                  <a:lnTo>
                    <a:pt x="678" y="2096"/>
                  </a:lnTo>
                  <a:lnTo>
                    <a:pt x="666" y="2096"/>
                  </a:lnTo>
                  <a:lnTo>
                    <a:pt x="660" y="2104"/>
                  </a:lnTo>
                  <a:lnTo>
                    <a:pt x="650" y="2100"/>
                  </a:lnTo>
                  <a:lnTo>
                    <a:pt x="642" y="2108"/>
                  </a:lnTo>
                  <a:lnTo>
                    <a:pt x="622" y="2100"/>
                  </a:lnTo>
                  <a:lnTo>
                    <a:pt x="604" y="2082"/>
                  </a:lnTo>
                  <a:lnTo>
                    <a:pt x="600" y="2094"/>
                  </a:lnTo>
                  <a:lnTo>
                    <a:pt x="594" y="2096"/>
                  </a:lnTo>
                  <a:lnTo>
                    <a:pt x="536" y="2076"/>
                  </a:lnTo>
                  <a:lnTo>
                    <a:pt x="512" y="2058"/>
                  </a:lnTo>
                  <a:lnTo>
                    <a:pt x="506" y="2046"/>
                  </a:lnTo>
                  <a:lnTo>
                    <a:pt x="468" y="2032"/>
                  </a:lnTo>
                  <a:lnTo>
                    <a:pt x="430" y="2038"/>
                  </a:lnTo>
                  <a:lnTo>
                    <a:pt x="422" y="2048"/>
                  </a:lnTo>
                  <a:lnTo>
                    <a:pt x="452" y="2052"/>
                  </a:lnTo>
                  <a:lnTo>
                    <a:pt x="468" y="2066"/>
                  </a:lnTo>
                  <a:lnTo>
                    <a:pt x="482" y="2086"/>
                  </a:lnTo>
                  <a:lnTo>
                    <a:pt x="514" y="2102"/>
                  </a:lnTo>
                  <a:lnTo>
                    <a:pt x="506" y="2110"/>
                  </a:lnTo>
                  <a:lnTo>
                    <a:pt x="576" y="2144"/>
                  </a:lnTo>
                  <a:lnTo>
                    <a:pt x="608" y="2146"/>
                  </a:lnTo>
                  <a:lnTo>
                    <a:pt x="614" y="2152"/>
                  </a:lnTo>
                  <a:lnTo>
                    <a:pt x="614" y="2164"/>
                  </a:lnTo>
                  <a:lnTo>
                    <a:pt x="616" y="2172"/>
                  </a:lnTo>
                  <a:lnTo>
                    <a:pt x="648" y="2178"/>
                  </a:lnTo>
                  <a:lnTo>
                    <a:pt x="670" y="2178"/>
                  </a:lnTo>
                  <a:lnTo>
                    <a:pt x="682" y="2194"/>
                  </a:lnTo>
                  <a:lnTo>
                    <a:pt x="712" y="2198"/>
                  </a:lnTo>
                  <a:lnTo>
                    <a:pt x="722" y="2204"/>
                  </a:lnTo>
                  <a:lnTo>
                    <a:pt x="744" y="2228"/>
                  </a:lnTo>
                  <a:lnTo>
                    <a:pt x="760" y="2238"/>
                  </a:lnTo>
                  <a:lnTo>
                    <a:pt x="766" y="2252"/>
                  </a:lnTo>
                  <a:lnTo>
                    <a:pt x="772" y="2284"/>
                  </a:lnTo>
                  <a:lnTo>
                    <a:pt x="772" y="2314"/>
                  </a:lnTo>
                  <a:lnTo>
                    <a:pt x="748" y="2318"/>
                  </a:lnTo>
                  <a:lnTo>
                    <a:pt x="742" y="2330"/>
                  </a:lnTo>
                  <a:lnTo>
                    <a:pt x="790" y="2374"/>
                  </a:lnTo>
                  <a:lnTo>
                    <a:pt x="794" y="2394"/>
                  </a:lnTo>
                  <a:lnTo>
                    <a:pt x="816" y="2406"/>
                  </a:lnTo>
                  <a:lnTo>
                    <a:pt x="820" y="2428"/>
                  </a:lnTo>
                  <a:lnTo>
                    <a:pt x="832" y="2454"/>
                  </a:lnTo>
                  <a:lnTo>
                    <a:pt x="816" y="2466"/>
                  </a:lnTo>
                  <a:lnTo>
                    <a:pt x="814" y="2478"/>
                  </a:lnTo>
                  <a:lnTo>
                    <a:pt x="838" y="2468"/>
                  </a:lnTo>
                  <a:lnTo>
                    <a:pt x="854" y="2484"/>
                  </a:lnTo>
                  <a:lnTo>
                    <a:pt x="892" y="2502"/>
                  </a:lnTo>
                  <a:lnTo>
                    <a:pt x="912" y="2500"/>
                  </a:lnTo>
                  <a:lnTo>
                    <a:pt x="920" y="2492"/>
                  </a:lnTo>
                  <a:lnTo>
                    <a:pt x="940" y="2496"/>
                  </a:lnTo>
                  <a:lnTo>
                    <a:pt x="958" y="2512"/>
                  </a:lnTo>
                  <a:lnTo>
                    <a:pt x="976" y="2520"/>
                  </a:lnTo>
                  <a:lnTo>
                    <a:pt x="994" y="2534"/>
                  </a:lnTo>
                  <a:lnTo>
                    <a:pt x="1002" y="2544"/>
                  </a:lnTo>
                  <a:lnTo>
                    <a:pt x="1036" y="2550"/>
                  </a:lnTo>
                  <a:lnTo>
                    <a:pt x="1102" y="2570"/>
                  </a:lnTo>
                  <a:lnTo>
                    <a:pt x="1122" y="2572"/>
                  </a:lnTo>
                  <a:lnTo>
                    <a:pt x="1150" y="2582"/>
                  </a:lnTo>
                  <a:lnTo>
                    <a:pt x="1150" y="2576"/>
                  </a:lnTo>
                  <a:lnTo>
                    <a:pt x="1154" y="2566"/>
                  </a:lnTo>
                  <a:lnTo>
                    <a:pt x="1176" y="2552"/>
                  </a:lnTo>
                  <a:lnTo>
                    <a:pt x="1214" y="2560"/>
                  </a:lnTo>
                  <a:lnTo>
                    <a:pt x="1200" y="2550"/>
                  </a:lnTo>
                  <a:lnTo>
                    <a:pt x="1168" y="2488"/>
                  </a:lnTo>
                  <a:lnTo>
                    <a:pt x="1150" y="2468"/>
                  </a:lnTo>
                  <a:lnTo>
                    <a:pt x="1098" y="2486"/>
                  </a:lnTo>
                  <a:lnTo>
                    <a:pt x="1060" y="2464"/>
                  </a:lnTo>
                  <a:lnTo>
                    <a:pt x="1030" y="2434"/>
                  </a:lnTo>
                  <a:lnTo>
                    <a:pt x="1012" y="2430"/>
                  </a:lnTo>
                  <a:lnTo>
                    <a:pt x="996" y="2412"/>
                  </a:lnTo>
                  <a:lnTo>
                    <a:pt x="988" y="2398"/>
                  </a:lnTo>
                  <a:lnTo>
                    <a:pt x="1004" y="2392"/>
                  </a:lnTo>
                  <a:lnTo>
                    <a:pt x="1016" y="2376"/>
                  </a:lnTo>
                  <a:lnTo>
                    <a:pt x="1014" y="2350"/>
                  </a:lnTo>
                  <a:lnTo>
                    <a:pt x="1034" y="2352"/>
                  </a:lnTo>
                  <a:lnTo>
                    <a:pt x="1074" y="2364"/>
                  </a:lnTo>
                  <a:lnTo>
                    <a:pt x="1108" y="2376"/>
                  </a:lnTo>
                  <a:lnTo>
                    <a:pt x="1122" y="2394"/>
                  </a:lnTo>
                  <a:lnTo>
                    <a:pt x="1152" y="2398"/>
                  </a:lnTo>
                  <a:lnTo>
                    <a:pt x="1178" y="2404"/>
                  </a:lnTo>
                  <a:lnTo>
                    <a:pt x="1152" y="2416"/>
                  </a:lnTo>
                  <a:lnTo>
                    <a:pt x="1168" y="2442"/>
                  </a:lnTo>
                  <a:lnTo>
                    <a:pt x="1176" y="2424"/>
                  </a:lnTo>
                  <a:lnTo>
                    <a:pt x="1200" y="2406"/>
                  </a:lnTo>
                  <a:lnTo>
                    <a:pt x="1220" y="2414"/>
                  </a:lnTo>
                  <a:lnTo>
                    <a:pt x="1248" y="2416"/>
                  </a:lnTo>
                  <a:lnTo>
                    <a:pt x="1288" y="2434"/>
                  </a:lnTo>
                  <a:lnTo>
                    <a:pt x="1328" y="2444"/>
                  </a:lnTo>
                  <a:lnTo>
                    <a:pt x="1354" y="2446"/>
                  </a:lnTo>
                  <a:lnTo>
                    <a:pt x="1356" y="2440"/>
                  </a:lnTo>
                  <a:lnTo>
                    <a:pt x="1352" y="2434"/>
                  </a:lnTo>
                  <a:lnTo>
                    <a:pt x="1410" y="2446"/>
                  </a:lnTo>
                  <a:lnTo>
                    <a:pt x="1420" y="2442"/>
                  </a:lnTo>
                  <a:lnTo>
                    <a:pt x="1460" y="2456"/>
                  </a:lnTo>
                  <a:lnTo>
                    <a:pt x="1456" y="2448"/>
                  </a:lnTo>
                  <a:lnTo>
                    <a:pt x="1436" y="2432"/>
                  </a:lnTo>
                  <a:lnTo>
                    <a:pt x="1428" y="2420"/>
                  </a:lnTo>
                  <a:lnTo>
                    <a:pt x="1388" y="2380"/>
                  </a:lnTo>
                  <a:lnTo>
                    <a:pt x="1370" y="2362"/>
                  </a:lnTo>
                  <a:lnTo>
                    <a:pt x="1342" y="2344"/>
                  </a:lnTo>
                  <a:lnTo>
                    <a:pt x="1310" y="2314"/>
                  </a:lnTo>
                  <a:lnTo>
                    <a:pt x="1294" y="2282"/>
                  </a:lnTo>
                  <a:lnTo>
                    <a:pt x="1288" y="2266"/>
                  </a:lnTo>
                  <a:lnTo>
                    <a:pt x="1310" y="2260"/>
                  </a:lnTo>
                  <a:lnTo>
                    <a:pt x="1328" y="2246"/>
                  </a:lnTo>
                  <a:lnTo>
                    <a:pt x="1344" y="2232"/>
                  </a:lnTo>
                  <a:lnTo>
                    <a:pt x="1350" y="2214"/>
                  </a:lnTo>
                  <a:lnTo>
                    <a:pt x="1370" y="2202"/>
                  </a:lnTo>
                  <a:lnTo>
                    <a:pt x="1386" y="2202"/>
                  </a:lnTo>
                  <a:lnTo>
                    <a:pt x="1426" y="2188"/>
                  </a:lnTo>
                  <a:lnTo>
                    <a:pt x="1440" y="2172"/>
                  </a:lnTo>
                  <a:lnTo>
                    <a:pt x="1452" y="2154"/>
                  </a:lnTo>
                  <a:lnTo>
                    <a:pt x="1474" y="2132"/>
                  </a:lnTo>
                  <a:lnTo>
                    <a:pt x="1476" y="2118"/>
                  </a:lnTo>
                  <a:lnTo>
                    <a:pt x="1488" y="2106"/>
                  </a:lnTo>
                  <a:lnTo>
                    <a:pt x="1534" y="2128"/>
                  </a:lnTo>
                  <a:lnTo>
                    <a:pt x="1578" y="2126"/>
                  </a:lnTo>
                  <a:lnTo>
                    <a:pt x="1594" y="2130"/>
                  </a:lnTo>
                  <a:lnTo>
                    <a:pt x="1632" y="2148"/>
                  </a:lnTo>
                  <a:lnTo>
                    <a:pt x="1634" y="2162"/>
                  </a:lnTo>
                  <a:lnTo>
                    <a:pt x="1628" y="2180"/>
                  </a:lnTo>
                  <a:lnTo>
                    <a:pt x="1646" y="2166"/>
                  </a:lnTo>
                  <a:lnTo>
                    <a:pt x="1662" y="2164"/>
                  </a:lnTo>
                  <a:lnTo>
                    <a:pt x="1678" y="2176"/>
                  </a:lnTo>
                  <a:lnTo>
                    <a:pt x="1688" y="2190"/>
                  </a:lnTo>
                  <a:lnTo>
                    <a:pt x="1714" y="2208"/>
                  </a:lnTo>
                  <a:lnTo>
                    <a:pt x="1704" y="2162"/>
                  </a:lnTo>
                  <a:lnTo>
                    <a:pt x="1684" y="2142"/>
                  </a:lnTo>
                  <a:lnTo>
                    <a:pt x="1686" y="2112"/>
                  </a:lnTo>
                  <a:lnTo>
                    <a:pt x="1696" y="2092"/>
                  </a:lnTo>
                  <a:lnTo>
                    <a:pt x="1696" y="2070"/>
                  </a:lnTo>
                  <a:lnTo>
                    <a:pt x="1686" y="2056"/>
                  </a:lnTo>
                  <a:lnTo>
                    <a:pt x="1686" y="2040"/>
                  </a:lnTo>
                  <a:lnTo>
                    <a:pt x="1684" y="2026"/>
                  </a:lnTo>
                  <a:lnTo>
                    <a:pt x="1658" y="2004"/>
                  </a:lnTo>
                  <a:lnTo>
                    <a:pt x="1638" y="1994"/>
                  </a:lnTo>
                  <a:lnTo>
                    <a:pt x="1614" y="1996"/>
                  </a:lnTo>
                  <a:lnTo>
                    <a:pt x="1604" y="1992"/>
                  </a:lnTo>
                  <a:lnTo>
                    <a:pt x="1594" y="1972"/>
                  </a:lnTo>
                  <a:lnTo>
                    <a:pt x="1588" y="1956"/>
                  </a:lnTo>
                  <a:lnTo>
                    <a:pt x="1594" y="1896"/>
                  </a:lnTo>
                  <a:lnTo>
                    <a:pt x="1584" y="1878"/>
                  </a:lnTo>
                  <a:lnTo>
                    <a:pt x="1584" y="1854"/>
                  </a:lnTo>
                  <a:lnTo>
                    <a:pt x="1574" y="1838"/>
                  </a:lnTo>
                  <a:lnTo>
                    <a:pt x="1560" y="1800"/>
                  </a:lnTo>
                  <a:lnTo>
                    <a:pt x="1458" y="1756"/>
                  </a:lnTo>
                  <a:lnTo>
                    <a:pt x="1450" y="1746"/>
                  </a:lnTo>
                  <a:lnTo>
                    <a:pt x="1532" y="1766"/>
                  </a:lnTo>
                  <a:lnTo>
                    <a:pt x="1552" y="1770"/>
                  </a:lnTo>
                  <a:lnTo>
                    <a:pt x="1570" y="1764"/>
                  </a:lnTo>
                  <a:lnTo>
                    <a:pt x="1614" y="1766"/>
                  </a:lnTo>
                  <a:lnTo>
                    <a:pt x="1656" y="1764"/>
                  </a:lnTo>
                  <a:lnTo>
                    <a:pt x="1704" y="1770"/>
                  </a:lnTo>
                  <a:lnTo>
                    <a:pt x="1728" y="1780"/>
                  </a:lnTo>
                  <a:lnTo>
                    <a:pt x="1736" y="1798"/>
                  </a:lnTo>
                  <a:lnTo>
                    <a:pt x="1750" y="1802"/>
                  </a:lnTo>
                  <a:lnTo>
                    <a:pt x="1774" y="1824"/>
                  </a:lnTo>
                  <a:lnTo>
                    <a:pt x="1790" y="1816"/>
                  </a:lnTo>
                  <a:lnTo>
                    <a:pt x="1804" y="1836"/>
                  </a:lnTo>
                  <a:lnTo>
                    <a:pt x="1816" y="1858"/>
                  </a:lnTo>
                  <a:lnTo>
                    <a:pt x="1838" y="1876"/>
                  </a:lnTo>
                  <a:lnTo>
                    <a:pt x="1744" y="1892"/>
                  </a:lnTo>
                  <a:lnTo>
                    <a:pt x="1720" y="1900"/>
                  </a:lnTo>
                  <a:lnTo>
                    <a:pt x="1720" y="1916"/>
                  </a:lnTo>
                  <a:lnTo>
                    <a:pt x="1710" y="1928"/>
                  </a:lnTo>
                  <a:lnTo>
                    <a:pt x="1692" y="1928"/>
                  </a:lnTo>
                  <a:lnTo>
                    <a:pt x="1700" y="1948"/>
                  </a:lnTo>
                  <a:lnTo>
                    <a:pt x="1716" y="1964"/>
                  </a:lnTo>
                  <a:lnTo>
                    <a:pt x="1738" y="1974"/>
                  </a:lnTo>
                  <a:lnTo>
                    <a:pt x="1788" y="2002"/>
                  </a:lnTo>
                  <a:lnTo>
                    <a:pt x="1802" y="2016"/>
                  </a:lnTo>
                  <a:lnTo>
                    <a:pt x="1832" y="2040"/>
                  </a:lnTo>
                  <a:lnTo>
                    <a:pt x="1850" y="2046"/>
                  </a:lnTo>
                  <a:lnTo>
                    <a:pt x="1868" y="2046"/>
                  </a:lnTo>
                  <a:lnTo>
                    <a:pt x="1886" y="2034"/>
                  </a:lnTo>
                  <a:lnTo>
                    <a:pt x="1898" y="2052"/>
                  </a:lnTo>
                  <a:lnTo>
                    <a:pt x="1912" y="2070"/>
                  </a:lnTo>
                  <a:lnTo>
                    <a:pt x="1912" y="2044"/>
                  </a:lnTo>
                  <a:lnTo>
                    <a:pt x="1946" y="2032"/>
                  </a:lnTo>
                  <a:lnTo>
                    <a:pt x="1966" y="2034"/>
                  </a:lnTo>
                  <a:lnTo>
                    <a:pt x="1992" y="2022"/>
                  </a:lnTo>
                  <a:lnTo>
                    <a:pt x="1998" y="2006"/>
                  </a:lnTo>
                  <a:lnTo>
                    <a:pt x="1982" y="1978"/>
                  </a:lnTo>
                  <a:lnTo>
                    <a:pt x="1984" y="1964"/>
                  </a:lnTo>
                  <a:lnTo>
                    <a:pt x="1984" y="1926"/>
                  </a:lnTo>
                  <a:lnTo>
                    <a:pt x="1988" y="1910"/>
                  </a:lnTo>
                  <a:lnTo>
                    <a:pt x="2000" y="1912"/>
                  </a:lnTo>
                  <a:lnTo>
                    <a:pt x="2014" y="1904"/>
                  </a:lnTo>
                  <a:lnTo>
                    <a:pt x="2050" y="1898"/>
                  </a:lnTo>
                  <a:lnTo>
                    <a:pt x="2064" y="1888"/>
                  </a:lnTo>
                  <a:lnTo>
                    <a:pt x="2054" y="1886"/>
                  </a:lnTo>
                  <a:lnTo>
                    <a:pt x="2050" y="1868"/>
                  </a:lnTo>
                  <a:lnTo>
                    <a:pt x="2066" y="1868"/>
                  </a:lnTo>
                  <a:lnTo>
                    <a:pt x="2174" y="1808"/>
                  </a:lnTo>
                  <a:lnTo>
                    <a:pt x="2208" y="1778"/>
                  </a:lnTo>
                  <a:lnTo>
                    <a:pt x="2220" y="1774"/>
                  </a:lnTo>
                  <a:lnTo>
                    <a:pt x="2226" y="1776"/>
                  </a:lnTo>
                  <a:lnTo>
                    <a:pt x="2284" y="1754"/>
                  </a:lnTo>
                  <a:lnTo>
                    <a:pt x="2278" y="1750"/>
                  </a:lnTo>
                  <a:lnTo>
                    <a:pt x="2322" y="1740"/>
                  </a:lnTo>
                  <a:lnTo>
                    <a:pt x="2340" y="1752"/>
                  </a:lnTo>
                  <a:lnTo>
                    <a:pt x="2356" y="1766"/>
                  </a:lnTo>
                  <a:lnTo>
                    <a:pt x="2364" y="1764"/>
                  </a:lnTo>
                  <a:lnTo>
                    <a:pt x="2376" y="1756"/>
                  </a:lnTo>
                  <a:lnTo>
                    <a:pt x="2374" y="1744"/>
                  </a:lnTo>
                  <a:lnTo>
                    <a:pt x="2368" y="1734"/>
                  </a:lnTo>
                  <a:lnTo>
                    <a:pt x="2358" y="1724"/>
                  </a:lnTo>
                  <a:lnTo>
                    <a:pt x="2344" y="1728"/>
                  </a:lnTo>
                  <a:lnTo>
                    <a:pt x="2370" y="1698"/>
                  </a:lnTo>
                  <a:lnTo>
                    <a:pt x="2384" y="1698"/>
                  </a:lnTo>
                  <a:lnTo>
                    <a:pt x="2378" y="1708"/>
                  </a:lnTo>
                  <a:lnTo>
                    <a:pt x="2390" y="1718"/>
                  </a:lnTo>
                  <a:lnTo>
                    <a:pt x="2406" y="1722"/>
                  </a:lnTo>
                  <a:lnTo>
                    <a:pt x="2424" y="1714"/>
                  </a:lnTo>
                  <a:lnTo>
                    <a:pt x="2420" y="1706"/>
                  </a:lnTo>
                  <a:lnTo>
                    <a:pt x="2406" y="1692"/>
                  </a:lnTo>
                  <a:lnTo>
                    <a:pt x="2410" y="1688"/>
                  </a:lnTo>
                  <a:lnTo>
                    <a:pt x="2422" y="1682"/>
                  </a:lnTo>
                  <a:lnTo>
                    <a:pt x="2416" y="1674"/>
                  </a:lnTo>
                  <a:lnTo>
                    <a:pt x="2450" y="1662"/>
                  </a:lnTo>
                  <a:lnTo>
                    <a:pt x="2474" y="1658"/>
                  </a:lnTo>
                  <a:lnTo>
                    <a:pt x="2488" y="1660"/>
                  </a:lnTo>
                  <a:lnTo>
                    <a:pt x="2516" y="1652"/>
                  </a:lnTo>
                  <a:lnTo>
                    <a:pt x="2524" y="1650"/>
                  </a:lnTo>
                  <a:lnTo>
                    <a:pt x="2522" y="1652"/>
                  </a:lnTo>
                  <a:lnTo>
                    <a:pt x="2506" y="1660"/>
                  </a:lnTo>
                  <a:lnTo>
                    <a:pt x="2462" y="1664"/>
                  </a:lnTo>
                  <a:lnTo>
                    <a:pt x="2452" y="1670"/>
                  </a:lnTo>
                  <a:lnTo>
                    <a:pt x="2456" y="1682"/>
                  </a:lnTo>
                  <a:lnTo>
                    <a:pt x="2462" y="1680"/>
                  </a:lnTo>
                  <a:lnTo>
                    <a:pt x="2458" y="1672"/>
                  </a:lnTo>
                  <a:lnTo>
                    <a:pt x="2468" y="1674"/>
                  </a:lnTo>
                  <a:lnTo>
                    <a:pt x="2486" y="1686"/>
                  </a:lnTo>
                  <a:lnTo>
                    <a:pt x="2490" y="1702"/>
                  </a:lnTo>
                  <a:lnTo>
                    <a:pt x="2486" y="1720"/>
                  </a:lnTo>
                  <a:lnTo>
                    <a:pt x="2490" y="1728"/>
                  </a:lnTo>
                  <a:lnTo>
                    <a:pt x="2504" y="1734"/>
                  </a:lnTo>
                  <a:lnTo>
                    <a:pt x="2518" y="1764"/>
                  </a:lnTo>
                  <a:lnTo>
                    <a:pt x="2546" y="1780"/>
                  </a:lnTo>
                  <a:lnTo>
                    <a:pt x="2556" y="1774"/>
                  </a:lnTo>
                  <a:lnTo>
                    <a:pt x="2562" y="1770"/>
                  </a:lnTo>
                  <a:lnTo>
                    <a:pt x="2582" y="1782"/>
                  </a:lnTo>
                  <a:lnTo>
                    <a:pt x="2600" y="1788"/>
                  </a:lnTo>
                  <a:lnTo>
                    <a:pt x="2616" y="1788"/>
                  </a:lnTo>
                  <a:lnTo>
                    <a:pt x="2616" y="1778"/>
                  </a:lnTo>
                  <a:lnTo>
                    <a:pt x="2606" y="1754"/>
                  </a:lnTo>
                  <a:lnTo>
                    <a:pt x="2610" y="1744"/>
                  </a:lnTo>
                  <a:lnTo>
                    <a:pt x="2640" y="1718"/>
                  </a:lnTo>
                  <a:lnTo>
                    <a:pt x="2660" y="1718"/>
                  </a:lnTo>
                  <a:lnTo>
                    <a:pt x="2694" y="1700"/>
                  </a:lnTo>
                  <a:lnTo>
                    <a:pt x="2730" y="1712"/>
                  </a:lnTo>
                  <a:lnTo>
                    <a:pt x="2760" y="1704"/>
                  </a:lnTo>
                  <a:lnTo>
                    <a:pt x="2788" y="1706"/>
                  </a:lnTo>
                  <a:lnTo>
                    <a:pt x="2804" y="1716"/>
                  </a:lnTo>
                  <a:lnTo>
                    <a:pt x="2826" y="1714"/>
                  </a:lnTo>
                  <a:lnTo>
                    <a:pt x="2842" y="1678"/>
                  </a:lnTo>
                  <a:lnTo>
                    <a:pt x="2864" y="1670"/>
                  </a:lnTo>
                  <a:lnTo>
                    <a:pt x="2874" y="1652"/>
                  </a:lnTo>
                  <a:lnTo>
                    <a:pt x="2934" y="1630"/>
                  </a:lnTo>
                  <a:lnTo>
                    <a:pt x="2952" y="1630"/>
                  </a:lnTo>
                  <a:lnTo>
                    <a:pt x="2954" y="1640"/>
                  </a:lnTo>
                  <a:lnTo>
                    <a:pt x="3010" y="1672"/>
                  </a:lnTo>
                  <a:lnTo>
                    <a:pt x="3000" y="1680"/>
                  </a:lnTo>
                  <a:lnTo>
                    <a:pt x="2994" y="1690"/>
                  </a:lnTo>
                  <a:lnTo>
                    <a:pt x="2992" y="1700"/>
                  </a:lnTo>
                  <a:lnTo>
                    <a:pt x="3002" y="1720"/>
                  </a:lnTo>
                  <a:lnTo>
                    <a:pt x="3028" y="1732"/>
                  </a:lnTo>
                  <a:lnTo>
                    <a:pt x="3056" y="1738"/>
                  </a:lnTo>
                  <a:lnTo>
                    <a:pt x="3072" y="1730"/>
                  </a:lnTo>
                  <a:lnTo>
                    <a:pt x="3084" y="1712"/>
                  </a:lnTo>
                  <a:lnTo>
                    <a:pt x="3076" y="1702"/>
                  </a:lnTo>
                  <a:lnTo>
                    <a:pt x="3062" y="1692"/>
                  </a:lnTo>
                  <a:lnTo>
                    <a:pt x="3054" y="1676"/>
                  </a:lnTo>
                  <a:lnTo>
                    <a:pt x="3106" y="1670"/>
                  </a:lnTo>
                  <a:lnTo>
                    <a:pt x="3128" y="1644"/>
                  </a:lnTo>
                  <a:lnTo>
                    <a:pt x="3128" y="1636"/>
                  </a:lnTo>
                  <a:lnTo>
                    <a:pt x="3120" y="1600"/>
                  </a:lnTo>
                  <a:lnTo>
                    <a:pt x="3108" y="1598"/>
                  </a:lnTo>
                  <a:lnTo>
                    <a:pt x="3114" y="1606"/>
                  </a:lnTo>
                  <a:lnTo>
                    <a:pt x="3078" y="1570"/>
                  </a:lnTo>
                  <a:lnTo>
                    <a:pt x="3044" y="1550"/>
                  </a:lnTo>
                  <a:lnTo>
                    <a:pt x="3022" y="1532"/>
                  </a:lnTo>
                  <a:lnTo>
                    <a:pt x="3016" y="1522"/>
                  </a:lnTo>
                  <a:lnTo>
                    <a:pt x="3042" y="1506"/>
                  </a:lnTo>
                  <a:lnTo>
                    <a:pt x="3048" y="1498"/>
                  </a:lnTo>
                  <a:lnTo>
                    <a:pt x="3042" y="1486"/>
                  </a:lnTo>
                  <a:lnTo>
                    <a:pt x="3050" y="1482"/>
                  </a:lnTo>
                  <a:lnTo>
                    <a:pt x="3074" y="1482"/>
                  </a:lnTo>
                  <a:lnTo>
                    <a:pt x="3106" y="1488"/>
                  </a:lnTo>
                  <a:lnTo>
                    <a:pt x="3118" y="1494"/>
                  </a:lnTo>
                  <a:lnTo>
                    <a:pt x="3210" y="1494"/>
                  </a:lnTo>
                  <a:lnTo>
                    <a:pt x="3236" y="1490"/>
                  </a:lnTo>
                  <a:lnTo>
                    <a:pt x="3276" y="1504"/>
                  </a:lnTo>
                  <a:lnTo>
                    <a:pt x="3292" y="1502"/>
                  </a:lnTo>
                  <a:lnTo>
                    <a:pt x="3348" y="1514"/>
                  </a:lnTo>
                  <a:lnTo>
                    <a:pt x="3382" y="1518"/>
                  </a:lnTo>
                  <a:lnTo>
                    <a:pt x="3456" y="1546"/>
                  </a:lnTo>
                  <a:lnTo>
                    <a:pt x="3484" y="1552"/>
                  </a:lnTo>
                  <a:lnTo>
                    <a:pt x="3532" y="1568"/>
                  </a:lnTo>
                  <a:lnTo>
                    <a:pt x="3566" y="1570"/>
                  </a:lnTo>
                  <a:lnTo>
                    <a:pt x="3576" y="1574"/>
                  </a:lnTo>
                  <a:lnTo>
                    <a:pt x="3562" y="1576"/>
                  </a:lnTo>
                  <a:lnTo>
                    <a:pt x="3566" y="1584"/>
                  </a:lnTo>
                  <a:lnTo>
                    <a:pt x="3618" y="1592"/>
                  </a:lnTo>
                  <a:lnTo>
                    <a:pt x="3674" y="1612"/>
                  </a:lnTo>
                  <a:lnTo>
                    <a:pt x="3706" y="1614"/>
                  </a:lnTo>
                  <a:lnTo>
                    <a:pt x="3732" y="1622"/>
                  </a:lnTo>
                  <a:lnTo>
                    <a:pt x="3818" y="1666"/>
                  </a:lnTo>
                  <a:lnTo>
                    <a:pt x="3858" y="1676"/>
                  </a:lnTo>
                  <a:lnTo>
                    <a:pt x="3884" y="1690"/>
                  </a:lnTo>
                  <a:lnTo>
                    <a:pt x="3890" y="1706"/>
                  </a:lnTo>
                  <a:lnTo>
                    <a:pt x="3904" y="1714"/>
                  </a:lnTo>
                  <a:lnTo>
                    <a:pt x="3922" y="1700"/>
                  </a:lnTo>
                  <a:lnTo>
                    <a:pt x="3918" y="1686"/>
                  </a:lnTo>
                  <a:lnTo>
                    <a:pt x="3918" y="1660"/>
                  </a:lnTo>
                  <a:lnTo>
                    <a:pt x="3912" y="1624"/>
                  </a:lnTo>
                  <a:lnTo>
                    <a:pt x="3922" y="1604"/>
                  </a:lnTo>
                  <a:lnTo>
                    <a:pt x="3906" y="1598"/>
                  </a:lnTo>
                  <a:lnTo>
                    <a:pt x="3902" y="1590"/>
                  </a:lnTo>
                  <a:lnTo>
                    <a:pt x="3884" y="1596"/>
                  </a:lnTo>
                  <a:lnTo>
                    <a:pt x="3850" y="1586"/>
                  </a:lnTo>
                  <a:lnTo>
                    <a:pt x="3822" y="1564"/>
                  </a:lnTo>
                  <a:lnTo>
                    <a:pt x="3800" y="1550"/>
                  </a:lnTo>
                  <a:lnTo>
                    <a:pt x="3770" y="1524"/>
                  </a:lnTo>
                  <a:lnTo>
                    <a:pt x="3762" y="1502"/>
                  </a:lnTo>
                  <a:lnTo>
                    <a:pt x="3750" y="1502"/>
                  </a:lnTo>
                  <a:lnTo>
                    <a:pt x="3742" y="1506"/>
                  </a:lnTo>
                  <a:lnTo>
                    <a:pt x="3712" y="1494"/>
                  </a:lnTo>
                  <a:lnTo>
                    <a:pt x="3664" y="1480"/>
                  </a:lnTo>
                  <a:lnTo>
                    <a:pt x="3644" y="1488"/>
                  </a:lnTo>
                  <a:lnTo>
                    <a:pt x="3652" y="1504"/>
                  </a:lnTo>
                  <a:lnTo>
                    <a:pt x="3632" y="1488"/>
                  </a:lnTo>
                  <a:lnTo>
                    <a:pt x="3604" y="1444"/>
                  </a:lnTo>
                  <a:lnTo>
                    <a:pt x="3594" y="1420"/>
                  </a:lnTo>
                  <a:lnTo>
                    <a:pt x="3610" y="1428"/>
                  </a:lnTo>
                  <a:lnTo>
                    <a:pt x="3628" y="1428"/>
                  </a:lnTo>
                  <a:lnTo>
                    <a:pt x="3630" y="1412"/>
                  </a:lnTo>
                  <a:lnTo>
                    <a:pt x="3612" y="1400"/>
                  </a:lnTo>
                  <a:lnTo>
                    <a:pt x="3594" y="1378"/>
                  </a:lnTo>
                  <a:lnTo>
                    <a:pt x="3600" y="1364"/>
                  </a:lnTo>
                  <a:lnTo>
                    <a:pt x="3574" y="1322"/>
                  </a:lnTo>
                  <a:lnTo>
                    <a:pt x="3574" y="1308"/>
                  </a:lnTo>
                  <a:lnTo>
                    <a:pt x="3554" y="1294"/>
                  </a:lnTo>
                  <a:lnTo>
                    <a:pt x="3528" y="1294"/>
                  </a:lnTo>
                  <a:lnTo>
                    <a:pt x="3520" y="1302"/>
                  </a:lnTo>
                  <a:lnTo>
                    <a:pt x="3500" y="1308"/>
                  </a:lnTo>
                  <a:lnTo>
                    <a:pt x="3482" y="1296"/>
                  </a:lnTo>
                  <a:lnTo>
                    <a:pt x="3480" y="1278"/>
                  </a:lnTo>
                  <a:lnTo>
                    <a:pt x="3502" y="1266"/>
                  </a:lnTo>
                  <a:lnTo>
                    <a:pt x="3504" y="1254"/>
                  </a:lnTo>
                  <a:lnTo>
                    <a:pt x="3496" y="1240"/>
                  </a:lnTo>
                  <a:lnTo>
                    <a:pt x="3488" y="1238"/>
                  </a:lnTo>
                  <a:lnTo>
                    <a:pt x="3482" y="1256"/>
                  </a:lnTo>
                  <a:lnTo>
                    <a:pt x="3472" y="1256"/>
                  </a:lnTo>
                  <a:lnTo>
                    <a:pt x="3470" y="1250"/>
                  </a:lnTo>
                  <a:lnTo>
                    <a:pt x="3460" y="1218"/>
                  </a:lnTo>
                  <a:lnTo>
                    <a:pt x="3498" y="1204"/>
                  </a:lnTo>
                  <a:lnTo>
                    <a:pt x="3518" y="1184"/>
                  </a:lnTo>
                  <a:lnTo>
                    <a:pt x="3538" y="1162"/>
                  </a:lnTo>
                  <a:lnTo>
                    <a:pt x="3548" y="1126"/>
                  </a:lnTo>
                  <a:lnTo>
                    <a:pt x="3544" y="1108"/>
                  </a:lnTo>
                  <a:lnTo>
                    <a:pt x="3524" y="1060"/>
                  </a:lnTo>
                  <a:lnTo>
                    <a:pt x="3526" y="1050"/>
                  </a:lnTo>
                  <a:lnTo>
                    <a:pt x="3522" y="1030"/>
                  </a:lnTo>
                  <a:lnTo>
                    <a:pt x="3510" y="992"/>
                  </a:lnTo>
                  <a:lnTo>
                    <a:pt x="3510" y="976"/>
                  </a:lnTo>
                  <a:lnTo>
                    <a:pt x="3516" y="962"/>
                  </a:lnTo>
                  <a:lnTo>
                    <a:pt x="3516" y="950"/>
                  </a:lnTo>
                  <a:lnTo>
                    <a:pt x="3512" y="944"/>
                  </a:lnTo>
                  <a:lnTo>
                    <a:pt x="3514" y="936"/>
                  </a:lnTo>
                  <a:lnTo>
                    <a:pt x="3558" y="930"/>
                  </a:lnTo>
                  <a:lnTo>
                    <a:pt x="3552" y="938"/>
                  </a:lnTo>
                  <a:lnTo>
                    <a:pt x="3572" y="942"/>
                  </a:lnTo>
                  <a:lnTo>
                    <a:pt x="3620" y="938"/>
                  </a:lnTo>
                  <a:lnTo>
                    <a:pt x="3650" y="940"/>
                  </a:lnTo>
                  <a:lnTo>
                    <a:pt x="3714" y="930"/>
                  </a:lnTo>
                  <a:lnTo>
                    <a:pt x="3746" y="940"/>
                  </a:lnTo>
                  <a:lnTo>
                    <a:pt x="3824" y="952"/>
                  </a:lnTo>
                  <a:lnTo>
                    <a:pt x="3828" y="954"/>
                  </a:lnTo>
                  <a:lnTo>
                    <a:pt x="3824" y="960"/>
                  </a:lnTo>
                  <a:lnTo>
                    <a:pt x="3836" y="964"/>
                  </a:lnTo>
                  <a:lnTo>
                    <a:pt x="3846" y="984"/>
                  </a:lnTo>
                  <a:lnTo>
                    <a:pt x="3860" y="1000"/>
                  </a:lnTo>
                  <a:lnTo>
                    <a:pt x="3876" y="1014"/>
                  </a:lnTo>
                  <a:lnTo>
                    <a:pt x="3888" y="1038"/>
                  </a:lnTo>
                  <a:lnTo>
                    <a:pt x="3888" y="1052"/>
                  </a:lnTo>
                  <a:lnTo>
                    <a:pt x="3894" y="1078"/>
                  </a:lnTo>
                  <a:lnTo>
                    <a:pt x="3892" y="1094"/>
                  </a:lnTo>
                  <a:lnTo>
                    <a:pt x="3898" y="1104"/>
                  </a:lnTo>
                  <a:lnTo>
                    <a:pt x="3902" y="1110"/>
                  </a:lnTo>
                  <a:lnTo>
                    <a:pt x="3896" y="1120"/>
                  </a:lnTo>
                  <a:lnTo>
                    <a:pt x="3900" y="1130"/>
                  </a:lnTo>
                  <a:lnTo>
                    <a:pt x="3880" y="1140"/>
                  </a:lnTo>
                  <a:lnTo>
                    <a:pt x="3878" y="1144"/>
                  </a:lnTo>
                  <a:lnTo>
                    <a:pt x="3886" y="1156"/>
                  </a:lnTo>
                  <a:lnTo>
                    <a:pt x="3924" y="1178"/>
                  </a:lnTo>
                  <a:lnTo>
                    <a:pt x="3950" y="1190"/>
                  </a:lnTo>
                  <a:lnTo>
                    <a:pt x="3994" y="1202"/>
                  </a:lnTo>
                  <a:lnTo>
                    <a:pt x="4006" y="1226"/>
                  </a:lnTo>
                  <a:lnTo>
                    <a:pt x="4050" y="1256"/>
                  </a:lnTo>
                  <a:lnTo>
                    <a:pt x="4064" y="1276"/>
                  </a:lnTo>
                  <a:lnTo>
                    <a:pt x="4064" y="1292"/>
                  </a:lnTo>
                  <a:lnTo>
                    <a:pt x="4092" y="1324"/>
                  </a:lnTo>
                  <a:lnTo>
                    <a:pt x="4094" y="1330"/>
                  </a:lnTo>
                  <a:lnTo>
                    <a:pt x="4080" y="1342"/>
                  </a:lnTo>
                  <a:lnTo>
                    <a:pt x="4082" y="1356"/>
                  </a:lnTo>
                  <a:lnTo>
                    <a:pt x="4092" y="1368"/>
                  </a:lnTo>
                  <a:lnTo>
                    <a:pt x="4108" y="1374"/>
                  </a:lnTo>
                  <a:lnTo>
                    <a:pt x="4114" y="1380"/>
                  </a:lnTo>
                  <a:lnTo>
                    <a:pt x="4120" y="1396"/>
                  </a:lnTo>
                  <a:lnTo>
                    <a:pt x="4128" y="1406"/>
                  </a:lnTo>
                  <a:lnTo>
                    <a:pt x="4136" y="1410"/>
                  </a:lnTo>
                  <a:lnTo>
                    <a:pt x="4138" y="1414"/>
                  </a:lnTo>
                  <a:lnTo>
                    <a:pt x="4150" y="1422"/>
                  </a:lnTo>
                  <a:lnTo>
                    <a:pt x="4164" y="1442"/>
                  </a:lnTo>
                  <a:lnTo>
                    <a:pt x="4164" y="1458"/>
                  </a:lnTo>
                  <a:lnTo>
                    <a:pt x="4188" y="1482"/>
                  </a:lnTo>
                  <a:lnTo>
                    <a:pt x="4186" y="1496"/>
                  </a:lnTo>
                  <a:lnTo>
                    <a:pt x="4198" y="1510"/>
                  </a:lnTo>
                  <a:lnTo>
                    <a:pt x="4206" y="1526"/>
                  </a:lnTo>
                  <a:lnTo>
                    <a:pt x="4208" y="1542"/>
                  </a:lnTo>
                  <a:lnTo>
                    <a:pt x="4220" y="1560"/>
                  </a:lnTo>
                  <a:lnTo>
                    <a:pt x="4282" y="1594"/>
                  </a:lnTo>
                  <a:lnTo>
                    <a:pt x="4352" y="1620"/>
                  </a:lnTo>
                  <a:lnTo>
                    <a:pt x="4376" y="1652"/>
                  </a:lnTo>
                  <a:lnTo>
                    <a:pt x="4366" y="1680"/>
                  </a:lnTo>
                  <a:lnTo>
                    <a:pt x="4372" y="1698"/>
                  </a:lnTo>
                  <a:lnTo>
                    <a:pt x="4378" y="1712"/>
                  </a:lnTo>
                  <a:lnTo>
                    <a:pt x="4408" y="1750"/>
                  </a:lnTo>
                  <a:lnTo>
                    <a:pt x="4406" y="1762"/>
                  </a:lnTo>
                  <a:lnTo>
                    <a:pt x="4416" y="1770"/>
                  </a:lnTo>
                  <a:lnTo>
                    <a:pt x="4412" y="1782"/>
                  </a:lnTo>
                  <a:lnTo>
                    <a:pt x="4386" y="1794"/>
                  </a:lnTo>
                  <a:lnTo>
                    <a:pt x="4390" y="1806"/>
                  </a:lnTo>
                  <a:lnTo>
                    <a:pt x="4388" y="1820"/>
                  </a:lnTo>
                  <a:lnTo>
                    <a:pt x="4394" y="1832"/>
                  </a:lnTo>
                  <a:lnTo>
                    <a:pt x="4388" y="1844"/>
                  </a:lnTo>
                  <a:lnTo>
                    <a:pt x="4372" y="1844"/>
                  </a:lnTo>
                  <a:lnTo>
                    <a:pt x="4382" y="1864"/>
                  </a:lnTo>
                  <a:lnTo>
                    <a:pt x="4382" y="1870"/>
                  </a:lnTo>
                  <a:lnTo>
                    <a:pt x="4346" y="1876"/>
                  </a:lnTo>
                  <a:lnTo>
                    <a:pt x="4304" y="1864"/>
                  </a:lnTo>
                  <a:lnTo>
                    <a:pt x="4312" y="1880"/>
                  </a:lnTo>
                  <a:lnTo>
                    <a:pt x="4328" y="1886"/>
                  </a:lnTo>
                  <a:lnTo>
                    <a:pt x="4338" y="1880"/>
                  </a:lnTo>
                  <a:lnTo>
                    <a:pt x="4368" y="1878"/>
                  </a:lnTo>
                  <a:lnTo>
                    <a:pt x="4386" y="1888"/>
                  </a:lnTo>
                  <a:lnTo>
                    <a:pt x="4380" y="1898"/>
                  </a:lnTo>
                  <a:lnTo>
                    <a:pt x="4358" y="1904"/>
                  </a:lnTo>
                  <a:lnTo>
                    <a:pt x="4340" y="1902"/>
                  </a:lnTo>
                  <a:lnTo>
                    <a:pt x="4334" y="1908"/>
                  </a:lnTo>
                  <a:lnTo>
                    <a:pt x="4332" y="1916"/>
                  </a:lnTo>
                  <a:lnTo>
                    <a:pt x="4312" y="1924"/>
                  </a:lnTo>
                  <a:lnTo>
                    <a:pt x="4292" y="1916"/>
                  </a:lnTo>
                  <a:lnTo>
                    <a:pt x="4288" y="1936"/>
                  </a:lnTo>
                  <a:lnTo>
                    <a:pt x="4270" y="1938"/>
                  </a:lnTo>
                  <a:lnTo>
                    <a:pt x="4266" y="1950"/>
                  </a:lnTo>
                  <a:lnTo>
                    <a:pt x="4244" y="1952"/>
                  </a:lnTo>
                  <a:lnTo>
                    <a:pt x="4232" y="1942"/>
                  </a:lnTo>
                  <a:lnTo>
                    <a:pt x="4204" y="1934"/>
                  </a:lnTo>
                  <a:lnTo>
                    <a:pt x="4190" y="1940"/>
                  </a:lnTo>
                  <a:lnTo>
                    <a:pt x="4188" y="1946"/>
                  </a:lnTo>
                  <a:lnTo>
                    <a:pt x="4198" y="1954"/>
                  </a:lnTo>
                  <a:lnTo>
                    <a:pt x="4224" y="1956"/>
                  </a:lnTo>
                  <a:lnTo>
                    <a:pt x="4246" y="1984"/>
                  </a:lnTo>
                  <a:lnTo>
                    <a:pt x="4244" y="1992"/>
                  </a:lnTo>
                  <a:lnTo>
                    <a:pt x="4252" y="2004"/>
                  </a:lnTo>
                  <a:lnTo>
                    <a:pt x="4262" y="2008"/>
                  </a:lnTo>
                  <a:lnTo>
                    <a:pt x="4308" y="2010"/>
                  </a:lnTo>
                  <a:lnTo>
                    <a:pt x="4326" y="2008"/>
                  </a:lnTo>
                  <a:lnTo>
                    <a:pt x="4348" y="2000"/>
                  </a:lnTo>
                  <a:lnTo>
                    <a:pt x="4384" y="2002"/>
                  </a:lnTo>
                  <a:lnTo>
                    <a:pt x="4466" y="2018"/>
                  </a:lnTo>
                  <a:lnTo>
                    <a:pt x="4486" y="2012"/>
                  </a:lnTo>
                  <a:lnTo>
                    <a:pt x="4484" y="1986"/>
                  </a:lnTo>
                  <a:lnTo>
                    <a:pt x="4458" y="1968"/>
                  </a:lnTo>
                  <a:lnTo>
                    <a:pt x="4460" y="1958"/>
                  </a:lnTo>
                  <a:lnTo>
                    <a:pt x="4502" y="1942"/>
                  </a:lnTo>
                  <a:lnTo>
                    <a:pt x="4510" y="1928"/>
                  </a:lnTo>
                  <a:lnTo>
                    <a:pt x="4532" y="1916"/>
                  </a:lnTo>
                  <a:lnTo>
                    <a:pt x="4542" y="1904"/>
                  </a:lnTo>
                  <a:lnTo>
                    <a:pt x="4552" y="1872"/>
                  </a:lnTo>
                  <a:lnTo>
                    <a:pt x="4544" y="1848"/>
                  </a:lnTo>
                  <a:lnTo>
                    <a:pt x="4534" y="1832"/>
                  </a:lnTo>
                  <a:lnTo>
                    <a:pt x="4532" y="1824"/>
                  </a:lnTo>
                  <a:lnTo>
                    <a:pt x="4558" y="1780"/>
                  </a:lnTo>
                  <a:lnTo>
                    <a:pt x="4574" y="1766"/>
                  </a:lnTo>
                  <a:lnTo>
                    <a:pt x="4562" y="1734"/>
                  </a:lnTo>
                  <a:lnTo>
                    <a:pt x="4546" y="1714"/>
                  </a:lnTo>
                  <a:lnTo>
                    <a:pt x="4532" y="1700"/>
                  </a:lnTo>
                  <a:lnTo>
                    <a:pt x="4516" y="1692"/>
                  </a:lnTo>
                  <a:lnTo>
                    <a:pt x="4510" y="1682"/>
                  </a:lnTo>
                  <a:lnTo>
                    <a:pt x="4494" y="1674"/>
                  </a:lnTo>
                  <a:lnTo>
                    <a:pt x="4480" y="1664"/>
                  </a:lnTo>
                  <a:lnTo>
                    <a:pt x="4470" y="1662"/>
                  </a:lnTo>
                  <a:lnTo>
                    <a:pt x="4456" y="1650"/>
                  </a:lnTo>
                  <a:lnTo>
                    <a:pt x="4458" y="1640"/>
                  </a:lnTo>
                  <a:lnTo>
                    <a:pt x="4456" y="1624"/>
                  </a:lnTo>
                  <a:lnTo>
                    <a:pt x="4444" y="1610"/>
                  </a:lnTo>
                  <a:lnTo>
                    <a:pt x="4438" y="1602"/>
                  </a:lnTo>
                  <a:lnTo>
                    <a:pt x="4448" y="1592"/>
                  </a:lnTo>
                  <a:lnTo>
                    <a:pt x="4476" y="1584"/>
                  </a:lnTo>
                  <a:lnTo>
                    <a:pt x="4498" y="1568"/>
                  </a:lnTo>
                  <a:lnTo>
                    <a:pt x="4548" y="1558"/>
                  </a:lnTo>
                  <a:lnTo>
                    <a:pt x="4570" y="1550"/>
                  </a:lnTo>
                  <a:lnTo>
                    <a:pt x="4614" y="1544"/>
                  </a:lnTo>
                  <a:lnTo>
                    <a:pt x="4638" y="1562"/>
                  </a:lnTo>
                  <a:lnTo>
                    <a:pt x="4644" y="1576"/>
                  </a:lnTo>
                  <a:lnTo>
                    <a:pt x="4658" y="1586"/>
                  </a:lnTo>
                  <a:lnTo>
                    <a:pt x="4678" y="1590"/>
                  </a:lnTo>
                  <a:lnTo>
                    <a:pt x="4692" y="1598"/>
                  </a:lnTo>
                  <a:lnTo>
                    <a:pt x="4712" y="1602"/>
                  </a:lnTo>
                  <a:lnTo>
                    <a:pt x="4730" y="1612"/>
                  </a:lnTo>
                  <a:lnTo>
                    <a:pt x="4738" y="1620"/>
                  </a:lnTo>
                  <a:lnTo>
                    <a:pt x="4740" y="1628"/>
                  </a:lnTo>
                  <a:lnTo>
                    <a:pt x="4748" y="1636"/>
                  </a:lnTo>
                  <a:lnTo>
                    <a:pt x="4746" y="1640"/>
                  </a:lnTo>
                  <a:lnTo>
                    <a:pt x="4750" y="1654"/>
                  </a:lnTo>
                  <a:lnTo>
                    <a:pt x="4760" y="1664"/>
                  </a:lnTo>
                  <a:lnTo>
                    <a:pt x="4770" y="1662"/>
                  </a:lnTo>
                  <a:lnTo>
                    <a:pt x="4778" y="1666"/>
                  </a:lnTo>
                  <a:lnTo>
                    <a:pt x="4778" y="1686"/>
                  </a:lnTo>
                  <a:lnTo>
                    <a:pt x="4788" y="1702"/>
                  </a:lnTo>
                  <a:lnTo>
                    <a:pt x="4798" y="1714"/>
                  </a:lnTo>
                  <a:lnTo>
                    <a:pt x="4802" y="1726"/>
                  </a:lnTo>
                  <a:lnTo>
                    <a:pt x="4798" y="1732"/>
                  </a:lnTo>
                  <a:lnTo>
                    <a:pt x="4808" y="1744"/>
                  </a:lnTo>
                  <a:lnTo>
                    <a:pt x="4854" y="1754"/>
                  </a:lnTo>
                  <a:lnTo>
                    <a:pt x="4866" y="1762"/>
                  </a:ln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89640" y="3491280"/>
              <a:ext cx="347760" cy="217440"/>
            </a:xfrm>
            <a:custGeom>
              <a:avLst/>
              <a:gdLst/>
              <a:ahLst/>
              <a:rect l="l" t="t" r="r" b="b"/>
              <a:pathLst>
                <a:path w="1998" h="1278">
                  <a:moveTo>
                    <a:pt x="466" y="258"/>
                  </a:moveTo>
                  <a:lnTo>
                    <a:pt x="594" y="272"/>
                  </a:lnTo>
                  <a:lnTo>
                    <a:pt x="608" y="262"/>
                  </a:lnTo>
                  <a:lnTo>
                    <a:pt x="588" y="228"/>
                  </a:lnTo>
                  <a:lnTo>
                    <a:pt x="584" y="210"/>
                  </a:lnTo>
                  <a:lnTo>
                    <a:pt x="564" y="174"/>
                  </a:lnTo>
                  <a:lnTo>
                    <a:pt x="568" y="156"/>
                  </a:lnTo>
                  <a:lnTo>
                    <a:pt x="580" y="146"/>
                  </a:lnTo>
                  <a:lnTo>
                    <a:pt x="586" y="128"/>
                  </a:lnTo>
                  <a:lnTo>
                    <a:pt x="594" y="114"/>
                  </a:lnTo>
                  <a:lnTo>
                    <a:pt x="612" y="108"/>
                  </a:lnTo>
                  <a:lnTo>
                    <a:pt x="648" y="106"/>
                  </a:lnTo>
                  <a:lnTo>
                    <a:pt x="664" y="98"/>
                  </a:lnTo>
                  <a:lnTo>
                    <a:pt x="668" y="82"/>
                  </a:lnTo>
                  <a:lnTo>
                    <a:pt x="662" y="64"/>
                  </a:lnTo>
                  <a:lnTo>
                    <a:pt x="674" y="54"/>
                  </a:lnTo>
                  <a:lnTo>
                    <a:pt x="710" y="74"/>
                  </a:lnTo>
                  <a:lnTo>
                    <a:pt x="730" y="78"/>
                  </a:lnTo>
                  <a:lnTo>
                    <a:pt x="718" y="62"/>
                  </a:lnTo>
                  <a:lnTo>
                    <a:pt x="704" y="48"/>
                  </a:lnTo>
                  <a:lnTo>
                    <a:pt x="686" y="34"/>
                  </a:lnTo>
                  <a:lnTo>
                    <a:pt x="700" y="24"/>
                  </a:lnTo>
                  <a:lnTo>
                    <a:pt x="718" y="26"/>
                  </a:lnTo>
                  <a:lnTo>
                    <a:pt x="730" y="14"/>
                  </a:lnTo>
                  <a:lnTo>
                    <a:pt x="728" y="0"/>
                  </a:lnTo>
                  <a:lnTo>
                    <a:pt x="790" y="46"/>
                  </a:lnTo>
                  <a:lnTo>
                    <a:pt x="826" y="66"/>
                  </a:lnTo>
                  <a:lnTo>
                    <a:pt x="844" y="78"/>
                  </a:lnTo>
                  <a:lnTo>
                    <a:pt x="864" y="84"/>
                  </a:lnTo>
                  <a:lnTo>
                    <a:pt x="882" y="80"/>
                  </a:lnTo>
                  <a:lnTo>
                    <a:pt x="920" y="86"/>
                  </a:lnTo>
                  <a:lnTo>
                    <a:pt x="936" y="102"/>
                  </a:lnTo>
                  <a:lnTo>
                    <a:pt x="936" y="120"/>
                  </a:lnTo>
                  <a:lnTo>
                    <a:pt x="942" y="138"/>
                  </a:lnTo>
                  <a:lnTo>
                    <a:pt x="958" y="150"/>
                  </a:lnTo>
                  <a:lnTo>
                    <a:pt x="978" y="158"/>
                  </a:lnTo>
                  <a:lnTo>
                    <a:pt x="962" y="166"/>
                  </a:lnTo>
                  <a:lnTo>
                    <a:pt x="966" y="186"/>
                  </a:lnTo>
                  <a:lnTo>
                    <a:pt x="974" y="204"/>
                  </a:lnTo>
                  <a:lnTo>
                    <a:pt x="972" y="222"/>
                  </a:lnTo>
                  <a:lnTo>
                    <a:pt x="988" y="236"/>
                  </a:lnTo>
                  <a:lnTo>
                    <a:pt x="1028" y="254"/>
                  </a:lnTo>
                  <a:lnTo>
                    <a:pt x="1070" y="258"/>
                  </a:lnTo>
                  <a:lnTo>
                    <a:pt x="1088" y="256"/>
                  </a:lnTo>
                  <a:lnTo>
                    <a:pt x="1146" y="266"/>
                  </a:lnTo>
                  <a:lnTo>
                    <a:pt x="1162" y="258"/>
                  </a:lnTo>
                  <a:lnTo>
                    <a:pt x="1158" y="240"/>
                  </a:lnTo>
                  <a:lnTo>
                    <a:pt x="1172" y="232"/>
                  </a:lnTo>
                  <a:lnTo>
                    <a:pt x="1192" y="242"/>
                  </a:lnTo>
                  <a:lnTo>
                    <a:pt x="1226" y="266"/>
                  </a:lnTo>
                  <a:lnTo>
                    <a:pt x="1242" y="280"/>
                  </a:lnTo>
                  <a:lnTo>
                    <a:pt x="1254" y="298"/>
                  </a:lnTo>
                  <a:lnTo>
                    <a:pt x="1266" y="336"/>
                  </a:lnTo>
                  <a:lnTo>
                    <a:pt x="1280" y="352"/>
                  </a:lnTo>
                  <a:lnTo>
                    <a:pt x="1300" y="362"/>
                  </a:lnTo>
                  <a:lnTo>
                    <a:pt x="1316" y="376"/>
                  </a:lnTo>
                  <a:lnTo>
                    <a:pt x="1336" y="414"/>
                  </a:lnTo>
                  <a:lnTo>
                    <a:pt x="1340" y="432"/>
                  </a:lnTo>
                  <a:lnTo>
                    <a:pt x="1366" y="468"/>
                  </a:lnTo>
                  <a:lnTo>
                    <a:pt x="1380" y="484"/>
                  </a:lnTo>
                  <a:lnTo>
                    <a:pt x="1516" y="550"/>
                  </a:lnTo>
                  <a:lnTo>
                    <a:pt x="1582" y="606"/>
                  </a:lnTo>
                  <a:lnTo>
                    <a:pt x="1600" y="616"/>
                  </a:lnTo>
                  <a:lnTo>
                    <a:pt x="1640" y="618"/>
                  </a:lnTo>
                  <a:lnTo>
                    <a:pt x="1680" y="638"/>
                  </a:lnTo>
                  <a:lnTo>
                    <a:pt x="1734" y="674"/>
                  </a:lnTo>
                  <a:lnTo>
                    <a:pt x="1802" y="728"/>
                  </a:lnTo>
                  <a:lnTo>
                    <a:pt x="1820" y="740"/>
                  </a:lnTo>
                  <a:lnTo>
                    <a:pt x="1840" y="742"/>
                  </a:lnTo>
                  <a:lnTo>
                    <a:pt x="1854" y="732"/>
                  </a:lnTo>
                  <a:lnTo>
                    <a:pt x="1872" y="730"/>
                  </a:lnTo>
                  <a:lnTo>
                    <a:pt x="1930" y="748"/>
                  </a:lnTo>
                  <a:lnTo>
                    <a:pt x="1946" y="764"/>
                  </a:lnTo>
                  <a:lnTo>
                    <a:pt x="1966" y="772"/>
                  </a:lnTo>
                  <a:lnTo>
                    <a:pt x="1984" y="784"/>
                  </a:lnTo>
                  <a:lnTo>
                    <a:pt x="1982" y="804"/>
                  </a:lnTo>
                  <a:lnTo>
                    <a:pt x="1976" y="822"/>
                  </a:lnTo>
                  <a:lnTo>
                    <a:pt x="1986" y="862"/>
                  </a:lnTo>
                  <a:lnTo>
                    <a:pt x="1996" y="882"/>
                  </a:lnTo>
                  <a:lnTo>
                    <a:pt x="1998" y="896"/>
                  </a:lnTo>
                  <a:lnTo>
                    <a:pt x="1998" y="896"/>
                  </a:lnTo>
                  <a:lnTo>
                    <a:pt x="1962" y="894"/>
                  </a:lnTo>
                  <a:lnTo>
                    <a:pt x="1938" y="888"/>
                  </a:lnTo>
                  <a:lnTo>
                    <a:pt x="1898" y="868"/>
                  </a:lnTo>
                  <a:lnTo>
                    <a:pt x="1886" y="868"/>
                  </a:lnTo>
                  <a:lnTo>
                    <a:pt x="1874" y="870"/>
                  </a:lnTo>
                  <a:lnTo>
                    <a:pt x="1870" y="876"/>
                  </a:lnTo>
                  <a:lnTo>
                    <a:pt x="1874" y="898"/>
                  </a:lnTo>
                  <a:lnTo>
                    <a:pt x="1872" y="910"/>
                  </a:lnTo>
                  <a:lnTo>
                    <a:pt x="1868" y="914"/>
                  </a:lnTo>
                  <a:lnTo>
                    <a:pt x="1832" y="918"/>
                  </a:lnTo>
                  <a:lnTo>
                    <a:pt x="1818" y="912"/>
                  </a:lnTo>
                  <a:lnTo>
                    <a:pt x="1796" y="918"/>
                  </a:lnTo>
                  <a:lnTo>
                    <a:pt x="1790" y="934"/>
                  </a:lnTo>
                  <a:lnTo>
                    <a:pt x="1782" y="942"/>
                  </a:lnTo>
                  <a:lnTo>
                    <a:pt x="1782" y="950"/>
                  </a:lnTo>
                  <a:lnTo>
                    <a:pt x="1786" y="964"/>
                  </a:lnTo>
                  <a:lnTo>
                    <a:pt x="1784" y="1008"/>
                  </a:lnTo>
                  <a:lnTo>
                    <a:pt x="1778" y="1018"/>
                  </a:lnTo>
                  <a:lnTo>
                    <a:pt x="1782" y="1048"/>
                  </a:lnTo>
                  <a:lnTo>
                    <a:pt x="1786" y="1068"/>
                  </a:lnTo>
                  <a:lnTo>
                    <a:pt x="1786" y="1078"/>
                  </a:lnTo>
                  <a:lnTo>
                    <a:pt x="1758" y="1106"/>
                  </a:lnTo>
                  <a:lnTo>
                    <a:pt x="1742" y="1108"/>
                  </a:lnTo>
                  <a:lnTo>
                    <a:pt x="1732" y="1126"/>
                  </a:lnTo>
                  <a:lnTo>
                    <a:pt x="1712" y="1134"/>
                  </a:lnTo>
                  <a:lnTo>
                    <a:pt x="1698" y="1146"/>
                  </a:lnTo>
                  <a:lnTo>
                    <a:pt x="1658" y="1158"/>
                  </a:lnTo>
                  <a:lnTo>
                    <a:pt x="1642" y="1166"/>
                  </a:lnTo>
                  <a:lnTo>
                    <a:pt x="1624" y="1164"/>
                  </a:lnTo>
                  <a:lnTo>
                    <a:pt x="1628" y="1178"/>
                  </a:lnTo>
                  <a:lnTo>
                    <a:pt x="1646" y="1192"/>
                  </a:lnTo>
                  <a:lnTo>
                    <a:pt x="1642" y="1204"/>
                  </a:lnTo>
                  <a:lnTo>
                    <a:pt x="1632" y="1206"/>
                  </a:lnTo>
                  <a:lnTo>
                    <a:pt x="1636" y="1238"/>
                  </a:lnTo>
                  <a:lnTo>
                    <a:pt x="1628" y="1246"/>
                  </a:lnTo>
                  <a:lnTo>
                    <a:pt x="1608" y="1254"/>
                  </a:lnTo>
                  <a:lnTo>
                    <a:pt x="1598" y="1272"/>
                  </a:lnTo>
                  <a:lnTo>
                    <a:pt x="1564" y="1272"/>
                  </a:lnTo>
                  <a:lnTo>
                    <a:pt x="1548" y="1278"/>
                  </a:lnTo>
                  <a:lnTo>
                    <a:pt x="1538" y="1278"/>
                  </a:lnTo>
                  <a:lnTo>
                    <a:pt x="1520" y="1260"/>
                  </a:lnTo>
                  <a:lnTo>
                    <a:pt x="1500" y="1252"/>
                  </a:lnTo>
                  <a:lnTo>
                    <a:pt x="1486" y="1242"/>
                  </a:lnTo>
                  <a:lnTo>
                    <a:pt x="1456" y="1248"/>
                  </a:lnTo>
                  <a:lnTo>
                    <a:pt x="1428" y="1242"/>
                  </a:lnTo>
                  <a:lnTo>
                    <a:pt x="1420" y="1234"/>
                  </a:lnTo>
                  <a:lnTo>
                    <a:pt x="1400" y="1218"/>
                  </a:lnTo>
                  <a:lnTo>
                    <a:pt x="1384" y="1210"/>
                  </a:lnTo>
                  <a:lnTo>
                    <a:pt x="1380" y="1174"/>
                  </a:lnTo>
                  <a:lnTo>
                    <a:pt x="1366" y="1146"/>
                  </a:lnTo>
                  <a:lnTo>
                    <a:pt x="1344" y="1056"/>
                  </a:lnTo>
                  <a:lnTo>
                    <a:pt x="1330" y="1042"/>
                  </a:lnTo>
                  <a:lnTo>
                    <a:pt x="1270" y="1044"/>
                  </a:lnTo>
                  <a:lnTo>
                    <a:pt x="1226" y="1022"/>
                  </a:lnTo>
                  <a:lnTo>
                    <a:pt x="1160" y="976"/>
                  </a:lnTo>
                  <a:lnTo>
                    <a:pt x="1116" y="956"/>
                  </a:lnTo>
                  <a:lnTo>
                    <a:pt x="1092" y="946"/>
                  </a:lnTo>
                  <a:lnTo>
                    <a:pt x="1076" y="914"/>
                  </a:lnTo>
                  <a:lnTo>
                    <a:pt x="1046" y="884"/>
                  </a:lnTo>
                  <a:lnTo>
                    <a:pt x="1020" y="872"/>
                  </a:lnTo>
                  <a:lnTo>
                    <a:pt x="986" y="866"/>
                  </a:lnTo>
                  <a:lnTo>
                    <a:pt x="962" y="874"/>
                  </a:lnTo>
                  <a:lnTo>
                    <a:pt x="932" y="870"/>
                  </a:lnTo>
                  <a:lnTo>
                    <a:pt x="896" y="852"/>
                  </a:lnTo>
                  <a:lnTo>
                    <a:pt x="798" y="822"/>
                  </a:lnTo>
                  <a:lnTo>
                    <a:pt x="772" y="798"/>
                  </a:lnTo>
                  <a:lnTo>
                    <a:pt x="732" y="768"/>
                  </a:lnTo>
                  <a:lnTo>
                    <a:pt x="680" y="766"/>
                  </a:lnTo>
                  <a:lnTo>
                    <a:pt x="646" y="772"/>
                  </a:lnTo>
                  <a:lnTo>
                    <a:pt x="646" y="792"/>
                  </a:lnTo>
                  <a:lnTo>
                    <a:pt x="636" y="806"/>
                  </a:lnTo>
                  <a:lnTo>
                    <a:pt x="610" y="806"/>
                  </a:lnTo>
                  <a:lnTo>
                    <a:pt x="582" y="798"/>
                  </a:lnTo>
                  <a:lnTo>
                    <a:pt x="556" y="800"/>
                  </a:lnTo>
                  <a:lnTo>
                    <a:pt x="522" y="810"/>
                  </a:lnTo>
                  <a:lnTo>
                    <a:pt x="494" y="844"/>
                  </a:lnTo>
                  <a:lnTo>
                    <a:pt x="428" y="914"/>
                  </a:lnTo>
                  <a:lnTo>
                    <a:pt x="386" y="926"/>
                  </a:lnTo>
                  <a:lnTo>
                    <a:pt x="356" y="928"/>
                  </a:lnTo>
                  <a:lnTo>
                    <a:pt x="356" y="928"/>
                  </a:lnTo>
                  <a:lnTo>
                    <a:pt x="354" y="916"/>
                  </a:lnTo>
                  <a:lnTo>
                    <a:pt x="318" y="818"/>
                  </a:lnTo>
                  <a:lnTo>
                    <a:pt x="300" y="754"/>
                  </a:lnTo>
                  <a:lnTo>
                    <a:pt x="298" y="700"/>
                  </a:lnTo>
                  <a:lnTo>
                    <a:pt x="312" y="664"/>
                  </a:lnTo>
                  <a:lnTo>
                    <a:pt x="284" y="656"/>
                  </a:lnTo>
                  <a:lnTo>
                    <a:pt x="254" y="636"/>
                  </a:lnTo>
                  <a:lnTo>
                    <a:pt x="232" y="610"/>
                  </a:lnTo>
                  <a:lnTo>
                    <a:pt x="212" y="608"/>
                  </a:lnTo>
                  <a:lnTo>
                    <a:pt x="210" y="600"/>
                  </a:lnTo>
                  <a:lnTo>
                    <a:pt x="254" y="576"/>
                  </a:lnTo>
                  <a:lnTo>
                    <a:pt x="266" y="564"/>
                  </a:lnTo>
                  <a:lnTo>
                    <a:pt x="240" y="556"/>
                  </a:lnTo>
                  <a:lnTo>
                    <a:pt x="218" y="548"/>
                  </a:lnTo>
                  <a:lnTo>
                    <a:pt x="196" y="532"/>
                  </a:lnTo>
                  <a:lnTo>
                    <a:pt x="216" y="506"/>
                  </a:lnTo>
                  <a:lnTo>
                    <a:pt x="234" y="520"/>
                  </a:lnTo>
                  <a:lnTo>
                    <a:pt x="260" y="528"/>
                  </a:lnTo>
                  <a:lnTo>
                    <a:pt x="238" y="500"/>
                  </a:lnTo>
                  <a:lnTo>
                    <a:pt x="186" y="486"/>
                  </a:lnTo>
                  <a:lnTo>
                    <a:pt x="150" y="494"/>
                  </a:lnTo>
                  <a:lnTo>
                    <a:pt x="138" y="516"/>
                  </a:lnTo>
                  <a:lnTo>
                    <a:pt x="124" y="516"/>
                  </a:lnTo>
                  <a:lnTo>
                    <a:pt x="90" y="446"/>
                  </a:lnTo>
                  <a:lnTo>
                    <a:pt x="86" y="410"/>
                  </a:lnTo>
                  <a:lnTo>
                    <a:pt x="98" y="384"/>
                  </a:lnTo>
                  <a:lnTo>
                    <a:pt x="96" y="374"/>
                  </a:lnTo>
                  <a:lnTo>
                    <a:pt x="80" y="320"/>
                  </a:lnTo>
                  <a:lnTo>
                    <a:pt x="100" y="354"/>
                  </a:lnTo>
                  <a:lnTo>
                    <a:pt x="116" y="372"/>
                  </a:lnTo>
                  <a:lnTo>
                    <a:pt x="166" y="370"/>
                  </a:lnTo>
                  <a:lnTo>
                    <a:pt x="216" y="384"/>
                  </a:lnTo>
                  <a:lnTo>
                    <a:pt x="238" y="380"/>
                  </a:lnTo>
                  <a:lnTo>
                    <a:pt x="278" y="390"/>
                  </a:lnTo>
                  <a:lnTo>
                    <a:pt x="296" y="378"/>
                  </a:lnTo>
                  <a:lnTo>
                    <a:pt x="272" y="374"/>
                  </a:lnTo>
                  <a:lnTo>
                    <a:pt x="266" y="362"/>
                  </a:lnTo>
                  <a:lnTo>
                    <a:pt x="300" y="352"/>
                  </a:lnTo>
                  <a:lnTo>
                    <a:pt x="318" y="308"/>
                  </a:lnTo>
                  <a:lnTo>
                    <a:pt x="256" y="270"/>
                  </a:lnTo>
                  <a:lnTo>
                    <a:pt x="208" y="230"/>
                  </a:lnTo>
                  <a:lnTo>
                    <a:pt x="184" y="188"/>
                  </a:lnTo>
                  <a:lnTo>
                    <a:pt x="152" y="158"/>
                  </a:lnTo>
                  <a:lnTo>
                    <a:pt x="148" y="154"/>
                  </a:lnTo>
                  <a:lnTo>
                    <a:pt x="118" y="150"/>
                  </a:lnTo>
                  <a:lnTo>
                    <a:pt x="80" y="164"/>
                  </a:lnTo>
                  <a:lnTo>
                    <a:pt x="50" y="186"/>
                  </a:lnTo>
                  <a:lnTo>
                    <a:pt x="36" y="214"/>
                  </a:lnTo>
                  <a:lnTo>
                    <a:pt x="40" y="236"/>
                  </a:lnTo>
                  <a:lnTo>
                    <a:pt x="54" y="240"/>
                  </a:lnTo>
                  <a:lnTo>
                    <a:pt x="70" y="300"/>
                  </a:lnTo>
                  <a:lnTo>
                    <a:pt x="62" y="296"/>
                  </a:lnTo>
                  <a:lnTo>
                    <a:pt x="16" y="236"/>
                  </a:lnTo>
                  <a:lnTo>
                    <a:pt x="0" y="196"/>
                  </a:lnTo>
                  <a:lnTo>
                    <a:pt x="54" y="132"/>
                  </a:lnTo>
                  <a:lnTo>
                    <a:pt x="102" y="112"/>
                  </a:lnTo>
                  <a:lnTo>
                    <a:pt x="152" y="94"/>
                  </a:lnTo>
                  <a:lnTo>
                    <a:pt x="170" y="90"/>
                  </a:lnTo>
                  <a:lnTo>
                    <a:pt x="188" y="90"/>
                  </a:lnTo>
                  <a:lnTo>
                    <a:pt x="208" y="98"/>
                  </a:lnTo>
                  <a:lnTo>
                    <a:pt x="226" y="110"/>
                  </a:lnTo>
                  <a:lnTo>
                    <a:pt x="264" y="124"/>
                  </a:lnTo>
                  <a:lnTo>
                    <a:pt x="280" y="140"/>
                  </a:lnTo>
                  <a:lnTo>
                    <a:pt x="304" y="174"/>
                  </a:lnTo>
                  <a:lnTo>
                    <a:pt x="320" y="188"/>
                  </a:lnTo>
                  <a:lnTo>
                    <a:pt x="334" y="204"/>
                  </a:lnTo>
                  <a:lnTo>
                    <a:pt x="368" y="256"/>
                  </a:lnTo>
                  <a:lnTo>
                    <a:pt x="396" y="270"/>
                  </a:lnTo>
                  <a:lnTo>
                    <a:pt x="438" y="272"/>
                  </a:lnTo>
                  <a:lnTo>
                    <a:pt x="466" y="25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75200" y="3465000"/>
              <a:ext cx="218160" cy="116280"/>
            </a:xfrm>
            <a:custGeom>
              <a:avLst/>
              <a:gdLst/>
              <a:ahLst/>
              <a:rect l="l" t="t" r="r" b="b"/>
              <a:pathLst>
                <a:path w="1262" h="686">
                  <a:moveTo>
                    <a:pt x="608" y="628"/>
                  </a:moveTo>
                  <a:lnTo>
                    <a:pt x="596" y="600"/>
                  </a:lnTo>
                  <a:lnTo>
                    <a:pt x="602" y="554"/>
                  </a:lnTo>
                  <a:lnTo>
                    <a:pt x="664" y="518"/>
                  </a:lnTo>
                  <a:lnTo>
                    <a:pt x="672" y="504"/>
                  </a:lnTo>
                  <a:lnTo>
                    <a:pt x="688" y="504"/>
                  </a:lnTo>
                  <a:lnTo>
                    <a:pt x="690" y="468"/>
                  </a:lnTo>
                  <a:lnTo>
                    <a:pt x="718" y="474"/>
                  </a:lnTo>
                  <a:lnTo>
                    <a:pt x="746" y="458"/>
                  </a:lnTo>
                  <a:lnTo>
                    <a:pt x="772" y="462"/>
                  </a:lnTo>
                  <a:lnTo>
                    <a:pt x="796" y="490"/>
                  </a:lnTo>
                  <a:lnTo>
                    <a:pt x="822" y="492"/>
                  </a:lnTo>
                  <a:lnTo>
                    <a:pt x="858" y="484"/>
                  </a:lnTo>
                  <a:lnTo>
                    <a:pt x="880" y="484"/>
                  </a:lnTo>
                  <a:lnTo>
                    <a:pt x="904" y="458"/>
                  </a:lnTo>
                  <a:lnTo>
                    <a:pt x="902" y="416"/>
                  </a:lnTo>
                  <a:lnTo>
                    <a:pt x="916" y="388"/>
                  </a:lnTo>
                  <a:lnTo>
                    <a:pt x="948" y="374"/>
                  </a:lnTo>
                  <a:lnTo>
                    <a:pt x="990" y="370"/>
                  </a:lnTo>
                  <a:lnTo>
                    <a:pt x="1050" y="356"/>
                  </a:lnTo>
                  <a:lnTo>
                    <a:pt x="1074" y="342"/>
                  </a:lnTo>
                  <a:lnTo>
                    <a:pt x="1080" y="310"/>
                  </a:lnTo>
                  <a:lnTo>
                    <a:pt x="1102" y="274"/>
                  </a:lnTo>
                  <a:lnTo>
                    <a:pt x="1168" y="226"/>
                  </a:lnTo>
                  <a:lnTo>
                    <a:pt x="1242" y="192"/>
                  </a:lnTo>
                  <a:lnTo>
                    <a:pt x="1258" y="174"/>
                  </a:lnTo>
                  <a:lnTo>
                    <a:pt x="1262" y="142"/>
                  </a:lnTo>
                  <a:lnTo>
                    <a:pt x="1252" y="118"/>
                  </a:lnTo>
                  <a:lnTo>
                    <a:pt x="1252" y="118"/>
                  </a:lnTo>
                  <a:lnTo>
                    <a:pt x="1238" y="120"/>
                  </a:lnTo>
                  <a:lnTo>
                    <a:pt x="1180" y="90"/>
                  </a:lnTo>
                  <a:lnTo>
                    <a:pt x="1142" y="88"/>
                  </a:lnTo>
                  <a:lnTo>
                    <a:pt x="1092" y="46"/>
                  </a:lnTo>
                  <a:lnTo>
                    <a:pt x="1054" y="44"/>
                  </a:lnTo>
                  <a:lnTo>
                    <a:pt x="1034" y="40"/>
                  </a:lnTo>
                  <a:lnTo>
                    <a:pt x="1016" y="42"/>
                  </a:lnTo>
                  <a:lnTo>
                    <a:pt x="998" y="32"/>
                  </a:lnTo>
                  <a:lnTo>
                    <a:pt x="978" y="32"/>
                  </a:lnTo>
                  <a:lnTo>
                    <a:pt x="924" y="38"/>
                  </a:lnTo>
                  <a:lnTo>
                    <a:pt x="866" y="32"/>
                  </a:lnTo>
                  <a:lnTo>
                    <a:pt x="850" y="34"/>
                  </a:lnTo>
                  <a:lnTo>
                    <a:pt x="810" y="20"/>
                  </a:lnTo>
                  <a:lnTo>
                    <a:pt x="792" y="20"/>
                  </a:lnTo>
                  <a:lnTo>
                    <a:pt x="764" y="38"/>
                  </a:lnTo>
                  <a:lnTo>
                    <a:pt x="690" y="32"/>
                  </a:lnTo>
                  <a:lnTo>
                    <a:pt x="670" y="34"/>
                  </a:lnTo>
                  <a:lnTo>
                    <a:pt x="638" y="44"/>
                  </a:lnTo>
                  <a:lnTo>
                    <a:pt x="600" y="46"/>
                  </a:lnTo>
                  <a:lnTo>
                    <a:pt x="580" y="42"/>
                  </a:lnTo>
                  <a:lnTo>
                    <a:pt x="560" y="32"/>
                  </a:lnTo>
                  <a:lnTo>
                    <a:pt x="542" y="30"/>
                  </a:lnTo>
                  <a:lnTo>
                    <a:pt x="508" y="36"/>
                  </a:lnTo>
                  <a:lnTo>
                    <a:pt x="488" y="24"/>
                  </a:lnTo>
                  <a:lnTo>
                    <a:pt x="430" y="0"/>
                  </a:lnTo>
                  <a:lnTo>
                    <a:pt x="418" y="10"/>
                  </a:lnTo>
                  <a:lnTo>
                    <a:pt x="400" y="12"/>
                  </a:lnTo>
                  <a:lnTo>
                    <a:pt x="386" y="20"/>
                  </a:lnTo>
                  <a:lnTo>
                    <a:pt x="366" y="44"/>
                  </a:lnTo>
                  <a:lnTo>
                    <a:pt x="370" y="62"/>
                  </a:lnTo>
                  <a:lnTo>
                    <a:pt x="366" y="78"/>
                  </a:lnTo>
                  <a:lnTo>
                    <a:pt x="372" y="116"/>
                  </a:lnTo>
                  <a:lnTo>
                    <a:pt x="370" y="132"/>
                  </a:lnTo>
                  <a:lnTo>
                    <a:pt x="332" y="124"/>
                  </a:lnTo>
                  <a:lnTo>
                    <a:pt x="292" y="110"/>
                  </a:lnTo>
                  <a:lnTo>
                    <a:pt x="254" y="100"/>
                  </a:lnTo>
                  <a:lnTo>
                    <a:pt x="234" y="90"/>
                  </a:lnTo>
                  <a:lnTo>
                    <a:pt x="216" y="88"/>
                  </a:lnTo>
                  <a:lnTo>
                    <a:pt x="196" y="90"/>
                  </a:lnTo>
                  <a:lnTo>
                    <a:pt x="158" y="84"/>
                  </a:lnTo>
                  <a:lnTo>
                    <a:pt x="142" y="88"/>
                  </a:lnTo>
                  <a:lnTo>
                    <a:pt x="122" y="82"/>
                  </a:lnTo>
                  <a:lnTo>
                    <a:pt x="88" y="90"/>
                  </a:lnTo>
                  <a:lnTo>
                    <a:pt x="74" y="98"/>
                  </a:lnTo>
                  <a:lnTo>
                    <a:pt x="74" y="116"/>
                  </a:lnTo>
                  <a:lnTo>
                    <a:pt x="82" y="134"/>
                  </a:lnTo>
                  <a:lnTo>
                    <a:pt x="76" y="150"/>
                  </a:lnTo>
                  <a:lnTo>
                    <a:pt x="74" y="166"/>
                  </a:lnTo>
                  <a:lnTo>
                    <a:pt x="118" y="178"/>
                  </a:lnTo>
                  <a:lnTo>
                    <a:pt x="128" y="196"/>
                  </a:lnTo>
                  <a:lnTo>
                    <a:pt x="98" y="214"/>
                  </a:lnTo>
                  <a:lnTo>
                    <a:pt x="86" y="244"/>
                  </a:lnTo>
                  <a:lnTo>
                    <a:pt x="66" y="272"/>
                  </a:lnTo>
                  <a:lnTo>
                    <a:pt x="40" y="294"/>
                  </a:lnTo>
                  <a:lnTo>
                    <a:pt x="44" y="314"/>
                  </a:lnTo>
                  <a:lnTo>
                    <a:pt x="64" y="318"/>
                  </a:lnTo>
                  <a:lnTo>
                    <a:pt x="82" y="330"/>
                  </a:lnTo>
                  <a:lnTo>
                    <a:pt x="96" y="320"/>
                  </a:lnTo>
                  <a:lnTo>
                    <a:pt x="126" y="352"/>
                  </a:lnTo>
                  <a:lnTo>
                    <a:pt x="186" y="372"/>
                  </a:lnTo>
                  <a:lnTo>
                    <a:pt x="204" y="372"/>
                  </a:lnTo>
                  <a:lnTo>
                    <a:pt x="206" y="354"/>
                  </a:lnTo>
                  <a:lnTo>
                    <a:pt x="216" y="342"/>
                  </a:lnTo>
                  <a:lnTo>
                    <a:pt x="218" y="304"/>
                  </a:lnTo>
                  <a:lnTo>
                    <a:pt x="236" y="314"/>
                  </a:lnTo>
                  <a:lnTo>
                    <a:pt x="254" y="328"/>
                  </a:lnTo>
                  <a:lnTo>
                    <a:pt x="258" y="348"/>
                  </a:lnTo>
                  <a:lnTo>
                    <a:pt x="298" y="368"/>
                  </a:lnTo>
                  <a:lnTo>
                    <a:pt x="316" y="380"/>
                  </a:lnTo>
                  <a:lnTo>
                    <a:pt x="334" y="376"/>
                  </a:lnTo>
                  <a:lnTo>
                    <a:pt x="370" y="400"/>
                  </a:lnTo>
                  <a:lnTo>
                    <a:pt x="410" y="408"/>
                  </a:lnTo>
                  <a:lnTo>
                    <a:pt x="426" y="404"/>
                  </a:lnTo>
                  <a:lnTo>
                    <a:pt x="444" y="412"/>
                  </a:lnTo>
                  <a:lnTo>
                    <a:pt x="438" y="426"/>
                  </a:lnTo>
                  <a:lnTo>
                    <a:pt x="406" y="440"/>
                  </a:lnTo>
                  <a:lnTo>
                    <a:pt x="404" y="458"/>
                  </a:lnTo>
                  <a:lnTo>
                    <a:pt x="390" y="470"/>
                  </a:lnTo>
                  <a:lnTo>
                    <a:pt x="372" y="464"/>
                  </a:lnTo>
                  <a:lnTo>
                    <a:pt x="364" y="478"/>
                  </a:lnTo>
                  <a:lnTo>
                    <a:pt x="346" y="480"/>
                  </a:lnTo>
                  <a:lnTo>
                    <a:pt x="332" y="490"/>
                  </a:lnTo>
                  <a:lnTo>
                    <a:pt x="330" y="508"/>
                  </a:lnTo>
                  <a:lnTo>
                    <a:pt x="318" y="520"/>
                  </a:lnTo>
                  <a:lnTo>
                    <a:pt x="284" y="528"/>
                  </a:lnTo>
                  <a:lnTo>
                    <a:pt x="244" y="516"/>
                  </a:lnTo>
                  <a:lnTo>
                    <a:pt x="226" y="516"/>
                  </a:lnTo>
                  <a:lnTo>
                    <a:pt x="198" y="518"/>
                  </a:lnTo>
                  <a:lnTo>
                    <a:pt x="196" y="540"/>
                  </a:lnTo>
                  <a:lnTo>
                    <a:pt x="180" y="546"/>
                  </a:lnTo>
                  <a:lnTo>
                    <a:pt x="176" y="564"/>
                  </a:lnTo>
                  <a:lnTo>
                    <a:pt x="160" y="572"/>
                  </a:lnTo>
                  <a:lnTo>
                    <a:pt x="120" y="552"/>
                  </a:lnTo>
                  <a:lnTo>
                    <a:pt x="102" y="550"/>
                  </a:lnTo>
                  <a:lnTo>
                    <a:pt x="64" y="556"/>
                  </a:lnTo>
                  <a:lnTo>
                    <a:pt x="46" y="554"/>
                  </a:lnTo>
                  <a:lnTo>
                    <a:pt x="32" y="564"/>
                  </a:lnTo>
                  <a:lnTo>
                    <a:pt x="0" y="580"/>
                  </a:lnTo>
                  <a:lnTo>
                    <a:pt x="4" y="598"/>
                  </a:lnTo>
                  <a:lnTo>
                    <a:pt x="18" y="638"/>
                  </a:lnTo>
                  <a:lnTo>
                    <a:pt x="34" y="652"/>
                  </a:lnTo>
                  <a:lnTo>
                    <a:pt x="54" y="652"/>
                  </a:lnTo>
                  <a:lnTo>
                    <a:pt x="70" y="644"/>
                  </a:lnTo>
                  <a:lnTo>
                    <a:pt x="108" y="652"/>
                  </a:lnTo>
                  <a:lnTo>
                    <a:pt x="160" y="640"/>
                  </a:lnTo>
                  <a:lnTo>
                    <a:pt x="180" y="640"/>
                  </a:lnTo>
                  <a:lnTo>
                    <a:pt x="200" y="644"/>
                  </a:lnTo>
                  <a:lnTo>
                    <a:pt x="216" y="660"/>
                  </a:lnTo>
                  <a:lnTo>
                    <a:pt x="236" y="662"/>
                  </a:lnTo>
                  <a:lnTo>
                    <a:pt x="300" y="636"/>
                  </a:lnTo>
                  <a:lnTo>
                    <a:pt x="320" y="644"/>
                  </a:lnTo>
                  <a:lnTo>
                    <a:pt x="340" y="648"/>
                  </a:lnTo>
                  <a:lnTo>
                    <a:pt x="362" y="684"/>
                  </a:lnTo>
                  <a:lnTo>
                    <a:pt x="400" y="680"/>
                  </a:lnTo>
                  <a:lnTo>
                    <a:pt x="418" y="686"/>
                  </a:lnTo>
                  <a:lnTo>
                    <a:pt x="448" y="668"/>
                  </a:lnTo>
                  <a:lnTo>
                    <a:pt x="482" y="660"/>
                  </a:lnTo>
                  <a:lnTo>
                    <a:pt x="522" y="666"/>
                  </a:lnTo>
                  <a:lnTo>
                    <a:pt x="542" y="658"/>
                  </a:lnTo>
                  <a:lnTo>
                    <a:pt x="566" y="658"/>
                  </a:lnTo>
                  <a:lnTo>
                    <a:pt x="560" y="622"/>
                  </a:lnTo>
                  <a:lnTo>
                    <a:pt x="608" y="628"/>
                  </a:lnTo>
                  <a:lnTo>
                    <a:pt x="608" y="628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97000" y="4262400"/>
              <a:ext cx="150840" cy="124200"/>
            </a:xfrm>
            <a:custGeom>
              <a:avLst/>
              <a:gdLst/>
              <a:ahLst/>
              <a:rect l="l" t="t" r="r" b="b"/>
              <a:pathLst>
                <a:path w="882" h="732">
                  <a:moveTo>
                    <a:pt x="138" y="518"/>
                  </a:moveTo>
                  <a:lnTo>
                    <a:pt x="134" y="520"/>
                  </a:lnTo>
                  <a:lnTo>
                    <a:pt x="126" y="500"/>
                  </a:lnTo>
                  <a:lnTo>
                    <a:pt x="108" y="474"/>
                  </a:lnTo>
                  <a:lnTo>
                    <a:pt x="104" y="438"/>
                  </a:lnTo>
                  <a:lnTo>
                    <a:pt x="100" y="428"/>
                  </a:lnTo>
                  <a:lnTo>
                    <a:pt x="84" y="408"/>
                  </a:lnTo>
                  <a:lnTo>
                    <a:pt x="72" y="382"/>
                  </a:lnTo>
                  <a:lnTo>
                    <a:pt x="48" y="356"/>
                  </a:lnTo>
                  <a:lnTo>
                    <a:pt x="38" y="330"/>
                  </a:lnTo>
                  <a:lnTo>
                    <a:pt x="28" y="330"/>
                  </a:lnTo>
                  <a:lnTo>
                    <a:pt x="18" y="334"/>
                  </a:lnTo>
                  <a:lnTo>
                    <a:pt x="12" y="346"/>
                  </a:lnTo>
                  <a:lnTo>
                    <a:pt x="2" y="332"/>
                  </a:lnTo>
                  <a:lnTo>
                    <a:pt x="0" y="324"/>
                  </a:lnTo>
                  <a:lnTo>
                    <a:pt x="4" y="318"/>
                  </a:lnTo>
                  <a:lnTo>
                    <a:pt x="16" y="318"/>
                  </a:lnTo>
                  <a:lnTo>
                    <a:pt x="44" y="306"/>
                  </a:lnTo>
                  <a:lnTo>
                    <a:pt x="86" y="270"/>
                  </a:lnTo>
                  <a:lnTo>
                    <a:pt x="96" y="254"/>
                  </a:lnTo>
                  <a:lnTo>
                    <a:pt x="108" y="228"/>
                  </a:lnTo>
                  <a:lnTo>
                    <a:pt x="146" y="166"/>
                  </a:lnTo>
                  <a:lnTo>
                    <a:pt x="150" y="150"/>
                  </a:lnTo>
                  <a:lnTo>
                    <a:pt x="152" y="98"/>
                  </a:lnTo>
                  <a:lnTo>
                    <a:pt x="156" y="96"/>
                  </a:lnTo>
                  <a:lnTo>
                    <a:pt x="164" y="86"/>
                  </a:lnTo>
                  <a:lnTo>
                    <a:pt x="176" y="64"/>
                  </a:lnTo>
                  <a:lnTo>
                    <a:pt x="188" y="26"/>
                  </a:lnTo>
                  <a:lnTo>
                    <a:pt x="198" y="26"/>
                  </a:lnTo>
                  <a:lnTo>
                    <a:pt x="204" y="22"/>
                  </a:lnTo>
                  <a:lnTo>
                    <a:pt x="224" y="24"/>
                  </a:lnTo>
                  <a:lnTo>
                    <a:pt x="246" y="24"/>
                  </a:lnTo>
                  <a:lnTo>
                    <a:pt x="270" y="32"/>
                  </a:lnTo>
                  <a:lnTo>
                    <a:pt x="290" y="30"/>
                  </a:lnTo>
                  <a:lnTo>
                    <a:pt x="296" y="24"/>
                  </a:lnTo>
                  <a:lnTo>
                    <a:pt x="324" y="16"/>
                  </a:lnTo>
                  <a:lnTo>
                    <a:pt x="348" y="18"/>
                  </a:lnTo>
                  <a:lnTo>
                    <a:pt x="352" y="16"/>
                  </a:lnTo>
                  <a:lnTo>
                    <a:pt x="354" y="4"/>
                  </a:lnTo>
                  <a:lnTo>
                    <a:pt x="356" y="4"/>
                  </a:lnTo>
                  <a:lnTo>
                    <a:pt x="372" y="4"/>
                  </a:lnTo>
                  <a:lnTo>
                    <a:pt x="384" y="0"/>
                  </a:lnTo>
                  <a:lnTo>
                    <a:pt x="402" y="6"/>
                  </a:lnTo>
                  <a:lnTo>
                    <a:pt x="440" y="8"/>
                  </a:lnTo>
                  <a:lnTo>
                    <a:pt x="446" y="10"/>
                  </a:lnTo>
                  <a:lnTo>
                    <a:pt x="458" y="6"/>
                  </a:lnTo>
                  <a:lnTo>
                    <a:pt x="464" y="22"/>
                  </a:lnTo>
                  <a:lnTo>
                    <a:pt x="480" y="24"/>
                  </a:lnTo>
                  <a:lnTo>
                    <a:pt x="506" y="52"/>
                  </a:lnTo>
                  <a:lnTo>
                    <a:pt x="512" y="72"/>
                  </a:lnTo>
                  <a:lnTo>
                    <a:pt x="528" y="90"/>
                  </a:lnTo>
                  <a:lnTo>
                    <a:pt x="540" y="90"/>
                  </a:lnTo>
                  <a:lnTo>
                    <a:pt x="554" y="82"/>
                  </a:lnTo>
                  <a:lnTo>
                    <a:pt x="554" y="96"/>
                  </a:lnTo>
                  <a:lnTo>
                    <a:pt x="564" y="98"/>
                  </a:lnTo>
                  <a:lnTo>
                    <a:pt x="576" y="90"/>
                  </a:lnTo>
                  <a:lnTo>
                    <a:pt x="584" y="90"/>
                  </a:lnTo>
                  <a:lnTo>
                    <a:pt x="608" y="130"/>
                  </a:lnTo>
                  <a:lnTo>
                    <a:pt x="618" y="162"/>
                  </a:lnTo>
                  <a:lnTo>
                    <a:pt x="618" y="172"/>
                  </a:lnTo>
                  <a:lnTo>
                    <a:pt x="630" y="178"/>
                  </a:lnTo>
                  <a:lnTo>
                    <a:pt x="636" y="190"/>
                  </a:lnTo>
                  <a:lnTo>
                    <a:pt x="638" y="200"/>
                  </a:lnTo>
                  <a:lnTo>
                    <a:pt x="644" y="202"/>
                  </a:lnTo>
                  <a:lnTo>
                    <a:pt x="652" y="196"/>
                  </a:lnTo>
                  <a:lnTo>
                    <a:pt x="656" y="198"/>
                  </a:lnTo>
                  <a:lnTo>
                    <a:pt x="660" y="220"/>
                  </a:lnTo>
                  <a:lnTo>
                    <a:pt x="668" y="224"/>
                  </a:lnTo>
                  <a:lnTo>
                    <a:pt x="674" y="234"/>
                  </a:lnTo>
                  <a:lnTo>
                    <a:pt x="664" y="238"/>
                  </a:lnTo>
                  <a:lnTo>
                    <a:pt x="664" y="240"/>
                  </a:lnTo>
                  <a:lnTo>
                    <a:pt x="678" y="246"/>
                  </a:lnTo>
                  <a:lnTo>
                    <a:pt x="682" y="256"/>
                  </a:lnTo>
                  <a:lnTo>
                    <a:pt x="692" y="264"/>
                  </a:lnTo>
                  <a:lnTo>
                    <a:pt x="702" y="264"/>
                  </a:lnTo>
                  <a:lnTo>
                    <a:pt x="718" y="272"/>
                  </a:lnTo>
                  <a:lnTo>
                    <a:pt x="726" y="280"/>
                  </a:lnTo>
                  <a:lnTo>
                    <a:pt x="728" y="298"/>
                  </a:lnTo>
                  <a:lnTo>
                    <a:pt x="732" y="302"/>
                  </a:lnTo>
                  <a:lnTo>
                    <a:pt x="748" y="308"/>
                  </a:lnTo>
                  <a:lnTo>
                    <a:pt x="766" y="326"/>
                  </a:lnTo>
                  <a:lnTo>
                    <a:pt x="772" y="334"/>
                  </a:lnTo>
                  <a:lnTo>
                    <a:pt x="772" y="346"/>
                  </a:lnTo>
                  <a:lnTo>
                    <a:pt x="766" y="364"/>
                  </a:lnTo>
                  <a:lnTo>
                    <a:pt x="768" y="386"/>
                  </a:lnTo>
                  <a:lnTo>
                    <a:pt x="772" y="386"/>
                  </a:lnTo>
                  <a:lnTo>
                    <a:pt x="776" y="396"/>
                  </a:lnTo>
                  <a:lnTo>
                    <a:pt x="780" y="398"/>
                  </a:lnTo>
                  <a:lnTo>
                    <a:pt x="788" y="408"/>
                  </a:lnTo>
                  <a:lnTo>
                    <a:pt x="792" y="428"/>
                  </a:lnTo>
                  <a:lnTo>
                    <a:pt x="792" y="446"/>
                  </a:lnTo>
                  <a:lnTo>
                    <a:pt x="798" y="464"/>
                  </a:lnTo>
                  <a:lnTo>
                    <a:pt x="798" y="478"/>
                  </a:lnTo>
                  <a:lnTo>
                    <a:pt x="786" y="498"/>
                  </a:lnTo>
                  <a:lnTo>
                    <a:pt x="786" y="508"/>
                  </a:lnTo>
                  <a:lnTo>
                    <a:pt x="806" y="538"/>
                  </a:lnTo>
                  <a:lnTo>
                    <a:pt x="810" y="558"/>
                  </a:lnTo>
                  <a:lnTo>
                    <a:pt x="814" y="560"/>
                  </a:lnTo>
                  <a:lnTo>
                    <a:pt x="824" y="560"/>
                  </a:lnTo>
                  <a:lnTo>
                    <a:pt x="830" y="552"/>
                  </a:lnTo>
                  <a:lnTo>
                    <a:pt x="842" y="556"/>
                  </a:lnTo>
                  <a:lnTo>
                    <a:pt x="844" y="566"/>
                  </a:lnTo>
                  <a:lnTo>
                    <a:pt x="854" y="574"/>
                  </a:lnTo>
                  <a:lnTo>
                    <a:pt x="854" y="590"/>
                  </a:lnTo>
                  <a:lnTo>
                    <a:pt x="862" y="594"/>
                  </a:lnTo>
                  <a:lnTo>
                    <a:pt x="868" y="608"/>
                  </a:lnTo>
                  <a:lnTo>
                    <a:pt x="878" y="624"/>
                  </a:lnTo>
                  <a:lnTo>
                    <a:pt x="880" y="634"/>
                  </a:lnTo>
                  <a:lnTo>
                    <a:pt x="876" y="634"/>
                  </a:lnTo>
                  <a:lnTo>
                    <a:pt x="874" y="640"/>
                  </a:lnTo>
                  <a:lnTo>
                    <a:pt x="878" y="650"/>
                  </a:lnTo>
                  <a:lnTo>
                    <a:pt x="878" y="664"/>
                  </a:lnTo>
                  <a:lnTo>
                    <a:pt x="872" y="672"/>
                  </a:lnTo>
                  <a:lnTo>
                    <a:pt x="872" y="696"/>
                  </a:lnTo>
                  <a:lnTo>
                    <a:pt x="882" y="706"/>
                  </a:lnTo>
                  <a:lnTo>
                    <a:pt x="882" y="712"/>
                  </a:lnTo>
                  <a:lnTo>
                    <a:pt x="876" y="718"/>
                  </a:lnTo>
                  <a:lnTo>
                    <a:pt x="852" y="714"/>
                  </a:lnTo>
                  <a:lnTo>
                    <a:pt x="834" y="724"/>
                  </a:lnTo>
                  <a:lnTo>
                    <a:pt x="824" y="724"/>
                  </a:lnTo>
                  <a:lnTo>
                    <a:pt x="796" y="720"/>
                  </a:lnTo>
                  <a:lnTo>
                    <a:pt x="790" y="724"/>
                  </a:lnTo>
                  <a:lnTo>
                    <a:pt x="770" y="724"/>
                  </a:lnTo>
                  <a:lnTo>
                    <a:pt x="752" y="730"/>
                  </a:lnTo>
                  <a:lnTo>
                    <a:pt x="736" y="732"/>
                  </a:lnTo>
                  <a:lnTo>
                    <a:pt x="722" y="724"/>
                  </a:lnTo>
                  <a:lnTo>
                    <a:pt x="714" y="726"/>
                  </a:lnTo>
                  <a:lnTo>
                    <a:pt x="694" y="718"/>
                  </a:lnTo>
                  <a:lnTo>
                    <a:pt x="676" y="716"/>
                  </a:lnTo>
                  <a:lnTo>
                    <a:pt x="658" y="700"/>
                  </a:lnTo>
                  <a:lnTo>
                    <a:pt x="654" y="702"/>
                  </a:lnTo>
                  <a:lnTo>
                    <a:pt x="652" y="712"/>
                  </a:lnTo>
                  <a:lnTo>
                    <a:pt x="634" y="710"/>
                  </a:lnTo>
                  <a:lnTo>
                    <a:pt x="634" y="690"/>
                  </a:lnTo>
                  <a:lnTo>
                    <a:pt x="628" y="682"/>
                  </a:lnTo>
                  <a:lnTo>
                    <a:pt x="606" y="678"/>
                  </a:lnTo>
                  <a:lnTo>
                    <a:pt x="590" y="682"/>
                  </a:lnTo>
                  <a:lnTo>
                    <a:pt x="578" y="672"/>
                  </a:lnTo>
                  <a:lnTo>
                    <a:pt x="542" y="670"/>
                  </a:lnTo>
                  <a:lnTo>
                    <a:pt x="412" y="668"/>
                  </a:lnTo>
                  <a:lnTo>
                    <a:pt x="404" y="672"/>
                  </a:lnTo>
                  <a:lnTo>
                    <a:pt x="340" y="672"/>
                  </a:lnTo>
                  <a:lnTo>
                    <a:pt x="308" y="688"/>
                  </a:lnTo>
                  <a:lnTo>
                    <a:pt x="280" y="706"/>
                  </a:lnTo>
                  <a:lnTo>
                    <a:pt x="254" y="712"/>
                  </a:lnTo>
                  <a:lnTo>
                    <a:pt x="180" y="708"/>
                  </a:lnTo>
                  <a:lnTo>
                    <a:pt x="168" y="716"/>
                  </a:lnTo>
                  <a:lnTo>
                    <a:pt x="138" y="730"/>
                  </a:lnTo>
                  <a:lnTo>
                    <a:pt x="122" y="730"/>
                  </a:lnTo>
                  <a:lnTo>
                    <a:pt x="112" y="726"/>
                  </a:lnTo>
                  <a:lnTo>
                    <a:pt x="106" y="720"/>
                  </a:lnTo>
                  <a:lnTo>
                    <a:pt x="102" y="722"/>
                  </a:lnTo>
                  <a:lnTo>
                    <a:pt x="106" y="720"/>
                  </a:lnTo>
                  <a:lnTo>
                    <a:pt x="100" y="716"/>
                  </a:lnTo>
                  <a:lnTo>
                    <a:pt x="106" y="614"/>
                  </a:lnTo>
                  <a:lnTo>
                    <a:pt x="116" y="594"/>
                  </a:lnTo>
                  <a:lnTo>
                    <a:pt x="216" y="584"/>
                  </a:lnTo>
                  <a:lnTo>
                    <a:pt x="240" y="584"/>
                  </a:lnTo>
                  <a:lnTo>
                    <a:pt x="242" y="580"/>
                  </a:lnTo>
                  <a:lnTo>
                    <a:pt x="250" y="560"/>
                  </a:lnTo>
                  <a:lnTo>
                    <a:pt x="260" y="558"/>
                  </a:lnTo>
                  <a:lnTo>
                    <a:pt x="272" y="560"/>
                  </a:lnTo>
                  <a:lnTo>
                    <a:pt x="302" y="558"/>
                  </a:lnTo>
                  <a:lnTo>
                    <a:pt x="324" y="546"/>
                  </a:lnTo>
                  <a:lnTo>
                    <a:pt x="336" y="530"/>
                  </a:lnTo>
                  <a:lnTo>
                    <a:pt x="342" y="526"/>
                  </a:lnTo>
                  <a:lnTo>
                    <a:pt x="358" y="530"/>
                  </a:lnTo>
                  <a:lnTo>
                    <a:pt x="368" y="542"/>
                  </a:lnTo>
                  <a:lnTo>
                    <a:pt x="386" y="548"/>
                  </a:lnTo>
                  <a:lnTo>
                    <a:pt x="408" y="566"/>
                  </a:lnTo>
                  <a:lnTo>
                    <a:pt x="426" y="566"/>
                  </a:lnTo>
                  <a:lnTo>
                    <a:pt x="448" y="578"/>
                  </a:lnTo>
                  <a:lnTo>
                    <a:pt x="466" y="578"/>
                  </a:lnTo>
                  <a:lnTo>
                    <a:pt x="474" y="584"/>
                  </a:lnTo>
                  <a:lnTo>
                    <a:pt x="492" y="572"/>
                  </a:lnTo>
                  <a:lnTo>
                    <a:pt x="522" y="564"/>
                  </a:lnTo>
                  <a:lnTo>
                    <a:pt x="532" y="554"/>
                  </a:lnTo>
                  <a:lnTo>
                    <a:pt x="532" y="542"/>
                  </a:lnTo>
                  <a:lnTo>
                    <a:pt x="530" y="526"/>
                  </a:lnTo>
                  <a:lnTo>
                    <a:pt x="530" y="526"/>
                  </a:lnTo>
                  <a:lnTo>
                    <a:pt x="522" y="528"/>
                  </a:lnTo>
                  <a:lnTo>
                    <a:pt x="512" y="524"/>
                  </a:lnTo>
                  <a:lnTo>
                    <a:pt x="502" y="524"/>
                  </a:lnTo>
                  <a:lnTo>
                    <a:pt x="492" y="526"/>
                  </a:lnTo>
                  <a:lnTo>
                    <a:pt x="464" y="542"/>
                  </a:lnTo>
                  <a:lnTo>
                    <a:pt x="448" y="540"/>
                  </a:lnTo>
                  <a:lnTo>
                    <a:pt x="434" y="530"/>
                  </a:lnTo>
                  <a:lnTo>
                    <a:pt x="424" y="514"/>
                  </a:lnTo>
                  <a:lnTo>
                    <a:pt x="420" y="510"/>
                  </a:lnTo>
                  <a:lnTo>
                    <a:pt x="390" y="510"/>
                  </a:lnTo>
                  <a:lnTo>
                    <a:pt x="372" y="486"/>
                  </a:lnTo>
                  <a:lnTo>
                    <a:pt x="360" y="484"/>
                  </a:lnTo>
                  <a:lnTo>
                    <a:pt x="352" y="478"/>
                  </a:lnTo>
                  <a:lnTo>
                    <a:pt x="336" y="482"/>
                  </a:lnTo>
                  <a:lnTo>
                    <a:pt x="324" y="488"/>
                  </a:lnTo>
                  <a:lnTo>
                    <a:pt x="308" y="488"/>
                  </a:lnTo>
                  <a:lnTo>
                    <a:pt x="294" y="500"/>
                  </a:lnTo>
                  <a:lnTo>
                    <a:pt x="282" y="520"/>
                  </a:lnTo>
                  <a:lnTo>
                    <a:pt x="138" y="51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15680" y="3727440"/>
              <a:ext cx="610200" cy="573480"/>
            </a:xfrm>
            <a:custGeom>
              <a:avLst/>
              <a:gdLst/>
              <a:ahLst/>
              <a:rect l="l" t="t" r="r" b="b"/>
              <a:pathLst>
                <a:path w="3510" h="3356">
                  <a:moveTo>
                    <a:pt x="300" y="150"/>
                  </a:moveTo>
                  <a:lnTo>
                    <a:pt x="318" y="164"/>
                  </a:lnTo>
                  <a:lnTo>
                    <a:pt x="324" y="168"/>
                  </a:lnTo>
                  <a:lnTo>
                    <a:pt x="336" y="192"/>
                  </a:lnTo>
                  <a:lnTo>
                    <a:pt x="344" y="188"/>
                  </a:lnTo>
                  <a:lnTo>
                    <a:pt x="342" y="200"/>
                  </a:lnTo>
                  <a:lnTo>
                    <a:pt x="360" y="216"/>
                  </a:lnTo>
                  <a:lnTo>
                    <a:pt x="372" y="222"/>
                  </a:lnTo>
                  <a:lnTo>
                    <a:pt x="410" y="218"/>
                  </a:lnTo>
                  <a:lnTo>
                    <a:pt x="424" y="234"/>
                  </a:lnTo>
                  <a:lnTo>
                    <a:pt x="418" y="252"/>
                  </a:lnTo>
                  <a:lnTo>
                    <a:pt x="426" y="260"/>
                  </a:lnTo>
                  <a:lnTo>
                    <a:pt x="464" y="276"/>
                  </a:lnTo>
                  <a:lnTo>
                    <a:pt x="472" y="288"/>
                  </a:lnTo>
                  <a:lnTo>
                    <a:pt x="474" y="304"/>
                  </a:lnTo>
                  <a:lnTo>
                    <a:pt x="454" y="360"/>
                  </a:lnTo>
                  <a:lnTo>
                    <a:pt x="452" y="378"/>
                  </a:lnTo>
                  <a:lnTo>
                    <a:pt x="456" y="418"/>
                  </a:lnTo>
                  <a:lnTo>
                    <a:pt x="450" y="438"/>
                  </a:lnTo>
                  <a:lnTo>
                    <a:pt x="454" y="446"/>
                  </a:lnTo>
                  <a:lnTo>
                    <a:pt x="456" y="466"/>
                  </a:lnTo>
                  <a:lnTo>
                    <a:pt x="446" y="512"/>
                  </a:lnTo>
                  <a:lnTo>
                    <a:pt x="450" y="532"/>
                  </a:lnTo>
                  <a:lnTo>
                    <a:pt x="458" y="534"/>
                  </a:lnTo>
                  <a:lnTo>
                    <a:pt x="460" y="544"/>
                  </a:lnTo>
                  <a:lnTo>
                    <a:pt x="450" y="600"/>
                  </a:lnTo>
                  <a:lnTo>
                    <a:pt x="450" y="614"/>
                  </a:lnTo>
                  <a:lnTo>
                    <a:pt x="452" y="622"/>
                  </a:lnTo>
                  <a:lnTo>
                    <a:pt x="464" y="634"/>
                  </a:lnTo>
                  <a:lnTo>
                    <a:pt x="466" y="650"/>
                  </a:lnTo>
                  <a:lnTo>
                    <a:pt x="462" y="692"/>
                  </a:lnTo>
                  <a:lnTo>
                    <a:pt x="476" y="714"/>
                  </a:lnTo>
                  <a:lnTo>
                    <a:pt x="476" y="746"/>
                  </a:lnTo>
                  <a:lnTo>
                    <a:pt x="486" y="780"/>
                  </a:lnTo>
                  <a:lnTo>
                    <a:pt x="508" y="794"/>
                  </a:lnTo>
                  <a:lnTo>
                    <a:pt x="522" y="850"/>
                  </a:lnTo>
                  <a:lnTo>
                    <a:pt x="540" y="874"/>
                  </a:lnTo>
                  <a:lnTo>
                    <a:pt x="578" y="886"/>
                  </a:lnTo>
                  <a:lnTo>
                    <a:pt x="590" y="892"/>
                  </a:lnTo>
                  <a:lnTo>
                    <a:pt x="596" y="900"/>
                  </a:lnTo>
                  <a:lnTo>
                    <a:pt x="584" y="940"/>
                  </a:lnTo>
                  <a:lnTo>
                    <a:pt x="574" y="954"/>
                  </a:lnTo>
                  <a:lnTo>
                    <a:pt x="574" y="968"/>
                  </a:lnTo>
                  <a:lnTo>
                    <a:pt x="570" y="982"/>
                  </a:lnTo>
                  <a:lnTo>
                    <a:pt x="578" y="1002"/>
                  </a:lnTo>
                  <a:lnTo>
                    <a:pt x="590" y="1024"/>
                  </a:lnTo>
                  <a:lnTo>
                    <a:pt x="622" y="1048"/>
                  </a:lnTo>
                  <a:lnTo>
                    <a:pt x="630" y="1074"/>
                  </a:lnTo>
                  <a:lnTo>
                    <a:pt x="632" y="1100"/>
                  </a:lnTo>
                  <a:lnTo>
                    <a:pt x="640" y="1110"/>
                  </a:lnTo>
                  <a:lnTo>
                    <a:pt x="640" y="1120"/>
                  </a:lnTo>
                  <a:lnTo>
                    <a:pt x="676" y="1120"/>
                  </a:lnTo>
                  <a:lnTo>
                    <a:pt x="688" y="1134"/>
                  </a:lnTo>
                  <a:lnTo>
                    <a:pt x="690" y="1168"/>
                  </a:lnTo>
                  <a:lnTo>
                    <a:pt x="702" y="1176"/>
                  </a:lnTo>
                  <a:lnTo>
                    <a:pt x="698" y="1190"/>
                  </a:lnTo>
                  <a:lnTo>
                    <a:pt x="674" y="1218"/>
                  </a:lnTo>
                  <a:lnTo>
                    <a:pt x="664" y="1224"/>
                  </a:lnTo>
                  <a:lnTo>
                    <a:pt x="654" y="1246"/>
                  </a:lnTo>
                  <a:lnTo>
                    <a:pt x="646" y="1260"/>
                  </a:lnTo>
                  <a:lnTo>
                    <a:pt x="638" y="1280"/>
                  </a:lnTo>
                  <a:lnTo>
                    <a:pt x="636" y="1294"/>
                  </a:lnTo>
                  <a:lnTo>
                    <a:pt x="644" y="1314"/>
                  </a:lnTo>
                  <a:lnTo>
                    <a:pt x="672" y="1316"/>
                  </a:lnTo>
                  <a:lnTo>
                    <a:pt x="696" y="1302"/>
                  </a:lnTo>
                  <a:lnTo>
                    <a:pt x="698" y="1312"/>
                  </a:lnTo>
                  <a:lnTo>
                    <a:pt x="682" y="1338"/>
                  </a:lnTo>
                  <a:lnTo>
                    <a:pt x="684" y="1352"/>
                  </a:lnTo>
                  <a:lnTo>
                    <a:pt x="730" y="1390"/>
                  </a:lnTo>
                  <a:lnTo>
                    <a:pt x="744" y="1394"/>
                  </a:lnTo>
                  <a:lnTo>
                    <a:pt x="760" y="1386"/>
                  </a:lnTo>
                  <a:lnTo>
                    <a:pt x="780" y="1430"/>
                  </a:lnTo>
                  <a:lnTo>
                    <a:pt x="790" y="1440"/>
                  </a:lnTo>
                  <a:lnTo>
                    <a:pt x="786" y="1464"/>
                  </a:lnTo>
                  <a:lnTo>
                    <a:pt x="776" y="1498"/>
                  </a:lnTo>
                  <a:lnTo>
                    <a:pt x="778" y="1510"/>
                  </a:lnTo>
                  <a:lnTo>
                    <a:pt x="838" y="1598"/>
                  </a:lnTo>
                  <a:lnTo>
                    <a:pt x="856" y="1630"/>
                  </a:lnTo>
                  <a:lnTo>
                    <a:pt x="870" y="1640"/>
                  </a:lnTo>
                  <a:lnTo>
                    <a:pt x="876" y="1656"/>
                  </a:lnTo>
                  <a:lnTo>
                    <a:pt x="878" y="1672"/>
                  </a:lnTo>
                  <a:lnTo>
                    <a:pt x="872" y="1690"/>
                  </a:lnTo>
                  <a:lnTo>
                    <a:pt x="878" y="1700"/>
                  </a:lnTo>
                  <a:lnTo>
                    <a:pt x="892" y="1702"/>
                  </a:lnTo>
                  <a:lnTo>
                    <a:pt x="900" y="1730"/>
                  </a:lnTo>
                  <a:lnTo>
                    <a:pt x="904" y="1766"/>
                  </a:lnTo>
                  <a:lnTo>
                    <a:pt x="912" y="1784"/>
                  </a:lnTo>
                  <a:lnTo>
                    <a:pt x="932" y="1812"/>
                  </a:lnTo>
                  <a:lnTo>
                    <a:pt x="950" y="1856"/>
                  </a:lnTo>
                  <a:lnTo>
                    <a:pt x="980" y="1886"/>
                  </a:lnTo>
                  <a:lnTo>
                    <a:pt x="980" y="1906"/>
                  </a:lnTo>
                  <a:lnTo>
                    <a:pt x="976" y="1910"/>
                  </a:lnTo>
                  <a:lnTo>
                    <a:pt x="972" y="1926"/>
                  </a:lnTo>
                  <a:lnTo>
                    <a:pt x="974" y="2000"/>
                  </a:lnTo>
                  <a:lnTo>
                    <a:pt x="982" y="2026"/>
                  </a:lnTo>
                  <a:lnTo>
                    <a:pt x="978" y="2052"/>
                  </a:lnTo>
                  <a:lnTo>
                    <a:pt x="990" y="2070"/>
                  </a:lnTo>
                  <a:lnTo>
                    <a:pt x="994" y="2092"/>
                  </a:lnTo>
                  <a:lnTo>
                    <a:pt x="992" y="2120"/>
                  </a:lnTo>
                  <a:lnTo>
                    <a:pt x="986" y="2148"/>
                  </a:lnTo>
                  <a:lnTo>
                    <a:pt x="976" y="2164"/>
                  </a:lnTo>
                  <a:lnTo>
                    <a:pt x="944" y="2194"/>
                  </a:lnTo>
                  <a:lnTo>
                    <a:pt x="942" y="2200"/>
                  </a:lnTo>
                  <a:lnTo>
                    <a:pt x="940" y="2208"/>
                  </a:lnTo>
                  <a:lnTo>
                    <a:pt x="956" y="2230"/>
                  </a:lnTo>
                  <a:lnTo>
                    <a:pt x="954" y="2244"/>
                  </a:lnTo>
                  <a:lnTo>
                    <a:pt x="914" y="2258"/>
                  </a:lnTo>
                  <a:lnTo>
                    <a:pt x="898" y="2270"/>
                  </a:lnTo>
                  <a:lnTo>
                    <a:pt x="894" y="2280"/>
                  </a:lnTo>
                  <a:lnTo>
                    <a:pt x="898" y="2290"/>
                  </a:lnTo>
                  <a:lnTo>
                    <a:pt x="904" y="2328"/>
                  </a:lnTo>
                  <a:lnTo>
                    <a:pt x="902" y="2352"/>
                  </a:lnTo>
                  <a:lnTo>
                    <a:pt x="904" y="2380"/>
                  </a:lnTo>
                  <a:lnTo>
                    <a:pt x="922" y="2398"/>
                  </a:lnTo>
                  <a:lnTo>
                    <a:pt x="948" y="2452"/>
                  </a:lnTo>
                  <a:lnTo>
                    <a:pt x="958" y="2468"/>
                  </a:lnTo>
                  <a:lnTo>
                    <a:pt x="972" y="2488"/>
                  </a:lnTo>
                  <a:lnTo>
                    <a:pt x="984" y="2496"/>
                  </a:lnTo>
                  <a:lnTo>
                    <a:pt x="1008" y="2508"/>
                  </a:lnTo>
                  <a:lnTo>
                    <a:pt x="1026" y="2508"/>
                  </a:lnTo>
                  <a:lnTo>
                    <a:pt x="1036" y="2516"/>
                  </a:lnTo>
                  <a:lnTo>
                    <a:pt x="1058" y="2552"/>
                  </a:lnTo>
                  <a:lnTo>
                    <a:pt x="1078" y="2562"/>
                  </a:lnTo>
                  <a:lnTo>
                    <a:pt x="1094" y="2586"/>
                  </a:lnTo>
                  <a:lnTo>
                    <a:pt x="1096" y="2598"/>
                  </a:lnTo>
                  <a:lnTo>
                    <a:pt x="1094" y="2610"/>
                  </a:lnTo>
                  <a:lnTo>
                    <a:pt x="1102" y="2610"/>
                  </a:lnTo>
                  <a:lnTo>
                    <a:pt x="1108" y="2618"/>
                  </a:lnTo>
                  <a:lnTo>
                    <a:pt x="1108" y="2630"/>
                  </a:lnTo>
                  <a:lnTo>
                    <a:pt x="1110" y="2646"/>
                  </a:lnTo>
                  <a:lnTo>
                    <a:pt x="1122" y="2658"/>
                  </a:lnTo>
                  <a:lnTo>
                    <a:pt x="1156" y="2664"/>
                  </a:lnTo>
                  <a:lnTo>
                    <a:pt x="1168" y="2676"/>
                  </a:lnTo>
                  <a:lnTo>
                    <a:pt x="1182" y="2678"/>
                  </a:lnTo>
                  <a:lnTo>
                    <a:pt x="1184" y="2690"/>
                  </a:lnTo>
                  <a:lnTo>
                    <a:pt x="1260" y="2722"/>
                  </a:lnTo>
                  <a:lnTo>
                    <a:pt x="1274" y="2726"/>
                  </a:lnTo>
                  <a:lnTo>
                    <a:pt x="1294" y="2730"/>
                  </a:lnTo>
                  <a:lnTo>
                    <a:pt x="1306" y="2724"/>
                  </a:lnTo>
                  <a:lnTo>
                    <a:pt x="1314" y="2728"/>
                  </a:lnTo>
                  <a:lnTo>
                    <a:pt x="1344" y="2754"/>
                  </a:lnTo>
                  <a:lnTo>
                    <a:pt x="1352" y="2776"/>
                  </a:lnTo>
                  <a:lnTo>
                    <a:pt x="1352" y="2786"/>
                  </a:lnTo>
                  <a:lnTo>
                    <a:pt x="1362" y="2790"/>
                  </a:lnTo>
                  <a:lnTo>
                    <a:pt x="1368" y="2800"/>
                  </a:lnTo>
                  <a:lnTo>
                    <a:pt x="1384" y="2810"/>
                  </a:lnTo>
                  <a:lnTo>
                    <a:pt x="1398" y="2826"/>
                  </a:lnTo>
                  <a:lnTo>
                    <a:pt x="1416" y="2836"/>
                  </a:lnTo>
                  <a:lnTo>
                    <a:pt x="1416" y="2850"/>
                  </a:lnTo>
                  <a:lnTo>
                    <a:pt x="1428" y="2864"/>
                  </a:lnTo>
                  <a:lnTo>
                    <a:pt x="1438" y="2862"/>
                  </a:lnTo>
                  <a:lnTo>
                    <a:pt x="1452" y="2874"/>
                  </a:lnTo>
                  <a:lnTo>
                    <a:pt x="1464" y="2880"/>
                  </a:lnTo>
                  <a:lnTo>
                    <a:pt x="1490" y="2894"/>
                  </a:lnTo>
                  <a:lnTo>
                    <a:pt x="1512" y="2898"/>
                  </a:lnTo>
                  <a:lnTo>
                    <a:pt x="1552" y="2918"/>
                  </a:lnTo>
                  <a:lnTo>
                    <a:pt x="1576" y="2940"/>
                  </a:lnTo>
                  <a:lnTo>
                    <a:pt x="1592" y="2950"/>
                  </a:lnTo>
                  <a:lnTo>
                    <a:pt x="1650" y="2974"/>
                  </a:lnTo>
                  <a:lnTo>
                    <a:pt x="1686" y="2994"/>
                  </a:lnTo>
                  <a:lnTo>
                    <a:pt x="1710" y="2992"/>
                  </a:lnTo>
                  <a:lnTo>
                    <a:pt x="1732" y="3022"/>
                  </a:lnTo>
                  <a:lnTo>
                    <a:pt x="1782" y="3068"/>
                  </a:lnTo>
                  <a:lnTo>
                    <a:pt x="1798" y="3074"/>
                  </a:lnTo>
                  <a:lnTo>
                    <a:pt x="1808" y="3074"/>
                  </a:lnTo>
                  <a:lnTo>
                    <a:pt x="1818" y="3086"/>
                  </a:lnTo>
                  <a:lnTo>
                    <a:pt x="1832" y="3094"/>
                  </a:lnTo>
                  <a:lnTo>
                    <a:pt x="1858" y="3106"/>
                  </a:lnTo>
                  <a:lnTo>
                    <a:pt x="1928" y="3118"/>
                  </a:lnTo>
                  <a:lnTo>
                    <a:pt x="1952" y="3134"/>
                  </a:lnTo>
                  <a:lnTo>
                    <a:pt x="1968" y="3144"/>
                  </a:lnTo>
                  <a:lnTo>
                    <a:pt x="1976" y="3144"/>
                  </a:lnTo>
                  <a:lnTo>
                    <a:pt x="1994" y="3156"/>
                  </a:lnTo>
                  <a:lnTo>
                    <a:pt x="2030" y="3160"/>
                  </a:lnTo>
                  <a:lnTo>
                    <a:pt x="2048" y="3158"/>
                  </a:lnTo>
                  <a:lnTo>
                    <a:pt x="2066" y="3150"/>
                  </a:lnTo>
                  <a:lnTo>
                    <a:pt x="2078" y="3138"/>
                  </a:lnTo>
                  <a:lnTo>
                    <a:pt x="2108" y="3124"/>
                  </a:lnTo>
                  <a:lnTo>
                    <a:pt x="2132" y="3120"/>
                  </a:lnTo>
                  <a:lnTo>
                    <a:pt x="2192" y="3074"/>
                  </a:lnTo>
                  <a:lnTo>
                    <a:pt x="2208" y="3070"/>
                  </a:lnTo>
                  <a:lnTo>
                    <a:pt x="2226" y="3062"/>
                  </a:lnTo>
                  <a:lnTo>
                    <a:pt x="2272" y="3064"/>
                  </a:lnTo>
                  <a:lnTo>
                    <a:pt x="2302" y="3076"/>
                  </a:lnTo>
                  <a:lnTo>
                    <a:pt x="2352" y="3102"/>
                  </a:lnTo>
                  <a:lnTo>
                    <a:pt x="2408" y="3142"/>
                  </a:lnTo>
                  <a:lnTo>
                    <a:pt x="2446" y="3198"/>
                  </a:lnTo>
                  <a:lnTo>
                    <a:pt x="2462" y="3228"/>
                  </a:lnTo>
                  <a:lnTo>
                    <a:pt x="2504" y="3288"/>
                  </a:lnTo>
                  <a:lnTo>
                    <a:pt x="2520" y="3316"/>
                  </a:lnTo>
                  <a:lnTo>
                    <a:pt x="2560" y="3356"/>
                  </a:lnTo>
                  <a:lnTo>
                    <a:pt x="2566" y="3354"/>
                  </a:lnTo>
                  <a:lnTo>
                    <a:pt x="2578" y="3304"/>
                  </a:lnTo>
                  <a:lnTo>
                    <a:pt x="2586" y="3296"/>
                  </a:lnTo>
                  <a:lnTo>
                    <a:pt x="2590" y="3288"/>
                  </a:lnTo>
                  <a:lnTo>
                    <a:pt x="2586" y="3264"/>
                  </a:lnTo>
                  <a:lnTo>
                    <a:pt x="2592" y="3262"/>
                  </a:lnTo>
                  <a:lnTo>
                    <a:pt x="2598" y="3246"/>
                  </a:lnTo>
                  <a:lnTo>
                    <a:pt x="2622" y="3214"/>
                  </a:lnTo>
                  <a:lnTo>
                    <a:pt x="2624" y="3204"/>
                  </a:lnTo>
                  <a:lnTo>
                    <a:pt x="2702" y="3088"/>
                  </a:lnTo>
                  <a:lnTo>
                    <a:pt x="2778" y="3086"/>
                  </a:lnTo>
                  <a:lnTo>
                    <a:pt x="2836" y="3088"/>
                  </a:lnTo>
                  <a:lnTo>
                    <a:pt x="2840" y="3090"/>
                  </a:lnTo>
                  <a:lnTo>
                    <a:pt x="2842" y="3086"/>
                  </a:lnTo>
                  <a:lnTo>
                    <a:pt x="2852" y="3040"/>
                  </a:lnTo>
                  <a:lnTo>
                    <a:pt x="2846" y="3024"/>
                  </a:lnTo>
                  <a:lnTo>
                    <a:pt x="2828" y="2998"/>
                  </a:lnTo>
                  <a:lnTo>
                    <a:pt x="2822" y="2970"/>
                  </a:lnTo>
                  <a:lnTo>
                    <a:pt x="2786" y="2938"/>
                  </a:lnTo>
                  <a:lnTo>
                    <a:pt x="2734" y="2858"/>
                  </a:lnTo>
                  <a:lnTo>
                    <a:pt x="2738" y="2860"/>
                  </a:lnTo>
                  <a:lnTo>
                    <a:pt x="2820" y="2862"/>
                  </a:lnTo>
                  <a:lnTo>
                    <a:pt x="2836" y="2778"/>
                  </a:lnTo>
                  <a:lnTo>
                    <a:pt x="3078" y="2784"/>
                  </a:lnTo>
                  <a:lnTo>
                    <a:pt x="3114" y="2776"/>
                  </a:lnTo>
                  <a:lnTo>
                    <a:pt x="3126" y="2776"/>
                  </a:lnTo>
                  <a:lnTo>
                    <a:pt x="3178" y="2690"/>
                  </a:lnTo>
                  <a:lnTo>
                    <a:pt x="3190" y="2684"/>
                  </a:lnTo>
                  <a:lnTo>
                    <a:pt x="3204" y="2686"/>
                  </a:lnTo>
                  <a:lnTo>
                    <a:pt x="3210" y="2666"/>
                  </a:lnTo>
                  <a:lnTo>
                    <a:pt x="3246" y="2618"/>
                  </a:lnTo>
                  <a:lnTo>
                    <a:pt x="3264" y="2626"/>
                  </a:lnTo>
                  <a:lnTo>
                    <a:pt x="3248" y="2672"/>
                  </a:lnTo>
                  <a:lnTo>
                    <a:pt x="3262" y="2678"/>
                  </a:lnTo>
                  <a:lnTo>
                    <a:pt x="3268" y="2688"/>
                  </a:lnTo>
                  <a:lnTo>
                    <a:pt x="3256" y="2732"/>
                  </a:lnTo>
                  <a:lnTo>
                    <a:pt x="3258" y="2762"/>
                  </a:lnTo>
                  <a:lnTo>
                    <a:pt x="3270" y="2748"/>
                  </a:lnTo>
                  <a:lnTo>
                    <a:pt x="3294" y="2684"/>
                  </a:lnTo>
                  <a:lnTo>
                    <a:pt x="3304" y="2648"/>
                  </a:lnTo>
                  <a:lnTo>
                    <a:pt x="3338" y="2576"/>
                  </a:lnTo>
                  <a:lnTo>
                    <a:pt x="3350" y="2544"/>
                  </a:lnTo>
                  <a:lnTo>
                    <a:pt x="3346" y="2530"/>
                  </a:lnTo>
                  <a:lnTo>
                    <a:pt x="3336" y="2520"/>
                  </a:lnTo>
                  <a:lnTo>
                    <a:pt x="3360" y="2502"/>
                  </a:lnTo>
                  <a:lnTo>
                    <a:pt x="3362" y="2482"/>
                  </a:lnTo>
                  <a:lnTo>
                    <a:pt x="3344" y="2470"/>
                  </a:lnTo>
                  <a:lnTo>
                    <a:pt x="3364" y="2444"/>
                  </a:lnTo>
                  <a:lnTo>
                    <a:pt x="3382" y="2416"/>
                  </a:lnTo>
                  <a:lnTo>
                    <a:pt x="3386" y="2390"/>
                  </a:lnTo>
                  <a:lnTo>
                    <a:pt x="3424" y="2328"/>
                  </a:lnTo>
                  <a:lnTo>
                    <a:pt x="3450" y="2310"/>
                  </a:lnTo>
                  <a:lnTo>
                    <a:pt x="3488" y="2270"/>
                  </a:lnTo>
                  <a:lnTo>
                    <a:pt x="3502" y="2242"/>
                  </a:lnTo>
                  <a:lnTo>
                    <a:pt x="3510" y="2212"/>
                  </a:lnTo>
                  <a:lnTo>
                    <a:pt x="3510" y="2176"/>
                  </a:lnTo>
                  <a:lnTo>
                    <a:pt x="3498" y="2150"/>
                  </a:lnTo>
                  <a:lnTo>
                    <a:pt x="3426" y="2138"/>
                  </a:lnTo>
                  <a:lnTo>
                    <a:pt x="3386" y="2170"/>
                  </a:lnTo>
                  <a:lnTo>
                    <a:pt x="3394" y="2134"/>
                  </a:lnTo>
                  <a:lnTo>
                    <a:pt x="3352" y="2120"/>
                  </a:lnTo>
                  <a:lnTo>
                    <a:pt x="3320" y="2124"/>
                  </a:lnTo>
                  <a:lnTo>
                    <a:pt x="3266" y="2140"/>
                  </a:lnTo>
                  <a:lnTo>
                    <a:pt x="3234" y="2158"/>
                  </a:lnTo>
                  <a:lnTo>
                    <a:pt x="3172" y="2162"/>
                  </a:lnTo>
                  <a:lnTo>
                    <a:pt x="3134" y="2162"/>
                  </a:lnTo>
                  <a:lnTo>
                    <a:pt x="3108" y="2166"/>
                  </a:lnTo>
                  <a:lnTo>
                    <a:pt x="3076" y="2180"/>
                  </a:lnTo>
                  <a:lnTo>
                    <a:pt x="3052" y="2184"/>
                  </a:lnTo>
                  <a:lnTo>
                    <a:pt x="3020" y="2208"/>
                  </a:lnTo>
                  <a:lnTo>
                    <a:pt x="3000" y="2246"/>
                  </a:lnTo>
                  <a:lnTo>
                    <a:pt x="2978" y="2336"/>
                  </a:lnTo>
                  <a:lnTo>
                    <a:pt x="2958" y="2386"/>
                  </a:lnTo>
                  <a:lnTo>
                    <a:pt x="2942" y="2424"/>
                  </a:lnTo>
                  <a:lnTo>
                    <a:pt x="2920" y="2450"/>
                  </a:lnTo>
                  <a:lnTo>
                    <a:pt x="2908" y="2488"/>
                  </a:lnTo>
                  <a:lnTo>
                    <a:pt x="2888" y="2526"/>
                  </a:lnTo>
                  <a:lnTo>
                    <a:pt x="2854" y="2558"/>
                  </a:lnTo>
                  <a:lnTo>
                    <a:pt x="2814" y="2574"/>
                  </a:lnTo>
                  <a:lnTo>
                    <a:pt x="2810" y="2634"/>
                  </a:lnTo>
                  <a:lnTo>
                    <a:pt x="2760" y="2662"/>
                  </a:lnTo>
                  <a:lnTo>
                    <a:pt x="2734" y="2666"/>
                  </a:lnTo>
                  <a:lnTo>
                    <a:pt x="2720" y="2662"/>
                  </a:lnTo>
                  <a:lnTo>
                    <a:pt x="2714" y="2646"/>
                  </a:lnTo>
                  <a:lnTo>
                    <a:pt x="2716" y="2628"/>
                  </a:lnTo>
                  <a:lnTo>
                    <a:pt x="2696" y="2620"/>
                  </a:lnTo>
                  <a:lnTo>
                    <a:pt x="2652" y="2618"/>
                  </a:lnTo>
                  <a:lnTo>
                    <a:pt x="2636" y="2626"/>
                  </a:lnTo>
                  <a:lnTo>
                    <a:pt x="2610" y="2632"/>
                  </a:lnTo>
                  <a:lnTo>
                    <a:pt x="2572" y="2654"/>
                  </a:lnTo>
                  <a:lnTo>
                    <a:pt x="2544" y="2660"/>
                  </a:lnTo>
                  <a:lnTo>
                    <a:pt x="2522" y="2656"/>
                  </a:lnTo>
                  <a:lnTo>
                    <a:pt x="2448" y="2668"/>
                  </a:lnTo>
                  <a:lnTo>
                    <a:pt x="2382" y="2708"/>
                  </a:lnTo>
                  <a:lnTo>
                    <a:pt x="2350" y="2706"/>
                  </a:lnTo>
                  <a:lnTo>
                    <a:pt x="2320" y="2676"/>
                  </a:lnTo>
                  <a:lnTo>
                    <a:pt x="2302" y="2630"/>
                  </a:lnTo>
                  <a:lnTo>
                    <a:pt x="2292" y="2620"/>
                  </a:lnTo>
                  <a:lnTo>
                    <a:pt x="2292" y="2626"/>
                  </a:lnTo>
                  <a:lnTo>
                    <a:pt x="2252" y="2622"/>
                  </a:lnTo>
                  <a:lnTo>
                    <a:pt x="2226" y="2604"/>
                  </a:lnTo>
                  <a:lnTo>
                    <a:pt x="2208" y="2596"/>
                  </a:lnTo>
                  <a:lnTo>
                    <a:pt x="2196" y="2584"/>
                  </a:lnTo>
                  <a:lnTo>
                    <a:pt x="2186" y="2562"/>
                  </a:lnTo>
                  <a:lnTo>
                    <a:pt x="2178" y="2554"/>
                  </a:lnTo>
                  <a:lnTo>
                    <a:pt x="2168" y="2532"/>
                  </a:lnTo>
                  <a:lnTo>
                    <a:pt x="2160" y="2524"/>
                  </a:lnTo>
                  <a:lnTo>
                    <a:pt x="2156" y="2524"/>
                  </a:lnTo>
                  <a:lnTo>
                    <a:pt x="2152" y="2520"/>
                  </a:lnTo>
                  <a:lnTo>
                    <a:pt x="2154" y="2492"/>
                  </a:lnTo>
                  <a:lnTo>
                    <a:pt x="2136" y="2380"/>
                  </a:lnTo>
                  <a:lnTo>
                    <a:pt x="2130" y="2354"/>
                  </a:lnTo>
                  <a:lnTo>
                    <a:pt x="2116" y="2340"/>
                  </a:lnTo>
                  <a:lnTo>
                    <a:pt x="2094" y="2300"/>
                  </a:lnTo>
                  <a:lnTo>
                    <a:pt x="2086" y="2280"/>
                  </a:lnTo>
                  <a:lnTo>
                    <a:pt x="2068" y="2202"/>
                  </a:lnTo>
                  <a:lnTo>
                    <a:pt x="2066" y="2172"/>
                  </a:lnTo>
                  <a:lnTo>
                    <a:pt x="2070" y="2160"/>
                  </a:lnTo>
                  <a:lnTo>
                    <a:pt x="2088" y="2138"/>
                  </a:lnTo>
                  <a:lnTo>
                    <a:pt x="2092" y="2120"/>
                  </a:lnTo>
                  <a:lnTo>
                    <a:pt x="2092" y="2110"/>
                  </a:lnTo>
                  <a:lnTo>
                    <a:pt x="2058" y="2042"/>
                  </a:lnTo>
                  <a:lnTo>
                    <a:pt x="2052" y="1984"/>
                  </a:lnTo>
                  <a:lnTo>
                    <a:pt x="2060" y="1952"/>
                  </a:lnTo>
                  <a:lnTo>
                    <a:pt x="2090" y="1882"/>
                  </a:lnTo>
                  <a:lnTo>
                    <a:pt x="2114" y="1774"/>
                  </a:lnTo>
                  <a:lnTo>
                    <a:pt x="2122" y="1736"/>
                  </a:lnTo>
                  <a:lnTo>
                    <a:pt x="2124" y="1704"/>
                  </a:lnTo>
                  <a:lnTo>
                    <a:pt x="2118" y="1690"/>
                  </a:lnTo>
                  <a:lnTo>
                    <a:pt x="2128" y="1638"/>
                  </a:lnTo>
                  <a:lnTo>
                    <a:pt x="2146" y="1566"/>
                  </a:lnTo>
                  <a:lnTo>
                    <a:pt x="2142" y="1556"/>
                  </a:lnTo>
                  <a:lnTo>
                    <a:pt x="2146" y="1544"/>
                  </a:lnTo>
                  <a:lnTo>
                    <a:pt x="2170" y="1504"/>
                  </a:lnTo>
                  <a:lnTo>
                    <a:pt x="2188" y="1490"/>
                  </a:lnTo>
                  <a:lnTo>
                    <a:pt x="2202" y="1456"/>
                  </a:lnTo>
                  <a:lnTo>
                    <a:pt x="2208" y="1432"/>
                  </a:lnTo>
                  <a:lnTo>
                    <a:pt x="2220" y="1422"/>
                  </a:lnTo>
                  <a:lnTo>
                    <a:pt x="2248" y="1432"/>
                  </a:lnTo>
                  <a:lnTo>
                    <a:pt x="2258" y="1428"/>
                  </a:lnTo>
                  <a:lnTo>
                    <a:pt x="2280" y="1406"/>
                  </a:lnTo>
                  <a:lnTo>
                    <a:pt x="2290" y="1390"/>
                  </a:lnTo>
                  <a:lnTo>
                    <a:pt x="2300" y="1360"/>
                  </a:lnTo>
                  <a:lnTo>
                    <a:pt x="2296" y="1358"/>
                  </a:lnTo>
                  <a:lnTo>
                    <a:pt x="2288" y="1376"/>
                  </a:lnTo>
                  <a:lnTo>
                    <a:pt x="2278" y="1386"/>
                  </a:lnTo>
                  <a:lnTo>
                    <a:pt x="2272" y="1390"/>
                  </a:lnTo>
                  <a:lnTo>
                    <a:pt x="2270" y="1388"/>
                  </a:lnTo>
                  <a:lnTo>
                    <a:pt x="2276" y="1372"/>
                  </a:lnTo>
                  <a:lnTo>
                    <a:pt x="2298" y="1338"/>
                  </a:lnTo>
                  <a:lnTo>
                    <a:pt x="2256" y="1330"/>
                  </a:lnTo>
                  <a:lnTo>
                    <a:pt x="2218" y="1302"/>
                  </a:lnTo>
                  <a:lnTo>
                    <a:pt x="2154" y="1294"/>
                  </a:lnTo>
                  <a:lnTo>
                    <a:pt x="2124" y="1268"/>
                  </a:lnTo>
                  <a:lnTo>
                    <a:pt x="2090" y="1262"/>
                  </a:lnTo>
                  <a:lnTo>
                    <a:pt x="2058" y="1228"/>
                  </a:lnTo>
                  <a:lnTo>
                    <a:pt x="2038" y="1152"/>
                  </a:lnTo>
                  <a:lnTo>
                    <a:pt x="2042" y="1012"/>
                  </a:lnTo>
                  <a:lnTo>
                    <a:pt x="2010" y="976"/>
                  </a:lnTo>
                  <a:lnTo>
                    <a:pt x="2004" y="922"/>
                  </a:lnTo>
                  <a:lnTo>
                    <a:pt x="1980" y="870"/>
                  </a:lnTo>
                  <a:lnTo>
                    <a:pt x="1974" y="736"/>
                  </a:lnTo>
                  <a:lnTo>
                    <a:pt x="1956" y="712"/>
                  </a:lnTo>
                  <a:lnTo>
                    <a:pt x="1948" y="684"/>
                  </a:lnTo>
                  <a:lnTo>
                    <a:pt x="1922" y="636"/>
                  </a:lnTo>
                  <a:lnTo>
                    <a:pt x="1912" y="608"/>
                  </a:lnTo>
                  <a:lnTo>
                    <a:pt x="1802" y="606"/>
                  </a:lnTo>
                  <a:lnTo>
                    <a:pt x="1778" y="598"/>
                  </a:lnTo>
                  <a:lnTo>
                    <a:pt x="1748" y="608"/>
                  </a:lnTo>
                  <a:lnTo>
                    <a:pt x="1736" y="618"/>
                  </a:lnTo>
                  <a:lnTo>
                    <a:pt x="1636" y="746"/>
                  </a:lnTo>
                  <a:lnTo>
                    <a:pt x="1584" y="732"/>
                  </a:lnTo>
                  <a:lnTo>
                    <a:pt x="1538" y="682"/>
                  </a:lnTo>
                  <a:lnTo>
                    <a:pt x="1510" y="636"/>
                  </a:lnTo>
                  <a:lnTo>
                    <a:pt x="1492" y="580"/>
                  </a:lnTo>
                  <a:lnTo>
                    <a:pt x="1508" y="438"/>
                  </a:lnTo>
                  <a:lnTo>
                    <a:pt x="1456" y="380"/>
                  </a:lnTo>
                  <a:lnTo>
                    <a:pt x="1428" y="328"/>
                  </a:lnTo>
                  <a:lnTo>
                    <a:pt x="1420" y="292"/>
                  </a:lnTo>
                  <a:lnTo>
                    <a:pt x="1394" y="274"/>
                  </a:lnTo>
                  <a:lnTo>
                    <a:pt x="1392" y="238"/>
                  </a:lnTo>
                  <a:lnTo>
                    <a:pt x="1384" y="232"/>
                  </a:lnTo>
                  <a:lnTo>
                    <a:pt x="1364" y="214"/>
                  </a:lnTo>
                  <a:lnTo>
                    <a:pt x="1148" y="202"/>
                  </a:lnTo>
                  <a:lnTo>
                    <a:pt x="1116" y="286"/>
                  </a:lnTo>
                  <a:lnTo>
                    <a:pt x="1010" y="280"/>
                  </a:lnTo>
                  <a:lnTo>
                    <a:pt x="760" y="264"/>
                  </a:lnTo>
                  <a:lnTo>
                    <a:pt x="352" y="16"/>
                  </a:lnTo>
                  <a:lnTo>
                    <a:pt x="354" y="0"/>
                  </a:lnTo>
                  <a:lnTo>
                    <a:pt x="52" y="6"/>
                  </a:lnTo>
                  <a:lnTo>
                    <a:pt x="60" y="26"/>
                  </a:lnTo>
                  <a:lnTo>
                    <a:pt x="52" y="50"/>
                  </a:lnTo>
                  <a:lnTo>
                    <a:pt x="56" y="66"/>
                  </a:lnTo>
                  <a:lnTo>
                    <a:pt x="52" y="92"/>
                  </a:lnTo>
                  <a:lnTo>
                    <a:pt x="58" y="112"/>
                  </a:lnTo>
                  <a:lnTo>
                    <a:pt x="56" y="124"/>
                  </a:lnTo>
                  <a:lnTo>
                    <a:pt x="64" y="126"/>
                  </a:lnTo>
                  <a:lnTo>
                    <a:pt x="66" y="140"/>
                  </a:lnTo>
                  <a:lnTo>
                    <a:pt x="50" y="186"/>
                  </a:lnTo>
                  <a:lnTo>
                    <a:pt x="62" y="260"/>
                  </a:lnTo>
                  <a:lnTo>
                    <a:pt x="60" y="280"/>
                  </a:lnTo>
                  <a:lnTo>
                    <a:pt x="54" y="294"/>
                  </a:lnTo>
                  <a:lnTo>
                    <a:pt x="58" y="298"/>
                  </a:lnTo>
                  <a:lnTo>
                    <a:pt x="56" y="312"/>
                  </a:lnTo>
                  <a:lnTo>
                    <a:pt x="62" y="320"/>
                  </a:lnTo>
                  <a:lnTo>
                    <a:pt x="60" y="370"/>
                  </a:lnTo>
                  <a:lnTo>
                    <a:pt x="48" y="396"/>
                  </a:lnTo>
                  <a:lnTo>
                    <a:pt x="48" y="404"/>
                  </a:lnTo>
                  <a:lnTo>
                    <a:pt x="60" y="396"/>
                  </a:lnTo>
                  <a:lnTo>
                    <a:pt x="68" y="400"/>
                  </a:lnTo>
                  <a:lnTo>
                    <a:pt x="64" y="424"/>
                  </a:lnTo>
                  <a:lnTo>
                    <a:pt x="48" y="484"/>
                  </a:lnTo>
                  <a:lnTo>
                    <a:pt x="46" y="516"/>
                  </a:lnTo>
                  <a:lnTo>
                    <a:pt x="50" y="526"/>
                  </a:lnTo>
                  <a:lnTo>
                    <a:pt x="68" y="538"/>
                  </a:lnTo>
                  <a:lnTo>
                    <a:pt x="74" y="546"/>
                  </a:lnTo>
                  <a:lnTo>
                    <a:pt x="86" y="554"/>
                  </a:lnTo>
                  <a:lnTo>
                    <a:pt x="96" y="582"/>
                  </a:lnTo>
                  <a:lnTo>
                    <a:pt x="116" y="586"/>
                  </a:lnTo>
                  <a:lnTo>
                    <a:pt x="120" y="606"/>
                  </a:lnTo>
                  <a:lnTo>
                    <a:pt x="124" y="640"/>
                  </a:lnTo>
                  <a:lnTo>
                    <a:pt x="132" y="646"/>
                  </a:lnTo>
                  <a:lnTo>
                    <a:pt x="144" y="684"/>
                  </a:lnTo>
                  <a:lnTo>
                    <a:pt x="150" y="688"/>
                  </a:lnTo>
                  <a:lnTo>
                    <a:pt x="174" y="762"/>
                  </a:lnTo>
                  <a:lnTo>
                    <a:pt x="168" y="786"/>
                  </a:lnTo>
                  <a:lnTo>
                    <a:pt x="160" y="808"/>
                  </a:lnTo>
                  <a:lnTo>
                    <a:pt x="162" y="816"/>
                  </a:lnTo>
                  <a:lnTo>
                    <a:pt x="154" y="826"/>
                  </a:lnTo>
                  <a:lnTo>
                    <a:pt x="150" y="842"/>
                  </a:lnTo>
                  <a:lnTo>
                    <a:pt x="138" y="844"/>
                  </a:lnTo>
                  <a:lnTo>
                    <a:pt x="126" y="854"/>
                  </a:lnTo>
                  <a:lnTo>
                    <a:pt x="122" y="868"/>
                  </a:lnTo>
                  <a:lnTo>
                    <a:pt x="124" y="872"/>
                  </a:lnTo>
                  <a:lnTo>
                    <a:pt x="118" y="888"/>
                  </a:lnTo>
                  <a:lnTo>
                    <a:pt x="108" y="872"/>
                  </a:lnTo>
                  <a:lnTo>
                    <a:pt x="60" y="886"/>
                  </a:lnTo>
                  <a:lnTo>
                    <a:pt x="10" y="876"/>
                  </a:lnTo>
                  <a:lnTo>
                    <a:pt x="0" y="898"/>
                  </a:lnTo>
                  <a:lnTo>
                    <a:pt x="4" y="902"/>
                  </a:lnTo>
                  <a:lnTo>
                    <a:pt x="16" y="894"/>
                  </a:lnTo>
                  <a:lnTo>
                    <a:pt x="34" y="928"/>
                  </a:lnTo>
                  <a:lnTo>
                    <a:pt x="52" y="938"/>
                  </a:lnTo>
                  <a:lnTo>
                    <a:pt x="54" y="950"/>
                  </a:lnTo>
                  <a:lnTo>
                    <a:pt x="50" y="984"/>
                  </a:lnTo>
                  <a:lnTo>
                    <a:pt x="58" y="992"/>
                  </a:lnTo>
                  <a:lnTo>
                    <a:pt x="80" y="994"/>
                  </a:lnTo>
                  <a:lnTo>
                    <a:pt x="90" y="1004"/>
                  </a:lnTo>
                  <a:lnTo>
                    <a:pt x="90" y="1022"/>
                  </a:lnTo>
                  <a:lnTo>
                    <a:pt x="102" y="1026"/>
                  </a:lnTo>
                  <a:lnTo>
                    <a:pt x="118" y="1040"/>
                  </a:lnTo>
                  <a:lnTo>
                    <a:pt x="124" y="1060"/>
                  </a:lnTo>
                  <a:lnTo>
                    <a:pt x="136" y="1072"/>
                  </a:lnTo>
                  <a:lnTo>
                    <a:pt x="166" y="1082"/>
                  </a:lnTo>
                  <a:lnTo>
                    <a:pt x="204" y="1044"/>
                  </a:lnTo>
                  <a:lnTo>
                    <a:pt x="204" y="1060"/>
                  </a:lnTo>
                  <a:lnTo>
                    <a:pt x="194" y="1082"/>
                  </a:lnTo>
                  <a:lnTo>
                    <a:pt x="198" y="1100"/>
                  </a:lnTo>
                  <a:lnTo>
                    <a:pt x="212" y="1148"/>
                  </a:lnTo>
                  <a:lnTo>
                    <a:pt x="234" y="1174"/>
                  </a:lnTo>
                  <a:lnTo>
                    <a:pt x="248" y="1184"/>
                  </a:lnTo>
                  <a:lnTo>
                    <a:pt x="262" y="1184"/>
                  </a:lnTo>
                  <a:lnTo>
                    <a:pt x="264" y="1202"/>
                  </a:lnTo>
                  <a:lnTo>
                    <a:pt x="266" y="1270"/>
                  </a:lnTo>
                  <a:lnTo>
                    <a:pt x="264" y="1292"/>
                  </a:lnTo>
                  <a:lnTo>
                    <a:pt x="246" y="1360"/>
                  </a:lnTo>
                  <a:lnTo>
                    <a:pt x="220" y="1410"/>
                  </a:lnTo>
                  <a:lnTo>
                    <a:pt x="204" y="1432"/>
                  </a:lnTo>
                  <a:lnTo>
                    <a:pt x="200" y="1450"/>
                  </a:lnTo>
                  <a:lnTo>
                    <a:pt x="210" y="1436"/>
                  </a:lnTo>
                  <a:lnTo>
                    <a:pt x="216" y="1434"/>
                  </a:lnTo>
                  <a:lnTo>
                    <a:pt x="218" y="1450"/>
                  </a:lnTo>
                  <a:lnTo>
                    <a:pt x="236" y="1446"/>
                  </a:lnTo>
                  <a:lnTo>
                    <a:pt x="246" y="1456"/>
                  </a:lnTo>
                  <a:lnTo>
                    <a:pt x="242" y="1476"/>
                  </a:lnTo>
                  <a:lnTo>
                    <a:pt x="246" y="1486"/>
                  </a:lnTo>
                  <a:lnTo>
                    <a:pt x="270" y="1492"/>
                  </a:lnTo>
                  <a:lnTo>
                    <a:pt x="266" y="1508"/>
                  </a:lnTo>
                  <a:lnTo>
                    <a:pt x="282" y="1536"/>
                  </a:lnTo>
                  <a:lnTo>
                    <a:pt x="320" y="1572"/>
                  </a:lnTo>
                  <a:lnTo>
                    <a:pt x="328" y="1592"/>
                  </a:lnTo>
                  <a:lnTo>
                    <a:pt x="364" y="1650"/>
                  </a:lnTo>
                  <a:lnTo>
                    <a:pt x="378" y="1660"/>
                  </a:lnTo>
                  <a:lnTo>
                    <a:pt x="396" y="1700"/>
                  </a:lnTo>
                  <a:lnTo>
                    <a:pt x="398" y="1776"/>
                  </a:lnTo>
                  <a:lnTo>
                    <a:pt x="406" y="1798"/>
                  </a:lnTo>
                  <a:lnTo>
                    <a:pt x="418" y="1800"/>
                  </a:lnTo>
                  <a:lnTo>
                    <a:pt x="436" y="1782"/>
                  </a:lnTo>
                  <a:lnTo>
                    <a:pt x="462" y="1770"/>
                  </a:lnTo>
                  <a:lnTo>
                    <a:pt x="482" y="1750"/>
                  </a:lnTo>
                  <a:lnTo>
                    <a:pt x="498" y="1732"/>
                  </a:lnTo>
                  <a:lnTo>
                    <a:pt x="506" y="1708"/>
                  </a:lnTo>
                  <a:lnTo>
                    <a:pt x="506" y="1686"/>
                  </a:lnTo>
                  <a:lnTo>
                    <a:pt x="496" y="1670"/>
                  </a:lnTo>
                  <a:lnTo>
                    <a:pt x="494" y="1648"/>
                  </a:lnTo>
                  <a:lnTo>
                    <a:pt x="482" y="1616"/>
                  </a:lnTo>
                  <a:lnTo>
                    <a:pt x="486" y="1602"/>
                  </a:lnTo>
                  <a:lnTo>
                    <a:pt x="462" y="1572"/>
                  </a:lnTo>
                  <a:lnTo>
                    <a:pt x="446" y="1546"/>
                  </a:lnTo>
                  <a:lnTo>
                    <a:pt x="418" y="1568"/>
                  </a:lnTo>
                  <a:lnTo>
                    <a:pt x="406" y="1558"/>
                  </a:lnTo>
                  <a:lnTo>
                    <a:pt x="398" y="1542"/>
                  </a:lnTo>
                  <a:lnTo>
                    <a:pt x="390" y="1504"/>
                  </a:lnTo>
                  <a:lnTo>
                    <a:pt x="392" y="1490"/>
                  </a:lnTo>
                  <a:lnTo>
                    <a:pt x="408" y="1436"/>
                  </a:lnTo>
                  <a:lnTo>
                    <a:pt x="402" y="1392"/>
                  </a:lnTo>
                  <a:lnTo>
                    <a:pt x="398" y="1376"/>
                  </a:lnTo>
                  <a:lnTo>
                    <a:pt x="394" y="1378"/>
                  </a:lnTo>
                  <a:lnTo>
                    <a:pt x="412" y="1324"/>
                  </a:lnTo>
                  <a:lnTo>
                    <a:pt x="396" y="1304"/>
                  </a:lnTo>
                  <a:lnTo>
                    <a:pt x="396" y="1292"/>
                  </a:lnTo>
                  <a:lnTo>
                    <a:pt x="388" y="1270"/>
                  </a:lnTo>
                  <a:lnTo>
                    <a:pt x="390" y="1242"/>
                  </a:lnTo>
                  <a:lnTo>
                    <a:pt x="402" y="1182"/>
                  </a:lnTo>
                  <a:lnTo>
                    <a:pt x="396" y="1174"/>
                  </a:lnTo>
                  <a:lnTo>
                    <a:pt x="402" y="1154"/>
                  </a:lnTo>
                  <a:lnTo>
                    <a:pt x="398" y="1106"/>
                  </a:lnTo>
                  <a:lnTo>
                    <a:pt x="386" y="1078"/>
                  </a:lnTo>
                  <a:lnTo>
                    <a:pt x="372" y="1078"/>
                  </a:lnTo>
                  <a:lnTo>
                    <a:pt x="364" y="1116"/>
                  </a:lnTo>
                  <a:lnTo>
                    <a:pt x="370" y="1128"/>
                  </a:lnTo>
                  <a:lnTo>
                    <a:pt x="368" y="1128"/>
                  </a:lnTo>
                  <a:lnTo>
                    <a:pt x="358" y="1108"/>
                  </a:lnTo>
                  <a:lnTo>
                    <a:pt x="362" y="1090"/>
                  </a:lnTo>
                  <a:lnTo>
                    <a:pt x="360" y="1068"/>
                  </a:lnTo>
                  <a:lnTo>
                    <a:pt x="360" y="1046"/>
                  </a:lnTo>
                  <a:lnTo>
                    <a:pt x="362" y="1038"/>
                  </a:lnTo>
                  <a:lnTo>
                    <a:pt x="358" y="1026"/>
                  </a:lnTo>
                  <a:lnTo>
                    <a:pt x="342" y="1012"/>
                  </a:lnTo>
                  <a:lnTo>
                    <a:pt x="348" y="986"/>
                  </a:lnTo>
                  <a:lnTo>
                    <a:pt x="346" y="954"/>
                  </a:lnTo>
                  <a:lnTo>
                    <a:pt x="318" y="890"/>
                  </a:lnTo>
                  <a:lnTo>
                    <a:pt x="322" y="858"/>
                  </a:lnTo>
                  <a:lnTo>
                    <a:pt x="330" y="832"/>
                  </a:lnTo>
                  <a:lnTo>
                    <a:pt x="330" y="812"/>
                  </a:lnTo>
                  <a:lnTo>
                    <a:pt x="334" y="792"/>
                  </a:lnTo>
                  <a:lnTo>
                    <a:pt x="330" y="790"/>
                  </a:lnTo>
                  <a:lnTo>
                    <a:pt x="330" y="782"/>
                  </a:lnTo>
                  <a:lnTo>
                    <a:pt x="326" y="776"/>
                  </a:lnTo>
                  <a:lnTo>
                    <a:pt x="318" y="778"/>
                  </a:lnTo>
                  <a:lnTo>
                    <a:pt x="314" y="772"/>
                  </a:lnTo>
                  <a:lnTo>
                    <a:pt x="312" y="750"/>
                  </a:lnTo>
                  <a:lnTo>
                    <a:pt x="314" y="706"/>
                  </a:lnTo>
                  <a:lnTo>
                    <a:pt x="308" y="710"/>
                  </a:lnTo>
                  <a:lnTo>
                    <a:pt x="302" y="706"/>
                  </a:lnTo>
                  <a:lnTo>
                    <a:pt x="296" y="690"/>
                  </a:lnTo>
                  <a:lnTo>
                    <a:pt x="282" y="694"/>
                  </a:lnTo>
                  <a:lnTo>
                    <a:pt x="278" y="652"/>
                  </a:lnTo>
                  <a:lnTo>
                    <a:pt x="284" y="620"/>
                  </a:lnTo>
                  <a:lnTo>
                    <a:pt x="254" y="572"/>
                  </a:lnTo>
                  <a:lnTo>
                    <a:pt x="248" y="556"/>
                  </a:lnTo>
                  <a:lnTo>
                    <a:pt x="248" y="542"/>
                  </a:lnTo>
                  <a:lnTo>
                    <a:pt x="242" y="534"/>
                  </a:lnTo>
                  <a:lnTo>
                    <a:pt x="224" y="532"/>
                  </a:lnTo>
                  <a:lnTo>
                    <a:pt x="228" y="516"/>
                  </a:lnTo>
                  <a:lnTo>
                    <a:pt x="226" y="494"/>
                  </a:lnTo>
                  <a:lnTo>
                    <a:pt x="224" y="474"/>
                  </a:lnTo>
                  <a:lnTo>
                    <a:pt x="220" y="460"/>
                  </a:lnTo>
                  <a:lnTo>
                    <a:pt x="232" y="400"/>
                  </a:lnTo>
                  <a:lnTo>
                    <a:pt x="252" y="346"/>
                  </a:lnTo>
                  <a:lnTo>
                    <a:pt x="258" y="320"/>
                  </a:lnTo>
                  <a:lnTo>
                    <a:pt x="254" y="298"/>
                  </a:lnTo>
                  <a:lnTo>
                    <a:pt x="256" y="276"/>
                  </a:lnTo>
                  <a:lnTo>
                    <a:pt x="272" y="224"/>
                  </a:lnTo>
                  <a:lnTo>
                    <a:pt x="282" y="196"/>
                  </a:lnTo>
                  <a:lnTo>
                    <a:pt x="296" y="178"/>
                  </a:lnTo>
                  <a:lnTo>
                    <a:pt x="300" y="15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60520" y="4376160"/>
              <a:ext cx="301320" cy="490320"/>
            </a:xfrm>
            <a:custGeom>
              <a:avLst/>
              <a:gdLst/>
              <a:ahLst/>
              <a:rect l="l" t="t" r="r" b="b"/>
              <a:pathLst>
                <a:path w="1734" h="2876">
                  <a:moveTo>
                    <a:pt x="1182" y="100"/>
                  </a:moveTo>
                  <a:lnTo>
                    <a:pt x="1196" y="88"/>
                  </a:lnTo>
                  <a:lnTo>
                    <a:pt x="1210" y="66"/>
                  </a:lnTo>
                  <a:lnTo>
                    <a:pt x="1210" y="38"/>
                  </a:lnTo>
                  <a:lnTo>
                    <a:pt x="1186" y="16"/>
                  </a:lnTo>
                  <a:lnTo>
                    <a:pt x="1152" y="0"/>
                  </a:lnTo>
                  <a:lnTo>
                    <a:pt x="1130" y="12"/>
                  </a:lnTo>
                  <a:lnTo>
                    <a:pt x="1122" y="10"/>
                  </a:lnTo>
                  <a:lnTo>
                    <a:pt x="1118" y="12"/>
                  </a:lnTo>
                  <a:lnTo>
                    <a:pt x="1116" y="38"/>
                  </a:lnTo>
                  <a:lnTo>
                    <a:pt x="1100" y="40"/>
                  </a:lnTo>
                  <a:lnTo>
                    <a:pt x="1088" y="36"/>
                  </a:lnTo>
                  <a:lnTo>
                    <a:pt x="1080" y="46"/>
                  </a:lnTo>
                  <a:lnTo>
                    <a:pt x="1076" y="68"/>
                  </a:lnTo>
                  <a:lnTo>
                    <a:pt x="1062" y="90"/>
                  </a:lnTo>
                  <a:lnTo>
                    <a:pt x="1044" y="104"/>
                  </a:lnTo>
                  <a:lnTo>
                    <a:pt x="980" y="128"/>
                  </a:lnTo>
                  <a:lnTo>
                    <a:pt x="904" y="176"/>
                  </a:lnTo>
                  <a:lnTo>
                    <a:pt x="890" y="182"/>
                  </a:lnTo>
                  <a:lnTo>
                    <a:pt x="836" y="196"/>
                  </a:lnTo>
                  <a:lnTo>
                    <a:pt x="816" y="194"/>
                  </a:lnTo>
                  <a:lnTo>
                    <a:pt x="792" y="188"/>
                  </a:lnTo>
                  <a:lnTo>
                    <a:pt x="768" y="190"/>
                  </a:lnTo>
                  <a:lnTo>
                    <a:pt x="762" y="194"/>
                  </a:lnTo>
                  <a:lnTo>
                    <a:pt x="752" y="212"/>
                  </a:lnTo>
                  <a:lnTo>
                    <a:pt x="740" y="246"/>
                  </a:lnTo>
                  <a:lnTo>
                    <a:pt x="728" y="272"/>
                  </a:lnTo>
                  <a:lnTo>
                    <a:pt x="720" y="276"/>
                  </a:lnTo>
                  <a:lnTo>
                    <a:pt x="716" y="276"/>
                  </a:lnTo>
                  <a:lnTo>
                    <a:pt x="716" y="248"/>
                  </a:lnTo>
                  <a:lnTo>
                    <a:pt x="710" y="242"/>
                  </a:lnTo>
                  <a:lnTo>
                    <a:pt x="682" y="242"/>
                  </a:lnTo>
                  <a:lnTo>
                    <a:pt x="656" y="238"/>
                  </a:lnTo>
                  <a:lnTo>
                    <a:pt x="646" y="240"/>
                  </a:lnTo>
                  <a:lnTo>
                    <a:pt x="584" y="288"/>
                  </a:lnTo>
                  <a:lnTo>
                    <a:pt x="562" y="310"/>
                  </a:lnTo>
                  <a:lnTo>
                    <a:pt x="556" y="322"/>
                  </a:lnTo>
                  <a:lnTo>
                    <a:pt x="546" y="390"/>
                  </a:lnTo>
                  <a:lnTo>
                    <a:pt x="536" y="438"/>
                  </a:lnTo>
                  <a:lnTo>
                    <a:pt x="530" y="490"/>
                  </a:lnTo>
                  <a:lnTo>
                    <a:pt x="510" y="510"/>
                  </a:lnTo>
                  <a:lnTo>
                    <a:pt x="474" y="518"/>
                  </a:lnTo>
                  <a:lnTo>
                    <a:pt x="460" y="532"/>
                  </a:lnTo>
                  <a:lnTo>
                    <a:pt x="434" y="578"/>
                  </a:lnTo>
                  <a:lnTo>
                    <a:pt x="426" y="588"/>
                  </a:lnTo>
                  <a:lnTo>
                    <a:pt x="404" y="608"/>
                  </a:lnTo>
                  <a:lnTo>
                    <a:pt x="354" y="646"/>
                  </a:lnTo>
                  <a:lnTo>
                    <a:pt x="350" y="654"/>
                  </a:lnTo>
                  <a:lnTo>
                    <a:pt x="350" y="666"/>
                  </a:lnTo>
                  <a:lnTo>
                    <a:pt x="356" y="674"/>
                  </a:lnTo>
                  <a:lnTo>
                    <a:pt x="360" y="740"/>
                  </a:lnTo>
                  <a:lnTo>
                    <a:pt x="352" y="758"/>
                  </a:lnTo>
                  <a:lnTo>
                    <a:pt x="348" y="760"/>
                  </a:lnTo>
                  <a:lnTo>
                    <a:pt x="338" y="750"/>
                  </a:lnTo>
                  <a:lnTo>
                    <a:pt x="316" y="706"/>
                  </a:lnTo>
                  <a:lnTo>
                    <a:pt x="274" y="644"/>
                  </a:lnTo>
                  <a:lnTo>
                    <a:pt x="270" y="654"/>
                  </a:lnTo>
                  <a:lnTo>
                    <a:pt x="264" y="682"/>
                  </a:lnTo>
                  <a:lnTo>
                    <a:pt x="266" y="686"/>
                  </a:lnTo>
                  <a:lnTo>
                    <a:pt x="278" y="696"/>
                  </a:lnTo>
                  <a:lnTo>
                    <a:pt x="284" y="718"/>
                  </a:lnTo>
                  <a:lnTo>
                    <a:pt x="284" y="738"/>
                  </a:lnTo>
                  <a:lnTo>
                    <a:pt x="288" y="740"/>
                  </a:lnTo>
                  <a:lnTo>
                    <a:pt x="296" y="750"/>
                  </a:lnTo>
                  <a:lnTo>
                    <a:pt x="296" y="758"/>
                  </a:lnTo>
                  <a:lnTo>
                    <a:pt x="280" y="776"/>
                  </a:lnTo>
                  <a:lnTo>
                    <a:pt x="252" y="816"/>
                  </a:lnTo>
                  <a:lnTo>
                    <a:pt x="242" y="826"/>
                  </a:lnTo>
                  <a:lnTo>
                    <a:pt x="228" y="814"/>
                  </a:lnTo>
                  <a:lnTo>
                    <a:pt x="218" y="816"/>
                  </a:lnTo>
                  <a:lnTo>
                    <a:pt x="216" y="842"/>
                  </a:lnTo>
                  <a:lnTo>
                    <a:pt x="194" y="860"/>
                  </a:lnTo>
                  <a:lnTo>
                    <a:pt x="194" y="878"/>
                  </a:lnTo>
                  <a:lnTo>
                    <a:pt x="188" y="876"/>
                  </a:lnTo>
                  <a:lnTo>
                    <a:pt x="194" y="892"/>
                  </a:lnTo>
                  <a:lnTo>
                    <a:pt x="204" y="950"/>
                  </a:lnTo>
                  <a:lnTo>
                    <a:pt x="212" y="966"/>
                  </a:lnTo>
                  <a:lnTo>
                    <a:pt x="242" y="992"/>
                  </a:lnTo>
                  <a:lnTo>
                    <a:pt x="252" y="1016"/>
                  </a:lnTo>
                  <a:lnTo>
                    <a:pt x="252" y="1028"/>
                  </a:lnTo>
                  <a:lnTo>
                    <a:pt x="246" y="1098"/>
                  </a:lnTo>
                  <a:lnTo>
                    <a:pt x="252" y="1146"/>
                  </a:lnTo>
                  <a:lnTo>
                    <a:pt x="252" y="1162"/>
                  </a:lnTo>
                  <a:lnTo>
                    <a:pt x="236" y="1184"/>
                  </a:lnTo>
                  <a:lnTo>
                    <a:pt x="230" y="1206"/>
                  </a:lnTo>
                  <a:lnTo>
                    <a:pt x="238" y="1288"/>
                  </a:lnTo>
                  <a:lnTo>
                    <a:pt x="246" y="1352"/>
                  </a:lnTo>
                  <a:lnTo>
                    <a:pt x="244" y="1374"/>
                  </a:lnTo>
                  <a:lnTo>
                    <a:pt x="230" y="1424"/>
                  </a:lnTo>
                  <a:lnTo>
                    <a:pt x="226" y="1450"/>
                  </a:lnTo>
                  <a:lnTo>
                    <a:pt x="228" y="1470"/>
                  </a:lnTo>
                  <a:lnTo>
                    <a:pt x="248" y="1480"/>
                  </a:lnTo>
                  <a:lnTo>
                    <a:pt x="264" y="1482"/>
                  </a:lnTo>
                  <a:lnTo>
                    <a:pt x="278" y="1480"/>
                  </a:lnTo>
                  <a:lnTo>
                    <a:pt x="298" y="1464"/>
                  </a:lnTo>
                  <a:lnTo>
                    <a:pt x="298" y="1480"/>
                  </a:lnTo>
                  <a:lnTo>
                    <a:pt x="296" y="1490"/>
                  </a:lnTo>
                  <a:lnTo>
                    <a:pt x="286" y="1504"/>
                  </a:lnTo>
                  <a:lnTo>
                    <a:pt x="254" y="1538"/>
                  </a:lnTo>
                  <a:lnTo>
                    <a:pt x="216" y="1592"/>
                  </a:lnTo>
                  <a:lnTo>
                    <a:pt x="194" y="1668"/>
                  </a:lnTo>
                  <a:lnTo>
                    <a:pt x="188" y="1678"/>
                  </a:lnTo>
                  <a:lnTo>
                    <a:pt x="180" y="1686"/>
                  </a:lnTo>
                  <a:lnTo>
                    <a:pt x="144" y="1700"/>
                  </a:lnTo>
                  <a:lnTo>
                    <a:pt x="106" y="1696"/>
                  </a:lnTo>
                  <a:lnTo>
                    <a:pt x="98" y="1700"/>
                  </a:lnTo>
                  <a:lnTo>
                    <a:pt x="68" y="1720"/>
                  </a:lnTo>
                  <a:lnTo>
                    <a:pt x="54" y="1762"/>
                  </a:lnTo>
                  <a:lnTo>
                    <a:pt x="48" y="1790"/>
                  </a:lnTo>
                  <a:lnTo>
                    <a:pt x="54" y="1816"/>
                  </a:lnTo>
                  <a:lnTo>
                    <a:pt x="52" y="1836"/>
                  </a:lnTo>
                  <a:lnTo>
                    <a:pt x="20" y="1842"/>
                  </a:lnTo>
                  <a:lnTo>
                    <a:pt x="8" y="1856"/>
                  </a:lnTo>
                  <a:lnTo>
                    <a:pt x="0" y="1876"/>
                  </a:lnTo>
                  <a:lnTo>
                    <a:pt x="0" y="1894"/>
                  </a:lnTo>
                  <a:lnTo>
                    <a:pt x="12" y="1914"/>
                  </a:lnTo>
                  <a:lnTo>
                    <a:pt x="14" y="1922"/>
                  </a:lnTo>
                  <a:lnTo>
                    <a:pt x="20" y="1932"/>
                  </a:lnTo>
                  <a:lnTo>
                    <a:pt x="32" y="1942"/>
                  </a:lnTo>
                  <a:lnTo>
                    <a:pt x="114" y="1982"/>
                  </a:lnTo>
                  <a:lnTo>
                    <a:pt x="190" y="2030"/>
                  </a:lnTo>
                  <a:lnTo>
                    <a:pt x="222" y="2060"/>
                  </a:lnTo>
                  <a:lnTo>
                    <a:pt x="230" y="2076"/>
                  </a:lnTo>
                  <a:lnTo>
                    <a:pt x="236" y="2108"/>
                  </a:lnTo>
                  <a:lnTo>
                    <a:pt x="240" y="2120"/>
                  </a:lnTo>
                  <a:lnTo>
                    <a:pt x="272" y="2124"/>
                  </a:lnTo>
                  <a:lnTo>
                    <a:pt x="298" y="2116"/>
                  </a:lnTo>
                  <a:lnTo>
                    <a:pt x="308" y="2116"/>
                  </a:lnTo>
                  <a:lnTo>
                    <a:pt x="362" y="2124"/>
                  </a:lnTo>
                  <a:lnTo>
                    <a:pt x="388" y="2124"/>
                  </a:lnTo>
                  <a:lnTo>
                    <a:pt x="394" y="2118"/>
                  </a:lnTo>
                  <a:lnTo>
                    <a:pt x="404" y="2100"/>
                  </a:lnTo>
                  <a:lnTo>
                    <a:pt x="416" y="2098"/>
                  </a:lnTo>
                  <a:lnTo>
                    <a:pt x="436" y="2106"/>
                  </a:lnTo>
                  <a:lnTo>
                    <a:pt x="452" y="2124"/>
                  </a:lnTo>
                  <a:lnTo>
                    <a:pt x="468" y="2132"/>
                  </a:lnTo>
                  <a:lnTo>
                    <a:pt x="508" y="2168"/>
                  </a:lnTo>
                  <a:lnTo>
                    <a:pt x="524" y="2170"/>
                  </a:lnTo>
                  <a:lnTo>
                    <a:pt x="534" y="2170"/>
                  </a:lnTo>
                  <a:lnTo>
                    <a:pt x="560" y="2182"/>
                  </a:lnTo>
                  <a:lnTo>
                    <a:pt x="584" y="2186"/>
                  </a:lnTo>
                  <a:lnTo>
                    <a:pt x="596" y="2196"/>
                  </a:lnTo>
                  <a:lnTo>
                    <a:pt x="610" y="2222"/>
                  </a:lnTo>
                  <a:lnTo>
                    <a:pt x="622" y="2234"/>
                  </a:lnTo>
                  <a:lnTo>
                    <a:pt x="648" y="2248"/>
                  </a:lnTo>
                  <a:lnTo>
                    <a:pt x="658" y="2290"/>
                  </a:lnTo>
                  <a:lnTo>
                    <a:pt x="672" y="2318"/>
                  </a:lnTo>
                  <a:lnTo>
                    <a:pt x="688" y="2330"/>
                  </a:lnTo>
                  <a:lnTo>
                    <a:pt x="696" y="2344"/>
                  </a:lnTo>
                  <a:lnTo>
                    <a:pt x="712" y="2352"/>
                  </a:lnTo>
                  <a:lnTo>
                    <a:pt x="722" y="2352"/>
                  </a:lnTo>
                  <a:lnTo>
                    <a:pt x="738" y="2356"/>
                  </a:lnTo>
                  <a:lnTo>
                    <a:pt x="752" y="2368"/>
                  </a:lnTo>
                  <a:lnTo>
                    <a:pt x="764" y="2388"/>
                  </a:lnTo>
                  <a:lnTo>
                    <a:pt x="766" y="2428"/>
                  </a:lnTo>
                  <a:lnTo>
                    <a:pt x="774" y="2456"/>
                  </a:lnTo>
                  <a:lnTo>
                    <a:pt x="780" y="2466"/>
                  </a:lnTo>
                  <a:lnTo>
                    <a:pt x="790" y="2474"/>
                  </a:lnTo>
                  <a:lnTo>
                    <a:pt x="812" y="2472"/>
                  </a:lnTo>
                  <a:lnTo>
                    <a:pt x="826" y="2480"/>
                  </a:lnTo>
                  <a:lnTo>
                    <a:pt x="826" y="2548"/>
                  </a:lnTo>
                  <a:lnTo>
                    <a:pt x="836" y="2566"/>
                  </a:lnTo>
                  <a:lnTo>
                    <a:pt x="850" y="2580"/>
                  </a:lnTo>
                  <a:lnTo>
                    <a:pt x="874" y="2586"/>
                  </a:lnTo>
                  <a:lnTo>
                    <a:pt x="886" y="2580"/>
                  </a:lnTo>
                  <a:lnTo>
                    <a:pt x="924" y="2584"/>
                  </a:lnTo>
                  <a:lnTo>
                    <a:pt x="946" y="2594"/>
                  </a:lnTo>
                  <a:lnTo>
                    <a:pt x="954" y="2594"/>
                  </a:lnTo>
                  <a:lnTo>
                    <a:pt x="974" y="2592"/>
                  </a:lnTo>
                  <a:lnTo>
                    <a:pt x="984" y="2586"/>
                  </a:lnTo>
                  <a:lnTo>
                    <a:pt x="988" y="2574"/>
                  </a:lnTo>
                  <a:lnTo>
                    <a:pt x="998" y="2568"/>
                  </a:lnTo>
                  <a:lnTo>
                    <a:pt x="1008" y="2556"/>
                  </a:lnTo>
                  <a:lnTo>
                    <a:pt x="1018" y="2552"/>
                  </a:lnTo>
                  <a:lnTo>
                    <a:pt x="1040" y="2552"/>
                  </a:lnTo>
                  <a:lnTo>
                    <a:pt x="1060" y="2556"/>
                  </a:lnTo>
                  <a:lnTo>
                    <a:pt x="1074" y="2570"/>
                  </a:lnTo>
                  <a:lnTo>
                    <a:pt x="1094" y="2576"/>
                  </a:lnTo>
                  <a:lnTo>
                    <a:pt x="1116" y="2570"/>
                  </a:lnTo>
                  <a:lnTo>
                    <a:pt x="1138" y="2552"/>
                  </a:lnTo>
                  <a:lnTo>
                    <a:pt x="1144" y="2552"/>
                  </a:lnTo>
                  <a:lnTo>
                    <a:pt x="1162" y="2556"/>
                  </a:lnTo>
                  <a:lnTo>
                    <a:pt x="1206" y="2576"/>
                  </a:lnTo>
                  <a:lnTo>
                    <a:pt x="1248" y="2608"/>
                  </a:lnTo>
                  <a:lnTo>
                    <a:pt x="1276" y="2644"/>
                  </a:lnTo>
                  <a:lnTo>
                    <a:pt x="1276" y="2662"/>
                  </a:lnTo>
                  <a:lnTo>
                    <a:pt x="1268" y="2684"/>
                  </a:lnTo>
                  <a:lnTo>
                    <a:pt x="1252" y="2710"/>
                  </a:lnTo>
                  <a:lnTo>
                    <a:pt x="1222" y="2748"/>
                  </a:lnTo>
                  <a:lnTo>
                    <a:pt x="1204" y="2784"/>
                  </a:lnTo>
                  <a:lnTo>
                    <a:pt x="1206" y="2816"/>
                  </a:lnTo>
                  <a:lnTo>
                    <a:pt x="1208" y="2820"/>
                  </a:lnTo>
                  <a:lnTo>
                    <a:pt x="1222" y="2824"/>
                  </a:lnTo>
                  <a:lnTo>
                    <a:pt x="1232" y="2822"/>
                  </a:lnTo>
                  <a:lnTo>
                    <a:pt x="1244" y="2824"/>
                  </a:lnTo>
                  <a:lnTo>
                    <a:pt x="1256" y="2836"/>
                  </a:lnTo>
                  <a:lnTo>
                    <a:pt x="1280" y="2874"/>
                  </a:lnTo>
                  <a:lnTo>
                    <a:pt x="1298" y="2876"/>
                  </a:lnTo>
                  <a:lnTo>
                    <a:pt x="1300" y="2852"/>
                  </a:lnTo>
                  <a:lnTo>
                    <a:pt x="1308" y="2834"/>
                  </a:lnTo>
                  <a:lnTo>
                    <a:pt x="1312" y="2788"/>
                  </a:lnTo>
                  <a:lnTo>
                    <a:pt x="1314" y="2762"/>
                  </a:lnTo>
                  <a:lnTo>
                    <a:pt x="1318" y="2752"/>
                  </a:lnTo>
                  <a:lnTo>
                    <a:pt x="1320" y="2712"/>
                  </a:lnTo>
                  <a:lnTo>
                    <a:pt x="1328" y="2686"/>
                  </a:lnTo>
                  <a:lnTo>
                    <a:pt x="1336" y="2632"/>
                  </a:lnTo>
                  <a:lnTo>
                    <a:pt x="1340" y="2626"/>
                  </a:lnTo>
                  <a:lnTo>
                    <a:pt x="1364" y="2426"/>
                  </a:lnTo>
                  <a:lnTo>
                    <a:pt x="1368" y="2398"/>
                  </a:lnTo>
                  <a:lnTo>
                    <a:pt x="1368" y="2378"/>
                  </a:lnTo>
                  <a:lnTo>
                    <a:pt x="1350" y="2286"/>
                  </a:lnTo>
                  <a:lnTo>
                    <a:pt x="1336" y="2256"/>
                  </a:lnTo>
                  <a:lnTo>
                    <a:pt x="1320" y="2236"/>
                  </a:lnTo>
                  <a:lnTo>
                    <a:pt x="1288" y="2204"/>
                  </a:lnTo>
                  <a:lnTo>
                    <a:pt x="1276" y="2186"/>
                  </a:lnTo>
                  <a:lnTo>
                    <a:pt x="1276" y="2068"/>
                  </a:lnTo>
                  <a:lnTo>
                    <a:pt x="1290" y="2060"/>
                  </a:lnTo>
                  <a:lnTo>
                    <a:pt x="1332" y="2052"/>
                  </a:lnTo>
                  <a:lnTo>
                    <a:pt x="1352" y="2042"/>
                  </a:lnTo>
                  <a:lnTo>
                    <a:pt x="1378" y="2046"/>
                  </a:lnTo>
                  <a:lnTo>
                    <a:pt x="1388" y="2054"/>
                  </a:lnTo>
                  <a:lnTo>
                    <a:pt x="1390" y="2058"/>
                  </a:lnTo>
                  <a:lnTo>
                    <a:pt x="1404" y="2056"/>
                  </a:lnTo>
                  <a:lnTo>
                    <a:pt x="1404" y="2052"/>
                  </a:lnTo>
                  <a:lnTo>
                    <a:pt x="1396" y="2020"/>
                  </a:lnTo>
                  <a:lnTo>
                    <a:pt x="1392" y="1996"/>
                  </a:lnTo>
                  <a:lnTo>
                    <a:pt x="1378" y="1974"/>
                  </a:lnTo>
                  <a:lnTo>
                    <a:pt x="1354" y="1978"/>
                  </a:lnTo>
                  <a:lnTo>
                    <a:pt x="1346" y="1984"/>
                  </a:lnTo>
                  <a:lnTo>
                    <a:pt x="1326" y="1984"/>
                  </a:lnTo>
                  <a:lnTo>
                    <a:pt x="1318" y="1972"/>
                  </a:lnTo>
                  <a:lnTo>
                    <a:pt x="1308" y="1968"/>
                  </a:lnTo>
                  <a:lnTo>
                    <a:pt x="1308" y="1960"/>
                  </a:lnTo>
                  <a:lnTo>
                    <a:pt x="1306" y="1960"/>
                  </a:lnTo>
                  <a:lnTo>
                    <a:pt x="1308" y="1856"/>
                  </a:lnTo>
                  <a:lnTo>
                    <a:pt x="1312" y="1858"/>
                  </a:lnTo>
                  <a:lnTo>
                    <a:pt x="1520" y="1860"/>
                  </a:lnTo>
                  <a:lnTo>
                    <a:pt x="1530" y="1850"/>
                  </a:lnTo>
                  <a:lnTo>
                    <a:pt x="1534" y="1828"/>
                  </a:lnTo>
                  <a:lnTo>
                    <a:pt x="1542" y="1814"/>
                  </a:lnTo>
                  <a:lnTo>
                    <a:pt x="1550" y="1814"/>
                  </a:lnTo>
                  <a:lnTo>
                    <a:pt x="1560" y="1822"/>
                  </a:lnTo>
                  <a:lnTo>
                    <a:pt x="1568" y="1840"/>
                  </a:lnTo>
                  <a:lnTo>
                    <a:pt x="1576" y="1840"/>
                  </a:lnTo>
                  <a:lnTo>
                    <a:pt x="1626" y="1812"/>
                  </a:lnTo>
                  <a:lnTo>
                    <a:pt x="1652" y="1812"/>
                  </a:lnTo>
                  <a:lnTo>
                    <a:pt x="1666" y="1826"/>
                  </a:lnTo>
                  <a:lnTo>
                    <a:pt x="1688" y="1862"/>
                  </a:lnTo>
                  <a:lnTo>
                    <a:pt x="1702" y="1954"/>
                  </a:lnTo>
                  <a:lnTo>
                    <a:pt x="1730" y="1938"/>
                  </a:lnTo>
                  <a:lnTo>
                    <a:pt x="1734" y="1930"/>
                  </a:lnTo>
                  <a:lnTo>
                    <a:pt x="1720" y="1904"/>
                  </a:lnTo>
                  <a:lnTo>
                    <a:pt x="1712" y="1866"/>
                  </a:lnTo>
                  <a:lnTo>
                    <a:pt x="1674" y="1752"/>
                  </a:lnTo>
                  <a:lnTo>
                    <a:pt x="1652" y="1716"/>
                  </a:lnTo>
                  <a:lnTo>
                    <a:pt x="1606" y="1674"/>
                  </a:lnTo>
                  <a:lnTo>
                    <a:pt x="1608" y="1662"/>
                  </a:lnTo>
                  <a:lnTo>
                    <a:pt x="1640" y="1626"/>
                  </a:lnTo>
                  <a:lnTo>
                    <a:pt x="1654" y="1604"/>
                  </a:lnTo>
                  <a:lnTo>
                    <a:pt x="1660" y="1600"/>
                  </a:lnTo>
                  <a:lnTo>
                    <a:pt x="1668" y="1590"/>
                  </a:lnTo>
                  <a:lnTo>
                    <a:pt x="1678" y="1582"/>
                  </a:lnTo>
                  <a:lnTo>
                    <a:pt x="1680" y="1576"/>
                  </a:lnTo>
                  <a:lnTo>
                    <a:pt x="1680" y="1552"/>
                  </a:lnTo>
                  <a:lnTo>
                    <a:pt x="1670" y="1538"/>
                  </a:lnTo>
                  <a:lnTo>
                    <a:pt x="1660" y="1510"/>
                  </a:lnTo>
                  <a:lnTo>
                    <a:pt x="1642" y="1484"/>
                  </a:lnTo>
                  <a:lnTo>
                    <a:pt x="1622" y="1468"/>
                  </a:lnTo>
                  <a:lnTo>
                    <a:pt x="1618" y="1460"/>
                  </a:lnTo>
                  <a:lnTo>
                    <a:pt x="1616" y="1428"/>
                  </a:lnTo>
                  <a:lnTo>
                    <a:pt x="1612" y="1408"/>
                  </a:lnTo>
                  <a:lnTo>
                    <a:pt x="1612" y="1380"/>
                  </a:lnTo>
                  <a:lnTo>
                    <a:pt x="1602" y="1358"/>
                  </a:lnTo>
                  <a:lnTo>
                    <a:pt x="1602" y="1318"/>
                  </a:lnTo>
                  <a:lnTo>
                    <a:pt x="1612" y="1300"/>
                  </a:lnTo>
                  <a:lnTo>
                    <a:pt x="1622" y="1268"/>
                  </a:lnTo>
                  <a:lnTo>
                    <a:pt x="1622" y="1236"/>
                  </a:lnTo>
                  <a:lnTo>
                    <a:pt x="1648" y="1200"/>
                  </a:lnTo>
                  <a:lnTo>
                    <a:pt x="1648" y="1158"/>
                  </a:lnTo>
                  <a:lnTo>
                    <a:pt x="1656" y="1144"/>
                  </a:lnTo>
                  <a:lnTo>
                    <a:pt x="1674" y="1124"/>
                  </a:lnTo>
                  <a:lnTo>
                    <a:pt x="1674" y="1110"/>
                  </a:lnTo>
                  <a:lnTo>
                    <a:pt x="1668" y="1082"/>
                  </a:lnTo>
                  <a:lnTo>
                    <a:pt x="1660" y="1076"/>
                  </a:lnTo>
                  <a:lnTo>
                    <a:pt x="1652" y="1072"/>
                  </a:lnTo>
                  <a:lnTo>
                    <a:pt x="1626" y="1074"/>
                  </a:lnTo>
                  <a:lnTo>
                    <a:pt x="1572" y="1100"/>
                  </a:lnTo>
                  <a:lnTo>
                    <a:pt x="1544" y="1106"/>
                  </a:lnTo>
                  <a:lnTo>
                    <a:pt x="1526" y="1106"/>
                  </a:lnTo>
                  <a:lnTo>
                    <a:pt x="1502" y="1102"/>
                  </a:lnTo>
                  <a:lnTo>
                    <a:pt x="1490" y="1098"/>
                  </a:lnTo>
                  <a:lnTo>
                    <a:pt x="1478" y="1088"/>
                  </a:lnTo>
                  <a:lnTo>
                    <a:pt x="1464" y="1084"/>
                  </a:lnTo>
                  <a:lnTo>
                    <a:pt x="1442" y="1092"/>
                  </a:lnTo>
                  <a:lnTo>
                    <a:pt x="1436" y="1100"/>
                  </a:lnTo>
                  <a:lnTo>
                    <a:pt x="1420" y="1102"/>
                  </a:lnTo>
                  <a:lnTo>
                    <a:pt x="1396" y="1100"/>
                  </a:lnTo>
                  <a:lnTo>
                    <a:pt x="1390" y="1092"/>
                  </a:lnTo>
                  <a:lnTo>
                    <a:pt x="1386" y="1092"/>
                  </a:lnTo>
                  <a:lnTo>
                    <a:pt x="1316" y="964"/>
                  </a:lnTo>
                  <a:lnTo>
                    <a:pt x="1314" y="954"/>
                  </a:lnTo>
                  <a:lnTo>
                    <a:pt x="1308" y="950"/>
                  </a:lnTo>
                  <a:lnTo>
                    <a:pt x="1280" y="942"/>
                  </a:lnTo>
                  <a:lnTo>
                    <a:pt x="1264" y="930"/>
                  </a:lnTo>
                  <a:lnTo>
                    <a:pt x="1234" y="916"/>
                  </a:lnTo>
                  <a:lnTo>
                    <a:pt x="1188" y="918"/>
                  </a:lnTo>
                  <a:lnTo>
                    <a:pt x="1140" y="934"/>
                  </a:lnTo>
                  <a:lnTo>
                    <a:pt x="1114" y="938"/>
                  </a:lnTo>
                  <a:lnTo>
                    <a:pt x="1076" y="934"/>
                  </a:lnTo>
                  <a:lnTo>
                    <a:pt x="1034" y="912"/>
                  </a:lnTo>
                  <a:lnTo>
                    <a:pt x="1024" y="890"/>
                  </a:lnTo>
                  <a:lnTo>
                    <a:pt x="1016" y="882"/>
                  </a:lnTo>
                  <a:lnTo>
                    <a:pt x="982" y="864"/>
                  </a:lnTo>
                  <a:lnTo>
                    <a:pt x="980" y="856"/>
                  </a:lnTo>
                  <a:lnTo>
                    <a:pt x="988" y="752"/>
                  </a:lnTo>
                  <a:lnTo>
                    <a:pt x="982" y="724"/>
                  </a:lnTo>
                  <a:lnTo>
                    <a:pt x="976" y="704"/>
                  </a:lnTo>
                  <a:lnTo>
                    <a:pt x="966" y="694"/>
                  </a:lnTo>
                  <a:lnTo>
                    <a:pt x="962" y="684"/>
                  </a:lnTo>
                  <a:lnTo>
                    <a:pt x="944" y="658"/>
                  </a:lnTo>
                  <a:lnTo>
                    <a:pt x="940" y="644"/>
                  </a:lnTo>
                  <a:lnTo>
                    <a:pt x="934" y="584"/>
                  </a:lnTo>
                  <a:lnTo>
                    <a:pt x="928" y="564"/>
                  </a:lnTo>
                  <a:lnTo>
                    <a:pt x="924" y="558"/>
                  </a:lnTo>
                  <a:lnTo>
                    <a:pt x="862" y="560"/>
                  </a:lnTo>
                  <a:lnTo>
                    <a:pt x="882" y="516"/>
                  </a:lnTo>
                  <a:lnTo>
                    <a:pt x="908" y="472"/>
                  </a:lnTo>
                  <a:lnTo>
                    <a:pt x="948" y="330"/>
                  </a:lnTo>
                  <a:lnTo>
                    <a:pt x="990" y="262"/>
                  </a:lnTo>
                  <a:lnTo>
                    <a:pt x="1060" y="186"/>
                  </a:lnTo>
                  <a:lnTo>
                    <a:pt x="1072" y="172"/>
                  </a:lnTo>
                  <a:lnTo>
                    <a:pt x="1088" y="140"/>
                  </a:lnTo>
                  <a:lnTo>
                    <a:pt x="1102" y="126"/>
                  </a:lnTo>
                  <a:lnTo>
                    <a:pt x="1142" y="104"/>
                  </a:lnTo>
                  <a:lnTo>
                    <a:pt x="1182" y="10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603880" y="5027760"/>
              <a:ext cx="318600" cy="392400"/>
            </a:xfrm>
            <a:custGeom>
              <a:avLst/>
              <a:gdLst/>
              <a:ahLst/>
              <a:rect l="l" t="t" r="r" b="b"/>
              <a:pathLst>
                <a:path w="1826" h="2292">
                  <a:moveTo>
                    <a:pt x="0" y="224"/>
                  </a:moveTo>
                  <a:lnTo>
                    <a:pt x="6" y="218"/>
                  </a:lnTo>
                  <a:lnTo>
                    <a:pt x="26" y="218"/>
                  </a:lnTo>
                  <a:lnTo>
                    <a:pt x="74" y="236"/>
                  </a:lnTo>
                  <a:lnTo>
                    <a:pt x="180" y="240"/>
                  </a:lnTo>
                  <a:lnTo>
                    <a:pt x="202" y="228"/>
                  </a:lnTo>
                  <a:lnTo>
                    <a:pt x="214" y="216"/>
                  </a:lnTo>
                  <a:lnTo>
                    <a:pt x="280" y="188"/>
                  </a:lnTo>
                  <a:lnTo>
                    <a:pt x="298" y="174"/>
                  </a:lnTo>
                  <a:lnTo>
                    <a:pt x="356" y="104"/>
                  </a:lnTo>
                  <a:lnTo>
                    <a:pt x="396" y="42"/>
                  </a:lnTo>
                  <a:lnTo>
                    <a:pt x="410" y="26"/>
                  </a:lnTo>
                  <a:lnTo>
                    <a:pt x="450" y="12"/>
                  </a:lnTo>
                  <a:lnTo>
                    <a:pt x="468" y="12"/>
                  </a:lnTo>
                  <a:lnTo>
                    <a:pt x="536" y="0"/>
                  </a:lnTo>
                  <a:lnTo>
                    <a:pt x="584" y="2"/>
                  </a:lnTo>
                  <a:lnTo>
                    <a:pt x="596" y="12"/>
                  </a:lnTo>
                  <a:lnTo>
                    <a:pt x="608" y="32"/>
                  </a:lnTo>
                  <a:lnTo>
                    <a:pt x="618" y="88"/>
                  </a:lnTo>
                  <a:lnTo>
                    <a:pt x="626" y="186"/>
                  </a:lnTo>
                  <a:lnTo>
                    <a:pt x="624" y="218"/>
                  </a:lnTo>
                  <a:lnTo>
                    <a:pt x="614" y="240"/>
                  </a:lnTo>
                  <a:lnTo>
                    <a:pt x="610" y="254"/>
                  </a:lnTo>
                  <a:lnTo>
                    <a:pt x="610" y="276"/>
                  </a:lnTo>
                  <a:lnTo>
                    <a:pt x="632" y="348"/>
                  </a:lnTo>
                  <a:lnTo>
                    <a:pt x="656" y="386"/>
                  </a:lnTo>
                  <a:lnTo>
                    <a:pt x="676" y="408"/>
                  </a:lnTo>
                  <a:lnTo>
                    <a:pt x="752" y="468"/>
                  </a:lnTo>
                  <a:lnTo>
                    <a:pt x="786" y="478"/>
                  </a:lnTo>
                  <a:lnTo>
                    <a:pt x="830" y="484"/>
                  </a:lnTo>
                  <a:lnTo>
                    <a:pt x="882" y="484"/>
                  </a:lnTo>
                  <a:lnTo>
                    <a:pt x="924" y="496"/>
                  </a:lnTo>
                  <a:lnTo>
                    <a:pt x="940" y="512"/>
                  </a:lnTo>
                  <a:lnTo>
                    <a:pt x="948" y="526"/>
                  </a:lnTo>
                  <a:lnTo>
                    <a:pt x="968" y="552"/>
                  </a:lnTo>
                  <a:lnTo>
                    <a:pt x="988" y="562"/>
                  </a:lnTo>
                  <a:lnTo>
                    <a:pt x="1090" y="590"/>
                  </a:lnTo>
                  <a:lnTo>
                    <a:pt x="1134" y="634"/>
                  </a:lnTo>
                  <a:lnTo>
                    <a:pt x="1150" y="646"/>
                  </a:lnTo>
                  <a:lnTo>
                    <a:pt x="1174" y="646"/>
                  </a:lnTo>
                  <a:lnTo>
                    <a:pt x="1200" y="638"/>
                  </a:lnTo>
                  <a:lnTo>
                    <a:pt x="1210" y="638"/>
                  </a:lnTo>
                  <a:lnTo>
                    <a:pt x="1244" y="644"/>
                  </a:lnTo>
                  <a:lnTo>
                    <a:pt x="1298" y="680"/>
                  </a:lnTo>
                  <a:lnTo>
                    <a:pt x="1318" y="696"/>
                  </a:lnTo>
                  <a:lnTo>
                    <a:pt x="1338" y="726"/>
                  </a:lnTo>
                  <a:lnTo>
                    <a:pt x="1354" y="772"/>
                  </a:lnTo>
                  <a:lnTo>
                    <a:pt x="1360" y="816"/>
                  </a:lnTo>
                  <a:lnTo>
                    <a:pt x="1372" y="844"/>
                  </a:lnTo>
                  <a:lnTo>
                    <a:pt x="1384" y="860"/>
                  </a:lnTo>
                  <a:lnTo>
                    <a:pt x="1386" y="886"/>
                  </a:lnTo>
                  <a:lnTo>
                    <a:pt x="1386" y="936"/>
                  </a:lnTo>
                  <a:lnTo>
                    <a:pt x="1364" y="940"/>
                  </a:lnTo>
                  <a:lnTo>
                    <a:pt x="1366" y="954"/>
                  </a:lnTo>
                  <a:lnTo>
                    <a:pt x="1370" y="968"/>
                  </a:lnTo>
                  <a:lnTo>
                    <a:pt x="1390" y="1018"/>
                  </a:lnTo>
                  <a:lnTo>
                    <a:pt x="1414" y="1084"/>
                  </a:lnTo>
                  <a:lnTo>
                    <a:pt x="1436" y="1122"/>
                  </a:lnTo>
                  <a:lnTo>
                    <a:pt x="1474" y="1122"/>
                  </a:lnTo>
                  <a:lnTo>
                    <a:pt x="1500" y="1128"/>
                  </a:lnTo>
                  <a:lnTo>
                    <a:pt x="1536" y="1128"/>
                  </a:lnTo>
                  <a:lnTo>
                    <a:pt x="1550" y="1132"/>
                  </a:lnTo>
                  <a:lnTo>
                    <a:pt x="1662" y="1132"/>
                  </a:lnTo>
                  <a:lnTo>
                    <a:pt x="1672" y="1136"/>
                  </a:lnTo>
                  <a:lnTo>
                    <a:pt x="1682" y="1142"/>
                  </a:lnTo>
                  <a:lnTo>
                    <a:pt x="1686" y="1156"/>
                  </a:lnTo>
                  <a:lnTo>
                    <a:pt x="1686" y="1186"/>
                  </a:lnTo>
                  <a:lnTo>
                    <a:pt x="1680" y="1212"/>
                  </a:lnTo>
                  <a:lnTo>
                    <a:pt x="1682" y="1230"/>
                  </a:lnTo>
                  <a:lnTo>
                    <a:pt x="1700" y="1290"/>
                  </a:lnTo>
                  <a:lnTo>
                    <a:pt x="1748" y="1308"/>
                  </a:lnTo>
                  <a:lnTo>
                    <a:pt x="1754" y="1314"/>
                  </a:lnTo>
                  <a:lnTo>
                    <a:pt x="1770" y="1358"/>
                  </a:lnTo>
                  <a:lnTo>
                    <a:pt x="1804" y="1414"/>
                  </a:lnTo>
                  <a:lnTo>
                    <a:pt x="1812" y="1440"/>
                  </a:lnTo>
                  <a:lnTo>
                    <a:pt x="1820" y="1512"/>
                  </a:lnTo>
                  <a:lnTo>
                    <a:pt x="1826" y="1602"/>
                  </a:lnTo>
                  <a:lnTo>
                    <a:pt x="1826" y="1612"/>
                  </a:lnTo>
                  <a:lnTo>
                    <a:pt x="1814" y="1642"/>
                  </a:lnTo>
                  <a:lnTo>
                    <a:pt x="1806" y="1678"/>
                  </a:lnTo>
                  <a:lnTo>
                    <a:pt x="1806" y="1696"/>
                  </a:lnTo>
                  <a:lnTo>
                    <a:pt x="1808" y="1718"/>
                  </a:lnTo>
                  <a:lnTo>
                    <a:pt x="1816" y="1732"/>
                  </a:lnTo>
                  <a:lnTo>
                    <a:pt x="1822" y="1766"/>
                  </a:lnTo>
                  <a:lnTo>
                    <a:pt x="1820" y="1772"/>
                  </a:lnTo>
                  <a:lnTo>
                    <a:pt x="1800" y="1778"/>
                  </a:lnTo>
                  <a:lnTo>
                    <a:pt x="1800" y="1782"/>
                  </a:lnTo>
                  <a:lnTo>
                    <a:pt x="1780" y="1764"/>
                  </a:lnTo>
                  <a:lnTo>
                    <a:pt x="1776" y="1752"/>
                  </a:lnTo>
                  <a:lnTo>
                    <a:pt x="1730" y="1692"/>
                  </a:lnTo>
                  <a:lnTo>
                    <a:pt x="1704" y="1666"/>
                  </a:lnTo>
                  <a:lnTo>
                    <a:pt x="1676" y="1648"/>
                  </a:lnTo>
                  <a:lnTo>
                    <a:pt x="1638" y="1638"/>
                  </a:lnTo>
                  <a:lnTo>
                    <a:pt x="1532" y="1638"/>
                  </a:lnTo>
                  <a:lnTo>
                    <a:pt x="1520" y="1640"/>
                  </a:lnTo>
                  <a:lnTo>
                    <a:pt x="1446" y="1666"/>
                  </a:lnTo>
                  <a:lnTo>
                    <a:pt x="1436" y="1666"/>
                  </a:lnTo>
                  <a:lnTo>
                    <a:pt x="1304" y="1718"/>
                  </a:lnTo>
                  <a:lnTo>
                    <a:pt x="1260" y="1732"/>
                  </a:lnTo>
                  <a:lnTo>
                    <a:pt x="1256" y="1750"/>
                  </a:lnTo>
                  <a:lnTo>
                    <a:pt x="1254" y="1794"/>
                  </a:lnTo>
                  <a:lnTo>
                    <a:pt x="1232" y="1840"/>
                  </a:lnTo>
                  <a:lnTo>
                    <a:pt x="1212" y="1896"/>
                  </a:lnTo>
                  <a:lnTo>
                    <a:pt x="1212" y="1904"/>
                  </a:lnTo>
                  <a:lnTo>
                    <a:pt x="1222" y="1978"/>
                  </a:lnTo>
                  <a:lnTo>
                    <a:pt x="1228" y="1994"/>
                  </a:lnTo>
                  <a:lnTo>
                    <a:pt x="1232" y="2014"/>
                  </a:lnTo>
                  <a:lnTo>
                    <a:pt x="1220" y="2130"/>
                  </a:lnTo>
                  <a:lnTo>
                    <a:pt x="1206" y="2174"/>
                  </a:lnTo>
                  <a:lnTo>
                    <a:pt x="1184" y="2166"/>
                  </a:lnTo>
                  <a:lnTo>
                    <a:pt x="1166" y="2148"/>
                  </a:lnTo>
                  <a:lnTo>
                    <a:pt x="1146" y="2136"/>
                  </a:lnTo>
                  <a:lnTo>
                    <a:pt x="1140" y="2134"/>
                  </a:lnTo>
                  <a:lnTo>
                    <a:pt x="1118" y="2130"/>
                  </a:lnTo>
                  <a:lnTo>
                    <a:pt x="1074" y="2130"/>
                  </a:lnTo>
                  <a:lnTo>
                    <a:pt x="1026" y="2126"/>
                  </a:lnTo>
                  <a:lnTo>
                    <a:pt x="1004" y="2126"/>
                  </a:lnTo>
                  <a:lnTo>
                    <a:pt x="1000" y="2134"/>
                  </a:lnTo>
                  <a:lnTo>
                    <a:pt x="1000" y="2190"/>
                  </a:lnTo>
                  <a:lnTo>
                    <a:pt x="992" y="2220"/>
                  </a:lnTo>
                  <a:lnTo>
                    <a:pt x="994" y="2240"/>
                  </a:lnTo>
                  <a:lnTo>
                    <a:pt x="988" y="2240"/>
                  </a:lnTo>
                  <a:lnTo>
                    <a:pt x="956" y="2210"/>
                  </a:lnTo>
                  <a:lnTo>
                    <a:pt x="950" y="2198"/>
                  </a:lnTo>
                  <a:lnTo>
                    <a:pt x="944" y="2194"/>
                  </a:lnTo>
                  <a:lnTo>
                    <a:pt x="930" y="2176"/>
                  </a:lnTo>
                  <a:lnTo>
                    <a:pt x="920" y="2166"/>
                  </a:lnTo>
                  <a:lnTo>
                    <a:pt x="866" y="2152"/>
                  </a:lnTo>
                  <a:lnTo>
                    <a:pt x="854" y="2152"/>
                  </a:lnTo>
                  <a:lnTo>
                    <a:pt x="830" y="2148"/>
                  </a:lnTo>
                  <a:lnTo>
                    <a:pt x="764" y="2148"/>
                  </a:lnTo>
                  <a:lnTo>
                    <a:pt x="738" y="2112"/>
                  </a:lnTo>
                  <a:lnTo>
                    <a:pt x="720" y="2096"/>
                  </a:lnTo>
                  <a:lnTo>
                    <a:pt x="712" y="2094"/>
                  </a:lnTo>
                  <a:lnTo>
                    <a:pt x="704" y="2100"/>
                  </a:lnTo>
                  <a:lnTo>
                    <a:pt x="678" y="2148"/>
                  </a:lnTo>
                  <a:lnTo>
                    <a:pt x="652" y="2178"/>
                  </a:lnTo>
                  <a:lnTo>
                    <a:pt x="636" y="2202"/>
                  </a:lnTo>
                  <a:lnTo>
                    <a:pt x="624" y="2226"/>
                  </a:lnTo>
                  <a:lnTo>
                    <a:pt x="624" y="2238"/>
                  </a:lnTo>
                  <a:lnTo>
                    <a:pt x="612" y="2266"/>
                  </a:lnTo>
                  <a:lnTo>
                    <a:pt x="602" y="2280"/>
                  </a:lnTo>
                  <a:lnTo>
                    <a:pt x="596" y="2282"/>
                  </a:lnTo>
                  <a:lnTo>
                    <a:pt x="570" y="2282"/>
                  </a:lnTo>
                  <a:lnTo>
                    <a:pt x="558" y="2290"/>
                  </a:lnTo>
                  <a:lnTo>
                    <a:pt x="528" y="2292"/>
                  </a:lnTo>
                  <a:lnTo>
                    <a:pt x="512" y="2290"/>
                  </a:lnTo>
                  <a:lnTo>
                    <a:pt x="490" y="2280"/>
                  </a:lnTo>
                  <a:lnTo>
                    <a:pt x="488" y="2276"/>
                  </a:lnTo>
                  <a:lnTo>
                    <a:pt x="474" y="2242"/>
                  </a:lnTo>
                  <a:lnTo>
                    <a:pt x="472" y="2228"/>
                  </a:lnTo>
                  <a:lnTo>
                    <a:pt x="450" y="2164"/>
                  </a:lnTo>
                  <a:lnTo>
                    <a:pt x="442" y="2110"/>
                  </a:lnTo>
                  <a:lnTo>
                    <a:pt x="424" y="2048"/>
                  </a:lnTo>
                  <a:lnTo>
                    <a:pt x="404" y="2018"/>
                  </a:lnTo>
                  <a:lnTo>
                    <a:pt x="400" y="1992"/>
                  </a:lnTo>
                  <a:lnTo>
                    <a:pt x="390" y="1954"/>
                  </a:lnTo>
                  <a:lnTo>
                    <a:pt x="384" y="1942"/>
                  </a:lnTo>
                  <a:lnTo>
                    <a:pt x="362" y="1924"/>
                  </a:lnTo>
                  <a:lnTo>
                    <a:pt x="350" y="1916"/>
                  </a:lnTo>
                  <a:lnTo>
                    <a:pt x="340" y="1906"/>
                  </a:lnTo>
                  <a:lnTo>
                    <a:pt x="340" y="1884"/>
                  </a:lnTo>
                  <a:lnTo>
                    <a:pt x="334" y="1858"/>
                  </a:lnTo>
                  <a:lnTo>
                    <a:pt x="322" y="1846"/>
                  </a:lnTo>
                  <a:lnTo>
                    <a:pt x="302" y="1836"/>
                  </a:lnTo>
                  <a:lnTo>
                    <a:pt x="300" y="1818"/>
                  </a:lnTo>
                  <a:lnTo>
                    <a:pt x="300" y="1780"/>
                  </a:lnTo>
                  <a:lnTo>
                    <a:pt x="302" y="1776"/>
                  </a:lnTo>
                  <a:lnTo>
                    <a:pt x="322" y="1766"/>
                  </a:lnTo>
                  <a:lnTo>
                    <a:pt x="326" y="1760"/>
                  </a:lnTo>
                  <a:lnTo>
                    <a:pt x="324" y="1748"/>
                  </a:lnTo>
                  <a:lnTo>
                    <a:pt x="314" y="1734"/>
                  </a:lnTo>
                  <a:lnTo>
                    <a:pt x="314" y="1714"/>
                  </a:lnTo>
                  <a:lnTo>
                    <a:pt x="322" y="1698"/>
                  </a:lnTo>
                  <a:lnTo>
                    <a:pt x="314" y="1670"/>
                  </a:lnTo>
                  <a:lnTo>
                    <a:pt x="290" y="1646"/>
                  </a:lnTo>
                  <a:lnTo>
                    <a:pt x="256" y="1620"/>
                  </a:lnTo>
                  <a:lnTo>
                    <a:pt x="240" y="1602"/>
                  </a:lnTo>
                  <a:lnTo>
                    <a:pt x="230" y="1578"/>
                  </a:lnTo>
                  <a:lnTo>
                    <a:pt x="206" y="1484"/>
                  </a:lnTo>
                  <a:lnTo>
                    <a:pt x="202" y="1454"/>
                  </a:lnTo>
                  <a:lnTo>
                    <a:pt x="180" y="1424"/>
                  </a:lnTo>
                  <a:lnTo>
                    <a:pt x="168" y="1414"/>
                  </a:lnTo>
                  <a:lnTo>
                    <a:pt x="136" y="1374"/>
                  </a:lnTo>
                  <a:lnTo>
                    <a:pt x="130" y="1374"/>
                  </a:lnTo>
                  <a:lnTo>
                    <a:pt x="120" y="1356"/>
                  </a:lnTo>
                  <a:lnTo>
                    <a:pt x="114" y="1354"/>
                  </a:lnTo>
                  <a:lnTo>
                    <a:pt x="114" y="1336"/>
                  </a:lnTo>
                  <a:lnTo>
                    <a:pt x="138" y="1276"/>
                  </a:lnTo>
                  <a:lnTo>
                    <a:pt x="160" y="1242"/>
                  </a:lnTo>
                  <a:lnTo>
                    <a:pt x="186" y="1190"/>
                  </a:lnTo>
                  <a:lnTo>
                    <a:pt x="184" y="1160"/>
                  </a:lnTo>
                  <a:lnTo>
                    <a:pt x="180" y="1150"/>
                  </a:lnTo>
                  <a:lnTo>
                    <a:pt x="162" y="1132"/>
                  </a:lnTo>
                  <a:lnTo>
                    <a:pt x="150" y="1128"/>
                  </a:lnTo>
                  <a:lnTo>
                    <a:pt x="138" y="1112"/>
                  </a:lnTo>
                  <a:lnTo>
                    <a:pt x="132" y="1108"/>
                  </a:lnTo>
                  <a:lnTo>
                    <a:pt x="124" y="1090"/>
                  </a:lnTo>
                  <a:lnTo>
                    <a:pt x="120" y="1062"/>
                  </a:lnTo>
                  <a:lnTo>
                    <a:pt x="116" y="1022"/>
                  </a:lnTo>
                  <a:lnTo>
                    <a:pt x="128" y="994"/>
                  </a:lnTo>
                  <a:lnTo>
                    <a:pt x="138" y="982"/>
                  </a:lnTo>
                  <a:lnTo>
                    <a:pt x="142" y="962"/>
                  </a:lnTo>
                  <a:lnTo>
                    <a:pt x="140" y="946"/>
                  </a:lnTo>
                  <a:lnTo>
                    <a:pt x="136" y="928"/>
                  </a:lnTo>
                  <a:lnTo>
                    <a:pt x="106" y="892"/>
                  </a:lnTo>
                  <a:lnTo>
                    <a:pt x="106" y="880"/>
                  </a:lnTo>
                  <a:lnTo>
                    <a:pt x="112" y="862"/>
                  </a:lnTo>
                  <a:lnTo>
                    <a:pt x="146" y="842"/>
                  </a:lnTo>
                  <a:lnTo>
                    <a:pt x="148" y="834"/>
                  </a:lnTo>
                  <a:lnTo>
                    <a:pt x="142" y="778"/>
                  </a:lnTo>
                  <a:lnTo>
                    <a:pt x="128" y="722"/>
                  </a:lnTo>
                  <a:lnTo>
                    <a:pt x="124" y="688"/>
                  </a:lnTo>
                  <a:lnTo>
                    <a:pt x="126" y="632"/>
                  </a:lnTo>
                  <a:lnTo>
                    <a:pt x="118" y="556"/>
                  </a:lnTo>
                  <a:lnTo>
                    <a:pt x="128" y="522"/>
                  </a:lnTo>
                  <a:lnTo>
                    <a:pt x="146" y="494"/>
                  </a:lnTo>
                  <a:lnTo>
                    <a:pt x="148" y="488"/>
                  </a:lnTo>
                  <a:lnTo>
                    <a:pt x="148" y="480"/>
                  </a:lnTo>
                  <a:lnTo>
                    <a:pt x="104" y="408"/>
                  </a:lnTo>
                  <a:lnTo>
                    <a:pt x="0" y="22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69280" y="5622840"/>
              <a:ext cx="121680" cy="141120"/>
            </a:xfrm>
            <a:custGeom>
              <a:avLst/>
              <a:gdLst/>
              <a:ahLst/>
              <a:rect l="l" t="t" r="r" b="b"/>
              <a:pathLst>
                <a:path w="704" h="822">
                  <a:moveTo>
                    <a:pt x="38" y="674"/>
                  </a:moveTo>
                  <a:lnTo>
                    <a:pt x="42" y="672"/>
                  </a:lnTo>
                  <a:lnTo>
                    <a:pt x="58" y="676"/>
                  </a:lnTo>
                  <a:lnTo>
                    <a:pt x="112" y="726"/>
                  </a:lnTo>
                  <a:lnTo>
                    <a:pt x="124" y="748"/>
                  </a:lnTo>
                  <a:lnTo>
                    <a:pt x="190" y="752"/>
                  </a:lnTo>
                  <a:lnTo>
                    <a:pt x="216" y="752"/>
                  </a:lnTo>
                  <a:lnTo>
                    <a:pt x="282" y="782"/>
                  </a:lnTo>
                  <a:lnTo>
                    <a:pt x="316" y="796"/>
                  </a:lnTo>
                  <a:lnTo>
                    <a:pt x="342" y="802"/>
                  </a:lnTo>
                  <a:lnTo>
                    <a:pt x="366" y="814"/>
                  </a:lnTo>
                  <a:lnTo>
                    <a:pt x="380" y="814"/>
                  </a:lnTo>
                  <a:lnTo>
                    <a:pt x="426" y="804"/>
                  </a:lnTo>
                  <a:lnTo>
                    <a:pt x="458" y="802"/>
                  </a:lnTo>
                  <a:lnTo>
                    <a:pt x="510" y="812"/>
                  </a:lnTo>
                  <a:lnTo>
                    <a:pt x="544" y="822"/>
                  </a:lnTo>
                  <a:lnTo>
                    <a:pt x="580" y="806"/>
                  </a:lnTo>
                  <a:lnTo>
                    <a:pt x="606" y="788"/>
                  </a:lnTo>
                  <a:lnTo>
                    <a:pt x="630" y="766"/>
                  </a:lnTo>
                  <a:lnTo>
                    <a:pt x="646" y="740"/>
                  </a:lnTo>
                  <a:lnTo>
                    <a:pt x="656" y="732"/>
                  </a:lnTo>
                  <a:lnTo>
                    <a:pt x="658" y="710"/>
                  </a:lnTo>
                  <a:lnTo>
                    <a:pt x="672" y="688"/>
                  </a:lnTo>
                  <a:lnTo>
                    <a:pt x="682" y="658"/>
                  </a:lnTo>
                  <a:lnTo>
                    <a:pt x="686" y="626"/>
                  </a:lnTo>
                  <a:lnTo>
                    <a:pt x="698" y="612"/>
                  </a:lnTo>
                  <a:lnTo>
                    <a:pt x="684" y="602"/>
                  </a:lnTo>
                  <a:lnTo>
                    <a:pt x="682" y="596"/>
                  </a:lnTo>
                  <a:lnTo>
                    <a:pt x="680" y="558"/>
                  </a:lnTo>
                  <a:lnTo>
                    <a:pt x="672" y="516"/>
                  </a:lnTo>
                  <a:lnTo>
                    <a:pt x="676" y="498"/>
                  </a:lnTo>
                  <a:lnTo>
                    <a:pt x="682" y="478"/>
                  </a:lnTo>
                  <a:lnTo>
                    <a:pt x="688" y="474"/>
                  </a:lnTo>
                  <a:lnTo>
                    <a:pt x="690" y="456"/>
                  </a:lnTo>
                  <a:lnTo>
                    <a:pt x="702" y="452"/>
                  </a:lnTo>
                  <a:lnTo>
                    <a:pt x="704" y="444"/>
                  </a:lnTo>
                  <a:lnTo>
                    <a:pt x="688" y="424"/>
                  </a:lnTo>
                  <a:lnTo>
                    <a:pt x="630" y="386"/>
                  </a:lnTo>
                  <a:lnTo>
                    <a:pt x="622" y="374"/>
                  </a:lnTo>
                  <a:lnTo>
                    <a:pt x="604" y="328"/>
                  </a:lnTo>
                  <a:lnTo>
                    <a:pt x="590" y="312"/>
                  </a:lnTo>
                  <a:lnTo>
                    <a:pt x="552" y="292"/>
                  </a:lnTo>
                  <a:lnTo>
                    <a:pt x="540" y="290"/>
                  </a:lnTo>
                  <a:lnTo>
                    <a:pt x="514" y="280"/>
                  </a:lnTo>
                  <a:lnTo>
                    <a:pt x="498" y="266"/>
                  </a:lnTo>
                  <a:lnTo>
                    <a:pt x="476" y="236"/>
                  </a:lnTo>
                  <a:lnTo>
                    <a:pt x="468" y="228"/>
                  </a:lnTo>
                  <a:lnTo>
                    <a:pt x="438" y="222"/>
                  </a:lnTo>
                  <a:lnTo>
                    <a:pt x="414" y="202"/>
                  </a:lnTo>
                  <a:lnTo>
                    <a:pt x="396" y="202"/>
                  </a:lnTo>
                  <a:lnTo>
                    <a:pt x="384" y="198"/>
                  </a:lnTo>
                  <a:lnTo>
                    <a:pt x="376" y="194"/>
                  </a:lnTo>
                  <a:lnTo>
                    <a:pt x="354" y="170"/>
                  </a:lnTo>
                  <a:lnTo>
                    <a:pt x="338" y="146"/>
                  </a:lnTo>
                  <a:lnTo>
                    <a:pt x="332" y="134"/>
                  </a:lnTo>
                  <a:lnTo>
                    <a:pt x="318" y="124"/>
                  </a:lnTo>
                  <a:lnTo>
                    <a:pt x="290" y="156"/>
                  </a:lnTo>
                  <a:lnTo>
                    <a:pt x="284" y="158"/>
                  </a:lnTo>
                  <a:lnTo>
                    <a:pt x="262" y="156"/>
                  </a:lnTo>
                  <a:lnTo>
                    <a:pt x="254" y="132"/>
                  </a:lnTo>
                  <a:lnTo>
                    <a:pt x="234" y="92"/>
                  </a:lnTo>
                  <a:lnTo>
                    <a:pt x="210" y="70"/>
                  </a:lnTo>
                  <a:lnTo>
                    <a:pt x="178" y="48"/>
                  </a:lnTo>
                  <a:lnTo>
                    <a:pt x="164" y="32"/>
                  </a:lnTo>
                  <a:lnTo>
                    <a:pt x="126" y="6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8" y="10"/>
                  </a:lnTo>
                  <a:lnTo>
                    <a:pt x="82" y="26"/>
                  </a:lnTo>
                  <a:lnTo>
                    <a:pt x="66" y="34"/>
                  </a:lnTo>
                  <a:lnTo>
                    <a:pt x="20" y="30"/>
                  </a:lnTo>
                  <a:lnTo>
                    <a:pt x="18" y="48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4" y="142"/>
                  </a:lnTo>
                  <a:lnTo>
                    <a:pt x="16" y="198"/>
                  </a:lnTo>
                  <a:lnTo>
                    <a:pt x="24" y="240"/>
                  </a:lnTo>
                  <a:lnTo>
                    <a:pt x="24" y="266"/>
                  </a:lnTo>
                  <a:lnTo>
                    <a:pt x="16" y="330"/>
                  </a:lnTo>
                  <a:lnTo>
                    <a:pt x="42" y="462"/>
                  </a:lnTo>
                  <a:lnTo>
                    <a:pt x="44" y="490"/>
                  </a:lnTo>
                  <a:lnTo>
                    <a:pt x="42" y="508"/>
                  </a:lnTo>
                  <a:lnTo>
                    <a:pt x="30" y="540"/>
                  </a:lnTo>
                  <a:lnTo>
                    <a:pt x="28" y="566"/>
                  </a:lnTo>
                  <a:lnTo>
                    <a:pt x="32" y="632"/>
                  </a:lnTo>
                  <a:lnTo>
                    <a:pt x="38" y="67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804040" y="4500360"/>
              <a:ext cx="118440" cy="206640"/>
            </a:xfrm>
            <a:custGeom>
              <a:avLst/>
              <a:gdLst/>
              <a:ahLst/>
              <a:rect l="l" t="t" r="r" b="b"/>
              <a:pathLst>
                <a:path w="678" h="1212">
                  <a:moveTo>
                    <a:pt x="228" y="4"/>
                  </a:moveTo>
                  <a:lnTo>
                    <a:pt x="244" y="6"/>
                  </a:lnTo>
                  <a:lnTo>
                    <a:pt x="250" y="0"/>
                  </a:lnTo>
                  <a:lnTo>
                    <a:pt x="264" y="2"/>
                  </a:lnTo>
                  <a:lnTo>
                    <a:pt x="300" y="32"/>
                  </a:lnTo>
                  <a:lnTo>
                    <a:pt x="382" y="130"/>
                  </a:lnTo>
                  <a:lnTo>
                    <a:pt x="400" y="166"/>
                  </a:lnTo>
                  <a:lnTo>
                    <a:pt x="404" y="186"/>
                  </a:lnTo>
                  <a:lnTo>
                    <a:pt x="402" y="258"/>
                  </a:lnTo>
                  <a:lnTo>
                    <a:pt x="412" y="262"/>
                  </a:lnTo>
                  <a:lnTo>
                    <a:pt x="428" y="260"/>
                  </a:lnTo>
                  <a:lnTo>
                    <a:pt x="456" y="262"/>
                  </a:lnTo>
                  <a:lnTo>
                    <a:pt x="474" y="268"/>
                  </a:lnTo>
                  <a:lnTo>
                    <a:pt x="484" y="272"/>
                  </a:lnTo>
                  <a:lnTo>
                    <a:pt x="512" y="294"/>
                  </a:lnTo>
                  <a:lnTo>
                    <a:pt x="522" y="302"/>
                  </a:lnTo>
                  <a:lnTo>
                    <a:pt x="532" y="324"/>
                  </a:lnTo>
                  <a:lnTo>
                    <a:pt x="552" y="350"/>
                  </a:lnTo>
                  <a:lnTo>
                    <a:pt x="580" y="374"/>
                  </a:lnTo>
                  <a:lnTo>
                    <a:pt x="596" y="424"/>
                  </a:lnTo>
                  <a:lnTo>
                    <a:pt x="606" y="436"/>
                  </a:lnTo>
                  <a:lnTo>
                    <a:pt x="602" y="446"/>
                  </a:lnTo>
                  <a:lnTo>
                    <a:pt x="586" y="464"/>
                  </a:lnTo>
                  <a:lnTo>
                    <a:pt x="564" y="498"/>
                  </a:lnTo>
                  <a:lnTo>
                    <a:pt x="560" y="510"/>
                  </a:lnTo>
                  <a:lnTo>
                    <a:pt x="566" y="516"/>
                  </a:lnTo>
                  <a:lnTo>
                    <a:pt x="570" y="516"/>
                  </a:lnTo>
                  <a:lnTo>
                    <a:pt x="570" y="540"/>
                  </a:lnTo>
                  <a:lnTo>
                    <a:pt x="552" y="558"/>
                  </a:lnTo>
                  <a:lnTo>
                    <a:pt x="548" y="572"/>
                  </a:lnTo>
                  <a:lnTo>
                    <a:pt x="532" y="576"/>
                  </a:lnTo>
                  <a:lnTo>
                    <a:pt x="508" y="576"/>
                  </a:lnTo>
                  <a:lnTo>
                    <a:pt x="490" y="584"/>
                  </a:lnTo>
                  <a:lnTo>
                    <a:pt x="480" y="590"/>
                  </a:lnTo>
                  <a:lnTo>
                    <a:pt x="474" y="596"/>
                  </a:lnTo>
                  <a:lnTo>
                    <a:pt x="472" y="606"/>
                  </a:lnTo>
                  <a:lnTo>
                    <a:pt x="468" y="652"/>
                  </a:lnTo>
                  <a:lnTo>
                    <a:pt x="456" y="680"/>
                  </a:lnTo>
                  <a:lnTo>
                    <a:pt x="446" y="714"/>
                  </a:lnTo>
                  <a:lnTo>
                    <a:pt x="446" y="730"/>
                  </a:lnTo>
                  <a:lnTo>
                    <a:pt x="460" y="754"/>
                  </a:lnTo>
                  <a:lnTo>
                    <a:pt x="482" y="798"/>
                  </a:lnTo>
                  <a:lnTo>
                    <a:pt x="490" y="802"/>
                  </a:lnTo>
                  <a:lnTo>
                    <a:pt x="510" y="826"/>
                  </a:lnTo>
                  <a:lnTo>
                    <a:pt x="512" y="840"/>
                  </a:lnTo>
                  <a:lnTo>
                    <a:pt x="520" y="852"/>
                  </a:lnTo>
                  <a:lnTo>
                    <a:pt x="526" y="856"/>
                  </a:lnTo>
                  <a:lnTo>
                    <a:pt x="554" y="858"/>
                  </a:lnTo>
                  <a:lnTo>
                    <a:pt x="562" y="864"/>
                  </a:lnTo>
                  <a:lnTo>
                    <a:pt x="564" y="894"/>
                  </a:lnTo>
                  <a:lnTo>
                    <a:pt x="576" y="906"/>
                  </a:lnTo>
                  <a:lnTo>
                    <a:pt x="578" y="936"/>
                  </a:lnTo>
                  <a:lnTo>
                    <a:pt x="590" y="958"/>
                  </a:lnTo>
                  <a:lnTo>
                    <a:pt x="596" y="976"/>
                  </a:lnTo>
                  <a:lnTo>
                    <a:pt x="610" y="1008"/>
                  </a:lnTo>
                  <a:lnTo>
                    <a:pt x="646" y="1060"/>
                  </a:lnTo>
                  <a:lnTo>
                    <a:pt x="672" y="1088"/>
                  </a:lnTo>
                  <a:lnTo>
                    <a:pt x="676" y="1088"/>
                  </a:lnTo>
                  <a:lnTo>
                    <a:pt x="678" y="1096"/>
                  </a:lnTo>
                  <a:lnTo>
                    <a:pt x="648" y="1102"/>
                  </a:lnTo>
                  <a:lnTo>
                    <a:pt x="612" y="1104"/>
                  </a:lnTo>
                  <a:lnTo>
                    <a:pt x="596" y="1098"/>
                  </a:lnTo>
                  <a:lnTo>
                    <a:pt x="594" y="1092"/>
                  </a:lnTo>
                  <a:lnTo>
                    <a:pt x="584" y="1088"/>
                  </a:lnTo>
                  <a:lnTo>
                    <a:pt x="572" y="1090"/>
                  </a:lnTo>
                  <a:lnTo>
                    <a:pt x="542" y="1106"/>
                  </a:lnTo>
                  <a:lnTo>
                    <a:pt x="518" y="1138"/>
                  </a:lnTo>
                  <a:lnTo>
                    <a:pt x="482" y="1138"/>
                  </a:lnTo>
                  <a:lnTo>
                    <a:pt x="462" y="1152"/>
                  </a:lnTo>
                  <a:lnTo>
                    <a:pt x="448" y="1166"/>
                  </a:lnTo>
                  <a:lnTo>
                    <a:pt x="418" y="1166"/>
                  </a:lnTo>
                  <a:lnTo>
                    <a:pt x="398" y="1174"/>
                  </a:lnTo>
                  <a:lnTo>
                    <a:pt x="380" y="1202"/>
                  </a:lnTo>
                  <a:lnTo>
                    <a:pt x="366" y="1212"/>
                  </a:lnTo>
                  <a:lnTo>
                    <a:pt x="332" y="1212"/>
                  </a:lnTo>
                  <a:lnTo>
                    <a:pt x="306" y="1202"/>
                  </a:lnTo>
                  <a:lnTo>
                    <a:pt x="266" y="1172"/>
                  </a:lnTo>
                  <a:lnTo>
                    <a:pt x="250" y="1156"/>
                  </a:lnTo>
                  <a:lnTo>
                    <a:pt x="240" y="1138"/>
                  </a:lnTo>
                  <a:lnTo>
                    <a:pt x="234" y="1134"/>
                  </a:lnTo>
                  <a:lnTo>
                    <a:pt x="222" y="1118"/>
                  </a:lnTo>
                  <a:lnTo>
                    <a:pt x="218" y="1110"/>
                  </a:lnTo>
                  <a:lnTo>
                    <a:pt x="220" y="1068"/>
                  </a:lnTo>
                  <a:lnTo>
                    <a:pt x="218" y="1042"/>
                  </a:lnTo>
                  <a:lnTo>
                    <a:pt x="190" y="1010"/>
                  </a:lnTo>
                  <a:lnTo>
                    <a:pt x="186" y="998"/>
                  </a:lnTo>
                  <a:lnTo>
                    <a:pt x="190" y="902"/>
                  </a:lnTo>
                  <a:lnTo>
                    <a:pt x="206" y="860"/>
                  </a:lnTo>
                  <a:lnTo>
                    <a:pt x="210" y="836"/>
                  </a:lnTo>
                  <a:lnTo>
                    <a:pt x="212" y="804"/>
                  </a:lnTo>
                  <a:lnTo>
                    <a:pt x="242" y="764"/>
                  </a:lnTo>
                  <a:lnTo>
                    <a:pt x="244" y="756"/>
                  </a:lnTo>
                  <a:lnTo>
                    <a:pt x="242" y="732"/>
                  </a:lnTo>
                  <a:lnTo>
                    <a:pt x="230" y="712"/>
                  </a:lnTo>
                  <a:lnTo>
                    <a:pt x="230" y="666"/>
                  </a:lnTo>
                  <a:lnTo>
                    <a:pt x="202" y="656"/>
                  </a:lnTo>
                  <a:lnTo>
                    <a:pt x="196" y="652"/>
                  </a:lnTo>
                  <a:lnTo>
                    <a:pt x="170" y="646"/>
                  </a:lnTo>
                  <a:lnTo>
                    <a:pt x="182" y="602"/>
                  </a:lnTo>
                  <a:lnTo>
                    <a:pt x="184" y="582"/>
                  </a:lnTo>
                  <a:lnTo>
                    <a:pt x="182" y="562"/>
                  </a:lnTo>
                  <a:lnTo>
                    <a:pt x="172" y="536"/>
                  </a:lnTo>
                  <a:lnTo>
                    <a:pt x="150" y="534"/>
                  </a:lnTo>
                  <a:lnTo>
                    <a:pt x="118" y="546"/>
                  </a:lnTo>
                  <a:lnTo>
                    <a:pt x="90" y="542"/>
                  </a:lnTo>
                  <a:lnTo>
                    <a:pt x="92" y="532"/>
                  </a:lnTo>
                  <a:lnTo>
                    <a:pt x="84" y="528"/>
                  </a:lnTo>
                  <a:lnTo>
                    <a:pt x="68" y="506"/>
                  </a:lnTo>
                  <a:lnTo>
                    <a:pt x="60" y="484"/>
                  </a:lnTo>
                  <a:lnTo>
                    <a:pt x="32" y="448"/>
                  </a:lnTo>
                  <a:lnTo>
                    <a:pt x="2" y="398"/>
                  </a:lnTo>
                  <a:lnTo>
                    <a:pt x="0" y="390"/>
                  </a:lnTo>
                  <a:lnTo>
                    <a:pt x="2" y="378"/>
                  </a:lnTo>
                  <a:lnTo>
                    <a:pt x="6" y="376"/>
                  </a:lnTo>
                  <a:lnTo>
                    <a:pt x="22" y="350"/>
                  </a:lnTo>
                  <a:lnTo>
                    <a:pt x="34" y="328"/>
                  </a:lnTo>
                  <a:lnTo>
                    <a:pt x="36" y="284"/>
                  </a:lnTo>
                  <a:lnTo>
                    <a:pt x="38" y="276"/>
                  </a:lnTo>
                  <a:lnTo>
                    <a:pt x="82" y="256"/>
                  </a:lnTo>
                  <a:lnTo>
                    <a:pt x="114" y="232"/>
                  </a:lnTo>
                  <a:lnTo>
                    <a:pt x="126" y="214"/>
                  </a:lnTo>
                  <a:lnTo>
                    <a:pt x="114" y="200"/>
                  </a:lnTo>
                  <a:lnTo>
                    <a:pt x="108" y="198"/>
                  </a:lnTo>
                  <a:lnTo>
                    <a:pt x="92" y="204"/>
                  </a:lnTo>
                  <a:lnTo>
                    <a:pt x="80" y="198"/>
                  </a:lnTo>
                  <a:lnTo>
                    <a:pt x="74" y="162"/>
                  </a:lnTo>
                  <a:lnTo>
                    <a:pt x="76" y="134"/>
                  </a:lnTo>
                  <a:lnTo>
                    <a:pt x="82" y="116"/>
                  </a:lnTo>
                  <a:lnTo>
                    <a:pt x="90" y="106"/>
                  </a:lnTo>
                  <a:lnTo>
                    <a:pt x="120" y="100"/>
                  </a:lnTo>
                  <a:lnTo>
                    <a:pt x="124" y="90"/>
                  </a:lnTo>
                  <a:lnTo>
                    <a:pt x="138" y="80"/>
                  </a:lnTo>
                  <a:lnTo>
                    <a:pt x="180" y="58"/>
                  </a:lnTo>
                  <a:lnTo>
                    <a:pt x="188" y="50"/>
                  </a:lnTo>
                  <a:lnTo>
                    <a:pt x="206" y="38"/>
                  </a:lnTo>
                  <a:lnTo>
                    <a:pt x="220" y="38"/>
                  </a:lnTo>
                  <a:lnTo>
                    <a:pt x="228" y="32"/>
                  </a:lnTo>
                  <a:lnTo>
                    <a:pt x="228" y="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972520" y="4578480"/>
              <a:ext cx="73080" cy="106920"/>
            </a:xfrm>
            <a:custGeom>
              <a:avLst/>
              <a:gdLst/>
              <a:ahLst/>
              <a:rect l="l" t="t" r="r" b="b"/>
              <a:pathLst>
                <a:path w="416" h="626">
                  <a:moveTo>
                    <a:pt x="0" y="572"/>
                  </a:moveTo>
                  <a:lnTo>
                    <a:pt x="36" y="530"/>
                  </a:lnTo>
                  <a:lnTo>
                    <a:pt x="40" y="518"/>
                  </a:lnTo>
                  <a:lnTo>
                    <a:pt x="46" y="462"/>
                  </a:lnTo>
                  <a:lnTo>
                    <a:pt x="62" y="392"/>
                  </a:lnTo>
                  <a:lnTo>
                    <a:pt x="66" y="346"/>
                  </a:lnTo>
                  <a:lnTo>
                    <a:pt x="52" y="318"/>
                  </a:lnTo>
                  <a:lnTo>
                    <a:pt x="48" y="316"/>
                  </a:lnTo>
                  <a:lnTo>
                    <a:pt x="48" y="310"/>
                  </a:lnTo>
                  <a:lnTo>
                    <a:pt x="28" y="266"/>
                  </a:lnTo>
                  <a:lnTo>
                    <a:pt x="18" y="234"/>
                  </a:lnTo>
                  <a:lnTo>
                    <a:pt x="16" y="178"/>
                  </a:lnTo>
                  <a:lnTo>
                    <a:pt x="18" y="108"/>
                  </a:lnTo>
                  <a:lnTo>
                    <a:pt x="30" y="76"/>
                  </a:lnTo>
                  <a:lnTo>
                    <a:pt x="48" y="58"/>
                  </a:lnTo>
                  <a:lnTo>
                    <a:pt x="62" y="36"/>
                  </a:lnTo>
                  <a:lnTo>
                    <a:pt x="62" y="30"/>
                  </a:lnTo>
                  <a:lnTo>
                    <a:pt x="70" y="22"/>
                  </a:lnTo>
                  <a:lnTo>
                    <a:pt x="86" y="14"/>
                  </a:lnTo>
                  <a:lnTo>
                    <a:pt x="94" y="4"/>
                  </a:lnTo>
                  <a:lnTo>
                    <a:pt x="104" y="0"/>
                  </a:lnTo>
                  <a:lnTo>
                    <a:pt x="140" y="28"/>
                  </a:lnTo>
                  <a:lnTo>
                    <a:pt x="172" y="42"/>
                  </a:lnTo>
                  <a:lnTo>
                    <a:pt x="204" y="60"/>
                  </a:lnTo>
                  <a:lnTo>
                    <a:pt x="232" y="68"/>
                  </a:lnTo>
                  <a:lnTo>
                    <a:pt x="266" y="90"/>
                  </a:lnTo>
                  <a:lnTo>
                    <a:pt x="302" y="122"/>
                  </a:lnTo>
                  <a:lnTo>
                    <a:pt x="312" y="128"/>
                  </a:lnTo>
                  <a:lnTo>
                    <a:pt x="348" y="166"/>
                  </a:lnTo>
                  <a:lnTo>
                    <a:pt x="360" y="184"/>
                  </a:lnTo>
                  <a:lnTo>
                    <a:pt x="388" y="204"/>
                  </a:lnTo>
                  <a:lnTo>
                    <a:pt x="412" y="236"/>
                  </a:lnTo>
                  <a:lnTo>
                    <a:pt x="412" y="270"/>
                  </a:lnTo>
                  <a:lnTo>
                    <a:pt x="416" y="270"/>
                  </a:lnTo>
                  <a:lnTo>
                    <a:pt x="380" y="312"/>
                  </a:lnTo>
                  <a:lnTo>
                    <a:pt x="372" y="334"/>
                  </a:lnTo>
                  <a:lnTo>
                    <a:pt x="338" y="392"/>
                  </a:lnTo>
                  <a:lnTo>
                    <a:pt x="310" y="430"/>
                  </a:lnTo>
                  <a:lnTo>
                    <a:pt x="300" y="450"/>
                  </a:lnTo>
                  <a:lnTo>
                    <a:pt x="276" y="520"/>
                  </a:lnTo>
                  <a:lnTo>
                    <a:pt x="206" y="594"/>
                  </a:lnTo>
                  <a:lnTo>
                    <a:pt x="198" y="604"/>
                  </a:lnTo>
                  <a:lnTo>
                    <a:pt x="186" y="612"/>
                  </a:lnTo>
                  <a:lnTo>
                    <a:pt x="158" y="612"/>
                  </a:lnTo>
                  <a:lnTo>
                    <a:pt x="142" y="602"/>
                  </a:lnTo>
                  <a:lnTo>
                    <a:pt x="124" y="602"/>
                  </a:lnTo>
                  <a:lnTo>
                    <a:pt x="114" y="604"/>
                  </a:lnTo>
                  <a:lnTo>
                    <a:pt x="72" y="626"/>
                  </a:lnTo>
                  <a:lnTo>
                    <a:pt x="58" y="626"/>
                  </a:lnTo>
                  <a:lnTo>
                    <a:pt x="50" y="624"/>
                  </a:lnTo>
                  <a:lnTo>
                    <a:pt x="24" y="606"/>
                  </a:lnTo>
                  <a:lnTo>
                    <a:pt x="0" y="57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08600" y="3532680"/>
              <a:ext cx="66960" cy="56880"/>
            </a:xfrm>
            <a:custGeom>
              <a:avLst/>
              <a:gdLst/>
              <a:ahLst/>
              <a:rect l="l" t="t" r="r" b="b"/>
              <a:pathLst>
                <a:path w="380" h="326">
                  <a:moveTo>
                    <a:pt x="228" y="16"/>
                  </a:moveTo>
                  <a:lnTo>
                    <a:pt x="208" y="12"/>
                  </a:lnTo>
                  <a:lnTo>
                    <a:pt x="156" y="20"/>
                  </a:lnTo>
                  <a:lnTo>
                    <a:pt x="112" y="0"/>
                  </a:lnTo>
                  <a:lnTo>
                    <a:pt x="68" y="18"/>
                  </a:lnTo>
                  <a:lnTo>
                    <a:pt x="36" y="24"/>
                  </a:lnTo>
                  <a:lnTo>
                    <a:pt x="16" y="40"/>
                  </a:lnTo>
                  <a:lnTo>
                    <a:pt x="24" y="54"/>
                  </a:lnTo>
                  <a:lnTo>
                    <a:pt x="48" y="72"/>
                  </a:lnTo>
                  <a:lnTo>
                    <a:pt x="48" y="98"/>
                  </a:lnTo>
                  <a:lnTo>
                    <a:pt x="24" y="118"/>
                  </a:lnTo>
                  <a:lnTo>
                    <a:pt x="24" y="152"/>
                  </a:lnTo>
                  <a:lnTo>
                    <a:pt x="20" y="188"/>
                  </a:lnTo>
                  <a:lnTo>
                    <a:pt x="0" y="222"/>
                  </a:lnTo>
                  <a:lnTo>
                    <a:pt x="6" y="232"/>
                  </a:lnTo>
                  <a:lnTo>
                    <a:pt x="24" y="240"/>
                  </a:lnTo>
                  <a:lnTo>
                    <a:pt x="102" y="230"/>
                  </a:lnTo>
                  <a:lnTo>
                    <a:pt x="86" y="246"/>
                  </a:lnTo>
                  <a:lnTo>
                    <a:pt x="54" y="260"/>
                  </a:lnTo>
                  <a:lnTo>
                    <a:pt x="30" y="276"/>
                  </a:lnTo>
                  <a:lnTo>
                    <a:pt x="30" y="292"/>
                  </a:lnTo>
                  <a:lnTo>
                    <a:pt x="32" y="326"/>
                  </a:lnTo>
                  <a:lnTo>
                    <a:pt x="50" y="318"/>
                  </a:lnTo>
                  <a:lnTo>
                    <a:pt x="64" y="292"/>
                  </a:lnTo>
                  <a:lnTo>
                    <a:pt x="84" y="272"/>
                  </a:lnTo>
                  <a:lnTo>
                    <a:pt x="138" y="232"/>
                  </a:lnTo>
                  <a:lnTo>
                    <a:pt x="176" y="196"/>
                  </a:lnTo>
                  <a:lnTo>
                    <a:pt x="194" y="172"/>
                  </a:lnTo>
                  <a:lnTo>
                    <a:pt x="222" y="170"/>
                  </a:lnTo>
                  <a:lnTo>
                    <a:pt x="246" y="164"/>
                  </a:lnTo>
                  <a:lnTo>
                    <a:pt x="282" y="162"/>
                  </a:lnTo>
                  <a:lnTo>
                    <a:pt x="316" y="164"/>
                  </a:lnTo>
                  <a:lnTo>
                    <a:pt x="336" y="172"/>
                  </a:lnTo>
                  <a:lnTo>
                    <a:pt x="368" y="162"/>
                  </a:lnTo>
                  <a:lnTo>
                    <a:pt x="380" y="142"/>
                  </a:lnTo>
                  <a:lnTo>
                    <a:pt x="376" y="122"/>
                  </a:lnTo>
                  <a:lnTo>
                    <a:pt x="352" y="120"/>
                  </a:lnTo>
                  <a:lnTo>
                    <a:pt x="312" y="106"/>
                  </a:lnTo>
                  <a:lnTo>
                    <a:pt x="278" y="92"/>
                  </a:lnTo>
                  <a:lnTo>
                    <a:pt x="256" y="80"/>
                  </a:lnTo>
                  <a:lnTo>
                    <a:pt x="238" y="58"/>
                  </a:lnTo>
                  <a:lnTo>
                    <a:pt x="226" y="34"/>
                  </a:lnTo>
                  <a:lnTo>
                    <a:pt x="228" y="16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160" bIns="111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557760" y="3882240"/>
              <a:ext cx="227880" cy="548640"/>
            </a:xfrm>
            <a:custGeom>
              <a:avLst/>
              <a:gdLst/>
              <a:ahLst/>
              <a:rect l="l" t="t" r="r" b="b"/>
              <a:pathLst>
                <a:path w="1316" h="3218">
                  <a:moveTo>
                    <a:pt x="446" y="2128"/>
                  </a:moveTo>
                  <a:lnTo>
                    <a:pt x="450" y="2086"/>
                  </a:lnTo>
                  <a:lnTo>
                    <a:pt x="448" y="2034"/>
                  </a:lnTo>
                  <a:lnTo>
                    <a:pt x="456" y="1982"/>
                  </a:lnTo>
                  <a:lnTo>
                    <a:pt x="444" y="1918"/>
                  </a:lnTo>
                  <a:lnTo>
                    <a:pt x="414" y="1826"/>
                  </a:lnTo>
                  <a:lnTo>
                    <a:pt x="400" y="1802"/>
                  </a:lnTo>
                  <a:lnTo>
                    <a:pt x="394" y="1780"/>
                  </a:lnTo>
                  <a:lnTo>
                    <a:pt x="372" y="1742"/>
                  </a:lnTo>
                  <a:lnTo>
                    <a:pt x="322" y="1674"/>
                  </a:lnTo>
                  <a:lnTo>
                    <a:pt x="306" y="1640"/>
                  </a:lnTo>
                  <a:lnTo>
                    <a:pt x="306" y="1680"/>
                  </a:lnTo>
                  <a:lnTo>
                    <a:pt x="274" y="1662"/>
                  </a:lnTo>
                  <a:lnTo>
                    <a:pt x="250" y="1622"/>
                  </a:lnTo>
                  <a:lnTo>
                    <a:pt x="252" y="1594"/>
                  </a:lnTo>
                  <a:lnTo>
                    <a:pt x="284" y="1608"/>
                  </a:lnTo>
                  <a:lnTo>
                    <a:pt x="276" y="1592"/>
                  </a:lnTo>
                  <a:lnTo>
                    <a:pt x="252" y="1576"/>
                  </a:lnTo>
                  <a:lnTo>
                    <a:pt x="258" y="1558"/>
                  </a:lnTo>
                  <a:lnTo>
                    <a:pt x="250" y="1538"/>
                  </a:lnTo>
                  <a:lnTo>
                    <a:pt x="136" y="1480"/>
                  </a:lnTo>
                  <a:lnTo>
                    <a:pt x="128" y="1446"/>
                  </a:lnTo>
                  <a:lnTo>
                    <a:pt x="106" y="1442"/>
                  </a:lnTo>
                  <a:lnTo>
                    <a:pt x="86" y="1416"/>
                  </a:lnTo>
                  <a:lnTo>
                    <a:pt x="82" y="1426"/>
                  </a:lnTo>
                  <a:lnTo>
                    <a:pt x="62" y="1408"/>
                  </a:lnTo>
                  <a:lnTo>
                    <a:pt x="46" y="1380"/>
                  </a:lnTo>
                  <a:lnTo>
                    <a:pt x="12" y="1336"/>
                  </a:lnTo>
                  <a:lnTo>
                    <a:pt x="2" y="1282"/>
                  </a:lnTo>
                  <a:lnTo>
                    <a:pt x="0" y="1256"/>
                  </a:lnTo>
                  <a:lnTo>
                    <a:pt x="10" y="1242"/>
                  </a:lnTo>
                  <a:lnTo>
                    <a:pt x="42" y="1252"/>
                  </a:lnTo>
                  <a:lnTo>
                    <a:pt x="18" y="1164"/>
                  </a:lnTo>
                  <a:lnTo>
                    <a:pt x="20" y="1154"/>
                  </a:lnTo>
                  <a:lnTo>
                    <a:pt x="28" y="1146"/>
                  </a:lnTo>
                  <a:lnTo>
                    <a:pt x="36" y="1130"/>
                  </a:lnTo>
                  <a:lnTo>
                    <a:pt x="60" y="1136"/>
                  </a:lnTo>
                  <a:lnTo>
                    <a:pt x="72" y="1130"/>
                  </a:lnTo>
                  <a:lnTo>
                    <a:pt x="82" y="1112"/>
                  </a:lnTo>
                  <a:lnTo>
                    <a:pt x="80" y="1096"/>
                  </a:lnTo>
                  <a:lnTo>
                    <a:pt x="74" y="1094"/>
                  </a:lnTo>
                  <a:lnTo>
                    <a:pt x="58" y="1064"/>
                  </a:lnTo>
                  <a:lnTo>
                    <a:pt x="46" y="1018"/>
                  </a:lnTo>
                  <a:lnTo>
                    <a:pt x="42" y="978"/>
                  </a:lnTo>
                  <a:lnTo>
                    <a:pt x="70" y="980"/>
                  </a:lnTo>
                  <a:lnTo>
                    <a:pt x="76" y="966"/>
                  </a:lnTo>
                  <a:lnTo>
                    <a:pt x="72" y="908"/>
                  </a:lnTo>
                  <a:lnTo>
                    <a:pt x="48" y="830"/>
                  </a:lnTo>
                  <a:lnTo>
                    <a:pt x="62" y="806"/>
                  </a:lnTo>
                  <a:lnTo>
                    <a:pt x="96" y="796"/>
                  </a:lnTo>
                  <a:lnTo>
                    <a:pt x="128" y="802"/>
                  </a:lnTo>
                  <a:lnTo>
                    <a:pt x="148" y="802"/>
                  </a:lnTo>
                  <a:lnTo>
                    <a:pt x="156" y="786"/>
                  </a:lnTo>
                  <a:lnTo>
                    <a:pt x="158" y="728"/>
                  </a:lnTo>
                  <a:lnTo>
                    <a:pt x="176" y="620"/>
                  </a:lnTo>
                  <a:lnTo>
                    <a:pt x="178" y="586"/>
                  </a:lnTo>
                  <a:lnTo>
                    <a:pt x="166" y="560"/>
                  </a:lnTo>
                  <a:lnTo>
                    <a:pt x="172" y="532"/>
                  </a:lnTo>
                  <a:lnTo>
                    <a:pt x="204" y="498"/>
                  </a:lnTo>
                  <a:lnTo>
                    <a:pt x="210" y="462"/>
                  </a:lnTo>
                  <a:lnTo>
                    <a:pt x="184" y="380"/>
                  </a:lnTo>
                  <a:lnTo>
                    <a:pt x="188" y="332"/>
                  </a:lnTo>
                  <a:lnTo>
                    <a:pt x="214" y="298"/>
                  </a:lnTo>
                  <a:lnTo>
                    <a:pt x="246" y="278"/>
                  </a:lnTo>
                  <a:lnTo>
                    <a:pt x="264" y="250"/>
                  </a:lnTo>
                  <a:lnTo>
                    <a:pt x="272" y="212"/>
                  </a:lnTo>
                  <a:lnTo>
                    <a:pt x="316" y="200"/>
                  </a:lnTo>
                  <a:lnTo>
                    <a:pt x="338" y="184"/>
                  </a:lnTo>
                  <a:lnTo>
                    <a:pt x="384" y="198"/>
                  </a:lnTo>
                  <a:lnTo>
                    <a:pt x="390" y="182"/>
                  </a:lnTo>
                  <a:lnTo>
                    <a:pt x="370" y="138"/>
                  </a:lnTo>
                  <a:lnTo>
                    <a:pt x="370" y="100"/>
                  </a:lnTo>
                  <a:lnTo>
                    <a:pt x="390" y="82"/>
                  </a:lnTo>
                  <a:lnTo>
                    <a:pt x="400" y="62"/>
                  </a:lnTo>
                  <a:lnTo>
                    <a:pt x="390" y="28"/>
                  </a:lnTo>
                  <a:lnTo>
                    <a:pt x="410" y="16"/>
                  </a:lnTo>
                  <a:lnTo>
                    <a:pt x="414" y="0"/>
                  </a:lnTo>
                  <a:lnTo>
                    <a:pt x="422" y="2"/>
                  </a:lnTo>
                  <a:lnTo>
                    <a:pt x="458" y="18"/>
                  </a:lnTo>
                  <a:lnTo>
                    <a:pt x="500" y="54"/>
                  </a:lnTo>
                  <a:lnTo>
                    <a:pt x="522" y="104"/>
                  </a:lnTo>
                  <a:lnTo>
                    <a:pt x="542" y="128"/>
                  </a:lnTo>
                  <a:lnTo>
                    <a:pt x="582" y="128"/>
                  </a:lnTo>
                  <a:lnTo>
                    <a:pt x="626" y="220"/>
                  </a:lnTo>
                  <a:lnTo>
                    <a:pt x="648" y="280"/>
                  </a:lnTo>
                  <a:lnTo>
                    <a:pt x="662" y="362"/>
                  </a:lnTo>
                  <a:lnTo>
                    <a:pt x="670" y="390"/>
                  </a:lnTo>
                  <a:lnTo>
                    <a:pt x="666" y="468"/>
                  </a:lnTo>
                  <a:lnTo>
                    <a:pt x="654" y="502"/>
                  </a:lnTo>
                  <a:lnTo>
                    <a:pt x="638" y="510"/>
                  </a:lnTo>
                  <a:lnTo>
                    <a:pt x="636" y="540"/>
                  </a:lnTo>
                  <a:lnTo>
                    <a:pt x="618" y="572"/>
                  </a:lnTo>
                  <a:lnTo>
                    <a:pt x="624" y="632"/>
                  </a:lnTo>
                  <a:lnTo>
                    <a:pt x="620" y="672"/>
                  </a:lnTo>
                  <a:lnTo>
                    <a:pt x="642" y="716"/>
                  </a:lnTo>
                  <a:lnTo>
                    <a:pt x="644" y="742"/>
                  </a:lnTo>
                  <a:lnTo>
                    <a:pt x="632" y="796"/>
                  </a:lnTo>
                  <a:lnTo>
                    <a:pt x="648" y="810"/>
                  </a:lnTo>
                  <a:lnTo>
                    <a:pt x="674" y="770"/>
                  </a:lnTo>
                  <a:lnTo>
                    <a:pt x="694" y="748"/>
                  </a:lnTo>
                  <a:lnTo>
                    <a:pt x="740" y="742"/>
                  </a:lnTo>
                  <a:lnTo>
                    <a:pt x="788" y="740"/>
                  </a:lnTo>
                  <a:lnTo>
                    <a:pt x="796" y="772"/>
                  </a:lnTo>
                  <a:lnTo>
                    <a:pt x="822" y="814"/>
                  </a:lnTo>
                  <a:lnTo>
                    <a:pt x="840" y="874"/>
                  </a:lnTo>
                  <a:lnTo>
                    <a:pt x="880" y="902"/>
                  </a:lnTo>
                  <a:lnTo>
                    <a:pt x="926" y="926"/>
                  </a:lnTo>
                  <a:lnTo>
                    <a:pt x="930" y="1008"/>
                  </a:lnTo>
                  <a:lnTo>
                    <a:pt x="934" y="1066"/>
                  </a:lnTo>
                  <a:lnTo>
                    <a:pt x="974" y="1072"/>
                  </a:lnTo>
                  <a:lnTo>
                    <a:pt x="1024" y="1090"/>
                  </a:lnTo>
                  <a:lnTo>
                    <a:pt x="1038" y="1124"/>
                  </a:lnTo>
                  <a:lnTo>
                    <a:pt x="1096" y="1176"/>
                  </a:lnTo>
                  <a:lnTo>
                    <a:pt x="1144" y="1166"/>
                  </a:lnTo>
                  <a:lnTo>
                    <a:pt x="1174" y="1128"/>
                  </a:lnTo>
                  <a:lnTo>
                    <a:pt x="1204" y="1132"/>
                  </a:lnTo>
                  <a:lnTo>
                    <a:pt x="1212" y="1152"/>
                  </a:lnTo>
                  <a:lnTo>
                    <a:pt x="1212" y="1166"/>
                  </a:lnTo>
                  <a:lnTo>
                    <a:pt x="1204" y="1186"/>
                  </a:lnTo>
                  <a:lnTo>
                    <a:pt x="1152" y="1246"/>
                  </a:lnTo>
                  <a:lnTo>
                    <a:pt x="1156" y="1262"/>
                  </a:lnTo>
                  <a:lnTo>
                    <a:pt x="1166" y="1284"/>
                  </a:lnTo>
                  <a:lnTo>
                    <a:pt x="1152" y="1288"/>
                  </a:lnTo>
                  <a:lnTo>
                    <a:pt x="1134" y="1296"/>
                  </a:lnTo>
                  <a:lnTo>
                    <a:pt x="1126" y="1308"/>
                  </a:lnTo>
                  <a:lnTo>
                    <a:pt x="1124" y="1326"/>
                  </a:lnTo>
                  <a:lnTo>
                    <a:pt x="1110" y="1334"/>
                  </a:lnTo>
                  <a:lnTo>
                    <a:pt x="1102" y="1360"/>
                  </a:lnTo>
                  <a:lnTo>
                    <a:pt x="1096" y="1400"/>
                  </a:lnTo>
                  <a:lnTo>
                    <a:pt x="1062" y="1412"/>
                  </a:lnTo>
                  <a:lnTo>
                    <a:pt x="1044" y="1426"/>
                  </a:lnTo>
                  <a:lnTo>
                    <a:pt x="1014" y="1464"/>
                  </a:lnTo>
                  <a:lnTo>
                    <a:pt x="992" y="1482"/>
                  </a:lnTo>
                  <a:lnTo>
                    <a:pt x="970" y="1520"/>
                  </a:lnTo>
                  <a:lnTo>
                    <a:pt x="944" y="1532"/>
                  </a:lnTo>
                  <a:lnTo>
                    <a:pt x="898" y="1534"/>
                  </a:lnTo>
                  <a:lnTo>
                    <a:pt x="866" y="1542"/>
                  </a:lnTo>
                  <a:lnTo>
                    <a:pt x="854" y="1664"/>
                  </a:lnTo>
                  <a:lnTo>
                    <a:pt x="856" y="1700"/>
                  </a:lnTo>
                  <a:lnTo>
                    <a:pt x="866" y="1732"/>
                  </a:lnTo>
                  <a:lnTo>
                    <a:pt x="848" y="1754"/>
                  </a:lnTo>
                  <a:lnTo>
                    <a:pt x="854" y="1774"/>
                  </a:lnTo>
                  <a:lnTo>
                    <a:pt x="878" y="1826"/>
                  </a:lnTo>
                  <a:lnTo>
                    <a:pt x="920" y="1898"/>
                  </a:lnTo>
                  <a:lnTo>
                    <a:pt x="988" y="1950"/>
                  </a:lnTo>
                  <a:lnTo>
                    <a:pt x="1014" y="1980"/>
                  </a:lnTo>
                  <a:lnTo>
                    <a:pt x="1028" y="2030"/>
                  </a:lnTo>
                  <a:lnTo>
                    <a:pt x="1034" y="2078"/>
                  </a:lnTo>
                  <a:lnTo>
                    <a:pt x="1046" y="2116"/>
                  </a:lnTo>
                  <a:lnTo>
                    <a:pt x="1072" y="2118"/>
                  </a:lnTo>
                  <a:lnTo>
                    <a:pt x="1086" y="2148"/>
                  </a:lnTo>
                  <a:lnTo>
                    <a:pt x="1074" y="2168"/>
                  </a:lnTo>
                  <a:lnTo>
                    <a:pt x="1066" y="2210"/>
                  </a:lnTo>
                  <a:lnTo>
                    <a:pt x="1064" y="2240"/>
                  </a:lnTo>
                  <a:lnTo>
                    <a:pt x="1068" y="2276"/>
                  </a:lnTo>
                  <a:lnTo>
                    <a:pt x="1062" y="2292"/>
                  </a:lnTo>
                  <a:lnTo>
                    <a:pt x="1044" y="2314"/>
                  </a:lnTo>
                  <a:lnTo>
                    <a:pt x="1038" y="2340"/>
                  </a:lnTo>
                  <a:lnTo>
                    <a:pt x="1042" y="2384"/>
                  </a:lnTo>
                  <a:lnTo>
                    <a:pt x="1066" y="2436"/>
                  </a:lnTo>
                  <a:lnTo>
                    <a:pt x="1120" y="2476"/>
                  </a:lnTo>
                  <a:lnTo>
                    <a:pt x="1178" y="2538"/>
                  </a:lnTo>
                  <a:lnTo>
                    <a:pt x="1186" y="2556"/>
                  </a:lnTo>
                  <a:lnTo>
                    <a:pt x="1194" y="2582"/>
                  </a:lnTo>
                  <a:lnTo>
                    <a:pt x="1216" y="2690"/>
                  </a:lnTo>
                  <a:lnTo>
                    <a:pt x="1240" y="2748"/>
                  </a:lnTo>
                  <a:lnTo>
                    <a:pt x="1244" y="2752"/>
                  </a:lnTo>
                  <a:lnTo>
                    <a:pt x="1264" y="2802"/>
                  </a:lnTo>
                  <a:lnTo>
                    <a:pt x="1316" y="2908"/>
                  </a:lnTo>
                  <a:lnTo>
                    <a:pt x="1316" y="2932"/>
                  </a:lnTo>
                  <a:lnTo>
                    <a:pt x="1278" y="3026"/>
                  </a:lnTo>
                  <a:lnTo>
                    <a:pt x="1254" y="3054"/>
                  </a:lnTo>
                  <a:lnTo>
                    <a:pt x="1240" y="3092"/>
                  </a:lnTo>
                  <a:lnTo>
                    <a:pt x="1238" y="3138"/>
                  </a:lnTo>
                  <a:lnTo>
                    <a:pt x="1230" y="3182"/>
                  </a:lnTo>
                  <a:lnTo>
                    <a:pt x="1220" y="3206"/>
                  </a:lnTo>
                  <a:lnTo>
                    <a:pt x="1218" y="3218"/>
                  </a:lnTo>
                  <a:lnTo>
                    <a:pt x="1190" y="3192"/>
                  </a:lnTo>
                  <a:lnTo>
                    <a:pt x="1188" y="3152"/>
                  </a:lnTo>
                  <a:lnTo>
                    <a:pt x="1192" y="3108"/>
                  </a:lnTo>
                  <a:lnTo>
                    <a:pt x="1208" y="3030"/>
                  </a:lnTo>
                  <a:lnTo>
                    <a:pt x="1204" y="2996"/>
                  </a:lnTo>
                  <a:lnTo>
                    <a:pt x="1206" y="2938"/>
                  </a:lnTo>
                  <a:lnTo>
                    <a:pt x="1176" y="2920"/>
                  </a:lnTo>
                  <a:lnTo>
                    <a:pt x="1156" y="2902"/>
                  </a:lnTo>
                  <a:lnTo>
                    <a:pt x="1156" y="2880"/>
                  </a:lnTo>
                  <a:lnTo>
                    <a:pt x="1178" y="2884"/>
                  </a:lnTo>
                  <a:lnTo>
                    <a:pt x="1170" y="2852"/>
                  </a:lnTo>
                  <a:lnTo>
                    <a:pt x="1168" y="2808"/>
                  </a:lnTo>
                  <a:lnTo>
                    <a:pt x="1146" y="2722"/>
                  </a:lnTo>
                  <a:lnTo>
                    <a:pt x="1106" y="2638"/>
                  </a:lnTo>
                  <a:lnTo>
                    <a:pt x="1086" y="2580"/>
                  </a:lnTo>
                  <a:lnTo>
                    <a:pt x="1076" y="2590"/>
                  </a:lnTo>
                  <a:lnTo>
                    <a:pt x="1072" y="2604"/>
                  </a:lnTo>
                  <a:lnTo>
                    <a:pt x="1052" y="2554"/>
                  </a:lnTo>
                  <a:lnTo>
                    <a:pt x="1030" y="2480"/>
                  </a:lnTo>
                  <a:lnTo>
                    <a:pt x="1006" y="2430"/>
                  </a:lnTo>
                  <a:lnTo>
                    <a:pt x="982" y="2366"/>
                  </a:lnTo>
                  <a:lnTo>
                    <a:pt x="958" y="2288"/>
                  </a:lnTo>
                  <a:lnTo>
                    <a:pt x="930" y="2168"/>
                  </a:lnTo>
                  <a:lnTo>
                    <a:pt x="918" y="2088"/>
                  </a:lnTo>
                  <a:lnTo>
                    <a:pt x="908" y="2086"/>
                  </a:lnTo>
                  <a:lnTo>
                    <a:pt x="898" y="2084"/>
                  </a:lnTo>
                  <a:lnTo>
                    <a:pt x="864" y="2066"/>
                  </a:lnTo>
                  <a:lnTo>
                    <a:pt x="834" y="2040"/>
                  </a:lnTo>
                  <a:lnTo>
                    <a:pt x="810" y="2012"/>
                  </a:lnTo>
                  <a:lnTo>
                    <a:pt x="794" y="2022"/>
                  </a:lnTo>
                  <a:lnTo>
                    <a:pt x="772" y="1962"/>
                  </a:lnTo>
                  <a:lnTo>
                    <a:pt x="754" y="1928"/>
                  </a:lnTo>
                  <a:lnTo>
                    <a:pt x="764" y="1988"/>
                  </a:lnTo>
                  <a:lnTo>
                    <a:pt x="764" y="2060"/>
                  </a:lnTo>
                  <a:lnTo>
                    <a:pt x="732" y="2086"/>
                  </a:lnTo>
                  <a:lnTo>
                    <a:pt x="698" y="2110"/>
                  </a:lnTo>
                  <a:lnTo>
                    <a:pt x="674" y="2142"/>
                  </a:lnTo>
                  <a:lnTo>
                    <a:pt x="650" y="2166"/>
                  </a:lnTo>
                  <a:lnTo>
                    <a:pt x="630" y="2192"/>
                  </a:lnTo>
                  <a:lnTo>
                    <a:pt x="610" y="2230"/>
                  </a:lnTo>
                  <a:lnTo>
                    <a:pt x="596" y="2218"/>
                  </a:lnTo>
                  <a:lnTo>
                    <a:pt x="578" y="2220"/>
                  </a:lnTo>
                  <a:lnTo>
                    <a:pt x="564" y="2202"/>
                  </a:lnTo>
                  <a:lnTo>
                    <a:pt x="550" y="2234"/>
                  </a:lnTo>
                  <a:lnTo>
                    <a:pt x="524" y="2220"/>
                  </a:lnTo>
                  <a:lnTo>
                    <a:pt x="496" y="2208"/>
                  </a:lnTo>
                  <a:lnTo>
                    <a:pt x="482" y="2196"/>
                  </a:lnTo>
                  <a:lnTo>
                    <a:pt x="486" y="2170"/>
                  </a:lnTo>
                  <a:lnTo>
                    <a:pt x="464" y="2190"/>
                  </a:lnTo>
                  <a:lnTo>
                    <a:pt x="448" y="2184"/>
                  </a:lnTo>
                  <a:lnTo>
                    <a:pt x="446" y="212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44680" y="4287240"/>
              <a:ext cx="132480" cy="133200"/>
            </a:xfrm>
            <a:custGeom>
              <a:avLst/>
              <a:gdLst/>
              <a:ahLst/>
              <a:rect l="l" t="t" r="r" b="b"/>
              <a:pathLst>
                <a:path w="762" h="778">
                  <a:moveTo>
                    <a:pt x="376" y="778"/>
                  </a:moveTo>
                  <a:lnTo>
                    <a:pt x="360" y="774"/>
                  </a:lnTo>
                  <a:lnTo>
                    <a:pt x="352" y="764"/>
                  </a:lnTo>
                  <a:lnTo>
                    <a:pt x="338" y="754"/>
                  </a:lnTo>
                  <a:lnTo>
                    <a:pt x="292" y="750"/>
                  </a:lnTo>
                  <a:lnTo>
                    <a:pt x="274" y="764"/>
                  </a:lnTo>
                  <a:lnTo>
                    <a:pt x="248" y="762"/>
                  </a:lnTo>
                  <a:lnTo>
                    <a:pt x="244" y="726"/>
                  </a:lnTo>
                  <a:lnTo>
                    <a:pt x="254" y="704"/>
                  </a:lnTo>
                  <a:lnTo>
                    <a:pt x="246" y="674"/>
                  </a:lnTo>
                  <a:lnTo>
                    <a:pt x="228" y="662"/>
                  </a:lnTo>
                  <a:lnTo>
                    <a:pt x="216" y="670"/>
                  </a:lnTo>
                  <a:lnTo>
                    <a:pt x="208" y="698"/>
                  </a:lnTo>
                  <a:lnTo>
                    <a:pt x="184" y="704"/>
                  </a:lnTo>
                  <a:lnTo>
                    <a:pt x="152" y="622"/>
                  </a:lnTo>
                  <a:lnTo>
                    <a:pt x="152" y="614"/>
                  </a:lnTo>
                  <a:lnTo>
                    <a:pt x="162" y="624"/>
                  </a:lnTo>
                  <a:lnTo>
                    <a:pt x="160" y="608"/>
                  </a:lnTo>
                  <a:lnTo>
                    <a:pt x="132" y="576"/>
                  </a:lnTo>
                  <a:lnTo>
                    <a:pt x="132" y="570"/>
                  </a:lnTo>
                  <a:lnTo>
                    <a:pt x="134" y="550"/>
                  </a:lnTo>
                  <a:lnTo>
                    <a:pt x="130" y="522"/>
                  </a:lnTo>
                  <a:lnTo>
                    <a:pt x="106" y="476"/>
                  </a:lnTo>
                  <a:lnTo>
                    <a:pt x="84" y="434"/>
                  </a:lnTo>
                  <a:lnTo>
                    <a:pt x="42" y="396"/>
                  </a:lnTo>
                  <a:lnTo>
                    <a:pt x="14" y="326"/>
                  </a:lnTo>
                  <a:lnTo>
                    <a:pt x="4" y="292"/>
                  </a:lnTo>
                  <a:lnTo>
                    <a:pt x="0" y="234"/>
                  </a:lnTo>
                  <a:lnTo>
                    <a:pt x="16" y="218"/>
                  </a:lnTo>
                  <a:lnTo>
                    <a:pt x="26" y="184"/>
                  </a:lnTo>
                  <a:lnTo>
                    <a:pt x="42" y="172"/>
                  </a:lnTo>
                  <a:lnTo>
                    <a:pt x="70" y="108"/>
                  </a:lnTo>
                  <a:lnTo>
                    <a:pt x="82" y="86"/>
                  </a:lnTo>
                  <a:lnTo>
                    <a:pt x="102" y="76"/>
                  </a:lnTo>
                  <a:lnTo>
                    <a:pt x="172" y="80"/>
                  </a:lnTo>
                  <a:lnTo>
                    <a:pt x="216" y="88"/>
                  </a:lnTo>
                  <a:lnTo>
                    <a:pt x="260" y="80"/>
                  </a:lnTo>
                  <a:lnTo>
                    <a:pt x="332" y="74"/>
                  </a:lnTo>
                  <a:lnTo>
                    <a:pt x="360" y="104"/>
                  </a:lnTo>
                  <a:lnTo>
                    <a:pt x="384" y="88"/>
                  </a:lnTo>
                  <a:lnTo>
                    <a:pt x="410" y="114"/>
                  </a:lnTo>
                  <a:lnTo>
                    <a:pt x="460" y="124"/>
                  </a:lnTo>
                  <a:lnTo>
                    <a:pt x="488" y="138"/>
                  </a:lnTo>
                  <a:lnTo>
                    <a:pt x="510" y="130"/>
                  </a:lnTo>
                  <a:lnTo>
                    <a:pt x="504" y="80"/>
                  </a:lnTo>
                  <a:lnTo>
                    <a:pt x="538" y="52"/>
                  </a:lnTo>
                  <a:lnTo>
                    <a:pt x="566" y="38"/>
                  </a:lnTo>
                  <a:lnTo>
                    <a:pt x="590" y="40"/>
                  </a:lnTo>
                  <a:lnTo>
                    <a:pt x="614" y="64"/>
                  </a:lnTo>
                  <a:lnTo>
                    <a:pt x="634" y="64"/>
                  </a:lnTo>
                  <a:lnTo>
                    <a:pt x="656" y="50"/>
                  </a:lnTo>
                  <a:lnTo>
                    <a:pt x="682" y="18"/>
                  </a:lnTo>
                  <a:lnTo>
                    <a:pt x="686" y="0"/>
                  </a:lnTo>
                  <a:lnTo>
                    <a:pt x="700" y="120"/>
                  </a:lnTo>
                  <a:lnTo>
                    <a:pt x="716" y="168"/>
                  </a:lnTo>
                  <a:lnTo>
                    <a:pt x="742" y="216"/>
                  </a:lnTo>
                  <a:lnTo>
                    <a:pt x="762" y="374"/>
                  </a:lnTo>
                  <a:lnTo>
                    <a:pt x="762" y="416"/>
                  </a:lnTo>
                  <a:lnTo>
                    <a:pt x="748" y="444"/>
                  </a:lnTo>
                  <a:lnTo>
                    <a:pt x="726" y="436"/>
                  </a:lnTo>
                  <a:lnTo>
                    <a:pt x="704" y="466"/>
                  </a:lnTo>
                  <a:lnTo>
                    <a:pt x="688" y="478"/>
                  </a:lnTo>
                  <a:lnTo>
                    <a:pt x="668" y="480"/>
                  </a:lnTo>
                  <a:lnTo>
                    <a:pt x="622" y="506"/>
                  </a:lnTo>
                  <a:lnTo>
                    <a:pt x="624" y="540"/>
                  </a:lnTo>
                  <a:lnTo>
                    <a:pt x="578" y="546"/>
                  </a:lnTo>
                  <a:lnTo>
                    <a:pt x="554" y="556"/>
                  </a:lnTo>
                  <a:lnTo>
                    <a:pt x="552" y="602"/>
                  </a:lnTo>
                  <a:lnTo>
                    <a:pt x="560" y="628"/>
                  </a:lnTo>
                  <a:lnTo>
                    <a:pt x="566" y="656"/>
                  </a:lnTo>
                  <a:lnTo>
                    <a:pt x="550" y="666"/>
                  </a:lnTo>
                  <a:lnTo>
                    <a:pt x="530" y="674"/>
                  </a:lnTo>
                  <a:lnTo>
                    <a:pt x="504" y="700"/>
                  </a:lnTo>
                  <a:lnTo>
                    <a:pt x="480" y="712"/>
                  </a:lnTo>
                  <a:lnTo>
                    <a:pt x="460" y="704"/>
                  </a:lnTo>
                  <a:lnTo>
                    <a:pt x="444" y="704"/>
                  </a:lnTo>
                  <a:lnTo>
                    <a:pt x="442" y="734"/>
                  </a:lnTo>
                  <a:lnTo>
                    <a:pt x="432" y="752"/>
                  </a:lnTo>
                  <a:lnTo>
                    <a:pt x="414" y="764"/>
                  </a:lnTo>
                  <a:lnTo>
                    <a:pt x="386" y="772"/>
                  </a:lnTo>
                  <a:lnTo>
                    <a:pt x="376" y="77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61840" y="4583160"/>
              <a:ext cx="36000" cy="32040"/>
            </a:xfrm>
            <a:custGeom>
              <a:avLst/>
              <a:gdLst/>
              <a:ahLst/>
              <a:rect l="l" t="t" r="r" b="b"/>
              <a:pathLst>
                <a:path w="204" h="190">
                  <a:moveTo>
                    <a:pt x="174" y="26"/>
                  </a:moveTo>
                  <a:lnTo>
                    <a:pt x="186" y="42"/>
                  </a:lnTo>
                  <a:lnTo>
                    <a:pt x="198" y="66"/>
                  </a:lnTo>
                  <a:lnTo>
                    <a:pt x="202" y="84"/>
                  </a:lnTo>
                  <a:lnTo>
                    <a:pt x="204" y="106"/>
                  </a:lnTo>
                  <a:lnTo>
                    <a:pt x="200" y="122"/>
                  </a:lnTo>
                  <a:lnTo>
                    <a:pt x="184" y="122"/>
                  </a:lnTo>
                  <a:lnTo>
                    <a:pt x="170" y="112"/>
                  </a:lnTo>
                  <a:lnTo>
                    <a:pt x="160" y="90"/>
                  </a:lnTo>
                  <a:lnTo>
                    <a:pt x="152" y="64"/>
                  </a:lnTo>
                  <a:lnTo>
                    <a:pt x="142" y="52"/>
                  </a:lnTo>
                  <a:lnTo>
                    <a:pt x="132" y="52"/>
                  </a:lnTo>
                  <a:lnTo>
                    <a:pt x="120" y="60"/>
                  </a:lnTo>
                  <a:lnTo>
                    <a:pt x="110" y="74"/>
                  </a:lnTo>
                  <a:lnTo>
                    <a:pt x="112" y="158"/>
                  </a:lnTo>
                  <a:lnTo>
                    <a:pt x="106" y="182"/>
                  </a:lnTo>
                  <a:lnTo>
                    <a:pt x="96" y="190"/>
                  </a:lnTo>
                  <a:lnTo>
                    <a:pt x="82" y="186"/>
                  </a:lnTo>
                  <a:lnTo>
                    <a:pt x="70" y="174"/>
                  </a:lnTo>
                  <a:lnTo>
                    <a:pt x="58" y="158"/>
                  </a:lnTo>
                  <a:lnTo>
                    <a:pt x="48" y="138"/>
                  </a:lnTo>
                  <a:lnTo>
                    <a:pt x="20" y="104"/>
                  </a:lnTo>
                  <a:lnTo>
                    <a:pt x="10" y="94"/>
                  </a:lnTo>
                  <a:lnTo>
                    <a:pt x="0" y="90"/>
                  </a:lnTo>
                  <a:lnTo>
                    <a:pt x="4" y="84"/>
                  </a:lnTo>
                  <a:lnTo>
                    <a:pt x="28" y="74"/>
                  </a:lnTo>
                  <a:lnTo>
                    <a:pt x="64" y="68"/>
                  </a:lnTo>
                  <a:lnTo>
                    <a:pt x="84" y="52"/>
                  </a:lnTo>
                  <a:lnTo>
                    <a:pt x="130" y="0"/>
                  </a:lnTo>
                  <a:lnTo>
                    <a:pt x="138" y="24"/>
                  </a:lnTo>
                  <a:lnTo>
                    <a:pt x="174" y="2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3680" bIns="-136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64840" y="4770000"/>
              <a:ext cx="265320" cy="311040"/>
            </a:xfrm>
            <a:custGeom>
              <a:avLst/>
              <a:gdLst/>
              <a:ahLst/>
              <a:rect l="l" t="t" r="r" b="b"/>
              <a:pathLst>
                <a:path w="1524" h="1824">
                  <a:moveTo>
                    <a:pt x="1158" y="350"/>
                  </a:moveTo>
                  <a:lnTo>
                    <a:pt x="1164" y="366"/>
                  </a:lnTo>
                  <a:lnTo>
                    <a:pt x="1166" y="388"/>
                  </a:lnTo>
                  <a:lnTo>
                    <a:pt x="1176" y="448"/>
                  </a:lnTo>
                  <a:lnTo>
                    <a:pt x="1188" y="482"/>
                  </a:lnTo>
                  <a:lnTo>
                    <a:pt x="1386" y="624"/>
                  </a:lnTo>
                  <a:lnTo>
                    <a:pt x="1380" y="644"/>
                  </a:lnTo>
                  <a:lnTo>
                    <a:pt x="1358" y="738"/>
                  </a:lnTo>
                  <a:lnTo>
                    <a:pt x="1350" y="756"/>
                  </a:lnTo>
                  <a:lnTo>
                    <a:pt x="1340" y="798"/>
                  </a:lnTo>
                  <a:lnTo>
                    <a:pt x="1312" y="872"/>
                  </a:lnTo>
                  <a:lnTo>
                    <a:pt x="1316" y="906"/>
                  </a:lnTo>
                  <a:lnTo>
                    <a:pt x="1318" y="924"/>
                  </a:lnTo>
                  <a:lnTo>
                    <a:pt x="1360" y="958"/>
                  </a:lnTo>
                  <a:lnTo>
                    <a:pt x="1374" y="984"/>
                  </a:lnTo>
                  <a:lnTo>
                    <a:pt x="1396" y="1006"/>
                  </a:lnTo>
                  <a:lnTo>
                    <a:pt x="1412" y="1044"/>
                  </a:lnTo>
                  <a:lnTo>
                    <a:pt x="1412" y="1056"/>
                  </a:lnTo>
                  <a:lnTo>
                    <a:pt x="1404" y="1062"/>
                  </a:lnTo>
                  <a:lnTo>
                    <a:pt x="1390" y="1086"/>
                  </a:lnTo>
                  <a:lnTo>
                    <a:pt x="1386" y="1122"/>
                  </a:lnTo>
                  <a:lnTo>
                    <a:pt x="1380" y="1144"/>
                  </a:lnTo>
                  <a:lnTo>
                    <a:pt x="1388" y="1162"/>
                  </a:lnTo>
                  <a:lnTo>
                    <a:pt x="1388" y="1178"/>
                  </a:lnTo>
                  <a:lnTo>
                    <a:pt x="1390" y="1194"/>
                  </a:lnTo>
                  <a:lnTo>
                    <a:pt x="1386" y="1224"/>
                  </a:lnTo>
                  <a:lnTo>
                    <a:pt x="1370" y="1226"/>
                  </a:lnTo>
                  <a:lnTo>
                    <a:pt x="1364" y="1250"/>
                  </a:lnTo>
                  <a:lnTo>
                    <a:pt x="1370" y="1278"/>
                  </a:lnTo>
                  <a:lnTo>
                    <a:pt x="1382" y="1318"/>
                  </a:lnTo>
                  <a:lnTo>
                    <a:pt x="1396" y="1330"/>
                  </a:lnTo>
                  <a:lnTo>
                    <a:pt x="1394" y="1338"/>
                  </a:lnTo>
                  <a:lnTo>
                    <a:pt x="1386" y="1348"/>
                  </a:lnTo>
                  <a:lnTo>
                    <a:pt x="1416" y="1410"/>
                  </a:lnTo>
                  <a:lnTo>
                    <a:pt x="1418" y="1426"/>
                  </a:lnTo>
                  <a:lnTo>
                    <a:pt x="1414" y="1448"/>
                  </a:lnTo>
                  <a:lnTo>
                    <a:pt x="1428" y="1464"/>
                  </a:lnTo>
                  <a:lnTo>
                    <a:pt x="1432" y="1482"/>
                  </a:lnTo>
                  <a:lnTo>
                    <a:pt x="1432" y="1502"/>
                  </a:lnTo>
                  <a:lnTo>
                    <a:pt x="1440" y="1514"/>
                  </a:lnTo>
                  <a:lnTo>
                    <a:pt x="1438" y="1538"/>
                  </a:lnTo>
                  <a:lnTo>
                    <a:pt x="1466" y="1556"/>
                  </a:lnTo>
                  <a:lnTo>
                    <a:pt x="1480" y="1586"/>
                  </a:lnTo>
                  <a:lnTo>
                    <a:pt x="1502" y="1594"/>
                  </a:lnTo>
                  <a:lnTo>
                    <a:pt x="1518" y="1604"/>
                  </a:lnTo>
                  <a:lnTo>
                    <a:pt x="1524" y="1606"/>
                  </a:lnTo>
                  <a:lnTo>
                    <a:pt x="1524" y="1624"/>
                  </a:lnTo>
                  <a:lnTo>
                    <a:pt x="1520" y="1630"/>
                  </a:lnTo>
                  <a:lnTo>
                    <a:pt x="1480" y="1662"/>
                  </a:lnTo>
                  <a:lnTo>
                    <a:pt x="1440" y="1698"/>
                  </a:lnTo>
                  <a:lnTo>
                    <a:pt x="1428" y="1706"/>
                  </a:lnTo>
                  <a:lnTo>
                    <a:pt x="1378" y="1722"/>
                  </a:lnTo>
                  <a:lnTo>
                    <a:pt x="1292" y="1762"/>
                  </a:lnTo>
                  <a:lnTo>
                    <a:pt x="1266" y="1766"/>
                  </a:lnTo>
                  <a:lnTo>
                    <a:pt x="1242" y="1764"/>
                  </a:lnTo>
                  <a:lnTo>
                    <a:pt x="1210" y="1744"/>
                  </a:lnTo>
                  <a:lnTo>
                    <a:pt x="1186" y="1752"/>
                  </a:lnTo>
                  <a:lnTo>
                    <a:pt x="1148" y="1754"/>
                  </a:lnTo>
                  <a:lnTo>
                    <a:pt x="1112" y="1796"/>
                  </a:lnTo>
                  <a:lnTo>
                    <a:pt x="1104" y="1798"/>
                  </a:lnTo>
                  <a:lnTo>
                    <a:pt x="1086" y="1800"/>
                  </a:lnTo>
                  <a:lnTo>
                    <a:pt x="1004" y="1796"/>
                  </a:lnTo>
                  <a:lnTo>
                    <a:pt x="974" y="1816"/>
                  </a:lnTo>
                  <a:lnTo>
                    <a:pt x="952" y="1816"/>
                  </a:lnTo>
                  <a:lnTo>
                    <a:pt x="932" y="1824"/>
                  </a:lnTo>
                  <a:lnTo>
                    <a:pt x="920" y="1820"/>
                  </a:lnTo>
                  <a:lnTo>
                    <a:pt x="908" y="1812"/>
                  </a:lnTo>
                  <a:lnTo>
                    <a:pt x="892" y="1790"/>
                  </a:lnTo>
                  <a:lnTo>
                    <a:pt x="876" y="1782"/>
                  </a:lnTo>
                  <a:lnTo>
                    <a:pt x="858" y="1784"/>
                  </a:lnTo>
                  <a:lnTo>
                    <a:pt x="840" y="1800"/>
                  </a:lnTo>
                  <a:lnTo>
                    <a:pt x="830" y="1800"/>
                  </a:lnTo>
                  <a:lnTo>
                    <a:pt x="724" y="1796"/>
                  </a:lnTo>
                  <a:lnTo>
                    <a:pt x="724" y="1784"/>
                  </a:lnTo>
                  <a:lnTo>
                    <a:pt x="714" y="1760"/>
                  </a:lnTo>
                  <a:lnTo>
                    <a:pt x="700" y="1746"/>
                  </a:lnTo>
                  <a:lnTo>
                    <a:pt x="688" y="1728"/>
                  </a:lnTo>
                  <a:lnTo>
                    <a:pt x="686" y="1720"/>
                  </a:lnTo>
                  <a:lnTo>
                    <a:pt x="690" y="1662"/>
                  </a:lnTo>
                  <a:lnTo>
                    <a:pt x="682" y="1638"/>
                  </a:lnTo>
                  <a:lnTo>
                    <a:pt x="676" y="1582"/>
                  </a:lnTo>
                  <a:lnTo>
                    <a:pt x="668" y="1528"/>
                  </a:lnTo>
                  <a:lnTo>
                    <a:pt x="658" y="1504"/>
                  </a:lnTo>
                  <a:lnTo>
                    <a:pt x="630" y="1468"/>
                  </a:lnTo>
                  <a:lnTo>
                    <a:pt x="600" y="1460"/>
                  </a:lnTo>
                  <a:lnTo>
                    <a:pt x="584" y="1480"/>
                  </a:lnTo>
                  <a:lnTo>
                    <a:pt x="580" y="1470"/>
                  </a:lnTo>
                  <a:lnTo>
                    <a:pt x="576" y="1464"/>
                  </a:lnTo>
                  <a:lnTo>
                    <a:pt x="570" y="1458"/>
                  </a:lnTo>
                  <a:lnTo>
                    <a:pt x="560" y="1458"/>
                  </a:lnTo>
                  <a:lnTo>
                    <a:pt x="528" y="1470"/>
                  </a:lnTo>
                  <a:lnTo>
                    <a:pt x="522" y="1464"/>
                  </a:lnTo>
                  <a:lnTo>
                    <a:pt x="512" y="1448"/>
                  </a:lnTo>
                  <a:lnTo>
                    <a:pt x="486" y="1450"/>
                  </a:lnTo>
                  <a:lnTo>
                    <a:pt x="458" y="1430"/>
                  </a:lnTo>
                  <a:lnTo>
                    <a:pt x="448" y="1414"/>
                  </a:lnTo>
                  <a:lnTo>
                    <a:pt x="442" y="1410"/>
                  </a:lnTo>
                  <a:lnTo>
                    <a:pt x="414" y="1408"/>
                  </a:lnTo>
                  <a:lnTo>
                    <a:pt x="384" y="1398"/>
                  </a:lnTo>
                  <a:lnTo>
                    <a:pt x="314" y="1360"/>
                  </a:lnTo>
                  <a:lnTo>
                    <a:pt x="288" y="1352"/>
                  </a:lnTo>
                  <a:lnTo>
                    <a:pt x="270" y="1338"/>
                  </a:lnTo>
                  <a:lnTo>
                    <a:pt x="258" y="1318"/>
                  </a:lnTo>
                  <a:lnTo>
                    <a:pt x="232" y="1292"/>
                  </a:lnTo>
                  <a:lnTo>
                    <a:pt x="214" y="1284"/>
                  </a:lnTo>
                  <a:lnTo>
                    <a:pt x="198" y="1286"/>
                  </a:lnTo>
                  <a:lnTo>
                    <a:pt x="170" y="1230"/>
                  </a:lnTo>
                  <a:lnTo>
                    <a:pt x="160" y="1194"/>
                  </a:lnTo>
                  <a:lnTo>
                    <a:pt x="142" y="1156"/>
                  </a:lnTo>
                  <a:lnTo>
                    <a:pt x="122" y="1086"/>
                  </a:lnTo>
                  <a:lnTo>
                    <a:pt x="124" y="1044"/>
                  </a:lnTo>
                  <a:lnTo>
                    <a:pt x="122" y="1016"/>
                  </a:lnTo>
                  <a:lnTo>
                    <a:pt x="76" y="958"/>
                  </a:lnTo>
                  <a:lnTo>
                    <a:pt x="20" y="920"/>
                  </a:lnTo>
                  <a:lnTo>
                    <a:pt x="12" y="878"/>
                  </a:lnTo>
                  <a:lnTo>
                    <a:pt x="28" y="860"/>
                  </a:lnTo>
                  <a:lnTo>
                    <a:pt x="36" y="840"/>
                  </a:lnTo>
                  <a:lnTo>
                    <a:pt x="26" y="802"/>
                  </a:lnTo>
                  <a:lnTo>
                    <a:pt x="20" y="760"/>
                  </a:lnTo>
                  <a:lnTo>
                    <a:pt x="22" y="716"/>
                  </a:lnTo>
                  <a:lnTo>
                    <a:pt x="14" y="698"/>
                  </a:lnTo>
                  <a:lnTo>
                    <a:pt x="2" y="686"/>
                  </a:lnTo>
                  <a:lnTo>
                    <a:pt x="0" y="636"/>
                  </a:lnTo>
                  <a:lnTo>
                    <a:pt x="2" y="580"/>
                  </a:lnTo>
                  <a:lnTo>
                    <a:pt x="10" y="574"/>
                  </a:lnTo>
                  <a:lnTo>
                    <a:pt x="38" y="570"/>
                  </a:lnTo>
                  <a:lnTo>
                    <a:pt x="74" y="552"/>
                  </a:lnTo>
                  <a:lnTo>
                    <a:pt x="106" y="492"/>
                  </a:lnTo>
                  <a:lnTo>
                    <a:pt x="120" y="472"/>
                  </a:lnTo>
                  <a:lnTo>
                    <a:pt x="134" y="430"/>
                  </a:lnTo>
                  <a:lnTo>
                    <a:pt x="162" y="396"/>
                  </a:lnTo>
                  <a:lnTo>
                    <a:pt x="170" y="376"/>
                  </a:lnTo>
                  <a:lnTo>
                    <a:pt x="170" y="350"/>
                  </a:lnTo>
                  <a:lnTo>
                    <a:pt x="164" y="330"/>
                  </a:lnTo>
                  <a:lnTo>
                    <a:pt x="156" y="322"/>
                  </a:lnTo>
                  <a:lnTo>
                    <a:pt x="140" y="318"/>
                  </a:lnTo>
                  <a:lnTo>
                    <a:pt x="132" y="306"/>
                  </a:lnTo>
                  <a:lnTo>
                    <a:pt x="130" y="294"/>
                  </a:lnTo>
                  <a:lnTo>
                    <a:pt x="130" y="276"/>
                  </a:lnTo>
                  <a:lnTo>
                    <a:pt x="134" y="256"/>
                  </a:lnTo>
                  <a:lnTo>
                    <a:pt x="148" y="240"/>
                  </a:lnTo>
                  <a:lnTo>
                    <a:pt x="174" y="194"/>
                  </a:lnTo>
                  <a:lnTo>
                    <a:pt x="184" y="166"/>
                  </a:lnTo>
                  <a:lnTo>
                    <a:pt x="180" y="142"/>
                  </a:lnTo>
                  <a:lnTo>
                    <a:pt x="166" y="94"/>
                  </a:lnTo>
                  <a:lnTo>
                    <a:pt x="136" y="30"/>
                  </a:lnTo>
                  <a:lnTo>
                    <a:pt x="122" y="8"/>
                  </a:lnTo>
                  <a:lnTo>
                    <a:pt x="180" y="16"/>
                  </a:lnTo>
                  <a:lnTo>
                    <a:pt x="194" y="6"/>
                  </a:lnTo>
                  <a:lnTo>
                    <a:pt x="196" y="2"/>
                  </a:lnTo>
                  <a:lnTo>
                    <a:pt x="316" y="2"/>
                  </a:lnTo>
                  <a:lnTo>
                    <a:pt x="318" y="18"/>
                  </a:lnTo>
                  <a:lnTo>
                    <a:pt x="314" y="80"/>
                  </a:lnTo>
                  <a:lnTo>
                    <a:pt x="304" y="122"/>
                  </a:lnTo>
                  <a:lnTo>
                    <a:pt x="300" y="186"/>
                  </a:lnTo>
                  <a:lnTo>
                    <a:pt x="312" y="256"/>
                  </a:lnTo>
                  <a:lnTo>
                    <a:pt x="310" y="278"/>
                  </a:lnTo>
                  <a:lnTo>
                    <a:pt x="322" y="306"/>
                  </a:lnTo>
                  <a:lnTo>
                    <a:pt x="342" y="294"/>
                  </a:lnTo>
                  <a:lnTo>
                    <a:pt x="352" y="272"/>
                  </a:lnTo>
                  <a:lnTo>
                    <a:pt x="368" y="270"/>
                  </a:lnTo>
                  <a:lnTo>
                    <a:pt x="364" y="244"/>
                  </a:lnTo>
                  <a:lnTo>
                    <a:pt x="378" y="222"/>
                  </a:lnTo>
                  <a:lnTo>
                    <a:pt x="390" y="232"/>
                  </a:lnTo>
                  <a:lnTo>
                    <a:pt x="416" y="266"/>
                  </a:lnTo>
                  <a:lnTo>
                    <a:pt x="432" y="278"/>
                  </a:lnTo>
                  <a:lnTo>
                    <a:pt x="448" y="268"/>
                  </a:lnTo>
                  <a:lnTo>
                    <a:pt x="458" y="270"/>
                  </a:lnTo>
                  <a:lnTo>
                    <a:pt x="464" y="332"/>
                  </a:lnTo>
                  <a:lnTo>
                    <a:pt x="482" y="314"/>
                  </a:lnTo>
                  <a:lnTo>
                    <a:pt x="480" y="292"/>
                  </a:lnTo>
                  <a:lnTo>
                    <a:pt x="488" y="262"/>
                  </a:lnTo>
                  <a:lnTo>
                    <a:pt x="500" y="258"/>
                  </a:lnTo>
                  <a:lnTo>
                    <a:pt x="528" y="256"/>
                  </a:lnTo>
                  <a:lnTo>
                    <a:pt x="542" y="256"/>
                  </a:lnTo>
                  <a:lnTo>
                    <a:pt x="566" y="248"/>
                  </a:lnTo>
                  <a:lnTo>
                    <a:pt x="592" y="220"/>
                  </a:lnTo>
                  <a:lnTo>
                    <a:pt x="594" y="214"/>
                  </a:lnTo>
                  <a:lnTo>
                    <a:pt x="590" y="200"/>
                  </a:lnTo>
                  <a:lnTo>
                    <a:pt x="550" y="204"/>
                  </a:lnTo>
                  <a:lnTo>
                    <a:pt x="528" y="190"/>
                  </a:lnTo>
                  <a:lnTo>
                    <a:pt x="534" y="182"/>
                  </a:lnTo>
                  <a:lnTo>
                    <a:pt x="560" y="160"/>
                  </a:lnTo>
                  <a:lnTo>
                    <a:pt x="552" y="152"/>
                  </a:lnTo>
                  <a:lnTo>
                    <a:pt x="560" y="142"/>
                  </a:lnTo>
                  <a:lnTo>
                    <a:pt x="576" y="142"/>
                  </a:lnTo>
                  <a:lnTo>
                    <a:pt x="580" y="128"/>
                  </a:lnTo>
                  <a:lnTo>
                    <a:pt x="594" y="108"/>
                  </a:lnTo>
                  <a:lnTo>
                    <a:pt x="596" y="94"/>
                  </a:lnTo>
                  <a:lnTo>
                    <a:pt x="610" y="90"/>
                  </a:lnTo>
                  <a:lnTo>
                    <a:pt x="614" y="62"/>
                  </a:lnTo>
                  <a:lnTo>
                    <a:pt x="630" y="66"/>
                  </a:lnTo>
                  <a:lnTo>
                    <a:pt x="632" y="56"/>
                  </a:lnTo>
                  <a:lnTo>
                    <a:pt x="624" y="36"/>
                  </a:lnTo>
                  <a:lnTo>
                    <a:pt x="632" y="14"/>
                  </a:lnTo>
                  <a:lnTo>
                    <a:pt x="660" y="0"/>
                  </a:lnTo>
                  <a:lnTo>
                    <a:pt x="1158" y="35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20120" y="3713760"/>
              <a:ext cx="284040" cy="232920"/>
            </a:xfrm>
            <a:custGeom>
              <a:avLst/>
              <a:gdLst/>
              <a:ahLst/>
              <a:rect l="l" t="t" r="r" b="b"/>
              <a:pathLst>
                <a:path w="1638" h="1372">
                  <a:moveTo>
                    <a:pt x="604" y="1184"/>
                  </a:moveTo>
                  <a:lnTo>
                    <a:pt x="598" y="1372"/>
                  </a:lnTo>
                  <a:lnTo>
                    <a:pt x="508" y="1370"/>
                  </a:lnTo>
                  <a:lnTo>
                    <a:pt x="400" y="1370"/>
                  </a:lnTo>
                  <a:lnTo>
                    <a:pt x="296" y="1370"/>
                  </a:lnTo>
                  <a:lnTo>
                    <a:pt x="196" y="1368"/>
                  </a:lnTo>
                  <a:lnTo>
                    <a:pt x="106" y="1368"/>
                  </a:lnTo>
                  <a:lnTo>
                    <a:pt x="22" y="1368"/>
                  </a:lnTo>
                  <a:lnTo>
                    <a:pt x="0" y="1370"/>
                  </a:lnTo>
                  <a:lnTo>
                    <a:pt x="12" y="1338"/>
                  </a:lnTo>
                  <a:lnTo>
                    <a:pt x="36" y="1330"/>
                  </a:lnTo>
                  <a:lnTo>
                    <a:pt x="68" y="1330"/>
                  </a:lnTo>
                  <a:lnTo>
                    <a:pt x="116" y="1318"/>
                  </a:lnTo>
                  <a:lnTo>
                    <a:pt x="192" y="1286"/>
                  </a:lnTo>
                  <a:lnTo>
                    <a:pt x="220" y="1262"/>
                  </a:lnTo>
                  <a:lnTo>
                    <a:pt x="248" y="1230"/>
                  </a:lnTo>
                  <a:lnTo>
                    <a:pt x="256" y="1224"/>
                  </a:lnTo>
                  <a:lnTo>
                    <a:pt x="284" y="1198"/>
                  </a:lnTo>
                  <a:lnTo>
                    <a:pt x="328" y="1180"/>
                  </a:lnTo>
                  <a:lnTo>
                    <a:pt x="356" y="1152"/>
                  </a:lnTo>
                  <a:lnTo>
                    <a:pt x="366" y="1136"/>
                  </a:lnTo>
                  <a:lnTo>
                    <a:pt x="376" y="1130"/>
                  </a:lnTo>
                  <a:lnTo>
                    <a:pt x="390" y="1116"/>
                  </a:lnTo>
                  <a:lnTo>
                    <a:pt x="422" y="1058"/>
                  </a:lnTo>
                  <a:lnTo>
                    <a:pt x="464" y="986"/>
                  </a:lnTo>
                  <a:lnTo>
                    <a:pt x="468" y="974"/>
                  </a:lnTo>
                  <a:lnTo>
                    <a:pt x="466" y="926"/>
                  </a:lnTo>
                  <a:lnTo>
                    <a:pt x="444" y="878"/>
                  </a:lnTo>
                  <a:lnTo>
                    <a:pt x="450" y="850"/>
                  </a:lnTo>
                  <a:lnTo>
                    <a:pt x="454" y="778"/>
                  </a:lnTo>
                  <a:lnTo>
                    <a:pt x="460" y="756"/>
                  </a:lnTo>
                  <a:lnTo>
                    <a:pt x="504" y="680"/>
                  </a:lnTo>
                  <a:lnTo>
                    <a:pt x="504" y="670"/>
                  </a:lnTo>
                  <a:lnTo>
                    <a:pt x="536" y="650"/>
                  </a:lnTo>
                  <a:lnTo>
                    <a:pt x="530" y="654"/>
                  </a:lnTo>
                  <a:lnTo>
                    <a:pt x="556" y="596"/>
                  </a:lnTo>
                  <a:lnTo>
                    <a:pt x="552" y="564"/>
                  </a:lnTo>
                  <a:lnTo>
                    <a:pt x="610" y="498"/>
                  </a:lnTo>
                  <a:lnTo>
                    <a:pt x="632" y="462"/>
                  </a:lnTo>
                  <a:lnTo>
                    <a:pt x="656" y="440"/>
                  </a:lnTo>
                  <a:lnTo>
                    <a:pt x="698" y="418"/>
                  </a:lnTo>
                  <a:lnTo>
                    <a:pt x="768" y="390"/>
                  </a:lnTo>
                  <a:lnTo>
                    <a:pt x="804" y="370"/>
                  </a:lnTo>
                  <a:lnTo>
                    <a:pt x="862" y="332"/>
                  </a:lnTo>
                  <a:lnTo>
                    <a:pt x="888" y="300"/>
                  </a:lnTo>
                  <a:lnTo>
                    <a:pt x="908" y="258"/>
                  </a:lnTo>
                  <a:lnTo>
                    <a:pt x="934" y="220"/>
                  </a:lnTo>
                  <a:lnTo>
                    <a:pt x="962" y="136"/>
                  </a:lnTo>
                  <a:lnTo>
                    <a:pt x="1004" y="26"/>
                  </a:lnTo>
                  <a:lnTo>
                    <a:pt x="1018" y="16"/>
                  </a:lnTo>
                  <a:lnTo>
                    <a:pt x="1070" y="0"/>
                  </a:lnTo>
                  <a:lnTo>
                    <a:pt x="1090" y="42"/>
                  </a:lnTo>
                  <a:lnTo>
                    <a:pt x="1122" y="80"/>
                  </a:lnTo>
                  <a:lnTo>
                    <a:pt x="1174" y="118"/>
                  </a:lnTo>
                  <a:lnTo>
                    <a:pt x="1200" y="124"/>
                  </a:lnTo>
                  <a:lnTo>
                    <a:pt x="1258" y="106"/>
                  </a:lnTo>
                  <a:lnTo>
                    <a:pt x="1276" y="110"/>
                  </a:lnTo>
                  <a:lnTo>
                    <a:pt x="1322" y="110"/>
                  </a:lnTo>
                  <a:lnTo>
                    <a:pt x="1360" y="106"/>
                  </a:lnTo>
                  <a:lnTo>
                    <a:pt x="1378" y="100"/>
                  </a:lnTo>
                  <a:lnTo>
                    <a:pt x="1398" y="110"/>
                  </a:lnTo>
                  <a:lnTo>
                    <a:pt x="1416" y="126"/>
                  </a:lnTo>
                  <a:lnTo>
                    <a:pt x="1440" y="132"/>
                  </a:lnTo>
                  <a:lnTo>
                    <a:pt x="1456" y="132"/>
                  </a:lnTo>
                  <a:lnTo>
                    <a:pt x="1466" y="130"/>
                  </a:lnTo>
                  <a:lnTo>
                    <a:pt x="1510" y="138"/>
                  </a:lnTo>
                  <a:lnTo>
                    <a:pt x="1510" y="138"/>
                  </a:lnTo>
                  <a:lnTo>
                    <a:pt x="1510" y="150"/>
                  </a:lnTo>
                  <a:lnTo>
                    <a:pt x="1516" y="162"/>
                  </a:lnTo>
                  <a:lnTo>
                    <a:pt x="1530" y="174"/>
                  </a:lnTo>
                  <a:lnTo>
                    <a:pt x="1534" y="182"/>
                  </a:lnTo>
                  <a:lnTo>
                    <a:pt x="1544" y="194"/>
                  </a:lnTo>
                  <a:lnTo>
                    <a:pt x="1552" y="198"/>
                  </a:lnTo>
                  <a:lnTo>
                    <a:pt x="1558" y="206"/>
                  </a:lnTo>
                  <a:lnTo>
                    <a:pt x="1556" y="212"/>
                  </a:lnTo>
                  <a:lnTo>
                    <a:pt x="1552" y="214"/>
                  </a:lnTo>
                  <a:lnTo>
                    <a:pt x="1550" y="218"/>
                  </a:lnTo>
                  <a:lnTo>
                    <a:pt x="1562" y="242"/>
                  </a:lnTo>
                  <a:lnTo>
                    <a:pt x="1556" y="260"/>
                  </a:lnTo>
                  <a:lnTo>
                    <a:pt x="1562" y="280"/>
                  </a:lnTo>
                  <a:lnTo>
                    <a:pt x="1566" y="308"/>
                  </a:lnTo>
                  <a:lnTo>
                    <a:pt x="1562" y="330"/>
                  </a:lnTo>
                  <a:lnTo>
                    <a:pt x="1564" y="352"/>
                  </a:lnTo>
                  <a:lnTo>
                    <a:pt x="1558" y="362"/>
                  </a:lnTo>
                  <a:lnTo>
                    <a:pt x="1574" y="382"/>
                  </a:lnTo>
                  <a:lnTo>
                    <a:pt x="1576" y="394"/>
                  </a:lnTo>
                  <a:lnTo>
                    <a:pt x="1576" y="406"/>
                  </a:lnTo>
                  <a:lnTo>
                    <a:pt x="1570" y="418"/>
                  </a:lnTo>
                  <a:lnTo>
                    <a:pt x="1570" y="434"/>
                  </a:lnTo>
                  <a:lnTo>
                    <a:pt x="1574" y="452"/>
                  </a:lnTo>
                  <a:lnTo>
                    <a:pt x="1582" y="470"/>
                  </a:lnTo>
                  <a:lnTo>
                    <a:pt x="1582" y="486"/>
                  </a:lnTo>
                  <a:lnTo>
                    <a:pt x="1598" y="522"/>
                  </a:lnTo>
                  <a:lnTo>
                    <a:pt x="1620" y="546"/>
                  </a:lnTo>
                  <a:lnTo>
                    <a:pt x="1638" y="558"/>
                  </a:lnTo>
                  <a:lnTo>
                    <a:pt x="1638" y="562"/>
                  </a:lnTo>
                  <a:lnTo>
                    <a:pt x="1626" y="568"/>
                  </a:lnTo>
                  <a:lnTo>
                    <a:pt x="1616" y="586"/>
                  </a:lnTo>
                  <a:lnTo>
                    <a:pt x="1614" y="604"/>
                  </a:lnTo>
                  <a:lnTo>
                    <a:pt x="1620" y="618"/>
                  </a:lnTo>
                  <a:lnTo>
                    <a:pt x="1620" y="622"/>
                  </a:lnTo>
                  <a:lnTo>
                    <a:pt x="1612" y="624"/>
                  </a:lnTo>
                  <a:lnTo>
                    <a:pt x="1596" y="618"/>
                  </a:lnTo>
                  <a:lnTo>
                    <a:pt x="1566" y="618"/>
                  </a:lnTo>
                  <a:lnTo>
                    <a:pt x="1538" y="612"/>
                  </a:lnTo>
                  <a:lnTo>
                    <a:pt x="1526" y="616"/>
                  </a:lnTo>
                  <a:lnTo>
                    <a:pt x="1452" y="616"/>
                  </a:lnTo>
                  <a:lnTo>
                    <a:pt x="1426" y="624"/>
                  </a:lnTo>
                  <a:lnTo>
                    <a:pt x="1418" y="630"/>
                  </a:lnTo>
                  <a:lnTo>
                    <a:pt x="1408" y="634"/>
                  </a:lnTo>
                  <a:lnTo>
                    <a:pt x="1390" y="626"/>
                  </a:lnTo>
                  <a:lnTo>
                    <a:pt x="1386" y="628"/>
                  </a:lnTo>
                  <a:lnTo>
                    <a:pt x="1378" y="642"/>
                  </a:lnTo>
                  <a:lnTo>
                    <a:pt x="1380" y="656"/>
                  </a:lnTo>
                  <a:lnTo>
                    <a:pt x="1378" y="672"/>
                  </a:lnTo>
                  <a:lnTo>
                    <a:pt x="1374" y="678"/>
                  </a:lnTo>
                  <a:lnTo>
                    <a:pt x="1340" y="692"/>
                  </a:lnTo>
                  <a:lnTo>
                    <a:pt x="1320" y="698"/>
                  </a:lnTo>
                  <a:lnTo>
                    <a:pt x="1302" y="700"/>
                  </a:lnTo>
                  <a:lnTo>
                    <a:pt x="1286" y="696"/>
                  </a:lnTo>
                  <a:lnTo>
                    <a:pt x="1272" y="696"/>
                  </a:lnTo>
                  <a:lnTo>
                    <a:pt x="1260" y="706"/>
                  </a:lnTo>
                  <a:lnTo>
                    <a:pt x="1256" y="718"/>
                  </a:lnTo>
                  <a:lnTo>
                    <a:pt x="1256" y="736"/>
                  </a:lnTo>
                  <a:lnTo>
                    <a:pt x="1260" y="742"/>
                  </a:lnTo>
                  <a:lnTo>
                    <a:pt x="1272" y="744"/>
                  </a:lnTo>
                  <a:lnTo>
                    <a:pt x="1274" y="748"/>
                  </a:lnTo>
                  <a:lnTo>
                    <a:pt x="1264" y="762"/>
                  </a:lnTo>
                  <a:lnTo>
                    <a:pt x="1258" y="788"/>
                  </a:lnTo>
                  <a:lnTo>
                    <a:pt x="1264" y="792"/>
                  </a:lnTo>
                  <a:lnTo>
                    <a:pt x="1268" y="786"/>
                  </a:lnTo>
                  <a:lnTo>
                    <a:pt x="1274" y="788"/>
                  </a:lnTo>
                  <a:lnTo>
                    <a:pt x="1278" y="796"/>
                  </a:lnTo>
                  <a:lnTo>
                    <a:pt x="1288" y="804"/>
                  </a:lnTo>
                  <a:lnTo>
                    <a:pt x="1292" y="814"/>
                  </a:lnTo>
                  <a:lnTo>
                    <a:pt x="1286" y="822"/>
                  </a:lnTo>
                  <a:lnTo>
                    <a:pt x="1234" y="832"/>
                  </a:lnTo>
                  <a:lnTo>
                    <a:pt x="1170" y="876"/>
                  </a:lnTo>
                  <a:lnTo>
                    <a:pt x="1154" y="878"/>
                  </a:lnTo>
                  <a:lnTo>
                    <a:pt x="1118" y="892"/>
                  </a:lnTo>
                  <a:lnTo>
                    <a:pt x="1096" y="912"/>
                  </a:lnTo>
                  <a:lnTo>
                    <a:pt x="1084" y="932"/>
                  </a:lnTo>
                  <a:lnTo>
                    <a:pt x="1084" y="940"/>
                  </a:lnTo>
                  <a:lnTo>
                    <a:pt x="1076" y="954"/>
                  </a:lnTo>
                  <a:lnTo>
                    <a:pt x="1064" y="968"/>
                  </a:lnTo>
                  <a:lnTo>
                    <a:pt x="1046" y="982"/>
                  </a:lnTo>
                  <a:lnTo>
                    <a:pt x="1006" y="1000"/>
                  </a:lnTo>
                  <a:lnTo>
                    <a:pt x="964" y="1008"/>
                  </a:lnTo>
                  <a:lnTo>
                    <a:pt x="942" y="1008"/>
                  </a:lnTo>
                  <a:lnTo>
                    <a:pt x="930" y="1014"/>
                  </a:lnTo>
                  <a:lnTo>
                    <a:pt x="890" y="1010"/>
                  </a:lnTo>
                  <a:lnTo>
                    <a:pt x="884" y="1022"/>
                  </a:lnTo>
                  <a:lnTo>
                    <a:pt x="884" y="1046"/>
                  </a:lnTo>
                  <a:lnTo>
                    <a:pt x="880" y="1048"/>
                  </a:lnTo>
                  <a:lnTo>
                    <a:pt x="858" y="1048"/>
                  </a:lnTo>
                  <a:lnTo>
                    <a:pt x="844" y="1040"/>
                  </a:lnTo>
                  <a:lnTo>
                    <a:pt x="828" y="1044"/>
                  </a:lnTo>
                  <a:lnTo>
                    <a:pt x="812" y="1040"/>
                  </a:lnTo>
                  <a:lnTo>
                    <a:pt x="800" y="1048"/>
                  </a:lnTo>
                  <a:lnTo>
                    <a:pt x="786" y="1066"/>
                  </a:lnTo>
                  <a:lnTo>
                    <a:pt x="768" y="1074"/>
                  </a:lnTo>
                  <a:lnTo>
                    <a:pt x="750" y="1090"/>
                  </a:lnTo>
                  <a:lnTo>
                    <a:pt x="720" y="1092"/>
                  </a:lnTo>
                  <a:lnTo>
                    <a:pt x="668" y="1128"/>
                  </a:lnTo>
                  <a:lnTo>
                    <a:pt x="604" y="1184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96720" y="4455720"/>
              <a:ext cx="76320" cy="85680"/>
            </a:xfrm>
            <a:custGeom>
              <a:avLst/>
              <a:gdLst/>
              <a:ahLst/>
              <a:rect l="l" t="t" r="r" b="b"/>
              <a:pathLst>
                <a:path w="434" h="506">
                  <a:moveTo>
                    <a:pt x="8" y="148"/>
                  </a:moveTo>
                  <a:lnTo>
                    <a:pt x="22" y="154"/>
                  </a:lnTo>
                  <a:lnTo>
                    <a:pt x="38" y="154"/>
                  </a:lnTo>
                  <a:lnTo>
                    <a:pt x="44" y="154"/>
                  </a:lnTo>
                  <a:lnTo>
                    <a:pt x="50" y="148"/>
                  </a:lnTo>
                  <a:lnTo>
                    <a:pt x="62" y="118"/>
                  </a:lnTo>
                  <a:lnTo>
                    <a:pt x="76" y="116"/>
                  </a:lnTo>
                  <a:lnTo>
                    <a:pt x="82" y="110"/>
                  </a:lnTo>
                  <a:lnTo>
                    <a:pt x="84" y="98"/>
                  </a:lnTo>
                  <a:lnTo>
                    <a:pt x="96" y="90"/>
                  </a:lnTo>
                  <a:lnTo>
                    <a:pt x="112" y="68"/>
                  </a:lnTo>
                  <a:lnTo>
                    <a:pt x="122" y="46"/>
                  </a:lnTo>
                  <a:lnTo>
                    <a:pt x="120" y="22"/>
                  </a:lnTo>
                  <a:lnTo>
                    <a:pt x="130" y="16"/>
                  </a:lnTo>
                  <a:lnTo>
                    <a:pt x="152" y="16"/>
                  </a:lnTo>
                  <a:lnTo>
                    <a:pt x="160" y="22"/>
                  </a:lnTo>
                  <a:lnTo>
                    <a:pt x="170" y="22"/>
                  </a:lnTo>
                  <a:lnTo>
                    <a:pt x="184" y="16"/>
                  </a:lnTo>
                  <a:lnTo>
                    <a:pt x="200" y="14"/>
                  </a:lnTo>
                  <a:lnTo>
                    <a:pt x="202" y="0"/>
                  </a:lnTo>
                  <a:lnTo>
                    <a:pt x="268" y="0"/>
                  </a:lnTo>
                  <a:lnTo>
                    <a:pt x="302" y="4"/>
                  </a:lnTo>
                  <a:lnTo>
                    <a:pt x="310" y="26"/>
                  </a:lnTo>
                  <a:lnTo>
                    <a:pt x="328" y="36"/>
                  </a:lnTo>
                  <a:lnTo>
                    <a:pt x="336" y="52"/>
                  </a:lnTo>
                  <a:lnTo>
                    <a:pt x="348" y="62"/>
                  </a:lnTo>
                  <a:lnTo>
                    <a:pt x="348" y="72"/>
                  </a:lnTo>
                  <a:lnTo>
                    <a:pt x="356" y="80"/>
                  </a:lnTo>
                  <a:lnTo>
                    <a:pt x="350" y="88"/>
                  </a:lnTo>
                  <a:lnTo>
                    <a:pt x="354" y="96"/>
                  </a:lnTo>
                  <a:lnTo>
                    <a:pt x="372" y="102"/>
                  </a:lnTo>
                  <a:lnTo>
                    <a:pt x="378" y="108"/>
                  </a:lnTo>
                  <a:lnTo>
                    <a:pt x="378" y="114"/>
                  </a:lnTo>
                  <a:lnTo>
                    <a:pt x="374" y="122"/>
                  </a:lnTo>
                  <a:lnTo>
                    <a:pt x="378" y="136"/>
                  </a:lnTo>
                  <a:lnTo>
                    <a:pt x="374" y="140"/>
                  </a:lnTo>
                  <a:lnTo>
                    <a:pt x="378" y="152"/>
                  </a:lnTo>
                  <a:lnTo>
                    <a:pt x="382" y="162"/>
                  </a:lnTo>
                  <a:lnTo>
                    <a:pt x="394" y="170"/>
                  </a:lnTo>
                  <a:lnTo>
                    <a:pt x="398" y="180"/>
                  </a:lnTo>
                  <a:lnTo>
                    <a:pt x="402" y="214"/>
                  </a:lnTo>
                  <a:lnTo>
                    <a:pt x="400" y="218"/>
                  </a:lnTo>
                  <a:lnTo>
                    <a:pt x="386" y="222"/>
                  </a:lnTo>
                  <a:lnTo>
                    <a:pt x="378" y="256"/>
                  </a:lnTo>
                  <a:lnTo>
                    <a:pt x="372" y="272"/>
                  </a:lnTo>
                  <a:lnTo>
                    <a:pt x="372" y="282"/>
                  </a:lnTo>
                  <a:lnTo>
                    <a:pt x="406" y="266"/>
                  </a:lnTo>
                  <a:lnTo>
                    <a:pt x="422" y="252"/>
                  </a:lnTo>
                  <a:lnTo>
                    <a:pt x="424" y="252"/>
                  </a:lnTo>
                  <a:lnTo>
                    <a:pt x="426" y="258"/>
                  </a:lnTo>
                  <a:lnTo>
                    <a:pt x="426" y="270"/>
                  </a:lnTo>
                  <a:lnTo>
                    <a:pt x="426" y="284"/>
                  </a:lnTo>
                  <a:lnTo>
                    <a:pt x="434" y="296"/>
                  </a:lnTo>
                  <a:lnTo>
                    <a:pt x="432" y="300"/>
                  </a:lnTo>
                  <a:lnTo>
                    <a:pt x="406" y="304"/>
                  </a:lnTo>
                  <a:lnTo>
                    <a:pt x="396" y="322"/>
                  </a:lnTo>
                  <a:lnTo>
                    <a:pt x="386" y="326"/>
                  </a:lnTo>
                  <a:lnTo>
                    <a:pt x="388" y="374"/>
                  </a:lnTo>
                  <a:lnTo>
                    <a:pt x="378" y="378"/>
                  </a:lnTo>
                  <a:lnTo>
                    <a:pt x="372" y="390"/>
                  </a:lnTo>
                  <a:lnTo>
                    <a:pt x="362" y="394"/>
                  </a:lnTo>
                  <a:lnTo>
                    <a:pt x="352" y="414"/>
                  </a:lnTo>
                  <a:lnTo>
                    <a:pt x="336" y="420"/>
                  </a:lnTo>
                  <a:lnTo>
                    <a:pt x="314" y="446"/>
                  </a:lnTo>
                  <a:lnTo>
                    <a:pt x="304" y="454"/>
                  </a:lnTo>
                  <a:lnTo>
                    <a:pt x="292" y="454"/>
                  </a:lnTo>
                  <a:lnTo>
                    <a:pt x="288" y="462"/>
                  </a:lnTo>
                  <a:lnTo>
                    <a:pt x="288" y="476"/>
                  </a:lnTo>
                  <a:lnTo>
                    <a:pt x="282" y="480"/>
                  </a:lnTo>
                  <a:lnTo>
                    <a:pt x="276" y="498"/>
                  </a:lnTo>
                  <a:lnTo>
                    <a:pt x="266" y="506"/>
                  </a:lnTo>
                  <a:lnTo>
                    <a:pt x="260" y="506"/>
                  </a:lnTo>
                  <a:lnTo>
                    <a:pt x="234" y="496"/>
                  </a:lnTo>
                  <a:lnTo>
                    <a:pt x="156" y="450"/>
                  </a:lnTo>
                  <a:lnTo>
                    <a:pt x="134" y="444"/>
                  </a:lnTo>
                  <a:lnTo>
                    <a:pt x="130" y="426"/>
                  </a:lnTo>
                  <a:lnTo>
                    <a:pt x="120" y="412"/>
                  </a:lnTo>
                  <a:lnTo>
                    <a:pt x="80" y="376"/>
                  </a:lnTo>
                  <a:lnTo>
                    <a:pt x="62" y="366"/>
                  </a:lnTo>
                  <a:lnTo>
                    <a:pt x="58" y="360"/>
                  </a:lnTo>
                  <a:lnTo>
                    <a:pt x="60" y="342"/>
                  </a:lnTo>
                  <a:lnTo>
                    <a:pt x="54" y="334"/>
                  </a:lnTo>
                  <a:lnTo>
                    <a:pt x="54" y="324"/>
                  </a:lnTo>
                  <a:lnTo>
                    <a:pt x="40" y="310"/>
                  </a:lnTo>
                  <a:lnTo>
                    <a:pt x="24" y="308"/>
                  </a:lnTo>
                  <a:lnTo>
                    <a:pt x="12" y="282"/>
                  </a:lnTo>
                  <a:lnTo>
                    <a:pt x="12" y="260"/>
                  </a:lnTo>
                  <a:lnTo>
                    <a:pt x="20" y="260"/>
                  </a:lnTo>
                  <a:lnTo>
                    <a:pt x="24" y="264"/>
                  </a:lnTo>
                  <a:lnTo>
                    <a:pt x="32" y="264"/>
                  </a:lnTo>
                  <a:lnTo>
                    <a:pt x="32" y="260"/>
                  </a:lnTo>
                  <a:lnTo>
                    <a:pt x="30" y="250"/>
                  </a:lnTo>
                  <a:lnTo>
                    <a:pt x="18" y="248"/>
                  </a:lnTo>
                  <a:lnTo>
                    <a:pt x="12" y="236"/>
                  </a:lnTo>
                  <a:lnTo>
                    <a:pt x="14" y="216"/>
                  </a:lnTo>
                  <a:lnTo>
                    <a:pt x="14" y="196"/>
                  </a:lnTo>
                  <a:lnTo>
                    <a:pt x="10" y="190"/>
                  </a:lnTo>
                  <a:lnTo>
                    <a:pt x="0" y="180"/>
                  </a:lnTo>
                  <a:lnTo>
                    <a:pt x="0" y="168"/>
                  </a:lnTo>
                  <a:lnTo>
                    <a:pt x="8" y="14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14080" y="4434120"/>
              <a:ext cx="152640" cy="183600"/>
            </a:xfrm>
            <a:custGeom>
              <a:avLst/>
              <a:gdLst/>
              <a:ahLst/>
              <a:rect l="l" t="t" r="r" b="b"/>
              <a:pathLst>
                <a:path w="880" h="1080">
                  <a:moveTo>
                    <a:pt x="146" y="1066"/>
                  </a:moveTo>
                  <a:lnTo>
                    <a:pt x="148" y="1074"/>
                  </a:lnTo>
                  <a:lnTo>
                    <a:pt x="190" y="1080"/>
                  </a:lnTo>
                  <a:lnTo>
                    <a:pt x="252" y="1040"/>
                  </a:lnTo>
                  <a:lnTo>
                    <a:pt x="314" y="1012"/>
                  </a:lnTo>
                  <a:lnTo>
                    <a:pt x="352" y="990"/>
                  </a:lnTo>
                  <a:lnTo>
                    <a:pt x="416" y="970"/>
                  </a:lnTo>
                  <a:lnTo>
                    <a:pt x="450" y="968"/>
                  </a:lnTo>
                  <a:lnTo>
                    <a:pt x="542" y="946"/>
                  </a:lnTo>
                  <a:lnTo>
                    <a:pt x="568" y="944"/>
                  </a:lnTo>
                  <a:lnTo>
                    <a:pt x="626" y="934"/>
                  </a:lnTo>
                  <a:lnTo>
                    <a:pt x="672" y="934"/>
                  </a:lnTo>
                  <a:lnTo>
                    <a:pt x="714" y="950"/>
                  </a:lnTo>
                  <a:lnTo>
                    <a:pt x="768" y="962"/>
                  </a:lnTo>
                  <a:lnTo>
                    <a:pt x="776" y="962"/>
                  </a:lnTo>
                  <a:lnTo>
                    <a:pt x="784" y="956"/>
                  </a:lnTo>
                  <a:lnTo>
                    <a:pt x="796" y="938"/>
                  </a:lnTo>
                  <a:lnTo>
                    <a:pt x="800" y="936"/>
                  </a:lnTo>
                  <a:lnTo>
                    <a:pt x="816" y="936"/>
                  </a:lnTo>
                  <a:lnTo>
                    <a:pt x="826" y="942"/>
                  </a:lnTo>
                  <a:lnTo>
                    <a:pt x="842" y="940"/>
                  </a:lnTo>
                  <a:lnTo>
                    <a:pt x="842" y="894"/>
                  </a:lnTo>
                  <a:lnTo>
                    <a:pt x="836" y="858"/>
                  </a:lnTo>
                  <a:lnTo>
                    <a:pt x="830" y="850"/>
                  </a:lnTo>
                  <a:lnTo>
                    <a:pt x="810" y="848"/>
                  </a:lnTo>
                  <a:lnTo>
                    <a:pt x="800" y="834"/>
                  </a:lnTo>
                  <a:lnTo>
                    <a:pt x="792" y="782"/>
                  </a:lnTo>
                  <a:lnTo>
                    <a:pt x="772" y="722"/>
                  </a:lnTo>
                  <a:lnTo>
                    <a:pt x="772" y="698"/>
                  </a:lnTo>
                  <a:lnTo>
                    <a:pt x="776" y="644"/>
                  </a:lnTo>
                  <a:lnTo>
                    <a:pt x="784" y="624"/>
                  </a:lnTo>
                  <a:lnTo>
                    <a:pt x="802" y="604"/>
                  </a:lnTo>
                  <a:lnTo>
                    <a:pt x="808" y="588"/>
                  </a:lnTo>
                  <a:lnTo>
                    <a:pt x="810" y="554"/>
                  </a:lnTo>
                  <a:lnTo>
                    <a:pt x="814" y="528"/>
                  </a:lnTo>
                  <a:lnTo>
                    <a:pt x="832" y="488"/>
                  </a:lnTo>
                  <a:lnTo>
                    <a:pt x="838" y="460"/>
                  </a:lnTo>
                  <a:lnTo>
                    <a:pt x="848" y="454"/>
                  </a:lnTo>
                  <a:lnTo>
                    <a:pt x="856" y="440"/>
                  </a:lnTo>
                  <a:lnTo>
                    <a:pt x="864" y="434"/>
                  </a:lnTo>
                  <a:lnTo>
                    <a:pt x="864" y="420"/>
                  </a:lnTo>
                  <a:lnTo>
                    <a:pt x="880" y="416"/>
                  </a:lnTo>
                  <a:lnTo>
                    <a:pt x="872" y="368"/>
                  </a:lnTo>
                  <a:lnTo>
                    <a:pt x="854" y="284"/>
                  </a:lnTo>
                  <a:lnTo>
                    <a:pt x="846" y="276"/>
                  </a:lnTo>
                  <a:lnTo>
                    <a:pt x="836" y="272"/>
                  </a:lnTo>
                  <a:lnTo>
                    <a:pt x="838" y="264"/>
                  </a:lnTo>
                  <a:lnTo>
                    <a:pt x="850" y="248"/>
                  </a:lnTo>
                  <a:lnTo>
                    <a:pt x="842" y="232"/>
                  </a:lnTo>
                  <a:lnTo>
                    <a:pt x="848" y="222"/>
                  </a:lnTo>
                  <a:lnTo>
                    <a:pt x="848" y="204"/>
                  </a:lnTo>
                  <a:lnTo>
                    <a:pt x="840" y="210"/>
                  </a:lnTo>
                  <a:lnTo>
                    <a:pt x="824" y="210"/>
                  </a:lnTo>
                  <a:lnTo>
                    <a:pt x="818" y="206"/>
                  </a:lnTo>
                  <a:lnTo>
                    <a:pt x="804" y="176"/>
                  </a:lnTo>
                  <a:lnTo>
                    <a:pt x="802" y="162"/>
                  </a:lnTo>
                  <a:lnTo>
                    <a:pt x="790" y="158"/>
                  </a:lnTo>
                  <a:lnTo>
                    <a:pt x="776" y="130"/>
                  </a:lnTo>
                  <a:lnTo>
                    <a:pt x="770" y="130"/>
                  </a:lnTo>
                  <a:lnTo>
                    <a:pt x="758" y="142"/>
                  </a:lnTo>
                  <a:lnTo>
                    <a:pt x="728" y="130"/>
                  </a:lnTo>
                  <a:lnTo>
                    <a:pt x="710" y="126"/>
                  </a:lnTo>
                  <a:lnTo>
                    <a:pt x="686" y="138"/>
                  </a:lnTo>
                  <a:lnTo>
                    <a:pt x="652" y="146"/>
                  </a:lnTo>
                  <a:lnTo>
                    <a:pt x="632" y="156"/>
                  </a:lnTo>
                  <a:lnTo>
                    <a:pt x="618" y="158"/>
                  </a:lnTo>
                  <a:lnTo>
                    <a:pt x="610" y="176"/>
                  </a:lnTo>
                  <a:lnTo>
                    <a:pt x="602" y="186"/>
                  </a:lnTo>
                  <a:lnTo>
                    <a:pt x="582" y="174"/>
                  </a:lnTo>
                  <a:lnTo>
                    <a:pt x="580" y="162"/>
                  </a:lnTo>
                  <a:lnTo>
                    <a:pt x="574" y="162"/>
                  </a:lnTo>
                  <a:lnTo>
                    <a:pt x="570" y="170"/>
                  </a:lnTo>
                  <a:lnTo>
                    <a:pt x="560" y="170"/>
                  </a:lnTo>
                  <a:lnTo>
                    <a:pt x="558" y="172"/>
                  </a:lnTo>
                  <a:lnTo>
                    <a:pt x="540" y="162"/>
                  </a:lnTo>
                  <a:lnTo>
                    <a:pt x="538" y="150"/>
                  </a:lnTo>
                  <a:lnTo>
                    <a:pt x="528" y="140"/>
                  </a:lnTo>
                  <a:lnTo>
                    <a:pt x="520" y="140"/>
                  </a:lnTo>
                  <a:lnTo>
                    <a:pt x="520" y="124"/>
                  </a:lnTo>
                  <a:lnTo>
                    <a:pt x="516" y="116"/>
                  </a:lnTo>
                  <a:lnTo>
                    <a:pt x="510" y="112"/>
                  </a:lnTo>
                  <a:lnTo>
                    <a:pt x="500" y="94"/>
                  </a:lnTo>
                  <a:lnTo>
                    <a:pt x="496" y="92"/>
                  </a:lnTo>
                  <a:lnTo>
                    <a:pt x="492" y="86"/>
                  </a:lnTo>
                  <a:lnTo>
                    <a:pt x="492" y="70"/>
                  </a:lnTo>
                  <a:lnTo>
                    <a:pt x="488" y="66"/>
                  </a:lnTo>
                  <a:lnTo>
                    <a:pt x="484" y="66"/>
                  </a:lnTo>
                  <a:lnTo>
                    <a:pt x="454" y="72"/>
                  </a:lnTo>
                  <a:lnTo>
                    <a:pt x="448" y="68"/>
                  </a:lnTo>
                  <a:lnTo>
                    <a:pt x="438" y="52"/>
                  </a:lnTo>
                  <a:lnTo>
                    <a:pt x="432" y="46"/>
                  </a:lnTo>
                  <a:lnTo>
                    <a:pt x="404" y="46"/>
                  </a:lnTo>
                  <a:lnTo>
                    <a:pt x="396" y="48"/>
                  </a:lnTo>
                  <a:lnTo>
                    <a:pt x="386" y="66"/>
                  </a:lnTo>
                  <a:lnTo>
                    <a:pt x="378" y="68"/>
                  </a:lnTo>
                  <a:lnTo>
                    <a:pt x="368" y="82"/>
                  </a:lnTo>
                  <a:lnTo>
                    <a:pt x="344" y="80"/>
                  </a:lnTo>
                  <a:lnTo>
                    <a:pt x="346" y="74"/>
                  </a:lnTo>
                  <a:lnTo>
                    <a:pt x="346" y="38"/>
                  </a:lnTo>
                  <a:lnTo>
                    <a:pt x="340" y="28"/>
                  </a:lnTo>
                  <a:lnTo>
                    <a:pt x="342" y="24"/>
                  </a:lnTo>
                  <a:lnTo>
                    <a:pt x="342" y="8"/>
                  </a:lnTo>
                  <a:lnTo>
                    <a:pt x="336" y="0"/>
                  </a:lnTo>
                  <a:lnTo>
                    <a:pt x="328" y="2"/>
                  </a:lnTo>
                  <a:lnTo>
                    <a:pt x="314" y="2"/>
                  </a:lnTo>
                  <a:lnTo>
                    <a:pt x="306" y="24"/>
                  </a:lnTo>
                  <a:lnTo>
                    <a:pt x="300" y="24"/>
                  </a:lnTo>
                  <a:lnTo>
                    <a:pt x="288" y="14"/>
                  </a:lnTo>
                  <a:lnTo>
                    <a:pt x="280" y="14"/>
                  </a:lnTo>
                  <a:lnTo>
                    <a:pt x="274" y="22"/>
                  </a:lnTo>
                  <a:lnTo>
                    <a:pt x="274" y="36"/>
                  </a:lnTo>
                  <a:lnTo>
                    <a:pt x="278" y="52"/>
                  </a:lnTo>
                  <a:lnTo>
                    <a:pt x="272" y="62"/>
                  </a:lnTo>
                  <a:lnTo>
                    <a:pt x="244" y="62"/>
                  </a:lnTo>
                  <a:lnTo>
                    <a:pt x="228" y="68"/>
                  </a:lnTo>
                  <a:lnTo>
                    <a:pt x="228" y="80"/>
                  </a:lnTo>
                  <a:lnTo>
                    <a:pt x="222" y="94"/>
                  </a:lnTo>
                  <a:lnTo>
                    <a:pt x="212" y="92"/>
                  </a:lnTo>
                  <a:lnTo>
                    <a:pt x="202" y="86"/>
                  </a:lnTo>
                  <a:lnTo>
                    <a:pt x="192" y="72"/>
                  </a:lnTo>
                  <a:lnTo>
                    <a:pt x="186" y="72"/>
                  </a:lnTo>
                  <a:lnTo>
                    <a:pt x="180" y="76"/>
                  </a:lnTo>
                  <a:lnTo>
                    <a:pt x="178" y="80"/>
                  </a:lnTo>
                  <a:lnTo>
                    <a:pt x="174" y="80"/>
                  </a:lnTo>
                  <a:lnTo>
                    <a:pt x="172" y="62"/>
                  </a:lnTo>
                  <a:lnTo>
                    <a:pt x="162" y="44"/>
                  </a:lnTo>
                  <a:lnTo>
                    <a:pt x="152" y="42"/>
                  </a:lnTo>
                  <a:lnTo>
                    <a:pt x="142" y="52"/>
                  </a:lnTo>
                  <a:lnTo>
                    <a:pt x="130" y="50"/>
                  </a:lnTo>
                  <a:lnTo>
                    <a:pt x="124" y="52"/>
                  </a:lnTo>
                  <a:lnTo>
                    <a:pt x="118" y="60"/>
                  </a:lnTo>
                  <a:lnTo>
                    <a:pt x="114" y="72"/>
                  </a:lnTo>
                  <a:lnTo>
                    <a:pt x="106" y="84"/>
                  </a:lnTo>
                  <a:lnTo>
                    <a:pt x="90" y="88"/>
                  </a:lnTo>
                  <a:lnTo>
                    <a:pt x="88" y="96"/>
                  </a:lnTo>
                  <a:lnTo>
                    <a:pt x="70" y="116"/>
                  </a:lnTo>
                  <a:lnTo>
                    <a:pt x="70" y="124"/>
                  </a:lnTo>
                  <a:lnTo>
                    <a:pt x="64" y="132"/>
                  </a:lnTo>
                  <a:lnTo>
                    <a:pt x="66" y="156"/>
                  </a:lnTo>
                  <a:lnTo>
                    <a:pt x="64" y="210"/>
                  </a:lnTo>
                  <a:lnTo>
                    <a:pt x="66" y="216"/>
                  </a:lnTo>
                  <a:lnTo>
                    <a:pt x="84" y="230"/>
                  </a:lnTo>
                  <a:lnTo>
                    <a:pt x="104" y="228"/>
                  </a:lnTo>
                  <a:lnTo>
                    <a:pt x="100" y="268"/>
                  </a:lnTo>
                  <a:lnTo>
                    <a:pt x="108" y="266"/>
                  </a:lnTo>
                  <a:lnTo>
                    <a:pt x="118" y="282"/>
                  </a:lnTo>
                  <a:lnTo>
                    <a:pt x="118" y="286"/>
                  </a:lnTo>
                  <a:lnTo>
                    <a:pt x="112" y="290"/>
                  </a:lnTo>
                  <a:lnTo>
                    <a:pt x="104" y="302"/>
                  </a:lnTo>
                  <a:lnTo>
                    <a:pt x="94" y="332"/>
                  </a:lnTo>
                  <a:lnTo>
                    <a:pt x="100" y="328"/>
                  </a:lnTo>
                  <a:lnTo>
                    <a:pt x="108" y="334"/>
                  </a:lnTo>
                  <a:lnTo>
                    <a:pt x="116" y="334"/>
                  </a:lnTo>
                  <a:lnTo>
                    <a:pt x="116" y="352"/>
                  </a:lnTo>
                  <a:lnTo>
                    <a:pt x="126" y="362"/>
                  </a:lnTo>
                  <a:lnTo>
                    <a:pt x="124" y="378"/>
                  </a:lnTo>
                  <a:lnTo>
                    <a:pt x="126" y="406"/>
                  </a:lnTo>
                  <a:lnTo>
                    <a:pt x="122" y="406"/>
                  </a:lnTo>
                  <a:lnTo>
                    <a:pt x="116" y="388"/>
                  </a:lnTo>
                  <a:lnTo>
                    <a:pt x="108" y="390"/>
                  </a:lnTo>
                  <a:lnTo>
                    <a:pt x="100" y="388"/>
                  </a:lnTo>
                  <a:lnTo>
                    <a:pt x="92" y="378"/>
                  </a:lnTo>
                  <a:lnTo>
                    <a:pt x="68" y="376"/>
                  </a:lnTo>
                  <a:lnTo>
                    <a:pt x="48" y="384"/>
                  </a:lnTo>
                  <a:lnTo>
                    <a:pt x="48" y="388"/>
                  </a:lnTo>
                  <a:lnTo>
                    <a:pt x="52" y="390"/>
                  </a:lnTo>
                  <a:lnTo>
                    <a:pt x="54" y="406"/>
                  </a:lnTo>
                  <a:lnTo>
                    <a:pt x="48" y="420"/>
                  </a:lnTo>
                  <a:lnTo>
                    <a:pt x="52" y="426"/>
                  </a:lnTo>
                  <a:lnTo>
                    <a:pt x="70" y="426"/>
                  </a:lnTo>
                  <a:lnTo>
                    <a:pt x="80" y="428"/>
                  </a:lnTo>
                  <a:lnTo>
                    <a:pt x="82" y="438"/>
                  </a:lnTo>
                  <a:lnTo>
                    <a:pt x="80" y="444"/>
                  </a:lnTo>
                  <a:lnTo>
                    <a:pt x="84" y="446"/>
                  </a:lnTo>
                  <a:lnTo>
                    <a:pt x="86" y="452"/>
                  </a:lnTo>
                  <a:lnTo>
                    <a:pt x="76" y="462"/>
                  </a:lnTo>
                  <a:lnTo>
                    <a:pt x="72" y="478"/>
                  </a:lnTo>
                  <a:lnTo>
                    <a:pt x="72" y="502"/>
                  </a:lnTo>
                  <a:lnTo>
                    <a:pt x="60" y="522"/>
                  </a:lnTo>
                  <a:lnTo>
                    <a:pt x="60" y="534"/>
                  </a:lnTo>
                  <a:lnTo>
                    <a:pt x="22" y="534"/>
                  </a:lnTo>
                  <a:lnTo>
                    <a:pt x="14" y="538"/>
                  </a:lnTo>
                  <a:lnTo>
                    <a:pt x="18" y="554"/>
                  </a:lnTo>
                  <a:lnTo>
                    <a:pt x="22" y="582"/>
                  </a:lnTo>
                  <a:lnTo>
                    <a:pt x="28" y="584"/>
                  </a:lnTo>
                  <a:lnTo>
                    <a:pt x="34" y="594"/>
                  </a:lnTo>
                  <a:lnTo>
                    <a:pt x="32" y="602"/>
                  </a:lnTo>
                  <a:lnTo>
                    <a:pt x="44" y="610"/>
                  </a:lnTo>
                  <a:lnTo>
                    <a:pt x="36" y="660"/>
                  </a:lnTo>
                  <a:lnTo>
                    <a:pt x="32" y="668"/>
                  </a:lnTo>
                  <a:lnTo>
                    <a:pt x="10" y="690"/>
                  </a:lnTo>
                  <a:lnTo>
                    <a:pt x="0" y="710"/>
                  </a:lnTo>
                  <a:lnTo>
                    <a:pt x="2" y="714"/>
                  </a:lnTo>
                  <a:lnTo>
                    <a:pt x="8" y="714"/>
                  </a:lnTo>
                  <a:lnTo>
                    <a:pt x="10" y="718"/>
                  </a:lnTo>
                  <a:lnTo>
                    <a:pt x="20" y="718"/>
                  </a:lnTo>
                  <a:lnTo>
                    <a:pt x="22" y="726"/>
                  </a:lnTo>
                  <a:lnTo>
                    <a:pt x="28" y="730"/>
                  </a:lnTo>
                  <a:lnTo>
                    <a:pt x="38" y="730"/>
                  </a:lnTo>
                  <a:lnTo>
                    <a:pt x="58" y="744"/>
                  </a:lnTo>
                  <a:lnTo>
                    <a:pt x="82" y="742"/>
                  </a:lnTo>
                  <a:lnTo>
                    <a:pt x="88" y="744"/>
                  </a:lnTo>
                  <a:lnTo>
                    <a:pt x="100" y="764"/>
                  </a:lnTo>
                  <a:lnTo>
                    <a:pt x="100" y="776"/>
                  </a:lnTo>
                  <a:lnTo>
                    <a:pt x="106" y="780"/>
                  </a:lnTo>
                  <a:lnTo>
                    <a:pt x="114" y="796"/>
                  </a:lnTo>
                  <a:lnTo>
                    <a:pt x="118" y="808"/>
                  </a:lnTo>
                  <a:lnTo>
                    <a:pt x="134" y="810"/>
                  </a:lnTo>
                  <a:lnTo>
                    <a:pt x="148" y="826"/>
                  </a:lnTo>
                  <a:lnTo>
                    <a:pt x="162" y="822"/>
                  </a:lnTo>
                  <a:lnTo>
                    <a:pt x="162" y="838"/>
                  </a:lnTo>
                  <a:lnTo>
                    <a:pt x="168" y="852"/>
                  </a:lnTo>
                  <a:lnTo>
                    <a:pt x="172" y="872"/>
                  </a:lnTo>
                  <a:lnTo>
                    <a:pt x="166" y="894"/>
                  </a:lnTo>
                  <a:lnTo>
                    <a:pt x="172" y="910"/>
                  </a:lnTo>
                  <a:lnTo>
                    <a:pt x="170" y="912"/>
                  </a:lnTo>
                  <a:lnTo>
                    <a:pt x="160" y="912"/>
                  </a:lnTo>
                  <a:lnTo>
                    <a:pt x="156" y="922"/>
                  </a:lnTo>
                  <a:lnTo>
                    <a:pt x="156" y="946"/>
                  </a:lnTo>
                  <a:lnTo>
                    <a:pt x="148" y="948"/>
                  </a:lnTo>
                  <a:lnTo>
                    <a:pt x="146" y="952"/>
                  </a:lnTo>
                  <a:lnTo>
                    <a:pt x="148" y="970"/>
                  </a:lnTo>
                  <a:lnTo>
                    <a:pt x="144" y="986"/>
                  </a:lnTo>
                  <a:lnTo>
                    <a:pt x="146" y="106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21440" y="4423320"/>
              <a:ext cx="54360" cy="145440"/>
            </a:xfrm>
            <a:custGeom>
              <a:avLst/>
              <a:gdLst/>
              <a:ahLst/>
              <a:rect l="l" t="t" r="r" b="b"/>
              <a:pathLst>
                <a:path w="312" h="856">
                  <a:moveTo>
                    <a:pt x="210" y="856"/>
                  </a:moveTo>
                  <a:lnTo>
                    <a:pt x="200" y="852"/>
                  </a:lnTo>
                  <a:lnTo>
                    <a:pt x="156" y="798"/>
                  </a:lnTo>
                  <a:lnTo>
                    <a:pt x="138" y="768"/>
                  </a:lnTo>
                  <a:lnTo>
                    <a:pt x="126" y="732"/>
                  </a:lnTo>
                  <a:lnTo>
                    <a:pt x="122" y="706"/>
                  </a:lnTo>
                  <a:lnTo>
                    <a:pt x="120" y="636"/>
                  </a:lnTo>
                  <a:lnTo>
                    <a:pt x="122" y="574"/>
                  </a:lnTo>
                  <a:lnTo>
                    <a:pt x="112" y="448"/>
                  </a:lnTo>
                  <a:lnTo>
                    <a:pt x="112" y="348"/>
                  </a:lnTo>
                  <a:lnTo>
                    <a:pt x="106" y="308"/>
                  </a:lnTo>
                  <a:lnTo>
                    <a:pt x="98" y="286"/>
                  </a:lnTo>
                  <a:lnTo>
                    <a:pt x="88" y="270"/>
                  </a:lnTo>
                  <a:lnTo>
                    <a:pt x="84" y="204"/>
                  </a:lnTo>
                  <a:lnTo>
                    <a:pt x="76" y="162"/>
                  </a:lnTo>
                  <a:lnTo>
                    <a:pt x="66" y="146"/>
                  </a:lnTo>
                  <a:lnTo>
                    <a:pt x="26" y="122"/>
                  </a:lnTo>
                  <a:lnTo>
                    <a:pt x="26" y="100"/>
                  </a:lnTo>
                  <a:lnTo>
                    <a:pt x="26" y="82"/>
                  </a:lnTo>
                  <a:lnTo>
                    <a:pt x="26" y="66"/>
                  </a:lnTo>
                  <a:lnTo>
                    <a:pt x="26" y="48"/>
                  </a:lnTo>
                  <a:lnTo>
                    <a:pt x="26" y="32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90" y="18"/>
                  </a:lnTo>
                  <a:lnTo>
                    <a:pt x="102" y="34"/>
                  </a:lnTo>
                  <a:lnTo>
                    <a:pt x="110" y="34"/>
                  </a:lnTo>
                  <a:lnTo>
                    <a:pt x="114" y="24"/>
                  </a:lnTo>
                  <a:lnTo>
                    <a:pt x="154" y="26"/>
                  </a:lnTo>
                  <a:lnTo>
                    <a:pt x="156" y="24"/>
                  </a:lnTo>
                  <a:lnTo>
                    <a:pt x="152" y="30"/>
                  </a:lnTo>
                  <a:lnTo>
                    <a:pt x="146" y="54"/>
                  </a:lnTo>
                  <a:lnTo>
                    <a:pt x="138" y="74"/>
                  </a:lnTo>
                  <a:lnTo>
                    <a:pt x="134" y="106"/>
                  </a:lnTo>
                  <a:lnTo>
                    <a:pt x="136" y="132"/>
                  </a:lnTo>
                  <a:lnTo>
                    <a:pt x="146" y="144"/>
                  </a:lnTo>
                  <a:lnTo>
                    <a:pt x="166" y="154"/>
                  </a:lnTo>
                  <a:lnTo>
                    <a:pt x="174" y="156"/>
                  </a:lnTo>
                  <a:lnTo>
                    <a:pt x="186" y="162"/>
                  </a:lnTo>
                  <a:lnTo>
                    <a:pt x="220" y="210"/>
                  </a:lnTo>
                  <a:lnTo>
                    <a:pt x="240" y="270"/>
                  </a:lnTo>
                  <a:lnTo>
                    <a:pt x="256" y="334"/>
                  </a:lnTo>
                  <a:lnTo>
                    <a:pt x="266" y="364"/>
                  </a:lnTo>
                  <a:lnTo>
                    <a:pt x="268" y="382"/>
                  </a:lnTo>
                  <a:lnTo>
                    <a:pt x="276" y="408"/>
                  </a:lnTo>
                  <a:lnTo>
                    <a:pt x="282" y="442"/>
                  </a:lnTo>
                  <a:lnTo>
                    <a:pt x="286" y="498"/>
                  </a:lnTo>
                  <a:lnTo>
                    <a:pt x="288" y="654"/>
                  </a:lnTo>
                  <a:lnTo>
                    <a:pt x="276" y="726"/>
                  </a:lnTo>
                  <a:lnTo>
                    <a:pt x="276" y="754"/>
                  </a:lnTo>
                  <a:lnTo>
                    <a:pt x="286" y="796"/>
                  </a:lnTo>
                  <a:lnTo>
                    <a:pt x="294" y="818"/>
                  </a:lnTo>
                  <a:lnTo>
                    <a:pt x="296" y="822"/>
                  </a:lnTo>
                  <a:lnTo>
                    <a:pt x="312" y="824"/>
                  </a:lnTo>
                  <a:lnTo>
                    <a:pt x="258" y="838"/>
                  </a:lnTo>
                  <a:lnTo>
                    <a:pt x="210" y="85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49240" y="4395960"/>
              <a:ext cx="248040" cy="393840"/>
            </a:xfrm>
            <a:custGeom>
              <a:avLst/>
              <a:gdLst/>
              <a:ahLst/>
              <a:rect l="l" t="t" r="r" b="b"/>
              <a:pathLst>
                <a:path w="1424" h="2308">
                  <a:moveTo>
                    <a:pt x="80" y="2308"/>
                  </a:moveTo>
                  <a:lnTo>
                    <a:pt x="78" y="2294"/>
                  </a:lnTo>
                  <a:lnTo>
                    <a:pt x="18" y="2208"/>
                  </a:lnTo>
                  <a:lnTo>
                    <a:pt x="2" y="2180"/>
                  </a:lnTo>
                  <a:lnTo>
                    <a:pt x="2" y="2046"/>
                  </a:lnTo>
                  <a:lnTo>
                    <a:pt x="2" y="1882"/>
                  </a:lnTo>
                  <a:lnTo>
                    <a:pt x="2" y="1716"/>
                  </a:lnTo>
                  <a:lnTo>
                    <a:pt x="0" y="1552"/>
                  </a:lnTo>
                  <a:lnTo>
                    <a:pt x="10" y="1546"/>
                  </a:lnTo>
                  <a:lnTo>
                    <a:pt x="64" y="1478"/>
                  </a:lnTo>
                  <a:lnTo>
                    <a:pt x="118" y="1378"/>
                  </a:lnTo>
                  <a:lnTo>
                    <a:pt x="122" y="1362"/>
                  </a:lnTo>
                  <a:lnTo>
                    <a:pt x="132" y="1348"/>
                  </a:lnTo>
                  <a:lnTo>
                    <a:pt x="168" y="1326"/>
                  </a:lnTo>
                  <a:lnTo>
                    <a:pt x="260" y="1290"/>
                  </a:lnTo>
                  <a:lnTo>
                    <a:pt x="294" y="1250"/>
                  </a:lnTo>
                  <a:lnTo>
                    <a:pt x="326" y="1224"/>
                  </a:lnTo>
                  <a:lnTo>
                    <a:pt x="382" y="1198"/>
                  </a:lnTo>
                  <a:lnTo>
                    <a:pt x="402" y="1182"/>
                  </a:lnTo>
                  <a:lnTo>
                    <a:pt x="570" y="1180"/>
                  </a:lnTo>
                  <a:lnTo>
                    <a:pt x="774" y="924"/>
                  </a:lnTo>
                  <a:lnTo>
                    <a:pt x="954" y="706"/>
                  </a:lnTo>
                  <a:lnTo>
                    <a:pt x="978" y="668"/>
                  </a:lnTo>
                  <a:lnTo>
                    <a:pt x="980" y="658"/>
                  </a:lnTo>
                  <a:lnTo>
                    <a:pt x="844" y="664"/>
                  </a:lnTo>
                  <a:lnTo>
                    <a:pt x="612" y="568"/>
                  </a:lnTo>
                  <a:lnTo>
                    <a:pt x="404" y="486"/>
                  </a:lnTo>
                  <a:lnTo>
                    <a:pt x="388" y="460"/>
                  </a:lnTo>
                  <a:lnTo>
                    <a:pt x="332" y="416"/>
                  </a:lnTo>
                  <a:lnTo>
                    <a:pt x="314" y="386"/>
                  </a:lnTo>
                  <a:lnTo>
                    <a:pt x="296" y="368"/>
                  </a:lnTo>
                  <a:lnTo>
                    <a:pt x="290" y="350"/>
                  </a:lnTo>
                  <a:lnTo>
                    <a:pt x="276" y="338"/>
                  </a:lnTo>
                  <a:lnTo>
                    <a:pt x="260" y="318"/>
                  </a:lnTo>
                  <a:lnTo>
                    <a:pt x="254" y="302"/>
                  </a:lnTo>
                  <a:lnTo>
                    <a:pt x="232" y="280"/>
                  </a:lnTo>
                  <a:lnTo>
                    <a:pt x="216" y="212"/>
                  </a:lnTo>
                  <a:lnTo>
                    <a:pt x="218" y="196"/>
                  </a:lnTo>
                  <a:lnTo>
                    <a:pt x="228" y="178"/>
                  </a:lnTo>
                  <a:lnTo>
                    <a:pt x="234" y="162"/>
                  </a:lnTo>
                  <a:lnTo>
                    <a:pt x="258" y="124"/>
                  </a:lnTo>
                  <a:lnTo>
                    <a:pt x="268" y="88"/>
                  </a:lnTo>
                  <a:lnTo>
                    <a:pt x="272" y="84"/>
                  </a:lnTo>
                  <a:lnTo>
                    <a:pt x="278" y="92"/>
                  </a:lnTo>
                  <a:lnTo>
                    <a:pt x="294" y="102"/>
                  </a:lnTo>
                  <a:lnTo>
                    <a:pt x="308" y="126"/>
                  </a:lnTo>
                  <a:lnTo>
                    <a:pt x="320" y="136"/>
                  </a:lnTo>
                  <a:lnTo>
                    <a:pt x="350" y="186"/>
                  </a:lnTo>
                  <a:lnTo>
                    <a:pt x="394" y="236"/>
                  </a:lnTo>
                  <a:lnTo>
                    <a:pt x="430" y="262"/>
                  </a:lnTo>
                  <a:lnTo>
                    <a:pt x="448" y="268"/>
                  </a:lnTo>
                  <a:lnTo>
                    <a:pt x="466" y="262"/>
                  </a:lnTo>
                  <a:lnTo>
                    <a:pt x="522" y="264"/>
                  </a:lnTo>
                  <a:lnTo>
                    <a:pt x="540" y="246"/>
                  </a:lnTo>
                  <a:lnTo>
                    <a:pt x="562" y="230"/>
                  </a:lnTo>
                  <a:lnTo>
                    <a:pt x="580" y="224"/>
                  </a:lnTo>
                  <a:lnTo>
                    <a:pt x="606" y="204"/>
                  </a:lnTo>
                  <a:lnTo>
                    <a:pt x="620" y="200"/>
                  </a:lnTo>
                  <a:lnTo>
                    <a:pt x="624" y="192"/>
                  </a:lnTo>
                  <a:lnTo>
                    <a:pt x="630" y="186"/>
                  </a:lnTo>
                  <a:lnTo>
                    <a:pt x="638" y="186"/>
                  </a:lnTo>
                  <a:lnTo>
                    <a:pt x="650" y="196"/>
                  </a:lnTo>
                  <a:lnTo>
                    <a:pt x="660" y="196"/>
                  </a:lnTo>
                  <a:lnTo>
                    <a:pt x="666" y="200"/>
                  </a:lnTo>
                  <a:lnTo>
                    <a:pt x="696" y="198"/>
                  </a:lnTo>
                  <a:lnTo>
                    <a:pt x="718" y="212"/>
                  </a:lnTo>
                  <a:lnTo>
                    <a:pt x="744" y="214"/>
                  </a:lnTo>
                  <a:lnTo>
                    <a:pt x="770" y="208"/>
                  </a:lnTo>
                  <a:lnTo>
                    <a:pt x="782" y="196"/>
                  </a:lnTo>
                  <a:lnTo>
                    <a:pt x="792" y="180"/>
                  </a:lnTo>
                  <a:lnTo>
                    <a:pt x="818" y="170"/>
                  </a:lnTo>
                  <a:lnTo>
                    <a:pt x="832" y="152"/>
                  </a:lnTo>
                  <a:lnTo>
                    <a:pt x="846" y="142"/>
                  </a:lnTo>
                  <a:lnTo>
                    <a:pt x="874" y="134"/>
                  </a:lnTo>
                  <a:lnTo>
                    <a:pt x="904" y="148"/>
                  </a:lnTo>
                  <a:lnTo>
                    <a:pt x="924" y="146"/>
                  </a:lnTo>
                  <a:lnTo>
                    <a:pt x="948" y="140"/>
                  </a:lnTo>
                  <a:lnTo>
                    <a:pt x="976" y="138"/>
                  </a:lnTo>
                  <a:lnTo>
                    <a:pt x="992" y="134"/>
                  </a:lnTo>
                  <a:lnTo>
                    <a:pt x="1022" y="108"/>
                  </a:lnTo>
                  <a:lnTo>
                    <a:pt x="1040" y="108"/>
                  </a:lnTo>
                  <a:lnTo>
                    <a:pt x="1072" y="116"/>
                  </a:lnTo>
                  <a:lnTo>
                    <a:pt x="1116" y="94"/>
                  </a:lnTo>
                  <a:lnTo>
                    <a:pt x="1126" y="92"/>
                  </a:lnTo>
                  <a:lnTo>
                    <a:pt x="1142" y="92"/>
                  </a:lnTo>
                  <a:lnTo>
                    <a:pt x="1154" y="80"/>
                  </a:lnTo>
                  <a:lnTo>
                    <a:pt x="1180" y="80"/>
                  </a:lnTo>
                  <a:lnTo>
                    <a:pt x="1204" y="76"/>
                  </a:lnTo>
                  <a:lnTo>
                    <a:pt x="1240" y="66"/>
                  </a:lnTo>
                  <a:lnTo>
                    <a:pt x="1252" y="56"/>
                  </a:lnTo>
                  <a:lnTo>
                    <a:pt x="1286" y="38"/>
                  </a:lnTo>
                  <a:lnTo>
                    <a:pt x="1296" y="8"/>
                  </a:lnTo>
                  <a:lnTo>
                    <a:pt x="1316" y="0"/>
                  </a:lnTo>
                  <a:lnTo>
                    <a:pt x="1340" y="0"/>
                  </a:lnTo>
                  <a:lnTo>
                    <a:pt x="1368" y="24"/>
                  </a:lnTo>
                  <a:lnTo>
                    <a:pt x="1390" y="22"/>
                  </a:lnTo>
                  <a:lnTo>
                    <a:pt x="1396" y="26"/>
                  </a:lnTo>
                  <a:lnTo>
                    <a:pt x="1392" y="44"/>
                  </a:lnTo>
                  <a:lnTo>
                    <a:pt x="1394" y="62"/>
                  </a:lnTo>
                  <a:lnTo>
                    <a:pt x="1380" y="84"/>
                  </a:lnTo>
                  <a:lnTo>
                    <a:pt x="1376" y="102"/>
                  </a:lnTo>
                  <a:lnTo>
                    <a:pt x="1380" y="130"/>
                  </a:lnTo>
                  <a:lnTo>
                    <a:pt x="1396" y="146"/>
                  </a:lnTo>
                  <a:lnTo>
                    <a:pt x="1390" y="162"/>
                  </a:lnTo>
                  <a:lnTo>
                    <a:pt x="1394" y="182"/>
                  </a:lnTo>
                  <a:lnTo>
                    <a:pt x="1392" y="204"/>
                  </a:lnTo>
                  <a:lnTo>
                    <a:pt x="1396" y="234"/>
                  </a:lnTo>
                  <a:lnTo>
                    <a:pt x="1394" y="244"/>
                  </a:lnTo>
                  <a:lnTo>
                    <a:pt x="1378" y="260"/>
                  </a:lnTo>
                  <a:lnTo>
                    <a:pt x="1380" y="264"/>
                  </a:lnTo>
                  <a:lnTo>
                    <a:pt x="1394" y="262"/>
                  </a:lnTo>
                  <a:lnTo>
                    <a:pt x="1398" y="254"/>
                  </a:lnTo>
                  <a:lnTo>
                    <a:pt x="1402" y="254"/>
                  </a:lnTo>
                  <a:lnTo>
                    <a:pt x="1408" y="262"/>
                  </a:lnTo>
                  <a:lnTo>
                    <a:pt x="1422" y="264"/>
                  </a:lnTo>
                  <a:lnTo>
                    <a:pt x="1424" y="276"/>
                  </a:lnTo>
                  <a:lnTo>
                    <a:pt x="1418" y="282"/>
                  </a:lnTo>
                  <a:lnTo>
                    <a:pt x="1414" y="282"/>
                  </a:lnTo>
                  <a:lnTo>
                    <a:pt x="1398" y="272"/>
                  </a:lnTo>
                  <a:lnTo>
                    <a:pt x="1380" y="274"/>
                  </a:lnTo>
                  <a:lnTo>
                    <a:pt x="1368" y="280"/>
                  </a:lnTo>
                  <a:lnTo>
                    <a:pt x="1366" y="286"/>
                  </a:lnTo>
                  <a:lnTo>
                    <a:pt x="1366" y="306"/>
                  </a:lnTo>
                  <a:lnTo>
                    <a:pt x="1354" y="386"/>
                  </a:lnTo>
                  <a:lnTo>
                    <a:pt x="1356" y="436"/>
                  </a:lnTo>
                  <a:lnTo>
                    <a:pt x="1350" y="450"/>
                  </a:lnTo>
                  <a:lnTo>
                    <a:pt x="1346" y="482"/>
                  </a:lnTo>
                  <a:lnTo>
                    <a:pt x="1336" y="492"/>
                  </a:lnTo>
                  <a:lnTo>
                    <a:pt x="1324" y="510"/>
                  </a:lnTo>
                  <a:lnTo>
                    <a:pt x="1304" y="560"/>
                  </a:lnTo>
                  <a:lnTo>
                    <a:pt x="1286" y="590"/>
                  </a:lnTo>
                  <a:lnTo>
                    <a:pt x="1272" y="628"/>
                  </a:lnTo>
                  <a:lnTo>
                    <a:pt x="1272" y="634"/>
                  </a:lnTo>
                  <a:lnTo>
                    <a:pt x="1260" y="644"/>
                  </a:lnTo>
                  <a:lnTo>
                    <a:pt x="1244" y="664"/>
                  </a:lnTo>
                  <a:lnTo>
                    <a:pt x="1238" y="680"/>
                  </a:lnTo>
                  <a:lnTo>
                    <a:pt x="1232" y="700"/>
                  </a:lnTo>
                  <a:lnTo>
                    <a:pt x="1230" y="736"/>
                  </a:lnTo>
                  <a:lnTo>
                    <a:pt x="1188" y="842"/>
                  </a:lnTo>
                  <a:lnTo>
                    <a:pt x="1152" y="918"/>
                  </a:lnTo>
                  <a:lnTo>
                    <a:pt x="1146" y="940"/>
                  </a:lnTo>
                  <a:lnTo>
                    <a:pt x="1134" y="1010"/>
                  </a:lnTo>
                  <a:lnTo>
                    <a:pt x="1114" y="1066"/>
                  </a:lnTo>
                  <a:lnTo>
                    <a:pt x="1094" y="1092"/>
                  </a:lnTo>
                  <a:lnTo>
                    <a:pt x="1084" y="1098"/>
                  </a:lnTo>
                  <a:lnTo>
                    <a:pt x="1078" y="1110"/>
                  </a:lnTo>
                  <a:lnTo>
                    <a:pt x="1070" y="1114"/>
                  </a:lnTo>
                  <a:lnTo>
                    <a:pt x="1058" y="1126"/>
                  </a:lnTo>
                  <a:lnTo>
                    <a:pt x="1024" y="1174"/>
                  </a:lnTo>
                  <a:lnTo>
                    <a:pt x="1010" y="1208"/>
                  </a:lnTo>
                  <a:lnTo>
                    <a:pt x="1010" y="1214"/>
                  </a:lnTo>
                  <a:lnTo>
                    <a:pt x="1006" y="1228"/>
                  </a:lnTo>
                  <a:lnTo>
                    <a:pt x="994" y="1258"/>
                  </a:lnTo>
                  <a:lnTo>
                    <a:pt x="968" y="1304"/>
                  </a:lnTo>
                  <a:lnTo>
                    <a:pt x="944" y="1342"/>
                  </a:lnTo>
                  <a:lnTo>
                    <a:pt x="946" y="1344"/>
                  </a:lnTo>
                  <a:lnTo>
                    <a:pt x="918" y="1376"/>
                  </a:lnTo>
                  <a:lnTo>
                    <a:pt x="886" y="1408"/>
                  </a:lnTo>
                  <a:lnTo>
                    <a:pt x="872" y="1436"/>
                  </a:lnTo>
                  <a:lnTo>
                    <a:pt x="842" y="1474"/>
                  </a:lnTo>
                  <a:lnTo>
                    <a:pt x="798" y="1514"/>
                  </a:lnTo>
                  <a:lnTo>
                    <a:pt x="774" y="1532"/>
                  </a:lnTo>
                  <a:lnTo>
                    <a:pt x="774" y="1542"/>
                  </a:lnTo>
                  <a:lnTo>
                    <a:pt x="758" y="1576"/>
                  </a:lnTo>
                  <a:lnTo>
                    <a:pt x="724" y="1620"/>
                  </a:lnTo>
                  <a:lnTo>
                    <a:pt x="690" y="1656"/>
                  </a:lnTo>
                  <a:lnTo>
                    <a:pt x="652" y="1686"/>
                  </a:lnTo>
                  <a:lnTo>
                    <a:pt x="636" y="1696"/>
                  </a:lnTo>
                  <a:lnTo>
                    <a:pt x="604" y="1710"/>
                  </a:lnTo>
                  <a:lnTo>
                    <a:pt x="586" y="1712"/>
                  </a:lnTo>
                  <a:lnTo>
                    <a:pt x="564" y="1724"/>
                  </a:lnTo>
                  <a:lnTo>
                    <a:pt x="506" y="1780"/>
                  </a:lnTo>
                  <a:lnTo>
                    <a:pt x="364" y="1934"/>
                  </a:lnTo>
                  <a:lnTo>
                    <a:pt x="314" y="1992"/>
                  </a:lnTo>
                  <a:lnTo>
                    <a:pt x="298" y="2018"/>
                  </a:lnTo>
                  <a:lnTo>
                    <a:pt x="272" y="2056"/>
                  </a:lnTo>
                  <a:lnTo>
                    <a:pt x="240" y="2064"/>
                  </a:lnTo>
                  <a:lnTo>
                    <a:pt x="230" y="2060"/>
                  </a:lnTo>
                  <a:lnTo>
                    <a:pt x="224" y="2072"/>
                  </a:lnTo>
                  <a:lnTo>
                    <a:pt x="230" y="2074"/>
                  </a:lnTo>
                  <a:lnTo>
                    <a:pt x="232" y="2084"/>
                  </a:lnTo>
                  <a:lnTo>
                    <a:pt x="230" y="2094"/>
                  </a:lnTo>
                  <a:lnTo>
                    <a:pt x="222" y="2100"/>
                  </a:lnTo>
                  <a:lnTo>
                    <a:pt x="214" y="2126"/>
                  </a:lnTo>
                  <a:lnTo>
                    <a:pt x="196" y="2152"/>
                  </a:lnTo>
                  <a:lnTo>
                    <a:pt x="160" y="2196"/>
                  </a:lnTo>
                  <a:lnTo>
                    <a:pt x="134" y="2240"/>
                  </a:lnTo>
                  <a:lnTo>
                    <a:pt x="98" y="2278"/>
                  </a:lnTo>
                  <a:lnTo>
                    <a:pt x="86" y="2304"/>
                  </a:lnTo>
                  <a:lnTo>
                    <a:pt x="80" y="230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941720" y="5193360"/>
              <a:ext cx="191880" cy="202320"/>
            </a:xfrm>
            <a:custGeom>
              <a:avLst/>
              <a:gdLst/>
              <a:ahLst/>
              <a:rect l="l" t="t" r="r" b="b"/>
              <a:pathLst>
                <a:path w="1104" h="1190">
                  <a:moveTo>
                    <a:pt x="500" y="160"/>
                  </a:moveTo>
                  <a:lnTo>
                    <a:pt x="528" y="180"/>
                  </a:lnTo>
                  <a:lnTo>
                    <a:pt x="530" y="192"/>
                  </a:lnTo>
                  <a:lnTo>
                    <a:pt x="516" y="200"/>
                  </a:lnTo>
                  <a:lnTo>
                    <a:pt x="508" y="208"/>
                  </a:lnTo>
                  <a:lnTo>
                    <a:pt x="502" y="208"/>
                  </a:lnTo>
                  <a:lnTo>
                    <a:pt x="480" y="198"/>
                  </a:lnTo>
                  <a:lnTo>
                    <a:pt x="468" y="198"/>
                  </a:lnTo>
                  <a:lnTo>
                    <a:pt x="462" y="202"/>
                  </a:lnTo>
                  <a:lnTo>
                    <a:pt x="456" y="212"/>
                  </a:lnTo>
                  <a:lnTo>
                    <a:pt x="448" y="214"/>
                  </a:lnTo>
                  <a:lnTo>
                    <a:pt x="444" y="208"/>
                  </a:lnTo>
                  <a:lnTo>
                    <a:pt x="436" y="208"/>
                  </a:lnTo>
                  <a:lnTo>
                    <a:pt x="430" y="216"/>
                  </a:lnTo>
                  <a:lnTo>
                    <a:pt x="416" y="224"/>
                  </a:lnTo>
                  <a:lnTo>
                    <a:pt x="408" y="232"/>
                  </a:lnTo>
                  <a:lnTo>
                    <a:pt x="406" y="238"/>
                  </a:lnTo>
                  <a:lnTo>
                    <a:pt x="406" y="248"/>
                  </a:lnTo>
                  <a:lnTo>
                    <a:pt x="404" y="252"/>
                  </a:lnTo>
                  <a:lnTo>
                    <a:pt x="400" y="254"/>
                  </a:lnTo>
                  <a:lnTo>
                    <a:pt x="396" y="248"/>
                  </a:lnTo>
                  <a:lnTo>
                    <a:pt x="374" y="260"/>
                  </a:lnTo>
                  <a:lnTo>
                    <a:pt x="366" y="270"/>
                  </a:lnTo>
                  <a:lnTo>
                    <a:pt x="362" y="278"/>
                  </a:lnTo>
                  <a:lnTo>
                    <a:pt x="350" y="284"/>
                  </a:lnTo>
                  <a:lnTo>
                    <a:pt x="338" y="298"/>
                  </a:lnTo>
                  <a:lnTo>
                    <a:pt x="328" y="316"/>
                  </a:lnTo>
                  <a:lnTo>
                    <a:pt x="316" y="326"/>
                  </a:lnTo>
                  <a:lnTo>
                    <a:pt x="312" y="334"/>
                  </a:lnTo>
                  <a:lnTo>
                    <a:pt x="298" y="340"/>
                  </a:lnTo>
                  <a:lnTo>
                    <a:pt x="286" y="364"/>
                  </a:lnTo>
                  <a:lnTo>
                    <a:pt x="266" y="380"/>
                  </a:lnTo>
                  <a:lnTo>
                    <a:pt x="252" y="378"/>
                  </a:lnTo>
                  <a:lnTo>
                    <a:pt x="236" y="400"/>
                  </a:lnTo>
                  <a:lnTo>
                    <a:pt x="222" y="398"/>
                  </a:lnTo>
                  <a:lnTo>
                    <a:pt x="202" y="410"/>
                  </a:lnTo>
                  <a:lnTo>
                    <a:pt x="192" y="404"/>
                  </a:lnTo>
                  <a:lnTo>
                    <a:pt x="188" y="390"/>
                  </a:lnTo>
                  <a:lnTo>
                    <a:pt x="176" y="384"/>
                  </a:lnTo>
                  <a:lnTo>
                    <a:pt x="156" y="386"/>
                  </a:lnTo>
                  <a:lnTo>
                    <a:pt x="144" y="384"/>
                  </a:lnTo>
                  <a:lnTo>
                    <a:pt x="100" y="392"/>
                  </a:lnTo>
                  <a:lnTo>
                    <a:pt x="64" y="376"/>
                  </a:lnTo>
                  <a:lnTo>
                    <a:pt x="18" y="382"/>
                  </a:lnTo>
                  <a:lnTo>
                    <a:pt x="8" y="378"/>
                  </a:lnTo>
                  <a:lnTo>
                    <a:pt x="0" y="370"/>
                  </a:lnTo>
                  <a:lnTo>
                    <a:pt x="0" y="392"/>
                  </a:lnTo>
                  <a:lnTo>
                    <a:pt x="6" y="414"/>
                  </a:lnTo>
                  <a:lnTo>
                    <a:pt x="36" y="476"/>
                  </a:lnTo>
                  <a:lnTo>
                    <a:pt x="62" y="504"/>
                  </a:lnTo>
                  <a:lnTo>
                    <a:pt x="64" y="538"/>
                  </a:lnTo>
                  <a:lnTo>
                    <a:pt x="80" y="580"/>
                  </a:lnTo>
                  <a:lnTo>
                    <a:pt x="110" y="636"/>
                  </a:lnTo>
                  <a:lnTo>
                    <a:pt x="182" y="726"/>
                  </a:lnTo>
                  <a:lnTo>
                    <a:pt x="222" y="738"/>
                  </a:lnTo>
                  <a:lnTo>
                    <a:pt x="252" y="764"/>
                  </a:lnTo>
                  <a:lnTo>
                    <a:pt x="276" y="804"/>
                  </a:lnTo>
                  <a:lnTo>
                    <a:pt x="308" y="818"/>
                  </a:lnTo>
                  <a:lnTo>
                    <a:pt x="332" y="846"/>
                  </a:lnTo>
                  <a:lnTo>
                    <a:pt x="330" y="904"/>
                  </a:lnTo>
                  <a:lnTo>
                    <a:pt x="338" y="964"/>
                  </a:lnTo>
                  <a:lnTo>
                    <a:pt x="350" y="1000"/>
                  </a:lnTo>
                  <a:lnTo>
                    <a:pt x="368" y="1024"/>
                  </a:lnTo>
                  <a:lnTo>
                    <a:pt x="390" y="1042"/>
                  </a:lnTo>
                  <a:lnTo>
                    <a:pt x="422" y="1048"/>
                  </a:lnTo>
                  <a:lnTo>
                    <a:pt x="456" y="1048"/>
                  </a:lnTo>
                  <a:lnTo>
                    <a:pt x="488" y="1068"/>
                  </a:lnTo>
                  <a:lnTo>
                    <a:pt x="512" y="1076"/>
                  </a:lnTo>
                  <a:lnTo>
                    <a:pt x="540" y="1100"/>
                  </a:lnTo>
                  <a:lnTo>
                    <a:pt x="570" y="1088"/>
                  </a:lnTo>
                  <a:lnTo>
                    <a:pt x="592" y="1094"/>
                  </a:lnTo>
                  <a:lnTo>
                    <a:pt x="648" y="1118"/>
                  </a:lnTo>
                  <a:lnTo>
                    <a:pt x="682" y="1122"/>
                  </a:lnTo>
                  <a:lnTo>
                    <a:pt x="712" y="1118"/>
                  </a:lnTo>
                  <a:lnTo>
                    <a:pt x="744" y="1120"/>
                  </a:lnTo>
                  <a:lnTo>
                    <a:pt x="794" y="1140"/>
                  </a:lnTo>
                  <a:lnTo>
                    <a:pt x="830" y="1184"/>
                  </a:lnTo>
                  <a:lnTo>
                    <a:pt x="842" y="1186"/>
                  </a:lnTo>
                  <a:lnTo>
                    <a:pt x="844" y="1190"/>
                  </a:lnTo>
                  <a:lnTo>
                    <a:pt x="848" y="1184"/>
                  </a:lnTo>
                  <a:lnTo>
                    <a:pt x="850" y="1144"/>
                  </a:lnTo>
                  <a:lnTo>
                    <a:pt x="860" y="1110"/>
                  </a:lnTo>
                  <a:lnTo>
                    <a:pt x="878" y="1082"/>
                  </a:lnTo>
                  <a:lnTo>
                    <a:pt x="910" y="1060"/>
                  </a:lnTo>
                  <a:lnTo>
                    <a:pt x="928" y="1040"/>
                  </a:lnTo>
                  <a:lnTo>
                    <a:pt x="982" y="942"/>
                  </a:lnTo>
                  <a:lnTo>
                    <a:pt x="1006" y="852"/>
                  </a:lnTo>
                  <a:lnTo>
                    <a:pt x="1058" y="748"/>
                  </a:lnTo>
                  <a:lnTo>
                    <a:pt x="1056" y="670"/>
                  </a:lnTo>
                  <a:lnTo>
                    <a:pt x="1046" y="630"/>
                  </a:lnTo>
                  <a:lnTo>
                    <a:pt x="1046" y="580"/>
                  </a:lnTo>
                  <a:lnTo>
                    <a:pt x="1074" y="526"/>
                  </a:lnTo>
                  <a:lnTo>
                    <a:pt x="1080" y="500"/>
                  </a:lnTo>
                  <a:lnTo>
                    <a:pt x="1094" y="454"/>
                  </a:lnTo>
                  <a:lnTo>
                    <a:pt x="1092" y="422"/>
                  </a:lnTo>
                  <a:lnTo>
                    <a:pt x="1104" y="318"/>
                  </a:lnTo>
                  <a:lnTo>
                    <a:pt x="1094" y="254"/>
                  </a:lnTo>
                  <a:lnTo>
                    <a:pt x="1086" y="224"/>
                  </a:lnTo>
                  <a:lnTo>
                    <a:pt x="1086" y="182"/>
                  </a:lnTo>
                  <a:lnTo>
                    <a:pt x="1066" y="156"/>
                  </a:lnTo>
                  <a:lnTo>
                    <a:pt x="988" y="122"/>
                  </a:lnTo>
                  <a:lnTo>
                    <a:pt x="918" y="84"/>
                  </a:lnTo>
                  <a:lnTo>
                    <a:pt x="880" y="72"/>
                  </a:lnTo>
                  <a:lnTo>
                    <a:pt x="840" y="60"/>
                  </a:lnTo>
                  <a:lnTo>
                    <a:pt x="784" y="66"/>
                  </a:lnTo>
                  <a:lnTo>
                    <a:pt x="736" y="60"/>
                  </a:lnTo>
                  <a:lnTo>
                    <a:pt x="740" y="4"/>
                  </a:lnTo>
                  <a:lnTo>
                    <a:pt x="736" y="8"/>
                  </a:lnTo>
                  <a:lnTo>
                    <a:pt x="718" y="6"/>
                  </a:lnTo>
                  <a:lnTo>
                    <a:pt x="696" y="14"/>
                  </a:lnTo>
                  <a:lnTo>
                    <a:pt x="680" y="10"/>
                  </a:lnTo>
                  <a:lnTo>
                    <a:pt x="666" y="2"/>
                  </a:lnTo>
                  <a:lnTo>
                    <a:pt x="656" y="0"/>
                  </a:lnTo>
                  <a:lnTo>
                    <a:pt x="624" y="18"/>
                  </a:lnTo>
                  <a:lnTo>
                    <a:pt x="582" y="22"/>
                  </a:lnTo>
                  <a:lnTo>
                    <a:pt x="564" y="34"/>
                  </a:lnTo>
                  <a:lnTo>
                    <a:pt x="546" y="54"/>
                  </a:lnTo>
                  <a:lnTo>
                    <a:pt x="528" y="56"/>
                  </a:lnTo>
                  <a:lnTo>
                    <a:pt x="514" y="64"/>
                  </a:lnTo>
                  <a:lnTo>
                    <a:pt x="510" y="84"/>
                  </a:lnTo>
                  <a:lnTo>
                    <a:pt x="508" y="112"/>
                  </a:lnTo>
                  <a:lnTo>
                    <a:pt x="510" y="124"/>
                  </a:lnTo>
                  <a:lnTo>
                    <a:pt x="506" y="136"/>
                  </a:lnTo>
                  <a:lnTo>
                    <a:pt x="502" y="152"/>
                  </a:lnTo>
                  <a:lnTo>
                    <a:pt x="500" y="16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66480" y="4075560"/>
              <a:ext cx="398160" cy="562680"/>
            </a:xfrm>
            <a:custGeom>
              <a:avLst/>
              <a:gdLst/>
              <a:ahLst/>
              <a:rect l="l" t="t" r="r" b="b"/>
              <a:pathLst>
                <a:path w="2294" h="3300">
                  <a:moveTo>
                    <a:pt x="260" y="622"/>
                  </a:moveTo>
                  <a:lnTo>
                    <a:pt x="268" y="782"/>
                  </a:lnTo>
                  <a:lnTo>
                    <a:pt x="274" y="942"/>
                  </a:lnTo>
                  <a:lnTo>
                    <a:pt x="282" y="1102"/>
                  </a:lnTo>
                  <a:lnTo>
                    <a:pt x="286" y="1250"/>
                  </a:lnTo>
                  <a:lnTo>
                    <a:pt x="270" y="1252"/>
                  </a:lnTo>
                  <a:lnTo>
                    <a:pt x="194" y="1252"/>
                  </a:lnTo>
                  <a:lnTo>
                    <a:pt x="172" y="1260"/>
                  </a:lnTo>
                  <a:lnTo>
                    <a:pt x="140" y="1262"/>
                  </a:lnTo>
                  <a:lnTo>
                    <a:pt x="136" y="1268"/>
                  </a:lnTo>
                  <a:lnTo>
                    <a:pt x="132" y="1290"/>
                  </a:lnTo>
                  <a:lnTo>
                    <a:pt x="130" y="1326"/>
                  </a:lnTo>
                  <a:lnTo>
                    <a:pt x="120" y="1356"/>
                  </a:lnTo>
                  <a:lnTo>
                    <a:pt x="92" y="1410"/>
                  </a:lnTo>
                  <a:lnTo>
                    <a:pt x="52" y="1464"/>
                  </a:lnTo>
                  <a:lnTo>
                    <a:pt x="52" y="1500"/>
                  </a:lnTo>
                  <a:lnTo>
                    <a:pt x="56" y="1526"/>
                  </a:lnTo>
                  <a:lnTo>
                    <a:pt x="54" y="1542"/>
                  </a:lnTo>
                  <a:lnTo>
                    <a:pt x="52" y="1546"/>
                  </a:lnTo>
                  <a:lnTo>
                    <a:pt x="32" y="1558"/>
                  </a:lnTo>
                  <a:lnTo>
                    <a:pt x="24" y="1570"/>
                  </a:lnTo>
                  <a:lnTo>
                    <a:pt x="22" y="1602"/>
                  </a:lnTo>
                  <a:lnTo>
                    <a:pt x="24" y="1646"/>
                  </a:lnTo>
                  <a:lnTo>
                    <a:pt x="18" y="1672"/>
                  </a:lnTo>
                  <a:lnTo>
                    <a:pt x="2" y="1704"/>
                  </a:lnTo>
                  <a:lnTo>
                    <a:pt x="0" y="1720"/>
                  </a:lnTo>
                  <a:lnTo>
                    <a:pt x="0" y="1768"/>
                  </a:lnTo>
                  <a:lnTo>
                    <a:pt x="12" y="1768"/>
                  </a:lnTo>
                  <a:lnTo>
                    <a:pt x="22" y="1762"/>
                  </a:lnTo>
                  <a:lnTo>
                    <a:pt x="64" y="1752"/>
                  </a:lnTo>
                  <a:lnTo>
                    <a:pt x="64" y="1800"/>
                  </a:lnTo>
                  <a:lnTo>
                    <a:pt x="76" y="1848"/>
                  </a:lnTo>
                  <a:lnTo>
                    <a:pt x="112" y="1952"/>
                  </a:lnTo>
                  <a:lnTo>
                    <a:pt x="114" y="1956"/>
                  </a:lnTo>
                  <a:lnTo>
                    <a:pt x="130" y="1968"/>
                  </a:lnTo>
                  <a:lnTo>
                    <a:pt x="140" y="1982"/>
                  </a:lnTo>
                  <a:lnTo>
                    <a:pt x="148" y="2010"/>
                  </a:lnTo>
                  <a:lnTo>
                    <a:pt x="148" y="2034"/>
                  </a:lnTo>
                  <a:lnTo>
                    <a:pt x="126" y="2046"/>
                  </a:lnTo>
                  <a:lnTo>
                    <a:pt x="154" y="2090"/>
                  </a:lnTo>
                  <a:lnTo>
                    <a:pt x="200" y="2148"/>
                  </a:lnTo>
                  <a:lnTo>
                    <a:pt x="242" y="2214"/>
                  </a:lnTo>
                  <a:lnTo>
                    <a:pt x="256" y="2262"/>
                  </a:lnTo>
                  <a:lnTo>
                    <a:pt x="244" y="2314"/>
                  </a:lnTo>
                  <a:lnTo>
                    <a:pt x="240" y="2364"/>
                  </a:lnTo>
                  <a:lnTo>
                    <a:pt x="246" y="2406"/>
                  </a:lnTo>
                  <a:lnTo>
                    <a:pt x="272" y="2436"/>
                  </a:lnTo>
                  <a:lnTo>
                    <a:pt x="302" y="2438"/>
                  </a:lnTo>
                  <a:lnTo>
                    <a:pt x="336" y="2448"/>
                  </a:lnTo>
                  <a:lnTo>
                    <a:pt x="352" y="2494"/>
                  </a:lnTo>
                  <a:lnTo>
                    <a:pt x="380" y="2510"/>
                  </a:lnTo>
                  <a:lnTo>
                    <a:pt x="438" y="2510"/>
                  </a:lnTo>
                  <a:lnTo>
                    <a:pt x="462" y="2528"/>
                  </a:lnTo>
                  <a:lnTo>
                    <a:pt x="486" y="2552"/>
                  </a:lnTo>
                  <a:lnTo>
                    <a:pt x="492" y="2564"/>
                  </a:lnTo>
                  <a:lnTo>
                    <a:pt x="486" y="2596"/>
                  </a:lnTo>
                  <a:lnTo>
                    <a:pt x="502" y="2630"/>
                  </a:lnTo>
                  <a:lnTo>
                    <a:pt x="550" y="2668"/>
                  </a:lnTo>
                  <a:lnTo>
                    <a:pt x="600" y="2704"/>
                  </a:lnTo>
                  <a:lnTo>
                    <a:pt x="622" y="2734"/>
                  </a:lnTo>
                  <a:lnTo>
                    <a:pt x="650" y="2754"/>
                  </a:lnTo>
                  <a:lnTo>
                    <a:pt x="664" y="2784"/>
                  </a:lnTo>
                  <a:lnTo>
                    <a:pt x="674" y="2818"/>
                  </a:lnTo>
                  <a:lnTo>
                    <a:pt x="694" y="2846"/>
                  </a:lnTo>
                  <a:lnTo>
                    <a:pt x="698" y="2880"/>
                  </a:lnTo>
                  <a:lnTo>
                    <a:pt x="724" y="2888"/>
                  </a:lnTo>
                  <a:lnTo>
                    <a:pt x="802" y="2948"/>
                  </a:lnTo>
                  <a:lnTo>
                    <a:pt x="816" y="2978"/>
                  </a:lnTo>
                  <a:lnTo>
                    <a:pt x="822" y="3012"/>
                  </a:lnTo>
                  <a:lnTo>
                    <a:pt x="836" y="3034"/>
                  </a:lnTo>
                  <a:lnTo>
                    <a:pt x="854" y="3068"/>
                  </a:lnTo>
                  <a:lnTo>
                    <a:pt x="886" y="3094"/>
                  </a:lnTo>
                  <a:lnTo>
                    <a:pt x="902" y="3120"/>
                  </a:lnTo>
                  <a:lnTo>
                    <a:pt x="916" y="3150"/>
                  </a:lnTo>
                  <a:lnTo>
                    <a:pt x="976" y="3178"/>
                  </a:lnTo>
                  <a:lnTo>
                    <a:pt x="994" y="3170"/>
                  </a:lnTo>
                  <a:lnTo>
                    <a:pt x="1010" y="3144"/>
                  </a:lnTo>
                  <a:lnTo>
                    <a:pt x="1078" y="3162"/>
                  </a:lnTo>
                  <a:lnTo>
                    <a:pt x="1108" y="3158"/>
                  </a:lnTo>
                  <a:lnTo>
                    <a:pt x="1142" y="3126"/>
                  </a:lnTo>
                  <a:lnTo>
                    <a:pt x="1168" y="3146"/>
                  </a:lnTo>
                  <a:lnTo>
                    <a:pt x="1236" y="3226"/>
                  </a:lnTo>
                  <a:lnTo>
                    <a:pt x="1270" y="3250"/>
                  </a:lnTo>
                  <a:lnTo>
                    <a:pt x="1292" y="3278"/>
                  </a:lnTo>
                  <a:lnTo>
                    <a:pt x="1310" y="3296"/>
                  </a:lnTo>
                  <a:lnTo>
                    <a:pt x="1326" y="3294"/>
                  </a:lnTo>
                  <a:lnTo>
                    <a:pt x="1344" y="3278"/>
                  </a:lnTo>
                  <a:lnTo>
                    <a:pt x="1380" y="3274"/>
                  </a:lnTo>
                  <a:lnTo>
                    <a:pt x="1410" y="3286"/>
                  </a:lnTo>
                  <a:lnTo>
                    <a:pt x="1434" y="3278"/>
                  </a:lnTo>
                  <a:lnTo>
                    <a:pt x="1468" y="3274"/>
                  </a:lnTo>
                  <a:lnTo>
                    <a:pt x="1484" y="3300"/>
                  </a:lnTo>
                  <a:lnTo>
                    <a:pt x="1526" y="3288"/>
                  </a:lnTo>
                  <a:lnTo>
                    <a:pt x="1564" y="3284"/>
                  </a:lnTo>
                  <a:lnTo>
                    <a:pt x="1598" y="3266"/>
                  </a:lnTo>
                  <a:lnTo>
                    <a:pt x="1638" y="3270"/>
                  </a:lnTo>
                  <a:lnTo>
                    <a:pt x="1688" y="3270"/>
                  </a:lnTo>
                  <a:lnTo>
                    <a:pt x="1758" y="3216"/>
                  </a:lnTo>
                  <a:lnTo>
                    <a:pt x="1758" y="3208"/>
                  </a:lnTo>
                  <a:lnTo>
                    <a:pt x="1758" y="3218"/>
                  </a:lnTo>
                  <a:lnTo>
                    <a:pt x="1798" y="3154"/>
                  </a:lnTo>
                  <a:lnTo>
                    <a:pt x="1828" y="3134"/>
                  </a:lnTo>
                  <a:lnTo>
                    <a:pt x="1858" y="3130"/>
                  </a:lnTo>
                  <a:lnTo>
                    <a:pt x="1934" y="3138"/>
                  </a:lnTo>
                  <a:lnTo>
                    <a:pt x="1972" y="3138"/>
                  </a:lnTo>
                  <a:lnTo>
                    <a:pt x="2026" y="3130"/>
                  </a:lnTo>
                  <a:lnTo>
                    <a:pt x="2026" y="3060"/>
                  </a:lnTo>
                  <a:lnTo>
                    <a:pt x="2028" y="3030"/>
                  </a:lnTo>
                  <a:lnTo>
                    <a:pt x="2026" y="3008"/>
                  </a:lnTo>
                  <a:lnTo>
                    <a:pt x="2008" y="2994"/>
                  </a:lnTo>
                  <a:lnTo>
                    <a:pt x="1948" y="2978"/>
                  </a:lnTo>
                  <a:lnTo>
                    <a:pt x="1924" y="2960"/>
                  </a:lnTo>
                  <a:lnTo>
                    <a:pt x="1910" y="2930"/>
                  </a:lnTo>
                  <a:lnTo>
                    <a:pt x="1882" y="2850"/>
                  </a:lnTo>
                  <a:lnTo>
                    <a:pt x="1870" y="2810"/>
                  </a:lnTo>
                  <a:lnTo>
                    <a:pt x="1856" y="2782"/>
                  </a:lnTo>
                  <a:lnTo>
                    <a:pt x="1798" y="2738"/>
                  </a:lnTo>
                  <a:lnTo>
                    <a:pt x="1778" y="2716"/>
                  </a:lnTo>
                  <a:lnTo>
                    <a:pt x="1760" y="2688"/>
                  </a:lnTo>
                  <a:lnTo>
                    <a:pt x="1756" y="2658"/>
                  </a:lnTo>
                  <a:lnTo>
                    <a:pt x="1732" y="2630"/>
                  </a:lnTo>
                  <a:lnTo>
                    <a:pt x="1710" y="2612"/>
                  </a:lnTo>
                  <a:lnTo>
                    <a:pt x="1682" y="2604"/>
                  </a:lnTo>
                  <a:lnTo>
                    <a:pt x="1660" y="2606"/>
                  </a:lnTo>
                  <a:lnTo>
                    <a:pt x="1638" y="2588"/>
                  </a:lnTo>
                  <a:lnTo>
                    <a:pt x="1622" y="2586"/>
                  </a:lnTo>
                  <a:lnTo>
                    <a:pt x="1606" y="2574"/>
                  </a:lnTo>
                  <a:lnTo>
                    <a:pt x="1618" y="2550"/>
                  </a:lnTo>
                  <a:lnTo>
                    <a:pt x="1634" y="2536"/>
                  </a:lnTo>
                  <a:lnTo>
                    <a:pt x="1632" y="2488"/>
                  </a:lnTo>
                  <a:lnTo>
                    <a:pt x="1658" y="2478"/>
                  </a:lnTo>
                  <a:lnTo>
                    <a:pt x="1716" y="2486"/>
                  </a:lnTo>
                  <a:lnTo>
                    <a:pt x="1744" y="2472"/>
                  </a:lnTo>
                  <a:lnTo>
                    <a:pt x="1764" y="2450"/>
                  </a:lnTo>
                  <a:lnTo>
                    <a:pt x="1766" y="2408"/>
                  </a:lnTo>
                  <a:lnTo>
                    <a:pt x="1762" y="2266"/>
                  </a:lnTo>
                  <a:lnTo>
                    <a:pt x="1770" y="2220"/>
                  </a:lnTo>
                  <a:lnTo>
                    <a:pt x="1772" y="2184"/>
                  </a:lnTo>
                  <a:lnTo>
                    <a:pt x="1768" y="2164"/>
                  </a:lnTo>
                  <a:lnTo>
                    <a:pt x="1768" y="2132"/>
                  </a:lnTo>
                  <a:lnTo>
                    <a:pt x="1776" y="2140"/>
                  </a:lnTo>
                  <a:lnTo>
                    <a:pt x="1784" y="2116"/>
                  </a:lnTo>
                  <a:lnTo>
                    <a:pt x="1800" y="2080"/>
                  </a:lnTo>
                  <a:lnTo>
                    <a:pt x="1820" y="2062"/>
                  </a:lnTo>
                  <a:lnTo>
                    <a:pt x="1850" y="2064"/>
                  </a:lnTo>
                  <a:lnTo>
                    <a:pt x="1860" y="2050"/>
                  </a:lnTo>
                  <a:lnTo>
                    <a:pt x="1872" y="1966"/>
                  </a:lnTo>
                  <a:lnTo>
                    <a:pt x="1880" y="1926"/>
                  </a:lnTo>
                  <a:lnTo>
                    <a:pt x="1964" y="1776"/>
                  </a:lnTo>
                  <a:lnTo>
                    <a:pt x="1988" y="1748"/>
                  </a:lnTo>
                  <a:lnTo>
                    <a:pt x="2010" y="1738"/>
                  </a:lnTo>
                  <a:lnTo>
                    <a:pt x="2028" y="1716"/>
                  </a:lnTo>
                  <a:lnTo>
                    <a:pt x="2062" y="1538"/>
                  </a:lnTo>
                  <a:lnTo>
                    <a:pt x="2062" y="1494"/>
                  </a:lnTo>
                  <a:lnTo>
                    <a:pt x="2050" y="1444"/>
                  </a:lnTo>
                  <a:lnTo>
                    <a:pt x="2048" y="1386"/>
                  </a:lnTo>
                  <a:lnTo>
                    <a:pt x="2054" y="1334"/>
                  </a:lnTo>
                  <a:lnTo>
                    <a:pt x="2070" y="1292"/>
                  </a:lnTo>
                  <a:lnTo>
                    <a:pt x="2088" y="1190"/>
                  </a:lnTo>
                  <a:lnTo>
                    <a:pt x="2092" y="1126"/>
                  </a:lnTo>
                  <a:lnTo>
                    <a:pt x="2092" y="1102"/>
                  </a:lnTo>
                  <a:lnTo>
                    <a:pt x="2098" y="1040"/>
                  </a:lnTo>
                  <a:lnTo>
                    <a:pt x="2106" y="1014"/>
                  </a:lnTo>
                  <a:lnTo>
                    <a:pt x="2140" y="1010"/>
                  </a:lnTo>
                  <a:lnTo>
                    <a:pt x="2160" y="994"/>
                  </a:lnTo>
                  <a:lnTo>
                    <a:pt x="2174" y="972"/>
                  </a:lnTo>
                  <a:lnTo>
                    <a:pt x="2222" y="942"/>
                  </a:lnTo>
                  <a:lnTo>
                    <a:pt x="2244" y="936"/>
                  </a:lnTo>
                  <a:lnTo>
                    <a:pt x="2276" y="918"/>
                  </a:lnTo>
                  <a:lnTo>
                    <a:pt x="2292" y="874"/>
                  </a:lnTo>
                  <a:lnTo>
                    <a:pt x="2294" y="844"/>
                  </a:lnTo>
                  <a:lnTo>
                    <a:pt x="2284" y="818"/>
                  </a:lnTo>
                  <a:lnTo>
                    <a:pt x="2272" y="818"/>
                  </a:lnTo>
                  <a:lnTo>
                    <a:pt x="2264" y="808"/>
                  </a:lnTo>
                  <a:lnTo>
                    <a:pt x="2250" y="814"/>
                  </a:lnTo>
                  <a:lnTo>
                    <a:pt x="2236" y="778"/>
                  </a:lnTo>
                  <a:lnTo>
                    <a:pt x="2218" y="762"/>
                  </a:lnTo>
                  <a:lnTo>
                    <a:pt x="2200" y="758"/>
                  </a:lnTo>
                  <a:lnTo>
                    <a:pt x="2164" y="740"/>
                  </a:lnTo>
                  <a:lnTo>
                    <a:pt x="2146" y="728"/>
                  </a:lnTo>
                  <a:lnTo>
                    <a:pt x="2128" y="704"/>
                  </a:lnTo>
                  <a:lnTo>
                    <a:pt x="2106" y="614"/>
                  </a:lnTo>
                  <a:lnTo>
                    <a:pt x="2094" y="546"/>
                  </a:lnTo>
                  <a:lnTo>
                    <a:pt x="2086" y="452"/>
                  </a:lnTo>
                  <a:lnTo>
                    <a:pt x="2074" y="334"/>
                  </a:lnTo>
                  <a:lnTo>
                    <a:pt x="2080" y="334"/>
                  </a:lnTo>
                  <a:lnTo>
                    <a:pt x="2074" y="316"/>
                  </a:lnTo>
                  <a:lnTo>
                    <a:pt x="2032" y="266"/>
                  </a:lnTo>
                  <a:lnTo>
                    <a:pt x="2022" y="232"/>
                  </a:lnTo>
                  <a:lnTo>
                    <a:pt x="2016" y="184"/>
                  </a:lnTo>
                  <a:lnTo>
                    <a:pt x="1984" y="138"/>
                  </a:lnTo>
                  <a:lnTo>
                    <a:pt x="1960" y="124"/>
                  </a:lnTo>
                  <a:lnTo>
                    <a:pt x="1928" y="86"/>
                  </a:lnTo>
                  <a:lnTo>
                    <a:pt x="1898" y="68"/>
                  </a:lnTo>
                  <a:lnTo>
                    <a:pt x="1860" y="52"/>
                  </a:lnTo>
                  <a:lnTo>
                    <a:pt x="1824" y="0"/>
                  </a:lnTo>
                  <a:lnTo>
                    <a:pt x="1774" y="56"/>
                  </a:lnTo>
                  <a:lnTo>
                    <a:pt x="1738" y="42"/>
                  </a:lnTo>
                  <a:lnTo>
                    <a:pt x="1712" y="130"/>
                  </a:lnTo>
                  <a:lnTo>
                    <a:pt x="1640" y="152"/>
                  </a:lnTo>
                  <a:lnTo>
                    <a:pt x="1626" y="224"/>
                  </a:lnTo>
                  <a:lnTo>
                    <a:pt x="1562" y="230"/>
                  </a:lnTo>
                  <a:lnTo>
                    <a:pt x="1510" y="192"/>
                  </a:lnTo>
                  <a:lnTo>
                    <a:pt x="1264" y="194"/>
                  </a:lnTo>
                  <a:lnTo>
                    <a:pt x="1274" y="162"/>
                  </a:lnTo>
                  <a:lnTo>
                    <a:pt x="1268" y="162"/>
                  </a:lnTo>
                  <a:lnTo>
                    <a:pt x="1262" y="158"/>
                  </a:lnTo>
                  <a:lnTo>
                    <a:pt x="1256" y="156"/>
                  </a:lnTo>
                  <a:lnTo>
                    <a:pt x="1238" y="194"/>
                  </a:lnTo>
                  <a:lnTo>
                    <a:pt x="1168" y="194"/>
                  </a:lnTo>
                  <a:lnTo>
                    <a:pt x="1034" y="194"/>
                  </a:lnTo>
                  <a:lnTo>
                    <a:pt x="902" y="196"/>
                  </a:lnTo>
                  <a:lnTo>
                    <a:pt x="770" y="196"/>
                  </a:lnTo>
                  <a:lnTo>
                    <a:pt x="638" y="198"/>
                  </a:lnTo>
                  <a:lnTo>
                    <a:pt x="506" y="200"/>
                  </a:lnTo>
                  <a:lnTo>
                    <a:pt x="372" y="200"/>
                  </a:lnTo>
                  <a:lnTo>
                    <a:pt x="372" y="200"/>
                  </a:lnTo>
                  <a:lnTo>
                    <a:pt x="382" y="352"/>
                  </a:lnTo>
                  <a:lnTo>
                    <a:pt x="390" y="524"/>
                  </a:lnTo>
                  <a:lnTo>
                    <a:pt x="256" y="526"/>
                  </a:lnTo>
                  <a:lnTo>
                    <a:pt x="260" y="62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26120" y="4066200"/>
              <a:ext cx="390240" cy="340200"/>
            </a:xfrm>
            <a:custGeom>
              <a:avLst/>
              <a:gdLst/>
              <a:ahLst/>
              <a:rect l="l" t="t" r="r" b="b"/>
              <a:pathLst>
                <a:path w="2238" h="1990">
                  <a:moveTo>
                    <a:pt x="584" y="782"/>
                  </a:moveTo>
                  <a:lnTo>
                    <a:pt x="586" y="942"/>
                  </a:lnTo>
                  <a:lnTo>
                    <a:pt x="586" y="1102"/>
                  </a:lnTo>
                  <a:lnTo>
                    <a:pt x="588" y="1262"/>
                  </a:lnTo>
                  <a:lnTo>
                    <a:pt x="574" y="1266"/>
                  </a:lnTo>
                  <a:lnTo>
                    <a:pt x="550" y="1282"/>
                  </a:lnTo>
                  <a:lnTo>
                    <a:pt x="542" y="1300"/>
                  </a:lnTo>
                  <a:lnTo>
                    <a:pt x="538" y="1322"/>
                  </a:lnTo>
                  <a:lnTo>
                    <a:pt x="506" y="1344"/>
                  </a:lnTo>
                  <a:lnTo>
                    <a:pt x="498" y="1352"/>
                  </a:lnTo>
                  <a:lnTo>
                    <a:pt x="492" y="1362"/>
                  </a:lnTo>
                  <a:lnTo>
                    <a:pt x="490" y="1378"/>
                  </a:lnTo>
                  <a:lnTo>
                    <a:pt x="458" y="1372"/>
                  </a:lnTo>
                  <a:lnTo>
                    <a:pt x="424" y="1370"/>
                  </a:lnTo>
                  <a:lnTo>
                    <a:pt x="424" y="1382"/>
                  </a:lnTo>
                  <a:lnTo>
                    <a:pt x="412" y="1376"/>
                  </a:lnTo>
                  <a:lnTo>
                    <a:pt x="186" y="1382"/>
                  </a:lnTo>
                  <a:lnTo>
                    <a:pt x="122" y="1440"/>
                  </a:lnTo>
                  <a:lnTo>
                    <a:pt x="26" y="1440"/>
                  </a:lnTo>
                  <a:lnTo>
                    <a:pt x="0" y="1452"/>
                  </a:lnTo>
                  <a:lnTo>
                    <a:pt x="0" y="1488"/>
                  </a:lnTo>
                  <a:lnTo>
                    <a:pt x="0" y="1516"/>
                  </a:lnTo>
                  <a:lnTo>
                    <a:pt x="0" y="1526"/>
                  </a:lnTo>
                  <a:lnTo>
                    <a:pt x="42" y="1550"/>
                  </a:lnTo>
                  <a:lnTo>
                    <a:pt x="44" y="1556"/>
                  </a:lnTo>
                  <a:lnTo>
                    <a:pt x="44" y="1584"/>
                  </a:lnTo>
                  <a:lnTo>
                    <a:pt x="50" y="1606"/>
                  </a:lnTo>
                  <a:lnTo>
                    <a:pt x="82" y="1648"/>
                  </a:lnTo>
                  <a:lnTo>
                    <a:pt x="126" y="1690"/>
                  </a:lnTo>
                  <a:lnTo>
                    <a:pt x="142" y="1720"/>
                  </a:lnTo>
                  <a:lnTo>
                    <a:pt x="158" y="1762"/>
                  </a:lnTo>
                  <a:lnTo>
                    <a:pt x="168" y="1782"/>
                  </a:lnTo>
                  <a:lnTo>
                    <a:pt x="196" y="1820"/>
                  </a:lnTo>
                  <a:lnTo>
                    <a:pt x="214" y="1832"/>
                  </a:lnTo>
                  <a:lnTo>
                    <a:pt x="242" y="1840"/>
                  </a:lnTo>
                  <a:lnTo>
                    <a:pt x="252" y="1840"/>
                  </a:lnTo>
                  <a:lnTo>
                    <a:pt x="264" y="1836"/>
                  </a:lnTo>
                  <a:lnTo>
                    <a:pt x="278" y="1820"/>
                  </a:lnTo>
                  <a:lnTo>
                    <a:pt x="288" y="1820"/>
                  </a:lnTo>
                  <a:lnTo>
                    <a:pt x="302" y="1828"/>
                  </a:lnTo>
                  <a:lnTo>
                    <a:pt x="320" y="1860"/>
                  </a:lnTo>
                  <a:lnTo>
                    <a:pt x="322" y="1868"/>
                  </a:lnTo>
                  <a:lnTo>
                    <a:pt x="320" y="1876"/>
                  </a:lnTo>
                  <a:lnTo>
                    <a:pt x="306" y="1872"/>
                  </a:lnTo>
                  <a:lnTo>
                    <a:pt x="298" y="1878"/>
                  </a:lnTo>
                  <a:lnTo>
                    <a:pt x="294" y="1888"/>
                  </a:lnTo>
                  <a:lnTo>
                    <a:pt x="298" y="1898"/>
                  </a:lnTo>
                  <a:lnTo>
                    <a:pt x="314" y="1922"/>
                  </a:lnTo>
                  <a:lnTo>
                    <a:pt x="342" y="1952"/>
                  </a:lnTo>
                  <a:lnTo>
                    <a:pt x="360" y="1938"/>
                  </a:lnTo>
                  <a:lnTo>
                    <a:pt x="342" y="1914"/>
                  </a:lnTo>
                  <a:lnTo>
                    <a:pt x="342" y="1900"/>
                  </a:lnTo>
                  <a:lnTo>
                    <a:pt x="372" y="1890"/>
                  </a:lnTo>
                  <a:lnTo>
                    <a:pt x="384" y="1890"/>
                  </a:lnTo>
                  <a:lnTo>
                    <a:pt x="404" y="1876"/>
                  </a:lnTo>
                  <a:lnTo>
                    <a:pt x="412" y="1880"/>
                  </a:lnTo>
                  <a:lnTo>
                    <a:pt x="442" y="1914"/>
                  </a:lnTo>
                  <a:lnTo>
                    <a:pt x="472" y="1952"/>
                  </a:lnTo>
                  <a:lnTo>
                    <a:pt x="490" y="1964"/>
                  </a:lnTo>
                  <a:lnTo>
                    <a:pt x="514" y="1990"/>
                  </a:lnTo>
                  <a:lnTo>
                    <a:pt x="516" y="1968"/>
                  </a:lnTo>
                  <a:lnTo>
                    <a:pt x="508" y="1892"/>
                  </a:lnTo>
                  <a:lnTo>
                    <a:pt x="512" y="1864"/>
                  </a:lnTo>
                  <a:lnTo>
                    <a:pt x="518" y="1850"/>
                  </a:lnTo>
                  <a:lnTo>
                    <a:pt x="528" y="1838"/>
                  </a:lnTo>
                  <a:lnTo>
                    <a:pt x="546" y="1826"/>
                  </a:lnTo>
                  <a:lnTo>
                    <a:pt x="562" y="1808"/>
                  </a:lnTo>
                  <a:lnTo>
                    <a:pt x="578" y="1766"/>
                  </a:lnTo>
                  <a:lnTo>
                    <a:pt x="586" y="1710"/>
                  </a:lnTo>
                  <a:lnTo>
                    <a:pt x="590" y="1700"/>
                  </a:lnTo>
                  <a:lnTo>
                    <a:pt x="632" y="1664"/>
                  </a:lnTo>
                  <a:lnTo>
                    <a:pt x="682" y="1648"/>
                  </a:lnTo>
                  <a:lnTo>
                    <a:pt x="726" y="1650"/>
                  </a:lnTo>
                  <a:lnTo>
                    <a:pt x="744" y="1646"/>
                  </a:lnTo>
                  <a:lnTo>
                    <a:pt x="766" y="1638"/>
                  </a:lnTo>
                  <a:lnTo>
                    <a:pt x="802" y="1640"/>
                  </a:lnTo>
                  <a:lnTo>
                    <a:pt x="900" y="1696"/>
                  </a:lnTo>
                  <a:lnTo>
                    <a:pt x="960" y="1758"/>
                  </a:lnTo>
                  <a:lnTo>
                    <a:pt x="976" y="1774"/>
                  </a:lnTo>
                  <a:lnTo>
                    <a:pt x="988" y="1780"/>
                  </a:lnTo>
                  <a:lnTo>
                    <a:pt x="1010" y="1780"/>
                  </a:lnTo>
                  <a:lnTo>
                    <a:pt x="1028" y="1752"/>
                  </a:lnTo>
                  <a:lnTo>
                    <a:pt x="1070" y="1726"/>
                  </a:lnTo>
                  <a:lnTo>
                    <a:pt x="1094" y="1718"/>
                  </a:lnTo>
                  <a:lnTo>
                    <a:pt x="1126" y="1718"/>
                  </a:lnTo>
                  <a:lnTo>
                    <a:pt x="1170" y="1746"/>
                  </a:lnTo>
                  <a:lnTo>
                    <a:pt x="1232" y="1790"/>
                  </a:lnTo>
                  <a:lnTo>
                    <a:pt x="1262" y="1800"/>
                  </a:lnTo>
                  <a:lnTo>
                    <a:pt x="1324" y="1810"/>
                  </a:lnTo>
                  <a:lnTo>
                    <a:pt x="1356" y="1804"/>
                  </a:lnTo>
                  <a:lnTo>
                    <a:pt x="1394" y="1776"/>
                  </a:lnTo>
                  <a:lnTo>
                    <a:pt x="1438" y="1734"/>
                  </a:lnTo>
                  <a:lnTo>
                    <a:pt x="1460" y="1718"/>
                  </a:lnTo>
                  <a:lnTo>
                    <a:pt x="1524" y="1716"/>
                  </a:lnTo>
                  <a:lnTo>
                    <a:pt x="1574" y="1722"/>
                  </a:lnTo>
                  <a:lnTo>
                    <a:pt x="1600" y="1712"/>
                  </a:lnTo>
                  <a:lnTo>
                    <a:pt x="1650" y="1706"/>
                  </a:lnTo>
                  <a:lnTo>
                    <a:pt x="1668" y="1712"/>
                  </a:lnTo>
                  <a:lnTo>
                    <a:pt x="1686" y="1726"/>
                  </a:lnTo>
                  <a:lnTo>
                    <a:pt x="1708" y="1732"/>
                  </a:lnTo>
                  <a:lnTo>
                    <a:pt x="1724" y="1744"/>
                  </a:lnTo>
                  <a:lnTo>
                    <a:pt x="1752" y="1742"/>
                  </a:lnTo>
                  <a:lnTo>
                    <a:pt x="1768" y="1730"/>
                  </a:lnTo>
                  <a:lnTo>
                    <a:pt x="1792" y="1702"/>
                  </a:lnTo>
                  <a:lnTo>
                    <a:pt x="1794" y="1696"/>
                  </a:lnTo>
                  <a:lnTo>
                    <a:pt x="1808" y="1684"/>
                  </a:lnTo>
                  <a:lnTo>
                    <a:pt x="1826" y="1678"/>
                  </a:lnTo>
                  <a:lnTo>
                    <a:pt x="1844" y="1680"/>
                  </a:lnTo>
                  <a:lnTo>
                    <a:pt x="1858" y="1644"/>
                  </a:lnTo>
                  <a:lnTo>
                    <a:pt x="1862" y="1644"/>
                  </a:lnTo>
                  <a:lnTo>
                    <a:pt x="1868" y="1634"/>
                  </a:lnTo>
                  <a:lnTo>
                    <a:pt x="1854" y="1622"/>
                  </a:lnTo>
                  <a:lnTo>
                    <a:pt x="1846" y="1604"/>
                  </a:lnTo>
                  <a:lnTo>
                    <a:pt x="1846" y="1588"/>
                  </a:lnTo>
                  <a:lnTo>
                    <a:pt x="1856" y="1566"/>
                  </a:lnTo>
                  <a:lnTo>
                    <a:pt x="1874" y="1554"/>
                  </a:lnTo>
                  <a:lnTo>
                    <a:pt x="1886" y="1550"/>
                  </a:lnTo>
                  <a:lnTo>
                    <a:pt x="1896" y="1542"/>
                  </a:lnTo>
                  <a:lnTo>
                    <a:pt x="1892" y="1510"/>
                  </a:lnTo>
                  <a:lnTo>
                    <a:pt x="1902" y="1496"/>
                  </a:lnTo>
                  <a:lnTo>
                    <a:pt x="1924" y="1492"/>
                  </a:lnTo>
                  <a:lnTo>
                    <a:pt x="1920" y="1462"/>
                  </a:lnTo>
                  <a:lnTo>
                    <a:pt x="1936" y="1454"/>
                  </a:lnTo>
                  <a:lnTo>
                    <a:pt x="1936" y="1422"/>
                  </a:lnTo>
                  <a:lnTo>
                    <a:pt x="2156" y="1128"/>
                  </a:lnTo>
                  <a:lnTo>
                    <a:pt x="2166" y="1112"/>
                  </a:lnTo>
                  <a:lnTo>
                    <a:pt x="2172" y="824"/>
                  </a:lnTo>
                  <a:lnTo>
                    <a:pt x="2202" y="590"/>
                  </a:lnTo>
                  <a:lnTo>
                    <a:pt x="2238" y="522"/>
                  </a:lnTo>
                  <a:lnTo>
                    <a:pt x="2176" y="486"/>
                  </a:lnTo>
                  <a:lnTo>
                    <a:pt x="2158" y="472"/>
                  </a:lnTo>
                  <a:lnTo>
                    <a:pt x="2144" y="452"/>
                  </a:lnTo>
                  <a:lnTo>
                    <a:pt x="2132" y="434"/>
                  </a:lnTo>
                  <a:lnTo>
                    <a:pt x="2122" y="402"/>
                  </a:lnTo>
                  <a:lnTo>
                    <a:pt x="2112" y="382"/>
                  </a:lnTo>
                  <a:lnTo>
                    <a:pt x="2110" y="374"/>
                  </a:lnTo>
                  <a:lnTo>
                    <a:pt x="2098" y="346"/>
                  </a:lnTo>
                  <a:lnTo>
                    <a:pt x="2092" y="328"/>
                  </a:lnTo>
                  <a:lnTo>
                    <a:pt x="2084" y="84"/>
                  </a:lnTo>
                  <a:lnTo>
                    <a:pt x="2042" y="98"/>
                  </a:lnTo>
                  <a:lnTo>
                    <a:pt x="2024" y="70"/>
                  </a:lnTo>
                  <a:lnTo>
                    <a:pt x="2014" y="60"/>
                  </a:lnTo>
                  <a:lnTo>
                    <a:pt x="1978" y="40"/>
                  </a:lnTo>
                  <a:lnTo>
                    <a:pt x="1966" y="26"/>
                  </a:lnTo>
                  <a:lnTo>
                    <a:pt x="1954" y="18"/>
                  </a:lnTo>
                  <a:lnTo>
                    <a:pt x="1932" y="12"/>
                  </a:lnTo>
                  <a:lnTo>
                    <a:pt x="1832" y="2"/>
                  </a:lnTo>
                  <a:lnTo>
                    <a:pt x="1724" y="6"/>
                  </a:lnTo>
                  <a:lnTo>
                    <a:pt x="1644" y="0"/>
                  </a:lnTo>
                  <a:lnTo>
                    <a:pt x="1636" y="2"/>
                  </a:lnTo>
                  <a:lnTo>
                    <a:pt x="1626" y="10"/>
                  </a:lnTo>
                  <a:lnTo>
                    <a:pt x="1560" y="62"/>
                  </a:lnTo>
                  <a:lnTo>
                    <a:pt x="1452" y="150"/>
                  </a:lnTo>
                  <a:lnTo>
                    <a:pt x="1344" y="238"/>
                  </a:lnTo>
                  <a:lnTo>
                    <a:pt x="1234" y="326"/>
                  </a:lnTo>
                  <a:lnTo>
                    <a:pt x="1126" y="414"/>
                  </a:lnTo>
                  <a:lnTo>
                    <a:pt x="1016" y="502"/>
                  </a:lnTo>
                  <a:lnTo>
                    <a:pt x="906" y="590"/>
                  </a:lnTo>
                  <a:lnTo>
                    <a:pt x="796" y="678"/>
                  </a:lnTo>
                  <a:lnTo>
                    <a:pt x="762" y="690"/>
                  </a:lnTo>
                  <a:lnTo>
                    <a:pt x="600" y="736"/>
                  </a:lnTo>
                  <a:lnTo>
                    <a:pt x="580" y="740"/>
                  </a:lnTo>
                  <a:lnTo>
                    <a:pt x="580" y="746"/>
                  </a:lnTo>
                  <a:lnTo>
                    <a:pt x="584" y="748"/>
                  </a:lnTo>
                  <a:lnTo>
                    <a:pt x="584" y="78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610520" y="5227200"/>
              <a:ext cx="327600" cy="349560"/>
            </a:xfrm>
            <a:custGeom>
              <a:avLst/>
              <a:gdLst/>
              <a:ahLst/>
              <a:rect l="l" t="t" r="r" b="b"/>
              <a:pathLst>
                <a:path w="1888" h="2050">
                  <a:moveTo>
                    <a:pt x="890" y="80"/>
                  </a:moveTo>
                  <a:lnTo>
                    <a:pt x="774" y="78"/>
                  </a:lnTo>
                  <a:lnTo>
                    <a:pt x="648" y="78"/>
                  </a:lnTo>
                  <a:lnTo>
                    <a:pt x="512" y="78"/>
                  </a:lnTo>
                  <a:lnTo>
                    <a:pt x="384" y="78"/>
                  </a:lnTo>
                  <a:lnTo>
                    <a:pt x="338" y="76"/>
                  </a:lnTo>
                  <a:lnTo>
                    <a:pt x="318" y="82"/>
                  </a:lnTo>
                  <a:lnTo>
                    <a:pt x="286" y="44"/>
                  </a:lnTo>
                  <a:lnTo>
                    <a:pt x="252" y="30"/>
                  </a:lnTo>
                  <a:lnTo>
                    <a:pt x="240" y="6"/>
                  </a:lnTo>
                  <a:lnTo>
                    <a:pt x="214" y="0"/>
                  </a:lnTo>
                  <a:lnTo>
                    <a:pt x="156" y="2"/>
                  </a:lnTo>
                  <a:lnTo>
                    <a:pt x="132" y="12"/>
                  </a:lnTo>
                  <a:lnTo>
                    <a:pt x="104" y="40"/>
                  </a:lnTo>
                  <a:lnTo>
                    <a:pt x="88" y="50"/>
                  </a:lnTo>
                  <a:lnTo>
                    <a:pt x="64" y="32"/>
                  </a:lnTo>
                  <a:lnTo>
                    <a:pt x="34" y="58"/>
                  </a:lnTo>
                  <a:lnTo>
                    <a:pt x="4" y="76"/>
                  </a:lnTo>
                  <a:lnTo>
                    <a:pt x="0" y="144"/>
                  </a:lnTo>
                  <a:lnTo>
                    <a:pt x="2" y="160"/>
                  </a:lnTo>
                  <a:lnTo>
                    <a:pt x="10" y="188"/>
                  </a:lnTo>
                  <a:lnTo>
                    <a:pt x="8" y="216"/>
                  </a:lnTo>
                  <a:lnTo>
                    <a:pt x="32" y="272"/>
                  </a:lnTo>
                  <a:lnTo>
                    <a:pt x="44" y="292"/>
                  </a:lnTo>
                  <a:lnTo>
                    <a:pt x="48" y="300"/>
                  </a:lnTo>
                  <a:lnTo>
                    <a:pt x="70" y="318"/>
                  </a:lnTo>
                  <a:lnTo>
                    <a:pt x="84" y="342"/>
                  </a:lnTo>
                  <a:lnTo>
                    <a:pt x="94" y="370"/>
                  </a:lnTo>
                  <a:lnTo>
                    <a:pt x="110" y="390"/>
                  </a:lnTo>
                  <a:lnTo>
                    <a:pt x="116" y="408"/>
                  </a:lnTo>
                  <a:lnTo>
                    <a:pt x="136" y="440"/>
                  </a:lnTo>
                  <a:lnTo>
                    <a:pt x="140" y="462"/>
                  </a:lnTo>
                  <a:lnTo>
                    <a:pt x="154" y="492"/>
                  </a:lnTo>
                  <a:lnTo>
                    <a:pt x="160" y="514"/>
                  </a:lnTo>
                  <a:lnTo>
                    <a:pt x="198" y="588"/>
                  </a:lnTo>
                  <a:lnTo>
                    <a:pt x="202" y="612"/>
                  </a:lnTo>
                  <a:lnTo>
                    <a:pt x="212" y="630"/>
                  </a:lnTo>
                  <a:lnTo>
                    <a:pt x="216" y="654"/>
                  </a:lnTo>
                  <a:lnTo>
                    <a:pt x="232" y="696"/>
                  </a:lnTo>
                  <a:lnTo>
                    <a:pt x="266" y="766"/>
                  </a:lnTo>
                  <a:lnTo>
                    <a:pt x="284" y="794"/>
                  </a:lnTo>
                  <a:lnTo>
                    <a:pt x="286" y="810"/>
                  </a:lnTo>
                  <a:lnTo>
                    <a:pt x="296" y="836"/>
                  </a:lnTo>
                  <a:lnTo>
                    <a:pt x="342" y="906"/>
                  </a:lnTo>
                  <a:lnTo>
                    <a:pt x="362" y="960"/>
                  </a:lnTo>
                  <a:lnTo>
                    <a:pt x="362" y="972"/>
                  </a:lnTo>
                  <a:lnTo>
                    <a:pt x="366" y="1018"/>
                  </a:lnTo>
                  <a:lnTo>
                    <a:pt x="360" y="1068"/>
                  </a:lnTo>
                  <a:lnTo>
                    <a:pt x="360" y="1172"/>
                  </a:lnTo>
                  <a:lnTo>
                    <a:pt x="356" y="1224"/>
                  </a:lnTo>
                  <a:lnTo>
                    <a:pt x="360" y="1254"/>
                  </a:lnTo>
                  <a:lnTo>
                    <a:pt x="370" y="1282"/>
                  </a:lnTo>
                  <a:lnTo>
                    <a:pt x="382" y="1320"/>
                  </a:lnTo>
                  <a:lnTo>
                    <a:pt x="402" y="1372"/>
                  </a:lnTo>
                  <a:lnTo>
                    <a:pt x="404" y="1392"/>
                  </a:lnTo>
                  <a:lnTo>
                    <a:pt x="398" y="1432"/>
                  </a:lnTo>
                  <a:lnTo>
                    <a:pt x="400" y="1496"/>
                  </a:lnTo>
                  <a:lnTo>
                    <a:pt x="404" y="1522"/>
                  </a:lnTo>
                  <a:lnTo>
                    <a:pt x="418" y="1564"/>
                  </a:lnTo>
                  <a:lnTo>
                    <a:pt x="412" y="1592"/>
                  </a:lnTo>
                  <a:lnTo>
                    <a:pt x="418" y="1602"/>
                  </a:lnTo>
                  <a:lnTo>
                    <a:pt x="426" y="1628"/>
                  </a:lnTo>
                  <a:lnTo>
                    <a:pt x="430" y="1684"/>
                  </a:lnTo>
                  <a:lnTo>
                    <a:pt x="438" y="1714"/>
                  </a:lnTo>
                  <a:lnTo>
                    <a:pt x="444" y="1774"/>
                  </a:lnTo>
                  <a:lnTo>
                    <a:pt x="488" y="1842"/>
                  </a:lnTo>
                  <a:lnTo>
                    <a:pt x="508" y="1892"/>
                  </a:lnTo>
                  <a:lnTo>
                    <a:pt x="534" y="1922"/>
                  </a:lnTo>
                  <a:lnTo>
                    <a:pt x="556" y="1942"/>
                  </a:lnTo>
                  <a:lnTo>
                    <a:pt x="588" y="1982"/>
                  </a:lnTo>
                  <a:lnTo>
                    <a:pt x="598" y="1982"/>
                  </a:lnTo>
                  <a:lnTo>
                    <a:pt x="606" y="1988"/>
                  </a:lnTo>
                  <a:lnTo>
                    <a:pt x="618" y="1986"/>
                  </a:lnTo>
                  <a:lnTo>
                    <a:pt x="630" y="1978"/>
                  </a:lnTo>
                  <a:lnTo>
                    <a:pt x="644" y="1960"/>
                  </a:lnTo>
                  <a:lnTo>
                    <a:pt x="660" y="1928"/>
                  </a:lnTo>
                  <a:lnTo>
                    <a:pt x="690" y="1926"/>
                  </a:lnTo>
                  <a:lnTo>
                    <a:pt x="752" y="1976"/>
                  </a:lnTo>
                  <a:lnTo>
                    <a:pt x="750" y="2010"/>
                  </a:lnTo>
                  <a:lnTo>
                    <a:pt x="776" y="2044"/>
                  </a:lnTo>
                  <a:lnTo>
                    <a:pt x="816" y="2050"/>
                  </a:lnTo>
                  <a:lnTo>
                    <a:pt x="854" y="2036"/>
                  </a:lnTo>
                  <a:lnTo>
                    <a:pt x="902" y="2036"/>
                  </a:lnTo>
                  <a:lnTo>
                    <a:pt x="922" y="2044"/>
                  </a:lnTo>
                  <a:lnTo>
                    <a:pt x="954" y="2046"/>
                  </a:lnTo>
                  <a:lnTo>
                    <a:pt x="996" y="2004"/>
                  </a:lnTo>
                  <a:lnTo>
                    <a:pt x="1032" y="1978"/>
                  </a:lnTo>
                  <a:lnTo>
                    <a:pt x="1060" y="1972"/>
                  </a:lnTo>
                  <a:lnTo>
                    <a:pt x="1072" y="1964"/>
                  </a:lnTo>
                  <a:lnTo>
                    <a:pt x="1082" y="1808"/>
                  </a:lnTo>
                  <a:lnTo>
                    <a:pt x="1092" y="1646"/>
                  </a:lnTo>
                  <a:lnTo>
                    <a:pt x="1100" y="1482"/>
                  </a:lnTo>
                  <a:lnTo>
                    <a:pt x="1108" y="1328"/>
                  </a:lnTo>
                  <a:lnTo>
                    <a:pt x="1116" y="1180"/>
                  </a:lnTo>
                  <a:lnTo>
                    <a:pt x="1124" y="1016"/>
                  </a:lnTo>
                  <a:lnTo>
                    <a:pt x="1130" y="862"/>
                  </a:lnTo>
                  <a:lnTo>
                    <a:pt x="1272" y="864"/>
                  </a:lnTo>
                  <a:lnTo>
                    <a:pt x="1278" y="754"/>
                  </a:lnTo>
                  <a:lnTo>
                    <a:pt x="1284" y="590"/>
                  </a:lnTo>
                  <a:lnTo>
                    <a:pt x="1292" y="428"/>
                  </a:lnTo>
                  <a:lnTo>
                    <a:pt x="1298" y="272"/>
                  </a:lnTo>
                  <a:lnTo>
                    <a:pt x="1312" y="258"/>
                  </a:lnTo>
                  <a:lnTo>
                    <a:pt x="1516" y="216"/>
                  </a:lnTo>
                  <a:lnTo>
                    <a:pt x="1562" y="208"/>
                  </a:lnTo>
                  <a:lnTo>
                    <a:pt x="1578" y="208"/>
                  </a:lnTo>
                  <a:lnTo>
                    <a:pt x="1624" y="212"/>
                  </a:lnTo>
                  <a:lnTo>
                    <a:pt x="1648" y="222"/>
                  </a:lnTo>
                  <a:lnTo>
                    <a:pt x="1664" y="258"/>
                  </a:lnTo>
                  <a:lnTo>
                    <a:pt x="1670" y="302"/>
                  </a:lnTo>
                  <a:lnTo>
                    <a:pt x="1690" y="280"/>
                  </a:lnTo>
                  <a:lnTo>
                    <a:pt x="1710" y="248"/>
                  </a:lnTo>
                  <a:lnTo>
                    <a:pt x="1754" y="212"/>
                  </a:lnTo>
                  <a:lnTo>
                    <a:pt x="1824" y="192"/>
                  </a:lnTo>
                  <a:lnTo>
                    <a:pt x="1838" y="174"/>
                  </a:lnTo>
                  <a:lnTo>
                    <a:pt x="1858" y="160"/>
                  </a:lnTo>
                  <a:lnTo>
                    <a:pt x="1888" y="158"/>
                  </a:lnTo>
                  <a:lnTo>
                    <a:pt x="1868" y="120"/>
                  </a:lnTo>
                  <a:lnTo>
                    <a:pt x="1858" y="112"/>
                  </a:lnTo>
                  <a:lnTo>
                    <a:pt x="1822" y="102"/>
                  </a:lnTo>
                  <a:lnTo>
                    <a:pt x="1768" y="102"/>
                  </a:lnTo>
                  <a:lnTo>
                    <a:pt x="1762" y="92"/>
                  </a:lnTo>
                  <a:lnTo>
                    <a:pt x="1650" y="122"/>
                  </a:lnTo>
                  <a:lnTo>
                    <a:pt x="1632" y="128"/>
                  </a:lnTo>
                  <a:lnTo>
                    <a:pt x="1626" y="132"/>
                  </a:lnTo>
                  <a:lnTo>
                    <a:pt x="1598" y="142"/>
                  </a:lnTo>
                  <a:lnTo>
                    <a:pt x="1402" y="200"/>
                  </a:lnTo>
                  <a:lnTo>
                    <a:pt x="1380" y="202"/>
                  </a:lnTo>
                  <a:lnTo>
                    <a:pt x="1370" y="192"/>
                  </a:lnTo>
                  <a:lnTo>
                    <a:pt x="1338" y="188"/>
                  </a:lnTo>
                  <a:lnTo>
                    <a:pt x="1308" y="180"/>
                  </a:lnTo>
                  <a:lnTo>
                    <a:pt x="1268" y="176"/>
                  </a:lnTo>
                  <a:lnTo>
                    <a:pt x="1182" y="154"/>
                  </a:lnTo>
                  <a:lnTo>
                    <a:pt x="1114" y="152"/>
                  </a:lnTo>
                  <a:lnTo>
                    <a:pt x="1062" y="160"/>
                  </a:lnTo>
                  <a:lnTo>
                    <a:pt x="1042" y="158"/>
                  </a:lnTo>
                  <a:lnTo>
                    <a:pt x="998" y="140"/>
                  </a:lnTo>
                  <a:lnTo>
                    <a:pt x="982" y="114"/>
                  </a:lnTo>
                  <a:lnTo>
                    <a:pt x="944" y="80"/>
                  </a:lnTo>
                  <a:lnTo>
                    <a:pt x="890" y="8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53560" y="6301800"/>
              <a:ext cx="51120" cy="24480"/>
            </a:xfrm>
            <a:custGeom>
              <a:avLst/>
              <a:gdLst/>
              <a:ahLst/>
              <a:rect l="l" t="t" r="r" b="b"/>
              <a:pathLst>
                <a:path w="298" h="150">
                  <a:moveTo>
                    <a:pt x="4" y="12"/>
                  </a:moveTo>
                  <a:lnTo>
                    <a:pt x="0" y="8"/>
                  </a:lnTo>
                  <a:lnTo>
                    <a:pt x="42" y="2"/>
                  </a:lnTo>
                  <a:lnTo>
                    <a:pt x="52" y="6"/>
                  </a:lnTo>
                  <a:lnTo>
                    <a:pt x="66" y="6"/>
                  </a:lnTo>
                  <a:lnTo>
                    <a:pt x="80" y="0"/>
                  </a:lnTo>
                  <a:lnTo>
                    <a:pt x="82" y="8"/>
                  </a:lnTo>
                  <a:lnTo>
                    <a:pt x="106" y="12"/>
                  </a:lnTo>
                  <a:lnTo>
                    <a:pt x="114" y="22"/>
                  </a:lnTo>
                  <a:lnTo>
                    <a:pt x="128" y="14"/>
                  </a:lnTo>
                  <a:lnTo>
                    <a:pt x="166" y="26"/>
                  </a:lnTo>
                  <a:lnTo>
                    <a:pt x="184" y="34"/>
                  </a:lnTo>
                  <a:lnTo>
                    <a:pt x="178" y="46"/>
                  </a:lnTo>
                  <a:lnTo>
                    <a:pt x="190" y="44"/>
                  </a:lnTo>
                  <a:lnTo>
                    <a:pt x="200" y="56"/>
                  </a:lnTo>
                  <a:lnTo>
                    <a:pt x="212" y="60"/>
                  </a:lnTo>
                  <a:lnTo>
                    <a:pt x="218" y="52"/>
                  </a:lnTo>
                  <a:lnTo>
                    <a:pt x="228" y="56"/>
                  </a:lnTo>
                  <a:lnTo>
                    <a:pt x="250" y="82"/>
                  </a:lnTo>
                  <a:lnTo>
                    <a:pt x="258" y="86"/>
                  </a:lnTo>
                  <a:lnTo>
                    <a:pt x="262" y="90"/>
                  </a:lnTo>
                  <a:lnTo>
                    <a:pt x="276" y="100"/>
                  </a:lnTo>
                  <a:lnTo>
                    <a:pt x="280" y="98"/>
                  </a:lnTo>
                  <a:lnTo>
                    <a:pt x="282" y="100"/>
                  </a:lnTo>
                  <a:lnTo>
                    <a:pt x="290" y="120"/>
                  </a:lnTo>
                  <a:lnTo>
                    <a:pt x="298" y="130"/>
                  </a:lnTo>
                  <a:lnTo>
                    <a:pt x="284" y="130"/>
                  </a:lnTo>
                  <a:lnTo>
                    <a:pt x="280" y="132"/>
                  </a:lnTo>
                  <a:lnTo>
                    <a:pt x="288" y="146"/>
                  </a:lnTo>
                  <a:lnTo>
                    <a:pt x="280" y="150"/>
                  </a:lnTo>
                  <a:lnTo>
                    <a:pt x="266" y="146"/>
                  </a:lnTo>
                  <a:lnTo>
                    <a:pt x="242" y="126"/>
                  </a:lnTo>
                  <a:lnTo>
                    <a:pt x="238" y="114"/>
                  </a:lnTo>
                  <a:lnTo>
                    <a:pt x="216" y="100"/>
                  </a:lnTo>
                  <a:lnTo>
                    <a:pt x="208" y="90"/>
                  </a:lnTo>
                  <a:lnTo>
                    <a:pt x="200" y="84"/>
                  </a:lnTo>
                  <a:lnTo>
                    <a:pt x="184" y="80"/>
                  </a:lnTo>
                  <a:lnTo>
                    <a:pt x="174" y="72"/>
                  </a:lnTo>
                  <a:lnTo>
                    <a:pt x="160" y="64"/>
                  </a:lnTo>
                  <a:lnTo>
                    <a:pt x="112" y="50"/>
                  </a:lnTo>
                  <a:lnTo>
                    <a:pt x="96" y="50"/>
                  </a:lnTo>
                  <a:lnTo>
                    <a:pt x="96" y="46"/>
                  </a:lnTo>
                  <a:lnTo>
                    <a:pt x="98" y="38"/>
                  </a:lnTo>
                  <a:lnTo>
                    <a:pt x="94" y="28"/>
                  </a:lnTo>
                  <a:lnTo>
                    <a:pt x="64" y="34"/>
                  </a:lnTo>
                  <a:lnTo>
                    <a:pt x="54" y="34"/>
                  </a:lnTo>
                  <a:lnTo>
                    <a:pt x="52" y="24"/>
                  </a:lnTo>
                  <a:lnTo>
                    <a:pt x="42" y="16"/>
                  </a:lnTo>
                  <a:lnTo>
                    <a:pt x="22" y="12"/>
                  </a:lnTo>
                  <a:lnTo>
                    <a:pt x="12" y="16"/>
                  </a:lnTo>
                  <a:lnTo>
                    <a:pt x="4" y="1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240" bIns="-21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55880" y="3708720"/>
              <a:ext cx="5760" cy="46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" y="8"/>
                  </a:moveTo>
                  <a:lnTo>
                    <a:pt x="0" y="0"/>
                  </a:lnTo>
                  <a:lnTo>
                    <a:pt x="18" y="8"/>
                  </a:lnTo>
                  <a:lnTo>
                    <a:pt x="22" y="18"/>
                  </a:lnTo>
                  <a:lnTo>
                    <a:pt x="30" y="24"/>
                  </a:lnTo>
                  <a:lnTo>
                    <a:pt x="28" y="30"/>
                  </a:lnTo>
                  <a:lnTo>
                    <a:pt x="12" y="28"/>
                  </a:lnTo>
                  <a:lnTo>
                    <a:pt x="2" y="14"/>
                  </a:lnTo>
                  <a:lnTo>
                    <a:pt x="2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29760" y="3799800"/>
              <a:ext cx="10800" cy="576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36" y="2"/>
                  </a:moveTo>
                  <a:lnTo>
                    <a:pt x="32" y="0"/>
                  </a:lnTo>
                  <a:lnTo>
                    <a:pt x="22" y="4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0" y="28"/>
                  </a:lnTo>
                  <a:lnTo>
                    <a:pt x="36" y="34"/>
                  </a:lnTo>
                  <a:lnTo>
                    <a:pt x="56" y="28"/>
                  </a:lnTo>
                  <a:lnTo>
                    <a:pt x="54" y="8"/>
                  </a:lnTo>
                  <a:lnTo>
                    <a:pt x="36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960" bIns="-399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48480" y="3791880"/>
              <a:ext cx="2880" cy="43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0"/>
                  </a:moveTo>
                  <a:lnTo>
                    <a:pt x="6" y="2"/>
                  </a:lnTo>
                  <a:lnTo>
                    <a:pt x="0" y="20"/>
                  </a:lnTo>
                  <a:lnTo>
                    <a:pt x="10" y="22"/>
                  </a:lnTo>
                  <a:lnTo>
                    <a:pt x="16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770440" y="6171480"/>
              <a:ext cx="39240" cy="3204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44" y="98"/>
                  </a:moveTo>
                  <a:lnTo>
                    <a:pt x="140" y="100"/>
                  </a:lnTo>
                  <a:lnTo>
                    <a:pt x="134" y="114"/>
                  </a:lnTo>
                  <a:lnTo>
                    <a:pt x="130" y="116"/>
                  </a:lnTo>
                  <a:lnTo>
                    <a:pt x="112" y="122"/>
                  </a:lnTo>
                  <a:lnTo>
                    <a:pt x="90" y="116"/>
                  </a:lnTo>
                  <a:lnTo>
                    <a:pt x="96" y="104"/>
                  </a:lnTo>
                  <a:lnTo>
                    <a:pt x="92" y="96"/>
                  </a:lnTo>
                  <a:lnTo>
                    <a:pt x="82" y="84"/>
                  </a:lnTo>
                  <a:lnTo>
                    <a:pt x="106" y="90"/>
                  </a:lnTo>
                  <a:lnTo>
                    <a:pt x="116" y="86"/>
                  </a:lnTo>
                  <a:lnTo>
                    <a:pt x="126" y="78"/>
                  </a:lnTo>
                  <a:lnTo>
                    <a:pt x="122" y="70"/>
                  </a:lnTo>
                  <a:lnTo>
                    <a:pt x="128" y="64"/>
                  </a:lnTo>
                  <a:lnTo>
                    <a:pt x="116" y="58"/>
                  </a:lnTo>
                  <a:lnTo>
                    <a:pt x="102" y="66"/>
                  </a:lnTo>
                  <a:lnTo>
                    <a:pt x="76" y="74"/>
                  </a:lnTo>
                  <a:lnTo>
                    <a:pt x="52" y="74"/>
                  </a:lnTo>
                  <a:lnTo>
                    <a:pt x="44" y="70"/>
                  </a:lnTo>
                  <a:lnTo>
                    <a:pt x="60" y="56"/>
                  </a:lnTo>
                  <a:lnTo>
                    <a:pt x="56" y="48"/>
                  </a:lnTo>
                  <a:lnTo>
                    <a:pt x="76" y="40"/>
                  </a:lnTo>
                  <a:lnTo>
                    <a:pt x="82" y="20"/>
                  </a:lnTo>
                  <a:lnTo>
                    <a:pt x="62" y="30"/>
                  </a:lnTo>
                  <a:lnTo>
                    <a:pt x="74" y="8"/>
                  </a:lnTo>
                  <a:lnTo>
                    <a:pt x="66" y="4"/>
                  </a:lnTo>
                  <a:lnTo>
                    <a:pt x="54" y="0"/>
                  </a:lnTo>
                  <a:lnTo>
                    <a:pt x="50" y="10"/>
                  </a:lnTo>
                  <a:lnTo>
                    <a:pt x="28" y="32"/>
                  </a:lnTo>
                  <a:lnTo>
                    <a:pt x="30" y="54"/>
                  </a:lnTo>
                  <a:lnTo>
                    <a:pt x="20" y="68"/>
                  </a:lnTo>
                  <a:lnTo>
                    <a:pt x="22" y="82"/>
                  </a:lnTo>
                  <a:lnTo>
                    <a:pt x="142" y="94"/>
                  </a:lnTo>
                  <a:lnTo>
                    <a:pt x="20" y="114"/>
                  </a:lnTo>
                  <a:lnTo>
                    <a:pt x="34" y="114"/>
                  </a:lnTo>
                  <a:lnTo>
                    <a:pt x="50" y="98"/>
                  </a:lnTo>
                  <a:lnTo>
                    <a:pt x="40" y="120"/>
                  </a:lnTo>
                  <a:lnTo>
                    <a:pt x="30" y="120"/>
                  </a:lnTo>
                  <a:lnTo>
                    <a:pt x="14" y="138"/>
                  </a:lnTo>
                  <a:lnTo>
                    <a:pt x="0" y="156"/>
                  </a:lnTo>
                  <a:lnTo>
                    <a:pt x="10" y="178"/>
                  </a:lnTo>
                  <a:lnTo>
                    <a:pt x="4" y="172"/>
                  </a:lnTo>
                  <a:lnTo>
                    <a:pt x="30" y="164"/>
                  </a:lnTo>
                  <a:lnTo>
                    <a:pt x="48" y="152"/>
                  </a:lnTo>
                  <a:lnTo>
                    <a:pt x="66" y="156"/>
                  </a:lnTo>
                  <a:lnTo>
                    <a:pt x="58" y="178"/>
                  </a:lnTo>
                  <a:lnTo>
                    <a:pt x="82" y="180"/>
                  </a:lnTo>
                  <a:lnTo>
                    <a:pt x="90" y="158"/>
                  </a:lnTo>
                  <a:lnTo>
                    <a:pt x="98" y="154"/>
                  </a:lnTo>
                  <a:lnTo>
                    <a:pt x="104" y="164"/>
                  </a:lnTo>
                  <a:lnTo>
                    <a:pt x="104" y="180"/>
                  </a:lnTo>
                  <a:lnTo>
                    <a:pt x="126" y="188"/>
                  </a:lnTo>
                  <a:lnTo>
                    <a:pt x="150" y="182"/>
                  </a:lnTo>
                  <a:lnTo>
                    <a:pt x="142" y="172"/>
                  </a:lnTo>
                  <a:lnTo>
                    <a:pt x="158" y="164"/>
                  </a:lnTo>
                  <a:lnTo>
                    <a:pt x="148" y="158"/>
                  </a:lnTo>
                  <a:lnTo>
                    <a:pt x="140" y="160"/>
                  </a:lnTo>
                  <a:lnTo>
                    <a:pt x="130" y="170"/>
                  </a:lnTo>
                  <a:lnTo>
                    <a:pt x="118" y="156"/>
                  </a:lnTo>
                  <a:lnTo>
                    <a:pt x="128" y="132"/>
                  </a:lnTo>
                  <a:lnTo>
                    <a:pt x="166" y="128"/>
                  </a:lnTo>
                  <a:lnTo>
                    <a:pt x="174" y="142"/>
                  </a:lnTo>
                  <a:lnTo>
                    <a:pt x="188" y="132"/>
                  </a:lnTo>
                  <a:lnTo>
                    <a:pt x="222" y="92"/>
                  </a:lnTo>
                  <a:lnTo>
                    <a:pt x="216" y="78"/>
                  </a:lnTo>
                  <a:lnTo>
                    <a:pt x="188" y="84"/>
                  </a:lnTo>
                  <a:lnTo>
                    <a:pt x="178" y="96"/>
                  </a:lnTo>
                  <a:lnTo>
                    <a:pt x="174" y="90"/>
                  </a:lnTo>
                  <a:lnTo>
                    <a:pt x="144" y="98"/>
                  </a:lnTo>
                </a:path>
              </a:pathLst>
            </a:custGeom>
            <a:solidFill>
              <a:srgbClr val="33c733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3680" bIns="-136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29960" y="3977280"/>
              <a:ext cx="2880" cy="936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18" y="8"/>
                  </a:moveTo>
                  <a:lnTo>
                    <a:pt x="0" y="0"/>
                  </a:lnTo>
                  <a:lnTo>
                    <a:pt x="4" y="28"/>
                  </a:lnTo>
                  <a:lnTo>
                    <a:pt x="12" y="52"/>
                  </a:lnTo>
                  <a:lnTo>
                    <a:pt x="22" y="46"/>
                  </a:lnTo>
                  <a:lnTo>
                    <a:pt x="18" y="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360" bIns="-36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659560" y="5354280"/>
              <a:ext cx="17280" cy="1512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10" y="16"/>
                  </a:moveTo>
                  <a:lnTo>
                    <a:pt x="0" y="12"/>
                  </a:lnTo>
                  <a:lnTo>
                    <a:pt x="54" y="0"/>
                  </a:lnTo>
                  <a:lnTo>
                    <a:pt x="76" y="14"/>
                  </a:lnTo>
                  <a:lnTo>
                    <a:pt x="88" y="44"/>
                  </a:lnTo>
                  <a:lnTo>
                    <a:pt x="84" y="68"/>
                  </a:lnTo>
                  <a:lnTo>
                    <a:pt x="80" y="86"/>
                  </a:lnTo>
                  <a:lnTo>
                    <a:pt x="54" y="88"/>
                  </a:lnTo>
                  <a:lnTo>
                    <a:pt x="34" y="72"/>
                  </a:lnTo>
                  <a:lnTo>
                    <a:pt x="16" y="44"/>
                  </a:lnTo>
                  <a:lnTo>
                    <a:pt x="10" y="16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600" bIns="-30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72800" y="3426840"/>
              <a:ext cx="6120" cy="612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0"/>
                  </a:moveTo>
                  <a:lnTo>
                    <a:pt x="12" y="8"/>
                  </a:lnTo>
                  <a:lnTo>
                    <a:pt x="6" y="20"/>
                  </a:lnTo>
                  <a:lnTo>
                    <a:pt x="0" y="34"/>
                  </a:lnTo>
                  <a:lnTo>
                    <a:pt x="12" y="24"/>
                  </a:lnTo>
                  <a:lnTo>
                    <a:pt x="20" y="24"/>
                  </a:lnTo>
                  <a:lnTo>
                    <a:pt x="26" y="14"/>
                  </a:lnTo>
                  <a:lnTo>
                    <a:pt x="30" y="4"/>
                  </a:lnTo>
                  <a:lnTo>
                    <a:pt x="22" y="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37080" y="4376160"/>
              <a:ext cx="190440" cy="320040"/>
            </a:xfrm>
            <a:custGeom>
              <a:avLst/>
              <a:gdLst/>
              <a:ahLst/>
              <a:rect l="l" t="t" r="r" b="b"/>
              <a:pathLst>
                <a:path w="1102" h="1884">
                  <a:moveTo>
                    <a:pt x="694" y="1790"/>
                  </a:moveTo>
                  <a:lnTo>
                    <a:pt x="670" y="1782"/>
                  </a:lnTo>
                  <a:lnTo>
                    <a:pt x="578" y="1780"/>
                  </a:lnTo>
                  <a:lnTo>
                    <a:pt x="536" y="1768"/>
                  </a:lnTo>
                  <a:lnTo>
                    <a:pt x="484" y="1778"/>
                  </a:lnTo>
                  <a:lnTo>
                    <a:pt x="446" y="1772"/>
                  </a:lnTo>
                  <a:lnTo>
                    <a:pt x="408" y="1782"/>
                  </a:lnTo>
                  <a:lnTo>
                    <a:pt x="304" y="1782"/>
                  </a:lnTo>
                  <a:lnTo>
                    <a:pt x="196" y="1790"/>
                  </a:lnTo>
                  <a:lnTo>
                    <a:pt x="184" y="1794"/>
                  </a:lnTo>
                  <a:lnTo>
                    <a:pt x="196" y="1688"/>
                  </a:lnTo>
                  <a:lnTo>
                    <a:pt x="206" y="1638"/>
                  </a:lnTo>
                  <a:lnTo>
                    <a:pt x="208" y="1620"/>
                  </a:lnTo>
                  <a:lnTo>
                    <a:pt x="212" y="1612"/>
                  </a:lnTo>
                  <a:lnTo>
                    <a:pt x="198" y="1590"/>
                  </a:lnTo>
                  <a:lnTo>
                    <a:pt x="182" y="1570"/>
                  </a:lnTo>
                  <a:lnTo>
                    <a:pt x="176" y="1556"/>
                  </a:lnTo>
                  <a:lnTo>
                    <a:pt x="164" y="1538"/>
                  </a:lnTo>
                  <a:lnTo>
                    <a:pt x="164" y="1526"/>
                  </a:lnTo>
                  <a:lnTo>
                    <a:pt x="174" y="1524"/>
                  </a:lnTo>
                  <a:lnTo>
                    <a:pt x="178" y="1510"/>
                  </a:lnTo>
                  <a:lnTo>
                    <a:pt x="176" y="1484"/>
                  </a:lnTo>
                  <a:lnTo>
                    <a:pt x="168" y="1476"/>
                  </a:lnTo>
                  <a:lnTo>
                    <a:pt x="152" y="1478"/>
                  </a:lnTo>
                  <a:lnTo>
                    <a:pt x="148" y="1490"/>
                  </a:lnTo>
                  <a:lnTo>
                    <a:pt x="136" y="1494"/>
                  </a:lnTo>
                  <a:lnTo>
                    <a:pt x="82" y="1468"/>
                  </a:lnTo>
                  <a:lnTo>
                    <a:pt x="70" y="1440"/>
                  </a:lnTo>
                  <a:lnTo>
                    <a:pt x="56" y="1394"/>
                  </a:lnTo>
                  <a:lnTo>
                    <a:pt x="30" y="1394"/>
                  </a:lnTo>
                  <a:lnTo>
                    <a:pt x="18" y="1398"/>
                  </a:lnTo>
                  <a:lnTo>
                    <a:pt x="6" y="1390"/>
                  </a:lnTo>
                  <a:lnTo>
                    <a:pt x="6" y="1370"/>
                  </a:lnTo>
                  <a:lnTo>
                    <a:pt x="0" y="1362"/>
                  </a:lnTo>
                  <a:lnTo>
                    <a:pt x="0" y="1340"/>
                  </a:lnTo>
                  <a:lnTo>
                    <a:pt x="20" y="1322"/>
                  </a:lnTo>
                  <a:lnTo>
                    <a:pt x="36" y="1292"/>
                  </a:lnTo>
                  <a:lnTo>
                    <a:pt x="46" y="1264"/>
                  </a:lnTo>
                  <a:lnTo>
                    <a:pt x="48" y="1222"/>
                  </a:lnTo>
                  <a:lnTo>
                    <a:pt x="58" y="1174"/>
                  </a:lnTo>
                  <a:lnTo>
                    <a:pt x="82" y="1122"/>
                  </a:lnTo>
                  <a:lnTo>
                    <a:pt x="102" y="1090"/>
                  </a:lnTo>
                  <a:lnTo>
                    <a:pt x="122" y="1068"/>
                  </a:lnTo>
                  <a:lnTo>
                    <a:pt x="148" y="1052"/>
                  </a:lnTo>
                  <a:lnTo>
                    <a:pt x="160" y="1002"/>
                  </a:lnTo>
                  <a:lnTo>
                    <a:pt x="164" y="1000"/>
                  </a:lnTo>
                  <a:lnTo>
                    <a:pt x="204" y="1000"/>
                  </a:lnTo>
                  <a:lnTo>
                    <a:pt x="260" y="986"/>
                  </a:lnTo>
                  <a:lnTo>
                    <a:pt x="302" y="990"/>
                  </a:lnTo>
                  <a:lnTo>
                    <a:pt x="330" y="1020"/>
                  </a:lnTo>
                  <a:lnTo>
                    <a:pt x="338" y="1032"/>
                  </a:lnTo>
                  <a:lnTo>
                    <a:pt x="338" y="1040"/>
                  </a:lnTo>
                  <a:lnTo>
                    <a:pt x="348" y="1046"/>
                  </a:lnTo>
                  <a:lnTo>
                    <a:pt x="372" y="1068"/>
                  </a:lnTo>
                  <a:lnTo>
                    <a:pt x="406" y="1070"/>
                  </a:lnTo>
                  <a:lnTo>
                    <a:pt x="426" y="1058"/>
                  </a:lnTo>
                  <a:lnTo>
                    <a:pt x="438" y="1040"/>
                  </a:lnTo>
                  <a:lnTo>
                    <a:pt x="440" y="1016"/>
                  </a:lnTo>
                  <a:lnTo>
                    <a:pt x="488" y="920"/>
                  </a:lnTo>
                  <a:lnTo>
                    <a:pt x="512" y="852"/>
                  </a:lnTo>
                  <a:lnTo>
                    <a:pt x="520" y="830"/>
                  </a:lnTo>
                  <a:lnTo>
                    <a:pt x="528" y="780"/>
                  </a:lnTo>
                  <a:lnTo>
                    <a:pt x="544" y="734"/>
                  </a:lnTo>
                  <a:lnTo>
                    <a:pt x="570" y="696"/>
                  </a:lnTo>
                  <a:lnTo>
                    <a:pt x="610" y="676"/>
                  </a:lnTo>
                  <a:lnTo>
                    <a:pt x="616" y="662"/>
                  </a:lnTo>
                  <a:lnTo>
                    <a:pt x="620" y="642"/>
                  </a:lnTo>
                  <a:lnTo>
                    <a:pt x="622" y="606"/>
                  </a:lnTo>
                  <a:lnTo>
                    <a:pt x="644" y="520"/>
                  </a:lnTo>
                  <a:lnTo>
                    <a:pt x="648" y="486"/>
                  </a:lnTo>
                  <a:lnTo>
                    <a:pt x="656" y="452"/>
                  </a:lnTo>
                  <a:lnTo>
                    <a:pt x="678" y="402"/>
                  </a:lnTo>
                  <a:lnTo>
                    <a:pt x="696" y="330"/>
                  </a:lnTo>
                  <a:lnTo>
                    <a:pt x="706" y="306"/>
                  </a:lnTo>
                  <a:lnTo>
                    <a:pt x="716" y="288"/>
                  </a:lnTo>
                  <a:lnTo>
                    <a:pt x="738" y="260"/>
                  </a:lnTo>
                  <a:lnTo>
                    <a:pt x="748" y="252"/>
                  </a:lnTo>
                  <a:lnTo>
                    <a:pt x="790" y="236"/>
                  </a:lnTo>
                  <a:lnTo>
                    <a:pt x="796" y="226"/>
                  </a:lnTo>
                  <a:lnTo>
                    <a:pt x="844" y="188"/>
                  </a:lnTo>
                  <a:lnTo>
                    <a:pt x="840" y="148"/>
                  </a:lnTo>
                  <a:lnTo>
                    <a:pt x="840" y="96"/>
                  </a:lnTo>
                  <a:lnTo>
                    <a:pt x="834" y="78"/>
                  </a:lnTo>
                  <a:lnTo>
                    <a:pt x="828" y="72"/>
                  </a:lnTo>
                  <a:lnTo>
                    <a:pt x="824" y="68"/>
                  </a:lnTo>
                  <a:lnTo>
                    <a:pt x="796" y="58"/>
                  </a:lnTo>
                  <a:lnTo>
                    <a:pt x="794" y="48"/>
                  </a:lnTo>
                  <a:lnTo>
                    <a:pt x="804" y="48"/>
                  </a:lnTo>
                  <a:lnTo>
                    <a:pt x="804" y="48"/>
                  </a:lnTo>
                  <a:lnTo>
                    <a:pt x="828" y="10"/>
                  </a:lnTo>
                  <a:lnTo>
                    <a:pt x="848" y="2"/>
                  </a:lnTo>
                  <a:lnTo>
                    <a:pt x="866" y="0"/>
                  </a:lnTo>
                  <a:lnTo>
                    <a:pt x="870" y="8"/>
                  </a:lnTo>
                  <a:lnTo>
                    <a:pt x="872" y="14"/>
                  </a:lnTo>
                  <a:lnTo>
                    <a:pt x="890" y="100"/>
                  </a:lnTo>
                  <a:lnTo>
                    <a:pt x="904" y="124"/>
                  </a:lnTo>
                  <a:lnTo>
                    <a:pt x="912" y="146"/>
                  </a:lnTo>
                  <a:lnTo>
                    <a:pt x="910" y="206"/>
                  </a:lnTo>
                  <a:lnTo>
                    <a:pt x="908" y="240"/>
                  </a:lnTo>
                  <a:lnTo>
                    <a:pt x="900" y="274"/>
                  </a:lnTo>
                  <a:lnTo>
                    <a:pt x="900" y="300"/>
                  </a:lnTo>
                  <a:lnTo>
                    <a:pt x="926" y="360"/>
                  </a:lnTo>
                  <a:lnTo>
                    <a:pt x="966" y="424"/>
                  </a:lnTo>
                  <a:lnTo>
                    <a:pt x="972" y="446"/>
                  </a:lnTo>
                  <a:lnTo>
                    <a:pt x="974" y="470"/>
                  </a:lnTo>
                  <a:lnTo>
                    <a:pt x="972" y="480"/>
                  </a:lnTo>
                  <a:lnTo>
                    <a:pt x="962" y="484"/>
                  </a:lnTo>
                  <a:lnTo>
                    <a:pt x="910" y="472"/>
                  </a:lnTo>
                  <a:lnTo>
                    <a:pt x="870" y="468"/>
                  </a:lnTo>
                  <a:lnTo>
                    <a:pt x="832" y="472"/>
                  </a:lnTo>
                  <a:lnTo>
                    <a:pt x="822" y="476"/>
                  </a:lnTo>
                  <a:lnTo>
                    <a:pt x="812" y="482"/>
                  </a:lnTo>
                  <a:lnTo>
                    <a:pt x="802" y="500"/>
                  </a:lnTo>
                  <a:lnTo>
                    <a:pt x="798" y="546"/>
                  </a:lnTo>
                  <a:lnTo>
                    <a:pt x="806" y="582"/>
                  </a:lnTo>
                  <a:lnTo>
                    <a:pt x="832" y="626"/>
                  </a:lnTo>
                  <a:lnTo>
                    <a:pt x="854" y="642"/>
                  </a:lnTo>
                  <a:lnTo>
                    <a:pt x="876" y="652"/>
                  </a:lnTo>
                  <a:lnTo>
                    <a:pt x="906" y="662"/>
                  </a:lnTo>
                  <a:lnTo>
                    <a:pt x="918" y="670"/>
                  </a:lnTo>
                  <a:lnTo>
                    <a:pt x="932" y="698"/>
                  </a:lnTo>
                  <a:lnTo>
                    <a:pt x="962" y="782"/>
                  </a:lnTo>
                  <a:lnTo>
                    <a:pt x="972" y="836"/>
                  </a:lnTo>
                  <a:lnTo>
                    <a:pt x="978" y="888"/>
                  </a:lnTo>
                  <a:lnTo>
                    <a:pt x="980" y="900"/>
                  </a:lnTo>
                  <a:lnTo>
                    <a:pt x="988" y="904"/>
                  </a:lnTo>
                  <a:lnTo>
                    <a:pt x="962" y="982"/>
                  </a:lnTo>
                  <a:lnTo>
                    <a:pt x="938" y="1030"/>
                  </a:lnTo>
                  <a:lnTo>
                    <a:pt x="918" y="1078"/>
                  </a:lnTo>
                  <a:lnTo>
                    <a:pt x="892" y="1122"/>
                  </a:lnTo>
                  <a:lnTo>
                    <a:pt x="866" y="1158"/>
                  </a:lnTo>
                  <a:lnTo>
                    <a:pt x="864" y="1196"/>
                  </a:lnTo>
                  <a:lnTo>
                    <a:pt x="876" y="1242"/>
                  </a:lnTo>
                  <a:lnTo>
                    <a:pt x="872" y="1294"/>
                  </a:lnTo>
                  <a:lnTo>
                    <a:pt x="876" y="1344"/>
                  </a:lnTo>
                  <a:lnTo>
                    <a:pt x="902" y="1400"/>
                  </a:lnTo>
                  <a:lnTo>
                    <a:pt x="926" y="1436"/>
                  </a:lnTo>
                  <a:lnTo>
                    <a:pt x="992" y="1576"/>
                  </a:lnTo>
                  <a:lnTo>
                    <a:pt x="1020" y="1616"/>
                  </a:lnTo>
                  <a:lnTo>
                    <a:pt x="1082" y="1678"/>
                  </a:lnTo>
                  <a:lnTo>
                    <a:pt x="1100" y="1674"/>
                  </a:lnTo>
                  <a:lnTo>
                    <a:pt x="1094" y="1710"/>
                  </a:lnTo>
                  <a:lnTo>
                    <a:pt x="1102" y="1844"/>
                  </a:lnTo>
                  <a:lnTo>
                    <a:pt x="1094" y="1874"/>
                  </a:lnTo>
                  <a:lnTo>
                    <a:pt x="1082" y="1884"/>
                  </a:lnTo>
                  <a:lnTo>
                    <a:pt x="1020" y="1826"/>
                  </a:lnTo>
                  <a:lnTo>
                    <a:pt x="994" y="1828"/>
                  </a:lnTo>
                  <a:lnTo>
                    <a:pt x="958" y="1814"/>
                  </a:lnTo>
                  <a:lnTo>
                    <a:pt x="920" y="1810"/>
                  </a:lnTo>
                  <a:lnTo>
                    <a:pt x="890" y="1790"/>
                  </a:lnTo>
                  <a:lnTo>
                    <a:pt x="694" y="179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31400" y="3890160"/>
              <a:ext cx="81000" cy="48960"/>
            </a:xfrm>
            <a:custGeom>
              <a:avLst/>
              <a:gdLst/>
              <a:ahLst/>
              <a:rect l="l" t="t" r="r" b="b"/>
              <a:pathLst>
                <a:path w="462" h="282">
                  <a:moveTo>
                    <a:pt x="372" y="82"/>
                  </a:moveTo>
                  <a:lnTo>
                    <a:pt x="368" y="76"/>
                  </a:lnTo>
                  <a:lnTo>
                    <a:pt x="332" y="56"/>
                  </a:lnTo>
                  <a:lnTo>
                    <a:pt x="322" y="46"/>
                  </a:lnTo>
                  <a:lnTo>
                    <a:pt x="312" y="42"/>
                  </a:lnTo>
                  <a:lnTo>
                    <a:pt x="282" y="54"/>
                  </a:lnTo>
                  <a:lnTo>
                    <a:pt x="268" y="54"/>
                  </a:lnTo>
                  <a:lnTo>
                    <a:pt x="232" y="44"/>
                  </a:lnTo>
                  <a:lnTo>
                    <a:pt x="192" y="40"/>
                  </a:lnTo>
                  <a:lnTo>
                    <a:pt x="170" y="26"/>
                  </a:lnTo>
                  <a:lnTo>
                    <a:pt x="168" y="20"/>
                  </a:lnTo>
                  <a:lnTo>
                    <a:pt x="154" y="4"/>
                  </a:lnTo>
                  <a:lnTo>
                    <a:pt x="138" y="0"/>
                  </a:lnTo>
                  <a:lnTo>
                    <a:pt x="104" y="6"/>
                  </a:lnTo>
                  <a:lnTo>
                    <a:pt x="80" y="20"/>
                  </a:lnTo>
                  <a:lnTo>
                    <a:pt x="60" y="52"/>
                  </a:lnTo>
                  <a:lnTo>
                    <a:pt x="48" y="100"/>
                  </a:lnTo>
                  <a:lnTo>
                    <a:pt x="12" y="160"/>
                  </a:lnTo>
                  <a:lnTo>
                    <a:pt x="14" y="174"/>
                  </a:lnTo>
                  <a:lnTo>
                    <a:pt x="14" y="184"/>
                  </a:lnTo>
                  <a:lnTo>
                    <a:pt x="0" y="212"/>
                  </a:lnTo>
                  <a:lnTo>
                    <a:pt x="2" y="224"/>
                  </a:lnTo>
                  <a:lnTo>
                    <a:pt x="16" y="228"/>
                  </a:lnTo>
                  <a:lnTo>
                    <a:pt x="20" y="234"/>
                  </a:lnTo>
                  <a:lnTo>
                    <a:pt x="24" y="256"/>
                  </a:lnTo>
                  <a:lnTo>
                    <a:pt x="30" y="260"/>
                  </a:lnTo>
                  <a:lnTo>
                    <a:pt x="38" y="258"/>
                  </a:lnTo>
                  <a:lnTo>
                    <a:pt x="50" y="266"/>
                  </a:lnTo>
                  <a:lnTo>
                    <a:pt x="80" y="276"/>
                  </a:lnTo>
                  <a:lnTo>
                    <a:pt x="138" y="282"/>
                  </a:lnTo>
                  <a:lnTo>
                    <a:pt x="184" y="280"/>
                  </a:lnTo>
                  <a:lnTo>
                    <a:pt x="236" y="256"/>
                  </a:lnTo>
                  <a:lnTo>
                    <a:pt x="248" y="254"/>
                  </a:lnTo>
                  <a:lnTo>
                    <a:pt x="278" y="264"/>
                  </a:lnTo>
                  <a:lnTo>
                    <a:pt x="300" y="264"/>
                  </a:lnTo>
                  <a:lnTo>
                    <a:pt x="320" y="260"/>
                  </a:lnTo>
                  <a:lnTo>
                    <a:pt x="366" y="244"/>
                  </a:lnTo>
                  <a:lnTo>
                    <a:pt x="398" y="244"/>
                  </a:lnTo>
                  <a:lnTo>
                    <a:pt x="446" y="230"/>
                  </a:lnTo>
                  <a:lnTo>
                    <a:pt x="462" y="216"/>
                  </a:lnTo>
                  <a:lnTo>
                    <a:pt x="462" y="208"/>
                  </a:lnTo>
                  <a:lnTo>
                    <a:pt x="456" y="198"/>
                  </a:lnTo>
                  <a:lnTo>
                    <a:pt x="448" y="156"/>
                  </a:lnTo>
                  <a:lnTo>
                    <a:pt x="428" y="140"/>
                  </a:lnTo>
                  <a:lnTo>
                    <a:pt x="380" y="122"/>
                  </a:lnTo>
                  <a:lnTo>
                    <a:pt x="374" y="114"/>
                  </a:lnTo>
                  <a:lnTo>
                    <a:pt x="372" y="106"/>
                  </a:lnTo>
                  <a:lnTo>
                    <a:pt x="374" y="90"/>
                  </a:lnTo>
                  <a:lnTo>
                    <a:pt x="372" y="8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40" bIns="32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730400" y="3412800"/>
              <a:ext cx="100080" cy="125640"/>
            </a:xfrm>
            <a:custGeom>
              <a:avLst/>
              <a:gdLst/>
              <a:ahLst/>
              <a:rect l="l" t="t" r="r" b="b"/>
              <a:pathLst>
                <a:path w="568" h="734">
                  <a:moveTo>
                    <a:pt x="0" y="50"/>
                  </a:moveTo>
                  <a:lnTo>
                    <a:pt x="20" y="66"/>
                  </a:lnTo>
                  <a:lnTo>
                    <a:pt x="22" y="72"/>
                  </a:lnTo>
                  <a:lnTo>
                    <a:pt x="18" y="78"/>
                  </a:lnTo>
                  <a:lnTo>
                    <a:pt x="24" y="82"/>
                  </a:lnTo>
                  <a:lnTo>
                    <a:pt x="26" y="90"/>
                  </a:lnTo>
                  <a:lnTo>
                    <a:pt x="20" y="98"/>
                  </a:lnTo>
                  <a:lnTo>
                    <a:pt x="22" y="104"/>
                  </a:lnTo>
                  <a:lnTo>
                    <a:pt x="28" y="108"/>
                  </a:lnTo>
                  <a:lnTo>
                    <a:pt x="34" y="102"/>
                  </a:lnTo>
                  <a:lnTo>
                    <a:pt x="38" y="102"/>
                  </a:lnTo>
                  <a:lnTo>
                    <a:pt x="46" y="108"/>
                  </a:lnTo>
                  <a:lnTo>
                    <a:pt x="46" y="110"/>
                  </a:lnTo>
                  <a:lnTo>
                    <a:pt x="42" y="114"/>
                  </a:lnTo>
                  <a:lnTo>
                    <a:pt x="38" y="114"/>
                  </a:lnTo>
                  <a:lnTo>
                    <a:pt x="36" y="120"/>
                  </a:lnTo>
                  <a:lnTo>
                    <a:pt x="40" y="124"/>
                  </a:lnTo>
                  <a:lnTo>
                    <a:pt x="38" y="130"/>
                  </a:lnTo>
                  <a:lnTo>
                    <a:pt x="38" y="134"/>
                  </a:lnTo>
                  <a:lnTo>
                    <a:pt x="40" y="138"/>
                  </a:lnTo>
                  <a:lnTo>
                    <a:pt x="50" y="138"/>
                  </a:lnTo>
                  <a:lnTo>
                    <a:pt x="54" y="142"/>
                  </a:lnTo>
                  <a:lnTo>
                    <a:pt x="60" y="148"/>
                  </a:lnTo>
                  <a:lnTo>
                    <a:pt x="72" y="146"/>
                  </a:lnTo>
                  <a:lnTo>
                    <a:pt x="80" y="150"/>
                  </a:lnTo>
                  <a:lnTo>
                    <a:pt x="90" y="150"/>
                  </a:lnTo>
                  <a:lnTo>
                    <a:pt x="96" y="152"/>
                  </a:lnTo>
                  <a:lnTo>
                    <a:pt x="96" y="156"/>
                  </a:lnTo>
                  <a:lnTo>
                    <a:pt x="88" y="162"/>
                  </a:lnTo>
                  <a:lnTo>
                    <a:pt x="80" y="160"/>
                  </a:lnTo>
                  <a:lnTo>
                    <a:pt x="70" y="158"/>
                  </a:lnTo>
                  <a:lnTo>
                    <a:pt x="66" y="158"/>
                  </a:lnTo>
                  <a:lnTo>
                    <a:pt x="64" y="170"/>
                  </a:lnTo>
                  <a:lnTo>
                    <a:pt x="60" y="176"/>
                  </a:lnTo>
                  <a:lnTo>
                    <a:pt x="64" y="196"/>
                  </a:lnTo>
                  <a:lnTo>
                    <a:pt x="70" y="200"/>
                  </a:lnTo>
                  <a:lnTo>
                    <a:pt x="68" y="210"/>
                  </a:lnTo>
                  <a:lnTo>
                    <a:pt x="96" y="210"/>
                  </a:lnTo>
                  <a:lnTo>
                    <a:pt x="102" y="218"/>
                  </a:lnTo>
                  <a:lnTo>
                    <a:pt x="98" y="224"/>
                  </a:lnTo>
                  <a:lnTo>
                    <a:pt x="100" y="234"/>
                  </a:lnTo>
                  <a:lnTo>
                    <a:pt x="90" y="250"/>
                  </a:lnTo>
                  <a:lnTo>
                    <a:pt x="82" y="274"/>
                  </a:lnTo>
                  <a:lnTo>
                    <a:pt x="76" y="276"/>
                  </a:lnTo>
                  <a:lnTo>
                    <a:pt x="78" y="284"/>
                  </a:lnTo>
                  <a:lnTo>
                    <a:pt x="80" y="288"/>
                  </a:lnTo>
                  <a:lnTo>
                    <a:pt x="74" y="300"/>
                  </a:lnTo>
                  <a:lnTo>
                    <a:pt x="80" y="314"/>
                  </a:lnTo>
                  <a:lnTo>
                    <a:pt x="88" y="316"/>
                  </a:lnTo>
                  <a:lnTo>
                    <a:pt x="94" y="318"/>
                  </a:lnTo>
                  <a:lnTo>
                    <a:pt x="102" y="316"/>
                  </a:lnTo>
                  <a:lnTo>
                    <a:pt x="108" y="324"/>
                  </a:lnTo>
                  <a:lnTo>
                    <a:pt x="110" y="330"/>
                  </a:lnTo>
                  <a:lnTo>
                    <a:pt x="120" y="340"/>
                  </a:lnTo>
                  <a:lnTo>
                    <a:pt x="126" y="338"/>
                  </a:lnTo>
                  <a:lnTo>
                    <a:pt x="128" y="342"/>
                  </a:lnTo>
                  <a:lnTo>
                    <a:pt x="128" y="346"/>
                  </a:lnTo>
                  <a:lnTo>
                    <a:pt x="138" y="352"/>
                  </a:lnTo>
                  <a:lnTo>
                    <a:pt x="144" y="354"/>
                  </a:lnTo>
                  <a:lnTo>
                    <a:pt x="146" y="360"/>
                  </a:lnTo>
                  <a:lnTo>
                    <a:pt x="138" y="370"/>
                  </a:lnTo>
                  <a:lnTo>
                    <a:pt x="120" y="372"/>
                  </a:lnTo>
                  <a:lnTo>
                    <a:pt x="108" y="364"/>
                  </a:lnTo>
                  <a:lnTo>
                    <a:pt x="102" y="364"/>
                  </a:lnTo>
                  <a:lnTo>
                    <a:pt x="100" y="368"/>
                  </a:lnTo>
                  <a:lnTo>
                    <a:pt x="102" y="372"/>
                  </a:lnTo>
                  <a:lnTo>
                    <a:pt x="118" y="386"/>
                  </a:lnTo>
                  <a:lnTo>
                    <a:pt x="134" y="406"/>
                  </a:lnTo>
                  <a:lnTo>
                    <a:pt x="138" y="408"/>
                  </a:lnTo>
                  <a:lnTo>
                    <a:pt x="140" y="426"/>
                  </a:lnTo>
                  <a:lnTo>
                    <a:pt x="136" y="432"/>
                  </a:lnTo>
                  <a:lnTo>
                    <a:pt x="130" y="436"/>
                  </a:lnTo>
                  <a:lnTo>
                    <a:pt x="126" y="430"/>
                  </a:lnTo>
                  <a:lnTo>
                    <a:pt x="118" y="430"/>
                  </a:lnTo>
                  <a:lnTo>
                    <a:pt x="114" y="440"/>
                  </a:lnTo>
                  <a:lnTo>
                    <a:pt x="104" y="444"/>
                  </a:lnTo>
                  <a:lnTo>
                    <a:pt x="94" y="444"/>
                  </a:lnTo>
                  <a:lnTo>
                    <a:pt x="90" y="448"/>
                  </a:lnTo>
                  <a:lnTo>
                    <a:pt x="84" y="448"/>
                  </a:lnTo>
                  <a:lnTo>
                    <a:pt x="82" y="442"/>
                  </a:lnTo>
                  <a:lnTo>
                    <a:pt x="74" y="442"/>
                  </a:lnTo>
                  <a:lnTo>
                    <a:pt x="68" y="450"/>
                  </a:lnTo>
                  <a:lnTo>
                    <a:pt x="72" y="456"/>
                  </a:lnTo>
                  <a:lnTo>
                    <a:pt x="80" y="460"/>
                  </a:lnTo>
                  <a:lnTo>
                    <a:pt x="82" y="470"/>
                  </a:lnTo>
                  <a:lnTo>
                    <a:pt x="88" y="478"/>
                  </a:lnTo>
                  <a:lnTo>
                    <a:pt x="88" y="490"/>
                  </a:lnTo>
                  <a:lnTo>
                    <a:pt x="86" y="494"/>
                  </a:lnTo>
                  <a:lnTo>
                    <a:pt x="80" y="494"/>
                  </a:lnTo>
                  <a:lnTo>
                    <a:pt x="76" y="490"/>
                  </a:lnTo>
                  <a:lnTo>
                    <a:pt x="72" y="478"/>
                  </a:lnTo>
                  <a:lnTo>
                    <a:pt x="68" y="476"/>
                  </a:lnTo>
                  <a:lnTo>
                    <a:pt x="58" y="476"/>
                  </a:lnTo>
                  <a:lnTo>
                    <a:pt x="40" y="492"/>
                  </a:lnTo>
                  <a:lnTo>
                    <a:pt x="38" y="504"/>
                  </a:lnTo>
                  <a:lnTo>
                    <a:pt x="34" y="508"/>
                  </a:lnTo>
                  <a:lnTo>
                    <a:pt x="36" y="526"/>
                  </a:lnTo>
                  <a:lnTo>
                    <a:pt x="32" y="530"/>
                  </a:lnTo>
                  <a:lnTo>
                    <a:pt x="22" y="530"/>
                  </a:lnTo>
                  <a:lnTo>
                    <a:pt x="16" y="538"/>
                  </a:lnTo>
                  <a:lnTo>
                    <a:pt x="16" y="558"/>
                  </a:lnTo>
                  <a:lnTo>
                    <a:pt x="14" y="560"/>
                  </a:lnTo>
                  <a:lnTo>
                    <a:pt x="14" y="566"/>
                  </a:lnTo>
                  <a:lnTo>
                    <a:pt x="22" y="578"/>
                  </a:lnTo>
                  <a:lnTo>
                    <a:pt x="28" y="584"/>
                  </a:lnTo>
                  <a:lnTo>
                    <a:pt x="30" y="594"/>
                  </a:lnTo>
                  <a:lnTo>
                    <a:pt x="20" y="612"/>
                  </a:lnTo>
                  <a:lnTo>
                    <a:pt x="20" y="630"/>
                  </a:lnTo>
                  <a:lnTo>
                    <a:pt x="60" y="656"/>
                  </a:lnTo>
                  <a:lnTo>
                    <a:pt x="88" y="680"/>
                  </a:lnTo>
                  <a:lnTo>
                    <a:pt x="110" y="694"/>
                  </a:lnTo>
                  <a:lnTo>
                    <a:pt x="126" y="724"/>
                  </a:lnTo>
                  <a:lnTo>
                    <a:pt x="140" y="734"/>
                  </a:lnTo>
                  <a:lnTo>
                    <a:pt x="150" y="698"/>
                  </a:lnTo>
                  <a:lnTo>
                    <a:pt x="142" y="672"/>
                  </a:lnTo>
                  <a:lnTo>
                    <a:pt x="150" y="640"/>
                  </a:lnTo>
                  <a:lnTo>
                    <a:pt x="166" y="626"/>
                  </a:lnTo>
                  <a:lnTo>
                    <a:pt x="178" y="604"/>
                  </a:lnTo>
                  <a:lnTo>
                    <a:pt x="198" y="620"/>
                  </a:lnTo>
                  <a:lnTo>
                    <a:pt x="230" y="624"/>
                  </a:lnTo>
                  <a:lnTo>
                    <a:pt x="248" y="650"/>
                  </a:lnTo>
                  <a:lnTo>
                    <a:pt x="272" y="658"/>
                  </a:lnTo>
                  <a:lnTo>
                    <a:pt x="302" y="694"/>
                  </a:lnTo>
                  <a:lnTo>
                    <a:pt x="308" y="698"/>
                  </a:lnTo>
                  <a:lnTo>
                    <a:pt x="316" y="698"/>
                  </a:lnTo>
                  <a:lnTo>
                    <a:pt x="324" y="692"/>
                  </a:lnTo>
                  <a:lnTo>
                    <a:pt x="324" y="672"/>
                  </a:lnTo>
                  <a:lnTo>
                    <a:pt x="362" y="660"/>
                  </a:lnTo>
                  <a:lnTo>
                    <a:pt x="370" y="662"/>
                  </a:lnTo>
                  <a:lnTo>
                    <a:pt x="386" y="678"/>
                  </a:lnTo>
                  <a:lnTo>
                    <a:pt x="392" y="676"/>
                  </a:lnTo>
                  <a:lnTo>
                    <a:pt x="392" y="666"/>
                  </a:lnTo>
                  <a:lnTo>
                    <a:pt x="408" y="656"/>
                  </a:lnTo>
                  <a:lnTo>
                    <a:pt x="446" y="662"/>
                  </a:lnTo>
                  <a:lnTo>
                    <a:pt x="454" y="654"/>
                  </a:lnTo>
                  <a:lnTo>
                    <a:pt x="490" y="658"/>
                  </a:lnTo>
                  <a:lnTo>
                    <a:pt x="512" y="654"/>
                  </a:lnTo>
                  <a:lnTo>
                    <a:pt x="528" y="662"/>
                  </a:lnTo>
                  <a:lnTo>
                    <a:pt x="522" y="606"/>
                  </a:lnTo>
                  <a:lnTo>
                    <a:pt x="544" y="548"/>
                  </a:lnTo>
                  <a:lnTo>
                    <a:pt x="568" y="522"/>
                  </a:lnTo>
                  <a:lnTo>
                    <a:pt x="530" y="486"/>
                  </a:lnTo>
                  <a:lnTo>
                    <a:pt x="506" y="452"/>
                  </a:lnTo>
                  <a:lnTo>
                    <a:pt x="496" y="406"/>
                  </a:lnTo>
                  <a:lnTo>
                    <a:pt x="498" y="358"/>
                  </a:lnTo>
                  <a:lnTo>
                    <a:pt x="534" y="342"/>
                  </a:lnTo>
                  <a:lnTo>
                    <a:pt x="512" y="336"/>
                  </a:lnTo>
                  <a:lnTo>
                    <a:pt x="490" y="300"/>
                  </a:lnTo>
                  <a:lnTo>
                    <a:pt x="510" y="276"/>
                  </a:lnTo>
                  <a:lnTo>
                    <a:pt x="492" y="252"/>
                  </a:lnTo>
                  <a:lnTo>
                    <a:pt x="468" y="272"/>
                  </a:lnTo>
                  <a:lnTo>
                    <a:pt x="400" y="252"/>
                  </a:lnTo>
                  <a:lnTo>
                    <a:pt x="362" y="226"/>
                  </a:lnTo>
                  <a:lnTo>
                    <a:pt x="356" y="192"/>
                  </a:lnTo>
                  <a:lnTo>
                    <a:pt x="348" y="172"/>
                  </a:lnTo>
                  <a:lnTo>
                    <a:pt x="328" y="160"/>
                  </a:lnTo>
                  <a:lnTo>
                    <a:pt x="304" y="156"/>
                  </a:lnTo>
                  <a:lnTo>
                    <a:pt x="280" y="126"/>
                  </a:lnTo>
                  <a:lnTo>
                    <a:pt x="266" y="86"/>
                  </a:lnTo>
                  <a:lnTo>
                    <a:pt x="250" y="62"/>
                  </a:lnTo>
                  <a:lnTo>
                    <a:pt x="224" y="36"/>
                  </a:lnTo>
                  <a:lnTo>
                    <a:pt x="190" y="24"/>
                  </a:lnTo>
                  <a:lnTo>
                    <a:pt x="178" y="16"/>
                  </a:lnTo>
                  <a:lnTo>
                    <a:pt x="166" y="0"/>
                  </a:lnTo>
                  <a:lnTo>
                    <a:pt x="138" y="10"/>
                  </a:lnTo>
                  <a:lnTo>
                    <a:pt x="112" y="12"/>
                  </a:lnTo>
                  <a:lnTo>
                    <a:pt x="78" y="34"/>
                  </a:lnTo>
                  <a:lnTo>
                    <a:pt x="46" y="34"/>
                  </a:lnTo>
                  <a:lnTo>
                    <a:pt x="32" y="48"/>
                  </a:lnTo>
                  <a:lnTo>
                    <a:pt x="0" y="5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722840" y="3141720"/>
              <a:ext cx="65520" cy="39960"/>
            </a:xfrm>
            <a:custGeom>
              <a:avLst/>
              <a:gdLst/>
              <a:ahLst/>
              <a:rect l="l" t="t" r="r" b="b"/>
              <a:pathLst>
                <a:path w="376" h="236">
                  <a:moveTo>
                    <a:pt x="0" y="210"/>
                  </a:moveTo>
                  <a:lnTo>
                    <a:pt x="2" y="204"/>
                  </a:lnTo>
                  <a:lnTo>
                    <a:pt x="22" y="190"/>
                  </a:lnTo>
                  <a:lnTo>
                    <a:pt x="28" y="182"/>
                  </a:lnTo>
                  <a:lnTo>
                    <a:pt x="34" y="156"/>
                  </a:lnTo>
                  <a:lnTo>
                    <a:pt x="32" y="134"/>
                  </a:lnTo>
                  <a:lnTo>
                    <a:pt x="42" y="124"/>
                  </a:lnTo>
                  <a:lnTo>
                    <a:pt x="86" y="122"/>
                  </a:lnTo>
                  <a:lnTo>
                    <a:pt x="102" y="112"/>
                  </a:lnTo>
                  <a:lnTo>
                    <a:pt x="126" y="84"/>
                  </a:lnTo>
                  <a:lnTo>
                    <a:pt x="142" y="56"/>
                  </a:lnTo>
                  <a:lnTo>
                    <a:pt x="148" y="26"/>
                  </a:lnTo>
                  <a:lnTo>
                    <a:pt x="148" y="0"/>
                  </a:lnTo>
                  <a:lnTo>
                    <a:pt x="146" y="48"/>
                  </a:lnTo>
                  <a:lnTo>
                    <a:pt x="132" y="80"/>
                  </a:lnTo>
                  <a:lnTo>
                    <a:pt x="122" y="98"/>
                  </a:lnTo>
                  <a:lnTo>
                    <a:pt x="108" y="112"/>
                  </a:lnTo>
                  <a:lnTo>
                    <a:pt x="116" y="126"/>
                  </a:lnTo>
                  <a:lnTo>
                    <a:pt x="130" y="124"/>
                  </a:lnTo>
                  <a:lnTo>
                    <a:pt x="150" y="130"/>
                  </a:lnTo>
                  <a:lnTo>
                    <a:pt x="174" y="130"/>
                  </a:lnTo>
                  <a:lnTo>
                    <a:pt x="176" y="116"/>
                  </a:lnTo>
                  <a:lnTo>
                    <a:pt x="172" y="86"/>
                  </a:lnTo>
                  <a:lnTo>
                    <a:pt x="178" y="78"/>
                  </a:lnTo>
                  <a:lnTo>
                    <a:pt x="178" y="70"/>
                  </a:lnTo>
                  <a:lnTo>
                    <a:pt x="198" y="66"/>
                  </a:lnTo>
                  <a:lnTo>
                    <a:pt x="212" y="76"/>
                  </a:lnTo>
                  <a:lnTo>
                    <a:pt x="230" y="78"/>
                  </a:lnTo>
                  <a:lnTo>
                    <a:pt x="244" y="88"/>
                  </a:lnTo>
                  <a:lnTo>
                    <a:pt x="260" y="92"/>
                  </a:lnTo>
                  <a:lnTo>
                    <a:pt x="294" y="96"/>
                  </a:lnTo>
                  <a:lnTo>
                    <a:pt x="328" y="92"/>
                  </a:lnTo>
                  <a:lnTo>
                    <a:pt x="344" y="100"/>
                  </a:lnTo>
                  <a:lnTo>
                    <a:pt x="372" y="140"/>
                  </a:lnTo>
                  <a:lnTo>
                    <a:pt x="364" y="168"/>
                  </a:lnTo>
                  <a:lnTo>
                    <a:pt x="368" y="198"/>
                  </a:lnTo>
                  <a:lnTo>
                    <a:pt x="376" y="216"/>
                  </a:lnTo>
                  <a:lnTo>
                    <a:pt x="328" y="222"/>
                  </a:lnTo>
                  <a:lnTo>
                    <a:pt x="272" y="234"/>
                  </a:lnTo>
                  <a:lnTo>
                    <a:pt x="168" y="236"/>
                  </a:lnTo>
                  <a:lnTo>
                    <a:pt x="30" y="218"/>
                  </a:lnTo>
                  <a:lnTo>
                    <a:pt x="0" y="210"/>
                  </a:lnTo>
                </a:path>
              </a:pathLst>
            </a:custGeom>
            <a:solidFill>
              <a:srgbClr val="ff990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5760" bIns="-57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41400" y="4199760"/>
              <a:ext cx="2880" cy="43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12" y="16"/>
                  </a:lnTo>
                  <a:lnTo>
                    <a:pt x="1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400" bIns="-414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43200" y="4219560"/>
              <a:ext cx="2880" cy="10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2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0" y="0"/>
                  </a:lnTo>
                  <a:lnTo>
                    <a:pt x="4" y="2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640" bIns="-4464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20960" y="4284000"/>
              <a:ext cx="4680" cy="1044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2" y="0"/>
                  </a:moveTo>
                  <a:lnTo>
                    <a:pt x="4" y="0"/>
                  </a:lnTo>
                  <a:lnTo>
                    <a:pt x="0" y="44"/>
                  </a:lnTo>
                  <a:lnTo>
                    <a:pt x="4" y="66"/>
                  </a:lnTo>
                  <a:lnTo>
                    <a:pt x="16" y="66"/>
                  </a:lnTo>
                  <a:lnTo>
                    <a:pt x="22" y="48"/>
                  </a:lnTo>
                  <a:lnTo>
                    <a:pt x="24" y="10"/>
                  </a:lnTo>
                  <a:lnTo>
                    <a:pt x="12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804040" y="4385160"/>
              <a:ext cx="4320" cy="61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10" y="8"/>
                  </a:lnTo>
                  <a:lnTo>
                    <a:pt x="0" y="34"/>
                  </a:lnTo>
                  <a:lnTo>
                    <a:pt x="18" y="22"/>
                  </a:lnTo>
                  <a:lnTo>
                    <a:pt x="24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600" bIns="-3960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49080" y="3776760"/>
              <a:ext cx="90360" cy="122400"/>
            </a:xfrm>
            <a:custGeom>
              <a:avLst/>
              <a:gdLst/>
              <a:ahLst/>
              <a:rect l="l" t="t" r="r" b="b"/>
              <a:pathLst>
                <a:path w="512" h="718">
                  <a:moveTo>
                    <a:pt x="478" y="248"/>
                  </a:moveTo>
                  <a:lnTo>
                    <a:pt x="512" y="194"/>
                  </a:lnTo>
                  <a:lnTo>
                    <a:pt x="446" y="0"/>
                  </a:lnTo>
                  <a:lnTo>
                    <a:pt x="332" y="70"/>
                  </a:lnTo>
                  <a:lnTo>
                    <a:pt x="280" y="106"/>
                  </a:lnTo>
                  <a:lnTo>
                    <a:pt x="178" y="180"/>
                  </a:lnTo>
                  <a:lnTo>
                    <a:pt x="158" y="184"/>
                  </a:lnTo>
                  <a:lnTo>
                    <a:pt x="128" y="182"/>
                  </a:lnTo>
                  <a:lnTo>
                    <a:pt x="114" y="174"/>
                  </a:lnTo>
                  <a:lnTo>
                    <a:pt x="90" y="152"/>
                  </a:lnTo>
                  <a:lnTo>
                    <a:pt x="70" y="140"/>
                  </a:lnTo>
                  <a:lnTo>
                    <a:pt x="54" y="118"/>
                  </a:lnTo>
                  <a:lnTo>
                    <a:pt x="44" y="114"/>
                  </a:lnTo>
                  <a:lnTo>
                    <a:pt x="16" y="122"/>
                  </a:lnTo>
                  <a:lnTo>
                    <a:pt x="20" y="172"/>
                  </a:lnTo>
                  <a:lnTo>
                    <a:pt x="20" y="172"/>
                  </a:lnTo>
                  <a:lnTo>
                    <a:pt x="20" y="182"/>
                  </a:lnTo>
                  <a:lnTo>
                    <a:pt x="22" y="202"/>
                  </a:lnTo>
                  <a:lnTo>
                    <a:pt x="20" y="224"/>
                  </a:lnTo>
                  <a:lnTo>
                    <a:pt x="22" y="254"/>
                  </a:lnTo>
                  <a:lnTo>
                    <a:pt x="30" y="278"/>
                  </a:lnTo>
                  <a:lnTo>
                    <a:pt x="26" y="294"/>
                  </a:lnTo>
                  <a:lnTo>
                    <a:pt x="26" y="314"/>
                  </a:lnTo>
                  <a:lnTo>
                    <a:pt x="22" y="322"/>
                  </a:lnTo>
                  <a:lnTo>
                    <a:pt x="26" y="332"/>
                  </a:lnTo>
                  <a:lnTo>
                    <a:pt x="24" y="368"/>
                  </a:lnTo>
                  <a:lnTo>
                    <a:pt x="32" y="386"/>
                  </a:lnTo>
                  <a:lnTo>
                    <a:pt x="16" y="436"/>
                  </a:lnTo>
                  <a:lnTo>
                    <a:pt x="6" y="490"/>
                  </a:lnTo>
                  <a:lnTo>
                    <a:pt x="8" y="632"/>
                  </a:lnTo>
                  <a:lnTo>
                    <a:pt x="0" y="662"/>
                  </a:lnTo>
                  <a:lnTo>
                    <a:pt x="2" y="676"/>
                  </a:lnTo>
                  <a:lnTo>
                    <a:pt x="2" y="676"/>
                  </a:lnTo>
                  <a:lnTo>
                    <a:pt x="10" y="700"/>
                  </a:lnTo>
                  <a:lnTo>
                    <a:pt x="164" y="718"/>
                  </a:lnTo>
                  <a:lnTo>
                    <a:pt x="200" y="672"/>
                  </a:lnTo>
                  <a:lnTo>
                    <a:pt x="202" y="662"/>
                  </a:lnTo>
                  <a:lnTo>
                    <a:pt x="230" y="592"/>
                  </a:lnTo>
                  <a:lnTo>
                    <a:pt x="332" y="574"/>
                  </a:lnTo>
                  <a:lnTo>
                    <a:pt x="334" y="550"/>
                  </a:lnTo>
                  <a:lnTo>
                    <a:pt x="342" y="506"/>
                  </a:lnTo>
                  <a:lnTo>
                    <a:pt x="394" y="472"/>
                  </a:lnTo>
                  <a:lnTo>
                    <a:pt x="394" y="468"/>
                  </a:lnTo>
                  <a:lnTo>
                    <a:pt x="248" y="328"/>
                  </a:lnTo>
                  <a:lnTo>
                    <a:pt x="226" y="312"/>
                  </a:lnTo>
                  <a:lnTo>
                    <a:pt x="320" y="284"/>
                  </a:lnTo>
                  <a:lnTo>
                    <a:pt x="478" y="248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53760" y="3805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5360" bIns="-45360" anchor="ctr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1674720" y="5259240"/>
            <a:ext cx="30492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674720" y="5648400"/>
            <a:ext cx="30492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674720" y="603252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title"/>
          </p:nvPr>
        </p:nvSpPr>
        <p:spPr>
          <a:xfrm>
            <a:off x="455400" y="140328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El Protocolo de Kioto </a:t>
            </a:r>
            <a:br>
              <a:rPr sz="3200"/>
            </a:b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11240" y="5576760"/>
            <a:ext cx="15206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Narrow"/>
                <a:ea typeface="SimSun"/>
              </a:rPr>
              <a:t>No-Anexo I</a:t>
            </a:r>
            <a:endParaRPr b="0" lang="en-US" sz="16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11240" y="5961240"/>
            <a:ext cx="16210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Narrow"/>
                <a:ea typeface="SimSun"/>
              </a:rPr>
              <a:t>No ratificado</a:t>
            </a:r>
            <a:endParaRPr b="0" lang="en-US" sz="16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D6D0-0B75-4719-9117-EA466A1D411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" name=""/>
          <p:cNvGrpSpPr/>
          <p:nvPr/>
        </p:nvGrpSpPr>
        <p:grpSpPr>
          <a:xfrm>
            <a:off x="0" y="-9360"/>
            <a:ext cx="9144000" cy="6514920"/>
            <a:chOff x="0" y="-9360"/>
            <a:chExt cx="9144000" cy="6514920"/>
          </a:xfrm>
        </p:grpSpPr>
        <p:pic>
          <p:nvPicPr>
            <p:cNvPr id="958" name="" descr="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4000" cy="65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2"/>
            <a:stretch/>
          </p:blipFill>
          <p:spPr>
            <a:xfrm>
              <a:off x="531720" y="493560"/>
              <a:ext cx="1440000" cy="32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c5d"/>
                </a:solidFill>
                <a:latin typeface="Arial"/>
              </a:rPr>
              <a:t>Mecanismos de Flexibilidad del PK</a:t>
            </a:r>
            <a:endParaRPr b="1" lang="en-US" sz="36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08040" y="2974680"/>
            <a:ext cx="745632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2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c5d"/>
                </a:solidFill>
                <a:latin typeface="Arial"/>
                <a:ea typeface="SimSun"/>
              </a:rPr>
              <a:t>Los mecanismos flexibles le permiten a los países Anexo</a:t>
            </a:r>
            <a:r>
              <a:rPr b="0" lang="es-ES" sz="1800" spc="-1" strike="noStrike">
                <a:solidFill>
                  <a:srgbClr val="002c5d"/>
                </a:solidFill>
                <a:latin typeface="Arial"/>
                <a:ea typeface="SimSun"/>
              </a:rPr>
              <a:t> </a:t>
            </a:r>
            <a:r>
              <a:rPr b="1" lang="es-ES" sz="1800" spc="-1" strike="noStrike">
                <a:solidFill>
                  <a:srgbClr val="002c5d"/>
                </a:solidFill>
                <a:latin typeface="Arial"/>
                <a:ea typeface="SimSun"/>
              </a:rPr>
              <a:t>I</a:t>
            </a:r>
            <a:r>
              <a:rPr b="0" lang="es-ES" sz="1800" spc="-1" strike="noStrike">
                <a:solidFill>
                  <a:srgbClr val="002c5d"/>
                </a:solidFill>
                <a:latin typeface="Arial"/>
                <a:ea typeface="SimSun"/>
              </a:rPr>
              <a:t> </a:t>
            </a:r>
            <a:r>
              <a:rPr b="0" lang="es-ES" sz="1600" spc="-1" strike="noStrike">
                <a:solidFill>
                  <a:srgbClr val="002c5d"/>
                </a:solidFill>
                <a:latin typeface="Arial"/>
              </a:rPr>
              <a:t>lograr sus objetivos reducciones de emisiones de manera económica y eficiente: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marL="266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lvl="1" marL="789120" indent="-343080">
              <a:spcBef>
                <a:spcPts val="2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c5d"/>
                </a:solidFill>
                <a:latin typeface="Arial"/>
                <a:ea typeface="SimSun"/>
              </a:rPr>
              <a:t>Comercio de Emisiones</a:t>
            </a:r>
            <a:r>
              <a:rPr b="0" lang="es-ES" sz="1600" spc="-1" strike="noStrike">
                <a:solidFill>
                  <a:srgbClr val="002c5d"/>
                </a:solidFill>
                <a:latin typeface="Arial"/>
                <a:ea typeface="SimSun"/>
              </a:rPr>
              <a:t> (comercio de bonos emitidos entre gobiernos de pa</a:t>
            </a:r>
            <a:r>
              <a:rPr b="0" lang="es-ES" sz="1600" spc="-1" strike="noStrike">
                <a:solidFill>
                  <a:srgbClr val="002c5d"/>
                </a:solidFill>
                <a:latin typeface="Arial"/>
              </a:rPr>
              <a:t>í</a:t>
            </a:r>
            <a:r>
              <a:rPr b="0" lang="es-ES" sz="1600" spc="-1" strike="noStrike">
                <a:solidFill>
                  <a:srgbClr val="002c5d"/>
                </a:solidFill>
                <a:latin typeface="Arial"/>
                <a:ea typeface="SimSun"/>
              </a:rPr>
              <a:t>ses Anexo I)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lvl="2" marL="1162080" indent="-193680">
              <a:spcBef>
                <a:spcPts val="176"/>
              </a:spcBef>
              <a:buClr>
                <a:srgbClr val="002c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c5d"/>
                </a:solidFill>
                <a:latin typeface="Arial"/>
                <a:ea typeface="SimSun"/>
              </a:rPr>
              <a:t>AAUs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lvl="2" marL="116208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lvl="1" marL="789120" indent="-343080">
              <a:spcBef>
                <a:spcPts val="2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c5d"/>
                </a:solidFill>
                <a:latin typeface="Arial"/>
                <a:ea typeface="SimSun"/>
              </a:rPr>
              <a:t>Implementación Conjunta</a:t>
            </a:r>
            <a:r>
              <a:rPr b="0" lang="es-ES" sz="1600" spc="-1" strike="noStrike">
                <a:solidFill>
                  <a:srgbClr val="002c5d"/>
                </a:solidFill>
                <a:latin typeface="Arial"/>
                <a:ea typeface="SimSun"/>
              </a:rPr>
              <a:t> (proyectos entre países Anexo I)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lvl="2" marL="1162080" indent="-193680">
              <a:spcBef>
                <a:spcPts val="176"/>
              </a:spcBef>
              <a:buClr>
                <a:srgbClr val="002c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c5d"/>
                </a:solidFill>
                <a:latin typeface="Arial"/>
                <a:ea typeface="SimSun"/>
              </a:rPr>
              <a:t>ERUs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lvl="2" marL="116208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lvl="1" marL="789120" indent="-343080">
              <a:spcBef>
                <a:spcPts val="2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c5d"/>
                </a:solidFill>
                <a:latin typeface="Arial"/>
                <a:ea typeface="SimSun"/>
              </a:rPr>
              <a:t>Mecanismo de Desarrollo Limpio </a:t>
            </a:r>
            <a:r>
              <a:rPr b="0" lang="es-ES" sz="1600" spc="-1" strike="noStrike">
                <a:solidFill>
                  <a:srgbClr val="002c5d"/>
                </a:solidFill>
                <a:latin typeface="Arial"/>
                <a:ea typeface="SimSun"/>
              </a:rPr>
              <a:t>(proyectos en países 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lvl="1" marL="789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2c5d"/>
                </a:solidFill>
                <a:latin typeface="Arial"/>
                <a:ea typeface="SimSun"/>
              </a:rPr>
              <a:t>      </a:t>
            </a:r>
            <a:r>
              <a:rPr b="0" lang="es-ES" sz="1600" spc="-1" strike="noStrike">
                <a:solidFill>
                  <a:srgbClr val="002c5d"/>
                </a:solidFill>
                <a:latin typeface="Arial"/>
                <a:ea typeface="SimSun"/>
              </a:rPr>
              <a:t>No-Anexo I, en los cuales participan países Anexo I)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lvl="2" marL="1162080" indent="-193680">
              <a:spcBef>
                <a:spcPts val="176"/>
              </a:spcBef>
              <a:buClr>
                <a:srgbClr val="002c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c5d"/>
                </a:solidFill>
                <a:latin typeface="Arial"/>
                <a:ea typeface="SimSun"/>
              </a:rPr>
              <a:t>CERs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33520" y="2243160"/>
            <a:ext cx="8078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caee0"/>
                </a:solidFill>
                <a:latin typeface="Arial Narrow"/>
              </a:rPr>
              <a:t>Los costos de cumplimiento varían alrededor del mundo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9897-ACCE-42C2-AE41-597B3B08A1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Mecanismo de Desarrollo Limpio (MDL)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El MDL es un mecanismo de flexibilidad que permite la participacion de paises Anexo I en proyectos de reduccion de emisiones de GEI en paises No Anexo-I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c5d"/>
                </a:solidFill>
                <a:latin typeface="Arial"/>
              </a:rPr>
              <a:t>El MDL tiene dos objetivos: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2c5d"/>
                </a:solidFill>
                <a:latin typeface="Arial"/>
              </a:rPr>
              <a:t>Ayudar a los países industrializados a alcanzar sus metas de reducción de emisiones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2c5d"/>
                </a:solidFill>
                <a:latin typeface="Arial"/>
              </a:rPr>
              <a:t>Ayudar a los países en vías de desarrollo (como Peru) en alcanzar sus metas de desarrollo sostenible (ej. desarrollo económico, bienestar social, mejorar el medio ambiente).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2358-97AA-409A-82E4-39D4EF83A7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0" y="0"/>
            <a:ext cx="9144000" cy="6515280"/>
            <a:chOff x="0" y="0"/>
            <a:chExt cx="9144000" cy="6515280"/>
          </a:xfrm>
        </p:grpSpPr>
        <p:pic>
          <p:nvPicPr>
            <p:cNvPr id="9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5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2"/>
            <a:stretch/>
          </p:blipFill>
          <p:spPr>
            <a:xfrm>
              <a:off x="531720" y="503280"/>
              <a:ext cx="1440000" cy="3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"/>
          <p:cNvSpPr/>
          <p:nvPr/>
        </p:nvSpPr>
        <p:spPr>
          <a:xfrm>
            <a:off x="2268360" y="620640"/>
            <a:ext cx="626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c5d"/>
                </a:solidFill>
                <a:latin typeface="Arial"/>
              </a:rPr>
              <a:t>Como funciona el MDL?</a:t>
            </a:r>
            <a:r>
              <a:rPr b="0" lang="es-ES_tradnl" sz="3200" spc="-1" strike="noStrike">
                <a:solidFill>
                  <a:srgbClr val="002c5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52400" y="5652000"/>
            <a:ext cx="7512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c5d"/>
                </a:solidFill>
                <a:latin typeface="Arial"/>
              </a:rPr>
              <a:t>Vendiendo los bonos de carbono de un proyecto de MDL a un comprador, se generan ingresos adicionales para llevar a cabo proyectos de desarrollo sostenible.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1336680" y="4962600"/>
            <a:ext cx="14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58960" y="2981160"/>
            <a:ext cx="54936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758960" y="2651040"/>
            <a:ext cx="549360" cy="328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77800" y="2968560"/>
            <a:ext cx="176400" cy="1981440"/>
          </a:xfrm>
          <a:custGeom>
            <a:avLst/>
            <a:gdLst>
              <a:gd name="textAreaLeft" fmla="*/ 112680 w 176400"/>
              <a:gd name="textAreaRight" fmla="*/ 176760 w 1764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88480" y="3747960"/>
            <a:ext cx="63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2c5d"/>
                </a:solidFill>
                <a:latin typeface="Arial"/>
              </a:rPr>
              <a:t>Límite de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2c5d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379600" y="2638440"/>
            <a:ext cx="246240" cy="2319480"/>
          </a:xfrm>
          <a:custGeom>
            <a:avLst/>
            <a:gdLst>
              <a:gd name="textAreaLeft" fmla="*/ 0 w 246240"/>
              <a:gd name="textAreaRight" fmla="*/ 88920 w 246240"/>
              <a:gd name="textAreaTop" fmla="*/ 60480 h 2319480"/>
              <a:gd name="textAreaBottom" fmla="*/ 2259000 h 231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58520" y="3836880"/>
            <a:ext cx="70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2c5d"/>
                </a:solidFill>
                <a:latin typeface="Arial"/>
              </a:rPr>
              <a:t>Emisiones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2c5d"/>
                </a:solidFill>
                <a:latin typeface="Arial"/>
              </a:rPr>
              <a:t>Reales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8640" y="502200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c5d"/>
                </a:solidFill>
                <a:latin typeface="Arial"/>
              </a:rPr>
              <a:t>Comprador</a:t>
            </a:r>
            <a:endParaRPr b="0" lang="en-US" sz="16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771720" y="2768400"/>
            <a:ext cx="134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2c5d"/>
                </a:solidFill>
                <a:latin typeface="Arial"/>
              </a:rPr>
              <a:t>Bonos de carbono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506760" y="4573440"/>
            <a:ext cx="177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2c5d"/>
                </a:solidFill>
                <a:latin typeface="Arial"/>
              </a:rPr>
              <a:t>Valor de los bonos (</a:t>
            </a:r>
            <a:r>
              <a:rPr b="1" lang="es-ES_tradnl" sz="1200" spc="-1" strike="noStrike">
                <a:solidFill>
                  <a:srgbClr val="002c5d"/>
                </a:solidFill>
                <a:latin typeface="Arial"/>
                <a:ea typeface="Arial"/>
              </a:rPr>
              <a:t>€</a:t>
            </a:r>
            <a:r>
              <a:rPr b="1" lang="es-ES_tradnl" sz="1200" spc="-1" strike="noStrike">
                <a:solidFill>
                  <a:srgbClr val="002c5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67160" y="3137040"/>
            <a:ext cx="1866960" cy="385560"/>
          </a:xfrm>
          <a:prstGeom prst="leftArrow">
            <a:avLst>
              <a:gd name="adj1" fmla="val 49796"/>
              <a:gd name="adj2" fmla="val 66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83880" bIns="83880" anchor="ctr">
            <a:sp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345680" y="2037600"/>
            <a:ext cx="106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c5d"/>
                </a:solidFill>
                <a:latin typeface="Arial"/>
              </a:rPr>
              <a:t>País Anexo I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262920" y="201492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c5d"/>
                </a:solidFill>
                <a:latin typeface="Arial"/>
              </a:rPr>
              <a:t>Proyecto MDL 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c5d"/>
                </a:solidFill>
                <a:latin typeface="Arial"/>
              </a:rPr>
              <a:t>En Perú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0800000">
            <a:off x="3467160" y="4127400"/>
            <a:ext cx="1866960" cy="385920"/>
          </a:xfrm>
          <a:prstGeom prst="leftArrow">
            <a:avLst>
              <a:gd name="adj1" fmla="val 49796"/>
              <a:gd name="adj2" fmla="val 664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84240" bIns="84240" anchor="ctr">
            <a:sp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pic>
        <p:nvPicPr>
          <p:cNvPr id="984" name="" descr="netinpassi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97840" y="3898800"/>
            <a:ext cx="569880" cy="68580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5850000" y="2781360"/>
            <a:ext cx="2155680" cy="21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908680" y="2920680"/>
            <a:ext cx="2039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2c5d"/>
                </a:solidFill>
                <a:latin typeface="Arial"/>
              </a:rPr>
              <a:t>El proyecto MDL reduce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2c5d"/>
                </a:solidFill>
                <a:latin typeface="Arial"/>
              </a:rPr>
              <a:t>las emisiones de GEI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2c5d"/>
                </a:solidFill>
                <a:latin typeface="Arial"/>
              </a:rPr>
              <a:t>en el país huésped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</p:txBody>
      </p:sp>
      <p:pic>
        <p:nvPicPr>
          <p:cNvPr id="9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64200" y="3870360"/>
            <a:ext cx="568440" cy="70488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 flipV="1">
            <a:off x="6037200" y="3759120"/>
            <a:ext cx="598680" cy="95256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00760" y="3886200"/>
            <a:ext cx="231840" cy="72396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4966-DBF9-459B-A089-5E79835332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 flipV="1">
            <a:off x="1219320" y="1353600"/>
            <a:ext cx="1440" cy="3962520"/>
          </a:xfrm>
          <a:prstGeom prst="line">
            <a:avLst/>
          </a:prstGeom>
          <a:ln w="12600">
            <a:solidFill>
              <a:srgbClr val="002c5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20760" y="5342040"/>
            <a:ext cx="5713560" cy="7920"/>
          </a:xfrm>
          <a:prstGeom prst="line">
            <a:avLst/>
          </a:prstGeom>
          <a:ln w="12600">
            <a:solidFill>
              <a:srgbClr val="002c5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-289800" y="3334680"/>
            <a:ext cx="234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5d"/>
                </a:solidFill>
                <a:latin typeface="Arial"/>
                <a:ea typeface="ＭＳ Ｐゴシック"/>
              </a:rPr>
              <a:t>Emisiones de GEIs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2058840" y="2293920"/>
            <a:ext cx="4722840" cy="836640"/>
          </a:xfrm>
          <a:prstGeom prst="line">
            <a:avLst/>
          </a:prstGeom>
          <a:ln w="19080">
            <a:solidFill>
              <a:srgbClr val="002c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058840" y="4190760"/>
            <a:ext cx="4830840" cy="392040"/>
          </a:xfrm>
          <a:prstGeom prst="line">
            <a:avLst/>
          </a:prstGeom>
          <a:ln w="19080">
            <a:solidFill>
              <a:srgbClr val="002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1220760" y="3131640"/>
            <a:ext cx="836640" cy="150840"/>
          </a:xfrm>
          <a:prstGeom prst="line">
            <a:avLst/>
          </a:prstGeom>
          <a:ln w="19080">
            <a:solidFill>
              <a:srgbClr val="002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36880" y="3071880"/>
            <a:ext cx="20520" cy="2232000"/>
          </a:xfrm>
          <a:prstGeom prst="line">
            <a:avLst/>
          </a:prstGeom>
          <a:ln w="12600">
            <a:solidFill>
              <a:srgbClr val="002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581280" y="4481640"/>
            <a:ext cx="260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“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 el proyecto”</a:t>
            </a:r>
            <a:r>
              <a:rPr b="0" lang="en-GB" sz="2400" spc="-1" strike="noStrike">
                <a:solidFill>
                  <a:srgbClr val="002c5d"/>
                </a:solidFill>
                <a:latin typeface="Arial"/>
                <a:ea typeface="ＭＳ Ｐゴシック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286000" y="1682640"/>
            <a:ext cx="248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“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in el proyecto”</a:t>
            </a:r>
            <a:r>
              <a:rPr b="0" lang="en-GB" sz="2400" spc="-1" strike="noStrike">
                <a:solidFill>
                  <a:srgbClr val="002c5d"/>
                </a:solidFill>
                <a:latin typeface="Arial"/>
                <a:ea typeface="ＭＳ Ｐゴシック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0" y="2292480"/>
            <a:ext cx="382680" cy="1930320"/>
          </a:xfrm>
          <a:custGeom>
            <a:avLst/>
            <a:gdLst/>
            <a:ahLst/>
            <a:rect l="l" t="t" r="r" b="b"/>
            <a:pathLst>
              <a:path w="241" h="337">
                <a:moveTo>
                  <a:pt x="0" y="0"/>
                </a:moveTo>
                <a:lnTo>
                  <a:pt x="12" y="0"/>
                </a:lnTo>
                <a:lnTo>
                  <a:pt x="24" y="1"/>
                </a:lnTo>
                <a:lnTo>
                  <a:pt x="35" y="1"/>
                </a:lnTo>
                <a:lnTo>
                  <a:pt x="47" y="2"/>
                </a:lnTo>
                <a:lnTo>
                  <a:pt x="57" y="3"/>
                </a:lnTo>
                <a:lnTo>
                  <a:pt x="67" y="5"/>
                </a:lnTo>
                <a:lnTo>
                  <a:pt x="76" y="6"/>
                </a:lnTo>
                <a:lnTo>
                  <a:pt x="85" y="9"/>
                </a:lnTo>
                <a:lnTo>
                  <a:pt x="93" y="10"/>
                </a:lnTo>
                <a:lnTo>
                  <a:pt x="99" y="12"/>
                </a:lnTo>
                <a:lnTo>
                  <a:pt x="105" y="15"/>
                </a:lnTo>
                <a:lnTo>
                  <a:pt x="110" y="17"/>
                </a:lnTo>
                <a:lnTo>
                  <a:pt x="115" y="20"/>
                </a:lnTo>
                <a:lnTo>
                  <a:pt x="118" y="23"/>
                </a:lnTo>
                <a:lnTo>
                  <a:pt x="119" y="25"/>
                </a:lnTo>
                <a:lnTo>
                  <a:pt x="120" y="28"/>
                </a:lnTo>
                <a:lnTo>
                  <a:pt x="120" y="140"/>
                </a:lnTo>
                <a:lnTo>
                  <a:pt x="121" y="143"/>
                </a:lnTo>
                <a:lnTo>
                  <a:pt x="122" y="146"/>
                </a:lnTo>
                <a:lnTo>
                  <a:pt x="125" y="148"/>
                </a:lnTo>
                <a:lnTo>
                  <a:pt x="130" y="151"/>
                </a:lnTo>
                <a:lnTo>
                  <a:pt x="135" y="153"/>
                </a:lnTo>
                <a:lnTo>
                  <a:pt x="140" y="155"/>
                </a:lnTo>
                <a:lnTo>
                  <a:pt x="147" y="157"/>
                </a:lnTo>
                <a:lnTo>
                  <a:pt x="155" y="160"/>
                </a:lnTo>
                <a:lnTo>
                  <a:pt x="164" y="162"/>
                </a:lnTo>
                <a:lnTo>
                  <a:pt x="173" y="163"/>
                </a:lnTo>
                <a:lnTo>
                  <a:pt x="183" y="164"/>
                </a:lnTo>
                <a:lnTo>
                  <a:pt x="193" y="166"/>
                </a:lnTo>
                <a:lnTo>
                  <a:pt x="204" y="167"/>
                </a:lnTo>
                <a:lnTo>
                  <a:pt x="216" y="168"/>
                </a:lnTo>
                <a:lnTo>
                  <a:pt x="228" y="168"/>
                </a:lnTo>
                <a:lnTo>
                  <a:pt x="240" y="168"/>
                </a:lnTo>
                <a:lnTo>
                  <a:pt x="228" y="168"/>
                </a:lnTo>
                <a:lnTo>
                  <a:pt x="216" y="169"/>
                </a:lnTo>
                <a:lnTo>
                  <a:pt x="204" y="169"/>
                </a:lnTo>
                <a:lnTo>
                  <a:pt x="193" y="170"/>
                </a:lnTo>
                <a:lnTo>
                  <a:pt x="183" y="171"/>
                </a:lnTo>
                <a:lnTo>
                  <a:pt x="173" y="173"/>
                </a:lnTo>
                <a:lnTo>
                  <a:pt x="164" y="175"/>
                </a:lnTo>
                <a:lnTo>
                  <a:pt x="155" y="177"/>
                </a:lnTo>
                <a:lnTo>
                  <a:pt x="147" y="178"/>
                </a:lnTo>
                <a:lnTo>
                  <a:pt x="140" y="181"/>
                </a:lnTo>
                <a:lnTo>
                  <a:pt x="135" y="183"/>
                </a:lnTo>
                <a:lnTo>
                  <a:pt x="130" y="185"/>
                </a:lnTo>
                <a:lnTo>
                  <a:pt x="125" y="188"/>
                </a:lnTo>
                <a:lnTo>
                  <a:pt x="122" y="191"/>
                </a:lnTo>
                <a:lnTo>
                  <a:pt x="121" y="194"/>
                </a:lnTo>
                <a:lnTo>
                  <a:pt x="120" y="196"/>
                </a:lnTo>
                <a:lnTo>
                  <a:pt x="120" y="308"/>
                </a:lnTo>
                <a:lnTo>
                  <a:pt x="119" y="311"/>
                </a:lnTo>
                <a:lnTo>
                  <a:pt x="118" y="313"/>
                </a:lnTo>
                <a:lnTo>
                  <a:pt x="115" y="316"/>
                </a:lnTo>
                <a:lnTo>
                  <a:pt x="110" y="319"/>
                </a:lnTo>
                <a:lnTo>
                  <a:pt x="105" y="321"/>
                </a:lnTo>
                <a:lnTo>
                  <a:pt x="99" y="324"/>
                </a:lnTo>
                <a:lnTo>
                  <a:pt x="93" y="326"/>
                </a:lnTo>
                <a:lnTo>
                  <a:pt x="85" y="328"/>
                </a:lnTo>
                <a:lnTo>
                  <a:pt x="76" y="329"/>
                </a:lnTo>
                <a:lnTo>
                  <a:pt x="67" y="331"/>
                </a:lnTo>
                <a:lnTo>
                  <a:pt x="57" y="333"/>
                </a:lnTo>
                <a:lnTo>
                  <a:pt x="47" y="334"/>
                </a:lnTo>
                <a:lnTo>
                  <a:pt x="35" y="335"/>
                </a:lnTo>
                <a:lnTo>
                  <a:pt x="24" y="335"/>
                </a:lnTo>
                <a:lnTo>
                  <a:pt x="12" y="336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2c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67480" y="2673360"/>
            <a:ext cx="1370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3bc3a"/>
                </a:solidFill>
                <a:latin typeface="Arial"/>
                <a:ea typeface="ＭＳ Ｐゴシック"/>
              </a:rPr>
              <a:t>Cr</a:t>
            </a:r>
            <a:r>
              <a:rPr b="0" lang="en-US" sz="2400" spc="-1" strike="noStrike">
                <a:solidFill>
                  <a:srgbClr val="53bc3a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53bc3a"/>
                </a:solidFill>
                <a:latin typeface="Arial"/>
                <a:ea typeface="ＭＳ Ｐゴシック"/>
              </a:rPr>
              <a:t>ditos de Carbono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495680" y="2216160"/>
            <a:ext cx="685800" cy="228600"/>
          </a:xfrm>
          <a:prstGeom prst="line">
            <a:avLst/>
          </a:prstGeom>
          <a:ln w="12600">
            <a:solidFill>
              <a:srgbClr val="002c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6019920" y="4325760"/>
            <a:ext cx="152280" cy="533520"/>
          </a:xfrm>
          <a:prstGeom prst="line">
            <a:avLst/>
          </a:prstGeom>
          <a:ln w="12600">
            <a:solidFill>
              <a:srgbClr val="002c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195640" y="333360"/>
            <a:ext cx="634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2c5d"/>
                </a:solidFill>
                <a:latin typeface="Arial"/>
              </a:rPr>
              <a:t>¿Qué es un cr</a:t>
            </a:r>
            <a:r>
              <a:rPr b="1" lang="en-US" sz="2900" spc="-1" strike="noStrike">
                <a:solidFill>
                  <a:srgbClr val="002c5d"/>
                </a:solidFill>
                <a:latin typeface="Arial"/>
              </a:rPr>
              <a:t>é</a:t>
            </a:r>
            <a:r>
              <a:rPr b="1" lang="es-MX" sz="2900" spc="-1" strike="noStrike">
                <a:solidFill>
                  <a:srgbClr val="002c5d"/>
                </a:solidFill>
                <a:latin typeface="Arial"/>
              </a:rPr>
              <a:t>dito de carbono? </a:t>
            </a:r>
            <a:endParaRPr b="0" lang="en-US" sz="29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943600" y="54100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5d"/>
                </a:solidFill>
                <a:latin typeface="Arial"/>
                <a:ea typeface="ＭＳ Ｐゴシック"/>
              </a:rPr>
              <a:t>Tiempo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68360" y="5813640"/>
            <a:ext cx="8383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educciones de emisiones basadas en proyectos deben de ser calculadas y verificadas.  Solo despu</a:t>
            </a:r>
            <a:r>
              <a:rPr b="1" lang="en-US" sz="1400" spc="-1" strike="noStrike">
                <a:solidFill>
                  <a:srgbClr val="002c5d"/>
                </a:solidFill>
                <a:latin typeface="Arial"/>
              </a:rPr>
              <a:t>é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 pueden ser comercializadas como cr</a:t>
            </a:r>
            <a:r>
              <a:rPr b="1" lang="en-US" sz="1400" spc="-1" strike="noStrike">
                <a:solidFill>
                  <a:srgbClr val="002c5d"/>
                </a:solidFill>
                <a:latin typeface="Arial"/>
              </a:rPr>
              <a:t>é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tos de carbono en el mercado. 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DCD1-763B-4F3D-BC9D-C4278EB83C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295000" y="404280"/>
            <a:ext cx="5194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Beneficios del MDL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8000" y="1484280"/>
            <a:ext cx="2160360" cy="10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2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5d"/>
                </a:solidFill>
                <a:latin typeface="Garamond"/>
              </a:rPr>
              <a:t>Ingresos 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5d"/>
                </a:solidFill>
                <a:latin typeface="Garamond"/>
              </a:rPr>
              <a:t>Tradicionales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45080" y="1484280"/>
            <a:ext cx="2160720" cy="1079640"/>
          </a:xfrm>
          <a:prstGeom prst="ellipse">
            <a:avLst/>
          </a:prstGeom>
          <a:solidFill>
            <a:srgbClr val="6caee0"/>
          </a:solidFill>
          <a:ln w="9360">
            <a:solidFill>
              <a:srgbClr val="002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5d"/>
                </a:solidFill>
                <a:latin typeface="Garamond"/>
              </a:rPr>
              <a:t>Flujo adicional 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5d"/>
                </a:solidFill>
                <a:latin typeface="Garamond"/>
              </a:rPr>
              <a:t>por bonos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stCxn id="1007" idx="6"/>
            <a:endCxn id="1010" idx="1"/>
          </p:cNvCxnSpPr>
          <p:nvPr/>
        </p:nvCxnSpPr>
        <p:spPr>
          <a:xfrm>
            <a:off x="2268000" y="2023920"/>
            <a:ext cx="1180440" cy="845280"/>
          </a:xfrm>
          <a:prstGeom prst="curvedConnector2">
            <a:avLst/>
          </a:prstGeom>
          <a:ln w="38160">
            <a:solidFill>
              <a:srgbClr val="002c5d"/>
            </a:solidFill>
            <a:miter/>
            <a:tailEnd len="med" type="triangle" w="med"/>
          </a:ln>
        </p:spPr>
      </p:cxnSp>
      <p:cxnSp>
        <p:nvCxnSpPr>
          <p:cNvPr id="1011" name=""/>
          <p:cNvCxnSpPr>
            <a:stCxn id="1008" idx="2"/>
            <a:endCxn id="1010" idx="7"/>
          </p:cNvCxnSpPr>
          <p:nvPr/>
        </p:nvCxnSpPr>
        <p:spPr>
          <a:xfrm flipV="1" rot="10800000">
            <a:off x="4975920" y="2023560"/>
            <a:ext cx="1469160" cy="845280"/>
          </a:xfrm>
          <a:prstGeom prst="curvedConnector2">
            <a:avLst/>
          </a:prstGeom>
          <a:ln w="38160">
            <a:solidFill>
              <a:srgbClr val="002c5d"/>
            </a:solidFill>
            <a:miter/>
            <a:tailEnd len="med" type="triangle" w="med"/>
          </a:ln>
        </p:spPr>
      </p:cxnSp>
      <p:sp>
        <p:nvSpPr>
          <p:cNvPr id="1012" name=""/>
          <p:cNvSpPr/>
          <p:nvPr/>
        </p:nvSpPr>
        <p:spPr>
          <a:xfrm>
            <a:off x="2332800" y="16351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Garamond"/>
              </a:rPr>
              <a:t>$ (e.g. /MWh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82560" y="163512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Garamond"/>
              </a:rPr>
              <a:t>$/ bono de carbono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2914560" y="3344760"/>
            <a:ext cx="362160" cy="0"/>
          </a:xfrm>
          <a:prstGeom prst="line">
            <a:avLst/>
          </a:prstGeom>
          <a:ln w="28440">
            <a:solidFill>
              <a:srgbClr val="002c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11640" y="3789360"/>
            <a:ext cx="0" cy="216000"/>
          </a:xfrm>
          <a:prstGeom prst="line">
            <a:avLst/>
          </a:prstGeom>
          <a:ln w="28440">
            <a:solidFill>
              <a:srgbClr val="002c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219640" y="3344760"/>
            <a:ext cx="314280" cy="0"/>
          </a:xfrm>
          <a:prstGeom prst="line">
            <a:avLst/>
          </a:prstGeom>
          <a:ln w="28440">
            <a:solidFill>
              <a:srgbClr val="002c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118520" y="31417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Garamond"/>
              </a:rPr>
              <a:t>Costo de capital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37480" y="39988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Garamond"/>
              </a:rPr>
              <a:t>Costo de Operación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325120" y="31417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Garamond"/>
              </a:rPr>
              <a:t>Valor agregado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132000" y="2709720"/>
            <a:ext cx="2160720" cy="10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2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5d"/>
                </a:solidFill>
                <a:latin typeface="Garamond"/>
              </a:rPr>
              <a:t>El Proyecto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31280" y="4289400"/>
            <a:ext cx="7129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c5d"/>
                </a:solidFill>
                <a:latin typeface="Arial"/>
              </a:rPr>
              <a:t>Beneficios para el proyecto: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799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5d"/>
                </a:solidFill>
                <a:latin typeface="Arial"/>
              </a:rPr>
              <a:t>Un ingreso adicional que incrementa la rentabilidad del proyecto a un costo limitado (por ej. Incremento de TIR de 1%)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799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5d"/>
                </a:solidFill>
                <a:latin typeface="Arial"/>
              </a:rPr>
              <a:t>Diversificación de ingresos 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799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5d"/>
                </a:solidFill>
                <a:latin typeface="Arial"/>
              </a:rPr>
              <a:t>Ingresos en Euros or USD</a:t>
            </a:r>
            <a:endParaRPr b="0" lang="en-US" sz="16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2E32-259D-4B50-BE7F-A8DFA1FB8F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Criterio para Proyectos MDL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Tipo de proyecto 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Uno de los 6 GEIs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No energia nuclear; no LULUCF, excepto A/R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Autoridad Nacional Designada implementada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Criterio de Autoridad Nacional Designada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Criterio de Desarrollo Sostenible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Non diversion of ODA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Metodologia aprobada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Adicionalidad fuerte y documentada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Tiempos del proyecto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Impactos ambientales (permisos, EIA?)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c5d"/>
                </a:solidFill>
                <a:latin typeface="Arial"/>
              </a:rPr>
              <a:t>Participantes de Proyecto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0231-DC37-4AB9-83A9-603C3D4D1A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La problemática de cambio climatico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El Protocolo de Kioto y sus Mecanismos de Flexibilida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c5d"/>
                </a:solidFill>
                <a:latin typeface="Arial"/>
              </a:rPr>
              <a:t>Mercados de Carbono 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Oportunidades para RED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6043-29F2-430D-AA71-760BD7DB1C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5940360" y="4005360"/>
            <a:ext cx="2649600" cy="91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c5d"/>
                </a:solidFill>
                <a:latin typeface="Arial"/>
              </a:rPr>
              <a:t>EU 25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9280" y="4005360"/>
            <a:ext cx="2649600" cy="91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c5d"/>
                </a:solidFill>
                <a:latin typeface="Arial"/>
              </a:rPr>
              <a:t>Canada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59280" y="4005360"/>
            <a:ext cx="2649240" cy="91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c5d"/>
                </a:solidFill>
                <a:latin typeface="Arial"/>
              </a:rPr>
              <a:t>Japon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84720" y="4797360"/>
            <a:ext cx="0" cy="1079640"/>
          </a:xfrm>
          <a:prstGeom prst="line">
            <a:avLst/>
          </a:prstGeom>
          <a:ln w="15840">
            <a:solidFill>
              <a:srgbClr val="002c5d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363640" y="4797360"/>
            <a:ext cx="863640" cy="1079640"/>
          </a:xfrm>
          <a:prstGeom prst="line">
            <a:avLst/>
          </a:prstGeom>
          <a:ln w="15840">
            <a:solidFill>
              <a:srgbClr val="002c5d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411280" y="4797360"/>
            <a:ext cx="792360" cy="1079640"/>
          </a:xfrm>
          <a:prstGeom prst="line">
            <a:avLst/>
          </a:prstGeom>
          <a:ln w="15840">
            <a:solidFill>
              <a:srgbClr val="6caee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58840" y="4086360"/>
            <a:ext cx="792000" cy="688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c5d"/>
                </a:solidFill>
                <a:latin typeface="Arial"/>
              </a:rPr>
              <a:t>Grandes 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c5d"/>
                </a:solidFill>
                <a:latin typeface="Arial"/>
              </a:rPr>
              <a:t>Emisores</a:t>
            </a:r>
            <a:br>
              <a:rPr sz="1200"/>
            </a:br>
            <a:r>
              <a:rPr b="1" lang="en-GB" sz="1200" spc="-1" strike="noStrike">
                <a:solidFill>
                  <a:srgbClr val="002c5d"/>
                </a:solidFill>
                <a:latin typeface="Arial"/>
              </a:rPr>
              <a:t>Finales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740720" y="4078440"/>
            <a:ext cx="779400" cy="50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c5d"/>
                </a:solidFill>
                <a:latin typeface="Arial"/>
              </a:rPr>
              <a:t>EU ETS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203640" y="5589720"/>
            <a:ext cx="2354040" cy="71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c5d"/>
                </a:solidFill>
                <a:latin typeface="Arial"/>
              </a:rPr>
              <a:t>Rusia, Ukrania, 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c5d"/>
                </a:solidFill>
                <a:latin typeface="Arial"/>
              </a:rPr>
              <a:t>y países de Europa del Este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356000" y="2637000"/>
            <a:ext cx="34920" cy="1655640"/>
          </a:xfrm>
          <a:prstGeom prst="line">
            <a:avLst/>
          </a:prstGeom>
          <a:ln w="15840">
            <a:solidFill>
              <a:srgbClr val="002c5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68360" y="5157720"/>
            <a:ext cx="421020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c5d"/>
                </a:solidFill>
                <a:latin typeface="Arial"/>
              </a:rPr>
              <a:t>Suministro de AAUs via GIS?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059280" y="1700280"/>
            <a:ext cx="2570040" cy="774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c5d"/>
                </a:solidFill>
                <a:latin typeface="Arial"/>
              </a:rPr>
              <a:t>Proyectos MDL / IC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79280" y="1773360"/>
            <a:ext cx="151308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c5d"/>
                </a:solidFill>
                <a:latin typeface="Arial"/>
              </a:rPr>
              <a:t>CCX, RGGI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c5d"/>
                </a:solidFill>
                <a:latin typeface="Arial"/>
              </a:rPr>
              <a:t>California?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c5d"/>
                </a:solidFill>
                <a:latin typeface="Arial"/>
              </a:rPr>
              <a:t>Australia?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2c5d"/>
                </a:solidFill>
                <a:latin typeface="Arial"/>
              </a:rPr>
              <a:t>Sistema Federal de </a:t>
            </a:r>
            <a:endParaRPr b="0" lang="en-US" sz="11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2c5d"/>
                </a:solidFill>
                <a:latin typeface="Arial"/>
              </a:rPr>
              <a:t>EEUU?</a:t>
            </a:r>
            <a:endParaRPr b="0" lang="en-US" sz="11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971640" y="2565000"/>
            <a:ext cx="2232000" cy="1584360"/>
          </a:xfrm>
          <a:prstGeom prst="line">
            <a:avLst/>
          </a:prstGeom>
          <a:ln w="15840">
            <a:solidFill>
              <a:srgbClr val="6caee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692360" y="2565360"/>
            <a:ext cx="1655640" cy="1727280"/>
          </a:xfrm>
          <a:prstGeom prst="line">
            <a:avLst/>
          </a:prstGeom>
          <a:ln w="15840">
            <a:solidFill>
              <a:srgbClr val="6caee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 flipV="1">
            <a:off x="5514480" y="2565000"/>
            <a:ext cx="2225880" cy="1584360"/>
          </a:xfrm>
          <a:prstGeom prst="line">
            <a:avLst/>
          </a:prstGeom>
          <a:ln w="15840">
            <a:solidFill>
              <a:srgbClr val="002c5d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5364000" y="2565360"/>
            <a:ext cx="1656000" cy="1728720"/>
          </a:xfrm>
          <a:prstGeom prst="line">
            <a:avLst/>
          </a:prstGeom>
          <a:ln w="15840">
            <a:solidFill>
              <a:srgbClr val="002c5d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708360" y="2637000"/>
            <a:ext cx="503280" cy="1368360"/>
          </a:xfrm>
          <a:prstGeom prst="line">
            <a:avLst/>
          </a:prstGeom>
          <a:ln w="15840">
            <a:solidFill>
              <a:srgbClr val="002c5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8840" y="2997360"/>
            <a:ext cx="845028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c5d"/>
                </a:solidFill>
                <a:latin typeface="Arial"/>
              </a:rPr>
              <a:t>Suministro de CERs/ERUs a futuro via ERPAs 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c5d"/>
                </a:solidFill>
                <a:latin typeface="Arial"/>
              </a:rPr>
              <a:t>Mercado </a:t>
            </a:r>
            <a:r>
              <a:rPr b="1" i="1" lang="es-ES" sz="1400" spc="-1" strike="noStrike">
                <a:solidFill>
                  <a:srgbClr val="002c5d"/>
                </a:solidFill>
                <a:latin typeface="Arial"/>
              </a:rPr>
              <a:t>spot </a:t>
            </a:r>
            <a:r>
              <a:rPr b="1" lang="es-ES" sz="1400" spc="-1" strike="noStrike">
                <a:solidFill>
                  <a:srgbClr val="002c5d"/>
                </a:solidFill>
                <a:latin typeface="Arial"/>
              </a:rPr>
              <a:t>surgirá cuando suficiente volumen de bonos haya sido emitido y hechos disponible</a:t>
            </a:r>
            <a:endParaRPr b="0" lang="en-US" sz="1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32000" y="4076640"/>
            <a:ext cx="863640" cy="561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c5d"/>
                </a:solidFill>
                <a:latin typeface="Arial"/>
              </a:rPr>
              <a:t>Acuerdo 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c5d"/>
                </a:solidFill>
                <a:latin typeface="Arial"/>
              </a:rPr>
              <a:t>Voluntario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c5d"/>
                </a:solidFill>
                <a:latin typeface="Arial"/>
              </a:rPr>
              <a:t>Keidanren </a:t>
            </a:r>
            <a:endParaRPr b="0" lang="en-US" sz="1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835280" y="2133720"/>
            <a:ext cx="1224000" cy="0"/>
          </a:xfrm>
          <a:prstGeom prst="line">
            <a:avLst/>
          </a:prstGeom>
          <a:ln w="15840">
            <a:solidFill>
              <a:srgbClr val="6caee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130480" y="547560"/>
            <a:ext cx="6389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Mercados de Carbono</a:t>
            </a:r>
            <a:endParaRPr b="0" lang="en-US" sz="3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B193-6185-4F0E-BF00-736E3A8A95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La problemática de cambio climático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El Protocolo de Kioto y sus Mecanismos de Flexibilida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Mercados de Carbono 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Oportunidades para RED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2618-C652-4C5E-AA6D-A38DF3C22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0" y="9360"/>
            <a:ext cx="9144000" cy="6515280"/>
            <a:chOff x="0" y="9360"/>
            <a:chExt cx="9144000" cy="6515280"/>
          </a:xfrm>
        </p:grpSpPr>
        <p:pic>
          <p:nvPicPr>
            <p:cNvPr id="1048" name="" descr=""/>
            <p:cNvPicPr/>
            <p:nvPr/>
          </p:nvPicPr>
          <p:blipFill>
            <a:blip r:embed="rId1"/>
            <a:stretch/>
          </p:blipFill>
          <p:spPr>
            <a:xfrm>
              <a:off x="0" y="9360"/>
              <a:ext cx="9144000" cy="65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"/>
            <a:stretch/>
          </p:blipFill>
          <p:spPr>
            <a:xfrm>
              <a:off x="531720" y="512640"/>
              <a:ext cx="1440000" cy="3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0" name=""/>
          <p:cNvSpPr/>
          <p:nvPr/>
        </p:nvSpPr>
        <p:spPr>
          <a:xfrm>
            <a:off x="2268360" y="417600"/>
            <a:ext cx="63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2c5d"/>
                </a:solidFill>
                <a:latin typeface="Arial"/>
              </a:rPr>
              <a:t>Directiva Europea de Comercio de Emisiones (EU ETS)</a:t>
            </a:r>
            <a:endParaRPr b="0" lang="en-US" sz="3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6840" y="190296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2c5d"/>
                </a:solidFill>
                <a:latin typeface="Arial"/>
              </a:rPr>
              <a:t>Estrategia europea para impulsar el Protocolo de Kyoto.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2c5d"/>
                </a:solidFill>
                <a:latin typeface="Arial"/>
              </a:rPr>
              <a:t>Inició en Enero del 2005.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2c5d"/>
                </a:solidFill>
                <a:latin typeface="Arial"/>
              </a:rPr>
              <a:t>Establece que los países de la Unión Europea deben reducir sus emisiones un 6% durante el período 2005-2007.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2c5d"/>
                </a:solidFill>
                <a:latin typeface="Arial"/>
              </a:rPr>
              <a:t>Entre 10.000 y 15.000 instalaciones industriales involucradas.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2c5d"/>
                </a:solidFill>
                <a:latin typeface="Arial"/>
              </a:rPr>
              <a:t>Derechos de emisión transferibles entre instalaciones dentro de Europa.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2c5d"/>
                </a:solidFill>
                <a:latin typeface="Arial"/>
              </a:rPr>
              <a:t>Compañías están permitidas de complementar sus objetivos con créditos MDL (</a:t>
            </a:r>
            <a:r>
              <a:rPr b="1" lang="es-ES_tradnl" sz="1800" spc="-1" strike="noStrike">
                <a:solidFill>
                  <a:srgbClr val="002c5d"/>
                </a:solidFill>
                <a:latin typeface="Arial"/>
              </a:rPr>
              <a:t>Directiva de Enlace).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2c5d"/>
                </a:solidFill>
                <a:latin typeface="Arial"/>
              </a:rPr>
              <a:t>Mercado transa reducciones efectivas.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3DFC-869A-4436-8C90-8315E72CE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Mercados Voluntarios Paralelos a Kioto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c5d"/>
                </a:solidFill>
                <a:latin typeface="Arial"/>
              </a:rPr>
              <a:t>Mercado de VERs dirigido por compradores voluntarios (imagen corporativa, responsabilidad social, individuos, planificacion para sistemas de compromiso futuros, etc)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c5d"/>
                </a:solidFill>
                <a:latin typeface="Arial"/>
              </a:rPr>
              <a:t>Los VERs se determinan basados en un estándar (como los VCS), a diferencia de los CERs que están sujetos a las reglas y procedimientos del MDL.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c5d"/>
                </a:solidFill>
                <a:latin typeface="Arial"/>
              </a:rPr>
              <a:t>Tipos de VERs (pre-registro, prompt-start, proyectos que no entra en MDL por falta de metodologia, etc.)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c5d"/>
                </a:solidFill>
                <a:latin typeface="Arial"/>
              </a:rPr>
              <a:t>Calidad y precio de creditos varia grandemente (adicionalidad, monitoreo)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lvl="1" marL="727920" indent="-390240">
              <a:lnSpc>
                <a:spcPct val="80000"/>
              </a:lnSpc>
              <a:spcBef>
                <a:spcPts val="700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2c5d"/>
                </a:solidFill>
                <a:latin typeface="Arial"/>
              </a:rPr>
              <a:t>Precios varian: US$ 0.5 – 45 por tCO2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c5d"/>
                </a:solidFill>
                <a:latin typeface="Arial"/>
              </a:rPr>
              <a:t>El Estándar de EcoSecurities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lvl="1" marL="727920" indent="-390240">
              <a:lnSpc>
                <a:spcPct val="80000"/>
              </a:lnSpc>
              <a:spcBef>
                <a:spcPts val="700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c5d"/>
                </a:solidFill>
                <a:latin typeface="Arial"/>
              </a:rPr>
              <a:t>Abarca los elementos principales del MDL y el VCS naciente que le dan credibilidad al Mercado Voluntario del Carbón</a:t>
            </a: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1261-6031-44DA-8C25-C827BE4391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"/>
          <p:cNvGrpSpPr/>
          <p:nvPr/>
        </p:nvGrpSpPr>
        <p:grpSpPr>
          <a:xfrm>
            <a:off x="0" y="0"/>
            <a:ext cx="9144000" cy="6515280"/>
            <a:chOff x="0" y="0"/>
            <a:chExt cx="9144000" cy="6515280"/>
          </a:xfrm>
        </p:grpSpPr>
        <p:pic>
          <p:nvPicPr>
            <p:cNvPr id="10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5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2"/>
            <a:stretch/>
          </p:blipFill>
          <p:spPr>
            <a:xfrm>
              <a:off x="531720" y="503280"/>
              <a:ext cx="1440000" cy="3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40880" y="76320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c5d"/>
                </a:solidFill>
                <a:latin typeface="Arial"/>
              </a:rPr>
              <a:t>Iniciativas Recientes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533520" y="1828800"/>
          <a:ext cx="7772400" cy="3492360"/>
        </p:xfrm>
        <a:graphic>
          <a:graphicData uri="http://schemas.openxmlformats.org/drawingml/2006/table">
            <a:tbl>
              <a:tblPr/>
              <a:tblGrid>
                <a:gridCol w="1447560"/>
                <a:gridCol w="3022560"/>
                <a:gridCol w="3302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s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1368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iance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1368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ntary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13680">
                      <a:solidFill>
                        <a:srgbClr val="002c5d"/>
                      </a:solidFill>
                    </a:lnR>
                    <a:lnT w="1368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International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Asia Pacific Partnership 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1368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Federal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EPA Climate Leaders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1368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Regional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Regional Greenhouse Gas Initiative (RGGI) (2009)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1368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California – AB 32 (2012)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1368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Oregon – CO</a:t>
                      </a:r>
                      <a:r>
                        <a:rPr b="0" lang="en-US" sz="1800" spc="-1" strike="noStrike" baseline="-25000">
                          <a:solidFill>
                            <a:srgbClr val="002c5d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 Standard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1368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5760">
                      <a:solidFill>
                        <a:srgbClr val="002c5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1368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576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13680">
                      <a:solidFill>
                        <a:srgbClr val="002c5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c5d"/>
                          </a:solidFill>
                          <a:latin typeface="Arial"/>
                        </a:rPr>
                        <a:t>Chicago Climate Exchange (CCX)</a:t>
                      </a:r>
                      <a:endParaRPr b="0" lang="en-US" sz="1800" spc="-1" strike="noStrike">
                        <a:solidFill>
                          <a:srgbClr val="002c5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c5d"/>
                      </a:solidFill>
                    </a:lnL>
                    <a:lnR w="13680">
                      <a:solidFill>
                        <a:srgbClr val="002c5d"/>
                      </a:solidFill>
                    </a:lnR>
                    <a:lnT w="5760">
                      <a:solidFill>
                        <a:srgbClr val="002c5d"/>
                      </a:solidFill>
                    </a:lnT>
                    <a:lnB w="13680">
                      <a:solidFill>
                        <a:srgbClr val="002c5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1021-3CD0-4542-ACDE-8FA2F3EA7B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d"/>
                </a:solidFill>
                <a:latin typeface="Arial"/>
              </a:rPr>
              <a:t>Proyectos Forestales en Mercado Voluntario</a:t>
            </a:r>
            <a:endParaRPr b="1" lang="en-US" sz="2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6840" y="2120760"/>
            <a:ext cx="807732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Los proyectos forestales voluntarios fueron los primeros en generar “carbon offsets”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c5d"/>
                </a:solidFill>
                <a:latin typeface="Arial"/>
              </a:rPr>
              <a:t>Mercados voluntarios permiten la participacion de deforestacion evitada (distinto al MDL)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Los proyectos forestales han sido los mas visibles en el mercado voluntario: 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c5d"/>
                </a:solidFill>
                <a:latin typeface="Arial"/>
              </a:rPr>
              <a:t>1/3 de los offsets voluntarios en el 2006 fueron generados por proyectos voluntarios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Sector forestal es atractivo para compradores voluntarios; proyectos pueden vender una “historia” (biodiversidad, beneficios para la comunidad, etc.) 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2c5d"/>
                </a:solidFill>
                <a:latin typeface="Arial"/>
              </a:rPr>
              <a:t>Pero el sector tambien ha recibido mucha critica, debido a proyectos forestales de baja calidad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9C4A-4A55-49B8-989F-E9367CD51E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2279520" y="285840"/>
            <a:ext cx="6143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2c5d"/>
                </a:solidFill>
                <a:latin typeface="Arial"/>
              </a:rPr>
              <a:t>Valor de Mercado y Precios</a:t>
            </a:r>
            <a:endParaRPr b="0" lang="en-US" sz="32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684840" y="5595840"/>
            <a:ext cx="2495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2c5d"/>
                </a:solidFill>
                <a:latin typeface="Arial"/>
                <a:ea typeface="Arial"/>
              </a:rPr>
              <a:t>10 - 18  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740120" y="5595840"/>
            <a:ext cx="27352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  <a:ea typeface="Arial"/>
              </a:rPr>
              <a:t>Mercado voluntario – Deforestacion evitada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732720" y="5103720"/>
            <a:ext cx="2495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2c5d"/>
                </a:solidFill>
                <a:latin typeface="Arial"/>
                <a:ea typeface="Arial"/>
              </a:rPr>
              <a:t>0.5 - 45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40120" y="5084640"/>
            <a:ext cx="237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  <a:ea typeface="Arial"/>
              </a:rPr>
              <a:t>Mercado voluntario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  <a:ea typeface="Arial"/>
              </a:rPr>
              <a:t>- Reforestacion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56480" y="4568760"/>
            <a:ext cx="24955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2c5d"/>
                </a:solidFill>
                <a:latin typeface="Arial"/>
                <a:ea typeface="Arial"/>
              </a:rPr>
              <a:t>3.3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740120" y="4508640"/>
            <a:ext cx="2376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  <a:ea typeface="Arial"/>
              </a:rPr>
              <a:t>Chicago Climate Exchange (CCX)</a:t>
            </a:r>
            <a:r>
              <a:rPr b="0" lang="ar-SA" sz="1800" spc="-1" strike="noStrike">
                <a:solidFill>
                  <a:srgbClr val="002c5d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2920" y="4076640"/>
            <a:ext cx="2495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2c5d"/>
                </a:solidFill>
                <a:latin typeface="Arial"/>
                <a:ea typeface="Arial"/>
              </a:rPr>
              <a:t>11.3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40120" y="4125960"/>
            <a:ext cx="266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  <a:ea typeface="Arial"/>
              </a:rPr>
              <a:t>NSW GGAS (Australia)</a:t>
            </a:r>
            <a:r>
              <a:rPr b="0" lang="ar-SA" sz="1800" spc="-1" strike="noStrike">
                <a:solidFill>
                  <a:srgbClr val="002c5d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756480" y="3701880"/>
            <a:ext cx="2495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2c5d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2c5d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740120" y="3745080"/>
            <a:ext cx="2122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  <a:ea typeface="Arial"/>
              </a:rPr>
              <a:t>MDL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22920" y="3106800"/>
            <a:ext cx="249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972480" y="2708280"/>
            <a:ext cx="2495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 Black"/>
                <a:ea typeface="Arial"/>
              </a:rPr>
              <a:t>Precios 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 Black"/>
                <a:ea typeface="Arial"/>
              </a:rPr>
              <a:t>pagados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(US$/ t CO2)</a:t>
            </a:r>
            <a:r>
              <a:rPr b="0" lang="ar-SA" sz="1800" spc="-1" strike="noStrike">
                <a:solidFill>
                  <a:srgbClr val="002c5d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40120" y="2708280"/>
            <a:ext cx="21225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 Black"/>
                <a:ea typeface="Arial"/>
              </a:rPr>
              <a:t>Mercado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400880" y="2708280"/>
            <a:ext cx="3240" cy="3567240"/>
          </a:xfrm>
          <a:prstGeom prst="line">
            <a:avLst/>
          </a:prstGeom>
          <a:ln w="12600">
            <a:solidFill>
              <a:srgbClr val="002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716360" y="2708280"/>
            <a:ext cx="3240" cy="3567240"/>
          </a:xfrm>
          <a:prstGeom prst="line">
            <a:avLst/>
          </a:prstGeom>
          <a:ln w="12600">
            <a:solidFill>
              <a:srgbClr val="002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988480" y="2708280"/>
            <a:ext cx="3240" cy="3567240"/>
          </a:xfrm>
          <a:prstGeom prst="line">
            <a:avLst/>
          </a:prstGeom>
          <a:ln w="12600">
            <a:solidFill>
              <a:srgbClr val="002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4707000" y="2709720"/>
            <a:ext cx="4437000" cy="3566880"/>
            <a:chOff x="4707000" y="2709720"/>
            <a:chExt cx="4437000" cy="3566880"/>
          </a:xfrm>
        </p:grpSpPr>
        <p:sp>
          <p:nvSpPr>
            <p:cNvPr id="1079" name=""/>
            <p:cNvSpPr/>
            <p:nvPr/>
          </p:nvSpPr>
          <p:spPr>
            <a:xfrm>
              <a:off x="4707000" y="3745800"/>
              <a:ext cx="4437000" cy="1080"/>
            </a:xfrm>
            <a:prstGeom prst="line">
              <a:avLst/>
            </a:prstGeom>
            <a:ln w="12600">
              <a:solidFill>
                <a:srgbClr val="002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707000" y="2709720"/>
              <a:ext cx="4437000" cy="1080"/>
            </a:xfrm>
            <a:prstGeom prst="line">
              <a:avLst/>
            </a:prstGeom>
            <a:ln w="12600">
              <a:solidFill>
                <a:srgbClr val="002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707000" y="4104360"/>
              <a:ext cx="4437000" cy="1440"/>
            </a:xfrm>
            <a:prstGeom prst="line">
              <a:avLst/>
            </a:prstGeom>
            <a:ln w="12600">
              <a:solidFill>
                <a:srgbClr val="002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07000" y="4540680"/>
              <a:ext cx="4437000" cy="1080"/>
            </a:xfrm>
            <a:prstGeom prst="line">
              <a:avLst/>
            </a:prstGeom>
            <a:ln w="12600">
              <a:solidFill>
                <a:srgbClr val="002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707000" y="5083560"/>
              <a:ext cx="4437000" cy="1080"/>
            </a:xfrm>
            <a:prstGeom prst="line">
              <a:avLst/>
            </a:prstGeom>
            <a:ln w="12600">
              <a:solidFill>
                <a:srgbClr val="002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07000" y="5659560"/>
              <a:ext cx="4437000" cy="1080"/>
            </a:xfrm>
            <a:prstGeom prst="line">
              <a:avLst/>
            </a:prstGeom>
            <a:ln w="12600">
              <a:solidFill>
                <a:srgbClr val="002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707000" y="6275520"/>
              <a:ext cx="4437000" cy="1080"/>
            </a:xfrm>
            <a:prstGeom prst="line">
              <a:avLst/>
            </a:prstGeom>
            <a:ln w="12600">
              <a:solidFill>
                <a:srgbClr val="002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2c5d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612360" y="1474920"/>
            <a:ext cx="44888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2c5d"/>
                </a:solidFill>
                <a:latin typeface="Arial"/>
                <a:ea typeface="Lucida Sans Unicode"/>
              </a:rPr>
              <a:t>Valor del Mercado de Carbono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5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c5d"/>
                </a:solidFill>
                <a:latin typeface="Arial"/>
              </a:rPr>
              <a:t>(US$ Millones)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4920" y="5324400"/>
            <a:ext cx="22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2c5d"/>
                </a:solidFill>
                <a:latin typeface="Arial"/>
                <a:ea typeface="Lucida Sans Unicode"/>
              </a:rPr>
              <a:t>MDL forestal tiene 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2c5d"/>
                </a:solidFill>
                <a:latin typeface="Arial"/>
                <a:ea typeface="Lucida Sans Unicode"/>
              </a:rPr>
              <a:t>valor de US$ 0.1 millones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1085760" y="3860280"/>
            <a:ext cx="749520" cy="1513080"/>
          </a:xfrm>
          <a:prstGeom prst="line">
            <a:avLst/>
          </a:prstGeom>
          <a:ln w="28440">
            <a:solidFill>
              <a:srgbClr val="002c5d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79640" y="5965920"/>
            <a:ext cx="24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2c5d"/>
                </a:solidFill>
                <a:latin typeface="Arial"/>
                <a:ea typeface="Lucida Sans Unicode"/>
              </a:rPr>
              <a:t>Forestal voluntario tiene valor de US$ 13.3 millones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428920" y="3211560"/>
            <a:ext cx="1440" cy="865080"/>
          </a:xfrm>
          <a:custGeom>
            <a:avLst/>
            <a:gdLst/>
            <a:ahLst/>
            <a:rect l="l" t="t" r="r" b="b"/>
            <a:pathLst>
              <a:path w="0" h="8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1"/>
                  <a:pt x="0" y="1"/>
                </a:cubicBezTo>
                <a:lnTo>
                  <a:pt x="0" y="81"/>
                </a:lnTo>
                <a:lnTo>
                  <a:pt x="0" y="1"/>
                </a:lnTo>
                <a:close/>
              </a:path>
            </a:pathLst>
          </a:custGeom>
          <a:solidFill>
            <a:srgbClr val="9999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724040" y="3519360"/>
            <a:ext cx="1720800" cy="1720800"/>
          </a:xfrm>
          <a:custGeom>
            <a:avLst/>
            <a:gdLst/>
            <a:ahLst/>
            <a:rect l="l" t="t" r="r" b="b"/>
            <a:pathLst>
              <a:path w="161" h="161">
                <a:moveTo>
                  <a:pt x="0" y="80"/>
                </a:moveTo>
                <a:cubicBezTo>
                  <a:pt x="0" y="80"/>
                  <a:pt x="0" y="80"/>
                  <a:pt x="0" y="80"/>
                </a:cubicBezTo>
                <a:cubicBezTo>
                  <a:pt x="0" y="124"/>
                  <a:pt x="36" y="161"/>
                  <a:pt x="80" y="161"/>
                </a:cubicBezTo>
                <a:cubicBezTo>
                  <a:pt x="124" y="161"/>
                  <a:pt x="161" y="124"/>
                  <a:pt x="161" y="80"/>
                </a:cubicBezTo>
                <a:cubicBezTo>
                  <a:pt x="161" y="36"/>
                  <a:pt x="125" y="0"/>
                  <a:pt x="80" y="0"/>
                </a:cubicBezTo>
                <a:lnTo>
                  <a:pt x="8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99336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424160" y="3220920"/>
            <a:ext cx="855360" cy="855720"/>
          </a:xfrm>
          <a:custGeom>
            <a:avLst/>
            <a:gdLst/>
            <a:ahLst/>
            <a:rect l="l" t="t" r="r" b="b"/>
            <a:pathLst>
              <a:path w="80" h="80">
                <a:moveTo>
                  <a:pt x="80" y="0"/>
                </a:moveTo>
                <a:cubicBezTo>
                  <a:pt x="35" y="0"/>
                  <a:pt x="0" y="35"/>
                  <a:pt x="0" y="80"/>
                </a:cubicBezTo>
                <a:lnTo>
                  <a:pt x="8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ffffcc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317760" y="3716280"/>
            <a:ext cx="246240" cy="96840"/>
          </a:xfrm>
          <a:custGeom>
            <a:avLst/>
            <a:gdLst/>
            <a:ahLst/>
            <a:rect l="l" t="t" r="r" b="b"/>
            <a:pathLst>
              <a:path w="23" h="9">
                <a:moveTo>
                  <a:pt x="23" y="0"/>
                </a:moveTo>
                <a:lnTo>
                  <a:pt x="18" y="0"/>
                </a:lnTo>
                <a:lnTo>
                  <a:pt x="0" y="9"/>
                </a:lnTo>
              </a:path>
            </a:pathLst>
          </a:custGeom>
          <a:noFill/>
          <a:ln w="22320">
            <a:solidFill>
              <a:srgbClr val="002c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92360" y="3141720"/>
            <a:ext cx="13384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5d"/>
                </a:solidFill>
                <a:latin typeface="Arial"/>
              </a:rPr>
              <a:t>Mercados de Kioto (no MDL)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c5d"/>
                </a:solidFill>
                <a:latin typeface="Arial"/>
              </a:rPr>
              <a:t>$24,000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018160" y="2322360"/>
            <a:ext cx="2464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5d"/>
                </a:solidFill>
                <a:latin typeface="Arial"/>
              </a:rPr>
              <a:t>Mercados Voluntarios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5d"/>
                </a:solidFill>
                <a:latin typeface="Arial"/>
              </a:rPr>
              <a:t>$ 92 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324000" y="2349360"/>
            <a:ext cx="12952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5d"/>
                </a:solidFill>
                <a:latin typeface="Arial"/>
              </a:rPr>
              <a:t>Mercados MDL (Kioto)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5d"/>
                </a:solidFill>
                <a:latin typeface="Arial"/>
              </a:rPr>
              <a:t>$8,000</a:t>
            </a: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2445840" y="3573000"/>
            <a:ext cx="109800" cy="2459160"/>
          </a:xfrm>
          <a:prstGeom prst="line">
            <a:avLst/>
          </a:prstGeom>
          <a:ln w="28440">
            <a:solidFill>
              <a:srgbClr val="002c5d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1116000" y="3525120"/>
            <a:ext cx="216000" cy="190440"/>
          </a:xfrm>
          <a:custGeom>
            <a:avLst/>
            <a:gdLst/>
            <a:ahLst/>
            <a:rect l="l" t="t" r="r" b="b"/>
            <a:pathLst>
              <a:path w="23" h="9">
                <a:moveTo>
                  <a:pt x="23" y="0"/>
                </a:moveTo>
                <a:lnTo>
                  <a:pt x="18" y="0"/>
                </a:lnTo>
                <a:lnTo>
                  <a:pt x="0" y="9"/>
                </a:lnTo>
              </a:path>
            </a:pathLst>
          </a:custGeom>
          <a:noFill/>
          <a:ln w="22320">
            <a:solidFill>
              <a:srgbClr val="002c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C7B2-EB7D-4DB0-96EE-AD6A522FB5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La problemática de cambio climatico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El Protocolo de Kioto y sus Mecanismos de Flexibilida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Mercados de Carbono 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c5d"/>
                </a:solidFill>
                <a:latin typeface="Arial"/>
              </a:rPr>
              <a:t>Oportunidades para RED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B807-AEC9-4534-B52E-99E1A37184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196720" y="260280"/>
            <a:ext cx="655164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c5d"/>
                </a:solidFill>
                <a:latin typeface="Arial"/>
              </a:rPr>
              <a:t>Deforestacion &amp; Cambio Climatico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73200" y="1574640"/>
            <a:ext cx="763272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c5d"/>
                </a:solidFill>
                <a:latin typeface="Arial"/>
              </a:rPr>
              <a:t>El </a:t>
            </a:r>
            <a:r>
              <a:rPr b="0" i="1" lang="de-DE" sz="1800" spc="-1" strike="noStrike">
                <a:solidFill>
                  <a:srgbClr val="002c5d"/>
                </a:solidFill>
                <a:latin typeface="Arial"/>
              </a:rPr>
              <a:t>cambio del uso de los suelos</a:t>
            </a:r>
            <a:r>
              <a:rPr b="0" lang="de-DE" sz="1800" spc="-1" strike="noStrike">
                <a:solidFill>
                  <a:srgbClr val="002c5d"/>
                </a:solidFill>
                <a:latin typeface="Arial"/>
              </a:rPr>
              <a:t> en los Tropicos genera el 20 % de las emisiones de GEIs producidas a nivel mundial y es uno de los causantes principales de la perdida de biodiversidad  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2c5d"/>
                </a:solidFill>
                <a:latin typeface="Arial"/>
              </a:rPr>
              <a:t>13 millones de HA de bosque tropical se pierden anualmente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c5d"/>
                </a:solidFill>
                <a:latin typeface="Arial"/>
              </a:rPr>
              <a:t>Es la fuente principal de emisiones en los paises en vias de desarrollo 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c5d"/>
                </a:solidFill>
                <a:latin typeface="Arial"/>
              </a:rPr>
              <a:t>La segunda mas grande a nivel mundial despues del uso de combustible fosil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c5d"/>
                </a:solidFill>
                <a:latin typeface="Arial"/>
              </a:rPr>
              <a:t>La deforestacion evitada aun no esta incluida dentro del Protocolo de Kioto (UNFCCC)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c5d"/>
                </a:solidFill>
                <a:latin typeface="Arial"/>
              </a:rPr>
              <a:t>No existen compromisos de reducciones para paises en desarrollo 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43040" indent="-398520">
              <a:lnSpc>
                <a:spcPct val="90000"/>
              </a:lnSpc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c5d"/>
                </a:solidFill>
                <a:latin typeface="Arial"/>
              </a:rPr>
              <a:t>El Mecanismo de Desarrollo Limpio solo cubre actividades de reforestacion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10DA-E617-41C1-8C45-6588036537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Oportunidades para REDD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Puede llegar a ser un mercado muy grande (varios billones de Euros anualmente)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Apoyo politico solido y fuerte; una de los temas principales durante las negociaciones de Kioto post-2012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Quedan varios temas importantes por resolver: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35480" indent="-39420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Establecimiento de lineas de base justas y realistas 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35480" indent="-39420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Creditos basados en proyectos vs. creditos basados en sistema nacional 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35480" indent="-39420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Emisiones debido a degradacion: como contabilizarlas adecuadamente?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35480" indent="-39420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Riegos de gobierno en paises donde se desarrolla proyectos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35480" indent="-39420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Sistemas de monitoreo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lvl="1" marL="735480" indent="-394200">
              <a:spcBef>
                <a:spcPts val="901"/>
              </a:spcBef>
              <a:buClr>
                <a:srgbClr val="002c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5d"/>
                </a:solidFill>
                <a:latin typeface="Arial"/>
              </a:rPr>
              <a:t>Etc…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C88C-E18A-4120-82AC-522575893E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228600" y="171468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Consideración de las propuestas (submissions) por 25. SBSTA  5/2006 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8600" y="2247840"/>
            <a:ext cx="8915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1. Taller de la SBSTA:  a</a:t>
            </a:r>
            <a:r>
              <a:rPr b="0" lang="es-ES_tradnl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spectos técnicos, científicos, políticos,</a:t>
            </a:r>
            <a:br>
              <a:rPr sz="1800"/>
            </a:br>
            <a:r>
              <a:rPr b="0" lang="es-ES_tradnl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metodologías</a:t>
            </a:r>
            <a:r>
              <a:rPr b="0" lang="es-BO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  (Roma, 9/2006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" y="316224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COP 12/ MOP 2 CMNUCC (Nairobi, 11/2006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28600" y="125748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Inicio de la discusión: COP 11/ MOP 1 CMNUCC (Montreal, 12/2005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28600" y="521964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Presentación de las recomendaciones del 27. SBSTA a la COP 13/MOP 3 (Bali, 12/2007)</a:t>
            </a:r>
            <a:r>
              <a:rPr b="0" lang="es-BO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28600" y="369576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2. ronda de propuestas hasta 23.02.2007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" y="42292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2. Taller de la SBSTA: incentivos, implementación (Australia, 3/2007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8600" y="476244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7a40"/>
                </a:solidFill>
                <a:latin typeface="Arial"/>
                <a:ea typeface="Times New Roman"/>
              </a:rPr>
              <a:t>26. Reunión de SBSTA: Revisión de resultados (Alemania, 5/2007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946080" y="876240"/>
            <a:ext cx="7848720" cy="381240"/>
          </a:xfrm>
          <a:prstGeom prst="rect">
            <a:avLst/>
          </a:prstGeom>
          <a:solidFill>
            <a:srgbClr val="e7ffe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c5d"/>
                </a:solidFill>
                <a:latin typeface="Arial"/>
              </a:rPr>
              <a:t>La Agenda Internacional de REDD</a:t>
            </a:r>
            <a:endParaRPr b="0" lang="en-US" sz="2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3670-F353-413C-8EFA-0093DCD7B5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5400" y="460080"/>
            <a:ext cx="8078760" cy="18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c5d"/>
                </a:solidFill>
                <a:latin typeface="Arial"/>
              </a:rPr>
              <a:t>Gracias!!!</a:t>
            </a:r>
            <a:br>
              <a:rPr sz="4000"/>
            </a:br>
            <a:br>
              <a:rPr sz="2800"/>
            </a:br>
            <a:br>
              <a:rPr sz="1600"/>
            </a:br>
            <a:endParaRPr b="1" lang="en-US" sz="40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365640" y="2081160"/>
            <a:ext cx="455904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c5d"/>
                </a:solidFill>
                <a:latin typeface="Arial"/>
              </a:rPr>
              <a:t>Paloma Sarria</a:t>
            </a:r>
            <a:br>
              <a:rPr sz="1800"/>
            </a:br>
            <a:r>
              <a:rPr b="0" lang="en-GB" sz="1600" spc="-1" strike="noStrike">
                <a:solidFill>
                  <a:srgbClr val="002c5d"/>
                </a:solidFill>
                <a:latin typeface="Arial"/>
              </a:rPr>
              <a:t>Origination Manager</a:t>
            </a:r>
            <a:br>
              <a:rPr sz="1600"/>
            </a:br>
            <a:r>
              <a:rPr b="0" lang="en-GB" sz="1600" spc="-1" strike="noStrike">
                <a:solidFill>
                  <a:srgbClr val="002c5d"/>
                </a:solidFill>
                <a:latin typeface="Arial"/>
              </a:rPr>
              <a:t>Peru</a:t>
            </a:r>
            <a:br>
              <a:rPr sz="1600"/>
            </a:br>
            <a:r>
              <a:rPr b="0" lang="en-US" sz="1600" spc="-1" strike="noStrike">
                <a:solidFill>
                  <a:srgbClr val="002c5d"/>
                </a:solidFill>
                <a:latin typeface="Arial"/>
              </a:rPr>
              <a:t>Av. Emilio Cavenecia 225, Of. 603 </a:t>
            </a:r>
            <a:br>
              <a:rPr sz="1600"/>
            </a:br>
            <a:r>
              <a:rPr b="0" lang="en-US" sz="1600" spc="-1" strike="noStrike">
                <a:solidFill>
                  <a:srgbClr val="002c5d"/>
                </a:solidFill>
                <a:latin typeface="Arial"/>
              </a:rPr>
              <a:t>San Isidro </a:t>
            </a:r>
            <a:br>
              <a:rPr sz="1600"/>
            </a:br>
            <a:r>
              <a:rPr b="0" lang="en-US" sz="1600" spc="-1" strike="noStrike">
                <a:solidFill>
                  <a:srgbClr val="002c5d"/>
                </a:solidFill>
                <a:latin typeface="Arial"/>
              </a:rPr>
              <a:t>Lima, Peru </a:t>
            </a:r>
            <a:br>
              <a:rPr sz="1600"/>
            </a:br>
            <a:r>
              <a:rPr b="0" lang="en-US" sz="1600" spc="-1" strike="noStrike">
                <a:solidFill>
                  <a:srgbClr val="002c5d"/>
                </a:solidFill>
                <a:latin typeface="Arial"/>
              </a:rPr>
              <a:t>511 421 6384 </a:t>
            </a:r>
            <a:br>
              <a:rPr sz="1600"/>
            </a:br>
            <a:r>
              <a:rPr b="0" lang="en-US" sz="1600" spc="-1" strike="noStrike">
                <a:solidFill>
                  <a:srgbClr val="002c5d"/>
                </a:solidFill>
                <a:latin typeface="Arial"/>
              </a:rPr>
              <a:t>511 9771 8658</a:t>
            </a:r>
            <a:br>
              <a:rPr sz="1600"/>
            </a:br>
            <a:r>
              <a:rPr b="0" lang="en-US" sz="1600" spc="-1" strike="noStrike">
                <a:solidFill>
                  <a:srgbClr val="002c5d"/>
                </a:solidFill>
                <a:latin typeface="Arial"/>
              </a:rPr>
              <a:t>paloma@ecosecurities.com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CDAF-59F5-4A85-861D-93C76F12DC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c5d"/>
                </a:solidFill>
                <a:latin typeface="Arial"/>
              </a:rPr>
              <a:t>La problemática de cambio climático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El Protocolo de Kioto y sus Mecanismos de Flexibilida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Mercados de Carbono 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Oportunidades para RED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7426-4F9B-4A57-93B6-4434213461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8287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c5d"/>
                </a:solidFill>
                <a:latin typeface="Arial"/>
              </a:rPr>
              <a:t>Problematica de Cambio Climatico</a:t>
            </a:r>
            <a:endParaRPr b="1" lang="en-US" sz="2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59120"/>
            <a:ext cx="8077320" cy="35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270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270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2700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c5d"/>
              </a:solidFill>
              <a:latin typeface="Arial"/>
            </a:endParaRPr>
          </a:p>
          <a:p>
            <a:pPr marL="2700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c5d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01" t="0" r="0" b="0"/>
          <a:stretch/>
        </p:blipFill>
        <p:spPr>
          <a:xfrm>
            <a:off x="19080" y="2832120"/>
            <a:ext cx="9124920" cy="369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5760" y="1414440"/>
            <a:ext cx="80787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1600" spc="-1" strike="noStrike">
                <a:solidFill>
                  <a:srgbClr val="002c5d"/>
                </a:solidFill>
                <a:latin typeface="Arial"/>
              </a:rPr>
              <a:t>Cuando los GEIs permanecen en la atmosfera atrapan el calor muy cerca de la superficie de la tierra, y de esta manera incrementa la temperatura de los oceanos liberando mas vapor de agua y asi incrementando la temperatura de la superficie de la tierra</a:t>
            </a:r>
            <a:endParaRPr b="0" lang="en-US" sz="16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6128-033C-4010-A108-04FF90D9B0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Causas del Problema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5810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13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c5d"/>
                </a:solidFill>
                <a:latin typeface="Arial"/>
                <a:ea typeface="SimSun"/>
              </a:rPr>
              <a:t>Los principales Gases de Efecto Invernadero que conllevan al problema de la capa de ozono son:</a:t>
            </a: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lvl="1" marL="720720" indent="-386280">
              <a:lnSpc>
                <a:spcPct val="80000"/>
              </a:lnSpc>
              <a:spcBef>
                <a:spcPts val="850"/>
              </a:spcBef>
              <a:buClr>
                <a:srgbClr val="002c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2c5d"/>
                </a:solidFill>
                <a:latin typeface="Arial"/>
              </a:rPr>
              <a:t>CO</a:t>
            </a:r>
            <a:r>
              <a:rPr b="1" lang="es-CL" sz="1700" spc="-1" strike="noStrike" baseline="-25000">
                <a:solidFill>
                  <a:srgbClr val="002c5d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lvl="1" marL="720720" indent="-386280">
              <a:lnSpc>
                <a:spcPct val="80000"/>
              </a:lnSpc>
              <a:spcBef>
                <a:spcPts val="850"/>
              </a:spcBef>
              <a:buClr>
                <a:srgbClr val="002c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2c5d"/>
                </a:solidFill>
                <a:latin typeface="Arial"/>
              </a:rPr>
              <a:t>CH</a:t>
            </a:r>
            <a:r>
              <a:rPr b="1" lang="es-CL" sz="1700" spc="-1" strike="noStrike" baseline="-25000">
                <a:solidFill>
                  <a:srgbClr val="002c5d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lvl="1" marL="720720" indent="-386280">
              <a:lnSpc>
                <a:spcPct val="80000"/>
              </a:lnSpc>
              <a:spcBef>
                <a:spcPts val="850"/>
              </a:spcBef>
              <a:buClr>
                <a:srgbClr val="002c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2c5d"/>
                </a:solidFill>
                <a:latin typeface="Arial"/>
              </a:rPr>
              <a:t>N</a:t>
            </a:r>
            <a:r>
              <a:rPr b="1" lang="es-CL" sz="1700" spc="-1" strike="noStrike" baseline="-25000">
                <a:solidFill>
                  <a:srgbClr val="002c5d"/>
                </a:solidFill>
                <a:latin typeface="Arial"/>
              </a:rPr>
              <a:t>2</a:t>
            </a:r>
            <a:r>
              <a:rPr b="1" lang="es-CL" sz="1700" spc="-1" strike="noStrike">
                <a:solidFill>
                  <a:srgbClr val="002c5d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lvl="1" marL="720720" indent="-386280">
              <a:lnSpc>
                <a:spcPct val="80000"/>
              </a:lnSpc>
              <a:spcBef>
                <a:spcPts val="850"/>
              </a:spcBef>
              <a:buClr>
                <a:srgbClr val="002c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2c5d"/>
                </a:solidFill>
                <a:latin typeface="Arial"/>
              </a:rPr>
              <a:t>HFCs</a:t>
            </a: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lvl="1" marL="720720" indent="-386280">
              <a:lnSpc>
                <a:spcPct val="80000"/>
              </a:lnSpc>
              <a:spcBef>
                <a:spcPts val="850"/>
              </a:spcBef>
              <a:buClr>
                <a:srgbClr val="002c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2c5d"/>
                </a:solidFill>
                <a:latin typeface="Arial"/>
              </a:rPr>
              <a:t>PFCs</a:t>
            </a: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lvl="1" marL="720720" indent="-386280">
              <a:lnSpc>
                <a:spcPct val="80000"/>
              </a:lnSpc>
              <a:spcBef>
                <a:spcPts val="850"/>
              </a:spcBef>
              <a:buClr>
                <a:srgbClr val="002c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2c5d"/>
                </a:solidFill>
                <a:latin typeface="Arial"/>
              </a:rPr>
              <a:t>SF</a:t>
            </a:r>
            <a:r>
              <a:rPr b="1" lang="es-CL" sz="1700" spc="-1" strike="noStrike" baseline="-25000">
                <a:solidFill>
                  <a:srgbClr val="002c5d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13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c5d"/>
                </a:solidFill>
                <a:latin typeface="Arial"/>
                <a:ea typeface="SimSun"/>
              </a:rPr>
              <a:t>El cambio clim</a:t>
            </a:r>
            <a:r>
              <a:rPr b="1" lang="es-ES" sz="1700" spc="-1" strike="noStrike">
                <a:solidFill>
                  <a:srgbClr val="002c5d"/>
                </a:solidFill>
                <a:latin typeface="Arial"/>
              </a:rPr>
              <a:t>á</a:t>
            </a:r>
            <a:r>
              <a:rPr b="1" lang="en-US" sz="1700" spc="-1" strike="noStrike">
                <a:solidFill>
                  <a:srgbClr val="002c5d"/>
                </a:solidFill>
                <a:latin typeface="Arial"/>
                <a:ea typeface="SimSun"/>
              </a:rPr>
              <a:t>tico debido a actividades humanas es un hecho; estas </a:t>
            </a:r>
            <a:r>
              <a:rPr b="1" lang="es-CL" sz="1700" spc="-1" strike="noStrike">
                <a:solidFill>
                  <a:srgbClr val="002c5d"/>
                </a:solidFill>
                <a:latin typeface="Arial"/>
              </a:rPr>
              <a:t>principalmente producen Metano y Dióxido de Carbono.</a:t>
            </a: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13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2c5d"/>
                </a:solidFill>
                <a:latin typeface="Arial"/>
              </a:rPr>
              <a:t>Actividades humanas: Uso de combustible fosil en industria, actividades de deforestacion, etc.</a:t>
            </a: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c5d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83240" y="1981080"/>
            <a:ext cx="226692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8D1F-0116-44FF-8BD0-15EE84FCBA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95200" y="475920"/>
            <a:ext cx="679428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5d"/>
                </a:solidFill>
                <a:latin typeface="Arial"/>
              </a:rPr>
              <a:t>Consecuencias del Problema</a:t>
            </a: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1055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c5d"/>
                </a:solidFill>
                <a:latin typeface="Arial"/>
              </a:rPr>
              <a:t>Aumento de temperatura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c5d"/>
                </a:solidFill>
                <a:latin typeface="Arial"/>
              </a:rPr>
              <a:t>Aumento del nivel del mar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c5d"/>
                </a:solidFill>
                <a:latin typeface="Arial"/>
              </a:rPr>
              <a:t>Sequías y erosiones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c5d"/>
                </a:solidFill>
                <a:latin typeface="Arial"/>
              </a:rPr>
              <a:t>Glaciares destruidos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c5d"/>
                </a:solidFill>
                <a:latin typeface="Arial"/>
              </a:rPr>
              <a:t>Enfermedades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c5d"/>
                </a:solidFill>
                <a:latin typeface="Arial"/>
              </a:rPr>
              <a:t>Destrucción de biodiversidad y recursos naturales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c5d"/>
                </a:solidFill>
                <a:latin typeface="Arial"/>
              </a:rPr>
              <a:t>Destitución de actividades económicas</a:t>
            </a:r>
            <a:endParaRPr b="0" lang="en-US" sz="1800" spc="-1" strike="noStrike">
              <a:solidFill>
                <a:srgbClr val="002c5d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4120" y="1549440"/>
            <a:ext cx="3504960" cy="235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170172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8880" y="4038480"/>
            <a:ext cx="160020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43000" y="4648320"/>
            <a:ext cx="3124080" cy="206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2CD3-A378-4691-A1A9-B4DFC25493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320" y="425160"/>
            <a:ext cx="632484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c5d"/>
                </a:solidFill>
                <a:latin typeface="Arial"/>
              </a:rPr>
              <a:t>Produccion de CO2 e Incrementos en la Temperatura</a:t>
            </a:r>
            <a:br>
              <a:rPr sz="2800"/>
            </a:br>
            <a:endParaRPr b="1" lang="en-US" sz="28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371600"/>
            <a:ext cx="811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19720" y="3784680"/>
            <a:ext cx="472428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EE56-890F-48F9-B23A-AA6096DFA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400" y="1402920"/>
            <a:ext cx="80787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La problemática de cambio climatico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c5d"/>
                </a:solidFill>
                <a:latin typeface="Arial"/>
              </a:rPr>
              <a:t>El Protocolo de Kioto y sus Mecanismos de Flexibilida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Mercados de Carbono 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c5d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c5d"/>
                </a:solidFill>
                <a:latin typeface="Arial"/>
              </a:rPr>
              <a:t>Oportunidades para REDD</a:t>
            </a: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D4C3-089F-4158-A98B-C80CD366D8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380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0000" y="3348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2c5d"/>
                </a:solidFill>
                <a:latin typeface="Arial"/>
              </a:rPr>
              <a:t>Respuesta Internacional: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2c5d"/>
                </a:solidFill>
                <a:latin typeface="Arial"/>
              </a:rPr>
              <a:t>El Régimen Climático Internacional </a:t>
            </a:r>
            <a:endParaRPr b="0" lang="en-US" sz="24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2336760"/>
            <a:ext cx="8686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 </a:t>
            </a: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1992 Conferencia UNCED en Rio de Janeiro 1992 =&gt;</a:t>
            </a:r>
            <a:br>
              <a:rPr sz="2000"/>
            </a:b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  </a:t>
            </a:r>
            <a:r>
              <a:rPr b="0" lang="es-BO" sz="1800" spc="-1" strike="noStrike">
                <a:solidFill>
                  <a:srgbClr val="002c5d"/>
                </a:solidFill>
                <a:latin typeface="Arial"/>
                <a:ea typeface="Times New Roman"/>
              </a:rPr>
              <a:t>Convención Marco de las Naciones Unidas sobre el Cambio Climático (CMNUCC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3022560"/>
            <a:ext cx="8458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buClr>
                <a:srgbClr val="2cb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1997 3ra. Conferencia de Partes (COP 3) </a:t>
            </a: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=&gt; Protocolo de Kioto:</a:t>
            </a:r>
            <a:br>
              <a:rPr sz="2000"/>
            </a:br>
            <a:r>
              <a:rPr b="0" lang="es-BO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  </a:t>
            </a:r>
            <a:r>
              <a:rPr b="0" lang="es-BO" sz="1800" spc="-1" strike="noStrike">
                <a:solidFill>
                  <a:srgbClr val="002c5d"/>
                </a:solidFill>
                <a:latin typeface="Arial"/>
                <a:ea typeface="Times New Roman"/>
              </a:rPr>
              <a:t>Mecanismos de flexibilidad: MDL, IC, Comercio de de emisiones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574640"/>
            <a:ext cx="9525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buClr>
                <a:srgbClr val="00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 </a:t>
            </a: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1988 Asamblea General de la UN (UNGA): </a:t>
            </a:r>
            <a:br>
              <a:rPr sz="2000"/>
            </a:b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  </a:t>
            </a:r>
            <a:r>
              <a:rPr b="0" lang="es-BO" sz="1800" spc="-1" strike="noStrike">
                <a:solidFill>
                  <a:srgbClr val="002c5d"/>
                </a:solidFill>
                <a:latin typeface="Arial"/>
                <a:ea typeface="Times New Roman"/>
              </a:rPr>
              <a:t>Establecimiento Panel Intergubernamental sobre el Cambio Climático (IPCC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3720960"/>
            <a:ext cx="7543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buClr>
                <a:srgbClr val="2cb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2001 COP 7 </a:t>
            </a: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=&gt; Los Acuerdos de Marrakesh</a:t>
            </a:r>
            <a:br>
              <a:rPr sz="2000"/>
            </a:br>
            <a:r>
              <a:rPr b="0" lang="es-BO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 </a:t>
            </a:r>
            <a:r>
              <a:rPr b="0" lang="es-BO" sz="1800" spc="-1" strike="noStrike">
                <a:solidFill>
                  <a:srgbClr val="002c5d"/>
                </a:solidFill>
                <a:latin typeface="Arial"/>
                <a:ea typeface="Times New Roman"/>
              </a:rPr>
              <a:t>Inclusión de actividades forestales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4470480"/>
            <a:ext cx="7543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buClr>
                <a:srgbClr val="2cb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2003 COP 9 </a:t>
            </a: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Milán</a:t>
            </a:r>
            <a:br>
              <a:rPr sz="2000"/>
            </a:br>
            <a:r>
              <a:rPr b="0" lang="es-BO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 </a:t>
            </a:r>
            <a:r>
              <a:rPr b="0" lang="es-BO" sz="1800" spc="-1" strike="noStrike">
                <a:solidFill>
                  <a:srgbClr val="002c5d"/>
                </a:solidFill>
                <a:latin typeface="Arial"/>
                <a:ea typeface="Times New Roman"/>
              </a:rPr>
              <a:t>Reglas para el comercio de créditos de proyectos forestales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5232240"/>
            <a:ext cx="7543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buClr>
                <a:srgbClr val="2cb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2004 COP 10 </a:t>
            </a: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Buenos Aires</a:t>
            </a:r>
            <a:br>
              <a:rPr sz="2000"/>
            </a:br>
            <a:r>
              <a:rPr b="0" lang="es-BO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 </a:t>
            </a:r>
            <a:r>
              <a:rPr b="0" lang="es-BO" sz="1800" spc="-1" strike="noStrike">
                <a:solidFill>
                  <a:srgbClr val="002c5d"/>
                </a:solidFill>
                <a:latin typeface="Arial"/>
                <a:ea typeface="Times New Roman"/>
              </a:rPr>
              <a:t>IPCC-Guidelines LULUCF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5918040"/>
            <a:ext cx="7543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buClr>
                <a:srgbClr val="2cb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2005 COP/MOP1 COP11 </a:t>
            </a:r>
            <a:r>
              <a:rPr b="0" lang="es-BO" sz="2000" spc="-1" strike="noStrike">
                <a:solidFill>
                  <a:srgbClr val="007a40"/>
                </a:solidFill>
                <a:latin typeface="Arial"/>
                <a:ea typeface="Times New Roman"/>
              </a:rPr>
              <a:t>Montreal</a:t>
            </a:r>
            <a:br>
              <a:rPr sz="2000"/>
            </a:br>
            <a:r>
              <a:rPr b="0" lang="es-BO" sz="2000" spc="-1" strike="noStrike">
                <a:solidFill>
                  <a:srgbClr val="2cb02c"/>
                </a:solidFill>
                <a:latin typeface="Arial"/>
                <a:ea typeface="Times New Roman"/>
              </a:rPr>
              <a:t>  </a:t>
            </a:r>
            <a:r>
              <a:rPr b="0" lang="es-BO" sz="1800" spc="-1" strike="noStrike">
                <a:solidFill>
                  <a:srgbClr val="002c5d"/>
                </a:solidFill>
                <a:latin typeface="Arial"/>
                <a:ea typeface="Times New Roman"/>
              </a:rPr>
              <a:t>Discusión inclusión reducción de emisiones por deforestación (REDD)</a:t>
            </a:r>
            <a:endParaRPr b="0" lang="en-US" sz="1800" spc="-1" strike="noStrike">
              <a:solidFill>
                <a:srgbClr val="002c5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0C1F-4799-48DC-9B16-4A5458452A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5:50:32Z</dcterms:created>
  <dc:creator/>
  <dc:description>Templates by Operandi Limited</dc:description>
  <dc:language>en-US</dc:language>
  <cp:lastModifiedBy>Lauren Delaloye</cp:lastModifiedBy>
  <dcterms:modified xsi:type="dcterms:W3CDTF">2007-10-24T21:02:47Z</dcterms:modified>
  <cp:revision>284</cp:revision>
  <dc:subject/>
  <dc:title>EcoSecurities Group plc</dc:title>
</cp:coreProperties>
</file>