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E81-A27F-4458-A8A2-FCD68CF3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499-42B0-49B7-87D9-DC9C2D32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6FB-AD87-471A-A9BE-57652F4C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12E-230E-4781-A3EA-83318146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06B-A243-4321-B464-DEB7684C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D53-6EB3-4283-BDB4-B5A20EB3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A8D-8B77-4121-8719-9720EFDF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56D-E9D0-45A5-A6EB-19FFE898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B3F-697B-49CC-9036-B8789A62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B32-EFE7-425B-9505-3FCED301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067-DA08-4F77-AAF8-6CA7F44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A4E-0941-4A5A-A589-4BE6050C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E8C8-83E1-4FA4-9619-CC57D4B43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1640" y="151920"/>
            <a:ext cx="42670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ciones sob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toomba Un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ncis E. “Jack Putz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F, UU y IIAP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@botany.ufl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g4" descr=""/>
          <p:cNvPicPr/>
          <p:nvPr/>
        </p:nvPicPr>
        <p:blipFill>
          <a:blip r:embed="rId1"/>
          <a:stretch/>
        </p:blipFill>
        <p:spPr>
          <a:xfrm>
            <a:off x="-144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niones de Katoom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079640" y="1874880"/>
            <a:ext cx="6986520" cy="3108240"/>
            <a:chOff x="1079640" y="1874880"/>
            <a:chExt cx="6986520" cy="3108240"/>
          </a:xfrm>
        </p:grpSpPr>
        <p:sp>
          <p:nvSpPr>
            <p:cNvPr id="46" name=""/>
            <p:cNvSpPr/>
            <p:nvPr/>
          </p:nvSpPr>
          <p:spPr>
            <a:xfrm>
              <a:off x="1079640" y="1874880"/>
              <a:ext cx="6986520" cy="310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1079640" y="1874880"/>
              <a:ext cx="6986520" cy="3108240"/>
              <a:chOff x="1079640" y="1874880"/>
              <a:chExt cx="6986520" cy="3108240"/>
            </a:xfrm>
          </p:grpSpPr>
          <p:sp>
            <p:nvSpPr>
              <p:cNvPr id="48" name=""/>
              <p:cNvSpPr/>
              <p:nvPr/>
            </p:nvSpPr>
            <p:spPr>
              <a:xfrm>
                <a:off x="1079640" y="1874880"/>
                <a:ext cx="6986520" cy="302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79640" y="1874880"/>
                <a:ext cx="5413320" cy="310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7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darkmap_names" descr=""/>
          <p:cNvPicPr/>
          <p:nvPr/>
        </p:nvPicPr>
        <p:blipFill>
          <a:blip r:embed="rId2"/>
          <a:stretch/>
        </p:blipFill>
        <p:spPr>
          <a:xfrm>
            <a:off x="876240" y="2057400"/>
            <a:ext cx="739152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917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81200" y="1257480"/>
            <a:ext cx="7581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2:46:46Z</dcterms:created>
  <dc:creator>Botany</dc:creator>
  <dc:description/>
  <dc:language>en-US</dc:language>
  <cp:lastModifiedBy>Botany</cp:lastModifiedBy>
  <dcterms:modified xsi:type="dcterms:W3CDTF">2007-10-01T19:27:16Z</dcterms:modified>
  <cp:revision>4</cp:revision>
  <dc:subject/>
  <dc:title>PowerPoint Presentation</dc:title>
</cp:coreProperties>
</file>